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B577-F9FF-4B87-A697-48E1F9FE3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was mentioned in the story directly, and how much lead was actually in the air is unclear. However, vapors from melting the lead to make slugs could be inhaled by workers working with or standing near the f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43000" y="685800"/>
            <a:ext cx="4572000" cy="3429000"/>
          </a:xfrm>
          <a:prstGeom prst="rect">
            <a:avLst/>
          </a:prstGeom>
          <a:ln w="0">
            <a:noFill/>
          </a:ln>
        </p:spPr>
      </p:sp>
      <p:sp>
        <p:nvSpPr>
          <p:cNvPr id="1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ikely. Lead is a soft metal. Some of it could stick to the skin. When the hot forge is used to melt the lead slugs, the liquid lead could easily be absorbed by the skin. So although the story does not say, the answer is yes. Also, if hands are not washed well, then eating with the fingers could introduce lead into the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not, nothing was directly suggested in the story. But, see the notes section of the slide on skin absorption. Type slugs had to be set by hand and lead could have gotten on the hands, which in turn could introduce lead into any food (like bread) eaten with the fi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was mentioned in the story about anyone suffering an injury that could lead to injection of the metal into the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43000" y="685800"/>
            <a:ext cx="4572000" cy="3429000"/>
          </a:xfrm>
          <a:prstGeom prst="rect">
            <a:avLst/>
          </a:prstGeom>
          <a:ln w="0">
            <a:noFill/>
          </a:ln>
        </p:spPr>
      </p:sp>
      <p:sp>
        <p:nvSpPr>
          <p:cNvPr id="1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lead is the hazard, students might predict that changing the way the workers handle lead would make the signs of sickness go away. But that would take a long time. Lead is not excreted easily from the body and many of the signs of damage are permanent. A more relevant prediction would be that new workers would not get sick if the print shop changed its operating procedures so that lead was not used or that it was used in a saf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uld have been done to prevent health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things students could suggest would b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drink out of pewter mug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r gloves that the metal cannot penetr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se mechanical ways to insert the metal slugs so that it does not have to be done with the han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ar some kind of mask that will reduce the amount of metal breath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eat with your fingers and wash hands well before ea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bath at the end of every day and change into freshly washed cloth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 a better way to set type (which was done many decades la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opportunity for students to learn about OSHA (Occupational Safety and Health Administration, a division of the U.S. Department of Labor. See http://www.osha.gov/. Information specific to lead can be found at http://www.osha.gov/SLTC/le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Organize, analyze, make inferences, and predict trends from evid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was directly suggested in the story. However, anything that the workers handled, such as the teapot, newspapers, and type slugs could potentially be ingested in the workers ate with their hands soon afterwards. For example, type slugs had to be set by hand and lead could have gotten on the hands, which in turn could introduce metal into any food (like bread) eaten with the fing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to explain a phenomen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43000" y="685800"/>
            <a:ext cx="4572000" cy="3429000"/>
          </a:xfrm>
          <a:prstGeom prst="rect">
            <a:avLst/>
          </a:prstGeom>
          <a:ln w="0">
            <a:noFill/>
          </a:ln>
        </p:spPr>
      </p:sp>
      <p:sp>
        <p:nvSpPr>
          <p:cNvPr id="1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hing was directly suggested in the story. However, anything that the workers handled, such as the teapot, newspapers, and type slugs could potentially be ingested in the workers ate with their hands soon afterwards. For example, type slugs had to be set by hand and lead could have gotten on the hands, which in turn could introduce metal into any food (like bread) eaten with the fing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to explain a phenomen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hing was directly suggested in the story. However, anything that the workers handled, such as the teapot, newspapers, and type slugs could potentially be ingested in the workers ate with their hands soon afterwards. For example, type slugs had to be set by hand and lead could have gotten on the hands, which in turn could introduce metal into any food (like bread) eaten with the fing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to explain a phenomen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hing was directly suggested in the story. However, anything that the workers handled, such as the teapot, newspapers, and type slugs could potentially be ingested in the workers ate with their hands soon afterwards. For example, type slugs had to be set by hand and lead could have gotten on the hands, which in turn could introduce metal into any food (like bread) eaten with the fing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to explain a phenomen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1143000" y="685800"/>
            <a:ext cx="4572000" cy="3429000"/>
          </a:xfrm>
          <a:prstGeom prst="rect">
            <a:avLst/>
          </a:prstGeom>
          <a:ln w="0">
            <a:noFill/>
          </a:ln>
        </p:spPr>
      </p:sp>
      <p:sp>
        <p:nvSpPr>
          <p:cNvPr id="1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hing was directly suggested in the story. However, anything that the workers handled, such as the teapot, newspapers, and type slugs could potentially be ingested in the workers ate with their hands soon afterwards. For example, type slugs had to be set by hand and lead could have gotten on the hands, which in turn could introduce metal into any food (like bread) eaten with the fing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Grade 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to explain a phenomen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identify which of the routes they think is likely to have led to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8DE94-89F0-4A66-B23A-5217FB9D5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E9F51-1488-4D2D-A325-84F34363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F151D-9971-458A-82C0-9B17098A4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A3F13-83B2-4AA3-8036-AC3A0AFBF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07FB6-7A91-46B9-AABB-BAACE558C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7F7AA-268D-48EF-AB50-E66518C2F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DA817-C8A5-482D-BC3B-10E9228AD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DE76E-18F6-49CF-AB33-88F1D65AA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1FE41-3A03-4E83-901A-62E0C946E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5A62-8830-4FC4-890A-40F44DBB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4654F-004D-434D-913D-35AEBF709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F25E-7AEB-4446-AE47-0DFCA51C2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B7FF-ED55-435B-BCC9-5321371FE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ough Inhalation?</a:t>
            </a:r>
            <a:endParaRPr b="0" lang="en-US" sz="4400" spc="-1" strike="noStrike">
              <a:solidFill>
                <a:srgbClr val="000000"/>
              </a:solidFill>
              <a:latin typeface="Times New Roman"/>
            </a:endParaRPr>
          </a:p>
        </p:txBody>
      </p:sp>
      <p:sp>
        <p:nvSpPr>
          <p:cNvPr id="1579" name="PlaceHolder 2"/>
          <p:cNvSpPr>
            <a:spLocks noGrp="1"/>
          </p:cNvSpPr>
          <p:nvPr>
            <p:ph/>
          </p:nvPr>
        </p:nvSpPr>
        <p:spPr>
          <a:xfrm>
            <a:off x="457200" y="1600200"/>
            <a:ext cx="8229600" cy="1319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 metal have gotten in the air and made the workers sick?</a:t>
            </a:r>
            <a:endParaRPr b="0" lang="en-US" sz="2800" spc="-1" strike="noStrike">
              <a:solidFill>
                <a:srgbClr val="000000"/>
              </a:solidFill>
              <a:latin typeface="Times New Roman"/>
            </a:endParaRPr>
          </a:p>
        </p:txBody>
      </p:sp>
      <p:pic>
        <p:nvPicPr>
          <p:cNvPr id="1580" name="" descr=""/>
          <p:cNvPicPr/>
          <p:nvPr/>
        </p:nvPicPr>
        <p:blipFill>
          <a:blip r:embed="rId2"/>
          <a:stretch/>
        </p:blipFill>
        <p:spPr>
          <a:xfrm>
            <a:off x="2259000" y="2914560"/>
            <a:ext cx="4975200" cy="3210120"/>
          </a:xfrm>
          <a:prstGeom prst="rect">
            <a:avLst/>
          </a:prstGeom>
          <a:ln w="0">
            <a:noFill/>
          </a:ln>
        </p:spPr>
      </p:pic>
      <p:sp>
        <p:nvSpPr>
          <p:cNvPr id="15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8.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ough Absorption?</a:t>
            </a:r>
            <a:endParaRPr b="0" lang="en-US" sz="4400" spc="-1" strike="noStrike">
              <a:solidFill>
                <a:srgbClr val="000000"/>
              </a:solidFill>
              <a:latin typeface="Times New Roman"/>
            </a:endParaRPr>
          </a:p>
        </p:txBody>
      </p:sp>
      <p:sp>
        <p:nvSpPr>
          <p:cNvPr id="1583" name="PlaceHolder 2"/>
          <p:cNvSpPr>
            <a:spLocks noGrp="1"/>
          </p:cNvSpPr>
          <p:nvPr>
            <p:ph/>
          </p:nvPr>
        </p:nvSpPr>
        <p:spPr>
          <a:xfrm>
            <a:off x="457200" y="4912920"/>
            <a:ext cx="8229600" cy="12128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 metal be absorbed into the skin somehow?</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84" name="" descr=""/>
          <p:cNvPicPr/>
          <p:nvPr/>
        </p:nvPicPr>
        <p:blipFill>
          <a:blip r:embed="rId2"/>
          <a:stretch/>
        </p:blipFill>
        <p:spPr>
          <a:xfrm>
            <a:off x="2336760" y="1704960"/>
            <a:ext cx="4484880" cy="2987640"/>
          </a:xfrm>
          <a:prstGeom prst="rect">
            <a:avLst/>
          </a:prstGeom>
          <a:ln w="0">
            <a:noFill/>
          </a:ln>
        </p:spPr>
      </p:pic>
      <p:sp>
        <p:nvSpPr>
          <p:cNvPr id="1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8.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ough Ingestion?</a:t>
            </a:r>
            <a:endParaRPr b="0" lang="en-US" sz="4400" spc="-1" strike="noStrike">
              <a:solidFill>
                <a:srgbClr val="000000"/>
              </a:solidFill>
              <a:latin typeface="Times New Roman"/>
            </a:endParaRPr>
          </a:p>
        </p:txBody>
      </p:sp>
      <p:sp>
        <p:nvSpPr>
          <p:cNvPr id="1587" name="PlaceHolder 2"/>
          <p:cNvSpPr>
            <a:spLocks noGrp="1"/>
          </p:cNvSpPr>
          <p:nvPr>
            <p:ph/>
          </p:nvPr>
        </p:nvSpPr>
        <p:spPr>
          <a:xfrm>
            <a:off x="457200" y="1599840"/>
            <a:ext cx="8229600" cy="11984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 workers get sick from eating or drinking the metal somehow?</a:t>
            </a:r>
            <a:endParaRPr b="0" lang="en-US" sz="2800" spc="-1" strike="noStrike">
              <a:solidFill>
                <a:srgbClr val="000000"/>
              </a:solidFill>
              <a:latin typeface="Times New Roman"/>
            </a:endParaRPr>
          </a:p>
        </p:txBody>
      </p:sp>
      <p:grpSp>
        <p:nvGrpSpPr>
          <p:cNvPr id="1588" name=""/>
          <p:cNvGrpSpPr/>
          <p:nvPr/>
        </p:nvGrpSpPr>
        <p:grpSpPr>
          <a:xfrm>
            <a:off x="2972160" y="2433600"/>
            <a:ext cx="4759200" cy="3906720"/>
            <a:chOff x="2972160" y="2433600"/>
            <a:chExt cx="4759200" cy="3906720"/>
          </a:xfrm>
        </p:grpSpPr>
        <p:sp>
          <p:nvSpPr>
            <p:cNvPr id="1589" name=""/>
            <p:cNvSpPr/>
            <p:nvPr/>
          </p:nvSpPr>
          <p:spPr>
            <a:xfrm>
              <a:off x="2972160" y="2984400"/>
              <a:ext cx="4759200" cy="2840040"/>
            </a:xfrm>
            <a:custGeom>
              <a:avLst/>
              <a:gdLst/>
              <a:ahLst/>
              <a:rect l="l" t="t" r="r" b="b"/>
              <a:pathLst>
                <a:path w="2998" h="1789">
                  <a:moveTo>
                    <a:pt x="1947" y="251"/>
                  </a:moveTo>
                  <a:lnTo>
                    <a:pt x="2500" y="410"/>
                  </a:lnTo>
                  <a:lnTo>
                    <a:pt x="2500" y="410"/>
                  </a:lnTo>
                  <a:lnTo>
                    <a:pt x="2505" y="410"/>
                  </a:lnTo>
                  <a:lnTo>
                    <a:pt x="2512" y="414"/>
                  </a:lnTo>
                  <a:lnTo>
                    <a:pt x="2520" y="417"/>
                  </a:lnTo>
                  <a:lnTo>
                    <a:pt x="2525" y="419"/>
                  </a:lnTo>
                  <a:lnTo>
                    <a:pt x="2530" y="422"/>
                  </a:lnTo>
                  <a:lnTo>
                    <a:pt x="2537" y="424"/>
                  </a:lnTo>
                  <a:lnTo>
                    <a:pt x="2544" y="429"/>
                  </a:lnTo>
                  <a:lnTo>
                    <a:pt x="2549" y="432"/>
                  </a:lnTo>
                  <a:lnTo>
                    <a:pt x="2559" y="437"/>
                  </a:lnTo>
                  <a:lnTo>
                    <a:pt x="2567" y="439"/>
                  </a:lnTo>
                  <a:lnTo>
                    <a:pt x="2577" y="447"/>
                  </a:lnTo>
                  <a:lnTo>
                    <a:pt x="2584" y="449"/>
                  </a:lnTo>
                  <a:lnTo>
                    <a:pt x="2594" y="457"/>
                  </a:lnTo>
                  <a:lnTo>
                    <a:pt x="2602" y="462"/>
                  </a:lnTo>
                  <a:lnTo>
                    <a:pt x="2611" y="467"/>
                  </a:lnTo>
                  <a:lnTo>
                    <a:pt x="2621" y="472"/>
                  </a:lnTo>
                  <a:lnTo>
                    <a:pt x="2631" y="479"/>
                  </a:lnTo>
                  <a:lnTo>
                    <a:pt x="2644" y="486"/>
                  </a:lnTo>
                  <a:lnTo>
                    <a:pt x="2654" y="491"/>
                  </a:lnTo>
                  <a:lnTo>
                    <a:pt x="2664" y="499"/>
                  </a:lnTo>
                  <a:lnTo>
                    <a:pt x="2676" y="506"/>
                  </a:lnTo>
                  <a:lnTo>
                    <a:pt x="2686" y="514"/>
                  </a:lnTo>
                  <a:lnTo>
                    <a:pt x="2698" y="524"/>
                  </a:lnTo>
                  <a:lnTo>
                    <a:pt x="2708" y="534"/>
                  </a:lnTo>
                  <a:lnTo>
                    <a:pt x="2721" y="541"/>
                  </a:lnTo>
                  <a:lnTo>
                    <a:pt x="2733" y="551"/>
                  </a:lnTo>
                  <a:lnTo>
                    <a:pt x="2745" y="561"/>
                  </a:lnTo>
                  <a:lnTo>
                    <a:pt x="2755" y="571"/>
                  </a:lnTo>
                  <a:lnTo>
                    <a:pt x="2768" y="581"/>
                  </a:lnTo>
                  <a:lnTo>
                    <a:pt x="2778" y="591"/>
                  </a:lnTo>
                  <a:lnTo>
                    <a:pt x="2790" y="603"/>
                  </a:lnTo>
                  <a:lnTo>
                    <a:pt x="2800" y="613"/>
                  </a:lnTo>
                  <a:lnTo>
                    <a:pt x="2812" y="625"/>
                  </a:lnTo>
                  <a:lnTo>
                    <a:pt x="2822" y="638"/>
                  </a:lnTo>
                  <a:lnTo>
                    <a:pt x="2835" y="650"/>
                  </a:lnTo>
                  <a:lnTo>
                    <a:pt x="2845" y="663"/>
                  </a:lnTo>
                  <a:lnTo>
                    <a:pt x="2855" y="675"/>
                  </a:lnTo>
                  <a:lnTo>
                    <a:pt x="2864" y="687"/>
                  </a:lnTo>
                  <a:lnTo>
                    <a:pt x="2877" y="702"/>
                  </a:lnTo>
                  <a:lnTo>
                    <a:pt x="2884" y="715"/>
                  </a:lnTo>
                  <a:lnTo>
                    <a:pt x="2894" y="730"/>
                  </a:lnTo>
                  <a:lnTo>
                    <a:pt x="2904" y="745"/>
                  </a:lnTo>
                  <a:lnTo>
                    <a:pt x="2914" y="759"/>
                  </a:lnTo>
                  <a:lnTo>
                    <a:pt x="2924" y="774"/>
                  </a:lnTo>
                  <a:lnTo>
                    <a:pt x="2931" y="789"/>
                  </a:lnTo>
                  <a:lnTo>
                    <a:pt x="2939" y="807"/>
                  </a:lnTo>
                  <a:lnTo>
                    <a:pt x="2946" y="821"/>
                  </a:lnTo>
                  <a:lnTo>
                    <a:pt x="2954" y="839"/>
                  </a:lnTo>
                  <a:lnTo>
                    <a:pt x="2959" y="856"/>
                  </a:lnTo>
                  <a:lnTo>
                    <a:pt x="2966" y="874"/>
                  </a:lnTo>
                  <a:lnTo>
                    <a:pt x="2971" y="893"/>
                  </a:lnTo>
                  <a:lnTo>
                    <a:pt x="2976" y="911"/>
                  </a:lnTo>
                  <a:lnTo>
                    <a:pt x="2981" y="928"/>
                  </a:lnTo>
                  <a:lnTo>
                    <a:pt x="2986" y="948"/>
                  </a:lnTo>
                  <a:lnTo>
                    <a:pt x="2988" y="965"/>
                  </a:lnTo>
                  <a:lnTo>
                    <a:pt x="2993" y="985"/>
                  </a:lnTo>
                  <a:lnTo>
                    <a:pt x="2996" y="1005"/>
                  </a:lnTo>
                  <a:lnTo>
                    <a:pt x="2996" y="1027"/>
                  </a:lnTo>
                  <a:lnTo>
                    <a:pt x="2998" y="1047"/>
                  </a:lnTo>
                  <a:lnTo>
                    <a:pt x="2998" y="1067"/>
                  </a:lnTo>
                  <a:lnTo>
                    <a:pt x="2996" y="1087"/>
                  </a:lnTo>
                  <a:lnTo>
                    <a:pt x="2996" y="1107"/>
                  </a:lnTo>
                  <a:lnTo>
                    <a:pt x="2993" y="1129"/>
                  </a:lnTo>
                  <a:lnTo>
                    <a:pt x="2988" y="1147"/>
                  </a:lnTo>
                  <a:lnTo>
                    <a:pt x="2986" y="1166"/>
                  </a:lnTo>
                  <a:lnTo>
                    <a:pt x="2981" y="1186"/>
                  </a:lnTo>
                  <a:lnTo>
                    <a:pt x="2976" y="1206"/>
                  </a:lnTo>
                  <a:lnTo>
                    <a:pt x="2969" y="1223"/>
                  </a:lnTo>
                  <a:lnTo>
                    <a:pt x="2961" y="1241"/>
                  </a:lnTo>
                  <a:lnTo>
                    <a:pt x="2954" y="1258"/>
                  </a:lnTo>
                  <a:lnTo>
                    <a:pt x="2944" y="1278"/>
                  </a:lnTo>
                  <a:lnTo>
                    <a:pt x="2934" y="1293"/>
                  </a:lnTo>
                  <a:lnTo>
                    <a:pt x="2924" y="1310"/>
                  </a:lnTo>
                  <a:lnTo>
                    <a:pt x="2912" y="1328"/>
                  </a:lnTo>
                  <a:lnTo>
                    <a:pt x="2902" y="1345"/>
                  </a:lnTo>
                  <a:lnTo>
                    <a:pt x="2889" y="1362"/>
                  </a:lnTo>
                  <a:lnTo>
                    <a:pt x="2877" y="1377"/>
                  </a:lnTo>
                  <a:lnTo>
                    <a:pt x="2862" y="1392"/>
                  </a:lnTo>
                  <a:lnTo>
                    <a:pt x="2850" y="1410"/>
                  </a:lnTo>
                  <a:lnTo>
                    <a:pt x="2832" y="1422"/>
                  </a:lnTo>
                  <a:lnTo>
                    <a:pt x="2817" y="1439"/>
                  </a:lnTo>
                  <a:lnTo>
                    <a:pt x="2802" y="1454"/>
                  </a:lnTo>
                  <a:lnTo>
                    <a:pt x="2788" y="1467"/>
                  </a:lnTo>
                  <a:lnTo>
                    <a:pt x="2770" y="1482"/>
                  </a:lnTo>
                  <a:lnTo>
                    <a:pt x="2753" y="1494"/>
                  </a:lnTo>
                  <a:lnTo>
                    <a:pt x="2733" y="1509"/>
                  </a:lnTo>
                  <a:lnTo>
                    <a:pt x="2716" y="1521"/>
                  </a:lnTo>
                  <a:lnTo>
                    <a:pt x="2696" y="1534"/>
                  </a:lnTo>
                  <a:lnTo>
                    <a:pt x="2678" y="1546"/>
                  </a:lnTo>
                  <a:lnTo>
                    <a:pt x="2659" y="1558"/>
                  </a:lnTo>
                  <a:lnTo>
                    <a:pt x="2639" y="1571"/>
                  </a:lnTo>
                  <a:lnTo>
                    <a:pt x="2616" y="1581"/>
                  </a:lnTo>
                  <a:lnTo>
                    <a:pt x="2597" y="1593"/>
                  </a:lnTo>
                  <a:lnTo>
                    <a:pt x="2574" y="1603"/>
                  </a:lnTo>
                  <a:lnTo>
                    <a:pt x="2552" y="1616"/>
                  </a:lnTo>
                  <a:lnTo>
                    <a:pt x="2530" y="1623"/>
                  </a:lnTo>
                  <a:lnTo>
                    <a:pt x="2507" y="1633"/>
                  </a:lnTo>
                  <a:lnTo>
                    <a:pt x="2485" y="1643"/>
                  </a:lnTo>
                  <a:lnTo>
                    <a:pt x="2463" y="1653"/>
                  </a:lnTo>
                  <a:lnTo>
                    <a:pt x="2438" y="1663"/>
                  </a:lnTo>
                  <a:lnTo>
                    <a:pt x="2416" y="1670"/>
                  </a:lnTo>
                  <a:lnTo>
                    <a:pt x="2391" y="1680"/>
                  </a:lnTo>
                  <a:lnTo>
                    <a:pt x="2366" y="1688"/>
                  </a:lnTo>
                  <a:lnTo>
                    <a:pt x="2341" y="1695"/>
                  </a:lnTo>
                  <a:lnTo>
                    <a:pt x="2316" y="1702"/>
                  </a:lnTo>
                  <a:lnTo>
                    <a:pt x="2291" y="1710"/>
                  </a:lnTo>
                  <a:lnTo>
                    <a:pt x="2267" y="1717"/>
                  </a:lnTo>
                  <a:lnTo>
                    <a:pt x="2242" y="1722"/>
                  </a:lnTo>
                  <a:lnTo>
                    <a:pt x="2217" y="1730"/>
                  </a:lnTo>
                  <a:lnTo>
                    <a:pt x="2190" y="1737"/>
                  </a:lnTo>
                  <a:lnTo>
                    <a:pt x="2167" y="1742"/>
                  </a:lnTo>
                  <a:lnTo>
                    <a:pt x="2140" y="1747"/>
                  </a:lnTo>
                  <a:lnTo>
                    <a:pt x="2115" y="1752"/>
                  </a:lnTo>
                  <a:lnTo>
                    <a:pt x="2088" y="1755"/>
                  </a:lnTo>
                  <a:lnTo>
                    <a:pt x="2063" y="1760"/>
                  </a:lnTo>
                  <a:lnTo>
                    <a:pt x="2036" y="1764"/>
                  </a:lnTo>
                  <a:lnTo>
                    <a:pt x="2011" y="1767"/>
                  </a:lnTo>
                  <a:lnTo>
                    <a:pt x="1984" y="1772"/>
                  </a:lnTo>
                  <a:lnTo>
                    <a:pt x="1959" y="1774"/>
                  </a:lnTo>
                  <a:lnTo>
                    <a:pt x="1932" y="1777"/>
                  </a:lnTo>
                  <a:lnTo>
                    <a:pt x="1907" y="1779"/>
                  </a:lnTo>
                  <a:lnTo>
                    <a:pt x="1882" y="1782"/>
                  </a:lnTo>
                  <a:lnTo>
                    <a:pt x="1857" y="1784"/>
                  </a:lnTo>
                  <a:lnTo>
                    <a:pt x="1830" y="1784"/>
                  </a:lnTo>
                  <a:lnTo>
                    <a:pt x="1805" y="1784"/>
                  </a:lnTo>
                  <a:lnTo>
                    <a:pt x="1781" y="1784"/>
                  </a:lnTo>
                  <a:lnTo>
                    <a:pt x="1758" y="1787"/>
                  </a:lnTo>
                  <a:lnTo>
                    <a:pt x="1733" y="1787"/>
                  </a:lnTo>
                  <a:lnTo>
                    <a:pt x="1709" y="1787"/>
                  </a:lnTo>
                  <a:lnTo>
                    <a:pt x="1686" y="1787"/>
                  </a:lnTo>
                  <a:lnTo>
                    <a:pt x="1664" y="1789"/>
                  </a:lnTo>
                  <a:lnTo>
                    <a:pt x="1642" y="1787"/>
                  </a:lnTo>
                  <a:lnTo>
                    <a:pt x="1619" y="1787"/>
                  </a:lnTo>
                  <a:lnTo>
                    <a:pt x="1597" y="1787"/>
                  </a:lnTo>
                  <a:lnTo>
                    <a:pt x="1577" y="1787"/>
                  </a:lnTo>
                  <a:lnTo>
                    <a:pt x="1555" y="1787"/>
                  </a:lnTo>
                  <a:lnTo>
                    <a:pt x="1535" y="1787"/>
                  </a:lnTo>
                  <a:lnTo>
                    <a:pt x="1515" y="1787"/>
                  </a:lnTo>
                  <a:lnTo>
                    <a:pt x="1495" y="1787"/>
                  </a:lnTo>
                  <a:lnTo>
                    <a:pt x="1475" y="1784"/>
                  </a:lnTo>
                  <a:lnTo>
                    <a:pt x="1456" y="1784"/>
                  </a:lnTo>
                  <a:lnTo>
                    <a:pt x="1438" y="1782"/>
                  </a:lnTo>
                  <a:lnTo>
                    <a:pt x="1418" y="1782"/>
                  </a:lnTo>
                  <a:lnTo>
                    <a:pt x="1401" y="1779"/>
                  </a:lnTo>
                  <a:lnTo>
                    <a:pt x="1381" y="1779"/>
                  </a:lnTo>
                  <a:lnTo>
                    <a:pt x="1364" y="1777"/>
                  </a:lnTo>
                  <a:lnTo>
                    <a:pt x="1349" y="1777"/>
                  </a:lnTo>
                  <a:lnTo>
                    <a:pt x="1329" y="1774"/>
                  </a:lnTo>
                  <a:lnTo>
                    <a:pt x="1314" y="1774"/>
                  </a:lnTo>
                  <a:lnTo>
                    <a:pt x="1297" y="1772"/>
                  </a:lnTo>
                  <a:lnTo>
                    <a:pt x="1282" y="1772"/>
                  </a:lnTo>
                  <a:lnTo>
                    <a:pt x="1265" y="1769"/>
                  </a:lnTo>
                  <a:lnTo>
                    <a:pt x="1250" y="1767"/>
                  </a:lnTo>
                  <a:lnTo>
                    <a:pt x="1235" y="1764"/>
                  </a:lnTo>
                  <a:lnTo>
                    <a:pt x="1220" y="1764"/>
                  </a:lnTo>
                  <a:lnTo>
                    <a:pt x="1205" y="1762"/>
                  </a:lnTo>
                  <a:lnTo>
                    <a:pt x="1188" y="1760"/>
                  </a:lnTo>
                  <a:lnTo>
                    <a:pt x="1175" y="1757"/>
                  </a:lnTo>
                  <a:lnTo>
                    <a:pt x="1160" y="1755"/>
                  </a:lnTo>
                  <a:lnTo>
                    <a:pt x="1146" y="1752"/>
                  </a:lnTo>
                  <a:lnTo>
                    <a:pt x="1133" y="1750"/>
                  </a:lnTo>
                  <a:lnTo>
                    <a:pt x="1118" y="1747"/>
                  </a:lnTo>
                  <a:lnTo>
                    <a:pt x="1106" y="1747"/>
                  </a:lnTo>
                  <a:lnTo>
                    <a:pt x="1093" y="1742"/>
                  </a:lnTo>
                  <a:lnTo>
                    <a:pt x="1081" y="1742"/>
                  </a:lnTo>
                  <a:lnTo>
                    <a:pt x="1069" y="1737"/>
                  </a:lnTo>
                  <a:lnTo>
                    <a:pt x="1056" y="1737"/>
                  </a:lnTo>
                  <a:lnTo>
                    <a:pt x="1044" y="1732"/>
                  </a:lnTo>
                  <a:lnTo>
                    <a:pt x="1031" y="1730"/>
                  </a:lnTo>
                  <a:lnTo>
                    <a:pt x="1022" y="1730"/>
                  </a:lnTo>
                  <a:lnTo>
                    <a:pt x="1009" y="1727"/>
                  </a:lnTo>
                  <a:lnTo>
                    <a:pt x="997" y="1722"/>
                  </a:lnTo>
                  <a:lnTo>
                    <a:pt x="987" y="1720"/>
                  </a:lnTo>
                  <a:lnTo>
                    <a:pt x="974" y="1717"/>
                  </a:lnTo>
                  <a:lnTo>
                    <a:pt x="964" y="1715"/>
                  </a:lnTo>
                  <a:lnTo>
                    <a:pt x="955" y="1712"/>
                  </a:lnTo>
                  <a:lnTo>
                    <a:pt x="942" y="1710"/>
                  </a:lnTo>
                  <a:lnTo>
                    <a:pt x="932" y="1707"/>
                  </a:lnTo>
                  <a:lnTo>
                    <a:pt x="925" y="1705"/>
                  </a:lnTo>
                  <a:lnTo>
                    <a:pt x="915" y="1702"/>
                  </a:lnTo>
                  <a:lnTo>
                    <a:pt x="902" y="1700"/>
                  </a:lnTo>
                  <a:lnTo>
                    <a:pt x="895" y="1697"/>
                  </a:lnTo>
                  <a:lnTo>
                    <a:pt x="885" y="1695"/>
                  </a:lnTo>
                  <a:lnTo>
                    <a:pt x="875" y="1692"/>
                  </a:lnTo>
                  <a:lnTo>
                    <a:pt x="865" y="1690"/>
                  </a:lnTo>
                  <a:lnTo>
                    <a:pt x="858" y="1688"/>
                  </a:lnTo>
                  <a:lnTo>
                    <a:pt x="848" y="1685"/>
                  </a:lnTo>
                  <a:lnTo>
                    <a:pt x="838" y="1683"/>
                  </a:lnTo>
                  <a:lnTo>
                    <a:pt x="828" y="1678"/>
                  </a:lnTo>
                  <a:lnTo>
                    <a:pt x="818" y="1675"/>
                  </a:lnTo>
                  <a:lnTo>
                    <a:pt x="806" y="1673"/>
                  </a:lnTo>
                  <a:lnTo>
                    <a:pt x="793" y="1668"/>
                  </a:lnTo>
                  <a:lnTo>
                    <a:pt x="783" y="1665"/>
                  </a:lnTo>
                  <a:lnTo>
                    <a:pt x="771" y="1660"/>
                  </a:lnTo>
                  <a:lnTo>
                    <a:pt x="759" y="1658"/>
                  </a:lnTo>
                  <a:lnTo>
                    <a:pt x="746" y="1650"/>
                  </a:lnTo>
                  <a:lnTo>
                    <a:pt x="731" y="1645"/>
                  </a:lnTo>
                  <a:lnTo>
                    <a:pt x="716" y="1640"/>
                  </a:lnTo>
                  <a:lnTo>
                    <a:pt x="704" y="1638"/>
                  </a:lnTo>
                  <a:lnTo>
                    <a:pt x="689" y="1630"/>
                  </a:lnTo>
                  <a:lnTo>
                    <a:pt x="674" y="1625"/>
                  </a:lnTo>
                  <a:lnTo>
                    <a:pt x="659" y="1618"/>
                  </a:lnTo>
                  <a:lnTo>
                    <a:pt x="645" y="1613"/>
                  </a:lnTo>
                  <a:lnTo>
                    <a:pt x="630" y="1606"/>
                  </a:lnTo>
                  <a:lnTo>
                    <a:pt x="615" y="1598"/>
                  </a:lnTo>
                  <a:lnTo>
                    <a:pt x="597" y="1591"/>
                  </a:lnTo>
                  <a:lnTo>
                    <a:pt x="582" y="1586"/>
                  </a:lnTo>
                  <a:lnTo>
                    <a:pt x="565" y="1576"/>
                  </a:lnTo>
                  <a:lnTo>
                    <a:pt x="550" y="1568"/>
                  </a:lnTo>
                  <a:lnTo>
                    <a:pt x="530" y="1561"/>
                  </a:lnTo>
                  <a:lnTo>
                    <a:pt x="516" y="1551"/>
                  </a:lnTo>
                  <a:lnTo>
                    <a:pt x="498" y="1541"/>
                  </a:lnTo>
                  <a:lnTo>
                    <a:pt x="483" y="1531"/>
                  </a:lnTo>
                  <a:lnTo>
                    <a:pt x="466" y="1524"/>
                  </a:lnTo>
                  <a:lnTo>
                    <a:pt x="451" y="1514"/>
                  </a:lnTo>
                  <a:lnTo>
                    <a:pt x="434" y="1501"/>
                  </a:lnTo>
                  <a:lnTo>
                    <a:pt x="416" y="1491"/>
                  </a:lnTo>
                  <a:lnTo>
                    <a:pt x="401" y="1482"/>
                  </a:lnTo>
                  <a:lnTo>
                    <a:pt x="384" y="1472"/>
                  </a:lnTo>
                  <a:lnTo>
                    <a:pt x="367" y="1457"/>
                  </a:lnTo>
                  <a:lnTo>
                    <a:pt x="352" y="1444"/>
                  </a:lnTo>
                  <a:lnTo>
                    <a:pt x="334" y="1432"/>
                  </a:lnTo>
                  <a:lnTo>
                    <a:pt x="320" y="1420"/>
                  </a:lnTo>
                  <a:lnTo>
                    <a:pt x="302" y="1405"/>
                  </a:lnTo>
                  <a:lnTo>
                    <a:pt x="287" y="1392"/>
                  </a:lnTo>
                  <a:lnTo>
                    <a:pt x="272" y="1377"/>
                  </a:lnTo>
                  <a:lnTo>
                    <a:pt x="258" y="1362"/>
                  </a:lnTo>
                  <a:lnTo>
                    <a:pt x="240" y="1348"/>
                  </a:lnTo>
                  <a:lnTo>
                    <a:pt x="225" y="1333"/>
                  </a:lnTo>
                  <a:lnTo>
                    <a:pt x="210" y="1315"/>
                  </a:lnTo>
                  <a:lnTo>
                    <a:pt x="198" y="1300"/>
                  </a:lnTo>
                  <a:lnTo>
                    <a:pt x="183" y="1283"/>
                  </a:lnTo>
                  <a:lnTo>
                    <a:pt x="171" y="1268"/>
                  </a:lnTo>
                  <a:lnTo>
                    <a:pt x="158" y="1248"/>
                  </a:lnTo>
                  <a:lnTo>
                    <a:pt x="146" y="1231"/>
                  </a:lnTo>
                  <a:lnTo>
                    <a:pt x="134" y="1214"/>
                  </a:lnTo>
                  <a:lnTo>
                    <a:pt x="121" y="1194"/>
                  </a:lnTo>
                  <a:lnTo>
                    <a:pt x="109" y="1174"/>
                  </a:lnTo>
                  <a:lnTo>
                    <a:pt x="99" y="1154"/>
                  </a:lnTo>
                  <a:lnTo>
                    <a:pt x="89" y="1134"/>
                  </a:lnTo>
                  <a:lnTo>
                    <a:pt x="79" y="1114"/>
                  </a:lnTo>
                  <a:lnTo>
                    <a:pt x="69" y="1092"/>
                  </a:lnTo>
                  <a:lnTo>
                    <a:pt x="62" y="1072"/>
                  </a:lnTo>
                  <a:lnTo>
                    <a:pt x="52" y="1050"/>
                  </a:lnTo>
                  <a:lnTo>
                    <a:pt x="44" y="1027"/>
                  </a:lnTo>
                  <a:lnTo>
                    <a:pt x="37" y="1003"/>
                  </a:lnTo>
                  <a:lnTo>
                    <a:pt x="32" y="980"/>
                  </a:lnTo>
                  <a:lnTo>
                    <a:pt x="24" y="955"/>
                  </a:lnTo>
                  <a:lnTo>
                    <a:pt x="19" y="931"/>
                  </a:lnTo>
                  <a:lnTo>
                    <a:pt x="14" y="906"/>
                  </a:lnTo>
                  <a:lnTo>
                    <a:pt x="12" y="881"/>
                  </a:lnTo>
                  <a:lnTo>
                    <a:pt x="7" y="854"/>
                  </a:lnTo>
                  <a:lnTo>
                    <a:pt x="5" y="829"/>
                  </a:lnTo>
                  <a:lnTo>
                    <a:pt x="2" y="804"/>
                  </a:lnTo>
                  <a:lnTo>
                    <a:pt x="2" y="779"/>
                  </a:lnTo>
                  <a:lnTo>
                    <a:pt x="0" y="757"/>
                  </a:lnTo>
                  <a:lnTo>
                    <a:pt x="0" y="732"/>
                  </a:lnTo>
                  <a:lnTo>
                    <a:pt x="0" y="710"/>
                  </a:lnTo>
                  <a:lnTo>
                    <a:pt x="2" y="687"/>
                  </a:lnTo>
                  <a:lnTo>
                    <a:pt x="2" y="665"/>
                  </a:lnTo>
                  <a:lnTo>
                    <a:pt x="2" y="643"/>
                  </a:lnTo>
                  <a:lnTo>
                    <a:pt x="5" y="623"/>
                  </a:lnTo>
                  <a:lnTo>
                    <a:pt x="7" y="601"/>
                  </a:lnTo>
                  <a:lnTo>
                    <a:pt x="12" y="581"/>
                  </a:lnTo>
                  <a:lnTo>
                    <a:pt x="14" y="561"/>
                  </a:lnTo>
                  <a:lnTo>
                    <a:pt x="19" y="541"/>
                  </a:lnTo>
                  <a:lnTo>
                    <a:pt x="24" y="524"/>
                  </a:lnTo>
                  <a:lnTo>
                    <a:pt x="29" y="504"/>
                  </a:lnTo>
                  <a:lnTo>
                    <a:pt x="34" y="486"/>
                  </a:lnTo>
                  <a:lnTo>
                    <a:pt x="42" y="469"/>
                  </a:lnTo>
                  <a:lnTo>
                    <a:pt x="49" y="449"/>
                  </a:lnTo>
                  <a:lnTo>
                    <a:pt x="54" y="432"/>
                  </a:lnTo>
                  <a:lnTo>
                    <a:pt x="62" y="417"/>
                  </a:lnTo>
                  <a:lnTo>
                    <a:pt x="69" y="402"/>
                  </a:lnTo>
                  <a:lnTo>
                    <a:pt x="79" y="385"/>
                  </a:lnTo>
                  <a:lnTo>
                    <a:pt x="86" y="370"/>
                  </a:lnTo>
                  <a:lnTo>
                    <a:pt x="96" y="355"/>
                  </a:lnTo>
                  <a:lnTo>
                    <a:pt x="106" y="340"/>
                  </a:lnTo>
                  <a:lnTo>
                    <a:pt x="119" y="325"/>
                  </a:lnTo>
                  <a:lnTo>
                    <a:pt x="129" y="310"/>
                  </a:lnTo>
                  <a:lnTo>
                    <a:pt x="139" y="298"/>
                  </a:lnTo>
                  <a:lnTo>
                    <a:pt x="151" y="285"/>
                  </a:lnTo>
                  <a:lnTo>
                    <a:pt x="163" y="273"/>
                  </a:lnTo>
                  <a:lnTo>
                    <a:pt x="176" y="258"/>
                  </a:lnTo>
                  <a:lnTo>
                    <a:pt x="188" y="246"/>
                  </a:lnTo>
                  <a:lnTo>
                    <a:pt x="203" y="233"/>
                  </a:lnTo>
                  <a:lnTo>
                    <a:pt x="215" y="223"/>
                  </a:lnTo>
                  <a:lnTo>
                    <a:pt x="230" y="211"/>
                  </a:lnTo>
                  <a:lnTo>
                    <a:pt x="245" y="201"/>
                  </a:lnTo>
                  <a:lnTo>
                    <a:pt x="260" y="191"/>
                  </a:lnTo>
                  <a:lnTo>
                    <a:pt x="275" y="181"/>
                  </a:lnTo>
                  <a:lnTo>
                    <a:pt x="290" y="171"/>
                  </a:lnTo>
                  <a:lnTo>
                    <a:pt x="305" y="161"/>
                  </a:lnTo>
                  <a:lnTo>
                    <a:pt x="322" y="151"/>
                  </a:lnTo>
                  <a:lnTo>
                    <a:pt x="339" y="144"/>
                  </a:lnTo>
                  <a:lnTo>
                    <a:pt x="357" y="134"/>
                  </a:lnTo>
                  <a:lnTo>
                    <a:pt x="374" y="127"/>
                  </a:lnTo>
                  <a:lnTo>
                    <a:pt x="392" y="117"/>
                  </a:lnTo>
                  <a:lnTo>
                    <a:pt x="411" y="112"/>
                  </a:lnTo>
                  <a:lnTo>
                    <a:pt x="429" y="102"/>
                  </a:lnTo>
                  <a:lnTo>
                    <a:pt x="446" y="94"/>
                  </a:lnTo>
                  <a:lnTo>
                    <a:pt x="466" y="89"/>
                  </a:lnTo>
                  <a:lnTo>
                    <a:pt x="486" y="82"/>
                  </a:lnTo>
                  <a:lnTo>
                    <a:pt x="506" y="75"/>
                  </a:lnTo>
                  <a:lnTo>
                    <a:pt x="525" y="70"/>
                  </a:lnTo>
                  <a:lnTo>
                    <a:pt x="545" y="65"/>
                  </a:lnTo>
                  <a:lnTo>
                    <a:pt x="568" y="60"/>
                  </a:lnTo>
                  <a:lnTo>
                    <a:pt x="587" y="52"/>
                  </a:lnTo>
                  <a:lnTo>
                    <a:pt x="610" y="47"/>
                  </a:lnTo>
                  <a:lnTo>
                    <a:pt x="632" y="42"/>
                  </a:lnTo>
                  <a:lnTo>
                    <a:pt x="652" y="40"/>
                  </a:lnTo>
                  <a:lnTo>
                    <a:pt x="674" y="35"/>
                  </a:lnTo>
                  <a:lnTo>
                    <a:pt x="699" y="30"/>
                  </a:lnTo>
                  <a:lnTo>
                    <a:pt x="721" y="27"/>
                  </a:lnTo>
                  <a:lnTo>
                    <a:pt x="744" y="22"/>
                  </a:lnTo>
                  <a:lnTo>
                    <a:pt x="766" y="20"/>
                  </a:lnTo>
                  <a:lnTo>
                    <a:pt x="788" y="17"/>
                  </a:lnTo>
                  <a:lnTo>
                    <a:pt x="811" y="12"/>
                  </a:lnTo>
                  <a:lnTo>
                    <a:pt x="835" y="10"/>
                  </a:lnTo>
                  <a:lnTo>
                    <a:pt x="855" y="7"/>
                  </a:lnTo>
                  <a:lnTo>
                    <a:pt x="878" y="5"/>
                  </a:lnTo>
                  <a:lnTo>
                    <a:pt x="900" y="5"/>
                  </a:lnTo>
                  <a:lnTo>
                    <a:pt x="922" y="5"/>
                  </a:lnTo>
                  <a:lnTo>
                    <a:pt x="942" y="3"/>
                  </a:lnTo>
                  <a:lnTo>
                    <a:pt x="964" y="0"/>
                  </a:lnTo>
                  <a:lnTo>
                    <a:pt x="987" y="0"/>
                  </a:lnTo>
                  <a:lnTo>
                    <a:pt x="1009" y="0"/>
                  </a:lnTo>
                  <a:lnTo>
                    <a:pt x="1029" y="0"/>
                  </a:lnTo>
                  <a:lnTo>
                    <a:pt x="1051" y="0"/>
                  </a:lnTo>
                  <a:lnTo>
                    <a:pt x="1071" y="0"/>
                  </a:lnTo>
                  <a:lnTo>
                    <a:pt x="1091" y="3"/>
                  </a:lnTo>
                  <a:lnTo>
                    <a:pt x="1111" y="3"/>
                  </a:lnTo>
                  <a:lnTo>
                    <a:pt x="1131" y="3"/>
                  </a:lnTo>
                  <a:lnTo>
                    <a:pt x="1151" y="3"/>
                  </a:lnTo>
                  <a:lnTo>
                    <a:pt x="1170" y="5"/>
                  </a:lnTo>
                  <a:lnTo>
                    <a:pt x="1188" y="5"/>
                  </a:lnTo>
                  <a:lnTo>
                    <a:pt x="1205" y="7"/>
                  </a:lnTo>
                  <a:lnTo>
                    <a:pt x="1225" y="10"/>
                  </a:lnTo>
                  <a:lnTo>
                    <a:pt x="1242" y="12"/>
                  </a:lnTo>
                  <a:lnTo>
                    <a:pt x="1260" y="12"/>
                  </a:lnTo>
                  <a:lnTo>
                    <a:pt x="1277" y="15"/>
                  </a:lnTo>
                  <a:lnTo>
                    <a:pt x="1294" y="17"/>
                  </a:lnTo>
                  <a:lnTo>
                    <a:pt x="1314" y="20"/>
                  </a:lnTo>
                  <a:lnTo>
                    <a:pt x="1329" y="22"/>
                  </a:lnTo>
                  <a:lnTo>
                    <a:pt x="1346" y="25"/>
                  </a:lnTo>
                  <a:lnTo>
                    <a:pt x="1361" y="30"/>
                  </a:lnTo>
                  <a:lnTo>
                    <a:pt x="1379" y="32"/>
                  </a:lnTo>
                  <a:lnTo>
                    <a:pt x="1391" y="35"/>
                  </a:lnTo>
                  <a:lnTo>
                    <a:pt x="1406" y="37"/>
                  </a:lnTo>
                  <a:lnTo>
                    <a:pt x="1421" y="40"/>
                  </a:lnTo>
                  <a:lnTo>
                    <a:pt x="1436" y="42"/>
                  </a:lnTo>
                  <a:lnTo>
                    <a:pt x="1448" y="45"/>
                  </a:lnTo>
                  <a:lnTo>
                    <a:pt x="1463" y="47"/>
                  </a:lnTo>
                  <a:lnTo>
                    <a:pt x="1475" y="50"/>
                  </a:lnTo>
                  <a:lnTo>
                    <a:pt x="1488" y="55"/>
                  </a:lnTo>
                  <a:lnTo>
                    <a:pt x="1498" y="55"/>
                  </a:lnTo>
                  <a:lnTo>
                    <a:pt x="1510" y="60"/>
                  </a:lnTo>
                  <a:lnTo>
                    <a:pt x="1523" y="62"/>
                  </a:lnTo>
                  <a:lnTo>
                    <a:pt x="1532" y="65"/>
                  </a:lnTo>
                  <a:lnTo>
                    <a:pt x="1542" y="67"/>
                  </a:lnTo>
                  <a:lnTo>
                    <a:pt x="1552" y="70"/>
                  </a:lnTo>
                  <a:lnTo>
                    <a:pt x="1562" y="72"/>
                  </a:lnTo>
                  <a:lnTo>
                    <a:pt x="1572" y="77"/>
                  </a:lnTo>
                  <a:lnTo>
                    <a:pt x="1580" y="77"/>
                  </a:lnTo>
                  <a:lnTo>
                    <a:pt x="1587" y="79"/>
                  </a:lnTo>
                  <a:lnTo>
                    <a:pt x="1594" y="82"/>
                  </a:lnTo>
                  <a:lnTo>
                    <a:pt x="1602" y="84"/>
                  </a:lnTo>
                  <a:lnTo>
                    <a:pt x="1607" y="84"/>
                  </a:lnTo>
                  <a:lnTo>
                    <a:pt x="1614" y="87"/>
                  </a:lnTo>
                  <a:lnTo>
                    <a:pt x="1619" y="89"/>
                  </a:lnTo>
                  <a:lnTo>
                    <a:pt x="1624" y="92"/>
                  </a:lnTo>
                  <a:lnTo>
                    <a:pt x="1632" y="94"/>
                  </a:lnTo>
                  <a:lnTo>
                    <a:pt x="1639" y="97"/>
                  </a:lnTo>
                  <a:lnTo>
                    <a:pt x="1642" y="97"/>
                  </a:lnTo>
                  <a:lnTo>
                    <a:pt x="1644" y="99"/>
                  </a:lnTo>
                  <a:lnTo>
                    <a:pt x="1947" y="251"/>
                  </a:lnTo>
                  <a:lnTo>
                    <a:pt x="1947" y="251"/>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4739040" y="5686560"/>
              <a:ext cx="268200" cy="398160"/>
            </a:xfrm>
            <a:custGeom>
              <a:avLst/>
              <a:gdLst/>
              <a:ahLst/>
              <a:rect l="l" t="t" r="r" b="b"/>
              <a:pathLst>
                <a:path w="169" h="251">
                  <a:moveTo>
                    <a:pt x="0" y="0"/>
                  </a:moveTo>
                  <a:lnTo>
                    <a:pt x="164" y="55"/>
                  </a:lnTo>
                  <a:lnTo>
                    <a:pt x="164" y="60"/>
                  </a:lnTo>
                  <a:lnTo>
                    <a:pt x="164" y="65"/>
                  </a:lnTo>
                  <a:lnTo>
                    <a:pt x="166" y="75"/>
                  </a:lnTo>
                  <a:lnTo>
                    <a:pt x="166" y="82"/>
                  </a:lnTo>
                  <a:lnTo>
                    <a:pt x="166" y="95"/>
                  </a:lnTo>
                  <a:lnTo>
                    <a:pt x="166" y="100"/>
                  </a:lnTo>
                  <a:lnTo>
                    <a:pt x="166" y="107"/>
                  </a:lnTo>
                  <a:lnTo>
                    <a:pt x="166" y="112"/>
                  </a:lnTo>
                  <a:lnTo>
                    <a:pt x="169" y="120"/>
                  </a:lnTo>
                  <a:lnTo>
                    <a:pt x="166" y="127"/>
                  </a:lnTo>
                  <a:lnTo>
                    <a:pt x="166" y="134"/>
                  </a:lnTo>
                  <a:lnTo>
                    <a:pt x="166" y="142"/>
                  </a:lnTo>
                  <a:lnTo>
                    <a:pt x="166" y="147"/>
                  </a:lnTo>
                  <a:lnTo>
                    <a:pt x="164" y="154"/>
                  </a:lnTo>
                  <a:lnTo>
                    <a:pt x="164" y="162"/>
                  </a:lnTo>
                  <a:lnTo>
                    <a:pt x="164" y="169"/>
                  </a:lnTo>
                  <a:lnTo>
                    <a:pt x="164" y="177"/>
                  </a:lnTo>
                  <a:lnTo>
                    <a:pt x="162" y="184"/>
                  </a:lnTo>
                  <a:lnTo>
                    <a:pt x="159" y="189"/>
                  </a:lnTo>
                  <a:lnTo>
                    <a:pt x="157" y="196"/>
                  </a:lnTo>
                  <a:lnTo>
                    <a:pt x="157" y="201"/>
                  </a:lnTo>
                  <a:lnTo>
                    <a:pt x="154" y="209"/>
                  </a:lnTo>
                  <a:lnTo>
                    <a:pt x="152" y="214"/>
                  </a:lnTo>
                  <a:lnTo>
                    <a:pt x="147" y="221"/>
                  </a:lnTo>
                  <a:lnTo>
                    <a:pt x="147" y="226"/>
                  </a:lnTo>
                  <a:lnTo>
                    <a:pt x="137" y="234"/>
                  </a:lnTo>
                  <a:lnTo>
                    <a:pt x="129" y="241"/>
                  </a:lnTo>
                  <a:lnTo>
                    <a:pt x="117" y="246"/>
                  </a:lnTo>
                  <a:lnTo>
                    <a:pt x="109" y="249"/>
                  </a:lnTo>
                  <a:lnTo>
                    <a:pt x="102" y="249"/>
                  </a:lnTo>
                  <a:lnTo>
                    <a:pt x="97" y="251"/>
                  </a:lnTo>
                  <a:lnTo>
                    <a:pt x="92" y="251"/>
                  </a:lnTo>
                  <a:lnTo>
                    <a:pt x="87" y="251"/>
                  </a:lnTo>
                  <a:lnTo>
                    <a:pt x="80" y="251"/>
                  </a:lnTo>
                  <a:lnTo>
                    <a:pt x="75" y="251"/>
                  </a:lnTo>
                  <a:lnTo>
                    <a:pt x="70" y="251"/>
                  </a:lnTo>
                  <a:lnTo>
                    <a:pt x="62" y="251"/>
                  </a:lnTo>
                  <a:lnTo>
                    <a:pt x="57" y="249"/>
                  </a:lnTo>
                  <a:lnTo>
                    <a:pt x="50" y="249"/>
                  </a:lnTo>
                  <a:lnTo>
                    <a:pt x="45" y="249"/>
                  </a:lnTo>
                  <a:lnTo>
                    <a:pt x="40" y="249"/>
                  </a:lnTo>
                  <a:lnTo>
                    <a:pt x="33" y="246"/>
                  </a:lnTo>
                  <a:lnTo>
                    <a:pt x="23" y="244"/>
                  </a:lnTo>
                  <a:lnTo>
                    <a:pt x="15" y="241"/>
                  </a:lnTo>
                  <a:lnTo>
                    <a:pt x="10" y="241"/>
                  </a:lnTo>
                  <a:lnTo>
                    <a:pt x="8" y="239"/>
                  </a:lnTo>
                  <a:lnTo>
                    <a:pt x="0" y="0"/>
                  </a:lnTo>
                  <a:lnTo>
                    <a:pt x="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5153040" y="2433600"/>
              <a:ext cx="2024280" cy="1606680"/>
            </a:xfrm>
            <a:custGeom>
              <a:avLst/>
              <a:gdLst/>
              <a:ahLst/>
              <a:rect l="l" t="t" r="r" b="b"/>
              <a:pathLst>
                <a:path w="1275" h="1012">
                  <a:moveTo>
                    <a:pt x="0" y="474"/>
                  </a:moveTo>
                  <a:lnTo>
                    <a:pt x="47" y="384"/>
                  </a:lnTo>
                  <a:lnTo>
                    <a:pt x="47" y="382"/>
                  </a:lnTo>
                  <a:lnTo>
                    <a:pt x="49" y="382"/>
                  </a:lnTo>
                  <a:lnTo>
                    <a:pt x="54" y="377"/>
                  </a:lnTo>
                  <a:lnTo>
                    <a:pt x="64" y="377"/>
                  </a:lnTo>
                  <a:lnTo>
                    <a:pt x="67" y="372"/>
                  </a:lnTo>
                  <a:lnTo>
                    <a:pt x="72" y="372"/>
                  </a:lnTo>
                  <a:lnTo>
                    <a:pt x="79" y="369"/>
                  </a:lnTo>
                  <a:lnTo>
                    <a:pt x="84" y="367"/>
                  </a:lnTo>
                  <a:lnTo>
                    <a:pt x="92" y="364"/>
                  </a:lnTo>
                  <a:lnTo>
                    <a:pt x="99" y="364"/>
                  </a:lnTo>
                  <a:lnTo>
                    <a:pt x="106" y="362"/>
                  </a:lnTo>
                  <a:lnTo>
                    <a:pt x="116" y="359"/>
                  </a:lnTo>
                  <a:lnTo>
                    <a:pt x="124" y="357"/>
                  </a:lnTo>
                  <a:lnTo>
                    <a:pt x="134" y="357"/>
                  </a:lnTo>
                  <a:lnTo>
                    <a:pt x="141" y="354"/>
                  </a:lnTo>
                  <a:lnTo>
                    <a:pt x="151" y="352"/>
                  </a:lnTo>
                  <a:lnTo>
                    <a:pt x="161" y="352"/>
                  </a:lnTo>
                  <a:lnTo>
                    <a:pt x="173" y="350"/>
                  </a:lnTo>
                  <a:lnTo>
                    <a:pt x="178" y="350"/>
                  </a:lnTo>
                  <a:lnTo>
                    <a:pt x="183" y="350"/>
                  </a:lnTo>
                  <a:lnTo>
                    <a:pt x="188" y="350"/>
                  </a:lnTo>
                  <a:lnTo>
                    <a:pt x="196" y="350"/>
                  </a:lnTo>
                  <a:lnTo>
                    <a:pt x="201" y="347"/>
                  </a:lnTo>
                  <a:lnTo>
                    <a:pt x="206" y="347"/>
                  </a:lnTo>
                  <a:lnTo>
                    <a:pt x="211" y="347"/>
                  </a:lnTo>
                  <a:lnTo>
                    <a:pt x="218" y="347"/>
                  </a:lnTo>
                  <a:lnTo>
                    <a:pt x="223" y="347"/>
                  </a:lnTo>
                  <a:lnTo>
                    <a:pt x="230" y="347"/>
                  </a:lnTo>
                  <a:lnTo>
                    <a:pt x="235" y="347"/>
                  </a:lnTo>
                  <a:lnTo>
                    <a:pt x="243" y="347"/>
                  </a:lnTo>
                  <a:lnTo>
                    <a:pt x="248" y="347"/>
                  </a:lnTo>
                  <a:lnTo>
                    <a:pt x="255" y="347"/>
                  </a:lnTo>
                  <a:lnTo>
                    <a:pt x="260" y="347"/>
                  </a:lnTo>
                  <a:lnTo>
                    <a:pt x="268" y="350"/>
                  </a:lnTo>
                  <a:lnTo>
                    <a:pt x="273" y="350"/>
                  </a:lnTo>
                  <a:lnTo>
                    <a:pt x="280" y="350"/>
                  </a:lnTo>
                  <a:lnTo>
                    <a:pt x="287" y="352"/>
                  </a:lnTo>
                  <a:lnTo>
                    <a:pt x="295" y="352"/>
                  </a:lnTo>
                  <a:lnTo>
                    <a:pt x="300" y="352"/>
                  </a:lnTo>
                  <a:lnTo>
                    <a:pt x="307" y="354"/>
                  </a:lnTo>
                  <a:lnTo>
                    <a:pt x="312" y="354"/>
                  </a:lnTo>
                  <a:lnTo>
                    <a:pt x="320" y="357"/>
                  </a:lnTo>
                  <a:lnTo>
                    <a:pt x="327" y="357"/>
                  </a:lnTo>
                  <a:lnTo>
                    <a:pt x="332" y="357"/>
                  </a:lnTo>
                  <a:lnTo>
                    <a:pt x="340" y="359"/>
                  </a:lnTo>
                  <a:lnTo>
                    <a:pt x="347" y="359"/>
                  </a:lnTo>
                  <a:lnTo>
                    <a:pt x="354" y="359"/>
                  </a:lnTo>
                  <a:lnTo>
                    <a:pt x="362" y="359"/>
                  </a:lnTo>
                  <a:lnTo>
                    <a:pt x="369" y="362"/>
                  </a:lnTo>
                  <a:lnTo>
                    <a:pt x="374" y="362"/>
                  </a:lnTo>
                  <a:lnTo>
                    <a:pt x="382" y="362"/>
                  </a:lnTo>
                  <a:lnTo>
                    <a:pt x="389" y="364"/>
                  </a:lnTo>
                  <a:lnTo>
                    <a:pt x="397" y="364"/>
                  </a:lnTo>
                  <a:lnTo>
                    <a:pt x="404" y="367"/>
                  </a:lnTo>
                  <a:lnTo>
                    <a:pt x="409" y="367"/>
                  </a:lnTo>
                  <a:lnTo>
                    <a:pt x="416" y="367"/>
                  </a:lnTo>
                  <a:lnTo>
                    <a:pt x="421" y="369"/>
                  </a:lnTo>
                  <a:lnTo>
                    <a:pt x="429" y="369"/>
                  </a:lnTo>
                  <a:lnTo>
                    <a:pt x="436" y="369"/>
                  </a:lnTo>
                  <a:lnTo>
                    <a:pt x="441" y="369"/>
                  </a:lnTo>
                  <a:lnTo>
                    <a:pt x="449" y="372"/>
                  </a:lnTo>
                  <a:lnTo>
                    <a:pt x="456" y="372"/>
                  </a:lnTo>
                  <a:lnTo>
                    <a:pt x="464" y="372"/>
                  </a:lnTo>
                  <a:lnTo>
                    <a:pt x="469" y="374"/>
                  </a:lnTo>
                  <a:lnTo>
                    <a:pt x="476" y="374"/>
                  </a:lnTo>
                  <a:lnTo>
                    <a:pt x="481" y="377"/>
                  </a:lnTo>
                  <a:lnTo>
                    <a:pt x="488" y="377"/>
                  </a:lnTo>
                  <a:lnTo>
                    <a:pt x="493" y="377"/>
                  </a:lnTo>
                  <a:lnTo>
                    <a:pt x="501" y="379"/>
                  </a:lnTo>
                  <a:lnTo>
                    <a:pt x="506" y="379"/>
                  </a:lnTo>
                  <a:lnTo>
                    <a:pt x="518" y="382"/>
                  </a:lnTo>
                  <a:lnTo>
                    <a:pt x="528" y="382"/>
                  </a:lnTo>
                  <a:lnTo>
                    <a:pt x="538" y="382"/>
                  </a:lnTo>
                  <a:lnTo>
                    <a:pt x="548" y="384"/>
                  </a:lnTo>
                  <a:lnTo>
                    <a:pt x="558" y="384"/>
                  </a:lnTo>
                  <a:lnTo>
                    <a:pt x="568" y="387"/>
                  </a:lnTo>
                  <a:lnTo>
                    <a:pt x="575" y="387"/>
                  </a:lnTo>
                  <a:lnTo>
                    <a:pt x="583" y="389"/>
                  </a:lnTo>
                  <a:lnTo>
                    <a:pt x="590" y="389"/>
                  </a:lnTo>
                  <a:lnTo>
                    <a:pt x="595" y="389"/>
                  </a:lnTo>
                  <a:lnTo>
                    <a:pt x="600" y="389"/>
                  </a:lnTo>
                  <a:lnTo>
                    <a:pt x="607" y="392"/>
                  </a:lnTo>
                  <a:lnTo>
                    <a:pt x="612" y="392"/>
                  </a:lnTo>
                  <a:lnTo>
                    <a:pt x="615" y="394"/>
                  </a:lnTo>
                  <a:lnTo>
                    <a:pt x="650" y="248"/>
                  </a:lnTo>
                  <a:lnTo>
                    <a:pt x="650" y="245"/>
                  </a:lnTo>
                  <a:lnTo>
                    <a:pt x="650" y="238"/>
                  </a:lnTo>
                  <a:lnTo>
                    <a:pt x="650" y="233"/>
                  </a:lnTo>
                  <a:lnTo>
                    <a:pt x="650" y="228"/>
                  </a:lnTo>
                  <a:lnTo>
                    <a:pt x="650" y="220"/>
                  </a:lnTo>
                  <a:lnTo>
                    <a:pt x="650" y="213"/>
                  </a:lnTo>
                  <a:lnTo>
                    <a:pt x="650" y="206"/>
                  </a:lnTo>
                  <a:lnTo>
                    <a:pt x="650" y="196"/>
                  </a:lnTo>
                  <a:lnTo>
                    <a:pt x="650" y="188"/>
                  </a:lnTo>
                  <a:lnTo>
                    <a:pt x="650" y="178"/>
                  </a:lnTo>
                  <a:lnTo>
                    <a:pt x="650" y="168"/>
                  </a:lnTo>
                  <a:lnTo>
                    <a:pt x="652" y="158"/>
                  </a:lnTo>
                  <a:lnTo>
                    <a:pt x="652" y="149"/>
                  </a:lnTo>
                  <a:lnTo>
                    <a:pt x="655" y="136"/>
                  </a:lnTo>
                  <a:lnTo>
                    <a:pt x="655" y="126"/>
                  </a:lnTo>
                  <a:lnTo>
                    <a:pt x="655" y="116"/>
                  </a:lnTo>
                  <a:lnTo>
                    <a:pt x="657" y="104"/>
                  </a:lnTo>
                  <a:lnTo>
                    <a:pt x="660" y="94"/>
                  </a:lnTo>
                  <a:lnTo>
                    <a:pt x="660" y="84"/>
                  </a:lnTo>
                  <a:lnTo>
                    <a:pt x="662" y="74"/>
                  </a:lnTo>
                  <a:lnTo>
                    <a:pt x="664" y="64"/>
                  </a:lnTo>
                  <a:lnTo>
                    <a:pt x="667" y="54"/>
                  </a:lnTo>
                  <a:lnTo>
                    <a:pt x="669" y="47"/>
                  </a:lnTo>
                  <a:lnTo>
                    <a:pt x="672" y="37"/>
                  </a:lnTo>
                  <a:lnTo>
                    <a:pt x="677" y="29"/>
                  </a:lnTo>
                  <a:lnTo>
                    <a:pt x="679" y="24"/>
                  </a:lnTo>
                  <a:lnTo>
                    <a:pt x="684" y="17"/>
                  </a:lnTo>
                  <a:lnTo>
                    <a:pt x="687" y="12"/>
                  </a:lnTo>
                  <a:lnTo>
                    <a:pt x="692" y="7"/>
                  </a:lnTo>
                  <a:lnTo>
                    <a:pt x="697" y="5"/>
                  </a:lnTo>
                  <a:lnTo>
                    <a:pt x="707" y="2"/>
                  </a:lnTo>
                  <a:lnTo>
                    <a:pt x="717" y="0"/>
                  </a:lnTo>
                  <a:lnTo>
                    <a:pt x="722" y="0"/>
                  </a:lnTo>
                  <a:lnTo>
                    <a:pt x="729" y="2"/>
                  </a:lnTo>
                  <a:lnTo>
                    <a:pt x="734" y="2"/>
                  </a:lnTo>
                  <a:lnTo>
                    <a:pt x="741" y="5"/>
                  </a:lnTo>
                  <a:lnTo>
                    <a:pt x="746" y="7"/>
                  </a:lnTo>
                  <a:lnTo>
                    <a:pt x="751" y="10"/>
                  </a:lnTo>
                  <a:lnTo>
                    <a:pt x="759" y="15"/>
                  </a:lnTo>
                  <a:lnTo>
                    <a:pt x="764" y="19"/>
                  </a:lnTo>
                  <a:lnTo>
                    <a:pt x="771" y="24"/>
                  </a:lnTo>
                  <a:lnTo>
                    <a:pt x="776" y="29"/>
                  </a:lnTo>
                  <a:lnTo>
                    <a:pt x="784" y="37"/>
                  </a:lnTo>
                  <a:lnTo>
                    <a:pt x="791" y="42"/>
                  </a:lnTo>
                  <a:lnTo>
                    <a:pt x="796" y="49"/>
                  </a:lnTo>
                  <a:lnTo>
                    <a:pt x="801" y="54"/>
                  </a:lnTo>
                  <a:lnTo>
                    <a:pt x="808" y="62"/>
                  </a:lnTo>
                  <a:lnTo>
                    <a:pt x="813" y="69"/>
                  </a:lnTo>
                  <a:lnTo>
                    <a:pt x="821" y="77"/>
                  </a:lnTo>
                  <a:lnTo>
                    <a:pt x="826" y="84"/>
                  </a:lnTo>
                  <a:lnTo>
                    <a:pt x="833" y="91"/>
                  </a:lnTo>
                  <a:lnTo>
                    <a:pt x="838" y="99"/>
                  </a:lnTo>
                  <a:lnTo>
                    <a:pt x="843" y="106"/>
                  </a:lnTo>
                  <a:lnTo>
                    <a:pt x="848" y="116"/>
                  </a:lnTo>
                  <a:lnTo>
                    <a:pt x="853" y="124"/>
                  </a:lnTo>
                  <a:lnTo>
                    <a:pt x="858" y="134"/>
                  </a:lnTo>
                  <a:lnTo>
                    <a:pt x="863" y="141"/>
                  </a:lnTo>
                  <a:lnTo>
                    <a:pt x="868" y="149"/>
                  </a:lnTo>
                  <a:lnTo>
                    <a:pt x="873" y="158"/>
                  </a:lnTo>
                  <a:lnTo>
                    <a:pt x="878" y="166"/>
                  </a:lnTo>
                  <a:lnTo>
                    <a:pt x="880" y="173"/>
                  </a:lnTo>
                  <a:lnTo>
                    <a:pt x="885" y="183"/>
                  </a:lnTo>
                  <a:lnTo>
                    <a:pt x="890" y="191"/>
                  </a:lnTo>
                  <a:lnTo>
                    <a:pt x="895" y="201"/>
                  </a:lnTo>
                  <a:lnTo>
                    <a:pt x="900" y="211"/>
                  </a:lnTo>
                  <a:lnTo>
                    <a:pt x="905" y="220"/>
                  </a:lnTo>
                  <a:lnTo>
                    <a:pt x="913" y="230"/>
                  </a:lnTo>
                  <a:lnTo>
                    <a:pt x="917" y="240"/>
                  </a:lnTo>
                  <a:lnTo>
                    <a:pt x="922" y="250"/>
                  </a:lnTo>
                  <a:lnTo>
                    <a:pt x="930" y="263"/>
                  </a:lnTo>
                  <a:lnTo>
                    <a:pt x="932" y="268"/>
                  </a:lnTo>
                  <a:lnTo>
                    <a:pt x="935" y="273"/>
                  </a:lnTo>
                  <a:lnTo>
                    <a:pt x="940" y="280"/>
                  </a:lnTo>
                  <a:lnTo>
                    <a:pt x="942" y="285"/>
                  </a:lnTo>
                  <a:lnTo>
                    <a:pt x="945" y="290"/>
                  </a:lnTo>
                  <a:lnTo>
                    <a:pt x="947" y="297"/>
                  </a:lnTo>
                  <a:lnTo>
                    <a:pt x="952" y="302"/>
                  </a:lnTo>
                  <a:lnTo>
                    <a:pt x="955" y="307"/>
                  </a:lnTo>
                  <a:lnTo>
                    <a:pt x="960" y="315"/>
                  </a:lnTo>
                  <a:lnTo>
                    <a:pt x="962" y="320"/>
                  </a:lnTo>
                  <a:lnTo>
                    <a:pt x="965" y="327"/>
                  </a:lnTo>
                  <a:lnTo>
                    <a:pt x="970" y="332"/>
                  </a:lnTo>
                  <a:lnTo>
                    <a:pt x="972" y="337"/>
                  </a:lnTo>
                  <a:lnTo>
                    <a:pt x="977" y="345"/>
                  </a:lnTo>
                  <a:lnTo>
                    <a:pt x="979" y="350"/>
                  </a:lnTo>
                  <a:lnTo>
                    <a:pt x="982" y="357"/>
                  </a:lnTo>
                  <a:lnTo>
                    <a:pt x="984" y="362"/>
                  </a:lnTo>
                  <a:lnTo>
                    <a:pt x="989" y="369"/>
                  </a:lnTo>
                  <a:lnTo>
                    <a:pt x="992" y="374"/>
                  </a:lnTo>
                  <a:lnTo>
                    <a:pt x="997" y="382"/>
                  </a:lnTo>
                  <a:lnTo>
                    <a:pt x="999" y="387"/>
                  </a:lnTo>
                  <a:lnTo>
                    <a:pt x="1002" y="394"/>
                  </a:lnTo>
                  <a:lnTo>
                    <a:pt x="1007" y="399"/>
                  </a:lnTo>
                  <a:lnTo>
                    <a:pt x="1009" y="407"/>
                  </a:lnTo>
                  <a:lnTo>
                    <a:pt x="1012" y="412"/>
                  </a:lnTo>
                  <a:lnTo>
                    <a:pt x="1017" y="419"/>
                  </a:lnTo>
                  <a:lnTo>
                    <a:pt x="1019" y="424"/>
                  </a:lnTo>
                  <a:lnTo>
                    <a:pt x="1024" y="431"/>
                  </a:lnTo>
                  <a:lnTo>
                    <a:pt x="1027" y="436"/>
                  </a:lnTo>
                  <a:lnTo>
                    <a:pt x="1029" y="444"/>
                  </a:lnTo>
                  <a:lnTo>
                    <a:pt x="1032" y="449"/>
                  </a:lnTo>
                  <a:lnTo>
                    <a:pt x="1037" y="456"/>
                  </a:lnTo>
                  <a:lnTo>
                    <a:pt x="1039" y="461"/>
                  </a:lnTo>
                  <a:lnTo>
                    <a:pt x="1042" y="469"/>
                  </a:lnTo>
                  <a:lnTo>
                    <a:pt x="1046" y="474"/>
                  </a:lnTo>
                  <a:lnTo>
                    <a:pt x="1049" y="481"/>
                  </a:lnTo>
                  <a:lnTo>
                    <a:pt x="1054" y="486"/>
                  </a:lnTo>
                  <a:lnTo>
                    <a:pt x="1056" y="493"/>
                  </a:lnTo>
                  <a:lnTo>
                    <a:pt x="1059" y="498"/>
                  </a:lnTo>
                  <a:lnTo>
                    <a:pt x="1061" y="506"/>
                  </a:lnTo>
                  <a:lnTo>
                    <a:pt x="1066" y="511"/>
                  </a:lnTo>
                  <a:lnTo>
                    <a:pt x="1069" y="518"/>
                  </a:lnTo>
                  <a:lnTo>
                    <a:pt x="1071" y="523"/>
                  </a:lnTo>
                  <a:lnTo>
                    <a:pt x="1074" y="531"/>
                  </a:lnTo>
                  <a:lnTo>
                    <a:pt x="1079" y="541"/>
                  </a:lnTo>
                  <a:lnTo>
                    <a:pt x="1084" y="551"/>
                  </a:lnTo>
                  <a:lnTo>
                    <a:pt x="1089" y="563"/>
                  </a:lnTo>
                  <a:lnTo>
                    <a:pt x="1094" y="573"/>
                  </a:lnTo>
                  <a:lnTo>
                    <a:pt x="1099" y="583"/>
                  </a:lnTo>
                  <a:lnTo>
                    <a:pt x="1101" y="593"/>
                  </a:lnTo>
                  <a:lnTo>
                    <a:pt x="1106" y="600"/>
                  </a:lnTo>
                  <a:lnTo>
                    <a:pt x="1111" y="610"/>
                  </a:lnTo>
                  <a:lnTo>
                    <a:pt x="1113" y="620"/>
                  </a:lnTo>
                  <a:lnTo>
                    <a:pt x="1118" y="627"/>
                  </a:lnTo>
                  <a:lnTo>
                    <a:pt x="1121" y="637"/>
                  </a:lnTo>
                  <a:lnTo>
                    <a:pt x="1123" y="645"/>
                  </a:lnTo>
                  <a:lnTo>
                    <a:pt x="1126" y="652"/>
                  </a:lnTo>
                  <a:lnTo>
                    <a:pt x="1128" y="660"/>
                  </a:lnTo>
                  <a:lnTo>
                    <a:pt x="1131" y="667"/>
                  </a:lnTo>
                  <a:lnTo>
                    <a:pt x="1136" y="675"/>
                  </a:lnTo>
                  <a:lnTo>
                    <a:pt x="1136" y="680"/>
                  </a:lnTo>
                  <a:lnTo>
                    <a:pt x="1138" y="687"/>
                  </a:lnTo>
                  <a:lnTo>
                    <a:pt x="1141" y="692"/>
                  </a:lnTo>
                  <a:lnTo>
                    <a:pt x="1143" y="699"/>
                  </a:lnTo>
                  <a:lnTo>
                    <a:pt x="1146" y="709"/>
                  </a:lnTo>
                  <a:lnTo>
                    <a:pt x="1151" y="719"/>
                  </a:lnTo>
                  <a:lnTo>
                    <a:pt x="1153" y="727"/>
                  </a:lnTo>
                  <a:lnTo>
                    <a:pt x="1156" y="734"/>
                  </a:lnTo>
                  <a:lnTo>
                    <a:pt x="1161" y="742"/>
                  </a:lnTo>
                  <a:lnTo>
                    <a:pt x="1166" y="749"/>
                  </a:lnTo>
                  <a:lnTo>
                    <a:pt x="1168" y="752"/>
                  </a:lnTo>
                  <a:lnTo>
                    <a:pt x="1173" y="759"/>
                  </a:lnTo>
                  <a:lnTo>
                    <a:pt x="1178" y="764"/>
                  </a:lnTo>
                  <a:lnTo>
                    <a:pt x="1185" y="771"/>
                  </a:lnTo>
                  <a:lnTo>
                    <a:pt x="1193" y="776"/>
                  </a:lnTo>
                  <a:lnTo>
                    <a:pt x="1200" y="784"/>
                  </a:lnTo>
                  <a:lnTo>
                    <a:pt x="1208" y="791"/>
                  </a:lnTo>
                  <a:lnTo>
                    <a:pt x="1215" y="801"/>
                  </a:lnTo>
                  <a:lnTo>
                    <a:pt x="1223" y="809"/>
                  </a:lnTo>
                  <a:lnTo>
                    <a:pt x="1230" y="816"/>
                  </a:lnTo>
                  <a:lnTo>
                    <a:pt x="1237" y="824"/>
                  </a:lnTo>
                  <a:lnTo>
                    <a:pt x="1245" y="833"/>
                  </a:lnTo>
                  <a:lnTo>
                    <a:pt x="1252" y="838"/>
                  </a:lnTo>
                  <a:lnTo>
                    <a:pt x="1257" y="848"/>
                  </a:lnTo>
                  <a:lnTo>
                    <a:pt x="1262" y="856"/>
                  </a:lnTo>
                  <a:lnTo>
                    <a:pt x="1270" y="866"/>
                  </a:lnTo>
                  <a:lnTo>
                    <a:pt x="1270" y="873"/>
                  </a:lnTo>
                  <a:lnTo>
                    <a:pt x="1272" y="883"/>
                  </a:lnTo>
                  <a:lnTo>
                    <a:pt x="1272" y="888"/>
                  </a:lnTo>
                  <a:lnTo>
                    <a:pt x="1272" y="893"/>
                  </a:lnTo>
                  <a:lnTo>
                    <a:pt x="1272" y="898"/>
                  </a:lnTo>
                  <a:lnTo>
                    <a:pt x="1275" y="905"/>
                  </a:lnTo>
                  <a:lnTo>
                    <a:pt x="1272" y="910"/>
                  </a:lnTo>
                  <a:lnTo>
                    <a:pt x="1272" y="918"/>
                  </a:lnTo>
                  <a:lnTo>
                    <a:pt x="1270" y="923"/>
                  </a:lnTo>
                  <a:lnTo>
                    <a:pt x="1270" y="930"/>
                  </a:lnTo>
                  <a:lnTo>
                    <a:pt x="1270" y="935"/>
                  </a:lnTo>
                  <a:lnTo>
                    <a:pt x="1270" y="940"/>
                  </a:lnTo>
                  <a:lnTo>
                    <a:pt x="1267" y="948"/>
                  </a:lnTo>
                  <a:lnTo>
                    <a:pt x="1267" y="953"/>
                  </a:lnTo>
                  <a:lnTo>
                    <a:pt x="1265" y="965"/>
                  </a:lnTo>
                  <a:lnTo>
                    <a:pt x="1262" y="975"/>
                  </a:lnTo>
                  <a:lnTo>
                    <a:pt x="1257" y="985"/>
                  </a:lnTo>
                  <a:lnTo>
                    <a:pt x="1257" y="995"/>
                  </a:lnTo>
                  <a:lnTo>
                    <a:pt x="1252" y="1000"/>
                  </a:lnTo>
                  <a:lnTo>
                    <a:pt x="1252" y="1007"/>
                  </a:lnTo>
                  <a:lnTo>
                    <a:pt x="1250" y="1010"/>
                  </a:lnTo>
                  <a:lnTo>
                    <a:pt x="1250" y="1012"/>
                  </a:lnTo>
                  <a:lnTo>
                    <a:pt x="62" y="841"/>
                  </a:lnTo>
                  <a:lnTo>
                    <a:pt x="0" y="474"/>
                  </a:lnTo>
                  <a:lnTo>
                    <a:pt x="0" y="474"/>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3345120" y="3040200"/>
              <a:ext cx="4221000" cy="2744640"/>
            </a:xfrm>
            <a:custGeom>
              <a:avLst/>
              <a:gdLst/>
              <a:ahLst/>
              <a:rect l="l" t="t" r="r" b="b"/>
              <a:pathLst>
                <a:path w="2659" h="1729">
                  <a:moveTo>
                    <a:pt x="246" y="1057"/>
                  </a:moveTo>
                  <a:lnTo>
                    <a:pt x="114" y="968"/>
                  </a:lnTo>
                  <a:lnTo>
                    <a:pt x="5" y="786"/>
                  </a:lnTo>
                  <a:lnTo>
                    <a:pt x="3" y="786"/>
                  </a:lnTo>
                  <a:lnTo>
                    <a:pt x="3" y="784"/>
                  </a:lnTo>
                  <a:lnTo>
                    <a:pt x="3" y="779"/>
                  </a:lnTo>
                  <a:lnTo>
                    <a:pt x="3" y="774"/>
                  </a:lnTo>
                  <a:lnTo>
                    <a:pt x="3" y="767"/>
                  </a:lnTo>
                  <a:lnTo>
                    <a:pt x="3" y="759"/>
                  </a:lnTo>
                  <a:lnTo>
                    <a:pt x="3" y="749"/>
                  </a:lnTo>
                  <a:lnTo>
                    <a:pt x="3" y="742"/>
                  </a:lnTo>
                  <a:lnTo>
                    <a:pt x="0" y="734"/>
                  </a:lnTo>
                  <a:lnTo>
                    <a:pt x="0" y="729"/>
                  </a:lnTo>
                  <a:lnTo>
                    <a:pt x="0" y="722"/>
                  </a:lnTo>
                  <a:lnTo>
                    <a:pt x="0" y="717"/>
                  </a:lnTo>
                  <a:lnTo>
                    <a:pt x="0" y="712"/>
                  </a:lnTo>
                  <a:lnTo>
                    <a:pt x="0" y="705"/>
                  </a:lnTo>
                  <a:lnTo>
                    <a:pt x="0" y="700"/>
                  </a:lnTo>
                  <a:lnTo>
                    <a:pt x="0" y="692"/>
                  </a:lnTo>
                  <a:lnTo>
                    <a:pt x="0" y="685"/>
                  </a:lnTo>
                  <a:lnTo>
                    <a:pt x="0" y="680"/>
                  </a:lnTo>
                  <a:lnTo>
                    <a:pt x="0" y="670"/>
                  </a:lnTo>
                  <a:lnTo>
                    <a:pt x="0" y="665"/>
                  </a:lnTo>
                  <a:lnTo>
                    <a:pt x="0" y="655"/>
                  </a:lnTo>
                  <a:lnTo>
                    <a:pt x="0" y="650"/>
                  </a:lnTo>
                  <a:lnTo>
                    <a:pt x="0" y="643"/>
                  </a:lnTo>
                  <a:lnTo>
                    <a:pt x="0" y="635"/>
                  </a:lnTo>
                  <a:lnTo>
                    <a:pt x="0" y="628"/>
                  </a:lnTo>
                  <a:lnTo>
                    <a:pt x="0" y="620"/>
                  </a:lnTo>
                  <a:lnTo>
                    <a:pt x="0" y="613"/>
                  </a:lnTo>
                  <a:lnTo>
                    <a:pt x="0" y="605"/>
                  </a:lnTo>
                  <a:lnTo>
                    <a:pt x="0" y="595"/>
                  </a:lnTo>
                  <a:lnTo>
                    <a:pt x="0" y="588"/>
                  </a:lnTo>
                  <a:lnTo>
                    <a:pt x="0" y="580"/>
                  </a:lnTo>
                  <a:lnTo>
                    <a:pt x="3" y="573"/>
                  </a:lnTo>
                  <a:lnTo>
                    <a:pt x="3" y="566"/>
                  </a:lnTo>
                  <a:lnTo>
                    <a:pt x="3" y="558"/>
                  </a:lnTo>
                  <a:lnTo>
                    <a:pt x="3" y="551"/>
                  </a:lnTo>
                  <a:lnTo>
                    <a:pt x="3" y="543"/>
                  </a:lnTo>
                  <a:lnTo>
                    <a:pt x="3" y="536"/>
                  </a:lnTo>
                  <a:lnTo>
                    <a:pt x="5" y="528"/>
                  </a:lnTo>
                  <a:lnTo>
                    <a:pt x="5" y="521"/>
                  </a:lnTo>
                  <a:lnTo>
                    <a:pt x="5" y="516"/>
                  </a:lnTo>
                  <a:lnTo>
                    <a:pt x="5" y="506"/>
                  </a:lnTo>
                  <a:lnTo>
                    <a:pt x="8" y="499"/>
                  </a:lnTo>
                  <a:lnTo>
                    <a:pt x="8" y="494"/>
                  </a:lnTo>
                  <a:lnTo>
                    <a:pt x="10" y="489"/>
                  </a:lnTo>
                  <a:lnTo>
                    <a:pt x="10" y="481"/>
                  </a:lnTo>
                  <a:lnTo>
                    <a:pt x="10" y="474"/>
                  </a:lnTo>
                  <a:lnTo>
                    <a:pt x="10" y="469"/>
                  </a:lnTo>
                  <a:lnTo>
                    <a:pt x="13" y="461"/>
                  </a:lnTo>
                  <a:lnTo>
                    <a:pt x="15" y="451"/>
                  </a:lnTo>
                  <a:lnTo>
                    <a:pt x="18" y="442"/>
                  </a:lnTo>
                  <a:lnTo>
                    <a:pt x="20" y="434"/>
                  </a:lnTo>
                  <a:lnTo>
                    <a:pt x="25" y="427"/>
                  </a:lnTo>
                  <a:lnTo>
                    <a:pt x="28" y="419"/>
                  </a:lnTo>
                  <a:lnTo>
                    <a:pt x="30" y="414"/>
                  </a:lnTo>
                  <a:lnTo>
                    <a:pt x="32" y="409"/>
                  </a:lnTo>
                  <a:lnTo>
                    <a:pt x="35" y="407"/>
                  </a:lnTo>
                  <a:lnTo>
                    <a:pt x="42" y="402"/>
                  </a:lnTo>
                  <a:lnTo>
                    <a:pt x="47" y="402"/>
                  </a:lnTo>
                  <a:lnTo>
                    <a:pt x="52" y="404"/>
                  </a:lnTo>
                  <a:lnTo>
                    <a:pt x="60" y="412"/>
                  </a:lnTo>
                  <a:lnTo>
                    <a:pt x="60" y="414"/>
                  </a:lnTo>
                  <a:lnTo>
                    <a:pt x="65" y="419"/>
                  </a:lnTo>
                  <a:lnTo>
                    <a:pt x="65" y="427"/>
                  </a:lnTo>
                  <a:lnTo>
                    <a:pt x="70" y="432"/>
                  </a:lnTo>
                  <a:lnTo>
                    <a:pt x="70" y="437"/>
                  </a:lnTo>
                  <a:lnTo>
                    <a:pt x="72" y="444"/>
                  </a:lnTo>
                  <a:lnTo>
                    <a:pt x="75" y="451"/>
                  </a:lnTo>
                  <a:lnTo>
                    <a:pt x="77" y="459"/>
                  </a:lnTo>
                  <a:lnTo>
                    <a:pt x="80" y="466"/>
                  </a:lnTo>
                  <a:lnTo>
                    <a:pt x="82" y="474"/>
                  </a:lnTo>
                  <a:lnTo>
                    <a:pt x="85" y="484"/>
                  </a:lnTo>
                  <a:lnTo>
                    <a:pt x="87" y="494"/>
                  </a:lnTo>
                  <a:lnTo>
                    <a:pt x="90" y="501"/>
                  </a:lnTo>
                  <a:lnTo>
                    <a:pt x="92" y="509"/>
                  </a:lnTo>
                  <a:lnTo>
                    <a:pt x="94" y="518"/>
                  </a:lnTo>
                  <a:lnTo>
                    <a:pt x="97" y="528"/>
                  </a:lnTo>
                  <a:lnTo>
                    <a:pt x="99" y="536"/>
                  </a:lnTo>
                  <a:lnTo>
                    <a:pt x="102" y="546"/>
                  </a:lnTo>
                  <a:lnTo>
                    <a:pt x="104" y="556"/>
                  </a:lnTo>
                  <a:lnTo>
                    <a:pt x="107" y="566"/>
                  </a:lnTo>
                  <a:lnTo>
                    <a:pt x="109" y="571"/>
                  </a:lnTo>
                  <a:lnTo>
                    <a:pt x="112" y="578"/>
                  </a:lnTo>
                  <a:lnTo>
                    <a:pt x="112" y="580"/>
                  </a:lnTo>
                  <a:lnTo>
                    <a:pt x="114" y="583"/>
                  </a:lnTo>
                  <a:lnTo>
                    <a:pt x="117" y="580"/>
                  </a:lnTo>
                  <a:lnTo>
                    <a:pt x="119" y="578"/>
                  </a:lnTo>
                  <a:lnTo>
                    <a:pt x="119" y="573"/>
                  </a:lnTo>
                  <a:lnTo>
                    <a:pt x="122" y="568"/>
                  </a:lnTo>
                  <a:lnTo>
                    <a:pt x="124" y="558"/>
                  </a:lnTo>
                  <a:lnTo>
                    <a:pt x="124" y="551"/>
                  </a:lnTo>
                  <a:lnTo>
                    <a:pt x="127" y="541"/>
                  </a:lnTo>
                  <a:lnTo>
                    <a:pt x="129" y="528"/>
                  </a:lnTo>
                  <a:lnTo>
                    <a:pt x="129" y="523"/>
                  </a:lnTo>
                  <a:lnTo>
                    <a:pt x="129" y="516"/>
                  </a:lnTo>
                  <a:lnTo>
                    <a:pt x="129" y="511"/>
                  </a:lnTo>
                  <a:lnTo>
                    <a:pt x="132" y="504"/>
                  </a:lnTo>
                  <a:lnTo>
                    <a:pt x="132" y="496"/>
                  </a:lnTo>
                  <a:lnTo>
                    <a:pt x="132" y="491"/>
                  </a:lnTo>
                  <a:lnTo>
                    <a:pt x="134" y="484"/>
                  </a:lnTo>
                  <a:lnTo>
                    <a:pt x="137" y="476"/>
                  </a:lnTo>
                  <a:lnTo>
                    <a:pt x="137" y="469"/>
                  </a:lnTo>
                  <a:lnTo>
                    <a:pt x="137" y="461"/>
                  </a:lnTo>
                  <a:lnTo>
                    <a:pt x="137" y="454"/>
                  </a:lnTo>
                  <a:lnTo>
                    <a:pt x="139" y="446"/>
                  </a:lnTo>
                  <a:lnTo>
                    <a:pt x="139" y="439"/>
                  </a:lnTo>
                  <a:lnTo>
                    <a:pt x="142" y="432"/>
                  </a:lnTo>
                  <a:lnTo>
                    <a:pt x="142" y="424"/>
                  </a:lnTo>
                  <a:lnTo>
                    <a:pt x="144" y="417"/>
                  </a:lnTo>
                  <a:lnTo>
                    <a:pt x="144" y="409"/>
                  </a:lnTo>
                  <a:lnTo>
                    <a:pt x="147" y="402"/>
                  </a:lnTo>
                  <a:lnTo>
                    <a:pt x="147" y="394"/>
                  </a:lnTo>
                  <a:lnTo>
                    <a:pt x="149" y="387"/>
                  </a:lnTo>
                  <a:lnTo>
                    <a:pt x="152" y="379"/>
                  </a:lnTo>
                  <a:lnTo>
                    <a:pt x="154" y="372"/>
                  </a:lnTo>
                  <a:lnTo>
                    <a:pt x="154" y="367"/>
                  </a:lnTo>
                  <a:lnTo>
                    <a:pt x="159" y="360"/>
                  </a:lnTo>
                  <a:lnTo>
                    <a:pt x="159" y="352"/>
                  </a:lnTo>
                  <a:lnTo>
                    <a:pt x="161" y="347"/>
                  </a:lnTo>
                  <a:lnTo>
                    <a:pt x="164" y="340"/>
                  </a:lnTo>
                  <a:lnTo>
                    <a:pt x="166" y="335"/>
                  </a:lnTo>
                  <a:lnTo>
                    <a:pt x="171" y="322"/>
                  </a:lnTo>
                  <a:lnTo>
                    <a:pt x="179" y="312"/>
                  </a:lnTo>
                  <a:lnTo>
                    <a:pt x="184" y="305"/>
                  </a:lnTo>
                  <a:lnTo>
                    <a:pt x="191" y="298"/>
                  </a:lnTo>
                  <a:lnTo>
                    <a:pt x="196" y="293"/>
                  </a:lnTo>
                  <a:lnTo>
                    <a:pt x="206" y="288"/>
                  </a:lnTo>
                  <a:lnTo>
                    <a:pt x="211" y="285"/>
                  </a:lnTo>
                  <a:lnTo>
                    <a:pt x="219" y="285"/>
                  </a:lnTo>
                  <a:lnTo>
                    <a:pt x="221" y="285"/>
                  </a:lnTo>
                  <a:lnTo>
                    <a:pt x="226" y="288"/>
                  </a:lnTo>
                  <a:lnTo>
                    <a:pt x="228" y="293"/>
                  </a:lnTo>
                  <a:lnTo>
                    <a:pt x="231" y="298"/>
                  </a:lnTo>
                  <a:lnTo>
                    <a:pt x="231" y="303"/>
                  </a:lnTo>
                  <a:lnTo>
                    <a:pt x="233" y="312"/>
                  </a:lnTo>
                  <a:lnTo>
                    <a:pt x="233" y="320"/>
                  </a:lnTo>
                  <a:lnTo>
                    <a:pt x="231" y="330"/>
                  </a:lnTo>
                  <a:lnTo>
                    <a:pt x="231" y="332"/>
                  </a:lnTo>
                  <a:lnTo>
                    <a:pt x="231" y="337"/>
                  </a:lnTo>
                  <a:lnTo>
                    <a:pt x="231" y="345"/>
                  </a:lnTo>
                  <a:lnTo>
                    <a:pt x="231" y="350"/>
                  </a:lnTo>
                  <a:lnTo>
                    <a:pt x="228" y="355"/>
                  </a:lnTo>
                  <a:lnTo>
                    <a:pt x="228" y="362"/>
                  </a:lnTo>
                  <a:lnTo>
                    <a:pt x="226" y="367"/>
                  </a:lnTo>
                  <a:lnTo>
                    <a:pt x="226" y="375"/>
                  </a:lnTo>
                  <a:lnTo>
                    <a:pt x="226" y="379"/>
                  </a:lnTo>
                  <a:lnTo>
                    <a:pt x="223" y="387"/>
                  </a:lnTo>
                  <a:lnTo>
                    <a:pt x="223" y="392"/>
                  </a:lnTo>
                  <a:lnTo>
                    <a:pt x="223" y="399"/>
                  </a:lnTo>
                  <a:lnTo>
                    <a:pt x="221" y="407"/>
                  </a:lnTo>
                  <a:lnTo>
                    <a:pt x="219" y="412"/>
                  </a:lnTo>
                  <a:lnTo>
                    <a:pt x="219" y="419"/>
                  </a:lnTo>
                  <a:lnTo>
                    <a:pt x="219" y="424"/>
                  </a:lnTo>
                  <a:lnTo>
                    <a:pt x="216" y="432"/>
                  </a:lnTo>
                  <a:lnTo>
                    <a:pt x="214" y="439"/>
                  </a:lnTo>
                  <a:lnTo>
                    <a:pt x="214" y="444"/>
                  </a:lnTo>
                  <a:lnTo>
                    <a:pt x="214" y="451"/>
                  </a:lnTo>
                  <a:lnTo>
                    <a:pt x="211" y="456"/>
                  </a:lnTo>
                  <a:lnTo>
                    <a:pt x="211" y="461"/>
                  </a:lnTo>
                  <a:lnTo>
                    <a:pt x="209" y="469"/>
                  </a:lnTo>
                  <a:lnTo>
                    <a:pt x="209" y="474"/>
                  </a:lnTo>
                  <a:lnTo>
                    <a:pt x="209" y="481"/>
                  </a:lnTo>
                  <a:lnTo>
                    <a:pt x="209" y="489"/>
                  </a:lnTo>
                  <a:lnTo>
                    <a:pt x="209" y="494"/>
                  </a:lnTo>
                  <a:lnTo>
                    <a:pt x="209" y="499"/>
                  </a:lnTo>
                  <a:lnTo>
                    <a:pt x="209" y="509"/>
                  </a:lnTo>
                  <a:lnTo>
                    <a:pt x="209" y="518"/>
                  </a:lnTo>
                  <a:lnTo>
                    <a:pt x="211" y="528"/>
                  </a:lnTo>
                  <a:lnTo>
                    <a:pt x="214" y="536"/>
                  </a:lnTo>
                  <a:lnTo>
                    <a:pt x="216" y="543"/>
                  </a:lnTo>
                  <a:lnTo>
                    <a:pt x="221" y="548"/>
                  </a:lnTo>
                  <a:lnTo>
                    <a:pt x="226" y="553"/>
                  </a:lnTo>
                  <a:lnTo>
                    <a:pt x="233" y="558"/>
                  </a:lnTo>
                  <a:lnTo>
                    <a:pt x="238" y="558"/>
                  </a:lnTo>
                  <a:lnTo>
                    <a:pt x="243" y="558"/>
                  </a:lnTo>
                  <a:lnTo>
                    <a:pt x="248" y="558"/>
                  </a:lnTo>
                  <a:lnTo>
                    <a:pt x="253" y="556"/>
                  </a:lnTo>
                  <a:lnTo>
                    <a:pt x="256" y="551"/>
                  </a:lnTo>
                  <a:lnTo>
                    <a:pt x="261" y="543"/>
                  </a:lnTo>
                  <a:lnTo>
                    <a:pt x="263" y="536"/>
                  </a:lnTo>
                  <a:lnTo>
                    <a:pt x="268" y="528"/>
                  </a:lnTo>
                  <a:lnTo>
                    <a:pt x="271" y="518"/>
                  </a:lnTo>
                  <a:lnTo>
                    <a:pt x="273" y="511"/>
                  </a:lnTo>
                  <a:lnTo>
                    <a:pt x="273" y="504"/>
                  </a:lnTo>
                  <a:lnTo>
                    <a:pt x="276" y="499"/>
                  </a:lnTo>
                  <a:lnTo>
                    <a:pt x="276" y="494"/>
                  </a:lnTo>
                  <a:lnTo>
                    <a:pt x="278" y="489"/>
                  </a:lnTo>
                  <a:lnTo>
                    <a:pt x="278" y="481"/>
                  </a:lnTo>
                  <a:lnTo>
                    <a:pt x="278" y="474"/>
                  </a:lnTo>
                  <a:lnTo>
                    <a:pt x="278" y="469"/>
                  </a:lnTo>
                  <a:lnTo>
                    <a:pt x="281" y="461"/>
                  </a:lnTo>
                  <a:lnTo>
                    <a:pt x="281" y="456"/>
                  </a:lnTo>
                  <a:lnTo>
                    <a:pt x="283" y="449"/>
                  </a:lnTo>
                  <a:lnTo>
                    <a:pt x="283" y="442"/>
                  </a:lnTo>
                  <a:lnTo>
                    <a:pt x="285" y="437"/>
                  </a:lnTo>
                  <a:lnTo>
                    <a:pt x="285" y="427"/>
                  </a:lnTo>
                  <a:lnTo>
                    <a:pt x="285" y="422"/>
                  </a:lnTo>
                  <a:lnTo>
                    <a:pt x="285" y="414"/>
                  </a:lnTo>
                  <a:lnTo>
                    <a:pt x="288" y="407"/>
                  </a:lnTo>
                  <a:lnTo>
                    <a:pt x="288" y="397"/>
                  </a:lnTo>
                  <a:lnTo>
                    <a:pt x="288" y="392"/>
                  </a:lnTo>
                  <a:lnTo>
                    <a:pt x="290" y="384"/>
                  </a:lnTo>
                  <a:lnTo>
                    <a:pt x="290" y="377"/>
                  </a:lnTo>
                  <a:lnTo>
                    <a:pt x="290" y="370"/>
                  </a:lnTo>
                  <a:lnTo>
                    <a:pt x="290" y="362"/>
                  </a:lnTo>
                  <a:lnTo>
                    <a:pt x="293" y="355"/>
                  </a:lnTo>
                  <a:lnTo>
                    <a:pt x="293" y="350"/>
                  </a:lnTo>
                  <a:lnTo>
                    <a:pt x="295" y="342"/>
                  </a:lnTo>
                  <a:lnTo>
                    <a:pt x="295" y="335"/>
                  </a:lnTo>
                  <a:lnTo>
                    <a:pt x="298" y="330"/>
                  </a:lnTo>
                  <a:lnTo>
                    <a:pt x="300" y="322"/>
                  </a:lnTo>
                  <a:lnTo>
                    <a:pt x="300" y="315"/>
                  </a:lnTo>
                  <a:lnTo>
                    <a:pt x="303" y="308"/>
                  </a:lnTo>
                  <a:lnTo>
                    <a:pt x="303" y="303"/>
                  </a:lnTo>
                  <a:lnTo>
                    <a:pt x="305" y="295"/>
                  </a:lnTo>
                  <a:lnTo>
                    <a:pt x="308" y="290"/>
                  </a:lnTo>
                  <a:lnTo>
                    <a:pt x="308" y="283"/>
                  </a:lnTo>
                  <a:lnTo>
                    <a:pt x="310" y="278"/>
                  </a:lnTo>
                  <a:lnTo>
                    <a:pt x="315" y="273"/>
                  </a:lnTo>
                  <a:lnTo>
                    <a:pt x="318" y="263"/>
                  </a:lnTo>
                  <a:lnTo>
                    <a:pt x="323" y="255"/>
                  </a:lnTo>
                  <a:lnTo>
                    <a:pt x="330" y="245"/>
                  </a:lnTo>
                  <a:lnTo>
                    <a:pt x="338" y="241"/>
                  </a:lnTo>
                  <a:lnTo>
                    <a:pt x="343" y="233"/>
                  </a:lnTo>
                  <a:lnTo>
                    <a:pt x="347" y="228"/>
                  </a:lnTo>
                  <a:lnTo>
                    <a:pt x="352" y="226"/>
                  </a:lnTo>
                  <a:lnTo>
                    <a:pt x="357" y="223"/>
                  </a:lnTo>
                  <a:lnTo>
                    <a:pt x="367" y="223"/>
                  </a:lnTo>
                  <a:lnTo>
                    <a:pt x="377" y="228"/>
                  </a:lnTo>
                  <a:lnTo>
                    <a:pt x="380" y="231"/>
                  </a:lnTo>
                  <a:lnTo>
                    <a:pt x="385" y="233"/>
                  </a:lnTo>
                  <a:lnTo>
                    <a:pt x="387" y="241"/>
                  </a:lnTo>
                  <a:lnTo>
                    <a:pt x="392" y="245"/>
                  </a:lnTo>
                  <a:lnTo>
                    <a:pt x="395" y="253"/>
                  </a:lnTo>
                  <a:lnTo>
                    <a:pt x="397" y="260"/>
                  </a:lnTo>
                  <a:lnTo>
                    <a:pt x="400" y="270"/>
                  </a:lnTo>
                  <a:lnTo>
                    <a:pt x="405" y="278"/>
                  </a:lnTo>
                  <a:lnTo>
                    <a:pt x="405" y="288"/>
                  </a:lnTo>
                  <a:lnTo>
                    <a:pt x="407" y="298"/>
                  </a:lnTo>
                  <a:lnTo>
                    <a:pt x="407" y="300"/>
                  </a:lnTo>
                  <a:lnTo>
                    <a:pt x="410" y="308"/>
                  </a:lnTo>
                  <a:lnTo>
                    <a:pt x="410" y="312"/>
                  </a:lnTo>
                  <a:lnTo>
                    <a:pt x="412" y="320"/>
                  </a:lnTo>
                  <a:lnTo>
                    <a:pt x="412" y="330"/>
                  </a:lnTo>
                  <a:lnTo>
                    <a:pt x="414" y="340"/>
                  </a:lnTo>
                  <a:lnTo>
                    <a:pt x="414" y="347"/>
                  </a:lnTo>
                  <a:lnTo>
                    <a:pt x="417" y="352"/>
                  </a:lnTo>
                  <a:lnTo>
                    <a:pt x="417" y="360"/>
                  </a:lnTo>
                  <a:lnTo>
                    <a:pt x="417" y="365"/>
                  </a:lnTo>
                  <a:lnTo>
                    <a:pt x="417" y="370"/>
                  </a:lnTo>
                  <a:lnTo>
                    <a:pt x="417" y="377"/>
                  </a:lnTo>
                  <a:lnTo>
                    <a:pt x="417" y="382"/>
                  </a:lnTo>
                  <a:lnTo>
                    <a:pt x="419" y="389"/>
                  </a:lnTo>
                  <a:lnTo>
                    <a:pt x="419" y="394"/>
                  </a:lnTo>
                  <a:lnTo>
                    <a:pt x="419" y="402"/>
                  </a:lnTo>
                  <a:lnTo>
                    <a:pt x="419" y="407"/>
                  </a:lnTo>
                  <a:lnTo>
                    <a:pt x="422" y="414"/>
                  </a:lnTo>
                  <a:lnTo>
                    <a:pt x="422" y="419"/>
                  </a:lnTo>
                  <a:lnTo>
                    <a:pt x="422" y="427"/>
                  </a:lnTo>
                  <a:lnTo>
                    <a:pt x="422" y="432"/>
                  </a:lnTo>
                  <a:lnTo>
                    <a:pt x="422" y="439"/>
                  </a:lnTo>
                  <a:lnTo>
                    <a:pt x="422" y="444"/>
                  </a:lnTo>
                  <a:lnTo>
                    <a:pt x="424" y="451"/>
                  </a:lnTo>
                  <a:lnTo>
                    <a:pt x="424" y="456"/>
                  </a:lnTo>
                  <a:lnTo>
                    <a:pt x="424" y="461"/>
                  </a:lnTo>
                  <a:lnTo>
                    <a:pt x="424" y="474"/>
                  </a:lnTo>
                  <a:lnTo>
                    <a:pt x="427" y="484"/>
                  </a:lnTo>
                  <a:lnTo>
                    <a:pt x="427" y="494"/>
                  </a:lnTo>
                  <a:lnTo>
                    <a:pt x="429" y="504"/>
                  </a:lnTo>
                  <a:lnTo>
                    <a:pt x="429" y="513"/>
                  </a:lnTo>
                  <a:lnTo>
                    <a:pt x="432" y="523"/>
                  </a:lnTo>
                  <a:lnTo>
                    <a:pt x="434" y="531"/>
                  </a:lnTo>
                  <a:lnTo>
                    <a:pt x="437" y="538"/>
                  </a:lnTo>
                  <a:lnTo>
                    <a:pt x="439" y="546"/>
                  </a:lnTo>
                  <a:lnTo>
                    <a:pt x="442" y="553"/>
                  </a:lnTo>
                  <a:lnTo>
                    <a:pt x="444" y="561"/>
                  </a:lnTo>
                  <a:lnTo>
                    <a:pt x="447" y="568"/>
                  </a:lnTo>
                  <a:lnTo>
                    <a:pt x="452" y="576"/>
                  </a:lnTo>
                  <a:lnTo>
                    <a:pt x="454" y="583"/>
                  </a:lnTo>
                  <a:lnTo>
                    <a:pt x="457" y="588"/>
                  </a:lnTo>
                  <a:lnTo>
                    <a:pt x="459" y="595"/>
                  </a:lnTo>
                  <a:lnTo>
                    <a:pt x="464" y="603"/>
                  </a:lnTo>
                  <a:lnTo>
                    <a:pt x="467" y="610"/>
                  </a:lnTo>
                  <a:lnTo>
                    <a:pt x="469" y="618"/>
                  </a:lnTo>
                  <a:lnTo>
                    <a:pt x="472" y="625"/>
                  </a:lnTo>
                  <a:lnTo>
                    <a:pt x="476" y="633"/>
                  </a:lnTo>
                  <a:lnTo>
                    <a:pt x="479" y="640"/>
                  </a:lnTo>
                  <a:lnTo>
                    <a:pt x="481" y="650"/>
                  </a:lnTo>
                  <a:lnTo>
                    <a:pt x="486" y="657"/>
                  </a:lnTo>
                  <a:lnTo>
                    <a:pt x="489" y="667"/>
                  </a:lnTo>
                  <a:lnTo>
                    <a:pt x="491" y="675"/>
                  </a:lnTo>
                  <a:lnTo>
                    <a:pt x="494" y="685"/>
                  </a:lnTo>
                  <a:lnTo>
                    <a:pt x="496" y="697"/>
                  </a:lnTo>
                  <a:lnTo>
                    <a:pt x="499" y="702"/>
                  </a:lnTo>
                  <a:lnTo>
                    <a:pt x="499" y="707"/>
                  </a:lnTo>
                  <a:lnTo>
                    <a:pt x="501" y="714"/>
                  </a:lnTo>
                  <a:lnTo>
                    <a:pt x="504" y="719"/>
                  </a:lnTo>
                  <a:lnTo>
                    <a:pt x="504" y="727"/>
                  </a:lnTo>
                  <a:lnTo>
                    <a:pt x="506" y="732"/>
                  </a:lnTo>
                  <a:lnTo>
                    <a:pt x="506" y="739"/>
                  </a:lnTo>
                  <a:lnTo>
                    <a:pt x="509" y="747"/>
                  </a:lnTo>
                  <a:lnTo>
                    <a:pt x="509" y="752"/>
                  </a:lnTo>
                  <a:lnTo>
                    <a:pt x="511" y="759"/>
                  </a:lnTo>
                  <a:lnTo>
                    <a:pt x="511" y="764"/>
                  </a:lnTo>
                  <a:lnTo>
                    <a:pt x="514" y="772"/>
                  </a:lnTo>
                  <a:lnTo>
                    <a:pt x="516" y="777"/>
                  </a:lnTo>
                  <a:lnTo>
                    <a:pt x="516" y="784"/>
                  </a:lnTo>
                  <a:lnTo>
                    <a:pt x="519" y="789"/>
                  </a:lnTo>
                  <a:lnTo>
                    <a:pt x="521" y="796"/>
                  </a:lnTo>
                  <a:lnTo>
                    <a:pt x="524" y="806"/>
                  </a:lnTo>
                  <a:lnTo>
                    <a:pt x="531" y="816"/>
                  </a:lnTo>
                  <a:lnTo>
                    <a:pt x="534" y="826"/>
                  </a:lnTo>
                  <a:lnTo>
                    <a:pt x="541" y="836"/>
                  </a:lnTo>
                  <a:lnTo>
                    <a:pt x="546" y="844"/>
                  </a:lnTo>
                  <a:lnTo>
                    <a:pt x="551" y="853"/>
                  </a:lnTo>
                  <a:lnTo>
                    <a:pt x="556" y="858"/>
                  </a:lnTo>
                  <a:lnTo>
                    <a:pt x="561" y="868"/>
                  </a:lnTo>
                  <a:lnTo>
                    <a:pt x="566" y="873"/>
                  </a:lnTo>
                  <a:lnTo>
                    <a:pt x="573" y="881"/>
                  </a:lnTo>
                  <a:lnTo>
                    <a:pt x="578" y="888"/>
                  </a:lnTo>
                  <a:lnTo>
                    <a:pt x="583" y="893"/>
                  </a:lnTo>
                  <a:lnTo>
                    <a:pt x="596" y="903"/>
                  </a:lnTo>
                  <a:lnTo>
                    <a:pt x="605" y="911"/>
                  </a:lnTo>
                  <a:lnTo>
                    <a:pt x="613" y="918"/>
                  </a:lnTo>
                  <a:lnTo>
                    <a:pt x="623" y="923"/>
                  </a:lnTo>
                  <a:lnTo>
                    <a:pt x="630" y="925"/>
                  </a:lnTo>
                  <a:lnTo>
                    <a:pt x="635" y="930"/>
                  </a:lnTo>
                  <a:lnTo>
                    <a:pt x="638" y="930"/>
                  </a:lnTo>
                  <a:lnTo>
                    <a:pt x="640" y="933"/>
                  </a:lnTo>
                  <a:lnTo>
                    <a:pt x="705" y="484"/>
                  </a:lnTo>
                  <a:lnTo>
                    <a:pt x="705" y="481"/>
                  </a:lnTo>
                  <a:lnTo>
                    <a:pt x="705" y="479"/>
                  </a:lnTo>
                  <a:lnTo>
                    <a:pt x="705" y="474"/>
                  </a:lnTo>
                  <a:lnTo>
                    <a:pt x="707" y="469"/>
                  </a:lnTo>
                  <a:lnTo>
                    <a:pt x="710" y="459"/>
                  </a:lnTo>
                  <a:lnTo>
                    <a:pt x="715" y="451"/>
                  </a:lnTo>
                  <a:lnTo>
                    <a:pt x="715" y="444"/>
                  </a:lnTo>
                  <a:lnTo>
                    <a:pt x="717" y="439"/>
                  </a:lnTo>
                  <a:lnTo>
                    <a:pt x="720" y="434"/>
                  </a:lnTo>
                  <a:lnTo>
                    <a:pt x="725" y="429"/>
                  </a:lnTo>
                  <a:lnTo>
                    <a:pt x="727" y="422"/>
                  </a:lnTo>
                  <a:lnTo>
                    <a:pt x="729" y="414"/>
                  </a:lnTo>
                  <a:lnTo>
                    <a:pt x="732" y="409"/>
                  </a:lnTo>
                  <a:lnTo>
                    <a:pt x="737" y="402"/>
                  </a:lnTo>
                  <a:lnTo>
                    <a:pt x="739" y="392"/>
                  </a:lnTo>
                  <a:lnTo>
                    <a:pt x="744" y="384"/>
                  </a:lnTo>
                  <a:lnTo>
                    <a:pt x="747" y="377"/>
                  </a:lnTo>
                  <a:lnTo>
                    <a:pt x="752" y="370"/>
                  </a:lnTo>
                  <a:lnTo>
                    <a:pt x="757" y="360"/>
                  </a:lnTo>
                  <a:lnTo>
                    <a:pt x="762" y="352"/>
                  </a:lnTo>
                  <a:lnTo>
                    <a:pt x="767" y="342"/>
                  </a:lnTo>
                  <a:lnTo>
                    <a:pt x="772" y="335"/>
                  </a:lnTo>
                  <a:lnTo>
                    <a:pt x="779" y="325"/>
                  </a:lnTo>
                  <a:lnTo>
                    <a:pt x="784" y="317"/>
                  </a:lnTo>
                  <a:lnTo>
                    <a:pt x="791" y="308"/>
                  </a:lnTo>
                  <a:lnTo>
                    <a:pt x="799" y="300"/>
                  </a:lnTo>
                  <a:lnTo>
                    <a:pt x="804" y="288"/>
                  </a:lnTo>
                  <a:lnTo>
                    <a:pt x="811" y="278"/>
                  </a:lnTo>
                  <a:lnTo>
                    <a:pt x="816" y="268"/>
                  </a:lnTo>
                  <a:lnTo>
                    <a:pt x="826" y="260"/>
                  </a:lnTo>
                  <a:lnTo>
                    <a:pt x="834" y="248"/>
                  </a:lnTo>
                  <a:lnTo>
                    <a:pt x="841" y="241"/>
                  </a:lnTo>
                  <a:lnTo>
                    <a:pt x="851" y="228"/>
                  </a:lnTo>
                  <a:lnTo>
                    <a:pt x="858" y="221"/>
                  </a:lnTo>
                  <a:lnTo>
                    <a:pt x="868" y="211"/>
                  </a:lnTo>
                  <a:lnTo>
                    <a:pt x="876" y="198"/>
                  </a:lnTo>
                  <a:lnTo>
                    <a:pt x="888" y="188"/>
                  </a:lnTo>
                  <a:lnTo>
                    <a:pt x="898" y="181"/>
                  </a:lnTo>
                  <a:lnTo>
                    <a:pt x="908" y="169"/>
                  </a:lnTo>
                  <a:lnTo>
                    <a:pt x="918" y="159"/>
                  </a:lnTo>
                  <a:lnTo>
                    <a:pt x="930" y="151"/>
                  </a:lnTo>
                  <a:lnTo>
                    <a:pt x="943" y="141"/>
                  </a:lnTo>
                  <a:lnTo>
                    <a:pt x="953" y="131"/>
                  </a:lnTo>
                  <a:lnTo>
                    <a:pt x="965" y="119"/>
                  </a:lnTo>
                  <a:lnTo>
                    <a:pt x="978" y="111"/>
                  </a:lnTo>
                  <a:lnTo>
                    <a:pt x="992" y="102"/>
                  </a:lnTo>
                  <a:lnTo>
                    <a:pt x="1005" y="92"/>
                  </a:lnTo>
                  <a:lnTo>
                    <a:pt x="1020" y="84"/>
                  </a:lnTo>
                  <a:lnTo>
                    <a:pt x="1032" y="74"/>
                  </a:lnTo>
                  <a:lnTo>
                    <a:pt x="1047" y="67"/>
                  </a:lnTo>
                  <a:lnTo>
                    <a:pt x="1062" y="57"/>
                  </a:lnTo>
                  <a:lnTo>
                    <a:pt x="1077" y="47"/>
                  </a:lnTo>
                  <a:lnTo>
                    <a:pt x="1092" y="40"/>
                  </a:lnTo>
                  <a:lnTo>
                    <a:pt x="1109" y="32"/>
                  </a:lnTo>
                  <a:lnTo>
                    <a:pt x="1124" y="22"/>
                  </a:lnTo>
                  <a:lnTo>
                    <a:pt x="1141" y="15"/>
                  </a:lnTo>
                  <a:lnTo>
                    <a:pt x="1159" y="7"/>
                  </a:lnTo>
                  <a:lnTo>
                    <a:pt x="1178" y="2"/>
                  </a:lnTo>
                  <a:lnTo>
                    <a:pt x="1181" y="0"/>
                  </a:lnTo>
                  <a:lnTo>
                    <a:pt x="1191" y="2"/>
                  </a:lnTo>
                  <a:lnTo>
                    <a:pt x="1196" y="2"/>
                  </a:lnTo>
                  <a:lnTo>
                    <a:pt x="1203" y="5"/>
                  </a:lnTo>
                  <a:lnTo>
                    <a:pt x="1213" y="5"/>
                  </a:lnTo>
                  <a:lnTo>
                    <a:pt x="1223" y="10"/>
                  </a:lnTo>
                  <a:lnTo>
                    <a:pt x="1228" y="10"/>
                  </a:lnTo>
                  <a:lnTo>
                    <a:pt x="1233" y="12"/>
                  </a:lnTo>
                  <a:lnTo>
                    <a:pt x="1240" y="12"/>
                  </a:lnTo>
                  <a:lnTo>
                    <a:pt x="1245" y="15"/>
                  </a:lnTo>
                  <a:lnTo>
                    <a:pt x="1250" y="15"/>
                  </a:lnTo>
                  <a:lnTo>
                    <a:pt x="1258" y="20"/>
                  </a:lnTo>
                  <a:lnTo>
                    <a:pt x="1265" y="20"/>
                  </a:lnTo>
                  <a:lnTo>
                    <a:pt x="1273" y="22"/>
                  </a:lnTo>
                  <a:lnTo>
                    <a:pt x="1280" y="25"/>
                  </a:lnTo>
                  <a:lnTo>
                    <a:pt x="1288" y="27"/>
                  </a:lnTo>
                  <a:lnTo>
                    <a:pt x="1295" y="30"/>
                  </a:lnTo>
                  <a:lnTo>
                    <a:pt x="1305" y="32"/>
                  </a:lnTo>
                  <a:lnTo>
                    <a:pt x="1315" y="35"/>
                  </a:lnTo>
                  <a:lnTo>
                    <a:pt x="1322" y="37"/>
                  </a:lnTo>
                  <a:lnTo>
                    <a:pt x="1332" y="42"/>
                  </a:lnTo>
                  <a:lnTo>
                    <a:pt x="1342" y="44"/>
                  </a:lnTo>
                  <a:lnTo>
                    <a:pt x="1352" y="47"/>
                  </a:lnTo>
                  <a:lnTo>
                    <a:pt x="1362" y="49"/>
                  </a:lnTo>
                  <a:lnTo>
                    <a:pt x="1372" y="52"/>
                  </a:lnTo>
                  <a:lnTo>
                    <a:pt x="1384" y="54"/>
                  </a:lnTo>
                  <a:lnTo>
                    <a:pt x="1394" y="59"/>
                  </a:lnTo>
                  <a:lnTo>
                    <a:pt x="1407" y="62"/>
                  </a:lnTo>
                  <a:lnTo>
                    <a:pt x="1419" y="67"/>
                  </a:lnTo>
                  <a:lnTo>
                    <a:pt x="1431" y="72"/>
                  </a:lnTo>
                  <a:lnTo>
                    <a:pt x="1444" y="74"/>
                  </a:lnTo>
                  <a:lnTo>
                    <a:pt x="1456" y="79"/>
                  </a:lnTo>
                  <a:lnTo>
                    <a:pt x="1469" y="82"/>
                  </a:lnTo>
                  <a:lnTo>
                    <a:pt x="1484" y="87"/>
                  </a:lnTo>
                  <a:lnTo>
                    <a:pt x="1496" y="92"/>
                  </a:lnTo>
                  <a:lnTo>
                    <a:pt x="1511" y="97"/>
                  </a:lnTo>
                  <a:lnTo>
                    <a:pt x="1526" y="99"/>
                  </a:lnTo>
                  <a:lnTo>
                    <a:pt x="1541" y="104"/>
                  </a:lnTo>
                  <a:lnTo>
                    <a:pt x="1555" y="109"/>
                  </a:lnTo>
                  <a:lnTo>
                    <a:pt x="1570" y="114"/>
                  </a:lnTo>
                  <a:lnTo>
                    <a:pt x="1585" y="119"/>
                  </a:lnTo>
                  <a:lnTo>
                    <a:pt x="1603" y="124"/>
                  </a:lnTo>
                  <a:lnTo>
                    <a:pt x="1617" y="129"/>
                  </a:lnTo>
                  <a:lnTo>
                    <a:pt x="1635" y="134"/>
                  </a:lnTo>
                  <a:lnTo>
                    <a:pt x="1652" y="139"/>
                  </a:lnTo>
                  <a:lnTo>
                    <a:pt x="1670" y="146"/>
                  </a:lnTo>
                  <a:lnTo>
                    <a:pt x="1687" y="151"/>
                  </a:lnTo>
                  <a:lnTo>
                    <a:pt x="1707" y="156"/>
                  </a:lnTo>
                  <a:lnTo>
                    <a:pt x="1724" y="164"/>
                  </a:lnTo>
                  <a:lnTo>
                    <a:pt x="1744" y="169"/>
                  </a:lnTo>
                  <a:lnTo>
                    <a:pt x="1761" y="176"/>
                  </a:lnTo>
                  <a:lnTo>
                    <a:pt x="1781" y="181"/>
                  </a:lnTo>
                  <a:lnTo>
                    <a:pt x="1801" y="188"/>
                  </a:lnTo>
                  <a:lnTo>
                    <a:pt x="1823" y="196"/>
                  </a:lnTo>
                  <a:lnTo>
                    <a:pt x="1843" y="201"/>
                  </a:lnTo>
                  <a:lnTo>
                    <a:pt x="1863" y="206"/>
                  </a:lnTo>
                  <a:lnTo>
                    <a:pt x="1880" y="213"/>
                  </a:lnTo>
                  <a:lnTo>
                    <a:pt x="1900" y="218"/>
                  </a:lnTo>
                  <a:lnTo>
                    <a:pt x="1918" y="226"/>
                  </a:lnTo>
                  <a:lnTo>
                    <a:pt x="1935" y="231"/>
                  </a:lnTo>
                  <a:lnTo>
                    <a:pt x="1952" y="238"/>
                  </a:lnTo>
                  <a:lnTo>
                    <a:pt x="1970" y="243"/>
                  </a:lnTo>
                  <a:lnTo>
                    <a:pt x="1985" y="248"/>
                  </a:lnTo>
                  <a:lnTo>
                    <a:pt x="2002" y="255"/>
                  </a:lnTo>
                  <a:lnTo>
                    <a:pt x="2017" y="260"/>
                  </a:lnTo>
                  <a:lnTo>
                    <a:pt x="2032" y="268"/>
                  </a:lnTo>
                  <a:lnTo>
                    <a:pt x="2047" y="273"/>
                  </a:lnTo>
                  <a:lnTo>
                    <a:pt x="2061" y="278"/>
                  </a:lnTo>
                  <a:lnTo>
                    <a:pt x="2074" y="283"/>
                  </a:lnTo>
                  <a:lnTo>
                    <a:pt x="2089" y="290"/>
                  </a:lnTo>
                  <a:lnTo>
                    <a:pt x="2101" y="295"/>
                  </a:lnTo>
                  <a:lnTo>
                    <a:pt x="2114" y="300"/>
                  </a:lnTo>
                  <a:lnTo>
                    <a:pt x="2126" y="305"/>
                  </a:lnTo>
                  <a:lnTo>
                    <a:pt x="2138" y="310"/>
                  </a:lnTo>
                  <a:lnTo>
                    <a:pt x="2148" y="312"/>
                  </a:lnTo>
                  <a:lnTo>
                    <a:pt x="2161" y="320"/>
                  </a:lnTo>
                  <a:lnTo>
                    <a:pt x="2171" y="325"/>
                  </a:lnTo>
                  <a:lnTo>
                    <a:pt x="2183" y="330"/>
                  </a:lnTo>
                  <a:lnTo>
                    <a:pt x="2193" y="332"/>
                  </a:lnTo>
                  <a:lnTo>
                    <a:pt x="2203" y="337"/>
                  </a:lnTo>
                  <a:lnTo>
                    <a:pt x="2213" y="342"/>
                  </a:lnTo>
                  <a:lnTo>
                    <a:pt x="2220" y="347"/>
                  </a:lnTo>
                  <a:lnTo>
                    <a:pt x="2230" y="352"/>
                  </a:lnTo>
                  <a:lnTo>
                    <a:pt x="2238" y="357"/>
                  </a:lnTo>
                  <a:lnTo>
                    <a:pt x="2247" y="360"/>
                  </a:lnTo>
                  <a:lnTo>
                    <a:pt x="2255" y="367"/>
                  </a:lnTo>
                  <a:lnTo>
                    <a:pt x="2262" y="370"/>
                  </a:lnTo>
                  <a:lnTo>
                    <a:pt x="2270" y="375"/>
                  </a:lnTo>
                  <a:lnTo>
                    <a:pt x="2275" y="377"/>
                  </a:lnTo>
                  <a:lnTo>
                    <a:pt x="2282" y="379"/>
                  </a:lnTo>
                  <a:lnTo>
                    <a:pt x="2290" y="384"/>
                  </a:lnTo>
                  <a:lnTo>
                    <a:pt x="2295" y="387"/>
                  </a:lnTo>
                  <a:lnTo>
                    <a:pt x="2300" y="392"/>
                  </a:lnTo>
                  <a:lnTo>
                    <a:pt x="2307" y="397"/>
                  </a:lnTo>
                  <a:lnTo>
                    <a:pt x="2317" y="402"/>
                  </a:lnTo>
                  <a:lnTo>
                    <a:pt x="2327" y="409"/>
                  </a:lnTo>
                  <a:lnTo>
                    <a:pt x="2337" y="414"/>
                  </a:lnTo>
                  <a:lnTo>
                    <a:pt x="2344" y="422"/>
                  </a:lnTo>
                  <a:lnTo>
                    <a:pt x="2352" y="427"/>
                  </a:lnTo>
                  <a:lnTo>
                    <a:pt x="2359" y="432"/>
                  </a:lnTo>
                  <a:lnTo>
                    <a:pt x="2367" y="437"/>
                  </a:lnTo>
                  <a:lnTo>
                    <a:pt x="2371" y="442"/>
                  </a:lnTo>
                  <a:lnTo>
                    <a:pt x="2381" y="449"/>
                  </a:lnTo>
                  <a:lnTo>
                    <a:pt x="2389" y="456"/>
                  </a:lnTo>
                  <a:lnTo>
                    <a:pt x="2394" y="459"/>
                  </a:lnTo>
                  <a:lnTo>
                    <a:pt x="2399" y="466"/>
                  </a:lnTo>
                  <a:lnTo>
                    <a:pt x="2401" y="469"/>
                  </a:lnTo>
                  <a:lnTo>
                    <a:pt x="2406" y="474"/>
                  </a:lnTo>
                  <a:lnTo>
                    <a:pt x="2409" y="479"/>
                  </a:lnTo>
                  <a:lnTo>
                    <a:pt x="2414" y="484"/>
                  </a:lnTo>
                  <a:lnTo>
                    <a:pt x="2416" y="489"/>
                  </a:lnTo>
                  <a:lnTo>
                    <a:pt x="2421" y="496"/>
                  </a:lnTo>
                  <a:lnTo>
                    <a:pt x="2426" y="501"/>
                  </a:lnTo>
                  <a:lnTo>
                    <a:pt x="2431" y="511"/>
                  </a:lnTo>
                  <a:lnTo>
                    <a:pt x="2434" y="516"/>
                  </a:lnTo>
                  <a:lnTo>
                    <a:pt x="2438" y="523"/>
                  </a:lnTo>
                  <a:lnTo>
                    <a:pt x="2443" y="533"/>
                  </a:lnTo>
                  <a:lnTo>
                    <a:pt x="2448" y="543"/>
                  </a:lnTo>
                  <a:lnTo>
                    <a:pt x="2453" y="551"/>
                  </a:lnTo>
                  <a:lnTo>
                    <a:pt x="2458" y="561"/>
                  </a:lnTo>
                  <a:lnTo>
                    <a:pt x="2463" y="571"/>
                  </a:lnTo>
                  <a:lnTo>
                    <a:pt x="2471" y="580"/>
                  </a:lnTo>
                  <a:lnTo>
                    <a:pt x="2476" y="588"/>
                  </a:lnTo>
                  <a:lnTo>
                    <a:pt x="2481" y="600"/>
                  </a:lnTo>
                  <a:lnTo>
                    <a:pt x="2486" y="610"/>
                  </a:lnTo>
                  <a:lnTo>
                    <a:pt x="2493" y="623"/>
                  </a:lnTo>
                  <a:lnTo>
                    <a:pt x="2498" y="633"/>
                  </a:lnTo>
                  <a:lnTo>
                    <a:pt x="2503" y="645"/>
                  </a:lnTo>
                  <a:lnTo>
                    <a:pt x="2510" y="655"/>
                  </a:lnTo>
                  <a:lnTo>
                    <a:pt x="2515" y="667"/>
                  </a:lnTo>
                  <a:lnTo>
                    <a:pt x="2520" y="680"/>
                  </a:lnTo>
                  <a:lnTo>
                    <a:pt x="2528" y="692"/>
                  </a:lnTo>
                  <a:lnTo>
                    <a:pt x="2533" y="705"/>
                  </a:lnTo>
                  <a:lnTo>
                    <a:pt x="2540" y="717"/>
                  </a:lnTo>
                  <a:lnTo>
                    <a:pt x="2545" y="729"/>
                  </a:lnTo>
                  <a:lnTo>
                    <a:pt x="2550" y="742"/>
                  </a:lnTo>
                  <a:lnTo>
                    <a:pt x="2555" y="752"/>
                  </a:lnTo>
                  <a:lnTo>
                    <a:pt x="2562" y="764"/>
                  </a:lnTo>
                  <a:lnTo>
                    <a:pt x="2567" y="777"/>
                  </a:lnTo>
                  <a:lnTo>
                    <a:pt x="2572" y="789"/>
                  </a:lnTo>
                  <a:lnTo>
                    <a:pt x="2577" y="801"/>
                  </a:lnTo>
                  <a:lnTo>
                    <a:pt x="2585" y="814"/>
                  </a:lnTo>
                  <a:lnTo>
                    <a:pt x="2587" y="824"/>
                  </a:lnTo>
                  <a:lnTo>
                    <a:pt x="2592" y="836"/>
                  </a:lnTo>
                  <a:lnTo>
                    <a:pt x="2597" y="849"/>
                  </a:lnTo>
                  <a:lnTo>
                    <a:pt x="2605" y="861"/>
                  </a:lnTo>
                  <a:lnTo>
                    <a:pt x="2607" y="871"/>
                  </a:lnTo>
                  <a:lnTo>
                    <a:pt x="2612" y="883"/>
                  </a:lnTo>
                  <a:lnTo>
                    <a:pt x="2617" y="896"/>
                  </a:lnTo>
                  <a:lnTo>
                    <a:pt x="2622" y="906"/>
                  </a:lnTo>
                  <a:lnTo>
                    <a:pt x="2624" y="916"/>
                  </a:lnTo>
                  <a:lnTo>
                    <a:pt x="2629" y="925"/>
                  </a:lnTo>
                  <a:lnTo>
                    <a:pt x="2632" y="935"/>
                  </a:lnTo>
                  <a:lnTo>
                    <a:pt x="2637" y="945"/>
                  </a:lnTo>
                  <a:lnTo>
                    <a:pt x="2639" y="955"/>
                  </a:lnTo>
                  <a:lnTo>
                    <a:pt x="2642" y="965"/>
                  </a:lnTo>
                  <a:lnTo>
                    <a:pt x="2647" y="973"/>
                  </a:lnTo>
                  <a:lnTo>
                    <a:pt x="2649" y="983"/>
                  </a:lnTo>
                  <a:lnTo>
                    <a:pt x="2649" y="990"/>
                  </a:lnTo>
                  <a:lnTo>
                    <a:pt x="2652" y="997"/>
                  </a:lnTo>
                  <a:lnTo>
                    <a:pt x="2654" y="1005"/>
                  </a:lnTo>
                  <a:lnTo>
                    <a:pt x="2657" y="1012"/>
                  </a:lnTo>
                  <a:lnTo>
                    <a:pt x="2657" y="1020"/>
                  </a:lnTo>
                  <a:lnTo>
                    <a:pt x="2659" y="1025"/>
                  </a:lnTo>
                  <a:lnTo>
                    <a:pt x="2659" y="1032"/>
                  </a:lnTo>
                  <a:lnTo>
                    <a:pt x="2659" y="1037"/>
                  </a:lnTo>
                  <a:lnTo>
                    <a:pt x="2659" y="1045"/>
                  </a:lnTo>
                  <a:lnTo>
                    <a:pt x="2659" y="1054"/>
                  </a:lnTo>
                  <a:lnTo>
                    <a:pt x="2657" y="1064"/>
                  </a:lnTo>
                  <a:lnTo>
                    <a:pt x="2657" y="1074"/>
                  </a:lnTo>
                  <a:lnTo>
                    <a:pt x="2654" y="1082"/>
                  </a:lnTo>
                  <a:lnTo>
                    <a:pt x="2652" y="1089"/>
                  </a:lnTo>
                  <a:lnTo>
                    <a:pt x="2649" y="1099"/>
                  </a:lnTo>
                  <a:lnTo>
                    <a:pt x="2647" y="1107"/>
                  </a:lnTo>
                  <a:lnTo>
                    <a:pt x="2644" y="1114"/>
                  </a:lnTo>
                  <a:lnTo>
                    <a:pt x="2642" y="1121"/>
                  </a:lnTo>
                  <a:lnTo>
                    <a:pt x="2637" y="1126"/>
                  </a:lnTo>
                  <a:lnTo>
                    <a:pt x="2634" y="1134"/>
                  </a:lnTo>
                  <a:lnTo>
                    <a:pt x="2629" y="1139"/>
                  </a:lnTo>
                  <a:lnTo>
                    <a:pt x="2627" y="1146"/>
                  </a:lnTo>
                  <a:lnTo>
                    <a:pt x="2622" y="1151"/>
                  </a:lnTo>
                  <a:lnTo>
                    <a:pt x="2620" y="1156"/>
                  </a:lnTo>
                  <a:lnTo>
                    <a:pt x="2610" y="1166"/>
                  </a:lnTo>
                  <a:lnTo>
                    <a:pt x="2597" y="1171"/>
                  </a:lnTo>
                  <a:lnTo>
                    <a:pt x="2592" y="1174"/>
                  </a:lnTo>
                  <a:lnTo>
                    <a:pt x="2587" y="1176"/>
                  </a:lnTo>
                  <a:lnTo>
                    <a:pt x="2580" y="1179"/>
                  </a:lnTo>
                  <a:lnTo>
                    <a:pt x="2575" y="1179"/>
                  </a:lnTo>
                  <a:lnTo>
                    <a:pt x="2567" y="1179"/>
                  </a:lnTo>
                  <a:lnTo>
                    <a:pt x="2562" y="1179"/>
                  </a:lnTo>
                  <a:lnTo>
                    <a:pt x="2555" y="1179"/>
                  </a:lnTo>
                  <a:lnTo>
                    <a:pt x="2548" y="1179"/>
                  </a:lnTo>
                  <a:lnTo>
                    <a:pt x="2540" y="1176"/>
                  </a:lnTo>
                  <a:lnTo>
                    <a:pt x="2535" y="1176"/>
                  </a:lnTo>
                  <a:lnTo>
                    <a:pt x="2528" y="1171"/>
                  </a:lnTo>
                  <a:lnTo>
                    <a:pt x="2520" y="1169"/>
                  </a:lnTo>
                  <a:lnTo>
                    <a:pt x="2513" y="1164"/>
                  </a:lnTo>
                  <a:lnTo>
                    <a:pt x="2503" y="1159"/>
                  </a:lnTo>
                  <a:lnTo>
                    <a:pt x="2493" y="1154"/>
                  </a:lnTo>
                  <a:lnTo>
                    <a:pt x="2483" y="1146"/>
                  </a:lnTo>
                  <a:lnTo>
                    <a:pt x="2476" y="1141"/>
                  </a:lnTo>
                  <a:lnTo>
                    <a:pt x="2471" y="1139"/>
                  </a:lnTo>
                  <a:lnTo>
                    <a:pt x="2463" y="1136"/>
                  </a:lnTo>
                  <a:lnTo>
                    <a:pt x="2458" y="1131"/>
                  </a:lnTo>
                  <a:lnTo>
                    <a:pt x="2451" y="1126"/>
                  </a:lnTo>
                  <a:lnTo>
                    <a:pt x="2443" y="1124"/>
                  </a:lnTo>
                  <a:lnTo>
                    <a:pt x="2436" y="1119"/>
                  </a:lnTo>
                  <a:lnTo>
                    <a:pt x="2431" y="1117"/>
                  </a:lnTo>
                  <a:lnTo>
                    <a:pt x="2421" y="1112"/>
                  </a:lnTo>
                  <a:lnTo>
                    <a:pt x="2414" y="1104"/>
                  </a:lnTo>
                  <a:lnTo>
                    <a:pt x="2406" y="1099"/>
                  </a:lnTo>
                  <a:lnTo>
                    <a:pt x="2399" y="1097"/>
                  </a:lnTo>
                  <a:lnTo>
                    <a:pt x="2391" y="1092"/>
                  </a:lnTo>
                  <a:lnTo>
                    <a:pt x="2384" y="1087"/>
                  </a:lnTo>
                  <a:lnTo>
                    <a:pt x="2376" y="1082"/>
                  </a:lnTo>
                  <a:lnTo>
                    <a:pt x="2369" y="1077"/>
                  </a:lnTo>
                  <a:lnTo>
                    <a:pt x="2362" y="1072"/>
                  </a:lnTo>
                  <a:lnTo>
                    <a:pt x="2354" y="1067"/>
                  </a:lnTo>
                  <a:lnTo>
                    <a:pt x="2344" y="1062"/>
                  </a:lnTo>
                  <a:lnTo>
                    <a:pt x="2337" y="1057"/>
                  </a:lnTo>
                  <a:lnTo>
                    <a:pt x="2329" y="1052"/>
                  </a:lnTo>
                  <a:lnTo>
                    <a:pt x="2322" y="1047"/>
                  </a:lnTo>
                  <a:lnTo>
                    <a:pt x="2312" y="1042"/>
                  </a:lnTo>
                  <a:lnTo>
                    <a:pt x="2307" y="1040"/>
                  </a:lnTo>
                  <a:lnTo>
                    <a:pt x="2297" y="1032"/>
                  </a:lnTo>
                  <a:lnTo>
                    <a:pt x="2290" y="1027"/>
                  </a:lnTo>
                  <a:lnTo>
                    <a:pt x="2282" y="1022"/>
                  </a:lnTo>
                  <a:lnTo>
                    <a:pt x="2275" y="1017"/>
                  </a:lnTo>
                  <a:lnTo>
                    <a:pt x="2265" y="1012"/>
                  </a:lnTo>
                  <a:lnTo>
                    <a:pt x="2257" y="1010"/>
                  </a:lnTo>
                  <a:lnTo>
                    <a:pt x="2252" y="1005"/>
                  </a:lnTo>
                  <a:lnTo>
                    <a:pt x="2245" y="1000"/>
                  </a:lnTo>
                  <a:lnTo>
                    <a:pt x="2238" y="995"/>
                  </a:lnTo>
                  <a:lnTo>
                    <a:pt x="2230" y="992"/>
                  </a:lnTo>
                  <a:lnTo>
                    <a:pt x="2223" y="985"/>
                  </a:lnTo>
                  <a:lnTo>
                    <a:pt x="2218" y="983"/>
                  </a:lnTo>
                  <a:lnTo>
                    <a:pt x="2213" y="980"/>
                  </a:lnTo>
                  <a:lnTo>
                    <a:pt x="2205" y="975"/>
                  </a:lnTo>
                  <a:lnTo>
                    <a:pt x="2200" y="973"/>
                  </a:lnTo>
                  <a:lnTo>
                    <a:pt x="2195" y="968"/>
                  </a:lnTo>
                  <a:lnTo>
                    <a:pt x="2183" y="963"/>
                  </a:lnTo>
                  <a:lnTo>
                    <a:pt x="2176" y="955"/>
                  </a:lnTo>
                  <a:lnTo>
                    <a:pt x="2166" y="950"/>
                  </a:lnTo>
                  <a:lnTo>
                    <a:pt x="2161" y="948"/>
                  </a:lnTo>
                  <a:lnTo>
                    <a:pt x="2153" y="943"/>
                  </a:lnTo>
                  <a:lnTo>
                    <a:pt x="2151" y="940"/>
                  </a:lnTo>
                  <a:lnTo>
                    <a:pt x="2148" y="940"/>
                  </a:lnTo>
                  <a:lnTo>
                    <a:pt x="2146" y="943"/>
                  </a:lnTo>
                  <a:lnTo>
                    <a:pt x="2146" y="948"/>
                  </a:lnTo>
                  <a:lnTo>
                    <a:pt x="2143" y="953"/>
                  </a:lnTo>
                  <a:lnTo>
                    <a:pt x="2141" y="958"/>
                  </a:lnTo>
                  <a:lnTo>
                    <a:pt x="2141" y="965"/>
                  </a:lnTo>
                  <a:lnTo>
                    <a:pt x="2138" y="973"/>
                  </a:lnTo>
                  <a:lnTo>
                    <a:pt x="2136" y="980"/>
                  </a:lnTo>
                  <a:lnTo>
                    <a:pt x="2133" y="990"/>
                  </a:lnTo>
                  <a:lnTo>
                    <a:pt x="2131" y="997"/>
                  </a:lnTo>
                  <a:lnTo>
                    <a:pt x="2128" y="1010"/>
                  </a:lnTo>
                  <a:lnTo>
                    <a:pt x="2123" y="1020"/>
                  </a:lnTo>
                  <a:lnTo>
                    <a:pt x="2118" y="1032"/>
                  </a:lnTo>
                  <a:lnTo>
                    <a:pt x="2116" y="1037"/>
                  </a:lnTo>
                  <a:lnTo>
                    <a:pt x="2116" y="1045"/>
                  </a:lnTo>
                  <a:lnTo>
                    <a:pt x="2114" y="1050"/>
                  </a:lnTo>
                  <a:lnTo>
                    <a:pt x="2111" y="1057"/>
                  </a:lnTo>
                  <a:lnTo>
                    <a:pt x="2109" y="1064"/>
                  </a:lnTo>
                  <a:lnTo>
                    <a:pt x="2104" y="1069"/>
                  </a:lnTo>
                  <a:lnTo>
                    <a:pt x="2101" y="1077"/>
                  </a:lnTo>
                  <a:lnTo>
                    <a:pt x="2099" y="1082"/>
                  </a:lnTo>
                  <a:lnTo>
                    <a:pt x="2096" y="1087"/>
                  </a:lnTo>
                  <a:lnTo>
                    <a:pt x="2094" y="1094"/>
                  </a:lnTo>
                  <a:lnTo>
                    <a:pt x="2091" y="1102"/>
                  </a:lnTo>
                  <a:lnTo>
                    <a:pt x="2089" y="1109"/>
                  </a:lnTo>
                  <a:lnTo>
                    <a:pt x="2084" y="1117"/>
                  </a:lnTo>
                  <a:lnTo>
                    <a:pt x="2081" y="1121"/>
                  </a:lnTo>
                  <a:lnTo>
                    <a:pt x="2076" y="1129"/>
                  </a:lnTo>
                  <a:lnTo>
                    <a:pt x="2074" y="1136"/>
                  </a:lnTo>
                  <a:lnTo>
                    <a:pt x="2069" y="1141"/>
                  </a:lnTo>
                  <a:lnTo>
                    <a:pt x="2066" y="1151"/>
                  </a:lnTo>
                  <a:lnTo>
                    <a:pt x="2061" y="1156"/>
                  </a:lnTo>
                  <a:lnTo>
                    <a:pt x="2059" y="1166"/>
                  </a:lnTo>
                  <a:lnTo>
                    <a:pt x="2054" y="1171"/>
                  </a:lnTo>
                  <a:lnTo>
                    <a:pt x="2049" y="1179"/>
                  </a:lnTo>
                  <a:lnTo>
                    <a:pt x="2047" y="1186"/>
                  </a:lnTo>
                  <a:lnTo>
                    <a:pt x="2042" y="1193"/>
                  </a:lnTo>
                  <a:lnTo>
                    <a:pt x="2037" y="1198"/>
                  </a:lnTo>
                  <a:lnTo>
                    <a:pt x="2032" y="1206"/>
                  </a:lnTo>
                  <a:lnTo>
                    <a:pt x="2029" y="1213"/>
                  </a:lnTo>
                  <a:lnTo>
                    <a:pt x="2024" y="1221"/>
                  </a:lnTo>
                  <a:lnTo>
                    <a:pt x="2019" y="1226"/>
                  </a:lnTo>
                  <a:lnTo>
                    <a:pt x="2014" y="1233"/>
                  </a:lnTo>
                  <a:lnTo>
                    <a:pt x="2009" y="1238"/>
                  </a:lnTo>
                  <a:lnTo>
                    <a:pt x="2004" y="1246"/>
                  </a:lnTo>
                  <a:lnTo>
                    <a:pt x="1997" y="1253"/>
                  </a:lnTo>
                  <a:lnTo>
                    <a:pt x="1992" y="1260"/>
                  </a:lnTo>
                  <a:lnTo>
                    <a:pt x="1987" y="1265"/>
                  </a:lnTo>
                  <a:lnTo>
                    <a:pt x="1982" y="1273"/>
                  </a:lnTo>
                  <a:lnTo>
                    <a:pt x="1977" y="1278"/>
                  </a:lnTo>
                  <a:lnTo>
                    <a:pt x="1970" y="1285"/>
                  </a:lnTo>
                  <a:lnTo>
                    <a:pt x="1965" y="1290"/>
                  </a:lnTo>
                  <a:lnTo>
                    <a:pt x="1957" y="1295"/>
                  </a:lnTo>
                  <a:lnTo>
                    <a:pt x="1952" y="1300"/>
                  </a:lnTo>
                  <a:lnTo>
                    <a:pt x="1945" y="1308"/>
                  </a:lnTo>
                  <a:lnTo>
                    <a:pt x="1940" y="1313"/>
                  </a:lnTo>
                  <a:lnTo>
                    <a:pt x="1932" y="1318"/>
                  </a:lnTo>
                  <a:lnTo>
                    <a:pt x="1928" y="1322"/>
                  </a:lnTo>
                  <a:lnTo>
                    <a:pt x="1920" y="1327"/>
                  </a:lnTo>
                  <a:lnTo>
                    <a:pt x="1915" y="1332"/>
                  </a:lnTo>
                  <a:lnTo>
                    <a:pt x="1908" y="1337"/>
                  </a:lnTo>
                  <a:lnTo>
                    <a:pt x="1903" y="1342"/>
                  </a:lnTo>
                  <a:lnTo>
                    <a:pt x="1895" y="1347"/>
                  </a:lnTo>
                  <a:lnTo>
                    <a:pt x="1890" y="1352"/>
                  </a:lnTo>
                  <a:lnTo>
                    <a:pt x="1885" y="1357"/>
                  </a:lnTo>
                  <a:lnTo>
                    <a:pt x="1878" y="1360"/>
                  </a:lnTo>
                  <a:lnTo>
                    <a:pt x="1873" y="1365"/>
                  </a:lnTo>
                  <a:lnTo>
                    <a:pt x="1865" y="1370"/>
                  </a:lnTo>
                  <a:lnTo>
                    <a:pt x="1861" y="1372"/>
                  </a:lnTo>
                  <a:lnTo>
                    <a:pt x="1853" y="1377"/>
                  </a:lnTo>
                  <a:lnTo>
                    <a:pt x="1848" y="1382"/>
                  </a:lnTo>
                  <a:lnTo>
                    <a:pt x="1841" y="1385"/>
                  </a:lnTo>
                  <a:lnTo>
                    <a:pt x="1836" y="1389"/>
                  </a:lnTo>
                  <a:lnTo>
                    <a:pt x="1831" y="1392"/>
                  </a:lnTo>
                  <a:lnTo>
                    <a:pt x="1823" y="1394"/>
                  </a:lnTo>
                  <a:lnTo>
                    <a:pt x="1818" y="1399"/>
                  </a:lnTo>
                  <a:lnTo>
                    <a:pt x="1813" y="1402"/>
                  </a:lnTo>
                  <a:lnTo>
                    <a:pt x="1803" y="1407"/>
                  </a:lnTo>
                  <a:lnTo>
                    <a:pt x="1794" y="1414"/>
                  </a:lnTo>
                  <a:lnTo>
                    <a:pt x="1781" y="1419"/>
                  </a:lnTo>
                  <a:lnTo>
                    <a:pt x="1774" y="1424"/>
                  </a:lnTo>
                  <a:lnTo>
                    <a:pt x="1764" y="1429"/>
                  </a:lnTo>
                  <a:lnTo>
                    <a:pt x="1754" y="1434"/>
                  </a:lnTo>
                  <a:lnTo>
                    <a:pt x="1746" y="1437"/>
                  </a:lnTo>
                  <a:lnTo>
                    <a:pt x="1739" y="1442"/>
                  </a:lnTo>
                  <a:lnTo>
                    <a:pt x="1732" y="1444"/>
                  </a:lnTo>
                  <a:lnTo>
                    <a:pt x="1724" y="1447"/>
                  </a:lnTo>
                  <a:lnTo>
                    <a:pt x="1719" y="1449"/>
                  </a:lnTo>
                  <a:lnTo>
                    <a:pt x="1714" y="1452"/>
                  </a:lnTo>
                  <a:lnTo>
                    <a:pt x="1709" y="1454"/>
                  </a:lnTo>
                  <a:lnTo>
                    <a:pt x="1704" y="1456"/>
                  </a:lnTo>
                  <a:lnTo>
                    <a:pt x="1699" y="1459"/>
                  </a:lnTo>
                  <a:lnTo>
                    <a:pt x="1699" y="1459"/>
                  </a:lnTo>
                  <a:lnTo>
                    <a:pt x="1042" y="1563"/>
                  </a:lnTo>
                  <a:lnTo>
                    <a:pt x="1042" y="1729"/>
                  </a:lnTo>
                  <a:lnTo>
                    <a:pt x="1040" y="1729"/>
                  </a:lnTo>
                  <a:lnTo>
                    <a:pt x="1035" y="1727"/>
                  </a:lnTo>
                  <a:lnTo>
                    <a:pt x="1025" y="1725"/>
                  </a:lnTo>
                  <a:lnTo>
                    <a:pt x="1017" y="1725"/>
                  </a:lnTo>
                  <a:lnTo>
                    <a:pt x="1010" y="1722"/>
                  </a:lnTo>
                  <a:lnTo>
                    <a:pt x="1002" y="1720"/>
                  </a:lnTo>
                  <a:lnTo>
                    <a:pt x="995" y="1717"/>
                  </a:lnTo>
                  <a:lnTo>
                    <a:pt x="987" y="1717"/>
                  </a:lnTo>
                  <a:lnTo>
                    <a:pt x="978" y="1715"/>
                  </a:lnTo>
                  <a:lnTo>
                    <a:pt x="970" y="1712"/>
                  </a:lnTo>
                  <a:lnTo>
                    <a:pt x="960" y="1712"/>
                  </a:lnTo>
                  <a:lnTo>
                    <a:pt x="950" y="1710"/>
                  </a:lnTo>
                  <a:lnTo>
                    <a:pt x="940" y="1707"/>
                  </a:lnTo>
                  <a:lnTo>
                    <a:pt x="928" y="1705"/>
                  </a:lnTo>
                  <a:lnTo>
                    <a:pt x="918" y="1702"/>
                  </a:lnTo>
                  <a:lnTo>
                    <a:pt x="908" y="1702"/>
                  </a:lnTo>
                  <a:lnTo>
                    <a:pt x="903" y="1700"/>
                  </a:lnTo>
                  <a:lnTo>
                    <a:pt x="896" y="1697"/>
                  </a:lnTo>
                  <a:lnTo>
                    <a:pt x="891" y="1697"/>
                  </a:lnTo>
                  <a:lnTo>
                    <a:pt x="886" y="1695"/>
                  </a:lnTo>
                  <a:lnTo>
                    <a:pt x="881" y="1695"/>
                  </a:lnTo>
                  <a:lnTo>
                    <a:pt x="873" y="1695"/>
                  </a:lnTo>
                  <a:lnTo>
                    <a:pt x="868" y="1692"/>
                  </a:lnTo>
                  <a:lnTo>
                    <a:pt x="863" y="1692"/>
                  </a:lnTo>
                  <a:lnTo>
                    <a:pt x="856" y="1690"/>
                  </a:lnTo>
                  <a:lnTo>
                    <a:pt x="851" y="1687"/>
                  </a:lnTo>
                  <a:lnTo>
                    <a:pt x="846" y="1687"/>
                  </a:lnTo>
                  <a:lnTo>
                    <a:pt x="839" y="1687"/>
                  </a:lnTo>
                  <a:lnTo>
                    <a:pt x="834" y="1685"/>
                  </a:lnTo>
                  <a:lnTo>
                    <a:pt x="829" y="1685"/>
                  </a:lnTo>
                  <a:lnTo>
                    <a:pt x="821" y="1682"/>
                  </a:lnTo>
                  <a:lnTo>
                    <a:pt x="816" y="1682"/>
                  </a:lnTo>
                  <a:lnTo>
                    <a:pt x="811" y="1680"/>
                  </a:lnTo>
                  <a:lnTo>
                    <a:pt x="804" y="1680"/>
                  </a:lnTo>
                  <a:lnTo>
                    <a:pt x="799" y="1677"/>
                  </a:lnTo>
                  <a:lnTo>
                    <a:pt x="794" y="1677"/>
                  </a:lnTo>
                  <a:lnTo>
                    <a:pt x="782" y="1675"/>
                  </a:lnTo>
                  <a:lnTo>
                    <a:pt x="772" y="1675"/>
                  </a:lnTo>
                  <a:lnTo>
                    <a:pt x="767" y="1672"/>
                  </a:lnTo>
                  <a:lnTo>
                    <a:pt x="759" y="1670"/>
                  </a:lnTo>
                  <a:lnTo>
                    <a:pt x="754" y="1667"/>
                  </a:lnTo>
                  <a:lnTo>
                    <a:pt x="747" y="1665"/>
                  </a:lnTo>
                  <a:lnTo>
                    <a:pt x="739" y="1660"/>
                  </a:lnTo>
                  <a:lnTo>
                    <a:pt x="732" y="1655"/>
                  </a:lnTo>
                  <a:lnTo>
                    <a:pt x="727" y="1648"/>
                  </a:lnTo>
                  <a:lnTo>
                    <a:pt x="720" y="1643"/>
                  </a:lnTo>
                  <a:lnTo>
                    <a:pt x="712" y="1635"/>
                  </a:lnTo>
                  <a:lnTo>
                    <a:pt x="705" y="1628"/>
                  </a:lnTo>
                  <a:lnTo>
                    <a:pt x="697" y="1620"/>
                  </a:lnTo>
                  <a:lnTo>
                    <a:pt x="690" y="1610"/>
                  </a:lnTo>
                  <a:lnTo>
                    <a:pt x="680" y="1603"/>
                  </a:lnTo>
                  <a:lnTo>
                    <a:pt x="672" y="1593"/>
                  </a:lnTo>
                  <a:lnTo>
                    <a:pt x="663" y="1583"/>
                  </a:lnTo>
                  <a:lnTo>
                    <a:pt x="655" y="1573"/>
                  </a:lnTo>
                  <a:lnTo>
                    <a:pt x="648" y="1561"/>
                  </a:lnTo>
                  <a:lnTo>
                    <a:pt x="638" y="1551"/>
                  </a:lnTo>
                  <a:lnTo>
                    <a:pt x="630" y="1538"/>
                  </a:lnTo>
                  <a:lnTo>
                    <a:pt x="620" y="1526"/>
                  </a:lnTo>
                  <a:lnTo>
                    <a:pt x="613" y="1514"/>
                  </a:lnTo>
                  <a:lnTo>
                    <a:pt x="603" y="1501"/>
                  </a:lnTo>
                  <a:lnTo>
                    <a:pt x="596" y="1491"/>
                  </a:lnTo>
                  <a:lnTo>
                    <a:pt x="586" y="1479"/>
                  </a:lnTo>
                  <a:lnTo>
                    <a:pt x="576" y="1464"/>
                  </a:lnTo>
                  <a:lnTo>
                    <a:pt x="568" y="1452"/>
                  </a:lnTo>
                  <a:lnTo>
                    <a:pt x="558" y="1437"/>
                  </a:lnTo>
                  <a:lnTo>
                    <a:pt x="551" y="1424"/>
                  </a:lnTo>
                  <a:lnTo>
                    <a:pt x="541" y="1412"/>
                  </a:lnTo>
                  <a:lnTo>
                    <a:pt x="534" y="1399"/>
                  </a:lnTo>
                  <a:lnTo>
                    <a:pt x="524" y="1385"/>
                  </a:lnTo>
                  <a:lnTo>
                    <a:pt x="516" y="1372"/>
                  </a:lnTo>
                  <a:lnTo>
                    <a:pt x="506" y="1357"/>
                  </a:lnTo>
                  <a:lnTo>
                    <a:pt x="499" y="1345"/>
                  </a:lnTo>
                  <a:lnTo>
                    <a:pt x="491" y="1330"/>
                  </a:lnTo>
                  <a:lnTo>
                    <a:pt x="481" y="1315"/>
                  </a:lnTo>
                  <a:lnTo>
                    <a:pt x="474" y="1303"/>
                  </a:lnTo>
                  <a:lnTo>
                    <a:pt x="467" y="1290"/>
                  </a:lnTo>
                  <a:lnTo>
                    <a:pt x="459" y="1278"/>
                  </a:lnTo>
                  <a:lnTo>
                    <a:pt x="452" y="1265"/>
                  </a:lnTo>
                  <a:lnTo>
                    <a:pt x="444" y="1251"/>
                  </a:lnTo>
                  <a:lnTo>
                    <a:pt x="437" y="1238"/>
                  </a:lnTo>
                  <a:lnTo>
                    <a:pt x="429" y="1226"/>
                  </a:lnTo>
                  <a:lnTo>
                    <a:pt x="422" y="1216"/>
                  </a:lnTo>
                  <a:lnTo>
                    <a:pt x="417" y="1203"/>
                  </a:lnTo>
                  <a:lnTo>
                    <a:pt x="410" y="1193"/>
                  </a:lnTo>
                  <a:lnTo>
                    <a:pt x="405" y="1184"/>
                  </a:lnTo>
                  <a:lnTo>
                    <a:pt x="400" y="1174"/>
                  </a:lnTo>
                  <a:lnTo>
                    <a:pt x="392" y="1164"/>
                  </a:lnTo>
                  <a:lnTo>
                    <a:pt x="387" y="1154"/>
                  </a:lnTo>
                  <a:lnTo>
                    <a:pt x="382" y="1144"/>
                  </a:lnTo>
                  <a:lnTo>
                    <a:pt x="377" y="1136"/>
                  </a:lnTo>
                  <a:lnTo>
                    <a:pt x="375" y="1126"/>
                  </a:lnTo>
                  <a:lnTo>
                    <a:pt x="370" y="1121"/>
                  </a:lnTo>
                  <a:lnTo>
                    <a:pt x="367" y="1114"/>
                  </a:lnTo>
                  <a:lnTo>
                    <a:pt x="362" y="1109"/>
                  </a:lnTo>
                  <a:lnTo>
                    <a:pt x="360" y="1102"/>
                  </a:lnTo>
                  <a:lnTo>
                    <a:pt x="357" y="1097"/>
                  </a:lnTo>
                  <a:lnTo>
                    <a:pt x="355" y="1094"/>
                  </a:lnTo>
                  <a:lnTo>
                    <a:pt x="355" y="1089"/>
                  </a:lnTo>
                  <a:lnTo>
                    <a:pt x="350" y="1087"/>
                  </a:lnTo>
                  <a:lnTo>
                    <a:pt x="350" y="1084"/>
                  </a:lnTo>
                  <a:lnTo>
                    <a:pt x="246" y="1057"/>
                  </a:lnTo>
                  <a:lnTo>
                    <a:pt x="246" y="1057"/>
                  </a:lnTo>
                  <a:close/>
                </a:path>
              </a:pathLst>
            </a:custGeom>
            <a:solidFill>
              <a:srgbClr val="a33d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381480" y="4016520"/>
              <a:ext cx="928800" cy="1347480"/>
            </a:xfrm>
            <a:custGeom>
              <a:avLst/>
              <a:gdLst/>
              <a:ahLst/>
              <a:rect l="l" t="t" r="r" b="b"/>
              <a:pathLst>
                <a:path w="585" h="849">
                  <a:moveTo>
                    <a:pt x="585" y="762"/>
                  </a:moveTo>
                  <a:lnTo>
                    <a:pt x="585" y="757"/>
                  </a:lnTo>
                  <a:lnTo>
                    <a:pt x="577" y="750"/>
                  </a:lnTo>
                  <a:lnTo>
                    <a:pt x="575" y="745"/>
                  </a:lnTo>
                  <a:lnTo>
                    <a:pt x="573" y="737"/>
                  </a:lnTo>
                  <a:lnTo>
                    <a:pt x="565" y="730"/>
                  </a:lnTo>
                  <a:lnTo>
                    <a:pt x="563" y="722"/>
                  </a:lnTo>
                  <a:lnTo>
                    <a:pt x="555" y="712"/>
                  </a:lnTo>
                  <a:lnTo>
                    <a:pt x="550" y="703"/>
                  </a:lnTo>
                  <a:lnTo>
                    <a:pt x="545" y="693"/>
                  </a:lnTo>
                  <a:lnTo>
                    <a:pt x="540" y="683"/>
                  </a:lnTo>
                  <a:lnTo>
                    <a:pt x="535" y="678"/>
                  </a:lnTo>
                  <a:lnTo>
                    <a:pt x="533" y="670"/>
                  </a:lnTo>
                  <a:lnTo>
                    <a:pt x="530" y="665"/>
                  </a:lnTo>
                  <a:lnTo>
                    <a:pt x="525" y="658"/>
                  </a:lnTo>
                  <a:lnTo>
                    <a:pt x="523" y="653"/>
                  </a:lnTo>
                  <a:lnTo>
                    <a:pt x="520" y="648"/>
                  </a:lnTo>
                  <a:lnTo>
                    <a:pt x="518" y="640"/>
                  </a:lnTo>
                  <a:lnTo>
                    <a:pt x="513" y="636"/>
                  </a:lnTo>
                  <a:lnTo>
                    <a:pt x="511" y="631"/>
                  </a:lnTo>
                  <a:lnTo>
                    <a:pt x="508" y="623"/>
                  </a:lnTo>
                  <a:lnTo>
                    <a:pt x="503" y="618"/>
                  </a:lnTo>
                  <a:lnTo>
                    <a:pt x="501" y="611"/>
                  </a:lnTo>
                  <a:lnTo>
                    <a:pt x="496" y="606"/>
                  </a:lnTo>
                  <a:lnTo>
                    <a:pt x="493" y="598"/>
                  </a:lnTo>
                  <a:lnTo>
                    <a:pt x="491" y="593"/>
                  </a:lnTo>
                  <a:lnTo>
                    <a:pt x="488" y="588"/>
                  </a:lnTo>
                  <a:lnTo>
                    <a:pt x="483" y="581"/>
                  </a:lnTo>
                  <a:lnTo>
                    <a:pt x="481" y="576"/>
                  </a:lnTo>
                  <a:lnTo>
                    <a:pt x="478" y="569"/>
                  </a:lnTo>
                  <a:lnTo>
                    <a:pt x="476" y="564"/>
                  </a:lnTo>
                  <a:lnTo>
                    <a:pt x="471" y="554"/>
                  </a:lnTo>
                  <a:lnTo>
                    <a:pt x="466" y="544"/>
                  </a:lnTo>
                  <a:lnTo>
                    <a:pt x="461" y="534"/>
                  </a:lnTo>
                  <a:lnTo>
                    <a:pt x="456" y="524"/>
                  </a:lnTo>
                  <a:lnTo>
                    <a:pt x="453" y="516"/>
                  </a:lnTo>
                  <a:lnTo>
                    <a:pt x="451" y="509"/>
                  </a:lnTo>
                  <a:lnTo>
                    <a:pt x="449" y="502"/>
                  </a:lnTo>
                  <a:lnTo>
                    <a:pt x="449" y="497"/>
                  </a:lnTo>
                  <a:lnTo>
                    <a:pt x="446" y="492"/>
                  </a:lnTo>
                  <a:lnTo>
                    <a:pt x="449" y="489"/>
                  </a:lnTo>
                  <a:lnTo>
                    <a:pt x="449" y="482"/>
                  </a:lnTo>
                  <a:lnTo>
                    <a:pt x="451" y="474"/>
                  </a:lnTo>
                  <a:lnTo>
                    <a:pt x="453" y="469"/>
                  </a:lnTo>
                  <a:lnTo>
                    <a:pt x="458" y="462"/>
                  </a:lnTo>
                  <a:lnTo>
                    <a:pt x="461" y="454"/>
                  </a:lnTo>
                  <a:lnTo>
                    <a:pt x="466" y="449"/>
                  </a:lnTo>
                  <a:lnTo>
                    <a:pt x="468" y="439"/>
                  </a:lnTo>
                  <a:lnTo>
                    <a:pt x="471" y="432"/>
                  </a:lnTo>
                  <a:lnTo>
                    <a:pt x="473" y="425"/>
                  </a:lnTo>
                  <a:lnTo>
                    <a:pt x="473" y="420"/>
                  </a:lnTo>
                  <a:lnTo>
                    <a:pt x="476" y="415"/>
                  </a:lnTo>
                  <a:lnTo>
                    <a:pt x="476" y="410"/>
                  </a:lnTo>
                  <a:lnTo>
                    <a:pt x="476" y="402"/>
                  </a:lnTo>
                  <a:lnTo>
                    <a:pt x="476" y="397"/>
                  </a:lnTo>
                  <a:lnTo>
                    <a:pt x="476" y="390"/>
                  </a:lnTo>
                  <a:lnTo>
                    <a:pt x="478" y="382"/>
                  </a:lnTo>
                  <a:lnTo>
                    <a:pt x="476" y="375"/>
                  </a:lnTo>
                  <a:lnTo>
                    <a:pt x="476" y="368"/>
                  </a:lnTo>
                  <a:lnTo>
                    <a:pt x="476" y="358"/>
                  </a:lnTo>
                  <a:lnTo>
                    <a:pt x="476" y="350"/>
                  </a:lnTo>
                  <a:lnTo>
                    <a:pt x="473" y="340"/>
                  </a:lnTo>
                  <a:lnTo>
                    <a:pt x="471" y="330"/>
                  </a:lnTo>
                  <a:lnTo>
                    <a:pt x="471" y="320"/>
                  </a:lnTo>
                  <a:lnTo>
                    <a:pt x="468" y="310"/>
                  </a:lnTo>
                  <a:lnTo>
                    <a:pt x="466" y="303"/>
                  </a:lnTo>
                  <a:lnTo>
                    <a:pt x="463" y="298"/>
                  </a:lnTo>
                  <a:lnTo>
                    <a:pt x="461" y="291"/>
                  </a:lnTo>
                  <a:lnTo>
                    <a:pt x="461" y="286"/>
                  </a:lnTo>
                  <a:lnTo>
                    <a:pt x="458" y="278"/>
                  </a:lnTo>
                  <a:lnTo>
                    <a:pt x="456" y="273"/>
                  </a:lnTo>
                  <a:lnTo>
                    <a:pt x="453" y="266"/>
                  </a:lnTo>
                  <a:lnTo>
                    <a:pt x="453" y="261"/>
                  </a:lnTo>
                  <a:lnTo>
                    <a:pt x="451" y="253"/>
                  </a:lnTo>
                  <a:lnTo>
                    <a:pt x="449" y="248"/>
                  </a:lnTo>
                  <a:lnTo>
                    <a:pt x="446" y="241"/>
                  </a:lnTo>
                  <a:lnTo>
                    <a:pt x="444" y="236"/>
                  </a:lnTo>
                  <a:lnTo>
                    <a:pt x="441" y="229"/>
                  </a:lnTo>
                  <a:lnTo>
                    <a:pt x="439" y="224"/>
                  </a:lnTo>
                  <a:lnTo>
                    <a:pt x="436" y="216"/>
                  </a:lnTo>
                  <a:lnTo>
                    <a:pt x="434" y="211"/>
                  </a:lnTo>
                  <a:lnTo>
                    <a:pt x="429" y="206"/>
                  </a:lnTo>
                  <a:lnTo>
                    <a:pt x="426" y="199"/>
                  </a:lnTo>
                  <a:lnTo>
                    <a:pt x="424" y="194"/>
                  </a:lnTo>
                  <a:lnTo>
                    <a:pt x="421" y="186"/>
                  </a:lnTo>
                  <a:lnTo>
                    <a:pt x="416" y="181"/>
                  </a:lnTo>
                  <a:lnTo>
                    <a:pt x="414" y="174"/>
                  </a:lnTo>
                  <a:lnTo>
                    <a:pt x="411" y="169"/>
                  </a:lnTo>
                  <a:lnTo>
                    <a:pt x="409" y="164"/>
                  </a:lnTo>
                  <a:lnTo>
                    <a:pt x="404" y="157"/>
                  </a:lnTo>
                  <a:lnTo>
                    <a:pt x="401" y="152"/>
                  </a:lnTo>
                  <a:lnTo>
                    <a:pt x="399" y="147"/>
                  </a:lnTo>
                  <a:lnTo>
                    <a:pt x="396" y="142"/>
                  </a:lnTo>
                  <a:lnTo>
                    <a:pt x="389" y="129"/>
                  </a:lnTo>
                  <a:lnTo>
                    <a:pt x="382" y="119"/>
                  </a:lnTo>
                  <a:lnTo>
                    <a:pt x="377" y="107"/>
                  </a:lnTo>
                  <a:lnTo>
                    <a:pt x="369" y="97"/>
                  </a:lnTo>
                  <a:lnTo>
                    <a:pt x="362" y="87"/>
                  </a:lnTo>
                  <a:lnTo>
                    <a:pt x="354" y="80"/>
                  </a:lnTo>
                  <a:lnTo>
                    <a:pt x="347" y="70"/>
                  </a:lnTo>
                  <a:lnTo>
                    <a:pt x="339" y="60"/>
                  </a:lnTo>
                  <a:lnTo>
                    <a:pt x="334" y="52"/>
                  </a:lnTo>
                  <a:lnTo>
                    <a:pt x="327" y="47"/>
                  </a:lnTo>
                  <a:lnTo>
                    <a:pt x="320" y="37"/>
                  </a:lnTo>
                  <a:lnTo>
                    <a:pt x="315" y="32"/>
                  </a:lnTo>
                  <a:lnTo>
                    <a:pt x="307" y="25"/>
                  </a:lnTo>
                  <a:lnTo>
                    <a:pt x="302" y="20"/>
                  </a:lnTo>
                  <a:lnTo>
                    <a:pt x="295" y="15"/>
                  </a:lnTo>
                  <a:lnTo>
                    <a:pt x="290" y="13"/>
                  </a:lnTo>
                  <a:lnTo>
                    <a:pt x="285" y="8"/>
                  </a:lnTo>
                  <a:lnTo>
                    <a:pt x="280" y="8"/>
                  </a:lnTo>
                  <a:lnTo>
                    <a:pt x="267" y="3"/>
                  </a:lnTo>
                  <a:lnTo>
                    <a:pt x="260" y="0"/>
                  </a:lnTo>
                  <a:lnTo>
                    <a:pt x="250" y="0"/>
                  </a:lnTo>
                  <a:lnTo>
                    <a:pt x="245" y="0"/>
                  </a:lnTo>
                  <a:lnTo>
                    <a:pt x="238" y="3"/>
                  </a:lnTo>
                  <a:lnTo>
                    <a:pt x="230" y="8"/>
                  </a:lnTo>
                  <a:lnTo>
                    <a:pt x="228" y="13"/>
                  </a:lnTo>
                  <a:lnTo>
                    <a:pt x="223" y="20"/>
                  </a:lnTo>
                  <a:lnTo>
                    <a:pt x="220" y="25"/>
                  </a:lnTo>
                  <a:lnTo>
                    <a:pt x="218" y="35"/>
                  </a:lnTo>
                  <a:lnTo>
                    <a:pt x="218" y="40"/>
                  </a:lnTo>
                  <a:lnTo>
                    <a:pt x="218" y="45"/>
                  </a:lnTo>
                  <a:lnTo>
                    <a:pt x="218" y="50"/>
                  </a:lnTo>
                  <a:lnTo>
                    <a:pt x="220" y="57"/>
                  </a:lnTo>
                  <a:lnTo>
                    <a:pt x="220" y="62"/>
                  </a:lnTo>
                  <a:lnTo>
                    <a:pt x="220" y="67"/>
                  </a:lnTo>
                  <a:lnTo>
                    <a:pt x="220" y="72"/>
                  </a:lnTo>
                  <a:lnTo>
                    <a:pt x="225" y="80"/>
                  </a:lnTo>
                  <a:lnTo>
                    <a:pt x="225" y="87"/>
                  </a:lnTo>
                  <a:lnTo>
                    <a:pt x="228" y="92"/>
                  </a:lnTo>
                  <a:lnTo>
                    <a:pt x="233" y="99"/>
                  </a:lnTo>
                  <a:lnTo>
                    <a:pt x="235" y="107"/>
                  </a:lnTo>
                  <a:lnTo>
                    <a:pt x="238" y="112"/>
                  </a:lnTo>
                  <a:lnTo>
                    <a:pt x="240" y="119"/>
                  </a:lnTo>
                  <a:lnTo>
                    <a:pt x="243" y="127"/>
                  </a:lnTo>
                  <a:lnTo>
                    <a:pt x="245" y="134"/>
                  </a:lnTo>
                  <a:lnTo>
                    <a:pt x="250" y="142"/>
                  </a:lnTo>
                  <a:lnTo>
                    <a:pt x="253" y="149"/>
                  </a:lnTo>
                  <a:lnTo>
                    <a:pt x="255" y="154"/>
                  </a:lnTo>
                  <a:lnTo>
                    <a:pt x="260" y="164"/>
                  </a:lnTo>
                  <a:lnTo>
                    <a:pt x="262" y="169"/>
                  </a:lnTo>
                  <a:lnTo>
                    <a:pt x="265" y="179"/>
                  </a:lnTo>
                  <a:lnTo>
                    <a:pt x="267" y="184"/>
                  </a:lnTo>
                  <a:lnTo>
                    <a:pt x="272" y="191"/>
                  </a:lnTo>
                  <a:lnTo>
                    <a:pt x="275" y="199"/>
                  </a:lnTo>
                  <a:lnTo>
                    <a:pt x="277" y="206"/>
                  </a:lnTo>
                  <a:lnTo>
                    <a:pt x="280" y="211"/>
                  </a:lnTo>
                  <a:lnTo>
                    <a:pt x="285" y="219"/>
                  </a:lnTo>
                  <a:lnTo>
                    <a:pt x="285" y="224"/>
                  </a:lnTo>
                  <a:lnTo>
                    <a:pt x="287" y="231"/>
                  </a:lnTo>
                  <a:lnTo>
                    <a:pt x="290" y="236"/>
                  </a:lnTo>
                  <a:lnTo>
                    <a:pt x="292" y="241"/>
                  </a:lnTo>
                  <a:lnTo>
                    <a:pt x="295" y="251"/>
                  </a:lnTo>
                  <a:lnTo>
                    <a:pt x="297" y="258"/>
                  </a:lnTo>
                  <a:lnTo>
                    <a:pt x="295" y="263"/>
                  </a:lnTo>
                  <a:lnTo>
                    <a:pt x="295" y="268"/>
                  </a:lnTo>
                  <a:lnTo>
                    <a:pt x="292" y="271"/>
                  </a:lnTo>
                  <a:lnTo>
                    <a:pt x="287" y="273"/>
                  </a:lnTo>
                  <a:lnTo>
                    <a:pt x="280" y="268"/>
                  </a:lnTo>
                  <a:lnTo>
                    <a:pt x="272" y="263"/>
                  </a:lnTo>
                  <a:lnTo>
                    <a:pt x="267" y="258"/>
                  </a:lnTo>
                  <a:lnTo>
                    <a:pt x="262" y="253"/>
                  </a:lnTo>
                  <a:lnTo>
                    <a:pt x="258" y="248"/>
                  </a:lnTo>
                  <a:lnTo>
                    <a:pt x="255" y="243"/>
                  </a:lnTo>
                  <a:lnTo>
                    <a:pt x="250" y="236"/>
                  </a:lnTo>
                  <a:lnTo>
                    <a:pt x="245" y="231"/>
                  </a:lnTo>
                  <a:lnTo>
                    <a:pt x="238" y="224"/>
                  </a:lnTo>
                  <a:lnTo>
                    <a:pt x="235" y="216"/>
                  </a:lnTo>
                  <a:lnTo>
                    <a:pt x="230" y="209"/>
                  </a:lnTo>
                  <a:lnTo>
                    <a:pt x="225" y="201"/>
                  </a:lnTo>
                  <a:lnTo>
                    <a:pt x="220" y="194"/>
                  </a:lnTo>
                  <a:lnTo>
                    <a:pt x="215" y="186"/>
                  </a:lnTo>
                  <a:lnTo>
                    <a:pt x="208" y="179"/>
                  </a:lnTo>
                  <a:lnTo>
                    <a:pt x="203" y="171"/>
                  </a:lnTo>
                  <a:lnTo>
                    <a:pt x="198" y="166"/>
                  </a:lnTo>
                  <a:lnTo>
                    <a:pt x="196" y="159"/>
                  </a:lnTo>
                  <a:lnTo>
                    <a:pt x="188" y="152"/>
                  </a:lnTo>
                  <a:lnTo>
                    <a:pt x="183" y="147"/>
                  </a:lnTo>
                  <a:lnTo>
                    <a:pt x="178" y="142"/>
                  </a:lnTo>
                  <a:lnTo>
                    <a:pt x="173" y="137"/>
                  </a:lnTo>
                  <a:lnTo>
                    <a:pt x="163" y="129"/>
                  </a:lnTo>
                  <a:lnTo>
                    <a:pt x="156" y="129"/>
                  </a:lnTo>
                  <a:lnTo>
                    <a:pt x="146" y="129"/>
                  </a:lnTo>
                  <a:lnTo>
                    <a:pt x="136" y="134"/>
                  </a:lnTo>
                  <a:lnTo>
                    <a:pt x="131" y="137"/>
                  </a:lnTo>
                  <a:lnTo>
                    <a:pt x="131" y="142"/>
                  </a:lnTo>
                  <a:lnTo>
                    <a:pt x="126" y="149"/>
                  </a:lnTo>
                  <a:lnTo>
                    <a:pt x="126" y="154"/>
                  </a:lnTo>
                  <a:lnTo>
                    <a:pt x="126" y="162"/>
                  </a:lnTo>
                  <a:lnTo>
                    <a:pt x="126" y="169"/>
                  </a:lnTo>
                  <a:lnTo>
                    <a:pt x="126" y="176"/>
                  </a:lnTo>
                  <a:lnTo>
                    <a:pt x="131" y="184"/>
                  </a:lnTo>
                  <a:lnTo>
                    <a:pt x="131" y="191"/>
                  </a:lnTo>
                  <a:lnTo>
                    <a:pt x="136" y="199"/>
                  </a:lnTo>
                  <a:lnTo>
                    <a:pt x="138" y="209"/>
                  </a:lnTo>
                  <a:lnTo>
                    <a:pt x="143" y="216"/>
                  </a:lnTo>
                  <a:lnTo>
                    <a:pt x="146" y="226"/>
                  </a:lnTo>
                  <a:lnTo>
                    <a:pt x="151" y="234"/>
                  </a:lnTo>
                  <a:lnTo>
                    <a:pt x="156" y="243"/>
                  </a:lnTo>
                  <a:lnTo>
                    <a:pt x="161" y="253"/>
                  </a:lnTo>
                  <a:lnTo>
                    <a:pt x="163" y="261"/>
                  </a:lnTo>
                  <a:lnTo>
                    <a:pt x="168" y="268"/>
                  </a:lnTo>
                  <a:lnTo>
                    <a:pt x="171" y="278"/>
                  </a:lnTo>
                  <a:lnTo>
                    <a:pt x="176" y="288"/>
                  </a:lnTo>
                  <a:lnTo>
                    <a:pt x="178" y="293"/>
                  </a:lnTo>
                  <a:lnTo>
                    <a:pt x="183" y="301"/>
                  </a:lnTo>
                  <a:lnTo>
                    <a:pt x="186" y="308"/>
                  </a:lnTo>
                  <a:lnTo>
                    <a:pt x="188" y="315"/>
                  </a:lnTo>
                  <a:lnTo>
                    <a:pt x="191" y="323"/>
                  </a:lnTo>
                  <a:lnTo>
                    <a:pt x="191" y="328"/>
                  </a:lnTo>
                  <a:lnTo>
                    <a:pt x="191" y="333"/>
                  </a:lnTo>
                  <a:lnTo>
                    <a:pt x="193" y="338"/>
                  </a:lnTo>
                  <a:lnTo>
                    <a:pt x="191" y="348"/>
                  </a:lnTo>
                  <a:lnTo>
                    <a:pt x="186" y="353"/>
                  </a:lnTo>
                  <a:lnTo>
                    <a:pt x="173" y="353"/>
                  </a:lnTo>
                  <a:lnTo>
                    <a:pt x="166" y="348"/>
                  </a:lnTo>
                  <a:lnTo>
                    <a:pt x="161" y="343"/>
                  </a:lnTo>
                  <a:lnTo>
                    <a:pt x="156" y="338"/>
                  </a:lnTo>
                  <a:lnTo>
                    <a:pt x="148" y="330"/>
                  </a:lnTo>
                  <a:lnTo>
                    <a:pt x="143" y="325"/>
                  </a:lnTo>
                  <a:lnTo>
                    <a:pt x="138" y="318"/>
                  </a:lnTo>
                  <a:lnTo>
                    <a:pt x="134" y="310"/>
                  </a:lnTo>
                  <a:lnTo>
                    <a:pt x="126" y="303"/>
                  </a:lnTo>
                  <a:lnTo>
                    <a:pt x="121" y="293"/>
                  </a:lnTo>
                  <a:lnTo>
                    <a:pt x="116" y="286"/>
                  </a:lnTo>
                  <a:lnTo>
                    <a:pt x="111" y="276"/>
                  </a:lnTo>
                  <a:lnTo>
                    <a:pt x="104" y="266"/>
                  </a:lnTo>
                  <a:lnTo>
                    <a:pt x="99" y="258"/>
                  </a:lnTo>
                  <a:lnTo>
                    <a:pt x="94" y="248"/>
                  </a:lnTo>
                  <a:lnTo>
                    <a:pt x="86" y="238"/>
                  </a:lnTo>
                  <a:lnTo>
                    <a:pt x="81" y="229"/>
                  </a:lnTo>
                  <a:lnTo>
                    <a:pt x="76" y="221"/>
                  </a:lnTo>
                  <a:lnTo>
                    <a:pt x="69" y="214"/>
                  </a:lnTo>
                  <a:lnTo>
                    <a:pt x="64" y="206"/>
                  </a:lnTo>
                  <a:lnTo>
                    <a:pt x="59" y="199"/>
                  </a:lnTo>
                  <a:lnTo>
                    <a:pt x="54" y="194"/>
                  </a:lnTo>
                  <a:lnTo>
                    <a:pt x="47" y="189"/>
                  </a:lnTo>
                  <a:lnTo>
                    <a:pt x="44" y="184"/>
                  </a:lnTo>
                  <a:lnTo>
                    <a:pt x="37" y="179"/>
                  </a:lnTo>
                  <a:lnTo>
                    <a:pt x="34" y="179"/>
                  </a:lnTo>
                  <a:lnTo>
                    <a:pt x="24" y="179"/>
                  </a:lnTo>
                  <a:lnTo>
                    <a:pt x="17" y="186"/>
                  </a:lnTo>
                  <a:lnTo>
                    <a:pt x="12" y="189"/>
                  </a:lnTo>
                  <a:lnTo>
                    <a:pt x="9" y="196"/>
                  </a:lnTo>
                  <a:lnTo>
                    <a:pt x="5" y="201"/>
                  </a:lnTo>
                  <a:lnTo>
                    <a:pt x="5" y="209"/>
                  </a:lnTo>
                  <a:lnTo>
                    <a:pt x="2" y="216"/>
                  </a:lnTo>
                  <a:lnTo>
                    <a:pt x="2" y="226"/>
                  </a:lnTo>
                  <a:lnTo>
                    <a:pt x="0" y="234"/>
                  </a:lnTo>
                  <a:lnTo>
                    <a:pt x="2" y="243"/>
                  </a:lnTo>
                  <a:lnTo>
                    <a:pt x="2" y="253"/>
                  </a:lnTo>
                  <a:lnTo>
                    <a:pt x="2" y="263"/>
                  </a:lnTo>
                  <a:lnTo>
                    <a:pt x="5" y="273"/>
                  </a:lnTo>
                  <a:lnTo>
                    <a:pt x="7" y="286"/>
                  </a:lnTo>
                  <a:lnTo>
                    <a:pt x="9" y="296"/>
                  </a:lnTo>
                  <a:lnTo>
                    <a:pt x="12" y="305"/>
                  </a:lnTo>
                  <a:lnTo>
                    <a:pt x="12" y="313"/>
                  </a:lnTo>
                  <a:lnTo>
                    <a:pt x="14" y="318"/>
                  </a:lnTo>
                  <a:lnTo>
                    <a:pt x="17" y="325"/>
                  </a:lnTo>
                  <a:lnTo>
                    <a:pt x="19" y="330"/>
                  </a:lnTo>
                  <a:lnTo>
                    <a:pt x="19" y="335"/>
                  </a:lnTo>
                  <a:lnTo>
                    <a:pt x="22" y="343"/>
                  </a:lnTo>
                  <a:lnTo>
                    <a:pt x="24" y="348"/>
                  </a:lnTo>
                  <a:lnTo>
                    <a:pt x="27" y="353"/>
                  </a:lnTo>
                  <a:lnTo>
                    <a:pt x="29" y="360"/>
                  </a:lnTo>
                  <a:lnTo>
                    <a:pt x="32" y="365"/>
                  </a:lnTo>
                  <a:lnTo>
                    <a:pt x="34" y="372"/>
                  </a:lnTo>
                  <a:lnTo>
                    <a:pt x="37" y="377"/>
                  </a:lnTo>
                  <a:lnTo>
                    <a:pt x="39" y="382"/>
                  </a:lnTo>
                  <a:lnTo>
                    <a:pt x="42" y="390"/>
                  </a:lnTo>
                  <a:lnTo>
                    <a:pt x="47" y="395"/>
                  </a:lnTo>
                  <a:lnTo>
                    <a:pt x="49" y="402"/>
                  </a:lnTo>
                  <a:lnTo>
                    <a:pt x="52" y="407"/>
                  </a:lnTo>
                  <a:lnTo>
                    <a:pt x="54" y="412"/>
                  </a:lnTo>
                  <a:lnTo>
                    <a:pt x="59" y="420"/>
                  </a:lnTo>
                  <a:lnTo>
                    <a:pt x="62" y="425"/>
                  </a:lnTo>
                  <a:lnTo>
                    <a:pt x="69" y="437"/>
                  </a:lnTo>
                  <a:lnTo>
                    <a:pt x="76" y="447"/>
                  </a:lnTo>
                  <a:lnTo>
                    <a:pt x="79" y="452"/>
                  </a:lnTo>
                  <a:lnTo>
                    <a:pt x="84" y="459"/>
                  </a:lnTo>
                  <a:lnTo>
                    <a:pt x="86" y="464"/>
                  </a:lnTo>
                  <a:lnTo>
                    <a:pt x="91" y="469"/>
                  </a:lnTo>
                  <a:lnTo>
                    <a:pt x="99" y="479"/>
                  </a:lnTo>
                  <a:lnTo>
                    <a:pt x="106" y="489"/>
                  </a:lnTo>
                  <a:lnTo>
                    <a:pt x="114" y="499"/>
                  </a:lnTo>
                  <a:lnTo>
                    <a:pt x="124" y="509"/>
                  </a:lnTo>
                  <a:lnTo>
                    <a:pt x="131" y="516"/>
                  </a:lnTo>
                  <a:lnTo>
                    <a:pt x="138" y="524"/>
                  </a:lnTo>
                  <a:lnTo>
                    <a:pt x="148" y="531"/>
                  </a:lnTo>
                  <a:lnTo>
                    <a:pt x="156" y="536"/>
                  </a:lnTo>
                  <a:lnTo>
                    <a:pt x="163" y="541"/>
                  </a:lnTo>
                  <a:lnTo>
                    <a:pt x="171" y="546"/>
                  </a:lnTo>
                  <a:lnTo>
                    <a:pt x="178" y="551"/>
                  </a:lnTo>
                  <a:lnTo>
                    <a:pt x="186" y="556"/>
                  </a:lnTo>
                  <a:lnTo>
                    <a:pt x="191" y="556"/>
                  </a:lnTo>
                  <a:lnTo>
                    <a:pt x="198" y="561"/>
                  </a:lnTo>
                  <a:lnTo>
                    <a:pt x="205" y="564"/>
                  </a:lnTo>
                  <a:lnTo>
                    <a:pt x="213" y="566"/>
                  </a:lnTo>
                  <a:lnTo>
                    <a:pt x="220" y="566"/>
                  </a:lnTo>
                  <a:lnTo>
                    <a:pt x="225" y="569"/>
                  </a:lnTo>
                  <a:lnTo>
                    <a:pt x="233" y="569"/>
                  </a:lnTo>
                  <a:lnTo>
                    <a:pt x="238" y="571"/>
                  </a:lnTo>
                  <a:lnTo>
                    <a:pt x="248" y="573"/>
                  </a:lnTo>
                  <a:lnTo>
                    <a:pt x="260" y="573"/>
                  </a:lnTo>
                  <a:lnTo>
                    <a:pt x="270" y="573"/>
                  </a:lnTo>
                  <a:lnTo>
                    <a:pt x="280" y="576"/>
                  </a:lnTo>
                  <a:lnTo>
                    <a:pt x="290" y="578"/>
                  </a:lnTo>
                  <a:lnTo>
                    <a:pt x="297" y="581"/>
                  </a:lnTo>
                  <a:lnTo>
                    <a:pt x="307" y="586"/>
                  </a:lnTo>
                  <a:lnTo>
                    <a:pt x="317" y="593"/>
                  </a:lnTo>
                  <a:lnTo>
                    <a:pt x="320" y="596"/>
                  </a:lnTo>
                  <a:lnTo>
                    <a:pt x="324" y="601"/>
                  </a:lnTo>
                  <a:lnTo>
                    <a:pt x="327" y="606"/>
                  </a:lnTo>
                  <a:lnTo>
                    <a:pt x="334" y="613"/>
                  </a:lnTo>
                  <a:lnTo>
                    <a:pt x="339" y="618"/>
                  </a:lnTo>
                  <a:lnTo>
                    <a:pt x="344" y="628"/>
                  </a:lnTo>
                  <a:lnTo>
                    <a:pt x="349" y="636"/>
                  </a:lnTo>
                  <a:lnTo>
                    <a:pt x="357" y="648"/>
                  </a:lnTo>
                  <a:lnTo>
                    <a:pt x="362" y="655"/>
                  </a:lnTo>
                  <a:lnTo>
                    <a:pt x="367" y="665"/>
                  </a:lnTo>
                  <a:lnTo>
                    <a:pt x="374" y="678"/>
                  </a:lnTo>
                  <a:lnTo>
                    <a:pt x="379" y="688"/>
                  </a:lnTo>
                  <a:lnTo>
                    <a:pt x="387" y="698"/>
                  </a:lnTo>
                  <a:lnTo>
                    <a:pt x="391" y="710"/>
                  </a:lnTo>
                  <a:lnTo>
                    <a:pt x="394" y="715"/>
                  </a:lnTo>
                  <a:lnTo>
                    <a:pt x="399" y="720"/>
                  </a:lnTo>
                  <a:lnTo>
                    <a:pt x="401" y="727"/>
                  </a:lnTo>
                  <a:lnTo>
                    <a:pt x="404" y="732"/>
                  </a:lnTo>
                  <a:lnTo>
                    <a:pt x="409" y="745"/>
                  </a:lnTo>
                  <a:lnTo>
                    <a:pt x="414" y="755"/>
                  </a:lnTo>
                  <a:lnTo>
                    <a:pt x="419" y="765"/>
                  </a:lnTo>
                  <a:lnTo>
                    <a:pt x="426" y="777"/>
                  </a:lnTo>
                  <a:lnTo>
                    <a:pt x="429" y="784"/>
                  </a:lnTo>
                  <a:lnTo>
                    <a:pt x="436" y="794"/>
                  </a:lnTo>
                  <a:lnTo>
                    <a:pt x="439" y="804"/>
                  </a:lnTo>
                  <a:lnTo>
                    <a:pt x="444" y="814"/>
                  </a:lnTo>
                  <a:lnTo>
                    <a:pt x="449" y="822"/>
                  </a:lnTo>
                  <a:lnTo>
                    <a:pt x="451" y="827"/>
                  </a:lnTo>
                  <a:lnTo>
                    <a:pt x="453" y="832"/>
                  </a:lnTo>
                  <a:lnTo>
                    <a:pt x="456" y="839"/>
                  </a:lnTo>
                  <a:lnTo>
                    <a:pt x="458" y="846"/>
                  </a:lnTo>
                  <a:lnTo>
                    <a:pt x="461" y="849"/>
                  </a:lnTo>
                  <a:lnTo>
                    <a:pt x="585" y="762"/>
                  </a:lnTo>
                  <a:lnTo>
                    <a:pt x="585" y="76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3329280" y="3984480"/>
              <a:ext cx="949320" cy="1249560"/>
            </a:xfrm>
            <a:custGeom>
              <a:avLst/>
              <a:gdLst/>
              <a:ahLst/>
              <a:rect l="l" t="t" r="r" b="b"/>
              <a:pathLst>
                <a:path w="598" h="787">
                  <a:moveTo>
                    <a:pt x="593" y="740"/>
                  </a:moveTo>
                  <a:lnTo>
                    <a:pt x="591" y="737"/>
                  </a:lnTo>
                  <a:lnTo>
                    <a:pt x="586" y="730"/>
                  </a:lnTo>
                  <a:lnTo>
                    <a:pt x="581" y="725"/>
                  </a:lnTo>
                  <a:lnTo>
                    <a:pt x="578" y="720"/>
                  </a:lnTo>
                  <a:lnTo>
                    <a:pt x="573" y="715"/>
                  </a:lnTo>
                  <a:lnTo>
                    <a:pt x="568" y="710"/>
                  </a:lnTo>
                  <a:lnTo>
                    <a:pt x="563" y="700"/>
                  </a:lnTo>
                  <a:lnTo>
                    <a:pt x="558" y="693"/>
                  </a:lnTo>
                  <a:lnTo>
                    <a:pt x="551" y="685"/>
                  </a:lnTo>
                  <a:lnTo>
                    <a:pt x="546" y="675"/>
                  </a:lnTo>
                  <a:lnTo>
                    <a:pt x="541" y="665"/>
                  </a:lnTo>
                  <a:lnTo>
                    <a:pt x="534" y="656"/>
                  </a:lnTo>
                  <a:lnTo>
                    <a:pt x="529" y="648"/>
                  </a:lnTo>
                  <a:lnTo>
                    <a:pt x="521" y="638"/>
                  </a:lnTo>
                  <a:lnTo>
                    <a:pt x="516" y="626"/>
                  </a:lnTo>
                  <a:lnTo>
                    <a:pt x="509" y="618"/>
                  </a:lnTo>
                  <a:lnTo>
                    <a:pt x="504" y="606"/>
                  </a:lnTo>
                  <a:lnTo>
                    <a:pt x="496" y="596"/>
                  </a:lnTo>
                  <a:lnTo>
                    <a:pt x="491" y="586"/>
                  </a:lnTo>
                  <a:lnTo>
                    <a:pt x="486" y="576"/>
                  </a:lnTo>
                  <a:lnTo>
                    <a:pt x="482" y="569"/>
                  </a:lnTo>
                  <a:lnTo>
                    <a:pt x="477" y="559"/>
                  </a:lnTo>
                  <a:lnTo>
                    <a:pt x="472" y="551"/>
                  </a:lnTo>
                  <a:lnTo>
                    <a:pt x="469" y="541"/>
                  </a:lnTo>
                  <a:lnTo>
                    <a:pt x="464" y="534"/>
                  </a:lnTo>
                  <a:lnTo>
                    <a:pt x="462" y="529"/>
                  </a:lnTo>
                  <a:lnTo>
                    <a:pt x="459" y="522"/>
                  </a:lnTo>
                  <a:lnTo>
                    <a:pt x="459" y="517"/>
                  </a:lnTo>
                  <a:lnTo>
                    <a:pt x="459" y="512"/>
                  </a:lnTo>
                  <a:lnTo>
                    <a:pt x="462" y="509"/>
                  </a:lnTo>
                  <a:lnTo>
                    <a:pt x="462" y="502"/>
                  </a:lnTo>
                  <a:lnTo>
                    <a:pt x="464" y="497"/>
                  </a:lnTo>
                  <a:lnTo>
                    <a:pt x="467" y="492"/>
                  </a:lnTo>
                  <a:lnTo>
                    <a:pt x="469" y="487"/>
                  </a:lnTo>
                  <a:lnTo>
                    <a:pt x="474" y="482"/>
                  </a:lnTo>
                  <a:lnTo>
                    <a:pt x="482" y="474"/>
                  </a:lnTo>
                  <a:lnTo>
                    <a:pt x="482" y="467"/>
                  </a:lnTo>
                  <a:lnTo>
                    <a:pt x="484" y="462"/>
                  </a:lnTo>
                  <a:lnTo>
                    <a:pt x="486" y="455"/>
                  </a:lnTo>
                  <a:lnTo>
                    <a:pt x="489" y="445"/>
                  </a:lnTo>
                  <a:lnTo>
                    <a:pt x="489" y="440"/>
                  </a:lnTo>
                  <a:lnTo>
                    <a:pt x="491" y="432"/>
                  </a:lnTo>
                  <a:lnTo>
                    <a:pt x="491" y="427"/>
                  </a:lnTo>
                  <a:lnTo>
                    <a:pt x="491" y="422"/>
                  </a:lnTo>
                  <a:lnTo>
                    <a:pt x="491" y="412"/>
                  </a:lnTo>
                  <a:lnTo>
                    <a:pt x="491" y="405"/>
                  </a:lnTo>
                  <a:lnTo>
                    <a:pt x="494" y="395"/>
                  </a:lnTo>
                  <a:lnTo>
                    <a:pt x="494" y="385"/>
                  </a:lnTo>
                  <a:lnTo>
                    <a:pt x="494" y="380"/>
                  </a:lnTo>
                  <a:lnTo>
                    <a:pt x="494" y="373"/>
                  </a:lnTo>
                  <a:lnTo>
                    <a:pt x="491" y="368"/>
                  </a:lnTo>
                  <a:lnTo>
                    <a:pt x="491" y="363"/>
                  </a:lnTo>
                  <a:lnTo>
                    <a:pt x="489" y="355"/>
                  </a:lnTo>
                  <a:lnTo>
                    <a:pt x="489" y="348"/>
                  </a:lnTo>
                  <a:lnTo>
                    <a:pt x="486" y="343"/>
                  </a:lnTo>
                  <a:lnTo>
                    <a:pt x="486" y="335"/>
                  </a:lnTo>
                  <a:lnTo>
                    <a:pt x="484" y="328"/>
                  </a:lnTo>
                  <a:lnTo>
                    <a:pt x="482" y="323"/>
                  </a:lnTo>
                  <a:lnTo>
                    <a:pt x="479" y="313"/>
                  </a:lnTo>
                  <a:lnTo>
                    <a:pt x="477" y="308"/>
                  </a:lnTo>
                  <a:lnTo>
                    <a:pt x="474" y="301"/>
                  </a:lnTo>
                  <a:lnTo>
                    <a:pt x="472" y="293"/>
                  </a:lnTo>
                  <a:lnTo>
                    <a:pt x="469" y="283"/>
                  </a:lnTo>
                  <a:lnTo>
                    <a:pt x="464" y="276"/>
                  </a:lnTo>
                  <a:lnTo>
                    <a:pt x="462" y="268"/>
                  </a:lnTo>
                  <a:lnTo>
                    <a:pt x="457" y="261"/>
                  </a:lnTo>
                  <a:lnTo>
                    <a:pt x="452" y="251"/>
                  </a:lnTo>
                  <a:lnTo>
                    <a:pt x="449" y="244"/>
                  </a:lnTo>
                  <a:lnTo>
                    <a:pt x="444" y="236"/>
                  </a:lnTo>
                  <a:lnTo>
                    <a:pt x="439" y="229"/>
                  </a:lnTo>
                  <a:lnTo>
                    <a:pt x="437" y="219"/>
                  </a:lnTo>
                  <a:lnTo>
                    <a:pt x="432" y="211"/>
                  </a:lnTo>
                  <a:lnTo>
                    <a:pt x="427" y="204"/>
                  </a:lnTo>
                  <a:lnTo>
                    <a:pt x="422" y="194"/>
                  </a:lnTo>
                  <a:lnTo>
                    <a:pt x="417" y="186"/>
                  </a:lnTo>
                  <a:lnTo>
                    <a:pt x="412" y="179"/>
                  </a:lnTo>
                  <a:lnTo>
                    <a:pt x="407" y="169"/>
                  </a:lnTo>
                  <a:lnTo>
                    <a:pt x="402" y="162"/>
                  </a:lnTo>
                  <a:lnTo>
                    <a:pt x="397" y="154"/>
                  </a:lnTo>
                  <a:lnTo>
                    <a:pt x="395" y="147"/>
                  </a:lnTo>
                  <a:lnTo>
                    <a:pt x="387" y="139"/>
                  </a:lnTo>
                  <a:lnTo>
                    <a:pt x="382" y="132"/>
                  </a:lnTo>
                  <a:lnTo>
                    <a:pt x="377" y="122"/>
                  </a:lnTo>
                  <a:lnTo>
                    <a:pt x="372" y="115"/>
                  </a:lnTo>
                  <a:lnTo>
                    <a:pt x="367" y="107"/>
                  </a:lnTo>
                  <a:lnTo>
                    <a:pt x="362" y="100"/>
                  </a:lnTo>
                  <a:lnTo>
                    <a:pt x="357" y="92"/>
                  </a:lnTo>
                  <a:lnTo>
                    <a:pt x="353" y="87"/>
                  </a:lnTo>
                  <a:lnTo>
                    <a:pt x="348" y="80"/>
                  </a:lnTo>
                  <a:lnTo>
                    <a:pt x="343" y="72"/>
                  </a:lnTo>
                  <a:lnTo>
                    <a:pt x="338" y="67"/>
                  </a:lnTo>
                  <a:lnTo>
                    <a:pt x="333" y="60"/>
                  </a:lnTo>
                  <a:lnTo>
                    <a:pt x="328" y="55"/>
                  </a:lnTo>
                  <a:lnTo>
                    <a:pt x="323" y="48"/>
                  </a:lnTo>
                  <a:lnTo>
                    <a:pt x="318" y="43"/>
                  </a:lnTo>
                  <a:lnTo>
                    <a:pt x="315" y="40"/>
                  </a:lnTo>
                  <a:lnTo>
                    <a:pt x="305" y="30"/>
                  </a:lnTo>
                  <a:lnTo>
                    <a:pt x="295" y="20"/>
                  </a:lnTo>
                  <a:lnTo>
                    <a:pt x="288" y="13"/>
                  </a:lnTo>
                  <a:lnTo>
                    <a:pt x="283" y="8"/>
                  </a:lnTo>
                  <a:lnTo>
                    <a:pt x="276" y="3"/>
                  </a:lnTo>
                  <a:lnTo>
                    <a:pt x="271" y="0"/>
                  </a:lnTo>
                  <a:lnTo>
                    <a:pt x="263" y="0"/>
                  </a:lnTo>
                  <a:lnTo>
                    <a:pt x="261" y="0"/>
                  </a:lnTo>
                  <a:lnTo>
                    <a:pt x="251" y="0"/>
                  </a:lnTo>
                  <a:lnTo>
                    <a:pt x="246" y="3"/>
                  </a:lnTo>
                  <a:lnTo>
                    <a:pt x="238" y="5"/>
                  </a:lnTo>
                  <a:lnTo>
                    <a:pt x="233" y="5"/>
                  </a:lnTo>
                  <a:lnTo>
                    <a:pt x="226" y="13"/>
                  </a:lnTo>
                  <a:lnTo>
                    <a:pt x="221" y="18"/>
                  </a:lnTo>
                  <a:lnTo>
                    <a:pt x="219" y="28"/>
                  </a:lnTo>
                  <a:lnTo>
                    <a:pt x="219" y="38"/>
                  </a:lnTo>
                  <a:lnTo>
                    <a:pt x="219" y="43"/>
                  </a:lnTo>
                  <a:lnTo>
                    <a:pt x="219" y="50"/>
                  </a:lnTo>
                  <a:lnTo>
                    <a:pt x="221" y="60"/>
                  </a:lnTo>
                  <a:lnTo>
                    <a:pt x="224" y="67"/>
                  </a:lnTo>
                  <a:lnTo>
                    <a:pt x="224" y="72"/>
                  </a:lnTo>
                  <a:lnTo>
                    <a:pt x="226" y="77"/>
                  </a:lnTo>
                  <a:lnTo>
                    <a:pt x="229" y="85"/>
                  </a:lnTo>
                  <a:lnTo>
                    <a:pt x="233" y="90"/>
                  </a:lnTo>
                  <a:lnTo>
                    <a:pt x="236" y="97"/>
                  </a:lnTo>
                  <a:lnTo>
                    <a:pt x="241" y="105"/>
                  </a:lnTo>
                  <a:lnTo>
                    <a:pt x="243" y="115"/>
                  </a:lnTo>
                  <a:lnTo>
                    <a:pt x="251" y="122"/>
                  </a:lnTo>
                  <a:lnTo>
                    <a:pt x="253" y="132"/>
                  </a:lnTo>
                  <a:lnTo>
                    <a:pt x="261" y="139"/>
                  </a:lnTo>
                  <a:lnTo>
                    <a:pt x="263" y="149"/>
                  </a:lnTo>
                  <a:lnTo>
                    <a:pt x="271" y="159"/>
                  </a:lnTo>
                  <a:lnTo>
                    <a:pt x="276" y="169"/>
                  </a:lnTo>
                  <a:lnTo>
                    <a:pt x="281" y="179"/>
                  </a:lnTo>
                  <a:lnTo>
                    <a:pt x="286" y="189"/>
                  </a:lnTo>
                  <a:lnTo>
                    <a:pt x="293" y="199"/>
                  </a:lnTo>
                  <a:lnTo>
                    <a:pt x="295" y="209"/>
                  </a:lnTo>
                  <a:lnTo>
                    <a:pt x="300" y="216"/>
                  </a:lnTo>
                  <a:lnTo>
                    <a:pt x="305" y="226"/>
                  </a:lnTo>
                  <a:lnTo>
                    <a:pt x="310" y="236"/>
                  </a:lnTo>
                  <a:lnTo>
                    <a:pt x="313" y="244"/>
                  </a:lnTo>
                  <a:lnTo>
                    <a:pt x="318" y="254"/>
                  </a:lnTo>
                  <a:lnTo>
                    <a:pt x="320" y="261"/>
                  </a:lnTo>
                  <a:lnTo>
                    <a:pt x="325" y="271"/>
                  </a:lnTo>
                  <a:lnTo>
                    <a:pt x="325" y="276"/>
                  </a:lnTo>
                  <a:lnTo>
                    <a:pt x="328" y="283"/>
                  </a:lnTo>
                  <a:lnTo>
                    <a:pt x="328" y="288"/>
                  </a:lnTo>
                  <a:lnTo>
                    <a:pt x="330" y="296"/>
                  </a:lnTo>
                  <a:lnTo>
                    <a:pt x="325" y="306"/>
                  </a:lnTo>
                  <a:lnTo>
                    <a:pt x="323" y="311"/>
                  </a:lnTo>
                  <a:lnTo>
                    <a:pt x="313" y="311"/>
                  </a:lnTo>
                  <a:lnTo>
                    <a:pt x="303" y="306"/>
                  </a:lnTo>
                  <a:lnTo>
                    <a:pt x="298" y="301"/>
                  </a:lnTo>
                  <a:lnTo>
                    <a:pt x="293" y="296"/>
                  </a:lnTo>
                  <a:lnTo>
                    <a:pt x="288" y="288"/>
                  </a:lnTo>
                  <a:lnTo>
                    <a:pt x="283" y="281"/>
                  </a:lnTo>
                  <a:lnTo>
                    <a:pt x="278" y="271"/>
                  </a:lnTo>
                  <a:lnTo>
                    <a:pt x="271" y="261"/>
                  </a:lnTo>
                  <a:lnTo>
                    <a:pt x="266" y="251"/>
                  </a:lnTo>
                  <a:lnTo>
                    <a:pt x="258" y="241"/>
                  </a:lnTo>
                  <a:lnTo>
                    <a:pt x="253" y="236"/>
                  </a:lnTo>
                  <a:lnTo>
                    <a:pt x="251" y="231"/>
                  </a:lnTo>
                  <a:lnTo>
                    <a:pt x="248" y="224"/>
                  </a:lnTo>
                  <a:lnTo>
                    <a:pt x="246" y="219"/>
                  </a:lnTo>
                  <a:lnTo>
                    <a:pt x="238" y="209"/>
                  </a:lnTo>
                  <a:lnTo>
                    <a:pt x="233" y="199"/>
                  </a:lnTo>
                  <a:lnTo>
                    <a:pt x="229" y="191"/>
                  </a:lnTo>
                  <a:lnTo>
                    <a:pt x="226" y="186"/>
                  </a:lnTo>
                  <a:lnTo>
                    <a:pt x="221" y="179"/>
                  </a:lnTo>
                  <a:lnTo>
                    <a:pt x="219" y="174"/>
                  </a:lnTo>
                  <a:lnTo>
                    <a:pt x="211" y="162"/>
                  </a:lnTo>
                  <a:lnTo>
                    <a:pt x="206" y="152"/>
                  </a:lnTo>
                  <a:lnTo>
                    <a:pt x="199" y="142"/>
                  </a:lnTo>
                  <a:lnTo>
                    <a:pt x="191" y="132"/>
                  </a:lnTo>
                  <a:lnTo>
                    <a:pt x="186" y="124"/>
                  </a:lnTo>
                  <a:lnTo>
                    <a:pt x="179" y="117"/>
                  </a:lnTo>
                  <a:lnTo>
                    <a:pt x="171" y="107"/>
                  </a:lnTo>
                  <a:lnTo>
                    <a:pt x="167" y="102"/>
                  </a:lnTo>
                  <a:lnTo>
                    <a:pt x="159" y="97"/>
                  </a:lnTo>
                  <a:lnTo>
                    <a:pt x="154" y="95"/>
                  </a:lnTo>
                  <a:lnTo>
                    <a:pt x="147" y="90"/>
                  </a:lnTo>
                  <a:lnTo>
                    <a:pt x="142" y="90"/>
                  </a:lnTo>
                  <a:lnTo>
                    <a:pt x="137" y="90"/>
                  </a:lnTo>
                  <a:lnTo>
                    <a:pt x="132" y="95"/>
                  </a:lnTo>
                  <a:lnTo>
                    <a:pt x="127" y="97"/>
                  </a:lnTo>
                  <a:lnTo>
                    <a:pt x="122" y="102"/>
                  </a:lnTo>
                  <a:lnTo>
                    <a:pt x="122" y="110"/>
                  </a:lnTo>
                  <a:lnTo>
                    <a:pt x="122" y="117"/>
                  </a:lnTo>
                  <a:lnTo>
                    <a:pt x="119" y="124"/>
                  </a:lnTo>
                  <a:lnTo>
                    <a:pt x="122" y="132"/>
                  </a:lnTo>
                  <a:lnTo>
                    <a:pt x="122" y="142"/>
                  </a:lnTo>
                  <a:lnTo>
                    <a:pt x="127" y="154"/>
                  </a:lnTo>
                  <a:lnTo>
                    <a:pt x="129" y="164"/>
                  </a:lnTo>
                  <a:lnTo>
                    <a:pt x="132" y="174"/>
                  </a:lnTo>
                  <a:lnTo>
                    <a:pt x="134" y="182"/>
                  </a:lnTo>
                  <a:lnTo>
                    <a:pt x="137" y="186"/>
                  </a:lnTo>
                  <a:lnTo>
                    <a:pt x="139" y="194"/>
                  </a:lnTo>
                  <a:lnTo>
                    <a:pt x="142" y="199"/>
                  </a:lnTo>
                  <a:lnTo>
                    <a:pt x="144" y="206"/>
                  </a:lnTo>
                  <a:lnTo>
                    <a:pt x="147" y="211"/>
                  </a:lnTo>
                  <a:lnTo>
                    <a:pt x="149" y="219"/>
                  </a:lnTo>
                  <a:lnTo>
                    <a:pt x="152" y="224"/>
                  </a:lnTo>
                  <a:lnTo>
                    <a:pt x="154" y="231"/>
                  </a:lnTo>
                  <a:lnTo>
                    <a:pt x="157" y="236"/>
                  </a:lnTo>
                  <a:lnTo>
                    <a:pt x="162" y="244"/>
                  </a:lnTo>
                  <a:lnTo>
                    <a:pt x="164" y="251"/>
                  </a:lnTo>
                  <a:lnTo>
                    <a:pt x="167" y="256"/>
                  </a:lnTo>
                  <a:lnTo>
                    <a:pt x="169" y="261"/>
                  </a:lnTo>
                  <a:lnTo>
                    <a:pt x="171" y="268"/>
                  </a:lnTo>
                  <a:lnTo>
                    <a:pt x="174" y="273"/>
                  </a:lnTo>
                  <a:lnTo>
                    <a:pt x="176" y="278"/>
                  </a:lnTo>
                  <a:lnTo>
                    <a:pt x="179" y="286"/>
                  </a:lnTo>
                  <a:lnTo>
                    <a:pt x="181" y="291"/>
                  </a:lnTo>
                  <a:lnTo>
                    <a:pt x="184" y="298"/>
                  </a:lnTo>
                  <a:lnTo>
                    <a:pt x="189" y="308"/>
                  </a:lnTo>
                  <a:lnTo>
                    <a:pt x="194" y="318"/>
                  </a:lnTo>
                  <a:lnTo>
                    <a:pt x="199" y="330"/>
                  </a:lnTo>
                  <a:lnTo>
                    <a:pt x="204" y="340"/>
                  </a:lnTo>
                  <a:lnTo>
                    <a:pt x="206" y="348"/>
                  </a:lnTo>
                  <a:lnTo>
                    <a:pt x="206" y="355"/>
                  </a:lnTo>
                  <a:lnTo>
                    <a:pt x="209" y="363"/>
                  </a:lnTo>
                  <a:lnTo>
                    <a:pt x="209" y="370"/>
                  </a:lnTo>
                  <a:lnTo>
                    <a:pt x="206" y="378"/>
                  </a:lnTo>
                  <a:lnTo>
                    <a:pt x="201" y="383"/>
                  </a:lnTo>
                  <a:lnTo>
                    <a:pt x="191" y="380"/>
                  </a:lnTo>
                  <a:lnTo>
                    <a:pt x="181" y="373"/>
                  </a:lnTo>
                  <a:lnTo>
                    <a:pt x="174" y="365"/>
                  </a:lnTo>
                  <a:lnTo>
                    <a:pt x="169" y="360"/>
                  </a:lnTo>
                  <a:lnTo>
                    <a:pt x="164" y="350"/>
                  </a:lnTo>
                  <a:lnTo>
                    <a:pt x="159" y="343"/>
                  </a:lnTo>
                  <a:lnTo>
                    <a:pt x="152" y="333"/>
                  </a:lnTo>
                  <a:lnTo>
                    <a:pt x="147" y="323"/>
                  </a:lnTo>
                  <a:lnTo>
                    <a:pt x="139" y="311"/>
                  </a:lnTo>
                  <a:lnTo>
                    <a:pt x="134" y="301"/>
                  </a:lnTo>
                  <a:lnTo>
                    <a:pt x="132" y="296"/>
                  </a:lnTo>
                  <a:lnTo>
                    <a:pt x="129" y="288"/>
                  </a:lnTo>
                  <a:lnTo>
                    <a:pt x="124" y="283"/>
                  </a:lnTo>
                  <a:lnTo>
                    <a:pt x="122" y="276"/>
                  </a:lnTo>
                  <a:lnTo>
                    <a:pt x="119" y="271"/>
                  </a:lnTo>
                  <a:lnTo>
                    <a:pt x="117" y="263"/>
                  </a:lnTo>
                  <a:lnTo>
                    <a:pt x="112" y="258"/>
                  </a:lnTo>
                  <a:lnTo>
                    <a:pt x="109" y="254"/>
                  </a:lnTo>
                  <a:lnTo>
                    <a:pt x="104" y="246"/>
                  </a:lnTo>
                  <a:lnTo>
                    <a:pt x="102" y="241"/>
                  </a:lnTo>
                  <a:lnTo>
                    <a:pt x="100" y="234"/>
                  </a:lnTo>
                  <a:lnTo>
                    <a:pt x="97" y="229"/>
                  </a:lnTo>
                  <a:lnTo>
                    <a:pt x="90" y="216"/>
                  </a:lnTo>
                  <a:lnTo>
                    <a:pt x="82" y="209"/>
                  </a:lnTo>
                  <a:lnTo>
                    <a:pt x="77" y="196"/>
                  </a:lnTo>
                  <a:lnTo>
                    <a:pt x="70" y="189"/>
                  </a:lnTo>
                  <a:lnTo>
                    <a:pt x="65" y="179"/>
                  </a:lnTo>
                  <a:lnTo>
                    <a:pt x="57" y="174"/>
                  </a:lnTo>
                  <a:lnTo>
                    <a:pt x="52" y="167"/>
                  </a:lnTo>
                  <a:lnTo>
                    <a:pt x="45" y="159"/>
                  </a:lnTo>
                  <a:lnTo>
                    <a:pt x="40" y="157"/>
                  </a:lnTo>
                  <a:lnTo>
                    <a:pt x="33" y="154"/>
                  </a:lnTo>
                  <a:lnTo>
                    <a:pt x="23" y="154"/>
                  </a:lnTo>
                  <a:lnTo>
                    <a:pt x="13" y="162"/>
                  </a:lnTo>
                  <a:lnTo>
                    <a:pt x="5" y="167"/>
                  </a:lnTo>
                  <a:lnTo>
                    <a:pt x="3" y="172"/>
                  </a:lnTo>
                  <a:lnTo>
                    <a:pt x="0" y="182"/>
                  </a:lnTo>
                  <a:lnTo>
                    <a:pt x="0" y="191"/>
                  </a:lnTo>
                  <a:lnTo>
                    <a:pt x="0" y="194"/>
                  </a:lnTo>
                  <a:lnTo>
                    <a:pt x="0" y="199"/>
                  </a:lnTo>
                  <a:lnTo>
                    <a:pt x="0" y="206"/>
                  </a:lnTo>
                  <a:lnTo>
                    <a:pt x="3" y="211"/>
                  </a:lnTo>
                  <a:lnTo>
                    <a:pt x="3" y="219"/>
                  </a:lnTo>
                  <a:lnTo>
                    <a:pt x="5" y="224"/>
                  </a:lnTo>
                  <a:lnTo>
                    <a:pt x="8" y="231"/>
                  </a:lnTo>
                  <a:lnTo>
                    <a:pt x="10" y="239"/>
                  </a:lnTo>
                  <a:lnTo>
                    <a:pt x="10" y="246"/>
                  </a:lnTo>
                  <a:lnTo>
                    <a:pt x="13" y="251"/>
                  </a:lnTo>
                  <a:lnTo>
                    <a:pt x="15" y="258"/>
                  </a:lnTo>
                  <a:lnTo>
                    <a:pt x="20" y="266"/>
                  </a:lnTo>
                  <a:lnTo>
                    <a:pt x="23" y="273"/>
                  </a:lnTo>
                  <a:lnTo>
                    <a:pt x="25" y="281"/>
                  </a:lnTo>
                  <a:lnTo>
                    <a:pt x="30" y="288"/>
                  </a:lnTo>
                  <a:lnTo>
                    <a:pt x="33" y="296"/>
                  </a:lnTo>
                  <a:lnTo>
                    <a:pt x="38" y="303"/>
                  </a:lnTo>
                  <a:lnTo>
                    <a:pt x="40" y="313"/>
                  </a:lnTo>
                  <a:lnTo>
                    <a:pt x="45" y="321"/>
                  </a:lnTo>
                  <a:lnTo>
                    <a:pt x="50" y="328"/>
                  </a:lnTo>
                  <a:lnTo>
                    <a:pt x="55" y="335"/>
                  </a:lnTo>
                  <a:lnTo>
                    <a:pt x="60" y="345"/>
                  </a:lnTo>
                  <a:lnTo>
                    <a:pt x="62" y="353"/>
                  </a:lnTo>
                  <a:lnTo>
                    <a:pt x="70" y="360"/>
                  </a:lnTo>
                  <a:lnTo>
                    <a:pt x="75" y="368"/>
                  </a:lnTo>
                  <a:lnTo>
                    <a:pt x="80" y="378"/>
                  </a:lnTo>
                  <a:lnTo>
                    <a:pt x="82" y="385"/>
                  </a:lnTo>
                  <a:lnTo>
                    <a:pt x="87" y="392"/>
                  </a:lnTo>
                  <a:lnTo>
                    <a:pt x="92" y="400"/>
                  </a:lnTo>
                  <a:lnTo>
                    <a:pt x="97" y="407"/>
                  </a:lnTo>
                  <a:lnTo>
                    <a:pt x="104" y="415"/>
                  </a:lnTo>
                  <a:lnTo>
                    <a:pt x="109" y="425"/>
                  </a:lnTo>
                  <a:lnTo>
                    <a:pt x="114" y="432"/>
                  </a:lnTo>
                  <a:lnTo>
                    <a:pt x="119" y="440"/>
                  </a:lnTo>
                  <a:lnTo>
                    <a:pt x="124" y="445"/>
                  </a:lnTo>
                  <a:lnTo>
                    <a:pt x="129" y="455"/>
                  </a:lnTo>
                  <a:lnTo>
                    <a:pt x="134" y="459"/>
                  </a:lnTo>
                  <a:lnTo>
                    <a:pt x="139" y="467"/>
                  </a:lnTo>
                  <a:lnTo>
                    <a:pt x="144" y="474"/>
                  </a:lnTo>
                  <a:lnTo>
                    <a:pt x="152" y="482"/>
                  </a:lnTo>
                  <a:lnTo>
                    <a:pt x="154" y="487"/>
                  </a:lnTo>
                  <a:lnTo>
                    <a:pt x="159" y="492"/>
                  </a:lnTo>
                  <a:lnTo>
                    <a:pt x="164" y="499"/>
                  </a:lnTo>
                  <a:lnTo>
                    <a:pt x="169" y="504"/>
                  </a:lnTo>
                  <a:lnTo>
                    <a:pt x="174" y="509"/>
                  </a:lnTo>
                  <a:lnTo>
                    <a:pt x="179" y="517"/>
                  </a:lnTo>
                  <a:lnTo>
                    <a:pt x="181" y="522"/>
                  </a:lnTo>
                  <a:lnTo>
                    <a:pt x="189" y="526"/>
                  </a:lnTo>
                  <a:lnTo>
                    <a:pt x="194" y="536"/>
                  </a:lnTo>
                  <a:lnTo>
                    <a:pt x="204" y="544"/>
                  </a:lnTo>
                  <a:lnTo>
                    <a:pt x="211" y="549"/>
                  </a:lnTo>
                  <a:lnTo>
                    <a:pt x="219" y="556"/>
                  </a:lnTo>
                  <a:lnTo>
                    <a:pt x="224" y="559"/>
                  </a:lnTo>
                  <a:lnTo>
                    <a:pt x="229" y="564"/>
                  </a:lnTo>
                  <a:lnTo>
                    <a:pt x="233" y="566"/>
                  </a:lnTo>
                  <a:lnTo>
                    <a:pt x="241" y="571"/>
                  </a:lnTo>
                  <a:lnTo>
                    <a:pt x="251" y="576"/>
                  </a:lnTo>
                  <a:lnTo>
                    <a:pt x="261" y="579"/>
                  </a:lnTo>
                  <a:lnTo>
                    <a:pt x="271" y="581"/>
                  </a:lnTo>
                  <a:lnTo>
                    <a:pt x="281" y="584"/>
                  </a:lnTo>
                  <a:lnTo>
                    <a:pt x="291" y="586"/>
                  </a:lnTo>
                  <a:lnTo>
                    <a:pt x="300" y="586"/>
                  </a:lnTo>
                  <a:lnTo>
                    <a:pt x="305" y="586"/>
                  </a:lnTo>
                  <a:lnTo>
                    <a:pt x="315" y="586"/>
                  </a:lnTo>
                  <a:lnTo>
                    <a:pt x="323" y="586"/>
                  </a:lnTo>
                  <a:lnTo>
                    <a:pt x="330" y="589"/>
                  </a:lnTo>
                  <a:lnTo>
                    <a:pt x="338" y="589"/>
                  </a:lnTo>
                  <a:lnTo>
                    <a:pt x="343" y="591"/>
                  </a:lnTo>
                  <a:lnTo>
                    <a:pt x="348" y="593"/>
                  </a:lnTo>
                  <a:lnTo>
                    <a:pt x="355" y="598"/>
                  </a:lnTo>
                  <a:lnTo>
                    <a:pt x="357" y="603"/>
                  </a:lnTo>
                  <a:lnTo>
                    <a:pt x="365" y="613"/>
                  </a:lnTo>
                  <a:lnTo>
                    <a:pt x="367" y="618"/>
                  </a:lnTo>
                  <a:lnTo>
                    <a:pt x="370" y="626"/>
                  </a:lnTo>
                  <a:lnTo>
                    <a:pt x="375" y="633"/>
                  </a:lnTo>
                  <a:lnTo>
                    <a:pt x="377" y="641"/>
                  </a:lnTo>
                  <a:lnTo>
                    <a:pt x="382" y="648"/>
                  </a:lnTo>
                  <a:lnTo>
                    <a:pt x="385" y="656"/>
                  </a:lnTo>
                  <a:lnTo>
                    <a:pt x="390" y="665"/>
                  </a:lnTo>
                  <a:lnTo>
                    <a:pt x="395" y="673"/>
                  </a:lnTo>
                  <a:lnTo>
                    <a:pt x="397" y="683"/>
                  </a:lnTo>
                  <a:lnTo>
                    <a:pt x="402" y="693"/>
                  </a:lnTo>
                  <a:lnTo>
                    <a:pt x="407" y="703"/>
                  </a:lnTo>
                  <a:lnTo>
                    <a:pt x="412" y="710"/>
                  </a:lnTo>
                  <a:lnTo>
                    <a:pt x="415" y="720"/>
                  </a:lnTo>
                  <a:lnTo>
                    <a:pt x="420" y="727"/>
                  </a:lnTo>
                  <a:lnTo>
                    <a:pt x="424" y="735"/>
                  </a:lnTo>
                  <a:lnTo>
                    <a:pt x="429" y="745"/>
                  </a:lnTo>
                  <a:lnTo>
                    <a:pt x="432" y="752"/>
                  </a:lnTo>
                  <a:lnTo>
                    <a:pt x="437" y="757"/>
                  </a:lnTo>
                  <a:lnTo>
                    <a:pt x="442" y="765"/>
                  </a:lnTo>
                  <a:lnTo>
                    <a:pt x="447" y="770"/>
                  </a:lnTo>
                  <a:lnTo>
                    <a:pt x="454" y="780"/>
                  </a:lnTo>
                  <a:lnTo>
                    <a:pt x="462" y="787"/>
                  </a:lnTo>
                  <a:lnTo>
                    <a:pt x="469" y="787"/>
                  </a:lnTo>
                  <a:lnTo>
                    <a:pt x="479" y="787"/>
                  </a:lnTo>
                  <a:lnTo>
                    <a:pt x="482" y="782"/>
                  </a:lnTo>
                  <a:lnTo>
                    <a:pt x="482" y="780"/>
                  </a:lnTo>
                  <a:lnTo>
                    <a:pt x="482" y="775"/>
                  </a:lnTo>
                  <a:lnTo>
                    <a:pt x="484" y="770"/>
                  </a:lnTo>
                  <a:lnTo>
                    <a:pt x="482" y="762"/>
                  </a:lnTo>
                  <a:lnTo>
                    <a:pt x="482" y="755"/>
                  </a:lnTo>
                  <a:lnTo>
                    <a:pt x="482" y="747"/>
                  </a:lnTo>
                  <a:lnTo>
                    <a:pt x="482" y="737"/>
                  </a:lnTo>
                  <a:lnTo>
                    <a:pt x="477" y="727"/>
                  </a:lnTo>
                  <a:lnTo>
                    <a:pt x="474" y="720"/>
                  </a:lnTo>
                  <a:lnTo>
                    <a:pt x="469" y="710"/>
                  </a:lnTo>
                  <a:lnTo>
                    <a:pt x="467" y="700"/>
                  </a:lnTo>
                  <a:lnTo>
                    <a:pt x="462" y="688"/>
                  </a:lnTo>
                  <a:lnTo>
                    <a:pt x="457" y="678"/>
                  </a:lnTo>
                  <a:lnTo>
                    <a:pt x="454" y="668"/>
                  </a:lnTo>
                  <a:lnTo>
                    <a:pt x="449" y="658"/>
                  </a:lnTo>
                  <a:lnTo>
                    <a:pt x="447" y="651"/>
                  </a:lnTo>
                  <a:lnTo>
                    <a:pt x="444" y="646"/>
                  </a:lnTo>
                  <a:lnTo>
                    <a:pt x="439" y="641"/>
                  </a:lnTo>
                  <a:lnTo>
                    <a:pt x="437" y="636"/>
                  </a:lnTo>
                  <a:lnTo>
                    <a:pt x="432" y="623"/>
                  </a:lnTo>
                  <a:lnTo>
                    <a:pt x="427" y="613"/>
                  </a:lnTo>
                  <a:lnTo>
                    <a:pt x="420" y="603"/>
                  </a:lnTo>
                  <a:lnTo>
                    <a:pt x="415" y="593"/>
                  </a:lnTo>
                  <a:lnTo>
                    <a:pt x="410" y="584"/>
                  </a:lnTo>
                  <a:lnTo>
                    <a:pt x="402" y="576"/>
                  </a:lnTo>
                  <a:lnTo>
                    <a:pt x="397" y="569"/>
                  </a:lnTo>
                  <a:lnTo>
                    <a:pt x="390" y="561"/>
                  </a:lnTo>
                  <a:lnTo>
                    <a:pt x="385" y="554"/>
                  </a:lnTo>
                  <a:lnTo>
                    <a:pt x="380" y="551"/>
                  </a:lnTo>
                  <a:lnTo>
                    <a:pt x="372" y="541"/>
                  </a:lnTo>
                  <a:lnTo>
                    <a:pt x="362" y="541"/>
                  </a:lnTo>
                  <a:lnTo>
                    <a:pt x="355" y="539"/>
                  </a:lnTo>
                  <a:lnTo>
                    <a:pt x="345" y="539"/>
                  </a:lnTo>
                  <a:lnTo>
                    <a:pt x="338" y="539"/>
                  </a:lnTo>
                  <a:lnTo>
                    <a:pt x="330" y="539"/>
                  </a:lnTo>
                  <a:lnTo>
                    <a:pt x="320" y="539"/>
                  </a:lnTo>
                  <a:lnTo>
                    <a:pt x="310" y="541"/>
                  </a:lnTo>
                  <a:lnTo>
                    <a:pt x="300" y="541"/>
                  </a:lnTo>
                  <a:lnTo>
                    <a:pt x="293" y="541"/>
                  </a:lnTo>
                  <a:lnTo>
                    <a:pt x="283" y="541"/>
                  </a:lnTo>
                  <a:lnTo>
                    <a:pt x="273" y="541"/>
                  </a:lnTo>
                  <a:lnTo>
                    <a:pt x="266" y="541"/>
                  </a:lnTo>
                  <a:lnTo>
                    <a:pt x="256" y="539"/>
                  </a:lnTo>
                  <a:lnTo>
                    <a:pt x="246" y="536"/>
                  </a:lnTo>
                  <a:lnTo>
                    <a:pt x="238" y="531"/>
                  </a:lnTo>
                  <a:lnTo>
                    <a:pt x="231" y="526"/>
                  </a:lnTo>
                  <a:lnTo>
                    <a:pt x="224" y="522"/>
                  </a:lnTo>
                  <a:lnTo>
                    <a:pt x="216" y="512"/>
                  </a:lnTo>
                  <a:lnTo>
                    <a:pt x="206" y="502"/>
                  </a:lnTo>
                  <a:lnTo>
                    <a:pt x="201" y="497"/>
                  </a:lnTo>
                  <a:lnTo>
                    <a:pt x="196" y="489"/>
                  </a:lnTo>
                  <a:lnTo>
                    <a:pt x="191" y="484"/>
                  </a:lnTo>
                  <a:lnTo>
                    <a:pt x="186" y="477"/>
                  </a:lnTo>
                  <a:lnTo>
                    <a:pt x="181" y="469"/>
                  </a:lnTo>
                  <a:lnTo>
                    <a:pt x="176" y="462"/>
                  </a:lnTo>
                  <a:lnTo>
                    <a:pt x="169" y="455"/>
                  </a:lnTo>
                  <a:lnTo>
                    <a:pt x="164" y="447"/>
                  </a:lnTo>
                  <a:lnTo>
                    <a:pt x="157" y="440"/>
                  </a:lnTo>
                  <a:lnTo>
                    <a:pt x="152" y="432"/>
                  </a:lnTo>
                  <a:lnTo>
                    <a:pt x="147" y="425"/>
                  </a:lnTo>
                  <a:lnTo>
                    <a:pt x="142" y="420"/>
                  </a:lnTo>
                  <a:lnTo>
                    <a:pt x="137" y="410"/>
                  </a:lnTo>
                  <a:lnTo>
                    <a:pt x="129" y="402"/>
                  </a:lnTo>
                  <a:lnTo>
                    <a:pt x="124" y="395"/>
                  </a:lnTo>
                  <a:lnTo>
                    <a:pt x="122" y="388"/>
                  </a:lnTo>
                  <a:lnTo>
                    <a:pt x="117" y="380"/>
                  </a:lnTo>
                  <a:lnTo>
                    <a:pt x="112" y="373"/>
                  </a:lnTo>
                  <a:lnTo>
                    <a:pt x="109" y="368"/>
                  </a:lnTo>
                  <a:lnTo>
                    <a:pt x="104" y="363"/>
                  </a:lnTo>
                  <a:lnTo>
                    <a:pt x="102" y="355"/>
                  </a:lnTo>
                  <a:lnTo>
                    <a:pt x="100" y="350"/>
                  </a:lnTo>
                  <a:lnTo>
                    <a:pt x="97" y="345"/>
                  </a:lnTo>
                  <a:lnTo>
                    <a:pt x="97" y="343"/>
                  </a:lnTo>
                  <a:lnTo>
                    <a:pt x="95" y="335"/>
                  </a:lnTo>
                  <a:lnTo>
                    <a:pt x="97" y="330"/>
                  </a:lnTo>
                  <a:lnTo>
                    <a:pt x="100" y="328"/>
                  </a:lnTo>
                  <a:lnTo>
                    <a:pt x="104" y="330"/>
                  </a:lnTo>
                  <a:lnTo>
                    <a:pt x="107" y="330"/>
                  </a:lnTo>
                  <a:lnTo>
                    <a:pt x="112" y="338"/>
                  </a:lnTo>
                  <a:lnTo>
                    <a:pt x="117" y="343"/>
                  </a:lnTo>
                  <a:lnTo>
                    <a:pt x="124" y="350"/>
                  </a:lnTo>
                  <a:lnTo>
                    <a:pt x="129" y="360"/>
                  </a:lnTo>
                  <a:lnTo>
                    <a:pt x="139" y="370"/>
                  </a:lnTo>
                  <a:lnTo>
                    <a:pt x="144" y="380"/>
                  </a:lnTo>
                  <a:lnTo>
                    <a:pt x="152" y="390"/>
                  </a:lnTo>
                  <a:lnTo>
                    <a:pt x="159" y="397"/>
                  </a:lnTo>
                  <a:lnTo>
                    <a:pt x="169" y="410"/>
                  </a:lnTo>
                  <a:lnTo>
                    <a:pt x="176" y="415"/>
                  </a:lnTo>
                  <a:lnTo>
                    <a:pt x="186" y="422"/>
                  </a:lnTo>
                  <a:lnTo>
                    <a:pt x="194" y="427"/>
                  </a:lnTo>
                  <a:lnTo>
                    <a:pt x="204" y="432"/>
                  </a:lnTo>
                  <a:lnTo>
                    <a:pt x="211" y="432"/>
                  </a:lnTo>
                  <a:lnTo>
                    <a:pt x="221" y="432"/>
                  </a:lnTo>
                  <a:lnTo>
                    <a:pt x="226" y="432"/>
                  </a:lnTo>
                  <a:lnTo>
                    <a:pt x="233" y="432"/>
                  </a:lnTo>
                  <a:lnTo>
                    <a:pt x="238" y="430"/>
                  </a:lnTo>
                  <a:lnTo>
                    <a:pt x="243" y="427"/>
                  </a:lnTo>
                  <a:lnTo>
                    <a:pt x="248" y="425"/>
                  </a:lnTo>
                  <a:lnTo>
                    <a:pt x="253" y="422"/>
                  </a:lnTo>
                  <a:lnTo>
                    <a:pt x="253" y="415"/>
                  </a:lnTo>
                  <a:lnTo>
                    <a:pt x="256" y="412"/>
                  </a:lnTo>
                  <a:lnTo>
                    <a:pt x="258" y="405"/>
                  </a:lnTo>
                  <a:lnTo>
                    <a:pt x="258" y="400"/>
                  </a:lnTo>
                  <a:lnTo>
                    <a:pt x="258" y="392"/>
                  </a:lnTo>
                  <a:lnTo>
                    <a:pt x="258" y="385"/>
                  </a:lnTo>
                  <a:lnTo>
                    <a:pt x="256" y="378"/>
                  </a:lnTo>
                  <a:lnTo>
                    <a:pt x="253" y="373"/>
                  </a:lnTo>
                  <a:lnTo>
                    <a:pt x="251" y="363"/>
                  </a:lnTo>
                  <a:lnTo>
                    <a:pt x="246" y="355"/>
                  </a:lnTo>
                  <a:lnTo>
                    <a:pt x="241" y="343"/>
                  </a:lnTo>
                  <a:lnTo>
                    <a:pt x="236" y="333"/>
                  </a:lnTo>
                  <a:lnTo>
                    <a:pt x="229" y="323"/>
                  </a:lnTo>
                  <a:lnTo>
                    <a:pt x="224" y="313"/>
                  </a:lnTo>
                  <a:lnTo>
                    <a:pt x="219" y="301"/>
                  </a:lnTo>
                  <a:lnTo>
                    <a:pt x="216" y="293"/>
                  </a:lnTo>
                  <a:lnTo>
                    <a:pt x="211" y="283"/>
                  </a:lnTo>
                  <a:lnTo>
                    <a:pt x="206" y="273"/>
                  </a:lnTo>
                  <a:lnTo>
                    <a:pt x="204" y="263"/>
                  </a:lnTo>
                  <a:lnTo>
                    <a:pt x="201" y="258"/>
                  </a:lnTo>
                  <a:lnTo>
                    <a:pt x="201" y="254"/>
                  </a:lnTo>
                  <a:lnTo>
                    <a:pt x="204" y="249"/>
                  </a:lnTo>
                  <a:lnTo>
                    <a:pt x="206" y="246"/>
                  </a:lnTo>
                  <a:lnTo>
                    <a:pt x="211" y="246"/>
                  </a:lnTo>
                  <a:lnTo>
                    <a:pt x="216" y="246"/>
                  </a:lnTo>
                  <a:lnTo>
                    <a:pt x="221" y="249"/>
                  </a:lnTo>
                  <a:lnTo>
                    <a:pt x="226" y="254"/>
                  </a:lnTo>
                  <a:lnTo>
                    <a:pt x="233" y="261"/>
                  </a:lnTo>
                  <a:lnTo>
                    <a:pt x="238" y="268"/>
                  </a:lnTo>
                  <a:lnTo>
                    <a:pt x="243" y="278"/>
                  </a:lnTo>
                  <a:lnTo>
                    <a:pt x="251" y="288"/>
                  </a:lnTo>
                  <a:lnTo>
                    <a:pt x="256" y="298"/>
                  </a:lnTo>
                  <a:lnTo>
                    <a:pt x="263" y="308"/>
                  </a:lnTo>
                  <a:lnTo>
                    <a:pt x="268" y="316"/>
                  </a:lnTo>
                  <a:lnTo>
                    <a:pt x="276" y="323"/>
                  </a:lnTo>
                  <a:lnTo>
                    <a:pt x="286" y="333"/>
                  </a:lnTo>
                  <a:lnTo>
                    <a:pt x="293" y="338"/>
                  </a:lnTo>
                  <a:lnTo>
                    <a:pt x="303" y="343"/>
                  </a:lnTo>
                  <a:lnTo>
                    <a:pt x="308" y="345"/>
                  </a:lnTo>
                  <a:lnTo>
                    <a:pt x="313" y="348"/>
                  </a:lnTo>
                  <a:lnTo>
                    <a:pt x="320" y="348"/>
                  </a:lnTo>
                  <a:lnTo>
                    <a:pt x="325" y="348"/>
                  </a:lnTo>
                  <a:lnTo>
                    <a:pt x="335" y="348"/>
                  </a:lnTo>
                  <a:lnTo>
                    <a:pt x="345" y="345"/>
                  </a:lnTo>
                  <a:lnTo>
                    <a:pt x="353" y="340"/>
                  </a:lnTo>
                  <a:lnTo>
                    <a:pt x="360" y="338"/>
                  </a:lnTo>
                  <a:lnTo>
                    <a:pt x="365" y="330"/>
                  </a:lnTo>
                  <a:lnTo>
                    <a:pt x="367" y="325"/>
                  </a:lnTo>
                  <a:lnTo>
                    <a:pt x="370" y="318"/>
                  </a:lnTo>
                  <a:lnTo>
                    <a:pt x="372" y="313"/>
                  </a:lnTo>
                  <a:lnTo>
                    <a:pt x="372" y="306"/>
                  </a:lnTo>
                  <a:lnTo>
                    <a:pt x="372" y="296"/>
                  </a:lnTo>
                  <a:lnTo>
                    <a:pt x="370" y="288"/>
                  </a:lnTo>
                  <a:lnTo>
                    <a:pt x="370" y="278"/>
                  </a:lnTo>
                  <a:lnTo>
                    <a:pt x="365" y="266"/>
                  </a:lnTo>
                  <a:lnTo>
                    <a:pt x="362" y="256"/>
                  </a:lnTo>
                  <a:lnTo>
                    <a:pt x="360" y="251"/>
                  </a:lnTo>
                  <a:lnTo>
                    <a:pt x="357" y="246"/>
                  </a:lnTo>
                  <a:lnTo>
                    <a:pt x="355" y="239"/>
                  </a:lnTo>
                  <a:lnTo>
                    <a:pt x="355" y="234"/>
                  </a:lnTo>
                  <a:lnTo>
                    <a:pt x="350" y="226"/>
                  </a:lnTo>
                  <a:lnTo>
                    <a:pt x="348" y="221"/>
                  </a:lnTo>
                  <a:lnTo>
                    <a:pt x="345" y="214"/>
                  </a:lnTo>
                  <a:lnTo>
                    <a:pt x="343" y="209"/>
                  </a:lnTo>
                  <a:lnTo>
                    <a:pt x="340" y="201"/>
                  </a:lnTo>
                  <a:lnTo>
                    <a:pt x="338" y="194"/>
                  </a:lnTo>
                  <a:lnTo>
                    <a:pt x="335" y="186"/>
                  </a:lnTo>
                  <a:lnTo>
                    <a:pt x="333" y="182"/>
                  </a:lnTo>
                  <a:lnTo>
                    <a:pt x="330" y="174"/>
                  </a:lnTo>
                  <a:lnTo>
                    <a:pt x="328" y="167"/>
                  </a:lnTo>
                  <a:lnTo>
                    <a:pt x="325" y="162"/>
                  </a:lnTo>
                  <a:lnTo>
                    <a:pt x="325" y="154"/>
                  </a:lnTo>
                  <a:lnTo>
                    <a:pt x="323" y="144"/>
                  </a:lnTo>
                  <a:lnTo>
                    <a:pt x="323" y="134"/>
                  </a:lnTo>
                  <a:lnTo>
                    <a:pt x="320" y="124"/>
                  </a:lnTo>
                  <a:lnTo>
                    <a:pt x="320" y="119"/>
                  </a:lnTo>
                  <a:lnTo>
                    <a:pt x="323" y="115"/>
                  </a:lnTo>
                  <a:lnTo>
                    <a:pt x="328" y="115"/>
                  </a:lnTo>
                  <a:lnTo>
                    <a:pt x="333" y="117"/>
                  </a:lnTo>
                  <a:lnTo>
                    <a:pt x="340" y="122"/>
                  </a:lnTo>
                  <a:lnTo>
                    <a:pt x="343" y="127"/>
                  </a:lnTo>
                  <a:lnTo>
                    <a:pt x="350" y="132"/>
                  </a:lnTo>
                  <a:lnTo>
                    <a:pt x="355" y="139"/>
                  </a:lnTo>
                  <a:lnTo>
                    <a:pt x="360" y="147"/>
                  </a:lnTo>
                  <a:lnTo>
                    <a:pt x="367" y="157"/>
                  </a:lnTo>
                  <a:lnTo>
                    <a:pt x="372" y="164"/>
                  </a:lnTo>
                  <a:lnTo>
                    <a:pt x="377" y="172"/>
                  </a:lnTo>
                  <a:lnTo>
                    <a:pt x="385" y="182"/>
                  </a:lnTo>
                  <a:lnTo>
                    <a:pt x="390" y="189"/>
                  </a:lnTo>
                  <a:lnTo>
                    <a:pt x="395" y="199"/>
                  </a:lnTo>
                  <a:lnTo>
                    <a:pt x="400" y="206"/>
                  </a:lnTo>
                  <a:lnTo>
                    <a:pt x="405" y="216"/>
                  </a:lnTo>
                  <a:lnTo>
                    <a:pt x="410" y="224"/>
                  </a:lnTo>
                  <a:lnTo>
                    <a:pt x="415" y="231"/>
                  </a:lnTo>
                  <a:lnTo>
                    <a:pt x="420" y="241"/>
                  </a:lnTo>
                  <a:lnTo>
                    <a:pt x="424" y="249"/>
                  </a:lnTo>
                  <a:lnTo>
                    <a:pt x="427" y="258"/>
                  </a:lnTo>
                  <a:lnTo>
                    <a:pt x="432" y="266"/>
                  </a:lnTo>
                  <a:lnTo>
                    <a:pt x="437" y="273"/>
                  </a:lnTo>
                  <a:lnTo>
                    <a:pt x="439" y="283"/>
                  </a:lnTo>
                  <a:lnTo>
                    <a:pt x="442" y="291"/>
                  </a:lnTo>
                  <a:lnTo>
                    <a:pt x="444" y="298"/>
                  </a:lnTo>
                  <a:lnTo>
                    <a:pt x="449" y="308"/>
                  </a:lnTo>
                  <a:lnTo>
                    <a:pt x="452" y="316"/>
                  </a:lnTo>
                  <a:lnTo>
                    <a:pt x="454" y="323"/>
                  </a:lnTo>
                  <a:lnTo>
                    <a:pt x="457" y="330"/>
                  </a:lnTo>
                  <a:lnTo>
                    <a:pt x="459" y="335"/>
                  </a:lnTo>
                  <a:lnTo>
                    <a:pt x="462" y="345"/>
                  </a:lnTo>
                  <a:lnTo>
                    <a:pt x="462" y="350"/>
                  </a:lnTo>
                  <a:lnTo>
                    <a:pt x="462" y="358"/>
                  </a:lnTo>
                  <a:lnTo>
                    <a:pt x="464" y="365"/>
                  </a:lnTo>
                  <a:lnTo>
                    <a:pt x="464" y="373"/>
                  </a:lnTo>
                  <a:lnTo>
                    <a:pt x="464" y="378"/>
                  </a:lnTo>
                  <a:lnTo>
                    <a:pt x="464" y="385"/>
                  </a:lnTo>
                  <a:lnTo>
                    <a:pt x="464" y="390"/>
                  </a:lnTo>
                  <a:lnTo>
                    <a:pt x="464" y="397"/>
                  </a:lnTo>
                  <a:lnTo>
                    <a:pt x="462" y="407"/>
                  </a:lnTo>
                  <a:lnTo>
                    <a:pt x="459" y="415"/>
                  </a:lnTo>
                  <a:lnTo>
                    <a:pt x="454" y="422"/>
                  </a:lnTo>
                  <a:lnTo>
                    <a:pt x="449" y="432"/>
                  </a:lnTo>
                  <a:lnTo>
                    <a:pt x="444" y="437"/>
                  </a:lnTo>
                  <a:lnTo>
                    <a:pt x="442" y="442"/>
                  </a:lnTo>
                  <a:lnTo>
                    <a:pt x="437" y="447"/>
                  </a:lnTo>
                  <a:lnTo>
                    <a:pt x="434" y="455"/>
                  </a:lnTo>
                  <a:lnTo>
                    <a:pt x="424" y="462"/>
                  </a:lnTo>
                  <a:lnTo>
                    <a:pt x="420" y="474"/>
                  </a:lnTo>
                  <a:lnTo>
                    <a:pt x="415" y="479"/>
                  </a:lnTo>
                  <a:lnTo>
                    <a:pt x="415" y="487"/>
                  </a:lnTo>
                  <a:lnTo>
                    <a:pt x="412" y="492"/>
                  </a:lnTo>
                  <a:lnTo>
                    <a:pt x="412" y="502"/>
                  </a:lnTo>
                  <a:lnTo>
                    <a:pt x="412" y="504"/>
                  </a:lnTo>
                  <a:lnTo>
                    <a:pt x="412" y="509"/>
                  </a:lnTo>
                  <a:lnTo>
                    <a:pt x="415" y="517"/>
                  </a:lnTo>
                  <a:lnTo>
                    <a:pt x="415" y="522"/>
                  </a:lnTo>
                  <a:lnTo>
                    <a:pt x="417" y="529"/>
                  </a:lnTo>
                  <a:lnTo>
                    <a:pt x="420" y="534"/>
                  </a:lnTo>
                  <a:lnTo>
                    <a:pt x="422" y="541"/>
                  </a:lnTo>
                  <a:lnTo>
                    <a:pt x="427" y="549"/>
                  </a:lnTo>
                  <a:lnTo>
                    <a:pt x="429" y="556"/>
                  </a:lnTo>
                  <a:lnTo>
                    <a:pt x="432" y="564"/>
                  </a:lnTo>
                  <a:lnTo>
                    <a:pt x="437" y="571"/>
                  </a:lnTo>
                  <a:lnTo>
                    <a:pt x="442" y="581"/>
                  </a:lnTo>
                  <a:lnTo>
                    <a:pt x="444" y="589"/>
                  </a:lnTo>
                  <a:lnTo>
                    <a:pt x="449" y="598"/>
                  </a:lnTo>
                  <a:lnTo>
                    <a:pt x="454" y="606"/>
                  </a:lnTo>
                  <a:lnTo>
                    <a:pt x="462" y="616"/>
                  </a:lnTo>
                  <a:lnTo>
                    <a:pt x="464" y="623"/>
                  </a:lnTo>
                  <a:lnTo>
                    <a:pt x="469" y="631"/>
                  </a:lnTo>
                  <a:lnTo>
                    <a:pt x="474" y="638"/>
                  </a:lnTo>
                  <a:lnTo>
                    <a:pt x="479" y="646"/>
                  </a:lnTo>
                  <a:lnTo>
                    <a:pt x="484" y="653"/>
                  </a:lnTo>
                  <a:lnTo>
                    <a:pt x="489" y="660"/>
                  </a:lnTo>
                  <a:lnTo>
                    <a:pt x="491" y="668"/>
                  </a:lnTo>
                  <a:lnTo>
                    <a:pt x="499" y="675"/>
                  </a:lnTo>
                  <a:lnTo>
                    <a:pt x="501" y="680"/>
                  </a:lnTo>
                  <a:lnTo>
                    <a:pt x="504" y="685"/>
                  </a:lnTo>
                  <a:lnTo>
                    <a:pt x="509" y="690"/>
                  </a:lnTo>
                  <a:lnTo>
                    <a:pt x="511" y="695"/>
                  </a:lnTo>
                  <a:lnTo>
                    <a:pt x="519" y="703"/>
                  </a:lnTo>
                  <a:lnTo>
                    <a:pt x="524" y="708"/>
                  </a:lnTo>
                  <a:lnTo>
                    <a:pt x="526" y="710"/>
                  </a:lnTo>
                  <a:lnTo>
                    <a:pt x="531" y="715"/>
                  </a:lnTo>
                  <a:lnTo>
                    <a:pt x="539" y="720"/>
                  </a:lnTo>
                  <a:lnTo>
                    <a:pt x="546" y="727"/>
                  </a:lnTo>
                  <a:lnTo>
                    <a:pt x="551" y="732"/>
                  </a:lnTo>
                  <a:lnTo>
                    <a:pt x="558" y="737"/>
                  </a:lnTo>
                  <a:lnTo>
                    <a:pt x="568" y="742"/>
                  </a:lnTo>
                  <a:lnTo>
                    <a:pt x="576" y="747"/>
                  </a:lnTo>
                  <a:lnTo>
                    <a:pt x="581" y="750"/>
                  </a:lnTo>
                  <a:lnTo>
                    <a:pt x="586" y="752"/>
                  </a:lnTo>
                  <a:lnTo>
                    <a:pt x="593" y="755"/>
                  </a:lnTo>
                  <a:lnTo>
                    <a:pt x="596" y="755"/>
                  </a:lnTo>
                  <a:lnTo>
                    <a:pt x="598" y="752"/>
                  </a:lnTo>
                  <a:lnTo>
                    <a:pt x="598" y="750"/>
                  </a:lnTo>
                  <a:lnTo>
                    <a:pt x="596" y="745"/>
                  </a:lnTo>
                  <a:lnTo>
                    <a:pt x="593" y="740"/>
                  </a:lnTo>
                  <a:lnTo>
                    <a:pt x="593" y="74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4062600" y="5143680"/>
              <a:ext cx="928800" cy="1196640"/>
            </a:xfrm>
            <a:custGeom>
              <a:avLst/>
              <a:gdLst/>
              <a:ahLst/>
              <a:rect l="l" t="t" r="r" b="b"/>
              <a:pathLst>
                <a:path w="585" h="754">
                  <a:moveTo>
                    <a:pt x="126" y="0"/>
                  </a:moveTo>
                  <a:lnTo>
                    <a:pt x="124" y="0"/>
                  </a:lnTo>
                  <a:lnTo>
                    <a:pt x="121" y="0"/>
                  </a:lnTo>
                  <a:lnTo>
                    <a:pt x="114" y="0"/>
                  </a:lnTo>
                  <a:lnTo>
                    <a:pt x="106" y="2"/>
                  </a:lnTo>
                  <a:lnTo>
                    <a:pt x="99" y="2"/>
                  </a:lnTo>
                  <a:lnTo>
                    <a:pt x="94" y="5"/>
                  </a:lnTo>
                  <a:lnTo>
                    <a:pt x="89" y="5"/>
                  </a:lnTo>
                  <a:lnTo>
                    <a:pt x="84" y="7"/>
                  </a:lnTo>
                  <a:lnTo>
                    <a:pt x="77" y="10"/>
                  </a:lnTo>
                  <a:lnTo>
                    <a:pt x="72" y="15"/>
                  </a:lnTo>
                  <a:lnTo>
                    <a:pt x="64" y="17"/>
                  </a:lnTo>
                  <a:lnTo>
                    <a:pt x="59" y="22"/>
                  </a:lnTo>
                  <a:lnTo>
                    <a:pt x="54" y="25"/>
                  </a:lnTo>
                  <a:lnTo>
                    <a:pt x="47" y="27"/>
                  </a:lnTo>
                  <a:lnTo>
                    <a:pt x="42" y="32"/>
                  </a:lnTo>
                  <a:lnTo>
                    <a:pt x="34" y="37"/>
                  </a:lnTo>
                  <a:lnTo>
                    <a:pt x="29" y="42"/>
                  </a:lnTo>
                  <a:lnTo>
                    <a:pt x="24" y="50"/>
                  </a:lnTo>
                  <a:lnTo>
                    <a:pt x="20" y="57"/>
                  </a:lnTo>
                  <a:lnTo>
                    <a:pt x="15" y="64"/>
                  </a:lnTo>
                  <a:lnTo>
                    <a:pt x="12" y="69"/>
                  </a:lnTo>
                  <a:lnTo>
                    <a:pt x="7" y="79"/>
                  </a:lnTo>
                  <a:lnTo>
                    <a:pt x="5" y="87"/>
                  </a:lnTo>
                  <a:lnTo>
                    <a:pt x="2" y="99"/>
                  </a:lnTo>
                  <a:lnTo>
                    <a:pt x="0" y="109"/>
                  </a:lnTo>
                  <a:lnTo>
                    <a:pt x="0" y="119"/>
                  </a:lnTo>
                  <a:lnTo>
                    <a:pt x="0" y="127"/>
                  </a:lnTo>
                  <a:lnTo>
                    <a:pt x="0" y="131"/>
                  </a:lnTo>
                  <a:lnTo>
                    <a:pt x="2" y="139"/>
                  </a:lnTo>
                  <a:lnTo>
                    <a:pt x="2" y="146"/>
                  </a:lnTo>
                  <a:lnTo>
                    <a:pt x="2" y="151"/>
                  </a:lnTo>
                  <a:lnTo>
                    <a:pt x="2" y="159"/>
                  </a:lnTo>
                  <a:lnTo>
                    <a:pt x="5" y="164"/>
                  </a:lnTo>
                  <a:lnTo>
                    <a:pt x="7" y="171"/>
                  </a:lnTo>
                  <a:lnTo>
                    <a:pt x="7" y="179"/>
                  </a:lnTo>
                  <a:lnTo>
                    <a:pt x="10" y="186"/>
                  </a:lnTo>
                  <a:lnTo>
                    <a:pt x="12" y="194"/>
                  </a:lnTo>
                  <a:lnTo>
                    <a:pt x="15" y="203"/>
                  </a:lnTo>
                  <a:lnTo>
                    <a:pt x="15" y="211"/>
                  </a:lnTo>
                  <a:lnTo>
                    <a:pt x="17" y="218"/>
                  </a:lnTo>
                  <a:lnTo>
                    <a:pt x="20" y="226"/>
                  </a:lnTo>
                  <a:lnTo>
                    <a:pt x="24" y="236"/>
                  </a:lnTo>
                  <a:lnTo>
                    <a:pt x="27" y="243"/>
                  </a:lnTo>
                  <a:lnTo>
                    <a:pt x="29" y="253"/>
                  </a:lnTo>
                  <a:lnTo>
                    <a:pt x="34" y="263"/>
                  </a:lnTo>
                  <a:lnTo>
                    <a:pt x="37" y="270"/>
                  </a:lnTo>
                  <a:lnTo>
                    <a:pt x="42" y="280"/>
                  </a:lnTo>
                  <a:lnTo>
                    <a:pt x="44" y="288"/>
                  </a:lnTo>
                  <a:lnTo>
                    <a:pt x="47" y="298"/>
                  </a:lnTo>
                  <a:lnTo>
                    <a:pt x="52" y="308"/>
                  </a:lnTo>
                  <a:lnTo>
                    <a:pt x="57" y="315"/>
                  </a:lnTo>
                  <a:lnTo>
                    <a:pt x="62" y="325"/>
                  </a:lnTo>
                  <a:lnTo>
                    <a:pt x="64" y="335"/>
                  </a:lnTo>
                  <a:lnTo>
                    <a:pt x="72" y="345"/>
                  </a:lnTo>
                  <a:lnTo>
                    <a:pt x="74" y="352"/>
                  </a:lnTo>
                  <a:lnTo>
                    <a:pt x="79" y="362"/>
                  </a:lnTo>
                  <a:lnTo>
                    <a:pt x="84" y="372"/>
                  </a:lnTo>
                  <a:lnTo>
                    <a:pt x="89" y="382"/>
                  </a:lnTo>
                  <a:lnTo>
                    <a:pt x="94" y="392"/>
                  </a:lnTo>
                  <a:lnTo>
                    <a:pt x="99" y="402"/>
                  </a:lnTo>
                  <a:lnTo>
                    <a:pt x="104" y="412"/>
                  </a:lnTo>
                  <a:lnTo>
                    <a:pt x="111" y="422"/>
                  </a:lnTo>
                  <a:lnTo>
                    <a:pt x="114" y="429"/>
                  </a:lnTo>
                  <a:lnTo>
                    <a:pt x="119" y="439"/>
                  </a:lnTo>
                  <a:lnTo>
                    <a:pt x="124" y="449"/>
                  </a:lnTo>
                  <a:lnTo>
                    <a:pt x="131" y="459"/>
                  </a:lnTo>
                  <a:lnTo>
                    <a:pt x="136" y="467"/>
                  </a:lnTo>
                  <a:lnTo>
                    <a:pt x="141" y="476"/>
                  </a:lnTo>
                  <a:lnTo>
                    <a:pt x="146" y="486"/>
                  </a:lnTo>
                  <a:lnTo>
                    <a:pt x="153" y="496"/>
                  </a:lnTo>
                  <a:lnTo>
                    <a:pt x="158" y="504"/>
                  </a:lnTo>
                  <a:lnTo>
                    <a:pt x="163" y="514"/>
                  </a:lnTo>
                  <a:lnTo>
                    <a:pt x="168" y="521"/>
                  </a:lnTo>
                  <a:lnTo>
                    <a:pt x="173" y="531"/>
                  </a:lnTo>
                  <a:lnTo>
                    <a:pt x="178" y="538"/>
                  </a:lnTo>
                  <a:lnTo>
                    <a:pt x="186" y="548"/>
                  </a:lnTo>
                  <a:lnTo>
                    <a:pt x="191" y="556"/>
                  </a:lnTo>
                  <a:lnTo>
                    <a:pt x="196" y="566"/>
                  </a:lnTo>
                  <a:lnTo>
                    <a:pt x="201" y="573"/>
                  </a:lnTo>
                  <a:lnTo>
                    <a:pt x="208" y="581"/>
                  </a:lnTo>
                  <a:lnTo>
                    <a:pt x="211" y="588"/>
                  </a:lnTo>
                  <a:lnTo>
                    <a:pt x="218" y="596"/>
                  </a:lnTo>
                  <a:lnTo>
                    <a:pt x="220" y="603"/>
                  </a:lnTo>
                  <a:lnTo>
                    <a:pt x="228" y="610"/>
                  </a:lnTo>
                  <a:lnTo>
                    <a:pt x="233" y="615"/>
                  </a:lnTo>
                  <a:lnTo>
                    <a:pt x="238" y="625"/>
                  </a:lnTo>
                  <a:lnTo>
                    <a:pt x="243" y="630"/>
                  </a:lnTo>
                  <a:lnTo>
                    <a:pt x="248" y="638"/>
                  </a:lnTo>
                  <a:lnTo>
                    <a:pt x="250" y="643"/>
                  </a:lnTo>
                  <a:lnTo>
                    <a:pt x="255" y="650"/>
                  </a:lnTo>
                  <a:lnTo>
                    <a:pt x="260" y="655"/>
                  </a:lnTo>
                  <a:lnTo>
                    <a:pt x="265" y="660"/>
                  </a:lnTo>
                  <a:lnTo>
                    <a:pt x="270" y="665"/>
                  </a:lnTo>
                  <a:lnTo>
                    <a:pt x="275" y="672"/>
                  </a:lnTo>
                  <a:lnTo>
                    <a:pt x="282" y="680"/>
                  </a:lnTo>
                  <a:lnTo>
                    <a:pt x="292" y="690"/>
                  </a:lnTo>
                  <a:lnTo>
                    <a:pt x="300" y="697"/>
                  </a:lnTo>
                  <a:lnTo>
                    <a:pt x="307" y="705"/>
                  </a:lnTo>
                  <a:lnTo>
                    <a:pt x="315" y="712"/>
                  </a:lnTo>
                  <a:lnTo>
                    <a:pt x="322" y="717"/>
                  </a:lnTo>
                  <a:lnTo>
                    <a:pt x="332" y="725"/>
                  </a:lnTo>
                  <a:lnTo>
                    <a:pt x="339" y="730"/>
                  </a:lnTo>
                  <a:lnTo>
                    <a:pt x="347" y="735"/>
                  </a:lnTo>
                  <a:lnTo>
                    <a:pt x="354" y="739"/>
                  </a:lnTo>
                  <a:lnTo>
                    <a:pt x="362" y="742"/>
                  </a:lnTo>
                  <a:lnTo>
                    <a:pt x="369" y="747"/>
                  </a:lnTo>
                  <a:lnTo>
                    <a:pt x="377" y="747"/>
                  </a:lnTo>
                  <a:lnTo>
                    <a:pt x="387" y="749"/>
                  </a:lnTo>
                  <a:lnTo>
                    <a:pt x="394" y="752"/>
                  </a:lnTo>
                  <a:lnTo>
                    <a:pt x="401" y="754"/>
                  </a:lnTo>
                  <a:lnTo>
                    <a:pt x="409" y="752"/>
                  </a:lnTo>
                  <a:lnTo>
                    <a:pt x="416" y="752"/>
                  </a:lnTo>
                  <a:lnTo>
                    <a:pt x="424" y="752"/>
                  </a:lnTo>
                  <a:lnTo>
                    <a:pt x="434" y="749"/>
                  </a:lnTo>
                  <a:lnTo>
                    <a:pt x="441" y="747"/>
                  </a:lnTo>
                  <a:lnTo>
                    <a:pt x="449" y="747"/>
                  </a:lnTo>
                  <a:lnTo>
                    <a:pt x="456" y="742"/>
                  </a:lnTo>
                  <a:lnTo>
                    <a:pt x="464" y="742"/>
                  </a:lnTo>
                  <a:lnTo>
                    <a:pt x="471" y="737"/>
                  </a:lnTo>
                  <a:lnTo>
                    <a:pt x="478" y="732"/>
                  </a:lnTo>
                  <a:lnTo>
                    <a:pt x="486" y="727"/>
                  </a:lnTo>
                  <a:lnTo>
                    <a:pt x="496" y="722"/>
                  </a:lnTo>
                  <a:lnTo>
                    <a:pt x="503" y="715"/>
                  </a:lnTo>
                  <a:lnTo>
                    <a:pt x="511" y="710"/>
                  </a:lnTo>
                  <a:lnTo>
                    <a:pt x="518" y="702"/>
                  </a:lnTo>
                  <a:lnTo>
                    <a:pt x="528" y="695"/>
                  </a:lnTo>
                  <a:lnTo>
                    <a:pt x="535" y="687"/>
                  </a:lnTo>
                  <a:lnTo>
                    <a:pt x="543" y="680"/>
                  </a:lnTo>
                  <a:lnTo>
                    <a:pt x="548" y="670"/>
                  </a:lnTo>
                  <a:lnTo>
                    <a:pt x="555" y="665"/>
                  </a:lnTo>
                  <a:lnTo>
                    <a:pt x="560" y="655"/>
                  </a:lnTo>
                  <a:lnTo>
                    <a:pt x="565" y="648"/>
                  </a:lnTo>
                  <a:lnTo>
                    <a:pt x="568" y="640"/>
                  </a:lnTo>
                  <a:lnTo>
                    <a:pt x="573" y="633"/>
                  </a:lnTo>
                  <a:lnTo>
                    <a:pt x="575" y="623"/>
                  </a:lnTo>
                  <a:lnTo>
                    <a:pt x="580" y="615"/>
                  </a:lnTo>
                  <a:lnTo>
                    <a:pt x="580" y="605"/>
                  </a:lnTo>
                  <a:lnTo>
                    <a:pt x="583" y="598"/>
                  </a:lnTo>
                  <a:lnTo>
                    <a:pt x="583" y="588"/>
                  </a:lnTo>
                  <a:lnTo>
                    <a:pt x="585" y="581"/>
                  </a:lnTo>
                  <a:lnTo>
                    <a:pt x="585" y="573"/>
                  </a:lnTo>
                  <a:lnTo>
                    <a:pt x="585" y="563"/>
                  </a:lnTo>
                  <a:lnTo>
                    <a:pt x="583" y="556"/>
                  </a:lnTo>
                  <a:lnTo>
                    <a:pt x="580" y="546"/>
                  </a:lnTo>
                  <a:lnTo>
                    <a:pt x="578" y="536"/>
                  </a:lnTo>
                  <a:lnTo>
                    <a:pt x="575" y="526"/>
                  </a:lnTo>
                  <a:lnTo>
                    <a:pt x="573" y="516"/>
                  </a:lnTo>
                  <a:lnTo>
                    <a:pt x="568" y="509"/>
                  </a:lnTo>
                  <a:lnTo>
                    <a:pt x="565" y="499"/>
                  </a:lnTo>
                  <a:lnTo>
                    <a:pt x="560" y="489"/>
                  </a:lnTo>
                  <a:lnTo>
                    <a:pt x="555" y="476"/>
                  </a:lnTo>
                  <a:lnTo>
                    <a:pt x="550" y="469"/>
                  </a:lnTo>
                  <a:lnTo>
                    <a:pt x="543" y="457"/>
                  </a:lnTo>
                  <a:lnTo>
                    <a:pt x="538" y="449"/>
                  </a:lnTo>
                  <a:lnTo>
                    <a:pt x="530" y="437"/>
                  </a:lnTo>
                  <a:lnTo>
                    <a:pt x="526" y="427"/>
                  </a:lnTo>
                  <a:lnTo>
                    <a:pt x="518" y="414"/>
                  </a:lnTo>
                  <a:lnTo>
                    <a:pt x="511" y="404"/>
                  </a:lnTo>
                  <a:lnTo>
                    <a:pt x="506" y="397"/>
                  </a:lnTo>
                  <a:lnTo>
                    <a:pt x="501" y="392"/>
                  </a:lnTo>
                  <a:lnTo>
                    <a:pt x="496" y="385"/>
                  </a:lnTo>
                  <a:lnTo>
                    <a:pt x="491" y="380"/>
                  </a:lnTo>
                  <a:lnTo>
                    <a:pt x="486" y="372"/>
                  </a:lnTo>
                  <a:lnTo>
                    <a:pt x="481" y="365"/>
                  </a:lnTo>
                  <a:lnTo>
                    <a:pt x="476" y="357"/>
                  </a:lnTo>
                  <a:lnTo>
                    <a:pt x="471" y="350"/>
                  </a:lnTo>
                  <a:lnTo>
                    <a:pt x="464" y="342"/>
                  </a:lnTo>
                  <a:lnTo>
                    <a:pt x="459" y="335"/>
                  </a:lnTo>
                  <a:lnTo>
                    <a:pt x="451" y="328"/>
                  </a:lnTo>
                  <a:lnTo>
                    <a:pt x="446" y="323"/>
                  </a:lnTo>
                  <a:lnTo>
                    <a:pt x="439" y="313"/>
                  </a:lnTo>
                  <a:lnTo>
                    <a:pt x="434" y="305"/>
                  </a:lnTo>
                  <a:lnTo>
                    <a:pt x="426" y="298"/>
                  </a:lnTo>
                  <a:lnTo>
                    <a:pt x="421" y="290"/>
                  </a:lnTo>
                  <a:lnTo>
                    <a:pt x="411" y="280"/>
                  </a:lnTo>
                  <a:lnTo>
                    <a:pt x="406" y="273"/>
                  </a:lnTo>
                  <a:lnTo>
                    <a:pt x="399" y="263"/>
                  </a:lnTo>
                  <a:lnTo>
                    <a:pt x="392" y="256"/>
                  </a:lnTo>
                  <a:lnTo>
                    <a:pt x="384" y="246"/>
                  </a:lnTo>
                  <a:lnTo>
                    <a:pt x="377" y="238"/>
                  </a:lnTo>
                  <a:lnTo>
                    <a:pt x="369" y="231"/>
                  </a:lnTo>
                  <a:lnTo>
                    <a:pt x="364" y="221"/>
                  </a:lnTo>
                  <a:lnTo>
                    <a:pt x="354" y="213"/>
                  </a:lnTo>
                  <a:lnTo>
                    <a:pt x="347" y="203"/>
                  </a:lnTo>
                  <a:lnTo>
                    <a:pt x="339" y="196"/>
                  </a:lnTo>
                  <a:lnTo>
                    <a:pt x="335" y="189"/>
                  </a:lnTo>
                  <a:lnTo>
                    <a:pt x="325" y="179"/>
                  </a:lnTo>
                  <a:lnTo>
                    <a:pt x="320" y="171"/>
                  </a:lnTo>
                  <a:lnTo>
                    <a:pt x="310" y="164"/>
                  </a:lnTo>
                  <a:lnTo>
                    <a:pt x="305" y="156"/>
                  </a:lnTo>
                  <a:lnTo>
                    <a:pt x="297" y="146"/>
                  </a:lnTo>
                  <a:lnTo>
                    <a:pt x="290" y="139"/>
                  </a:lnTo>
                  <a:lnTo>
                    <a:pt x="280" y="131"/>
                  </a:lnTo>
                  <a:lnTo>
                    <a:pt x="275" y="124"/>
                  </a:lnTo>
                  <a:lnTo>
                    <a:pt x="268" y="117"/>
                  </a:lnTo>
                  <a:lnTo>
                    <a:pt x="260" y="109"/>
                  </a:lnTo>
                  <a:lnTo>
                    <a:pt x="253" y="99"/>
                  </a:lnTo>
                  <a:lnTo>
                    <a:pt x="245" y="94"/>
                  </a:lnTo>
                  <a:lnTo>
                    <a:pt x="238" y="87"/>
                  </a:lnTo>
                  <a:lnTo>
                    <a:pt x="233" y="79"/>
                  </a:lnTo>
                  <a:lnTo>
                    <a:pt x="225" y="74"/>
                  </a:lnTo>
                  <a:lnTo>
                    <a:pt x="218" y="67"/>
                  </a:lnTo>
                  <a:lnTo>
                    <a:pt x="213" y="62"/>
                  </a:lnTo>
                  <a:lnTo>
                    <a:pt x="206" y="55"/>
                  </a:lnTo>
                  <a:lnTo>
                    <a:pt x="201" y="50"/>
                  </a:lnTo>
                  <a:lnTo>
                    <a:pt x="196" y="45"/>
                  </a:lnTo>
                  <a:lnTo>
                    <a:pt x="188" y="40"/>
                  </a:lnTo>
                  <a:lnTo>
                    <a:pt x="183" y="35"/>
                  </a:lnTo>
                  <a:lnTo>
                    <a:pt x="176" y="30"/>
                  </a:lnTo>
                  <a:lnTo>
                    <a:pt x="171" y="25"/>
                  </a:lnTo>
                  <a:lnTo>
                    <a:pt x="161" y="17"/>
                  </a:lnTo>
                  <a:lnTo>
                    <a:pt x="153" y="12"/>
                  </a:lnTo>
                  <a:lnTo>
                    <a:pt x="144" y="5"/>
                  </a:lnTo>
                  <a:lnTo>
                    <a:pt x="136" y="2"/>
                  </a:lnTo>
                  <a:lnTo>
                    <a:pt x="131" y="0"/>
                  </a:lnTo>
                  <a:lnTo>
                    <a:pt x="126" y="0"/>
                  </a:lnTo>
                  <a:lnTo>
                    <a:pt x="12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4062600" y="5146560"/>
              <a:ext cx="912960" cy="1158840"/>
            </a:xfrm>
            <a:custGeom>
              <a:avLst/>
              <a:gdLst/>
              <a:ahLst/>
              <a:rect l="l" t="t" r="r" b="b"/>
              <a:pathLst>
                <a:path w="575" h="730">
                  <a:moveTo>
                    <a:pt x="99" y="8"/>
                  </a:moveTo>
                  <a:lnTo>
                    <a:pt x="91" y="13"/>
                  </a:lnTo>
                  <a:lnTo>
                    <a:pt x="86" y="15"/>
                  </a:lnTo>
                  <a:lnTo>
                    <a:pt x="79" y="20"/>
                  </a:lnTo>
                  <a:lnTo>
                    <a:pt x="72" y="25"/>
                  </a:lnTo>
                  <a:lnTo>
                    <a:pt x="64" y="30"/>
                  </a:lnTo>
                  <a:lnTo>
                    <a:pt x="57" y="38"/>
                  </a:lnTo>
                  <a:lnTo>
                    <a:pt x="47" y="43"/>
                  </a:lnTo>
                  <a:lnTo>
                    <a:pt x="39" y="50"/>
                  </a:lnTo>
                  <a:lnTo>
                    <a:pt x="29" y="55"/>
                  </a:lnTo>
                  <a:lnTo>
                    <a:pt x="24" y="65"/>
                  </a:lnTo>
                  <a:lnTo>
                    <a:pt x="17" y="72"/>
                  </a:lnTo>
                  <a:lnTo>
                    <a:pt x="10" y="82"/>
                  </a:lnTo>
                  <a:lnTo>
                    <a:pt x="7" y="87"/>
                  </a:lnTo>
                  <a:lnTo>
                    <a:pt x="5" y="92"/>
                  </a:lnTo>
                  <a:lnTo>
                    <a:pt x="2" y="97"/>
                  </a:lnTo>
                  <a:lnTo>
                    <a:pt x="0" y="105"/>
                  </a:lnTo>
                  <a:lnTo>
                    <a:pt x="0" y="110"/>
                  </a:lnTo>
                  <a:lnTo>
                    <a:pt x="0" y="117"/>
                  </a:lnTo>
                  <a:lnTo>
                    <a:pt x="0" y="125"/>
                  </a:lnTo>
                  <a:lnTo>
                    <a:pt x="0" y="132"/>
                  </a:lnTo>
                  <a:lnTo>
                    <a:pt x="0" y="139"/>
                  </a:lnTo>
                  <a:lnTo>
                    <a:pt x="0" y="149"/>
                  </a:lnTo>
                  <a:lnTo>
                    <a:pt x="0" y="154"/>
                  </a:lnTo>
                  <a:lnTo>
                    <a:pt x="2" y="162"/>
                  </a:lnTo>
                  <a:lnTo>
                    <a:pt x="5" y="167"/>
                  </a:lnTo>
                  <a:lnTo>
                    <a:pt x="7" y="174"/>
                  </a:lnTo>
                  <a:lnTo>
                    <a:pt x="10" y="182"/>
                  </a:lnTo>
                  <a:lnTo>
                    <a:pt x="12" y="189"/>
                  </a:lnTo>
                  <a:lnTo>
                    <a:pt x="17" y="199"/>
                  </a:lnTo>
                  <a:lnTo>
                    <a:pt x="20" y="206"/>
                  </a:lnTo>
                  <a:lnTo>
                    <a:pt x="24" y="216"/>
                  </a:lnTo>
                  <a:lnTo>
                    <a:pt x="27" y="224"/>
                  </a:lnTo>
                  <a:lnTo>
                    <a:pt x="32" y="234"/>
                  </a:lnTo>
                  <a:lnTo>
                    <a:pt x="37" y="246"/>
                  </a:lnTo>
                  <a:lnTo>
                    <a:pt x="39" y="254"/>
                  </a:lnTo>
                  <a:lnTo>
                    <a:pt x="44" y="263"/>
                  </a:lnTo>
                  <a:lnTo>
                    <a:pt x="49" y="273"/>
                  </a:lnTo>
                  <a:lnTo>
                    <a:pt x="54" y="286"/>
                  </a:lnTo>
                  <a:lnTo>
                    <a:pt x="59" y="296"/>
                  </a:lnTo>
                  <a:lnTo>
                    <a:pt x="64" y="308"/>
                  </a:lnTo>
                  <a:lnTo>
                    <a:pt x="72" y="318"/>
                  </a:lnTo>
                  <a:lnTo>
                    <a:pt x="79" y="330"/>
                  </a:lnTo>
                  <a:lnTo>
                    <a:pt x="84" y="340"/>
                  </a:lnTo>
                  <a:lnTo>
                    <a:pt x="89" y="353"/>
                  </a:lnTo>
                  <a:lnTo>
                    <a:pt x="96" y="363"/>
                  </a:lnTo>
                  <a:lnTo>
                    <a:pt x="101" y="375"/>
                  </a:lnTo>
                  <a:lnTo>
                    <a:pt x="106" y="388"/>
                  </a:lnTo>
                  <a:lnTo>
                    <a:pt x="114" y="400"/>
                  </a:lnTo>
                  <a:lnTo>
                    <a:pt x="121" y="412"/>
                  </a:lnTo>
                  <a:lnTo>
                    <a:pt x="129" y="425"/>
                  </a:lnTo>
                  <a:lnTo>
                    <a:pt x="134" y="435"/>
                  </a:lnTo>
                  <a:lnTo>
                    <a:pt x="141" y="447"/>
                  </a:lnTo>
                  <a:lnTo>
                    <a:pt x="148" y="457"/>
                  </a:lnTo>
                  <a:lnTo>
                    <a:pt x="156" y="469"/>
                  </a:lnTo>
                  <a:lnTo>
                    <a:pt x="161" y="482"/>
                  </a:lnTo>
                  <a:lnTo>
                    <a:pt x="168" y="494"/>
                  </a:lnTo>
                  <a:lnTo>
                    <a:pt x="176" y="504"/>
                  </a:lnTo>
                  <a:lnTo>
                    <a:pt x="183" y="517"/>
                  </a:lnTo>
                  <a:lnTo>
                    <a:pt x="188" y="527"/>
                  </a:lnTo>
                  <a:lnTo>
                    <a:pt x="196" y="539"/>
                  </a:lnTo>
                  <a:lnTo>
                    <a:pt x="203" y="549"/>
                  </a:lnTo>
                  <a:lnTo>
                    <a:pt x="211" y="561"/>
                  </a:lnTo>
                  <a:lnTo>
                    <a:pt x="215" y="569"/>
                  </a:lnTo>
                  <a:lnTo>
                    <a:pt x="223" y="579"/>
                  </a:lnTo>
                  <a:lnTo>
                    <a:pt x="230" y="589"/>
                  </a:lnTo>
                  <a:lnTo>
                    <a:pt x="238" y="601"/>
                  </a:lnTo>
                  <a:lnTo>
                    <a:pt x="245" y="608"/>
                  </a:lnTo>
                  <a:lnTo>
                    <a:pt x="250" y="618"/>
                  </a:lnTo>
                  <a:lnTo>
                    <a:pt x="258" y="626"/>
                  </a:lnTo>
                  <a:lnTo>
                    <a:pt x="265" y="636"/>
                  </a:lnTo>
                  <a:lnTo>
                    <a:pt x="270" y="643"/>
                  </a:lnTo>
                  <a:lnTo>
                    <a:pt x="277" y="651"/>
                  </a:lnTo>
                  <a:lnTo>
                    <a:pt x="282" y="658"/>
                  </a:lnTo>
                  <a:lnTo>
                    <a:pt x="290" y="666"/>
                  </a:lnTo>
                  <a:lnTo>
                    <a:pt x="295" y="670"/>
                  </a:lnTo>
                  <a:lnTo>
                    <a:pt x="300" y="678"/>
                  </a:lnTo>
                  <a:lnTo>
                    <a:pt x="305" y="683"/>
                  </a:lnTo>
                  <a:lnTo>
                    <a:pt x="312" y="688"/>
                  </a:lnTo>
                  <a:lnTo>
                    <a:pt x="322" y="698"/>
                  </a:lnTo>
                  <a:lnTo>
                    <a:pt x="335" y="705"/>
                  </a:lnTo>
                  <a:lnTo>
                    <a:pt x="342" y="710"/>
                  </a:lnTo>
                  <a:lnTo>
                    <a:pt x="352" y="715"/>
                  </a:lnTo>
                  <a:lnTo>
                    <a:pt x="362" y="718"/>
                  </a:lnTo>
                  <a:lnTo>
                    <a:pt x="369" y="723"/>
                  </a:lnTo>
                  <a:lnTo>
                    <a:pt x="379" y="723"/>
                  </a:lnTo>
                  <a:lnTo>
                    <a:pt x="389" y="728"/>
                  </a:lnTo>
                  <a:lnTo>
                    <a:pt x="399" y="728"/>
                  </a:lnTo>
                  <a:lnTo>
                    <a:pt x="409" y="730"/>
                  </a:lnTo>
                  <a:lnTo>
                    <a:pt x="416" y="730"/>
                  </a:lnTo>
                  <a:lnTo>
                    <a:pt x="426" y="730"/>
                  </a:lnTo>
                  <a:lnTo>
                    <a:pt x="436" y="730"/>
                  </a:lnTo>
                  <a:lnTo>
                    <a:pt x="444" y="730"/>
                  </a:lnTo>
                  <a:lnTo>
                    <a:pt x="454" y="728"/>
                  </a:lnTo>
                  <a:lnTo>
                    <a:pt x="461" y="728"/>
                  </a:lnTo>
                  <a:lnTo>
                    <a:pt x="471" y="723"/>
                  </a:lnTo>
                  <a:lnTo>
                    <a:pt x="478" y="723"/>
                  </a:lnTo>
                  <a:lnTo>
                    <a:pt x="486" y="715"/>
                  </a:lnTo>
                  <a:lnTo>
                    <a:pt x="493" y="713"/>
                  </a:lnTo>
                  <a:lnTo>
                    <a:pt x="501" y="708"/>
                  </a:lnTo>
                  <a:lnTo>
                    <a:pt x="508" y="703"/>
                  </a:lnTo>
                  <a:lnTo>
                    <a:pt x="516" y="695"/>
                  </a:lnTo>
                  <a:lnTo>
                    <a:pt x="523" y="690"/>
                  </a:lnTo>
                  <a:lnTo>
                    <a:pt x="530" y="683"/>
                  </a:lnTo>
                  <a:lnTo>
                    <a:pt x="535" y="675"/>
                  </a:lnTo>
                  <a:lnTo>
                    <a:pt x="543" y="666"/>
                  </a:lnTo>
                  <a:lnTo>
                    <a:pt x="548" y="658"/>
                  </a:lnTo>
                  <a:lnTo>
                    <a:pt x="553" y="648"/>
                  </a:lnTo>
                  <a:lnTo>
                    <a:pt x="558" y="638"/>
                  </a:lnTo>
                  <a:lnTo>
                    <a:pt x="560" y="626"/>
                  </a:lnTo>
                  <a:lnTo>
                    <a:pt x="565" y="616"/>
                  </a:lnTo>
                  <a:lnTo>
                    <a:pt x="565" y="611"/>
                  </a:lnTo>
                  <a:lnTo>
                    <a:pt x="568" y="603"/>
                  </a:lnTo>
                  <a:lnTo>
                    <a:pt x="570" y="599"/>
                  </a:lnTo>
                  <a:lnTo>
                    <a:pt x="573" y="594"/>
                  </a:lnTo>
                  <a:lnTo>
                    <a:pt x="573" y="586"/>
                  </a:lnTo>
                  <a:lnTo>
                    <a:pt x="573" y="579"/>
                  </a:lnTo>
                  <a:lnTo>
                    <a:pt x="573" y="574"/>
                  </a:lnTo>
                  <a:lnTo>
                    <a:pt x="575" y="566"/>
                  </a:lnTo>
                  <a:lnTo>
                    <a:pt x="575" y="561"/>
                  </a:lnTo>
                  <a:lnTo>
                    <a:pt x="575" y="554"/>
                  </a:lnTo>
                  <a:lnTo>
                    <a:pt x="575" y="549"/>
                  </a:lnTo>
                  <a:lnTo>
                    <a:pt x="575" y="541"/>
                  </a:lnTo>
                  <a:lnTo>
                    <a:pt x="573" y="536"/>
                  </a:lnTo>
                  <a:lnTo>
                    <a:pt x="573" y="529"/>
                  </a:lnTo>
                  <a:lnTo>
                    <a:pt x="573" y="524"/>
                  </a:lnTo>
                  <a:lnTo>
                    <a:pt x="573" y="517"/>
                  </a:lnTo>
                  <a:lnTo>
                    <a:pt x="570" y="512"/>
                  </a:lnTo>
                  <a:lnTo>
                    <a:pt x="568" y="507"/>
                  </a:lnTo>
                  <a:lnTo>
                    <a:pt x="568" y="499"/>
                  </a:lnTo>
                  <a:lnTo>
                    <a:pt x="568" y="494"/>
                  </a:lnTo>
                  <a:lnTo>
                    <a:pt x="563" y="489"/>
                  </a:lnTo>
                  <a:lnTo>
                    <a:pt x="560" y="482"/>
                  </a:lnTo>
                  <a:lnTo>
                    <a:pt x="560" y="477"/>
                  </a:lnTo>
                  <a:lnTo>
                    <a:pt x="558" y="472"/>
                  </a:lnTo>
                  <a:lnTo>
                    <a:pt x="553" y="460"/>
                  </a:lnTo>
                  <a:lnTo>
                    <a:pt x="548" y="450"/>
                  </a:lnTo>
                  <a:lnTo>
                    <a:pt x="543" y="440"/>
                  </a:lnTo>
                  <a:lnTo>
                    <a:pt x="535" y="427"/>
                  </a:lnTo>
                  <a:lnTo>
                    <a:pt x="530" y="417"/>
                  </a:lnTo>
                  <a:lnTo>
                    <a:pt x="523" y="410"/>
                  </a:lnTo>
                  <a:lnTo>
                    <a:pt x="516" y="398"/>
                  </a:lnTo>
                  <a:lnTo>
                    <a:pt x="508" y="388"/>
                  </a:lnTo>
                  <a:lnTo>
                    <a:pt x="498" y="378"/>
                  </a:lnTo>
                  <a:lnTo>
                    <a:pt x="491" y="368"/>
                  </a:lnTo>
                  <a:lnTo>
                    <a:pt x="483" y="360"/>
                  </a:lnTo>
                  <a:lnTo>
                    <a:pt x="476" y="350"/>
                  </a:lnTo>
                  <a:lnTo>
                    <a:pt x="466" y="343"/>
                  </a:lnTo>
                  <a:lnTo>
                    <a:pt x="459" y="333"/>
                  </a:lnTo>
                  <a:lnTo>
                    <a:pt x="451" y="326"/>
                  </a:lnTo>
                  <a:lnTo>
                    <a:pt x="441" y="316"/>
                  </a:lnTo>
                  <a:lnTo>
                    <a:pt x="434" y="308"/>
                  </a:lnTo>
                  <a:lnTo>
                    <a:pt x="426" y="301"/>
                  </a:lnTo>
                  <a:lnTo>
                    <a:pt x="416" y="293"/>
                  </a:lnTo>
                  <a:lnTo>
                    <a:pt x="411" y="288"/>
                  </a:lnTo>
                  <a:lnTo>
                    <a:pt x="404" y="281"/>
                  </a:lnTo>
                  <a:lnTo>
                    <a:pt x="397" y="276"/>
                  </a:lnTo>
                  <a:lnTo>
                    <a:pt x="389" y="266"/>
                  </a:lnTo>
                  <a:lnTo>
                    <a:pt x="382" y="261"/>
                  </a:lnTo>
                  <a:lnTo>
                    <a:pt x="372" y="251"/>
                  </a:lnTo>
                  <a:lnTo>
                    <a:pt x="364" y="244"/>
                  </a:lnTo>
                  <a:lnTo>
                    <a:pt x="357" y="234"/>
                  </a:lnTo>
                  <a:lnTo>
                    <a:pt x="347" y="226"/>
                  </a:lnTo>
                  <a:lnTo>
                    <a:pt x="339" y="216"/>
                  </a:lnTo>
                  <a:lnTo>
                    <a:pt x="332" y="209"/>
                  </a:lnTo>
                  <a:lnTo>
                    <a:pt x="322" y="199"/>
                  </a:lnTo>
                  <a:lnTo>
                    <a:pt x="312" y="187"/>
                  </a:lnTo>
                  <a:lnTo>
                    <a:pt x="305" y="179"/>
                  </a:lnTo>
                  <a:lnTo>
                    <a:pt x="295" y="169"/>
                  </a:lnTo>
                  <a:lnTo>
                    <a:pt x="287" y="159"/>
                  </a:lnTo>
                  <a:lnTo>
                    <a:pt x="277" y="149"/>
                  </a:lnTo>
                  <a:lnTo>
                    <a:pt x="270" y="139"/>
                  </a:lnTo>
                  <a:lnTo>
                    <a:pt x="263" y="132"/>
                  </a:lnTo>
                  <a:lnTo>
                    <a:pt x="253" y="122"/>
                  </a:lnTo>
                  <a:lnTo>
                    <a:pt x="245" y="115"/>
                  </a:lnTo>
                  <a:lnTo>
                    <a:pt x="238" y="105"/>
                  </a:lnTo>
                  <a:lnTo>
                    <a:pt x="230" y="97"/>
                  </a:lnTo>
                  <a:lnTo>
                    <a:pt x="223" y="87"/>
                  </a:lnTo>
                  <a:lnTo>
                    <a:pt x="215" y="82"/>
                  </a:lnTo>
                  <a:lnTo>
                    <a:pt x="208" y="75"/>
                  </a:lnTo>
                  <a:lnTo>
                    <a:pt x="203" y="70"/>
                  </a:lnTo>
                  <a:lnTo>
                    <a:pt x="196" y="62"/>
                  </a:lnTo>
                  <a:lnTo>
                    <a:pt x="191" y="58"/>
                  </a:lnTo>
                  <a:lnTo>
                    <a:pt x="186" y="55"/>
                  </a:lnTo>
                  <a:lnTo>
                    <a:pt x="181" y="53"/>
                  </a:lnTo>
                  <a:lnTo>
                    <a:pt x="173" y="48"/>
                  </a:lnTo>
                  <a:lnTo>
                    <a:pt x="168" y="50"/>
                  </a:lnTo>
                  <a:lnTo>
                    <a:pt x="166" y="50"/>
                  </a:lnTo>
                  <a:lnTo>
                    <a:pt x="166" y="53"/>
                  </a:lnTo>
                  <a:lnTo>
                    <a:pt x="168" y="58"/>
                  </a:lnTo>
                  <a:lnTo>
                    <a:pt x="171" y="62"/>
                  </a:lnTo>
                  <a:lnTo>
                    <a:pt x="176" y="70"/>
                  </a:lnTo>
                  <a:lnTo>
                    <a:pt x="181" y="77"/>
                  </a:lnTo>
                  <a:lnTo>
                    <a:pt x="188" y="85"/>
                  </a:lnTo>
                  <a:lnTo>
                    <a:pt x="196" y="97"/>
                  </a:lnTo>
                  <a:lnTo>
                    <a:pt x="201" y="102"/>
                  </a:lnTo>
                  <a:lnTo>
                    <a:pt x="206" y="107"/>
                  </a:lnTo>
                  <a:lnTo>
                    <a:pt x="208" y="112"/>
                  </a:lnTo>
                  <a:lnTo>
                    <a:pt x="215" y="120"/>
                  </a:lnTo>
                  <a:lnTo>
                    <a:pt x="220" y="125"/>
                  </a:lnTo>
                  <a:lnTo>
                    <a:pt x="225" y="132"/>
                  </a:lnTo>
                  <a:lnTo>
                    <a:pt x="233" y="137"/>
                  </a:lnTo>
                  <a:lnTo>
                    <a:pt x="238" y="144"/>
                  </a:lnTo>
                  <a:lnTo>
                    <a:pt x="243" y="149"/>
                  </a:lnTo>
                  <a:lnTo>
                    <a:pt x="250" y="157"/>
                  </a:lnTo>
                  <a:lnTo>
                    <a:pt x="255" y="164"/>
                  </a:lnTo>
                  <a:lnTo>
                    <a:pt x="263" y="169"/>
                  </a:lnTo>
                  <a:lnTo>
                    <a:pt x="268" y="177"/>
                  </a:lnTo>
                  <a:lnTo>
                    <a:pt x="275" y="184"/>
                  </a:lnTo>
                  <a:lnTo>
                    <a:pt x="282" y="192"/>
                  </a:lnTo>
                  <a:lnTo>
                    <a:pt x="290" y="199"/>
                  </a:lnTo>
                  <a:lnTo>
                    <a:pt x="295" y="206"/>
                  </a:lnTo>
                  <a:lnTo>
                    <a:pt x="302" y="214"/>
                  </a:lnTo>
                  <a:lnTo>
                    <a:pt x="310" y="221"/>
                  </a:lnTo>
                  <a:lnTo>
                    <a:pt x="317" y="229"/>
                  </a:lnTo>
                  <a:lnTo>
                    <a:pt x="322" y="234"/>
                  </a:lnTo>
                  <a:lnTo>
                    <a:pt x="330" y="241"/>
                  </a:lnTo>
                  <a:lnTo>
                    <a:pt x="337" y="249"/>
                  </a:lnTo>
                  <a:lnTo>
                    <a:pt x="344" y="259"/>
                  </a:lnTo>
                  <a:lnTo>
                    <a:pt x="349" y="263"/>
                  </a:lnTo>
                  <a:lnTo>
                    <a:pt x="357" y="271"/>
                  </a:lnTo>
                  <a:lnTo>
                    <a:pt x="364" y="278"/>
                  </a:lnTo>
                  <a:lnTo>
                    <a:pt x="369" y="286"/>
                  </a:lnTo>
                  <a:lnTo>
                    <a:pt x="377" y="293"/>
                  </a:lnTo>
                  <a:lnTo>
                    <a:pt x="382" y="301"/>
                  </a:lnTo>
                  <a:lnTo>
                    <a:pt x="389" y="308"/>
                  </a:lnTo>
                  <a:lnTo>
                    <a:pt x="397" y="313"/>
                  </a:lnTo>
                  <a:lnTo>
                    <a:pt x="401" y="321"/>
                  </a:lnTo>
                  <a:lnTo>
                    <a:pt x="406" y="326"/>
                  </a:lnTo>
                  <a:lnTo>
                    <a:pt x="411" y="333"/>
                  </a:lnTo>
                  <a:lnTo>
                    <a:pt x="419" y="338"/>
                  </a:lnTo>
                  <a:lnTo>
                    <a:pt x="424" y="343"/>
                  </a:lnTo>
                  <a:lnTo>
                    <a:pt x="429" y="350"/>
                  </a:lnTo>
                  <a:lnTo>
                    <a:pt x="434" y="355"/>
                  </a:lnTo>
                  <a:lnTo>
                    <a:pt x="441" y="363"/>
                  </a:lnTo>
                  <a:lnTo>
                    <a:pt x="449" y="373"/>
                  </a:lnTo>
                  <a:lnTo>
                    <a:pt x="456" y="383"/>
                  </a:lnTo>
                  <a:lnTo>
                    <a:pt x="464" y="393"/>
                  </a:lnTo>
                  <a:lnTo>
                    <a:pt x="471" y="400"/>
                  </a:lnTo>
                  <a:lnTo>
                    <a:pt x="473" y="407"/>
                  </a:lnTo>
                  <a:lnTo>
                    <a:pt x="478" y="415"/>
                  </a:lnTo>
                  <a:lnTo>
                    <a:pt x="483" y="420"/>
                  </a:lnTo>
                  <a:lnTo>
                    <a:pt x="488" y="427"/>
                  </a:lnTo>
                  <a:lnTo>
                    <a:pt x="491" y="435"/>
                  </a:lnTo>
                  <a:lnTo>
                    <a:pt x="496" y="440"/>
                  </a:lnTo>
                  <a:lnTo>
                    <a:pt x="501" y="447"/>
                  </a:lnTo>
                  <a:lnTo>
                    <a:pt x="503" y="455"/>
                  </a:lnTo>
                  <a:lnTo>
                    <a:pt x="508" y="462"/>
                  </a:lnTo>
                  <a:lnTo>
                    <a:pt x="511" y="469"/>
                  </a:lnTo>
                  <a:lnTo>
                    <a:pt x="513" y="474"/>
                  </a:lnTo>
                  <a:lnTo>
                    <a:pt x="518" y="482"/>
                  </a:lnTo>
                  <a:lnTo>
                    <a:pt x="521" y="487"/>
                  </a:lnTo>
                  <a:lnTo>
                    <a:pt x="523" y="494"/>
                  </a:lnTo>
                  <a:lnTo>
                    <a:pt x="526" y="502"/>
                  </a:lnTo>
                  <a:lnTo>
                    <a:pt x="530" y="509"/>
                  </a:lnTo>
                  <a:lnTo>
                    <a:pt x="530" y="517"/>
                  </a:lnTo>
                  <a:lnTo>
                    <a:pt x="533" y="522"/>
                  </a:lnTo>
                  <a:lnTo>
                    <a:pt x="533" y="529"/>
                  </a:lnTo>
                  <a:lnTo>
                    <a:pt x="535" y="536"/>
                  </a:lnTo>
                  <a:lnTo>
                    <a:pt x="535" y="541"/>
                  </a:lnTo>
                  <a:lnTo>
                    <a:pt x="538" y="549"/>
                  </a:lnTo>
                  <a:lnTo>
                    <a:pt x="538" y="556"/>
                  </a:lnTo>
                  <a:lnTo>
                    <a:pt x="538" y="564"/>
                  </a:lnTo>
                  <a:lnTo>
                    <a:pt x="538" y="569"/>
                  </a:lnTo>
                  <a:lnTo>
                    <a:pt x="538" y="576"/>
                  </a:lnTo>
                  <a:lnTo>
                    <a:pt x="535" y="584"/>
                  </a:lnTo>
                  <a:lnTo>
                    <a:pt x="535" y="591"/>
                  </a:lnTo>
                  <a:lnTo>
                    <a:pt x="535" y="596"/>
                  </a:lnTo>
                  <a:lnTo>
                    <a:pt x="533" y="603"/>
                  </a:lnTo>
                  <a:lnTo>
                    <a:pt x="530" y="611"/>
                  </a:lnTo>
                  <a:lnTo>
                    <a:pt x="530" y="618"/>
                  </a:lnTo>
                  <a:lnTo>
                    <a:pt x="526" y="626"/>
                  </a:lnTo>
                  <a:lnTo>
                    <a:pt x="523" y="631"/>
                  </a:lnTo>
                  <a:lnTo>
                    <a:pt x="521" y="638"/>
                  </a:lnTo>
                  <a:lnTo>
                    <a:pt x="518" y="643"/>
                  </a:lnTo>
                  <a:lnTo>
                    <a:pt x="513" y="648"/>
                  </a:lnTo>
                  <a:lnTo>
                    <a:pt x="511" y="656"/>
                  </a:lnTo>
                  <a:lnTo>
                    <a:pt x="506" y="661"/>
                  </a:lnTo>
                  <a:lnTo>
                    <a:pt x="501" y="668"/>
                  </a:lnTo>
                  <a:lnTo>
                    <a:pt x="493" y="675"/>
                  </a:lnTo>
                  <a:lnTo>
                    <a:pt x="483" y="685"/>
                  </a:lnTo>
                  <a:lnTo>
                    <a:pt x="471" y="693"/>
                  </a:lnTo>
                  <a:lnTo>
                    <a:pt x="461" y="698"/>
                  </a:lnTo>
                  <a:lnTo>
                    <a:pt x="456" y="698"/>
                  </a:lnTo>
                  <a:lnTo>
                    <a:pt x="449" y="700"/>
                  </a:lnTo>
                  <a:lnTo>
                    <a:pt x="444" y="703"/>
                  </a:lnTo>
                  <a:lnTo>
                    <a:pt x="436" y="703"/>
                  </a:lnTo>
                  <a:lnTo>
                    <a:pt x="429" y="703"/>
                  </a:lnTo>
                  <a:lnTo>
                    <a:pt x="424" y="703"/>
                  </a:lnTo>
                  <a:lnTo>
                    <a:pt x="416" y="703"/>
                  </a:lnTo>
                  <a:lnTo>
                    <a:pt x="411" y="703"/>
                  </a:lnTo>
                  <a:lnTo>
                    <a:pt x="404" y="698"/>
                  </a:lnTo>
                  <a:lnTo>
                    <a:pt x="397" y="698"/>
                  </a:lnTo>
                  <a:lnTo>
                    <a:pt x="389" y="693"/>
                  </a:lnTo>
                  <a:lnTo>
                    <a:pt x="382" y="690"/>
                  </a:lnTo>
                  <a:lnTo>
                    <a:pt x="374" y="685"/>
                  </a:lnTo>
                  <a:lnTo>
                    <a:pt x="367" y="680"/>
                  </a:lnTo>
                  <a:lnTo>
                    <a:pt x="359" y="675"/>
                  </a:lnTo>
                  <a:lnTo>
                    <a:pt x="354" y="670"/>
                  </a:lnTo>
                  <a:lnTo>
                    <a:pt x="344" y="661"/>
                  </a:lnTo>
                  <a:lnTo>
                    <a:pt x="337" y="651"/>
                  </a:lnTo>
                  <a:lnTo>
                    <a:pt x="332" y="646"/>
                  </a:lnTo>
                  <a:lnTo>
                    <a:pt x="327" y="638"/>
                  </a:lnTo>
                  <a:lnTo>
                    <a:pt x="322" y="633"/>
                  </a:lnTo>
                  <a:lnTo>
                    <a:pt x="317" y="626"/>
                  </a:lnTo>
                  <a:lnTo>
                    <a:pt x="310" y="618"/>
                  </a:lnTo>
                  <a:lnTo>
                    <a:pt x="305" y="611"/>
                  </a:lnTo>
                  <a:lnTo>
                    <a:pt x="300" y="603"/>
                  </a:lnTo>
                  <a:lnTo>
                    <a:pt x="295" y="596"/>
                  </a:lnTo>
                  <a:lnTo>
                    <a:pt x="287" y="586"/>
                  </a:lnTo>
                  <a:lnTo>
                    <a:pt x="282" y="579"/>
                  </a:lnTo>
                  <a:lnTo>
                    <a:pt x="275" y="569"/>
                  </a:lnTo>
                  <a:lnTo>
                    <a:pt x="270" y="561"/>
                  </a:lnTo>
                  <a:lnTo>
                    <a:pt x="263" y="551"/>
                  </a:lnTo>
                  <a:lnTo>
                    <a:pt x="258" y="541"/>
                  </a:lnTo>
                  <a:lnTo>
                    <a:pt x="250" y="529"/>
                  </a:lnTo>
                  <a:lnTo>
                    <a:pt x="245" y="522"/>
                  </a:lnTo>
                  <a:lnTo>
                    <a:pt x="238" y="509"/>
                  </a:lnTo>
                  <a:lnTo>
                    <a:pt x="230" y="499"/>
                  </a:lnTo>
                  <a:lnTo>
                    <a:pt x="225" y="487"/>
                  </a:lnTo>
                  <a:lnTo>
                    <a:pt x="218" y="477"/>
                  </a:lnTo>
                  <a:lnTo>
                    <a:pt x="211" y="467"/>
                  </a:lnTo>
                  <a:lnTo>
                    <a:pt x="203" y="455"/>
                  </a:lnTo>
                  <a:lnTo>
                    <a:pt x="196" y="445"/>
                  </a:lnTo>
                  <a:lnTo>
                    <a:pt x="191" y="435"/>
                  </a:lnTo>
                  <a:lnTo>
                    <a:pt x="186" y="422"/>
                  </a:lnTo>
                  <a:lnTo>
                    <a:pt x="178" y="410"/>
                  </a:lnTo>
                  <a:lnTo>
                    <a:pt x="173" y="400"/>
                  </a:lnTo>
                  <a:lnTo>
                    <a:pt x="166" y="390"/>
                  </a:lnTo>
                  <a:lnTo>
                    <a:pt x="158" y="378"/>
                  </a:lnTo>
                  <a:lnTo>
                    <a:pt x="153" y="365"/>
                  </a:lnTo>
                  <a:lnTo>
                    <a:pt x="146" y="355"/>
                  </a:lnTo>
                  <a:lnTo>
                    <a:pt x="139" y="343"/>
                  </a:lnTo>
                  <a:lnTo>
                    <a:pt x="134" y="333"/>
                  </a:lnTo>
                  <a:lnTo>
                    <a:pt x="126" y="321"/>
                  </a:lnTo>
                  <a:lnTo>
                    <a:pt x="121" y="311"/>
                  </a:lnTo>
                  <a:lnTo>
                    <a:pt x="116" y="301"/>
                  </a:lnTo>
                  <a:lnTo>
                    <a:pt x="109" y="288"/>
                  </a:lnTo>
                  <a:lnTo>
                    <a:pt x="104" y="278"/>
                  </a:lnTo>
                  <a:lnTo>
                    <a:pt x="99" y="268"/>
                  </a:lnTo>
                  <a:lnTo>
                    <a:pt x="94" y="261"/>
                  </a:lnTo>
                  <a:lnTo>
                    <a:pt x="89" y="249"/>
                  </a:lnTo>
                  <a:lnTo>
                    <a:pt x="84" y="241"/>
                  </a:lnTo>
                  <a:lnTo>
                    <a:pt x="79" y="231"/>
                  </a:lnTo>
                  <a:lnTo>
                    <a:pt x="77" y="224"/>
                  </a:lnTo>
                  <a:lnTo>
                    <a:pt x="72" y="214"/>
                  </a:lnTo>
                  <a:lnTo>
                    <a:pt x="67" y="206"/>
                  </a:lnTo>
                  <a:lnTo>
                    <a:pt x="64" y="196"/>
                  </a:lnTo>
                  <a:lnTo>
                    <a:pt x="59" y="189"/>
                  </a:lnTo>
                  <a:lnTo>
                    <a:pt x="57" y="182"/>
                  </a:lnTo>
                  <a:lnTo>
                    <a:pt x="54" y="174"/>
                  </a:lnTo>
                  <a:lnTo>
                    <a:pt x="49" y="169"/>
                  </a:lnTo>
                  <a:lnTo>
                    <a:pt x="47" y="164"/>
                  </a:lnTo>
                  <a:lnTo>
                    <a:pt x="44" y="157"/>
                  </a:lnTo>
                  <a:lnTo>
                    <a:pt x="42" y="152"/>
                  </a:lnTo>
                  <a:lnTo>
                    <a:pt x="42" y="147"/>
                  </a:lnTo>
                  <a:lnTo>
                    <a:pt x="42" y="144"/>
                  </a:lnTo>
                  <a:lnTo>
                    <a:pt x="39" y="137"/>
                  </a:lnTo>
                  <a:lnTo>
                    <a:pt x="39" y="132"/>
                  </a:lnTo>
                  <a:lnTo>
                    <a:pt x="39" y="125"/>
                  </a:lnTo>
                  <a:lnTo>
                    <a:pt x="42" y="117"/>
                  </a:lnTo>
                  <a:lnTo>
                    <a:pt x="44" y="110"/>
                  </a:lnTo>
                  <a:lnTo>
                    <a:pt x="49" y="102"/>
                  </a:lnTo>
                  <a:lnTo>
                    <a:pt x="54" y="95"/>
                  </a:lnTo>
                  <a:lnTo>
                    <a:pt x="59" y="87"/>
                  </a:lnTo>
                  <a:lnTo>
                    <a:pt x="67" y="80"/>
                  </a:lnTo>
                  <a:lnTo>
                    <a:pt x="74" y="75"/>
                  </a:lnTo>
                  <a:lnTo>
                    <a:pt x="79" y="67"/>
                  </a:lnTo>
                  <a:lnTo>
                    <a:pt x="86" y="62"/>
                  </a:lnTo>
                  <a:lnTo>
                    <a:pt x="94" y="55"/>
                  </a:lnTo>
                  <a:lnTo>
                    <a:pt x="101" y="50"/>
                  </a:lnTo>
                  <a:lnTo>
                    <a:pt x="106" y="45"/>
                  </a:lnTo>
                  <a:lnTo>
                    <a:pt x="114" y="43"/>
                  </a:lnTo>
                  <a:lnTo>
                    <a:pt x="119" y="38"/>
                  </a:lnTo>
                  <a:lnTo>
                    <a:pt x="124" y="35"/>
                  </a:lnTo>
                  <a:lnTo>
                    <a:pt x="126" y="28"/>
                  </a:lnTo>
                  <a:lnTo>
                    <a:pt x="129" y="20"/>
                  </a:lnTo>
                  <a:lnTo>
                    <a:pt x="129" y="13"/>
                  </a:lnTo>
                  <a:lnTo>
                    <a:pt x="126" y="5"/>
                  </a:lnTo>
                  <a:lnTo>
                    <a:pt x="119" y="0"/>
                  </a:lnTo>
                  <a:lnTo>
                    <a:pt x="114" y="0"/>
                  </a:lnTo>
                  <a:lnTo>
                    <a:pt x="106" y="0"/>
                  </a:lnTo>
                  <a:lnTo>
                    <a:pt x="99" y="8"/>
                  </a:lnTo>
                  <a:lnTo>
                    <a:pt x="99" y="8"/>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4259520" y="3276720"/>
              <a:ext cx="2311200" cy="2422440"/>
            </a:xfrm>
            <a:custGeom>
              <a:avLst/>
              <a:gdLst/>
              <a:ahLst/>
              <a:rect l="l" t="t" r="r" b="b"/>
              <a:pathLst>
                <a:path w="1456" h="1526">
                  <a:moveTo>
                    <a:pt x="349" y="67"/>
                  </a:moveTo>
                  <a:lnTo>
                    <a:pt x="347" y="67"/>
                  </a:lnTo>
                  <a:lnTo>
                    <a:pt x="344" y="69"/>
                  </a:lnTo>
                  <a:lnTo>
                    <a:pt x="337" y="74"/>
                  </a:lnTo>
                  <a:lnTo>
                    <a:pt x="330" y="79"/>
                  </a:lnTo>
                  <a:lnTo>
                    <a:pt x="325" y="82"/>
                  </a:lnTo>
                  <a:lnTo>
                    <a:pt x="320" y="84"/>
                  </a:lnTo>
                  <a:lnTo>
                    <a:pt x="315" y="89"/>
                  </a:lnTo>
                  <a:lnTo>
                    <a:pt x="310" y="94"/>
                  </a:lnTo>
                  <a:lnTo>
                    <a:pt x="302" y="99"/>
                  </a:lnTo>
                  <a:lnTo>
                    <a:pt x="295" y="104"/>
                  </a:lnTo>
                  <a:lnTo>
                    <a:pt x="287" y="111"/>
                  </a:lnTo>
                  <a:lnTo>
                    <a:pt x="282" y="116"/>
                  </a:lnTo>
                  <a:lnTo>
                    <a:pt x="275" y="121"/>
                  </a:lnTo>
                  <a:lnTo>
                    <a:pt x="265" y="129"/>
                  </a:lnTo>
                  <a:lnTo>
                    <a:pt x="258" y="136"/>
                  </a:lnTo>
                  <a:lnTo>
                    <a:pt x="250" y="144"/>
                  </a:lnTo>
                  <a:lnTo>
                    <a:pt x="240" y="151"/>
                  </a:lnTo>
                  <a:lnTo>
                    <a:pt x="233" y="159"/>
                  </a:lnTo>
                  <a:lnTo>
                    <a:pt x="225" y="168"/>
                  </a:lnTo>
                  <a:lnTo>
                    <a:pt x="215" y="178"/>
                  </a:lnTo>
                  <a:lnTo>
                    <a:pt x="208" y="188"/>
                  </a:lnTo>
                  <a:lnTo>
                    <a:pt x="198" y="198"/>
                  </a:lnTo>
                  <a:lnTo>
                    <a:pt x="188" y="208"/>
                  </a:lnTo>
                  <a:lnTo>
                    <a:pt x="181" y="218"/>
                  </a:lnTo>
                  <a:lnTo>
                    <a:pt x="171" y="230"/>
                  </a:lnTo>
                  <a:lnTo>
                    <a:pt x="163" y="240"/>
                  </a:lnTo>
                  <a:lnTo>
                    <a:pt x="153" y="253"/>
                  </a:lnTo>
                  <a:lnTo>
                    <a:pt x="144" y="265"/>
                  </a:lnTo>
                  <a:lnTo>
                    <a:pt x="136" y="278"/>
                  </a:lnTo>
                  <a:lnTo>
                    <a:pt x="126" y="290"/>
                  </a:lnTo>
                  <a:lnTo>
                    <a:pt x="116" y="305"/>
                  </a:lnTo>
                  <a:lnTo>
                    <a:pt x="109" y="320"/>
                  </a:lnTo>
                  <a:lnTo>
                    <a:pt x="99" y="332"/>
                  </a:lnTo>
                  <a:lnTo>
                    <a:pt x="91" y="347"/>
                  </a:lnTo>
                  <a:lnTo>
                    <a:pt x="84" y="362"/>
                  </a:lnTo>
                  <a:lnTo>
                    <a:pt x="77" y="379"/>
                  </a:lnTo>
                  <a:lnTo>
                    <a:pt x="67" y="394"/>
                  </a:lnTo>
                  <a:lnTo>
                    <a:pt x="62" y="409"/>
                  </a:lnTo>
                  <a:lnTo>
                    <a:pt x="54" y="427"/>
                  </a:lnTo>
                  <a:lnTo>
                    <a:pt x="47" y="444"/>
                  </a:lnTo>
                  <a:lnTo>
                    <a:pt x="42" y="461"/>
                  </a:lnTo>
                  <a:lnTo>
                    <a:pt x="34" y="479"/>
                  </a:lnTo>
                  <a:lnTo>
                    <a:pt x="29" y="496"/>
                  </a:lnTo>
                  <a:lnTo>
                    <a:pt x="24" y="516"/>
                  </a:lnTo>
                  <a:lnTo>
                    <a:pt x="20" y="536"/>
                  </a:lnTo>
                  <a:lnTo>
                    <a:pt x="15" y="553"/>
                  </a:lnTo>
                  <a:lnTo>
                    <a:pt x="12" y="573"/>
                  </a:lnTo>
                  <a:lnTo>
                    <a:pt x="10" y="595"/>
                  </a:lnTo>
                  <a:lnTo>
                    <a:pt x="7" y="615"/>
                  </a:lnTo>
                  <a:lnTo>
                    <a:pt x="5" y="635"/>
                  </a:lnTo>
                  <a:lnTo>
                    <a:pt x="2" y="657"/>
                  </a:lnTo>
                  <a:lnTo>
                    <a:pt x="2" y="680"/>
                  </a:lnTo>
                  <a:lnTo>
                    <a:pt x="0" y="702"/>
                  </a:lnTo>
                  <a:lnTo>
                    <a:pt x="2" y="724"/>
                  </a:lnTo>
                  <a:lnTo>
                    <a:pt x="2" y="747"/>
                  </a:lnTo>
                  <a:lnTo>
                    <a:pt x="5" y="769"/>
                  </a:lnTo>
                  <a:lnTo>
                    <a:pt x="7" y="794"/>
                  </a:lnTo>
                  <a:lnTo>
                    <a:pt x="10" y="819"/>
                  </a:lnTo>
                  <a:lnTo>
                    <a:pt x="12" y="843"/>
                  </a:lnTo>
                  <a:lnTo>
                    <a:pt x="20" y="868"/>
                  </a:lnTo>
                  <a:lnTo>
                    <a:pt x="24" y="891"/>
                  </a:lnTo>
                  <a:lnTo>
                    <a:pt x="29" y="915"/>
                  </a:lnTo>
                  <a:lnTo>
                    <a:pt x="34" y="938"/>
                  </a:lnTo>
                  <a:lnTo>
                    <a:pt x="39" y="963"/>
                  </a:lnTo>
                  <a:lnTo>
                    <a:pt x="44" y="982"/>
                  </a:lnTo>
                  <a:lnTo>
                    <a:pt x="49" y="1005"/>
                  </a:lnTo>
                  <a:lnTo>
                    <a:pt x="57" y="1025"/>
                  </a:lnTo>
                  <a:lnTo>
                    <a:pt x="62" y="1047"/>
                  </a:lnTo>
                  <a:lnTo>
                    <a:pt x="67" y="1064"/>
                  </a:lnTo>
                  <a:lnTo>
                    <a:pt x="74" y="1084"/>
                  </a:lnTo>
                  <a:lnTo>
                    <a:pt x="79" y="1102"/>
                  </a:lnTo>
                  <a:lnTo>
                    <a:pt x="87" y="1121"/>
                  </a:lnTo>
                  <a:lnTo>
                    <a:pt x="91" y="1136"/>
                  </a:lnTo>
                  <a:lnTo>
                    <a:pt x="99" y="1156"/>
                  </a:lnTo>
                  <a:lnTo>
                    <a:pt x="106" y="1171"/>
                  </a:lnTo>
                  <a:lnTo>
                    <a:pt x="114" y="1188"/>
                  </a:lnTo>
                  <a:lnTo>
                    <a:pt x="121" y="1203"/>
                  </a:lnTo>
                  <a:lnTo>
                    <a:pt x="126" y="1218"/>
                  </a:lnTo>
                  <a:lnTo>
                    <a:pt x="134" y="1233"/>
                  </a:lnTo>
                  <a:lnTo>
                    <a:pt x="141" y="1245"/>
                  </a:lnTo>
                  <a:lnTo>
                    <a:pt x="149" y="1258"/>
                  </a:lnTo>
                  <a:lnTo>
                    <a:pt x="156" y="1273"/>
                  </a:lnTo>
                  <a:lnTo>
                    <a:pt x="163" y="1285"/>
                  </a:lnTo>
                  <a:lnTo>
                    <a:pt x="173" y="1298"/>
                  </a:lnTo>
                  <a:lnTo>
                    <a:pt x="181" y="1307"/>
                  </a:lnTo>
                  <a:lnTo>
                    <a:pt x="188" y="1320"/>
                  </a:lnTo>
                  <a:lnTo>
                    <a:pt x="196" y="1330"/>
                  </a:lnTo>
                  <a:lnTo>
                    <a:pt x="203" y="1342"/>
                  </a:lnTo>
                  <a:lnTo>
                    <a:pt x="213" y="1352"/>
                  </a:lnTo>
                  <a:lnTo>
                    <a:pt x="223" y="1360"/>
                  </a:lnTo>
                  <a:lnTo>
                    <a:pt x="230" y="1370"/>
                  </a:lnTo>
                  <a:lnTo>
                    <a:pt x="240" y="1379"/>
                  </a:lnTo>
                  <a:lnTo>
                    <a:pt x="248" y="1387"/>
                  </a:lnTo>
                  <a:lnTo>
                    <a:pt x="258" y="1394"/>
                  </a:lnTo>
                  <a:lnTo>
                    <a:pt x="268" y="1402"/>
                  </a:lnTo>
                  <a:lnTo>
                    <a:pt x="275" y="1412"/>
                  </a:lnTo>
                  <a:lnTo>
                    <a:pt x="285" y="1417"/>
                  </a:lnTo>
                  <a:lnTo>
                    <a:pt x="295" y="1424"/>
                  </a:lnTo>
                  <a:lnTo>
                    <a:pt x="305" y="1429"/>
                  </a:lnTo>
                  <a:lnTo>
                    <a:pt x="317" y="1437"/>
                  </a:lnTo>
                  <a:lnTo>
                    <a:pt x="325" y="1441"/>
                  </a:lnTo>
                  <a:lnTo>
                    <a:pt x="337" y="1449"/>
                  </a:lnTo>
                  <a:lnTo>
                    <a:pt x="347" y="1454"/>
                  </a:lnTo>
                  <a:lnTo>
                    <a:pt x="359" y="1459"/>
                  </a:lnTo>
                  <a:lnTo>
                    <a:pt x="369" y="1461"/>
                  </a:lnTo>
                  <a:lnTo>
                    <a:pt x="379" y="1466"/>
                  </a:lnTo>
                  <a:lnTo>
                    <a:pt x="392" y="1471"/>
                  </a:lnTo>
                  <a:lnTo>
                    <a:pt x="404" y="1476"/>
                  </a:lnTo>
                  <a:lnTo>
                    <a:pt x="416" y="1479"/>
                  </a:lnTo>
                  <a:lnTo>
                    <a:pt x="426" y="1484"/>
                  </a:lnTo>
                  <a:lnTo>
                    <a:pt x="439" y="1486"/>
                  </a:lnTo>
                  <a:lnTo>
                    <a:pt x="451" y="1491"/>
                  </a:lnTo>
                  <a:lnTo>
                    <a:pt x="464" y="1491"/>
                  </a:lnTo>
                  <a:lnTo>
                    <a:pt x="476" y="1496"/>
                  </a:lnTo>
                  <a:lnTo>
                    <a:pt x="488" y="1499"/>
                  </a:lnTo>
                  <a:lnTo>
                    <a:pt x="503" y="1501"/>
                  </a:lnTo>
                  <a:lnTo>
                    <a:pt x="516" y="1504"/>
                  </a:lnTo>
                  <a:lnTo>
                    <a:pt x="528" y="1506"/>
                  </a:lnTo>
                  <a:lnTo>
                    <a:pt x="543" y="1508"/>
                  </a:lnTo>
                  <a:lnTo>
                    <a:pt x="555" y="1511"/>
                  </a:lnTo>
                  <a:lnTo>
                    <a:pt x="570" y="1511"/>
                  </a:lnTo>
                  <a:lnTo>
                    <a:pt x="585" y="1516"/>
                  </a:lnTo>
                  <a:lnTo>
                    <a:pt x="600" y="1516"/>
                  </a:lnTo>
                  <a:lnTo>
                    <a:pt x="615" y="1518"/>
                  </a:lnTo>
                  <a:lnTo>
                    <a:pt x="630" y="1521"/>
                  </a:lnTo>
                  <a:lnTo>
                    <a:pt x="645" y="1521"/>
                  </a:lnTo>
                  <a:lnTo>
                    <a:pt x="657" y="1521"/>
                  </a:lnTo>
                  <a:lnTo>
                    <a:pt x="672" y="1523"/>
                  </a:lnTo>
                  <a:lnTo>
                    <a:pt x="687" y="1523"/>
                  </a:lnTo>
                  <a:lnTo>
                    <a:pt x="702" y="1523"/>
                  </a:lnTo>
                  <a:lnTo>
                    <a:pt x="717" y="1526"/>
                  </a:lnTo>
                  <a:lnTo>
                    <a:pt x="731" y="1526"/>
                  </a:lnTo>
                  <a:lnTo>
                    <a:pt x="744" y="1526"/>
                  </a:lnTo>
                  <a:lnTo>
                    <a:pt x="759" y="1526"/>
                  </a:lnTo>
                  <a:lnTo>
                    <a:pt x="774" y="1526"/>
                  </a:lnTo>
                  <a:lnTo>
                    <a:pt x="788" y="1526"/>
                  </a:lnTo>
                  <a:lnTo>
                    <a:pt x="801" y="1526"/>
                  </a:lnTo>
                  <a:lnTo>
                    <a:pt x="816" y="1523"/>
                  </a:lnTo>
                  <a:lnTo>
                    <a:pt x="831" y="1523"/>
                  </a:lnTo>
                  <a:lnTo>
                    <a:pt x="846" y="1523"/>
                  </a:lnTo>
                  <a:lnTo>
                    <a:pt x="858" y="1521"/>
                  </a:lnTo>
                  <a:lnTo>
                    <a:pt x="873" y="1518"/>
                  </a:lnTo>
                  <a:lnTo>
                    <a:pt x="885" y="1516"/>
                  </a:lnTo>
                  <a:lnTo>
                    <a:pt x="900" y="1513"/>
                  </a:lnTo>
                  <a:lnTo>
                    <a:pt x="912" y="1511"/>
                  </a:lnTo>
                  <a:lnTo>
                    <a:pt x="927" y="1508"/>
                  </a:lnTo>
                  <a:lnTo>
                    <a:pt x="940" y="1504"/>
                  </a:lnTo>
                  <a:lnTo>
                    <a:pt x="955" y="1504"/>
                  </a:lnTo>
                  <a:lnTo>
                    <a:pt x="967" y="1499"/>
                  </a:lnTo>
                  <a:lnTo>
                    <a:pt x="979" y="1494"/>
                  </a:lnTo>
                  <a:lnTo>
                    <a:pt x="994" y="1491"/>
                  </a:lnTo>
                  <a:lnTo>
                    <a:pt x="1007" y="1486"/>
                  </a:lnTo>
                  <a:lnTo>
                    <a:pt x="1019" y="1481"/>
                  </a:lnTo>
                  <a:lnTo>
                    <a:pt x="1032" y="1476"/>
                  </a:lnTo>
                  <a:lnTo>
                    <a:pt x="1046" y="1471"/>
                  </a:lnTo>
                  <a:lnTo>
                    <a:pt x="1059" y="1466"/>
                  </a:lnTo>
                  <a:lnTo>
                    <a:pt x="1071" y="1459"/>
                  </a:lnTo>
                  <a:lnTo>
                    <a:pt x="1084" y="1451"/>
                  </a:lnTo>
                  <a:lnTo>
                    <a:pt x="1096" y="1444"/>
                  </a:lnTo>
                  <a:lnTo>
                    <a:pt x="1108" y="1439"/>
                  </a:lnTo>
                  <a:lnTo>
                    <a:pt x="1121" y="1429"/>
                  </a:lnTo>
                  <a:lnTo>
                    <a:pt x="1133" y="1422"/>
                  </a:lnTo>
                  <a:lnTo>
                    <a:pt x="1146" y="1412"/>
                  </a:lnTo>
                  <a:lnTo>
                    <a:pt x="1158" y="1404"/>
                  </a:lnTo>
                  <a:lnTo>
                    <a:pt x="1168" y="1394"/>
                  </a:lnTo>
                  <a:lnTo>
                    <a:pt x="1180" y="1384"/>
                  </a:lnTo>
                  <a:lnTo>
                    <a:pt x="1190" y="1374"/>
                  </a:lnTo>
                  <a:lnTo>
                    <a:pt x="1203" y="1365"/>
                  </a:lnTo>
                  <a:lnTo>
                    <a:pt x="1213" y="1352"/>
                  </a:lnTo>
                  <a:lnTo>
                    <a:pt x="1225" y="1342"/>
                  </a:lnTo>
                  <a:lnTo>
                    <a:pt x="1235" y="1330"/>
                  </a:lnTo>
                  <a:lnTo>
                    <a:pt x="1247" y="1320"/>
                  </a:lnTo>
                  <a:lnTo>
                    <a:pt x="1257" y="1305"/>
                  </a:lnTo>
                  <a:lnTo>
                    <a:pt x="1267" y="1293"/>
                  </a:lnTo>
                  <a:lnTo>
                    <a:pt x="1277" y="1278"/>
                  </a:lnTo>
                  <a:lnTo>
                    <a:pt x="1287" y="1265"/>
                  </a:lnTo>
                  <a:lnTo>
                    <a:pt x="1297" y="1250"/>
                  </a:lnTo>
                  <a:lnTo>
                    <a:pt x="1307" y="1236"/>
                  </a:lnTo>
                  <a:lnTo>
                    <a:pt x="1317" y="1221"/>
                  </a:lnTo>
                  <a:lnTo>
                    <a:pt x="1327" y="1203"/>
                  </a:lnTo>
                  <a:lnTo>
                    <a:pt x="1337" y="1186"/>
                  </a:lnTo>
                  <a:lnTo>
                    <a:pt x="1344" y="1171"/>
                  </a:lnTo>
                  <a:lnTo>
                    <a:pt x="1354" y="1154"/>
                  </a:lnTo>
                  <a:lnTo>
                    <a:pt x="1364" y="1136"/>
                  </a:lnTo>
                  <a:lnTo>
                    <a:pt x="1371" y="1116"/>
                  </a:lnTo>
                  <a:lnTo>
                    <a:pt x="1379" y="1097"/>
                  </a:lnTo>
                  <a:lnTo>
                    <a:pt x="1389" y="1077"/>
                  </a:lnTo>
                  <a:lnTo>
                    <a:pt x="1396" y="1059"/>
                  </a:lnTo>
                  <a:lnTo>
                    <a:pt x="1404" y="1037"/>
                  </a:lnTo>
                  <a:lnTo>
                    <a:pt x="1411" y="1017"/>
                  </a:lnTo>
                  <a:lnTo>
                    <a:pt x="1416" y="995"/>
                  </a:lnTo>
                  <a:lnTo>
                    <a:pt x="1423" y="977"/>
                  </a:lnTo>
                  <a:lnTo>
                    <a:pt x="1426" y="955"/>
                  </a:lnTo>
                  <a:lnTo>
                    <a:pt x="1433" y="938"/>
                  </a:lnTo>
                  <a:lnTo>
                    <a:pt x="1436" y="918"/>
                  </a:lnTo>
                  <a:lnTo>
                    <a:pt x="1441" y="901"/>
                  </a:lnTo>
                  <a:lnTo>
                    <a:pt x="1443" y="881"/>
                  </a:lnTo>
                  <a:lnTo>
                    <a:pt x="1446" y="861"/>
                  </a:lnTo>
                  <a:lnTo>
                    <a:pt x="1448" y="843"/>
                  </a:lnTo>
                  <a:lnTo>
                    <a:pt x="1451" y="826"/>
                  </a:lnTo>
                  <a:lnTo>
                    <a:pt x="1451" y="806"/>
                  </a:lnTo>
                  <a:lnTo>
                    <a:pt x="1453" y="789"/>
                  </a:lnTo>
                  <a:lnTo>
                    <a:pt x="1453" y="771"/>
                  </a:lnTo>
                  <a:lnTo>
                    <a:pt x="1456" y="757"/>
                  </a:lnTo>
                  <a:lnTo>
                    <a:pt x="1453" y="737"/>
                  </a:lnTo>
                  <a:lnTo>
                    <a:pt x="1453" y="722"/>
                  </a:lnTo>
                  <a:lnTo>
                    <a:pt x="1451" y="704"/>
                  </a:lnTo>
                  <a:lnTo>
                    <a:pt x="1451" y="687"/>
                  </a:lnTo>
                  <a:lnTo>
                    <a:pt x="1448" y="672"/>
                  </a:lnTo>
                  <a:lnTo>
                    <a:pt x="1446" y="655"/>
                  </a:lnTo>
                  <a:lnTo>
                    <a:pt x="1443" y="640"/>
                  </a:lnTo>
                  <a:lnTo>
                    <a:pt x="1441" y="625"/>
                  </a:lnTo>
                  <a:lnTo>
                    <a:pt x="1438" y="610"/>
                  </a:lnTo>
                  <a:lnTo>
                    <a:pt x="1433" y="595"/>
                  </a:lnTo>
                  <a:lnTo>
                    <a:pt x="1431" y="578"/>
                  </a:lnTo>
                  <a:lnTo>
                    <a:pt x="1426" y="565"/>
                  </a:lnTo>
                  <a:lnTo>
                    <a:pt x="1421" y="548"/>
                  </a:lnTo>
                  <a:lnTo>
                    <a:pt x="1416" y="536"/>
                  </a:lnTo>
                  <a:lnTo>
                    <a:pt x="1414" y="521"/>
                  </a:lnTo>
                  <a:lnTo>
                    <a:pt x="1409" y="508"/>
                  </a:lnTo>
                  <a:lnTo>
                    <a:pt x="1401" y="494"/>
                  </a:lnTo>
                  <a:lnTo>
                    <a:pt x="1396" y="481"/>
                  </a:lnTo>
                  <a:lnTo>
                    <a:pt x="1391" y="466"/>
                  </a:lnTo>
                  <a:lnTo>
                    <a:pt x="1384" y="454"/>
                  </a:lnTo>
                  <a:lnTo>
                    <a:pt x="1379" y="441"/>
                  </a:lnTo>
                  <a:lnTo>
                    <a:pt x="1371" y="429"/>
                  </a:lnTo>
                  <a:lnTo>
                    <a:pt x="1364" y="417"/>
                  </a:lnTo>
                  <a:lnTo>
                    <a:pt x="1359" y="404"/>
                  </a:lnTo>
                  <a:lnTo>
                    <a:pt x="1349" y="392"/>
                  </a:lnTo>
                  <a:lnTo>
                    <a:pt x="1344" y="379"/>
                  </a:lnTo>
                  <a:lnTo>
                    <a:pt x="1337" y="367"/>
                  </a:lnTo>
                  <a:lnTo>
                    <a:pt x="1329" y="357"/>
                  </a:lnTo>
                  <a:lnTo>
                    <a:pt x="1322" y="345"/>
                  </a:lnTo>
                  <a:lnTo>
                    <a:pt x="1314" y="335"/>
                  </a:lnTo>
                  <a:lnTo>
                    <a:pt x="1307" y="322"/>
                  </a:lnTo>
                  <a:lnTo>
                    <a:pt x="1299" y="312"/>
                  </a:lnTo>
                  <a:lnTo>
                    <a:pt x="1289" y="302"/>
                  </a:lnTo>
                  <a:lnTo>
                    <a:pt x="1285" y="293"/>
                  </a:lnTo>
                  <a:lnTo>
                    <a:pt x="1275" y="283"/>
                  </a:lnTo>
                  <a:lnTo>
                    <a:pt x="1267" y="273"/>
                  </a:lnTo>
                  <a:lnTo>
                    <a:pt x="1260" y="263"/>
                  </a:lnTo>
                  <a:lnTo>
                    <a:pt x="1250" y="253"/>
                  </a:lnTo>
                  <a:lnTo>
                    <a:pt x="1242" y="243"/>
                  </a:lnTo>
                  <a:lnTo>
                    <a:pt x="1235" y="235"/>
                  </a:lnTo>
                  <a:lnTo>
                    <a:pt x="1225" y="226"/>
                  </a:lnTo>
                  <a:lnTo>
                    <a:pt x="1218" y="216"/>
                  </a:lnTo>
                  <a:lnTo>
                    <a:pt x="1210" y="208"/>
                  </a:lnTo>
                  <a:lnTo>
                    <a:pt x="1203" y="198"/>
                  </a:lnTo>
                  <a:lnTo>
                    <a:pt x="1193" y="191"/>
                  </a:lnTo>
                  <a:lnTo>
                    <a:pt x="1188" y="183"/>
                  </a:lnTo>
                  <a:lnTo>
                    <a:pt x="1178" y="176"/>
                  </a:lnTo>
                  <a:lnTo>
                    <a:pt x="1173" y="168"/>
                  </a:lnTo>
                  <a:lnTo>
                    <a:pt x="1163" y="161"/>
                  </a:lnTo>
                  <a:lnTo>
                    <a:pt x="1156" y="154"/>
                  </a:lnTo>
                  <a:lnTo>
                    <a:pt x="1146" y="146"/>
                  </a:lnTo>
                  <a:lnTo>
                    <a:pt x="1138" y="139"/>
                  </a:lnTo>
                  <a:lnTo>
                    <a:pt x="1128" y="134"/>
                  </a:lnTo>
                  <a:lnTo>
                    <a:pt x="1121" y="126"/>
                  </a:lnTo>
                  <a:lnTo>
                    <a:pt x="1111" y="121"/>
                  </a:lnTo>
                  <a:lnTo>
                    <a:pt x="1103" y="114"/>
                  </a:lnTo>
                  <a:lnTo>
                    <a:pt x="1094" y="109"/>
                  </a:lnTo>
                  <a:lnTo>
                    <a:pt x="1081" y="101"/>
                  </a:lnTo>
                  <a:lnTo>
                    <a:pt x="1071" y="96"/>
                  </a:lnTo>
                  <a:lnTo>
                    <a:pt x="1064" y="92"/>
                  </a:lnTo>
                  <a:lnTo>
                    <a:pt x="1051" y="84"/>
                  </a:lnTo>
                  <a:lnTo>
                    <a:pt x="1041" y="82"/>
                  </a:lnTo>
                  <a:lnTo>
                    <a:pt x="1032" y="77"/>
                  </a:lnTo>
                  <a:lnTo>
                    <a:pt x="1022" y="74"/>
                  </a:lnTo>
                  <a:lnTo>
                    <a:pt x="1009" y="67"/>
                  </a:lnTo>
                  <a:lnTo>
                    <a:pt x="997" y="64"/>
                  </a:lnTo>
                  <a:lnTo>
                    <a:pt x="984" y="59"/>
                  </a:lnTo>
                  <a:lnTo>
                    <a:pt x="974" y="57"/>
                  </a:lnTo>
                  <a:lnTo>
                    <a:pt x="962" y="52"/>
                  </a:lnTo>
                  <a:lnTo>
                    <a:pt x="952" y="49"/>
                  </a:lnTo>
                  <a:lnTo>
                    <a:pt x="940" y="44"/>
                  </a:lnTo>
                  <a:lnTo>
                    <a:pt x="930" y="42"/>
                  </a:lnTo>
                  <a:lnTo>
                    <a:pt x="917" y="39"/>
                  </a:lnTo>
                  <a:lnTo>
                    <a:pt x="905" y="37"/>
                  </a:lnTo>
                  <a:lnTo>
                    <a:pt x="895" y="32"/>
                  </a:lnTo>
                  <a:lnTo>
                    <a:pt x="883" y="29"/>
                  </a:lnTo>
                  <a:lnTo>
                    <a:pt x="870" y="27"/>
                  </a:lnTo>
                  <a:lnTo>
                    <a:pt x="860" y="25"/>
                  </a:lnTo>
                  <a:lnTo>
                    <a:pt x="848" y="22"/>
                  </a:lnTo>
                  <a:lnTo>
                    <a:pt x="838" y="22"/>
                  </a:lnTo>
                  <a:lnTo>
                    <a:pt x="826" y="20"/>
                  </a:lnTo>
                  <a:lnTo>
                    <a:pt x="813" y="17"/>
                  </a:lnTo>
                  <a:lnTo>
                    <a:pt x="803" y="15"/>
                  </a:lnTo>
                  <a:lnTo>
                    <a:pt x="791" y="12"/>
                  </a:lnTo>
                  <a:lnTo>
                    <a:pt x="781" y="12"/>
                  </a:lnTo>
                  <a:lnTo>
                    <a:pt x="771" y="10"/>
                  </a:lnTo>
                  <a:lnTo>
                    <a:pt x="759" y="7"/>
                  </a:lnTo>
                  <a:lnTo>
                    <a:pt x="749" y="7"/>
                  </a:lnTo>
                  <a:lnTo>
                    <a:pt x="736" y="7"/>
                  </a:lnTo>
                  <a:lnTo>
                    <a:pt x="726" y="5"/>
                  </a:lnTo>
                  <a:lnTo>
                    <a:pt x="717" y="2"/>
                  </a:lnTo>
                  <a:lnTo>
                    <a:pt x="709" y="2"/>
                  </a:lnTo>
                  <a:lnTo>
                    <a:pt x="699" y="2"/>
                  </a:lnTo>
                  <a:lnTo>
                    <a:pt x="689" y="2"/>
                  </a:lnTo>
                  <a:lnTo>
                    <a:pt x="679" y="2"/>
                  </a:lnTo>
                  <a:lnTo>
                    <a:pt x="672" y="2"/>
                  </a:lnTo>
                  <a:lnTo>
                    <a:pt x="662" y="0"/>
                  </a:lnTo>
                  <a:lnTo>
                    <a:pt x="652" y="0"/>
                  </a:lnTo>
                  <a:lnTo>
                    <a:pt x="645" y="0"/>
                  </a:lnTo>
                  <a:lnTo>
                    <a:pt x="637" y="0"/>
                  </a:lnTo>
                  <a:lnTo>
                    <a:pt x="630" y="0"/>
                  </a:lnTo>
                  <a:lnTo>
                    <a:pt x="622" y="0"/>
                  </a:lnTo>
                  <a:lnTo>
                    <a:pt x="615" y="0"/>
                  </a:lnTo>
                  <a:lnTo>
                    <a:pt x="610" y="0"/>
                  </a:lnTo>
                  <a:lnTo>
                    <a:pt x="602" y="0"/>
                  </a:lnTo>
                  <a:lnTo>
                    <a:pt x="597" y="0"/>
                  </a:lnTo>
                  <a:lnTo>
                    <a:pt x="593" y="0"/>
                  </a:lnTo>
                  <a:lnTo>
                    <a:pt x="588" y="0"/>
                  </a:lnTo>
                  <a:lnTo>
                    <a:pt x="578" y="2"/>
                  </a:lnTo>
                  <a:lnTo>
                    <a:pt x="573" y="2"/>
                  </a:lnTo>
                  <a:lnTo>
                    <a:pt x="563" y="2"/>
                  </a:lnTo>
                  <a:lnTo>
                    <a:pt x="555" y="5"/>
                  </a:lnTo>
                  <a:lnTo>
                    <a:pt x="550" y="5"/>
                  </a:lnTo>
                  <a:lnTo>
                    <a:pt x="543" y="7"/>
                  </a:lnTo>
                  <a:lnTo>
                    <a:pt x="533" y="10"/>
                  </a:lnTo>
                  <a:lnTo>
                    <a:pt x="526" y="12"/>
                  </a:lnTo>
                  <a:lnTo>
                    <a:pt x="516" y="15"/>
                  </a:lnTo>
                  <a:lnTo>
                    <a:pt x="508" y="17"/>
                  </a:lnTo>
                  <a:lnTo>
                    <a:pt x="498" y="20"/>
                  </a:lnTo>
                  <a:lnTo>
                    <a:pt x="488" y="22"/>
                  </a:lnTo>
                  <a:lnTo>
                    <a:pt x="478" y="25"/>
                  </a:lnTo>
                  <a:lnTo>
                    <a:pt x="471" y="27"/>
                  </a:lnTo>
                  <a:lnTo>
                    <a:pt x="461" y="29"/>
                  </a:lnTo>
                  <a:lnTo>
                    <a:pt x="451" y="32"/>
                  </a:lnTo>
                  <a:lnTo>
                    <a:pt x="444" y="37"/>
                  </a:lnTo>
                  <a:lnTo>
                    <a:pt x="434" y="39"/>
                  </a:lnTo>
                  <a:lnTo>
                    <a:pt x="424" y="42"/>
                  </a:lnTo>
                  <a:lnTo>
                    <a:pt x="416" y="44"/>
                  </a:lnTo>
                  <a:lnTo>
                    <a:pt x="406" y="44"/>
                  </a:lnTo>
                  <a:lnTo>
                    <a:pt x="402" y="49"/>
                  </a:lnTo>
                  <a:lnTo>
                    <a:pt x="394" y="49"/>
                  </a:lnTo>
                  <a:lnTo>
                    <a:pt x="387" y="52"/>
                  </a:lnTo>
                  <a:lnTo>
                    <a:pt x="379" y="54"/>
                  </a:lnTo>
                  <a:lnTo>
                    <a:pt x="374" y="57"/>
                  </a:lnTo>
                  <a:lnTo>
                    <a:pt x="369" y="59"/>
                  </a:lnTo>
                  <a:lnTo>
                    <a:pt x="364" y="62"/>
                  </a:lnTo>
                  <a:lnTo>
                    <a:pt x="359" y="62"/>
                  </a:lnTo>
                  <a:lnTo>
                    <a:pt x="357" y="64"/>
                  </a:lnTo>
                  <a:lnTo>
                    <a:pt x="352" y="67"/>
                  </a:lnTo>
                  <a:lnTo>
                    <a:pt x="349" y="67"/>
                  </a:lnTo>
                  <a:lnTo>
                    <a:pt x="349" y="6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4739040" y="3851280"/>
              <a:ext cx="1284120" cy="1311120"/>
            </a:xfrm>
            <a:custGeom>
              <a:avLst/>
              <a:gdLst/>
              <a:ahLst/>
              <a:rect l="l" t="t" r="r" b="b"/>
              <a:pathLst>
                <a:path w="809" h="826">
                  <a:moveTo>
                    <a:pt x="295" y="20"/>
                  </a:moveTo>
                  <a:lnTo>
                    <a:pt x="293" y="20"/>
                  </a:lnTo>
                  <a:lnTo>
                    <a:pt x="291" y="20"/>
                  </a:lnTo>
                  <a:lnTo>
                    <a:pt x="288" y="20"/>
                  </a:lnTo>
                  <a:lnTo>
                    <a:pt x="283" y="20"/>
                  </a:lnTo>
                  <a:lnTo>
                    <a:pt x="276" y="20"/>
                  </a:lnTo>
                  <a:lnTo>
                    <a:pt x="268" y="20"/>
                  </a:lnTo>
                  <a:lnTo>
                    <a:pt x="258" y="22"/>
                  </a:lnTo>
                  <a:lnTo>
                    <a:pt x="251" y="25"/>
                  </a:lnTo>
                  <a:lnTo>
                    <a:pt x="243" y="25"/>
                  </a:lnTo>
                  <a:lnTo>
                    <a:pt x="238" y="25"/>
                  </a:lnTo>
                  <a:lnTo>
                    <a:pt x="233" y="27"/>
                  </a:lnTo>
                  <a:lnTo>
                    <a:pt x="228" y="30"/>
                  </a:lnTo>
                  <a:lnTo>
                    <a:pt x="221" y="30"/>
                  </a:lnTo>
                  <a:lnTo>
                    <a:pt x="216" y="32"/>
                  </a:lnTo>
                  <a:lnTo>
                    <a:pt x="209" y="35"/>
                  </a:lnTo>
                  <a:lnTo>
                    <a:pt x="204" y="37"/>
                  </a:lnTo>
                  <a:lnTo>
                    <a:pt x="196" y="37"/>
                  </a:lnTo>
                  <a:lnTo>
                    <a:pt x="191" y="40"/>
                  </a:lnTo>
                  <a:lnTo>
                    <a:pt x="184" y="42"/>
                  </a:lnTo>
                  <a:lnTo>
                    <a:pt x="176" y="47"/>
                  </a:lnTo>
                  <a:lnTo>
                    <a:pt x="171" y="50"/>
                  </a:lnTo>
                  <a:lnTo>
                    <a:pt x="164" y="52"/>
                  </a:lnTo>
                  <a:lnTo>
                    <a:pt x="159" y="57"/>
                  </a:lnTo>
                  <a:lnTo>
                    <a:pt x="152" y="62"/>
                  </a:lnTo>
                  <a:lnTo>
                    <a:pt x="144" y="65"/>
                  </a:lnTo>
                  <a:lnTo>
                    <a:pt x="137" y="69"/>
                  </a:lnTo>
                  <a:lnTo>
                    <a:pt x="129" y="72"/>
                  </a:lnTo>
                  <a:lnTo>
                    <a:pt x="124" y="79"/>
                  </a:lnTo>
                  <a:lnTo>
                    <a:pt x="117" y="84"/>
                  </a:lnTo>
                  <a:lnTo>
                    <a:pt x="109" y="89"/>
                  </a:lnTo>
                  <a:lnTo>
                    <a:pt x="104" y="97"/>
                  </a:lnTo>
                  <a:lnTo>
                    <a:pt x="100" y="102"/>
                  </a:lnTo>
                  <a:lnTo>
                    <a:pt x="92" y="109"/>
                  </a:lnTo>
                  <a:lnTo>
                    <a:pt x="85" y="114"/>
                  </a:lnTo>
                  <a:lnTo>
                    <a:pt x="80" y="122"/>
                  </a:lnTo>
                  <a:lnTo>
                    <a:pt x="72" y="132"/>
                  </a:lnTo>
                  <a:lnTo>
                    <a:pt x="67" y="139"/>
                  </a:lnTo>
                  <a:lnTo>
                    <a:pt x="60" y="146"/>
                  </a:lnTo>
                  <a:lnTo>
                    <a:pt x="55" y="156"/>
                  </a:lnTo>
                  <a:lnTo>
                    <a:pt x="50" y="166"/>
                  </a:lnTo>
                  <a:lnTo>
                    <a:pt x="45" y="174"/>
                  </a:lnTo>
                  <a:lnTo>
                    <a:pt x="40" y="184"/>
                  </a:lnTo>
                  <a:lnTo>
                    <a:pt x="35" y="194"/>
                  </a:lnTo>
                  <a:lnTo>
                    <a:pt x="30" y="206"/>
                  </a:lnTo>
                  <a:lnTo>
                    <a:pt x="25" y="216"/>
                  </a:lnTo>
                  <a:lnTo>
                    <a:pt x="23" y="228"/>
                  </a:lnTo>
                  <a:lnTo>
                    <a:pt x="18" y="241"/>
                  </a:lnTo>
                  <a:lnTo>
                    <a:pt x="15" y="253"/>
                  </a:lnTo>
                  <a:lnTo>
                    <a:pt x="13" y="266"/>
                  </a:lnTo>
                  <a:lnTo>
                    <a:pt x="10" y="280"/>
                  </a:lnTo>
                  <a:lnTo>
                    <a:pt x="5" y="293"/>
                  </a:lnTo>
                  <a:lnTo>
                    <a:pt x="5" y="310"/>
                  </a:lnTo>
                  <a:lnTo>
                    <a:pt x="3" y="325"/>
                  </a:lnTo>
                  <a:lnTo>
                    <a:pt x="3" y="340"/>
                  </a:lnTo>
                  <a:lnTo>
                    <a:pt x="0" y="357"/>
                  </a:lnTo>
                  <a:lnTo>
                    <a:pt x="0" y="375"/>
                  </a:lnTo>
                  <a:lnTo>
                    <a:pt x="0" y="390"/>
                  </a:lnTo>
                  <a:lnTo>
                    <a:pt x="0" y="407"/>
                  </a:lnTo>
                  <a:lnTo>
                    <a:pt x="0" y="422"/>
                  </a:lnTo>
                  <a:lnTo>
                    <a:pt x="0" y="439"/>
                  </a:lnTo>
                  <a:lnTo>
                    <a:pt x="0" y="452"/>
                  </a:lnTo>
                  <a:lnTo>
                    <a:pt x="3" y="469"/>
                  </a:lnTo>
                  <a:lnTo>
                    <a:pt x="3" y="481"/>
                  </a:lnTo>
                  <a:lnTo>
                    <a:pt x="5" y="496"/>
                  </a:lnTo>
                  <a:lnTo>
                    <a:pt x="8" y="511"/>
                  </a:lnTo>
                  <a:lnTo>
                    <a:pt x="10" y="524"/>
                  </a:lnTo>
                  <a:lnTo>
                    <a:pt x="13" y="536"/>
                  </a:lnTo>
                  <a:lnTo>
                    <a:pt x="15" y="551"/>
                  </a:lnTo>
                  <a:lnTo>
                    <a:pt x="20" y="563"/>
                  </a:lnTo>
                  <a:lnTo>
                    <a:pt x="23" y="576"/>
                  </a:lnTo>
                  <a:lnTo>
                    <a:pt x="28" y="588"/>
                  </a:lnTo>
                  <a:lnTo>
                    <a:pt x="33" y="601"/>
                  </a:lnTo>
                  <a:lnTo>
                    <a:pt x="35" y="610"/>
                  </a:lnTo>
                  <a:lnTo>
                    <a:pt x="40" y="620"/>
                  </a:lnTo>
                  <a:lnTo>
                    <a:pt x="45" y="630"/>
                  </a:lnTo>
                  <a:lnTo>
                    <a:pt x="50" y="643"/>
                  </a:lnTo>
                  <a:lnTo>
                    <a:pt x="55" y="653"/>
                  </a:lnTo>
                  <a:lnTo>
                    <a:pt x="60" y="660"/>
                  </a:lnTo>
                  <a:lnTo>
                    <a:pt x="67" y="670"/>
                  </a:lnTo>
                  <a:lnTo>
                    <a:pt x="72" y="680"/>
                  </a:lnTo>
                  <a:lnTo>
                    <a:pt x="80" y="690"/>
                  </a:lnTo>
                  <a:lnTo>
                    <a:pt x="85" y="697"/>
                  </a:lnTo>
                  <a:lnTo>
                    <a:pt x="92" y="707"/>
                  </a:lnTo>
                  <a:lnTo>
                    <a:pt x="100" y="715"/>
                  </a:lnTo>
                  <a:lnTo>
                    <a:pt x="104" y="722"/>
                  </a:lnTo>
                  <a:lnTo>
                    <a:pt x="114" y="730"/>
                  </a:lnTo>
                  <a:lnTo>
                    <a:pt x="122" y="737"/>
                  </a:lnTo>
                  <a:lnTo>
                    <a:pt x="129" y="744"/>
                  </a:lnTo>
                  <a:lnTo>
                    <a:pt x="137" y="749"/>
                  </a:lnTo>
                  <a:lnTo>
                    <a:pt x="147" y="757"/>
                  </a:lnTo>
                  <a:lnTo>
                    <a:pt x="154" y="762"/>
                  </a:lnTo>
                  <a:lnTo>
                    <a:pt x="164" y="769"/>
                  </a:lnTo>
                  <a:lnTo>
                    <a:pt x="171" y="774"/>
                  </a:lnTo>
                  <a:lnTo>
                    <a:pt x="181" y="779"/>
                  </a:lnTo>
                  <a:lnTo>
                    <a:pt x="189" y="784"/>
                  </a:lnTo>
                  <a:lnTo>
                    <a:pt x="199" y="789"/>
                  </a:lnTo>
                  <a:lnTo>
                    <a:pt x="209" y="792"/>
                  </a:lnTo>
                  <a:lnTo>
                    <a:pt x="219" y="797"/>
                  </a:lnTo>
                  <a:lnTo>
                    <a:pt x="226" y="799"/>
                  </a:lnTo>
                  <a:lnTo>
                    <a:pt x="236" y="804"/>
                  </a:lnTo>
                  <a:lnTo>
                    <a:pt x="246" y="807"/>
                  </a:lnTo>
                  <a:lnTo>
                    <a:pt x="256" y="809"/>
                  </a:lnTo>
                  <a:lnTo>
                    <a:pt x="266" y="811"/>
                  </a:lnTo>
                  <a:lnTo>
                    <a:pt x="278" y="816"/>
                  </a:lnTo>
                  <a:lnTo>
                    <a:pt x="288" y="816"/>
                  </a:lnTo>
                  <a:lnTo>
                    <a:pt x="298" y="819"/>
                  </a:lnTo>
                  <a:lnTo>
                    <a:pt x="308" y="819"/>
                  </a:lnTo>
                  <a:lnTo>
                    <a:pt x="320" y="821"/>
                  </a:lnTo>
                  <a:lnTo>
                    <a:pt x="330" y="821"/>
                  </a:lnTo>
                  <a:lnTo>
                    <a:pt x="343" y="824"/>
                  </a:lnTo>
                  <a:lnTo>
                    <a:pt x="353" y="824"/>
                  </a:lnTo>
                  <a:lnTo>
                    <a:pt x="365" y="826"/>
                  </a:lnTo>
                  <a:lnTo>
                    <a:pt x="375" y="824"/>
                  </a:lnTo>
                  <a:lnTo>
                    <a:pt x="387" y="824"/>
                  </a:lnTo>
                  <a:lnTo>
                    <a:pt x="397" y="824"/>
                  </a:lnTo>
                  <a:lnTo>
                    <a:pt x="410" y="824"/>
                  </a:lnTo>
                  <a:lnTo>
                    <a:pt x="422" y="824"/>
                  </a:lnTo>
                  <a:lnTo>
                    <a:pt x="434" y="824"/>
                  </a:lnTo>
                  <a:lnTo>
                    <a:pt x="447" y="821"/>
                  </a:lnTo>
                  <a:lnTo>
                    <a:pt x="459" y="821"/>
                  </a:lnTo>
                  <a:lnTo>
                    <a:pt x="469" y="819"/>
                  </a:lnTo>
                  <a:lnTo>
                    <a:pt x="481" y="816"/>
                  </a:lnTo>
                  <a:lnTo>
                    <a:pt x="491" y="814"/>
                  </a:lnTo>
                  <a:lnTo>
                    <a:pt x="504" y="811"/>
                  </a:lnTo>
                  <a:lnTo>
                    <a:pt x="514" y="809"/>
                  </a:lnTo>
                  <a:lnTo>
                    <a:pt x="524" y="807"/>
                  </a:lnTo>
                  <a:lnTo>
                    <a:pt x="534" y="804"/>
                  </a:lnTo>
                  <a:lnTo>
                    <a:pt x="546" y="802"/>
                  </a:lnTo>
                  <a:lnTo>
                    <a:pt x="553" y="797"/>
                  </a:lnTo>
                  <a:lnTo>
                    <a:pt x="563" y="794"/>
                  </a:lnTo>
                  <a:lnTo>
                    <a:pt x="573" y="789"/>
                  </a:lnTo>
                  <a:lnTo>
                    <a:pt x="583" y="787"/>
                  </a:lnTo>
                  <a:lnTo>
                    <a:pt x="591" y="782"/>
                  </a:lnTo>
                  <a:lnTo>
                    <a:pt x="601" y="777"/>
                  </a:lnTo>
                  <a:lnTo>
                    <a:pt x="608" y="774"/>
                  </a:lnTo>
                  <a:lnTo>
                    <a:pt x="618" y="769"/>
                  </a:lnTo>
                  <a:lnTo>
                    <a:pt x="625" y="764"/>
                  </a:lnTo>
                  <a:lnTo>
                    <a:pt x="633" y="759"/>
                  </a:lnTo>
                  <a:lnTo>
                    <a:pt x="640" y="754"/>
                  </a:lnTo>
                  <a:lnTo>
                    <a:pt x="648" y="749"/>
                  </a:lnTo>
                  <a:lnTo>
                    <a:pt x="655" y="742"/>
                  </a:lnTo>
                  <a:lnTo>
                    <a:pt x="663" y="737"/>
                  </a:lnTo>
                  <a:lnTo>
                    <a:pt x="670" y="732"/>
                  </a:lnTo>
                  <a:lnTo>
                    <a:pt x="677" y="727"/>
                  </a:lnTo>
                  <a:lnTo>
                    <a:pt x="682" y="720"/>
                  </a:lnTo>
                  <a:lnTo>
                    <a:pt x="690" y="715"/>
                  </a:lnTo>
                  <a:lnTo>
                    <a:pt x="695" y="707"/>
                  </a:lnTo>
                  <a:lnTo>
                    <a:pt x="702" y="702"/>
                  </a:lnTo>
                  <a:lnTo>
                    <a:pt x="707" y="695"/>
                  </a:lnTo>
                  <a:lnTo>
                    <a:pt x="715" y="687"/>
                  </a:lnTo>
                  <a:lnTo>
                    <a:pt x="720" y="682"/>
                  </a:lnTo>
                  <a:lnTo>
                    <a:pt x="725" y="675"/>
                  </a:lnTo>
                  <a:lnTo>
                    <a:pt x="730" y="668"/>
                  </a:lnTo>
                  <a:lnTo>
                    <a:pt x="734" y="660"/>
                  </a:lnTo>
                  <a:lnTo>
                    <a:pt x="739" y="653"/>
                  </a:lnTo>
                  <a:lnTo>
                    <a:pt x="744" y="645"/>
                  </a:lnTo>
                  <a:lnTo>
                    <a:pt x="749" y="638"/>
                  </a:lnTo>
                  <a:lnTo>
                    <a:pt x="752" y="630"/>
                  </a:lnTo>
                  <a:lnTo>
                    <a:pt x="757" y="623"/>
                  </a:lnTo>
                  <a:lnTo>
                    <a:pt x="762" y="615"/>
                  </a:lnTo>
                  <a:lnTo>
                    <a:pt x="764" y="606"/>
                  </a:lnTo>
                  <a:lnTo>
                    <a:pt x="767" y="598"/>
                  </a:lnTo>
                  <a:lnTo>
                    <a:pt x="769" y="588"/>
                  </a:lnTo>
                  <a:lnTo>
                    <a:pt x="774" y="581"/>
                  </a:lnTo>
                  <a:lnTo>
                    <a:pt x="777" y="573"/>
                  </a:lnTo>
                  <a:lnTo>
                    <a:pt x="779" y="566"/>
                  </a:lnTo>
                  <a:lnTo>
                    <a:pt x="784" y="556"/>
                  </a:lnTo>
                  <a:lnTo>
                    <a:pt x="787" y="548"/>
                  </a:lnTo>
                  <a:lnTo>
                    <a:pt x="789" y="539"/>
                  </a:lnTo>
                  <a:lnTo>
                    <a:pt x="792" y="529"/>
                  </a:lnTo>
                  <a:lnTo>
                    <a:pt x="792" y="521"/>
                  </a:lnTo>
                  <a:lnTo>
                    <a:pt x="797" y="511"/>
                  </a:lnTo>
                  <a:lnTo>
                    <a:pt x="797" y="501"/>
                  </a:lnTo>
                  <a:lnTo>
                    <a:pt x="799" y="494"/>
                  </a:lnTo>
                  <a:lnTo>
                    <a:pt x="801" y="484"/>
                  </a:lnTo>
                  <a:lnTo>
                    <a:pt x="801" y="474"/>
                  </a:lnTo>
                  <a:lnTo>
                    <a:pt x="801" y="464"/>
                  </a:lnTo>
                  <a:lnTo>
                    <a:pt x="804" y="454"/>
                  </a:lnTo>
                  <a:lnTo>
                    <a:pt x="804" y="444"/>
                  </a:lnTo>
                  <a:lnTo>
                    <a:pt x="806" y="437"/>
                  </a:lnTo>
                  <a:lnTo>
                    <a:pt x="806" y="427"/>
                  </a:lnTo>
                  <a:lnTo>
                    <a:pt x="809" y="417"/>
                  </a:lnTo>
                  <a:lnTo>
                    <a:pt x="809" y="407"/>
                  </a:lnTo>
                  <a:lnTo>
                    <a:pt x="809" y="397"/>
                  </a:lnTo>
                  <a:lnTo>
                    <a:pt x="809" y="387"/>
                  </a:lnTo>
                  <a:lnTo>
                    <a:pt x="809" y="377"/>
                  </a:lnTo>
                  <a:lnTo>
                    <a:pt x="809" y="367"/>
                  </a:lnTo>
                  <a:lnTo>
                    <a:pt x="809" y="357"/>
                  </a:lnTo>
                  <a:lnTo>
                    <a:pt x="809" y="347"/>
                  </a:lnTo>
                  <a:lnTo>
                    <a:pt x="806" y="338"/>
                  </a:lnTo>
                  <a:lnTo>
                    <a:pt x="806" y="330"/>
                  </a:lnTo>
                  <a:lnTo>
                    <a:pt x="804" y="320"/>
                  </a:lnTo>
                  <a:lnTo>
                    <a:pt x="801" y="313"/>
                  </a:lnTo>
                  <a:lnTo>
                    <a:pt x="801" y="303"/>
                  </a:lnTo>
                  <a:lnTo>
                    <a:pt x="799" y="293"/>
                  </a:lnTo>
                  <a:lnTo>
                    <a:pt x="799" y="285"/>
                  </a:lnTo>
                  <a:lnTo>
                    <a:pt x="797" y="275"/>
                  </a:lnTo>
                  <a:lnTo>
                    <a:pt x="794" y="268"/>
                  </a:lnTo>
                  <a:lnTo>
                    <a:pt x="792" y="261"/>
                  </a:lnTo>
                  <a:lnTo>
                    <a:pt x="792" y="253"/>
                  </a:lnTo>
                  <a:lnTo>
                    <a:pt x="787" y="243"/>
                  </a:lnTo>
                  <a:lnTo>
                    <a:pt x="784" y="236"/>
                  </a:lnTo>
                  <a:lnTo>
                    <a:pt x="782" y="228"/>
                  </a:lnTo>
                  <a:lnTo>
                    <a:pt x="779" y="221"/>
                  </a:lnTo>
                  <a:lnTo>
                    <a:pt x="774" y="213"/>
                  </a:lnTo>
                  <a:lnTo>
                    <a:pt x="772" y="206"/>
                  </a:lnTo>
                  <a:lnTo>
                    <a:pt x="769" y="199"/>
                  </a:lnTo>
                  <a:lnTo>
                    <a:pt x="767" y="194"/>
                  </a:lnTo>
                  <a:lnTo>
                    <a:pt x="762" y="186"/>
                  </a:lnTo>
                  <a:lnTo>
                    <a:pt x="757" y="179"/>
                  </a:lnTo>
                  <a:lnTo>
                    <a:pt x="754" y="171"/>
                  </a:lnTo>
                  <a:lnTo>
                    <a:pt x="749" y="166"/>
                  </a:lnTo>
                  <a:lnTo>
                    <a:pt x="747" y="159"/>
                  </a:lnTo>
                  <a:lnTo>
                    <a:pt x="742" y="154"/>
                  </a:lnTo>
                  <a:lnTo>
                    <a:pt x="737" y="146"/>
                  </a:lnTo>
                  <a:lnTo>
                    <a:pt x="734" y="141"/>
                  </a:lnTo>
                  <a:lnTo>
                    <a:pt x="730" y="136"/>
                  </a:lnTo>
                  <a:lnTo>
                    <a:pt x="725" y="129"/>
                  </a:lnTo>
                  <a:lnTo>
                    <a:pt x="720" y="124"/>
                  </a:lnTo>
                  <a:lnTo>
                    <a:pt x="715" y="119"/>
                  </a:lnTo>
                  <a:lnTo>
                    <a:pt x="707" y="107"/>
                  </a:lnTo>
                  <a:lnTo>
                    <a:pt x="697" y="97"/>
                  </a:lnTo>
                  <a:lnTo>
                    <a:pt x="687" y="87"/>
                  </a:lnTo>
                  <a:lnTo>
                    <a:pt x="677" y="77"/>
                  </a:lnTo>
                  <a:lnTo>
                    <a:pt x="665" y="69"/>
                  </a:lnTo>
                  <a:lnTo>
                    <a:pt x="658" y="62"/>
                  </a:lnTo>
                  <a:lnTo>
                    <a:pt x="645" y="55"/>
                  </a:lnTo>
                  <a:lnTo>
                    <a:pt x="635" y="47"/>
                  </a:lnTo>
                  <a:lnTo>
                    <a:pt x="623" y="42"/>
                  </a:lnTo>
                  <a:lnTo>
                    <a:pt x="613" y="37"/>
                  </a:lnTo>
                  <a:lnTo>
                    <a:pt x="603" y="30"/>
                  </a:lnTo>
                  <a:lnTo>
                    <a:pt x="593" y="25"/>
                  </a:lnTo>
                  <a:lnTo>
                    <a:pt x="581" y="22"/>
                  </a:lnTo>
                  <a:lnTo>
                    <a:pt x="571" y="17"/>
                  </a:lnTo>
                  <a:lnTo>
                    <a:pt x="566" y="15"/>
                  </a:lnTo>
                  <a:lnTo>
                    <a:pt x="561" y="15"/>
                  </a:lnTo>
                  <a:lnTo>
                    <a:pt x="553" y="12"/>
                  </a:lnTo>
                  <a:lnTo>
                    <a:pt x="548" y="12"/>
                  </a:lnTo>
                  <a:lnTo>
                    <a:pt x="544" y="10"/>
                  </a:lnTo>
                  <a:lnTo>
                    <a:pt x="539" y="7"/>
                  </a:lnTo>
                  <a:lnTo>
                    <a:pt x="531" y="5"/>
                  </a:lnTo>
                  <a:lnTo>
                    <a:pt x="526" y="5"/>
                  </a:lnTo>
                  <a:lnTo>
                    <a:pt x="521" y="5"/>
                  </a:lnTo>
                  <a:lnTo>
                    <a:pt x="514" y="5"/>
                  </a:lnTo>
                  <a:lnTo>
                    <a:pt x="509" y="2"/>
                  </a:lnTo>
                  <a:lnTo>
                    <a:pt x="504" y="2"/>
                  </a:lnTo>
                  <a:lnTo>
                    <a:pt x="496" y="2"/>
                  </a:lnTo>
                  <a:lnTo>
                    <a:pt x="491" y="2"/>
                  </a:lnTo>
                  <a:lnTo>
                    <a:pt x="486" y="2"/>
                  </a:lnTo>
                  <a:lnTo>
                    <a:pt x="481" y="2"/>
                  </a:lnTo>
                  <a:lnTo>
                    <a:pt x="474" y="0"/>
                  </a:lnTo>
                  <a:lnTo>
                    <a:pt x="469" y="0"/>
                  </a:lnTo>
                  <a:lnTo>
                    <a:pt x="462" y="0"/>
                  </a:lnTo>
                  <a:lnTo>
                    <a:pt x="457" y="0"/>
                  </a:lnTo>
                  <a:lnTo>
                    <a:pt x="449" y="0"/>
                  </a:lnTo>
                  <a:lnTo>
                    <a:pt x="444" y="0"/>
                  </a:lnTo>
                  <a:lnTo>
                    <a:pt x="439" y="0"/>
                  </a:lnTo>
                  <a:lnTo>
                    <a:pt x="434" y="0"/>
                  </a:lnTo>
                  <a:lnTo>
                    <a:pt x="422" y="0"/>
                  </a:lnTo>
                  <a:lnTo>
                    <a:pt x="412" y="0"/>
                  </a:lnTo>
                  <a:lnTo>
                    <a:pt x="400" y="2"/>
                  </a:lnTo>
                  <a:lnTo>
                    <a:pt x="390" y="5"/>
                  </a:lnTo>
                  <a:lnTo>
                    <a:pt x="380" y="5"/>
                  </a:lnTo>
                  <a:lnTo>
                    <a:pt x="370" y="5"/>
                  </a:lnTo>
                  <a:lnTo>
                    <a:pt x="360" y="7"/>
                  </a:lnTo>
                  <a:lnTo>
                    <a:pt x="353" y="10"/>
                  </a:lnTo>
                  <a:lnTo>
                    <a:pt x="343" y="10"/>
                  </a:lnTo>
                  <a:lnTo>
                    <a:pt x="335" y="12"/>
                  </a:lnTo>
                  <a:lnTo>
                    <a:pt x="328" y="12"/>
                  </a:lnTo>
                  <a:lnTo>
                    <a:pt x="323" y="15"/>
                  </a:lnTo>
                  <a:lnTo>
                    <a:pt x="315" y="15"/>
                  </a:lnTo>
                  <a:lnTo>
                    <a:pt x="310" y="17"/>
                  </a:lnTo>
                  <a:lnTo>
                    <a:pt x="305" y="17"/>
                  </a:lnTo>
                  <a:lnTo>
                    <a:pt x="303" y="17"/>
                  </a:lnTo>
                  <a:lnTo>
                    <a:pt x="295" y="20"/>
                  </a:lnTo>
                  <a:lnTo>
                    <a:pt x="295" y="20"/>
                  </a:lnTo>
                  <a:lnTo>
                    <a:pt x="295"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4695840" y="3859200"/>
              <a:ext cx="1287720" cy="1287360"/>
            </a:xfrm>
            <a:custGeom>
              <a:avLst/>
              <a:gdLst/>
              <a:ahLst/>
              <a:rect l="l" t="t" r="r" b="b"/>
              <a:pathLst>
                <a:path w="811" h="811">
                  <a:moveTo>
                    <a:pt x="176" y="50"/>
                  </a:moveTo>
                  <a:lnTo>
                    <a:pt x="181" y="47"/>
                  </a:lnTo>
                  <a:lnTo>
                    <a:pt x="189" y="42"/>
                  </a:lnTo>
                  <a:lnTo>
                    <a:pt x="196" y="40"/>
                  </a:lnTo>
                  <a:lnTo>
                    <a:pt x="206" y="37"/>
                  </a:lnTo>
                  <a:lnTo>
                    <a:pt x="211" y="32"/>
                  </a:lnTo>
                  <a:lnTo>
                    <a:pt x="218" y="32"/>
                  </a:lnTo>
                  <a:lnTo>
                    <a:pt x="223" y="30"/>
                  </a:lnTo>
                  <a:lnTo>
                    <a:pt x="231" y="27"/>
                  </a:lnTo>
                  <a:lnTo>
                    <a:pt x="236" y="25"/>
                  </a:lnTo>
                  <a:lnTo>
                    <a:pt x="246" y="25"/>
                  </a:lnTo>
                  <a:lnTo>
                    <a:pt x="251" y="22"/>
                  </a:lnTo>
                  <a:lnTo>
                    <a:pt x="260" y="20"/>
                  </a:lnTo>
                  <a:lnTo>
                    <a:pt x="268" y="17"/>
                  </a:lnTo>
                  <a:lnTo>
                    <a:pt x="275" y="15"/>
                  </a:lnTo>
                  <a:lnTo>
                    <a:pt x="285" y="12"/>
                  </a:lnTo>
                  <a:lnTo>
                    <a:pt x="293" y="12"/>
                  </a:lnTo>
                  <a:lnTo>
                    <a:pt x="303" y="10"/>
                  </a:lnTo>
                  <a:lnTo>
                    <a:pt x="313" y="7"/>
                  </a:lnTo>
                  <a:lnTo>
                    <a:pt x="322" y="7"/>
                  </a:lnTo>
                  <a:lnTo>
                    <a:pt x="332" y="5"/>
                  </a:lnTo>
                  <a:lnTo>
                    <a:pt x="340" y="2"/>
                  </a:lnTo>
                  <a:lnTo>
                    <a:pt x="352" y="2"/>
                  </a:lnTo>
                  <a:lnTo>
                    <a:pt x="362" y="0"/>
                  </a:lnTo>
                  <a:lnTo>
                    <a:pt x="372" y="0"/>
                  </a:lnTo>
                  <a:lnTo>
                    <a:pt x="382" y="0"/>
                  </a:lnTo>
                  <a:lnTo>
                    <a:pt x="394" y="0"/>
                  </a:lnTo>
                  <a:lnTo>
                    <a:pt x="404" y="0"/>
                  </a:lnTo>
                  <a:lnTo>
                    <a:pt x="417" y="0"/>
                  </a:lnTo>
                  <a:lnTo>
                    <a:pt x="427" y="0"/>
                  </a:lnTo>
                  <a:lnTo>
                    <a:pt x="437" y="0"/>
                  </a:lnTo>
                  <a:lnTo>
                    <a:pt x="449" y="0"/>
                  </a:lnTo>
                  <a:lnTo>
                    <a:pt x="459" y="0"/>
                  </a:lnTo>
                  <a:lnTo>
                    <a:pt x="471" y="0"/>
                  </a:lnTo>
                  <a:lnTo>
                    <a:pt x="481" y="2"/>
                  </a:lnTo>
                  <a:lnTo>
                    <a:pt x="494" y="5"/>
                  </a:lnTo>
                  <a:lnTo>
                    <a:pt x="506" y="7"/>
                  </a:lnTo>
                  <a:lnTo>
                    <a:pt x="516" y="7"/>
                  </a:lnTo>
                  <a:lnTo>
                    <a:pt x="526" y="12"/>
                  </a:lnTo>
                  <a:lnTo>
                    <a:pt x="538" y="15"/>
                  </a:lnTo>
                  <a:lnTo>
                    <a:pt x="548" y="17"/>
                  </a:lnTo>
                  <a:lnTo>
                    <a:pt x="561" y="20"/>
                  </a:lnTo>
                  <a:lnTo>
                    <a:pt x="573" y="25"/>
                  </a:lnTo>
                  <a:lnTo>
                    <a:pt x="583" y="30"/>
                  </a:lnTo>
                  <a:lnTo>
                    <a:pt x="595" y="35"/>
                  </a:lnTo>
                  <a:lnTo>
                    <a:pt x="605" y="40"/>
                  </a:lnTo>
                  <a:lnTo>
                    <a:pt x="615" y="45"/>
                  </a:lnTo>
                  <a:lnTo>
                    <a:pt x="625" y="50"/>
                  </a:lnTo>
                  <a:lnTo>
                    <a:pt x="637" y="57"/>
                  </a:lnTo>
                  <a:lnTo>
                    <a:pt x="645" y="62"/>
                  </a:lnTo>
                  <a:lnTo>
                    <a:pt x="657" y="72"/>
                  </a:lnTo>
                  <a:lnTo>
                    <a:pt x="667" y="79"/>
                  </a:lnTo>
                  <a:lnTo>
                    <a:pt x="677" y="87"/>
                  </a:lnTo>
                  <a:lnTo>
                    <a:pt x="687" y="97"/>
                  </a:lnTo>
                  <a:lnTo>
                    <a:pt x="695" y="104"/>
                  </a:lnTo>
                  <a:lnTo>
                    <a:pt x="704" y="114"/>
                  </a:lnTo>
                  <a:lnTo>
                    <a:pt x="714" y="124"/>
                  </a:lnTo>
                  <a:lnTo>
                    <a:pt x="722" y="134"/>
                  </a:lnTo>
                  <a:lnTo>
                    <a:pt x="732" y="146"/>
                  </a:lnTo>
                  <a:lnTo>
                    <a:pt x="739" y="159"/>
                  </a:lnTo>
                  <a:lnTo>
                    <a:pt x="749" y="171"/>
                  </a:lnTo>
                  <a:lnTo>
                    <a:pt x="754" y="184"/>
                  </a:lnTo>
                  <a:lnTo>
                    <a:pt x="761" y="196"/>
                  </a:lnTo>
                  <a:lnTo>
                    <a:pt x="769" y="208"/>
                  </a:lnTo>
                  <a:lnTo>
                    <a:pt x="774" y="223"/>
                  </a:lnTo>
                  <a:lnTo>
                    <a:pt x="779" y="236"/>
                  </a:lnTo>
                  <a:lnTo>
                    <a:pt x="784" y="248"/>
                  </a:lnTo>
                  <a:lnTo>
                    <a:pt x="789" y="261"/>
                  </a:lnTo>
                  <a:lnTo>
                    <a:pt x="794" y="275"/>
                  </a:lnTo>
                  <a:lnTo>
                    <a:pt x="796" y="288"/>
                  </a:lnTo>
                  <a:lnTo>
                    <a:pt x="801" y="300"/>
                  </a:lnTo>
                  <a:lnTo>
                    <a:pt x="801" y="313"/>
                  </a:lnTo>
                  <a:lnTo>
                    <a:pt x="806" y="328"/>
                  </a:lnTo>
                  <a:lnTo>
                    <a:pt x="806" y="340"/>
                  </a:lnTo>
                  <a:lnTo>
                    <a:pt x="809" y="355"/>
                  </a:lnTo>
                  <a:lnTo>
                    <a:pt x="809" y="367"/>
                  </a:lnTo>
                  <a:lnTo>
                    <a:pt x="811" y="382"/>
                  </a:lnTo>
                  <a:lnTo>
                    <a:pt x="809" y="395"/>
                  </a:lnTo>
                  <a:lnTo>
                    <a:pt x="809" y="407"/>
                  </a:lnTo>
                  <a:lnTo>
                    <a:pt x="809" y="419"/>
                  </a:lnTo>
                  <a:lnTo>
                    <a:pt x="809" y="434"/>
                  </a:lnTo>
                  <a:lnTo>
                    <a:pt x="806" y="447"/>
                  </a:lnTo>
                  <a:lnTo>
                    <a:pt x="804" y="459"/>
                  </a:lnTo>
                  <a:lnTo>
                    <a:pt x="801" y="471"/>
                  </a:lnTo>
                  <a:lnTo>
                    <a:pt x="801" y="484"/>
                  </a:lnTo>
                  <a:lnTo>
                    <a:pt x="796" y="496"/>
                  </a:lnTo>
                  <a:lnTo>
                    <a:pt x="794" y="509"/>
                  </a:lnTo>
                  <a:lnTo>
                    <a:pt x="789" y="521"/>
                  </a:lnTo>
                  <a:lnTo>
                    <a:pt x="784" y="534"/>
                  </a:lnTo>
                  <a:lnTo>
                    <a:pt x="779" y="546"/>
                  </a:lnTo>
                  <a:lnTo>
                    <a:pt x="776" y="558"/>
                  </a:lnTo>
                  <a:lnTo>
                    <a:pt x="769" y="571"/>
                  </a:lnTo>
                  <a:lnTo>
                    <a:pt x="766" y="583"/>
                  </a:lnTo>
                  <a:lnTo>
                    <a:pt x="759" y="593"/>
                  </a:lnTo>
                  <a:lnTo>
                    <a:pt x="752" y="603"/>
                  </a:lnTo>
                  <a:lnTo>
                    <a:pt x="747" y="615"/>
                  </a:lnTo>
                  <a:lnTo>
                    <a:pt x="739" y="625"/>
                  </a:lnTo>
                  <a:lnTo>
                    <a:pt x="732" y="638"/>
                  </a:lnTo>
                  <a:lnTo>
                    <a:pt x="724" y="648"/>
                  </a:lnTo>
                  <a:lnTo>
                    <a:pt x="717" y="658"/>
                  </a:lnTo>
                  <a:lnTo>
                    <a:pt x="709" y="668"/>
                  </a:lnTo>
                  <a:lnTo>
                    <a:pt x="702" y="675"/>
                  </a:lnTo>
                  <a:lnTo>
                    <a:pt x="692" y="685"/>
                  </a:lnTo>
                  <a:lnTo>
                    <a:pt x="685" y="695"/>
                  </a:lnTo>
                  <a:lnTo>
                    <a:pt x="675" y="702"/>
                  </a:lnTo>
                  <a:lnTo>
                    <a:pt x="667" y="712"/>
                  </a:lnTo>
                  <a:lnTo>
                    <a:pt x="657" y="722"/>
                  </a:lnTo>
                  <a:lnTo>
                    <a:pt x="647" y="730"/>
                  </a:lnTo>
                  <a:lnTo>
                    <a:pt x="637" y="737"/>
                  </a:lnTo>
                  <a:lnTo>
                    <a:pt x="628" y="744"/>
                  </a:lnTo>
                  <a:lnTo>
                    <a:pt x="618" y="752"/>
                  </a:lnTo>
                  <a:lnTo>
                    <a:pt x="608" y="757"/>
                  </a:lnTo>
                  <a:lnTo>
                    <a:pt x="598" y="764"/>
                  </a:lnTo>
                  <a:lnTo>
                    <a:pt x="585" y="769"/>
                  </a:lnTo>
                  <a:lnTo>
                    <a:pt x="573" y="777"/>
                  </a:lnTo>
                  <a:lnTo>
                    <a:pt x="561" y="782"/>
                  </a:lnTo>
                  <a:lnTo>
                    <a:pt x="551" y="787"/>
                  </a:lnTo>
                  <a:lnTo>
                    <a:pt x="538" y="792"/>
                  </a:lnTo>
                  <a:lnTo>
                    <a:pt x="526" y="794"/>
                  </a:lnTo>
                  <a:lnTo>
                    <a:pt x="513" y="799"/>
                  </a:lnTo>
                  <a:lnTo>
                    <a:pt x="504" y="802"/>
                  </a:lnTo>
                  <a:lnTo>
                    <a:pt x="491" y="804"/>
                  </a:lnTo>
                  <a:lnTo>
                    <a:pt x="479" y="806"/>
                  </a:lnTo>
                  <a:lnTo>
                    <a:pt x="466" y="809"/>
                  </a:lnTo>
                  <a:lnTo>
                    <a:pt x="454" y="811"/>
                  </a:lnTo>
                  <a:lnTo>
                    <a:pt x="442" y="811"/>
                  </a:lnTo>
                  <a:lnTo>
                    <a:pt x="427" y="811"/>
                  </a:lnTo>
                  <a:lnTo>
                    <a:pt x="414" y="811"/>
                  </a:lnTo>
                  <a:lnTo>
                    <a:pt x="402" y="811"/>
                  </a:lnTo>
                  <a:lnTo>
                    <a:pt x="389" y="811"/>
                  </a:lnTo>
                  <a:lnTo>
                    <a:pt x="377" y="811"/>
                  </a:lnTo>
                  <a:lnTo>
                    <a:pt x="365" y="811"/>
                  </a:lnTo>
                  <a:lnTo>
                    <a:pt x="355" y="811"/>
                  </a:lnTo>
                  <a:lnTo>
                    <a:pt x="342" y="809"/>
                  </a:lnTo>
                  <a:lnTo>
                    <a:pt x="330" y="806"/>
                  </a:lnTo>
                  <a:lnTo>
                    <a:pt x="318" y="804"/>
                  </a:lnTo>
                  <a:lnTo>
                    <a:pt x="308" y="802"/>
                  </a:lnTo>
                  <a:lnTo>
                    <a:pt x="295" y="799"/>
                  </a:lnTo>
                  <a:lnTo>
                    <a:pt x="285" y="797"/>
                  </a:lnTo>
                  <a:lnTo>
                    <a:pt x="275" y="794"/>
                  </a:lnTo>
                  <a:lnTo>
                    <a:pt x="265" y="792"/>
                  </a:lnTo>
                  <a:lnTo>
                    <a:pt x="253" y="787"/>
                  </a:lnTo>
                  <a:lnTo>
                    <a:pt x="243" y="782"/>
                  </a:lnTo>
                  <a:lnTo>
                    <a:pt x="233" y="777"/>
                  </a:lnTo>
                  <a:lnTo>
                    <a:pt x="223" y="774"/>
                  </a:lnTo>
                  <a:lnTo>
                    <a:pt x="213" y="769"/>
                  </a:lnTo>
                  <a:lnTo>
                    <a:pt x="203" y="764"/>
                  </a:lnTo>
                  <a:lnTo>
                    <a:pt x="196" y="757"/>
                  </a:lnTo>
                  <a:lnTo>
                    <a:pt x="186" y="754"/>
                  </a:lnTo>
                  <a:lnTo>
                    <a:pt x="179" y="747"/>
                  </a:lnTo>
                  <a:lnTo>
                    <a:pt x="169" y="742"/>
                  </a:lnTo>
                  <a:lnTo>
                    <a:pt x="161" y="735"/>
                  </a:lnTo>
                  <a:lnTo>
                    <a:pt x="154" y="730"/>
                  </a:lnTo>
                  <a:lnTo>
                    <a:pt x="144" y="725"/>
                  </a:lnTo>
                  <a:lnTo>
                    <a:pt x="136" y="717"/>
                  </a:lnTo>
                  <a:lnTo>
                    <a:pt x="129" y="712"/>
                  </a:lnTo>
                  <a:lnTo>
                    <a:pt x="122" y="705"/>
                  </a:lnTo>
                  <a:lnTo>
                    <a:pt x="114" y="697"/>
                  </a:lnTo>
                  <a:lnTo>
                    <a:pt x="107" y="690"/>
                  </a:lnTo>
                  <a:lnTo>
                    <a:pt x="99" y="682"/>
                  </a:lnTo>
                  <a:lnTo>
                    <a:pt x="94" y="675"/>
                  </a:lnTo>
                  <a:lnTo>
                    <a:pt x="87" y="668"/>
                  </a:lnTo>
                  <a:lnTo>
                    <a:pt x="79" y="660"/>
                  </a:lnTo>
                  <a:lnTo>
                    <a:pt x="74" y="653"/>
                  </a:lnTo>
                  <a:lnTo>
                    <a:pt x="69" y="645"/>
                  </a:lnTo>
                  <a:lnTo>
                    <a:pt x="62" y="638"/>
                  </a:lnTo>
                  <a:lnTo>
                    <a:pt x="57" y="630"/>
                  </a:lnTo>
                  <a:lnTo>
                    <a:pt x="52" y="620"/>
                  </a:lnTo>
                  <a:lnTo>
                    <a:pt x="47" y="613"/>
                  </a:lnTo>
                  <a:lnTo>
                    <a:pt x="42" y="603"/>
                  </a:lnTo>
                  <a:lnTo>
                    <a:pt x="37" y="596"/>
                  </a:lnTo>
                  <a:lnTo>
                    <a:pt x="35" y="588"/>
                  </a:lnTo>
                  <a:lnTo>
                    <a:pt x="30" y="581"/>
                  </a:lnTo>
                  <a:lnTo>
                    <a:pt x="27" y="571"/>
                  </a:lnTo>
                  <a:lnTo>
                    <a:pt x="22" y="563"/>
                  </a:lnTo>
                  <a:lnTo>
                    <a:pt x="20" y="553"/>
                  </a:lnTo>
                  <a:lnTo>
                    <a:pt x="17" y="546"/>
                  </a:lnTo>
                  <a:lnTo>
                    <a:pt x="12" y="536"/>
                  </a:lnTo>
                  <a:lnTo>
                    <a:pt x="10" y="529"/>
                  </a:lnTo>
                  <a:lnTo>
                    <a:pt x="7" y="519"/>
                  </a:lnTo>
                  <a:lnTo>
                    <a:pt x="7" y="511"/>
                  </a:lnTo>
                  <a:lnTo>
                    <a:pt x="5" y="501"/>
                  </a:lnTo>
                  <a:lnTo>
                    <a:pt x="2" y="494"/>
                  </a:lnTo>
                  <a:lnTo>
                    <a:pt x="0" y="484"/>
                  </a:lnTo>
                  <a:lnTo>
                    <a:pt x="0" y="476"/>
                  </a:lnTo>
                  <a:lnTo>
                    <a:pt x="0" y="467"/>
                  </a:lnTo>
                  <a:lnTo>
                    <a:pt x="0" y="459"/>
                  </a:lnTo>
                  <a:lnTo>
                    <a:pt x="0" y="452"/>
                  </a:lnTo>
                  <a:lnTo>
                    <a:pt x="0" y="442"/>
                  </a:lnTo>
                  <a:lnTo>
                    <a:pt x="0" y="434"/>
                  </a:lnTo>
                  <a:lnTo>
                    <a:pt x="0" y="424"/>
                  </a:lnTo>
                  <a:lnTo>
                    <a:pt x="0" y="414"/>
                  </a:lnTo>
                  <a:lnTo>
                    <a:pt x="0" y="407"/>
                  </a:lnTo>
                  <a:lnTo>
                    <a:pt x="0" y="400"/>
                  </a:lnTo>
                  <a:lnTo>
                    <a:pt x="0" y="392"/>
                  </a:lnTo>
                  <a:lnTo>
                    <a:pt x="2" y="385"/>
                  </a:lnTo>
                  <a:lnTo>
                    <a:pt x="2" y="377"/>
                  </a:lnTo>
                  <a:lnTo>
                    <a:pt x="2" y="367"/>
                  </a:lnTo>
                  <a:lnTo>
                    <a:pt x="2" y="362"/>
                  </a:lnTo>
                  <a:lnTo>
                    <a:pt x="5" y="352"/>
                  </a:lnTo>
                  <a:lnTo>
                    <a:pt x="5" y="347"/>
                  </a:lnTo>
                  <a:lnTo>
                    <a:pt x="5" y="340"/>
                  </a:lnTo>
                  <a:lnTo>
                    <a:pt x="5" y="333"/>
                  </a:lnTo>
                  <a:lnTo>
                    <a:pt x="7" y="328"/>
                  </a:lnTo>
                  <a:lnTo>
                    <a:pt x="10" y="320"/>
                  </a:lnTo>
                  <a:lnTo>
                    <a:pt x="10" y="313"/>
                  </a:lnTo>
                  <a:lnTo>
                    <a:pt x="10" y="308"/>
                  </a:lnTo>
                  <a:lnTo>
                    <a:pt x="12" y="300"/>
                  </a:lnTo>
                  <a:lnTo>
                    <a:pt x="12" y="295"/>
                  </a:lnTo>
                  <a:lnTo>
                    <a:pt x="12" y="288"/>
                  </a:lnTo>
                  <a:lnTo>
                    <a:pt x="12" y="283"/>
                  </a:lnTo>
                  <a:lnTo>
                    <a:pt x="15" y="278"/>
                  </a:lnTo>
                  <a:lnTo>
                    <a:pt x="17" y="273"/>
                  </a:lnTo>
                  <a:lnTo>
                    <a:pt x="17" y="261"/>
                  </a:lnTo>
                  <a:lnTo>
                    <a:pt x="22" y="253"/>
                  </a:lnTo>
                  <a:lnTo>
                    <a:pt x="25" y="243"/>
                  </a:lnTo>
                  <a:lnTo>
                    <a:pt x="27" y="236"/>
                  </a:lnTo>
                  <a:lnTo>
                    <a:pt x="30" y="226"/>
                  </a:lnTo>
                  <a:lnTo>
                    <a:pt x="32" y="218"/>
                  </a:lnTo>
                  <a:lnTo>
                    <a:pt x="35" y="211"/>
                  </a:lnTo>
                  <a:lnTo>
                    <a:pt x="37" y="203"/>
                  </a:lnTo>
                  <a:lnTo>
                    <a:pt x="40" y="196"/>
                  </a:lnTo>
                  <a:lnTo>
                    <a:pt x="42" y="191"/>
                  </a:lnTo>
                  <a:lnTo>
                    <a:pt x="47" y="186"/>
                  </a:lnTo>
                  <a:lnTo>
                    <a:pt x="50" y="181"/>
                  </a:lnTo>
                  <a:lnTo>
                    <a:pt x="55" y="174"/>
                  </a:lnTo>
                  <a:lnTo>
                    <a:pt x="60" y="169"/>
                  </a:lnTo>
                  <a:lnTo>
                    <a:pt x="65" y="166"/>
                  </a:lnTo>
                  <a:lnTo>
                    <a:pt x="72" y="169"/>
                  </a:lnTo>
                  <a:lnTo>
                    <a:pt x="72" y="169"/>
                  </a:lnTo>
                  <a:lnTo>
                    <a:pt x="74" y="174"/>
                  </a:lnTo>
                  <a:lnTo>
                    <a:pt x="74" y="179"/>
                  </a:lnTo>
                  <a:lnTo>
                    <a:pt x="77" y="186"/>
                  </a:lnTo>
                  <a:lnTo>
                    <a:pt x="72" y="194"/>
                  </a:lnTo>
                  <a:lnTo>
                    <a:pt x="72" y="206"/>
                  </a:lnTo>
                  <a:lnTo>
                    <a:pt x="69" y="211"/>
                  </a:lnTo>
                  <a:lnTo>
                    <a:pt x="67" y="218"/>
                  </a:lnTo>
                  <a:lnTo>
                    <a:pt x="67" y="226"/>
                  </a:lnTo>
                  <a:lnTo>
                    <a:pt x="67" y="233"/>
                  </a:lnTo>
                  <a:lnTo>
                    <a:pt x="62" y="241"/>
                  </a:lnTo>
                  <a:lnTo>
                    <a:pt x="60" y="248"/>
                  </a:lnTo>
                  <a:lnTo>
                    <a:pt x="60" y="256"/>
                  </a:lnTo>
                  <a:lnTo>
                    <a:pt x="57" y="265"/>
                  </a:lnTo>
                  <a:lnTo>
                    <a:pt x="55" y="275"/>
                  </a:lnTo>
                  <a:lnTo>
                    <a:pt x="55" y="283"/>
                  </a:lnTo>
                  <a:lnTo>
                    <a:pt x="52" y="295"/>
                  </a:lnTo>
                  <a:lnTo>
                    <a:pt x="50" y="305"/>
                  </a:lnTo>
                  <a:lnTo>
                    <a:pt x="47" y="313"/>
                  </a:lnTo>
                  <a:lnTo>
                    <a:pt x="47" y="325"/>
                  </a:lnTo>
                  <a:lnTo>
                    <a:pt x="45" y="330"/>
                  </a:lnTo>
                  <a:lnTo>
                    <a:pt x="45" y="335"/>
                  </a:lnTo>
                  <a:lnTo>
                    <a:pt x="45" y="342"/>
                  </a:lnTo>
                  <a:lnTo>
                    <a:pt x="45" y="347"/>
                  </a:lnTo>
                  <a:lnTo>
                    <a:pt x="42" y="352"/>
                  </a:lnTo>
                  <a:lnTo>
                    <a:pt x="42" y="360"/>
                  </a:lnTo>
                  <a:lnTo>
                    <a:pt x="42" y="365"/>
                  </a:lnTo>
                  <a:lnTo>
                    <a:pt x="42" y="372"/>
                  </a:lnTo>
                  <a:lnTo>
                    <a:pt x="42" y="377"/>
                  </a:lnTo>
                  <a:lnTo>
                    <a:pt x="42" y="385"/>
                  </a:lnTo>
                  <a:lnTo>
                    <a:pt x="42" y="390"/>
                  </a:lnTo>
                  <a:lnTo>
                    <a:pt x="42" y="397"/>
                  </a:lnTo>
                  <a:lnTo>
                    <a:pt x="40" y="402"/>
                  </a:lnTo>
                  <a:lnTo>
                    <a:pt x="40" y="409"/>
                  </a:lnTo>
                  <a:lnTo>
                    <a:pt x="40" y="414"/>
                  </a:lnTo>
                  <a:lnTo>
                    <a:pt x="40" y="422"/>
                  </a:lnTo>
                  <a:lnTo>
                    <a:pt x="40" y="427"/>
                  </a:lnTo>
                  <a:lnTo>
                    <a:pt x="40" y="434"/>
                  </a:lnTo>
                  <a:lnTo>
                    <a:pt x="40" y="439"/>
                  </a:lnTo>
                  <a:lnTo>
                    <a:pt x="42" y="447"/>
                  </a:lnTo>
                  <a:lnTo>
                    <a:pt x="42" y="452"/>
                  </a:lnTo>
                  <a:lnTo>
                    <a:pt x="42" y="457"/>
                  </a:lnTo>
                  <a:lnTo>
                    <a:pt x="42" y="464"/>
                  </a:lnTo>
                  <a:lnTo>
                    <a:pt x="45" y="469"/>
                  </a:lnTo>
                  <a:lnTo>
                    <a:pt x="45" y="476"/>
                  </a:lnTo>
                  <a:lnTo>
                    <a:pt x="45" y="481"/>
                  </a:lnTo>
                  <a:lnTo>
                    <a:pt x="47" y="489"/>
                  </a:lnTo>
                  <a:lnTo>
                    <a:pt x="50" y="496"/>
                  </a:lnTo>
                  <a:lnTo>
                    <a:pt x="50" y="501"/>
                  </a:lnTo>
                  <a:lnTo>
                    <a:pt x="50" y="509"/>
                  </a:lnTo>
                  <a:lnTo>
                    <a:pt x="50" y="514"/>
                  </a:lnTo>
                  <a:lnTo>
                    <a:pt x="52" y="521"/>
                  </a:lnTo>
                  <a:lnTo>
                    <a:pt x="55" y="526"/>
                  </a:lnTo>
                  <a:lnTo>
                    <a:pt x="55" y="534"/>
                  </a:lnTo>
                  <a:lnTo>
                    <a:pt x="57" y="538"/>
                  </a:lnTo>
                  <a:lnTo>
                    <a:pt x="60" y="546"/>
                  </a:lnTo>
                  <a:lnTo>
                    <a:pt x="60" y="551"/>
                  </a:lnTo>
                  <a:lnTo>
                    <a:pt x="62" y="556"/>
                  </a:lnTo>
                  <a:lnTo>
                    <a:pt x="65" y="563"/>
                  </a:lnTo>
                  <a:lnTo>
                    <a:pt x="67" y="568"/>
                  </a:lnTo>
                  <a:lnTo>
                    <a:pt x="69" y="576"/>
                  </a:lnTo>
                  <a:lnTo>
                    <a:pt x="72" y="581"/>
                  </a:lnTo>
                  <a:lnTo>
                    <a:pt x="74" y="588"/>
                  </a:lnTo>
                  <a:lnTo>
                    <a:pt x="77" y="593"/>
                  </a:lnTo>
                  <a:lnTo>
                    <a:pt x="84" y="603"/>
                  </a:lnTo>
                  <a:lnTo>
                    <a:pt x="89" y="615"/>
                  </a:lnTo>
                  <a:lnTo>
                    <a:pt x="97" y="625"/>
                  </a:lnTo>
                  <a:lnTo>
                    <a:pt x="102" y="635"/>
                  </a:lnTo>
                  <a:lnTo>
                    <a:pt x="109" y="645"/>
                  </a:lnTo>
                  <a:lnTo>
                    <a:pt x="117" y="655"/>
                  </a:lnTo>
                  <a:lnTo>
                    <a:pt x="127" y="665"/>
                  </a:lnTo>
                  <a:lnTo>
                    <a:pt x="136" y="675"/>
                  </a:lnTo>
                  <a:lnTo>
                    <a:pt x="144" y="682"/>
                  </a:lnTo>
                  <a:lnTo>
                    <a:pt x="154" y="692"/>
                  </a:lnTo>
                  <a:lnTo>
                    <a:pt x="159" y="695"/>
                  </a:lnTo>
                  <a:lnTo>
                    <a:pt x="164" y="700"/>
                  </a:lnTo>
                  <a:lnTo>
                    <a:pt x="171" y="702"/>
                  </a:lnTo>
                  <a:lnTo>
                    <a:pt x="176" y="707"/>
                  </a:lnTo>
                  <a:lnTo>
                    <a:pt x="181" y="710"/>
                  </a:lnTo>
                  <a:lnTo>
                    <a:pt x="189" y="715"/>
                  </a:lnTo>
                  <a:lnTo>
                    <a:pt x="193" y="717"/>
                  </a:lnTo>
                  <a:lnTo>
                    <a:pt x="201" y="720"/>
                  </a:lnTo>
                  <a:lnTo>
                    <a:pt x="208" y="722"/>
                  </a:lnTo>
                  <a:lnTo>
                    <a:pt x="213" y="727"/>
                  </a:lnTo>
                  <a:lnTo>
                    <a:pt x="221" y="730"/>
                  </a:lnTo>
                  <a:lnTo>
                    <a:pt x="228" y="732"/>
                  </a:lnTo>
                  <a:lnTo>
                    <a:pt x="236" y="735"/>
                  </a:lnTo>
                  <a:lnTo>
                    <a:pt x="243" y="737"/>
                  </a:lnTo>
                  <a:lnTo>
                    <a:pt x="248" y="737"/>
                  </a:lnTo>
                  <a:lnTo>
                    <a:pt x="255" y="739"/>
                  </a:lnTo>
                  <a:lnTo>
                    <a:pt x="263" y="742"/>
                  </a:lnTo>
                  <a:lnTo>
                    <a:pt x="268" y="744"/>
                  </a:lnTo>
                  <a:lnTo>
                    <a:pt x="275" y="747"/>
                  </a:lnTo>
                  <a:lnTo>
                    <a:pt x="283" y="749"/>
                  </a:lnTo>
                  <a:lnTo>
                    <a:pt x="288" y="749"/>
                  </a:lnTo>
                  <a:lnTo>
                    <a:pt x="295" y="752"/>
                  </a:lnTo>
                  <a:lnTo>
                    <a:pt x="300" y="752"/>
                  </a:lnTo>
                  <a:lnTo>
                    <a:pt x="308" y="754"/>
                  </a:lnTo>
                  <a:lnTo>
                    <a:pt x="313" y="757"/>
                  </a:lnTo>
                  <a:lnTo>
                    <a:pt x="320" y="757"/>
                  </a:lnTo>
                  <a:lnTo>
                    <a:pt x="325" y="759"/>
                  </a:lnTo>
                  <a:lnTo>
                    <a:pt x="332" y="762"/>
                  </a:lnTo>
                  <a:lnTo>
                    <a:pt x="337" y="762"/>
                  </a:lnTo>
                  <a:lnTo>
                    <a:pt x="345" y="764"/>
                  </a:lnTo>
                  <a:lnTo>
                    <a:pt x="350" y="764"/>
                  </a:lnTo>
                  <a:lnTo>
                    <a:pt x="357" y="767"/>
                  </a:lnTo>
                  <a:lnTo>
                    <a:pt x="362" y="767"/>
                  </a:lnTo>
                  <a:lnTo>
                    <a:pt x="367" y="767"/>
                  </a:lnTo>
                  <a:lnTo>
                    <a:pt x="375" y="769"/>
                  </a:lnTo>
                  <a:lnTo>
                    <a:pt x="380" y="769"/>
                  </a:lnTo>
                  <a:lnTo>
                    <a:pt x="384" y="769"/>
                  </a:lnTo>
                  <a:lnTo>
                    <a:pt x="392" y="769"/>
                  </a:lnTo>
                  <a:lnTo>
                    <a:pt x="397" y="769"/>
                  </a:lnTo>
                  <a:lnTo>
                    <a:pt x="404" y="769"/>
                  </a:lnTo>
                  <a:lnTo>
                    <a:pt x="409" y="769"/>
                  </a:lnTo>
                  <a:lnTo>
                    <a:pt x="417" y="769"/>
                  </a:lnTo>
                  <a:lnTo>
                    <a:pt x="422" y="769"/>
                  </a:lnTo>
                  <a:lnTo>
                    <a:pt x="429" y="772"/>
                  </a:lnTo>
                  <a:lnTo>
                    <a:pt x="434" y="769"/>
                  </a:lnTo>
                  <a:lnTo>
                    <a:pt x="439" y="769"/>
                  </a:lnTo>
                  <a:lnTo>
                    <a:pt x="444" y="769"/>
                  </a:lnTo>
                  <a:lnTo>
                    <a:pt x="451" y="769"/>
                  </a:lnTo>
                  <a:lnTo>
                    <a:pt x="456" y="767"/>
                  </a:lnTo>
                  <a:lnTo>
                    <a:pt x="461" y="767"/>
                  </a:lnTo>
                  <a:lnTo>
                    <a:pt x="469" y="764"/>
                  </a:lnTo>
                  <a:lnTo>
                    <a:pt x="474" y="764"/>
                  </a:lnTo>
                  <a:lnTo>
                    <a:pt x="479" y="762"/>
                  </a:lnTo>
                  <a:lnTo>
                    <a:pt x="486" y="759"/>
                  </a:lnTo>
                  <a:lnTo>
                    <a:pt x="491" y="757"/>
                  </a:lnTo>
                  <a:lnTo>
                    <a:pt x="499" y="757"/>
                  </a:lnTo>
                  <a:lnTo>
                    <a:pt x="504" y="754"/>
                  </a:lnTo>
                  <a:lnTo>
                    <a:pt x="511" y="752"/>
                  </a:lnTo>
                  <a:lnTo>
                    <a:pt x="516" y="752"/>
                  </a:lnTo>
                  <a:lnTo>
                    <a:pt x="523" y="749"/>
                  </a:lnTo>
                  <a:lnTo>
                    <a:pt x="528" y="747"/>
                  </a:lnTo>
                  <a:lnTo>
                    <a:pt x="533" y="744"/>
                  </a:lnTo>
                  <a:lnTo>
                    <a:pt x="541" y="739"/>
                  </a:lnTo>
                  <a:lnTo>
                    <a:pt x="546" y="737"/>
                  </a:lnTo>
                  <a:lnTo>
                    <a:pt x="553" y="735"/>
                  </a:lnTo>
                  <a:lnTo>
                    <a:pt x="558" y="732"/>
                  </a:lnTo>
                  <a:lnTo>
                    <a:pt x="566" y="730"/>
                  </a:lnTo>
                  <a:lnTo>
                    <a:pt x="573" y="725"/>
                  </a:lnTo>
                  <a:lnTo>
                    <a:pt x="578" y="722"/>
                  </a:lnTo>
                  <a:lnTo>
                    <a:pt x="585" y="717"/>
                  </a:lnTo>
                  <a:lnTo>
                    <a:pt x="590" y="712"/>
                  </a:lnTo>
                  <a:lnTo>
                    <a:pt x="598" y="710"/>
                  </a:lnTo>
                  <a:lnTo>
                    <a:pt x="603" y="705"/>
                  </a:lnTo>
                  <a:lnTo>
                    <a:pt x="610" y="700"/>
                  </a:lnTo>
                  <a:lnTo>
                    <a:pt x="618" y="695"/>
                  </a:lnTo>
                  <a:lnTo>
                    <a:pt x="625" y="692"/>
                  </a:lnTo>
                  <a:lnTo>
                    <a:pt x="633" y="685"/>
                  </a:lnTo>
                  <a:lnTo>
                    <a:pt x="637" y="680"/>
                  </a:lnTo>
                  <a:lnTo>
                    <a:pt x="645" y="675"/>
                  </a:lnTo>
                  <a:lnTo>
                    <a:pt x="650" y="668"/>
                  </a:lnTo>
                  <a:lnTo>
                    <a:pt x="655" y="663"/>
                  </a:lnTo>
                  <a:lnTo>
                    <a:pt x="662" y="658"/>
                  </a:lnTo>
                  <a:lnTo>
                    <a:pt x="667" y="650"/>
                  </a:lnTo>
                  <a:lnTo>
                    <a:pt x="675" y="645"/>
                  </a:lnTo>
                  <a:lnTo>
                    <a:pt x="680" y="640"/>
                  </a:lnTo>
                  <a:lnTo>
                    <a:pt x="685" y="633"/>
                  </a:lnTo>
                  <a:lnTo>
                    <a:pt x="690" y="628"/>
                  </a:lnTo>
                  <a:lnTo>
                    <a:pt x="695" y="620"/>
                  </a:lnTo>
                  <a:lnTo>
                    <a:pt x="699" y="615"/>
                  </a:lnTo>
                  <a:lnTo>
                    <a:pt x="704" y="608"/>
                  </a:lnTo>
                  <a:lnTo>
                    <a:pt x="709" y="603"/>
                  </a:lnTo>
                  <a:lnTo>
                    <a:pt x="714" y="596"/>
                  </a:lnTo>
                  <a:lnTo>
                    <a:pt x="717" y="588"/>
                  </a:lnTo>
                  <a:lnTo>
                    <a:pt x="722" y="581"/>
                  </a:lnTo>
                  <a:lnTo>
                    <a:pt x="724" y="573"/>
                  </a:lnTo>
                  <a:lnTo>
                    <a:pt x="729" y="568"/>
                  </a:lnTo>
                  <a:lnTo>
                    <a:pt x="732" y="561"/>
                  </a:lnTo>
                  <a:lnTo>
                    <a:pt x="734" y="553"/>
                  </a:lnTo>
                  <a:lnTo>
                    <a:pt x="739" y="548"/>
                  </a:lnTo>
                  <a:lnTo>
                    <a:pt x="742" y="541"/>
                  </a:lnTo>
                  <a:lnTo>
                    <a:pt x="744" y="534"/>
                  </a:lnTo>
                  <a:lnTo>
                    <a:pt x="747" y="526"/>
                  </a:lnTo>
                  <a:lnTo>
                    <a:pt x="749" y="519"/>
                  </a:lnTo>
                  <a:lnTo>
                    <a:pt x="752" y="511"/>
                  </a:lnTo>
                  <a:lnTo>
                    <a:pt x="754" y="504"/>
                  </a:lnTo>
                  <a:lnTo>
                    <a:pt x="757" y="496"/>
                  </a:lnTo>
                  <a:lnTo>
                    <a:pt x="759" y="489"/>
                  </a:lnTo>
                  <a:lnTo>
                    <a:pt x="761" y="484"/>
                  </a:lnTo>
                  <a:lnTo>
                    <a:pt x="764" y="476"/>
                  </a:lnTo>
                  <a:lnTo>
                    <a:pt x="764" y="469"/>
                  </a:lnTo>
                  <a:lnTo>
                    <a:pt x="764" y="462"/>
                  </a:lnTo>
                  <a:lnTo>
                    <a:pt x="766" y="454"/>
                  </a:lnTo>
                  <a:lnTo>
                    <a:pt x="766" y="447"/>
                  </a:lnTo>
                  <a:lnTo>
                    <a:pt x="769" y="439"/>
                  </a:lnTo>
                  <a:lnTo>
                    <a:pt x="769" y="432"/>
                  </a:lnTo>
                  <a:lnTo>
                    <a:pt x="771" y="424"/>
                  </a:lnTo>
                  <a:lnTo>
                    <a:pt x="771" y="417"/>
                  </a:lnTo>
                  <a:lnTo>
                    <a:pt x="771" y="409"/>
                  </a:lnTo>
                  <a:lnTo>
                    <a:pt x="771" y="402"/>
                  </a:lnTo>
                  <a:lnTo>
                    <a:pt x="774" y="395"/>
                  </a:lnTo>
                  <a:lnTo>
                    <a:pt x="774" y="387"/>
                  </a:lnTo>
                  <a:lnTo>
                    <a:pt x="774" y="380"/>
                  </a:lnTo>
                  <a:lnTo>
                    <a:pt x="774" y="375"/>
                  </a:lnTo>
                  <a:lnTo>
                    <a:pt x="774" y="367"/>
                  </a:lnTo>
                  <a:lnTo>
                    <a:pt x="771" y="360"/>
                  </a:lnTo>
                  <a:lnTo>
                    <a:pt x="771" y="352"/>
                  </a:lnTo>
                  <a:lnTo>
                    <a:pt x="769" y="345"/>
                  </a:lnTo>
                  <a:lnTo>
                    <a:pt x="769" y="337"/>
                  </a:lnTo>
                  <a:lnTo>
                    <a:pt x="769" y="333"/>
                  </a:lnTo>
                  <a:lnTo>
                    <a:pt x="766" y="325"/>
                  </a:lnTo>
                  <a:lnTo>
                    <a:pt x="766" y="318"/>
                  </a:lnTo>
                  <a:lnTo>
                    <a:pt x="764" y="313"/>
                  </a:lnTo>
                  <a:lnTo>
                    <a:pt x="764" y="305"/>
                  </a:lnTo>
                  <a:lnTo>
                    <a:pt x="761" y="298"/>
                  </a:lnTo>
                  <a:lnTo>
                    <a:pt x="759" y="290"/>
                  </a:lnTo>
                  <a:lnTo>
                    <a:pt x="759" y="285"/>
                  </a:lnTo>
                  <a:lnTo>
                    <a:pt x="757" y="278"/>
                  </a:lnTo>
                  <a:lnTo>
                    <a:pt x="754" y="273"/>
                  </a:lnTo>
                  <a:lnTo>
                    <a:pt x="752" y="265"/>
                  </a:lnTo>
                  <a:lnTo>
                    <a:pt x="752" y="261"/>
                  </a:lnTo>
                  <a:lnTo>
                    <a:pt x="747" y="253"/>
                  </a:lnTo>
                  <a:lnTo>
                    <a:pt x="744" y="248"/>
                  </a:lnTo>
                  <a:lnTo>
                    <a:pt x="742" y="241"/>
                  </a:lnTo>
                  <a:lnTo>
                    <a:pt x="739" y="236"/>
                  </a:lnTo>
                  <a:lnTo>
                    <a:pt x="737" y="228"/>
                  </a:lnTo>
                  <a:lnTo>
                    <a:pt x="734" y="223"/>
                  </a:lnTo>
                  <a:lnTo>
                    <a:pt x="729" y="218"/>
                  </a:lnTo>
                  <a:lnTo>
                    <a:pt x="727" y="213"/>
                  </a:lnTo>
                  <a:lnTo>
                    <a:pt x="719" y="201"/>
                  </a:lnTo>
                  <a:lnTo>
                    <a:pt x="714" y="191"/>
                  </a:lnTo>
                  <a:lnTo>
                    <a:pt x="707" y="181"/>
                  </a:lnTo>
                  <a:lnTo>
                    <a:pt x="699" y="174"/>
                  </a:lnTo>
                  <a:lnTo>
                    <a:pt x="692" y="164"/>
                  </a:lnTo>
                  <a:lnTo>
                    <a:pt x="685" y="154"/>
                  </a:lnTo>
                  <a:lnTo>
                    <a:pt x="675" y="146"/>
                  </a:lnTo>
                  <a:lnTo>
                    <a:pt x="670" y="136"/>
                  </a:lnTo>
                  <a:lnTo>
                    <a:pt x="660" y="127"/>
                  </a:lnTo>
                  <a:lnTo>
                    <a:pt x="650" y="122"/>
                  </a:lnTo>
                  <a:lnTo>
                    <a:pt x="642" y="114"/>
                  </a:lnTo>
                  <a:lnTo>
                    <a:pt x="633" y="107"/>
                  </a:lnTo>
                  <a:lnTo>
                    <a:pt x="623" y="99"/>
                  </a:lnTo>
                  <a:lnTo>
                    <a:pt x="613" y="92"/>
                  </a:lnTo>
                  <a:lnTo>
                    <a:pt x="603" y="87"/>
                  </a:lnTo>
                  <a:lnTo>
                    <a:pt x="593" y="79"/>
                  </a:lnTo>
                  <a:lnTo>
                    <a:pt x="583" y="74"/>
                  </a:lnTo>
                  <a:lnTo>
                    <a:pt x="573" y="67"/>
                  </a:lnTo>
                  <a:lnTo>
                    <a:pt x="561" y="62"/>
                  </a:lnTo>
                  <a:lnTo>
                    <a:pt x="551" y="60"/>
                  </a:lnTo>
                  <a:lnTo>
                    <a:pt x="543" y="55"/>
                  </a:lnTo>
                  <a:lnTo>
                    <a:pt x="538" y="55"/>
                  </a:lnTo>
                  <a:lnTo>
                    <a:pt x="531" y="52"/>
                  </a:lnTo>
                  <a:lnTo>
                    <a:pt x="526" y="50"/>
                  </a:lnTo>
                  <a:lnTo>
                    <a:pt x="521" y="47"/>
                  </a:lnTo>
                  <a:lnTo>
                    <a:pt x="513" y="45"/>
                  </a:lnTo>
                  <a:lnTo>
                    <a:pt x="508" y="42"/>
                  </a:lnTo>
                  <a:lnTo>
                    <a:pt x="504" y="42"/>
                  </a:lnTo>
                  <a:lnTo>
                    <a:pt x="496" y="37"/>
                  </a:lnTo>
                  <a:lnTo>
                    <a:pt x="491" y="37"/>
                  </a:lnTo>
                  <a:lnTo>
                    <a:pt x="484" y="35"/>
                  </a:lnTo>
                  <a:lnTo>
                    <a:pt x="479" y="35"/>
                  </a:lnTo>
                  <a:lnTo>
                    <a:pt x="471" y="32"/>
                  </a:lnTo>
                  <a:lnTo>
                    <a:pt x="466" y="32"/>
                  </a:lnTo>
                  <a:lnTo>
                    <a:pt x="461" y="30"/>
                  </a:lnTo>
                  <a:lnTo>
                    <a:pt x="454" y="30"/>
                  </a:lnTo>
                  <a:lnTo>
                    <a:pt x="446" y="27"/>
                  </a:lnTo>
                  <a:lnTo>
                    <a:pt x="442" y="25"/>
                  </a:lnTo>
                  <a:lnTo>
                    <a:pt x="434" y="25"/>
                  </a:lnTo>
                  <a:lnTo>
                    <a:pt x="427" y="25"/>
                  </a:lnTo>
                  <a:lnTo>
                    <a:pt x="419" y="22"/>
                  </a:lnTo>
                  <a:lnTo>
                    <a:pt x="414" y="22"/>
                  </a:lnTo>
                  <a:lnTo>
                    <a:pt x="407" y="22"/>
                  </a:lnTo>
                  <a:lnTo>
                    <a:pt x="402" y="22"/>
                  </a:lnTo>
                  <a:lnTo>
                    <a:pt x="394" y="22"/>
                  </a:lnTo>
                  <a:lnTo>
                    <a:pt x="389" y="22"/>
                  </a:lnTo>
                  <a:lnTo>
                    <a:pt x="382" y="22"/>
                  </a:lnTo>
                  <a:lnTo>
                    <a:pt x="377" y="22"/>
                  </a:lnTo>
                  <a:lnTo>
                    <a:pt x="370" y="22"/>
                  </a:lnTo>
                  <a:lnTo>
                    <a:pt x="365" y="25"/>
                  </a:lnTo>
                  <a:lnTo>
                    <a:pt x="357" y="25"/>
                  </a:lnTo>
                  <a:lnTo>
                    <a:pt x="352" y="27"/>
                  </a:lnTo>
                  <a:lnTo>
                    <a:pt x="347" y="27"/>
                  </a:lnTo>
                  <a:lnTo>
                    <a:pt x="340" y="27"/>
                  </a:lnTo>
                  <a:lnTo>
                    <a:pt x="335" y="30"/>
                  </a:lnTo>
                  <a:lnTo>
                    <a:pt x="330" y="32"/>
                  </a:lnTo>
                  <a:lnTo>
                    <a:pt x="318" y="35"/>
                  </a:lnTo>
                  <a:lnTo>
                    <a:pt x="308" y="37"/>
                  </a:lnTo>
                  <a:lnTo>
                    <a:pt x="295" y="40"/>
                  </a:lnTo>
                  <a:lnTo>
                    <a:pt x="285" y="45"/>
                  </a:lnTo>
                  <a:lnTo>
                    <a:pt x="275" y="50"/>
                  </a:lnTo>
                  <a:lnTo>
                    <a:pt x="265" y="55"/>
                  </a:lnTo>
                  <a:lnTo>
                    <a:pt x="255" y="57"/>
                  </a:lnTo>
                  <a:lnTo>
                    <a:pt x="246" y="62"/>
                  </a:lnTo>
                  <a:lnTo>
                    <a:pt x="238" y="64"/>
                  </a:lnTo>
                  <a:lnTo>
                    <a:pt x="228" y="69"/>
                  </a:lnTo>
                  <a:lnTo>
                    <a:pt x="218" y="74"/>
                  </a:lnTo>
                  <a:lnTo>
                    <a:pt x="211" y="79"/>
                  </a:lnTo>
                  <a:lnTo>
                    <a:pt x="203" y="82"/>
                  </a:lnTo>
                  <a:lnTo>
                    <a:pt x="198" y="87"/>
                  </a:lnTo>
                  <a:lnTo>
                    <a:pt x="191" y="89"/>
                  </a:lnTo>
                  <a:lnTo>
                    <a:pt x="184" y="92"/>
                  </a:lnTo>
                  <a:lnTo>
                    <a:pt x="179" y="97"/>
                  </a:lnTo>
                  <a:lnTo>
                    <a:pt x="174" y="99"/>
                  </a:lnTo>
                  <a:lnTo>
                    <a:pt x="164" y="104"/>
                  </a:lnTo>
                  <a:lnTo>
                    <a:pt x="156" y="109"/>
                  </a:lnTo>
                  <a:lnTo>
                    <a:pt x="149" y="109"/>
                  </a:lnTo>
                  <a:lnTo>
                    <a:pt x="144" y="109"/>
                  </a:lnTo>
                  <a:lnTo>
                    <a:pt x="139" y="109"/>
                  </a:lnTo>
                  <a:lnTo>
                    <a:pt x="136" y="107"/>
                  </a:lnTo>
                  <a:lnTo>
                    <a:pt x="131" y="102"/>
                  </a:lnTo>
                  <a:lnTo>
                    <a:pt x="129" y="94"/>
                  </a:lnTo>
                  <a:lnTo>
                    <a:pt x="129" y="89"/>
                  </a:lnTo>
                  <a:lnTo>
                    <a:pt x="131" y="84"/>
                  </a:lnTo>
                  <a:lnTo>
                    <a:pt x="136" y="79"/>
                  </a:lnTo>
                  <a:lnTo>
                    <a:pt x="141" y="72"/>
                  </a:lnTo>
                  <a:lnTo>
                    <a:pt x="146" y="67"/>
                  </a:lnTo>
                  <a:lnTo>
                    <a:pt x="156" y="60"/>
                  </a:lnTo>
                  <a:lnTo>
                    <a:pt x="159" y="57"/>
                  </a:lnTo>
                  <a:lnTo>
                    <a:pt x="164" y="55"/>
                  </a:lnTo>
                  <a:lnTo>
                    <a:pt x="171" y="52"/>
                  </a:lnTo>
                  <a:lnTo>
                    <a:pt x="176" y="50"/>
                  </a:lnTo>
                  <a:lnTo>
                    <a:pt x="176" y="50"/>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4254840" y="3316320"/>
              <a:ext cx="2260440" cy="2425680"/>
            </a:xfrm>
            <a:custGeom>
              <a:avLst/>
              <a:gdLst/>
              <a:ahLst/>
              <a:rect l="l" t="t" r="r" b="b"/>
              <a:pathLst>
                <a:path w="1424" h="1528">
                  <a:moveTo>
                    <a:pt x="467" y="1493"/>
                  </a:moveTo>
                  <a:lnTo>
                    <a:pt x="469" y="1496"/>
                  </a:lnTo>
                  <a:lnTo>
                    <a:pt x="476" y="1496"/>
                  </a:lnTo>
                  <a:lnTo>
                    <a:pt x="481" y="1498"/>
                  </a:lnTo>
                  <a:lnTo>
                    <a:pt x="489" y="1501"/>
                  </a:lnTo>
                  <a:lnTo>
                    <a:pt x="499" y="1503"/>
                  </a:lnTo>
                  <a:lnTo>
                    <a:pt x="509" y="1508"/>
                  </a:lnTo>
                  <a:lnTo>
                    <a:pt x="514" y="1508"/>
                  </a:lnTo>
                  <a:lnTo>
                    <a:pt x="519" y="1511"/>
                  </a:lnTo>
                  <a:lnTo>
                    <a:pt x="526" y="1511"/>
                  </a:lnTo>
                  <a:lnTo>
                    <a:pt x="533" y="1513"/>
                  </a:lnTo>
                  <a:lnTo>
                    <a:pt x="538" y="1513"/>
                  </a:lnTo>
                  <a:lnTo>
                    <a:pt x="546" y="1516"/>
                  </a:lnTo>
                  <a:lnTo>
                    <a:pt x="551" y="1516"/>
                  </a:lnTo>
                  <a:lnTo>
                    <a:pt x="558" y="1518"/>
                  </a:lnTo>
                  <a:lnTo>
                    <a:pt x="563" y="1518"/>
                  </a:lnTo>
                  <a:lnTo>
                    <a:pt x="573" y="1521"/>
                  </a:lnTo>
                  <a:lnTo>
                    <a:pt x="581" y="1521"/>
                  </a:lnTo>
                  <a:lnTo>
                    <a:pt x="588" y="1523"/>
                  </a:lnTo>
                  <a:lnTo>
                    <a:pt x="598" y="1523"/>
                  </a:lnTo>
                  <a:lnTo>
                    <a:pt x="605" y="1523"/>
                  </a:lnTo>
                  <a:lnTo>
                    <a:pt x="615" y="1523"/>
                  </a:lnTo>
                  <a:lnTo>
                    <a:pt x="623" y="1526"/>
                  </a:lnTo>
                  <a:lnTo>
                    <a:pt x="633" y="1526"/>
                  </a:lnTo>
                  <a:lnTo>
                    <a:pt x="643" y="1526"/>
                  </a:lnTo>
                  <a:lnTo>
                    <a:pt x="653" y="1528"/>
                  </a:lnTo>
                  <a:lnTo>
                    <a:pt x="662" y="1528"/>
                  </a:lnTo>
                  <a:lnTo>
                    <a:pt x="672" y="1528"/>
                  </a:lnTo>
                  <a:lnTo>
                    <a:pt x="680" y="1528"/>
                  </a:lnTo>
                  <a:lnTo>
                    <a:pt x="690" y="1528"/>
                  </a:lnTo>
                  <a:lnTo>
                    <a:pt x="702" y="1528"/>
                  </a:lnTo>
                  <a:lnTo>
                    <a:pt x="712" y="1526"/>
                  </a:lnTo>
                  <a:lnTo>
                    <a:pt x="722" y="1526"/>
                  </a:lnTo>
                  <a:lnTo>
                    <a:pt x="732" y="1523"/>
                  </a:lnTo>
                  <a:lnTo>
                    <a:pt x="744" y="1523"/>
                  </a:lnTo>
                  <a:lnTo>
                    <a:pt x="754" y="1521"/>
                  </a:lnTo>
                  <a:lnTo>
                    <a:pt x="767" y="1521"/>
                  </a:lnTo>
                  <a:lnTo>
                    <a:pt x="777" y="1518"/>
                  </a:lnTo>
                  <a:lnTo>
                    <a:pt x="789" y="1518"/>
                  </a:lnTo>
                  <a:lnTo>
                    <a:pt x="801" y="1513"/>
                  </a:lnTo>
                  <a:lnTo>
                    <a:pt x="814" y="1513"/>
                  </a:lnTo>
                  <a:lnTo>
                    <a:pt x="826" y="1511"/>
                  </a:lnTo>
                  <a:lnTo>
                    <a:pt x="839" y="1508"/>
                  </a:lnTo>
                  <a:lnTo>
                    <a:pt x="851" y="1503"/>
                  </a:lnTo>
                  <a:lnTo>
                    <a:pt x="863" y="1501"/>
                  </a:lnTo>
                  <a:lnTo>
                    <a:pt x="876" y="1496"/>
                  </a:lnTo>
                  <a:lnTo>
                    <a:pt x="886" y="1493"/>
                  </a:lnTo>
                  <a:lnTo>
                    <a:pt x="898" y="1491"/>
                  </a:lnTo>
                  <a:lnTo>
                    <a:pt x="913" y="1486"/>
                  </a:lnTo>
                  <a:lnTo>
                    <a:pt x="925" y="1481"/>
                  </a:lnTo>
                  <a:lnTo>
                    <a:pt x="940" y="1479"/>
                  </a:lnTo>
                  <a:lnTo>
                    <a:pt x="953" y="1471"/>
                  </a:lnTo>
                  <a:lnTo>
                    <a:pt x="965" y="1466"/>
                  </a:lnTo>
                  <a:lnTo>
                    <a:pt x="977" y="1461"/>
                  </a:lnTo>
                  <a:lnTo>
                    <a:pt x="990" y="1454"/>
                  </a:lnTo>
                  <a:lnTo>
                    <a:pt x="1005" y="1449"/>
                  </a:lnTo>
                  <a:lnTo>
                    <a:pt x="1017" y="1441"/>
                  </a:lnTo>
                  <a:lnTo>
                    <a:pt x="1032" y="1434"/>
                  </a:lnTo>
                  <a:lnTo>
                    <a:pt x="1047" y="1429"/>
                  </a:lnTo>
                  <a:lnTo>
                    <a:pt x="1059" y="1419"/>
                  </a:lnTo>
                  <a:lnTo>
                    <a:pt x="1072" y="1412"/>
                  </a:lnTo>
                  <a:lnTo>
                    <a:pt x="1084" y="1404"/>
                  </a:lnTo>
                  <a:lnTo>
                    <a:pt x="1097" y="1397"/>
                  </a:lnTo>
                  <a:lnTo>
                    <a:pt x="1109" y="1387"/>
                  </a:lnTo>
                  <a:lnTo>
                    <a:pt x="1121" y="1379"/>
                  </a:lnTo>
                  <a:lnTo>
                    <a:pt x="1131" y="1369"/>
                  </a:lnTo>
                  <a:lnTo>
                    <a:pt x="1144" y="1364"/>
                  </a:lnTo>
                  <a:lnTo>
                    <a:pt x="1156" y="1354"/>
                  </a:lnTo>
                  <a:lnTo>
                    <a:pt x="1166" y="1347"/>
                  </a:lnTo>
                  <a:lnTo>
                    <a:pt x="1176" y="1337"/>
                  </a:lnTo>
                  <a:lnTo>
                    <a:pt x="1188" y="1327"/>
                  </a:lnTo>
                  <a:lnTo>
                    <a:pt x="1198" y="1320"/>
                  </a:lnTo>
                  <a:lnTo>
                    <a:pt x="1208" y="1310"/>
                  </a:lnTo>
                  <a:lnTo>
                    <a:pt x="1218" y="1302"/>
                  </a:lnTo>
                  <a:lnTo>
                    <a:pt x="1228" y="1292"/>
                  </a:lnTo>
                  <a:lnTo>
                    <a:pt x="1238" y="1282"/>
                  </a:lnTo>
                  <a:lnTo>
                    <a:pt x="1245" y="1273"/>
                  </a:lnTo>
                  <a:lnTo>
                    <a:pt x="1255" y="1265"/>
                  </a:lnTo>
                  <a:lnTo>
                    <a:pt x="1263" y="1255"/>
                  </a:lnTo>
                  <a:lnTo>
                    <a:pt x="1270" y="1245"/>
                  </a:lnTo>
                  <a:lnTo>
                    <a:pt x="1278" y="1235"/>
                  </a:lnTo>
                  <a:lnTo>
                    <a:pt x="1288" y="1225"/>
                  </a:lnTo>
                  <a:lnTo>
                    <a:pt x="1295" y="1215"/>
                  </a:lnTo>
                  <a:lnTo>
                    <a:pt x="1300" y="1206"/>
                  </a:lnTo>
                  <a:lnTo>
                    <a:pt x="1307" y="1196"/>
                  </a:lnTo>
                  <a:lnTo>
                    <a:pt x="1315" y="1186"/>
                  </a:lnTo>
                  <a:lnTo>
                    <a:pt x="1322" y="1176"/>
                  </a:lnTo>
                  <a:lnTo>
                    <a:pt x="1327" y="1166"/>
                  </a:lnTo>
                  <a:lnTo>
                    <a:pt x="1335" y="1153"/>
                  </a:lnTo>
                  <a:lnTo>
                    <a:pt x="1340" y="1144"/>
                  </a:lnTo>
                  <a:lnTo>
                    <a:pt x="1347" y="1134"/>
                  </a:lnTo>
                  <a:lnTo>
                    <a:pt x="1352" y="1121"/>
                  </a:lnTo>
                  <a:lnTo>
                    <a:pt x="1357" y="1111"/>
                  </a:lnTo>
                  <a:lnTo>
                    <a:pt x="1362" y="1099"/>
                  </a:lnTo>
                  <a:lnTo>
                    <a:pt x="1367" y="1089"/>
                  </a:lnTo>
                  <a:lnTo>
                    <a:pt x="1369" y="1077"/>
                  </a:lnTo>
                  <a:lnTo>
                    <a:pt x="1374" y="1064"/>
                  </a:lnTo>
                  <a:lnTo>
                    <a:pt x="1379" y="1054"/>
                  </a:lnTo>
                  <a:lnTo>
                    <a:pt x="1384" y="1042"/>
                  </a:lnTo>
                  <a:lnTo>
                    <a:pt x="1387" y="1029"/>
                  </a:lnTo>
                  <a:lnTo>
                    <a:pt x="1389" y="1017"/>
                  </a:lnTo>
                  <a:lnTo>
                    <a:pt x="1394" y="1005"/>
                  </a:lnTo>
                  <a:lnTo>
                    <a:pt x="1397" y="992"/>
                  </a:lnTo>
                  <a:lnTo>
                    <a:pt x="1399" y="980"/>
                  </a:lnTo>
                  <a:lnTo>
                    <a:pt x="1402" y="967"/>
                  </a:lnTo>
                  <a:lnTo>
                    <a:pt x="1404" y="957"/>
                  </a:lnTo>
                  <a:lnTo>
                    <a:pt x="1409" y="945"/>
                  </a:lnTo>
                  <a:lnTo>
                    <a:pt x="1409" y="930"/>
                  </a:lnTo>
                  <a:lnTo>
                    <a:pt x="1412" y="918"/>
                  </a:lnTo>
                  <a:lnTo>
                    <a:pt x="1414" y="903"/>
                  </a:lnTo>
                  <a:lnTo>
                    <a:pt x="1417" y="890"/>
                  </a:lnTo>
                  <a:lnTo>
                    <a:pt x="1417" y="876"/>
                  </a:lnTo>
                  <a:lnTo>
                    <a:pt x="1417" y="863"/>
                  </a:lnTo>
                  <a:lnTo>
                    <a:pt x="1419" y="848"/>
                  </a:lnTo>
                  <a:lnTo>
                    <a:pt x="1421" y="836"/>
                  </a:lnTo>
                  <a:lnTo>
                    <a:pt x="1421" y="821"/>
                  </a:lnTo>
                  <a:lnTo>
                    <a:pt x="1421" y="806"/>
                  </a:lnTo>
                  <a:lnTo>
                    <a:pt x="1421" y="794"/>
                  </a:lnTo>
                  <a:lnTo>
                    <a:pt x="1424" y="779"/>
                  </a:lnTo>
                  <a:lnTo>
                    <a:pt x="1424" y="764"/>
                  </a:lnTo>
                  <a:lnTo>
                    <a:pt x="1424" y="749"/>
                  </a:lnTo>
                  <a:lnTo>
                    <a:pt x="1424" y="734"/>
                  </a:lnTo>
                  <a:lnTo>
                    <a:pt x="1424" y="722"/>
                  </a:lnTo>
                  <a:lnTo>
                    <a:pt x="1421" y="704"/>
                  </a:lnTo>
                  <a:lnTo>
                    <a:pt x="1419" y="689"/>
                  </a:lnTo>
                  <a:lnTo>
                    <a:pt x="1419" y="675"/>
                  </a:lnTo>
                  <a:lnTo>
                    <a:pt x="1417" y="660"/>
                  </a:lnTo>
                  <a:lnTo>
                    <a:pt x="1417" y="642"/>
                  </a:lnTo>
                  <a:lnTo>
                    <a:pt x="1414" y="630"/>
                  </a:lnTo>
                  <a:lnTo>
                    <a:pt x="1412" y="615"/>
                  </a:lnTo>
                  <a:lnTo>
                    <a:pt x="1409" y="600"/>
                  </a:lnTo>
                  <a:lnTo>
                    <a:pt x="1404" y="585"/>
                  </a:lnTo>
                  <a:lnTo>
                    <a:pt x="1402" y="570"/>
                  </a:lnTo>
                  <a:lnTo>
                    <a:pt x="1397" y="555"/>
                  </a:lnTo>
                  <a:lnTo>
                    <a:pt x="1394" y="540"/>
                  </a:lnTo>
                  <a:lnTo>
                    <a:pt x="1389" y="526"/>
                  </a:lnTo>
                  <a:lnTo>
                    <a:pt x="1384" y="511"/>
                  </a:lnTo>
                  <a:lnTo>
                    <a:pt x="1379" y="498"/>
                  </a:lnTo>
                  <a:lnTo>
                    <a:pt x="1377" y="483"/>
                  </a:lnTo>
                  <a:lnTo>
                    <a:pt x="1369" y="469"/>
                  </a:lnTo>
                  <a:lnTo>
                    <a:pt x="1364" y="456"/>
                  </a:lnTo>
                  <a:lnTo>
                    <a:pt x="1357" y="441"/>
                  </a:lnTo>
                  <a:lnTo>
                    <a:pt x="1352" y="426"/>
                  </a:lnTo>
                  <a:lnTo>
                    <a:pt x="1345" y="414"/>
                  </a:lnTo>
                  <a:lnTo>
                    <a:pt x="1337" y="402"/>
                  </a:lnTo>
                  <a:lnTo>
                    <a:pt x="1330" y="387"/>
                  </a:lnTo>
                  <a:lnTo>
                    <a:pt x="1322" y="374"/>
                  </a:lnTo>
                  <a:lnTo>
                    <a:pt x="1315" y="362"/>
                  </a:lnTo>
                  <a:lnTo>
                    <a:pt x="1305" y="347"/>
                  </a:lnTo>
                  <a:lnTo>
                    <a:pt x="1297" y="335"/>
                  </a:lnTo>
                  <a:lnTo>
                    <a:pt x="1288" y="322"/>
                  </a:lnTo>
                  <a:lnTo>
                    <a:pt x="1280" y="310"/>
                  </a:lnTo>
                  <a:lnTo>
                    <a:pt x="1270" y="297"/>
                  </a:lnTo>
                  <a:lnTo>
                    <a:pt x="1260" y="285"/>
                  </a:lnTo>
                  <a:lnTo>
                    <a:pt x="1250" y="275"/>
                  </a:lnTo>
                  <a:lnTo>
                    <a:pt x="1238" y="263"/>
                  </a:lnTo>
                  <a:lnTo>
                    <a:pt x="1228" y="250"/>
                  </a:lnTo>
                  <a:lnTo>
                    <a:pt x="1216" y="238"/>
                  </a:lnTo>
                  <a:lnTo>
                    <a:pt x="1206" y="228"/>
                  </a:lnTo>
                  <a:lnTo>
                    <a:pt x="1193" y="215"/>
                  </a:lnTo>
                  <a:lnTo>
                    <a:pt x="1181" y="205"/>
                  </a:lnTo>
                  <a:lnTo>
                    <a:pt x="1168" y="193"/>
                  </a:lnTo>
                  <a:lnTo>
                    <a:pt x="1156" y="186"/>
                  </a:lnTo>
                  <a:lnTo>
                    <a:pt x="1144" y="173"/>
                  </a:lnTo>
                  <a:lnTo>
                    <a:pt x="1129" y="163"/>
                  </a:lnTo>
                  <a:lnTo>
                    <a:pt x="1116" y="153"/>
                  </a:lnTo>
                  <a:lnTo>
                    <a:pt x="1102" y="146"/>
                  </a:lnTo>
                  <a:lnTo>
                    <a:pt x="1089" y="136"/>
                  </a:lnTo>
                  <a:lnTo>
                    <a:pt x="1074" y="126"/>
                  </a:lnTo>
                  <a:lnTo>
                    <a:pt x="1059" y="119"/>
                  </a:lnTo>
                  <a:lnTo>
                    <a:pt x="1044" y="109"/>
                  </a:lnTo>
                  <a:lnTo>
                    <a:pt x="1027" y="101"/>
                  </a:lnTo>
                  <a:lnTo>
                    <a:pt x="1012" y="91"/>
                  </a:lnTo>
                  <a:lnTo>
                    <a:pt x="995" y="84"/>
                  </a:lnTo>
                  <a:lnTo>
                    <a:pt x="980" y="79"/>
                  </a:lnTo>
                  <a:lnTo>
                    <a:pt x="963" y="69"/>
                  </a:lnTo>
                  <a:lnTo>
                    <a:pt x="945" y="64"/>
                  </a:lnTo>
                  <a:lnTo>
                    <a:pt x="928" y="57"/>
                  </a:lnTo>
                  <a:lnTo>
                    <a:pt x="911" y="52"/>
                  </a:lnTo>
                  <a:lnTo>
                    <a:pt x="891" y="44"/>
                  </a:lnTo>
                  <a:lnTo>
                    <a:pt x="873" y="39"/>
                  </a:lnTo>
                  <a:lnTo>
                    <a:pt x="853" y="32"/>
                  </a:lnTo>
                  <a:lnTo>
                    <a:pt x="836" y="29"/>
                  </a:lnTo>
                  <a:lnTo>
                    <a:pt x="816" y="24"/>
                  </a:lnTo>
                  <a:lnTo>
                    <a:pt x="796" y="19"/>
                  </a:lnTo>
                  <a:lnTo>
                    <a:pt x="777" y="14"/>
                  </a:lnTo>
                  <a:lnTo>
                    <a:pt x="757" y="12"/>
                  </a:lnTo>
                  <a:lnTo>
                    <a:pt x="734" y="7"/>
                  </a:lnTo>
                  <a:lnTo>
                    <a:pt x="715" y="4"/>
                  </a:lnTo>
                  <a:lnTo>
                    <a:pt x="695" y="2"/>
                  </a:lnTo>
                  <a:lnTo>
                    <a:pt x="675" y="0"/>
                  </a:lnTo>
                  <a:lnTo>
                    <a:pt x="655" y="0"/>
                  </a:lnTo>
                  <a:lnTo>
                    <a:pt x="635" y="0"/>
                  </a:lnTo>
                  <a:lnTo>
                    <a:pt x="615" y="0"/>
                  </a:lnTo>
                  <a:lnTo>
                    <a:pt x="598" y="0"/>
                  </a:lnTo>
                  <a:lnTo>
                    <a:pt x="578" y="0"/>
                  </a:lnTo>
                  <a:lnTo>
                    <a:pt x="558" y="4"/>
                  </a:lnTo>
                  <a:lnTo>
                    <a:pt x="541" y="7"/>
                  </a:lnTo>
                  <a:lnTo>
                    <a:pt x="524" y="9"/>
                  </a:lnTo>
                  <a:lnTo>
                    <a:pt x="506" y="12"/>
                  </a:lnTo>
                  <a:lnTo>
                    <a:pt x="486" y="17"/>
                  </a:lnTo>
                  <a:lnTo>
                    <a:pt x="469" y="22"/>
                  </a:lnTo>
                  <a:lnTo>
                    <a:pt x="454" y="29"/>
                  </a:lnTo>
                  <a:lnTo>
                    <a:pt x="437" y="34"/>
                  </a:lnTo>
                  <a:lnTo>
                    <a:pt x="419" y="39"/>
                  </a:lnTo>
                  <a:lnTo>
                    <a:pt x="402" y="47"/>
                  </a:lnTo>
                  <a:lnTo>
                    <a:pt x="387" y="54"/>
                  </a:lnTo>
                  <a:lnTo>
                    <a:pt x="370" y="59"/>
                  </a:lnTo>
                  <a:lnTo>
                    <a:pt x="355" y="69"/>
                  </a:lnTo>
                  <a:lnTo>
                    <a:pt x="340" y="79"/>
                  </a:lnTo>
                  <a:lnTo>
                    <a:pt x="325" y="86"/>
                  </a:lnTo>
                  <a:lnTo>
                    <a:pt x="310" y="96"/>
                  </a:lnTo>
                  <a:lnTo>
                    <a:pt x="295" y="106"/>
                  </a:lnTo>
                  <a:lnTo>
                    <a:pt x="280" y="116"/>
                  </a:lnTo>
                  <a:lnTo>
                    <a:pt x="268" y="126"/>
                  </a:lnTo>
                  <a:lnTo>
                    <a:pt x="256" y="138"/>
                  </a:lnTo>
                  <a:lnTo>
                    <a:pt x="241" y="151"/>
                  </a:lnTo>
                  <a:lnTo>
                    <a:pt x="228" y="163"/>
                  </a:lnTo>
                  <a:lnTo>
                    <a:pt x="216" y="173"/>
                  </a:lnTo>
                  <a:lnTo>
                    <a:pt x="204" y="186"/>
                  </a:lnTo>
                  <a:lnTo>
                    <a:pt x="191" y="198"/>
                  </a:lnTo>
                  <a:lnTo>
                    <a:pt x="179" y="210"/>
                  </a:lnTo>
                  <a:lnTo>
                    <a:pt x="169" y="225"/>
                  </a:lnTo>
                  <a:lnTo>
                    <a:pt x="156" y="238"/>
                  </a:lnTo>
                  <a:lnTo>
                    <a:pt x="147" y="253"/>
                  </a:lnTo>
                  <a:lnTo>
                    <a:pt x="137" y="265"/>
                  </a:lnTo>
                  <a:lnTo>
                    <a:pt x="127" y="282"/>
                  </a:lnTo>
                  <a:lnTo>
                    <a:pt x="117" y="295"/>
                  </a:lnTo>
                  <a:lnTo>
                    <a:pt x="107" y="310"/>
                  </a:lnTo>
                  <a:lnTo>
                    <a:pt x="99" y="325"/>
                  </a:lnTo>
                  <a:lnTo>
                    <a:pt x="90" y="342"/>
                  </a:lnTo>
                  <a:lnTo>
                    <a:pt x="82" y="357"/>
                  </a:lnTo>
                  <a:lnTo>
                    <a:pt x="75" y="374"/>
                  </a:lnTo>
                  <a:lnTo>
                    <a:pt x="67" y="389"/>
                  </a:lnTo>
                  <a:lnTo>
                    <a:pt x="60" y="406"/>
                  </a:lnTo>
                  <a:lnTo>
                    <a:pt x="52" y="421"/>
                  </a:lnTo>
                  <a:lnTo>
                    <a:pt x="47" y="439"/>
                  </a:lnTo>
                  <a:lnTo>
                    <a:pt x="40" y="456"/>
                  </a:lnTo>
                  <a:lnTo>
                    <a:pt x="35" y="473"/>
                  </a:lnTo>
                  <a:lnTo>
                    <a:pt x="30" y="488"/>
                  </a:lnTo>
                  <a:lnTo>
                    <a:pt x="25" y="508"/>
                  </a:lnTo>
                  <a:lnTo>
                    <a:pt x="20" y="523"/>
                  </a:lnTo>
                  <a:lnTo>
                    <a:pt x="18" y="543"/>
                  </a:lnTo>
                  <a:lnTo>
                    <a:pt x="13" y="560"/>
                  </a:lnTo>
                  <a:lnTo>
                    <a:pt x="10" y="578"/>
                  </a:lnTo>
                  <a:lnTo>
                    <a:pt x="8" y="595"/>
                  </a:lnTo>
                  <a:lnTo>
                    <a:pt x="5" y="612"/>
                  </a:lnTo>
                  <a:lnTo>
                    <a:pt x="3" y="630"/>
                  </a:lnTo>
                  <a:lnTo>
                    <a:pt x="3" y="650"/>
                  </a:lnTo>
                  <a:lnTo>
                    <a:pt x="3" y="667"/>
                  </a:lnTo>
                  <a:lnTo>
                    <a:pt x="3" y="687"/>
                  </a:lnTo>
                  <a:lnTo>
                    <a:pt x="0" y="704"/>
                  </a:lnTo>
                  <a:lnTo>
                    <a:pt x="0" y="722"/>
                  </a:lnTo>
                  <a:lnTo>
                    <a:pt x="3" y="739"/>
                  </a:lnTo>
                  <a:lnTo>
                    <a:pt x="3" y="756"/>
                  </a:lnTo>
                  <a:lnTo>
                    <a:pt x="3" y="774"/>
                  </a:lnTo>
                  <a:lnTo>
                    <a:pt x="5" y="791"/>
                  </a:lnTo>
                  <a:lnTo>
                    <a:pt x="8" y="806"/>
                  </a:lnTo>
                  <a:lnTo>
                    <a:pt x="10" y="823"/>
                  </a:lnTo>
                  <a:lnTo>
                    <a:pt x="13" y="841"/>
                  </a:lnTo>
                  <a:lnTo>
                    <a:pt x="15" y="858"/>
                  </a:lnTo>
                  <a:lnTo>
                    <a:pt x="18" y="873"/>
                  </a:lnTo>
                  <a:lnTo>
                    <a:pt x="23" y="890"/>
                  </a:lnTo>
                  <a:lnTo>
                    <a:pt x="25" y="905"/>
                  </a:lnTo>
                  <a:lnTo>
                    <a:pt x="27" y="920"/>
                  </a:lnTo>
                  <a:lnTo>
                    <a:pt x="32" y="938"/>
                  </a:lnTo>
                  <a:lnTo>
                    <a:pt x="37" y="952"/>
                  </a:lnTo>
                  <a:lnTo>
                    <a:pt x="40" y="967"/>
                  </a:lnTo>
                  <a:lnTo>
                    <a:pt x="45" y="982"/>
                  </a:lnTo>
                  <a:lnTo>
                    <a:pt x="50" y="997"/>
                  </a:lnTo>
                  <a:lnTo>
                    <a:pt x="55" y="1012"/>
                  </a:lnTo>
                  <a:lnTo>
                    <a:pt x="60" y="1027"/>
                  </a:lnTo>
                  <a:lnTo>
                    <a:pt x="65" y="1039"/>
                  </a:lnTo>
                  <a:lnTo>
                    <a:pt x="72" y="1054"/>
                  </a:lnTo>
                  <a:lnTo>
                    <a:pt x="77" y="1069"/>
                  </a:lnTo>
                  <a:lnTo>
                    <a:pt x="82" y="1081"/>
                  </a:lnTo>
                  <a:lnTo>
                    <a:pt x="90" y="1094"/>
                  </a:lnTo>
                  <a:lnTo>
                    <a:pt x="94" y="1109"/>
                  </a:lnTo>
                  <a:lnTo>
                    <a:pt x="102" y="1121"/>
                  </a:lnTo>
                  <a:lnTo>
                    <a:pt x="107" y="1134"/>
                  </a:lnTo>
                  <a:lnTo>
                    <a:pt x="114" y="1146"/>
                  </a:lnTo>
                  <a:lnTo>
                    <a:pt x="122" y="1158"/>
                  </a:lnTo>
                  <a:lnTo>
                    <a:pt x="129" y="1171"/>
                  </a:lnTo>
                  <a:lnTo>
                    <a:pt x="134" y="1181"/>
                  </a:lnTo>
                  <a:lnTo>
                    <a:pt x="142" y="1193"/>
                  </a:lnTo>
                  <a:lnTo>
                    <a:pt x="147" y="1203"/>
                  </a:lnTo>
                  <a:lnTo>
                    <a:pt x="154" y="1213"/>
                  </a:lnTo>
                  <a:lnTo>
                    <a:pt x="159" y="1225"/>
                  </a:lnTo>
                  <a:lnTo>
                    <a:pt x="166" y="1235"/>
                  </a:lnTo>
                  <a:lnTo>
                    <a:pt x="174" y="1245"/>
                  </a:lnTo>
                  <a:lnTo>
                    <a:pt x="181" y="1255"/>
                  </a:lnTo>
                  <a:lnTo>
                    <a:pt x="186" y="1263"/>
                  </a:lnTo>
                  <a:lnTo>
                    <a:pt x="194" y="1273"/>
                  </a:lnTo>
                  <a:lnTo>
                    <a:pt x="199" y="1280"/>
                  </a:lnTo>
                  <a:lnTo>
                    <a:pt x="206" y="1287"/>
                  </a:lnTo>
                  <a:lnTo>
                    <a:pt x="214" y="1295"/>
                  </a:lnTo>
                  <a:lnTo>
                    <a:pt x="218" y="1305"/>
                  </a:lnTo>
                  <a:lnTo>
                    <a:pt x="226" y="1310"/>
                  </a:lnTo>
                  <a:lnTo>
                    <a:pt x="231" y="1320"/>
                  </a:lnTo>
                  <a:lnTo>
                    <a:pt x="238" y="1325"/>
                  </a:lnTo>
                  <a:lnTo>
                    <a:pt x="243" y="1332"/>
                  </a:lnTo>
                  <a:lnTo>
                    <a:pt x="248" y="1337"/>
                  </a:lnTo>
                  <a:lnTo>
                    <a:pt x="253" y="1345"/>
                  </a:lnTo>
                  <a:lnTo>
                    <a:pt x="263" y="1352"/>
                  </a:lnTo>
                  <a:lnTo>
                    <a:pt x="276" y="1364"/>
                  </a:lnTo>
                  <a:lnTo>
                    <a:pt x="283" y="1369"/>
                  </a:lnTo>
                  <a:lnTo>
                    <a:pt x="290" y="1377"/>
                  </a:lnTo>
                  <a:lnTo>
                    <a:pt x="298" y="1382"/>
                  </a:lnTo>
                  <a:lnTo>
                    <a:pt x="305" y="1384"/>
                  </a:lnTo>
                  <a:lnTo>
                    <a:pt x="315" y="1387"/>
                  </a:lnTo>
                  <a:lnTo>
                    <a:pt x="323" y="1392"/>
                  </a:lnTo>
                  <a:lnTo>
                    <a:pt x="330" y="1392"/>
                  </a:lnTo>
                  <a:lnTo>
                    <a:pt x="335" y="1392"/>
                  </a:lnTo>
                  <a:lnTo>
                    <a:pt x="338" y="1389"/>
                  </a:lnTo>
                  <a:lnTo>
                    <a:pt x="338" y="1387"/>
                  </a:lnTo>
                  <a:lnTo>
                    <a:pt x="338" y="1382"/>
                  </a:lnTo>
                  <a:lnTo>
                    <a:pt x="338" y="1377"/>
                  </a:lnTo>
                  <a:lnTo>
                    <a:pt x="333" y="1369"/>
                  </a:lnTo>
                  <a:lnTo>
                    <a:pt x="328" y="1362"/>
                  </a:lnTo>
                  <a:lnTo>
                    <a:pt x="320" y="1352"/>
                  </a:lnTo>
                  <a:lnTo>
                    <a:pt x="313" y="1342"/>
                  </a:lnTo>
                  <a:lnTo>
                    <a:pt x="308" y="1337"/>
                  </a:lnTo>
                  <a:lnTo>
                    <a:pt x="303" y="1330"/>
                  </a:lnTo>
                  <a:lnTo>
                    <a:pt x="295" y="1325"/>
                  </a:lnTo>
                  <a:lnTo>
                    <a:pt x="290" y="1320"/>
                  </a:lnTo>
                  <a:lnTo>
                    <a:pt x="283" y="1312"/>
                  </a:lnTo>
                  <a:lnTo>
                    <a:pt x="278" y="1305"/>
                  </a:lnTo>
                  <a:lnTo>
                    <a:pt x="271" y="1300"/>
                  </a:lnTo>
                  <a:lnTo>
                    <a:pt x="266" y="1292"/>
                  </a:lnTo>
                  <a:lnTo>
                    <a:pt x="256" y="1282"/>
                  </a:lnTo>
                  <a:lnTo>
                    <a:pt x="248" y="1275"/>
                  </a:lnTo>
                  <a:lnTo>
                    <a:pt x="241" y="1265"/>
                  </a:lnTo>
                  <a:lnTo>
                    <a:pt x="231" y="1258"/>
                  </a:lnTo>
                  <a:lnTo>
                    <a:pt x="223" y="1245"/>
                  </a:lnTo>
                  <a:lnTo>
                    <a:pt x="216" y="1235"/>
                  </a:lnTo>
                  <a:lnTo>
                    <a:pt x="206" y="1225"/>
                  </a:lnTo>
                  <a:lnTo>
                    <a:pt x="199" y="1213"/>
                  </a:lnTo>
                  <a:lnTo>
                    <a:pt x="194" y="1208"/>
                  </a:lnTo>
                  <a:lnTo>
                    <a:pt x="189" y="1203"/>
                  </a:lnTo>
                  <a:lnTo>
                    <a:pt x="186" y="1196"/>
                  </a:lnTo>
                  <a:lnTo>
                    <a:pt x="181" y="1191"/>
                  </a:lnTo>
                  <a:lnTo>
                    <a:pt x="176" y="1183"/>
                  </a:lnTo>
                  <a:lnTo>
                    <a:pt x="174" y="1176"/>
                  </a:lnTo>
                  <a:lnTo>
                    <a:pt x="169" y="1168"/>
                  </a:lnTo>
                  <a:lnTo>
                    <a:pt x="166" y="1163"/>
                  </a:lnTo>
                  <a:lnTo>
                    <a:pt x="159" y="1153"/>
                  </a:lnTo>
                  <a:lnTo>
                    <a:pt x="156" y="1148"/>
                  </a:lnTo>
                  <a:lnTo>
                    <a:pt x="152" y="1141"/>
                  </a:lnTo>
                  <a:lnTo>
                    <a:pt x="147" y="1134"/>
                  </a:lnTo>
                  <a:lnTo>
                    <a:pt x="144" y="1126"/>
                  </a:lnTo>
                  <a:lnTo>
                    <a:pt x="139" y="1119"/>
                  </a:lnTo>
                  <a:lnTo>
                    <a:pt x="134" y="1111"/>
                  </a:lnTo>
                  <a:lnTo>
                    <a:pt x="132" y="1104"/>
                  </a:lnTo>
                  <a:lnTo>
                    <a:pt x="127" y="1094"/>
                  </a:lnTo>
                  <a:lnTo>
                    <a:pt x="124" y="1086"/>
                  </a:lnTo>
                  <a:lnTo>
                    <a:pt x="119" y="1077"/>
                  </a:lnTo>
                  <a:lnTo>
                    <a:pt x="117" y="1069"/>
                  </a:lnTo>
                  <a:lnTo>
                    <a:pt x="112" y="1059"/>
                  </a:lnTo>
                  <a:lnTo>
                    <a:pt x="107" y="1052"/>
                  </a:lnTo>
                  <a:lnTo>
                    <a:pt x="104" y="1042"/>
                  </a:lnTo>
                  <a:lnTo>
                    <a:pt x="102" y="1034"/>
                  </a:lnTo>
                  <a:lnTo>
                    <a:pt x="97" y="1022"/>
                  </a:lnTo>
                  <a:lnTo>
                    <a:pt x="94" y="1014"/>
                  </a:lnTo>
                  <a:lnTo>
                    <a:pt x="90" y="1005"/>
                  </a:lnTo>
                  <a:lnTo>
                    <a:pt x="87" y="995"/>
                  </a:lnTo>
                  <a:lnTo>
                    <a:pt x="85" y="985"/>
                  </a:lnTo>
                  <a:lnTo>
                    <a:pt x="82" y="975"/>
                  </a:lnTo>
                  <a:lnTo>
                    <a:pt x="77" y="965"/>
                  </a:lnTo>
                  <a:lnTo>
                    <a:pt x="75" y="955"/>
                  </a:lnTo>
                  <a:lnTo>
                    <a:pt x="72" y="945"/>
                  </a:lnTo>
                  <a:lnTo>
                    <a:pt x="70" y="933"/>
                  </a:lnTo>
                  <a:lnTo>
                    <a:pt x="65" y="923"/>
                  </a:lnTo>
                  <a:lnTo>
                    <a:pt x="65" y="913"/>
                  </a:lnTo>
                  <a:lnTo>
                    <a:pt x="60" y="900"/>
                  </a:lnTo>
                  <a:lnTo>
                    <a:pt x="57" y="890"/>
                  </a:lnTo>
                  <a:lnTo>
                    <a:pt x="57" y="878"/>
                  </a:lnTo>
                  <a:lnTo>
                    <a:pt x="55" y="866"/>
                  </a:lnTo>
                  <a:lnTo>
                    <a:pt x="52" y="853"/>
                  </a:lnTo>
                  <a:lnTo>
                    <a:pt x="50" y="843"/>
                  </a:lnTo>
                  <a:lnTo>
                    <a:pt x="47" y="831"/>
                  </a:lnTo>
                  <a:lnTo>
                    <a:pt x="47" y="818"/>
                  </a:lnTo>
                  <a:lnTo>
                    <a:pt x="45" y="806"/>
                  </a:lnTo>
                  <a:lnTo>
                    <a:pt x="45" y="794"/>
                  </a:lnTo>
                  <a:lnTo>
                    <a:pt x="42" y="781"/>
                  </a:lnTo>
                  <a:lnTo>
                    <a:pt x="42" y="769"/>
                  </a:lnTo>
                  <a:lnTo>
                    <a:pt x="40" y="756"/>
                  </a:lnTo>
                  <a:lnTo>
                    <a:pt x="40" y="744"/>
                  </a:lnTo>
                  <a:lnTo>
                    <a:pt x="40" y="729"/>
                  </a:lnTo>
                  <a:lnTo>
                    <a:pt x="40" y="717"/>
                  </a:lnTo>
                  <a:lnTo>
                    <a:pt x="40" y="704"/>
                  </a:lnTo>
                  <a:lnTo>
                    <a:pt x="40" y="692"/>
                  </a:lnTo>
                  <a:lnTo>
                    <a:pt x="40" y="679"/>
                  </a:lnTo>
                  <a:lnTo>
                    <a:pt x="42" y="670"/>
                  </a:lnTo>
                  <a:lnTo>
                    <a:pt x="42" y="657"/>
                  </a:lnTo>
                  <a:lnTo>
                    <a:pt x="42" y="645"/>
                  </a:lnTo>
                  <a:lnTo>
                    <a:pt x="45" y="632"/>
                  </a:lnTo>
                  <a:lnTo>
                    <a:pt x="47" y="620"/>
                  </a:lnTo>
                  <a:lnTo>
                    <a:pt x="47" y="607"/>
                  </a:lnTo>
                  <a:lnTo>
                    <a:pt x="50" y="595"/>
                  </a:lnTo>
                  <a:lnTo>
                    <a:pt x="52" y="585"/>
                  </a:lnTo>
                  <a:lnTo>
                    <a:pt x="55" y="575"/>
                  </a:lnTo>
                  <a:lnTo>
                    <a:pt x="57" y="563"/>
                  </a:lnTo>
                  <a:lnTo>
                    <a:pt x="57" y="550"/>
                  </a:lnTo>
                  <a:lnTo>
                    <a:pt x="62" y="540"/>
                  </a:lnTo>
                  <a:lnTo>
                    <a:pt x="65" y="528"/>
                  </a:lnTo>
                  <a:lnTo>
                    <a:pt x="67" y="516"/>
                  </a:lnTo>
                  <a:lnTo>
                    <a:pt x="70" y="506"/>
                  </a:lnTo>
                  <a:lnTo>
                    <a:pt x="75" y="496"/>
                  </a:lnTo>
                  <a:lnTo>
                    <a:pt x="77" y="486"/>
                  </a:lnTo>
                  <a:lnTo>
                    <a:pt x="82" y="473"/>
                  </a:lnTo>
                  <a:lnTo>
                    <a:pt x="85" y="464"/>
                  </a:lnTo>
                  <a:lnTo>
                    <a:pt x="90" y="454"/>
                  </a:lnTo>
                  <a:lnTo>
                    <a:pt x="94" y="444"/>
                  </a:lnTo>
                  <a:lnTo>
                    <a:pt x="97" y="434"/>
                  </a:lnTo>
                  <a:lnTo>
                    <a:pt x="102" y="421"/>
                  </a:lnTo>
                  <a:lnTo>
                    <a:pt x="107" y="414"/>
                  </a:lnTo>
                  <a:lnTo>
                    <a:pt x="112" y="404"/>
                  </a:lnTo>
                  <a:lnTo>
                    <a:pt x="117" y="394"/>
                  </a:lnTo>
                  <a:lnTo>
                    <a:pt x="122" y="384"/>
                  </a:lnTo>
                  <a:lnTo>
                    <a:pt x="127" y="374"/>
                  </a:lnTo>
                  <a:lnTo>
                    <a:pt x="132" y="364"/>
                  </a:lnTo>
                  <a:lnTo>
                    <a:pt x="137" y="354"/>
                  </a:lnTo>
                  <a:lnTo>
                    <a:pt x="142" y="344"/>
                  </a:lnTo>
                  <a:lnTo>
                    <a:pt x="149" y="337"/>
                  </a:lnTo>
                  <a:lnTo>
                    <a:pt x="154" y="327"/>
                  </a:lnTo>
                  <a:lnTo>
                    <a:pt x="159" y="317"/>
                  </a:lnTo>
                  <a:lnTo>
                    <a:pt x="166" y="307"/>
                  </a:lnTo>
                  <a:lnTo>
                    <a:pt x="171" y="300"/>
                  </a:lnTo>
                  <a:lnTo>
                    <a:pt x="179" y="292"/>
                  </a:lnTo>
                  <a:lnTo>
                    <a:pt x="184" y="282"/>
                  </a:lnTo>
                  <a:lnTo>
                    <a:pt x="191" y="275"/>
                  </a:lnTo>
                  <a:lnTo>
                    <a:pt x="196" y="265"/>
                  </a:lnTo>
                  <a:lnTo>
                    <a:pt x="204" y="260"/>
                  </a:lnTo>
                  <a:lnTo>
                    <a:pt x="211" y="250"/>
                  </a:lnTo>
                  <a:lnTo>
                    <a:pt x="216" y="243"/>
                  </a:lnTo>
                  <a:lnTo>
                    <a:pt x="223" y="235"/>
                  </a:lnTo>
                  <a:lnTo>
                    <a:pt x="231" y="228"/>
                  </a:lnTo>
                  <a:lnTo>
                    <a:pt x="238" y="218"/>
                  </a:lnTo>
                  <a:lnTo>
                    <a:pt x="243" y="210"/>
                  </a:lnTo>
                  <a:lnTo>
                    <a:pt x="251" y="203"/>
                  </a:lnTo>
                  <a:lnTo>
                    <a:pt x="258" y="198"/>
                  </a:lnTo>
                  <a:lnTo>
                    <a:pt x="266" y="188"/>
                  </a:lnTo>
                  <a:lnTo>
                    <a:pt x="273" y="181"/>
                  </a:lnTo>
                  <a:lnTo>
                    <a:pt x="280" y="173"/>
                  </a:lnTo>
                  <a:lnTo>
                    <a:pt x="288" y="168"/>
                  </a:lnTo>
                  <a:lnTo>
                    <a:pt x="295" y="163"/>
                  </a:lnTo>
                  <a:lnTo>
                    <a:pt x="303" y="156"/>
                  </a:lnTo>
                  <a:lnTo>
                    <a:pt x="310" y="151"/>
                  </a:lnTo>
                  <a:lnTo>
                    <a:pt x="320" y="143"/>
                  </a:lnTo>
                  <a:lnTo>
                    <a:pt x="325" y="136"/>
                  </a:lnTo>
                  <a:lnTo>
                    <a:pt x="333" y="131"/>
                  </a:lnTo>
                  <a:lnTo>
                    <a:pt x="340" y="124"/>
                  </a:lnTo>
                  <a:lnTo>
                    <a:pt x="350" y="119"/>
                  </a:lnTo>
                  <a:lnTo>
                    <a:pt x="357" y="114"/>
                  </a:lnTo>
                  <a:lnTo>
                    <a:pt x="367" y="109"/>
                  </a:lnTo>
                  <a:lnTo>
                    <a:pt x="377" y="104"/>
                  </a:lnTo>
                  <a:lnTo>
                    <a:pt x="387" y="99"/>
                  </a:lnTo>
                  <a:lnTo>
                    <a:pt x="397" y="94"/>
                  </a:lnTo>
                  <a:lnTo>
                    <a:pt x="405" y="91"/>
                  </a:lnTo>
                  <a:lnTo>
                    <a:pt x="414" y="86"/>
                  </a:lnTo>
                  <a:lnTo>
                    <a:pt x="427" y="81"/>
                  </a:lnTo>
                  <a:lnTo>
                    <a:pt x="434" y="79"/>
                  </a:lnTo>
                  <a:lnTo>
                    <a:pt x="447" y="74"/>
                  </a:lnTo>
                  <a:lnTo>
                    <a:pt x="457" y="71"/>
                  </a:lnTo>
                  <a:lnTo>
                    <a:pt x="469" y="69"/>
                  </a:lnTo>
                  <a:lnTo>
                    <a:pt x="479" y="67"/>
                  </a:lnTo>
                  <a:lnTo>
                    <a:pt x="489" y="64"/>
                  </a:lnTo>
                  <a:lnTo>
                    <a:pt x="499" y="59"/>
                  </a:lnTo>
                  <a:lnTo>
                    <a:pt x="511" y="59"/>
                  </a:lnTo>
                  <a:lnTo>
                    <a:pt x="524" y="57"/>
                  </a:lnTo>
                  <a:lnTo>
                    <a:pt x="533" y="54"/>
                  </a:lnTo>
                  <a:lnTo>
                    <a:pt x="546" y="54"/>
                  </a:lnTo>
                  <a:lnTo>
                    <a:pt x="558" y="54"/>
                  </a:lnTo>
                  <a:lnTo>
                    <a:pt x="568" y="52"/>
                  </a:lnTo>
                  <a:lnTo>
                    <a:pt x="581" y="49"/>
                  </a:lnTo>
                  <a:lnTo>
                    <a:pt x="593" y="49"/>
                  </a:lnTo>
                  <a:lnTo>
                    <a:pt x="605" y="49"/>
                  </a:lnTo>
                  <a:lnTo>
                    <a:pt x="618" y="49"/>
                  </a:lnTo>
                  <a:lnTo>
                    <a:pt x="630" y="49"/>
                  </a:lnTo>
                  <a:lnTo>
                    <a:pt x="643" y="49"/>
                  </a:lnTo>
                  <a:lnTo>
                    <a:pt x="655" y="49"/>
                  </a:lnTo>
                  <a:lnTo>
                    <a:pt x="665" y="49"/>
                  </a:lnTo>
                  <a:lnTo>
                    <a:pt x="677" y="49"/>
                  </a:lnTo>
                  <a:lnTo>
                    <a:pt x="690" y="49"/>
                  </a:lnTo>
                  <a:lnTo>
                    <a:pt x="702" y="52"/>
                  </a:lnTo>
                  <a:lnTo>
                    <a:pt x="715" y="52"/>
                  </a:lnTo>
                  <a:lnTo>
                    <a:pt x="727" y="54"/>
                  </a:lnTo>
                  <a:lnTo>
                    <a:pt x="739" y="54"/>
                  </a:lnTo>
                  <a:lnTo>
                    <a:pt x="749" y="57"/>
                  </a:lnTo>
                  <a:lnTo>
                    <a:pt x="762" y="57"/>
                  </a:lnTo>
                  <a:lnTo>
                    <a:pt x="774" y="59"/>
                  </a:lnTo>
                  <a:lnTo>
                    <a:pt x="786" y="62"/>
                  </a:lnTo>
                  <a:lnTo>
                    <a:pt x="799" y="64"/>
                  </a:lnTo>
                  <a:lnTo>
                    <a:pt x="809" y="67"/>
                  </a:lnTo>
                  <a:lnTo>
                    <a:pt x="821" y="69"/>
                  </a:lnTo>
                  <a:lnTo>
                    <a:pt x="834" y="71"/>
                  </a:lnTo>
                  <a:lnTo>
                    <a:pt x="846" y="76"/>
                  </a:lnTo>
                  <a:lnTo>
                    <a:pt x="858" y="79"/>
                  </a:lnTo>
                  <a:lnTo>
                    <a:pt x="868" y="81"/>
                  </a:lnTo>
                  <a:lnTo>
                    <a:pt x="881" y="86"/>
                  </a:lnTo>
                  <a:lnTo>
                    <a:pt x="893" y="89"/>
                  </a:lnTo>
                  <a:lnTo>
                    <a:pt x="903" y="91"/>
                  </a:lnTo>
                  <a:lnTo>
                    <a:pt x="915" y="96"/>
                  </a:lnTo>
                  <a:lnTo>
                    <a:pt x="925" y="101"/>
                  </a:lnTo>
                  <a:lnTo>
                    <a:pt x="938" y="106"/>
                  </a:lnTo>
                  <a:lnTo>
                    <a:pt x="948" y="109"/>
                  </a:lnTo>
                  <a:lnTo>
                    <a:pt x="958" y="114"/>
                  </a:lnTo>
                  <a:lnTo>
                    <a:pt x="970" y="119"/>
                  </a:lnTo>
                  <a:lnTo>
                    <a:pt x="980" y="124"/>
                  </a:lnTo>
                  <a:lnTo>
                    <a:pt x="990" y="129"/>
                  </a:lnTo>
                  <a:lnTo>
                    <a:pt x="1000" y="134"/>
                  </a:lnTo>
                  <a:lnTo>
                    <a:pt x="1010" y="138"/>
                  </a:lnTo>
                  <a:lnTo>
                    <a:pt x="1022" y="146"/>
                  </a:lnTo>
                  <a:lnTo>
                    <a:pt x="1030" y="151"/>
                  </a:lnTo>
                  <a:lnTo>
                    <a:pt x="1039" y="156"/>
                  </a:lnTo>
                  <a:lnTo>
                    <a:pt x="1049" y="163"/>
                  </a:lnTo>
                  <a:lnTo>
                    <a:pt x="1059" y="168"/>
                  </a:lnTo>
                  <a:lnTo>
                    <a:pt x="1067" y="173"/>
                  </a:lnTo>
                  <a:lnTo>
                    <a:pt x="1077" y="181"/>
                  </a:lnTo>
                  <a:lnTo>
                    <a:pt x="1087" y="188"/>
                  </a:lnTo>
                  <a:lnTo>
                    <a:pt x="1097" y="196"/>
                  </a:lnTo>
                  <a:lnTo>
                    <a:pt x="1104" y="201"/>
                  </a:lnTo>
                  <a:lnTo>
                    <a:pt x="1114" y="208"/>
                  </a:lnTo>
                  <a:lnTo>
                    <a:pt x="1121" y="215"/>
                  </a:lnTo>
                  <a:lnTo>
                    <a:pt x="1131" y="225"/>
                  </a:lnTo>
                  <a:lnTo>
                    <a:pt x="1139" y="233"/>
                  </a:lnTo>
                  <a:lnTo>
                    <a:pt x="1149" y="240"/>
                  </a:lnTo>
                  <a:lnTo>
                    <a:pt x="1156" y="248"/>
                  </a:lnTo>
                  <a:lnTo>
                    <a:pt x="1166" y="258"/>
                  </a:lnTo>
                  <a:lnTo>
                    <a:pt x="1173" y="265"/>
                  </a:lnTo>
                  <a:lnTo>
                    <a:pt x="1181" y="272"/>
                  </a:lnTo>
                  <a:lnTo>
                    <a:pt x="1188" y="282"/>
                  </a:lnTo>
                  <a:lnTo>
                    <a:pt x="1196" y="290"/>
                  </a:lnTo>
                  <a:lnTo>
                    <a:pt x="1203" y="300"/>
                  </a:lnTo>
                  <a:lnTo>
                    <a:pt x="1211" y="310"/>
                  </a:lnTo>
                  <a:lnTo>
                    <a:pt x="1218" y="320"/>
                  </a:lnTo>
                  <a:lnTo>
                    <a:pt x="1226" y="327"/>
                  </a:lnTo>
                  <a:lnTo>
                    <a:pt x="1233" y="337"/>
                  </a:lnTo>
                  <a:lnTo>
                    <a:pt x="1238" y="347"/>
                  </a:lnTo>
                  <a:lnTo>
                    <a:pt x="1245" y="354"/>
                  </a:lnTo>
                  <a:lnTo>
                    <a:pt x="1253" y="367"/>
                  </a:lnTo>
                  <a:lnTo>
                    <a:pt x="1260" y="374"/>
                  </a:lnTo>
                  <a:lnTo>
                    <a:pt x="1268" y="384"/>
                  </a:lnTo>
                  <a:lnTo>
                    <a:pt x="1273" y="397"/>
                  </a:lnTo>
                  <a:lnTo>
                    <a:pt x="1280" y="406"/>
                  </a:lnTo>
                  <a:lnTo>
                    <a:pt x="1285" y="416"/>
                  </a:lnTo>
                  <a:lnTo>
                    <a:pt x="1290" y="426"/>
                  </a:lnTo>
                  <a:lnTo>
                    <a:pt x="1295" y="436"/>
                  </a:lnTo>
                  <a:lnTo>
                    <a:pt x="1302" y="446"/>
                  </a:lnTo>
                  <a:lnTo>
                    <a:pt x="1307" y="456"/>
                  </a:lnTo>
                  <a:lnTo>
                    <a:pt x="1312" y="469"/>
                  </a:lnTo>
                  <a:lnTo>
                    <a:pt x="1317" y="478"/>
                  </a:lnTo>
                  <a:lnTo>
                    <a:pt x="1322" y="488"/>
                  </a:lnTo>
                  <a:lnTo>
                    <a:pt x="1327" y="498"/>
                  </a:lnTo>
                  <a:lnTo>
                    <a:pt x="1332" y="511"/>
                  </a:lnTo>
                  <a:lnTo>
                    <a:pt x="1335" y="521"/>
                  </a:lnTo>
                  <a:lnTo>
                    <a:pt x="1340" y="533"/>
                  </a:lnTo>
                  <a:lnTo>
                    <a:pt x="1345" y="543"/>
                  </a:lnTo>
                  <a:lnTo>
                    <a:pt x="1347" y="553"/>
                  </a:lnTo>
                  <a:lnTo>
                    <a:pt x="1352" y="565"/>
                  </a:lnTo>
                  <a:lnTo>
                    <a:pt x="1357" y="578"/>
                  </a:lnTo>
                  <a:lnTo>
                    <a:pt x="1359" y="588"/>
                  </a:lnTo>
                  <a:lnTo>
                    <a:pt x="1362" y="598"/>
                  </a:lnTo>
                  <a:lnTo>
                    <a:pt x="1364" y="607"/>
                  </a:lnTo>
                  <a:lnTo>
                    <a:pt x="1367" y="620"/>
                  </a:lnTo>
                  <a:lnTo>
                    <a:pt x="1369" y="630"/>
                  </a:lnTo>
                  <a:lnTo>
                    <a:pt x="1372" y="642"/>
                  </a:lnTo>
                  <a:lnTo>
                    <a:pt x="1374" y="652"/>
                  </a:lnTo>
                  <a:lnTo>
                    <a:pt x="1377" y="665"/>
                  </a:lnTo>
                  <a:lnTo>
                    <a:pt x="1377" y="675"/>
                  </a:lnTo>
                  <a:lnTo>
                    <a:pt x="1377" y="684"/>
                  </a:lnTo>
                  <a:lnTo>
                    <a:pt x="1379" y="697"/>
                  </a:lnTo>
                  <a:lnTo>
                    <a:pt x="1382" y="709"/>
                  </a:lnTo>
                  <a:lnTo>
                    <a:pt x="1382" y="719"/>
                  </a:lnTo>
                  <a:lnTo>
                    <a:pt x="1382" y="729"/>
                  </a:lnTo>
                  <a:lnTo>
                    <a:pt x="1382" y="742"/>
                  </a:lnTo>
                  <a:lnTo>
                    <a:pt x="1384" y="751"/>
                  </a:lnTo>
                  <a:lnTo>
                    <a:pt x="1382" y="761"/>
                  </a:lnTo>
                  <a:lnTo>
                    <a:pt x="1382" y="774"/>
                  </a:lnTo>
                  <a:lnTo>
                    <a:pt x="1382" y="781"/>
                  </a:lnTo>
                  <a:lnTo>
                    <a:pt x="1382" y="794"/>
                  </a:lnTo>
                  <a:lnTo>
                    <a:pt x="1382" y="804"/>
                  </a:lnTo>
                  <a:lnTo>
                    <a:pt x="1382" y="813"/>
                  </a:lnTo>
                  <a:lnTo>
                    <a:pt x="1382" y="823"/>
                  </a:lnTo>
                  <a:lnTo>
                    <a:pt x="1382" y="836"/>
                  </a:lnTo>
                  <a:lnTo>
                    <a:pt x="1379" y="843"/>
                  </a:lnTo>
                  <a:lnTo>
                    <a:pt x="1379" y="853"/>
                  </a:lnTo>
                  <a:lnTo>
                    <a:pt x="1377" y="866"/>
                  </a:lnTo>
                  <a:lnTo>
                    <a:pt x="1377" y="876"/>
                  </a:lnTo>
                  <a:lnTo>
                    <a:pt x="1374" y="883"/>
                  </a:lnTo>
                  <a:lnTo>
                    <a:pt x="1374" y="895"/>
                  </a:lnTo>
                  <a:lnTo>
                    <a:pt x="1372" y="903"/>
                  </a:lnTo>
                  <a:lnTo>
                    <a:pt x="1372" y="913"/>
                  </a:lnTo>
                  <a:lnTo>
                    <a:pt x="1369" y="923"/>
                  </a:lnTo>
                  <a:lnTo>
                    <a:pt x="1367" y="933"/>
                  </a:lnTo>
                  <a:lnTo>
                    <a:pt x="1364" y="943"/>
                  </a:lnTo>
                  <a:lnTo>
                    <a:pt x="1364" y="950"/>
                  </a:lnTo>
                  <a:lnTo>
                    <a:pt x="1362" y="960"/>
                  </a:lnTo>
                  <a:lnTo>
                    <a:pt x="1359" y="970"/>
                  </a:lnTo>
                  <a:lnTo>
                    <a:pt x="1357" y="980"/>
                  </a:lnTo>
                  <a:lnTo>
                    <a:pt x="1355" y="987"/>
                  </a:lnTo>
                  <a:lnTo>
                    <a:pt x="1352" y="997"/>
                  </a:lnTo>
                  <a:lnTo>
                    <a:pt x="1350" y="1005"/>
                  </a:lnTo>
                  <a:lnTo>
                    <a:pt x="1347" y="1014"/>
                  </a:lnTo>
                  <a:lnTo>
                    <a:pt x="1345" y="1024"/>
                  </a:lnTo>
                  <a:lnTo>
                    <a:pt x="1342" y="1032"/>
                  </a:lnTo>
                  <a:lnTo>
                    <a:pt x="1340" y="1042"/>
                  </a:lnTo>
                  <a:lnTo>
                    <a:pt x="1335" y="1052"/>
                  </a:lnTo>
                  <a:lnTo>
                    <a:pt x="1335" y="1059"/>
                  </a:lnTo>
                  <a:lnTo>
                    <a:pt x="1330" y="1067"/>
                  </a:lnTo>
                  <a:lnTo>
                    <a:pt x="1325" y="1077"/>
                  </a:lnTo>
                  <a:lnTo>
                    <a:pt x="1322" y="1084"/>
                  </a:lnTo>
                  <a:lnTo>
                    <a:pt x="1317" y="1094"/>
                  </a:lnTo>
                  <a:lnTo>
                    <a:pt x="1315" y="1099"/>
                  </a:lnTo>
                  <a:lnTo>
                    <a:pt x="1310" y="1109"/>
                  </a:lnTo>
                  <a:lnTo>
                    <a:pt x="1305" y="1116"/>
                  </a:lnTo>
                  <a:lnTo>
                    <a:pt x="1302" y="1124"/>
                  </a:lnTo>
                  <a:lnTo>
                    <a:pt x="1297" y="1131"/>
                  </a:lnTo>
                  <a:lnTo>
                    <a:pt x="1292" y="1141"/>
                  </a:lnTo>
                  <a:lnTo>
                    <a:pt x="1288" y="1148"/>
                  </a:lnTo>
                  <a:lnTo>
                    <a:pt x="1283" y="1156"/>
                  </a:lnTo>
                  <a:lnTo>
                    <a:pt x="1278" y="1163"/>
                  </a:lnTo>
                  <a:lnTo>
                    <a:pt x="1273" y="1171"/>
                  </a:lnTo>
                  <a:lnTo>
                    <a:pt x="1268" y="1178"/>
                  </a:lnTo>
                  <a:lnTo>
                    <a:pt x="1263" y="1188"/>
                  </a:lnTo>
                  <a:lnTo>
                    <a:pt x="1255" y="1193"/>
                  </a:lnTo>
                  <a:lnTo>
                    <a:pt x="1250" y="1201"/>
                  </a:lnTo>
                  <a:lnTo>
                    <a:pt x="1245" y="1208"/>
                  </a:lnTo>
                  <a:lnTo>
                    <a:pt x="1238" y="1215"/>
                  </a:lnTo>
                  <a:lnTo>
                    <a:pt x="1233" y="1223"/>
                  </a:lnTo>
                  <a:lnTo>
                    <a:pt x="1228" y="1230"/>
                  </a:lnTo>
                  <a:lnTo>
                    <a:pt x="1221" y="1238"/>
                  </a:lnTo>
                  <a:lnTo>
                    <a:pt x="1216" y="1245"/>
                  </a:lnTo>
                  <a:lnTo>
                    <a:pt x="1208" y="1250"/>
                  </a:lnTo>
                  <a:lnTo>
                    <a:pt x="1201" y="1258"/>
                  </a:lnTo>
                  <a:lnTo>
                    <a:pt x="1193" y="1265"/>
                  </a:lnTo>
                  <a:lnTo>
                    <a:pt x="1186" y="1273"/>
                  </a:lnTo>
                  <a:lnTo>
                    <a:pt x="1178" y="1278"/>
                  </a:lnTo>
                  <a:lnTo>
                    <a:pt x="1173" y="1285"/>
                  </a:lnTo>
                  <a:lnTo>
                    <a:pt x="1166" y="1292"/>
                  </a:lnTo>
                  <a:lnTo>
                    <a:pt x="1159" y="1300"/>
                  </a:lnTo>
                  <a:lnTo>
                    <a:pt x="1149" y="1305"/>
                  </a:lnTo>
                  <a:lnTo>
                    <a:pt x="1141" y="1310"/>
                  </a:lnTo>
                  <a:lnTo>
                    <a:pt x="1131" y="1317"/>
                  </a:lnTo>
                  <a:lnTo>
                    <a:pt x="1124" y="1322"/>
                  </a:lnTo>
                  <a:lnTo>
                    <a:pt x="1114" y="1327"/>
                  </a:lnTo>
                  <a:lnTo>
                    <a:pt x="1106" y="1335"/>
                  </a:lnTo>
                  <a:lnTo>
                    <a:pt x="1097" y="1340"/>
                  </a:lnTo>
                  <a:lnTo>
                    <a:pt x="1089" y="1347"/>
                  </a:lnTo>
                  <a:lnTo>
                    <a:pt x="1079" y="1349"/>
                  </a:lnTo>
                  <a:lnTo>
                    <a:pt x="1069" y="1357"/>
                  </a:lnTo>
                  <a:lnTo>
                    <a:pt x="1059" y="1359"/>
                  </a:lnTo>
                  <a:lnTo>
                    <a:pt x="1052" y="1367"/>
                  </a:lnTo>
                  <a:lnTo>
                    <a:pt x="1042" y="1369"/>
                  </a:lnTo>
                  <a:lnTo>
                    <a:pt x="1032" y="1377"/>
                  </a:lnTo>
                  <a:lnTo>
                    <a:pt x="1025" y="1382"/>
                  </a:lnTo>
                  <a:lnTo>
                    <a:pt x="1015" y="1387"/>
                  </a:lnTo>
                  <a:lnTo>
                    <a:pt x="1005" y="1389"/>
                  </a:lnTo>
                  <a:lnTo>
                    <a:pt x="995" y="1394"/>
                  </a:lnTo>
                  <a:lnTo>
                    <a:pt x="982" y="1397"/>
                  </a:lnTo>
                  <a:lnTo>
                    <a:pt x="975" y="1402"/>
                  </a:lnTo>
                  <a:lnTo>
                    <a:pt x="965" y="1407"/>
                  </a:lnTo>
                  <a:lnTo>
                    <a:pt x="953" y="1409"/>
                  </a:lnTo>
                  <a:lnTo>
                    <a:pt x="945" y="1414"/>
                  </a:lnTo>
                  <a:lnTo>
                    <a:pt x="935" y="1419"/>
                  </a:lnTo>
                  <a:lnTo>
                    <a:pt x="925" y="1421"/>
                  </a:lnTo>
                  <a:lnTo>
                    <a:pt x="915" y="1424"/>
                  </a:lnTo>
                  <a:lnTo>
                    <a:pt x="903" y="1426"/>
                  </a:lnTo>
                  <a:lnTo>
                    <a:pt x="896" y="1431"/>
                  </a:lnTo>
                  <a:lnTo>
                    <a:pt x="886" y="1434"/>
                  </a:lnTo>
                  <a:lnTo>
                    <a:pt x="876" y="1436"/>
                  </a:lnTo>
                  <a:lnTo>
                    <a:pt x="866" y="1441"/>
                  </a:lnTo>
                  <a:lnTo>
                    <a:pt x="856" y="1444"/>
                  </a:lnTo>
                  <a:lnTo>
                    <a:pt x="846" y="1446"/>
                  </a:lnTo>
                  <a:lnTo>
                    <a:pt x="836" y="1449"/>
                  </a:lnTo>
                  <a:lnTo>
                    <a:pt x="826" y="1449"/>
                  </a:lnTo>
                  <a:lnTo>
                    <a:pt x="816" y="1454"/>
                  </a:lnTo>
                  <a:lnTo>
                    <a:pt x="806" y="1454"/>
                  </a:lnTo>
                  <a:lnTo>
                    <a:pt x="796" y="1456"/>
                  </a:lnTo>
                  <a:lnTo>
                    <a:pt x="786" y="1459"/>
                  </a:lnTo>
                  <a:lnTo>
                    <a:pt x="779" y="1461"/>
                  </a:lnTo>
                  <a:lnTo>
                    <a:pt x="769" y="1461"/>
                  </a:lnTo>
                  <a:lnTo>
                    <a:pt x="759" y="1464"/>
                  </a:lnTo>
                  <a:lnTo>
                    <a:pt x="749" y="1466"/>
                  </a:lnTo>
                  <a:lnTo>
                    <a:pt x="742" y="1466"/>
                  </a:lnTo>
                  <a:lnTo>
                    <a:pt x="732" y="1469"/>
                  </a:lnTo>
                  <a:lnTo>
                    <a:pt x="724" y="1469"/>
                  </a:lnTo>
                  <a:lnTo>
                    <a:pt x="715" y="1471"/>
                  </a:lnTo>
                  <a:lnTo>
                    <a:pt x="707" y="1474"/>
                  </a:lnTo>
                  <a:lnTo>
                    <a:pt x="697" y="1474"/>
                  </a:lnTo>
                  <a:lnTo>
                    <a:pt x="690" y="1474"/>
                  </a:lnTo>
                  <a:lnTo>
                    <a:pt x="682" y="1474"/>
                  </a:lnTo>
                  <a:lnTo>
                    <a:pt x="672" y="1474"/>
                  </a:lnTo>
                  <a:lnTo>
                    <a:pt x="665" y="1474"/>
                  </a:lnTo>
                  <a:lnTo>
                    <a:pt x="658" y="1476"/>
                  </a:lnTo>
                  <a:lnTo>
                    <a:pt x="650" y="1476"/>
                  </a:lnTo>
                  <a:lnTo>
                    <a:pt x="643" y="1476"/>
                  </a:lnTo>
                  <a:lnTo>
                    <a:pt x="635" y="1476"/>
                  </a:lnTo>
                  <a:lnTo>
                    <a:pt x="630" y="1476"/>
                  </a:lnTo>
                  <a:lnTo>
                    <a:pt x="623" y="1476"/>
                  </a:lnTo>
                  <a:lnTo>
                    <a:pt x="618" y="1476"/>
                  </a:lnTo>
                  <a:lnTo>
                    <a:pt x="610" y="1476"/>
                  </a:lnTo>
                  <a:lnTo>
                    <a:pt x="603" y="1476"/>
                  </a:lnTo>
                  <a:lnTo>
                    <a:pt x="598" y="1476"/>
                  </a:lnTo>
                  <a:lnTo>
                    <a:pt x="593" y="1476"/>
                  </a:lnTo>
                  <a:lnTo>
                    <a:pt x="588" y="1476"/>
                  </a:lnTo>
                  <a:lnTo>
                    <a:pt x="581" y="1474"/>
                  </a:lnTo>
                  <a:lnTo>
                    <a:pt x="576" y="1474"/>
                  </a:lnTo>
                  <a:lnTo>
                    <a:pt x="571" y="1474"/>
                  </a:lnTo>
                  <a:lnTo>
                    <a:pt x="561" y="1471"/>
                  </a:lnTo>
                  <a:lnTo>
                    <a:pt x="551" y="1471"/>
                  </a:lnTo>
                  <a:lnTo>
                    <a:pt x="541" y="1469"/>
                  </a:lnTo>
                  <a:lnTo>
                    <a:pt x="533" y="1466"/>
                  </a:lnTo>
                  <a:lnTo>
                    <a:pt x="526" y="1464"/>
                  </a:lnTo>
                  <a:lnTo>
                    <a:pt x="519" y="1464"/>
                  </a:lnTo>
                  <a:lnTo>
                    <a:pt x="511" y="1461"/>
                  </a:lnTo>
                  <a:lnTo>
                    <a:pt x="506" y="1459"/>
                  </a:lnTo>
                  <a:lnTo>
                    <a:pt x="499" y="1456"/>
                  </a:lnTo>
                  <a:lnTo>
                    <a:pt x="491" y="1454"/>
                  </a:lnTo>
                  <a:lnTo>
                    <a:pt x="481" y="1451"/>
                  </a:lnTo>
                  <a:lnTo>
                    <a:pt x="474" y="1449"/>
                  </a:lnTo>
                  <a:lnTo>
                    <a:pt x="464" y="1444"/>
                  </a:lnTo>
                  <a:lnTo>
                    <a:pt x="459" y="1439"/>
                  </a:lnTo>
                  <a:lnTo>
                    <a:pt x="452" y="1436"/>
                  </a:lnTo>
                  <a:lnTo>
                    <a:pt x="447" y="1436"/>
                  </a:lnTo>
                  <a:lnTo>
                    <a:pt x="437" y="1434"/>
                  </a:lnTo>
                  <a:lnTo>
                    <a:pt x="427" y="1436"/>
                  </a:lnTo>
                  <a:lnTo>
                    <a:pt x="419" y="1441"/>
                  </a:lnTo>
                  <a:lnTo>
                    <a:pt x="417" y="1449"/>
                  </a:lnTo>
                  <a:lnTo>
                    <a:pt x="417" y="1454"/>
                  </a:lnTo>
                  <a:lnTo>
                    <a:pt x="422" y="1461"/>
                  </a:lnTo>
                  <a:lnTo>
                    <a:pt x="422" y="1466"/>
                  </a:lnTo>
                  <a:lnTo>
                    <a:pt x="427" y="1469"/>
                  </a:lnTo>
                  <a:lnTo>
                    <a:pt x="432" y="1474"/>
                  </a:lnTo>
                  <a:lnTo>
                    <a:pt x="437" y="1476"/>
                  </a:lnTo>
                  <a:lnTo>
                    <a:pt x="442" y="1481"/>
                  </a:lnTo>
                  <a:lnTo>
                    <a:pt x="449" y="1486"/>
                  </a:lnTo>
                  <a:lnTo>
                    <a:pt x="457" y="1488"/>
                  </a:lnTo>
                  <a:lnTo>
                    <a:pt x="467" y="1493"/>
                  </a:lnTo>
                  <a:lnTo>
                    <a:pt x="467" y="1493"/>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5964480" y="2657520"/>
              <a:ext cx="803160" cy="1299960"/>
            </a:xfrm>
            <a:custGeom>
              <a:avLst/>
              <a:gdLst/>
              <a:ahLst/>
              <a:rect l="l" t="t" r="r" b="b"/>
              <a:pathLst>
                <a:path w="506" h="819">
                  <a:moveTo>
                    <a:pt x="488" y="812"/>
                  </a:moveTo>
                  <a:lnTo>
                    <a:pt x="488" y="812"/>
                  </a:lnTo>
                  <a:lnTo>
                    <a:pt x="491" y="809"/>
                  </a:lnTo>
                  <a:lnTo>
                    <a:pt x="491" y="804"/>
                  </a:lnTo>
                  <a:lnTo>
                    <a:pt x="496" y="797"/>
                  </a:lnTo>
                  <a:lnTo>
                    <a:pt x="496" y="789"/>
                  </a:lnTo>
                  <a:lnTo>
                    <a:pt x="498" y="779"/>
                  </a:lnTo>
                  <a:lnTo>
                    <a:pt x="501" y="774"/>
                  </a:lnTo>
                  <a:lnTo>
                    <a:pt x="501" y="769"/>
                  </a:lnTo>
                  <a:lnTo>
                    <a:pt x="501" y="764"/>
                  </a:lnTo>
                  <a:lnTo>
                    <a:pt x="503" y="757"/>
                  </a:lnTo>
                  <a:lnTo>
                    <a:pt x="503" y="752"/>
                  </a:lnTo>
                  <a:lnTo>
                    <a:pt x="503" y="745"/>
                  </a:lnTo>
                  <a:lnTo>
                    <a:pt x="503" y="737"/>
                  </a:lnTo>
                  <a:lnTo>
                    <a:pt x="506" y="730"/>
                  </a:lnTo>
                  <a:lnTo>
                    <a:pt x="503" y="722"/>
                  </a:lnTo>
                  <a:lnTo>
                    <a:pt x="503" y="715"/>
                  </a:lnTo>
                  <a:lnTo>
                    <a:pt x="503" y="707"/>
                  </a:lnTo>
                  <a:lnTo>
                    <a:pt x="501" y="700"/>
                  </a:lnTo>
                  <a:lnTo>
                    <a:pt x="501" y="690"/>
                  </a:lnTo>
                  <a:lnTo>
                    <a:pt x="498" y="680"/>
                  </a:lnTo>
                  <a:lnTo>
                    <a:pt x="496" y="673"/>
                  </a:lnTo>
                  <a:lnTo>
                    <a:pt x="493" y="663"/>
                  </a:lnTo>
                  <a:lnTo>
                    <a:pt x="488" y="655"/>
                  </a:lnTo>
                  <a:lnTo>
                    <a:pt x="486" y="645"/>
                  </a:lnTo>
                  <a:lnTo>
                    <a:pt x="481" y="635"/>
                  </a:lnTo>
                  <a:lnTo>
                    <a:pt x="478" y="625"/>
                  </a:lnTo>
                  <a:lnTo>
                    <a:pt x="473" y="620"/>
                  </a:lnTo>
                  <a:lnTo>
                    <a:pt x="471" y="616"/>
                  </a:lnTo>
                  <a:lnTo>
                    <a:pt x="466" y="608"/>
                  </a:lnTo>
                  <a:lnTo>
                    <a:pt x="464" y="601"/>
                  </a:lnTo>
                  <a:lnTo>
                    <a:pt x="459" y="593"/>
                  </a:lnTo>
                  <a:lnTo>
                    <a:pt x="454" y="586"/>
                  </a:lnTo>
                  <a:lnTo>
                    <a:pt x="449" y="576"/>
                  </a:lnTo>
                  <a:lnTo>
                    <a:pt x="444" y="568"/>
                  </a:lnTo>
                  <a:lnTo>
                    <a:pt x="439" y="558"/>
                  </a:lnTo>
                  <a:lnTo>
                    <a:pt x="434" y="549"/>
                  </a:lnTo>
                  <a:lnTo>
                    <a:pt x="426" y="539"/>
                  </a:lnTo>
                  <a:lnTo>
                    <a:pt x="421" y="529"/>
                  </a:lnTo>
                  <a:lnTo>
                    <a:pt x="414" y="516"/>
                  </a:lnTo>
                  <a:lnTo>
                    <a:pt x="406" y="506"/>
                  </a:lnTo>
                  <a:lnTo>
                    <a:pt x="402" y="494"/>
                  </a:lnTo>
                  <a:lnTo>
                    <a:pt x="394" y="482"/>
                  </a:lnTo>
                  <a:lnTo>
                    <a:pt x="387" y="469"/>
                  </a:lnTo>
                  <a:lnTo>
                    <a:pt x="379" y="457"/>
                  </a:lnTo>
                  <a:lnTo>
                    <a:pt x="372" y="444"/>
                  </a:lnTo>
                  <a:lnTo>
                    <a:pt x="364" y="432"/>
                  </a:lnTo>
                  <a:lnTo>
                    <a:pt x="357" y="419"/>
                  </a:lnTo>
                  <a:lnTo>
                    <a:pt x="349" y="405"/>
                  </a:lnTo>
                  <a:lnTo>
                    <a:pt x="342" y="392"/>
                  </a:lnTo>
                  <a:lnTo>
                    <a:pt x="335" y="380"/>
                  </a:lnTo>
                  <a:lnTo>
                    <a:pt x="325" y="365"/>
                  </a:lnTo>
                  <a:lnTo>
                    <a:pt x="317" y="352"/>
                  </a:lnTo>
                  <a:lnTo>
                    <a:pt x="310" y="338"/>
                  </a:lnTo>
                  <a:lnTo>
                    <a:pt x="300" y="325"/>
                  </a:lnTo>
                  <a:lnTo>
                    <a:pt x="292" y="310"/>
                  </a:lnTo>
                  <a:lnTo>
                    <a:pt x="285" y="298"/>
                  </a:lnTo>
                  <a:lnTo>
                    <a:pt x="275" y="283"/>
                  </a:lnTo>
                  <a:lnTo>
                    <a:pt x="268" y="271"/>
                  </a:lnTo>
                  <a:lnTo>
                    <a:pt x="258" y="258"/>
                  </a:lnTo>
                  <a:lnTo>
                    <a:pt x="250" y="243"/>
                  </a:lnTo>
                  <a:lnTo>
                    <a:pt x="243" y="231"/>
                  </a:lnTo>
                  <a:lnTo>
                    <a:pt x="233" y="218"/>
                  </a:lnTo>
                  <a:lnTo>
                    <a:pt x="225" y="206"/>
                  </a:lnTo>
                  <a:lnTo>
                    <a:pt x="215" y="191"/>
                  </a:lnTo>
                  <a:lnTo>
                    <a:pt x="208" y="179"/>
                  </a:lnTo>
                  <a:lnTo>
                    <a:pt x="201" y="169"/>
                  </a:lnTo>
                  <a:lnTo>
                    <a:pt x="191" y="156"/>
                  </a:lnTo>
                  <a:lnTo>
                    <a:pt x="186" y="144"/>
                  </a:lnTo>
                  <a:lnTo>
                    <a:pt x="176" y="132"/>
                  </a:lnTo>
                  <a:lnTo>
                    <a:pt x="168" y="122"/>
                  </a:lnTo>
                  <a:lnTo>
                    <a:pt x="161" y="109"/>
                  </a:lnTo>
                  <a:lnTo>
                    <a:pt x="153" y="99"/>
                  </a:lnTo>
                  <a:lnTo>
                    <a:pt x="149" y="89"/>
                  </a:lnTo>
                  <a:lnTo>
                    <a:pt x="141" y="79"/>
                  </a:lnTo>
                  <a:lnTo>
                    <a:pt x="134" y="70"/>
                  </a:lnTo>
                  <a:lnTo>
                    <a:pt x="126" y="60"/>
                  </a:lnTo>
                  <a:lnTo>
                    <a:pt x="121" y="52"/>
                  </a:lnTo>
                  <a:lnTo>
                    <a:pt x="116" y="45"/>
                  </a:lnTo>
                  <a:lnTo>
                    <a:pt x="109" y="37"/>
                  </a:lnTo>
                  <a:lnTo>
                    <a:pt x="104" y="32"/>
                  </a:lnTo>
                  <a:lnTo>
                    <a:pt x="99" y="25"/>
                  </a:lnTo>
                  <a:lnTo>
                    <a:pt x="96" y="20"/>
                  </a:lnTo>
                  <a:lnTo>
                    <a:pt x="87" y="10"/>
                  </a:lnTo>
                  <a:lnTo>
                    <a:pt x="79" y="5"/>
                  </a:lnTo>
                  <a:lnTo>
                    <a:pt x="72" y="0"/>
                  </a:lnTo>
                  <a:lnTo>
                    <a:pt x="69" y="0"/>
                  </a:lnTo>
                  <a:lnTo>
                    <a:pt x="62" y="3"/>
                  </a:lnTo>
                  <a:lnTo>
                    <a:pt x="54" y="8"/>
                  </a:lnTo>
                  <a:lnTo>
                    <a:pt x="47" y="12"/>
                  </a:lnTo>
                  <a:lnTo>
                    <a:pt x="44" y="20"/>
                  </a:lnTo>
                  <a:lnTo>
                    <a:pt x="39" y="25"/>
                  </a:lnTo>
                  <a:lnTo>
                    <a:pt x="37" y="32"/>
                  </a:lnTo>
                  <a:lnTo>
                    <a:pt x="32" y="37"/>
                  </a:lnTo>
                  <a:lnTo>
                    <a:pt x="29" y="47"/>
                  </a:lnTo>
                  <a:lnTo>
                    <a:pt x="25" y="57"/>
                  </a:lnTo>
                  <a:lnTo>
                    <a:pt x="22" y="67"/>
                  </a:lnTo>
                  <a:lnTo>
                    <a:pt x="20" y="77"/>
                  </a:lnTo>
                  <a:lnTo>
                    <a:pt x="15" y="87"/>
                  </a:lnTo>
                  <a:lnTo>
                    <a:pt x="12" y="94"/>
                  </a:lnTo>
                  <a:lnTo>
                    <a:pt x="12" y="99"/>
                  </a:lnTo>
                  <a:lnTo>
                    <a:pt x="10" y="107"/>
                  </a:lnTo>
                  <a:lnTo>
                    <a:pt x="10" y="112"/>
                  </a:lnTo>
                  <a:lnTo>
                    <a:pt x="7" y="119"/>
                  </a:lnTo>
                  <a:lnTo>
                    <a:pt x="7" y="124"/>
                  </a:lnTo>
                  <a:lnTo>
                    <a:pt x="5" y="132"/>
                  </a:lnTo>
                  <a:lnTo>
                    <a:pt x="5" y="137"/>
                  </a:lnTo>
                  <a:lnTo>
                    <a:pt x="2" y="144"/>
                  </a:lnTo>
                  <a:lnTo>
                    <a:pt x="2" y="151"/>
                  </a:lnTo>
                  <a:lnTo>
                    <a:pt x="2" y="156"/>
                  </a:lnTo>
                  <a:lnTo>
                    <a:pt x="2" y="164"/>
                  </a:lnTo>
                  <a:lnTo>
                    <a:pt x="2" y="171"/>
                  </a:lnTo>
                  <a:lnTo>
                    <a:pt x="0" y="179"/>
                  </a:lnTo>
                  <a:lnTo>
                    <a:pt x="0" y="186"/>
                  </a:lnTo>
                  <a:lnTo>
                    <a:pt x="0" y="194"/>
                  </a:lnTo>
                  <a:lnTo>
                    <a:pt x="0" y="201"/>
                  </a:lnTo>
                  <a:lnTo>
                    <a:pt x="0" y="209"/>
                  </a:lnTo>
                  <a:lnTo>
                    <a:pt x="0" y="216"/>
                  </a:lnTo>
                  <a:lnTo>
                    <a:pt x="0" y="226"/>
                  </a:lnTo>
                  <a:lnTo>
                    <a:pt x="0" y="233"/>
                  </a:lnTo>
                  <a:lnTo>
                    <a:pt x="0" y="241"/>
                  </a:lnTo>
                  <a:lnTo>
                    <a:pt x="2" y="248"/>
                  </a:lnTo>
                  <a:lnTo>
                    <a:pt x="2" y="258"/>
                  </a:lnTo>
                  <a:lnTo>
                    <a:pt x="2" y="266"/>
                  </a:lnTo>
                  <a:lnTo>
                    <a:pt x="2" y="273"/>
                  </a:lnTo>
                  <a:lnTo>
                    <a:pt x="5" y="283"/>
                  </a:lnTo>
                  <a:lnTo>
                    <a:pt x="7" y="290"/>
                  </a:lnTo>
                  <a:lnTo>
                    <a:pt x="7" y="300"/>
                  </a:lnTo>
                  <a:lnTo>
                    <a:pt x="7" y="308"/>
                  </a:lnTo>
                  <a:lnTo>
                    <a:pt x="10" y="315"/>
                  </a:lnTo>
                  <a:lnTo>
                    <a:pt x="12" y="325"/>
                  </a:lnTo>
                  <a:lnTo>
                    <a:pt x="12" y="333"/>
                  </a:lnTo>
                  <a:lnTo>
                    <a:pt x="15" y="343"/>
                  </a:lnTo>
                  <a:lnTo>
                    <a:pt x="20" y="352"/>
                  </a:lnTo>
                  <a:lnTo>
                    <a:pt x="22" y="360"/>
                  </a:lnTo>
                  <a:lnTo>
                    <a:pt x="25" y="367"/>
                  </a:lnTo>
                  <a:lnTo>
                    <a:pt x="25" y="377"/>
                  </a:lnTo>
                  <a:lnTo>
                    <a:pt x="27" y="385"/>
                  </a:lnTo>
                  <a:lnTo>
                    <a:pt x="29" y="395"/>
                  </a:lnTo>
                  <a:lnTo>
                    <a:pt x="32" y="402"/>
                  </a:lnTo>
                  <a:lnTo>
                    <a:pt x="34" y="410"/>
                  </a:lnTo>
                  <a:lnTo>
                    <a:pt x="37" y="417"/>
                  </a:lnTo>
                  <a:lnTo>
                    <a:pt x="39" y="427"/>
                  </a:lnTo>
                  <a:lnTo>
                    <a:pt x="42" y="432"/>
                  </a:lnTo>
                  <a:lnTo>
                    <a:pt x="44" y="439"/>
                  </a:lnTo>
                  <a:lnTo>
                    <a:pt x="47" y="447"/>
                  </a:lnTo>
                  <a:lnTo>
                    <a:pt x="49" y="454"/>
                  </a:lnTo>
                  <a:lnTo>
                    <a:pt x="52" y="462"/>
                  </a:lnTo>
                  <a:lnTo>
                    <a:pt x="54" y="469"/>
                  </a:lnTo>
                  <a:lnTo>
                    <a:pt x="57" y="474"/>
                  </a:lnTo>
                  <a:lnTo>
                    <a:pt x="59" y="482"/>
                  </a:lnTo>
                  <a:lnTo>
                    <a:pt x="62" y="489"/>
                  </a:lnTo>
                  <a:lnTo>
                    <a:pt x="64" y="494"/>
                  </a:lnTo>
                  <a:lnTo>
                    <a:pt x="67" y="501"/>
                  </a:lnTo>
                  <a:lnTo>
                    <a:pt x="69" y="506"/>
                  </a:lnTo>
                  <a:lnTo>
                    <a:pt x="72" y="514"/>
                  </a:lnTo>
                  <a:lnTo>
                    <a:pt x="74" y="519"/>
                  </a:lnTo>
                  <a:lnTo>
                    <a:pt x="79" y="526"/>
                  </a:lnTo>
                  <a:lnTo>
                    <a:pt x="82" y="531"/>
                  </a:lnTo>
                  <a:lnTo>
                    <a:pt x="84" y="536"/>
                  </a:lnTo>
                  <a:lnTo>
                    <a:pt x="87" y="544"/>
                  </a:lnTo>
                  <a:lnTo>
                    <a:pt x="89" y="549"/>
                  </a:lnTo>
                  <a:lnTo>
                    <a:pt x="91" y="553"/>
                  </a:lnTo>
                  <a:lnTo>
                    <a:pt x="96" y="566"/>
                  </a:lnTo>
                  <a:lnTo>
                    <a:pt x="104" y="576"/>
                  </a:lnTo>
                  <a:lnTo>
                    <a:pt x="109" y="586"/>
                  </a:lnTo>
                  <a:lnTo>
                    <a:pt x="114" y="596"/>
                  </a:lnTo>
                  <a:lnTo>
                    <a:pt x="119" y="603"/>
                  </a:lnTo>
                  <a:lnTo>
                    <a:pt x="126" y="613"/>
                  </a:lnTo>
                  <a:lnTo>
                    <a:pt x="131" y="620"/>
                  </a:lnTo>
                  <a:lnTo>
                    <a:pt x="139" y="628"/>
                  </a:lnTo>
                  <a:lnTo>
                    <a:pt x="144" y="638"/>
                  </a:lnTo>
                  <a:lnTo>
                    <a:pt x="151" y="645"/>
                  </a:lnTo>
                  <a:lnTo>
                    <a:pt x="158" y="653"/>
                  </a:lnTo>
                  <a:lnTo>
                    <a:pt x="163" y="660"/>
                  </a:lnTo>
                  <a:lnTo>
                    <a:pt x="171" y="665"/>
                  </a:lnTo>
                  <a:lnTo>
                    <a:pt x="178" y="673"/>
                  </a:lnTo>
                  <a:lnTo>
                    <a:pt x="183" y="680"/>
                  </a:lnTo>
                  <a:lnTo>
                    <a:pt x="191" y="685"/>
                  </a:lnTo>
                  <a:lnTo>
                    <a:pt x="198" y="692"/>
                  </a:lnTo>
                  <a:lnTo>
                    <a:pt x="208" y="697"/>
                  </a:lnTo>
                  <a:lnTo>
                    <a:pt x="213" y="702"/>
                  </a:lnTo>
                  <a:lnTo>
                    <a:pt x="220" y="707"/>
                  </a:lnTo>
                  <a:lnTo>
                    <a:pt x="228" y="712"/>
                  </a:lnTo>
                  <a:lnTo>
                    <a:pt x="238" y="720"/>
                  </a:lnTo>
                  <a:lnTo>
                    <a:pt x="245" y="725"/>
                  </a:lnTo>
                  <a:lnTo>
                    <a:pt x="255" y="730"/>
                  </a:lnTo>
                  <a:lnTo>
                    <a:pt x="263" y="735"/>
                  </a:lnTo>
                  <a:lnTo>
                    <a:pt x="273" y="740"/>
                  </a:lnTo>
                  <a:lnTo>
                    <a:pt x="280" y="745"/>
                  </a:lnTo>
                  <a:lnTo>
                    <a:pt x="287" y="752"/>
                  </a:lnTo>
                  <a:lnTo>
                    <a:pt x="297" y="754"/>
                  </a:lnTo>
                  <a:lnTo>
                    <a:pt x="305" y="762"/>
                  </a:lnTo>
                  <a:lnTo>
                    <a:pt x="315" y="764"/>
                  </a:lnTo>
                  <a:lnTo>
                    <a:pt x="322" y="769"/>
                  </a:lnTo>
                  <a:lnTo>
                    <a:pt x="330" y="774"/>
                  </a:lnTo>
                  <a:lnTo>
                    <a:pt x="340" y="779"/>
                  </a:lnTo>
                  <a:lnTo>
                    <a:pt x="347" y="782"/>
                  </a:lnTo>
                  <a:lnTo>
                    <a:pt x="352" y="787"/>
                  </a:lnTo>
                  <a:lnTo>
                    <a:pt x="359" y="792"/>
                  </a:lnTo>
                  <a:lnTo>
                    <a:pt x="367" y="794"/>
                  </a:lnTo>
                  <a:lnTo>
                    <a:pt x="372" y="799"/>
                  </a:lnTo>
                  <a:lnTo>
                    <a:pt x="379" y="802"/>
                  </a:lnTo>
                  <a:lnTo>
                    <a:pt x="384" y="804"/>
                  </a:lnTo>
                  <a:lnTo>
                    <a:pt x="389" y="809"/>
                  </a:lnTo>
                  <a:lnTo>
                    <a:pt x="399" y="812"/>
                  </a:lnTo>
                  <a:lnTo>
                    <a:pt x="406" y="817"/>
                  </a:lnTo>
                  <a:lnTo>
                    <a:pt x="409" y="819"/>
                  </a:lnTo>
                  <a:lnTo>
                    <a:pt x="411" y="819"/>
                  </a:lnTo>
                  <a:lnTo>
                    <a:pt x="488" y="812"/>
                  </a:lnTo>
                  <a:lnTo>
                    <a:pt x="488" y="81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6004080" y="2670120"/>
              <a:ext cx="739800" cy="1255680"/>
            </a:xfrm>
            <a:custGeom>
              <a:avLst/>
              <a:gdLst/>
              <a:ahLst/>
              <a:rect l="l" t="t" r="r" b="b"/>
              <a:pathLst>
                <a:path w="466" h="791">
                  <a:moveTo>
                    <a:pt x="456" y="667"/>
                  </a:moveTo>
                  <a:lnTo>
                    <a:pt x="453" y="665"/>
                  </a:lnTo>
                  <a:lnTo>
                    <a:pt x="451" y="660"/>
                  </a:lnTo>
                  <a:lnTo>
                    <a:pt x="448" y="655"/>
                  </a:lnTo>
                  <a:lnTo>
                    <a:pt x="446" y="650"/>
                  </a:lnTo>
                  <a:lnTo>
                    <a:pt x="443" y="642"/>
                  </a:lnTo>
                  <a:lnTo>
                    <a:pt x="441" y="637"/>
                  </a:lnTo>
                  <a:lnTo>
                    <a:pt x="434" y="630"/>
                  </a:lnTo>
                  <a:lnTo>
                    <a:pt x="431" y="622"/>
                  </a:lnTo>
                  <a:lnTo>
                    <a:pt x="426" y="612"/>
                  </a:lnTo>
                  <a:lnTo>
                    <a:pt x="421" y="605"/>
                  </a:lnTo>
                  <a:lnTo>
                    <a:pt x="416" y="595"/>
                  </a:lnTo>
                  <a:lnTo>
                    <a:pt x="409" y="585"/>
                  </a:lnTo>
                  <a:lnTo>
                    <a:pt x="404" y="573"/>
                  </a:lnTo>
                  <a:lnTo>
                    <a:pt x="399" y="563"/>
                  </a:lnTo>
                  <a:lnTo>
                    <a:pt x="391" y="550"/>
                  </a:lnTo>
                  <a:lnTo>
                    <a:pt x="384" y="538"/>
                  </a:lnTo>
                  <a:lnTo>
                    <a:pt x="377" y="526"/>
                  </a:lnTo>
                  <a:lnTo>
                    <a:pt x="369" y="513"/>
                  </a:lnTo>
                  <a:lnTo>
                    <a:pt x="362" y="498"/>
                  </a:lnTo>
                  <a:lnTo>
                    <a:pt x="354" y="486"/>
                  </a:lnTo>
                  <a:lnTo>
                    <a:pt x="344" y="471"/>
                  </a:lnTo>
                  <a:lnTo>
                    <a:pt x="339" y="456"/>
                  </a:lnTo>
                  <a:lnTo>
                    <a:pt x="329" y="441"/>
                  </a:lnTo>
                  <a:lnTo>
                    <a:pt x="322" y="426"/>
                  </a:lnTo>
                  <a:lnTo>
                    <a:pt x="312" y="411"/>
                  </a:lnTo>
                  <a:lnTo>
                    <a:pt x="305" y="397"/>
                  </a:lnTo>
                  <a:lnTo>
                    <a:pt x="295" y="382"/>
                  </a:lnTo>
                  <a:lnTo>
                    <a:pt x="287" y="367"/>
                  </a:lnTo>
                  <a:lnTo>
                    <a:pt x="277" y="349"/>
                  </a:lnTo>
                  <a:lnTo>
                    <a:pt x="270" y="335"/>
                  </a:lnTo>
                  <a:lnTo>
                    <a:pt x="260" y="320"/>
                  </a:lnTo>
                  <a:lnTo>
                    <a:pt x="250" y="305"/>
                  </a:lnTo>
                  <a:lnTo>
                    <a:pt x="243" y="287"/>
                  </a:lnTo>
                  <a:lnTo>
                    <a:pt x="233" y="273"/>
                  </a:lnTo>
                  <a:lnTo>
                    <a:pt x="225" y="258"/>
                  </a:lnTo>
                  <a:lnTo>
                    <a:pt x="215" y="243"/>
                  </a:lnTo>
                  <a:lnTo>
                    <a:pt x="208" y="228"/>
                  </a:lnTo>
                  <a:lnTo>
                    <a:pt x="198" y="213"/>
                  </a:lnTo>
                  <a:lnTo>
                    <a:pt x="190" y="198"/>
                  </a:lnTo>
                  <a:lnTo>
                    <a:pt x="181" y="183"/>
                  </a:lnTo>
                  <a:lnTo>
                    <a:pt x="173" y="168"/>
                  </a:lnTo>
                  <a:lnTo>
                    <a:pt x="166" y="156"/>
                  </a:lnTo>
                  <a:lnTo>
                    <a:pt x="156" y="143"/>
                  </a:lnTo>
                  <a:lnTo>
                    <a:pt x="148" y="131"/>
                  </a:lnTo>
                  <a:lnTo>
                    <a:pt x="141" y="119"/>
                  </a:lnTo>
                  <a:lnTo>
                    <a:pt x="133" y="106"/>
                  </a:lnTo>
                  <a:lnTo>
                    <a:pt x="126" y="94"/>
                  </a:lnTo>
                  <a:lnTo>
                    <a:pt x="119" y="84"/>
                  </a:lnTo>
                  <a:lnTo>
                    <a:pt x="114" y="71"/>
                  </a:lnTo>
                  <a:lnTo>
                    <a:pt x="106" y="64"/>
                  </a:lnTo>
                  <a:lnTo>
                    <a:pt x="101" y="52"/>
                  </a:lnTo>
                  <a:lnTo>
                    <a:pt x="94" y="44"/>
                  </a:lnTo>
                  <a:lnTo>
                    <a:pt x="89" y="34"/>
                  </a:lnTo>
                  <a:lnTo>
                    <a:pt x="84" y="29"/>
                  </a:lnTo>
                  <a:lnTo>
                    <a:pt x="76" y="22"/>
                  </a:lnTo>
                  <a:lnTo>
                    <a:pt x="74" y="17"/>
                  </a:lnTo>
                  <a:lnTo>
                    <a:pt x="69" y="12"/>
                  </a:lnTo>
                  <a:lnTo>
                    <a:pt x="66" y="7"/>
                  </a:lnTo>
                  <a:lnTo>
                    <a:pt x="59" y="2"/>
                  </a:lnTo>
                  <a:lnTo>
                    <a:pt x="57" y="0"/>
                  </a:lnTo>
                  <a:lnTo>
                    <a:pt x="47" y="0"/>
                  </a:lnTo>
                  <a:lnTo>
                    <a:pt x="39" y="7"/>
                  </a:lnTo>
                  <a:lnTo>
                    <a:pt x="34" y="12"/>
                  </a:lnTo>
                  <a:lnTo>
                    <a:pt x="32" y="19"/>
                  </a:lnTo>
                  <a:lnTo>
                    <a:pt x="27" y="29"/>
                  </a:lnTo>
                  <a:lnTo>
                    <a:pt x="24" y="39"/>
                  </a:lnTo>
                  <a:lnTo>
                    <a:pt x="22" y="42"/>
                  </a:lnTo>
                  <a:lnTo>
                    <a:pt x="19" y="49"/>
                  </a:lnTo>
                  <a:lnTo>
                    <a:pt x="17" y="54"/>
                  </a:lnTo>
                  <a:lnTo>
                    <a:pt x="17" y="62"/>
                  </a:lnTo>
                  <a:lnTo>
                    <a:pt x="14" y="67"/>
                  </a:lnTo>
                  <a:lnTo>
                    <a:pt x="12" y="74"/>
                  </a:lnTo>
                  <a:lnTo>
                    <a:pt x="12" y="81"/>
                  </a:lnTo>
                  <a:lnTo>
                    <a:pt x="9" y="89"/>
                  </a:lnTo>
                  <a:lnTo>
                    <a:pt x="7" y="94"/>
                  </a:lnTo>
                  <a:lnTo>
                    <a:pt x="7" y="101"/>
                  </a:lnTo>
                  <a:lnTo>
                    <a:pt x="4" y="109"/>
                  </a:lnTo>
                  <a:lnTo>
                    <a:pt x="4" y="119"/>
                  </a:lnTo>
                  <a:lnTo>
                    <a:pt x="4" y="126"/>
                  </a:lnTo>
                  <a:lnTo>
                    <a:pt x="2" y="136"/>
                  </a:lnTo>
                  <a:lnTo>
                    <a:pt x="2" y="143"/>
                  </a:lnTo>
                  <a:lnTo>
                    <a:pt x="2" y="153"/>
                  </a:lnTo>
                  <a:lnTo>
                    <a:pt x="0" y="161"/>
                  </a:lnTo>
                  <a:lnTo>
                    <a:pt x="0" y="171"/>
                  </a:lnTo>
                  <a:lnTo>
                    <a:pt x="0" y="181"/>
                  </a:lnTo>
                  <a:lnTo>
                    <a:pt x="0" y="191"/>
                  </a:lnTo>
                  <a:lnTo>
                    <a:pt x="0" y="198"/>
                  </a:lnTo>
                  <a:lnTo>
                    <a:pt x="0" y="208"/>
                  </a:lnTo>
                  <a:lnTo>
                    <a:pt x="0" y="218"/>
                  </a:lnTo>
                  <a:lnTo>
                    <a:pt x="0" y="228"/>
                  </a:lnTo>
                  <a:lnTo>
                    <a:pt x="0" y="238"/>
                  </a:lnTo>
                  <a:lnTo>
                    <a:pt x="0" y="248"/>
                  </a:lnTo>
                  <a:lnTo>
                    <a:pt x="0" y="258"/>
                  </a:lnTo>
                  <a:lnTo>
                    <a:pt x="0" y="268"/>
                  </a:lnTo>
                  <a:lnTo>
                    <a:pt x="0" y="277"/>
                  </a:lnTo>
                  <a:lnTo>
                    <a:pt x="2" y="287"/>
                  </a:lnTo>
                  <a:lnTo>
                    <a:pt x="4" y="300"/>
                  </a:lnTo>
                  <a:lnTo>
                    <a:pt x="4" y="310"/>
                  </a:lnTo>
                  <a:lnTo>
                    <a:pt x="7" y="320"/>
                  </a:lnTo>
                  <a:lnTo>
                    <a:pt x="9" y="330"/>
                  </a:lnTo>
                  <a:lnTo>
                    <a:pt x="9" y="340"/>
                  </a:lnTo>
                  <a:lnTo>
                    <a:pt x="12" y="352"/>
                  </a:lnTo>
                  <a:lnTo>
                    <a:pt x="14" y="362"/>
                  </a:lnTo>
                  <a:lnTo>
                    <a:pt x="17" y="372"/>
                  </a:lnTo>
                  <a:lnTo>
                    <a:pt x="19" y="382"/>
                  </a:lnTo>
                  <a:lnTo>
                    <a:pt x="22" y="394"/>
                  </a:lnTo>
                  <a:lnTo>
                    <a:pt x="27" y="402"/>
                  </a:lnTo>
                  <a:lnTo>
                    <a:pt x="29" y="414"/>
                  </a:lnTo>
                  <a:lnTo>
                    <a:pt x="32" y="424"/>
                  </a:lnTo>
                  <a:lnTo>
                    <a:pt x="37" y="434"/>
                  </a:lnTo>
                  <a:lnTo>
                    <a:pt x="42" y="444"/>
                  </a:lnTo>
                  <a:lnTo>
                    <a:pt x="47" y="456"/>
                  </a:lnTo>
                  <a:lnTo>
                    <a:pt x="49" y="464"/>
                  </a:lnTo>
                  <a:lnTo>
                    <a:pt x="57" y="476"/>
                  </a:lnTo>
                  <a:lnTo>
                    <a:pt x="59" y="486"/>
                  </a:lnTo>
                  <a:lnTo>
                    <a:pt x="64" y="493"/>
                  </a:lnTo>
                  <a:lnTo>
                    <a:pt x="69" y="503"/>
                  </a:lnTo>
                  <a:lnTo>
                    <a:pt x="74" y="513"/>
                  </a:lnTo>
                  <a:lnTo>
                    <a:pt x="79" y="521"/>
                  </a:lnTo>
                  <a:lnTo>
                    <a:pt x="84" y="531"/>
                  </a:lnTo>
                  <a:lnTo>
                    <a:pt x="89" y="541"/>
                  </a:lnTo>
                  <a:lnTo>
                    <a:pt x="94" y="548"/>
                  </a:lnTo>
                  <a:lnTo>
                    <a:pt x="96" y="555"/>
                  </a:lnTo>
                  <a:lnTo>
                    <a:pt x="101" y="563"/>
                  </a:lnTo>
                  <a:lnTo>
                    <a:pt x="106" y="573"/>
                  </a:lnTo>
                  <a:lnTo>
                    <a:pt x="111" y="580"/>
                  </a:lnTo>
                  <a:lnTo>
                    <a:pt x="116" y="588"/>
                  </a:lnTo>
                  <a:lnTo>
                    <a:pt x="121" y="595"/>
                  </a:lnTo>
                  <a:lnTo>
                    <a:pt x="126" y="603"/>
                  </a:lnTo>
                  <a:lnTo>
                    <a:pt x="131" y="610"/>
                  </a:lnTo>
                  <a:lnTo>
                    <a:pt x="136" y="617"/>
                  </a:lnTo>
                  <a:lnTo>
                    <a:pt x="138" y="622"/>
                  </a:lnTo>
                  <a:lnTo>
                    <a:pt x="143" y="630"/>
                  </a:lnTo>
                  <a:lnTo>
                    <a:pt x="148" y="635"/>
                  </a:lnTo>
                  <a:lnTo>
                    <a:pt x="153" y="642"/>
                  </a:lnTo>
                  <a:lnTo>
                    <a:pt x="158" y="647"/>
                  </a:lnTo>
                  <a:lnTo>
                    <a:pt x="161" y="655"/>
                  </a:lnTo>
                  <a:lnTo>
                    <a:pt x="166" y="660"/>
                  </a:lnTo>
                  <a:lnTo>
                    <a:pt x="176" y="670"/>
                  </a:lnTo>
                  <a:lnTo>
                    <a:pt x="183" y="682"/>
                  </a:lnTo>
                  <a:lnTo>
                    <a:pt x="190" y="689"/>
                  </a:lnTo>
                  <a:lnTo>
                    <a:pt x="200" y="702"/>
                  </a:lnTo>
                  <a:lnTo>
                    <a:pt x="208" y="707"/>
                  </a:lnTo>
                  <a:lnTo>
                    <a:pt x="215" y="717"/>
                  </a:lnTo>
                  <a:lnTo>
                    <a:pt x="223" y="724"/>
                  </a:lnTo>
                  <a:lnTo>
                    <a:pt x="230" y="732"/>
                  </a:lnTo>
                  <a:lnTo>
                    <a:pt x="238" y="737"/>
                  </a:lnTo>
                  <a:lnTo>
                    <a:pt x="245" y="742"/>
                  </a:lnTo>
                  <a:lnTo>
                    <a:pt x="250" y="746"/>
                  </a:lnTo>
                  <a:lnTo>
                    <a:pt x="257" y="751"/>
                  </a:lnTo>
                  <a:lnTo>
                    <a:pt x="262" y="756"/>
                  </a:lnTo>
                  <a:lnTo>
                    <a:pt x="270" y="759"/>
                  </a:lnTo>
                  <a:lnTo>
                    <a:pt x="275" y="761"/>
                  </a:lnTo>
                  <a:lnTo>
                    <a:pt x="282" y="766"/>
                  </a:lnTo>
                  <a:lnTo>
                    <a:pt x="292" y="771"/>
                  </a:lnTo>
                  <a:lnTo>
                    <a:pt x="300" y="776"/>
                  </a:lnTo>
                  <a:lnTo>
                    <a:pt x="307" y="779"/>
                  </a:lnTo>
                  <a:lnTo>
                    <a:pt x="315" y="781"/>
                  </a:lnTo>
                  <a:lnTo>
                    <a:pt x="324" y="781"/>
                  </a:lnTo>
                  <a:lnTo>
                    <a:pt x="332" y="784"/>
                  </a:lnTo>
                  <a:lnTo>
                    <a:pt x="339" y="786"/>
                  </a:lnTo>
                  <a:lnTo>
                    <a:pt x="347" y="786"/>
                  </a:lnTo>
                  <a:lnTo>
                    <a:pt x="354" y="789"/>
                  </a:lnTo>
                  <a:lnTo>
                    <a:pt x="362" y="791"/>
                  </a:lnTo>
                  <a:lnTo>
                    <a:pt x="369" y="789"/>
                  </a:lnTo>
                  <a:lnTo>
                    <a:pt x="374" y="789"/>
                  </a:lnTo>
                  <a:lnTo>
                    <a:pt x="379" y="786"/>
                  </a:lnTo>
                  <a:lnTo>
                    <a:pt x="381" y="786"/>
                  </a:lnTo>
                  <a:lnTo>
                    <a:pt x="386" y="781"/>
                  </a:lnTo>
                  <a:lnTo>
                    <a:pt x="384" y="771"/>
                  </a:lnTo>
                  <a:lnTo>
                    <a:pt x="379" y="764"/>
                  </a:lnTo>
                  <a:lnTo>
                    <a:pt x="374" y="759"/>
                  </a:lnTo>
                  <a:lnTo>
                    <a:pt x="367" y="754"/>
                  </a:lnTo>
                  <a:lnTo>
                    <a:pt x="359" y="751"/>
                  </a:lnTo>
                  <a:lnTo>
                    <a:pt x="349" y="746"/>
                  </a:lnTo>
                  <a:lnTo>
                    <a:pt x="339" y="744"/>
                  </a:lnTo>
                  <a:lnTo>
                    <a:pt x="329" y="739"/>
                  </a:lnTo>
                  <a:lnTo>
                    <a:pt x="319" y="737"/>
                  </a:lnTo>
                  <a:lnTo>
                    <a:pt x="312" y="732"/>
                  </a:lnTo>
                  <a:lnTo>
                    <a:pt x="307" y="729"/>
                  </a:lnTo>
                  <a:lnTo>
                    <a:pt x="300" y="727"/>
                  </a:lnTo>
                  <a:lnTo>
                    <a:pt x="295" y="724"/>
                  </a:lnTo>
                  <a:lnTo>
                    <a:pt x="287" y="722"/>
                  </a:lnTo>
                  <a:lnTo>
                    <a:pt x="280" y="717"/>
                  </a:lnTo>
                  <a:lnTo>
                    <a:pt x="275" y="714"/>
                  </a:lnTo>
                  <a:lnTo>
                    <a:pt x="267" y="709"/>
                  </a:lnTo>
                  <a:lnTo>
                    <a:pt x="260" y="704"/>
                  </a:lnTo>
                  <a:lnTo>
                    <a:pt x="253" y="699"/>
                  </a:lnTo>
                  <a:lnTo>
                    <a:pt x="248" y="692"/>
                  </a:lnTo>
                  <a:lnTo>
                    <a:pt x="240" y="687"/>
                  </a:lnTo>
                  <a:lnTo>
                    <a:pt x="233" y="679"/>
                  </a:lnTo>
                  <a:lnTo>
                    <a:pt x="225" y="675"/>
                  </a:lnTo>
                  <a:lnTo>
                    <a:pt x="220" y="667"/>
                  </a:lnTo>
                  <a:lnTo>
                    <a:pt x="213" y="660"/>
                  </a:lnTo>
                  <a:lnTo>
                    <a:pt x="205" y="650"/>
                  </a:lnTo>
                  <a:lnTo>
                    <a:pt x="200" y="642"/>
                  </a:lnTo>
                  <a:lnTo>
                    <a:pt x="190" y="630"/>
                  </a:lnTo>
                  <a:lnTo>
                    <a:pt x="186" y="622"/>
                  </a:lnTo>
                  <a:lnTo>
                    <a:pt x="181" y="615"/>
                  </a:lnTo>
                  <a:lnTo>
                    <a:pt x="178" y="610"/>
                  </a:lnTo>
                  <a:lnTo>
                    <a:pt x="173" y="603"/>
                  </a:lnTo>
                  <a:lnTo>
                    <a:pt x="171" y="598"/>
                  </a:lnTo>
                  <a:lnTo>
                    <a:pt x="166" y="593"/>
                  </a:lnTo>
                  <a:lnTo>
                    <a:pt x="163" y="585"/>
                  </a:lnTo>
                  <a:lnTo>
                    <a:pt x="161" y="580"/>
                  </a:lnTo>
                  <a:lnTo>
                    <a:pt x="156" y="575"/>
                  </a:lnTo>
                  <a:lnTo>
                    <a:pt x="153" y="568"/>
                  </a:lnTo>
                  <a:lnTo>
                    <a:pt x="148" y="560"/>
                  </a:lnTo>
                  <a:lnTo>
                    <a:pt x="146" y="555"/>
                  </a:lnTo>
                  <a:lnTo>
                    <a:pt x="143" y="548"/>
                  </a:lnTo>
                  <a:lnTo>
                    <a:pt x="138" y="541"/>
                  </a:lnTo>
                  <a:lnTo>
                    <a:pt x="136" y="536"/>
                  </a:lnTo>
                  <a:lnTo>
                    <a:pt x="131" y="528"/>
                  </a:lnTo>
                  <a:lnTo>
                    <a:pt x="128" y="521"/>
                  </a:lnTo>
                  <a:lnTo>
                    <a:pt x="126" y="516"/>
                  </a:lnTo>
                  <a:lnTo>
                    <a:pt x="121" y="508"/>
                  </a:lnTo>
                  <a:lnTo>
                    <a:pt x="119" y="501"/>
                  </a:lnTo>
                  <a:lnTo>
                    <a:pt x="116" y="493"/>
                  </a:lnTo>
                  <a:lnTo>
                    <a:pt x="114" y="486"/>
                  </a:lnTo>
                  <a:lnTo>
                    <a:pt x="109" y="481"/>
                  </a:lnTo>
                  <a:lnTo>
                    <a:pt x="106" y="474"/>
                  </a:lnTo>
                  <a:lnTo>
                    <a:pt x="104" y="466"/>
                  </a:lnTo>
                  <a:lnTo>
                    <a:pt x="99" y="461"/>
                  </a:lnTo>
                  <a:lnTo>
                    <a:pt x="96" y="454"/>
                  </a:lnTo>
                  <a:lnTo>
                    <a:pt x="94" y="446"/>
                  </a:lnTo>
                  <a:lnTo>
                    <a:pt x="89" y="439"/>
                  </a:lnTo>
                  <a:lnTo>
                    <a:pt x="86" y="431"/>
                  </a:lnTo>
                  <a:lnTo>
                    <a:pt x="84" y="426"/>
                  </a:lnTo>
                  <a:lnTo>
                    <a:pt x="81" y="419"/>
                  </a:lnTo>
                  <a:lnTo>
                    <a:pt x="79" y="414"/>
                  </a:lnTo>
                  <a:lnTo>
                    <a:pt x="76" y="407"/>
                  </a:lnTo>
                  <a:lnTo>
                    <a:pt x="71" y="399"/>
                  </a:lnTo>
                  <a:lnTo>
                    <a:pt x="71" y="392"/>
                  </a:lnTo>
                  <a:lnTo>
                    <a:pt x="69" y="387"/>
                  </a:lnTo>
                  <a:lnTo>
                    <a:pt x="64" y="379"/>
                  </a:lnTo>
                  <a:lnTo>
                    <a:pt x="64" y="374"/>
                  </a:lnTo>
                  <a:lnTo>
                    <a:pt x="62" y="367"/>
                  </a:lnTo>
                  <a:lnTo>
                    <a:pt x="59" y="362"/>
                  </a:lnTo>
                  <a:lnTo>
                    <a:pt x="57" y="354"/>
                  </a:lnTo>
                  <a:lnTo>
                    <a:pt x="54" y="349"/>
                  </a:lnTo>
                  <a:lnTo>
                    <a:pt x="52" y="342"/>
                  </a:lnTo>
                  <a:lnTo>
                    <a:pt x="52" y="337"/>
                  </a:lnTo>
                  <a:lnTo>
                    <a:pt x="47" y="327"/>
                  </a:lnTo>
                  <a:lnTo>
                    <a:pt x="44" y="317"/>
                  </a:lnTo>
                  <a:lnTo>
                    <a:pt x="42" y="307"/>
                  </a:lnTo>
                  <a:lnTo>
                    <a:pt x="39" y="300"/>
                  </a:lnTo>
                  <a:lnTo>
                    <a:pt x="37" y="290"/>
                  </a:lnTo>
                  <a:lnTo>
                    <a:pt x="37" y="282"/>
                  </a:lnTo>
                  <a:lnTo>
                    <a:pt x="34" y="275"/>
                  </a:lnTo>
                  <a:lnTo>
                    <a:pt x="34" y="268"/>
                  </a:lnTo>
                  <a:lnTo>
                    <a:pt x="32" y="258"/>
                  </a:lnTo>
                  <a:lnTo>
                    <a:pt x="32" y="250"/>
                  </a:lnTo>
                  <a:lnTo>
                    <a:pt x="32" y="240"/>
                  </a:lnTo>
                  <a:lnTo>
                    <a:pt x="29" y="233"/>
                  </a:lnTo>
                  <a:lnTo>
                    <a:pt x="29" y="223"/>
                  </a:lnTo>
                  <a:lnTo>
                    <a:pt x="29" y="215"/>
                  </a:lnTo>
                  <a:lnTo>
                    <a:pt x="29" y="203"/>
                  </a:lnTo>
                  <a:lnTo>
                    <a:pt x="29" y="196"/>
                  </a:lnTo>
                  <a:lnTo>
                    <a:pt x="29" y="186"/>
                  </a:lnTo>
                  <a:lnTo>
                    <a:pt x="29" y="176"/>
                  </a:lnTo>
                  <a:lnTo>
                    <a:pt x="29" y="166"/>
                  </a:lnTo>
                  <a:lnTo>
                    <a:pt x="29" y="156"/>
                  </a:lnTo>
                  <a:lnTo>
                    <a:pt x="32" y="148"/>
                  </a:lnTo>
                  <a:lnTo>
                    <a:pt x="32" y="141"/>
                  </a:lnTo>
                  <a:lnTo>
                    <a:pt x="32" y="131"/>
                  </a:lnTo>
                  <a:lnTo>
                    <a:pt x="34" y="121"/>
                  </a:lnTo>
                  <a:lnTo>
                    <a:pt x="34" y="114"/>
                  </a:lnTo>
                  <a:lnTo>
                    <a:pt x="34" y="106"/>
                  </a:lnTo>
                  <a:lnTo>
                    <a:pt x="37" y="99"/>
                  </a:lnTo>
                  <a:lnTo>
                    <a:pt x="39" y="94"/>
                  </a:lnTo>
                  <a:lnTo>
                    <a:pt x="39" y="86"/>
                  </a:lnTo>
                  <a:lnTo>
                    <a:pt x="42" y="81"/>
                  </a:lnTo>
                  <a:lnTo>
                    <a:pt x="47" y="71"/>
                  </a:lnTo>
                  <a:lnTo>
                    <a:pt x="52" y="67"/>
                  </a:lnTo>
                  <a:lnTo>
                    <a:pt x="57" y="64"/>
                  </a:lnTo>
                  <a:lnTo>
                    <a:pt x="62" y="64"/>
                  </a:lnTo>
                  <a:lnTo>
                    <a:pt x="64" y="67"/>
                  </a:lnTo>
                  <a:lnTo>
                    <a:pt x="69" y="71"/>
                  </a:lnTo>
                  <a:lnTo>
                    <a:pt x="74" y="76"/>
                  </a:lnTo>
                  <a:lnTo>
                    <a:pt x="81" y="86"/>
                  </a:lnTo>
                  <a:lnTo>
                    <a:pt x="84" y="91"/>
                  </a:lnTo>
                  <a:lnTo>
                    <a:pt x="86" y="96"/>
                  </a:lnTo>
                  <a:lnTo>
                    <a:pt x="91" y="101"/>
                  </a:lnTo>
                  <a:lnTo>
                    <a:pt x="96" y="109"/>
                  </a:lnTo>
                  <a:lnTo>
                    <a:pt x="99" y="114"/>
                  </a:lnTo>
                  <a:lnTo>
                    <a:pt x="104" y="121"/>
                  </a:lnTo>
                  <a:lnTo>
                    <a:pt x="109" y="129"/>
                  </a:lnTo>
                  <a:lnTo>
                    <a:pt x="114" y="138"/>
                  </a:lnTo>
                  <a:lnTo>
                    <a:pt x="119" y="146"/>
                  </a:lnTo>
                  <a:lnTo>
                    <a:pt x="124" y="153"/>
                  </a:lnTo>
                  <a:lnTo>
                    <a:pt x="128" y="161"/>
                  </a:lnTo>
                  <a:lnTo>
                    <a:pt x="133" y="171"/>
                  </a:lnTo>
                  <a:lnTo>
                    <a:pt x="138" y="181"/>
                  </a:lnTo>
                  <a:lnTo>
                    <a:pt x="143" y="191"/>
                  </a:lnTo>
                  <a:lnTo>
                    <a:pt x="151" y="201"/>
                  </a:lnTo>
                  <a:lnTo>
                    <a:pt x="156" y="210"/>
                  </a:lnTo>
                  <a:lnTo>
                    <a:pt x="163" y="220"/>
                  </a:lnTo>
                  <a:lnTo>
                    <a:pt x="168" y="228"/>
                  </a:lnTo>
                  <a:lnTo>
                    <a:pt x="176" y="238"/>
                  </a:lnTo>
                  <a:lnTo>
                    <a:pt x="181" y="250"/>
                  </a:lnTo>
                  <a:lnTo>
                    <a:pt x="188" y="260"/>
                  </a:lnTo>
                  <a:lnTo>
                    <a:pt x="193" y="273"/>
                  </a:lnTo>
                  <a:lnTo>
                    <a:pt x="200" y="282"/>
                  </a:lnTo>
                  <a:lnTo>
                    <a:pt x="205" y="295"/>
                  </a:lnTo>
                  <a:lnTo>
                    <a:pt x="210" y="305"/>
                  </a:lnTo>
                  <a:lnTo>
                    <a:pt x="218" y="317"/>
                  </a:lnTo>
                  <a:lnTo>
                    <a:pt x="223" y="327"/>
                  </a:lnTo>
                  <a:lnTo>
                    <a:pt x="230" y="337"/>
                  </a:lnTo>
                  <a:lnTo>
                    <a:pt x="235" y="347"/>
                  </a:lnTo>
                  <a:lnTo>
                    <a:pt x="243" y="359"/>
                  </a:lnTo>
                  <a:lnTo>
                    <a:pt x="248" y="369"/>
                  </a:lnTo>
                  <a:lnTo>
                    <a:pt x="255" y="382"/>
                  </a:lnTo>
                  <a:lnTo>
                    <a:pt x="260" y="392"/>
                  </a:lnTo>
                  <a:lnTo>
                    <a:pt x="265" y="402"/>
                  </a:lnTo>
                  <a:lnTo>
                    <a:pt x="272" y="411"/>
                  </a:lnTo>
                  <a:lnTo>
                    <a:pt x="277" y="424"/>
                  </a:lnTo>
                  <a:lnTo>
                    <a:pt x="282" y="434"/>
                  </a:lnTo>
                  <a:lnTo>
                    <a:pt x="290" y="444"/>
                  </a:lnTo>
                  <a:lnTo>
                    <a:pt x="295" y="454"/>
                  </a:lnTo>
                  <a:lnTo>
                    <a:pt x="300" y="464"/>
                  </a:lnTo>
                  <a:lnTo>
                    <a:pt x="305" y="474"/>
                  </a:lnTo>
                  <a:lnTo>
                    <a:pt x="310" y="481"/>
                  </a:lnTo>
                  <a:lnTo>
                    <a:pt x="315" y="491"/>
                  </a:lnTo>
                  <a:lnTo>
                    <a:pt x="319" y="501"/>
                  </a:lnTo>
                  <a:lnTo>
                    <a:pt x="324" y="508"/>
                  </a:lnTo>
                  <a:lnTo>
                    <a:pt x="329" y="516"/>
                  </a:lnTo>
                  <a:lnTo>
                    <a:pt x="334" y="526"/>
                  </a:lnTo>
                  <a:lnTo>
                    <a:pt x="339" y="533"/>
                  </a:lnTo>
                  <a:lnTo>
                    <a:pt x="342" y="541"/>
                  </a:lnTo>
                  <a:lnTo>
                    <a:pt x="344" y="545"/>
                  </a:lnTo>
                  <a:lnTo>
                    <a:pt x="349" y="553"/>
                  </a:lnTo>
                  <a:lnTo>
                    <a:pt x="354" y="560"/>
                  </a:lnTo>
                  <a:lnTo>
                    <a:pt x="359" y="570"/>
                  </a:lnTo>
                  <a:lnTo>
                    <a:pt x="367" y="580"/>
                  </a:lnTo>
                  <a:lnTo>
                    <a:pt x="369" y="588"/>
                  </a:lnTo>
                  <a:lnTo>
                    <a:pt x="374" y="595"/>
                  </a:lnTo>
                  <a:lnTo>
                    <a:pt x="379" y="605"/>
                  </a:lnTo>
                  <a:lnTo>
                    <a:pt x="386" y="612"/>
                  </a:lnTo>
                  <a:lnTo>
                    <a:pt x="391" y="620"/>
                  </a:lnTo>
                  <a:lnTo>
                    <a:pt x="396" y="627"/>
                  </a:lnTo>
                  <a:lnTo>
                    <a:pt x="401" y="635"/>
                  </a:lnTo>
                  <a:lnTo>
                    <a:pt x="406" y="642"/>
                  </a:lnTo>
                  <a:lnTo>
                    <a:pt x="411" y="647"/>
                  </a:lnTo>
                  <a:lnTo>
                    <a:pt x="416" y="655"/>
                  </a:lnTo>
                  <a:lnTo>
                    <a:pt x="424" y="660"/>
                  </a:lnTo>
                  <a:lnTo>
                    <a:pt x="429" y="667"/>
                  </a:lnTo>
                  <a:lnTo>
                    <a:pt x="436" y="677"/>
                  </a:lnTo>
                  <a:lnTo>
                    <a:pt x="446" y="687"/>
                  </a:lnTo>
                  <a:lnTo>
                    <a:pt x="453" y="692"/>
                  </a:lnTo>
                  <a:lnTo>
                    <a:pt x="458" y="697"/>
                  </a:lnTo>
                  <a:lnTo>
                    <a:pt x="463" y="699"/>
                  </a:lnTo>
                  <a:lnTo>
                    <a:pt x="466" y="699"/>
                  </a:lnTo>
                  <a:lnTo>
                    <a:pt x="466" y="694"/>
                  </a:lnTo>
                  <a:lnTo>
                    <a:pt x="466" y="689"/>
                  </a:lnTo>
                  <a:lnTo>
                    <a:pt x="463" y="684"/>
                  </a:lnTo>
                  <a:lnTo>
                    <a:pt x="463" y="679"/>
                  </a:lnTo>
                  <a:lnTo>
                    <a:pt x="458" y="672"/>
                  </a:lnTo>
                  <a:lnTo>
                    <a:pt x="456" y="667"/>
                  </a:lnTo>
                  <a:lnTo>
                    <a:pt x="456" y="667"/>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6475680" y="3832200"/>
              <a:ext cx="914400" cy="1366920"/>
            </a:xfrm>
            <a:custGeom>
              <a:avLst/>
              <a:gdLst/>
              <a:ahLst/>
              <a:rect l="l" t="t" r="r" b="b"/>
              <a:pathLst>
                <a:path w="576" h="861">
                  <a:moveTo>
                    <a:pt x="134" y="5"/>
                  </a:moveTo>
                  <a:lnTo>
                    <a:pt x="132" y="5"/>
                  </a:lnTo>
                  <a:lnTo>
                    <a:pt x="127" y="5"/>
                  </a:lnTo>
                  <a:lnTo>
                    <a:pt x="119" y="5"/>
                  </a:lnTo>
                  <a:lnTo>
                    <a:pt x="112" y="7"/>
                  </a:lnTo>
                  <a:lnTo>
                    <a:pt x="107" y="7"/>
                  </a:lnTo>
                  <a:lnTo>
                    <a:pt x="102" y="10"/>
                  </a:lnTo>
                  <a:lnTo>
                    <a:pt x="94" y="10"/>
                  </a:lnTo>
                  <a:lnTo>
                    <a:pt x="89" y="12"/>
                  </a:lnTo>
                  <a:lnTo>
                    <a:pt x="82" y="14"/>
                  </a:lnTo>
                  <a:lnTo>
                    <a:pt x="77" y="17"/>
                  </a:lnTo>
                  <a:lnTo>
                    <a:pt x="70" y="19"/>
                  </a:lnTo>
                  <a:lnTo>
                    <a:pt x="65" y="24"/>
                  </a:lnTo>
                  <a:lnTo>
                    <a:pt x="57" y="27"/>
                  </a:lnTo>
                  <a:lnTo>
                    <a:pt x="50" y="29"/>
                  </a:lnTo>
                  <a:lnTo>
                    <a:pt x="45" y="34"/>
                  </a:lnTo>
                  <a:lnTo>
                    <a:pt x="37" y="39"/>
                  </a:lnTo>
                  <a:lnTo>
                    <a:pt x="32" y="44"/>
                  </a:lnTo>
                  <a:lnTo>
                    <a:pt x="27" y="49"/>
                  </a:lnTo>
                  <a:lnTo>
                    <a:pt x="22" y="54"/>
                  </a:lnTo>
                  <a:lnTo>
                    <a:pt x="18" y="62"/>
                  </a:lnTo>
                  <a:lnTo>
                    <a:pt x="13" y="69"/>
                  </a:lnTo>
                  <a:lnTo>
                    <a:pt x="10" y="77"/>
                  </a:lnTo>
                  <a:lnTo>
                    <a:pt x="5" y="84"/>
                  </a:lnTo>
                  <a:lnTo>
                    <a:pt x="5" y="91"/>
                  </a:lnTo>
                  <a:lnTo>
                    <a:pt x="3" y="101"/>
                  </a:lnTo>
                  <a:lnTo>
                    <a:pt x="3" y="111"/>
                  </a:lnTo>
                  <a:lnTo>
                    <a:pt x="0" y="114"/>
                  </a:lnTo>
                  <a:lnTo>
                    <a:pt x="0" y="121"/>
                  </a:lnTo>
                  <a:lnTo>
                    <a:pt x="3" y="126"/>
                  </a:lnTo>
                  <a:lnTo>
                    <a:pt x="3" y="131"/>
                  </a:lnTo>
                  <a:lnTo>
                    <a:pt x="3" y="139"/>
                  </a:lnTo>
                  <a:lnTo>
                    <a:pt x="3" y="144"/>
                  </a:lnTo>
                  <a:lnTo>
                    <a:pt x="5" y="151"/>
                  </a:lnTo>
                  <a:lnTo>
                    <a:pt x="5" y="158"/>
                  </a:lnTo>
                  <a:lnTo>
                    <a:pt x="8" y="166"/>
                  </a:lnTo>
                  <a:lnTo>
                    <a:pt x="10" y="173"/>
                  </a:lnTo>
                  <a:lnTo>
                    <a:pt x="13" y="183"/>
                  </a:lnTo>
                  <a:lnTo>
                    <a:pt x="18" y="193"/>
                  </a:lnTo>
                  <a:lnTo>
                    <a:pt x="18" y="203"/>
                  </a:lnTo>
                  <a:lnTo>
                    <a:pt x="22" y="215"/>
                  </a:lnTo>
                  <a:lnTo>
                    <a:pt x="25" y="225"/>
                  </a:lnTo>
                  <a:lnTo>
                    <a:pt x="30" y="238"/>
                  </a:lnTo>
                  <a:lnTo>
                    <a:pt x="32" y="248"/>
                  </a:lnTo>
                  <a:lnTo>
                    <a:pt x="37" y="260"/>
                  </a:lnTo>
                  <a:lnTo>
                    <a:pt x="42" y="275"/>
                  </a:lnTo>
                  <a:lnTo>
                    <a:pt x="47" y="287"/>
                  </a:lnTo>
                  <a:lnTo>
                    <a:pt x="52" y="300"/>
                  </a:lnTo>
                  <a:lnTo>
                    <a:pt x="57" y="312"/>
                  </a:lnTo>
                  <a:lnTo>
                    <a:pt x="60" y="327"/>
                  </a:lnTo>
                  <a:lnTo>
                    <a:pt x="67" y="342"/>
                  </a:lnTo>
                  <a:lnTo>
                    <a:pt x="72" y="354"/>
                  </a:lnTo>
                  <a:lnTo>
                    <a:pt x="77" y="369"/>
                  </a:lnTo>
                  <a:lnTo>
                    <a:pt x="84" y="384"/>
                  </a:lnTo>
                  <a:lnTo>
                    <a:pt x="89" y="399"/>
                  </a:lnTo>
                  <a:lnTo>
                    <a:pt x="97" y="414"/>
                  </a:lnTo>
                  <a:lnTo>
                    <a:pt x="102" y="429"/>
                  </a:lnTo>
                  <a:lnTo>
                    <a:pt x="109" y="444"/>
                  </a:lnTo>
                  <a:lnTo>
                    <a:pt x="114" y="459"/>
                  </a:lnTo>
                  <a:lnTo>
                    <a:pt x="122" y="474"/>
                  </a:lnTo>
                  <a:lnTo>
                    <a:pt x="129" y="488"/>
                  </a:lnTo>
                  <a:lnTo>
                    <a:pt x="137" y="503"/>
                  </a:lnTo>
                  <a:lnTo>
                    <a:pt x="144" y="518"/>
                  </a:lnTo>
                  <a:lnTo>
                    <a:pt x="149" y="533"/>
                  </a:lnTo>
                  <a:lnTo>
                    <a:pt x="156" y="548"/>
                  </a:lnTo>
                  <a:lnTo>
                    <a:pt x="161" y="563"/>
                  </a:lnTo>
                  <a:lnTo>
                    <a:pt x="169" y="578"/>
                  </a:lnTo>
                  <a:lnTo>
                    <a:pt x="176" y="590"/>
                  </a:lnTo>
                  <a:lnTo>
                    <a:pt x="184" y="605"/>
                  </a:lnTo>
                  <a:lnTo>
                    <a:pt x="191" y="620"/>
                  </a:lnTo>
                  <a:lnTo>
                    <a:pt x="196" y="635"/>
                  </a:lnTo>
                  <a:lnTo>
                    <a:pt x="204" y="647"/>
                  </a:lnTo>
                  <a:lnTo>
                    <a:pt x="211" y="660"/>
                  </a:lnTo>
                  <a:lnTo>
                    <a:pt x="216" y="672"/>
                  </a:lnTo>
                  <a:lnTo>
                    <a:pt x="223" y="687"/>
                  </a:lnTo>
                  <a:lnTo>
                    <a:pt x="231" y="697"/>
                  </a:lnTo>
                  <a:lnTo>
                    <a:pt x="238" y="709"/>
                  </a:lnTo>
                  <a:lnTo>
                    <a:pt x="246" y="722"/>
                  </a:lnTo>
                  <a:lnTo>
                    <a:pt x="251" y="734"/>
                  </a:lnTo>
                  <a:lnTo>
                    <a:pt x="258" y="747"/>
                  </a:lnTo>
                  <a:lnTo>
                    <a:pt x="263" y="756"/>
                  </a:lnTo>
                  <a:lnTo>
                    <a:pt x="268" y="764"/>
                  </a:lnTo>
                  <a:lnTo>
                    <a:pt x="275" y="774"/>
                  </a:lnTo>
                  <a:lnTo>
                    <a:pt x="280" y="784"/>
                  </a:lnTo>
                  <a:lnTo>
                    <a:pt x="288" y="794"/>
                  </a:lnTo>
                  <a:lnTo>
                    <a:pt x="293" y="801"/>
                  </a:lnTo>
                  <a:lnTo>
                    <a:pt x="300" y="809"/>
                  </a:lnTo>
                  <a:lnTo>
                    <a:pt x="305" y="816"/>
                  </a:lnTo>
                  <a:lnTo>
                    <a:pt x="310" y="821"/>
                  </a:lnTo>
                  <a:lnTo>
                    <a:pt x="315" y="826"/>
                  </a:lnTo>
                  <a:lnTo>
                    <a:pt x="320" y="833"/>
                  </a:lnTo>
                  <a:lnTo>
                    <a:pt x="330" y="841"/>
                  </a:lnTo>
                  <a:lnTo>
                    <a:pt x="340" y="848"/>
                  </a:lnTo>
                  <a:lnTo>
                    <a:pt x="345" y="848"/>
                  </a:lnTo>
                  <a:lnTo>
                    <a:pt x="355" y="853"/>
                  </a:lnTo>
                  <a:lnTo>
                    <a:pt x="362" y="853"/>
                  </a:lnTo>
                  <a:lnTo>
                    <a:pt x="370" y="856"/>
                  </a:lnTo>
                  <a:lnTo>
                    <a:pt x="380" y="858"/>
                  </a:lnTo>
                  <a:lnTo>
                    <a:pt x="390" y="858"/>
                  </a:lnTo>
                  <a:lnTo>
                    <a:pt x="397" y="858"/>
                  </a:lnTo>
                  <a:lnTo>
                    <a:pt x="407" y="861"/>
                  </a:lnTo>
                  <a:lnTo>
                    <a:pt x="414" y="858"/>
                  </a:lnTo>
                  <a:lnTo>
                    <a:pt x="424" y="858"/>
                  </a:lnTo>
                  <a:lnTo>
                    <a:pt x="434" y="856"/>
                  </a:lnTo>
                  <a:lnTo>
                    <a:pt x="442" y="856"/>
                  </a:lnTo>
                  <a:lnTo>
                    <a:pt x="452" y="853"/>
                  </a:lnTo>
                  <a:lnTo>
                    <a:pt x="459" y="851"/>
                  </a:lnTo>
                  <a:lnTo>
                    <a:pt x="469" y="848"/>
                  </a:lnTo>
                  <a:lnTo>
                    <a:pt x="476" y="846"/>
                  </a:lnTo>
                  <a:lnTo>
                    <a:pt x="484" y="841"/>
                  </a:lnTo>
                  <a:lnTo>
                    <a:pt x="494" y="836"/>
                  </a:lnTo>
                  <a:lnTo>
                    <a:pt x="501" y="831"/>
                  </a:lnTo>
                  <a:lnTo>
                    <a:pt x="509" y="828"/>
                  </a:lnTo>
                  <a:lnTo>
                    <a:pt x="516" y="821"/>
                  </a:lnTo>
                  <a:lnTo>
                    <a:pt x="524" y="816"/>
                  </a:lnTo>
                  <a:lnTo>
                    <a:pt x="531" y="809"/>
                  </a:lnTo>
                  <a:lnTo>
                    <a:pt x="538" y="804"/>
                  </a:lnTo>
                  <a:lnTo>
                    <a:pt x="543" y="796"/>
                  </a:lnTo>
                  <a:lnTo>
                    <a:pt x="548" y="789"/>
                  </a:lnTo>
                  <a:lnTo>
                    <a:pt x="553" y="781"/>
                  </a:lnTo>
                  <a:lnTo>
                    <a:pt x="558" y="774"/>
                  </a:lnTo>
                  <a:lnTo>
                    <a:pt x="563" y="764"/>
                  </a:lnTo>
                  <a:lnTo>
                    <a:pt x="566" y="756"/>
                  </a:lnTo>
                  <a:lnTo>
                    <a:pt x="571" y="747"/>
                  </a:lnTo>
                  <a:lnTo>
                    <a:pt x="573" y="739"/>
                  </a:lnTo>
                  <a:lnTo>
                    <a:pt x="576" y="727"/>
                  </a:lnTo>
                  <a:lnTo>
                    <a:pt x="576" y="717"/>
                  </a:lnTo>
                  <a:lnTo>
                    <a:pt x="576" y="709"/>
                  </a:lnTo>
                  <a:lnTo>
                    <a:pt x="576" y="704"/>
                  </a:lnTo>
                  <a:lnTo>
                    <a:pt x="576" y="699"/>
                  </a:lnTo>
                  <a:lnTo>
                    <a:pt x="576" y="694"/>
                  </a:lnTo>
                  <a:lnTo>
                    <a:pt x="573" y="687"/>
                  </a:lnTo>
                  <a:lnTo>
                    <a:pt x="573" y="680"/>
                  </a:lnTo>
                  <a:lnTo>
                    <a:pt x="573" y="675"/>
                  </a:lnTo>
                  <a:lnTo>
                    <a:pt x="571" y="667"/>
                  </a:lnTo>
                  <a:lnTo>
                    <a:pt x="568" y="660"/>
                  </a:lnTo>
                  <a:lnTo>
                    <a:pt x="568" y="655"/>
                  </a:lnTo>
                  <a:lnTo>
                    <a:pt x="566" y="647"/>
                  </a:lnTo>
                  <a:lnTo>
                    <a:pt x="566" y="642"/>
                  </a:lnTo>
                  <a:lnTo>
                    <a:pt x="561" y="632"/>
                  </a:lnTo>
                  <a:lnTo>
                    <a:pt x="561" y="625"/>
                  </a:lnTo>
                  <a:lnTo>
                    <a:pt x="558" y="620"/>
                  </a:lnTo>
                  <a:lnTo>
                    <a:pt x="556" y="613"/>
                  </a:lnTo>
                  <a:lnTo>
                    <a:pt x="553" y="603"/>
                  </a:lnTo>
                  <a:lnTo>
                    <a:pt x="548" y="595"/>
                  </a:lnTo>
                  <a:lnTo>
                    <a:pt x="546" y="588"/>
                  </a:lnTo>
                  <a:lnTo>
                    <a:pt x="543" y="583"/>
                  </a:lnTo>
                  <a:lnTo>
                    <a:pt x="541" y="573"/>
                  </a:lnTo>
                  <a:lnTo>
                    <a:pt x="538" y="565"/>
                  </a:lnTo>
                  <a:lnTo>
                    <a:pt x="533" y="558"/>
                  </a:lnTo>
                  <a:lnTo>
                    <a:pt x="531" y="551"/>
                  </a:lnTo>
                  <a:lnTo>
                    <a:pt x="526" y="543"/>
                  </a:lnTo>
                  <a:lnTo>
                    <a:pt x="524" y="536"/>
                  </a:lnTo>
                  <a:lnTo>
                    <a:pt x="521" y="528"/>
                  </a:lnTo>
                  <a:lnTo>
                    <a:pt x="516" y="521"/>
                  </a:lnTo>
                  <a:lnTo>
                    <a:pt x="511" y="511"/>
                  </a:lnTo>
                  <a:lnTo>
                    <a:pt x="509" y="506"/>
                  </a:lnTo>
                  <a:lnTo>
                    <a:pt x="504" y="496"/>
                  </a:lnTo>
                  <a:lnTo>
                    <a:pt x="499" y="488"/>
                  </a:lnTo>
                  <a:lnTo>
                    <a:pt x="494" y="481"/>
                  </a:lnTo>
                  <a:lnTo>
                    <a:pt x="491" y="474"/>
                  </a:lnTo>
                  <a:lnTo>
                    <a:pt x="486" y="466"/>
                  </a:lnTo>
                  <a:lnTo>
                    <a:pt x="484" y="459"/>
                  </a:lnTo>
                  <a:lnTo>
                    <a:pt x="476" y="451"/>
                  </a:lnTo>
                  <a:lnTo>
                    <a:pt x="474" y="444"/>
                  </a:lnTo>
                  <a:lnTo>
                    <a:pt x="469" y="434"/>
                  </a:lnTo>
                  <a:lnTo>
                    <a:pt x="466" y="426"/>
                  </a:lnTo>
                  <a:lnTo>
                    <a:pt x="459" y="419"/>
                  </a:lnTo>
                  <a:lnTo>
                    <a:pt x="457" y="414"/>
                  </a:lnTo>
                  <a:lnTo>
                    <a:pt x="452" y="407"/>
                  </a:lnTo>
                  <a:lnTo>
                    <a:pt x="449" y="399"/>
                  </a:lnTo>
                  <a:lnTo>
                    <a:pt x="442" y="392"/>
                  </a:lnTo>
                  <a:lnTo>
                    <a:pt x="439" y="384"/>
                  </a:lnTo>
                  <a:lnTo>
                    <a:pt x="434" y="377"/>
                  </a:lnTo>
                  <a:lnTo>
                    <a:pt x="429" y="372"/>
                  </a:lnTo>
                  <a:lnTo>
                    <a:pt x="427" y="364"/>
                  </a:lnTo>
                  <a:lnTo>
                    <a:pt x="422" y="357"/>
                  </a:lnTo>
                  <a:lnTo>
                    <a:pt x="417" y="352"/>
                  </a:lnTo>
                  <a:lnTo>
                    <a:pt x="414" y="345"/>
                  </a:lnTo>
                  <a:lnTo>
                    <a:pt x="412" y="340"/>
                  </a:lnTo>
                  <a:lnTo>
                    <a:pt x="407" y="332"/>
                  </a:lnTo>
                  <a:lnTo>
                    <a:pt x="402" y="327"/>
                  </a:lnTo>
                  <a:lnTo>
                    <a:pt x="399" y="320"/>
                  </a:lnTo>
                  <a:lnTo>
                    <a:pt x="392" y="310"/>
                  </a:lnTo>
                  <a:lnTo>
                    <a:pt x="387" y="300"/>
                  </a:lnTo>
                  <a:lnTo>
                    <a:pt x="382" y="295"/>
                  </a:lnTo>
                  <a:lnTo>
                    <a:pt x="380" y="287"/>
                  </a:lnTo>
                  <a:lnTo>
                    <a:pt x="375" y="282"/>
                  </a:lnTo>
                  <a:lnTo>
                    <a:pt x="372" y="278"/>
                  </a:lnTo>
                  <a:lnTo>
                    <a:pt x="365" y="265"/>
                  </a:lnTo>
                  <a:lnTo>
                    <a:pt x="357" y="255"/>
                  </a:lnTo>
                  <a:lnTo>
                    <a:pt x="355" y="250"/>
                  </a:lnTo>
                  <a:lnTo>
                    <a:pt x="350" y="243"/>
                  </a:lnTo>
                  <a:lnTo>
                    <a:pt x="347" y="238"/>
                  </a:lnTo>
                  <a:lnTo>
                    <a:pt x="345" y="233"/>
                  </a:lnTo>
                  <a:lnTo>
                    <a:pt x="340" y="225"/>
                  </a:lnTo>
                  <a:lnTo>
                    <a:pt x="335" y="220"/>
                  </a:lnTo>
                  <a:lnTo>
                    <a:pt x="333" y="213"/>
                  </a:lnTo>
                  <a:lnTo>
                    <a:pt x="330" y="208"/>
                  </a:lnTo>
                  <a:lnTo>
                    <a:pt x="325" y="203"/>
                  </a:lnTo>
                  <a:lnTo>
                    <a:pt x="323" y="196"/>
                  </a:lnTo>
                  <a:lnTo>
                    <a:pt x="318" y="191"/>
                  </a:lnTo>
                  <a:lnTo>
                    <a:pt x="315" y="186"/>
                  </a:lnTo>
                  <a:lnTo>
                    <a:pt x="310" y="178"/>
                  </a:lnTo>
                  <a:lnTo>
                    <a:pt x="305" y="173"/>
                  </a:lnTo>
                  <a:lnTo>
                    <a:pt x="303" y="166"/>
                  </a:lnTo>
                  <a:lnTo>
                    <a:pt x="300" y="161"/>
                  </a:lnTo>
                  <a:lnTo>
                    <a:pt x="295" y="156"/>
                  </a:lnTo>
                  <a:lnTo>
                    <a:pt x="293" y="151"/>
                  </a:lnTo>
                  <a:lnTo>
                    <a:pt x="288" y="144"/>
                  </a:lnTo>
                  <a:lnTo>
                    <a:pt x="285" y="139"/>
                  </a:lnTo>
                  <a:lnTo>
                    <a:pt x="278" y="126"/>
                  </a:lnTo>
                  <a:lnTo>
                    <a:pt x="271" y="119"/>
                  </a:lnTo>
                  <a:lnTo>
                    <a:pt x="263" y="106"/>
                  </a:lnTo>
                  <a:lnTo>
                    <a:pt x="258" y="96"/>
                  </a:lnTo>
                  <a:lnTo>
                    <a:pt x="251" y="86"/>
                  </a:lnTo>
                  <a:lnTo>
                    <a:pt x="246" y="77"/>
                  </a:lnTo>
                  <a:lnTo>
                    <a:pt x="238" y="67"/>
                  </a:lnTo>
                  <a:lnTo>
                    <a:pt x="233" y="59"/>
                  </a:lnTo>
                  <a:lnTo>
                    <a:pt x="226" y="49"/>
                  </a:lnTo>
                  <a:lnTo>
                    <a:pt x="221" y="44"/>
                  </a:lnTo>
                  <a:lnTo>
                    <a:pt x="216" y="37"/>
                  </a:lnTo>
                  <a:lnTo>
                    <a:pt x="211" y="29"/>
                  </a:lnTo>
                  <a:lnTo>
                    <a:pt x="209" y="24"/>
                  </a:lnTo>
                  <a:lnTo>
                    <a:pt x="204" y="19"/>
                  </a:lnTo>
                  <a:lnTo>
                    <a:pt x="196" y="12"/>
                  </a:lnTo>
                  <a:lnTo>
                    <a:pt x="194" y="7"/>
                  </a:lnTo>
                  <a:lnTo>
                    <a:pt x="184" y="2"/>
                  </a:lnTo>
                  <a:lnTo>
                    <a:pt x="174" y="0"/>
                  </a:lnTo>
                  <a:lnTo>
                    <a:pt x="164" y="0"/>
                  </a:lnTo>
                  <a:lnTo>
                    <a:pt x="156" y="0"/>
                  </a:lnTo>
                  <a:lnTo>
                    <a:pt x="146" y="0"/>
                  </a:lnTo>
                  <a:lnTo>
                    <a:pt x="142" y="2"/>
                  </a:lnTo>
                  <a:lnTo>
                    <a:pt x="137" y="5"/>
                  </a:lnTo>
                  <a:lnTo>
                    <a:pt x="134" y="5"/>
                  </a:lnTo>
                  <a:lnTo>
                    <a:pt x="134" y="5"/>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6499440" y="3792600"/>
              <a:ext cx="898560" cy="1409760"/>
            </a:xfrm>
            <a:custGeom>
              <a:avLst/>
              <a:gdLst/>
              <a:ahLst/>
              <a:rect l="l" t="t" r="r" b="b"/>
              <a:pathLst>
                <a:path w="566" h="888">
                  <a:moveTo>
                    <a:pt x="139" y="5"/>
                  </a:moveTo>
                  <a:lnTo>
                    <a:pt x="129" y="7"/>
                  </a:lnTo>
                  <a:lnTo>
                    <a:pt x="122" y="12"/>
                  </a:lnTo>
                  <a:lnTo>
                    <a:pt x="112" y="15"/>
                  </a:lnTo>
                  <a:lnTo>
                    <a:pt x="99" y="20"/>
                  </a:lnTo>
                  <a:lnTo>
                    <a:pt x="94" y="25"/>
                  </a:lnTo>
                  <a:lnTo>
                    <a:pt x="89" y="27"/>
                  </a:lnTo>
                  <a:lnTo>
                    <a:pt x="82" y="30"/>
                  </a:lnTo>
                  <a:lnTo>
                    <a:pt x="77" y="32"/>
                  </a:lnTo>
                  <a:lnTo>
                    <a:pt x="72" y="37"/>
                  </a:lnTo>
                  <a:lnTo>
                    <a:pt x="65" y="39"/>
                  </a:lnTo>
                  <a:lnTo>
                    <a:pt x="60" y="44"/>
                  </a:lnTo>
                  <a:lnTo>
                    <a:pt x="55" y="49"/>
                  </a:lnTo>
                  <a:lnTo>
                    <a:pt x="50" y="52"/>
                  </a:lnTo>
                  <a:lnTo>
                    <a:pt x="42" y="57"/>
                  </a:lnTo>
                  <a:lnTo>
                    <a:pt x="37" y="62"/>
                  </a:lnTo>
                  <a:lnTo>
                    <a:pt x="32" y="67"/>
                  </a:lnTo>
                  <a:lnTo>
                    <a:pt x="27" y="72"/>
                  </a:lnTo>
                  <a:lnTo>
                    <a:pt x="22" y="77"/>
                  </a:lnTo>
                  <a:lnTo>
                    <a:pt x="20" y="84"/>
                  </a:lnTo>
                  <a:lnTo>
                    <a:pt x="15" y="89"/>
                  </a:lnTo>
                  <a:lnTo>
                    <a:pt x="12" y="94"/>
                  </a:lnTo>
                  <a:lnTo>
                    <a:pt x="10" y="102"/>
                  </a:lnTo>
                  <a:lnTo>
                    <a:pt x="5" y="106"/>
                  </a:lnTo>
                  <a:lnTo>
                    <a:pt x="5" y="114"/>
                  </a:lnTo>
                  <a:lnTo>
                    <a:pt x="3" y="121"/>
                  </a:lnTo>
                  <a:lnTo>
                    <a:pt x="3" y="129"/>
                  </a:lnTo>
                  <a:lnTo>
                    <a:pt x="0" y="136"/>
                  </a:lnTo>
                  <a:lnTo>
                    <a:pt x="3" y="144"/>
                  </a:lnTo>
                  <a:lnTo>
                    <a:pt x="3" y="146"/>
                  </a:lnTo>
                  <a:lnTo>
                    <a:pt x="3" y="151"/>
                  </a:lnTo>
                  <a:lnTo>
                    <a:pt x="3" y="156"/>
                  </a:lnTo>
                  <a:lnTo>
                    <a:pt x="3" y="164"/>
                  </a:lnTo>
                  <a:lnTo>
                    <a:pt x="5" y="171"/>
                  </a:lnTo>
                  <a:lnTo>
                    <a:pt x="7" y="178"/>
                  </a:lnTo>
                  <a:lnTo>
                    <a:pt x="10" y="188"/>
                  </a:lnTo>
                  <a:lnTo>
                    <a:pt x="12" y="196"/>
                  </a:lnTo>
                  <a:lnTo>
                    <a:pt x="15" y="206"/>
                  </a:lnTo>
                  <a:lnTo>
                    <a:pt x="17" y="216"/>
                  </a:lnTo>
                  <a:lnTo>
                    <a:pt x="22" y="226"/>
                  </a:lnTo>
                  <a:lnTo>
                    <a:pt x="25" y="236"/>
                  </a:lnTo>
                  <a:lnTo>
                    <a:pt x="27" y="248"/>
                  </a:lnTo>
                  <a:lnTo>
                    <a:pt x="32" y="260"/>
                  </a:lnTo>
                  <a:lnTo>
                    <a:pt x="37" y="273"/>
                  </a:lnTo>
                  <a:lnTo>
                    <a:pt x="42" y="285"/>
                  </a:lnTo>
                  <a:lnTo>
                    <a:pt x="45" y="298"/>
                  </a:lnTo>
                  <a:lnTo>
                    <a:pt x="50" y="312"/>
                  </a:lnTo>
                  <a:lnTo>
                    <a:pt x="55" y="325"/>
                  </a:lnTo>
                  <a:lnTo>
                    <a:pt x="62" y="340"/>
                  </a:lnTo>
                  <a:lnTo>
                    <a:pt x="67" y="352"/>
                  </a:lnTo>
                  <a:lnTo>
                    <a:pt x="72" y="367"/>
                  </a:lnTo>
                  <a:lnTo>
                    <a:pt x="79" y="382"/>
                  </a:lnTo>
                  <a:lnTo>
                    <a:pt x="84" y="397"/>
                  </a:lnTo>
                  <a:lnTo>
                    <a:pt x="89" y="412"/>
                  </a:lnTo>
                  <a:lnTo>
                    <a:pt x="97" y="429"/>
                  </a:lnTo>
                  <a:lnTo>
                    <a:pt x="102" y="444"/>
                  </a:lnTo>
                  <a:lnTo>
                    <a:pt x="109" y="459"/>
                  </a:lnTo>
                  <a:lnTo>
                    <a:pt x="114" y="474"/>
                  </a:lnTo>
                  <a:lnTo>
                    <a:pt x="122" y="491"/>
                  </a:lnTo>
                  <a:lnTo>
                    <a:pt x="129" y="506"/>
                  </a:lnTo>
                  <a:lnTo>
                    <a:pt x="136" y="523"/>
                  </a:lnTo>
                  <a:lnTo>
                    <a:pt x="141" y="536"/>
                  </a:lnTo>
                  <a:lnTo>
                    <a:pt x="149" y="553"/>
                  </a:lnTo>
                  <a:lnTo>
                    <a:pt x="156" y="568"/>
                  </a:lnTo>
                  <a:lnTo>
                    <a:pt x="164" y="583"/>
                  </a:lnTo>
                  <a:lnTo>
                    <a:pt x="169" y="598"/>
                  </a:lnTo>
                  <a:lnTo>
                    <a:pt x="176" y="613"/>
                  </a:lnTo>
                  <a:lnTo>
                    <a:pt x="184" y="628"/>
                  </a:lnTo>
                  <a:lnTo>
                    <a:pt x="191" y="643"/>
                  </a:lnTo>
                  <a:lnTo>
                    <a:pt x="196" y="657"/>
                  </a:lnTo>
                  <a:lnTo>
                    <a:pt x="203" y="670"/>
                  </a:lnTo>
                  <a:lnTo>
                    <a:pt x="211" y="685"/>
                  </a:lnTo>
                  <a:lnTo>
                    <a:pt x="218" y="700"/>
                  </a:lnTo>
                  <a:lnTo>
                    <a:pt x="226" y="712"/>
                  </a:lnTo>
                  <a:lnTo>
                    <a:pt x="231" y="724"/>
                  </a:lnTo>
                  <a:lnTo>
                    <a:pt x="238" y="737"/>
                  </a:lnTo>
                  <a:lnTo>
                    <a:pt x="246" y="752"/>
                  </a:lnTo>
                  <a:lnTo>
                    <a:pt x="253" y="762"/>
                  </a:lnTo>
                  <a:lnTo>
                    <a:pt x="258" y="774"/>
                  </a:lnTo>
                  <a:lnTo>
                    <a:pt x="265" y="784"/>
                  </a:lnTo>
                  <a:lnTo>
                    <a:pt x="270" y="794"/>
                  </a:lnTo>
                  <a:lnTo>
                    <a:pt x="278" y="804"/>
                  </a:lnTo>
                  <a:lnTo>
                    <a:pt x="283" y="814"/>
                  </a:lnTo>
                  <a:lnTo>
                    <a:pt x="290" y="824"/>
                  </a:lnTo>
                  <a:lnTo>
                    <a:pt x="295" y="831"/>
                  </a:lnTo>
                  <a:lnTo>
                    <a:pt x="300" y="839"/>
                  </a:lnTo>
                  <a:lnTo>
                    <a:pt x="305" y="846"/>
                  </a:lnTo>
                  <a:lnTo>
                    <a:pt x="310" y="851"/>
                  </a:lnTo>
                  <a:lnTo>
                    <a:pt x="318" y="858"/>
                  </a:lnTo>
                  <a:lnTo>
                    <a:pt x="327" y="866"/>
                  </a:lnTo>
                  <a:lnTo>
                    <a:pt x="337" y="873"/>
                  </a:lnTo>
                  <a:lnTo>
                    <a:pt x="345" y="878"/>
                  </a:lnTo>
                  <a:lnTo>
                    <a:pt x="355" y="881"/>
                  </a:lnTo>
                  <a:lnTo>
                    <a:pt x="365" y="883"/>
                  </a:lnTo>
                  <a:lnTo>
                    <a:pt x="375" y="886"/>
                  </a:lnTo>
                  <a:lnTo>
                    <a:pt x="382" y="888"/>
                  </a:lnTo>
                  <a:lnTo>
                    <a:pt x="392" y="888"/>
                  </a:lnTo>
                  <a:lnTo>
                    <a:pt x="402" y="888"/>
                  </a:lnTo>
                  <a:lnTo>
                    <a:pt x="414" y="888"/>
                  </a:lnTo>
                  <a:lnTo>
                    <a:pt x="422" y="886"/>
                  </a:lnTo>
                  <a:lnTo>
                    <a:pt x="434" y="886"/>
                  </a:lnTo>
                  <a:lnTo>
                    <a:pt x="444" y="883"/>
                  </a:lnTo>
                  <a:lnTo>
                    <a:pt x="454" y="881"/>
                  </a:lnTo>
                  <a:lnTo>
                    <a:pt x="461" y="876"/>
                  </a:lnTo>
                  <a:lnTo>
                    <a:pt x="471" y="873"/>
                  </a:lnTo>
                  <a:lnTo>
                    <a:pt x="481" y="868"/>
                  </a:lnTo>
                  <a:lnTo>
                    <a:pt x="491" y="866"/>
                  </a:lnTo>
                  <a:lnTo>
                    <a:pt x="499" y="858"/>
                  </a:lnTo>
                  <a:lnTo>
                    <a:pt x="509" y="853"/>
                  </a:lnTo>
                  <a:lnTo>
                    <a:pt x="516" y="846"/>
                  </a:lnTo>
                  <a:lnTo>
                    <a:pt x="523" y="841"/>
                  </a:lnTo>
                  <a:lnTo>
                    <a:pt x="528" y="831"/>
                  </a:lnTo>
                  <a:lnTo>
                    <a:pt x="536" y="824"/>
                  </a:lnTo>
                  <a:lnTo>
                    <a:pt x="543" y="816"/>
                  </a:lnTo>
                  <a:lnTo>
                    <a:pt x="548" y="809"/>
                  </a:lnTo>
                  <a:lnTo>
                    <a:pt x="553" y="799"/>
                  </a:lnTo>
                  <a:lnTo>
                    <a:pt x="558" y="791"/>
                  </a:lnTo>
                  <a:lnTo>
                    <a:pt x="561" y="781"/>
                  </a:lnTo>
                  <a:lnTo>
                    <a:pt x="563" y="774"/>
                  </a:lnTo>
                  <a:lnTo>
                    <a:pt x="563" y="764"/>
                  </a:lnTo>
                  <a:lnTo>
                    <a:pt x="566" y="752"/>
                  </a:lnTo>
                  <a:lnTo>
                    <a:pt x="566" y="742"/>
                  </a:lnTo>
                  <a:lnTo>
                    <a:pt x="566" y="734"/>
                  </a:lnTo>
                  <a:lnTo>
                    <a:pt x="563" y="727"/>
                  </a:lnTo>
                  <a:lnTo>
                    <a:pt x="563" y="722"/>
                  </a:lnTo>
                  <a:lnTo>
                    <a:pt x="561" y="714"/>
                  </a:lnTo>
                  <a:lnTo>
                    <a:pt x="558" y="707"/>
                  </a:lnTo>
                  <a:lnTo>
                    <a:pt x="556" y="697"/>
                  </a:lnTo>
                  <a:lnTo>
                    <a:pt x="553" y="690"/>
                  </a:lnTo>
                  <a:lnTo>
                    <a:pt x="551" y="680"/>
                  </a:lnTo>
                  <a:lnTo>
                    <a:pt x="546" y="672"/>
                  </a:lnTo>
                  <a:lnTo>
                    <a:pt x="541" y="660"/>
                  </a:lnTo>
                  <a:lnTo>
                    <a:pt x="538" y="650"/>
                  </a:lnTo>
                  <a:lnTo>
                    <a:pt x="533" y="640"/>
                  </a:lnTo>
                  <a:lnTo>
                    <a:pt x="528" y="630"/>
                  </a:lnTo>
                  <a:lnTo>
                    <a:pt x="523" y="618"/>
                  </a:lnTo>
                  <a:lnTo>
                    <a:pt x="518" y="605"/>
                  </a:lnTo>
                  <a:lnTo>
                    <a:pt x="513" y="593"/>
                  </a:lnTo>
                  <a:lnTo>
                    <a:pt x="509" y="580"/>
                  </a:lnTo>
                  <a:lnTo>
                    <a:pt x="501" y="568"/>
                  </a:lnTo>
                  <a:lnTo>
                    <a:pt x="494" y="553"/>
                  </a:lnTo>
                  <a:lnTo>
                    <a:pt x="486" y="541"/>
                  </a:lnTo>
                  <a:lnTo>
                    <a:pt x="481" y="528"/>
                  </a:lnTo>
                  <a:lnTo>
                    <a:pt x="474" y="513"/>
                  </a:lnTo>
                  <a:lnTo>
                    <a:pt x="466" y="501"/>
                  </a:lnTo>
                  <a:lnTo>
                    <a:pt x="459" y="486"/>
                  </a:lnTo>
                  <a:lnTo>
                    <a:pt x="454" y="474"/>
                  </a:lnTo>
                  <a:lnTo>
                    <a:pt x="444" y="459"/>
                  </a:lnTo>
                  <a:lnTo>
                    <a:pt x="439" y="444"/>
                  </a:lnTo>
                  <a:lnTo>
                    <a:pt x="429" y="429"/>
                  </a:lnTo>
                  <a:lnTo>
                    <a:pt x="422" y="417"/>
                  </a:lnTo>
                  <a:lnTo>
                    <a:pt x="414" y="402"/>
                  </a:lnTo>
                  <a:lnTo>
                    <a:pt x="407" y="387"/>
                  </a:lnTo>
                  <a:lnTo>
                    <a:pt x="399" y="375"/>
                  </a:lnTo>
                  <a:lnTo>
                    <a:pt x="392" y="360"/>
                  </a:lnTo>
                  <a:lnTo>
                    <a:pt x="382" y="345"/>
                  </a:lnTo>
                  <a:lnTo>
                    <a:pt x="375" y="330"/>
                  </a:lnTo>
                  <a:lnTo>
                    <a:pt x="367" y="317"/>
                  </a:lnTo>
                  <a:lnTo>
                    <a:pt x="360" y="303"/>
                  </a:lnTo>
                  <a:lnTo>
                    <a:pt x="350" y="290"/>
                  </a:lnTo>
                  <a:lnTo>
                    <a:pt x="342" y="275"/>
                  </a:lnTo>
                  <a:lnTo>
                    <a:pt x="335" y="263"/>
                  </a:lnTo>
                  <a:lnTo>
                    <a:pt x="327" y="250"/>
                  </a:lnTo>
                  <a:lnTo>
                    <a:pt x="320" y="236"/>
                  </a:lnTo>
                  <a:lnTo>
                    <a:pt x="313" y="223"/>
                  </a:lnTo>
                  <a:lnTo>
                    <a:pt x="305" y="211"/>
                  </a:lnTo>
                  <a:lnTo>
                    <a:pt x="298" y="201"/>
                  </a:lnTo>
                  <a:lnTo>
                    <a:pt x="290" y="188"/>
                  </a:lnTo>
                  <a:lnTo>
                    <a:pt x="283" y="178"/>
                  </a:lnTo>
                  <a:lnTo>
                    <a:pt x="278" y="166"/>
                  </a:lnTo>
                  <a:lnTo>
                    <a:pt x="270" y="156"/>
                  </a:lnTo>
                  <a:lnTo>
                    <a:pt x="263" y="146"/>
                  </a:lnTo>
                  <a:lnTo>
                    <a:pt x="256" y="136"/>
                  </a:lnTo>
                  <a:lnTo>
                    <a:pt x="251" y="126"/>
                  </a:lnTo>
                  <a:lnTo>
                    <a:pt x="246" y="119"/>
                  </a:lnTo>
                  <a:lnTo>
                    <a:pt x="238" y="109"/>
                  </a:lnTo>
                  <a:lnTo>
                    <a:pt x="233" y="102"/>
                  </a:lnTo>
                  <a:lnTo>
                    <a:pt x="228" y="97"/>
                  </a:lnTo>
                  <a:lnTo>
                    <a:pt x="226" y="92"/>
                  </a:lnTo>
                  <a:lnTo>
                    <a:pt x="218" y="84"/>
                  </a:lnTo>
                  <a:lnTo>
                    <a:pt x="216" y="79"/>
                  </a:lnTo>
                  <a:lnTo>
                    <a:pt x="211" y="74"/>
                  </a:lnTo>
                  <a:lnTo>
                    <a:pt x="208" y="72"/>
                  </a:lnTo>
                  <a:lnTo>
                    <a:pt x="201" y="67"/>
                  </a:lnTo>
                  <a:lnTo>
                    <a:pt x="198" y="64"/>
                  </a:lnTo>
                  <a:lnTo>
                    <a:pt x="194" y="64"/>
                  </a:lnTo>
                  <a:lnTo>
                    <a:pt x="194" y="67"/>
                  </a:lnTo>
                  <a:lnTo>
                    <a:pt x="196" y="74"/>
                  </a:lnTo>
                  <a:lnTo>
                    <a:pt x="201" y="82"/>
                  </a:lnTo>
                  <a:lnTo>
                    <a:pt x="201" y="87"/>
                  </a:lnTo>
                  <a:lnTo>
                    <a:pt x="206" y="94"/>
                  </a:lnTo>
                  <a:lnTo>
                    <a:pt x="208" y="99"/>
                  </a:lnTo>
                  <a:lnTo>
                    <a:pt x="213" y="109"/>
                  </a:lnTo>
                  <a:lnTo>
                    <a:pt x="216" y="116"/>
                  </a:lnTo>
                  <a:lnTo>
                    <a:pt x="221" y="124"/>
                  </a:lnTo>
                  <a:lnTo>
                    <a:pt x="226" y="134"/>
                  </a:lnTo>
                  <a:lnTo>
                    <a:pt x="231" y="144"/>
                  </a:lnTo>
                  <a:lnTo>
                    <a:pt x="236" y="154"/>
                  </a:lnTo>
                  <a:lnTo>
                    <a:pt x="241" y="164"/>
                  </a:lnTo>
                  <a:lnTo>
                    <a:pt x="248" y="173"/>
                  </a:lnTo>
                  <a:lnTo>
                    <a:pt x="253" y="186"/>
                  </a:lnTo>
                  <a:lnTo>
                    <a:pt x="260" y="196"/>
                  </a:lnTo>
                  <a:lnTo>
                    <a:pt x="265" y="208"/>
                  </a:lnTo>
                  <a:lnTo>
                    <a:pt x="273" y="221"/>
                  </a:lnTo>
                  <a:lnTo>
                    <a:pt x="280" y="236"/>
                  </a:lnTo>
                  <a:lnTo>
                    <a:pt x="285" y="248"/>
                  </a:lnTo>
                  <a:lnTo>
                    <a:pt x="293" y="260"/>
                  </a:lnTo>
                  <a:lnTo>
                    <a:pt x="300" y="273"/>
                  </a:lnTo>
                  <a:lnTo>
                    <a:pt x="308" y="285"/>
                  </a:lnTo>
                  <a:lnTo>
                    <a:pt x="315" y="300"/>
                  </a:lnTo>
                  <a:lnTo>
                    <a:pt x="325" y="312"/>
                  </a:lnTo>
                  <a:lnTo>
                    <a:pt x="330" y="327"/>
                  </a:lnTo>
                  <a:lnTo>
                    <a:pt x="340" y="342"/>
                  </a:lnTo>
                  <a:lnTo>
                    <a:pt x="347" y="355"/>
                  </a:lnTo>
                  <a:lnTo>
                    <a:pt x="355" y="367"/>
                  </a:lnTo>
                  <a:lnTo>
                    <a:pt x="362" y="382"/>
                  </a:lnTo>
                  <a:lnTo>
                    <a:pt x="372" y="397"/>
                  </a:lnTo>
                  <a:lnTo>
                    <a:pt x="380" y="409"/>
                  </a:lnTo>
                  <a:lnTo>
                    <a:pt x="387" y="422"/>
                  </a:lnTo>
                  <a:lnTo>
                    <a:pt x="394" y="437"/>
                  </a:lnTo>
                  <a:lnTo>
                    <a:pt x="402" y="451"/>
                  </a:lnTo>
                  <a:lnTo>
                    <a:pt x="409" y="464"/>
                  </a:lnTo>
                  <a:lnTo>
                    <a:pt x="417" y="476"/>
                  </a:lnTo>
                  <a:lnTo>
                    <a:pt x="424" y="489"/>
                  </a:lnTo>
                  <a:lnTo>
                    <a:pt x="432" y="501"/>
                  </a:lnTo>
                  <a:lnTo>
                    <a:pt x="439" y="513"/>
                  </a:lnTo>
                  <a:lnTo>
                    <a:pt x="444" y="526"/>
                  </a:lnTo>
                  <a:lnTo>
                    <a:pt x="451" y="538"/>
                  </a:lnTo>
                  <a:lnTo>
                    <a:pt x="459" y="551"/>
                  </a:lnTo>
                  <a:lnTo>
                    <a:pt x="464" y="561"/>
                  </a:lnTo>
                  <a:lnTo>
                    <a:pt x="469" y="571"/>
                  </a:lnTo>
                  <a:lnTo>
                    <a:pt x="474" y="580"/>
                  </a:lnTo>
                  <a:lnTo>
                    <a:pt x="481" y="590"/>
                  </a:lnTo>
                  <a:lnTo>
                    <a:pt x="486" y="600"/>
                  </a:lnTo>
                  <a:lnTo>
                    <a:pt x="491" y="610"/>
                  </a:lnTo>
                  <a:lnTo>
                    <a:pt x="494" y="618"/>
                  </a:lnTo>
                  <a:lnTo>
                    <a:pt x="499" y="628"/>
                  </a:lnTo>
                  <a:lnTo>
                    <a:pt x="504" y="633"/>
                  </a:lnTo>
                  <a:lnTo>
                    <a:pt x="506" y="640"/>
                  </a:lnTo>
                  <a:lnTo>
                    <a:pt x="509" y="647"/>
                  </a:lnTo>
                  <a:lnTo>
                    <a:pt x="511" y="652"/>
                  </a:lnTo>
                  <a:lnTo>
                    <a:pt x="513" y="657"/>
                  </a:lnTo>
                  <a:lnTo>
                    <a:pt x="516" y="662"/>
                  </a:lnTo>
                  <a:lnTo>
                    <a:pt x="516" y="667"/>
                  </a:lnTo>
                  <a:lnTo>
                    <a:pt x="518" y="670"/>
                  </a:lnTo>
                  <a:lnTo>
                    <a:pt x="518" y="680"/>
                  </a:lnTo>
                  <a:lnTo>
                    <a:pt x="521" y="692"/>
                  </a:lnTo>
                  <a:lnTo>
                    <a:pt x="521" y="700"/>
                  </a:lnTo>
                  <a:lnTo>
                    <a:pt x="523" y="712"/>
                  </a:lnTo>
                  <a:lnTo>
                    <a:pt x="523" y="722"/>
                  </a:lnTo>
                  <a:lnTo>
                    <a:pt x="523" y="732"/>
                  </a:lnTo>
                  <a:lnTo>
                    <a:pt x="523" y="739"/>
                  </a:lnTo>
                  <a:lnTo>
                    <a:pt x="523" y="752"/>
                  </a:lnTo>
                  <a:lnTo>
                    <a:pt x="521" y="759"/>
                  </a:lnTo>
                  <a:lnTo>
                    <a:pt x="518" y="769"/>
                  </a:lnTo>
                  <a:lnTo>
                    <a:pt x="513" y="777"/>
                  </a:lnTo>
                  <a:lnTo>
                    <a:pt x="509" y="784"/>
                  </a:lnTo>
                  <a:lnTo>
                    <a:pt x="501" y="791"/>
                  </a:lnTo>
                  <a:lnTo>
                    <a:pt x="494" y="799"/>
                  </a:lnTo>
                  <a:lnTo>
                    <a:pt x="489" y="801"/>
                  </a:lnTo>
                  <a:lnTo>
                    <a:pt x="484" y="806"/>
                  </a:lnTo>
                  <a:lnTo>
                    <a:pt x="479" y="809"/>
                  </a:lnTo>
                  <a:lnTo>
                    <a:pt x="474" y="814"/>
                  </a:lnTo>
                  <a:lnTo>
                    <a:pt x="466" y="816"/>
                  </a:lnTo>
                  <a:lnTo>
                    <a:pt x="459" y="819"/>
                  </a:lnTo>
                  <a:lnTo>
                    <a:pt x="454" y="821"/>
                  </a:lnTo>
                  <a:lnTo>
                    <a:pt x="449" y="824"/>
                  </a:lnTo>
                  <a:lnTo>
                    <a:pt x="437" y="829"/>
                  </a:lnTo>
                  <a:lnTo>
                    <a:pt x="427" y="834"/>
                  </a:lnTo>
                  <a:lnTo>
                    <a:pt x="417" y="836"/>
                  </a:lnTo>
                  <a:lnTo>
                    <a:pt x="409" y="841"/>
                  </a:lnTo>
                  <a:lnTo>
                    <a:pt x="399" y="841"/>
                  </a:lnTo>
                  <a:lnTo>
                    <a:pt x="392" y="844"/>
                  </a:lnTo>
                  <a:lnTo>
                    <a:pt x="382" y="841"/>
                  </a:lnTo>
                  <a:lnTo>
                    <a:pt x="375" y="839"/>
                  </a:lnTo>
                  <a:lnTo>
                    <a:pt x="365" y="836"/>
                  </a:lnTo>
                  <a:lnTo>
                    <a:pt x="355" y="829"/>
                  </a:lnTo>
                  <a:lnTo>
                    <a:pt x="350" y="824"/>
                  </a:lnTo>
                  <a:lnTo>
                    <a:pt x="345" y="819"/>
                  </a:lnTo>
                  <a:lnTo>
                    <a:pt x="337" y="814"/>
                  </a:lnTo>
                  <a:lnTo>
                    <a:pt x="332" y="809"/>
                  </a:lnTo>
                  <a:lnTo>
                    <a:pt x="327" y="804"/>
                  </a:lnTo>
                  <a:lnTo>
                    <a:pt x="320" y="796"/>
                  </a:lnTo>
                  <a:lnTo>
                    <a:pt x="315" y="789"/>
                  </a:lnTo>
                  <a:lnTo>
                    <a:pt x="310" y="781"/>
                  </a:lnTo>
                  <a:lnTo>
                    <a:pt x="305" y="777"/>
                  </a:lnTo>
                  <a:lnTo>
                    <a:pt x="303" y="772"/>
                  </a:lnTo>
                  <a:lnTo>
                    <a:pt x="298" y="764"/>
                  </a:lnTo>
                  <a:lnTo>
                    <a:pt x="295" y="759"/>
                  </a:lnTo>
                  <a:lnTo>
                    <a:pt x="290" y="749"/>
                  </a:lnTo>
                  <a:lnTo>
                    <a:pt x="285" y="742"/>
                  </a:lnTo>
                  <a:lnTo>
                    <a:pt x="280" y="734"/>
                  </a:lnTo>
                  <a:lnTo>
                    <a:pt x="278" y="727"/>
                  </a:lnTo>
                  <a:lnTo>
                    <a:pt x="270" y="717"/>
                  </a:lnTo>
                  <a:lnTo>
                    <a:pt x="265" y="710"/>
                  </a:lnTo>
                  <a:lnTo>
                    <a:pt x="260" y="697"/>
                  </a:lnTo>
                  <a:lnTo>
                    <a:pt x="258" y="690"/>
                  </a:lnTo>
                  <a:lnTo>
                    <a:pt x="251" y="677"/>
                  </a:lnTo>
                  <a:lnTo>
                    <a:pt x="248" y="667"/>
                  </a:lnTo>
                  <a:lnTo>
                    <a:pt x="241" y="657"/>
                  </a:lnTo>
                  <a:lnTo>
                    <a:pt x="236" y="645"/>
                  </a:lnTo>
                  <a:lnTo>
                    <a:pt x="231" y="633"/>
                  </a:lnTo>
                  <a:lnTo>
                    <a:pt x="226" y="620"/>
                  </a:lnTo>
                  <a:lnTo>
                    <a:pt x="218" y="608"/>
                  </a:lnTo>
                  <a:lnTo>
                    <a:pt x="213" y="595"/>
                  </a:lnTo>
                  <a:lnTo>
                    <a:pt x="208" y="583"/>
                  </a:lnTo>
                  <a:lnTo>
                    <a:pt x="203" y="571"/>
                  </a:lnTo>
                  <a:lnTo>
                    <a:pt x="196" y="556"/>
                  </a:lnTo>
                  <a:lnTo>
                    <a:pt x="191" y="543"/>
                  </a:lnTo>
                  <a:lnTo>
                    <a:pt x="186" y="531"/>
                  </a:lnTo>
                  <a:lnTo>
                    <a:pt x="179" y="516"/>
                  </a:lnTo>
                  <a:lnTo>
                    <a:pt x="174" y="504"/>
                  </a:lnTo>
                  <a:lnTo>
                    <a:pt x="169" y="489"/>
                  </a:lnTo>
                  <a:lnTo>
                    <a:pt x="164" y="476"/>
                  </a:lnTo>
                  <a:lnTo>
                    <a:pt x="159" y="464"/>
                  </a:lnTo>
                  <a:lnTo>
                    <a:pt x="154" y="449"/>
                  </a:lnTo>
                  <a:lnTo>
                    <a:pt x="146" y="437"/>
                  </a:lnTo>
                  <a:lnTo>
                    <a:pt x="141" y="422"/>
                  </a:lnTo>
                  <a:lnTo>
                    <a:pt x="136" y="409"/>
                  </a:lnTo>
                  <a:lnTo>
                    <a:pt x="131" y="394"/>
                  </a:lnTo>
                  <a:lnTo>
                    <a:pt x="127" y="379"/>
                  </a:lnTo>
                  <a:lnTo>
                    <a:pt x="119" y="367"/>
                  </a:lnTo>
                  <a:lnTo>
                    <a:pt x="117" y="355"/>
                  </a:lnTo>
                  <a:lnTo>
                    <a:pt x="112" y="342"/>
                  </a:lnTo>
                  <a:lnTo>
                    <a:pt x="107" y="330"/>
                  </a:lnTo>
                  <a:lnTo>
                    <a:pt x="99" y="317"/>
                  </a:lnTo>
                  <a:lnTo>
                    <a:pt x="97" y="305"/>
                  </a:lnTo>
                  <a:lnTo>
                    <a:pt x="92" y="293"/>
                  </a:lnTo>
                  <a:lnTo>
                    <a:pt x="87" y="280"/>
                  </a:lnTo>
                  <a:lnTo>
                    <a:pt x="82" y="268"/>
                  </a:lnTo>
                  <a:lnTo>
                    <a:pt x="79" y="258"/>
                  </a:lnTo>
                  <a:lnTo>
                    <a:pt x="74" y="248"/>
                  </a:lnTo>
                  <a:lnTo>
                    <a:pt x="72" y="238"/>
                  </a:lnTo>
                  <a:lnTo>
                    <a:pt x="69" y="226"/>
                  </a:lnTo>
                  <a:lnTo>
                    <a:pt x="65" y="216"/>
                  </a:lnTo>
                  <a:lnTo>
                    <a:pt x="62" y="208"/>
                  </a:lnTo>
                  <a:lnTo>
                    <a:pt x="57" y="198"/>
                  </a:lnTo>
                  <a:lnTo>
                    <a:pt x="55" y="191"/>
                  </a:lnTo>
                  <a:lnTo>
                    <a:pt x="52" y="183"/>
                  </a:lnTo>
                  <a:lnTo>
                    <a:pt x="50" y="176"/>
                  </a:lnTo>
                  <a:lnTo>
                    <a:pt x="50" y="169"/>
                  </a:lnTo>
                  <a:lnTo>
                    <a:pt x="45" y="164"/>
                  </a:lnTo>
                  <a:lnTo>
                    <a:pt x="45" y="156"/>
                  </a:lnTo>
                  <a:lnTo>
                    <a:pt x="42" y="151"/>
                  </a:lnTo>
                  <a:lnTo>
                    <a:pt x="42" y="149"/>
                  </a:lnTo>
                  <a:lnTo>
                    <a:pt x="40" y="141"/>
                  </a:lnTo>
                  <a:lnTo>
                    <a:pt x="40" y="136"/>
                  </a:lnTo>
                  <a:lnTo>
                    <a:pt x="40" y="129"/>
                  </a:lnTo>
                  <a:lnTo>
                    <a:pt x="42" y="121"/>
                  </a:lnTo>
                  <a:lnTo>
                    <a:pt x="45" y="114"/>
                  </a:lnTo>
                  <a:lnTo>
                    <a:pt x="50" y="106"/>
                  </a:lnTo>
                  <a:lnTo>
                    <a:pt x="55" y="99"/>
                  </a:lnTo>
                  <a:lnTo>
                    <a:pt x="62" y="92"/>
                  </a:lnTo>
                  <a:lnTo>
                    <a:pt x="69" y="82"/>
                  </a:lnTo>
                  <a:lnTo>
                    <a:pt x="77" y="77"/>
                  </a:lnTo>
                  <a:lnTo>
                    <a:pt x="82" y="69"/>
                  </a:lnTo>
                  <a:lnTo>
                    <a:pt x="92" y="62"/>
                  </a:lnTo>
                  <a:lnTo>
                    <a:pt x="99" y="54"/>
                  </a:lnTo>
                  <a:lnTo>
                    <a:pt x="107" y="52"/>
                  </a:lnTo>
                  <a:lnTo>
                    <a:pt x="112" y="47"/>
                  </a:lnTo>
                  <a:lnTo>
                    <a:pt x="119" y="42"/>
                  </a:lnTo>
                  <a:lnTo>
                    <a:pt x="124" y="42"/>
                  </a:lnTo>
                  <a:lnTo>
                    <a:pt x="131" y="42"/>
                  </a:lnTo>
                  <a:lnTo>
                    <a:pt x="139" y="37"/>
                  </a:lnTo>
                  <a:lnTo>
                    <a:pt x="146" y="32"/>
                  </a:lnTo>
                  <a:lnTo>
                    <a:pt x="151" y="25"/>
                  </a:lnTo>
                  <a:lnTo>
                    <a:pt x="156" y="17"/>
                  </a:lnTo>
                  <a:lnTo>
                    <a:pt x="156" y="7"/>
                  </a:lnTo>
                  <a:lnTo>
                    <a:pt x="154" y="5"/>
                  </a:lnTo>
                  <a:lnTo>
                    <a:pt x="151" y="0"/>
                  </a:lnTo>
                  <a:lnTo>
                    <a:pt x="146" y="0"/>
                  </a:lnTo>
                  <a:lnTo>
                    <a:pt x="144" y="2"/>
                  </a:lnTo>
                  <a:lnTo>
                    <a:pt x="139" y="5"/>
                  </a:lnTo>
                  <a:lnTo>
                    <a:pt x="139" y="5"/>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3632400" y="4540320"/>
              <a:ext cx="382680" cy="268200"/>
            </a:xfrm>
            <a:custGeom>
              <a:avLst/>
              <a:gdLst/>
              <a:ahLst/>
              <a:rect l="l" t="t" r="r" b="b"/>
              <a:pathLst>
                <a:path w="241" h="169">
                  <a:moveTo>
                    <a:pt x="3" y="112"/>
                  </a:moveTo>
                  <a:lnTo>
                    <a:pt x="10" y="119"/>
                  </a:lnTo>
                  <a:lnTo>
                    <a:pt x="15" y="132"/>
                  </a:lnTo>
                  <a:lnTo>
                    <a:pt x="25" y="142"/>
                  </a:lnTo>
                  <a:lnTo>
                    <a:pt x="35" y="152"/>
                  </a:lnTo>
                  <a:lnTo>
                    <a:pt x="40" y="157"/>
                  </a:lnTo>
                  <a:lnTo>
                    <a:pt x="47" y="159"/>
                  </a:lnTo>
                  <a:lnTo>
                    <a:pt x="52" y="164"/>
                  </a:lnTo>
                  <a:lnTo>
                    <a:pt x="60" y="167"/>
                  </a:lnTo>
                  <a:lnTo>
                    <a:pt x="67" y="167"/>
                  </a:lnTo>
                  <a:lnTo>
                    <a:pt x="75" y="169"/>
                  </a:lnTo>
                  <a:lnTo>
                    <a:pt x="82" y="169"/>
                  </a:lnTo>
                  <a:lnTo>
                    <a:pt x="92" y="169"/>
                  </a:lnTo>
                  <a:lnTo>
                    <a:pt x="100" y="167"/>
                  </a:lnTo>
                  <a:lnTo>
                    <a:pt x="107" y="167"/>
                  </a:lnTo>
                  <a:lnTo>
                    <a:pt x="114" y="164"/>
                  </a:lnTo>
                  <a:lnTo>
                    <a:pt x="122" y="164"/>
                  </a:lnTo>
                  <a:lnTo>
                    <a:pt x="129" y="162"/>
                  </a:lnTo>
                  <a:lnTo>
                    <a:pt x="139" y="159"/>
                  </a:lnTo>
                  <a:lnTo>
                    <a:pt x="147" y="157"/>
                  </a:lnTo>
                  <a:lnTo>
                    <a:pt x="154" y="157"/>
                  </a:lnTo>
                  <a:lnTo>
                    <a:pt x="162" y="152"/>
                  </a:lnTo>
                  <a:lnTo>
                    <a:pt x="169" y="149"/>
                  </a:lnTo>
                  <a:lnTo>
                    <a:pt x="176" y="142"/>
                  </a:lnTo>
                  <a:lnTo>
                    <a:pt x="186" y="137"/>
                  </a:lnTo>
                  <a:lnTo>
                    <a:pt x="194" y="132"/>
                  </a:lnTo>
                  <a:lnTo>
                    <a:pt x="201" y="124"/>
                  </a:lnTo>
                  <a:lnTo>
                    <a:pt x="209" y="112"/>
                  </a:lnTo>
                  <a:lnTo>
                    <a:pt x="219" y="105"/>
                  </a:lnTo>
                  <a:lnTo>
                    <a:pt x="221" y="97"/>
                  </a:lnTo>
                  <a:lnTo>
                    <a:pt x="224" y="92"/>
                  </a:lnTo>
                  <a:lnTo>
                    <a:pt x="226" y="87"/>
                  </a:lnTo>
                  <a:lnTo>
                    <a:pt x="229" y="82"/>
                  </a:lnTo>
                  <a:lnTo>
                    <a:pt x="233" y="72"/>
                  </a:lnTo>
                  <a:lnTo>
                    <a:pt x="236" y="65"/>
                  </a:lnTo>
                  <a:lnTo>
                    <a:pt x="238" y="55"/>
                  </a:lnTo>
                  <a:lnTo>
                    <a:pt x="241" y="47"/>
                  </a:lnTo>
                  <a:lnTo>
                    <a:pt x="241" y="40"/>
                  </a:lnTo>
                  <a:lnTo>
                    <a:pt x="241" y="33"/>
                  </a:lnTo>
                  <a:lnTo>
                    <a:pt x="238" y="25"/>
                  </a:lnTo>
                  <a:lnTo>
                    <a:pt x="236" y="20"/>
                  </a:lnTo>
                  <a:lnTo>
                    <a:pt x="233" y="15"/>
                  </a:lnTo>
                  <a:lnTo>
                    <a:pt x="231" y="10"/>
                  </a:lnTo>
                  <a:lnTo>
                    <a:pt x="226" y="5"/>
                  </a:lnTo>
                  <a:lnTo>
                    <a:pt x="219" y="3"/>
                  </a:lnTo>
                  <a:lnTo>
                    <a:pt x="214" y="0"/>
                  </a:lnTo>
                  <a:lnTo>
                    <a:pt x="211" y="8"/>
                  </a:lnTo>
                  <a:lnTo>
                    <a:pt x="211" y="13"/>
                  </a:lnTo>
                  <a:lnTo>
                    <a:pt x="211" y="18"/>
                  </a:lnTo>
                  <a:lnTo>
                    <a:pt x="209" y="25"/>
                  </a:lnTo>
                  <a:lnTo>
                    <a:pt x="209" y="33"/>
                  </a:lnTo>
                  <a:lnTo>
                    <a:pt x="209" y="40"/>
                  </a:lnTo>
                  <a:lnTo>
                    <a:pt x="206" y="47"/>
                  </a:lnTo>
                  <a:lnTo>
                    <a:pt x="206" y="52"/>
                  </a:lnTo>
                  <a:lnTo>
                    <a:pt x="204" y="60"/>
                  </a:lnTo>
                  <a:lnTo>
                    <a:pt x="199" y="65"/>
                  </a:lnTo>
                  <a:lnTo>
                    <a:pt x="196" y="70"/>
                  </a:lnTo>
                  <a:lnTo>
                    <a:pt x="194" y="72"/>
                  </a:lnTo>
                  <a:lnTo>
                    <a:pt x="186" y="77"/>
                  </a:lnTo>
                  <a:lnTo>
                    <a:pt x="181" y="75"/>
                  </a:lnTo>
                  <a:lnTo>
                    <a:pt x="174" y="75"/>
                  </a:lnTo>
                  <a:lnTo>
                    <a:pt x="166" y="70"/>
                  </a:lnTo>
                  <a:lnTo>
                    <a:pt x="159" y="67"/>
                  </a:lnTo>
                  <a:lnTo>
                    <a:pt x="154" y="60"/>
                  </a:lnTo>
                  <a:lnTo>
                    <a:pt x="147" y="55"/>
                  </a:lnTo>
                  <a:lnTo>
                    <a:pt x="142" y="47"/>
                  </a:lnTo>
                  <a:lnTo>
                    <a:pt x="137" y="42"/>
                  </a:lnTo>
                  <a:lnTo>
                    <a:pt x="129" y="35"/>
                  </a:lnTo>
                  <a:lnTo>
                    <a:pt x="124" y="28"/>
                  </a:lnTo>
                  <a:lnTo>
                    <a:pt x="119" y="23"/>
                  </a:lnTo>
                  <a:lnTo>
                    <a:pt x="114" y="20"/>
                  </a:lnTo>
                  <a:lnTo>
                    <a:pt x="104" y="15"/>
                  </a:lnTo>
                  <a:lnTo>
                    <a:pt x="100" y="20"/>
                  </a:lnTo>
                  <a:lnTo>
                    <a:pt x="95" y="23"/>
                  </a:lnTo>
                  <a:lnTo>
                    <a:pt x="95" y="28"/>
                  </a:lnTo>
                  <a:lnTo>
                    <a:pt x="95" y="33"/>
                  </a:lnTo>
                  <a:lnTo>
                    <a:pt x="97" y="40"/>
                  </a:lnTo>
                  <a:lnTo>
                    <a:pt x="97" y="45"/>
                  </a:lnTo>
                  <a:lnTo>
                    <a:pt x="100" y="52"/>
                  </a:lnTo>
                  <a:lnTo>
                    <a:pt x="104" y="57"/>
                  </a:lnTo>
                  <a:lnTo>
                    <a:pt x="107" y="65"/>
                  </a:lnTo>
                  <a:lnTo>
                    <a:pt x="109" y="72"/>
                  </a:lnTo>
                  <a:lnTo>
                    <a:pt x="112" y="77"/>
                  </a:lnTo>
                  <a:lnTo>
                    <a:pt x="114" y="85"/>
                  </a:lnTo>
                  <a:lnTo>
                    <a:pt x="114" y="92"/>
                  </a:lnTo>
                  <a:lnTo>
                    <a:pt x="114" y="97"/>
                  </a:lnTo>
                  <a:lnTo>
                    <a:pt x="114" y="102"/>
                  </a:lnTo>
                  <a:lnTo>
                    <a:pt x="109" y="107"/>
                  </a:lnTo>
                  <a:lnTo>
                    <a:pt x="107" y="112"/>
                  </a:lnTo>
                  <a:lnTo>
                    <a:pt x="100" y="117"/>
                  </a:lnTo>
                  <a:lnTo>
                    <a:pt x="92" y="119"/>
                  </a:lnTo>
                  <a:lnTo>
                    <a:pt x="87" y="122"/>
                  </a:lnTo>
                  <a:lnTo>
                    <a:pt x="80" y="124"/>
                  </a:lnTo>
                  <a:lnTo>
                    <a:pt x="70" y="124"/>
                  </a:lnTo>
                  <a:lnTo>
                    <a:pt x="62" y="127"/>
                  </a:lnTo>
                  <a:lnTo>
                    <a:pt x="52" y="124"/>
                  </a:lnTo>
                  <a:lnTo>
                    <a:pt x="47" y="122"/>
                  </a:lnTo>
                  <a:lnTo>
                    <a:pt x="40" y="117"/>
                  </a:lnTo>
                  <a:lnTo>
                    <a:pt x="33" y="112"/>
                  </a:lnTo>
                  <a:lnTo>
                    <a:pt x="28" y="107"/>
                  </a:lnTo>
                  <a:lnTo>
                    <a:pt x="20" y="102"/>
                  </a:lnTo>
                  <a:lnTo>
                    <a:pt x="13" y="100"/>
                  </a:lnTo>
                  <a:lnTo>
                    <a:pt x="8" y="97"/>
                  </a:lnTo>
                  <a:lnTo>
                    <a:pt x="3" y="97"/>
                  </a:lnTo>
                  <a:lnTo>
                    <a:pt x="0" y="100"/>
                  </a:lnTo>
                  <a:lnTo>
                    <a:pt x="0" y="102"/>
                  </a:lnTo>
                  <a:lnTo>
                    <a:pt x="3" y="112"/>
                  </a:lnTo>
                  <a:lnTo>
                    <a:pt x="3"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6078600" y="2949480"/>
              <a:ext cx="492120" cy="838440"/>
            </a:xfrm>
            <a:custGeom>
              <a:avLst/>
              <a:gdLst/>
              <a:ahLst/>
              <a:rect l="l" t="t" r="r" b="b"/>
              <a:pathLst>
                <a:path w="310" h="528">
                  <a:moveTo>
                    <a:pt x="295" y="526"/>
                  </a:moveTo>
                  <a:lnTo>
                    <a:pt x="287" y="523"/>
                  </a:lnTo>
                  <a:lnTo>
                    <a:pt x="277" y="518"/>
                  </a:lnTo>
                  <a:lnTo>
                    <a:pt x="270" y="516"/>
                  </a:lnTo>
                  <a:lnTo>
                    <a:pt x="263" y="513"/>
                  </a:lnTo>
                  <a:lnTo>
                    <a:pt x="253" y="508"/>
                  </a:lnTo>
                  <a:lnTo>
                    <a:pt x="245" y="501"/>
                  </a:lnTo>
                  <a:lnTo>
                    <a:pt x="235" y="496"/>
                  </a:lnTo>
                  <a:lnTo>
                    <a:pt x="228" y="491"/>
                  </a:lnTo>
                  <a:lnTo>
                    <a:pt x="215" y="481"/>
                  </a:lnTo>
                  <a:lnTo>
                    <a:pt x="206" y="474"/>
                  </a:lnTo>
                  <a:lnTo>
                    <a:pt x="196" y="466"/>
                  </a:lnTo>
                  <a:lnTo>
                    <a:pt x="186" y="456"/>
                  </a:lnTo>
                  <a:lnTo>
                    <a:pt x="176" y="446"/>
                  </a:lnTo>
                  <a:lnTo>
                    <a:pt x="166" y="436"/>
                  </a:lnTo>
                  <a:lnTo>
                    <a:pt x="158" y="432"/>
                  </a:lnTo>
                  <a:lnTo>
                    <a:pt x="156" y="424"/>
                  </a:lnTo>
                  <a:lnTo>
                    <a:pt x="148" y="419"/>
                  </a:lnTo>
                  <a:lnTo>
                    <a:pt x="143" y="414"/>
                  </a:lnTo>
                  <a:lnTo>
                    <a:pt x="139" y="407"/>
                  </a:lnTo>
                  <a:lnTo>
                    <a:pt x="131" y="399"/>
                  </a:lnTo>
                  <a:lnTo>
                    <a:pt x="126" y="392"/>
                  </a:lnTo>
                  <a:lnTo>
                    <a:pt x="121" y="382"/>
                  </a:lnTo>
                  <a:lnTo>
                    <a:pt x="114" y="374"/>
                  </a:lnTo>
                  <a:lnTo>
                    <a:pt x="109" y="365"/>
                  </a:lnTo>
                  <a:lnTo>
                    <a:pt x="104" y="355"/>
                  </a:lnTo>
                  <a:lnTo>
                    <a:pt x="99" y="345"/>
                  </a:lnTo>
                  <a:lnTo>
                    <a:pt x="96" y="340"/>
                  </a:lnTo>
                  <a:lnTo>
                    <a:pt x="94" y="335"/>
                  </a:lnTo>
                  <a:lnTo>
                    <a:pt x="89" y="327"/>
                  </a:lnTo>
                  <a:lnTo>
                    <a:pt x="89" y="322"/>
                  </a:lnTo>
                  <a:lnTo>
                    <a:pt x="84" y="310"/>
                  </a:lnTo>
                  <a:lnTo>
                    <a:pt x="79" y="300"/>
                  </a:lnTo>
                  <a:lnTo>
                    <a:pt x="74" y="295"/>
                  </a:lnTo>
                  <a:lnTo>
                    <a:pt x="72" y="288"/>
                  </a:lnTo>
                  <a:lnTo>
                    <a:pt x="69" y="283"/>
                  </a:lnTo>
                  <a:lnTo>
                    <a:pt x="67" y="278"/>
                  </a:lnTo>
                  <a:lnTo>
                    <a:pt x="64" y="270"/>
                  </a:lnTo>
                  <a:lnTo>
                    <a:pt x="62" y="265"/>
                  </a:lnTo>
                  <a:lnTo>
                    <a:pt x="59" y="258"/>
                  </a:lnTo>
                  <a:lnTo>
                    <a:pt x="59" y="253"/>
                  </a:lnTo>
                  <a:lnTo>
                    <a:pt x="54" y="248"/>
                  </a:lnTo>
                  <a:lnTo>
                    <a:pt x="52" y="240"/>
                  </a:lnTo>
                  <a:lnTo>
                    <a:pt x="49" y="235"/>
                  </a:lnTo>
                  <a:lnTo>
                    <a:pt x="47" y="228"/>
                  </a:lnTo>
                  <a:lnTo>
                    <a:pt x="44" y="223"/>
                  </a:lnTo>
                  <a:lnTo>
                    <a:pt x="42" y="216"/>
                  </a:lnTo>
                  <a:lnTo>
                    <a:pt x="42" y="211"/>
                  </a:lnTo>
                  <a:lnTo>
                    <a:pt x="39" y="203"/>
                  </a:lnTo>
                  <a:lnTo>
                    <a:pt x="37" y="198"/>
                  </a:lnTo>
                  <a:lnTo>
                    <a:pt x="34" y="191"/>
                  </a:lnTo>
                  <a:lnTo>
                    <a:pt x="32" y="186"/>
                  </a:lnTo>
                  <a:lnTo>
                    <a:pt x="29" y="181"/>
                  </a:lnTo>
                  <a:lnTo>
                    <a:pt x="27" y="168"/>
                  </a:lnTo>
                  <a:lnTo>
                    <a:pt x="24" y="159"/>
                  </a:lnTo>
                  <a:lnTo>
                    <a:pt x="22" y="154"/>
                  </a:lnTo>
                  <a:lnTo>
                    <a:pt x="22" y="146"/>
                  </a:lnTo>
                  <a:lnTo>
                    <a:pt x="19" y="141"/>
                  </a:lnTo>
                  <a:lnTo>
                    <a:pt x="17" y="136"/>
                  </a:lnTo>
                  <a:lnTo>
                    <a:pt x="15" y="126"/>
                  </a:lnTo>
                  <a:lnTo>
                    <a:pt x="12" y="116"/>
                  </a:lnTo>
                  <a:lnTo>
                    <a:pt x="10" y="106"/>
                  </a:lnTo>
                  <a:lnTo>
                    <a:pt x="7" y="99"/>
                  </a:lnTo>
                  <a:lnTo>
                    <a:pt x="7" y="92"/>
                  </a:lnTo>
                  <a:lnTo>
                    <a:pt x="7" y="84"/>
                  </a:lnTo>
                  <a:lnTo>
                    <a:pt x="5" y="77"/>
                  </a:lnTo>
                  <a:lnTo>
                    <a:pt x="2" y="69"/>
                  </a:lnTo>
                  <a:lnTo>
                    <a:pt x="0" y="62"/>
                  </a:lnTo>
                  <a:lnTo>
                    <a:pt x="0" y="57"/>
                  </a:lnTo>
                  <a:lnTo>
                    <a:pt x="0" y="44"/>
                  </a:lnTo>
                  <a:lnTo>
                    <a:pt x="0" y="37"/>
                  </a:lnTo>
                  <a:lnTo>
                    <a:pt x="0" y="27"/>
                  </a:lnTo>
                  <a:lnTo>
                    <a:pt x="0" y="20"/>
                  </a:lnTo>
                  <a:lnTo>
                    <a:pt x="0" y="12"/>
                  </a:lnTo>
                  <a:lnTo>
                    <a:pt x="2" y="7"/>
                  </a:lnTo>
                  <a:lnTo>
                    <a:pt x="5" y="0"/>
                  </a:lnTo>
                  <a:lnTo>
                    <a:pt x="12" y="0"/>
                  </a:lnTo>
                  <a:lnTo>
                    <a:pt x="15" y="0"/>
                  </a:lnTo>
                  <a:lnTo>
                    <a:pt x="22" y="5"/>
                  </a:lnTo>
                  <a:lnTo>
                    <a:pt x="27" y="10"/>
                  </a:lnTo>
                  <a:lnTo>
                    <a:pt x="34" y="17"/>
                  </a:lnTo>
                  <a:lnTo>
                    <a:pt x="37" y="20"/>
                  </a:lnTo>
                  <a:lnTo>
                    <a:pt x="39" y="25"/>
                  </a:lnTo>
                  <a:lnTo>
                    <a:pt x="42" y="29"/>
                  </a:lnTo>
                  <a:lnTo>
                    <a:pt x="47" y="39"/>
                  </a:lnTo>
                  <a:lnTo>
                    <a:pt x="49" y="44"/>
                  </a:lnTo>
                  <a:lnTo>
                    <a:pt x="54" y="54"/>
                  </a:lnTo>
                  <a:lnTo>
                    <a:pt x="57" y="64"/>
                  </a:lnTo>
                  <a:lnTo>
                    <a:pt x="62" y="77"/>
                  </a:lnTo>
                  <a:lnTo>
                    <a:pt x="64" y="82"/>
                  </a:lnTo>
                  <a:lnTo>
                    <a:pt x="67" y="87"/>
                  </a:lnTo>
                  <a:lnTo>
                    <a:pt x="69" y="92"/>
                  </a:lnTo>
                  <a:lnTo>
                    <a:pt x="72" y="99"/>
                  </a:lnTo>
                  <a:lnTo>
                    <a:pt x="74" y="104"/>
                  </a:lnTo>
                  <a:lnTo>
                    <a:pt x="77" y="111"/>
                  </a:lnTo>
                  <a:lnTo>
                    <a:pt x="79" y="116"/>
                  </a:lnTo>
                  <a:lnTo>
                    <a:pt x="81" y="124"/>
                  </a:lnTo>
                  <a:lnTo>
                    <a:pt x="84" y="129"/>
                  </a:lnTo>
                  <a:lnTo>
                    <a:pt x="84" y="136"/>
                  </a:lnTo>
                  <a:lnTo>
                    <a:pt x="86" y="144"/>
                  </a:lnTo>
                  <a:lnTo>
                    <a:pt x="89" y="151"/>
                  </a:lnTo>
                  <a:lnTo>
                    <a:pt x="91" y="156"/>
                  </a:lnTo>
                  <a:lnTo>
                    <a:pt x="96" y="164"/>
                  </a:lnTo>
                  <a:lnTo>
                    <a:pt x="99" y="171"/>
                  </a:lnTo>
                  <a:lnTo>
                    <a:pt x="101" y="178"/>
                  </a:lnTo>
                  <a:lnTo>
                    <a:pt x="104" y="183"/>
                  </a:lnTo>
                  <a:lnTo>
                    <a:pt x="106" y="191"/>
                  </a:lnTo>
                  <a:lnTo>
                    <a:pt x="109" y="198"/>
                  </a:lnTo>
                  <a:lnTo>
                    <a:pt x="111" y="206"/>
                  </a:lnTo>
                  <a:lnTo>
                    <a:pt x="114" y="213"/>
                  </a:lnTo>
                  <a:lnTo>
                    <a:pt x="116" y="218"/>
                  </a:lnTo>
                  <a:lnTo>
                    <a:pt x="119" y="226"/>
                  </a:lnTo>
                  <a:lnTo>
                    <a:pt x="124" y="233"/>
                  </a:lnTo>
                  <a:lnTo>
                    <a:pt x="126" y="240"/>
                  </a:lnTo>
                  <a:lnTo>
                    <a:pt x="129" y="245"/>
                  </a:lnTo>
                  <a:lnTo>
                    <a:pt x="131" y="253"/>
                  </a:lnTo>
                  <a:lnTo>
                    <a:pt x="136" y="260"/>
                  </a:lnTo>
                  <a:lnTo>
                    <a:pt x="139" y="265"/>
                  </a:lnTo>
                  <a:lnTo>
                    <a:pt x="141" y="273"/>
                  </a:lnTo>
                  <a:lnTo>
                    <a:pt x="143" y="280"/>
                  </a:lnTo>
                  <a:lnTo>
                    <a:pt x="148" y="285"/>
                  </a:lnTo>
                  <a:lnTo>
                    <a:pt x="151" y="290"/>
                  </a:lnTo>
                  <a:lnTo>
                    <a:pt x="153" y="298"/>
                  </a:lnTo>
                  <a:lnTo>
                    <a:pt x="156" y="302"/>
                  </a:lnTo>
                  <a:lnTo>
                    <a:pt x="161" y="310"/>
                  </a:lnTo>
                  <a:lnTo>
                    <a:pt x="166" y="320"/>
                  </a:lnTo>
                  <a:lnTo>
                    <a:pt x="173" y="332"/>
                  </a:lnTo>
                  <a:lnTo>
                    <a:pt x="181" y="340"/>
                  </a:lnTo>
                  <a:lnTo>
                    <a:pt x="188" y="350"/>
                  </a:lnTo>
                  <a:lnTo>
                    <a:pt x="196" y="357"/>
                  </a:lnTo>
                  <a:lnTo>
                    <a:pt x="203" y="365"/>
                  </a:lnTo>
                  <a:lnTo>
                    <a:pt x="210" y="372"/>
                  </a:lnTo>
                  <a:lnTo>
                    <a:pt x="215" y="377"/>
                  </a:lnTo>
                  <a:lnTo>
                    <a:pt x="223" y="384"/>
                  </a:lnTo>
                  <a:lnTo>
                    <a:pt x="230" y="392"/>
                  </a:lnTo>
                  <a:lnTo>
                    <a:pt x="235" y="399"/>
                  </a:lnTo>
                  <a:lnTo>
                    <a:pt x="243" y="407"/>
                  </a:lnTo>
                  <a:lnTo>
                    <a:pt x="248" y="414"/>
                  </a:lnTo>
                  <a:lnTo>
                    <a:pt x="255" y="422"/>
                  </a:lnTo>
                  <a:lnTo>
                    <a:pt x="260" y="429"/>
                  </a:lnTo>
                  <a:lnTo>
                    <a:pt x="265" y="436"/>
                  </a:lnTo>
                  <a:lnTo>
                    <a:pt x="270" y="441"/>
                  </a:lnTo>
                  <a:lnTo>
                    <a:pt x="275" y="451"/>
                  </a:lnTo>
                  <a:lnTo>
                    <a:pt x="280" y="456"/>
                  </a:lnTo>
                  <a:lnTo>
                    <a:pt x="285" y="464"/>
                  </a:lnTo>
                  <a:lnTo>
                    <a:pt x="290" y="471"/>
                  </a:lnTo>
                  <a:lnTo>
                    <a:pt x="295" y="479"/>
                  </a:lnTo>
                  <a:lnTo>
                    <a:pt x="297" y="484"/>
                  </a:lnTo>
                  <a:lnTo>
                    <a:pt x="300" y="491"/>
                  </a:lnTo>
                  <a:lnTo>
                    <a:pt x="302" y="496"/>
                  </a:lnTo>
                  <a:lnTo>
                    <a:pt x="305" y="501"/>
                  </a:lnTo>
                  <a:lnTo>
                    <a:pt x="307" y="508"/>
                  </a:lnTo>
                  <a:lnTo>
                    <a:pt x="310" y="518"/>
                  </a:lnTo>
                  <a:lnTo>
                    <a:pt x="310" y="523"/>
                  </a:lnTo>
                  <a:lnTo>
                    <a:pt x="305" y="526"/>
                  </a:lnTo>
                  <a:lnTo>
                    <a:pt x="300" y="528"/>
                  </a:lnTo>
                  <a:lnTo>
                    <a:pt x="295" y="526"/>
                  </a:lnTo>
                  <a:lnTo>
                    <a:pt x="295" y="5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4376880" y="3630600"/>
              <a:ext cx="1406520" cy="1930320"/>
            </a:xfrm>
            <a:custGeom>
              <a:avLst/>
              <a:gdLst/>
              <a:ahLst/>
              <a:rect l="l" t="t" r="r" b="b"/>
              <a:pathLst>
                <a:path w="886" h="1216">
                  <a:moveTo>
                    <a:pt x="99" y="169"/>
                  </a:moveTo>
                  <a:lnTo>
                    <a:pt x="94" y="176"/>
                  </a:lnTo>
                  <a:lnTo>
                    <a:pt x="89" y="186"/>
                  </a:lnTo>
                  <a:lnTo>
                    <a:pt x="84" y="191"/>
                  </a:lnTo>
                  <a:lnTo>
                    <a:pt x="82" y="196"/>
                  </a:lnTo>
                  <a:lnTo>
                    <a:pt x="79" y="201"/>
                  </a:lnTo>
                  <a:lnTo>
                    <a:pt x="77" y="208"/>
                  </a:lnTo>
                  <a:lnTo>
                    <a:pt x="75" y="213"/>
                  </a:lnTo>
                  <a:lnTo>
                    <a:pt x="70" y="221"/>
                  </a:lnTo>
                  <a:lnTo>
                    <a:pt x="67" y="226"/>
                  </a:lnTo>
                  <a:lnTo>
                    <a:pt x="65" y="233"/>
                  </a:lnTo>
                  <a:lnTo>
                    <a:pt x="62" y="241"/>
                  </a:lnTo>
                  <a:lnTo>
                    <a:pt x="57" y="248"/>
                  </a:lnTo>
                  <a:lnTo>
                    <a:pt x="55" y="256"/>
                  </a:lnTo>
                  <a:lnTo>
                    <a:pt x="52" y="266"/>
                  </a:lnTo>
                  <a:lnTo>
                    <a:pt x="50" y="271"/>
                  </a:lnTo>
                  <a:lnTo>
                    <a:pt x="47" y="280"/>
                  </a:lnTo>
                  <a:lnTo>
                    <a:pt x="42" y="290"/>
                  </a:lnTo>
                  <a:lnTo>
                    <a:pt x="40" y="298"/>
                  </a:lnTo>
                  <a:lnTo>
                    <a:pt x="37" y="308"/>
                  </a:lnTo>
                  <a:lnTo>
                    <a:pt x="35" y="315"/>
                  </a:lnTo>
                  <a:lnTo>
                    <a:pt x="32" y="325"/>
                  </a:lnTo>
                  <a:lnTo>
                    <a:pt x="30" y="335"/>
                  </a:lnTo>
                  <a:lnTo>
                    <a:pt x="27" y="345"/>
                  </a:lnTo>
                  <a:lnTo>
                    <a:pt x="22" y="355"/>
                  </a:lnTo>
                  <a:lnTo>
                    <a:pt x="22" y="365"/>
                  </a:lnTo>
                  <a:lnTo>
                    <a:pt x="20" y="375"/>
                  </a:lnTo>
                  <a:lnTo>
                    <a:pt x="17" y="385"/>
                  </a:lnTo>
                  <a:lnTo>
                    <a:pt x="15" y="397"/>
                  </a:lnTo>
                  <a:lnTo>
                    <a:pt x="13" y="407"/>
                  </a:lnTo>
                  <a:lnTo>
                    <a:pt x="13" y="419"/>
                  </a:lnTo>
                  <a:lnTo>
                    <a:pt x="10" y="429"/>
                  </a:lnTo>
                  <a:lnTo>
                    <a:pt x="8" y="442"/>
                  </a:lnTo>
                  <a:lnTo>
                    <a:pt x="5" y="452"/>
                  </a:lnTo>
                  <a:lnTo>
                    <a:pt x="5" y="464"/>
                  </a:lnTo>
                  <a:lnTo>
                    <a:pt x="3" y="477"/>
                  </a:lnTo>
                  <a:lnTo>
                    <a:pt x="3" y="486"/>
                  </a:lnTo>
                  <a:lnTo>
                    <a:pt x="3" y="499"/>
                  </a:lnTo>
                  <a:lnTo>
                    <a:pt x="3" y="511"/>
                  </a:lnTo>
                  <a:lnTo>
                    <a:pt x="0" y="524"/>
                  </a:lnTo>
                  <a:lnTo>
                    <a:pt x="0" y="536"/>
                  </a:lnTo>
                  <a:lnTo>
                    <a:pt x="0" y="548"/>
                  </a:lnTo>
                  <a:lnTo>
                    <a:pt x="0" y="561"/>
                  </a:lnTo>
                  <a:lnTo>
                    <a:pt x="0" y="573"/>
                  </a:lnTo>
                  <a:lnTo>
                    <a:pt x="0" y="586"/>
                  </a:lnTo>
                  <a:lnTo>
                    <a:pt x="3" y="598"/>
                  </a:lnTo>
                  <a:lnTo>
                    <a:pt x="5" y="613"/>
                  </a:lnTo>
                  <a:lnTo>
                    <a:pt x="5" y="625"/>
                  </a:lnTo>
                  <a:lnTo>
                    <a:pt x="5" y="638"/>
                  </a:lnTo>
                  <a:lnTo>
                    <a:pt x="8" y="650"/>
                  </a:lnTo>
                  <a:lnTo>
                    <a:pt x="10" y="663"/>
                  </a:lnTo>
                  <a:lnTo>
                    <a:pt x="13" y="678"/>
                  </a:lnTo>
                  <a:lnTo>
                    <a:pt x="15" y="690"/>
                  </a:lnTo>
                  <a:lnTo>
                    <a:pt x="17" y="705"/>
                  </a:lnTo>
                  <a:lnTo>
                    <a:pt x="22" y="717"/>
                  </a:lnTo>
                  <a:lnTo>
                    <a:pt x="25" y="730"/>
                  </a:lnTo>
                  <a:lnTo>
                    <a:pt x="27" y="745"/>
                  </a:lnTo>
                  <a:lnTo>
                    <a:pt x="32" y="757"/>
                  </a:lnTo>
                  <a:lnTo>
                    <a:pt x="37" y="772"/>
                  </a:lnTo>
                  <a:lnTo>
                    <a:pt x="40" y="784"/>
                  </a:lnTo>
                  <a:lnTo>
                    <a:pt x="47" y="799"/>
                  </a:lnTo>
                  <a:lnTo>
                    <a:pt x="52" y="812"/>
                  </a:lnTo>
                  <a:lnTo>
                    <a:pt x="57" y="826"/>
                  </a:lnTo>
                  <a:lnTo>
                    <a:pt x="65" y="839"/>
                  </a:lnTo>
                  <a:lnTo>
                    <a:pt x="70" y="854"/>
                  </a:lnTo>
                  <a:lnTo>
                    <a:pt x="77" y="866"/>
                  </a:lnTo>
                  <a:lnTo>
                    <a:pt x="82" y="879"/>
                  </a:lnTo>
                  <a:lnTo>
                    <a:pt x="89" y="891"/>
                  </a:lnTo>
                  <a:lnTo>
                    <a:pt x="94" y="901"/>
                  </a:lnTo>
                  <a:lnTo>
                    <a:pt x="102" y="913"/>
                  </a:lnTo>
                  <a:lnTo>
                    <a:pt x="109" y="926"/>
                  </a:lnTo>
                  <a:lnTo>
                    <a:pt x="114" y="936"/>
                  </a:lnTo>
                  <a:lnTo>
                    <a:pt x="122" y="948"/>
                  </a:lnTo>
                  <a:lnTo>
                    <a:pt x="129" y="958"/>
                  </a:lnTo>
                  <a:lnTo>
                    <a:pt x="137" y="968"/>
                  </a:lnTo>
                  <a:lnTo>
                    <a:pt x="144" y="980"/>
                  </a:lnTo>
                  <a:lnTo>
                    <a:pt x="151" y="990"/>
                  </a:lnTo>
                  <a:lnTo>
                    <a:pt x="159" y="998"/>
                  </a:lnTo>
                  <a:lnTo>
                    <a:pt x="166" y="1010"/>
                  </a:lnTo>
                  <a:lnTo>
                    <a:pt x="174" y="1017"/>
                  </a:lnTo>
                  <a:lnTo>
                    <a:pt x="181" y="1027"/>
                  </a:lnTo>
                  <a:lnTo>
                    <a:pt x="189" y="1035"/>
                  </a:lnTo>
                  <a:lnTo>
                    <a:pt x="196" y="1045"/>
                  </a:lnTo>
                  <a:lnTo>
                    <a:pt x="203" y="1052"/>
                  </a:lnTo>
                  <a:lnTo>
                    <a:pt x="213" y="1060"/>
                  </a:lnTo>
                  <a:lnTo>
                    <a:pt x="221" y="1070"/>
                  </a:lnTo>
                  <a:lnTo>
                    <a:pt x="231" y="1077"/>
                  </a:lnTo>
                  <a:lnTo>
                    <a:pt x="238" y="1082"/>
                  </a:lnTo>
                  <a:lnTo>
                    <a:pt x="246" y="1089"/>
                  </a:lnTo>
                  <a:lnTo>
                    <a:pt x="256" y="1097"/>
                  </a:lnTo>
                  <a:lnTo>
                    <a:pt x="263" y="1104"/>
                  </a:lnTo>
                  <a:lnTo>
                    <a:pt x="273" y="1112"/>
                  </a:lnTo>
                  <a:lnTo>
                    <a:pt x="280" y="1117"/>
                  </a:lnTo>
                  <a:lnTo>
                    <a:pt x="290" y="1124"/>
                  </a:lnTo>
                  <a:lnTo>
                    <a:pt x="298" y="1129"/>
                  </a:lnTo>
                  <a:lnTo>
                    <a:pt x="308" y="1134"/>
                  </a:lnTo>
                  <a:lnTo>
                    <a:pt x="315" y="1142"/>
                  </a:lnTo>
                  <a:lnTo>
                    <a:pt x="323" y="1144"/>
                  </a:lnTo>
                  <a:lnTo>
                    <a:pt x="332" y="1151"/>
                  </a:lnTo>
                  <a:lnTo>
                    <a:pt x="340" y="1154"/>
                  </a:lnTo>
                  <a:lnTo>
                    <a:pt x="350" y="1159"/>
                  </a:lnTo>
                  <a:lnTo>
                    <a:pt x="360" y="1164"/>
                  </a:lnTo>
                  <a:lnTo>
                    <a:pt x="370" y="1169"/>
                  </a:lnTo>
                  <a:lnTo>
                    <a:pt x="377" y="1171"/>
                  </a:lnTo>
                  <a:lnTo>
                    <a:pt x="387" y="1176"/>
                  </a:lnTo>
                  <a:lnTo>
                    <a:pt x="397" y="1179"/>
                  </a:lnTo>
                  <a:lnTo>
                    <a:pt x="404" y="1184"/>
                  </a:lnTo>
                  <a:lnTo>
                    <a:pt x="414" y="1186"/>
                  </a:lnTo>
                  <a:lnTo>
                    <a:pt x="424" y="1189"/>
                  </a:lnTo>
                  <a:lnTo>
                    <a:pt x="434" y="1194"/>
                  </a:lnTo>
                  <a:lnTo>
                    <a:pt x="442" y="1196"/>
                  </a:lnTo>
                  <a:lnTo>
                    <a:pt x="452" y="1196"/>
                  </a:lnTo>
                  <a:lnTo>
                    <a:pt x="459" y="1201"/>
                  </a:lnTo>
                  <a:lnTo>
                    <a:pt x="469" y="1201"/>
                  </a:lnTo>
                  <a:lnTo>
                    <a:pt x="479" y="1204"/>
                  </a:lnTo>
                  <a:lnTo>
                    <a:pt x="486" y="1206"/>
                  </a:lnTo>
                  <a:lnTo>
                    <a:pt x="496" y="1209"/>
                  </a:lnTo>
                  <a:lnTo>
                    <a:pt x="506" y="1209"/>
                  </a:lnTo>
                  <a:lnTo>
                    <a:pt x="514" y="1211"/>
                  </a:lnTo>
                  <a:lnTo>
                    <a:pt x="523" y="1211"/>
                  </a:lnTo>
                  <a:lnTo>
                    <a:pt x="531" y="1214"/>
                  </a:lnTo>
                  <a:lnTo>
                    <a:pt x="541" y="1214"/>
                  </a:lnTo>
                  <a:lnTo>
                    <a:pt x="551" y="1216"/>
                  </a:lnTo>
                  <a:lnTo>
                    <a:pt x="558" y="1216"/>
                  </a:lnTo>
                  <a:lnTo>
                    <a:pt x="568" y="1216"/>
                  </a:lnTo>
                  <a:lnTo>
                    <a:pt x="578" y="1216"/>
                  </a:lnTo>
                  <a:lnTo>
                    <a:pt x="585" y="1216"/>
                  </a:lnTo>
                  <a:lnTo>
                    <a:pt x="595" y="1216"/>
                  </a:lnTo>
                  <a:lnTo>
                    <a:pt x="603" y="1216"/>
                  </a:lnTo>
                  <a:lnTo>
                    <a:pt x="610" y="1216"/>
                  </a:lnTo>
                  <a:lnTo>
                    <a:pt x="620" y="1216"/>
                  </a:lnTo>
                  <a:lnTo>
                    <a:pt x="628" y="1216"/>
                  </a:lnTo>
                  <a:lnTo>
                    <a:pt x="638" y="1216"/>
                  </a:lnTo>
                  <a:lnTo>
                    <a:pt x="645" y="1216"/>
                  </a:lnTo>
                  <a:lnTo>
                    <a:pt x="655" y="1216"/>
                  </a:lnTo>
                  <a:lnTo>
                    <a:pt x="662" y="1214"/>
                  </a:lnTo>
                  <a:lnTo>
                    <a:pt x="670" y="1214"/>
                  </a:lnTo>
                  <a:lnTo>
                    <a:pt x="677" y="1211"/>
                  </a:lnTo>
                  <a:lnTo>
                    <a:pt x="685" y="1211"/>
                  </a:lnTo>
                  <a:lnTo>
                    <a:pt x="692" y="1211"/>
                  </a:lnTo>
                  <a:lnTo>
                    <a:pt x="702" y="1211"/>
                  </a:lnTo>
                  <a:lnTo>
                    <a:pt x="709" y="1209"/>
                  </a:lnTo>
                  <a:lnTo>
                    <a:pt x="717" y="1209"/>
                  </a:lnTo>
                  <a:lnTo>
                    <a:pt x="722" y="1209"/>
                  </a:lnTo>
                  <a:lnTo>
                    <a:pt x="729" y="1206"/>
                  </a:lnTo>
                  <a:lnTo>
                    <a:pt x="737" y="1206"/>
                  </a:lnTo>
                  <a:lnTo>
                    <a:pt x="744" y="1204"/>
                  </a:lnTo>
                  <a:lnTo>
                    <a:pt x="749" y="1201"/>
                  </a:lnTo>
                  <a:lnTo>
                    <a:pt x="757" y="1201"/>
                  </a:lnTo>
                  <a:lnTo>
                    <a:pt x="764" y="1201"/>
                  </a:lnTo>
                  <a:lnTo>
                    <a:pt x="772" y="1201"/>
                  </a:lnTo>
                  <a:lnTo>
                    <a:pt x="776" y="1199"/>
                  </a:lnTo>
                  <a:lnTo>
                    <a:pt x="784" y="1196"/>
                  </a:lnTo>
                  <a:lnTo>
                    <a:pt x="789" y="1196"/>
                  </a:lnTo>
                  <a:lnTo>
                    <a:pt x="796" y="1194"/>
                  </a:lnTo>
                  <a:lnTo>
                    <a:pt x="801" y="1191"/>
                  </a:lnTo>
                  <a:lnTo>
                    <a:pt x="806" y="1191"/>
                  </a:lnTo>
                  <a:lnTo>
                    <a:pt x="811" y="1189"/>
                  </a:lnTo>
                  <a:lnTo>
                    <a:pt x="819" y="1189"/>
                  </a:lnTo>
                  <a:lnTo>
                    <a:pt x="826" y="1184"/>
                  </a:lnTo>
                  <a:lnTo>
                    <a:pt x="836" y="1181"/>
                  </a:lnTo>
                  <a:lnTo>
                    <a:pt x="846" y="1176"/>
                  </a:lnTo>
                  <a:lnTo>
                    <a:pt x="853" y="1171"/>
                  </a:lnTo>
                  <a:lnTo>
                    <a:pt x="858" y="1166"/>
                  </a:lnTo>
                  <a:lnTo>
                    <a:pt x="866" y="1164"/>
                  </a:lnTo>
                  <a:lnTo>
                    <a:pt x="871" y="1159"/>
                  </a:lnTo>
                  <a:lnTo>
                    <a:pt x="876" y="1154"/>
                  </a:lnTo>
                  <a:lnTo>
                    <a:pt x="878" y="1149"/>
                  </a:lnTo>
                  <a:lnTo>
                    <a:pt x="881" y="1142"/>
                  </a:lnTo>
                  <a:lnTo>
                    <a:pt x="883" y="1137"/>
                  </a:lnTo>
                  <a:lnTo>
                    <a:pt x="886" y="1129"/>
                  </a:lnTo>
                  <a:lnTo>
                    <a:pt x="883" y="1124"/>
                  </a:lnTo>
                  <a:lnTo>
                    <a:pt x="883" y="1117"/>
                  </a:lnTo>
                  <a:lnTo>
                    <a:pt x="881" y="1109"/>
                  </a:lnTo>
                  <a:lnTo>
                    <a:pt x="878" y="1104"/>
                  </a:lnTo>
                  <a:lnTo>
                    <a:pt x="873" y="1094"/>
                  </a:lnTo>
                  <a:lnTo>
                    <a:pt x="868" y="1089"/>
                  </a:lnTo>
                  <a:lnTo>
                    <a:pt x="861" y="1084"/>
                  </a:lnTo>
                  <a:lnTo>
                    <a:pt x="856" y="1082"/>
                  </a:lnTo>
                  <a:lnTo>
                    <a:pt x="846" y="1077"/>
                  </a:lnTo>
                  <a:lnTo>
                    <a:pt x="838" y="1075"/>
                  </a:lnTo>
                  <a:lnTo>
                    <a:pt x="829" y="1072"/>
                  </a:lnTo>
                  <a:lnTo>
                    <a:pt x="819" y="1072"/>
                  </a:lnTo>
                  <a:lnTo>
                    <a:pt x="814" y="1072"/>
                  </a:lnTo>
                  <a:lnTo>
                    <a:pt x="809" y="1072"/>
                  </a:lnTo>
                  <a:lnTo>
                    <a:pt x="801" y="1072"/>
                  </a:lnTo>
                  <a:lnTo>
                    <a:pt x="796" y="1072"/>
                  </a:lnTo>
                  <a:lnTo>
                    <a:pt x="791" y="1072"/>
                  </a:lnTo>
                  <a:lnTo>
                    <a:pt x="784" y="1072"/>
                  </a:lnTo>
                  <a:lnTo>
                    <a:pt x="779" y="1072"/>
                  </a:lnTo>
                  <a:lnTo>
                    <a:pt x="772" y="1072"/>
                  </a:lnTo>
                  <a:lnTo>
                    <a:pt x="764" y="1072"/>
                  </a:lnTo>
                  <a:lnTo>
                    <a:pt x="757" y="1072"/>
                  </a:lnTo>
                  <a:lnTo>
                    <a:pt x="749" y="1072"/>
                  </a:lnTo>
                  <a:lnTo>
                    <a:pt x="744" y="1072"/>
                  </a:lnTo>
                  <a:lnTo>
                    <a:pt x="737" y="1072"/>
                  </a:lnTo>
                  <a:lnTo>
                    <a:pt x="729" y="1072"/>
                  </a:lnTo>
                  <a:lnTo>
                    <a:pt x="722" y="1072"/>
                  </a:lnTo>
                  <a:lnTo>
                    <a:pt x="714" y="1075"/>
                  </a:lnTo>
                  <a:lnTo>
                    <a:pt x="707" y="1072"/>
                  </a:lnTo>
                  <a:lnTo>
                    <a:pt x="697" y="1072"/>
                  </a:lnTo>
                  <a:lnTo>
                    <a:pt x="690" y="1072"/>
                  </a:lnTo>
                  <a:lnTo>
                    <a:pt x="682" y="1072"/>
                  </a:lnTo>
                  <a:lnTo>
                    <a:pt x="672" y="1072"/>
                  </a:lnTo>
                  <a:lnTo>
                    <a:pt x="665" y="1072"/>
                  </a:lnTo>
                  <a:lnTo>
                    <a:pt x="655" y="1070"/>
                  </a:lnTo>
                  <a:lnTo>
                    <a:pt x="647" y="1070"/>
                  </a:lnTo>
                  <a:lnTo>
                    <a:pt x="638" y="1070"/>
                  </a:lnTo>
                  <a:lnTo>
                    <a:pt x="630" y="1070"/>
                  </a:lnTo>
                  <a:lnTo>
                    <a:pt x="620" y="1067"/>
                  </a:lnTo>
                  <a:lnTo>
                    <a:pt x="610" y="1067"/>
                  </a:lnTo>
                  <a:lnTo>
                    <a:pt x="600" y="1065"/>
                  </a:lnTo>
                  <a:lnTo>
                    <a:pt x="593" y="1065"/>
                  </a:lnTo>
                  <a:lnTo>
                    <a:pt x="583" y="1062"/>
                  </a:lnTo>
                  <a:lnTo>
                    <a:pt x="573" y="1060"/>
                  </a:lnTo>
                  <a:lnTo>
                    <a:pt x="563" y="1057"/>
                  </a:lnTo>
                  <a:lnTo>
                    <a:pt x="553" y="1055"/>
                  </a:lnTo>
                  <a:lnTo>
                    <a:pt x="543" y="1052"/>
                  </a:lnTo>
                  <a:lnTo>
                    <a:pt x="533" y="1050"/>
                  </a:lnTo>
                  <a:lnTo>
                    <a:pt x="523" y="1047"/>
                  </a:lnTo>
                  <a:lnTo>
                    <a:pt x="514" y="1042"/>
                  </a:lnTo>
                  <a:lnTo>
                    <a:pt x="501" y="1040"/>
                  </a:lnTo>
                  <a:lnTo>
                    <a:pt x="494" y="1035"/>
                  </a:lnTo>
                  <a:lnTo>
                    <a:pt x="481" y="1030"/>
                  </a:lnTo>
                  <a:lnTo>
                    <a:pt x="471" y="1027"/>
                  </a:lnTo>
                  <a:lnTo>
                    <a:pt x="459" y="1022"/>
                  </a:lnTo>
                  <a:lnTo>
                    <a:pt x="449" y="1017"/>
                  </a:lnTo>
                  <a:lnTo>
                    <a:pt x="439" y="1010"/>
                  </a:lnTo>
                  <a:lnTo>
                    <a:pt x="429" y="1005"/>
                  </a:lnTo>
                  <a:lnTo>
                    <a:pt x="417" y="998"/>
                  </a:lnTo>
                  <a:lnTo>
                    <a:pt x="407" y="993"/>
                  </a:lnTo>
                  <a:lnTo>
                    <a:pt x="394" y="985"/>
                  </a:lnTo>
                  <a:lnTo>
                    <a:pt x="385" y="978"/>
                  </a:lnTo>
                  <a:lnTo>
                    <a:pt x="375" y="970"/>
                  </a:lnTo>
                  <a:lnTo>
                    <a:pt x="365" y="965"/>
                  </a:lnTo>
                  <a:lnTo>
                    <a:pt x="355" y="958"/>
                  </a:lnTo>
                  <a:lnTo>
                    <a:pt x="345" y="950"/>
                  </a:lnTo>
                  <a:lnTo>
                    <a:pt x="337" y="946"/>
                  </a:lnTo>
                  <a:lnTo>
                    <a:pt x="328" y="938"/>
                  </a:lnTo>
                  <a:lnTo>
                    <a:pt x="320" y="933"/>
                  </a:lnTo>
                  <a:lnTo>
                    <a:pt x="310" y="926"/>
                  </a:lnTo>
                  <a:lnTo>
                    <a:pt x="303" y="921"/>
                  </a:lnTo>
                  <a:lnTo>
                    <a:pt x="295" y="913"/>
                  </a:lnTo>
                  <a:lnTo>
                    <a:pt x="288" y="908"/>
                  </a:lnTo>
                  <a:lnTo>
                    <a:pt x="280" y="901"/>
                  </a:lnTo>
                  <a:lnTo>
                    <a:pt x="275" y="896"/>
                  </a:lnTo>
                  <a:lnTo>
                    <a:pt x="268" y="888"/>
                  </a:lnTo>
                  <a:lnTo>
                    <a:pt x="261" y="883"/>
                  </a:lnTo>
                  <a:lnTo>
                    <a:pt x="256" y="876"/>
                  </a:lnTo>
                  <a:lnTo>
                    <a:pt x="251" y="871"/>
                  </a:lnTo>
                  <a:lnTo>
                    <a:pt x="243" y="864"/>
                  </a:lnTo>
                  <a:lnTo>
                    <a:pt x="238" y="859"/>
                  </a:lnTo>
                  <a:lnTo>
                    <a:pt x="233" y="851"/>
                  </a:lnTo>
                  <a:lnTo>
                    <a:pt x="228" y="846"/>
                  </a:lnTo>
                  <a:lnTo>
                    <a:pt x="226" y="839"/>
                  </a:lnTo>
                  <a:lnTo>
                    <a:pt x="218" y="831"/>
                  </a:lnTo>
                  <a:lnTo>
                    <a:pt x="216" y="826"/>
                  </a:lnTo>
                  <a:lnTo>
                    <a:pt x="211" y="819"/>
                  </a:lnTo>
                  <a:lnTo>
                    <a:pt x="208" y="814"/>
                  </a:lnTo>
                  <a:lnTo>
                    <a:pt x="203" y="807"/>
                  </a:lnTo>
                  <a:lnTo>
                    <a:pt x="201" y="802"/>
                  </a:lnTo>
                  <a:lnTo>
                    <a:pt x="199" y="794"/>
                  </a:lnTo>
                  <a:lnTo>
                    <a:pt x="196" y="789"/>
                  </a:lnTo>
                  <a:lnTo>
                    <a:pt x="194" y="782"/>
                  </a:lnTo>
                  <a:lnTo>
                    <a:pt x="189" y="774"/>
                  </a:lnTo>
                  <a:lnTo>
                    <a:pt x="186" y="767"/>
                  </a:lnTo>
                  <a:lnTo>
                    <a:pt x="184" y="762"/>
                  </a:lnTo>
                  <a:lnTo>
                    <a:pt x="181" y="754"/>
                  </a:lnTo>
                  <a:lnTo>
                    <a:pt x="181" y="747"/>
                  </a:lnTo>
                  <a:lnTo>
                    <a:pt x="179" y="740"/>
                  </a:lnTo>
                  <a:lnTo>
                    <a:pt x="179" y="732"/>
                  </a:lnTo>
                  <a:lnTo>
                    <a:pt x="176" y="725"/>
                  </a:lnTo>
                  <a:lnTo>
                    <a:pt x="174" y="717"/>
                  </a:lnTo>
                  <a:lnTo>
                    <a:pt x="171" y="710"/>
                  </a:lnTo>
                  <a:lnTo>
                    <a:pt x="171" y="702"/>
                  </a:lnTo>
                  <a:lnTo>
                    <a:pt x="171" y="692"/>
                  </a:lnTo>
                  <a:lnTo>
                    <a:pt x="169" y="685"/>
                  </a:lnTo>
                  <a:lnTo>
                    <a:pt x="169" y="678"/>
                  </a:lnTo>
                  <a:lnTo>
                    <a:pt x="169" y="670"/>
                  </a:lnTo>
                  <a:lnTo>
                    <a:pt x="169" y="660"/>
                  </a:lnTo>
                  <a:lnTo>
                    <a:pt x="166" y="650"/>
                  </a:lnTo>
                  <a:lnTo>
                    <a:pt x="166" y="643"/>
                  </a:lnTo>
                  <a:lnTo>
                    <a:pt x="166" y="633"/>
                  </a:lnTo>
                  <a:lnTo>
                    <a:pt x="166" y="623"/>
                  </a:lnTo>
                  <a:lnTo>
                    <a:pt x="166" y="613"/>
                  </a:lnTo>
                  <a:lnTo>
                    <a:pt x="166" y="606"/>
                  </a:lnTo>
                  <a:lnTo>
                    <a:pt x="166" y="596"/>
                  </a:lnTo>
                  <a:lnTo>
                    <a:pt x="166" y="583"/>
                  </a:lnTo>
                  <a:lnTo>
                    <a:pt x="166" y="573"/>
                  </a:lnTo>
                  <a:lnTo>
                    <a:pt x="169" y="563"/>
                  </a:lnTo>
                  <a:lnTo>
                    <a:pt x="169" y="553"/>
                  </a:lnTo>
                  <a:lnTo>
                    <a:pt x="169" y="541"/>
                  </a:lnTo>
                  <a:lnTo>
                    <a:pt x="171" y="531"/>
                  </a:lnTo>
                  <a:lnTo>
                    <a:pt x="171" y="519"/>
                  </a:lnTo>
                  <a:lnTo>
                    <a:pt x="171" y="509"/>
                  </a:lnTo>
                  <a:lnTo>
                    <a:pt x="171" y="496"/>
                  </a:lnTo>
                  <a:lnTo>
                    <a:pt x="171" y="484"/>
                  </a:lnTo>
                  <a:lnTo>
                    <a:pt x="174" y="474"/>
                  </a:lnTo>
                  <a:lnTo>
                    <a:pt x="176" y="462"/>
                  </a:lnTo>
                  <a:lnTo>
                    <a:pt x="176" y="449"/>
                  </a:lnTo>
                  <a:lnTo>
                    <a:pt x="179" y="439"/>
                  </a:lnTo>
                  <a:lnTo>
                    <a:pt x="181" y="427"/>
                  </a:lnTo>
                  <a:lnTo>
                    <a:pt x="184" y="419"/>
                  </a:lnTo>
                  <a:lnTo>
                    <a:pt x="186" y="407"/>
                  </a:lnTo>
                  <a:lnTo>
                    <a:pt x="189" y="397"/>
                  </a:lnTo>
                  <a:lnTo>
                    <a:pt x="191" y="387"/>
                  </a:lnTo>
                  <a:lnTo>
                    <a:pt x="194" y="377"/>
                  </a:lnTo>
                  <a:lnTo>
                    <a:pt x="196" y="367"/>
                  </a:lnTo>
                  <a:lnTo>
                    <a:pt x="201" y="357"/>
                  </a:lnTo>
                  <a:lnTo>
                    <a:pt x="203" y="350"/>
                  </a:lnTo>
                  <a:lnTo>
                    <a:pt x="208" y="340"/>
                  </a:lnTo>
                  <a:lnTo>
                    <a:pt x="211" y="330"/>
                  </a:lnTo>
                  <a:lnTo>
                    <a:pt x="216" y="323"/>
                  </a:lnTo>
                  <a:lnTo>
                    <a:pt x="218" y="313"/>
                  </a:lnTo>
                  <a:lnTo>
                    <a:pt x="223" y="305"/>
                  </a:lnTo>
                  <a:lnTo>
                    <a:pt x="228" y="295"/>
                  </a:lnTo>
                  <a:lnTo>
                    <a:pt x="233" y="288"/>
                  </a:lnTo>
                  <a:lnTo>
                    <a:pt x="238" y="280"/>
                  </a:lnTo>
                  <a:lnTo>
                    <a:pt x="243" y="273"/>
                  </a:lnTo>
                  <a:lnTo>
                    <a:pt x="248" y="266"/>
                  </a:lnTo>
                  <a:lnTo>
                    <a:pt x="253" y="258"/>
                  </a:lnTo>
                  <a:lnTo>
                    <a:pt x="258" y="248"/>
                  </a:lnTo>
                  <a:lnTo>
                    <a:pt x="266" y="243"/>
                  </a:lnTo>
                  <a:lnTo>
                    <a:pt x="270" y="236"/>
                  </a:lnTo>
                  <a:lnTo>
                    <a:pt x="275" y="228"/>
                  </a:lnTo>
                  <a:lnTo>
                    <a:pt x="283" y="223"/>
                  </a:lnTo>
                  <a:lnTo>
                    <a:pt x="288" y="216"/>
                  </a:lnTo>
                  <a:lnTo>
                    <a:pt x="293" y="211"/>
                  </a:lnTo>
                  <a:lnTo>
                    <a:pt x="300" y="204"/>
                  </a:lnTo>
                  <a:lnTo>
                    <a:pt x="305" y="199"/>
                  </a:lnTo>
                  <a:lnTo>
                    <a:pt x="313" y="191"/>
                  </a:lnTo>
                  <a:lnTo>
                    <a:pt x="318" y="186"/>
                  </a:lnTo>
                  <a:lnTo>
                    <a:pt x="325" y="179"/>
                  </a:lnTo>
                  <a:lnTo>
                    <a:pt x="330" y="174"/>
                  </a:lnTo>
                  <a:lnTo>
                    <a:pt x="337" y="169"/>
                  </a:lnTo>
                  <a:lnTo>
                    <a:pt x="342" y="164"/>
                  </a:lnTo>
                  <a:lnTo>
                    <a:pt x="350" y="156"/>
                  </a:lnTo>
                  <a:lnTo>
                    <a:pt x="355" y="151"/>
                  </a:lnTo>
                  <a:lnTo>
                    <a:pt x="362" y="149"/>
                  </a:lnTo>
                  <a:lnTo>
                    <a:pt x="370" y="144"/>
                  </a:lnTo>
                  <a:lnTo>
                    <a:pt x="375" y="139"/>
                  </a:lnTo>
                  <a:lnTo>
                    <a:pt x="382" y="134"/>
                  </a:lnTo>
                  <a:lnTo>
                    <a:pt x="390" y="132"/>
                  </a:lnTo>
                  <a:lnTo>
                    <a:pt x="397" y="127"/>
                  </a:lnTo>
                  <a:lnTo>
                    <a:pt x="402" y="122"/>
                  </a:lnTo>
                  <a:lnTo>
                    <a:pt x="409" y="119"/>
                  </a:lnTo>
                  <a:lnTo>
                    <a:pt x="417" y="117"/>
                  </a:lnTo>
                  <a:lnTo>
                    <a:pt x="422" y="112"/>
                  </a:lnTo>
                  <a:lnTo>
                    <a:pt x="429" y="109"/>
                  </a:lnTo>
                  <a:lnTo>
                    <a:pt x="437" y="104"/>
                  </a:lnTo>
                  <a:lnTo>
                    <a:pt x="444" y="102"/>
                  </a:lnTo>
                  <a:lnTo>
                    <a:pt x="449" y="99"/>
                  </a:lnTo>
                  <a:lnTo>
                    <a:pt x="456" y="97"/>
                  </a:lnTo>
                  <a:lnTo>
                    <a:pt x="464" y="92"/>
                  </a:lnTo>
                  <a:lnTo>
                    <a:pt x="469" y="89"/>
                  </a:lnTo>
                  <a:lnTo>
                    <a:pt x="476" y="87"/>
                  </a:lnTo>
                  <a:lnTo>
                    <a:pt x="484" y="84"/>
                  </a:lnTo>
                  <a:lnTo>
                    <a:pt x="491" y="84"/>
                  </a:lnTo>
                  <a:lnTo>
                    <a:pt x="499" y="82"/>
                  </a:lnTo>
                  <a:lnTo>
                    <a:pt x="504" y="79"/>
                  </a:lnTo>
                  <a:lnTo>
                    <a:pt x="509" y="77"/>
                  </a:lnTo>
                  <a:lnTo>
                    <a:pt x="514" y="74"/>
                  </a:lnTo>
                  <a:lnTo>
                    <a:pt x="519" y="72"/>
                  </a:lnTo>
                  <a:lnTo>
                    <a:pt x="528" y="67"/>
                  </a:lnTo>
                  <a:lnTo>
                    <a:pt x="536" y="65"/>
                  </a:lnTo>
                  <a:lnTo>
                    <a:pt x="543" y="60"/>
                  </a:lnTo>
                  <a:lnTo>
                    <a:pt x="548" y="55"/>
                  </a:lnTo>
                  <a:lnTo>
                    <a:pt x="553" y="50"/>
                  </a:lnTo>
                  <a:lnTo>
                    <a:pt x="558" y="45"/>
                  </a:lnTo>
                  <a:lnTo>
                    <a:pt x="558" y="37"/>
                  </a:lnTo>
                  <a:lnTo>
                    <a:pt x="558" y="27"/>
                  </a:lnTo>
                  <a:lnTo>
                    <a:pt x="551" y="20"/>
                  </a:lnTo>
                  <a:lnTo>
                    <a:pt x="543" y="15"/>
                  </a:lnTo>
                  <a:lnTo>
                    <a:pt x="536" y="12"/>
                  </a:lnTo>
                  <a:lnTo>
                    <a:pt x="531" y="7"/>
                  </a:lnTo>
                  <a:lnTo>
                    <a:pt x="521" y="5"/>
                  </a:lnTo>
                  <a:lnTo>
                    <a:pt x="514" y="5"/>
                  </a:lnTo>
                  <a:lnTo>
                    <a:pt x="506" y="3"/>
                  </a:lnTo>
                  <a:lnTo>
                    <a:pt x="496" y="0"/>
                  </a:lnTo>
                  <a:lnTo>
                    <a:pt x="486" y="0"/>
                  </a:lnTo>
                  <a:lnTo>
                    <a:pt x="476" y="0"/>
                  </a:lnTo>
                  <a:lnTo>
                    <a:pt x="471" y="0"/>
                  </a:lnTo>
                  <a:lnTo>
                    <a:pt x="466" y="0"/>
                  </a:lnTo>
                  <a:lnTo>
                    <a:pt x="459" y="0"/>
                  </a:lnTo>
                  <a:lnTo>
                    <a:pt x="454" y="0"/>
                  </a:lnTo>
                  <a:lnTo>
                    <a:pt x="449" y="0"/>
                  </a:lnTo>
                  <a:lnTo>
                    <a:pt x="444" y="3"/>
                  </a:lnTo>
                  <a:lnTo>
                    <a:pt x="437" y="3"/>
                  </a:lnTo>
                  <a:lnTo>
                    <a:pt x="432" y="5"/>
                  </a:lnTo>
                  <a:lnTo>
                    <a:pt x="427" y="5"/>
                  </a:lnTo>
                  <a:lnTo>
                    <a:pt x="419" y="7"/>
                  </a:lnTo>
                  <a:lnTo>
                    <a:pt x="414" y="7"/>
                  </a:lnTo>
                  <a:lnTo>
                    <a:pt x="407" y="10"/>
                  </a:lnTo>
                  <a:lnTo>
                    <a:pt x="402" y="10"/>
                  </a:lnTo>
                  <a:lnTo>
                    <a:pt x="394" y="12"/>
                  </a:lnTo>
                  <a:lnTo>
                    <a:pt x="390" y="15"/>
                  </a:lnTo>
                  <a:lnTo>
                    <a:pt x="382" y="20"/>
                  </a:lnTo>
                  <a:lnTo>
                    <a:pt x="375" y="20"/>
                  </a:lnTo>
                  <a:lnTo>
                    <a:pt x="370" y="22"/>
                  </a:lnTo>
                  <a:lnTo>
                    <a:pt x="362" y="25"/>
                  </a:lnTo>
                  <a:lnTo>
                    <a:pt x="357" y="27"/>
                  </a:lnTo>
                  <a:lnTo>
                    <a:pt x="350" y="30"/>
                  </a:lnTo>
                  <a:lnTo>
                    <a:pt x="345" y="35"/>
                  </a:lnTo>
                  <a:lnTo>
                    <a:pt x="337" y="37"/>
                  </a:lnTo>
                  <a:lnTo>
                    <a:pt x="332" y="40"/>
                  </a:lnTo>
                  <a:lnTo>
                    <a:pt x="323" y="45"/>
                  </a:lnTo>
                  <a:lnTo>
                    <a:pt x="313" y="52"/>
                  </a:lnTo>
                  <a:lnTo>
                    <a:pt x="303" y="57"/>
                  </a:lnTo>
                  <a:lnTo>
                    <a:pt x="295" y="65"/>
                  </a:lnTo>
                  <a:lnTo>
                    <a:pt x="285" y="72"/>
                  </a:lnTo>
                  <a:lnTo>
                    <a:pt x="278" y="77"/>
                  </a:lnTo>
                  <a:lnTo>
                    <a:pt x="268" y="84"/>
                  </a:lnTo>
                  <a:lnTo>
                    <a:pt x="263" y="89"/>
                  </a:lnTo>
                  <a:lnTo>
                    <a:pt x="256" y="97"/>
                  </a:lnTo>
                  <a:lnTo>
                    <a:pt x="251" y="102"/>
                  </a:lnTo>
                  <a:lnTo>
                    <a:pt x="243" y="109"/>
                  </a:lnTo>
                  <a:lnTo>
                    <a:pt x="238" y="114"/>
                  </a:lnTo>
                  <a:lnTo>
                    <a:pt x="231" y="119"/>
                  </a:lnTo>
                  <a:lnTo>
                    <a:pt x="226" y="122"/>
                  </a:lnTo>
                  <a:lnTo>
                    <a:pt x="221" y="127"/>
                  </a:lnTo>
                  <a:lnTo>
                    <a:pt x="218" y="132"/>
                  </a:lnTo>
                  <a:lnTo>
                    <a:pt x="211" y="137"/>
                  </a:lnTo>
                  <a:lnTo>
                    <a:pt x="203" y="141"/>
                  </a:lnTo>
                  <a:lnTo>
                    <a:pt x="199" y="141"/>
                  </a:lnTo>
                  <a:lnTo>
                    <a:pt x="196" y="139"/>
                  </a:lnTo>
                  <a:lnTo>
                    <a:pt x="194" y="134"/>
                  </a:lnTo>
                  <a:lnTo>
                    <a:pt x="191" y="132"/>
                  </a:lnTo>
                  <a:lnTo>
                    <a:pt x="191" y="127"/>
                  </a:lnTo>
                  <a:lnTo>
                    <a:pt x="191" y="122"/>
                  </a:lnTo>
                  <a:lnTo>
                    <a:pt x="189" y="117"/>
                  </a:lnTo>
                  <a:lnTo>
                    <a:pt x="189" y="109"/>
                  </a:lnTo>
                  <a:lnTo>
                    <a:pt x="189" y="104"/>
                  </a:lnTo>
                  <a:lnTo>
                    <a:pt x="186" y="102"/>
                  </a:lnTo>
                  <a:lnTo>
                    <a:pt x="184" y="94"/>
                  </a:lnTo>
                  <a:lnTo>
                    <a:pt x="181" y="92"/>
                  </a:lnTo>
                  <a:lnTo>
                    <a:pt x="176" y="89"/>
                  </a:lnTo>
                  <a:lnTo>
                    <a:pt x="171" y="89"/>
                  </a:lnTo>
                  <a:lnTo>
                    <a:pt x="164" y="92"/>
                  </a:lnTo>
                  <a:lnTo>
                    <a:pt x="159" y="97"/>
                  </a:lnTo>
                  <a:lnTo>
                    <a:pt x="151" y="99"/>
                  </a:lnTo>
                  <a:lnTo>
                    <a:pt x="144" y="107"/>
                  </a:lnTo>
                  <a:lnTo>
                    <a:pt x="137" y="114"/>
                  </a:lnTo>
                  <a:lnTo>
                    <a:pt x="129" y="124"/>
                  </a:lnTo>
                  <a:lnTo>
                    <a:pt x="122" y="134"/>
                  </a:lnTo>
                  <a:lnTo>
                    <a:pt x="114" y="144"/>
                  </a:lnTo>
                  <a:lnTo>
                    <a:pt x="112" y="151"/>
                  </a:lnTo>
                  <a:lnTo>
                    <a:pt x="107" y="156"/>
                  </a:lnTo>
                  <a:lnTo>
                    <a:pt x="102" y="164"/>
                  </a:lnTo>
                  <a:lnTo>
                    <a:pt x="99" y="169"/>
                  </a:lnTo>
                  <a:lnTo>
                    <a:pt x="99" y="169"/>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5235840" y="3484440"/>
              <a:ext cx="1162080" cy="1844640"/>
            </a:xfrm>
            <a:custGeom>
              <a:avLst/>
              <a:gdLst/>
              <a:ahLst/>
              <a:rect l="l" t="t" r="r" b="b"/>
              <a:pathLst>
                <a:path w="732" h="1162">
                  <a:moveTo>
                    <a:pt x="243" y="28"/>
                  </a:moveTo>
                  <a:lnTo>
                    <a:pt x="250" y="32"/>
                  </a:lnTo>
                  <a:lnTo>
                    <a:pt x="263" y="35"/>
                  </a:lnTo>
                  <a:lnTo>
                    <a:pt x="268" y="37"/>
                  </a:lnTo>
                  <a:lnTo>
                    <a:pt x="273" y="40"/>
                  </a:lnTo>
                  <a:lnTo>
                    <a:pt x="280" y="40"/>
                  </a:lnTo>
                  <a:lnTo>
                    <a:pt x="285" y="45"/>
                  </a:lnTo>
                  <a:lnTo>
                    <a:pt x="293" y="45"/>
                  </a:lnTo>
                  <a:lnTo>
                    <a:pt x="297" y="47"/>
                  </a:lnTo>
                  <a:lnTo>
                    <a:pt x="305" y="50"/>
                  </a:lnTo>
                  <a:lnTo>
                    <a:pt x="312" y="55"/>
                  </a:lnTo>
                  <a:lnTo>
                    <a:pt x="317" y="57"/>
                  </a:lnTo>
                  <a:lnTo>
                    <a:pt x="325" y="60"/>
                  </a:lnTo>
                  <a:lnTo>
                    <a:pt x="332" y="62"/>
                  </a:lnTo>
                  <a:lnTo>
                    <a:pt x="340" y="67"/>
                  </a:lnTo>
                  <a:lnTo>
                    <a:pt x="347" y="70"/>
                  </a:lnTo>
                  <a:lnTo>
                    <a:pt x="355" y="75"/>
                  </a:lnTo>
                  <a:lnTo>
                    <a:pt x="362" y="77"/>
                  </a:lnTo>
                  <a:lnTo>
                    <a:pt x="369" y="82"/>
                  </a:lnTo>
                  <a:lnTo>
                    <a:pt x="377" y="87"/>
                  </a:lnTo>
                  <a:lnTo>
                    <a:pt x="387" y="92"/>
                  </a:lnTo>
                  <a:lnTo>
                    <a:pt x="394" y="95"/>
                  </a:lnTo>
                  <a:lnTo>
                    <a:pt x="404" y="99"/>
                  </a:lnTo>
                  <a:lnTo>
                    <a:pt x="412" y="104"/>
                  </a:lnTo>
                  <a:lnTo>
                    <a:pt x="419" y="109"/>
                  </a:lnTo>
                  <a:lnTo>
                    <a:pt x="426" y="114"/>
                  </a:lnTo>
                  <a:lnTo>
                    <a:pt x="436" y="122"/>
                  </a:lnTo>
                  <a:lnTo>
                    <a:pt x="444" y="127"/>
                  </a:lnTo>
                  <a:lnTo>
                    <a:pt x="454" y="132"/>
                  </a:lnTo>
                  <a:lnTo>
                    <a:pt x="461" y="139"/>
                  </a:lnTo>
                  <a:lnTo>
                    <a:pt x="471" y="144"/>
                  </a:lnTo>
                  <a:lnTo>
                    <a:pt x="479" y="152"/>
                  </a:lnTo>
                  <a:lnTo>
                    <a:pt x="486" y="157"/>
                  </a:lnTo>
                  <a:lnTo>
                    <a:pt x="493" y="164"/>
                  </a:lnTo>
                  <a:lnTo>
                    <a:pt x="503" y="171"/>
                  </a:lnTo>
                  <a:lnTo>
                    <a:pt x="511" y="176"/>
                  </a:lnTo>
                  <a:lnTo>
                    <a:pt x="518" y="184"/>
                  </a:lnTo>
                  <a:lnTo>
                    <a:pt x="526" y="191"/>
                  </a:lnTo>
                  <a:lnTo>
                    <a:pt x="536" y="199"/>
                  </a:lnTo>
                  <a:lnTo>
                    <a:pt x="543" y="206"/>
                  </a:lnTo>
                  <a:lnTo>
                    <a:pt x="550" y="214"/>
                  </a:lnTo>
                  <a:lnTo>
                    <a:pt x="560" y="224"/>
                  </a:lnTo>
                  <a:lnTo>
                    <a:pt x="568" y="231"/>
                  </a:lnTo>
                  <a:lnTo>
                    <a:pt x="575" y="241"/>
                  </a:lnTo>
                  <a:lnTo>
                    <a:pt x="583" y="248"/>
                  </a:lnTo>
                  <a:lnTo>
                    <a:pt x="590" y="258"/>
                  </a:lnTo>
                  <a:lnTo>
                    <a:pt x="600" y="268"/>
                  </a:lnTo>
                  <a:lnTo>
                    <a:pt x="605" y="278"/>
                  </a:lnTo>
                  <a:lnTo>
                    <a:pt x="615" y="288"/>
                  </a:lnTo>
                  <a:lnTo>
                    <a:pt x="620" y="296"/>
                  </a:lnTo>
                  <a:lnTo>
                    <a:pt x="627" y="308"/>
                  </a:lnTo>
                  <a:lnTo>
                    <a:pt x="635" y="318"/>
                  </a:lnTo>
                  <a:lnTo>
                    <a:pt x="642" y="328"/>
                  </a:lnTo>
                  <a:lnTo>
                    <a:pt x="647" y="340"/>
                  </a:lnTo>
                  <a:lnTo>
                    <a:pt x="655" y="353"/>
                  </a:lnTo>
                  <a:lnTo>
                    <a:pt x="662" y="363"/>
                  </a:lnTo>
                  <a:lnTo>
                    <a:pt x="667" y="375"/>
                  </a:lnTo>
                  <a:lnTo>
                    <a:pt x="674" y="387"/>
                  </a:lnTo>
                  <a:lnTo>
                    <a:pt x="679" y="400"/>
                  </a:lnTo>
                  <a:lnTo>
                    <a:pt x="684" y="412"/>
                  </a:lnTo>
                  <a:lnTo>
                    <a:pt x="692" y="425"/>
                  </a:lnTo>
                  <a:lnTo>
                    <a:pt x="697" y="439"/>
                  </a:lnTo>
                  <a:lnTo>
                    <a:pt x="702" y="454"/>
                  </a:lnTo>
                  <a:lnTo>
                    <a:pt x="707" y="464"/>
                  </a:lnTo>
                  <a:lnTo>
                    <a:pt x="709" y="479"/>
                  </a:lnTo>
                  <a:lnTo>
                    <a:pt x="714" y="494"/>
                  </a:lnTo>
                  <a:lnTo>
                    <a:pt x="717" y="506"/>
                  </a:lnTo>
                  <a:lnTo>
                    <a:pt x="722" y="521"/>
                  </a:lnTo>
                  <a:lnTo>
                    <a:pt x="724" y="536"/>
                  </a:lnTo>
                  <a:lnTo>
                    <a:pt x="727" y="549"/>
                  </a:lnTo>
                  <a:lnTo>
                    <a:pt x="729" y="564"/>
                  </a:lnTo>
                  <a:lnTo>
                    <a:pt x="729" y="578"/>
                  </a:lnTo>
                  <a:lnTo>
                    <a:pt x="729" y="591"/>
                  </a:lnTo>
                  <a:lnTo>
                    <a:pt x="729" y="606"/>
                  </a:lnTo>
                  <a:lnTo>
                    <a:pt x="732" y="621"/>
                  </a:lnTo>
                  <a:lnTo>
                    <a:pt x="732" y="633"/>
                  </a:lnTo>
                  <a:lnTo>
                    <a:pt x="732" y="648"/>
                  </a:lnTo>
                  <a:lnTo>
                    <a:pt x="729" y="663"/>
                  </a:lnTo>
                  <a:lnTo>
                    <a:pt x="729" y="678"/>
                  </a:lnTo>
                  <a:lnTo>
                    <a:pt x="729" y="690"/>
                  </a:lnTo>
                  <a:lnTo>
                    <a:pt x="727" y="705"/>
                  </a:lnTo>
                  <a:lnTo>
                    <a:pt x="724" y="717"/>
                  </a:lnTo>
                  <a:lnTo>
                    <a:pt x="722" y="732"/>
                  </a:lnTo>
                  <a:lnTo>
                    <a:pt x="719" y="745"/>
                  </a:lnTo>
                  <a:lnTo>
                    <a:pt x="717" y="760"/>
                  </a:lnTo>
                  <a:lnTo>
                    <a:pt x="714" y="772"/>
                  </a:lnTo>
                  <a:lnTo>
                    <a:pt x="712" y="787"/>
                  </a:lnTo>
                  <a:lnTo>
                    <a:pt x="707" y="799"/>
                  </a:lnTo>
                  <a:lnTo>
                    <a:pt x="704" y="814"/>
                  </a:lnTo>
                  <a:lnTo>
                    <a:pt x="699" y="827"/>
                  </a:lnTo>
                  <a:lnTo>
                    <a:pt x="697" y="839"/>
                  </a:lnTo>
                  <a:lnTo>
                    <a:pt x="692" y="851"/>
                  </a:lnTo>
                  <a:lnTo>
                    <a:pt x="687" y="864"/>
                  </a:lnTo>
                  <a:lnTo>
                    <a:pt x="684" y="876"/>
                  </a:lnTo>
                  <a:lnTo>
                    <a:pt x="679" y="891"/>
                  </a:lnTo>
                  <a:lnTo>
                    <a:pt x="674" y="901"/>
                  </a:lnTo>
                  <a:lnTo>
                    <a:pt x="670" y="913"/>
                  </a:lnTo>
                  <a:lnTo>
                    <a:pt x="665" y="923"/>
                  </a:lnTo>
                  <a:lnTo>
                    <a:pt x="660" y="936"/>
                  </a:lnTo>
                  <a:lnTo>
                    <a:pt x="655" y="946"/>
                  </a:lnTo>
                  <a:lnTo>
                    <a:pt x="650" y="958"/>
                  </a:lnTo>
                  <a:lnTo>
                    <a:pt x="645" y="971"/>
                  </a:lnTo>
                  <a:lnTo>
                    <a:pt x="637" y="980"/>
                  </a:lnTo>
                  <a:lnTo>
                    <a:pt x="632" y="990"/>
                  </a:lnTo>
                  <a:lnTo>
                    <a:pt x="627" y="1000"/>
                  </a:lnTo>
                  <a:lnTo>
                    <a:pt x="620" y="1010"/>
                  </a:lnTo>
                  <a:lnTo>
                    <a:pt x="615" y="1020"/>
                  </a:lnTo>
                  <a:lnTo>
                    <a:pt x="610" y="1030"/>
                  </a:lnTo>
                  <a:lnTo>
                    <a:pt x="605" y="1038"/>
                  </a:lnTo>
                  <a:lnTo>
                    <a:pt x="600" y="1047"/>
                  </a:lnTo>
                  <a:lnTo>
                    <a:pt x="595" y="1057"/>
                  </a:lnTo>
                  <a:lnTo>
                    <a:pt x="588" y="1065"/>
                  </a:lnTo>
                  <a:lnTo>
                    <a:pt x="583" y="1072"/>
                  </a:lnTo>
                  <a:lnTo>
                    <a:pt x="578" y="1080"/>
                  </a:lnTo>
                  <a:lnTo>
                    <a:pt x="573" y="1087"/>
                  </a:lnTo>
                  <a:lnTo>
                    <a:pt x="565" y="1092"/>
                  </a:lnTo>
                  <a:lnTo>
                    <a:pt x="560" y="1100"/>
                  </a:lnTo>
                  <a:lnTo>
                    <a:pt x="555" y="1105"/>
                  </a:lnTo>
                  <a:lnTo>
                    <a:pt x="553" y="1112"/>
                  </a:lnTo>
                  <a:lnTo>
                    <a:pt x="543" y="1122"/>
                  </a:lnTo>
                  <a:lnTo>
                    <a:pt x="533" y="1132"/>
                  </a:lnTo>
                  <a:lnTo>
                    <a:pt x="526" y="1137"/>
                  </a:lnTo>
                  <a:lnTo>
                    <a:pt x="518" y="1144"/>
                  </a:lnTo>
                  <a:lnTo>
                    <a:pt x="511" y="1147"/>
                  </a:lnTo>
                  <a:lnTo>
                    <a:pt x="503" y="1149"/>
                  </a:lnTo>
                  <a:lnTo>
                    <a:pt x="496" y="1152"/>
                  </a:lnTo>
                  <a:lnTo>
                    <a:pt x="488" y="1157"/>
                  </a:lnTo>
                  <a:lnTo>
                    <a:pt x="481" y="1157"/>
                  </a:lnTo>
                  <a:lnTo>
                    <a:pt x="471" y="1159"/>
                  </a:lnTo>
                  <a:lnTo>
                    <a:pt x="464" y="1159"/>
                  </a:lnTo>
                  <a:lnTo>
                    <a:pt x="456" y="1162"/>
                  </a:lnTo>
                  <a:lnTo>
                    <a:pt x="449" y="1162"/>
                  </a:lnTo>
                  <a:lnTo>
                    <a:pt x="439" y="1162"/>
                  </a:lnTo>
                  <a:lnTo>
                    <a:pt x="431" y="1159"/>
                  </a:lnTo>
                  <a:lnTo>
                    <a:pt x="424" y="1159"/>
                  </a:lnTo>
                  <a:lnTo>
                    <a:pt x="414" y="1157"/>
                  </a:lnTo>
                  <a:lnTo>
                    <a:pt x="407" y="1157"/>
                  </a:lnTo>
                  <a:lnTo>
                    <a:pt x="399" y="1157"/>
                  </a:lnTo>
                  <a:lnTo>
                    <a:pt x="392" y="1154"/>
                  </a:lnTo>
                  <a:lnTo>
                    <a:pt x="382" y="1152"/>
                  </a:lnTo>
                  <a:lnTo>
                    <a:pt x="377" y="1149"/>
                  </a:lnTo>
                  <a:lnTo>
                    <a:pt x="367" y="1147"/>
                  </a:lnTo>
                  <a:lnTo>
                    <a:pt x="362" y="1144"/>
                  </a:lnTo>
                  <a:lnTo>
                    <a:pt x="352" y="1142"/>
                  </a:lnTo>
                  <a:lnTo>
                    <a:pt x="347" y="1139"/>
                  </a:lnTo>
                  <a:lnTo>
                    <a:pt x="340" y="1134"/>
                  </a:lnTo>
                  <a:lnTo>
                    <a:pt x="335" y="1132"/>
                  </a:lnTo>
                  <a:lnTo>
                    <a:pt x="330" y="1129"/>
                  </a:lnTo>
                  <a:lnTo>
                    <a:pt x="322" y="1127"/>
                  </a:lnTo>
                  <a:lnTo>
                    <a:pt x="317" y="1122"/>
                  </a:lnTo>
                  <a:lnTo>
                    <a:pt x="315" y="1119"/>
                  </a:lnTo>
                  <a:lnTo>
                    <a:pt x="305" y="1112"/>
                  </a:lnTo>
                  <a:lnTo>
                    <a:pt x="300" y="1105"/>
                  </a:lnTo>
                  <a:lnTo>
                    <a:pt x="295" y="1097"/>
                  </a:lnTo>
                  <a:lnTo>
                    <a:pt x="295" y="1090"/>
                  </a:lnTo>
                  <a:lnTo>
                    <a:pt x="297" y="1085"/>
                  </a:lnTo>
                  <a:lnTo>
                    <a:pt x="302" y="1077"/>
                  </a:lnTo>
                  <a:lnTo>
                    <a:pt x="310" y="1070"/>
                  </a:lnTo>
                  <a:lnTo>
                    <a:pt x="322" y="1060"/>
                  </a:lnTo>
                  <a:lnTo>
                    <a:pt x="327" y="1055"/>
                  </a:lnTo>
                  <a:lnTo>
                    <a:pt x="335" y="1052"/>
                  </a:lnTo>
                  <a:lnTo>
                    <a:pt x="342" y="1047"/>
                  </a:lnTo>
                  <a:lnTo>
                    <a:pt x="350" y="1042"/>
                  </a:lnTo>
                  <a:lnTo>
                    <a:pt x="357" y="1038"/>
                  </a:lnTo>
                  <a:lnTo>
                    <a:pt x="364" y="1033"/>
                  </a:lnTo>
                  <a:lnTo>
                    <a:pt x="374" y="1025"/>
                  </a:lnTo>
                  <a:lnTo>
                    <a:pt x="382" y="1020"/>
                  </a:lnTo>
                  <a:lnTo>
                    <a:pt x="392" y="1013"/>
                  </a:lnTo>
                  <a:lnTo>
                    <a:pt x="399" y="1008"/>
                  </a:lnTo>
                  <a:lnTo>
                    <a:pt x="409" y="1000"/>
                  </a:lnTo>
                  <a:lnTo>
                    <a:pt x="419" y="993"/>
                  </a:lnTo>
                  <a:lnTo>
                    <a:pt x="426" y="985"/>
                  </a:lnTo>
                  <a:lnTo>
                    <a:pt x="436" y="978"/>
                  </a:lnTo>
                  <a:lnTo>
                    <a:pt x="446" y="968"/>
                  </a:lnTo>
                  <a:lnTo>
                    <a:pt x="454" y="961"/>
                  </a:lnTo>
                  <a:lnTo>
                    <a:pt x="464" y="951"/>
                  </a:lnTo>
                  <a:lnTo>
                    <a:pt x="471" y="941"/>
                  </a:lnTo>
                  <a:lnTo>
                    <a:pt x="481" y="931"/>
                  </a:lnTo>
                  <a:lnTo>
                    <a:pt x="488" y="921"/>
                  </a:lnTo>
                  <a:lnTo>
                    <a:pt x="493" y="916"/>
                  </a:lnTo>
                  <a:lnTo>
                    <a:pt x="496" y="908"/>
                  </a:lnTo>
                  <a:lnTo>
                    <a:pt x="501" y="904"/>
                  </a:lnTo>
                  <a:lnTo>
                    <a:pt x="503" y="896"/>
                  </a:lnTo>
                  <a:lnTo>
                    <a:pt x="506" y="891"/>
                  </a:lnTo>
                  <a:lnTo>
                    <a:pt x="511" y="884"/>
                  </a:lnTo>
                  <a:lnTo>
                    <a:pt x="516" y="879"/>
                  </a:lnTo>
                  <a:lnTo>
                    <a:pt x="518" y="871"/>
                  </a:lnTo>
                  <a:lnTo>
                    <a:pt x="521" y="864"/>
                  </a:lnTo>
                  <a:lnTo>
                    <a:pt x="526" y="859"/>
                  </a:lnTo>
                  <a:lnTo>
                    <a:pt x="528" y="851"/>
                  </a:lnTo>
                  <a:lnTo>
                    <a:pt x="531" y="844"/>
                  </a:lnTo>
                  <a:lnTo>
                    <a:pt x="533" y="839"/>
                  </a:lnTo>
                  <a:lnTo>
                    <a:pt x="538" y="832"/>
                  </a:lnTo>
                  <a:lnTo>
                    <a:pt x="541" y="824"/>
                  </a:lnTo>
                  <a:lnTo>
                    <a:pt x="543" y="817"/>
                  </a:lnTo>
                  <a:lnTo>
                    <a:pt x="546" y="809"/>
                  </a:lnTo>
                  <a:lnTo>
                    <a:pt x="548" y="802"/>
                  </a:lnTo>
                  <a:lnTo>
                    <a:pt x="548" y="794"/>
                  </a:lnTo>
                  <a:lnTo>
                    <a:pt x="553" y="787"/>
                  </a:lnTo>
                  <a:lnTo>
                    <a:pt x="555" y="777"/>
                  </a:lnTo>
                  <a:lnTo>
                    <a:pt x="555" y="772"/>
                  </a:lnTo>
                  <a:lnTo>
                    <a:pt x="558" y="762"/>
                  </a:lnTo>
                  <a:lnTo>
                    <a:pt x="560" y="755"/>
                  </a:lnTo>
                  <a:lnTo>
                    <a:pt x="560" y="747"/>
                  </a:lnTo>
                  <a:lnTo>
                    <a:pt x="563" y="737"/>
                  </a:lnTo>
                  <a:lnTo>
                    <a:pt x="565" y="730"/>
                  </a:lnTo>
                  <a:lnTo>
                    <a:pt x="565" y="722"/>
                  </a:lnTo>
                  <a:lnTo>
                    <a:pt x="568" y="712"/>
                  </a:lnTo>
                  <a:lnTo>
                    <a:pt x="570" y="705"/>
                  </a:lnTo>
                  <a:lnTo>
                    <a:pt x="570" y="698"/>
                  </a:lnTo>
                  <a:lnTo>
                    <a:pt x="573" y="688"/>
                  </a:lnTo>
                  <a:lnTo>
                    <a:pt x="573" y="680"/>
                  </a:lnTo>
                  <a:lnTo>
                    <a:pt x="573" y="670"/>
                  </a:lnTo>
                  <a:lnTo>
                    <a:pt x="573" y="660"/>
                  </a:lnTo>
                  <a:lnTo>
                    <a:pt x="573" y="653"/>
                  </a:lnTo>
                  <a:lnTo>
                    <a:pt x="573" y="643"/>
                  </a:lnTo>
                  <a:lnTo>
                    <a:pt x="573" y="633"/>
                  </a:lnTo>
                  <a:lnTo>
                    <a:pt x="573" y="626"/>
                  </a:lnTo>
                  <a:lnTo>
                    <a:pt x="575" y="616"/>
                  </a:lnTo>
                  <a:lnTo>
                    <a:pt x="573" y="606"/>
                  </a:lnTo>
                  <a:lnTo>
                    <a:pt x="573" y="598"/>
                  </a:lnTo>
                  <a:lnTo>
                    <a:pt x="573" y="588"/>
                  </a:lnTo>
                  <a:lnTo>
                    <a:pt x="573" y="578"/>
                  </a:lnTo>
                  <a:lnTo>
                    <a:pt x="570" y="569"/>
                  </a:lnTo>
                  <a:lnTo>
                    <a:pt x="570" y="561"/>
                  </a:lnTo>
                  <a:lnTo>
                    <a:pt x="568" y="551"/>
                  </a:lnTo>
                  <a:lnTo>
                    <a:pt x="568" y="541"/>
                  </a:lnTo>
                  <a:lnTo>
                    <a:pt x="565" y="531"/>
                  </a:lnTo>
                  <a:lnTo>
                    <a:pt x="563" y="521"/>
                  </a:lnTo>
                  <a:lnTo>
                    <a:pt x="560" y="511"/>
                  </a:lnTo>
                  <a:lnTo>
                    <a:pt x="560" y="501"/>
                  </a:lnTo>
                  <a:lnTo>
                    <a:pt x="558" y="492"/>
                  </a:lnTo>
                  <a:lnTo>
                    <a:pt x="555" y="484"/>
                  </a:lnTo>
                  <a:lnTo>
                    <a:pt x="553" y="474"/>
                  </a:lnTo>
                  <a:lnTo>
                    <a:pt x="550" y="464"/>
                  </a:lnTo>
                  <a:lnTo>
                    <a:pt x="548" y="454"/>
                  </a:lnTo>
                  <a:lnTo>
                    <a:pt x="546" y="444"/>
                  </a:lnTo>
                  <a:lnTo>
                    <a:pt x="543" y="434"/>
                  </a:lnTo>
                  <a:lnTo>
                    <a:pt x="538" y="425"/>
                  </a:lnTo>
                  <a:lnTo>
                    <a:pt x="536" y="415"/>
                  </a:lnTo>
                  <a:lnTo>
                    <a:pt x="531" y="405"/>
                  </a:lnTo>
                  <a:lnTo>
                    <a:pt x="526" y="397"/>
                  </a:lnTo>
                  <a:lnTo>
                    <a:pt x="523" y="387"/>
                  </a:lnTo>
                  <a:lnTo>
                    <a:pt x="518" y="377"/>
                  </a:lnTo>
                  <a:lnTo>
                    <a:pt x="513" y="367"/>
                  </a:lnTo>
                  <a:lnTo>
                    <a:pt x="508" y="358"/>
                  </a:lnTo>
                  <a:lnTo>
                    <a:pt x="506" y="350"/>
                  </a:lnTo>
                  <a:lnTo>
                    <a:pt x="498" y="340"/>
                  </a:lnTo>
                  <a:lnTo>
                    <a:pt x="496" y="333"/>
                  </a:lnTo>
                  <a:lnTo>
                    <a:pt x="488" y="325"/>
                  </a:lnTo>
                  <a:lnTo>
                    <a:pt x="484" y="318"/>
                  </a:lnTo>
                  <a:lnTo>
                    <a:pt x="479" y="308"/>
                  </a:lnTo>
                  <a:lnTo>
                    <a:pt x="474" y="303"/>
                  </a:lnTo>
                  <a:lnTo>
                    <a:pt x="466" y="296"/>
                  </a:lnTo>
                  <a:lnTo>
                    <a:pt x="461" y="291"/>
                  </a:lnTo>
                  <a:lnTo>
                    <a:pt x="456" y="283"/>
                  </a:lnTo>
                  <a:lnTo>
                    <a:pt x="451" y="278"/>
                  </a:lnTo>
                  <a:lnTo>
                    <a:pt x="444" y="273"/>
                  </a:lnTo>
                  <a:lnTo>
                    <a:pt x="439" y="268"/>
                  </a:lnTo>
                  <a:lnTo>
                    <a:pt x="434" y="261"/>
                  </a:lnTo>
                  <a:lnTo>
                    <a:pt x="426" y="256"/>
                  </a:lnTo>
                  <a:lnTo>
                    <a:pt x="421" y="248"/>
                  </a:lnTo>
                  <a:lnTo>
                    <a:pt x="414" y="246"/>
                  </a:lnTo>
                  <a:lnTo>
                    <a:pt x="409" y="241"/>
                  </a:lnTo>
                  <a:lnTo>
                    <a:pt x="402" y="236"/>
                  </a:lnTo>
                  <a:lnTo>
                    <a:pt x="397" y="231"/>
                  </a:lnTo>
                  <a:lnTo>
                    <a:pt x="389" y="229"/>
                  </a:lnTo>
                  <a:lnTo>
                    <a:pt x="382" y="226"/>
                  </a:lnTo>
                  <a:lnTo>
                    <a:pt x="377" y="221"/>
                  </a:lnTo>
                  <a:lnTo>
                    <a:pt x="369" y="219"/>
                  </a:lnTo>
                  <a:lnTo>
                    <a:pt x="364" y="214"/>
                  </a:lnTo>
                  <a:lnTo>
                    <a:pt x="357" y="211"/>
                  </a:lnTo>
                  <a:lnTo>
                    <a:pt x="352" y="209"/>
                  </a:lnTo>
                  <a:lnTo>
                    <a:pt x="347" y="206"/>
                  </a:lnTo>
                  <a:lnTo>
                    <a:pt x="340" y="204"/>
                  </a:lnTo>
                  <a:lnTo>
                    <a:pt x="332" y="201"/>
                  </a:lnTo>
                  <a:lnTo>
                    <a:pt x="327" y="199"/>
                  </a:lnTo>
                  <a:lnTo>
                    <a:pt x="320" y="196"/>
                  </a:lnTo>
                  <a:lnTo>
                    <a:pt x="315" y="194"/>
                  </a:lnTo>
                  <a:lnTo>
                    <a:pt x="307" y="191"/>
                  </a:lnTo>
                  <a:lnTo>
                    <a:pt x="302" y="189"/>
                  </a:lnTo>
                  <a:lnTo>
                    <a:pt x="295" y="189"/>
                  </a:lnTo>
                  <a:lnTo>
                    <a:pt x="290" y="186"/>
                  </a:lnTo>
                  <a:lnTo>
                    <a:pt x="283" y="184"/>
                  </a:lnTo>
                  <a:lnTo>
                    <a:pt x="278" y="181"/>
                  </a:lnTo>
                  <a:lnTo>
                    <a:pt x="270" y="181"/>
                  </a:lnTo>
                  <a:lnTo>
                    <a:pt x="265" y="179"/>
                  </a:lnTo>
                  <a:lnTo>
                    <a:pt x="255" y="176"/>
                  </a:lnTo>
                  <a:lnTo>
                    <a:pt x="245" y="176"/>
                  </a:lnTo>
                  <a:lnTo>
                    <a:pt x="233" y="171"/>
                  </a:lnTo>
                  <a:lnTo>
                    <a:pt x="223" y="171"/>
                  </a:lnTo>
                  <a:lnTo>
                    <a:pt x="213" y="169"/>
                  </a:lnTo>
                  <a:lnTo>
                    <a:pt x="206" y="166"/>
                  </a:lnTo>
                  <a:lnTo>
                    <a:pt x="196" y="164"/>
                  </a:lnTo>
                  <a:lnTo>
                    <a:pt x="188" y="164"/>
                  </a:lnTo>
                  <a:lnTo>
                    <a:pt x="181" y="162"/>
                  </a:lnTo>
                  <a:lnTo>
                    <a:pt x="176" y="159"/>
                  </a:lnTo>
                  <a:lnTo>
                    <a:pt x="171" y="157"/>
                  </a:lnTo>
                  <a:lnTo>
                    <a:pt x="166" y="154"/>
                  </a:lnTo>
                  <a:lnTo>
                    <a:pt x="161" y="152"/>
                  </a:lnTo>
                  <a:lnTo>
                    <a:pt x="156" y="149"/>
                  </a:lnTo>
                  <a:lnTo>
                    <a:pt x="151" y="144"/>
                  </a:lnTo>
                  <a:lnTo>
                    <a:pt x="149" y="139"/>
                  </a:lnTo>
                  <a:lnTo>
                    <a:pt x="146" y="129"/>
                  </a:lnTo>
                  <a:lnTo>
                    <a:pt x="154" y="119"/>
                  </a:lnTo>
                  <a:lnTo>
                    <a:pt x="159" y="117"/>
                  </a:lnTo>
                  <a:lnTo>
                    <a:pt x="166" y="112"/>
                  </a:lnTo>
                  <a:lnTo>
                    <a:pt x="168" y="109"/>
                  </a:lnTo>
                  <a:lnTo>
                    <a:pt x="173" y="109"/>
                  </a:lnTo>
                  <a:lnTo>
                    <a:pt x="181" y="107"/>
                  </a:lnTo>
                  <a:lnTo>
                    <a:pt x="186" y="107"/>
                  </a:lnTo>
                  <a:lnTo>
                    <a:pt x="191" y="107"/>
                  </a:lnTo>
                  <a:lnTo>
                    <a:pt x="198" y="104"/>
                  </a:lnTo>
                  <a:lnTo>
                    <a:pt x="203" y="104"/>
                  </a:lnTo>
                  <a:lnTo>
                    <a:pt x="211" y="104"/>
                  </a:lnTo>
                  <a:lnTo>
                    <a:pt x="218" y="104"/>
                  </a:lnTo>
                  <a:lnTo>
                    <a:pt x="226" y="104"/>
                  </a:lnTo>
                  <a:lnTo>
                    <a:pt x="233" y="107"/>
                  </a:lnTo>
                  <a:lnTo>
                    <a:pt x="243" y="109"/>
                  </a:lnTo>
                  <a:lnTo>
                    <a:pt x="250" y="109"/>
                  </a:lnTo>
                  <a:lnTo>
                    <a:pt x="258" y="109"/>
                  </a:lnTo>
                  <a:lnTo>
                    <a:pt x="263" y="107"/>
                  </a:lnTo>
                  <a:lnTo>
                    <a:pt x="268" y="107"/>
                  </a:lnTo>
                  <a:lnTo>
                    <a:pt x="273" y="104"/>
                  </a:lnTo>
                  <a:lnTo>
                    <a:pt x="275" y="102"/>
                  </a:lnTo>
                  <a:lnTo>
                    <a:pt x="275" y="97"/>
                  </a:lnTo>
                  <a:lnTo>
                    <a:pt x="270" y="92"/>
                  </a:lnTo>
                  <a:lnTo>
                    <a:pt x="268" y="87"/>
                  </a:lnTo>
                  <a:lnTo>
                    <a:pt x="263" y="85"/>
                  </a:lnTo>
                  <a:lnTo>
                    <a:pt x="258" y="82"/>
                  </a:lnTo>
                  <a:lnTo>
                    <a:pt x="253" y="80"/>
                  </a:lnTo>
                  <a:lnTo>
                    <a:pt x="245" y="75"/>
                  </a:lnTo>
                  <a:lnTo>
                    <a:pt x="238" y="72"/>
                  </a:lnTo>
                  <a:lnTo>
                    <a:pt x="228" y="67"/>
                  </a:lnTo>
                  <a:lnTo>
                    <a:pt x="221" y="65"/>
                  </a:lnTo>
                  <a:lnTo>
                    <a:pt x="211" y="62"/>
                  </a:lnTo>
                  <a:lnTo>
                    <a:pt x="201" y="60"/>
                  </a:lnTo>
                  <a:lnTo>
                    <a:pt x="191" y="57"/>
                  </a:lnTo>
                  <a:lnTo>
                    <a:pt x="181" y="55"/>
                  </a:lnTo>
                  <a:lnTo>
                    <a:pt x="173" y="52"/>
                  </a:lnTo>
                  <a:lnTo>
                    <a:pt x="168" y="50"/>
                  </a:lnTo>
                  <a:lnTo>
                    <a:pt x="161" y="50"/>
                  </a:lnTo>
                  <a:lnTo>
                    <a:pt x="156" y="47"/>
                  </a:lnTo>
                  <a:lnTo>
                    <a:pt x="149" y="45"/>
                  </a:lnTo>
                  <a:lnTo>
                    <a:pt x="141" y="45"/>
                  </a:lnTo>
                  <a:lnTo>
                    <a:pt x="134" y="42"/>
                  </a:lnTo>
                  <a:lnTo>
                    <a:pt x="129" y="42"/>
                  </a:lnTo>
                  <a:lnTo>
                    <a:pt x="121" y="42"/>
                  </a:lnTo>
                  <a:lnTo>
                    <a:pt x="114" y="40"/>
                  </a:lnTo>
                  <a:lnTo>
                    <a:pt x="106" y="40"/>
                  </a:lnTo>
                  <a:lnTo>
                    <a:pt x="102" y="40"/>
                  </a:lnTo>
                  <a:lnTo>
                    <a:pt x="92" y="40"/>
                  </a:lnTo>
                  <a:lnTo>
                    <a:pt x="84" y="37"/>
                  </a:lnTo>
                  <a:lnTo>
                    <a:pt x="77" y="37"/>
                  </a:lnTo>
                  <a:lnTo>
                    <a:pt x="72" y="37"/>
                  </a:lnTo>
                  <a:lnTo>
                    <a:pt x="62" y="37"/>
                  </a:lnTo>
                  <a:lnTo>
                    <a:pt x="54" y="35"/>
                  </a:lnTo>
                  <a:lnTo>
                    <a:pt x="49" y="35"/>
                  </a:lnTo>
                  <a:lnTo>
                    <a:pt x="42" y="35"/>
                  </a:lnTo>
                  <a:lnTo>
                    <a:pt x="37" y="32"/>
                  </a:lnTo>
                  <a:lnTo>
                    <a:pt x="30" y="32"/>
                  </a:lnTo>
                  <a:lnTo>
                    <a:pt x="25" y="32"/>
                  </a:lnTo>
                  <a:lnTo>
                    <a:pt x="22" y="32"/>
                  </a:lnTo>
                  <a:lnTo>
                    <a:pt x="12" y="28"/>
                  </a:lnTo>
                  <a:lnTo>
                    <a:pt x="7" y="28"/>
                  </a:lnTo>
                  <a:lnTo>
                    <a:pt x="2" y="25"/>
                  </a:lnTo>
                  <a:lnTo>
                    <a:pt x="0" y="23"/>
                  </a:lnTo>
                  <a:lnTo>
                    <a:pt x="0" y="18"/>
                  </a:lnTo>
                  <a:lnTo>
                    <a:pt x="2" y="13"/>
                  </a:lnTo>
                  <a:lnTo>
                    <a:pt x="5" y="10"/>
                  </a:lnTo>
                  <a:lnTo>
                    <a:pt x="12" y="8"/>
                  </a:lnTo>
                  <a:lnTo>
                    <a:pt x="17" y="8"/>
                  </a:lnTo>
                  <a:lnTo>
                    <a:pt x="25" y="5"/>
                  </a:lnTo>
                  <a:lnTo>
                    <a:pt x="32" y="3"/>
                  </a:lnTo>
                  <a:lnTo>
                    <a:pt x="42" y="3"/>
                  </a:lnTo>
                  <a:lnTo>
                    <a:pt x="47" y="0"/>
                  </a:lnTo>
                  <a:lnTo>
                    <a:pt x="52" y="0"/>
                  </a:lnTo>
                  <a:lnTo>
                    <a:pt x="57" y="0"/>
                  </a:lnTo>
                  <a:lnTo>
                    <a:pt x="64" y="0"/>
                  </a:lnTo>
                  <a:lnTo>
                    <a:pt x="69" y="0"/>
                  </a:lnTo>
                  <a:lnTo>
                    <a:pt x="74" y="0"/>
                  </a:lnTo>
                  <a:lnTo>
                    <a:pt x="79" y="0"/>
                  </a:lnTo>
                  <a:lnTo>
                    <a:pt x="87" y="0"/>
                  </a:lnTo>
                  <a:lnTo>
                    <a:pt x="94" y="0"/>
                  </a:lnTo>
                  <a:lnTo>
                    <a:pt x="99" y="0"/>
                  </a:lnTo>
                  <a:lnTo>
                    <a:pt x="106" y="0"/>
                  </a:lnTo>
                  <a:lnTo>
                    <a:pt x="114" y="3"/>
                  </a:lnTo>
                  <a:lnTo>
                    <a:pt x="121" y="3"/>
                  </a:lnTo>
                  <a:lnTo>
                    <a:pt x="129" y="3"/>
                  </a:lnTo>
                  <a:lnTo>
                    <a:pt x="136" y="3"/>
                  </a:lnTo>
                  <a:lnTo>
                    <a:pt x="144" y="3"/>
                  </a:lnTo>
                  <a:lnTo>
                    <a:pt x="149" y="3"/>
                  </a:lnTo>
                  <a:lnTo>
                    <a:pt x="159" y="5"/>
                  </a:lnTo>
                  <a:lnTo>
                    <a:pt x="166" y="8"/>
                  </a:lnTo>
                  <a:lnTo>
                    <a:pt x="173" y="8"/>
                  </a:lnTo>
                  <a:lnTo>
                    <a:pt x="181" y="10"/>
                  </a:lnTo>
                  <a:lnTo>
                    <a:pt x="191" y="13"/>
                  </a:lnTo>
                  <a:lnTo>
                    <a:pt x="198" y="15"/>
                  </a:lnTo>
                  <a:lnTo>
                    <a:pt x="208" y="18"/>
                  </a:lnTo>
                  <a:lnTo>
                    <a:pt x="216" y="20"/>
                  </a:lnTo>
                  <a:lnTo>
                    <a:pt x="223" y="23"/>
                  </a:lnTo>
                  <a:lnTo>
                    <a:pt x="233" y="25"/>
                  </a:lnTo>
                  <a:lnTo>
                    <a:pt x="243" y="28"/>
                  </a:lnTo>
                  <a:lnTo>
                    <a:pt x="243" y="2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5172120" y="3938760"/>
              <a:ext cx="709920" cy="1063440"/>
            </a:xfrm>
            <a:custGeom>
              <a:avLst/>
              <a:gdLst/>
              <a:ahLst/>
              <a:rect l="l" t="t" r="r" b="b"/>
              <a:pathLst>
                <a:path w="447" h="670">
                  <a:moveTo>
                    <a:pt x="20" y="22"/>
                  </a:moveTo>
                  <a:lnTo>
                    <a:pt x="25" y="17"/>
                  </a:lnTo>
                  <a:lnTo>
                    <a:pt x="32" y="14"/>
                  </a:lnTo>
                  <a:lnTo>
                    <a:pt x="40" y="10"/>
                  </a:lnTo>
                  <a:lnTo>
                    <a:pt x="47" y="10"/>
                  </a:lnTo>
                  <a:lnTo>
                    <a:pt x="57" y="5"/>
                  </a:lnTo>
                  <a:lnTo>
                    <a:pt x="67" y="5"/>
                  </a:lnTo>
                  <a:lnTo>
                    <a:pt x="72" y="5"/>
                  </a:lnTo>
                  <a:lnTo>
                    <a:pt x="80" y="2"/>
                  </a:lnTo>
                  <a:lnTo>
                    <a:pt x="84" y="2"/>
                  </a:lnTo>
                  <a:lnTo>
                    <a:pt x="92" y="2"/>
                  </a:lnTo>
                  <a:lnTo>
                    <a:pt x="97" y="2"/>
                  </a:lnTo>
                  <a:lnTo>
                    <a:pt x="104" y="0"/>
                  </a:lnTo>
                  <a:lnTo>
                    <a:pt x="109" y="0"/>
                  </a:lnTo>
                  <a:lnTo>
                    <a:pt x="117" y="0"/>
                  </a:lnTo>
                  <a:lnTo>
                    <a:pt x="122" y="0"/>
                  </a:lnTo>
                  <a:lnTo>
                    <a:pt x="129" y="0"/>
                  </a:lnTo>
                  <a:lnTo>
                    <a:pt x="137" y="2"/>
                  </a:lnTo>
                  <a:lnTo>
                    <a:pt x="144" y="2"/>
                  </a:lnTo>
                  <a:lnTo>
                    <a:pt x="149" y="2"/>
                  </a:lnTo>
                  <a:lnTo>
                    <a:pt x="156" y="5"/>
                  </a:lnTo>
                  <a:lnTo>
                    <a:pt x="164" y="5"/>
                  </a:lnTo>
                  <a:lnTo>
                    <a:pt x="171" y="7"/>
                  </a:lnTo>
                  <a:lnTo>
                    <a:pt x="179" y="7"/>
                  </a:lnTo>
                  <a:lnTo>
                    <a:pt x="186" y="10"/>
                  </a:lnTo>
                  <a:lnTo>
                    <a:pt x="194" y="10"/>
                  </a:lnTo>
                  <a:lnTo>
                    <a:pt x="201" y="14"/>
                  </a:lnTo>
                  <a:lnTo>
                    <a:pt x="208" y="14"/>
                  </a:lnTo>
                  <a:lnTo>
                    <a:pt x="216" y="17"/>
                  </a:lnTo>
                  <a:lnTo>
                    <a:pt x="223" y="19"/>
                  </a:lnTo>
                  <a:lnTo>
                    <a:pt x="231" y="22"/>
                  </a:lnTo>
                  <a:lnTo>
                    <a:pt x="238" y="24"/>
                  </a:lnTo>
                  <a:lnTo>
                    <a:pt x="246" y="29"/>
                  </a:lnTo>
                  <a:lnTo>
                    <a:pt x="253" y="32"/>
                  </a:lnTo>
                  <a:lnTo>
                    <a:pt x="261" y="34"/>
                  </a:lnTo>
                  <a:lnTo>
                    <a:pt x="268" y="39"/>
                  </a:lnTo>
                  <a:lnTo>
                    <a:pt x="275" y="42"/>
                  </a:lnTo>
                  <a:lnTo>
                    <a:pt x="283" y="47"/>
                  </a:lnTo>
                  <a:lnTo>
                    <a:pt x="290" y="52"/>
                  </a:lnTo>
                  <a:lnTo>
                    <a:pt x="298" y="54"/>
                  </a:lnTo>
                  <a:lnTo>
                    <a:pt x="305" y="59"/>
                  </a:lnTo>
                  <a:lnTo>
                    <a:pt x="310" y="67"/>
                  </a:lnTo>
                  <a:lnTo>
                    <a:pt x="320" y="72"/>
                  </a:lnTo>
                  <a:lnTo>
                    <a:pt x="325" y="77"/>
                  </a:lnTo>
                  <a:lnTo>
                    <a:pt x="333" y="84"/>
                  </a:lnTo>
                  <a:lnTo>
                    <a:pt x="337" y="89"/>
                  </a:lnTo>
                  <a:lnTo>
                    <a:pt x="345" y="96"/>
                  </a:lnTo>
                  <a:lnTo>
                    <a:pt x="350" y="101"/>
                  </a:lnTo>
                  <a:lnTo>
                    <a:pt x="357" y="109"/>
                  </a:lnTo>
                  <a:lnTo>
                    <a:pt x="362" y="116"/>
                  </a:lnTo>
                  <a:lnTo>
                    <a:pt x="370" y="124"/>
                  </a:lnTo>
                  <a:lnTo>
                    <a:pt x="375" y="131"/>
                  </a:lnTo>
                  <a:lnTo>
                    <a:pt x="380" y="141"/>
                  </a:lnTo>
                  <a:lnTo>
                    <a:pt x="385" y="148"/>
                  </a:lnTo>
                  <a:lnTo>
                    <a:pt x="392" y="158"/>
                  </a:lnTo>
                  <a:lnTo>
                    <a:pt x="397" y="168"/>
                  </a:lnTo>
                  <a:lnTo>
                    <a:pt x="402" y="176"/>
                  </a:lnTo>
                  <a:lnTo>
                    <a:pt x="407" y="186"/>
                  </a:lnTo>
                  <a:lnTo>
                    <a:pt x="412" y="198"/>
                  </a:lnTo>
                  <a:lnTo>
                    <a:pt x="414" y="206"/>
                  </a:lnTo>
                  <a:lnTo>
                    <a:pt x="419" y="215"/>
                  </a:lnTo>
                  <a:lnTo>
                    <a:pt x="422" y="225"/>
                  </a:lnTo>
                  <a:lnTo>
                    <a:pt x="427" y="235"/>
                  </a:lnTo>
                  <a:lnTo>
                    <a:pt x="429" y="245"/>
                  </a:lnTo>
                  <a:lnTo>
                    <a:pt x="432" y="253"/>
                  </a:lnTo>
                  <a:lnTo>
                    <a:pt x="434" y="263"/>
                  </a:lnTo>
                  <a:lnTo>
                    <a:pt x="437" y="273"/>
                  </a:lnTo>
                  <a:lnTo>
                    <a:pt x="437" y="283"/>
                  </a:lnTo>
                  <a:lnTo>
                    <a:pt x="439" y="290"/>
                  </a:lnTo>
                  <a:lnTo>
                    <a:pt x="439" y="300"/>
                  </a:lnTo>
                  <a:lnTo>
                    <a:pt x="442" y="310"/>
                  </a:lnTo>
                  <a:lnTo>
                    <a:pt x="442" y="317"/>
                  </a:lnTo>
                  <a:lnTo>
                    <a:pt x="444" y="327"/>
                  </a:lnTo>
                  <a:lnTo>
                    <a:pt x="444" y="337"/>
                  </a:lnTo>
                  <a:lnTo>
                    <a:pt x="447" y="345"/>
                  </a:lnTo>
                  <a:lnTo>
                    <a:pt x="444" y="352"/>
                  </a:lnTo>
                  <a:lnTo>
                    <a:pt x="444" y="362"/>
                  </a:lnTo>
                  <a:lnTo>
                    <a:pt x="444" y="369"/>
                  </a:lnTo>
                  <a:lnTo>
                    <a:pt x="444" y="377"/>
                  </a:lnTo>
                  <a:lnTo>
                    <a:pt x="442" y="384"/>
                  </a:lnTo>
                  <a:lnTo>
                    <a:pt x="442" y="394"/>
                  </a:lnTo>
                  <a:lnTo>
                    <a:pt x="439" y="402"/>
                  </a:lnTo>
                  <a:lnTo>
                    <a:pt x="439" y="409"/>
                  </a:lnTo>
                  <a:lnTo>
                    <a:pt x="439" y="417"/>
                  </a:lnTo>
                  <a:lnTo>
                    <a:pt x="437" y="426"/>
                  </a:lnTo>
                  <a:lnTo>
                    <a:pt x="434" y="431"/>
                  </a:lnTo>
                  <a:lnTo>
                    <a:pt x="434" y="441"/>
                  </a:lnTo>
                  <a:lnTo>
                    <a:pt x="429" y="446"/>
                  </a:lnTo>
                  <a:lnTo>
                    <a:pt x="429" y="456"/>
                  </a:lnTo>
                  <a:lnTo>
                    <a:pt x="427" y="461"/>
                  </a:lnTo>
                  <a:lnTo>
                    <a:pt x="424" y="469"/>
                  </a:lnTo>
                  <a:lnTo>
                    <a:pt x="422" y="476"/>
                  </a:lnTo>
                  <a:lnTo>
                    <a:pt x="417" y="481"/>
                  </a:lnTo>
                  <a:lnTo>
                    <a:pt x="414" y="488"/>
                  </a:lnTo>
                  <a:lnTo>
                    <a:pt x="412" y="496"/>
                  </a:lnTo>
                  <a:lnTo>
                    <a:pt x="407" y="501"/>
                  </a:lnTo>
                  <a:lnTo>
                    <a:pt x="404" y="508"/>
                  </a:lnTo>
                  <a:lnTo>
                    <a:pt x="402" y="513"/>
                  </a:lnTo>
                  <a:lnTo>
                    <a:pt x="397" y="521"/>
                  </a:lnTo>
                  <a:lnTo>
                    <a:pt x="390" y="531"/>
                  </a:lnTo>
                  <a:lnTo>
                    <a:pt x="382" y="543"/>
                  </a:lnTo>
                  <a:lnTo>
                    <a:pt x="375" y="553"/>
                  </a:lnTo>
                  <a:lnTo>
                    <a:pt x="367" y="565"/>
                  </a:lnTo>
                  <a:lnTo>
                    <a:pt x="357" y="573"/>
                  </a:lnTo>
                  <a:lnTo>
                    <a:pt x="347" y="583"/>
                  </a:lnTo>
                  <a:lnTo>
                    <a:pt x="337" y="590"/>
                  </a:lnTo>
                  <a:lnTo>
                    <a:pt x="330" y="600"/>
                  </a:lnTo>
                  <a:lnTo>
                    <a:pt x="320" y="605"/>
                  </a:lnTo>
                  <a:lnTo>
                    <a:pt x="313" y="613"/>
                  </a:lnTo>
                  <a:lnTo>
                    <a:pt x="303" y="620"/>
                  </a:lnTo>
                  <a:lnTo>
                    <a:pt x="295" y="625"/>
                  </a:lnTo>
                  <a:lnTo>
                    <a:pt x="285" y="630"/>
                  </a:lnTo>
                  <a:lnTo>
                    <a:pt x="275" y="635"/>
                  </a:lnTo>
                  <a:lnTo>
                    <a:pt x="266" y="637"/>
                  </a:lnTo>
                  <a:lnTo>
                    <a:pt x="258" y="642"/>
                  </a:lnTo>
                  <a:lnTo>
                    <a:pt x="248" y="647"/>
                  </a:lnTo>
                  <a:lnTo>
                    <a:pt x="243" y="650"/>
                  </a:lnTo>
                  <a:lnTo>
                    <a:pt x="233" y="652"/>
                  </a:lnTo>
                  <a:lnTo>
                    <a:pt x="228" y="657"/>
                  </a:lnTo>
                  <a:lnTo>
                    <a:pt x="221" y="660"/>
                  </a:lnTo>
                  <a:lnTo>
                    <a:pt x="213" y="660"/>
                  </a:lnTo>
                  <a:lnTo>
                    <a:pt x="206" y="662"/>
                  </a:lnTo>
                  <a:lnTo>
                    <a:pt x="201" y="665"/>
                  </a:lnTo>
                  <a:lnTo>
                    <a:pt x="194" y="667"/>
                  </a:lnTo>
                  <a:lnTo>
                    <a:pt x="189" y="667"/>
                  </a:lnTo>
                  <a:lnTo>
                    <a:pt x="181" y="667"/>
                  </a:lnTo>
                  <a:lnTo>
                    <a:pt x="176" y="670"/>
                  </a:lnTo>
                  <a:lnTo>
                    <a:pt x="166" y="667"/>
                  </a:lnTo>
                  <a:lnTo>
                    <a:pt x="159" y="667"/>
                  </a:lnTo>
                  <a:lnTo>
                    <a:pt x="151" y="665"/>
                  </a:lnTo>
                  <a:lnTo>
                    <a:pt x="146" y="662"/>
                  </a:lnTo>
                  <a:lnTo>
                    <a:pt x="142" y="655"/>
                  </a:lnTo>
                  <a:lnTo>
                    <a:pt x="137" y="650"/>
                  </a:lnTo>
                  <a:lnTo>
                    <a:pt x="137" y="642"/>
                  </a:lnTo>
                  <a:lnTo>
                    <a:pt x="137" y="635"/>
                  </a:lnTo>
                  <a:lnTo>
                    <a:pt x="137" y="630"/>
                  </a:lnTo>
                  <a:lnTo>
                    <a:pt x="137" y="622"/>
                  </a:lnTo>
                  <a:lnTo>
                    <a:pt x="137" y="615"/>
                  </a:lnTo>
                  <a:lnTo>
                    <a:pt x="139" y="608"/>
                  </a:lnTo>
                  <a:lnTo>
                    <a:pt x="139" y="600"/>
                  </a:lnTo>
                  <a:lnTo>
                    <a:pt x="142" y="590"/>
                  </a:lnTo>
                  <a:lnTo>
                    <a:pt x="146" y="580"/>
                  </a:lnTo>
                  <a:lnTo>
                    <a:pt x="149" y="570"/>
                  </a:lnTo>
                  <a:lnTo>
                    <a:pt x="149" y="563"/>
                  </a:lnTo>
                  <a:lnTo>
                    <a:pt x="151" y="558"/>
                  </a:lnTo>
                  <a:lnTo>
                    <a:pt x="154" y="551"/>
                  </a:lnTo>
                  <a:lnTo>
                    <a:pt x="154" y="546"/>
                  </a:lnTo>
                  <a:lnTo>
                    <a:pt x="156" y="538"/>
                  </a:lnTo>
                  <a:lnTo>
                    <a:pt x="159" y="533"/>
                  </a:lnTo>
                  <a:lnTo>
                    <a:pt x="159" y="528"/>
                  </a:lnTo>
                  <a:lnTo>
                    <a:pt x="161" y="521"/>
                  </a:lnTo>
                  <a:lnTo>
                    <a:pt x="164" y="513"/>
                  </a:lnTo>
                  <a:lnTo>
                    <a:pt x="166" y="506"/>
                  </a:lnTo>
                  <a:lnTo>
                    <a:pt x="166" y="498"/>
                  </a:lnTo>
                  <a:lnTo>
                    <a:pt x="171" y="493"/>
                  </a:lnTo>
                  <a:lnTo>
                    <a:pt x="171" y="486"/>
                  </a:lnTo>
                  <a:lnTo>
                    <a:pt x="174" y="479"/>
                  </a:lnTo>
                  <a:lnTo>
                    <a:pt x="176" y="474"/>
                  </a:lnTo>
                  <a:lnTo>
                    <a:pt x="179" y="466"/>
                  </a:lnTo>
                  <a:lnTo>
                    <a:pt x="181" y="459"/>
                  </a:lnTo>
                  <a:lnTo>
                    <a:pt x="184" y="451"/>
                  </a:lnTo>
                  <a:lnTo>
                    <a:pt x="184" y="444"/>
                  </a:lnTo>
                  <a:lnTo>
                    <a:pt x="189" y="436"/>
                  </a:lnTo>
                  <a:lnTo>
                    <a:pt x="189" y="429"/>
                  </a:lnTo>
                  <a:lnTo>
                    <a:pt x="191" y="421"/>
                  </a:lnTo>
                  <a:lnTo>
                    <a:pt x="194" y="414"/>
                  </a:lnTo>
                  <a:lnTo>
                    <a:pt x="196" y="407"/>
                  </a:lnTo>
                  <a:lnTo>
                    <a:pt x="196" y="399"/>
                  </a:lnTo>
                  <a:lnTo>
                    <a:pt x="199" y="392"/>
                  </a:lnTo>
                  <a:lnTo>
                    <a:pt x="201" y="384"/>
                  </a:lnTo>
                  <a:lnTo>
                    <a:pt x="204" y="377"/>
                  </a:lnTo>
                  <a:lnTo>
                    <a:pt x="204" y="369"/>
                  </a:lnTo>
                  <a:lnTo>
                    <a:pt x="208" y="362"/>
                  </a:lnTo>
                  <a:lnTo>
                    <a:pt x="208" y="354"/>
                  </a:lnTo>
                  <a:lnTo>
                    <a:pt x="211" y="347"/>
                  </a:lnTo>
                  <a:lnTo>
                    <a:pt x="213" y="340"/>
                  </a:lnTo>
                  <a:lnTo>
                    <a:pt x="213" y="332"/>
                  </a:lnTo>
                  <a:lnTo>
                    <a:pt x="213" y="325"/>
                  </a:lnTo>
                  <a:lnTo>
                    <a:pt x="216" y="320"/>
                  </a:lnTo>
                  <a:lnTo>
                    <a:pt x="218" y="312"/>
                  </a:lnTo>
                  <a:lnTo>
                    <a:pt x="218" y="305"/>
                  </a:lnTo>
                  <a:lnTo>
                    <a:pt x="221" y="300"/>
                  </a:lnTo>
                  <a:lnTo>
                    <a:pt x="221" y="292"/>
                  </a:lnTo>
                  <a:lnTo>
                    <a:pt x="221" y="285"/>
                  </a:lnTo>
                  <a:lnTo>
                    <a:pt x="223" y="280"/>
                  </a:lnTo>
                  <a:lnTo>
                    <a:pt x="223" y="273"/>
                  </a:lnTo>
                  <a:lnTo>
                    <a:pt x="226" y="268"/>
                  </a:lnTo>
                  <a:lnTo>
                    <a:pt x="226" y="260"/>
                  </a:lnTo>
                  <a:lnTo>
                    <a:pt x="226" y="255"/>
                  </a:lnTo>
                  <a:lnTo>
                    <a:pt x="226" y="250"/>
                  </a:lnTo>
                  <a:lnTo>
                    <a:pt x="228" y="245"/>
                  </a:lnTo>
                  <a:lnTo>
                    <a:pt x="226" y="238"/>
                  </a:lnTo>
                  <a:lnTo>
                    <a:pt x="226" y="233"/>
                  </a:lnTo>
                  <a:lnTo>
                    <a:pt x="226" y="228"/>
                  </a:lnTo>
                  <a:lnTo>
                    <a:pt x="226" y="225"/>
                  </a:lnTo>
                  <a:lnTo>
                    <a:pt x="226" y="218"/>
                  </a:lnTo>
                  <a:lnTo>
                    <a:pt x="226" y="213"/>
                  </a:lnTo>
                  <a:lnTo>
                    <a:pt x="221" y="211"/>
                  </a:lnTo>
                  <a:lnTo>
                    <a:pt x="216" y="211"/>
                  </a:lnTo>
                  <a:lnTo>
                    <a:pt x="208" y="215"/>
                  </a:lnTo>
                  <a:lnTo>
                    <a:pt x="204" y="228"/>
                  </a:lnTo>
                  <a:lnTo>
                    <a:pt x="199" y="233"/>
                  </a:lnTo>
                  <a:lnTo>
                    <a:pt x="196" y="238"/>
                  </a:lnTo>
                  <a:lnTo>
                    <a:pt x="191" y="245"/>
                  </a:lnTo>
                  <a:lnTo>
                    <a:pt x="186" y="255"/>
                  </a:lnTo>
                  <a:lnTo>
                    <a:pt x="181" y="260"/>
                  </a:lnTo>
                  <a:lnTo>
                    <a:pt x="176" y="270"/>
                  </a:lnTo>
                  <a:lnTo>
                    <a:pt x="171" y="275"/>
                  </a:lnTo>
                  <a:lnTo>
                    <a:pt x="166" y="283"/>
                  </a:lnTo>
                  <a:lnTo>
                    <a:pt x="161" y="290"/>
                  </a:lnTo>
                  <a:lnTo>
                    <a:pt x="156" y="297"/>
                  </a:lnTo>
                  <a:lnTo>
                    <a:pt x="151" y="302"/>
                  </a:lnTo>
                  <a:lnTo>
                    <a:pt x="149" y="310"/>
                  </a:lnTo>
                  <a:lnTo>
                    <a:pt x="137" y="317"/>
                  </a:lnTo>
                  <a:lnTo>
                    <a:pt x="129" y="322"/>
                  </a:lnTo>
                  <a:lnTo>
                    <a:pt x="119" y="322"/>
                  </a:lnTo>
                  <a:lnTo>
                    <a:pt x="112" y="315"/>
                  </a:lnTo>
                  <a:lnTo>
                    <a:pt x="107" y="307"/>
                  </a:lnTo>
                  <a:lnTo>
                    <a:pt x="99" y="302"/>
                  </a:lnTo>
                  <a:lnTo>
                    <a:pt x="94" y="295"/>
                  </a:lnTo>
                  <a:lnTo>
                    <a:pt x="92" y="287"/>
                  </a:lnTo>
                  <a:lnTo>
                    <a:pt x="84" y="278"/>
                  </a:lnTo>
                  <a:lnTo>
                    <a:pt x="80" y="270"/>
                  </a:lnTo>
                  <a:lnTo>
                    <a:pt x="75" y="260"/>
                  </a:lnTo>
                  <a:lnTo>
                    <a:pt x="70" y="250"/>
                  </a:lnTo>
                  <a:lnTo>
                    <a:pt x="62" y="238"/>
                  </a:lnTo>
                  <a:lnTo>
                    <a:pt x="57" y="228"/>
                  </a:lnTo>
                  <a:lnTo>
                    <a:pt x="50" y="218"/>
                  </a:lnTo>
                  <a:lnTo>
                    <a:pt x="45" y="208"/>
                  </a:lnTo>
                  <a:lnTo>
                    <a:pt x="42" y="201"/>
                  </a:lnTo>
                  <a:lnTo>
                    <a:pt x="40" y="196"/>
                  </a:lnTo>
                  <a:lnTo>
                    <a:pt x="37" y="191"/>
                  </a:lnTo>
                  <a:lnTo>
                    <a:pt x="35" y="186"/>
                  </a:lnTo>
                  <a:lnTo>
                    <a:pt x="30" y="173"/>
                  </a:lnTo>
                  <a:lnTo>
                    <a:pt x="25" y="163"/>
                  </a:lnTo>
                  <a:lnTo>
                    <a:pt x="22" y="156"/>
                  </a:lnTo>
                  <a:lnTo>
                    <a:pt x="20" y="151"/>
                  </a:lnTo>
                  <a:lnTo>
                    <a:pt x="18" y="144"/>
                  </a:lnTo>
                  <a:lnTo>
                    <a:pt x="18" y="139"/>
                  </a:lnTo>
                  <a:lnTo>
                    <a:pt x="13" y="129"/>
                  </a:lnTo>
                  <a:lnTo>
                    <a:pt x="10" y="119"/>
                  </a:lnTo>
                  <a:lnTo>
                    <a:pt x="5" y="106"/>
                  </a:lnTo>
                  <a:lnTo>
                    <a:pt x="5" y="96"/>
                  </a:lnTo>
                  <a:lnTo>
                    <a:pt x="3" y="86"/>
                  </a:lnTo>
                  <a:lnTo>
                    <a:pt x="3" y="77"/>
                  </a:lnTo>
                  <a:lnTo>
                    <a:pt x="0" y="69"/>
                  </a:lnTo>
                  <a:lnTo>
                    <a:pt x="0" y="59"/>
                  </a:lnTo>
                  <a:lnTo>
                    <a:pt x="0" y="52"/>
                  </a:lnTo>
                  <a:lnTo>
                    <a:pt x="5" y="44"/>
                  </a:lnTo>
                  <a:lnTo>
                    <a:pt x="5" y="37"/>
                  </a:lnTo>
                  <a:lnTo>
                    <a:pt x="10" y="32"/>
                  </a:lnTo>
                  <a:lnTo>
                    <a:pt x="13" y="24"/>
                  </a:lnTo>
                  <a:lnTo>
                    <a:pt x="20" y="22"/>
                  </a:lnTo>
                  <a:lnTo>
                    <a:pt x="20" y="22"/>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4140360" y="5300640"/>
              <a:ext cx="712800" cy="903240"/>
            </a:xfrm>
            <a:custGeom>
              <a:avLst/>
              <a:gdLst/>
              <a:ahLst/>
              <a:rect l="l" t="t" r="r" b="b"/>
              <a:pathLst>
                <a:path w="449" h="569">
                  <a:moveTo>
                    <a:pt x="5" y="50"/>
                  </a:moveTo>
                  <a:lnTo>
                    <a:pt x="8" y="52"/>
                  </a:lnTo>
                  <a:lnTo>
                    <a:pt x="10" y="60"/>
                  </a:lnTo>
                  <a:lnTo>
                    <a:pt x="13" y="62"/>
                  </a:lnTo>
                  <a:lnTo>
                    <a:pt x="15" y="67"/>
                  </a:lnTo>
                  <a:lnTo>
                    <a:pt x="20" y="75"/>
                  </a:lnTo>
                  <a:lnTo>
                    <a:pt x="23" y="80"/>
                  </a:lnTo>
                  <a:lnTo>
                    <a:pt x="28" y="87"/>
                  </a:lnTo>
                  <a:lnTo>
                    <a:pt x="30" y="92"/>
                  </a:lnTo>
                  <a:lnTo>
                    <a:pt x="35" y="99"/>
                  </a:lnTo>
                  <a:lnTo>
                    <a:pt x="40" y="109"/>
                  </a:lnTo>
                  <a:lnTo>
                    <a:pt x="42" y="114"/>
                  </a:lnTo>
                  <a:lnTo>
                    <a:pt x="47" y="124"/>
                  </a:lnTo>
                  <a:lnTo>
                    <a:pt x="52" y="134"/>
                  </a:lnTo>
                  <a:lnTo>
                    <a:pt x="60" y="144"/>
                  </a:lnTo>
                  <a:lnTo>
                    <a:pt x="65" y="152"/>
                  </a:lnTo>
                  <a:lnTo>
                    <a:pt x="70" y="162"/>
                  </a:lnTo>
                  <a:lnTo>
                    <a:pt x="75" y="171"/>
                  </a:lnTo>
                  <a:lnTo>
                    <a:pt x="82" y="181"/>
                  </a:lnTo>
                  <a:lnTo>
                    <a:pt x="87" y="191"/>
                  </a:lnTo>
                  <a:lnTo>
                    <a:pt x="95" y="204"/>
                  </a:lnTo>
                  <a:lnTo>
                    <a:pt x="99" y="214"/>
                  </a:lnTo>
                  <a:lnTo>
                    <a:pt x="107" y="226"/>
                  </a:lnTo>
                  <a:lnTo>
                    <a:pt x="114" y="236"/>
                  </a:lnTo>
                  <a:lnTo>
                    <a:pt x="119" y="246"/>
                  </a:lnTo>
                  <a:lnTo>
                    <a:pt x="127" y="258"/>
                  </a:lnTo>
                  <a:lnTo>
                    <a:pt x="134" y="271"/>
                  </a:lnTo>
                  <a:lnTo>
                    <a:pt x="142" y="283"/>
                  </a:lnTo>
                  <a:lnTo>
                    <a:pt x="147" y="296"/>
                  </a:lnTo>
                  <a:lnTo>
                    <a:pt x="154" y="305"/>
                  </a:lnTo>
                  <a:lnTo>
                    <a:pt x="164" y="318"/>
                  </a:lnTo>
                  <a:lnTo>
                    <a:pt x="169" y="328"/>
                  </a:lnTo>
                  <a:lnTo>
                    <a:pt x="176" y="340"/>
                  </a:lnTo>
                  <a:lnTo>
                    <a:pt x="184" y="350"/>
                  </a:lnTo>
                  <a:lnTo>
                    <a:pt x="191" y="363"/>
                  </a:lnTo>
                  <a:lnTo>
                    <a:pt x="196" y="372"/>
                  </a:lnTo>
                  <a:lnTo>
                    <a:pt x="206" y="385"/>
                  </a:lnTo>
                  <a:lnTo>
                    <a:pt x="211" y="397"/>
                  </a:lnTo>
                  <a:lnTo>
                    <a:pt x="219" y="407"/>
                  </a:lnTo>
                  <a:lnTo>
                    <a:pt x="226" y="417"/>
                  </a:lnTo>
                  <a:lnTo>
                    <a:pt x="233" y="427"/>
                  </a:lnTo>
                  <a:lnTo>
                    <a:pt x="241" y="439"/>
                  </a:lnTo>
                  <a:lnTo>
                    <a:pt x="248" y="449"/>
                  </a:lnTo>
                  <a:lnTo>
                    <a:pt x="253" y="457"/>
                  </a:lnTo>
                  <a:lnTo>
                    <a:pt x="261" y="467"/>
                  </a:lnTo>
                  <a:lnTo>
                    <a:pt x="268" y="477"/>
                  </a:lnTo>
                  <a:lnTo>
                    <a:pt x="273" y="487"/>
                  </a:lnTo>
                  <a:lnTo>
                    <a:pt x="278" y="494"/>
                  </a:lnTo>
                  <a:lnTo>
                    <a:pt x="286" y="502"/>
                  </a:lnTo>
                  <a:lnTo>
                    <a:pt x="290" y="509"/>
                  </a:lnTo>
                  <a:lnTo>
                    <a:pt x="298" y="516"/>
                  </a:lnTo>
                  <a:lnTo>
                    <a:pt x="303" y="524"/>
                  </a:lnTo>
                  <a:lnTo>
                    <a:pt x="308" y="529"/>
                  </a:lnTo>
                  <a:lnTo>
                    <a:pt x="313" y="536"/>
                  </a:lnTo>
                  <a:lnTo>
                    <a:pt x="320" y="541"/>
                  </a:lnTo>
                  <a:lnTo>
                    <a:pt x="328" y="551"/>
                  </a:lnTo>
                  <a:lnTo>
                    <a:pt x="338" y="559"/>
                  </a:lnTo>
                  <a:lnTo>
                    <a:pt x="345" y="564"/>
                  </a:lnTo>
                  <a:lnTo>
                    <a:pt x="352" y="566"/>
                  </a:lnTo>
                  <a:lnTo>
                    <a:pt x="362" y="566"/>
                  </a:lnTo>
                  <a:lnTo>
                    <a:pt x="375" y="569"/>
                  </a:lnTo>
                  <a:lnTo>
                    <a:pt x="385" y="566"/>
                  </a:lnTo>
                  <a:lnTo>
                    <a:pt x="395" y="566"/>
                  </a:lnTo>
                  <a:lnTo>
                    <a:pt x="405" y="561"/>
                  </a:lnTo>
                  <a:lnTo>
                    <a:pt x="412" y="559"/>
                  </a:lnTo>
                  <a:lnTo>
                    <a:pt x="422" y="554"/>
                  </a:lnTo>
                  <a:lnTo>
                    <a:pt x="429" y="549"/>
                  </a:lnTo>
                  <a:lnTo>
                    <a:pt x="434" y="541"/>
                  </a:lnTo>
                  <a:lnTo>
                    <a:pt x="439" y="534"/>
                  </a:lnTo>
                  <a:lnTo>
                    <a:pt x="444" y="524"/>
                  </a:lnTo>
                  <a:lnTo>
                    <a:pt x="447" y="516"/>
                  </a:lnTo>
                  <a:lnTo>
                    <a:pt x="449" y="504"/>
                  </a:lnTo>
                  <a:lnTo>
                    <a:pt x="449" y="494"/>
                  </a:lnTo>
                  <a:lnTo>
                    <a:pt x="449" y="489"/>
                  </a:lnTo>
                  <a:lnTo>
                    <a:pt x="447" y="482"/>
                  </a:lnTo>
                  <a:lnTo>
                    <a:pt x="447" y="477"/>
                  </a:lnTo>
                  <a:lnTo>
                    <a:pt x="447" y="472"/>
                  </a:lnTo>
                  <a:lnTo>
                    <a:pt x="442" y="464"/>
                  </a:lnTo>
                  <a:lnTo>
                    <a:pt x="437" y="454"/>
                  </a:lnTo>
                  <a:lnTo>
                    <a:pt x="434" y="447"/>
                  </a:lnTo>
                  <a:lnTo>
                    <a:pt x="429" y="442"/>
                  </a:lnTo>
                  <a:lnTo>
                    <a:pt x="427" y="437"/>
                  </a:lnTo>
                  <a:lnTo>
                    <a:pt x="422" y="432"/>
                  </a:lnTo>
                  <a:lnTo>
                    <a:pt x="417" y="425"/>
                  </a:lnTo>
                  <a:lnTo>
                    <a:pt x="412" y="417"/>
                  </a:lnTo>
                  <a:lnTo>
                    <a:pt x="407" y="410"/>
                  </a:lnTo>
                  <a:lnTo>
                    <a:pt x="402" y="402"/>
                  </a:lnTo>
                  <a:lnTo>
                    <a:pt x="397" y="392"/>
                  </a:lnTo>
                  <a:lnTo>
                    <a:pt x="390" y="385"/>
                  </a:lnTo>
                  <a:lnTo>
                    <a:pt x="385" y="377"/>
                  </a:lnTo>
                  <a:lnTo>
                    <a:pt x="380" y="370"/>
                  </a:lnTo>
                  <a:lnTo>
                    <a:pt x="370" y="360"/>
                  </a:lnTo>
                  <a:lnTo>
                    <a:pt x="362" y="350"/>
                  </a:lnTo>
                  <a:lnTo>
                    <a:pt x="355" y="343"/>
                  </a:lnTo>
                  <a:lnTo>
                    <a:pt x="350" y="333"/>
                  </a:lnTo>
                  <a:lnTo>
                    <a:pt x="340" y="323"/>
                  </a:lnTo>
                  <a:lnTo>
                    <a:pt x="333" y="313"/>
                  </a:lnTo>
                  <a:lnTo>
                    <a:pt x="325" y="303"/>
                  </a:lnTo>
                  <a:lnTo>
                    <a:pt x="318" y="293"/>
                  </a:lnTo>
                  <a:lnTo>
                    <a:pt x="310" y="283"/>
                  </a:lnTo>
                  <a:lnTo>
                    <a:pt x="300" y="273"/>
                  </a:lnTo>
                  <a:lnTo>
                    <a:pt x="293" y="263"/>
                  </a:lnTo>
                  <a:lnTo>
                    <a:pt x="286" y="253"/>
                  </a:lnTo>
                  <a:lnTo>
                    <a:pt x="276" y="243"/>
                  </a:lnTo>
                  <a:lnTo>
                    <a:pt x="268" y="233"/>
                  </a:lnTo>
                  <a:lnTo>
                    <a:pt x="258" y="224"/>
                  </a:lnTo>
                  <a:lnTo>
                    <a:pt x="251" y="214"/>
                  </a:lnTo>
                  <a:lnTo>
                    <a:pt x="241" y="204"/>
                  </a:lnTo>
                  <a:lnTo>
                    <a:pt x="231" y="191"/>
                  </a:lnTo>
                  <a:lnTo>
                    <a:pt x="224" y="181"/>
                  </a:lnTo>
                  <a:lnTo>
                    <a:pt x="214" y="174"/>
                  </a:lnTo>
                  <a:lnTo>
                    <a:pt x="206" y="164"/>
                  </a:lnTo>
                  <a:lnTo>
                    <a:pt x="196" y="154"/>
                  </a:lnTo>
                  <a:lnTo>
                    <a:pt x="189" y="144"/>
                  </a:lnTo>
                  <a:lnTo>
                    <a:pt x="181" y="134"/>
                  </a:lnTo>
                  <a:lnTo>
                    <a:pt x="171" y="127"/>
                  </a:lnTo>
                  <a:lnTo>
                    <a:pt x="164" y="117"/>
                  </a:lnTo>
                  <a:lnTo>
                    <a:pt x="157" y="107"/>
                  </a:lnTo>
                  <a:lnTo>
                    <a:pt x="149" y="99"/>
                  </a:lnTo>
                  <a:lnTo>
                    <a:pt x="142" y="90"/>
                  </a:lnTo>
                  <a:lnTo>
                    <a:pt x="134" y="85"/>
                  </a:lnTo>
                  <a:lnTo>
                    <a:pt x="127" y="75"/>
                  </a:lnTo>
                  <a:lnTo>
                    <a:pt x="122" y="70"/>
                  </a:lnTo>
                  <a:lnTo>
                    <a:pt x="114" y="60"/>
                  </a:lnTo>
                  <a:lnTo>
                    <a:pt x="107" y="55"/>
                  </a:lnTo>
                  <a:lnTo>
                    <a:pt x="99" y="47"/>
                  </a:lnTo>
                  <a:lnTo>
                    <a:pt x="95" y="42"/>
                  </a:lnTo>
                  <a:lnTo>
                    <a:pt x="87" y="35"/>
                  </a:lnTo>
                  <a:lnTo>
                    <a:pt x="82" y="30"/>
                  </a:lnTo>
                  <a:lnTo>
                    <a:pt x="77" y="25"/>
                  </a:lnTo>
                  <a:lnTo>
                    <a:pt x="75" y="23"/>
                  </a:lnTo>
                  <a:lnTo>
                    <a:pt x="65" y="13"/>
                  </a:lnTo>
                  <a:lnTo>
                    <a:pt x="60" y="8"/>
                  </a:lnTo>
                  <a:lnTo>
                    <a:pt x="52" y="3"/>
                  </a:lnTo>
                  <a:lnTo>
                    <a:pt x="52" y="3"/>
                  </a:lnTo>
                  <a:lnTo>
                    <a:pt x="45" y="0"/>
                  </a:lnTo>
                  <a:lnTo>
                    <a:pt x="40" y="0"/>
                  </a:lnTo>
                  <a:lnTo>
                    <a:pt x="35" y="0"/>
                  </a:lnTo>
                  <a:lnTo>
                    <a:pt x="30" y="3"/>
                  </a:lnTo>
                  <a:lnTo>
                    <a:pt x="20" y="5"/>
                  </a:lnTo>
                  <a:lnTo>
                    <a:pt x="10" y="13"/>
                  </a:lnTo>
                  <a:lnTo>
                    <a:pt x="5" y="18"/>
                  </a:lnTo>
                  <a:lnTo>
                    <a:pt x="3" y="28"/>
                  </a:lnTo>
                  <a:lnTo>
                    <a:pt x="0" y="30"/>
                  </a:lnTo>
                  <a:lnTo>
                    <a:pt x="3" y="37"/>
                  </a:lnTo>
                  <a:lnTo>
                    <a:pt x="3" y="42"/>
                  </a:lnTo>
                  <a:lnTo>
                    <a:pt x="5" y="50"/>
                  </a:lnTo>
                  <a:lnTo>
                    <a:pt x="5" y="5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4214880" y="5388120"/>
              <a:ext cx="560520" cy="760320"/>
            </a:xfrm>
            <a:custGeom>
              <a:avLst/>
              <a:gdLst/>
              <a:ahLst/>
              <a:rect l="l" t="t" r="r" b="b"/>
              <a:pathLst>
                <a:path w="353" h="479">
                  <a:moveTo>
                    <a:pt x="5" y="22"/>
                  </a:moveTo>
                  <a:lnTo>
                    <a:pt x="5" y="27"/>
                  </a:lnTo>
                  <a:lnTo>
                    <a:pt x="8" y="35"/>
                  </a:lnTo>
                  <a:lnTo>
                    <a:pt x="13" y="42"/>
                  </a:lnTo>
                  <a:lnTo>
                    <a:pt x="18" y="54"/>
                  </a:lnTo>
                  <a:lnTo>
                    <a:pt x="23" y="59"/>
                  </a:lnTo>
                  <a:lnTo>
                    <a:pt x="25" y="64"/>
                  </a:lnTo>
                  <a:lnTo>
                    <a:pt x="28" y="72"/>
                  </a:lnTo>
                  <a:lnTo>
                    <a:pt x="33" y="79"/>
                  </a:lnTo>
                  <a:lnTo>
                    <a:pt x="35" y="87"/>
                  </a:lnTo>
                  <a:lnTo>
                    <a:pt x="40" y="94"/>
                  </a:lnTo>
                  <a:lnTo>
                    <a:pt x="45" y="102"/>
                  </a:lnTo>
                  <a:lnTo>
                    <a:pt x="52" y="111"/>
                  </a:lnTo>
                  <a:lnTo>
                    <a:pt x="55" y="119"/>
                  </a:lnTo>
                  <a:lnTo>
                    <a:pt x="60" y="126"/>
                  </a:lnTo>
                  <a:lnTo>
                    <a:pt x="65" y="136"/>
                  </a:lnTo>
                  <a:lnTo>
                    <a:pt x="72" y="144"/>
                  </a:lnTo>
                  <a:lnTo>
                    <a:pt x="77" y="154"/>
                  </a:lnTo>
                  <a:lnTo>
                    <a:pt x="85" y="161"/>
                  </a:lnTo>
                  <a:lnTo>
                    <a:pt x="90" y="171"/>
                  </a:lnTo>
                  <a:lnTo>
                    <a:pt x="97" y="181"/>
                  </a:lnTo>
                  <a:lnTo>
                    <a:pt x="102" y="191"/>
                  </a:lnTo>
                  <a:lnTo>
                    <a:pt x="110" y="201"/>
                  </a:lnTo>
                  <a:lnTo>
                    <a:pt x="115" y="208"/>
                  </a:lnTo>
                  <a:lnTo>
                    <a:pt x="122" y="221"/>
                  </a:lnTo>
                  <a:lnTo>
                    <a:pt x="127" y="228"/>
                  </a:lnTo>
                  <a:lnTo>
                    <a:pt x="134" y="241"/>
                  </a:lnTo>
                  <a:lnTo>
                    <a:pt x="142" y="250"/>
                  </a:lnTo>
                  <a:lnTo>
                    <a:pt x="149" y="260"/>
                  </a:lnTo>
                  <a:lnTo>
                    <a:pt x="154" y="270"/>
                  </a:lnTo>
                  <a:lnTo>
                    <a:pt x="159" y="278"/>
                  </a:lnTo>
                  <a:lnTo>
                    <a:pt x="167" y="288"/>
                  </a:lnTo>
                  <a:lnTo>
                    <a:pt x="174" y="298"/>
                  </a:lnTo>
                  <a:lnTo>
                    <a:pt x="179" y="308"/>
                  </a:lnTo>
                  <a:lnTo>
                    <a:pt x="186" y="317"/>
                  </a:lnTo>
                  <a:lnTo>
                    <a:pt x="191" y="325"/>
                  </a:lnTo>
                  <a:lnTo>
                    <a:pt x="199" y="335"/>
                  </a:lnTo>
                  <a:lnTo>
                    <a:pt x="206" y="345"/>
                  </a:lnTo>
                  <a:lnTo>
                    <a:pt x="211" y="352"/>
                  </a:lnTo>
                  <a:lnTo>
                    <a:pt x="219" y="360"/>
                  </a:lnTo>
                  <a:lnTo>
                    <a:pt x="224" y="370"/>
                  </a:lnTo>
                  <a:lnTo>
                    <a:pt x="231" y="377"/>
                  </a:lnTo>
                  <a:lnTo>
                    <a:pt x="236" y="384"/>
                  </a:lnTo>
                  <a:lnTo>
                    <a:pt x="243" y="394"/>
                  </a:lnTo>
                  <a:lnTo>
                    <a:pt x="248" y="402"/>
                  </a:lnTo>
                  <a:lnTo>
                    <a:pt x="253" y="409"/>
                  </a:lnTo>
                  <a:lnTo>
                    <a:pt x="258" y="414"/>
                  </a:lnTo>
                  <a:lnTo>
                    <a:pt x="263" y="422"/>
                  </a:lnTo>
                  <a:lnTo>
                    <a:pt x="268" y="429"/>
                  </a:lnTo>
                  <a:lnTo>
                    <a:pt x="278" y="439"/>
                  </a:lnTo>
                  <a:lnTo>
                    <a:pt x="286" y="449"/>
                  </a:lnTo>
                  <a:lnTo>
                    <a:pt x="293" y="456"/>
                  </a:lnTo>
                  <a:lnTo>
                    <a:pt x="301" y="464"/>
                  </a:lnTo>
                  <a:lnTo>
                    <a:pt x="305" y="469"/>
                  </a:lnTo>
                  <a:lnTo>
                    <a:pt x="310" y="471"/>
                  </a:lnTo>
                  <a:lnTo>
                    <a:pt x="315" y="471"/>
                  </a:lnTo>
                  <a:lnTo>
                    <a:pt x="320" y="474"/>
                  </a:lnTo>
                  <a:lnTo>
                    <a:pt x="328" y="474"/>
                  </a:lnTo>
                  <a:lnTo>
                    <a:pt x="333" y="476"/>
                  </a:lnTo>
                  <a:lnTo>
                    <a:pt x="343" y="479"/>
                  </a:lnTo>
                  <a:lnTo>
                    <a:pt x="350" y="476"/>
                  </a:lnTo>
                  <a:lnTo>
                    <a:pt x="353" y="471"/>
                  </a:lnTo>
                  <a:lnTo>
                    <a:pt x="353" y="464"/>
                  </a:lnTo>
                  <a:lnTo>
                    <a:pt x="350" y="459"/>
                  </a:lnTo>
                  <a:lnTo>
                    <a:pt x="348" y="451"/>
                  </a:lnTo>
                  <a:lnTo>
                    <a:pt x="345" y="444"/>
                  </a:lnTo>
                  <a:lnTo>
                    <a:pt x="340" y="437"/>
                  </a:lnTo>
                  <a:lnTo>
                    <a:pt x="335" y="429"/>
                  </a:lnTo>
                  <a:lnTo>
                    <a:pt x="330" y="424"/>
                  </a:lnTo>
                  <a:lnTo>
                    <a:pt x="325" y="414"/>
                  </a:lnTo>
                  <a:lnTo>
                    <a:pt x="318" y="404"/>
                  </a:lnTo>
                  <a:lnTo>
                    <a:pt x="315" y="399"/>
                  </a:lnTo>
                  <a:lnTo>
                    <a:pt x="310" y="394"/>
                  </a:lnTo>
                  <a:lnTo>
                    <a:pt x="305" y="387"/>
                  </a:lnTo>
                  <a:lnTo>
                    <a:pt x="303" y="382"/>
                  </a:lnTo>
                  <a:lnTo>
                    <a:pt x="298" y="375"/>
                  </a:lnTo>
                  <a:lnTo>
                    <a:pt x="293" y="370"/>
                  </a:lnTo>
                  <a:lnTo>
                    <a:pt x="288" y="362"/>
                  </a:lnTo>
                  <a:lnTo>
                    <a:pt x="283" y="357"/>
                  </a:lnTo>
                  <a:lnTo>
                    <a:pt x="278" y="347"/>
                  </a:lnTo>
                  <a:lnTo>
                    <a:pt x="273" y="342"/>
                  </a:lnTo>
                  <a:lnTo>
                    <a:pt x="268" y="335"/>
                  </a:lnTo>
                  <a:lnTo>
                    <a:pt x="263" y="327"/>
                  </a:lnTo>
                  <a:lnTo>
                    <a:pt x="256" y="317"/>
                  </a:lnTo>
                  <a:lnTo>
                    <a:pt x="251" y="313"/>
                  </a:lnTo>
                  <a:lnTo>
                    <a:pt x="243" y="303"/>
                  </a:lnTo>
                  <a:lnTo>
                    <a:pt x="239" y="295"/>
                  </a:lnTo>
                  <a:lnTo>
                    <a:pt x="231" y="288"/>
                  </a:lnTo>
                  <a:lnTo>
                    <a:pt x="226" y="278"/>
                  </a:lnTo>
                  <a:lnTo>
                    <a:pt x="221" y="270"/>
                  </a:lnTo>
                  <a:lnTo>
                    <a:pt x="214" y="263"/>
                  </a:lnTo>
                  <a:lnTo>
                    <a:pt x="209" y="253"/>
                  </a:lnTo>
                  <a:lnTo>
                    <a:pt x="201" y="246"/>
                  </a:lnTo>
                  <a:lnTo>
                    <a:pt x="196" y="238"/>
                  </a:lnTo>
                  <a:lnTo>
                    <a:pt x="189" y="231"/>
                  </a:lnTo>
                  <a:lnTo>
                    <a:pt x="181" y="221"/>
                  </a:lnTo>
                  <a:lnTo>
                    <a:pt x="177" y="213"/>
                  </a:lnTo>
                  <a:lnTo>
                    <a:pt x="169" y="203"/>
                  </a:lnTo>
                  <a:lnTo>
                    <a:pt x="164" y="196"/>
                  </a:lnTo>
                  <a:lnTo>
                    <a:pt x="157" y="186"/>
                  </a:lnTo>
                  <a:lnTo>
                    <a:pt x="152" y="178"/>
                  </a:lnTo>
                  <a:lnTo>
                    <a:pt x="144" y="171"/>
                  </a:lnTo>
                  <a:lnTo>
                    <a:pt x="139" y="164"/>
                  </a:lnTo>
                  <a:lnTo>
                    <a:pt x="132" y="156"/>
                  </a:lnTo>
                  <a:lnTo>
                    <a:pt x="127" y="149"/>
                  </a:lnTo>
                  <a:lnTo>
                    <a:pt x="119" y="139"/>
                  </a:lnTo>
                  <a:lnTo>
                    <a:pt x="115" y="131"/>
                  </a:lnTo>
                  <a:lnTo>
                    <a:pt x="107" y="124"/>
                  </a:lnTo>
                  <a:lnTo>
                    <a:pt x="102" y="116"/>
                  </a:lnTo>
                  <a:lnTo>
                    <a:pt x="97" y="111"/>
                  </a:lnTo>
                  <a:lnTo>
                    <a:pt x="95" y="104"/>
                  </a:lnTo>
                  <a:lnTo>
                    <a:pt x="87" y="97"/>
                  </a:lnTo>
                  <a:lnTo>
                    <a:pt x="82" y="89"/>
                  </a:lnTo>
                  <a:lnTo>
                    <a:pt x="77" y="84"/>
                  </a:lnTo>
                  <a:lnTo>
                    <a:pt x="75" y="79"/>
                  </a:lnTo>
                  <a:lnTo>
                    <a:pt x="70" y="72"/>
                  </a:lnTo>
                  <a:lnTo>
                    <a:pt x="65" y="67"/>
                  </a:lnTo>
                  <a:lnTo>
                    <a:pt x="62" y="62"/>
                  </a:lnTo>
                  <a:lnTo>
                    <a:pt x="60" y="57"/>
                  </a:lnTo>
                  <a:lnTo>
                    <a:pt x="52" y="47"/>
                  </a:lnTo>
                  <a:lnTo>
                    <a:pt x="48" y="42"/>
                  </a:lnTo>
                  <a:lnTo>
                    <a:pt x="43" y="35"/>
                  </a:lnTo>
                  <a:lnTo>
                    <a:pt x="40" y="30"/>
                  </a:lnTo>
                  <a:lnTo>
                    <a:pt x="35" y="22"/>
                  </a:lnTo>
                  <a:lnTo>
                    <a:pt x="28" y="17"/>
                  </a:lnTo>
                  <a:lnTo>
                    <a:pt x="23" y="10"/>
                  </a:lnTo>
                  <a:lnTo>
                    <a:pt x="20" y="7"/>
                  </a:lnTo>
                  <a:lnTo>
                    <a:pt x="13" y="0"/>
                  </a:lnTo>
                  <a:lnTo>
                    <a:pt x="8" y="0"/>
                  </a:lnTo>
                  <a:lnTo>
                    <a:pt x="3" y="0"/>
                  </a:lnTo>
                  <a:lnTo>
                    <a:pt x="0" y="5"/>
                  </a:lnTo>
                  <a:lnTo>
                    <a:pt x="0" y="7"/>
                  </a:lnTo>
                  <a:lnTo>
                    <a:pt x="0" y="12"/>
                  </a:lnTo>
                  <a:lnTo>
                    <a:pt x="0" y="17"/>
                  </a:lnTo>
                  <a:lnTo>
                    <a:pt x="5" y="22"/>
                  </a:lnTo>
                  <a:lnTo>
                    <a:pt x="5" y="2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613560" y="3941640"/>
              <a:ext cx="622440" cy="1150920"/>
            </a:xfrm>
            <a:custGeom>
              <a:avLst/>
              <a:gdLst/>
              <a:ahLst/>
              <a:rect l="l" t="t" r="r" b="b"/>
              <a:pathLst>
                <a:path w="392" h="725">
                  <a:moveTo>
                    <a:pt x="22" y="10"/>
                  </a:moveTo>
                  <a:lnTo>
                    <a:pt x="12" y="17"/>
                  </a:lnTo>
                  <a:lnTo>
                    <a:pt x="7" y="25"/>
                  </a:lnTo>
                  <a:lnTo>
                    <a:pt x="2" y="30"/>
                  </a:lnTo>
                  <a:lnTo>
                    <a:pt x="2" y="37"/>
                  </a:lnTo>
                  <a:lnTo>
                    <a:pt x="0" y="40"/>
                  </a:lnTo>
                  <a:lnTo>
                    <a:pt x="0" y="45"/>
                  </a:lnTo>
                  <a:lnTo>
                    <a:pt x="2" y="52"/>
                  </a:lnTo>
                  <a:lnTo>
                    <a:pt x="2" y="60"/>
                  </a:lnTo>
                  <a:lnTo>
                    <a:pt x="2" y="70"/>
                  </a:lnTo>
                  <a:lnTo>
                    <a:pt x="5" y="79"/>
                  </a:lnTo>
                  <a:lnTo>
                    <a:pt x="7" y="84"/>
                  </a:lnTo>
                  <a:lnTo>
                    <a:pt x="10" y="89"/>
                  </a:lnTo>
                  <a:lnTo>
                    <a:pt x="10" y="97"/>
                  </a:lnTo>
                  <a:lnTo>
                    <a:pt x="12" y="104"/>
                  </a:lnTo>
                  <a:lnTo>
                    <a:pt x="12" y="107"/>
                  </a:lnTo>
                  <a:lnTo>
                    <a:pt x="12" y="112"/>
                  </a:lnTo>
                  <a:lnTo>
                    <a:pt x="15" y="117"/>
                  </a:lnTo>
                  <a:lnTo>
                    <a:pt x="15" y="122"/>
                  </a:lnTo>
                  <a:lnTo>
                    <a:pt x="17" y="129"/>
                  </a:lnTo>
                  <a:lnTo>
                    <a:pt x="20" y="134"/>
                  </a:lnTo>
                  <a:lnTo>
                    <a:pt x="22" y="142"/>
                  </a:lnTo>
                  <a:lnTo>
                    <a:pt x="25" y="151"/>
                  </a:lnTo>
                  <a:lnTo>
                    <a:pt x="27" y="159"/>
                  </a:lnTo>
                  <a:lnTo>
                    <a:pt x="32" y="169"/>
                  </a:lnTo>
                  <a:lnTo>
                    <a:pt x="35" y="176"/>
                  </a:lnTo>
                  <a:lnTo>
                    <a:pt x="40" y="189"/>
                  </a:lnTo>
                  <a:lnTo>
                    <a:pt x="42" y="196"/>
                  </a:lnTo>
                  <a:lnTo>
                    <a:pt x="47" y="209"/>
                  </a:lnTo>
                  <a:lnTo>
                    <a:pt x="50" y="218"/>
                  </a:lnTo>
                  <a:lnTo>
                    <a:pt x="57" y="231"/>
                  </a:lnTo>
                  <a:lnTo>
                    <a:pt x="59" y="241"/>
                  </a:lnTo>
                  <a:lnTo>
                    <a:pt x="64" y="251"/>
                  </a:lnTo>
                  <a:lnTo>
                    <a:pt x="69" y="263"/>
                  </a:lnTo>
                  <a:lnTo>
                    <a:pt x="74" y="276"/>
                  </a:lnTo>
                  <a:lnTo>
                    <a:pt x="79" y="288"/>
                  </a:lnTo>
                  <a:lnTo>
                    <a:pt x="84" y="300"/>
                  </a:lnTo>
                  <a:lnTo>
                    <a:pt x="89" y="313"/>
                  </a:lnTo>
                  <a:lnTo>
                    <a:pt x="97" y="328"/>
                  </a:lnTo>
                  <a:lnTo>
                    <a:pt x="102" y="340"/>
                  </a:lnTo>
                  <a:lnTo>
                    <a:pt x="107" y="352"/>
                  </a:lnTo>
                  <a:lnTo>
                    <a:pt x="114" y="365"/>
                  </a:lnTo>
                  <a:lnTo>
                    <a:pt x="119" y="380"/>
                  </a:lnTo>
                  <a:lnTo>
                    <a:pt x="126" y="392"/>
                  </a:lnTo>
                  <a:lnTo>
                    <a:pt x="131" y="405"/>
                  </a:lnTo>
                  <a:lnTo>
                    <a:pt x="139" y="419"/>
                  </a:lnTo>
                  <a:lnTo>
                    <a:pt x="144" y="434"/>
                  </a:lnTo>
                  <a:lnTo>
                    <a:pt x="149" y="447"/>
                  </a:lnTo>
                  <a:lnTo>
                    <a:pt x="156" y="459"/>
                  </a:lnTo>
                  <a:lnTo>
                    <a:pt x="161" y="472"/>
                  </a:lnTo>
                  <a:lnTo>
                    <a:pt x="169" y="484"/>
                  </a:lnTo>
                  <a:lnTo>
                    <a:pt x="174" y="496"/>
                  </a:lnTo>
                  <a:lnTo>
                    <a:pt x="181" y="511"/>
                  </a:lnTo>
                  <a:lnTo>
                    <a:pt x="186" y="524"/>
                  </a:lnTo>
                  <a:lnTo>
                    <a:pt x="193" y="536"/>
                  </a:lnTo>
                  <a:lnTo>
                    <a:pt x="198" y="549"/>
                  </a:lnTo>
                  <a:lnTo>
                    <a:pt x="203" y="558"/>
                  </a:lnTo>
                  <a:lnTo>
                    <a:pt x="208" y="571"/>
                  </a:lnTo>
                  <a:lnTo>
                    <a:pt x="216" y="583"/>
                  </a:lnTo>
                  <a:lnTo>
                    <a:pt x="221" y="593"/>
                  </a:lnTo>
                  <a:lnTo>
                    <a:pt x="226" y="603"/>
                  </a:lnTo>
                  <a:lnTo>
                    <a:pt x="231" y="613"/>
                  </a:lnTo>
                  <a:lnTo>
                    <a:pt x="238" y="625"/>
                  </a:lnTo>
                  <a:lnTo>
                    <a:pt x="241" y="633"/>
                  </a:lnTo>
                  <a:lnTo>
                    <a:pt x="248" y="643"/>
                  </a:lnTo>
                  <a:lnTo>
                    <a:pt x="253" y="650"/>
                  </a:lnTo>
                  <a:lnTo>
                    <a:pt x="258" y="660"/>
                  </a:lnTo>
                  <a:lnTo>
                    <a:pt x="260" y="668"/>
                  </a:lnTo>
                  <a:lnTo>
                    <a:pt x="265" y="675"/>
                  </a:lnTo>
                  <a:lnTo>
                    <a:pt x="270" y="683"/>
                  </a:lnTo>
                  <a:lnTo>
                    <a:pt x="275" y="687"/>
                  </a:lnTo>
                  <a:lnTo>
                    <a:pt x="283" y="697"/>
                  </a:lnTo>
                  <a:lnTo>
                    <a:pt x="290" y="707"/>
                  </a:lnTo>
                  <a:lnTo>
                    <a:pt x="295" y="712"/>
                  </a:lnTo>
                  <a:lnTo>
                    <a:pt x="303" y="717"/>
                  </a:lnTo>
                  <a:lnTo>
                    <a:pt x="308" y="717"/>
                  </a:lnTo>
                  <a:lnTo>
                    <a:pt x="317" y="720"/>
                  </a:lnTo>
                  <a:lnTo>
                    <a:pt x="325" y="722"/>
                  </a:lnTo>
                  <a:lnTo>
                    <a:pt x="332" y="725"/>
                  </a:lnTo>
                  <a:lnTo>
                    <a:pt x="337" y="725"/>
                  </a:lnTo>
                  <a:lnTo>
                    <a:pt x="345" y="725"/>
                  </a:lnTo>
                  <a:lnTo>
                    <a:pt x="350" y="725"/>
                  </a:lnTo>
                  <a:lnTo>
                    <a:pt x="357" y="725"/>
                  </a:lnTo>
                  <a:lnTo>
                    <a:pt x="367" y="720"/>
                  </a:lnTo>
                  <a:lnTo>
                    <a:pt x="377" y="712"/>
                  </a:lnTo>
                  <a:lnTo>
                    <a:pt x="379" y="707"/>
                  </a:lnTo>
                  <a:lnTo>
                    <a:pt x="384" y="700"/>
                  </a:lnTo>
                  <a:lnTo>
                    <a:pt x="387" y="695"/>
                  </a:lnTo>
                  <a:lnTo>
                    <a:pt x="392" y="685"/>
                  </a:lnTo>
                  <a:lnTo>
                    <a:pt x="389" y="678"/>
                  </a:lnTo>
                  <a:lnTo>
                    <a:pt x="389" y="670"/>
                  </a:lnTo>
                  <a:lnTo>
                    <a:pt x="387" y="663"/>
                  </a:lnTo>
                  <a:lnTo>
                    <a:pt x="387" y="658"/>
                  </a:lnTo>
                  <a:lnTo>
                    <a:pt x="384" y="650"/>
                  </a:lnTo>
                  <a:lnTo>
                    <a:pt x="382" y="645"/>
                  </a:lnTo>
                  <a:lnTo>
                    <a:pt x="379" y="635"/>
                  </a:lnTo>
                  <a:lnTo>
                    <a:pt x="375" y="628"/>
                  </a:lnTo>
                  <a:lnTo>
                    <a:pt x="372" y="618"/>
                  </a:lnTo>
                  <a:lnTo>
                    <a:pt x="370" y="611"/>
                  </a:lnTo>
                  <a:lnTo>
                    <a:pt x="365" y="598"/>
                  </a:lnTo>
                  <a:lnTo>
                    <a:pt x="360" y="591"/>
                  </a:lnTo>
                  <a:lnTo>
                    <a:pt x="355" y="581"/>
                  </a:lnTo>
                  <a:lnTo>
                    <a:pt x="352" y="568"/>
                  </a:lnTo>
                  <a:lnTo>
                    <a:pt x="345" y="556"/>
                  </a:lnTo>
                  <a:lnTo>
                    <a:pt x="340" y="546"/>
                  </a:lnTo>
                  <a:lnTo>
                    <a:pt x="335" y="534"/>
                  </a:lnTo>
                  <a:lnTo>
                    <a:pt x="330" y="521"/>
                  </a:lnTo>
                  <a:lnTo>
                    <a:pt x="322" y="509"/>
                  </a:lnTo>
                  <a:lnTo>
                    <a:pt x="317" y="496"/>
                  </a:lnTo>
                  <a:lnTo>
                    <a:pt x="310" y="484"/>
                  </a:lnTo>
                  <a:lnTo>
                    <a:pt x="305" y="472"/>
                  </a:lnTo>
                  <a:lnTo>
                    <a:pt x="298" y="457"/>
                  </a:lnTo>
                  <a:lnTo>
                    <a:pt x="290" y="442"/>
                  </a:lnTo>
                  <a:lnTo>
                    <a:pt x="283" y="429"/>
                  </a:lnTo>
                  <a:lnTo>
                    <a:pt x="278" y="417"/>
                  </a:lnTo>
                  <a:lnTo>
                    <a:pt x="270" y="402"/>
                  </a:lnTo>
                  <a:lnTo>
                    <a:pt x="263" y="387"/>
                  </a:lnTo>
                  <a:lnTo>
                    <a:pt x="255" y="375"/>
                  </a:lnTo>
                  <a:lnTo>
                    <a:pt x="248" y="362"/>
                  </a:lnTo>
                  <a:lnTo>
                    <a:pt x="241" y="345"/>
                  </a:lnTo>
                  <a:lnTo>
                    <a:pt x="233" y="333"/>
                  </a:lnTo>
                  <a:lnTo>
                    <a:pt x="226" y="318"/>
                  </a:lnTo>
                  <a:lnTo>
                    <a:pt x="218" y="305"/>
                  </a:lnTo>
                  <a:lnTo>
                    <a:pt x="211" y="290"/>
                  </a:lnTo>
                  <a:lnTo>
                    <a:pt x="203" y="278"/>
                  </a:lnTo>
                  <a:lnTo>
                    <a:pt x="196" y="263"/>
                  </a:lnTo>
                  <a:lnTo>
                    <a:pt x="188" y="251"/>
                  </a:lnTo>
                  <a:lnTo>
                    <a:pt x="181" y="238"/>
                  </a:lnTo>
                  <a:lnTo>
                    <a:pt x="176" y="226"/>
                  </a:lnTo>
                  <a:lnTo>
                    <a:pt x="169" y="213"/>
                  </a:lnTo>
                  <a:lnTo>
                    <a:pt x="161" y="201"/>
                  </a:lnTo>
                  <a:lnTo>
                    <a:pt x="154" y="189"/>
                  </a:lnTo>
                  <a:lnTo>
                    <a:pt x="149" y="176"/>
                  </a:lnTo>
                  <a:lnTo>
                    <a:pt x="141" y="166"/>
                  </a:lnTo>
                  <a:lnTo>
                    <a:pt x="136" y="156"/>
                  </a:lnTo>
                  <a:lnTo>
                    <a:pt x="129" y="144"/>
                  </a:lnTo>
                  <a:lnTo>
                    <a:pt x="124" y="134"/>
                  </a:lnTo>
                  <a:lnTo>
                    <a:pt x="117" y="124"/>
                  </a:lnTo>
                  <a:lnTo>
                    <a:pt x="112" y="117"/>
                  </a:lnTo>
                  <a:lnTo>
                    <a:pt x="107" y="107"/>
                  </a:lnTo>
                  <a:lnTo>
                    <a:pt x="102" y="99"/>
                  </a:lnTo>
                  <a:lnTo>
                    <a:pt x="97" y="89"/>
                  </a:lnTo>
                  <a:lnTo>
                    <a:pt x="94" y="84"/>
                  </a:lnTo>
                  <a:lnTo>
                    <a:pt x="89" y="77"/>
                  </a:lnTo>
                  <a:lnTo>
                    <a:pt x="84" y="70"/>
                  </a:lnTo>
                  <a:lnTo>
                    <a:pt x="82" y="65"/>
                  </a:lnTo>
                  <a:lnTo>
                    <a:pt x="79" y="62"/>
                  </a:lnTo>
                  <a:lnTo>
                    <a:pt x="74" y="55"/>
                  </a:lnTo>
                  <a:lnTo>
                    <a:pt x="69" y="50"/>
                  </a:lnTo>
                  <a:lnTo>
                    <a:pt x="62" y="42"/>
                  </a:lnTo>
                  <a:lnTo>
                    <a:pt x="57" y="35"/>
                  </a:lnTo>
                  <a:lnTo>
                    <a:pt x="55" y="30"/>
                  </a:lnTo>
                  <a:lnTo>
                    <a:pt x="50" y="25"/>
                  </a:lnTo>
                  <a:lnTo>
                    <a:pt x="45" y="15"/>
                  </a:lnTo>
                  <a:lnTo>
                    <a:pt x="42" y="8"/>
                  </a:lnTo>
                  <a:lnTo>
                    <a:pt x="37" y="3"/>
                  </a:lnTo>
                  <a:lnTo>
                    <a:pt x="35" y="0"/>
                  </a:lnTo>
                  <a:lnTo>
                    <a:pt x="30" y="3"/>
                  </a:lnTo>
                  <a:lnTo>
                    <a:pt x="22" y="10"/>
                  </a:lnTo>
                  <a:lnTo>
                    <a:pt x="22" y="1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6696360" y="4111560"/>
              <a:ext cx="480960" cy="925560"/>
            </a:xfrm>
            <a:custGeom>
              <a:avLst/>
              <a:gdLst/>
              <a:ahLst/>
              <a:rect l="l" t="t" r="r" b="b"/>
              <a:pathLst>
                <a:path w="303" h="583">
                  <a:moveTo>
                    <a:pt x="7" y="35"/>
                  </a:moveTo>
                  <a:lnTo>
                    <a:pt x="7" y="39"/>
                  </a:lnTo>
                  <a:lnTo>
                    <a:pt x="10" y="47"/>
                  </a:lnTo>
                  <a:lnTo>
                    <a:pt x="10" y="49"/>
                  </a:lnTo>
                  <a:lnTo>
                    <a:pt x="12" y="54"/>
                  </a:lnTo>
                  <a:lnTo>
                    <a:pt x="17" y="62"/>
                  </a:lnTo>
                  <a:lnTo>
                    <a:pt x="20" y="67"/>
                  </a:lnTo>
                  <a:lnTo>
                    <a:pt x="22" y="74"/>
                  </a:lnTo>
                  <a:lnTo>
                    <a:pt x="22" y="79"/>
                  </a:lnTo>
                  <a:lnTo>
                    <a:pt x="27" y="87"/>
                  </a:lnTo>
                  <a:lnTo>
                    <a:pt x="30" y="97"/>
                  </a:lnTo>
                  <a:lnTo>
                    <a:pt x="32" y="104"/>
                  </a:lnTo>
                  <a:lnTo>
                    <a:pt x="35" y="111"/>
                  </a:lnTo>
                  <a:lnTo>
                    <a:pt x="40" y="121"/>
                  </a:lnTo>
                  <a:lnTo>
                    <a:pt x="45" y="131"/>
                  </a:lnTo>
                  <a:lnTo>
                    <a:pt x="47" y="141"/>
                  </a:lnTo>
                  <a:lnTo>
                    <a:pt x="52" y="151"/>
                  </a:lnTo>
                  <a:lnTo>
                    <a:pt x="55" y="161"/>
                  </a:lnTo>
                  <a:lnTo>
                    <a:pt x="60" y="174"/>
                  </a:lnTo>
                  <a:lnTo>
                    <a:pt x="65" y="183"/>
                  </a:lnTo>
                  <a:lnTo>
                    <a:pt x="70" y="193"/>
                  </a:lnTo>
                  <a:lnTo>
                    <a:pt x="72" y="206"/>
                  </a:lnTo>
                  <a:lnTo>
                    <a:pt x="77" y="218"/>
                  </a:lnTo>
                  <a:lnTo>
                    <a:pt x="82" y="228"/>
                  </a:lnTo>
                  <a:lnTo>
                    <a:pt x="87" y="241"/>
                  </a:lnTo>
                  <a:lnTo>
                    <a:pt x="92" y="250"/>
                  </a:lnTo>
                  <a:lnTo>
                    <a:pt x="97" y="263"/>
                  </a:lnTo>
                  <a:lnTo>
                    <a:pt x="102" y="275"/>
                  </a:lnTo>
                  <a:lnTo>
                    <a:pt x="107" y="288"/>
                  </a:lnTo>
                  <a:lnTo>
                    <a:pt x="112" y="300"/>
                  </a:lnTo>
                  <a:lnTo>
                    <a:pt x="119" y="312"/>
                  </a:lnTo>
                  <a:lnTo>
                    <a:pt x="122" y="325"/>
                  </a:lnTo>
                  <a:lnTo>
                    <a:pt x="127" y="337"/>
                  </a:lnTo>
                  <a:lnTo>
                    <a:pt x="132" y="347"/>
                  </a:lnTo>
                  <a:lnTo>
                    <a:pt x="136" y="360"/>
                  </a:lnTo>
                  <a:lnTo>
                    <a:pt x="141" y="372"/>
                  </a:lnTo>
                  <a:lnTo>
                    <a:pt x="146" y="384"/>
                  </a:lnTo>
                  <a:lnTo>
                    <a:pt x="151" y="394"/>
                  </a:lnTo>
                  <a:lnTo>
                    <a:pt x="159" y="407"/>
                  </a:lnTo>
                  <a:lnTo>
                    <a:pt x="161" y="419"/>
                  </a:lnTo>
                  <a:lnTo>
                    <a:pt x="166" y="429"/>
                  </a:lnTo>
                  <a:lnTo>
                    <a:pt x="171" y="439"/>
                  </a:lnTo>
                  <a:lnTo>
                    <a:pt x="179" y="449"/>
                  </a:lnTo>
                  <a:lnTo>
                    <a:pt x="181" y="461"/>
                  </a:lnTo>
                  <a:lnTo>
                    <a:pt x="186" y="471"/>
                  </a:lnTo>
                  <a:lnTo>
                    <a:pt x="191" y="479"/>
                  </a:lnTo>
                  <a:lnTo>
                    <a:pt x="196" y="491"/>
                  </a:lnTo>
                  <a:lnTo>
                    <a:pt x="201" y="499"/>
                  </a:lnTo>
                  <a:lnTo>
                    <a:pt x="206" y="506"/>
                  </a:lnTo>
                  <a:lnTo>
                    <a:pt x="208" y="513"/>
                  </a:lnTo>
                  <a:lnTo>
                    <a:pt x="213" y="521"/>
                  </a:lnTo>
                  <a:lnTo>
                    <a:pt x="218" y="528"/>
                  </a:lnTo>
                  <a:lnTo>
                    <a:pt x="223" y="536"/>
                  </a:lnTo>
                  <a:lnTo>
                    <a:pt x="226" y="543"/>
                  </a:lnTo>
                  <a:lnTo>
                    <a:pt x="231" y="548"/>
                  </a:lnTo>
                  <a:lnTo>
                    <a:pt x="238" y="558"/>
                  </a:lnTo>
                  <a:lnTo>
                    <a:pt x="243" y="566"/>
                  </a:lnTo>
                  <a:lnTo>
                    <a:pt x="251" y="573"/>
                  </a:lnTo>
                  <a:lnTo>
                    <a:pt x="256" y="576"/>
                  </a:lnTo>
                  <a:lnTo>
                    <a:pt x="265" y="578"/>
                  </a:lnTo>
                  <a:lnTo>
                    <a:pt x="273" y="580"/>
                  </a:lnTo>
                  <a:lnTo>
                    <a:pt x="278" y="580"/>
                  </a:lnTo>
                  <a:lnTo>
                    <a:pt x="285" y="583"/>
                  </a:lnTo>
                  <a:lnTo>
                    <a:pt x="295" y="583"/>
                  </a:lnTo>
                  <a:lnTo>
                    <a:pt x="300" y="580"/>
                  </a:lnTo>
                  <a:lnTo>
                    <a:pt x="303" y="576"/>
                  </a:lnTo>
                  <a:lnTo>
                    <a:pt x="300" y="566"/>
                  </a:lnTo>
                  <a:lnTo>
                    <a:pt x="298" y="561"/>
                  </a:lnTo>
                  <a:lnTo>
                    <a:pt x="295" y="553"/>
                  </a:lnTo>
                  <a:lnTo>
                    <a:pt x="290" y="546"/>
                  </a:lnTo>
                  <a:lnTo>
                    <a:pt x="288" y="538"/>
                  </a:lnTo>
                  <a:lnTo>
                    <a:pt x="285" y="531"/>
                  </a:lnTo>
                  <a:lnTo>
                    <a:pt x="280" y="521"/>
                  </a:lnTo>
                  <a:lnTo>
                    <a:pt x="278" y="516"/>
                  </a:lnTo>
                  <a:lnTo>
                    <a:pt x="275" y="513"/>
                  </a:lnTo>
                  <a:lnTo>
                    <a:pt x="273" y="506"/>
                  </a:lnTo>
                  <a:lnTo>
                    <a:pt x="270" y="501"/>
                  </a:lnTo>
                  <a:lnTo>
                    <a:pt x="265" y="494"/>
                  </a:lnTo>
                  <a:lnTo>
                    <a:pt x="263" y="489"/>
                  </a:lnTo>
                  <a:lnTo>
                    <a:pt x="258" y="481"/>
                  </a:lnTo>
                  <a:lnTo>
                    <a:pt x="256" y="474"/>
                  </a:lnTo>
                  <a:lnTo>
                    <a:pt x="251" y="466"/>
                  </a:lnTo>
                  <a:lnTo>
                    <a:pt x="248" y="456"/>
                  </a:lnTo>
                  <a:lnTo>
                    <a:pt x="243" y="449"/>
                  </a:lnTo>
                  <a:lnTo>
                    <a:pt x="241" y="442"/>
                  </a:lnTo>
                  <a:lnTo>
                    <a:pt x="236" y="429"/>
                  </a:lnTo>
                  <a:lnTo>
                    <a:pt x="231" y="422"/>
                  </a:lnTo>
                  <a:lnTo>
                    <a:pt x="226" y="412"/>
                  </a:lnTo>
                  <a:lnTo>
                    <a:pt x="221" y="402"/>
                  </a:lnTo>
                  <a:lnTo>
                    <a:pt x="216" y="392"/>
                  </a:lnTo>
                  <a:lnTo>
                    <a:pt x="211" y="382"/>
                  </a:lnTo>
                  <a:lnTo>
                    <a:pt x="206" y="372"/>
                  </a:lnTo>
                  <a:lnTo>
                    <a:pt x="201" y="362"/>
                  </a:lnTo>
                  <a:lnTo>
                    <a:pt x="196" y="352"/>
                  </a:lnTo>
                  <a:lnTo>
                    <a:pt x="191" y="342"/>
                  </a:lnTo>
                  <a:lnTo>
                    <a:pt x="186" y="330"/>
                  </a:lnTo>
                  <a:lnTo>
                    <a:pt x="181" y="320"/>
                  </a:lnTo>
                  <a:lnTo>
                    <a:pt x="176" y="310"/>
                  </a:lnTo>
                  <a:lnTo>
                    <a:pt x="171" y="300"/>
                  </a:lnTo>
                  <a:lnTo>
                    <a:pt x="166" y="288"/>
                  </a:lnTo>
                  <a:lnTo>
                    <a:pt x="159" y="280"/>
                  </a:lnTo>
                  <a:lnTo>
                    <a:pt x="154" y="268"/>
                  </a:lnTo>
                  <a:lnTo>
                    <a:pt x="149" y="258"/>
                  </a:lnTo>
                  <a:lnTo>
                    <a:pt x="144" y="245"/>
                  </a:lnTo>
                  <a:lnTo>
                    <a:pt x="139" y="236"/>
                  </a:lnTo>
                  <a:lnTo>
                    <a:pt x="132" y="226"/>
                  </a:lnTo>
                  <a:lnTo>
                    <a:pt x="127" y="216"/>
                  </a:lnTo>
                  <a:lnTo>
                    <a:pt x="122" y="203"/>
                  </a:lnTo>
                  <a:lnTo>
                    <a:pt x="119" y="193"/>
                  </a:lnTo>
                  <a:lnTo>
                    <a:pt x="112" y="183"/>
                  </a:lnTo>
                  <a:lnTo>
                    <a:pt x="107" y="174"/>
                  </a:lnTo>
                  <a:lnTo>
                    <a:pt x="102" y="164"/>
                  </a:lnTo>
                  <a:lnTo>
                    <a:pt x="99" y="154"/>
                  </a:lnTo>
                  <a:lnTo>
                    <a:pt x="94" y="146"/>
                  </a:lnTo>
                  <a:lnTo>
                    <a:pt x="89" y="136"/>
                  </a:lnTo>
                  <a:lnTo>
                    <a:pt x="84" y="126"/>
                  </a:lnTo>
                  <a:lnTo>
                    <a:pt x="82" y="119"/>
                  </a:lnTo>
                  <a:lnTo>
                    <a:pt x="77" y="111"/>
                  </a:lnTo>
                  <a:lnTo>
                    <a:pt x="72" y="104"/>
                  </a:lnTo>
                  <a:lnTo>
                    <a:pt x="67" y="94"/>
                  </a:lnTo>
                  <a:lnTo>
                    <a:pt x="65" y="89"/>
                  </a:lnTo>
                  <a:lnTo>
                    <a:pt x="60" y="82"/>
                  </a:lnTo>
                  <a:lnTo>
                    <a:pt x="57" y="74"/>
                  </a:lnTo>
                  <a:lnTo>
                    <a:pt x="55" y="69"/>
                  </a:lnTo>
                  <a:lnTo>
                    <a:pt x="52" y="64"/>
                  </a:lnTo>
                  <a:lnTo>
                    <a:pt x="47" y="52"/>
                  </a:lnTo>
                  <a:lnTo>
                    <a:pt x="42" y="44"/>
                  </a:lnTo>
                  <a:lnTo>
                    <a:pt x="37" y="39"/>
                  </a:lnTo>
                  <a:lnTo>
                    <a:pt x="37" y="35"/>
                  </a:lnTo>
                  <a:lnTo>
                    <a:pt x="32" y="27"/>
                  </a:lnTo>
                  <a:lnTo>
                    <a:pt x="27" y="22"/>
                  </a:lnTo>
                  <a:lnTo>
                    <a:pt x="22" y="15"/>
                  </a:lnTo>
                  <a:lnTo>
                    <a:pt x="20" y="12"/>
                  </a:lnTo>
                  <a:lnTo>
                    <a:pt x="10" y="5"/>
                  </a:lnTo>
                  <a:lnTo>
                    <a:pt x="5" y="2"/>
                  </a:lnTo>
                  <a:lnTo>
                    <a:pt x="0" y="0"/>
                  </a:lnTo>
                  <a:lnTo>
                    <a:pt x="0" y="5"/>
                  </a:lnTo>
                  <a:lnTo>
                    <a:pt x="0" y="10"/>
                  </a:lnTo>
                  <a:lnTo>
                    <a:pt x="0" y="17"/>
                  </a:lnTo>
                  <a:lnTo>
                    <a:pt x="3" y="25"/>
                  </a:lnTo>
                  <a:lnTo>
                    <a:pt x="7" y="35"/>
                  </a:lnTo>
                  <a:lnTo>
                    <a:pt x="7" y="3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8.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ough Injection?</a:t>
            </a:r>
            <a:endParaRPr b="0" lang="en-US" sz="4400" spc="-1" strike="noStrike">
              <a:solidFill>
                <a:srgbClr val="000000"/>
              </a:solidFill>
              <a:latin typeface="Times New Roman"/>
            </a:endParaRPr>
          </a:p>
        </p:txBody>
      </p:sp>
      <p:sp>
        <p:nvSpPr>
          <p:cNvPr id="1616" name="PlaceHolder 2"/>
          <p:cNvSpPr>
            <a:spLocks noGrp="1"/>
          </p:cNvSpPr>
          <p:nvPr>
            <p:ph/>
          </p:nvPr>
        </p:nvSpPr>
        <p:spPr>
          <a:xfrm>
            <a:off x="457200" y="1600200"/>
            <a:ext cx="8229600" cy="1319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 metal have broken the skin barrier and entered the body that way?</a:t>
            </a:r>
            <a:endParaRPr b="0" lang="en-US" sz="2800" spc="-1" strike="noStrike">
              <a:solidFill>
                <a:srgbClr val="000000"/>
              </a:solidFill>
              <a:latin typeface="Times New Roman"/>
            </a:endParaRPr>
          </a:p>
        </p:txBody>
      </p:sp>
      <p:grpSp>
        <p:nvGrpSpPr>
          <p:cNvPr id="1617" name=""/>
          <p:cNvGrpSpPr/>
          <p:nvPr/>
        </p:nvGrpSpPr>
        <p:grpSpPr>
          <a:xfrm>
            <a:off x="3718080" y="2556000"/>
            <a:ext cx="3398760" cy="3665520"/>
            <a:chOff x="3718080" y="2556000"/>
            <a:chExt cx="3398760" cy="3665520"/>
          </a:xfrm>
        </p:grpSpPr>
        <p:sp>
          <p:nvSpPr>
            <p:cNvPr id="1618" name=""/>
            <p:cNvSpPr/>
            <p:nvPr/>
          </p:nvSpPr>
          <p:spPr>
            <a:xfrm>
              <a:off x="3718080" y="2556000"/>
              <a:ext cx="3398760" cy="3665520"/>
            </a:xfrm>
            <a:custGeom>
              <a:avLst/>
              <a:gdLst/>
              <a:ahLst/>
              <a:rect l="l" t="t" r="r" b="b"/>
              <a:pathLst>
                <a:path w="2141" h="2309">
                  <a:moveTo>
                    <a:pt x="973" y="206"/>
                  </a:moveTo>
                  <a:lnTo>
                    <a:pt x="970" y="208"/>
                  </a:lnTo>
                  <a:lnTo>
                    <a:pt x="964" y="210"/>
                  </a:lnTo>
                  <a:lnTo>
                    <a:pt x="958" y="214"/>
                  </a:lnTo>
                  <a:lnTo>
                    <a:pt x="954" y="217"/>
                  </a:lnTo>
                  <a:lnTo>
                    <a:pt x="948" y="221"/>
                  </a:lnTo>
                  <a:lnTo>
                    <a:pt x="944" y="227"/>
                  </a:lnTo>
                  <a:lnTo>
                    <a:pt x="939" y="231"/>
                  </a:lnTo>
                  <a:lnTo>
                    <a:pt x="933" y="237"/>
                  </a:lnTo>
                  <a:lnTo>
                    <a:pt x="931" y="241"/>
                  </a:lnTo>
                  <a:lnTo>
                    <a:pt x="929" y="244"/>
                  </a:lnTo>
                  <a:lnTo>
                    <a:pt x="927" y="248"/>
                  </a:lnTo>
                  <a:lnTo>
                    <a:pt x="925" y="252"/>
                  </a:lnTo>
                  <a:lnTo>
                    <a:pt x="923" y="258"/>
                  </a:lnTo>
                  <a:lnTo>
                    <a:pt x="921" y="262"/>
                  </a:lnTo>
                  <a:lnTo>
                    <a:pt x="919" y="266"/>
                  </a:lnTo>
                  <a:lnTo>
                    <a:pt x="919" y="271"/>
                  </a:lnTo>
                  <a:lnTo>
                    <a:pt x="919" y="275"/>
                  </a:lnTo>
                  <a:lnTo>
                    <a:pt x="919" y="281"/>
                  </a:lnTo>
                  <a:lnTo>
                    <a:pt x="919" y="285"/>
                  </a:lnTo>
                  <a:lnTo>
                    <a:pt x="919" y="293"/>
                  </a:lnTo>
                  <a:lnTo>
                    <a:pt x="919" y="296"/>
                  </a:lnTo>
                  <a:lnTo>
                    <a:pt x="921" y="302"/>
                  </a:lnTo>
                  <a:lnTo>
                    <a:pt x="921" y="308"/>
                  </a:lnTo>
                  <a:lnTo>
                    <a:pt x="925" y="312"/>
                  </a:lnTo>
                  <a:lnTo>
                    <a:pt x="927" y="316"/>
                  </a:lnTo>
                  <a:lnTo>
                    <a:pt x="929" y="322"/>
                  </a:lnTo>
                  <a:lnTo>
                    <a:pt x="933" y="325"/>
                  </a:lnTo>
                  <a:lnTo>
                    <a:pt x="937" y="331"/>
                  </a:lnTo>
                  <a:lnTo>
                    <a:pt x="939" y="333"/>
                  </a:lnTo>
                  <a:lnTo>
                    <a:pt x="944" y="337"/>
                  </a:lnTo>
                  <a:lnTo>
                    <a:pt x="948" y="341"/>
                  </a:lnTo>
                  <a:lnTo>
                    <a:pt x="952" y="345"/>
                  </a:lnTo>
                  <a:lnTo>
                    <a:pt x="956" y="347"/>
                  </a:lnTo>
                  <a:lnTo>
                    <a:pt x="962" y="350"/>
                  </a:lnTo>
                  <a:lnTo>
                    <a:pt x="966" y="352"/>
                  </a:lnTo>
                  <a:lnTo>
                    <a:pt x="971" y="356"/>
                  </a:lnTo>
                  <a:lnTo>
                    <a:pt x="975" y="358"/>
                  </a:lnTo>
                  <a:lnTo>
                    <a:pt x="981" y="360"/>
                  </a:lnTo>
                  <a:lnTo>
                    <a:pt x="985" y="364"/>
                  </a:lnTo>
                  <a:lnTo>
                    <a:pt x="989" y="366"/>
                  </a:lnTo>
                  <a:lnTo>
                    <a:pt x="995" y="366"/>
                  </a:lnTo>
                  <a:lnTo>
                    <a:pt x="998" y="370"/>
                  </a:lnTo>
                  <a:lnTo>
                    <a:pt x="1002" y="370"/>
                  </a:lnTo>
                  <a:lnTo>
                    <a:pt x="1008" y="372"/>
                  </a:lnTo>
                  <a:lnTo>
                    <a:pt x="1016" y="376"/>
                  </a:lnTo>
                  <a:lnTo>
                    <a:pt x="1022" y="377"/>
                  </a:lnTo>
                  <a:lnTo>
                    <a:pt x="1027" y="379"/>
                  </a:lnTo>
                  <a:lnTo>
                    <a:pt x="1033" y="381"/>
                  </a:lnTo>
                  <a:lnTo>
                    <a:pt x="1037" y="381"/>
                  </a:lnTo>
                  <a:lnTo>
                    <a:pt x="1043" y="381"/>
                  </a:lnTo>
                  <a:lnTo>
                    <a:pt x="1047" y="381"/>
                  </a:lnTo>
                  <a:lnTo>
                    <a:pt x="1054" y="381"/>
                  </a:lnTo>
                  <a:lnTo>
                    <a:pt x="1060" y="381"/>
                  </a:lnTo>
                  <a:lnTo>
                    <a:pt x="1068" y="381"/>
                  </a:lnTo>
                  <a:lnTo>
                    <a:pt x="1074" y="381"/>
                  </a:lnTo>
                  <a:lnTo>
                    <a:pt x="1081" y="381"/>
                  </a:lnTo>
                  <a:lnTo>
                    <a:pt x="1087" y="381"/>
                  </a:lnTo>
                  <a:lnTo>
                    <a:pt x="1095" y="381"/>
                  </a:lnTo>
                  <a:lnTo>
                    <a:pt x="1101" y="381"/>
                  </a:lnTo>
                  <a:lnTo>
                    <a:pt x="1104" y="381"/>
                  </a:lnTo>
                  <a:lnTo>
                    <a:pt x="1108" y="381"/>
                  </a:lnTo>
                  <a:lnTo>
                    <a:pt x="1112" y="381"/>
                  </a:lnTo>
                  <a:lnTo>
                    <a:pt x="1114" y="381"/>
                  </a:lnTo>
                  <a:lnTo>
                    <a:pt x="1116" y="381"/>
                  </a:lnTo>
                  <a:lnTo>
                    <a:pt x="1112" y="383"/>
                  </a:lnTo>
                  <a:lnTo>
                    <a:pt x="1106" y="387"/>
                  </a:lnTo>
                  <a:lnTo>
                    <a:pt x="1103" y="389"/>
                  </a:lnTo>
                  <a:lnTo>
                    <a:pt x="1097" y="395"/>
                  </a:lnTo>
                  <a:lnTo>
                    <a:pt x="1091" y="399"/>
                  </a:lnTo>
                  <a:lnTo>
                    <a:pt x="1085" y="406"/>
                  </a:lnTo>
                  <a:lnTo>
                    <a:pt x="1077" y="412"/>
                  </a:lnTo>
                  <a:lnTo>
                    <a:pt x="1070" y="418"/>
                  </a:lnTo>
                  <a:lnTo>
                    <a:pt x="1066" y="422"/>
                  </a:lnTo>
                  <a:lnTo>
                    <a:pt x="1062" y="426"/>
                  </a:lnTo>
                  <a:lnTo>
                    <a:pt x="1058" y="430"/>
                  </a:lnTo>
                  <a:lnTo>
                    <a:pt x="1054" y="433"/>
                  </a:lnTo>
                  <a:lnTo>
                    <a:pt x="1049" y="439"/>
                  </a:lnTo>
                  <a:lnTo>
                    <a:pt x="1045" y="443"/>
                  </a:lnTo>
                  <a:lnTo>
                    <a:pt x="1041" y="447"/>
                  </a:lnTo>
                  <a:lnTo>
                    <a:pt x="1035" y="453"/>
                  </a:lnTo>
                  <a:lnTo>
                    <a:pt x="1031" y="457"/>
                  </a:lnTo>
                  <a:lnTo>
                    <a:pt x="1027" y="462"/>
                  </a:lnTo>
                  <a:lnTo>
                    <a:pt x="1024" y="468"/>
                  </a:lnTo>
                  <a:lnTo>
                    <a:pt x="1020" y="474"/>
                  </a:lnTo>
                  <a:lnTo>
                    <a:pt x="1014" y="478"/>
                  </a:lnTo>
                  <a:lnTo>
                    <a:pt x="1010" y="484"/>
                  </a:lnTo>
                  <a:lnTo>
                    <a:pt x="1006" y="489"/>
                  </a:lnTo>
                  <a:lnTo>
                    <a:pt x="1000" y="495"/>
                  </a:lnTo>
                  <a:lnTo>
                    <a:pt x="997" y="501"/>
                  </a:lnTo>
                  <a:lnTo>
                    <a:pt x="993" y="507"/>
                  </a:lnTo>
                  <a:lnTo>
                    <a:pt x="989" y="512"/>
                  </a:lnTo>
                  <a:lnTo>
                    <a:pt x="983" y="520"/>
                  </a:lnTo>
                  <a:lnTo>
                    <a:pt x="979" y="526"/>
                  </a:lnTo>
                  <a:lnTo>
                    <a:pt x="975" y="532"/>
                  </a:lnTo>
                  <a:lnTo>
                    <a:pt x="971" y="538"/>
                  </a:lnTo>
                  <a:lnTo>
                    <a:pt x="968" y="545"/>
                  </a:lnTo>
                  <a:lnTo>
                    <a:pt x="964" y="551"/>
                  </a:lnTo>
                  <a:lnTo>
                    <a:pt x="960" y="559"/>
                  </a:lnTo>
                  <a:lnTo>
                    <a:pt x="958" y="564"/>
                  </a:lnTo>
                  <a:lnTo>
                    <a:pt x="954" y="574"/>
                  </a:lnTo>
                  <a:lnTo>
                    <a:pt x="952" y="580"/>
                  </a:lnTo>
                  <a:lnTo>
                    <a:pt x="948" y="588"/>
                  </a:lnTo>
                  <a:lnTo>
                    <a:pt x="944" y="593"/>
                  </a:lnTo>
                  <a:lnTo>
                    <a:pt x="943" y="601"/>
                  </a:lnTo>
                  <a:lnTo>
                    <a:pt x="941" y="609"/>
                  </a:lnTo>
                  <a:lnTo>
                    <a:pt x="939" y="617"/>
                  </a:lnTo>
                  <a:lnTo>
                    <a:pt x="937" y="624"/>
                  </a:lnTo>
                  <a:lnTo>
                    <a:pt x="935" y="634"/>
                  </a:lnTo>
                  <a:lnTo>
                    <a:pt x="933" y="640"/>
                  </a:lnTo>
                  <a:lnTo>
                    <a:pt x="933" y="647"/>
                  </a:lnTo>
                  <a:lnTo>
                    <a:pt x="931" y="655"/>
                  </a:lnTo>
                  <a:lnTo>
                    <a:pt x="931" y="663"/>
                  </a:lnTo>
                  <a:lnTo>
                    <a:pt x="931" y="672"/>
                  </a:lnTo>
                  <a:lnTo>
                    <a:pt x="931" y="680"/>
                  </a:lnTo>
                  <a:lnTo>
                    <a:pt x="931" y="688"/>
                  </a:lnTo>
                  <a:lnTo>
                    <a:pt x="931" y="698"/>
                  </a:lnTo>
                  <a:lnTo>
                    <a:pt x="931" y="705"/>
                  </a:lnTo>
                  <a:lnTo>
                    <a:pt x="931" y="713"/>
                  </a:lnTo>
                  <a:lnTo>
                    <a:pt x="933" y="721"/>
                  </a:lnTo>
                  <a:lnTo>
                    <a:pt x="933" y="728"/>
                  </a:lnTo>
                  <a:lnTo>
                    <a:pt x="935" y="736"/>
                  </a:lnTo>
                  <a:lnTo>
                    <a:pt x="937" y="744"/>
                  </a:lnTo>
                  <a:lnTo>
                    <a:pt x="939" y="752"/>
                  </a:lnTo>
                  <a:lnTo>
                    <a:pt x="941" y="761"/>
                  </a:lnTo>
                  <a:lnTo>
                    <a:pt x="943" y="767"/>
                  </a:lnTo>
                  <a:lnTo>
                    <a:pt x="944" y="777"/>
                  </a:lnTo>
                  <a:lnTo>
                    <a:pt x="946" y="782"/>
                  </a:lnTo>
                  <a:lnTo>
                    <a:pt x="950" y="790"/>
                  </a:lnTo>
                  <a:lnTo>
                    <a:pt x="952" y="798"/>
                  </a:lnTo>
                  <a:lnTo>
                    <a:pt x="954" y="806"/>
                  </a:lnTo>
                  <a:lnTo>
                    <a:pt x="958" y="813"/>
                  </a:lnTo>
                  <a:lnTo>
                    <a:pt x="962" y="821"/>
                  </a:lnTo>
                  <a:lnTo>
                    <a:pt x="964" y="827"/>
                  </a:lnTo>
                  <a:lnTo>
                    <a:pt x="968" y="834"/>
                  </a:lnTo>
                  <a:lnTo>
                    <a:pt x="970" y="840"/>
                  </a:lnTo>
                  <a:lnTo>
                    <a:pt x="973" y="848"/>
                  </a:lnTo>
                  <a:lnTo>
                    <a:pt x="977" y="854"/>
                  </a:lnTo>
                  <a:lnTo>
                    <a:pt x="981" y="861"/>
                  </a:lnTo>
                  <a:lnTo>
                    <a:pt x="985" y="867"/>
                  </a:lnTo>
                  <a:lnTo>
                    <a:pt x="989" y="875"/>
                  </a:lnTo>
                  <a:lnTo>
                    <a:pt x="993" y="881"/>
                  </a:lnTo>
                  <a:lnTo>
                    <a:pt x="997" y="888"/>
                  </a:lnTo>
                  <a:lnTo>
                    <a:pt x="1000" y="894"/>
                  </a:lnTo>
                  <a:lnTo>
                    <a:pt x="1004" y="900"/>
                  </a:lnTo>
                  <a:lnTo>
                    <a:pt x="1008" y="906"/>
                  </a:lnTo>
                  <a:lnTo>
                    <a:pt x="1012" y="912"/>
                  </a:lnTo>
                  <a:lnTo>
                    <a:pt x="1016" y="917"/>
                  </a:lnTo>
                  <a:lnTo>
                    <a:pt x="1022" y="923"/>
                  </a:lnTo>
                  <a:lnTo>
                    <a:pt x="1025" y="929"/>
                  </a:lnTo>
                  <a:lnTo>
                    <a:pt x="1027" y="933"/>
                  </a:lnTo>
                  <a:lnTo>
                    <a:pt x="1031" y="939"/>
                  </a:lnTo>
                  <a:lnTo>
                    <a:pt x="1035" y="944"/>
                  </a:lnTo>
                  <a:lnTo>
                    <a:pt x="1039" y="948"/>
                  </a:lnTo>
                  <a:lnTo>
                    <a:pt x="1043" y="952"/>
                  </a:lnTo>
                  <a:lnTo>
                    <a:pt x="1047" y="958"/>
                  </a:lnTo>
                  <a:lnTo>
                    <a:pt x="1050" y="962"/>
                  </a:lnTo>
                  <a:lnTo>
                    <a:pt x="1054" y="966"/>
                  </a:lnTo>
                  <a:lnTo>
                    <a:pt x="1058" y="969"/>
                  </a:lnTo>
                  <a:lnTo>
                    <a:pt x="1062" y="973"/>
                  </a:lnTo>
                  <a:lnTo>
                    <a:pt x="1066" y="977"/>
                  </a:lnTo>
                  <a:lnTo>
                    <a:pt x="1072" y="985"/>
                  </a:lnTo>
                  <a:lnTo>
                    <a:pt x="1077" y="993"/>
                  </a:lnTo>
                  <a:lnTo>
                    <a:pt x="1083" y="998"/>
                  </a:lnTo>
                  <a:lnTo>
                    <a:pt x="1089" y="1002"/>
                  </a:lnTo>
                  <a:lnTo>
                    <a:pt x="1091" y="1008"/>
                  </a:lnTo>
                  <a:lnTo>
                    <a:pt x="1097" y="1012"/>
                  </a:lnTo>
                  <a:lnTo>
                    <a:pt x="1103" y="1018"/>
                  </a:lnTo>
                  <a:lnTo>
                    <a:pt x="1104" y="1020"/>
                  </a:lnTo>
                  <a:lnTo>
                    <a:pt x="1101" y="1112"/>
                  </a:lnTo>
                  <a:lnTo>
                    <a:pt x="952" y="1104"/>
                  </a:lnTo>
                  <a:lnTo>
                    <a:pt x="952" y="1101"/>
                  </a:lnTo>
                  <a:lnTo>
                    <a:pt x="950" y="1099"/>
                  </a:lnTo>
                  <a:lnTo>
                    <a:pt x="948" y="1095"/>
                  </a:lnTo>
                  <a:lnTo>
                    <a:pt x="946" y="1091"/>
                  </a:lnTo>
                  <a:lnTo>
                    <a:pt x="946" y="1087"/>
                  </a:lnTo>
                  <a:lnTo>
                    <a:pt x="944" y="1083"/>
                  </a:lnTo>
                  <a:lnTo>
                    <a:pt x="943" y="1077"/>
                  </a:lnTo>
                  <a:lnTo>
                    <a:pt x="941" y="1074"/>
                  </a:lnTo>
                  <a:lnTo>
                    <a:pt x="939" y="1068"/>
                  </a:lnTo>
                  <a:lnTo>
                    <a:pt x="937" y="1062"/>
                  </a:lnTo>
                  <a:lnTo>
                    <a:pt x="933" y="1056"/>
                  </a:lnTo>
                  <a:lnTo>
                    <a:pt x="931" y="1050"/>
                  </a:lnTo>
                  <a:lnTo>
                    <a:pt x="929" y="1045"/>
                  </a:lnTo>
                  <a:lnTo>
                    <a:pt x="927" y="1039"/>
                  </a:lnTo>
                  <a:lnTo>
                    <a:pt x="923" y="1033"/>
                  </a:lnTo>
                  <a:lnTo>
                    <a:pt x="921" y="1025"/>
                  </a:lnTo>
                  <a:lnTo>
                    <a:pt x="917" y="1020"/>
                  </a:lnTo>
                  <a:lnTo>
                    <a:pt x="916" y="1014"/>
                  </a:lnTo>
                  <a:lnTo>
                    <a:pt x="914" y="1006"/>
                  </a:lnTo>
                  <a:lnTo>
                    <a:pt x="910" y="1000"/>
                  </a:lnTo>
                  <a:lnTo>
                    <a:pt x="908" y="994"/>
                  </a:lnTo>
                  <a:lnTo>
                    <a:pt x="906" y="991"/>
                  </a:lnTo>
                  <a:lnTo>
                    <a:pt x="902" y="985"/>
                  </a:lnTo>
                  <a:lnTo>
                    <a:pt x="900" y="981"/>
                  </a:lnTo>
                  <a:lnTo>
                    <a:pt x="898" y="975"/>
                  </a:lnTo>
                  <a:lnTo>
                    <a:pt x="896" y="971"/>
                  </a:lnTo>
                  <a:lnTo>
                    <a:pt x="892" y="966"/>
                  </a:lnTo>
                  <a:lnTo>
                    <a:pt x="891" y="962"/>
                  </a:lnTo>
                  <a:lnTo>
                    <a:pt x="887" y="958"/>
                  </a:lnTo>
                  <a:lnTo>
                    <a:pt x="883" y="956"/>
                  </a:lnTo>
                  <a:lnTo>
                    <a:pt x="877" y="952"/>
                  </a:lnTo>
                  <a:lnTo>
                    <a:pt x="871" y="948"/>
                  </a:lnTo>
                  <a:lnTo>
                    <a:pt x="864" y="944"/>
                  </a:lnTo>
                  <a:lnTo>
                    <a:pt x="858" y="940"/>
                  </a:lnTo>
                  <a:lnTo>
                    <a:pt x="850" y="937"/>
                  </a:lnTo>
                  <a:lnTo>
                    <a:pt x="842" y="935"/>
                  </a:lnTo>
                  <a:lnTo>
                    <a:pt x="835" y="929"/>
                  </a:lnTo>
                  <a:lnTo>
                    <a:pt x="827" y="927"/>
                  </a:lnTo>
                  <a:lnTo>
                    <a:pt x="821" y="925"/>
                  </a:lnTo>
                  <a:lnTo>
                    <a:pt x="815" y="923"/>
                  </a:lnTo>
                  <a:lnTo>
                    <a:pt x="811" y="921"/>
                  </a:lnTo>
                  <a:lnTo>
                    <a:pt x="808" y="919"/>
                  </a:lnTo>
                  <a:lnTo>
                    <a:pt x="806" y="919"/>
                  </a:lnTo>
                  <a:lnTo>
                    <a:pt x="806" y="915"/>
                  </a:lnTo>
                  <a:lnTo>
                    <a:pt x="810" y="912"/>
                  </a:lnTo>
                  <a:lnTo>
                    <a:pt x="811" y="908"/>
                  </a:lnTo>
                  <a:lnTo>
                    <a:pt x="815" y="904"/>
                  </a:lnTo>
                  <a:lnTo>
                    <a:pt x="819" y="900"/>
                  </a:lnTo>
                  <a:lnTo>
                    <a:pt x="821" y="894"/>
                  </a:lnTo>
                  <a:lnTo>
                    <a:pt x="825" y="888"/>
                  </a:lnTo>
                  <a:lnTo>
                    <a:pt x="827" y="885"/>
                  </a:lnTo>
                  <a:lnTo>
                    <a:pt x="829" y="879"/>
                  </a:lnTo>
                  <a:lnTo>
                    <a:pt x="833" y="875"/>
                  </a:lnTo>
                  <a:lnTo>
                    <a:pt x="833" y="869"/>
                  </a:lnTo>
                  <a:lnTo>
                    <a:pt x="833" y="863"/>
                  </a:lnTo>
                  <a:lnTo>
                    <a:pt x="833" y="859"/>
                  </a:lnTo>
                  <a:lnTo>
                    <a:pt x="833" y="856"/>
                  </a:lnTo>
                  <a:lnTo>
                    <a:pt x="831" y="854"/>
                  </a:lnTo>
                  <a:lnTo>
                    <a:pt x="829" y="850"/>
                  </a:lnTo>
                  <a:lnTo>
                    <a:pt x="827" y="846"/>
                  </a:lnTo>
                  <a:lnTo>
                    <a:pt x="825" y="842"/>
                  </a:lnTo>
                  <a:lnTo>
                    <a:pt x="821" y="838"/>
                  </a:lnTo>
                  <a:lnTo>
                    <a:pt x="819" y="833"/>
                  </a:lnTo>
                  <a:lnTo>
                    <a:pt x="815" y="829"/>
                  </a:lnTo>
                  <a:lnTo>
                    <a:pt x="811" y="823"/>
                  </a:lnTo>
                  <a:lnTo>
                    <a:pt x="808" y="817"/>
                  </a:lnTo>
                  <a:lnTo>
                    <a:pt x="804" y="811"/>
                  </a:lnTo>
                  <a:lnTo>
                    <a:pt x="800" y="804"/>
                  </a:lnTo>
                  <a:lnTo>
                    <a:pt x="794" y="798"/>
                  </a:lnTo>
                  <a:lnTo>
                    <a:pt x="790" y="792"/>
                  </a:lnTo>
                  <a:lnTo>
                    <a:pt x="784" y="786"/>
                  </a:lnTo>
                  <a:lnTo>
                    <a:pt x="781" y="779"/>
                  </a:lnTo>
                  <a:lnTo>
                    <a:pt x="777" y="773"/>
                  </a:lnTo>
                  <a:lnTo>
                    <a:pt x="771" y="767"/>
                  </a:lnTo>
                  <a:lnTo>
                    <a:pt x="765" y="761"/>
                  </a:lnTo>
                  <a:lnTo>
                    <a:pt x="761" y="753"/>
                  </a:lnTo>
                  <a:lnTo>
                    <a:pt x="758" y="748"/>
                  </a:lnTo>
                  <a:lnTo>
                    <a:pt x="752" y="742"/>
                  </a:lnTo>
                  <a:lnTo>
                    <a:pt x="748" y="738"/>
                  </a:lnTo>
                  <a:lnTo>
                    <a:pt x="744" y="732"/>
                  </a:lnTo>
                  <a:lnTo>
                    <a:pt x="740" y="728"/>
                  </a:lnTo>
                  <a:lnTo>
                    <a:pt x="736" y="723"/>
                  </a:lnTo>
                  <a:lnTo>
                    <a:pt x="734" y="721"/>
                  </a:lnTo>
                  <a:lnTo>
                    <a:pt x="732" y="717"/>
                  </a:lnTo>
                  <a:lnTo>
                    <a:pt x="729" y="715"/>
                  </a:lnTo>
                  <a:lnTo>
                    <a:pt x="727" y="709"/>
                  </a:lnTo>
                  <a:lnTo>
                    <a:pt x="727" y="709"/>
                  </a:lnTo>
                  <a:lnTo>
                    <a:pt x="727" y="707"/>
                  </a:lnTo>
                  <a:lnTo>
                    <a:pt x="727" y="703"/>
                  </a:lnTo>
                  <a:lnTo>
                    <a:pt x="727" y="699"/>
                  </a:lnTo>
                  <a:lnTo>
                    <a:pt x="727" y="698"/>
                  </a:lnTo>
                  <a:lnTo>
                    <a:pt x="729" y="692"/>
                  </a:lnTo>
                  <a:lnTo>
                    <a:pt x="729" y="688"/>
                  </a:lnTo>
                  <a:lnTo>
                    <a:pt x="729" y="684"/>
                  </a:lnTo>
                  <a:lnTo>
                    <a:pt x="731" y="678"/>
                  </a:lnTo>
                  <a:lnTo>
                    <a:pt x="732" y="674"/>
                  </a:lnTo>
                  <a:lnTo>
                    <a:pt x="732" y="669"/>
                  </a:lnTo>
                  <a:lnTo>
                    <a:pt x="734" y="663"/>
                  </a:lnTo>
                  <a:lnTo>
                    <a:pt x="734" y="657"/>
                  </a:lnTo>
                  <a:lnTo>
                    <a:pt x="736" y="651"/>
                  </a:lnTo>
                  <a:lnTo>
                    <a:pt x="738" y="645"/>
                  </a:lnTo>
                  <a:lnTo>
                    <a:pt x="738" y="640"/>
                  </a:lnTo>
                  <a:lnTo>
                    <a:pt x="738" y="634"/>
                  </a:lnTo>
                  <a:lnTo>
                    <a:pt x="738" y="626"/>
                  </a:lnTo>
                  <a:lnTo>
                    <a:pt x="740" y="622"/>
                  </a:lnTo>
                  <a:lnTo>
                    <a:pt x="740" y="617"/>
                  </a:lnTo>
                  <a:lnTo>
                    <a:pt x="740" y="611"/>
                  </a:lnTo>
                  <a:lnTo>
                    <a:pt x="742" y="605"/>
                  </a:lnTo>
                  <a:lnTo>
                    <a:pt x="742" y="601"/>
                  </a:lnTo>
                  <a:lnTo>
                    <a:pt x="742" y="595"/>
                  </a:lnTo>
                  <a:lnTo>
                    <a:pt x="742" y="591"/>
                  </a:lnTo>
                  <a:lnTo>
                    <a:pt x="742" y="588"/>
                  </a:lnTo>
                  <a:lnTo>
                    <a:pt x="742" y="584"/>
                  </a:lnTo>
                  <a:lnTo>
                    <a:pt x="742" y="578"/>
                  </a:lnTo>
                  <a:lnTo>
                    <a:pt x="740" y="576"/>
                  </a:lnTo>
                  <a:lnTo>
                    <a:pt x="736" y="574"/>
                  </a:lnTo>
                  <a:lnTo>
                    <a:pt x="731" y="574"/>
                  </a:lnTo>
                  <a:lnTo>
                    <a:pt x="727" y="574"/>
                  </a:lnTo>
                  <a:lnTo>
                    <a:pt x="721" y="574"/>
                  </a:lnTo>
                  <a:lnTo>
                    <a:pt x="717" y="576"/>
                  </a:lnTo>
                  <a:lnTo>
                    <a:pt x="713" y="578"/>
                  </a:lnTo>
                  <a:lnTo>
                    <a:pt x="707" y="578"/>
                  </a:lnTo>
                  <a:lnTo>
                    <a:pt x="702" y="580"/>
                  </a:lnTo>
                  <a:lnTo>
                    <a:pt x="696" y="580"/>
                  </a:lnTo>
                  <a:lnTo>
                    <a:pt x="692" y="582"/>
                  </a:lnTo>
                  <a:lnTo>
                    <a:pt x="686" y="584"/>
                  </a:lnTo>
                  <a:lnTo>
                    <a:pt x="680" y="586"/>
                  </a:lnTo>
                  <a:lnTo>
                    <a:pt x="675" y="588"/>
                  </a:lnTo>
                  <a:lnTo>
                    <a:pt x="669" y="590"/>
                  </a:lnTo>
                  <a:lnTo>
                    <a:pt x="663" y="591"/>
                  </a:lnTo>
                  <a:lnTo>
                    <a:pt x="657" y="593"/>
                  </a:lnTo>
                  <a:lnTo>
                    <a:pt x="651" y="595"/>
                  </a:lnTo>
                  <a:lnTo>
                    <a:pt x="646" y="597"/>
                  </a:lnTo>
                  <a:lnTo>
                    <a:pt x="640" y="599"/>
                  </a:lnTo>
                  <a:lnTo>
                    <a:pt x="636" y="601"/>
                  </a:lnTo>
                  <a:lnTo>
                    <a:pt x="632" y="603"/>
                  </a:lnTo>
                  <a:lnTo>
                    <a:pt x="628" y="605"/>
                  </a:lnTo>
                  <a:lnTo>
                    <a:pt x="623" y="605"/>
                  </a:lnTo>
                  <a:lnTo>
                    <a:pt x="621" y="607"/>
                  </a:lnTo>
                  <a:lnTo>
                    <a:pt x="617" y="609"/>
                  </a:lnTo>
                  <a:lnTo>
                    <a:pt x="615" y="611"/>
                  </a:lnTo>
                  <a:lnTo>
                    <a:pt x="611" y="611"/>
                  </a:lnTo>
                  <a:lnTo>
                    <a:pt x="609" y="613"/>
                  </a:lnTo>
                  <a:lnTo>
                    <a:pt x="609" y="611"/>
                  </a:lnTo>
                  <a:lnTo>
                    <a:pt x="607" y="607"/>
                  </a:lnTo>
                  <a:lnTo>
                    <a:pt x="601" y="601"/>
                  </a:lnTo>
                  <a:lnTo>
                    <a:pt x="598" y="593"/>
                  </a:lnTo>
                  <a:lnTo>
                    <a:pt x="594" y="588"/>
                  </a:lnTo>
                  <a:lnTo>
                    <a:pt x="590" y="584"/>
                  </a:lnTo>
                  <a:lnTo>
                    <a:pt x="586" y="580"/>
                  </a:lnTo>
                  <a:lnTo>
                    <a:pt x="582" y="574"/>
                  </a:lnTo>
                  <a:lnTo>
                    <a:pt x="578" y="568"/>
                  </a:lnTo>
                  <a:lnTo>
                    <a:pt x="574" y="564"/>
                  </a:lnTo>
                  <a:lnTo>
                    <a:pt x="571" y="559"/>
                  </a:lnTo>
                  <a:lnTo>
                    <a:pt x="567" y="555"/>
                  </a:lnTo>
                  <a:lnTo>
                    <a:pt x="561" y="549"/>
                  </a:lnTo>
                  <a:lnTo>
                    <a:pt x="557" y="543"/>
                  </a:lnTo>
                  <a:lnTo>
                    <a:pt x="551" y="539"/>
                  </a:lnTo>
                  <a:lnTo>
                    <a:pt x="547" y="536"/>
                  </a:lnTo>
                  <a:lnTo>
                    <a:pt x="542" y="530"/>
                  </a:lnTo>
                  <a:lnTo>
                    <a:pt x="536" y="526"/>
                  </a:lnTo>
                  <a:lnTo>
                    <a:pt x="532" y="520"/>
                  </a:lnTo>
                  <a:lnTo>
                    <a:pt x="526" y="518"/>
                  </a:lnTo>
                  <a:lnTo>
                    <a:pt x="520" y="514"/>
                  </a:lnTo>
                  <a:lnTo>
                    <a:pt x="517" y="512"/>
                  </a:lnTo>
                  <a:lnTo>
                    <a:pt x="511" y="509"/>
                  </a:lnTo>
                  <a:lnTo>
                    <a:pt x="507" y="507"/>
                  </a:lnTo>
                  <a:lnTo>
                    <a:pt x="501" y="505"/>
                  </a:lnTo>
                  <a:lnTo>
                    <a:pt x="497" y="505"/>
                  </a:lnTo>
                  <a:lnTo>
                    <a:pt x="493" y="505"/>
                  </a:lnTo>
                  <a:lnTo>
                    <a:pt x="490" y="507"/>
                  </a:lnTo>
                  <a:lnTo>
                    <a:pt x="484" y="507"/>
                  </a:lnTo>
                  <a:lnTo>
                    <a:pt x="480" y="507"/>
                  </a:lnTo>
                  <a:lnTo>
                    <a:pt x="476" y="507"/>
                  </a:lnTo>
                  <a:lnTo>
                    <a:pt x="472" y="509"/>
                  </a:lnTo>
                  <a:lnTo>
                    <a:pt x="466" y="511"/>
                  </a:lnTo>
                  <a:lnTo>
                    <a:pt x="461" y="512"/>
                  </a:lnTo>
                  <a:lnTo>
                    <a:pt x="455" y="516"/>
                  </a:lnTo>
                  <a:lnTo>
                    <a:pt x="451" y="518"/>
                  </a:lnTo>
                  <a:lnTo>
                    <a:pt x="445" y="520"/>
                  </a:lnTo>
                  <a:lnTo>
                    <a:pt x="443" y="524"/>
                  </a:lnTo>
                  <a:lnTo>
                    <a:pt x="439" y="528"/>
                  </a:lnTo>
                  <a:lnTo>
                    <a:pt x="438" y="532"/>
                  </a:lnTo>
                  <a:lnTo>
                    <a:pt x="434" y="538"/>
                  </a:lnTo>
                  <a:lnTo>
                    <a:pt x="434" y="543"/>
                  </a:lnTo>
                  <a:lnTo>
                    <a:pt x="432" y="549"/>
                  </a:lnTo>
                  <a:lnTo>
                    <a:pt x="432" y="557"/>
                  </a:lnTo>
                  <a:lnTo>
                    <a:pt x="432" y="561"/>
                  </a:lnTo>
                  <a:lnTo>
                    <a:pt x="432" y="564"/>
                  </a:lnTo>
                  <a:lnTo>
                    <a:pt x="432" y="568"/>
                  </a:lnTo>
                  <a:lnTo>
                    <a:pt x="432" y="574"/>
                  </a:lnTo>
                  <a:lnTo>
                    <a:pt x="432" y="578"/>
                  </a:lnTo>
                  <a:lnTo>
                    <a:pt x="432" y="582"/>
                  </a:lnTo>
                  <a:lnTo>
                    <a:pt x="432" y="588"/>
                  </a:lnTo>
                  <a:lnTo>
                    <a:pt x="432" y="591"/>
                  </a:lnTo>
                  <a:lnTo>
                    <a:pt x="432" y="595"/>
                  </a:lnTo>
                  <a:lnTo>
                    <a:pt x="432" y="599"/>
                  </a:lnTo>
                  <a:lnTo>
                    <a:pt x="432" y="605"/>
                  </a:lnTo>
                  <a:lnTo>
                    <a:pt x="432" y="609"/>
                  </a:lnTo>
                  <a:lnTo>
                    <a:pt x="432" y="613"/>
                  </a:lnTo>
                  <a:lnTo>
                    <a:pt x="432" y="617"/>
                  </a:lnTo>
                  <a:lnTo>
                    <a:pt x="434" y="620"/>
                  </a:lnTo>
                  <a:lnTo>
                    <a:pt x="434" y="624"/>
                  </a:lnTo>
                  <a:lnTo>
                    <a:pt x="434" y="632"/>
                  </a:lnTo>
                  <a:lnTo>
                    <a:pt x="436" y="640"/>
                  </a:lnTo>
                  <a:lnTo>
                    <a:pt x="436" y="645"/>
                  </a:lnTo>
                  <a:lnTo>
                    <a:pt x="438" y="653"/>
                  </a:lnTo>
                  <a:lnTo>
                    <a:pt x="438" y="657"/>
                  </a:lnTo>
                  <a:lnTo>
                    <a:pt x="439" y="663"/>
                  </a:lnTo>
                  <a:lnTo>
                    <a:pt x="439" y="669"/>
                  </a:lnTo>
                  <a:lnTo>
                    <a:pt x="441" y="671"/>
                  </a:lnTo>
                  <a:lnTo>
                    <a:pt x="439" y="672"/>
                  </a:lnTo>
                  <a:lnTo>
                    <a:pt x="434" y="674"/>
                  </a:lnTo>
                  <a:lnTo>
                    <a:pt x="430" y="678"/>
                  </a:lnTo>
                  <a:lnTo>
                    <a:pt x="426" y="680"/>
                  </a:lnTo>
                  <a:lnTo>
                    <a:pt x="420" y="682"/>
                  </a:lnTo>
                  <a:lnTo>
                    <a:pt x="416" y="686"/>
                  </a:lnTo>
                  <a:lnTo>
                    <a:pt x="411" y="690"/>
                  </a:lnTo>
                  <a:lnTo>
                    <a:pt x="405" y="696"/>
                  </a:lnTo>
                  <a:lnTo>
                    <a:pt x="401" y="699"/>
                  </a:lnTo>
                  <a:lnTo>
                    <a:pt x="395" y="703"/>
                  </a:lnTo>
                  <a:lnTo>
                    <a:pt x="389" y="707"/>
                  </a:lnTo>
                  <a:lnTo>
                    <a:pt x="385" y="713"/>
                  </a:lnTo>
                  <a:lnTo>
                    <a:pt x="380" y="717"/>
                  </a:lnTo>
                  <a:lnTo>
                    <a:pt x="376" y="723"/>
                  </a:lnTo>
                  <a:lnTo>
                    <a:pt x="372" y="726"/>
                  </a:lnTo>
                  <a:lnTo>
                    <a:pt x="368" y="732"/>
                  </a:lnTo>
                  <a:lnTo>
                    <a:pt x="364" y="738"/>
                  </a:lnTo>
                  <a:lnTo>
                    <a:pt x="362" y="744"/>
                  </a:lnTo>
                  <a:lnTo>
                    <a:pt x="360" y="750"/>
                  </a:lnTo>
                  <a:lnTo>
                    <a:pt x="360" y="755"/>
                  </a:lnTo>
                  <a:lnTo>
                    <a:pt x="359" y="761"/>
                  </a:lnTo>
                  <a:lnTo>
                    <a:pt x="360" y="767"/>
                  </a:lnTo>
                  <a:lnTo>
                    <a:pt x="360" y="771"/>
                  </a:lnTo>
                  <a:lnTo>
                    <a:pt x="360" y="777"/>
                  </a:lnTo>
                  <a:lnTo>
                    <a:pt x="362" y="780"/>
                  </a:lnTo>
                  <a:lnTo>
                    <a:pt x="364" y="786"/>
                  </a:lnTo>
                  <a:lnTo>
                    <a:pt x="366" y="790"/>
                  </a:lnTo>
                  <a:lnTo>
                    <a:pt x="370" y="794"/>
                  </a:lnTo>
                  <a:lnTo>
                    <a:pt x="372" y="798"/>
                  </a:lnTo>
                  <a:lnTo>
                    <a:pt x="376" y="802"/>
                  </a:lnTo>
                  <a:lnTo>
                    <a:pt x="380" y="804"/>
                  </a:lnTo>
                  <a:lnTo>
                    <a:pt x="385" y="806"/>
                  </a:lnTo>
                  <a:lnTo>
                    <a:pt x="389" y="806"/>
                  </a:lnTo>
                  <a:lnTo>
                    <a:pt x="393" y="806"/>
                  </a:lnTo>
                  <a:lnTo>
                    <a:pt x="397" y="807"/>
                  </a:lnTo>
                  <a:lnTo>
                    <a:pt x="403" y="809"/>
                  </a:lnTo>
                  <a:lnTo>
                    <a:pt x="407" y="809"/>
                  </a:lnTo>
                  <a:lnTo>
                    <a:pt x="411" y="809"/>
                  </a:lnTo>
                  <a:lnTo>
                    <a:pt x="416" y="809"/>
                  </a:lnTo>
                  <a:lnTo>
                    <a:pt x="422" y="811"/>
                  </a:lnTo>
                  <a:lnTo>
                    <a:pt x="426" y="811"/>
                  </a:lnTo>
                  <a:lnTo>
                    <a:pt x="432" y="813"/>
                  </a:lnTo>
                  <a:lnTo>
                    <a:pt x="438" y="813"/>
                  </a:lnTo>
                  <a:lnTo>
                    <a:pt x="441" y="815"/>
                  </a:lnTo>
                  <a:lnTo>
                    <a:pt x="447" y="815"/>
                  </a:lnTo>
                  <a:lnTo>
                    <a:pt x="451" y="815"/>
                  </a:lnTo>
                  <a:lnTo>
                    <a:pt x="457" y="815"/>
                  </a:lnTo>
                  <a:lnTo>
                    <a:pt x="461" y="815"/>
                  </a:lnTo>
                  <a:lnTo>
                    <a:pt x="466" y="815"/>
                  </a:lnTo>
                  <a:lnTo>
                    <a:pt x="470" y="817"/>
                  </a:lnTo>
                  <a:lnTo>
                    <a:pt x="474" y="817"/>
                  </a:lnTo>
                  <a:lnTo>
                    <a:pt x="478" y="819"/>
                  </a:lnTo>
                  <a:lnTo>
                    <a:pt x="486" y="819"/>
                  </a:lnTo>
                  <a:lnTo>
                    <a:pt x="490" y="819"/>
                  </a:lnTo>
                  <a:lnTo>
                    <a:pt x="493" y="819"/>
                  </a:lnTo>
                  <a:lnTo>
                    <a:pt x="495" y="819"/>
                  </a:lnTo>
                  <a:lnTo>
                    <a:pt x="495" y="819"/>
                  </a:lnTo>
                  <a:lnTo>
                    <a:pt x="493" y="823"/>
                  </a:lnTo>
                  <a:lnTo>
                    <a:pt x="493" y="827"/>
                  </a:lnTo>
                  <a:lnTo>
                    <a:pt x="492" y="833"/>
                  </a:lnTo>
                  <a:lnTo>
                    <a:pt x="490" y="838"/>
                  </a:lnTo>
                  <a:lnTo>
                    <a:pt x="486" y="846"/>
                  </a:lnTo>
                  <a:lnTo>
                    <a:pt x="486" y="852"/>
                  </a:lnTo>
                  <a:lnTo>
                    <a:pt x="484" y="856"/>
                  </a:lnTo>
                  <a:lnTo>
                    <a:pt x="484" y="859"/>
                  </a:lnTo>
                  <a:lnTo>
                    <a:pt x="484" y="865"/>
                  </a:lnTo>
                  <a:lnTo>
                    <a:pt x="482" y="869"/>
                  </a:lnTo>
                  <a:lnTo>
                    <a:pt x="480" y="875"/>
                  </a:lnTo>
                  <a:lnTo>
                    <a:pt x="480" y="879"/>
                  </a:lnTo>
                  <a:lnTo>
                    <a:pt x="480" y="885"/>
                  </a:lnTo>
                  <a:lnTo>
                    <a:pt x="480" y="888"/>
                  </a:lnTo>
                  <a:lnTo>
                    <a:pt x="480" y="894"/>
                  </a:lnTo>
                  <a:lnTo>
                    <a:pt x="480" y="898"/>
                  </a:lnTo>
                  <a:lnTo>
                    <a:pt x="480" y="904"/>
                  </a:lnTo>
                  <a:lnTo>
                    <a:pt x="480" y="908"/>
                  </a:lnTo>
                  <a:lnTo>
                    <a:pt x="480" y="913"/>
                  </a:lnTo>
                  <a:lnTo>
                    <a:pt x="480" y="917"/>
                  </a:lnTo>
                  <a:lnTo>
                    <a:pt x="482" y="921"/>
                  </a:lnTo>
                  <a:lnTo>
                    <a:pt x="484" y="925"/>
                  </a:lnTo>
                  <a:lnTo>
                    <a:pt x="484" y="929"/>
                  </a:lnTo>
                  <a:lnTo>
                    <a:pt x="486" y="933"/>
                  </a:lnTo>
                  <a:lnTo>
                    <a:pt x="490" y="937"/>
                  </a:lnTo>
                  <a:lnTo>
                    <a:pt x="493" y="940"/>
                  </a:lnTo>
                  <a:lnTo>
                    <a:pt x="501" y="946"/>
                  </a:lnTo>
                  <a:lnTo>
                    <a:pt x="503" y="946"/>
                  </a:lnTo>
                  <a:lnTo>
                    <a:pt x="507" y="950"/>
                  </a:lnTo>
                  <a:lnTo>
                    <a:pt x="513" y="950"/>
                  </a:lnTo>
                  <a:lnTo>
                    <a:pt x="517" y="952"/>
                  </a:lnTo>
                  <a:lnTo>
                    <a:pt x="520" y="952"/>
                  </a:lnTo>
                  <a:lnTo>
                    <a:pt x="526" y="954"/>
                  </a:lnTo>
                  <a:lnTo>
                    <a:pt x="530" y="954"/>
                  </a:lnTo>
                  <a:lnTo>
                    <a:pt x="534" y="956"/>
                  </a:lnTo>
                  <a:lnTo>
                    <a:pt x="540" y="956"/>
                  </a:lnTo>
                  <a:lnTo>
                    <a:pt x="545" y="956"/>
                  </a:lnTo>
                  <a:lnTo>
                    <a:pt x="549" y="956"/>
                  </a:lnTo>
                  <a:lnTo>
                    <a:pt x="555" y="956"/>
                  </a:lnTo>
                  <a:lnTo>
                    <a:pt x="559" y="956"/>
                  </a:lnTo>
                  <a:lnTo>
                    <a:pt x="563" y="954"/>
                  </a:lnTo>
                  <a:lnTo>
                    <a:pt x="569" y="954"/>
                  </a:lnTo>
                  <a:lnTo>
                    <a:pt x="572" y="954"/>
                  </a:lnTo>
                  <a:lnTo>
                    <a:pt x="576" y="952"/>
                  </a:lnTo>
                  <a:lnTo>
                    <a:pt x="580" y="952"/>
                  </a:lnTo>
                  <a:lnTo>
                    <a:pt x="584" y="952"/>
                  </a:lnTo>
                  <a:lnTo>
                    <a:pt x="588" y="952"/>
                  </a:lnTo>
                  <a:lnTo>
                    <a:pt x="594" y="950"/>
                  </a:lnTo>
                  <a:lnTo>
                    <a:pt x="599" y="950"/>
                  </a:lnTo>
                  <a:lnTo>
                    <a:pt x="601" y="950"/>
                  </a:lnTo>
                  <a:lnTo>
                    <a:pt x="603" y="950"/>
                  </a:lnTo>
                  <a:lnTo>
                    <a:pt x="601" y="952"/>
                  </a:lnTo>
                  <a:lnTo>
                    <a:pt x="599" y="956"/>
                  </a:lnTo>
                  <a:lnTo>
                    <a:pt x="598" y="958"/>
                  </a:lnTo>
                  <a:lnTo>
                    <a:pt x="596" y="962"/>
                  </a:lnTo>
                  <a:lnTo>
                    <a:pt x="594" y="966"/>
                  </a:lnTo>
                  <a:lnTo>
                    <a:pt x="592" y="971"/>
                  </a:lnTo>
                  <a:lnTo>
                    <a:pt x="590" y="975"/>
                  </a:lnTo>
                  <a:lnTo>
                    <a:pt x="588" y="981"/>
                  </a:lnTo>
                  <a:lnTo>
                    <a:pt x="588" y="985"/>
                  </a:lnTo>
                  <a:lnTo>
                    <a:pt x="588" y="991"/>
                  </a:lnTo>
                  <a:lnTo>
                    <a:pt x="588" y="994"/>
                  </a:lnTo>
                  <a:lnTo>
                    <a:pt x="588" y="1000"/>
                  </a:lnTo>
                  <a:lnTo>
                    <a:pt x="590" y="1004"/>
                  </a:lnTo>
                  <a:lnTo>
                    <a:pt x="594" y="1008"/>
                  </a:lnTo>
                  <a:lnTo>
                    <a:pt x="596" y="1012"/>
                  </a:lnTo>
                  <a:lnTo>
                    <a:pt x="599" y="1016"/>
                  </a:lnTo>
                  <a:lnTo>
                    <a:pt x="603" y="1018"/>
                  </a:lnTo>
                  <a:lnTo>
                    <a:pt x="609" y="1020"/>
                  </a:lnTo>
                  <a:lnTo>
                    <a:pt x="613" y="1021"/>
                  </a:lnTo>
                  <a:lnTo>
                    <a:pt x="617" y="1023"/>
                  </a:lnTo>
                  <a:lnTo>
                    <a:pt x="621" y="1025"/>
                  </a:lnTo>
                  <a:lnTo>
                    <a:pt x="626" y="1025"/>
                  </a:lnTo>
                  <a:lnTo>
                    <a:pt x="630" y="1027"/>
                  </a:lnTo>
                  <a:lnTo>
                    <a:pt x="634" y="1027"/>
                  </a:lnTo>
                  <a:lnTo>
                    <a:pt x="638" y="1027"/>
                  </a:lnTo>
                  <a:lnTo>
                    <a:pt x="642" y="1027"/>
                  </a:lnTo>
                  <a:lnTo>
                    <a:pt x="646" y="1027"/>
                  </a:lnTo>
                  <a:lnTo>
                    <a:pt x="648" y="1029"/>
                  </a:lnTo>
                  <a:lnTo>
                    <a:pt x="646" y="1031"/>
                  </a:lnTo>
                  <a:lnTo>
                    <a:pt x="644" y="1035"/>
                  </a:lnTo>
                  <a:lnTo>
                    <a:pt x="640" y="1037"/>
                  </a:lnTo>
                  <a:lnTo>
                    <a:pt x="638" y="1041"/>
                  </a:lnTo>
                  <a:lnTo>
                    <a:pt x="636" y="1045"/>
                  </a:lnTo>
                  <a:lnTo>
                    <a:pt x="634" y="1050"/>
                  </a:lnTo>
                  <a:lnTo>
                    <a:pt x="632" y="1054"/>
                  </a:lnTo>
                  <a:lnTo>
                    <a:pt x="630" y="1058"/>
                  </a:lnTo>
                  <a:lnTo>
                    <a:pt x="628" y="1062"/>
                  </a:lnTo>
                  <a:lnTo>
                    <a:pt x="628" y="1068"/>
                  </a:lnTo>
                  <a:lnTo>
                    <a:pt x="628" y="1072"/>
                  </a:lnTo>
                  <a:lnTo>
                    <a:pt x="630" y="1075"/>
                  </a:lnTo>
                  <a:lnTo>
                    <a:pt x="632" y="1079"/>
                  </a:lnTo>
                  <a:lnTo>
                    <a:pt x="636" y="1083"/>
                  </a:lnTo>
                  <a:lnTo>
                    <a:pt x="640" y="1085"/>
                  </a:lnTo>
                  <a:lnTo>
                    <a:pt x="648" y="1089"/>
                  </a:lnTo>
                  <a:lnTo>
                    <a:pt x="651" y="1093"/>
                  </a:lnTo>
                  <a:lnTo>
                    <a:pt x="655" y="1095"/>
                  </a:lnTo>
                  <a:lnTo>
                    <a:pt x="659" y="1097"/>
                  </a:lnTo>
                  <a:lnTo>
                    <a:pt x="665" y="1101"/>
                  </a:lnTo>
                  <a:lnTo>
                    <a:pt x="671" y="1102"/>
                  </a:lnTo>
                  <a:lnTo>
                    <a:pt x="677" y="1104"/>
                  </a:lnTo>
                  <a:lnTo>
                    <a:pt x="682" y="1106"/>
                  </a:lnTo>
                  <a:lnTo>
                    <a:pt x="688" y="1110"/>
                  </a:lnTo>
                  <a:lnTo>
                    <a:pt x="696" y="1112"/>
                  </a:lnTo>
                  <a:lnTo>
                    <a:pt x="702" y="1114"/>
                  </a:lnTo>
                  <a:lnTo>
                    <a:pt x="707" y="1118"/>
                  </a:lnTo>
                  <a:lnTo>
                    <a:pt x="715" y="1122"/>
                  </a:lnTo>
                  <a:lnTo>
                    <a:pt x="721" y="1124"/>
                  </a:lnTo>
                  <a:lnTo>
                    <a:pt x="727" y="1126"/>
                  </a:lnTo>
                  <a:lnTo>
                    <a:pt x="732" y="1128"/>
                  </a:lnTo>
                  <a:lnTo>
                    <a:pt x="738" y="1131"/>
                  </a:lnTo>
                  <a:lnTo>
                    <a:pt x="744" y="1133"/>
                  </a:lnTo>
                  <a:lnTo>
                    <a:pt x="748" y="1135"/>
                  </a:lnTo>
                  <a:lnTo>
                    <a:pt x="754" y="1137"/>
                  </a:lnTo>
                  <a:lnTo>
                    <a:pt x="758" y="1139"/>
                  </a:lnTo>
                  <a:lnTo>
                    <a:pt x="761" y="1141"/>
                  </a:lnTo>
                  <a:lnTo>
                    <a:pt x="765" y="1141"/>
                  </a:lnTo>
                  <a:lnTo>
                    <a:pt x="769" y="1143"/>
                  </a:lnTo>
                  <a:lnTo>
                    <a:pt x="773" y="1145"/>
                  </a:lnTo>
                  <a:lnTo>
                    <a:pt x="777" y="1145"/>
                  </a:lnTo>
                  <a:lnTo>
                    <a:pt x="779" y="1147"/>
                  </a:lnTo>
                  <a:lnTo>
                    <a:pt x="777" y="1149"/>
                  </a:lnTo>
                  <a:lnTo>
                    <a:pt x="771" y="1155"/>
                  </a:lnTo>
                  <a:lnTo>
                    <a:pt x="765" y="1160"/>
                  </a:lnTo>
                  <a:lnTo>
                    <a:pt x="763" y="1164"/>
                  </a:lnTo>
                  <a:lnTo>
                    <a:pt x="758" y="1170"/>
                  </a:lnTo>
                  <a:lnTo>
                    <a:pt x="754" y="1178"/>
                  </a:lnTo>
                  <a:lnTo>
                    <a:pt x="748" y="1183"/>
                  </a:lnTo>
                  <a:lnTo>
                    <a:pt x="742" y="1191"/>
                  </a:lnTo>
                  <a:lnTo>
                    <a:pt x="740" y="1195"/>
                  </a:lnTo>
                  <a:lnTo>
                    <a:pt x="738" y="1199"/>
                  </a:lnTo>
                  <a:lnTo>
                    <a:pt x="734" y="1203"/>
                  </a:lnTo>
                  <a:lnTo>
                    <a:pt x="732" y="1207"/>
                  </a:lnTo>
                  <a:lnTo>
                    <a:pt x="729" y="1210"/>
                  </a:lnTo>
                  <a:lnTo>
                    <a:pt x="727" y="1216"/>
                  </a:lnTo>
                  <a:lnTo>
                    <a:pt x="725" y="1220"/>
                  </a:lnTo>
                  <a:lnTo>
                    <a:pt x="723" y="1224"/>
                  </a:lnTo>
                  <a:lnTo>
                    <a:pt x="721" y="1228"/>
                  </a:lnTo>
                  <a:lnTo>
                    <a:pt x="719" y="1232"/>
                  </a:lnTo>
                  <a:lnTo>
                    <a:pt x="717" y="1237"/>
                  </a:lnTo>
                  <a:lnTo>
                    <a:pt x="715" y="1241"/>
                  </a:lnTo>
                  <a:lnTo>
                    <a:pt x="713" y="1247"/>
                  </a:lnTo>
                  <a:lnTo>
                    <a:pt x="713" y="1253"/>
                  </a:lnTo>
                  <a:lnTo>
                    <a:pt x="711" y="1259"/>
                  </a:lnTo>
                  <a:lnTo>
                    <a:pt x="711" y="1264"/>
                  </a:lnTo>
                  <a:lnTo>
                    <a:pt x="709" y="1268"/>
                  </a:lnTo>
                  <a:lnTo>
                    <a:pt x="709" y="1272"/>
                  </a:lnTo>
                  <a:lnTo>
                    <a:pt x="709" y="1276"/>
                  </a:lnTo>
                  <a:lnTo>
                    <a:pt x="709" y="1280"/>
                  </a:lnTo>
                  <a:lnTo>
                    <a:pt x="709" y="1286"/>
                  </a:lnTo>
                  <a:lnTo>
                    <a:pt x="709" y="1289"/>
                  </a:lnTo>
                  <a:lnTo>
                    <a:pt x="709" y="1293"/>
                  </a:lnTo>
                  <a:lnTo>
                    <a:pt x="709" y="1299"/>
                  </a:lnTo>
                  <a:lnTo>
                    <a:pt x="709" y="1303"/>
                  </a:lnTo>
                  <a:lnTo>
                    <a:pt x="709" y="1307"/>
                  </a:lnTo>
                  <a:lnTo>
                    <a:pt x="709" y="1313"/>
                  </a:lnTo>
                  <a:lnTo>
                    <a:pt x="709" y="1316"/>
                  </a:lnTo>
                  <a:lnTo>
                    <a:pt x="709" y="1322"/>
                  </a:lnTo>
                  <a:lnTo>
                    <a:pt x="709" y="1326"/>
                  </a:lnTo>
                  <a:lnTo>
                    <a:pt x="709" y="1332"/>
                  </a:lnTo>
                  <a:lnTo>
                    <a:pt x="711" y="1338"/>
                  </a:lnTo>
                  <a:lnTo>
                    <a:pt x="711" y="1342"/>
                  </a:lnTo>
                  <a:lnTo>
                    <a:pt x="711" y="1347"/>
                  </a:lnTo>
                  <a:lnTo>
                    <a:pt x="711" y="1353"/>
                  </a:lnTo>
                  <a:lnTo>
                    <a:pt x="713" y="1359"/>
                  </a:lnTo>
                  <a:lnTo>
                    <a:pt x="713" y="1363"/>
                  </a:lnTo>
                  <a:lnTo>
                    <a:pt x="713" y="1369"/>
                  </a:lnTo>
                  <a:lnTo>
                    <a:pt x="713" y="1372"/>
                  </a:lnTo>
                  <a:lnTo>
                    <a:pt x="715" y="1378"/>
                  </a:lnTo>
                  <a:lnTo>
                    <a:pt x="715" y="1384"/>
                  </a:lnTo>
                  <a:lnTo>
                    <a:pt x="715" y="1388"/>
                  </a:lnTo>
                  <a:lnTo>
                    <a:pt x="715" y="1392"/>
                  </a:lnTo>
                  <a:lnTo>
                    <a:pt x="715" y="1397"/>
                  </a:lnTo>
                  <a:lnTo>
                    <a:pt x="715" y="1401"/>
                  </a:lnTo>
                  <a:lnTo>
                    <a:pt x="717" y="1407"/>
                  </a:lnTo>
                  <a:lnTo>
                    <a:pt x="717" y="1411"/>
                  </a:lnTo>
                  <a:lnTo>
                    <a:pt x="717" y="1417"/>
                  </a:lnTo>
                  <a:lnTo>
                    <a:pt x="717" y="1421"/>
                  </a:lnTo>
                  <a:lnTo>
                    <a:pt x="717" y="1426"/>
                  </a:lnTo>
                  <a:lnTo>
                    <a:pt x="719" y="1430"/>
                  </a:lnTo>
                  <a:lnTo>
                    <a:pt x="719" y="1434"/>
                  </a:lnTo>
                  <a:lnTo>
                    <a:pt x="719" y="1438"/>
                  </a:lnTo>
                  <a:lnTo>
                    <a:pt x="721" y="1442"/>
                  </a:lnTo>
                  <a:lnTo>
                    <a:pt x="721" y="1446"/>
                  </a:lnTo>
                  <a:lnTo>
                    <a:pt x="721" y="1450"/>
                  </a:lnTo>
                  <a:lnTo>
                    <a:pt x="721" y="1455"/>
                  </a:lnTo>
                  <a:lnTo>
                    <a:pt x="723" y="1463"/>
                  </a:lnTo>
                  <a:lnTo>
                    <a:pt x="723" y="1469"/>
                  </a:lnTo>
                  <a:lnTo>
                    <a:pt x="725" y="1473"/>
                  </a:lnTo>
                  <a:lnTo>
                    <a:pt x="725" y="1478"/>
                  </a:lnTo>
                  <a:lnTo>
                    <a:pt x="727" y="1482"/>
                  </a:lnTo>
                  <a:lnTo>
                    <a:pt x="357" y="1517"/>
                  </a:lnTo>
                  <a:lnTo>
                    <a:pt x="355" y="1515"/>
                  </a:lnTo>
                  <a:lnTo>
                    <a:pt x="355" y="1515"/>
                  </a:lnTo>
                  <a:lnTo>
                    <a:pt x="353" y="1511"/>
                  </a:lnTo>
                  <a:lnTo>
                    <a:pt x="353" y="1507"/>
                  </a:lnTo>
                  <a:lnTo>
                    <a:pt x="351" y="1502"/>
                  </a:lnTo>
                  <a:lnTo>
                    <a:pt x="347" y="1496"/>
                  </a:lnTo>
                  <a:lnTo>
                    <a:pt x="345" y="1488"/>
                  </a:lnTo>
                  <a:lnTo>
                    <a:pt x="343" y="1482"/>
                  </a:lnTo>
                  <a:lnTo>
                    <a:pt x="341" y="1476"/>
                  </a:lnTo>
                  <a:lnTo>
                    <a:pt x="339" y="1473"/>
                  </a:lnTo>
                  <a:lnTo>
                    <a:pt x="337" y="1469"/>
                  </a:lnTo>
                  <a:lnTo>
                    <a:pt x="335" y="1465"/>
                  </a:lnTo>
                  <a:lnTo>
                    <a:pt x="333" y="1459"/>
                  </a:lnTo>
                  <a:lnTo>
                    <a:pt x="332" y="1455"/>
                  </a:lnTo>
                  <a:lnTo>
                    <a:pt x="330" y="1450"/>
                  </a:lnTo>
                  <a:lnTo>
                    <a:pt x="328" y="1446"/>
                  </a:lnTo>
                  <a:lnTo>
                    <a:pt x="326" y="1440"/>
                  </a:lnTo>
                  <a:lnTo>
                    <a:pt x="324" y="1434"/>
                  </a:lnTo>
                  <a:lnTo>
                    <a:pt x="322" y="1430"/>
                  </a:lnTo>
                  <a:lnTo>
                    <a:pt x="320" y="1424"/>
                  </a:lnTo>
                  <a:lnTo>
                    <a:pt x="318" y="1419"/>
                  </a:lnTo>
                  <a:lnTo>
                    <a:pt x="316" y="1415"/>
                  </a:lnTo>
                  <a:lnTo>
                    <a:pt x="314" y="1409"/>
                  </a:lnTo>
                  <a:lnTo>
                    <a:pt x="310" y="1403"/>
                  </a:lnTo>
                  <a:lnTo>
                    <a:pt x="308" y="1397"/>
                  </a:lnTo>
                  <a:lnTo>
                    <a:pt x="306" y="1392"/>
                  </a:lnTo>
                  <a:lnTo>
                    <a:pt x="303" y="1388"/>
                  </a:lnTo>
                  <a:lnTo>
                    <a:pt x="301" y="1382"/>
                  </a:lnTo>
                  <a:lnTo>
                    <a:pt x="299" y="1376"/>
                  </a:lnTo>
                  <a:lnTo>
                    <a:pt x="295" y="1370"/>
                  </a:lnTo>
                  <a:lnTo>
                    <a:pt x="293" y="1365"/>
                  </a:lnTo>
                  <a:lnTo>
                    <a:pt x="291" y="1361"/>
                  </a:lnTo>
                  <a:lnTo>
                    <a:pt x="289" y="1355"/>
                  </a:lnTo>
                  <a:lnTo>
                    <a:pt x="285" y="1349"/>
                  </a:lnTo>
                  <a:lnTo>
                    <a:pt x="283" y="1345"/>
                  </a:lnTo>
                  <a:lnTo>
                    <a:pt x="281" y="1342"/>
                  </a:lnTo>
                  <a:lnTo>
                    <a:pt x="278" y="1336"/>
                  </a:lnTo>
                  <a:lnTo>
                    <a:pt x="276" y="1332"/>
                  </a:lnTo>
                  <a:lnTo>
                    <a:pt x="274" y="1328"/>
                  </a:lnTo>
                  <a:lnTo>
                    <a:pt x="272" y="1324"/>
                  </a:lnTo>
                  <a:lnTo>
                    <a:pt x="268" y="1320"/>
                  </a:lnTo>
                  <a:lnTo>
                    <a:pt x="266" y="1315"/>
                  </a:lnTo>
                  <a:lnTo>
                    <a:pt x="262" y="1311"/>
                  </a:lnTo>
                  <a:lnTo>
                    <a:pt x="260" y="1307"/>
                  </a:lnTo>
                  <a:lnTo>
                    <a:pt x="256" y="1301"/>
                  </a:lnTo>
                  <a:lnTo>
                    <a:pt x="251" y="1295"/>
                  </a:lnTo>
                  <a:lnTo>
                    <a:pt x="247" y="1289"/>
                  </a:lnTo>
                  <a:lnTo>
                    <a:pt x="241" y="1286"/>
                  </a:lnTo>
                  <a:lnTo>
                    <a:pt x="237" y="1284"/>
                  </a:lnTo>
                  <a:lnTo>
                    <a:pt x="233" y="1282"/>
                  </a:lnTo>
                  <a:lnTo>
                    <a:pt x="229" y="1280"/>
                  </a:lnTo>
                  <a:lnTo>
                    <a:pt x="224" y="1280"/>
                  </a:lnTo>
                  <a:lnTo>
                    <a:pt x="220" y="1278"/>
                  </a:lnTo>
                  <a:lnTo>
                    <a:pt x="214" y="1276"/>
                  </a:lnTo>
                  <a:lnTo>
                    <a:pt x="208" y="1274"/>
                  </a:lnTo>
                  <a:lnTo>
                    <a:pt x="202" y="1274"/>
                  </a:lnTo>
                  <a:lnTo>
                    <a:pt x="197" y="1272"/>
                  </a:lnTo>
                  <a:lnTo>
                    <a:pt x="193" y="1272"/>
                  </a:lnTo>
                  <a:lnTo>
                    <a:pt x="185" y="1270"/>
                  </a:lnTo>
                  <a:lnTo>
                    <a:pt x="179" y="1270"/>
                  </a:lnTo>
                  <a:lnTo>
                    <a:pt x="173" y="1268"/>
                  </a:lnTo>
                  <a:lnTo>
                    <a:pt x="168" y="1268"/>
                  </a:lnTo>
                  <a:lnTo>
                    <a:pt x="162" y="1268"/>
                  </a:lnTo>
                  <a:lnTo>
                    <a:pt x="156" y="1268"/>
                  </a:lnTo>
                  <a:lnTo>
                    <a:pt x="148" y="1268"/>
                  </a:lnTo>
                  <a:lnTo>
                    <a:pt x="145" y="1268"/>
                  </a:lnTo>
                  <a:lnTo>
                    <a:pt x="137" y="1268"/>
                  </a:lnTo>
                  <a:lnTo>
                    <a:pt x="131" y="1268"/>
                  </a:lnTo>
                  <a:lnTo>
                    <a:pt x="125" y="1268"/>
                  </a:lnTo>
                  <a:lnTo>
                    <a:pt x="118" y="1268"/>
                  </a:lnTo>
                  <a:lnTo>
                    <a:pt x="112" y="1268"/>
                  </a:lnTo>
                  <a:lnTo>
                    <a:pt x="104" y="1270"/>
                  </a:lnTo>
                  <a:lnTo>
                    <a:pt x="98" y="1272"/>
                  </a:lnTo>
                  <a:lnTo>
                    <a:pt x="93" y="1274"/>
                  </a:lnTo>
                  <a:lnTo>
                    <a:pt x="87" y="1274"/>
                  </a:lnTo>
                  <a:lnTo>
                    <a:pt x="81" y="1276"/>
                  </a:lnTo>
                  <a:lnTo>
                    <a:pt x="75" y="1278"/>
                  </a:lnTo>
                  <a:lnTo>
                    <a:pt x="69" y="1282"/>
                  </a:lnTo>
                  <a:lnTo>
                    <a:pt x="64" y="1284"/>
                  </a:lnTo>
                  <a:lnTo>
                    <a:pt x="58" y="1288"/>
                  </a:lnTo>
                  <a:lnTo>
                    <a:pt x="54" y="1289"/>
                  </a:lnTo>
                  <a:lnTo>
                    <a:pt x="48" y="1293"/>
                  </a:lnTo>
                  <a:lnTo>
                    <a:pt x="42" y="1297"/>
                  </a:lnTo>
                  <a:lnTo>
                    <a:pt x="39" y="1301"/>
                  </a:lnTo>
                  <a:lnTo>
                    <a:pt x="35" y="1305"/>
                  </a:lnTo>
                  <a:lnTo>
                    <a:pt x="31" y="1311"/>
                  </a:lnTo>
                  <a:lnTo>
                    <a:pt x="27" y="1315"/>
                  </a:lnTo>
                  <a:lnTo>
                    <a:pt x="23" y="1320"/>
                  </a:lnTo>
                  <a:lnTo>
                    <a:pt x="19" y="1326"/>
                  </a:lnTo>
                  <a:lnTo>
                    <a:pt x="17" y="1332"/>
                  </a:lnTo>
                  <a:lnTo>
                    <a:pt x="13" y="1336"/>
                  </a:lnTo>
                  <a:lnTo>
                    <a:pt x="10" y="1342"/>
                  </a:lnTo>
                  <a:lnTo>
                    <a:pt x="8" y="1349"/>
                  </a:lnTo>
                  <a:lnTo>
                    <a:pt x="6" y="1355"/>
                  </a:lnTo>
                  <a:lnTo>
                    <a:pt x="4" y="1361"/>
                  </a:lnTo>
                  <a:lnTo>
                    <a:pt x="2" y="1369"/>
                  </a:lnTo>
                  <a:lnTo>
                    <a:pt x="0" y="1376"/>
                  </a:lnTo>
                  <a:lnTo>
                    <a:pt x="0" y="1382"/>
                  </a:lnTo>
                  <a:lnTo>
                    <a:pt x="0" y="1390"/>
                  </a:lnTo>
                  <a:lnTo>
                    <a:pt x="0" y="1396"/>
                  </a:lnTo>
                  <a:lnTo>
                    <a:pt x="0" y="1403"/>
                  </a:lnTo>
                  <a:lnTo>
                    <a:pt x="0" y="1409"/>
                  </a:lnTo>
                  <a:lnTo>
                    <a:pt x="0" y="1417"/>
                  </a:lnTo>
                  <a:lnTo>
                    <a:pt x="0" y="1424"/>
                  </a:lnTo>
                  <a:lnTo>
                    <a:pt x="0" y="1432"/>
                  </a:lnTo>
                  <a:lnTo>
                    <a:pt x="0" y="1440"/>
                  </a:lnTo>
                  <a:lnTo>
                    <a:pt x="0" y="1446"/>
                  </a:lnTo>
                  <a:lnTo>
                    <a:pt x="0" y="1453"/>
                  </a:lnTo>
                  <a:lnTo>
                    <a:pt x="0" y="1459"/>
                  </a:lnTo>
                  <a:lnTo>
                    <a:pt x="0" y="1467"/>
                  </a:lnTo>
                  <a:lnTo>
                    <a:pt x="0" y="1473"/>
                  </a:lnTo>
                  <a:lnTo>
                    <a:pt x="0" y="1480"/>
                  </a:lnTo>
                  <a:lnTo>
                    <a:pt x="0" y="1488"/>
                  </a:lnTo>
                  <a:lnTo>
                    <a:pt x="0" y="1496"/>
                  </a:lnTo>
                  <a:lnTo>
                    <a:pt x="0" y="1498"/>
                  </a:lnTo>
                  <a:lnTo>
                    <a:pt x="0" y="1502"/>
                  </a:lnTo>
                  <a:lnTo>
                    <a:pt x="0" y="1505"/>
                  </a:lnTo>
                  <a:lnTo>
                    <a:pt x="0" y="1509"/>
                  </a:lnTo>
                  <a:lnTo>
                    <a:pt x="0" y="1513"/>
                  </a:lnTo>
                  <a:lnTo>
                    <a:pt x="0" y="1517"/>
                  </a:lnTo>
                  <a:lnTo>
                    <a:pt x="0" y="1521"/>
                  </a:lnTo>
                  <a:lnTo>
                    <a:pt x="0" y="1527"/>
                  </a:lnTo>
                  <a:lnTo>
                    <a:pt x="0" y="1530"/>
                  </a:lnTo>
                  <a:lnTo>
                    <a:pt x="2" y="1534"/>
                  </a:lnTo>
                  <a:lnTo>
                    <a:pt x="2" y="1540"/>
                  </a:lnTo>
                  <a:lnTo>
                    <a:pt x="4" y="1544"/>
                  </a:lnTo>
                  <a:lnTo>
                    <a:pt x="4" y="1550"/>
                  </a:lnTo>
                  <a:lnTo>
                    <a:pt x="4" y="1556"/>
                  </a:lnTo>
                  <a:lnTo>
                    <a:pt x="4" y="1559"/>
                  </a:lnTo>
                  <a:lnTo>
                    <a:pt x="6" y="1565"/>
                  </a:lnTo>
                  <a:lnTo>
                    <a:pt x="6" y="1569"/>
                  </a:lnTo>
                  <a:lnTo>
                    <a:pt x="8" y="1575"/>
                  </a:lnTo>
                  <a:lnTo>
                    <a:pt x="8" y="1581"/>
                  </a:lnTo>
                  <a:lnTo>
                    <a:pt x="8" y="1586"/>
                  </a:lnTo>
                  <a:lnTo>
                    <a:pt x="10" y="1592"/>
                  </a:lnTo>
                  <a:lnTo>
                    <a:pt x="10" y="1596"/>
                  </a:lnTo>
                  <a:lnTo>
                    <a:pt x="10" y="1602"/>
                  </a:lnTo>
                  <a:lnTo>
                    <a:pt x="12" y="1608"/>
                  </a:lnTo>
                  <a:lnTo>
                    <a:pt x="12" y="1613"/>
                  </a:lnTo>
                  <a:lnTo>
                    <a:pt x="13" y="1619"/>
                  </a:lnTo>
                  <a:lnTo>
                    <a:pt x="13" y="1625"/>
                  </a:lnTo>
                  <a:lnTo>
                    <a:pt x="13" y="1631"/>
                  </a:lnTo>
                  <a:lnTo>
                    <a:pt x="15" y="1635"/>
                  </a:lnTo>
                  <a:lnTo>
                    <a:pt x="15" y="1642"/>
                  </a:lnTo>
                  <a:lnTo>
                    <a:pt x="15" y="1646"/>
                  </a:lnTo>
                  <a:lnTo>
                    <a:pt x="17" y="1652"/>
                  </a:lnTo>
                  <a:lnTo>
                    <a:pt x="17" y="1658"/>
                  </a:lnTo>
                  <a:lnTo>
                    <a:pt x="19" y="1664"/>
                  </a:lnTo>
                  <a:lnTo>
                    <a:pt x="19" y="1667"/>
                  </a:lnTo>
                  <a:lnTo>
                    <a:pt x="19" y="1673"/>
                  </a:lnTo>
                  <a:lnTo>
                    <a:pt x="19" y="1679"/>
                  </a:lnTo>
                  <a:lnTo>
                    <a:pt x="19" y="1685"/>
                  </a:lnTo>
                  <a:lnTo>
                    <a:pt x="21" y="1689"/>
                  </a:lnTo>
                  <a:lnTo>
                    <a:pt x="21" y="1694"/>
                  </a:lnTo>
                  <a:lnTo>
                    <a:pt x="21" y="1698"/>
                  </a:lnTo>
                  <a:lnTo>
                    <a:pt x="21" y="1704"/>
                  </a:lnTo>
                  <a:lnTo>
                    <a:pt x="21" y="1710"/>
                  </a:lnTo>
                  <a:lnTo>
                    <a:pt x="23" y="1714"/>
                  </a:lnTo>
                  <a:lnTo>
                    <a:pt x="23" y="1718"/>
                  </a:lnTo>
                  <a:lnTo>
                    <a:pt x="23" y="1723"/>
                  </a:lnTo>
                  <a:lnTo>
                    <a:pt x="23" y="1727"/>
                  </a:lnTo>
                  <a:lnTo>
                    <a:pt x="25" y="1731"/>
                  </a:lnTo>
                  <a:lnTo>
                    <a:pt x="25" y="1739"/>
                  </a:lnTo>
                  <a:lnTo>
                    <a:pt x="25" y="1746"/>
                  </a:lnTo>
                  <a:lnTo>
                    <a:pt x="25" y="1754"/>
                  </a:lnTo>
                  <a:lnTo>
                    <a:pt x="25" y="1760"/>
                  </a:lnTo>
                  <a:lnTo>
                    <a:pt x="25" y="1766"/>
                  </a:lnTo>
                  <a:lnTo>
                    <a:pt x="25" y="1771"/>
                  </a:lnTo>
                  <a:lnTo>
                    <a:pt x="25" y="1775"/>
                  </a:lnTo>
                  <a:lnTo>
                    <a:pt x="25" y="1779"/>
                  </a:lnTo>
                  <a:lnTo>
                    <a:pt x="23" y="1781"/>
                  </a:lnTo>
                  <a:lnTo>
                    <a:pt x="23" y="1785"/>
                  </a:lnTo>
                  <a:lnTo>
                    <a:pt x="21" y="1787"/>
                  </a:lnTo>
                  <a:lnTo>
                    <a:pt x="21" y="1793"/>
                  </a:lnTo>
                  <a:lnTo>
                    <a:pt x="19" y="1797"/>
                  </a:lnTo>
                  <a:lnTo>
                    <a:pt x="19" y="1800"/>
                  </a:lnTo>
                  <a:lnTo>
                    <a:pt x="19" y="1804"/>
                  </a:lnTo>
                  <a:lnTo>
                    <a:pt x="17" y="1810"/>
                  </a:lnTo>
                  <a:lnTo>
                    <a:pt x="15" y="1816"/>
                  </a:lnTo>
                  <a:lnTo>
                    <a:pt x="15" y="1822"/>
                  </a:lnTo>
                  <a:lnTo>
                    <a:pt x="13" y="1827"/>
                  </a:lnTo>
                  <a:lnTo>
                    <a:pt x="13" y="1833"/>
                  </a:lnTo>
                  <a:lnTo>
                    <a:pt x="12" y="1841"/>
                  </a:lnTo>
                  <a:lnTo>
                    <a:pt x="12" y="1847"/>
                  </a:lnTo>
                  <a:lnTo>
                    <a:pt x="10" y="1852"/>
                  </a:lnTo>
                  <a:lnTo>
                    <a:pt x="10" y="1860"/>
                  </a:lnTo>
                  <a:lnTo>
                    <a:pt x="10" y="1866"/>
                  </a:lnTo>
                  <a:lnTo>
                    <a:pt x="8" y="1874"/>
                  </a:lnTo>
                  <a:lnTo>
                    <a:pt x="8" y="1879"/>
                  </a:lnTo>
                  <a:lnTo>
                    <a:pt x="8" y="1887"/>
                  </a:lnTo>
                  <a:lnTo>
                    <a:pt x="8" y="1893"/>
                  </a:lnTo>
                  <a:lnTo>
                    <a:pt x="8" y="1899"/>
                  </a:lnTo>
                  <a:lnTo>
                    <a:pt x="8" y="1906"/>
                  </a:lnTo>
                  <a:lnTo>
                    <a:pt x="10" y="1914"/>
                  </a:lnTo>
                  <a:lnTo>
                    <a:pt x="10" y="1920"/>
                  </a:lnTo>
                  <a:lnTo>
                    <a:pt x="12" y="1928"/>
                  </a:lnTo>
                  <a:lnTo>
                    <a:pt x="12" y="1933"/>
                  </a:lnTo>
                  <a:lnTo>
                    <a:pt x="13" y="1939"/>
                  </a:lnTo>
                  <a:lnTo>
                    <a:pt x="15" y="1945"/>
                  </a:lnTo>
                  <a:lnTo>
                    <a:pt x="17" y="1953"/>
                  </a:lnTo>
                  <a:lnTo>
                    <a:pt x="19" y="1959"/>
                  </a:lnTo>
                  <a:lnTo>
                    <a:pt x="23" y="1964"/>
                  </a:lnTo>
                  <a:lnTo>
                    <a:pt x="25" y="1970"/>
                  </a:lnTo>
                  <a:lnTo>
                    <a:pt x="29" y="1974"/>
                  </a:lnTo>
                  <a:lnTo>
                    <a:pt x="35" y="1980"/>
                  </a:lnTo>
                  <a:lnTo>
                    <a:pt x="42" y="1986"/>
                  </a:lnTo>
                  <a:lnTo>
                    <a:pt x="44" y="1987"/>
                  </a:lnTo>
                  <a:lnTo>
                    <a:pt x="48" y="1989"/>
                  </a:lnTo>
                  <a:lnTo>
                    <a:pt x="52" y="1991"/>
                  </a:lnTo>
                  <a:lnTo>
                    <a:pt x="58" y="1995"/>
                  </a:lnTo>
                  <a:lnTo>
                    <a:pt x="62" y="1997"/>
                  </a:lnTo>
                  <a:lnTo>
                    <a:pt x="66" y="1999"/>
                  </a:lnTo>
                  <a:lnTo>
                    <a:pt x="71" y="2001"/>
                  </a:lnTo>
                  <a:lnTo>
                    <a:pt x="77" y="2005"/>
                  </a:lnTo>
                  <a:lnTo>
                    <a:pt x="81" y="2007"/>
                  </a:lnTo>
                  <a:lnTo>
                    <a:pt x="85" y="2009"/>
                  </a:lnTo>
                  <a:lnTo>
                    <a:pt x="91" y="2011"/>
                  </a:lnTo>
                  <a:lnTo>
                    <a:pt x="96" y="2013"/>
                  </a:lnTo>
                  <a:lnTo>
                    <a:pt x="102" y="2014"/>
                  </a:lnTo>
                  <a:lnTo>
                    <a:pt x="108" y="2016"/>
                  </a:lnTo>
                  <a:lnTo>
                    <a:pt x="114" y="2020"/>
                  </a:lnTo>
                  <a:lnTo>
                    <a:pt x="120" y="2022"/>
                  </a:lnTo>
                  <a:lnTo>
                    <a:pt x="125" y="2024"/>
                  </a:lnTo>
                  <a:lnTo>
                    <a:pt x="131" y="2026"/>
                  </a:lnTo>
                  <a:lnTo>
                    <a:pt x="137" y="2028"/>
                  </a:lnTo>
                  <a:lnTo>
                    <a:pt x="145" y="2030"/>
                  </a:lnTo>
                  <a:lnTo>
                    <a:pt x="150" y="2032"/>
                  </a:lnTo>
                  <a:lnTo>
                    <a:pt x="156" y="2034"/>
                  </a:lnTo>
                  <a:lnTo>
                    <a:pt x="164" y="2036"/>
                  </a:lnTo>
                  <a:lnTo>
                    <a:pt x="170" y="2038"/>
                  </a:lnTo>
                  <a:lnTo>
                    <a:pt x="175" y="2040"/>
                  </a:lnTo>
                  <a:lnTo>
                    <a:pt x="181" y="2041"/>
                  </a:lnTo>
                  <a:lnTo>
                    <a:pt x="187" y="2041"/>
                  </a:lnTo>
                  <a:lnTo>
                    <a:pt x="195" y="2043"/>
                  </a:lnTo>
                  <a:lnTo>
                    <a:pt x="200" y="2045"/>
                  </a:lnTo>
                  <a:lnTo>
                    <a:pt x="206" y="2047"/>
                  </a:lnTo>
                  <a:lnTo>
                    <a:pt x="212" y="2047"/>
                  </a:lnTo>
                  <a:lnTo>
                    <a:pt x="218" y="2049"/>
                  </a:lnTo>
                  <a:lnTo>
                    <a:pt x="224" y="2051"/>
                  </a:lnTo>
                  <a:lnTo>
                    <a:pt x="229" y="2051"/>
                  </a:lnTo>
                  <a:lnTo>
                    <a:pt x="235" y="2053"/>
                  </a:lnTo>
                  <a:lnTo>
                    <a:pt x="241" y="2055"/>
                  </a:lnTo>
                  <a:lnTo>
                    <a:pt x="247" y="2055"/>
                  </a:lnTo>
                  <a:lnTo>
                    <a:pt x="253" y="2057"/>
                  </a:lnTo>
                  <a:lnTo>
                    <a:pt x="258" y="2057"/>
                  </a:lnTo>
                  <a:lnTo>
                    <a:pt x="264" y="2059"/>
                  </a:lnTo>
                  <a:lnTo>
                    <a:pt x="268" y="2059"/>
                  </a:lnTo>
                  <a:lnTo>
                    <a:pt x="272" y="2059"/>
                  </a:lnTo>
                  <a:lnTo>
                    <a:pt x="278" y="2059"/>
                  </a:lnTo>
                  <a:lnTo>
                    <a:pt x="281" y="2059"/>
                  </a:lnTo>
                  <a:lnTo>
                    <a:pt x="285" y="2059"/>
                  </a:lnTo>
                  <a:lnTo>
                    <a:pt x="291" y="2061"/>
                  </a:lnTo>
                  <a:lnTo>
                    <a:pt x="295" y="2061"/>
                  </a:lnTo>
                  <a:lnTo>
                    <a:pt x="299" y="2063"/>
                  </a:lnTo>
                  <a:lnTo>
                    <a:pt x="305" y="2061"/>
                  </a:lnTo>
                  <a:lnTo>
                    <a:pt x="310" y="2061"/>
                  </a:lnTo>
                  <a:lnTo>
                    <a:pt x="316" y="2061"/>
                  </a:lnTo>
                  <a:lnTo>
                    <a:pt x="320" y="2061"/>
                  </a:lnTo>
                  <a:lnTo>
                    <a:pt x="328" y="2059"/>
                  </a:lnTo>
                  <a:lnTo>
                    <a:pt x="333" y="2055"/>
                  </a:lnTo>
                  <a:lnTo>
                    <a:pt x="341" y="2051"/>
                  </a:lnTo>
                  <a:lnTo>
                    <a:pt x="349" y="2045"/>
                  </a:lnTo>
                  <a:lnTo>
                    <a:pt x="355" y="2040"/>
                  </a:lnTo>
                  <a:lnTo>
                    <a:pt x="362" y="2034"/>
                  </a:lnTo>
                  <a:lnTo>
                    <a:pt x="368" y="2028"/>
                  </a:lnTo>
                  <a:lnTo>
                    <a:pt x="376" y="2022"/>
                  </a:lnTo>
                  <a:lnTo>
                    <a:pt x="382" y="2016"/>
                  </a:lnTo>
                  <a:lnTo>
                    <a:pt x="387" y="2011"/>
                  </a:lnTo>
                  <a:lnTo>
                    <a:pt x="391" y="2005"/>
                  </a:lnTo>
                  <a:lnTo>
                    <a:pt x="397" y="2001"/>
                  </a:lnTo>
                  <a:lnTo>
                    <a:pt x="403" y="1995"/>
                  </a:lnTo>
                  <a:lnTo>
                    <a:pt x="405" y="1993"/>
                  </a:lnTo>
                  <a:lnTo>
                    <a:pt x="509" y="2013"/>
                  </a:lnTo>
                  <a:lnTo>
                    <a:pt x="509" y="2014"/>
                  </a:lnTo>
                  <a:lnTo>
                    <a:pt x="507" y="2018"/>
                  </a:lnTo>
                  <a:lnTo>
                    <a:pt x="507" y="2020"/>
                  </a:lnTo>
                  <a:lnTo>
                    <a:pt x="507" y="2026"/>
                  </a:lnTo>
                  <a:lnTo>
                    <a:pt x="507" y="2030"/>
                  </a:lnTo>
                  <a:lnTo>
                    <a:pt x="507" y="2036"/>
                  </a:lnTo>
                  <a:lnTo>
                    <a:pt x="505" y="2040"/>
                  </a:lnTo>
                  <a:lnTo>
                    <a:pt x="505" y="2047"/>
                  </a:lnTo>
                  <a:lnTo>
                    <a:pt x="505" y="2053"/>
                  </a:lnTo>
                  <a:lnTo>
                    <a:pt x="505" y="2061"/>
                  </a:lnTo>
                  <a:lnTo>
                    <a:pt x="503" y="2066"/>
                  </a:lnTo>
                  <a:lnTo>
                    <a:pt x="503" y="2074"/>
                  </a:lnTo>
                  <a:lnTo>
                    <a:pt x="503" y="2078"/>
                  </a:lnTo>
                  <a:lnTo>
                    <a:pt x="503" y="2082"/>
                  </a:lnTo>
                  <a:lnTo>
                    <a:pt x="503" y="2088"/>
                  </a:lnTo>
                  <a:lnTo>
                    <a:pt x="505" y="2092"/>
                  </a:lnTo>
                  <a:lnTo>
                    <a:pt x="505" y="2099"/>
                  </a:lnTo>
                  <a:lnTo>
                    <a:pt x="505" y="2107"/>
                  </a:lnTo>
                  <a:lnTo>
                    <a:pt x="505" y="2111"/>
                  </a:lnTo>
                  <a:lnTo>
                    <a:pt x="505" y="2115"/>
                  </a:lnTo>
                  <a:lnTo>
                    <a:pt x="505" y="2119"/>
                  </a:lnTo>
                  <a:lnTo>
                    <a:pt x="507" y="2124"/>
                  </a:lnTo>
                  <a:lnTo>
                    <a:pt x="507" y="2126"/>
                  </a:lnTo>
                  <a:lnTo>
                    <a:pt x="507" y="2132"/>
                  </a:lnTo>
                  <a:lnTo>
                    <a:pt x="507" y="2136"/>
                  </a:lnTo>
                  <a:lnTo>
                    <a:pt x="507" y="2140"/>
                  </a:lnTo>
                  <a:lnTo>
                    <a:pt x="509" y="2144"/>
                  </a:lnTo>
                  <a:lnTo>
                    <a:pt x="509" y="2147"/>
                  </a:lnTo>
                  <a:lnTo>
                    <a:pt x="509" y="2151"/>
                  </a:lnTo>
                  <a:lnTo>
                    <a:pt x="511" y="2155"/>
                  </a:lnTo>
                  <a:lnTo>
                    <a:pt x="513" y="2163"/>
                  </a:lnTo>
                  <a:lnTo>
                    <a:pt x="515" y="2171"/>
                  </a:lnTo>
                  <a:lnTo>
                    <a:pt x="517" y="2178"/>
                  </a:lnTo>
                  <a:lnTo>
                    <a:pt x="520" y="2186"/>
                  </a:lnTo>
                  <a:lnTo>
                    <a:pt x="522" y="2192"/>
                  </a:lnTo>
                  <a:lnTo>
                    <a:pt x="526" y="2198"/>
                  </a:lnTo>
                  <a:lnTo>
                    <a:pt x="530" y="2203"/>
                  </a:lnTo>
                  <a:lnTo>
                    <a:pt x="536" y="2209"/>
                  </a:lnTo>
                  <a:lnTo>
                    <a:pt x="540" y="2213"/>
                  </a:lnTo>
                  <a:lnTo>
                    <a:pt x="544" y="2219"/>
                  </a:lnTo>
                  <a:lnTo>
                    <a:pt x="547" y="2223"/>
                  </a:lnTo>
                  <a:lnTo>
                    <a:pt x="553" y="2228"/>
                  </a:lnTo>
                  <a:lnTo>
                    <a:pt x="559" y="2232"/>
                  </a:lnTo>
                  <a:lnTo>
                    <a:pt x="565" y="2238"/>
                  </a:lnTo>
                  <a:lnTo>
                    <a:pt x="571" y="2242"/>
                  </a:lnTo>
                  <a:lnTo>
                    <a:pt x="578" y="2248"/>
                  </a:lnTo>
                  <a:lnTo>
                    <a:pt x="584" y="2250"/>
                  </a:lnTo>
                  <a:lnTo>
                    <a:pt x="590" y="2255"/>
                  </a:lnTo>
                  <a:lnTo>
                    <a:pt x="598" y="2259"/>
                  </a:lnTo>
                  <a:lnTo>
                    <a:pt x="605" y="2263"/>
                  </a:lnTo>
                  <a:lnTo>
                    <a:pt x="609" y="2265"/>
                  </a:lnTo>
                  <a:lnTo>
                    <a:pt x="613" y="2267"/>
                  </a:lnTo>
                  <a:lnTo>
                    <a:pt x="619" y="2269"/>
                  </a:lnTo>
                  <a:lnTo>
                    <a:pt x="623" y="2271"/>
                  </a:lnTo>
                  <a:lnTo>
                    <a:pt x="626" y="2273"/>
                  </a:lnTo>
                  <a:lnTo>
                    <a:pt x="630" y="2275"/>
                  </a:lnTo>
                  <a:lnTo>
                    <a:pt x="634" y="2277"/>
                  </a:lnTo>
                  <a:lnTo>
                    <a:pt x="640" y="2279"/>
                  </a:lnTo>
                  <a:lnTo>
                    <a:pt x="644" y="2281"/>
                  </a:lnTo>
                  <a:lnTo>
                    <a:pt x="648" y="2282"/>
                  </a:lnTo>
                  <a:lnTo>
                    <a:pt x="653" y="2282"/>
                  </a:lnTo>
                  <a:lnTo>
                    <a:pt x="657" y="2284"/>
                  </a:lnTo>
                  <a:lnTo>
                    <a:pt x="663" y="2286"/>
                  </a:lnTo>
                  <a:lnTo>
                    <a:pt x="667" y="2288"/>
                  </a:lnTo>
                  <a:lnTo>
                    <a:pt x="673" y="2288"/>
                  </a:lnTo>
                  <a:lnTo>
                    <a:pt x="678" y="2290"/>
                  </a:lnTo>
                  <a:lnTo>
                    <a:pt x="682" y="2292"/>
                  </a:lnTo>
                  <a:lnTo>
                    <a:pt x="688" y="2292"/>
                  </a:lnTo>
                  <a:lnTo>
                    <a:pt x="694" y="2294"/>
                  </a:lnTo>
                  <a:lnTo>
                    <a:pt x="698" y="2296"/>
                  </a:lnTo>
                  <a:lnTo>
                    <a:pt x="704" y="2296"/>
                  </a:lnTo>
                  <a:lnTo>
                    <a:pt x="709" y="2298"/>
                  </a:lnTo>
                  <a:lnTo>
                    <a:pt x="715" y="2300"/>
                  </a:lnTo>
                  <a:lnTo>
                    <a:pt x="721" y="2300"/>
                  </a:lnTo>
                  <a:lnTo>
                    <a:pt x="727" y="2300"/>
                  </a:lnTo>
                  <a:lnTo>
                    <a:pt x="732" y="2302"/>
                  </a:lnTo>
                  <a:lnTo>
                    <a:pt x="738" y="2302"/>
                  </a:lnTo>
                  <a:lnTo>
                    <a:pt x="744" y="2304"/>
                  </a:lnTo>
                  <a:lnTo>
                    <a:pt x="752" y="2304"/>
                  </a:lnTo>
                  <a:lnTo>
                    <a:pt x="758" y="2306"/>
                  </a:lnTo>
                  <a:lnTo>
                    <a:pt x="763" y="2306"/>
                  </a:lnTo>
                  <a:lnTo>
                    <a:pt x="771" y="2306"/>
                  </a:lnTo>
                  <a:lnTo>
                    <a:pt x="777" y="2306"/>
                  </a:lnTo>
                  <a:lnTo>
                    <a:pt x="783" y="2308"/>
                  </a:lnTo>
                  <a:lnTo>
                    <a:pt x="790" y="2308"/>
                  </a:lnTo>
                  <a:lnTo>
                    <a:pt x="796" y="2308"/>
                  </a:lnTo>
                  <a:lnTo>
                    <a:pt x="802" y="2308"/>
                  </a:lnTo>
                  <a:lnTo>
                    <a:pt x="810" y="2308"/>
                  </a:lnTo>
                  <a:lnTo>
                    <a:pt x="817" y="2308"/>
                  </a:lnTo>
                  <a:lnTo>
                    <a:pt x="825" y="2309"/>
                  </a:lnTo>
                  <a:lnTo>
                    <a:pt x="831" y="2308"/>
                  </a:lnTo>
                  <a:lnTo>
                    <a:pt x="838" y="2308"/>
                  </a:lnTo>
                  <a:lnTo>
                    <a:pt x="844" y="2306"/>
                  </a:lnTo>
                  <a:lnTo>
                    <a:pt x="852" y="2306"/>
                  </a:lnTo>
                  <a:lnTo>
                    <a:pt x="858" y="2306"/>
                  </a:lnTo>
                  <a:lnTo>
                    <a:pt x="865" y="2306"/>
                  </a:lnTo>
                  <a:lnTo>
                    <a:pt x="873" y="2304"/>
                  </a:lnTo>
                  <a:lnTo>
                    <a:pt x="881" y="2304"/>
                  </a:lnTo>
                  <a:lnTo>
                    <a:pt x="887" y="2302"/>
                  </a:lnTo>
                  <a:lnTo>
                    <a:pt x="894" y="2302"/>
                  </a:lnTo>
                  <a:lnTo>
                    <a:pt x="900" y="2300"/>
                  </a:lnTo>
                  <a:lnTo>
                    <a:pt x="908" y="2300"/>
                  </a:lnTo>
                  <a:lnTo>
                    <a:pt x="914" y="2298"/>
                  </a:lnTo>
                  <a:lnTo>
                    <a:pt x="921" y="2296"/>
                  </a:lnTo>
                  <a:lnTo>
                    <a:pt x="929" y="2296"/>
                  </a:lnTo>
                  <a:lnTo>
                    <a:pt x="935" y="2294"/>
                  </a:lnTo>
                  <a:lnTo>
                    <a:pt x="943" y="2292"/>
                  </a:lnTo>
                  <a:lnTo>
                    <a:pt x="948" y="2290"/>
                  </a:lnTo>
                  <a:lnTo>
                    <a:pt x="954" y="2290"/>
                  </a:lnTo>
                  <a:lnTo>
                    <a:pt x="962" y="2288"/>
                  </a:lnTo>
                  <a:lnTo>
                    <a:pt x="970" y="2286"/>
                  </a:lnTo>
                  <a:lnTo>
                    <a:pt x="975" y="2284"/>
                  </a:lnTo>
                  <a:lnTo>
                    <a:pt x="981" y="2282"/>
                  </a:lnTo>
                  <a:lnTo>
                    <a:pt x="989" y="2281"/>
                  </a:lnTo>
                  <a:lnTo>
                    <a:pt x="995" y="2279"/>
                  </a:lnTo>
                  <a:lnTo>
                    <a:pt x="1000" y="2277"/>
                  </a:lnTo>
                  <a:lnTo>
                    <a:pt x="1008" y="2275"/>
                  </a:lnTo>
                  <a:lnTo>
                    <a:pt x="1014" y="2273"/>
                  </a:lnTo>
                  <a:lnTo>
                    <a:pt x="1020" y="2271"/>
                  </a:lnTo>
                  <a:lnTo>
                    <a:pt x="1025" y="2269"/>
                  </a:lnTo>
                  <a:lnTo>
                    <a:pt x="1033" y="2267"/>
                  </a:lnTo>
                  <a:lnTo>
                    <a:pt x="1039" y="2267"/>
                  </a:lnTo>
                  <a:lnTo>
                    <a:pt x="1045" y="2263"/>
                  </a:lnTo>
                  <a:lnTo>
                    <a:pt x="1050" y="2261"/>
                  </a:lnTo>
                  <a:lnTo>
                    <a:pt x="1056" y="2259"/>
                  </a:lnTo>
                  <a:lnTo>
                    <a:pt x="1062" y="2257"/>
                  </a:lnTo>
                  <a:lnTo>
                    <a:pt x="1066" y="2255"/>
                  </a:lnTo>
                  <a:lnTo>
                    <a:pt x="1072" y="2254"/>
                  </a:lnTo>
                  <a:lnTo>
                    <a:pt x="1077" y="2252"/>
                  </a:lnTo>
                  <a:lnTo>
                    <a:pt x="1083" y="2250"/>
                  </a:lnTo>
                  <a:lnTo>
                    <a:pt x="1087" y="2248"/>
                  </a:lnTo>
                  <a:lnTo>
                    <a:pt x="1091" y="2244"/>
                  </a:lnTo>
                  <a:lnTo>
                    <a:pt x="1097" y="2242"/>
                  </a:lnTo>
                  <a:lnTo>
                    <a:pt x="1103" y="2240"/>
                  </a:lnTo>
                  <a:lnTo>
                    <a:pt x="1106" y="2238"/>
                  </a:lnTo>
                  <a:lnTo>
                    <a:pt x="1110" y="2236"/>
                  </a:lnTo>
                  <a:lnTo>
                    <a:pt x="1114" y="2234"/>
                  </a:lnTo>
                  <a:lnTo>
                    <a:pt x="1120" y="2232"/>
                  </a:lnTo>
                  <a:lnTo>
                    <a:pt x="1128" y="2228"/>
                  </a:lnTo>
                  <a:lnTo>
                    <a:pt x="1133" y="2225"/>
                  </a:lnTo>
                  <a:lnTo>
                    <a:pt x="1141" y="2221"/>
                  </a:lnTo>
                  <a:lnTo>
                    <a:pt x="1147" y="2217"/>
                  </a:lnTo>
                  <a:lnTo>
                    <a:pt x="1153" y="2213"/>
                  </a:lnTo>
                  <a:lnTo>
                    <a:pt x="1156" y="2209"/>
                  </a:lnTo>
                  <a:lnTo>
                    <a:pt x="1160" y="2205"/>
                  </a:lnTo>
                  <a:lnTo>
                    <a:pt x="1164" y="2203"/>
                  </a:lnTo>
                  <a:lnTo>
                    <a:pt x="1168" y="2198"/>
                  </a:lnTo>
                  <a:lnTo>
                    <a:pt x="1174" y="2190"/>
                  </a:lnTo>
                  <a:lnTo>
                    <a:pt x="1176" y="2186"/>
                  </a:lnTo>
                  <a:lnTo>
                    <a:pt x="1178" y="2182"/>
                  </a:lnTo>
                  <a:lnTo>
                    <a:pt x="1180" y="2176"/>
                  </a:lnTo>
                  <a:lnTo>
                    <a:pt x="1182" y="2174"/>
                  </a:lnTo>
                  <a:lnTo>
                    <a:pt x="1182" y="2169"/>
                  </a:lnTo>
                  <a:lnTo>
                    <a:pt x="1183" y="2165"/>
                  </a:lnTo>
                  <a:lnTo>
                    <a:pt x="1185" y="2161"/>
                  </a:lnTo>
                  <a:lnTo>
                    <a:pt x="1187" y="2157"/>
                  </a:lnTo>
                  <a:lnTo>
                    <a:pt x="1187" y="2153"/>
                  </a:lnTo>
                  <a:lnTo>
                    <a:pt x="1189" y="2149"/>
                  </a:lnTo>
                  <a:lnTo>
                    <a:pt x="1189" y="2144"/>
                  </a:lnTo>
                  <a:lnTo>
                    <a:pt x="1191" y="2140"/>
                  </a:lnTo>
                  <a:lnTo>
                    <a:pt x="1191" y="2136"/>
                  </a:lnTo>
                  <a:lnTo>
                    <a:pt x="1193" y="2132"/>
                  </a:lnTo>
                  <a:lnTo>
                    <a:pt x="1193" y="2128"/>
                  </a:lnTo>
                  <a:lnTo>
                    <a:pt x="1193" y="2126"/>
                  </a:lnTo>
                  <a:lnTo>
                    <a:pt x="1195" y="2119"/>
                  </a:lnTo>
                  <a:lnTo>
                    <a:pt x="1195" y="2113"/>
                  </a:lnTo>
                  <a:lnTo>
                    <a:pt x="1195" y="2109"/>
                  </a:lnTo>
                  <a:lnTo>
                    <a:pt x="1195" y="2105"/>
                  </a:lnTo>
                  <a:lnTo>
                    <a:pt x="1195" y="2103"/>
                  </a:lnTo>
                  <a:lnTo>
                    <a:pt x="1197" y="2103"/>
                  </a:lnTo>
                  <a:lnTo>
                    <a:pt x="1199" y="2103"/>
                  </a:lnTo>
                  <a:lnTo>
                    <a:pt x="1201" y="2103"/>
                  </a:lnTo>
                  <a:lnTo>
                    <a:pt x="1205" y="2105"/>
                  </a:lnTo>
                  <a:lnTo>
                    <a:pt x="1209" y="2107"/>
                  </a:lnTo>
                  <a:lnTo>
                    <a:pt x="1214" y="2109"/>
                  </a:lnTo>
                  <a:lnTo>
                    <a:pt x="1218" y="2109"/>
                  </a:lnTo>
                  <a:lnTo>
                    <a:pt x="1222" y="2111"/>
                  </a:lnTo>
                  <a:lnTo>
                    <a:pt x="1226" y="2111"/>
                  </a:lnTo>
                  <a:lnTo>
                    <a:pt x="1230" y="2113"/>
                  </a:lnTo>
                  <a:lnTo>
                    <a:pt x="1234" y="2113"/>
                  </a:lnTo>
                  <a:lnTo>
                    <a:pt x="1237" y="2115"/>
                  </a:lnTo>
                  <a:lnTo>
                    <a:pt x="1241" y="2115"/>
                  </a:lnTo>
                  <a:lnTo>
                    <a:pt x="1247" y="2117"/>
                  </a:lnTo>
                  <a:lnTo>
                    <a:pt x="1251" y="2119"/>
                  </a:lnTo>
                  <a:lnTo>
                    <a:pt x="1255" y="2120"/>
                  </a:lnTo>
                  <a:lnTo>
                    <a:pt x="1261" y="2120"/>
                  </a:lnTo>
                  <a:lnTo>
                    <a:pt x="1266" y="2122"/>
                  </a:lnTo>
                  <a:lnTo>
                    <a:pt x="1270" y="2124"/>
                  </a:lnTo>
                  <a:lnTo>
                    <a:pt x="1276" y="2126"/>
                  </a:lnTo>
                  <a:lnTo>
                    <a:pt x="1282" y="2126"/>
                  </a:lnTo>
                  <a:lnTo>
                    <a:pt x="1288" y="2128"/>
                  </a:lnTo>
                  <a:lnTo>
                    <a:pt x="1291" y="2130"/>
                  </a:lnTo>
                  <a:lnTo>
                    <a:pt x="1297" y="2132"/>
                  </a:lnTo>
                  <a:lnTo>
                    <a:pt x="1303" y="2132"/>
                  </a:lnTo>
                  <a:lnTo>
                    <a:pt x="1309" y="2136"/>
                  </a:lnTo>
                  <a:lnTo>
                    <a:pt x="1315" y="2136"/>
                  </a:lnTo>
                  <a:lnTo>
                    <a:pt x="1320" y="2138"/>
                  </a:lnTo>
                  <a:lnTo>
                    <a:pt x="1326" y="2138"/>
                  </a:lnTo>
                  <a:lnTo>
                    <a:pt x="1332" y="2140"/>
                  </a:lnTo>
                  <a:lnTo>
                    <a:pt x="1338" y="2140"/>
                  </a:lnTo>
                  <a:lnTo>
                    <a:pt x="1343" y="2142"/>
                  </a:lnTo>
                  <a:lnTo>
                    <a:pt x="1349" y="2144"/>
                  </a:lnTo>
                  <a:lnTo>
                    <a:pt x="1357" y="2146"/>
                  </a:lnTo>
                  <a:lnTo>
                    <a:pt x="1361" y="2146"/>
                  </a:lnTo>
                  <a:lnTo>
                    <a:pt x="1369" y="2147"/>
                  </a:lnTo>
                  <a:lnTo>
                    <a:pt x="1372" y="2147"/>
                  </a:lnTo>
                  <a:lnTo>
                    <a:pt x="1378" y="2149"/>
                  </a:lnTo>
                  <a:lnTo>
                    <a:pt x="1384" y="2149"/>
                  </a:lnTo>
                  <a:lnTo>
                    <a:pt x="1390" y="2151"/>
                  </a:lnTo>
                  <a:lnTo>
                    <a:pt x="1396" y="2151"/>
                  </a:lnTo>
                  <a:lnTo>
                    <a:pt x="1401" y="2153"/>
                  </a:lnTo>
                  <a:lnTo>
                    <a:pt x="1407" y="2153"/>
                  </a:lnTo>
                  <a:lnTo>
                    <a:pt x="1413" y="2155"/>
                  </a:lnTo>
                  <a:lnTo>
                    <a:pt x="1417" y="2155"/>
                  </a:lnTo>
                  <a:lnTo>
                    <a:pt x="1422" y="2155"/>
                  </a:lnTo>
                  <a:lnTo>
                    <a:pt x="1428" y="2155"/>
                  </a:lnTo>
                  <a:lnTo>
                    <a:pt x="1432" y="2155"/>
                  </a:lnTo>
                  <a:lnTo>
                    <a:pt x="1438" y="2155"/>
                  </a:lnTo>
                  <a:lnTo>
                    <a:pt x="1444" y="2157"/>
                  </a:lnTo>
                  <a:lnTo>
                    <a:pt x="1448" y="2157"/>
                  </a:lnTo>
                  <a:lnTo>
                    <a:pt x="1451" y="2157"/>
                  </a:lnTo>
                  <a:lnTo>
                    <a:pt x="1455" y="2157"/>
                  </a:lnTo>
                  <a:lnTo>
                    <a:pt x="1459" y="2157"/>
                  </a:lnTo>
                  <a:lnTo>
                    <a:pt x="1463" y="2155"/>
                  </a:lnTo>
                  <a:lnTo>
                    <a:pt x="1469" y="2155"/>
                  </a:lnTo>
                  <a:lnTo>
                    <a:pt x="1471" y="2155"/>
                  </a:lnTo>
                  <a:lnTo>
                    <a:pt x="1475" y="2155"/>
                  </a:lnTo>
                  <a:lnTo>
                    <a:pt x="1480" y="2153"/>
                  </a:lnTo>
                  <a:lnTo>
                    <a:pt x="1488" y="2151"/>
                  </a:lnTo>
                  <a:lnTo>
                    <a:pt x="1494" y="2149"/>
                  </a:lnTo>
                  <a:lnTo>
                    <a:pt x="1500" y="2147"/>
                  </a:lnTo>
                  <a:lnTo>
                    <a:pt x="1503" y="2146"/>
                  </a:lnTo>
                  <a:lnTo>
                    <a:pt x="1509" y="2144"/>
                  </a:lnTo>
                  <a:lnTo>
                    <a:pt x="1515" y="2142"/>
                  </a:lnTo>
                  <a:lnTo>
                    <a:pt x="1521" y="2140"/>
                  </a:lnTo>
                  <a:lnTo>
                    <a:pt x="1525" y="2138"/>
                  </a:lnTo>
                  <a:lnTo>
                    <a:pt x="1530" y="2136"/>
                  </a:lnTo>
                  <a:lnTo>
                    <a:pt x="1534" y="2134"/>
                  </a:lnTo>
                  <a:lnTo>
                    <a:pt x="1538" y="2132"/>
                  </a:lnTo>
                  <a:lnTo>
                    <a:pt x="1542" y="2130"/>
                  </a:lnTo>
                  <a:lnTo>
                    <a:pt x="1546" y="2130"/>
                  </a:lnTo>
                  <a:lnTo>
                    <a:pt x="1550" y="2126"/>
                  </a:lnTo>
                  <a:lnTo>
                    <a:pt x="1554" y="2126"/>
                  </a:lnTo>
                  <a:lnTo>
                    <a:pt x="1559" y="2120"/>
                  </a:lnTo>
                  <a:lnTo>
                    <a:pt x="1565" y="2119"/>
                  </a:lnTo>
                  <a:lnTo>
                    <a:pt x="1569" y="2115"/>
                  </a:lnTo>
                  <a:lnTo>
                    <a:pt x="1575" y="2113"/>
                  </a:lnTo>
                  <a:lnTo>
                    <a:pt x="1579" y="2111"/>
                  </a:lnTo>
                  <a:lnTo>
                    <a:pt x="1582" y="2109"/>
                  </a:lnTo>
                  <a:lnTo>
                    <a:pt x="1582" y="2111"/>
                  </a:lnTo>
                  <a:lnTo>
                    <a:pt x="1588" y="2117"/>
                  </a:lnTo>
                  <a:lnTo>
                    <a:pt x="1590" y="2119"/>
                  </a:lnTo>
                  <a:lnTo>
                    <a:pt x="1594" y="2124"/>
                  </a:lnTo>
                  <a:lnTo>
                    <a:pt x="1598" y="2128"/>
                  </a:lnTo>
                  <a:lnTo>
                    <a:pt x="1604" y="2132"/>
                  </a:lnTo>
                  <a:lnTo>
                    <a:pt x="1608" y="2136"/>
                  </a:lnTo>
                  <a:lnTo>
                    <a:pt x="1613" y="2140"/>
                  </a:lnTo>
                  <a:lnTo>
                    <a:pt x="1619" y="2144"/>
                  </a:lnTo>
                  <a:lnTo>
                    <a:pt x="1625" y="2147"/>
                  </a:lnTo>
                  <a:lnTo>
                    <a:pt x="1631" y="2149"/>
                  </a:lnTo>
                  <a:lnTo>
                    <a:pt x="1638" y="2153"/>
                  </a:lnTo>
                  <a:lnTo>
                    <a:pt x="1644" y="2155"/>
                  </a:lnTo>
                  <a:lnTo>
                    <a:pt x="1650" y="2155"/>
                  </a:lnTo>
                  <a:lnTo>
                    <a:pt x="1656" y="2155"/>
                  </a:lnTo>
                  <a:lnTo>
                    <a:pt x="1662" y="2153"/>
                  </a:lnTo>
                  <a:lnTo>
                    <a:pt x="1667" y="2151"/>
                  </a:lnTo>
                  <a:lnTo>
                    <a:pt x="1675" y="2151"/>
                  </a:lnTo>
                  <a:lnTo>
                    <a:pt x="1681" y="2149"/>
                  </a:lnTo>
                  <a:lnTo>
                    <a:pt x="1687" y="2146"/>
                  </a:lnTo>
                  <a:lnTo>
                    <a:pt x="1692" y="2144"/>
                  </a:lnTo>
                  <a:lnTo>
                    <a:pt x="1698" y="2142"/>
                  </a:lnTo>
                  <a:lnTo>
                    <a:pt x="1704" y="2140"/>
                  </a:lnTo>
                  <a:lnTo>
                    <a:pt x="1708" y="2138"/>
                  </a:lnTo>
                  <a:lnTo>
                    <a:pt x="1712" y="2136"/>
                  </a:lnTo>
                  <a:lnTo>
                    <a:pt x="1717" y="2132"/>
                  </a:lnTo>
                  <a:lnTo>
                    <a:pt x="1723" y="2130"/>
                  </a:lnTo>
                  <a:lnTo>
                    <a:pt x="1725" y="2130"/>
                  </a:lnTo>
                  <a:lnTo>
                    <a:pt x="1725" y="2130"/>
                  </a:lnTo>
                  <a:lnTo>
                    <a:pt x="1729" y="2132"/>
                  </a:lnTo>
                  <a:lnTo>
                    <a:pt x="1731" y="2134"/>
                  </a:lnTo>
                  <a:lnTo>
                    <a:pt x="1733" y="2136"/>
                  </a:lnTo>
                  <a:lnTo>
                    <a:pt x="1737" y="2138"/>
                  </a:lnTo>
                  <a:lnTo>
                    <a:pt x="1742" y="2142"/>
                  </a:lnTo>
                  <a:lnTo>
                    <a:pt x="1744" y="2144"/>
                  </a:lnTo>
                  <a:lnTo>
                    <a:pt x="1750" y="2147"/>
                  </a:lnTo>
                  <a:lnTo>
                    <a:pt x="1754" y="2149"/>
                  </a:lnTo>
                  <a:lnTo>
                    <a:pt x="1760" y="2155"/>
                  </a:lnTo>
                  <a:lnTo>
                    <a:pt x="1766" y="2157"/>
                  </a:lnTo>
                  <a:lnTo>
                    <a:pt x="1771" y="2161"/>
                  </a:lnTo>
                  <a:lnTo>
                    <a:pt x="1777" y="2165"/>
                  </a:lnTo>
                  <a:lnTo>
                    <a:pt x="1783" y="2169"/>
                  </a:lnTo>
                  <a:lnTo>
                    <a:pt x="1789" y="2173"/>
                  </a:lnTo>
                  <a:lnTo>
                    <a:pt x="1796" y="2176"/>
                  </a:lnTo>
                  <a:lnTo>
                    <a:pt x="1802" y="2180"/>
                  </a:lnTo>
                  <a:lnTo>
                    <a:pt x="1808" y="2184"/>
                  </a:lnTo>
                  <a:lnTo>
                    <a:pt x="1814" y="2186"/>
                  </a:lnTo>
                  <a:lnTo>
                    <a:pt x="1821" y="2190"/>
                  </a:lnTo>
                  <a:lnTo>
                    <a:pt x="1827" y="2194"/>
                  </a:lnTo>
                  <a:lnTo>
                    <a:pt x="1833" y="2198"/>
                  </a:lnTo>
                  <a:lnTo>
                    <a:pt x="1839" y="2200"/>
                  </a:lnTo>
                  <a:lnTo>
                    <a:pt x="1845" y="2201"/>
                  </a:lnTo>
                  <a:lnTo>
                    <a:pt x="1850" y="2203"/>
                  </a:lnTo>
                  <a:lnTo>
                    <a:pt x="1856" y="2205"/>
                  </a:lnTo>
                  <a:lnTo>
                    <a:pt x="1862" y="2207"/>
                  </a:lnTo>
                  <a:lnTo>
                    <a:pt x="1868" y="2207"/>
                  </a:lnTo>
                  <a:lnTo>
                    <a:pt x="1872" y="2209"/>
                  </a:lnTo>
                  <a:lnTo>
                    <a:pt x="1877" y="2209"/>
                  </a:lnTo>
                  <a:lnTo>
                    <a:pt x="1881" y="2209"/>
                  </a:lnTo>
                  <a:lnTo>
                    <a:pt x="1885" y="2207"/>
                  </a:lnTo>
                  <a:lnTo>
                    <a:pt x="1889" y="2207"/>
                  </a:lnTo>
                  <a:lnTo>
                    <a:pt x="1893" y="2207"/>
                  </a:lnTo>
                  <a:lnTo>
                    <a:pt x="1897" y="2205"/>
                  </a:lnTo>
                  <a:lnTo>
                    <a:pt x="1901" y="2203"/>
                  </a:lnTo>
                  <a:lnTo>
                    <a:pt x="1904" y="2201"/>
                  </a:lnTo>
                  <a:lnTo>
                    <a:pt x="1908" y="2201"/>
                  </a:lnTo>
                  <a:lnTo>
                    <a:pt x="1916" y="2196"/>
                  </a:lnTo>
                  <a:lnTo>
                    <a:pt x="1924" y="2192"/>
                  </a:lnTo>
                  <a:lnTo>
                    <a:pt x="1927" y="2186"/>
                  </a:lnTo>
                  <a:lnTo>
                    <a:pt x="1935" y="2182"/>
                  </a:lnTo>
                  <a:lnTo>
                    <a:pt x="1939" y="2176"/>
                  </a:lnTo>
                  <a:lnTo>
                    <a:pt x="1945" y="2173"/>
                  </a:lnTo>
                  <a:lnTo>
                    <a:pt x="1949" y="2167"/>
                  </a:lnTo>
                  <a:lnTo>
                    <a:pt x="1953" y="2163"/>
                  </a:lnTo>
                  <a:lnTo>
                    <a:pt x="1956" y="2157"/>
                  </a:lnTo>
                  <a:lnTo>
                    <a:pt x="1960" y="2155"/>
                  </a:lnTo>
                  <a:lnTo>
                    <a:pt x="1962" y="2155"/>
                  </a:lnTo>
                  <a:lnTo>
                    <a:pt x="1964" y="2155"/>
                  </a:lnTo>
                  <a:lnTo>
                    <a:pt x="1968" y="2157"/>
                  </a:lnTo>
                  <a:lnTo>
                    <a:pt x="1974" y="2157"/>
                  </a:lnTo>
                  <a:lnTo>
                    <a:pt x="1980" y="2159"/>
                  </a:lnTo>
                  <a:lnTo>
                    <a:pt x="1985" y="2159"/>
                  </a:lnTo>
                  <a:lnTo>
                    <a:pt x="1993" y="2161"/>
                  </a:lnTo>
                  <a:lnTo>
                    <a:pt x="1999" y="2161"/>
                  </a:lnTo>
                  <a:lnTo>
                    <a:pt x="2007" y="2161"/>
                  </a:lnTo>
                  <a:lnTo>
                    <a:pt x="2014" y="2161"/>
                  </a:lnTo>
                  <a:lnTo>
                    <a:pt x="2022" y="2161"/>
                  </a:lnTo>
                  <a:lnTo>
                    <a:pt x="2030" y="2161"/>
                  </a:lnTo>
                  <a:lnTo>
                    <a:pt x="2037" y="2159"/>
                  </a:lnTo>
                  <a:lnTo>
                    <a:pt x="2043" y="2157"/>
                  </a:lnTo>
                  <a:lnTo>
                    <a:pt x="2051" y="2155"/>
                  </a:lnTo>
                  <a:lnTo>
                    <a:pt x="2055" y="2151"/>
                  </a:lnTo>
                  <a:lnTo>
                    <a:pt x="2059" y="2146"/>
                  </a:lnTo>
                  <a:lnTo>
                    <a:pt x="2064" y="2142"/>
                  </a:lnTo>
                  <a:lnTo>
                    <a:pt x="2068" y="2136"/>
                  </a:lnTo>
                  <a:lnTo>
                    <a:pt x="2072" y="2130"/>
                  </a:lnTo>
                  <a:lnTo>
                    <a:pt x="2076" y="2124"/>
                  </a:lnTo>
                  <a:lnTo>
                    <a:pt x="2080" y="2119"/>
                  </a:lnTo>
                  <a:lnTo>
                    <a:pt x="2082" y="2113"/>
                  </a:lnTo>
                  <a:lnTo>
                    <a:pt x="2086" y="2105"/>
                  </a:lnTo>
                  <a:lnTo>
                    <a:pt x="2087" y="2099"/>
                  </a:lnTo>
                  <a:lnTo>
                    <a:pt x="2087" y="2093"/>
                  </a:lnTo>
                  <a:lnTo>
                    <a:pt x="2089" y="2090"/>
                  </a:lnTo>
                  <a:lnTo>
                    <a:pt x="2093" y="2084"/>
                  </a:lnTo>
                  <a:lnTo>
                    <a:pt x="2093" y="2082"/>
                  </a:lnTo>
                  <a:lnTo>
                    <a:pt x="2095" y="2080"/>
                  </a:lnTo>
                  <a:lnTo>
                    <a:pt x="2101" y="2076"/>
                  </a:lnTo>
                  <a:lnTo>
                    <a:pt x="2105" y="2072"/>
                  </a:lnTo>
                  <a:lnTo>
                    <a:pt x="2109" y="2070"/>
                  </a:lnTo>
                  <a:lnTo>
                    <a:pt x="2113" y="2066"/>
                  </a:lnTo>
                  <a:lnTo>
                    <a:pt x="2116" y="2063"/>
                  </a:lnTo>
                  <a:lnTo>
                    <a:pt x="2120" y="2059"/>
                  </a:lnTo>
                  <a:lnTo>
                    <a:pt x="2124" y="2053"/>
                  </a:lnTo>
                  <a:lnTo>
                    <a:pt x="2128" y="2049"/>
                  </a:lnTo>
                  <a:lnTo>
                    <a:pt x="2132" y="2043"/>
                  </a:lnTo>
                  <a:lnTo>
                    <a:pt x="2134" y="2038"/>
                  </a:lnTo>
                  <a:lnTo>
                    <a:pt x="2138" y="2032"/>
                  </a:lnTo>
                  <a:lnTo>
                    <a:pt x="2140" y="2024"/>
                  </a:lnTo>
                  <a:lnTo>
                    <a:pt x="2141" y="2018"/>
                  </a:lnTo>
                  <a:lnTo>
                    <a:pt x="2140" y="2013"/>
                  </a:lnTo>
                  <a:lnTo>
                    <a:pt x="2140" y="2005"/>
                  </a:lnTo>
                  <a:lnTo>
                    <a:pt x="2140" y="1997"/>
                  </a:lnTo>
                  <a:lnTo>
                    <a:pt x="2138" y="1991"/>
                  </a:lnTo>
                  <a:lnTo>
                    <a:pt x="2138" y="1984"/>
                  </a:lnTo>
                  <a:lnTo>
                    <a:pt x="2136" y="1978"/>
                  </a:lnTo>
                  <a:lnTo>
                    <a:pt x="2134" y="1972"/>
                  </a:lnTo>
                  <a:lnTo>
                    <a:pt x="2134" y="1966"/>
                  </a:lnTo>
                  <a:lnTo>
                    <a:pt x="2132" y="1959"/>
                  </a:lnTo>
                  <a:lnTo>
                    <a:pt x="2130" y="1953"/>
                  </a:lnTo>
                  <a:lnTo>
                    <a:pt x="2126" y="1947"/>
                  </a:lnTo>
                  <a:lnTo>
                    <a:pt x="2124" y="1943"/>
                  </a:lnTo>
                  <a:lnTo>
                    <a:pt x="2120" y="1939"/>
                  </a:lnTo>
                  <a:lnTo>
                    <a:pt x="2116" y="1933"/>
                  </a:lnTo>
                  <a:lnTo>
                    <a:pt x="2113" y="1930"/>
                  </a:lnTo>
                  <a:lnTo>
                    <a:pt x="2109" y="1928"/>
                  </a:lnTo>
                  <a:lnTo>
                    <a:pt x="2101" y="1924"/>
                  </a:lnTo>
                  <a:lnTo>
                    <a:pt x="2095" y="1920"/>
                  </a:lnTo>
                  <a:lnTo>
                    <a:pt x="2089" y="1918"/>
                  </a:lnTo>
                  <a:lnTo>
                    <a:pt x="2086" y="1916"/>
                  </a:lnTo>
                  <a:lnTo>
                    <a:pt x="2082" y="1914"/>
                  </a:lnTo>
                  <a:lnTo>
                    <a:pt x="2078" y="1912"/>
                  </a:lnTo>
                  <a:lnTo>
                    <a:pt x="2072" y="1908"/>
                  </a:lnTo>
                  <a:lnTo>
                    <a:pt x="2068" y="1906"/>
                  </a:lnTo>
                  <a:lnTo>
                    <a:pt x="2062" y="1905"/>
                  </a:lnTo>
                  <a:lnTo>
                    <a:pt x="2057" y="1903"/>
                  </a:lnTo>
                  <a:lnTo>
                    <a:pt x="2053" y="1899"/>
                  </a:lnTo>
                  <a:lnTo>
                    <a:pt x="2047" y="1897"/>
                  </a:lnTo>
                  <a:lnTo>
                    <a:pt x="2043" y="1895"/>
                  </a:lnTo>
                  <a:lnTo>
                    <a:pt x="2037" y="1893"/>
                  </a:lnTo>
                  <a:lnTo>
                    <a:pt x="2032" y="1891"/>
                  </a:lnTo>
                  <a:lnTo>
                    <a:pt x="2028" y="1889"/>
                  </a:lnTo>
                  <a:lnTo>
                    <a:pt x="2022" y="1887"/>
                  </a:lnTo>
                  <a:lnTo>
                    <a:pt x="2018" y="1885"/>
                  </a:lnTo>
                  <a:lnTo>
                    <a:pt x="2014" y="1883"/>
                  </a:lnTo>
                  <a:lnTo>
                    <a:pt x="2008" y="1879"/>
                  </a:lnTo>
                  <a:lnTo>
                    <a:pt x="2005" y="1879"/>
                  </a:lnTo>
                  <a:lnTo>
                    <a:pt x="2003" y="1878"/>
                  </a:lnTo>
                  <a:lnTo>
                    <a:pt x="1995" y="1874"/>
                  </a:lnTo>
                  <a:lnTo>
                    <a:pt x="1991" y="1874"/>
                  </a:lnTo>
                  <a:lnTo>
                    <a:pt x="1989" y="1872"/>
                  </a:lnTo>
                  <a:lnTo>
                    <a:pt x="1987" y="1872"/>
                  </a:lnTo>
                  <a:lnTo>
                    <a:pt x="1987" y="1870"/>
                  </a:lnTo>
                  <a:lnTo>
                    <a:pt x="1987" y="1868"/>
                  </a:lnTo>
                  <a:lnTo>
                    <a:pt x="1983" y="1864"/>
                  </a:lnTo>
                  <a:lnTo>
                    <a:pt x="1983" y="1860"/>
                  </a:lnTo>
                  <a:lnTo>
                    <a:pt x="1981" y="1854"/>
                  </a:lnTo>
                  <a:lnTo>
                    <a:pt x="1980" y="1849"/>
                  </a:lnTo>
                  <a:lnTo>
                    <a:pt x="1976" y="1841"/>
                  </a:lnTo>
                  <a:lnTo>
                    <a:pt x="1974" y="1835"/>
                  </a:lnTo>
                  <a:lnTo>
                    <a:pt x="1974" y="1829"/>
                  </a:lnTo>
                  <a:lnTo>
                    <a:pt x="1972" y="1825"/>
                  </a:lnTo>
                  <a:lnTo>
                    <a:pt x="1970" y="1822"/>
                  </a:lnTo>
                  <a:lnTo>
                    <a:pt x="1970" y="1818"/>
                  </a:lnTo>
                  <a:lnTo>
                    <a:pt x="1968" y="1812"/>
                  </a:lnTo>
                  <a:lnTo>
                    <a:pt x="1968" y="1808"/>
                  </a:lnTo>
                  <a:lnTo>
                    <a:pt x="1968" y="1804"/>
                  </a:lnTo>
                  <a:lnTo>
                    <a:pt x="1968" y="1800"/>
                  </a:lnTo>
                  <a:lnTo>
                    <a:pt x="1966" y="1797"/>
                  </a:lnTo>
                  <a:lnTo>
                    <a:pt x="1966" y="1793"/>
                  </a:lnTo>
                  <a:lnTo>
                    <a:pt x="1966" y="1787"/>
                  </a:lnTo>
                  <a:lnTo>
                    <a:pt x="1966" y="1783"/>
                  </a:lnTo>
                  <a:lnTo>
                    <a:pt x="1966" y="1775"/>
                  </a:lnTo>
                  <a:lnTo>
                    <a:pt x="1968" y="1770"/>
                  </a:lnTo>
                  <a:lnTo>
                    <a:pt x="1968" y="1764"/>
                  </a:lnTo>
                  <a:lnTo>
                    <a:pt x="1970" y="1760"/>
                  </a:lnTo>
                  <a:lnTo>
                    <a:pt x="1970" y="1752"/>
                  </a:lnTo>
                  <a:lnTo>
                    <a:pt x="1972" y="1746"/>
                  </a:lnTo>
                  <a:lnTo>
                    <a:pt x="1972" y="1743"/>
                  </a:lnTo>
                  <a:lnTo>
                    <a:pt x="1972" y="1739"/>
                  </a:lnTo>
                  <a:lnTo>
                    <a:pt x="1972" y="1735"/>
                  </a:lnTo>
                  <a:lnTo>
                    <a:pt x="1974" y="1731"/>
                  </a:lnTo>
                  <a:lnTo>
                    <a:pt x="1974" y="1725"/>
                  </a:lnTo>
                  <a:lnTo>
                    <a:pt x="1974" y="1721"/>
                  </a:lnTo>
                  <a:lnTo>
                    <a:pt x="1974" y="1718"/>
                  </a:lnTo>
                  <a:lnTo>
                    <a:pt x="1976" y="1714"/>
                  </a:lnTo>
                  <a:lnTo>
                    <a:pt x="1976" y="1708"/>
                  </a:lnTo>
                  <a:lnTo>
                    <a:pt x="1976" y="1704"/>
                  </a:lnTo>
                  <a:lnTo>
                    <a:pt x="1976" y="1698"/>
                  </a:lnTo>
                  <a:lnTo>
                    <a:pt x="1976" y="1692"/>
                  </a:lnTo>
                  <a:lnTo>
                    <a:pt x="1976" y="1687"/>
                  </a:lnTo>
                  <a:lnTo>
                    <a:pt x="1978" y="1683"/>
                  </a:lnTo>
                  <a:lnTo>
                    <a:pt x="1978" y="1677"/>
                  </a:lnTo>
                  <a:lnTo>
                    <a:pt x="1980" y="1673"/>
                  </a:lnTo>
                  <a:lnTo>
                    <a:pt x="1980" y="1667"/>
                  </a:lnTo>
                  <a:lnTo>
                    <a:pt x="1980" y="1662"/>
                  </a:lnTo>
                  <a:lnTo>
                    <a:pt x="1980" y="1656"/>
                  </a:lnTo>
                  <a:lnTo>
                    <a:pt x="1980" y="1650"/>
                  </a:lnTo>
                  <a:lnTo>
                    <a:pt x="1980" y="1644"/>
                  </a:lnTo>
                  <a:lnTo>
                    <a:pt x="1981" y="1638"/>
                  </a:lnTo>
                  <a:lnTo>
                    <a:pt x="1981" y="1633"/>
                  </a:lnTo>
                  <a:lnTo>
                    <a:pt x="1981" y="1629"/>
                  </a:lnTo>
                  <a:lnTo>
                    <a:pt x="1981" y="1621"/>
                  </a:lnTo>
                  <a:lnTo>
                    <a:pt x="1981" y="1617"/>
                  </a:lnTo>
                  <a:lnTo>
                    <a:pt x="1983" y="1610"/>
                  </a:lnTo>
                  <a:lnTo>
                    <a:pt x="1983" y="1606"/>
                  </a:lnTo>
                  <a:lnTo>
                    <a:pt x="1983" y="1600"/>
                  </a:lnTo>
                  <a:lnTo>
                    <a:pt x="1983" y="1594"/>
                  </a:lnTo>
                  <a:lnTo>
                    <a:pt x="1983" y="1588"/>
                  </a:lnTo>
                  <a:lnTo>
                    <a:pt x="1985" y="1583"/>
                  </a:lnTo>
                  <a:lnTo>
                    <a:pt x="1985" y="1577"/>
                  </a:lnTo>
                  <a:lnTo>
                    <a:pt x="1985" y="1573"/>
                  </a:lnTo>
                  <a:lnTo>
                    <a:pt x="1985" y="1567"/>
                  </a:lnTo>
                  <a:lnTo>
                    <a:pt x="1987" y="1563"/>
                  </a:lnTo>
                  <a:lnTo>
                    <a:pt x="1987" y="1557"/>
                  </a:lnTo>
                  <a:lnTo>
                    <a:pt x="1987" y="1552"/>
                  </a:lnTo>
                  <a:lnTo>
                    <a:pt x="1987" y="1548"/>
                  </a:lnTo>
                  <a:lnTo>
                    <a:pt x="1987" y="1544"/>
                  </a:lnTo>
                  <a:lnTo>
                    <a:pt x="1987" y="1538"/>
                  </a:lnTo>
                  <a:lnTo>
                    <a:pt x="1987" y="1534"/>
                  </a:lnTo>
                  <a:lnTo>
                    <a:pt x="1989" y="1530"/>
                  </a:lnTo>
                  <a:lnTo>
                    <a:pt x="1989" y="1527"/>
                  </a:lnTo>
                  <a:lnTo>
                    <a:pt x="1989" y="1523"/>
                  </a:lnTo>
                  <a:lnTo>
                    <a:pt x="1989" y="1519"/>
                  </a:lnTo>
                  <a:lnTo>
                    <a:pt x="1989" y="1515"/>
                  </a:lnTo>
                  <a:lnTo>
                    <a:pt x="1991" y="1513"/>
                  </a:lnTo>
                  <a:lnTo>
                    <a:pt x="1991" y="1505"/>
                  </a:lnTo>
                  <a:lnTo>
                    <a:pt x="1993" y="1502"/>
                  </a:lnTo>
                  <a:lnTo>
                    <a:pt x="1993" y="1496"/>
                  </a:lnTo>
                  <a:lnTo>
                    <a:pt x="1993" y="1494"/>
                  </a:lnTo>
                  <a:lnTo>
                    <a:pt x="1993" y="1490"/>
                  </a:lnTo>
                  <a:lnTo>
                    <a:pt x="1995" y="1486"/>
                  </a:lnTo>
                  <a:lnTo>
                    <a:pt x="1995" y="1482"/>
                  </a:lnTo>
                  <a:lnTo>
                    <a:pt x="1995" y="1478"/>
                  </a:lnTo>
                  <a:lnTo>
                    <a:pt x="1995" y="1475"/>
                  </a:lnTo>
                  <a:lnTo>
                    <a:pt x="1995" y="1471"/>
                  </a:lnTo>
                  <a:lnTo>
                    <a:pt x="1995" y="1465"/>
                  </a:lnTo>
                  <a:lnTo>
                    <a:pt x="1995" y="1463"/>
                  </a:lnTo>
                  <a:lnTo>
                    <a:pt x="1995" y="1457"/>
                  </a:lnTo>
                  <a:lnTo>
                    <a:pt x="1993" y="1453"/>
                  </a:lnTo>
                  <a:lnTo>
                    <a:pt x="1993" y="1450"/>
                  </a:lnTo>
                  <a:lnTo>
                    <a:pt x="1993" y="1446"/>
                  </a:lnTo>
                  <a:lnTo>
                    <a:pt x="1993" y="1440"/>
                  </a:lnTo>
                  <a:lnTo>
                    <a:pt x="1993" y="1436"/>
                  </a:lnTo>
                  <a:lnTo>
                    <a:pt x="1991" y="1432"/>
                  </a:lnTo>
                  <a:lnTo>
                    <a:pt x="1991" y="1428"/>
                  </a:lnTo>
                  <a:lnTo>
                    <a:pt x="1989" y="1424"/>
                  </a:lnTo>
                  <a:lnTo>
                    <a:pt x="1989" y="1421"/>
                  </a:lnTo>
                  <a:lnTo>
                    <a:pt x="1989" y="1415"/>
                  </a:lnTo>
                  <a:lnTo>
                    <a:pt x="1987" y="1411"/>
                  </a:lnTo>
                  <a:lnTo>
                    <a:pt x="1987" y="1405"/>
                  </a:lnTo>
                  <a:lnTo>
                    <a:pt x="1985" y="1399"/>
                  </a:lnTo>
                  <a:lnTo>
                    <a:pt x="1983" y="1396"/>
                  </a:lnTo>
                  <a:lnTo>
                    <a:pt x="1983" y="1392"/>
                  </a:lnTo>
                  <a:lnTo>
                    <a:pt x="1983" y="1390"/>
                  </a:lnTo>
                  <a:lnTo>
                    <a:pt x="1983" y="1388"/>
                  </a:lnTo>
                  <a:lnTo>
                    <a:pt x="1983" y="1384"/>
                  </a:lnTo>
                  <a:lnTo>
                    <a:pt x="1983" y="1380"/>
                  </a:lnTo>
                  <a:lnTo>
                    <a:pt x="1983" y="1372"/>
                  </a:lnTo>
                  <a:lnTo>
                    <a:pt x="1981" y="1369"/>
                  </a:lnTo>
                  <a:lnTo>
                    <a:pt x="1981" y="1365"/>
                  </a:lnTo>
                  <a:lnTo>
                    <a:pt x="1981" y="1359"/>
                  </a:lnTo>
                  <a:lnTo>
                    <a:pt x="1981" y="1355"/>
                  </a:lnTo>
                  <a:lnTo>
                    <a:pt x="1981" y="1349"/>
                  </a:lnTo>
                  <a:lnTo>
                    <a:pt x="1981" y="1343"/>
                  </a:lnTo>
                  <a:lnTo>
                    <a:pt x="1980" y="1336"/>
                  </a:lnTo>
                  <a:lnTo>
                    <a:pt x="1980" y="1330"/>
                  </a:lnTo>
                  <a:lnTo>
                    <a:pt x="1980" y="1324"/>
                  </a:lnTo>
                  <a:lnTo>
                    <a:pt x="1980" y="1316"/>
                  </a:lnTo>
                  <a:lnTo>
                    <a:pt x="1978" y="1309"/>
                  </a:lnTo>
                  <a:lnTo>
                    <a:pt x="1978" y="1301"/>
                  </a:lnTo>
                  <a:lnTo>
                    <a:pt x="1976" y="1293"/>
                  </a:lnTo>
                  <a:lnTo>
                    <a:pt x="1976" y="1286"/>
                  </a:lnTo>
                  <a:lnTo>
                    <a:pt x="1974" y="1278"/>
                  </a:lnTo>
                  <a:lnTo>
                    <a:pt x="1974" y="1268"/>
                  </a:lnTo>
                  <a:lnTo>
                    <a:pt x="1972" y="1261"/>
                  </a:lnTo>
                  <a:lnTo>
                    <a:pt x="1970" y="1251"/>
                  </a:lnTo>
                  <a:lnTo>
                    <a:pt x="1970" y="1241"/>
                  </a:lnTo>
                  <a:lnTo>
                    <a:pt x="1968" y="1234"/>
                  </a:lnTo>
                  <a:lnTo>
                    <a:pt x="1966" y="1224"/>
                  </a:lnTo>
                  <a:lnTo>
                    <a:pt x="1966" y="1214"/>
                  </a:lnTo>
                  <a:lnTo>
                    <a:pt x="1964" y="1205"/>
                  </a:lnTo>
                  <a:lnTo>
                    <a:pt x="1962" y="1195"/>
                  </a:lnTo>
                  <a:lnTo>
                    <a:pt x="1960" y="1185"/>
                  </a:lnTo>
                  <a:lnTo>
                    <a:pt x="1958" y="1174"/>
                  </a:lnTo>
                  <a:lnTo>
                    <a:pt x="1956" y="1164"/>
                  </a:lnTo>
                  <a:lnTo>
                    <a:pt x="1954" y="1155"/>
                  </a:lnTo>
                  <a:lnTo>
                    <a:pt x="1953" y="1145"/>
                  </a:lnTo>
                  <a:lnTo>
                    <a:pt x="1951" y="1135"/>
                  </a:lnTo>
                  <a:lnTo>
                    <a:pt x="1947" y="1124"/>
                  </a:lnTo>
                  <a:lnTo>
                    <a:pt x="1945" y="1114"/>
                  </a:lnTo>
                  <a:lnTo>
                    <a:pt x="1943" y="1104"/>
                  </a:lnTo>
                  <a:lnTo>
                    <a:pt x="1939" y="1093"/>
                  </a:lnTo>
                  <a:lnTo>
                    <a:pt x="1937" y="1083"/>
                  </a:lnTo>
                  <a:lnTo>
                    <a:pt x="1933" y="1074"/>
                  </a:lnTo>
                  <a:lnTo>
                    <a:pt x="1931" y="1064"/>
                  </a:lnTo>
                  <a:lnTo>
                    <a:pt x="1927" y="1054"/>
                  </a:lnTo>
                  <a:lnTo>
                    <a:pt x="1924" y="1045"/>
                  </a:lnTo>
                  <a:lnTo>
                    <a:pt x="1922" y="1035"/>
                  </a:lnTo>
                  <a:lnTo>
                    <a:pt x="1918" y="1025"/>
                  </a:lnTo>
                  <a:lnTo>
                    <a:pt x="1914" y="1016"/>
                  </a:lnTo>
                  <a:lnTo>
                    <a:pt x="1908" y="1006"/>
                  </a:lnTo>
                  <a:lnTo>
                    <a:pt x="1906" y="996"/>
                  </a:lnTo>
                  <a:lnTo>
                    <a:pt x="1901" y="987"/>
                  </a:lnTo>
                  <a:lnTo>
                    <a:pt x="1897" y="977"/>
                  </a:lnTo>
                  <a:lnTo>
                    <a:pt x="1891" y="969"/>
                  </a:lnTo>
                  <a:lnTo>
                    <a:pt x="1887" y="962"/>
                  </a:lnTo>
                  <a:lnTo>
                    <a:pt x="1881" y="952"/>
                  </a:lnTo>
                  <a:lnTo>
                    <a:pt x="1877" y="944"/>
                  </a:lnTo>
                  <a:lnTo>
                    <a:pt x="1872" y="937"/>
                  </a:lnTo>
                  <a:lnTo>
                    <a:pt x="1868" y="931"/>
                  </a:lnTo>
                  <a:lnTo>
                    <a:pt x="1862" y="923"/>
                  </a:lnTo>
                  <a:lnTo>
                    <a:pt x="1856" y="915"/>
                  </a:lnTo>
                  <a:lnTo>
                    <a:pt x="1850" y="910"/>
                  </a:lnTo>
                  <a:lnTo>
                    <a:pt x="1845" y="904"/>
                  </a:lnTo>
                  <a:lnTo>
                    <a:pt x="1845" y="902"/>
                  </a:lnTo>
                  <a:lnTo>
                    <a:pt x="1848" y="896"/>
                  </a:lnTo>
                  <a:lnTo>
                    <a:pt x="1850" y="892"/>
                  </a:lnTo>
                  <a:lnTo>
                    <a:pt x="1852" y="888"/>
                  </a:lnTo>
                  <a:lnTo>
                    <a:pt x="1856" y="883"/>
                  </a:lnTo>
                  <a:lnTo>
                    <a:pt x="1858" y="877"/>
                  </a:lnTo>
                  <a:lnTo>
                    <a:pt x="1860" y="871"/>
                  </a:lnTo>
                  <a:lnTo>
                    <a:pt x="1862" y="867"/>
                  </a:lnTo>
                  <a:lnTo>
                    <a:pt x="1862" y="863"/>
                  </a:lnTo>
                  <a:lnTo>
                    <a:pt x="1864" y="859"/>
                  </a:lnTo>
                  <a:lnTo>
                    <a:pt x="1864" y="856"/>
                  </a:lnTo>
                  <a:lnTo>
                    <a:pt x="1866" y="852"/>
                  </a:lnTo>
                  <a:lnTo>
                    <a:pt x="1868" y="846"/>
                  </a:lnTo>
                  <a:lnTo>
                    <a:pt x="1868" y="842"/>
                  </a:lnTo>
                  <a:lnTo>
                    <a:pt x="1868" y="836"/>
                  </a:lnTo>
                  <a:lnTo>
                    <a:pt x="1870" y="833"/>
                  </a:lnTo>
                  <a:lnTo>
                    <a:pt x="1870" y="827"/>
                  </a:lnTo>
                  <a:lnTo>
                    <a:pt x="1870" y="821"/>
                  </a:lnTo>
                  <a:lnTo>
                    <a:pt x="1870" y="815"/>
                  </a:lnTo>
                  <a:lnTo>
                    <a:pt x="1870" y="809"/>
                  </a:lnTo>
                  <a:lnTo>
                    <a:pt x="1870" y="804"/>
                  </a:lnTo>
                  <a:lnTo>
                    <a:pt x="1872" y="798"/>
                  </a:lnTo>
                  <a:lnTo>
                    <a:pt x="1870" y="790"/>
                  </a:lnTo>
                  <a:lnTo>
                    <a:pt x="1870" y="784"/>
                  </a:lnTo>
                  <a:lnTo>
                    <a:pt x="1868" y="779"/>
                  </a:lnTo>
                  <a:lnTo>
                    <a:pt x="1868" y="773"/>
                  </a:lnTo>
                  <a:lnTo>
                    <a:pt x="1864" y="767"/>
                  </a:lnTo>
                  <a:lnTo>
                    <a:pt x="1864" y="761"/>
                  </a:lnTo>
                  <a:lnTo>
                    <a:pt x="1862" y="755"/>
                  </a:lnTo>
                  <a:lnTo>
                    <a:pt x="1860" y="752"/>
                  </a:lnTo>
                  <a:lnTo>
                    <a:pt x="1856" y="746"/>
                  </a:lnTo>
                  <a:lnTo>
                    <a:pt x="1854" y="742"/>
                  </a:lnTo>
                  <a:lnTo>
                    <a:pt x="1852" y="736"/>
                  </a:lnTo>
                  <a:lnTo>
                    <a:pt x="1850" y="734"/>
                  </a:lnTo>
                  <a:lnTo>
                    <a:pt x="1847" y="728"/>
                  </a:lnTo>
                  <a:lnTo>
                    <a:pt x="1845" y="725"/>
                  </a:lnTo>
                  <a:lnTo>
                    <a:pt x="1843" y="723"/>
                  </a:lnTo>
                  <a:lnTo>
                    <a:pt x="1841" y="719"/>
                  </a:lnTo>
                  <a:lnTo>
                    <a:pt x="1835" y="711"/>
                  </a:lnTo>
                  <a:lnTo>
                    <a:pt x="1829" y="707"/>
                  </a:lnTo>
                  <a:lnTo>
                    <a:pt x="1825" y="701"/>
                  </a:lnTo>
                  <a:lnTo>
                    <a:pt x="1821" y="699"/>
                  </a:lnTo>
                  <a:lnTo>
                    <a:pt x="1814" y="694"/>
                  </a:lnTo>
                  <a:lnTo>
                    <a:pt x="1814" y="692"/>
                  </a:lnTo>
                  <a:lnTo>
                    <a:pt x="1802" y="632"/>
                  </a:lnTo>
                  <a:lnTo>
                    <a:pt x="1804" y="630"/>
                  </a:lnTo>
                  <a:lnTo>
                    <a:pt x="1808" y="624"/>
                  </a:lnTo>
                  <a:lnTo>
                    <a:pt x="1812" y="620"/>
                  </a:lnTo>
                  <a:lnTo>
                    <a:pt x="1814" y="617"/>
                  </a:lnTo>
                  <a:lnTo>
                    <a:pt x="1818" y="611"/>
                  </a:lnTo>
                  <a:lnTo>
                    <a:pt x="1821" y="605"/>
                  </a:lnTo>
                  <a:lnTo>
                    <a:pt x="1825" y="599"/>
                  </a:lnTo>
                  <a:lnTo>
                    <a:pt x="1827" y="593"/>
                  </a:lnTo>
                  <a:lnTo>
                    <a:pt x="1831" y="588"/>
                  </a:lnTo>
                  <a:lnTo>
                    <a:pt x="1835" y="582"/>
                  </a:lnTo>
                  <a:lnTo>
                    <a:pt x="1837" y="574"/>
                  </a:lnTo>
                  <a:lnTo>
                    <a:pt x="1839" y="570"/>
                  </a:lnTo>
                  <a:lnTo>
                    <a:pt x="1841" y="564"/>
                  </a:lnTo>
                  <a:lnTo>
                    <a:pt x="1841" y="561"/>
                  </a:lnTo>
                  <a:lnTo>
                    <a:pt x="1841" y="555"/>
                  </a:lnTo>
                  <a:lnTo>
                    <a:pt x="1839" y="547"/>
                  </a:lnTo>
                  <a:lnTo>
                    <a:pt x="1839" y="539"/>
                  </a:lnTo>
                  <a:lnTo>
                    <a:pt x="1837" y="534"/>
                  </a:lnTo>
                  <a:lnTo>
                    <a:pt x="1835" y="530"/>
                  </a:lnTo>
                  <a:lnTo>
                    <a:pt x="1835" y="526"/>
                  </a:lnTo>
                  <a:lnTo>
                    <a:pt x="1833" y="520"/>
                  </a:lnTo>
                  <a:lnTo>
                    <a:pt x="1833" y="518"/>
                  </a:lnTo>
                  <a:lnTo>
                    <a:pt x="1831" y="512"/>
                  </a:lnTo>
                  <a:lnTo>
                    <a:pt x="1829" y="511"/>
                  </a:lnTo>
                  <a:lnTo>
                    <a:pt x="1827" y="505"/>
                  </a:lnTo>
                  <a:lnTo>
                    <a:pt x="1827" y="501"/>
                  </a:lnTo>
                  <a:lnTo>
                    <a:pt x="1825" y="497"/>
                  </a:lnTo>
                  <a:lnTo>
                    <a:pt x="1821" y="493"/>
                  </a:lnTo>
                  <a:lnTo>
                    <a:pt x="1820" y="489"/>
                  </a:lnTo>
                  <a:lnTo>
                    <a:pt x="1818" y="485"/>
                  </a:lnTo>
                  <a:lnTo>
                    <a:pt x="1814" y="478"/>
                  </a:lnTo>
                  <a:lnTo>
                    <a:pt x="1808" y="472"/>
                  </a:lnTo>
                  <a:lnTo>
                    <a:pt x="1802" y="466"/>
                  </a:lnTo>
                  <a:lnTo>
                    <a:pt x="1796" y="462"/>
                  </a:lnTo>
                  <a:lnTo>
                    <a:pt x="1789" y="458"/>
                  </a:lnTo>
                  <a:lnTo>
                    <a:pt x="1783" y="457"/>
                  </a:lnTo>
                  <a:lnTo>
                    <a:pt x="1783" y="457"/>
                  </a:lnTo>
                  <a:lnTo>
                    <a:pt x="1783" y="455"/>
                  </a:lnTo>
                  <a:lnTo>
                    <a:pt x="1781" y="451"/>
                  </a:lnTo>
                  <a:lnTo>
                    <a:pt x="1781" y="447"/>
                  </a:lnTo>
                  <a:lnTo>
                    <a:pt x="1779" y="441"/>
                  </a:lnTo>
                  <a:lnTo>
                    <a:pt x="1779" y="435"/>
                  </a:lnTo>
                  <a:lnTo>
                    <a:pt x="1777" y="428"/>
                  </a:lnTo>
                  <a:lnTo>
                    <a:pt x="1777" y="422"/>
                  </a:lnTo>
                  <a:lnTo>
                    <a:pt x="1775" y="418"/>
                  </a:lnTo>
                  <a:lnTo>
                    <a:pt x="1775" y="414"/>
                  </a:lnTo>
                  <a:lnTo>
                    <a:pt x="1775" y="408"/>
                  </a:lnTo>
                  <a:lnTo>
                    <a:pt x="1773" y="406"/>
                  </a:lnTo>
                  <a:lnTo>
                    <a:pt x="1771" y="397"/>
                  </a:lnTo>
                  <a:lnTo>
                    <a:pt x="1769" y="391"/>
                  </a:lnTo>
                  <a:lnTo>
                    <a:pt x="1769" y="387"/>
                  </a:lnTo>
                  <a:lnTo>
                    <a:pt x="1768" y="381"/>
                  </a:lnTo>
                  <a:lnTo>
                    <a:pt x="1766" y="377"/>
                  </a:lnTo>
                  <a:lnTo>
                    <a:pt x="1766" y="376"/>
                  </a:lnTo>
                  <a:lnTo>
                    <a:pt x="1764" y="368"/>
                  </a:lnTo>
                  <a:lnTo>
                    <a:pt x="1762" y="362"/>
                  </a:lnTo>
                  <a:lnTo>
                    <a:pt x="1756" y="356"/>
                  </a:lnTo>
                  <a:lnTo>
                    <a:pt x="1752" y="350"/>
                  </a:lnTo>
                  <a:lnTo>
                    <a:pt x="1746" y="345"/>
                  </a:lnTo>
                  <a:lnTo>
                    <a:pt x="1741" y="339"/>
                  </a:lnTo>
                  <a:lnTo>
                    <a:pt x="1733" y="333"/>
                  </a:lnTo>
                  <a:lnTo>
                    <a:pt x="1727" y="329"/>
                  </a:lnTo>
                  <a:lnTo>
                    <a:pt x="1719" y="325"/>
                  </a:lnTo>
                  <a:lnTo>
                    <a:pt x="1714" y="322"/>
                  </a:lnTo>
                  <a:lnTo>
                    <a:pt x="1706" y="318"/>
                  </a:lnTo>
                  <a:lnTo>
                    <a:pt x="1700" y="314"/>
                  </a:lnTo>
                  <a:lnTo>
                    <a:pt x="1694" y="310"/>
                  </a:lnTo>
                  <a:lnTo>
                    <a:pt x="1690" y="308"/>
                  </a:lnTo>
                  <a:lnTo>
                    <a:pt x="1685" y="306"/>
                  </a:lnTo>
                  <a:lnTo>
                    <a:pt x="1683" y="304"/>
                  </a:lnTo>
                  <a:lnTo>
                    <a:pt x="1681" y="304"/>
                  </a:lnTo>
                  <a:lnTo>
                    <a:pt x="1677" y="302"/>
                  </a:lnTo>
                  <a:lnTo>
                    <a:pt x="1673" y="296"/>
                  </a:lnTo>
                  <a:lnTo>
                    <a:pt x="1669" y="291"/>
                  </a:lnTo>
                  <a:lnTo>
                    <a:pt x="1667" y="289"/>
                  </a:lnTo>
                  <a:lnTo>
                    <a:pt x="1662" y="283"/>
                  </a:lnTo>
                  <a:lnTo>
                    <a:pt x="1658" y="279"/>
                  </a:lnTo>
                  <a:lnTo>
                    <a:pt x="1654" y="273"/>
                  </a:lnTo>
                  <a:lnTo>
                    <a:pt x="1650" y="268"/>
                  </a:lnTo>
                  <a:lnTo>
                    <a:pt x="1644" y="264"/>
                  </a:lnTo>
                  <a:lnTo>
                    <a:pt x="1640" y="260"/>
                  </a:lnTo>
                  <a:lnTo>
                    <a:pt x="1636" y="254"/>
                  </a:lnTo>
                  <a:lnTo>
                    <a:pt x="1633" y="252"/>
                  </a:lnTo>
                  <a:lnTo>
                    <a:pt x="1631" y="248"/>
                  </a:lnTo>
                  <a:lnTo>
                    <a:pt x="1629" y="248"/>
                  </a:lnTo>
                  <a:lnTo>
                    <a:pt x="1625" y="246"/>
                  </a:lnTo>
                  <a:lnTo>
                    <a:pt x="1621" y="246"/>
                  </a:lnTo>
                  <a:lnTo>
                    <a:pt x="1615" y="246"/>
                  </a:lnTo>
                  <a:lnTo>
                    <a:pt x="1611" y="248"/>
                  </a:lnTo>
                  <a:lnTo>
                    <a:pt x="1604" y="248"/>
                  </a:lnTo>
                  <a:lnTo>
                    <a:pt x="1598" y="250"/>
                  </a:lnTo>
                  <a:lnTo>
                    <a:pt x="1592" y="252"/>
                  </a:lnTo>
                  <a:lnTo>
                    <a:pt x="1584" y="254"/>
                  </a:lnTo>
                  <a:lnTo>
                    <a:pt x="1579" y="254"/>
                  </a:lnTo>
                  <a:lnTo>
                    <a:pt x="1573" y="258"/>
                  </a:lnTo>
                  <a:lnTo>
                    <a:pt x="1567" y="258"/>
                  </a:lnTo>
                  <a:lnTo>
                    <a:pt x="1563" y="260"/>
                  </a:lnTo>
                  <a:lnTo>
                    <a:pt x="1559" y="262"/>
                  </a:lnTo>
                  <a:lnTo>
                    <a:pt x="1555" y="264"/>
                  </a:lnTo>
                  <a:lnTo>
                    <a:pt x="1554" y="264"/>
                  </a:lnTo>
                  <a:lnTo>
                    <a:pt x="1554" y="264"/>
                  </a:lnTo>
                  <a:lnTo>
                    <a:pt x="1552" y="264"/>
                  </a:lnTo>
                  <a:lnTo>
                    <a:pt x="1548" y="262"/>
                  </a:lnTo>
                  <a:lnTo>
                    <a:pt x="1546" y="260"/>
                  </a:lnTo>
                  <a:lnTo>
                    <a:pt x="1542" y="260"/>
                  </a:lnTo>
                  <a:lnTo>
                    <a:pt x="1538" y="258"/>
                  </a:lnTo>
                  <a:lnTo>
                    <a:pt x="1534" y="258"/>
                  </a:lnTo>
                  <a:lnTo>
                    <a:pt x="1530" y="254"/>
                  </a:lnTo>
                  <a:lnTo>
                    <a:pt x="1525" y="254"/>
                  </a:lnTo>
                  <a:lnTo>
                    <a:pt x="1519" y="252"/>
                  </a:lnTo>
                  <a:lnTo>
                    <a:pt x="1513" y="250"/>
                  </a:lnTo>
                  <a:lnTo>
                    <a:pt x="1507" y="248"/>
                  </a:lnTo>
                  <a:lnTo>
                    <a:pt x="1502" y="246"/>
                  </a:lnTo>
                  <a:lnTo>
                    <a:pt x="1496" y="246"/>
                  </a:lnTo>
                  <a:lnTo>
                    <a:pt x="1490" y="244"/>
                  </a:lnTo>
                  <a:lnTo>
                    <a:pt x="1482" y="243"/>
                  </a:lnTo>
                  <a:lnTo>
                    <a:pt x="1475" y="241"/>
                  </a:lnTo>
                  <a:lnTo>
                    <a:pt x="1469" y="241"/>
                  </a:lnTo>
                  <a:lnTo>
                    <a:pt x="1461" y="239"/>
                  </a:lnTo>
                  <a:lnTo>
                    <a:pt x="1453" y="237"/>
                  </a:lnTo>
                  <a:lnTo>
                    <a:pt x="1448" y="237"/>
                  </a:lnTo>
                  <a:lnTo>
                    <a:pt x="1440" y="237"/>
                  </a:lnTo>
                  <a:lnTo>
                    <a:pt x="1434" y="237"/>
                  </a:lnTo>
                  <a:lnTo>
                    <a:pt x="1426" y="237"/>
                  </a:lnTo>
                  <a:lnTo>
                    <a:pt x="1421" y="237"/>
                  </a:lnTo>
                  <a:lnTo>
                    <a:pt x="1413" y="237"/>
                  </a:lnTo>
                  <a:lnTo>
                    <a:pt x="1407" y="239"/>
                  </a:lnTo>
                  <a:lnTo>
                    <a:pt x="1401" y="239"/>
                  </a:lnTo>
                  <a:lnTo>
                    <a:pt x="1396" y="241"/>
                  </a:lnTo>
                  <a:lnTo>
                    <a:pt x="1390" y="243"/>
                  </a:lnTo>
                  <a:lnTo>
                    <a:pt x="1384" y="246"/>
                  </a:lnTo>
                  <a:lnTo>
                    <a:pt x="1384" y="244"/>
                  </a:lnTo>
                  <a:lnTo>
                    <a:pt x="1382" y="239"/>
                  </a:lnTo>
                  <a:lnTo>
                    <a:pt x="1382" y="235"/>
                  </a:lnTo>
                  <a:lnTo>
                    <a:pt x="1380" y="229"/>
                  </a:lnTo>
                  <a:lnTo>
                    <a:pt x="1378" y="225"/>
                  </a:lnTo>
                  <a:lnTo>
                    <a:pt x="1378" y="219"/>
                  </a:lnTo>
                  <a:lnTo>
                    <a:pt x="1376" y="214"/>
                  </a:lnTo>
                  <a:lnTo>
                    <a:pt x="1374" y="208"/>
                  </a:lnTo>
                  <a:lnTo>
                    <a:pt x="1374" y="198"/>
                  </a:lnTo>
                  <a:lnTo>
                    <a:pt x="1372" y="192"/>
                  </a:lnTo>
                  <a:lnTo>
                    <a:pt x="1370" y="187"/>
                  </a:lnTo>
                  <a:lnTo>
                    <a:pt x="1370" y="185"/>
                  </a:lnTo>
                  <a:lnTo>
                    <a:pt x="1369" y="179"/>
                  </a:lnTo>
                  <a:lnTo>
                    <a:pt x="1369" y="175"/>
                  </a:lnTo>
                  <a:lnTo>
                    <a:pt x="1367" y="171"/>
                  </a:lnTo>
                  <a:lnTo>
                    <a:pt x="1365" y="167"/>
                  </a:lnTo>
                  <a:lnTo>
                    <a:pt x="1365" y="163"/>
                  </a:lnTo>
                  <a:lnTo>
                    <a:pt x="1363" y="160"/>
                  </a:lnTo>
                  <a:lnTo>
                    <a:pt x="1361" y="154"/>
                  </a:lnTo>
                  <a:lnTo>
                    <a:pt x="1359" y="150"/>
                  </a:lnTo>
                  <a:lnTo>
                    <a:pt x="1359" y="146"/>
                  </a:lnTo>
                  <a:lnTo>
                    <a:pt x="1357" y="142"/>
                  </a:lnTo>
                  <a:lnTo>
                    <a:pt x="1355" y="136"/>
                  </a:lnTo>
                  <a:lnTo>
                    <a:pt x="1355" y="133"/>
                  </a:lnTo>
                  <a:lnTo>
                    <a:pt x="1353" y="129"/>
                  </a:lnTo>
                  <a:lnTo>
                    <a:pt x="1351" y="125"/>
                  </a:lnTo>
                  <a:lnTo>
                    <a:pt x="1349" y="119"/>
                  </a:lnTo>
                  <a:lnTo>
                    <a:pt x="1349" y="115"/>
                  </a:lnTo>
                  <a:lnTo>
                    <a:pt x="1347" y="111"/>
                  </a:lnTo>
                  <a:lnTo>
                    <a:pt x="1345" y="108"/>
                  </a:lnTo>
                  <a:lnTo>
                    <a:pt x="1343" y="104"/>
                  </a:lnTo>
                  <a:lnTo>
                    <a:pt x="1342" y="100"/>
                  </a:lnTo>
                  <a:lnTo>
                    <a:pt x="1340" y="96"/>
                  </a:lnTo>
                  <a:lnTo>
                    <a:pt x="1340" y="92"/>
                  </a:lnTo>
                  <a:lnTo>
                    <a:pt x="1338" y="88"/>
                  </a:lnTo>
                  <a:lnTo>
                    <a:pt x="1336" y="84"/>
                  </a:lnTo>
                  <a:lnTo>
                    <a:pt x="1334" y="81"/>
                  </a:lnTo>
                  <a:lnTo>
                    <a:pt x="1332" y="77"/>
                  </a:lnTo>
                  <a:lnTo>
                    <a:pt x="1328" y="69"/>
                  </a:lnTo>
                  <a:lnTo>
                    <a:pt x="1324" y="63"/>
                  </a:lnTo>
                  <a:lnTo>
                    <a:pt x="1320" y="57"/>
                  </a:lnTo>
                  <a:lnTo>
                    <a:pt x="1318" y="54"/>
                  </a:lnTo>
                  <a:lnTo>
                    <a:pt x="1315" y="48"/>
                  </a:lnTo>
                  <a:lnTo>
                    <a:pt x="1311" y="44"/>
                  </a:lnTo>
                  <a:lnTo>
                    <a:pt x="1307" y="40"/>
                  </a:lnTo>
                  <a:lnTo>
                    <a:pt x="1301" y="36"/>
                  </a:lnTo>
                  <a:lnTo>
                    <a:pt x="1297" y="32"/>
                  </a:lnTo>
                  <a:lnTo>
                    <a:pt x="1293" y="30"/>
                  </a:lnTo>
                  <a:lnTo>
                    <a:pt x="1288" y="27"/>
                  </a:lnTo>
                  <a:lnTo>
                    <a:pt x="1284" y="25"/>
                  </a:lnTo>
                  <a:lnTo>
                    <a:pt x="1280" y="21"/>
                  </a:lnTo>
                  <a:lnTo>
                    <a:pt x="1276" y="19"/>
                  </a:lnTo>
                  <a:lnTo>
                    <a:pt x="1270" y="17"/>
                  </a:lnTo>
                  <a:lnTo>
                    <a:pt x="1266" y="13"/>
                  </a:lnTo>
                  <a:lnTo>
                    <a:pt x="1261" y="11"/>
                  </a:lnTo>
                  <a:lnTo>
                    <a:pt x="1257" y="11"/>
                  </a:lnTo>
                  <a:lnTo>
                    <a:pt x="1251" y="7"/>
                  </a:lnTo>
                  <a:lnTo>
                    <a:pt x="1247" y="7"/>
                  </a:lnTo>
                  <a:lnTo>
                    <a:pt x="1243" y="5"/>
                  </a:lnTo>
                  <a:lnTo>
                    <a:pt x="1239" y="5"/>
                  </a:lnTo>
                  <a:lnTo>
                    <a:pt x="1234" y="1"/>
                  </a:lnTo>
                  <a:lnTo>
                    <a:pt x="1230" y="1"/>
                  </a:lnTo>
                  <a:lnTo>
                    <a:pt x="1224" y="0"/>
                  </a:lnTo>
                  <a:lnTo>
                    <a:pt x="1220" y="0"/>
                  </a:lnTo>
                  <a:lnTo>
                    <a:pt x="1216" y="0"/>
                  </a:lnTo>
                  <a:lnTo>
                    <a:pt x="1212" y="0"/>
                  </a:lnTo>
                  <a:lnTo>
                    <a:pt x="1209" y="0"/>
                  </a:lnTo>
                  <a:lnTo>
                    <a:pt x="1205" y="0"/>
                  </a:lnTo>
                  <a:lnTo>
                    <a:pt x="1201" y="0"/>
                  </a:lnTo>
                  <a:lnTo>
                    <a:pt x="1195" y="0"/>
                  </a:lnTo>
                  <a:lnTo>
                    <a:pt x="1193" y="0"/>
                  </a:lnTo>
                  <a:lnTo>
                    <a:pt x="1189" y="0"/>
                  </a:lnTo>
                  <a:lnTo>
                    <a:pt x="1183" y="1"/>
                  </a:lnTo>
                  <a:lnTo>
                    <a:pt x="1178" y="5"/>
                  </a:lnTo>
                  <a:lnTo>
                    <a:pt x="1172" y="7"/>
                  </a:lnTo>
                  <a:lnTo>
                    <a:pt x="1166" y="11"/>
                  </a:lnTo>
                  <a:lnTo>
                    <a:pt x="1160" y="15"/>
                  </a:lnTo>
                  <a:lnTo>
                    <a:pt x="1156" y="19"/>
                  </a:lnTo>
                  <a:lnTo>
                    <a:pt x="1151" y="23"/>
                  </a:lnTo>
                  <a:lnTo>
                    <a:pt x="1147" y="28"/>
                  </a:lnTo>
                  <a:lnTo>
                    <a:pt x="1141" y="32"/>
                  </a:lnTo>
                  <a:lnTo>
                    <a:pt x="1139" y="38"/>
                  </a:lnTo>
                  <a:lnTo>
                    <a:pt x="1133" y="42"/>
                  </a:lnTo>
                  <a:lnTo>
                    <a:pt x="1131" y="46"/>
                  </a:lnTo>
                  <a:lnTo>
                    <a:pt x="1128" y="50"/>
                  </a:lnTo>
                  <a:lnTo>
                    <a:pt x="1126" y="54"/>
                  </a:lnTo>
                  <a:lnTo>
                    <a:pt x="1122" y="59"/>
                  </a:lnTo>
                  <a:lnTo>
                    <a:pt x="1122" y="61"/>
                  </a:lnTo>
                  <a:lnTo>
                    <a:pt x="1120" y="61"/>
                  </a:lnTo>
                  <a:lnTo>
                    <a:pt x="1118" y="59"/>
                  </a:lnTo>
                  <a:lnTo>
                    <a:pt x="1112" y="57"/>
                  </a:lnTo>
                  <a:lnTo>
                    <a:pt x="1106" y="57"/>
                  </a:lnTo>
                  <a:lnTo>
                    <a:pt x="1103" y="55"/>
                  </a:lnTo>
                  <a:lnTo>
                    <a:pt x="1099" y="55"/>
                  </a:lnTo>
                  <a:lnTo>
                    <a:pt x="1095" y="54"/>
                  </a:lnTo>
                  <a:lnTo>
                    <a:pt x="1089" y="54"/>
                  </a:lnTo>
                  <a:lnTo>
                    <a:pt x="1085" y="52"/>
                  </a:lnTo>
                  <a:lnTo>
                    <a:pt x="1081" y="52"/>
                  </a:lnTo>
                  <a:lnTo>
                    <a:pt x="1076" y="50"/>
                  </a:lnTo>
                  <a:lnTo>
                    <a:pt x="1072" y="50"/>
                  </a:lnTo>
                  <a:lnTo>
                    <a:pt x="1066" y="48"/>
                  </a:lnTo>
                  <a:lnTo>
                    <a:pt x="1060" y="48"/>
                  </a:lnTo>
                  <a:lnTo>
                    <a:pt x="1054" y="46"/>
                  </a:lnTo>
                  <a:lnTo>
                    <a:pt x="1050" y="46"/>
                  </a:lnTo>
                  <a:lnTo>
                    <a:pt x="1045" y="44"/>
                  </a:lnTo>
                  <a:lnTo>
                    <a:pt x="1039" y="44"/>
                  </a:lnTo>
                  <a:lnTo>
                    <a:pt x="1033" y="44"/>
                  </a:lnTo>
                  <a:lnTo>
                    <a:pt x="1029" y="44"/>
                  </a:lnTo>
                  <a:lnTo>
                    <a:pt x="1025" y="42"/>
                  </a:lnTo>
                  <a:lnTo>
                    <a:pt x="1020" y="42"/>
                  </a:lnTo>
                  <a:lnTo>
                    <a:pt x="1016" y="42"/>
                  </a:lnTo>
                  <a:lnTo>
                    <a:pt x="1012" y="42"/>
                  </a:lnTo>
                  <a:lnTo>
                    <a:pt x="1008" y="42"/>
                  </a:lnTo>
                  <a:lnTo>
                    <a:pt x="1004" y="42"/>
                  </a:lnTo>
                  <a:lnTo>
                    <a:pt x="1002" y="44"/>
                  </a:lnTo>
                  <a:lnTo>
                    <a:pt x="1000" y="44"/>
                  </a:lnTo>
                  <a:lnTo>
                    <a:pt x="993" y="46"/>
                  </a:lnTo>
                  <a:lnTo>
                    <a:pt x="987" y="48"/>
                  </a:lnTo>
                  <a:lnTo>
                    <a:pt x="981" y="50"/>
                  </a:lnTo>
                  <a:lnTo>
                    <a:pt x="975" y="52"/>
                  </a:lnTo>
                  <a:lnTo>
                    <a:pt x="970" y="54"/>
                  </a:lnTo>
                  <a:lnTo>
                    <a:pt x="964" y="57"/>
                  </a:lnTo>
                  <a:lnTo>
                    <a:pt x="958" y="59"/>
                  </a:lnTo>
                  <a:lnTo>
                    <a:pt x="954" y="63"/>
                  </a:lnTo>
                  <a:lnTo>
                    <a:pt x="948" y="67"/>
                  </a:lnTo>
                  <a:lnTo>
                    <a:pt x="943" y="73"/>
                  </a:lnTo>
                  <a:lnTo>
                    <a:pt x="939" y="77"/>
                  </a:lnTo>
                  <a:lnTo>
                    <a:pt x="935" y="84"/>
                  </a:lnTo>
                  <a:lnTo>
                    <a:pt x="931" y="90"/>
                  </a:lnTo>
                  <a:lnTo>
                    <a:pt x="929" y="96"/>
                  </a:lnTo>
                  <a:lnTo>
                    <a:pt x="927" y="100"/>
                  </a:lnTo>
                  <a:lnTo>
                    <a:pt x="925" y="104"/>
                  </a:lnTo>
                  <a:lnTo>
                    <a:pt x="925" y="108"/>
                  </a:lnTo>
                  <a:lnTo>
                    <a:pt x="925" y="111"/>
                  </a:lnTo>
                  <a:lnTo>
                    <a:pt x="923" y="115"/>
                  </a:lnTo>
                  <a:lnTo>
                    <a:pt x="923" y="119"/>
                  </a:lnTo>
                  <a:lnTo>
                    <a:pt x="923" y="123"/>
                  </a:lnTo>
                  <a:lnTo>
                    <a:pt x="923" y="127"/>
                  </a:lnTo>
                  <a:lnTo>
                    <a:pt x="923" y="131"/>
                  </a:lnTo>
                  <a:lnTo>
                    <a:pt x="925" y="135"/>
                  </a:lnTo>
                  <a:lnTo>
                    <a:pt x="925" y="140"/>
                  </a:lnTo>
                  <a:lnTo>
                    <a:pt x="927" y="144"/>
                  </a:lnTo>
                  <a:lnTo>
                    <a:pt x="929" y="148"/>
                  </a:lnTo>
                  <a:lnTo>
                    <a:pt x="931" y="152"/>
                  </a:lnTo>
                  <a:lnTo>
                    <a:pt x="933" y="156"/>
                  </a:lnTo>
                  <a:lnTo>
                    <a:pt x="935" y="160"/>
                  </a:lnTo>
                  <a:lnTo>
                    <a:pt x="939" y="167"/>
                  </a:lnTo>
                  <a:lnTo>
                    <a:pt x="944" y="175"/>
                  </a:lnTo>
                  <a:lnTo>
                    <a:pt x="950" y="181"/>
                  </a:lnTo>
                  <a:lnTo>
                    <a:pt x="954" y="187"/>
                  </a:lnTo>
                  <a:lnTo>
                    <a:pt x="958" y="192"/>
                  </a:lnTo>
                  <a:lnTo>
                    <a:pt x="964" y="196"/>
                  </a:lnTo>
                  <a:lnTo>
                    <a:pt x="966" y="200"/>
                  </a:lnTo>
                  <a:lnTo>
                    <a:pt x="970" y="204"/>
                  </a:lnTo>
                  <a:lnTo>
                    <a:pt x="971" y="204"/>
                  </a:lnTo>
                  <a:lnTo>
                    <a:pt x="973" y="206"/>
                  </a:lnTo>
                  <a:lnTo>
                    <a:pt x="973" y="206"/>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5425920" y="4960800"/>
              <a:ext cx="865440" cy="900360"/>
            </a:xfrm>
            <a:custGeom>
              <a:avLst/>
              <a:gdLst/>
              <a:ahLst/>
              <a:rect l="l" t="t" r="r" b="b"/>
              <a:pathLst>
                <a:path w="545" h="567">
                  <a:moveTo>
                    <a:pt x="0" y="413"/>
                  </a:moveTo>
                  <a:lnTo>
                    <a:pt x="86" y="478"/>
                  </a:lnTo>
                  <a:lnTo>
                    <a:pt x="258" y="567"/>
                  </a:lnTo>
                  <a:lnTo>
                    <a:pt x="358" y="557"/>
                  </a:lnTo>
                  <a:lnTo>
                    <a:pt x="491" y="503"/>
                  </a:lnTo>
                  <a:lnTo>
                    <a:pt x="545" y="409"/>
                  </a:lnTo>
                  <a:lnTo>
                    <a:pt x="366" y="0"/>
                  </a:lnTo>
                  <a:lnTo>
                    <a:pt x="0" y="413"/>
                  </a:lnTo>
                  <a:lnTo>
                    <a:pt x="0" y="413"/>
                  </a:lnTo>
                  <a:close/>
                </a:path>
              </a:pathLst>
            </a:custGeom>
            <a:solidFill>
              <a:srgbClr val="708f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5526000" y="3975120"/>
              <a:ext cx="1206720" cy="1619280"/>
            </a:xfrm>
            <a:custGeom>
              <a:avLst/>
              <a:gdLst/>
              <a:ahLst/>
              <a:rect l="l" t="t" r="r" b="b"/>
              <a:pathLst>
                <a:path w="760" h="1020">
                  <a:moveTo>
                    <a:pt x="0" y="293"/>
                  </a:moveTo>
                  <a:lnTo>
                    <a:pt x="85" y="156"/>
                  </a:lnTo>
                  <a:lnTo>
                    <a:pt x="497" y="0"/>
                  </a:lnTo>
                  <a:lnTo>
                    <a:pt x="656" y="75"/>
                  </a:lnTo>
                  <a:lnTo>
                    <a:pt x="731" y="253"/>
                  </a:lnTo>
                  <a:lnTo>
                    <a:pt x="760" y="455"/>
                  </a:lnTo>
                  <a:lnTo>
                    <a:pt x="694" y="480"/>
                  </a:lnTo>
                  <a:lnTo>
                    <a:pt x="567" y="478"/>
                  </a:lnTo>
                  <a:lnTo>
                    <a:pt x="578" y="908"/>
                  </a:lnTo>
                  <a:lnTo>
                    <a:pt x="476" y="1020"/>
                  </a:lnTo>
                  <a:lnTo>
                    <a:pt x="364" y="787"/>
                  </a:lnTo>
                  <a:lnTo>
                    <a:pt x="0" y="293"/>
                  </a:lnTo>
                  <a:lnTo>
                    <a:pt x="0" y="293"/>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3840120" y="4719600"/>
              <a:ext cx="406440" cy="947880"/>
            </a:xfrm>
            <a:custGeom>
              <a:avLst/>
              <a:gdLst/>
              <a:ahLst/>
              <a:rect l="l" t="t" r="r" b="b"/>
              <a:pathLst>
                <a:path w="256" h="597">
                  <a:moveTo>
                    <a:pt x="243" y="270"/>
                  </a:moveTo>
                  <a:lnTo>
                    <a:pt x="158" y="44"/>
                  </a:lnTo>
                  <a:lnTo>
                    <a:pt x="112" y="0"/>
                  </a:lnTo>
                  <a:lnTo>
                    <a:pt x="54" y="6"/>
                  </a:lnTo>
                  <a:lnTo>
                    <a:pt x="19" y="42"/>
                  </a:lnTo>
                  <a:lnTo>
                    <a:pt x="0" y="104"/>
                  </a:lnTo>
                  <a:lnTo>
                    <a:pt x="29" y="368"/>
                  </a:lnTo>
                  <a:lnTo>
                    <a:pt x="35" y="528"/>
                  </a:lnTo>
                  <a:lnTo>
                    <a:pt x="75" y="569"/>
                  </a:lnTo>
                  <a:lnTo>
                    <a:pt x="185" y="597"/>
                  </a:lnTo>
                  <a:lnTo>
                    <a:pt x="256" y="509"/>
                  </a:lnTo>
                  <a:lnTo>
                    <a:pt x="243" y="270"/>
                  </a:lnTo>
                  <a:lnTo>
                    <a:pt x="243" y="27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4657680" y="5576760"/>
              <a:ext cx="785880" cy="507960"/>
            </a:xfrm>
            <a:custGeom>
              <a:avLst/>
              <a:gdLst/>
              <a:ahLst/>
              <a:rect l="l" t="t" r="r" b="b"/>
              <a:pathLst>
                <a:path w="495" h="320">
                  <a:moveTo>
                    <a:pt x="6" y="173"/>
                  </a:moveTo>
                  <a:lnTo>
                    <a:pt x="260" y="0"/>
                  </a:lnTo>
                  <a:lnTo>
                    <a:pt x="474" y="30"/>
                  </a:lnTo>
                  <a:lnTo>
                    <a:pt x="495" y="137"/>
                  </a:lnTo>
                  <a:lnTo>
                    <a:pt x="451" y="229"/>
                  </a:lnTo>
                  <a:lnTo>
                    <a:pt x="275" y="310"/>
                  </a:lnTo>
                  <a:lnTo>
                    <a:pt x="142" y="320"/>
                  </a:lnTo>
                  <a:lnTo>
                    <a:pt x="29" y="297"/>
                  </a:lnTo>
                  <a:lnTo>
                    <a:pt x="0" y="243"/>
                  </a:lnTo>
                  <a:lnTo>
                    <a:pt x="6" y="173"/>
                  </a:lnTo>
                  <a:lnTo>
                    <a:pt x="6" y="173"/>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6135840" y="3038400"/>
              <a:ext cx="366480" cy="811440"/>
            </a:xfrm>
            <a:custGeom>
              <a:avLst/>
              <a:gdLst/>
              <a:ahLst/>
              <a:rect l="l" t="t" r="r" b="b"/>
              <a:pathLst>
                <a:path w="231" h="511">
                  <a:moveTo>
                    <a:pt x="9" y="54"/>
                  </a:moveTo>
                  <a:lnTo>
                    <a:pt x="7" y="52"/>
                  </a:lnTo>
                  <a:lnTo>
                    <a:pt x="6" y="46"/>
                  </a:lnTo>
                  <a:lnTo>
                    <a:pt x="4" y="43"/>
                  </a:lnTo>
                  <a:lnTo>
                    <a:pt x="4" y="37"/>
                  </a:lnTo>
                  <a:lnTo>
                    <a:pt x="2" y="33"/>
                  </a:lnTo>
                  <a:lnTo>
                    <a:pt x="2" y="29"/>
                  </a:lnTo>
                  <a:lnTo>
                    <a:pt x="2" y="23"/>
                  </a:lnTo>
                  <a:lnTo>
                    <a:pt x="0" y="18"/>
                  </a:lnTo>
                  <a:lnTo>
                    <a:pt x="0" y="14"/>
                  </a:lnTo>
                  <a:lnTo>
                    <a:pt x="0" y="10"/>
                  </a:lnTo>
                  <a:lnTo>
                    <a:pt x="2" y="2"/>
                  </a:lnTo>
                  <a:lnTo>
                    <a:pt x="7" y="0"/>
                  </a:lnTo>
                  <a:lnTo>
                    <a:pt x="13" y="0"/>
                  </a:lnTo>
                  <a:lnTo>
                    <a:pt x="21" y="4"/>
                  </a:lnTo>
                  <a:lnTo>
                    <a:pt x="25" y="6"/>
                  </a:lnTo>
                  <a:lnTo>
                    <a:pt x="29" y="8"/>
                  </a:lnTo>
                  <a:lnTo>
                    <a:pt x="34" y="10"/>
                  </a:lnTo>
                  <a:lnTo>
                    <a:pt x="38" y="14"/>
                  </a:lnTo>
                  <a:lnTo>
                    <a:pt x="42" y="16"/>
                  </a:lnTo>
                  <a:lnTo>
                    <a:pt x="46" y="19"/>
                  </a:lnTo>
                  <a:lnTo>
                    <a:pt x="50" y="21"/>
                  </a:lnTo>
                  <a:lnTo>
                    <a:pt x="54" y="23"/>
                  </a:lnTo>
                  <a:lnTo>
                    <a:pt x="59" y="27"/>
                  </a:lnTo>
                  <a:lnTo>
                    <a:pt x="65" y="29"/>
                  </a:lnTo>
                  <a:lnTo>
                    <a:pt x="67" y="25"/>
                  </a:lnTo>
                  <a:lnTo>
                    <a:pt x="71" y="23"/>
                  </a:lnTo>
                  <a:lnTo>
                    <a:pt x="77" y="19"/>
                  </a:lnTo>
                  <a:lnTo>
                    <a:pt x="83" y="18"/>
                  </a:lnTo>
                  <a:lnTo>
                    <a:pt x="86" y="16"/>
                  </a:lnTo>
                  <a:lnTo>
                    <a:pt x="92" y="14"/>
                  </a:lnTo>
                  <a:lnTo>
                    <a:pt x="96" y="16"/>
                  </a:lnTo>
                  <a:lnTo>
                    <a:pt x="102" y="18"/>
                  </a:lnTo>
                  <a:lnTo>
                    <a:pt x="104" y="23"/>
                  </a:lnTo>
                  <a:lnTo>
                    <a:pt x="110" y="29"/>
                  </a:lnTo>
                  <a:lnTo>
                    <a:pt x="112" y="31"/>
                  </a:lnTo>
                  <a:lnTo>
                    <a:pt x="115" y="37"/>
                  </a:lnTo>
                  <a:lnTo>
                    <a:pt x="119" y="41"/>
                  </a:lnTo>
                  <a:lnTo>
                    <a:pt x="123" y="45"/>
                  </a:lnTo>
                  <a:lnTo>
                    <a:pt x="129" y="50"/>
                  </a:lnTo>
                  <a:lnTo>
                    <a:pt x="135" y="56"/>
                  </a:lnTo>
                  <a:lnTo>
                    <a:pt x="139" y="60"/>
                  </a:lnTo>
                  <a:lnTo>
                    <a:pt x="139" y="62"/>
                  </a:lnTo>
                  <a:lnTo>
                    <a:pt x="119" y="127"/>
                  </a:lnTo>
                  <a:lnTo>
                    <a:pt x="179" y="108"/>
                  </a:lnTo>
                  <a:lnTo>
                    <a:pt x="173" y="181"/>
                  </a:lnTo>
                  <a:lnTo>
                    <a:pt x="231" y="203"/>
                  </a:lnTo>
                  <a:lnTo>
                    <a:pt x="196" y="247"/>
                  </a:lnTo>
                  <a:lnTo>
                    <a:pt x="229" y="259"/>
                  </a:lnTo>
                  <a:lnTo>
                    <a:pt x="185" y="334"/>
                  </a:lnTo>
                  <a:lnTo>
                    <a:pt x="214" y="357"/>
                  </a:lnTo>
                  <a:lnTo>
                    <a:pt x="156" y="511"/>
                  </a:lnTo>
                  <a:lnTo>
                    <a:pt x="29" y="503"/>
                  </a:lnTo>
                  <a:lnTo>
                    <a:pt x="9" y="54"/>
                  </a:lnTo>
                  <a:lnTo>
                    <a:pt x="9" y="54"/>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4440240" y="3506760"/>
              <a:ext cx="431640" cy="465120"/>
            </a:xfrm>
            <a:custGeom>
              <a:avLst/>
              <a:gdLst/>
              <a:ahLst/>
              <a:rect l="l" t="t" r="r" b="b"/>
              <a:pathLst>
                <a:path w="272" h="293">
                  <a:moveTo>
                    <a:pt x="0" y="143"/>
                  </a:moveTo>
                  <a:lnTo>
                    <a:pt x="73" y="126"/>
                  </a:lnTo>
                  <a:lnTo>
                    <a:pt x="54" y="6"/>
                  </a:lnTo>
                  <a:lnTo>
                    <a:pt x="73" y="0"/>
                  </a:lnTo>
                  <a:lnTo>
                    <a:pt x="146" y="97"/>
                  </a:lnTo>
                  <a:lnTo>
                    <a:pt x="218" y="60"/>
                  </a:lnTo>
                  <a:lnTo>
                    <a:pt x="200" y="129"/>
                  </a:lnTo>
                  <a:lnTo>
                    <a:pt x="272" y="210"/>
                  </a:lnTo>
                  <a:lnTo>
                    <a:pt x="254" y="218"/>
                  </a:lnTo>
                  <a:lnTo>
                    <a:pt x="146" y="199"/>
                  </a:lnTo>
                  <a:lnTo>
                    <a:pt x="106" y="293"/>
                  </a:lnTo>
                  <a:lnTo>
                    <a:pt x="89" y="287"/>
                  </a:lnTo>
                  <a:lnTo>
                    <a:pt x="81" y="178"/>
                  </a:lnTo>
                  <a:lnTo>
                    <a:pt x="0" y="143"/>
                  </a:lnTo>
                  <a:lnTo>
                    <a:pt x="0" y="1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4971960" y="5214960"/>
              <a:ext cx="505080" cy="441360"/>
            </a:xfrm>
            <a:custGeom>
              <a:avLst/>
              <a:gdLst/>
              <a:ahLst/>
              <a:rect l="l" t="t" r="r" b="b"/>
              <a:pathLst>
                <a:path w="318" h="278">
                  <a:moveTo>
                    <a:pt x="12" y="185"/>
                  </a:moveTo>
                  <a:lnTo>
                    <a:pt x="68" y="245"/>
                  </a:lnTo>
                  <a:lnTo>
                    <a:pt x="131" y="278"/>
                  </a:lnTo>
                  <a:lnTo>
                    <a:pt x="286" y="270"/>
                  </a:lnTo>
                  <a:lnTo>
                    <a:pt x="318" y="35"/>
                  </a:lnTo>
                  <a:lnTo>
                    <a:pt x="0" y="0"/>
                  </a:lnTo>
                  <a:lnTo>
                    <a:pt x="12" y="185"/>
                  </a:lnTo>
                  <a:lnTo>
                    <a:pt x="12" y="185"/>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4219560" y="5126040"/>
              <a:ext cx="318960" cy="419040"/>
            </a:xfrm>
            <a:custGeom>
              <a:avLst/>
              <a:gdLst/>
              <a:ahLst/>
              <a:rect l="l" t="t" r="r" b="b"/>
              <a:pathLst>
                <a:path w="201" h="264">
                  <a:moveTo>
                    <a:pt x="0" y="16"/>
                  </a:moveTo>
                  <a:lnTo>
                    <a:pt x="201" y="0"/>
                  </a:lnTo>
                  <a:lnTo>
                    <a:pt x="189" y="259"/>
                  </a:lnTo>
                  <a:lnTo>
                    <a:pt x="10" y="264"/>
                  </a:lnTo>
                  <a:lnTo>
                    <a:pt x="0" y="185"/>
                  </a:lnTo>
                  <a:lnTo>
                    <a:pt x="0" y="16"/>
                  </a:lnTo>
                  <a:lnTo>
                    <a:pt x="0" y="16"/>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4525920" y="5089680"/>
              <a:ext cx="525600" cy="468000"/>
            </a:xfrm>
            <a:custGeom>
              <a:avLst/>
              <a:gdLst/>
              <a:ahLst/>
              <a:rect l="l" t="t" r="r" b="b"/>
              <a:pathLst>
                <a:path w="331" h="295">
                  <a:moveTo>
                    <a:pt x="0" y="31"/>
                  </a:moveTo>
                  <a:lnTo>
                    <a:pt x="8" y="291"/>
                  </a:lnTo>
                  <a:lnTo>
                    <a:pt x="331" y="295"/>
                  </a:lnTo>
                  <a:lnTo>
                    <a:pt x="293" y="0"/>
                  </a:lnTo>
                  <a:lnTo>
                    <a:pt x="0" y="31"/>
                  </a:lnTo>
                  <a:lnTo>
                    <a:pt x="0" y="3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4975200" y="4425840"/>
              <a:ext cx="1025640" cy="1190880"/>
            </a:xfrm>
            <a:custGeom>
              <a:avLst/>
              <a:gdLst/>
              <a:ahLst/>
              <a:rect l="l" t="t" r="r" b="b"/>
              <a:pathLst>
                <a:path w="646" h="750">
                  <a:moveTo>
                    <a:pt x="330" y="750"/>
                  </a:moveTo>
                  <a:lnTo>
                    <a:pt x="295" y="698"/>
                  </a:lnTo>
                  <a:lnTo>
                    <a:pt x="312" y="551"/>
                  </a:lnTo>
                  <a:lnTo>
                    <a:pt x="152" y="561"/>
                  </a:lnTo>
                  <a:lnTo>
                    <a:pt x="27" y="528"/>
                  </a:lnTo>
                  <a:lnTo>
                    <a:pt x="0" y="154"/>
                  </a:lnTo>
                  <a:lnTo>
                    <a:pt x="85" y="27"/>
                  </a:lnTo>
                  <a:lnTo>
                    <a:pt x="208" y="0"/>
                  </a:lnTo>
                  <a:lnTo>
                    <a:pt x="415" y="90"/>
                  </a:lnTo>
                  <a:lnTo>
                    <a:pt x="646" y="408"/>
                  </a:lnTo>
                  <a:lnTo>
                    <a:pt x="519" y="647"/>
                  </a:lnTo>
                  <a:lnTo>
                    <a:pt x="330" y="750"/>
                  </a:lnTo>
                  <a:lnTo>
                    <a:pt x="330" y="75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6288120" y="4707000"/>
              <a:ext cx="692280" cy="1230120"/>
            </a:xfrm>
            <a:custGeom>
              <a:avLst/>
              <a:gdLst/>
              <a:ahLst/>
              <a:rect l="l" t="t" r="r" b="b"/>
              <a:pathLst>
                <a:path w="436" h="775">
                  <a:moveTo>
                    <a:pt x="93" y="15"/>
                  </a:moveTo>
                  <a:lnTo>
                    <a:pt x="108" y="472"/>
                  </a:lnTo>
                  <a:lnTo>
                    <a:pt x="83" y="559"/>
                  </a:lnTo>
                  <a:lnTo>
                    <a:pt x="0" y="665"/>
                  </a:lnTo>
                  <a:lnTo>
                    <a:pt x="39" y="710"/>
                  </a:lnTo>
                  <a:lnTo>
                    <a:pt x="93" y="711"/>
                  </a:lnTo>
                  <a:lnTo>
                    <a:pt x="139" y="688"/>
                  </a:lnTo>
                  <a:lnTo>
                    <a:pt x="212" y="775"/>
                  </a:lnTo>
                  <a:lnTo>
                    <a:pt x="247" y="775"/>
                  </a:lnTo>
                  <a:lnTo>
                    <a:pt x="280" y="713"/>
                  </a:lnTo>
                  <a:lnTo>
                    <a:pt x="380" y="740"/>
                  </a:lnTo>
                  <a:lnTo>
                    <a:pt x="389" y="723"/>
                  </a:lnTo>
                  <a:lnTo>
                    <a:pt x="380" y="669"/>
                  </a:lnTo>
                  <a:lnTo>
                    <a:pt x="430" y="665"/>
                  </a:lnTo>
                  <a:lnTo>
                    <a:pt x="436" y="650"/>
                  </a:lnTo>
                  <a:lnTo>
                    <a:pt x="403" y="604"/>
                  </a:lnTo>
                  <a:lnTo>
                    <a:pt x="318" y="578"/>
                  </a:lnTo>
                  <a:lnTo>
                    <a:pt x="270" y="482"/>
                  </a:lnTo>
                  <a:lnTo>
                    <a:pt x="282" y="199"/>
                  </a:lnTo>
                  <a:lnTo>
                    <a:pt x="264" y="0"/>
                  </a:lnTo>
                  <a:lnTo>
                    <a:pt x="93" y="15"/>
                  </a:lnTo>
                  <a:lnTo>
                    <a:pt x="93" y="1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5337000" y="3067200"/>
              <a:ext cx="1198800" cy="1303200"/>
            </a:xfrm>
            <a:custGeom>
              <a:avLst/>
              <a:gdLst/>
              <a:ahLst/>
              <a:rect l="l" t="t" r="r" b="b"/>
              <a:pathLst>
                <a:path w="755" h="821">
                  <a:moveTo>
                    <a:pt x="277" y="9"/>
                  </a:moveTo>
                  <a:lnTo>
                    <a:pt x="225" y="30"/>
                  </a:lnTo>
                  <a:lnTo>
                    <a:pt x="177" y="67"/>
                  </a:lnTo>
                  <a:lnTo>
                    <a:pt x="119" y="119"/>
                  </a:lnTo>
                  <a:lnTo>
                    <a:pt x="44" y="246"/>
                  </a:lnTo>
                  <a:lnTo>
                    <a:pt x="0" y="395"/>
                  </a:lnTo>
                  <a:lnTo>
                    <a:pt x="50" y="522"/>
                  </a:lnTo>
                  <a:lnTo>
                    <a:pt x="117" y="620"/>
                  </a:lnTo>
                  <a:lnTo>
                    <a:pt x="289" y="692"/>
                  </a:lnTo>
                  <a:lnTo>
                    <a:pt x="322" y="707"/>
                  </a:lnTo>
                  <a:lnTo>
                    <a:pt x="320" y="709"/>
                  </a:lnTo>
                  <a:lnTo>
                    <a:pt x="316" y="713"/>
                  </a:lnTo>
                  <a:lnTo>
                    <a:pt x="312" y="715"/>
                  </a:lnTo>
                  <a:lnTo>
                    <a:pt x="308" y="721"/>
                  </a:lnTo>
                  <a:lnTo>
                    <a:pt x="306" y="725"/>
                  </a:lnTo>
                  <a:lnTo>
                    <a:pt x="302" y="730"/>
                  </a:lnTo>
                  <a:lnTo>
                    <a:pt x="300" y="734"/>
                  </a:lnTo>
                  <a:lnTo>
                    <a:pt x="298" y="740"/>
                  </a:lnTo>
                  <a:lnTo>
                    <a:pt x="296" y="748"/>
                  </a:lnTo>
                  <a:lnTo>
                    <a:pt x="296" y="753"/>
                  </a:lnTo>
                  <a:lnTo>
                    <a:pt x="296" y="759"/>
                  </a:lnTo>
                  <a:lnTo>
                    <a:pt x="298" y="767"/>
                  </a:lnTo>
                  <a:lnTo>
                    <a:pt x="300" y="775"/>
                  </a:lnTo>
                  <a:lnTo>
                    <a:pt x="306" y="782"/>
                  </a:lnTo>
                  <a:lnTo>
                    <a:pt x="341" y="815"/>
                  </a:lnTo>
                  <a:lnTo>
                    <a:pt x="418" y="821"/>
                  </a:lnTo>
                  <a:lnTo>
                    <a:pt x="501" y="792"/>
                  </a:lnTo>
                  <a:lnTo>
                    <a:pt x="647" y="603"/>
                  </a:lnTo>
                  <a:lnTo>
                    <a:pt x="724" y="543"/>
                  </a:lnTo>
                  <a:lnTo>
                    <a:pt x="755" y="422"/>
                  </a:lnTo>
                  <a:lnTo>
                    <a:pt x="709" y="408"/>
                  </a:lnTo>
                  <a:lnTo>
                    <a:pt x="651" y="412"/>
                  </a:lnTo>
                  <a:lnTo>
                    <a:pt x="626" y="451"/>
                  </a:lnTo>
                  <a:lnTo>
                    <a:pt x="574" y="431"/>
                  </a:lnTo>
                  <a:lnTo>
                    <a:pt x="624" y="352"/>
                  </a:lnTo>
                  <a:lnTo>
                    <a:pt x="607" y="291"/>
                  </a:lnTo>
                  <a:lnTo>
                    <a:pt x="618" y="248"/>
                  </a:lnTo>
                  <a:lnTo>
                    <a:pt x="618" y="246"/>
                  </a:lnTo>
                  <a:lnTo>
                    <a:pt x="616" y="242"/>
                  </a:lnTo>
                  <a:lnTo>
                    <a:pt x="615" y="239"/>
                  </a:lnTo>
                  <a:lnTo>
                    <a:pt x="615" y="235"/>
                  </a:lnTo>
                  <a:lnTo>
                    <a:pt x="615" y="233"/>
                  </a:lnTo>
                  <a:lnTo>
                    <a:pt x="613" y="229"/>
                  </a:lnTo>
                  <a:lnTo>
                    <a:pt x="613" y="223"/>
                  </a:lnTo>
                  <a:lnTo>
                    <a:pt x="611" y="219"/>
                  </a:lnTo>
                  <a:lnTo>
                    <a:pt x="609" y="214"/>
                  </a:lnTo>
                  <a:lnTo>
                    <a:pt x="607" y="210"/>
                  </a:lnTo>
                  <a:lnTo>
                    <a:pt x="605" y="204"/>
                  </a:lnTo>
                  <a:lnTo>
                    <a:pt x="605" y="198"/>
                  </a:lnTo>
                  <a:lnTo>
                    <a:pt x="603" y="192"/>
                  </a:lnTo>
                  <a:lnTo>
                    <a:pt x="601" y="187"/>
                  </a:lnTo>
                  <a:lnTo>
                    <a:pt x="599" y="179"/>
                  </a:lnTo>
                  <a:lnTo>
                    <a:pt x="597" y="173"/>
                  </a:lnTo>
                  <a:lnTo>
                    <a:pt x="595" y="167"/>
                  </a:lnTo>
                  <a:lnTo>
                    <a:pt x="593" y="162"/>
                  </a:lnTo>
                  <a:lnTo>
                    <a:pt x="591" y="154"/>
                  </a:lnTo>
                  <a:lnTo>
                    <a:pt x="588" y="148"/>
                  </a:lnTo>
                  <a:lnTo>
                    <a:pt x="586" y="142"/>
                  </a:lnTo>
                  <a:lnTo>
                    <a:pt x="584" y="138"/>
                  </a:lnTo>
                  <a:lnTo>
                    <a:pt x="582" y="133"/>
                  </a:lnTo>
                  <a:lnTo>
                    <a:pt x="580" y="127"/>
                  </a:lnTo>
                  <a:lnTo>
                    <a:pt x="578" y="123"/>
                  </a:lnTo>
                  <a:lnTo>
                    <a:pt x="576" y="117"/>
                  </a:lnTo>
                  <a:lnTo>
                    <a:pt x="572" y="109"/>
                  </a:lnTo>
                  <a:lnTo>
                    <a:pt x="568" y="106"/>
                  </a:lnTo>
                  <a:lnTo>
                    <a:pt x="562" y="100"/>
                  </a:lnTo>
                  <a:lnTo>
                    <a:pt x="557" y="94"/>
                  </a:lnTo>
                  <a:lnTo>
                    <a:pt x="549" y="86"/>
                  </a:lnTo>
                  <a:lnTo>
                    <a:pt x="543" y="81"/>
                  </a:lnTo>
                  <a:lnTo>
                    <a:pt x="537" y="75"/>
                  </a:lnTo>
                  <a:lnTo>
                    <a:pt x="534" y="73"/>
                  </a:lnTo>
                  <a:lnTo>
                    <a:pt x="530" y="69"/>
                  </a:lnTo>
                  <a:lnTo>
                    <a:pt x="526" y="65"/>
                  </a:lnTo>
                  <a:lnTo>
                    <a:pt x="522" y="61"/>
                  </a:lnTo>
                  <a:lnTo>
                    <a:pt x="518" y="57"/>
                  </a:lnTo>
                  <a:lnTo>
                    <a:pt x="512" y="54"/>
                  </a:lnTo>
                  <a:lnTo>
                    <a:pt x="509" y="50"/>
                  </a:lnTo>
                  <a:lnTo>
                    <a:pt x="505" y="46"/>
                  </a:lnTo>
                  <a:lnTo>
                    <a:pt x="499" y="42"/>
                  </a:lnTo>
                  <a:lnTo>
                    <a:pt x="495" y="38"/>
                  </a:lnTo>
                  <a:lnTo>
                    <a:pt x="491" y="36"/>
                  </a:lnTo>
                  <a:lnTo>
                    <a:pt x="483" y="28"/>
                  </a:lnTo>
                  <a:lnTo>
                    <a:pt x="478" y="23"/>
                  </a:lnTo>
                  <a:lnTo>
                    <a:pt x="472" y="19"/>
                  </a:lnTo>
                  <a:lnTo>
                    <a:pt x="468" y="15"/>
                  </a:lnTo>
                  <a:lnTo>
                    <a:pt x="464" y="13"/>
                  </a:lnTo>
                  <a:lnTo>
                    <a:pt x="368" y="0"/>
                  </a:lnTo>
                  <a:lnTo>
                    <a:pt x="277" y="9"/>
                  </a:lnTo>
                  <a:lnTo>
                    <a:pt x="277" y="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473800" y="3071880"/>
              <a:ext cx="765000" cy="1103400"/>
            </a:xfrm>
            <a:custGeom>
              <a:avLst/>
              <a:gdLst/>
              <a:ahLst/>
              <a:rect l="l" t="t" r="r" b="b"/>
              <a:pathLst>
                <a:path w="482" h="695">
                  <a:moveTo>
                    <a:pt x="326" y="0"/>
                  </a:moveTo>
                  <a:lnTo>
                    <a:pt x="324" y="0"/>
                  </a:lnTo>
                  <a:lnTo>
                    <a:pt x="318" y="0"/>
                  </a:lnTo>
                  <a:lnTo>
                    <a:pt x="315" y="0"/>
                  </a:lnTo>
                  <a:lnTo>
                    <a:pt x="311" y="0"/>
                  </a:lnTo>
                  <a:lnTo>
                    <a:pt x="305" y="0"/>
                  </a:lnTo>
                  <a:lnTo>
                    <a:pt x="301" y="0"/>
                  </a:lnTo>
                  <a:lnTo>
                    <a:pt x="293" y="0"/>
                  </a:lnTo>
                  <a:lnTo>
                    <a:pt x="288" y="2"/>
                  </a:lnTo>
                  <a:lnTo>
                    <a:pt x="280" y="2"/>
                  </a:lnTo>
                  <a:lnTo>
                    <a:pt x="272" y="4"/>
                  </a:lnTo>
                  <a:lnTo>
                    <a:pt x="268" y="4"/>
                  </a:lnTo>
                  <a:lnTo>
                    <a:pt x="264" y="4"/>
                  </a:lnTo>
                  <a:lnTo>
                    <a:pt x="261" y="6"/>
                  </a:lnTo>
                  <a:lnTo>
                    <a:pt x="257" y="6"/>
                  </a:lnTo>
                  <a:lnTo>
                    <a:pt x="253" y="6"/>
                  </a:lnTo>
                  <a:lnTo>
                    <a:pt x="249" y="8"/>
                  </a:lnTo>
                  <a:lnTo>
                    <a:pt x="245" y="8"/>
                  </a:lnTo>
                  <a:lnTo>
                    <a:pt x="241" y="10"/>
                  </a:lnTo>
                  <a:lnTo>
                    <a:pt x="236" y="10"/>
                  </a:lnTo>
                  <a:lnTo>
                    <a:pt x="232" y="12"/>
                  </a:lnTo>
                  <a:lnTo>
                    <a:pt x="228" y="12"/>
                  </a:lnTo>
                  <a:lnTo>
                    <a:pt x="222" y="14"/>
                  </a:lnTo>
                  <a:lnTo>
                    <a:pt x="218" y="14"/>
                  </a:lnTo>
                  <a:lnTo>
                    <a:pt x="214" y="16"/>
                  </a:lnTo>
                  <a:lnTo>
                    <a:pt x="210" y="16"/>
                  </a:lnTo>
                  <a:lnTo>
                    <a:pt x="207" y="18"/>
                  </a:lnTo>
                  <a:lnTo>
                    <a:pt x="201" y="20"/>
                  </a:lnTo>
                  <a:lnTo>
                    <a:pt x="197" y="20"/>
                  </a:lnTo>
                  <a:lnTo>
                    <a:pt x="193" y="22"/>
                  </a:lnTo>
                  <a:lnTo>
                    <a:pt x="187" y="24"/>
                  </a:lnTo>
                  <a:lnTo>
                    <a:pt x="183" y="25"/>
                  </a:lnTo>
                  <a:lnTo>
                    <a:pt x="180" y="25"/>
                  </a:lnTo>
                  <a:lnTo>
                    <a:pt x="176" y="27"/>
                  </a:lnTo>
                  <a:lnTo>
                    <a:pt x="170" y="31"/>
                  </a:lnTo>
                  <a:lnTo>
                    <a:pt x="166" y="31"/>
                  </a:lnTo>
                  <a:lnTo>
                    <a:pt x="162" y="33"/>
                  </a:lnTo>
                  <a:lnTo>
                    <a:pt x="158" y="35"/>
                  </a:lnTo>
                  <a:lnTo>
                    <a:pt x="153" y="37"/>
                  </a:lnTo>
                  <a:lnTo>
                    <a:pt x="149" y="39"/>
                  </a:lnTo>
                  <a:lnTo>
                    <a:pt x="145" y="41"/>
                  </a:lnTo>
                  <a:lnTo>
                    <a:pt x="141" y="45"/>
                  </a:lnTo>
                  <a:lnTo>
                    <a:pt x="137" y="47"/>
                  </a:lnTo>
                  <a:lnTo>
                    <a:pt x="131" y="51"/>
                  </a:lnTo>
                  <a:lnTo>
                    <a:pt x="124" y="56"/>
                  </a:lnTo>
                  <a:lnTo>
                    <a:pt x="118" y="62"/>
                  </a:lnTo>
                  <a:lnTo>
                    <a:pt x="112" y="68"/>
                  </a:lnTo>
                  <a:lnTo>
                    <a:pt x="106" y="74"/>
                  </a:lnTo>
                  <a:lnTo>
                    <a:pt x="101" y="81"/>
                  </a:lnTo>
                  <a:lnTo>
                    <a:pt x="95" y="87"/>
                  </a:lnTo>
                  <a:lnTo>
                    <a:pt x="89" y="95"/>
                  </a:lnTo>
                  <a:lnTo>
                    <a:pt x="83" y="101"/>
                  </a:lnTo>
                  <a:lnTo>
                    <a:pt x="77" y="108"/>
                  </a:lnTo>
                  <a:lnTo>
                    <a:pt x="76" y="112"/>
                  </a:lnTo>
                  <a:lnTo>
                    <a:pt x="72" y="116"/>
                  </a:lnTo>
                  <a:lnTo>
                    <a:pt x="70" y="120"/>
                  </a:lnTo>
                  <a:lnTo>
                    <a:pt x="68" y="124"/>
                  </a:lnTo>
                  <a:lnTo>
                    <a:pt x="64" y="128"/>
                  </a:lnTo>
                  <a:lnTo>
                    <a:pt x="62" y="132"/>
                  </a:lnTo>
                  <a:lnTo>
                    <a:pt x="58" y="137"/>
                  </a:lnTo>
                  <a:lnTo>
                    <a:pt x="56" y="141"/>
                  </a:lnTo>
                  <a:lnTo>
                    <a:pt x="54" y="145"/>
                  </a:lnTo>
                  <a:lnTo>
                    <a:pt x="52" y="149"/>
                  </a:lnTo>
                  <a:lnTo>
                    <a:pt x="50" y="153"/>
                  </a:lnTo>
                  <a:lnTo>
                    <a:pt x="47" y="159"/>
                  </a:lnTo>
                  <a:lnTo>
                    <a:pt x="45" y="162"/>
                  </a:lnTo>
                  <a:lnTo>
                    <a:pt x="43" y="166"/>
                  </a:lnTo>
                  <a:lnTo>
                    <a:pt x="41" y="172"/>
                  </a:lnTo>
                  <a:lnTo>
                    <a:pt x="39" y="176"/>
                  </a:lnTo>
                  <a:lnTo>
                    <a:pt x="35" y="182"/>
                  </a:lnTo>
                  <a:lnTo>
                    <a:pt x="33" y="186"/>
                  </a:lnTo>
                  <a:lnTo>
                    <a:pt x="31" y="191"/>
                  </a:lnTo>
                  <a:lnTo>
                    <a:pt x="31" y="197"/>
                  </a:lnTo>
                  <a:lnTo>
                    <a:pt x="27" y="201"/>
                  </a:lnTo>
                  <a:lnTo>
                    <a:pt x="25" y="207"/>
                  </a:lnTo>
                  <a:lnTo>
                    <a:pt x="24" y="211"/>
                  </a:lnTo>
                  <a:lnTo>
                    <a:pt x="22" y="216"/>
                  </a:lnTo>
                  <a:lnTo>
                    <a:pt x="20" y="220"/>
                  </a:lnTo>
                  <a:lnTo>
                    <a:pt x="18" y="226"/>
                  </a:lnTo>
                  <a:lnTo>
                    <a:pt x="16" y="232"/>
                  </a:lnTo>
                  <a:lnTo>
                    <a:pt x="16" y="238"/>
                  </a:lnTo>
                  <a:lnTo>
                    <a:pt x="14" y="241"/>
                  </a:lnTo>
                  <a:lnTo>
                    <a:pt x="12" y="247"/>
                  </a:lnTo>
                  <a:lnTo>
                    <a:pt x="12" y="253"/>
                  </a:lnTo>
                  <a:lnTo>
                    <a:pt x="10" y="259"/>
                  </a:lnTo>
                  <a:lnTo>
                    <a:pt x="8" y="263"/>
                  </a:lnTo>
                  <a:lnTo>
                    <a:pt x="8" y="268"/>
                  </a:lnTo>
                  <a:lnTo>
                    <a:pt x="6" y="274"/>
                  </a:lnTo>
                  <a:lnTo>
                    <a:pt x="6" y="280"/>
                  </a:lnTo>
                  <a:lnTo>
                    <a:pt x="4" y="286"/>
                  </a:lnTo>
                  <a:lnTo>
                    <a:pt x="4" y="292"/>
                  </a:lnTo>
                  <a:lnTo>
                    <a:pt x="2" y="297"/>
                  </a:lnTo>
                  <a:lnTo>
                    <a:pt x="2" y="303"/>
                  </a:lnTo>
                  <a:lnTo>
                    <a:pt x="2" y="309"/>
                  </a:lnTo>
                  <a:lnTo>
                    <a:pt x="0" y="315"/>
                  </a:lnTo>
                  <a:lnTo>
                    <a:pt x="0" y="320"/>
                  </a:lnTo>
                  <a:lnTo>
                    <a:pt x="0" y="328"/>
                  </a:lnTo>
                  <a:lnTo>
                    <a:pt x="0" y="334"/>
                  </a:lnTo>
                  <a:lnTo>
                    <a:pt x="0" y="338"/>
                  </a:lnTo>
                  <a:lnTo>
                    <a:pt x="0" y="344"/>
                  </a:lnTo>
                  <a:lnTo>
                    <a:pt x="0" y="351"/>
                  </a:lnTo>
                  <a:lnTo>
                    <a:pt x="0" y="357"/>
                  </a:lnTo>
                  <a:lnTo>
                    <a:pt x="0" y="363"/>
                  </a:lnTo>
                  <a:lnTo>
                    <a:pt x="0" y="371"/>
                  </a:lnTo>
                  <a:lnTo>
                    <a:pt x="2" y="376"/>
                  </a:lnTo>
                  <a:lnTo>
                    <a:pt x="2" y="380"/>
                  </a:lnTo>
                  <a:lnTo>
                    <a:pt x="2" y="388"/>
                  </a:lnTo>
                  <a:lnTo>
                    <a:pt x="2" y="392"/>
                  </a:lnTo>
                  <a:lnTo>
                    <a:pt x="2" y="400"/>
                  </a:lnTo>
                  <a:lnTo>
                    <a:pt x="4" y="403"/>
                  </a:lnTo>
                  <a:lnTo>
                    <a:pt x="4" y="411"/>
                  </a:lnTo>
                  <a:lnTo>
                    <a:pt x="6" y="415"/>
                  </a:lnTo>
                  <a:lnTo>
                    <a:pt x="6" y="423"/>
                  </a:lnTo>
                  <a:lnTo>
                    <a:pt x="6" y="427"/>
                  </a:lnTo>
                  <a:lnTo>
                    <a:pt x="8" y="432"/>
                  </a:lnTo>
                  <a:lnTo>
                    <a:pt x="8" y="438"/>
                  </a:lnTo>
                  <a:lnTo>
                    <a:pt x="10" y="444"/>
                  </a:lnTo>
                  <a:lnTo>
                    <a:pt x="12" y="448"/>
                  </a:lnTo>
                  <a:lnTo>
                    <a:pt x="14" y="454"/>
                  </a:lnTo>
                  <a:lnTo>
                    <a:pt x="14" y="459"/>
                  </a:lnTo>
                  <a:lnTo>
                    <a:pt x="16" y="465"/>
                  </a:lnTo>
                  <a:lnTo>
                    <a:pt x="16" y="471"/>
                  </a:lnTo>
                  <a:lnTo>
                    <a:pt x="18" y="477"/>
                  </a:lnTo>
                  <a:lnTo>
                    <a:pt x="20" y="481"/>
                  </a:lnTo>
                  <a:lnTo>
                    <a:pt x="22" y="486"/>
                  </a:lnTo>
                  <a:lnTo>
                    <a:pt x="24" y="490"/>
                  </a:lnTo>
                  <a:lnTo>
                    <a:pt x="25" y="496"/>
                  </a:lnTo>
                  <a:lnTo>
                    <a:pt x="27" y="500"/>
                  </a:lnTo>
                  <a:lnTo>
                    <a:pt x="29" y="506"/>
                  </a:lnTo>
                  <a:lnTo>
                    <a:pt x="31" y="509"/>
                  </a:lnTo>
                  <a:lnTo>
                    <a:pt x="31" y="515"/>
                  </a:lnTo>
                  <a:lnTo>
                    <a:pt x="33" y="521"/>
                  </a:lnTo>
                  <a:lnTo>
                    <a:pt x="35" y="525"/>
                  </a:lnTo>
                  <a:lnTo>
                    <a:pt x="37" y="529"/>
                  </a:lnTo>
                  <a:lnTo>
                    <a:pt x="39" y="534"/>
                  </a:lnTo>
                  <a:lnTo>
                    <a:pt x="41" y="538"/>
                  </a:lnTo>
                  <a:lnTo>
                    <a:pt x="45" y="544"/>
                  </a:lnTo>
                  <a:lnTo>
                    <a:pt x="45" y="548"/>
                  </a:lnTo>
                  <a:lnTo>
                    <a:pt x="47" y="552"/>
                  </a:lnTo>
                  <a:lnTo>
                    <a:pt x="50" y="556"/>
                  </a:lnTo>
                  <a:lnTo>
                    <a:pt x="52" y="560"/>
                  </a:lnTo>
                  <a:lnTo>
                    <a:pt x="54" y="563"/>
                  </a:lnTo>
                  <a:lnTo>
                    <a:pt x="56" y="569"/>
                  </a:lnTo>
                  <a:lnTo>
                    <a:pt x="58" y="573"/>
                  </a:lnTo>
                  <a:lnTo>
                    <a:pt x="60" y="577"/>
                  </a:lnTo>
                  <a:lnTo>
                    <a:pt x="64" y="585"/>
                  </a:lnTo>
                  <a:lnTo>
                    <a:pt x="70" y="592"/>
                  </a:lnTo>
                  <a:lnTo>
                    <a:pt x="76" y="600"/>
                  </a:lnTo>
                  <a:lnTo>
                    <a:pt x="79" y="608"/>
                  </a:lnTo>
                  <a:lnTo>
                    <a:pt x="83" y="614"/>
                  </a:lnTo>
                  <a:lnTo>
                    <a:pt x="89" y="619"/>
                  </a:lnTo>
                  <a:lnTo>
                    <a:pt x="95" y="625"/>
                  </a:lnTo>
                  <a:lnTo>
                    <a:pt x="101" y="633"/>
                  </a:lnTo>
                  <a:lnTo>
                    <a:pt x="104" y="637"/>
                  </a:lnTo>
                  <a:lnTo>
                    <a:pt x="110" y="642"/>
                  </a:lnTo>
                  <a:lnTo>
                    <a:pt x="114" y="648"/>
                  </a:lnTo>
                  <a:lnTo>
                    <a:pt x="120" y="654"/>
                  </a:lnTo>
                  <a:lnTo>
                    <a:pt x="182" y="693"/>
                  </a:lnTo>
                  <a:lnTo>
                    <a:pt x="241" y="687"/>
                  </a:lnTo>
                  <a:lnTo>
                    <a:pt x="241" y="687"/>
                  </a:lnTo>
                  <a:lnTo>
                    <a:pt x="245" y="689"/>
                  </a:lnTo>
                  <a:lnTo>
                    <a:pt x="249" y="689"/>
                  </a:lnTo>
                  <a:lnTo>
                    <a:pt x="255" y="693"/>
                  </a:lnTo>
                  <a:lnTo>
                    <a:pt x="257" y="693"/>
                  </a:lnTo>
                  <a:lnTo>
                    <a:pt x="263" y="693"/>
                  </a:lnTo>
                  <a:lnTo>
                    <a:pt x="266" y="693"/>
                  </a:lnTo>
                  <a:lnTo>
                    <a:pt x="270" y="695"/>
                  </a:lnTo>
                  <a:lnTo>
                    <a:pt x="276" y="693"/>
                  </a:lnTo>
                  <a:lnTo>
                    <a:pt x="282" y="693"/>
                  </a:lnTo>
                  <a:lnTo>
                    <a:pt x="288" y="691"/>
                  </a:lnTo>
                  <a:lnTo>
                    <a:pt x="295" y="689"/>
                  </a:lnTo>
                  <a:lnTo>
                    <a:pt x="301" y="685"/>
                  </a:lnTo>
                  <a:lnTo>
                    <a:pt x="307" y="681"/>
                  </a:lnTo>
                  <a:lnTo>
                    <a:pt x="315" y="677"/>
                  </a:lnTo>
                  <a:lnTo>
                    <a:pt x="322" y="671"/>
                  </a:lnTo>
                  <a:lnTo>
                    <a:pt x="326" y="668"/>
                  </a:lnTo>
                  <a:lnTo>
                    <a:pt x="328" y="664"/>
                  </a:lnTo>
                  <a:lnTo>
                    <a:pt x="332" y="660"/>
                  </a:lnTo>
                  <a:lnTo>
                    <a:pt x="338" y="658"/>
                  </a:lnTo>
                  <a:lnTo>
                    <a:pt x="342" y="652"/>
                  </a:lnTo>
                  <a:lnTo>
                    <a:pt x="345" y="648"/>
                  </a:lnTo>
                  <a:lnTo>
                    <a:pt x="349" y="644"/>
                  </a:lnTo>
                  <a:lnTo>
                    <a:pt x="353" y="639"/>
                  </a:lnTo>
                  <a:lnTo>
                    <a:pt x="359" y="633"/>
                  </a:lnTo>
                  <a:lnTo>
                    <a:pt x="363" y="627"/>
                  </a:lnTo>
                  <a:lnTo>
                    <a:pt x="367" y="621"/>
                  </a:lnTo>
                  <a:lnTo>
                    <a:pt x="370" y="615"/>
                  </a:lnTo>
                  <a:lnTo>
                    <a:pt x="376" y="608"/>
                  </a:lnTo>
                  <a:lnTo>
                    <a:pt x="380" y="602"/>
                  </a:lnTo>
                  <a:lnTo>
                    <a:pt x="384" y="594"/>
                  </a:lnTo>
                  <a:lnTo>
                    <a:pt x="390" y="587"/>
                  </a:lnTo>
                  <a:lnTo>
                    <a:pt x="394" y="577"/>
                  </a:lnTo>
                  <a:lnTo>
                    <a:pt x="399" y="569"/>
                  </a:lnTo>
                  <a:lnTo>
                    <a:pt x="403" y="560"/>
                  </a:lnTo>
                  <a:lnTo>
                    <a:pt x="409" y="550"/>
                  </a:lnTo>
                  <a:lnTo>
                    <a:pt x="415" y="540"/>
                  </a:lnTo>
                  <a:lnTo>
                    <a:pt x="419" y="531"/>
                  </a:lnTo>
                  <a:lnTo>
                    <a:pt x="424" y="519"/>
                  </a:lnTo>
                  <a:lnTo>
                    <a:pt x="430" y="509"/>
                  </a:lnTo>
                  <a:lnTo>
                    <a:pt x="434" y="496"/>
                  </a:lnTo>
                  <a:lnTo>
                    <a:pt x="438" y="484"/>
                  </a:lnTo>
                  <a:lnTo>
                    <a:pt x="444" y="473"/>
                  </a:lnTo>
                  <a:lnTo>
                    <a:pt x="448" y="461"/>
                  </a:lnTo>
                  <a:lnTo>
                    <a:pt x="449" y="452"/>
                  </a:lnTo>
                  <a:lnTo>
                    <a:pt x="453" y="440"/>
                  </a:lnTo>
                  <a:lnTo>
                    <a:pt x="457" y="428"/>
                  </a:lnTo>
                  <a:lnTo>
                    <a:pt x="461" y="419"/>
                  </a:lnTo>
                  <a:lnTo>
                    <a:pt x="463" y="407"/>
                  </a:lnTo>
                  <a:lnTo>
                    <a:pt x="465" y="398"/>
                  </a:lnTo>
                  <a:lnTo>
                    <a:pt x="469" y="386"/>
                  </a:lnTo>
                  <a:lnTo>
                    <a:pt x="471" y="376"/>
                  </a:lnTo>
                  <a:lnTo>
                    <a:pt x="471" y="365"/>
                  </a:lnTo>
                  <a:lnTo>
                    <a:pt x="473" y="355"/>
                  </a:lnTo>
                  <a:lnTo>
                    <a:pt x="475" y="346"/>
                  </a:lnTo>
                  <a:lnTo>
                    <a:pt x="476" y="336"/>
                  </a:lnTo>
                  <a:lnTo>
                    <a:pt x="478" y="324"/>
                  </a:lnTo>
                  <a:lnTo>
                    <a:pt x="478" y="317"/>
                  </a:lnTo>
                  <a:lnTo>
                    <a:pt x="478" y="305"/>
                  </a:lnTo>
                  <a:lnTo>
                    <a:pt x="480" y="297"/>
                  </a:lnTo>
                  <a:lnTo>
                    <a:pt x="480" y="288"/>
                  </a:lnTo>
                  <a:lnTo>
                    <a:pt x="480" y="278"/>
                  </a:lnTo>
                  <a:lnTo>
                    <a:pt x="480" y="270"/>
                  </a:lnTo>
                  <a:lnTo>
                    <a:pt x="482" y="261"/>
                  </a:lnTo>
                  <a:lnTo>
                    <a:pt x="480" y="253"/>
                  </a:lnTo>
                  <a:lnTo>
                    <a:pt x="480" y="243"/>
                  </a:lnTo>
                  <a:lnTo>
                    <a:pt x="478" y="236"/>
                  </a:lnTo>
                  <a:lnTo>
                    <a:pt x="478" y="228"/>
                  </a:lnTo>
                  <a:lnTo>
                    <a:pt x="478" y="218"/>
                  </a:lnTo>
                  <a:lnTo>
                    <a:pt x="478" y="213"/>
                  </a:lnTo>
                  <a:lnTo>
                    <a:pt x="476" y="205"/>
                  </a:lnTo>
                  <a:lnTo>
                    <a:pt x="476" y="197"/>
                  </a:lnTo>
                  <a:lnTo>
                    <a:pt x="476" y="189"/>
                  </a:lnTo>
                  <a:lnTo>
                    <a:pt x="475" y="182"/>
                  </a:lnTo>
                  <a:lnTo>
                    <a:pt x="473" y="176"/>
                  </a:lnTo>
                  <a:lnTo>
                    <a:pt x="473" y="168"/>
                  </a:lnTo>
                  <a:lnTo>
                    <a:pt x="471" y="162"/>
                  </a:lnTo>
                  <a:lnTo>
                    <a:pt x="469" y="157"/>
                  </a:lnTo>
                  <a:lnTo>
                    <a:pt x="469" y="149"/>
                  </a:lnTo>
                  <a:lnTo>
                    <a:pt x="467" y="145"/>
                  </a:lnTo>
                  <a:lnTo>
                    <a:pt x="465" y="137"/>
                  </a:lnTo>
                  <a:lnTo>
                    <a:pt x="465" y="133"/>
                  </a:lnTo>
                  <a:lnTo>
                    <a:pt x="463" y="128"/>
                  </a:lnTo>
                  <a:lnTo>
                    <a:pt x="461" y="122"/>
                  </a:lnTo>
                  <a:lnTo>
                    <a:pt x="459" y="116"/>
                  </a:lnTo>
                  <a:lnTo>
                    <a:pt x="459" y="112"/>
                  </a:lnTo>
                  <a:lnTo>
                    <a:pt x="457" y="108"/>
                  </a:lnTo>
                  <a:lnTo>
                    <a:pt x="457" y="105"/>
                  </a:lnTo>
                  <a:lnTo>
                    <a:pt x="453" y="101"/>
                  </a:lnTo>
                  <a:lnTo>
                    <a:pt x="453" y="97"/>
                  </a:lnTo>
                  <a:lnTo>
                    <a:pt x="451" y="93"/>
                  </a:lnTo>
                  <a:lnTo>
                    <a:pt x="451" y="89"/>
                  </a:lnTo>
                  <a:lnTo>
                    <a:pt x="449" y="83"/>
                  </a:lnTo>
                  <a:lnTo>
                    <a:pt x="448" y="79"/>
                  </a:lnTo>
                  <a:lnTo>
                    <a:pt x="444" y="74"/>
                  </a:lnTo>
                  <a:lnTo>
                    <a:pt x="444" y="72"/>
                  </a:lnTo>
                  <a:lnTo>
                    <a:pt x="392" y="16"/>
                  </a:lnTo>
                  <a:lnTo>
                    <a:pt x="326" y="0"/>
                  </a:lnTo>
                  <a:lnTo>
                    <a:pt x="326" y="0"/>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5526000" y="3451320"/>
              <a:ext cx="520920" cy="242640"/>
            </a:xfrm>
            <a:custGeom>
              <a:avLst/>
              <a:gdLst/>
              <a:ahLst/>
              <a:rect l="l" t="t" r="r" b="b"/>
              <a:pathLst>
                <a:path w="328" h="153">
                  <a:moveTo>
                    <a:pt x="6" y="0"/>
                  </a:moveTo>
                  <a:lnTo>
                    <a:pt x="0" y="91"/>
                  </a:lnTo>
                  <a:lnTo>
                    <a:pt x="93" y="74"/>
                  </a:lnTo>
                  <a:lnTo>
                    <a:pt x="328" y="153"/>
                  </a:lnTo>
                  <a:lnTo>
                    <a:pt x="295" y="68"/>
                  </a:lnTo>
                  <a:lnTo>
                    <a:pt x="193" y="4"/>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
            <p:cNvSpPr/>
            <p:nvPr/>
          </p:nvSpPr>
          <p:spPr>
            <a:xfrm>
              <a:off x="5719680" y="3641760"/>
              <a:ext cx="373320" cy="349200"/>
            </a:xfrm>
            <a:custGeom>
              <a:avLst/>
              <a:gdLst/>
              <a:ahLst/>
              <a:rect l="l" t="t" r="r" b="b"/>
              <a:pathLst>
                <a:path w="235" h="220">
                  <a:moveTo>
                    <a:pt x="0" y="127"/>
                  </a:moveTo>
                  <a:lnTo>
                    <a:pt x="65" y="199"/>
                  </a:lnTo>
                  <a:lnTo>
                    <a:pt x="67" y="199"/>
                  </a:lnTo>
                  <a:lnTo>
                    <a:pt x="71" y="201"/>
                  </a:lnTo>
                  <a:lnTo>
                    <a:pt x="77" y="204"/>
                  </a:lnTo>
                  <a:lnTo>
                    <a:pt x="82" y="208"/>
                  </a:lnTo>
                  <a:lnTo>
                    <a:pt x="88" y="212"/>
                  </a:lnTo>
                  <a:lnTo>
                    <a:pt x="92" y="212"/>
                  </a:lnTo>
                  <a:lnTo>
                    <a:pt x="96" y="214"/>
                  </a:lnTo>
                  <a:lnTo>
                    <a:pt x="102" y="216"/>
                  </a:lnTo>
                  <a:lnTo>
                    <a:pt x="106" y="218"/>
                  </a:lnTo>
                  <a:lnTo>
                    <a:pt x="109" y="218"/>
                  </a:lnTo>
                  <a:lnTo>
                    <a:pt x="115" y="218"/>
                  </a:lnTo>
                  <a:lnTo>
                    <a:pt x="119" y="218"/>
                  </a:lnTo>
                  <a:lnTo>
                    <a:pt x="125" y="220"/>
                  </a:lnTo>
                  <a:lnTo>
                    <a:pt x="129" y="218"/>
                  </a:lnTo>
                  <a:lnTo>
                    <a:pt x="135" y="218"/>
                  </a:lnTo>
                  <a:lnTo>
                    <a:pt x="140" y="218"/>
                  </a:lnTo>
                  <a:lnTo>
                    <a:pt x="146" y="216"/>
                  </a:lnTo>
                  <a:lnTo>
                    <a:pt x="152" y="214"/>
                  </a:lnTo>
                  <a:lnTo>
                    <a:pt x="158" y="212"/>
                  </a:lnTo>
                  <a:lnTo>
                    <a:pt x="163" y="208"/>
                  </a:lnTo>
                  <a:lnTo>
                    <a:pt x="169" y="206"/>
                  </a:lnTo>
                  <a:lnTo>
                    <a:pt x="175" y="201"/>
                  </a:lnTo>
                  <a:lnTo>
                    <a:pt x="183" y="197"/>
                  </a:lnTo>
                  <a:lnTo>
                    <a:pt x="188" y="191"/>
                  </a:lnTo>
                  <a:lnTo>
                    <a:pt x="194" y="185"/>
                  </a:lnTo>
                  <a:lnTo>
                    <a:pt x="235" y="77"/>
                  </a:lnTo>
                  <a:lnTo>
                    <a:pt x="55" y="0"/>
                  </a:lnTo>
                  <a:lnTo>
                    <a:pt x="0" y="127"/>
                  </a:lnTo>
                  <a:lnTo>
                    <a:pt x="0" y="127"/>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5645160" y="2665440"/>
              <a:ext cx="196920" cy="293760"/>
            </a:xfrm>
            <a:custGeom>
              <a:avLst/>
              <a:gdLst/>
              <a:ahLst/>
              <a:rect l="l" t="t" r="r" b="b"/>
              <a:pathLst>
                <a:path w="124" h="185">
                  <a:moveTo>
                    <a:pt x="124" y="179"/>
                  </a:moveTo>
                  <a:lnTo>
                    <a:pt x="110" y="118"/>
                  </a:lnTo>
                  <a:lnTo>
                    <a:pt x="74" y="25"/>
                  </a:lnTo>
                  <a:lnTo>
                    <a:pt x="43" y="0"/>
                  </a:lnTo>
                  <a:lnTo>
                    <a:pt x="0" y="8"/>
                  </a:lnTo>
                  <a:lnTo>
                    <a:pt x="2" y="31"/>
                  </a:lnTo>
                  <a:lnTo>
                    <a:pt x="45" y="89"/>
                  </a:lnTo>
                  <a:lnTo>
                    <a:pt x="97" y="160"/>
                  </a:lnTo>
                  <a:lnTo>
                    <a:pt x="95" y="160"/>
                  </a:lnTo>
                  <a:lnTo>
                    <a:pt x="95" y="168"/>
                  </a:lnTo>
                  <a:lnTo>
                    <a:pt x="95" y="170"/>
                  </a:lnTo>
                  <a:lnTo>
                    <a:pt x="97" y="174"/>
                  </a:lnTo>
                  <a:lnTo>
                    <a:pt x="99" y="179"/>
                  </a:lnTo>
                  <a:lnTo>
                    <a:pt x="101" y="183"/>
                  </a:lnTo>
                  <a:lnTo>
                    <a:pt x="106" y="185"/>
                  </a:lnTo>
                  <a:lnTo>
                    <a:pt x="114" y="185"/>
                  </a:lnTo>
                  <a:lnTo>
                    <a:pt x="120" y="181"/>
                  </a:lnTo>
                  <a:lnTo>
                    <a:pt x="124" y="179"/>
                  </a:lnTo>
                  <a:lnTo>
                    <a:pt x="124" y="179"/>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5300640" y="2705040"/>
              <a:ext cx="370080" cy="238320"/>
            </a:xfrm>
            <a:custGeom>
              <a:avLst/>
              <a:gdLst/>
              <a:ahLst/>
              <a:rect l="l" t="t" r="r" b="b"/>
              <a:pathLst>
                <a:path w="233" h="150">
                  <a:moveTo>
                    <a:pt x="233" y="133"/>
                  </a:moveTo>
                  <a:lnTo>
                    <a:pt x="181" y="71"/>
                  </a:lnTo>
                  <a:lnTo>
                    <a:pt x="111" y="23"/>
                  </a:lnTo>
                  <a:lnTo>
                    <a:pt x="50" y="0"/>
                  </a:lnTo>
                  <a:lnTo>
                    <a:pt x="5" y="14"/>
                  </a:lnTo>
                  <a:lnTo>
                    <a:pt x="0" y="42"/>
                  </a:lnTo>
                  <a:lnTo>
                    <a:pt x="50" y="77"/>
                  </a:lnTo>
                  <a:lnTo>
                    <a:pt x="125" y="93"/>
                  </a:lnTo>
                  <a:lnTo>
                    <a:pt x="206" y="129"/>
                  </a:lnTo>
                  <a:lnTo>
                    <a:pt x="206" y="133"/>
                  </a:lnTo>
                  <a:lnTo>
                    <a:pt x="210" y="137"/>
                  </a:lnTo>
                  <a:lnTo>
                    <a:pt x="212" y="141"/>
                  </a:lnTo>
                  <a:lnTo>
                    <a:pt x="217" y="147"/>
                  </a:lnTo>
                  <a:lnTo>
                    <a:pt x="225" y="150"/>
                  </a:lnTo>
                  <a:lnTo>
                    <a:pt x="229" y="147"/>
                  </a:lnTo>
                  <a:lnTo>
                    <a:pt x="231" y="141"/>
                  </a:lnTo>
                  <a:lnTo>
                    <a:pt x="233" y="135"/>
                  </a:lnTo>
                  <a:lnTo>
                    <a:pt x="233" y="133"/>
                  </a:lnTo>
                  <a:lnTo>
                    <a:pt x="233" y="133"/>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5284800" y="2946240"/>
              <a:ext cx="290520" cy="120960"/>
            </a:xfrm>
            <a:custGeom>
              <a:avLst/>
              <a:gdLst/>
              <a:ahLst/>
              <a:rect l="l" t="t" r="r" b="b"/>
              <a:pathLst>
                <a:path w="183" h="76">
                  <a:moveTo>
                    <a:pt x="183" y="37"/>
                  </a:moveTo>
                  <a:lnTo>
                    <a:pt x="148" y="18"/>
                  </a:lnTo>
                  <a:lnTo>
                    <a:pt x="69" y="0"/>
                  </a:lnTo>
                  <a:lnTo>
                    <a:pt x="10" y="2"/>
                  </a:lnTo>
                  <a:lnTo>
                    <a:pt x="0" y="39"/>
                  </a:lnTo>
                  <a:lnTo>
                    <a:pt x="25" y="66"/>
                  </a:lnTo>
                  <a:lnTo>
                    <a:pt x="50" y="76"/>
                  </a:lnTo>
                  <a:lnTo>
                    <a:pt x="125" y="49"/>
                  </a:lnTo>
                  <a:lnTo>
                    <a:pt x="164" y="52"/>
                  </a:lnTo>
                  <a:lnTo>
                    <a:pt x="166" y="52"/>
                  </a:lnTo>
                  <a:lnTo>
                    <a:pt x="169" y="54"/>
                  </a:lnTo>
                  <a:lnTo>
                    <a:pt x="175" y="52"/>
                  </a:lnTo>
                  <a:lnTo>
                    <a:pt x="181" y="50"/>
                  </a:lnTo>
                  <a:lnTo>
                    <a:pt x="183" y="45"/>
                  </a:lnTo>
                  <a:lnTo>
                    <a:pt x="183" y="39"/>
                  </a:lnTo>
                  <a:lnTo>
                    <a:pt x="183" y="37"/>
                  </a:lnTo>
                  <a:lnTo>
                    <a:pt x="183" y="37"/>
                  </a:lnTo>
                  <a:lnTo>
                    <a:pt x="183" y="37"/>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5526000" y="3417840"/>
              <a:ext cx="590760" cy="573120"/>
            </a:xfrm>
            <a:custGeom>
              <a:avLst/>
              <a:gdLst/>
              <a:ahLst/>
              <a:rect l="l" t="t" r="r" b="b"/>
              <a:pathLst>
                <a:path w="372" h="361">
                  <a:moveTo>
                    <a:pt x="6" y="4"/>
                  </a:moveTo>
                  <a:lnTo>
                    <a:pt x="6" y="4"/>
                  </a:lnTo>
                  <a:lnTo>
                    <a:pt x="8" y="4"/>
                  </a:lnTo>
                  <a:lnTo>
                    <a:pt x="12" y="2"/>
                  </a:lnTo>
                  <a:lnTo>
                    <a:pt x="16" y="2"/>
                  </a:lnTo>
                  <a:lnTo>
                    <a:pt x="21" y="2"/>
                  </a:lnTo>
                  <a:lnTo>
                    <a:pt x="29" y="0"/>
                  </a:lnTo>
                  <a:lnTo>
                    <a:pt x="33" y="0"/>
                  </a:lnTo>
                  <a:lnTo>
                    <a:pt x="37" y="0"/>
                  </a:lnTo>
                  <a:lnTo>
                    <a:pt x="41" y="0"/>
                  </a:lnTo>
                  <a:lnTo>
                    <a:pt x="46" y="0"/>
                  </a:lnTo>
                  <a:lnTo>
                    <a:pt x="50" y="0"/>
                  </a:lnTo>
                  <a:lnTo>
                    <a:pt x="56" y="0"/>
                  </a:lnTo>
                  <a:lnTo>
                    <a:pt x="60" y="0"/>
                  </a:lnTo>
                  <a:lnTo>
                    <a:pt x="68" y="0"/>
                  </a:lnTo>
                  <a:lnTo>
                    <a:pt x="71" y="0"/>
                  </a:lnTo>
                  <a:lnTo>
                    <a:pt x="77" y="0"/>
                  </a:lnTo>
                  <a:lnTo>
                    <a:pt x="85" y="0"/>
                  </a:lnTo>
                  <a:lnTo>
                    <a:pt x="91" y="0"/>
                  </a:lnTo>
                  <a:lnTo>
                    <a:pt x="97" y="0"/>
                  </a:lnTo>
                  <a:lnTo>
                    <a:pt x="102" y="0"/>
                  </a:lnTo>
                  <a:lnTo>
                    <a:pt x="108" y="2"/>
                  </a:lnTo>
                  <a:lnTo>
                    <a:pt x="116" y="2"/>
                  </a:lnTo>
                  <a:lnTo>
                    <a:pt x="124" y="2"/>
                  </a:lnTo>
                  <a:lnTo>
                    <a:pt x="129" y="4"/>
                  </a:lnTo>
                  <a:lnTo>
                    <a:pt x="137" y="4"/>
                  </a:lnTo>
                  <a:lnTo>
                    <a:pt x="145" y="6"/>
                  </a:lnTo>
                  <a:lnTo>
                    <a:pt x="150" y="8"/>
                  </a:lnTo>
                  <a:lnTo>
                    <a:pt x="158" y="8"/>
                  </a:lnTo>
                  <a:lnTo>
                    <a:pt x="164" y="10"/>
                  </a:lnTo>
                  <a:lnTo>
                    <a:pt x="172" y="12"/>
                  </a:lnTo>
                  <a:lnTo>
                    <a:pt x="179" y="14"/>
                  </a:lnTo>
                  <a:lnTo>
                    <a:pt x="187" y="16"/>
                  </a:lnTo>
                  <a:lnTo>
                    <a:pt x="193" y="18"/>
                  </a:lnTo>
                  <a:lnTo>
                    <a:pt x="201" y="20"/>
                  </a:lnTo>
                  <a:lnTo>
                    <a:pt x="206" y="21"/>
                  </a:lnTo>
                  <a:lnTo>
                    <a:pt x="216" y="23"/>
                  </a:lnTo>
                  <a:lnTo>
                    <a:pt x="222" y="27"/>
                  </a:lnTo>
                  <a:lnTo>
                    <a:pt x="230" y="31"/>
                  </a:lnTo>
                  <a:lnTo>
                    <a:pt x="235" y="33"/>
                  </a:lnTo>
                  <a:lnTo>
                    <a:pt x="243" y="37"/>
                  </a:lnTo>
                  <a:lnTo>
                    <a:pt x="251" y="39"/>
                  </a:lnTo>
                  <a:lnTo>
                    <a:pt x="258" y="45"/>
                  </a:lnTo>
                  <a:lnTo>
                    <a:pt x="264" y="48"/>
                  </a:lnTo>
                  <a:lnTo>
                    <a:pt x="272" y="52"/>
                  </a:lnTo>
                  <a:lnTo>
                    <a:pt x="278" y="56"/>
                  </a:lnTo>
                  <a:lnTo>
                    <a:pt x="283" y="60"/>
                  </a:lnTo>
                  <a:lnTo>
                    <a:pt x="289" y="64"/>
                  </a:lnTo>
                  <a:lnTo>
                    <a:pt x="295" y="70"/>
                  </a:lnTo>
                  <a:lnTo>
                    <a:pt x="301" y="75"/>
                  </a:lnTo>
                  <a:lnTo>
                    <a:pt x="309" y="81"/>
                  </a:lnTo>
                  <a:lnTo>
                    <a:pt x="312" y="87"/>
                  </a:lnTo>
                  <a:lnTo>
                    <a:pt x="318" y="95"/>
                  </a:lnTo>
                  <a:lnTo>
                    <a:pt x="324" y="101"/>
                  </a:lnTo>
                  <a:lnTo>
                    <a:pt x="330" y="108"/>
                  </a:lnTo>
                  <a:lnTo>
                    <a:pt x="334" y="114"/>
                  </a:lnTo>
                  <a:lnTo>
                    <a:pt x="339" y="122"/>
                  </a:lnTo>
                  <a:lnTo>
                    <a:pt x="343" y="129"/>
                  </a:lnTo>
                  <a:lnTo>
                    <a:pt x="349" y="137"/>
                  </a:lnTo>
                  <a:lnTo>
                    <a:pt x="351" y="145"/>
                  </a:lnTo>
                  <a:lnTo>
                    <a:pt x="355" y="153"/>
                  </a:lnTo>
                  <a:lnTo>
                    <a:pt x="357" y="160"/>
                  </a:lnTo>
                  <a:lnTo>
                    <a:pt x="361" y="168"/>
                  </a:lnTo>
                  <a:lnTo>
                    <a:pt x="363" y="174"/>
                  </a:lnTo>
                  <a:lnTo>
                    <a:pt x="366" y="182"/>
                  </a:lnTo>
                  <a:lnTo>
                    <a:pt x="366" y="189"/>
                  </a:lnTo>
                  <a:lnTo>
                    <a:pt x="368" y="197"/>
                  </a:lnTo>
                  <a:lnTo>
                    <a:pt x="370" y="201"/>
                  </a:lnTo>
                  <a:lnTo>
                    <a:pt x="370" y="209"/>
                  </a:lnTo>
                  <a:lnTo>
                    <a:pt x="370" y="214"/>
                  </a:lnTo>
                  <a:lnTo>
                    <a:pt x="372" y="222"/>
                  </a:lnTo>
                  <a:lnTo>
                    <a:pt x="370" y="228"/>
                  </a:lnTo>
                  <a:lnTo>
                    <a:pt x="370" y="234"/>
                  </a:lnTo>
                  <a:lnTo>
                    <a:pt x="370" y="237"/>
                  </a:lnTo>
                  <a:lnTo>
                    <a:pt x="370" y="243"/>
                  </a:lnTo>
                  <a:lnTo>
                    <a:pt x="370" y="249"/>
                  </a:lnTo>
                  <a:lnTo>
                    <a:pt x="368" y="255"/>
                  </a:lnTo>
                  <a:lnTo>
                    <a:pt x="366" y="259"/>
                  </a:lnTo>
                  <a:lnTo>
                    <a:pt x="366" y="264"/>
                  </a:lnTo>
                  <a:lnTo>
                    <a:pt x="364" y="268"/>
                  </a:lnTo>
                  <a:lnTo>
                    <a:pt x="363" y="274"/>
                  </a:lnTo>
                  <a:lnTo>
                    <a:pt x="361" y="278"/>
                  </a:lnTo>
                  <a:lnTo>
                    <a:pt x="359" y="284"/>
                  </a:lnTo>
                  <a:lnTo>
                    <a:pt x="357" y="286"/>
                  </a:lnTo>
                  <a:lnTo>
                    <a:pt x="355" y="291"/>
                  </a:lnTo>
                  <a:lnTo>
                    <a:pt x="351" y="295"/>
                  </a:lnTo>
                  <a:lnTo>
                    <a:pt x="349" y="299"/>
                  </a:lnTo>
                  <a:lnTo>
                    <a:pt x="343" y="305"/>
                  </a:lnTo>
                  <a:lnTo>
                    <a:pt x="339" y="313"/>
                  </a:lnTo>
                  <a:lnTo>
                    <a:pt x="332" y="318"/>
                  </a:lnTo>
                  <a:lnTo>
                    <a:pt x="326" y="324"/>
                  </a:lnTo>
                  <a:lnTo>
                    <a:pt x="320" y="330"/>
                  </a:lnTo>
                  <a:lnTo>
                    <a:pt x="314" y="334"/>
                  </a:lnTo>
                  <a:lnTo>
                    <a:pt x="307" y="338"/>
                  </a:lnTo>
                  <a:lnTo>
                    <a:pt x="301" y="342"/>
                  </a:lnTo>
                  <a:lnTo>
                    <a:pt x="295" y="345"/>
                  </a:lnTo>
                  <a:lnTo>
                    <a:pt x="291" y="349"/>
                  </a:lnTo>
                  <a:lnTo>
                    <a:pt x="285" y="351"/>
                  </a:lnTo>
                  <a:lnTo>
                    <a:pt x="280" y="353"/>
                  </a:lnTo>
                  <a:lnTo>
                    <a:pt x="276" y="357"/>
                  </a:lnTo>
                  <a:lnTo>
                    <a:pt x="272" y="359"/>
                  </a:lnTo>
                  <a:lnTo>
                    <a:pt x="268" y="359"/>
                  </a:lnTo>
                  <a:lnTo>
                    <a:pt x="266" y="361"/>
                  </a:lnTo>
                  <a:lnTo>
                    <a:pt x="266" y="359"/>
                  </a:lnTo>
                  <a:lnTo>
                    <a:pt x="268" y="359"/>
                  </a:lnTo>
                  <a:lnTo>
                    <a:pt x="272" y="355"/>
                  </a:lnTo>
                  <a:lnTo>
                    <a:pt x="276" y="351"/>
                  </a:lnTo>
                  <a:lnTo>
                    <a:pt x="282" y="347"/>
                  </a:lnTo>
                  <a:lnTo>
                    <a:pt x="287" y="342"/>
                  </a:lnTo>
                  <a:lnTo>
                    <a:pt x="293" y="334"/>
                  </a:lnTo>
                  <a:lnTo>
                    <a:pt x="301" y="328"/>
                  </a:lnTo>
                  <a:lnTo>
                    <a:pt x="303" y="322"/>
                  </a:lnTo>
                  <a:lnTo>
                    <a:pt x="307" y="318"/>
                  </a:lnTo>
                  <a:lnTo>
                    <a:pt x="309" y="315"/>
                  </a:lnTo>
                  <a:lnTo>
                    <a:pt x="312" y="311"/>
                  </a:lnTo>
                  <a:lnTo>
                    <a:pt x="314" y="305"/>
                  </a:lnTo>
                  <a:lnTo>
                    <a:pt x="318" y="299"/>
                  </a:lnTo>
                  <a:lnTo>
                    <a:pt x="320" y="295"/>
                  </a:lnTo>
                  <a:lnTo>
                    <a:pt x="324" y="290"/>
                  </a:lnTo>
                  <a:lnTo>
                    <a:pt x="326" y="284"/>
                  </a:lnTo>
                  <a:lnTo>
                    <a:pt x="328" y="278"/>
                  </a:lnTo>
                  <a:lnTo>
                    <a:pt x="330" y="272"/>
                  </a:lnTo>
                  <a:lnTo>
                    <a:pt x="332" y="266"/>
                  </a:lnTo>
                  <a:lnTo>
                    <a:pt x="332" y="261"/>
                  </a:lnTo>
                  <a:lnTo>
                    <a:pt x="334" y="255"/>
                  </a:lnTo>
                  <a:lnTo>
                    <a:pt x="334" y="247"/>
                  </a:lnTo>
                  <a:lnTo>
                    <a:pt x="336" y="241"/>
                  </a:lnTo>
                  <a:lnTo>
                    <a:pt x="332" y="241"/>
                  </a:lnTo>
                  <a:lnTo>
                    <a:pt x="330" y="237"/>
                  </a:lnTo>
                  <a:lnTo>
                    <a:pt x="326" y="236"/>
                  </a:lnTo>
                  <a:lnTo>
                    <a:pt x="322" y="234"/>
                  </a:lnTo>
                  <a:lnTo>
                    <a:pt x="318" y="232"/>
                  </a:lnTo>
                  <a:lnTo>
                    <a:pt x="314" y="230"/>
                  </a:lnTo>
                  <a:lnTo>
                    <a:pt x="310" y="226"/>
                  </a:lnTo>
                  <a:lnTo>
                    <a:pt x="305" y="224"/>
                  </a:lnTo>
                  <a:lnTo>
                    <a:pt x="301" y="220"/>
                  </a:lnTo>
                  <a:lnTo>
                    <a:pt x="295" y="218"/>
                  </a:lnTo>
                  <a:lnTo>
                    <a:pt x="291" y="216"/>
                  </a:lnTo>
                  <a:lnTo>
                    <a:pt x="285" y="212"/>
                  </a:lnTo>
                  <a:lnTo>
                    <a:pt x="280" y="210"/>
                  </a:lnTo>
                  <a:lnTo>
                    <a:pt x="276" y="209"/>
                  </a:lnTo>
                  <a:lnTo>
                    <a:pt x="270" y="205"/>
                  </a:lnTo>
                  <a:lnTo>
                    <a:pt x="264" y="203"/>
                  </a:lnTo>
                  <a:lnTo>
                    <a:pt x="257" y="201"/>
                  </a:lnTo>
                  <a:lnTo>
                    <a:pt x="249" y="201"/>
                  </a:lnTo>
                  <a:lnTo>
                    <a:pt x="245" y="199"/>
                  </a:lnTo>
                  <a:lnTo>
                    <a:pt x="239" y="199"/>
                  </a:lnTo>
                  <a:lnTo>
                    <a:pt x="235" y="199"/>
                  </a:lnTo>
                  <a:lnTo>
                    <a:pt x="231" y="199"/>
                  </a:lnTo>
                  <a:lnTo>
                    <a:pt x="226" y="199"/>
                  </a:lnTo>
                  <a:lnTo>
                    <a:pt x="222" y="199"/>
                  </a:lnTo>
                  <a:lnTo>
                    <a:pt x="216" y="201"/>
                  </a:lnTo>
                  <a:lnTo>
                    <a:pt x="212" y="201"/>
                  </a:lnTo>
                  <a:lnTo>
                    <a:pt x="206" y="203"/>
                  </a:lnTo>
                  <a:lnTo>
                    <a:pt x="201" y="203"/>
                  </a:lnTo>
                  <a:lnTo>
                    <a:pt x="195" y="205"/>
                  </a:lnTo>
                  <a:lnTo>
                    <a:pt x="191" y="205"/>
                  </a:lnTo>
                  <a:lnTo>
                    <a:pt x="185" y="207"/>
                  </a:lnTo>
                  <a:lnTo>
                    <a:pt x="181" y="209"/>
                  </a:lnTo>
                  <a:lnTo>
                    <a:pt x="177" y="209"/>
                  </a:lnTo>
                  <a:lnTo>
                    <a:pt x="174" y="210"/>
                  </a:lnTo>
                  <a:lnTo>
                    <a:pt x="170" y="210"/>
                  </a:lnTo>
                  <a:lnTo>
                    <a:pt x="166" y="212"/>
                  </a:lnTo>
                  <a:lnTo>
                    <a:pt x="162" y="212"/>
                  </a:lnTo>
                  <a:lnTo>
                    <a:pt x="160" y="214"/>
                  </a:lnTo>
                  <a:lnTo>
                    <a:pt x="154" y="216"/>
                  </a:lnTo>
                  <a:lnTo>
                    <a:pt x="149" y="220"/>
                  </a:lnTo>
                  <a:lnTo>
                    <a:pt x="145" y="222"/>
                  </a:lnTo>
                  <a:lnTo>
                    <a:pt x="141" y="228"/>
                  </a:lnTo>
                  <a:lnTo>
                    <a:pt x="139" y="230"/>
                  </a:lnTo>
                  <a:lnTo>
                    <a:pt x="137" y="236"/>
                  </a:lnTo>
                  <a:lnTo>
                    <a:pt x="135" y="239"/>
                  </a:lnTo>
                  <a:lnTo>
                    <a:pt x="135" y="247"/>
                  </a:lnTo>
                  <a:lnTo>
                    <a:pt x="133" y="253"/>
                  </a:lnTo>
                  <a:lnTo>
                    <a:pt x="135" y="261"/>
                  </a:lnTo>
                  <a:lnTo>
                    <a:pt x="135" y="266"/>
                  </a:lnTo>
                  <a:lnTo>
                    <a:pt x="139" y="276"/>
                  </a:lnTo>
                  <a:lnTo>
                    <a:pt x="139" y="278"/>
                  </a:lnTo>
                  <a:lnTo>
                    <a:pt x="143" y="282"/>
                  </a:lnTo>
                  <a:lnTo>
                    <a:pt x="145" y="286"/>
                  </a:lnTo>
                  <a:lnTo>
                    <a:pt x="149" y="291"/>
                  </a:lnTo>
                  <a:lnTo>
                    <a:pt x="152" y="297"/>
                  </a:lnTo>
                  <a:lnTo>
                    <a:pt x="160" y="305"/>
                  </a:lnTo>
                  <a:lnTo>
                    <a:pt x="166" y="313"/>
                  </a:lnTo>
                  <a:lnTo>
                    <a:pt x="174" y="320"/>
                  </a:lnTo>
                  <a:lnTo>
                    <a:pt x="179" y="326"/>
                  </a:lnTo>
                  <a:lnTo>
                    <a:pt x="187" y="334"/>
                  </a:lnTo>
                  <a:lnTo>
                    <a:pt x="193" y="340"/>
                  </a:lnTo>
                  <a:lnTo>
                    <a:pt x="199" y="343"/>
                  </a:lnTo>
                  <a:lnTo>
                    <a:pt x="203" y="347"/>
                  </a:lnTo>
                  <a:lnTo>
                    <a:pt x="206" y="351"/>
                  </a:lnTo>
                  <a:lnTo>
                    <a:pt x="208" y="351"/>
                  </a:lnTo>
                  <a:lnTo>
                    <a:pt x="210" y="353"/>
                  </a:lnTo>
                  <a:lnTo>
                    <a:pt x="185" y="343"/>
                  </a:lnTo>
                  <a:lnTo>
                    <a:pt x="183" y="342"/>
                  </a:lnTo>
                  <a:lnTo>
                    <a:pt x="177" y="338"/>
                  </a:lnTo>
                  <a:lnTo>
                    <a:pt x="174" y="334"/>
                  </a:lnTo>
                  <a:lnTo>
                    <a:pt x="170" y="332"/>
                  </a:lnTo>
                  <a:lnTo>
                    <a:pt x="164" y="326"/>
                  </a:lnTo>
                  <a:lnTo>
                    <a:pt x="160" y="322"/>
                  </a:lnTo>
                  <a:lnTo>
                    <a:pt x="152" y="316"/>
                  </a:lnTo>
                  <a:lnTo>
                    <a:pt x="145" y="311"/>
                  </a:lnTo>
                  <a:lnTo>
                    <a:pt x="139" y="305"/>
                  </a:lnTo>
                  <a:lnTo>
                    <a:pt x="131" y="299"/>
                  </a:lnTo>
                  <a:lnTo>
                    <a:pt x="127" y="295"/>
                  </a:lnTo>
                  <a:lnTo>
                    <a:pt x="124" y="291"/>
                  </a:lnTo>
                  <a:lnTo>
                    <a:pt x="120" y="288"/>
                  </a:lnTo>
                  <a:lnTo>
                    <a:pt x="116" y="284"/>
                  </a:lnTo>
                  <a:lnTo>
                    <a:pt x="108" y="276"/>
                  </a:lnTo>
                  <a:lnTo>
                    <a:pt x="100" y="270"/>
                  </a:lnTo>
                  <a:lnTo>
                    <a:pt x="97" y="264"/>
                  </a:lnTo>
                  <a:lnTo>
                    <a:pt x="93" y="261"/>
                  </a:lnTo>
                  <a:lnTo>
                    <a:pt x="87" y="255"/>
                  </a:lnTo>
                  <a:lnTo>
                    <a:pt x="85" y="251"/>
                  </a:lnTo>
                  <a:lnTo>
                    <a:pt x="79" y="247"/>
                  </a:lnTo>
                  <a:lnTo>
                    <a:pt x="75" y="241"/>
                  </a:lnTo>
                  <a:lnTo>
                    <a:pt x="73" y="237"/>
                  </a:lnTo>
                  <a:lnTo>
                    <a:pt x="70" y="234"/>
                  </a:lnTo>
                  <a:lnTo>
                    <a:pt x="64" y="228"/>
                  </a:lnTo>
                  <a:lnTo>
                    <a:pt x="62" y="224"/>
                  </a:lnTo>
                  <a:lnTo>
                    <a:pt x="58" y="218"/>
                  </a:lnTo>
                  <a:lnTo>
                    <a:pt x="54" y="214"/>
                  </a:lnTo>
                  <a:lnTo>
                    <a:pt x="50" y="209"/>
                  </a:lnTo>
                  <a:lnTo>
                    <a:pt x="48" y="203"/>
                  </a:lnTo>
                  <a:lnTo>
                    <a:pt x="44" y="199"/>
                  </a:lnTo>
                  <a:lnTo>
                    <a:pt x="43" y="193"/>
                  </a:lnTo>
                  <a:lnTo>
                    <a:pt x="39" y="187"/>
                  </a:lnTo>
                  <a:lnTo>
                    <a:pt x="35" y="183"/>
                  </a:lnTo>
                  <a:lnTo>
                    <a:pt x="33" y="178"/>
                  </a:lnTo>
                  <a:lnTo>
                    <a:pt x="31" y="172"/>
                  </a:lnTo>
                  <a:lnTo>
                    <a:pt x="29" y="166"/>
                  </a:lnTo>
                  <a:lnTo>
                    <a:pt x="25" y="162"/>
                  </a:lnTo>
                  <a:lnTo>
                    <a:pt x="23" y="156"/>
                  </a:lnTo>
                  <a:lnTo>
                    <a:pt x="23" y="153"/>
                  </a:lnTo>
                  <a:lnTo>
                    <a:pt x="19" y="145"/>
                  </a:lnTo>
                  <a:lnTo>
                    <a:pt x="19" y="141"/>
                  </a:lnTo>
                  <a:lnTo>
                    <a:pt x="17" y="135"/>
                  </a:lnTo>
                  <a:lnTo>
                    <a:pt x="17" y="129"/>
                  </a:lnTo>
                  <a:lnTo>
                    <a:pt x="16" y="124"/>
                  </a:lnTo>
                  <a:lnTo>
                    <a:pt x="16" y="120"/>
                  </a:lnTo>
                  <a:lnTo>
                    <a:pt x="16" y="114"/>
                  </a:lnTo>
                  <a:lnTo>
                    <a:pt x="16" y="110"/>
                  </a:lnTo>
                  <a:lnTo>
                    <a:pt x="16" y="108"/>
                  </a:lnTo>
                  <a:lnTo>
                    <a:pt x="19" y="108"/>
                  </a:lnTo>
                  <a:lnTo>
                    <a:pt x="21" y="106"/>
                  </a:lnTo>
                  <a:lnTo>
                    <a:pt x="23" y="106"/>
                  </a:lnTo>
                  <a:lnTo>
                    <a:pt x="27" y="104"/>
                  </a:lnTo>
                  <a:lnTo>
                    <a:pt x="31" y="104"/>
                  </a:lnTo>
                  <a:lnTo>
                    <a:pt x="35" y="104"/>
                  </a:lnTo>
                  <a:lnTo>
                    <a:pt x="41" y="102"/>
                  </a:lnTo>
                  <a:lnTo>
                    <a:pt x="44" y="101"/>
                  </a:lnTo>
                  <a:lnTo>
                    <a:pt x="50" y="101"/>
                  </a:lnTo>
                  <a:lnTo>
                    <a:pt x="56" y="99"/>
                  </a:lnTo>
                  <a:lnTo>
                    <a:pt x="62" y="99"/>
                  </a:lnTo>
                  <a:lnTo>
                    <a:pt x="70" y="97"/>
                  </a:lnTo>
                  <a:lnTo>
                    <a:pt x="75" y="97"/>
                  </a:lnTo>
                  <a:lnTo>
                    <a:pt x="83" y="95"/>
                  </a:lnTo>
                  <a:lnTo>
                    <a:pt x="89" y="95"/>
                  </a:lnTo>
                  <a:lnTo>
                    <a:pt x="97" y="95"/>
                  </a:lnTo>
                  <a:lnTo>
                    <a:pt x="104" y="93"/>
                  </a:lnTo>
                  <a:lnTo>
                    <a:pt x="112" y="93"/>
                  </a:lnTo>
                  <a:lnTo>
                    <a:pt x="120" y="93"/>
                  </a:lnTo>
                  <a:lnTo>
                    <a:pt x="124" y="93"/>
                  </a:lnTo>
                  <a:lnTo>
                    <a:pt x="127" y="93"/>
                  </a:lnTo>
                  <a:lnTo>
                    <a:pt x="131" y="93"/>
                  </a:lnTo>
                  <a:lnTo>
                    <a:pt x="135" y="93"/>
                  </a:lnTo>
                  <a:lnTo>
                    <a:pt x="139" y="93"/>
                  </a:lnTo>
                  <a:lnTo>
                    <a:pt x="143" y="93"/>
                  </a:lnTo>
                  <a:lnTo>
                    <a:pt x="147" y="93"/>
                  </a:lnTo>
                  <a:lnTo>
                    <a:pt x="150" y="93"/>
                  </a:lnTo>
                  <a:lnTo>
                    <a:pt x="154" y="93"/>
                  </a:lnTo>
                  <a:lnTo>
                    <a:pt x="160" y="93"/>
                  </a:lnTo>
                  <a:lnTo>
                    <a:pt x="164" y="93"/>
                  </a:lnTo>
                  <a:lnTo>
                    <a:pt x="168" y="93"/>
                  </a:lnTo>
                  <a:lnTo>
                    <a:pt x="172" y="93"/>
                  </a:lnTo>
                  <a:lnTo>
                    <a:pt x="176" y="95"/>
                  </a:lnTo>
                  <a:lnTo>
                    <a:pt x="179" y="95"/>
                  </a:lnTo>
                  <a:lnTo>
                    <a:pt x="183" y="95"/>
                  </a:lnTo>
                  <a:lnTo>
                    <a:pt x="187" y="95"/>
                  </a:lnTo>
                  <a:lnTo>
                    <a:pt x="191" y="97"/>
                  </a:lnTo>
                  <a:lnTo>
                    <a:pt x="195" y="99"/>
                  </a:lnTo>
                  <a:lnTo>
                    <a:pt x="201" y="99"/>
                  </a:lnTo>
                  <a:lnTo>
                    <a:pt x="206" y="101"/>
                  </a:lnTo>
                  <a:lnTo>
                    <a:pt x="214" y="102"/>
                  </a:lnTo>
                  <a:lnTo>
                    <a:pt x="220" y="104"/>
                  </a:lnTo>
                  <a:lnTo>
                    <a:pt x="228" y="106"/>
                  </a:lnTo>
                  <a:lnTo>
                    <a:pt x="233" y="108"/>
                  </a:lnTo>
                  <a:lnTo>
                    <a:pt x="239" y="110"/>
                  </a:lnTo>
                  <a:lnTo>
                    <a:pt x="245" y="112"/>
                  </a:lnTo>
                  <a:lnTo>
                    <a:pt x="253" y="114"/>
                  </a:lnTo>
                  <a:lnTo>
                    <a:pt x="257" y="116"/>
                  </a:lnTo>
                  <a:lnTo>
                    <a:pt x="262" y="118"/>
                  </a:lnTo>
                  <a:lnTo>
                    <a:pt x="268" y="120"/>
                  </a:lnTo>
                  <a:lnTo>
                    <a:pt x="272" y="122"/>
                  </a:lnTo>
                  <a:lnTo>
                    <a:pt x="276" y="124"/>
                  </a:lnTo>
                  <a:lnTo>
                    <a:pt x="282" y="126"/>
                  </a:lnTo>
                  <a:lnTo>
                    <a:pt x="285" y="128"/>
                  </a:lnTo>
                  <a:lnTo>
                    <a:pt x="289" y="129"/>
                  </a:lnTo>
                  <a:lnTo>
                    <a:pt x="295" y="133"/>
                  </a:lnTo>
                  <a:lnTo>
                    <a:pt x="301" y="137"/>
                  </a:lnTo>
                  <a:lnTo>
                    <a:pt x="307" y="139"/>
                  </a:lnTo>
                  <a:lnTo>
                    <a:pt x="310" y="143"/>
                  </a:lnTo>
                  <a:lnTo>
                    <a:pt x="316" y="145"/>
                  </a:lnTo>
                  <a:lnTo>
                    <a:pt x="318" y="149"/>
                  </a:lnTo>
                  <a:lnTo>
                    <a:pt x="318" y="147"/>
                  </a:lnTo>
                  <a:lnTo>
                    <a:pt x="314" y="143"/>
                  </a:lnTo>
                  <a:lnTo>
                    <a:pt x="312" y="139"/>
                  </a:lnTo>
                  <a:lnTo>
                    <a:pt x="309" y="133"/>
                  </a:lnTo>
                  <a:lnTo>
                    <a:pt x="307" y="129"/>
                  </a:lnTo>
                  <a:lnTo>
                    <a:pt x="305" y="126"/>
                  </a:lnTo>
                  <a:lnTo>
                    <a:pt x="301" y="122"/>
                  </a:lnTo>
                  <a:lnTo>
                    <a:pt x="297" y="118"/>
                  </a:lnTo>
                  <a:lnTo>
                    <a:pt x="293" y="114"/>
                  </a:lnTo>
                  <a:lnTo>
                    <a:pt x="291" y="110"/>
                  </a:lnTo>
                  <a:lnTo>
                    <a:pt x="285" y="106"/>
                  </a:lnTo>
                  <a:lnTo>
                    <a:pt x="282" y="101"/>
                  </a:lnTo>
                  <a:lnTo>
                    <a:pt x="276" y="97"/>
                  </a:lnTo>
                  <a:lnTo>
                    <a:pt x="272" y="91"/>
                  </a:lnTo>
                  <a:lnTo>
                    <a:pt x="266" y="87"/>
                  </a:lnTo>
                  <a:lnTo>
                    <a:pt x="260" y="81"/>
                  </a:lnTo>
                  <a:lnTo>
                    <a:pt x="255" y="77"/>
                  </a:lnTo>
                  <a:lnTo>
                    <a:pt x="247" y="72"/>
                  </a:lnTo>
                  <a:lnTo>
                    <a:pt x="241" y="68"/>
                  </a:lnTo>
                  <a:lnTo>
                    <a:pt x="235" y="64"/>
                  </a:lnTo>
                  <a:lnTo>
                    <a:pt x="230" y="62"/>
                  </a:lnTo>
                  <a:lnTo>
                    <a:pt x="226" y="58"/>
                  </a:lnTo>
                  <a:lnTo>
                    <a:pt x="222" y="56"/>
                  </a:lnTo>
                  <a:lnTo>
                    <a:pt x="218" y="54"/>
                  </a:lnTo>
                  <a:lnTo>
                    <a:pt x="214" y="52"/>
                  </a:lnTo>
                  <a:lnTo>
                    <a:pt x="210" y="50"/>
                  </a:lnTo>
                  <a:lnTo>
                    <a:pt x="206" y="48"/>
                  </a:lnTo>
                  <a:lnTo>
                    <a:pt x="203" y="47"/>
                  </a:lnTo>
                  <a:lnTo>
                    <a:pt x="197" y="45"/>
                  </a:lnTo>
                  <a:lnTo>
                    <a:pt x="193" y="43"/>
                  </a:lnTo>
                  <a:lnTo>
                    <a:pt x="189" y="43"/>
                  </a:lnTo>
                  <a:lnTo>
                    <a:pt x="183" y="41"/>
                  </a:lnTo>
                  <a:lnTo>
                    <a:pt x="179" y="39"/>
                  </a:lnTo>
                  <a:lnTo>
                    <a:pt x="176" y="37"/>
                  </a:lnTo>
                  <a:lnTo>
                    <a:pt x="170" y="37"/>
                  </a:lnTo>
                  <a:lnTo>
                    <a:pt x="166" y="35"/>
                  </a:lnTo>
                  <a:lnTo>
                    <a:pt x="160" y="33"/>
                  </a:lnTo>
                  <a:lnTo>
                    <a:pt x="154" y="33"/>
                  </a:lnTo>
                  <a:lnTo>
                    <a:pt x="150" y="31"/>
                  </a:lnTo>
                  <a:lnTo>
                    <a:pt x="145" y="31"/>
                  </a:lnTo>
                  <a:lnTo>
                    <a:pt x="141" y="29"/>
                  </a:lnTo>
                  <a:lnTo>
                    <a:pt x="135" y="29"/>
                  </a:lnTo>
                  <a:lnTo>
                    <a:pt x="131" y="27"/>
                  </a:lnTo>
                  <a:lnTo>
                    <a:pt x="127" y="27"/>
                  </a:lnTo>
                  <a:lnTo>
                    <a:pt x="124" y="25"/>
                  </a:lnTo>
                  <a:lnTo>
                    <a:pt x="118" y="25"/>
                  </a:lnTo>
                  <a:lnTo>
                    <a:pt x="114" y="25"/>
                  </a:lnTo>
                  <a:lnTo>
                    <a:pt x="110" y="25"/>
                  </a:lnTo>
                  <a:lnTo>
                    <a:pt x="102" y="25"/>
                  </a:lnTo>
                  <a:lnTo>
                    <a:pt x="95" y="25"/>
                  </a:lnTo>
                  <a:lnTo>
                    <a:pt x="87" y="23"/>
                  </a:lnTo>
                  <a:lnTo>
                    <a:pt x="81" y="23"/>
                  </a:lnTo>
                  <a:lnTo>
                    <a:pt x="75" y="23"/>
                  </a:lnTo>
                  <a:lnTo>
                    <a:pt x="70" y="25"/>
                  </a:lnTo>
                  <a:lnTo>
                    <a:pt x="62" y="25"/>
                  </a:lnTo>
                  <a:lnTo>
                    <a:pt x="58" y="25"/>
                  </a:lnTo>
                  <a:lnTo>
                    <a:pt x="52" y="25"/>
                  </a:lnTo>
                  <a:lnTo>
                    <a:pt x="48" y="27"/>
                  </a:lnTo>
                  <a:lnTo>
                    <a:pt x="43" y="27"/>
                  </a:lnTo>
                  <a:lnTo>
                    <a:pt x="39" y="29"/>
                  </a:lnTo>
                  <a:lnTo>
                    <a:pt x="35" y="29"/>
                  </a:lnTo>
                  <a:lnTo>
                    <a:pt x="31" y="31"/>
                  </a:lnTo>
                  <a:lnTo>
                    <a:pt x="23" y="31"/>
                  </a:lnTo>
                  <a:lnTo>
                    <a:pt x="17" y="33"/>
                  </a:lnTo>
                  <a:lnTo>
                    <a:pt x="12" y="35"/>
                  </a:lnTo>
                  <a:lnTo>
                    <a:pt x="8" y="35"/>
                  </a:lnTo>
                  <a:lnTo>
                    <a:pt x="6" y="35"/>
                  </a:lnTo>
                  <a:lnTo>
                    <a:pt x="6" y="33"/>
                  </a:lnTo>
                  <a:lnTo>
                    <a:pt x="2" y="27"/>
                  </a:lnTo>
                  <a:lnTo>
                    <a:pt x="0" y="23"/>
                  </a:lnTo>
                  <a:lnTo>
                    <a:pt x="0" y="18"/>
                  </a:lnTo>
                  <a:lnTo>
                    <a:pt x="2" y="14"/>
                  </a:lnTo>
                  <a:lnTo>
                    <a:pt x="2" y="10"/>
                  </a:lnTo>
                  <a:lnTo>
                    <a:pt x="4" y="6"/>
                  </a:lnTo>
                  <a:lnTo>
                    <a:pt x="4" y="4"/>
                  </a:lnTo>
                  <a:lnTo>
                    <a:pt x="6" y="4"/>
                  </a:lnTo>
                  <a:lnTo>
                    <a:pt x="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5676840" y="3143160"/>
              <a:ext cx="238320" cy="181080"/>
            </a:xfrm>
            <a:custGeom>
              <a:avLst/>
              <a:gdLst/>
              <a:ahLst/>
              <a:rect l="l" t="t" r="r" b="b"/>
              <a:pathLst>
                <a:path w="150" h="114">
                  <a:moveTo>
                    <a:pt x="136" y="42"/>
                  </a:moveTo>
                  <a:lnTo>
                    <a:pt x="136" y="40"/>
                  </a:lnTo>
                  <a:lnTo>
                    <a:pt x="135" y="38"/>
                  </a:lnTo>
                  <a:lnTo>
                    <a:pt x="131" y="36"/>
                  </a:lnTo>
                  <a:lnTo>
                    <a:pt x="125" y="36"/>
                  </a:lnTo>
                  <a:lnTo>
                    <a:pt x="119" y="33"/>
                  </a:lnTo>
                  <a:lnTo>
                    <a:pt x="113" y="31"/>
                  </a:lnTo>
                  <a:lnTo>
                    <a:pt x="106" y="27"/>
                  </a:lnTo>
                  <a:lnTo>
                    <a:pt x="100" y="25"/>
                  </a:lnTo>
                  <a:lnTo>
                    <a:pt x="94" y="23"/>
                  </a:lnTo>
                  <a:lnTo>
                    <a:pt x="92" y="23"/>
                  </a:lnTo>
                  <a:lnTo>
                    <a:pt x="86" y="21"/>
                  </a:lnTo>
                  <a:lnTo>
                    <a:pt x="84" y="19"/>
                  </a:lnTo>
                  <a:lnTo>
                    <a:pt x="75" y="17"/>
                  </a:lnTo>
                  <a:lnTo>
                    <a:pt x="69" y="15"/>
                  </a:lnTo>
                  <a:lnTo>
                    <a:pt x="61" y="13"/>
                  </a:lnTo>
                  <a:lnTo>
                    <a:pt x="55" y="11"/>
                  </a:lnTo>
                  <a:lnTo>
                    <a:pt x="50" y="11"/>
                  </a:lnTo>
                  <a:lnTo>
                    <a:pt x="44" y="13"/>
                  </a:lnTo>
                  <a:lnTo>
                    <a:pt x="40" y="13"/>
                  </a:lnTo>
                  <a:lnTo>
                    <a:pt x="36" y="19"/>
                  </a:lnTo>
                  <a:lnTo>
                    <a:pt x="34" y="23"/>
                  </a:lnTo>
                  <a:lnTo>
                    <a:pt x="32" y="31"/>
                  </a:lnTo>
                  <a:lnTo>
                    <a:pt x="30" y="34"/>
                  </a:lnTo>
                  <a:lnTo>
                    <a:pt x="30" y="38"/>
                  </a:lnTo>
                  <a:lnTo>
                    <a:pt x="29" y="42"/>
                  </a:lnTo>
                  <a:lnTo>
                    <a:pt x="29" y="48"/>
                  </a:lnTo>
                  <a:lnTo>
                    <a:pt x="29" y="52"/>
                  </a:lnTo>
                  <a:lnTo>
                    <a:pt x="29" y="56"/>
                  </a:lnTo>
                  <a:lnTo>
                    <a:pt x="29" y="61"/>
                  </a:lnTo>
                  <a:lnTo>
                    <a:pt x="29" y="67"/>
                  </a:lnTo>
                  <a:lnTo>
                    <a:pt x="29" y="71"/>
                  </a:lnTo>
                  <a:lnTo>
                    <a:pt x="29" y="75"/>
                  </a:lnTo>
                  <a:lnTo>
                    <a:pt x="29" y="79"/>
                  </a:lnTo>
                  <a:lnTo>
                    <a:pt x="29" y="85"/>
                  </a:lnTo>
                  <a:lnTo>
                    <a:pt x="27" y="87"/>
                  </a:lnTo>
                  <a:lnTo>
                    <a:pt x="27" y="92"/>
                  </a:lnTo>
                  <a:lnTo>
                    <a:pt x="27" y="94"/>
                  </a:lnTo>
                  <a:lnTo>
                    <a:pt x="27" y="100"/>
                  </a:lnTo>
                  <a:lnTo>
                    <a:pt x="27" y="106"/>
                  </a:lnTo>
                  <a:lnTo>
                    <a:pt x="27" y="110"/>
                  </a:lnTo>
                  <a:lnTo>
                    <a:pt x="25" y="112"/>
                  </a:lnTo>
                  <a:lnTo>
                    <a:pt x="25" y="114"/>
                  </a:lnTo>
                  <a:lnTo>
                    <a:pt x="17" y="110"/>
                  </a:lnTo>
                  <a:lnTo>
                    <a:pt x="9" y="106"/>
                  </a:lnTo>
                  <a:lnTo>
                    <a:pt x="3" y="102"/>
                  </a:lnTo>
                  <a:lnTo>
                    <a:pt x="0" y="98"/>
                  </a:lnTo>
                  <a:lnTo>
                    <a:pt x="0" y="94"/>
                  </a:lnTo>
                  <a:lnTo>
                    <a:pt x="0" y="90"/>
                  </a:lnTo>
                  <a:lnTo>
                    <a:pt x="0" y="85"/>
                  </a:lnTo>
                  <a:lnTo>
                    <a:pt x="0" y="79"/>
                  </a:lnTo>
                  <a:lnTo>
                    <a:pt x="0" y="71"/>
                  </a:lnTo>
                  <a:lnTo>
                    <a:pt x="2" y="65"/>
                  </a:lnTo>
                  <a:lnTo>
                    <a:pt x="2" y="61"/>
                  </a:lnTo>
                  <a:lnTo>
                    <a:pt x="2" y="58"/>
                  </a:lnTo>
                  <a:lnTo>
                    <a:pt x="3" y="52"/>
                  </a:lnTo>
                  <a:lnTo>
                    <a:pt x="3" y="50"/>
                  </a:lnTo>
                  <a:lnTo>
                    <a:pt x="3" y="44"/>
                  </a:lnTo>
                  <a:lnTo>
                    <a:pt x="5" y="40"/>
                  </a:lnTo>
                  <a:lnTo>
                    <a:pt x="5" y="36"/>
                  </a:lnTo>
                  <a:lnTo>
                    <a:pt x="7" y="33"/>
                  </a:lnTo>
                  <a:lnTo>
                    <a:pt x="9" y="25"/>
                  </a:lnTo>
                  <a:lnTo>
                    <a:pt x="13" y="17"/>
                  </a:lnTo>
                  <a:lnTo>
                    <a:pt x="15" y="11"/>
                  </a:lnTo>
                  <a:lnTo>
                    <a:pt x="19" y="6"/>
                  </a:lnTo>
                  <a:lnTo>
                    <a:pt x="23" y="2"/>
                  </a:lnTo>
                  <a:lnTo>
                    <a:pt x="29" y="2"/>
                  </a:lnTo>
                  <a:lnTo>
                    <a:pt x="32" y="0"/>
                  </a:lnTo>
                  <a:lnTo>
                    <a:pt x="40" y="0"/>
                  </a:lnTo>
                  <a:lnTo>
                    <a:pt x="42" y="0"/>
                  </a:lnTo>
                  <a:lnTo>
                    <a:pt x="48" y="0"/>
                  </a:lnTo>
                  <a:lnTo>
                    <a:pt x="52" y="0"/>
                  </a:lnTo>
                  <a:lnTo>
                    <a:pt x="55" y="0"/>
                  </a:lnTo>
                  <a:lnTo>
                    <a:pt x="59" y="0"/>
                  </a:lnTo>
                  <a:lnTo>
                    <a:pt x="65" y="2"/>
                  </a:lnTo>
                  <a:lnTo>
                    <a:pt x="69" y="2"/>
                  </a:lnTo>
                  <a:lnTo>
                    <a:pt x="75" y="4"/>
                  </a:lnTo>
                  <a:lnTo>
                    <a:pt x="79" y="4"/>
                  </a:lnTo>
                  <a:lnTo>
                    <a:pt x="84" y="6"/>
                  </a:lnTo>
                  <a:lnTo>
                    <a:pt x="88" y="6"/>
                  </a:lnTo>
                  <a:lnTo>
                    <a:pt x="94" y="7"/>
                  </a:lnTo>
                  <a:lnTo>
                    <a:pt x="98" y="9"/>
                  </a:lnTo>
                  <a:lnTo>
                    <a:pt x="104" y="9"/>
                  </a:lnTo>
                  <a:lnTo>
                    <a:pt x="108" y="11"/>
                  </a:lnTo>
                  <a:lnTo>
                    <a:pt x="113" y="13"/>
                  </a:lnTo>
                  <a:lnTo>
                    <a:pt x="117" y="13"/>
                  </a:lnTo>
                  <a:lnTo>
                    <a:pt x="121" y="15"/>
                  </a:lnTo>
                  <a:lnTo>
                    <a:pt x="125" y="17"/>
                  </a:lnTo>
                  <a:lnTo>
                    <a:pt x="129" y="17"/>
                  </a:lnTo>
                  <a:lnTo>
                    <a:pt x="136" y="19"/>
                  </a:lnTo>
                  <a:lnTo>
                    <a:pt x="142" y="23"/>
                  </a:lnTo>
                  <a:lnTo>
                    <a:pt x="146" y="23"/>
                  </a:lnTo>
                  <a:lnTo>
                    <a:pt x="148" y="25"/>
                  </a:lnTo>
                  <a:lnTo>
                    <a:pt x="150" y="29"/>
                  </a:lnTo>
                  <a:lnTo>
                    <a:pt x="146" y="34"/>
                  </a:lnTo>
                  <a:lnTo>
                    <a:pt x="140" y="38"/>
                  </a:lnTo>
                  <a:lnTo>
                    <a:pt x="136" y="42"/>
                  </a:lnTo>
                  <a:lnTo>
                    <a:pt x="13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6043680" y="3238560"/>
              <a:ext cx="201600" cy="158760"/>
            </a:xfrm>
            <a:custGeom>
              <a:avLst/>
              <a:gdLst/>
              <a:ahLst/>
              <a:rect l="l" t="t" r="r" b="b"/>
              <a:pathLst>
                <a:path w="127" h="100">
                  <a:moveTo>
                    <a:pt x="0" y="11"/>
                  </a:moveTo>
                  <a:lnTo>
                    <a:pt x="0" y="15"/>
                  </a:lnTo>
                  <a:lnTo>
                    <a:pt x="2" y="19"/>
                  </a:lnTo>
                  <a:lnTo>
                    <a:pt x="4" y="21"/>
                  </a:lnTo>
                  <a:lnTo>
                    <a:pt x="6" y="23"/>
                  </a:lnTo>
                  <a:lnTo>
                    <a:pt x="10" y="21"/>
                  </a:lnTo>
                  <a:lnTo>
                    <a:pt x="15" y="21"/>
                  </a:lnTo>
                  <a:lnTo>
                    <a:pt x="21" y="21"/>
                  </a:lnTo>
                  <a:lnTo>
                    <a:pt x="29" y="21"/>
                  </a:lnTo>
                  <a:lnTo>
                    <a:pt x="33" y="21"/>
                  </a:lnTo>
                  <a:lnTo>
                    <a:pt x="37" y="23"/>
                  </a:lnTo>
                  <a:lnTo>
                    <a:pt x="42" y="25"/>
                  </a:lnTo>
                  <a:lnTo>
                    <a:pt x="50" y="27"/>
                  </a:lnTo>
                  <a:lnTo>
                    <a:pt x="56" y="28"/>
                  </a:lnTo>
                  <a:lnTo>
                    <a:pt x="62" y="32"/>
                  </a:lnTo>
                  <a:lnTo>
                    <a:pt x="67" y="36"/>
                  </a:lnTo>
                  <a:lnTo>
                    <a:pt x="75" y="40"/>
                  </a:lnTo>
                  <a:lnTo>
                    <a:pt x="81" y="44"/>
                  </a:lnTo>
                  <a:lnTo>
                    <a:pt x="87" y="48"/>
                  </a:lnTo>
                  <a:lnTo>
                    <a:pt x="92" y="54"/>
                  </a:lnTo>
                  <a:lnTo>
                    <a:pt x="98" y="59"/>
                  </a:lnTo>
                  <a:lnTo>
                    <a:pt x="102" y="65"/>
                  </a:lnTo>
                  <a:lnTo>
                    <a:pt x="106" y="71"/>
                  </a:lnTo>
                  <a:lnTo>
                    <a:pt x="108" y="77"/>
                  </a:lnTo>
                  <a:lnTo>
                    <a:pt x="112" y="84"/>
                  </a:lnTo>
                  <a:lnTo>
                    <a:pt x="112" y="88"/>
                  </a:lnTo>
                  <a:lnTo>
                    <a:pt x="112" y="94"/>
                  </a:lnTo>
                  <a:lnTo>
                    <a:pt x="112" y="96"/>
                  </a:lnTo>
                  <a:lnTo>
                    <a:pt x="114" y="98"/>
                  </a:lnTo>
                  <a:lnTo>
                    <a:pt x="116" y="100"/>
                  </a:lnTo>
                  <a:lnTo>
                    <a:pt x="119" y="100"/>
                  </a:lnTo>
                  <a:lnTo>
                    <a:pt x="121" y="98"/>
                  </a:lnTo>
                  <a:lnTo>
                    <a:pt x="123" y="94"/>
                  </a:lnTo>
                  <a:lnTo>
                    <a:pt x="125" y="90"/>
                  </a:lnTo>
                  <a:lnTo>
                    <a:pt x="127" y="88"/>
                  </a:lnTo>
                  <a:lnTo>
                    <a:pt x="127" y="84"/>
                  </a:lnTo>
                  <a:lnTo>
                    <a:pt x="125" y="82"/>
                  </a:lnTo>
                  <a:lnTo>
                    <a:pt x="123" y="77"/>
                  </a:lnTo>
                  <a:lnTo>
                    <a:pt x="123" y="73"/>
                  </a:lnTo>
                  <a:lnTo>
                    <a:pt x="119" y="69"/>
                  </a:lnTo>
                  <a:lnTo>
                    <a:pt x="117" y="63"/>
                  </a:lnTo>
                  <a:lnTo>
                    <a:pt x="114" y="57"/>
                  </a:lnTo>
                  <a:lnTo>
                    <a:pt x="110" y="54"/>
                  </a:lnTo>
                  <a:lnTo>
                    <a:pt x="106" y="48"/>
                  </a:lnTo>
                  <a:lnTo>
                    <a:pt x="102" y="42"/>
                  </a:lnTo>
                  <a:lnTo>
                    <a:pt x="98" y="36"/>
                  </a:lnTo>
                  <a:lnTo>
                    <a:pt x="94" y="32"/>
                  </a:lnTo>
                  <a:lnTo>
                    <a:pt x="90" y="27"/>
                  </a:lnTo>
                  <a:lnTo>
                    <a:pt x="85" y="21"/>
                  </a:lnTo>
                  <a:lnTo>
                    <a:pt x="81" y="17"/>
                  </a:lnTo>
                  <a:lnTo>
                    <a:pt x="79" y="15"/>
                  </a:lnTo>
                  <a:lnTo>
                    <a:pt x="75" y="11"/>
                  </a:lnTo>
                  <a:lnTo>
                    <a:pt x="71" y="9"/>
                  </a:lnTo>
                  <a:lnTo>
                    <a:pt x="67" y="7"/>
                  </a:lnTo>
                  <a:lnTo>
                    <a:pt x="64" y="5"/>
                  </a:lnTo>
                  <a:lnTo>
                    <a:pt x="60" y="3"/>
                  </a:lnTo>
                  <a:lnTo>
                    <a:pt x="54" y="1"/>
                  </a:lnTo>
                  <a:lnTo>
                    <a:pt x="50" y="1"/>
                  </a:lnTo>
                  <a:lnTo>
                    <a:pt x="46" y="1"/>
                  </a:lnTo>
                  <a:lnTo>
                    <a:pt x="42" y="0"/>
                  </a:lnTo>
                  <a:lnTo>
                    <a:pt x="37" y="0"/>
                  </a:lnTo>
                  <a:lnTo>
                    <a:pt x="33" y="0"/>
                  </a:lnTo>
                  <a:lnTo>
                    <a:pt x="31" y="0"/>
                  </a:lnTo>
                  <a:lnTo>
                    <a:pt x="23" y="0"/>
                  </a:lnTo>
                  <a:lnTo>
                    <a:pt x="19" y="0"/>
                  </a:lnTo>
                  <a:lnTo>
                    <a:pt x="13" y="1"/>
                  </a:lnTo>
                  <a:lnTo>
                    <a:pt x="6" y="5"/>
                  </a:lnTo>
                  <a:lnTo>
                    <a:pt x="2" y="9"/>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5581800" y="3154320"/>
              <a:ext cx="145800" cy="77760"/>
            </a:xfrm>
            <a:custGeom>
              <a:avLst/>
              <a:gdLst/>
              <a:ahLst/>
              <a:rect l="l" t="t" r="r" b="b"/>
              <a:pathLst>
                <a:path w="92" h="49">
                  <a:moveTo>
                    <a:pt x="8" y="49"/>
                  </a:moveTo>
                  <a:lnTo>
                    <a:pt x="9" y="47"/>
                  </a:lnTo>
                  <a:lnTo>
                    <a:pt x="13" y="43"/>
                  </a:lnTo>
                  <a:lnTo>
                    <a:pt x="19" y="39"/>
                  </a:lnTo>
                  <a:lnTo>
                    <a:pt x="25" y="35"/>
                  </a:lnTo>
                  <a:lnTo>
                    <a:pt x="33" y="29"/>
                  </a:lnTo>
                  <a:lnTo>
                    <a:pt x="38" y="26"/>
                  </a:lnTo>
                  <a:lnTo>
                    <a:pt x="46" y="22"/>
                  </a:lnTo>
                  <a:lnTo>
                    <a:pt x="50" y="20"/>
                  </a:lnTo>
                  <a:lnTo>
                    <a:pt x="54" y="20"/>
                  </a:lnTo>
                  <a:lnTo>
                    <a:pt x="60" y="20"/>
                  </a:lnTo>
                  <a:lnTo>
                    <a:pt x="65" y="22"/>
                  </a:lnTo>
                  <a:lnTo>
                    <a:pt x="71" y="26"/>
                  </a:lnTo>
                  <a:lnTo>
                    <a:pt x="75" y="27"/>
                  </a:lnTo>
                  <a:lnTo>
                    <a:pt x="79" y="29"/>
                  </a:lnTo>
                  <a:lnTo>
                    <a:pt x="83" y="31"/>
                  </a:lnTo>
                  <a:lnTo>
                    <a:pt x="85" y="31"/>
                  </a:lnTo>
                  <a:lnTo>
                    <a:pt x="92" y="10"/>
                  </a:lnTo>
                  <a:lnTo>
                    <a:pt x="90" y="10"/>
                  </a:lnTo>
                  <a:lnTo>
                    <a:pt x="90" y="8"/>
                  </a:lnTo>
                  <a:lnTo>
                    <a:pt x="87" y="8"/>
                  </a:lnTo>
                  <a:lnTo>
                    <a:pt x="83" y="6"/>
                  </a:lnTo>
                  <a:lnTo>
                    <a:pt x="79" y="6"/>
                  </a:lnTo>
                  <a:lnTo>
                    <a:pt x="75" y="4"/>
                  </a:lnTo>
                  <a:lnTo>
                    <a:pt x="71" y="2"/>
                  </a:lnTo>
                  <a:lnTo>
                    <a:pt x="65" y="2"/>
                  </a:lnTo>
                  <a:lnTo>
                    <a:pt x="63" y="0"/>
                  </a:lnTo>
                  <a:lnTo>
                    <a:pt x="60" y="0"/>
                  </a:lnTo>
                  <a:lnTo>
                    <a:pt x="56" y="0"/>
                  </a:lnTo>
                  <a:lnTo>
                    <a:pt x="52" y="0"/>
                  </a:lnTo>
                  <a:lnTo>
                    <a:pt x="46" y="0"/>
                  </a:lnTo>
                  <a:lnTo>
                    <a:pt x="42" y="2"/>
                  </a:lnTo>
                  <a:lnTo>
                    <a:pt x="38" y="2"/>
                  </a:lnTo>
                  <a:lnTo>
                    <a:pt x="33" y="6"/>
                  </a:lnTo>
                  <a:lnTo>
                    <a:pt x="29" y="6"/>
                  </a:lnTo>
                  <a:lnTo>
                    <a:pt x="23" y="8"/>
                  </a:lnTo>
                  <a:lnTo>
                    <a:pt x="19" y="10"/>
                  </a:lnTo>
                  <a:lnTo>
                    <a:pt x="15" y="12"/>
                  </a:lnTo>
                  <a:lnTo>
                    <a:pt x="8" y="16"/>
                  </a:lnTo>
                  <a:lnTo>
                    <a:pt x="4" y="20"/>
                  </a:lnTo>
                  <a:lnTo>
                    <a:pt x="0" y="24"/>
                  </a:lnTo>
                  <a:lnTo>
                    <a:pt x="0" y="27"/>
                  </a:lnTo>
                  <a:lnTo>
                    <a:pt x="0" y="31"/>
                  </a:lnTo>
                  <a:lnTo>
                    <a:pt x="2" y="37"/>
                  </a:lnTo>
                  <a:lnTo>
                    <a:pt x="4" y="41"/>
                  </a:lnTo>
                  <a:lnTo>
                    <a:pt x="6" y="45"/>
                  </a:lnTo>
                  <a:lnTo>
                    <a:pt x="8" y="47"/>
                  </a:lnTo>
                  <a:lnTo>
                    <a:pt x="8" y="49"/>
                  </a:lnTo>
                  <a:lnTo>
                    <a:pt x="8"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1" name=""/>
            <p:cNvSpPr/>
            <p:nvPr/>
          </p:nvSpPr>
          <p:spPr>
            <a:xfrm>
              <a:off x="5737320" y="3044880"/>
              <a:ext cx="514080" cy="198360"/>
            </a:xfrm>
            <a:custGeom>
              <a:avLst/>
              <a:gdLst/>
              <a:ahLst/>
              <a:rect l="l" t="t" r="r" b="b"/>
              <a:pathLst>
                <a:path w="324" h="125">
                  <a:moveTo>
                    <a:pt x="6" y="37"/>
                  </a:moveTo>
                  <a:lnTo>
                    <a:pt x="10" y="33"/>
                  </a:lnTo>
                  <a:lnTo>
                    <a:pt x="16" y="31"/>
                  </a:lnTo>
                  <a:lnTo>
                    <a:pt x="19" y="29"/>
                  </a:lnTo>
                  <a:lnTo>
                    <a:pt x="25" y="29"/>
                  </a:lnTo>
                  <a:lnTo>
                    <a:pt x="29" y="27"/>
                  </a:lnTo>
                  <a:lnTo>
                    <a:pt x="37" y="27"/>
                  </a:lnTo>
                  <a:lnTo>
                    <a:pt x="43" y="25"/>
                  </a:lnTo>
                  <a:lnTo>
                    <a:pt x="48" y="25"/>
                  </a:lnTo>
                  <a:lnTo>
                    <a:pt x="54" y="23"/>
                  </a:lnTo>
                  <a:lnTo>
                    <a:pt x="62" y="23"/>
                  </a:lnTo>
                  <a:lnTo>
                    <a:pt x="70" y="23"/>
                  </a:lnTo>
                  <a:lnTo>
                    <a:pt x="77" y="21"/>
                  </a:lnTo>
                  <a:lnTo>
                    <a:pt x="81" y="21"/>
                  </a:lnTo>
                  <a:lnTo>
                    <a:pt x="85" y="21"/>
                  </a:lnTo>
                  <a:lnTo>
                    <a:pt x="89" y="21"/>
                  </a:lnTo>
                  <a:lnTo>
                    <a:pt x="93" y="21"/>
                  </a:lnTo>
                  <a:lnTo>
                    <a:pt x="97" y="21"/>
                  </a:lnTo>
                  <a:lnTo>
                    <a:pt x="102" y="21"/>
                  </a:lnTo>
                  <a:lnTo>
                    <a:pt x="104" y="21"/>
                  </a:lnTo>
                  <a:lnTo>
                    <a:pt x="110" y="21"/>
                  </a:lnTo>
                  <a:lnTo>
                    <a:pt x="112" y="21"/>
                  </a:lnTo>
                  <a:lnTo>
                    <a:pt x="118" y="21"/>
                  </a:lnTo>
                  <a:lnTo>
                    <a:pt x="122" y="21"/>
                  </a:lnTo>
                  <a:lnTo>
                    <a:pt x="125" y="21"/>
                  </a:lnTo>
                  <a:lnTo>
                    <a:pt x="129" y="21"/>
                  </a:lnTo>
                  <a:lnTo>
                    <a:pt x="133" y="21"/>
                  </a:lnTo>
                  <a:lnTo>
                    <a:pt x="139" y="21"/>
                  </a:lnTo>
                  <a:lnTo>
                    <a:pt x="143" y="23"/>
                  </a:lnTo>
                  <a:lnTo>
                    <a:pt x="147" y="23"/>
                  </a:lnTo>
                  <a:lnTo>
                    <a:pt x="150" y="23"/>
                  </a:lnTo>
                  <a:lnTo>
                    <a:pt x="154" y="23"/>
                  </a:lnTo>
                  <a:lnTo>
                    <a:pt x="158" y="25"/>
                  </a:lnTo>
                  <a:lnTo>
                    <a:pt x="166" y="25"/>
                  </a:lnTo>
                  <a:lnTo>
                    <a:pt x="174" y="27"/>
                  </a:lnTo>
                  <a:lnTo>
                    <a:pt x="181" y="27"/>
                  </a:lnTo>
                  <a:lnTo>
                    <a:pt x="189" y="31"/>
                  </a:lnTo>
                  <a:lnTo>
                    <a:pt x="195" y="33"/>
                  </a:lnTo>
                  <a:lnTo>
                    <a:pt x="203" y="35"/>
                  </a:lnTo>
                  <a:lnTo>
                    <a:pt x="208" y="37"/>
                  </a:lnTo>
                  <a:lnTo>
                    <a:pt x="216" y="41"/>
                  </a:lnTo>
                  <a:lnTo>
                    <a:pt x="220" y="42"/>
                  </a:lnTo>
                  <a:lnTo>
                    <a:pt x="226" y="46"/>
                  </a:lnTo>
                  <a:lnTo>
                    <a:pt x="230" y="50"/>
                  </a:lnTo>
                  <a:lnTo>
                    <a:pt x="235" y="54"/>
                  </a:lnTo>
                  <a:lnTo>
                    <a:pt x="241" y="58"/>
                  </a:lnTo>
                  <a:lnTo>
                    <a:pt x="247" y="62"/>
                  </a:lnTo>
                  <a:lnTo>
                    <a:pt x="251" y="66"/>
                  </a:lnTo>
                  <a:lnTo>
                    <a:pt x="255" y="69"/>
                  </a:lnTo>
                  <a:lnTo>
                    <a:pt x="260" y="73"/>
                  </a:lnTo>
                  <a:lnTo>
                    <a:pt x="264" y="77"/>
                  </a:lnTo>
                  <a:lnTo>
                    <a:pt x="268" y="81"/>
                  </a:lnTo>
                  <a:lnTo>
                    <a:pt x="272" y="85"/>
                  </a:lnTo>
                  <a:lnTo>
                    <a:pt x="280" y="93"/>
                  </a:lnTo>
                  <a:lnTo>
                    <a:pt x="287" y="100"/>
                  </a:lnTo>
                  <a:lnTo>
                    <a:pt x="293" y="106"/>
                  </a:lnTo>
                  <a:lnTo>
                    <a:pt x="299" y="112"/>
                  </a:lnTo>
                  <a:lnTo>
                    <a:pt x="305" y="118"/>
                  </a:lnTo>
                  <a:lnTo>
                    <a:pt x="309" y="122"/>
                  </a:lnTo>
                  <a:lnTo>
                    <a:pt x="312" y="123"/>
                  </a:lnTo>
                  <a:lnTo>
                    <a:pt x="316" y="125"/>
                  </a:lnTo>
                  <a:lnTo>
                    <a:pt x="318" y="125"/>
                  </a:lnTo>
                  <a:lnTo>
                    <a:pt x="320" y="125"/>
                  </a:lnTo>
                  <a:lnTo>
                    <a:pt x="320" y="122"/>
                  </a:lnTo>
                  <a:lnTo>
                    <a:pt x="322" y="118"/>
                  </a:lnTo>
                  <a:lnTo>
                    <a:pt x="322" y="114"/>
                  </a:lnTo>
                  <a:lnTo>
                    <a:pt x="324" y="108"/>
                  </a:lnTo>
                  <a:lnTo>
                    <a:pt x="324" y="100"/>
                  </a:lnTo>
                  <a:lnTo>
                    <a:pt x="324" y="95"/>
                  </a:lnTo>
                  <a:lnTo>
                    <a:pt x="324" y="87"/>
                  </a:lnTo>
                  <a:lnTo>
                    <a:pt x="324" y="79"/>
                  </a:lnTo>
                  <a:lnTo>
                    <a:pt x="324" y="71"/>
                  </a:lnTo>
                  <a:lnTo>
                    <a:pt x="324" y="64"/>
                  </a:lnTo>
                  <a:lnTo>
                    <a:pt x="324" y="56"/>
                  </a:lnTo>
                  <a:lnTo>
                    <a:pt x="324" y="50"/>
                  </a:lnTo>
                  <a:lnTo>
                    <a:pt x="322" y="44"/>
                  </a:lnTo>
                  <a:lnTo>
                    <a:pt x="320" y="41"/>
                  </a:lnTo>
                  <a:lnTo>
                    <a:pt x="320" y="37"/>
                  </a:lnTo>
                  <a:lnTo>
                    <a:pt x="318" y="35"/>
                  </a:lnTo>
                  <a:lnTo>
                    <a:pt x="312" y="31"/>
                  </a:lnTo>
                  <a:lnTo>
                    <a:pt x="307" y="27"/>
                  </a:lnTo>
                  <a:lnTo>
                    <a:pt x="303" y="23"/>
                  </a:lnTo>
                  <a:lnTo>
                    <a:pt x="297" y="21"/>
                  </a:lnTo>
                  <a:lnTo>
                    <a:pt x="293" y="19"/>
                  </a:lnTo>
                  <a:lnTo>
                    <a:pt x="291" y="19"/>
                  </a:lnTo>
                  <a:lnTo>
                    <a:pt x="287" y="23"/>
                  </a:lnTo>
                  <a:lnTo>
                    <a:pt x="287" y="29"/>
                  </a:lnTo>
                  <a:lnTo>
                    <a:pt x="287" y="31"/>
                  </a:lnTo>
                  <a:lnTo>
                    <a:pt x="287" y="35"/>
                  </a:lnTo>
                  <a:lnTo>
                    <a:pt x="287" y="39"/>
                  </a:lnTo>
                  <a:lnTo>
                    <a:pt x="287" y="44"/>
                  </a:lnTo>
                  <a:lnTo>
                    <a:pt x="287" y="48"/>
                  </a:lnTo>
                  <a:lnTo>
                    <a:pt x="289" y="52"/>
                  </a:lnTo>
                  <a:lnTo>
                    <a:pt x="289" y="58"/>
                  </a:lnTo>
                  <a:lnTo>
                    <a:pt x="291" y="62"/>
                  </a:lnTo>
                  <a:lnTo>
                    <a:pt x="291" y="66"/>
                  </a:lnTo>
                  <a:lnTo>
                    <a:pt x="291" y="69"/>
                  </a:lnTo>
                  <a:lnTo>
                    <a:pt x="291" y="73"/>
                  </a:lnTo>
                  <a:lnTo>
                    <a:pt x="293" y="77"/>
                  </a:lnTo>
                  <a:lnTo>
                    <a:pt x="293" y="81"/>
                  </a:lnTo>
                  <a:lnTo>
                    <a:pt x="293" y="83"/>
                  </a:lnTo>
                  <a:lnTo>
                    <a:pt x="291" y="81"/>
                  </a:lnTo>
                  <a:lnTo>
                    <a:pt x="287" y="75"/>
                  </a:lnTo>
                  <a:lnTo>
                    <a:pt x="283" y="71"/>
                  </a:lnTo>
                  <a:lnTo>
                    <a:pt x="280" y="68"/>
                  </a:lnTo>
                  <a:lnTo>
                    <a:pt x="274" y="62"/>
                  </a:lnTo>
                  <a:lnTo>
                    <a:pt x="270" y="58"/>
                  </a:lnTo>
                  <a:lnTo>
                    <a:pt x="264" y="52"/>
                  </a:lnTo>
                  <a:lnTo>
                    <a:pt x="258" y="48"/>
                  </a:lnTo>
                  <a:lnTo>
                    <a:pt x="253" y="42"/>
                  </a:lnTo>
                  <a:lnTo>
                    <a:pt x="249" y="39"/>
                  </a:lnTo>
                  <a:lnTo>
                    <a:pt x="243" y="33"/>
                  </a:lnTo>
                  <a:lnTo>
                    <a:pt x="237" y="31"/>
                  </a:lnTo>
                  <a:lnTo>
                    <a:pt x="233" y="27"/>
                  </a:lnTo>
                  <a:lnTo>
                    <a:pt x="230" y="25"/>
                  </a:lnTo>
                  <a:lnTo>
                    <a:pt x="226" y="23"/>
                  </a:lnTo>
                  <a:lnTo>
                    <a:pt x="222" y="19"/>
                  </a:lnTo>
                  <a:lnTo>
                    <a:pt x="216" y="17"/>
                  </a:lnTo>
                  <a:lnTo>
                    <a:pt x="212" y="15"/>
                  </a:lnTo>
                  <a:lnTo>
                    <a:pt x="206" y="14"/>
                  </a:lnTo>
                  <a:lnTo>
                    <a:pt x="201" y="12"/>
                  </a:lnTo>
                  <a:lnTo>
                    <a:pt x="193" y="10"/>
                  </a:lnTo>
                  <a:lnTo>
                    <a:pt x="187" y="8"/>
                  </a:lnTo>
                  <a:lnTo>
                    <a:pt x="179" y="6"/>
                  </a:lnTo>
                  <a:lnTo>
                    <a:pt x="174" y="4"/>
                  </a:lnTo>
                  <a:lnTo>
                    <a:pt x="166" y="2"/>
                  </a:lnTo>
                  <a:lnTo>
                    <a:pt x="158" y="2"/>
                  </a:lnTo>
                  <a:lnTo>
                    <a:pt x="154" y="2"/>
                  </a:lnTo>
                  <a:lnTo>
                    <a:pt x="149" y="2"/>
                  </a:lnTo>
                  <a:lnTo>
                    <a:pt x="145" y="0"/>
                  </a:lnTo>
                  <a:lnTo>
                    <a:pt x="141" y="0"/>
                  </a:lnTo>
                  <a:lnTo>
                    <a:pt x="135" y="0"/>
                  </a:lnTo>
                  <a:lnTo>
                    <a:pt x="131" y="0"/>
                  </a:lnTo>
                  <a:lnTo>
                    <a:pt x="127" y="0"/>
                  </a:lnTo>
                  <a:lnTo>
                    <a:pt x="124" y="0"/>
                  </a:lnTo>
                  <a:lnTo>
                    <a:pt x="118" y="0"/>
                  </a:lnTo>
                  <a:lnTo>
                    <a:pt x="112" y="0"/>
                  </a:lnTo>
                  <a:lnTo>
                    <a:pt x="106" y="0"/>
                  </a:lnTo>
                  <a:lnTo>
                    <a:pt x="102" y="0"/>
                  </a:lnTo>
                  <a:lnTo>
                    <a:pt x="98" y="0"/>
                  </a:lnTo>
                  <a:lnTo>
                    <a:pt x="93" y="2"/>
                  </a:lnTo>
                  <a:lnTo>
                    <a:pt x="87" y="2"/>
                  </a:lnTo>
                  <a:lnTo>
                    <a:pt x="83" y="2"/>
                  </a:lnTo>
                  <a:lnTo>
                    <a:pt x="79" y="2"/>
                  </a:lnTo>
                  <a:lnTo>
                    <a:pt x="73" y="2"/>
                  </a:lnTo>
                  <a:lnTo>
                    <a:pt x="70" y="4"/>
                  </a:lnTo>
                  <a:lnTo>
                    <a:pt x="66" y="4"/>
                  </a:lnTo>
                  <a:lnTo>
                    <a:pt x="62" y="6"/>
                  </a:lnTo>
                  <a:lnTo>
                    <a:pt x="56" y="6"/>
                  </a:lnTo>
                  <a:lnTo>
                    <a:pt x="52" y="6"/>
                  </a:lnTo>
                  <a:lnTo>
                    <a:pt x="48" y="8"/>
                  </a:lnTo>
                  <a:lnTo>
                    <a:pt x="44" y="8"/>
                  </a:lnTo>
                  <a:lnTo>
                    <a:pt x="41" y="8"/>
                  </a:lnTo>
                  <a:lnTo>
                    <a:pt x="37" y="10"/>
                  </a:lnTo>
                  <a:lnTo>
                    <a:pt x="35" y="10"/>
                  </a:lnTo>
                  <a:lnTo>
                    <a:pt x="27" y="12"/>
                  </a:lnTo>
                  <a:lnTo>
                    <a:pt x="21" y="14"/>
                  </a:lnTo>
                  <a:lnTo>
                    <a:pt x="16" y="14"/>
                  </a:lnTo>
                  <a:lnTo>
                    <a:pt x="12" y="15"/>
                  </a:lnTo>
                  <a:lnTo>
                    <a:pt x="10" y="17"/>
                  </a:lnTo>
                  <a:lnTo>
                    <a:pt x="6" y="19"/>
                  </a:lnTo>
                  <a:lnTo>
                    <a:pt x="2" y="19"/>
                  </a:lnTo>
                  <a:lnTo>
                    <a:pt x="0" y="23"/>
                  </a:lnTo>
                  <a:lnTo>
                    <a:pt x="0" y="25"/>
                  </a:lnTo>
                  <a:lnTo>
                    <a:pt x="2" y="29"/>
                  </a:lnTo>
                  <a:lnTo>
                    <a:pt x="4" y="33"/>
                  </a:lnTo>
                  <a:lnTo>
                    <a:pt x="6" y="37"/>
                  </a:lnTo>
                  <a:lnTo>
                    <a:pt x="6"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5324400" y="3213000"/>
              <a:ext cx="566640" cy="1047960"/>
            </a:xfrm>
            <a:custGeom>
              <a:avLst/>
              <a:gdLst/>
              <a:ahLst/>
              <a:rect l="l" t="t" r="r" b="b"/>
              <a:pathLst>
                <a:path w="357" h="660">
                  <a:moveTo>
                    <a:pt x="152" y="16"/>
                  </a:moveTo>
                  <a:lnTo>
                    <a:pt x="146" y="17"/>
                  </a:lnTo>
                  <a:lnTo>
                    <a:pt x="143" y="23"/>
                  </a:lnTo>
                  <a:lnTo>
                    <a:pt x="139" y="25"/>
                  </a:lnTo>
                  <a:lnTo>
                    <a:pt x="135" y="29"/>
                  </a:lnTo>
                  <a:lnTo>
                    <a:pt x="133" y="33"/>
                  </a:lnTo>
                  <a:lnTo>
                    <a:pt x="129" y="37"/>
                  </a:lnTo>
                  <a:lnTo>
                    <a:pt x="125" y="43"/>
                  </a:lnTo>
                  <a:lnTo>
                    <a:pt x="121" y="46"/>
                  </a:lnTo>
                  <a:lnTo>
                    <a:pt x="118" y="52"/>
                  </a:lnTo>
                  <a:lnTo>
                    <a:pt x="114" y="58"/>
                  </a:lnTo>
                  <a:lnTo>
                    <a:pt x="110" y="64"/>
                  </a:lnTo>
                  <a:lnTo>
                    <a:pt x="106" y="71"/>
                  </a:lnTo>
                  <a:lnTo>
                    <a:pt x="102" y="77"/>
                  </a:lnTo>
                  <a:lnTo>
                    <a:pt x="98" y="85"/>
                  </a:lnTo>
                  <a:lnTo>
                    <a:pt x="94" y="93"/>
                  </a:lnTo>
                  <a:lnTo>
                    <a:pt x="89" y="100"/>
                  </a:lnTo>
                  <a:lnTo>
                    <a:pt x="87" y="104"/>
                  </a:lnTo>
                  <a:lnTo>
                    <a:pt x="85" y="108"/>
                  </a:lnTo>
                  <a:lnTo>
                    <a:pt x="83" y="112"/>
                  </a:lnTo>
                  <a:lnTo>
                    <a:pt x="81" y="116"/>
                  </a:lnTo>
                  <a:lnTo>
                    <a:pt x="79" y="122"/>
                  </a:lnTo>
                  <a:lnTo>
                    <a:pt x="77" y="125"/>
                  </a:lnTo>
                  <a:lnTo>
                    <a:pt x="73" y="129"/>
                  </a:lnTo>
                  <a:lnTo>
                    <a:pt x="73" y="133"/>
                  </a:lnTo>
                  <a:lnTo>
                    <a:pt x="71" y="137"/>
                  </a:lnTo>
                  <a:lnTo>
                    <a:pt x="69" y="143"/>
                  </a:lnTo>
                  <a:lnTo>
                    <a:pt x="67" y="147"/>
                  </a:lnTo>
                  <a:lnTo>
                    <a:pt x="65" y="152"/>
                  </a:lnTo>
                  <a:lnTo>
                    <a:pt x="64" y="156"/>
                  </a:lnTo>
                  <a:lnTo>
                    <a:pt x="62" y="160"/>
                  </a:lnTo>
                  <a:lnTo>
                    <a:pt x="60" y="166"/>
                  </a:lnTo>
                  <a:lnTo>
                    <a:pt x="58" y="172"/>
                  </a:lnTo>
                  <a:lnTo>
                    <a:pt x="56" y="176"/>
                  </a:lnTo>
                  <a:lnTo>
                    <a:pt x="54" y="181"/>
                  </a:lnTo>
                  <a:lnTo>
                    <a:pt x="54" y="185"/>
                  </a:lnTo>
                  <a:lnTo>
                    <a:pt x="52" y="191"/>
                  </a:lnTo>
                  <a:lnTo>
                    <a:pt x="50" y="197"/>
                  </a:lnTo>
                  <a:lnTo>
                    <a:pt x="50" y="203"/>
                  </a:lnTo>
                  <a:lnTo>
                    <a:pt x="48" y="206"/>
                  </a:lnTo>
                  <a:lnTo>
                    <a:pt x="46" y="212"/>
                  </a:lnTo>
                  <a:lnTo>
                    <a:pt x="46" y="218"/>
                  </a:lnTo>
                  <a:lnTo>
                    <a:pt x="44" y="224"/>
                  </a:lnTo>
                  <a:lnTo>
                    <a:pt x="44" y="228"/>
                  </a:lnTo>
                  <a:lnTo>
                    <a:pt x="44" y="235"/>
                  </a:lnTo>
                  <a:lnTo>
                    <a:pt x="42" y="239"/>
                  </a:lnTo>
                  <a:lnTo>
                    <a:pt x="40" y="245"/>
                  </a:lnTo>
                  <a:lnTo>
                    <a:pt x="40" y="251"/>
                  </a:lnTo>
                  <a:lnTo>
                    <a:pt x="40" y="258"/>
                  </a:lnTo>
                  <a:lnTo>
                    <a:pt x="40" y="264"/>
                  </a:lnTo>
                  <a:lnTo>
                    <a:pt x="40" y="270"/>
                  </a:lnTo>
                  <a:lnTo>
                    <a:pt x="40" y="276"/>
                  </a:lnTo>
                  <a:lnTo>
                    <a:pt x="40" y="284"/>
                  </a:lnTo>
                  <a:lnTo>
                    <a:pt x="40" y="289"/>
                  </a:lnTo>
                  <a:lnTo>
                    <a:pt x="40" y="295"/>
                  </a:lnTo>
                  <a:lnTo>
                    <a:pt x="40" y="303"/>
                  </a:lnTo>
                  <a:lnTo>
                    <a:pt x="42" y="311"/>
                  </a:lnTo>
                  <a:lnTo>
                    <a:pt x="42" y="316"/>
                  </a:lnTo>
                  <a:lnTo>
                    <a:pt x="44" y="324"/>
                  </a:lnTo>
                  <a:lnTo>
                    <a:pt x="44" y="332"/>
                  </a:lnTo>
                  <a:lnTo>
                    <a:pt x="46" y="339"/>
                  </a:lnTo>
                  <a:lnTo>
                    <a:pt x="46" y="345"/>
                  </a:lnTo>
                  <a:lnTo>
                    <a:pt x="48" y="353"/>
                  </a:lnTo>
                  <a:lnTo>
                    <a:pt x="50" y="361"/>
                  </a:lnTo>
                  <a:lnTo>
                    <a:pt x="52" y="368"/>
                  </a:lnTo>
                  <a:lnTo>
                    <a:pt x="54" y="376"/>
                  </a:lnTo>
                  <a:lnTo>
                    <a:pt x="56" y="384"/>
                  </a:lnTo>
                  <a:lnTo>
                    <a:pt x="60" y="392"/>
                  </a:lnTo>
                  <a:lnTo>
                    <a:pt x="62" y="399"/>
                  </a:lnTo>
                  <a:lnTo>
                    <a:pt x="64" y="407"/>
                  </a:lnTo>
                  <a:lnTo>
                    <a:pt x="67" y="413"/>
                  </a:lnTo>
                  <a:lnTo>
                    <a:pt x="71" y="420"/>
                  </a:lnTo>
                  <a:lnTo>
                    <a:pt x="75" y="428"/>
                  </a:lnTo>
                  <a:lnTo>
                    <a:pt x="77" y="436"/>
                  </a:lnTo>
                  <a:lnTo>
                    <a:pt x="83" y="444"/>
                  </a:lnTo>
                  <a:lnTo>
                    <a:pt x="87" y="449"/>
                  </a:lnTo>
                  <a:lnTo>
                    <a:pt x="91" y="457"/>
                  </a:lnTo>
                  <a:lnTo>
                    <a:pt x="94" y="465"/>
                  </a:lnTo>
                  <a:lnTo>
                    <a:pt x="100" y="471"/>
                  </a:lnTo>
                  <a:lnTo>
                    <a:pt x="104" y="476"/>
                  </a:lnTo>
                  <a:lnTo>
                    <a:pt x="110" y="484"/>
                  </a:lnTo>
                  <a:lnTo>
                    <a:pt x="114" y="490"/>
                  </a:lnTo>
                  <a:lnTo>
                    <a:pt x="119" y="496"/>
                  </a:lnTo>
                  <a:lnTo>
                    <a:pt x="125" y="503"/>
                  </a:lnTo>
                  <a:lnTo>
                    <a:pt x="131" y="509"/>
                  </a:lnTo>
                  <a:lnTo>
                    <a:pt x="137" y="515"/>
                  </a:lnTo>
                  <a:lnTo>
                    <a:pt x="144" y="521"/>
                  </a:lnTo>
                  <a:lnTo>
                    <a:pt x="150" y="526"/>
                  </a:lnTo>
                  <a:lnTo>
                    <a:pt x="158" y="532"/>
                  </a:lnTo>
                  <a:lnTo>
                    <a:pt x="164" y="536"/>
                  </a:lnTo>
                  <a:lnTo>
                    <a:pt x="171" y="542"/>
                  </a:lnTo>
                  <a:lnTo>
                    <a:pt x="179" y="548"/>
                  </a:lnTo>
                  <a:lnTo>
                    <a:pt x="189" y="552"/>
                  </a:lnTo>
                  <a:lnTo>
                    <a:pt x="195" y="555"/>
                  </a:lnTo>
                  <a:lnTo>
                    <a:pt x="204" y="559"/>
                  </a:lnTo>
                  <a:lnTo>
                    <a:pt x="212" y="563"/>
                  </a:lnTo>
                  <a:lnTo>
                    <a:pt x="222" y="567"/>
                  </a:lnTo>
                  <a:lnTo>
                    <a:pt x="231" y="569"/>
                  </a:lnTo>
                  <a:lnTo>
                    <a:pt x="239" y="573"/>
                  </a:lnTo>
                  <a:lnTo>
                    <a:pt x="249" y="577"/>
                  </a:lnTo>
                  <a:lnTo>
                    <a:pt x="260" y="579"/>
                  </a:lnTo>
                  <a:lnTo>
                    <a:pt x="270" y="580"/>
                  </a:lnTo>
                  <a:lnTo>
                    <a:pt x="281" y="582"/>
                  </a:lnTo>
                  <a:lnTo>
                    <a:pt x="291" y="584"/>
                  </a:lnTo>
                  <a:lnTo>
                    <a:pt x="303" y="584"/>
                  </a:lnTo>
                  <a:lnTo>
                    <a:pt x="314" y="586"/>
                  </a:lnTo>
                  <a:lnTo>
                    <a:pt x="326" y="586"/>
                  </a:lnTo>
                  <a:lnTo>
                    <a:pt x="337" y="586"/>
                  </a:lnTo>
                  <a:lnTo>
                    <a:pt x="351" y="586"/>
                  </a:lnTo>
                  <a:lnTo>
                    <a:pt x="351" y="590"/>
                  </a:lnTo>
                  <a:lnTo>
                    <a:pt x="351" y="594"/>
                  </a:lnTo>
                  <a:lnTo>
                    <a:pt x="353" y="598"/>
                  </a:lnTo>
                  <a:lnTo>
                    <a:pt x="353" y="604"/>
                  </a:lnTo>
                  <a:lnTo>
                    <a:pt x="355" y="611"/>
                  </a:lnTo>
                  <a:lnTo>
                    <a:pt x="355" y="617"/>
                  </a:lnTo>
                  <a:lnTo>
                    <a:pt x="357" y="625"/>
                  </a:lnTo>
                  <a:lnTo>
                    <a:pt x="357" y="631"/>
                  </a:lnTo>
                  <a:lnTo>
                    <a:pt x="357" y="638"/>
                  </a:lnTo>
                  <a:lnTo>
                    <a:pt x="357" y="644"/>
                  </a:lnTo>
                  <a:lnTo>
                    <a:pt x="357" y="650"/>
                  </a:lnTo>
                  <a:lnTo>
                    <a:pt x="355" y="654"/>
                  </a:lnTo>
                  <a:lnTo>
                    <a:pt x="353" y="656"/>
                  </a:lnTo>
                  <a:lnTo>
                    <a:pt x="351" y="660"/>
                  </a:lnTo>
                  <a:lnTo>
                    <a:pt x="349" y="660"/>
                  </a:lnTo>
                  <a:lnTo>
                    <a:pt x="343" y="654"/>
                  </a:lnTo>
                  <a:lnTo>
                    <a:pt x="337" y="648"/>
                  </a:lnTo>
                  <a:lnTo>
                    <a:pt x="333" y="644"/>
                  </a:lnTo>
                  <a:lnTo>
                    <a:pt x="330" y="640"/>
                  </a:lnTo>
                  <a:lnTo>
                    <a:pt x="328" y="636"/>
                  </a:lnTo>
                  <a:lnTo>
                    <a:pt x="326" y="633"/>
                  </a:lnTo>
                  <a:lnTo>
                    <a:pt x="324" y="629"/>
                  </a:lnTo>
                  <a:lnTo>
                    <a:pt x="322" y="625"/>
                  </a:lnTo>
                  <a:lnTo>
                    <a:pt x="320" y="619"/>
                  </a:lnTo>
                  <a:lnTo>
                    <a:pt x="320" y="617"/>
                  </a:lnTo>
                  <a:lnTo>
                    <a:pt x="318" y="611"/>
                  </a:lnTo>
                  <a:lnTo>
                    <a:pt x="318" y="611"/>
                  </a:lnTo>
                  <a:lnTo>
                    <a:pt x="316" y="609"/>
                  </a:lnTo>
                  <a:lnTo>
                    <a:pt x="316" y="609"/>
                  </a:lnTo>
                  <a:lnTo>
                    <a:pt x="312" y="609"/>
                  </a:lnTo>
                  <a:lnTo>
                    <a:pt x="308" y="609"/>
                  </a:lnTo>
                  <a:lnTo>
                    <a:pt x="303" y="609"/>
                  </a:lnTo>
                  <a:lnTo>
                    <a:pt x="297" y="609"/>
                  </a:lnTo>
                  <a:lnTo>
                    <a:pt x="289" y="609"/>
                  </a:lnTo>
                  <a:lnTo>
                    <a:pt x="281" y="607"/>
                  </a:lnTo>
                  <a:lnTo>
                    <a:pt x="277" y="606"/>
                  </a:lnTo>
                  <a:lnTo>
                    <a:pt x="272" y="606"/>
                  </a:lnTo>
                  <a:lnTo>
                    <a:pt x="268" y="606"/>
                  </a:lnTo>
                  <a:lnTo>
                    <a:pt x="264" y="604"/>
                  </a:lnTo>
                  <a:lnTo>
                    <a:pt x="258" y="604"/>
                  </a:lnTo>
                  <a:lnTo>
                    <a:pt x="252" y="602"/>
                  </a:lnTo>
                  <a:lnTo>
                    <a:pt x="247" y="600"/>
                  </a:lnTo>
                  <a:lnTo>
                    <a:pt x="243" y="600"/>
                  </a:lnTo>
                  <a:lnTo>
                    <a:pt x="237" y="598"/>
                  </a:lnTo>
                  <a:lnTo>
                    <a:pt x="231" y="596"/>
                  </a:lnTo>
                  <a:lnTo>
                    <a:pt x="225" y="594"/>
                  </a:lnTo>
                  <a:lnTo>
                    <a:pt x="220" y="594"/>
                  </a:lnTo>
                  <a:lnTo>
                    <a:pt x="214" y="592"/>
                  </a:lnTo>
                  <a:lnTo>
                    <a:pt x="208" y="588"/>
                  </a:lnTo>
                  <a:lnTo>
                    <a:pt x="202" y="586"/>
                  </a:lnTo>
                  <a:lnTo>
                    <a:pt x="197" y="586"/>
                  </a:lnTo>
                  <a:lnTo>
                    <a:pt x="189" y="582"/>
                  </a:lnTo>
                  <a:lnTo>
                    <a:pt x="183" y="579"/>
                  </a:lnTo>
                  <a:lnTo>
                    <a:pt x="177" y="577"/>
                  </a:lnTo>
                  <a:lnTo>
                    <a:pt x="170" y="573"/>
                  </a:lnTo>
                  <a:lnTo>
                    <a:pt x="164" y="569"/>
                  </a:lnTo>
                  <a:lnTo>
                    <a:pt x="158" y="567"/>
                  </a:lnTo>
                  <a:lnTo>
                    <a:pt x="150" y="563"/>
                  </a:lnTo>
                  <a:lnTo>
                    <a:pt x="144" y="559"/>
                  </a:lnTo>
                  <a:lnTo>
                    <a:pt x="139" y="555"/>
                  </a:lnTo>
                  <a:lnTo>
                    <a:pt x="133" y="550"/>
                  </a:lnTo>
                  <a:lnTo>
                    <a:pt x="125" y="546"/>
                  </a:lnTo>
                  <a:lnTo>
                    <a:pt x="119" y="542"/>
                  </a:lnTo>
                  <a:lnTo>
                    <a:pt x="114" y="536"/>
                  </a:lnTo>
                  <a:lnTo>
                    <a:pt x="108" y="530"/>
                  </a:lnTo>
                  <a:lnTo>
                    <a:pt x="102" y="525"/>
                  </a:lnTo>
                  <a:lnTo>
                    <a:pt x="96" y="521"/>
                  </a:lnTo>
                  <a:lnTo>
                    <a:pt x="91" y="513"/>
                  </a:lnTo>
                  <a:lnTo>
                    <a:pt x="85" y="507"/>
                  </a:lnTo>
                  <a:lnTo>
                    <a:pt x="79" y="501"/>
                  </a:lnTo>
                  <a:lnTo>
                    <a:pt x="73" y="494"/>
                  </a:lnTo>
                  <a:lnTo>
                    <a:pt x="67" y="486"/>
                  </a:lnTo>
                  <a:lnTo>
                    <a:pt x="62" y="480"/>
                  </a:lnTo>
                  <a:lnTo>
                    <a:pt x="56" y="471"/>
                  </a:lnTo>
                  <a:lnTo>
                    <a:pt x="52" y="465"/>
                  </a:lnTo>
                  <a:lnTo>
                    <a:pt x="46" y="455"/>
                  </a:lnTo>
                  <a:lnTo>
                    <a:pt x="40" y="447"/>
                  </a:lnTo>
                  <a:lnTo>
                    <a:pt x="37" y="438"/>
                  </a:lnTo>
                  <a:lnTo>
                    <a:pt x="33" y="428"/>
                  </a:lnTo>
                  <a:lnTo>
                    <a:pt x="29" y="419"/>
                  </a:lnTo>
                  <a:lnTo>
                    <a:pt x="23" y="409"/>
                  </a:lnTo>
                  <a:lnTo>
                    <a:pt x="21" y="399"/>
                  </a:lnTo>
                  <a:lnTo>
                    <a:pt x="17" y="390"/>
                  </a:lnTo>
                  <a:lnTo>
                    <a:pt x="13" y="378"/>
                  </a:lnTo>
                  <a:lnTo>
                    <a:pt x="10" y="368"/>
                  </a:lnTo>
                  <a:lnTo>
                    <a:pt x="8" y="357"/>
                  </a:lnTo>
                  <a:lnTo>
                    <a:pt x="6" y="347"/>
                  </a:lnTo>
                  <a:lnTo>
                    <a:pt x="4" y="338"/>
                  </a:lnTo>
                  <a:lnTo>
                    <a:pt x="2" y="326"/>
                  </a:lnTo>
                  <a:lnTo>
                    <a:pt x="0" y="316"/>
                  </a:lnTo>
                  <a:lnTo>
                    <a:pt x="0" y="307"/>
                  </a:lnTo>
                  <a:lnTo>
                    <a:pt x="0" y="297"/>
                  </a:lnTo>
                  <a:lnTo>
                    <a:pt x="0" y="287"/>
                  </a:lnTo>
                  <a:lnTo>
                    <a:pt x="0" y="278"/>
                  </a:lnTo>
                  <a:lnTo>
                    <a:pt x="0" y="268"/>
                  </a:lnTo>
                  <a:lnTo>
                    <a:pt x="0" y="258"/>
                  </a:lnTo>
                  <a:lnTo>
                    <a:pt x="2" y="249"/>
                  </a:lnTo>
                  <a:lnTo>
                    <a:pt x="4" y="241"/>
                  </a:lnTo>
                  <a:lnTo>
                    <a:pt x="6" y="233"/>
                  </a:lnTo>
                  <a:lnTo>
                    <a:pt x="8" y="224"/>
                  </a:lnTo>
                  <a:lnTo>
                    <a:pt x="8" y="214"/>
                  </a:lnTo>
                  <a:lnTo>
                    <a:pt x="10" y="206"/>
                  </a:lnTo>
                  <a:lnTo>
                    <a:pt x="13" y="199"/>
                  </a:lnTo>
                  <a:lnTo>
                    <a:pt x="15" y="189"/>
                  </a:lnTo>
                  <a:lnTo>
                    <a:pt x="17" y="181"/>
                  </a:lnTo>
                  <a:lnTo>
                    <a:pt x="21" y="174"/>
                  </a:lnTo>
                  <a:lnTo>
                    <a:pt x="25" y="166"/>
                  </a:lnTo>
                  <a:lnTo>
                    <a:pt x="27" y="158"/>
                  </a:lnTo>
                  <a:lnTo>
                    <a:pt x="31" y="150"/>
                  </a:lnTo>
                  <a:lnTo>
                    <a:pt x="35" y="143"/>
                  </a:lnTo>
                  <a:lnTo>
                    <a:pt x="38" y="137"/>
                  </a:lnTo>
                  <a:lnTo>
                    <a:pt x="42" y="129"/>
                  </a:lnTo>
                  <a:lnTo>
                    <a:pt x="46" y="124"/>
                  </a:lnTo>
                  <a:lnTo>
                    <a:pt x="50" y="116"/>
                  </a:lnTo>
                  <a:lnTo>
                    <a:pt x="54" y="110"/>
                  </a:lnTo>
                  <a:lnTo>
                    <a:pt x="58" y="104"/>
                  </a:lnTo>
                  <a:lnTo>
                    <a:pt x="64" y="97"/>
                  </a:lnTo>
                  <a:lnTo>
                    <a:pt x="65" y="91"/>
                  </a:lnTo>
                  <a:lnTo>
                    <a:pt x="71" y="85"/>
                  </a:lnTo>
                  <a:lnTo>
                    <a:pt x="75" y="79"/>
                  </a:lnTo>
                  <a:lnTo>
                    <a:pt x="79" y="73"/>
                  </a:lnTo>
                  <a:lnTo>
                    <a:pt x="83" y="68"/>
                  </a:lnTo>
                  <a:lnTo>
                    <a:pt x="89" y="64"/>
                  </a:lnTo>
                  <a:lnTo>
                    <a:pt x="91" y="58"/>
                  </a:lnTo>
                  <a:lnTo>
                    <a:pt x="96" y="54"/>
                  </a:lnTo>
                  <a:lnTo>
                    <a:pt x="100" y="48"/>
                  </a:lnTo>
                  <a:lnTo>
                    <a:pt x="104" y="44"/>
                  </a:lnTo>
                  <a:lnTo>
                    <a:pt x="108" y="41"/>
                  </a:lnTo>
                  <a:lnTo>
                    <a:pt x="110" y="37"/>
                  </a:lnTo>
                  <a:lnTo>
                    <a:pt x="114" y="33"/>
                  </a:lnTo>
                  <a:lnTo>
                    <a:pt x="119" y="29"/>
                  </a:lnTo>
                  <a:lnTo>
                    <a:pt x="125" y="23"/>
                  </a:lnTo>
                  <a:lnTo>
                    <a:pt x="131" y="17"/>
                  </a:lnTo>
                  <a:lnTo>
                    <a:pt x="135" y="12"/>
                  </a:lnTo>
                  <a:lnTo>
                    <a:pt x="141" y="8"/>
                  </a:lnTo>
                  <a:lnTo>
                    <a:pt x="144" y="4"/>
                  </a:lnTo>
                  <a:lnTo>
                    <a:pt x="146" y="2"/>
                  </a:lnTo>
                  <a:lnTo>
                    <a:pt x="148" y="0"/>
                  </a:lnTo>
                  <a:lnTo>
                    <a:pt x="150" y="0"/>
                  </a:lnTo>
                  <a:lnTo>
                    <a:pt x="152" y="16"/>
                  </a:lnTo>
                  <a:lnTo>
                    <a:pt x="15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6238800" y="3127320"/>
              <a:ext cx="322200" cy="909720"/>
            </a:xfrm>
            <a:custGeom>
              <a:avLst/>
              <a:gdLst/>
              <a:ahLst/>
              <a:rect l="l" t="t" r="r" b="b"/>
              <a:pathLst>
                <a:path w="203" h="573">
                  <a:moveTo>
                    <a:pt x="70" y="0"/>
                  </a:moveTo>
                  <a:lnTo>
                    <a:pt x="66" y="4"/>
                  </a:lnTo>
                  <a:lnTo>
                    <a:pt x="60" y="8"/>
                  </a:lnTo>
                  <a:lnTo>
                    <a:pt x="56" y="12"/>
                  </a:lnTo>
                  <a:lnTo>
                    <a:pt x="52" y="16"/>
                  </a:lnTo>
                  <a:lnTo>
                    <a:pt x="50" y="19"/>
                  </a:lnTo>
                  <a:lnTo>
                    <a:pt x="47" y="25"/>
                  </a:lnTo>
                  <a:lnTo>
                    <a:pt x="43" y="29"/>
                  </a:lnTo>
                  <a:lnTo>
                    <a:pt x="41" y="35"/>
                  </a:lnTo>
                  <a:lnTo>
                    <a:pt x="39" y="41"/>
                  </a:lnTo>
                  <a:lnTo>
                    <a:pt x="37" y="48"/>
                  </a:lnTo>
                  <a:lnTo>
                    <a:pt x="33" y="54"/>
                  </a:lnTo>
                  <a:lnTo>
                    <a:pt x="33" y="60"/>
                  </a:lnTo>
                  <a:lnTo>
                    <a:pt x="31" y="68"/>
                  </a:lnTo>
                  <a:lnTo>
                    <a:pt x="31" y="73"/>
                  </a:lnTo>
                  <a:lnTo>
                    <a:pt x="31" y="77"/>
                  </a:lnTo>
                  <a:lnTo>
                    <a:pt x="33" y="81"/>
                  </a:lnTo>
                  <a:lnTo>
                    <a:pt x="37" y="85"/>
                  </a:lnTo>
                  <a:lnTo>
                    <a:pt x="43" y="87"/>
                  </a:lnTo>
                  <a:lnTo>
                    <a:pt x="47" y="87"/>
                  </a:lnTo>
                  <a:lnTo>
                    <a:pt x="52" y="87"/>
                  </a:lnTo>
                  <a:lnTo>
                    <a:pt x="60" y="87"/>
                  </a:lnTo>
                  <a:lnTo>
                    <a:pt x="68" y="85"/>
                  </a:lnTo>
                  <a:lnTo>
                    <a:pt x="74" y="83"/>
                  </a:lnTo>
                  <a:lnTo>
                    <a:pt x="81" y="81"/>
                  </a:lnTo>
                  <a:lnTo>
                    <a:pt x="87" y="79"/>
                  </a:lnTo>
                  <a:lnTo>
                    <a:pt x="93" y="77"/>
                  </a:lnTo>
                  <a:lnTo>
                    <a:pt x="97" y="75"/>
                  </a:lnTo>
                  <a:lnTo>
                    <a:pt x="100" y="73"/>
                  </a:lnTo>
                  <a:lnTo>
                    <a:pt x="102" y="73"/>
                  </a:lnTo>
                  <a:lnTo>
                    <a:pt x="104" y="73"/>
                  </a:lnTo>
                  <a:lnTo>
                    <a:pt x="102" y="73"/>
                  </a:lnTo>
                  <a:lnTo>
                    <a:pt x="102" y="75"/>
                  </a:lnTo>
                  <a:lnTo>
                    <a:pt x="100" y="79"/>
                  </a:lnTo>
                  <a:lnTo>
                    <a:pt x="99" y="83"/>
                  </a:lnTo>
                  <a:lnTo>
                    <a:pt x="95" y="89"/>
                  </a:lnTo>
                  <a:lnTo>
                    <a:pt x="93" y="95"/>
                  </a:lnTo>
                  <a:lnTo>
                    <a:pt x="89" y="100"/>
                  </a:lnTo>
                  <a:lnTo>
                    <a:pt x="87" y="108"/>
                  </a:lnTo>
                  <a:lnTo>
                    <a:pt x="83" y="114"/>
                  </a:lnTo>
                  <a:lnTo>
                    <a:pt x="81" y="122"/>
                  </a:lnTo>
                  <a:lnTo>
                    <a:pt x="79" y="127"/>
                  </a:lnTo>
                  <a:lnTo>
                    <a:pt x="79" y="133"/>
                  </a:lnTo>
                  <a:lnTo>
                    <a:pt x="77" y="137"/>
                  </a:lnTo>
                  <a:lnTo>
                    <a:pt x="77" y="143"/>
                  </a:lnTo>
                  <a:lnTo>
                    <a:pt x="77" y="145"/>
                  </a:lnTo>
                  <a:lnTo>
                    <a:pt x="81" y="147"/>
                  </a:lnTo>
                  <a:lnTo>
                    <a:pt x="81" y="149"/>
                  </a:lnTo>
                  <a:lnTo>
                    <a:pt x="85" y="151"/>
                  </a:lnTo>
                  <a:lnTo>
                    <a:pt x="89" y="151"/>
                  </a:lnTo>
                  <a:lnTo>
                    <a:pt x="95" y="152"/>
                  </a:lnTo>
                  <a:lnTo>
                    <a:pt x="99" y="152"/>
                  </a:lnTo>
                  <a:lnTo>
                    <a:pt x="102" y="154"/>
                  </a:lnTo>
                  <a:lnTo>
                    <a:pt x="108" y="154"/>
                  </a:lnTo>
                  <a:lnTo>
                    <a:pt x="114" y="156"/>
                  </a:lnTo>
                  <a:lnTo>
                    <a:pt x="120" y="156"/>
                  </a:lnTo>
                  <a:lnTo>
                    <a:pt x="126" y="156"/>
                  </a:lnTo>
                  <a:lnTo>
                    <a:pt x="129" y="156"/>
                  </a:lnTo>
                  <a:lnTo>
                    <a:pt x="135" y="156"/>
                  </a:lnTo>
                  <a:lnTo>
                    <a:pt x="139" y="156"/>
                  </a:lnTo>
                  <a:lnTo>
                    <a:pt x="143" y="158"/>
                  </a:lnTo>
                  <a:lnTo>
                    <a:pt x="141" y="158"/>
                  </a:lnTo>
                  <a:lnTo>
                    <a:pt x="139" y="158"/>
                  </a:lnTo>
                  <a:lnTo>
                    <a:pt x="135" y="160"/>
                  </a:lnTo>
                  <a:lnTo>
                    <a:pt x="129" y="164"/>
                  </a:lnTo>
                  <a:lnTo>
                    <a:pt x="124" y="166"/>
                  </a:lnTo>
                  <a:lnTo>
                    <a:pt x="118" y="170"/>
                  </a:lnTo>
                  <a:lnTo>
                    <a:pt x="112" y="176"/>
                  </a:lnTo>
                  <a:lnTo>
                    <a:pt x="104" y="179"/>
                  </a:lnTo>
                  <a:lnTo>
                    <a:pt x="99" y="183"/>
                  </a:lnTo>
                  <a:lnTo>
                    <a:pt x="91" y="187"/>
                  </a:lnTo>
                  <a:lnTo>
                    <a:pt x="85" y="193"/>
                  </a:lnTo>
                  <a:lnTo>
                    <a:pt x="81" y="197"/>
                  </a:lnTo>
                  <a:lnTo>
                    <a:pt x="75" y="203"/>
                  </a:lnTo>
                  <a:lnTo>
                    <a:pt x="75" y="206"/>
                  </a:lnTo>
                  <a:lnTo>
                    <a:pt x="74" y="210"/>
                  </a:lnTo>
                  <a:lnTo>
                    <a:pt x="75" y="214"/>
                  </a:lnTo>
                  <a:lnTo>
                    <a:pt x="79" y="216"/>
                  </a:lnTo>
                  <a:lnTo>
                    <a:pt x="81" y="218"/>
                  </a:lnTo>
                  <a:lnTo>
                    <a:pt x="87" y="220"/>
                  </a:lnTo>
                  <a:lnTo>
                    <a:pt x="93" y="220"/>
                  </a:lnTo>
                  <a:lnTo>
                    <a:pt x="99" y="220"/>
                  </a:lnTo>
                  <a:lnTo>
                    <a:pt x="104" y="220"/>
                  </a:lnTo>
                  <a:lnTo>
                    <a:pt x="112" y="220"/>
                  </a:lnTo>
                  <a:lnTo>
                    <a:pt x="120" y="222"/>
                  </a:lnTo>
                  <a:lnTo>
                    <a:pt x="126" y="220"/>
                  </a:lnTo>
                  <a:lnTo>
                    <a:pt x="131" y="220"/>
                  </a:lnTo>
                  <a:lnTo>
                    <a:pt x="137" y="220"/>
                  </a:lnTo>
                  <a:lnTo>
                    <a:pt x="143" y="220"/>
                  </a:lnTo>
                  <a:lnTo>
                    <a:pt x="147" y="218"/>
                  </a:lnTo>
                  <a:lnTo>
                    <a:pt x="151" y="218"/>
                  </a:lnTo>
                  <a:lnTo>
                    <a:pt x="153" y="218"/>
                  </a:lnTo>
                  <a:lnTo>
                    <a:pt x="154" y="218"/>
                  </a:lnTo>
                  <a:lnTo>
                    <a:pt x="151" y="220"/>
                  </a:lnTo>
                  <a:lnTo>
                    <a:pt x="147" y="226"/>
                  </a:lnTo>
                  <a:lnTo>
                    <a:pt x="143" y="228"/>
                  </a:lnTo>
                  <a:lnTo>
                    <a:pt x="137" y="233"/>
                  </a:lnTo>
                  <a:lnTo>
                    <a:pt x="133" y="237"/>
                  </a:lnTo>
                  <a:lnTo>
                    <a:pt x="129" y="243"/>
                  </a:lnTo>
                  <a:lnTo>
                    <a:pt x="124" y="249"/>
                  </a:lnTo>
                  <a:lnTo>
                    <a:pt x="120" y="253"/>
                  </a:lnTo>
                  <a:lnTo>
                    <a:pt x="114" y="258"/>
                  </a:lnTo>
                  <a:lnTo>
                    <a:pt x="110" y="264"/>
                  </a:lnTo>
                  <a:lnTo>
                    <a:pt x="106" y="268"/>
                  </a:lnTo>
                  <a:lnTo>
                    <a:pt x="104" y="274"/>
                  </a:lnTo>
                  <a:lnTo>
                    <a:pt x="100" y="276"/>
                  </a:lnTo>
                  <a:lnTo>
                    <a:pt x="100" y="280"/>
                  </a:lnTo>
                  <a:lnTo>
                    <a:pt x="99" y="284"/>
                  </a:lnTo>
                  <a:lnTo>
                    <a:pt x="100" y="287"/>
                  </a:lnTo>
                  <a:lnTo>
                    <a:pt x="104" y="291"/>
                  </a:lnTo>
                  <a:lnTo>
                    <a:pt x="110" y="293"/>
                  </a:lnTo>
                  <a:lnTo>
                    <a:pt x="116" y="295"/>
                  </a:lnTo>
                  <a:lnTo>
                    <a:pt x="120" y="295"/>
                  </a:lnTo>
                  <a:lnTo>
                    <a:pt x="124" y="295"/>
                  </a:lnTo>
                  <a:lnTo>
                    <a:pt x="126" y="297"/>
                  </a:lnTo>
                  <a:lnTo>
                    <a:pt x="116" y="357"/>
                  </a:lnTo>
                  <a:lnTo>
                    <a:pt x="114" y="357"/>
                  </a:lnTo>
                  <a:lnTo>
                    <a:pt x="110" y="357"/>
                  </a:lnTo>
                  <a:lnTo>
                    <a:pt x="102" y="357"/>
                  </a:lnTo>
                  <a:lnTo>
                    <a:pt x="97" y="357"/>
                  </a:lnTo>
                  <a:lnTo>
                    <a:pt x="89" y="357"/>
                  </a:lnTo>
                  <a:lnTo>
                    <a:pt x="83" y="361"/>
                  </a:lnTo>
                  <a:lnTo>
                    <a:pt x="77" y="363"/>
                  </a:lnTo>
                  <a:lnTo>
                    <a:pt x="74" y="366"/>
                  </a:lnTo>
                  <a:lnTo>
                    <a:pt x="72" y="372"/>
                  </a:lnTo>
                  <a:lnTo>
                    <a:pt x="72" y="376"/>
                  </a:lnTo>
                  <a:lnTo>
                    <a:pt x="72" y="382"/>
                  </a:lnTo>
                  <a:lnTo>
                    <a:pt x="74" y="386"/>
                  </a:lnTo>
                  <a:lnTo>
                    <a:pt x="75" y="392"/>
                  </a:lnTo>
                  <a:lnTo>
                    <a:pt x="81" y="393"/>
                  </a:lnTo>
                  <a:lnTo>
                    <a:pt x="81" y="392"/>
                  </a:lnTo>
                  <a:lnTo>
                    <a:pt x="83" y="392"/>
                  </a:lnTo>
                  <a:lnTo>
                    <a:pt x="87" y="388"/>
                  </a:lnTo>
                  <a:lnTo>
                    <a:pt x="93" y="388"/>
                  </a:lnTo>
                  <a:lnTo>
                    <a:pt x="97" y="384"/>
                  </a:lnTo>
                  <a:lnTo>
                    <a:pt x="100" y="382"/>
                  </a:lnTo>
                  <a:lnTo>
                    <a:pt x="106" y="380"/>
                  </a:lnTo>
                  <a:lnTo>
                    <a:pt x="112" y="380"/>
                  </a:lnTo>
                  <a:lnTo>
                    <a:pt x="118" y="378"/>
                  </a:lnTo>
                  <a:lnTo>
                    <a:pt x="124" y="378"/>
                  </a:lnTo>
                  <a:lnTo>
                    <a:pt x="129" y="378"/>
                  </a:lnTo>
                  <a:lnTo>
                    <a:pt x="137" y="380"/>
                  </a:lnTo>
                  <a:lnTo>
                    <a:pt x="143" y="380"/>
                  </a:lnTo>
                  <a:lnTo>
                    <a:pt x="149" y="384"/>
                  </a:lnTo>
                  <a:lnTo>
                    <a:pt x="153" y="388"/>
                  </a:lnTo>
                  <a:lnTo>
                    <a:pt x="158" y="393"/>
                  </a:lnTo>
                  <a:lnTo>
                    <a:pt x="162" y="399"/>
                  </a:lnTo>
                  <a:lnTo>
                    <a:pt x="164" y="405"/>
                  </a:lnTo>
                  <a:lnTo>
                    <a:pt x="166" y="411"/>
                  </a:lnTo>
                  <a:lnTo>
                    <a:pt x="168" y="419"/>
                  </a:lnTo>
                  <a:lnTo>
                    <a:pt x="166" y="422"/>
                  </a:lnTo>
                  <a:lnTo>
                    <a:pt x="166" y="426"/>
                  </a:lnTo>
                  <a:lnTo>
                    <a:pt x="166" y="432"/>
                  </a:lnTo>
                  <a:lnTo>
                    <a:pt x="164" y="436"/>
                  </a:lnTo>
                  <a:lnTo>
                    <a:pt x="164" y="440"/>
                  </a:lnTo>
                  <a:lnTo>
                    <a:pt x="162" y="446"/>
                  </a:lnTo>
                  <a:lnTo>
                    <a:pt x="160" y="449"/>
                  </a:lnTo>
                  <a:lnTo>
                    <a:pt x="158" y="455"/>
                  </a:lnTo>
                  <a:lnTo>
                    <a:pt x="156" y="459"/>
                  </a:lnTo>
                  <a:lnTo>
                    <a:pt x="154" y="463"/>
                  </a:lnTo>
                  <a:lnTo>
                    <a:pt x="153" y="467"/>
                  </a:lnTo>
                  <a:lnTo>
                    <a:pt x="151" y="473"/>
                  </a:lnTo>
                  <a:lnTo>
                    <a:pt x="149" y="476"/>
                  </a:lnTo>
                  <a:lnTo>
                    <a:pt x="145" y="480"/>
                  </a:lnTo>
                  <a:lnTo>
                    <a:pt x="143" y="484"/>
                  </a:lnTo>
                  <a:lnTo>
                    <a:pt x="139" y="488"/>
                  </a:lnTo>
                  <a:lnTo>
                    <a:pt x="137" y="492"/>
                  </a:lnTo>
                  <a:lnTo>
                    <a:pt x="133" y="498"/>
                  </a:lnTo>
                  <a:lnTo>
                    <a:pt x="129" y="501"/>
                  </a:lnTo>
                  <a:lnTo>
                    <a:pt x="127" y="505"/>
                  </a:lnTo>
                  <a:lnTo>
                    <a:pt x="120" y="513"/>
                  </a:lnTo>
                  <a:lnTo>
                    <a:pt x="112" y="521"/>
                  </a:lnTo>
                  <a:lnTo>
                    <a:pt x="108" y="523"/>
                  </a:lnTo>
                  <a:lnTo>
                    <a:pt x="104" y="525"/>
                  </a:lnTo>
                  <a:lnTo>
                    <a:pt x="100" y="528"/>
                  </a:lnTo>
                  <a:lnTo>
                    <a:pt x="97" y="530"/>
                  </a:lnTo>
                  <a:lnTo>
                    <a:pt x="89" y="534"/>
                  </a:lnTo>
                  <a:lnTo>
                    <a:pt x="83" y="538"/>
                  </a:lnTo>
                  <a:lnTo>
                    <a:pt x="75" y="540"/>
                  </a:lnTo>
                  <a:lnTo>
                    <a:pt x="70" y="540"/>
                  </a:lnTo>
                  <a:lnTo>
                    <a:pt x="64" y="540"/>
                  </a:lnTo>
                  <a:lnTo>
                    <a:pt x="58" y="542"/>
                  </a:lnTo>
                  <a:lnTo>
                    <a:pt x="52" y="540"/>
                  </a:lnTo>
                  <a:lnTo>
                    <a:pt x="48" y="538"/>
                  </a:lnTo>
                  <a:lnTo>
                    <a:pt x="45" y="536"/>
                  </a:lnTo>
                  <a:lnTo>
                    <a:pt x="41" y="534"/>
                  </a:lnTo>
                  <a:lnTo>
                    <a:pt x="33" y="528"/>
                  </a:lnTo>
                  <a:lnTo>
                    <a:pt x="31" y="525"/>
                  </a:lnTo>
                  <a:lnTo>
                    <a:pt x="27" y="517"/>
                  </a:lnTo>
                  <a:lnTo>
                    <a:pt x="23" y="513"/>
                  </a:lnTo>
                  <a:lnTo>
                    <a:pt x="21" y="507"/>
                  </a:lnTo>
                  <a:lnTo>
                    <a:pt x="18" y="505"/>
                  </a:lnTo>
                  <a:lnTo>
                    <a:pt x="16" y="503"/>
                  </a:lnTo>
                  <a:lnTo>
                    <a:pt x="12" y="503"/>
                  </a:lnTo>
                  <a:lnTo>
                    <a:pt x="8" y="505"/>
                  </a:lnTo>
                  <a:lnTo>
                    <a:pt x="6" y="509"/>
                  </a:lnTo>
                  <a:lnTo>
                    <a:pt x="2" y="513"/>
                  </a:lnTo>
                  <a:lnTo>
                    <a:pt x="0" y="519"/>
                  </a:lnTo>
                  <a:lnTo>
                    <a:pt x="0" y="525"/>
                  </a:lnTo>
                  <a:lnTo>
                    <a:pt x="4" y="532"/>
                  </a:lnTo>
                  <a:lnTo>
                    <a:pt x="6" y="540"/>
                  </a:lnTo>
                  <a:lnTo>
                    <a:pt x="14" y="548"/>
                  </a:lnTo>
                  <a:lnTo>
                    <a:pt x="16" y="550"/>
                  </a:lnTo>
                  <a:lnTo>
                    <a:pt x="20" y="553"/>
                  </a:lnTo>
                  <a:lnTo>
                    <a:pt x="25" y="557"/>
                  </a:lnTo>
                  <a:lnTo>
                    <a:pt x="31" y="561"/>
                  </a:lnTo>
                  <a:lnTo>
                    <a:pt x="35" y="565"/>
                  </a:lnTo>
                  <a:lnTo>
                    <a:pt x="41" y="567"/>
                  </a:lnTo>
                  <a:lnTo>
                    <a:pt x="45" y="569"/>
                  </a:lnTo>
                  <a:lnTo>
                    <a:pt x="52" y="571"/>
                  </a:lnTo>
                  <a:lnTo>
                    <a:pt x="58" y="571"/>
                  </a:lnTo>
                  <a:lnTo>
                    <a:pt x="64" y="573"/>
                  </a:lnTo>
                  <a:lnTo>
                    <a:pt x="72" y="571"/>
                  </a:lnTo>
                  <a:lnTo>
                    <a:pt x="79" y="569"/>
                  </a:lnTo>
                  <a:lnTo>
                    <a:pt x="83" y="569"/>
                  </a:lnTo>
                  <a:lnTo>
                    <a:pt x="87" y="567"/>
                  </a:lnTo>
                  <a:lnTo>
                    <a:pt x="91" y="565"/>
                  </a:lnTo>
                  <a:lnTo>
                    <a:pt x="95" y="563"/>
                  </a:lnTo>
                  <a:lnTo>
                    <a:pt x="100" y="561"/>
                  </a:lnTo>
                  <a:lnTo>
                    <a:pt x="104" y="559"/>
                  </a:lnTo>
                  <a:lnTo>
                    <a:pt x="108" y="555"/>
                  </a:lnTo>
                  <a:lnTo>
                    <a:pt x="114" y="553"/>
                  </a:lnTo>
                  <a:lnTo>
                    <a:pt x="118" y="550"/>
                  </a:lnTo>
                  <a:lnTo>
                    <a:pt x="122" y="546"/>
                  </a:lnTo>
                  <a:lnTo>
                    <a:pt x="127" y="542"/>
                  </a:lnTo>
                  <a:lnTo>
                    <a:pt x="133" y="538"/>
                  </a:lnTo>
                  <a:lnTo>
                    <a:pt x="137" y="534"/>
                  </a:lnTo>
                  <a:lnTo>
                    <a:pt x="143" y="530"/>
                  </a:lnTo>
                  <a:lnTo>
                    <a:pt x="149" y="525"/>
                  </a:lnTo>
                  <a:lnTo>
                    <a:pt x="154" y="521"/>
                  </a:lnTo>
                  <a:lnTo>
                    <a:pt x="158" y="513"/>
                  </a:lnTo>
                  <a:lnTo>
                    <a:pt x="164" y="507"/>
                  </a:lnTo>
                  <a:lnTo>
                    <a:pt x="168" y="501"/>
                  </a:lnTo>
                  <a:lnTo>
                    <a:pt x="174" y="498"/>
                  </a:lnTo>
                  <a:lnTo>
                    <a:pt x="176" y="492"/>
                  </a:lnTo>
                  <a:lnTo>
                    <a:pt x="180" y="486"/>
                  </a:lnTo>
                  <a:lnTo>
                    <a:pt x="183" y="480"/>
                  </a:lnTo>
                  <a:lnTo>
                    <a:pt x="187" y="476"/>
                  </a:lnTo>
                  <a:lnTo>
                    <a:pt x="189" y="471"/>
                  </a:lnTo>
                  <a:lnTo>
                    <a:pt x="191" y="465"/>
                  </a:lnTo>
                  <a:lnTo>
                    <a:pt x="193" y="461"/>
                  </a:lnTo>
                  <a:lnTo>
                    <a:pt x="195" y="455"/>
                  </a:lnTo>
                  <a:lnTo>
                    <a:pt x="197" y="451"/>
                  </a:lnTo>
                  <a:lnTo>
                    <a:pt x="199" y="447"/>
                  </a:lnTo>
                  <a:lnTo>
                    <a:pt x="199" y="444"/>
                  </a:lnTo>
                  <a:lnTo>
                    <a:pt x="201" y="438"/>
                  </a:lnTo>
                  <a:lnTo>
                    <a:pt x="201" y="434"/>
                  </a:lnTo>
                  <a:lnTo>
                    <a:pt x="201" y="430"/>
                  </a:lnTo>
                  <a:lnTo>
                    <a:pt x="203" y="426"/>
                  </a:lnTo>
                  <a:lnTo>
                    <a:pt x="203" y="420"/>
                  </a:lnTo>
                  <a:lnTo>
                    <a:pt x="203" y="413"/>
                  </a:lnTo>
                  <a:lnTo>
                    <a:pt x="203" y="407"/>
                  </a:lnTo>
                  <a:lnTo>
                    <a:pt x="201" y="401"/>
                  </a:lnTo>
                  <a:lnTo>
                    <a:pt x="201" y="395"/>
                  </a:lnTo>
                  <a:lnTo>
                    <a:pt x="199" y="390"/>
                  </a:lnTo>
                  <a:lnTo>
                    <a:pt x="199" y="384"/>
                  </a:lnTo>
                  <a:lnTo>
                    <a:pt x="195" y="380"/>
                  </a:lnTo>
                  <a:lnTo>
                    <a:pt x="193" y="376"/>
                  </a:lnTo>
                  <a:lnTo>
                    <a:pt x="189" y="372"/>
                  </a:lnTo>
                  <a:lnTo>
                    <a:pt x="185" y="370"/>
                  </a:lnTo>
                  <a:lnTo>
                    <a:pt x="180" y="368"/>
                  </a:lnTo>
                  <a:lnTo>
                    <a:pt x="174" y="365"/>
                  </a:lnTo>
                  <a:lnTo>
                    <a:pt x="170" y="363"/>
                  </a:lnTo>
                  <a:lnTo>
                    <a:pt x="164" y="363"/>
                  </a:lnTo>
                  <a:lnTo>
                    <a:pt x="158" y="361"/>
                  </a:lnTo>
                  <a:lnTo>
                    <a:pt x="154" y="359"/>
                  </a:lnTo>
                  <a:lnTo>
                    <a:pt x="149" y="357"/>
                  </a:lnTo>
                  <a:lnTo>
                    <a:pt x="145" y="357"/>
                  </a:lnTo>
                  <a:lnTo>
                    <a:pt x="141" y="357"/>
                  </a:lnTo>
                  <a:lnTo>
                    <a:pt x="139" y="357"/>
                  </a:lnTo>
                  <a:lnTo>
                    <a:pt x="137" y="357"/>
                  </a:lnTo>
                  <a:lnTo>
                    <a:pt x="137" y="355"/>
                  </a:lnTo>
                  <a:lnTo>
                    <a:pt x="141" y="351"/>
                  </a:lnTo>
                  <a:lnTo>
                    <a:pt x="145" y="345"/>
                  </a:lnTo>
                  <a:lnTo>
                    <a:pt x="151" y="338"/>
                  </a:lnTo>
                  <a:lnTo>
                    <a:pt x="154" y="334"/>
                  </a:lnTo>
                  <a:lnTo>
                    <a:pt x="156" y="328"/>
                  </a:lnTo>
                  <a:lnTo>
                    <a:pt x="158" y="324"/>
                  </a:lnTo>
                  <a:lnTo>
                    <a:pt x="162" y="320"/>
                  </a:lnTo>
                  <a:lnTo>
                    <a:pt x="162" y="316"/>
                  </a:lnTo>
                  <a:lnTo>
                    <a:pt x="164" y="312"/>
                  </a:lnTo>
                  <a:lnTo>
                    <a:pt x="166" y="309"/>
                  </a:lnTo>
                  <a:lnTo>
                    <a:pt x="166" y="307"/>
                  </a:lnTo>
                  <a:lnTo>
                    <a:pt x="164" y="301"/>
                  </a:lnTo>
                  <a:lnTo>
                    <a:pt x="158" y="295"/>
                  </a:lnTo>
                  <a:lnTo>
                    <a:pt x="154" y="289"/>
                  </a:lnTo>
                  <a:lnTo>
                    <a:pt x="149" y="285"/>
                  </a:lnTo>
                  <a:lnTo>
                    <a:pt x="143" y="282"/>
                  </a:lnTo>
                  <a:lnTo>
                    <a:pt x="137" y="278"/>
                  </a:lnTo>
                  <a:lnTo>
                    <a:pt x="133" y="276"/>
                  </a:lnTo>
                  <a:lnTo>
                    <a:pt x="133" y="276"/>
                  </a:lnTo>
                  <a:lnTo>
                    <a:pt x="135" y="274"/>
                  </a:lnTo>
                  <a:lnTo>
                    <a:pt x="141" y="270"/>
                  </a:lnTo>
                  <a:lnTo>
                    <a:pt x="145" y="266"/>
                  </a:lnTo>
                  <a:lnTo>
                    <a:pt x="151" y="262"/>
                  </a:lnTo>
                  <a:lnTo>
                    <a:pt x="154" y="258"/>
                  </a:lnTo>
                  <a:lnTo>
                    <a:pt x="160" y="253"/>
                  </a:lnTo>
                  <a:lnTo>
                    <a:pt x="166" y="247"/>
                  </a:lnTo>
                  <a:lnTo>
                    <a:pt x="170" y="243"/>
                  </a:lnTo>
                  <a:lnTo>
                    <a:pt x="176" y="237"/>
                  </a:lnTo>
                  <a:lnTo>
                    <a:pt x="180" y="233"/>
                  </a:lnTo>
                  <a:lnTo>
                    <a:pt x="181" y="228"/>
                  </a:lnTo>
                  <a:lnTo>
                    <a:pt x="185" y="222"/>
                  </a:lnTo>
                  <a:lnTo>
                    <a:pt x="185" y="218"/>
                  </a:lnTo>
                  <a:lnTo>
                    <a:pt x="187" y="214"/>
                  </a:lnTo>
                  <a:lnTo>
                    <a:pt x="185" y="208"/>
                  </a:lnTo>
                  <a:lnTo>
                    <a:pt x="183" y="204"/>
                  </a:lnTo>
                  <a:lnTo>
                    <a:pt x="181" y="203"/>
                  </a:lnTo>
                  <a:lnTo>
                    <a:pt x="178" y="201"/>
                  </a:lnTo>
                  <a:lnTo>
                    <a:pt x="172" y="197"/>
                  </a:lnTo>
                  <a:lnTo>
                    <a:pt x="166" y="195"/>
                  </a:lnTo>
                  <a:lnTo>
                    <a:pt x="158" y="193"/>
                  </a:lnTo>
                  <a:lnTo>
                    <a:pt x="154" y="193"/>
                  </a:lnTo>
                  <a:lnTo>
                    <a:pt x="151" y="193"/>
                  </a:lnTo>
                  <a:lnTo>
                    <a:pt x="149" y="195"/>
                  </a:lnTo>
                  <a:lnTo>
                    <a:pt x="151" y="193"/>
                  </a:lnTo>
                  <a:lnTo>
                    <a:pt x="154" y="189"/>
                  </a:lnTo>
                  <a:lnTo>
                    <a:pt x="158" y="185"/>
                  </a:lnTo>
                  <a:lnTo>
                    <a:pt x="162" y="183"/>
                  </a:lnTo>
                  <a:lnTo>
                    <a:pt x="166" y="179"/>
                  </a:lnTo>
                  <a:lnTo>
                    <a:pt x="170" y="178"/>
                  </a:lnTo>
                  <a:lnTo>
                    <a:pt x="178" y="170"/>
                  </a:lnTo>
                  <a:lnTo>
                    <a:pt x="183" y="162"/>
                  </a:lnTo>
                  <a:lnTo>
                    <a:pt x="185" y="158"/>
                  </a:lnTo>
                  <a:lnTo>
                    <a:pt x="185" y="154"/>
                  </a:lnTo>
                  <a:lnTo>
                    <a:pt x="185" y="151"/>
                  </a:lnTo>
                  <a:lnTo>
                    <a:pt x="185" y="147"/>
                  </a:lnTo>
                  <a:lnTo>
                    <a:pt x="181" y="143"/>
                  </a:lnTo>
                  <a:lnTo>
                    <a:pt x="178" y="141"/>
                  </a:lnTo>
                  <a:lnTo>
                    <a:pt x="174" y="137"/>
                  </a:lnTo>
                  <a:lnTo>
                    <a:pt x="170" y="135"/>
                  </a:lnTo>
                  <a:lnTo>
                    <a:pt x="164" y="133"/>
                  </a:lnTo>
                  <a:lnTo>
                    <a:pt x="158" y="129"/>
                  </a:lnTo>
                  <a:lnTo>
                    <a:pt x="153" y="129"/>
                  </a:lnTo>
                  <a:lnTo>
                    <a:pt x="147" y="127"/>
                  </a:lnTo>
                  <a:lnTo>
                    <a:pt x="141" y="125"/>
                  </a:lnTo>
                  <a:lnTo>
                    <a:pt x="135" y="125"/>
                  </a:lnTo>
                  <a:lnTo>
                    <a:pt x="131" y="124"/>
                  </a:lnTo>
                  <a:lnTo>
                    <a:pt x="127" y="124"/>
                  </a:lnTo>
                  <a:lnTo>
                    <a:pt x="124" y="124"/>
                  </a:lnTo>
                  <a:lnTo>
                    <a:pt x="120" y="124"/>
                  </a:lnTo>
                  <a:lnTo>
                    <a:pt x="118" y="124"/>
                  </a:lnTo>
                  <a:lnTo>
                    <a:pt x="118" y="122"/>
                  </a:lnTo>
                  <a:lnTo>
                    <a:pt x="120" y="122"/>
                  </a:lnTo>
                  <a:lnTo>
                    <a:pt x="122" y="118"/>
                  </a:lnTo>
                  <a:lnTo>
                    <a:pt x="124" y="114"/>
                  </a:lnTo>
                  <a:lnTo>
                    <a:pt x="126" y="110"/>
                  </a:lnTo>
                  <a:lnTo>
                    <a:pt x="129" y="104"/>
                  </a:lnTo>
                  <a:lnTo>
                    <a:pt x="131" y="98"/>
                  </a:lnTo>
                  <a:lnTo>
                    <a:pt x="135" y="93"/>
                  </a:lnTo>
                  <a:lnTo>
                    <a:pt x="137" y="87"/>
                  </a:lnTo>
                  <a:lnTo>
                    <a:pt x="139" y="79"/>
                  </a:lnTo>
                  <a:lnTo>
                    <a:pt x="139" y="73"/>
                  </a:lnTo>
                  <a:lnTo>
                    <a:pt x="141" y="68"/>
                  </a:lnTo>
                  <a:lnTo>
                    <a:pt x="141" y="62"/>
                  </a:lnTo>
                  <a:lnTo>
                    <a:pt x="141" y="58"/>
                  </a:lnTo>
                  <a:lnTo>
                    <a:pt x="139" y="52"/>
                  </a:lnTo>
                  <a:lnTo>
                    <a:pt x="137" y="48"/>
                  </a:lnTo>
                  <a:lnTo>
                    <a:pt x="131" y="46"/>
                  </a:lnTo>
                  <a:lnTo>
                    <a:pt x="127" y="43"/>
                  </a:lnTo>
                  <a:lnTo>
                    <a:pt x="122" y="43"/>
                  </a:lnTo>
                  <a:lnTo>
                    <a:pt x="116" y="43"/>
                  </a:lnTo>
                  <a:lnTo>
                    <a:pt x="108" y="41"/>
                  </a:lnTo>
                  <a:lnTo>
                    <a:pt x="102" y="43"/>
                  </a:lnTo>
                  <a:lnTo>
                    <a:pt x="97" y="43"/>
                  </a:lnTo>
                  <a:lnTo>
                    <a:pt x="91" y="44"/>
                  </a:lnTo>
                  <a:lnTo>
                    <a:pt x="85" y="44"/>
                  </a:lnTo>
                  <a:lnTo>
                    <a:pt x="79" y="46"/>
                  </a:lnTo>
                  <a:lnTo>
                    <a:pt x="74" y="48"/>
                  </a:lnTo>
                  <a:lnTo>
                    <a:pt x="70" y="50"/>
                  </a:lnTo>
                  <a:lnTo>
                    <a:pt x="66" y="50"/>
                  </a:lnTo>
                  <a:lnTo>
                    <a:pt x="64" y="52"/>
                  </a:lnTo>
                  <a:lnTo>
                    <a:pt x="62" y="52"/>
                  </a:lnTo>
                  <a:lnTo>
                    <a:pt x="62" y="52"/>
                  </a:lnTo>
                  <a:lnTo>
                    <a:pt x="66" y="48"/>
                  </a:lnTo>
                  <a:lnTo>
                    <a:pt x="70" y="44"/>
                  </a:lnTo>
                  <a:lnTo>
                    <a:pt x="75" y="41"/>
                  </a:lnTo>
                  <a:lnTo>
                    <a:pt x="81" y="35"/>
                  </a:lnTo>
                  <a:lnTo>
                    <a:pt x="85" y="29"/>
                  </a:lnTo>
                  <a:lnTo>
                    <a:pt x="89" y="21"/>
                  </a:lnTo>
                  <a:lnTo>
                    <a:pt x="91" y="17"/>
                  </a:lnTo>
                  <a:lnTo>
                    <a:pt x="89" y="12"/>
                  </a:lnTo>
                  <a:lnTo>
                    <a:pt x="87" y="10"/>
                  </a:lnTo>
                  <a:lnTo>
                    <a:pt x="83" y="6"/>
                  </a:lnTo>
                  <a:lnTo>
                    <a:pt x="81" y="4"/>
                  </a:lnTo>
                  <a:lnTo>
                    <a:pt x="74" y="0"/>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5627520" y="2643120"/>
              <a:ext cx="217800" cy="306360"/>
            </a:xfrm>
            <a:custGeom>
              <a:avLst/>
              <a:gdLst/>
              <a:ahLst/>
              <a:rect l="l" t="t" r="r" b="b"/>
              <a:pathLst>
                <a:path w="137" h="193">
                  <a:moveTo>
                    <a:pt x="129" y="182"/>
                  </a:moveTo>
                  <a:lnTo>
                    <a:pt x="129" y="176"/>
                  </a:lnTo>
                  <a:lnTo>
                    <a:pt x="127" y="170"/>
                  </a:lnTo>
                  <a:lnTo>
                    <a:pt x="125" y="164"/>
                  </a:lnTo>
                  <a:lnTo>
                    <a:pt x="123" y="159"/>
                  </a:lnTo>
                  <a:lnTo>
                    <a:pt x="121" y="153"/>
                  </a:lnTo>
                  <a:lnTo>
                    <a:pt x="119" y="147"/>
                  </a:lnTo>
                  <a:lnTo>
                    <a:pt x="119" y="141"/>
                  </a:lnTo>
                  <a:lnTo>
                    <a:pt x="117" y="135"/>
                  </a:lnTo>
                  <a:lnTo>
                    <a:pt x="115" y="130"/>
                  </a:lnTo>
                  <a:lnTo>
                    <a:pt x="113" y="124"/>
                  </a:lnTo>
                  <a:lnTo>
                    <a:pt x="112" y="118"/>
                  </a:lnTo>
                  <a:lnTo>
                    <a:pt x="110" y="112"/>
                  </a:lnTo>
                  <a:lnTo>
                    <a:pt x="106" y="107"/>
                  </a:lnTo>
                  <a:lnTo>
                    <a:pt x="104" y="101"/>
                  </a:lnTo>
                  <a:lnTo>
                    <a:pt x="102" y="95"/>
                  </a:lnTo>
                  <a:lnTo>
                    <a:pt x="100" y="91"/>
                  </a:lnTo>
                  <a:lnTo>
                    <a:pt x="98" y="85"/>
                  </a:lnTo>
                  <a:lnTo>
                    <a:pt x="94" y="80"/>
                  </a:lnTo>
                  <a:lnTo>
                    <a:pt x="92" y="74"/>
                  </a:lnTo>
                  <a:lnTo>
                    <a:pt x="90" y="70"/>
                  </a:lnTo>
                  <a:lnTo>
                    <a:pt x="86" y="66"/>
                  </a:lnTo>
                  <a:lnTo>
                    <a:pt x="85" y="62"/>
                  </a:lnTo>
                  <a:lnTo>
                    <a:pt x="83" y="56"/>
                  </a:lnTo>
                  <a:lnTo>
                    <a:pt x="81" y="54"/>
                  </a:lnTo>
                  <a:lnTo>
                    <a:pt x="75" y="47"/>
                  </a:lnTo>
                  <a:lnTo>
                    <a:pt x="71" y="41"/>
                  </a:lnTo>
                  <a:lnTo>
                    <a:pt x="67" y="37"/>
                  </a:lnTo>
                  <a:lnTo>
                    <a:pt x="63" y="35"/>
                  </a:lnTo>
                  <a:lnTo>
                    <a:pt x="60" y="31"/>
                  </a:lnTo>
                  <a:lnTo>
                    <a:pt x="54" y="29"/>
                  </a:lnTo>
                  <a:lnTo>
                    <a:pt x="48" y="29"/>
                  </a:lnTo>
                  <a:lnTo>
                    <a:pt x="44" y="29"/>
                  </a:lnTo>
                  <a:lnTo>
                    <a:pt x="40" y="27"/>
                  </a:lnTo>
                  <a:lnTo>
                    <a:pt x="34" y="27"/>
                  </a:lnTo>
                  <a:lnTo>
                    <a:pt x="31" y="27"/>
                  </a:lnTo>
                  <a:lnTo>
                    <a:pt x="27" y="29"/>
                  </a:lnTo>
                  <a:lnTo>
                    <a:pt x="23" y="29"/>
                  </a:lnTo>
                  <a:lnTo>
                    <a:pt x="21" y="31"/>
                  </a:lnTo>
                  <a:lnTo>
                    <a:pt x="19" y="35"/>
                  </a:lnTo>
                  <a:lnTo>
                    <a:pt x="19" y="39"/>
                  </a:lnTo>
                  <a:lnTo>
                    <a:pt x="19" y="43"/>
                  </a:lnTo>
                  <a:lnTo>
                    <a:pt x="21" y="49"/>
                  </a:lnTo>
                  <a:lnTo>
                    <a:pt x="25" y="54"/>
                  </a:lnTo>
                  <a:lnTo>
                    <a:pt x="29" y="62"/>
                  </a:lnTo>
                  <a:lnTo>
                    <a:pt x="34" y="70"/>
                  </a:lnTo>
                  <a:lnTo>
                    <a:pt x="40" y="78"/>
                  </a:lnTo>
                  <a:lnTo>
                    <a:pt x="44" y="81"/>
                  </a:lnTo>
                  <a:lnTo>
                    <a:pt x="48" y="85"/>
                  </a:lnTo>
                  <a:lnTo>
                    <a:pt x="50" y="89"/>
                  </a:lnTo>
                  <a:lnTo>
                    <a:pt x="54" y="93"/>
                  </a:lnTo>
                  <a:lnTo>
                    <a:pt x="58" y="97"/>
                  </a:lnTo>
                  <a:lnTo>
                    <a:pt x="61" y="101"/>
                  </a:lnTo>
                  <a:lnTo>
                    <a:pt x="63" y="105"/>
                  </a:lnTo>
                  <a:lnTo>
                    <a:pt x="67" y="108"/>
                  </a:lnTo>
                  <a:lnTo>
                    <a:pt x="69" y="112"/>
                  </a:lnTo>
                  <a:lnTo>
                    <a:pt x="73" y="116"/>
                  </a:lnTo>
                  <a:lnTo>
                    <a:pt x="77" y="120"/>
                  </a:lnTo>
                  <a:lnTo>
                    <a:pt x="81" y="126"/>
                  </a:lnTo>
                  <a:lnTo>
                    <a:pt x="86" y="132"/>
                  </a:lnTo>
                  <a:lnTo>
                    <a:pt x="92" y="141"/>
                  </a:lnTo>
                  <a:lnTo>
                    <a:pt x="96" y="147"/>
                  </a:lnTo>
                  <a:lnTo>
                    <a:pt x="102" y="155"/>
                  </a:lnTo>
                  <a:lnTo>
                    <a:pt x="106" y="162"/>
                  </a:lnTo>
                  <a:lnTo>
                    <a:pt x="108" y="168"/>
                  </a:lnTo>
                  <a:lnTo>
                    <a:pt x="110" y="174"/>
                  </a:lnTo>
                  <a:lnTo>
                    <a:pt x="112" y="182"/>
                  </a:lnTo>
                  <a:lnTo>
                    <a:pt x="112" y="186"/>
                  </a:lnTo>
                  <a:lnTo>
                    <a:pt x="112" y="189"/>
                  </a:lnTo>
                  <a:lnTo>
                    <a:pt x="112" y="191"/>
                  </a:lnTo>
                  <a:lnTo>
                    <a:pt x="112" y="193"/>
                  </a:lnTo>
                  <a:lnTo>
                    <a:pt x="110" y="193"/>
                  </a:lnTo>
                  <a:lnTo>
                    <a:pt x="108" y="193"/>
                  </a:lnTo>
                  <a:lnTo>
                    <a:pt x="106" y="188"/>
                  </a:lnTo>
                  <a:lnTo>
                    <a:pt x="102" y="182"/>
                  </a:lnTo>
                  <a:lnTo>
                    <a:pt x="98" y="176"/>
                  </a:lnTo>
                  <a:lnTo>
                    <a:pt x="96" y="168"/>
                  </a:lnTo>
                  <a:lnTo>
                    <a:pt x="92" y="164"/>
                  </a:lnTo>
                  <a:lnTo>
                    <a:pt x="88" y="161"/>
                  </a:lnTo>
                  <a:lnTo>
                    <a:pt x="85" y="153"/>
                  </a:lnTo>
                  <a:lnTo>
                    <a:pt x="81" y="147"/>
                  </a:lnTo>
                  <a:lnTo>
                    <a:pt x="75" y="139"/>
                  </a:lnTo>
                  <a:lnTo>
                    <a:pt x="69" y="132"/>
                  </a:lnTo>
                  <a:lnTo>
                    <a:pt x="65" y="128"/>
                  </a:lnTo>
                  <a:lnTo>
                    <a:pt x="61" y="124"/>
                  </a:lnTo>
                  <a:lnTo>
                    <a:pt x="60" y="120"/>
                  </a:lnTo>
                  <a:lnTo>
                    <a:pt x="56" y="116"/>
                  </a:lnTo>
                  <a:lnTo>
                    <a:pt x="54" y="112"/>
                  </a:lnTo>
                  <a:lnTo>
                    <a:pt x="50" y="107"/>
                  </a:lnTo>
                  <a:lnTo>
                    <a:pt x="46" y="103"/>
                  </a:lnTo>
                  <a:lnTo>
                    <a:pt x="44" y="99"/>
                  </a:lnTo>
                  <a:lnTo>
                    <a:pt x="40" y="95"/>
                  </a:lnTo>
                  <a:lnTo>
                    <a:pt x="36" y="91"/>
                  </a:lnTo>
                  <a:lnTo>
                    <a:pt x="34" y="87"/>
                  </a:lnTo>
                  <a:lnTo>
                    <a:pt x="31" y="83"/>
                  </a:lnTo>
                  <a:lnTo>
                    <a:pt x="29" y="80"/>
                  </a:lnTo>
                  <a:lnTo>
                    <a:pt x="25" y="74"/>
                  </a:lnTo>
                  <a:lnTo>
                    <a:pt x="23" y="70"/>
                  </a:lnTo>
                  <a:lnTo>
                    <a:pt x="21" y="68"/>
                  </a:lnTo>
                  <a:lnTo>
                    <a:pt x="17" y="62"/>
                  </a:lnTo>
                  <a:lnTo>
                    <a:pt x="13" y="56"/>
                  </a:lnTo>
                  <a:lnTo>
                    <a:pt x="9" y="51"/>
                  </a:lnTo>
                  <a:lnTo>
                    <a:pt x="6" y="45"/>
                  </a:lnTo>
                  <a:lnTo>
                    <a:pt x="4" y="41"/>
                  </a:lnTo>
                  <a:lnTo>
                    <a:pt x="2" y="37"/>
                  </a:lnTo>
                  <a:lnTo>
                    <a:pt x="0" y="33"/>
                  </a:lnTo>
                  <a:lnTo>
                    <a:pt x="0" y="29"/>
                  </a:lnTo>
                  <a:lnTo>
                    <a:pt x="0" y="26"/>
                  </a:lnTo>
                  <a:lnTo>
                    <a:pt x="0" y="24"/>
                  </a:lnTo>
                  <a:lnTo>
                    <a:pt x="2" y="18"/>
                  </a:lnTo>
                  <a:lnTo>
                    <a:pt x="7" y="14"/>
                  </a:lnTo>
                  <a:lnTo>
                    <a:pt x="11" y="12"/>
                  </a:lnTo>
                  <a:lnTo>
                    <a:pt x="17" y="10"/>
                  </a:lnTo>
                  <a:lnTo>
                    <a:pt x="23" y="8"/>
                  </a:lnTo>
                  <a:lnTo>
                    <a:pt x="29" y="6"/>
                  </a:lnTo>
                  <a:lnTo>
                    <a:pt x="34" y="2"/>
                  </a:lnTo>
                  <a:lnTo>
                    <a:pt x="40" y="2"/>
                  </a:lnTo>
                  <a:lnTo>
                    <a:pt x="46" y="0"/>
                  </a:lnTo>
                  <a:lnTo>
                    <a:pt x="50" y="2"/>
                  </a:lnTo>
                  <a:lnTo>
                    <a:pt x="54" y="2"/>
                  </a:lnTo>
                  <a:lnTo>
                    <a:pt x="60" y="2"/>
                  </a:lnTo>
                  <a:lnTo>
                    <a:pt x="61" y="4"/>
                  </a:lnTo>
                  <a:lnTo>
                    <a:pt x="65" y="6"/>
                  </a:lnTo>
                  <a:lnTo>
                    <a:pt x="71" y="10"/>
                  </a:lnTo>
                  <a:lnTo>
                    <a:pt x="77" y="18"/>
                  </a:lnTo>
                  <a:lnTo>
                    <a:pt x="81" y="24"/>
                  </a:lnTo>
                  <a:lnTo>
                    <a:pt x="86" y="31"/>
                  </a:lnTo>
                  <a:lnTo>
                    <a:pt x="90" y="35"/>
                  </a:lnTo>
                  <a:lnTo>
                    <a:pt x="94" y="41"/>
                  </a:lnTo>
                  <a:lnTo>
                    <a:pt x="96" y="45"/>
                  </a:lnTo>
                  <a:lnTo>
                    <a:pt x="98" y="49"/>
                  </a:lnTo>
                  <a:lnTo>
                    <a:pt x="100" y="53"/>
                  </a:lnTo>
                  <a:lnTo>
                    <a:pt x="102" y="56"/>
                  </a:lnTo>
                  <a:lnTo>
                    <a:pt x="104" y="60"/>
                  </a:lnTo>
                  <a:lnTo>
                    <a:pt x="106" y="64"/>
                  </a:lnTo>
                  <a:lnTo>
                    <a:pt x="106" y="70"/>
                  </a:lnTo>
                  <a:lnTo>
                    <a:pt x="110" y="74"/>
                  </a:lnTo>
                  <a:lnTo>
                    <a:pt x="110" y="80"/>
                  </a:lnTo>
                  <a:lnTo>
                    <a:pt x="112" y="85"/>
                  </a:lnTo>
                  <a:lnTo>
                    <a:pt x="115" y="89"/>
                  </a:lnTo>
                  <a:lnTo>
                    <a:pt x="117" y="95"/>
                  </a:lnTo>
                  <a:lnTo>
                    <a:pt x="117" y="99"/>
                  </a:lnTo>
                  <a:lnTo>
                    <a:pt x="119" y="105"/>
                  </a:lnTo>
                  <a:lnTo>
                    <a:pt x="121" y="110"/>
                  </a:lnTo>
                  <a:lnTo>
                    <a:pt x="123" y="116"/>
                  </a:lnTo>
                  <a:lnTo>
                    <a:pt x="123" y="120"/>
                  </a:lnTo>
                  <a:lnTo>
                    <a:pt x="125" y="124"/>
                  </a:lnTo>
                  <a:lnTo>
                    <a:pt x="127" y="128"/>
                  </a:lnTo>
                  <a:lnTo>
                    <a:pt x="129" y="134"/>
                  </a:lnTo>
                  <a:lnTo>
                    <a:pt x="129" y="137"/>
                  </a:lnTo>
                  <a:lnTo>
                    <a:pt x="131" y="141"/>
                  </a:lnTo>
                  <a:lnTo>
                    <a:pt x="131" y="145"/>
                  </a:lnTo>
                  <a:lnTo>
                    <a:pt x="133" y="149"/>
                  </a:lnTo>
                  <a:lnTo>
                    <a:pt x="135" y="155"/>
                  </a:lnTo>
                  <a:lnTo>
                    <a:pt x="137" y="159"/>
                  </a:lnTo>
                  <a:lnTo>
                    <a:pt x="137" y="164"/>
                  </a:lnTo>
                  <a:lnTo>
                    <a:pt x="137" y="168"/>
                  </a:lnTo>
                  <a:lnTo>
                    <a:pt x="135" y="172"/>
                  </a:lnTo>
                  <a:lnTo>
                    <a:pt x="135" y="176"/>
                  </a:lnTo>
                  <a:lnTo>
                    <a:pt x="131" y="180"/>
                  </a:lnTo>
                  <a:lnTo>
                    <a:pt x="129" y="182"/>
                  </a:lnTo>
                  <a:lnTo>
                    <a:pt x="129"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5272200" y="2695680"/>
              <a:ext cx="409320" cy="236520"/>
            </a:xfrm>
            <a:custGeom>
              <a:avLst/>
              <a:gdLst/>
              <a:ahLst/>
              <a:rect l="l" t="t" r="r" b="b"/>
              <a:pathLst>
                <a:path w="258" h="149">
                  <a:moveTo>
                    <a:pt x="247" y="141"/>
                  </a:moveTo>
                  <a:lnTo>
                    <a:pt x="243" y="135"/>
                  </a:lnTo>
                  <a:lnTo>
                    <a:pt x="239" y="129"/>
                  </a:lnTo>
                  <a:lnTo>
                    <a:pt x="235" y="124"/>
                  </a:lnTo>
                  <a:lnTo>
                    <a:pt x="231" y="120"/>
                  </a:lnTo>
                  <a:lnTo>
                    <a:pt x="226" y="114"/>
                  </a:lnTo>
                  <a:lnTo>
                    <a:pt x="222" y="108"/>
                  </a:lnTo>
                  <a:lnTo>
                    <a:pt x="216" y="102"/>
                  </a:lnTo>
                  <a:lnTo>
                    <a:pt x="210" y="97"/>
                  </a:lnTo>
                  <a:lnTo>
                    <a:pt x="204" y="91"/>
                  </a:lnTo>
                  <a:lnTo>
                    <a:pt x="197" y="85"/>
                  </a:lnTo>
                  <a:lnTo>
                    <a:pt x="191" y="79"/>
                  </a:lnTo>
                  <a:lnTo>
                    <a:pt x="185" y="75"/>
                  </a:lnTo>
                  <a:lnTo>
                    <a:pt x="177" y="70"/>
                  </a:lnTo>
                  <a:lnTo>
                    <a:pt x="170" y="64"/>
                  </a:lnTo>
                  <a:lnTo>
                    <a:pt x="162" y="60"/>
                  </a:lnTo>
                  <a:lnTo>
                    <a:pt x="156" y="56"/>
                  </a:lnTo>
                  <a:lnTo>
                    <a:pt x="149" y="50"/>
                  </a:lnTo>
                  <a:lnTo>
                    <a:pt x="141" y="47"/>
                  </a:lnTo>
                  <a:lnTo>
                    <a:pt x="133" y="43"/>
                  </a:lnTo>
                  <a:lnTo>
                    <a:pt x="127" y="39"/>
                  </a:lnTo>
                  <a:lnTo>
                    <a:pt x="120" y="35"/>
                  </a:lnTo>
                  <a:lnTo>
                    <a:pt x="112" y="31"/>
                  </a:lnTo>
                  <a:lnTo>
                    <a:pt x="104" y="29"/>
                  </a:lnTo>
                  <a:lnTo>
                    <a:pt x="98" y="27"/>
                  </a:lnTo>
                  <a:lnTo>
                    <a:pt x="91" y="25"/>
                  </a:lnTo>
                  <a:lnTo>
                    <a:pt x="83" y="23"/>
                  </a:lnTo>
                  <a:lnTo>
                    <a:pt x="77" y="21"/>
                  </a:lnTo>
                  <a:lnTo>
                    <a:pt x="71" y="21"/>
                  </a:lnTo>
                  <a:lnTo>
                    <a:pt x="64" y="21"/>
                  </a:lnTo>
                  <a:lnTo>
                    <a:pt x="58" y="21"/>
                  </a:lnTo>
                  <a:lnTo>
                    <a:pt x="52" y="21"/>
                  </a:lnTo>
                  <a:lnTo>
                    <a:pt x="48" y="23"/>
                  </a:lnTo>
                  <a:lnTo>
                    <a:pt x="43" y="23"/>
                  </a:lnTo>
                  <a:lnTo>
                    <a:pt x="39" y="25"/>
                  </a:lnTo>
                  <a:lnTo>
                    <a:pt x="35" y="25"/>
                  </a:lnTo>
                  <a:lnTo>
                    <a:pt x="31" y="29"/>
                  </a:lnTo>
                  <a:lnTo>
                    <a:pt x="27" y="31"/>
                  </a:lnTo>
                  <a:lnTo>
                    <a:pt x="27" y="37"/>
                  </a:lnTo>
                  <a:lnTo>
                    <a:pt x="27" y="41"/>
                  </a:lnTo>
                  <a:lnTo>
                    <a:pt x="29" y="45"/>
                  </a:lnTo>
                  <a:lnTo>
                    <a:pt x="31" y="50"/>
                  </a:lnTo>
                  <a:lnTo>
                    <a:pt x="37" y="54"/>
                  </a:lnTo>
                  <a:lnTo>
                    <a:pt x="43" y="60"/>
                  </a:lnTo>
                  <a:lnTo>
                    <a:pt x="50" y="64"/>
                  </a:lnTo>
                  <a:lnTo>
                    <a:pt x="54" y="66"/>
                  </a:lnTo>
                  <a:lnTo>
                    <a:pt x="58" y="68"/>
                  </a:lnTo>
                  <a:lnTo>
                    <a:pt x="64" y="70"/>
                  </a:lnTo>
                  <a:lnTo>
                    <a:pt x="68" y="72"/>
                  </a:lnTo>
                  <a:lnTo>
                    <a:pt x="71" y="74"/>
                  </a:lnTo>
                  <a:lnTo>
                    <a:pt x="77" y="75"/>
                  </a:lnTo>
                  <a:lnTo>
                    <a:pt x="81" y="77"/>
                  </a:lnTo>
                  <a:lnTo>
                    <a:pt x="85" y="79"/>
                  </a:lnTo>
                  <a:lnTo>
                    <a:pt x="91" y="79"/>
                  </a:lnTo>
                  <a:lnTo>
                    <a:pt x="95" y="81"/>
                  </a:lnTo>
                  <a:lnTo>
                    <a:pt x="98" y="83"/>
                  </a:lnTo>
                  <a:lnTo>
                    <a:pt x="104" y="83"/>
                  </a:lnTo>
                  <a:lnTo>
                    <a:pt x="108" y="83"/>
                  </a:lnTo>
                  <a:lnTo>
                    <a:pt x="112" y="85"/>
                  </a:lnTo>
                  <a:lnTo>
                    <a:pt x="118" y="85"/>
                  </a:lnTo>
                  <a:lnTo>
                    <a:pt x="124" y="87"/>
                  </a:lnTo>
                  <a:lnTo>
                    <a:pt x="127" y="87"/>
                  </a:lnTo>
                  <a:lnTo>
                    <a:pt x="133" y="89"/>
                  </a:lnTo>
                  <a:lnTo>
                    <a:pt x="137" y="91"/>
                  </a:lnTo>
                  <a:lnTo>
                    <a:pt x="143" y="93"/>
                  </a:lnTo>
                  <a:lnTo>
                    <a:pt x="147" y="95"/>
                  </a:lnTo>
                  <a:lnTo>
                    <a:pt x="152" y="97"/>
                  </a:lnTo>
                  <a:lnTo>
                    <a:pt x="158" y="99"/>
                  </a:lnTo>
                  <a:lnTo>
                    <a:pt x="162" y="102"/>
                  </a:lnTo>
                  <a:lnTo>
                    <a:pt x="168" y="104"/>
                  </a:lnTo>
                  <a:lnTo>
                    <a:pt x="172" y="106"/>
                  </a:lnTo>
                  <a:lnTo>
                    <a:pt x="177" y="108"/>
                  </a:lnTo>
                  <a:lnTo>
                    <a:pt x="183" y="110"/>
                  </a:lnTo>
                  <a:lnTo>
                    <a:pt x="187" y="112"/>
                  </a:lnTo>
                  <a:lnTo>
                    <a:pt x="191" y="114"/>
                  </a:lnTo>
                  <a:lnTo>
                    <a:pt x="195" y="116"/>
                  </a:lnTo>
                  <a:lnTo>
                    <a:pt x="199" y="118"/>
                  </a:lnTo>
                  <a:lnTo>
                    <a:pt x="206" y="122"/>
                  </a:lnTo>
                  <a:lnTo>
                    <a:pt x="214" y="128"/>
                  </a:lnTo>
                  <a:lnTo>
                    <a:pt x="220" y="129"/>
                  </a:lnTo>
                  <a:lnTo>
                    <a:pt x="224" y="133"/>
                  </a:lnTo>
                  <a:lnTo>
                    <a:pt x="228" y="137"/>
                  </a:lnTo>
                  <a:lnTo>
                    <a:pt x="231" y="141"/>
                  </a:lnTo>
                  <a:lnTo>
                    <a:pt x="233" y="147"/>
                  </a:lnTo>
                  <a:lnTo>
                    <a:pt x="231" y="149"/>
                  </a:lnTo>
                  <a:lnTo>
                    <a:pt x="226" y="149"/>
                  </a:lnTo>
                  <a:lnTo>
                    <a:pt x="218" y="145"/>
                  </a:lnTo>
                  <a:lnTo>
                    <a:pt x="216" y="141"/>
                  </a:lnTo>
                  <a:lnTo>
                    <a:pt x="212" y="139"/>
                  </a:lnTo>
                  <a:lnTo>
                    <a:pt x="206" y="135"/>
                  </a:lnTo>
                  <a:lnTo>
                    <a:pt x="201" y="133"/>
                  </a:lnTo>
                  <a:lnTo>
                    <a:pt x="193" y="128"/>
                  </a:lnTo>
                  <a:lnTo>
                    <a:pt x="185" y="126"/>
                  </a:lnTo>
                  <a:lnTo>
                    <a:pt x="181" y="122"/>
                  </a:lnTo>
                  <a:lnTo>
                    <a:pt x="177" y="122"/>
                  </a:lnTo>
                  <a:lnTo>
                    <a:pt x="172" y="120"/>
                  </a:lnTo>
                  <a:lnTo>
                    <a:pt x="168" y="118"/>
                  </a:lnTo>
                  <a:lnTo>
                    <a:pt x="162" y="116"/>
                  </a:lnTo>
                  <a:lnTo>
                    <a:pt x="158" y="114"/>
                  </a:lnTo>
                  <a:lnTo>
                    <a:pt x="152" y="110"/>
                  </a:lnTo>
                  <a:lnTo>
                    <a:pt x="149" y="108"/>
                  </a:lnTo>
                  <a:lnTo>
                    <a:pt x="143" y="106"/>
                  </a:lnTo>
                  <a:lnTo>
                    <a:pt x="139" y="104"/>
                  </a:lnTo>
                  <a:lnTo>
                    <a:pt x="135" y="104"/>
                  </a:lnTo>
                  <a:lnTo>
                    <a:pt x="129" y="102"/>
                  </a:lnTo>
                  <a:lnTo>
                    <a:pt x="125" y="101"/>
                  </a:lnTo>
                  <a:lnTo>
                    <a:pt x="122" y="99"/>
                  </a:lnTo>
                  <a:lnTo>
                    <a:pt x="116" y="99"/>
                  </a:lnTo>
                  <a:lnTo>
                    <a:pt x="112" y="99"/>
                  </a:lnTo>
                  <a:lnTo>
                    <a:pt x="108" y="97"/>
                  </a:lnTo>
                  <a:lnTo>
                    <a:pt x="104" y="97"/>
                  </a:lnTo>
                  <a:lnTo>
                    <a:pt x="100" y="97"/>
                  </a:lnTo>
                  <a:lnTo>
                    <a:pt x="97" y="97"/>
                  </a:lnTo>
                  <a:lnTo>
                    <a:pt x="93" y="95"/>
                  </a:lnTo>
                  <a:lnTo>
                    <a:pt x="87" y="95"/>
                  </a:lnTo>
                  <a:lnTo>
                    <a:pt x="83" y="93"/>
                  </a:lnTo>
                  <a:lnTo>
                    <a:pt x="79" y="93"/>
                  </a:lnTo>
                  <a:lnTo>
                    <a:pt x="75" y="91"/>
                  </a:lnTo>
                  <a:lnTo>
                    <a:pt x="71" y="91"/>
                  </a:lnTo>
                  <a:lnTo>
                    <a:pt x="68" y="91"/>
                  </a:lnTo>
                  <a:lnTo>
                    <a:pt x="64" y="89"/>
                  </a:lnTo>
                  <a:lnTo>
                    <a:pt x="60" y="87"/>
                  </a:lnTo>
                  <a:lnTo>
                    <a:pt x="56" y="87"/>
                  </a:lnTo>
                  <a:lnTo>
                    <a:pt x="50" y="85"/>
                  </a:lnTo>
                  <a:lnTo>
                    <a:pt x="46" y="83"/>
                  </a:lnTo>
                  <a:lnTo>
                    <a:pt x="43" y="81"/>
                  </a:lnTo>
                  <a:lnTo>
                    <a:pt x="39" y="79"/>
                  </a:lnTo>
                  <a:lnTo>
                    <a:pt x="35" y="79"/>
                  </a:lnTo>
                  <a:lnTo>
                    <a:pt x="31" y="77"/>
                  </a:lnTo>
                  <a:lnTo>
                    <a:pt x="23" y="72"/>
                  </a:lnTo>
                  <a:lnTo>
                    <a:pt x="18" y="68"/>
                  </a:lnTo>
                  <a:lnTo>
                    <a:pt x="12" y="64"/>
                  </a:lnTo>
                  <a:lnTo>
                    <a:pt x="8" y="58"/>
                  </a:lnTo>
                  <a:lnTo>
                    <a:pt x="4" y="52"/>
                  </a:lnTo>
                  <a:lnTo>
                    <a:pt x="2" y="47"/>
                  </a:lnTo>
                  <a:lnTo>
                    <a:pt x="0" y="41"/>
                  </a:lnTo>
                  <a:lnTo>
                    <a:pt x="2" y="33"/>
                  </a:lnTo>
                  <a:lnTo>
                    <a:pt x="4" y="25"/>
                  </a:lnTo>
                  <a:lnTo>
                    <a:pt x="6" y="20"/>
                  </a:lnTo>
                  <a:lnTo>
                    <a:pt x="8" y="14"/>
                  </a:lnTo>
                  <a:lnTo>
                    <a:pt x="12" y="10"/>
                  </a:lnTo>
                  <a:lnTo>
                    <a:pt x="16" y="6"/>
                  </a:lnTo>
                  <a:lnTo>
                    <a:pt x="21" y="4"/>
                  </a:lnTo>
                  <a:lnTo>
                    <a:pt x="25" y="2"/>
                  </a:lnTo>
                  <a:lnTo>
                    <a:pt x="31" y="2"/>
                  </a:lnTo>
                  <a:lnTo>
                    <a:pt x="37" y="0"/>
                  </a:lnTo>
                  <a:lnTo>
                    <a:pt x="43" y="0"/>
                  </a:lnTo>
                  <a:lnTo>
                    <a:pt x="48" y="0"/>
                  </a:lnTo>
                  <a:lnTo>
                    <a:pt x="56" y="0"/>
                  </a:lnTo>
                  <a:lnTo>
                    <a:pt x="64" y="2"/>
                  </a:lnTo>
                  <a:lnTo>
                    <a:pt x="71" y="2"/>
                  </a:lnTo>
                  <a:lnTo>
                    <a:pt x="75" y="4"/>
                  </a:lnTo>
                  <a:lnTo>
                    <a:pt x="79" y="4"/>
                  </a:lnTo>
                  <a:lnTo>
                    <a:pt x="85" y="6"/>
                  </a:lnTo>
                  <a:lnTo>
                    <a:pt x="89" y="6"/>
                  </a:lnTo>
                  <a:lnTo>
                    <a:pt x="93" y="8"/>
                  </a:lnTo>
                  <a:lnTo>
                    <a:pt x="97" y="10"/>
                  </a:lnTo>
                  <a:lnTo>
                    <a:pt x="102" y="10"/>
                  </a:lnTo>
                  <a:lnTo>
                    <a:pt x="106" y="12"/>
                  </a:lnTo>
                  <a:lnTo>
                    <a:pt x="110" y="16"/>
                  </a:lnTo>
                  <a:lnTo>
                    <a:pt x="116" y="18"/>
                  </a:lnTo>
                  <a:lnTo>
                    <a:pt x="122" y="20"/>
                  </a:lnTo>
                  <a:lnTo>
                    <a:pt x="127" y="23"/>
                  </a:lnTo>
                  <a:lnTo>
                    <a:pt x="131" y="25"/>
                  </a:lnTo>
                  <a:lnTo>
                    <a:pt x="137" y="27"/>
                  </a:lnTo>
                  <a:lnTo>
                    <a:pt x="143" y="31"/>
                  </a:lnTo>
                  <a:lnTo>
                    <a:pt x="149" y="35"/>
                  </a:lnTo>
                  <a:lnTo>
                    <a:pt x="152" y="37"/>
                  </a:lnTo>
                  <a:lnTo>
                    <a:pt x="158" y="41"/>
                  </a:lnTo>
                  <a:lnTo>
                    <a:pt x="162" y="43"/>
                  </a:lnTo>
                  <a:lnTo>
                    <a:pt x="168" y="48"/>
                  </a:lnTo>
                  <a:lnTo>
                    <a:pt x="174" y="50"/>
                  </a:lnTo>
                  <a:lnTo>
                    <a:pt x="177" y="54"/>
                  </a:lnTo>
                  <a:lnTo>
                    <a:pt x="183" y="58"/>
                  </a:lnTo>
                  <a:lnTo>
                    <a:pt x="187" y="62"/>
                  </a:lnTo>
                  <a:lnTo>
                    <a:pt x="191" y="64"/>
                  </a:lnTo>
                  <a:lnTo>
                    <a:pt x="195" y="68"/>
                  </a:lnTo>
                  <a:lnTo>
                    <a:pt x="199" y="72"/>
                  </a:lnTo>
                  <a:lnTo>
                    <a:pt x="204" y="75"/>
                  </a:lnTo>
                  <a:lnTo>
                    <a:pt x="210" y="81"/>
                  </a:lnTo>
                  <a:lnTo>
                    <a:pt x="216" y="87"/>
                  </a:lnTo>
                  <a:lnTo>
                    <a:pt x="222" y="91"/>
                  </a:lnTo>
                  <a:lnTo>
                    <a:pt x="226" y="97"/>
                  </a:lnTo>
                  <a:lnTo>
                    <a:pt x="230" y="102"/>
                  </a:lnTo>
                  <a:lnTo>
                    <a:pt x="235" y="110"/>
                  </a:lnTo>
                  <a:lnTo>
                    <a:pt x="241" y="118"/>
                  </a:lnTo>
                  <a:lnTo>
                    <a:pt x="247" y="126"/>
                  </a:lnTo>
                  <a:lnTo>
                    <a:pt x="249" y="131"/>
                  </a:lnTo>
                  <a:lnTo>
                    <a:pt x="255" y="135"/>
                  </a:lnTo>
                  <a:lnTo>
                    <a:pt x="257" y="139"/>
                  </a:lnTo>
                  <a:lnTo>
                    <a:pt x="258" y="141"/>
                  </a:lnTo>
                  <a:lnTo>
                    <a:pt x="247" y="141"/>
                  </a:lnTo>
                  <a:lnTo>
                    <a:pt x="247"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5272200" y="2932200"/>
              <a:ext cx="312480" cy="142920"/>
            </a:xfrm>
            <a:custGeom>
              <a:avLst/>
              <a:gdLst/>
              <a:ahLst/>
              <a:rect l="l" t="t" r="r" b="b"/>
              <a:pathLst>
                <a:path w="197" h="90">
                  <a:moveTo>
                    <a:pt x="187" y="48"/>
                  </a:moveTo>
                  <a:lnTo>
                    <a:pt x="183" y="44"/>
                  </a:lnTo>
                  <a:lnTo>
                    <a:pt x="179" y="40"/>
                  </a:lnTo>
                  <a:lnTo>
                    <a:pt x="172" y="38"/>
                  </a:lnTo>
                  <a:lnTo>
                    <a:pt x="166" y="34"/>
                  </a:lnTo>
                  <a:lnTo>
                    <a:pt x="160" y="32"/>
                  </a:lnTo>
                  <a:lnTo>
                    <a:pt x="156" y="32"/>
                  </a:lnTo>
                  <a:lnTo>
                    <a:pt x="151" y="31"/>
                  </a:lnTo>
                  <a:lnTo>
                    <a:pt x="147" y="29"/>
                  </a:lnTo>
                  <a:lnTo>
                    <a:pt x="141" y="27"/>
                  </a:lnTo>
                  <a:lnTo>
                    <a:pt x="135" y="25"/>
                  </a:lnTo>
                  <a:lnTo>
                    <a:pt x="129" y="23"/>
                  </a:lnTo>
                  <a:lnTo>
                    <a:pt x="125" y="23"/>
                  </a:lnTo>
                  <a:lnTo>
                    <a:pt x="118" y="21"/>
                  </a:lnTo>
                  <a:lnTo>
                    <a:pt x="112" y="21"/>
                  </a:lnTo>
                  <a:lnTo>
                    <a:pt x="106" y="19"/>
                  </a:lnTo>
                  <a:lnTo>
                    <a:pt x="102" y="17"/>
                  </a:lnTo>
                  <a:lnTo>
                    <a:pt x="95" y="17"/>
                  </a:lnTo>
                  <a:lnTo>
                    <a:pt x="91" y="17"/>
                  </a:lnTo>
                  <a:lnTo>
                    <a:pt x="85" y="15"/>
                  </a:lnTo>
                  <a:lnTo>
                    <a:pt x="79" y="15"/>
                  </a:lnTo>
                  <a:lnTo>
                    <a:pt x="73" y="15"/>
                  </a:lnTo>
                  <a:lnTo>
                    <a:pt x="68" y="15"/>
                  </a:lnTo>
                  <a:lnTo>
                    <a:pt x="64" y="15"/>
                  </a:lnTo>
                  <a:lnTo>
                    <a:pt x="58" y="15"/>
                  </a:lnTo>
                  <a:lnTo>
                    <a:pt x="54" y="15"/>
                  </a:lnTo>
                  <a:lnTo>
                    <a:pt x="50" y="17"/>
                  </a:lnTo>
                  <a:lnTo>
                    <a:pt x="46" y="17"/>
                  </a:lnTo>
                  <a:lnTo>
                    <a:pt x="43" y="19"/>
                  </a:lnTo>
                  <a:lnTo>
                    <a:pt x="39" y="19"/>
                  </a:lnTo>
                  <a:lnTo>
                    <a:pt x="35" y="21"/>
                  </a:lnTo>
                  <a:lnTo>
                    <a:pt x="31" y="23"/>
                  </a:lnTo>
                  <a:lnTo>
                    <a:pt x="29" y="25"/>
                  </a:lnTo>
                  <a:lnTo>
                    <a:pt x="23" y="29"/>
                  </a:lnTo>
                  <a:lnTo>
                    <a:pt x="21" y="32"/>
                  </a:lnTo>
                  <a:lnTo>
                    <a:pt x="18" y="36"/>
                  </a:lnTo>
                  <a:lnTo>
                    <a:pt x="18" y="42"/>
                  </a:lnTo>
                  <a:lnTo>
                    <a:pt x="18" y="46"/>
                  </a:lnTo>
                  <a:lnTo>
                    <a:pt x="19" y="52"/>
                  </a:lnTo>
                  <a:lnTo>
                    <a:pt x="21" y="56"/>
                  </a:lnTo>
                  <a:lnTo>
                    <a:pt x="23" y="59"/>
                  </a:lnTo>
                  <a:lnTo>
                    <a:pt x="27" y="63"/>
                  </a:lnTo>
                  <a:lnTo>
                    <a:pt x="31" y="67"/>
                  </a:lnTo>
                  <a:lnTo>
                    <a:pt x="35" y="71"/>
                  </a:lnTo>
                  <a:lnTo>
                    <a:pt x="43" y="73"/>
                  </a:lnTo>
                  <a:lnTo>
                    <a:pt x="48" y="75"/>
                  </a:lnTo>
                  <a:lnTo>
                    <a:pt x="56" y="75"/>
                  </a:lnTo>
                  <a:lnTo>
                    <a:pt x="64" y="73"/>
                  </a:lnTo>
                  <a:lnTo>
                    <a:pt x="71" y="73"/>
                  </a:lnTo>
                  <a:lnTo>
                    <a:pt x="77" y="71"/>
                  </a:lnTo>
                  <a:lnTo>
                    <a:pt x="83" y="71"/>
                  </a:lnTo>
                  <a:lnTo>
                    <a:pt x="89" y="69"/>
                  </a:lnTo>
                  <a:lnTo>
                    <a:pt x="97" y="67"/>
                  </a:lnTo>
                  <a:lnTo>
                    <a:pt x="102" y="65"/>
                  </a:lnTo>
                  <a:lnTo>
                    <a:pt x="106" y="63"/>
                  </a:lnTo>
                  <a:lnTo>
                    <a:pt x="112" y="61"/>
                  </a:lnTo>
                  <a:lnTo>
                    <a:pt x="118" y="59"/>
                  </a:lnTo>
                  <a:lnTo>
                    <a:pt x="122" y="58"/>
                  </a:lnTo>
                  <a:lnTo>
                    <a:pt x="125" y="56"/>
                  </a:lnTo>
                  <a:lnTo>
                    <a:pt x="129" y="54"/>
                  </a:lnTo>
                  <a:lnTo>
                    <a:pt x="133" y="54"/>
                  </a:lnTo>
                  <a:lnTo>
                    <a:pt x="137" y="54"/>
                  </a:lnTo>
                  <a:lnTo>
                    <a:pt x="141" y="54"/>
                  </a:lnTo>
                  <a:lnTo>
                    <a:pt x="147" y="54"/>
                  </a:lnTo>
                  <a:lnTo>
                    <a:pt x="152" y="54"/>
                  </a:lnTo>
                  <a:lnTo>
                    <a:pt x="158" y="56"/>
                  </a:lnTo>
                  <a:lnTo>
                    <a:pt x="166" y="58"/>
                  </a:lnTo>
                  <a:lnTo>
                    <a:pt x="170" y="59"/>
                  </a:lnTo>
                  <a:lnTo>
                    <a:pt x="174" y="59"/>
                  </a:lnTo>
                  <a:lnTo>
                    <a:pt x="177" y="61"/>
                  </a:lnTo>
                  <a:lnTo>
                    <a:pt x="179" y="61"/>
                  </a:lnTo>
                  <a:lnTo>
                    <a:pt x="177" y="61"/>
                  </a:lnTo>
                  <a:lnTo>
                    <a:pt x="174" y="61"/>
                  </a:lnTo>
                  <a:lnTo>
                    <a:pt x="170" y="63"/>
                  </a:lnTo>
                  <a:lnTo>
                    <a:pt x="166" y="65"/>
                  </a:lnTo>
                  <a:lnTo>
                    <a:pt x="160" y="65"/>
                  </a:lnTo>
                  <a:lnTo>
                    <a:pt x="154" y="65"/>
                  </a:lnTo>
                  <a:lnTo>
                    <a:pt x="149" y="65"/>
                  </a:lnTo>
                  <a:lnTo>
                    <a:pt x="145" y="63"/>
                  </a:lnTo>
                  <a:lnTo>
                    <a:pt x="141" y="61"/>
                  </a:lnTo>
                  <a:lnTo>
                    <a:pt x="137" y="61"/>
                  </a:lnTo>
                  <a:lnTo>
                    <a:pt x="133" y="61"/>
                  </a:lnTo>
                  <a:lnTo>
                    <a:pt x="127" y="63"/>
                  </a:lnTo>
                  <a:lnTo>
                    <a:pt x="122" y="65"/>
                  </a:lnTo>
                  <a:lnTo>
                    <a:pt x="116" y="67"/>
                  </a:lnTo>
                  <a:lnTo>
                    <a:pt x="108" y="69"/>
                  </a:lnTo>
                  <a:lnTo>
                    <a:pt x="102" y="71"/>
                  </a:lnTo>
                  <a:lnTo>
                    <a:pt x="97" y="73"/>
                  </a:lnTo>
                  <a:lnTo>
                    <a:pt x="91" y="77"/>
                  </a:lnTo>
                  <a:lnTo>
                    <a:pt x="83" y="79"/>
                  </a:lnTo>
                  <a:lnTo>
                    <a:pt x="77" y="81"/>
                  </a:lnTo>
                  <a:lnTo>
                    <a:pt x="71" y="85"/>
                  </a:lnTo>
                  <a:lnTo>
                    <a:pt x="68" y="86"/>
                  </a:lnTo>
                  <a:lnTo>
                    <a:pt x="64" y="88"/>
                  </a:lnTo>
                  <a:lnTo>
                    <a:pt x="60" y="90"/>
                  </a:lnTo>
                  <a:lnTo>
                    <a:pt x="56" y="90"/>
                  </a:lnTo>
                  <a:lnTo>
                    <a:pt x="52" y="90"/>
                  </a:lnTo>
                  <a:lnTo>
                    <a:pt x="48" y="88"/>
                  </a:lnTo>
                  <a:lnTo>
                    <a:pt x="43" y="88"/>
                  </a:lnTo>
                  <a:lnTo>
                    <a:pt x="37" y="86"/>
                  </a:lnTo>
                  <a:lnTo>
                    <a:pt x="33" y="85"/>
                  </a:lnTo>
                  <a:lnTo>
                    <a:pt x="27" y="81"/>
                  </a:lnTo>
                  <a:lnTo>
                    <a:pt x="21" y="79"/>
                  </a:lnTo>
                  <a:lnTo>
                    <a:pt x="16" y="73"/>
                  </a:lnTo>
                  <a:lnTo>
                    <a:pt x="12" y="69"/>
                  </a:lnTo>
                  <a:lnTo>
                    <a:pt x="8" y="65"/>
                  </a:lnTo>
                  <a:lnTo>
                    <a:pt x="4" y="59"/>
                  </a:lnTo>
                  <a:lnTo>
                    <a:pt x="2" y="54"/>
                  </a:lnTo>
                  <a:lnTo>
                    <a:pt x="0" y="48"/>
                  </a:lnTo>
                  <a:lnTo>
                    <a:pt x="0" y="40"/>
                  </a:lnTo>
                  <a:lnTo>
                    <a:pt x="2" y="34"/>
                  </a:lnTo>
                  <a:lnTo>
                    <a:pt x="4" y="29"/>
                  </a:lnTo>
                  <a:lnTo>
                    <a:pt x="8" y="21"/>
                  </a:lnTo>
                  <a:lnTo>
                    <a:pt x="12" y="17"/>
                  </a:lnTo>
                  <a:lnTo>
                    <a:pt x="18" y="13"/>
                  </a:lnTo>
                  <a:lnTo>
                    <a:pt x="21" y="9"/>
                  </a:lnTo>
                  <a:lnTo>
                    <a:pt x="29" y="6"/>
                  </a:lnTo>
                  <a:lnTo>
                    <a:pt x="35" y="4"/>
                  </a:lnTo>
                  <a:lnTo>
                    <a:pt x="41" y="2"/>
                  </a:lnTo>
                  <a:lnTo>
                    <a:pt x="46" y="0"/>
                  </a:lnTo>
                  <a:lnTo>
                    <a:pt x="54" y="0"/>
                  </a:lnTo>
                  <a:lnTo>
                    <a:pt x="60" y="0"/>
                  </a:lnTo>
                  <a:lnTo>
                    <a:pt x="66" y="0"/>
                  </a:lnTo>
                  <a:lnTo>
                    <a:pt x="70" y="0"/>
                  </a:lnTo>
                  <a:lnTo>
                    <a:pt x="75" y="0"/>
                  </a:lnTo>
                  <a:lnTo>
                    <a:pt x="79" y="0"/>
                  </a:lnTo>
                  <a:lnTo>
                    <a:pt x="83" y="2"/>
                  </a:lnTo>
                  <a:lnTo>
                    <a:pt x="85" y="2"/>
                  </a:lnTo>
                  <a:lnTo>
                    <a:pt x="89" y="2"/>
                  </a:lnTo>
                  <a:lnTo>
                    <a:pt x="93" y="4"/>
                  </a:lnTo>
                  <a:lnTo>
                    <a:pt x="98" y="4"/>
                  </a:lnTo>
                  <a:lnTo>
                    <a:pt x="104" y="6"/>
                  </a:lnTo>
                  <a:lnTo>
                    <a:pt x="110" y="7"/>
                  </a:lnTo>
                  <a:lnTo>
                    <a:pt x="116" y="9"/>
                  </a:lnTo>
                  <a:lnTo>
                    <a:pt x="124" y="11"/>
                  </a:lnTo>
                  <a:lnTo>
                    <a:pt x="129" y="13"/>
                  </a:lnTo>
                  <a:lnTo>
                    <a:pt x="135" y="15"/>
                  </a:lnTo>
                  <a:lnTo>
                    <a:pt x="141" y="17"/>
                  </a:lnTo>
                  <a:lnTo>
                    <a:pt x="147" y="19"/>
                  </a:lnTo>
                  <a:lnTo>
                    <a:pt x="151" y="21"/>
                  </a:lnTo>
                  <a:lnTo>
                    <a:pt x="156" y="23"/>
                  </a:lnTo>
                  <a:lnTo>
                    <a:pt x="160" y="23"/>
                  </a:lnTo>
                  <a:lnTo>
                    <a:pt x="162" y="25"/>
                  </a:lnTo>
                  <a:lnTo>
                    <a:pt x="168" y="27"/>
                  </a:lnTo>
                  <a:lnTo>
                    <a:pt x="174" y="31"/>
                  </a:lnTo>
                  <a:lnTo>
                    <a:pt x="179" y="32"/>
                  </a:lnTo>
                  <a:lnTo>
                    <a:pt x="185" y="36"/>
                  </a:lnTo>
                  <a:lnTo>
                    <a:pt x="189" y="38"/>
                  </a:lnTo>
                  <a:lnTo>
                    <a:pt x="193" y="40"/>
                  </a:lnTo>
                  <a:lnTo>
                    <a:pt x="197" y="42"/>
                  </a:lnTo>
                  <a:lnTo>
                    <a:pt x="197" y="42"/>
                  </a:lnTo>
                  <a:lnTo>
                    <a:pt x="187" y="48"/>
                  </a:lnTo>
                  <a:lnTo>
                    <a:pt x="187"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5802480" y="3987720"/>
              <a:ext cx="954000" cy="777960"/>
            </a:xfrm>
            <a:custGeom>
              <a:avLst/>
              <a:gdLst/>
              <a:ahLst/>
              <a:rect l="l" t="t" r="r" b="b"/>
              <a:pathLst>
                <a:path w="601" h="490">
                  <a:moveTo>
                    <a:pt x="3" y="179"/>
                  </a:moveTo>
                  <a:lnTo>
                    <a:pt x="5" y="181"/>
                  </a:lnTo>
                  <a:lnTo>
                    <a:pt x="9" y="187"/>
                  </a:lnTo>
                  <a:lnTo>
                    <a:pt x="13" y="189"/>
                  </a:lnTo>
                  <a:lnTo>
                    <a:pt x="17" y="193"/>
                  </a:lnTo>
                  <a:lnTo>
                    <a:pt x="21" y="199"/>
                  </a:lnTo>
                  <a:lnTo>
                    <a:pt x="27" y="202"/>
                  </a:lnTo>
                  <a:lnTo>
                    <a:pt x="32" y="206"/>
                  </a:lnTo>
                  <a:lnTo>
                    <a:pt x="38" y="212"/>
                  </a:lnTo>
                  <a:lnTo>
                    <a:pt x="44" y="216"/>
                  </a:lnTo>
                  <a:lnTo>
                    <a:pt x="52" y="220"/>
                  </a:lnTo>
                  <a:lnTo>
                    <a:pt x="59" y="224"/>
                  </a:lnTo>
                  <a:lnTo>
                    <a:pt x="67" y="226"/>
                  </a:lnTo>
                  <a:lnTo>
                    <a:pt x="71" y="227"/>
                  </a:lnTo>
                  <a:lnTo>
                    <a:pt x="75" y="227"/>
                  </a:lnTo>
                  <a:lnTo>
                    <a:pt x="81" y="229"/>
                  </a:lnTo>
                  <a:lnTo>
                    <a:pt x="84" y="229"/>
                  </a:lnTo>
                  <a:lnTo>
                    <a:pt x="88" y="229"/>
                  </a:lnTo>
                  <a:lnTo>
                    <a:pt x="92" y="229"/>
                  </a:lnTo>
                  <a:lnTo>
                    <a:pt x="98" y="229"/>
                  </a:lnTo>
                  <a:lnTo>
                    <a:pt x="102" y="229"/>
                  </a:lnTo>
                  <a:lnTo>
                    <a:pt x="106" y="229"/>
                  </a:lnTo>
                  <a:lnTo>
                    <a:pt x="109" y="227"/>
                  </a:lnTo>
                  <a:lnTo>
                    <a:pt x="113" y="227"/>
                  </a:lnTo>
                  <a:lnTo>
                    <a:pt x="119" y="227"/>
                  </a:lnTo>
                  <a:lnTo>
                    <a:pt x="123" y="226"/>
                  </a:lnTo>
                  <a:lnTo>
                    <a:pt x="127" y="226"/>
                  </a:lnTo>
                  <a:lnTo>
                    <a:pt x="131" y="224"/>
                  </a:lnTo>
                  <a:lnTo>
                    <a:pt x="136" y="224"/>
                  </a:lnTo>
                  <a:lnTo>
                    <a:pt x="140" y="222"/>
                  </a:lnTo>
                  <a:lnTo>
                    <a:pt x="144" y="222"/>
                  </a:lnTo>
                  <a:lnTo>
                    <a:pt x="148" y="220"/>
                  </a:lnTo>
                  <a:lnTo>
                    <a:pt x="152" y="220"/>
                  </a:lnTo>
                  <a:lnTo>
                    <a:pt x="160" y="216"/>
                  </a:lnTo>
                  <a:lnTo>
                    <a:pt x="167" y="212"/>
                  </a:lnTo>
                  <a:lnTo>
                    <a:pt x="175" y="210"/>
                  </a:lnTo>
                  <a:lnTo>
                    <a:pt x="183" y="206"/>
                  </a:lnTo>
                  <a:lnTo>
                    <a:pt x="189" y="204"/>
                  </a:lnTo>
                  <a:lnTo>
                    <a:pt x="194" y="200"/>
                  </a:lnTo>
                  <a:lnTo>
                    <a:pt x="200" y="197"/>
                  </a:lnTo>
                  <a:lnTo>
                    <a:pt x="204" y="195"/>
                  </a:lnTo>
                  <a:lnTo>
                    <a:pt x="208" y="191"/>
                  </a:lnTo>
                  <a:lnTo>
                    <a:pt x="214" y="185"/>
                  </a:lnTo>
                  <a:lnTo>
                    <a:pt x="217" y="183"/>
                  </a:lnTo>
                  <a:lnTo>
                    <a:pt x="221" y="179"/>
                  </a:lnTo>
                  <a:lnTo>
                    <a:pt x="223" y="175"/>
                  </a:lnTo>
                  <a:lnTo>
                    <a:pt x="227" y="172"/>
                  </a:lnTo>
                  <a:lnTo>
                    <a:pt x="231" y="166"/>
                  </a:lnTo>
                  <a:lnTo>
                    <a:pt x="235" y="162"/>
                  </a:lnTo>
                  <a:lnTo>
                    <a:pt x="239" y="158"/>
                  </a:lnTo>
                  <a:lnTo>
                    <a:pt x="242" y="154"/>
                  </a:lnTo>
                  <a:lnTo>
                    <a:pt x="244" y="148"/>
                  </a:lnTo>
                  <a:lnTo>
                    <a:pt x="248" y="145"/>
                  </a:lnTo>
                  <a:lnTo>
                    <a:pt x="252" y="141"/>
                  </a:lnTo>
                  <a:lnTo>
                    <a:pt x="256" y="135"/>
                  </a:lnTo>
                  <a:lnTo>
                    <a:pt x="260" y="131"/>
                  </a:lnTo>
                  <a:lnTo>
                    <a:pt x="264" y="125"/>
                  </a:lnTo>
                  <a:lnTo>
                    <a:pt x="266" y="121"/>
                  </a:lnTo>
                  <a:lnTo>
                    <a:pt x="269" y="118"/>
                  </a:lnTo>
                  <a:lnTo>
                    <a:pt x="271" y="112"/>
                  </a:lnTo>
                  <a:lnTo>
                    <a:pt x="275" y="108"/>
                  </a:lnTo>
                  <a:lnTo>
                    <a:pt x="277" y="104"/>
                  </a:lnTo>
                  <a:lnTo>
                    <a:pt x="281" y="100"/>
                  </a:lnTo>
                  <a:lnTo>
                    <a:pt x="283" y="94"/>
                  </a:lnTo>
                  <a:lnTo>
                    <a:pt x="287" y="91"/>
                  </a:lnTo>
                  <a:lnTo>
                    <a:pt x="289" y="87"/>
                  </a:lnTo>
                  <a:lnTo>
                    <a:pt x="291" y="87"/>
                  </a:lnTo>
                  <a:lnTo>
                    <a:pt x="291" y="85"/>
                  </a:lnTo>
                  <a:lnTo>
                    <a:pt x="293" y="83"/>
                  </a:lnTo>
                  <a:lnTo>
                    <a:pt x="295" y="81"/>
                  </a:lnTo>
                  <a:lnTo>
                    <a:pt x="296" y="77"/>
                  </a:lnTo>
                  <a:lnTo>
                    <a:pt x="298" y="71"/>
                  </a:lnTo>
                  <a:lnTo>
                    <a:pt x="302" y="65"/>
                  </a:lnTo>
                  <a:lnTo>
                    <a:pt x="306" y="60"/>
                  </a:lnTo>
                  <a:lnTo>
                    <a:pt x="312" y="54"/>
                  </a:lnTo>
                  <a:lnTo>
                    <a:pt x="316" y="48"/>
                  </a:lnTo>
                  <a:lnTo>
                    <a:pt x="320" y="42"/>
                  </a:lnTo>
                  <a:lnTo>
                    <a:pt x="325" y="35"/>
                  </a:lnTo>
                  <a:lnTo>
                    <a:pt x="331" y="31"/>
                  </a:lnTo>
                  <a:lnTo>
                    <a:pt x="337" y="25"/>
                  </a:lnTo>
                  <a:lnTo>
                    <a:pt x="343" y="21"/>
                  </a:lnTo>
                  <a:lnTo>
                    <a:pt x="349" y="17"/>
                  </a:lnTo>
                  <a:lnTo>
                    <a:pt x="354" y="17"/>
                  </a:lnTo>
                  <a:lnTo>
                    <a:pt x="358" y="13"/>
                  </a:lnTo>
                  <a:lnTo>
                    <a:pt x="362" y="11"/>
                  </a:lnTo>
                  <a:lnTo>
                    <a:pt x="366" y="10"/>
                  </a:lnTo>
                  <a:lnTo>
                    <a:pt x="370" y="8"/>
                  </a:lnTo>
                  <a:lnTo>
                    <a:pt x="374" y="6"/>
                  </a:lnTo>
                  <a:lnTo>
                    <a:pt x="377" y="2"/>
                  </a:lnTo>
                  <a:lnTo>
                    <a:pt x="381" y="2"/>
                  </a:lnTo>
                  <a:lnTo>
                    <a:pt x="387" y="2"/>
                  </a:lnTo>
                  <a:lnTo>
                    <a:pt x="393" y="0"/>
                  </a:lnTo>
                  <a:lnTo>
                    <a:pt x="401" y="2"/>
                  </a:lnTo>
                  <a:lnTo>
                    <a:pt x="402" y="2"/>
                  </a:lnTo>
                  <a:lnTo>
                    <a:pt x="406" y="4"/>
                  </a:lnTo>
                  <a:lnTo>
                    <a:pt x="412" y="6"/>
                  </a:lnTo>
                  <a:lnTo>
                    <a:pt x="418" y="8"/>
                  </a:lnTo>
                  <a:lnTo>
                    <a:pt x="422" y="10"/>
                  </a:lnTo>
                  <a:lnTo>
                    <a:pt x="428" y="11"/>
                  </a:lnTo>
                  <a:lnTo>
                    <a:pt x="433" y="13"/>
                  </a:lnTo>
                  <a:lnTo>
                    <a:pt x="439" y="19"/>
                  </a:lnTo>
                  <a:lnTo>
                    <a:pt x="447" y="23"/>
                  </a:lnTo>
                  <a:lnTo>
                    <a:pt x="455" y="27"/>
                  </a:lnTo>
                  <a:lnTo>
                    <a:pt x="458" y="29"/>
                  </a:lnTo>
                  <a:lnTo>
                    <a:pt x="462" y="31"/>
                  </a:lnTo>
                  <a:lnTo>
                    <a:pt x="466" y="35"/>
                  </a:lnTo>
                  <a:lnTo>
                    <a:pt x="472" y="38"/>
                  </a:lnTo>
                  <a:lnTo>
                    <a:pt x="476" y="40"/>
                  </a:lnTo>
                  <a:lnTo>
                    <a:pt x="480" y="44"/>
                  </a:lnTo>
                  <a:lnTo>
                    <a:pt x="483" y="46"/>
                  </a:lnTo>
                  <a:lnTo>
                    <a:pt x="487" y="50"/>
                  </a:lnTo>
                  <a:lnTo>
                    <a:pt x="491" y="56"/>
                  </a:lnTo>
                  <a:lnTo>
                    <a:pt x="495" y="60"/>
                  </a:lnTo>
                  <a:lnTo>
                    <a:pt x="499" y="64"/>
                  </a:lnTo>
                  <a:lnTo>
                    <a:pt x="505" y="69"/>
                  </a:lnTo>
                  <a:lnTo>
                    <a:pt x="507" y="73"/>
                  </a:lnTo>
                  <a:lnTo>
                    <a:pt x="510" y="79"/>
                  </a:lnTo>
                  <a:lnTo>
                    <a:pt x="514" y="85"/>
                  </a:lnTo>
                  <a:lnTo>
                    <a:pt x="518" y="92"/>
                  </a:lnTo>
                  <a:lnTo>
                    <a:pt x="520" y="98"/>
                  </a:lnTo>
                  <a:lnTo>
                    <a:pt x="524" y="104"/>
                  </a:lnTo>
                  <a:lnTo>
                    <a:pt x="528" y="110"/>
                  </a:lnTo>
                  <a:lnTo>
                    <a:pt x="532" y="118"/>
                  </a:lnTo>
                  <a:lnTo>
                    <a:pt x="535" y="123"/>
                  </a:lnTo>
                  <a:lnTo>
                    <a:pt x="537" y="131"/>
                  </a:lnTo>
                  <a:lnTo>
                    <a:pt x="539" y="137"/>
                  </a:lnTo>
                  <a:lnTo>
                    <a:pt x="543" y="145"/>
                  </a:lnTo>
                  <a:lnTo>
                    <a:pt x="545" y="152"/>
                  </a:lnTo>
                  <a:lnTo>
                    <a:pt x="549" y="160"/>
                  </a:lnTo>
                  <a:lnTo>
                    <a:pt x="551" y="168"/>
                  </a:lnTo>
                  <a:lnTo>
                    <a:pt x="555" y="175"/>
                  </a:lnTo>
                  <a:lnTo>
                    <a:pt x="557" y="183"/>
                  </a:lnTo>
                  <a:lnTo>
                    <a:pt x="559" y="191"/>
                  </a:lnTo>
                  <a:lnTo>
                    <a:pt x="561" y="199"/>
                  </a:lnTo>
                  <a:lnTo>
                    <a:pt x="564" y="208"/>
                  </a:lnTo>
                  <a:lnTo>
                    <a:pt x="566" y="216"/>
                  </a:lnTo>
                  <a:lnTo>
                    <a:pt x="568" y="224"/>
                  </a:lnTo>
                  <a:lnTo>
                    <a:pt x="570" y="233"/>
                  </a:lnTo>
                  <a:lnTo>
                    <a:pt x="574" y="241"/>
                  </a:lnTo>
                  <a:lnTo>
                    <a:pt x="574" y="249"/>
                  </a:lnTo>
                  <a:lnTo>
                    <a:pt x="576" y="256"/>
                  </a:lnTo>
                  <a:lnTo>
                    <a:pt x="578" y="264"/>
                  </a:lnTo>
                  <a:lnTo>
                    <a:pt x="580" y="274"/>
                  </a:lnTo>
                  <a:lnTo>
                    <a:pt x="582" y="281"/>
                  </a:lnTo>
                  <a:lnTo>
                    <a:pt x="582" y="289"/>
                  </a:lnTo>
                  <a:lnTo>
                    <a:pt x="584" y="297"/>
                  </a:lnTo>
                  <a:lnTo>
                    <a:pt x="586" y="305"/>
                  </a:lnTo>
                  <a:lnTo>
                    <a:pt x="588" y="312"/>
                  </a:lnTo>
                  <a:lnTo>
                    <a:pt x="588" y="322"/>
                  </a:lnTo>
                  <a:lnTo>
                    <a:pt x="589" y="328"/>
                  </a:lnTo>
                  <a:lnTo>
                    <a:pt x="591" y="337"/>
                  </a:lnTo>
                  <a:lnTo>
                    <a:pt x="591" y="345"/>
                  </a:lnTo>
                  <a:lnTo>
                    <a:pt x="593" y="353"/>
                  </a:lnTo>
                  <a:lnTo>
                    <a:pt x="593" y="359"/>
                  </a:lnTo>
                  <a:lnTo>
                    <a:pt x="595" y="366"/>
                  </a:lnTo>
                  <a:lnTo>
                    <a:pt x="595" y="374"/>
                  </a:lnTo>
                  <a:lnTo>
                    <a:pt x="595" y="380"/>
                  </a:lnTo>
                  <a:lnTo>
                    <a:pt x="597" y="386"/>
                  </a:lnTo>
                  <a:lnTo>
                    <a:pt x="597" y="393"/>
                  </a:lnTo>
                  <a:lnTo>
                    <a:pt x="597" y="401"/>
                  </a:lnTo>
                  <a:lnTo>
                    <a:pt x="599" y="407"/>
                  </a:lnTo>
                  <a:lnTo>
                    <a:pt x="599" y="413"/>
                  </a:lnTo>
                  <a:lnTo>
                    <a:pt x="599" y="418"/>
                  </a:lnTo>
                  <a:lnTo>
                    <a:pt x="599" y="424"/>
                  </a:lnTo>
                  <a:lnTo>
                    <a:pt x="599" y="428"/>
                  </a:lnTo>
                  <a:lnTo>
                    <a:pt x="599" y="434"/>
                  </a:lnTo>
                  <a:lnTo>
                    <a:pt x="601" y="440"/>
                  </a:lnTo>
                  <a:lnTo>
                    <a:pt x="601" y="443"/>
                  </a:lnTo>
                  <a:lnTo>
                    <a:pt x="601" y="447"/>
                  </a:lnTo>
                  <a:lnTo>
                    <a:pt x="601" y="453"/>
                  </a:lnTo>
                  <a:lnTo>
                    <a:pt x="601" y="457"/>
                  </a:lnTo>
                  <a:lnTo>
                    <a:pt x="599" y="457"/>
                  </a:lnTo>
                  <a:lnTo>
                    <a:pt x="593" y="459"/>
                  </a:lnTo>
                  <a:lnTo>
                    <a:pt x="588" y="459"/>
                  </a:lnTo>
                  <a:lnTo>
                    <a:pt x="584" y="461"/>
                  </a:lnTo>
                  <a:lnTo>
                    <a:pt x="578" y="463"/>
                  </a:lnTo>
                  <a:lnTo>
                    <a:pt x="572" y="465"/>
                  </a:lnTo>
                  <a:lnTo>
                    <a:pt x="564" y="467"/>
                  </a:lnTo>
                  <a:lnTo>
                    <a:pt x="557" y="468"/>
                  </a:lnTo>
                  <a:lnTo>
                    <a:pt x="553" y="468"/>
                  </a:lnTo>
                  <a:lnTo>
                    <a:pt x="549" y="470"/>
                  </a:lnTo>
                  <a:lnTo>
                    <a:pt x="545" y="470"/>
                  </a:lnTo>
                  <a:lnTo>
                    <a:pt x="541" y="472"/>
                  </a:lnTo>
                  <a:lnTo>
                    <a:pt x="535" y="474"/>
                  </a:lnTo>
                  <a:lnTo>
                    <a:pt x="532" y="474"/>
                  </a:lnTo>
                  <a:lnTo>
                    <a:pt x="528" y="476"/>
                  </a:lnTo>
                  <a:lnTo>
                    <a:pt x="524" y="478"/>
                  </a:lnTo>
                  <a:lnTo>
                    <a:pt x="518" y="478"/>
                  </a:lnTo>
                  <a:lnTo>
                    <a:pt x="512" y="480"/>
                  </a:lnTo>
                  <a:lnTo>
                    <a:pt x="508" y="480"/>
                  </a:lnTo>
                  <a:lnTo>
                    <a:pt x="505" y="482"/>
                  </a:lnTo>
                  <a:lnTo>
                    <a:pt x="499" y="482"/>
                  </a:lnTo>
                  <a:lnTo>
                    <a:pt x="493" y="484"/>
                  </a:lnTo>
                  <a:lnTo>
                    <a:pt x="487" y="484"/>
                  </a:lnTo>
                  <a:lnTo>
                    <a:pt x="482" y="486"/>
                  </a:lnTo>
                  <a:lnTo>
                    <a:pt x="476" y="486"/>
                  </a:lnTo>
                  <a:lnTo>
                    <a:pt x="470" y="486"/>
                  </a:lnTo>
                  <a:lnTo>
                    <a:pt x="464" y="488"/>
                  </a:lnTo>
                  <a:lnTo>
                    <a:pt x="460" y="488"/>
                  </a:lnTo>
                  <a:lnTo>
                    <a:pt x="453" y="488"/>
                  </a:lnTo>
                  <a:lnTo>
                    <a:pt x="449" y="488"/>
                  </a:lnTo>
                  <a:lnTo>
                    <a:pt x="443" y="488"/>
                  </a:lnTo>
                  <a:lnTo>
                    <a:pt x="437" y="488"/>
                  </a:lnTo>
                  <a:lnTo>
                    <a:pt x="431" y="488"/>
                  </a:lnTo>
                  <a:lnTo>
                    <a:pt x="426" y="488"/>
                  </a:lnTo>
                  <a:lnTo>
                    <a:pt x="422" y="488"/>
                  </a:lnTo>
                  <a:lnTo>
                    <a:pt x="418" y="490"/>
                  </a:lnTo>
                  <a:lnTo>
                    <a:pt x="412" y="488"/>
                  </a:lnTo>
                  <a:lnTo>
                    <a:pt x="406" y="488"/>
                  </a:lnTo>
                  <a:lnTo>
                    <a:pt x="402" y="488"/>
                  </a:lnTo>
                  <a:lnTo>
                    <a:pt x="399" y="488"/>
                  </a:lnTo>
                  <a:lnTo>
                    <a:pt x="391" y="488"/>
                  </a:lnTo>
                  <a:lnTo>
                    <a:pt x="383" y="486"/>
                  </a:lnTo>
                  <a:lnTo>
                    <a:pt x="377" y="486"/>
                  </a:lnTo>
                  <a:lnTo>
                    <a:pt x="374" y="484"/>
                  </a:lnTo>
                  <a:lnTo>
                    <a:pt x="370" y="482"/>
                  </a:lnTo>
                  <a:lnTo>
                    <a:pt x="370" y="480"/>
                  </a:lnTo>
                  <a:lnTo>
                    <a:pt x="368" y="476"/>
                  </a:lnTo>
                  <a:lnTo>
                    <a:pt x="368" y="470"/>
                  </a:lnTo>
                  <a:lnTo>
                    <a:pt x="368" y="465"/>
                  </a:lnTo>
                  <a:lnTo>
                    <a:pt x="368" y="459"/>
                  </a:lnTo>
                  <a:lnTo>
                    <a:pt x="368" y="451"/>
                  </a:lnTo>
                  <a:lnTo>
                    <a:pt x="368" y="445"/>
                  </a:lnTo>
                  <a:lnTo>
                    <a:pt x="368" y="438"/>
                  </a:lnTo>
                  <a:lnTo>
                    <a:pt x="366" y="432"/>
                  </a:lnTo>
                  <a:lnTo>
                    <a:pt x="364" y="428"/>
                  </a:lnTo>
                  <a:lnTo>
                    <a:pt x="362" y="422"/>
                  </a:lnTo>
                  <a:lnTo>
                    <a:pt x="360" y="418"/>
                  </a:lnTo>
                  <a:lnTo>
                    <a:pt x="360" y="413"/>
                  </a:lnTo>
                  <a:lnTo>
                    <a:pt x="358" y="409"/>
                  </a:lnTo>
                  <a:lnTo>
                    <a:pt x="358" y="403"/>
                  </a:lnTo>
                  <a:lnTo>
                    <a:pt x="356" y="397"/>
                  </a:lnTo>
                  <a:lnTo>
                    <a:pt x="354" y="391"/>
                  </a:lnTo>
                  <a:lnTo>
                    <a:pt x="352" y="386"/>
                  </a:lnTo>
                  <a:lnTo>
                    <a:pt x="350" y="380"/>
                  </a:lnTo>
                  <a:lnTo>
                    <a:pt x="350" y="372"/>
                  </a:lnTo>
                  <a:lnTo>
                    <a:pt x="349" y="366"/>
                  </a:lnTo>
                  <a:lnTo>
                    <a:pt x="347" y="359"/>
                  </a:lnTo>
                  <a:lnTo>
                    <a:pt x="345" y="353"/>
                  </a:lnTo>
                  <a:lnTo>
                    <a:pt x="343" y="345"/>
                  </a:lnTo>
                  <a:lnTo>
                    <a:pt x="341" y="337"/>
                  </a:lnTo>
                  <a:lnTo>
                    <a:pt x="339" y="330"/>
                  </a:lnTo>
                  <a:lnTo>
                    <a:pt x="337" y="324"/>
                  </a:lnTo>
                  <a:lnTo>
                    <a:pt x="335" y="316"/>
                  </a:lnTo>
                  <a:lnTo>
                    <a:pt x="333" y="308"/>
                  </a:lnTo>
                  <a:lnTo>
                    <a:pt x="331" y="301"/>
                  </a:lnTo>
                  <a:lnTo>
                    <a:pt x="331" y="295"/>
                  </a:lnTo>
                  <a:lnTo>
                    <a:pt x="327" y="287"/>
                  </a:lnTo>
                  <a:lnTo>
                    <a:pt x="325" y="281"/>
                  </a:lnTo>
                  <a:lnTo>
                    <a:pt x="323" y="274"/>
                  </a:lnTo>
                  <a:lnTo>
                    <a:pt x="322" y="268"/>
                  </a:lnTo>
                  <a:lnTo>
                    <a:pt x="320" y="262"/>
                  </a:lnTo>
                  <a:lnTo>
                    <a:pt x="320" y="256"/>
                  </a:lnTo>
                  <a:lnTo>
                    <a:pt x="318" y="253"/>
                  </a:lnTo>
                  <a:lnTo>
                    <a:pt x="318" y="247"/>
                  </a:lnTo>
                  <a:lnTo>
                    <a:pt x="314" y="243"/>
                  </a:lnTo>
                  <a:lnTo>
                    <a:pt x="314" y="239"/>
                  </a:lnTo>
                  <a:lnTo>
                    <a:pt x="312" y="235"/>
                  </a:lnTo>
                  <a:lnTo>
                    <a:pt x="312" y="231"/>
                  </a:lnTo>
                  <a:lnTo>
                    <a:pt x="312" y="226"/>
                  </a:lnTo>
                  <a:lnTo>
                    <a:pt x="312" y="222"/>
                  </a:lnTo>
                  <a:lnTo>
                    <a:pt x="312" y="216"/>
                  </a:lnTo>
                  <a:lnTo>
                    <a:pt x="318" y="214"/>
                  </a:lnTo>
                  <a:lnTo>
                    <a:pt x="322" y="216"/>
                  </a:lnTo>
                  <a:lnTo>
                    <a:pt x="327" y="220"/>
                  </a:lnTo>
                  <a:lnTo>
                    <a:pt x="333" y="224"/>
                  </a:lnTo>
                  <a:lnTo>
                    <a:pt x="339" y="231"/>
                  </a:lnTo>
                  <a:lnTo>
                    <a:pt x="339" y="233"/>
                  </a:lnTo>
                  <a:lnTo>
                    <a:pt x="341" y="235"/>
                  </a:lnTo>
                  <a:lnTo>
                    <a:pt x="343" y="239"/>
                  </a:lnTo>
                  <a:lnTo>
                    <a:pt x="345" y="243"/>
                  </a:lnTo>
                  <a:lnTo>
                    <a:pt x="345" y="247"/>
                  </a:lnTo>
                  <a:lnTo>
                    <a:pt x="349" y="253"/>
                  </a:lnTo>
                  <a:lnTo>
                    <a:pt x="350" y="258"/>
                  </a:lnTo>
                  <a:lnTo>
                    <a:pt x="352" y="264"/>
                  </a:lnTo>
                  <a:lnTo>
                    <a:pt x="354" y="272"/>
                  </a:lnTo>
                  <a:lnTo>
                    <a:pt x="356" y="278"/>
                  </a:lnTo>
                  <a:lnTo>
                    <a:pt x="358" y="285"/>
                  </a:lnTo>
                  <a:lnTo>
                    <a:pt x="360" y="293"/>
                  </a:lnTo>
                  <a:lnTo>
                    <a:pt x="362" y="301"/>
                  </a:lnTo>
                  <a:lnTo>
                    <a:pt x="364" y="308"/>
                  </a:lnTo>
                  <a:lnTo>
                    <a:pt x="364" y="312"/>
                  </a:lnTo>
                  <a:lnTo>
                    <a:pt x="366" y="316"/>
                  </a:lnTo>
                  <a:lnTo>
                    <a:pt x="368" y="320"/>
                  </a:lnTo>
                  <a:lnTo>
                    <a:pt x="370" y="326"/>
                  </a:lnTo>
                  <a:lnTo>
                    <a:pt x="370" y="328"/>
                  </a:lnTo>
                  <a:lnTo>
                    <a:pt x="370" y="333"/>
                  </a:lnTo>
                  <a:lnTo>
                    <a:pt x="372" y="335"/>
                  </a:lnTo>
                  <a:lnTo>
                    <a:pt x="374" y="341"/>
                  </a:lnTo>
                  <a:lnTo>
                    <a:pt x="374" y="345"/>
                  </a:lnTo>
                  <a:lnTo>
                    <a:pt x="375" y="349"/>
                  </a:lnTo>
                  <a:lnTo>
                    <a:pt x="375" y="353"/>
                  </a:lnTo>
                  <a:lnTo>
                    <a:pt x="377" y="357"/>
                  </a:lnTo>
                  <a:lnTo>
                    <a:pt x="377" y="360"/>
                  </a:lnTo>
                  <a:lnTo>
                    <a:pt x="377" y="364"/>
                  </a:lnTo>
                  <a:lnTo>
                    <a:pt x="379" y="368"/>
                  </a:lnTo>
                  <a:lnTo>
                    <a:pt x="381" y="372"/>
                  </a:lnTo>
                  <a:lnTo>
                    <a:pt x="381" y="376"/>
                  </a:lnTo>
                  <a:lnTo>
                    <a:pt x="381" y="382"/>
                  </a:lnTo>
                  <a:lnTo>
                    <a:pt x="383" y="384"/>
                  </a:lnTo>
                  <a:lnTo>
                    <a:pt x="383" y="389"/>
                  </a:lnTo>
                  <a:lnTo>
                    <a:pt x="385" y="395"/>
                  </a:lnTo>
                  <a:lnTo>
                    <a:pt x="387" y="403"/>
                  </a:lnTo>
                  <a:lnTo>
                    <a:pt x="387" y="409"/>
                  </a:lnTo>
                  <a:lnTo>
                    <a:pt x="389" y="416"/>
                  </a:lnTo>
                  <a:lnTo>
                    <a:pt x="389" y="420"/>
                  </a:lnTo>
                  <a:lnTo>
                    <a:pt x="391" y="426"/>
                  </a:lnTo>
                  <a:lnTo>
                    <a:pt x="391" y="432"/>
                  </a:lnTo>
                  <a:lnTo>
                    <a:pt x="391" y="438"/>
                  </a:lnTo>
                  <a:lnTo>
                    <a:pt x="393" y="438"/>
                  </a:lnTo>
                  <a:lnTo>
                    <a:pt x="395" y="440"/>
                  </a:lnTo>
                  <a:lnTo>
                    <a:pt x="399" y="441"/>
                  </a:lnTo>
                  <a:lnTo>
                    <a:pt x="402" y="443"/>
                  </a:lnTo>
                  <a:lnTo>
                    <a:pt x="406" y="445"/>
                  </a:lnTo>
                  <a:lnTo>
                    <a:pt x="414" y="449"/>
                  </a:lnTo>
                  <a:lnTo>
                    <a:pt x="416" y="449"/>
                  </a:lnTo>
                  <a:lnTo>
                    <a:pt x="420" y="451"/>
                  </a:lnTo>
                  <a:lnTo>
                    <a:pt x="424" y="451"/>
                  </a:lnTo>
                  <a:lnTo>
                    <a:pt x="428" y="453"/>
                  </a:lnTo>
                  <a:lnTo>
                    <a:pt x="431" y="453"/>
                  </a:lnTo>
                  <a:lnTo>
                    <a:pt x="435" y="453"/>
                  </a:lnTo>
                  <a:lnTo>
                    <a:pt x="439" y="453"/>
                  </a:lnTo>
                  <a:lnTo>
                    <a:pt x="445" y="455"/>
                  </a:lnTo>
                  <a:lnTo>
                    <a:pt x="449" y="455"/>
                  </a:lnTo>
                  <a:lnTo>
                    <a:pt x="455" y="455"/>
                  </a:lnTo>
                  <a:lnTo>
                    <a:pt x="462" y="455"/>
                  </a:lnTo>
                  <a:lnTo>
                    <a:pt x="468" y="457"/>
                  </a:lnTo>
                  <a:lnTo>
                    <a:pt x="474" y="455"/>
                  </a:lnTo>
                  <a:lnTo>
                    <a:pt x="482" y="455"/>
                  </a:lnTo>
                  <a:lnTo>
                    <a:pt x="487" y="455"/>
                  </a:lnTo>
                  <a:lnTo>
                    <a:pt x="495" y="455"/>
                  </a:lnTo>
                  <a:lnTo>
                    <a:pt x="503" y="453"/>
                  </a:lnTo>
                  <a:lnTo>
                    <a:pt x="508" y="451"/>
                  </a:lnTo>
                  <a:lnTo>
                    <a:pt x="514" y="449"/>
                  </a:lnTo>
                  <a:lnTo>
                    <a:pt x="522" y="449"/>
                  </a:lnTo>
                  <a:lnTo>
                    <a:pt x="526" y="447"/>
                  </a:lnTo>
                  <a:lnTo>
                    <a:pt x="532" y="445"/>
                  </a:lnTo>
                  <a:lnTo>
                    <a:pt x="535" y="443"/>
                  </a:lnTo>
                  <a:lnTo>
                    <a:pt x="541" y="443"/>
                  </a:lnTo>
                  <a:lnTo>
                    <a:pt x="547" y="440"/>
                  </a:lnTo>
                  <a:lnTo>
                    <a:pt x="555" y="438"/>
                  </a:lnTo>
                  <a:lnTo>
                    <a:pt x="559" y="434"/>
                  </a:lnTo>
                  <a:lnTo>
                    <a:pt x="564" y="432"/>
                  </a:lnTo>
                  <a:lnTo>
                    <a:pt x="568" y="426"/>
                  </a:lnTo>
                  <a:lnTo>
                    <a:pt x="570" y="422"/>
                  </a:lnTo>
                  <a:lnTo>
                    <a:pt x="572" y="418"/>
                  </a:lnTo>
                  <a:lnTo>
                    <a:pt x="572" y="418"/>
                  </a:lnTo>
                  <a:lnTo>
                    <a:pt x="572" y="416"/>
                  </a:lnTo>
                  <a:lnTo>
                    <a:pt x="572" y="414"/>
                  </a:lnTo>
                  <a:lnTo>
                    <a:pt x="570" y="411"/>
                  </a:lnTo>
                  <a:lnTo>
                    <a:pt x="570" y="407"/>
                  </a:lnTo>
                  <a:lnTo>
                    <a:pt x="568" y="401"/>
                  </a:lnTo>
                  <a:lnTo>
                    <a:pt x="568" y="393"/>
                  </a:lnTo>
                  <a:lnTo>
                    <a:pt x="566" y="389"/>
                  </a:lnTo>
                  <a:lnTo>
                    <a:pt x="566" y="384"/>
                  </a:lnTo>
                  <a:lnTo>
                    <a:pt x="564" y="380"/>
                  </a:lnTo>
                  <a:lnTo>
                    <a:pt x="564" y="376"/>
                  </a:lnTo>
                  <a:lnTo>
                    <a:pt x="562" y="370"/>
                  </a:lnTo>
                  <a:lnTo>
                    <a:pt x="562" y="366"/>
                  </a:lnTo>
                  <a:lnTo>
                    <a:pt x="561" y="360"/>
                  </a:lnTo>
                  <a:lnTo>
                    <a:pt x="561" y="357"/>
                  </a:lnTo>
                  <a:lnTo>
                    <a:pt x="559" y="349"/>
                  </a:lnTo>
                  <a:lnTo>
                    <a:pt x="559" y="345"/>
                  </a:lnTo>
                  <a:lnTo>
                    <a:pt x="557" y="337"/>
                  </a:lnTo>
                  <a:lnTo>
                    <a:pt x="557" y="333"/>
                  </a:lnTo>
                  <a:lnTo>
                    <a:pt x="555" y="326"/>
                  </a:lnTo>
                  <a:lnTo>
                    <a:pt x="553" y="320"/>
                  </a:lnTo>
                  <a:lnTo>
                    <a:pt x="551" y="314"/>
                  </a:lnTo>
                  <a:lnTo>
                    <a:pt x="551" y="306"/>
                  </a:lnTo>
                  <a:lnTo>
                    <a:pt x="549" y="301"/>
                  </a:lnTo>
                  <a:lnTo>
                    <a:pt x="547" y="293"/>
                  </a:lnTo>
                  <a:lnTo>
                    <a:pt x="545" y="287"/>
                  </a:lnTo>
                  <a:lnTo>
                    <a:pt x="545" y="281"/>
                  </a:lnTo>
                  <a:lnTo>
                    <a:pt x="543" y="272"/>
                  </a:lnTo>
                  <a:lnTo>
                    <a:pt x="539" y="266"/>
                  </a:lnTo>
                  <a:lnTo>
                    <a:pt x="537" y="258"/>
                  </a:lnTo>
                  <a:lnTo>
                    <a:pt x="537" y="253"/>
                  </a:lnTo>
                  <a:lnTo>
                    <a:pt x="535" y="245"/>
                  </a:lnTo>
                  <a:lnTo>
                    <a:pt x="532" y="237"/>
                  </a:lnTo>
                  <a:lnTo>
                    <a:pt x="530" y="229"/>
                  </a:lnTo>
                  <a:lnTo>
                    <a:pt x="530" y="224"/>
                  </a:lnTo>
                  <a:lnTo>
                    <a:pt x="526" y="216"/>
                  </a:lnTo>
                  <a:lnTo>
                    <a:pt x="524" y="208"/>
                  </a:lnTo>
                  <a:lnTo>
                    <a:pt x="522" y="202"/>
                  </a:lnTo>
                  <a:lnTo>
                    <a:pt x="520" y="195"/>
                  </a:lnTo>
                  <a:lnTo>
                    <a:pt x="516" y="189"/>
                  </a:lnTo>
                  <a:lnTo>
                    <a:pt x="514" y="183"/>
                  </a:lnTo>
                  <a:lnTo>
                    <a:pt x="512" y="175"/>
                  </a:lnTo>
                  <a:lnTo>
                    <a:pt x="510" y="170"/>
                  </a:lnTo>
                  <a:lnTo>
                    <a:pt x="507" y="162"/>
                  </a:lnTo>
                  <a:lnTo>
                    <a:pt x="505" y="156"/>
                  </a:lnTo>
                  <a:lnTo>
                    <a:pt x="501" y="148"/>
                  </a:lnTo>
                  <a:lnTo>
                    <a:pt x="499" y="143"/>
                  </a:lnTo>
                  <a:lnTo>
                    <a:pt x="497" y="137"/>
                  </a:lnTo>
                  <a:lnTo>
                    <a:pt x="493" y="131"/>
                  </a:lnTo>
                  <a:lnTo>
                    <a:pt x="491" y="125"/>
                  </a:lnTo>
                  <a:lnTo>
                    <a:pt x="489" y="121"/>
                  </a:lnTo>
                  <a:lnTo>
                    <a:pt x="485" y="116"/>
                  </a:lnTo>
                  <a:lnTo>
                    <a:pt x="483" y="110"/>
                  </a:lnTo>
                  <a:lnTo>
                    <a:pt x="480" y="104"/>
                  </a:lnTo>
                  <a:lnTo>
                    <a:pt x="478" y="100"/>
                  </a:lnTo>
                  <a:lnTo>
                    <a:pt x="474" y="96"/>
                  </a:lnTo>
                  <a:lnTo>
                    <a:pt x="472" y="92"/>
                  </a:lnTo>
                  <a:lnTo>
                    <a:pt x="468" y="87"/>
                  </a:lnTo>
                  <a:lnTo>
                    <a:pt x="466" y="85"/>
                  </a:lnTo>
                  <a:lnTo>
                    <a:pt x="460" y="77"/>
                  </a:lnTo>
                  <a:lnTo>
                    <a:pt x="453" y="71"/>
                  </a:lnTo>
                  <a:lnTo>
                    <a:pt x="447" y="64"/>
                  </a:lnTo>
                  <a:lnTo>
                    <a:pt x="439" y="60"/>
                  </a:lnTo>
                  <a:lnTo>
                    <a:pt x="433" y="56"/>
                  </a:lnTo>
                  <a:lnTo>
                    <a:pt x="428" y="52"/>
                  </a:lnTo>
                  <a:lnTo>
                    <a:pt x="422" y="50"/>
                  </a:lnTo>
                  <a:lnTo>
                    <a:pt x="418" y="48"/>
                  </a:lnTo>
                  <a:lnTo>
                    <a:pt x="410" y="44"/>
                  </a:lnTo>
                  <a:lnTo>
                    <a:pt x="406" y="44"/>
                  </a:lnTo>
                  <a:lnTo>
                    <a:pt x="401" y="42"/>
                  </a:lnTo>
                  <a:lnTo>
                    <a:pt x="395" y="42"/>
                  </a:lnTo>
                  <a:lnTo>
                    <a:pt x="389" y="42"/>
                  </a:lnTo>
                  <a:lnTo>
                    <a:pt x="383" y="42"/>
                  </a:lnTo>
                  <a:lnTo>
                    <a:pt x="379" y="44"/>
                  </a:lnTo>
                  <a:lnTo>
                    <a:pt x="375" y="44"/>
                  </a:lnTo>
                  <a:lnTo>
                    <a:pt x="370" y="46"/>
                  </a:lnTo>
                  <a:lnTo>
                    <a:pt x="366" y="48"/>
                  </a:lnTo>
                  <a:lnTo>
                    <a:pt x="362" y="48"/>
                  </a:lnTo>
                  <a:lnTo>
                    <a:pt x="358" y="50"/>
                  </a:lnTo>
                  <a:lnTo>
                    <a:pt x="354" y="54"/>
                  </a:lnTo>
                  <a:lnTo>
                    <a:pt x="350" y="56"/>
                  </a:lnTo>
                  <a:lnTo>
                    <a:pt x="347" y="58"/>
                  </a:lnTo>
                  <a:lnTo>
                    <a:pt x="343" y="60"/>
                  </a:lnTo>
                  <a:lnTo>
                    <a:pt x="337" y="64"/>
                  </a:lnTo>
                  <a:lnTo>
                    <a:pt x="333" y="69"/>
                  </a:lnTo>
                  <a:lnTo>
                    <a:pt x="329" y="73"/>
                  </a:lnTo>
                  <a:lnTo>
                    <a:pt x="327" y="77"/>
                  </a:lnTo>
                  <a:lnTo>
                    <a:pt x="323" y="79"/>
                  </a:lnTo>
                  <a:lnTo>
                    <a:pt x="322" y="83"/>
                  </a:lnTo>
                  <a:lnTo>
                    <a:pt x="320" y="87"/>
                  </a:lnTo>
                  <a:lnTo>
                    <a:pt x="318" y="92"/>
                  </a:lnTo>
                  <a:lnTo>
                    <a:pt x="316" y="98"/>
                  </a:lnTo>
                  <a:lnTo>
                    <a:pt x="314" y="104"/>
                  </a:lnTo>
                  <a:lnTo>
                    <a:pt x="312" y="110"/>
                  </a:lnTo>
                  <a:lnTo>
                    <a:pt x="310" y="118"/>
                  </a:lnTo>
                  <a:lnTo>
                    <a:pt x="308" y="121"/>
                  </a:lnTo>
                  <a:lnTo>
                    <a:pt x="306" y="127"/>
                  </a:lnTo>
                  <a:lnTo>
                    <a:pt x="304" y="131"/>
                  </a:lnTo>
                  <a:lnTo>
                    <a:pt x="302" y="137"/>
                  </a:lnTo>
                  <a:lnTo>
                    <a:pt x="300" y="141"/>
                  </a:lnTo>
                  <a:lnTo>
                    <a:pt x="298" y="141"/>
                  </a:lnTo>
                  <a:lnTo>
                    <a:pt x="296" y="137"/>
                  </a:lnTo>
                  <a:lnTo>
                    <a:pt x="295" y="133"/>
                  </a:lnTo>
                  <a:lnTo>
                    <a:pt x="295" y="129"/>
                  </a:lnTo>
                  <a:lnTo>
                    <a:pt x="295" y="125"/>
                  </a:lnTo>
                  <a:lnTo>
                    <a:pt x="293" y="121"/>
                  </a:lnTo>
                  <a:lnTo>
                    <a:pt x="293" y="119"/>
                  </a:lnTo>
                  <a:lnTo>
                    <a:pt x="293" y="119"/>
                  </a:lnTo>
                  <a:lnTo>
                    <a:pt x="293" y="121"/>
                  </a:lnTo>
                  <a:lnTo>
                    <a:pt x="289" y="125"/>
                  </a:lnTo>
                  <a:lnTo>
                    <a:pt x="289" y="131"/>
                  </a:lnTo>
                  <a:lnTo>
                    <a:pt x="285" y="137"/>
                  </a:lnTo>
                  <a:lnTo>
                    <a:pt x="281" y="145"/>
                  </a:lnTo>
                  <a:lnTo>
                    <a:pt x="279" y="148"/>
                  </a:lnTo>
                  <a:lnTo>
                    <a:pt x="277" y="154"/>
                  </a:lnTo>
                  <a:lnTo>
                    <a:pt x="273" y="158"/>
                  </a:lnTo>
                  <a:lnTo>
                    <a:pt x="271" y="162"/>
                  </a:lnTo>
                  <a:lnTo>
                    <a:pt x="268" y="168"/>
                  </a:lnTo>
                  <a:lnTo>
                    <a:pt x="264" y="172"/>
                  </a:lnTo>
                  <a:lnTo>
                    <a:pt x="262" y="177"/>
                  </a:lnTo>
                  <a:lnTo>
                    <a:pt x="258" y="181"/>
                  </a:lnTo>
                  <a:lnTo>
                    <a:pt x="254" y="185"/>
                  </a:lnTo>
                  <a:lnTo>
                    <a:pt x="250" y="191"/>
                  </a:lnTo>
                  <a:lnTo>
                    <a:pt x="244" y="197"/>
                  </a:lnTo>
                  <a:lnTo>
                    <a:pt x="241" y="200"/>
                  </a:lnTo>
                  <a:lnTo>
                    <a:pt x="235" y="204"/>
                  </a:lnTo>
                  <a:lnTo>
                    <a:pt x="231" y="210"/>
                  </a:lnTo>
                  <a:lnTo>
                    <a:pt x="225" y="214"/>
                  </a:lnTo>
                  <a:lnTo>
                    <a:pt x="219" y="220"/>
                  </a:lnTo>
                  <a:lnTo>
                    <a:pt x="212" y="222"/>
                  </a:lnTo>
                  <a:lnTo>
                    <a:pt x="206" y="227"/>
                  </a:lnTo>
                  <a:lnTo>
                    <a:pt x="198" y="231"/>
                  </a:lnTo>
                  <a:lnTo>
                    <a:pt x="192" y="235"/>
                  </a:lnTo>
                  <a:lnTo>
                    <a:pt x="185" y="239"/>
                  </a:lnTo>
                  <a:lnTo>
                    <a:pt x="177" y="241"/>
                  </a:lnTo>
                  <a:lnTo>
                    <a:pt x="169" y="243"/>
                  </a:lnTo>
                  <a:lnTo>
                    <a:pt x="163" y="247"/>
                  </a:lnTo>
                  <a:lnTo>
                    <a:pt x="156" y="247"/>
                  </a:lnTo>
                  <a:lnTo>
                    <a:pt x="148" y="249"/>
                  </a:lnTo>
                  <a:lnTo>
                    <a:pt x="142" y="251"/>
                  </a:lnTo>
                  <a:lnTo>
                    <a:pt x="136" y="253"/>
                  </a:lnTo>
                  <a:lnTo>
                    <a:pt x="129" y="253"/>
                  </a:lnTo>
                  <a:lnTo>
                    <a:pt x="123" y="254"/>
                  </a:lnTo>
                  <a:lnTo>
                    <a:pt x="117" y="254"/>
                  </a:lnTo>
                  <a:lnTo>
                    <a:pt x="109" y="254"/>
                  </a:lnTo>
                  <a:lnTo>
                    <a:pt x="104" y="254"/>
                  </a:lnTo>
                  <a:lnTo>
                    <a:pt x="98" y="254"/>
                  </a:lnTo>
                  <a:lnTo>
                    <a:pt x="92" y="254"/>
                  </a:lnTo>
                  <a:lnTo>
                    <a:pt x="86" y="254"/>
                  </a:lnTo>
                  <a:lnTo>
                    <a:pt x="81" y="254"/>
                  </a:lnTo>
                  <a:lnTo>
                    <a:pt x="75" y="253"/>
                  </a:lnTo>
                  <a:lnTo>
                    <a:pt x="69" y="253"/>
                  </a:lnTo>
                  <a:lnTo>
                    <a:pt x="65" y="253"/>
                  </a:lnTo>
                  <a:lnTo>
                    <a:pt x="61" y="249"/>
                  </a:lnTo>
                  <a:lnTo>
                    <a:pt x="56" y="249"/>
                  </a:lnTo>
                  <a:lnTo>
                    <a:pt x="52" y="247"/>
                  </a:lnTo>
                  <a:lnTo>
                    <a:pt x="48" y="247"/>
                  </a:lnTo>
                  <a:lnTo>
                    <a:pt x="44" y="243"/>
                  </a:lnTo>
                  <a:lnTo>
                    <a:pt x="38" y="241"/>
                  </a:lnTo>
                  <a:lnTo>
                    <a:pt x="34" y="239"/>
                  </a:lnTo>
                  <a:lnTo>
                    <a:pt x="32" y="239"/>
                  </a:lnTo>
                  <a:lnTo>
                    <a:pt x="25" y="233"/>
                  </a:lnTo>
                  <a:lnTo>
                    <a:pt x="19" y="229"/>
                  </a:lnTo>
                  <a:lnTo>
                    <a:pt x="13" y="224"/>
                  </a:lnTo>
                  <a:lnTo>
                    <a:pt x="9" y="220"/>
                  </a:lnTo>
                  <a:lnTo>
                    <a:pt x="5" y="214"/>
                  </a:lnTo>
                  <a:lnTo>
                    <a:pt x="3" y="210"/>
                  </a:lnTo>
                  <a:lnTo>
                    <a:pt x="2" y="204"/>
                  </a:lnTo>
                  <a:lnTo>
                    <a:pt x="2" y="200"/>
                  </a:lnTo>
                  <a:lnTo>
                    <a:pt x="0" y="197"/>
                  </a:lnTo>
                  <a:lnTo>
                    <a:pt x="0" y="193"/>
                  </a:lnTo>
                  <a:lnTo>
                    <a:pt x="0" y="187"/>
                  </a:lnTo>
                  <a:lnTo>
                    <a:pt x="2" y="183"/>
                  </a:lnTo>
                  <a:lnTo>
                    <a:pt x="2" y="179"/>
                  </a:lnTo>
                  <a:lnTo>
                    <a:pt x="3" y="179"/>
                  </a:lnTo>
                  <a:lnTo>
                    <a:pt x="3"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5499000" y="4162320"/>
              <a:ext cx="363600" cy="354240"/>
            </a:xfrm>
            <a:custGeom>
              <a:avLst/>
              <a:gdLst/>
              <a:ahLst/>
              <a:rect l="l" t="t" r="r" b="b"/>
              <a:pathLst>
                <a:path w="229" h="223">
                  <a:moveTo>
                    <a:pt x="223" y="19"/>
                  </a:moveTo>
                  <a:lnTo>
                    <a:pt x="221" y="19"/>
                  </a:lnTo>
                  <a:lnTo>
                    <a:pt x="220" y="19"/>
                  </a:lnTo>
                  <a:lnTo>
                    <a:pt x="216" y="19"/>
                  </a:lnTo>
                  <a:lnTo>
                    <a:pt x="210" y="21"/>
                  </a:lnTo>
                  <a:lnTo>
                    <a:pt x="204" y="21"/>
                  </a:lnTo>
                  <a:lnTo>
                    <a:pt x="196" y="21"/>
                  </a:lnTo>
                  <a:lnTo>
                    <a:pt x="193" y="23"/>
                  </a:lnTo>
                  <a:lnTo>
                    <a:pt x="189" y="25"/>
                  </a:lnTo>
                  <a:lnTo>
                    <a:pt x="185" y="25"/>
                  </a:lnTo>
                  <a:lnTo>
                    <a:pt x="181" y="27"/>
                  </a:lnTo>
                  <a:lnTo>
                    <a:pt x="177" y="27"/>
                  </a:lnTo>
                  <a:lnTo>
                    <a:pt x="171" y="29"/>
                  </a:lnTo>
                  <a:lnTo>
                    <a:pt x="167" y="29"/>
                  </a:lnTo>
                  <a:lnTo>
                    <a:pt x="164" y="31"/>
                  </a:lnTo>
                  <a:lnTo>
                    <a:pt x="158" y="33"/>
                  </a:lnTo>
                  <a:lnTo>
                    <a:pt x="154" y="33"/>
                  </a:lnTo>
                  <a:lnTo>
                    <a:pt x="150" y="35"/>
                  </a:lnTo>
                  <a:lnTo>
                    <a:pt x="144" y="38"/>
                  </a:lnTo>
                  <a:lnTo>
                    <a:pt x="141" y="38"/>
                  </a:lnTo>
                  <a:lnTo>
                    <a:pt x="137" y="40"/>
                  </a:lnTo>
                  <a:lnTo>
                    <a:pt x="133" y="44"/>
                  </a:lnTo>
                  <a:lnTo>
                    <a:pt x="129" y="46"/>
                  </a:lnTo>
                  <a:lnTo>
                    <a:pt x="121" y="50"/>
                  </a:lnTo>
                  <a:lnTo>
                    <a:pt x="115" y="58"/>
                  </a:lnTo>
                  <a:lnTo>
                    <a:pt x="112" y="60"/>
                  </a:lnTo>
                  <a:lnTo>
                    <a:pt x="110" y="63"/>
                  </a:lnTo>
                  <a:lnTo>
                    <a:pt x="106" y="67"/>
                  </a:lnTo>
                  <a:lnTo>
                    <a:pt x="104" y="71"/>
                  </a:lnTo>
                  <a:lnTo>
                    <a:pt x="100" y="75"/>
                  </a:lnTo>
                  <a:lnTo>
                    <a:pt x="96" y="81"/>
                  </a:lnTo>
                  <a:lnTo>
                    <a:pt x="94" y="89"/>
                  </a:lnTo>
                  <a:lnTo>
                    <a:pt x="90" y="94"/>
                  </a:lnTo>
                  <a:lnTo>
                    <a:pt x="87" y="100"/>
                  </a:lnTo>
                  <a:lnTo>
                    <a:pt x="85" y="108"/>
                  </a:lnTo>
                  <a:lnTo>
                    <a:pt x="81" y="114"/>
                  </a:lnTo>
                  <a:lnTo>
                    <a:pt x="79" y="121"/>
                  </a:lnTo>
                  <a:lnTo>
                    <a:pt x="75" y="129"/>
                  </a:lnTo>
                  <a:lnTo>
                    <a:pt x="73" y="137"/>
                  </a:lnTo>
                  <a:lnTo>
                    <a:pt x="69" y="143"/>
                  </a:lnTo>
                  <a:lnTo>
                    <a:pt x="67" y="150"/>
                  </a:lnTo>
                  <a:lnTo>
                    <a:pt x="63" y="158"/>
                  </a:lnTo>
                  <a:lnTo>
                    <a:pt x="61" y="164"/>
                  </a:lnTo>
                  <a:lnTo>
                    <a:pt x="60" y="171"/>
                  </a:lnTo>
                  <a:lnTo>
                    <a:pt x="56" y="179"/>
                  </a:lnTo>
                  <a:lnTo>
                    <a:pt x="54" y="185"/>
                  </a:lnTo>
                  <a:lnTo>
                    <a:pt x="52" y="191"/>
                  </a:lnTo>
                  <a:lnTo>
                    <a:pt x="50" y="195"/>
                  </a:lnTo>
                  <a:lnTo>
                    <a:pt x="48" y="200"/>
                  </a:lnTo>
                  <a:lnTo>
                    <a:pt x="46" y="206"/>
                  </a:lnTo>
                  <a:lnTo>
                    <a:pt x="46" y="210"/>
                  </a:lnTo>
                  <a:lnTo>
                    <a:pt x="44" y="214"/>
                  </a:lnTo>
                  <a:lnTo>
                    <a:pt x="44" y="218"/>
                  </a:lnTo>
                  <a:lnTo>
                    <a:pt x="42" y="222"/>
                  </a:lnTo>
                  <a:lnTo>
                    <a:pt x="42" y="223"/>
                  </a:lnTo>
                  <a:lnTo>
                    <a:pt x="0" y="200"/>
                  </a:lnTo>
                  <a:lnTo>
                    <a:pt x="0" y="198"/>
                  </a:lnTo>
                  <a:lnTo>
                    <a:pt x="4" y="193"/>
                  </a:lnTo>
                  <a:lnTo>
                    <a:pt x="4" y="189"/>
                  </a:lnTo>
                  <a:lnTo>
                    <a:pt x="6" y="185"/>
                  </a:lnTo>
                  <a:lnTo>
                    <a:pt x="8" y="179"/>
                  </a:lnTo>
                  <a:lnTo>
                    <a:pt x="11" y="175"/>
                  </a:lnTo>
                  <a:lnTo>
                    <a:pt x="13" y="168"/>
                  </a:lnTo>
                  <a:lnTo>
                    <a:pt x="15" y="162"/>
                  </a:lnTo>
                  <a:lnTo>
                    <a:pt x="19" y="156"/>
                  </a:lnTo>
                  <a:lnTo>
                    <a:pt x="23" y="148"/>
                  </a:lnTo>
                  <a:lnTo>
                    <a:pt x="25" y="141"/>
                  </a:lnTo>
                  <a:lnTo>
                    <a:pt x="29" y="133"/>
                  </a:lnTo>
                  <a:lnTo>
                    <a:pt x="34" y="125"/>
                  </a:lnTo>
                  <a:lnTo>
                    <a:pt x="38" y="119"/>
                  </a:lnTo>
                  <a:lnTo>
                    <a:pt x="40" y="114"/>
                  </a:lnTo>
                  <a:lnTo>
                    <a:pt x="42" y="110"/>
                  </a:lnTo>
                  <a:lnTo>
                    <a:pt x="44" y="106"/>
                  </a:lnTo>
                  <a:lnTo>
                    <a:pt x="46" y="102"/>
                  </a:lnTo>
                  <a:lnTo>
                    <a:pt x="48" y="98"/>
                  </a:lnTo>
                  <a:lnTo>
                    <a:pt x="50" y="94"/>
                  </a:lnTo>
                  <a:lnTo>
                    <a:pt x="52" y="90"/>
                  </a:lnTo>
                  <a:lnTo>
                    <a:pt x="54" y="87"/>
                  </a:lnTo>
                  <a:lnTo>
                    <a:pt x="58" y="79"/>
                  </a:lnTo>
                  <a:lnTo>
                    <a:pt x="61" y="71"/>
                  </a:lnTo>
                  <a:lnTo>
                    <a:pt x="65" y="65"/>
                  </a:lnTo>
                  <a:lnTo>
                    <a:pt x="71" y="58"/>
                  </a:lnTo>
                  <a:lnTo>
                    <a:pt x="73" y="52"/>
                  </a:lnTo>
                  <a:lnTo>
                    <a:pt x="77" y="46"/>
                  </a:lnTo>
                  <a:lnTo>
                    <a:pt x="81" y="40"/>
                  </a:lnTo>
                  <a:lnTo>
                    <a:pt x="85" y="35"/>
                  </a:lnTo>
                  <a:lnTo>
                    <a:pt x="88" y="31"/>
                  </a:lnTo>
                  <a:lnTo>
                    <a:pt x="92" y="27"/>
                  </a:lnTo>
                  <a:lnTo>
                    <a:pt x="94" y="25"/>
                  </a:lnTo>
                  <a:lnTo>
                    <a:pt x="98" y="23"/>
                  </a:lnTo>
                  <a:lnTo>
                    <a:pt x="102" y="19"/>
                  </a:lnTo>
                  <a:lnTo>
                    <a:pt x="108" y="15"/>
                  </a:lnTo>
                  <a:lnTo>
                    <a:pt x="114" y="13"/>
                  </a:lnTo>
                  <a:lnTo>
                    <a:pt x="119" y="11"/>
                  </a:lnTo>
                  <a:lnTo>
                    <a:pt x="125" y="8"/>
                  </a:lnTo>
                  <a:lnTo>
                    <a:pt x="129" y="6"/>
                  </a:lnTo>
                  <a:lnTo>
                    <a:pt x="135" y="6"/>
                  </a:lnTo>
                  <a:lnTo>
                    <a:pt x="141" y="4"/>
                  </a:lnTo>
                  <a:lnTo>
                    <a:pt x="144" y="2"/>
                  </a:lnTo>
                  <a:lnTo>
                    <a:pt x="148" y="2"/>
                  </a:lnTo>
                  <a:lnTo>
                    <a:pt x="152" y="0"/>
                  </a:lnTo>
                  <a:lnTo>
                    <a:pt x="156" y="0"/>
                  </a:lnTo>
                  <a:lnTo>
                    <a:pt x="160" y="0"/>
                  </a:lnTo>
                  <a:lnTo>
                    <a:pt x="162" y="0"/>
                  </a:lnTo>
                  <a:lnTo>
                    <a:pt x="229" y="2"/>
                  </a:lnTo>
                  <a:lnTo>
                    <a:pt x="223" y="19"/>
                  </a:lnTo>
                  <a:lnTo>
                    <a:pt x="22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6272280" y="4703760"/>
              <a:ext cx="728640" cy="1263600"/>
            </a:xfrm>
            <a:custGeom>
              <a:avLst/>
              <a:gdLst/>
              <a:ahLst/>
              <a:rect l="l" t="t" r="r" b="b"/>
              <a:pathLst>
                <a:path w="459" h="796">
                  <a:moveTo>
                    <a:pt x="120" y="29"/>
                  </a:moveTo>
                  <a:lnTo>
                    <a:pt x="120" y="31"/>
                  </a:lnTo>
                  <a:lnTo>
                    <a:pt x="120" y="35"/>
                  </a:lnTo>
                  <a:lnTo>
                    <a:pt x="120" y="37"/>
                  </a:lnTo>
                  <a:lnTo>
                    <a:pt x="120" y="39"/>
                  </a:lnTo>
                  <a:lnTo>
                    <a:pt x="120" y="43"/>
                  </a:lnTo>
                  <a:lnTo>
                    <a:pt x="120" y="48"/>
                  </a:lnTo>
                  <a:lnTo>
                    <a:pt x="120" y="52"/>
                  </a:lnTo>
                  <a:lnTo>
                    <a:pt x="120" y="56"/>
                  </a:lnTo>
                  <a:lnTo>
                    <a:pt x="120" y="62"/>
                  </a:lnTo>
                  <a:lnTo>
                    <a:pt x="120" y="68"/>
                  </a:lnTo>
                  <a:lnTo>
                    <a:pt x="120" y="73"/>
                  </a:lnTo>
                  <a:lnTo>
                    <a:pt x="122" y="81"/>
                  </a:lnTo>
                  <a:lnTo>
                    <a:pt x="122" y="87"/>
                  </a:lnTo>
                  <a:lnTo>
                    <a:pt x="122" y="95"/>
                  </a:lnTo>
                  <a:lnTo>
                    <a:pt x="122" y="102"/>
                  </a:lnTo>
                  <a:lnTo>
                    <a:pt x="122" y="110"/>
                  </a:lnTo>
                  <a:lnTo>
                    <a:pt x="122" y="120"/>
                  </a:lnTo>
                  <a:lnTo>
                    <a:pt x="122" y="127"/>
                  </a:lnTo>
                  <a:lnTo>
                    <a:pt x="122" y="137"/>
                  </a:lnTo>
                  <a:lnTo>
                    <a:pt x="122" y="145"/>
                  </a:lnTo>
                  <a:lnTo>
                    <a:pt x="122" y="154"/>
                  </a:lnTo>
                  <a:lnTo>
                    <a:pt x="124" y="164"/>
                  </a:lnTo>
                  <a:lnTo>
                    <a:pt x="124" y="174"/>
                  </a:lnTo>
                  <a:lnTo>
                    <a:pt x="124" y="183"/>
                  </a:lnTo>
                  <a:lnTo>
                    <a:pt x="124" y="193"/>
                  </a:lnTo>
                  <a:lnTo>
                    <a:pt x="124" y="203"/>
                  </a:lnTo>
                  <a:lnTo>
                    <a:pt x="124" y="214"/>
                  </a:lnTo>
                  <a:lnTo>
                    <a:pt x="124" y="224"/>
                  </a:lnTo>
                  <a:lnTo>
                    <a:pt x="126" y="233"/>
                  </a:lnTo>
                  <a:lnTo>
                    <a:pt x="126" y="245"/>
                  </a:lnTo>
                  <a:lnTo>
                    <a:pt x="126" y="255"/>
                  </a:lnTo>
                  <a:lnTo>
                    <a:pt x="126" y="264"/>
                  </a:lnTo>
                  <a:lnTo>
                    <a:pt x="126" y="276"/>
                  </a:lnTo>
                  <a:lnTo>
                    <a:pt x="128" y="285"/>
                  </a:lnTo>
                  <a:lnTo>
                    <a:pt x="128" y="295"/>
                  </a:lnTo>
                  <a:lnTo>
                    <a:pt x="128" y="305"/>
                  </a:lnTo>
                  <a:lnTo>
                    <a:pt x="128" y="314"/>
                  </a:lnTo>
                  <a:lnTo>
                    <a:pt x="128" y="326"/>
                  </a:lnTo>
                  <a:lnTo>
                    <a:pt x="128" y="336"/>
                  </a:lnTo>
                  <a:lnTo>
                    <a:pt x="128" y="345"/>
                  </a:lnTo>
                  <a:lnTo>
                    <a:pt x="128" y="353"/>
                  </a:lnTo>
                  <a:lnTo>
                    <a:pt x="128" y="363"/>
                  </a:lnTo>
                  <a:lnTo>
                    <a:pt x="128" y="372"/>
                  </a:lnTo>
                  <a:lnTo>
                    <a:pt x="128" y="382"/>
                  </a:lnTo>
                  <a:lnTo>
                    <a:pt x="128" y="390"/>
                  </a:lnTo>
                  <a:lnTo>
                    <a:pt x="130" y="399"/>
                  </a:lnTo>
                  <a:lnTo>
                    <a:pt x="130" y="407"/>
                  </a:lnTo>
                  <a:lnTo>
                    <a:pt x="130" y="415"/>
                  </a:lnTo>
                  <a:lnTo>
                    <a:pt x="130" y="420"/>
                  </a:lnTo>
                  <a:lnTo>
                    <a:pt x="130" y="428"/>
                  </a:lnTo>
                  <a:lnTo>
                    <a:pt x="130" y="436"/>
                  </a:lnTo>
                  <a:lnTo>
                    <a:pt x="130" y="442"/>
                  </a:lnTo>
                  <a:lnTo>
                    <a:pt x="130" y="449"/>
                  </a:lnTo>
                  <a:lnTo>
                    <a:pt x="130" y="455"/>
                  </a:lnTo>
                  <a:lnTo>
                    <a:pt x="128" y="459"/>
                  </a:lnTo>
                  <a:lnTo>
                    <a:pt x="128" y="465"/>
                  </a:lnTo>
                  <a:lnTo>
                    <a:pt x="128" y="469"/>
                  </a:lnTo>
                  <a:lnTo>
                    <a:pt x="128" y="472"/>
                  </a:lnTo>
                  <a:lnTo>
                    <a:pt x="128" y="480"/>
                  </a:lnTo>
                  <a:lnTo>
                    <a:pt x="128" y="484"/>
                  </a:lnTo>
                  <a:lnTo>
                    <a:pt x="126" y="490"/>
                  </a:lnTo>
                  <a:lnTo>
                    <a:pt x="124" y="496"/>
                  </a:lnTo>
                  <a:lnTo>
                    <a:pt x="122" y="503"/>
                  </a:lnTo>
                  <a:lnTo>
                    <a:pt x="122" y="511"/>
                  </a:lnTo>
                  <a:lnTo>
                    <a:pt x="118" y="519"/>
                  </a:lnTo>
                  <a:lnTo>
                    <a:pt x="118" y="526"/>
                  </a:lnTo>
                  <a:lnTo>
                    <a:pt x="116" y="530"/>
                  </a:lnTo>
                  <a:lnTo>
                    <a:pt x="116" y="534"/>
                  </a:lnTo>
                  <a:lnTo>
                    <a:pt x="114" y="538"/>
                  </a:lnTo>
                  <a:lnTo>
                    <a:pt x="114" y="542"/>
                  </a:lnTo>
                  <a:lnTo>
                    <a:pt x="112" y="550"/>
                  </a:lnTo>
                  <a:lnTo>
                    <a:pt x="110" y="555"/>
                  </a:lnTo>
                  <a:lnTo>
                    <a:pt x="108" y="563"/>
                  </a:lnTo>
                  <a:lnTo>
                    <a:pt x="106" y="571"/>
                  </a:lnTo>
                  <a:lnTo>
                    <a:pt x="103" y="579"/>
                  </a:lnTo>
                  <a:lnTo>
                    <a:pt x="101" y="584"/>
                  </a:lnTo>
                  <a:lnTo>
                    <a:pt x="99" y="590"/>
                  </a:lnTo>
                  <a:lnTo>
                    <a:pt x="95" y="596"/>
                  </a:lnTo>
                  <a:lnTo>
                    <a:pt x="91" y="600"/>
                  </a:lnTo>
                  <a:lnTo>
                    <a:pt x="85" y="606"/>
                  </a:lnTo>
                  <a:lnTo>
                    <a:pt x="81" y="611"/>
                  </a:lnTo>
                  <a:lnTo>
                    <a:pt x="76" y="617"/>
                  </a:lnTo>
                  <a:lnTo>
                    <a:pt x="70" y="623"/>
                  </a:lnTo>
                  <a:lnTo>
                    <a:pt x="64" y="629"/>
                  </a:lnTo>
                  <a:lnTo>
                    <a:pt x="58" y="634"/>
                  </a:lnTo>
                  <a:lnTo>
                    <a:pt x="53" y="640"/>
                  </a:lnTo>
                  <a:lnTo>
                    <a:pt x="47" y="644"/>
                  </a:lnTo>
                  <a:lnTo>
                    <a:pt x="41" y="650"/>
                  </a:lnTo>
                  <a:lnTo>
                    <a:pt x="37" y="656"/>
                  </a:lnTo>
                  <a:lnTo>
                    <a:pt x="33" y="661"/>
                  </a:lnTo>
                  <a:lnTo>
                    <a:pt x="29" y="665"/>
                  </a:lnTo>
                  <a:lnTo>
                    <a:pt x="29" y="669"/>
                  </a:lnTo>
                  <a:lnTo>
                    <a:pt x="27" y="673"/>
                  </a:lnTo>
                  <a:lnTo>
                    <a:pt x="29" y="679"/>
                  </a:lnTo>
                  <a:lnTo>
                    <a:pt x="31" y="683"/>
                  </a:lnTo>
                  <a:lnTo>
                    <a:pt x="37" y="688"/>
                  </a:lnTo>
                  <a:lnTo>
                    <a:pt x="41" y="690"/>
                  </a:lnTo>
                  <a:lnTo>
                    <a:pt x="45" y="694"/>
                  </a:lnTo>
                  <a:lnTo>
                    <a:pt x="49" y="696"/>
                  </a:lnTo>
                  <a:lnTo>
                    <a:pt x="54" y="698"/>
                  </a:lnTo>
                  <a:lnTo>
                    <a:pt x="58" y="698"/>
                  </a:lnTo>
                  <a:lnTo>
                    <a:pt x="62" y="700"/>
                  </a:lnTo>
                  <a:lnTo>
                    <a:pt x="68" y="702"/>
                  </a:lnTo>
                  <a:lnTo>
                    <a:pt x="72" y="702"/>
                  </a:lnTo>
                  <a:lnTo>
                    <a:pt x="78" y="702"/>
                  </a:lnTo>
                  <a:lnTo>
                    <a:pt x="81" y="702"/>
                  </a:lnTo>
                  <a:lnTo>
                    <a:pt x="87" y="700"/>
                  </a:lnTo>
                  <a:lnTo>
                    <a:pt x="91" y="700"/>
                  </a:lnTo>
                  <a:lnTo>
                    <a:pt x="97" y="696"/>
                  </a:lnTo>
                  <a:lnTo>
                    <a:pt x="101" y="694"/>
                  </a:lnTo>
                  <a:lnTo>
                    <a:pt x="105" y="692"/>
                  </a:lnTo>
                  <a:lnTo>
                    <a:pt x="110" y="690"/>
                  </a:lnTo>
                  <a:lnTo>
                    <a:pt x="116" y="687"/>
                  </a:lnTo>
                  <a:lnTo>
                    <a:pt x="122" y="683"/>
                  </a:lnTo>
                  <a:lnTo>
                    <a:pt x="126" y="679"/>
                  </a:lnTo>
                  <a:lnTo>
                    <a:pt x="132" y="677"/>
                  </a:lnTo>
                  <a:lnTo>
                    <a:pt x="135" y="675"/>
                  </a:lnTo>
                  <a:lnTo>
                    <a:pt x="139" y="671"/>
                  </a:lnTo>
                  <a:lnTo>
                    <a:pt x="143" y="669"/>
                  </a:lnTo>
                  <a:lnTo>
                    <a:pt x="147" y="667"/>
                  </a:lnTo>
                  <a:lnTo>
                    <a:pt x="151" y="663"/>
                  </a:lnTo>
                  <a:lnTo>
                    <a:pt x="153" y="663"/>
                  </a:lnTo>
                  <a:lnTo>
                    <a:pt x="153" y="663"/>
                  </a:lnTo>
                  <a:lnTo>
                    <a:pt x="155" y="667"/>
                  </a:lnTo>
                  <a:lnTo>
                    <a:pt x="159" y="673"/>
                  </a:lnTo>
                  <a:lnTo>
                    <a:pt x="162" y="681"/>
                  </a:lnTo>
                  <a:lnTo>
                    <a:pt x="164" y="685"/>
                  </a:lnTo>
                  <a:lnTo>
                    <a:pt x="166" y="688"/>
                  </a:lnTo>
                  <a:lnTo>
                    <a:pt x="170" y="692"/>
                  </a:lnTo>
                  <a:lnTo>
                    <a:pt x="172" y="698"/>
                  </a:lnTo>
                  <a:lnTo>
                    <a:pt x="176" y="702"/>
                  </a:lnTo>
                  <a:lnTo>
                    <a:pt x="180" y="706"/>
                  </a:lnTo>
                  <a:lnTo>
                    <a:pt x="182" y="712"/>
                  </a:lnTo>
                  <a:lnTo>
                    <a:pt x="186" y="717"/>
                  </a:lnTo>
                  <a:lnTo>
                    <a:pt x="189" y="721"/>
                  </a:lnTo>
                  <a:lnTo>
                    <a:pt x="193" y="725"/>
                  </a:lnTo>
                  <a:lnTo>
                    <a:pt x="197" y="729"/>
                  </a:lnTo>
                  <a:lnTo>
                    <a:pt x="201" y="735"/>
                  </a:lnTo>
                  <a:lnTo>
                    <a:pt x="205" y="739"/>
                  </a:lnTo>
                  <a:lnTo>
                    <a:pt x="209" y="742"/>
                  </a:lnTo>
                  <a:lnTo>
                    <a:pt x="212" y="746"/>
                  </a:lnTo>
                  <a:lnTo>
                    <a:pt x="216" y="750"/>
                  </a:lnTo>
                  <a:lnTo>
                    <a:pt x="224" y="756"/>
                  </a:lnTo>
                  <a:lnTo>
                    <a:pt x="232" y="760"/>
                  </a:lnTo>
                  <a:lnTo>
                    <a:pt x="239" y="762"/>
                  </a:lnTo>
                  <a:lnTo>
                    <a:pt x="245" y="760"/>
                  </a:lnTo>
                  <a:lnTo>
                    <a:pt x="251" y="758"/>
                  </a:lnTo>
                  <a:lnTo>
                    <a:pt x="257" y="754"/>
                  </a:lnTo>
                  <a:lnTo>
                    <a:pt x="261" y="748"/>
                  </a:lnTo>
                  <a:lnTo>
                    <a:pt x="265" y="744"/>
                  </a:lnTo>
                  <a:lnTo>
                    <a:pt x="268" y="739"/>
                  </a:lnTo>
                  <a:lnTo>
                    <a:pt x="272" y="735"/>
                  </a:lnTo>
                  <a:lnTo>
                    <a:pt x="274" y="729"/>
                  </a:lnTo>
                  <a:lnTo>
                    <a:pt x="276" y="723"/>
                  </a:lnTo>
                  <a:lnTo>
                    <a:pt x="276" y="717"/>
                  </a:lnTo>
                  <a:lnTo>
                    <a:pt x="278" y="713"/>
                  </a:lnTo>
                  <a:lnTo>
                    <a:pt x="278" y="710"/>
                  </a:lnTo>
                  <a:lnTo>
                    <a:pt x="280" y="706"/>
                  </a:lnTo>
                  <a:lnTo>
                    <a:pt x="280" y="700"/>
                  </a:lnTo>
                  <a:lnTo>
                    <a:pt x="280" y="698"/>
                  </a:lnTo>
                  <a:lnTo>
                    <a:pt x="280" y="698"/>
                  </a:lnTo>
                  <a:lnTo>
                    <a:pt x="284" y="700"/>
                  </a:lnTo>
                  <a:lnTo>
                    <a:pt x="288" y="702"/>
                  </a:lnTo>
                  <a:lnTo>
                    <a:pt x="295" y="704"/>
                  </a:lnTo>
                  <a:lnTo>
                    <a:pt x="297" y="704"/>
                  </a:lnTo>
                  <a:lnTo>
                    <a:pt x="301" y="706"/>
                  </a:lnTo>
                  <a:lnTo>
                    <a:pt x="305" y="708"/>
                  </a:lnTo>
                  <a:lnTo>
                    <a:pt x="311" y="710"/>
                  </a:lnTo>
                  <a:lnTo>
                    <a:pt x="315" y="712"/>
                  </a:lnTo>
                  <a:lnTo>
                    <a:pt x="318" y="713"/>
                  </a:lnTo>
                  <a:lnTo>
                    <a:pt x="324" y="715"/>
                  </a:lnTo>
                  <a:lnTo>
                    <a:pt x="330" y="717"/>
                  </a:lnTo>
                  <a:lnTo>
                    <a:pt x="334" y="717"/>
                  </a:lnTo>
                  <a:lnTo>
                    <a:pt x="338" y="721"/>
                  </a:lnTo>
                  <a:lnTo>
                    <a:pt x="342" y="721"/>
                  </a:lnTo>
                  <a:lnTo>
                    <a:pt x="347" y="723"/>
                  </a:lnTo>
                  <a:lnTo>
                    <a:pt x="351" y="723"/>
                  </a:lnTo>
                  <a:lnTo>
                    <a:pt x="355" y="725"/>
                  </a:lnTo>
                  <a:lnTo>
                    <a:pt x="361" y="727"/>
                  </a:lnTo>
                  <a:lnTo>
                    <a:pt x="365" y="729"/>
                  </a:lnTo>
                  <a:lnTo>
                    <a:pt x="372" y="729"/>
                  </a:lnTo>
                  <a:lnTo>
                    <a:pt x="378" y="729"/>
                  </a:lnTo>
                  <a:lnTo>
                    <a:pt x="384" y="729"/>
                  </a:lnTo>
                  <a:lnTo>
                    <a:pt x="386" y="729"/>
                  </a:lnTo>
                  <a:lnTo>
                    <a:pt x="388" y="723"/>
                  </a:lnTo>
                  <a:lnTo>
                    <a:pt x="388" y="721"/>
                  </a:lnTo>
                  <a:lnTo>
                    <a:pt x="386" y="715"/>
                  </a:lnTo>
                  <a:lnTo>
                    <a:pt x="386" y="710"/>
                  </a:lnTo>
                  <a:lnTo>
                    <a:pt x="384" y="704"/>
                  </a:lnTo>
                  <a:lnTo>
                    <a:pt x="380" y="696"/>
                  </a:lnTo>
                  <a:lnTo>
                    <a:pt x="378" y="690"/>
                  </a:lnTo>
                  <a:lnTo>
                    <a:pt x="374" y="685"/>
                  </a:lnTo>
                  <a:lnTo>
                    <a:pt x="372" y="677"/>
                  </a:lnTo>
                  <a:lnTo>
                    <a:pt x="369" y="671"/>
                  </a:lnTo>
                  <a:lnTo>
                    <a:pt x="365" y="665"/>
                  </a:lnTo>
                  <a:lnTo>
                    <a:pt x="363" y="661"/>
                  </a:lnTo>
                  <a:lnTo>
                    <a:pt x="359" y="656"/>
                  </a:lnTo>
                  <a:lnTo>
                    <a:pt x="359" y="654"/>
                  </a:lnTo>
                  <a:lnTo>
                    <a:pt x="357" y="652"/>
                  </a:lnTo>
                  <a:lnTo>
                    <a:pt x="359" y="652"/>
                  </a:lnTo>
                  <a:lnTo>
                    <a:pt x="361" y="652"/>
                  </a:lnTo>
                  <a:lnTo>
                    <a:pt x="367" y="654"/>
                  </a:lnTo>
                  <a:lnTo>
                    <a:pt x="371" y="656"/>
                  </a:lnTo>
                  <a:lnTo>
                    <a:pt x="378" y="656"/>
                  </a:lnTo>
                  <a:lnTo>
                    <a:pt x="384" y="658"/>
                  </a:lnTo>
                  <a:lnTo>
                    <a:pt x="390" y="660"/>
                  </a:lnTo>
                  <a:lnTo>
                    <a:pt x="398" y="660"/>
                  </a:lnTo>
                  <a:lnTo>
                    <a:pt x="403" y="661"/>
                  </a:lnTo>
                  <a:lnTo>
                    <a:pt x="409" y="661"/>
                  </a:lnTo>
                  <a:lnTo>
                    <a:pt x="415" y="661"/>
                  </a:lnTo>
                  <a:lnTo>
                    <a:pt x="421" y="660"/>
                  </a:lnTo>
                  <a:lnTo>
                    <a:pt x="426" y="660"/>
                  </a:lnTo>
                  <a:lnTo>
                    <a:pt x="428" y="658"/>
                  </a:lnTo>
                  <a:lnTo>
                    <a:pt x="430" y="656"/>
                  </a:lnTo>
                  <a:lnTo>
                    <a:pt x="432" y="650"/>
                  </a:lnTo>
                  <a:lnTo>
                    <a:pt x="430" y="644"/>
                  </a:lnTo>
                  <a:lnTo>
                    <a:pt x="428" y="638"/>
                  </a:lnTo>
                  <a:lnTo>
                    <a:pt x="423" y="634"/>
                  </a:lnTo>
                  <a:lnTo>
                    <a:pt x="417" y="631"/>
                  </a:lnTo>
                  <a:lnTo>
                    <a:pt x="413" y="629"/>
                  </a:lnTo>
                  <a:lnTo>
                    <a:pt x="409" y="627"/>
                  </a:lnTo>
                  <a:lnTo>
                    <a:pt x="409" y="627"/>
                  </a:lnTo>
                  <a:lnTo>
                    <a:pt x="409" y="627"/>
                  </a:lnTo>
                  <a:lnTo>
                    <a:pt x="413" y="625"/>
                  </a:lnTo>
                  <a:lnTo>
                    <a:pt x="413" y="621"/>
                  </a:lnTo>
                  <a:lnTo>
                    <a:pt x="409" y="615"/>
                  </a:lnTo>
                  <a:lnTo>
                    <a:pt x="405" y="613"/>
                  </a:lnTo>
                  <a:lnTo>
                    <a:pt x="403" y="611"/>
                  </a:lnTo>
                  <a:lnTo>
                    <a:pt x="398" y="609"/>
                  </a:lnTo>
                  <a:lnTo>
                    <a:pt x="394" y="607"/>
                  </a:lnTo>
                  <a:lnTo>
                    <a:pt x="386" y="606"/>
                  </a:lnTo>
                  <a:lnTo>
                    <a:pt x="380" y="604"/>
                  </a:lnTo>
                  <a:lnTo>
                    <a:pt x="374" y="602"/>
                  </a:lnTo>
                  <a:lnTo>
                    <a:pt x="369" y="600"/>
                  </a:lnTo>
                  <a:lnTo>
                    <a:pt x="361" y="598"/>
                  </a:lnTo>
                  <a:lnTo>
                    <a:pt x="353" y="596"/>
                  </a:lnTo>
                  <a:lnTo>
                    <a:pt x="347" y="594"/>
                  </a:lnTo>
                  <a:lnTo>
                    <a:pt x="342" y="592"/>
                  </a:lnTo>
                  <a:lnTo>
                    <a:pt x="336" y="588"/>
                  </a:lnTo>
                  <a:lnTo>
                    <a:pt x="330" y="586"/>
                  </a:lnTo>
                  <a:lnTo>
                    <a:pt x="324" y="584"/>
                  </a:lnTo>
                  <a:lnTo>
                    <a:pt x="322" y="582"/>
                  </a:lnTo>
                  <a:lnTo>
                    <a:pt x="318" y="580"/>
                  </a:lnTo>
                  <a:lnTo>
                    <a:pt x="315" y="575"/>
                  </a:lnTo>
                  <a:lnTo>
                    <a:pt x="311" y="571"/>
                  </a:lnTo>
                  <a:lnTo>
                    <a:pt x="307" y="565"/>
                  </a:lnTo>
                  <a:lnTo>
                    <a:pt x="303" y="557"/>
                  </a:lnTo>
                  <a:lnTo>
                    <a:pt x="299" y="552"/>
                  </a:lnTo>
                  <a:lnTo>
                    <a:pt x="297" y="546"/>
                  </a:lnTo>
                  <a:lnTo>
                    <a:pt x="297" y="544"/>
                  </a:lnTo>
                  <a:lnTo>
                    <a:pt x="295" y="538"/>
                  </a:lnTo>
                  <a:lnTo>
                    <a:pt x="293" y="536"/>
                  </a:lnTo>
                  <a:lnTo>
                    <a:pt x="292" y="530"/>
                  </a:lnTo>
                  <a:lnTo>
                    <a:pt x="290" y="526"/>
                  </a:lnTo>
                  <a:lnTo>
                    <a:pt x="290" y="523"/>
                  </a:lnTo>
                  <a:lnTo>
                    <a:pt x="288" y="519"/>
                  </a:lnTo>
                  <a:lnTo>
                    <a:pt x="286" y="513"/>
                  </a:lnTo>
                  <a:lnTo>
                    <a:pt x="284" y="509"/>
                  </a:lnTo>
                  <a:lnTo>
                    <a:pt x="282" y="505"/>
                  </a:lnTo>
                  <a:lnTo>
                    <a:pt x="282" y="501"/>
                  </a:lnTo>
                  <a:lnTo>
                    <a:pt x="280" y="494"/>
                  </a:lnTo>
                  <a:lnTo>
                    <a:pt x="278" y="486"/>
                  </a:lnTo>
                  <a:lnTo>
                    <a:pt x="276" y="480"/>
                  </a:lnTo>
                  <a:lnTo>
                    <a:pt x="276" y="474"/>
                  </a:lnTo>
                  <a:lnTo>
                    <a:pt x="276" y="471"/>
                  </a:lnTo>
                  <a:lnTo>
                    <a:pt x="274" y="465"/>
                  </a:lnTo>
                  <a:lnTo>
                    <a:pt x="274" y="461"/>
                  </a:lnTo>
                  <a:lnTo>
                    <a:pt x="274" y="455"/>
                  </a:lnTo>
                  <a:lnTo>
                    <a:pt x="274" y="447"/>
                  </a:lnTo>
                  <a:lnTo>
                    <a:pt x="274" y="442"/>
                  </a:lnTo>
                  <a:lnTo>
                    <a:pt x="274" y="438"/>
                  </a:lnTo>
                  <a:lnTo>
                    <a:pt x="274" y="434"/>
                  </a:lnTo>
                  <a:lnTo>
                    <a:pt x="274" y="428"/>
                  </a:lnTo>
                  <a:lnTo>
                    <a:pt x="274" y="426"/>
                  </a:lnTo>
                  <a:lnTo>
                    <a:pt x="274" y="420"/>
                  </a:lnTo>
                  <a:lnTo>
                    <a:pt x="274" y="417"/>
                  </a:lnTo>
                  <a:lnTo>
                    <a:pt x="274" y="411"/>
                  </a:lnTo>
                  <a:lnTo>
                    <a:pt x="274" y="407"/>
                  </a:lnTo>
                  <a:lnTo>
                    <a:pt x="274" y="401"/>
                  </a:lnTo>
                  <a:lnTo>
                    <a:pt x="274" y="397"/>
                  </a:lnTo>
                  <a:lnTo>
                    <a:pt x="274" y="392"/>
                  </a:lnTo>
                  <a:lnTo>
                    <a:pt x="274" y="388"/>
                  </a:lnTo>
                  <a:lnTo>
                    <a:pt x="274" y="382"/>
                  </a:lnTo>
                  <a:lnTo>
                    <a:pt x="274" y="378"/>
                  </a:lnTo>
                  <a:lnTo>
                    <a:pt x="274" y="372"/>
                  </a:lnTo>
                  <a:lnTo>
                    <a:pt x="276" y="366"/>
                  </a:lnTo>
                  <a:lnTo>
                    <a:pt x="276" y="361"/>
                  </a:lnTo>
                  <a:lnTo>
                    <a:pt x="276" y="357"/>
                  </a:lnTo>
                  <a:lnTo>
                    <a:pt x="276" y="351"/>
                  </a:lnTo>
                  <a:lnTo>
                    <a:pt x="276" y="347"/>
                  </a:lnTo>
                  <a:lnTo>
                    <a:pt x="276" y="341"/>
                  </a:lnTo>
                  <a:lnTo>
                    <a:pt x="276" y="338"/>
                  </a:lnTo>
                  <a:lnTo>
                    <a:pt x="276" y="332"/>
                  </a:lnTo>
                  <a:lnTo>
                    <a:pt x="276" y="326"/>
                  </a:lnTo>
                  <a:lnTo>
                    <a:pt x="276" y="320"/>
                  </a:lnTo>
                  <a:lnTo>
                    <a:pt x="276" y="316"/>
                  </a:lnTo>
                  <a:lnTo>
                    <a:pt x="276" y="311"/>
                  </a:lnTo>
                  <a:lnTo>
                    <a:pt x="278" y="307"/>
                  </a:lnTo>
                  <a:lnTo>
                    <a:pt x="278" y="301"/>
                  </a:lnTo>
                  <a:lnTo>
                    <a:pt x="278" y="297"/>
                  </a:lnTo>
                  <a:lnTo>
                    <a:pt x="278" y="291"/>
                  </a:lnTo>
                  <a:lnTo>
                    <a:pt x="278" y="287"/>
                  </a:lnTo>
                  <a:lnTo>
                    <a:pt x="278" y="284"/>
                  </a:lnTo>
                  <a:lnTo>
                    <a:pt x="278" y="278"/>
                  </a:lnTo>
                  <a:lnTo>
                    <a:pt x="278" y="276"/>
                  </a:lnTo>
                  <a:lnTo>
                    <a:pt x="278" y="272"/>
                  </a:lnTo>
                  <a:lnTo>
                    <a:pt x="278" y="266"/>
                  </a:lnTo>
                  <a:lnTo>
                    <a:pt x="278" y="262"/>
                  </a:lnTo>
                  <a:lnTo>
                    <a:pt x="278" y="258"/>
                  </a:lnTo>
                  <a:lnTo>
                    <a:pt x="278" y="257"/>
                  </a:lnTo>
                  <a:lnTo>
                    <a:pt x="278" y="249"/>
                  </a:lnTo>
                  <a:lnTo>
                    <a:pt x="280" y="243"/>
                  </a:lnTo>
                  <a:lnTo>
                    <a:pt x="280" y="239"/>
                  </a:lnTo>
                  <a:lnTo>
                    <a:pt x="280" y="235"/>
                  </a:lnTo>
                  <a:lnTo>
                    <a:pt x="280" y="233"/>
                  </a:lnTo>
                  <a:lnTo>
                    <a:pt x="280" y="231"/>
                  </a:lnTo>
                  <a:lnTo>
                    <a:pt x="280" y="228"/>
                  </a:lnTo>
                  <a:lnTo>
                    <a:pt x="280" y="224"/>
                  </a:lnTo>
                  <a:lnTo>
                    <a:pt x="280" y="220"/>
                  </a:lnTo>
                  <a:lnTo>
                    <a:pt x="280" y="216"/>
                  </a:lnTo>
                  <a:lnTo>
                    <a:pt x="280" y="212"/>
                  </a:lnTo>
                  <a:lnTo>
                    <a:pt x="282" y="208"/>
                  </a:lnTo>
                  <a:lnTo>
                    <a:pt x="282" y="203"/>
                  </a:lnTo>
                  <a:lnTo>
                    <a:pt x="282" y="199"/>
                  </a:lnTo>
                  <a:lnTo>
                    <a:pt x="282" y="195"/>
                  </a:lnTo>
                  <a:lnTo>
                    <a:pt x="282" y="189"/>
                  </a:lnTo>
                  <a:lnTo>
                    <a:pt x="282" y="185"/>
                  </a:lnTo>
                  <a:lnTo>
                    <a:pt x="282" y="181"/>
                  </a:lnTo>
                  <a:lnTo>
                    <a:pt x="280" y="177"/>
                  </a:lnTo>
                  <a:lnTo>
                    <a:pt x="280" y="172"/>
                  </a:lnTo>
                  <a:lnTo>
                    <a:pt x="280" y="168"/>
                  </a:lnTo>
                  <a:lnTo>
                    <a:pt x="280" y="166"/>
                  </a:lnTo>
                  <a:lnTo>
                    <a:pt x="278" y="160"/>
                  </a:lnTo>
                  <a:lnTo>
                    <a:pt x="278" y="154"/>
                  </a:lnTo>
                  <a:lnTo>
                    <a:pt x="278" y="149"/>
                  </a:lnTo>
                  <a:lnTo>
                    <a:pt x="278" y="145"/>
                  </a:lnTo>
                  <a:lnTo>
                    <a:pt x="276" y="141"/>
                  </a:lnTo>
                  <a:lnTo>
                    <a:pt x="276" y="135"/>
                  </a:lnTo>
                  <a:lnTo>
                    <a:pt x="274" y="129"/>
                  </a:lnTo>
                  <a:lnTo>
                    <a:pt x="274" y="123"/>
                  </a:lnTo>
                  <a:lnTo>
                    <a:pt x="274" y="116"/>
                  </a:lnTo>
                  <a:lnTo>
                    <a:pt x="274" y="110"/>
                  </a:lnTo>
                  <a:lnTo>
                    <a:pt x="272" y="104"/>
                  </a:lnTo>
                  <a:lnTo>
                    <a:pt x="272" y="97"/>
                  </a:lnTo>
                  <a:lnTo>
                    <a:pt x="270" y="91"/>
                  </a:lnTo>
                  <a:lnTo>
                    <a:pt x="270" y="85"/>
                  </a:lnTo>
                  <a:lnTo>
                    <a:pt x="268" y="77"/>
                  </a:lnTo>
                  <a:lnTo>
                    <a:pt x="268" y="70"/>
                  </a:lnTo>
                  <a:lnTo>
                    <a:pt x="268" y="64"/>
                  </a:lnTo>
                  <a:lnTo>
                    <a:pt x="268" y="58"/>
                  </a:lnTo>
                  <a:lnTo>
                    <a:pt x="266" y="52"/>
                  </a:lnTo>
                  <a:lnTo>
                    <a:pt x="266" y="46"/>
                  </a:lnTo>
                  <a:lnTo>
                    <a:pt x="266" y="41"/>
                  </a:lnTo>
                  <a:lnTo>
                    <a:pt x="266" y="37"/>
                  </a:lnTo>
                  <a:lnTo>
                    <a:pt x="265" y="31"/>
                  </a:lnTo>
                  <a:lnTo>
                    <a:pt x="265" y="27"/>
                  </a:lnTo>
                  <a:lnTo>
                    <a:pt x="265" y="23"/>
                  </a:lnTo>
                  <a:lnTo>
                    <a:pt x="265" y="21"/>
                  </a:lnTo>
                  <a:lnTo>
                    <a:pt x="265" y="17"/>
                  </a:lnTo>
                  <a:lnTo>
                    <a:pt x="265" y="16"/>
                  </a:lnTo>
                  <a:lnTo>
                    <a:pt x="292" y="0"/>
                  </a:lnTo>
                  <a:lnTo>
                    <a:pt x="292" y="0"/>
                  </a:lnTo>
                  <a:lnTo>
                    <a:pt x="292" y="6"/>
                  </a:lnTo>
                  <a:lnTo>
                    <a:pt x="292" y="8"/>
                  </a:lnTo>
                  <a:lnTo>
                    <a:pt x="292" y="12"/>
                  </a:lnTo>
                  <a:lnTo>
                    <a:pt x="292" y="16"/>
                  </a:lnTo>
                  <a:lnTo>
                    <a:pt x="292" y="21"/>
                  </a:lnTo>
                  <a:lnTo>
                    <a:pt x="292" y="25"/>
                  </a:lnTo>
                  <a:lnTo>
                    <a:pt x="292" y="31"/>
                  </a:lnTo>
                  <a:lnTo>
                    <a:pt x="292" y="37"/>
                  </a:lnTo>
                  <a:lnTo>
                    <a:pt x="292" y="44"/>
                  </a:lnTo>
                  <a:lnTo>
                    <a:pt x="292" y="50"/>
                  </a:lnTo>
                  <a:lnTo>
                    <a:pt x="293" y="56"/>
                  </a:lnTo>
                  <a:lnTo>
                    <a:pt x="293" y="64"/>
                  </a:lnTo>
                  <a:lnTo>
                    <a:pt x="293" y="71"/>
                  </a:lnTo>
                  <a:lnTo>
                    <a:pt x="293" y="77"/>
                  </a:lnTo>
                  <a:lnTo>
                    <a:pt x="293" y="85"/>
                  </a:lnTo>
                  <a:lnTo>
                    <a:pt x="293" y="93"/>
                  </a:lnTo>
                  <a:lnTo>
                    <a:pt x="293" y="98"/>
                  </a:lnTo>
                  <a:lnTo>
                    <a:pt x="293" y="106"/>
                  </a:lnTo>
                  <a:lnTo>
                    <a:pt x="295" y="112"/>
                  </a:lnTo>
                  <a:lnTo>
                    <a:pt x="295" y="118"/>
                  </a:lnTo>
                  <a:lnTo>
                    <a:pt x="295" y="125"/>
                  </a:lnTo>
                  <a:lnTo>
                    <a:pt x="295" y="129"/>
                  </a:lnTo>
                  <a:lnTo>
                    <a:pt x="295" y="135"/>
                  </a:lnTo>
                  <a:lnTo>
                    <a:pt x="295" y="141"/>
                  </a:lnTo>
                  <a:lnTo>
                    <a:pt x="295" y="147"/>
                  </a:lnTo>
                  <a:lnTo>
                    <a:pt x="295" y="149"/>
                  </a:lnTo>
                  <a:lnTo>
                    <a:pt x="297" y="152"/>
                  </a:lnTo>
                  <a:lnTo>
                    <a:pt x="297" y="156"/>
                  </a:lnTo>
                  <a:lnTo>
                    <a:pt x="297" y="158"/>
                  </a:lnTo>
                  <a:lnTo>
                    <a:pt x="299" y="162"/>
                  </a:lnTo>
                  <a:lnTo>
                    <a:pt x="299" y="166"/>
                  </a:lnTo>
                  <a:lnTo>
                    <a:pt x="299" y="170"/>
                  </a:lnTo>
                  <a:lnTo>
                    <a:pt x="301" y="174"/>
                  </a:lnTo>
                  <a:lnTo>
                    <a:pt x="303" y="179"/>
                  </a:lnTo>
                  <a:lnTo>
                    <a:pt x="303" y="185"/>
                  </a:lnTo>
                  <a:lnTo>
                    <a:pt x="303" y="189"/>
                  </a:lnTo>
                  <a:lnTo>
                    <a:pt x="305" y="195"/>
                  </a:lnTo>
                  <a:lnTo>
                    <a:pt x="305" y="201"/>
                  </a:lnTo>
                  <a:lnTo>
                    <a:pt x="305" y="206"/>
                  </a:lnTo>
                  <a:lnTo>
                    <a:pt x="305" y="210"/>
                  </a:lnTo>
                  <a:lnTo>
                    <a:pt x="305" y="216"/>
                  </a:lnTo>
                  <a:lnTo>
                    <a:pt x="305" y="222"/>
                  </a:lnTo>
                  <a:lnTo>
                    <a:pt x="305" y="228"/>
                  </a:lnTo>
                  <a:lnTo>
                    <a:pt x="305" y="231"/>
                  </a:lnTo>
                  <a:lnTo>
                    <a:pt x="305" y="237"/>
                  </a:lnTo>
                  <a:lnTo>
                    <a:pt x="303" y="239"/>
                  </a:lnTo>
                  <a:lnTo>
                    <a:pt x="303" y="243"/>
                  </a:lnTo>
                  <a:lnTo>
                    <a:pt x="301" y="247"/>
                  </a:lnTo>
                  <a:lnTo>
                    <a:pt x="301" y="253"/>
                  </a:lnTo>
                  <a:lnTo>
                    <a:pt x="301" y="258"/>
                  </a:lnTo>
                  <a:lnTo>
                    <a:pt x="299" y="266"/>
                  </a:lnTo>
                  <a:lnTo>
                    <a:pt x="299" y="270"/>
                  </a:lnTo>
                  <a:lnTo>
                    <a:pt x="299" y="274"/>
                  </a:lnTo>
                  <a:lnTo>
                    <a:pt x="299" y="278"/>
                  </a:lnTo>
                  <a:lnTo>
                    <a:pt x="299" y="282"/>
                  </a:lnTo>
                  <a:lnTo>
                    <a:pt x="299" y="285"/>
                  </a:lnTo>
                  <a:lnTo>
                    <a:pt x="299" y="289"/>
                  </a:lnTo>
                  <a:lnTo>
                    <a:pt x="299" y="295"/>
                  </a:lnTo>
                  <a:lnTo>
                    <a:pt x="299" y="299"/>
                  </a:lnTo>
                  <a:lnTo>
                    <a:pt x="297" y="303"/>
                  </a:lnTo>
                  <a:lnTo>
                    <a:pt x="297" y="309"/>
                  </a:lnTo>
                  <a:lnTo>
                    <a:pt x="297" y="314"/>
                  </a:lnTo>
                  <a:lnTo>
                    <a:pt x="297" y="318"/>
                  </a:lnTo>
                  <a:lnTo>
                    <a:pt x="297" y="322"/>
                  </a:lnTo>
                  <a:lnTo>
                    <a:pt x="297" y="328"/>
                  </a:lnTo>
                  <a:lnTo>
                    <a:pt x="297" y="334"/>
                  </a:lnTo>
                  <a:lnTo>
                    <a:pt x="297" y="339"/>
                  </a:lnTo>
                  <a:lnTo>
                    <a:pt x="297" y="343"/>
                  </a:lnTo>
                  <a:lnTo>
                    <a:pt x="297" y="349"/>
                  </a:lnTo>
                  <a:lnTo>
                    <a:pt x="297" y="355"/>
                  </a:lnTo>
                  <a:lnTo>
                    <a:pt x="297" y="361"/>
                  </a:lnTo>
                  <a:lnTo>
                    <a:pt x="297" y="365"/>
                  </a:lnTo>
                  <a:lnTo>
                    <a:pt x="297" y="370"/>
                  </a:lnTo>
                  <a:lnTo>
                    <a:pt x="297" y="374"/>
                  </a:lnTo>
                  <a:lnTo>
                    <a:pt x="297" y="380"/>
                  </a:lnTo>
                  <a:lnTo>
                    <a:pt x="295" y="386"/>
                  </a:lnTo>
                  <a:lnTo>
                    <a:pt x="295" y="390"/>
                  </a:lnTo>
                  <a:lnTo>
                    <a:pt x="295" y="395"/>
                  </a:lnTo>
                  <a:lnTo>
                    <a:pt x="295" y="401"/>
                  </a:lnTo>
                  <a:lnTo>
                    <a:pt x="295" y="405"/>
                  </a:lnTo>
                  <a:lnTo>
                    <a:pt x="295" y="411"/>
                  </a:lnTo>
                  <a:lnTo>
                    <a:pt x="295" y="415"/>
                  </a:lnTo>
                  <a:lnTo>
                    <a:pt x="295" y="420"/>
                  </a:lnTo>
                  <a:lnTo>
                    <a:pt x="295" y="424"/>
                  </a:lnTo>
                  <a:lnTo>
                    <a:pt x="295" y="428"/>
                  </a:lnTo>
                  <a:lnTo>
                    <a:pt x="295" y="434"/>
                  </a:lnTo>
                  <a:lnTo>
                    <a:pt x="295" y="438"/>
                  </a:lnTo>
                  <a:lnTo>
                    <a:pt x="295" y="445"/>
                  </a:lnTo>
                  <a:lnTo>
                    <a:pt x="295" y="453"/>
                  </a:lnTo>
                  <a:lnTo>
                    <a:pt x="295" y="459"/>
                  </a:lnTo>
                  <a:lnTo>
                    <a:pt x="295" y="467"/>
                  </a:lnTo>
                  <a:lnTo>
                    <a:pt x="295" y="472"/>
                  </a:lnTo>
                  <a:lnTo>
                    <a:pt x="295" y="476"/>
                  </a:lnTo>
                  <a:lnTo>
                    <a:pt x="295" y="480"/>
                  </a:lnTo>
                  <a:lnTo>
                    <a:pt x="297" y="484"/>
                  </a:lnTo>
                  <a:lnTo>
                    <a:pt x="297" y="488"/>
                  </a:lnTo>
                  <a:lnTo>
                    <a:pt x="297" y="494"/>
                  </a:lnTo>
                  <a:lnTo>
                    <a:pt x="299" y="499"/>
                  </a:lnTo>
                  <a:lnTo>
                    <a:pt x="303" y="505"/>
                  </a:lnTo>
                  <a:lnTo>
                    <a:pt x="305" y="513"/>
                  </a:lnTo>
                  <a:lnTo>
                    <a:pt x="307" y="521"/>
                  </a:lnTo>
                  <a:lnTo>
                    <a:pt x="309" y="526"/>
                  </a:lnTo>
                  <a:lnTo>
                    <a:pt x="313" y="534"/>
                  </a:lnTo>
                  <a:lnTo>
                    <a:pt x="315" y="542"/>
                  </a:lnTo>
                  <a:lnTo>
                    <a:pt x="318" y="548"/>
                  </a:lnTo>
                  <a:lnTo>
                    <a:pt x="320" y="553"/>
                  </a:lnTo>
                  <a:lnTo>
                    <a:pt x="324" y="559"/>
                  </a:lnTo>
                  <a:lnTo>
                    <a:pt x="326" y="563"/>
                  </a:lnTo>
                  <a:lnTo>
                    <a:pt x="330" y="567"/>
                  </a:lnTo>
                  <a:lnTo>
                    <a:pt x="332" y="571"/>
                  </a:lnTo>
                  <a:lnTo>
                    <a:pt x="334" y="573"/>
                  </a:lnTo>
                  <a:lnTo>
                    <a:pt x="336" y="575"/>
                  </a:lnTo>
                  <a:lnTo>
                    <a:pt x="342" y="575"/>
                  </a:lnTo>
                  <a:lnTo>
                    <a:pt x="345" y="579"/>
                  </a:lnTo>
                  <a:lnTo>
                    <a:pt x="353" y="580"/>
                  </a:lnTo>
                  <a:lnTo>
                    <a:pt x="359" y="582"/>
                  </a:lnTo>
                  <a:lnTo>
                    <a:pt x="367" y="584"/>
                  </a:lnTo>
                  <a:lnTo>
                    <a:pt x="371" y="584"/>
                  </a:lnTo>
                  <a:lnTo>
                    <a:pt x="374" y="586"/>
                  </a:lnTo>
                  <a:lnTo>
                    <a:pt x="380" y="586"/>
                  </a:lnTo>
                  <a:lnTo>
                    <a:pt x="384" y="588"/>
                  </a:lnTo>
                  <a:lnTo>
                    <a:pt x="388" y="590"/>
                  </a:lnTo>
                  <a:lnTo>
                    <a:pt x="392" y="592"/>
                  </a:lnTo>
                  <a:lnTo>
                    <a:pt x="396" y="592"/>
                  </a:lnTo>
                  <a:lnTo>
                    <a:pt x="399" y="594"/>
                  </a:lnTo>
                  <a:lnTo>
                    <a:pt x="407" y="596"/>
                  </a:lnTo>
                  <a:lnTo>
                    <a:pt x="415" y="598"/>
                  </a:lnTo>
                  <a:lnTo>
                    <a:pt x="421" y="600"/>
                  </a:lnTo>
                  <a:lnTo>
                    <a:pt x="425" y="602"/>
                  </a:lnTo>
                  <a:lnTo>
                    <a:pt x="428" y="604"/>
                  </a:lnTo>
                  <a:lnTo>
                    <a:pt x="430" y="606"/>
                  </a:lnTo>
                  <a:lnTo>
                    <a:pt x="432" y="607"/>
                  </a:lnTo>
                  <a:lnTo>
                    <a:pt x="434" y="611"/>
                  </a:lnTo>
                  <a:lnTo>
                    <a:pt x="434" y="615"/>
                  </a:lnTo>
                  <a:lnTo>
                    <a:pt x="434" y="619"/>
                  </a:lnTo>
                  <a:lnTo>
                    <a:pt x="432" y="625"/>
                  </a:lnTo>
                  <a:lnTo>
                    <a:pt x="430" y="627"/>
                  </a:lnTo>
                  <a:lnTo>
                    <a:pt x="432" y="629"/>
                  </a:lnTo>
                  <a:lnTo>
                    <a:pt x="436" y="631"/>
                  </a:lnTo>
                  <a:lnTo>
                    <a:pt x="440" y="634"/>
                  </a:lnTo>
                  <a:lnTo>
                    <a:pt x="446" y="642"/>
                  </a:lnTo>
                  <a:lnTo>
                    <a:pt x="450" y="648"/>
                  </a:lnTo>
                  <a:lnTo>
                    <a:pt x="455" y="654"/>
                  </a:lnTo>
                  <a:lnTo>
                    <a:pt x="457" y="660"/>
                  </a:lnTo>
                  <a:lnTo>
                    <a:pt x="459" y="665"/>
                  </a:lnTo>
                  <a:lnTo>
                    <a:pt x="457" y="667"/>
                  </a:lnTo>
                  <a:lnTo>
                    <a:pt x="455" y="669"/>
                  </a:lnTo>
                  <a:lnTo>
                    <a:pt x="451" y="671"/>
                  </a:lnTo>
                  <a:lnTo>
                    <a:pt x="448" y="673"/>
                  </a:lnTo>
                  <a:lnTo>
                    <a:pt x="442" y="673"/>
                  </a:lnTo>
                  <a:lnTo>
                    <a:pt x="438" y="675"/>
                  </a:lnTo>
                  <a:lnTo>
                    <a:pt x="432" y="675"/>
                  </a:lnTo>
                  <a:lnTo>
                    <a:pt x="426" y="677"/>
                  </a:lnTo>
                  <a:lnTo>
                    <a:pt x="421" y="677"/>
                  </a:lnTo>
                  <a:lnTo>
                    <a:pt x="415" y="679"/>
                  </a:lnTo>
                  <a:lnTo>
                    <a:pt x="411" y="679"/>
                  </a:lnTo>
                  <a:lnTo>
                    <a:pt x="405" y="679"/>
                  </a:lnTo>
                  <a:lnTo>
                    <a:pt x="401" y="679"/>
                  </a:lnTo>
                  <a:lnTo>
                    <a:pt x="399" y="679"/>
                  </a:lnTo>
                  <a:lnTo>
                    <a:pt x="398" y="679"/>
                  </a:lnTo>
                  <a:lnTo>
                    <a:pt x="398" y="679"/>
                  </a:lnTo>
                  <a:lnTo>
                    <a:pt x="398" y="681"/>
                  </a:lnTo>
                  <a:lnTo>
                    <a:pt x="399" y="687"/>
                  </a:lnTo>
                  <a:lnTo>
                    <a:pt x="399" y="690"/>
                  </a:lnTo>
                  <a:lnTo>
                    <a:pt x="403" y="696"/>
                  </a:lnTo>
                  <a:lnTo>
                    <a:pt x="403" y="702"/>
                  </a:lnTo>
                  <a:lnTo>
                    <a:pt x="405" y="708"/>
                  </a:lnTo>
                  <a:lnTo>
                    <a:pt x="407" y="712"/>
                  </a:lnTo>
                  <a:lnTo>
                    <a:pt x="407" y="717"/>
                  </a:lnTo>
                  <a:lnTo>
                    <a:pt x="409" y="723"/>
                  </a:lnTo>
                  <a:lnTo>
                    <a:pt x="409" y="729"/>
                  </a:lnTo>
                  <a:lnTo>
                    <a:pt x="409" y="735"/>
                  </a:lnTo>
                  <a:lnTo>
                    <a:pt x="407" y="740"/>
                  </a:lnTo>
                  <a:lnTo>
                    <a:pt x="405" y="744"/>
                  </a:lnTo>
                  <a:lnTo>
                    <a:pt x="405" y="748"/>
                  </a:lnTo>
                  <a:lnTo>
                    <a:pt x="399" y="750"/>
                  </a:lnTo>
                  <a:lnTo>
                    <a:pt x="396" y="750"/>
                  </a:lnTo>
                  <a:lnTo>
                    <a:pt x="390" y="750"/>
                  </a:lnTo>
                  <a:lnTo>
                    <a:pt x="384" y="750"/>
                  </a:lnTo>
                  <a:lnTo>
                    <a:pt x="380" y="748"/>
                  </a:lnTo>
                  <a:lnTo>
                    <a:pt x="374" y="748"/>
                  </a:lnTo>
                  <a:lnTo>
                    <a:pt x="371" y="746"/>
                  </a:lnTo>
                  <a:lnTo>
                    <a:pt x="367" y="746"/>
                  </a:lnTo>
                  <a:lnTo>
                    <a:pt x="363" y="744"/>
                  </a:lnTo>
                  <a:lnTo>
                    <a:pt x="359" y="744"/>
                  </a:lnTo>
                  <a:lnTo>
                    <a:pt x="355" y="742"/>
                  </a:lnTo>
                  <a:lnTo>
                    <a:pt x="351" y="742"/>
                  </a:lnTo>
                  <a:lnTo>
                    <a:pt x="347" y="740"/>
                  </a:lnTo>
                  <a:lnTo>
                    <a:pt x="342" y="739"/>
                  </a:lnTo>
                  <a:lnTo>
                    <a:pt x="338" y="737"/>
                  </a:lnTo>
                  <a:lnTo>
                    <a:pt x="334" y="737"/>
                  </a:lnTo>
                  <a:lnTo>
                    <a:pt x="326" y="733"/>
                  </a:lnTo>
                  <a:lnTo>
                    <a:pt x="320" y="731"/>
                  </a:lnTo>
                  <a:lnTo>
                    <a:pt x="315" y="729"/>
                  </a:lnTo>
                  <a:lnTo>
                    <a:pt x="311" y="727"/>
                  </a:lnTo>
                  <a:lnTo>
                    <a:pt x="307" y="725"/>
                  </a:lnTo>
                  <a:lnTo>
                    <a:pt x="307" y="725"/>
                  </a:lnTo>
                  <a:lnTo>
                    <a:pt x="305" y="725"/>
                  </a:lnTo>
                  <a:lnTo>
                    <a:pt x="305" y="729"/>
                  </a:lnTo>
                  <a:lnTo>
                    <a:pt x="303" y="733"/>
                  </a:lnTo>
                  <a:lnTo>
                    <a:pt x="303" y="739"/>
                  </a:lnTo>
                  <a:lnTo>
                    <a:pt x="301" y="744"/>
                  </a:lnTo>
                  <a:lnTo>
                    <a:pt x="299" y="750"/>
                  </a:lnTo>
                  <a:lnTo>
                    <a:pt x="297" y="758"/>
                  </a:lnTo>
                  <a:lnTo>
                    <a:pt x="293" y="766"/>
                  </a:lnTo>
                  <a:lnTo>
                    <a:pt x="290" y="771"/>
                  </a:lnTo>
                  <a:lnTo>
                    <a:pt x="286" y="777"/>
                  </a:lnTo>
                  <a:lnTo>
                    <a:pt x="280" y="783"/>
                  </a:lnTo>
                  <a:lnTo>
                    <a:pt x="274" y="789"/>
                  </a:lnTo>
                  <a:lnTo>
                    <a:pt x="266" y="793"/>
                  </a:lnTo>
                  <a:lnTo>
                    <a:pt x="261" y="796"/>
                  </a:lnTo>
                  <a:lnTo>
                    <a:pt x="257" y="796"/>
                  </a:lnTo>
                  <a:lnTo>
                    <a:pt x="253" y="796"/>
                  </a:lnTo>
                  <a:lnTo>
                    <a:pt x="247" y="796"/>
                  </a:lnTo>
                  <a:lnTo>
                    <a:pt x="243" y="796"/>
                  </a:lnTo>
                  <a:lnTo>
                    <a:pt x="239" y="794"/>
                  </a:lnTo>
                  <a:lnTo>
                    <a:pt x="234" y="793"/>
                  </a:lnTo>
                  <a:lnTo>
                    <a:pt x="230" y="791"/>
                  </a:lnTo>
                  <a:lnTo>
                    <a:pt x="224" y="789"/>
                  </a:lnTo>
                  <a:lnTo>
                    <a:pt x="220" y="785"/>
                  </a:lnTo>
                  <a:lnTo>
                    <a:pt x="216" y="783"/>
                  </a:lnTo>
                  <a:lnTo>
                    <a:pt x="212" y="779"/>
                  </a:lnTo>
                  <a:lnTo>
                    <a:pt x="209" y="777"/>
                  </a:lnTo>
                  <a:lnTo>
                    <a:pt x="205" y="773"/>
                  </a:lnTo>
                  <a:lnTo>
                    <a:pt x="199" y="769"/>
                  </a:lnTo>
                  <a:lnTo>
                    <a:pt x="197" y="766"/>
                  </a:lnTo>
                  <a:lnTo>
                    <a:pt x="193" y="762"/>
                  </a:lnTo>
                  <a:lnTo>
                    <a:pt x="187" y="758"/>
                  </a:lnTo>
                  <a:lnTo>
                    <a:pt x="186" y="754"/>
                  </a:lnTo>
                  <a:lnTo>
                    <a:pt x="182" y="750"/>
                  </a:lnTo>
                  <a:lnTo>
                    <a:pt x="180" y="746"/>
                  </a:lnTo>
                  <a:lnTo>
                    <a:pt x="176" y="742"/>
                  </a:lnTo>
                  <a:lnTo>
                    <a:pt x="174" y="737"/>
                  </a:lnTo>
                  <a:lnTo>
                    <a:pt x="170" y="733"/>
                  </a:lnTo>
                  <a:lnTo>
                    <a:pt x="168" y="729"/>
                  </a:lnTo>
                  <a:lnTo>
                    <a:pt x="164" y="721"/>
                  </a:lnTo>
                  <a:lnTo>
                    <a:pt x="160" y="715"/>
                  </a:lnTo>
                  <a:lnTo>
                    <a:pt x="157" y="710"/>
                  </a:lnTo>
                  <a:lnTo>
                    <a:pt x="155" y="706"/>
                  </a:lnTo>
                  <a:lnTo>
                    <a:pt x="153" y="704"/>
                  </a:lnTo>
                  <a:lnTo>
                    <a:pt x="153" y="704"/>
                  </a:lnTo>
                  <a:lnTo>
                    <a:pt x="151" y="704"/>
                  </a:lnTo>
                  <a:lnTo>
                    <a:pt x="147" y="706"/>
                  </a:lnTo>
                  <a:lnTo>
                    <a:pt x="143" y="708"/>
                  </a:lnTo>
                  <a:lnTo>
                    <a:pt x="139" y="710"/>
                  </a:lnTo>
                  <a:lnTo>
                    <a:pt x="133" y="713"/>
                  </a:lnTo>
                  <a:lnTo>
                    <a:pt x="128" y="715"/>
                  </a:lnTo>
                  <a:lnTo>
                    <a:pt x="122" y="719"/>
                  </a:lnTo>
                  <a:lnTo>
                    <a:pt x="114" y="721"/>
                  </a:lnTo>
                  <a:lnTo>
                    <a:pt x="108" y="723"/>
                  </a:lnTo>
                  <a:lnTo>
                    <a:pt x="101" y="725"/>
                  </a:lnTo>
                  <a:lnTo>
                    <a:pt x="93" y="727"/>
                  </a:lnTo>
                  <a:lnTo>
                    <a:pt x="89" y="727"/>
                  </a:lnTo>
                  <a:lnTo>
                    <a:pt x="85" y="729"/>
                  </a:lnTo>
                  <a:lnTo>
                    <a:pt x="81" y="729"/>
                  </a:lnTo>
                  <a:lnTo>
                    <a:pt x="78" y="729"/>
                  </a:lnTo>
                  <a:lnTo>
                    <a:pt x="70" y="729"/>
                  </a:lnTo>
                  <a:lnTo>
                    <a:pt x="62" y="729"/>
                  </a:lnTo>
                  <a:lnTo>
                    <a:pt x="56" y="725"/>
                  </a:lnTo>
                  <a:lnTo>
                    <a:pt x="49" y="723"/>
                  </a:lnTo>
                  <a:lnTo>
                    <a:pt x="43" y="721"/>
                  </a:lnTo>
                  <a:lnTo>
                    <a:pt x="37" y="717"/>
                  </a:lnTo>
                  <a:lnTo>
                    <a:pt x="29" y="713"/>
                  </a:lnTo>
                  <a:lnTo>
                    <a:pt x="26" y="710"/>
                  </a:lnTo>
                  <a:lnTo>
                    <a:pt x="20" y="706"/>
                  </a:lnTo>
                  <a:lnTo>
                    <a:pt x="16" y="702"/>
                  </a:lnTo>
                  <a:lnTo>
                    <a:pt x="10" y="696"/>
                  </a:lnTo>
                  <a:lnTo>
                    <a:pt x="6" y="690"/>
                  </a:lnTo>
                  <a:lnTo>
                    <a:pt x="4" y="687"/>
                  </a:lnTo>
                  <a:lnTo>
                    <a:pt x="2" y="681"/>
                  </a:lnTo>
                  <a:lnTo>
                    <a:pt x="0" y="675"/>
                  </a:lnTo>
                  <a:lnTo>
                    <a:pt x="0" y="671"/>
                  </a:lnTo>
                  <a:lnTo>
                    <a:pt x="0" y="665"/>
                  </a:lnTo>
                  <a:lnTo>
                    <a:pt x="2" y="661"/>
                  </a:lnTo>
                  <a:lnTo>
                    <a:pt x="4" y="656"/>
                  </a:lnTo>
                  <a:lnTo>
                    <a:pt x="8" y="650"/>
                  </a:lnTo>
                  <a:lnTo>
                    <a:pt x="12" y="642"/>
                  </a:lnTo>
                  <a:lnTo>
                    <a:pt x="18" y="634"/>
                  </a:lnTo>
                  <a:lnTo>
                    <a:pt x="22" y="627"/>
                  </a:lnTo>
                  <a:lnTo>
                    <a:pt x="29" y="619"/>
                  </a:lnTo>
                  <a:lnTo>
                    <a:pt x="35" y="611"/>
                  </a:lnTo>
                  <a:lnTo>
                    <a:pt x="43" y="606"/>
                  </a:lnTo>
                  <a:lnTo>
                    <a:pt x="47" y="600"/>
                  </a:lnTo>
                  <a:lnTo>
                    <a:pt x="49" y="596"/>
                  </a:lnTo>
                  <a:lnTo>
                    <a:pt x="53" y="592"/>
                  </a:lnTo>
                  <a:lnTo>
                    <a:pt x="56" y="588"/>
                  </a:lnTo>
                  <a:lnTo>
                    <a:pt x="62" y="580"/>
                  </a:lnTo>
                  <a:lnTo>
                    <a:pt x="68" y="575"/>
                  </a:lnTo>
                  <a:lnTo>
                    <a:pt x="74" y="569"/>
                  </a:lnTo>
                  <a:lnTo>
                    <a:pt x="79" y="563"/>
                  </a:lnTo>
                  <a:lnTo>
                    <a:pt x="81" y="557"/>
                  </a:lnTo>
                  <a:lnTo>
                    <a:pt x="85" y="553"/>
                  </a:lnTo>
                  <a:lnTo>
                    <a:pt x="87" y="548"/>
                  </a:lnTo>
                  <a:lnTo>
                    <a:pt x="87" y="542"/>
                  </a:lnTo>
                  <a:lnTo>
                    <a:pt x="89" y="536"/>
                  </a:lnTo>
                  <a:lnTo>
                    <a:pt x="91" y="528"/>
                  </a:lnTo>
                  <a:lnTo>
                    <a:pt x="91" y="525"/>
                  </a:lnTo>
                  <a:lnTo>
                    <a:pt x="93" y="521"/>
                  </a:lnTo>
                  <a:lnTo>
                    <a:pt x="93" y="517"/>
                  </a:lnTo>
                  <a:lnTo>
                    <a:pt x="95" y="513"/>
                  </a:lnTo>
                  <a:lnTo>
                    <a:pt x="95" y="509"/>
                  </a:lnTo>
                  <a:lnTo>
                    <a:pt x="97" y="505"/>
                  </a:lnTo>
                  <a:lnTo>
                    <a:pt x="97" y="499"/>
                  </a:lnTo>
                  <a:lnTo>
                    <a:pt x="97" y="496"/>
                  </a:lnTo>
                  <a:lnTo>
                    <a:pt x="97" y="492"/>
                  </a:lnTo>
                  <a:lnTo>
                    <a:pt x="99" y="488"/>
                  </a:lnTo>
                  <a:lnTo>
                    <a:pt x="99" y="482"/>
                  </a:lnTo>
                  <a:lnTo>
                    <a:pt x="99" y="478"/>
                  </a:lnTo>
                  <a:lnTo>
                    <a:pt x="99" y="474"/>
                  </a:lnTo>
                  <a:lnTo>
                    <a:pt x="99" y="471"/>
                  </a:lnTo>
                  <a:lnTo>
                    <a:pt x="101" y="465"/>
                  </a:lnTo>
                  <a:lnTo>
                    <a:pt x="101" y="461"/>
                  </a:lnTo>
                  <a:lnTo>
                    <a:pt x="101" y="457"/>
                  </a:lnTo>
                  <a:lnTo>
                    <a:pt x="103" y="453"/>
                  </a:lnTo>
                  <a:lnTo>
                    <a:pt x="103" y="449"/>
                  </a:lnTo>
                  <a:lnTo>
                    <a:pt x="103" y="445"/>
                  </a:lnTo>
                  <a:lnTo>
                    <a:pt x="103" y="438"/>
                  </a:lnTo>
                  <a:lnTo>
                    <a:pt x="103" y="430"/>
                  </a:lnTo>
                  <a:lnTo>
                    <a:pt x="103" y="426"/>
                  </a:lnTo>
                  <a:lnTo>
                    <a:pt x="103" y="418"/>
                  </a:lnTo>
                  <a:lnTo>
                    <a:pt x="103" y="415"/>
                  </a:lnTo>
                  <a:lnTo>
                    <a:pt x="103" y="411"/>
                  </a:lnTo>
                  <a:lnTo>
                    <a:pt x="103" y="405"/>
                  </a:lnTo>
                  <a:lnTo>
                    <a:pt x="103" y="401"/>
                  </a:lnTo>
                  <a:lnTo>
                    <a:pt x="103" y="395"/>
                  </a:lnTo>
                  <a:lnTo>
                    <a:pt x="103" y="390"/>
                  </a:lnTo>
                  <a:lnTo>
                    <a:pt x="103" y="384"/>
                  </a:lnTo>
                  <a:lnTo>
                    <a:pt x="103" y="378"/>
                  </a:lnTo>
                  <a:lnTo>
                    <a:pt x="101" y="370"/>
                  </a:lnTo>
                  <a:lnTo>
                    <a:pt x="101" y="365"/>
                  </a:lnTo>
                  <a:lnTo>
                    <a:pt x="101" y="357"/>
                  </a:lnTo>
                  <a:lnTo>
                    <a:pt x="101" y="351"/>
                  </a:lnTo>
                  <a:lnTo>
                    <a:pt x="101" y="343"/>
                  </a:lnTo>
                  <a:lnTo>
                    <a:pt x="101" y="336"/>
                  </a:lnTo>
                  <a:lnTo>
                    <a:pt x="99" y="328"/>
                  </a:lnTo>
                  <a:lnTo>
                    <a:pt x="99" y="320"/>
                  </a:lnTo>
                  <a:lnTo>
                    <a:pt x="99" y="311"/>
                  </a:lnTo>
                  <a:lnTo>
                    <a:pt x="99" y="303"/>
                  </a:lnTo>
                  <a:lnTo>
                    <a:pt x="99" y="293"/>
                  </a:lnTo>
                  <a:lnTo>
                    <a:pt x="99" y="285"/>
                  </a:lnTo>
                  <a:lnTo>
                    <a:pt x="99" y="276"/>
                  </a:lnTo>
                  <a:lnTo>
                    <a:pt x="99" y="268"/>
                  </a:lnTo>
                  <a:lnTo>
                    <a:pt x="99" y="258"/>
                  </a:lnTo>
                  <a:lnTo>
                    <a:pt x="99" y="251"/>
                  </a:lnTo>
                  <a:lnTo>
                    <a:pt x="97" y="241"/>
                  </a:lnTo>
                  <a:lnTo>
                    <a:pt x="97" y="233"/>
                  </a:lnTo>
                  <a:lnTo>
                    <a:pt x="97" y="224"/>
                  </a:lnTo>
                  <a:lnTo>
                    <a:pt x="97" y="216"/>
                  </a:lnTo>
                  <a:lnTo>
                    <a:pt x="97" y="206"/>
                  </a:lnTo>
                  <a:lnTo>
                    <a:pt x="97" y="197"/>
                  </a:lnTo>
                  <a:lnTo>
                    <a:pt x="97" y="187"/>
                  </a:lnTo>
                  <a:lnTo>
                    <a:pt x="97" y="179"/>
                  </a:lnTo>
                  <a:lnTo>
                    <a:pt x="95" y="170"/>
                  </a:lnTo>
                  <a:lnTo>
                    <a:pt x="95" y="162"/>
                  </a:lnTo>
                  <a:lnTo>
                    <a:pt x="95" y="152"/>
                  </a:lnTo>
                  <a:lnTo>
                    <a:pt x="95" y="145"/>
                  </a:lnTo>
                  <a:lnTo>
                    <a:pt x="95" y="137"/>
                  </a:lnTo>
                  <a:lnTo>
                    <a:pt x="95" y="129"/>
                  </a:lnTo>
                  <a:lnTo>
                    <a:pt x="93" y="120"/>
                  </a:lnTo>
                  <a:lnTo>
                    <a:pt x="93" y="114"/>
                  </a:lnTo>
                  <a:lnTo>
                    <a:pt x="93" y="106"/>
                  </a:lnTo>
                  <a:lnTo>
                    <a:pt x="93" y="98"/>
                  </a:lnTo>
                  <a:lnTo>
                    <a:pt x="93" y="93"/>
                  </a:lnTo>
                  <a:lnTo>
                    <a:pt x="93" y="87"/>
                  </a:lnTo>
                  <a:lnTo>
                    <a:pt x="93" y="79"/>
                  </a:lnTo>
                  <a:lnTo>
                    <a:pt x="93" y="73"/>
                  </a:lnTo>
                  <a:lnTo>
                    <a:pt x="93" y="68"/>
                  </a:lnTo>
                  <a:lnTo>
                    <a:pt x="93" y="62"/>
                  </a:lnTo>
                  <a:lnTo>
                    <a:pt x="91" y="56"/>
                  </a:lnTo>
                  <a:lnTo>
                    <a:pt x="91" y="52"/>
                  </a:lnTo>
                  <a:lnTo>
                    <a:pt x="91" y="48"/>
                  </a:lnTo>
                  <a:lnTo>
                    <a:pt x="91" y="44"/>
                  </a:lnTo>
                  <a:lnTo>
                    <a:pt x="91" y="37"/>
                  </a:lnTo>
                  <a:lnTo>
                    <a:pt x="91" y="33"/>
                  </a:lnTo>
                  <a:lnTo>
                    <a:pt x="91" y="31"/>
                  </a:lnTo>
                  <a:lnTo>
                    <a:pt x="91" y="29"/>
                  </a:lnTo>
                  <a:lnTo>
                    <a:pt x="120" y="29"/>
                  </a:lnTo>
                  <a:lnTo>
                    <a:pt x="12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5129280" y="4400640"/>
              <a:ext cx="1306440" cy="1473120"/>
            </a:xfrm>
            <a:custGeom>
              <a:avLst/>
              <a:gdLst/>
              <a:ahLst/>
              <a:rect l="l" t="t" r="r" b="b"/>
              <a:pathLst>
                <a:path w="823" h="928">
                  <a:moveTo>
                    <a:pt x="744" y="727"/>
                  </a:moveTo>
                  <a:lnTo>
                    <a:pt x="742" y="725"/>
                  </a:lnTo>
                  <a:lnTo>
                    <a:pt x="740" y="721"/>
                  </a:lnTo>
                  <a:lnTo>
                    <a:pt x="738" y="717"/>
                  </a:lnTo>
                  <a:lnTo>
                    <a:pt x="736" y="714"/>
                  </a:lnTo>
                  <a:lnTo>
                    <a:pt x="734" y="710"/>
                  </a:lnTo>
                  <a:lnTo>
                    <a:pt x="732" y="704"/>
                  </a:lnTo>
                  <a:lnTo>
                    <a:pt x="728" y="698"/>
                  </a:lnTo>
                  <a:lnTo>
                    <a:pt x="724" y="692"/>
                  </a:lnTo>
                  <a:lnTo>
                    <a:pt x="722" y="685"/>
                  </a:lnTo>
                  <a:lnTo>
                    <a:pt x="719" y="677"/>
                  </a:lnTo>
                  <a:lnTo>
                    <a:pt x="715" y="673"/>
                  </a:lnTo>
                  <a:lnTo>
                    <a:pt x="713" y="669"/>
                  </a:lnTo>
                  <a:lnTo>
                    <a:pt x="711" y="665"/>
                  </a:lnTo>
                  <a:lnTo>
                    <a:pt x="709" y="660"/>
                  </a:lnTo>
                  <a:lnTo>
                    <a:pt x="705" y="656"/>
                  </a:lnTo>
                  <a:lnTo>
                    <a:pt x="703" y="650"/>
                  </a:lnTo>
                  <a:lnTo>
                    <a:pt x="701" y="646"/>
                  </a:lnTo>
                  <a:lnTo>
                    <a:pt x="699" y="642"/>
                  </a:lnTo>
                  <a:lnTo>
                    <a:pt x="695" y="636"/>
                  </a:lnTo>
                  <a:lnTo>
                    <a:pt x="693" y="631"/>
                  </a:lnTo>
                  <a:lnTo>
                    <a:pt x="690" y="625"/>
                  </a:lnTo>
                  <a:lnTo>
                    <a:pt x="688" y="619"/>
                  </a:lnTo>
                  <a:lnTo>
                    <a:pt x="684" y="613"/>
                  </a:lnTo>
                  <a:lnTo>
                    <a:pt x="680" y="608"/>
                  </a:lnTo>
                  <a:lnTo>
                    <a:pt x="678" y="602"/>
                  </a:lnTo>
                  <a:lnTo>
                    <a:pt x="674" y="596"/>
                  </a:lnTo>
                  <a:lnTo>
                    <a:pt x="670" y="590"/>
                  </a:lnTo>
                  <a:lnTo>
                    <a:pt x="668" y="584"/>
                  </a:lnTo>
                  <a:lnTo>
                    <a:pt x="663" y="577"/>
                  </a:lnTo>
                  <a:lnTo>
                    <a:pt x="661" y="571"/>
                  </a:lnTo>
                  <a:lnTo>
                    <a:pt x="657" y="565"/>
                  </a:lnTo>
                  <a:lnTo>
                    <a:pt x="653" y="557"/>
                  </a:lnTo>
                  <a:lnTo>
                    <a:pt x="649" y="552"/>
                  </a:lnTo>
                  <a:lnTo>
                    <a:pt x="645" y="546"/>
                  </a:lnTo>
                  <a:lnTo>
                    <a:pt x="641" y="538"/>
                  </a:lnTo>
                  <a:lnTo>
                    <a:pt x="638" y="530"/>
                  </a:lnTo>
                  <a:lnTo>
                    <a:pt x="632" y="525"/>
                  </a:lnTo>
                  <a:lnTo>
                    <a:pt x="628" y="517"/>
                  </a:lnTo>
                  <a:lnTo>
                    <a:pt x="624" y="509"/>
                  </a:lnTo>
                  <a:lnTo>
                    <a:pt x="618" y="502"/>
                  </a:lnTo>
                  <a:lnTo>
                    <a:pt x="614" y="496"/>
                  </a:lnTo>
                  <a:lnTo>
                    <a:pt x="611" y="488"/>
                  </a:lnTo>
                  <a:lnTo>
                    <a:pt x="605" y="480"/>
                  </a:lnTo>
                  <a:lnTo>
                    <a:pt x="601" y="473"/>
                  </a:lnTo>
                  <a:lnTo>
                    <a:pt x="595" y="465"/>
                  </a:lnTo>
                  <a:lnTo>
                    <a:pt x="591" y="457"/>
                  </a:lnTo>
                  <a:lnTo>
                    <a:pt x="586" y="449"/>
                  </a:lnTo>
                  <a:lnTo>
                    <a:pt x="580" y="442"/>
                  </a:lnTo>
                  <a:lnTo>
                    <a:pt x="576" y="432"/>
                  </a:lnTo>
                  <a:lnTo>
                    <a:pt x="570" y="426"/>
                  </a:lnTo>
                  <a:lnTo>
                    <a:pt x="564" y="417"/>
                  </a:lnTo>
                  <a:lnTo>
                    <a:pt x="560" y="409"/>
                  </a:lnTo>
                  <a:lnTo>
                    <a:pt x="555" y="401"/>
                  </a:lnTo>
                  <a:lnTo>
                    <a:pt x="549" y="394"/>
                  </a:lnTo>
                  <a:lnTo>
                    <a:pt x="543" y="386"/>
                  </a:lnTo>
                  <a:lnTo>
                    <a:pt x="537" y="378"/>
                  </a:lnTo>
                  <a:lnTo>
                    <a:pt x="532" y="370"/>
                  </a:lnTo>
                  <a:lnTo>
                    <a:pt x="528" y="363"/>
                  </a:lnTo>
                  <a:lnTo>
                    <a:pt x="522" y="355"/>
                  </a:lnTo>
                  <a:lnTo>
                    <a:pt x="518" y="347"/>
                  </a:lnTo>
                  <a:lnTo>
                    <a:pt x="512" y="340"/>
                  </a:lnTo>
                  <a:lnTo>
                    <a:pt x="507" y="332"/>
                  </a:lnTo>
                  <a:lnTo>
                    <a:pt x="503" y="326"/>
                  </a:lnTo>
                  <a:lnTo>
                    <a:pt x="497" y="318"/>
                  </a:lnTo>
                  <a:lnTo>
                    <a:pt x="493" y="311"/>
                  </a:lnTo>
                  <a:lnTo>
                    <a:pt x="487" y="305"/>
                  </a:lnTo>
                  <a:lnTo>
                    <a:pt x="483" y="297"/>
                  </a:lnTo>
                  <a:lnTo>
                    <a:pt x="478" y="291"/>
                  </a:lnTo>
                  <a:lnTo>
                    <a:pt x="474" y="284"/>
                  </a:lnTo>
                  <a:lnTo>
                    <a:pt x="468" y="278"/>
                  </a:lnTo>
                  <a:lnTo>
                    <a:pt x="464" y="270"/>
                  </a:lnTo>
                  <a:lnTo>
                    <a:pt x="460" y="264"/>
                  </a:lnTo>
                  <a:lnTo>
                    <a:pt x="456" y="259"/>
                  </a:lnTo>
                  <a:lnTo>
                    <a:pt x="451" y="253"/>
                  </a:lnTo>
                  <a:lnTo>
                    <a:pt x="447" y="245"/>
                  </a:lnTo>
                  <a:lnTo>
                    <a:pt x="443" y="239"/>
                  </a:lnTo>
                  <a:lnTo>
                    <a:pt x="439" y="234"/>
                  </a:lnTo>
                  <a:lnTo>
                    <a:pt x="433" y="228"/>
                  </a:lnTo>
                  <a:lnTo>
                    <a:pt x="429" y="222"/>
                  </a:lnTo>
                  <a:lnTo>
                    <a:pt x="426" y="218"/>
                  </a:lnTo>
                  <a:lnTo>
                    <a:pt x="424" y="212"/>
                  </a:lnTo>
                  <a:lnTo>
                    <a:pt x="420" y="208"/>
                  </a:lnTo>
                  <a:lnTo>
                    <a:pt x="414" y="203"/>
                  </a:lnTo>
                  <a:lnTo>
                    <a:pt x="412" y="197"/>
                  </a:lnTo>
                  <a:lnTo>
                    <a:pt x="408" y="191"/>
                  </a:lnTo>
                  <a:lnTo>
                    <a:pt x="404" y="187"/>
                  </a:lnTo>
                  <a:lnTo>
                    <a:pt x="400" y="181"/>
                  </a:lnTo>
                  <a:lnTo>
                    <a:pt x="399" y="178"/>
                  </a:lnTo>
                  <a:lnTo>
                    <a:pt x="395" y="174"/>
                  </a:lnTo>
                  <a:lnTo>
                    <a:pt x="393" y="170"/>
                  </a:lnTo>
                  <a:lnTo>
                    <a:pt x="389" y="166"/>
                  </a:lnTo>
                  <a:lnTo>
                    <a:pt x="385" y="160"/>
                  </a:lnTo>
                  <a:lnTo>
                    <a:pt x="383" y="156"/>
                  </a:lnTo>
                  <a:lnTo>
                    <a:pt x="381" y="154"/>
                  </a:lnTo>
                  <a:lnTo>
                    <a:pt x="375" y="147"/>
                  </a:lnTo>
                  <a:lnTo>
                    <a:pt x="372" y="141"/>
                  </a:lnTo>
                  <a:lnTo>
                    <a:pt x="368" y="135"/>
                  </a:lnTo>
                  <a:lnTo>
                    <a:pt x="364" y="131"/>
                  </a:lnTo>
                  <a:lnTo>
                    <a:pt x="360" y="126"/>
                  </a:lnTo>
                  <a:lnTo>
                    <a:pt x="358" y="124"/>
                  </a:lnTo>
                  <a:lnTo>
                    <a:pt x="354" y="118"/>
                  </a:lnTo>
                  <a:lnTo>
                    <a:pt x="354" y="118"/>
                  </a:lnTo>
                  <a:lnTo>
                    <a:pt x="350" y="116"/>
                  </a:lnTo>
                  <a:lnTo>
                    <a:pt x="348" y="114"/>
                  </a:lnTo>
                  <a:lnTo>
                    <a:pt x="345" y="112"/>
                  </a:lnTo>
                  <a:lnTo>
                    <a:pt x="341" y="110"/>
                  </a:lnTo>
                  <a:lnTo>
                    <a:pt x="337" y="106"/>
                  </a:lnTo>
                  <a:lnTo>
                    <a:pt x="333" y="104"/>
                  </a:lnTo>
                  <a:lnTo>
                    <a:pt x="327" y="100"/>
                  </a:lnTo>
                  <a:lnTo>
                    <a:pt x="321" y="97"/>
                  </a:lnTo>
                  <a:lnTo>
                    <a:pt x="316" y="93"/>
                  </a:lnTo>
                  <a:lnTo>
                    <a:pt x="310" y="89"/>
                  </a:lnTo>
                  <a:lnTo>
                    <a:pt x="304" y="85"/>
                  </a:lnTo>
                  <a:lnTo>
                    <a:pt x="298" y="81"/>
                  </a:lnTo>
                  <a:lnTo>
                    <a:pt x="291" y="75"/>
                  </a:lnTo>
                  <a:lnTo>
                    <a:pt x="285" y="73"/>
                  </a:lnTo>
                  <a:lnTo>
                    <a:pt x="277" y="68"/>
                  </a:lnTo>
                  <a:lnTo>
                    <a:pt x="269" y="64"/>
                  </a:lnTo>
                  <a:lnTo>
                    <a:pt x="262" y="60"/>
                  </a:lnTo>
                  <a:lnTo>
                    <a:pt x="256" y="54"/>
                  </a:lnTo>
                  <a:lnTo>
                    <a:pt x="248" y="50"/>
                  </a:lnTo>
                  <a:lnTo>
                    <a:pt x="241" y="46"/>
                  </a:lnTo>
                  <a:lnTo>
                    <a:pt x="233" y="43"/>
                  </a:lnTo>
                  <a:lnTo>
                    <a:pt x="225" y="39"/>
                  </a:lnTo>
                  <a:lnTo>
                    <a:pt x="217" y="35"/>
                  </a:lnTo>
                  <a:lnTo>
                    <a:pt x="212" y="31"/>
                  </a:lnTo>
                  <a:lnTo>
                    <a:pt x="204" y="27"/>
                  </a:lnTo>
                  <a:lnTo>
                    <a:pt x="198" y="25"/>
                  </a:lnTo>
                  <a:lnTo>
                    <a:pt x="190" y="23"/>
                  </a:lnTo>
                  <a:lnTo>
                    <a:pt x="185" y="21"/>
                  </a:lnTo>
                  <a:lnTo>
                    <a:pt x="179" y="18"/>
                  </a:lnTo>
                  <a:lnTo>
                    <a:pt x="175" y="18"/>
                  </a:lnTo>
                  <a:lnTo>
                    <a:pt x="169" y="16"/>
                  </a:lnTo>
                  <a:lnTo>
                    <a:pt x="163" y="14"/>
                  </a:lnTo>
                  <a:lnTo>
                    <a:pt x="158" y="14"/>
                  </a:lnTo>
                  <a:lnTo>
                    <a:pt x="152" y="12"/>
                  </a:lnTo>
                  <a:lnTo>
                    <a:pt x="146" y="12"/>
                  </a:lnTo>
                  <a:lnTo>
                    <a:pt x="140" y="10"/>
                  </a:lnTo>
                  <a:lnTo>
                    <a:pt x="133" y="8"/>
                  </a:lnTo>
                  <a:lnTo>
                    <a:pt x="127" y="8"/>
                  </a:lnTo>
                  <a:lnTo>
                    <a:pt x="121" y="6"/>
                  </a:lnTo>
                  <a:lnTo>
                    <a:pt x="115" y="6"/>
                  </a:lnTo>
                  <a:lnTo>
                    <a:pt x="108" y="4"/>
                  </a:lnTo>
                  <a:lnTo>
                    <a:pt x="102" y="4"/>
                  </a:lnTo>
                  <a:lnTo>
                    <a:pt x="96" y="4"/>
                  </a:lnTo>
                  <a:lnTo>
                    <a:pt x="88" y="2"/>
                  </a:lnTo>
                  <a:lnTo>
                    <a:pt x="82" y="2"/>
                  </a:lnTo>
                  <a:lnTo>
                    <a:pt x="77" y="2"/>
                  </a:lnTo>
                  <a:lnTo>
                    <a:pt x="71" y="2"/>
                  </a:lnTo>
                  <a:lnTo>
                    <a:pt x="65" y="0"/>
                  </a:lnTo>
                  <a:lnTo>
                    <a:pt x="59" y="0"/>
                  </a:lnTo>
                  <a:lnTo>
                    <a:pt x="54" y="0"/>
                  </a:lnTo>
                  <a:lnTo>
                    <a:pt x="48" y="0"/>
                  </a:lnTo>
                  <a:lnTo>
                    <a:pt x="44" y="0"/>
                  </a:lnTo>
                  <a:lnTo>
                    <a:pt x="38" y="0"/>
                  </a:lnTo>
                  <a:lnTo>
                    <a:pt x="34" y="2"/>
                  </a:lnTo>
                  <a:lnTo>
                    <a:pt x="30" y="2"/>
                  </a:lnTo>
                  <a:lnTo>
                    <a:pt x="25" y="2"/>
                  </a:lnTo>
                  <a:lnTo>
                    <a:pt x="21" y="4"/>
                  </a:lnTo>
                  <a:lnTo>
                    <a:pt x="19" y="6"/>
                  </a:lnTo>
                  <a:lnTo>
                    <a:pt x="13" y="8"/>
                  </a:lnTo>
                  <a:lnTo>
                    <a:pt x="9" y="12"/>
                  </a:lnTo>
                  <a:lnTo>
                    <a:pt x="3" y="19"/>
                  </a:lnTo>
                  <a:lnTo>
                    <a:pt x="2" y="25"/>
                  </a:lnTo>
                  <a:lnTo>
                    <a:pt x="0" y="33"/>
                  </a:lnTo>
                  <a:lnTo>
                    <a:pt x="0" y="39"/>
                  </a:lnTo>
                  <a:lnTo>
                    <a:pt x="0" y="43"/>
                  </a:lnTo>
                  <a:lnTo>
                    <a:pt x="2" y="45"/>
                  </a:lnTo>
                  <a:lnTo>
                    <a:pt x="5" y="45"/>
                  </a:lnTo>
                  <a:lnTo>
                    <a:pt x="11" y="45"/>
                  </a:lnTo>
                  <a:lnTo>
                    <a:pt x="13" y="43"/>
                  </a:lnTo>
                  <a:lnTo>
                    <a:pt x="15" y="43"/>
                  </a:lnTo>
                  <a:lnTo>
                    <a:pt x="21" y="41"/>
                  </a:lnTo>
                  <a:lnTo>
                    <a:pt x="25" y="41"/>
                  </a:lnTo>
                  <a:lnTo>
                    <a:pt x="30" y="41"/>
                  </a:lnTo>
                  <a:lnTo>
                    <a:pt x="36" y="41"/>
                  </a:lnTo>
                  <a:lnTo>
                    <a:pt x="40" y="41"/>
                  </a:lnTo>
                  <a:lnTo>
                    <a:pt x="44" y="41"/>
                  </a:lnTo>
                  <a:lnTo>
                    <a:pt x="48" y="41"/>
                  </a:lnTo>
                  <a:lnTo>
                    <a:pt x="52" y="41"/>
                  </a:lnTo>
                  <a:lnTo>
                    <a:pt x="55" y="41"/>
                  </a:lnTo>
                  <a:lnTo>
                    <a:pt x="59" y="41"/>
                  </a:lnTo>
                  <a:lnTo>
                    <a:pt x="63" y="41"/>
                  </a:lnTo>
                  <a:lnTo>
                    <a:pt x="69" y="43"/>
                  </a:lnTo>
                  <a:lnTo>
                    <a:pt x="73" y="43"/>
                  </a:lnTo>
                  <a:lnTo>
                    <a:pt x="77" y="43"/>
                  </a:lnTo>
                  <a:lnTo>
                    <a:pt x="82" y="43"/>
                  </a:lnTo>
                  <a:lnTo>
                    <a:pt x="86" y="45"/>
                  </a:lnTo>
                  <a:lnTo>
                    <a:pt x="92" y="45"/>
                  </a:lnTo>
                  <a:lnTo>
                    <a:pt x="96" y="45"/>
                  </a:lnTo>
                  <a:lnTo>
                    <a:pt x="102" y="45"/>
                  </a:lnTo>
                  <a:lnTo>
                    <a:pt x="106" y="46"/>
                  </a:lnTo>
                  <a:lnTo>
                    <a:pt x="111" y="46"/>
                  </a:lnTo>
                  <a:lnTo>
                    <a:pt x="117" y="48"/>
                  </a:lnTo>
                  <a:lnTo>
                    <a:pt x="121" y="48"/>
                  </a:lnTo>
                  <a:lnTo>
                    <a:pt x="129" y="50"/>
                  </a:lnTo>
                  <a:lnTo>
                    <a:pt x="133" y="50"/>
                  </a:lnTo>
                  <a:lnTo>
                    <a:pt x="138" y="52"/>
                  </a:lnTo>
                  <a:lnTo>
                    <a:pt x="144" y="52"/>
                  </a:lnTo>
                  <a:lnTo>
                    <a:pt x="150" y="54"/>
                  </a:lnTo>
                  <a:lnTo>
                    <a:pt x="156" y="54"/>
                  </a:lnTo>
                  <a:lnTo>
                    <a:pt x="161" y="56"/>
                  </a:lnTo>
                  <a:lnTo>
                    <a:pt x="167" y="58"/>
                  </a:lnTo>
                  <a:lnTo>
                    <a:pt x="173" y="60"/>
                  </a:lnTo>
                  <a:lnTo>
                    <a:pt x="177" y="60"/>
                  </a:lnTo>
                  <a:lnTo>
                    <a:pt x="183" y="62"/>
                  </a:lnTo>
                  <a:lnTo>
                    <a:pt x="188" y="64"/>
                  </a:lnTo>
                  <a:lnTo>
                    <a:pt x="194" y="66"/>
                  </a:lnTo>
                  <a:lnTo>
                    <a:pt x="200" y="68"/>
                  </a:lnTo>
                  <a:lnTo>
                    <a:pt x="206" y="70"/>
                  </a:lnTo>
                  <a:lnTo>
                    <a:pt x="212" y="72"/>
                  </a:lnTo>
                  <a:lnTo>
                    <a:pt x="217" y="73"/>
                  </a:lnTo>
                  <a:lnTo>
                    <a:pt x="223" y="75"/>
                  </a:lnTo>
                  <a:lnTo>
                    <a:pt x="227" y="77"/>
                  </a:lnTo>
                  <a:lnTo>
                    <a:pt x="233" y="79"/>
                  </a:lnTo>
                  <a:lnTo>
                    <a:pt x="239" y="81"/>
                  </a:lnTo>
                  <a:lnTo>
                    <a:pt x="242" y="83"/>
                  </a:lnTo>
                  <a:lnTo>
                    <a:pt x="248" y="85"/>
                  </a:lnTo>
                  <a:lnTo>
                    <a:pt x="252" y="87"/>
                  </a:lnTo>
                  <a:lnTo>
                    <a:pt x="258" y="91"/>
                  </a:lnTo>
                  <a:lnTo>
                    <a:pt x="264" y="93"/>
                  </a:lnTo>
                  <a:lnTo>
                    <a:pt x="267" y="95"/>
                  </a:lnTo>
                  <a:lnTo>
                    <a:pt x="273" y="99"/>
                  </a:lnTo>
                  <a:lnTo>
                    <a:pt x="279" y="100"/>
                  </a:lnTo>
                  <a:lnTo>
                    <a:pt x="283" y="102"/>
                  </a:lnTo>
                  <a:lnTo>
                    <a:pt x="287" y="106"/>
                  </a:lnTo>
                  <a:lnTo>
                    <a:pt x="291" y="108"/>
                  </a:lnTo>
                  <a:lnTo>
                    <a:pt x="294" y="112"/>
                  </a:lnTo>
                  <a:lnTo>
                    <a:pt x="298" y="114"/>
                  </a:lnTo>
                  <a:lnTo>
                    <a:pt x="302" y="118"/>
                  </a:lnTo>
                  <a:lnTo>
                    <a:pt x="306" y="122"/>
                  </a:lnTo>
                  <a:lnTo>
                    <a:pt x="312" y="126"/>
                  </a:lnTo>
                  <a:lnTo>
                    <a:pt x="316" y="129"/>
                  </a:lnTo>
                  <a:lnTo>
                    <a:pt x="320" y="133"/>
                  </a:lnTo>
                  <a:lnTo>
                    <a:pt x="323" y="137"/>
                  </a:lnTo>
                  <a:lnTo>
                    <a:pt x="329" y="143"/>
                  </a:lnTo>
                  <a:lnTo>
                    <a:pt x="333" y="147"/>
                  </a:lnTo>
                  <a:lnTo>
                    <a:pt x="337" y="153"/>
                  </a:lnTo>
                  <a:lnTo>
                    <a:pt x="343" y="156"/>
                  </a:lnTo>
                  <a:lnTo>
                    <a:pt x="347" y="164"/>
                  </a:lnTo>
                  <a:lnTo>
                    <a:pt x="350" y="168"/>
                  </a:lnTo>
                  <a:lnTo>
                    <a:pt x="356" y="174"/>
                  </a:lnTo>
                  <a:lnTo>
                    <a:pt x="362" y="180"/>
                  </a:lnTo>
                  <a:lnTo>
                    <a:pt x="366" y="185"/>
                  </a:lnTo>
                  <a:lnTo>
                    <a:pt x="370" y="191"/>
                  </a:lnTo>
                  <a:lnTo>
                    <a:pt x="375" y="197"/>
                  </a:lnTo>
                  <a:lnTo>
                    <a:pt x="381" y="203"/>
                  </a:lnTo>
                  <a:lnTo>
                    <a:pt x="385" y="210"/>
                  </a:lnTo>
                  <a:lnTo>
                    <a:pt x="389" y="216"/>
                  </a:lnTo>
                  <a:lnTo>
                    <a:pt x="395" y="222"/>
                  </a:lnTo>
                  <a:lnTo>
                    <a:pt x="400" y="230"/>
                  </a:lnTo>
                  <a:lnTo>
                    <a:pt x="404" y="235"/>
                  </a:lnTo>
                  <a:lnTo>
                    <a:pt x="410" y="243"/>
                  </a:lnTo>
                  <a:lnTo>
                    <a:pt x="414" y="249"/>
                  </a:lnTo>
                  <a:lnTo>
                    <a:pt x="418" y="255"/>
                  </a:lnTo>
                  <a:lnTo>
                    <a:pt x="424" y="262"/>
                  </a:lnTo>
                  <a:lnTo>
                    <a:pt x="427" y="268"/>
                  </a:lnTo>
                  <a:lnTo>
                    <a:pt x="433" y="276"/>
                  </a:lnTo>
                  <a:lnTo>
                    <a:pt x="437" y="282"/>
                  </a:lnTo>
                  <a:lnTo>
                    <a:pt x="443" y="289"/>
                  </a:lnTo>
                  <a:lnTo>
                    <a:pt x="445" y="295"/>
                  </a:lnTo>
                  <a:lnTo>
                    <a:pt x="451" y="301"/>
                  </a:lnTo>
                  <a:lnTo>
                    <a:pt x="454" y="309"/>
                  </a:lnTo>
                  <a:lnTo>
                    <a:pt x="458" y="314"/>
                  </a:lnTo>
                  <a:lnTo>
                    <a:pt x="462" y="320"/>
                  </a:lnTo>
                  <a:lnTo>
                    <a:pt x="466" y="326"/>
                  </a:lnTo>
                  <a:lnTo>
                    <a:pt x="470" y="332"/>
                  </a:lnTo>
                  <a:lnTo>
                    <a:pt x="476" y="338"/>
                  </a:lnTo>
                  <a:lnTo>
                    <a:pt x="478" y="343"/>
                  </a:lnTo>
                  <a:lnTo>
                    <a:pt x="481" y="349"/>
                  </a:lnTo>
                  <a:lnTo>
                    <a:pt x="485" y="355"/>
                  </a:lnTo>
                  <a:lnTo>
                    <a:pt x="489" y="361"/>
                  </a:lnTo>
                  <a:lnTo>
                    <a:pt x="491" y="365"/>
                  </a:lnTo>
                  <a:lnTo>
                    <a:pt x="495" y="370"/>
                  </a:lnTo>
                  <a:lnTo>
                    <a:pt x="499" y="376"/>
                  </a:lnTo>
                  <a:lnTo>
                    <a:pt x="501" y="380"/>
                  </a:lnTo>
                  <a:lnTo>
                    <a:pt x="505" y="384"/>
                  </a:lnTo>
                  <a:lnTo>
                    <a:pt x="507" y="388"/>
                  </a:lnTo>
                  <a:lnTo>
                    <a:pt x="508" y="392"/>
                  </a:lnTo>
                  <a:lnTo>
                    <a:pt x="510" y="395"/>
                  </a:lnTo>
                  <a:lnTo>
                    <a:pt x="514" y="401"/>
                  </a:lnTo>
                  <a:lnTo>
                    <a:pt x="518" y="409"/>
                  </a:lnTo>
                  <a:lnTo>
                    <a:pt x="522" y="413"/>
                  </a:lnTo>
                  <a:lnTo>
                    <a:pt x="524" y="417"/>
                  </a:lnTo>
                  <a:lnTo>
                    <a:pt x="526" y="419"/>
                  </a:lnTo>
                  <a:lnTo>
                    <a:pt x="526" y="421"/>
                  </a:lnTo>
                  <a:lnTo>
                    <a:pt x="526" y="421"/>
                  </a:lnTo>
                  <a:lnTo>
                    <a:pt x="526" y="422"/>
                  </a:lnTo>
                  <a:lnTo>
                    <a:pt x="524" y="424"/>
                  </a:lnTo>
                  <a:lnTo>
                    <a:pt x="524" y="430"/>
                  </a:lnTo>
                  <a:lnTo>
                    <a:pt x="522" y="434"/>
                  </a:lnTo>
                  <a:lnTo>
                    <a:pt x="520" y="442"/>
                  </a:lnTo>
                  <a:lnTo>
                    <a:pt x="518" y="446"/>
                  </a:lnTo>
                  <a:lnTo>
                    <a:pt x="518" y="449"/>
                  </a:lnTo>
                  <a:lnTo>
                    <a:pt x="516" y="453"/>
                  </a:lnTo>
                  <a:lnTo>
                    <a:pt x="514" y="459"/>
                  </a:lnTo>
                  <a:lnTo>
                    <a:pt x="512" y="463"/>
                  </a:lnTo>
                  <a:lnTo>
                    <a:pt x="512" y="467"/>
                  </a:lnTo>
                  <a:lnTo>
                    <a:pt x="508" y="473"/>
                  </a:lnTo>
                  <a:lnTo>
                    <a:pt x="508" y="478"/>
                  </a:lnTo>
                  <a:lnTo>
                    <a:pt x="507" y="482"/>
                  </a:lnTo>
                  <a:lnTo>
                    <a:pt x="505" y="488"/>
                  </a:lnTo>
                  <a:lnTo>
                    <a:pt x="501" y="494"/>
                  </a:lnTo>
                  <a:lnTo>
                    <a:pt x="499" y="502"/>
                  </a:lnTo>
                  <a:lnTo>
                    <a:pt x="497" y="507"/>
                  </a:lnTo>
                  <a:lnTo>
                    <a:pt x="493" y="513"/>
                  </a:lnTo>
                  <a:lnTo>
                    <a:pt x="491" y="519"/>
                  </a:lnTo>
                  <a:lnTo>
                    <a:pt x="487" y="525"/>
                  </a:lnTo>
                  <a:lnTo>
                    <a:pt x="485" y="532"/>
                  </a:lnTo>
                  <a:lnTo>
                    <a:pt x="481" y="538"/>
                  </a:lnTo>
                  <a:lnTo>
                    <a:pt x="478" y="546"/>
                  </a:lnTo>
                  <a:lnTo>
                    <a:pt x="476" y="552"/>
                  </a:lnTo>
                  <a:lnTo>
                    <a:pt x="470" y="559"/>
                  </a:lnTo>
                  <a:lnTo>
                    <a:pt x="466" y="565"/>
                  </a:lnTo>
                  <a:lnTo>
                    <a:pt x="462" y="573"/>
                  </a:lnTo>
                  <a:lnTo>
                    <a:pt x="458" y="581"/>
                  </a:lnTo>
                  <a:lnTo>
                    <a:pt x="453" y="586"/>
                  </a:lnTo>
                  <a:lnTo>
                    <a:pt x="449" y="592"/>
                  </a:lnTo>
                  <a:lnTo>
                    <a:pt x="443" y="600"/>
                  </a:lnTo>
                  <a:lnTo>
                    <a:pt x="439" y="608"/>
                  </a:lnTo>
                  <a:lnTo>
                    <a:pt x="433" y="613"/>
                  </a:lnTo>
                  <a:lnTo>
                    <a:pt x="427" y="621"/>
                  </a:lnTo>
                  <a:lnTo>
                    <a:pt x="420" y="627"/>
                  </a:lnTo>
                  <a:lnTo>
                    <a:pt x="414" y="635"/>
                  </a:lnTo>
                  <a:lnTo>
                    <a:pt x="408" y="640"/>
                  </a:lnTo>
                  <a:lnTo>
                    <a:pt x="402" y="648"/>
                  </a:lnTo>
                  <a:lnTo>
                    <a:pt x="395" y="656"/>
                  </a:lnTo>
                  <a:lnTo>
                    <a:pt x="389" y="662"/>
                  </a:lnTo>
                  <a:lnTo>
                    <a:pt x="381" y="667"/>
                  </a:lnTo>
                  <a:lnTo>
                    <a:pt x="374" y="675"/>
                  </a:lnTo>
                  <a:lnTo>
                    <a:pt x="366" y="681"/>
                  </a:lnTo>
                  <a:lnTo>
                    <a:pt x="358" y="687"/>
                  </a:lnTo>
                  <a:lnTo>
                    <a:pt x="350" y="692"/>
                  </a:lnTo>
                  <a:lnTo>
                    <a:pt x="341" y="700"/>
                  </a:lnTo>
                  <a:lnTo>
                    <a:pt x="333" y="706"/>
                  </a:lnTo>
                  <a:lnTo>
                    <a:pt x="323" y="712"/>
                  </a:lnTo>
                  <a:lnTo>
                    <a:pt x="314" y="717"/>
                  </a:lnTo>
                  <a:lnTo>
                    <a:pt x="304" y="721"/>
                  </a:lnTo>
                  <a:lnTo>
                    <a:pt x="294" y="727"/>
                  </a:lnTo>
                  <a:lnTo>
                    <a:pt x="285" y="733"/>
                  </a:lnTo>
                  <a:lnTo>
                    <a:pt x="275" y="737"/>
                  </a:lnTo>
                  <a:lnTo>
                    <a:pt x="264" y="743"/>
                  </a:lnTo>
                  <a:lnTo>
                    <a:pt x="254" y="746"/>
                  </a:lnTo>
                  <a:lnTo>
                    <a:pt x="242" y="752"/>
                  </a:lnTo>
                  <a:lnTo>
                    <a:pt x="242" y="752"/>
                  </a:lnTo>
                  <a:lnTo>
                    <a:pt x="239" y="754"/>
                  </a:lnTo>
                  <a:lnTo>
                    <a:pt x="233" y="754"/>
                  </a:lnTo>
                  <a:lnTo>
                    <a:pt x="229" y="758"/>
                  </a:lnTo>
                  <a:lnTo>
                    <a:pt x="223" y="762"/>
                  </a:lnTo>
                  <a:lnTo>
                    <a:pt x="219" y="768"/>
                  </a:lnTo>
                  <a:lnTo>
                    <a:pt x="215" y="771"/>
                  </a:lnTo>
                  <a:lnTo>
                    <a:pt x="215" y="777"/>
                  </a:lnTo>
                  <a:lnTo>
                    <a:pt x="215" y="779"/>
                  </a:lnTo>
                  <a:lnTo>
                    <a:pt x="217" y="781"/>
                  </a:lnTo>
                  <a:lnTo>
                    <a:pt x="217" y="785"/>
                  </a:lnTo>
                  <a:lnTo>
                    <a:pt x="221" y="789"/>
                  </a:lnTo>
                  <a:lnTo>
                    <a:pt x="225" y="793"/>
                  </a:lnTo>
                  <a:lnTo>
                    <a:pt x="229" y="798"/>
                  </a:lnTo>
                  <a:lnTo>
                    <a:pt x="235" y="804"/>
                  </a:lnTo>
                  <a:lnTo>
                    <a:pt x="241" y="810"/>
                  </a:lnTo>
                  <a:lnTo>
                    <a:pt x="248" y="816"/>
                  </a:lnTo>
                  <a:lnTo>
                    <a:pt x="254" y="824"/>
                  </a:lnTo>
                  <a:lnTo>
                    <a:pt x="258" y="825"/>
                  </a:lnTo>
                  <a:lnTo>
                    <a:pt x="262" y="831"/>
                  </a:lnTo>
                  <a:lnTo>
                    <a:pt x="267" y="833"/>
                  </a:lnTo>
                  <a:lnTo>
                    <a:pt x="271" y="837"/>
                  </a:lnTo>
                  <a:lnTo>
                    <a:pt x="275" y="841"/>
                  </a:lnTo>
                  <a:lnTo>
                    <a:pt x="281" y="845"/>
                  </a:lnTo>
                  <a:lnTo>
                    <a:pt x="285" y="847"/>
                  </a:lnTo>
                  <a:lnTo>
                    <a:pt x="291" y="852"/>
                  </a:lnTo>
                  <a:lnTo>
                    <a:pt x="294" y="854"/>
                  </a:lnTo>
                  <a:lnTo>
                    <a:pt x="300" y="858"/>
                  </a:lnTo>
                  <a:lnTo>
                    <a:pt x="306" y="862"/>
                  </a:lnTo>
                  <a:lnTo>
                    <a:pt x="312" y="866"/>
                  </a:lnTo>
                  <a:lnTo>
                    <a:pt x="318" y="870"/>
                  </a:lnTo>
                  <a:lnTo>
                    <a:pt x="323" y="874"/>
                  </a:lnTo>
                  <a:lnTo>
                    <a:pt x="327" y="876"/>
                  </a:lnTo>
                  <a:lnTo>
                    <a:pt x="335" y="879"/>
                  </a:lnTo>
                  <a:lnTo>
                    <a:pt x="339" y="883"/>
                  </a:lnTo>
                  <a:lnTo>
                    <a:pt x="347" y="887"/>
                  </a:lnTo>
                  <a:lnTo>
                    <a:pt x="352" y="889"/>
                  </a:lnTo>
                  <a:lnTo>
                    <a:pt x="358" y="893"/>
                  </a:lnTo>
                  <a:lnTo>
                    <a:pt x="366" y="895"/>
                  </a:lnTo>
                  <a:lnTo>
                    <a:pt x="372" y="899"/>
                  </a:lnTo>
                  <a:lnTo>
                    <a:pt x="377" y="901"/>
                  </a:lnTo>
                  <a:lnTo>
                    <a:pt x="385" y="904"/>
                  </a:lnTo>
                  <a:lnTo>
                    <a:pt x="391" y="906"/>
                  </a:lnTo>
                  <a:lnTo>
                    <a:pt x="399" y="910"/>
                  </a:lnTo>
                  <a:lnTo>
                    <a:pt x="406" y="912"/>
                  </a:lnTo>
                  <a:lnTo>
                    <a:pt x="412" y="914"/>
                  </a:lnTo>
                  <a:lnTo>
                    <a:pt x="420" y="916"/>
                  </a:lnTo>
                  <a:lnTo>
                    <a:pt x="426" y="918"/>
                  </a:lnTo>
                  <a:lnTo>
                    <a:pt x="433" y="920"/>
                  </a:lnTo>
                  <a:lnTo>
                    <a:pt x="441" y="922"/>
                  </a:lnTo>
                  <a:lnTo>
                    <a:pt x="449" y="922"/>
                  </a:lnTo>
                  <a:lnTo>
                    <a:pt x="456" y="924"/>
                  </a:lnTo>
                  <a:lnTo>
                    <a:pt x="462" y="926"/>
                  </a:lnTo>
                  <a:lnTo>
                    <a:pt x="470" y="928"/>
                  </a:lnTo>
                  <a:lnTo>
                    <a:pt x="478" y="928"/>
                  </a:lnTo>
                  <a:lnTo>
                    <a:pt x="485" y="928"/>
                  </a:lnTo>
                  <a:lnTo>
                    <a:pt x="493" y="928"/>
                  </a:lnTo>
                  <a:lnTo>
                    <a:pt x="501" y="928"/>
                  </a:lnTo>
                  <a:lnTo>
                    <a:pt x="508" y="928"/>
                  </a:lnTo>
                  <a:lnTo>
                    <a:pt x="516" y="928"/>
                  </a:lnTo>
                  <a:lnTo>
                    <a:pt x="524" y="928"/>
                  </a:lnTo>
                  <a:lnTo>
                    <a:pt x="532" y="928"/>
                  </a:lnTo>
                  <a:lnTo>
                    <a:pt x="539" y="926"/>
                  </a:lnTo>
                  <a:lnTo>
                    <a:pt x="547" y="924"/>
                  </a:lnTo>
                  <a:lnTo>
                    <a:pt x="553" y="922"/>
                  </a:lnTo>
                  <a:lnTo>
                    <a:pt x="560" y="922"/>
                  </a:lnTo>
                  <a:lnTo>
                    <a:pt x="566" y="920"/>
                  </a:lnTo>
                  <a:lnTo>
                    <a:pt x="574" y="920"/>
                  </a:lnTo>
                  <a:lnTo>
                    <a:pt x="580" y="916"/>
                  </a:lnTo>
                  <a:lnTo>
                    <a:pt x="586" y="916"/>
                  </a:lnTo>
                  <a:lnTo>
                    <a:pt x="591" y="914"/>
                  </a:lnTo>
                  <a:lnTo>
                    <a:pt x="597" y="912"/>
                  </a:lnTo>
                  <a:lnTo>
                    <a:pt x="601" y="912"/>
                  </a:lnTo>
                  <a:lnTo>
                    <a:pt x="607" y="910"/>
                  </a:lnTo>
                  <a:lnTo>
                    <a:pt x="613" y="908"/>
                  </a:lnTo>
                  <a:lnTo>
                    <a:pt x="618" y="906"/>
                  </a:lnTo>
                  <a:lnTo>
                    <a:pt x="622" y="904"/>
                  </a:lnTo>
                  <a:lnTo>
                    <a:pt x="626" y="903"/>
                  </a:lnTo>
                  <a:lnTo>
                    <a:pt x="630" y="901"/>
                  </a:lnTo>
                  <a:lnTo>
                    <a:pt x="636" y="899"/>
                  </a:lnTo>
                  <a:lnTo>
                    <a:pt x="638" y="897"/>
                  </a:lnTo>
                  <a:lnTo>
                    <a:pt x="641" y="895"/>
                  </a:lnTo>
                  <a:lnTo>
                    <a:pt x="649" y="893"/>
                  </a:lnTo>
                  <a:lnTo>
                    <a:pt x="655" y="889"/>
                  </a:lnTo>
                  <a:lnTo>
                    <a:pt x="661" y="883"/>
                  </a:lnTo>
                  <a:lnTo>
                    <a:pt x="666" y="881"/>
                  </a:lnTo>
                  <a:lnTo>
                    <a:pt x="670" y="878"/>
                  </a:lnTo>
                  <a:lnTo>
                    <a:pt x="674" y="874"/>
                  </a:lnTo>
                  <a:lnTo>
                    <a:pt x="680" y="866"/>
                  </a:lnTo>
                  <a:lnTo>
                    <a:pt x="686" y="858"/>
                  </a:lnTo>
                  <a:lnTo>
                    <a:pt x="688" y="852"/>
                  </a:lnTo>
                  <a:lnTo>
                    <a:pt x="688" y="849"/>
                  </a:lnTo>
                  <a:lnTo>
                    <a:pt x="688" y="843"/>
                  </a:lnTo>
                  <a:lnTo>
                    <a:pt x="688" y="841"/>
                  </a:lnTo>
                  <a:lnTo>
                    <a:pt x="686" y="839"/>
                  </a:lnTo>
                  <a:lnTo>
                    <a:pt x="686" y="839"/>
                  </a:lnTo>
                  <a:lnTo>
                    <a:pt x="680" y="839"/>
                  </a:lnTo>
                  <a:lnTo>
                    <a:pt x="676" y="841"/>
                  </a:lnTo>
                  <a:lnTo>
                    <a:pt x="668" y="843"/>
                  </a:lnTo>
                  <a:lnTo>
                    <a:pt x="663" y="847"/>
                  </a:lnTo>
                  <a:lnTo>
                    <a:pt x="657" y="849"/>
                  </a:lnTo>
                  <a:lnTo>
                    <a:pt x="653" y="851"/>
                  </a:lnTo>
                  <a:lnTo>
                    <a:pt x="647" y="852"/>
                  </a:lnTo>
                  <a:lnTo>
                    <a:pt x="643" y="854"/>
                  </a:lnTo>
                  <a:lnTo>
                    <a:pt x="638" y="856"/>
                  </a:lnTo>
                  <a:lnTo>
                    <a:pt x="634" y="858"/>
                  </a:lnTo>
                  <a:lnTo>
                    <a:pt x="628" y="860"/>
                  </a:lnTo>
                  <a:lnTo>
                    <a:pt x="624" y="864"/>
                  </a:lnTo>
                  <a:lnTo>
                    <a:pt x="616" y="866"/>
                  </a:lnTo>
                  <a:lnTo>
                    <a:pt x="611" y="868"/>
                  </a:lnTo>
                  <a:lnTo>
                    <a:pt x="605" y="870"/>
                  </a:lnTo>
                  <a:lnTo>
                    <a:pt x="601" y="872"/>
                  </a:lnTo>
                  <a:lnTo>
                    <a:pt x="593" y="876"/>
                  </a:lnTo>
                  <a:lnTo>
                    <a:pt x="587" y="878"/>
                  </a:lnTo>
                  <a:lnTo>
                    <a:pt x="582" y="879"/>
                  </a:lnTo>
                  <a:lnTo>
                    <a:pt x="578" y="881"/>
                  </a:lnTo>
                  <a:lnTo>
                    <a:pt x="570" y="883"/>
                  </a:lnTo>
                  <a:lnTo>
                    <a:pt x="566" y="885"/>
                  </a:lnTo>
                  <a:lnTo>
                    <a:pt x="560" y="887"/>
                  </a:lnTo>
                  <a:lnTo>
                    <a:pt x="555" y="889"/>
                  </a:lnTo>
                  <a:lnTo>
                    <a:pt x="549" y="891"/>
                  </a:lnTo>
                  <a:lnTo>
                    <a:pt x="545" y="893"/>
                  </a:lnTo>
                  <a:lnTo>
                    <a:pt x="541" y="893"/>
                  </a:lnTo>
                  <a:lnTo>
                    <a:pt x="535" y="895"/>
                  </a:lnTo>
                  <a:lnTo>
                    <a:pt x="530" y="895"/>
                  </a:lnTo>
                  <a:lnTo>
                    <a:pt x="524" y="895"/>
                  </a:lnTo>
                  <a:lnTo>
                    <a:pt x="518" y="895"/>
                  </a:lnTo>
                  <a:lnTo>
                    <a:pt x="512" y="897"/>
                  </a:lnTo>
                  <a:lnTo>
                    <a:pt x="507" y="895"/>
                  </a:lnTo>
                  <a:lnTo>
                    <a:pt x="505" y="895"/>
                  </a:lnTo>
                  <a:lnTo>
                    <a:pt x="499" y="895"/>
                  </a:lnTo>
                  <a:lnTo>
                    <a:pt x="495" y="895"/>
                  </a:lnTo>
                  <a:lnTo>
                    <a:pt x="491" y="895"/>
                  </a:lnTo>
                  <a:lnTo>
                    <a:pt x="487" y="895"/>
                  </a:lnTo>
                  <a:lnTo>
                    <a:pt x="483" y="893"/>
                  </a:lnTo>
                  <a:lnTo>
                    <a:pt x="480" y="893"/>
                  </a:lnTo>
                  <a:lnTo>
                    <a:pt x="474" y="893"/>
                  </a:lnTo>
                  <a:lnTo>
                    <a:pt x="468" y="891"/>
                  </a:lnTo>
                  <a:lnTo>
                    <a:pt x="464" y="891"/>
                  </a:lnTo>
                  <a:lnTo>
                    <a:pt x="460" y="889"/>
                  </a:lnTo>
                  <a:lnTo>
                    <a:pt x="453" y="889"/>
                  </a:lnTo>
                  <a:lnTo>
                    <a:pt x="449" y="887"/>
                  </a:lnTo>
                  <a:lnTo>
                    <a:pt x="443" y="887"/>
                  </a:lnTo>
                  <a:lnTo>
                    <a:pt x="439" y="887"/>
                  </a:lnTo>
                  <a:lnTo>
                    <a:pt x="433" y="883"/>
                  </a:lnTo>
                  <a:lnTo>
                    <a:pt x="429" y="883"/>
                  </a:lnTo>
                  <a:lnTo>
                    <a:pt x="424" y="881"/>
                  </a:lnTo>
                  <a:lnTo>
                    <a:pt x="418" y="881"/>
                  </a:lnTo>
                  <a:lnTo>
                    <a:pt x="412" y="878"/>
                  </a:lnTo>
                  <a:lnTo>
                    <a:pt x="408" y="878"/>
                  </a:lnTo>
                  <a:lnTo>
                    <a:pt x="402" y="876"/>
                  </a:lnTo>
                  <a:lnTo>
                    <a:pt x="399" y="876"/>
                  </a:lnTo>
                  <a:lnTo>
                    <a:pt x="393" y="872"/>
                  </a:lnTo>
                  <a:lnTo>
                    <a:pt x="387" y="870"/>
                  </a:lnTo>
                  <a:lnTo>
                    <a:pt x="381" y="868"/>
                  </a:lnTo>
                  <a:lnTo>
                    <a:pt x="377" y="866"/>
                  </a:lnTo>
                  <a:lnTo>
                    <a:pt x="372" y="864"/>
                  </a:lnTo>
                  <a:lnTo>
                    <a:pt x="368" y="862"/>
                  </a:lnTo>
                  <a:lnTo>
                    <a:pt x="362" y="860"/>
                  </a:lnTo>
                  <a:lnTo>
                    <a:pt x="356" y="858"/>
                  </a:lnTo>
                  <a:lnTo>
                    <a:pt x="350" y="854"/>
                  </a:lnTo>
                  <a:lnTo>
                    <a:pt x="347" y="852"/>
                  </a:lnTo>
                  <a:lnTo>
                    <a:pt x="341" y="851"/>
                  </a:lnTo>
                  <a:lnTo>
                    <a:pt x="337" y="849"/>
                  </a:lnTo>
                  <a:lnTo>
                    <a:pt x="331" y="845"/>
                  </a:lnTo>
                  <a:lnTo>
                    <a:pt x="327" y="843"/>
                  </a:lnTo>
                  <a:lnTo>
                    <a:pt x="323" y="841"/>
                  </a:lnTo>
                  <a:lnTo>
                    <a:pt x="318" y="839"/>
                  </a:lnTo>
                  <a:lnTo>
                    <a:pt x="314" y="835"/>
                  </a:lnTo>
                  <a:lnTo>
                    <a:pt x="308" y="831"/>
                  </a:lnTo>
                  <a:lnTo>
                    <a:pt x="304" y="829"/>
                  </a:lnTo>
                  <a:lnTo>
                    <a:pt x="300" y="825"/>
                  </a:lnTo>
                  <a:lnTo>
                    <a:pt x="296" y="822"/>
                  </a:lnTo>
                  <a:lnTo>
                    <a:pt x="293" y="820"/>
                  </a:lnTo>
                  <a:lnTo>
                    <a:pt x="289" y="816"/>
                  </a:lnTo>
                  <a:lnTo>
                    <a:pt x="287" y="814"/>
                  </a:lnTo>
                  <a:lnTo>
                    <a:pt x="279" y="806"/>
                  </a:lnTo>
                  <a:lnTo>
                    <a:pt x="273" y="798"/>
                  </a:lnTo>
                  <a:lnTo>
                    <a:pt x="267" y="791"/>
                  </a:lnTo>
                  <a:lnTo>
                    <a:pt x="264" y="785"/>
                  </a:lnTo>
                  <a:lnTo>
                    <a:pt x="264" y="783"/>
                  </a:lnTo>
                  <a:lnTo>
                    <a:pt x="267" y="783"/>
                  </a:lnTo>
                  <a:lnTo>
                    <a:pt x="271" y="779"/>
                  </a:lnTo>
                  <a:lnTo>
                    <a:pt x="279" y="779"/>
                  </a:lnTo>
                  <a:lnTo>
                    <a:pt x="281" y="777"/>
                  </a:lnTo>
                  <a:lnTo>
                    <a:pt x="287" y="775"/>
                  </a:lnTo>
                  <a:lnTo>
                    <a:pt x="291" y="773"/>
                  </a:lnTo>
                  <a:lnTo>
                    <a:pt x="294" y="771"/>
                  </a:lnTo>
                  <a:lnTo>
                    <a:pt x="300" y="770"/>
                  </a:lnTo>
                  <a:lnTo>
                    <a:pt x="306" y="766"/>
                  </a:lnTo>
                  <a:lnTo>
                    <a:pt x="312" y="764"/>
                  </a:lnTo>
                  <a:lnTo>
                    <a:pt x="318" y="762"/>
                  </a:lnTo>
                  <a:lnTo>
                    <a:pt x="323" y="758"/>
                  </a:lnTo>
                  <a:lnTo>
                    <a:pt x="327" y="756"/>
                  </a:lnTo>
                  <a:lnTo>
                    <a:pt x="335" y="752"/>
                  </a:lnTo>
                  <a:lnTo>
                    <a:pt x="341" y="750"/>
                  </a:lnTo>
                  <a:lnTo>
                    <a:pt x="348" y="746"/>
                  </a:lnTo>
                  <a:lnTo>
                    <a:pt x="354" y="743"/>
                  </a:lnTo>
                  <a:lnTo>
                    <a:pt x="360" y="739"/>
                  </a:lnTo>
                  <a:lnTo>
                    <a:pt x="368" y="735"/>
                  </a:lnTo>
                  <a:lnTo>
                    <a:pt x="374" y="731"/>
                  </a:lnTo>
                  <a:lnTo>
                    <a:pt x="379" y="727"/>
                  </a:lnTo>
                  <a:lnTo>
                    <a:pt x="385" y="723"/>
                  </a:lnTo>
                  <a:lnTo>
                    <a:pt x="393" y="717"/>
                  </a:lnTo>
                  <a:lnTo>
                    <a:pt x="399" y="714"/>
                  </a:lnTo>
                  <a:lnTo>
                    <a:pt x="404" y="710"/>
                  </a:lnTo>
                  <a:lnTo>
                    <a:pt x="410" y="704"/>
                  </a:lnTo>
                  <a:lnTo>
                    <a:pt x="416" y="700"/>
                  </a:lnTo>
                  <a:lnTo>
                    <a:pt x="420" y="692"/>
                  </a:lnTo>
                  <a:lnTo>
                    <a:pt x="426" y="687"/>
                  </a:lnTo>
                  <a:lnTo>
                    <a:pt x="431" y="679"/>
                  </a:lnTo>
                  <a:lnTo>
                    <a:pt x="437" y="673"/>
                  </a:lnTo>
                  <a:lnTo>
                    <a:pt x="439" y="667"/>
                  </a:lnTo>
                  <a:lnTo>
                    <a:pt x="443" y="663"/>
                  </a:lnTo>
                  <a:lnTo>
                    <a:pt x="445" y="660"/>
                  </a:lnTo>
                  <a:lnTo>
                    <a:pt x="449" y="656"/>
                  </a:lnTo>
                  <a:lnTo>
                    <a:pt x="453" y="650"/>
                  </a:lnTo>
                  <a:lnTo>
                    <a:pt x="454" y="646"/>
                  </a:lnTo>
                  <a:lnTo>
                    <a:pt x="458" y="642"/>
                  </a:lnTo>
                  <a:lnTo>
                    <a:pt x="462" y="636"/>
                  </a:lnTo>
                  <a:lnTo>
                    <a:pt x="464" y="631"/>
                  </a:lnTo>
                  <a:lnTo>
                    <a:pt x="468" y="627"/>
                  </a:lnTo>
                  <a:lnTo>
                    <a:pt x="470" y="621"/>
                  </a:lnTo>
                  <a:lnTo>
                    <a:pt x="474" y="617"/>
                  </a:lnTo>
                  <a:lnTo>
                    <a:pt x="476" y="611"/>
                  </a:lnTo>
                  <a:lnTo>
                    <a:pt x="480" y="608"/>
                  </a:lnTo>
                  <a:lnTo>
                    <a:pt x="481" y="602"/>
                  </a:lnTo>
                  <a:lnTo>
                    <a:pt x="485" y="598"/>
                  </a:lnTo>
                  <a:lnTo>
                    <a:pt x="487" y="592"/>
                  </a:lnTo>
                  <a:lnTo>
                    <a:pt x="489" y="586"/>
                  </a:lnTo>
                  <a:lnTo>
                    <a:pt x="493" y="581"/>
                  </a:lnTo>
                  <a:lnTo>
                    <a:pt x="495" y="577"/>
                  </a:lnTo>
                  <a:lnTo>
                    <a:pt x="499" y="571"/>
                  </a:lnTo>
                  <a:lnTo>
                    <a:pt x="501" y="567"/>
                  </a:lnTo>
                  <a:lnTo>
                    <a:pt x="505" y="561"/>
                  </a:lnTo>
                  <a:lnTo>
                    <a:pt x="507" y="557"/>
                  </a:lnTo>
                  <a:lnTo>
                    <a:pt x="508" y="552"/>
                  </a:lnTo>
                  <a:lnTo>
                    <a:pt x="510" y="546"/>
                  </a:lnTo>
                  <a:lnTo>
                    <a:pt x="512" y="542"/>
                  </a:lnTo>
                  <a:lnTo>
                    <a:pt x="516" y="536"/>
                  </a:lnTo>
                  <a:lnTo>
                    <a:pt x="518" y="532"/>
                  </a:lnTo>
                  <a:lnTo>
                    <a:pt x="520" y="529"/>
                  </a:lnTo>
                  <a:lnTo>
                    <a:pt x="522" y="523"/>
                  </a:lnTo>
                  <a:lnTo>
                    <a:pt x="526" y="519"/>
                  </a:lnTo>
                  <a:lnTo>
                    <a:pt x="526" y="513"/>
                  </a:lnTo>
                  <a:lnTo>
                    <a:pt x="530" y="509"/>
                  </a:lnTo>
                  <a:lnTo>
                    <a:pt x="532" y="505"/>
                  </a:lnTo>
                  <a:lnTo>
                    <a:pt x="533" y="502"/>
                  </a:lnTo>
                  <a:lnTo>
                    <a:pt x="535" y="498"/>
                  </a:lnTo>
                  <a:lnTo>
                    <a:pt x="537" y="494"/>
                  </a:lnTo>
                  <a:lnTo>
                    <a:pt x="537" y="490"/>
                  </a:lnTo>
                  <a:lnTo>
                    <a:pt x="541" y="488"/>
                  </a:lnTo>
                  <a:lnTo>
                    <a:pt x="543" y="480"/>
                  </a:lnTo>
                  <a:lnTo>
                    <a:pt x="545" y="475"/>
                  </a:lnTo>
                  <a:lnTo>
                    <a:pt x="549" y="469"/>
                  </a:lnTo>
                  <a:lnTo>
                    <a:pt x="551" y="467"/>
                  </a:lnTo>
                  <a:lnTo>
                    <a:pt x="553" y="459"/>
                  </a:lnTo>
                  <a:lnTo>
                    <a:pt x="555" y="457"/>
                  </a:lnTo>
                  <a:lnTo>
                    <a:pt x="557" y="461"/>
                  </a:lnTo>
                  <a:lnTo>
                    <a:pt x="559" y="463"/>
                  </a:lnTo>
                  <a:lnTo>
                    <a:pt x="562" y="469"/>
                  </a:lnTo>
                  <a:lnTo>
                    <a:pt x="568" y="475"/>
                  </a:lnTo>
                  <a:lnTo>
                    <a:pt x="574" y="480"/>
                  </a:lnTo>
                  <a:lnTo>
                    <a:pt x="576" y="484"/>
                  </a:lnTo>
                  <a:lnTo>
                    <a:pt x="580" y="488"/>
                  </a:lnTo>
                  <a:lnTo>
                    <a:pt x="582" y="494"/>
                  </a:lnTo>
                  <a:lnTo>
                    <a:pt x="586" y="498"/>
                  </a:lnTo>
                  <a:lnTo>
                    <a:pt x="587" y="502"/>
                  </a:lnTo>
                  <a:lnTo>
                    <a:pt x="591" y="507"/>
                  </a:lnTo>
                  <a:lnTo>
                    <a:pt x="595" y="511"/>
                  </a:lnTo>
                  <a:lnTo>
                    <a:pt x="599" y="517"/>
                  </a:lnTo>
                  <a:lnTo>
                    <a:pt x="601" y="521"/>
                  </a:lnTo>
                  <a:lnTo>
                    <a:pt x="605" y="527"/>
                  </a:lnTo>
                  <a:lnTo>
                    <a:pt x="609" y="530"/>
                  </a:lnTo>
                  <a:lnTo>
                    <a:pt x="613" y="536"/>
                  </a:lnTo>
                  <a:lnTo>
                    <a:pt x="614" y="542"/>
                  </a:lnTo>
                  <a:lnTo>
                    <a:pt x="618" y="548"/>
                  </a:lnTo>
                  <a:lnTo>
                    <a:pt x="620" y="552"/>
                  </a:lnTo>
                  <a:lnTo>
                    <a:pt x="624" y="557"/>
                  </a:lnTo>
                  <a:lnTo>
                    <a:pt x="628" y="563"/>
                  </a:lnTo>
                  <a:lnTo>
                    <a:pt x="630" y="569"/>
                  </a:lnTo>
                  <a:lnTo>
                    <a:pt x="634" y="573"/>
                  </a:lnTo>
                  <a:lnTo>
                    <a:pt x="638" y="579"/>
                  </a:lnTo>
                  <a:lnTo>
                    <a:pt x="640" y="584"/>
                  </a:lnTo>
                  <a:lnTo>
                    <a:pt x="641" y="590"/>
                  </a:lnTo>
                  <a:lnTo>
                    <a:pt x="643" y="594"/>
                  </a:lnTo>
                  <a:lnTo>
                    <a:pt x="647" y="602"/>
                  </a:lnTo>
                  <a:lnTo>
                    <a:pt x="649" y="608"/>
                  </a:lnTo>
                  <a:lnTo>
                    <a:pt x="653" y="613"/>
                  </a:lnTo>
                  <a:lnTo>
                    <a:pt x="655" y="621"/>
                  </a:lnTo>
                  <a:lnTo>
                    <a:pt x="659" y="629"/>
                  </a:lnTo>
                  <a:lnTo>
                    <a:pt x="663" y="635"/>
                  </a:lnTo>
                  <a:lnTo>
                    <a:pt x="665" y="642"/>
                  </a:lnTo>
                  <a:lnTo>
                    <a:pt x="668" y="648"/>
                  </a:lnTo>
                  <a:lnTo>
                    <a:pt x="670" y="656"/>
                  </a:lnTo>
                  <a:lnTo>
                    <a:pt x="674" y="662"/>
                  </a:lnTo>
                  <a:lnTo>
                    <a:pt x="678" y="669"/>
                  </a:lnTo>
                  <a:lnTo>
                    <a:pt x="680" y="677"/>
                  </a:lnTo>
                  <a:lnTo>
                    <a:pt x="684" y="685"/>
                  </a:lnTo>
                  <a:lnTo>
                    <a:pt x="686" y="690"/>
                  </a:lnTo>
                  <a:lnTo>
                    <a:pt x="690" y="696"/>
                  </a:lnTo>
                  <a:lnTo>
                    <a:pt x="692" y="702"/>
                  </a:lnTo>
                  <a:lnTo>
                    <a:pt x="695" y="708"/>
                  </a:lnTo>
                  <a:lnTo>
                    <a:pt x="697" y="714"/>
                  </a:lnTo>
                  <a:lnTo>
                    <a:pt x="699" y="717"/>
                  </a:lnTo>
                  <a:lnTo>
                    <a:pt x="701" y="723"/>
                  </a:lnTo>
                  <a:lnTo>
                    <a:pt x="705" y="729"/>
                  </a:lnTo>
                  <a:lnTo>
                    <a:pt x="705" y="733"/>
                  </a:lnTo>
                  <a:lnTo>
                    <a:pt x="707" y="737"/>
                  </a:lnTo>
                  <a:lnTo>
                    <a:pt x="709" y="739"/>
                  </a:lnTo>
                  <a:lnTo>
                    <a:pt x="711" y="743"/>
                  </a:lnTo>
                  <a:lnTo>
                    <a:pt x="711" y="746"/>
                  </a:lnTo>
                  <a:lnTo>
                    <a:pt x="713" y="748"/>
                  </a:lnTo>
                  <a:lnTo>
                    <a:pt x="711" y="748"/>
                  </a:lnTo>
                  <a:lnTo>
                    <a:pt x="711" y="754"/>
                  </a:lnTo>
                  <a:lnTo>
                    <a:pt x="709" y="756"/>
                  </a:lnTo>
                  <a:lnTo>
                    <a:pt x="707" y="760"/>
                  </a:lnTo>
                  <a:lnTo>
                    <a:pt x="707" y="764"/>
                  </a:lnTo>
                  <a:lnTo>
                    <a:pt x="705" y="770"/>
                  </a:lnTo>
                  <a:lnTo>
                    <a:pt x="705" y="773"/>
                  </a:lnTo>
                  <a:lnTo>
                    <a:pt x="703" y="777"/>
                  </a:lnTo>
                  <a:lnTo>
                    <a:pt x="703" y="783"/>
                  </a:lnTo>
                  <a:lnTo>
                    <a:pt x="703" y="787"/>
                  </a:lnTo>
                  <a:lnTo>
                    <a:pt x="703" y="791"/>
                  </a:lnTo>
                  <a:lnTo>
                    <a:pt x="705" y="797"/>
                  </a:lnTo>
                  <a:lnTo>
                    <a:pt x="705" y="800"/>
                  </a:lnTo>
                  <a:lnTo>
                    <a:pt x="707" y="804"/>
                  </a:lnTo>
                  <a:lnTo>
                    <a:pt x="711" y="806"/>
                  </a:lnTo>
                  <a:lnTo>
                    <a:pt x="717" y="802"/>
                  </a:lnTo>
                  <a:lnTo>
                    <a:pt x="720" y="798"/>
                  </a:lnTo>
                  <a:lnTo>
                    <a:pt x="724" y="797"/>
                  </a:lnTo>
                  <a:lnTo>
                    <a:pt x="726" y="791"/>
                  </a:lnTo>
                  <a:lnTo>
                    <a:pt x="730" y="787"/>
                  </a:lnTo>
                  <a:lnTo>
                    <a:pt x="734" y="781"/>
                  </a:lnTo>
                  <a:lnTo>
                    <a:pt x="736" y="775"/>
                  </a:lnTo>
                  <a:lnTo>
                    <a:pt x="740" y="771"/>
                  </a:lnTo>
                  <a:lnTo>
                    <a:pt x="742" y="766"/>
                  </a:lnTo>
                  <a:lnTo>
                    <a:pt x="746" y="760"/>
                  </a:lnTo>
                  <a:lnTo>
                    <a:pt x="747" y="758"/>
                  </a:lnTo>
                  <a:lnTo>
                    <a:pt x="823" y="700"/>
                  </a:lnTo>
                  <a:lnTo>
                    <a:pt x="823" y="611"/>
                  </a:lnTo>
                  <a:lnTo>
                    <a:pt x="823" y="611"/>
                  </a:lnTo>
                  <a:lnTo>
                    <a:pt x="819" y="615"/>
                  </a:lnTo>
                  <a:lnTo>
                    <a:pt x="817" y="617"/>
                  </a:lnTo>
                  <a:lnTo>
                    <a:pt x="815" y="621"/>
                  </a:lnTo>
                  <a:lnTo>
                    <a:pt x="813" y="625"/>
                  </a:lnTo>
                  <a:lnTo>
                    <a:pt x="811" y="629"/>
                  </a:lnTo>
                  <a:lnTo>
                    <a:pt x="807" y="635"/>
                  </a:lnTo>
                  <a:lnTo>
                    <a:pt x="803" y="638"/>
                  </a:lnTo>
                  <a:lnTo>
                    <a:pt x="799" y="642"/>
                  </a:lnTo>
                  <a:lnTo>
                    <a:pt x="798" y="648"/>
                  </a:lnTo>
                  <a:lnTo>
                    <a:pt x="794" y="654"/>
                  </a:lnTo>
                  <a:lnTo>
                    <a:pt x="790" y="660"/>
                  </a:lnTo>
                  <a:lnTo>
                    <a:pt x="786" y="663"/>
                  </a:lnTo>
                  <a:lnTo>
                    <a:pt x="782" y="671"/>
                  </a:lnTo>
                  <a:lnTo>
                    <a:pt x="778" y="675"/>
                  </a:lnTo>
                  <a:lnTo>
                    <a:pt x="774" y="681"/>
                  </a:lnTo>
                  <a:lnTo>
                    <a:pt x="773" y="685"/>
                  </a:lnTo>
                  <a:lnTo>
                    <a:pt x="769" y="690"/>
                  </a:lnTo>
                  <a:lnTo>
                    <a:pt x="763" y="696"/>
                  </a:lnTo>
                  <a:lnTo>
                    <a:pt x="761" y="700"/>
                  </a:lnTo>
                  <a:lnTo>
                    <a:pt x="757" y="704"/>
                  </a:lnTo>
                  <a:lnTo>
                    <a:pt x="755" y="710"/>
                  </a:lnTo>
                  <a:lnTo>
                    <a:pt x="749" y="716"/>
                  </a:lnTo>
                  <a:lnTo>
                    <a:pt x="746" y="723"/>
                  </a:lnTo>
                  <a:lnTo>
                    <a:pt x="744" y="727"/>
                  </a:lnTo>
                  <a:lnTo>
                    <a:pt x="744" y="727"/>
                  </a:lnTo>
                  <a:lnTo>
                    <a:pt x="744" y="7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5043600" y="4519440"/>
              <a:ext cx="317520" cy="260640"/>
            </a:xfrm>
            <a:custGeom>
              <a:avLst/>
              <a:gdLst/>
              <a:ahLst/>
              <a:rect l="l" t="t" r="r" b="b"/>
              <a:pathLst>
                <a:path w="200" h="164">
                  <a:moveTo>
                    <a:pt x="21" y="132"/>
                  </a:moveTo>
                  <a:lnTo>
                    <a:pt x="21" y="130"/>
                  </a:lnTo>
                  <a:lnTo>
                    <a:pt x="25" y="124"/>
                  </a:lnTo>
                  <a:lnTo>
                    <a:pt x="27" y="122"/>
                  </a:lnTo>
                  <a:lnTo>
                    <a:pt x="30" y="118"/>
                  </a:lnTo>
                  <a:lnTo>
                    <a:pt x="34" y="112"/>
                  </a:lnTo>
                  <a:lnTo>
                    <a:pt x="38" y="110"/>
                  </a:lnTo>
                  <a:lnTo>
                    <a:pt x="42" y="105"/>
                  </a:lnTo>
                  <a:lnTo>
                    <a:pt x="46" y="101"/>
                  </a:lnTo>
                  <a:lnTo>
                    <a:pt x="50" y="97"/>
                  </a:lnTo>
                  <a:lnTo>
                    <a:pt x="54" y="93"/>
                  </a:lnTo>
                  <a:lnTo>
                    <a:pt x="61" y="85"/>
                  </a:lnTo>
                  <a:lnTo>
                    <a:pt x="67" y="81"/>
                  </a:lnTo>
                  <a:lnTo>
                    <a:pt x="71" y="79"/>
                  </a:lnTo>
                  <a:lnTo>
                    <a:pt x="73" y="79"/>
                  </a:lnTo>
                  <a:lnTo>
                    <a:pt x="73" y="81"/>
                  </a:lnTo>
                  <a:lnTo>
                    <a:pt x="73" y="85"/>
                  </a:lnTo>
                  <a:lnTo>
                    <a:pt x="71" y="89"/>
                  </a:lnTo>
                  <a:lnTo>
                    <a:pt x="71" y="93"/>
                  </a:lnTo>
                  <a:lnTo>
                    <a:pt x="69" y="97"/>
                  </a:lnTo>
                  <a:lnTo>
                    <a:pt x="69" y="97"/>
                  </a:lnTo>
                  <a:lnTo>
                    <a:pt x="67" y="99"/>
                  </a:lnTo>
                  <a:lnTo>
                    <a:pt x="63" y="106"/>
                  </a:lnTo>
                  <a:lnTo>
                    <a:pt x="59" y="110"/>
                  </a:lnTo>
                  <a:lnTo>
                    <a:pt x="57" y="116"/>
                  </a:lnTo>
                  <a:lnTo>
                    <a:pt x="54" y="120"/>
                  </a:lnTo>
                  <a:lnTo>
                    <a:pt x="52" y="126"/>
                  </a:lnTo>
                  <a:lnTo>
                    <a:pt x="50" y="132"/>
                  </a:lnTo>
                  <a:lnTo>
                    <a:pt x="46" y="135"/>
                  </a:lnTo>
                  <a:lnTo>
                    <a:pt x="44" y="141"/>
                  </a:lnTo>
                  <a:lnTo>
                    <a:pt x="44" y="145"/>
                  </a:lnTo>
                  <a:lnTo>
                    <a:pt x="42" y="151"/>
                  </a:lnTo>
                  <a:lnTo>
                    <a:pt x="46" y="155"/>
                  </a:lnTo>
                  <a:lnTo>
                    <a:pt x="52" y="151"/>
                  </a:lnTo>
                  <a:lnTo>
                    <a:pt x="59" y="147"/>
                  </a:lnTo>
                  <a:lnTo>
                    <a:pt x="65" y="143"/>
                  </a:lnTo>
                  <a:lnTo>
                    <a:pt x="71" y="137"/>
                  </a:lnTo>
                  <a:lnTo>
                    <a:pt x="77" y="133"/>
                  </a:lnTo>
                  <a:lnTo>
                    <a:pt x="81" y="130"/>
                  </a:lnTo>
                  <a:lnTo>
                    <a:pt x="84" y="126"/>
                  </a:lnTo>
                  <a:lnTo>
                    <a:pt x="86" y="126"/>
                  </a:lnTo>
                  <a:lnTo>
                    <a:pt x="84" y="128"/>
                  </a:lnTo>
                  <a:lnTo>
                    <a:pt x="84" y="130"/>
                  </a:lnTo>
                  <a:lnTo>
                    <a:pt x="82" y="135"/>
                  </a:lnTo>
                  <a:lnTo>
                    <a:pt x="82" y="143"/>
                  </a:lnTo>
                  <a:lnTo>
                    <a:pt x="81" y="149"/>
                  </a:lnTo>
                  <a:lnTo>
                    <a:pt x="81" y="155"/>
                  </a:lnTo>
                  <a:lnTo>
                    <a:pt x="81" y="160"/>
                  </a:lnTo>
                  <a:lnTo>
                    <a:pt x="84" y="164"/>
                  </a:lnTo>
                  <a:lnTo>
                    <a:pt x="86" y="162"/>
                  </a:lnTo>
                  <a:lnTo>
                    <a:pt x="90" y="160"/>
                  </a:lnTo>
                  <a:lnTo>
                    <a:pt x="96" y="155"/>
                  </a:lnTo>
                  <a:lnTo>
                    <a:pt x="100" y="151"/>
                  </a:lnTo>
                  <a:lnTo>
                    <a:pt x="106" y="145"/>
                  </a:lnTo>
                  <a:lnTo>
                    <a:pt x="111" y="137"/>
                  </a:lnTo>
                  <a:lnTo>
                    <a:pt x="115" y="132"/>
                  </a:lnTo>
                  <a:lnTo>
                    <a:pt x="119" y="128"/>
                  </a:lnTo>
                  <a:lnTo>
                    <a:pt x="125" y="122"/>
                  </a:lnTo>
                  <a:lnTo>
                    <a:pt x="131" y="114"/>
                  </a:lnTo>
                  <a:lnTo>
                    <a:pt x="136" y="108"/>
                  </a:lnTo>
                  <a:lnTo>
                    <a:pt x="144" y="103"/>
                  </a:lnTo>
                  <a:lnTo>
                    <a:pt x="150" y="95"/>
                  </a:lnTo>
                  <a:lnTo>
                    <a:pt x="156" y="91"/>
                  </a:lnTo>
                  <a:lnTo>
                    <a:pt x="160" y="89"/>
                  </a:lnTo>
                  <a:lnTo>
                    <a:pt x="160" y="87"/>
                  </a:lnTo>
                  <a:lnTo>
                    <a:pt x="163" y="87"/>
                  </a:lnTo>
                  <a:lnTo>
                    <a:pt x="167" y="89"/>
                  </a:lnTo>
                  <a:lnTo>
                    <a:pt x="171" y="89"/>
                  </a:lnTo>
                  <a:lnTo>
                    <a:pt x="175" y="89"/>
                  </a:lnTo>
                  <a:lnTo>
                    <a:pt x="179" y="89"/>
                  </a:lnTo>
                  <a:lnTo>
                    <a:pt x="183" y="89"/>
                  </a:lnTo>
                  <a:lnTo>
                    <a:pt x="187" y="87"/>
                  </a:lnTo>
                  <a:lnTo>
                    <a:pt x="189" y="83"/>
                  </a:lnTo>
                  <a:lnTo>
                    <a:pt x="192" y="78"/>
                  </a:lnTo>
                  <a:lnTo>
                    <a:pt x="196" y="72"/>
                  </a:lnTo>
                  <a:lnTo>
                    <a:pt x="198" y="64"/>
                  </a:lnTo>
                  <a:lnTo>
                    <a:pt x="200" y="56"/>
                  </a:lnTo>
                  <a:lnTo>
                    <a:pt x="200" y="51"/>
                  </a:lnTo>
                  <a:lnTo>
                    <a:pt x="200" y="45"/>
                  </a:lnTo>
                  <a:lnTo>
                    <a:pt x="198" y="43"/>
                  </a:lnTo>
                  <a:lnTo>
                    <a:pt x="194" y="41"/>
                  </a:lnTo>
                  <a:lnTo>
                    <a:pt x="192" y="43"/>
                  </a:lnTo>
                  <a:lnTo>
                    <a:pt x="189" y="43"/>
                  </a:lnTo>
                  <a:lnTo>
                    <a:pt x="185" y="45"/>
                  </a:lnTo>
                  <a:lnTo>
                    <a:pt x="181" y="47"/>
                  </a:lnTo>
                  <a:lnTo>
                    <a:pt x="175" y="49"/>
                  </a:lnTo>
                  <a:lnTo>
                    <a:pt x="171" y="51"/>
                  </a:lnTo>
                  <a:lnTo>
                    <a:pt x="167" y="52"/>
                  </a:lnTo>
                  <a:lnTo>
                    <a:pt x="162" y="54"/>
                  </a:lnTo>
                  <a:lnTo>
                    <a:pt x="158" y="56"/>
                  </a:lnTo>
                  <a:lnTo>
                    <a:pt x="154" y="58"/>
                  </a:lnTo>
                  <a:lnTo>
                    <a:pt x="152" y="60"/>
                  </a:lnTo>
                  <a:lnTo>
                    <a:pt x="146" y="64"/>
                  </a:lnTo>
                  <a:lnTo>
                    <a:pt x="144" y="66"/>
                  </a:lnTo>
                  <a:lnTo>
                    <a:pt x="144" y="64"/>
                  </a:lnTo>
                  <a:lnTo>
                    <a:pt x="146" y="60"/>
                  </a:lnTo>
                  <a:lnTo>
                    <a:pt x="148" y="56"/>
                  </a:lnTo>
                  <a:lnTo>
                    <a:pt x="152" y="52"/>
                  </a:lnTo>
                  <a:lnTo>
                    <a:pt x="154" y="47"/>
                  </a:lnTo>
                  <a:lnTo>
                    <a:pt x="156" y="43"/>
                  </a:lnTo>
                  <a:lnTo>
                    <a:pt x="156" y="37"/>
                  </a:lnTo>
                  <a:lnTo>
                    <a:pt x="154" y="35"/>
                  </a:lnTo>
                  <a:lnTo>
                    <a:pt x="150" y="31"/>
                  </a:lnTo>
                  <a:lnTo>
                    <a:pt x="146" y="29"/>
                  </a:lnTo>
                  <a:lnTo>
                    <a:pt x="142" y="27"/>
                  </a:lnTo>
                  <a:lnTo>
                    <a:pt x="136" y="25"/>
                  </a:lnTo>
                  <a:lnTo>
                    <a:pt x="133" y="24"/>
                  </a:lnTo>
                  <a:lnTo>
                    <a:pt x="129" y="22"/>
                  </a:lnTo>
                  <a:lnTo>
                    <a:pt x="125" y="22"/>
                  </a:lnTo>
                  <a:lnTo>
                    <a:pt x="129" y="18"/>
                  </a:lnTo>
                  <a:lnTo>
                    <a:pt x="135" y="12"/>
                  </a:lnTo>
                  <a:lnTo>
                    <a:pt x="135" y="10"/>
                  </a:lnTo>
                  <a:lnTo>
                    <a:pt x="136" y="6"/>
                  </a:lnTo>
                  <a:lnTo>
                    <a:pt x="135" y="4"/>
                  </a:lnTo>
                  <a:lnTo>
                    <a:pt x="131" y="2"/>
                  </a:lnTo>
                  <a:lnTo>
                    <a:pt x="125" y="0"/>
                  </a:lnTo>
                  <a:lnTo>
                    <a:pt x="119" y="2"/>
                  </a:lnTo>
                  <a:lnTo>
                    <a:pt x="113" y="2"/>
                  </a:lnTo>
                  <a:lnTo>
                    <a:pt x="109" y="4"/>
                  </a:lnTo>
                  <a:lnTo>
                    <a:pt x="104" y="8"/>
                  </a:lnTo>
                  <a:lnTo>
                    <a:pt x="98" y="10"/>
                  </a:lnTo>
                  <a:lnTo>
                    <a:pt x="94" y="16"/>
                  </a:lnTo>
                  <a:lnTo>
                    <a:pt x="90" y="22"/>
                  </a:lnTo>
                  <a:lnTo>
                    <a:pt x="86" y="24"/>
                  </a:lnTo>
                  <a:lnTo>
                    <a:pt x="82" y="27"/>
                  </a:lnTo>
                  <a:lnTo>
                    <a:pt x="79" y="31"/>
                  </a:lnTo>
                  <a:lnTo>
                    <a:pt x="73" y="37"/>
                  </a:lnTo>
                  <a:lnTo>
                    <a:pt x="67" y="43"/>
                  </a:lnTo>
                  <a:lnTo>
                    <a:pt x="61" y="49"/>
                  </a:lnTo>
                  <a:lnTo>
                    <a:pt x="56" y="56"/>
                  </a:lnTo>
                  <a:lnTo>
                    <a:pt x="50" y="62"/>
                  </a:lnTo>
                  <a:lnTo>
                    <a:pt x="44" y="68"/>
                  </a:lnTo>
                  <a:lnTo>
                    <a:pt x="36" y="74"/>
                  </a:lnTo>
                  <a:lnTo>
                    <a:pt x="30" y="79"/>
                  </a:lnTo>
                  <a:lnTo>
                    <a:pt x="27" y="87"/>
                  </a:lnTo>
                  <a:lnTo>
                    <a:pt x="23" y="91"/>
                  </a:lnTo>
                  <a:lnTo>
                    <a:pt x="19" y="97"/>
                  </a:lnTo>
                  <a:lnTo>
                    <a:pt x="15" y="101"/>
                  </a:lnTo>
                  <a:lnTo>
                    <a:pt x="13" y="105"/>
                  </a:lnTo>
                  <a:lnTo>
                    <a:pt x="9" y="110"/>
                  </a:lnTo>
                  <a:lnTo>
                    <a:pt x="7" y="114"/>
                  </a:lnTo>
                  <a:lnTo>
                    <a:pt x="5" y="118"/>
                  </a:lnTo>
                  <a:lnTo>
                    <a:pt x="3" y="122"/>
                  </a:lnTo>
                  <a:lnTo>
                    <a:pt x="0" y="128"/>
                  </a:lnTo>
                  <a:lnTo>
                    <a:pt x="0" y="130"/>
                  </a:lnTo>
                  <a:lnTo>
                    <a:pt x="21" y="132"/>
                  </a:lnTo>
                  <a:lnTo>
                    <a:pt x="21" y="1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4703760" y="3859200"/>
              <a:ext cx="366840" cy="465120"/>
            </a:xfrm>
            <a:custGeom>
              <a:avLst/>
              <a:gdLst/>
              <a:ahLst/>
              <a:rect l="l" t="t" r="r" b="b"/>
              <a:pathLst>
                <a:path w="231" h="293">
                  <a:moveTo>
                    <a:pt x="38" y="13"/>
                  </a:moveTo>
                  <a:lnTo>
                    <a:pt x="36" y="10"/>
                  </a:lnTo>
                  <a:lnTo>
                    <a:pt x="32" y="8"/>
                  </a:lnTo>
                  <a:lnTo>
                    <a:pt x="29" y="6"/>
                  </a:lnTo>
                  <a:lnTo>
                    <a:pt x="25" y="4"/>
                  </a:lnTo>
                  <a:lnTo>
                    <a:pt x="17" y="0"/>
                  </a:lnTo>
                  <a:lnTo>
                    <a:pt x="11" y="0"/>
                  </a:lnTo>
                  <a:lnTo>
                    <a:pt x="5" y="0"/>
                  </a:lnTo>
                  <a:lnTo>
                    <a:pt x="2" y="2"/>
                  </a:lnTo>
                  <a:lnTo>
                    <a:pt x="0" y="6"/>
                  </a:lnTo>
                  <a:lnTo>
                    <a:pt x="0" y="8"/>
                  </a:lnTo>
                  <a:lnTo>
                    <a:pt x="2" y="12"/>
                  </a:lnTo>
                  <a:lnTo>
                    <a:pt x="5" y="17"/>
                  </a:lnTo>
                  <a:lnTo>
                    <a:pt x="7" y="19"/>
                  </a:lnTo>
                  <a:lnTo>
                    <a:pt x="11" y="25"/>
                  </a:lnTo>
                  <a:lnTo>
                    <a:pt x="15" y="29"/>
                  </a:lnTo>
                  <a:lnTo>
                    <a:pt x="21" y="33"/>
                  </a:lnTo>
                  <a:lnTo>
                    <a:pt x="25" y="37"/>
                  </a:lnTo>
                  <a:lnTo>
                    <a:pt x="30" y="40"/>
                  </a:lnTo>
                  <a:lnTo>
                    <a:pt x="36" y="44"/>
                  </a:lnTo>
                  <a:lnTo>
                    <a:pt x="42" y="50"/>
                  </a:lnTo>
                  <a:lnTo>
                    <a:pt x="46" y="54"/>
                  </a:lnTo>
                  <a:lnTo>
                    <a:pt x="52" y="58"/>
                  </a:lnTo>
                  <a:lnTo>
                    <a:pt x="56" y="62"/>
                  </a:lnTo>
                  <a:lnTo>
                    <a:pt x="59" y="65"/>
                  </a:lnTo>
                  <a:lnTo>
                    <a:pt x="61" y="69"/>
                  </a:lnTo>
                  <a:lnTo>
                    <a:pt x="63" y="73"/>
                  </a:lnTo>
                  <a:lnTo>
                    <a:pt x="63" y="79"/>
                  </a:lnTo>
                  <a:lnTo>
                    <a:pt x="65" y="83"/>
                  </a:lnTo>
                  <a:lnTo>
                    <a:pt x="63" y="87"/>
                  </a:lnTo>
                  <a:lnTo>
                    <a:pt x="61" y="92"/>
                  </a:lnTo>
                  <a:lnTo>
                    <a:pt x="57" y="98"/>
                  </a:lnTo>
                  <a:lnTo>
                    <a:pt x="56" y="106"/>
                  </a:lnTo>
                  <a:lnTo>
                    <a:pt x="50" y="112"/>
                  </a:lnTo>
                  <a:lnTo>
                    <a:pt x="46" y="119"/>
                  </a:lnTo>
                  <a:lnTo>
                    <a:pt x="42" y="125"/>
                  </a:lnTo>
                  <a:lnTo>
                    <a:pt x="38" y="135"/>
                  </a:lnTo>
                  <a:lnTo>
                    <a:pt x="32" y="141"/>
                  </a:lnTo>
                  <a:lnTo>
                    <a:pt x="30" y="146"/>
                  </a:lnTo>
                  <a:lnTo>
                    <a:pt x="27" y="152"/>
                  </a:lnTo>
                  <a:lnTo>
                    <a:pt x="25" y="158"/>
                  </a:lnTo>
                  <a:lnTo>
                    <a:pt x="23" y="162"/>
                  </a:lnTo>
                  <a:lnTo>
                    <a:pt x="23" y="166"/>
                  </a:lnTo>
                  <a:lnTo>
                    <a:pt x="25" y="170"/>
                  </a:lnTo>
                  <a:lnTo>
                    <a:pt x="29" y="172"/>
                  </a:lnTo>
                  <a:lnTo>
                    <a:pt x="32" y="172"/>
                  </a:lnTo>
                  <a:lnTo>
                    <a:pt x="38" y="172"/>
                  </a:lnTo>
                  <a:lnTo>
                    <a:pt x="42" y="170"/>
                  </a:lnTo>
                  <a:lnTo>
                    <a:pt x="44" y="170"/>
                  </a:lnTo>
                  <a:lnTo>
                    <a:pt x="50" y="170"/>
                  </a:lnTo>
                  <a:lnTo>
                    <a:pt x="54" y="170"/>
                  </a:lnTo>
                  <a:lnTo>
                    <a:pt x="57" y="168"/>
                  </a:lnTo>
                  <a:lnTo>
                    <a:pt x="61" y="168"/>
                  </a:lnTo>
                  <a:lnTo>
                    <a:pt x="65" y="166"/>
                  </a:lnTo>
                  <a:lnTo>
                    <a:pt x="71" y="164"/>
                  </a:lnTo>
                  <a:lnTo>
                    <a:pt x="75" y="164"/>
                  </a:lnTo>
                  <a:lnTo>
                    <a:pt x="79" y="162"/>
                  </a:lnTo>
                  <a:lnTo>
                    <a:pt x="83" y="162"/>
                  </a:lnTo>
                  <a:lnTo>
                    <a:pt x="88" y="162"/>
                  </a:lnTo>
                  <a:lnTo>
                    <a:pt x="92" y="160"/>
                  </a:lnTo>
                  <a:lnTo>
                    <a:pt x="96" y="160"/>
                  </a:lnTo>
                  <a:lnTo>
                    <a:pt x="100" y="158"/>
                  </a:lnTo>
                  <a:lnTo>
                    <a:pt x="104" y="158"/>
                  </a:lnTo>
                  <a:lnTo>
                    <a:pt x="110" y="156"/>
                  </a:lnTo>
                  <a:lnTo>
                    <a:pt x="117" y="156"/>
                  </a:lnTo>
                  <a:lnTo>
                    <a:pt x="121" y="156"/>
                  </a:lnTo>
                  <a:lnTo>
                    <a:pt x="123" y="158"/>
                  </a:lnTo>
                  <a:lnTo>
                    <a:pt x="123" y="160"/>
                  </a:lnTo>
                  <a:lnTo>
                    <a:pt x="123" y="166"/>
                  </a:lnTo>
                  <a:lnTo>
                    <a:pt x="119" y="170"/>
                  </a:lnTo>
                  <a:lnTo>
                    <a:pt x="117" y="175"/>
                  </a:lnTo>
                  <a:lnTo>
                    <a:pt x="113" y="181"/>
                  </a:lnTo>
                  <a:lnTo>
                    <a:pt x="111" y="187"/>
                  </a:lnTo>
                  <a:lnTo>
                    <a:pt x="108" y="193"/>
                  </a:lnTo>
                  <a:lnTo>
                    <a:pt x="106" y="199"/>
                  </a:lnTo>
                  <a:lnTo>
                    <a:pt x="102" y="204"/>
                  </a:lnTo>
                  <a:lnTo>
                    <a:pt x="100" y="210"/>
                  </a:lnTo>
                  <a:lnTo>
                    <a:pt x="98" y="216"/>
                  </a:lnTo>
                  <a:lnTo>
                    <a:pt x="98" y="220"/>
                  </a:lnTo>
                  <a:lnTo>
                    <a:pt x="98" y="224"/>
                  </a:lnTo>
                  <a:lnTo>
                    <a:pt x="100" y="229"/>
                  </a:lnTo>
                  <a:lnTo>
                    <a:pt x="100" y="231"/>
                  </a:lnTo>
                  <a:lnTo>
                    <a:pt x="104" y="233"/>
                  </a:lnTo>
                  <a:lnTo>
                    <a:pt x="108" y="235"/>
                  </a:lnTo>
                  <a:lnTo>
                    <a:pt x="115" y="235"/>
                  </a:lnTo>
                  <a:lnTo>
                    <a:pt x="121" y="235"/>
                  </a:lnTo>
                  <a:lnTo>
                    <a:pt x="127" y="233"/>
                  </a:lnTo>
                  <a:lnTo>
                    <a:pt x="133" y="233"/>
                  </a:lnTo>
                  <a:lnTo>
                    <a:pt x="140" y="233"/>
                  </a:lnTo>
                  <a:lnTo>
                    <a:pt x="146" y="231"/>
                  </a:lnTo>
                  <a:lnTo>
                    <a:pt x="152" y="231"/>
                  </a:lnTo>
                  <a:lnTo>
                    <a:pt x="156" y="231"/>
                  </a:lnTo>
                  <a:lnTo>
                    <a:pt x="162" y="233"/>
                  </a:lnTo>
                  <a:lnTo>
                    <a:pt x="167" y="233"/>
                  </a:lnTo>
                  <a:lnTo>
                    <a:pt x="171" y="233"/>
                  </a:lnTo>
                  <a:lnTo>
                    <a:pt x="175" y="233"/>
                  </a:lnTo>
                  <a:lnTo>
                    <a:pt x="179" y="235"/>
                  </a:lnTo>
                  <a:lnTo>
                    <a:pt x="183" y="237"/>
                  </a:lnTo>
                  <a:lnTo>
                    <a:pt x="185" y="241"/>
                  </a:lnTo>
                  <a:lnTo>
                    <a:pt x="187" y="243"/>
                  </a:lnTo>
                  <a:lnTo>
                    <a:pt x="192" y="251"/>
                  </a:lnTo>
                  <a:lnTo>
                    <a:pt x="196" y="254"/>
                  </a:lnTo>
                  <a:lnTo>
                    <a:pt x="200" y="258"/>
                  </a:lnTo>
                  <a:lnTo>
                    <a:pt x="204" y="264"/>
                  </a:lnTo>
                  <a:lnTo>
                    <a:pt x="208" y="268"/>
                  </a:lnTo>
                  <a:lnTo>
                    <a:pt x="212" y="272"/>
                  </a:lnTo>
                  <a:lnTo>
                    <a:pt x="217" y="278"/>
                  </a:lnTo>
                  <a:lnTo>
                    <a:pt x="219" y="280"/>
                  </a:lnTo>
                  <a:lnTo>
                    <a:pt x="225" y="285"/>
                  </a:lnTo>
                  <a:lnTo>
                    <a:pt x="229" y="291"/>
                  </a:lnTo>
                  <a:lnTo>
                    <a:pt x="231" y="293"/>
                  </a:lnTo>
                  <a:lnTo>
                    <a:pt x="231" y="289"/>
                  </a:lnTo>
                  <a:lnTo>
                    <a:pt x="227" y="285"/>
                  </a:lnTo>
                  <a:lnTo>
                    <a:pt x="225" y="280"/>
                  </a:lnTo>
                  <a:lnTo>
                    <a:pt x="223" y="276"/>
                  </a:lnTo>
                  <a:lnTo>
                    <a:pt x="221" y="272"/>
                  </a:lnTo>
                  <a:lnTo>
                    <a:pt x="219" y="266"/>
                  </a:lnTo>
                  <a:lnTo>
                    <a:pt x="217" y="260"/>
                  </a:lnTo>
                  <a:lnTo>
                    <a:pt x="216" y="254"/>
                  </a:lnTo>
                  <a:lnTo>
                    <a:pt x="214" y="249"/>
                  </a:lnTo>
                  <a:lnTo>
                    <a:pt x="212" y="245"/>
                  </a:lnTo>
                  <a:lnTo>
                    <a:pt x="210" y="239"/>
                  </a:lnTo>
                  <a:lnTo>
                    <a:pt x="208" y="235"/>
                  </a:lnTo>
                  <a:lnTo>
                    <a:pt x="208" y="229"/>
                  </a:lnTo>
                  <a:lnTo>
                    <a:pt x="208" y="227"/>
                  </a:lnTo>
                  <a:lnTo>
                    <a:pt x="206" y="226"/>
                  </a:lnTo>
                  <a:lnTo>
                    <a:pt x="202" y="224"/>
                  </a:lnTo>
                  <a:lnTo>
                    <a:pt x="198" y="222"/>
                  </a:lnTo>
                  <a:lnTo>
                    <a:pt x="192" y="220"/>
                  </a:lnTo>
                  <a:lnTo>
                    <a:pt x="187" y="218"/>
                  </a:lnTo>
                  <a:lnTo>
                    <a:pt x="179" y="218"/>
                  </a:lnTo>
                  <a:lnTo>
                    <a:pt x="171" y="218"/>
                  </a:lnTo>
                  <a:lnTo>
                    <a:pt x="165" y="218"/>
                  </a:lnTo>
                  <a:lnTo>
                    <a:pt x="158" y="216"/>
                  </a:lnTo>
                  <a:lnTo>
                    <a:pt x="150" y="216"/>
                  </a:lnTo>
                  <a:lnTo>
                    <a:pt x="144" y="216"/>
                  </a:lnTo>
                  <a:lnTo>
                    <a:pt x="138" y="214"/>
                  </a:lnTo>
                  <a:lnTo>
                    <a:pt x="133" y="212"/>
                  </a:lnTo>
                  <a:lnTo>
                    <a:pt x="129" y="212"/>
                  </a:lnTo>
                  <a:lnTo>
                    <a:pt x="125" y="210"/>
                  </a:lnTo>
                  <a:lnTo>
                    <a:pt x="125" y="208"/>
                  </a:lnTo>
                  <a:lnTo>
                    <a:pt x="125" y="202"/>
                  </a:lnTo>
                  <a:lnTo>
                    <a:pt x="131" y="195"/>
                  </a:lnTo>
                  <a:lnTo>
                    <a:pt x="133" y="191"/>
                  </a:lnTo>
                  <a:lnTo>
                    <a:pt x="137" y="187"/>
                  </a:lnTo>
                  <a:lnTo>
                    <a:pt x="140" y="183"/>
                  </a:lnTo>
                  <a:lnTo>
                    <a:pt x="144" y="179"/>
                  </a:lnTo>
                  <a:lnTo>
                    <a:pt x="148" y="175"/>
                  </a:lnTo>
                  <a:lnTo>
                    <a:pt x="150" y="170"/>
                  </a:lnTo>
                  <a:lnTo>
                    <a:pt x="154" y="166"/>
                  </a:lnTo>
                  <a:lnTo>
                    <a:pt x="156" y="162"/>
                  </a:lnTo>
                  <a:lnTo>
                    <a:pt x="160" y="154"/>
                  </a:lnTo>
                  <a:lnTo>
                    <a:pt x="160" y="148"/>
                  </a:lnTo>
                  <a:lnTo>
                    <a:pt x="156" y="146"/>
                  </a:lnTo>
                  <a:lnTo>
                    <a:pt x="152" y="145"/>
                  </a:lnTo>
                  <a:lnTo>
                    <a:pt x="146" y="143"/>
                  </a:lnTo>
                  <a:lnTo>
                    <a:pt x="138" y="143"/>
                  </a:lnTo>
                  <a:lnTo>
                    <a:pt x="133" y="143"/>
                  </a:lnTo>
                  <a:lnTo>
                    <a:pt x="129" y="143"/>
                  </a:lnTo>
                  <a:lnTo>
                    <a:pt x="125" y="143"/>
                  </a:lnTo>
                  <a:lnTo>
                    <a:pt x="121" y="143"/>
                  </a:lnTo>
                  <a:lnTo>
                    <a:pt x="115" y="143"/>
                  </a:lnTo>
                  <a:lnTo>
                    <a:pt x="111" y="143"/>
                  </a:lnTo>
                  <a:lnTo>
                    <a:pt x="106" y="143"/>
                  </a:lnTo>
                  <a:lnTo>
                    <a:pt x="102" y="143"/>
                  </a:lnTo>
                  <a:lnTo>
                    <a:pt x="96" y="143"/>
                  </a:lnTo>
                  <a:lnTo>
                    <a:pt x="92" y="143"/>
                  </a:lnTo>
                  <a:lnTo>
                    <a:pt x="86" y="143"/>
                  </a:lnTo>
                  <a:lnTo>
                    <a:pt x="83" y="143"/>
                  </a:lnTo>
                  <a:lnTo>
                    <a:pt x="79" y="143"/>
                  </a:lnTo>
                  <a:lnTo>
                    <a:pt x="75" y="143"/>
                  </a:lnTo>
                  <a:lnTo>
                    <a:pt x="71" y="143"/>
                  </a:lnTo>
                  <a:lnTo>
                    <a:pt x="67" y="143"/>
                  </a:lnTo>
                  <a:lnTo>
                    <a:pt x="61" y="141"/>
                  </a:lnTo>
                  <a:lnTo>
                    <a:pt x="57" y="139"/>
                  </a:lnTo>
                  <a:lnTo>
                    <a:pt x="56" y="137"/>
                  </a:lnTo>
                  <a:lnTo>
                    <a:pt x="57" y="133"/>
                  </a:lnTo>
                  <a:lnTo>
                    <a:pt x="57" y="129"/>
                  </a:lnTo>
                  <a:lnTo>
                    <a:pt x="61" y="125"/>
                  </a:lnTo>
                  <a:lnTo>
                    <a:pt x="63" y="121"/>
                  </a:lnTo>
                  <a:lnTo>
                    <a:pt x="69" y="119"/>
                  </a:lnTo>
                  <a:lnTo>
                    <a:pt x="73" y="116"/>
                  </a:lnTo>
                  <a:lnTo>
                    <a:pt x="79" y="112"/>
                  </a:lnTo>
                  <a:lnTo>
                    <a:pt x="84" y="108"/>
                  </a:lnTo>
                  <a:lnTo>
                    <a:pt x="90" y="104"/>
                  </a:lnTo>
                  <a:lnTo>
                    <a:pt x="96" y="100"/>
                  </a:lnTo>
                  <a:lnTo>
                    <a:pt x="100" y="96"/>
                  </a:lnTo>
                  <a:lnTo>
                    <a:pt x="106" y="92"/>
                  </a:lnTo>
                  <a:lnTo>
                    <a:pt x="110" y="89"/>
                  </a:lnTo>
                  <a:lnTo>
                    <a:pt x="111" y="85"/>
                  </a:lnTo>
                  <a:lnTo>
                    <a:pt x="113" y="81"/>
                  </a:lnTo>
                  <a:lnTo>
                    <a:pt x="115" y="77"/>
                  </a:lnTo>
                  <a:lnTo>
                    <a:pt x="115" y="73"/>
                  </a:lnTo>
                  <a:lnTo>
                    <a:pt x="111" y="67"/>
                  </a:lnTo>
                  <a:lnTo>
                    <a:pt x="108" y="64"/>
                  </a:lnTo>
                  <a:lnTo>
                    <a:pt x="104" y="58"/>
                  </a:lnTo>
                  <a:lnTo>
                    <a:pt x="98" y="54"/>
                  </a:lnTo>
                  <a:lnTo>
                    <a:pt x="92" y="46"/>
                  </a:lnTo>
                  <a:lnTo>
                    <a:pt x="86" y="42"/>
                  </a:lnTo>
                  <a:lnTo>
                    <a:pt x="79" y="38"/>
                  </a:lnTo>
                  <a:lnTo>
                    <a:pt x="73" y="33"/>
                  </a:lnTo>
                  <a:lnTo>
                    <a:pt x="67" y="29"/>
                  </a:lnTo>
                  <a:lnTo>
                    <a:pt x="59" y="25"/>
                  </a:lnTo>
                  <a:lnTo>
                    <a:pt x="54" y="21"/>
                  </a:lnTo>
                  <a:lnTo>
                    <a:pt x="50" y="19"/>
                  </a:lnTo>
                  <a:lnTo>
                    <a:pt x="44" y="15"/>
                  </a:lnTo>
                  <a:lnTo>
                    <a:pt x="42" y="13"/>
                  </a:lnTo>
                  <a:lnTo>
                    <a:pt x="38" y="13"/>
                  </a:lnTo>
                  <a:lnTo>
                    <a:pt x="3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4406760" y="3559320"/>
              <a:ext cx="495360" cy="446040"/>
            </a:xfrm>
            <a:custGeom>
              <a:avLst/>
              <a:gdLst/>
              <a:ahLst/>
              <a:rect l="l" t="t" r="r" b="b"/>
              <a:pathLst>
                <a:path w="312" h="281">
                  <a:moveTo>
                    <a:pt x="113" y="139"/>
                  </a:moveTo>
                  <a:lnTo>
                    <a:pt x="113" y="145"/>
                  </a:lnTo>
                  <a:lnTo>
                    <a:pt x="113" y="150"/>
                  </a:lnTo>
                  <a:lnTo>
                    <a:pt x="113" y="152"/>
                  </a:lnTo>
                  <a:lnTo>
                    <a:pt x="113" y="158"/>
                  </a:lnTo>
                  <a:lnTo>
                    <a:pt x="113" y="162"/>
                  </a:lnTo>
                  <a:lnTo>
                    <a:pt x="113" y="166"/>
                  </a:lnTo>
                  <a:lnTo>
                    <a:pt x="113" y="170"/>
                  </a:lnTo>
                  <a:lnTo>
                    <a:pt x="113" y="174"/>
                  </a:lnTo>
                  <a:lnTo>
                    <a:pt x="113" y="179"/>
                  </a:lnTo>
                  <a:lnTo>
                    <a:pt x="113" y="185"/>
                  </a:lnTo>
                  <a:lnTo>
                    <a:pt x="113" y="189"/>
                  </a:lnTo>
                  <a:lnTo>
                    <a:pt x="113" y="195"/>
                  </a:lnTo>
                  <a:lnTo>
                    <a:pt x="113" y="199"/>
                  </a:lnTo>
                  <a:lnTo>
                    <a:pt x="113" y="204"/>
                  </a:lnTo>
                  <a:lnTo>
                    <a:pt x="113" y="208"/>
                  </a:lnTo>
                  <a:lnTo>
                    <a:pt x="113" y="212"/>
                  </a:lnTo>
                  <a:lnTo>
                    <a:pt x="113" y="216"/>
                  </a:lnTo>
                  <a:lnTo>
                    <a:pt x="115" y="222"/>
                  </a:lnTo>
                  <a:lnTo>
                    <a:pt x="115" y="227"/>
                  </a:lnTo>
                  <a:lnTo>
                    <a:pt x="117" y="235"/>
                  </a:lnTo>
                  <a:lnTo>
                    <a:pt x="117" y="239"/>
                  </a:lnTo>
                  <a:lnTo>
                    <a:pt x="119" y="245"/>
                  </a:lnTo>
                  <a:lnTo>
                    <a:pt x="121" y="245"/>
                  </a:lnTo>
                  <a:lnTo>
                    <a:pt x="123" y="245"/>
                  </a:lnTo>
                  <a:lnTo>
                    <a:pt x="125" y="243"/>
                  </a:lnTo>
                  <a:lnTo>
                    <a:pt x="127" y="239"/>
                  </a:lnTo>
                  <a:lnTo>
                    <a:pt x="131" y="233"/>
                  </a:lnTo>
                  <a:lnTo>
                    <a:pt x="133" y="227"/>
                  </a:lnTo>
                  <a:lnTo>
                    <a:pt x="135" y="220"/>
                  </a:lnTo>
                  <a:lnTo>
                    <a:pt x="138" y="212"/>
                  </a:lnTo>
                  <a:lnTo>
                    <a:pt x="142" y="204"/>
                  </a:lnTo>
                  <a:lnTo>
                    <a:pt x="144" y="197"/>
                  </a:lnTo>
                  <a:lnTo>
                    <a:pt x="148" y="189"/>
                  </a:lnTo>
                  <a:lnTo>
                    <a:pt x="152" y="183"/>
                  </a:lnTo>
                  <a:lnTo>
                    <a:pt x="156" y="175"/>
                  </a:lnTo>
                  <a:lnTo>
                    <a:pt x="160" y="170"/>
                  </a:lnTo>
                  <a:lnTo>
                    <a:pt x="162" y="164"/>
                  </a:lnTo>
                  <a:lnTo>
                    <a:pt x="165" y="160"/>
                  </a:lnTo>
                  <a:lnTo>
                    <a:pt x="169" y="158"/>
                  </a:lnTo>
                  <a:lnTo>
                    <a:pt x="173" y="158"/>
                  </a:lnTo>
                  <a:lnTo>
                    <a:pt x="177" y="156"/>
                  </a:lnTo>
                  <a:lnTo>
                    <a:pt x="183" y="158"/>
                  </a:lnTo>
                  <a:lnTo>
                    <a:pt x="187" y="158"/>
                  </a:lnTo>
                  <a:lnTo>
                    <a:pt x="191" y="158"/>
                  </a:lnTo>
                  <a:lnTo>
                    <a:pt x="194" y="158"/>
                  </a:lnTo>
                  <a:lnTo>
                    <a:pt x="200" y="160"/>
                  </a:lnTo>
                  <a:lnTo>
                    <a:pt x="204" y="160"/>
                  </a:lnTo>
                  <a:lnTo>
                    <a:pt x="208" y="162"/>
                  </a:lnTo>
                  <a:lnTo>
                    <a:pt x="214" y="164"/>
                  </a:lnTo>
                  <a:lnTo>
                    <a:pt x="217" y="164"/>
                  </a:lnTo>
                  <a:lnTo>
                    <a:pt x="223" y="166"/>
                  </a:lnTo>
                  <a:lnTo>
                    <a:pt x="229" y="166"/>
                  </a:lnTo>
                  <a:lnTo>
                    <a:pt x="233" y="168"/>
                  </a:lnTo>
                  <a:lnTo>
                    <a:pt x="239" y="170"/>
                  </a:lnTo>
                  <a:lnTo>
                    <a:pt x="243" y="170"/>
                  </a:lnTo>
                  <a:lnTo>
                    <a:pt x="246" y="172"/>
                  </a:lnTo>
                  <a:lnTo>
                    <a:pt x="250" y="172"/>
                  </a:lnTo>
                  <a:lnTo>
                    <a:pt x="256" y="172"/>
                  </a:lnTo>
                  <a:lnTo>
                    <a:pt x="264" y="174"/>
                  </a:lnTo>
                  <a:lnTo>
                    <a:pt x="270" y="174"/>
                  </a:lnTo>
                  <a:lnTo>
                    <a:pt x="275" y="172"/>
                  </a:lnTo>
                  <a:lnTo>
                    <a:pt x="279" y="172"/>
                  </a:lnTo>
                  <a:lnTo>
                    <a:pt x="279" y="168"/>
                  </a:lnTo>
                  <a:lnTo>
                    <a:pt x="279" y="166"/>
                  </a:lnTo>
                  <a:lnTo>
                    <a:pt x="273" y="160"/>
                  </a:lnTo>
                  <a:lnTo>
                    <a:pt x="270" y="154"/>
                  </a:lnTo>
                  <a:lnTo>
                    <a:pt x="264" y="148"/>
                  </a:lnTo>
                  <a:lnTo>
                    <a:pt x="260" y="145"/>
                  </a:lnTo>
                  <a:lnTo>
                    <a:pt x="254" y="139"/>
                  </a:lnTo>
                  <a:lnTo>
                    <a:pt x="248" y="135"/>
                  </a:lnTo>
                  <a:lnTo>
                    <a:pt x="243" y="129"/>
                  </a:lnTo>
                  <a:lnTo>
                    <a:pt x="237" y="125"/>
                  </a:lnTo>
                  <a:lnTo>
                    <a:pt x="231" y="120"/>
                  </a:lnTo>
                  <a:lnTo>
                    <a:pt x="225" y="116"/>
                  </a:lnTo>
                  <a:lnTo>
                    <a:pt x="221" y="110"/>
                  </a:lnTo>
                  <a:lnTo>
                    <a:pt x="217" y="108"/>
                  </a:lnTo>
                  <a:lnTo>
                    <a:pt x="212" y="102"/>
                  </a:lnTo>
                  <a:lnTo>
                    <a:pt x="210" y="102"/>
                  </a:lnTo>
                  <a:lnTo>
                    <a:pt x="210" y="100"/>
                  </a:lnTo>
                  <a:lnTo>
                    <a:pt x="210" y="96"/>
                  </a:lnTo>
                  <a:lnTo>
                    <a:pt x="212" y="91"/>
                  </a:lnTo>
                  <a:lnTo>
                    <a:pt x="214" y="85"/>
                  </a:lnTo>
                  <a:lnTo>
                    <a:pt x="214" y="79"/>
                  </a:lnTo>
                  <a:lnTo>
                    <a:pt x="216" y="75"/>
                  </a:lnTo>
                  <a:lnTo>
                    <a:pt x="217" y="71"/>
                  </a:lnTo>
                  <a:lnTo>
                    <a:pt x="219" y="67"/>
                  </a:lnTo>
                  <a:lnTo>
                    <a:pt x="219" y="62"/>
                  </a:lnTo>
                  <a:lnTo>
                    <a:pt x="221" y="58"/>
                  </a:lnTo>
                  <a:lnTo>
                    <a:pt x="223" y="52"/>
                  </a:lnTo>
                  <a:lnTo>
                    <a:pt x="225" y="48"/>
                  </a:lnTo>
                  <a:lnTo>
                    <a:pt x="227" y="42"/>
                  </a:lnTo>
                  <a:lnTo>
                    <a:pt x="229" y="39"/>
                  </a:lnTo>
                  <a:lnTo>
                    <a:pt x="229" y="33"/>
                  </a:lnTo>
                  <a:lnTo>
                    <a:pt x="231" y="29"/>
                  </a:lnTo>
                  <a:lnTo>
                    <a:pt x="233" y="25"/>
                  </a:lnTo>
                  <a:lnTo>
                    <a:pt x="235" y="21"/>
                  </a:lnTo>
                  <a:lnTo>
                    <a:pt x="237" y="15"/>
                  </a:lnTo>
                  <a:lnTo>
                    <a:pt x="239" y="13"/>
                  </a:lnTo>
                  <a:lnTo>
                    <a:pt x="243" y="6"/>
                  </a:lnTo>
                  <a:lnTo>
                    <a:pt x="244" y="2"/>
                  </a:lnTo>
                  <a:lnTo>
                    <a:pt x="246" y="0"/>
                  </a:lnTo>
                  <a:lnTo>
                    <a:pt x="250" y="0"/>
                  </a:lnTo>
                  <a:lnTo>
                    <a:pt x="256" y="4"/>
                  </a:lnTo>
                  <a:lnTo>
                    <a:pt x="264" y="8"/>
                  </a:lnTo>
                  <a:lnTo>
                    <a:pt x="268" y="12"/>
                  </a:lnTo>
                  <a:lnTo>
                    <a:pt x="268" y="19"/>
                  </a:lnTo>
                  <a:lnTo>
                    <a:pt x="266" y="21"/>
                  </a:lnTo>
                  <a:lnTo>
                    <a:pt x="264" y="23"/>
                  </a:lnTo>
                  <a:lnTo>
                    <a:pt x="262" y="27"/>
                  </a:lnTo>
                  <a:lnTo>
                    <a:pt x="258" y="33"/>
                  </a:lnTo>
                  <a:lnTo>
                    <a:pt x="254" y="39"/>
                  </a:lnTo>
                  <a:lnTo>
                    <a:pt x="250" y="44"/>
                  </a:lnTo>
                  <a:lnTo>
                    <a:pt x="248" y="50"/>
                  </a:lnTo>
                  <a:lnTo>
                    <a:pt x="244" y="58"/>
                  </a:lnTo>
                  <a:lnTo>
                    <a:pt x="241" y="64"/>
                  </a:lnTo>
                  <a:lnTo>
                    <a:pt x="239" y="71"/>
                  </a:lnTo>
                  <a:lnTo>
                    <a:pt x="237" y="77"/>
                  </a:lnTo>
                  <a:lnTo>
                    <a:pt x="235" y="83"/>
                  </a:lnTo>
                  <a:lnTo>
                    <a:pt x="233" y="87"/>
                  </a:lnTo>
                  <a:lnTo>
                    <a:pt x="233" y="91"/>
                  </a:lnTo>
                  <a:lnTo>
                    <a:pt x="233" y="94"/>
                  </a:lnTo>
                  <a:lnTo>
                    <a:pt x="237" y="96"/>
                  </a:lnTo>
                  <a:lnTo>
                    <a:pt x="237" y="98"/>
                  </a:lnTo>
                  <a:lnTo>
                    <a:pt x="241" y="102"/>
                  </a:lnTo>
                  <a:lnTo>
                    <a:pt x="244" y="104"/>
                  </a:lnTo>
                  <a:lnTo>
                    <a:pt x="250" y="110"/>
                  </a:lnTo>
                  <a:lnTo>
                    <a:pt x="256" y="114"/>
                  </a:lnTo>
                  <a:lnTo>
                    <a:pt x="264" y="121"/>
                  </a:lnTo>
                  <a:lnTo>
                    <a:pt x="270" y="127"/>
                  </a:lnTo>
                  <a:lnTo>
                    <a:pt x="277" y="135"/>
                  </a:lnTo>
                  <a:lnTo>
                    <a:pt x="283" y="141"/>
                  </a:lnTo>
                  <a:lnTo>
                    <a:pt x="289" y="147"/>
                  </a:lnTo>
                  <a:lnTo>
                    <a:pt x="295" y="154"/>
                  </a:lnTo>
                  <a:lnTo>
                    <a:pt x="300" y="160"/>
                  </a:lnTo>
                  <a:lnTo>
                    <a:pt x="304" y="164"/>
                  </a:lnTo>
                  <a:lnTo>
                    <a:pt x="308" y="170"/>
                  </a:lnTo>
                  <a:lnTo>
                    <a:pt x="310" y="174"/>
                  </a:lnTo>
                  <a:lnTo>
                    <a:pt x="312" y="177"/>
                  </a:lnTo>
                  <a:lnTo>
                    <a:pt x="310" y="185"/>
                  </a:lnTo>
                  <a:lnTo>
                    <a:pt x="304" y="191"/>
                  </a:lnTo>
                  <a:lnTo>
                    <a:pt x="300" y="193"/>
                  </a:lnTo>
                  <a:lnTo>
                    <a:pt x="295" y="195"/>
                  </a:lnTo>
                  <a:lnTo>
                    <a:pt x="291" y="197"/>
                  </a:lnTo>
                  <a:lnTo>
                    <a:pt x="287" y="197"/>
                  </a:lnTo>
                  <a:lnTo>
                    <a:pt x="281" y="197"/>
                  </a:lnTo>
                  <a:lnTo>
                    <a:pt x="277" y="195"/>
                  </a:lnTo>
                  <a:lnTo>
                    <a:pt x="273" y="195"/>
                  </a:lnTo>
                  <a:lnTo>
                    <a:pt x="270" y="195"/>
                  </a:lnTo>
                  <a:lnTo>
                    <a:pt x="266" y="193"/>
                  </a:lnTo>
                  <a:lnTo>
                    <a:pt x="262" y="193"/>
                  </a:lnTo>
                  <a:lnTo>
                    <a:pt x="258" y="191"/>
                  </a:lnTo>
                  <a:lnTo>
                    <a:pt x="254" y="191"/>
                  </a:lnTo>
                  <a:lnTo>
                    <a:pt x="248" y="189"/>
                  </a:lnTo>
                  <a:lnTo>
                    <a:pt x="244" y="189"/>
                  </a:lnTo>
                  <a:lnTo>
                    <a:pt x="239" y="187"/>
                  </a:lnTo>
                  <a:lnTo>
                    <a:pt x="233" y="187"/>
                  </a:lnTo>
                  <a:lnTo>
                    <a:pt x="229" y="185"/>
                  </a:lnTo>
                  <a:lnTo>
                    <a:pt x="223" y="185"/>
                  </a:lnTo>
                  <a:lnTo>
                    <a:pt x="217" y="183"/>
                  </a:lnTo>
                  <a:lnTo>
                    <a:pt x="214" y="183"/>
                  </a:lnTo>
                  <a:lnTo>
                    <a:pt x="208" y="181"/>
                  </a:lnTo>
                  <a:lnTo>
                    <a:pt x="204" y="181"/>
                  </a:lnTo>
                  <a:lnTo>
                    <a:pt x="198" y="179"/>
                  </a:lnTo>
                  <a:lnTo>
                    <a:pt x="194" y="179"/>
                  </a:lnTo>
                  <a:lnTo>
                    <a:pt x="191" y="177"/>
                  </a:lnTo>
                  <a:lnTo>
                    <a:pt x="187" y="177"/>
                  </a:lnTo>
                  <a:lnTo>
                    <a:pt x="181" y="175"/>
                  </a:lnTo>
                  <a:lnTo>
                    <a:pt x="175" y="175"/>
                  </a:lnTo>
                  <a:lnTo>
                    <a:pt x="173" y="175"/>
                  </a:lnTo>
                  <a:lnTo>
                    <a:pt x="171" y="175"/>
                  </a:lnTo>
                  <a:lnTo>
                    <a:pt x="171" y="175"/>
                  </a:lnTo>
                  <a:lnTo>
                    <a:pt x="169" y="179"/>
                  </a:lnTo>
                  <a:lnTo>
                    <a:pt x="167" y="185"/>
                  </a:lnTo>
                  <a:lnTo>
                    <a:pt x="165" y="191"/>
                  </a:lnTo>
                  <a:lnTo>
                    <a:pt x="164" y="195"/>
                  </a:lnTo>
                  <a:lnTo>
                    <a:pt x="162" y="201"/>
                  </a:lnTo>
                  <a:lnTo>
                    <a:pt x="160" y="204"/>
                  </a:lnTo>
                  <a:lnTo>
                    <a:pt x="158" y="208"/>
                  </a:lnTo>
                  <a:lnTo>
                    <a:pt x="156" y="214"/>
                  </a:lnTo>
                  <a:lnTo>
                    <a:pt x="156" y="218"/>
                  </a:lnTo>
                  <a:lnTo>
                    <a:pt x="154" y="224"/>
                  </a:lnTo>
                  <a:lnTo>
                    <a:pt x="152" y="229"/>
                  </a:lnTo>
                  <a:lnTo>
                    <a:pt x="150" y="233"/>
                  </a:lnTo>
                  <a:lnTo>
                    <a:pt x="148" y="239"/>
                  </a:lnTo>
                  <a:lnTo>
                    <a:pt x="144" y="243"/>
                  </a:lnTo>
                  <a:lnTo>
                    <a:pt x="144" y="249"/>
                  </a:lnTo>
                  <a:lnTo>
                    <a:pt x="142" y="253"/>
                  </a:lnTo>
                  <a:lnTo>
                    <a:pt x="138" y="256"/>
                  </a:lnTo>
                  <a:lnTo>
                    <a:pt x="138" y="262"/>
                  </a:lnTo>
                  <a:lnTo>
                    <a:pt x="137" y="266"/>
                  </a:lnTo>
                  <a:lnTo>
                    <a:pt x="133" y="272"/>
                  </a:lnTo>
                  <a:lnTo>
                    <a:pt x="131" y="278"/>
                  </a:lnTo>
                  <a:lnTo>
                    <a:pt x="129" y="281"/>
                  </a:lnTo>
                  <a:lnTo>
                    <a:pt x="127" y="281"/>
                  </a:lnTo>
                  <a:lnTo>
                    <a:pt x="125" y="281"/>
                  </a:lnTo>
                  <a:lnTo>
                    <a:pt x="121" y="280"/>
                  </a:lnTo>
                  <a:lnTo>
                    <a:pt x="117" y="278"/>
                  </a:lnTo>
                  <a:lnTo>
                    <a:pt x="113" y="276"/>
                  </a:lnTo>
                  <a:lnTo>
                    <a:pt x="106" y="270"/>
                  </a:lnTo>
                  <a:lnTo>
                    <a:pt x="104" y="264"/>
                  </a:lnTo>
                  <a:lnTo>
                    <a:pt x="102" y="262"/>
                  </a:lnTo>
                  <a:lnTo>
                    <a:pt x="102" y="256"/>
                  </a:lnTo>
                  <a:lnTo>
                    <a:pt x="102" y="251"/>
                  </a:lnTo>
                  <a:lnTo>
                    <a:pt x="102" y="243"/>
                  </a:lnTo>
                  <a:lnTo>
                    <a:pt x="102" y="239"/>
                  </a:lnTo>
                  <a:lnTo>
                    <a:pt x="102" y="233"/>
                  </a:lnTo>
                  <a:lnTo>
                    <a:pt x="102" y="229"/>
                  </a:lnTo>
                  <a:lnTo>
                    <a:pt x="102" y="226"/>
                  </a:lnTo>
                  <a:lnTo>
                    <a:pt x="102" y="220"/>
                  </a:lnTo>
                  <a:lnTo>
                    <a:pt x="102" y="216"/>
                  </a:lnTo>
                  <a:lnTo>
                    <a:pt x="102" y="210"/>
                  </a:lnTo>
                  <a:lnTo>
                    <a:pt x="102" y="206"/>
                  </a:lnTo>
                  <a:lnTo>
                    <a:pt x="102" y="202"/>
                  </a:lnTo>
                  <a:lnTo>
                    <a:pt x="102" y="197"/>
                  </a:lnTo>
                  <a:lnTo>
                    <a:pt x="102" y="191"/>
                  </a:lnTo>
                  <a:lnTo>
                    <a:pt x="102" y="187"/>
                  </a:lnTo>
                  <a:lnTo>
                    <a:pt x="102" y="183"/>
                  </a:lnTo>
                  <a:lnTo>
                    <a:pt x="102" y="179"/>
                  </a:lnTo>
                  <a:lnTo>
                    <a:pt x="102" y="174"/>
                  </a:lnTo>
                  <a:lnTo>
                    <a:pt x="102" y="172"/>
                  </a:lnTo>
                  <a:lnTo>
                    <a:pt x="100" y="164"/>
                  </a:lnTo>
                  <a:lnTo>
                    <a:pt x="100" y="160"/>
                  </a:lnTo>
                  <a:lnTo>
                    <a:pt x="100" y="156"/>
                  </a:lnTo>
                  <a:lnTo>
                    <a:pt x="100" y="154"/>
                  </a:lnTo>
                  <a:lnTo>
                    <a:pt x="98" y="154"/>
                  </a:lnTo>
                  <a:lnTo>
                    <a:pt x="92" y="154"/>
                  </a:lnTo>
                  <a:lnTo>
                    <a:pt x="86" y="152"/>
                  </a:lnTo>
                  <a:lnTo>
                    <a:pt x="81" y="152"/>
                  </a:lnTo>
                  <a:lnTo>
                    <a:pt x="77" y="150"/>
                  </a:lnTo>
                  <a:lnTo>
                    <a:pt x="73" y="150"/>
                  </a:lnTo>
                  <a:lnTo>
                    <a:pt x="67" y="148"/>
                  </a:lnTo>
                  <a:lnTo>
                    <a:pt x="63" y="148"/>
                  </a:lnTo>
                  <a:lnTo>
                    <a:pt x="59" y="147"/>
                  </a:lnTo>
                  <a:lnTo>
                    <a:pt x="54" y="147"/>
                  </a:lnTo>
                  <a:lnTo>
                    <a:pt x="50" y="147"/>
                  </a:lnTo>
                  <a:lnTo>
                    <a:pt x="46" y="147"/>
                  </a:lnTo>
                  <a:lnTo>
                    <a:pt x="40" y="145"/>
                  </a:lnTo>
                  <a:lnTo>
                    <a:pt x="36" y="145"/>
                  </a:lnTo>
                  <a:lnTo>
                    <a:pt x="32" y="143"/>
                  </a:lnTo>
                  <a:lnTo>
                    <a:pt x="27" y="141"/>
                  </a:lnTo>
                  <a:lnTo>
                    <a:pt x="23" y="141"/>
                  </a:lnTo>
                  <a:lnTo>
                    <a:pt x="19" y="139"/>
                  </a:lnTo>
                  <a:lnTo>
                    <a:pt x="15" y="139"/>
                  </a:lnTo>
                  <a:lnTo>
                    <a:pt x="13" y="137"/>
                  </a:lnTo>
                  <a:lnTo>
                    <a:pt x="5" y="135"/>
                  </a:lnTo>
                  <a:lnTo>
                    <a:pt x="2" y="133"/>
                  </a:lnTo>
                  <a:lnTo>
                    <a:pt x="0" y="131"/>
                  </a:lnTo>
                  <a:lnTo>
                    <a:pt x="0" y="129"/>
                  </a:lnTo>
                  <a:lnTo>
                    <a:pt x="0" y="125"/>
                  </a:lnTo>
                  <a:lnTo>
                    <a:pt x="4" y="120"/>
                  </a:lnTo>
                  <a:lnTo>
                    <a:pt x="5" y="116"/>
                  </a:lnTo>
                  <a:lnTo>
                    <a:pt x="9" y="112"/>
                  </a:lnTo>
                  <a:lnTo>
                    <a:pt x="15" y="106"/>
                  </a:lnTo>
                  <a:lnTo>
                    <a:pt x="23" y="108"/>
                  </a:lnTo>
                  <a:lnTo>
                    <a:pt x="25" y="108"/>
                  </a:lnTo>
                  <a:lnTo>
                    <a:pt x="29" y="110"/>
                  </a:lnTo>
                  <a:lnTo>
                    <a:pt x="32" y="112"/>
                  </a:lnTo>
                  <a:lnTo>
                    <a:pt x="40" y="114"/>
                  </a:lnTo>
                  <a:lnTo>
                    <a:pt x="46" y="116"/>
                  </a:lnTo>
                  <a:lnTo>
                    <a:pt x="54" y="120"/>
                  </a:lnTo>
                  <a:lnTo>
                    <a:pt x="59" y="120"/>
                  </a:lnTo>
                  <a:lnTo>
                    <a:pt x="63" y="121"/>
                  </a:lnTo>
                  <a:lnTo>
                    <a:pt x="67" y="123"/>
                  </a:lnTo>
                  <a:lnTo>
                    <a:pt x="71" y="125"/>
                  </a:lnTo>
                  <a:lnTo>
                    <a:pt x="79" y="127"/>
                  </a:lnTo>
                  <a:lnTo>
                    <a:pt x="86" y="129"/>
                  </a:lnTo>
                  <a:lnTo>
                    <a:pt x="92" y="133"/>
                  </a:lnTo>
                  <a:lnTo>
                    <a:pt x="100" y="135"/>
                  </a:lnTo>
                  <a:lnTo>
                    <a:pt x="106" y="135"/>
                  </a:lnTo>
                  <a:lnTo>
                    <a:pt x="110" y="139"/>
                  </a:lnTo>
                  <a:lnTo>
                    <a:pt x="111" y="139"/>
                  </a:lnTo>
                  <a:lnTo>
                    <a:pt x="113" y="139"/>
                  </a:lnTo>
                  <a:lnTo>
                    <a:pt x="11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4421160" y="3483000"/>
              <a:ext cx="382680" cy="263520"/>
            </a:xfrm>
            <a:custGeom>
              <a:avLst/>
              <a:gdLst/>
              <a:ahLst/>
              <a:rect l="l" t="t" r="r" b="b"/>
              <a:pathLst>
                <a:path w="241" h="166">
                  <a:moveTo>
                    <a:pt x="25" y="164"/>
                  </a:moveTo>
                  <a:lnTo>
                    <a:pt x="27" y="162"/>
                  </a:lnTo>
                  <a:lnTo>
                    <a:pt x="31" y="160"/>
                  </a:lnTo>
                  <a:lnTo>
                    <a:pt x="35" y="160"/>
                  </a:lnTo>
                  <a:lnTo>
                    <a:pt x="43" y="158"/>
                  </a:lnTo>
                  <a:lnTo>
                    <a:pt x="49" y="158"/>
                  </a:lnTo>
                  <a:lnTo>
                    <a:pt x="54" y="156"/>
                  </a:lnTo>
                  <a:lnTo>
                    <a:pt x="60" y="156"/>
                  </a:lnTo>
                  <a:lnTo>
                    <a:pt x="68" y="154"/>
                  </a:lnTo>
                  <a:lnTo>
                    <a:pt x="74" y="152"/>
                  </a:lnTo>
                  <a:lnTo>
                    <a:pt x="79" y="152"/>
                  </a:lnTo>
                  <a:lnTo>
                    <a:pt x="85" y="150"/>
                  </a:lnTo>
                  <a:lnTo>
                    <a:pt x="91" y="150"/>
                  </a:lnTo>
                  <a:lnTo>
                    <a:pt x="93" y="146"/>
                  </a:lnTo>
                  <a:lnTo>
                    <a:pt x="97" y="146"/>
                  </a:lnTo>
                  <a:lnTo>
                    <a:pt x="99" y="144"/>
                  </a:lnTo>
                  <a:lnTo>
                    <a:pt x="101" y="142"/>
                  </a:lnTo>
                  <a:lnTo>
                    <a:pt x="99" y="139"/>
                  </a:lnTo>
                  <a:lnTo>
                    <a:pt x="99" y="133"/>
                  </a:lnTo>
                  <a:lnTo>
                    <a:pt x="97" y="131"/>
                  </a:lnTo>
                  <a:lnTo>
                    <a:pt x="97" y="127"/>
                  </a:lnTo>
                  <a:lnTo>
                    <a:pt x="97" y="123"/>
                  </a:lnTo>
                  <a:lnTo>
                    <a:pt x="97" y="119"/>
                  </a:lnTo>
                  <a:lnTo>
                    <a:pt x="95" y="114"/>
                  </a:lnTo>
                  <a:lnTo>
                    <a:pt x="93" y="110"/>
                  </a:lnTo>
                  <a:lnTo>
                    <a:pt x="93" y="104"/>
                  </a:lnTo>
                  <a:lnTo>
                    <a:pt x="91" y="100"/>
                  </a:lnTo>
                  <a:lnTo>
                    <a:pt x="91" y="94"/>
                  </a:lnTo>
                  <a:lnTo>
                    <a:pt x="89" y="90"/>
                  </a:lnTo>
                  <a:lnTo>
                    <a:pt x="89" y="85"/>
                  </a:lnTo>
                  <a:lnTo>
                    <a:pt x="89" y="81"/>
                  </a:lnTo>
                  <a:lnTo>
                    <a:pt x="87" y="75"/>
                  </a:lnTo>
                  <a:lnTo>
                    <a:pt x="85" y="69"/>
                  </a:lnTo>
                  <a:lnTo>
                    <a:pt x="85" y="65"/>
                  </a:lnTo>
                  <a:lnTo>
                    <a:pt x="83" y="60"/>
                  </a:lnTo>
                  <a:lnTo>
                    <a:pt x="83" y="56"/>
                  </a:lnTo>
                  <a:lnTo>
                    <a:pt x="83" y="52"/>
                  </a:lnTo>
                  <a:lnTo>
                    <a:pt x="83" y="48"/>
                  </a:lnTo>
                  <a:lnTo>
                    <a:pt x="83" y="44"/>
                  </a:lnTo>
                  <a:lnTo>
                    <a:pt x="81" y="38"/>
                  </a:lnTo>
                  <a:lnTo>
                    <a:pt x="81" y="34"/>
                  </a:lnTo>
                  <a:lnTo>
                    <a:pt x="83" y="33"/>
                  </a:lnTo>
                  <a:lnTo>
                    <a:pt x="85" y="33"/>
                  </a:lnTo>
                  <a:lnTo>
                    <a:pt x="85" y="33"/>
                  </a:lnTo>
                  <a:lnTo>
                    <a:pt x="89" y="36"/>
                  </a:lnTo>
                  <a:lnTo>
                    <a:pt x="93" y="40"/>
                  </a:lnTo>
                  <a:lnTo>
                    <a:pt x="97" y="48"/>
                  </a:lnTo>
                  <a:lnTo>
                    <a:pt x="99" y="52"/>
                  </a:lnTo>
                  <a:lnTo>
                    <a:pt x="102" y="54"/>
                  </a:lnTo>
                  <a:lnTo>
                    <a:pt x="104" y="60"/>
                  </a:lnTo>
                  <a:lnTo>
                    <a:pt x="108" y="63"/>
                  </a:lnTo>
                  <a:lnTo>
                    <a:pt x="110" y="67"/>
                  </a:lnTo>
                  <a:lnTo>
                    <a:pt x="114" y="71"/>
                  </a:lnTo>
                  <a:lnTo>
                    <a:pt x="118" y="75"/>
                  </a:lnTo>
                  <a:lnTo>
                    <a:pt x="122" y="81"/>
                  </a:lnTo>
                  <a:lnTo>
                    <a:pt x="124" y="85"/>
                  </a:lnTo>
                  <a:lnTo>
                    <a:pt x="128" y="88"/>
                  </a:lnTo>
                  <a:lnTo>
                    <a:pt x="129" y="92"/>
                  </a:lnTo>
                  <a:lnTo>
                    <a:pt x="133" y="96"/>
                  </a:lnTo>
                  <a:lnTo>
                    <a:pt x="139" y="104"/>
                  </a:lnTo>
                  <a:lnTo>
                    <a:pt x="145" y="112"/>
                  </a:lnTo>
                  <a:lnTo>
                    <a:pt x="149" y="115"/>
                  </a:lnTo>
                  <a:lnTo>
                    <a:pt x="153" y="121"/>
                  </a:lnTo>
                  <a:lnTo>
                    <a:pt x="155" y="123"/>
                  </a:lnTo>
                  <a:lnTo>
                    <a:pt x="158" y="125"/>
                  </a:lnTo>
                  <a:lnTo>
                    <a:pt x="160" y="123"/>
                  </a:lnTo>
                  <a:lnTo>
                    <a:pt x="164" y="121"/>
                  </a:lnTo>
                  <a:lnTo>
                    <a:pt x="168" y="119"/>
                  </a:lnTo>
                  <a:lnTo>
                    <a:pt x="174" y="117"/>
                  </a:lnTo>
                  <a:lnTo>
                    <a:pt x="178" y="114"/>
                  </a:lnTo>
                  <a:lnTo>
                    <a:pt x="185" y="112"/>
                  </a:lnTo>
                  <a:lnTo>
                    <a:pt x="191" y="108"/>
                  </a:lnTo>
                  <a:lnTo>
                    <a:pt x="197" y="104"/>
                  </a:lnTo>
                  <a:lnTo>
                    <a:pt x="203" y="98"/>
                  </a:lnTo>
                  <a:lnTo>
                    <a:pt x="210" y="96"/>
                  </a:lnTo>
                  <a:lnTo>
                    <a:pt x="214" y="92"/>
                  </a:lnTo>
                  <a:lnTo>
                    <a:pt x="220" y="90"/>
                  </a:lnTo>
                  <a:lnTo>
                    <a:pt x="224" y="88"/>
                  </a:lnTo>
                  <a:lnTo>
                    <a:pt x="228" y="87"/>
                  </a:lnTo>
                  <a:lnTo>
                    <a:pt x="230" y="85"/>
                  </a:lnTo>
                  <a:lnTo>
                    <a:pt x="232" y="85"/>
                  </a:lnTo>
                  <a:lnTo>
                    <a:pt x="241" y="52"/>
                  </a:lnTo>
                  <a:lnTo>
                    <a:pt x="158" y="100"/>
                  </a:lnTo>
                  <a:lnTo>
                    <a:pt x="156" y="98"/>
                  </a:lnTo>
                  <a:lnTo>
                    <a:pt x="155" y="96"/>
                  </a:lnTo>
                  <a:lnTo>
                    <a:pt x="151" y="90"/>
                  </a:lnTo>
                  <a:lnTo>
                    <a:pt x="147" y="85"/>
                  </a:lnTo>
                  <a:lnTo>
                    <a:pt x="145" y="79"/>
                  </a:lnTo>
                  <a:lnTo>
                    <a:pt x="141" y="75"/>
                  </a:lnTo>
                  <a:lnTo>
                    <a:pt x="139" y="71"/>
                  </a:lnTo>
                  <a:lnTo>
                    <a:pt x="135" y="67"/>
                  </a:lnTo>
                  <a:lnTo>
                    <a:pt x="133" y="63"/>
                  </a:lnTo>
                  <a:lnTo>
                    <a:pt x="129" y="58"/>
                  </a:lnTo>
                  <a:lnTo>
                    <a:pt x="126" y="54"/>
                  </a:lnTo>
                  <a:lnTo>
                    <a:pt x="124" y="50"/>
                  </a:lnTo>
                  <a:lnTo>
                    <a:pt x="120" y="44"/>
                  </a:lnTo>
                  <a:lnTo>
                    <a:pt x="116" y="38"/>
                  </a:lnTo>
                  <a:lnTo>
                    <a:pt x="112" y="34"/>
                  </a:lnTo>
                  <a:lnTo>
                    <a:pt x="108" y="31"/>
                  </a:lnTo>
                  <a:lnTo>
                    <a:pt x="104" y="27"/>
                  </a:lnTo>
                  <a:lnTo>
                    <a:pt x="102" y="21"/>
                  </a:lnTo>
                  <a:lnTo>
                    <a:pt x="99" y="17"/>
                  </a:lnTo>
                  <a:lnTo>
                    <a:pt x="97" y="15"/>
                  </a:lnTo>
                  <a:lnTo>
                    <a:pt x="91" y="7"/>
                  </a:lnTo>
                  <a:lnTo>
                    <a:pt x="85" y="4"/>
                  </a:lnTo>
                  <a:lnTo>
                    <a:pt x="83" y="0"/>
                  </a:lnTo>
                  <a:lnTo>
                    <a:pt x="79" y="0"/>
                  </a:lnTo>
                  <a:lnTo>
                    <a:pt x="74" y="2"/>
                  </a:lnTo>
                  <a:lnTo>
                    <a:pt x="70" y="4"/>
                  </a:lnTo>
                  <a:lnTo>
                    <a:pt x="66" y="7"/>
                  </a:lnTo>
                  <a:lnTo>
                    <a:pt x="60" y="11"/>
                  </a:lnTo>
                  <a:lnTo>
                    <a:pt x="56" y="15"/>
                  </a:lnTo>
                  <a:lnTo>
                    <a:pt x="54" y="19"/>
                  </a:lnTo>
                  <a:lnTo>
                    <a:pt x="52" y="25"/>
                  </a:lnTo>
                  <a:lnTo>
                    <a:pt x="54" y="33"/>
                  </a:lnTo>
                  <a:lnTo>
                    <a:pt x="54" y="36"/>
                  </a:lnTo>
                  <a:lnTo>
                    <a:pt x="56" y="42"/>
                  </a:lnTo>
                  <a:lnTo>
                    <a:pt x="56" y="44"/>
                  </a:lnTo>
                  <a:lnTo>
                    <a:pt x="56" y="48"/>
                  </a:lnTo>
                  <a:lnTo>
                    <a:pt x="58" y="52"/>
                  </a:lnTo>
                  <a:lnTo>
                    <a:pt x="58" y="56"/>
                  </a:lnTo>
                  <a:lnTo>
                    <a:pt x="58" y="60"/>
                  </a:lnTo>
                  <a:lnTo>
                    <a:pt x="60" y="63"/>
                  </a:lnTo>
                  <a:lnTo>
                    <a:pt x="60" y="69"/>
                  </a:lnTo>
                  <a:lnTo>
                    <a:pt x="62" y="73"/>
                  </a:lnTo>
                  <a:lnTo>
                    <a:pt x="62" y="77"/>
                  </a:lnTo>
                  <a:lnTo>
                    <a:pt x="64" y="83"/>
                  </a:lnTo>
                  <a:lnTo>
                    <a:pt x="64" y="87"/>
                  </a:lnTo>
                  <a:lnTo>
                    <a:pt x="66" y="92"/>
                  </a:lnTo>
                  <a:lnTo>
                    <a:pt x="66" y="96"/>
                  </a:lnTo>
                  <a:lnTo>
                    <a:pt x="66" y="100"/>
                  </a:lnTo>
                  <a:lnTo>
                    <a:pt x="66" y="104"/>
                  </a:lnTo>
                  <a:lnTo>
                    <a:pt x="68" y="110"/>
                  </a:lnTo>
                  <a:lnTo>
                    <a:pt x="70" y="114"/>
                  </a:lnTo>
                  <a:lnTo>
                    <a:pt x="70" y="117"/>
                  </a:lnTo>
                  <a:lnTo>
                    <a:pt x="70" y="121"/>
                  </a:lnTo>
                  <a:lnTo>
                    <a:pt x="72" y="125"/>
                  </a:lnTo>
                  <a:lnTo>
                    <a:pt x="72" y="131"/>
                  </a:lnTo>
                  <a:lnTo>
                    <a:pt x="74" y="135"/>
                  </a:lnTo>
                  <a:lnTo>
                    <a:pt x="74" y="137"/>
                  </a:lnTo>
                  <a:lnTo>
                    <a:pt x="74" y="139"/>
                  </a:lnTo>
                  <a:lnTo>
                    <a:pt x="72" y="139"/>
                  </a:lnTo>
                  <a:lnTo>
                    <a:pt x="66" y="137"/>
                  </a:lnTo>
                  <a:lnTo>
                    <a:pt x="62" y="135"/>
                  </a:lnTo>
                  <a:lnTo>
                    <a:pt x="58" y="135"/>
                  </a:lnTo>
                  <a:lnTo>
                    <a:pt x="52" y="133"/>
                  </a:lnTo>
                  <a:lnTo>
                    <a:pt x="49" y="133"/>
                  </a:lnTo>
                  <a:lnTo>
                    <a:pt x="43" y="133"/>
                  </a:lnTo>
                  <a:lnTo>
                    <a:pt x="37" y="131"/>
                  </a:lnTo>
                  <a:lnTo>
                    <a:pt x="33" y="131"/>
                  </a:lnTo>
                  <a:lnTo>
                    <a:pt x="29" y="131"/>
                  </a:lnTo>
                  <a:lnTo>
                    <a:pt x="23" y="131"/>
                  </a:lnTo>
                  <a:lnTo>
                    <a:pt x="22" y="133"/>
                  </a:lnTo>
                  <a:lnTo>
                    <a:pt x="18" y="133"/>
                  </a:lnTo>
                  <a:lnTo>
                    <a:pt x="18" y="135"/>
                  </a:lnTo>
                  <a:lnTo>
                    <a:pt x="16" y="137"/>
                  </a:lnTo>
                  <a:lnTo>
                    <a:pt x="12" y="141"/>
                  </a:lnTo>
                  <a:lnTo>
                    <a:pt x="8" y="146"/>
                  </a:lnTo>
                  <a:lnTo>
                    <a:pt x="6" y="152"/>
                  </a:lnTo>
                  <a:lnTo>
                    <a:pt x="4" y="156"/>
                  </a:lnTo>
                  <a:lnTo>
                    <a:pt x="2" y="160"/>
                  </a:lnTo>
                  <a:lnTo>
                    <a:pt x="0" y="164"/>
                  </a:lnTo>
                  <a:lnTo>
                    <a:pt x="0" y="166"/>
                  </a:lnTo>
                  <a:lnTo>
                    <a:pt x="25" y="164"/>
                  </a:lnTo>
                  <a:lnTo>
                    <a:pt x="25"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4960800" y="4429080"/>
              <a:ext cx="587520" cy="1247760"/>
            </a:xfrm>
            <a:custGeom>
              <a:avLst/>
              <a:gdLst/>
              <a:ahLst/>
              <a:rect l="l" t="t" r="r" b="b"/>
              <a:pathLst>
                <a:path w="370" h="786">
                  <a:moveTo>
                    <a:pt x="125" y="32"/>
                  </a:moveTo>
                  <a:lnTo>
                    <a:pt x="123" y="32"/>
                  </a:lnTo>
                  <a:lnTo>
                    <a:pt x="119" y="32"/>
                  </a:lnTo>
                  <a:lnTo>
                    <a:pt x="115" y="34"/>
                  </a:lnTo>
                  <a:lnTo>
                    <a:pt x="109" y="38"/>
                  </a:lnTo>
                  <a:lnTo>
                    <a:pt x="102" y="40"/>
                  </a:lnTo>
                  <a:lnTo>
                    <a:pt x="96" y="44"/>
                  </a:lnTo>
                  <a:lnTo>
                    <a:pt x="88" y="50"/>
                  </a:lnTo>
                  <a:lnTo>
                    <a:pt x="81" y="57"/>
                  </a:lnTo>
                  <a:lnTo>
                    <a:pt x="77" y="59"/>
                  </a:lnTo>
                  <a:lnTo>
                    <a:pt x="73" y="65"/>
                  </a:lnTo>
                  <a:lnTo>
                    <a:pt x="69" y="69"/>
                  </a:lnTo>
                  <a:lnTo>
                    <a:pt x="65" y="75"/>
                  </a:lnTo>
                  <a:lnTo>
                    <a:pt x="61" y="79"/>
                  </a:lnTo>
                  <a:lnTo>
                    <a:pt x="57" y="84"/>
                  </a:lnTo>
                  <a:lnTo>
                    <a:pt x="54" y="92"/>
                  </a:lnTo>
                  <a:lnTo>
                    <a:pt x="50" y="98"/>
                  </a:lnTo>
                  <a:lnTo>
                    <a:pt x="48" y="102"/>
                  </a:lnTo>
                  <a:lnTo>
                    <a:pt x="46" y="106"/>
                  </a:lnTo>
                  <a:lnTo>
                    <a:pt x="44" y="109"/>
                  </a:lnTo>
                  <a:lnTo>
                    <a:pt x="42" y="113"/>
                  </a:lnTo>
                  <a:lnTo>
                    <a:pt x="40" y="117"/>
                  </a:lnTo>
                  <a:lnTo>
                    <a:pt x="38" y="121"/>
                  </a:lnTo>
                  <a:lnTo>
                    <a:pt x="36" y="127"/>
                  </a:lnTo>
                  <a:lnTo>
                    <a:pt x="36" y="131"/>
                  </a:lnTo>
                  <a:lnTo>
                    <a:pt x="32" y="136"/>
                  </a:lnTo>
                  <a:lnTo>
                    <a:pt x="32" y="140"/>
                  </a:lnTo>
                  <a:lnTo>
                    <a:pt x="30" y="146"/>
                  </a:lnTo>
                  <a:lnTo>
                    <a:pt x="30" y="150"/>
                  </a:lnTo>
                  <a:lnTo>
                    <a:pt x="28" y="156"/>
                  </a:lnTo>
                  <a:lnTo>
                    <a:pt x="27" y="162"/>
                  </a:lnTo>
                  <a:lnTo>
                    <a:pt x="27" y="167"/>
                  </a:lnTo>
                  <a:lnTo>
                    <a:pt x="25" y="175"/>
                  </a:lnTo>
                  <a:lnTo>
                    <a:pt x="23" y="181"/>
                  </a:lnTo>
                  <a:lnTo>
                    <a:pt x="23" y="187"/>
                  </a:lnTo>
                  <a:lnTo>
                    <a:pt x="21" y="192"/>
                  </a:lnTo>
                  <a:lnTo>
                    <a:pt x="21" y="202"/>
                  </a:lnTo>
                  <a:lnTo>
                    <a:pt x="21" y="208"/>
                  </a:lnTo>
                  <a:lnTo>
                    <a:pt x="21" y="216"/>
                  </a:lnTo>
                  <a:lnTo>
                    <a:pt x="21" y="225"/>
                  </a:lnTo>
                  <a:lnTo>
                    <a:pt x="21" y="235"/>
                  </a:lnTo>
                  <a:lnTo>
                    <a:pt x="21" y="243"/>
                  </a:lnTo>
                  <a:lnTo>
                    <a:pt x="21" y="252"/>
                  </a:lnTo>
                  <a:lnTo>
                    <a:pt x="21" y="262"/>
                  </a:lnTo>
                  <a:lnTo>
                    <a:pt x="21" y="271"/>
                  </a:lnTo>
                  <a:lnTo>
                    <a:pt x="21" y="281"/>
                  </a:lnTo>
                  <a:lnTo>
                    <a:pt x="21" y="293"/>
                  </a:lnTo>
                  <a:lnTo>
                    <a:pt x="23" y="302"/>
                  </a:lnTo>
                  <a:lnTo>
                    <a:pt x="23" y="314"/>
                  </a:lnTo>
                  <a:lnTo>
                    <a:pt x="23" y="325"/>
                  </a:lnTo>
                  <a:lnTo>
                    <a:pt x="25" y="335"/>
                  </a:lnTo>
                  <a:lnTo>
                    <a:pt x="25" y="347"/>
                  </a:lnTo>
                  <a:lnTo>
                    <a:pt x="27" y="358"/>
                  </a:lnTo>
                  <a:lnTo>
                    <a:pt x="27" y="370"/>
                  </a:lnTo>
                  <a:lnTo>
                    <a:pt x="28" y="381"/>
                  </a:lnTo>
                  <a:lnTo>
                    <a:pt x="30" y="393"/>
                  </a:lnTo>
                  <a:lnTo>
                    <a:pt x="30" y="404"/>
                  </a:lnTo>
                  <a:lnTo>
                    <a:pt x="32" y="416"/>
                  </a:lnTo>
                  <a:lnTo>
                    <a:pt x="32" y="428"/>
                  </a:lnTo>
                  <a:lnTo>
                    <a:pt x="34" y="439"/>
                  </a:lnTo>
                  <a:lnTo>
                    <a:pt x="36" y="451"/>
                  </a:lnTo>
                  <a:lnTo>
                    <a:pt x="38" y="462"/>
                  </a:lnTo>
                  <a:lnTo>
                    <a:pt x="40" y="474"/>
                  </a:lnTo>
                  <a:lnTo>
                    <a:pt x="42" y="485"/>
                  </a:lnTo>
                  <a:lnTo>
                    <a:pt x="44" y="499"/>
                  </a:lnTo>
                  <a:lnTo>
                    <a:pt x="44" y="509"/>
                  </a:lnTo>
                  <a:lnTo>
                    <a:pt x="46" y="520"/>
                  </a:lnTo>
                  <a:lnTo>
                    <a:pt x="46" y="532"/>
                  </a:lnTo>
                  <a:lnTo>
                    <a:pt x="50" y="543"/>
                  </a:lnTo>
                  <a:lnTo>
                    <a:pt x="50" y="553"/>
                  </a:lnTo>
                  <a:lnTo>
                    <a:pt x="52" y="563"/>
                  </a:lnTo>
                  <a:lnTo>
                    <a:pt x="54" y="574"/>
                  </a:lnTo>
                  <a:lnTo>
                    <a:pt x="55" y="586"/>
                  </a:lnTo>
                  <a:lnTo>
                    <a:pt x="57" y="593"/>
                  </a:lnTo>
                  <a:lnTo>
                    <a:pt x="57" y="605"/>
                  </a:lnTo>
                  <a:lnTo>
                    <a:pt x="59" y="613"/>
                  </a:lnTo>
                  <a:lnTo>
                    <a:pt x="61" y="624"/>
                  </a:lnTo>
                  <a:lnTo>
                    <a:pt x="63" y="632"/>
                  </a:lnTo>
                  <a:lnTo>
                    <a:pt x="63" y="642"/>
                  </a:lnTo>
                  <a:lnTo>
                    <a:pt x="65" y="649"/>
                  </a:lnTo>
                  <a:lnTo>
                    <a:pt x="67" y="659"/>
                  </a:lnTo>
                  <a:lnTo>
                    <a:pt x="69" y="667"/>
                  </a:lnTo>
                  <a:lnTo>
                    <a:pt x="69" y="672"/>
                  </a:lnTo>
                  <a:lnTo>
                    <a:pt x="71" y="680"/>
                  </a:lnTo>
                  <a:lnTo>
                    <a:pt x="73" y="686"/>
                  </a:lnTo>
                  <a:lnTo>
                    <a:pt x="73" y="692"/>
                  </a:lnTo>
                  <a:lnTo>
                    <a:pt x="75" y="698"/>
                  </a:lnTo>
                  <a:lnTo>
                    <a:pt x="75" y="703"/>
                  </a:lnTo>
                  <a:lnTo>
                    <a:pt x="77" y="709"/>
                  </a:lnTo>
                  <a:lnTo>
                    <a:pt x="77" y="711"/>
                  </a:lnTo>
                  <a:lnTo>
                    <a:pt x="77" y="717"/>
                  </a:lnTo>
                  <a:lnTo>
                    <a:pt x="79" y="719"/>
                  </a:lnTo>
                  <a:lnTo>
                    <a:pt x="79" y="723"/>
                  </a:lnTo>
                  <a:lnTo>
                    <a:pt x="79" y="725"/>
                  </a:lnTo>
                  <a:lnTo>
                    <a:pt x="81" y="728"/>
                  </a:lnTo>
                  <a:lnTo>
                    <a:pt x="81" y="728"/>
                  </a:lnTo>
                  <a:lnTo>
                    <a:pt x="86" y="732"/>
                  </a:lnTo>
                  <a:lnTo>
                    <a:pt x="88" y="734"/>
                  </a:lnTo>
                  <a:lnTo>
                    <a:pt x="92" y="738"/>
                  </a:lnTo>
                  <a:lnTo>
                    <a:pt x="98" y="740"/>
                  </a:lnTo>
                  <a:lnTo>
                    <a:pt x="104" y="744"/>
                  </a:lnTo>
                  <a:lnTo>
                    <a:pt x="109" y="748"/>
                  </a:lnTo>
                  <a:lnTo>
                    <a:pt x="117" y="750"/>
                  </a:lnTo>
                  <a:lnTo>
                    <a:pt x="119" y="752"/>
                  </a:lnTo>
                  <a:lnTo>
                    <a:pt x="123" y="752"/>
                  </a:lnTo>
                  <a:lnTo>
                    <a:pt x="127" y="753"/>
                  </a:lnTo>
                  <a:lnTo>
                    <a:pt x="133" y="755"/>
                  </a:lnTo>
                  <a:lnTo>
                    <a:pt x="136" y="755"/>
                  </a:lnTo>
                  <a:lnTo>
                    <a:pt x="140" y="755"/>
                  </a:lnTo>
                  <a:lnTo>
                    <a:pt x="144" y="757"/>
                  </a:lnTo>
                  <a:lnTo>
                    <a:pt x="150" y="759"/>
                  </a:lnTo>
                  <a:lnTo>
                    <a:pt x="154" y="759"/>
                  </a:lnTo>
                  <a:lnTo>
                    <a:pt x="160" y="759"/>
                  </a:lnTo>
                  <a:lnTo>
                    <a:pt x="163" y="759"/>
                  </a:lnTo>
                  <a:lnTo>
                    <a:pt x="169" y="759"/>
                  </a:lnTo>
                  <a:lnTo>
                    <a:pt x="175" y="759"/>
                  </a:lnTo>
                  <a:lnTo>
                    <a:pt x="181" y="759"/>
                  </a:lnTo>
                  <a:lnTo>
                    <a:pt x="185" y="759"/>
                  </a:lnTo>
                  <a:lnTo>
                    <a:pt x="190" y="759"/>
                  </a:lnTo>
                  <a:lnTo>
                    <a:pt x="194" y="759"/>
                  </a:lnTo>
                  <a:lnTo>
                    <a:pt x="200" y="759"/>
                  </a:lnTo>
                  <a:lnTo>
                    <a:pt x="206" y="759"/>
                  </a:lnTo>
                  <a:lnTo>
                    <a:pt x="212" y="759"/>
                  </a:lnTo>
                  <a:lnTo>
                    <a:pt x="215" y="757"/>
                  </a:lnTo>
                  <a:lnTo>
                    <a:pt x="219" y="757"/>
                  </a:lnTo>
                  <a:lnTo>
                    <a:pt x="225" y="755"/>
                  </a:lnTo>
                  <a:lnTo>
                    <a:pt x="229" y="755"/>
                  </a:lnTo>
                  <a:lnTo>
                    <a:pt x="233" y="755"/>
                  </a:lnTo>
                  <a:lnTo>
                    <a:pt x="237" y="755"/>
                  </a:lnTo>
                  <a:lnTo>
                    <a:pt x="242" y="755"/>
                  </a:lnTo>
                  <a:lnTo>
                    <a:pt x="246" y="755"/>
                  </a:lnTo>
                  <a:lnTo>
                    <a:pt x="252" y="753"/>
                  </a:lnTo>
                  <a:lnTo>
                    <a:pt x="260" y="753"/>
                  </a:lnTo>
                  <a:lnTo>
                    <a:pt x="266" y="752"/>
                  </a:lnTo>
                  <a:lnTo>
                    <a:pt x="269" y="752"/>
                  </a:lnTo>
                  <a:lnTo>
                    <a:pt x="273" y="750"/>
                  </a:lnTo>
                  <a:lnTo>
                    <a:pt x="277" y="748"/>
                  </a:lnTo>
                  <a:lnTo>
                    <a:pt x="279" y="748"/>
                  </a:lnTo>
                  <a:lnTo>
                    <a:pt x="281" y="746"/>
                  </a:lnTo>
                  <a:lnTo>
                    <a:pt x="281" y="744"/>
                  </a:lnTo>
                  <a:lnTo>
                    <a:pt x="281" y="740"/>
                  </a:lnTo>
                  <a:lnTo>
                    <a:pt x="281" y="736"/>
                  </a:lnTo>
                  <a:lnTo>
                    <a:pt x="281" y="732"/>
                  </a:lnTo>
                  <a:lnTo>
                    <a:pt x="281" y="728"/>
                  </a:lnTo>
                  <a:lnTo>
                    <a:pt x="283" y="725"/>
                  </a:lnTo>
                  <a:lnTo>
                    <a:pt x="283" y="719"/>
                  </a:lnTo>
                  <a:lnTo>
                    <a:pt x="283" y="713"/>
                  </a:lnTo>
                  <a:lnTo>
                    <a:pt x="283" y="707"/>
                  </a:lnTo>
                  <a:lnTo>
                    <a:pt x="285" y="701"/>
                  </a:lnTo>
                  <a:lnTo>
                    <a:pt x="287" y="694"/>
                  </a:lnTo>
                  <a:lnTo>
                    <a:pt x="287" y="686"/>
                  </a:lnTo>
                  <a:lnTo>
                    <a:pt x="289" y="678"/>
                  </a:lnTo>
                  <a:lnTo>
                    <a:pt x="289" y="672"/>
                  </a:lnTo>
                  <a:lnTo>
                    <a:pt x="291" y="663"/>
                  </a:lnTo>
                  <a:lnTo>
                    <a:pt x="293" y="653"/>
                  </a:lnTo>
                  <a:lnTo>
                    <a:pt x="293" y="644"/>
                  </a:lnTo>
                  <a:lnTo>
                    <a:pt x="294" y="636"/>
                  </a:lnTo>
                  <a:lnTo>
                    <a:pt x="294" y="626"/>
                  </a:lnTo>
                  <a:lnTo>
                    <a:pt x="296" y="617"/>
                  </a:lnTo>
                  <a:lnTo>
                    <a:pt x="296" y="607"/>
                  </a:lnTo>
                  <a:lnTo>
                    <a:pt x="298" y="597"/>
                  </a:lnTo>
                  <a:lnTo>
                    <a:pt x="300" y="586"/>
                  </a:lnTo>
                  <a:lnTo>
                    <a:pt x="300" y="576"/>
                  </a:lnTo>
                  <a:lnTo>
                    <a:pt x="302" y="566"/>
                  </a:lnTo>
                  <a:lnTo>
                    <a:pt x="304" y="555"/>
                  </a:lnTo>
                  <a:lnTo>
                    <a:pt x="306" y="545"/>
                  </a:lnTo>
                  <a:lnTo>
                    <a:pt x="306" y="534"/>
                  </a:lnTo>
                  <a:lnTo>
                    <a:pt x="308" y="524"/>
                  </a:lnTo>
                  <a:lnTo>
                    <a:pt x="310" y="512"/>
                  </a:lnTo>
                  <a:lnTo>
                    <a:pt x="312" y="501"/>
                  </a:lnTo>
                  <a:lnTo>
                    <a:pt x="312" y="491"/>
                  </a:lnTo>
                  <a:lnTo>
                    <a:pt x="314" y="480"/>
                  </a:lnTo>
                  <a:lnTo>
                    <a:pt x="316" y="468"/>
                  </a:lnTo>
                  <a:lnTo>
                    <a:pt x="316" y="458"/>
                  </a:lnTo>
                  <a:lnTo>
                    <a:pt x="318" y="447"/>
                  </a:lnTo>
                  <a:lnTo>
                    <a:pt x="320" y="437"/>
                  </a:lnTo>
                  <a:lnTo>
                    <a:pt x="320" y="428"/>
                  </a:lnTo>
                  <a:lnTo>
                    <a:pt x="321" y="416"/>
                  </a:lnTo>
                  <a:lnTo>
                    <a:pt x="323" y="406"/>
                  </a:lnTo>
                  <a:lnTo>
                    <a:pt x="323" y="397"/>
                  </a:lnTo>
                  <a:lnTo>
                    <a:pt x="325" y="387"/>
                  </a:lnTo>
                  <a:lnTo>
                    <a:pt x="325" y="377"/>
                  </a:lnTo>
                  <a:lnTo>
                    <a:pt x="327" y="368"/>
                  </a:lnTo>
                  <a:lnTo>
                    <a:pt x="329" y="360"/>
                  </a:lnTo>
                  <a:lnTo>
                    <a:pt x="331" y="352"/>
                  </a:lnTo>
                  <a:lnTo>
                    <a:pt x="331" y="343"/>
                  </a:lnTo>
                  <a:lnTo>
                    <a:pt x="331" y="335"/>
                  </a:lnTo>
                  <a:lnTo>
                    <a:pt x="331" y="327"/>
                  </a:lnTo>
                  <a:lnTo>
                    <a:pt x="333" y="320"/>
                  </a:lnTo>
                  <a:lnTo>
                    <a:pt x="333" y="314"/>
                  </a:lnTo>
                  <a:lnTo>
                    <a:pt x="335" y="306"/>
                  </a:lnTo>
                  <a:lnTo>
                    <a:pt x="335" y="300"/>
                  </a:lnTo>
                  <a:lnTo>
                    <a:pt x="337" y="296"/>
                  </a:lnTo>
                  <a:lnTo>
                    <a:pt x="337" y="291"/>
                  </a:lnTo>
                  <a:lnTo>
                    <a:pt x="337" y="285"/>
                  </a:lnTo>
                  <a:lnTo>
                    <a:pt x="337" y="281"/>
                  </a:lnTo>
                  <a:lnTo>
                    <a:pt x="337" y="279"/>
                  </a:lnTo>
                  <a:lnTo>
                    <a:pt x="339" y="273"/>
                  </a:lnTo>
                  <a:lnTo>
                    <a:pt x="339" y="271"/>
                  </a:lnTo>
                  <a:lnTo>
                    <a:pt x="337" y="266"/>
                  </a:lnTo>
                  <a:lnTo>
                    <a:pt x="337" y="262"/>
                  </a:lnTo>
                  <a:lnTo>
                    <a:pt x="335" y="254"/>
                  </a:lnTo>
                  <a:lnTo>
                    <a:pt x="331" y="248"/>
                  </a:lnTo>
                  <a:lnTo>
                    <a:pt x="329" y="241"/>
                  </a:lnTo>
                  <a:lnTo>
                    <a:pt x="327" y="235"/>
                  </a:lnTo>
                  <a:lnTo>
                    <a:pt x="323" y="227"/>
                  </a:lnTo>
                  <a:lnTo>
                    <a:pt x="321" y="219"/>
                  </a:lnTo>
                  <a:lnTo>
                    <a:pt x="320" y="216"/>
                  </a:lnTo>
                  <a:lnTo>
                    <a:pt x="320" y="210"/>
                  </a:lnTo>
                  <a:lnTo>
                    <a:pt x="318" y="208"/>
                  </a:lnTo>
                  <a:lnTo>
                    <a:pt x="318" y="204"/>
                  </a:lnTo>
                  <a:lnTo>
                    <a:pt x="316" y="196"/>
                  </a:lnTo>
                  <a:lnTo>
                    <a:pt x="316" y="190"/>
                  </a:lnTo>
                  <a:lnTo>
                    <a:pt x="316" y="185"/>
                  </a:lnTo>
                  <a:lnTo>
                    <a:pt x="318" y="181"/>
                  </a:lnTo>
                  <a:lnTo>
                    <a:pt x="320" y="179"/>
                  </a:lnTo>
                  <a:lnTo>
                    <a:pt x="323" y="177"/>
                  </a:lnTo>
                  <a:lnTo>
                    <a:pt x="329" y="177"/>
                  </a:lnTo>
                  <a:lnTo>
                    <a:pt x="337" y="181"/>
                  </a:lnTo>
                  <a:lnTo>
                    <a:pt x="339" y="185"/>
                  </a:lnTo>
                  <a:lnTo>
                    <a:pt x="343" y="189"/>
                  </a:lnTo>
                  <a:lnTo>
                    <a:pt x="347" y="194"/>
                  </a:lnTo>
                  <a:lnTo>
                    <a:pt x="350" y="200"/>
                  </a:lnTo>
                  <a:lnTo>
                    <a:pt x="352" y="206"/>
                  </a:lnTo>
                  <a:lnTo>
                    <a:pt x="356" y="214"/>
                  </a:lnTo>
                  <a:lnTo>
                    <a:pt x="356" y="217"/>
                  </a:lnTo>
                  <a:lnTo>
                    <a:pt x="358" y="221"/>
                  </a:lnTo>
                  <a:lnTo>
                    <a:pt x="358" y="227"/>
                  </a:lnTo>
                  <a:lnTo>
                    <a:pt x="362" y="231"/>
                  </a:lnTo>
                  <a:lnTo>
                    <a:pt x="362" y="235"/>
                  </a:lnTo>
                  <a:lnTo>
                    <a:pt x="362" y="239"/>
                  </a:lnTo>
                  <a:lnTo>
                    <a:pt x="364" y="243"/>
                  </a:lnTo>
                  <a:lnTo>
                    <a:pt x="364" y="248"/>
                  </a:lnTo>
                  <a:lnTo>
                    <a:pt x="366" y="254"/>
                  </a:lnTo>
                  <a:lnTo>
                    <a:pt x="368" y="258"/>
                  </a:lnTo>
                  <a:lnTo>
                    <a:pt x="368" y="264"/>
                  </a:lnTo>
                  <a:lnTo>
                    <a:pt x="370" y="270"/>
                  </a:lnTo>
                  <a:lnTo>
                    <a:pt x="370" y="271"/>
                  </a:lnTo>
                  <a:lnTo>
                    <a:pt x="370" y="275"/>
                  </a:lnTo>
                  <a:lnTo>
                    <a:pt x="370" y="279"/>
                  </a:lnTo>
                  <a:lnTo>
                    <a:pt x="370" y="283"/>
                  </a:lnTo>
                  <a:lnTo>
                    <a:pt x="368" y="287"/>
                  </a:lnTo>
                  <a:lnTo>
                    <a:pt x="368" y="293"/>
                  </a:lnTo>
                  <a:lnTo>
                    <a:pt x="368" y="298"/>
                  </a:lnTo>
                  <a:lnTo>
                    <a:pt x="368" y="304"/>
                  </a:lnTo>
                  <a:lnTo>
                    <a:pt x="368" y="310"/>
                  </a:lnTo>
                  <a:lnTo>
                    <a:pt x="366" y="318"/>
                  </a:lnTo>
                  <a:lnTo>
                    <a:pt x="366" y="325"/>
                  </a:lnTo>
                  <a:lnTo>
                    <a:pt x="366" y="333"/>
                  </a:lnTo>
                  <a:lnTo>
                    <a:pt x="364" y="341"/>
                  </a:lnTo>
                  <a:lnTo>
                    <a:pt x="364" y="350"/>
                  </a:lnTo>
                  <a:lnTo>
                    <a:pt x="362" y="358"/>
                  </a:lnTo>
                  <a:lnTo>
                    <a:pt x="362" y="368"/>
                  </a:lnTo>
                  <a:lnTo>
                    <a:pt x="360" y="376"/>
                  </a:lnTo>
                  <a:lnTo>
                    <a:pt x="358" y="387"/>
                  </a:lnTo>
                  <a:lnTo>
                    <a:pt x="358" y="395"/>
                  </a:lnTo>
                  <a:lnTo>
                    <a:pt x="356" y="406"/>
                  </a:lnTo>
                  <a:lnTo>
                    <a:pt x="356" y="416"/>
                  </a:lnTo>
                  <a:lnTo>
                    <a:pt x="354" y="426"/>
                  </a:lnTo>
                  <a:lnTo>
                    <a:pt x="354" y="437"/>
                  </a:lnTo>
                  <a:lnTo>
                    <a:pt x="352" y="447"/>
                  </a:lnTo>
                  <a:lnTo>
                    <a:pt x="350" y="458"/>
                  </a:lnTo>
                  <a:lnTo>
                    <a:pt x="348" y="468"/>
                  </a:lnTo>
                  <a:lnTo>
                    <a:pt x="348" y="480"/>
                  </a:lnTo>
                  <a:lnTo>
                    <a:pt x="347" y="491"/>
                  </a:lnTo>
                  <a:lnTo>
                    <a:pt x="345" y="501"/>
                  </a:lnTo>
                  <a:lnTo>
                    <a:pt x="343" y="512"/>
                  </a:lnTo>
                  <a:lnTo>
                    <a:pt x="343" y="524"/>
                  </a:lnTo>
                  <a:lnTo>
                    <a:pt x="341" y="536"/>
                  </a:lnTo>
                  <a:lnTo>
                    <a:pt x="339" y="545"/>
                  </a:lnTo>
                  <a:lnTo>
                    <a:pt x="337" y="557"/>
                  </a:lnTo>
                  <a:lnTo>
                    <a:pt x="337" y="568"/>
                  </a:lnTo>
                  <a:lnTo>
                    <a:pt x="335" y="578"/>
                  </a:lnTo>
                  <a:lnTo>
                    <a:pt x="333" y="588"/>
                  </a:lnTo>
                  <a:lnTo>
                    <a:pt x="331" y="599"/>
                  </a:lnTo>
                  <a:lnTo>
                    <a:pt x="329" y="611"/>
                  </a:lnTo>
                  <a:lnTo>
                    <a:pt x="329" y="620"/>
                  </a:lnTo>
                  <a:lnTo>
                    <a:pt x="325" y="630"/>
                  </a:lnTo>
                  <a:lnTo>
                    <a:pt x="325" y="640"/>
                  </a:lnTo>
                  <a:lnTo>
                    <a:pt x="323" y="649"/>
                  </a:lnTo>
                  <a:lnTo>
                    <a:pt x="321" y="659"/>
                  </a:lnTo>
                  <a:lnTo>
                    <a:pt x="320" y="669"/>
                  </a:lnTo>
                  <a:lnTo>
                    <a:pt x="318" y="678"/>
                  </a:lnTo>
                  <a:lnTo>
                    <a:pt x="318" y="686"/>
                  </a:lnTo>
                  <a:lnTo>
                    <a:pt x="316" y="696"/>
                  </a:lnTo>
                  <a:lnTo>
                    <a:pt x="314" y="703"/>
                  </a:lnTo>
                  <a:lnTo>
                    <a:pt x="314" y="711"/>
                  </a:lnTo>
                  <a:lnTo>
                    <a:pt x="312" y="717"/>
                  </a:lnTo>
                  <a:lnTo>
                    <a:pt x="310" y="725"/>
                  </a:lnTo>
                  <a:lnTo>
                    <a:pt x="308" y="730"/>
                  </a:lnTo>
                  <a:lnTo>
                    <a:pt x="308" y="738"/>
                  </a:lnTo>
                  <a:lnTo>
                    <a:pt x="306" y="742"/>
                  </a:lnTo>
                  <a:lnTo>
                    <a:pt x="306" y="748"/>
                  </a:lnTo>
                  <a:lnTo>
                    <a:pt x="304" y="753"/>
                  </a:lnTo>
                  <a:lnTo>
                    <a:pt x="304" y="757"/>
                  </a:lnTo>
                  <a:lnTo>
                    <a:pt x="302" y="761"/>
                  </a:lnTo>
                  <a:lnTo>
                    <a:pt x="302" y="765"/>
                  </a:lnTo>
                  <a:lnTo>
                    <a:pt x="300" y="769"/>
                  </a:lnTo>
                  <a:lnTo>
                    <a:pt x="300" y="773"/>
                  </a:lnTo>
                  <a:lnTo>
                    <a:pt x="296" y="775"/>
                  </a:lnTo>
                  <a:lnTo>
                    <a:pt x="293" y="777"/>
                  </a:lnTo>
                  <a:lnTo>
                    <a:pt x="287" y="779"/>
                  </a:lnTo>
                  <a:lnTo>
                    <a:pt x="279" y="780"/>
                  </a:lnTo>
                  <a:lnTo>
                    <a:pt x="275" y="780"/>
                  </a:lnTo>
                  <a:lnTo>
                    <a:pt x="269" y="780"/>
                  </a:lnTo>
                  <a:lnTo>
                    <a:pt x="266" y="780"/>
                  </a:lnTo>
                  <a:lnTo>
                    <a:pt x="262" y="782"/>
                  </a:lnTo>
                  <a:lnTo>
                    <a:pt x="256" y="782"/>
                  </a:lnTo>
                  <a:lnTo>
                    <a:pt x="252" y="782"/>
                  </a:lnTo>
                  <a:lnTo>
                    <a:pt x="246" y="784"/>
                  </a:lnTo>
                  <a:lnTo>
                    <a:pt x="242" y="784"/>
                  </a:lnTo>
                  <a:lnTo>
                    <a:pt x="237" y="784"/>
                  </a:lnTo>
                  <a:lnTo>
                    <a:pt x="231" y="784"/>
                  </a:lnTo>
                  <a:lnTo>
                    <a:pt x="225" y="784"/>
                  </a:lnTo>
                  <a:lnTo>
                    <a:pt x="219" y="784"/>
                  </a:lnTo>
                  <a:lnTo>
                    <a:pt x="214" y="784"/>
                  </a:lnTo>
                  <a:lnTo>
                    <a:pt x="208" y="784"/>
                  </a:lnTo>
                  <a:lnTo>
                    <a:pt x="204" y="784"/>
                  </a:lnTo>
                  <a:lnTo>
                    <a:pt x="200" y="786"/>
                  </a:lnTo>
                  <a:lnTo>
                    <a:pt x="194" y="786"/>
                  </a:lnTo>
                  <a:lnTo>
                    <a:pt x="188" y="786"/>
                  </a:lnTo>
                  <a:lnTo>
                    <a:pt x="185" y="786"/>
                  </a:lnTo>
                  <a:lnTo>
                    <a:pt x="181" y="786"/>
                  </a:lnTo>
                  <a:lnTo>
                    <a:pt x="177" y="786"/>
                  </a:lnTo>
                  <a:lnTo>
                    <a:pt x="173" y="786"/>
                  </a:lnTo>
                  <a:lnTo>
                    <a:pt x="169" y="786"/>
                  </a:lnTo>
                  <a:lnTo>
                    <a:pt x="167" y="786"/>
                  </a:lnTo>
                  <a:lnTo>
                    <a:pt x="161" y="786"/>
                  </a:lnTo>
                  <a:lnTo>
                    <a:pt x="154" y="784"/>
                  </a:lnTo>
                  <a:lnTo>
                    <a:pt x="150" y="784"/>
                  </a:lnTo>
                  <a:lnTo>
                    <a:pt x="146" y="784"/>
                  </a:lnTo>
                  <a:lnTo>
                    <a:pt x="142" y="782"/>
                  </a:lnTo>
                  <a:lnTo>
                    <a:pt x="138" y="782"/>
                  </a:lnTo>
                  <a:lnTo>
                    <a:pt x="134" y="780"/>
                  </a:lnTo>
                  <a:lnTo>
                    <a:pt x="131" y="780"/>
                  </a:lnTo>
                  <a:lnTo>
                    <a:pt x="125" y="779"/>
                  </a:lnTo>
                  <a:lnTo>
                    <a:pt x="121" y="779"/>
                  </a:lnTo>
                  <a:lnTo>
                    <a:pt x="117" y="777"/>
                  </a:lnTo>
                  <a:lnTo>
                    <a:pt x="113" y="777"/>
                  </a:lnTo>
                  <a:lnTo>
                    <a:pt x="108" y="775"/>
                  </a:lnTo>
                  <a:lnTo>
                    <a:pt x="104" y="775"/>
                  </a:lnTo>
                  <a:lnTo>
                    <a:pt x="100" y="773"/>
                  </a:lnTo>
                  <a:lnTo>
                    <a:pt x="94" y="771"/>
                  </a:lnTo>
                  <a:lnTo>
                    <a:pt x="90" y="769"/>
                  </a:lnTo>
                  <a:lnTo>
                    <a:pt x="86" y="767"/>
                  </a:lnTo>
                  <a:lnTo>
                    <a:pt x="82" y="765"/>
                  </a:lnTo>
                  <a:lnTo>
                    <a:pt x="79" y="765"/>
                  </a:lnTo>
                  <a:lnTo>
                    <a:pt x="75" y="763"/>
                  </a:lnTo>
                  <a:lnTo>
                    <a:pt x="73" y="761"/>
                  </a:lnTo>
                  <a:lnTo>
                    <a:pt x="65" y="757"/>
                  </a:lnTo>
                  <a:lnTo>
                    <a:pt x="61" y="753"/>
                  </a:lnTo>
                  <a:lnTo>
                    <a:pt x="57" y="750"/>
                  </a:lnTo>
                  <a:lnTo>
                    <a:pt x="55" y="746"/>
                  </a:lnTo>
                  <a:lnTo>
                    <a:pt x="54" y="742"/>
                  </a:lnTo>
                  <a:lnTo>
                    <a:pt x="52" y="736"/>
                  </a:lnTo>
                  <a:lnTo>
                    <a:pt x="52" y="732"/>
                  </a:lnTo>
                  <a:lnTo>
                    <a:pt x="52" y="728"/>
                  </a:lnTo>
                  <a:lnTo>
                    <a:pt x="50" y="723"/>
                  </a:lnTo>
                  <a:lnTo>
                    <a:pt x="50" y="719"/>
                  </a:lnTo>
                  <a:lnTo>
                    <a:pt x="48" y="711"/>
                  </a:lnTo>
                  <a:lnTo>
                    <a:pt x="48" y="705"/>
                  </a:lnTo>
                  <a:lnTo>
                    <a:pt x="46" y="698"/>
                  </a:lnTo>
                  <a:lnTo>
                    <a:pt x="46" y="692"/>
                  </a:lnTo>
                  <a:lnTo>
                    <a:pt x="44" y="684"/>
                  </a:lnTo>
                  <a:lnTo>
                    <a:pt x="44" y="674"/>
                  </a:lnTo>
                  <a:lnTo>
                    <a:pt x="42" y="667"/>
                  </a:lnTo>
                  <a:lnTo>
                    <a:pt x="42" y="657"/>
                  </a:lnTo>
                  <a:lnTo>
                    <a:pt x="40" y="647"/>
                  </a:lnTo>
                  <a:lnTo>
                    <a:pt x="38" y="638"/>
                  </a:lnTo>
                  <a:lnTo>
                    <a:pt x="36" y="628"/>
                  </a:lnTo>
                  <a:lnTo>
                    <a:pt x="36" y="618"/>
                  </a:lnTo>
                  <a:lnTo>
                    <a:pt x="34" y="607"/>
                  </a:lnTo>
                  <a:lnTo>
                    <a:pt x="34" y="595"/>
                  </a:lnTo>
                  <a:lnTo>
                    <a:pt x="32" y="586"/>
                  </a:lnTo>
                  <a:lnTo>
                    <a:pt x="32" y="574"/>
                  </a:lnTo>
                  <a:lnTo>
                    <a:pt x="30" y="563"/>
                  </a:lnTo>
                  <a:lnTo>
                    <a:pt x="28" y="551"/>
                  </a:lnTo>
                  <a:lnTo>
                    <a:pt x="27" y="539"/>
                  </a:lnTo>
                  <a:lnTo>
                    <a:pt x="27" y="528"/>
                  </a:lnTo>
                  <a:lnTo>
                    <a:pt x="25" y="516"/>
                  </a:lnTo>
                  <a:lnTo>
                    <a:pt x="25" y="505"/>
                  </a:lnTo>
                  <a:lnTo>
                    <a:pt x="23" y="491"/>
                  </a:lnTo>
                  <a:lnTo>
                    <a:pt x="23" y="480"/>
                  </a:lnTo>
                  <a:lnTo>
                    <a:pt x="19" y="468"/>
                  </a:lnTo>
                  <a:lnTo>
                    <a:pt x="19" y="455"/>
                  </a:lnTo>
                  <a:lnTo>
                    <a:pt x="17" y="443"/>
                  </a:lnTo>
                  <a:lnTo>
                    <a:pt x="17" y="431"/>
                  </a:lnTo>
                  <a:lnTo>
                    <a:pt x="15" y="418"/>
                  </a:lnTo>
                  <a:lnTo>
                    <a:pt x="13" y="406"/>
                  </a:lnTo>
                  <a:lnTo>
                    <a:pt x="13" y="395"/>
                  </a:lnTo>
                  <a:lnTo>
                    <a:pt x="11" y="383"/>
                  </a:lnTo>
                  <a:lnTo>
                    <a:pt x="9" y="370"/>
                  </a:lnTo>
                  <a:lnTo>
                    <a:pt x="9" y="358"/>
                  </a:lnTo>
                  <a:lnTo>
                    <a:pt x="7" y="347"/>
                  </a:lnTo>
                  <a:lnTo>
                    <a:pt x="7" y="335"/>
                  </a:lnTo>
                  <a:lnTo>
                    <a:pt x="5" y="325"/>
                  </a:lnTo>
                  <a:lnTo>
                    <a:pt x="5" y="314"/>
                  </a:lnTo>
                  <a:lnTo>
                    <a:pt x="5" y="304"/>
                  </a:lnTo>
                  <a:lnTo>
                    <a:pt x="5" y="293"/>
                  </a:lnTo>
                  <a:lnTo>
                    <a:pt x="3" y="283"/>
                  </a:lnTo>
                  <a:lnTo>
                    <a:pt x="1" y="273"/>
                  </a:lnTo>
                  <a:lnTo>
                    <a:pt x="1" y="264"/>
                  </a:lnTo>
                  <a:lnTo>
                    <a:pt x="1" y="254"/>
                  </a:lnTo>
                  <a:lnTo>
                    <a:pt x="0" y="246"/>
                  </a:lnTo>
                  <a:lnTo>
                    <a:pt x="0" y="237"/>
                  </a:lnTo>
                  <a:lnTo>
                    <a:pt x="0" y="229"/>
                  </a:lnTo>
                  <a:lnTo>
                    <a:pt x="0" y="223"/>
                  </a:lnTo>
                  <a:lnTo>
                    <a:pt x="0" y="216"/>
                  </a:lnTo>
                  <a:lnTo>
                    <a:pt x="0" y="210"/>
                  </a:lnTo>
                  <a:lnTo>
                    <a:pt x="0" y="202"/>
                  </a:lnTo>
                  <a:lnTo>
                    <a:pt x="0" y="198"/>
                  </a:lnTo>
                  <a:lnTo>
                    <a:pt x="0" y="192"/>
                  </a:lnTo>
                  <a:lnTo>
                    <a:pt x="0" y="189"/>
                  </a:lnTo>
                  <a:lnTo>
                    <a:pt x="0" y="185"/>
                  </a:lnTo>
                  <a:lnTo>
                    <a:pt x="0" y="183"/>
                  </a:lnTo>
                  <a:lnTo>
                    <a:pt x="0" y="175"/>
                  </a:lnTo>
                  <a:lnTo>
                    <a:pt x="0" y="169"/>
                  </a:lnTo>
                  <a:lnTo>
                    <a:pt x="0" y="163"/>
                  </a:lnTo>
                  <a:lnTo>
                    <a:pt x="0" y="158"/>
                  </a:lnTo>
                  <a:lnTo>
                    <a:pt x="1" y="150"/>
                  </a:lnTo>
                  <a:lnTo>
                    <a:pt x="1" y="146"/>
                  </a:lnTo>
                  <a:lnTo>
                    <a:pt x="1" y="140"/>
                  </a:lnTo>
                  <a:lnTo>
                    <a:pt x="3" y="135"/>
                  </a:lnTo>
                  <a:lnTo>
                    <a:pt x="5" y="127"/>
                  </a:lnTo>
                  <a:lnTo>
                    <a:pt x="5" y="121"/>
                  </a:lnTo>
                  <a:lnTo>
                    <a:pt x="7" y="115"/>
                  </a:lnTo>
                  <a:lnTo>
                    <a:pt x="7" y="111"/>
                  </a:lnTo>
                  <a:lnTo>
                    <a:pt x="9" y="104"/>
                  </a:lnTo>
                  <a:lnTo>
                    <a:pt x="11" y="100"/>
                  </a:lnTo>
                  <a:lnTo>
                    <a:pt x="13" y="94"/>
                  </a:lnTo>
                  <a:lnTo>
                    <a:pt x="15" y="90"/>
                  </a:lnTo>
                  <a:lnTo>
                    <a:pt x="15" y="84"/>
                  </a:lnTo>
                  <a:lnTo>
                    <a:pt x="17" y="79"/>
                  </a:lnTo>
                  <a:lnTo>
                    <a:pt x="19" y="75"/>
                  </a:lnTo>
                  <a:lnTo>
                    <a:pt x="21" y="71"/>
                  </a:lnTo>
                  <a:lnTo>
                    <a:pt x="21" y="67"/>
                  </a:lnTo>
                  <a:lnTo>
                    <a:pt x="23" y="63"/>
                  </a:lnTo>
                  <a:lnTo>
                    <a:pt x="25" y="59"/>
                  </a:lnTo>
                  <a:lnTo>
                    <a:pt x="27" y="57"/>
                  </a:lnTo>
                  <a:lnTo>
                    <a:pt x="28" y="50"/>
                  </a:lnTo>
                  <a:lnTo>
                    <a:pt x="32" y="46"/>
                  </a:lnTo>
                  <a:lnTo>
                    <a:pt x="34" y="44"/>
                  </a:lnTo>
                  <a:lnTo>
                    <a:pt x="38" y="42"/>
                  </a:lnTo>
                  <a:lnTo>
                    <a:pt x="40" y="40"/>
                  </a:lnTo>
                  <a:lnTo>
                    <a:pt x="44" y="38"/>
                  </a:lnTo>
                  <a:lnTo>
                    <a:pt x="48" y="36"/>
                  </a:lnTo>
                  <a:lnTo>
                    <a:pt x="54" y="32"/>
                  </a:lnTo>
                  <a:lnTo>
                    <a:pt x="57" y="28"/>
                  </a:lnTo>
                  <a:lnTo>
                    <a:pt x="65" y="25"/>
                  </a:lnTo>
                  <a:lnTo>
                    <a:pt x="71" y="23"/>
                  </a:lnTo>
                  <a:lnTo>
                    <a:pt x="79" y="19"/>
                  </a:lnTo>
                  <a:lnTo>
                    <a:pt x="82" y="13"/>
                  </a:lnTo>
                  <a:lnTo>
                    <a:pt x="90" y="11"/>
                  </a:lnTo>
                  <a:lnTo>
                    <a:pt x="94" y="7"/>
                  </a:lnTo>
                  <a:lnTo>
                    <a:pt x="100" y="5"/>
                  </a:lnTo>
                  <a:lnTo>
                    <a:pt x="104" y="3"/>
                  </a:lnTo>
                  <a:lnTo>
                    <a:pt x="108" y="1"/>
                  </a:lnTo>
                  <a:lnTo>
                    <a:pt x="108" y="0"/>
                  </a:lnTo>
                  <a:lnTo>
                    <a:pt x="109" y="0"/>
                  </a:lnTo>
                  <a:lnTo>
                    <a:pt x="125" y="32"/>
                  </a:lnTo>
                  <a:lnTo>
                    <a:pt x="125"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4632480" y="5581800"/>
              <a:ext cx="841320" cy="533160"/>
            </a:xfrm>
            <a:custGeom>
              <a:avLst/>
              <a:gdLst/>
              <a:ahLst/>
              <a:rect l="l" t="t" r="r" b="b"/>
              <a:pathLst>
                <a:path w="530" h="336">
                  <a:moveTo>
                    <a:pt x="264" y="18"/>
                  </a:moveTo>
                  <a:lnTo>
                    <a:pt x="262" y="20"/>
                  </a:lnTo>
                  <a:lnTo>
                    <a:pt x="257" y="22"/>
                  </a:lnTo>
                  <a:lnTo>
                    <a:pt x="253" y="24"/>
                  </a:lnTo>
                  <a:lnTo>
                    <a:pt x="249" y="26"/>
                  </a:lnTo>
                  <a:lnTo>
                    <a:pt x="243" y="29"/>
                  </a:lnTo>
                  <a:lnTo>
                    <a:pt x="237" y="33"/>
                  </a:lnTo>
                  <a:lnTo>
                    <a:pt x="230" y="37"/>
                  </a:lnTo>
                  <a:lnTo>
                    <a:pt x="224" y="41"/>
                  </a:lnTo>
                  <a:lnTo>
                    <a:pt x="216" y="45"/>
                  </a:lnTo>
                  <a:lnTo>
                    <a:pt x="208" y="51"/>
                  </a:lnTo>
                  <a:lnTo>
                    <a:pt x="205" y="53"/>
                  </a:lnTo>
                  <a:lnTo>
                    <a:pt x="201" y="54"/>
                  </a:lnTo>
                  <a:lnTo>
                    <a:pt x="195" y="58"/>
                  </a:lnTo>
                  <a:lnTo>
                    <a:pt x="191" y="60"/>
                  </a:lnTo>
                  <a:lnTo>
                    <a:pt x="187" y="62"/>
                  </a:lnTo>
                  <a:lnTo>
                    <a:pt x="183" y="66"/>
                  </a:lnTo>
                  <a:lnTo>
                    <a:pt x="178" y="68"/>
                  </a:lnTo>
                  <a:lnTo>
                    <a:pt x="176" y="72"/>
                  </a:lnTo>
                  <a:lnTo>
                    <a:pt x="170" y="74"/>
                  </a:lnTo>
                  <a:lnTo>
                    <a:pt x="164" y="78"/>
                  </a:lnTo>
                  <a:lnTo>
                    <a:pt x="160" y="80"/>
                  </a:lnTo>
                  <a:lnTo>
                    <a:pt x="156" y="83"/>
                  </a:lnTo>
                  <a:lnTo>
                    <a:pt x="151" y="85"/>
                  </a:lnTo>
                  <a:lnTo>
                    <a:pt x="147" y="89"/>
                  </a:lnTo>
                  <a:lnTo>
                    <a:pt x="141" y="91"/>
                  </a:lnTo>
                  <a:lnTo>
                    <a:pt x="137" y="95"/>
                  </a:lnTo>
                  <a:lnTo>
                    <a:pt x="133" y="99"/>
                  </a:lnTo>
                  <a:lnTo>
                    <a:pt x="128" y="103"/>
                  </a:lnTo>
                  <a:lnTo>
                    <a:pt x="124" y="105"/>
                  </a:lnTo>
                  <a:lnTo>
                    <a:pt x="120" y="108"/>
                  </a:lnTo>
                  <a:lnTo>
                    <a:pt x="116" y="110"/>
                  </a:lnTo>
                  <a:lnTo>
                    <a:pt x="112" y="114"/>
                  </a:lnTo>
                  <a:lnTo>
                    <a:pt x="106" y="118"/>
                  </a:lnTo>
                  <a:lnTo>
                    <a:pt x="102" y="122"/>
                  </a:lnTo>
                  <a:lnTo>
                    <a:pt x="99" y="124"/>
                  </a:lnTo>
                  <a:lnTo>
                    <a:pt x="95" y="128"/>
                  </a:lnTo>
                  <a:lnTo>
                    <a:pt x="89" y="130"/>
                  </a:lnTo>
                  <a:lnTo>
                    <a:pt x="87" y="134"/>
                  </a:lnTo>
                  <a:lnTo>
                    <a:pt x="77" y="139"/>
                  </a:lnTo>
                  <a:lnTo>
                    <a:pt x="72" y="145"/>
                  </a:lnTo>
                  <a:lnTo>
                    <a:pt x="64" y="151"/>
                  </a:lnTo>
                  <a:lnTo>
                    <a:pt x="58" y="157"/>
                  </a:lnTo>
                  <a:lnTo>
                    <a:pt x="54" y="162"/>
                  </a:lnTo>
                  <a:lnTo>
                    <a:pt x="50" y="168"/>
                  </a:lnTo>
                  <a:lnTo>
                    <a:pt x="45" y="172"/>
                  </a:lnTo>
                  <a:lnTo>
                    <a:pt x="41" y="178"/>
                  </a:lnTo>
                  <a:lnTo>
                    <a:pt x="37" y="184"/>
                  </a:lnTo>
                  <a:lnTo>
                    <a:pt x="35" y="187"/>
                  </a:lnTo>
                  <a:lnTo>
                    <a:pt x="31" y="193"/>
                  </a:lnTo>
                  <a:lnTo>
                    <a:pt x="29" y="197"/>
                  </a:lnTo>
                  <a:lnTo>
                    <a:pt x="27" y="201"/>
                  </a:lnTo>
                  <a:lnTo>
                    <a:pt x="25" y="207"/>
                  </a:lnTo>
                  <a:lnTo>
                    <a:pt x="23" y="211"/>
                  </a:lnTo>
                  <a:lnTo>
                    <a:pt x="23" y="214"/>
                  </a:lnTo>
                  <a:lnTo>
                    <a:pt x="23" y="218"/>
                  </a:lnTo>
                  <a:lnTo>
                    <a:pt x="23" y="224"/>
                  </a:lnTo>
                  <a:lnTo>
                    <a:pt x="23" y="226"/>
                  </a:lnTo>
                  <a:lnTo>
                    <a:pt x="25" y="232"/>
                  </a:lnTo>
                  <a:lnTo>
                    <a:pt x="27" y="236"/>
                  </a:lnTo>
                  <a:lnTo>
                    <a:pt x="29" y="240"/>
                  </a:lnTo>
                  <a:lnTo>
                    <a:pt x="33" y="247"/>
                  </a:lnTo>
                  <a:lnTo>
                    <a:pt x="39" y="255"/>
                  </a:lnTo>
                  <a:lnTo>
                    <a:pt x="43" y="257"/>
                  </a:lnTo>
                  <a:lnTo>
                    <a:pt x="47" y="261"/>
                  </a:lnTo>
                  <a:lnTo>
                    <a:pt x="50" y="265"/>
                  </a:lnTo>
                  <a:lnTo>
                    <a:pt x="56" y="268"/>
                  </a:lnTo>
                  <a:lnTo>
                    <a:pt x="60" y="270"/>
                  </a:lnTo>
                  <a:lnTo>
                    <a:pt x="66" y="274"/>
                  </a:lnTo>
                  <a:lnTo>
                    <a:pt x="72" y="276"/>
                  </a:lnTo>
                  <a:lnTo>
                    <a:pt x="77" y="280"/>
                  </a:lnTo>
                  <a:lnTo>
                    <a:pt x="85" y="282"/>
                  </a:lnTo>
                  <a:lnTo>
                    <a:pt x="91" y="286"/>
                  </a:lnTo>
                  <a:lnTo>
                    <a:pt x="95" y="286"/>
                  </a:lnTo>
                  <a:lnTo>
                    <a:pt x="99" y="288"/>
                  </a:lnTo>
                  <a:lnTo>
                    <a:pt x="102" y="290"/>
                  </a:lnTo>
                  <a:lnTo>
                    <a:pt x="108" y="292"/>
                  </a:lnTo>
                  <a:lnTo>
                    <a:pt x="114" y="294"/>
                  </a:lnTo>
                  <a:lnTo>
                    <a:pt x="122" y="295"/>
                  </a:lnTo>
                  <a:lnTo>
                    <a:pt x="126" y="295"/>
                  </a:lnTo>
                  <a:lnTo>
                    <a:pt x="131" y="297"/>
                  </a:lnTo>
                  <a:lnTo>
                    <a:pt x="133" y="297"/>
                  </a:lnTo>
                  <a:lnTo>
                    <a:pt x="139" y="299"/>
                  </a:lnTo>
                  <a:lnTo>
                    <a:pt x="145" y="299"/>
                  </a:lnTo>
                  <a:lnTo>
                    <a:pt x="153" y="301"/>
                  </a:lnTo>
                  <a:lnTo>
                    <a:pt x="160" y="301"/>
                  </a:lnTo>
                  <a:lnTo>
                    <a:pt x="168" y="303"/>
                  </a:lnTo>
                  <a:lnTo>
                    <a:pt x="176" y="301"/>
                  </a:lnTo>
                  <a:lnTo>
                    <a:pt x="183" y="301"/>
                  </a:lnTo>
                  <a:lnTo>
                    <a:pt x="189" y="301"/>
                  </a:lnTo>
                  <a:lnTo>
                    <a:pt x="197" y="301"/>
                  </a:lnTo>
                  <a:lnTo>
                    <a:pt x="205" y="299"/>
                  </a:lnTo>
                  <a:lnTo>
                    <a:pt x="212" y="299"/>
                  </a:lnTo>
                  <a:lnTo>
                    <a:pt x="220" y="299"/>
                  </a:lnTo>
                  <a:lnTo>
                    <a:pt x="228" y="297"/>
                  </a:lnTo>
                  <a:lnTo>
                    <a:pt x="234" y="295"/>
                  </a:lnTo>
                  <a:lnTo>
                    <a:pt x="241" y="294"/>
                  </a:lnTo>
                  <a:lnTo>
                    <a:pt x="249" y="292"/>
                  </a:lnTo>
                  <a:lnTo>
                    <a:pt x="257" y="290"/>
                  </a:lnTo>
                  <a:lnTo>
                    <a:pt x="262" y="288"/>
                  </a:lnTo>
                  <a:lnTo>
                    <a:pt x="270" y="286"/>
                  </a:lnTo>
                  <a:lnTo>
                    <a:pt x="278" y="284"/>
                  </a:lnTo>
                  <a:lnTo>
                    <a:pt x="286" y="282"/>
                  </a:lnTo>
                  <a:lnTo>
                    <a:pt x="291" y="278"/>
                  </a:lnTo>
                  <a:lnTo>
                    <a:pt x="299" y="276"/>
                  </a:lnTo>
                  <a:lnTo>
                    <a:pt x="307" y="272"/>
                  </a:lnTo>
                  <a:lnTo>
                    <a:pt x="315" y="270"/>
                  </a:lnTo>
                  <a:lnTo>
                    <a:pt x="320" y="267"/>
                  </a:lnTo>
                  <a:lnTo>
                    <a:pt x="328" y="265"/>
                  </a:lnTo>
                  <a:lnTo>
                    <a:pt x="336" y="261"/>
                  </a:lnTo>
                  <a:lnTo>
                    <a:pt x="343" y="259"/>
                  </a:lnTo>
                  <a:lnTo>
                    <a:pt x="349" y="255"/>
                  </a:lnTo>
                  <a:lnTo>
                    <a:pt x="357" y="253"/>
                  </a:lnTo>
                  <a:lnTo>
                    <a:pt x="363" y="249"/>
                  </a:lnTo>
                  <a:lnTo>
                    <a:pt x="370" y="247"/>
                  </a:lnTo>
                  <a:lnTo>
                    <a:pt x="376" y="243"/>
                  </a:lnTo>
                  <a:lnTo>
                    <a:pt x="382" y="241"/>
                  </a:lnTo>
                  <a:lnTo>
                    <a:pt x="388" y="238"/>
                  </a:lnTo>
                  <a:lnTo>
                    <a:pt x="395" y="236"/>
                  </a:lnTo>
                  <a:lnTo>
                    <a:pt x="399" y="232"/>
                  </a:lnTo>
                  <a:lnTo>
                    <a:pt x="405" y="230"/>
                  </a:lnTo>
                  <a:lnTo>
                    <a:pt x="411" y="226"/>
                  </a:lnTo>
                  <a:lnTo>
                    <a:pt x="417" y="224"/>
                  </a:lnTo>
                  <a:lnTo>
                    <a:pt x="422" y="220"/>
                  </a:lnTo>
                  <a:lnTo>
                    <a:pt x="426" y="218"/>
                  </a:lnTo>
                  <a:lnTo>
                    <a:pt x="432" y="214"/>
                  </a:lnTo>
                  <a:lnTo>
                    <a:pt x="438" y="213"/>
                  </a:lnTo>
                  <a:lnTo>
                    <a:pt x="442" y="209"/>
                  </a:lnTo>
                  <a:lnTo>
                    <a:pt x="446" y="205"/>
                  </a:lnTo>
                  <a:lnTo>
                    <a:pt x="449" y="201"/>
                  </a:lnTo>
                  <a:lnTo>
                    <a:pt x="453" y="199"/>
                  </a:lnTo>
                  <a:lnTo>
                    <a:pt x="461" y="191"/>
                  </a:lnTo>
                  <a:lnTo>
                    <a:pt x="469" y="186"/>
                  </a:lnTo>
                  <a:lnTo>
                    <a:pt x="474" y="178"/>
                  </a:lnTo>
                  <a:lnTo>
                    <a:pt x="478" y="170"/>
                  </a:lnTo>
                  <a:lnTo>
                    <a:pt x="482" y="164"/>
                  </a:lnTo>
                  <a:lnTo>
                    <a:pt x="488" y="157"/>
                  </a:lnTo>
                  <a:lnTo>
                    <a:pt x="488" y="153"/>
                  </a:lnTo>
                  <a:lnTo>
                    <a:pt x="490" y="149"/>
                  </a:lnTo>
                  <a:lnTo>
                    <a:pt x="490" y="143"/>
                  </a:lnTo>
                  <a:lnTo>
                    <a:pt x="492" y="139"/>
                  </a:lnTo>
                  <a:lnTo>
                    <a:pt x="492" y="134"/>
                  </a:lnTo>
                  <a:lnTo>
                    <a:pt x="492" y="130"/>
                  </a:lnTo>
                  <a:lnTo>
                    <a:pt x="494" y="126"/>
                  </a:lnTo>
                  <a:lnTo>
                    <a:pt x="494" y="122"/>
                  </a:lnTo>
                  <a:lnTo>
                    <a:pt x="494" y="116"/>
                  </a:lnTo>
                  <a:lnTo>
                    <a:pt x="494" y="110"/>
                  </a:lnTo>
                  <a:lnTo>
                    <a:pt x="494" y="107"/>
                  </a:lnTo>
                  <a:lnTo>
                    <a:pt x="494" y="103"/>
                  </a:lnTo>
                  <a:lnTo>
                    <a:pt x="494" y="97"/>
                  </a:lnTo>
                  <a:lnTo>
                    <a:pt x="494" y="93"/>
                  </a:lnTo>
                  <a:lnTo>
                    <a:pt x="492" y="89"/>
                  </a:lnTo>
                  <a:lnTo>
                    <a:pt x="492" y="85"/>
                  </a:lnTo>
                  <a:lnTo>
                    <a:pt x="492" y="81"/>
                  </a:lnTo>
                  <a:lnTo>
                    <a:pt x="490" y="78"/>
                  </a:lnTo>
                  <a:lnTo>
                    <a:pt x="490" y="72"/>
                  </a:lnTo>
                  <a:lnTo>
                    <a:pt x="490" y="70"/>
                  </a:lnTo>
                  <a:lnTo>
                    <a:pt x="488" y="62"/>
                  </a:lnTo>
                  <a:lnTo>
                    <a:pt x="488" y="56"/>
                  </a:lnTo>
                  <a:lnTo>
                    <a:pt x="486" y="53"/>
                  </a:lnTo>
                  <a:lnTo>
                    <a:pt x="486" y="49"/>
                  </a:lnTo>
                  <a:lnTo>
                    <a:pt x="486" y="47"/>
                  </a:lnTo>
                  <a:lnTo>
                    <a:pt x="509" y="29"/>
                  </a:lnTo>
                  <a:lnTo>
                    <a:pt x="509" y="33"/>
                  </a:lnTo>
                  <a:lnTo>
                    <a:pt x="509" y="35"/>
                  </a:lnTo>
                  <a:lnTo>
                    <a:pt x="513" y="39"/>
                  </a:lnTo>
                  <a:lnTo>
                    <a:pt x="513" y="45"/>
                  </a:lnTo>
                  <a:lnTo>
                    <a:pt x="515" y="51"/>
                  </a:lnTo>
                  <a:lnTo>
                    <a:pt x="517" y="54"/>
                  </a:lnTo>
                  <a:lnTo>
                    <a:pt x="519" y="58"/>
                  </a:lnTo>
                  <a:lnTo>
                    <a:pt x="519" y="62"/>
                  </a:lnTo>
                  <a:lnTo>
                    <a:pt x="521" y="66"/>
                  </a:lnTo>
                  <a:lnTo>
                    <a:pt x="521" y="70"/>
                  </a:lnTo>
                  <a:lnTo>
                    <a:pt x="521" y="74"/>
                  </a:lnTo>
                  <a:lnTo>
                    <a:pt x="521" y="80"/>
                  </a:lnTo>
                  <a:lnTo>
                    <a:pt x="523" y="83"/>
                  </a:lnTo>
                  <a:lnTo>
                    <a:pt x="525" y="89"/>
                  </a:lnTo>
                  <a:lnTo>
                    <a:pt x="525" y="95"/>
                  </a:lnTo>
                  <a:lnTo>
                    <a:pt x="525" y="99"/>
                  </a:lnTo>
                  <a:lnTo>
                    <a:pt x="527" y="105"/>
                  </a:lnTo>
                  <a:lnTo>
                    <a:pt x="527" y="110"/>
                  </a:lnTo>
                  <a:lnTo>
                    <a:pt x="527" y="116"/>
                  </a:lnTo>
                  <a:lnTo>
                    <a:pt x="528" y="122"/>
                  </a:lnTo>
                  <a:lnTo>
                    <a:pt x="528" y="128"/>
                  </a:lnTo>
                  <a:lnTo>
                    <a:pt x="528" y="134"/>
                  </a:lnTo>
                  <a:lnTo>
                    <a:pt x="528" y="139"/>
                  </a:lnTo>
                  <a:lnTo>
                    <a:pt x="528" y="147"/>
                  </a:lnTo>
                  <a:lnTo>
                    <a:pt x="530" y="153"/>
                  </a:lnTo>
                  <a:lnTo>
                    <a:pt x="528" y="159"/>
                  </a:lnTo>
                  <a:lnTo>
                    <a:pt x="527" y="164"/>
                  </a:lnTo>
                  <a:lnTo>
                    <a:pt x="523" y="172"/>
                  </a:lnTo>
                  <a:lnTo>
                    <a:pt x="521" y="180"/>
                  </a:lnTo>
                  <a:lnTo>
                    <a:pt x="515" y="187"/>
                  </a:lnTo>
                  <a:lnTo>
                    <a:pt x="511" y="195"/>
                  </a:lnTo>
                  <a:lnTo>
                    <a:pt x="507" y="199"/>
                  </a:lnTo>
                  <a:lnTo>
                    <a:pt x="505" y="201"/>
                  </a:lnTo>
                  <a:lnTo>
                    <a:pt x="501" y="207"/>
                  </a:lnTo>
                  <a:lnTo>
                    <a:pt x="500" y="211"/>
                  </a:lnTo>
                  <a:lnTo>
                    <a:pt x="494" y="214"/>
                  </a:lnTo>
                  <a:lnTo>
                    <a:pt x="490" y="218"/>
                  </a:lnTo>
                  <a:lnTo>
                    <a:pt x="486" y="220"/>
                  </a:lnTo>
                  <a:lnTo>
                    <a:pt x="482" y="226"/>
                  </a:lnTo>
                  <a:lnTo>
                    <a:pt x="478" y="230"/>
                  </a:lnTo>
                  <a:lnTo>
                    <a:pt x="474" y="234"/>
                  </a:lnTo>
                  <a:lnTo>
                    <a:pt x="469" y="238"/>
                  </a:lnTo>
                  <a:lnTo>
                    <a:pt x="465" y="241"/>
                  </a:lnTo>
                  <a:lnTo>
                    <a:pt x="459" y="245"/>
                  </a:lnTo>
                  <a:lnTo>
                    <a:pt x="455" y="249"/>
                  </a:lnTo>
                  <a:lnTo>
                    <a:pt x="449" y="251"/>
                  </a:lnTo>
                  <a:lnTo>
                    <a:pt x="446" y="257"/>
                  </a:lnTo>
                  <a:lnTo>
                    <a:pt x="440" y="261"/>
                  </a:lnTo>
                  <a:lnTo>
                    <a:pt x="434" y="265"/>
                  </a:lnTo>
                  <a:lnTo>
                    <a:pt x="428" y="268"/>
                  </a:lnTo>
                  <a:lnTo>
                    <a:pt x="422" y="272"/>
                  </a:lnTo>
                  <a:lnTo>
                    <a:pt x="417" y="274"/>
                  </a:lnTo>
                  <a:lnTo>
                    <a:pt x="411" y="278"/>
                  </a:lnTo>
                  <a:lnTo>
                    <a:pt x="403" y="282"/>
                  </a:lnTo>
                  <a:lnTo>
                    <a:pt x="397" y="286"/>
                  </a:lnTo>
                  <a:lnTo>
                    <a:pt x="390" y="288"/>
                  </a:lnTo>
                  <a:lnTo>
                    <a:pt x="384" y="292"/>
                  </a:lnTo>
                  <a:lnTo>
                    <a:pt x="378" y="294"/>
                  </a:lnTo>
                  <a:lnTo>
                    <a:pt x="370" y="297"/>
                  </a:lnTo>
                  <a:lnTo>
                    <a:pt x="365" y="301"/>
                  </a:lnTo>
                  <a:lnTo>
                    <a:pt x="357" y="303"/>
                  </a:lnTo>
                  <a:lnTo>
                    <a:pt x="349" y="307"/>
                  </a:lnTo>
                  <a:lnTo>
                    <a:pt x="343" y="309"/>
                  </a:lnTo>
                  <a:lnTo>
                    <a:pt x="336" y="311"/>
                  </a:lnTo>
                  <a:lnTo>
                    <a:pt x="328" y="315"/>
                  </a:lnTo>
                  <a:lnTo>
                    <a:pt x="320" y="317"/>
                  </a:lnTo>
                  <a:lnTo>
                    <a:pt x="315" y="319"/>
                  </a:lnTo>
                  <a:lnTo>
                    <a:pt x="307" y="321"/>
                  </a:lnTo>
                  <a:lnTo>
                    <a:pt x="299" y="322"/>
                  </a:lnTo>
                  <a:lnTo>
                    <a:pt x="291" y="324"/>
                  </a:lnTo>
                  <a:lnTo>
                    <a:pt x="284" y="326"/>
                  </a:lnTo>
                  <a:lnTo>
                    <a:pt x="276" y="328"/>
                  </a:lnTo>
                  <a:lnTo>
                    <a:pt x="268" y="330"/>
                  </a:lnTo>
                  <a:lnTo>
                    <a:pt x="259" y="330"/>
                  </a:lnTo>
                  <a:lnTo>
                    <a:pt x="253" y="332"/>
                  </a:lnTo>
                  <a:lnTo>
                    <a:pt x="243" y="332"/>
                  </a:lnTo>
                  <a:lnTo>
                    <a:pt x="235" y="334"/>
                  </a:lnTo>
                  <a:lnTo>
                    <a:pt x="228" y="334"/>
                  </a:lnTo>
                  <a:lnTo>
                    <a:pt x="220" y="336"/>
                  </a:lnTo>
                  <a:lnTo>
                    <a:pt x="212" y="336"/>
                  </a:lnTo>
                  <a:lnTo>
                    <a:pt x="205" y="336"/>
                  </a:lnTo>
                  <a:lnTo>
                    <a:pt x="197" y="336"/>
                  </a:lnTo>
                  <a:lnTo>
                    <a:pt x="189" y="336"/>
                  </a:lnTo>
                  <a:lnTo>
                    <a:pt x="180" y="334"/>
                  </a:lnTo>
                  <a:lnTo>
                    <a:pt x="172" y="334"/>
                  </a:lnTo>
                  <a:lnTo>
                    <a:pt x="164" y="332"/>
                  </a:lnTo>
                  <a:lnTo>
                    <a:pt x="156" y="332"/>
                  </a:lnTo>
                  <a:lnTo>
                    <a:pt x="151" y="332"/>
                  </a:lnTo>
                  <a:lnTo>
                    <a:pt x="143" y="332"/>
                  </a:lnTo>
                  <a:lnTo>
                    <a:pt x="137" y="330"/>
                  </a:lnTo>
                  <a:lnTo>
                    <a:pt x="131" y="330"/>
                  </a:lnTo>
                  <a:lnTo>
                    <a:pt x="124" y="328"/>
                  </a:lnTo>
                  <a:lnTo>
                    <a:pt x="118" y="328"/>
                  </a:lnTo>
                  <a:lnTo>
                    <a:pt x="112" y="326"/>
                  </a:lnTo>
                  <a:lnTo>
                    <a:pt x="106" y="324"/>
                  </a:lnTo>
                  <a:lnTo>
                    <a:pt x="101" y="324"/>
                  </a:lnTo>
                  <a:lnTo>
                    <a:pt x="95" y="322"/>
                  </a:lnTo>
                  <a:lnTo>
                    <a:pt x="91" y="322"/>
                  </a:lnTo>
                  <a:lnTo>
                    <a:pt x="87" y="321"/>
                  </a:lnTo>
                  <a:lnTo>
                    <a:pt x="81" y="319"/>
                  </a:lnTo>
                  <a:lnTo>
                    <a:pt x="75" y="317"/>
                  </a:lnTo>
                  <a:lnTo>
                    <a:pt x="72" y="317"/>
                  </a:lnTo>
                  <a:lnTo>
                    <a:pt x="68" y="315"/>
                  </a:lnTo>
                  <a:lnTo>
                    <a:pt x="64" y="313"/>
                  </a:lnTo>
                  <a:lnTo>
                    <a:pt x="60" y="311"/>
                  </a:lnTo>
                  <a:lnTo>
                    <a:pt x="56" y="309"/>
                  </a:lnTo>
                  <a:lnTo>
                    <a:pt x="54" y="307"/>
                  </a:lnTo>
                  <a:lnTo>
                    <a:pt x="47" y="303"/>
                  </a:lnTo>
                  <a:lnTo>
                    <a:pt x="41" y="299"/>
                  </a:lnTo>
                  <a:lnTo>
                    <a:pt x="37" y="295"/>
                  </a:lnTo>
                  <a:lnTo>
                    <a:pt x="31" y="294"/>
                  </a:lnTo>
                  <a:lnTo>
                    <a:pt x="27" y="288"/>
                  </a:lnTo>
                  <a:lnTo>
                    <a:pt x="23" y="284"/>
                  </a:lnTo>
                  <a:lnTo>
                    <a:pt x="20" y="278"/>
                  </a:lnTo>
                  <a:lnTo>
                    <a:pt x="16" y="274"/>
                  </a:lnTo>
                  <a:lnTo>
                    <a:pt x="14" y="268"/>
                  </a:lnTo>
                  <a:lnTo>
                    <a:pt x="12" y="265"/>
                  </a:lnTo>
                  <a:lnTo>
                    <a:pt x="10" y="259"/>
                  </a:lnTo>
                  <a:lnTo>
                    <a:pt x="8" y="255"/>
                  </a:lnTo>
                  <a:lnTo>
                    <a:pt x="6" y="249"/>
                  </a:lnTo>
                  <a:lnTo>
                    <a:pt x="6" y="245"/>
                  </a:lnTo>
                  <a:lnTo>
                    <a:pt x="4" y="240"/>
                  </a:lnTo>
                  <a:lnTo>
                    <a:pt x="4" y="234"/>
                  </a:lnTo>
                  <a:lnTo>
                    <a:pt x="2" y="230"/>
                  </a:lnTo>
                  <a:lnTo>
                    <a:pt x="2" y="224"/>
                  </a:lnTo>
                  <a:lnTo>
                    <a:pt x="2" y="220"/>
                  </a:lnTo>
                  <a:lnTo>
                    <a:pt x="2" y="214"/>
                  </a:lnTo>
                  <a:lnTo>
                    <a:pt x="0" y="209"/>
                  </a:lnTo>
                  <a:lnTo>
                    <a:pt x="0" y="205"/>
                  </a:lnTo>
                  <a:lnTo>
                    <a:pt x="0" y="199"/>
                  </a:lnTo>
                  <a:lnTo>
                    <a:pt x="2" y="195"/>
                  </a:lnTo>
                  <a:lnTo>
                    <a:pt x="2" y="189"/>
                  </a:lnTo>
                  <a:lnTo>
                    <a:pt x="4" y="186"/>
                  </a:lnTo>
                  <a:lnTo>
                    <a:pt x="6" y="182"/>
                  </a:lnTo>
                  <a:lnTo>
                    <a:pt x="8" y="176"/>
                  </a:lnTo>
                  <a:lnTo>
                    <a:pt x="12" y="172"/>
                  </a:lnTo>
                  <a:lnTo>
                    <a:pt x="14" y="168"/>
                  </a:lnTo>
                  <a:lnTo>
                    <a:pt x="16" y="164"/>
                  </a:lnTo>
                  <a:lnTo>
                    <a:pt x="20" y="159"/>
                  </a:lnTo>
                  <a:lnTo>
                    <a:pt x="25" y="151"/>
                  </a:lnTo>
                  <a:lnTo>
                    <a:pt x="33" y="145"/>
                  </a:lnTo>
                  <a:lnTo>
                    <a:pt x="37" y="139"/>
                  </a:lnTo>
                  <a:lnTo>
                    <a:pt x="39" y="137"/>
                  </a:lnTo>
                  <a:lnTo>
                    <a:pt x="45" y="134"/>
                  </a:lnTo>
                  <a:lnTo>
                    <a:pt x="49" y="130"/>
                  </a:lnTo>
                  <a:lnTo>
                    <a:pt x="52" y="126"/>
                  </a:lnTo>
                  <a:lnTo>
                    <a:pt x="56" y="122"/>
                  </a:lnTo>
                  <a:lnTo>
                    <a:pt x="62" y="120"/>
                  </a:lnTo>
                  <a:lnTo>
                    <a:pt x="66" y="116"/>
                  </a:lnTo>
                  <a:lnTo>
                    <a:pt x="70" y="112"/>
                  </a:lnTo>
                  <a:lnTo>
                    <a:pt x="74" y="110"/>
                  </a:lnTo>
                  <a:lnTo>
                    <a:pt x="77" y="107"/>
                  </a:lnTo>
                  <a:lnTo>
                    <a:pt x="83" y="103"/>
                  </a:lnTo>
                  <a:lnTo>
                    <a:pt x="87" y="101"/>
                  </a:lnTo>
                  <a:lnTo>
                    <a:pt x="91" y="97"/>
                  </a:lnTo>
                  <a:lnTo>
                    <a:pt x="95" y="95"/>
                  </a:lnTo>
                  <a:lnTo>
                    <a:pt x="101" y="93"/>
                  </a:lnTo>
                  <a:lnTo>
                    <a:pt x="102" y="89"/>
                  </a:lnTo>
                  <a:lnTo>
                    <a:pt x="108" y="87"/>
                  </a:lnTo>
                  <a:lnTo>
                    <a:pt x="112" y="83"/>
                  </a:lnTo>
                  <a:lnTo>
                    <a:pt x="118" y="80"/>
                  </a:lnTo>
                  <a:lnTo>
                    <a:pt x="124" y="76"/>
                  </a:lnTo>
                  <a:lnTo>
                    <a:pt x="129" y="72"/>
                  </a:lnTo>
                  <a:lnTo>
                    <a:pt x="137" y="70"/>
                  </a:lnTo>
                  <a:lnTo>
                    <a:pt x="143" y="66"/>
                  </a:lnTo>
                  <a:lnTo>
                    <a:pt x="149" y="60"/>
                  </a:lnTo>
                  <a:lnTo>
                    <a:pt x="156" y="58"/>
                  </a:lnTo>
                  <a:lnTo>
                    <a:pt x="162" y="53"/>
                  </a:lnTo>
                  <a:lnTo>
                    <a:pt x="170" y="49"/>
                  </a:lnTo>
                  <a:lnTo>
                    <a:pt x="176" y="45"/>
                  </a:lnTo>
                  <a:lnTo>
                    <a:pt x="182" y="41"/>
                  </a:lnTo>
                  <a:lnTo>
                    <a:pt x="189" y="39"/>
                  </a:lnTo>
                  <a:lnTo>
                    <a:pt x="197" y="35"/>
                  </a:lnTo>
                  <a:lnTo>
                    <a:pt x="203" y="31"/>
                  </a:lnTo>
                  <a:lnTo>
                    <a:pt x="208" y="27"/>
                  </a:lnTo>
                  <a:lnTo>
                    <a:pt x="214" y="24"/>
                  </a:lnTo>
                  <a:lnTo>
                    <a:pt x="222" y="22"/>
                  </a:lnTo>
                  <a:lnTo>
                    <a:pt x="226" y="18"/>
                  </a:lnTo>
                  <a:lnTo>
                    <a:pt x="232" y="14"/>
                  </a:lnTo>
                  <a:lnTo>
                    <a:pt x="237" y="12"/>
                  </a:lnTo>
                  <a:lnTo>
                    <a:pt x="243" y="10"/>
                  </a:lnTo>
                  <a:lnTo>
                    <a:pt x="245" y="8"/>
                  </a:lnTo>
                  <a:lnTo>
                    <a:pt x="251" y="4"/>
                  </a:lnTo>
                  <a:lnTo>
                    <a:pt x="253" y="4"/>
                  </a:lnTo>
                  <a:lnTo>
                    <a:pt x="257" y="2"/>
                  </a:lnTo>
                  <a:lnTo>
                    <a:pt x="261" y="0"/>
                  </a:lnTo>
                  <a:lnTo>
                    <a:pt x="262" y="0"/>
                  </a:lnTo>
                  <a:lnTo>
                    <a:pt x="264" y="18"/>
                  </a:lnTo>
                  <a:lnTo>
                    <a:pt x="26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4210200" y="5046840"/>
              <a:ext cx="836640" cy="541080"/>
            </a:xfrm>
            <a:custGeom>
              <a:avLst/>
              <a:gdLst/>
              <a:ahLst/>
              <a:rect l="l" t="t" r="r" b="b"/>
              <a:pathLst>
                <a:path w="527" h="341">
                  <a:moveTo>
                    <a:pt x="492" y="42"/>
                  </a:moveTo>
                  <a:lnTo>
                    <a:pt x="23" y="79"/>
                  </a:lnTo>
                  <a:lnTo>
                    <a:pt x="22" y="79"/>
                  </a:lnTo>
                  <a:lnTo>
                    <a:pt x="22" y="81"/>
                  </a:lnTo>
                  <a:lnTo>
                    <a:pt x="22" y="83"/>
                  </a:lnTo>
                  <a:lnTo>
                    <a:pt x="22" y="89"/>
                  </a:lnTo>
                  <a:lnTo>
                    <a:pt x="22" y="93"/>
                  </a:lnTo>
                  <a:lnTo>
                    <a:pt x="22" y="98"/>
                  </a:lnTo>
                  <a:lnTo>
                    <a:pt x="22" y="102"/>
                  </a:lnTo>
                  <a:lnTo>
                    <a:pt x="22" y="106"/>
                  </a:lnTo>
                  <a:lnTo>
                    <a:pt x="22" y="110"/>
                  </a:lnTo>
                  <a:lnTo>
                    <a:pt x="22" y="114"/>
                  </a:lnTo>
                  <a:lnTo>
                    <a:pt x="20" y="118"/>
                  </a:lnTo>
                  <a:lnTo>
                    <a:pt x="20" y="122"/>
                  </a:lnTo>
                  <a:lnTo>
                    <a:pt x="20" y="125"/>
                  </a:lnTo>
                  <a:lnTo>
                    <a:pt x="20" y="129"/>
                  </a:lnTo>
                  <a:lnTo>
                    <a:pt x="18" y="135"/>
                  </a:lnTo>
                  <a:lnTo>
                    <a:pt x="18" y="139"/>
                  </a:lnTo>
                  <a:lnTo>
                    <a:pt x="18" y="143"/>
                  </a:lnTo>
                  <a:lnTo>
                    <a:pt x="18" y="149"/>
                  </a:lnTo>
                  <a:lnTo>
                    <a:pt x="18" y="152"/>
                  </a:lnTo>
                  <a:lnTo>
                    <a:pt x="18" y="158"/>
                  </a:lnTo>
                  <a:lnTo>
                    <a:pt x="18" y="162"/>
                  </a:lnTo>
                  <a:lnTo>
                    <a:pt x="18" y="168"/>
                  </a:lnTo>
                  <a:lnTo>
                    <a:pt x="18" y="174"/>
                  </a:lnTo>
                  <a:lnTo>
                    <a:pt x="18" y="179"/>
                  </a:lnTo>
                  <a:lnTo>
                    <a:pt x="18" y="183"/>
                  </a:lnTo>
                  <a:lnTo>
                    <a:pt x="18" y="189"/>
                  </a:lnTo>
                  <a:lnTo>
                    <a:pt x="16" y="193"/>
                  </a:lnTo>
                  <a:lnTo>
                    <a:pt x="16" y="199"/>
                  </a:lnTo>
                  <a:lnTo>
                    <a:pt x="16" y="204"/>
                  </a:lnTo>
                  <a:lnTo>
                    <a:pt x="16" y="210"/>
                  </a:lnTo>
                  <a:lnTo>
                    <a:pt x="16" y="214"/>
                  </a:lnTo>
                  <a:lnTo>
                    <a:pt x="16" y="218"/>
                  </a:lnTo>
                  <a:lnTo>
                    <a:pt x="16" y="224"/>
                  </a:lnTo>
                  <a:lnTo>
                    <a:pt x="16" y="229"/>
                  </a:lnTo>
                  <a:lnTo>
                    <a:pt x="16" y="233"/>
                  </a:lnTo>
                  <a:lnTo>
                    <a:pt x="16" y="239"/>
                  </a:lnTo>
                  <a:lnTo>
                    <a:pt x="16" y="243"/>
                  </a:lnTo>
                  <a:lnTo>
                    <a:pt x="16" y="247"/>
                  </a:lnTo>
                  <a:lnTo>
                    <a:pt x="16" y="253"/>
                  </a:lnTo>
                  <a:lnTo>
                    <a:pt x="16" y="256"/>
                  </a:lnTo>
                  <a:lnTo>
                    <a:pt x="16" y="260"/>
                  </a:lnTo>
                  <a:lnTo>
                    <a:pt x="18" y="264"/>
                  </a:lnTo>
                  <a:lnTo>
                    <a:pt x="18" y="272"/>
                  </a:lnTo>
                  <a:lnTo>
                    <a:pt x="18" y="278"/>
                  </a:lnTo>
                  <a:lnTo>
                    <a:pt x="18" y="283"/>
                  </a:lnTo>
                  <a:lnTo>
                    <a:pt x="20" y="289"/>
                  </a:lnTo>
                  <a:lnTo>
                    <a:pt x="20" y="293"/>
                  </a:lnTo>
                  <a:lnTo>
                    <a:pt x="22" y="295"/>
                  </a:lnTo>
                  <a:lnTo>
                    <a:pt x="22" y="297"/>
                  </a:lnTo>
                  <a:lnTo>
                    <a:pt x="23" y="299"/>
                  </a:lnTo>
                  <a:lnTo>
                    <a:pt x="25" y="297"/>
                  </a:lnTo>
                  <a:lnTo>
                    <a:pt x="31" y="297"/>
                  </a:lnTo>
                  <a:lnTo>
                    <a:pt x="35" y="297"/>
                  </a:lnTo>
                  <a:lnTo>
                    <a:pt x="39" y="297"/>
                  </a:lnTo>
                  <a:lnTo>
                    <a:pt x="43" y="297"/>
                  </a:lnTo>
                  <a:lnTo>
                    <a:pt x="50" y="297"/>
                  </a:lnTo>
                  <a:lnTo>
                    <a:pt x="54" y="297"/>
                  </a:lnTo>
                  <a:lnTo>
                    <a:pt x="62" y="297"/>
                  </a:lnTo>
                  <a:lnTo>
                    <a:pt x="68" y="297"/>
                  </a:lnTo>
                  <a:lnTo>
                    <a:pt x="75" y="297"/>
                  </a:lnTo>
                  <a:lnTo>
                    <a:pt x="83" y="297"/>
                  </a:lnTo>
                  <a:lnTo>
                    <a:pt x="91" y="297"/>
                  </a:lnTo>
                  <a:lnTo>
                    <a:pt x="99" y="297"/>
                  </a:lnTo>
                  <a:lnTo>
                    <a:pt x="108" y="299"/>
                  </a:lnTo>
                  <a:lnTo>
                    <a:pt x="118" y="299"/>
                  </a:lnTo>
                  <a:lnTo>
                    <a:pt x="128" y="299"/>
                  </a:lnTo>
                  <a:lnTo>
                    <a:pt x="135" y="299"/>
                  </a:lnTo>
                  <a:lnTo>
                    <a:pt x="147" y="299"/>
                  </a:lnTo>
                  <a:lnTo>
                    <a:pt x="156" y="299"/>
                  </a:lnTo>
                  <a:lnTo>
                    <a:pt x="168" y="299"/>
                  </a:lnTo>
                  <a:lnTo>
                    <a:pt x="178" y="299"/>
                  </a:lnTo>
                  <a:lnTo>
                    <a:pt x="189" y="299"/>
                  </a:lnTo>
                  <a:lnTo>
                    <a:pt x="199" y="299"/>
                  </a:lnTo>
                  <a:lnTo>
                    <a:pt x="210" y="299"/>
                  </a:lnTo>
                  <a:lnTo>
                    <a:pt x="222" y="299"/>
                  </a:lnTo>
                  <a:lnTo>
                    <a:pt x="234" y="301"/>
                  </a:lnTo>
                  <a:lnTo>
                    <a:pt x="245" y="301"/>
                  </a:lnTo>
                  <a:lnTo>
                    <a:pt x="257" y="301"/>
                  </a:lnTo>
                  <a:lnTo>
                    <a:pt x="268" y="301"/>
                  </a:lnTo>
                  <a:lnTo>
                    <a:pt x="280" y="301"/>
                  </a:lnTo>
                  <a:lnTo>
                    <a:pt x="291" y="301"/>
                  </a:lnTo>
                  <a:lnTo>
                    <a:pt x="303" y="301"/>
                  </a:lnTo>
                  <a:lnTo>
                    <a:pt x="315" y="301"/>
                  </a:lnTo>
                  <a:lnTo>
                    <a:pt x="326" y="301"/>
                  </a:lnTo>
                  <a:lnTo>
                    <a:pt x="336" y="301"/>
                  </a:lnTo>
                  <a:lnTo>
                    <a:pt x="347" y="301"/>
                  </a:lnTo>
                  <a:lnTo>
                    <a:pt x="359" y="301"/>
                  </a:lnTo>
                  <a:lnTo>
                    <a:pt x="370" y="303"/>
                  </a:lnTo>
                  <a:lnTo>
                    <a:pt x="380" y="303"/>
                  </a:lnTo>
                  <a:lnTo>
                    <a:pt x="392" y="303"/>
                  </a:lnTo>
                  <a:lnTo>
                    <a:pt x="401" y="303"/>
                  </a:lnTo>
                  <a:lnTo>
                    <a:pt x="411" y="303"/>
                  </a:lnTo>
                  <a:lnTo>
                    <a:pt x="421" y="303"/>
                  </a:lnTo>
                  <a:lnTo>
                    <a:pt x="430" y="303"/>
                  </a:lnTo>
                  <a:lnTo>
                    <a:pt x="440" y="303"/>
                  </a:lnTo>
                  <a:lnTo>
                    <a:pt x="449" y="303"/>
                  </a:lnTo>
                  <a:lnTo>
                    <a:pt x="457" y="303"/>
                  </a:lnTo>
                  <a:lnTo>
                    <a:pt x="465" y="303"/>
                  </a:lnTo>
                  <a:lnTo>
                    <a:pt x="473" y="303"/>
                  </a:lnTo>
                  <a:lnTo>
                    <a:pt x="478" y="303"/>
                  </a:lnTo>
                  <a:lnTo>
                    <a:pt x="486" y="303"/>
                  </a:lnTo>
                  <a:lnTo>
                    <a:pt x="492" y="303"/>
                  </a:lnTo>
                  <a:lnTo>
                    <a:pt x="498" y="303"/>
                  </a:lnTo>
                  <a:lnTo>
                    <a:pt x="503" y="305"/>
                  </a:lnTo>
                  <a:lnTo>
                    <a:pt x="507" y="305"/>
                  </a:lnTo>
                  <a:lnTo>
                    <a:pt x="511" y="305"/>
                  </a:lnTo>
                  <a:lnTo>
                    <a:pt x="515" y="305"/>
                  </a:lnTo>
                  <a:lnTo>
                    <a:pt x="519" y="305"/>
                  </a:lnTo>
                  <a:lnTo>
                    <a:pt x="523" y="305"/>
                  </a:lnTo>
                  <a:lnTo>
                    <a:pt x="525" y="305"/>
                  </a:lnTo>
                  <a:lnTo>
                    <a:pt x="527" y="341"/>
                  </a:lnTo>
                  <a:lnTo>
                    <a:pt x="525" y="339"/>
                  </a:lnTo>
                  <a:lnTo>
                    <a:pt x="521" y="339"/>
                  </a:lnTo>
                  <a:lnTo>
                    <a:pt x="517" y="339"/>
                  </a:lnTo>
                  <a:lnTo>
                    <a:pt x="513" y="339"/>
                  </a:lnTo>
                  <a:lnTo>
                    <a:pt x="509" y="339"/>
                  </a:lnTo>
                  <a:lnTo>
                    <a:pt x="505" y="339"/>
                  </a:lnTo>
                  <a:lnTo>
                    <a:pt x="498" y="339"/>
                  </a:lnTo>
                  <a:lnTo>
                    <a:pt x="492" y="339"/>
                  </a:lnTo>
                  <a:lnTo>
                    <a:pt x="486" y="339"/>
                  </a:lnTo>
                  <a:lnTo>
                    <a:pt x="478" y="339"/>
                  </a:lnTo>
                  <a:lnTo>
                    <a:pt x="471" y="339"/>
                  </a:lnTo>
                  <a:lnTo>
                    <a:pt x="463" y="339"/>
                  </a:lnTo>
                  <a:lnTo>
                    <a:pt x="455" y="339"/>
                  </a:lnTo>
                  <a:lnTo>
                    <a:pt x="448" y="339"/>
                  </a:lnTo>
                  <a:lnTo>
                    <a:pt x="438" y="339"/>
                  </a:lnTo>
                  <a:lnTo>
                    <a:pt x="428" y="339"/>
                  </a:lnTo>
                  <a:lnTo>
                    <a:pt x="419" y="339"/>
                  </a:lnTo>
                  <a:lnTo>
                    <a:pt x="407" y="339"/>
                  </a:lnTo>
                  <a:lnTo>
                    <a:pt x="397" y="339"/>
                  </a:lnTo>
                  <a:lnTo>
                    <a:pt x="386" y="339"/>
                  </a:lnTo>
                  <a:lnTo>
                    <a:pt x="376" y="339"/>
                  </a:lnTo>
                  <a:lnTo>
                    <a:pt x="367" y="339"/>
                  </a:lnTo>
                  <a:lnTo>
                    <a:pt x="353" y="337"/>
                  </a:lnTo>
                  <a:lnTo>
                    <a:pt x="341" y="337"/>
                  </a:lnTo>
                  <a:lnTo>
                    <a:pt x="330" y="337"/>
                  </a:lnTo>
                  <a:lnTo>
                    <a:pt x="318" y="337"/>
                  </a:lnTo>
                  <a:lnTo>
                    <a:pt x="307" y="337"/>
                  </a:lnTo>
                  <a:lnTo>
                    <a:pt x="295" y="337"/>
                  </a:lnTo>
                  <a:lnTo>
                    <a:pt x="284" y="337"/>
                  </a:lnTo>
                  <a:lnTo>
                    <a:pt x="272" y="337"/>
                  </a:lnTo>
                  <a:lnTo>
                    <a:pt x="261" y="337"/>
                  </a:lnTo>
                  <a:lnTo>
                    <a:pt x="249" y="337"/>
                  </a:lnTo>
                  <a:lnTo>
                    <a:pt x="235" y="336"/>
                  </a:lnTo>
                  <a:lnTo>
                    <a:pt x="224" y="336"/>
                  </a:lnTo>
                  <a:lnTo>
                    <a:pt x="212" y="336"/>
                  </a:lnTo>
                  <a:lnTo>
                    <a:pt x="201" y="336"/>
                  </a:lnTo>
                  <a:lnTo>
                    <a:pt x="189" y="336"/>
                  </a:lnTo>
                  <a:lnTo>
                    <a:pt x="178" y="336"/>
                  </a:lnTo>
                  <a:lnTo>
                    <a:pt x="166" y="336"/>
                  </a:lnTo>
                  <a:lnTo>
                    <a:pt x="155" y="336"/>
                  </a:lnTo>
                  <a:lnTo>
                    <a:pt x="145" y="336"/>
                  </a:lnTo>
                  <a:lnTo>
                    <a:pt x="135" y="336"/>
                  </a:lnTo>
                  <a:lnTo>
                    <a:pt x="124" y="334"/>
                  </a:lnTo>
                  <a:lnTo>
                    <a:pt x="114" y="334"/>
                  </a:lnTo>
                  <a:lnTo>
                    <a:pt x="104" y="334"/>
                  </a:lnTo>
                  <a:lnTo>
                    <a:pt x="95" y="334"/>
                  </a:lnTo>
                  <a:lnTo>
                    <a:pt x="87" y="334"/>
                  </a:lnTo>
                  <a:lnTo>
                    <a:pt x="77" y="334"/>
                  </a:lnTo>
                  <a:lnTo>
                    <a:pt x="70" y="334"/>
                  </a:lnTo>
                  <a:lnTo>
                    <a:pt x="62" y="334"/>
                  </a:lnTo>
                  <a:lnTo>
                    <a:pt x="54" y="332"/>
                  </a:lnTo>
                  <a:lnTo>
                    <a:pt x="49" y="332"/>
                  </a:lnTo>
                  <a:lnTo>
                    <a:pt x="41" y="332"/>
                  </a:lnTo>
                  <a:lnTo>
                    <a:pt x="37" y="332"/>
                  </a:lnTo>
                  <a:lnTo>
                    <a:pt x="31" y="330"/>
                  </a:lnTo>
                  <a:lnTo>
                    <a:pt x="25" y="330"/>
                  </a:lnTo>
                  <a:lnTo>
                    <a:pt x="22" y="330"/>
                  </a:lnTo>
                  <a:lnTo>
                    <a:pt x="20" y="330"/>
                  </a:lnTo>
                  <a:lnTo>
                    <a:pt x="14" y="328"/>
                  </a:lnTo>
                  <a:lnTo>
                    <a:pt x="12" y="328"/>
                  </a:lnTo>
                  <a:lnTo>
                    <a:pt x="12" y="326"/>
                  </a:lnTo>
                  <a:lnTo>
                    <a:pt x="10" y="322"/>
                  </a:lnTo>
                  <a:lnTo>
                    <a:pt x="10" y="318"/>
                  </a:lnTo>
                  <a:lnTo>
                    <a:pt x="10" y="314"/>
                  </a:lnTo>
                  <a:lnTo>
                    <a:pt x="8" y="310"/>
                  </a:lnTo>
                  <a:lnTo>
                    <a:pt x="8" y="307"/>
                  </a:lnTo>
                  <a:lnTo>
                    <a:pt x="6" y="303"/>
                  </a:lnTo>
                  <a:lnTo>
                    <a:pt x="6" y="299"/>
                  </a:lnTo>
                  <a:lnTo>
                    <a:pt x="6" y="295"/>
                  </a:lnTo>
                  <a:lnTo>
                    <a:pt x="6" y="289"/>
                  </a:lnTo>
                  <a:lnTo>
                    <a:pt x="6" y="285"/>
                  </a:lnTo>
                  <a:lnTo>
                    <a:pt x="6" y="282"/>
                  </a:lnTo>
                  <a:lnTo>
                    <a:pt x="4" y="276"/>
                  </a:lnTo>
                  <a:lnTo>
                    <a:pt x="4" y="270"/>
                  </a:lnTo>
                  <a:lnTo>
                    <a:pt x="4" y="266"/>
                  </a:lnTo>
                  <a:lnTo>
                    <a:pt x="4" y="260"/>
                  </a:lnTo>
                  <a:lnTo>
                    <a:pt x="4" y="255"/>
                  </a:lnTo>
                  <a:lnTo>
                    <a:pt x="2" y="249"/>
                  </a:lnTo>
                  <a:lnTo>
                    <a:pt x="2" y="243"/>
                  </a:lnTo>
                  <a:lnTo>
                    <a:pt x="2" y="237"/>
                  </a:lnTo>
                  <a:lnTo>
                    <a:pt x="2" y="231"/>
                  </a:lnTo>
                  <a:lnTo>
                    <a:pt x="2" y="226"/>
                  </a:lnTo>
                  <a:lnTo>
                    <a:pt x="0" y="218"/>
                  </a:lnTo>
                  <a:lnTo>
                    <a:pt x="0" y="212"/>
                  </a:lnTo>
                  <a:lnTo>
                    <a:pt x="0" y="206"/>
                  </a:lnTo>
                  <a:lnTo>
                    <a:pt x="0" y="201"/>
                  </a:lnTo>
                  <a:lnTo>
                    <a:pt x="0" y="195"/>
                  </a:lnTo>
                  <a:lnTo>
                    <a:pt x="0" y="189"/>
                  </a:lnTo>
                  <a:lnTo>
                    <a:pt x="0" y="183"/>
                  </a:lnTo>
                  <a:lnTo>
                    <a:pt x="0" y="176"/>
                  </a:lnTo>
                  <a:lnTo>
                    <a:pt x="0" y="170"/>
                  </a:lnTo>
                  <a:lnTo>
                    <a:pt x="0" y="162"/>
                  </a:lnTo>
                  <a:lnTo>
                    <a:pt x="0" y="156"/>
                  </a:lnTo>
                  <a:lnTo>
                    <a:pt x="0" y="150"/>
                  </a:lnTo>
                  <a:lnTo>
                    <a:pt x="0" y="145"/>
                  </a:lnTo>
                  <a:lnTo>
                    <a:pt x="0" y="139"/>
                  </a:lnTo>
                  <a:lnTo>
                    <a:pt x="0" y="133"/>
                  </a:lnTo>
                  <a:lnTo>
                    <a:pt x="0" y="127"/>
                  </a:lnTo>
                  <a:lnTo>
                    <a:pt x="0" y="122"/>
                  </a:lnTo>
                  <a:lnTo>
                    <a:pt x="0" y="116"/>
                  </a:lnTo>
                  <a:lnTo>
                    <a:pt x="0" y="110"/>
                  </a:lnTo>
                  <a:lnTo>
                    <a:pt x="0" y="106"/>
                  </a:lnTo>
                  <a:lnTo>
                    <a:pt x="0" y="100"/>
                  </a:lnTo>
                  <a:lnTo>
                    <a:pt x="0" y="96"/>
                  </a:lnTo>
                  <a:lnTo>
                    <a:pt x="0" y="93"/>
                  </a:lnTo>
                  <a:lnTo>
                    <a:pt x="0" y="87"/>
                  </a:lnTo>
                  <a:lnTo>
                    <a:pt x="0" y="83"/>
                  </a:lnTo>
                  <a:lnTo>
                    <a:pt x="0" y="79"/>
                  </a:lnTo>
                  <a:lnTo>
                    <a:pt x="0" y="71"/>
                  </a:lnTo>
                  <a:lnTo>
                    <a:pt x="2" y="66"/>
                  </a:lnTo>
                  <a:lnTo>
                    <a:pt x="2" y="60"/>
                  </a:lnTo>
                  <a:lnTo>
                    <a:pt x="4" y="56"/>
                  </a:lnTo>
                  <a:lnTo>
                    <a:pt x="4" y="54"/>
                  </a:lnTo>
                  <a:lnTo>
                    <a:pt x="6" y="54"/>
                  </a:lnTo>
                  <a:lnTo>
                    <a:pt x="8" y="52"/>
                  </a:lnTo>
                  <a:lnTo>
                    <a:pt x="14" y="50"/>
                  </a:lnTo>
                  <a:lnTo>
                    <a:pt x="16" y="50"/>
                  </a:lnTo>
                  <a:lnTo>
                    <a:pt x="22" y="50"/>
                  </a:lnTo>
                  <a:lnTo>
                    <a:pt x="25" y="48"/>
                  </a:lnTo>
                  <a:lnTo>
                    <a:pt x="31" y="48"/>
                  </a:lnTo>
                  <a:lnTo>
                    <a:pt x="35" y="48"/>
                  </a:lnTo>
                  <a:lnTo>
                    <a:pt x="43" y="48"/>
                  </a:lnTo>
                  <a:lnTo>
                    <a:pt x="49" y="46"/>
                  </a:lnTo>
                  <a:lnTo>
                    <a:pt x="56" y="46"/>
                  </a:lnTo>
                  <a:lnTo>
                    <a:pt x="62" y="44"/>
                  </a:lnTo>
                  <a:lnTo>
                    <a:pt x="72" y="44"/>
                  </a:lnTo>
                  <a:lnTo>
                    <a:pt x="79" y="42"/>
                  </a:lnTo>
                  <a:lnTo>
                    <a:pt x="87" y="42"/>
                  </a:lnTo>
                  <a:lnTo>
                    <a:pt x="97" y="42"/>
                  </a:lnTo>
                  <a:lnTo>
                    <a:pt x="104" y="41"/>
                  </a:lnTo>
                  <a:lnTo>
                    <a:pt x="114" y="39"/>
                  </a:lnTo>
                  <a:lnTo>
                    <a:pt x="124" y="39"/>
                  </a:lnTo>
                  <a:lnTo>
                    <a:pt x="133" y="37"/>
                  </a:lnTo>
                  <a:lnTo>
                    <a:pt x="145" y="37"/>
                  </a:lnTo>
                  <a:lnTo>
                    <a:pt x="155" y="35"/>
                  </a:lnTo>
                  <a:lnTo>
                    <a:pt x="166" y="35"/>
                  </a:lnTo>
                  <a:lnTo>
                    <a:pt x="176" y="33"/>
                  </a:lnTo>
                  <a:lnTo>
                    <a:pt x="187" y="31"/>
                  </a:lnTo>
                  <a:lnTo>
                    <a:pt x="197" y="31"/>
                  </a:lnTo>
                  <a:lnTo>
                    <a:pt x="208" y="29"/>
                  </a:lnTo>
                  <a:lnTo>
                    <a:pt x="220" y="27"/>
                  </a:lnTo>
                  <a:lnTo>
                    <a:pt x="232" y="27"/>
                  </a:lnTo>
                  <a:lnTo>
                    <a:pt x="243" y="25"/>
                  </a:lnTo>
                  <a:lnTo>
                    <a:pt x="255" y="25"/>
                  </a:lnTo>
                  <a:lnTo>
                    <a:pt x="266" y="23"/>
                  </a:lnTo>
                  <a:lnTo>
                    <a:pt x="276" y="23"/>
                  </a:lnTo>
                  <a:lnTo>
                    <a:pt x="288" y="21"/>
                  </a:lnTo>
                  <a:lnTo>
                    <a:pt x="299" y="19"/>
                  </a:lnTo>
                  <a:lnTo>
                    <a:pt x="309" y="19"/>
                  </a:lnTo>
                  <a:lnTo>
                    <a:pt x="320" y="17"/>
                  </a:lnTo>
                  <a:lnTo>
                    <a:pt x="330" y="17"/>
                  </a:lnTo>
                  <a:lnTo>
                    <a:pt x="341" y="15"/>
                  </a:lnTo>
                  <a:lnTo>
                    <a:pt x="351" y="14"/>
                  </a:lnTo>
                  <a:lnTo>
                    <a:pt x="361" y="14"/>
                  </a:lnTo>
                  <a:lnTo>
                    <a:pt x="372" y="12"/>
                  </a:lnTo>
                  <a:lnTo>
                    <a:pt x="382" y="12"/>
                  </a:lnTo>
                  <a:lnTo>
                    <a:pt x="392" y="10"/>
                  </a:lnTo>
                  <a:lnTo>
                    <a:pt x="399" y="10"/>
                  </a:lnTo>
                  <a:lnTo>
                    <a:pt x="409" y="8"/>
                  </a:lnTo>
                  <a:lnTo>
                    <a:pt x="419" y="8"/>
                  </a:lnTo>
                  <a:lnTo>
                    <a:pt x="424" y="6"/>
                  </a:lnTo>
                  <a:lnTo>
                    <a:pt x="434" y="6"/>
                  </a:lnTo>
                  <a:lnTo>
                    <a:pt x="440" y="6"/>
                  </a:lnTo>
                  <a:lnTo>
                    <a:pt x="448" y="4"/>
                  </a:lnTo>
                  <a:lnTo>
                    <a:pt x="455" y="4"/>
                  </a:lnTo>
                  <a:lnTo>
                    <a:pt x="461" y="2"/>
                  </a:lnTo>
                  <a:lnTo>
                    <a:pt x="467" y="2"/>
                  </a:lnTo>
                  <a:lnTo>
                    <a:pt x="473" y="2"/>
                  </a:lnTo>
                  <a:lnTo>
                    <a:pt x="476" y="2"/>
                  </a:lnTo>
                  <a:lnTo>
                    <a:pt x="480" y="2"/>
                  </a:lnTo>
                  <a:lnTo>
                    <a:pt x="482" y="0"/>
                  </a:lnTo>
                  <a:lnTo>
                    <a:pt x="486" y="0"/>
                  </a:lnTo>
                  <a:lnTo>
                    <a:pt x="490" y="0"/>
                  </a:lnTo>
                  <a:lnTo>
                    <a:pt x="492" y="0"/>
                  </a:lnTo>
                  <a:lnTo>
                    <a:pt x="492" y="42"/>
                  </a:lnTo>
                  <a:lnTo>
                    <a:pt x="49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3827520" y="4697280"/>
              <a:ext cx="419040" cy="982800"/>
            </a:xfrm>
            <a:custGeom>
              <a:avLst/>
              <a:gdLst/>
              <a:ahLst/>
              <a:rect l="l" t="t" r="r" b="b"/>
              <a:pathLst>
                <a:path w="264" h="619">
                  <a:moveTo>
                    <a:pt x="243" y="288"/>
                  </a:moveTo>
                  <a:lnTo>
                    <a:pt x="241" y="286"/>
                  </a:lnTo>
                  <a:lnTo>
                    <a:pt x="239" y="280"/>
                  </a:lnTo>
                  <a:lnTo>
                    <a:pt x="239" y="276"/>
                  </a:lnTo>
                  <a:lnTo>
                    <a:pt x="237" y="272"/>
                  </a:lnTo>
                  <a:lnTo>
                    <a:pt x="236" y="268"/>
                  </a:lnTo>
                  <a:lnTo>
                    <a:pt x="234" y="262"/>
                  </a:lnTo>
                  <a:lnTo>
                    <a:pt x="230" y="257"/>
                  </a:lnTo>
                  <a:lnTo>
                    <a:pt x="228" y="251"/>
                  </a:lnTo>
                  <a:lnTo>
                    <a:pt x="226" y="243"/>
                  </a:lnTo>
                  <a:lnTo>
                    <a:pt x="224" y="237"/>
                  </a:lnTo>
                  <a:lnTo>
                    <a:pt x="220" y="228"/>
                  </a:lnTo>
                  <a:lnTo>
                    <a:pt x="216" y="222"/>
                  </a:lnTo>
                  <a:lnTo>
                    <a:pt x="214" y="218"/>
                  </a:lnTo>
                  <a:lnTo>
                    <a:pt x="214" y="214"/>
                  </a:lnTo>
                  <a:lnTo>
                    <a:pt x="212" y="208"/>
                  </a:lnTo>
                  <a:lnTo>
                    <a:pt x="210" y="207"/>
                  </a:lnTo>
                  <a:lnTo>
                    <a:pt x="209" y="201"/>
                  </a:lnTo>
                  <a:lnTo>
                    <a:pt x="209" y="197"/>
                  </a:lnTo>
                  <a:lnTo>
                    <a:pt x="207" y="193"/>
                  </a:lnTo>
                  <a:lnTo>
                    <a:pt x="205" y="189"/>
                  </a:lnTo>
                  <a:lnTo>
                    <a:pt x="203" y="183"/>
                  </a:lnTo>
                  <a:lnTo>
                    <a:pt x="201" y="180"/>
                  </a:lnTo>
                  <a:lnTo>
                    <a:pt x="199" y="176"/>
                  </a:lnTo>
                  <a:lnTo>
                    <a:pt x="197" y="172"/>
                  </a:lnTo>
                  <a:lnTo>
                    <a:pt x="195" y="166"/>
                  </a:lnTo>
                  <a:lnTo>
                    <a:pt x="195" y="162"/>
                  </a:lnTo>
                  <a:lnTo>
                    <a:pt x="193" y="158"/>
                  </a:lnTo>
                  <a:lnTo>
                    <a:pt x="191" y="154"/>
                  </a:lnTo>
                  <a:lnTo>
                    <a:pt x="189" y="151"/>
                  </a:lnTo>
                  <a:lnTo>
                    <a:pt x="187" y="147"/>
                  </a:lnTo>
                  <a:lnTo>
                    <a:pt x="187" y="141"/>
                  </a:lnTo>
                  <a:lnTo>
                    <a:pt x="185" y="139"/>
                  </a:lnTo>
                  <a:lnTo>
                    <a:pt x="184" y="133"/>
                  </a:lnTo>
                  <a:lnTo>
                    <a:pt x="182" y="129"/>
                  </a:lnTo>
                  <a:lnTo>
                    <a:pt x="180" y="126"/>
                  </a:lnTo>
                  <a:lnTo>
                    <a:pt x="178" y="122"/>
                  </a:lnTo>
                  <a:lnTo>
                    <a:pt x="176" y="114"/>
                  </a:lnTo>
                  <a:lnTo>
                    <a:pt x="172" y="108"/>
                  </a:lnTo>
                  <a:lnTo>
                    <a:pt x="170" y="101"/>
                  </a:lnTo>
                  <a:lnTo>
                    <a:pt x="166" y="95"/>
                  </a:lnTo>
                  <a:lnTo>
                    <a:pt x="164" y="89"/>
                  </a:lnTo>
                  <a:lnTo>
                    <a:pt x="162" y="85"/>
                  </a:lnTo>
                  <a:lnTo>
                    <a:pt x="160" y="79"/>
                  </a:lnTo>
                  <a:lnTo>
                    <a:pt x="158" y="74"/>
                  </a:lnTo>
                  <a:lnTo>
                    <a:pt x="155" y="68"/>
                  </a:lnTo>
                  <a:lnTo>
                    <a:pt x="153" y="64"/>
                  </a:lnTo>
                  <a:lnTo>
                    <a:pt x="151" y="60"/>
                  </a:lnTo>
                  <a:lnTo>
                    <a:pt x="147" y="56"/>
                  </a:lnTo>
                  <a:lnTo>
                    <a:pt x="145" y="52"/>
                  </a:lnTo>
                  <a:lnTo>
                    <a:pt x="141" y="48"/>
                  </a:lnTo>
                  <a:lnTo>
                    <a:pt x="135" y="41"/>
                  </a:lnTo>
                  <a:lnTo>
                    <a:pt x="128" y="37"/>
                  </a:lnTo>
                  <a:lnTo>
                    <a:pt x="122" y="33"/>
                  </a:lnTo>
                  <a:lnTo>
                    <a:pt x="114" y="29"/>
                  </a:lnTo>
                  <a:lnTo>
                    <a:pt x="110" y="27"/>
                  </a:lnTo>
                  <a:lnTo>
                    <a:pt x="106" y="27"/>
                  </a:lnTo>
                  <a:lnTo>
                    <a:pt x="103" y="25"/>
                  </a:lnTo>
                  <a:lnTo>
                    <a:pt x="99" y="25"/>
                  </a:lnTo>
                  <a:lnTo>
                    <a:pt x="95" y="25"/>
                  </a:lnTo>
                  <a:lnTo>
                    <a:pt x="89" y="25"/>
                  </a:lnTo>
                  <a:lnTo>
                    <a:pt x="85" y="27"/>
                  </a:lnTo>
                  <a:lnTo>
                    <a:pt x="81" y="29"/>
                  </a:lnTo>
                  <a:lnTo>
                    <a:pt x="77" y="29"/>
                  </a:lnTo>
                  <a:lnTo>
                    <a:pt x="74" y="31"/>
                  </a:lnTo>
                  <a:lnTo>
                    <a:pt x="70" y="33"/>
                  </a:lnTo>
                  <a:lnTo>
                    <a:pt x="64" y="35"/>
                  </a:lnTo>
                  <a:lnTo>
                    <a:pt x="60" y="39"/>
                  </a:lnTo>
                  <a:lnTo>
                    <a:pt x="56" y="41"/>
                  </a:lnTo>
                  <a:lnTo>
                    <a:pt x="52" y="47"/>
                  </a:lnTo>
                  <a:lnTo>
                    <a:pt x="49" y="50"/>
                  </a:lnTo>
                  <a:lnTo>
                    <a:pt x="45" y="54"/>
                  </a:lnTo>
                  <a:lnTo>
                    <a:pt x="41" y="60"/>
                  </a:lnTo>
                  <a:lnTo>
                    <a:pt x="37" y="66"/>
                  </a:lnTo>
                  <a:lnTo>
                    <a:pt x="35" y="72"/>
                  </a:lnTo>
                  <a:lnTo>
                    <a:pt x="33" y="75"/>
                  </a:lnTo>
                  <a:lnTo>
                    <a:pt x="31" y="79"/>
                  </a:lnTo>
                  <a:lnTo>
                    <a:pt x="29" y="83"/>
                  </a:lnTo>
                  <a:lnTo>
                    <a:pt x="29" y="89"/>
                  </a:lnTo>
                  <a:lnTo>
                    <a:pt x="29" y="93"/>
                  </a:lnTo>
                  <a:lnTo>
                    <a:pt x="27" y="97"/>
                  </a:lnTo>
                  <a:lnTo>
                    <a:pt x="27" y="102"/>
                  </a:lnTo>
                  <a:lnTo>
                    <a:pt x="27" y="106"/>
                  </a:lnTo>
                  <a:lnTo>
                    <a:pt x="27" y="110"/>
                  </a:lnTo>
                  <a:lnTo>
                    <a:pt x="27" y="116"/>
                  </a:lnTo>
                  <a:lnTo>
                    <a:pt x="25" y="122"/>
                  </a:lnTo>
                  <a:lnTo>
                    <a:pt x="25" y="127"/>
                  </a:lnTo>
                  <a:lnTo>
                    <a:pt x="25" y="131"/>
                  </a:lnTo>
                  <a:lnTo>
                    <a:pt x="25" y="137"/>
                  </a:lnTo>
                  <a:lnTo>
                    <a:pt x="25" y="143"/>
                  </a:lnTo>
                  <a:lnTo>
                    <a:pt x="27" y="149"/>
                  </a:lnTo>
                  <a:lnTo>
                    <a:pt x="27" y="154"/>
                  </a:lnTo>
                  <a:lnTo>
                    <a:pt x="27" y="160"/>
                  </a:lnTo>
                  <a:lnTo>
                    <a:pt x="27" y="166"/>
                  </a:lnTo>
                  <a:lnTo>
                    <a:pt x="27" y="172"/>
                  </a:lnTo>
                  <a:lnTo>
                    <a:pt x="27" y="178"/>
                  </a:lnTo>
                  <a:lnTo>
                    <a:pt x="27" y="183"/>
                  </a:lnTo>
                  <a:lnTo>
                    <a:pt x="29" y="191"/>
                  </a:lnTo>
                  <a:lnTo>
                    <a:pt x="29" y="197"/>
                  </a:lnTo>
                  <a:lnTo>
                    <a:pt x="29" y="203"/>
                  </a:lnTo>
                  <a:lnTo>
                    <a:pt x="29" y="208"/>
                  </a:lnTo>
                  <a:lnTo>
                    <a:pt x="29" y="214"/>
                  </a:lnTo>
                  <a:lnTo>
                    <a:pt x="31" y="222"/>
                  </a:lnTo>
                  <a:lnTo>
                    <a:pt x="31" y="228"/>
                  </a:lnTo>
                  <a:lnTo>
                    <a:pt x="31" y="234"/>
                  </a:lnTo>
                  <a:lnTo>
                    <a:pt x="33" y="239"/>
                  </a:lnTo>
                  <a:lnTo>
                    <a:pt x="33" y="247"/>
                  </a:lnTo>
                  <a:lnTo>
                    <a:pt x="33" y="253"/>
                  </a:lnTo>
                  <a:lnTo>
                    <a:pt x="35" y="259"/>
                  </a:lnTo>
                  <a:lnTo>
                    <a:pt x="35" y="264"/>
                  </a:lnTo>
                  <a:lnTo>
                    <a:pt x="35" y="272"/>
                  </a:lnTo>
                  <a:lnTo>
                    <a:pt x="37" y="278"/>
                  </a:lnTo>
                  <a:lnTo>
                    <a:pt x="37" y="284"/>
                  </a:lnTo>
                  <a:lnTo>
                    <a:pt x="39" y="289"/>
                  </a:lnTo>
                  <a:lnTo>
                    <a:pt x="39" y="297"/>
                  </a:lnTo>
                  <a:lnTo>
                    <a:pt x="39" y="303"/>
                  </a:lnTo>
                  <a:lnTo>
                    <a:pt x="41" y="309"/>
                  </a:lnTo>
                  <a:lnTo>
                    <a:pt x="41" y="315"/>
                  </a:lnTo>
                  <a:lnTo>
                    <a:pt x="41" y="320"/>
                  </a:lnTo>
                  <a:lnTo>
                    <a:pt x="41" y="326"/>
                  </a:lnTo>
                  <a:lnTo>
                    <a:pt x="43" y="332"/>
                  </a:lnTo>
                  <a:lnTo>
                    <a:pt x="43" y="338"/>
                  </a:lnTo>
                  <a:lnTo>
                    <a:pt x="45" y="343"/>
                  </a:lnTo>
                  <a:lnTo>
                    <a:pt x="45" y="347"/>
                  </a:lnTo>
                  <a:lnTo>
                    <a:pt x="45" y="353"/>
                  </a:lnTo>
                  <a:lnTo>
                    <a:pt x="45" y="359"/>
                  </a:lnTo>
                  <a:lnTo>
                    <a:pt x="47" y="365"/>
                  </a:lnTo>
                  <a:lnTo>
                    <a:pt x="47" y="369"/>
                  </a:lnTo>
                  <a:lnTo>
                    <a:pt x="47" y="374"/>
                  </a:lnTo>
                  <a:lnTo>
                    <a:pt x="47" y="378"/>
                  </a:lnTo>
                  <a:lnTo>
                    <a:pt x="49" y="384"/>
                  </a:lnTo>
                  <a:lnTo>
                    <a:pt x="49" y="388"/>
                  </a:lnTo>
                  <a:lnTo>
                    <a:pt x="49" y="392"/>
                  </a:lnTo>
                  <a:lnTo>
                    <a:pt x="49" y="396"/>
                  </a:lnTo>
                  <a:lnTo>
                    <a:pt x="49" y="399"/>
                  </a:lnTo>
                  <a:lnTo>
                    <a:pt x="49" y="405"/>
                  </a:lnTo>
                  <a:lnTo>
                    <a:pt x="49" y="409"/>
                  </a:lnTo>
                  <a:lnTo>
                    <a:pt x="49" y="413"/>
                  </a:lnTo>
                  <a:lnTo>
                    <a:pt x="49" y="417"/>
                  </a:lnTo>
                  <a:lnTo>
                    <a:pt x="49" y="421"/>
                  </a:lnTo>
                  <a:lnTo>
                    <a:pt x="49" y="424"/>
                  </a:lnTo>
                  <a:lnTo>
                    <a:pt x="49" y="430"/>
                  </a:lnTo>
                  <a:lnTo>
                    <a:pt x="49" y="434"/>
                  </a:lnTo>
                  <a:lnTo>
                    <a:pt x="49" y="438"/>
                  </a:lnTo>
                  <a:lnTo>
                    <a:pt x="49" y="442"/>
                  </a:lnTo>
                  <a:lnTo>
                    <a:pt x="49" y="446"/>
                  </a:lnTo>
                  <a:lnTo>
                    <a:pt x="49" y="449"/>
                  </a:lnTo>
                  <a:lnTo>
                    <a:pt x="47" y="457"/>
                  </a:lnTo>
                  <a:lnTo>
                    <a:pt x="47" y="463"/>
                  </a:lnTo>
                  <a:lnTo>
                    <a:pt x="47" y="471"/>
                  </a:lnTo>
                  <a:lnTo>
                    <a:pt x="47" y="478"/>
                  </a:lnTo>
                  <a:lnTo>
                    <a:pt x="47" y="484"/>
                  </a:lnTo>
                  <a:lnTo>
                    <a:pt x="47" y="490"/>
                  </a:lnTo>
                  <a:lnTo>
                    <a:pt x="49" y="498"/>
                  </a:lnTo>
                  <a:lnTo>
                    <a:pt x="49" y="503"/>
                  </a:lnTo>
                  <a:lnTo>
                    <a:pt x="49" y="509"/>
                  </a:lnTo>
                  <a:lnTo>
                    <a:pt x="49" y="515"/>
                  </a:lnTo>
                  <a:lnTo>
                    <a:pt x="49" y="519"/>
                  </a:lnTo>
                  <a:lnTo>
                    <a:pt x="52" y="525"/>
                  </a:lnTo>
                  <a:lnTo>
                    <a:pt x="52" y="529"/>
                  </a:lnTo>
                  <a:lnTo>
                    <a:pt x="54" y="534"/>
                  </a:lnTo>
                  <a:lnTo>
                    <a:pt x="56" y="538"/>
                  </a:lnTo>
                  <a:lnTo>
                    <a:pt x="58" y="542"/>
                  </a:lnTo>
                  <a:lnTo>
                    <a:pt x="64" y="548"/>
                  </a:lnTo>
                  <a:lnTo>
                    <a:pt x="72" y="556"/>
                  </a:lnTo>
                  <a:lnTo>
                    <a:pt x="76" y="557"/>
                  </a:lnTo>
                  <a:lnTo>
                    <a:pt x="79" y="559"/>
                  </a:lnTo>
                  <a:lnTo>
                    <a:pt x="83" y="561"/>
                  </a:lnTo>
                  <a:lnTo>
                    <a:pt x="91" y="565"/>
                  </a:lnTo>
                  <a:lnTo>
                    <a:pt x="95" y="567"/>
                  </a:lnTo>
                  <a:lnTo>
                    <a:pt x="99" y="567"/>
                  </a:lnTo>
                  <a:lnTo>
                    <a:pt x="104" y="569"/>
                  </a:lnTo>
                  <a:lnTo>
                    <a:pt x="108" y="571"/>
                  </a:lnTo>
                  <a:lnTo>
                    <a:pt x="112" y="571"/>
                  </a:lnTo>
                  <a:lnTo>
                    <a:pt x="116" y="573"/>
                  </a:lnTo>
                  <a:lnTo>
                    <a:pt x="120" y="573"/>
                  </a:lnTo>
                  <a:lnTo>
                    <a:pt x="124" y="575"/>
                  </a:lnTo>
                  <a:lnTo>
                    <a:pt x="130" y="577"/>
                  </a:lnTo>
                  <a:lnTo>
                    <a:pt x="135" y="579"/>
                  </a:lnTo>
                  <a:lnTo>
                    <a:pt x="139" y="579"/>
                  </a:lnTo>
                  <a:lnTo>
                    <a:pt x="145" y="579"/>
                  </a:lnTo>
                  <a:lnTo>
                    <a:pt x="151" y="579"/>
                  </a:lnTo>
                  <a:lnTo>
                    <a:pt x="158" y="579"/>
                  </a:lnTo>
                  <a:lnTo>
                    <a:pt x="160" y="577"/>
                  </a:lnTo>
                  <a:lnTo>
                    <a:pt x="164" y="577"/>
                  </a:lnTo>
                  <a:lnTo>
                    <a:pt x="170" y="577"/>
                  </a:lnTo>
                  <a:lnTo>
                    <a:pt x="176" y="575"/>
                  </a:lnTo>
                  <a:lnTo>
                    <a:pt x="180" y="573"/>
                  </a:lnTo>
                  <a:lnTo>
                    <a:pt x="185" y="571"/>
                  </a:lnTo>
                  <a:lnTo>
                    <a:pt x="191" y="567"/>
                  </a:lnTo>
                  <a:lnTo>
                    <a:pt x="197" y="565"/>
                  </a:lnTo>
                  <a:lnTo>
                    <a:pt x="205" y="559"/>
                  </a:lnTo>
                  <a:lnTo>
                    <a:pt x="210" y="556"/>
                  </a:lnTo>
                  <a:lnTo>
                    <a:pt x="216" y="552"/>
                  </a:lnTo>
                  <a:lnTo>
                    <a:pt x="224" y="548"/>
                  </a:lnTo>
                  <a:lnTo>
                    <a:pt x="230" y="542"/>
                  </a:lnTo>
                  <a:lnTo>
                    <a:pt x="236" y="536"/>
                  </a:lnTo>
                  <a:lnTo>
                    <a:pt x="239" y="532"/>
                  </a:lnTo>
                  <a:lnTo>
                    <a:pt x="245" y="530"/>
                  </a:lnTo>
                  <a:lnTo>
                    <a:pt x="247" y="527"/>
                  </a:lnTo>
                  <a:lnTo>
                    <a:pt x="251" y="525"/>
                  </a:lnTo>
                  <a:lnTo>
                    <a:pt x="253" y="523"/>
                  </a:lnTo>
                  <a:lnTo>
                    <a:pt x="253" y="523"/>
                  </a:lnTo>
                  <a:lnTo>
                    <a:pt x="249" y="557"/>
                  </a:lnTo>
                  <a:lnTo>
                    <a:pt x="249" y="557"/>
                  </a:lnTo>
                  <a:lnTo>
                    <a:pt x="247" y="559"/>
                  </a:lnTo>
                  <a:lnTo>
                    <a:pt x="245" y="563"/>
                  </a:lnTo>
                  <a:lnTo>
                    <a:pt x="241" y="569"/>
                  </a:lnTo>
                  <a:lnTo>
                    <a:pt x="237" y="575"/>
                  </a:lnTo>
                  <a:lnTo>
                    <a:pt x="234" y="583"/>
                  </a:lnTo>
                  <a:lnTo>
                    <a:pt x="232" y="586"/>
                  </a:lnTo>
                  <a:lnTo>
                    <a:pt x="230" y="590"/>
                  </a:lnTo>
                  <a:lnTo>
                    <a:pt x="228" y="594"/>
                  </a:lnTo>
                  <a:lnTo>
                    <a:pt x="226" y="600"/>
                  </a:lnTo>
                  <a:lnTo>
                    <a:pt x="222" y="604"/>
                  </a:lnTo>
                  <a:lnTo>
                    <a:pt x="216" y="606"/>
                  </a:lnTo>
                  <a:lnTo>
                    <a:pt x="212" y="610"/>
                  </a:lnTo>
                  <a:lnTo>
                    <a:pt x="209" y="611"/>
                  </a:lnTo>
                  <a:lnTo>
                    <a:pt x="201" y="615"/>
                  </a:lnTo>
                  <a:lnTo>
                    <a:pt x="195" y="617"/>
                  </a:lnTo>
                  <a:lnTo>
                    <a:pt x="189" y="617"/>
                  </a:lnTo>
                  <a:lnTo>
                    <a:pt x="182" y="619"/>
                  </a:lnTo>
                  <a:lnTo>
                    <a:pt x="178" y="619"/>
                  </a:lnTo>
                  <a:lnTo>
                    <a:pt x="174" y="619"/>
                  </a:lnTo>
                  <a:lnTo>
                    <a:pt x="170" y="619"/>
                  </a:lnTo>
                  <a:lnTo>
                    <a:pt x="166" y="619"/>
                  </a:lnTo>
                  <a:lnTo>
                    <a:pt x="162" y="619"/>
                  </a:lnTo>
                  <a:lnTo>
                    <a:pt x="158" y="619"/>
                  </a:lnTo>
                  <a:lnTo>
                    <a:pt x="155" y="619"/>
                  </a:lnTo>
                  <a:lnTo>
                    <a:pt x="151" y="619"/>
                  </a:lnTo>
                  <a:lnTo>
                    <a:pt x="147" y="619"/>
                  </a:lnTo>
                  <a:lnTo>
                    <a:pt x="143" y="617"/>
                  </a:lnTo>
                  <a:lnTo>
                    <a:pt x="139" y="617"/>
                  </a:lnTo>
                  <a:lnTo>
                    <a:pt x="135" y="617"/>
                  </a:lnTo>
                  <a:lnTo>
                    <a:pt x="128" y="615"/>
                  </a:lnTo>
                  <a:lnTo>
                    <a:pt x="120" y="615"/>
                  </a:lnTo>
                  <a:lnTo>
                    <a:pt x="112" y="611"/>
                  </a:lnTo>
                  <a:lnTo>
                    <a:pt x="106" y="610"/>
                  </a:lnTo>
                  <a:lnTo>
                    <a:pt x="99" y="608"/>
                  </a:lnTo>
                  <a:lnTo>
                    <a:pt x="93" y="606"/>
                  </a:lnTo>
                  <a:lnTo>
                    <a:pt x="87" y="602"/>
                  </a:lnTo>
                  <a:lnTo>
                    <a:pt x="79" y="600"/>
                  </a:lnTo>
                  <a:lnTo>
                    <a:pt x="76" y="596"/>
                  </a:lnTo>
                  <a:lnTo>
                    <a:pt x="70" y="592"/>
                  </a:lnTo>
                  <a:lnTo>
                    <a:pt x="64" y="588"/>
                  </a:lnTo>
                  <a:lnTo>
                    <a:pt x="58" y="584"/>
                  </a:lnTo>
                  <a:lnTo>
                    <a:pt x="52" y="579"/>
                  </a:lnTo>
                  <a:lnTo>
                    <a:pt x="49" y="573"/>
                  </a:lnTo>
                  <a:lnTo>
                    <a:pt x="45" y="565"/>
                  </a:lnTo>
                  <a:lnTo>
                    <a:pt x="39" y="559"/>
                  </a:lnTo>
                  <a:lnTo>
                    <a:pt x="37" y="556"/>
                  </a:lnTo>
                  <a:lnTo>
                    <a:pt x="35" y="550"/>
                  </a:lnTo>
                  <a:lnTo>
                    <a:pt x="33" y="546"/>
                  </a:lnTo>
                  <a:lnTo>
                    <a:pt x="29" y="542"/>
                  </a:lnTo>
                  <a:lnTo>
                    <a:pt x="27" y="536"/>
                  </a:lnTo>
                  <a:lnTo>
                    <a:pt x="25" y="532"/>
                  </a:lnTo>
                  <a:lnTo>
                    <a:pt x="24" y="527"/>
                  </a:lnTo>
                  <a:lnTo>
                    <a:pt x="22" y="521"/>
                  </a:lnTo>
                  <a:lnTo>
                    <a:pt x="22" y="515"/>
                  </a:lnTo>
                  <a:lnTo>
                    <a:pt x="20" y="509"/>
                  </a:lnTo>
                  <a:lnTo>
                    <a:pt x="20" y="503"/>
                  </a:lnTo>
                  <a:lnTo>
                    <a:pt x="20" y="498"/>
                  </a:lnTo>
                  <a:lnTo>
                    <a:pt x="20" y="490"/>
                  </a:lnTo>
                  <a:lnTo>
                    <a:pt x="18" y="484"/>
                  </a:lnTo>
                  <a:lnTo>
                    <a:pt x="18" y="476"/>
                  </a:lnTo>
                  <a:lnTo>
                    <a:pt x="20" y="471"/>
                  </a:lnTo>
                  <a:lnTo>
                    <a:pt x="20" y="463"/>
                  </a:lnTo>
                  <a:lnTo>
                    <a:pt x="20" y="457"/>
                  </a:lnTo>
                  <a:lnTo>
                    <a:pt x="20" y="449"/>
                  </a:lnTo>
                  <a:lnTo>
                    <a:pt x="20" y="444"/>
                  </a:lnTo>
                  <a:lnTo>
                    <a:pt x="20" y="436"/>
                  </a:lnTo>
                  <a:lnTo>
                    <a:pt x="20" y="428"/>
                  </a:lnTo>
                  <a:lnTo>
                    <a:pt x="22" y="422"/>
                  </a:lnTo>
                  <a:lnTo>
                    <a:pt x="22" y="415"/>
                  </a:lnTo>
                  <a:lnTo>
                    <a:pt x="22" y="407"/>
                  </a:lnTo>
                  <a:lnTo>
                    <a:pt x="22" y="401"/>
                  </a:lnTo>
                  <a:lnTo>
                    <a:pt x="24" y="396"/>
                  </a:lnTo>
                  <a:lnTo>
                    <a:pt x="24" y="388"/>
                  </a:lnTo>
                  <a:lnTo>
                    <a:pt x="24" y="382"/>
                  </a:lnTo>
                  <a:lnTo>
                    <a:pt x="24" y="376"/>
                  </a:lnTo>
                  <a:lnTo>
                    <a:pt x="24" y="369"/>
                  </a:lnTo>
                  <a:lnTo>
                    <a:pt x="25" y="363"/>
                  </a:lnTo>
                  <a:lnTo>
                    <a:pt x="24" y="357"/>
                  </a:lnTo>
                  <a:lnTo>
                    <a:pt x="24" y="351"/>
                  </a:lnTo>
                  <a:lnTo>
                    <a:pt x="24" y="345"/>
                  </a:lnTo>
                  <a:lnTo>
                    <a:pt x="24" y="342"/>
                  </a:lnTo>
                  <a:lnTo>
                    <a:pt x="24" y="336"/>
                  </a:lnTo>
                  <a:lnTo>
                    <a:pt x="22" y="330"/>
                  </a:lnTo>
                  <a:lnTo>
                    <a:pt x="22" y="324"/>
                  </a:lnTo>
                  <a:lnTo>
                    <a:pt x="20" y="318"/>
                  </a:lnTo>
                  <a:lnTo>
                    <a:pt x="20" y="311"/>
                  </a:lnTo>
                  <a:lnTo>
                    <a:pt x="18" y="303"/>
                  </a:lnTo>
                  <a:lnTo>
                    <a:pt x="18" y="295"/>
                  </a:lnTo>
                  <a:lnTo>
                    <a:pt x="16" y="288"/>
                  </a:lnTo>
                  <a:lnTo>
                    <a:pt x="16" y="284"/>
                  </a:lnTo>
                  <a:lnTo>
                    <a:pt x="16" y="280"/>
                  </a:lnTo>
                  <a:lnTo>
                    <a:pt x="14" y="276"/>
                  </a:lnTo>
                  <a:lnTo>
                    <a:pt x="14" y="272"/>
                  </a:lnTo>
                  <a:lnTo>
                    <a:pt x="14" y="268"/>
                  </a:lnTo>
                  <a:lnTo>
                    <a:pt x="14" y="262"/>
                  </a:lnTo>
                  <a:lnTo>
                    <a:pt x="12" y="259"/>
                  </a:lnTo>
                  <a:lnTo>
                    <a:pt x="12" y="255"/>
                  </a:lnTo>
                  <a:lnTo>
                    <a:pt x="12" y="251"/>
                  </a:lnTo>
                  <a:lnTo>
                    <a:pt x="10" y="247"/>
                  </a:lnTo>
                  <a:lnTo>
                    <a:pt x="10" y="243"/>
                  </a:lnTo>
                  <a:lnTo>
                    <a:pt x="10" y="237"/>
                  </a:lnTo>
                  <a:lnTo>
                    <a:pt x="10" y="234"/>
                  </a:lnTo>
                  <a:lnTo>
                    <a:pt x="8" y="230"/>
                  </a:lnTo>
                  <a:lnTo>
                    <a:pt x="8" y="226"/>
                  </a:lnTo>
                  <a:lnTo>
                    <a:pt x="8" y="220"/>
                  </a:lnTo>
                  <a:lnTo>
                    <a:pt x="8" y="216"/>
                  </a:lnTo>
                  <a:lnTo>
                    <a:pt x="6" y="212"/>
                  </a:lnTo>
                  <a:lnTo>
                    <a:pt x="6" y="207"/>
                  </a:lnTo>
                  <a:lnTo>
                    <a:pt x="6" y="203"/>
                  </a:lnTo>
                  <a:lnTo>
                    <a:pt x="4" y="199"/>
                  </a:lnTo>
                  <a:lnTo>
                    <a:pt x="4" y="195"/>
                  </a:lnTo>
                  <a:lnTo>
                    <a:pt x="4" y="189"/>
                  </a:lnTo>
                  <a:lnTo>
                    <a:pt x="4" y="185"/>
                  </a:lnTo>
                  <a:lnTo>
                    <a:pt x="2" y="181"/>
                  </a:lnTo>
                  <a:lnTo>
                    <a:pt x="2" y="178"/>
                  </a:lnTo>
                  <a:lnTo>
                    <a:pt x="2" y="172"/>
                  </a:lnTo>
                  <a:lnTo>
                    <a:pt x="2" y="170"/>
                  </a:lnTo>
                  <a:lnTo>
                    <a:pt x="0" y="160"/>
                  </a:lnTo>
                  <a:lnTo>
                    <a:pt x="0" y="154"/>
                  </a:lnTo>
                  <a:lnTo>
                    <a:pt x="0" y="147"/>
                  </a:lnTo>
                  <a:lnTo>
                    <a:pt x="0" y="139"/>
                  </a:lnTo>
                  <a:lnTo>
                    <a:pt x="0" y="133"/>
                  </a:lnTo>
                  <a:lnTo>
                    <a:pt x="0" y="127"/>
                  </a:lnTo>
                  <a:lnTo>
                    <a:pt x="0" y="120"/>
                  </a:lnTo>
                  <a:lnTo>
                    <a:pt x="0" y="116"/>
                  </a:lnTo>
                  <a:lnTo>
                    <a:pt x="0" y="110"/>
                  </a:lnTo>
                  <a:lnTo>
                    <a:pt x="2" y="106"/>
                  </a:lnTo>
                  <a:lnTo>
                    <a:pt x="2" y="102"/>
                  </a:lnTo>
                  <a:lnTo>
                    <a:pt x="4" y="97"/>
                  </a:lnTo>
                  <a:lnTo>
                    <a:pt x="4" y="93"/>
                  </a:lnTo>
                  <a:lnTo>
                    <a:pt x="6" y="89"/>
                  </a:lnTo>
                  <a:lnTo>
                    <a:pt x="6" y="85"/>
                  </a:lnTo>
                  <a:lnTo>
                    <a:pt x="8" y="79"/>
                  </a:lnTo>
                  <a:lnTo>
                    <a:pt x="10" y="77"/>
                  </a:lnTo>
                  <a:lnTo>
                    <a:pt x="12" y="74"/>
                  </a:lnTo>
                  <a:lnTo>
                    <a:pt x="12" y="68"/>
                  </a:lnTo>
                  <a:lnTo>
                    <a:pt x="14" y="64"/>
                  </a:lnTo>
                  <a:lnTo>
                    <a:pt x="16" y="60"/>
                  </a:lnTo>
                  <a:lnTo>
                    <a:pt x="18" y="58"/>
                  </a:lnTo>
                  <a:lnTo>
                    <a:pt x="22" y="50"/>
                  </a:lnTo>
                  <a:lnTo>
                    <a:pt x="25" y="45"/>
                  </a:lnTo>
                  <a:lnTo>
                    <a:pt x="29" y="39"/>
                  </a:lnTo>
                  <a:lnTo>
                    <a:pt x="33" y="33"/>
                  </a:lnTo>
                  <a:lnTo>
                    <a:pt x="39" y="27"/>
                  </a:lnTo>
                  <a:lnTo>
                    <a:pt x="43" y="21"/>
                  </a:lnTo>
                  <a:lnTo>
                    <a:pt x="49" y="18"/>
                  </a:lnTo>
                  <a:lnTo>
                    <a:pt x="54" y="14"/>
                  </a:lnTo>
                  <a:lnTo>
                    <a:pt x="60" y="10"/>
                  </a:lnTo>
                  <a:lnTo>
                    <a:pt x="66" y="8"/>
                  </a:lnTo>
                  <a:lnTo>
                    <a:pt x="72" y="4"/>
                  </a:lnTo>
                  <a:lnTo>
                    <a:pt x="79" y="2"/>
                  </a:lnTo>
                  <a:lnTo>
                    <a:pt x="85" y="0"/>
                  </a:lnTo>
                  <a:lnTo>
                    <a:pt x="93" y="0"/>
                  </a:lnTo>
                  <a:lnTo>
                    <a:pt x="99" y="0"/>
                  </a:lnTo>
                  <a:lnTo>
                    <a:pt x="106" y="0"/>
                  </a:lnTo>
                  <a:lnTo>
                    <a:pt x="114" y="0"/>
                  </a:lnTo>
                  <a:lnTo>
                    <a:pt x="120" y="2"/>
                  </a:lnTo>
                  <a:lnTo>
                    <a:pt x="126" y="4"/>
                  </a:lnTo>
                  <a:lnTo>
                    <a:pt x="133" y="6"/>
                  </a:lnTo>
                  <a:lnTo>
                    <a:pt x="139" y="8"/>
                  </a:lnTo>
                  <a:lnTo>
                    <a:pt x="145" y="12"/>
                  </a:lnTo>
                  <a:lnTo>
                    <a:pt x="149" y="16"/>
                  </a:lnTo>
                  <a:lnTo>
                    <a:pt x="155" y="18"/>
                  </a:lnTo>
                  <a:lnTo>
                    <a:pt x="158" y="23"/>
                  </a:lnTo>
                  <a:lnTo>
                    <a:pt x="162" y="27"/>
                  </a:lnTo>
                  <a:lnTo>
                    <a:pt x="164" y="29"/>
                  </a:lnTo>
                  <a:lnTo>
                    <a:pt x="166" y="33"/>
                  </a:lnTo>
                  <a:lnTo>
                    <a:pt x="170" y="39"/>
                  </a:lnTo>
                  <a:lnTo>
                    <a:pt x="172" y="45"/>
                  </a:lnTo>
                  <a:lnTo>
                    <a:pt x="174" y="47"/>
                  </a:lnTo>
                  <a:lnTo>
                    <a:pt x="176" y="50"/>
                  </a:lnTo>
                  <a:lnTo>
                    <a:pt x="176" y="54"/>
                  </a:lnTo>
                  <a:lnTo>
                    <a:pt x="178" y="58"/>
                  </a:lnTo>
                  <a:lnTo>
                    <a:pt x="180" y="62"/>
                  </a:lnTo>
                  <a:lnTo>
                    <a:pt x="182" y="66"/>
                  </a:lnTo>
                  <a:lnTo>
                    <a:pt x="184" y="72"/>
                  </a:lnTo>
                  <a:lnTo>
                    <a:pt x="187" y="75"/>
                  </a:lnTo>
                  <a:lnTo>
                    <a:pt x="187" y="79"/>
                  </a:lnTo>
                  <a:lnTo>
                    <a:pt x="189" y="85"/>
                  </a:lnTo>
                  <a:lnTo>
                    <a:pt x="191" y="89"/>
                  </a:lnTo>
                  <a:lnTo>
                    <a:pt x="195" y="95"/>
                  </a:lnTo>
                  <a:lnTo>
                    <a:pt x="197" y="101"/>
                  </a:lnTo>
                  <a:lnTo>
                    <a:pt x="199" y="106"/>
                  </a:lnTo>
                  <a:lnTo>
                    <a:pt x="201" y="110"/>
                  </a:lnTo>
                  <a:lnTo>
                    <a:pt x="203" y="116"/>
                  </a:lnTo>
                  <a:lnTo>
                    <a:pt x="205" y="122"/>
                  </a:lnTo>
                  <a:lnTo>
                    <a:pt x="207" y="127"/>
                  </a:lnTo>
                  <a:lnTo>
                    <a:pt x="209" y="133"/>
                  </a:lnTo>
                  <a:lnTo>
                    <a:pt x="210" y="139"/>
                  </a:lnTo>
                  <a:lnTo>
                    <a:pt x="214" y="145"/>
                  </a:lnTo>
                  <a:lnTo>
                    <a:pt x="216" y="151"/>
                  </a:lnTo>
                  <a:lnTo>
                    <a:pt x="218" y="156"/>
                  </a:lnTo>
                  <a:lnTo>
                    <a:pt x="220" y="162"/>
                  </a:lnTo>
                  <a:lnTo>
                    <a:pt x="222" y="166"/>
                  </a:lnTo>
                  <a:lnTo>
                    <a:pt x="224" y="172"/>
                  </a:lnTo>
                  <a:lnTo>
                    <a:pt x="226" y="178"/>
                  </a:lnTo>
                  <a:lnTo>
                    <a:pt x="228" y="183"/>
                  </a:lnTo>
                  <a:lnTo>
                    <a:pt x="230" y="189"/>
                  </a:lnTo>
                  <a:lnTo>
                    <a:pt x="232" y="195"/>
                  </a:lnTo>
                  <a:lnTo>
                    <a:pt x="234" y="201"/>
                  </a:lnTo>
                  <a:lnTo>
                    <a:pt x="237" y="207"/>
                  </a:lnTo>
                  <a:lnTo>
                    <a:pt x="237" y="210"/>
                  </a:lnTo>
                  <a:lnTo>
                    <a:pt x="239" y="214"/>
                  </a:lnTo>
                  <a:lnTo>
                    <a:pt x="241" y="220"/>
                  </a:lnTo>
                  <a:lnTo>
                    <a:pt x="243" y="226"/>
                  </a:lnTo>
                  <a:lnTo>
                    <a:pt x="245" y="230"/>
                  </a:lnTo>
                  <a:lnTo>
                    <a:pt x="247" y="234"/>
                  </a:lnTo>
                  <a:lnTo>
                    <a:pt x="247" y="237"/>
                  </a:lnTo>
                  <a:lnTo>
                    <a:pt x="251" y="243"/>
                  </a:lnTo>
                  <a:lnTo>
                    <a:pt x="253" y="251"/>
                  </a:lnTo>
                  <a:lnTo>
                    <a:pt x="255" y="257"/>
                  </a:lnTo>
                  <a:lnTo>
                    <a:pt x="257" y="264"/>
                  </a:lnTo>
                  <a:lnTo>
                    <a:pt x="259" y="270"/>
                  </a:lnTo>
                  <a:lnTo>
                    <a:pt x="261" y="274"/>
                  </a:lnTo>
                  <a:lnTo>
                    <a:pt x="263" y="276"/>
                  </a:lnTo>
                  <a:lnTo>
                    <a:pt x="263" y="278"/>
                  </a:lnTo>
                  <a:lnTo>
                    <a:pt x="264" y="280"/>
                  </a:lnTo>
                  <a:lnTo>
                    <a:pt x="243" y="288"/>
                  </a:lnTo>
                  <a:lnTo>
                    <a:pt x="243"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5862600" y="3730680"/>
              <a:ext cx="111240" cy="76320"/>
            </a:xfrm>
            <a:custGeom>
              <a:avLst/>
              <a:gdLst/>
              <a:ahLst/>
              <a:rect l="l" t="t" r="r" b="b"/>
              <a:pathLst>
                <a:path w="70" h="48">
                  <a:moveTo>
                    <a:pt x="68" y="0"/>
                  </a:moveTo>
                  <a:lnTo>
                    <a:pt x="64" y="0"/>
                  </a:lnTo>
                  <a:lnTo>
                    <a:pt x="60" y="0"/>
                  </a:lnTo>
                  <a:lnTo>
                    <a:pt x="52" y="2"/>
                  </a:lnTo>
                  <a:lnTo>
                    <a:pt x="45" y="4"/>
                  </a:lnTo>
                  <a:lnTo>
                    <a:pt x="37" y="8"/>
                  </a:lnTo>
                  <a:lnTo>
                    <a:pt x="31" y="12"/>
                  </a:lnTo>
                  <a:lnTo>
                    <a:pt x="23" y="15"/>
                  </a:lnTo>
                  <a:lnTo>
                    <a:pt x="16" y="21"/>
                  </a:lnTo>
                  <a:lnTo>
                    <a:pt x="10" y="25"/>
                  </a:lnTo>
                  <a:lnTo>
                    <a:pt x="6" y="31"/>
                  </a:lnTo>
                  <a:lnTo>
                    <a:pt x="2" y="37"/>
                  </a:lnTo>
                  <a:lnTo>
                    <a:pt x="0" y="40"/>
                  </a:lnTo>
                  <a:lnTo>
                    <a:pt x="0" y="44"/>
                  </a:lnTo>
                  <a:lnTo>
                    <a:pt x="0" y="46"/>
                  </a:lnTo>
                  <a:lnTo>
                    <a:pt x="2" y="48"/>
                  </a:lnTo>
                  <a:lnTo>
                    <a:pt x="4" y="46"/>
                  </a:lnTo>
                  <a:lnTo>
                    <a:pt x="8" y="40"/>
                  </a:lnTo>
                  <a:lnTo>
                    <a:pt x="16" y="35"/>
                  </a:lnTo>
                  <a:lnTo>
                    <a:pt x="23" y="27"/>
                  </a:lnTo>
                  <a:lnTo>
                    <a:pt x="31" y="21"/>
                  </a:lnTo>
                  <a:lnTo>
                    <a:pt x="33" y="19"/>
                  </a:lnTo>
                  <a:lnTo>
                    <a:pt x="41" y="17"/>
                  </a:lnTo>
                  <a:lnTo>
                    <a:pt x="46" y="13"/>
                  </a:lnTo>
                  <a:lnTo>
                    <a:pt x="54" y="12"/>
                  </a:lnTo>
                  <a:lnTo>
                    <a:pt x="60" y="10"/>
                  </a:lnTo>
                  <a:lnTo>
                    <a:pt x="66" y="8"/>
                  </a:lnTo>
                  <a:lnTo>
                    <a:pt x="70" y="8"/>
                  </a:lnTo>
                  <a:lnTo>
                    <a:pt x="70" y="8"/>
                  </a:lnTo>
                  <a:lnTo>
                    <a:pt x="68" y="0"/>
                  </a:lnTo>
                  <a:lnTo>
                    <a:pt x="6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60" name=""/>
            <p:cNvSpPr/>
            <p:nvPr/>
          </p:nvSpPr>
          <p:spPr>
            <a:xfrm>
              <a:off x="5770440" y="3780000"/>
              <a:ext cx="239760" cy="145800"/>
            </a:xfrm>
            <a:custGeom>
              <a:avLst/>
              <a:gdLst/>
              <a:ahLst/>
              <a:rect l="l" t="t" r="r" b="b"/>
              <a:pathLst>
                <a:path w="151" h="92">
                  <a:moveTo>
                    <a:pt x="29" y="4"/>
                  </a:moveTo>
                  <a:lnTo>
                    <a:pt x="27" y="0"/>
                  </a:lnTo>
                  <a:lnTo>
                    <a:pt x="23" y="0"/>
                  </a:lnTo>
                  <a:lnTo>
                    <a:pt x="18" y="2"/>
                  </a:lnTo>
                  <a:lnTo>
                    <a:pt x="12" y="8"/>
                  </a:lnTo>
                  <a:lnTo>
                    <a:pt x="8" y="9"/>
                  </a:lnTo>
                  <a:lnTo>
                    <a:pt x="6" y="13"/>
                  </a:lnTo>
                  <a:lnTo>
                    <a:pt x="2" y="19"/>
                  </a:lnTo>
                  <a:lnTo>
                    <a:pt x="2" y="23"/>
                  </a:lnTo>
                  <a:lnTo>
                    <a:pt x="0" y="27"/>
                  </a:lnTo>
                  <a:lnTo>
                    <a:pt x="0" y="33"/>
                  </a:lnTo>
                  <a:lnTo>
                    <a:pt x="0" y="38"/>
                  </a:lnTo>
                  <a:lnTo>
                    <a:pt x="2" y="44"/>
                  </a:lnTo>
                  <a:lnTo>
                    <a:pt x="2" y="50"/>
                  </a:lnTo>
                  <a:lnTo>
                    <a:pt x="6" y="54"/>
                  </a:lnTo>
                  <a:lnTo>
                    <a:pt x="8" y="58"/>
                  </a:lnTo>
                  <a:lnTo>
                    <a:pt x="10" y="63"/>
                  </a:lnTo>
                  <a:lnTo>
                    <a:pt x="12" y="67"/>
                  </a:lnTo>
                  <a:lnTo>
                    <a:pt x="16" y="71"/>
                  </a:lnTo>
                  <a:lnTo>
                    <a:pt x="20" y="75"/>
                  </a:lnTo>
                  <a:lnTo>
                    <a:pt x="25" y="79"/>
                  </a:lnTo>
                  <a:lnTo>
                    <a:pt x="29" y="81"/>
                  </a:lnTo>
                  <a:lnTo>
                    <a:pt x="33" y="85"/>
                  </a:lnTo>
                  <a:lnTo>
                    <a:pt x="39" y="87"/>
                  </a:lnTo>
                  <a:lnTo>
                    <a:pt x="45" y="88"/>
                  </a:lnTo>
                  <a:lnTo>
                    <a:pt x="50" y="90"/>
                  </a:lnTo>
                  <a:lnTo>
                    <a:pt x="58" y="92"/>
                  </a:lnTo>
                  <a:lnTo>
                    <a:pt x="62" y="92"/>
                  </a:lnTo>
                  <a:lnTo>
                    <a:pt x="66" y="92"/>
                  </a:lnTo>
                  <a:lnTo>
                    <a:pt x="70" y="92"/>
                  </a:lnTo>
                  <a:lnTo>
                    <a:pt x="74" y="92"/>
                  </a:lnTo>
                  <a:lnTo>
                    <a:pt x="77" y="92"/>
                  </a:lnTo>
                  <a:lnTo>
                    <a:pt x="81" y="92"/>
                  </a:lnTo>
                  <a:lnTo>
                    <a:pt x="85" y="92"/>
                  </a:lnTo>
                  <a:lnTo>
                    <a:pt x="89" y="92"/>
                  </a:lnTo>
                  <a:lnTo>
                    <a:pt x="93" y="90"/>
                  </a:lnTo>
                  <a:lnTo>
                    <a:pt x="97" y="90"/>
                  </a:lnTo>
                  <a:lnTo>
                    <a:pt x="101" y="88"/>
                  </a:lnTo>
                  <a:lnTo>
                    <a:pt x="104" y="88"/>
                  </a:lnTo>
                  <a:lnTo>
                    <a:pt x="112" y="87"/>
                  </a:lnTo>
                  <a:lnTo>
                    <a:pt x="120" y="83"/>
                  </a:lnTo>
                  <a:lnTo>
                    <a:pt x="126" y="81"/>
                  </a:lnTo>
                  <a:lnTo>
                    <a:pt x="131" y="79"/>
                  </a:lnTo>
                  <a:lnTo>
                    <a:pt x="137" y="75"/>
                  </a:lnTo>
                  <a:lnTo>
                    <a:pt x="141" y="71"/>
                  </a:lnTo>
                  <a:lnTo>
                    <a:pt x="145" y="69"/>
                  </a:lnTo>
                  <a:lnTo>
                    <a:pt x="147" y="65"/>
                  </a:lnTo>
                  <a:lnTo>
                    <a:pt x="151" y="60"/>
                  </a:lnTo>
                  <a:lnTo>
                    <a:pt x="149" y="56"/>
                  </a:lnTo>
                  <a:lnTo>
                    <a:pt x="143" y="50"/>
                  </a:lnTo>
                  <a:lnTo>
                    <a:pt x="137" y="48"/>
                  </a:lnTo>
                  <a:lnTo>
                    <a:pt x="131" y="44"/>
                  </a:lnTo>
                  <a:lnTo>
                    <a:pt x="126" y="44"/>
                  </a:lnTo>
                  <a:lnTo>
                    <a:pt x="122" y="44"/>
                  </a:lnTo>
                  <a:lnTo>
                    <a:pt x="118" y="44"/>
                  </a:lnTo>
                  <a:lnTo>
                    <a:pt x="114" y="44"/>
                  </a:lnTo>
                  <a:lnTo>
                    <a:pt x="110" y="44"/>
                  </a:lnTo>
                  <a:lnTo>
                    <a:pt x="104" y="44"/>
                  </a:lnTo>
                  <a:lnTo>
                    <a:pt x="101" y="44"/>
                  </a:lnTo>
                  <a:lnTo>
                    <a:pt x="95" y="44"/>
                  </a:lnTo>
                  <a:lnTo>
                    <a:pt x="89" y="44"/>
                  </a:lnTo>
                  <a:lnTo>
                    <a:pt x="83" y="44"/>
                  </a:lnTo>
                  <a:lnTo>
                    <a:pt x="77" y="44"/>
                  </a:lnTo>
                  <a:lnTo>
                    <a:pt x="72" y="42"/>
                  </a:lnTo>
                  <a:lnTo>
                    <a:pt x="66" y="42"/>
                  </a:lnTo>
                  <a:lnTo>
                    <a:pt x="62" y="42"/>
                  </a:lnTo>
                  <a:lnTo>
                    <a:pt x="56" y="40"/>
                  </a:lnTo>
                  <a:lnTo>
                    <a:pt x="52" y="38"/>
                  </a:lnTo>
                  <a:lnTo>
                    <a:pt x="47" y="36"/>
                  </a:lnTo>
                  <a:lnTo>
                    <a:pt x="43" y="35"/>
                  </a:lnTo>
                  <a:lnTo>
                    <a:pt x="39" y="31"/>
                  </a:lnTo>
                  <a:lnTo>
                    <a:pt x="35" y="27"/>
                  </a:lnTo>
                  <a:lnTo>
                    <a:pt x="33" y="25"/>
                  </a:lnTo>
                  <a:lnTo>
                    <a:pt x="31" y="19"/>
                  </a:lnTo>
                  <a:lnTo>
                    <a:pt x="29" y="15"/>
                  </a:lnTo>
                  <a:lnTo>
                    <a:pt x="29" y="9"/>
                  </a:lnTo>
                  <a:lnTo>
                    <a:pt x="29" y="4"/>
                  </a:lnTo>
                  <a:lnTo>
                    <a:pt x="29" y="4"/>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8.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7048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
        <p:nvSpPr>
          <p:cNvPr id="1663" name="PlaceHolder 2"/>
          <p:cNvSpPr>
            <a:spLocks noGrp="1"/>
          </p:cNvSpPr>
          <p:nvPr>
            <p:ph type="subTitle"/>
          </p:nvPr>
        </p:nvSpPr>
        <p:spPr>
          <a:xfrm>
            <a:off x="914400" y="3200400"/>
            <a:ext cx="739152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your hypotheses predict?  Are any of those predictions fulfilled in the story?</a:t>
            </a:r>
            <a:endParaRPr b="0" lang="en-US" sz="3200" spc="-1" strike="noStrike">
              <a:solidFill>
                <a:srgbClr val="000000"/>
              </a:solidFill>
              <a:latin typeface="Times New Roman"/>
            </a:endParaRPr>
          </a:p>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8.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762120" y="587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Hypothesis in Light of the Evidence</a:t>
            </a:r>
            <a:endParaRPr b="0" lang="en-US" sz="4400" spc="-1" strike="noStrike">
              <a:solidFill>
                <a:srgbClr val="000000"/>
              </a:solidFill>
              <a:latin typeface="Times New Roman"/>
            </a:endParaRPr>
          </a:p>
        </p:txBody>
      </p:sp>
      <p:sp>
        <p:nvSpPr>
          <p:cNvPr id="1666" name="PlaceHolder 2"/>
          <p:cNvSpPr>
            <a:spLocks noGrp="1"/>
          </p:cNvSpPr>
          <p:nvPr>
            <p:ph/>
          </p:nvPr>
        </p:nvSpPr>
        <p:spPr>
          <a:xfrm>
            <a:off x="761760" y="2209680"/>
            <a:ext cx="4647960" cy="42674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original hypothesi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evidence support i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have been done to prevent the health problems?</a:t>
            </a:r>
            <a:endParaRPr b="0" lang="en-US" sz="3200" spc="-1" strike="noStrike">
              <a:solidFill>
                <a:srgbClr val="000000"/>
              </a:solidFill>
              <a:latin typeface="Times New Roman"/>
            </a:endParaRPr>
          </a:p>
        </p:txBody>
      </p:sp>
      <p:grpSp>
        <p:nvGrpSpPr>
          <p:cNvPr id="1667" name=""/>
          <p:cNvGrpSpPr/>
          <p:nvPr/>
        </p:nvGrpSpPr>
        <p:grpSpPr>
          <a:xfrm>
            <a:off x="5979960" y="2301840"/>
            <a:ext cx="2246400" cy="2335320"/>
            <a:chOff x="5979960" y="2301840"/>
            <a:chExt cx="2246400" cy="2335320"/>
          </a:xfrm>
        </p:grpSpPr>
        <p:sp>
          <p:nvSpPr>
            <p:cNvPr id="1668" name=""/>
            <p:cNvSpPr/>
            <p:nvPr/>
          </p:nvSpPr>
          <p:spPr>
            <a:xfrm>
              <a:off x="6046920" y="2374920"/>
              <a:ext cx="2151000" cy="2233440"/>
            </a:xfrm>
            <a:custGeom>
              <a:avLst/>
              <a:gdLst/>
              <a:ahLst/>
              <a:rect l="l" t="t" r="r" b="b"/>
              <a:pathLst>
                <a:path w="2710" h="2814">
                  <a:moveTo>
                    <a:pt x="873" y="1563"/>
                  </a:moveTo>
                  <a:lnTo>
                    <a:pt x="827" y="1557"/>
                  </a:lnTo>
                  <a:lnTo>
                    <a:pt x="779" y="1549"/>
                  </a:lnTo>
                  <a:lnTo>
                    <a:pt x="732" y="1541"/>
                  </a:lnTo>
                  <a:lnTo>
                    <a:pt x="683" y="1527"/>
                  </a:lnTo>
                  <a:lnTo>
                    <a:pt x="633" y="1512"/>
                  </a:lnTo>
                  <a:lnTo>
                    <a:pt x="584" y="1493"/>
                  </a:lnTo>
                  <a:lnTo>
                    <a:pt x="534" y="1471"/>
                  </a:lnTo>
                  <a:lnTo>
                    <a:pt x="484" y="1446"/>
                  </a:lnTo>
                  <a:lnTo>
                    <a:pt x="434" y="1418"/>
                  </a:lnTo>
                  <a:lnTo>
                    <a:pt x="383" y="1386"/>
                  </a:lnTo>
                  <a:lnTo>
                    <a:pt x="333" y="1349"/>
                  </a:lnTo>
                  <a:lnTo>
                    <a:pt x="285" y="1309"/>
                  </a:lnTo>
                  <a:lnTo>
                    <a:pt x="236" y="1263"/>
                  </a:lnTo>
                  <a:lnTo>
                    <a:pt x="189" y="1214"/>
                  </a:lnTo>
                  <a:lnTo>
                    <a:pt x="141" y="1160"/>
                  </a:lnTo>
                  <a:lnTo>
                    <a:pt x="96" y="1101"/>
                  </a:lnTo>
                  <a:lnTo>
                    <a:pt x="93" y="1095"/>
                  </a:lnTo>
                  <a:lnTo>
                    <a:pt x="87" y="1077"/>
                  </a:lnTo>
                  <a:lnTo>
                    <a:pt x="77" y="1049"/>
                  </a:lnTo>
                  <a:lnTo>
                    <a:pt x="65" y="1012"/>
                  </a:lnTo>
                  <a:lnTo>
                    <a:pt x="50" y="967"/>
                  </a:lnTo>
                  <a:lnTo>
                    <a:pt x="37" y="913"/>
                  </a:lnTo>
                  <a:lnTo>
                    <a:pt x="23" y="854"/>
                  </a:lnTo>
                  <a:lnTo>
                    <a:pt x="13" y="791"/>
                  </a:lnTo>
                  <a:lnTo>
                    <a:pt x="4" y="725"/>
                  </a:lnTo>
                  <a:lnTo>
                    <a:pt x="0" y="654"/>
                  </a:lnTo>
                  <a:lnTo>
                    <a:pt x="0" y="583"/>
                  </a:lnTo>
                  <a:lnTo>
                    <a:pt x="7" y="511"/>
                  </a:lnTo>
                  <a:lnTo>
                    <a:pt x="20" y="438"/>
                  </a:lnTo>
                  <a:lnTo>
                    <a:pt x="41" y="369"/>
                  </a:lnTo>
                  <a:lnTo>
                    <a:pt x="71" y="301"/>
                  </a:lnTo>
                  <a:lnTo>
                    <a:pt x="110" y="238"/>
                  </a:lnTo>
                  <a:lnTo>
                    <a:pt x="134" y="208"/>
                  </a:lnTo>
                  <a:lnTo>
                    <a:pt x="159" y="182"/>
                  </a:lnTo>
                  <a:lnTo>
                    <a:pt x="187" y="155"/>
                  </a:lnTo>
                  <a:lnTo>
                    <a:pt x="215" y="133"/>
                  </a:lnTo>
                  <a:lnTo>
                    <a:pt x="246" y="111"/>
                  </a:lnTo>
                  <a:lnTo>
                    <a:pt x="277" y="92"/>
                  </a:lnTo>
                  <a:lnTo>
                    <a:pt x="311" y="74"/>
                  </a:lnTo>
                  <a:lnTo>
                    <a:pt x="345" y="58"/>
                  </a:lnTo>
                  <a:lnTo>
                    <a:pt x="380" y="44"/>
                  </a:lnTo>
                  <a:lnTo>
                    <a:pt x="416" y="33"/>
                  </a:lnTo>
                  <a:lnTo>
                    <a:pt x="454" y="22"/>
                  </a:lnTo>
                  <a:lnTo>
                    <a:pt x="491" y="15"/>
                  </a:lnTo>
                  <a:lnTo>
                    <a:pt x="531" y="9"/>
                  </a:lnTo>
                  <a:lnTo>
                    <a:pt x="569" y="3"/>
                  </a:lnTo>
                  <a:lnTo>
                    <a:pt x="609" y="0"/>
                  </a:lnTo>
                  <a:lnTo>
                    <a:pt x="649" y="0"/>
                  </a:lnTo>
                  <a:lnTo>
                    <a:pt x="689" y="0"/>
                  </a:lnTo>
                  <a:lnTo>
                    <a:pt x="729" y="2"/>
                  </a:lnTo>
                  <a:lnTo>
                    <a:pt x="770" y="6"/>
                  </a:lnTo>
                  <a:lnTo>
                    <a:pt x="810" y="12"/>
                  </a:lnTo>
                  <a:lnTo>
                    <a:pt x="850" y="19"/>
                  </a:lnTo>
                  <a:lnTo>
                    <a:pt x="889" y="28"/>
                  </a:lnTo>
                  <a:lnTo>
                    <a:pt x="928" y="37"/>
                  </a:lnTo>
                  <a:lnTo>
                    <a:pt x="966" y="49"/>
                  </a:lnTo>
                  <a:lnTo>
                    <a:pt x="1004" y="62"/>
                  </a:lnTo>
                  <a:lnTo>
                    <a:pt x="1041" y="77"/>
                  </a:lnTo>
                  <a:lnTo>
                    <a:pt x="1077" y="95"/>
                  </a:lnTo>
                  <a:lnTo>
                    <a:pt x="1112" y="112"/>
                  </a:lnTo>
                  <a:lnTo>
                    <a:pt x="1146" y="130"/>
                  </a:lnTo>
                  <a:lnTo>
                    <a:pt x="1179" y="151"/>
                  </a:lnTo>
                  <a:lnTo>
                    <a:pt x="1211" y="173"/>
                  </a:lnTo>
                  <a:lnTo>
                    <a:pt x="1241" y="196"/>
                  </a:lnTo>
                  <a:lnTo>
                    <a:pt x="1298" y="247"/>
                  </a:lnTo>
                  <a:lnTo>
                    <a:pt x="1353" y="300"/>
                  </a:lnTo>
                  <a:lnTo>
                    <a:pt x="1404" y="357"/>
                  </a:lnTo>
                  <a:lnTo>
                    <a:pt x="1453" y="418"/>
                  </a:lnTo>
                  <a:lnTo>
                    <a:pt x="1497" y="481"/>
                  </a:lnTo>
                  <a:lnTo>
                    <a:pt x="1536" y="548"/>
                  </a:lnTo>
                  <a:lnTo>
                    <a:pt x="1570" y="617"/>
                  </a:lnTo>
                  <a:lnTo>
                    <a:pt x="1596" y="689"/>
                  </a:lnTo>
                  <a:lnTo>
                    <a:pt x="1617" y="761"/>
                  </a:lnTo>
                  <a:lnTo>
                    <a:pt x="1629" y="837"/>
                  </a:lnTo>
                  <a:lnTo>
                    <a:pt x="1633" y="913"/>
                  </a:lnTo>
                  <a:lnTo>
                    <a:pt x="1629" y="992"/>
                  </a:lnTo>
                  <a:lnTo>
                    <a:pt x="1614" y="1071"/>
                  </a:lnTo>
                  <a:lnTo>
                    <a:pt x="1590" y="1151"/>
                  </a:lnTo>
                  <a:lnTo>
                    <a:pt x="1555" y="1231"/>
                  </a:lnTo>
                  <a:lnTo>
                    <a:pt x="1508" y="1310"/>
                  </a:lnTo>
                  <a:lnTo>
                    <a:pt x="1511" y="1313"/>
                  </a:lnTo>
                  <a:lnTo>
                    <a:pt x="1518" y="1322"/>
                  </a:lnTo>
                  <a:lnTo>
                    <a:pt x="1530" y="1335"/>
                  </a:lnTo>
                  <a:lnTo>
                    <a:pt x="1546" y="1355"/>
                  </a:lnTo>
                  <a:lnTo>
                    <a:pt x="1567" y="1378"/>
                  </a:lnTo>
                  <a:lnTo>
                    <a:pt x="1590" y="1405"/>
                  </a:lnTo>
                  <a:lnTo>
                    <a:pt x="1617" y="1437"/>
                  </a:lnTo>
                  <a:lnTo>
                    <a:pt x="1648" y="1471"/>
                  </a:lnTo>
                  <a:lnTo>
                    <a:pt x="1682" y="1510"/>
                  </a:lnTo>
                  <a:lnTo>
                    <a:pt x="1717" y="1551"/>
                  </a:lnTo>
                  <a:lnTo>
                    <a:pt x="1755" y="1595"/>
                  </a:lnTo>
                  <a:lnTo>
                    <a:pt x="1795" y="1641"/>
                  </a:lnTo>
                  <a:lnTo>
                    <a:pt x="1837" y="1688"/>
                  </a:lnTo>
                  <a:lnTo>
                    <a:pt x="1879" y="1737"/>
                  </a:lnTo>
                  <a:lnTo>
                    <a:pt x="1924" y="1787"/>
                  </a:lnTo>
                  <a:lnTo>
                    <a:pt x="1968" y="1837"/>
                  </a:lnTo>
                  <a:lnTo>
                    <a:pt x="2014" y="1889"/>
                  </a:lnTo>
                  <a:lnTo>
                    <a:pt x="2059" y="1940"/>
                  </a:lnTo>
                  <a:lnTo>
                    <a:pt x="2105" y="1991"/>
                  </a:lnTo>
                  <a:lnTo>
                    <a:pt x="2149" y="2041"/>
                  </a:lnTo>
                  <a:lnTo>
                    <a:pt x="2194" y="2091"/>
                  </a:lnTo>
                  <a:lnTo>
                    <a:pt x="2238" y="2138"/>
                  </a:lnTo>
                  <a:lnTo>
                    <a:pt x="2279" y="2185"/>
                  </a:lnTo>
                  <a:lnTo>
                    <a:pt x="2320" y="2230"/>
                  </a:lnTo>
                  <a:lnTo>
                    <a:pt x="2359" y="2271"/>
                  </a:lnTo>
                  <a:lnTo>
                    <a:pt x="2394" y="2311"/>
                  </a:lnTo>
                  <a:lnTo>
                    <a:pt x="2430" y="2346"/>
                  </a:lnTo>
                  <a:lnTo>
                    <a:pt x="2461" y="2379"/>
                  </a:lnTo>
                  <a:lnTo>
                    <a:pt x="2489" y="2408"/>
                  </a:lnTo>
                  <a:lnTo>
                    <a:pt x="2514" y="2433"/>
                  </a:lnTo>
                  <a:lnTo>
                    <a:pt x="2534" y="2452"/>
                  </a:lnTo>
                  <a:lnTo>
                    <a:pt x="2552" y="2469"/>
                  </a:lnTo>
                  <a:lnTo>
                    <a:pt x="2608" y="2522"/>
                  </a:lnTo>
                  <a:lnTo>
                    <a:pt x="2654" y="2573"/>
                  </a:lnTo>
                  <a:lnTo>
                    <a:pt x="2686" y="2624"/>
                  </a:lnTo>
                  <a:lnTo>
                    <a:pt x="2705" y="2669"/>
                  </a:lnTo>
                  <a:lnTo>
                    <a:pt x="2710" y="2714"/>
                  </a:lnTo>
                  <a:lnTo>
                    <a:pt x="2698" y="2750"/>
                  </a:lnTo>
                  <a:lnTo>
                    <a:pt x="2669" y="2783"/>
                  </a:lnTo>
                  <a:lnTo>
                    <a:pt x="2621" y="2808"/>
                  </a:lnTo>
                  <a:lnTo>
                    <a:pt x="2590" y="2814"/>
                  </a:lnTo>
                  <a:lnTo>
                    <a:pt x="2558" y="2812"/>
                  </a:lnTo>
                  <a:lnTo>
                    <a:pt x="2521" y="2804"/>
                  </a:lnTo>
                  <a:lnTo>
                    <a:pt x="2484" y="2789"/>
                  </a:lnTo>
                  <a:lnTo>
                    <a:pt x="2444" y="2767"/>
                  </a:lnTo>
                  <a:lnTo>
                    <a:pt x="2403" y="2742"/>
                  </a:lnTo>
                  <a:lnTo>
                    <a:pt x="2363" y="2711"/>
                  </a:lnTo>
                  <a:lnTo>
                    <a:pt x="2322" y="2678"/>
                  </a:lnTo>
                  <a:lnTo>
                    <a:pt x="2282" y="2641"/>
                  </a:lnTo>
                  <a:lnTo>
                    <a:pt x="2242" y="2604"/>
                  </a:lnTo>
                  <a:lnTo>
                    <a:pt x="2205" y="2566"/>
                  </a:lnTo>
                  <a:lnTo>
                    <a:pt x="2168" y="2526"/>
                  </a:lnTo>
                  <a:lnTo>
                    <a:pt x="2136" y="2488"/>
                  </a:lnTo>
                  <a:lnTo>
                    <a:pt x="2107" y="2451"/>
                  </a:lnTo>
                  <a:lnTo>
                    <a:pt x="2080" y="2417"/>
                  </a:lnTo>
                  <a:lnTo>
                    <a:pt x="2058" y="2384"/>
                  </a:lnTo>
                  <a:lnTo>
                    <a:pt x="1988" y="2280"/>
                  </a:lnTo>
                  <a:lnTo>
                    <a:pt x="1921" y="2181"/>
                  </a:lnTo>
                  <a:lnTo>
                    <a:pt x="1856" y="2089"/>
                  </a:lnTo>
                  <a:lnTo>
                    <a:pt x="1794" y="2002"/>
                  </a:lnTo>
                  <a:lnTo>
                    <a:pt x="1735" y="1923"/>
                  </a:lnTo>
                  <a:lnTo>
                    <a:pt x="1679" y="1850"/>
                  </a:lnTo>
                  <a:lnTo>
                    <a:pt x="1627" y="1782"/>
                  </a:lnTo>
                  <a:lnTo>
                    <a:pt x="1580" y="1723"/>
                  </a:lnTo>
                  <a:lnTo>
                    <a:pt x="1536" y="1669"/>
                  </a:lnTo>
                  <a:lnTo>
                    <a:pt x="1497" y="1623"/>
                  </a:lnTo>
                  <a:lnTo>
                    <a:pt x="1463" y="1583"/>
                  </a:lnTo>
                  <a:lnTo>
                    <a:pt x="1435" y="1551"/>
                  </a:lnTo>
                  <a:lnTo>
                    <a:pt x="1413" y="1524"/>
                  </a:lnTo>
                  <a:lnTo>
                    <a:pt x="1395" y="1507"/>
                  </a:lnTo>
                  <a:lnTo>
                    <a:pt x="1385" y="1496"/>
                  </a:lnTo>
                  <a:lnTo>
                    <a:pt x="1382" y="1492"/>
                  </a:lnTo>
                  <a:lnTo>
                    <a:pt x="1379" y="1493"/>
                  </a:lnTo>
                  <a:lnTo>
                    <a:pt x="1372" y="1496"/>
                  </a:lnTo>
                  <a:lnTo>
                    <a:pt x="1360" y="1501"/>
                  </a:lnTo>
                  <a:lnTo>
                    <a:pt x="1344" y="1507"/>
                  </a:lnTo>
                  <a:lnTo>
                    <a:pt x="1322" y="1514"/>
                  </a:lnTo>
                  <a:lnTo>
                    <a:pt x="1297" y="1521"/>
                  </a:lnTo>
                  <a:lnTo>
                    <a:pt x="1269" y="1529"/>
                  </a:lnTo>
                  <a:lnTo>
                    <a:pt x="1236" y="1536"/>
                  </a:lnTo>
                  <a:lnTo>
                    <a:pt x="1199" y="1545"/>
                  </a:lnTo>
                  <a:lnTo>
                    <a:pt x="1161" y="1551"/>
                  </a:lnTo>
                  <a:lnTo>
                    <a:pt x="1118" y="1557"/>
                  </a:lnTo>
                  <a:lnTo>
                    <a:pt x="1074" y="1563"/>
                  </a:lnTo>
                  <a:lnTo>
                    <a:pt x="1027" y="1566"/>
                  </a:lnTo>
                  <a:lnTo>
                    <a:pt x="978" y="1567"/>
                  </a:lnTo>
                  <a:lnTo>
                    <a:pt x="926" y="1566"/>
                  </a:lnTo>
                  <a:lnTo>
                    <a:pt x="873" y="15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195960" y="2600280"/>
              <a:ext cx="1009800" cy="851040"/>
            </a:xfrm>
            <a:custGeom>
              <a:avLst/>
              <a:gdLst/>
              <a:ahLst/>
              <a:rect l="l" t="t" r="r" b="b"/>
              <a:pathLst>
                <a:path w="1271" h="1071">
                  <a:moveTo>
                    <a:pt x="10" y="364"/>
                  </a:moveTo>
                  <a:lnTo>
                    <a:pt x="10" y="361"/>
                  </a:lnTo>
                  <a:lnTo>
                    <a:pt x="9" y="353"/>
                  </a:lnTo>
                  <a:lnTo>
                    <a:pt x="9" y="338"/>
                  </a:lnTo>
                  <a:lnTo>
                    <a:pt x="10" y="320"/>
                  </a:lnTo>
                  <a:lnTo>
                    <a:pt x="13" y="299"/>
                  </a:lnTo>
                  <a:lnTo>
                    <a:pt x="19" y="274"/>
                  </a:lnTo>
                  <a:lnTo>
                    <a:pt x="28" y="249"/>
                  </a:lnTo>
                  <a:lnTo>
                    <a:pt x="42" y="223"/>
                  </a:lnTo>
                  <a:lnTo>
                    <a:pt x="60" y="195"/>
                  </a:lnTo>
                  <a:lnTo>
                    <a:pt x="84" y="168"/>
                  </a:lnTo>
                  <a:lnTo>
                    <a:pt x="115" y="143"/>
                  </a:lnTo>
                  <a:lnTo>
                    <a:pt x="152" y="119"/>
                  </a:lnTo>
                  <a:lnTo>
                    <a:pt x="197" y="99"/>
                  </a:lnTo>
                  <a:lnTo>
                    <a:pt x="250" y="83"/>
                  </a:lnTo>
                  <a:lnTo>
                    <a:pt x="314" y="71"/>
                  </a:lnTo>
                  <a:lnTo>
                    <a:pt x="388" y="63"/>
                  </a:lnTo>
                  <a:lnTo>
                    <a:pt x="464" y="63"/>
                  </a:lnTo>
                  <a:lnTo>
                    <a:pt x="535" y="75"/>
                  </a:lnTo>
                  <a:lnTo>
                    <a:pt x="600" y="93"/>
                  </a:lnTo>
                  <a:lnTo>
                    <a:pt x="662" y="121"/>
                  </a:lnTo>
                  <a:lnTo>
                    <a:pt x="717" y="155"/>
                  </a:lnTo>
                  <a:lnTo>
                    <a:pt x="768" y="193"/>
                  </a:lnTo>
                  <a:lnTo>
                    <a:pt x="813" y="237"/>
                  </a:lnTo>
                  <a:lnTo>
                    <a:pt x="854" y="286"/>
                  </a:lnTo>
                  <a:lnTo>
                    <a:pt x="888" y="338"/>
                  </a:lnTo>
                  <a:lnTo>
                    <a:pt x="917" y="391"/>
                  </a:lnTo>
                  <a:lnTo>
                    <a:pt x="942" y="445"/>
                  </a:lnTo>
                  <a:lnTo>
                    <a:pt x="962" y="500"/>
                  </a:lnTo>
                  <a:lnTo>
                    <a:pt x="975" y="555"/>
                  </a:lnTo>
                  <a:lnTo>
                    <a:pt x="984" y="606"/>
                  </a:lnTo>
                  <a:lnTo>
                    <a:pt x="987" y="656"/>
                  </a:lnTo>
                  <a:lnTo>
                    <a:pt x="984" y="702"/>
                  </a:lnTo>
                  <a:lnTo>
                    <a:pt x="973" y="742"/>
                  </a:lnTo>
                  <a:lnTo>
                    <a:pt x="953" y="776"/>
                  </a:lnTo>
                  <a:lnTo>
                    <a:pt x="923" y="804"/>
                  </a:lnTo>
                  <a:lnTo>
                    <a:pt x="888" y="826"/>
                  </a:lnTo>
                  <a:lnTo>
                    <a:pt x="846" y="844"/>
                  </a:lnTo>
                  <a:lnTo>
                    <a:pt x="801" y="857"/>
                  </a:lnTo>
                  <a:lnTo>
                    <a:pt x="752" y="866"/>
                  </a:lnTo>
                  <a:lnTo>
                    <a:pt x="703" y="872"/>
                  </a:lnTo>
                  <a:lnTo>
                    <a:pt x="655" y="875"/>
                  </a:lnTo>
                  <a:lnTo>
                    <a:pt x="607" y="876"/>
                  </a:lnTo>
                  <a:lnTo>
                    <a:pt x="563" y="876"/>
                  </a:lnTo>
                  <a:lnTo>
                    <a:pt x="525" y="875"/>
                  </a:lnTo>
                  <a:lnTo>
                    <a:pt x="491" y="872"/>
                  </a:lnTo>
                  <a:lnTo>
                    <a:pt x="466" y="870"/>
                  </a:lnTo>
                  <a:lnTo>
                    <a:pt x="450" y="867"/>
                  </a:lnTo>
                  <a:lnTo>
                    <a:pt x="444" y="867"/>
                  </a:lnTo>
                  <a:lnTo>
                    <a:pt x="442" y="869"/>
                  </a:lnTo>
                  <a:lnTo>
                    <a:pt x="436" y="870"/>
                  </a:lnTo>
                  <a:lnTo>
                    <a:pt x="427" y="875"/>
                  </a:lnTo>
                  <a:lnTo>
                    <a:pt x="417" y="881"/>
                  </a:lnTo>
                  <a:lnTo>
                    <a:pt x="407" y="888"/>
                  </a:lnTo>
                  <a:lnTo>
                    <a:pt x="397" y="896"/>
                  </a:lnTo>
                  <a:lnTo>
                    <a:pt x="388" y="906"/>
                  </a:lnTo>
                  <a:lnTo>
                    <a:pt x="382" y="916"/>
                  </a:lnTo>
                  <a:lnTo>
                    <a:pt x="379" y="928"/>
                  </a:lnTo>
                  <a:lnTo>
                    <a:pt x="380" y="941"/>
                  </a:lnTo>
                  <a:lnTo>
                    <a:pt x="388" y="955"/>
                  </a:lnTo>
                  <a:lnTo>
                    <a:pt x="402" y="969"/>
                  </a:lnTo>
                  <a:lnTo>
                    <a:pt x="423" y="984"/>
                  </a:lnTo>
                  <a:lnTo>
                    <a:pt x="454" y="1000"/>
                  </a:lnTo>
                  <a:lnTo>
                    <a:pt x="494" y="1016"/>
                  </a:lnTo>
                  <a:lnTo>
                    <a:pt x="544" y="1033"/>
                  </a:lnTo>
                  <a:lnTo>
                    <a:pt x="603" y="1047"/>
                  </a:lnTo>
                  <a:lnTo>
                    <a:pt x="666" y="1059"/>
                  </a:lnTo>
                  <a:lnTo>
                    <a:pt x="733" y="1068"/>
                  </a:lnTo>
                  <a:lnTo>
                    <a:pt x="802" y="1071"/>
                  </a:lnTo>
                  <a:lnTo>
                    <a:pt x="872" y="1068"/>
                  </a:lnTo>
                  <a:lnTo>
                    <a:pt x="939" y="1061"/>
                  </a:lnTo>
                  <a:lnTo>
                    <a:pt x="1006" y="1047"/>
                  </a:lnTo>
                  <a:lnTo>
                    <a:pt x="1068" y="1027"/>
                  </a:lnTo>
                  <a:lnTo>
                    <a:pt x="1124" y="1000"/>
                  </a:lnTo>
                  <a:lnTo>
                    <a:pt x="1173" y="965"/>
                  </a:lnTo>
                  <a:lnTo>
                    <a:pt x="1214" y="921"/>
                  </a:lnTo>
                  <a:lnTo>
                    <a:pt x="1245" y="867"/>
                  </a:lnTo>
                  <a:lnTo>
                    <a:pt x="1264" y="805"/>
                  </a:lnTo>
                  <a:lnTo>
                    <a:pt x="1271" y="735"/>
                  </a:lnTo>
                  <a:lnTo>
                    <a:pt x="1264" y="652"/>
                  </a:lnTo>
                  <a:lnTo>
                    <a:pt x="1240" y="559"/>
                  </a:lnTo>
                  <a:lnTo>
                    <a:pt x="1205" y="466"/>
                  </a:lnTo>
                  <a:lnTo>
                    <a:pt x="1165" y="384"/>
                  </a:lnTo>
                  <a:lnTo>
                    <a:pt x="1119" y="310"/>
                  </a:lnTo>
                  <a:lnTo>
                    <a:pt x="1069" y="248"/>
                  </a:lnTo>
                  <a:lnTo>
                    <a:pt x="1016" y="193"/>
                  </a:lnTo>
                  <a:lnTo>
                    <a:pt x="960" y="146"/>
                  </a:lnTo>
                  <a:lnTo>
                    <a:pt x="903" y="108"/>
                  </a:lnTo>
                  <a:lnTo>
                    <a:pt x="844" y="75"/>
                  </a:lnTo>
                  <a:lnTo>
                    <a:pt x="783" y="50"/>
                  </a:lnTo>
                  <a:lnTo>
                    <a:pt x="723" y="31"/>
                  </a:lnTo>
                  <a:lnTo>
                    <a:pt x="664" y="16"/>
                  </a:lnTo>
                  <a:lnTo>
                    <a:pt x="605" y="7"/>
                  </a:lnTo>
                  <a:lnTo>
                    <a:pt x="548" y="1"/>
                  </a:lnTo>
                  <a:lnTo>
                    <a:pt x="495" y="0"/>
                  </a:lnTo>
                  <a:lnTo>
                    <a:pt x="447" y="0"/>
                  </a:lnTo>
                  <a:lnTo>
                    <a:pt x="401" y="3"/>
                  </a:lnTo>
                  <a:lnTo>
                    <a:pt x="358" y="7"/>
                  </a:lnTo>
                  <a:lnTo>
                    <a:pt x="315" y="15"/>
                  </a:lnTo>
                  <a:lnTo>
                    <a:pt x="274" y="25"/>
                  </a:lnTo>
                  <a:lnTo>
                    <a:pt x="234" y="37"/>
                  </a:lnTo>
                  <a:lnTo>
                    <a:pt x="196" y="52"/>
                  </a:lnTo>
                  <a:lnTo>
                    <a:pt x="159" y="69"/>
                  </a:lnTo>
                  <a:lnTo>
                    <a:pt x="127" y="88"/>
                  </a:lnTo>
                  <a:lnTo>
                    <a:pt x="96" y="109"/>
                  </a:lnTo>
                  <a:lnTo>
                    <a:pt x="69" y="133"/>
                  </a:lnTo>
                  <a:lnTo>
                    <a:pt x="45" y="159"/>
                  </a:lnTo>
                  <a:lnTo>
                    <a:pt x="26" y="187"/>
                  </a:lnTo>
                  <a:lnTo>
                    <a:pt x="11" y="218"/>
                  </a:lnTo>
                  <a:lnTo>
                    <a:pt x="3" y="252"/>
                  </a:lnTo>
                  <a:lnTo>
                    <a:pt x="0" y="288"/>
                  </a:lnTo>
                  <a:lnTo>
                    <a:pt x="1" y="324"/>
                  </a:lnTo>
                  <a:lnTo>
                    <a:pt x="10" y="364"/>
                  </a:lnTo>
                  <a:close/>
                </a:path>
              </a:pathLst>
            </a:custGeom>
            <a:solidFill>
              <a:srgbClr val="b2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6040440" y="2301840"/>
              <a:ext cx="1365120" cy="1173240"/>
            </a:xfrm>
            <a:custGeom>
              <a:avLst/>
              <a:gdLst/>
              <a:ahLst/>
              <a:rect l="l" t="t" r="r" b="b"/>
              <a:pathLst>
                <a:path w="1721" h="1477">
                  <a:moveTo>
                    <a:pt x="90" y="501"/>
                  </a:moveTo>
                  <a:lnTo>
                    <a:pt x="110" y="444"/>
                  </a:lnTo>
                  <a:lnTo>
                    <a:pt x="133" y="389"/>
                  </a:lnTo>
                  <a:lnTo>
                    <a:pt x="161" y="339"/>
                  </a:lnTo>
                  <a:lnTo>
                    <a:pt x="194" y="293"/>
                  </a:lnTo>
                  <a:lnTo>
                    <a:pt x="231" y="252"/>
                  </a:lnTo>
                  <a:lnTo>
                    <a:pt x="270" y="214"/>
                  </a:lnTo>
                  <a:lnTo>
                    <a:pt x="315" y="180"/>
                  </a:lnTo>
                  <a:lnTo>
                    <a:pt x="360" y="150"/>
                  </a:lnTo>
                  <a:lnTo>
                    <a:pt x="411" y="124"/>
                  </a:lnTo>
                  <a:lnTo>
                    <a:pt x="462" y="101"/>
                  </a:lnTo>
                  <a:lnTo>
                    <a:pt x="515" y="84"/>
                  </a:lnTo>
                  <a:lnTo>
                    <a:pt x="570" y="69"/>
                  </a:lnTo>
                  <a:lnTo>
                    <a:pt x="627" y="60"/>
                  </a:lnTo>
                  <a:lnTo>
                    <a:pt x="685" y="53"/>
                  </a:lnTo>
                  <a:lnTo>
                    <a:pt x="743" y="51"/>
                  </a:lnTo>
                  <a:lnTo>
                    <a:pt x="802" y="53"/>
                  </a:lnTo>
                  <a:lnTo>
                    <a:pt x="865" y="59"/>
                  </a:lnTo>
                  <a:lnTo>
                    <a:pt x="927" y="70"/>
                  </a:lnTo>
                  <a:lnTo>
                    <a:pt x="989" y="85"/>
                  </a:lnTo>
                  <a:lnTo>
                    <a:pt x="1049" y="106"/>
                  </a:lnTo>
                  <a:lnTo>
                    <a:pt x="1110" y="129"/>
                  </a:lnTo>
                  <a:lnTo>
                    <a:pt x="1169" y="159"/>
                  </a:lnTo>
                  <a:lnTo>
                    <a:pt x="1225" y="190"/>
                  </a:lnTo>
                  <a:lnTo>
                    <a:pt x="1280" y="227"/>
                  </a:lnTo>
                  <a:lnTo>
                    <a:pt x="1331" y="265"/>
                  </a:lnTo>
                  <a:lnTo>
                    <a:pt x="1380" y="308"/>
                  </a:lnTo>
                  <a:lnTo>
                    <a:pt x="1424" y="354"/>
                  </a:lnTo>
                  <a:lnTo>
                    <a:pt x="1467" y="402"/>
                  </a:lnTo>
                  <a:lnTo>
                    <a:pt x="1505" y="454"/>
                  </a:lnTo>
                  <a:lnTo>
                    <a:pt x="1539" y="507"/>
                  </a:lnTo>
                  <a:lnTo>
                    <a:pt x="1567" y="563"/>
                  </a:lnTo>
                  <a:lnTo>
                    <a:pt x="1592" y="622"/>
                  </a:lnTo>
                  <a:lnTo>
                    <a:pt x="1611" y="678"/>
                  </a:lnTo>
                  <a:lnTo>
                    <a:pt x="1626" y="736"/>
                  </a:lnTo>
                  <a:lnTo>
                    <a:pt x="1637" y="793"/>
                  </a:lnTo>
                  <a:lnTo>
                    <a:pt x="1642" y="852"/>
                  </a:lnTo>
                  <a:lnTo>
                    <a:pt x="1644" y="910"/>
                  </a:lnTo>
                  <a:lnTo>
                    <a:pt x="1641" y="969"/>
                  </a:lnTo>
                  <a:lnTo>
                    <a:pt x="1632" y="1027"/>
                  </a:lnTo>
                  <a:lnTo>
                    <a:pt x="1617" y="1084"/>
                  </a:lnTo>
                  <a:lnTo>
                    <a:pt x="1604" y="1120"/>
                  </a:lnTo>
                  <a:lnTo>
                    <a:pt x="1589" y="1153"/>
                  </a:lnTo>
                  <a:lnTo>
                    <a:pt x="1572" y="1186"/>
                  </a:lnTo>
                  <a:lnTo>
                    <a:pt x="1551" y="1215"/>
                  </a:lnTo>
                  <a:lnTo>
                    <a:pt x="1529" y="1243"/>
                  </a:lnTo>
                  <a:lnTo>
                    <a:pt x="1505" y="1269"/>
                  </a:lnTo>
                  <a:lnTo>
                    <a:pt x="1480" y="1292"/>
                  </a:lnTo>
                  <a:lnTo>
                    <a:pt x="1452" y="1314"/>
                  </a:lnTo>
                  <a:lnTo>
                    <a:pt x="1423" y="1333"/>
                  </a:lnTo>
                  <a:lnTo>
                    <a:pt x="1393" y="1351"/>
                  </a:lnTo>
                  <a:lnTo>
                    <a:pt x="1361" y="1367"/>
                  </a:lnTo>
                  <a:lnTo>
                    <a:pt x="1328" y="1381"/>
                  </a:lnTo>
                  <a:lnTo>
                    <a:pt x="1294" y="1392"/>
                  </a:lnTo>
                  <a:lnTo>
                    <a:pt x="1259" y="1403"/>
                  </a:lnTo>
                  <a:lnTo>
                    <a:pt x="1223" y="1412"/>
                  </a:lnTo>
                  <a:lnTo>
                    <a:pt x="1187" y="1418"/>
                  </a:lnTo>
                  <a:lnTo>
                    <a:pt x="1151" y="1422"/>
                  </a:lnTo>
                  <a:lnTo>
                    <a:pt x="1117" y="1425"/>
                  </a:lnTo>
                  <a:lnTo>
                    <a:pt x="1082" y="1426"/>
                  </a:lnTo>
                  <a:lnTo>
                    <a:pt x="1046" y="1428"/>
                  </a:lnTo>
                  <a:lnTo>
                    <a:pt x="1011" y="1426"/>
                  </a:lnTo>
                  <a:lnTo>
                    <a:pt x="976" y="1425"/>
                  </a:lnTo>
                  <a:lnTo>
                    <a:pt x="940" y="1422"/>
                  </a:lnTo>
                  <a:lnTo>
                    <a:pt x="905" y="1418"/>
                  </a:lnTo>
                  <a:lnTo>
                    <a:pt x="869" y="1412"/>
                  </a:lnTo>
                  <a:lnTo>
                    <a:pt x="834" y="1406"/>
                  </a:lnTo>
                  <a:lnTo>
                    <a:pt x="800" y="1397"/>
                  </a:lnTo>
                  <a:lnTo>
                    <a:pt x="765" y="1388"/>
                  </a:lnTo>
                  <a:lnTo>
                    <a:pt x="731" y="1379"/>
                  </a:lnTo>
                  <a:lnTo>
                    <a:pt x="697" y="1367"/>
                  </a:lnTo>
                  <a:lnTo>
                    <a:pt x="663" y="1356"/>
                  </a:lnTo>
                  <a:lnTo>
                    <a:pt x="629" y="1342"/>
                  </a:lnTo>
                  <a:lnTo>
                    <a:pt x="595" y="1329"/>
                  </a:lnTo>
                  <a:lnTo>
                    <a:pt x="563" y="1314"/>
                  </a:lnTo>
                  <a:lnTo>
                    <a:pt x="530" y="1298"/>
                  </a:lnTo>
                  <a:lnTo>
                    <a:pt x="499" y="1280"/>
                  </a:lnTo>
                  <a:lnTo>
                    <a:pt x="468" y="1263"/>
                  </a:lnTo>
                  <a:lnTo>
                    <a:pt x="437" y="1245"/>
                  </a:lnTo>
                  <a:lnTo>
                    <a:pt x="408" y="1224"/>
                  </a:lnTo>
                  <a:lnTo>
                    <a:pt x="378" y="1204"/>
                  </a:lnTo>
                  <a:lnTo>
                    <a:pt x="349" y="1183"/>
                  </a:lnTo>
                  <a:lnTo>
                    <a:pt x="321" y="1161"/>
                  </a:lnTo>
                  <a:lnTo>
                    <a:pt x="294" y="1139"/>
                  </a:lnTo>
                  <a:lnTo>
                    <a:pt x="267" y="1115"/>
                  </a:lnTo>
                  <a:lnTo>
                    <a:pt x="242" y="1090"/>
                  </a:lnTo>
                  <a:lnTo>
                    <a:pt x="217" y="1065"/>
                  </a:lnTo>
                  <a:lnTo>
                    <a:pt x="194" y="1040"/>
                  </a:lnTo>
                  <a:lnTo>
                    <a:pt x="172" y="1013"/>
                  </a:lnTo>
                  <a:lnTo>
                    <a:pt x="121" y="944"/>
                  </a:lnTo>
                  <a:lnTo>
                    <a:pt x="80" y="869"/>
                  </a:lnTo>
                  <a:lnTo>
                    <a:pt x="48" y="789"/>
                  </a:lnTo>
                  <a:lnTo>
                    <a:pt x="26" y="706"/>
                  </a:lnTo>
                  <a:lnTo>
                    <a:pt x="14" y="622"/>
                  </a:lnTo>
                  <a:lnTo>
                    <a:pt x="15" y="537"/>
                  </a:lnTo>
                  <a:lnTo>
                    <a:pt x="30" y="453"/>
                  </a:lnTo>
                  <a:lnTo>
                    <a:pt x="58" y="370"/>
                  </a:lnTo>
                  <a:lnTo>
                    <a:pt x="79" y="329"/>
                  </a:lnTo>
                  <a:lnTo>
                    <a:pt x="102" y="289"/>
                  </a:lnTo>
                  <a:lnTo>
                    <a:pt x="130" y="250"/>
                  </a:lnTo>
                  <a:lnTo>
                    <a:pt x="161" y="215"/>
                  </a:lnTo>
                  <a:lnTo>
                    <a:pt x="195" y="181"/>
                  </a:lnTo>
                  <a:lnTo>
                    <a:pt x="231" y="150"/>
                  </a:lnTo>
                  <a:lnTo>
                    <a:pt x="269" y="122"/>
                  </a:lnTo>
                  <a:lnTo>
                    <a:pt x="310" y="96"/>
                  </a:lnTo>
                  <a:lnTo>
                    <a:pt x="352" y="73"/>
                  </a:lnTo>
                  <a:lnTo>
                    <a:pt x="394" y="53"/>
                  </a:lnTo>
                  <a:lnTo>
                    <a:pt x="439" y="37"/>
                  </a:lnTo>
                  <a:lnTo>
                    <a:pt x="484" y="23"/>
                  </a:lnTo>
                  <a:lnTo>
                    <a:pt x="530" y="13"/>
                  </a:lnTo>
                  <a:lnTo>
                    <a:pt x="576" y="6"/>
                  </a:lnTo>
                  <a:lnTo>
                    <a:pt x="622" y="3"/>
                  </a:lnTo>
                  <a:lnTo>
                    <a:pt x="667" y="4"/>
                  </a:lnTo>
                  <a:lnTo>
                    <a:pt x="669" y="4"/>
                  </a:lnTo>
                  <a:lnTo>
                    <a:pt x="669" y="3"/>
                  </a:lnTo>
                  <a:lnTo>
                    <a:pt x="669" y="1"/>
                  </a:lnTo>
                  <a:lnTo>
                    <a:pt x="667" y="1"/>
                  </a:lnTo>
                  <a:lnTo>
                    <a:pt x="611" y="0"/>
                  </a:lnTo>
                  <a:lnTo>
                    <a:pt x="555" y="4"/>
                  </a:lnTo>
                  <a:lnTo>
                    <a:pt x="501" y="13"/>
                  </a:lnTo>
                  <a:lnTo>
                    <a:pt x="446" y="28"/>
                  </a:lnTo>
                  <a:lnTo>
                    <a:pt x="391" y="47"/>
                  </a:lnTo>
                  <a:lnTo>
                    <a:pt x="340" y="70"/>
                  </a:lnTo>
                  <a:lnTo>
                    <a:pt x="290" y="99"/>
                  </a:lnTo>
                  <a:lnTo>
                    <a:pt x="242" y="131"/>
                  </a:lnTo>
                  <a:lnTo>
                    <a:pt x="198" y="166"/>
                  </a:lnTo>
                  <a:lnTo>
                    <a:pt x="157" y="206"/>
                  </a:lnTo>
                  <a:lnTo>
                    <a:pt x="120" y="249"/>
                  </a:lnTo>
                  <a:lnTo>
                    <a:pt x="87" y="295"/>
                  </a:lnTo>
                  <a:lnTo>
                    <a:pt x="59" y="343"/>
                  </a:lnTo>
                  <a:lnTo>
                    <a:pt x="36" y="394"/>
                  </a:lnTo>
                  <a:lnTo>
                    <a:pt x="18" y="447"/>
                  </a:lnTo>
                  <a:lnTo>
                    <a:pt x="6" y="503"/>
                  </a:lnTo>
                  <a:lnTo>
                    <a:pt x="0" y="566"/>
                  </a:lnTo>
                  <a:lnTo>
                    <a:pt x="0" y="630"/>
                  </a:lnTo>
                  <a:lnTo>
                    <a:pt x="8" y="690"/>
                  </a:lnTo>
                  <a:lnTo>
                    <a:pt x="20" y="751"/>
                  </a:lnTo>
                  <a:lnTo>
                    <a:pt x="39" y="808"/>
                  </a:lnTo>
                  <a:lnTo>
                    <a:pt x="61" y="866"/>
                  </a:lnTo>
                  <a:lnTo>
                    <a:pt x="90" y="919"/>
                  </a:lnTo>
                  <a:lnTo>
                    <a:pt x="123" y="972"/>
                  </a:lnTo>
                  <a:lnTo>
                    <a:pt x="158" y="1022"/>
                  </a:lnTo>
                  <a:lnTo>
                    <a:pt x="198" y="1071"/>
                  </a:lnTo>
                  <a:lnTo>
                    <a:pt x="241" y="1117"/>
                  </a:lnTo>
                  <a:lnTo>
                    <a:pt x="287" y="1159"/>
                  </a:lnTo>
                  <a:lnTo>
                    <a:pt x="334" y="1201"/>
                  </a:lnTo>
                  <a:lnTo>
                    <a:pt x="384" y="1239"/>
                  </a:lnTo>
                  <a:lnTo>
                    <a:pt x="434" y="1273"/>
                  </a:lnTo>
                  <a:lnTo>
                    <a:pt x="486" y="1305"/>
                  </a:lnTo>
                  <a:lnTo>
                    <a:pt x="537" y="1335"/>
                  </a:lnTo>
                  <a:lnTo>
                    <a:pt x="594" y="1362"/>
                  </a:lnTo>
                  <a:lnTo>
                    <a:pt x="650" y="1387"/>
                  </a:lnTo>
                  <a:lnTo>
                    <a:pt x="709" y="1409"/>
                  </a:lnTo>
                  <a:lnTo>
                    <a:pt x="771" y="1428"/>
                  </a:lnTo>
                  <a:lnTo>
                    <a:pt x="833" y="1444"/>
                  </a:lnTo>
                  <a:lnTo>
                    <a:pt x="894" y="1457"/>
                  </a:lnTo>
                  <a:lnTo>
                    <a:pt x="958" y="1468"/>
                  </a:lnTo>
                  <a:lnTo>
                    <a:pt x="1021" y="1474"/>
                  </a:lnTo>
                  <a:lnTo>
                    <a:pt x="1085" y="1477"/>
                  </a:lnTo>
                  <a:lnTo>
                    <a:pt x="1148" y="1475"/>
                  </a:lnTo>
                  <a:lnTo>
                    <a:pt x="1210" y="1469"/>
                  </a:lnTo>
                  <a:lnTo>
                    <a:pt x="1271" y="1457"/>
                  </a:lnTo>
                  <a:lnTo>
                    <a:pt x="1330" y="1443"/>
                  </a:lnTo>
                  <a:lnTo>
                    <a:pt x="1387" y="1422"/>
                  </a:lnTo>
                  <a:lnTo>
                    <a:pt x="1443" y="1395"/>
                  </a:lnTo>
                  <a:lnTo>
                    <a:pt x="1468" y="1381"/>
                  </a:lnTo>
                  <a:lnTo>
                    <a:pt x="1492" y="1366"/>
                  </a:lnTo>
                  <a:lnTo>
                    <a:pt x="1516" y="1348"/>
                  </a:lnTo>
                  <a:lnTo>
                    <a:pt x="1538" y="1329"/>
                  </a:lnTo>
                  <a:lnTo>
                    <a:pt x="1558" y="1310"/>
                  </a:lnTo>
                  <a:lnTo>
                    <a:pt x="1578" y="1289"/>
                  </a:lnTo>
                  <a:lnTo>
                    <a:pt x="1597" y="1267"/>
                  </a:lnTo>
                  <a:lnTo>
                    <a:pt x="1613" y="1243"/>
                  </a:lnTo>
                  <a:lnTo>
                    <a:pt x="1629" y="1220"/>
                  </a:lnTo>
                  <a:lnTo>
                    <a:pt x="1645" y="1196"/>
                  </a:lnTo>
                  <a:lnTo>
                    <a:pt x="1659" y="1170"/>
                  </a:lnTo>
                  <a:lnTo>
                    <a:pt x="1670" y="1145"/>
                  </a:lnTo>
                  <a:lnTo>
                    <a:pt x="1682" y="1118"/>
                  </a:lnTo>
                  <a:lnTo>
                    <a:pt x="1691" y="1090"/>
                  </a:lnTo>
                  <a:lnTo>
                    <a:pt x="1700" y="1063"/>
                  </a:lnTo>
                  <a:lnTo>
                    <a:pt x="1707" y="1035"/>
                  </a:lnTo>
                  <a:lnTo>
                    <a:pt x="1716" y="981"/>
                  </a:lnTo>
                  <a:lnTo>
                    <a:pt x="1721" y="928"/>
                  </a:lnTo>
                  <a:lnTo>
                    <a:pt x="1719" y="875"/>
                  </a:lnTo>
                  <a:lnTo>
                    <a:pt x="1713" y="821"/>
                  </a:lnTo>
                  <a:lnTo>
                    <a:pt x="1704" y="768"/>
                  </a:lnTo>
                  <a:lnTo>
                    <a:pt x="1691" y="717"/>
                  </a:lnTo>
                  <a:lnTo>
                    <a:pt x="1676" y="665"/>
                  </a:lnTo>
                  <a:lnTo>
                    <a:pt x="1659" y="613"/>
                  </a:lnTo>
                  <a:lnTo>
                    <a:pt x="1632" y="550"/>
                  </a:lnTo>
                  <a:lnTo>
                    <a:pt x="1601" y="491"/>
                  </a:lnTo>
                  <a:lnTo>
                    <a:pt x="1564" y="433"/>
                  </a:lnTo>
                  <a:lnTo>
                    <a:pt x="1521" y="380"/>
                  </a:lnTo>
                  <a:lnTo>
                    <a:pt x="1474" y="330"/>
                  </a:lnTo>
                  <a:lnTo>
                    <a:pt x="1423" y="283"/>
                  </a:lnTo>
                  <a:lnTo>
                    <a:pt x="1368" y="239"/>
                  </a:lnTo>
                  <a:lnTo>
                    <a:pt x="1310" y="200"/>
                  </a:lnTo>
                  <a:lnTo>
                    <a:pt x="1250" y="163"/>
                  </a:lnTo>
                  <a:lnTo>
                    <a:pt x="1187" y="132"/>
                  </a:lnTo>
                  <a:lnTo>
                    <a:pt x="1123" y="104"/>
                  </a:lnTo>
                  <a:lnTo>
                    <a:pt x="1057" y="82"/>
                  </a:lnTo>
                  <a:lnTo>
                    <a:pt x="990" y="63"/>
                  </a:lnTo>
                  <a:lnTo>
                    <a:pt x="922" y="48"/>
                  </a:lnTo>
                  <a:lnTo>
                    <a:pt x="856" y="39"/>
                  </a:lnTo>
                  <a:lnTo>
                    <a:pt x="790" y="35"/>
                  </a:lnTo>
                  <a:lnTo>
                    <a:pt x="732" y="35"/>
                  </a:lnTo>
                  <a:lnTo>
                    <a:pt x="675" y="39"/>
                  </a:lnTo>
                  <a:lnTo>
                    <a:pt x="617" y="48"/>
                  </a:lnTo>
                  <a:lnTo>
                    <a:pt x="561" y="60"/>
                  </a:lnTo>
                  <a:lnTo>
                    <a:pt x="506" y="76"/>
                  </a:lnTo>
                  <a:lnTo>
                    <a:pt x="453" y="96"/>
                  </a:lnTo>
                  <a:lnTo>
                    <a:pt x="403" y="119"/>
                  </a:lnTo>
                  <a:lnTo>
                    <a:pt x="355" y="147"/>
                  </a:lnTo>
                  <a:lnTo>
                    <a:pt x="309" y="178"/>
                  </a:lnTo>
                  <a:lnTo>
                    <a:pt x="265" y="214"/>
                  </a:lnTo>
                  <a:lnTo>
                    <a:pt x="225" y="252"/>
                  </a:lnTo>
                  <a:lnTo>
                    <a:pt x="189" y="295"/>
                  </a:lnTo>
                  <a:lnTo>
                    <a:pt x="157" y="340"/>
                  </a:lnTo>
                  <a:lnTo>
                    <a:pt x="130" y="391"/>
                  </a:lnTo>
                  <a:lnTo>
                    <a:pt x="107" y="444"/>
                  </a:lnTo>
                  <a:lnTo>
                    <a:pt x="89" y="501"/>
                  </a:lnTo>
                  <a:lnTo>
                    <a:pt x="89" y="501"/>
                  </a:lnTo>
                  <a:lnTo>
                    <a:pt x="90" y="501"/>
                  </a:lnTo>
                  <a:lnTo>
                    <a:pt x="90" y="501"/>
                  </a:lnTo>
                  <a:lnTo>
                    <a:pt x="90" y="501"/>
                  </a:lnTo>
                  <a:lnTo>
                    <a:pt x="90"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6006960" y="2722680"/>
              <a:ext cx="1079640" cy="904680"/>
            </a:xfrm>
            <a:custGeom>
              <a:avLst/>
              <a:gdLst/>
              <a:ahLst/>
              <a:rect l="l" t="t" r="r" b="b"/>
              <a:pathLst>
                <a:path w="1360" h="1139">
                  <a:moveTo>
                    <a:pt x="59" y="2"/>
                  </a:moveTo>
                  <a:lnTo>
                    <a:pt x="50" y="33"/>
                  </a:lnTo>
                  <a:lnTo>
                    <a:pt x="39" y="64"/>
                  </a:lnTo>
                  <a:lnTo>
                    <a:pt x="31" y="95"/>
                  </a:lnTo>
                  <a:lnTo>
                    <a:pt x="22" y="124"/>
                  </a:lnTo>
                  <a:lnTo>
                    <a:pt x="14" y="155"/>
                  </a:lnTo>
                  <a:lnTo>
                    <a:pt x="7" y="188"/>
                  </a:lnTo>
                  <a:lnTo>
                    <a:pt x="3" y="219"/>
                  </a:lnTo>
                  <a:lnTo>
                    <a:pt x="0" y="251"/>
                  </a:lnTo>
                  <a:lnTo>
                    <a:pt x="0" y="282"/>
                  </a:lnTo>
                  <a:lnTo>
                    <a:pt x="1" y="313"/>
                  </a:lnTo>
                  <a:lnTo>
                    <a:pt x="7" y="346"/>
                  </a:lnTo>
                  <a:lnTo>
                    <a:pt x="13" y="378"/>
                  </a:lnTo>
                  <a:lnTo>
                    <a:pt x="22" y="411"/>
                  </a:lnTo>
                  <a:lnTo>
                    <a:pt x="31" y="443"/>
                  </a:lnTo>
                  <a:lnTo>
                    <a:pt x="41" y="472"/>
                  </a:lnTo>
                  <a:lnTo>
                    <a:pt x="53" y="501"/>
                  </a:lnTo>
                  <a:lnTo>
                    <a:pt x="66" y="532"/>
                  </a:lnTo>
                  <a:lnTo>
                    <a:pt x="81" y="561"/>
                  </a:lnTo>
                  <a:lnTo>
                    <a:pt x="96" y="591"/>
                  </a:lnTo>
                  <a:lnTo>
                    <a:pt x="110" y="619"/>
                  </a:lnTo>
                  <a:lnTo>
                    <a:pt x="127" y="647"/>
                  </a:lnTo>
                  <a:lnTo>
                    <a:pt x="144" y="675"/>
                  </a:lnTo>
                  <a:lnTo>
                    <a:pt x="162" y="701"/>
                  </a:lnTo>
                  <a:lnTo>
                    <a:pt x="181" y="728"/>
                  </a:lnTo>
                  <a:lnTo>
                    <a:pt x="200" y="753"/>
                  </a:lnTo>
                  <a:lnTo>
                    <a:pt x="221" y="778"/>
                  </a:lnTo>
                  <a:lnTo>
                    <a:pt x="242" y="803"/>
                  </a:lnTo>
                  <a:lnTo>
                    <a:pt x="264" y="827"/>
                  </a:lnTo>
                  <a:lnTo>
                    <a:pt x="287" y="849"/>
                  </a:lnTo>
                  <a:lnTo>
                    <a:pt x="311" y="872"/>
                  </a:lnTo>
                  <a:lnTo>
                    <a:pt x="336" y="894"/>
                  </a:lnTo>
                  <a:lnTo>
                    <a:pt x="361" y="915"/>
                  </a:lnTo>
                  <a:lnTo>
                    <a:pt x="388" y="936"/>
                  </a:lnTo>
                  <a:lnTo>
                    <a:pt x="414" y="955"/>
                  </a:lnTo>
                  <a:lnTo>
                    <a:pt x="442" y="974"/>
                  </a:lnTo>
                  <a:lnTo>
                    <a:pt x="470" y="992"/>
                  </a:lnTo>
                  <a:lnTo>
                    <a:pt x="498" y="1008"/>
                  </a:lnTo>
                  <a:lnTo>
                    <a:pt x="528" y="1024"/>
                  </a:lnTo>
                  <a:lnTo>
                    <a:pt x="557" y="1039"/>
                  </a:lnTo>
                  <a:lnTo>
                    <a:pt x="587" y="1052"/>
                  </a:lnTo>
                  <a:lnTo>
                    <a:pt x="616" y="1066"/>
                  </a:lnTo>
                  <a:lnTo>
                    <a:pt x="647" y="1077"/>
                  </a:lnTo>
                  <a:lnTo>
                    <a:pt x="678" y="1088"/>
                  </a:lnTo>
                  <a:lnTo>
                    <a:pt x="709" y="1098"/>
                  </a:lnTo>
                  <a:lnTo>
                    <a:pt x="740" y="1105"/>
                  </a:lnTo>
                  <a:lnTo>
                    <a:pt x="771" y="1114"/>
                  </a:lnTo>
                  <a:lnTo>
                    <a:pt x="804" y="1120"/>
                  </a:lnTo>
                  <a:lnTo>
                    <a:pt x="836" y="1126"/>
                  </a:lnTo>
                  <a:lnTo>
                    <a:pt x="867" y="1131"/>
                  </a:lnTo>
                  <a:lnTo>
                    <a:pt x="900" y="1135"/>
                  </a:lnTo>
                  <a:lnTo>
                    <a:pt x="932" y="1138"/>
                  </a:lnTo>
                  <a:lnTo>
                    <a:pt x="964" y="1139"/>
                  </a:lnTo>
                  <a:lnTo>
                    <a:pt x="997" y="1139"/>
                  </a:lnTo>
                  <a:lnTo>
                    <a:pt x="1031" y="1139"/>
                  </a:lnTo>
                  <a:lnTo>
                    <a:pt x="1063" y="1138"/>
                  </a:lnTo>
                  <a:lnTo>
                    <a:pt x="1096" y="1136"/>
                  </a:lnTo>
                  <a:lnTo>
                    <a:pt x="1128" y="1133"/>
                  </a:lnTo>
                  <a:lnTo>
                    <a:pt x="1161" y="1129"/>
                  </a:lnTo>
                  <a:lnTo>
                    <a:pt x="1193" y="1123"/>
                  </a:lnTo>
                  <a:lnTo>
                    <a:pt x="1226" y="1117"/>
                  </a:lnTo>
                  <a:lnTo>
                    <a:pt x="1258" y="1110"/>
                  </a:lnTo>
                  <a:lnTo>
                    <a:pt x="1291" y="1101"/>
                  </a:lnTo>
                  <a:lnTo>
                    <a:pt x="1322" y="1092"/>
                  </a:lnTo>
                  <a:lnTo>
                    <a:pt x="1354" y="1082"/>
                  </a:lnTo>
                  <a:lnTo>
                    <a:pt x="1358" y="1079"/>
                  </a:lnTo>
                  <a:lnTo>
                    <a:pt x="1360" y="1074"/>
                  </a:lnTo>
                  <a:lnTo>
                    <a:pt x="1358" y="1070"/>
                  </a:lnTo>
                  <a:lnTo>
                    <a:pt x="1354" y="1070"/>
                  </a:lnTo>
                  <a:lnTo>
                    <a:pt x="1293" y="1085"/>
                  </a:lnTo>
                  <a:lnTo>
                    <a:pt x="1232" y="1095"/>
                  </a:lnTo>
                  <a:lnTo>
                    <a:pt x="1171" y="1104"/>
                  </a:lnTo>
                  <a:lnTo>
                    <a:pt x="1111" y="1108"/>
                  </a:lnTo>
                  <a:lnTo>
                    <a:pt x="1049" y="1110"/>
                  </a:lnTo>
                  <a:lnTo>
                    <a:pt x="988" y="1108"/>
                  </a:lnTo>
                  <a:lnTo>
                    <a:pt x="928" y="1104"/>
                  </a:lnTo>
                  <a:lnTo>
                    <a:pt x="867" y="1095"/>
                  </a:lnTo>
                  <a:lnTo>
                    <a:pt x="808" y="1085"/>
                  </a:lnTo>
                  <a:lnTo>
                    <a:pt x="749" y="1070"/>
                  </a:lnTo>
                  <a:lnTo>
                    <a:pt x="690" y="1052"/>
                  </a:lnTo>
                  <a:lnTo>
                    <a:pt x="633" y="1032"/>
                  </a:lnTo>
                  <a:lnTo>
                    <a:pt x="576" y="1007"/>
                  </a:lnTo>
                  <a:lnTo>
                    <a:pt x="522" y="979"/>
                  </a:lnTo>
                  <a:lnTo>
                    <a:pt x="469" y="948"/>
                  </a:lnTo>
                  <a:lnTo>
                    <a:pt x="416" y="914"/>
                  </a:lnTo>
                  <a:lnTo>
                    <a:pt x="391" y="896"/>
                  </a:lnTo>
                  <a:lnTo>
                    <a:pt x="367" y="877"/>
                  </a:lnTo>
                  <a:lnTo>
                    <a:pt x="343" y="858"/>
                  </a:lnTo>
                  <a:lnTo>
                    <a:pt x="321" y="838"/>
                  </a:lnTo>
                  <a:lnTo>
                    <a:pt x="299" y="818"/>
                  </a:lnTo>
                  <a:lnTo>
                    <a:pt x="277" y="796"/>
                  </a:lnTo>
                  <a:lnTo>
                    <a:pt x="255" y="775"/>
                  </a:lnTo>
                  <a:lnTo>
                    <a:pt x="234" y="751"/>
                  </a:lnTo>
                  <a:lnTo>
                    <a:pt x="215" y="729"/>
                  </a:lnTo>
                  <a:lnTo>
                    <a:pt x="196" y="706"/>
                  </a:lnTo>
                  <a:lnTo>
                    <a:pt x="177" y="682"/>
                  </a:lnTo>
                  <a:lnTo>
                    <a:pt x="159" y="657"/>
                  </a:lnTo>
                  <a:lnTo>
                    <a:pt x="141" y="632"/>
                  </a:lnTo>
                  <a:lnTo>
                    <a:pt x="125" y="607"/>
                  </a:lnTo>
                  <a:lnTo>
                    <a:pt x="110" y="582"/>
                  </a:lnTo>
                  <a:lnTo>
                    <a:pt x="96" y="555"/>
                  </a:lnTo>
                  <a:lnTo>
                    <a:pt x="79" y="523"/>
                  </a:lnTo>
                  <a:lnTo>
                    <a:pt x="65" y="490"/>
                  </a:lnTo>
                  <a:lnTo>
                    <a:pt x="53" y="456"/>
                  </a:lnTo>
                  <a:lnTo>
                    <a:pt x="41" y="422"/>
                  </a:lnTo>
                  <a:lnTo>
                    <a:pt x="32" y="387"/>
                  </a:lnTo>
                  <a:lnTo>
                    <a:pt x="25" y="352"/>
                  </a:lnTo>
                  <a:lnTo>
                    <a:pt x="19" y="316"/>
                  </a:lnTo>
                  <a:lnTo>
                    <a:pt x="14" y="281"/>
                  </a:lnTo>
                  <a:lnTo>
                    <a:pt x="13" y="245"/>
                  </a:lnTo>
                  <a:lnTo>
                    <a:pt x="14" y="211"/>
                  </a:lnTo>
                  <a:lnTo>
                    <a:pt x="19" y="176"/>
                  </a:lnTo>
                  <a:lnTo>
                    <a:pt x="26" y="139"/>
                  </a:lnTo>
                  <a:lnTo>
                    <a:pt x="34" y="104"/>
                  </a:lnTo>
                  <a:lnTo>
                    <a:pt x="42" y="70"/>
                  </a:lnTo>
                  <a:lnTo>
                    <a:pt x="51" y="36"/>
                  </a:lnTo>
                  <a:lnTo>
                    <a:pt x="60" y="2"/>
                  </a:lnTo>
                  <a:lnTo>
                    <a:pt x="60" y="0"/>
                  </a:lnTo>
                  <a:lnTo>
                    <a:pt x="60" y="0"/>
                  </a:lnTo>
                  <a:lnTo>
                    <a:pt x="59" y="0"/>
                  </a:lnTo>
                  <a:lnTo>
                    <a:pt x="59" y="2"/>
                  </a:lnTo>
                  <a:lnTo>
                    <a:pt x="59"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6348240" y="2511360"/>
              <a:ext cx="900360" cy="919080"/>
            </a:xfrm>
            <a:custGeom>
              <a:avLst/>
              <a:gdLst/>
              <a:ahLst/>
              <a:rect l="l" t="t" r="r" b="b"/>
              <a:pathLst>
                <a:path w="1133" h="1158">
                  <a:moveTo>
                    <a:pt x="0" y="81"/>
                  </a:moveTo>
                  <a:lnTo>
                    <a:pt x="55" y="54"/>
                  </a:lnTo>
                  <a:lnTo>
                    <a:pt x="110" y="34"/>
                  </a:lnTo>
                  <a:lnTo>
                    <a:pt x="166" y="20"/>
                  </a:lnTo>
                  <a:lnTo>
                    <a:pt x="223" y="12"/>
                  </a:lnTo>
                  <a:lnTo>
                    <a:pt x="279" y="9"/>
                  </a:lnTo>
                  <a:lnTo>
                    <a:pt x="335" y="12"/>
                  </a:lnTo>
                  <a:lnTo>
                    <a:pt x="391" y="19"/>
                  </a:lnTo>
                  <a:lnTo>
                    <a:pt x="447" y="31"/>
                  </a:lnTo>
                  <a:lnTo>
                    <a:pt x="502" y="47"/>
                  </a:lnTo>
                  <a:lnTo>
                    <a:pt x="555" y="68"/>
                  </a:lnTo>
                  <a:lnTo>
                    <a:pt x="607" y="93"/>
                  </a:lnTo>
                  <a:lnTo>
                    <a:pt x="658" y="121"/>
                  </a:lnTo>
                  <a:lnTo>
                    <a:pt x="707" y="153"/>
                  </a:lnTo>
                  <a:lnTo>
                    <a:pt x="753" y="187"/>
                  </a:lnTo>
                  <a:lnTo>
                    <a:pt x="799" y="226"/>
                  </a:lnTo>
                  <a:lnTo>
                    <a:pt x="840" y="265"/>
                  </a:lnTo>
                  <a:lnTo>
                    <a:pt x="861" y="287"/>
                  </a:lnTo>
                  <a:lnTo>
                    <a:pt x="881" y="310"/>
                  </a:lnTo>
                  <a:lnTo>
                    <a:pt x="900" y="333"/>
                  </a:lnTo>
                  <a:lnTo>
                    <a:pt x="920" y="358"/>
                  </a:lnTo>
                  <a:lnTo>
                    <a:pt x="937" y="382"/>
                  </a:lnTo>
                  <a:lnTo>
                    <a:pt x="955" y="407"/>
                  </a:lnTo>
                  <a:lnTo>
                    <a:pt x="971" y="434"/>
                  </a:lnTo>
                  <a:lnTo>
                    <a:pt x="987" y="459"/>
                  </a:lnTo>
                  <a:lnTo>
                    <a:pt x="1002" y="487"/>
                  </a:lnTo>
                  <a:lnTo>
                    <a:pt x="1015" y="513"/>
                  </a:lnTo>
                  <a:lnTo>
                    <a:pt x="1029" y="541"/>
                  </a:lnTo>
                  <a:lnTo>
                    <a:pt x="1042" y="569"/>
                  </a:lnTo>
                  <a:lnTo>
                    <a:pt x="1052" y="597"/>
                  </a:lnTo>
                  <a:lnTo>
                    <a:pt x="1063" y="625"/>
                  </a:lnTo>
                  <a:lnTo>
                    <a:pt x="1071" y="655"/>
                  </a:lnTo>
                  <a:lnTo>
                    <a:pt x="1080" y="684"/>
                  </a:lnTo>
                  <a:lnTo>
                    <a:pt x="1094" y="749"/>
                  </a:lnTo>
                  <a:lnTo>
                    <a:pt x="1100" y="814"/>
                  </a:lnTo>
                  <a:lnTo>
                    <a:pt x="1098" y="879"/>
                  </a:lnTo>
                  <a:lnTo>
                    <a:pt x="1086" y="944"/>
                  </a:lnTo>
                  <a:lnTo>
                    <a:pt x="1077" y="972"/>
                  </a:lnTo>
                  <a:lnTo>
                    <a:pt x="1066" y="999"/>
                  </a:lnTo>
                  <a:lnTo>
                    <a:pt x="1052" y="1025"/>
                  </a:lnTo>
                  <a:lnTo>
                    <a:pt x="1038" y="1050"/>
                  </a:lnTo>
                  <a:lnTo>
                    <a:pt x="1023" y="1075"/>
                  </a:lnTo>
                  <a:lnTo>
                    <a:pt x="1007" y="1099"/>
                  </a:lnTo>
                  <a:lnTo>
                    <a:pt x="990" y="1124"/>
                  </a:lnTo>
                  <a:lnTo>
                    <a:pt x="976" y="1149"/>
                  </a:lnTo>
                  <a:lnTo>
                    <a:pt x="974" y="1155"/>
                  </a:lnTo>
                  <a:lnTo>
                    <a:pt x="979" y="1158"/>
                  </a:lnTo>
                  <a:lnTo>
                    <a:pt x="983" y="1158"/>
                  </a:lnTo>
                  <a:lnTo>
                    <a:pt x="989" y="1155"/>
                  </a:lnTo>
                  <a:lnTo>
                    <a:pt x="1004" y="1131"/>
                  </a:lnTo>
                  <a:lnTo>
                    <a:pt x="1020" y="1109"/>
                  </a:lnTo>
                  <a:lnTo>
                    <a:pt x="1036" y="1086"/>
                  </a:lnTo>
                  <a:lnTo>
                    <a:pt x="1051" y="1062"/>
                  </a:lnTo>
                  <a:lnTo>
                    <a:pt x="1067" y="1040"/>
                  </a:lnTo>
                  <a:lnTo>
                    <a:pt x="1080" y="1015"/>
                  </a:lnTo>
                  <a:lnTo>
                    <a:pt x="1094" y="991"/>
                  </a:lnTo>
                  <a:lnTo>
                    <a:pt x="1104" y="966"/>
                  </a:lnTo>
                  <a:lnTo>
                    <a:pt x="1123" y="904"/>
                  </a:lnTo>
                  <a:lnTo>
                    <a:pt x="1132" y="841"/>
                  </a:lnTo>
                  <a:lnTo>
                    <a:pt x="1133" y="777"/>
                  </a:lnTo>
                  <a:lnTo>
                    <a:pt x="1128" y="714"/>
                  </a:lnTo>
                  <a:lnTo>
                    <a:pt x="1122" y="681"/>
                  </a:lnTo>
                  <a:lnTo>
                    <a:pt x="1116" y="647"/>
                  </a:lnTo>
                  <a:lnTo>
                    <a:pt x="1107" y="617"/>
                  </a:lnTo>
                  <a:lnTo>
                    <a:pt x="1097" y="584"/>
                  </a:lnTo>
                  <a:lnTo>
                    <a:pt x="1083" y="553"/>
                  </a:lnTo>
                  <a:lnTo>
                    <a:pt x="1070" y="524"/>
                  </a:lnTo>
                  <a:lnTo>
                    <a:pt x="1055" y="494"/>
                  </a:lnTo>
                  <a:lnTo>
                    <a:pt x="1041" y="465"/>
                  </a:lnTo>
                  <a:lnTo>
                    <a:pt x="1023" y="436"/>
                  </a:lnTo>
                  <a:lnTo>
                    <a:pt x="1005" y="408"/>
                  </a:lnTo>
                  <a:lnTo>
                    <a:pt x="986" y="380"/>
                  </a:lnTo>
                  <a:lnTo>
                    <a:pt x="965" y="354"/>
                  </a:lnTo>
                  <a:lnTo>
                    <a:pt x="945" y="329"/>
                  </a:lnTo>
                  <a:lnTo>
                    <a:pt x="922" y="304"/>
                  </a:lnTo>
                  <a:lnTo>
                    <a:pt x="900" y="279"/>
                  </a:lnTo>
                  <a:lnTo>
                    <a:pt x="878" y="255"/>
                  </a:lnTo>
                  <a:lnTo>
                    <a:pt x="835" y="214"/>
                  </a:lnTo>
                  <a:lnTo>
                    <a:pt x="788" y="175"/>
                  </a:lnTo>
                  <a:lnTo>
                    <a:pt x="740" y="140"/>
                  </a:lnTo>
                  <a:lnTo>
                    <a:pt x="688" y="107"/>
                  </a:lnTo>
                  <a:lnTo>
                    <a:pt x="635" y="79"/>
                  </a:lnTo>
                  <a:lnTo>
                    <a:pt x="580" y="54"/>
                  </a:lnTo>
                  <a:lnTo>
                    <a:pt x="523" y="34"/>
                  </a:lnTo>
                  <a:lnTo>
                    <a:pt x="465" y="19"/>
                  </a:lnTo>
                  <a:lnTo>
                    <a:pt x="406" y="7"/>
                  </a:lnTo>
                  <a:lnTo>
                    <a:pt x="347" y="1"/>
                  </a:lnTo>
                  <a:lnTo>
                    <a:pt x="288" y="0"/>
                  </a:lnTo>
                  <a:lnTo>
                    <a:pt x="229" y="4"/>
                  </a:lnTo>
                  <a:lnTo>
                    <a:pt x="170" y="15"/>
                  </a:lnTo>
                  <a:lnTo>
                    <a:pt x="113" y="31"/>
                  </a:lnTo>
                  <a:lnTo>
                    <a:pt x="55" y="53"/>
                  </a:lnTo>
                  <a:lnTo>
                    <a:pt x="0" y="81"/>
                  </a:lnTo>
                  <a:lnTo>
                    <a:pt x="0" y="81"/>
                  </a:lnTo>
                  <a:lnTo>
                    <a:pt x="0" y="81"/>
                  </a:lnTo>
                  <a:lnTo>
                    <a:pt x="0" y="81"/>
                  </a:lnTo>
                  <a:lnTo>
                    <a:pt x="0"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6488280" y="2671920"/>
              <a:ext cx="376200" cy="644400"/>
            </a:xfrm>
            <a:custGeom>
              <a:avLst/>
              <a:gdLst/>
              <a:ahLst/>
              <a:rect l="l" t="t" r="r" b="b"/>
              <a:pathLst>
                <a:path w="474" h="811">
                  <a:moveTo>
                    <a:pt x="86" y="801"/>
                  </a:moveTo>
                  <a:lnTo>
                    <a:pt x="91" y="723"/>
                  </a:lnTo>
                  <a:lnTo>
                    <a:pt x="94" y="645"/>
                  </a:lnTo>
                  <a:lnTo>
                    <a:pt x="93" y="565"/>
                  </a:lnTo>
                  <a:lnTo>
                    <a:pt x="87" y="485"/>
                  </a:lnTo>
                  <a:lnTo>
                    <a:pt x="77" y="407"/>
                  </a:lnTo>
                  <a:lnTo>
                    <a:pt x="62" y="329"/>
                  </a:lnTo>
                  <a:lnTo>
                    <a:pt x="44" y="251"/>
                  </a:lnTo>
                  <a:lnTo>
                    <a:pt x="21" y="175"/>
                  </a:lnTo>
                  <a:lnTo>
                    <a:pt x="16" y="164"/>
                  </a:lnTo>
                  <a:lnTo>
                    <a:pt x="13" y="150"/>
                  </a:lnTo>
                  <a:lnTo>
                    <a:pt x="12" y="137"/>
                  </a:lnTo>
                  <a:lnTo>
                    <a:pt x="9" y="125"/>
                  </a:lnTo>
                  <a:lnTo>
                    <a:pt x="7" y="115"/>
                  </a:lnTo>
                  <a:lnTo>
                    <a:pt x="7" y="106"/>
                  </a:lnTo>
                  <a:lnTo>
                    <a:pt x="6" y="96"/>
                  </a:lnTo>
                  <a:lnTo>
                    <a:pt x="4" y="87"/>
                  </a:lnTo>
                  <a:lnTo>
                    <a:pt x="4" y="74"/>
                  </a:lnTo>
                  <a:lnTo>
                    <a:pt x="6" y="59"/>
                  </a:lnTo>
                  <a:lnTo>
                    <a:pt x="9" y="46"/>
                  </a:lnTo>
                  <a:lnTo>
                    <a:pt x="15" y="32"/>
                  </a:lnTo>
                  <a:lnTo>
                    <a:pt x="22" y="24"/>
                  </a:lnTo>
                  <a:lnTo>
                    <a:pt x="32" y="18"/>
                  </a:lnTo>
                  <a:lnTo>
                    <a:pt x="43" y="18"/>
                  </a:lnTo>
                  <a:lnTo>
                    <a:pt x="55" y="24"/>
                  </a:lnTo>
                  <a:lnTo>
                    <a:pt x="63" y="31"/>
                  </a:lnTo>
                  <a:lnTo>
                    <a:pt x="71" y="41"/>
                  </a:lnTo>
                  <a:lnTo>
                    <a:pt x="78" y="52"/>
                  </a:lnTo>
                  <a:lnTo>
                    <a:pt x="84" y="62"/>
                  </a:lnTo>
                  <a:lnTo>
                    <a:pt x="89" y="74"/>
                  </a:lnTo>
                  <a:lnTo>
                    <a:pt x="93" y="85"/>
                  </a:lnTo>
                  <a:lnTo>
                    <a:pt x="97" y="97"/>
                  </a:lnTo>
                  <a:lnTo>
                    <a:pt x="100" y="109"/>
                  </a:lnTo>
                  <a:lnTo>
                    <a:pt x="111" y="139"/>
                  </a:lnTo>
                  <a:lnTo>
                    <a:pt x="120" y="170"/>
                  </a:lnTo>
                  <a:lnTo>
                    <a:pt x="128" y="199"/>
                  </a:lnTo>
                  <a:lnTo>
                    <a:pt x="137" y="229"/>
                  </a:lnTo>
                  <a:lnTo>
                    <a:pt x="145" y="260"/>
                  </a:lnTo>
                  <a:lnTo>
                    <a:pt x="152" y="289"/>
                  </a:lnTo>
                  <a:lnTo>
                    <a:pt x="159" y="320"/>
                  </a:lnTo>
                  <a:lnTo>
                    <a:pt x="165" y="351"/>
                  </a:lnTo>
                  <a:lnTo>
                    <a:pt x="173" y="391"/>
                  </a:lnTo>
                  <a:lnTo>
                    <a:pt x="179" y="431"/>
                  </a:lnTo>
                  <a:lnTo>
                    <a:pt x="184" y="472"/>
                  </a:lnTo>
                  <a:lnTo>
                    <a:pt x="190" y="512"/>
                  </a:lnTo>
                  <a:lnTo>
                    <a:pt x="195" y="552"/>
                  </a:lnTo>
                  <a:lnTo>
                    <a:pt x="201" y="593"/>
                  </a:lnTo>
                  <a:lnTo>
                    <a:pt x="208" y="633"/>
                  </a:lnTo>
                  <a:lnTo>
                    <a:pt x="215" y="673"/>
                  </a:lnTo>
                  <a:lnTo>
                    <a:pt x="218" y="689"/>
                  </a:lnTo>
                  <a:lnTo>
                    <a:pt x="221" y="711"/>
                  </a:lnTo>
                  <a:lnTo>
                    <a:pt x="226" y="736"/>
                  </a:lnTo>
                  <a:lnTo>
                    <a:pt x="233" y="760"/>
                  </a:lnTo>
                  <a:lnTo>
                    <a:pt x="242" y="783"/>
                  </a:lnTo>
                  <a:lnTo>
                    <a:pt x="255" y="800"/>
                  </a:lnTo>
                  <a:lnTo>
                    <a:pt x="270" y="811"/>
                  </a:lnTo>
                  <a:lnTo>
                    <a:pt x="291" y="811"/>
                  </a:lnTo>
                  <a:lnTo>
                    <a:pt x="304" y="806"/>
                  </a:lnTo>
                  <a:lnTo>
                    <a:pt x="313" y="795"/>
                  </a:lnTo>
                  <a:lnTo>
                    <a:pt x="322" y="780"/>
                  </a:lnTo>
                  <a:lnTo>
                    <a:pt x="329" y="764"/>
                  </a:lnTo>
                  <a:lnTo>
                    <a:pt x="333" y="746"/>
                  </a:lnTo>
                  <a:lnTo>
                    <a:pt x="338" y="729"/>
                  </a:lnTo>
                  <a:lnTo>
                    <a:pt x="341" y="713"/>
                  </a:lnTo>
                  <a:lnTo>
                    <a:pt x="344" y="701"/>
                  </a:lnTo>
                  <a:lnTo>
                    <a:pt x="347" y="689"/>
                  </a:lnTo>
                  <a:lnTo>
                    <a:pt x="351" y="674"/>
                  </a:lnTo>
                  <a:lnTo>
                    <a:pt x="356" y="656"/>
                  </a:lnTo>
                  <a:lnTo>
                    <a:pt x="363" y="640"/>
                  </a:lnTo>
                  <a:lnTo>
                    <a:pt x="370" y="624"/>
                  </a:lnTo>
                  <a:lnTo>
                    <a:pt x="381" y="614"/>
                  </a:lnTo>
                  <a:lnTo>
                    <a:pt x="392" y="611"/>
                  </a:lnTo>
                  <a:lnTo>
                    <a:pt x="406" y="615"/>
                  </a:lnTo>
                  <a:lnTo>
                    <a:pt x="416" y="624"/>
                  </a:lnTo>
                  <a:lnTo>
                    <a:pt x="426" y="637"/>
                  </a:lnTo>
                  <a:lnTo>
                    <a:pt x="435" y="651"/>
                  </a:lnTo>
                  <a:lnTo>
                    <a:pt x="443" y="665"/>
                  </a:lnTo>
                  <a:lnTo>
                    <a:pt x="450" y="682"/>
                  </a:lnTo>
                  <a:lnTo>
                    <a:pt x="456" y="698"/>
                  </a:lnTo>
                  <a:lnTo>
                    <a:pt x="462" y="713"/>
                  </a:lnTo>
                  <a:lnTo>
                    <a:pt x="466" y="726"/>
                  </a:lnTo>
                  <a:lnTo>
                    <a:pt x="468" y="727"/>
                  </a:lnTo>
                  <a:lnTo>
                    <a:pt x="471" y="727"/>
                  </a:lnTo>
                  <a:lnTo>
                    <a:pt x="474" y="724"/>
                  </a:lnTo>
                  <a:lnTo>
                    <a:pt x="474" y="721"/>
                  </a:lnTo>
                  <a:lnTo>
                    <a:pt x="469" y="707"/>
                  </a:lnTo>
                  <a:lnTo>
                    <a:pt x="463" y="687"/>
                  </a:lnTo>
                  <a:lnTo>
                    <a:pt x="456" y="667"/>
                  </a:lnTo>
                  <a:lnTo>
                    <a:pt x="447" y="646"/>
                  </a:lnTo>
                  <a:lnTo>
                    <a:pt x="438" y="627"/>
                  </a:lnTo>
                  <a:lnTo>
                    <a:pt x="426" y="611"/>
                  </a:lnTo>
                  <a:lnTo>
                    <a:pt x="413" y="599"/>
                  </a:lnTo>
                  <a:lnTo>
                    <a:pt x="397" y="595"/>
                  </a:lnTo>
                  <a:lnTo>
                    <a:pt x="382" y="597"/>
                  </a:lnTo>
                  <a:lnTo>
                    <a:pt x="369" y="605"/>
                  </a:lnTo>
                  <a:lnTo>
                    <a:pt x="357" y="618"/>
                  </a:lnTo>
                  <a:lnTo>
                    <a:pt x="347" y="634"/>
                  </a:lnTo>
                  <a:lnTo>
                    <a:pt x="339" y="652"/>
                  </a:lnTo>
                  <a:lnTo>
                    <a:pt x="333" y="670"/>
                  </a:lnTo>
                  <a:lnTo>
                    <a:pt x="328" y="686"/>
                  </a:lnTo>
                  <a:lnTo>
                    <a:pt x="323" y="699"/>
                  </a:lnTo>
                  <a:lnTo>
                    <a:pt x="319" y="714"/>
                  </a:lnTo>
                  <a:lnTo>
                    <a:pt x="314" y="729"/>
                  </a:lnTo>
                  <a:lnTo>
                    <a:pt x="308" y="744"/>
                  </a:lnTo>
                  <a:lnTo>
                    <a:pt x="301" y="757"/>
                  </a:lnTo>
                  <a:lnTo>
                    <a:pt x="291" y="757"/>
                  </a:lnTo>
                  <a:lnTo>
                    <a:pt x="282" y="736"/>
                  </a:lnTo>
                  <a:lnTo>
                    <a:pt x="274" y="713"/>
                  </a:lnTo>
                  <a:lnTo>
                    <a:pt x="271" y="699"/>
                  </a:lnTo>
                  <a:lnTo>
                    <a:pt x="258" y="643"/>
                  </a:lnTo>
                  <a:lnTo>
                    <a:pt x="248" y="587"/>
                  </a:lnTo>
                  <a:lnTo>
                    <a:pt x="239" y="531"/>
                  </a:lnTo>
                  <a:lnTo>
                    <a:pt x="232" y="474"/>
                  </a:lnTo>
                  <a:lnTo>
                    <a:pt x="229" y="454"/>
                  </a:lnTo>
                  <a:lnTo>
                    <a:pt x="224" y="434"/>
                  </a:lnTo>
                  <a:lnTo>
                    <a:pt x="220" y="413"/>
                  </a:lnTo>
                  <a:lnTo>
                    <a:pt x="212" y="394"/>
                  </a:lnTo>
                  <a:lnTo>
                    <a:pt x="207" y="373"/>
                  </a:lnTo>
                  <a:lnTo>
                    <a:pt x="199" y="353"/>
                  </a:lnTo>
                  <a:lnTo>
                    <a:pt x="193" y="333"/>
                  </a:lnTo>
                  <a:lnTo>
                    <a:pt x="187" y="314"/>
                  </a:lnTo>
                  <a:lnTo>
                    <a:pt x="181" y="294"/>
                  </a:lnTo>
                  <a:lnTo>
                    <a:pt x="176" y="273"/>
                  </a:lnTo>
                  <a:lnTo>
                    <a:pt x="170" y="254"/>
                  </a:lnTo>
                  <a:lnTo>
                    <a:pt x="164" y="233"/>
                  </a:lnTo>
                  <a:lnTo>
                    <a:pt x="156" y="214"/>
                  </a:lnTo>
                  <a:lnTo>
                    <a:pt x="149" y="193"/>
                  </a:lnTo>
                  <a:lnTo>
                    <a:pt x="142" y="174"/>
                  </a:lnTo>
                  <a:lnTo>
                    <a:pt x="134" y="155"/>
                  </a:lnTo>
                  <a:lnTo>
                    <a:pt x="127" y="136"/>
                  </a:lnTo>
                  <a:lnTo>
                    <a:pt x="118" y="115"/>
                  </a:lnTo>
                  <a:lnTo>
                    <a:pt x="111" y="94"/>
                  </a:lnTo>
                  <a:lnTo>
                    <a:pt x="102" y="74"/>
                  </a:lnTo>
                  <a:lnTo>
                    <a:pt x="91" y="54"/>
                  </a:lnTo>
                  <a:lnTo>
                    <a:pt x="80" y="35"/>
                  </a:lnTo>
                  <a:lnTo>
                    <a:pt x="65" y="19"/>
                  </a:lnTo>
                  <a:lnTo>
                    <a:pt x="50" y="4"/>
                  </a:lnTo>
                  <a:lnTo>
                    <a:pt x="41" y="0"/>
                  </a:lnTo>
                  <a:lnTo>
                    <a:pt x="32" y="1"/>
                  </a:lnTo>
                  <a:lnTo>
                    <a:pt x="25" y="6"/>
                  </a:lnTo>
                  <a:lnTo>
                    <a:pt x="18" y="13"/>
                  </a:lnTo>
                  <a:lnTo>
                    <a:pt x="12" y="22"/>
                  </a:lnTo>
                  <a:lnTo>
                    <a:pt x="7" y="32"/>
                  </a:lnTo>
                  <a:lnTo>
                    <a:pt x="4" y="43"/>
                  </a:lnTo>
                  <a:lnTo>
                    <a:pt x="3" y="50"/>
                  </a:lnTo>
                  <a:lnTo>
                    <a:pt x="0" y="87"/>
                  </a:lnTo>
                  <a:lnTo>
                    <a:pt x="1" y="125"/>
                  </a:lnTo>
                  <a:lnTo>
                    <a:pt x="7" y="165"/>
                  </a:lnTo>
                  <a:lnTo>
                    <a:pt x="15" y="204"/>
                  </a:lnTo>
                  <a:lnTo>
                    <a:pt x="24" y="243"/>
                  </a:lnTo>
                  <a:lnTo>
                    <a:pt x="34" y="282"/>
                  </a:lnTo>
                  <a:lnTo>
                    <a:pt x="44" y="319"/>
                  </a:lnTo>
                  <a:lnTo>
                    <a:pt x="53" y="355"/>
                  </a:lnTo>
                  <a:lnTo>
                    <a:pt x="74" y="465"/>
                  </a:lnTo>
                  <a:lnTo>
                    <a:pt x="86" y="574"/>
                  </a:lnTo>
                  <a:lnTo>
                    <a:pt x="89" y="686"/>
                  </a:lnTo>
                  <a:lnTo>
                    <a:pt x="84" y="803"/>
                  </a:lnTo>
                  <a:lnTo>
                    <a:pt x="84" y="803"/>
                  </a:lnTo>
                  <a:lnTo>
                    <a:pt x="86" y="803"/>
                  </a:lnTo>
                  <a:lnTo>
                    <a:pt x="86" y="803"/>
                  </a:lnTo>
                  <a:lnTo>
                    <a:pt x="86" y="801"/>
                  </a:lnTo>
                  <a:lnTo>
                    <a:pt x="86"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7124760" y="3429000"/>
              <a:ext cx="104760" cy="149400"/>
            </a:xfrm>
            <a:custGeom>
              <a:avLst/>
              <a:gdLst/>
              <a:ahLst/>
              <a:rect l="l" t="t" r="r" b="b"/>
              <a:pathLst>
                <a:path w="131" h="187">
                  <a:moveTo>
                    <a:pt x="131" y="0"/>
                  </a:moveTo>
                  <a:lnTo>
                    <a:pt x="115" y="3"/>
                  </a:lnTo>
                  <a:lnTo>
                    <a:pt x="100" y="7"/>
                  </a:lnTo>
                  <a:lnTo>
                    <a:pt x="85" y="13"/>
                  </a:lnTo>
                  <a:lnTo>
                    <a:pt x="72" y="19"/>
                  </a:lnTo>
                  <a:lnTo>
                    <a:pt x="60" y="28"/>
                  </a:lnTo>
                  <a:lnTo>
                    <a:pt x="48" y="37"/>
                  </a:lnTo>
                  <a:lnTo>
                    <a:pt x="38" y="49"/>
                  </a:lnTo>
                  <a:lnTo>
                    <a:pt x="28" y="62"/>
                  </a:lnTo>
                  <a:lnTo>
                    <a:pt x="17" y="78"/>
                  </a:lnTo>
                  <a:lnTo>
                    <a:pt x="7" y="94"/>
                  </a:lnTo>
                  <a:lnTo>
                    <a:pt x="1" y="112"/>
                  </a:lnTo>
                  <a:lnTo>
                    <a:pt x="0" y="131"/>
                  </a:lnTo>
                  <a:lnTo>
                    <a:pt x="3" y="148"/>
                  </a:lnTo>
                  <a:lnTo>
                    <a:pt x="11" y="161"/>
                  </a:lnTo>
                  <a:lnTo>
                    <a:pt x="20" y="174"/>
                  </a:lnTo>
                  <a:lnTo>
                    <a:pt x="32" y="186"/>
                  </a:lnTo>
                  <a:lnTo>
                    <a:pt x="36" y="187"/>
                  </a:lnTo>
                  <a:lnTo>
                    <a:pt x="42" y="184"/>
                  </a:lnTo>
                  <a:lnTo>
                    <a:pt x="45" y="179"/>
                  </a:lnTo>
                  <a:lnTo>
                    <a:pt x="44" y="174"/>
                  </a:lnTo>
                  <a:lnTo>
                    <a:pt x="38" y="164"/>
                  </a:lnTo>
                  <a:lnTo>
                    <a:pt x="32" y="155"/>
                  </a:lnTo>
                  <a:lnTo>
                    <a:pt x="28" y="145"/>
                  </a:lnTo>
                  <a:lnTo>
                    <a:pt x="23" y="133"/>
                  </a:lnTo>
                  <a:lnTo>
                    <a:pt x="23" y="117"/>
                  </a:lnTo>
                  <a:lnTo>
                    <a:pt x="29" y="99"/>
                  </a:lnTo>
                  <a:lnTo>
                    <a:pt x="36" y="83"/>
                  </a:lnTo>
                  <a:lnTo>
                    <a:pt x="44" y="68"/>
                  </a:lnTo>
                  <a:lnTo>
                    <a:pt x="51" y="55"/>
                  </a:lnTo>
                  <a:lnTo>
                    <a:pt x="59" y="44"/>
                  </a:lnTo>
                  <a:lnTo>
                    <a:pt x="69" y="34"/>
                  </a:lnTo>
                  <a:lnTo>
                    <a:pt x="81" y="25"/>
                  </a:lnTo>
                  <a:lnTo>
                    <a:pt x="92" y="18"/>
                  </a:lnTo>
                  <a:lnTo>
                    <a:pt x="104" y="12"/>
                  </a:lnTo>
                  <a:lnTo>
                    <a:pt x="118" y="6"/>
                  </a:lnTo>
                  <a:lnTo>
                    <a:pt x="131" y="2"/>
                  </a:lnTo>
                  <a:lnTo>
                    <a:pt x="131" y="2"/>
                  </a:lnTo>
                  <a:lnTo>
                    <a:pt x="131" y="0"/>
                  </a:lnTo>
                  <a:lnTo>
                    <a:pt x="131" y="0"/>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7143840" y="3559320"/>
              <a:ext cx="129960" cy="155520"/>
            </a:xfrm>
            <a:custGeom>
              <a:avLst/>
              <a:gdLst/>
              <a:ahLst/>
              <a:rect l="l" t="t" r="r" b="b"/>
              <a:pathLst>
                <a:path w="164" h="196">
                  <a:moveTo>
                    <a:pt x="0" y="0"/>
                  </a:moveTo>
                  <a:lnTo>
                    <a:pt x="8" y="15"/>
                  </a:lnTo>
                  <a:lnTo>
                    <a:pt x="15" y="29"/>
                  </a:lnTo>
                  <a:lnTo>
                    <a:pt x="22" y="44"/>
                  </a:lnTo>
                  <a:lnTo>
                    <a:pt x="30" y="57"/>
                  </a:lnTo>
                  <a:lnTo>
                    <a:pt x="37" y="72"/>
                  </a:lnTo>
                  <a:lnTo>
                    <a:pt x="46" y="85"/>
                  </a:lnTo>
                  <a:lnTo>
                    <a:pt x="55" y="99"/>
                  </a:lnTo>
                  <a:lnTo>
                    <a:pt x="65" y="112"/>
                  </a:lnTo>
                  <a:lnTo>
                    <a:pt x="72" y="121"/>
                  </a:lnTo>
                  <a:lnTo>
                    <a:pt x="81" y="130"/>
                  </a:lnTo>
                  <a:lnTo>
                    <a:pt x="90" y="139"/>
                  </a:lnTo>
                  <a:lnTo>
                    <a:pt x="99" y="147"/>
                  </a:lnTo>
                  <a:lnTo>
                    <a:pt x="108" y="159"/>
                  </a:lnTo>
                  <a:lnTo>
                    <a:pt x="115" y="171"/>
                  </a:lnTo>
                  <a:lnTo>
                    <a:pt x="123" y="183"/>
                  </a:lnTo>
                  <a:lnTo>
                    <a:pt x="133" y="193"/>
                  </a:lnTo>
                  <a:lnTo>
                    <a:pt x="145" y="196"/>
                  </a:lnTo>
                  <a:lnTo>
                    <a:pt x="155" y="190"/>
                  </a:lnTo>
                  <a:lnTo>
                    <a:pt x="162" y="180"/>
                  </a:lnTo>
                  <a:lnTo>
                    <a:pt x="164" y="170"/>
                  </a:lnTo>
                  <a:lnTo>
                    <a:pt x="161" y="158"/>
                  </a:lnTo>
                  <a:lnTo>
                    <a:pt x="155" y="149"/>
                  </a:lnTo>
                  <a:lnTo>
                    <a:pt x="149" y="140"/>
                  </a:lnTo>
                  <a:lnTo>
                    <a:pt x="140" y="133"/>
                  </a:lnTo>
                  <a:lnTo>
                    <a:pt x="131" y="125"/>
                  </a:lnTo>
                  <a:lnTo>
                    <a:pt x="121" y="118"/>
                  </a:lnTo>
                  <a:lnTo>
                    <a:pt x="112" y="112"/>
                  </a:lnTo>
                  <a:lnTo>
                    <a:pt x="103" y="105"/>
                  </a:lnTo>
                  <a:lnTo>
                    <a:pt x="89" y="93"/>
                  </a:lnTo>
                  <a:lnTo>
                    <a:pt x="75" y="81"/>
                  </a:lnTo>
                  <a:lnTo>
                    <a:pt x="62" y="68"/>
                  </a:lnTo>
                  <a:lnTo>
                    <a:pt x="50" y="56"/>
                  </a:lnTo>
                  <a:lnTo>
                    <a:pt x="37" y="43"/>
                  </a:lnTo>
                  <a:lnTo>
                    <a:pt x="25" y="29"/>
                  </a:lnTo>
                  <a:lnTo>
                    <a:pt x="13" y="15"/>
                  </a:lnTo>
                  <a:lnTo>
                    <a:pt x="2" y="0"/>
                  </a:lnTo>
                  <a:lnTo>
                    <a:pt x="2" y="0"/>
                  </a:lnTo>
                  <a:lnTo>
                    <a:pt x="2"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7254720" y="3537000"/>
              <a:ext cx="127080" cy="218880"/>
            </a:xfrm>
            <a:custGeom>
              <a:avLst/>
              <a:gdLst/>
              <a:ahLst/>
              <a:rect l="l" t="t" r="r" b="b"/>
              <a:pathLst>
                <a:path w="160" h="276">
                  <a:moveTo>
                    <a:pt x="3" y="276"/>
                  </a:moveTo>
                  <a:lnTo>
                    <a:pt x="6" y="254"/>
                  </a:lnTo>
                  <a:lnTo>
                    <a:pt x="11" y="233"/>
                  </a:lnTo>
                  <a:lnTo>
                    <a:pt x="14" y="212"/>
                  </a:lnTo>
                  <a:lnTo>
                    <a:pt x="18" y="192"/>
                  </a:lnTo>
                  <a:lnTo>
                    <a:pt x="24" y="171"/>
                  </a:lnTo>
                  <a:lnTo>
                    <a:pt x="30" y="152"/>
                  </a:lnTo>
                  <a:lnTo>
                    <a:pt x="39" y="131"/>
                  </a:lnTo>
                  <a:lnTo>
                    <a:pt x="48" y="112"/>
                  </a:lnTo>
                  <a:lnTo>
                    <a:pt x="53" y="102"/>
                  </a:lnTo>
                  <a:lnTo>
                    <a:pt x="62" y="91"/>
                  </a:lnTo>
                  <a:lnTo>
                    <a:pt x="73" y="81"/>
                  </a:lnTo>
                  <a:lnTo>
                    <a:pt x="84" y="71"/>
                  </a:lnTo>
                  <a:lnTo>
                    <a:pt x="96" y="63"/>
                  </a:lnTo>
                  <a:lnTo>
                    <a:pt x="108" y="59"/>
                  </a:lnTo>
                  <a:lnTo>
                    <a:pt x="121" y="57"/>
                  </a:lnTo>
                  <a:lnTo>
                    <a:pt x="133" y="60"/>
                  </a:lnTo>
                  <a:lnTo>
                    <a:pt x="143" y="62"/>
                  </a:lnTo>
                  <a:lnTo>
                    <a:pt x="152" y="54"/>
                  </a:lnTo>
                  <a:lnTo>
                    <a:pt x="158" y="44"/>
                  </a:lnTo>
                  <a:lnTo>
                    <a:pt x="160" y="34"/>
                  </a:lnTo>
                  <a:lnTo>
                    <a:pt x="149" y="13"/>
                  </a:lnTo>
                  <a:lnTo>
                    <a:pt x="138" y="1"/>
                  </a:lnTo>
                  <a:lnTo>
                    <a:pt x="121" y="0"/>
                  </a:lnTo>
                  <a:lnTo>
                    <a:pt x="105" y="3"/>
                  </a:lnTo>
                  <a:lnTo>
                    <a:pt x="89" y="13"/>
                  </a:lnTo>
                  <a:lnTo>
                    <a:pt x="73" y="25"/>
                  </a:lnTo>
                  <a:lnTo>
                    <a:pt x="58" y="40"/>
                  </a:lnTo>
                  <a:lnTo>
                    <a:pt x="46" y="53"/>
                  </a:lnTo>
                  <a:lnTo>
                    <a:pt x="30" y="78"/>
                  </a:lnTo>
                  <a:lnTo>
                    <a:pt x="18" y="105"/>
                  </a:lnTo>
                  <a:lnTo>
                    <a:pt x="9" y="131"/>
                  </a:lnTo>
                  <a:lnTo>
                    <a:pt x="5" y="159"/>
                  </a:lnTo>
                  <a:lnTo>
                    <a:pt x="2" y="189"/>
                  </a:lnTo>
                  <a:lnTo>
                    <a:pt x="0" y="218"/>
                  </a:lnTo>
                  <a:lnTo>
                    <a:pt x="0" y="246"/>
                  </a:lnTo>
                  <a:lnTo>
                    <a:pt x="2" y="276"/>
                  </a:lnTo>
                  <a:lnTo>
                    <a:pt x="2" y="276"/>
                  </a:lnTo>
                  <a:lnTo>
                    <a:pt x="3" y="276"/>
                  </a:lnTo>
                  <a:lnTo>
                    <a:pt x="3" y="276"/>
                  </a:lnTo>
                  <a:lnTo>
                    <a:pt x="3" y="276"/>
                  </a:lnTo>
                  <a:lnTo>
                    <a:pt x="3"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7229520" y="3417840"/>
              <a:ext cx="179280" cy="138240"/>
            </a:xfrm>
            <a:custGeom>
              <a:avLst/>
              <a:gdLst/>
              <a:ahLst/>
              <a:rect l="l" t="t" r="r" b="b"/>
              <a:pathLst>
                <a:path w="226" h="174">
                  <a:moveTo>
                    <a:pt x="0" y="1"/>
                  </a:moveTo>
                  <a:lnTo>
                    <a:pt x="31" y="17"/>
                  </a:lnTo>
                  <a:lnTo>
                    <a:pt x="60" y="35"/>
                  </a:lnTo>
                  <a:lnTo>
                    <a:pt x="87" y="56"/>
                  </a:lnTo>
                  <a:lnTo>
                    <a:pt x="113" y="76"/>
                  </a:lnTo>
                  <a:lnTo>
                    <a:pt x="140" y="99"/>
                  </a:lnTo>
                  <a:lnTo>
                    <a:pt x="164" y="122"/>
                  </a:lnTo>
                  <a:lnTo>
                    <a:pt x="189" y="147"/>
                  </a:lnTo>
                  <a:lnTo>
                    <a:pt x="212" y="172"/>
                  </a:lnTo>
                  <a:lnTo>
                    <a:pt x="217" y="174"/>
                  </a:lnTo>
                  <a:lnTo>
                    <a:pt x="223" y="171"/>
                  </a:lnTo>
                  <a:lnTo>
                    <a:pt x="226" y="165"/>
                  </a:lnTo>
                  <a:lnTo>
                    <a:pt x="224" y="161"/>
                  </a:lnTo>
                  <a:lnTo>
                    <a:pt x="203" y="133"/>
                  </a:lnTo>
                  <a:lnTo>
                    <a:pt x="181" y="106"/>
                  </a:lnTo>
                  <a:lnTo>
                    <a:pt x="155" y="82"/>
                  </a:lnTo>
                  <a:lnTo>
                    <a:pt x="127" y="60"/>
                  </a:lnTo>
                  <a:lnTo>
                    <a:pt x="97" y="43"/>
                  </a:lnTo>
                  <a:lnTo>
                    <a:pt x="65" y="25"/>
                  </a:lnTo>
                  <a:lnTo>
                    <a:pt x="32" y="12"/>
                  </a:lnTo>
                  <a:lnTo>
                    <a:pt x="0" y="0"/>
                  </a:lnTo>
                  <a:lnTo>
                    <a:pt x="0" y="0"/>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7199280" y="3576600"/>
              <a:ext cx="901800" cy="1060560"/>
            </a:xfrm>
            <a:custGeom>
              <a:avLst/>
              <a:gdLst/>
              <a:ahLst/>
              <a:rect l="l" t="t" r="r" b="b"/>
              <a:pathLst>
                <a:path w="1138" h="1337">
                  <a:moveTo>
                    <a:pt x="0" y="1"/>
                  </a:moveTo>
                  <a:lnTo>
                    <a:pt x="26" y="52"/>
                  </a:lnTo>
                  <a:lnTo>
                    <a:pt x="52" y="102"/>
                  </a:lnTo>
                  <a:lnTo>
                    <a:pt x="82" y="149"/>
                  </a:lnTo>
                  <a:lnTo>
                    <a:pt x="113" y="198"/>
                  </a:lnTo>
                  <a:lnTo>
                    <a:pt x="144" y="245"/>
                  </a:lnTo>
                  <a:lnTo>
                    <a:pt x="175" y="294"/>
                  </a:lnTo>
                  <a:lnTo>
                    <a:pt x="204" y="341"/>
                  </a:lnTo>
                  <a:lnTo>
                    <a:pt x="234" y="389"/>
                  </a:lnTo>
                  <a:lnTo>
                    <a:pt x="254" y="425"/>
                  </a:lnTo>
                  <a:lnTo>
                    <a:pt x="275" y="460"/>
                  </a:lnTo>
                  <a:lnTo>
                    <a:pt x="296" y="497"/>
                  </a:lnTo>
                  <a:lnTo>
                    <a:pt x="316" y="533"/>
                  </a:lnTo>
                  <a:lnTo>
                    <a:pt x="335" y="568"/>
                  </a:lnTo>
                  <a:lnTo>
                    <a:pt x="356" y="603"/>
                  </a:lnTo>
                  <a:lnTo>
                    <a:pt x="377" y="639"/>
                  </a:lnTo>
                  <a:lnTo>
                    <a:pt x="397" y="674"/>
                  </a:lnTo>
                  <a:lnTo>
                    <a:pt x="418" y="710"/>
                  </a:lnTo>
                  <a:lnTo>
                    <a:pt x="440" y="745"/>
                  </a:lnTo>
                  <a:lnTo>
                    <a:pt x="461" y="779"/>
                  </a:lnTo>
                  <a:lnTo>
                    <a:pt x="483" y="814"/>
                  </a:lnTo>
                  <a:lnTo>
                    <a:pt x="505" y="848"/>
                  </a:lnTo>
                  <a:lnTo>
                    <a:pt x="529" y="882"/>
                  </a:lnTo>
                  <a:lnTo>
                    <a:pt x="552" y="916"/>
                  </a:lnTo>
                  <a:lnTo>
                    <a:pt x="576" y="950"/>
                  </a:lnTo>
                  <a:lnTo>
                    <a:pt x="592" y="971"/>
                  </a:lnTo>
                  <a:lnTo>
                    <a:pt x="608" y="993"/>
                  </a:lnTo>
                  <a:lnTo>
                    <a:pt x="626" y="1015"/>
                  </a:lnTo>
                  <a:lnTo>
                    <a:pt x="644" y="1036"/>
                  </a:lnTo>
                  <a:lnTo>
                    <a:pt x="661" y="1058"/>
                  </a:lnTo>
                  <a:lnTo>
                    <a:pt x="679" y="1079"/>
                  </a:lnTo>
                  <a:lnTo>
                    <a:pt x="698" y="1099"/>
                  </a:lnTo>
                  <a:lnTo>
                    <a:pt x="717" y="1120"/>
                  </a:lnTo>
                  <a:lnTo>
                    <a:pt x="738" y="1140"/>
                  </a:lnTo>
                  <a:lnTo>
                    <a:pt x="757" y="1161"/>
                  </a:lnTo>
                  <a:lnTo>
                    <a:pt x="778" y="1180"/>
                  </a:lnTo>
                  <a:lnTo>
                    <a:pt x="799" y="1200"/>
                  </a:lnTo>
                  <a:lnTo>
                    <a:pt x="819" y="1217"/>
                  </a:lnTo>
                  <a:lnTo>
                    <a:pt x="841" y="1235"/>
                  </a:lnTo>
                  <a:lnTo>
                    <a:pt x="862" y="1251"/>
                  </a:lnTo>
                  <a:lnTo>
                    <a:pt x="884" y="1267"/>
                  </a:lnTo>
                  <a:lnTo>
                    <a:pt x="900" y="1278"/>
                  </a:lnTo>
                  <a:lnTo>
                    <a:pt x="918" y="1290"/>
                  </a:lnTo>
                  <a:lnTo>
                    <a:pt x="939" y="1301"/>
                  </a:lnTo>
                  <a:lnTo>
                    <a:pt x="959" y="1312"/>
                  </a:lnTo>
                  <a:lnTo>
                    <a:pt x="982" y="1322"/>
                  </a:lnTo>
                  <a:lnTo>
                    <a:pt x="1004" y="1329"/>
                  </a:lnTo>
                  <a:lnTo>
                    <a:pt x="1026" y="1334"/>
                  </a:lnTo>
                  <a:lnTo>
                    <a:pt x="1048" y="1337"/>
                  </a:lnTo>
                  <a:lnTo>
                    <a:pt x="1061" y="1337"/>
                  </a:lnTo>
                  <a:lnTo>
                    <a:pt x="1074" y="1335"/>
                  </a:lnTo>
                  <a:lnTo>
                    <a:pt x="1086" y="1331"/>
                  </a:lnTo>
                  <a:lnTo>
                    <a:pt x="1098" y="1326"/>
                  </a:lnTo>
                  <a:lnTo>
                    <a:pt x="1108" y="1319"/>
                  </a:lnTo>
                  <a:lnTo>
                    <a:pt x="1119" y="1310"/>
                  </a:lnTo>
                  <a:lnTo>
                    <a:pt x="1128" y="1298"/>
                  </a:lnTo>
                  <a:lnTo>
                    <a:pt x="1136" y="1285"/>
                  </a:lnTo>
                  <a:lnTo>
                    <a:pt x="1138" y="1273"/>
                  </a:lnTo>
                  <a:lnTo>
                    <a:pt x="1134" y="1263"/>
                  </a:lnTo>
                  <a:lnTo>
                    <a:pt x="1125" y="1260"/>
                  </a:lnTo>
                  <a:lnTo>
                    <a:pt x="1113" y="1264"/>
                  </a:lnTo>
                  <a:lnTo>
                    <a:pt x="1097" y="1269"/>
                  </a:lnTo>
                  <a:lnTo>
                    <a:pt x="1073" y="1261"/>
                  </a:lnTo>
                  <a:lnTo>
                    <a:pt x="1044" y="1242"/>
                  </a:lnTo>
                  <a:lnTo>
                    <a:pt x="1010" y="1214"/>
                  </a:lnTo>
                  <a:lnTo>
                    <a:pt x="971" y="1177"/>
                  </a:lnTo>
                  <a:lnTo>
                    <a:pt x="931" y="1135"/>
                  </a:lnTo>
                  <a:lnTo>
                    <a:pt x="889" y="1087"/>
                  </a:lnTo>
                  <a:lnTo>
                    <a:pt x="846" y="1037"/>
                  </a:lnTo>
                  <a:lnTo>
                    <a:pt x="805" y="986"/>
                  </a:lnTo>
                  <a:lnTo>
                    <a:pt x="763" y="935"/>
                  </a:lnTo>
                  <a:lnTo>
                    <a:pt x="725" y="885"/>
                  </a:lnTo>
                  <a:lnTo>
                    <a:pt x="691" y="841"/>
                  </a:lnTo>
                  <a:lnTo>
                    <a:pt x="660" y="801"/>
                  </a:lnTo>
                  <a:lnTo>
                    <a:pt x="636" y="769"/>
                  </a:lnTo>
                  <a:lnTo>
                    <a:pt x="619" y="744"/>
                  </a:lnTo>
                  <a:lnTo>
                    <a:pt x="608" y="730"/>
                  </a:lnTo>
                  <a:lnTo>
                    <a:pt x="588" y="705"/>
                  </a:lnTo>
                  <a:lnTo>
                    <a:pt x="568" y="679"/>
                  </a:lnTo>
                  <a:lnTo>
                    <a:pt x="548" y="654"/>
                  </a:lnTo>
                  <a:lnTo>
                    <a:pt x="527" y="629"/>
                  </a:lnTo>
                  <a:lnTo>
                    <a:pt x="507" y="602"/>
                  </a:lnTo>
                  <a:lnTo>
                    <a:pt x="486" y="577"/>
                  </a:lnTo>
                  <a:lnTo>
                    <a:pt x="465" y="552"/>
                  </a:lnTo>
                  <a:lnTo>
                    <a:pt x="445" y="527"/>
                  </a:lnTo>
                  <a:lnTo>
                    <a:pt x="424" y="502"/>
                  </a:lnTo>
                  <a:lnTo>
                    <a:pt x="403" y="477"/>
                  </a:lnTo>
                  <a:lnTo>
                    <a:pt x="381" y="451"/>
                  </a:lnTo>
                  <a:lnTo>
                    <a:pt x="360" y="426"/>
                  </a:lnTo>
                  <a:lnTo>
                    <a:pt x="340" y="401"/>
                  </a:lnTo>
                  <a:lnTo>
                    <a:pt x="318" y="376"/>
                  </a:lnTo>
                  <a:lnTo>
                    <a:pt x="297" y="353"/>
                  </a:lnTo>
                  <a:lnTo>
                    <a:pt x="275" y="328"/>
                  </a:lnTo>
                  <a:lnTo>
                    <a:pt x="257" y="307"/>
                  </a:lnTo>
                  <a:lnTo>
                    <a:pt x="239" y="288"/>
                  </a:lnTo>
                  <a:lnTo>
                    <a:pt x="222" y="268"/>
                  </a:lnTo>
                  <a:lnTo>
                    <a:pt x="203" y="248"/>
                  </a:lnTo>
                  <a:lnTo>
                    <a:pt x="185" y="229"/>
                  </a:lnTo>
                  <a:lnTo>
                    <a:pt x="166" y="209"/>
                  </a:lnTo>
                  <a:lnTo>
                    <a:pt x="148" y="190"/>
                  </a:lnTo>
                  <a:lnTo>
                    <a:pt x="130" y="170"/>
                  </a:lnTo>
                  <a:lnTo>
                    <a:pt x="113" y="150"/>
                  </a:lnTo>
                  <a:lnTo>
                    <a:pt x="95" y="130"/>
                  </a:lnTo>
                  <a:lnTo>
                    <a:pt x="77" y="109"/>
                  </a:lnTo>
                  <a:lnTo>
                    <a:pt x="61" y="88"/>
                  </a:lnTo>
                  <a:lnTo>
                    <a:pt x="45" y="66"/>
                  </a:lnTo>
                  <a:lnTo>
                    <a:pt x="30" y="46"/>
                  </a:lnTo>
                  <a:lnTo>
                    <a:pt x="15" y="24"/>
                  </a:lnTo>
                  <a:lnTo>
                    <a:pt x="2" y="0"/>
                  </a:lnTo>
                  <a:lnTo>
                    <a:pt x="0" y="0"/>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7319880" y="3514680"/>
              <a:ext cx="892080" cy="943200"/>
            </a:xfrm>
            <a:custGeom>
              <a:avLst/>
              <a:gdLst/>
              <a:ahLst/>
              <a:rect l="l" t="t" r="r" b="b"/>
              <a:pathLst>
                <a:path w="1125" h="1188">
                  <a:moveTo>
                    <a:pt x="0" y="1"/>
                  </a:moveTo>
                  <a:lnTo>
                    <a:pt x="12" y="20"/>
                  </a:lnTo>
                  <a:lnTo>
                    <a:pt x="26" y="40"/>
                  </a:lnTo>
                  <a:lnTo>
                    <a:pt x="39" y="57"/>
                  </a:lnTo>
                  <a:lnTo>
                    <a:pt x="54" y="76"/>
                  </a:lnTo>
                  <a:lnTo>
                    <a:pt x="67" y="94"/>
                  </a:lnTo>
                  <a:lnTo>
                    <a:pt x="82" y="112"/>
                  </a:lnTo>
                  <a:lnTo>
                    <a:pt x="98" y="130"/>
                  </a:lnTo>
                  <a:lnTo>
                    <a:pt x="113" y="146"/>
                  </a:lnTo>
                  <a:lnTo>
                    <a:pt x="127" y="164"/>
                  </a:lnTo>
                  <a:lnTo>
                    <a:pt x="144" y="180"/>
                  </a:lnTo>
                  <a:lnTo>
                    <a:pt x="160" y="197"/>
                  </a:lnTo>
                  <a:lnTo>
                    <a:pt x="176" y="214"/>
                  </a:lnTo>
                  <a:lnTo>
                    <a:pt x="192" y="230"/>
                  </a:lnTo>
                  <a:lnTo>
                    <a:pt x="208" y="246"/>
                  </a:lnTo>
                  <a:lnTo>
                    <a:pt x="225" y="262"/>
                  </a:lnTo>
                  <a:lnTo>
                    <a:pt x="241" y="279"/>
                  </a:lnTo>
                  <a:lnTo>
                    <a:pt x="260" y="298"/>
                  </a:lnTo>
                  <a:lnTo>
                    <a:pt x="279" y="317"/>
                  </a:lnTo>
                  <a:lnTo>
                    <a:pt x="298" y="336"/>
                  </a:lnTo>
                  <a:lnTo>
                    <a:pt x="318" y="355"/>
                  </a:lnTo>
                  <a:lnTo>
                    <a:pt x="337" y="373"/>
                  </a:lnTo>
                  <a:lnTo>
                    <a:pt x="356" y="392"/>
                  </a:lnTo>
                  <a:lnTo>
                    <a:pt x="375" y="411"/>
                  </a:lnTo>
                  <a:lnTo>
                    <a:pt x="394" y="431"/>
                  </a:lnTo>
                  <a:lnTo>
                    <a:pt x="414" y="448"/>
                  </a:lnTo>
                  <a:lnTo>
                    <a:pt x="434" y="467"/>
                  </a:lnTo>
                  <a:lnTo>
                    <a:pt x="453" y="487"/>
                  </a:lnTo>
                  <a:lnTo>
                    <a:pt x="473" y="506"/>
                  </a:lnTo>
                  <a:lnTo>
                    <a:pt x="492" y="524"/>
                  </a:lnTo>
                  <a:lnTo>
                    <a:pt x="511" y="543"/>
                  </a:lnTo>
                  <a:lnTo>
                    <a:pt x="532" y="560"/>
                  </a:lnTo>
                  <a:lnTo>
                    <a:pt x="551" y="580"/>
                  </a:lnTo>
                  <a:lnTo>
                    <a:pt x="570" y="599"/>
                  </a:lnTo>
                  <a:lnTo>
                    <a:pt x="591" y="618"/>
                  </a:lnTo>
                  <a:lnTo>
                    <a:pt x="610" y="636"/>
                  </a:lnTo>
                  <a:lnTo>
                    <a:pt x="629" y="655"/>
                  </a:lnTo>
                  <a:lnTo>
                    <a:pt x="650" y="674"/>
                  </a:lnTo>
                  <a:lnTo>
                    <a:pt x="669" y="693"/>
                  </a:lnTo>
                  <a:lnTo>
                    <a:pt x="688" y="712"/>
                  </a:lnTo>
                  <a:lnTo>
                    <a:pt x="709" y="730"/>
                  </a:lnTo>
                  <a:lnTo>
                    <a:pt x="728" y="749"/>
                  </a:lnTo>
                  <a:lnTo>
                    <a:pt x="747" y="768"/>
                  </a:lnTo>
                  <a:lnTo>
                    <a:pt x="766" y="788"/>
                  </a:lnTo>
                  <a:lnTo>
                    <a:pt x="787" y="805"/>
                  </a:lnTo>
                  <a:lnTo>
                    <a:pt x="806" y="825"/>
                  </a:lnTo>
                  <a:lnTo>
                    <a:pt x="825" y="844"/>
                  </a:lnTo>
                  <a:lnTo>
                    <a:pt x="846" y="861"/>
                  </a:lnTo>
                  <a:lnTo>
                    <a:pt x="865" y="881"/>
                  </a:lnTo>
                  <a:lnTo>
                    <a:pt x="883" y="898"/>
                  </a:lnTo>
                  <a:lnTo>
                    <a:pt x="900" y="915"/>
                  </a:lnTo>
                  <a:lnTo>
                    <a:pt x="917" y="932"/>
                  </a:lnTo>
                  <a:lnTo>
                    <a:pt x="934" y="950"/>
                  </a:lnTo>
                  <a:lnTo>
                    <a:pt x="951" y="968"/>
                  </a:lnTo>
                  <a:lnTo>
                    <a:pt x="967" y="985"/>
                  </a:lnTo>
                  <a:lnTo>
                    <a:pt x="983" y="1005"/>
                  </a:lnTo>
                  <a:lnTo>
                    <a:pt x="999" y="1022"/>
                  </a:lnTo>
                  <a:lnTo>
                    <a:pt x="1014" y="1040"/>
                  </a:lnTo>
                  <a:lnTo>
                    <a:pt x="1030" y="1058"/>
                  </a:lnTo>
                  <a:lnTo>
                    <a:pt x="1045" y="1077"/>
                  </a:lnTo>
                  <a:lnTo>
                    <a:pt x="1061" y="1096"/>
                  </a:lnTo>
                  <a:lnTo>
                    <a:pt x="1074" y="1117"/>
                  </a:lnTo>
                  <a:lnTo>
                    <a:pt x="1086" y="1137"/>
                  </a:lnTo>
                  <a:lnTo>
                    <a:pt x="1097" y="1159"/>
                  </a:lnTo>
                  <a:lnTo>
                    <a:pt x="1102" y="1182"/>
                  </a:lnTo>
                  <a:lnTo>
                    <a:pt x="1107" y="1188"/>
                  </a:lnTo>
                  <a:lnTo>
                    <a:pt x="1114" y="1186"/>
                  </a:lnTo>
                  <a:lnTo>
                    <a:pt x="1122" y="1182"/>
                  </a:lnTo>
                  <a:lnTo>
                    <a:pt x="1125" y="1174"/>
                  </a:lnTo>
                  <a:lnTo>
                    <a:pt x="1123" y="1139"/>
                  </a:lnTo>
                  <a:lnTo>
                    <a:pt x="1116" y="1103"/>
                  </a:lnTo>
                  <a:lnTo>
                    <a:pt x="1102" y="1069"/>
                  </a:lnTo>
                  <a:lnTo>
                    <a:pt x="1086" y="1038"/>
                  </a:lnTo>
                  <a:lnTo>
                    <a:pt x="1066" y="1007"/>
                  </a:lnTo>
                  <a:lnTo>
                    <a:pt x="1043" y="978"/>
                  </a:lnTo>
                  <a:lnTo>
                    <a:pt x="1020" y="950"/>
                  </a:lnTo>
                  <a:lnTo>
                    <a:pt x="995" y="925"/>
                  </a:lnTo>
                  <a:lnTo>
                    <a:pt x="974" y="904"/>
                  </a:lnTo>
                  <a:lnTo>
                    <a:pt x="953" y="884"/>
                  </a:lnTo>
                  <a:lnTo>
                    <a:pt x="933" y="863"/>
                  </a:lnTo>
                  <a:lnTo>
                    <a:pt x="912" y="844"/>
                  </a:lnTo>
                  <a:lnTo>
                    <a:pt x="892" y="823"/>
                  </a:lnTo>
                  <a:lnTo>
                    <a:pt x="869" y="804"/>
                  </a:lnTo>
                  <a:lnTo>
                    <a:pt x="849" y="783"/>
                  </a:lnTo>
                  <a:lnTo>
                    <a:pt x="828" y="764"/>
                  </a:lnTo>
                  <a:lnTo>
                    <a:pt x="806" y="745"/>
                  </a:lnTo>
                  <a:lnTo>
                    <a:pt x="785" y="724"/>
                  </a:lnTo>
                  <a:lnTo>
                    <a:pt x="765" y="705"/>
                  </a:lnTo>
                  <a:lnTo>
                    <a:pt x="743" y="686"/>
                  </a:lnTo>
                  <a:lnTo>
                    <a:pt x="722" y="665"/>
                  </a:lnTo>
                  <a:lnTo>
                    <a:pt x="701" y="646"/>
                  </a:lnTo>
                  <a:lnTo>
                    <a:pt x="679" y="625"/>
                  </a:lnTo>
                  <a:lnTo>
                    <a:pt x="658" y="606"/>
                  </a:lnTo>
                  <a:lnTo>
                    <a:pt x="639" y="588"/>
                  </a:lnTo>
                  <a:lnTo>
                    <a:pt x="619" y="569"/>
                  </a:lnTo>
                  <a:lnTo>
                    <a:pt x="599" y="552"/>
                  </a:lnTo>
                  <a:lnTo>
                    <a:pt x="580" y="534"/>
                  </a:lnTo>
                  <a:lnTo>
                    <a:pt x="560" y="515"/>
                  </a:lnTo>
                  <a:lnTo>
                    <a:pt x="540" y="497"/>
                  </a:lnTo>
                  <a:lnTo>
                    <a:pt x="520" y="479"/>
                  </a:lnTo>
                  <a:lnTo>
                    <a:pt x="501" y="460"/>
                  </a:lnTo>
                  <a:lnTo>
                    <a:pt x="480" y="442"/>
                  </a:lnTo>
                  <a:lnTo>
                    <a:pt x="459" y="425"/>
                  </a:lnTo>
                  <a:lnTo>
                    <a:pt x="439" y="407"/>
                  </a:lnTo>
                  <a:lnTo>
                    <a:pt x="419" y="389"/>
                  </a:lnTo>
                  <a:lnTo>
                    <a:pt x="399" y="372"/>
                  </a:lnTo>
                  <a:lnTo>
                    <a:pt x="378" y="354"/>
                  </a:lnTo>
                  <a:lnTo>
                    <a:pt x="357" y="336"/>
                  </a:lnTo>
                  <a:lnTo>
                    <a:pt x="337" y="318"/>
                  </a:lnTo>
                  <a:lnTo>
                    <a:pt x="315" y="299"/>
                  </a:lnTo>
                  <a:lnTo>
                    <a:pt x="293" y="282"/>
                  </a:lnTo>
                  <a:lnTo>
                    <a:pt x="270" y="262"/>
                  </a:lnTo>
                  <a:lnTo>
                    <a:pt x="248" y="245"/>
                  </a:lnTo>
                  <a:lnTo>
                    <a:pt x="226" y="226"/>
                  </a:lnTo>
                  <a:lnTo>
                    <a:pt x="204" y="206"/>
                  </a:lnTo>
                  <a:lnTo>
                    <a:pt x="182" y="187"/>
                  </a:lnTo>
                  <a:lnTo>
                    <a:pt x="160" y="168"/>
                  </a:lnTo>
                  <a:lnTo>
                    <a:pt x="139" y="149"/>
                  </a:lnTo>
                  <a:lnTo>
                    <a:pt x="117" y="130"/>
                  </a:lnTo>
                  <a:lnTo>
                    <a:pt x="96" y="109"/>
                  </a:lnTo>
                  <a:lnTo>
                    <a:pt x="77" y="88"/>
                  </a:lnTo>
                  <a:lnTo>
                    <a:pt x="57" y="66"/>
                  </a:lnTo>
                  <a:lnTo>
                    <a:pt x="37" y="45"/>
                  </a:lnTo>
                  <a:lnTo>
                    <a:pt x="20" y="23"/>
                  </a:lnTo>
                  <a:lnTo>
                    <a:pt x="2" y="0"/>
                  </a:lnTo>
                  <a:lnTo>
                    <a:pt x="2" y="0"/>
                  </a:lnTo>
                  <a:lnTo>
                    <a:pt x="2" y="0"/>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7175520" y="3511440"/>
              <a:ext cx="122040" cy="125640"/>
            </a:xfrm>
            <a:custGeom>
              <a:avLst/>
              <a:gdLst/>
              <a:ahLst/>
              <a:rect l="l" t="t" r="r" b="b"/>
              <a:pathLst>
                <a:path w="155" h="158">
                  <a:moveTo>
                    <a:pt x="0" y="0"/>
                  </a:moveTo>
                  <a:lnTo>
                    <a:pt x="9" y="23"/>
                  </a:lnTo>
                  <a:lnTo>
                    <a:pt x="21" y="48"/>
                  </a:lnTo>
                  <a:lnTo>
                    <a:pt x="37" y="74"/>
                  </a:lnTo>
                  <a:lnTo>
                    <a:pt x="55" y="96"/>
                  </a:lnTo>
                  <a:lnTo>
                    <a:pt x="75" y="118"/>
                  </a:lnTo>
                  <a:lnTo>
                    <a:pt x="99" y="136"/>
                  </a:lnTo>
                  <a:lnTo>
                    <a:pt x="122" y="149"/>
                  </a:lnTo>
                  <a:lnTo>
                    <a:pt x="146" y="158"/>
                  </a:lnTo>
                  <a:lnTo>
                    <a:pt x="150" y="158"/>
                  </a:lnTo>
                  <a:lnTo>
                    <a:pt x="153" y="153"/>
                  </a:lnTo>
                  <a:lnTo>
                    <a:pt x="155" y="150"/>
                  </a:lnTo>
                  <a:lnTo>
                    <a:pt x="152" y="146"/>
                  </a:lnTo>
                  <a:lnTo>
                    <a:pt x="140" y="140"/>
                  </a:lnTo>
                  <a:lnTo>
                    <a:pt x="128" y="134"/>
                  </a:lnTo>
                  <a:lnTo>
                    <a:pt x="118" y="127"/>
                  </a:lnTo>
                  <a:lnTo>
                    <a:pt x="106" y="121"/>
                  </a:lnTo>
                  <a:lnTo>
                    <a:pt x="94" y="115"/>
                  </a:lnTo>
                  <a:lnTo>
                    <a:pt x="84" y="108"/>
                  </a:lnTo>
                  <a:lnTo>
                    <a:pt x="74" y="99"/>
                  </a:lnTo>
                  <a:lnTo>
                    <a:pt x="63" y="90"/>
                  </a:lnTo>
                  <a:lnTo>
                    <a:pt x="55" y="81"/>
                  </a:lnTo>
                  <a:lnTo>
                    <a:pt x="46" y="71"/>
                  </a:lnTo>
                  <a:lnTo>
                    <a:pt x="37" y="60"/>
                  </a:lnTo>
                  <a:lnTo>
                    <a:pt x="28" y="48"/>
                  </a:lnTo>
                  <a:lnTo>
                    <a:pt x="19" y="37"/>
                  </a:lnTo>
                  <a:lnTo>
                    <a:pt x="12" y="25"/>
                  </a:lnTo>
                  <a:lnTo>
                    <a:pt x="6" y="13"/>
                  </a:lnTo>
                  <a:lnTo>
                    <a:pt x="1" y="0"/>
                  </a:lnTo>
                  <a:lnTo>
                    <a:pt x="1" y="0"/>
                  </a:lnTo>
                  <a:lnTo>
                    <a:pt x="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7240680" y="3456000"/>
              <a:ext cx="122040" cy="117360"/>
            </a:xfrm>
            <a:custGeom>
              <a:avLst/>
              <a:gdLst/>
              <a:ahLst/>
              <a:rect l="l" t="t" r="r" b="b"/>
              <a:pathLst>
                <a:path w="153" h="148">
                  <a:moveTo>
                    <a:pt x="0" y="1"/>
                  </a:moveTo>
                  <a:lnTo>
                    <a:pt x="13" y="9"/>
                  </a:lnTo>
                  <a:lnTo>
                    <a:pt x="25" y="18"/>
                  </a:lnTo>
                  <a:lnTo>
                    <a:pt x="35" y="27"/>
                  </a:lnTo>
                  <a:lnTo>
                    <a:pt x="47" y="37"/>
                  </a:lnTo>
                  <a:lnTo>
                    <a:pt x="57" y="47"/>
                  </a:lnTo>
                  <a:lnTo>
                    <a:pt x="66" y="58"/>
                  </a:lnTo>
                  <a:lnTo>
                    <a:pt x="76" y="69"/>
                  </a:lnTo>
                  <a:lnTo>
                    <a:pt x="85" y="80"/>
                  </a:lnTo>
                  <a:lnTo>
                    <a:pt x="94" y="91"/>
                  </a:lnTo>
                  <a:lnTo>
                    <a:pt x="101" y="103"/>
                  </a:lnTo>
                  <a:lnTo>
                    <a:pt x="109" y="115"/>
                  </a:lnTo>
                  <a:lnTo>
                    <a:pt x="115" y="127"/>
                  </a:lnTo>
                  <a:lnTo>
                    <a:pt x="118" y="134"/>
                  </a:lnTo>
                  <a:lnTo>
                    <a:pt x="124" y="140"/>
                  </a:lnTo>
                  <a:lnTo>
                    <a:pt x="129" y="145"/>
                  </a:lnTo>
                  <a:lnTo>
                    <a:pt x="137" y="148"/>
                  </a:lnTo>
                  <a:lnTo>
                    <a:pt x="144" y="148"/>
                  </a:lnTo>
                  <a:lnTo>
                    <a:pt x="149" y="143"/>
                  </a:lnTo>
                  <a:lnTo>
                    <a:pt x="153" y="137"/>
                  </a:lnTo>
                  <a:lnTo>
                    <a:pt x="152" y="131"/>
                  </a:lnTo>
                  <a:lnTo>
                    <a:pt x="147" y="122"/>
                  </a:lnTo>
                  <a:lnTo>
                    <a:pt x="144" y="114"/>
                  </a:lnTo>
                  <a:lnTo>
                    <a:pt x="141" y="105"/>
                  </a:lnTo>
                  <a:lnTo>
                    <a:pt x="135" y="97"/>
                  </a:lnTo>
                  <a:lnTo>
                    <a:pt x="129" y="91"/>
                  </a:lnTo>
                  <a:lnTo>
                    <a:pt x="124" y="86"/>
                  </a:lnTo>
                  <a:lnTo>
                    <a:pt x="118" y="80"/>
                  </a:lnTo>
                  <a:lnTo>
                    <a:pt x="112" y="74"/>
                  </a:lnTo>
                  <a:lnTo>
                    <a:pt x="106" y="68"/>
                  </a:lnTo>
                  <a:lnTo>
                    <a:pt x="98" y="63"/>
                  </a:lnTo>
                  <a:lnTo>
                    <a:pt x="93" y="58"/>
                  </a:lnTo>
                  <a:lnTo>
                    <a:pt x="85" y="53"/>
                  </a:lnTo>
                  <a:lnTo>
                    <a:pt x="75" y="46"/>
                  </a:lnTo>
                  <a:lnTo>
                    <a:pt x="66" y="37"/>
                  </a:lnTo>
                  <a:lnTo>
                    <a:pt x="56" y="29"/>
                  </a:lnTo>
                  <a:lnTo>
                    <a:pt x="45" y="22"/>
                  </a:lnTo>
                  <a:lnTo>
                    <a:pt x="35" y="16"/>
                  </a:lnTo>
                  <a:lnTo>
                    <a:pt x="23" y="10"/>
                  </a:lnTo>
                  <a:lnTo>
                    <a:pt x="11" y="4"/>
                  </a:lnTo>
                  <a:lnTo>
                    <a:pt x="0" y="0"/>
                  </a:lnTo>
                  <a:lnTo>
                    <a:pt x="0" y="0"/>
                  </a:lnTo>
                  <a:lnTo>
                    <a:pt x="0" y="0"/>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8056440" y="4427640"/>
              <a:ext cx="169920" cy="185760"/>
            </a:xfrm>
            <a:custGeom>
              <a:avLst/>
              <a:gdLst/>
              <a:ahLst/>
              <a:rect l="l" t="t" r="r" b="b"/>
              <a:pathLst>
                <a:path w="214" h="233">
                  <a:moveTo>
                    <a:pt x="3" y="162"/>
                  </a:moveTo>
                  <a:lnTo>
                    <a:pt x="5" y="146"/>
                  </a:lnTo>
                  <a:lnTo>
                    <a:pt x="9" y="131"/>
                  </a:lnTo>
                  <a:lnTo>
                    <a:pt x="14" y="119"/>
                  </a:lnTo>
                  <a:lnTo>
                    <a:pt x="21" y="107"/>
                  </a:lnTo>
                  <a:lnTo>
                    <a:pt x="30" y="97"/>
                  </a:lnTo>
                  <a:lnTo>
                    <a:pt x="39" y="88"/>
                  </a:lnTo>
                  <a:lnTo>
                    <a:pt x="51" y="78"/>
                  </a:lnTo>
                  <a:lnTo>
                    <a:pt x="62" y="69"/>
                  </a:lnTo>
                  <a:lnTo>
                    <a:pt x="74" y="62"/>
                  </a:lnTo>
                  <a:lnTo>
                    <a:pt x="87" y="56"/>
                  </a:lnTo>
                  <a:lnTo>
                    <a:pt x="101" y="51"/>
                  </a:lnTo>
                  <a:lnTo>
                    <a:pt x="114" y="50"/>
                  </a:lnTo>
                  <a:lnTo>
                    <a:pt x="127" y="48"/>
                  </a:lnTo>
                  <a:lnTo>
                    <a:pt x="141" y="50"/>
                  </a:lnTo>
                  <a:lnTo>
                    <a:pt x="154" y="54"/>
                  </a:lnTo>
                  <a:lnTo>
                    <a:pt x="166" y="62"/>
                  </a:lnTo>
                  <a:lnTo>
                    <a:pt x="182" y="82"/>
                  </a:lnTo>
                  <a:lnTo>
                    <a:pt x="186" y="104"/>
                  </a:lnTo>
                  <a:lnTo>
                    <a:pt x="179" y="128"/>
                  </a:lnTo>
                  <a:lnTo>
                    <a:pt x="166" y="150"/>
                  </a:lnTo>
                  <a:lnTo>
                    <a:pt x="146" y="172"/>
                  </a:lnTo>
                  <a:lnTo>
                    <a:pt x="126" y="191"/>
                  </a:lnTo>
                  <a:lnTo>
                    <a:pt x="107" y="208"/>
                  </a:lnTo>
                  <a:lnTo>
                    <a:pt x="90" y="221"/>
                  </a:lnTo>
                  <a:lnTo>
                    <a:pt x="87" y="225"/>
                  </a:lnTo>
                  <a:lnTo>
                    <a:pt x="87" y="230"/>
                  </a:lnTo>
                  <a:lnTo>
                    <a:pt x="89" y="233"/>
                  </a:lnTo>
                  <a:lnTo>
                    <a:pt x="95" y="233"/>
                  </a:lnTo>
                  <a:lnTo>
                    <a:pt x="123" y="218"/>
                  </a:lnTo>
                  <a:lnTo>
                    <a:pt x="152" y="197"/>
                  </a:lnTo>
                  <a:lnTo>
                    <a:pt x="177" y="172"/>
                  </a:lnTo>
                  <a:lnTo>
                    <a:pt x="198" y="144"/>
                  </a:lnTo>
                  <a:lnTo>
                    <a:pt x="211" y="115"/>
                  </a:lnTo>
                  <a:lnTo>
                    <a:pt x="214" y="84"/>
                  </a:lnTo>
                  <a:lnTo>
                    <a:pt x="207" y="53"/>
                  </a:lnTo>
                  <a:lnTo>
                    <a:pt x="186" y="22"/>
                  </a:lnTo>
                  <a:lnTo>
                    <a:pt x="172" y="10"/>
                  </a:lnTo>
                  <a:lnTo>
                    <a:pt x="155" y="3"/>
                  </a:lnTo>
                  <a:lnTo>
                    <a:pt x="138" y="0"/>
                  </a:lnTo>
                  <a:lnTo>
                    <a:pt x="120" y="1"/>
                  </a:lnTo>
                  <a:lnTo>
                    <a:pt x="101" y="6"/>
                  </a:lnTo>
                  <a:lnTo>
                    <a:pt x="83" y="13"/>
                  </a:lnTo>
                  <a:lnTo>
                    <a:pt x="67" y="20"/>
                  </a:lnTo>
                  <a:lnTo>
                    <a:pt x="52" y="29"/>
                  </a:lnTo>
                  <a:lnTo>
                    <a:pt x="37" y="41"/>
                  </a:lnTo>
                  <a:lnTo>
                    <a:pt x="25" y="56"/>
                  </a:lnTo>
                  <a:lnTo>
                    <a:pt x="17" y="72"/>
                  </a:lnTo>
                  <a:lnTo>
                    <a:pt x="9" y="90"/>
                  </a:lnTo>
                  <a:lnTo>
                    <a:pt x="5" y="107"/>
                  </a:lnTo>
                  <a:lnTo>
                    <a:pt x="2" y="127"/>
                  </a:lnTo>
                  <a:lnTo>
                    <a:pt x="0" y="146"/>
                  </a:lnTo>
                  <a:lnTo>
                    <a:pt x="2" y="163"/>
                  </a:lnTo>
                  <a:lnTo>
                    <a:pt x="2" y="163"/>
                  </a:lnTo>
                  <a:lnTo>
                    <a:pt x="3" y="163"/>
                  </a:lnTo>
                  <a:lnTo>
                    <a:pt x="3" y="163"/>
                  </a:lnTo>
                  <a:lnTo>
                    <a:pt x="3" y="162"/>
                  </a:lnTo>
                  <a:lnTo>
                    <a:pt x="3"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979960" y="2643120"/>
              <a:ext cx="55800" cy="257400"/>
            </a:xfrm>
            <a:custGeom>
              <a:avLst/>
              <a:gdLst/>
              <a:ahLst/>
              <a:rect l="l" t="t" r="r" b="b"/>
              <a:pathLst>
                <a:path w="71" h="325">
                  <a:moveTo>
                    <a:pt x="62" y="1"/>
                  </a:moveTo>
                  <a:lnTo>
                    <a:pt x="65" y="44"/>
                  </a:lnTo>
                  <a:lnTo>
                    <a:pt x="65" y="87"/>
                  </a:lnTo>
                  <a:lnTo>
                    <a:pt x="62" y="130"/>
                  </a:lnTo>
                  <a:lnTo>
                    <a:pt x="56" y="173"/>
                  </a:lnTo>
                  <a:lnTo>
                    <a:pt x="50" y="190"/>
                  </a:lnTo>
                  <a:lnTo>
                    <a:pt x="44" y="210"/>
                  </a:lnTo>
                  <a:lnTo>
                    <a:pt x="35" y="226"/>
                  </a:lnTo>
                  <a:lnTo>
                    <a:pt x="28" y="243"/>
                  </a:lnTo>
                  <a:lnTo>
                    <a:pt x="19" y="260"/>
                  </a:lnTo>
                  <a:lnTo>
                    <a:pt x="12" y="277"/>
                  </a:lnTo>
                  <a:lnTo>
                    <a:pt x="4" y="295"/>
                  </a:lnTo>
                  <a:lnTo>
                    <a:pt x="0" y="313"/>
                  </a:lnTo>
                  <a:lnTo>
                    <a:pt x="1" y="322"/>
                  </a:lnTo>
                  <a:lnTo>
                    <a:pt x="9" y="325"/>
                  </a:lnTo>
                  <a:lnTo>
                    <a:pt x="16" y="322"/>
                  </a:lnTo>
                  <a:lnTo>
                    <a:pt x="22" y="314"/>
                  </a:lnTo>
                  <a:lnTo>
                    <a:pt x="29" y="297"/>
                  </a:lnTo>
                  <a:lnTo>
                    <a:pt x="35" y="279"/>
                  </a:lnTo>
                  <a:lnTo>
                    <a:pt x="43" y="261"/>
                  </a:lnTo>
                  <a:lnTo>
                    <a:pt x="50" y="243"/>
                  </a:lnTo>
                  <a:lnTo>
                    <a:pt x="56" y="226"/>
                  </a:lnTo>
                  <a:lnTo>
                    <a:pt x="60" y="208"/>
                  </a:lnTo>
                  <a:lnTo>
                    <a:pt x="65" y="190"/>
                  </a:lnTo>
                  <a:lnTo>
                    <a:pt x="68" y="171"/>
                  </a:lnTo>
                  <a:lnTo>
                    <a:pt x="71" y="128"/>
                  </a:lnTo>
                  <a:lnTo>
                    <a:pt x="71" y="86"/>
                  </a:lnTo>
                  <a:lnTo>
                    <a:pt x="68" y="43"/>
                  </a:lnTo>
                  <a:lnTo>
                    <a:pt x="63" y="0"/>
                  </a:lnTo>
                  <a:lnTo>
                    <a:pt x="63" y="0"/>
                  </a:lnTo>
                  <a:lnTo>
                    <a:pt x="63" y="0"/>
                  </a:lnTo>
                  <a:lnTo>
                    <a:pt x="62" y="0"/>
                  </a:lnTo>
                  <a:lnTo>
                    <a:pt x="62" y="1"/>
                  </a:lnTo>
                  <a:lnTo>
                    <a:pt x="6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6097680" y="2797200"/>
              <a:ext cx="1204920" cy="614160"/>
            </a:xfrm>
            <a:custGeom>
              <a:avLst/>
              <a:gdLst/>
              <a:ahLst/>
              <a:rect l="l" t="t" r="r" b="b"/>
              <a:pathLst>
                <a:path w="1518" h="773">
                  <a:moveTo>
                    <a:pt x="0" y="0"/>
                  </a:moveTo>
                  <a:lnTo>
                    <a:pt x="0" y="44"/>
                  </a:lnTo>
                  <a:lnTo>
                    <a:pt x="5" y="88"/>
                  </a:lnTo>
                  <a:lnTo>
                    <a:pt x="12" y="131"/>
                  </a:lnTo>
                  <a:lnTo>
                    <a:pt x="21" y="174"/>
                  </a:lnTo>
                  <a:lnTo>
                    <a:pt x="33" y="214"/>
                  </a:lnTo>
                  <a:lnTo>
                    <a:pt x="47" y="254"/>
                  </a:lnTo>
                  <a:lnTo>
                    <a:pt x="65" y="293"/>
                  </a:lnTo>
                  <a:lnTo>
                    <a:pt x="86" y="330"/>
                  </a:lnTo>
                  <a:lnTo>
                    <a:pt x="108" y="367"/>
                  </a:lnTo>
                  <a:lnTo>
                    <a:pt x="132" y="401"/>
                  </a:lnTo>
                  <a:lnTo>
                    <a:pt x="158" y="435"/>
                  </a:lnTo>
                  <a:lnTo>
                    <a:pt x="186" y="469"/>
                  </a:lnTo>
                  <a:lnTo>
                    <a:pt x="217" y="500"/>
                  </a:lnTo>
                  <a:lnTo>
                    <a:pt x="248" y="529"/>
                  </a:lnTo>
                  <a:lnTo>
                    <a:pt x="282" y="559"/>
                  </a:lnTo>
                  <a:lnTo>
                    <a:pt x="317" y="586"/>
                  </a:lnTo>
                  <a:lnTo>
                    <a:pt x="335" y="597"/>
                  </a:lnTo>
                  <a:lnTo>
                    <a:pt x="353" y="609"/>
                  </a:lnTo>
                  <a:lnTo>
                    <a:pt x="372" y="619"/>
                  </a:lnTo>
                  <a:lnTo>
                    <a:pt x="391" y="628"/>
                  </a:lnTo>
                  <a:lnTo>
                    <a:pt x="410" y="639"/>
                  </a:lnTo>
                  <a:lnTo>
                    <a:pt x="430" y="648"/>
                  </a:lnTo>
                  <a:lnTo>
                    <a:pt x="449" y="655"/>
                  </a:lnTo>
                  <a:lnTo>
                    <a:pt x="468" y="664"/>
                  </a:lnTo>
                  <a:lnTo>
                    <a:pt x="492" y="674"/>
                  </a:lnTo>
                  <a:lnTo>
                    <a:pt x="517" y="684"/>
                  </a:lnTo>
                  <a:lnTo>
                    <a:pt x="540" y="696"/>
                  </a:lnTo>
                  <a:lnTo>
                    <a:pt x="565" y="707"/>
                  </a:lnTo>
                  <a:lnTo>
                    <a:pt x="590" y="715"/>
                  </a:lnTo>
                  <a:lnTo>
                    <a:pt x="615" y="724"/>
                  </a:lnTo>
                  <a:lnTo>
                    <a:pt x="641" y="733"/>
                  </a:lnTo>
                  <a:lnTo>
                    <a:pt x="667" y="740"/>
                  </a:lnTo>
                  <a:lnTo>
                    <a:pt x="691" y="746"/>
                  </a:lnTo>
                  <a:lnTo>
                    <a:pt x="714" y="752"/>
                  </a:lnTo>
                  <a:lnTo>
                    <a:pt x="739" y="757"/>
                  </a:lnTo>
                  <a:lnTo>
                    <a:pt x="763" y="760"/>
                  </a:lnTo>
                  <a:lnTo>
                    <a:pt x="788" y="764"/>
                  </a:lnTo>
                  <a:lnTo>
                    <a:pt x="812" y="766"/>
                  </a:lnTo>
                  <a:lnTo>
                    <a:pt x="837" y="768"/>
                  </a:lnTo>
                  <a:lnTo>
                    <a:pt x="862" y="770"/>
                  </a:lnTo>
                  <a:lnTo>
                    <a:pt x="887" y="771"/>
                  </a:lnTo>
                  <a:lnTo>
                    <a:pt x="911" y="771"/>
                  </a:lnTo>
                  <a:lnTo>
                    <a:pt x="936" y="773"/>
                  </a:lnTo>
                  <a:lnTo>
                    <a:pt x="961" y="773"/>
                  </a:lnTo>
                  <a:lnTo>
                    <a:pt x="986" y="773"/>
                  </a:lnTo>
                  <a:lnTo>
                    <a:pt x="1011" y="771"/>
                  </a:lnTo>
                  <a:lnTo>
                    <a:pt x="1034" y="771"/>
                  </a:lnTo>
                  <a:lnTo>
                    <a:pt x="1060" y="770"/>
                  </a:lnTo>
                  <a:lnTo>
                    <a:pt x="1088" y="767"/>
                  </a:lnTo>
                  <a:lnTo>
                    <a:pt x="1116" y="764"/>
                  </a:lnTo>
                  <a:lnTo>
                    <a:pt x="1144" y="760"/>
                  </a:lnTo>
                  <a:lnTo>
                    <a:pt x="1170" y="754"/>
                  </a:lnTo>
                  <a:lnTo>
                    <a:pt x="1197" y="746"/>
                  </a:lnTo>
                  <a:lnTo>
                    <a:pt x="1223" y="738"/>
                  </a:lnTo>
                  <a:lnTo>
                    <a:pt x="1250" y="729"/>
                  </a:lnTo>
                  <a:lnTo>
                    <a:pt x="1275" y="717"/>
                  </a:lnTo>
                  <a:lnTo>
                    <a:pt x="1300" y="704"/>
                  </a:lnTo>
                  <a:lnTo>
                    <a:pt x="1324" y="690"/>
                  </a:lnTo>
                  <a:lnTo>
                    <a:pt x="1346" y="676"/>
                  </a:lnTo>
                  <a:lnTo>
                    <a:pt x="1368" y="658"/>
                  </a:lnTo>
                  <a:lnTo>
                    <a:pt x="1388" y="640"/>
                  </a:lnTo>
                  <a:lnTo>
                    <a:pt x="1408" y="619"/>
                  </a:lnTo>
                  <a:lnTo>
                    <a:pt x="1425" y="599"/>
                  </a:lnTo>
                  <a:lnTo>
                    <a:pt x="1442" y="575"/>
                  </a:lnTo>
                  <a:lnTo>
                    <a:pt x="1456" y="552"/>
                  </a:lnTo>
                  <a:lnTo>
                    <a:pt x="1470" y="525"/>
                  </a:lnTo>
                  <a:lnTo>
                    <a:pt x="1480" y="500"/>
                  </a:lnTo>
                  <a:lnTo>
                    <a:pt x="1490" y="472"/>
                  </a:lnTo>
                  <a:lnTo>
                    <a:pt x="1498" y="445"/>
                  </a:lnTo>
                  <a:lnTo>
                    <a:pt x="1504" y="417"/>
                  </a:lnTo>
                  <a:lnTo>
                    <a:pt x="1509" y="388"/>
                  </a:lnTo>
                  <a:lnTo>
                    <a:pt x="1514" y="360"/>
                  </a:lnTo>
                  <a:lnTo>
                    <a:pt x="1518" y="314"/>
                  </a:lnTo>
                  <a:lnTo>
                    <a:pt x="1517" y="271"/>
                  </a:lnTo>
                  <a:lnTo>
                    <a:pt x="1512" y="228"/>
                  </a:lnTo>
                  <a:lnTo>
                    <a:pt x="1504" y="189"/>
                  </a:lnTo>
                  <a:lnTo>
                    <a:pt x="1492" y="149"/>
                  </a:lnTo>
                  <a:lnTo>
                    <a:pt x="1476" y="109"/>
                  </a:lnTo>
                  <a:lnTo>
                    <a:pt x="1456" y="69"/>
                  </a:lnTo>
                  <a:lnTo>
                    <a:pt x="1436" y="29"/>
                  </a:lnTo>
                  <a:lnTo>
                    <a:pt x="1434" y="29"/>
                  </a:lnTo>
                  <a:lnTo>
                    <a:pt x="1433" y="29"/>
                  </a:lnTo>
                  <a:lnTo>
                    <a:pt x="1431" y="31"/>
                  </a:lnTo>
                  <a:lnTo>
                    <a:pt x="1431" y="32"/>
                  </a:lnTo>
                  <a:lnTo>
                    <a:pt x="1452" y="74"/>
                  </a:lnTo>
                  <a:lnTo>
                    <a:pt x="1470" y="113"/>
                  </a:lnTo>
                  <a:lnTo>
                    <a:pt x="1484" y="152"/>
                  </a:lnTo>
                  <a:lnTo>
                    <a:pt x="1496" y="192"/>
                  </a:lnTo>
                  <a:lnTo>
                    <a:pt x="1504" y="231"/>
                  </a:lnTo>
                  <a:lnTo>
                    <a:pt x="1508" y="273"/>
                  </a:lnTo>
                  <a:lnTo>
                    <a:pt x="1509" y="316"/>
                  </a:lnTo>
                  <a:lnTo>
                    <a:pt x="1505" y="361"/>
                  </a:lnTo>
                  <a:lnTo>
                    <a:pt x="1501" y="389"/>
                  </a:lnTo>
                  <a:lnTo>
                    <a:pt x="1496" y="419"/>
                  </a:lnTo>
                  <a:lnTo>
                    <a:pt x="1489" y="447"/>
                  </a:lnTo>
                  <a:lnTo>
                    <a:pt x="1480" y="475"/>
                  </a:lnTo>
                  <a:lnTo>
                    <a:pt x="1470" y="501"/>
                  </a:lnTo>
                  <a:lnTo>
                    <a:pt x="1458" y="528"/>
                  </a:lnTo>
                  <a:lnTo>
                    <a:pt x="1443" y="553"/>
                  </a:lnTo>
                  <a:lnTo>
                    <a:pt x="1427" y="578"/>
                  </a:lnTo>
                  <a:lnTo>
                    <a:pt x="1406" y="605"/>
                  </a:lnTo>
                  <a:lnTo>
                    <a:pt x="1384" y="627"/>
                  </a:lnTo>
                  <a:lnTo>
                    <a:pt x="1360" y="649"/>
                  </a:lnTo>
                  <a:lnTo>
                    <a:pt x="1335" y="667"/>
                  </a:lnTo>
                  <a:lnTo>
                    <a:pt x="1309" y="683"/>
                  </a:lnTo>
                  <a:lnTo>
                    <a:pt x="1281" y="698"/>
                  </a:lnTo>
                  <a:lnTo>
                    <a:pt x="1253" y="709"/>
                  </a:lnTo>
                  <a:lnTo>
                    <a:pt x="1223" y="720"/>
                  </a:lnTo>
                  <a:lnTo>
                    <a:pt x="1194" y="730"/>
                  </a:lnTo>
                  <a:lnTo>
                    <a:pt x="1163" y="736"/>
                  </a:lnTo>
                  <a:lnTo>
                    <a:pt x="1132" y="743"/>
                  </a:lnTo>
                  <a:lnTo>
                    <a:pt x="1099" y="748"/>
                  </a:lnTo>
                  <a:lnTo>
                    <a:pt x="1067" y="751"/>
                  </a:lnTo>
                  <a:lnTo>
                    <a:pt x="1036" y="754"/>
                  </a:lnTo>
                  <a:lnTo>
                    <a:pt x="1003" y="755"/>
                  </a:lnTo>
                  <a:lnTo>
                    <a:pt x="971" y="757"/>
                  </a:lnTo>
                  <a:lnTo>
                    <a:pt x="931" y="757"/>
                  </a:lnTo>
                  <a:lnTo>
                    <a:pt x="890" y="755"/>
                  </a:lnTo>
                  <a:lnTo>
                    <a:pt x="849" y="751"/>
                  </a:lnTo>
                  <a:lnTo>
                    <a:pt x="806" y="746"/>
                  </a:lnTo>
                  <a:lnTo>
                    <a:pt x="764" y="739"/>
                  </a:lnTo>
                  <a:lnTo>
                    <a:pt x="723" y="730"/>
                  </a:lnTo>
                  <a:lnTo>
                    <a:pt x="680" y="720"/>
                  </a:lnTo>
                  <a:lnTo>
                    <a:pt x="639" y="709"/>
                  </a:lnTo>
                  <a:lnTo>
                    <a:pt x="598" y="696"/>
                  </a:lnTo>
                  <a:lnTo>
                    <a:pt x="556" y="680"/>
                  </a:lnTo>
                  <a:lnTo>
                    <a:pt x="517" y="664"/>
                  </a:lnTo>
                  <a:lnTo>
                    <a:pt x="477" y="646"/>
                  </a:lnTo>
                  <a:lnTo>
                    <a:pt x="438" y="627"/>
                  </a:lnTo>
                  <a:lnTo>
                    <a:pt x="400" y="606"/>
                  </a:lnTo>
                  <a:lnTo>
                    <a:pt x="363" y="584"/>
                  </a:lnTo>
                  <a:lnTo>
                    <a:pt x="328" y="560"/>
                  </a:lnTo>
                  <a:lnTo>
                    <a:pt x="292" y="535"/>
                  </a:lnTo>
                  <a:lnTo>
                    <a:pt x="260" y="509"/>
                  </a:lnTo>
                  <a:lnTo>
                    <a:pt x="227" y="481"/>
                  </a:lnTo>
                  <a:lnTo>
                    <a:pt x="198" y="451"/>
                  </a:lnTo>
                  <a:lnTo>
                    <a:pt x="168" y="420"/>
                  </a:lnTo>
                  <a:lnTo>
                    <a:pt x="142" y="389"/>
                  </a:lnTo>
                  <a:lnTo>
                    <a:pt x="117" y="355"/>
                  </a:lnTo>
                  <a:lnTo>
                    <a:pt x="95" y="321"/>
                  </a:lnTo>
                  <a:lnTo>
                    <a:pt x="74" y="285"/>
                  </a:lnTo>
                  <a:lnTo>
                    <a:pt x="56" y="248"/>
                  </a:lnTo>
                  <a:lnTo>
                    <a:pt x="40" y="209"/>
                  </a:lnTo>
                  <a:lnTo>
                    <a:pt x="27" y="169"/>
                  </a:lnTo>
                  <a:lnTo>
                    <a:pt x="15" y="130"/>
                  </a:lnTo>
                  <a:lnTo>
                    <a:pt x="8" y="87"/>
                  </a:lnTo>
                  <a:lnTo>
                    <a:pt x="3" y="44"/>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6319800" y="3362400"/>
              <a:ext cx="746280" cy="225360"/>
            </a:xfrm>
            <a:custGeom>
              <a:avLst/>
              <a:gdLst/>
              <a:ahLst/>
              <a:rect l="l" t="t" r="r" b="b"/>
              <a:pathLst>
                <a:path w="941" h="285">
                  <a:moveTo>
                    <a:pt x="0" y="1"/>
                  </a:moveTo>
                  <a:lnTo>
                    <a:pt x="20" y="27"/>
                  </a:lnTo>
                  <a:lnTo>
                    <a:pt x="44" y="52"/>
                  </a:lnTo>
                  <a:lnTo>
                    <a:pt x="67" y="75"/>
                  </a:lnTo>
                  <a:lnTo>
                    <a:pt x="93" y="99"/>
                  </a:lnTo>
                  <a:lnTo>
                    <a:pt x="119" y="121"/>
                  </a:lnTo>
                  <a:lnTo>
                    <a:pt x="146" y="142"/>
                  </a:lnTo>
                  <a:lnTo>
                    <a:pt x="172" y="161"/>
                  </a:lnTo>
                  <a:lnTo>
                    <a:pt x="200" y="178"/>
                  </a:lnTo>
                  <a:lnTo>
                    <a:pt x="215" y="187"/>
                  </a:lnTo>
                  <a:lnTo>
                    <a:pt x="230" y="195"/>
                  </a:lnTo>
                  <a:lnTo>
                    <a:pt x="246" y="202"/>
                  </a:lnTo>
                  <a:lnTo>
                    <a:pt x="261" y="209"/>
                  </a:lnTo>
                  <a:lnTo>
                    <a:pt x="277" y="215"/>
                  </a:lnTo>
                  <a:lnTo>
                    <a:pt x="293" y="221"/>
                  </a:lnTo>
                  <a:lnTo>
                    <a:pt x="309" y="226"/>
                  </a:lnTo>
                  <a:lnTo>
                    <a:pt x="327" y="232"/>
                  </a:lnTo>
                  <a:lnTo>
                    <a:pt x="343" y="236"/>
                  </a:lnTo>
                  <a:lnTo>
                    <a:pt x="360" y="240"/>
                  </a:lnTo>
                  <a:lnTo>
                    <a:pt x="377" y="245"/>
                  </a:lnTo>
                  <a:lnTo>
                    <a:pt x="393" y="248"/>
                  </a:lnTo>
                  <a:lnTo>
                    <a:pt x="411" y="252"/>
                  </a:lnTo>
                  <a:lnTo>
                    <a:pt x="427" y="257"/>
                  </a:lnTo>
                  <a:lnTo>
                    <a:pt x="445" y="260"/>
                  </a:lnTo>
                  <a:lnTo>
                    <a:pt x="461" y="264"/>
                  </a:lnTo>
                  <a:lnTo>
                    <a:pt x="479" y="268"/>
                  </a:lnTo>
                  <a:lnTo>
                    <a:pt x="495" y="271"/>
                  </a:lnTo>
                  <a:lnTo>
                    <a:pt x="513" y="274"/>
                  </a:lnTo>
                  <a:lnTo>
                    <a:pt x="529" y="277"/>
                  </a:lnTo>
                  <a:lnTo>
                    <a:pt x="547" y="279"/>
                  </a:lnTo>
                  <a:lnTo>
                    <a:pt x="563" y="282"/>
                  </a:lnTo>
                  <a:lnTo>
                    <a:pt x="581" y="283"/>
                  </a:lnTo>
                  <a:lnTo>
                    <a:pt x="597" y="283"/>
                  </a:lnTo>
                  <a:lnTo>
                    <a:pt x="615" y="285"/>
                  </a:lnTo>
                  <a:lnTo>
                    <a:pt x="631" y="285"/>
                  </a:lnTo>
                  <a:lnTo>
                    <a:pt x="649" y="285"/>
                  </a:lnTo>
                  <a:lnTo>
                    <a:pt x="666" y="285"/>
                  </a:lnTo>
                  <a:lnTo>
                    <a:pt x="683" y="285"/>
                  </a:lnTo>
                  <a:lnTo>
                    <a:pt x="700" y="285"/>
                  </a:lnTo>
                  <a:lnTo>
                    <a:pt x="718" y="283"/>
                  </a:lnTo>
                  <a:lnTo>
                    <a:pt x="736" y="282"/>
                  </a:lnTo>
                  <a:lnTo>
                    <a:pt x="761" y="279"/>
                  </a:lnTo>
                  <a:lnTo>
                    <a:pt x="790" y="276"/>
                  </a:lnTo>
                  <a:lnTo>
                    <a:pt x="820" y="271"/>
                  </a:lnTo>
                  <a:lnTo>
                    <a:pt x="849" y="264"/>
                  </a:lnTo>
                  <a:lnTo>
                    <a:pt x="877" y="254"/>
                  </a:lnTo>
                  <a:lnTo>
                    <a:pt x="902" y="240"/>
                  </a:lnTo>
                  <a:lnTo>
                    <a:pt x="923" y="223"/>
                  </a:lnTo>
                  <a:lnTo>
                    <a:pt x="938" y="201"/>
                  </a:lnTo>
                  <a:lnTo>
                    <a:pt x="941" y="187"/>
                  </a:lnTo>
                  <a:lnTo>
                    <a:pt x="941" y="176"/>
                  </a:lnTo>
                  <a:lnTo>
                    <a:pt x="933" y="167"/>
                  </a:lnTo>
                  <a:lnTo>
                    <a:pt x="920" y="161"/>
                  </a:lnTo>
                  <a:lnTo>
                    <a:pt x="911" y="161"/>
                  </a:lnTo>
                  <a:lnTo>
                    <a:pt x="902" y="161"/>
                  </a:lnTo>
                  <a:lnTo>
                    <a:pt x="895" y="162"/>
                  </a:lnTo>
                  <a:lnTo>
                    <a:pt x="888" y="165"/>
                  </a:lnTo>
                  <a:lnTo>
                    <a:pt x="880" y="168"/>
                  </a:lnTo>
                  <a:lnTo>
                    <a:pt x="874" y="171"/>
                  </a:lnTo>
                  <a:lnTo>
                    <a:pt x="866" y="176"/>
                  </a:lnTo>
                  <a:lnTo>
                    <a:pt x="858" y="180"/>
                  </a:lnTo>
                  <a:lnTo>
                    <a:pt x="846" y="187"/>
                  </a:lnTo>
                  <a:lnTo>
                    <a:pt x="832" y="193"/>
                  </a:lnTo>
                  <a:lnTo>
                    <a:pt x="817" y="201"/>
                  </a:lnTo>
                  <a:lnTo>
                    <a:pt x="801" y="205"/>
                  </a:lnTo>
                  <a:lnTo>
                    <a:pt x="784" y="211"/>
                  </a:lnTo>
                  <a:lnTo>
                    <a:pt x="768" y="215"/>
                  </a:lnTo>
                  <a:lnTo>
                    <a:pt x="752" y="218"/>
                  </a:lnTo>
                  <a:lnTo>
                    <a:pt x="737" y="221"/>
                  </a:lnTo>
                  <a:lnTo>
                    <a:pt x="719" y="224"/>
                  </a:lnTo>
                  <a:lnTo>
                    <a:pt x="702" y="226"/>
                  </a:lnTo>
                  <a:lnTo>
                    <a:pt x="683" y="227"/>
                  </a:lnTo>
                  <a:lnTo>
                    <a:pt x="665" y="227"/>
                  </a:lnTo>
                  <a:lnTo>
                    <a:pt x="647" y="227"/>
                  </a:lnTo>
                  <a:lnTo>
                    <a:pt x="630" y="227"/>
                  </a:lnTo>
                  <a:lnTo>
                    <a:pt x="612" y="227"/>
                  </a:lnTo>
                  <a:lnTo>
                    <a:pt x="594" y="226"/>
                  </a:lnTo>
                  <a:lnTo>
                    <a:pt x="575" y="224"/>
                  </a:lnTo>
                  <a:lnTo>
                    <a:pt x="557" y="223"/>
                  </a:lnTo>
                  <a:lnTo>
                    <a:pt x="540" y="220"/>
                  </a:lnTo>
                  <a:lnTo>
                    <a:pt x="522" y="217"/>
                  </a:lnTo>
                  <a:lnTo>
                    <a:pt x="504" y="214"/>
                  </a:lnTo>
                  <a:lnTo>
                    <a:pt x="486" y="211"/>
                  </a:lnTo>
                  <a:lnTo>
                    <a:pt x="469" y="208"/>
                  </a:lnTo>
                  <a:lnTo>
                    <a:pt x="451" y="204"/>
                  </a:lnTo>
                  <a:lnTo>
                    <a:pt x="420" y="198"/>
                  </a:lnTo>
                  <a:lnTo>
                    <a:pt x="389" y="190"/>
                  </a:lnTo>
                  <a:lnTo>
                    <a:pt x="358" y="183"/>
                  </a:lnTo>
                  <a:lnTo>
                    <a:pt x="327" y="176"/>
                  </a:lnTo>
                  <a:lnTo>
                    <a:pt x="298" y="168"/>
                  </a:lnTo>
                  <a:lnTo>
                    <a:pt x="267" y="158"/>
                  </a:lnTo>
                  <a:lnTo>
                    <a:pt x="237" y="149"/>
                  </a:lnTo>
                  <a:lnTo>
                    <a:pt x="208" y="137"/>
                  </a:lnTo>
                  <a:lnTo>
                    <a:pt x="180" y="125"/>
                  </a:lnTo>
                  <a:lnTo>
                    <a:pt x="152" y="112"/>
                  </a:lnTo>
                  <a:lnTo>
                    <a:pt x="123" y="97"/>
                  </a:lnTo>
                  <a:lnTo>
                    <a:pt x="97" y="81"/>
                  </a:lnTo>
                  <a:lnTo>
                    <a:pt x="72" y="63"/>
                  </a:lnTo>
                  <a:lnTo>
                    <a:pt x="47" y="44"/>
                  </a:lnTo>
                  <a:lnTo>
                    <a:pt x="23" y="22"/>
                  </a:lnTo>
                  <a:lnTo>
                    <a:pt x="0" y="0"/>
                  </a:lnTo>
                  <a:lnTo>
                    <a:pt x="0" y="0"/>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6384960" y="2757600"/>
              <a:ext cx="90360" cy="450720"/>
            </a:xfrm>
            <a:custGeom>
              <a:avLst/>
              <a:gdLst/>
              <a:ahLst/>
              <a:rect l="l" t="t" r="r" b="b"/>
              <a:pathLst>
                <a:path w="114" h="568">
                  <a:moveTo>
                    <a:pt x="0" y="0"/>
                  </a:moveTo>
                  <a:lnTo>
                    <a:pt x="15" y="32"/>
                  </a:lnTo>
                  <a:lnTo>
                    <a:pt x="30" y="66"/>
                  </a:lnTo>
                  <a:lnTo>
                    <a:pt x="44" y="98"/>
                  </a:lnTo>
                  <a:lnTo>
                    <a:pt x="56" y="131"/>
                  </a:lnTo>
                  <a:lnTo>
                    <a:pt x="68" y="165"/>
                  </a:lnTo>
                  <a:lnTo>
                    <a:pt x="78" y="199"/>
                  </a:lnTo>
                  <a:lnTo>
                    <a:pt x="86" y="234"/>
                  </a:lnTo>
                  <a:lnTo>
                    <a:pt x="90" y="270"/>
                  </a:lnTo>
                  <a:lnTo>
                    <a:pt x="93" y="343"/>
                  </a:lnTo>
                  <a:lnTo>
                    <a:pt x="93" y="417"/>
                  </a:lnTo>
                  <a:lnTo>
                    <a:pt x="92" y="489"/>
                  </a:lnTo>
                  <a:lnTo>
                    <a:pt x="92" y="563"/>
                  </a:lnTo>
                  <a:lnTo>
                    <a:pt x="93" y="568"/>
                  </a:lnTo>
                  <a:lnTo>
                    <a:pt x="96" y="568"/>
                  </a:lnTo>
                  <a:lnTo>
                    <a:pt x="99" y="566"/>
                  </a:lnTo>
                  <a:lnTo>
                    <a:pt x="102" y="562"/>
                  </a:lnTo>
                  <a:lnTo>
                    <a:pt x="111" y="488"/>
                  </a:lnTo>
                  <a:lnTo>
                    <a:pt x="114" y="414"/>
                  </a:lnTo>
                  <a:lnTo>
                    <a:pt x="109" y="339"/>
                  </a:lnTo>
                  <a:lnTo>
                    <a:pt x="102" y="265"/>
                  </a:lnTo>
                  <a:lnTo>
                    <a:pt x="98" y="230"/>
                  </a:lnTo>
                  <a:lnTo>
                    <a:pt x="89" y="194"/>
                  </a:lnTo>
                  <a:lnTo>
                    <a:pt x="78" y="160"/>
                  </a:lnTo>
                  <a:lnTo>
                    <a:pt x="65" y="128"/>
                  </a:lnTo>
                  <a:lnTo>
                    <a:pt x="50" y="96"/>
                  </a:lnTo>
                  <a:lnTo>
                    <a:pt x="34" y="63"/>
                  </a:lnTo>
                  <a:lnTo>
                    <a:pt x="18" y="32"/>
                  </a:lnTo>
                  <a:lnTo>
                    <a:pt x="2" y="0"/>
                  </a:lnTo>
                  <a:lnTo>
                    <a:pt x="2" y="0"/>
                  </a:lnTo>
                  <a:lnTo>
                    <a:pt x="2"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7232760" y="3284640"/>
              <a:ext cx="128520" cy="169920"/>
            </a:xfrm>
            <a:custGeom>
              <a:avLst/>
              <a:gdLst/>
              <a:ahLst/>
              <a:rect l="l" t="t" r="r" b="b"/>
              <a:pathLst>
                <a:path w="161" h="212">
                  <a:moveTo>
                    <a:pt x="160" y="0"/>
                  </a:moveTo>
                  <a:lnTo>
                    <a:pt x="152" y="11"/>
                  </a:lnTo>
                  <a:lnTo>
                    <a:pt x="145" y="23"/>
                  </a:lnTo>
                  <a:lnTo>
                    <a:pt x="137" y="35"/>
                  </a:lnTo>
                  <a:lnTo>
                    <a:pt x="130" y="47"/>
                  </a:lnTo>
                  <a:lnTo>
                    <a:pt x="123" y="59"/>
                  </a:lnTo>
                  <a:lnTo>
                    <a:pt x="114" y="70"/>
                  </a:lnTo>
                  <a:lnTo>
                    <a:pt x="107" y="81"/>
                  </a:lnTo>
                  <a:lnTo>
                    <a:pt x="98" y="93"/>
                  </a:lnTo>
                  <a:lnTo>
                    <a:pt x="87" y="103"/>
                  </a:lnTo>
                  <a:lnTo>
                    <a:pt x="78" y="113"/>
                  </a:lnTo>
                  <a:lnTo>
                    <a:pt x="68" y="122"/>
                  </a:lnTo>
                  <a:lnTo>
                    <a:pt x="58" y="129"/>
                  </a:lnTo>
                  <a:lnTo>
                    <a:pt x="46" y="138"/>
                  </a:lnTo>
                  <a:lnTo>
                    <a:pt x="36" y="147"/>
                  </a:lnTo>
                  <a:lnTo>
                    <a:pt x="24" y="154"/>
                  </a:lnTo>
                  <a:lnTo>
                    <a:pt x="14" y="163"/>
                  </a:lnTo>
                  <a:lnTo>
                    <a:pt x="5" y="174"/>
                  </a:lnTo>
                  <a:lnTo>
                    <a:pt x="0" y="185"/>
                  </a:lnTo>
                  <a:lnTo>
                    <a:pt x="2" y="196"/>
                  </a:lnTo>
                  <a:lnTo>
                    <a:pt x="6" y="205"/>
                  </a:lnTo>
                  <a:lnTo>
                    <a:pt x="14" y="211"/>
                  </a:lnTo>
                  <a:lnTo>
                    <a:pt x="24" y="212"/>
                  </a:lnTo>
                  <a:lnTo>
                    <a:pt x="34" y="209"/>
                  </a:lnTo>
                  <a:lnTo>
                    <a:pt x="45" y="200"/>
                  </a:lnTo>
                  <a:lnTo>
                    <a:pt x="52" y="191"/>
                  </a:lnTo>
                  <a:lnTo>
                    <a:pt x="59" y="183"/>
                  </a:lnTo>
                  <a:lnTo>
                    <a:pt x="67" y="172"/>
                  </a:lnTo>
                  <a:lnTo>
                    <a:pt x="74" y="163"/>
                  </a:lnTo>
                  <a:lnTo>
                    <a:pt x="81" y="154"/>
                  </a:lnTo>
                  <a:lnTo>
                    <a:pt x="89" y="146"/>
                  </a:lnTo>
                  <a:lnTo>
                    <a:pt x="95" y="135"/>
                  </a:lnTo>
                  <a:lnTo>
                    <a:pt x="101" y="125"/>
                  </a:lnTo>
                  <a:lnTo>
                    <a:pt x="108" y="109"/>
                  </a:lnTo>
                  <a:lnTo>
                    <a:pt x="117" y="94"/>
                  </a:lnTo>
                  <a:lnTo>
                    <a:pt x="124" y="78"/>
                  </a:lnTo>
                  <a:lnTo>
                    <a:pt x="132" y="63"/>
                  </a:lnTo>
                  <a:lnTo>
                    <a:pt x="139" y="47"/>
                  </a:lnTo>
                  <a:lnTo>
                    <a:pt x="146" y="32"/>
                  </a:lnTo>
                  <a:lnTo>
                    <a:pt x="154" y="16"/>
                  </a:lnTo>
                  <a:lnTo>
                    <a:pt x="161" y="1"/>
                  </a:lnTo>
                  <a:lnTo>
                    <a:pt x="161" y="0"/>
                  </a:lnTo>
                  <a:lnTo>
                    <a:pt x="161" y="0"/>
                  </a:lnTo>
                  <a:lnTo>
                    <a:pt x="160" y="0"/>
                  </a:lnTo>
                  <a:lnTo>
                    <a:pt x="160" y="0"/>
                  </a:lnTo>
                  <a:lnTo>
                    <a:pt x="1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8.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1666">
                                            <p:txEl>
                                              <p:pRg st="0" end="0"/>
                                            </p:txEl>
                                          </p:spTgt>
                                        </p:tgtEl>
                                        <p:attrNameLst>
                                          <p:attrName>style.visibility</p:attrName>
                                        </p:attrNameLst>
                                      </p:cBhvr>
                                      <p:to>
                                        <p:strVal val="visible"/>
                                      </p:to>
                                    </p:set>
                                    <p:animEffect filter="fade" transition="in">
                                      <p:cBhvr additive="repl">
                                        <p:cTn id="26" dur="1000"/>
                                        <p:tgtEl>
                                          <p:spTgt spid="166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666">
                                            <p:txEl>
                                              <p:pRg st="1" end="1"/>
                                            </p:txEl>
                                          </p:spTgt>
                                        </p:tgtEl>
                                        <p:attrNameLst>
                                          <p:attrName>style.visibility</p:attrName>
                                        </p:attrNameLst>
                                      </p:cBhvr>
                                      <p:to>
                                        <p:strVal val="visible"/>
                                      </p:to>
                                    </p:set>
                                    <p:animEffect filter="fade" transition="in">
                                      <p:cBhvr additive="repl">
                                        <p:cTn id="31" dur="1000"/>
                                        <p:tgtEl>
                                          <p:spTgt spid="1666">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666">
                                            <p:txEl>
                                              <p:pRg st="2" end="2"/>
                                            </p:txEl>
                                          </p:spTgt>
                                        </p:tgtEl>
                                        <p:attrNameLst>
                                          <p:attrName>style.visibility</p:attrName>
                                        </p:attrNameLst>
                                      </p:cBhvr>
                                      <p:to>
                                        <p:strVal val="visible"/>
                                      </p:to>
                                    </p:set>
                                    <p:animEffect filter="fade" transition="in">
                                      <p:cBhvr additive="repl">
                                        <p:cTn id="36" dur="1000"/>
                                        <p:tgtEl>
                                          <p:spTgt spid="16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9" name=""/>
          <p:cNvSpPr/>
          <p:nvPr/>
        </p:nvSpPr>
        <p:spPr>
          <a:xfrm>
            <a:off x="6332400" y="3930480"/>
            <a:ext cx="252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0" name=""/>
          <p:cNvGrpSpPr/>
          <p:nvPr/>
        </p:nvGrpSpPr>
        <p:grpSpPr>
          <a:xfrm>
            <a:off x="304920" y="304920"/>
            <a:ext cx="8670960" cy="6037200"/>
            <a:chOff x="304920" y="304920"/>
            <a:chExt cx="8670960" cy="6037200"/>
          </a:xfrm>
        </p:grpSpPr>
        <p:pic>
          <p:nvPicPr>
            <p:cNvPr id="1691" name="" descr=""/>
            <p:cNvPicPr/>
            <p:nvPr/>
          </p:nvPicPr>
          <p:blipFill>
            <a:blip r:embed="rId2"/>
            <a:stretch/>
          </p:blipFill>
          <p:spPr>
            <a:xfrm>
              <a:off x="380880" y="1909800"/>
              <a:ext cx="1371600" cy="1371600"/>
            </a:xfrm>
            <a:prstGeom prst="rect">
              <a:avLst/>
            </a:prstGeom>
            <a:ln w="0">
              <a:noFill/>
            </a:ln>
          </p:spPr>
        </p:pic>
        <p:pic>
          <p:nvPicPr>
            <p:cNvPr id="1692" name="" descr=""/>
            <p:cNvPicPr/>
            <p:nvPr/>
          </p:nvPicPr>
          <p:blipFill>
            <a:blip r:embed="rId3"/>
            <a:stretch/>
          </p:blipFill>
          <p:spPr>
            <a:xfrm>
              <a:off x="380880" y="3433680"/>
              <a:ext cx="1371600" cy="1382760"/>
            </a:xfrm>
            <a:prstGeom prst="rect">
              <a:avLst/>
            </a:prstGeom>
            <a:ln w="0">
              <a:noFill/>
            </a:ln>
          </p:spPr>
        </p:pic>
        <p:pic>
          <p:nvPicPr>
            <p:cNvPr id="1693" name="" descr=""/>
            <p:cNvPicPr/>
            <p:nvPr/>
          </p:nvPicPr>
          <p:blipFill>
            <a:blip r:embed="rId4"/>
            <a:stretch/>
          </p:blipFill>
          <p:spPr>
            <a:xfrm>
              <a:off x="380880" y="4957920"/>
              <a:ext cx="1359000" cy="1371600"/>
            </a:xfrm>
            <a:prstGeom prst="rect">
              <a:avLst/>
            </a:prstGeom>
            <a:ln w="0">
              <a:noFill/>
            </a:ln>
          </p:spPr>
        </p:pic>
        <p:pic>
          <p:nvPicPr>
            <p:cNvPr id="1694" name="" descr=""/>
            <p:cNvPicPr/>
            <p:nvPr/>
          </p:nvPicPr>
          <p:blipFill>
            <a:blip r:embed="rId5"/>
            <a:stretch/>
          </p:blipFill>
          <p:spPr>
            <a:xfrm>
              <a:off x="4724280" y="3451320"/>
              <a:ext cx="1371600" cy="1382760"/>
            </a:xfrm>
            <a:prstGeom prst="rect">
              <a:avLst/>
            </a:prstGeom>
            <a:ln w="0">
              <a:noFill/>
            </a:ln>
          </p:spPr>
        </p:pic>
        <p:pic>
          <p:nvPicPr>
            <p:cNvPr id="1695" name="" descr=""/>
            <p:cNvPicPr/>
            <p:nvPr/>
          </p:nvPicPr>
          <p:blipFill>
            <a:blip r:embed="rId6"/>
            <a:stretch/>
          </p:blipFill>
          <p:spPr>
            <a:xfrm>
              <a:off x="4724280" y="4970520"/>
              <a:ext cx="1371600" cy="1371600"/>
            </a:xfrm>
            <a:prstGeom prst="rect">
              <a:avLst/>
            </a:prstGeom>
            <a:ln w="0">
              <a:noFill/>
            </a:ln>
          </p:spPr>
        </p:pic>
        <p:grpSp>
          <p:nvGrpSpPr>
            <p:cNvPr id="1696" name=""/>
            <p:cNvGrpSpPr/>
            <p:nvPr/>
          </p:nvGrpSpPr>
          <p:grpSpPr>
            <a:xfrm>
              <a:off x="4643280" y="1928880"/>
              <a:ext cx="1546560" cy="1371600"/>
              <a:chOff x="4643280" y="1928880"/>
              <a:chExt cx="1546560" cy="1371600"/>
            </a:xfrm>
          </p:grpSpPr>
          <p:sp>
            <p:nvSpPr>
              <p:cNvPr id="169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98" name=""/>
              <p:cNvGraphicFramePr/>
              <p:nvPr/>
            </p:nvGraphicFramePr>
            <p:xfrm>
              <a:off x="4643280" y="2117880"/>
              <a:ext cx="1546560" cy="1012680"/>
            </p:xfrm>
            <a:graphic>
              <a:graphicData uri="http://schemas.openxmlformats.org/presentationml/2006/ole">
                <p:oleObj r:id="rId7" spid="">
                  <p:embed/>
                  <p:pic>
                    <p:nvPicPr>
                      <p:cNvPr id="169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70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7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02"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1703"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1704"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1705"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1706"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1707"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four routes of exposure.</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the routes of exposure associated with the Candlestick Treasure story.</a:t>
            </a:r>
            <a:endParaRPr b="0" lang="en-US" sz="3200" spc="-1" strike="noStrike">
              <a:solidFill>
                <a:srgbClr val="000000"/>
              </a:solidFill>
              <a:latin typeface="Times New Roman"/>
            </a:endParaRPr>
          </a:p>
          <a:p>
            <a:pPr marL="4572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ze</a:t>
            </a: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hypothesis about how you think the workers were exposed to the sickness.</a:t>
            </a:r>
            <a:endParaRPr b="0" lang="en-US" sz="3200" spc="-1" strike="noStrike">
              <a:solidFill>
                <a:srgbClr val="000000"/>
              </a:solidFill>
              <a:latin typeface="Times New Roman"/>
            </a:endParaRPr>
          </a:p>
        </p:txBody>
      </p:sp>
      <p:pic>
        <p:nvPicPr>
          <p:cNvPr id="53" name="" descr=""/>
          <p:cNvPicPr/>
          <p:nvPr/>
        </p:nvPicPr>
        <p:blipFill>
          <a:blip r:embed="rId2"/>
          <a:stretch/>
        </p:blipFill>
        <p:spPr>
          <a:xfrm>
            <a:off x="3133800" y="3040200"/>
            <a:ext cx="2808360" cy="280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4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Routes of Exposure</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4157280"/>
            <a:ext cx="7772400" cy="941400"/>
          </a:xfrm>
          <a:prstGeom prst="rect">
            <a:avLst/>
          </a:prstGeom>
          <a:noFill/>
          <a:ln w="0">
            <a:noFill/>
          </a:ln>
        </p:spPr>
        <p:txBody>
          <a:bodyPr lIns="90000" rIns="90000" tIns="46800" bIns="46800" anchor="t">
            <a:normAutofit fontScale="72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four primary ways a toxic substance can get into the body. As we examine them, think about what was in the print shop that might have gotten into the sick workers’ bodies through each of these routes.</a:t>
            </a:r>
            <a:endParaRPr b="0" lang="en-US" sz="2800" spc="-1" strike="noStrike">
              <a:solidFill>
                <a:srgbClr val="000000"/>
              </a:solidFill>
              <a:latin typeface="Times New Roman"/>
            </a:endParaRPr>
          </a:p>
        </p:txBody>
      </p:sp>
      <p:sp>
        <p:nvSpPr>
          <p:cNvPr id="56" name=""/>
          <p:cNvSpPr/>
          <p:nvPr/>
        </p:nvSpPr>
        <p:spPr>
          <a:xfrm>
            <a:off x="5570640" y="4430880"/>
            <a:ext cx="90360" cy="2880"/>
          </a:xfrm>
          <a:custGeom>
            <a:avLst/>
            <a:gdLst/>
            <a:ahLst/>
            <a:rect l="l" t="t" r="r" b="b"/>
            <a:pathLst>
              <a:path w="57" h="2">
                <a:moveTo>
                  <a:pt x="0" y="2"/>
                </a:moveTo>
                <a:lnTo>
                  <a:pt x="21" y="2"/>
                </a:lnTo>
                <a:lnTo>
                  <a:pt x="21" y="2"/>
                </a:lnTo>
                <a:lnTo>
                  <a:pt x="21" y="2"/>
                </a:lnTo>
                <a:lnTo>
                  <a:pt x="21" y="2"/>
                </a:lnTo>
                <a:lnTo>
                  <a:pt x="21" y="2"/>
                </a:lnTo>
                <a:lnTo>
                  <a:pt x="21" y="2"/>
                </a:lnTo>
                <a:lnTo>
                  <a:pt x="21" y="2"/>
                </a:lnTo>
                <a:lnTo>
                  <a:pt x="21" y="2"/>
                </a:lnTo>
                <a:lnTo>
                  <a:pt x="21" y="2"/>
                </a:lnTo>
                <a:lnTo>
                  <a:pt x="17" y="2"/>
                </a:lnTo>
                <a:lnTo>
                  <a:pt x="15" y="2"/>
                </a:lnTo>
                <a:lnTo>
                  <a:pt x="13" y="2"/>
                </a:lnTo>
                <a:lnTo>
                  <a:pt x="9" y="2"/>
                </a:lnTo>
                <a:lnTo>
                  <a:pt x="7" y="2"/>
                </a:lnTo>
                <a:lnTo>
                  <a:pt x="5" y="2"/>
                </a:lnTo>
                <a:lnTo>
                  <a:pt x="2" y="2"/>
                </a:lnTo>
                <a:lnTo>
                  <a:pt x="0" y="2"/>
                </a:lnTo>
                <a:close/>
                <a:moveTo>
                  <a:pt x="44" y="0"/>
                </a:moveTo>
                <a:lnTo>
                  <a:pt x="57" y="0"/>
                </a:lnTo>
                <a:lnTo>
                  <a:pt x="55" y="0"/>
                </a:lnTo>
                <a:lnTo>
                  <a:pt x="53" y="0"/>
                </a:lnTo>
                <a:lnTo>
                  <a:pt x="53" y="0"/>
                </a:lnTo>
                <a:lnTo>
                  <a:pt x="51" y="0"/>
                </a:lnTo>
                <a:lnTo>
                  <a:pt x="50" y="0"/>
                </a:lnTo>
                <a:lnTo>
                  <a:pt x="48" y="0"/>
                </a:lnTo>
                <a:lnTo>
                  <a:pt x="48" y="2"/>
                </a:lnTo>
                <a:lnTo>
                  <a:pt x="46" y="2"/>
                </a:lnTo>
                <a:lnTo>
                  <a:pt x="46" y="2"/>
                </a:lnTo>
                <a:lnTo>
                  <a:pt x="46" y="2"/>
                </a:lnTo>
                <a:lnTo>
                  <a:pt x="46" y="0"/>
                </a:lnTo>
                <a:lnTo>
                  <a:pt x="46" y="0"/>
                </a:lnTo>
                <a:lnTo>
                  <a:pt x="46" y="0"/>
                </a:lnTo>
                <a:lnTo>
                  <a:pt x="44" y="0"/>
                </a:lnTo>
                <a:lnTo>
                  <a:pt x="44" y="0"/>
                </a:lnTo>
                <a:lnTo>
                  <a:pt x="44" y="0"/>
                </a:lnTo>
                <a:close/>
              </a:path>
            </a:pathLst>
          </a:custGeom>
          <a:solidFill>
            <a:srgbClr val="83b6b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57" name=""/>
          <p:cNvGrpSpPr/>
          <p:nvPr/>
        </p:nvGrpSpPr>
        <p:grpSpPr>
          <a:xfrm>
            <a:off x="4786200" y="2001240"/>
            <a:ext cx="1586520" cy="1676880"/>
            <a:chOff x="4786200" y="2001240"/>
            <a:chExt cx="1586520" cy="1676880"/>
          </a:xfrm>
        </p:grpSpPr>
        <p:sp>
          <p:nvSpPr>
            <p:cNvPr id="58" name=""/>
            <p:cNvSpPr/>
            <p:nvPr/>
          </p:nvSpPr>
          <p:spPr>
            <a:xfrm>
              <a:off x="4786920" y="315756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gestion</a:t>
              </a:r>
              <a:endParaRPr b="0" lang="en-US" sz="2800" spc="-1" strike="noStrike">
                <a:solidFill>
                  <a:srgbClr val="000000"/>
                </a:solidFill>
                <a:latin typeface="Arial"/>
              </a:endParaRPr>
            </a:p>
          </p:txBody>
        </p:sp>
        <p:grpSp>
          <p:nvGrpSpPr>
            <p:cNvPr id="59" name=""/>
            <p:cNvGrpSpPr/>
            <p:nvPr/>
          </p:nvGrpSpPr>
          <p:grpSpPr>
            <a:xfrm>
              <a:off x="4786200" y="2001240"/>
              <a:ext cx="1581480" cy="913680"/>
              <a:chOff x="4786200" y="2001240"/>
              <a:chExt cx="1581480" cy="913680"/>
            </a:xfrm>
          </p:grpSpPr>
          <p:sp>
            <p:nvSpPr>
              <p:cNvPr id="60" name=""/>
              <p:cNvSpPr/>
              <p:nvPr/>
            </p:nvSpPr>
            <p:spPr>
              <a:xfrm>
                <a:off x="4834080" y="2049480"/>
                <a:ext cx="1514520" cy="730440"/>
              </a:xfrm>
              <a:custGeom>
                <a:avLst/>
                <a:gdLst/>
                <a:ahLst/>
                <a:rect l="l" t="t" r="r" b="b"/>
                <a:pathLst>
                  <a:path w="4262" h="2060">
                    <a:moveTo>
                      <a:pt x="0" y="1035"/>
                    </a:moveTo>
                    <a:lnTo>
                      <a:pt x="522" y="576"/>
                    </a:lnTo>
                    <a:lnTo>
                      <a:pt x="1262" y="91"/>
                    </a:lnTo>
                    <a:lnTo>
                      <a:pt x="1600" y="0"/>
                    </a:lnTo>
                    <a:lnTo>
                      <a:pt x="1848" y="128"/>
                    </a:lnTo>
                    <a:lnTo>
                      <a:pt x="2231" y="274"/>
                    </a:lnTo>
                    <a:lnTo>
                      <a:pt x="2433" y="202"/>
                    </a:lnTo>
                    <a:lnTo>
                      <a:pt x="2688" y="73"/>
                    </a:lnTo>
                    <a:lnTo>
                      <a:pt x="3054" y="82"/>
                    </a:lnTo>
                    <a:lnTo>
                      <a:pt x="3842" y="641"/>
                    </a:lnTo>
                    <a:lnTo>
                      <a:pt x="4262" y="851"/>
                    </a:lnTo>
                    <a:lnTo>
                      <a:pt x="4262" y="1007"/>
                    </a:lnTo>
                    <a:lnTo>
                      <a:pt x="3859" y="1446"/>
                    </a:lnTo>
                    <a:lnTo>
                      <a:pt x="2991" y="2060"/>
                    </a:lnTo>
                    <a:lnTo>
                      <a:pt x="851" y="1986"/>
                    </a:lnTo>
                    <a:lnTo>
                      <a:pt x="128" y="1492"/>
                    </a:lnTo>
                    <a:lnTo>
                      <a:pt x="0" y="1035"/>
                    </a:lnTo>
                    <a:lnTo>
                      <a:pt x="0" y="10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802040" y="2152440"/>
                <a:ext cx="1556280" cy="591840"/>
              </a:xfrm>
              <a:custGeom>
                <a:avLst/>
                <a:gdLst/>
                <a:ahLst/>
                <a:rect l="l" t="t" r="r" b="b"/>
                <a:pathLst>
                  <a:path w="4382" h="1667">
                    <a:moveTo>
                      <a:pt x="55" y="1007"/>
                    </a:moveTo>
                    <a:lnTo>
                      <a:pt x="303" y="1245"/>
                    </a:lnTo>
                    <a:lnTo>
                      <a:pt x="1931" y="1667"/>
                    </a:lnTo>
                    <a:lnTo>
                      <a:pt x="3448" y="1447"/>
                    </a:lnTo>
                    <a:lnTo>
                      <a:pt x="4108" y="1034"/>
                    </a:lnTo>
                    <a:lnTo>
                      <a:pt x="4382" y="668"/>
                    </a:lnTo>
                    <a:lnTo>
                      <a:pt x="4097" y="631"/>
                    </a:lnTo>
                    <a:lnTo>
                      <a:pt x="3751" y="466"/>
                    </a:lnTo>
                    <a:lnTo>
                      <a:pt x="3221" y="151"/>
                    </a:lnTo>
                    <a:lnTo>
                      <a:pt x="2973" y="36"/>
                    </a:lnTo>
                    <a:lnTo>
                      <a:pt x="2826" y="72"/>
                    </a:lnTo>
                    <a:lnTo>
                      <a:pt x="2680" y="127"/>
                    </a:lnTo>
                    <a:lnTo>
                      <a:pt x="2415" y="229"/>
                    </a:lnTo>
                    <a:lnTo>
                      <a:pt x="2251" y="220"/>
                    </a:lnTo>
                    <a:lnTo>
                      <a:pt x="1903" y="31"/>
                    </a:lnTo>
                    <a:lnTo>
                      <a:pt x="1592" y="0"/>
                    </a:lnTo>
                    <a:lnTo>
                      <a:pt x="1345" y="72"/>
                    </a:lnTo>
                    <a:lnTo>
                      <a:pt x="960" y="255"/>
                    </a:lnTo>
                    <a:lnTo>
                      <a:pt x="645" y="512"/>
                    </a:lnTo>
                    <a:lnTo>
                      <a:pt x="211" y="696"/>
                    </a:lnTo>
                    <a:lnTo>
                      <a:pt x="0" y="788"/>
                    </a:lnTo>
                    <a:lnTo>
                      <a:pt x="55" y="1007"/>
                    </a:lnTo>
                    <a:lnTo>
                      <a:pt x="55" y="100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837320" y="2165040"/>
                <a:ext cx="1530360" cy="362880"/>
              </a:xfrm>
              <a:custGeom>
                <a:avLst/>
                <a:gdLst/>
                <a:ahLst/>
                <a:rect l="l" t="t" r="r" b="b"/>
                <a:pathLst>
                  <a:path w="4308" h="1022">
                    <a:moveTo>
                      <a:pt x="0" y="861"/>
                    </a:moveTo>
                    <a:lnTo>
                      <a:pt x="26" y="851"/>
                    </a:lnTo>
                    <a:lnTo>
                      <a:pt x="95" y="820"/>
                    </a:lnTo>
                    <a:lnTo>
                      <a:pt x="140" y="797"/>
                    </a:lnTo>
                    <a:lnTo>
                      <a:pt x="190" y="771"/>
                    </a:lnTo>
                    <a:lnTo>
                      <a:pt x="241" y="740"/>
                    </a:lnTo>
                    <a:lnTo>
                      <a:pt x="293" y="706"/>
                    </a:lnTo>
                    <a:lnTo>
                      <a:pt x="343" y="668"/>
                    </a:lnTo>
                    <a:lnTo>
                      <a:pt x="390" y="628"/>
                    </a:lnTo>
                    <a:lnTo>
                      <a:pt x="438" y="588"/>
                    </a:lnTo>
                    <a:lnTo>
                      <a:pt x="482" y="550"/>
                    </a:lnTo>
                    <a:lnTo>
                      <a:pt x="526" y="514"/>
                    </a:lnTo>
                    <a:lnTo>
                      <a:pt x="567" y="483"/>
                    </a:lnTo>
                    <a:lnTo>
                      <a:pt x="609" y="458"/>
                    </a:lnTo>
                    <a:lnTo>
                      <a:pt x="650" y="439"/>
                    </a:lnTo>
                    <a:lnTo>
                      <a:pt x="725" y="429"/>
                    </a:lnTo>
                    <a:lnTo>
                      <a:pt x="792" y="438"/>
                    </a:lnTo>
                    <a:lnTo>
                      <a:pt x="842" y="452"/>
                    </a:lnTo>
                    <a:lnTo>
                      <a:pt x="868" y="458"/>
                    </a:lnTo>
                    <a:lnTo>
                      <a:pt x="864" y="407"/>
                    </a:lnTo>
                    <a:lnTo>
                      <a:pt x="864" y="358"/>
                    </a:lnTo>
                    <a:lnTo>
                      <a:pt x="887" y="302"/>
                    </a:lnTo>
                    <a:lnTo>
                      <a:pt x="912" y="274"/>
                    </a:lnTo>
                    <a:lnTo>
                      <a:pt x="948" y="246"/>
                    </a:lnTo>
                    <a:lnTo>
                      <a:pt x="989" y="218"/>
                    </a:lnTo>
                    <a:lnTo>
                      <a:pt x="1036" y="193"/>
                    </a:lnTo>
                    <a:lnTo>
                      <a:pt x="1086" y="169"/>
                    </a:lnTo>
                    <a:lnTo>
                      <a:pt x="1137" y="149"/>
                    </a:lnTo>
                    <a:lnTo>
                      <a:pt x="1187" y="132"/>
                    </a:lnTo>
                    <a:lnTo>
                      <a:pt x="1234" y="119"/>
                    </a:lnTo>
                    <a:lnTo>
                      <a:pt x="1386" y="103"/>
                    </a:lnTo>
                    <a:lnTo>
                      <a:pt x="1491" y="91"/>
                    </a:lnTo>
                    <a:lnTo>
                      <a:pt x="1535" y="69"/>
                    </a:lnTo>
                    <a:lnTo>
                      <a:pt x="1581" y="39"/>
                    </a:lnTo>
                    <a:lnTo>
                      <a:pt x="1635" y="13"/>
                    </a:lnTo>
                    <a:lnTo>
                      <a:pt x="1701" y="0"/>
                    </a:lnTo>
                    <a:lnTo>
                      <a:pt x="1783" y="8"/>
                    </a:lnTo>
                    <a:lnTo>
                      <a:pt x="1870" y="39"/>
                    </a:lnTo>
                    <a:lnTo>
                      <a:pt x="1909" y="64"/>
                    </a:lnTo>
                    <a:lnTo>
                      <a:pt x="1945" y="95"/>
                    </a:lnTo>
                    <a:lnTo>
                      <a:pt x="1993" y="174"/>
                    </a:lnTo>
                    <a:lnTo>
                      <a:pt x="2007" y="274"/>
                    </a:lnTo>
                    <a:lnTo>
                      <a:pt x="1995" y="376"/>
                    </a:lnTo>
                    <a:lnTo>
                      <a:pt x="1977" y="454"/>
                    </a:lnTo>
                    <a:lnTo>
                      <a:pt x="1967" y="485"/>
                    </a:lnTo>
                    <a:lnTo>
                      <a:pt x="1985" y="461"/>
                    </a:lnTo>
                    <a:lnTo>
                      <a:pt x="2004" y="433"/>
                    </a:lnTo>
                    <a:lnTo>
                      <a:pt x="2029" y="401"/>
                    </a:lnTo>
                    <a:lnTo>
                      <a:pt x="2058" y="365"/>
                    </a:lnTo>
                    <a:lnTo>
                      <a:pt x="2091" y="331"/>
                    </a:lnTo>
                    <a:lnTo>
                      <a:pt x="2125" y="300"/>
                    </a:lnTo>
                    <a:lnTo>
                      <a:pt x="2159" y="275"/>
                    </a:lnTo>
                    <a:lnTo>
                      <a:pt x="2191" y="259"/>
                    </a:lnTo>
                    <a:lnTo>
                      <a:pt x="2222" y="250"/>
                    </a:lnTo>
                    <a:lnTo>
                      <a:pt x="2283" y="247"/>
                    </a:lnTo>
                    <a:lnTo>
                      <a:pt x="2387" y="247"/>
                    </a:lnTo>
                    <a:lnTo>
                      <a:pt x="2434" y="225"/>
                    </a:lnTo>
                    <a:lnTo>
                      <a:pt x="2480" y="197"/>
                    </a:lnTo>
                    <a:lnTo>
                      <a:pt x="2527" y="181"/>
                    </a:lnTo>
                    <a:lnTo>
                      <a:pt x="2579" y="193"/>
                    </a:lnTo>
                    <a:lnTo>
                      <a:pt x="2635" y="244"/>
                    </a:lnTo>
                    <a:lnTo>
                      <a:pt x="2663" y="278"/>
                    </a:lnTo>
                    <a:lnTo>
                      <a:pt x="2690" y="314"/>
                    </a:lnTo>
                    <a:lnTo>
                      <a:pt x="2712" y="348"/>
                    </a:lnTo>
                    <a:lnTo>
                      <a:pt x="2728" y="376"/>
                    </a:lnTo>
                    <a:lnTo>
                      <a:pt x="2744" y="404"/>
                    </a:lnTo>
                    <a:lnTo>
                      <a:pt x="2756" y="290"/>
                    </a:lnTo>
                    <a:lnTo>
                      <a:pt x="2780" y="110"/>
                    </a:lnTo>
                    <a:lnTo>
                      <a:pt x="2797" y="63"/>
                    </a:lnTo>
                    <a:lnTo>
                      <a:pt x="2825" y="45"/>
                    </a:lnTo>
                    <a:lnTo>
                      <a:pt x="2918" y="64"/>
                    </a:lnTo>
                    <a:lnTo>
                      <a:pt x="2986" y="84"/>
                    </a:lnTo>
                    <a:lnTo>
                      <a:pt x="3066" y="107"/>
                    </a:lnTo>
                    <a:lnTo>
                      <a:pt x="3154" y="140"/>
                    </a:lnTo>
                    <a:lnTo>
                      <a:pt x="3200" y="159"/>
                    </a:lnTo>
                    <a:lnTo>
                      <a:pt x="3247" y="184"/>
                    </a:lnTo>
                    <a:lnTo>
                      <a:pt x="3294" y="210"/>
                    </a:lnTo>
                    <a:lnTo>
                      <a:pt x="3341" y="241"/>
                    </a:lnTo>
                    <a:lnTo>
                      <a:pt x="3387" y="274"/>
                    </a:lnTo>
                    <a:lnTo>
                      <a:pt x="3431" y="309"/>
                    </a:lnTo>
                    <a:lnTo>
                      <a:pt x="3471" y="345"/>
                    </a:lnTo>
                    <a:lnTo>
                      <a:pt x="3508" y="380"/>
                    </a:lnTo>
                    <a:lnTo>
                      <a:pt x="3567" y="449"/>
                    </a:lnTo>
                    <a:lnTo>
                      <a:pt x="3617" y="560"/>
                    </a:lnTo>
                    <a:lnTo>
                      <a:pt x="3622" y="604"/>
                    </a:lnTo>
                    <a:lnTo>
                      <a:pt x="3642" y="595"/>
                    </a:lnTo>
                    <a:lnTo>
                      <a:pt x="3690" y="575"/>
                    </a:lnTo>
                    <a:lnTo>
                      <a:pt x="3747" y="554"/>
                    </a:lnTo>
                    <a:lnTo>
                      <a:pt x="3796" y="550"/>
                    </a:lnTo>
                    <a:lnTo>
                      <a:pt x="3830" y="567"/>
                    </a:lnTo>
                    <a:lnTo>
                      <a:pt x="3864" y="600"/>
                    </a:lnTo>
                    <a:lnTo>
                      <a:pt x="3884" y="618"/>
                    </a:lnTo>
                    <a:lnTo>
                      <a:pt x="3911" y="635"/>
                    </a:lnTo>
                    <a:lnTo>
                      <a:pt x="3945" y="650"/>
                    </a:lnTo>
                    <a:lnTo>
                      <a:pt x="3987" y="660"/>
                    </a:lnTo>
                    <a:lnTo>
                      <a:pt x="4213" y="665"/>
                    </a:lnTo>
                    <a:lnTo>
                      <a:pt x="4293" y="671"/>
                    </a:lnTo>
                    <a:lnTo>
                      <a:pt x="4308" y="679"/>
                    </a:lnTo>
                    <a:lnTo>
                      <a:pt x="4299" y="696"/>
                    </a:lnTo>
                    <a:lnTo>
                      <a:pt x="4265" y="721"/>
                    </a:lnTo>
                    <a:lnTo>
                      <a:pt x="4209" y="753"/>
                    </a:lnTo>
                    <a:lnTo>
                      <a:pt x="4173" y="769"/>
                    </a:lnTo>
                    <a:lnTo>
                      <a:pt x="4133" y="789"/>
                    </a:lnTo>
                    <a:lnTo>
                      <a:pt x="4092" y="808"/>
                    </a:lnTo>
                    <a:lnTo>
                      <a:pt x="4049" y="828"/>
                    </a:lnTo>
                    <a:lnTo>
                      <a:pt x="4004" y="848"/>
                    </a:lnTo>
                    <a:lnTo>
                      <a:pt x="3958" y="867"/>
                    </a:lnTo>
                    <a:lnTo>
                      <a:pt x="3912" y="887"/>
                    </a:lnTo>
                    <a:lnTo>
                      <a:pt x="3867" y="907"/>
                    </a:lnTo>
                    <a:lnTo>
                      <a:pt x="3822" y="924"/>
                    </a:lnTo>
                    <a:lnTo>
                      <a:pt x="3781" y="941"/>
                    </a:lnTo>
                    <a:lnTo>
                      <a:pt x="3704" y="971"/>
                    </a:lnTo>
                    <a:lnTo>
                      <a:pt x="3642" y="994"/>
                    </a:lnTo>
                    <a:lnTo>
                      <a:pt x="3594" y="1010"/>
                    </a:lnTo>
                    <a:lnTo>
                      <a:pt x="3523" y="1022"/>
                    </a:lnTo>
                    <a:lnTo>
                      <a:pt x="3464" y="1011"/>
                    </a:lnTo>
                    <a:lnTo>
                      <a:pt x="3393" y="980"/>
                    </a:lnTo>
                    <a:lnTo>
                      <a:pt x="3346" y="958"/>
                    </a:lnTo>
                    <a:lnTo>
                      <a:pt x="3290" y="933"/>
                    </a:lnTo>
                    <a:lnTo>
                      <a:pt x="3226" y="908"/>
                    </a:lnTo>
                    <a:lnTo>
                      <a:pt x="3157" y="884"/>
                    </a:lnTo>
                    <a:lnTo>
                      <a:pt x="3080" y="862"/>
                    </a:lnTo>
                    <a:lnTo>
                      <a:pt x="2999" y="846"/>
                    </a:lnTo>
                    <a:lnTo>
                      <a:pt x="2827" y="833"/>
                    </a:lnTo>
                    <a:lnTo>
                      <a:pt x="2647" y="855"/>
                    </a:lnTo>
                    <a:lnTo>
                      <a:pt x="2485" y="896"/>
                    </a:lnTo>
                    <a:lnTo>
                      <a:pt x="2420" y="917"/>
                    </a:lnTo>
                    <a:lnTo>
                      <a:pt x="2368" y="935"/>
                    </a:lnTo>
                    <a:lnTo>
                      <a:pt x="2322" y="952"/>
                    </a:lnTo>
                    <a:lnTo>
                      <a:pt x="1719" y="787"/>
                    </a:lnTo>
                    <a:lnTo>
                      <a:pt x="696" y="971"/>
                    </a:lnTo>
                    <a:lnTo>
                      <a:pt x="146" y="980"/>
                    </a:lnTo>
                    <a:lnTo>
                      <a:pt x="0" y="861"/>
                    </a:lnTo>
                    <a:lnTo>
                      <a:pt x="0" y="861"/>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905360" y="2288880"/>
                <a:ext cx="1372680" cy="321480"/>
              </a:xfrm>
              <a:custGeom>
                <a:avLst/>
                <a:gdLst/>
                <a:ahLst/>
                <a:rect l="l" t="t" r="r" b="b"/>
                <a:pathLst>
                  <a:path w="3863" h="905">
                    <a:moveTo>
                      <a:pt x="0" y="613"/>
                    </a:moveTo>
                    <a:lnTo>
                      <a:pt x="53" y="631"/>
                    </a:lnTo>
                    <a:lnTo>
                      <a:pt x="109" y="649"/>
                    </a:lnTo>
                    <a:lnTo>
                      <a:pt x="180" y="671"/>
                    </a:lnTo>
                    <a:lnTo>
                      <a:pt x="258" y="694"/>
                    </a:lnTo>
                    <a:lnTo>
                      <a:pt x="338" y="719"/>
                    </a:lnTo>
                    <a:lnTo>
                      <a:pt x="416" y="741"/>
                    </a:lnTo>
                    <a:lnTo>
                      <a:pt x="485" y="761"/>
                    </a:lnTo>
                    <a:lnTo>
                      <a:pt x="590" y="783"/>
                    </a:lnTo>
                    <a:lnTo>
                      <a:pt x="662" y="789"/>
                    </a:lnTo>
                    <a:lnTo>
                      <a:pt x="797" y="778"/>
                    </a:lnTo>
                    <a:lnTo>
                      <a:pt x="1263" y="761"/>
                    </a:lnTo>
                    <a:lnTo>
                      <a:pt x="1446" y="753"/>
                    </a:lnTo>
                    <a:lnTo>
                      <a:pt x="1565" y="761"/>
                    </a:lnTo>
                    <a:lnTo>
                      <a:pt x="1646" y="792"/>
                    </a:lnTo>
                    <a:lnTo>
                      <a:pt x="1683" y="808"/>
                    </a:lnTo>
                    <a:lnTo>
                      <a:pt x="1720" y="815"/>
                    </a:lnTo>
                    <a:lnTo>
                      <a:pt x="1807" y="805"/>
                    </a:lnTo>
                    <a:lnTo>
                      <a:pt x="1885" y="798"/>
                    </a:lnTo>
                    <a:lnTo>
                      <a:pt x="1937" y="830"/>
                    </a:lnTo>
                    <a:lnTo>
                      <a:pt x="1965" y="855"/>
                    </a:lnTo>
                    <a:lnTo>
                      <a:pt x="2005" y="880"/>
                    </a:lnTo>
                    <a:lnTo>
                      <a:pt x="2061" y="896"/>
                    </a:lnTo>
                    <a:lnTo>
                      <a:pt x="2131" y="905"/>
                    </a:lnTo>
                    <a:lnTo>
                      <a:pt x="2305" y="880"/>
                    </a:lnTo>
                    <a:lnTo>
                      <a:pt x="2401" y="843"/>
                    </a:lnTo>
                    <a:lnTo>
                      <a:pt x="2450" y="821"/>
                    </a:lnTo>
                    <a:lnTo>
                      <a:pt x="2499" y="799"/>
                    </a:lnTo>
                    <a:lnTo>
                      <a:pt x="2546" y="778"/>
                    </a:lnTo>
                    <a:lnTo>
                      <a:pt x="2593" y="759"/>
                    </a:lnTo>
                    <a:lnTo>
                      <a:pt x="2681" y="733"/>
                    </a:lnTo>
                    <a:lnTo>
                      <a:pt x="2761" y="730"/>
                    </a:lnTo>
                    <a:lnTo>
                      <a:pt x="2835" y="741"/>
                    </a:lnTo>
                    <a:lnTo>
                      <a:pt x="2910" y="758"/>
                    </a:lnTo>
                    <a:lnTo>
                      <a:pt x="2991" y="769"/>
                    </a:lnTo>
                    <a:lnTo>
                      <a:pt x="3187" y="752"/>
                    </a:lnTo>
                    <a:lnTo>
                      <a:pt x="3296" y="727"/>
                    </a:lnTo>
                    <a:lnTo>
                      <a:pt x="3413" y="696"/>
                    </a:lnTo>
                    <a:lnTo>
                      <a:pt x="3479" y="677"/>
                    </a:lnTo>
                    <a:lnTo>
                      <a:pt x="3555" y="650"/>
                    </a:lnTo>
                    <a:lnTo>
                      <a:pt x="3634" y="619"/>
                    </a:lnTo>
                    <a:lnTo>
                      <a:pt x="3711" y="587"/>
                    </a:lnTo>
                    <a:lnTo>
                      <a:pt x="3779" y="553"/>
                    </a:lnTo>
                    <a:lnTo>
                      <a:pt x="3830" y="520"/>
                    </a:lnTo>
                    <a:lnTo>
                      <a:pt x="3863" y="470"/>
                    </a:lnTo>
                    <a:lnTo>
                      <a:pt x="3838" y="452"/>
                    </a:lnTo>
                    <a:lnTo>
                      <a:pt x="3794" y="441"/>
                    </a:lnTo>
                    <a:lnTo>
                      <a:pt x="3671" y="423"/>
                    </a:lnTo>
                    <a:lnTo>
                      <a:pt x="3422" y="393"/>
                    </a:lnTo>
                    <a:lnTo>
                      <a:pt x="3212" y="367"/>
                    </a:lnTo>
                    <a:lnTo>
                      <a:pt x="3117" y="346"/>
                    </a:lnTo>
                    <a:lnTo>
                      <a:pt x="3056" y="302"/>
                    </a:lnTo>
                    <a:lnTo>
                      <a:pt x="3024" y="234"/>
                    </a:lnTo>
                    <a:lnTo>
                      <a:pt x="2994" y="160"/>
                    </a:lnTo>
                    <a:lnTo>
                      <a:pt x="2959" y="100"/>
                    </a:lnTo>
                    <a:lnTo>
                      <a:pt x="2937" y="81"/>
                    </a:lnTo>
                    <a:lnTo>
                      <a:pt x="2910" y="73"/>
                    </a:lnTo>
                    <a:lnTo>
                      <a:pt x="2853" y="87"/>
                    </a:lnTo>
                    <a:lnTo>
                      <a:pt x="2797" y="122"/>
                    </a:lnTo>
                    <a:lnTo>
                      <a:pt x="2739" y="168"/>
                    </a:lnTo>
                    <a:lnTo>
                      <a:pt x="2711" y="190"/>
                    </a:lnTo>
                    <a:lnTo>
                      <a:pt x="2681" y="211"/>
                    </a:lnTo>
                    <a:lnTo>
                      <a:pt x="2649" y="225"/>
                    </a:lnTo>
                    <a:lnTo>
                      <a:pt x="2617" y="233"/>
                    </a:lnTo>
                    <a:lnTo>
                      <a:pt x="2546" y="230"/>
                    </a:lnTo>
                    <a:lnTo>
                      <a:pt x="2476" y="221"/>
                    </a:lnTo>
                    <a:lnTo>
                      <a:pt x="2416" y="219"/>
                    </a:lnTo>
                    <a:lnTo>
                      <a:pt x="2369" y="249"/>
                    </a:lnTo>
                    <a:lnTo>
                      <a:pt x="2330" y="303"/>
                    </a:lnTo>
                    <a:lnTo>
                      <a:pt x="2311" y="333"/>
                    </a:lnTo>
                    <a:lnTo>
                      <a:pt x="2292" y="361"/>
                    </a:lnTo>
                    <a:lnTo>
                      <a:pt x="2269" y="385"/>
                    </a:lnTo>
                    <a:lnTo>
                      <a:pt x="2242" y="404"/>
                    </a:lnTo>
                    <a:lnTo>
                      <a:pt x="2177" y="424"/>
                    </a:lnTo>
                    <a:lnTo>
                      <a:pt x="2105" y="433"/>
                    </a:lnTo>
                    <a:lnTo>
                      <a:pt x="1968" y="413"/>
                    </a:lnTo>
                    <a:lnTo>
                      <a:pt x="1916" y="377"/>
                    </a:lnTo>
                    <a:lnTo>
                      <a:pt x="1873" y="327"/>
                    </a:lnTo>
                    <a:lnTo>
                      <a:pt x="1829" y="275"/>
                    </a:lnTo>
                    <a:lnTo>
                      <a:pt x="1804" y="255"/>
                    </a:lnTo>
                    <a:lnTo>
                      <a:pt x="1776" y="239"/>
                    </a:lnTo>
                    <a:lnTo>
                      <a:pt x="1704" y="224"/>
                    </a:lnTo>
                    <a:lnTo>
                      <a:pt x="1621" y="221"/>
                    </a:lnTo>
                    <a:lnTo>
                      <a:pt x="1465" y="184"/>
                    </a:lnTo>
                    <a:lnTo>
                      <a:pt x="1406" y="131"/>
                    </a:lnTo>
                    <a:lnTo>
                      <a:pt x="1357" y="73"/>
                    </a:lnTo>
                    <a:lnTo>
                      <a:pt x="1317" y="25"/>
                    </a:lnTo>
                    <a:lnTo>
                      <a:pt x="1298" y="8"/>
                    </a:lnTo>
                    <a:lnTo>
                      <a:pt x="1282" y="0"/>
                    </a:lnTo>
                    <a:lnTo>
                      <a:pt x="1248" y="10"/>
                    </a:lnTo>
                    <a:lnTo>
                      <a:pt x="1217" y="47"/>
                    </a:lnTo>
                    <a:lnTo>
                      <a:pt x="1171" y="137"/>
                    </a:lnTo>
                    <a:lnTo>
                      <a:pt x="1145" y="193"/>
                    </a:lnTo>
                    <a:lnTo>
                      <a:pt x="1080" y="247"/>
                    </a:lnTo>
                    <a:lnTo>
                      <a:pt x="1050" y="270"/>
                    </a:lnTo>
                    <a:lnTo>
                      <a:pt x="1013" y="293"/>
                    </a:lnTo>
                    <a:lnTo>
                      <a:pt x="972" y="318"/>
                    </a:lnTo>
                    <a:lnTo>
                      <a:pt x="925" y="345"/>
                    </a:lnTo>
                    <a:lnTo>
                      <a:pt x="875" y="370"/>
                    </a:lnTo>
                    <a:lnTo>
                      <a:pt x="820" y="392"/>
                    </a:lnTo>
                    <a:lnTo>
                      <a:pt x="764" y="410"/>
                    </a:lnTo>
                    <a:lnTo>
                      <a:pt x="705" y="421"/>
                    </a:lnTo>
                    <a:lnTo>
                      <a:pt x="463" y="424"/>
                    </a:lnTo>
                    <a:lnTo>
                      <a:pt x="239" y="439"/>
                    </a:lnTo>
                    <a:lnTo>
                      <a:pt x="143" y="485"/>
                    </a:lnTo>
                    <a:lnTo>
                      <a:pt x="68" y="542"/>
                    </a:lnTo>
                    <a:lnTo>
                      <a:pt x="19" y="593"/>
                    </a:lnTo>
                    <a:lnTo>
                      <a:pt x="0" y="613"/>
                    </a:lnTo>
                    <a:lnTo>
                      <a:pt x="0" y="613"/>
                    </a:lnTo>
                    <a:close/>
                  </a:path>
                </a:pathLst>
              </a:custGeom>
              <a:solidFill>
                <a:srgbClr val="a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821480" y="2457000"/>
                <a:ext cx="1528200" cy="417240"/>
              </a:xfrm>
              <a:custGeom>
                <a:avLst/>
                <a:gdLst/>
                <a:ahLst/>
                <a:rect l="l" t="t" r="r" b="b"/>
                <a:pathLst>
                  <a:path w="4302" h="1175">
                    <a:moveTo>
                      <a:pt x="0" y="150"/>
                    </a:moveTo>
                    <a:lnTo>
                      <a:pt x="19" y="314"/>
                    </a:lnTo>
                    <a:lnTo>
                      <a:pt x="47" y="357"/>
                    </a:lnTo>
                    <a:lnTo>
                      <a:pt x="81" y="395"/>
                    </a:lnTo>
                    <a:lnTo>
                      <a:pt x="128" y="434"/>
                    </a:lnTo>
                    <a:lnTo>
                      <a:pt x="187" y="465"/>
                    </a:lnTo>
                    <a:lnTo>
                      <a:pt x="256" y="494"/>
                    </a:lnTo>
                    <a:lnTo>
                      <a:pt x="335" y="532"/>
                    </a:lnTo>
                    <a:lnTo>
                      <a:pt x="376" y="558"/>
                    </a:lnTo>
                    <a:lnTo>
                      <a:pt x="420" y="590"/>
                    </a:lnTo>
                    <a:lnTo>
                      <a:pt x="467" y="628"/>
                    </a:lnTo>
                    <a:lnTo>
                      <a:pt x="517" y="671"/>
                    </a:lnTo>
                    <a:lnTo>
                      <a:pt x="575" y="720"/>
                    </a:lnTo>
                    <a:lnTo>
                      <a:pt x="643" y="770"/>
                    </a:lnTo>
                    <a:lnTo>
                      <a:pt x="681" y="796"/>
                    </a:lnTo>
                    <a:lnTo>
                      <a:pt x="722" y="823"/>
                    </a:lnTo>
                    <a:lnTo>
                      <a:pt x="768" y="850"/>
                    </a:lnTo>
                    <a:lnTo>
                      <a:pt x="817" y="875"/>
                    </a:lnTo>
                    <a:lnTo>
                      <a:pt x="870" y="901"/>
                    </a:lnTo>
                    <a:lnTo>
                      <a:pt x="929" y="926"/>
                    </a:lnTo>
                    <a:lnTo>
                      <a:pt x="992" y="951"/>
                    </a:lnTo>
                    <a:lnTo>
                      <a:pt x="1062" y="975"/>
                    </a:lnTo>
                    <a:lnTo>
                      <a:pt x="1135" y="997"/>
                    </a:lnTo>
                    <a:lnTo>
                      <a:pt x="1214" y="1018"/>
                    </a:lnTo>
                    <a:lnTo>
                      <a:pt x="1296" y="1038"/>
                    </a:lnTo>
                    <a:lnTo>
                      <a:pt x="1379" y="1057"/>
                    </a:lnTo>
                    <a:lnTo>
                      <a:pt x="1463" y="1075"/>
                    </a:lnTo>
                    <a:lnTo>
                      <a:pt x="1547" y="1091"/>
                    </a:lnTo>
                    <a:lnTo>
                      <a:pt x="1708" y="1121"/>
                    </a:lnTo>
                    <a:lnTo>
                      <a:pt x="1849" y="1144"/>
                    </a:lnTo>
                    <a:lnTo>
                      <a:pt x="1964" y="1162"/>
                    </a:lnTo>
                    <a:lnTo>
                      <a:pt x="2068" y="1175"/>
                    </a:lnTo>
                    <a:lnTo>
                      <a:pt x="3247" y="1066"/>
                    </a:lnTo>
                    <a:lnTo>
                      <a:pt x="3851" y="627"/>
                    </a:lnTo>
                    <a:lnTo>
                      <a:pt x="3895" y="578"/>
                    </a:lnTo>
                    <a:lnTo>
                      <a:pt x="3942" y="527"/>
                    </a:lnTo>
                    <a:lnTo>
                      <a:pt x="3969" y="496"/>
                    </a:lnTo>
                    <a:lnTo>
                      <a:pt x="3997" y="463"/>
                    </a:lnTo>
                    <a:lnTo>
                      <a:pt x="4028" y="431"/>
                    </a:lnTo>
                    <a:lnTo>
                      <a:pt x="4057" y="397"/>
                    </a:lnTo>
                    <a:lnTo>
                      <a:pt x="4087" y="363"/>
                    </a:lnTo>
                    <a:lnTo>
                      <a:pt x="4116" y="330"/>
                    </a:lnTo>
                    <a:lnTo>
                      <a:pt x="4143" y="299"/>
                    </a:lnTo>
                    <a:lnTo>
                      <a:pt x="4168" y="270"/>
                    </a:lnTo>
                    <a:lnTo>
                      <a:pt x="4207" y="223"/>
                    </a:lnTo>
                    <a:lnTo>
                      <a:pt x="4237" y="186"/>
                    </a:lnTo>
                    <a:lnTo>
                      <a:pt x="4262" y="152"/>
                    </a:lnTo>
                    <a:lnTo>
                      <a:pt x="4295" y="96"/>
                    </a:lnTo>
                    <a:lnTo>
                      <a:pt x="4302" y="52"/>
                    </a:lnTo>
                    <a:lnTo>
                      <a:pt x="4281" y="22"/>
                    </a:lnTo>
                    <a:lnTo>
                      <a:pt x="4231" y="6"/>
                    </a:lnTo>
                    <a:lnTo>
                      <a:pt x="4162" y="0"/>
                    </a:lnTo>
                    <a:lnTo>
                      <a:pt x="4016" y="22"/>
                    </a:lnTo>
                    <a:lnTo>
                      <a:pt x="3915" y="74"/>
                    </a:lnTo>
                    <a:lnTo>
                      <a:pt x="3876" y="112"/>
                    </a:lnTo>
                    <a:lnTo>
                      <a:pt x="3833" y="159"/>
                    </a:lnTo>
                    <a:lnTo>
                      <a:pt x="3780" y="214"/>
                    </a:lnTo>
                    <a:lnTo>
                      <a:pt x="3747" y="242"/>
                    </a:lnTo>
                    <a:lnTo>
                      <a:pt x="3712" y="271"/>
                    </a:lnTo>
                    <a:lnTo>
                      <a:pt x="3672" y="298"/>
                    </a:lnTo>
                    <a:lnTo>
                      <a:pt x="3628" y="322"/>
                    </a:lnTo>
                    <a:lnTo>
                      <a:pt x="3578" y="344"/>
                    </a:lnTo>
                    <a:lnTo>
                      <a:pt x="3522" y="360"/>
                    </a:lnTo>
                    <a:lnTo>
                      <a:pt x="3395" y="382"/>
                    </a:lnTo>
                    <a:lnTo>
                      <a:pt x="3259" y="397"/>
                    </a:lnTo>
                    <a:lnTo>
                      <a:pt x="3028" y="442"/>
                    </a:lnTo>
                    <a:lnTo>
                      <a:pt x="2960" y="494"/>
                    </a:lnTo>
                    <a:lnTo>
                      <a:pt x="2923" y="555"/>
                    </a:lnTo>
                    <a:lnTo>
                      <a:pt x="2890" y="636"/>
                    </a:lnTo>
                    <a:lnTo>
                      <a:pt x="2849" y="596"/>
                    </a:lnTo>
                    <a:lnTo>
                      <a:pt x="2808" y="553"/>
                    </a:lnTo>
                    <a:lnTo>
                      <a:pt x="2778" y="534"/>
                    </a:lnTo>
                    <a:lnTo>
                      <a:pt x="2744" y="516"/>
                    </a:lnTo>
                    <a:lnTo>
                      <a:pt x="2656" y="497"/>
                    </a:lnTo>
                    <a:lnTo>
                      <a:pt x="2556" y="496"/>
                    </a:lnTo>
                    <a:lnTo>
                      <a:pt x="2454" y="512"/>
                    </a:lnTo>
                    <a:lnTo>
                      <a:pt x="2368" y="544"/>
                    </a:lnTo>
                    <a:lnTo>
                      <a:pt x="2273" y="633"/>
                    </a:lnTo>
                    <a:lnTo>
                      <a:pt x="2252" y="668"/>
                    </a:lnTo>
                    <a:lnTo>
                      <a:pt x="2242" y="681"/>
                    </a:lnTo>
                    <a:lnTo>
                      <a:pt x="2218" y="625"/>
                    </a:lnTo>
                    <a:lnTo>
                      <a:pt x="2193" y="578"/>
                    </a:lnTo>
                    <a:lnTo>
                      <a:pt x="2174" y="555"/>
                    </a:lnTo>
                    <a:lnTo>
                      <a:pt x="2150" y="534"/>
                    </a:lnTo>
                    <a:lnTo>
                      <a:pt x="2119" y="518"/>
                    </a:lnTo>
                    <a:lnTo>
                      <a:pt x="2082" y="506"/>
                    </a:lnTo>
                    <a:lnTo>
                      <a:pt x="1998" y="497"/>
                    </a:lnTo>
                    <a:lnTo>
                      <a:pt x="1908" y="506"/>
                    </a:lnTo>
                    <a:lnTo>
                      <a:pt x="1820" y="534"/>
                    </a:lnTo>
                    <a:lnTo>
                      <a:pt x="1780" y="556"/>
                    </a:lnTo>
                    <a:lnTo>
                      <a:pt x="1745" y="581"/>
                    </a:lnTo>
                    <a:lnTo>
                      <a:pt x="1686" y="631"/>
                    </a:lnTo>
                    <a:lnTo>
                      <a:pt x="1647" y="670"/>
                    </a:lnTo>
                    <a:lnTo>
                      <a:pt x="1637" y="681"/>
                    </a:lnTo>
                    <a:lnTo>
                      <a:pt x="1653" y="653"/>
                    </a:lnTo>
                    <a:lnTo>
                      <a:pt x="1674" y="599"/>
                    </a:lnTo>
                    <a:lnTo>
                      <a:pt x="1678" y="568"/>
                    </a:lnTo>
                    <a:lnTo>
                      <a:pt x="1675" y="535"/>
                    </a:lnTo>
                    <a:lnTo>
                      <a:pt x="1659" y="506"/>
                    </a:lnTo>
                    <a:lnTo>
                      <a:pt x="1628" y="479"/>
                    </a:lnTo>
                    <a:lnTo>
                      <a:pt x="1581" y="460"/>
                    </a:lnTo>
                    <a:lnTo>
                      <a:pt x="1519" y="445"/>
                    </a:lnTo>
                    <a:lnTo>
                      <a:pt x="1367" y="432"/>
                    </a:lnTo>
                    <a:lnTo>
                      <a:pt x="1062" y="442"/>
                    </a:lnTo>
                    <a:lnTo>
                      <a:pt x="891" y="472"/>
                    </a:lnTo>
                    <a:lnTo>
                      <a:pt x="786" y="479"/>
                    </a:lnTo>
                    <a:lnTo>
                      <a:pt x="637" y="438"/>
                    </a:lnTo>
                    <a:lnTo>
                      <a:pt x="588" y="419"/>
                    </a:lnTo>
                    <a:lnTo>
                      <a:pt x="534" y="397"/>
                    </a:lnTo>
                    <a:lnTo>
                      <a:pt x="475" y="370"/>
                    </a:lnTo>
                    <a:lnTo>
                      <a:pt x="411" y="342"/>
                    </a:lnTo>
                    <a:lnTo>
                      <a:pt x="343" y="311"/>
                    </a:lnTo>
                    <a:lnTo>
                      <a:pt x="273" y="279"/>
                    </a:lnTo>
                    <a:lnTo>
                      <a:pt x="203" y="246"/>
                    </a:lnTo>
                    <a:lnTo>
                      <a:pt x="138" y="215"/>
                    </a:lnTo>
                    <a:lnTo>
                      <a:pt x="84" y="190"/>
                    </a:lnTo>
                    <a:lnTo>
                      <a:pt x="40" y="170"/>
                    </a:lnTo>
                    <a:lnTo>
                      <a:pt x="0" y="150"/>
                    </a:lnTo>
                    <a:lnTo>
                      <a:pt x="0" y="15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869000" y="2601720"/>
                <a:ext cx="1406880" cy="313200"/>
              </a:xfrm>
              <a:custGeom>
                <a:avLst/>
                <a:gdLst/>
                <a:ahLst/>
                <a:rect l="l" t="t" r="r" b="b"/>
                <a:pathLst>
                  <a:path w="3960" h="882">
                    <a:moveTo>
                      <a:pt x="65" y="39"/>
                    </a:moveTo>
                    <a:lnTo>
                      <a:pt x="171" y="41"/>
                    </a:lnTo>
                    <a:lnTo>
                      <a:pt x="291" y="63"/>
                    </a:lnTo>
                    <a:lnTo>
                      <a:pt x="419" y="104"/>
                    </a:lnTo>
                    <a:lnTo>
                      <a:pt x="485" y="128"/>
                    </a:lnTo>
                    <a:lnTo>
                      <a:pt x="552" y="156"/>
                    </a:lnTo>
                    <a:lnTo>
                      <a:pt x="618" y="185"/>
                    </a:lnTo>
                    <a:lnTo>
                      <a:pt x="683" y="215"/>
                    </a:lnTo>
                    <a:lnTo>
                      <a:pt x="746" y="246"/>
                    </a:lnTo>
                    <a:lnTo>
                      <a:pt x="808" y="275"/>
                    </a:lnTo>
                    <a:lnTo>
                      <a:pt x="866" y="305"/>
                    </a:lnTo>
                    <a:lnTo>
                      <a:pt x="920" y="333"/>
                    </a:lnTo>
                    <a:lnTo>
                      <a:pt x="972" y="358"/>
                    </a:lnTo>
                    <a:lnTo>
                      <a:pt x="1018" y="382"/>
                    </a:lnTo>
                    <a:lnTo>
                      <a:pt x="1062" y="402"/>
                    </a:lnTo>
                    <a:lnTo>
                      <a:pt x="1105" y="420"/>
                    </a:lnTo>
                    <a:lnTo>
                      <a:pt x="1186" y="452"/>
                    </a:lnTo>
                    <a:lnTo>
                      <a:pt x="1264" y="476"/>
                    </a:lnTo>
                    <a:lnTo>
                      <a:pt x="1339" y="494"/>
                    </a:lnTo>
                    <a:lnTo>
                      <a:pt x="1481" y="514"/>
                    </a:lnTo>
                    <a:lnTo>
                      <a:pt x="1618" y="517"/>
                    </a:lnTo>
                    <a:lnTo>
                      <a:pt x="1897" y="497"/>
                    </a:lnTo>
                    <a:lnTo>
                      <a:pt x="2050" y="485"/>
                    </a:lnTo>
                    <a:lnTo>
                      <a:pt x="2220" y="480"/>
                    </a:lnTo>
                    <a:lnTo>
                      <a:pt x="2708" y="474"/>
                    </a:lnTo>
                    <a:lnTo>
                      <a:pt x="2953" y="445"/>
                    </a:lnTo>
                    <a:lnTo>
                      <a:pt x="3068" y="417"/>
                    </a:lnTo>
                    <a:lnTo>
                      <a:pt x="3172" y="377"/>
                    </a:lnTo>
                    <a:lnTo>
                      <a:pt x="3208" y="359"/>
                    </a:lnTo>
                    <a:lnTo>
                      <a:pt x="3258" y="333"/>
                    </a:lnTo>
                    <a:lnTo>
                      <a:pt x="3320" y="300"/>
                    </a:lnTo>
                    <a:lnTo>
                      <a:pt x="3354" y="281"/>
                    </a:lnTo>
                    <a:lnTo>
                      <a:pt x="3391" y="262"/>
                    </a:lnTo>
                    <a:lnTo>
                      <a:pt x="3428" y="241"/>
                    </a:lnTo>
                    <a:lnTo>
                      <a:pt x="3467" y="219"/>
                    </a:lnTo>
                    <a:lnTo>
                      <a:pt x="3507" y="199"/>
                    </a:lnTo>
                    <a:lnTo>
                      <a:pt x="3547" y="177"/>
                    </a:lnTo>
                    <a:lnTo>
                      <a:pt x="3587" y="156"/>
                    </a:lnTo>
                    <a:lnTo>
                      <a:pt x="3627" y="134"/>
                    </a:lnTo>
                    <a:lnTo>
                      <a:pt x="3666" y="115"/>
                    </a:lnTo>
                    <a:lnTo>
                      <a:pt x="3705" y="95"/>
                    </a:lnTo>
                    <a:lnTo>
                      <a:pt x="3742" y="76"/>
                    </a:lnTo>
                    <a:lnTo>
                      <a:pt x="3777" y="60"/>
                    </a:lnTo>
                    <a:lnTo>
                      <a:pt x="3842" y="31"/>
                    </a:lnTo>
                    <a:lnTo>
                      <a:pt x="3895" y="10"/>
                    </a:lnTo>
                    <a:lnTo>
                      <a:pt x="3935" y="0"/>
                    </a:lnTo>
                    <a:lnTo>
                      <a:pt x="3957" y="1"/>
                    </a:lnTo>
                    <a:lnTo>
                      <a:pt x="3960" y="16"/>
                    </a:lnTo>
                    <a:lnTo>
                      <a:pt x="3941" y="48"/>
                    </a:lnTo>
                    <a:lnTo>
                      <a:pt x="3897" y="97"/>
                    </a:lnTo>
                    <a:lnTo>
                      <a:pt x="3861" y="134"/>
                    </a:lnTo>
                    <a:lnTo>
                      <a:pt x="3827" y="169"/>
                    </a:lnTo>
                    <a:lnTo>
                      <a:pt x="3792" y="208"/>
                    </a:lnTo>
                    <a:lnTo>
                      <a:pt x="3758" y="246"/>
                    </a:lnTo>
                    <a:lnTo>
                      <a:pt x="3724" y="284"/>
                    </a:lnTo>
                    <a:lnTo>
                      <a:pt x="3689" y="321"/>
                    </a:lnTo>
                    <a:lnTo>
                      <a:pt x="3655" y="359"/>
                    </a:lnTo>
                    <a:lnTo>
                      <a:pt x="3619" y="396"/>
                    </a:lnTo>
                    <a:lnTo>
                      <a:pt x="3582" y="433"/>
                    </a:lnTo>
                    <a:lnTo>
                      <a:pt x="3546" y="469"/>
                    </a:lnTo>
                    <a:lnTo>
                      <a:pt x="3509" y="502"/>
                    </a:lnTo>
                    <a:lnTo>
                      <a:pt x="3469" y="533"/>
                    </a:lnTo>
                    <a:lnTo>
                      <a:pt x="3429" y="564"/>
                    </a:lnTo>
                    <a:lnTo>
                      <a:pt x="3388" y="592"/>
                    </a:lnTo>
                    <a:lnTo>
                      <a:pt x="3345" y="618"/>
                    </a:lnTo>
                    <a:lnTo>
                      <a:pt x="3299" y="641"/>
                    </a:lnTo>
                    <a:lnTo>
                      <a:pt x="3245" y="666"/>
                    </a:lnTo>
                    <a:lnTo>
                      <a:pt x="3184" y="690"/>
                    </a:lnTo>
                    <a:lnTo>
                      <a:pt x="3121" y="713"/>
                    </a:lnTo>
                    <a:lnTo>
                      <a:pt x="3053" y="735"/>
                    </a:lnTo>
                    <a:lnTo>
                      <a:pt x="2984" y="755"/>
                    </a:lnTo>
                    <a:lnTo>
                      <a:pt x="2908" y="774"/>
                    </a:lnTo>
                    <a:lnTo>
                      <a:pt x="2833" y="792"/>
                    </a:lnTo>
                    <a:lnTo>
                      <a:pt x="2754" y="808"/>
                    </a:lnTo>
                    <a:lnTo>
                      <a:pt x="2590" y="836"/>
                    </a:lnTo>
                    <a:lnTo>
                      <a:pt x="2420" y="858"/>
                    </a:lnTo>
                    <a:lnTo>
                      <a:pt x="2246" y="873"/>
                    </a:lnTo>
                    <a:lnTo>
                      <a:pt x="2071" y="882"/>
                    </a:lnTo>
                    <a:lnTo>
                      <a:pt x="1723" y="874"/>
                    </a:lnTo>
                    <a:lnTo>
                      <a:pt x="1394" y="834"/>
                    </a:lnTo>
                    <a:lnTo>
                      <a:pt x="1243" y="799"/>
                    </a:lnTo>
                    <a:lnTo>
                      <a:pt x="1173" y="778"/>
                    </a:lnTo>
                    <a:lnTo>
                      <a:pt x="1105" y="756"/>
                    </a:lnTo>
                    <a:lnTo>
                      <a:pt x="1041" y="730"/>
                    </a:lnTo>
                    <a:lnTo>
                      <a:pt x="981" y="702"/>
                    </a:lnTo>
                    <a:lnTo>
                      <a:pt x="925" y="671"/>
                    </a:lnTo>
                    <a:lnTo>
                      <a:pt x="872" y="638"/>
                    </a:lnTo>
                    <a:lnTo>
                      <a:pt x="845" y="618"/>
                    </a:lnTo>
                    <a:lnTo>
                      <a:pt x="817" y="598"/>
                    </a:lnTo>
                    <a:lnTo>
                      <a:pt x="792" y="579"/>
                    </a:lnTo>
                    <a:lnTo>
                      <a:pt x="765" y="560"/>
                    </a:lnTo>
                    <a:lnTo>
                      <a:pt x="740" y="542"/>
                    </a:lnTo>
                    <a:lnTo>
                      <a:pt x="717" y="525"/>
                    </a:lnTo>
                    <a:lnTo>
                      <a:pt x="668" y="488"/>
                    </a:lnTo>
                    <a:lnTo>
                      <a:pt x="621" y="454"/>
                    </a:lnTo>
                    <a:lnTo>
                      <a:pt x="575" y="421"/>
                    </a:lnTo>
                    <a:lnTo>
                      <a:pt x="529" y="389"/>
                    </a:lnTo>
                    <a:lnTo>
                      <a:pt x="484" y="358"/>
                    </a:lnTo>
                    <a:lnTo>
                      <a:pt x="437" y="328"/>
                    </a:lnTo>
                    <a:lnTo>
                      <a:pt x="389" y="300"/>
                    </a:lnTo>
                    <a:lnTo>
                      <a:pt x="341" y="272"/>
                    </a:lnTo>
                    <a:lnTo>
                      <a:pt x="289" y="247"/>
                    </a:lnTo>
                    <a:lnTo>
                      <a:pt x="236" y="222"/>
                    </a:lnTo>
                    <a:lnTo>
                      <a:pt x="178" y="199"/>
                    </a:lnTo>
                    <a:lnTo>
                      <a:pt x="119" y="177"/>
                    </a:lnTo>
                    <a:lnTo>
                      <a:pt x="56" y="157"/>
                    </a:lnTo>
                    <a:lnTo>
                      <a:pt x="13" y="131"/>
                    </a:lnTo>
                    <a:lnTo>
                      <a:pt x="0" y="94"/>
                    </a:lnTo>
                    <a:lnTo>
                      <a:pt x="18" y="59"/>
                    </a:lnTo>
                    <a:lnTo>
                      <a:pt x="38" y="47"/>
                    </a:lnTo>
                    <a:lnTo>
                      <a:pt x="65" y="39"/>
                    </a:lnTo>
                    <a:lnTo>
                      <a:pt x="6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885200" y="2270880"/>
                <a:ext cx="1362240" cy="282960"/>
              </a:xfrm>
              <a:custGeom>
                <a:avLst/>
                <a:gdLst/>
                <a:ahLst/>
                <a:rect l="l" t="t" r="r" b="b"/>
                <a:pathLst>
                  <a:path w="3833" h="800">
                    <a:moveTo>
                      <a:pt x="1503" y="61"/>
                    </a:moveTo>
                    <a:lnTo>
                      <a:pt x="1525" y="113"/>
                    </a:lnTo>
                    <a:lnTo>
                      <a:pt x="1546" y="159"/>
                    </a:lnTo>
                    <a:lnTo>
                      <a:pt x="1568" y="200"/>
                    </a:lnTo>
                    <a:lnTo>
                      <a:pt x="1589" y="237"/>
                    </a:lnTo>
                    <a:lnTo>
                      <a:pt x="1612" y="269"/>
                    </a:lnTo>
                    <a:lnTo>
                      <a:pt x="1636" y="300"/>
                    </a:lnTo>
                    <a:lnTo>
                      <a:pt x="1687" y="351"/>
                    </a:lnTo>
                    <a:lnTo>
                      <a:pt x="1752" y="383"/>
                    </a:lnTo>
                    <a:lnTo>
                      <a:pt x="1795" y="410"/>
                    </a:lnTo>
                    <a:lnTo>
                      <a:pt x="1841" y="439"/>
                    </a:lnTo>
                    <a:lnTo>
                      <a:pt x="1888" y="470"/>
                    </a:lnTo>
                    <a:lnTo>
                      <a:pt x="1932" y="498"/>
                    </a:lnTo>
                    <a:lnTo>
                      <a:pt x="1974" y="522"/>
                    </a:lnTo>
                    <a:lnTo>
                      <a:pt x="2007" y="536"/>
                    </a:lnTo>
                    <a:lnTo>
                      <a:pt x="2152" y="544"/>
                    </a:lnTo>
                    <a:lnTo>
                      <a:pt x="2372" y="491"/>
                    </a:lnTo>
                    <a:lnTo>
                      <a:pt x="2388" y="479"/>
                    </a:lnTo>
                    <a:lnTo>
                      <a:pt x="2445" y="445"/>
                    </a:lnTo>
                    <a:lnTo>
                      <a:pt x="2502" y="412"/>
                    </a:lnTo>
                    <a:lnTo>
                      <a:pt x="2556" y="382"/>
                    </a:lnTo>
                    <a:lnTo>
                      <a:pt x="2611" y="349"/>
                    </a:lnTo>
                    <a:lnTo>
                      <a:pt x="2662" y="315"/>
                    </a:lnTo>
                    <a:lnTo>
                      <a:pt x="2712" y="278"/>
                    </a:lnTo>
                    <a:lnTo>
                      <a:pt x="2761" y="234"/>
                    </a:lnTo>
                    <a:lnTo>
                      <a:pt x="2808" y="184"/>
                    </a:lnTo>
                    <a:lnTo>
                      <a:pt x="2855" y="120"/>
                    </a:lnTo>
                    <a:lnTo>
                      <a:pt x="2878" y="90"/>
                    </a:lnTo>
                    <a:lnTo>
                      <a:pt x="2901" y="60"/>
                    </a:lnTo>
                    <a:lnTo>
                      <a:pt x="2922" y="42"/>
                    </a:lnTo>
                    <a:lnTo>
                      <a:pt x="2944" y="33"/>
                    </a:lnTo>
                    <a:lnTo>
                      <a:pt x="2984" y="42"/>
                    </a:lnTo>
                    <a:lnTo>
                      <a:pt x="3006" y="75"/>
                    </a:lnTo>
                    <a:lnTo>
                      <a:pt x="3000" y="123"/>
                    </a:lnTo>
                    <a:lnTo>
                      <a:pt x="2971" y="190"/>
                    </a:lnTo>
                    <a:lnTo>
                      <a:pt x="2942" y="252"/>
                    </a:lnTo>
                    <a:lnTo>
                      <a:pt x="2925" y="281"/>
                    </a:lnTo>
                    <a:lnTo>
                      <a:pt x="2901" y="312"/>
                    </a:lnTo>
                    <a:lnTo>
                      <a:pt x="2872" y="343"/>
                    </a:lnTo>
                    <a:lnTo>
                      <a:pt x="2833" y="376"/>
                    </a:lnTo>
                    <a:lnTo>
                      <a:pt x="2972" y="398"/>
                    </a:lnTo>
                    <a:lnTo>
                      <a:pt x="3031" y="420"/>
                    </a:lnTo>
                    <a:lnTo>
                      <a:pt x="3089" y="443"/>
                    </a:lnTo>
                    <a:lnTo>
                      <a:pt x="3147" y="467"/>
                    </a:lnTo>
                    <a:lnTo>
                      <a:pt x="3211" y="489"/>
                    </a:lnTo>
                    <a:lnTo>
                      <a:pt x="3283" y="504"/>
                    </a:lnTo>
                    <a:lnTo>
                      <a:pt x="3367" y="510"/>
                    </a:lnTo>
                    <a:lnTo>
                      <a:pt x="3673" y="519"/>
                    </a:lnTo>
                    <a:lnTo>
                      <a:pt x="3814" y="551"/>
                    </a:lnTo>
                    <a:lnTo>
                      <a:pt x="3833" y="581"/>
                    </a:lnTo>
                    <a:lnTo>
                      <a:pt x="3823" y="598"/>
                    </a:lnTo>
                    <a:lnTo>
                      <a:pt x="3799" y="620"/>
                    </a:lnTo>
                    <a:lnTo>
                      <a:pt x="3770" y="641"/>
                    </a:lnTo>
                    <a:lnTo>
                      <a:pt x="3742" y="660"/>
                    </a:lnTo>
                    <a:lnTo>
                      <a:pt x="3714" y="679"/>
                    </a:lnTo>
                    <a:lnTo>
                      <a:pt x="3686" y="696"/>
                    </a:lnTo>
                    <a:lnTo>
                      <a:pt x="3633" y="724"/>
                    </a:lnTo>
                    <a:lnTo>
                      <a:pt x="3581" y="749"/>
                    </a:lnTo>
                    <a:lnTo>
                      <a:pt x="3531" y="768"/>
                    </a:lnTo>
                    <a:lnTo>
                      <a:pt x="3482" y="783"/>
                    </a:lnTo>
                    <a:lnTo>
                      <a:pt x="3391" y="800"/>
                    </a:lnTo>
                    <a:lnTo>
                      <a:pt x="3224" y="796"/>
                    </a:lnTo>
                    <a:lnTo>
                      <a:pt x="3075" y="759"/>
                    </a:lnTo>
                    <a:lnTo>
                      <a:pt x="3007" y="733"/>
                    </a:lnTo>
                    <a:lnTo>
                      <a:pt x="2941" y="706"/>
                    </a:lnTo>
                    <a:lnTo>
                      <a:pt x="2876" y="682"/>
                    </a:lnTo>
                    <a:lnTo>
                      <a:pt x="2813" y="662"/>
                    </a:lnTo>
                    <a:lnTo>
                      <a:pt x="2749" y="647"/>
                    </a:lnTo>
                    <a:lnTo>
                      <a:pt x="2686" y="643"/>
                    </a:lnTo>
                    <a:lnTo>
                      <a:pt x="2558" y="672"/>
                    </a:lnTo>
                    <a:lnTo>
                      <a:pt x="2502" y="697"/>
                    </a:lnTo>
                    <a:lnTo>
                      <a:pt x="2450" y="718"/>
                    </a:lnTo>
                    <a:lnTo>
                      <a:pt x="2400" y="735"/>
                    </a:lnTo>
                    <a:lnTo>
                      <a:pt x="2354" y="752"/>
                    </a:lnTo>
                    <a:lnTo>
                      <a:pt x="2271" y="774"/>
                    </a:lnTo>
                    <a:lnTo>
                      <a:pt x="2198" y="787"/>
                    </a:lnTo>
                    <a:lnTo>
                      <a:pt x="2074" y="790"/>
                    </a:lnTo>
                    <a:lnTo>
                      <a:pt x="1971" y="771"/>
                    </a:lnTo>
                    <a:lnTo>
                      <a:pt x="1873" y="738"/>
                    </a:lnTo>
                    <a:lnTo>
                      <a:pt x="1822" y="722"/>
                    </a:lnTo>
                    <a:lnTo>
                      <a:pt x="1769" y="707"/>
                    </a:lnTo>
                    <a:lnTo>
                      <a:pt x="1645" y="685"/>
                    </a:lnTo>
                    <a:lnTo>
                      <a:pt x="1488" y="685"/>
                    </a:lnTo>
                    <a:lnTo>
                      <a:pt x="1134" y="725"/>
                    </a:lnTo>
                    <a:lnTo>
                      <a:pt x="951" y="750"/>
                    </a:lnTo>
                    <a:lnTo>
                      <a:pt x="769" y="772"/>
                    </a:lnTo>
                    <a:lnTo>
                      <a:pt x="586" y="786"/>
                    </a:lnTo>
                    <a:lnTo>
                      <a:pt x="404" y="787"/>
                    </a:lnTo>
                    <a:lnTo>
                      <a:pt x="226" y="772"/>
                    </a:lnTo>
                    <a:lnTo>
                      <a:pt x="50" y="734"/>
                    </a:lnTo>
                    <a:lnTo>
                      <a:pt x="9" y="706"/>
                    </a:lnTo>
                    <a:lnTo>
                      <a:pt x="0" y="668"/>
                    </a:lnTo>
                    <a:lnTo>
                      <a:pt x="21" y="632"/>
                    </a:lnTo>
                    <a:lnTo>
                      <a:pt x="68" y="617"/>
                    </a:lnTo>
                    <a:lnTo>
                      <a:pt x="260" y="612"/>
                    </a:lnTo>
                    <a:lnTo>
                      <a:pt x="437" y="588"/>
                    </a:lnTo>
                    <a:lnTo>
                      <a:pt x="602" y="554"/>
                    </a:lnTo>
                    <a:lnTo>
                      <a:pt x="680" y="533"/>
                    </a:lnTo>
                    <a:lnTo>
                      <a:pt x="758" y="511"/>
                    </a:lnTo>
                    <a:lnTo>
                      <a:pt x="835" y="489"/>
                    </a:lnTo>
                    <a:lnTo>
                      <a:pt x="910" y="466"/>
                    </a:lnTo>
                    <a:lnTo>
                      <a:pt x="985" y="443"/>
                    </a:lnTo>
                    <a:lnTo>
                      <a:pt x="1061" y="421"/>
                    </a:lnTo>
                    <a:lnTo>
                      <a:pt x="1137" y="401"/>
                    </a:lnTo>
                    <a:lnTo>
                      <a:pt x="1215" y="382"/>
                    </a:lnTo>
                    <a:lnTo>
                      <a:pt x="1294" y="365"/>
                    </a:lnTo>
                    <a:lnTo>
                      <a:pt x="1375" y="351"/>
                    </a:lnTo>
                    <a:lnTo>
                      <a:pt x="1344" y="230"/>
                    </a:lnTo>
                    <a:lnTo>
                      <a:pt x="1317" y="123"/>
                    </a:lnTo>
                    <a:lnTo>
                      <a:pt x="1314" y="79"/>
                    </a:lnTo>
                    <a:lnTo>
                      <a:pt x="1325" y="44"/>
                    </a:lnTo>
                    <a:lnTo>
                      <a:pt x="1348" y="16"/>
                    </a:lnTo>
                    <a:lnTo>
                      <a:pt x="1379" y="0"/>
                    </a:lnTo>
                    <a:lnTo>
                      <a:pt x="1448" y="2"/>
                    </a:lnTo>
                    <a:lnTo>
                      <a:pt x="1503" y="61"/>
                    </a:lnTo>
                    <a:lnTo>
                      <a:pt x="150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86200" y="2001240"/>
                <a:ext cx="1572120" cy="444960"/>
              </a:xfrm>
              <a:custGeom>
                <a:avLst/>
                <a:gdLst/>
                <a:ahLst/>
                <a:rect l="l" t="t" r="r" b="b"/>
                <a:pathLst>
                  <a:path w="4424" h="1254">
                    <a:moveTo>
                      <a:pt x="2644" y="170"/>
                    </a:moveTo>
                    <a:lnTo>
                      <a:pt x="2712" y="136"/>
                    </a:lnTo>
                    <a:lnTo>
                      <a:pt x="2776" y="108"/>
                    </a:lnTo>
                    <a:lnTo>
                      <a:pt x="2833" y="82"/>
                    </a:lnTo>
                    <a:lnTo>
                      <a:pt x="2888" y="59"/>
                    </a:lnTo>
                    <a:lnTo>
                      <a:pt x="2939" y="42"/>
                    </a:lnTo>
                    <a:lnTo>
                      <a:pt x="2987" y="27"/>
                    </a:lnTo>
                    <a:lnTo>
                      <a:pt x="3071" y="6"/>
                    </a:lnTo>
                    <a:lnTo>
                      <a:pt x="3211" y="3"/>
                    </a:lnTo>
                    <a:lnTo>
                      <a:pt x="3324" y="48"/>
                    </a:lnTo>
                    <a:lnTo>
                      <a:pt x="3379" y="85"/>
                    </a:lnTo>
                    <a:lnTo>
                      <a:pt x="3433" y="130"/>
                    </a:lnTo>
                    <a:lnTo>
                      <a:pt x="3491" y="186"/>
                    </a:lnTo>
                    <a:lnTo>
                      <a:pt x="3522" y="217"/>
                    </a:lnTo>
                    <a:lnTo>
                      <a:pt x="3554" y="250"/>
                    </a:lnTo>
                    <a:lnTo>
                      <a:pt x="3588" y="285"/>
                    </a:lnTo>
                    <a:lnTo>
                      <a:pt x="3625" y="322"/>
                    </a:lnTo>
                    <a:lnTo>
                      <a:pt x="3665" y="360"/>
                    </a:lnTo>
                    <a:lnTo>
                      <a:pt x="3706" y="400"/>
                    </a:lnTo>
                    <a:lnTo>
                      <a:pt x="3750" y="441"/>
                    </a:lnTo>
                    <a:lnTo>
                      <a:pt x="3799" y="484"/>
                    </a:lnTo>
                    <a:lnTo>
                      <a:pt x="3851" y="528"/>
                    </a:lnTo>
                    <a:lnTo>
                      <a:pt x="3907" y="574"/>
                    </a:lnTo>
                    <a:lnTo>
                      <a:pt x="3941" y="596"/>
                    </a:lnTo>
                    <a:lnTo>
                      <a:pt x="3978" y="623"/>
                    </a:lnTo>
                    <a:lnTo>
                      <a:pt x="4025" y="655"/>
                    </a:lnTo>
                    <a:lnTo>
                      <a:pt x="4051" y="673"/>
                    </a:lnTo>
                    <a:lnTo>
                      <a:pt x="4078" y="694"/>
                    </a:lnTo>
                    <a:lnTo>
                      <a:pt x="4107" y="714"/>
                    </a:lnTo>
                    <a:lnTo>
                      <a:pt x="4137" y="735"/>
                    </a:lnTo>
                    <a:lnTo>
                      <a:pt x="4166" y="757"/>
                    </a:lnTo>
                    <a:lnTo>
                      <a:pt x="4196" y="779"/>
                    </a:lnTo>
                    <a:lnTo>
                      <a:pt x="4255" y="825"/>
                    </a:lnTo>
                    <a:lnTo>
                      <a:pt x="4308" y="869"/>
                    </a:lnTo>
                    <a:lnTo>
                      <a:pt x="4357" y="910"/>
                    </a:lnTo>
                    <a:lnTo>
                      <a:pt x="4420" y="980"/>
                    </a:lnTo>
                    <a:lnTo>
                      <a:pt x="4424" y="1018"/>
                    </a:lnTo>
                    <a:lnTo>
                      <a:pt x="4346" y="1015"/>
                    </a:lnTo>
                    <a:lnTo>
                      <a:pt x="4264" y="995"/>
                    </a:lnTo>
                    <a:lnTo>
                      <a:pt x="4186" y="972"/>
                    </a:lnTo>
                    <a:lnTo>
                      <a:pt x="4110" y="946"/>
                    </a:lnTo>
                    <a:lnTo>
                      <a:pt x="4041" y="918"/>
                    </a:lnTo>
                    <a:lnTo>
                      <a:pt x="3973" y="888"/>
                    </a:lnTo>
                    <a:lnTo>
                      <a:pt x="3910" y="857"/>
                    </a:lnTo>
                    <a:lnTo>
                      <a:pt x="3848" y="825"/>
                    </a:lnTo>
                    <a:lnTo>
                      <a:pt x="3790" y="792"/>
                    </a:lnTo>
                    <a:lnTo>
                      <a:pt x="3736" y="759"/>
                    </a:lnTo>
                    <a:lnTo>
                      <a:pt x="3683" y="723"/>
                    </a:lnTo>
                    <a:lnTo>
                      <a:pt x="3632" y="689"/>
                    </a:lnTo>
                    <a:lnTo>
                      <a:pt x="3582" y="655"/>
                    </a:lnTo>
                    <a:lnTo>
                      <a:pt x="3537" y="621"/>
                    </a:lnTo>
                    <a:lnTo>
                      <a:pt x="3491" y="587"/>
                    </a:lnTo>
                    <a:lnTo>
                      <a:pt x="3447" y="555"/>
                    </a:lnTo>
                    <a:lnTo>
                      <a:pt x="3402" y="524"/>
                    </a:lnTo>
                    <a:lnTo>
                      <a:pt x="3360" y="495"/>
                    </a:lnTo>
                    <a:lnTo>
                      <a:pt x="3318" y="468"/>
                    </a:lnTo>
                    <a:lnTo>
                      <a:pt x="3276" y="441"/>
                    </a:lnTo>
                    <a:lnTo>
                      <a:pt x="3234" y="419"/>
                    </a:lnTo>
                    <a:lnTo>
                      <a:pt x="3193" y="399"/>
                    </a:lnTo>
                    <a:lnTo>
                      <a:pt x="3150" y="381"/>
                    </a:lnTo>
                    <a:lnTo>
                      <a:pt x="3063" y="356"/>
                    </a:lnTo>
                    <a:lnTo>
                      <a:pt x="2972" y="346"/>
                    </a:lnTo>
                    <a:lnTo>
                      <a:pt x="2874" y="353"/>
                    </a:lnTo>
                    <a:lnTo>
                      <a:pt x="2768" y="381"/>
                    </a:lnTo>
                    <a:lnTo>
                      <a:pt x="2712" y="402"/>
                    </a:lnTo>
                    <a:lnTo>
                      <a:pt x="2653" y="430"/>
                    </a:lnTo>
                    <a:lnTo>
                      <a:pt x="2636" y="459"/>
                    </a:lnTo>
                    <a:lnTo>
                      <a:pt x="2616" y="484"/>
                    </a:lnTo>
                    <a:lnTo>
                      <a:pt x="2578" y="524"/>
                    </a:lnTo>
                    <a:lnTo>
                      <a:pt x="2537" y="548"/>
                    </a:lnTo>
                    <a:lnTo>
                      <a:pt x="2492" y="561"/>
                    </a:lnTo>
                    <a:lnTo>
                      <a:pt x="2395" y="559"/>
                    </a:lnTo>
                    <a:lnTo>
                      <a:pt x="2283" y="533"/>
                    </a:lnTo>
                    <a:lnTo>
                      <a:pt x="2226" y="509"/>
                    </a:lnTo>
                    <a:lnTo>
                      <a:pt x="2168" y="475"/>
                    </a:lnTo>
                    <a:lnTo>
                      <a:pt x="2140" y="455"/>
                    </a:lnTo>
                    <a:lnTo>
                      <a:pt x="2110" y="434"/>
                    </a:lnTo>
                    <a:lnTo>
                      <a:pt x="2054" y="390"/>
                    </a:lnTo>
                    <a:lnTo>
                      <a:pt x="2025" y="369"/>
                    </a:lnTo>
                    <a:lnTo>
                      <a:pt x="1997" y="349"/>
                    </a:lnTo>
                    <a:lnTo>
                      <a:pt x="1967" y="329"/>
                    </a:lnTo>
                    <a:lnTo>
                      <a:pt x="1939" y="313"/>
                    </a:lnTo>
                    <a:lnTo>
                      <a:pt x="1880" y="288"/>
                    </a:lnTo>
                    <a:lnTo>
                      <a:pt x="1821" y="279"/>
                    </a:lnTo>
                    <a:lnTo>
                      <a:pt x="1715" y="297"/>
                    </a:lnTo>
                    <a:lnTo>
                      <a:pt x="1650" y="316"/>
                    </a:lnTo>
                    <a:lnTo>
                      <a:pt x="1577" y="341"/>
                    </a:lnTo>
                    <a:lnTo>
                      <a:pt x="1498" y="374"/>
                    </a:lnTo>
                    <a:lnTo>
                      <a:pt x="1416" y="409"/>
                    </a:lnTo>
                    <a:lnTo>
                      <a:pt x="1375" y="428"/>
                    </a:lnTo>
                    <a:lnTo>
                      <a:pt x="1332" y="449"/>
                    </a:lnTo>
                    <a:lnTo>
                      <a:pt x="1288" y="469"/>
                    </a:lnTo>
                    <a:lnTo>
                      <a:pt x="1245" y="490"/>
                    </a:lnTo>
                    <a:lnTo>
                      <a:pt x="1202" y="512"/>
                    </a:lnTo>
                    <a:lnTo>
                      <a:pt x="1158" y="534"/>
                    </a:lnTo>
                    <a:lnTo>
                      <a:pt x="1116" y="556"/>
                    </a:lnTo>
                    <a:lnTo>
                      <a:pt x="1074" y="579"/>
                    </a:lnTo>
                    <a:lnTo>
                      <a:pt x="1032" y="602"/>
                    </a:lnTo>
                    <a:lnTo>
                      <a:pt x="993" y="624"/>
                    </a:lnTo>
                    <a:lnTo>
                      <a:pt x="953" y="646"/>
                    </a:lnTo>
                    <a:lnTo>
                      <a:pt x="914" y="669"/>
                    </a:lnTo>
                    <a:lnTo>
                      <a:pt x="878" y="691"/>
                    </a:lnTo>
                    <a:lnTo>
                      <a:pt x="844" y="711"/>
                    </a:lnTo>
                    <a:lnTo>
                      <a:pt x="810" y="732"/>
                    </a:lnTo>
                    <a:lnTo>
                      <a:pt x="779" y="751"/>
                    </a:lnTo>
                    <a:lnTo>
                      <a:pt x="723" y="788"/>
                    </a:lnTo>
                    <a:lnTo>
                      <a:pt x="678" y="820"/>
                    </a:lnTo>
                    <a:lnTo>
                      <a:pt x="612" y="875"/>
                    </a:lnTo>
                    <a:lnTo>
                      <a:pt x="577" y="909"/>
                    </a:lnTo>
                    <a:lnTo>
                      <a:pt x="540" y="944"/>
                    </a:lnTo>
                    <a:lnTo>
                      <a:pt x="503" y="980"/>
                    </a:lnTo>
                    <a:lnTo>
                      <a:pt x="465" y="1018"/>
                    </a:lnTo>
                    <a:lnTo>
                      <a:pt x="425" y="1055"/>
                    </a:lnTo>
                    <a:lnTo>
                      <a:pt x="385" y="1092"/>
                    </a:lnTo>
                    <a:lnTo>
                      <a:pt x="344" y="1127"/>
                    </a:lnTo>
                    <a:lnTo>
                      <a:pt x="302" y="1158"/>
                    </a:lnTo>
                    <a:lnTo>
                      <a:pt x="263" y="1188"/>
                    </a:lnTo>
                    <a:lnTo>
                      <a:pt x="221" y="1213"/>
                    </a:lnTo>
                    <a:lnTo>
                      <a:pt x="180" y="1232"/>
                    </a:lnTo>
                    <a:lnTo>
                      <a:pt x="139" y="1247"/>
                    </a:lnTo>
                    <a:lnTo>
                      <a:pt x="59" y="1254"/>
                    </a:lnTo>
                    <a:lnTo>
                      <a:pt x="15" y="1235"/>
                    </a:lnTo>
                    <a:lnTo>
                      <a:pt x="0" y="1197"/>
                    </a:lnTo>
                    <a:lnTo>
                      <a:pt x="10" y="1155"/>
                    </a:lnTo>
                    <a:lnTo>
                      <a:pt x="28" y="1138"/>
                    </a:lnTo>
                    <a:lnTo>
                      <a:pt x="52" y="1127"/>
                    </a:lnTo>
                    <a:lnTo>
                      <a:pt x="128" y="1093"/>
                    </a:lnTo>
                    <a:lnTo>
                      <a:pt x="168" y="1070"/>
                    </a:lnTo>
                    <a:lnTo>
                      <a:pt x="208" y="1043"/>
                    </a:lnTo>
                    <a:lnTo>
                      <a:pt x="249" y="1012"/>
                    </a:lnTo>
                    <a:lnTo>
                      <a:pt x="291" y="977"/>
                    </a:lnTo>
                    <a:lnTo>
                      <a:pt x="333" y="938"/>
                    </a:lnTo>
                    <a:lnTo>
                      <a:pt x="376" y="899"/>
                    </a:lnTo>
                    <a:lnTo>
                      <a:pt x="420" y="856"/>
                    </a:lnTo>
                    <a:lnTo>
                      <a:pt x="466" y="810"/>
                    </a:lnTo>
                    <a:lnTo>
                      <a:pt x="512" y="764"/>
                    </a:lnTo>
                    <a:lnTo>
                      <a:pt x="559" y="716"/>
                    </a:lnTo>
                    <a:lnTo>
                      <a:pt x="608" y="667"/>
                    </a:lnTo>
                    <a:lnTo>
                      <a:pt x="656" y="617"/>
                    </a:lnTo>
                    <a:lnTo>
                      <a:pt x="708" y="567"/>
                    </a:lnTo>
                    <a:lnTo>
                      <a:pt x="760" y="518"/>
                    </a:lnTo>
                    <a:lnTo>
                      <a:pt x="814" y="468"/>
                    </a:lnTo>
                    <a:lnTo>
                      <a:pt x="869" y="419"/>
                    </a:lnTo>
                    <a:lnTo>
                      <a:pt x="926" y="371"/>
                    </a:lnTo>
                    <a:lnTo>
                      <a:pt x="984" y="325"/>
                    </a:lnTo>
                    <a:lnTo>
                      <a:pt x="1013" y="301"/>
                    </a:lnTo>
                    <a:lnTo>
                      <a:pt x="1043" y="279"/>
                    </a:lnTo>
                    <a:lnTo>
                      <a:pt x="1074" y="259"/>
                    </a:lnTo>
                    <a:lnTo>
                      <a:pt x="1105" y="238"/>
                    </a:lnTo>
                    <a:lnTo>
                      <a:pt x="1136" y="217"/>
                    </a:lnTo>
                    <a:lnTo>
                      <a:pt x="1168" y="197"/>
                    </a:lnTo>
                    <a:lnTo>
                      <a:pt x="1199" y="177"/>
                    </a:lnTo>
                    <a:lnTo>
                      <a:pt x="1233" y="160"/>
                    </a:lnTo>
                    <a:lnTo>
                      <a:pt x="1265" y="142"/>
                    </a:lnTo>
                    <a:lnTo>
                      <a:pt x="1299" y="124"/>
                    </a:lnTo>
                    <a:lnTo>
                      <a:pt x="1367" y="95"/>
                    </a:lnTo>
                    <a:lnTo>
                      <a:pt x="1438" y="67"/>
                    </a:lnTo>
                    <a:lnTo>
                      <a:pt x="1510" y="45"/>
                    </a:lnTo>
                    <a:lnTo>
                      <a:pt x="1585" y="26"/>
                    </a:lnTo>
                    <a:lnTo>
                      <a:pt x="1662" y="12"/>
                    </a:lnTo>
                    <a:lnTo>
                      <a:pt x="1821" y="0"/>
                    </a:lnTo>
                    <a:lnTo>
                      <a:pt x="1911" y="26"/>
                    </a:lnTo>
                    <a:lnTo>
                      <a:pt x="1960" y="52"/>
                    </a:lnTo>
                    <a:lnTo>
                      <a:pt x="2012" y="85"/>
                    </a:lnTo>
                    <a:lnTo>
                      <a:pt x="2038" y="104"/>
                    </a:lnTo>
                    <a:lnTo>
                      <a:pt x="2066" y="123"/>
                    </a:lnTo>
                    <a:lnTo>
                      <a:pt x="2093" y="144"/>
                    </a:lnTo>
                    <a:lnTo>
                      <a:pt x="2119" y="163"/>
                    </a:lnTo>
                    <a:lnTo>
                      <a:pt x="2147" y="183"/>
                    </a:lnTo>
                    <a:lnTo>
                      <a:pt x="2175" y="203"/>
                    </a:lnTo>
                    <a:lnTo>
                      <a:pt x="2203" y="222"/>
                    </a:lnTo>
                    <a:lnTo>
                      <a:pt x="2231" y="239"/>
                    </a:lnTo>
                    <a:lnTo>
                      <a:pt x="2287" y="272"/>
                    </a:lnTo>
                    <a:lnTo>
                      <a:pt x="2344" y="297"/>
                    </a:lnTo>
                    <a:lnTo>
                      <a:pt x="2398" y="313"/>
                    </a:lnTo>
                    <a:lnTo>
                      <a:pt x="2451" y="318"/>
                    </a:lnTo>
                    <a:lnTo>
                      <a:pt x="2553" y="281"/>
                    </a:lnTo>
                    <a:lnTo>
                      <a:pt x="2600" y="236"/>
                    </a:lnTo>
                    <a:lnTo>
                      <a:pt x="2644" y="170"/>
                    </a:lnTo>
                    <a:lnTo>
                      <a:pt x="2644"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8" name=""/>
          <p:cNvGrpSpPr/>
          <p:nvPr/>
        </p:nvGrpSpPr>
        <p:grpSpPr>
          <a:xfrm>
            <a:off x="6885000" y="1719360"/>
            <a:ext cx="1574640" cy="1958760"/>
            <a:chOff x="6885000" y="1719360"/>
            <a:chExt cx="1574640" cy="1958760"/>
          </a:xfrm>
        </p:grpSpPr>
        <p:sp>
          <p:nvSpPr>
            <p:cNvPr id="69" name=""/>
            <p:cNvSpPr/>
            <p:nvPr/>
          </p:nvSpPr>
          <p:spPr>
            <a:xfrm>
              <a:off x="6885000" y="315756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jection</a:t>
              </a:r>
              <a:endParaRPr b="0" lang="en-US" sz="2800" spc="-1" strike="noStrike">
                <a:solidFill>
                  <a:srgbClr val="000000"/>
                </a:solidFill>
                <a:latin typeface="Arial"/>
              </a:endParaRPr>
            </a:p>
          </p:txBody>
        </p:sp>
        <p:grpSp>
          <p:nvGrpSpPr>
            <p:cNvPr id="70" name=""/>
            <p:cNvGrpSpPr/>
            <p:nvPr/>
          </p:nvGrpSpPr>
          <p:grpSpPr>
            <a:xfrm>
              <a:off x="6927840" y="1719360"/>
              <a:ext cx="1531800" cy="1393560"/>
              <a:chOff x="6927840" y="1719360"/>
              <a:chExt cx="1531800" cy="1393560"/>
            </a:xfrm>
          </p:grpSpPr>
          <p:grpSp>
            <p:nvGrpSpPr>
              <p:cNvPr id="71" name=""/>
              <p:cNvGrpSpPr/>
              <p:nvPr/>
            </p:nvGrpSpPr>
            <p:grpSpPr>
              <a:xfrm>
                <a:off x="6927840" y="1719360"/>
                <a:ext cx="1531800" cy="1393560"/>
                <a:chOff x="6927840" y="1719360"/>
                <a:chExt cx="1531800" cy="1393560"/>
              </a:xfrm>
            </p:grpSpPr>
            <p:sp>
              <p:nvSpPr>
                <p:cNvPr id="72" name=""/>
                <p:cNvSpPr/>
                <p:nvPr/>
              </p:nvSpPr>
              <p:spPr>
                <a:xfrm>
                  <a:off x="6927840" y="1719360"/>
                  <a:ext cx="1531800" cy="139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948360" y="1736640"/>
                  <a:ext cx="1494000" cy="1363680"/>
                </a:xfrm>
                <a:custGeom>
                  <a:avLst/>
                  <a:gdLst/>
                  <a:ahLst/>
                  <a:rect l="l" t="t" r="r" b="b"/>
                  <a:pathLst>
                    <a:path w="2823" h="2579">
                      <a:moveTo>
                        <a:pt x="2789" y="2560"/>
                      </a:moveTo>
                      <a:lnTo>
                        <a:pt x="2703" y="2560"/>
                      </a:lnTo>
                      <a:lnTo>
                        <a:pt x="2617" y="2560"/>
                      </a:lnTo>
                      <a:lnTo>
                        <a:pt x="2531" y="2560"/>
                      </a:lnTo>
                      <a:lnTo>
                        <a:pt x="2444" y="2560"/>
                      </a:lnTo>
                      <a:lnTo>
                        <a:pt x="2359" y="2562"/>
                      </a:lnTo>
                      <a:lnTo>
                        <a:pt x="2272" y="2562"/>
                      </a:lnTo>
                      <a:lnTo>
                        <a:pt x="2186" y="2562"/>
                      </a:lnTo>
                      <a:lnTo>
                        <a:pt x="2100" y="2562"/>
                      </a:lnTo>
                      <a:lnTo>
                        <a:pt x="2013" y="2562"/>
                      </a:lnTo>
                      <a:lnTo>
                        <a:pt x="1928" y="2562"/>
                      </a:lnTo>
                      <a:lnTo>
                        <a:pt x="1841" y="2562"/>
                      </a:lnTo>
                      <a:lnTo>
                        <a:pt x="1754" y="2563"/>
                      </a:lnTo>
                      <a:lnTo>
                        <a:pt x="1667" y="2563"/>
                      </a:lnTo>
                      <a:lnTo>
                        <a:pt x="1582" y="2563"/>
                      </a:lnTo>
                      <a:lnTo>
                        <a:pt x="1495" y="2563"/>
                      </a:lnTo>
                      <a:lnTo>
                        <a:pt x="1409" y="2564"/>
                      </a:lnTo>
                      <a:lnTo>
                        <a:pt x="1322" y="2564"/>
                      </a:lnTo>
                      <a:lnTo>
                        <a:pt x="1236" y="2564"/>
                      </a:lnTo>
                      <a:lnTo>
                        <a:pt x="1150" y="2566"/>
                      </a:lnTo>
                      <a:lnTo>
                        <a:pt x="1063" y="2566"/>
                      </a:lnTo>
                      <a:lnTo>
                        <a:pt x="976" y="2567"/>
                      </a:lnTo>
                      <a:lnTo>
                        <a:pt x="889" y="2567"/>
                      </a:lnTo>
                      <a:lnTo>
                        <a:pt x="803" y="2569"/>
                      </a:lnTo>
                      <a:lnTo>
                        <a:pt x="716" y="2569"/>
                      </a:lnTo>
                      <a:lnTo>
                        <a:pt x="631" y="2570"/>
                      </a:lnTo>
                      <a:lnTo>
                        <a:pt x="544" y="2572"/>
                      </a:lnTo>
                      <a:lnTo>
                        <a:pt x="457" y="2573"/>
                      </a:lnTo>
                      <a:lnTo>
                        <a:pt x="369" y="2573"/>
                      </a:lnTo>
                      <a:lnTo>
                        <a:pt x="282" y="2575"/>
                      </a:lnTo>
                      <a:lnTo>
                        <a:pt x="195" y="2576"/>
                      </a:lnTo>
                      <a:lnTo>
                        <a:pt x="108" y="2577"/>
                      </a:lnTo>
                      <a:lnTo>
                        <a:pt x="22" y="2579"/>
                      </a:lnTo>
                      <a:lnTo>
                        <a:pt x="13" y="2573"/>
                      </a:lnTo>
                      <a:lnTo>
                        <a:pt x="10" y="2398"/>
                      </a:lnTo>
                      <a:lnTo>
                        <a:pt x="10" y="2223"/>
                      </a:lnTo>
                      <a:lnTo>
                        <a:pt x="10" y="2047"/>
                      </a:lnTo>
                      <a:lnTo>
                        <a:pt x="10" y="1871"/>
                      </a:lnTo>
                      <a:lnTo>
                        <a:pt x="4" y="1407"/>
                      </a:lnTo>
                      <a:lnTo>
                        <a:pt x="3" y="948"/>
                      </a:lnTo>
                      <a:lnTo>
                        <a:pt x="1" y="490"/>
                      </a:lnTo>
                      <a:lnTo>
                        <a:pt x="0" y="32"/>
                      </a:lnTo>
                      <a:lnTo>
                        <a:pt x="28" y="17"/>
                      </a:lnTo>
                      <a:lnTo>
                        <a:pt x="78" y="17"/>
                      </a:lnTo>
                      <a:lnTo>
                        <a:pt x="129" y="16"/>
                      </a:lnTo>
                      <a:lnTo>
                        <a:pt x="179" y="16"/>
                      </a:lnTo>
                      <a:lnTo>
                        <a:pt x="230" y="14"/>
                      </a:lnTo>
                      <a:lnTo>
                        <a:pt x="282" y="14"/>
                      </a:lnTo>
                      <a:lnTo>
                        <a:pt x="333" y="14"/>
                      </a:lnTo>
                      <a:lnTo>
                        <a:pt x="383" y="13"/>
                      </a:lnTo>
                      <a:lnTo>
                        <a:pt x="434" y="13"/>
                      </a:lnTo>
                      <a:lnTo>
                        <a:pt x="484" y="13"/>
                      </a:lnTo>
                      <a:lnTo>
                        <a:pt x="535" y="13"/>
                      </a:lnTo>
                      <a:lnTo>
                        <a:pt x="586" y="11"/>
                      </a:lnTo>
                      <a:lnTo>
                        <a:pt x="636" y="11"/>
                      </a:lnTo>
                      <a:lnTo>
                        <a:pt x="687" y="11"/>
                      </a:lnTo>
                      <a:lnTo>
                        <a:pt x="738" y="11"/>
                      </a:lnTo>
                      <a:lnTo>
                        <a:pt x="788" y="10"/>
                      </a:lnTo>
                      <a:lnTo>
                        <a:pt x="839" y="10"/>
                      </a:lnTo>
                      <a:lnTo>
                        <a:pt x="889" y="10"/>
                      </a:lnTo>
                      <a:lnTo>
                        <a:pt x="940" y="10"/>
                      </a:lnTo>
                      <a:lnTo>
                        <a:pt x="991" y="10"/>
                      </a:lnTo>
                      <a:lnTo>
                        <a:pt x="1041" y="10"/>
                      </a:lnTo>
                      <a:lnTo>
                        <a:pt x="1092" y="8"/>
                      </a:lnTo>
                      <a:lnTo>
                        <a:pt x="1142" y="8"/>
                      </a:lnTo>
                      <a:lnTo>
                        <a:pt x="1194" y="8"/>
                      </a:lnTo>
                      <a:lnTo>
                        <a:pt x="1245" y="8"/>
                      </a:lnTo>
                      <a:lnTo>
                        <a:pt x="1296" y="8"/>
                      </a:lnTo>
                      <a:lnTo>
                        <a:pt x="1346" y="7"/>
                      </a:lnTo>
                      <a:lnTo>
                        <a:pt x="1397" y="7"/>
                      </a:lnTo>
                      <a:lnTo>
                        <a:pt x="1448" y="7"/>
                      </a:lnTo>
                      <a:lnTo>
                        <a:pt x="1498" y="7"/>
                      </a:lnTo>
                      <a:lnTo>
                        <a:pt x="1550" y="7"/>
                      </a:lnTo>
                      <a:lnTo>
                        <a:pt x="1601" y="6"/>
                      </a:lnTo>
                      <a:lnTo>
                        <a:pt x="1651" y="6"/>
                      </a:lnTo>
                      <a:lnTo>
                        <a:pt x="1688" y="6"/>
                      </a:lnTo>
                      <a:lnTo>
                        <a:pt x="1725" y="6"/>
                      </a:lnTo>
                      <a:lnTo>
                        <a:pt x="1761" y="6"/>
                      </a:lnTo>
                      <a:lnTo>
                        <a:pt x="1797" y="6"/>
                      </a:lnTo>
                      <a:lnTo>
                        <a:pt x="1834" y="6"/>
                      </a:lnTo>
                      <a:lnTo>
                        <a:pt x="1871" y="6"/>
                      </a:lnTo>
                      <a:lnTo>
                        <a:pt x="1907" y="6"/>
                      </a:lnTo>
                      <a:lnTo>
                        <a:pt x="1944" y="6"/>
                      </a:lnTo>
                      <a:lnTo>
                        <a:pt x="1980" y="4"/>
                      </a:lnTo>
                      <a:lnTo>
                        <a:pt x="2016" y="4"/>
                      </a:lnTo>
                      <a:lnTo>
                        <a:pt x="2052" y="4"/>
                      </a:lnTo>
                      <a:lnTo>
                        <a:pt x="2088" y="4"/>
                      </a:lnTo>
                      <a:lnTo>
                        <a:pt x="2124" y="3"/>
                      </a:lnTo>
                      <a:lnTo>
                        <a:pt x="2160" y="3"/>
                      </a:lnTo>
                      <a:lnTo>
                        <a:pt x="2195" y="3"/>
                      </a:lnTo>
                      <a:lnTo>
                        <a:pt x="2231" y="3"/>
                      </a:lnTo>
                      <a:lnTo>
                        <a:pt x="2267" y="1"/>
                      </a:lnTo>
                      <a:lnTo>
                        <a:pt x="2304" y="1"/>
                      </a:lnTo>
                      <a:lnTo>
                        <a:pt x="2338" y="1"/>
                      </a:lnTo>
                      <a:lnTo>
                        <a:pt x="2374" y="1"/>
                      </a:lnTo>
                      <a:lnTo>
                        <a:pt x="2411" y="1"/>
                      </a:lnTo>
                      <a:lnTo>
                        <a:pt x="2445" y="1"/>
                      </a:lnTo>
                      <a:lnTo>
                        <a:pt x="2481" y="0"/>
                      </a:lnTo>
                      <a:lnTo>
                        <a:pt x="2516" y="0"/>
                      </a:lnTo>
                      <a:lnTo>
                        <a:pt x="2552" y="1"/>
                      </a:lnTo>
                      <a:lnTo>
                        <a:pt x="2587" y="1"/>
                      </a:lnTo>
                      <a:lnTo>
                        <a:pt x="2623" y="1"/>
                      </a:lnTo>
                      <a:lnTo>
                        <a:pt x="2658" y="1"/>
                      </a:lnTo>
                      <a:lnTo>
                        <a:pt x="2694" y="1"/>
                      </a:lnTo>
                      <a:lnTo>
                        <a:pt x="2729" y="3"/>
                      </a:lnTo>
                      <a:lnTo>
                        <a:pt x="2765" y="3"/>
                      </a:lnTo>
                      <a:lnTo>
                        <a:pt x="2800" y="4"/>
                      </a:lnTo>
                      <a:lnTo>
                        <a:pt x="2811" y="24"/>
                      </a:lnTo>
                      <a:lnTo>
                        <a:pt x="2813" y="605"/>
                      </a:lnTo>
                      <a:lnTo>
                        <a:pt x="2817" y="1187"/>
                      </a:lnTo>
                      <a:lnTo>
                        <a:pt x="2820" y="1770"/>
                      </a:lnTo>
                      <a:lnTo>
                        <a:pt x="2821" y="2351"/>
                      </a:lnTo>
                      <a:lnTo>
                        <a:pt x="2821" y="2405"/>
                      </a:lnTo>
                      <a:lnTo>
                        <a:pt x="2823" y="2459"/>
                      </a:lnTo>
                      <a:lnTo>
                        <a:pt x="2821" y="2510"/>
                      </a:lnTo>
                      <a:lnTo>
                        <a:pt x="2816" y="2556"/>
                      </a:lnTo>
                      <a:lnTo>
                        <a:pt x="2789" y="2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615080" y="2595600"/>
                  <a:ext cx="812880" cy="484200"/>
                </a:xfrm>
                <a:custGeom>
                  <a:avLst/>
                  <a:gdLst/>
                  <a:ahLst/>
                  <a:rect l="l" t="t" r="r" b="b"/>
                  <a:pathLst>
                    <a:path w="1534" h="916">
                      <a:moveTo>
                        <a:pt x="1394" y="909"/>
                      </a:moveTo>
                      <a:lnTo>
                        <a:pt x="1351" y="909"/>
                      </a:lnTo>
                      <a:lnTo>
                        <a:pt x="1307" y="909"/>
                      </a:lnTo>
                      <a:lnTo>
                        <a:pt x="1264" y="909"/>
                      </a:lnTo>
                      <a:lnTo>
                        <a:pt x="1222" y="910"/>
                      </a:lnTo>
                      <a:lnTo>
                        <a:pt x="1179" y="910"/>
                      </a:lnTo>
                      <a:lnTo>
                        <a:pt x="1135" y="910"/>
                      </a:lnTo>
                      <a:lnTo>
                        <a:pt x="1092" y="910"/>
                      </a:lnTo>
                      <a:lnTo>
                        <a:pt x="1048" y="910"/>
                      </a:lnTo>
                      <a:lnTo>
                        <a:pt x="1005" y="912"/>
                      </a:lnTo>
                      <a:lnTo>
                        <a:pt x="962" y="912"/>
                      </a:lnTo>
                      <a:lnTo>
                        <a:pt x="918" y="912"/>
                      </a:lnTo>
                      <a:lnTo>
                        <a:pt x="875" y="913"/>
                      </a:lnTo>
                      <a:lnTo>
                        <a:pt x="831" y="913"/>
                      </a:lnTo>
                      <a:lnTo>
                        <a:pt x="787" y="913"/>
                      </a:lnTo>
                      <a:lnTo>
                        <a:pt x="743" y="913"/>
                      </a:lnTo>
                      <a:lnTo>
                        <a:pt x="700" y="914"/>
                      </a:lnTo>
                      <a:lnTo>
                        <a:pt x="657" y="914"/>
                      </a:lnTo>
                      <a:lnTo>
                        <a:pt x="613" y="914"/>
                      </a:lnTo>
                      <a:lnTo>
                        <a:pt x="570" y="914"/>
                      </a:lnTo>
                      <a:lnTo>
                        <a:pt x="526" y="916"/>
                      </a:lnTo>
                      <a:lnTo>
                        <a:pt x="482" y="916"/>
                      </a:lnTo>
                      <a:lnTo>
                        <a:pt x="438" y="916"/>
                      </a:lnTo>
                      <a:lnTo>
                        <a:pt x="395" y="916"/>
                      </a:lnTo>
                      <a:lnTo>
                        <a:pt x="351" y="916"/>
                      </a:lnTo>
                      <a:lnTo>
                        <a:pt x="307" y="916"/>
                      </a:lnTo>
                      <a:lnTo>
                        <a:pt x="263" y="916"/>
                      </a:lnTo>
                      <a:lnTo>
                        <a:pt x="220" y="916"/>
                      </a:lnTo>
                      <a:lnTo>
                        <a:pt x="175" y="916"/>
                      </a:lnTo>
                      <a:lnTo>
                        <a:pt x="132" y="916"/>
                      </a:lnTo>
                      <a:lnTo>
                        <a:pt x="88" y="916"/>
                      </a:lnTo>
                      <a:lnTo>
                        <a:pt x="43" y="916"/>
                      </a:lnTo>
                      <a:lnTo>
                        <a:pt x="0" y="916"/>
                      </a:lnTo>
                      <a:lnTo>
                        <a:pt x="0" y="901"/>
                      </a:lnTo>
                      <a:lnTo>
                        <a:pt x="14" y="888"/>
                      </a:lnTo>
                      <a:lnTo>
                        <a:pt x="29" y="875"/>
                      </a:lnTo>
                      <a:lnTo>
                        <a:pt x="42" y="862"/>
                      </a:lnTo>
                      <a:lnTo>
                        <a:pt x="58" y="848"/>
                      </a:lnTo>
                      <a:lnTo>
                        <a:pt x="72" y="834"/>
                      </a:lnTo>
                      <a:lnTo>
                        <a:pt x="87" y="821"/>
                      </a:lnTo>
                      <a:lnTo>
                        <a:pt x="103" y="808"/>
                      </a:lnTo>
                      <a:lnTo>
                        <a:pt x="119" y="795"/>
                      </a:lnTo>
                      <a:lnTo>
                        <a:pt x="168" y="767"/>
                      </a:lnTo>
                      <a:lnTo>
                        <a:pt x="214" y="737"/>
                      </a:lnTo>
                      <a:lnTo>
                        <a:pt x="257" y="702"/>
                      </a:lnTo>
                      <a:lnTo>
                        <a:pt x="296" y="666"/>
                      </a:lnTo>
                      <a:lnTo>
                        <a:pt x="334" y="627"/>
                      </a:lnTo>
                      <a:lnTo>
                        <a:pt x="369" y="586"/>
                      </a:lnTo>
                      <a:lnTo>
                        <a:pt x="402" y="543"/>
                      </a:lnTo>
                      <a:lnTo>
                        <a:pt x="434" y="498"/>
                      </a:lnTo>
                      <a:lnTo>
                        <a:pt x="464" y="454"/>
                      </a:lnTo>
                      <a:lnTo>
                        <a:pt x="493" y="407"/>
                      </a:lnTo>
                      <a:lnTo>
                        <a:pt x="522" y="361"/>
                      </a:lnTo>
                      <a:lnTo>
                        <a:pt x="550" y="315"/>
                      </a:lnTo>
                      <a:lnTo>
                        <a:pt x="578" y="269"/>
                      </a:lnTo>
                      <a:lnTo>
                        <a:pt x="607" y="222"/>
                      </a:lnTo>
                      <a:lnTo>
                        <a:pt x="638" y="178"/>
                      </a:lnTo>
                      <a:lnTo>
                        <a:pt x="668" y="134"/>
                      </a:lnTo>
                      <a:lnTo>
                        <a:pt x="678" y="118"/>
                      </a:lnTo>
                      <a:lnTo>
                        <a:pt x="688" y="104"/>
                      </a:lnTo>
                      <a:lnTo>
                        <a:pt x="698" y="88"/>
                      </a:lnTo>
                      <a:lnTo>
                        <a:pt x="709" y="71"/>
                      </a:lnTo>
                      <a:lnTo>
                        <a:pt x="719" y="55"/>
                      </a:lnTo>
                      <a:lnTo>
                        <a:pt x="730" y="37"/>
                      </a:lnTo>
                      <a:lnTo>
                        <a:pt x="742" y="20"/>
                      </a:lnTo>
                      <a:lnTo>
                        <a:pt x="755" y="1"/>
                      </a:lnTo>
                      <a:lnTo>
                        <a:pt x="766" y="0"/>
                      </a:lnTo>
                      <a:lnTo>
                        <a:pt x="792" y="11"/>
                      </a:lnTo>
                      <a:lnTo>
                        <a:pt x="817" y="24"/>
                      </a:lnTo>
                      <a:lnTo>
                        <a:pt x="840" y="37"/>
                      </a:lnTo>
                      <a:lnTo>
                        <a:pt x="862" y="52"/>
                      </a:lnTo>
                      <a:lnTo>
                        <a:pt x="884" y="66"/>
                      </a:lnTo>
                      <a:lnTo>
                        <a:pt x="907" y="82"/>
                      </a:lnTo>
                      <a:lnTo>
                        <a:pt x="930" y="97"/>
                      </a:lnTo>
                      <a:lnTo>
                        <a:pt x="956" y="110"/>
                      </a:lnTo>
                      <a:lnTo>
                        <a:pt x="989" y="137"/>
                      </a:lnTo>
                      <a:lnTo>
                        <a:pt x="1024" y="163"/>
                      </a:lnTo>
                      <a:lnTo>
                        <a:pt x="1059" y="188"/>
                      </a:lnTo>
                      <a:lnTo>
                        <a:pt x="1095" y="211"/>
                      </a:lnTo>
                      <a:lnTo>
                        <a:pt x="1131" y="234"/>
                      </a:lnTo>
                      <a:lnTo>
                        <a:pt x="1167" y="256"/>
                      </a:lnTo>
                      <a:lnTo>
                        <a:pt x="1205" y="277"/>
                      </a:lnTo>
                      <a:lnTo>
                        <a:pt x="1241" y="297"/>
                      </a:lnTo>
                      <a:lnTo>
                        <a:pt x="1278" y="319"/>
                      </a:lnTo>
                      <a:lnTo>
                        <a:pt x="1316" y="339"/>
                      </a:lnTo>
                      <a:lnTo>
                        <a:pt x="1352" y="361"/>
                      </a:lnTo>
                      <a:lnTo>
                        <a:pt x="1390" y="383"/>
                      </a:lnTo>
                      <a:lnTo>
                        <a:pt x="1426" y="404"/>
                      </a:lnTo>
                      <a:lnTo>
                        <a:pt x="1463" y="428"/>
                      </a:lnTo>
                      <a:lnTo>
                        <a:pt x="1498" y="452"/>
                      </a:lnTo>
                      <a:lnTo>
                        <a:pt x="1534" y="477"/>
                      </a:lnTo>
                      <a:lnTo>
                        <a:pt x="1534" y="553"/>
                      </a:lnTo>
                      <a:lnTo>
                        <a:pt x="1534" y="628"/>
                      </a:lnTo>
                      <a:lnTo>
                        <a:pt x="1534" y="705"/>
                      </a:lnTo>
                      <a:lnTo>
                        <a:pt x="1534" y="781"/>
                      </a:lnTo>
                      <a:lnTo>
                        <a:pt x="1533" y="815"/>
                      </a:lnTo>
                      <a:lnTo>
                        <a:pt x="1533" y="844"/>
                      </a:lnTo>
                      <a:lnTo>
                        <a:pt x="1531" y="868"/>
                      </a:lnTo>
                      <a:lnTo>
                        <a:pt x="1531" y="894"/>
                      </a:lnTo>
                      <a:lnTo>
                        <a:pt x="1505" y="909"/>
                      </a:lnTo>
                      <a:lnTo>
                        <a:pt x="1492" y="909"/>
                      </a:lnTo>
                      <a:lnTo>
                        <a:pt x="1479" y="909"/>
                      </a:lnTo>
                      <a:lnTo>
                        <a:pt x="1466" y="907"/>
                      </a:lnTo>
                      <a:lnTo>
                        <a:pt x="1455" y="907"/>
                      </a:lnTo>
                      <a:lnTo>
                        <a:pt x="1442" y="907"/>
                      </a:lnTo>
                      <a:lnTo>
                        <a:pt x="1429" y="907"/>
                      </a:lnTo>
                      <a:lnTo>
                        <a:pt x="1416" y="906"/>
                      </a:lnTo>
                      <a:lnTo>
                        <a:pt x="1401" y="904"/>
                      </a:lnTo>
                      <a:lnTo>
                        <a:pt x="1394" y="90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170840" y="2287440"/>
                  <a:ext cx="901440" cy="795600"/>
                </a:xfrm>
                <a:custGeom>
                  <a:avLst/>
                  <a:gdLst/>
                  <a:ahLst/>
                  <a:rect l="l" t="t" r="r" b="b"/>
                  <a:pathLst>
                    <a:path w="1705" h="1504">
                      <a:moveTo>
                        <a:pt x="356" y="1504"/>
                      </a:moveTo>
                      <a:lnTo>
                        <a:pt x="334" y="1502"/>
                      </a:lnTo>
                      <a:lnTo>
                        <a:pt x="313" y="1502"/>
                      </a:lnTo>
                      <a:lnTo>
                        <a:pt x="290" y="1502"/>
                      </a:lnTo>
                      <a:lnTo>
                        <a:pt x="268" y="1502"/>
                      </a:lnTo>
                      <a:lnTo>
                        <a:pt x="246" y="1502"/>
                      </a:lnTo>
                      <a:lnTo>
                        <a:pt x="223" y="1502"/>
                      </a:lnTo>
                      <a:lnTo>
                        <a:pt x="201" y="1502"/>
                      </a:lnTo>
                      <a:lnTo>
                        <a:pt x="178" y="1502"/>
                      </a:lnTo>
                      <a:lnTo>
                        <a:pt x="157" y="1502"/>
                      </a:lnTo>
                      <a:lnTo>
                        <a:pt x="135" y="1502"/>
                      </a:lnTo>
                      <a:lnTo>
                        <a:pt x="112" y="1502"/>
                      </a:lnTo>
                      <a:lnTo>
                        <a:pt x="90" y="1502"/>
                      </a:lnTo>
                      <a:lnTo>
                        <a:pt x="67" y="1502"/>
                      </a:lnTo>
                      <a:lnTo>
                        <a:pt x="45" y="1502"/>
                      </a:lnTo>
                      <a:lnTo>
                        <a:pt x="22" y="1502"/>
                      </a:lnTo>
                      <a:lnTo>
                        <a:pt x="0" y="1501"/>
                      </a:lnTo>
                      <a:lnTo>
                        <a:pt x="25" y="1488"/>
                      </a:lnTo>
                      <a:lnTo>
                        <a:pt x="51" y="1475"/>
                      </a:lnTo>
                      <a:lnTo>
                        <a:pt x="76" y="1460"/>
                      </a:lnTo>
                      <a:lnTo>
                        <a:pt x="100" y="1446"/>
                      </a:lnTo>
                      <a:lnTo>
                        <a:pt x="123" y="1431"/>
                      </a:lnTo>
                      <a:lnTo>
                        <a:pt x="148" y="1417"/>
                      </a:lnTo>
                      <a:lnTo>
                        <a:pt x="171" y="1401"/>
                      </a:lnTo>
                      <a:lnTo>
                        <a:pt x="194" y="1385"/>
                      </a:lnTo>
                      <a:lnTo>
                        <a:pt x="217" y="1368"/>
                      </a:lnTo>
                      <a:lnTo>
                        <a:pt x="240" y="1350"/>
                      </a:lnTo>
                      <a:lnTo>
                        <a:pt x="262" y="1333"/>
                      </a:lnTo>
                      <a:lnTo>
                        <a:pt x="285" y="1314"/>
                      </a:lnTo>
                      <a:lnTo>
                        <a:pt x="307" y="1294"/>
                      </a:lnTo>
                      <a:lnTo>
                        <a:pt x="327" y="1274"/>
                      </a:lnTo>
                      <a:lnTo>
                        <a:pt x="349" y="1254"/>
                      </a:lnTo>
                      <a:lnTo>
                        <a:pt x="369" y="1232"/>
                      </a:lnTo>
                      <a:lnTo>
                        <a:pt x="379" y="1225"/>
                      </a:lnTo>
                      <a:lnTo>
                        <a:pt x="391" y="1218"/>
                      </a:lnTo>
                      <a:lnTo>
                        <a:pt x="401" y="1209"/>
                      </a:lnTo>
                      <a:lnTo>
                        <a:pt x="413" y="1199"/>
                      </a:lnTo>
                      <a:lnTo>
                        <a:pt x="423" y="1187"/>
                      </a:lnTo>
                      <a:lnTo>
                        <a:pt x="433" y="1177"/>
                      </a:lnTo>
                      <a:lnTo>
                        <a:pt x="444" y="1166"/>
                      </a:lnTo>
                      <a:lnTo>
                        <a:pt x="454" y="1154"/>
                      </a:lnTo>
                      <a:lnTo>
                        <a:pt x="469" y="1134"/>
                      </a:lnTo>
                      <a:lnTo>
                        <a:pt x="480" y="1114"/>
                      </a:lnTo>
                      <a:lnTo>
                        <a:pt x="492" y="1092"/>
                      </a:lnTo>
                      <a:lnTo>
                        <a:pt x="502" y="1067"/>
                      </a:lnTo>
                      <a:lnTo>
                        <a:pt x="512" y="1044"/>
                      </a:lnTo>
                      <a:lnTo>
                        <a:pt x="522" y="1020"/>
                      </a:lnTo>
                      <a:lnTo>
                        <a:pt x="534" y="995"/>
                      </a:lnTo>
                      <a:lnTo>
                        <a:pt x="546" y="969"/>
                      </a:lnTo>
                      <a:lnTo>
                        <a:pt x="564" y="892"/>
                      </a:lnTo>
                      <a:lnTo>
                        <a:pt x="589" y="819"/>
                      </a:lnTo>
                      <a:lnTo>
                        <a:pt x="618" y="749"/>
                      </a:lnTo>
                      <a:lnTo>
                        <a:pt x="651" y="684"/>
                      </a:lnTo>
                      <a:lnTo>
                        <a:pt x="687" y="621"/>
                      </a:lnTo>
                      <a:lnTo>
                        <a:pt x="728" y="562"/>
                      </a:lnTo>
                      <a:lnTo>
                        <a:pt x="771" y="502"/>
                      </a:lnTo>
                      <a:lnTo>
                        <a:pt x="819" y="447"/>
                      </a:lnTo>
                      <a:lnTo>
                        <a:pt x="868" y="393"/>
                      </a:lnTo>
                      <a:lnTo>
                        <a:pt x="919" y="339"/>
                      </a:lnTo>
                      <a:lnTo>
                        <a:pt x="972" y="287"/>
                      </a:lnTo>
                      <a:lnTo>
                        <a:pt x="1027" y="235"/>
                      </a:lnTo>
                      <a:lnTo>
                        <a:pt x="1083" y="184"/>
                      </a:lnTo>
                      <a:lnTo>
                        <a:pt x="1140" y="132"/>
                      </a:lnTo>
                      <a:lnTo>
                        <a:pt x="1198" y="80"/>
                      </a:lnTo>
                      <a:lnTo>
                        <a:pt x="1256" y="27"/>
                      </a:lnTo>
                      <a:lnTo>
                        <a:pt x="1261" y="24"/>
                      </a:lnTo>
                      <a:lnTo>
                        <a:pt x="1269" y="21"/>
                      </a:lnTo>
                      <a:lnTo>
                        <a:pt x="1274" y="18"/>
                      </a:lnTo>
                      <a:lnTo>
                        <a:pt x="1282" y="15"/>
                      </a:lnTo>
                      <a:lnTo>
                        <a:pt x="1287" y="11"/>
                      </a:lnTo>
                      <a:lnTo>
                        <a:pt x="1295" y="8"/>
                      </a:lnTo>
                      <a:lnTo>
                        <a:pt x="1302" y="4"/>
                      </a:lnTo>
                      <a:lnTo>
                        <a:pt x="1309" y="0"/>
                      </a:lnTo>
                      <a:lnTo>
                        <a:pt x="1316" y="2"/>
                      </a:lnTo>
                      <a:lnTo>
                        <a:pt x="1322" y="4"/>
                      </a:lnTo>
                      <a:lnTo>
                        <a:pt x="1328" y="4"/>
                      </a:lnTo>
                      <a:lnTo>
                        <a:pt x="1335" y="5"/>
                      </a:lnTo>
                      <a:lnTo>
                        <a:pt x="1341" y="7"/>
                      </a:lnTo>
                      <a:lnTo>
                        <a:pt x="1348" y="8"/>
                      </a:lnTo>
                      <a:lnTo>
                        <a:pt x="1355" y="10"/>
                      </a:lnTo>
                      <a:lnTo>
                        <a:pt x="1363" y="14"/>
                      </a:lnTo>
                      <a:lnTo>
                        <a:pt x="1367" y="20"/>
                      </a:lnTo>
                      <a:lnTo>
                        <a:pt x="1368" y="30"/>
                      </a:lnTo>
                      <a:lnTo>
                        <a:pt x="1368" y="41"/>
                      </a:lnTo>
                      <a:lnTo>
                        <a:pt x="1370" y="54"/>
                      </a:lnTo>
                      <a:lnTo>
                        <a:pt x="1342" y="33"/>
                      </a:lnTo>
                      <a:lnTo>
                        <a:pt x="1328" y="44"/>
                      </a:lnTo>
                      <a:lnTo>
                        <a:pt x="1334" y="50"/>
                      </a:lnTo>
                      <a:lnTo>
                        <a:pt x="1338" y="56"/>
                      </a:lnTo>
                      <a:lnTo>
                        <a:pt x="1344" y="65"/>
                      </a:lnTo>
                      <a:lnTo>
                        <a:pt x="1351" y="72"/>
                      </a:lnTo>
                      <a:lnTo>
                        <a:pt x="1355" y="85"/>
                      </a:lnTo>
                      <a:lnTo>
                        <a:pt x="1344" y="86"/>
                      </a:lnTo>
                      <a:lnTo>
                        <a:pt x="1331" y="67"/>
                      </a:lnTo>
                      <a:lnTo>
                        <a:pt x="1322" y="65"/>
                      </a:lnTo>
                      <a:lnTo>
                        <a:pt x="1315" y="63"/>
                      </a:lnTo>
                      <a:lnTo>
                        <a:pt x="1306" y="66"/>
                      </a:lnTo>
                      <a:lnTo>
                        <a:pt x="1299" y="73"/>
                      </a:lnTo>
                      <a:lnTo>
                        <a:pt x="1302" y="82"/>
                      </a:lnTo>
                      <a:lnTo>
                        <a:pt x="1308" y="86"/>
                      </a:lnTo>
                      <a:lnTo>
                        <a:pt x="1316" y="91"/>
                      </a:lnTo>
                      <a:lnTo>
                        <a:pt x="1325" y="98"/>
                      </a:lnTo>
                      <a:lnTo>
                        <a:pt x="1328" y="115"/>
                      </a:lnTo>
                      <a:lnTo>
                        <a:pt x="1321" y="119"/>
                      </a:lnTo>
                      <a:lnTo>
                        <a:pt x="1311" y="111"/>
                      </a:lnTo>
                      <a:lnTo>
                        <a:pt x="1302" y="102"/>
                      </a:lnTo>
                      <a:lnTo>
                        <a:pt x="1293" y="95"/>
                      </a:lnTo>
                      <a:lnTo>
                        <a:pt x="1283" y="85"/>
                      </a:lnTo>
                      <a:lnTo>
                        <a:pt x="1264" y="102"/>
                      </a:lnTo>
                      <a:lnTo>
                        <a:pt x="1273" y="111"/>
                      </a:lnTo>
                      <a:lnTo>
                        <a:pt x="1279" y="117"/>
                      </a:lnTo>
                      <a:lnTo>
                        <a:pt x="1284" y="124"/>
                      </a:lnTo>
                      <a:lnTo>
                        <a:pt x="1293" y="131"/>
                      </a:lnTo>
                      <a:lnTo>
                        <a:pt x="1292" y="143"/>
                      </a:lnTo>
                      <a:lnTo>
                        <a:pt x="1282" y="141"/>
                      </a:lnTo>
                      <a:lnTo>
                        <a:pt x="1274" y="135"/>
                      </a:lnTo>
                      <a:lnTo>
                        <a:pt x="1269" y="128"/>
                      </a:lnTo>
                      <a:lnTo>
                        <a:pt x="1263" y="121"/>
                      </a:lnTo>
                      <a:lnTo>
                        <a:pt x="1241" y="121"/>
                      </a:lnTo>
                      <a:lnTo>
                        <a:pt x="1238" y="131"/>
                      </a:lnTo>
                      <a:lnTo>
                        <a:pt x="1244" y="138"/>
                      </a:lnTo>
                      <a:lnTo>
                        <a:pt x="1250" y="147"/>
                      </a:lnTo>
                      <a:lnTo>
                        <a:pt x="1258" y="157"/>
                      </a:lnTo>
                      <a:lnTo>
                        <a:pt x="1267" y="169"/>
                      </a:lnTo>
                      <a:lnTo>
                        <a:pt x="1256" y="170"/>
                      </a:lnTo>
                      <a:lnTo>
                        <a:pt x="1248" y="163"/>
                      </a:lnTo>
                      <a:lnTo>
                        <a:pt x="1240" y="154"/>
                      </a:lnTo>
                      <a:lnTo>
                        <a:pt x="1230" y="150"/>
                      </a:lnTo>
                      <a:lnTo>
                        <a:pt x="1214" y="161"/>
                      </a:lnTo>
                      <a:lnTo>
                        <a:pt x="1219" y="171"/>
                      </a:lnTo>
                      <a:lnTo>
                        <a:pt x="1227" y="180"/>
                      </a:lnTo>
                      <a:lnTo>
                        <a:pt x="1234" y="190"/>
                      </a:lnTo>
                      <a:lnTo>
                        <a:pt x="1241" y="203"/>
                      </a:lnTo>
                      <a:lnTo>
                        <a:pt x="1231" y="208"/>
                      </a:lnTo>
                      <a:lnTo>
                        <a:pt x="1224" y="200"/>
                      </a:lnTo>
                      <a:lnTo>
                        <a:pt x="1218" y="196"/>
                      </a:lnTo>
                      <a:lnTo>
                        <a:pt x="1211" y="190"/>
                      </a:lnTo>
                      <a:lnTo>
                        <a:pt x="1199" y="186"/>
                      </a:lnTo>
                      <a:lnTo>
                        <a:pt x="1179" y="197"/>
                      </a:lnTo>
                      <a:lnTo>
                        <a:pt x="1182" y="208"/>
                      </a:lnTo>
                      <a:lnTo>
                        <a:pt x="1189" y="210"/>
                      </a:lnTo>
                      <a:lnTo>
                        <a:pt x="1196" y="218"/>
                      </a:lnTo>
                      <a:lnTo>
                        <a:pt x="1205" y="226"/>
                      </a:lnTo>
                      <a:lnTo>
                        <a:pt x="1215" y="229"/>
                      </a:lnTo>
                      <a:lnTo>
                        <a:pt x="1206" y="244"/>
                      </a:lnTo>
                      <a:lnTo>
                        <a:pt x="1196" y="241"/>
                      </a:lnTo>
                      <a:lnTo>
                        <a:pt x="1189" y="234"/>
                      </a:lnTo>
                      <a:lnTo>
                        <a:pt x="1180" y="226"/>
                      </a:lnTo>
                      <a:lnTo>
                        <a:pt x="1167" y="222"/>
                      </a:lnTo>
                      <a:lnTo>
                        <a:pt x="1147" y="236"/>
                      </a:lnTo>
                      <a:lnTo>
                        <a:pt x="1156" y="242"/>
                      </a:lnTo>
                      <a:lnTo>
                        <a:pt x="1163" y="250"/>
                      </a:lnTo>
                      <a:lnTo>
                        <a:pt x="1170" y="258"/>
                      </a:lnTo>
                      <a:lnTo>
                        <a:pt x="1180" y="264"/>
                      </a:lnTo>
                      <a:lnTo>
                        <a:pt x="1176" y="273"/>
                      </a:lnTo>
                      <a:lnTo>
                        <a:pt x="1166" y="273"/>
                      </a:lnTo>
                      <a:lnTo>
                        <a:pt x="1162" y="265"/>
                      </a:lnTo>
                      <a:lnTo>
                        <a:pt x="1154" y="260"/>
                      </a:lnTo>
                      <a:lnTo>
                        <a:pt x="1146" y="254"/>
                      </a:lnTo>
                      <a:lnTo>
                        <a:pt x="1137" y="247"/>
                      </a:lnTo>
                      <a:lnTo>
                        <a:pt x="1120" y="263"/>
                      </a:lnTo>
                      <a:lnTo>
                        <a:pt x="1125" y="270"/>
                      </a:lnTo>
                      <a:lnTo>
                        <a:pt x="1133" y="278"/>
                      </a:lnTo>
                      <a:lnTo>
                        <a:pt x="1141" y="287"/>
                      </a:lnTo>
                      <a:lnTo>
                        <a:pt x="1149" y="299"/>
                      </a:lnTo>
                      <a:lnTo>
                        <a:pt x="1140" y="299"/>
                      </a:lnTo>
                      <a:lnTo>
                        <a:pt x="1136" y="291"/>
                      </a:lnTo>
                      <a:lnTo>
                        <a:pt x="1127" y="286"/>
                      </a:lnTo>
                      <a:lnTo>
                        <a:pt x="1118" y="278"/>
                      </a:lnTo>
                      <a:lnTo>
                        <a:pt x="1110" y="268"/>
                      </a:lnTo>
                      <a:lnTo>
                        <a:pt x="1099" y="268"/>
                      </a:lnTo>
                      <a:lnTo>
                        <a:pt x="1095" y="289"/>
                      </a:lnTo>
                      <a:lnTo>
                        <a:pt x="1101" y="297"/>
                      </a:lnTo>
                      <a:lnTo>
                        <a:pt x="1107" y="304"/>
                      </a:lnTo>
                      <a:lnTo>
                        <a:pt x="1112" y="312"/>
                      </a:lnTo>
                      <a:lnTo>
                        <a:pt x="1118" y="322"/>
                      </a:lnTo>
                      <a:lnTo>
                        <a:pt x="1114" y="329"/>
                      </a:lnTo>
                      <a:lnTo>
                        <a:pt x="1105" y="323"/>
                      </a:lnTo>
                      <a:lnTo>
                        <a:pt x="1099" y="313"/>
                      </a:lnTo>
                      <a:lnTo>
                        <a:pt x="1091" y="303"/>
                      </a:lnTo>
                      <a:lnTo>
                        <a:pt x="1081" y="297"/>
                      </a:lnTo>
                      <a:lnTo>
                        <a:pt x="1062" y="309"/>
                      </a:lnTo>
                      <a:lnTo>
                        <a:pt x="1068" y="320"/>
                      </a:lnTo>
                      <a:lnTo>
                        <a:pt x="1073" y="329"/>
                      </a:lnTo>
                      <a:lnTo>
                        <a:pt x="1081" y="338"/>
                      </a:lnTo>
                      <a:lnTo>
                        <a:pt x="1088" y="349"/>
                      </a:lnTo>
                      <a:lnTo>
                        <a:pt x="1079" y="349"/>
                      </a:lnTo>
                      <a:lnTo>
                        <a:pt x="1070" y="345"/>
                      </a:lnTo>
                      <a:lnTo>
                        <a:pt x="1063" y="338"/>
                      </a:lnTo>
                      <a:lnTo>
                        <a:pt x="1053" y="332"/>
                      </a:lnTo>
                      <a:lnTo>
                        <a:pt x="1033" y="338"/>
                      </a:lnTo>
                      <a:lnTo>
                        <a:pt x="1036" y="348"/>
                      </a:lnTo>
                      <a:lnTo>
                        <a:pt x="1044" y="355"/>
                      </a:lnTo>
                      <a:lnTo>
                        <a:pt x="1052" y="364"/>
                      </a:lnTo>
                      <a:lnTo>
                        <a:pt x="1053" y="378"/>
                      </a:lnTo>
                      <a:lnTo>
                        <a:pt x="1043" y="375"/>
                      </a:lnTo>
                      <a:lnTo>
                        <a:pt x="1034" y="368"/>
                      </a:lnTo>
                      <a:lnTo>
                        <a:pt x="1027" y="359"/>
                      </a:lnTo>
                      <a:lnTo>
                        <a:pt x="1016" y="356"/>
                      </a:lnTo>
                      <a:lnTo>
                        <a:pt x="997" y="371"/>
                      </a:lnTo>
                      <a:lnTo>
                        <a:pt x="1001" y="378"/>
                      </a:lnTo>
                      <a:lnTo>
                        <a:pt x="1010" y="384"/>
                      </a:lnTo>
                      <a:lnTo>
                        <a:pt x="1017" y="393"/>
                      </a:lnTo>
                      <a:lnTo>
                        <a:pt x="1017" y="403"/>
                      </a:lnTo>
                      <a:lnTo>
                        <a:pt x="1004" y="410"/>
                      </a:lnTo>
                      <a:lnTo>
                        <a:pt x="976" y="419"/>
                      </a:lnTo>
                      <a:lnTo>
                        <a:pt x="976" y="430"/>
                      </a:lnTo>
                      <a:lnTo>
                        <a:pt x="987" y="442"/>
                      </a:lnTo>
                      <a:lnTo>
                        <a:pt x="998" y="442"/>
                      </a:lnTo>
                      <a:lnTo>
                        <a:pt x="1010" y="437"/>
                      </a:lnTo>
                      <a:lnTo>
                        <a:pt x="1021" y="433"/>
                      </a:lnTo>
                      <a:lnTo>
                        <a:pt x="1031" y="427"/>
                      </a:lnTo>
                      <a:lnTo>
                        <a:pt x="1040" y="420"/>
                      </a:lnTo>
                      <a:lnTo>
                        <a:pt x="1049" y="413"/>
                      </a:lnTo>
                      <a:lnTo>
                        <a:pt x="1059" y="407"/>
                      </a:lnTo>
                      <a:lnTo>
                        <a:pt x="1070" y="400"/>
                      </a:lnTo>
                      <a:lnTo>
                        <a:pt x="1082" y="394"/>
                      </a:lnTo>
                      <a:lnTo>
                        <a:pt x="1107" y="377"/>
                      </a:lnTo>
                      <a:lnTo>
                        <a:pt x="1130" y="356"/>
                      </a:lnTo>
                      <a:lnTo>
                        <a:pt x="1151" y="338"/>
                      </a:lnTo>
                      <a:lnTo>
                        <a:pt x="1173" y="316"/>
                      </a:lnTo>
                      <a:lnTo>
                        <a:pt x="1195" y="294"/>
                      </a:lnTo>
                      <a:lnTo>
                        <a:pt x="1215" y="273"/>
                      </a:lnTo>
                      <a:lnTo>
                        <a:pt x="1237" y="250"/>
                      </a:lnTo>
                      <a:lnTo>
                        <a:pt x="1257" y="226"/>
                      </a:lnTo>
                      <a:lnTo>
                        <a:pt x="1277" y="203"/>
                      </a:lnTo>
                      <a:lnTo>
                        <a:pt x="1299" y="180"/>
                      </a:lnTo>
                      <a:lnTo>
                        <a:pt x="1319" y="157"/>
                      </a:lnTo>
                      <a:lnTo>
                        <a:pt x="1341" y="135"/>
                      </a:lnTo>
                      <a:lnTo>
                        <a:pt x="1363" y="112"/>
                      </a:lnTo>
                      <a:lnTo>
                        <a:pt x="1384" y="91"/>
                      </a:lnTo>
                      <a:lnTo>
                        <a:pt x="1407" y="69"/>
                      </a:lnTo>
                      <a:lnTo>
                        <a:pt x="1432" y="49"/>
                      </a:lnTo>
                      <a:lnTo>
                        <a:pt x="1452" y="47"/>
                      </a:lnTo>
                      <a:lnTo>
                        <a:pt x="1474" y="54"/>
                      </a:lnTo>
                      <a:lnTo>
                        <a:pt x="1480" y="56"/>
                      </a:lnTo>
                      <a:lnTo>
                        <a:pt x="1487" y="62"/>
                      </a:lnTo>
                      <a:lnTo>
                        <a:pt x="1494" y="69"/>
                      </a:lnTo>
                      <a:lnTo>
                        <a:pt x="1501" y="78"/>
                      </a:lnTo>
                      <a:lnTo>
                        <a:pt x="1503" y="85"/>
                      </a:lnTo>
                      <a:lnTo>
                        <a:pt x="1506" y="92"/>
                      </a:lnTo>
                      <a:lnTo>
                        <a:pt x="1509" y="99"/>
                      </a:lnTo>
                      <a:lnTo>
                        <a:pt x="1510" y="109"/>
                      </a:lnTo>
                      <a:lnTo>
                        <a:pt x="1504" y="109"/>
                      </a:lnTo>
                      <a:lnTo>
                        <a:pt x="1497" y="109"/>
                      </a:lnTo>
                      <a:lnTo>
                        <a:pt x="1490" y="112"/>
                      </a:lnTo>
                      <a:lnTo>
                        <a:pt x="1480" y="115"/>
                      </a:lnTo>
                      <a:lnTo>
                        <a:pt x="1480" y="122"/>
                      </a:lnTo>
                      <a:lnTo>
                        <a:pt x="1485" y="125"/>
                      </a:lnTo>
                      <a:lnTo>
                        <a:pt x="1493" y="130"/>
                      </a:lnTo>
                      <a:lnTo>
                        <a:pt x="1496" y="138"/>
                      </a:lnTo>
                      <a:lnTo>
                        <a:pt x="1490" y="137"/>
                      </a:lnTo>
                      <a:lnTo>
                        <a:pt x="1483" y="130"/>
                      </a:lnTo>
                      <a:lnTo>
                        <a:pt x="1474" y="124"/>
                      </a:lnTo>
                      <a:lnTo>
                        <a:pt x="1461" y="121"/>
                      </a:lnTo>
                      <a:lnTo>
                        <a:pt x="1449" y="140"/>
                      </a:lnTo>
                      <a:lnTo>
                        <a:pt x="1454" y="148"/>
                      </a:lnTo>
                      <a:lnTo>
                        <a:pt x="1461" y="154"/>
                      </a:lnTo>
                      <a:lnTo>
                        <a:pt x="1468" y="160"/>
                      </a:lnTo>
                      <a:lnTo>
                        <a:pt x="1477" y="171"/>
                      </a:lnTo>
                      <a:lnTo>
                        <a:pt x="1477" y="180"/>
                      </a:lnTo>
                      <a:lnTo>
                        <a:pt x="1471" y="180"/>
                      </a:lnTo>
                      <a:lnTo>
                        <a:pt x="1465" y="179"/>
                      </a:lnTo>
                      <a:lnTo>
                        <a:pt x="1461" y="176"/>
                      </a:lnTo>
                      <a:lnTo>
                        <a:pt x="1457" y="173"/>
                      </a:lnTo>
                      <a:lnTo>
                        <a:pt x="1452" y="169"/>
                      </a:lnTo>
                      <a:lnTo>
                        <a:pt x="1446" y="166"/>
                      </a:lnTo>
                      <a:lnTo>
                        <a:pt x="1441" y="164"/>
                      </a:lnTo>
                      <a:lnTo>
                        <a:pt x="1433" y="163"/>
                      </a:lnTo>
                      <a:lnTo>
                        <a:pt x="1425" y="171"/>
                      </a:lnTo>
                      <a:lnTo>
                        <a:pt x="1426" y="182"/>
                      </a:lnTo>
                      <a:lnTo>
                        <a:pt x="1435" y="189"/>
                      </a:lnTo>
                      <a:lnTo>
                        <a:pt x="1445" y="197"/>
                      </a:lnTo>
                      <a:lnTo>
                        <a:pt x="1449" y="210"/>
                      </a:lnTo>
                      <a:lnTo>
                        <a:pt x="1444" y="210"/>
                      </a:lnTo>
                      <a:lnTo>
                        <a:pt x="1439" y="210"/>
                      </a:lnTo>
                      <a:lnTo>
                        <a:pt x="1433" y="209"/>
                      </a:lnTo>
                      <a:lnTo>
                        <a:pt x="1428" y="206"/>
                      </a:lnTo>
                      <a:lnTo>
                        <a:pt x="1422" y="205"/>
                      </a:lnTo>
                      <a:lnTo>
                        <a:pt x="1416" y="205"/>
                      </a:lnTo>
                      <a:lnTo>
                        <a:pt x="1412" y="205"/>
                      </a:lnTo>
                      <a:lnTo>
                        <a:pt x="1406" y="208"/>
                      </a:lnTo>
                      <a:lnTo>
                        <a:pt x="1403" y="219"/>
                      </a:lnTo>
                      <a:lnTo>
                        <a:pt x="1405" y="226"/>
                      </a:lnTo>
                      <a:lnTo>
                        <a:pt x="1410" y="231"/>
                      </a:lnTo>
                      <a:lnTo>
                        <a:pt x="1418" y="235"/>
                      </a:lnTo>
                      <a:lnTo>
                        <a:pt x="1425" y="244"/>
                      </a:lnTo>
                      <a:lnTo>
                        <a:pt x="1407" y="244"/>
                      </a:lnTo>
                      <a:lnTo>
                        <a:pt x="1397" y="244"/>
                      </a:lnTo>
                      <a:lnTo>
                        <a:pt x="1390" y="247"/>
                      </a:lnTo>
                      <a:lnTo>
                        <a:pt x="1384" y="252"/>
                      </a:lnTo>
                      <a:lnTo>
                        <a:pt x="1380" y="260"/>
                      </a:lnTo>
                      <a:lnTo>
                        <a:pt x="1384" y="264"/>
                      </a:lnTo>
                      <a:lnTo>
                        <a:pt x="1392" y="267"/>
                      </a:lnTo>
                      <a:lnTo>
                        <a:pt x="1399" y="271"/>
                      </a:lnTo>
                      <a:lnTo>
                        <a:pt x="1399" y="280"/>
                      </a:lnTo>
                      <a:lnTo>
                        <a:pt x="1394" y="277"/>
                      </a:lnTo>
                      <a:lnTo>
                        <a:pt x="1387" y="277"/>
                      </a:lnTo>
                      <a:lnTo>
                        <a:pt x="1377" y="277"/>
                      </a:lnTo>
                      <a:lnTo>
                        <a:pt x="1365" y="280"/>
                      </a:lnTo>
                      <a:lnTo>
                        <a:pt x="1363" y="300"/>
                      </a:lnTo>
                      <a:lnTo>
                        <a:pt x="1380" y="309"/>
                      </a:lnTo>
                      <a:lnTo>
                        <a:pt x="1371" y="320"/>
                      </a:lnTo>
                      <a:lnTo>
                        <a:pt x="1361" y="317"/>
                      </a:lnTo>
                      <a:lnTo>
                        <a:pt x="1354" y="312"/>
                      </a:lnTo>
                      <a:lnTo>
                        <a:pt x="1344" y="304"/>
                      </a:lnTo>
                      <a:lnTo>
                        <a:pt x="1331" y="303"/>
                      </a:lnTo>
                      <a:lnTo>
                        <a:pt x="1321" y="315"/>
                      </a:lnTo>
                      <a:lnTo>
                        <a:pt x="1328" y="320"/>
                      </a:lnTo>
                      <a:lnTo>
                        <a:pt x="1334" y="328"/>
                      </a:lnTo>
                      <a:lnTo>
                        <a:pt x="1341" y="335"/>
                      </a:lnTo>
                      <a:lnTo>
                        <a:pt x="1351" y="342"/>
                      </a:lnTo>
                      <a:lnTo>
                        <a:pt x="1348" y="352"/>
                      </a:lnTo>
                      <a:lnTo>
                        <a:pt x="1339" y="351"/>
                      </a:lnTo>
                      <a:lnTo>
                        <a:pt x="1331" y="345"/>
                      </a:lnTo>
                      <a:lnTo>
                        <a:pt x="1321" y="339"/>
                      </a:lnTo>
                      <a:lnTo>
                        <a:pt x="1306" y="341"/>
                      </a:lnTo>
                      <a:lnTo>
                        <a:pt x="1296" y="346"/>
                      </a:lnTo>
                      <a:lnTo>
                        <a:pt x="1299" y="356"/>
                      </a:lnTo>
                      <a:lnTo>
                        <a:pt x="1308" y="362"/>
                      </a:lnTo>
                      <a:lnTo>
                        <a:pt x="1316" y="368"/>
                      </a:lnTo>
                      <a:lnTo>
                        <a:pt x="1322" y="381"/>
                      </a:lnTo>
                      <a:lnTo>
                        <a:pt x="1315" y="391"/>
                      </a:lnTo>
                      <a:lnTo>
                        <a:pt x="1309" y="391"/>
                      </a:lnTo>
                      <a:lnTo>
                        <a:pt x="1303" y="390"/>
                      </a:lnTo>
                      <a:lnTo>
                        <a:pt x="1299" y="385"/>
                      </a:lnTo>
                      <a:lnTo>
                        <a:pt x="1295" y="381"/>
                      </a:lnTo>
                      <a:lnTo>
                        <a:pt x="1290" y="378"/>
                      </a:lnTo>
                      <a:lnTo>
                        <a:pt x="1284" y="374"/>
                      </a:lnTo>
                      <a:lnTo>
                        <a:pt x="1279" y="371"/>
                      </a:lnTo>
                      <a:lnTo>
                        <a:pt x="1271" y="371"/>
                      </a:lnTo>
                      <a:lnTo>
                        <a:pt x="1256" y="384"/>
                      </a:lnTo>
                      <a:lnTo>
                        <a:pt x="1263" y="393"/>
                      </a:lnTo>
                      <a:lnTo>
                        <a:pt x="1270" y="400"/>
                      </a:lnTo>
                      <a:lnTo>
                        <a:pt x="1277" y="407"/>
                      </a:lnTo>
                      <a:lnTo>
                        <a:pt x="1283" y="417"/>
                      </a:lnTo>
                      <a:lnTo>
                        <a:pt x="1273" y="427"/>
                      </a:lnTo>
                      <a:lnTo>
                        <a:pt x="1263" y="424"/>
                      </a:lnTo>
                      <a:lnTo>
                        <a:pt x="1254" y="417"/>
                      </a:lnTo>
                      <a:lnTo>
                        <a:pt x="1244" y="411"/>
                      </a:lnTo>
                      <a:lnTo>
                        <a:pt x="1231" y="407"/>
                      </a:lnTo>
                      <a:lnTo>
                        <a:pt x="1219" y="414"/>
                      </a:lnTo>
                      <a:lnTo>
                        <a:pt x="1219" y="424"/>
                      </a:lnTo>
                      <a:lnTo>
                        <a:pt x="1224" y="432"/>
                      </a:lnTo>
                      <a:lnTo>
                        <a:pt x="1230" y="437"/>
                      </a:lnTo>
                      <a:lnTo>
                        <a:pt x="1237" y="442"/>
                      </a:lnTo>
                      <a:lnTo>
                        <a:pt x="1248" y="446"/>
                      </a:lnTo>
                      <a:lnTo>
                        <a:pt x="1232" y="463"/>
                      </a:lnTo>
                      <a:lnTo>
                        <a:pt x="1227" y="459"/>
                      </a:lnTo>
                      <a:lnTo>
                        <a:pt x="1219" y="453"/>
                      </a:lnTo>
                      <a:lnTo>
                        <a:pt x="1211" y="447"/>
                      </a:lnTo>
                      <a:lnTo>
                        <a:pt x="1202" y="439"/>
                      </a:lnTo>
                      <a:lnTo>
                        <a:pt x="1183" y="456"/>
                      </a:lnTo>
                      <a:lnTo>
                        <a:pt x="1186" y="463"/>
                      </a:lnTo>
                      <a:lnTo>
                        <a:pt x="1193" y="468"/>
                      </a:lnTo>
                      <a:lnTo>
                        <a:pt x="1202" y="473"/>
                      </a:lnTo>
                      <a:lnTo>
                        <a:pt x="1209" y="482"/>
                      </a:lnTo>
                      <a:lnTo>
                        <a:pt x="1204" y="489"/>
                      </a:lnTo>
                      <a:lnTo>
                        <a:pt x="1196" y="486"/>
                      </a:lnTo>
                      <a:lnTo>
                        <a:pt x="1191" y="481"/>
                      </a:lnTo>
                      <a:lnTo>
                        <a:pt x="1183" y="476"/>
                      </a:lnTo>
                      <a:lnTo>
                        <a:pt x="1172" y="476"/>
                      </a:lnTo>
                      <a:lnTo>
                        <a:pt x="1166" y="489"/>
                      </a:lnTo>
                      <a:lnTo>
                        <a:pt x="1167" y="497"/>
                      </a:lnTo>
                      <a:lnTo>
                        <a:pt x="1173" y="504"/>
                      </a:lnTo>
                      <a:lnTo>
                        <a:pt x="1177" y="510"/>
                      </a:lnTo>
                      <a:lnTo>
                        <a:pt x="1183" y="518"/>
                      </a:lnTo>
                      <a:lnTo>
                        <a:pt x="1179" y="524"/>
                      </a:lnTo>
                      <a:lnTo>
                        <a:pt x="1175" y="534"/>
                      </a:lnTo>
                      <a:lnTo>
                        <a:pt x="1175" y="544"/>
                      </a:lnTo>
                      <a:lnTo>
                        <a:pt x="1179" y="551"/>
                      </a:lnTo>
                      <a:lnTo>
                        <a:pt x="1191" y="551"/>
                      </a:lnTo>
                      <a:lnTo>
                        <a:pt x="1215" y="528"/>
                      </a:lnTo>
                      <a:lnTo>
                        <a:pt x="1240" y="504"/>
                      </a:lnTo>
                      <a:lnTo>
                        <a:pt x="1263" y="479"/>
                      </a:lnTo>
                      <a:lnTo>
                        <a:pt x="1286" y="455"/>
                      </a:lnTo>
                      <a:lnTo>
                        <a:pt x="1309" y="430"/>
                      </a:lnTo>
                      <a:lnTo>
                        <a:pt x="1331" y="406"/>
                      </a:lnTo>
                      <a:lnTo>
                        <a:pt x="1352" y="381"/>
                      </a:lnTo>
                      <a:lnTo>
                        <a:pt x="1374" y="355"/>
                      </a:lnTo>
                      <a:lnTo>
                        <a:pt x="1396" y="330"/>
                      </a:lnTo>
                      <a:lnTo>
                        <a:pt x="1416" y="304"/>
                      </a:lnTo>
                      <a:lnTo>
                        <a:pt x="1438" y="278"/>
                      </a:lnTo>
                      <a:lnTo>
                        <a:pt x="1459" y="254"/>
                      </a:lnTo>
                      <a:lnTo>
                        <a:pt x="1480" y="228"/>
                      </a:lnTo>
                      <a:lnTo>
                        <a:pt x="1501" y="202"/>
                      </a:lnTo>
                      <a:lnTo>
                        <a:pt x="1525" y="177"/>
                      </a:lnTo>
                      <a:lnTo>
                        <a:pt x="1546" y="151"/>
                      </a:lnTo>
                      <a:lnTo>
                        <a:pt x="1551" y="148"/>
                      </a:lnTo>
                      <a:lnTo>
                        <a:pt x="1558" y="145"/>
                      </a:lnTo>
                      <a:lnTo>
                        <a:pt x="1564" y="143"/>
                      </a:lnTo>
                      <a:lnTo>
                        <a:pt x="1572" y="140"/>
                      </a:lnTo>
                      <a:lnTo>
                        <a:pt x="1579" y="137"/>
                      </a:lnTo>
                      <a:lnTo>
                        <a:pt x="1588" y="135"/>
                      </a:lnTo>
                      <a:lnTo>
                        <a:pt x="1595" y="134"/>
                      </a:lnTo>
                      <a:lnTo>
                        <a:pt x="1603" y="132"/>
                      </a:lnTo>
                      <a:lnTo>
                        <a:pt x="1621" y="151"/>
                      </a:lnTo>
                      <a:lnTo>
                        <a:pt x="1627" y="173"/>
                      </a:lnTo>
                      <a:lnTo>
                        <a:pt x="1610" y="184"/>
                      </a:lnTo>
                      <a:lnTo>
                        <a:pt x="1613" y="193"/>
                      </a:lnTo>
                      <a:lnTo>
                        <a:pt x="1617" y="202"/>
                      </a:lnTo>
                      <a:lnTo>
                        <a:pt x="1621" y="212"/>
                      </a:lnTo>
                      <a:lnTo>
                        <a:pt x="1620" y="223"/>
                      </a:lnTo>
                      <a:lnTo>
                        <a:pt x="1611" y="222"/>
                      </a:lnTo>
                      <a:lnTo>
                        <a:pt x="1603" y="221"/>
                      </a:lnTo>
                      <a:lnTo>
                        <a:pt x="1595" y="221"/>
                      </a:lnTo>
                      <a:lnTo>
                        <a:pt x="1588" y="226"/>
                      </a:lnTo>
                      <a:lnTo>
                        <a:pt x="1590" y="236"/>
                      </a:lnTo>
                      <a:lnTo>
                        <a:pt x="1594" y="245"/>
                      </a:lnTo>
                      <a:lnTo>
                        <a:pt x="1598" y="255"/>
                      </a:lnTo>
                      <a:lnTo>
                        <a:pt x="1600" y="268"/>
                      </a:lnTo>
                      <a:lnTo>
                        <a:pt x="1594" y="265"/>
                      </a:lnTo>
                      <a:lnTo>
                        <a:pt x="1588" y="258"/>
                      </a:lnTo>
                      <a:lnTo>
                        <a:pt x="1581" y="252"/>
                      </a:lnTo>
                      <a:lnTo>
                        <a:pt x="1571" y="251"/>
                      </a:lnTo>
                      <a:lnTo>
                        <a:pt x="1564" y="261"/>
                      </a:lnTo>
                      <a:lnTo>
                        <a:pt x="1568" y="273"/>
                      </a:lnTo>
                      <a:lnTo>
                        <a:pt x="1575" y="281"/>
                      </a:lnTo>
                      <a:lnTo>
                        <a:pt x="1581" y="291"/>
                      </a:lnTo>
                      <a:lnTo>
                        <a:pt x="1581" y="303"/>
                      </a:lnTo>
                      <a:lnTo>
                        <a:pt x="1571" y="306"/>
                      </a:lnTo>
                      <a:lnTo>
                        <a:pt x="1564" y="300"/>
                      </a:lnTo>
                      <a:lnTo>
                        <a:pt x="1553" y="293"/>
                      </a:lnTo>
                      <a:lnTo>
                        <a:pt x="1540" y="293"/>
                      </a:lnTo>
                      <a:lnTo>
                        <a:pt x="1532" y="304"/>
                      </a:lnTo>
                      <a:lnTo>
                        <a:pt x="1536" y="313"/>
                      </a:lnTo>
                      <a:lnTo>
                        <a:pt x="1542" y="320"/>
                      </a:lnTo>
                      <a:lnTo>
                        <a:pt x="1549" y="328"/>
                      </a:lnTo>
                      <a:lnTo>
                        <a:pt x="1558" y="336"/>
                      </a:lnTo>
                      <a:lnTo>
                        <a:pt x="1548" y="354"/>
                      </a:lnTo>
                      <a:lnTo>
                        <a:pt x="1527" y="338"/>
                      </a:lnTo>
                      <a:lnTo>
                        <a:pt x="1506" y="345"/>
                      </a:lnTo>
                      <a:lnTo>
                        <a:pt x="1509" y="352"/>
                      </a:lnTo>
                      <a:lnTo>
                        <a:pt x="1514" y="359"/>
                      </a:lnTo>
                      <a:lnTo>
                        <a:pt x="1523" y="365"/>
                      </a:lnTo>
                      <a:lnTo>
                        <a:pt x="1532" y="374"/>
                      </a:lnTo>
                      <a:lnTo>
                        <a:pt x="1529" y="381"/>
                      </a:lnTo>
                      <a:lnTo>
                        <a:pt x="1526" y="388"/>
                      </a:lnTo>
                      <a:lnTo>
                        <a:pt x="1520" y="394"/>
                      </a:lnTo>
                      <a:lnTo>
                        <a:pt x="1509" y="398"/>
                      </a:lnTo>
                      <a:lnTo>
                        <a:pt x="1490" y="381"/>
                      </a:lnTo>
                      <a:lnTo>
                        <a:pt x="1480" y="385"/>
                      </a:lnTo>
                      <a:lnTo>
                        <a:pt x="1475" y="397"/>
                      </a:lnTo>
                      <a:lnTo>
                        <a:pt x="1478" y="407"/>
                      </a:lnTo>
                      <a:lnTo>
                        <a:pt x="1485" y="414"/>
                      </a:lnTo>
                      <a:lnTo>
                        <a:pt x="1491" y="421"/>
                      </a:lnTo>
                      <a:lnTo>
                        <a:pt x="1493" y="434"/>
                      </a:lnTo>
                      <a:lnTo>
                        <a:pt x="1483" y="442"/>
                      </a:lnTo>
                      <a:lnTo>
                        <a:pt x="1475" y="439"/>
                      </a:lnTo>
                      <a:lnTo>
                        <a:pt x="1468" y="432"/>
                      </a:lnTo>
                      <a:lnTo>
                        <a:pt x="1461" y="423"/>
                      </a:lnTo>
                      <a:lnTo>
                        <a:pt x="1452" y="417"/>
                      </a:lnTo>
                      <a:lnTo>
                        <a:pt x="1441" y="421"/>
                      </a:lnTo>
                      <a:lnTo>
                        <a:pt x="1436" y="432"/>
                      </a:lnTo>
                      <a:lnTo>
                        <a:pt x="1441" y="439"/>
                      </a:lnTo>
                      <a:lnTo>
                        <a:pt x="1445" y="446"/>
                      </a:lnTo>
                      <a:lnTo>
                        <a:pt x="1451" y="453"/>
                      </a:lnTo>
                      <a:lnTo>
                        <a:pt x="1458" y="460"/>
                      </a:lnTo>
                      <a:lnTo>
                        <a:pt x="1452" y="472"/>
                      </a:lnTo>
                      <a:lnTo>
                        <a:pt x="1441" y="473"/>
                      </a:lnTo>
                      <a:lnTo>
                        <a:pt x="1436" y="462"/>
                      </a:lnTo>
                      <a:lnTo>
                        <a:pt x="1431" y="458"/>
                      </a:lnTo>
                      <a:lnTo>
                        <a:pt x="1425" y="453"/>
                      </a:lnTo>
                      <a:lnTo>
                        <a:pt x="1416" y="449"/>
                      </a:lnTo>
                      <a:lnTo>
                        <a:pt x="1405" y="446"/>
                      </a:lnTo>
                      <a:lnTo>
                        <a:pt x="1400" y="453"/>
                      </a:lnTo>
                      <a:lnTo>
                        <a:pt x="1403" y="463"/>
                      </a:lnTo>
                      <a:lnTo>
                        <a:pt x="1410" y="475"/>
                      </a:lnTo>
                      <a:lnTo>
                        <a:pt x="1418" y="485"/>
                      </a:lnTo>
                      <a:lnTo>
                        <a:pt x="1423" y="497"/>
                      </a:lnTo>
                      <a:lnTo>
                        <a:pt x="1413" y="515"/>
                      </a:lnTo>
                      <a:lnTo>
                        <a:pt x="1406" y="510"/>
                      </a:lnTo>
                      <a:lnTo>
                        <a:pt x="1399" y="499"/>
                      </a:lnTo>
                      <a:lnTo>
                        <a:pt x="1390" y="491"/>
                      </a:lnTo>
                      <a:lnTo>
                        <a:pt x="1376" y="485"/>
                      </a:lnTo>
                      <a:lnTo>
                        <a:pt x="1368" y="495"/>
                      </a:lnTo>
                      <a:lnTo>
                        <a:pt x="1371" y="507"/>
                      </a:lnTo>
                      <a:lnTo>
                        <a:pt x="1377" y="517"/>
                      </a:lnTo>
                      <a:lnTo>
                        <a:pt x="1383" y="527"/>
                      </a:lnTo>
                      <a:lnTo>
                        <a:pt x="1390" y="538"/>
                      </a:lnTo>
                      <a:lnTo>
                        <a:pt x="1371" y="550"/>
                      </a:lnTo>
                      <a:lnTo>
                        <a:pt x="1367" y="544"/>
                      </a:lnTo>
                      <a:lnTo>
                        <a:pt x="1363" y="537"/>
                      </a:lnTo>
                      <a:lnTo>
                        <a:pt x="1357" y="530"/>
                      </a:lnTo>
                      <a:lnTo>
                        <a:pt x="1348" y="524"/>
                      </a:lnTo>
                      <a:lnTo>
                        <a:pt x="1337" y="524"/>
                      </a:lnTo>
                      <a:lnTo>
                        <a:pt x="1334" y="534"/>
                      </a:lnTo>
                      <a:lnTo>
                        <a:pt x="1337" y="546"/>
                      </a:lnTo>
                      <a:lnTo>
                        <a:pt x="1342" y="554"/>
                      </a:lnTo>
                      <a:lnTo>
                        <a:pt x="1350" y="563"/>
                      </a:lnTo>
                      <a:lnTo>
                        <a:pt x="1355" y="576"/>
                      </a:lnTo>
                      <a:lnTo>
                        <a:pt x="1345" y="590"/>
                      </a:lnTo>
                      <a:lnTo>
                        <a:pt x="1342" y="582"/>
                      </a:lnTo>
                      <a:lnTo>
                        <a:pt x="1338" y="575"/>
                      </a:lnTo>
                      <a:lnTo>
                        <a:pt x="1331" y="567"/>
                      </a:lnTo>
                      <a:lnTo>
                        <a:pt x="1324" y="559"/>
                      </a:lnTo>
                      <a:lnTo>
                        <a:pt x="1302" y="569"/>
                      </a:lnTo>
                      <a:lnTo>
                        <a:pt x="1306" y="580"/>
                      </a:lnTo>
                      <a:lnTo>
                        <a:pt x="1312" y="589"/>
                      </a:lnTo>
                      <a:lnTo>
                        <a:pt x="1319" y="598"/>
                      </a:lnTo>
                      <a:lnTo>
                        <a:pt x="1325" y="611"/>
                      </a:lnTo>
                      <a:lnTo>
                        <a:pt x="1332" y="632"/>
                      </a:lnTo>
                      <a:lnTo>
                        <a:pt x="1352" y="628"/>
                      </a:lnTo>
                      <a:lnTo>
                        <a:pt x="1364" y="615"/>
                      </a:lnTo>
                      <a:lnTo>
                        <a:pt x="1374" y="602"/>
                      </a:lnTo>
                      <a:lnTo>
                        <a:pt x="1386" y="589"/>
                      </a:lnTo>
                      <a:lnTo>
                        <a:pt x="1397" y="576"/>
                      </a:lnTo>
                      <a:lnTo>
                        <a:pt x="1409" y="563"/>
                      </a:lnTo>
                      <a:lnTo>
                        <a:pt x="1422" y="549"/>
                      </a:lnTo>
                      <a:lnTo>
                        <a:pt x="1433" y="536"/>
                      </a:lnTo>
                      <a:lnTo>
                        <a:pt x="1445" y="523"/>
                      </a:lnTo>
                      <a:lnTo>
                        <a:pt x="1475" y="491"/>
                      </a:lnTo>
                      <a:lnTo>
                        <a:pt x="1503" y="459"/>
                      </a:lnTo>
                      <a:lnTo>
                        <a:pt x="1529" y="429"/>
                      </a:lnTo>
                      <a:lnTo>
                        <a:pt x="1552" y="398"/>
                      </a:lnTo>
                      <a:lnTo>
                        <a:pt x="1572" y="369"/>
                      </a:lnTo>
                      <a:lnTo>
                        <a:pt x="1593" y="341"/>
                      </a:lnTo>
                      <a:lnTo>
                        <a:pt x="1613" y="312"/>
                      </a:lnTo>
                      <a:lnTo>
                        <a:pt x="1632" y="283"/>
                      </a:lnTo>
                      <a:lnTo>
                        <a:pt x="1639" y="276"/>
                      </a:lnTo>
                      <a:lnTo>
                        <a:pt x="1645" y="270"/>
                      </a:lnTo>
                      <a:lnTo>
                        <a:pt x="1650" y="265"/>
                      </a:lnTo>
                      <a:lnTo>
                        <a:pt x="1660" y="258"/>
                      </a:lnTo>
                      <a:lnTo>
                        <a:pt x="1669" y="263"/>
                      </a:lnTo>
                      <a:lnTo>
                        <a:pt x="1678" y="265"/>
                      </a:lnTo>
                      <a:lnTo>
                        <a:pt x="1686" y="268"/>
                      </a:lnTo>
                      <a:lnTo>
                        <a:pt x="1695" y="274"/>
                      </a:lnTo>
                      <a:lnTo>
                        <a:pt x="1705" y="294"/>
                      </a:lnTo>
                      <a:lnTo>
                        <a:pt x="1684" y="294"/>
                      </a:lnTo>
                      <a:lnTo>
                        <a:pt x="1679" y="306"/>
                      </a:lnTo>
                      <a:lnTo>
                        <a:pt x="1684" y="313"/>
                      </a:lnTo>
                      <a:lnTo>
                        <a:pt x="1689" y="319"/>
                      </a:lnTo>
                      <a:lnTo>
                        <a:pt x="1695" y="326"/>
                      </a:lnTo>
                      <a:lnTo>
                        <a:pt x="1700" y="338"/>
                      </a:lnTo>
                      <a:lnTo>
                        <a:pt x="1691" y="352"/>
                      </a:lnTo>
                      <a:lnTo>
                        <a:pt x="1684" y="345"/>
                      </a:lnTo>
                      <a:lnTo>
                        <a:pt x="1679" y="338"/>
                      </a:lnTo>
                      <a:lnTo>
                        <a:pt x="1672" y="333"/>
                      </a:lnTo>
                      <a:lnTo>
                        <a:pt x="1662" y="336"/>
                      </a:lnTo>
                      <a:lnTo>
                        <a:pt x="1656" y="346"/>
                      </a:lnTo>
                      <a:lnTo>
                        <a:pt x="1662" y="355"/>
                      </a:lnTo>
                      <a:lnTo>
                        <a:pt x="1666" y="367"/>
                      </a:lnTo>
                      <a:lnTo>
                        <a:pt x="1671" y="378"/>
                      </a:lnTo>
                      <a:lnTo>
                        <a:pt x="1679" y="388"/>
                      </a:lnTo>
                      <a:lnTo>
                        <a:pt x="1675" y="400"/>
                      </a:lnTo>
                      <a:lnTo>
                        <a:pt x="1668" y="394"/>
                      </a:lnTo>
                      <a:lnTo>
                        <a:pt x="1663" y="387"/>
                      </a:lnTo>
                      <a:lnTo>
                        <a:pt x="1658" y="381"/>
                      </a:lnTo>
                      <a:lnTo>
                        <a:pt x="1650" y="378"/>
                      </a:lnTo>
                      <a:lnTo>
                        <a:pt x="1639" y="382"/>
                      </a:lnTo>
                      <a:lnTo>
                        <a:pt x="1642" y="398"/>
                      </a:lnTo>
                      <a:lnTo>
                        <a:pt x="1647" y="413"/>
                      </a:lnTo>
                      <a:lnTo>
                        <a:pt x="1650" y="429"/>
                      </a:lnTo>
                      <a:lnTo>
                        <a:pt x="1647" y="447"/>
                      </a:lnTo>
                      <a:lnTo>
                        <a:pt x="1639" y="443"/>
                      </a:lnTo>
                      <a:lnTo>
                        <a:pt x="1633" y="434"/>
                      </a:lnTo>
                      <a:lnTo>
                        <a:pt x="1627" y="424"/>
                      </a:lnTo>
                      <a:lnTo>
                        <a:pt x="1614" y="417"/>
                      </a:lnTo>
                      <a:lnTo>
                        <a:pt x="1606" y="421"/>
                      </a:lnTo>
                      <a:lnTo>
                        <a:pt x="1603" y="433"/>
                      </a:lnTo>
                      <a:lnTo>
                        <a:pt x="1607" y="442"/>
                      </a:lnTo>
                      <a:lnTo>
                        <a:pt x="1611" y="450"/>
                      </a:lnTo>
                      <a:lnTo>
                        <a:pt x="1616" y="460"/>
                      </a:lnTo>
                      <a:lnTo>
                        <a:pt x="1619" y="475"/>
                      </a:lnTo>
                      <a:lnTo>
                        <a:pt x="1619" y="482"/>
                      </a:lnTo>
                      <a:lnTo>
                        <a:pt x="1619" y="488"/>
                      </a:lnTo>
                      <a:lnTo>
                        <a:pt x="1614" y="494"/>
                      </a:lnTo>
                      <a:lnTo>
                        <a:pt x="1607" y="494"/>
                      </a:lnTo>
                      <a:lnTo>
                        <a:pt x="1606" y="486"/>
                      </a:lnTo>
                      <a:lnTo>
                        <a:pt x="1600" y="481"/>
                      </a:lnTo>
                      <a:lnTo>
                        <a:pt x="1594" y="475"/>
                      </a:lnTo>
                      <a:lnTo>
                        <a:pt x="1588" y="466"/>
                      </a:lnTo>
                      <a:lnTo>
                        <a:pt x="1566" y="468"/>
                      </a:lnTo>
                      <a:lnTo>
                        <a:pt x="1569" y="481"/>
                      </a:lnTo>
                      <a:lnTo>
                        <a:pt x="1575" y="497"/>
                      </a:lnTo>
                      <a:lnTo>
                        <a:pt x="1582" y="514"/>
                      </a:lnTo>
                      <a:lnTo>
                        <a:pt x="1591" y="533"/>
                      </a:lnTo>
                      <a:lnTo>
                        <a:pt x="1590" y="538"/>
                      </a:lnTo>
                      <a:lnTo>
                        <a:pt x="1585" y="544"/>
                      </a:lnTo>
                      <a:lnTo>
                        <a:pt x="1578" y="550"/>
                      </a:lnTo>
                      <a:lnTo>
                        <a:pt x="1571" y="557"/>
                      </a:lnTo>
                      <a:lnTo>
                        <a:pt x="1569" y="550"/>
                      </a:lnTo>
                      <a:lnTo>
                        <a:pt x="1568" y="543"/>
                      </a:lnTo>
                      <a:lnTo>
                        <a:pt x="1564" y="536"/>
                      </a:lnTo>
                      <a:lnTo>
                        <a:pt x="1561" y="527"/>
                      </a:lnTo>
                      <a:lnTo>
                        <a:pt x="1556" y="520"/>
                      </a:lnTo>
                      <a:lnTo>
                        <a:pt x="1548" y="515"/>
                      </a:lnTo>
                      <a:lnTo>
                        <a:pt x="1538" y="514"/>
                      </a:lnTo>
                      <a:lnTo>
                        <a:pt x="1529" y="521"/>
                      </a:lnTo>
                      <a:lnTo>
                        <a:pt x="1535" y="536"/>
                      </a:lnTo>
                      <a:lnTo>
                        <a:pt x="1540" y="551"/>
                      </a:lnTo>
                      <a:lnTo>
                        <a:pt x="1545" y="569"/>
                      </a:lnTo>
                      <a:lnTo>
                        <a:pt x="1552" y="583"/>
                      </a:lnTo>
                      <a:lnTo>
                        <a:pt x="1552" y="592"/>
                      </a:lnTo>
                      <a:lnTo>
                        <a:pt x="1551" y="601"/>
                      </a:lnTo>
                      <a:lnTo>
                        <a:pt x="1546" y="608"/>
                      </a:lnTo>
                      <a:lnTo>
                        <a:pt x="1538" y="615"/>
                      </a:lnTo>
                      <a:lnTo>
                        <a:pt x="1536" y="606"/>
                      </a:lnTo>
                      <a:lnTo>
                        <a:pt x="1532" y="601"/>
                      </a:lnTo>
                      <a:lnTo>
                        <a:pt x="1527" y="593"/>
                      </a:lnTo>
                      <a:lnTo>
                        <a:pt x="1523" y="583"/>
                      </a:lnTo>
                      <a:lnTo>
                        <a:pt x="1516" y="576"/>
                      </a:lnTo>
                      <a:lnTo>
                        <a:pt x="1510" y="570"/>
                      </a:lnTo>
                      <a:lnTo>
                        <a:pt x="1503" y="566"/>
                      </a:lnTo>
                      <a:lnTo>
                        <a:pt x="1493" y="570"/>
                      </a:lnTo>
                      <a:lnTo>
                        <a:pt x="1493" y="582"/>
                      </a:lnTo>
                      <a:lnTo>
                        <a:pt x="1499" y="586"/>
                      </a:lnTo>
                      <a:lnTo>
                        <a:pt x="1501" y="595"/>
                      </a:lnTo>
                      <a:lnTo>
                        <a:pt x="1504" y="605"/>
                      </a:lnTo>
                      <a:lnTo>
                        <a:pt x="1509" y="612"/>
                      </a:lnTo>
                      <a:lnTo>
                        <a:pt x="1510" y="625"/>
                      </a:lnTo>
                      <a:lnTo>
                        <a:pt x="1512" y="637"/>
                      </a:lnTo>
                      <a:lnTo>
                        <a:pt x="1513" y="650"/>
                      </a:lnTo>
                      <a:lnTo>
                        <a:pt x="1510" y="663"/>
                      </a:lnTo>
                      <a:lnTo>
                        <a:pt x="1503" y="657"/>
                      </a:lnTo>
                      <a:lnTo>
                        <a:pt x="1499" y="648"/>
                      </a:lnTo>
                      <a:lnTo>
                        <a:pt x="1494" y="640"/>
                      </a:lnTo>
                      <a:lnTo>
                        <a:pt x="1485" y="630"/>
                      </a:lnTo>
                      <a:lnTo>
                        <a:pt x="1480" y="627"/>
                      </a:lnTo>
                      <a:lnTo>
                        <a:pt x="1471" y="622"/>
                      </a:lnTo>
                      <a:lnTo>
                        <a:pt x="1461" y="621"/>
                      </a:lnTo>
                      <a:lnTo>
                        <a:pt x="1455" y="630"/>
                      </a:lnTo>
                      <a:lnTo>
                        <a:pt x="1465" y="644"/>
                      </a:lnTo>
                      <a:lnTo>
                        <a:pt x="1474" y="661"/>
                      </a:lnTo>
                      <a:lnTo>
                        <a:pt x="1480" y="682"/>
                      </a:lnTo>
                      <a:lnTo>
                        <a:pt x="1487" y="703"/>
                      </a:lnTo>
                      <a:lnTo>
                        <a:pt x="1485" y="712"/>
                      </a:lnTo>
                      <a:lnTo>
                        <a:pt x="1481" y="718"/>
                      </a:lnTo>
                      <a:lnTo>
                        <a:pt x="1475" y="725"/>
                      </a:lnTo>
                      <a:lnTo>
                        <a:pt x="1472" y="735"/>
                      </a:lnTo>
                      <a:lnTo>
                        <a:pt x="1465" y="731"/>
                      </a:lnTo>
                      <a:lnTo>
                        <a:pt x="1459" y="715"/>
                      </a:lnTo>
                      <a:lnTo>
                        <a:pt x="1454" y="699"/>
                      </a:lnTo>
                      <a:lnTo>
                        <a:pt x="1446" y="683"/>
                      </a:lnTo>
                      <a:lnTo>
                        <a:pt x="1438" y="670"/>
                      </a:lnTo>
                      <a:lnTo>
                        <a:pt x="1426" y="663"/>
                      </a:lnTo>
                      <a:lnTo>
                        <a:pt x="1415" y="670"/>
                      </a:lnTo>
                      <a:lnTo>
                        <a:pt x="1418" y="683"/>
                      </a:lnTo>
                      <a:lnTo>
                        <a:pt x="1422" y="697"/>
                      </a:lnTo>
                      <a:lnTo>
                        <a:pt x="1429" y="712"/>
                      </a:lnTo>
                      <a:lnTo>
                        <a:pt x="1436" y="726"/>
                      </a:lnTo>
                      <a:lnTo>
                        <a:pt x="1442" y="741"/>
                      </a:lnTo>
                      <a:lnTo>
                        <a:pt x="1446" y="755"/>
                      </a:lnTo>
                      <a:lnTo>
                        <a:pt x="1446" y="771"/>
                      </a:lnTo>
                      <a:lnTo>
                        <a:pt x="1442" y="786"/>
                      </a:lnTo>
                      <a:lnTo>
                        <a:pt x="1435" y="786"/>
                      </a:lnTo>
                      <a:lnTo>
                        <a:pt x="1431" y="767"/>
                      </a:lnTo>
                      <a:lnTo>
                        <a:pt x="1422" y="751"/>
                      </a:lnTo>
                      <a:lnTo>
                        <a:pt x="1412" y="736"/>
                      </a:lnTo>
                      <a:lnTo>
                        <a:pt x="1400" y="721"/>
                      </a:lnTo>
                      <a:lnTo>
                        <a:pt x="1389" y="722"/>
                      </a:lnTo>
                      <a:lnTo>
                        <a:pt x="1381" y="732"/>
                      </a:lnTo>
                      <a:lnTo>
                        <a:pt x="1390" y="751"/>
                      </a:lnTo>
                      <a:lnTo>
                        <a:pt x="1400" y="771"/>
                      </a:lnTo>
                      <a:lnTo>
                        <a:pt x="1409" y="793"/>
                      </a:lnTo>
                      <a:lnTo>
                        <a:pt x="1415" y="817"/>
                      </a:lnTo>
                      <a:lnTo>
                        <a:pt x="1406" y="826"/>
                      </a:lnTo>
                      <a:lnTo>
                        <a:pt x="1403" y="820"/>
                      </a:lnTo>
                      <a:lnTo>
                        <a:pt x="1402" y="813"/>
                      </a:lnTo>
                      <a:lnTo>
                        <a:pt x="1399" y="807"/>
                      </a:lnTo>
                      <a:lnTo>
                        <a:pt x="1393" y="800"/>
                      </a:lnTo>
                      <a:lnTo>
                        <a:pt x="1386" y="791"/>
                      </a:lnTo>
                      <a:lnTo>
                        <a:pt x="1381" y="784"/>
                      </a:lnTo>
                      <a:lnTo>
                        <a:pt x="1374" y="777"/>
                      </a:lnTo>
                      <a:lnTo>
                        <a:pt x="1364" y="768"/>
                      </a:lnTo>
                      <a:lnTo>
                        <a:pt x="1354" y="768"/>
                      </a:lnTo>
                      <a:lnTo>
                        <a:pt x="1351" y="778"/>
                      </a:lnTo>
                      <a:lnTo>
                        <a:pt x="1358" y="796"/>
                      </a:lnTo>
                      <a:lnTo>
                        <a:pt x="1365" y="812"/>
                      </a:lnTo>
                      <a:lnTo>
                        <a:pt x="1374" y="829"/>
                      </a:lnTo>
                      <a:lnTo>
                        <a:pt x="1381" y="851"/>
                      </a:lnTo>
                      <a:lnTo>
                        <a:pt x="1365" y="872"/>
                      </a:lnTo>
                      <a:lnTo>
                        <a:pt x="1358" y="861"/>
                      </a:lnTo>
                      <a:lnTo>
                        <a:pt x="1352" y="848"/>
                      </a:lnTo>
                      <a:lnTo>
                        <a:pt x="1344" y="833"/>
                      </a:lnTo>
                      <a:lnTo>
                        <a:pt x="1335" y="820"/>
                      </a:lnTo>
                      <a:lnTo>
                        <a:pt x="1313" y="823"/>
                      </a:lnTo>
                      <a:lnTo>
                        <a:pt x="1316" y="840"/>
                      </a:lnTo>
                      <a:lnTo>
                        <a:pt x="1326" y="858"/>
                      </a:lnTo>
                      <a:lnTo>
                        <a:pt x="1338" y="877"/>
                      </a:lnTo>
                      <a:lnTo>
                        <a:pt x="1345" y="898"/>
                      </a:lnTo>
                      <a:lnTo>
                        <a:pt x="1347" y="905"/>
                      </a:lnTo>
                      <a:lnTo>
                        <a:pt x="1345" y="911"/>
                      </a:lnTo>
                      <a:lnTo>
                        <a:pt x="1341" y="917"/>
                      </a:lnTo>
                      <a:lnTo>
                        <a:pt x="1332" y="923"/>
                      </a:lnTo>
                      <a:lnTo>
                        <a:pt x="1329" y="917"/>
                      </a:lnTo>
                      <a:lnTo>
                        <a:pt x="1325" y="911"/>
                      </a:lnTo>
                      <a:lnTo>
                        <a:pt x="1321" y="904"/>
                      </a:lnTo>
                      <a:lnTo>
                        <a:pt x="1315" y="897"/>
                      </a:lnTo>
                      <a:lnTo>
                        <a:pt x="1311" y="891"/>
                      </a:lnTo>
                      <a:lnTo>
                        <a:pt x="1303" y="884"/>
                      </a:lnTo>
                      <a:lnTo>
                        <a:pt x="1296" y="878"/>
                      </a:lnTo>
                      <a:lnTo>
                        <a:pt x="1289" y="874"/>
                      </a:lnTo>
                      <a:lnTo>
                        <a:pt x="1279" y="877"/>
                      </a:lnTo>
                      <a:lnTo>
                        <a:pt x="1283" y="897"/>
                      </a:lnTo>
                      <a:lnTo>
                        <a:pt x="1293" y="916"/>
                      </a:lnTo>
                      <a:lnTo>
                        <a:pt x="1305" y="931"/>
                      </a:lnTo>
                      <a:lnTo>
                        <a:pt x="1313" y="950"/>
                      </a:lnTo>
                      <a:lnTo>
                        <a:pt x="1313" y="960"/>
                      </a:lnTo>
                      <a:lnTo>
                        <a:pt x="1313" y="969"/>
                      </a:lnTo>
                      <a:lnTo>
                        <a:pt x="1309" y="976"/>
                      </a:lnTo>
                      <a:lnTo>
                        <a:pt x="1305" y="983"/>
                      </a:lnTo>
                      <a:lnTo>
                        <a:pt x="1299" y="992"/>
                      </a:lnTo>
                      <a:lnTo>
                        <a:pt x="1289" y="997"/>
                      </a:lnTo>
                      <a:lnTo>
                        <a:pt x="1287" y="989"/>
                      </a:lnTo>
                      <a:lnTo>
                        <a:pt x="1284" y="982"/>
                      </a:lnTo>
                      <a:lnTo>
                        <a:pt x="1282" y="975"/>
                      </a:lnTo>
                      <a:lnTo>
                        <a:pt x="1277" y="965"/>
                      </a:lnTo>
                      <a:lnTo>
                        <a:pt x="1271" y="955"/>
                      </a:lnTo>
                      <a:lnTo>
                        <a:pt x="1263" y="943"/>
                      </a:lnTo>
                      <a:lnTo>
                        <a:pt x="1253" y="933"/>
                      </a:lnTo>
                      <a:lnTo>
                        <a:pt x="1241" y="926"/>
                      </a:lnTo>
                      <a:lnTo>
                        <a:pt x="1234" y="937"/>
                      </a:lnTo>
                      <a:lnTo>
                        <a:pt x="1244" y="960"/>
                      </a:lnTo>
                      <a:lnTo>
                        <a:pt x="1254" y="982"/>
                      </a:lnTo>
                      <a:lnTo>
                        <a:pt x="1266" y="1005"/>
                      </a:lnTo>
                      <a:lnTo>
                        <a:pt x="1276" y="1031"/>
                      </a:lnTo>
                      <a:lnTo>
                        <a:pt x="1260" y="1050"/>
                      </a:lnTo>
                      <a:lnTo>
                        <a:pt x="1253" y="1037"/>
                      </a:lnTo>
                      <a:lnTo>
                        <a:pt x="1247" y="1024"/>
                      </a:lnTo>
                      <a:lnTo>
                        <a:pt x="1238" y="1010"/>
                      </a:lnTo>
                      <a:lnTo>
                        <a:pt x="1230" y="995"/>
                      </a:lnTo>
                      <a:lnTo>
                        <a:pt x="1208" y="979"/>
                      </a:lnTo>
                      <a:lnTo>
                        <a:pt x="1201" y="986"/>
                      </a:lnTo>
                      <a:lnTo>
                        <a:pt x="1201" y="997"/>
                      </a:lnTo>
                      <a:lnTo>
                        <a:pt x="1212" y="1017"/>
                      </a:lnTo>
                      <a:lnTo>
                        <a:pt x="1221" y="1036"/>
                      </a:lnTo>
                      <a:lnTo>
                        <a:pt x="1231" y="1057"/>
                      </a:lnTo>
                      <a:lnTo>
                        <a:pt x="1241" y="1080"/>
                      </a:lnTo>
                      <a:lnTo>
                        <a:pt x="1227" y="1102"/>
                      </a:lnTo>
                      <a:lnTo>
                        <a:pt x="1219" y="1093"/>
                      </a:lnTo>
                      <a:lnTo>
                        <a:pt x="1219" y="1082"/>
                      </a:lnTo>
                      <a:lnTo>
                        <a:pt x="1208" y="1062"/>
                      </a:lnTo>
                      <a:lnTo>
                        <a:pt x="1202" y="1051"/>
                      </a:lnTo>
                      <a:lnTo>
                        <a:pt x="1195" y="1041"/>
                      </a:lnTo>
                      <a:lnTo>
                        <a:pt x="1186" y="1033"/>
                      </a:lnTo>
                      <a:lnTo>
                        <a:pt x="1175" y="1024"/>
                      </a:lnTo>
                      <a:lnTo>
                        <a:pt x="1162" y="1017"/>
                      </a:lnTo>
                      <a:lnTo>
                        <a:pt x="1159" y="1037"/>
                      </a:lnTo>
                      <a:lnTo>
                        <a:pt x="1164" y="1047"/>
                      </a:lnTo>
                      <a:lnTo>
                        <a:pt x="1172" y="1057"/>
                      </a:lnTo>
                      <a:lnTo>
                        <a:pt x="1179" y="1069"/>
                      </a:lnTo>
                      <a:lnTo>
                        <a:pt x="1185" y="1080"/>
                      </a:lnTo>
                      <a:lnTo>
                        <a:pt x="1192" y="1092"/>
                      </a:lnTo>
                      <a:lnTo>
                        <a:pt x="1196" y="1105"/>
                      </a:lnTo>
                      <a:lnTo>
                        <a:pt x="1201" y="1118"/>
                      </a:lnTo>
                      <a:lnTo>
                        <a:pt x="1202" y="1132"/>
                      </a:lnTo>
                      <a:lnTo>
                        <a:pt x="1186" y="1154"/>
                      </a:lnTo>
                      <a:lnTo>
                        <a:pt x="1179" y="1145"/>
                      </a:lnTo>
                      <a:lnTo>
                        <a:pt x="1176" y="1135"/>
                      </a:lnTo>
                      <a:lnTo>
                        <a:pt x="1172" y="1125"/>
                      </a:lnTo>
                      <a:lnTo>
                        <a:pt x="1167" y="1116"/>
                      </a:lnTo>
                      <a:lnTo>
                        <a:pt x="1163" y="1108"/>
                      </a:lnTo>
                      <a:lnTo>
                        <a:pt x="1157" y="1099"/>
                      </a:lnTo>
                      <a:lnTo>
                        <a:pt x="1151" y="1090"/>
                      </a:lnTo>
                      <a:lnTo>
                        <a:pt x="1144" y="1082"/>
                      </a:lnTo>
                      <a:lnTo>
                        <a:pt x="1136" y="1073"/>
                      </a:lnTo>
                      <a:lnTo>
                        <a:pt x="1114" y="1075"/>
                      </a:lnTo>
                      <a:lnTo>
                        <a:pt x="1118" y="1095"/>
                      </a:lnTo>
                      <a:lnTo>
                        <a:pt x="1125" y="1101"/>
                      </a:lnTo>
                      <a:lnTo>
                        <a:pt x="1131" y="1109"/>
                      </a:lnTo>
                      <a:lnTo>
                        <a:pt x="1137" y="1118"/>
                      </a:lnTo>
                      <a:lnTo>
                        <a:pt x="1141" y="1128"/>
                      </a:lnTo>
                      <a:lnTo>
                        <a:pt x="1146" y="1138"/>
                      </a:lnTo>
                      <a:lnTo>
                        <a:pt x="1151" y="1148"/>
                      </a:lnTo>
                      <a:lnTo>
                        <a:pt x="1157" y="1158"/>
                      </a:lnTo>
                      <a:lnTo>
                        <a:pt x="1163" y="1167"/>
                      </a:lnTo>
                      <a:lnTo>
                        <a:pt x="1170" y="1171"/>
                      </a:lnTo>
                      <a:lnTo>
                        <a:pt x="1163" y="1177"/>
                      </a:lnTo>
                      <a:lnTo>
                        <a:pt x="1159" y="1184"/>
                      </a:lnTo>
                      <a:lnTo>
                        <a:pt x="1154" y="1193"/>
                      </a:lnTo>
                      <a:lnTo>
                        <a:pt x="1144" y="1199"/>
                      </a:lnTo>
                      <a:lnTo>
                        <a:pt x="1140" y="1189"/>
                      </a:lnTo>
                      <a:lnTo>
                        <a:pt x="1136" y="1180"/>
                      </a:lnTo>
                      <a:lnTo>
                        <a:pt x="1131" y="1171"/>
                      </a:lnTo>
                      <a:lnTo>
                        <a:pt x="1127" y="1163"/>
                      </a:lnTo>
                      <a:lnTo>
                        <a:pt x="1121" y="1154"/>
                      </a:lnTo>
                      <a:lnTo>
                        <a:pt x="1115" y="1145"/>
                      </a:lnTo>
                      <a:lnTo>
                        <a:pt x="1110" y="1137"/>
                      </a:lnTo>
                      <a:lnTo>
                        <a:pt x="1101" y="1128"/>
                      </a:lnTo>
                      <a:lnTo>
                        <a:pt x="1094" y="1127"/>
                      </a:lnTo>
                      <a:lnTo>
                        <a:pt x="1086" y="1124"/>
                      </a:lnTo>
                      <a:lnTo>
                        <a:pt x="1079" y="1124"/>
                      </a:lnTo>
                      <a:lnTo>
                        <a:pt x="1070" y="1129"/>
                      </a:lnTo>
                      <a:lnTo>
                        <a:pt x="1072" y="1138"/>
                      </a:lnTo>
                      <a:lnTo>
                        <a:pt x="1079" y="1144"/>
                      </a:lnTo>
                      <a:lnTo>
                        <a:pt x="1085" y="1150"/>
                      </a:lnTo>
                      <a:lnTo>
                        <a:pt x="1091" y="1158"/>
                      </a:lnTo>
                      <a:lnTo>
                        <a:pt x="1097" y="1167"/>
                      </a:lnTo>
                      <a:lnTo>
                        <a:pt x="1101" y="1176"/>
                      </a:lnTo>
                      <a:lnTo>
                        <a:pt x="1105" y="1186"/>
                      </a:lnTo>
                      <a:lnTo>
                        <a:pt x="1111" y="1197"/>
                      </a:lnTo>
                      <a:lnTo>
                        <a:pt x="1115" y="1207"/>
                      </a:lnTo>
                      <a:lnTo>
                        <a:pt x="1125" y="1218"/>
                      </a:lnTo>
                      <a:lnTo>
                        <a:pt x="1118" y="1223"/>
                      </a:lnTo>
                      <a:lnTo>
                        <a:pt x="1114" y="1231"/>
                      </a:lnTo>
                      <a:lnTo>
                        <a:pt x="1107" y="1236"/>
                      </a:lnTo>
                      <a:lnTo>
                        <a:pt x="1098" y="1239"/>
                      </a:lnTo>
                      <a:lnTo>
                        <a:pt x="1091" y="1232"/>
                      </a:lnTo>
                      <a:lnTo>
                        <a:pt x="1085" y="1223"/>
                      </a:lnTo>
                      <a:lnTo>
                        <a:pt x="1079" y="1213"/>
                      </a:lnTo>
                      <a:lnTo>
                        <a:pt x="1072" y="1205"/>
                      </a:lnTo>
                      <a:lnTo>
                        <a:pt x="1039" y="1168"/>
                      </a:lnTo>
                      <a:lnTo>
                        <a:pt x="1023" y="1183"/>
                      </a:lnTo>
                      <a:lnTo>
                        <a:pt x="1030" y="1192"/>
                      </a:lnTo>
                      <a:lnTo>
                        <a:pt x="1037" y="1200"/>
                      </a:lnTo>
                      <a:lnTo>
                        <a:pt x="1044" y="1209"/>
                      </a:lnTo>
                      <a:lnTo>
                        <a:pt x="1050" y="1220"/>
                      </a:lnTo>
                      <a:lnTo>
                        <a:pt x="1056" y="1231"/>
                      </a:lnTo>
                      <a:lnTo>
                        <a:pt x="1062" y="1244"/>
                      </a:lnTo>
                      <a:lnTo>
                        <a:pt x="1068" y="1255"/>
                      </a:lnTo>
                      <a:lnTo>
                        <a:pt x="1073" y="1268"/>
                      </a:lnTo>
                      <a:lnTo>
                        <a:pt x="1055" y="1280"/>
                      </a:lnTo>
                      <a:lnTo>
                        <a:pt x="1047" y="1274"/>
                      </a:lnTo>
                      <a:lnTo>
                        <a:pt x="1040" y="1268"/>
                      </a:lnTo>
                      <a:lnTo>
                        <a:pt x="1034" y="1259"/>
                      </a:lnTo>
                      <a:lnTo>
                        <a:pt x="1029" y="1249"/>
                      </a:lnTo>
                      <a:lnTo>
                        <a:pt x="1023" y="1241"/>
                      </a:lnTo>
                      <a:lnTo>
                        <a:pt x="1016" y="1231"/>
                      </a:lnTo>
                      <a:lnTo>
                        <a:pt x="1007" y="1220"/>
                      </a:lnTo>
                      <a:lnTo>
                        <a:pt x="997" y="1210"/>
                      </a:lnTo>
                      <a:lnTo>
                        <a:pt x="978" y="1215"/>
                      </a:lnTo>
                      <a:lnTo>
                        <a:pt x="978" y="1225"/>
                      </a:lnTo>
                      <a:lnTo>
                        <a:pt x="991" y="1235"/>
                      </a:lnTo>
                      <a:lnTo>
                        <a:pt x="992" y="1245"/>
                      </a:lnTo>
                      <a:lnTo>
                        <a:pt x="997" y="1251"/>
                      </a:lnTo>
                      <a:lnTo>
                        <a:pt x="1003" y="1258"/>
                      </a:lnTo>
                      <a:lnTo>
                        <a:pt x="1005" y="1268"/>
                      </a:lnTo>
                      <a:lnTo>
                        <a:pt x="1011" y="1275"/>
                      </a:lnTo>
                      <a:lnTo>
                        <a:pt x="1016" y="1283"/>
                      </a:lnTo>
                      <a:lnTo>
                        <a:pt x="1023" y="1290"/>
                      </a:lnTo>
                      <a:lnTo>
                        <a:pt x="1031" y="1298"/>
                      </a:lnTo>
                      <a:lnTo>
                        <a:pt x="1029" y="1306"/>
                      </a:lnTo>
                      <a:lnTo>
                        <a:pt x="1021" y="1310"/>
                      </a:lnTo>
                      <a:lnTo>
                        <a:pt x="1011" y="1314"/>
                      </a:lnTo>
                      <a:lnTo>
                        <a:pt x="1004" y="1320"/>
                      </a:lnTo>
                      <a:lnTo>
                        <a:pt x="995" y="1313"/>
                      </a:lnTo>
                      <a:lnTo>
                        <a:pt x="988" y="1306"/>
                      </a:lnTo>
                      <a:lnTo>
                        <a:pt x="981" y="1298"/>
                      </a:lnTo>
                      <a:lnTo>
                        <a:pt x="975" y="1291"/>
                      </a:lnTo>
                      <a:lnTo>
                        <a:pt x="968" y="1283"/>
                      </a:lnTo>
                      <a:lnTo>
                        <a:pt x="962" y="1275"/>
                      </a:lnTo>
                      <a:lnTo>
                        <a:pt x="955" y="1267"/>
                      </a:lnTo>
                      <a:lnTo>
                        <a:pt x="948" y="1259"/>
                      </a:lnTo>
                      <a:lnTo>
                        <a:pt x="926" y="1258"/>
                      </a:lnTo>
                      <a:lnTo>
                        <a:pt x="926" y="1268"/>
                      </a:lnTo>
                      <a:lnTo>
                        <a:pt x="929" y="1277"/>
                      </a:lnTo>
                      <a:lnTo>
                        <a:pt x="935" y="1285"/>
                      </a:lnTo>
                      <a:lnTo>
                        <a:pt x="940" y="1293"/>
                      </a:lnTo>
                      <a:lnTo>
                        <a:pt x="946" y="1300"/>
                      </a:lnTo>
                      <a:lnTo>
                        <a:pt x="953" y="1307"/>
                      </a:lnTo>
                      <a:lnTo>
                        <a:pt x="959" y="1314"/>
                      </a:lnTo>
                      <a:lnTo>
                        <a:pt x="966" y="1323"/>
                      </a:lnTo>
                      <a:lnTo>
                        <a:pt x="972" y="1332"/>
                      </a:lnTo>
                      <a:lnTo>
                        <a:pt x="974" y="1340"/>
                      </a:lnTo>
                      <a:lnTo>
                        <a:pt x="952" y="1348"/>
                      </a:lnTo>
                      <a:lnTo>
                        <a:pt x="943" y="1343"/>
                      </a:lnTo>
                      <a:lnTo>
                        <a:pt x="935" y="1339"/>
                      </a:lnTo>
                      <a:lnTo>
                        <a:pt x="926" y="1332"/>
                      </a:lnTo>
                      <a:lnTo>
                        <a:pt x="917" y="1323"/>
                      </a:lnTo>
                      <a:lnTo>
                        <a:pt x="909" y="1316"/>
                      </a:lnTo>
                      <a:lnTo>
                        <a:pt x="900" y="1307"/>
                      </a:lnTo>
                      <a:lnTo>
                        <a:pt x="891" y="1300"/>
                      </a:lnTo>
                      <a:lnTo>
                        <a:pt x="882" y="1294"/>
                      </a:lnTo>
                      <a:lnTo>
                        <a:pt x="869" y="1311"/>
                      </a:lnTo>
                      <a:lnTo>
                        <a:pt x="875" y="1319"/>
                      </a:lnTo>
                      <a:lnTo>
                        <a:pt x="881" y="1326"/>
                      </a:lnTo>
                      <a:lnTo>
                        <a:pt x="887" y="1333"/>
                      </a:lnTo>
                      <a:lnTo>
                        <a:pt x="893" y="1342"/>
                      </a:lnTo>
                      <a:lnTo>
                        <a:pt x="900" y="1349"/>
                      </a:lnTo>
                      <a:lnTo>
                        <a:pt x="907" y="1356"/>
                      </a:lnTo>
                      <a:lnTo>
                        <a:pt x="916" y="1362"/>
                      </a:lnTo>
                      <a:lnTo>
                        <a:pt x="924" y="1366"/>
                      </a:lnTo>
                      <a:lnTo>
                        <a:pt x="916" y="1374"/>
                      </a:lnTo>
                      <a:lnTo>
                        <a:pt x="909" y="1381"/>
                      </a:lnTo>
                      <a:lnTo>
                        <a:pt x="901" y="1387"/>
                      </a:lnTo>
                      <a:lnTo>
                        <a:pt x="891" y="1391"/>
                      </a:lnTo>
                      <a:lnTo>
                        <a:pt x="884" y="1384"/>
                      </a:lnTo>
                      <a:lnTo>
                        <a:pt x="877" y="1375"/>
                      </a:lnTo>
                      <a:lnTo>
                        <a:pt x="868" y="1368"/>
                      </a:lnTo>
                      <a:lnTo>
                        <a:pt x="861" y="1359"/>
                      </a:lnTo>
                      <a:lnTo>
                        <a:pt x="852" y="1352"/>
                      </a:lnTo>
                      <a:lnTo>
                        <a:pt x="842" y="1345"/>
                      </a:lnTo>
                      <a:lnTo>
                        <a:pt x="832" y="1337"/>
                      </a:lnTo>
                      <a:lnTo>
                        <a:pt x="822" y="1330"/>
                      </a:lnTo>
                      <a:lnTo>
                        <a:pt x="812" y="1340"/>
                      </a:lnTo>
                      <a:lnTo>
                        <a:pt x="816" y="1350"/>
                      </a:lnTo>
                      <a:lnTo>
                        <a:pt x="822" y="1359"/>
                      </a:lnTo>
                      <a:lnTo>
                        <a:pt x="829" y="1368"/>
                      </a:lnTo>
                      <a:lnTo>
                        <a:pt x="836" y="1377"/>
                      </a:lnTo>
                      <a:lnTo>
                        <a:pt x="845" y="1384"/>
                      </a:lnTo>
                      <a:lnTo>
                        <a:pt x="854" y="1392"/>
                      </a:lnTo>
                      <a:lnTo>
                        <a:pt x="862" y="1401"/>
                      </a:lnTo>
                      <a:lnTo>
                        <a:pt x="872" y="1410"/>
                      </a:lnTo>
                      <a:lnTo>
                        <a:pt x="869" y="1417"/>
                      </a:lnTo>
                      <a:lnTo>
                        <a:pt x="864" y="1424"/>
                      </a:lnTo>
                      <a:lnTo>
                        <a:pt x="856" y="1430"/>
                      </a:lnTo>
                      <a:lnTo>
                        <a:pt x="848" y="1439"/>
                      </a:lnTo>
                      <a:lnTo>
                        <a:pt x="841" y="1439"/>
                      </a:lnTo>
                      <a:lnTo>
                        <a:pt x="832" y="1431"/>
                      </a:lnTo>
                      <a:lnTo>
                        <a:pt x="825" y="1426"/>
                      </a:lnTo>
                      <a:lnTo>
                        <a:pt x="816" y="1420"/>
                      </a:lnTo>
                      <a:lnTo>
                        <a:pt x="810" y="1414"/>
                      </a:lnTo>
                      <a:lnTo>
                        <a:pt x="803" y="1407"/>
                      </a:lnTo>
                      <a:lnTo>
                        <a:pt x="796" y="1400"/>
                      </a:lnTo>
                      <a:lnTo>
                        <a:pt x="788" y="1392"/>
                      </a:lnTo>
                      <a:lnTo>
                        <a:pt x="780" y="1382"/>
                      </a:lnTo>
                      <a:lnTo>
                        <a:pt x="757" y="1394"/>
                      </a:lnTo>
                      <a:lnTo>
                        <a:pt x="761" y="1404"/>
                      </a:lnTo>
                      <a:lnTo>
                        <a:pt x="767" y="1413"/>
                      </a:lnTo>
                      <a:lnTo>
                        <a:pt x="774" y="1421"/>
                      </a:lnTo>
                      <a:lnTo>
                        <a:pt x="783" y="1430"/>
                      </a:lnTo>
                      <a:lnTo>
                        <a:pt x="793" y="1437"/>
                      </a:lnTo>
                      <a:lnTo>
                        <a:pt x="803" y="1446"/>
                      </a:lnTo>
                      <a:lnTo>
                        <a:pt x="813" y="1455"/>
                      </a:lnTo>
                      <a:lnTo>
                        <a:pt x="822" y="1463"/>
                      </a:lnTo>
                      <a:lnTo>
                        <a:pt x="815" y="1469"/>
                      </a:lnTo>
                      <a:lnTo>
                        <a:pt x="810" y="1475"/>
                      </a:lnTo>
                      <a:lnTo>
                        <a:pt x="803" y="1481"/>
                      </a:lnTo>
                      <a:lnTo>
                        <a:pt x="793" y="1485"/>
                      </a:lnTo>
                      <a:lnTo>
                        <a:pt x="784" y="1481"/>
                      </a:lnTo>
                      <a:lnTo>
                        <a:pt x="775" y="1473"/>
                      </a:lnTo>
                      <a:lnTo>
                        <a:pt x="767" y="1468"/>
                      </a:lnTo>
                      <a:lnTo>
                        <a:pt x="760" y="1460"/>
                      </a:lnTo>
                      <a:lnTo>
                        <a:pt x="751" y="1452"/>
                      </a:lnTo>
                      <a:lnTo>
                        <a:pt x="742" y="1444"/>
                      </a:lnTo>
                      <a:lnTo>
                        <a:pt x="734" y="1436"/>
                      </a:lnTo>
                      <a:lnTo>
                        <a:pt x="723" y="1429"/>
                      </a:lnTo>
                      <a:lnTo>
                        <a:pt x="702" y="1442"/>
                      </a:lnTo>
                      <a:lnTo>
                        <a:pt x="705" y="1449"/>
                      </a:lnTo>
                      <a:lnTo>
                        <a:pt x="710" y="1456"/>
                      </a:lnTo>
                      <a:lnTo>
                        <a:pt x="718" y="1462"/>
                      </a:lnTo>
                      <a:lnTo>
                        <a:pt x="723" y="1468"/>
                      </a:lnTo>
                      <a:lnTo>
                        <a:pt x="731" y="1472"/>
                      </a:lnTo>
                      <a:lnTo>
                        <a:pt x="738" y="1476"/>
                      </a:lnTo>
                      <a:lnTo>
                        <a:pt x="744" y="1481"/>
                      </a:lnTo>
                      <a:lnTo>
                        <a:pt x="749" y="1486"/>
                      </a:lnTo>
                      <a:lnTo>
                        <a:pt x="754" y="1494"/>
                      </a:lnTo>
                      <a:lnTo>
                        <a:pt x="747" y="1496"/>
                      </a:lnTo>
                      <a:lnTo>
                        <a:pt x="736" y="1496"/>
                      </a:lnTo>
                      <a:lnTo>
                        <a:pt x="726" y="1496"/>
                      </a:lnTo>
                      <a:lnTo>
                        <a:pt x="716" y="1499"/>
                      </a:lnTo>
                      <a:lnTo>
                        <a:pt x="695" y="1492"/>
                      </a:lnTo>
                      <a:lnTo>
                        <a:pt x="686" y="1488"/>
                      </a:lnTo>
                      <a:lnTo>
                        <a:pt x="679" y="1479"/>
                      </a:lnTo>
                      <a:lnTo>
                        <a:pt x="670" y="1470"/>
                      </a:lnTo>
                      <a:lnTo>
                        <a:pt x="658" y="1465"/>
                      </a:lnTo>
                      <a:lnTo>
                        <a:pt x="650" y="1468"/>
                      </a:lnTo>
                      <a:lnTo>
                        <a:pt x="644" y="1476"/>
                      </a:lnTo>
                      <a:lnTo>
                        <a:pt x="644" y="1485"/>
                      </a:lnTo>
                      <a:lnTo>
                        <a:pt x="650" y="1492"/>
                      </a:lnTo>
                      <a:lnTo>
                        <a:pt x="647" y="1499"/>
                      </a:lnTo>
                      <a:lnTo>
                        <a:pt x="629" y="1499"/>
                      </a:lnTo>
                      <a:lnTo>
                        <a:pt x="612" y="1501"/>
                      </a:lnTo>
                      <a:lnTo>
                        <a:pt x="595" y="1501"/>
                      </a:lnTo>
                      <a:lnTo>
                        <a:pt x="576" y="1501"/>
                      </a:lnTo>
                      <a:lnTo>
                        <a:pt x="559" y="1501"/>
                      </a:lnTo>
                      <a:lnTo>
                        <a:pt x="541" y="1501"/>
                      </a:lnTo>
                      <a:lnTo>
                        <a:pt x="524" y="1501"/>
                      </a:lnTo>
                      <a:lnTo>
                        <a:pt x="507" y="1499"/>
                      </a:lnTo>
                      <a:lnTo>
                        <a:pt x="488" y="1499"/>
                      </a:lnTo>
                      <a:lnTo>
                        <a:pt x="470" y="1499"/>
                      </a:lnTo>
                      <a:lnTo>
                        <a:pt x="453" y="1499"/>
                      </a:lnTo>
                      <a:lnTo>
                        <a:pt x="434" y="1499"/>
                      </a:lnTo>
                      <a:lnTo>
                        <a:pt x="417" y="1499"/>
                      </a:lnTo>
                      <a:lnTo>
                        <a:pt x="398" y="1499"/>
                      </a:lnTo>
                      <a:lnTo>
                        <a:pt x="381" y="1499"/>
                      </a:lnTo>
                      <a:lnTo>
                        <a:pt x="362" y="1499"/>
                      </a:lnTo>
                      <a:lnTo>
                        <a:pt x="356" y="1504"/>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962760" y="1749600"/>
                  <a:ext cx="1463760" cy="1334880"/>
                </a:xfrm>
                <a:custGeom>
                  <a:avLst/>
                  <a:gdLst/>
                  <a:ahLst/>
                  <a:rect l="l" t="t" r="r" b="b"/>
                  <a:pathLst>
                    <a:path w="2766" h="2525">
                      <a:moveTo>
                        <a:pt x="136" y="2525"/>
                      </a:moveTo>
                      <a:lnTo>
                        <a:pt x="123" y="2522"/>
                      </a:lnTo>
                      <a:lnTo>
                        <a:pt x="109" y="2520"/>
                      </a:lnTo>
                      <a:lnTo>
                        <a:pt x="96" y="2520"/>
                      </a:lnTo>
                      <a:lnTo>
                        <a:pt x="81" y="2520"/>
                      </a:lnTo>
                      <a:lnTo>
                        <a:pt x="65" y="2522"/>
                      </a:lnTo>
                      <a:lnTo>
                        <a:pt x="51" y="2522"/>
                      </a:lnTo>
                      <a:lnTo>
                        <a:pt x="35" y="2522"/>
                      </a:lnTo>
                      <a:lnTo>
                        <a:pt x="20" y="2522"/>
                      </a:lnTo>
                      <a:lnTo>
                        <a:pt x="9" y="1902"/>
                      </a:lnTo>
                      <a:lnTo>
                        <a:pt x="4" y="1279"/>
                      </a:lnTo>
                      <a:lnTo>
                        <a:pt x="2" y="656"/>
                      </a:lnTo>
                      <a:lnTo>
                        <a:pt x="0" y="32"/>
                      </a:lnTo>
                      <a:lnTo>
                        <a:pt x="15" y="21"/>
                      </a:lnTo>
                      <a:lnTo>
                        <a:pt x="67" y="19"/>
                      </a:lnTo>
                      <a:lnTo>
                        <a:pt x="120" y="16"/>
                      </a:lnTo>
                      <a:lnTo>
                        <a:pt x="172" y="16"/>
                      </a:lnTo>
                      <a:lnTo>
                        <a:pt x="226" y="15"/>
                      </a:lnTo>
                      <a:lnTo>
                        <a:pt x="278" y="13"/>
                      </a:lnTo>
                      <a:lnTo>
                        <a:pt x="331" y="13"/>
                      </a:lnTo>
                      <a:lnTo>
                        <a:pt x="385" y="13"/>
                      </a:lnTo>
                      <a:lnTo>
                        <a:pt x="438" y="12"/>
                      </a:lnTo>
                      <a:lnTo>
                        <a:pt x="492" y="12"/>
                      </a:lnTo>
                      <a:lnTo>
                        <a:pt x="544" y="12"/>
                      </a:lnTo>
                      <a:lnTo>
                        <a:pt x="597" y="13"/>
                      </a:lnTo>
                      <a:lnTo>
                        <a:pt x="651" y="13"/>
                      </a:lnTo>
                      <a:lnTo>
                        <a:pt x="704" y="13"/>
                      </a:lnTo>
                      <a:lnTo>
                        <a:pt x="758" y="13"/>
                      </a:lnTo>
                      <a:lnTo>
                        <a:pt x="810" y="13"/>
                      </a:lnTo>
                      <a:lnTo>
                        <a:pt x="863" y="13"/>
                      </a:lnTo>
                      <a:lnTo>
                        <a:pt x="923" y="13"/>
                      </a:lnTo>
                      <a:lnTo>
                        <a:pt x="982" y="12"/>
                      </a:lnTo>
                      <a:lnTo>
                        <a:pt x="1043" y="12"/>
                      </a:lnTo>
                      <a:lnTo>
                        <a:pt x="1102" y="10"/>
                      </a:lnTo>
                      <a:lnTo>
                        <a:pt x="1161" y="10"/>
                      </a:lnTo>
                      <a:lnTo>
                        <a:pt x="1221" y="9"/>
                      </a:lnTo>
                      <a:lnTo>
                        <a:pt x="1280" y="9"/>
                      </a:lnTo>
                      <a:lnTo>
                        <a:pt x="1339" y="9"/>
                      </a:lnTo>
                      <a:lnTo>
                        <a:pt x="1398" y="8"/>
                      </a:lnTo>
                      <a:lnTo>
                        <a:pt x="1456" y="8"/>
                      </a:lnTo>
                      <a:lnTo>
                        <a:pt x="1516" y="8"/>
                      </a:lnTo>
                      <a:lnTo>
                        <a:pt x="1575" y="6"/>
                      </a:lnTo>
                      <a:lnTo>
                        <a:pt x="1634" y="6"/>
                      </a:lnTo>
                      <a:lnTo>
                        <a:pt x="1692" y="6"/>
                      </a:lnTo>
                      <a:lnTo>
                        <a:pt x="1751" y="5"/>
                      </a:lnTo>
                      <a:lnTo>
                        <a:pt x="1811" y="5"/>
                      </a:lnTo>
                      <a:lnTo>
                        <a:pt x="1870" y="5"/>
                      </a:lnTo>
                      <a:lnTo>
                        <a:pt x="1928" y="3"/>
                      </a:lnTo>
                      <a:lnTo>
                        <a:pt x="1987" y="3"/>
                      </a:lnTo>
                      <a:lnTo>
                        <a:pt x="2045" y="3"/>
                      </a:lnTo>
                      <a:lnTo>
                        <a:pt x="2104" y="3"/>
                      </a:lnTo>
                      <a:lnTo>
                        <a:pt x="2162" y="3"/>
                      </a:lnTo>
                      <a:lnTo>
                        <a:pt x="2221" y="2"/>
                      </a:lnTo>
                      <a:lnTo>
                        <a:pt x="2279" y="2"/>
                      </a:lnTo>
                      <a:lnTo>
                        <a:pt x="2338" y="2"/>
                      </a:lnTo>
                      <a:lnTo>
                        <a:pt x="2396" y="2"/>
                      </a:lnTo>
                      <a:lnTo>
                        <a:pt x="2455" y="2"/>
                      </a:lnTo>
                      <a:lnTo>
                        <a:pt x="2513" y="0"/>
                      </a:lnTo>
                      <a:lnTo>
                        <a:pt x="2573" y="0"/>
                      </a:lnTo>
                      <a:lnTo>
                        <a:pt x="2630" y="0"/>
                      </a:lnTo>
                      <a:lnTo>
                        <a:pt x="2690" y="0"/>
                      </a:lnTo>
                      <a:lnTo>
                        <a:pt x="2748" y="0"/>
                      </a:lnTo>
                      <a:lnTo>
                        <a:pt x="2761" y="289"/>
                      </a:lnTo>
                      <a:lnTo>
                        <a:pt x="2765" y="580"/>
                      </a:lnTo>
                      <a:lnTo>
                        <a:pt x="2765" y="870"/>
                      </a:lnTo>
                      <a:lnTo>
                        <a:pt x="2766" y="1161"/>
                      </a:lnTo>
                      <a:lnTo>
                        <a:pt x="2752" y="1168"/>
                      </a:lnTo>
                      <a:lnTo>
                        <a:pt x="2740" y="1165"/>
                      </a:lnTo>
                      <a:lnTo>
                        <a:pt x="2729" y="1161"/>
                      </a:lnTo>
                      <a:lnTo>
                        <a:pt x="2719" y="1156"/>
                      </a:lnTo>
                      <a:lnTo>
                        <a:pt x="2709" y="1150"/>
                      </a:lnTo>
                      <a:lnTo>
                        <a:pt x="2697" y="1146"/>
                      </a:lnTo>
                      <a:lnTo>
                        <a:pt x="2685" y="1142"/>
                      </a:lnTo>
                      <a:lnTo>
                        <a:pt x="2672" y="1139"/>
                      </a:lnTo>
                      <a:lnTo>
                        <a:pt x="2659" y="1136"/>
                      </a:lnTo>
                      <a:lnTo>
                        <a:pt x="2639" y="1129"/>
                      </a:lnTo>
                      <a:lnTo>
                        <a:pt x="2620" y="1122"/>
                      </a:lnTo>
                      <a:lnTo>
                        <a:pt x="2599" y="1114"/>
                      </a:lnTo>
                      <a:lnTo>
                        <a:pt x="2578" y="1107"/>
                      </a:lnTo>
                      <a:lnTo>
                        <a:pt x="2557" y="1101"/>
                      </a:lnTo>
                      <a:lnTo>
                        <a:pt x="2536" y="1094"/>
                      </a:lnTo>
                      <a:lnTo>
                        <a:pt x="2515" y="1087"/>
                      </a:lnTo>
                      <a:lnTo>
                        <a:pt x="2493" y="1080"/>
                      </a:lnTo>
                      <a:lnTo>
                        <a:pt x="2470" y="1072"/>
                      </a:lnTo>
                      <a:lnTo>
                        <a:pt x="2448" y="1065"/>
                      </a:lnTo>
                      <a:lnTo>
                        <a:pt x="2427" y="1058"/>
                      </a:lnTo>
                      <a:lnTo>
                        <a:pt x="2405" y="1051"/>
                      </a:lnTo>
                      <a:lnTo>
                        <a:pt x="2383" y="1044"/>
                      </a:lnTo>
                      <a:lnTo>
                        <a:pt x="2363" y="1036"/>
                      </a:lnTo>
                      <a:lnTo>
                        <a:pt x="2341" y="1029"/>
                      </a:lnTo>
                      <a:lnTo>
                        <a:pt x="2321" y="1020"/>
                      </a:lnTo>
                      <a:lnTo>
                        <a:pt x="2285" y="1007"/>
                      </a:lnTo>
                      <a:lnTo>
                        <a:pt x="2249" y="996"/>
                      </a:lnTo>
                      <a:lnTo>
                        <a:pt x="2213" y="984"/>
                      </a:lnTo>
                      <a:lnTo>
                        <a:pt x="2176" y="973"/>
                      </a:lnTo>
                      <a:lnTo>
                        <a:pt x="2140" y="963"/>
                      </a:lnTo>
                      <a:lnTo>
                        <a:pt x="2103" y="951"/>
                      </a:lnTo>
                      <a:lnTo>
                        <a:pt x="2066" y="941"/>
                      </a:lnTo>
                      <a:lnTo>
                        <a:pt x="2029" y="931"/>
                      </a:lnTo>
                      <a:lnTo>
                        <a:pt x="1991" y="922"/>
                      </a:lnTo>
                      <a:lnTo>
                        <a:pt x="1955" y="912"/>
                      </a:lnTo>
                      <a:lnTo>
                        <a:pt x="1919" y="902"/>
                      </a:lnTo>
                      <a:lnTo>
                        <a:pt x="1881" y="892"/>
                      </a:lnTo>
                      <a:lnTo>
                        <a:pt x="1845" y="882"/>
                      </a:lnTo>
                      <a:lnTo>
                        <a:pt x="1809" y="872"/>
                      </a:lnTo>
                      <a:lnTo>
                        <a:pt x="1773" y="860"/>
                      </a:lnTo>
                      <a:lnTo>
                        <a:pt x="1738" y="850"/>
                      </a:lnTo>
                      <a:lnTo>
                        <a:pt x="1704" y="838"/>
                      </a:lnTo>
                      <a:lnTo>
                        <a:pt x="1669" y="827"/>
                      </a:lnTo>
                      <a:lnTo>
                        <a:pt x="1634" y="814"/>
                      </a:lnTo>
                      <a:lnTo>
                        <a:pt x="1601" y="801"/>
                      </a:lnTo>
                      <a:lnTo>
                        <a:pt x="1568" y="786"/>
                      </a:lnTo>
                      <a:lnTo>
                        <a:pt x="1536" y="772"/>
                      </a:lnTo>
                      <a:lnTo>
                        <a:pt x="1504" y="757"/>
                      </a:lnTo>
                      <a:lnTo>
                        <a:pt x="1474" y="740"/>
                      </a:lnTo>
                      <a:lnTo>
                        <a:pt x="1445" y="723"/>
                      </a:lnTo>
                      <a:lnTo>
                        <a:pt x="1416" y="705"/>
                      </a:lnTo>
                      <a:lnTo>
                        <a:pt x="1387" y="685"/>
                      </a:lnTo>
                      <a:lnTo>
                        <a:pt x="1361" y="665"/>
                      </a:lnTo>
                      <a:lnTo>
                        <a:pt x="1333" y="643"/>
                      </a:lnTo>
                      <a:lnTo>
                        <a:pt x="1309" y="620"/>
                      </a:lnTo>
                      <a:lnTo>
                        <a:pt x="1286" y="596"/>
                      </a:lnTo>
                      <a:lnTo>
                        <a:pt x="1262" y="570"/>
                      </a:lnTo>
                      <a:lnTo>
                        <a:pt x="1248" y="547"/>
                      </a:lnTo>
                      <a:lnTo>
                        <a:pt x="1231" y="523"/>
                      </a:lnTo>
                      <a:lnTo>
                        <a:pt x="1213" y="500"/>
                      </a:lnTo>
                      <a:lnTo>
                        <a:pt x="1196" y="479"/>
                      </a:lnTo>
                      <a:lnTo>
                        <a:pt x="1176" y="458"/>
                      </a:lnTo>
                      <a:lnTo>
                        <a:pt x="1155" y="437"/>
                      </a:lnTo>
                      <a:lnTo>
                        <a:pt x="1135" y="416"/>
                      </a:lnTo>
                      <a:lnTo>
                        <a:pt x="1114" y="398"/>
                      </a:lnTo>
                      <a:lnTo>
                        <a:pt x="1092" y="379"/>
                      </a:lnTo>
                      <a:lnTo>
                        <a:pt x="1069" y="359"/>
                      </a:lnTo>
                      <a:lnTo>
                        <a:pt x="1047" y="341"/>
                      </a:lnTo>
                      <a:lnTo>
                        <a:pt x="1024" y="323"/>
                      </a:lnTo>
                      <a:lnTo>
                        <a:pt x="1001" y="304"/>
                      </a:lnTo>
                      <a:lnTo>
                        <a:pt x="978" y="286"/>
                      </a:lnTo>
                      <a:lnTo>
                        <a:pt x="954" y="268"/>
                      </a:lnTo>
                      <a:lnTo>
                        <a:pt x="931" y="250"/>
                      </a:lnTo>
                      <a:lnTo>
                        <a:pt x="926" y="242"/>
                      </a:lnTo>
                      <a:lnTo>
                        <a:pt x="920" y="232"/>
                      </a:lnTo>
                      <a:lnTo>
                        <a:pt x="914" y="221"/>
                      </a:lnTo>
                      <a:lnTo>
                        <a:pt x="908" y="211"/>
                      </a:lnTo>
                      <a:lnTo>
                        <a:pt x="902" y="201"/>
                      </a:lnTo>
                      <a:lnTo>
                        <a:pt x="897" y="190"/>
                      </a:lnTo>
                      <a:lnTo>
                        <a:pt x="891" y="178"/>
                      </a:lnTo>
                      <a:lnTo>
                        <a:pt x="885" y="167"/>
                      </a:lnTo>
                      <a:lnTo>
                        <a:pt x="872" y="145"/>
                      </a:lnTo>
                      <a:lnTo>
                        <a:pt x="866" y="141"/>
                      </a:lnTo>
                      <a:lnTo>
                        <a:pt x="860" y="136"/>
                      </a:lnTo>
                      <a:lnTo>
                        <a:pt x="855" y="132"/>
                      </a:lnTo>
                      <a:lnTo>
                        <a:pt x="849" y="127"/>
                      </a:lnTo>
                      <a:lnTo>
                        <a:pt x="843" y="123"/>
                      </a:lnTo>
                      <a:lnTo>
                        <a:pt x="839" y="119"/>
                      </a:lnTo>
                      <a:lnTo>
                        <a:pt x="833" y="116"/>
                      </a:lnTo>
                      <a:lnTo>
                        <a:pt x="827" y="112"/>
                      </a:lnTo>
                      <a:lnTo>
                        <a:pt x="801" y="112"/>
                      </a:lnTo>
                      <a:lnTo>
                        <a:pt x="774" y="114"/>
                      </a:lnTo>
                      <a:lnTo>
                        <a:pt x="748" y="120"/>
                      </a:lnTo>
                      <a:lnTo>
                        <a:pt x="722" y="127"/>
                      </a:lnTo>
                      <a:lnTo>
                        <a:pt x="696" y="139"/>
                      </a:lnTo>
                      <a:lnTo>
                        <a:pt x="671" y="151"/>
                      </a:lnTo>
                      <a:lnTo>
                        <a:pt x="648" y="165"/>
                      </a:lnTo>
                      <a:lnTo>
                        <a:pt x="628" y="180"/>
                      </a:lnTo>
                      <a:lnTo>
                        <a:pt x="616" y="180"/>
                      </a:lnTo>
                      <a:lnTo>
                        <a:pt x="606" y="181"/>
                      </a:lnTo>
                      <a:lnTo>
                        <a:pt x="594" y="181"/>
                      </a:lnTo>
                      <a:lnTo>
                        <a:pt x="583" y="182"/>
                      </a:lnTo>
                      <a:lnTo>
                        <a:pt x="573" y="184"/>
                      </a:lnTo>
                      <a:lnTo>
                        <a:pt x="561" y="185"/>
                      </a:lnTo>
                      <a:lnTo>
                        <a:pt x="548" y="187"/>
                      </a:lnTo>
                      <a:lnTo>
                        <a:pt x="537" y="188"/>
                      </a:lnTo>
                      <a:lnTo>
                        <a:pt x="529" y="191"/>
                      </a:lnTo>
                      <a:lnTo>
                        <a:pt x="522" y="194"/>
                      </a:lnTo>
                      <a:lnTo>
                        <a:pt x="516" y="197"/>
                      </a:lnTo>
                      <a:lnTo>
                        <a:pt x="511" y="200"/>
                      </a:lnTo>
                      <a:lnTo>
                        <a:pt x="505" y="204"/>
                      </a:lnTo>
                      <a:lnTo>
                        <a:pt x="499" y="208"/>
                      </a:lnTo>
                      <a:lnTo>
                        <a:pt x="492" y="211"/>
                      </a:lnTo>
                      <a:lnTo>
                        <a:pt x="483" y="216"/>
                      </a:lnTo>
                      <a:lnTo>
                        <a:pt x="476" y="221"/>
                      </a:lnTo>
                      <a:lnTo>
                        <a:pt x="470" y="229"/>
                      </a:lnTo>
                      <a:lnTo>
                        <a:pt x="464" y="236"/>
                      </a:lnTo>
                      <a:lnTo>
                        <a:pt x="458" y="245"/>
                      </a:lnTo>
                      <a:lnTo>
                        <a:pt x="457" y="262"/>
                      </a:lnTo>
                      <a:lnTo>
                        <a:pt x="457" y="279"/>
                      </a:lnTo>
                      <a:lnTo>
                        <a:pt x="457" y="298"/>
                      </a:lnTo>
                      <a:lnTo>
                        <a:pt x="457" y="317"/>
                      </a:lnTo>
                      <a:lnTo>
                        <a:pt x="435" y="317"/>
                      </a:lnTo>
                      <a:lnTo>
                        <a:pt x="424" y="318"/>
                      </a:lnTo>
                      <a:lnTo>
                        <a:pt x="414" y="323"/>
                      </a:lnTo>
                      <a:lnTo>
                        <a:pt x="405" y="330"/>
                      </a:lnTo>
                      <a:lnTo>
                        <a:pt x="393" y="337"/>
                      </a:lnTo>
                      <a:lnTo>
                        <a:pt x="388" y="338"/>
                      </a:lnTo>
                      <a:lnTo>
                        <a:pt x="382" y="344"/>
                      </a:lnTo>
                      <a:lnTo>
                        <a:pt x="375" y="351"/>
                      </a:lnTo>
                      <a:lnTo>
                        <a:pt x="369" y="360"/>
                      </a:lnTo>
                      <a:lnTo>
                        <a:pt x="367" y="377"/>
                      </a:lnTo>
                      <a:lnTo>
                        <a:pt x="363" y="396"/>
                      </a:lnTo>
                      <a:lnTo>
                        <a:pt x="360" y="415"/>
                      </a:lnTo>
                      <a:lnTo>
                        <a:pt x="357" y="434"/>
                      </a:lnTo>
                      <a:lnTo>
                        <a:pt x="353" y="434"/>
                      </a:lnTo>
                      <a:lnTo>
                        <a:pt x="347" y="435"/>
                      </a:lnTo>
                      <a:lnTo>
                        <a:pt x="343" y="437"/>
                      </a:lnTo>
                      <a:lnTo>
                        <a:pt x="337" y="438"/>
                      </a:lnTo>
                      <a:lnTo>
                        <a:pt x="331" y="440"/>
                      </a:lnTo>
                      <a:lnTo>
                        <a:pt x="325" y="441"/>
                      </a:lnTo>
                      <a:lnTo>
                        <a:pt x="320" y="442"/>
                      </a:lnTo>
                      <a:lnTo>
                        <a:pt x="314" y="444"/>
                      </a:lnTo>
                      <a:lnTo>
                        <a:pt x="295" y="460"/>
                      </a:lnTo>
                      <a:lnTo>
                        <a:pt x="281" y="481"/>
                      </a:lnTo>
                      <a:lnTo>
                        <a:pt x="269" y="507"/>
                      </a:lnTo>
                      <a:lnTo>
                        <a:pt x="262" y="536"/>
                      </a:lnTo>
                      <a:lnTo>
                        <a:pt x="255" y="567"/>
                      </a:lnTo>
                      <a:lnTo>
                        <a:pt x="250" y="597"/>
                      </a:lnTo>
                      <a:lnTo>
                        <a:pt x="247" y="627"/>
                      </a:lnTo>
                      <a:lnTo>
                        <a:pt x="243" y="656"/>
                      </a:lnTo>
                      <a:lnTo>
                        <a:pt x="247" y="666"/>
                      </a:lnTo>
                      <a:lnTo>
                        <a:pt x="253" y="678"/>
                      </a:lnTo>
                      <a:lnTo>
                        <a:pt x="257" y="688"/>
                      </a:lnTo>
                      <a:lnTo>
                        <a:pt x="263" y="700"/>
                      </a:lnTo>
                      <a:lnTo>
                        <a:pt x="268" y="710"/>
                      </a:lnTo>
                      <a:lnTo>
                        <a:pt x="273" y="721"/>
                      </a:lnTo>
                      <a:lnTo>
                        <a:pt x="279" y="731"/>
                      </a:lnTo>
                      <a:lnTo>
                        <a:pt x="286" y="743"/>
                      </a:lnTo>
                      <a:lnTo>
                        <a:pt x="291" y="756"/>
                      </a:lnTo>
                      <a:lnTo>
                        <a:pt x="297" y="769"/>
                      </a:lnTo>
                      <a:lnTo>
                        <a:pt x="302" y="782"/>
                      </a:lnTo>
                      <a:lnTo>
                        <a:pt x="311" y="794"/>
                      </a:lnTo>
                      <a:lnTo>
                        <a:pt x="320" y="807"/>
                      </a:lnTo>
                      <a:lnTo>
                        <a:pt x="328" y="818"/>
                      </a:lnTo>
                      <a:lnTo>
                        <a:pt x="337" y="833"/>
                      </a:lnTo>
                      <a:lnTo>
                        <a:pt x="346" y="846"/>
                      </a:lnTo>
                      <a:lnTo>
                        <a:pt x="364" y="847"/>
                      </a:lnTo>
                      <a:lnTo>
                        <a:pt x="372" y="864"/>
                      </a:lnTo>
                      <a:lnTo>
                        <a:pt x="376" y="882"/>
                      </a:lnTo>
                      <a:lnTo>
                        <a:pt x="380" y="899"/>
                      </a:lnTo>
                      <a:lnTo>
                        <a:pt x="383" y="916"/>
                      </a:lnTo>
                      <a:lnTo>
                        <a:pt x="392" y="938"/>
                      </a:lnTo>
                      <a:lnTo>
                        <a:pt x="405" y="951"/>
                      </a:lnTo>
                      <a:lnTo>
                        <a:pt x="418" y="963"/>
                      </a:lnTo>
                      <a:lnTo>
                        <a:pt x="431" y="976"/>
                      </a:lnTo>
                      <a:lnTo>
                        <a:pt x="444" y="989"/>
                      </a:lnTo>
                      <a:lnTo>
                        <a:pt x="458" y="1000"/>
                      </a:lnTo>
                      <a:lnTo>
                        <a:pt x="471" y="1013"/>
                      </a:lnTo>
                      <a:lnTo>
                        <a:pt x="486" y="1026"/>
                      </a:lnTo>
                      <a:lnTo>
                        <a:pt x="502" y="1038"/>
                      </a:lnTo>
                      <a:lnTo>
                        <a:pt x="516" y="1051"/>
                      </a:lnTo>
                      <a:lnTo>
                        <a:pt x="532" y="1062"/>
                      </a:lnTo>
                      <a:lnTo>
                        <a:pt x="548" y="1074"/>
                      </a:lnTo>
                      <a:lnTo>
                        <a:pt x="564" y="1085"/>
                      </a:lnTo>
                      <a:lnTo>
                        <a:pt x="580" y="1096"/>
                      </a:lnTo>
                      <a:lnTo>
                        <a:pt x="597" y="1106"/>
                      </a:lnTo>
                      <a:lnTo>
                        <a:pt x="615" y="1116"/>
                      </a:lnTo>
                      <a:lnTo>
                        <a:pt x="632" y="1126"/>
                      </a:lnTo>
                      <a:lnTo>
                        <a:pt x="655" y="1133"/>
                      </a:lnTo>
                      <a:lnTo>
                        <a:pt x="678" y="1137"/>
                      </a:lnTo>
                      <a:lnTo>
                        <a:pt x="701" y="1140"/>
                      </a:lnTo>
                      <a:lnTo>
                        <a:pt x="725" y="1142"/>
                      </a:lnTo>
                      <a:lnTo>
                        <a:pt x="749" y="1143"/>
                      </a:lnTo>
                      <a:lnTo>
                        <a:pt x="772" y="1142"/>
                      </a:lnTo>
                      <a:lnTo>
                        <a:pt x="797" y="1140"/>
                      </a:lnTo>
                      <a:lnTo>
                        <a:pt x="821" y="1139"/>
                      </a:lnTo>
                      <a:lnTo>
                        <a:pt x="846" y="1136"/>
                      </a:lnTo>
                      <a:lnTo>
                        <a:pt x="869" y="1133"/>
                      </a:lnTo>
                      <a:lnTo>
                        <a:pt x="894" y="1130"/>
                      </a:lnTo>
                      <a:lnTo>
                        <a:pt x="918" y="1129"/>
                      </a:lnTo>
                      <a:lnTo>
                        <a:pt x="943" y="1126"/>
                      </a:lnTo>
                      <a:lnTo>
                        <a:pt x="967" y="1124"/>
                      </a:lnTo>
                      <a:lnTo>
                        <a:pt x="992" y="1124"/>
                      </a:lnTo>
                      <a:lnTo>
                        <a:pt x="1017" y="1126"/>
                      </a:lnTo>
                      <a:lnTo>
                        <a:pt x="1028" y="1129"/>
                      </a:lnTo>
                      <a:lnTo>
                        <a:pt x="1037" y="1135"/>
                      </a:lnTo>
                      <a:lnTo>
                        <a:pt x="1046" y="1139"/>
                      </a:lnTo>
                      <a:lnTo>
                        <a:pt x="1054" y="1145"/>
                      </a:lnTo>
                      <a:lnTo>
                        <a:pt x="1063" y="1150"/>
                      </a:lnTo>
                      <a:lnTo>
                        <a:pt x="1073" y="1156"/>
                      </a:lnTo>
                      <a:lnTo>
                        <a:pt x="1085" y="1161"/>
                      </a:lnTo>
                      <a:lnTo>
                        <a:pt x="1098" y="1163"/>
                      </a:lnTo>
                      <a:lnTo>
                        <a:pt x="1114" y="1174"/>
                      </a:lnTo>
                      <a:lnTo>
                        <a:pt x="1129" y="1182"/>
                      </a:lnTo>
                      <a:lnTo>
                        <a:pt x="1145" y="1191"/>
                      </a:lnTo>
                      <a:lnTo>
                        <a:pt x="1161" y="1200"/>
                      </a:lnTo>
                      <a:lnTo>
                        <a:pt x="1179" y="1208"/>
                      </a:lnTo>
                      <a:lnTo>
                        <a:pt x="1195" y="1215"/>
                      </a:lnTo>
                      <a:lnTo>
                        <a:pt x="1212" y="1223"/>
                      </a:lnTo>
                      <a:lnTo>
                        <a:pt x="1228" y="1228"/>
                      </a:lnTo>
                      <a:lnTo>
                        <a:pt x="1244" y="1236"/>
                      </a:lnTo>
                      <a:lnTo>
                        <a:pt x="1261" y="1243"/>
                      </a:lnTo>
                      <a:lnTo>
                        <a:pt x="1277" y="1249"/>
                      </a:lnTo>
                      <a:lnTo>
                        <a:pt x="1294" y="1256"/>
                      </a:lnTo>
                      <a:lnTo>
                        <a:pt x="1310" y="1262"/>
                      </a:lnTo>
                      <a:lnTo>
                        <a:pt x="1326" y="1269"/>
                      </a:lnTo>
                      <a:lnTo>
                        <a:pt x="1342" y="1275"/>
                      </a:lnTo>
                      <a:lnTo>
                        <a:pt x="1358" y="1282"/>
                      </a:lnTo>
                      <a:lnTo>
                        <a:pt x="1345" y="1296"/>
                      </a:lnTo>
                      <a:lnTo>
                        <a:pt x="1330" y="1311"/>
                      </a:lnTo>
                      <a:lnTo>
                        <a:pt x="1315" y="1324"/>
                      </a:lnTo>
                      <a:lnTo>
                        <a:pt x="1299" y="1338"/>
                      </a:lnTo>
                      <a:lnTo>
                        <a:pt x="1280" y="1353"/>
                      </a:lnTo>
                      <a:lnTo>
                        <a:pt x="1262" y="1369"/>
                      </a:lnTo>
                      <a:lnTo>
                        <a:pt x="1242" y="1383"/>
                      </a:lnTo>
                      <a:lnTo>
                        <a:pt x="1223" y="1399"/>
                      </a:lnTo>
                      <a:lnTo>
                        <a:pt x="1208" y="1408"/>
                      </a:lnTo>
                      <a:lnTo>
                        <a:pt x="1193" y="1418"/>
                      </a:lnTo>
                      <a:lnTo>
                        <a:pt x="1179" y="1429"/>
                      </a:lnTo>
                      <a:lnTo>
                        <a:pt x="1166" y="1442"/>
                      </a:lnTo>
                      <a:lnTo>
                        <a:pt x="1153" y="1457"/>
                      </a:lnTo>
                      <a:lnTo>
                        <a:pt x="1141" y="1471"/>
                      </a:lnTo>
                      <a:lnTo>
                        <a:pt x="1129" y="1486"/>
                      </a:lnTo>
                      <a:lnTo>
                        <a:pt x="1118" y="1500"/>
                      </a:lnTo>
                      <a:lnTo>
                        <a:pt x="1106" y="1522"/>
                      </a:lnTo>
                      <a:lnTo>
                        <a:pt x="1101" y="1535"/>
                      </a:lnTo>
                      <a:lnTo>
                        <a:pt x="1095" y="1549"/>
                      </a:lnTo>
                      <a:lnTo>
                        <a:pt x="1089" y="1562"/>
                      </a:lnTo>
                      <a:lnTo>
                        <a:pt x="1083" y="1575"/>
                      </a:lnTo>
                      <a:lnTo>
                        <a:pt x="1079" y="1588"/>
                      </a:lnTo>
                      <a:lnTo>
                        <a:pt x="1072" y="1601"/>
                      </a:lnTo>
                      <a:lnTo>
                        <a:pt x="1064" y="1616"/>
                      </a:lnTo>
                      <a:lnTo>
                        <a:pt x="1056" y="1629"/>
                      </a:lnTo>
                      <a:lnTo>
                        <a:pt x="1041" y="1662"/>
                      </a:lnTo>
                      <a:lnTo>
                        <a:pt x="1027" y="1697"/>
                      </a:lnTo>
                      <a:lnTo>
                        <a:pt x="1011" y="1730"/>
                      </a:lnTo>
                      <a:lnTo>
                        <a:pt x="996" y="1765"/>
                      </a:lnTo>
                      <a:lnTo>
                        <a:pt x="980" y="1799"/>
                      </a:lnTo>
                      <a:lnTo>
                        <a:pt x="965" y="1834"/>
                      </a:lnTo>
                      <a:lnTo>
                        <a:pt x="949" y="1869"/>
                      </a:lnTo>
                      <a:lnTo>
                        <a:pt x="931" y="1903"/>
                      </a:lnTo>
                      <a:lnTo>
                        <a:pt x="921" y="1949"/>
                      </a:lnTo>
                      <a:lnTo>
                        <a:pt x="908" y="1993"/>
                      </a:lnTo>
                      <a:lnTo>
                        <a:pt x="891" y="2035"/>
                      </a:lnTo>
                      <a:lnTo>
                        <a:pt x="872" y="2074"/>
                      </a:lnTo>
                      <a:lnTo>
                        <a:pt x="850" y="2110"/>
                      </a:lnTo>
                      <a:lnTo>
                        <a:pt x="826" y="2146"/>
                      </a:lnTo>
                      <a:lnTo>
                        <a:pt x="798" y="2179"/>
                      </a:lnTo>
                      <a:lnTo>
                        <a:pt x="771" y="2211"/>
                      </a:lnTo>
                      <a:lnTo>
                        <a:pt x="740" y="2241"/>
                      </a:lnTo>
                      <a:lnTo>
                        <a:pt x="709" y="2272"/>
                      </a:lnTo>
                      <a:lnTo>
                        <a:pt x="675" y="2301"/>
                      </a:lnTo>
                      <a:lnTo>
                        <a:pt x="641" y="2328"/>
                      </a:lnTo>
                      <a:lnTo>
                        <a:pt x="606" y="2354"/>
                      </a:lnTo>
                      <a:lnTo>
                        <a:pt x="571" y="2381"/>
                      </a:lnTo>
                      <a:lnTo>
                        <a:pt x="535" y="2408"/>
                      </a:lnTo>
                      <a:lnTo>
                        <a:pt x="499" y="2434"/>
                      </a:lnTo>
                      <a:lnTo>
                        <a:pt x="479" y="2444"/>
                      </a:lnTo>
                      <a:lnTo>
                        <a:pt x="458" y="2452"/>
                      </a:lnTo>
                      <a:lnTo>
                        <a:pt x="437" y="2462"/>
                      </a:lnTo>
                      <a:lnTo>
                        <a:pt x="417" y="2473"/>
                      </a:lnTo>
                      <a:lnTo>
                        <a:pt x="395" y="2484"/>
                      </a:lnTo>
                      <a:lnTo>
                        <a:pt x="373" y="2496"/>
                      </a:lnTo>
                      <a:lnTo>
                        <a:pt x="353" y="2507"/>
                      </a:lnTo>
                      <a:lnTo>
                        <a:pt x="333" y="2520"/>
                      </a:lnTo>
                      <a:lnTo>
                        <a:pt x="310" y="2520"/>
                      </a:lnTo>
                      <a:lnTo>
                        <a:pt x="286" y="2520"/>
                      </a:lnTo>
                      <a:lnTo>
                        <a:pt x="263" y="2522"/>
                      </a:lnTo>
                      <a:lnTo>
                        <a:pt x="240" y="2522"/>
                      </a:lnTo>
                      <a:lnTo>
                        <a:pt x="217" y="2522"/>
                      </a:lnTo>
                      <a:lnTo>
                        <a:pt x="192" y="2522"/>
                      </a:lnTo>
                      <a:lnTo>
                        <a:pt x="168" y="2522"/>
                      </a:lnTo>
                      <a:lnTo>
                        <a:pt x="143" y="2520"/>
                      </a:lnTo>
                      <a:lnTo>
                        <a:pt x="136" y="252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008920" y="3048120"/>
                  <a:ext cx="11160" cy="14040"/>
                </a:xfrm>
                <a:custGeom>
                  <a:avLst/>
                  <a:gdLst/>
                  <a:ahLst/>
                  <a:rect l="l" t="t" r="r" b="b"/>
                  <a:pathLst>
                    <a:path w="21" h="27">
                      <a:moveTo>
                        <a:pt x="10" y="27"/>
                      </a:moveTo>
                      <a:lnTo>
                        <a:pt x="3" y="23"/>
                      </a:lnTo>
                      <a:lnTo>
                        <a:pt x="0" y="16"/>
                      </a:lnTo>
                      <a:lnTo>
                        <a:pt x="2" y="7"/>
                      </a:lnTo>
                      <a:lnTo>
                        <a:pt x="8" y="0"/>
                      </a:lnTo>
                      <a:lnTo>
                        <a:pt x="18" y="6"/>
                      </a:lnTo>
                      <a:lnTo>
                        <a:pt x="21" y="10"/>
                      </a:lnTo>
                      <a:lnTo>
                        <a:pt x="19" y="16"/>
                      </a:lnTo>
                      <a:lnTo>
                        <a:pt x="16" y="23"/>
                      </a:lnTo>
                      <a:lnTo>
                        <a:pt x="10" y="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 name=""/>
                <p:cNvSpPr/>
                <p:nvPr/>
              </p:nvSpPr>
              <p:spPr>
                <a:xfrm>
                  <a:off x="7800840" y="3046320"/>
                  <a:ext cx="9720" cy="12960"/>
                </a:xfrm>
                <a:custGeom>
                  <a:avLst/>
                  <a:gdLst/>
                  <a:ahLst/>
                  <a:rect l="l" t="t" r="r" b="b"/>
                  <a:pathLst>
                    <a:path w="17" h="25">
                      <a:moveTo>
                        <a:pt x="13" y="25"/>
                      </a:moveTo>
                      <a:lnTo>
                        <a:pt x="4" y="23"/>
                      </a:lnTo>
                      <a:lnTo>
                        <a:pt x="0" y="16"/>
                      </a:lnTo>
                      <a:lnTo>
                        <a:pt x="0" y="8"/>
                      </a:lnTo>
                      <a:lnTo>
                        <a:pt x="7" y="0"/>
                      </a:lnTo>
                      <a:lnTo>
                        <a:pt x="12" y="3"/>
                      </a:lnTo>
                      <a:lnTo>
                        <a:pt x="17" y="12"/>
                      </a:lnTo>
                      <a:lnTo>
                        <a:pt x="17" y="19"/>
                      </a:lnTo>
                      <a:lnTo>
                        <a:pt x="13"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 name=""/>
                <p:cNvSpPr/>
                <p:nvPr/>
              </p:nvSpPr>
              <p:spPr>
                <a:xfrm>
                  <a:off x="8120160" y="3040200"/>
                  <a:ext cx="11160" cy="10800"/>
                </a:xfrm>
                <a:custGeom>
                  <a:avLst/>
                  <a:gdLst/>
                  <a:ahLst/>
                  <a:rect l="l" t="t" r="r" b="b"/>
                  <a:pathLst>
                    <a:path w="21" h="23">
                      <a:moveTo>
                        <a:pt x="5" y="23"/>
                      </a:moveTo>
                      <a:lnTo>
                        <a:pt x="0" y="19"/>
                      </a:lnTo>
                      <a:lnTo>
                        <a:pt x="0" y="12"/>
                      </a:lnTo>
                      <a:lnTo>
                        <a:pt x="2" y="5"/>
                      </a:lnTo>
                      <a:lnTo>
                        <a:pt x="9" y="0"/>
                      </a:lnTo>
                      <a:lnTo>
                        <a:pt x="19" y="6"/>
                      </a:lnTo>
                      <a:lnTo>
                        <a:pt x="21" y="12"/>
                      </a:lnTo>
                      <a:lnTo>
                        <a:pt x="18" y="18"/>
                      </a:lnTo>
                      <a:lnTo>
                        <a:pt x="12" y="22"/>
                      </a:lnTo>
                      <a:lnTo>
                        <a:pt x="5"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 name=""/>
                <p:cNvSpPr/>
                <p:nvPr/>
              </p:nvSpPr>
              <p:spPr>
                <a:xfrm>
                  <a:off x="8226360" y="3027240"/>
                  <a:ext cx="9720" cy="11160"/>
                </a:xfrm>
                <a:custGeom>
                  <a:avLst/>
                  <a:gdLst/>
                  <a:ahLst/>
                  <a:rect l="l" t="t" r="r" b="b"/>
                  <a:pathLst>
                    <a:path w="18" h="23">
                      <a:moveTo>
                        <a:pt x="7" y="23"/>
                      </a:moveTo>
                      <a:lnTo>
                        <a:pt x="0" y="3"/>
                      </a:lnTo>
                      <a:lnTo>
                        <a:pt x="8" y="0"/>
                      </a:lnTo>
                      <a:lnTo>
                        <a:pt x="15" y="3"/>
                      </a:lnTo>
                      <a:lnTo>
                        <a:pt x="18" y="8"/>
                      </a:lnTo>
                      <a:lnTo>
                        <a:pt x="18" y="16"/>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 name=""/>
                <p:cNvSpPr/>
                <p:nvPr/>
              </p:nvSpPr>
              <p:spPr>
                <a:xfrm>
                  <a:off x="8315280" y="3025800"/>
                  <a:ext cx="6480" cy="11160"/>
                </a:xfrm>
                <a:custGeom>
                  <a:avLst/>
                  <a:gdLst/>
                  <a:ahLst/>
                  <a:rect l="l" t="t" r="r" b="b"/>
                  <a:pathLst>
                    <a:path w="13" h="22">
                      <a:moveTo>
                        <a:pt x="0" y="22"/>
                      </a:moveTo>
                      <a:lnTo>
                        <a:pt x="0" y="0"/>
                      </a:lnTo>
                      <a:lnTo>
                        <a:pt x="7" y="2"/>
                      </a:lnTo>
                      <a:lnTo>
                        <a:pt x="11" y="6"/>
                      </a:lnTo>
                      <a:lnTo>
                        <a:pt x="13" y="13"/>
                      </a:lnTo>
                      <a:lnTo>
                        <a:pt x="10" y="22"/>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2" name=""/>
                <p:cNvSpPr/>
                <p:nvPr/>
              </p:nvSpPr>
              <p:spPr>
                <a:xfrm>
                  <a:off x="7734240" y="3032280"/>
                  <a:ext cx="11160" cy="10800"/>
                </a:xfrm>
                <a:custGeom>
                  <a:avLst/>
                  <a:gdLst/>
                  <a:ahLst/>
                  <a:rect l="l" t="t" r="r" b="b"/>
                  <a:pathLst>
                    <a:path w="22" h="20">
                      <a:moveTo>
                        <a:pt x="3" y="20"/>
                      </a:moveTo>
                      <a:lnTo>
                        <a:pt x="0" y="16"/>
                      </a:lnTo>
                      <a:lnTo>
                        <a:pt x="2" y="9"/>
                      </a:lnTo>
                      <a:lnTo>
                        <a:pt x="4" y="3"/>
                      </a:lnTo>
                      <a:lnTo>
                        <a:pt x="12" y="0"/>
                      </a:lnTo>
                      <a:lnTo>
                        <a:pt x="22" y="6"/>
                      </a:lnTo>
                      <a:lnTo>
                        <a:pt x="20" y="9"/>
                      </a:lnTo>
                      <a:lnTo>
                        <a:pt x="16" y="14"/>
                      </a:lnTo>
                      <a:lnTo>
                        <a:pt x="10" y="19"/>
                      </a:lnTo>
                      <a:lnTo>
                        <a:pt x="3"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3" name=""/>
                <p:cNvSpPr/>
                <p:nvPr/>
              </p:nvSpPr>
              <p:spPr>
                <a:xfrm>
                  <a:off x="7040520" y="3033720"/>
                  <a:ext cx="11160" cy="11160"/>
                </a:xfrm>
                <a:custGeom>
                  <a:avLst/>
                  <a:gdLst/>
                  <a:ahLst/>
                  <a:rect l="l" t="t" r="r" b="b"/>
                  <a:pathLst>
                    <a:path w="20" h="21">
                      <a:moveTo>
                        <a:pt x="13" y="21"/>
                      </a:moveTo>
                      <a:lnTo>
                        <a:pt x="0" y="11"/>
                      </a:lnTo>
                      <a:lnTo>
                        <a:pt x="20" y="0"/>
                      </a:lnTo>
                      <a:lnTo>
                        <a:pt x="20" y="6"/>
                      </a:lnTo>
                      <a:lnTo>
                        <a:pt x="20" y="13"/>
                      </a:lnTo>
                      <a:lnTo>
                        <a:pt x="17" y="20"/>
                      </a:lnTo>
                      <a:lnTo>
                        <a:pt x="1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 name=""/>
                <p:cNvSpPr/>
                <p:nvPr/>
              </p:nvSpPr>
              <p:spPr>
                <a:xfrm>
                  <a:off x="7854840" y="3019320"/>
                  <a:ext cx="7920" cy="11160"/>
                </a:xfrm>
                <a:custGeom>
                  <a:avLst/>
                  <a:gdLst/>
                  <a:ahLst/>
                  <a:rect l="l" t="t" r="r" b="b"/>
                  <a:pathLst>
                    <a:path w="15" h="22">
                      <a:moveTo>
                        <a:pt x="0" y="22"/>
                      </a:moveTo>
                      <a:lnTo>
                        <a:pt x="0" y="0"/>
                      </a:lnTo>
                      <a:lnTo>
                        <a:pt x="7" y="2"/>
                      </a:lnTo>
                      <a:lnTo>
                        <a:pt x="12" y="8"/>
                      </a:lnTo>
                      <a:lnTo>
                        <a:pt x="15" y="15"/>
                      </a:lnTo>
                      <a:lnTo>
                        <a:pt x="15" y="21"/>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 name=""/>
                <p:cNvSpPr/>
                <p:nvPr/>
              </p:nvSpPr>
              <p:spPr>
                <a:xfrm>
                  <a:off x="7161120" y="3027240"/>
                  <a:ext cx="11160" cy="7920"/>
                </a:xfrm>
                <a:custGeom>
                  <a:avLst/>
                  <a:gdLst/>
                  <a:ahLst/>
                  <a:rect l="l" t="t" r="r" b="b"/>
                  <a:pathLst>
                    <a:path w="21" h="16">
                      <a:moveTo>
                        <a:pt x="11" y="16"/>
                      </a:moveTo>
                      <a:lnTo>
                        <a:pt x="0" y="3"/>
                      </a:lnTo>
                      <a:lnTo>
                        <a:pt x="18" y="0"/>
                      </a:lnTo>
                      <a:lnTo>
                        <a:pt x="21" y="4"/>
                      </a:lnTo>
                      <a:lnTo>
                        <a:pt x="21" y="10"/>
                      </a:lnTo>
                      <a:lnTo>
                        <a:pt x="17" y="16"/>
                      </a:lnTo>
                      <a:lnTo>
                        <a:pt x="1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6" name=""/>
                <p:cNvSpPr/>
                <p:nvPr/>
              </p:nvSpPr>
              <p:spPr>
                <a:xfrm>
                  <a:off x="8364600" y="2995560"/>
                  <a:ext cx="9360" cy="11160"/>
                </a:xfrm>
                <a:custGeom>
                  <a:avLst/>
                  <a:gdLst/>
                  <a:ahLst/>
                  <a:rect l="l" t="t" r="r" b="b"/>
                  <a:pathLst>
                    <a:path w="19" h="21">
                      <a:moveTo>
                        <a:pt x="0" y="21"/>
                      </a:moveTo>
                      <a:lnTo>
                        <a:pt x="5" y="0"/>
                      </a:lnTo>
                      <a:lnTo>
                        <a:pt x="19" y="13"/>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 name=""/>
                <p:cNvSpPr/>
                <p:nvPr/>
              </p:nvSpPr>
              <p:spPr>
                <a:xfrm>
                  <a:off x="7783560" y="2987640"/>
                  <a:ext cx="9360" cy="11160"/>
                </a:xfrm>
                <a:custGeom>
                  <a:avLst/>
                  <a:gdLst/>
                  <a:ahLst/>
                  <a:rect l="l" t="t" r="r" b="b"/>
                  <a:pathLst>
                    <a:path w="18" h="21">
                      <a:moveTo>
                        <a:pt x="8" y="21"/>
                      </a:moveTo>
                      <a:lnTo>
                        <a:pt x="0" y="4"/>
                      </a:lnTo>
                      <a:lnTo>
                        <a:pt x="8" y="0"/>
                      </a:lnTo>
                      <a:lnTo>
                        <a:pt x="14" y="1"/>
                      </a:lnTo>
                      <a:lnTo>
                        <a:pt x="18" y="8"/>
                      </a:lnTo>
                      <a:lnTo>
                        <a:pt x="18" y="15"/>
                      </a:lnTo>
                      <a:lnTo>
                        <a:pt x="8"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 name=""/>
                <p:cNvSpPr/>
                <p:nvPr/>
              </p:nvSpPr>
              <p:spPr>
                <a:xfrm>
                  <a:off x="8178840" y="2975040"/>
                  <a:ext cx="9360" cy="11160"/>
                </a:xfrm>
                <a:custGeom>
                  <a:avLst/>
                  <a:gdLst/>
                  <a:ahLst/>
                  <a:rect l="l" t="t" r="r" b="b"/>
                  <a:pathLst>
                    <a:path w="19" h="19">
                      <a:moveTo>
                        <a:pt x="5" y="19"/>
                      </a:moveTo>
                      <a:lnTo>
                        <a:pt x="0" y="0"/>
                      </a:lnTo>
                      <a:lnTo>
                        <a:pt x="9" y="0"/>
                      </a:lnTo>
                      <a:lnTo>
                        <a:pt x="15" y="3"/>
                      </a:lnTo>
                      <a:lnTo>
                        <a:pt x="19" y="9"/>
                      </a:lnTo>
                      <a:lnTo>
                        <a:pt x="19" y="19"/>
                      </a:lnTo>
                      <a:lnTo>
                        <a:pt x="5"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 name=""/>
                <p:cNvSpPr/>
                <p:nvPr/>
              </p:nvSpPr>
              <p:spPr>
                <a:xfrm>
                  <a:off x="7227720" y="2979720"/>
                  <a:ext cx="16200" cy="12600"/>
                </a:xfrm>
                <a:custGeom>
                  <a:avLst/>
                  <a:gdLst/>
                  <a:ahLst/>
                  <a:rect l="l" t="t" r="r" b="b"/>
                  <a:pathLst>
                    <a:path w="29" h="26">
                      <a:moveTo>
                        <a:pt x="14" y="26"/>
                      </a:moveTo>
                      <a:lnTo>
                        <a:pt x="0" y="7"/>
                      </a:lnTo>
                      <a:lnTo>
                        <a:pt x="4" y="2"/>
                      </a:lnTo>
                      <a:lnTo>
                        <a:pt x="13" y="0"/>
                      </a:lnTo>
                      <a:lnTo>
                        <a:pt x="22" y="4"/>
                      </a:lnTo>
                      <a:lnTo>
                        <a:pt x="29" y="12"/>
                      </a:lnTo>
                      <a:lnTo>
                        <a:pt x="1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 name=""/>
                <p:cNvSpPr/>
                <p:nvPr/>
              </p:nvSpPr>
              <p:spPr>
                <a:xfrm>
                  <a:off x="8085240" y="2963880"/>
                  <a:ext cx="7920" cy="11160"/>
                </a:xfrm>
                <a:custGeom>
                  <a:avLst/>
                  <a:gdLst/>
                  <a:ahLst/>
                  <a:rect l="l" t="t" r="r" b="b"/>
                  <a:pathLst>
                    <a:path w="16" h="21">
                      <a:moveTo>
                        <a:pt x="3" y="21"/>
                      </a:moveTo>
                      <a:lnTo>
                        <a:pt x="0" y="0"/>
                      </a:lnTo>
                      <a:lnTo>
                        <a:pt x="9" y="1"/>
                      </a:lnTo>
                      <a:lnTo>
                        <a:pt x="15" y="4"/>
                      </a:lnTo>
                      <a:lnTo>
                        <a:pt x="16" y="11"/>
                      </a:lnTo>
                      <a:lnTo>
                        <a:pt x="15"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 name=""/>
                <p:cNvSpPr/>
                <p:nvPr/>
              </p:nvSpPr>
              <p:spPr>
                <a:xfrm>
                  <a:off x="8021520" y="2959200"/>
                  <a:ext cx="9720" cy="11160"/>
                </a:xfrm>
                <a:custGeom>
                  <a:avLst/>
                  <a:gdLst/>
                  <a:ahLst/>
                  <a:rect l="l" t="t" r="r" b="b"/>
                  <a:pathLst>
                    <a:path w="17" h="22">
                      <a:moveTo>
                        <a:pt x="7" y="22"/>
                      </a:moveTo>
                      <a:lnTo>
                        <a:pt x="0" y="4"/>
                      </a:lnTo>
                      <a:lnTo>
                        <a:pt x="9" y="0"/>
                      </a:lnTo>
                      <a:lnTo>
                        <a:pt x="14" y="3"/>
                      </a:lnTo>
                      <a:lnTo>
                        <a:pt x="17" y="10"/>
                      </a:lnTo>
                      <a:lnTo>
                        <a:pt x="16" y="17"/>
                      </a:lnTo>
                      <a:lnTo>
                        <a:pt x="7"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 name=""/>
                <p:cNvSpPr/>
                <p:nvPr/>
              </p:nvSpPr>
              <p:spPr>
                <a:xfrm>
                  <a:off x="7010280" y="2965320"/>
                  <a:ext cx="11160" cy="11160"/>
                </a:xfrm>
                <a:custGeom>
                  <a:avLst/>
                  <a:gdLst/>
                  <a:ahLst/>
                  <a:rect l="l" t="t" r="r" b="b"/>
                  <a:pathLst>
                    <a:path w="23" h="22">
                      <a:moveTo>
                        <a:pt x="14" y="22"/>
                      </a:moveTo>
                      <a:lnTo>
                        <a:pt x="7" y="20"/>
                      </a:lnTo>
                      <a:lnTo>
                        <a:pt x="1" y="16"/>
                      </a:lnTo>
                      <a:lnTo>
                        <a:pt x="0" y="10"/>
                      </a:lnTo>
                      <a:lnTo>
                        <a:pt x="3" y="2"/>
                      </a:lnTo>
                      <a:lnTo>
                        <a:pt x="23" y="0"/>
                      </a:lnTo>
                      <a:lnTo>
                        <a:pt x="1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 name=""/>
                <p:cNvSpPr/>
                <p:nvPr/>
              </p:nvSpPr>
              <p:spPr>
                <a:xfrm>
                  <a:off x="7937640" y="2949480"/>
                  <a:ext cx="9360" cy="12960"/>
                </a:xfrm>
                <a:custGeom>
                  <a:avLst/>
                  <a:gdLst/>
                  <a:ahLst/>
                  <a:rect l="l" t="t" r="r" b="b"/>
                  <a:pathLst>
                    <a:path w="19" h="23">
                      <a:moveTo>
                        <a:pt x="8" y="23"/>
                      </a:moveTo>
                      <a:lnTo>
                        <a:pt x="0" y="3"/>
                      </a:lnTo>
                      <a:lnTo>
                        <a:pt x="9" y="0"/>
                      </a:lnTo>
                      <a:lnTo>
                        <a:pt x="16" y="4"/>
                      </a:lnTo>
                      <a:lnTo>
                        <a:pt x="19" y="11"/>
                      </a:lnTo>
                      <a:lnTo>
                        <a:pt x="15" y="20"/>
                      </a:lnTo>
                      <a:lnTo>
                        <a:pt x="8"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 name=""/>
                <p:cNvSpPr/>
                <p:nvPr/>
              </p:nvSpPr>
              <p:spPr>
                <a:xfrm>
                  <a:off x="7095960" y="2962440"/>
                  <a:ext cx="9720" cy="10800"/>
                </a:xfrm>
                <a:custGeom>
                  <a:avLst/>
                  <a:gdLst/>
                  <a:ahLst/>
                  <a:rect l="l" t="t" r="r" b="b"/>
                  <a:pathLst>
                    <a:path w="17" h="21">
                      <a:moveTo>
                        <a:pt x="0" y="21"/>
                      </a:moveTo>
                      <a:lnTo>
                        <a:pt x="0" y="0"/>
                      </a:lnTo>
                      <a:lnTo>
                        <a:pt x="7" y="0"/>
                      </a:lnTo>
                      <a:lnTo>
                        <a:pt x="13" y="3"/>
                      </a:lnTo>
                      <a:lnTo>
                        <a:pt x="17" y="9"/>
                      </a:lnTo>
                      <a:lnTo>
                        <a:pt x="17" y="18"/>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 name=""/>
                <p:cNvSpPr/>
                <p:nvPr/>
              </p:nvSpPr>
              <p:spPr>
                <a:xfrm>
                  <a:off x="8385120" y="2943360"/>
                  <a:ext cx="9720" cy="10800"/>
                </a:xfrm>
                <a:custGeom>
                  <a:avLst/>
                  <a:gdLst/>
                  <a:ahLst/>
                  <a:rect l="l" t="t" r="r" b="b"/>
                  <a:pathLst>
                    <a:path w="16" h="22">
                      <a:moveTo>
                        <a:pt x="0" y="22"/>
                      </a:moveTo>
                      <a:lnTo>
                        <a:pt x="0" y="0"/>
                      </a:lnTo>
                      <a:lnTo>
                        <a:pt x="16" y="13"/>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 name=""/>
                <p:cNvSpPr/>
                <p:nvPr/>
              </p:nvSpPr>
              <p:spPr>
                <a:xfrm>
                  <a:off x="8282160" y="2941560"/>
                  <a:ext cx="7920" cy="12600"/>
                </a:xfrm>
                <a:custGeom>
                  <a:avLst/>
                  <a:gdLst/>
                  <a:ahLst/>
                  <a:rect l="l" t="t" r="r" b="b"/>
                  <a:pathLst>
                    <a:path w="15" h="24">
                      <a:moveTo>
                        <a:pt x="6" y="24"/>
                      </a:moveTo>
                      <a:lnTo>
                        <a:pt x="3" y="20"/>
                      </a:lnTo>
                      <a:lnTo>
                        <a:pt x="0" y="13"/>
                      </a:lnTo>
                      <a:lnTo>
                        <a:pt x="2" y="4"/>
                      </a:lnTo>
                      <a:lnTo>
                        <a:pt x="9" y="0"/>
                      </a:lnTo>
                      <a:lnTo>
                        <a:pt x="12" y="4"/>
                      </a:lnTo>
                      <a:lnTo>
                        <a:pt x="15" y="11"/>
                      </a:lnTo>
                      <a:lnTo>
                        <a:pt x="15" y="20"/>
                      </a:lnTo>
                      <a:lnTo>
                        <a:pt x="6"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7851600" y="2941560"/>
                  <a:ext cx="8280" cy="11160"/>
                </a:xfrm>
                <a:custGeom>
                  <a:avLst/>
                  <a:gdLst/>
                  <a:ahLst/>
                  <a:rect l="l" t="t" r="r" b="b"/>
                  <a:pathLst>
                    <a:path w="14" h="22">
                      <a:moveTo>
                        <a:pt x="3" y="22"/>
                      </a:moveTo>
                      <a:lnTo>
                        <a:pt x="0" y="3"/>
                      </a:lnTo>
                      <a:lnTo>
                        <a:pt x="7" y="0"/>
                      </a:lnTo>
                      <a:lnTo>
                        <a:pt x="13" y="4"/>
                      </a:lnTo>
                      <a:lnTo>
                        <a:pt x="14" y="11"/>
                      </a:lnTo>
                      <a:lnTo>
                        <a:pt x="13" y="20"/>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 name=""/>
                <p:cNvSpPr/>
                <p:nvPr/>
              </p:nvSpPr>
              <p:spPr>
                <a:xfrm>
                  <a:off x="8115480" y="2927520"/>
                  <a:ext cx="10800" cy="12600"/>
                </a:xfrm>
                <a:custGeom>
                  <a:avLst/>
                  <a:gdLst/>
                  <a:ahLst/>
                  <a:rect l="l" t="t" r="r" b="b"/>
                  <a:pathLst>
                    <a:path w="22" h="22">
                      <a:moveTo>
                        <a:pt x="12" y="22"/>
                      </a:moveTo>
                      <a:lnTo>
                        <a:pt x="0" y="0"/>
                      </a:lnTo>
                      <a:lnTo>
                        <a:pt x="22" y="6"/>
                      </a:lnTo>
                      <a:lnTo>
                        <a:pt x="1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 name=""/>
                <p:cNvSpPr/>
                <p:nvPr/>
              </p:nvSpPr>
              <p:spPr>
                <a:xfrm>
                  <a:off x="8191440" y="2914560"/>
                  <a:ext cx="9720" cy="11160"/>
                </a:xfrm>
                <a:custGeom>
                  <a:avLst/>
                  <a:gdLst/>
                  <a:ahLst/>
                  <a:rect l="l" t="t" r="r" b="b"/>
                  <a:pathLst>
                    <a:path w="16" h="21">
                      <a:moveTo>
                        <a:pt x="4" y="21"/>
                      </a:moveTo>
                      <a:lnTo>
                        <a:pt x="0" y="2"/>
                      </a:lnTo>
                      <a:lnTo>
                        <a:pt x="7" y="0"/>
                      </a:lnTo>
                      <a:lnTo>
                        <a:pt x="13" y="5"/>
                      </a:lnTo>
                      <a:lnTo>
                        <a:pt x="16" y="10"/>
                      </a:lnTo>
                      <a:lnTo>
                        <a:pt x="13" y="21"/>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 name=""/>
                <p:cNvSpPr/>
                <p:nvPr/>
              </p:nvSpPr>
              <p:spPr>
                <a:xfrm>
                  <a:off x="7254720" y="2919240"/>
                  <a:ext cx="11160" cy="11160"/>
                </a:xfrm>
                <a:custGeom>
                  <a:avLst/>
                  <a:gdLst/>
                  <a:ahLst/>
                  <a:rect l="l" t="t" r="r" b="b"/>
                  <a:pathLst>
                    <a:path w="22" h="23">
                      <a:moveTo>
                        <a:pt x="12" y="23"/>
                      </a:moveTo>
                      <a:lnTo>
                        <a:pt x="5" y="22"/>
                      </a:lnTo>
                      <a:lnTo>
                        <a:pt x="2" y="16"/>
                      </a:lnTo>
                      <a:lnTo>
                        <a:pt x="2" y="9"/>
                      </a:lnTo>
                      <a:lnTo>
                        <a:pt x="0" y="0"/>
                      </a:lnTo>
                      <a:lnTo>
                        <a:pt x="22" y="6"/>
                      </a:lnTo>
                      <a:lnTo>
                        <a:pt x="12"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 name=""/>
                <p:cNvSpPr/>
                <p:nvPr/>
              </p:nvSpPr>
              <p:spPr>
                <a:xfrm>
                  <a:off x="7170840" y="2911320"/>
                  <a:ext cx="12600" cy="12960"/>
                </a:xfrm>
                <a:custGeom>
                  <a:avLst/>
                  <a:gdLst/>
                  <a:ahLst/>
                  <a:rect l="l" t="t" r="r" b="b"/>
                  <a:pathLst>
                    <a:path w="24" h="22">
                      <a:moveTo>
                        <a:pt x="8" y="22"/>
                      </a:moveTo>
                      <a:lnTo>
                        <a:pt x="0" y="0"/>
                      </a:lnTo>
                      <a:lnTo>
                        <a:pt x="24" y="9"/>
                      </a:lnTo>
                      <a:lnTo>
                        <a:pt x="8"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 name=""/>
                <p:cNvSpPr/>
                <p:nvPr/>
              </p:nvSpPr>
              <p:spPr>
                <a:xfrm>
                  <a:off x="8267760" y="2886120"/>
                  <a:ext cx="9360" cy="7920"/>
                </a:xfrm>
                <a:custGeom>
                  <a:avLst/>
                  <a:gdLst/>
                  <a:ahLst/>
                  <a:rect l="l" t="t" r="r" b="b"/>
                  <a:pathLst>
                    <a:path w="19" h="16">
                      <a:moveTo>
                        <a:pt x="0" y="16"/>
                      </a:moveTo>
                      <a:lnTo>
                        <a:pt x="6" y="0"/>
                      </a:lnTo>
                      <a:lnTo>
                        <a:pt x="19" y="16"/>
                      </a:lnTo>
                      <a:lnTo>
                        <a:pt x="0"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 name=""/>
                <p:cNvSpPr/>
                <p:nvPr/>
              </p:nvSpPr>
              <p:spPr>
                <a:xfrm>
                  <a:off x="7012080" y="2900520"/>
                  <a:ext cx="11160" cy="9360"/>
                </a:xfrm>
                <a:custGeom>
                  <a:avLst/>
                  <a:gdLst/>
                  <a:ahLst/>
                  <a:rect l="l" t="t" r="r" b="b"/>
                  <a:pathLst>
                    <a:path w="22" h="20">
                      <a:moveTo>
                        <a:pt x="3" y="19"/>
                      </a:moveTo>
                      <a:lnTo>
                        <a:pt x="0" y="0"/>
                      </a:lnTo>
                      <a:lnTo>
                        <a:pt x="22" y="1"/>
                      </a:lnTo>
                      <a:lnTo>
                        <a:pt x="22" y="10"/>
                      </a:lnTo>
                      <a:lnTo>
                        <a:pt x="19" y="16"/>
                      </a:lnTo>
                      <a:lnTo>
                        <a:pt x="13" y="20"/>
                      </a:lnTo>
                      <a:lnTo>
                        <a:pt x="3"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 name=""/>
                <p:cNvSpPr/>
                <p:nvPr/>
              </p:nvSpPr>
              <p:spPr>
                <a:xfrm>
                  <a:off x="8331120" y="2876400"/>
                  <a:ext cx="9720" cy="16200"/>
                </a:xfrm>
                <a:custGeom>
                  <a:avLst/>
                  <a:gdLst/>
                  <a:ahLst/>
                  <a:rect l="l" t="t" r="r" b="b"/>
                  <a:pathLst>
                    <a:path w="20" h="28">
                      <a:moveTo>
                        <a:pt x="14" y="28"/>
                      </a:moveTo>
                      <a:lnTo>
                        <a:pt x="4" y="24"/>
                      </a:lnTo>
                      <a:lnTo>
                        <a:pt x="0" y="17"/>
                      </a:lnTo>
                      <a:lnTo>
                        <a:pt x="1" y="10"/>
                      </a:lnTo>
                      <a:lnTo>
                        <a:pt x="5" y="2"/>
                      </a:lnTo>
                      <a:lnTo>
                        <a:pt x="13" y="0"/>
                      </a:lnTo>
                      <a:lnTo>
                        <a:pt x="17" y="5"/>
                      </a:lnTo>
                      <a:lnTo>
                        <a:pt x="20" y="14"/>
                      </a:lnTo>
                      <a:lnTo>
                        <a:pt x="20" y="23"/>
                      </a:lnTo>
                      <a:lnTo>
                        <a:pt x="14" y="2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 name=""/>
                <p:cNvSpPr/>
                <p:nvPr/>
              </p:nvSpPr>
              <p:spPr>
                <a:xfrm>
                  <a:off x="8109000" y="2874960"/>
                  <a:ext cx="9360" cy="11160"/>
                </a:xfrm>
                <a:custGeom>
                  <a:avLst/>
                  <a:gdLst/>
                  <a:ahLst/>
                  <a:rect l="l" t="t" r="r" b="b"/>
                  <a:pathLst>
                    <a:path w="17" h="23">
                      <a:moveTo>
                        <a:pt x="11" y="23"/>
                      </a:moveTo>
                      <a:lnTo>
                        <a:pt x="3" y="20"/>
                      </a:lnTo>
                      <a:lnTo>
                        <a:pt x="0" y="13"/>
                      </a:lnTo>
                      <a:lnTo>
                        <a:pt x="3" y="5"/>
                      </a:lnTo>
                      <a:lnTo>
                        <a:pt x="10" y="0"/>
                      </a:lnTo>
                      <a:lnTo>
                        <a:pt x="14" y="3"/>
                      </a:lnTo>
                      <a:lnTo>
                        <a:pt x="17" y="12"/>
                      </a:lnTo>
                      <a:lnTo>
                        <a:pt x="17" y="19"/>
                      </a:lnTo>
                      <a:lnTo>
                        <a:pt x="11"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 name=""/>
                <p:cNvSpPr/>
                <p:nvPr/>
              </p:nvSpPr>
              <p:spPr>
                <a:xfrm>
                  <a:off x="7956720" y="2873520"/>
                  <a:ext cx="7920" cy="10800"/>
                </a:xfrm>
                <a:custGeom>
                  <a:avLst/>
                  <a:gdLst/>
                  <a:ahLst/>
                  <a:rect l="l" t="t" r="r" b="b"/>
                  <a:pathLst>
                    <a:path w="16" h="23">
                      <a:moveTo>
                        <a:pt x="0" y="23"/>
                      </a:moveTo>
                      <a:lnTo>
                        <a:pt x="0" y="0"/>
                      </a:lnTo>
                      <a:lnTo>
                        <a:pt x="16" y="10"/>
                      </a:lnTo>
                      <a:lnTo>
                        <a:pt x="0"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 name=""/>
                <p:cNvSpPr/>
                <p:nvPr/>
              </p:nvSpPr>
              <p:spPr>
                <a:xfrm>
                  <a:off x="8393040" y="2863800"/>
                  <a:ext cx="7920" cy="11160"/>
                </a:xfrm>
                <a:custGeom>
                  <a:avLst/>
                  <a:gdLst/>
                  <a:ahLst/>
                  <a:rect l="l" t="t" r="r" b="b"/>
                  <a:pathLst>
                    <a:path w="16" h="21">
                      <a:moveTo>
                        <a:pt x="2" y="21"/>
                      </a:moveTo>
                      <a:lnTo>
                        <a:pt x="0" y="2"/>
                      </a:lnTo>
                      <a:lnTo>
                        <a:pt x="7" y="0"/>
                      </a:lnTo>
                      <a:lnTo>
                        <a:pt x="13" y="3"/>
                      </a:lnTo>
                      <a:lnTo>
                        <a:pt x="16" y="11"/>
                      </a:lnTo>
                      <a:lnTo>
                        <a:pt x="16" y="21"/>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 name=""/>
                <p:cNvSpPr/>
                <p:nvPr/>
              </p:nvSpPr>
              <p:spPr>
                <a:xfrm>
                  <a:off x="7877160" y="2867040"/>
                  <a:ext cx="7920" cy="11160"/>
                </a:xfrm>
                <a:custGeom>
                  <a:avLst/>
                  <a:gdLst/>
                  <a:ahLst/>
                  <a:rect l="l" t="t" r="r" b="b"/>
                  <a:pathLst>
                    <a:path w="16" h="21">
                      <a:moveTo>
                        <a:pt x="3" y="21"/>
                      </a:moveTo>
                      <a:lnTo>
                        <a:pt x="0" y="0"/>
                      </a:lnTo>
                      <a:lnTo>
                        <a:pt x="10" y="0"/>
                      </a:lnTo>
                      <a:lnTo>
                        <a:pt x="15" y="4"/>
                      </a:lnTo>
                      <a:lnTo>
                        <a:pt x="16" y="11"/>
                      </a:lnTo>
                      <a:lnTo>
                        <a:pt x="16"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8040600" y="2862360"/>
                  <a:ext cx="7920" cy="9360"/>
                </a:xfrm>
                <a:custGeom>
                  <a:avLst/>
                  <a:gdLst/>
                  <a:ahLst/>
                  <a:rect l="l" t="t" r="r" b="b"/>
                  <a:pathLst>
                    <a:path w="13" h="20">
                      <a:moveTo>
                        <a:pt x="0" y="20"/>
                      </a:moveTo>
                      <a:lnTo>
                        <a:pt x="0" y="0"/>
                      </a:lnTo>
                      <a:lnTo>
                        <a:pt x="7" y="1"/>
                      </a:lnTo>
                      <a:lnTo>
                        <a:pt x="12" y="5"/>
                      </a:lnTo>
                      <a:lnTo>
                        <a:pt x="13" y="13"/>
                      </a:lnTo>
                      <a:lnTo>
                        <a:pt x="10" y="20"/>
                      </a:lnTo>
                      <a:lnTo>
                        <a:pt x="0"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 name=""/>
                <p:cNvSpPr/>
                <p:nvPr/>
              </p:nvSpPr>
              <p:spPr>
                <a:xfrm>
                  <a:off x="7095960" y="2852640"/>
                  <a:ext cx="11160" cy="11160"/>
                </a:xfrm>
                <a:custGeom>
                  <a:avLst/>
                  <a:gdLst/>
                  <a:ahLst/>
                  <a:rect l="l" t="t" r="r" b="b"/>
                  <a:pathLst>
                    <a:path w="20" h="21">
                      <a:moveTo>
                        <a:pt x="4" y="21"/>
                      </a:moveTo>
                      <a:lnTo>
                        <a:pt x="0" y="0"/>
                      </a:lnTo>
                      <a:lnTo>
                        <a:pt x="7" y="0"/>
                      </a:lnTo>
                      <a:lnTo>
                        <a:pt x="16" y="3"/>
                      </a:lnTo>
                      <a:lnTo>
                        <a:pt x="20" y="10"/>
                      </a:lnTo>
                      <a:lnTo>
                        <a:pt x="17" y="19"/>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 name=""/>
                <p:cNvSpPr/>
                <p:nvPr/>
              </p:nvSpPr>
              <p:spPr>
                <a:xfrm>
                  <a:off x="7331040" y="2835360"/>
                  <a:ext cx="12600" cy="9360"/>
                </a:xfrm>
                <a:custGeom>
                  <a:avLst/>
                  <a:gdLst/>
                  <a:ahLst/>
                  <a:rect l="l" t="t" r="r" b="b"/>
                  <a:pathLst>
                    <a:path w="24" h="17">
                      <a:moveTo>
                        <a:pt x="1" y="17"/>
                      </a:moveTo>
                      <a:lnTo>
                        <a:pt x="0" y="0"/>
                      </a:lnTo>
                      <a:lnTo>
                        <a:pt x="7" y="0"/>
                      </a:lnTo>
                      <a:lnTo>
                        <a:pt x="14" y="1"/>
                      </a:lnTo>
                      <a:lnTo>
                        <a:pt x="21" y="4"/>
                      </a:lnTo>
                      <a:lnTo>
                        <a:pt x="24" y="10"/>
                      </a:lnTo>
                      <a:lnTo>
                        <a:pt x="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2" name=""/>
                <p:cNvSpPr/>
                <p:nvPr/>
              </p:nvSpPr>
              <p:spPr>
                <a:xfrm>
                  <a:off x="8318520" y="2817720"/>
                  <a:ext cx="11160" cy="11160"/>
                </a:xfrm>
                <a:custGeom>
                  <a:avLst/>
                  <a:gdLst/>
                  <a:ahLst/>
                  <a:rect l="l" t="t" r="r" b="b"/>
                  <a:pathLst>
                    <a:path w="19" h="23">
                      <a:moveTo>
                        <a:pt x="7" y="23"/>
                      </a:moveTo>
                      <a:lnTo>
                        <a:pt x="3" y="20"/>
                      </a:lnTo>
                      <a:lnTo>
                        <a:pt x="0" y="13"/>
                      </a:lnTo>
                      <a:lnTo>
                        <a:pt x="0" y="4"/>
                      </a:lnTo>
                      <a:lnTo>
                        <a:pt x="9" y="0"/>
                      </a:lnTo>
                      <a:lnTo>
                        <a:pt x="13" y="4"/>
                      </a:lnTo>
                      <a:lnTo>
                        <a:pt x="19" y="13"/>
                      </a:lnTo>
                      <a:lnTo>
                        <a:pt x="19" y="22"/>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 name=""/>
                <p:cNvSpPr/>
                <p:nvPr/>
              </p:nvSpPr>
              <p:spPr>
                <a:xfrm>
                  <a:off x="8220240" y="2817720"/>
                  <a:ext cx="10800" cy="11160"/>
                </a:xfrm>
                <a:custGeom>
                  <a:avLst/>
                  <a:gdLst/>
                  <a:ahLst/>
                  <a:rect l="l" t="t" r="r" b="b"/>
                  <a:pathLst>
                    <a:path w="22" h="23">
                      <a:moveTo>
                        <a:pt x="13" y="23"/>
                      </a:moveTo>
                      <a:lnTo>
                        <a:pt x="4" y="20"/>
                      </a:lnTo>
                      <a:lnTo>
                        <a:pt x="0" y="11"/>
                      </a:lnTo>
                      <a:lnTo>
                        <a:pt x="3" y="4"/>
                      </a:lnTo>
                      <a:lnTo>
                        <a:pt x="10" y="0"/>
                      </a:lnTo>
                      <a:lnTo>
                        <a:pt x="17" y="3"/>
                      </a:lnTo>
                      <a:lnTo>
                        <a:pt x="22" y="11"/>
                      </a:lnTo>
                      <a:lnTo>
                        <a:pt x="22" y="19"/>
                      </a:lnTo>
                      <a:lnTo>
                        <a:pt x="1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 name=""/>
                <p:cNvSpPr/>
                <p:nvPr/>
              </p:nvSpPr>
              <p:spPr>
                <a:xfrm>
                  <a:off x="7211880" y="2830680"/>
                  <a:ext cx="9720" cy="9360"/>
                </a:xfrm>
                <a:custGeom>
                  <a:avLst/>
                  <a:gdLst/>
                  <a:ahLst/>
                  <a:rect l="l" t="t" r="r" b="b"/>
                  <a:pathLst>
                    <a:path w="18" h="19">
                      <a:moveTo>
                        <a:pt x="2" y="19"/>
                      </a:moveTo>
                      <a:lnTo>
                        <a:pt x="0" y="2"/>
                      </a:lnTo>
                      <a:lnTo>
                        <a:pt x="8" y="0"/>
                      </a:lnTo>
                      <a:lnTo>
                        <a:pt x="14" y="3"/>
                      </a:lnTo>
                      <a:lnTo>
                        <a:pt x="18" y="11"/>
                      </a:lnTo>
                      <a:lnTo>
                        <a:pt x="16" y="19"/>
                      </a:lnTo>
                      <a:lnTo>
                        <a:pt x="2"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 name=""/>
                <p:cNvSpPr/>
                <p:nvPr/>
              </p:nvSpPr>
              <p:spPr>
                <a:xfrm>
                  <a:off x="8416800" y="2808360"/>
                  <a:ext cx="9720" cy="15840"/>
                </a:xfrm>
                <a:custGeom>
                  <a:avLst/>
                  <a:gdLst/>
                  <a:ahLst/>
                  <a:rect l="l" t="t" r="r" b="b"/>
                  <a:pathLst>
                    <a:path w="18" h="32">
                      <a:moveTo>
                        <a:pt x="12" y="32"/>
                      </a:moveTo>
                      <a:lnTo>
                        <a:pt x="0" y="24"/>
                      </a:lnTo>
                      <a:lnTo>
                        <a:pt x="0" y="16"/>
                      </a:lnTo>
                      <a:lnTo>
                        <a:pt x="2" y="11"/>
                      </a:lnTo>
                      <a:lnTo>
                        <a:pt x="6" y="5"/>
                      </a:lnTo>
                      <a:lnTo>
                        <a:pt x="16" y="0"/>
                      </a:lnTo>
                      <a:lnTo>
                        <a:pt x="18" y="8"/>
                      </a:lnTo>
                      <a:lnTo>
                        <a:pt x="18" y="15"/>
                      </a:lnTo>
                      <a:lnTo>
                        <a:pt x="15" y="22"/>
                      </a:lnTo>
                      <a:lnTo>
                        <a:pt x="12" y="32"/>
                      </a:lnTo>
                      <a:close/>
                    </a:path>
                  </a:pathLst>
                </a:custGeom>
                <a:solidFill>
                  <a:srgbClr val="6619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6" name=""/>
                <p:cNvSpPr/>
                <p:nvPr/>
              </p:nvSpPr>
              <p:spPr>
                <a:xfrm>
                  <a:off x="7008840" y="2822400"/>
                  <a:ext cx="11160" cy="11160"/>
                </a:xfrm>
                <a:custGeom>
                  <a:avLst/>
                  <a:gdLst/>
                  <a:ahLst/>
                  <a:rect l="l" t="t" r="r" b="b"/>
                  <a:pathLst>
                    <a:path w="22" h="19">
                      <a:moveTo>
                        <a:pt x="9" y="19"/>
                      </a:moveTo>
                      <a:lnTo>
                        <a:pt x="0" y="5"/>
                      </a:lnTo>
                      <a:lnTo>
                        <a:pt x="9" y="0"/>
                      </a:lnTo>
                      <a:lnTo>
                        <a:pt x="16" y="0"/>
                      </a:lnTo>
                      <a:lnTo>
                        <a:pt x="21" y="6"/>
                      </a:lnTo>
                      <a:lnTo>
                        <a:pt x="22" y="15"/>
                      </a:lnTo>
                      <a:lnTo>
                        <a:pt x="9"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 name=""/>
                <p:cNvSpPr/>
                <p:nvPr/>
              </p:nvSpPr>
              <p:spPr>
                <a:xfrm>
                  <a:off x="7140600" y="1906560"/>
                  <a:ext cx="1285920" cy="903240"/>
                </a:xfrm>
                <a:custGeom>
                  <a:avLst/>
                  <a:gdLst/>
                  <a:ahLst/>
                  <a:rect l="l" t="t" r="r" b="b"/>
                  <a:pathLst>
                    <a:path w="2431" h="1708">
                      <a:moveTo>
                        <a:pt x="2374" y="1708"/>
                      </a:moveTo>
                      <a:lnTo>
                        <a:pt x="2366" y="1698"/>
                      </a:lnTo>
                      <a:lnTo>
                        <a:pt x="2370" y="1688"/>
                      </a:lnTo>
                      <a:lnTo>
                        <a:pt x="2376" y="1679"/>
                      </a:lnTo>
                      <a:lnTo>
                        <a:pt x="2383" y="1670"/>
                      </a:lnTo>
                      <a:lnTo>
                        <a:pt x="2390" y="1662"/>
                      </a:lnTo>
                      <a:lnTo>
                        <a:pt x="2398" y="1651"/>
                      </a:lnTo>
                      <a:lnTo>
                        <a:pt x="2405" y="1643"/>
                      </a:lnTo>
                      <a:lnTo>
                        <a:pt x="2412" y="1633"/>
                      </a:lnTo>
                      <a:lnTo>
                        <a:pt x="2418" y="1621"/>
                      </a:lnTo>
                      <a:lnTo>
                        <a:pt x="2415" y="1612"/>
                      </a:lnTo>
                      <a:lnTo>
                        <a:pt x="2405" y="1607"/>
                      </a:lnTo>
                      <a:lnTo>
                        <a:pt x="2395" y="1612"/>
                      </a:lnTo>
                      <a:lnTo>
                        <a:pt x="2387" y="1620"/>
                      </a:lnTo>
                      <a:lnTo>
                        <a:pt x="2382" y="1628"/>
                      </a:lnTo>
                      <a:lnTo>
                        <a:pt x="2374" y="1637"/>
                      </a:lnTo>
                      <a:lnTo>
                        <a:pt x="2369" y="1647"/>
                      </a:lnTo>
                      <a:lnTo>
                        <a:pt x="2363" y="1657"/>
                      </a:lnTo>
                      <a:lnTo>
                        <a:pt x="2356" y="1666"/>
                      </a:lnTo>
                      <a:lnTo>
                        <a:pt x="2347" y="1675"/>
                      </a:lnTo>
                      <a:lnTo>
                        <a:pt x="2338" y="1683"/>
                      </a:lnTo>
                      <a:lnTo>
                        <a:pt x="2314" y="1667"/>
                      </a:lnTo>
                      <a:lnTo>
                        <a:pt x="2322" y="1657"/>
                      </a:lnTo>
                      <a:lnTo>
                        <a:pt x="2332" y="1647"/>
                      </a:lnTo>
                      <a:lnTo>
                        <a:pt x="2341" y="1637"/>
                      </a:lnTo>
                      <a:lnTo>
                        <a:pt x="2350" y="1625"/>
                      </a:lnTo>
                      <a:lnTo>
                        <a:pt x="2360" y="1614"/>
                      </a:lnTo>
                      <a:lnTo>
                        <a:pt x="2367" y="1602"/>
                      </a:lnTo>
                      <a:lnTo>
                        <a:pt x="2374" y="1591"/>
                      </a:lnTo>
                      <a:lnTo>
                        <a:pt x="2382" y="1578"/>
                      </a:lnTo>
                      <a:lnTo>
                        <a:pt x="2380" y="1565"/>
                      </a:lnTo>
                      <a:lnTo>
                        <a:pt x="2359" y="1563"/>
                      </a:lnTo>
                      <a:lnTo>
                        <a:pt x="2353" y="1575"/>
                      </a:lnTo>
                      <a:lnTo>
                        <a:pt x="2347" y="1585"/>
                      </a:lnTo>
                      <a:lnTo>
                        <a:pt x="2340" y="1595"/>
                      </a:lnTo>
                      <a:lnTo>
                        <a:pt x="2331" y="1604"/>
                      </a:lnTo>
                      <a:lnTo>
                        <a:pt x="2322" y="1615"/>
                      </a:lnTo>
                      <a:lnTo>
                        <a:pt x="2314" y="1625"/>
                      </a:lnTo>
                      <a:lnTo>
                        <a:pt x="2305" y="1637"/>
                      </a:lnTo>
                      <a:lnTo>
                        <a:pt x="2296" y="1650"/>
                      </a:lnTo>
                      <a:lnTo>
                        <a:pt x="2304" y="1662"/>
                      </a:lnTo>
                      <a:lnTo>
                        <a:pt x="2292" y="1657"/>
                      </a:lnTo>
                      <a:lnTo>
                        <a:pt x="2280" y="1651"/>
                      </a:lnTo>
                      <a:lnTo>
                        <a:pt x="2270" y="1646"/>
                      </a:lnTo>
                      <a:lnTo>
                        <a:pt x="2259" y="1640"/>
                      </a:lnTo>
                      <a:lnTo>
                        <a:pt x="2249" y="1634"/>
                      </a:lnTo>
                      <a:lnTo>
                        <a:pt x="2238" y="1627"/>
                      </a:lnTo>
                      <a:lnTo>
                        <a:pt x="2228" y="1618"/>
                      </a:lnTo>
                      <a:lnTo>
                        <a:pt x="2218" y="1610"/>
                      </a:lnTo>
                      <a:lnTo>
                        <a:pt x="2230" y="1599"/>
                      </a:lnTo>
                      <a:lnTo>
                        <a:pt x="2234" y="1589"/>
                      </a:lnTo>
                      <a:lnTo>
                        <a:pt x="2240" y="1584"/>
                      </a:lnTo>
                      <a:lnTo>
                        <a:pt x="2247" y="1576"/>
                      </a:lnTo>
                      <a:lnTo>
                        <a:pt x="2250" y="1566"/>
                      </a:lnTo>
                      <a:lnTo>
                        <a:pt x="2254" y="1555"/>
                      </a:lnTo>
                      <a:lnTo>
                        <a:pt x="2263" y="1542"/>
                      </a:lnTo>
                      <a:lnTo>
                        <a:pt x="2273" y="1529"/>
                      </a:lnTo>
                      <a:lnTo>
                        <a:pt x="2282" y="1513"/>
                      </a:lnTo>
                      <a:lnTo>
                        <a:pt x="2266" y="1501"/>
                      </a:lnTo>
                      <a:lnTo>
                        <a:pt x="2257" y="1511"/>
                      </a:lnTo>
                      <a:lnTo>
                        <a:pt x="2247" y="1521"/>
                      </a:lnTo>
                      <a:lnTo>
                        <a:pt x="2238" y="1533"/>
                      </a:lnTo>
                      <a:lnTo>
                        <a:pt x="2230" y="1543"/>
                      </a:lnTo>
                      <a:lnTo>
                        <a:pt x="2223" y="1556"/>
                      </a:lnTo>
                      <a:lnTo>
                        <a:pt x="2214" y="1568"/>
                      </a:lnTo>
                      <a:lnTo>
                        <a:pt x="2207" y="1581"/>
                      </a:lnTo>
                      <a:lnTo>
                        <a:pt x="2201" y="1595"/>
                      </a:lnTo>
                      <a:lnTo>
                        <a:pt x="2195" y="1599"/>
                      </a:lnTo>
                      <a:lnTo>
                        <a:pt x="2185" y="1597"/>
                      </a:lnTo>
                      <a:lnTo>
                        <a:pt x="2178" y="1594"/>
                      </a:lnTo>
                      <a:lnTo>
                        <a:pt x="2172" y="1588"/>
                      </a:lnTo>
                      <a:lnTo>
                        <a:pt x="2168" y="1579"/>
                      </a:lnTo>
                      <a:lnTo>
                        <a:pt x="2173" y="1566"/>
                      </a:lnTo>
                      <a:lnTo>
                        <a:pt x="2181" y="1555"/>
                      </a:lnTo>
                      <a:lnTo>
                        <a:pt x="2189" y="1543"/>
                      </a:lnTo>
                      <a:lnTo>
                        <a:pt x="2198" y="1532"/>
                      </a:lnTo>
                      <a:lnTo>
                        <a:pt x="2208" y="1521"/>
                      </a:lnTo>
                      <a:lnTo>
                        <a:pt x="2217" y="1510"/>
                      </a:lnTo>
                      <a:lnTo>
                        <a:pt x="2225" y="1497"/>
                      </a:lnTo>
                      <a:lnTo>
                        <a:pt x="2233" y="1484"/>
                      </a:lnTo>
                      <a:lnTo>
                        <a:pt x="2224" y="1475"/>
                      </a:lnTo>
                      <a:lnTo>
                        <a:pt x="2215" y="1475"/>
                      </a:lnTo>
                      <a:lnTo>
                        <a:pt x="2207" y="1485"/>
                      </a:lnTo>
                      <a:lnTo>
                        <a:pt x="2197" y="1497"/>
                      </a:lnTo>
                      <a:lnTo>
                        <a:pt x="2186" y="1507"/>
                      </a:lnTo>
                      <a:lnTo>
                        <a:pt x="2176" y="1519"/>
                      </a:lnTo>
                      <a:lnTo>
                        <a:pt x="2168" y="1530"/>
                      </a:lnTo>
                      <a:lnTo>
                        <a:pt x="2158" y="1542"/>
                      </a:lnTo>
                      <a:lnTo>
                        <a:pt x="2147" y="1553"/>
                      </a:lnTo>
                      <a:lnTo>
                        <a:pt x="2137" y="1566"/>
                      </a:lnTo>
                      <a:lnTo>
                        <a:pt x="2131" y="1563"/>
                      </a:lnTo>
                      <a:lnTo>
                        <a:pt x="2124" y="1560"/>
                      </a:lnTo>
                      <a:lnTo>
                        <a:pt x="2118" y="1556"/>
                      </a:lnTo>
                      <a:lnTo>
                        <a:pt x="2113" y="1549"/>
                      </a:lnTo>
                      <a:lnTo>
                        <a:pt x="2118" y="1542"/>
                      </a:lnTo>
                      <a:lnTo>
                        <a:pt x="2123" y="1533"/>
                      </a:lnTo>
                      <a:lnTo>
                        <a:pt x="2129" y="1526"/>
                      </a:lnTo>
                      <a:lnTo>
                        <a:pt x="2133" y="1517"/>
                      </a:lnTo>
                      <a:lnTo>
                        <a:pt x="2139" y="1508"/>
                      </a:lnTo>
                      <a:lnTo>
                        <a:pt x="2145" y="1500"/>
                      </a:lnTo>
                      <a:lnTo>
                        <a:pt x="2150" y="1493"/>
                      </a:lnTo>
                      <a:lnTo>
                        <a:pt x="2159" y="1484"/>
                      </a:lnTo>
                      <a:lnTo>
                        <a:pt x="2162" y="1478"/>
                      </a:lnTo>
                      <a:lnTo>
                        <a:pt x="2168" y="1471"/>
                      </a:lnTo>
                      <a:lnTo>
                        <a:pt x="2172" y="1464"/>
                      </a:lnTo>
                      <a:lnTo>
                        <a:pt x="2176" y="1454"/>
                      </a:lnTo>
                      <a:lnTo>
                        <a:pt x="2172" y="1442"/>
                      </a:lnTo>
                      <a:lnTo>
                        <a:pt x="2160" y="1442"/>
                      </a:lnTo>
                      <a:lnTo>
                        <a:pt x="2150" y="1452"/>
                      </a:lnTo>
                      <a:lnTo>
                        <a:pt x="2140" y="1464"/>
                      </a:lnTo>
                      <a:lnTo>
                        <a:pt x="2131" y="1475"/>
                      </a:lnTo>
                      <a:lnTo>
                        <a:pt x="2123" y="1487"/>
                      </a:lnTo>
                      <a:lnTo>
                        <a:pt x="2114" y="1498"/>
                      </a:lnTo>
                      <a:lnTo>
                        <a:pt x="2107" y="1510"/>
                      </a:lnTo>
                      <a:lnTo>
                        <a:pt x="2100" y="1521"/>
                      </a:lnTo>
                      <a:lnTo>
                        <a:pt x="2091" y="1533"/>
                      </a:lnTo>
                      <a:lnTo>
                        <a:pt x="2082" y="1532"/>
                      </a:lnTo>
                      <a:lnTo>
                        <a:pt x="2075" y="1529"/>
                      </a:lnTo>
                      <a:lnTo>
                        <a:pt x="2069" y="1523"/>
                      </a:lnTo>
                      <a:lnTo>
                        <a:pt x="2065" y="1513"/>
                      </a:lnTo>
                      <a:lnTo>
                        <a:pt x="2071" y="1503"/>
                      </a:lnTo>
                      <a:lnTo>
                        <a:pt x="2077" y="1493"/>
                      </a:lnTo>
                      <a:lnTo>
                        <a:pt x="2085" y="1484"/>
                      </a:lnTo>
                      <a:lnTo>
                        <a:pt x="2092" y="1474"/>
                      </a:lnTo>
                      <a:lnTo>
                        <a:pt x="2100" y="1464"/>
                      </a:lnTo>
                      <a:lnTo>
                        <a:pt x="2107" y="1452"/>
                      </a:lnTo>
                      <a:lnTo>
                        <a:pt x="2113" y="1441"/>
                      </a:lnTo>
                      <a:lnTo>
                        <a:pt x="2118" y="1428"/>
                      </a:lnTo>
                      <a:lnTo>
                        <a:pt x="2110" y="1419"/>
                      </a:lnTo>
                      <a:lnTo>
                        <a:pt x="2098" y="1426"/>
                      </a:lnTo>
                      <a:lnTo>
                        <a:pt x="2088" y="1436"/>
                      </a:lnTo>
                      <a:lnTo>
                        <a:pt x="2079" y="1446"/>
                      </a:lnTo>
                      <a:lnTo>
                        <a:pt x="2072" y="1458"/>
                      </a:lnTo>
                      <a:lnTo>
                        <a:pt x="2064" y="1471"/>
                      </a:lnTo>
                      <a:lnTo>
                        <a:pt x="2055" y="1482"/>
                      </a:lnTo>
                      <a:lnTo>
                        <a:pt x="2046" y="1494"/>
                      </a:lnTo>
                      <a:lnTo>
                        <a:pt x="2037" y="1506"/>
                      </a:lnTo>
                      <a:lnTo>
                        <a:pt x="2030" y="1504"/>
                      </a:lnTo>
                      <a:lnTo>
                        <a:pt x="2026" y="1498"/>
                      </a:lnTo>
                      <a:lnTo>
                        <a:pt x="2019" y="1491"/>
                      </a:lnTo>
                      <a:lnTo>
                        <a:pt x="2009" y="1488"/>
                      </a:lnTo>
                      <a:lnTo>
                        <a:pt x="2009" y="1478"/>
                      </a:lnTo>
                      <a:lnTo>
                        <a:pt x="2016" y="1468"/>
                      </a:lnTo>
                      <a:lnTo>
                        <a:pt x="2023" y="1459"/>
                      </a:lnTo>
                      <a:lnTo>
                        <a:pt x="2030" y="1449"/>
                      </a:lnTo>
                      <a:lnTo>
                        <a:pt x="2037" y="1439"/>
                      </a:lnTo>
                      <a:lnTo>
                        <a:pt x="2043" y="1429"/>
                      </a:lnTo>
                      <a:lnTo>
                        <a:pt x="2051" y="1419"/>
                      </a:lnTo>
                      <a:lnTo>
                        <a:pt x="2056" y="1407"/>
                      </a:lnTo>
                      <a:lnTo>
                        <a:pt x="2064" y="1394"/>
                      </a:lnTo>
                      <a:lnTo>
                        <a:pt x="2056" y="1384"/>
                      </a:lnTo>
                      <a:lnTo>
                        <a:pt x="2045" y="1389"/>
                      </a:lnTo>
                      <a:lnTo>
                        <a:pt x="2036" y="1397"/>
                      </a:lnTo>
                      <a:lnTo>
                        <a:pt x="2030" y="1407"/>
                      </a:lnTo>
                      <a:lnTo>
                        <a:pt x="2023" y="1416"/>
                      </a:lnTo>
                      <a:lnTo>
                        <a:pt x="2017" y="1426"/>
                      </a:lnTo>
                      <a:lnTo>
                        <a:pt x="2010" y="1438"/>
                      </a:lnTo>
                      <a:lnTo>
                        <a:pt x="2003" y="1448"/>
                      </a:lnTo>
                      <a:lnTo>
                        <a:pt x="1994" y="1459"/>
                      </a:lnTo>
                      <a:lnTo>
                        <a:pt x="1984" y="1469"/>
                      </a:lnTo>
                      <a:lnTo>
                        <a:pt x="1962" y="1455"/>
                      </a:lnTo>
                      <a:lnTo>
                        <a:pt x="1967" y="1445"/>
                      </a:lnTo>
                      <a:lnTo>
                        <a:pt x="1972" y="1436"/>
                      </a:lnTo>
                      <a:lnTo>
                        <a:pt x="1980" y="1428"/>
                      </a:lnTo>
                      <a:lnTo>
                        <a:pt x="1985" y="1419"/>
                      </a:lnTo>
                      <a:lnTo>
                        <a:pt x="1993" y="1410"/>
                      </a:lnTo>
                      <a:lnTo>
                        <a:pt x="2000" y="1402"/>
                      </a:lnTo>
                      <a:lnTo>
                        <a:pt x="2007" y="1393"/>
                      </a:lnTo>
                      <a:lnTo>
                        <a:pt x="2013" y="1383"/>
                      </a:lnTo>
                      <a:lnTo>
                        <a:pt x="2006" y="1364"/>
                      </a:lnTo>
                      <a:lnTo>
                        <a:pt x="1996" y="1371"/>
                      </a:lnTo>
                      <a:lnTo>
                        <a:pt x="1987" y="1378"/>
                      </a:lnTo>
                      <a:lnTo>
                        <a:pt x="1978" y="1389"/>
                      </a:lnTo>
                      <a:lnTo>
                        <a:pt x="1970" y="1399"/>
                      </a:lnTo>
                      <a:lnTo>
                        <a:pt x="1962" y="1410"/>
                      </a:lnTo>
                      <a:lnTo>
                        <a:pt x="1954" y="1420"/>
                      </a:lnTo>
                      <a:lnTo>
                        <a:pt x="1943" y="1430"/>
                      </a:lnTo>
                      <a:lnTo>
                        <a:pt x="1933" y="1439"/>
                      </a:lnTo>
                      <a:lnTo>
                        <a:pt x="1917" y="1420"/>
                      </a:lnTo>
                      <a:lnTo>
                        <a:pt x="1923" y="1410"/>
                      </a:lnTo>
                      <a:lnTo>
                        <a:pt x="1929" y="1402"/>
                      </a:lnTo>
                      <a:lnTo>
                        <a:pt x="1935" y="1393"/>
                      </a:lnTo>
                      <a:lnTo>
                        <a:pt x="1942" y="1384"/>
                      </a:lnTo>
                      <a:lnTo>
                        <a:pt x="1949" y="1374"/>
                      </a:lnTo>
                      <a:lnTo>
                        <a:pt x="1957" y="1364"/>
                      </a:lnTo>
                      <a:lnTo>
                        <a:pt x="1964" y="1354"/>
                      </a:lnTo>
                      <a:lnTo>
                        <a:pt x="1972" y="1341"/>
                      </a:lnTo>
                      <a:lnTo>
                        <a:pt x="1961" y="1329"/>
                      </a:lnTo>
                      <a:lnTo>
                        <a:pt x="1949" y="1332"/>
                      </a:lnTo>
                      <a:lnTo>
                        <a:pt x="1941" y="1341"/>
                      </a:lnTo>
                      <a:lnTo>
                        <a:pt x="1933" y="1350"/>
                      </a:lnTo>
                      <a:lnTo>
                        <a:pt x="1928" y="1360"/>
                      </a:lnTo>
                      <a:lnTo>
                        <a:pt x="1922" y="1370"/>
                      </a:lnTo>
                      <a:lnTo>
                        <a:pt x="1916" y="1380"/>
                      </a:lnTo>
                      <a:lnTo>
                        <a:pt x="1909" y="1389"/>
                      </a:lnTo>
                      <a:lnTo>
                        <a:pt x="1902" y="1399"/>
                      </a:lnTo>
                      <a:lnTo>
                        <a:pt x="1893" y="1409"/>
                      </a:lnTo>
                      <a:lnTo>
                        <a:pt x="1886" y="1404"/>
                      </a:lnTo>
                      <a:lnTo>
                        <a:pt x="1878" y="1399"/>
                      </a:lnTo>
                      <a:lnTo>
                        <a:pt x="1871" y="1394"/>
                      </a:lnTo>
                      <a:lnTo>
                        <a:pt x="1863" y="1387"/>
                      </a:lnTo>
                      <a:lnTo>
                        <a:pt x="1870" y="1380"/>
                      </a:lnTo>
                      <a:lnTo>
                        <a:pt x="1877" y="1373"/>
                      </a:lnTo>
                      <a:lnTo>
                        <a:pt x="1884" y="1364"/>
                      </a:lnTo>
                      <a:lnTo>
                        <a:pt x="1891" y="1357"/>
                      </a:lnTo>
                      <a:lnTo>
                        <a:pt x="1897" y="1348"/>
                      </a:lnTo>
                      <a:lnTo>
                        <a:pt x="1904" y="1339"/>
                      </a:lnTo>
                      <a:lnTo>
                        <a:pt x="1909" y="1332"/>
                      </a:lnTo>
                      <a:lnTo>
                        <a:pt x="1915" y="1323"/>
                      </a:lnTo>
                      <a:lnTo>
                        <a:pt x="1904" y="1306"/>
                      </a:lnTo>
                      <a:lnTo>
                        <a:pt x="1896" y="1312"/>
                      </a:lnTo>
                      <a:lnTo>
                        <a:pt x="1889" y="1319"/>
                      </a:lnTo>
                      <a:lnTo>
                        <a:pt x="1881" y="1328"/>
                      </a:lnTo>
                      <a:lnTo>
                        <a:pt x="1874" y="1336"/>
                      </a:lnTo>
                      <a:lnTo>
                        <a:pt x="1867" y="1345"/>
                      </a:lnTo>
                      <a:lnTo>
                        <a:pt x="1861" y="1355"/>
                      </a:lnTo>
                      <a:lnTo>
                        <a:pt x="1854" y="1365"/>
                      </a:lnTo>
                      <a:lnTo>
                        <a:pt x="1847" y="1374"/>
                      </a:lnTo>
                      <a:lnTo>
                        <a:pt x="1838" y="1371"/>
                      </a:lnTo>
                      <a:lnTo>
                        <a:pt x="1831" y="1367"/>
                      </a:lnTo>
                      <a:lnTo>
                        <a:pt x="1825" y="1363"/>
                      </a:lnTo>
                      <a:lnTo>
                        <a:pt x="1818" y="1354"/>
                      </a:lnTo>
                      <a:lnTo>
                        <a:pt x="1822" y="1345"/>
                      </a:lnTo>
                      <a:lnTo>
                        <a:pt x="1826" y="1338"/>
                      </a:lnTo>
                      <a:lnTo>
                        <a:pt x="1832" y="1331"/>
                      </a:lnTo>
                      <a:lnTo>
                        <a:pt x="1838" y="1323"/>
                      </a:lnTo>
                      <a:lnTo>
                        <a:pt x="1845" y="1318"/>
                      </a:lnTo>
                      <a:lnTo>
                        <a:pt x="1851" y="1309"/>
                      </a:lnTo>
                      <a:lnTo>
                        <a:pt x="1857" y="1302"/>
                      </a:lnTo>
                      <a:lnTo>
                        <a:pt x="1863" y="1293"/>
                      </a:lnTo>
                      <a:lnTo>
                        <a:pt x="1855" y="1282"/>
                      </a:lnTo>
                      <a:lnTo>
                        <a:pt x="1845" y="1282"/>
                      </a:lnTo>
                      <a:lnTo>
                        <a:pt x="1839" y="1286"/>
                      </a:lnTo>
                      <a:lnTo>
                        <a:pt x="1834" y="1293"/>
                      </a:lnTo>
                      <a:lnTo>
                        <a:pt x="1826" y="1300"/>
                      </a:lnTo>
                      <a:lnTo>
                        <a:pt x="1821" y="1308"/>
                      </a:lnTo>
                      <a:lnTo>
                        <a:pt x="1813" y="1316"/>
                      </a:lnTo>
                      <a:lnTo>
                        <a:pt x="1805" y="1325"/>
                      </a:lnTo>
                      <a:lnTo>
                        <a:pt x="1797" y="1332"/>
                      </a:lnTo>
                      <a:lnTo>
                        <a:pt x="1790" y="1339"/>
                      </a:lnTo>
                      <a:lnTo>
                        <a:pt x="1777" y="1335"/>
                      </a:lnTo>
                      <a:lnTo>
                        <a:pt x="1783" y="1328"/>
                      </a:lnTo>
                      <a:lnTo>
                        <a:pt x="1790" y="1321"/>
                      </a:lnTo>
                      <a:lnTo>
                        <a:pt x="1800" y="1315"/>
                      </a:lnTo>
                      <a:lnTo>
                        <a:pt x="1809" y="1306"/>
                      </a:lnTo>
                      <a:lnTo>
                        <a:pt x="1812" y="1299"/>
                      </a:lnTo>
                      <a:lnTo>
                        <a:pt x="1815" y="1292"/>
                      </a:lnTo>
                      <a:lnTo>
                        <a:pt x="1821" y="1284"/>
                      </a:lnTo>
                      <a:lnTo>
                        <a:pt x="1825" y="1273"/>
                      </a:lnTo>
                      <a:lnTo>
                        <a:pt x="1818" y="1257"/>
                      </a:lnTo>
                      <a:lnTo>
                        <a:pt x="1795" y="1266"/>
                      </a:lnTo>
                      <a:lnTo>
                        <a:pt x="1787" y="1277"/>
                      </a:lnTo>
                      <a:lnTo>
                        <a:pt x="1780" y="1290"/>
                      </a:lnTo>
                      <a:lnTo>
                        <a:pt x="1771" y="1305"/>
                      </a:lnTo>
                      <a:lnTo>
                        <a:pt x="1758" y="1318"/>
                      </a:lnTo>
                      <a:lnTo>
                        <a:pt x="1747" y="1316"/>
                      </a:lnTo>
                      <a:lnTo>
                        <a:pt x="1744" y="1306"/>
                      </a:lnTo>
                      <a:lnTo>
                        <a:pt x="1747" y="1295"/>
                      </a:lnTo>
                      <a:lnTo>
                        <a:pt x="1753" y="1284"/>
                      </a:lnTo>
                      <a:lnTo>
                        <a:pt x="1760" y="1274"/>
                      </a:lnTo>
                      <a:lnTo>
                        <a:pt x="1770" y="1263"/>
                      </a:lnTo>
                      <a:lnTo>
                        <a:pt x="1782" y="1253"/>
                      </a:lnTo>
                      <a:lnTo>
                        <a:pt x="1767" y="1237"/>
                      </a:lnTo>
                      <a:lnTo>
                        <a:pt x="1760" y="1241"/>
                      </a:lnTo>
                      <a:lnTo>
                        <a:pt x="1753" y="1245"/>
                      </a:lnTo>
                      <a:lnTo>
                        <a:pt x="1745" y="1253"/>
                      </a:lnTo>
                      <a:lnTo>
                        <a:pt x="1738" y="1260"/>
                      </a:lnTo>
                      <a:lnTo>
                        <a:pt x="1731" y="1267"/>
                      </a:lnTo>
                      <a:lnTo>
                        <a:pt x="1725" y="1276"/>
                      </a:lnTo>
                      <a:lnTo>
                        <a:pt x="1719" y="1283"/>
                      </a:lnTo>
                      <a:lnTo>
                        <a:pt x="1716" y="1290"/>
                      </a:lnTo>
                      <a:lnTo>
                        <a:pt x="1712" y="1283"/>
                      </a:lnTo>
                      <a:lnTo>
                        <a:pt x="1714" y="1276"/>
                      </a:lnTo>
                      <a:lnTo>
                        <a:pt x="1716" y="1270"/>
                      </a:lnTo>
                      <a:lnTo>
                        <a:pt x="1721" y="1263"/>
                      </a:lnTo>
                      <a:lnTo>
                        <a:pt x="1725" y="1253"/>
                      </a:lnTo>
                      <a:lnTo>
                        <a:pt x="1708" y="1240"/>
                      </a:lnTo>
                      <a:lnTo>
                        <a:pt x="1705" y="1248"/>
                      </a:lnTo>
                      <a:lnTo>
                        <a:pt x="1698" y="1253"/>
                      </a:lnTo>
                      <a:lnTo>
                        <a:pt x="1689" y="1258"/>
                      </a:lnTo>
                      <a:lnTo>
                        <a:pt x="1683" y="1267"/>
                      </a:lnTo>
                      <a:lnTo>
                        <a:pt x="1672" y="1271"/>
                      </a:lnTo>
                      <a:lnTo>
                        <a:pt x="1677" y="1258"/>
                      </a:lnTo>
                      <a:lnTo>
                        <a:pt x="1683" y="1245"/>
                      </a:lnTo>
                      <a:lnTo>
                        <a:pt x="1692" y="1232"/>
                      </a:lnTo>
                      <a:lnTo>
                        <a:pt x="1703" y="1219"/>
                      </a:lnTo>
                      <a:lnTo>
                        <a:pt x="1712" y="1221"/>
                      </a:lnTo>
                      <a:lnTo>
                        <a:pt x="1719" y="1221"/>
                      </a:lnTo>
                      <a:lnTo>
                        <a:pt x="1729" y="1224"/>
                      </a:lnTo>
                      <a:lnTo>
                        <a:pt x="1738" y="1225"/>
                      </a:lnTo>
                      <a:lnTo>
                        <a:pt x="1748" y="1227"/>
                      </a:lnTo>
                      <a:lnTo>
                        <a:pt x="1757" y="1230"/>
                      </a:lnTo>
                      <a:lnTo>
                        <a:pt x="1767" y="1231"/>
                      </a:lnTo>
                      <a:lnTo>
                        <a:pt x="1776" y="1234"/>
                      </a:lnTo>
                      <a:lnTo>
                        <a:pt x="1799" y="1227"/>
                      </a:lnTo>
                      <a:lnTo>
                        <a:pt x="1810" y="1224"/>
                      </a:lnTo>
                      <a:lnTo>
                        <a:pt x="1821" y="1219"/>
                      </a:lnTo>
                      <a:lnTo>
                        <a:pt x="1831" y="1212"/>
                      </a:lnTo>
                      <a:lnTo>
                        <a:pt x="1841" y="1204"/>
                      </a:lnTo>
                      <a:lnTo>
                        <a:pt x="1868" y="1166"/>
                      </a:lnTo>
                      <a:lnTo>
                        <a:pt x="1894" y="1127"/>
                      </a:lnTo>
                      <a:lnTo>
                        <a:pt x="1917" y="1088"/>
                      </a:lnTo>
                      <a:lnTo>
                        <a:pt x="1942" y="1048"/>
                      </a:lnTo>
                      <a:lnTo>
                        <a:pt x="1964" y="1006"/>
                      </a:lnTo>
                      <a:lnTo>
                        <a:pt x="1984" y="962"/>
                      </a:lnTo>
                      <a:lnTo>
                        <a:pt x="2003" y="917"/>
                      </a:lnTo>
                      <a:lnTo>
                        <a:pt x="2020" y="868"/>
                      </a:lnTo>
                      <a:lnTo>
                        <a:pt x="2022" y="848"/>
                      </a:lnTo>
                      <a:lnTo>
                        <a:pt x="2017" y="841"/>
                      </a:lnTo>
                      <a:lnTo>
                        <a:pt x="2013" y="835"/>
                      </a:lnTo>
                      <a:lnTo>
                        <a:pt x="2004" y="832"/>
                      </a:lnTo>
                      <a:lnTo>
                        <a:pt x="1993" y="828"/>
                      </a:lnTo>
                      <a:lnTo>
                        <a:pt x="1990" y="821"/>
                      </a:lnTo>
                      <a:lnTo>
                        <a:pt x="1990" y="813"/>
                      </a:lnTo>
                      <a:lnTo>
                        <a:pt x="1993" y="806"/>
                      </a:lnTo>
                      <a:lnTo>
                        <a:pt x="1991" y="799"/>
                      </a:lnTo>
                      <a:lnTo>
                        <a:pt x="1977" y="793"/>
                      </a:lnTo>
                      <a:lnTo>
                        <a:pt x="1964" y="789"/>
                      </a:lnTo>
                      <a:lnTo>
                        <a:pt x="1954" y="783"/>
                      </a:lnTo>
                      <a:lnTo>
                        <a:pt x="1943" y="779"/>
                      </a:lnTo>
                      <a:lnTo>
                        <a:pt x="1933" y="774"/>
                      </a:lnTo>
                      <a:lnTo>
                        <a:pt x="1925" y="770"/>
                      </a:lnTo>
                      <a:lnTo>
                        <a:pt x="1915" y="766"/>
                      </a:lnTo>
                      <a:lnTo>
                        <a:pt x="1904" y="763"/>
                      </a:lnTo>
                      <a:lnTo>
                        <a:pt x="1891" y="763"/>
                      </a:lnTo>
                      <a:lnTo>
                        <a:pt x="1876" y="757"/>
                      </a:lnTo>
                      <a:lnTo>
                        <a:pt x="1858" y="751"/>
                      </a:lnTo>
                      <a:lnTo>
                        <a:pt x="1842" y="746"/>
                      </a:lnTo>
                      <a:lnTo>
                        <a:pt x="1825" y="740"/>
                      </a:lnTo>
                      <a:lnTo>
                        <a:pt x="1808" y="734"/>
                      </a:lnTo>
                      <a:lnTo>
                        <a:pt x="1790" y="728"/>
                      </a:lnTo>
                      <a:lnTo>
                        <a:pt x="1773" y="722"/>
                      </a:lnTo>
                      <a:lnTo>
                        <a:pt x="1756" y="718"/>
                      </a:lnTo>
                      <a:lnTo>
                        <a:pt x="1738" y="712"/>
                      </a:lnTo>
                      <a:lnTo>
                        <a:pt x="1721" y="707"/>
                      </a:lnTo>
                      <a:lnTo>
                        <a:pt x="1703" y="702"/>
                      </a:lnTo>
                      <a:lnTo>
                        <a:pt x="1686" y="696"/>
                      </a:lnTo>
                      <a:lnTo>
                        <a:pt x="1670" y="691"/>
                      </a:lnTo>
                      <a:lnTo>
                        <a:pt x="1653" y="686"/>
                      </a:lnTo>
                      <a:lnTo>
                        <a:pt x="1635" y="681"/>
                      </a:lnTo>
                      <a:lnTo>
                        <a:pt x="1620" y="675"/>
                      </a:lnTo>
                      <a:lnTo>
                        <a:pt x="1608" y="670"/>
                      </a:lnTo>
                      <a:lnTo>
                        <a:pt x="1596" y="666"/>
                      </a:lnTo>
                      <a:lnTo>
                        <a:pt x="1585" y="662"/>
                      </a:lnTo>
                      <a:lnTo>
                        <a:pt x="1573" y="657"/>
                      </a:lnTo>
                      <a:lnTo>
                        <a:pt x="1562" y="653"/>
                      </a:lnTo>
                      <a:lnTo>
                        <a:pt x="1550" y="649"/>
                      </a:lnTo>
                      <a:lnTo>
                        <a:pt x="1537" y="644"/>
                      </a:lnTo>
                      <a:lnTo>
                        <a:pt x="1526" y="640"/>
                      </a:lnTo>
                      <a:lnTo>
                        <a:pt x="1500" y="633"/>
                      </a:lnTo>
                      <a:lnTo>
                        <a:pt x="1474" y="624"/>
                      </a:lnTo>
                      <a:lnTo>
                        <a:pt x="1448" y="616"/>
                      </a:lnTo>
                      <a:lnTo>
                        <a:pt x="1420" y="607"/>
                      </a:lnTo>
                      <a:lnTo>
                        <a:pt x="1394" y="598"/>
                      </a:lnTo>
                      <a:lnTo>
                        <a:pt x="1367" y="591"/>
                      </a:lnTo>
                      <a:lnTo>
                        <a:pt x="1339" y="585"/>
                      </a:lnTo>
                      <a:lnTo>
                        <a:pt x="1313" y="582"/>
                      </a:lnTo>
                      <a:lnTo>
                        <a:pt x="1301" y="584"/>
                      </a:lnTo>
                      <a:lnTo>
                        <a:pt x="1293" y="588"/>
                      </a:lnTo>
                      <a:lnTo>
                        <a:pt x="1284" y="594"/>
                      </a:lnTo>
                      <a:lnTo>
                        <a:pt x="1274" y="600"/>
                      </a:lnTo>
                      <a:lnTo>
                        <a:pt x="1257" y="614"/>
                      </a:lnTo>
                      <a:lnTo>
                        <a:pt x="1242" y="630"/>
                      </a:lnTo>
                      <a:lnTo>
                        <a:pt x="1228" y="646"/>
                      </a:lnTo>
                      <a:lnTo>
                        <a:pt x="1215" y="663"/>
                      </a:lnTo>
                      <a:lnTo>
                        <a:pt x="1202" y="681"/>
                      </a:lnTo>
                      <a:lnTo>
                        <a:pt x="1190" y="698"/>
                      </a:lnTo>
                      <a:lnTo>
                        <a:pt x="1177" y="715"/>
                      </a:lnTo>
                      <a:lnTo>
                        <a:pt x="1164" y="731"/>
                      </a:lnTo>
                      <a:lnTo>
                        <a:pt x="1155" y="747"/>
                      </a:lnTo>
                      <a:lnTo>
                        <a:pt x="1145" y="763"/>
                      </a:lnTo>
                      <a:lnTo>
                        <a:pt x="1135" y="779"/>
                      </a:lnTo>
                      <a:lnTo>
                        <a:pt x="1126" y="796"/>
                      </a:lnTo>
                      <a:lnTo>
                        <a:pt x="1116" y="812"/>
                      </a:lnTo>
                      <a:lnTo>
                        <a:pt x="1106" y="829"/>
                      </a:lnTo>
                      <a:lnTo>
                        <a:pt x="1096" y="847"/>
                      </a:lnTo>
                      <a:lnTo>
                        <a:pt x="1087" y="865"/>
                      </a:lnTo>
                      <a:lnTo>
                        <a:pt x="1087" y="877"/>
                      </a:lnTo>
                      <a:lnTo>
                        <a:pt x="1090" y="886"/>
                      </a:lnTo>
                      <a:lnTo>
                        <a:pt x="1095" y="893"/>
                      </a:lnTo>
                      <a:lnTo>
                        <a:pt x="1100" y="900"/>
                      </a:lnTo>
                      <a:lnTo>
                        <a:pt x="1106" y="907"/>
                      </a:lnTo>
                      <a:lnTo>
                        <a:pt x="1100" y="913"/>
                      </a:lnTo>
                      <a:lnTo>
                        <a:pt x="1095" y="920"/>
                      </a:lnTo>
                      <a:lnTo>
                        <a:pt x="1089" y="928"/>
                      </a:lnTo>
                      <a:lnTo>
                        <a:pt x="1082" y="935"/>
                      </a:lnTo>
                      <a:lnTo>
                        <a:pt x="1074" y="942"/>
                      </a:lnTo>
                      <a:lnTo>
                        <a:pt x="1069" y="949"/>
                      </a:lnTo>
                      <a:lnTo>
                        <a:pt x="1061" y="955"/>
                      </a:lnTo>
                      <a:lnTo>
                        <a:pt x="1054" y="959"/>
                      </a:lnTo>
                      <a:lnTo>
                        <a:pt x="1047" y="959"/>
                      </a:lnTo>
                      <a:lnTo>
                        <a:pt x="1047" y="938"/>
                      </a:lnTo>
                      <a:lnTo>
                        <a:pt x="1056" y="928"/>
                      </a:lnTo>
                      <a:lnTo>
                        <a:pt x="1064" y="916"/>
                      </a:lnTo>
                      <a:lnTo>
                        <a:pt x="1073" y="906"/>
                      </a:lnTo>
                      <a:lnTo>
                        <a:pt x="1082" y="896"/>
                      </a:lnTo>
                      <a:lnTo>
                        <a:pt x="1082" y="884"/>
                      </a:lnTo>
                      <a:lnTo>
                        <a:pt x="1070" y="878"/>
                      </a:lnTo>
                      <a:lnTo>
                        <a:pt x="1061" y="883"/>
                      </a:lnTo>
                      <a:lnTo>
                        <a:pt x="1053" y="890"/>
                      </a:lnTo>
                      <a:lnTo>
                        <a:pt x="1044" y="897"/>
                      </a:lnTo>
                      <a:lnTo>
                        <a:pt x="1037" y="906"/>
                      </a:lnTo>
                      <a:lnTo>
                        <a:pt x="1028" y="915"/>
                      </a:lnTo>
                      <a:lnTo>
                        <a:pt x="1022" y="925"/>
                      </a:lnTo>
                      <a:lnTo>
                        <a:pt x="1015" y="933"/>
                      </a:lnTo>
                      <a:lnTo>
                        <a:pt x="1011" y="942"/>
                      </a:lnTo>
                      <a:lnTo>
                        <a:pt x="1001" y="942"/>
                      </a:lnTo>
                      <a:lnTo>
                        <a:pt x="995" y="932"/>
                      </a:lnTo>
                      <a:lnTo>
                        <a:pt x="1002" y="920"/>
                      </a:lnTo>
                      <a:lnTo>
                        <a:pt x="1011" y="907"/>
                      </a:lnTo>
                      <a:lnTo>
                        <a:pt x="1019" y="893"/>
                      </a:lnTo>
                      <a:lnTo>
                        <a:pt x="1028" y="877"/>
                      </a:lnTo>
                      <a:lnTo>
                        <a:pt x="1017" y="863"/>
                      </a:lnTo>
                      <a:lnTo>
                        <a:pt x="1008" y="867"/>
                      </a:lnTo>
                      <a:lnTo>
                        <a:pt x="999" y="873"/>
                      </a:lnTo>
                      <a:lnTo>
                        <a:pt x="993" y="878"/>
                      </a:lnTo>
                      <a:lnTo>
                        <a:pt x="988" y="887"/>
                      </a:lnTo>
                      <a:lnTo>
                        <a:pt x="983" y="894"/>
                      </a:lnTo>
                      <a:lnTo>
                        <a:pt x="979" y="903"/>
                      </a:lnTo>
                      <a:lnTo>
                        <a:pt x="973" y="912"/>
                      </a:lnTo>
                      <a:lnTo>
                        <a:pt x="967" y="920"/>
                      </a:lnTo>
                      <a:lnTo>
                        <a:pt x="956" y="922"/>
                      </a:lnTo>
                      <a:lnTo>
                        <a:pt x="953" y="916"/>
                      </a:lnTo>
                      <a:lnTo>
                        <a:pt x="962" y="903"/>
                      </a:lnTo>
                      <a:lnTo>
                        <a:pt x="967" y="890"/>
                      </a:lnTo>
                      <a:lnTo>
                        <a:pt x="975" y="877"/>
                      </a:lnTo>
                      <a:lnTo>
                        <a:pt x="982" y="863"/>
                      </a:lnTo>
                      <a:lnTo>
                        <a:pt x="965" y="848"/>
                      </a:lnTo>
                      <a:lnTo>
                        <a:pt x="959" y="855"/>
                      </a:lnTo>
                      <a:lnTo>
                        <a:pt x="954" y="863"/>
                      </a:lnTo>
                      <a:lnTo>
                        <a:pt x="949" y="870"/>
                      </a:lnTo>
                      <a:lnTo>
                        <a:pt x="943" y="877"/>
                      </a:lnTo>
                      <a:lnTo>
                        <a:pt x="936" y="884"/>
                      </a:lnTo>
                      <a:lnTo>
                        <a:pt x="930" y="891"/>
                      </a:lnTo>
                      <a:lnTo>
                        <a:pt x="923" y="899"/>
                      </a:lnTo>
                      <a:lnTo>
                        <a:pt x="917" y="907"/>
                      </a:lnTo>
                      <a:lnTo>
                        <a:pt x="912" y="906"/>
                      </a:lnTo>
                      <a:lnTo>
                        <a:pt x="905" y="904"/>
                      </a:lnTo>
                      <a:lnTo>
                        <a:pt x="899" y="902"/>
                      </a:lnTo>
                      <a:lnTo>
                        <a:pt x="897" y="894"/>
                      </a:lnTo>
                      <a:lnTo>
                        <a:pt x="910" y="874"/>
                      </a:lnTo>
                      <a:lnTo>
                        <a:pt x="914" y="867"/>
                      </a:lnTo>
                      <a:lnTo>
                        <a:pt x="920" y="860"/>
                      </a:lnTo>
                      <a:lnTo>
                        <a:pt x="925" y="851"/>
                      </a:lnTo>
                      <a:lnTo>
                        <a:pt x="930" y="841"/>
                      </a:lnTo>
                      <a:lnTo>
                        <a:pt x="921" y="831"/>
                      </a:lnTo>
                      <a:lnTo>
                        <a:pt x="910" y="832"/>
                      </a:lnTo>
                      <a:lnTo>
                        <a:pt x="904" y="838"/>
                      </a:lnTo>
                      <a:lnTo>
                        <a:pt x="899" y="844"/>
                      </a:lnTo>
                      <a:lnTo>
                        <a:pt x="894" y="851"/>
                      </a:lnTo>
                      <a:lnTo>
                        <a:pt x="888" y="857"/>
                      </a:lnTo>
                      <a:lnTo>
                        <a:pt x="882" y="864"/>
                      </a:lnTo>
                      <a:lnTo>
                        <a:pt x="876" y="870"/>
                      </a:lnTo>
                      <a:lnTo>
                        <a:pt x="871" y="877"/>
                      </a:lnTo>
                      <a:lnTo>
                        <a:pt x="866" y="883"/>
                      </a:lnTo>
                      <a:lnTo>
                        <a:pt x="850" y="874"/>
                      </a:lnTo>
                      <a:lnTo>
                        <a:pt x="862" y="861"/>
                      </a:lnTo>
                      <a:lnTo>
                        <a:pt x="872" y="848"/>
                      </a:lnTo>
                      <a:lnTo>
                        <a:pt x="879" y="835"/>
                      </a:lnTo>
                      <a:lnTo>
                        <a:pt x="888" y="821"/>
                      </a:lnTo>
                      <a:lnTo>
                        <a:pt x="878" y="805"/>
                      </a:lnTo>
                      <a:lnTo>
                        <a:pt x="872" y="809"/>
                      </a:lnTo>
                      <a:lnTo>
                        <a:pt x="865" y="815"/>
                      </a:lnTo>
                      <a:lnTo>
                        <a:pt x="859" y="821"/>
                      </a:lnTo>
                      <a:lnTo>
                        <a:pt x="853" y="828"/>
                      </a:lnTo>
                      <a:lnTo>
                        <a:pt x="846" y="837"/>
                      </a:lnTo>
                      <a:lnTo>
                        <a:pt x="840" y="844"/>
                      </a:lnTo>
                      <a:lnTo>
                        <a:pt x="833" y="851"/>
                      </a:lnTo>
                      <a:lnTo>
                        <a:pt x="827" y="858"/>
                      </a:lnTo>
                      <a:lnTo>
                        <a:pt x="807" y="852"/>
                      </a:lnTo>
                      <a:lnTo>
                        <a:pt x="807" y="848"/>
                      </a:lnTo>
                      <a:lnTo>
                        <a:pt x="814" y="837"/>
                      </a:lnTo>
                      <a:lnTo>
                        <a:pt x="823" y="826"/>
                      </a:lnTo>
                      <a:lnTo>
                        <a:pt x="831" y="816"/>
                      </a:lnTo>
                      <a:lnTo>
                        <a:pt x="840" y="806"/>
                      </a:lnTo>
                      <a:lnTo>
                        <a:pt x="840" y="796"/>
                      </a:lnTo>
                      <a:lnTo>
                        <a:pt x="829" y="787"/>
                      </a:lnTo>
                      <a:lnTo>
                        <a:pt x="821" y="792"/>
                      </a:lnTo>
                      <a:lnTo>
                        <a:pt x="814" y="798"/>
                      </a:lnTo>
                      <a:lnTo>
                        <a:pt x="808" y="803"/>
                      </a:lnTo>
                      <a:lnTo>
                        <a:pt x="803" y="811"/>
                      </a:lnTo>
                      <a:lnTo>
                        <a:pt x="797" y="819"/>
                      </a:lnTo>
                      <a:lnTo>
                        <a:pt x="790" y="825"/>
                      </a:lnTo>
                      <a:lnTo>
                        <a:pt x="782" y="831"/>
                      </a:lnTo>
                      <a:lnTo>
                        <a:pt x="772" y="835"/>
                      </a:lnTo>
                      <a:lnTo>
                        <a:pt x="764" y="829"/>
                      </a:lnTo>
                      <a:lnTo>
                        <a:pt x="765" y="822"/>
                      </a:lnTo>
                      <a:lnTo>
                        <a:pt x="768" y="816"/>
                      </a:lnTo>
                      <a:lnTo>
                        <a:pt x="774" y="809"/>
                      </a:lnTo>
                      <a:lnTo>
                        <a:pt x="779" y="800"/>
                      </a:lnTo>
                      <a:lnTo>
                        <a:pt x="781" y="793"/>
                      </a:lnTo>
                      <a:lnTo>
                        <a:pt x="785" y="787"/>
                      </a:lnTo>
                      <a:lnTo>
                        <a:pt x="791" y="780"/>
                      </a:lnTo>
                      <a:lnTo>
                        <a:pt x="794" y="770"/>
                      </a:lnTo>
                      <a:lnTo>
                        <a:pt x="782" y="763"/>
                      </a:lnTo>
                      <a:lnTo>
                        <a:pt x="775" y="767"/>
                      </a:lnTo>
                      <a:lnTo>
                        <a:pt x="768" y="772"/>
                      </a:lnTo>
                      <a:lnTo>
                        <a:pt x="762" y="779"/>
                      </a:lnTo>
                      <a:lnTo>
                        <a:pt x="758" y="786"/>
                      </a:lnTo>
                      <a:lnTo>
                        <a:pt x="752" y="793"/>
                      </a:lnTo>
                      <a:lnTo>
                        <a:pt x="746" y="800"/>
                      </a:lnTo>
                      <a:lnTo>
                        <a:pt x="739" y="808"/>
                      </a:lnTo>
                      <a:lnTo>
                        <a:pt x="730" y="813"/>
                      </a:lnTo>
                      <a:lnTo>
                        <a:pt x="722" y="809"/>
                      </a:lnTo>
                      <a:lnTo>
                        <a:pt x="727" y="799"/>
                      </a:lnTo>
                      <a:lnTo>
                        <a:pt x="733" y="789"/>
                      </a:lnTo>
                      <a:lnTo>
                        <a:pt x="740" y="777"/>
                      </a:lnTo>
                      <a:lnTo>
                        <a:pt x="748" y="767"/>
                      </a:lnTo>
                      <a:lnTo>
                        <a:pt x="740" y="747"/>
                      </a:lnTo>
                      <a:lnTo>
                        <a:pt x="733" y="751"/>
                      </a:lnTo>
                      <a:lnTo>
                        <a:pt x="727" y="756"/>
                      </a:lnTo>
                      <a:lnTo>
                        <a:pt x="722" y="761"/>
                      </a:lnTo>
                      <a:lnTo>
                        <a:pt x="717" y="769"/>
                      </a:lnTo>
                      <a:lnTo>
                        <a:pt x="711" y="776"/>
                      </a:lnTo>
                      <a:lnTo>
                        <a:pt x="704" y="783"/>
                      </a:lnTo>
                      <a:lnTo>
                        <a:pt x="697" y="790"/>
                      </a:lnTo>
                      <a:lnTo>
                        <a:pt x="688" y="798"/>
                      </a:lnTo>
                      <a:lnTo>
                        <a:pt x="675" y="793"/>
                      </a:lnTo>
                      <a:lnTo>
                        <a:pt x="678" y="785"/>
                      </a:lnTo>
                      <a:lnTo>
                        <a:pt x="683" y="777"/>
                      </a:lnTo>
                      <a:lnTo>
                        <a:pt x="688" y="772"/>
                      </a:lnTo>
                      <a:lnTo>
                        <a:pt x="694" y="763"/>
                      </a:lnTo>
                      <a:lnTo>
                        <a:pt x="694" y="753"/>
                      </a:lnTo>
                      <a:lnTo>
                        <a:pt x="693" y="746"/>
                      </a:lnTo>
                      <a:lnTo>
                        <a:pt x="688" y="741"/>
                      </a:lnTo>
                      <a:lnTo>
                        <a:pt x="678" y="737"/>
                      </a:lnTo>
                      <a:lnTo>
                        <a:pt x="674" y="743"/>
                      </a:lnTo>
                      <a:lnTo>
                        <a:pt x="671" y="751"/>
                      </a:lnTo>
                      <a:lnTo>
                        <a:pt x="668" y="761"/>
                      </a:lnTo>
                      <a:lnTo>
                        <a:pt x="662" y="767"/>
                      </a:lnTo>
                      <a:lnTo>
                        <a:pt x="654" y="772"/>
                      </a:lnTo>
                      <a:lnTo>
                        <a:pt x="646" y="779"/>
                      </a:lnTo>
                      <a:lnTo>
                        <a:pt x="639" y="787"/>
                      </a:lnTo>
                      <a:lnTo>
                        <a:pt x="630" y="793"/>
                      </a:lnTo>
                      <a:lnTo>
                        <a:pt x="619" y="792"/>
                      </a:lnTo>
                      <a:lnTo>
                        <a:pt x="625" y="783"/>
                      </a:lnTo>
                      <a:lnTo>
                        <a:pt x="630" y="774"/>
                      </a:lnTo>
                      <a:lnTo>
                        <a:pt x="636" y="766"/>
                      </a:lnTo>
                      <a:lnTo>
                        <a:pt x="642" y="756"/>
                      </a:lnTo>
                      <a:lnTo>
                        <a:pt x="636" y="734"/>
                      </a:lnTo>
                      <a:lnTo>
                        <a:pt x="626" y="734"/>
                      </a:lnTo>
                      <a:lnTo>
                        <a:pt x="620" y="740"/>
                      </a:lnTo>
                      <a:lnTo>
                        <a:pt x="616" y="748"/>
                      </a:lnTo>
                      <a:lnTo>
                        <a:pt x="610" y="756"/>
                      </a:lnTo>
                      <a:lnTo>
                        <a:pt x="604" y="764"/>
                      </a:lnTo>
                      <a:lnTo>
                        <a:pt x="597" y="773"/>
                      </a:lnTo>
                      <a:lnTo>
                        <a:pt x="591" y="782"/>
                      </a:lnTo>
                      <a:lnTo>
                        <a:pt x="584" y="790"/>
                      </a:lnTo>
                      <a:lnTo>
                        <a:pt x="577" y="799"/>
                      </a:lnTo>
                      <a:lnTo>
                        <a:pt x="564" y="793"/>
                      </a:lnTo>
                      <a:lnTo>
                        <a:pt x="568" y="786"/>
                      </a:lnTo>
                      <a:lnTo>
                        <a:pt x="574" y="776"/>
                      </a:lnTo>
                      <a:lnTo>
                        <a:pt x="578" y="764"/>
                      </a:lnTo>
                      <a:lnTo>
                        <a:pt x="583" y="750"/>
                      </a:lnTo>
                      <a:lnTo>
                        <a:pt x="564" y="741"/>
                      </a:lnTo>
                      <a:lnTo>
                        <a:pt x="558" y="750"/>
                      </a:lnTo>
                      <a:lnTo>
                        <a:pt x="552" y="761"/>
                      </a:lnTo>
                      <a:lnTo>
                        <a:pt x="547" y="773"/>
                      </a:lnTo>
                      <a:lnTo>
                        <a:pt x="539" y="785"/>
                      </a:lnTo>
                      <a:lnTo>
                        <a:pt x="529" y="789"/>
                      </a:lnTo>
                      <a:lnTo>
                        <a:pt x="523" y="796"/>
                      </a:lnTo>
                      <a:lnTo>
                        <a:pt x="518" y="805"/>
                      </a:lnTo>
                      <a:lnTo>
                        <a:pt x="505" y="808"/>
                      </a:lnTo>
                      <a:lnTo>
                        <a:pt x="497" y="805"/>
                      </a:lnTo>
                      <a:lnTo>
                        <a:pt x="503" y="795"/>
                      </a:lnTo>
                      <a:lnTo>
                        <a:pt x="509" y="785"/>
                      </a:lnTo>
                      <a:lnTo>
                        <a:pt x="516" y="774"/>
                      </a:lnTo>
                      <a:lnTo>
                        <a:pt x="525" y="764"/>
                      </a:lnTo>
                      <a:lnTo>
                        <a:pt x="510" y="747"/>
                      </a:lnTo>
                      <a:lnTo>
                        <a:pt x="503" y="754"/>
                      </a:lnTo>
                      <a:lnTo>
                        <a:pt x="497" y="761"/>
                      </a:lnTo>
                      <a:lnTo>
                        <a:pt x="490" y="769"/>
                      </a:lnTo>
                      <a:lnTo>
                        <a:pt x="484" y="776"/>
                      </a:lnTo>
                      <a:lnTo>
                        <a:pt x="479" y="783"/>
                      </a:lnTo>
                      <a:lnTo>
                        <a:pt x="471" y="792"/>
                      </a:lnTo>
                      <a:lnTo>
                        <a:pt x="467" y="800"/>
                      </a:lnTo>
                      <a:lnTo>
                        <a:pt x="461" y="809"/>
                      </a:lnTo>
                      <a:lnTo>
                        <a:pt x="454" y="811"/>
                      </a:lnTo>
                      <a:lnTo>
                        <a:pt x="448" y="811"/>
                      </a:lnTo>
                      <a:lnTo>
                        <a:pt x="441" y="812"/>
                      </a:lnTo>
                      <a:lnTo>
                        <a:pt x="431" y="813"/>
                      </a:lnTo>
                      <a:lnTo>
                        <a:pt x="424" y="812"/>
                      </a:lnTo>
                      <a:lnTo>
                        <a:pt x="432" y="802"/>
                      </a:lnTo>
                      <a:lnTo>
                        <a:pt x="441" y="792"/>
                      </a:lnTo>
                      <a:lnTo>
                        <a:pt x="448" y="780"/>
                      </a:lnTo>
                      <a:lnTo>
                        <a:pt x="456" y="767"/>
                      </a:lnTo>
                      <a:lnTo>
                        <a:pt x="437" y="754"/>
                      </a:lnTo>
                      <a:lnTo>
                        <a:pt x="431" y="760"/>
                      </a:lnTo>
                      <a:lnTo>
                        <a:pt x="427" y="767"/>
                      </a:lnTo>
                      <a:lnTo>
                        <a:pt x="421" y="773"/>
                      </a:lnTo>
                      <a:lnTo>
                        <a:pt x="415" y="780"/>
                      </a:lnTo>
                      <a:lnTo>
                        <a:pt x="409" y="786"/>
                      </a:lnTo>
                      <a:lnTo>
                        <a:pt x="403" y="793"/>
                      </a:lnTo>
                      <a:lnTo>
                        <a:pt x="398" y="799"/>
                      </a:lnTo>
                      <a:lnTo>
                        <a:pt x="392" y="806"/>
                      </a:lnTo>
                      <a:lnTo>
                        <a:pt x="386" y="809"/>
                      </a:lnTo>
                      <a:lnTo>
                        <a:pt x="380" y="811"/>
                      </a:lnTo>
                      <a:lnTo>
                        <a:pt x="372" y="811"/>
                      </a:lnTo>
                      <a:lnTo>
                        <a:pt x="364" y="806"/>
                      </a:lnTo>
                      <a:lnTo>
                        <a:pt x="373" y="802"/>
                      </a:lnTo>
                      <a:lnTo>
                        <a:pt x="380" y="793"/>
                      </a:lnTo>
                      <a:lnTo>
                        <a:pt x="388" y="782"/>
                      </a:lnTo>
                      <a:lnTo>
                        <a:pt x="396" y="769"/>
                      </a:lnTo>
                      <a:lnTo>
                        <a:pt x="385" y="753"/>
                      </a:lnTo>
                      <a:lnTo>
                        <a:pt x="377" y="757"/>
                      </a:lnTo>
                      <a:lnTo>
                        <a:pt x="370" y="763"/>
                      </a:lnTo>
                      <a:lnTo>
                        <a:pt x="363" y="770"/>
                      </a:lnTo>
                      <a:lnTo>
                        <a:pt x="357" y="777"/>
                      </a:lnTo>
                      <a:lnTo>
                        <a:pt x="350" y="786"/>
                      </a:lnTo>
                      <a:lnTo>
                        <a:pt x="343" y="793"/>
                      </a:lnTo>
                      <a:lnTo>
                        <a:pt x="335" y="800"/>
                      </a:lnTo>
                      <a:lnTo>
                        <a:pt x="325" y="806"/>
                      </a:lnTo>
                      <a:lnTo>
                        <a:pt x="317" y="803"/>
                      </a:lnTo>
                      <a:lnTo>
                        <a:pt x="320" y="790"/>
                      </a:lnTo>
                      <a:lnTo>
                        <a:pt x="328" y="780"/>
                      </a:lnTo>
                      <a:lnTo>
                        <a:pt x="337" y="770"/>
                      </a:lnTo>
                      <a:lnTo>
                        <a:pt x="343" y="760"/>
                      </a:lnTo>
                      <a:lnTo>
                        <a:pt x="330" y="743"/>
                      </a:lnTo>
                      <a:lnTo>
                        <a:pt x="324" y="746"/>
                      </a:lnTo>
                      <a:lnTo>
                        <a:pt x="318" y="750"/>
                      </a:lnTo>
                      <a:lnTo>
                        <a:pt x="312" y="756"/>
                      </a:lnTo>
                      <a:lnTo>
                        <a:pt x="307" y="761"/>
                      </a:lnTo>
                      <a:lnTo>
                        <a:pt x="301" y="767"/>
                      </a:lnTo>
                      <a:lnTo>
                        <a:pt x="294" y="773"/>
                      </a:lnTo>
                      <a:lnTo>
                        <a:pt x="288" y="780"/>
                      </a:lnTo>
                      <a:lnTo>
                        <a:pt x="281" y="786"/>
                      </a:lnTo>
                      <a:lnTo>
                        <a:pt x="273" y="780"/>
                      </a:lnTo>
                      <a:lnTo>
                        <a:pt x="282" y="770"/>
                      </a:lnTo>
                      <a:lnTo>
                        <a:pt x="291" y="757"/>
                      </a:lnTo>
                      <a:lnTo>
                        <a:pt x="298" y="746"/>
                      </a:lnTo>
                      <a:lnTo>
                        <a:pt x="307" y="733"/>
                      </a:lnTo>
                      <a:lnTo>
                        <a:pt x="298" y="720"/>
                      </a:lnTo>
                      <a:lnTo>
                        <a:pt x="286" y="720"/>
                      </a:lnTo>
                      <a:lnTo>
                        <a:pt x="279" y="730"/>
                      </a:lnTo>
                      <a:lnTo>
                        <a:pt x="270" y="740"/>
                      </a:lnTo>
                      <a:lnTo>
                        <a:pt x="262" y="751"/>
                      </a:lnTo>
                      <a:lnTo>
                        <a:pt x="250" y="761"/>
                      </a:lnTo>
                      <a:lnTo>
                        <a:pt x="240" y="761"/>
                      </a:lnTo>
                      <a:lnTo>
                        <a:pt x="247" y="744"/>
                      </a:lnTo>
                      <a:lnTo>
                        <a:pt x="256" y="733"/>
                      </a:lnTo>
                      <a:lnTo>
                        <a:pt x="262" y="724"/>
                      </a:lnTo>
                      <a:lnTo>
                        <a:pt x="266" y="712"/>
                      </a:lnTo>
                      <a:lnTo>
                        <a:pt x="259" y="701"/>
                      </a:lnTo>
                      <a:lnTo>
                        <a:pt x="247" y="701"/>
                      </a:lnTo>
                      <a:lnTo>
                        <a:pt x="239" y="709"/>
                      </a:lnTo>
                      <a:lnTo>
                        <a:pt x="233" y="721"/>
                      </a:lnTo>
                      <a:lnTo>
                        <a:pt x="224" y="731"/>
                      </a:lnTo>
                      <a:lnTo>
                        <a:pt x="210" y="737"/>
                      </a:lnTo>
                      <a:lnTo>
                        <a:pt x="205" y="727"/>
                      </a:lnTo>
                      <a:lnTo>
                        <a:pt x="210" y="720"/>
                      </a:lnTo>
                      <a:lnTo>
                        <a:pt x="217" y="712"/>
                      </a:lnTo>
                      <a:lnTo>
                        <a:pt x="226" y="704"/>
                      </a:lnTo>
                      <a:lnTo>
                        <a:pt x="236" y="694"/>
                      </a:lnTo>
                      <a:lnTo>
                        <a:pt x="223" y="676"/>
                      </a:lnTo>
                      <a:lnTo>
                        <a:pt x="214" y="678"/>
                      </a:lnTo>
                      <a:lnTo>
                        <a:pt x="207" y="683"/>
                      </a:lnTo>
                      <a:lnTo>
                        <a:pt x="201" y="689"/>
                      </a:lnTo>
                      <a:lnTo>
                        <a:pt x="194" y="695"/>
                      </a:lnTo>
                      <a:lnTo>
                        <a:pt x="187" y="705"/>
                      </a:lnTo>
                      <a:lnTo>
                        <a:pt x="181" y="702"/>
                      </a:lnTo>
                      <a:lnTo>
                        <a:pt x="185" y="698"/>
                      </a:lnTo>
                      <a:lnTo>
                        <a:pt x="189" y="689"/>
                      </a:lnTo>
                      <a:lnTo>
                        <a:pt x="191" y="679"/>
                      </a:lnTo>
                      <a:lnTo>
                        <a:pt x="192" y="669"/>
                      </a:lnTo>
                      <a:lnTo>
                        <a:pt x="172" y="666"/>
                      </a:lnTo>
                      <a:lnTo>
                        <a:pt x="161" y="688"/>
                      </a:lnTo>
                      <a:lnTo>
                        <a:pt x="149" y="685"/>
                      </a:lnTo>
                      <a:lnTo>
                        <a:pt x="143" y="676"/>
                      </a:lnTo>
                      <a:lnTo>
                        <a:pt x="149" y="669"/>
                      </a:lnTo>
                      <a:lnTo>
                        <a:pt x="155" y="662"/>
                      </a:lnTo>
                      <a:lnTo>
                        <a:pt x="162" y="656"/>
                      </a:lnTo>
                      <a:lnTo>
                        <a:pt x="166" y="647"/>
                      </a:lnTo>
                      <a:lnTo>
                        <a:pt x="159" y="634"/>
                      </a:lnTo>
                      <a:lnTo>
                        <a:pt x="149" y="636"/>
                      </a:lnTo>
                      <a:lnTo>
                        <a:pt x="142" y="640"/>
                      </a:lnTo>
                      <a:lnTo>
                        <a:pt x="134" y="644"/>
                      </a:lnTo>
                      <a:lnTo>
                        <a:pt x="127" y="650"/>
                      </a:lnTo>
                      <a:lnTo>
                        <a:pt x="119" y="657"/>
                      </a:lnTo>
                      <a:lnTo>
                        <a:pt x="107" y="653"/>
                      </a:lnTo>
                      <a:lnTo>
                        <a:pt x="114" y="646"/>
                      </a:lnTo>
                      <a:lnTo>
                        <a:pt x="121" y="640"/>
                      </a:lnTo>
                      <a:lnTo>
                        <a:pt x="129" y="634"/>
                      </a:lnTo>
                      <a:lnTo>
                        <a:pt x="136" y="626"/>
                      </a:lnTo>
                      <a:lnTo>
                        <a:pt x="129" y="614"/>
                      </a:lnTo>
                      <a:lnTo>
                        <a:pt x="119" y="614"/>
                      </a:lnTo>
                      <a:lnTo>
                        <a:pt x="108" y="620"/>
                      </a:lnTo>
                      <a:lnTo>
                        <a:pt x="98" y="627"/>
                      </a:lnTo>
                      <a:lnTo>
                        <a:pt x="88" y="626"/>
                      </a:lnTo>
                      <a:lnTo>
                        <a:pt x="97" y="617"/>
                      </a:lnTo>
                      <a:lnTo>
                        <a:pt x="107" y="608"/>
                      </a:lnTo>
                      <a:lnTo>
                        <a:pt x="114" y="597"/>
                      </a:lnTo>
                      <a:lnTo>
                        <a:pt x="121" y="582"/>
                      </a:lnTo>
                      <a:lnTo>
                        <a:pt x="108" y="574"/>
                      </a:lnTo>
                      <a:lnTo>
                        <a:pt x="100" y="575"/>
                      </a:lnTo>
                      <a:lnTo>
                        <a:pt x="94" y="581"/>
                      </a:lnTo>
                      <a:lnTo>
                        <a:pt x="87" y="588"/>
                      </a:lnTo>
                      <a:lnTo>
                        <a:pt x="78" y="595"/>
                      </a:lnTo>
                      <a:lnTo>
                        <a:pt x="75" y="588"/>
                      </a:lnTo>
                      <a:lnTo>
                        <a:pt x="84" y="579"/>
                      </a:lnTo>
                      <a:lnTo>
                        <a:pt x="93" y="572"/>
                      </a:lnTo>
                      <a:lnTo>
                        <a:pt x="100" y="565"/>
                      </a:lnTo>
                      <a:lnTo>
                        <a:pt x="108" y="555"/>
                      </a:lnTo>
                      <a:lnTo>
                        <a:pt x="94" y="539"/>
                      </a:lnTo>
                      <a:lnTo>
                        <a:pt x="91" y="543"/>
                      </a:lnTo>
                      <a:lnTo>
                        <a:pt x="84" y="546"/>
                      </a:lnTo>
                      <a:lnTo>
                        <a:pt x="74" y="549"/>
                      </a:lnTo>
                      <a:lnTo>
                        <a:pt x="64" y="553"/>
                      </a:lnTo>
                      <a:lnTo>
                        <a:pt x="64" y="532"/>
                      </a:lnTo>
                      <a:lnTo>
                        <a:pt x="67" y="526"/>
                      </a:lnTo>
                      <a:lnTo>
                        <a:pt x="75" y="523"/>
                      </a:lnTo>
                      <a:lnTo>
                        <a:pt x="82" y="519"/>
                      </a:lnTo>
                      <a:lnTo>
                        <a:pt x="85" y="509"/>
                      </a:lnTo>
                      <a:lnTo>
                        <a:pt x="71" y="496"/>
                      </a:lnTo>
                      <a:lnTo>
                        <a:pt x="49" y="509"/>
                      </a:lnTo>
                      <a:lnTo>
                        <a:pt x="52" y="497"/>
                      </a:lnTo>
                      <a:lnTo>
                        <a:pt x="59" y="490"/>
                      </a:lnTo>
                      <a:lnTo>
                        <a:pt x="69" y="484"/>
                      </a:lnTo>
                      <a:lnTo>
                        <a:pt x="78" y="474"/>
                      </a:lnTo>
                      <a:lnTo>
                        <a:pt x="72" y="461"/>
                      </a:lnTo>
                      <a:lnTo>
                        <a:pt x="65" y="459"/>
                      </a:lnTo>
                      <a:lnTo>
                        <a:pt x="58" y="461"/>
                      </a:lnTo>
                      <a:lnTo>
                        <a:pt x="51" y="464"/>
                      </a:lnTo>
                      <a:lnTo>
                        <a:pt x="42" y="467"/>
                      </a:lnTo>
                      <a:lnTo>
                        <a:pt x="45" y="458"/>
                      </a:lnTo>
                      <a:lnTo>
                        <a:pt x="52" y="454"/>
                      </a:lnTo>
                      <a:lnTo>
                        <a:pt x="59" y="448"/>
                      </a:lnTo>
                      <a:lnTo>
                        <a:pt x="62" y="438"/>
                      </a:lnTo>
                      <a:lnTo>
                        <a:pt x="54" y="426"/>
                      </a:lnTo>
                      <a:lnTo>
                        <a:pt x="46" y="428"/>
                      </a:lnTo>
                      <a:lnTo>
                        <a:pt x="39" y="432"/>
                      </a:lnTo>
                      <a:lnTo>
                        <a:pt x="32" y="438"/>
                      </a:lnTo>
                      <a:lnTo>
                        <a:pt x="25" y="439"/>
                      </a:lnTo>
                      <a:lnTo>
                        <a:pt x="32" y="432"/>
                      </a:lnTo>
                      <a:lnTo>
                        <a:pt x="38" y="425"/>
                      </a:lnTo>
                      <a:lnTo>
                        <a:pt x="40" y="418"/>
                      </a:lnTo>
                      <a:lnTo>
                        <a:pt x="35" y="407"/>
                      </a:lnTo>
                      <a:lnTo>
                        <a:pt x="30" y="405"/>
                      </a:lnTo>
                      <a:lnTo>
                        <a:pt x="23" y="406"/>
                      </a:lnTo>
                      <a:lnTo>
                        <a:pt x="16" y="409"/>
                      </a:lnTo>
                      <a:lnTo>
                        <a:pt x="9" y="413"/>
                      </a:lnTo>
                      <a:lnTo>
                        <a:pt x="1" y="407"/>
                      </a:lnTo>
                      <a:lnTo>
                        <a:pt x="0" y="400"/>
                      </a:lnTo>
                      <a:lnTo>
                        <a:pt x="0" y="393"/>
                      </a:lnTo>
                      <a:lnTo>
                        <a:pt x="0" y="386"/>
                      </a:lnTo>
                      <a:lnTo>
                        <a:pt x="3" y="376"/>
                      </a:lnTo>
                      <a:lnTo>
                        <a:pt x="17" y="363"/>
                      </a:lnTo>
                      <a:lnTo>
                        <a:pt x="39" y="363"/>
                      </a:lnTo>
                      <a:lnTo>
                        <a:pt x="56" y="368"/>
                      </a:lnTo>
                      <a:lnTo>
                        <a:pt x="72" y="376"/>
                      </a:lnTo>
                      <a:lnTo>
                        <a:pt x="88" y="384"/>
                      </a:lnTo>
                      <a:lnTo>
                        <a:pt x="104" y="393"/>
                      </a:lnTo>
                      <a:lnTo>
                        <a:pt x="119" y="403"/>
                      </a:lnTo>
                      <a:lnTo>
                        <a:pt x="132" y="415"/>
                      </a:lnTo>
                      <a:lnTo>
                        <a:pt x="146" y="428"/>
                      </a:lnTo>
                      <a:lnTo>
                        <a:pt x="159" y="442"/>
                      </a:lnTo>
                      <a:lnTo>
                        <a:pt x="166" y="455"/>
                      </a:lnTo>
                      <a:lnTo>
                        <a:pt x="175" y="467"/>
                      </a:lnTo>
                      <a:lnTo>
                        <a:pt x="184" y="477"/>
                      </a:lnTo>
                      <a:lnTo>
                        <a:pt x="192" y="487"/>
                      </a:lnTo>
                      <a:lnTo>
                        <a:pt x="201" y="497"/>
                      </a:lnTo>
                      <a:lnTo>
                        <a:pt x="208" y="509"/>
                      </a:lnTo>
                      <a:lnTo>
                        <a:pt x="215" y="522"/>
                      </a:lnTo>
                      <a:lnTo>
                        <a:pt x="221" y="535"/>
                      </a:lnTo>
                      <a:lnTo>
                        <a:pt x="247" y="536"/>
                      </a:lnTo>
                      <a:lnTo>
                        <a:pt x="273" y="535"/>
                      </a:lnTo>
                      <a:lnTo>
                        <a:pt x="301" y="532"/>
                      </a:lnTo>
                      <a:lnTo>
                        <a:pt x="330" y="526"/>
                      </a:lnTo>
                      <a:lnTo>
                        <a:pt x="357" y="519"/>
                      </a:lnTo>
                      <a:lnTo>
                        <a:pt x="385" y="511"/>
                      </a:lnTo>
                      <a:lnTo>
                        <a:pt x="414" y="504"/>
                      </a:lnTo>
                      <a:lnTo>
                        <a:pt x="441" y="498"/>
                      </a:lnTo>
                      <a:lnTo>
                        <a:pt x="445" y="488"/>
                      </a:lnTo>
                      <a:lnTo>
                        <a:pt x="422" y="484"/>
                      </a:lnTo>
                      <a:lnTo>
                        <a:pt x="398" y="484"/>
                      </a:lnTo>
                      <a:lnTo>
                        <a:pt x="372" y="487"/>
                      </a:lnTo>
                      <a:lnTo>
                        <a:pt x="347" y="491"/>
                      </a:lnTo>
                      <a:lnTo>
                        <a:pt x="321" y="497"/>
                      </a:lnTo>
                      <a:lnTo>
                        <a:pt x="295" y="503"/>
                      </a:lnTo>
                      <a:lnTo>
                        <a:pt x="269" y="507"/>
                      </a:lnTo>
                      <a:lnTo>
                        <a:pt x="244" y="509"/>
                      </a:lnTo>
                      <a:lnTo>
                        <a:pt x="228" y="484"/>
                      </a:lnTo>
                      <a:lnTo>
                        <a:pt x="230" y="481"/>
                      </a:lnTo>
                      <a:lnTo>
                        <a:pt x="244" y="483"/>
                      </a:lnTo>
                      <a:lnTo>
                        <a:pt x="260" y="483"/>
                      </a:lnTo>
                      <a:lnTo>
                        <a:pt x="275" y="481"/>
                      </a:lnTo>
                      <a:lnTo>
                        <a:pt x="291" y="480"/>
                      </a:lnTo>
                      <a:lnTo>
                        <a:pt x="305" y="475"/>
                      </a:lnTo>
                      <a:lnTo>
                        <a:pt x="318" y="470"/>
                      </a:lnTo>
                      <a:lnTo>
                        <a:pt x="333" y="462"/>
                      </a:lnTo>
                      <a:lnTo>
                        <a:pt x="346" y="454"/>
                      </a:lnTo>
                      <a:lnTo>
                        <a:pt x="354" y="444"/>
                      </a:lnTo>
                      <a:lnTo>
                        <a:pt x="362" y="433"/>
                      </a:lnTo>
                      <a:lnTo>
                        <a:pt x="367" y="423"/>
                      </a:lnTo>
                      <a:lnTo>
                        <a:pt x="375" y="413"/>
                      </a:lnTo>
                      <a:lnTo>
                        <a:pt x="375" y="405"/>
                      </a:lnTo>
                      <a:lnTo>
                        <a:pt x="375" y="397"/>
                      </a:lnTo>
                      <a:lnTo>
                        <a:pt x="375" y="390"/>
                      </a:lnTo>
                      <a:lnTo>
                        <a:pt x="376" y="381"/>
                      </a:lnTo>
                      <a:lnTo>
                        <a:pt x="386" y="380"/>
                      </a:lnTo>
                      <a:lnTo>
                        <a:pt x="396" y="377"/>
                      </a:lnTo>
                      <a:lnTo>
                        <a:pt x="406" y="374"/>
                      </a:lnTo>
                      <a:lnTo>
                        <a:pt x="418" y="370"/>
                      </a:lnTo>
                      <a:lnTo>
                        <a:pt x="428" y="366"/>
                      </a:lnTo>
                      <a:lnTo>
                        <a:pt x="440" y="357"/>
                      </a:lnTo>
                      <a:lnTo>
                        <a:pt x="450" y="347"/>
                      </a:lnTo>
                      <a:lnTo>
                        <a:pt x="460" y="334"/>
                      </a:lnTo>
                      <a:lnTo>
                        <a:pt x="466" y="312"/>
                      </a:lnTo>
                      <a:lnTo>
                        <a:pt x="469" y="289"/>
                      </a:lnTo>
                      <a:lnTo>
                        <a:pt x="469" y="267"/>
                      </a:lnTo>
                      <a:lnTo>
                        <a:pt x="469" y="243"/>
                      </a:lnTo>
                      <a:lnTo>
                        <a:pt x="474" y="237"/>
                      </a:lnTo>
                      <a:lnTo>
                        <a:pt x="482" y="231"/>
                      </a:lnTo>
                      <a:lnTo>
                        <a:pt x="489" y="227"/>
                      </a:lnTo>
                      <a:lnTo>
                        <a:pt x="500" y="223"/>
                      </a:lnTo>
                      <a:lnTo>
                        <a:pt x="512" y="211"/>
                      </a:lnTo>
                      <a:lnTo>
                        <a:pt x="518" y="196"/>
                      </a:lnTo>
                      <a:lnTo>
                        <a:pt x="523" y="182"/>
                      </a:lnTo>
                      <a:lnTo>
                        <a:pt x="529" y="166"/>
                      </a:lnTo>
                      <a:lnTo>
                        <a:pt x="536" y="147"/>
                      </a:lnTo>
                      <a:lnTo>
                        <a:pt x="536" y="140"/>
                      </a:lnTo>
                      <a:lnTo>
                        <a:pt x="539" y="133"/>
                      </a:lnTo>
                      <a:lnTo>
                        <a:pt x="541" y="127"/>
                      </a:lnTo>
                      <a:lnTo>
                        <a:pt x="541" y="118"/>
                      </a:lnTo>
                      <a:lnTo>
                        <a:pt x="552" y="114"/>
                      </a:lnTo>
                      <a:lnTo>
                        <a:pt x="563" y="108"/>
                      </a:lnTo>
                      <a:lnTo>
                        <a:pt x="571" y="103"/>
                      </a:lnTo>
                      <a:lnTo>
                        <a:pt x="581" y="97"/>
                      </a:lnTo>
                      <a:lnTo>
                        <a:pt x="599" y="77"/>
                      </a:lnTo>
                      <a:lnTo>
                        <a:pt x="602" y="74"/>
                      </a:lnTo>
                      <a:lnTo>
                        <a:pt x="604" y="66"/>
                      </a:lnTo>
                      <a:lnTo>
                        <a:pt x="607" y="56"/>
                      </a:lnTo>
                      <a:lnTo>
                        <a:pt x="613" y="46"/>
                      </a:lnTo>
                      <a:lnTo>
                        <a:pt x="612" y="35"/>
                      </a:lnTo>
                      <a:lnTo>
                        <a:pt x="609" y="25"/>
                      </a:lnTo>
                      <a:lnTo>
                        <a:pt x="609" y="13"/>
                      </a:lnTo>
                      <a:lnTo>
                        <a:pt x="613" y="0"/>
                      </a:lnTo>
                      <a:lnTo>
                        <a:pt x="646" y="22"/>
                      </a:lnTo>
                      <a:lnTo>
                        <a:pt x="678" y="46"/>
                      </a:lnTo>
                      <a:lnTo>
                        <a:pt x="707" y="72"/>
                      </a:lnTo>
                      <a:lnTo>
                        <a:pt x="735" y="100"/>
                      </a:lnTo>
                      <a:lnTo>
                        <a:pt x="761" y="127"/>
                      </a:lnTo>
                      <a:lnTo>
                        <a:pt x="787" y="157"/>
                      </a:lnTo>
                      <a:lnTo>
                        <a:pt x="811" y="188"/>
                      </a:lnTo>
                      <a:lnTo>
                        <a:pt x="834" y="218"/>
                      </a:lnTo>
                      <a:lnTo>
                        <a:pt x="859" y="249"/>
                      </a:lnTo>
                      <a:lnTo>
                        <a:pt x="884" y="277"/>
                      </a:lnTo>
                      <a:lnTo>
                        <a:pt x="908" y="306"/>
                      </a:lnTo>
                      <a:lnTo>
                        <a:pt x="933" y="335"/>
                      </a:lnTo>
                      <a:lnTo>
                        <a:pt x="960" y="361"/>
                      </a:lnTo>
                      <a:lnTo>
                        <a:pt x="989" y="386"/>
                      </a:lnTo>
                      <a:lnTo>
                        <a:pt x="1019" y="409"/>
                      </a:lnTo>
                      <a:lnTo>
                        <a:pt x="1051" y="429"/>
                      </a:lnTo>
                      <a:lnTo>
                        <a:pt x="1080" y="448"/>
                      </a:lnTo>
                      <a:lnTo>
                        <a:pt x="1111" y="465"/>
                      </a:lnTo>
                      <a:lnTo>
                        <a:pt x="1142" y="481"/>
                      </a:lnTo>
                      <a:lnTo>
                        <a:pt x="1176" y="497"/>
                      </a:lnTo>
                      <a:lnTo>
                        <a:pt x="1209" y="511"/>
                      </a:lnTo>
                      <a:lnTo>
                        <a:pt x="1244" y="526"/>
                      </a:lnTo>
                      <a:lnTo>
                        <a:pt x="1280" y="539"/>
                      </a:lnTo>
                      <a:lnTo>
                        <a:pt x="1316" y="552"/>
                      </a:lnTo>
                      <a:lnTo>
                        <a:pt x="1354" y="565"/>
                      </a:lnTo>
                      <a:lnTo>
                        <a:pt x="1391" y="576"/>
                      </a:lnTo>
                      <a:lnTo>
                        <a:pt x="1429" y="588"/>
                      </a:lnTo>
                      <a:lnTo>
                        <a:pt x="1468" y="600"/>
                      </a:lnTo>
                      <a:lnTo>
                        <a:pt x="1505" y="613"/>
                      </a:lnTo>
                      <a:lnTo>
                        <a:pt x="1543" y="624"/>
                      </a:lnTo>
                      <a:lnTo>
                        <a:pt x="1582" y="636"/>
                      </a:lnTo>
                      <a:lnTo>
                        <a:pt x="1620" y="649"/>
                      </a:lnTo>
                      <a:lnTo>
                        <a:pt x="1644" y="655"/>
                      </a:lnTo>
                      <a:lnTo>
                        <a:pt x="1667" y="662"/>
                      </a:lnTo>
                      <a:lnTo>
                        <a:pt x="1689" y="669"/>
                      </a:lnTo>
                      <a:lnTo>
                        <a:pt x="1709" y="676"/>
                      </a:lnTo>
                      <a:lnTo>
                        <a:pt x="1731" y="683"/>
                      </a:lnTo>
                      <a:lnTo>
                        <a:pt x="1751" y="689"/>
                      </a:lnTo>
                      <a:lnTo>
                        <a:pt x="1771" y="695"/>
                      </a:lnTo>
                      <a:lnTo>
                        <a:pt x="1793" y="699"/>
                      </a:lnTo>
                      <a:lnTo>
                        <a:pt x="1834" y="711"/>
                      </a:lnTo>
                      <a:lnTo>
                        <a:pt x="1874" y="722"/>
                      </a:lnTo>
                      <a:lnTo>
                        <a:pt x="1915" y="735"/>
                      </a:lnTo>
                      <a:lnTo>
                        <a:pt x="1955" y="747"/>
                      </a:lnTo>
                      <a:lnTo>
                        <a:pt x="1996" y="760"/>
                      </a:lnTo>
                      <a:lnTo>
                        <a:pt x="2036" y="773"/>
                      </a:lnTo>
                      <a:lnTo>
                        <a:pt x="2075" y="786"/>
                      </a:lnTo>
                      <a:lnTo>
                        <a:pt x="2116" y="799"/>
                      </a:lnTo>
                      <a:lnTo>
                        <a:pt x="2156" y="812"/>
                      </a:lnTo>
                      <a:lnTo>
                        <a:pt x="2195" y="825"/>
                      </a:lnTo>
                      <a:lnTo>
                        <a:pt x="2234" y="838"/>
                      </a:lnTo>
                      <a:lnTo>
                        <a:pt x="2273" y="852"/>
                      </a:lnTo>
                      <a:lnTo>
                        <a:pt x="2312" y="865"/>
                      </a:lnTo>
                      <a:lnTo>
                        <a:pt x="2351" y="880"/>
                      </a:lnTo>
                      <a:lnTo>
                        <a:pt x="2389" y="893"/>
                      </a:lnTo>
                      <a:lnTo>
                        <a:pt x="2426" y="907"/>
                      </a:lnTo>
                      <a:lnTo>
                        <a:pt x="2429" y="1091"/>
                      </a:lnTo>
                      <a:lnTo>
                        <a:pt x="2431" y="1274"/>
                      </a:lnTo>
                      <a:lnTo>
                        <a:pt x="2431" y="1458"/>
                      </a:lnTo>
                      <a:lnTo>
                        <a:pt x="2429" y="1641"/>
                      </a:lnTo>
                      <a:lnTo>
                        <a:pt x="2421" y="1654"/>
                      </a:lnTo>
                      <a:lnTo>
                        <a:pt x="2412" y="1670"/>
                      </a:lnTo>
                      <a:lnTo>
                        <a:pt x="2402" y="1688"/>
                      </a:lnTo>
                      <a:lnTo>
                        <a:pt x="2390" y="1705"/>
                      </a:lnTo>
                      <a:lnTo>
                        <a:pt x="2374" y="1708"/>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140600" y="2816280"/>
                  <a:ext cx="12600" cy="9360"/>
                </a:xfrm>
                <a:custGeom>
                  <a:avLst/>
                  <a:gdLst/>
                  <a:ahLst/>
                  <a:rect l="l" t="t" r="r" b="b"/>
                  <a:pathLst>
                    <a:path w="26" h="18">
                      <a:moveTo>
                        <a:pt x="10" y="18"/>
                      </a:moveTo>
                      <a:lnTo>
                        <a:pt x="0" y="9"/>
                      </a:lnTo>
                      <a:lnTo>
                        <a:pt x="2" y="2"/>
                      </a:lnTo>
                      <a:lnTo>
                        <a:pt x="11" y="0"/>
                      </a:lnTo>
                      <a:lnTo>
                        <a:pt x="20" y="0"/>
                      </a:lnTo>
                      <a:lnTo>
                        <a:pt x="26" y="5"/>
                      </a:lnTo>
                      <a:lnTo>
                        <a:pt x="10"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 name=""/>
                <p:cNvSpPr/>
                <p:nvPr/>
              </p:nvSpPr>
              <p:spPr>
                <a:xfrm>
                  <a:off x="7958160" y="2795760"/>
                  <a:ext cx="9360" cy="10800"/>
                </a:xfrm>
                <a:custGeom>
                  <a:avLst/>
                  <a:gdLst/>
                  <a:ahLst/>
                  <a:rect l="l" t="t" r="r" b="b"/>
                  <a:pathLst>
                    <a:path w="19" h="23">
                      <a:moveTo>
                        <a:pt x="6" y="23"/>
                      </a:moveTo>
                      <a:lnTo>
                        <a:pt x="0" y="20"/>
                      </a:lnTo>
                      <a:lnTo>
                        <a:pt x="0" y="13"/>
                      </a:lnTo>
                      <a:lnTo>
                        <a:pt x="2" y="4"/>
                      </a:lnTo>
                      <a:lnTo>
                        <a:pt x="6" y="0"/>
                      </a:lnTo>
                      <a:lnTo>
                        <a:pt x="12" y="6"/>
                      </a:lnTo>
                      <a:lnTo>
                        <a:pt x="19" y="13"/>
                      </a:lnTo>
                      <a:lnTo>
                        <a:pt x="19" y="19"/>
                      </a:lnTo>
                      <a:lnTo>
                        <a:pt x="6"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0" name=""/>
                <p:cNvSpPr/>
                <p:nvPr/>
              </p:nvSpPr>
              <p:spPr>
                <a:xfrm>
                  <a:off x="8053560" y="2793960"/>
                  <a:ext cx="9360" cy="9720"/>
                </a:xfrm>
                <a:custGeom>
                  <a:avLst/>
                  <a:gdLst/>
                  <a:ahLst/>
                  <a:rect l="l" t="t" r="r" b="b"/>
                  <a:pathLst>
                    <a:path w="18" h="19">
                      <a:moveTo>
                        <a:pt x="4" y="19"/>
                      </a:moveTo>
                      <a:lnTo>
                        <a:pt x="0" y="16"/>
                      </a:lnTo>
                      <a:lnTo>
                        <a:pt x="0" y="7"/>
                      </a:lnTo>
                      <a:lnTo>
                        <a:pt x="3" y="1"/>
                      </a:lnTo>
                      <a:lnTo>
                        <a:pt x="10" y="0"/>
                      </a:lnTo>
                      <a:lnTo>
                        <a:pt x="16" y="4"/>
                      </a:lnTo>
                      <a:lnTo>
                        <a:pt x="18" y="13"/>
                      </a:lnTo>
                      <a:lnTo>
                        <a:pt x="16" y="1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 name=""/>
                <p:cNvSpPr/>
                <p:nvPr/>
              </p:nvSpPr>
              <p:spPr>
                <a:xfrm>
                  <a:off x="8120160" y="2778120"/>
                  <a:ext cx="9360" cy="12600"/>
                </a:xfrm>
                <a:custGeom>
                  <a:avLst/>
                  <a:gdLst/>
                  <a:ahLst/>
                  <a:rect l="l" t="t" r="r" b="b"/>
                  <a:pathLst>
                    <a:path w="19" h="26">
                      <a:moveTo>
                        <a:pt x="9" y="26"/>
                      </a:moveTo>
                      <a:lnTo>
                        <a:pt x="3" y="21"/>
                      </a:lnTo>
                      <a:lnTo>
                        <a:pt x="0" y="14"/>
                      </a:lnTo>
                      <a:lnTo>
                        <a:pt x="0" y="5"/>
                      </a:lnTo>
                      <a:lnTo>
                        <a:pt x="6" y="0"/>
                      </a:lnTo>
                      <a:lnTo>
                        <a:pt x="14" y="3"/>
                      </a:lnTo>
                      <a:lnTo>
                        <a:pt x="19" y="11"/>
                      </a:lnTo>
                      <a:lnTo>
                        <a:pt x="17" y="20"/>
                      </a:lnTo>
                      <a:lnTo>
                        <a:pt x="9"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 name=""/>
                <p:cNvSpPr/>
                <p:nvPr/>
              </p:nvSpPr>
              <p:spPr>
                <a:xfrm>
                  <a:off x="8221680" y="2768760"/>
                  <a:ext cx="7920" cy="10800"/>
                </a:xfrm>
                <a:custGeom>
                  <a:avLst/>
                  <a:gdLst/>
                  <a:ahLst/>
                  <a:rect l="l" t="t" r="r" b="b"/>
                  <a:pathLst>
                    <a:path w="17" h="22">
                      <a:moveTo>
                        <a:pt x="0" y="22"/>
                      </a:moveTo>
                      <a:lnTo>
                        <a:pt x="3" y="0"/>
                      </a:lnTo>
                      <a:lnTo>
                        <a:pt x="17" y="15"/>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3" name=""/>
                <p:cNvSpPr/>
                <p:nvPr/>
              </p:nvSpPr>
              <p:spPr>
                <a:xfrm>
                  <a:off x="7089840" y="2776680"/>
                  <a:ext cx="11160" cy="10800"/>
                </a:xfrm>
                <a:custGeom>
                  <a:avLst/>
                  <a:gdLst/>
                  <a:ahLst/>
                  <a:rect l="l" t="t" r="r" b="b"/>
                  <a:pathLst>
                    <a:path w="21" h="23">
                      <a:moveTo>
                        <a:pt x="7" y="23"/>
                      </a:moveTo>
                      <a:lnTo>
                        <a:pt x="0" y="4"/>
                      </a:lnTo>
                      <a:lnTo>
                        <a:pt x="8" y="0"/>
                      </a:lnTo>
                      <a:lnTo>
                        <a:pt x="15" y="3"/>
                      </a:lnTo>
                      <a:lnTo>
                        <a:pt x="20" y="11"/>
                      </a:lnTo>
                      <a:lnTo>
                        <a:pt x="21" y="21"/>
                      </a:lnTo>
                      <a:lnTo>
                        <a:pt x="7"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4" name=""/>
                <p:cNvSpPr/>
                <p:nvPr/>
              </p:nvSpPr>
              <p:spPr>
                <a:xfrm>
                  <a:off x="8339040" y="2716200"/>
                  <a:ext cx="39960" cy="50760"/>
                </a:xfrm>
                <a:custGeom>
                  <a:avLst/>
                  <a:gdLst/>
                  <a:ahLst/>
                  <a:rect l="l" t="t" r="r" b="b"/>
                  <a:pathLst>
                    <a:path w="75" h="95">
                      <a:moveTo>
                        <a:pt x="7" y="95"/>
                      </a:moveTo>
                      <a:lnTo>
                        <a:pt x="0" y="77"/>
                      </a:lnTo>
                      <a:lnTo>
                        <a:pt x="9" y="68"/>
                      </a:lnTo>
                      <a:lnTo>
                        <a:pt x="17" y="58"/>
                      </a:lnTo>
                      <a:lnTo>
                        <a:pt x="25" y="49"/>
                      </a:lnTo>
                      <a:lnTo>
                        <a:pt x="32" y="39"/>
                      </a:lnTo>
                      <a:lnTo>
                        <a:pt x="39" y="29"/>
                      </a:lnTo>
                      <a:lnTo>
                        <a:pt x="46" y="19"/>
                      </a:lnTo>
                      <a:lnTo>
                        <a:pt x="53" y="10"/>
                      </a:lnTo>
                      <a:lnTo>
                        <a:pt x="62" y="0"/>
                      </a:lnTo>
                      <a:lnTo>
                        <a:pt x="72" y="2"/>
                      </a:lnTo>
                      <a:lnTo>
                        <a:pt x="75" y="9"/>
                      </a:lnTo>
                      <a:lnTo>
                        <a:pt x="69" y="20"/>
                      </a:lnTo>
                      <a:lnTo>
                        <a:pt x="64" y="32"/>
                      </a:lnTo>
                      <a:lnTo>
                        <a:pt x="56" y="43"/>
                      </a:lnTo>
                      <a:lnTo>
                        <a:pt x="48" y="55"/>
                      </a:lnTo>
                      <a:lnTo>
                        <a:pt x="38" y="65"/>
                      </a:lnTo>
                      <a:lnTo>
                        <a:pt x="27" y="77"/>
                      </a:lnTo>
                      <a:lnTo>
                        <a:pt x="17" y="85"/>
                      </a:lnTo>
                      <a:lnTo>
                        <a:pt x="7"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
                <p:cNvSpPr/>
                <p:nvPr/>
              </p:nvSpPr>
              <p:spPr>
                <a:xfrm>
                  <a:off x="7209000" y="2757600"/>
                  <a:ext cx="14040" cy="12600"/>
                </a:xfrm>
                <a:custGeom>
                  <a:avLst/>
                  <a:gdLst/>
                  <a:ahLst/>
                  <a:rect l="l" t="t" r="r" b="b"/>
                  <a:pathLst>
                    <a:path w="25" h="24">
                      <a:moveTo>
                        <a:pt x="15" y="24"/>
                      </a:moveTo>
                      <a:lnTo>
                        <a:pt x="0" y="5"/>
                      </a:lnTo>
                      <a:lnTo>
                        <a:pt x="7" y="0"/>
                      </a:lnTo>
                      <a:lnTo>
                        <a:pt x="15" y="1"/>
                      </a:lnTo>
                      <a:lnTo>
                        <a:pt x="20" y="8"/>
                      </a:lnTo>
                      <a:lnTo>
                        <a:pt x="25" y="18"/>
                      </a:lnTo>
                      <a:lnTo>
                        <a:pt x="1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 name=""/>
                <p:cNvSpPr/>
                <p:nvPr/>
              </p:nvSpPr>
              <p:spPr>
                <a:xfrm>
                  <a:off x="7402680" y="2751120"/>
                  <a:ext cx="10800" cy="14400"/>
                </a:xfrm>
                <a:custGeom>
                  <a:avLst/>
                  <a:gdLst/>
                  <a:ahLst/>
                  <a:rect l="l" t="t" r="r" b="b"/>
                  <a:pathLst>
                    <a:path w="19" h="26">
                      <a:moveTo>
                        <a:pt x="6" y="26"/>
                      </a:moveTo>
                      <a:lnTo>
                        <a:pt x="0" y="23"/>
                      </a:lnTo>
                      <a:lnTo>
                        <a:pt x="0" y="14"/>
                      </a:lnTo>
                      <a:lnTo>
                        <a:pt x="4" y="5"/>
                      </a:lnTo>
                      <a:lnTo>
                        <a:pt x="13" y="0"/>
                      </a:lnTo>
                      <a:lnTo>
                        <a:pt x="17" y="5"/>
                      </a:lnTo>
                      <a:lnTo>
                        <a:pt x="19" y="14"/>
                      </a:lnTo>
                      <a:lnTo>
                        <a:pt x="16" y="23"/>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 name=""/>
                <p:cNvSpPr/>
                <p:nvPr/>
              </p:nvSpPr>
              <p:spPr>
                <a:xfrm>
                  <a:off x="8013600" y="2744640"/>
                  <a:ext cx="12960" cy="12960"/>
                </a:xfrm>
                <a:custGeom>
                  <a:avLst/>
                  <a:gdLst/>
                  <a:ahLst/>
                  <a:rect l="l" t="t" r="r" b="b"/>
                  <a:pathLst>
                    <a:path w="22" h="22">
                      <a:moveTo>
                        <a:pt x="13" y="22"/>
                      </a:moveTo>
                      <a:lnTo>
                        <a:pt x="0" y="6"/>
                      </a:lnTo>
                      <a:lnTo>
                        <a:pt x="3" y="0"/>
                      </a:lnTo>
                      <a:lnTo>
                        <a:pt x="12" y="0"/>
                      </a:lnTo>
                      <a:lnTo>
                        <a:pt x="19" y="4"/>
                      </a:lnTo>
                      <a:lnTo>
                        <a:pt x="22" y="10"/>
                      </a:lnTo>
                      <a:lnTo>
                        <a:pt x="13"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8" name=""/>
                <p:cNvSpPr/>
                <p:nvPr/>
              </p:nvSpPr>
              <p:spPr>
                <a:xfrm>
                  <a:off x="7334280" y="2749680"/>
                  <a:ext cx="7920" cy="12600"/>
                </a:xfrm>
                <a:custGeom>
                  <a:avLst/>
                  <a:gdLst/>
                  <a:ahLst/>
                  <a:rect l="l" t="t" r="r" b="b"/>
                  <a:pathLst>
                    <a:path w="16" h="26">
                      <a:moveTo>
                        <a:pt x="6" y="26"/>
                      </a:moveTo>
                      <a:lnTo>
                        <a:pt x="3" y="22"/>
                      </a:lnTo>
                      <a:lnTo>
                        <a:pt x="0" y="13"/>
                      </a:lnTo>
                      <a:lnTo>
                        <a:pt x="1" y="5"/>
                      </a:lnTo>
                      <a:lnTo>
                        <a:pt x="10" y="0"/>
                      </a:lnTo>
                      <a:lnTo>
                        <a:pt x="13" y="5"/>
                      </a:lnTo>
                      <a:lnTo>
                        <a:pt x="16" y="13"/>
                      </a:lnTo>
                      <a:lnTo>
                        <a:pt x="14" y="23"/>
                      </a:lnTo>
                      <a:lnTo>
                        <a:pt x="6"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 name=""/>
                <p:cNvSpPr/>
                <p:nvPr/>
              </p:nvSpPr>
              <p:spPr>
                <a:xfrm>
                  <a:off x="7020000" y="2752560"/>
                  <a:ext cx="9360" cy="1116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 name=""/>
                <p:cNvSpPr/>
                <p:nvPr/>
              </p:nvSpPr>
              <p:spPr>
                <a:xfrm>
                  <a:off x="8140680" y="2733840"/>
                  <a:ext cx="9720" cy="10800"/>
                </a:xfrm>
                <a:custGeom>
                  <a:avLst/>
                  <a:gdLst/>
                  <a:ahLst/>
                  <a:rect l="l" t="t" r="r" b="b"/>
                  <a:pathLst>
                    <a:path w="17" h="22">
                      <a:moveTo>
                        <a:pt x="9" y="22"/>
                      </a:moveTo>
                      <a:lnTo>
                        <a:pt x="0" y="0"/>
                      </a:lnTo>
                      <a:lnTo>
                        <a:pt x="17" y="3"/>
                      </a:lnTo>
                      <a:lnTo>
                        <a:pt x="9"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1" name=""/>
                <p:cNvSpPr/>
                <p:nvPr/>
              </p:nvSpPr>
              <p:spPr>
                <a:xfrm>
                  <a:off x="7156440" y="2732040"/>
                  <a:ext cx="7920" cy="11160"/>
                </a:xfrm>
                <a:custGeom>
                  <a:avLst/>
                  <a:gdLst/>
                  <a:ahLst/>
                  <a:rect l="l" t="t" r="r" b="b"/>
                  <a:pathLst>
                    <a:path w="16" h="22">
                      <a:moveTo>
                        <a:pt x="4" y="22"/>
                      </a:moveTo>
                      <a:lnTo>
                        <a:pt x="0" y="0"/>
                      </a:lnTo>
                      <a:lnTo>
                        <a:pt x="7" y="0"/>
                      </a:lnTo>
                      <a:lnTo>
                        <a:pt x="13" y="4"/>
                      </a:lnTo>
                      <a:lnTo>
                        <a:pt x="16" y="12"/>
                      </a:lnTo>
                      <a:lnTo>
                        <a:pt x="13" y="22"/>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962840" y="2717640"/>
                  <a:ext cx="11160" cy="11160"/>
                </a:xfrm>
                <a:custGeom>
                  <a:avLst/>
                  <a:gdLst/>
                  <a:ahLst/>
                  <a:rect l="l" t="t" r="r" b="b"/>
                  <a:pathLst>
                    <a:path w="21" h="21">
                      <a:moveTo>
                        <a:pt x="5" y="21"/>
                      </a:moveTo>
                      <a:lnTo>
                        <a:pt x="0" y="3"/>
                      </a:lnTo>
                      <a:lnTo>
                        <a:pt x="5" y="0"/>
                      </a:lnTo>
                      <a:lnTo>
                        <a:pt x="13" y="2"/>
                      </a:lnTo>
                      <a:lnTo>
                        <a:pt x="18" y="8"/>
                      </a:lnTo>
                      <a:lnTo>
                        <a:pt x="21" y="15"/>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3" name=""/>
                <p:cNvSpPr/>
                <p:nvPr/>
              </p:nvSpPr>
              <p:spPr>
                <a:xfrm>
                  <a:off x="8088480" y="2698920"/>
                  <a:ext cx="10800" cy="10800"/>
                </a:xfrm>
                <a:custGeom>
                  <a:avLst/>
                  <a:gdLst/>
                  <a:ahLst/>
                  <a:rect l="l" t="t" r="r" b="b"/>
                  <a:pathLst>
                    <a:path w="21" h="20">
                      <a:moveTo>
                        <a:pt x="11" y="20"/>
                      </a:moveTo>
                      <a:lnTo>
                        <a:pt x="0" y="3"/>
                      </a:lnTo>
                      <a:lnTo>
                        <a:pt x="7" y="0"/>
                      </a:lnTo>
                      <a:lnTo>
                        <a:pt x="14" y="3"/>
                      </a:lnTo>
                      <a:lnTo>
                        <a:pt x="18" y="10"/>
                      </a:lnTo>
                      <a:lnTo>
                        <a:pt x="21" y="19"/>
                      </a:lnTo>
                      <a:lnTo>
                        <a:pt x="11"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4" name=""/>
                <p:cNvSpPr/>
                <p:nvPr/>
              </p:nvSpPr>
              <p:spPr>
                <a:xfrm>
                  <a:off x="7269120" y="2700360"/>
                  <a:ext cx="11160" cy="11160"/>
                </a:xfrm>
                <a:custGeom>
                  <a:avLst/>
                  <a:gdLst/>
                  <a:ahLst/>
                  <a:rect l="l" t="t" r="r" b="b"/>
                  <a:pathLst>
                    <a:path w="19" h="21">
                      <a:moveTo>
                        <a:pt x="5" y="21"/>
                      </a:moveTo>
                      <a:lnTo>
                        <a:pt x="0" y="1"/>
                      </a:lnTo>
                      <a:lnTo>
                        <a:pt x="9" y="0"/>
                      </a:lnTo>
                      <a:lnTo>
                        <a:pt x="15" y="3"/>
                      </a:lnTo>
                      <a:lnTo>
                        <a:pt x="19" y="10"/>
                      </a:lnTo>
                      <a:lnTo>
                        <a:pt x="18" y="19"/>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 name=""/>
                <p:cNvSpPr/>
                <p:nvPr/>
              </p:nvSpPr>
              <p:spPr>
                <a:xfrm>
                  <a:off x="6994440" y="2700360"/>
                  <a:ext cx="12960" cy="14400"/>
                </a:xfrm>
                <a:custGeom>
                  <a:avLst/>
                  <a:gdLst/>
                  <a:ahLst/>
                  <a:rect l="l" t="t" r="r" b="b"/>
                  <a:pathLst>
                    <a:path w="24" h="25">
                      <a:moveTo>
                        <a:pt x="7" y="25"/>
                      </a:moveTo>
                      <a:lnTo>
                        <a:pt x="0" y="3"/>
                      </a:lnTo>
                      <a:lnTo>
                        <a:pt x="7" y="0"/>
                      </a:lnTo>
                      <a:lnTo>
                        <a:pt x="13" y="2"/>
                      </a:lnTo>
                      <a:lnTo>
                        <a:pt x="19" y="7"/>
                      </a:lnTo>
                      <a:lnTo>
                        <a:pt x="24" y="13"/>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6" name=""/>
                <p:cNvSpPr/>
                <p:nvPr/>
              </p:nvSpPr>
              <p:spPr>
                <a:xfrm>
                  <a:off x="8034480" y="2676600"/>
                  <a:ext cx="7920" cy="11160"/>
                </a:xfrm>
                <a:custGeom>
                  <a:avLst/>
                  <a:gdLst/>
                  <a:ahLst/>
                  <a:rect l="l" t="t" r="r" b="b"/>
                  <a:pathLst>
                    <a:path w="15" h="19">
                      <a:moveTo>
                        <a:pt x="2" y="19"/>
                      </a:moveTo>
                      <a:lnTo>
                        <a:pt x="0" y="0"/>
                      </a:lnTo>
                      <a:lnTo>
                        <a:pt x="5" y="0"/>
                      </a:lnTo>
                      <a:lnTo>
                        <a:pt x="11" y="3"/>
                      </a:lnTo>
                      <a:lnTo>
                        <a:pt x="15" y="9"/>
                      </a:lnTo>
                      <a:lnTo>
                        <a:pt x="13" y="19"/>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 name=""/>
                <p:cNvSpPr/>
                <p:nvPr/>
              </p:nvSpPr>
              <p:spPr>
                <a:xfrm>
                  <a:off x="7094520" y="2679840"/>
                  <a:ext cx="9720" cy="14040"/>
                </a:xfrm>
                <a:custGeom>
                  <a:avLst/>
                  <a:gdLst/>
                  <a:ahLst/>
                  <a:rect l="l" t="t" r="r" b="b"/>
                  <a:pathLst>
                    <a:path w="18" h="26">
                      <a:moveTo>
                        <a:pt x="10" y="26"/>
                      </a:moveTo>
                      <a:lnTo>
                        <a:pt x="3" y="23"/>
                      </a:lnTo>
                      <a:lnTo>
                        <a:pt x="0" y="16"/>
                      </a:lnTo>
                      <a:lnTo>
                        <a:pt x="0" y="7"/>
                      </a:lnTo>
                      <a:lnTo>
                        <a:pt x="6" y="0"/>
                      </a:lnTo>
                      <a:lnTo>
                        <a:pt x="12" y="5"/>
                      </a:lnTo>
                      <a:lnTo>
                        <a:pt x="18" y="13"/>
                      </a:lnTo>
                      <a:lnTo>
                        <a:pt x="18" y="22"/>
                      </a:lnTo>
                      <a:lnTo>
                        <a:pt x="1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8" name=""/>
                <p:cNvSpPr/>
                <p:nvPr/>
              </p:nvSpPr>
              <p:spPr>
                <a:xfrm>
                  <a:off x="7439040" y="2662200"/>
                  <a:ext cx="9360" cy="14400"/>
                </a:xfrm>
                <a:custGeom>
                  <a:avLst/>
                  <a:gdLst/>
                  <a:ahLst/>
                  <a:rect l="l" t="t" r="r" b="b"/>
                  <a:pathLst>
                    <a:path w="17" h="25">
                      <a:moveTo>
                        <a:pt x="7" y="25"/>
                      </a:moveTo>
                      <a:lnTo>
                        <a:pt x="0" y="9"/>
                      </a:lnTo>
                      <a:lnTo>
                        <a:pt x="16" y="0"/>
                      </a:lnTo>
                      <a:lnTo>
                        <a:pt x="17" y="6"/>
                      </a:lnTo>
                      <a:lnTo>
                        <a:pt x="17" y="13"/>
                      </a:lnTo>
                      <a:lnTo>
                        <a:pt x="14" y="20"/>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9" name=""/>
                <p:cNvSpPr/>
                <p:nvPr/>
              </p:nvSpPr>
              <p:spPr>
                <a:xfrm>
                  <a:off x="7034040" y="2665440"/>
                  <a:ext cx="9720" cy="11160"/>
                </a:xfrm>
                <a:custGeom>
                  <a:avLst/>
                  <a:gdLst/>
                  <a:ahLst/>
                  <a:rect l="l" t="t" r="r" b="b"/>
                  <a:pathLst>
                    <a:path w="18" h="23">
                      <a:moveTo>
                        <a:pt x="3" y="23"/>
                      </a:moveTo>
                      <a:lnTo>
                        <a:pt x="0" y="0"/>
                      </a:lnTo>
                      <a:lnTo>
                        <a:pt x="8" y="0"/>
                      </a:lnTo>
                      <a:lnTo>
                        <a:pt x="15" y="3"/>
                      </a:lnTo>
                      <a:lnTo>
                        <a:pt x="18" y="9"/>
                      </a:lnTo>
                      <a:lnTo>
                        <a:pt x="18" y="16"/>
                      </a:lnTo>
                      <a:lnTo>
                        <a:pt x="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 name=""/>
                <p:cNvSpPr/>
                <p:nvPr/>
              </p:nvSpPr>
              <p:spPr>
                <a:xfrm>
                  <a:off x="7218360" y="2649600"/>
                  <a:ext cx="12600" cy="12600"/>
                </a:xfrm>
                <a:custGeom>
                  <a:avLst/>
                  <a:gdLst/>
                  <a:ahLst/>
                  <a:rect l="l" t="t" r="r" b="b"/>
                  <a:pathLst>
                    <a:path w="26" h="25">
                      <a:moveTo>
                        <a:pt x="10" y="25"/>
                      </a:moveTo>
                      <a:lnTo>
                        <a:pt x="0" y="8"/>
                      </a:lnTo>
                      <a:lnTo>
                        <a:pt x="9" y="0"/>
                      </a:lnTo>
                      <a:lnTo>
                        <a:pt x="26" y="15"/>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 name=""/>
                <p:cNvSpPr/>
                <p:nvPr/>
              </p:nvSpPr>
              <p:spPr>
                <a:xfrm>
                  <a:off x="8051760" y="2630520"/>
                  <a:ext cx="7920" cy="11160"/>
                </a:xfrm>
                <a:custGeom>
                  <a:avLst/>
                  <a:gdLst/>
                  <a:ahLst/>
                  <a:rect l="l" t="t" r="r" b="b"/>
                  <a:pathLst>
                    <a:path w="16" h="22">
                      <a:moveTo>
                        <a:pt x="3" y="22"/>
                      </a:moveTo>
                      <a:lnTo>
                        <a:pt x="0" y="1"/>
                      </a:lnTo>
                      <a:lnTo>
                        <a:pt x="5" y="0"/>
                      </a:lnTo>
                      <a:lnTo>
                        <a:pt x="10" y="3"/>
                      </a:lnTo>
                      <a:lnTo>
                        <a:pt x="15" y="7"/>
                      </a:lnTo>
                      <a:lnTo>
                        <a:pt x="16" y="14"/>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 name=""/>
                <p:cNvSpPr/>
                <p:nvPr/>
              </p:nvSpPr>
              <p:spPr>
                <a:xfrm>
                  <a:off x="7304040" y="2635200"/>
                  <a:ext cx="11160" cy="11160"/>
                </a:xfrm>
                <a:custGeom>
                  <a:avLst/>
                  <a:gdLst/>
                  <a:ahLst/>
                  <a:rect l="l" t="t" r="r" b="b"/>
                  <a:pathLst>
                    <a:path w="23" h="23">
                      <a:moveTo>
                        <a:pt x="4" y="23"/>
                      </a:moveTo>
                      <a:lnTo>
                        <a:pt x="0" y="2"/>
                      </a:lnTo>
                      <a:lnTo>
                        <a:pt x="6" y="0"/>
                      </a:lnTo>
                      <a:lnTo>
                        <a:pt x="13" y="1"/>
                      </a:lnTo>
                      <a:lnTo>
                        <a:pt x="19" y="7"/>
                      </a:lnTo>
                      <a:lnTo>
                        <a:pt x="23" y="15"/>
                      </a:lnTo>
                      <a:lnTo>
                        <a:pt x="4"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 name=""/>
                <p:cNvSpPr/>
                <p:nvPr/>
              </p:nvSpPr>
              <p:spPr>
                <a:xfrm>
                  <a:off x="7373880" y="2635200"/>
                  <a:ext cx="9720" cy="11160"/>
                </a:xfrm>
                <a:custGeom>
                  <a:avLst/>
                  <a:gdLst/>
                  <a:ahLst/>
                  <a:rect l="l" t="t" r="r" b="b"/>
                  <a:pathLst>
                    <a:path w="18" h="21">
                      <a:moveTo>
                        <a:pt x="0" y="21"/>
                      </a:moveTo>
                      <a:lnTo>
                        <a:pt x="0" y="1"/>
                      </a:lnTo>
                      <a:lnTo>
                        <a:pt x="9" y="0"/>
                      </a:lnTo>
                      <a:lnTo>
                        <a:pt x="15" y="2"/>
                      </a:lnTo>
                      <a:lnTo>
                        <a:pt x="18" y="10"/>
                      </a:lnTo>
                      <a:lnTo>
                        <a:pt x="15"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 name=""/>
                <p:cNvSpPr/>
                <p:nvPr/>
              </p:nvSpPr>
              <p:spPr>
                <a:xfrm>
                  <a:off x="7480440" y="2606760"/>
                  <a:ext cx="12600" cy="11160"/>
                </a:xfrm>
                <a:custGeom>
                  <a:avLst/>
                  <a:gdLst/>
                  <a:ahLst/>
                  <a:rect l="l" t="t" r="r" b="b"/>
                  <a:pathLst>
                    <a:path w="23" h="22">
                      <a:moveTo>
                        <a:pt x="15" y="22"/>
                      </a:moveTo>
                      <a:lnTo>
                        <a:pt x="6" y="20"/>
                      </a:lnTo>
                      <a:lnTo>
                        <a:pt x="1" y="14"/>
                      </a:lnTo>
                      <a:lnTo>
                        <a:pt x="0" y="7"/>
                      </a:lnTo>
                      <a:lnTo>
                        <a:pt x="1" y="0"/>
                      </a:lnTo>
                      <a:lnTo>
                        <a:pt x="23" y="3"/>
                      </a:lnTo>
                      <a:lnTo>
                        <a:pt x="15"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 name=""/>
                <p:cNvSpPr/>
                <p:nvPr/>
              </p:nvSpPr>
              <p:spPr>
                <a:xfrm>
                  <a:off x="7104240" y="2606760"/>
                  <a:ext cx="10800" cy="11160"/>
                </a:xfrm>
                <a:custGeom>
                  <a:avLst/>
                  <a:gdLst/>
                  <a:ahLst/>
                  <a:rect l="l" t="t" r="r" b="b"/>
                  <a:pathLst>
                    <a:path w="19" h="21">
                      <a:moveTo>
                        <a:pt x="9" y="21"/>
                      </a:moveTo>
                      <a:lnTo>
                        <a:pt x="0" y="2"/>
                      </a:lnTo>
                      <a:lnTo>
                        <a:pt x="6" y="0"/>
                      </a:lnTo>
                      <a:lnTo>
                        <a:pt x="12" y="2"/>
                      </a:lnTo>
                      <a:lnTo>
                        <a:pt x="17" y="6"/>
                      </a:lnTo>
                      <a:lnTo>
                        <a:pt x="19" y="13"/>
                      </a:lnTo>
                      <a:lnTo>
                        <a:pt x="9"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 name=""/>
                <p:cNvSpPr/>
                <p:nvPr/>
              </p:nvSpPr>
              <p:spPr>
                <a:xfrm>
                  <a:off x="7161120" y="2593800"/>
                  <a:ext cx="12960" cy="14400"/>
                </a:xfrm>
                <a:custGeom>
                  <a:avLst/>
                  <a:gdLst/>
                  <a:ahLst/>
                  <a:rect l="l" t="t" r="r" b="b"/>
                  <a:pathLst>
                    <a:path w="24" h="26">
                      <a:moveTo>
                        <a:pt x="6" y="26"/>
                      </a:moveTo>
                      <a:lnTo>
                        <a:pt x="0" y="22"/>
                      </a:lnTo>
                      <a:lnTo>
                        <a:pt x="0" y="13"/>
                      </a:lnTo>
                      <a:lnTo>
                        <a:pt x="5" y="4"/>
                      </a:lnTo>
                      <a:lnTo>
                        <a:pt x="14" y="0"/>
                      </a:lnTo>
                      <a:lnTo>
                        <a:pt x="24" y="24"/>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7" name=""/>
                <p:cNvSpPr/>
                <p:nvPr/>
              </p:nvSpPr>
              <p:spPr>
                <a:xfrm>
                  <a:off x="7257960" y="2583000"/>
                  <a:ext cx="11160" cy="9360"/>
                </a:xfrm>
                <a:custGeom>
                  <a:avLst/>
                  <a:gdLst/>
                  <a:ahLst/>
                  <a:rect l="l" t="t" r="r" b="b"/>
                  <a:pathLst>
                    <a:path w="20" h="18">
                      <a:moveTo>
                        <a:pt x="5" y="18"/>
                      </a:moveTo>
                      <a:lnTo>
                        <a:pt x="0" y="0"/>
                      </a:lnTo>
                      <a:lnTo>
                        <a:pt x="5" y="0"/>
                      </a:lnTo>
                      <a:lnTo>
                        <a:pt x="13" y="3"/>
                      </a:lnTo>
                      <a:lnTo>
                        <a:pt x="17" y="7"/>
                      </a:lnTo>
                      <a:lnTo>
                        <a:pt x="20" y="16"/>
                      </a:lnTo>
                      <a:lnTo>
                        <a:pt x="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6991200" y="2571840"/>
                  <a:ext cx="7920" cy="11160"/>
                </a:xfrm>
                <a:custGeom>
                  <a:avLst/>
                  <a:gdLst/>
                  <a:ahLst/>
                  <a:rect l="l" t="t" r="r" b="b"/>
                  <a:pathLst>
                    <a:path w="15" h="21">
                      <a:moveTo>
                        <a:pt x="5" y="21"/>
                      </a:moveTo>
                      <a:lnTo>
                        <a:pt x="0" y="0"/>
                      </a:lnTo>
                      <a:lnTo>
                        <a:pt x="8" y="2"/>
                      </a:lnTo>
                      <a:lnTo>
                        <a:pt x="15" y="10"/>
                      </a:lnTo>
                      <a:lnTo>
                        <a:pt x="15" y="17"/>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 name=""/>
                <p:cNvSpPr/>
                <p:nvPr/>
              </p:nvSpPr>
              <p:spPr>
                <a:xfrm>
                  <a:off x="7332840" y="2563920"/>
                  <a:ext cx="10800" cy="12600"/>
                </a:xfrm>
                <a:custGeom>
                  <a:avLst/>
                  <a:gdLst/>
                  <a:ahLst/>
                  <a:rect l="l" t="t" r="r" b="b"/>
                  <a:pathLst>
                    <a:path w="23" h="23">
                      <a:moveTo>
                        <a:pt x="8" y="23"/>
                      </a:moveTo>
                      <a:lnTo>
                        <a:pt x="0" y="1"/>
                      </a:lnTo>
                      <a:lnTo>
                        <a:pt x="10" y="0"/>
                      </a:lnTo>
                      <a:lnTo>
                        <a:pt x="17" y="1"/>
                      </a:lnTo>
                      <a:lnTo>
                        <a:pt x="23" y="7"/>
                      </a:lnTo>
                      <a:lnTo>
                        <a:pt x="23" y="17"/>
                      </a:lnTo>
                      <a:lnTo>
                        <a:pt x="8"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0" name=""/>
                <p:cNvSpPr/>
                <p:nvPr/>
              </p:nvSpPr>
              <p:spPr>
                <a:xfrm>
                  <a:off x="7464600" y="2550960"/>
                  <a:ext cx="14040" cy="11160"/>
                </a:xfrm>
                <a:custGeom>
                  <a:avLst/>
                  <a:gdLst/>
                  <a:ahLst/>
                  <a:rect l="l" t="t" r="r" b="b"/>
                  <a:pathLst>
                    <a:path w="25" h="19">
                      <a:moveTo>
                        <a:pt x="7" y="19"/>
                      </a:moveTo>
                      <a:lnTo>
                        <a:pt x="0" y="3"/>
                      </a:lnTo>
                      <a:lnTo>
                        <a:pt x="7" y="0"/>
                      </a:lnTo>
                      <a:lnTo>
                        <a:pt x="15" y="2"/>
                      </a:lnTo>
                      <a:lnTo>
                        <a:pt x="22" y="8"/>
                      </a:lnTo>
                      <a:lnTo>
                        <a:pt x="25" y="15"/>
                      </a:lnTo>
                      <a:lnTo>
                        <a:pt x="7"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 name=""/>
                <p:cNvSpPr/>
                <p:nvPr/>
              </p:nvSpPr>
              <p:spPr>
                <a:xfrm>
                  <a:off x="7732800" y="2232000"/>
                  <a:ext cx="460440" cy="311040"/>
                </a:xfrm>
                <a:custGeom>
                  <a:avLst/>
                  <a:gdLst/>
                  <a:ahLst/>
                  <a:rect l="l" t="t" r="r" b="b"/>
                  <a:pathLst>
                    <a:path w="869" h="588">
                      <a:moveTo>
                        <a:pt x="663" y="588"/>
                      </a:moveTo>
                      <a:lnTo>
                        <a:pt x="657" y="587"/>
                      </a:lnTo>
                      <a:lnTo>
                        <a:pt x="650" y="585"/>
                      </a:lnTo>
                      <a:lnTo>
                        <a:pt x="642" y="585"/>
                      </a:lnTo>
                      <a:lnTo>
                        <a:pt x="635" y="584"/>
                      </a:lnTo>
                      <a:lnTo>
                        <a:pt x="628" y="584"/>
                      </a:lnTo>
                      <a:lnTo>
                        <a:pt x="621" y="582"/>
                      </a:lnTo>
                      <a:lnTo>
                        <a:pt x="613" y="579"/>
                      </a:lnTo>
                      <a:lnTo>
                        <a:pt x="608" y="575"/>
                      </a:lnTo>
                      <a:lnTo>
                        <a:pt x="618" y="555"/>
                      </a:lnTo>
                      <a:lnTo>
                        <a:pt x="629" y="535"/>
                      </a:lnTo>
                      <a:lnTo>
                        <a:pt x="642" y="514"/>
                      </a:lnTo>
                      <a:lnTo>
                        <a:pt x="654" y="493"/>
                      </a:lnTo>
                      <a:lnTo>
                        <a:pt x="664" y="471"/>
                      </a:lnTo>
                      <a:lnTo>
                        <a:pt x="671" y="448"/>
                      </a:lnTo>
                      <a:lnTo>
                        <a:pt x="677" y="422"/>
                      </a:lnTo>
                      <a:lnTo>
                        <a:pt x="678" y="396"/>
                      </a:lnTo>
                      <a:lnTo>
                        <a:pt x="671" y="383"/>
                      </a:lnTo>
                      <a:lnTo>
                        <a:pt x="663" y="370"/>
                      </a:lnTo>
                      <a:lnTo>
                        <a:pt x="651" y="357"/>
                      </a:lnTo>
                      <a:lnTo>
                        <a:pt x="638" y="345"/>
                      </a:lnTo>
                      <a:lnTo>
                        <a:pt x="628" y="341"/>
                      </a:lnTo>
                      <a:lnTo>
                        <a:pt x="619" y="337"/>
                      </a:lnTo>
                      <a:lnTo>
                        <a:pt x="609" y="334"/>
                      </a:lnTo>
                      <a:lnTo>
                        <a:pt x="597" y="335"/>
                      </a:lnTo>
                      <a:lnTo>
                        <a:pt x="597" y="318"/>
                      </a:lnTo>
                      <a:lnTo>
                        <a:pt x="597" y="301"/>
                      </a:lnTo>
                      <a:lnTo>
                        <a:pt x="597" y="282"/>
                      </a:lnTo>
                      <a:lnTo>
                        <a:pt x="596" y="263"/>
                      </a:lnTo>
                      <a:lnTo>
                        <a:pt x="593" y="256"/>
                      </a:lnTo>
                      <a:lnTo>
                        <a:pt x="590" y="249"/>
                      </a:lnTo>
                      <a:lnTo>
                        <a:pt x="586" y="241"/>
                      </a:lnTo>
                      <a:lnTo>
                        <a:pt x="580" y="234"/>
                      </a:lnTo>
                      <a:lnTo>
                        <a:pt x="560" y="217"/>
                      </a:lnTo>
                      <a:lnTo>
                        <a:pt x="548" y="214"/>
                      </a:lnTo>
                      <a:lnTo>
                        <a:pt x="538" y="211"/>
                      </a:lnTo>
                      <a:lnTo>
                        <a:pt x="527" y="211"/>
                      </a:lnTo>
                      <a:lnTo>
                        <a:pt x="516" y="211"/>
                      </a:lnTo>
                      <a:lnTo>
                        <a:pt x="505" y="212"/>
                      </a:lnTo>
                      <a:lnTo>
                        <a:pt x="495" y="217"/>
                      </a:lnTo>
                      <a:lnTo>
                        <a:pt x="485" y="221"/>
                      </a:lnTo>
                      <a:lnTo>
                        <a:pt x="475" y="227"/>
                      </a:lnTo>
                      <a:lnTo>
                        <a:pt x="472" y="218"/>
                      </a:lnTo>
                      <a:lnTo>
                        <a:pt x="473" y="211"/>
                      </a:lnTo>
                      <a:lnTo>
                        <a:pt x="475" y="202"/>
                      </a:lnTo>
                      <a:lnTo>
                        <a:pt x="475" y="194"/>
                      </a:lnTo>
                      <a:lnTo>
                        <a:pt x="472" y="182"/>
                      </a:lnTo>
                      <a:lnTo>
                        <a:pt x="467" y="172"/>
                      </a:lnTo>
                      <a:lnTo>
                        <a:pt x="460" y="162"/>
                      </a:lnTo>
                      <a:lnTo>
                        <a:pt x="453" y="153"/>
                      </a:lnTo>
                      <a:lnTo>
                        <a:pt x="431" y="136"/>
                      </a:lnTo>
                      <a:lnTo>
                        <a:pt x="424" y="132"/>
                      </a:lnTo>
                      <a:lnTo>
                        <a:pt x="415" y="129"/>
                      </a:lnTo>
                      <a:lnTo>
                        <a:pt x="407" y="127"/>
                      </a:lnTo>
                      <a:lnTo>
                        <a:pt x="398" y="126"/>
                      </a:lnTo>
                      <a:lnTo>
                        <a:pt x="388" y="124"/>
                      </a:lnTo>
                      <a:lnTo>
                        <a:pt x="378" y="124"/>
                      </a:lnTo>
                      <a:lnTo>
                        <a:pt x="369" y="124"/>
                      </a:lnTo>
                      <a:lnTo>
                        <a:pt x="359" y="126"/>
                      </a:lnTo>
                      <a:lnTo>
                        <a:pt x="353" y="127"/>
                      </a:lnTo>
                      <a:lnTo>
                        <a:pt x="347" y="133"/>
                      </a:lnTo>
                      <a:lnTo>
                        <a:pt x="339" y="137"/>
                      </a:lnTo>
                      <a:lnTo>
                        <a:pt x="330" y="140"/>
                      </a:lnTo>
                      <a:lnTo>
                        <a:pt x="330" y="130"/>
                      </a:lnTo>
                      <a:lnTo>
                        <a:pt x="329" y="121"/>
                      </a:lnTo>
                      <a:lnTo>
                        <a:pt x="327" y="113"/>
                      </a:lnTo>
                      <a:lnTo>
                        <a:pt x="323" y="106"/>
                      </a:lnTo>
                      <a:lnTo>
                        <a:pt x="317" y="98"/>
                      </a:lnTo>
                      <a:lnTo>
                        <a:pt x="308" y="95"/>
                      </a:lnTo>
                      <a:lnTo>
                        <a:pt x="301" y="93"/>
                      </a:lnTo>
                      <a:lnTo>
                        <a:pt x="292" y="91"/>
                      </a:lnTo>
                      <a:lnTo>
                        <a:pt x="285" y="90"/>
                      </a:lnTo>
                      <a:lnTo>
                        <a:pt x="278" y="88"/>
                      </a:lnTo>
                      <a:lnTo>
                        <a:pt x="269" y="85"/>
                      </a:lnTo>
                      <a:lnTo>
                        <a:pt x="262" y="82"/>
                      </a:lnTo>
                      <a:lnTo>
                        <a:pt x="253" y="78"/>
                      </a:lnTo>
                      <a:lnTo>
                        <a:pt x="243" y="80"/>
                      </a:lnTo>
                      <a:lnTo>
                        <a:pt x="237" y="81"/>
                      </a:lnTo>
                      <a:lnTo>
                        <a:pt x="232" y="82"/>
                      </a:lnTo>
                      <a:lnTo>
                        <a:pt x="226" y="85"/>
                      </a:lnTo>
                      <a:lnTo>
                        <a:pt x="221" y="88"/>
                      </a:lnTo>
                      <a:lnTo>
                        <a:pt x="217" y="91"/>
                      </a:lnTo>
                      <a:lnTo>
                        <a:pt x="211" y="95"/>
                      </a:lnTo>
                      <a:lnTo>
                        <a:pt x="206" y="100"/>
                      </a:lnTo>
                      <a:lnTo>
                        <a:pt x="200" y="104"/>
                      </a:lnTo>
                      <a:lnTo>
                        <a:pt x="190" y="103"/>
                      </a:lnTo>
                      <a:lnTo>
                        <a:pt x="168" y="121"/>
                      </a:lnTo>
                      <a:lnTo>
                        <a:pt x="146" y="140"/>
                      </a:lnTo>
                      <a:lnTo>
                        <a:pt x="123" y="162"/>
                      </a:lnTo>
                      <a:lnTo>
                        <a:pt x="101" y="184"/>
                      </a:lnTo>
                      <a:lnTo>
                        <a:pt x="78" y="205"/>
                      </a:lnTo>
                      <a:lnTo>
                        <a:pt x="55" y="228"/>
                      </a:lnTo>
                      <a:lnTo>
                        <a:pt x="32" y="251"/>
                      </a:lnTo>
                      <a:lnTo>
                        <a:pt x="9" y="275"/>
                      </a:lnTo>
                      <a:lnTo>
                        <a:pt x="0" y="264"/>
                      </a:lnTo>
                      <a:lnTo>
                        <a:pt x="15" y="230"/>
                      </a:lnTo>
                      <a:lnTo>
                        <a:pt x="29" y="198"/>
                      </a:lnTo>
                      <a:lnTo>
                        <a:pt x="47" y="166"/>
                      </a:lnTo>
                      <a:lnTo>
                        <a:pt x="65" y="137"/>
                      </a:lnTo>
                      <a:lnTo>
                        <a:pt x="84" y="108"/>
                      </a:lnTo>
                      <a:lnTo>
                        <a:pt x="107" y="80"/>
                      </a:lnTo>
                      <a:lnTo>
                        <a:pt x="130" y="51"/>
                      </a:lnTo>
                      <a:lnTo>
                        <a:pt x="156" y="22"/>
                      </a:lnTo>
                      <a:lnTo>
                        <a:pt x="164" y="17"/>
                      </a:lnTo>
                      <a:lnTo>
                        <a:pt x="171" y="12"/>
                      </a:lnTo>
                      <a:lnTo>
                        <a:pt x="178" y="6"/>
                      </a:lnTo>
                      <a:lnTo>
                        <a:pt x="188" y="2"/>
                      </a:lnTo>
                      <a:lnTo>
                        <a:pt x="200" y="0"/>
                      </a:lnTo>
                      <a:lnTo>
                        <a:pt x="211" y="0"/>
                      </a:lnTo>
                      <a:lnTo>
                        <a:pt x="224" y="2"/>
                      </a:lnTo>
                      <a:lnTo>
                        <a:pt x="236" y="3"/>
                      </a:lnTo>
                      <a:lnTo>
                        <a:pt x="248" y="6"/>
                      </a:lnTo>
                      <a:lnTo>
                        <a:pt x="259" y="10"/>
                      </a:lnTo>
                      <a:lnTo>
                        <a:pt x="271" y="13"/>
                      </a:lnTo>
                      <a:lnTo>
                        <a:pt x="282" y="16"/>
                      </a:lnTo>
                      <a:lnTo>
                        <a:pt x="300" y="22"/>
                      </a:lnTo>
                      <a:lnTo>
                        <a:pt x="317" y="28"/>
                      </a:lnTo>
                      <a:lnTo>
                        <a:pt x="336" y="32"/>
                      </a:lnTo>
                      <a:lnTo>
                        <a:pt x="353" y="38"/>
                      </a:lnTo>
                      <a:lnTo>
                        <a:pt x="370" y="43"/>
                      </a:lnTo>
                      <a:lnTo>
                        <a:pt x="389" y="51"/>
                      </a:lnTo>
                      <a:lnTo>
                        <a:pt x="407" y="56"/>
                      </a:lnTo>
                      <a:lnTo>
                        <a:pt x="425" y="62"/>
                      </a:lnTo>
                      <a:lnTo>
                        <a:pt x="444" y="68"/>
                      </a:lnTo>
                      <a:lnTo>
                        <a:pt x="462" y="75"/>
                      </a:lnTo>
                      <a:lnTo>
                        <a:pt x="480" y="81"/>
                      </a:lnTo>
                      <a:lnTo>
                        <a:pt x="498" y="88"/>
                      </a:lnTo>
                      <a:lnTo>
                        <a:pt x="515" y="95"/>
                      </a:lnTo>
                      <a:lnTo>
                        <a:pt x="534" y="103"/>
                      </a:lnTo>
                      <a:lnTo>
                        <a:pt x="551" y="110"/>
                      </a:lnTo>
                      <a:lnTo>
                        <a:pt x="569" y="117"/>
                      </a:lnTo>
                      <a:lnTo>
                        <a:pt x="586" y="120"/>
                      </a:lnTo>
                      <a:lnTo>
                        <a:pt x="603" y="124"/>
                      </a:lnTo>
                      <a:lnTo>
                        <a:pt x="621" y="127"/>
                      </a:lnTo>
                      <a:lnTo>
                        <a:pt x="637" y="132"/>
                      </a:lnTo>
                      <a:lnTo>
                        <a:pt x="652" y="137"/>
                      </a:lnTo>
                      <a:lnTo>
                        <a:pt x="668" y="142"/>
                      </a:lnTo>
                      <a:lnTo>
                        <a:pt x="686" y="147"/>
                      </a:lnTo>
                      <a:lnTo>
                        <a:pt x="702" y="152"/>
                      </a:lnTo>
                      <a:lnTo>
                        <a:pt x="717" y="158"/>
                      </a:lnTo>
                      <a:lnTo>
                        <a:pt x="733" y="163"/>
                      </a:lnTo>
                      <a:lnTo>
                        <a:pt x="749" y="169"/>
                      </a:lnTo>
                      <a:lnTo>
                        <a:pt x="765" y="175"/>
                      </a:lnTo>
                      <a:lnTo>
                        <a:pt x="781" y="182"/>
                      </a:lnTo>
                      <a:lnTo>
                        <a:pt x="797" y="188"/>
                      </a:lnTo>
                      <a:lnTo>
                        <a:pt x="813" y="194"/>
                      </a:lnTo>
                      <a:lnTo>
                        <a:pt x="830" y="199"/>
                      </a:lnTo>
                      <a:lnTo>
                        <a:pt x="838" y="210"/>
                      </a:lnTo>
                      <a:lnTo>
                        <a:pt x="819" y="251"/>
                      </a:lnTo>
                      <a:lnTo>
                        <a:pt x="797" y="290"/>
                      </a:lnTo>
                      <a:lnTo>
                        <a:pt x="772" y="328"/>
                      </a:lnTo>
                      <a:lnTo>
                        <a:pt x="749" y="366"/>
                      </a:lnTo>
                      <a:lnTo>
                        <a:pt x="725" y="405"/>
                      </a:lnTo>
                      <a:lnTo>
                        <a:pt x="703" y="445"/>
                      </a:lnTo>
                      <a:lnTo>
                        <a:pt x="684" y="488"/>
                      </a:lnTo>
                      <a:lnTo>
                        <a:pt x="668" y="538"/>
                      </a:lnTo>
                      <a:lnTo>
                        <a:pt x="687" y="555"/>
                      </a:lnTo>
                      <a:lnTo>
                        <a:pt x="697" y="545"/>
                      </a:lnTo>
                      <a:lnTo>
                        <a:pt x="699" y="523"/>
                      </a:lnTo>
                      <a:lnTo>
                        <a:pt x="710" y="496"/>
                      </a:lnTo>
                      <a:lnTo>
                        <a:pt x="722" y="470"/>
                      </a:lnTo>
                      <a:lnTo>
                        <a:pt x="735" y="444"/>
                      </a:lnTo>
                      <a:lnTo>
                        <a:pt x="749" y="419"/>
                      </a:lnTo>
                      <a:lnTo>
                        <a:pt x="764" y="395"/>
                      </a:lnTo>
                      <a:lnTo>
                        <a:pt x="778" y="371"/>
                      </a:lnTo>
                      <a:lnTo>
                        <a:pt x="793" y="347"/>
                      </a:lnTo>
                      <a:lnTo>
                        <a:pt x="809" y="322"/>
                      </a:lnTo>
                      <a:lnTo>
                        <a:pt x="814" y="312"/>
                      </a:lnTo>
                      <a:lnTo>
                        <a:pt x="819" y="302"/>
                      </a:lnTo>
                      <a:lnTo>
                        <a:pt x="826" y="290"/>
                      </a:lnTo>
                      <a:lnTo>
                        <a:pt x="832" y="280"/>
                      </a:lnTo>
                      <a:lnTo>
                        <a:pt x="839" y="269"/>
                      </a:lnTo>
                      <a:lnTo>
                        <a:pt x="845" y="259"/>
                      </a:lnTo>
                      <a:lnTo>
                        <a:pt x="852" y="247"/>
                      </a:lnTo>
                      <a:lnTo>
                        <a:pt x="859" y="237"/>
                      </a:lnTo>
                      <a:lnTo>
                        <a:pt x="869" y="251"/>
                      </a:lnTo>
                      <a:lnTo>
                        <a:pt x="865" y="272"/>
                      </a:lnTo>
                      <a:lnTo>
                        <a:pt x="858" y="298"/>
                      </a:lnTo>
                      <a:lnTo>
                        <a:pt x="849" y="322"/>
                      </a:lnTo>
                      <a:lnTo>
                        <a:pt x="840" y="344"/>
                      </a:lnTo>
                      <a:lnTo>
                        <a:pt x="830" y="363"/>
                      </a:lnTo>
                      <a:lnTo>
                        <a:pt x="819" y="383"/>
                      </a:lnTo>
                      <a:lnTo>
                        <a:pt x="809" y="402"/>
                      </a:lnTo>
                      <a:lnTo>
                        <a:pt x="798" y="422"/>
                      </a:lnTo>
                      <a:lnTo>
                        <a:pt x="787" y="442"/>
                      </a:lnTo>
                      <a:lnTo>
                        <a:pt x="777" y="462"/>
                      </a:lnTo>
                      <a:lnTo>
                        <a:pt x="767" y="483"/>
                      </a:lnTo>
                      <a:lnTo>
                        <a:pt x="757" y="503"/>
                      </a:lnTo>
                      <a:lnTo>
                        <a:pt x="757" y="514"/>
                      </a:lnTo>
                      <a:lnTo>
                        <a:pt x="749" y="520"/>
                      </a:lnTo>
                      <a:lnTo>
                        <a:pt x="741" y="527"/>
                      </a:lnTo>
                      <a:lnTo>
                        <a:pt x="733" y="535"/>
                      </a:lnTo>
                      <a:lnTo>
                        <a:pt x="726" y="543"/>
                      </a:lnTo>
                      <a:lnTo>
                        <a:pt x="719" y="552"/>
                      </a:lnTo>
                      <a:lnTo>
                        <a:pt x="712" y="561"/>
                      </a:lnTo>
                      <a:lnTo>
                        <a:pt x="704" y="571"/>
                      </a:lnTo>
                      <a:lnTo>
                        <a:pt x="697" y="581"/>
                      </a:lnTo>
                      <a:lnTo>
                        <a:pt x="689" y="582"/>
                      </a:lnTo>
                      <a:lnTo>
                        <a:pt x="680" y="584"/>
                      </a:lnTo>
                      <a:lnTo>
                        <a:pt x="671" y="587"/>
                      </a:lnTo>
                      <a:lnTo>
                        <a:pt x="663" y="5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056360" y="2535120"/>
                  <a:ext cx="11160" cy="11160"/>
                </a:xfrm>
                <a:custGeom>
                  <a:avLst/>
                  <a:gdLst/>
                  <a:ahLst/>
                  <a:rect l="l" t="t" r="r" b="b"/>
                  <a:pathLst>
                    <a:path w="21" h="21">
                      <a:moveTo>
                        <a:pt x="2" y="21"/>
                      </a:moveTo>
                      <a:lnTo>
                        <a:pt x="0" y="0"/>
                      </a:lnTo>
                      <a:lnTo>
                        <a:pt x="9" y="0"/>
                      </a:lnTo>
                      <a:lnTo>
                        <a:pt x="16" y="1"/>
                      </a:lnTo>
                      <a:lnTo>
                        <a:pt x="21" y="7"/>
                      </a:lnTo>
                      <a:lnTo>
                        <a:pt x="19" y="17"/>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 name=""/>
                <p:cNvSpPr/>
                <p:nvPr/>
              </p:nvSpPr>
              <p:spPr>
                <a:xfrm>
                  <a:off x="7122960" y="2536920"/>
                  <a:ext cx="12960" cy="9360"/>
                </a:xfrm>
                <a:custGeom>
                  <a:avLst/>
                  <a:gdLst/>
                  <a:ahLst/>
                  <a:rect l="l" t="t" r="r" b="b"/>
                  <a:pathLst>
                    <a:path w="23" h="18">
                      <a:moveTo>
                        <a:pt x="9" y="18"/>
                      </a:moveTo>
                      <a:lnTo>
                        <a:pt x="0" y="4"/>
                      </a:lnTo>
                      <a:lnTo>
                        <a:pt x="5" y="0"/>
                      </a:lnTo>
                      <a:lnTo>
                        <a:pt x="12" y="0"/>
                      </a:lnTo>
                      <a:lnTo>
                        <a:pt x="20" y="4"/>
                      </a:lnTo>
                      <a:lnTo>
                        <a:pt x="23" y="10"/>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4" name=""/>
                <p:cNvSpPr/>
                <p:nvPr/>
              </p:nvSpPr>
              <p:spPr>
                <a:xfrm>
                  <a:off x="7385040" y="2513160"/>
                  <a:ext cx="11160" cy="12600"/>
                </a:xfrm>
                <a:custGeom>
                  <a:avLst/>
                  <a:gdLst/>
                  <a:ahLst/>
                  <a:rect l="l" t="t" r="r" b="b"/>
                  <a:pathLst>
                    <a:path w="21" h="23">
                      <a:moveTo>
                        <a:pt x="6" y="23"/>
                      </a:moveTo>
                      <a:lnTo>
                        <a:pt x="0" y="0"/>
                      </a:lnTo>
                      <a:lnTo>
                        <a:pt x="21" y="5"/>
                      </a:lnTo>
                      <a:lnTo>
                        <a:pt x="21" y="10"/>
                      </a:lnTo>
                      <a:lnTo>
                        <a:pt x="18" y="16"/>
                      </a:lnTo>
                      <a:lnTo>
                        <a:pt x="13" y="22"/>
                      </a:lnTo>
                      <a:lnTo>
                        <a:pt x="6"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5" name=""/>
                <p:cNvSpPr/>
                <p:nvPr/>
              </p:nvSpPr>
              <p:spPr>
                <a:xfrm>
                  <a:off x="7302600" y="2508120"/>
                  <a:ext cx="12600" cy="12960"/>
                </a:xfrm>
                <a:custGeom>
                  <a:avLst/>
                  <a:gdLst/>
                  <a:ahLst/>
                  <a:rect l="l" t="t" r="r" b="b"/>
                  <a:pathLst>
                    <a:path w="26" h="25">
                      <a:moveTo>
                        <a:pt x="7" y="25"/>
                      </a:moveTo>
                      <a:lnTo>
                        <a:pt x="0" y="3"/>
                      </a:lnTo>
                      <a:lnTo>
                        <a:pt x="9" y="0"/>
                      </a:lnTo>
                      <a:lnTo>
                        <a:pt x="16" y="3"/>
                      </a:lnTo>
                      <a:lnTo>
                        <a:pt x="22" y="9"/>
                      </a:lnTo>
                      <a:lnTo>
                        <a:pt x="26" y="17"/>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 name=""/>
                <p:cNvSpPr/>
                <p:nvPr/>
              </p:nvSpPr>
              <p:spPr>
                <a:xfrm>
                  <a:off x="7191360" y="2509920"/>
                  <a:ext cx="11160" cy="11160"/>
                </a:xfrm>
                <a:custGeom>
                  <a:avLst/>
                  <a:gdLst/>
                  <a:ahLst/>
                  <a:rect l="l" t="t" r="r" b="b"/>
                  <a:pathLst>
                    <a:path w="22" h="21">
                      <a:moveTo>
                        <a:pt x="3" y="21"/>
                      </a:moveTo>
                      <a:lnTo>
                        <a:pt x="0" y="0"/>
                      </a:lnTo>
                      <a:lnTo>
                        <a:pt x="22" y="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 name=""/>
                <p:cNvSpPr/>
                <p:nvPr/>
              </p:nvSpPr>
              <p:spPr>
                <a:xfrm>
                  <a:off x="7488360" y="2494080"/>
                  <a:ext cx="9360" cy="12600"/>
                </a:xfrm>
                <a:custGeom>
                  <a:avLst/>
                  <a:gdLst/>
                  <a:ahLst/>
                  <a:rect l="l" t="t" r="r" b="b"/>
                  <a:pathLst>
                    <a:path w="17" h="23">
                      <a:moveTo>
                        <a:pt x="10" y="23"/>
                      </a:moveTo>
                      <a:lnTo>
                        <a:pt x="4" y="20"/>
                      </a:lnTo>
                      <a:lnTo>
                        <a:pt x="0" y="13"/>
                      </a:lnTo>
                      <a:lnTo>
                        <a:pt x="1" y="6"/>
                      </a:lnTo>
                      <a:lnTo>
                        <a:pt x="7" y="0"/>
                      </a:lnTo>
                      <a:lnTo>
                        <a:pt x="14" y="3"/>
                      </a:lnTo>
                      <a:lnTo>
                        <a:pt x="17" y="10"/>
                      </a:lnTo>
                      <a:lnTo>
                        <a:pt x="17" y="17"/>
                      </a:lnTo>
                      <a:lnTo>
                        <a:pt x="1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 name=""/>
                <p:cNvSpPr/>
                <p:nvPr/>
              </p:nvSpPr>
              <p:spPr>
                <a:xfrm>
                  <a:off x="7151760" y="2487600"/>
                  <a:ext cx="11160" cy="12600"/>
                </a:xfrm>
                <a:custGeom>
                  <a:avLst/>
                  <a:gdLst/>
                  <a:ahLst/>
                  <a:rect l="l" t="t" r="r" b="b"/>
                  <a:pathLst>
                    <a:path w="20" h="23">
                      <a:moveTo>
                        <a:pt x="1" y="23"/>
                      </a:moveTo>
                      <a:lnTo>
                        <a:pt x="0" y="0"/>
                      </a:lnTo>
                      <a:lnTo>
                        <a:pt x="20" y="10"/>
                      </a:lnTo>
                      <a:lnTo>
                        <a:pt x="20" y="17"/>
                      </a:lnTo>
                      <a:lnTo>
                        <a:pt x="16" y="20"/>
                      </a:lnTo>
                      <a:lnTo>
                        <a:pt x="10" y="20"/>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9" name=""/>
                <p:cNvSpPr/>
                <p:nvPr/>
              </p:nvSpPr>
              <p:spPr>
                <a:xfrm>
                  <a:off x="7537320" y="2473200"/>
                  <a:ext cx="14400" cy="12960"/>
                </a:xfrm>
                <a:custGeom>
                  <a:avLst/>
                  <a:gdLst/>
                  <a:ahLst/>
                  <a:rect l="l" t="t" r="r" b="b"/>
                  <a:pathLst>
                    <a:path w="28" h="22">
                      <a:moveTo>
                        <a:pt x="7" y="22"/>
                      </a:moveTo>
                      <a:lnTo>
                        <a:pt x="0" y="9"/>
                      </a:lnTo>
                      <a:lnTo>
                        <a:pt x="7" y="0"/>
                      </a:lnTo>
                      <a:lnTo>
                        <a:pt x="15" y="0"/>
                      </a:lnTo>
                      <a:lnTo>
                        <a:pt x="22" y="0"/>
                      </a:lnTo>
                      <a:lnTo>
                        <a:pt x="28" y="6"/>
                      </a:lnTo>
                      <a:lnTo>
                        <a:pt x="28" y="15"/>
                      </a:lnTo>
                      <a:lnTo>
                        <a:pt x="7"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0" name=""/>
                <p:cNvSpPr/>
                <p:nvPr/>
              </p:nvSpPr>
              <p:spPr>
                <a:xfrm>
                  <a:off x="7080120" y="2471760"/>
                  <a:ext cx="11160" cy="12600"/>
                </a:xfrm>
                <a:custGeom>
                  <a:avLst/>
                  <a:gdLst/>
                  <a:ahLst/>
                  <a:rect l="l" t="t" r="r" b="b"/>
                  <a:pathLst>
                    <a:path w="20" h="22">
                      <a:moveTo>
                        <a:pt x="10" y="22"/>
                      </a:moveTo>
                      <a:lnTo>
                        <a:pt x="0" y="3"/>
                      </a:lnTo>
                      <a:lnTo>
                        <a:pt x="6" y="0"/>
                      </a:lnTo>
                      <a:lnTo>
                        <a:pt x="13" y="2"/>
                      </a:lnTo>
                      <a:lnTo>
                        <a:pt x="19" y="7"/>
                      </a:lnTo>
                      <a:lnTo>
                        <a:pt x="20" y="15"/>
                      </a:lnTo>
                      <a:lnTo>
                        <a:pt x="1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1" name=""/>
                <p:cNvSpPr/>
                <p:nvPr/>
              </p:nvSpPr>
              <p:spPr>
                <a:xfrm>
                  <a:off x="7016760" y="2468520"/>
                  <a:ext cx="14400" cy="14400"/>
                </a:xfrm>
                <a:custGeom>
                  <a:avLst/>
                  <a:gdLst/>
                  <a:ahLst/>
                  <a:rect l="l" t="t" r="r" b="b"/>
                  <a:pathLst>
                    <a:path w="25" h="26">
                      <a:moveTo>
                        <a:pt x="10" y="26"/>
                      </a:moveTo>
                      <a:lnTo>
                        <a:pt x="0" y="3"/>
                      </a:lnTo>
                      <a:lnTo>
                        <a:pt x="6" y="0"/>
                      </a:lnTo>
                      <a:lnTo>
                        <a:pt x="15" y="2"/>
                      </a:lnTo>
                      <a:lnTo>
                        <a:pt x="22" y="8"/>
                      </a:lnTo>
                      <a:lnTo>
                        <a:pt x="25" y="13"/>
                      </a:lnTo>
                      <a:lnTo>
                        <a:pt x="1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2" name=""/>
                <p:cNvSpPr/>
                <p:nvPr/>
              </p:nvSpPr>
              <p:spPr>
                <a:xfrm>
                  <a:off x="7413480" y="2459160"/>
                  <a:ext cx="9720" cy="11160"/>
                </a:xfrm>
                <a:custGeom>
                  <a:avLst/>
                  <a:gdLst/>
                  <a:ahLst/>
                  <a:rect l="l" t="t" r="r" b="b"/>
                  <a:pathLst>
                    <a:path w="20" h="22">
                      <a:moveTo>
                        <a:pt x="11" y="22"/>
                      </a:moveTo>
                      <a:lnTo>
                        <a:pt x="4" y="19"/>
                      </a:lnTo>
                      <a:lnTo>
                        <a:pt x="0" y="12"/>
                      </a:lnTo>
                      <a:lnTo>
                        <a:pt x="1" y="5"/>
                      </a:lnTo>
                      <a:lnTo>
                        <a:pt x="6" y="0"/>
                      </a:lnTo>
                      <a:lnTo>
                        <a:pt x="11" y="3"/>
                      </a:lnTo>
                      <a:lnTo>
                        <a:pt x="17" y="10"/>
                      </a:lnTo>
                      <a:lnTo>
                        <a:pt x="20" y="19"/>
                      </a:lnTo>
                      <a:lnTo>
                        <a:pt x="1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3" name=""/>
                <p:cNvSpPr/>
                <p:nvPr/>
              </p:nvSpPr>
              <p:spPr>
                <a:xfrm>
                  <a:off x="7624800" y="2440080"/>
                  <a:ext cx="7920" cy="11160"/>
                </a:xfrm>
                <a:custGeom>
                  <a:avLst/>
                  <a:gdLst/>
                  <a:ahLst/>
                  <a:rect l="l" t="t" r="r" b="b"/>
                  <a:pathLst>
                    <a:path w="17" h="21">
                      <a:moveTo>
                        <a:pt x="3" y="21"/>
                      </a:moveTo>
                      <a:lnTo>
                        <a:pt x="0" y="0"/>
                      </a:lnTo>
                      <a:lnTo>
                        <a:pt x="9" y="0"/>
                      </a:lnTo>
                      <a:lnTo>
                        <a:pt x="14" y="2"/>
                      </a:lnTo>
                      <a:lnTo>
                        <a:pt x="17" y="8"/>
                      </a:lnTo>
                      <a:lnTo>
                        <a:pt x="17" y="1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 name=""/>
                <p:cNvSpPr/>
                <p:nvPr/>
              </p:nvSpPr>
              <p:spPr>
                <a:xfrm>
                  <a:off x="7340760" y="2435400"/>
                  <a:ext cx="10800" cy="12600"/>
                </a:xfrm>
                <a:custGeom>
                  <a:avLst/>
                  <a:gdLst/>
                  <a:ahLst/>
                  <a:rect l="l" t="t" r="r" b="b"/>
                  <a:pathLst>
                    <a:path w="20" h="22">
                      <a:moveTo>
                        <a:pt x="13" y="22"/>
                      </a:moveTo>
                      <a:lnTo>
                        <a:pt x="4" y="19"/>
                      </a:lnTo>
                      <a:lnTo>
                        <a:pt x="0" y="13"/>
                      </a:lnTo>
                      <a:lnTo>
                        <a:pt x="0" y="6"/>
                      </a:lnTo>
                      <a:lnTo>
                        <a:pt x="4" y="0"/>
                      </a:lnTo>
                      <a:lnTo>
                        <a:pt x="13" y="1"/>
                      </a:lnTo>
                      <a:lnTo>
                        <a:pt x="19" y="7"/>
                      </a:lnTo>
                      <a:lnTo>
                        <a:pt x="20" y="14"/>
                      </a:lnTo>
                      <a:lnTo>
                        <a:pt x="13"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5" name=""/>
                <p:cNvSpPr/>
                <p:nvPr/>
              </p:nvSpPr>
              <p:spPr>
                <a:xfrm>
                  <a:off x="7475400" y="2432160"/>
                  <a:ext cx="12960" cy="12600"/>
                </a:xfrm>
                <a:custGeom>
                  <a:avLst/>
                  <a:gdLst/>
                  <a:ahLst/>
                  <a:rect l="l" t="t" r="r" b="b"/>
                  <a:pathLst>
                    <a:path w="25" h="24">
                      <a:moveTo>
                        <a:pt x="9" y="24"/>
                      </a:moveTo>
                      <a:lnTo>
                        <a:pt x="0" y="3"/>
                      </a:lnTo>
                      <a:lnTo>
                        <a:pt x="4" y="0"/>
                      </a:lnTo>
                      <a:lnTo>
                        <a:pt x="11" y="1"/>
                      </a:lnTo>
                      <a:lnTo>
                        <a:pt x="19" y="5"/>
                      </a:lnTo>
                      <a:lnTo>
                        <a:pt x="25" y="14"/>
                      </a:lnTo>
                      <a:lnTo>
                        <a:pt x="9"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6" name=""/>
                <p:cNvSpPr/>
                <p:nvPr/>
              </p:nvSpPr>
              <p:spPr>
                <a:xfrm>
                  <a:off x="7191360" y="2432160"/>
                  <a:ext cx="11160" cy="9360"/>
                </a:xfrm>
                <a:custGeom>
                  <a:avLst/>
                  <a:gdLst/>
                  <a:ahLst/>
                  <a:rect l="l" t="t" r="r" b="b"/>
                  <a:pathLst>
                    <a:path w="20" h="17">
                      <a:moveTo>
                        <a:pt x="11" y="17"/>
                      </a:moveTo>
                      <a:lnTo>
                        <a:pt x="0" y="0"/>
                      </a:lnTo>
                      <a:lnTo>
                        <a:pt x="20" y="4"/>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7" name=""/>
                <p:cNvSpPr/>
                <p:nvPr/>
              </p:nvSpPr>
              <p:spPr>
                <a:xfrm>
                  <a:off x="7575480" y="2422440"/>
                  <a:ext cx="11160" cy="12960"/>
                </a:xfrm>
                <a:custGeom>
                  <a:avLst/>
                  <a:gdLst/>
                  <a:ahLst/>
                  <a:rect l="l" t="t" r="r" b="b"/>
                  <a:pathLst>
                    <a:path w="21" h="25">
                      <a:moveTo>
                        <a:pt x="7" y="25"/>
                      </a:moveTo>
                      <a:lnTo>
                        <a:pt x="1" y="21"/>
                      </a:lnTo>
                      <a:lnTo>
                        <a:pt x="0" y="12"/>
                      </a:lnTo>
                      <a:lnTo>
                        <a:pt x="4" y="3"/>
                      </a:lnTo>
                      <a:lnTo>
                        <a:pt x="14" y="0"/>
                      </a:lnTo>
                      <a:lnTo>
                        <a:pt x="21" y="5"/>
                      </a:lnTo>
                      <a:lnTo>
                        <a:pt x="21" y="15"/>
                      </a:lnTo>
                      <a:lnTo>
                        <a:pt x="16" y="23"/>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8" name=""/>
                <p:cNvSpPr/>
                <p:nvPr/>
              </p:nvSpPr>
              <p:spPr>
                <a:xfrm>
                  <a:off x="7270920" y="2408400"/>
                  <a:ext cx="10800" cy="15840"/>
                </a:xfrm>
                <a:custGeom>
                  <a:avLst/>
                  <a:gdLst/>
                  <a:ahLst/>
                  <a:rect l="l" t="t" r="r" b="b"/>
                  <a:pathLst>
                    <a:path w="20" h="29">
                      <a:moveTo>
                        <a:pt x="13" y="29"/>
                      </a:moveTo>
                      <a:lnTo>
                        <a:pt x="7" y="26"/>
                      </a:lnTo>
                      <a:lnTo>
                        <a:pt x="3" y="19"/>
                      </a:lnTo>
                      <a:lnTo>
                        <a:pt x="0" y="9"/>
                      </a:lnTo>
                      <a:lnTo>
                        <a:pt x="3" y="0"/>
                      </a:lnTo>
                      <a:lnTo>
                        <a:pt x="20" y="12"/>
                      </a:lnTo>
                      <a:lnTo>
                        <a:pt x="1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7105680" y="2403360"/>
                  <a:ext cx="11160" cy="15840"/>
                </a:xfrm>
                <a:custGeom>
                  <a:avLst/>
                  <a:gdLst/>
                  <a:ahLst/>
                  <a:rect l="l" t="t" r="r" b="b"/>
                  <a:pathLst>
                    <a:path w="21" h="29">
                      <a:moveTo>
                        <a:pt x="6" y="29"/>
                      </a:moveTo>
                      <a:lnTo>
                        <a:pt x="2" y="23"/>
                      </a:lnTo>
                      <a:lnTo>
                        <a:pt x="0" y="15"/>
                      </a:lnTo>
                      <a:lnTo>
                        <a:pt x="0" y="6"/>
                      </a:lnTo>
                      <a:lnTo>
                        <a:pt x="5" y="0"/>
                      </a:lnTo>
                      <a:lnTo>
                        <a:pt x="13" y="3"/>
                      </a:lnTo>
                      <a:lnTo>
                        <a:pt x="19" y="12"/>
                      </a:lnTo>
                      <a:lnTo>
                        <a:pt x="21" y="20"/>
                      </a:lnTo>
                      <a:lnTo>
                        <a:pt x="13" y="29"/>
                      </a:lnTo>
                      <a:lnTo>
                        <a:pt x="6"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7388280" y="2386080"/>
                  <a:ext cx="11160" cy="11160"/>
                </a:xfrm>
                <a:custGeom>
                  <a:avLst/>
                  <a:gdLst/>
                  <a:ahLst/>
                  <a:rect l="l" t="t" r="r" b="b"/>
                  <a:pathLst>
                    <a:path w="20" h="21">
                      <a:moveTo>
                        <a:pt x="1" y="21"/>
                      </a:moveTo>
                      <a:lnTo>
                        <a:pt x="0" y="0"/>
                      </a:lnTo>
                      <a:lnTo>
                        <a:pt x="20" y="3"/>
                      </a:lnTo>
                      <a:lnTo>
                        <a:pt x="20" y="10"/>
                      </a:lnTo>
                      <a:lnTo>
                        <a:pt x="17" y="16"/>
                      </a:lnTo>
                      <a:lnTo>
                        <a:pt x="11" y="19"/>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 name=""/>
                <p:cNvSpPr/>
                <p:nvPr/>
              </p:nvSpPr>
              <p:spPr>
                <a:xfrm>
                  <a:off x="7021440" y="2382840"/>
                  <a:ext cx="15840" cy="14400"/>
                </a:xfrm>
                <a:custGeom>
                  <a:avLst/>
                  <a:gdLst/>
                  <a:ahLst/>
                  <a:rect l="l" t="t" r="r" b="b"/>
                  <a:pathLst>
                    <a:path w="32" h="29">
                      <a:moveTo>
                        <a:pt x="22" y="29"/>
                      </a:moveTo>
                      <a:lnTo>
                        <a:pt x="0" y="21"/>
                      </a:lnTo>
                      <a:lnTo>
                        <a:pt x="3" y="0"/>
                      </a:lnTo>
                      <a:lnTo>
                        <a:pt x="13" y="3"/>
                      </a:lnTo>
                      <a:lnTo>
                        <a:pt x="22" y="7"/>
                      </a:lnTo>
                      <a:lnTo>
                        <a:pt x="28" y="11"/>
                      </a:lnTo>
                      <a:lnTo>
                        <a:pt x="32" y="20"/>
                      </a:lnTo>
                      <a:lnTo>
                        <a:pt x="22"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2" name=""/>
                <p:cNvSpPr/>
                <p:nvPr/>
              </p:nvSpPr>
              <p:spPr>
                <a:xfrm>
                  <a:off x="7500960" y="2379600"/>
                  <a:ext cx="12600" cy="9720"/>
                </a:xfrm>
                <a:custGeom>
                  <a:avLst/>
                  <a:gdLst/>
                  <a:ahLst/>
                  <a:rect l="l" t="t" r="r" b="b"/>
                  <a:pathLst>
                    <a:path w="23" h="20">
                      <a:moveTo>
                        <a:pt x="4" y="20"/>
                      </a:moveTo>
                      <a:lnTo>
                        <a:pt x="0" y="0"/>
                      </a:lnTo>
                      <a:lnTo>
                        <a:pt x="22" y="4"/>
                      </a:lnTo>
                      <a:lnTo>
                        <a:pt x="23" y="10"/>
                      </a:lnTo>
                      <a:lnTo>
                        <a:pt x="19" y="16"/>
                      </a:lnTo>
                      <a:lnTo>
                        <a:pt x="13" y="19"/>
                      </a:lnTo>
                      <a:lnTo>
                        <a:pt x="4"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 name=""/>
                <p:cNvSpPr/>
                <p:nvPr/>
              </p:nvSpPr>
              <p:spPr>
                <a:xfrm>
                  <a:off x="7450200" y="2370240"/>
                  <a:ext cx="12600" cy="12600"/>
                </a:xfrm>
                <a:custGeom>
                  <a:avLst/>
                  <a:gdLst/>
                  <a:ahLst/>
                  <a:rect l="l" t="t" r="r" b="b"/>
                  <a:pathLst>
                    <a:path w="26" h="22">
                      <a:moveTo>
                        <a:pt x="9" y="22"/>
                      </a:moveTo>
                      <a:lnTo>
                        <a:pt x="0" y="12"/>
                      </a:lnTo>
                      <a:lnTo>
                        <a:pt x="3" y="4"/>
                      </a:lnTo>
                      <a:lnTo>
                        <a:pt x="12" y="0"/>
                      </a:lnTo>
                      <a:lnTo>
                        <a:pt x="20" y="1"/>
                      </a:lnTo>
                      <a:lnTo>
                        <a:pt x="26" y="7"/>
                      </a:lnTo>
                      <a:lnTo>
                        <a:pt x="9"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 name=""/>
                <p:cNvSpPr/>
                <p:nvPr/>
              </p:nvSpPr>
              <p:spPr>
                <a:xfrm>
                  <a:off x="7172280" y="2371680"/>
                  <a:ext cx="11160" cy="9720"/>
                </a:xfrm>
                <a:custGeom>
                  <a:avLst/>
                  <a:gdLst/>
                  <a:ahLst/>
                  <a:rect l="l" t="t" r="r" b="b"/>
                  <a:pathLst>
                    <a:path w="23" h="18">
                      <a:moveTo>
                        <a:pt x="6" y="18"/>
                      </a:moveTo>
                      <a:lnTo>
                        <a:pt x="0" y="0"/>
                      </a:lnTo>
                      <a:lnTo>
                        <a:pt x="23" y="6"/>
                      </a:lnTo>
                      <a:lnTo>
                        <a:pt x="6"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
                <p:cNvSpPr/>
                <p:nvPr/>
              </p:nvSpPr>
              <p:spPr>
                <a:xfrm>
                  <a:off x="7243920" y="2346480"/>
                  <a:ext cx="10800" cy="10800"/>
                </a:xfrm>
                <a:custGeom>
                  <a:avLst/>
                  <a:gdLst/>
                  <a:ahLst/>
                  <a:rect l="l" t="t" r="r" b="b"/>
                  <a:pathLst>
                    <a:path w="21" h="20">
                      <a:moveTo>
                        <a:pt x="8" y="20"/>
                      </a:moveTo>
                      <a:lnTo>
                        <a:pt x="0" y="3"/>
                      </a:lnTo>
                      <a:lnTo>
                        <a:pt x="7" y="0"/>
                      </a:lnTo>
                      <a:lnTo>
                        <a:pt x="16" y="2"/>
                      </a:lnTo>
                      <a:lnTo>
                        <a:pt x="20" y="7"/>
                      </a:lnTo>
                      <a:lnTo>
                        <a:pt x="21" y="16"/>
                      </a:lnTo>
                      <a:lnTo>
                        <a:pt x="8"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6" name=""/>
                <p:cNvSpPr/>
                <p:nvPr/>
              </p:nvSpPr>
              <p:spPr>
                <a:xfrm>
                  <a:off x="6999120" y="2333520"/>
                  <a:ext cx="11160" cy="11160"/>
                </a:xfrm>
                <a:custGeom>
                  <a:avLst/>
                  <a:gdLst/>
                  <a:ahLst/>
                  <a:rect l="l" t="t" r="r" b="b"/>
                  <a:pathLst>
                    <a:path w="19" h="22">
                      <a:moveTo>
                        <a:pt x="4" y="22"/>
                      </a:moveTo>
                      <a:lnTo>
                        <a:pt x="0" y="0"/>
                      </a:lnTo>
                      <a:lnTo>
                        <a:pt x="19" y="7"/>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7064280" y="2332080"/>
                  <a:ext cx="12960" cy="9360"/>
                </a:xfrm>
                <a:custGeom>
                  <a:avLst/>
                  <a:gdLst/>
                  <a:ahLst/>
                  <a:rect l="l" t="t" r="r" b="b"/>
                  <a:pathLst>
                    <a:path w="24" h="16">
                      <a:moveTo>
                        <a:pt x="4" y="16"/>
                      </a:moveTo>
                      <a:lnTo>
                        <a:pt x="0" y="7"/>
                      </a:lnTo>
                      <a:lnTo>
                        <a:pt x="4" y="1"/>
                      </a:lnTo>
                      <a:lnTo>
                        <a:pt x="13" y="0"/>
                      </a:lnTo>
                      <a:lnTo>
                        <a:pt x="20" y="3"/>
                      </a:lnTo>
                      <a:lnTo>
                        <a:pt x="24" y="8"/>
                      </a:lnTo>
                      <a:lnTo>
                        <a:pt x="4"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8" name=""/>
                <p:cNvSpPr/>
                <p:nvPr/>
              </p:nvSpPr>
              <p:spPr>
                <a:xfrm>
                  <a:off x="7143840" y="2305080"/>
                  <a:ext cx="14040" cy="14400"/>
                </a:xfrm>
                <a:custGeom>
                  <a:avLst/>
                  <a:gdLst/>
                  <a:ahLst/>
                  <a:rect l="l" t="t" r="r" b="b"/>
                  <a:pathLst>
                    <a:path w="25" h="26">
                      <a:moveTo>
                        <a:pt x="7" y="26"/>
                      </a:moveTo>
                      <a:lnTo>
                        <a:pt x="0" y="20"/>
                      </a:lnTo>
                      <a:lnTo>
                        <a:pt x="2" y="12"/>
                      </a:lnTo>
                      <a:lnTo>
                        <a:pt x="6" y="5"/>
                      </a:lnTo>
                      <a:lnTo>
                        <a:pt x="13" y="0"/>
                      </a:lnTo>
                      <a:lnTo>
                        <a:pt x="23" y="5"/>
                      </a:lnTo>
                      <a:lnTo>
                        <a:pt x="25" y="13"/>
                      </a:lnTo>
                      <a:lnTo>
                        <a:pt x="23" y="19"/>
                      </a:lnTo>
                      <a:lnTo>
                        <a:pt x="18" y="23"/>
                      </a:lnTo>
                      <a:lnTo>
                        <a:pt x="7"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 name=""/>
                <p:cNvSpPr/>
                <p:nvPr/>
              </p:nvSpPr>
              <p:spPr>
                <a:xfrm>
                  <a:off x="8317080" y="2271600"/>
                  <a:ext cx="9360" cy="11160"/>
                </a:xfrm>
                <a:custGeom>
                  <a:avLst/>
                  <a:gdLst/>
                  <a:ahLst/>
                  <a:rect l="l" t="t" r="r" b="b"/>
                  <a:pathLst>
                    <a:path w="18" h="21">
                      <a:moveTo>
                        <a:pt x="1" y="21"/>
                      </a:moveTo>
                      <a:lnTo>
                        <a:pt x="0" y="0"/>
                      </a:lnTo>
                      <a:lnTo>
                        <a:pt x="18" y="1"/>
                      </a:lnTo>
                      <a:lnTo>
                        <a:pt x="17" y="8"/>
                      </a:lnTo>
                      <a:lnTo>
                        <a:pt x="14" y="14"/>
                      </a:lnTo>
                      <a:lnTo>
                        <a:pt x="10" y="18"/>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 name=""/>
                <p:cNvSpPr/>
                <p:nvPr/>
              </p:nvSpPr>
              <p:spPr>
                <a:xfrm>
                  <a:off x="8381880" y="2270160"/>
                  <a:ext cx="9720" cy="9360"/>
                </a:xfrm>
                <a:custGeom>
                  <a:avLst/>
                  <a:gdLst/>
                  <a:ahLst/>
                  <a:rect l="l" t="t" r="r" b="b"/>
                  <a:pathLst>
                    <a:path w="17" h="17">
                      <a:moveTo>
                        <a:pt x="5" y="17"/>
                      </a:moveTo>
                      <a:lnTo>
                        <a:pt x="0" y="1"/>
                      </a:lnTo>
                      <a:lnTo>
                        <a:pt x="10" y="0"/>
                      </a:lnTo>
                      <a:lnTo>
                        <a:pt x="17" y="7"/>
                      </a:lnTo>
                      <a:lnTo>
                        <a:pt x="17" y="14"/>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1" name=""/>
                <p:cNvSpPr/>
                <p:nvPr/>
              </p:nvSpPr>
              <p:spPr>
                <a:xfrm>
                  <a:off x="7118280" y="2268360"/>
                  <a:ext cx="11160" cy="11160"/>
                </a:xfrm>
                <a:custGeom>
                  <a:avLst/>
                  <a:gdLst/>
                  <a:ahLst/>
                  <a:rect l="l" t="t" r="r" b="b"/>
                  <a:pathLst>
                    <a:path w="23" h="20">
                      <a:moveTo>
                        <a:pt x="4" y="20"/>
                      </a:moveTo>
                      <a:lnTo>
                        <a:pt x="0" y="0"/>
                      </a:lnTo>
                      <a:lnTo>
                        <a:pt x="20" y="3"/>
                      </a:lnTo>
                      <a:lnTo>
                        <a:pt x="23" y="10"/>
                      </a:lnTo>
                      <a:lnTo>
                        <a:pt x="20" y="16"/>
                      </a:lnTo>
                      <a:lnTo>
                        <a:pt x="14"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 name=""/>
                <p:cNvSpPr/>
                <p:nvPr/>
              </p:nvSpPr>
              <p:spPr>
                <a:xfrm>
                  <a:off x="8248680" y="2249640"/>
                  <a:ext cx="14400" cy="9360"/>
                </a:xfrm>
                <a:custGeom>
                  <a:avLst/>
                  <a:gdLst/>
                  <a:ahLst/>
                  <a:rect l="l" t="t" r="r" b="b"/>
                  <a:pathLst>
                    <a:path w="26" h="18">
                      <a:moveTo>
                        <a:pt x="7" y="18"/>
                      </a:moveTo>
                      <a:lnTo>
                        <a:pt x="0" y="8"/>
                      </a:lnTo>
                      <a:lnTo>
                        <a:pt x="4" y="2"/>
                      </a:lnTo>
                      <a:lnTo>
                        <a:pt x="11" y="0"/>
                      </a:lnTo>
                      <a:lnTo>
                        <a:pt x="20" y="3"/>
                      </a:lnTo>
                      <a:lnTo>
                        <a:pt x="26" y="8"/>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3" name=""/>
                <p:cNvSpPr/>
                <p:nvPr/>
              </p:nvSpPr>
              <p:spPr>
                <a:xfrm>
                  <a:off x="7056360" y="2257560"/>
                  <a:ext cx="11160" cy="12600"/>
                </a:xfrm>
                <a:custGeom>
                  <a:avLst/>
                  <a:gdLst/>
                  <a:ahLst/>
                  <a:rect l="l" t="t" r="r" b="b"/>
                  <a:pathLst>
                    <a:path w="19" h="24">
                      <a:moveTo>
                        <a:pt x="3" y="24"/>
                      </a:moveTo>
                      <a:lnTo>
                        <a:pt x="0" y="17"/>
                      </a:lnTo>
                      <a:lnTo>
                        <a:pt x="2" y="10"/>
                      </a:lnTo>
                      <a:lnTo>
                        <a:pt x="8" y="3"/>
                      </a:lnTo>
                      <a:lnTo>
                        <a:pt x="13" y="0"/>
                      </a:lnTo>
                      <a:lnTo>
                        <a:pt x="19" y="4"/>
                      </a:lnTo>
                      <a:lnTo>
                        <a:pt x="19" y="13"/>
                      </a:lnTo>
                      <a:lnTo>
                        <a:pt x="13" y="21"/>
                      </a:lnTo>
                      <a:lnTo>
                        <a:pt x="3"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4" name=""/>
                <p:cNvSpPr/>
                <p:nvPr/>
              </p:nvSpPr>
              <p:spPr>
                <a:xfrm>
                  <a:off x="7002360" y="2232000"/>
                  <a:ext cx="12960" cy="12600"/>
                </a:xfrm>
                <a:custGeom>
                  <a:avLst/>
                  <a:gdLst/>
                  <a:ahLst/>
                  <a:rect l="l" t="t" r="r" b="b"/>
                  <a:pathLst>
                    <a:path w="26" h="24">
                      <a:moveTo>
                        <a:pt x="5" y="24"/>
                      </a:moveTo>
                      <a:lnTo>
                        <a:pt x="0" y="2"/>
                      </a:lnTo>
                      <a:lnTo>
                        <a:pt x="9" y="0"/>
                      </a:lnTo>
                      <a:lnTo>
                        <a:pt x="16" y="1"/>
                      </a:lnTo>
                      <a:lnTo>
                        <a:pt x="22" y="5"/>
                      </a:lnTo>
                      <a:lnTo>
                        <a:pt x="26" y="14"/>
                      </a:lnTo>
                      <a:lnTo>
                        <a:pt x="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5" name=""/>
                <p:cNvSpPr/>
                <p:nvPr/>
              </p:nvSpPr>
              <p:spPr>
                <a:xfrm>
                  <a:off x="8170920" y="2211480"/>
                  <a:ext cx="9360" cy="11160"/>
                </a:xfrm>
                <a:custGeom>
                  <a:avLst/>
                  <a:gdLst/>
                  <a:ahLst/>
                  <a:rect l="l" t="t" r="r" b="b"/>
                  <a:pathLst>
                    <a:path w="19" h="22">
                      <a:moveTo>
                        <a:pt x="9" y="22"/>
                      </a:moveTo>
                      <a:lnTo>
                        <a:pt x="0" y="15"/>
                      </a:lnTo>
                      <a:lnTo>
                        <a:pt x="15" y="0"/>
                      </a:lnTo>
                      <a:lnTo>
                        <a:pt x="19" y="4"/>
                      </a:lnTo>
                      <a:lnTo>
                        <a:pt x="19" y="13"/>
                      </a:lnTo>
                      <a:lnTo>
                        <a:pt x="16" y="20"/>
                      </a:lnTo>
                      <a:lnTo>
                        <a:pt x="9"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 name=""/>
                <p:cNvSpPr/>
                <p:nvPr/>
              </p:nvSpPr>
              <p:spPr>
                <a:xfrm>
                  <a:off x="8045280" y="2203560"/>
                  <a:ext cx="9720" cy="12600"/>
                </a:xfrm>
                <a:custGeom>
                  <a:avLst/>
                  <a:gdLst/>
                  <a:ahLst/>
                  <a:rect l="l" t="t" r="r" b="b"/>
                  <a:pathLst>
                    <a:path w="19" h="23">
                      <a:moveTo>
                        <a:pt x="2" y="23"/>
                      </a:moveTo>
                      <a:lnTo>
                        <a:pt x="0" y="17"/>
                      </a:lnTo>
                      <a:lnTo>
                        <a:pt x="2" y="10"/>
                      </a:lnTo>
                      <a:lnTo>
                        <a:pt x="6" y="2"/>
                      </a:lnTo>
                      <a:lnTo>
                        <a:pt x="15" y="0"/>
                      </a:lnTo>
                      <a:lnTo>
                        <a:pt x="19" y="4"/>
                      </a:lnTo>
                      <a:lnTo>
                        <a:pt x="18" y="13"/>
                      </a:lnTo>
                      <a:lnTo>
                        <a:pt x="12" y="21"/>
                      </a:lnTo>
                      <a:lnTo>
                        <a:pt x="2"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7" name=""/>
                <p:cNvSpPr/>
                <p:nvPr/>
              </p:nvSpPr>
              <p:spPr>
                <a:xfrm>
                  <a:off x="8396280" y="2193840"/>
                  <a:ext cx="9360" cy="14400"/>
                </a:xfrm>
                <a:custGeom>
                  <a:avLst/>
                  <a:gdLst/>
                  <a:ahLst/>
                  <a:rect l="l" t="t" r="r" b="b"/>
                  <a:pathLst>
                    <a:path w="17" h="27">
                      <a:moveTo>
                        <a:pt x="4" y="27"/>
                      </a:moveTo>
                      <a:lnTo>
                        <a:pt x="1" y="21"/>
                      </a:lnTo>
                      <a:lnTo>
                        <a:pt x="0" y="14"/>
                      </a:lnTo>
                      <a:lnTo>
                        <a:pt x="1" y="7"/>
                      </a:lnTo>
                      <a:lnTo>
                        <a:pt x="7" y="0"/>
                      </a:lnTo>
                      <a:lnTo>
                        <a:pt x="14" y="3"/>
                      </a:lnTo>
                      <a:lnTo>
                        <a:pt x="17" y="10"/>
                      </a:lnTo>
                      <a:lnTo>
                        <a:pt x="17" y="19"/>
                      </a:lnTo>
                      <a:lnTo>
                        <a:pt x="14" y="27"/>
                      </a:lnTo>
                      <a:lnTo>
                        <a:pt x="4"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8" name=""/>
                <p:cNvSpPr/>
                <p:nvPr/>
              </p:nvSpPr>
              <p:spPr>
                <a:xfrm>
                  <a:off x="7104240" y="2200320"/>
                  <a:ext cx="10800" cy="14400"/>
                </a:xfrm>
                <a:custGeom>
                  <a:avLst/>
                  <a:gdLst/>
                  <a:ahLst/>
                  <a:rect l="l" t="t" r="r" b="b"/>
                  <a:pathLst>
                    <a:path w="21" h="25">
                      <a:moveTo>
                        <a:pt x="7" y="25"/>
                      </a:moveTo>
                      <a:lnTo>
                        <a:pt x="0" y="0"/>
                      </a:lnTo>
                      <a:lnTo>
                        <a:pt x="17" y="0"/>
                      </a:lnTo>
                      <a:lnTo>
                        <a:pt x="21" y="3"/>
                      </a:lnTo>
                      <a:lnTo>
                        <a:pt x="21" y="12"/>
                      </a:lnTo>
                      <a:lnTo>
                        <a:pt x="15" y="22"/>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9" name=""/>
                <p:cNvSpPr/>
                <p:nvPr/>
              </p:nvSpPr>
              <p:spPr>
                <a:xfrm>
                  <a:off x="8105760" y="2189160"/>
                  <a:ext cx="12600" cy="9360"/>
                </a:xfrm>
                <a:custGeom>
                  <a:avLst/>
                  <a:gdLst/>
                  <a:ahLst/>
                  <a:rect l="l" t="t" r="r" b="b"/>
                  <a:pathLst>
                    <a:path w="25" h="20">
                      <a:moveTo>
                        <a:pt x="9" y="20"/>
                      </a:moveTo>
                      <a:lnTo>
                        <a:pt x="0" y="9"/>
                      </a:lnTo>
                      <a:lnTo>
                        <a:pt x="3" y="3"/>
                      </a:lnTo>
                      <a:lnTo>
                        <a:pt x="12" y="0"/>
                      </a:lnTo>
                      <a:lnTo>
                        <a:pt x="21" y="2"/>
                      </a:lnTo>
                      <a:lnTo>
                        <a:pt x="25" y="6"/>
                      </a:lnTo>
                      <a:lnTo>
                        <a:pt x="9"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0" name=""/>
                <p:cNvSpPr/>
                <p:nvPr/>
              </p:nvSpPr>
              <p:spPr>
                <a:xfrm>
                  <a:off x="8340840" y="2185920"/>
                  <a:ext cx="11160" cy="7920"/>
                </a:xfrm>
                <a:custGeom>
                  <a:avLst/>
                  <a:gdLst/>
                  <a:ahLst/>
                  <a:rect l="l" t="t" r="r" b="b"/>
                  <a:pathLst>
                    <a:path w="19" h="16">
                      <a:moveTo>
                        <a:pt x="3" y="16"/>
                      </a:moveTo>
                      <a:lnTo>
                        <a:pt x="0" y="8"/>
                      </a:lnTo>
                      <a:lnTo>
                        <a:pt x="4" y="2"/>
                      </a:lnTo>
                      <a:lnTo>
                        <a:pt x="11" y="0"/>
                      </a:lnTo>
                      <a:lnTo>
                        <a:pt x="19" y="9"/>
                      </a:lnTo>
                      <a:lnTo>
                        <a:pt x="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1" name=""/>
                <p:cNvSpPr/>
                <p:nvPr/>
              </p:nvSpPr>
              <p:spPr>
                <a:xfrm>
                  <a:off x="7931160" y="2181240"/>
                  <a:ext cx="15840" cy="12600"/>
                </a:xfrm>
                <a:custGeom>
                  <a:avLst/>
                  <a:gdLst/>
                  <a:ahLst/>
                  <a:rect l="l" t="t" r="r" b="b"/>
                  <a:pathLst>
                    <a:path w="29" h="22">
                      <a:moveTo>
                        <a:pt x="14" y="22"/>
                      </a:moveTo>
                      <a:lnTo>
                        <a:pt x="0" y="9"/>
                      </a:lnTo>
                      <a:lnTo>
                        <a:pt x="7" y="2"/>
                      </a:lnTo>
                      <a:lnTo>
                        <a:pt x="17" y="0"/>
                      </a:lnTo>
                      <a:lnTo>
                        <a:pt x="24" y="2"/>
                      </a:lnTo>
                      <a:lnTo>
                        <a:pt x="29" y="9"/>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2" name=""/>
                <p:cNvSpPr/>
                <p:nvPr/>
              </p:nvSpPr>
              <p:spPr>
                <a:xfrm>
                  <a:off x="7991640" y="2171880"/>
                  <a:ext cx="10800" cy="10800"/>
                </a:xfrm>
                <a:custGeom>
                  <a:avLst/>
                  <a:gdLst/>
                  <a:ahLst/>
                  <a:rect l="l" t="t" r="r" b="b"/>
                  <a:pathLst>
                    <a:path w="22" h="22">
                      <a:moveTo>
                        <a:pt x="6" y="22"/>
                      </a:moveTo>
                      <a:lnTo>
                        <a:pt x="0" y="0"/>
                      </a:lnTo>
                      <a:lnTo>
                        <a:pt x="22" y="3"/>
                      </a:lnTo>
                      <a:lnTo>
                        <a:pt x="6"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3" name=""/>
                <p:cNvSpPr/>
                <p:nvPr/>
              </p:nvSpPr>
              <p:spPr>
                <a:xfrm>
                  <a:off x="8263080" y="2163600"/>
                  <a:ext cx="10800" cy="12960"/>
                </a:xfrm>
                <a:custGeom>
                  <a:avLst/>
                  <a:gdLst/>
                  <a:ahLst/>
                  <a:rect l="l" t="t" r="r" b="b"/>
                  <a:pathLst>
                    <a:path w="22" h="25">
                      <a:moveTo>
                        <a:pt x="9" y="25"/>
                      </a:moveTo>
                      <a:lnTo>
                        <a:pt x="0" y="18"/>
                      </a:lnTo>
                      <a:lnTo>
                        <a:pt x="2" y="11"/>
                      </a:lnTo>
                      <a:lnTo>
                        <a:pt x="6" y="5"/>
                      </a:lnTo>
                      <a:lnTo>
                        <a:pt x="12" y="0"/>
                      </a:lnTo>
                      <a:lnTo>
                        <a:pt x="21" y="0"/>
                      </a:lnTo>
                      <a:lnTo>
                        <a:pt x="22" y="8"/>
                      </a:lnTo>
                      <a:lnTo>
                        <a:pt x="21" y="13"/>
                      </a:lnTo>
                      <a:lnTo>
                        <a:pt x="16" y="19"/>
                      </a:lnTo>
                      <a:lnTo>
                        <a:pt x="9"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4" name=""/>
                <p:cNvSpPr/>
                <p:nvPr/>
              </p:nvSpPr>
              <p:spPr>
                <a:xfrm>
                  <a:off x="6997680" y="2162160"/>
                  <a:ext cx="9720" cy="12600"/>
                </a:xfrm>
                <a:custGeom>
                  <a:avLst/>
                  <a:gdLst/>
                  <a:ahLst/>
                  <a:rect l="l" t="t" r="r" b="b"/>
                  <a:pathLst>
                    <a:path w="17" h="23">
                      <a:moveTo>
                        <a:pt x="0" y="23"/>
                      </a:moveTo>
                      <a:lnTo>
                        <a:pt x="0" y="1"/>
                      </a:lnTo>
                      <a:lnTo>
                        <a:pt x="17" y="0"/>
                      </a:lnTo>
                      <a:lnTo>
                        <a:pt x="17" y="9"/>
                      </a:lnTo>
                      <a:lnTo>
                        <a:pt x="16" y="16"/>
                      </a:lnTo>
                      <a:lnTo>
                        <a:pt x="10" y="22"/>
                      </a:lnTo>
                      <a:lnTo>
                        <a:pt x="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 name=""/>
                <p:cNvSpPr/>
                <p:nvPr/>
              </p:nvSpPr>
              <p:spPr>
                <a:xfrm>
                  <a:off x="7826400" y="2146320"/>
                  <a:ext cx="14400" cy="12600"/>
                </a:xfrm>
                <a:custGeom>
                  <a:avLst/>
                  <a:gdLst/>
                  <a:ahLst/>
                  <a:rect l="l" t="t" r="r" b="b"/>
                  <a:pathLst>
                    <a:path w="25" h="25">
                      <a:moveTo>
                        <a:pt x="7" y="25"/>
                      </a:moveTo>
                      <a:lnTo>
                        <a:pt x="0" y="18"/>
                      </a:lnTo>
                      <a:lnTo>
                        <a:pt x="0" y="7"/>
                      </a:lnTo>
                      <a:lnTo>
                        <a:pt x="3" y="2"/>
                      </a:lnTo>
                      <a:lnTo>
                        <a:pt x="12" y="0"/>
                      </a:lnTo>
                      <a:lnTo>
                        <a:pt x="20" y="3"/>
                      </a:lnTo>
                      <a:lnTo>
                        <a:pt x="25" y="7"/>
                      </a:lnTo>
                      <a:lnTo>
                        <a:pt x="7"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6" name=""/>
                <p:cNvSpPr/>
                <p:nvPr/>
              </p:nvSpPr>
              <p:spPr>
                <a:xfrm>
                  <a:off x="7062840" y="2154240"/>
                  <a:ext cx="11160" cy="14400"/>
                </a:xfrm>
                <a:custGeom>
                  <a:avLst/>
                  <a:gdLst/>
                  <a:ahLst/>
                  <a:rect l="l" t="t" r="r" b="b"/>
                  <a:pathLst>
                    <a:path w="21" h="26">
                      <a:moveTo>
                        <a:pt x="15" y="26"/>
                      </a:moveTo>
                      <a:lnTo>
                        <a:pt x="0" y="9"/>
                      </a:lnTo>
                      <a:lnTo>
                        <a:pt x="17" y="0"/>
                      </a:lnTo>
                      <a:lnTo>
                        <a:pt x="20" y="3"/>
                      </a:lnTo>
                      <a:lnTo>
                        <a:pt x="21" y="10"/>
                      </a:lnTo>
                      <a:lnTo>
                        <a:pt x="20" y="19"/>
                      </a:lnTo>
                      <a:lnTo>
                        <a:pt x="15"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7" name=""/>
                <p:cNvSpPr/>
                <p:nvPr/>
              </p:nvSpPr>
              <p:spPr>
                <a:xfrm>
                  <a:off x="8194680" y="2143080"/>
                  <a:ext cx="12600" cy="7920"/>
                </a:xfrm>
                <a:custGeom>
                  <a:avLst/>
                  <a:gdLst/>
                  <a:ahLst/>
                  <a:rect l="l" t="t" r="r" b="b"/>
                  <a:pathLst>
                    <a:path w="24" h="16">
                      <a:moveTo>
                        <a:pt x="7" y="16"/>
                      </a:moveTo>
                      <a:lnTo>
                        <a:pt x="0" y="6"/>
                      </a:lnTo>
                      <a:lnTo>
                        <a:pt x="4" y="0"/>
                      </a:lnTo>
                      <a:lnTo>
                        <a:pt x="11" y="0"/>
                      </a:lnTo>
                      <a:lnTo>
                        <a:pt x="20" y="2"/>
                      </a:lnTo>
                      <a:lnTo>
                        <a:pt x="24" y="6"/>
                      </a:lnTo>
                      <a:lnTo>
                        <a:pt x="7"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8" name=""/>
                <p:cNvSpPr/>
                <p:nvPr/>
              </p:nvSpPr>
              <p:spPr>
                <a:xfrm>
                  <a:off x="7435800" y="2062080"/>
                  <a:ext cx="68400" cy="95400"/>
                </a:xfrm>
                <a:custGeom>
                  <a:avLst/>
                  <a:gdLst/>
                  <a:ahLst/>
                  <a:rect l="l" t="t" r="r" b="b"/>
                  <a:pathLst>
                    <a:path w="131" h="182">
                      <a:moveTo>
                        <a:pt x="20" y="182"/>
                      </a:moveTo>
                      <a:lnTo>
                        <a:pt x="0" y="174"/>
                      </a:lnTo>
                      <a:lnTo>
                        <a:pt x="10" y="166"/>
                      </a:lnTo>
                      <a:lnTo>
                        <a:pt x="21" y="159"/>
                      </a:lnTo>
                      <a:lnTo>
                        <a:pt x="34" y="155"/>
                      </a:lnTo>
                      <a:lnTo>
                        <a:pt x="47" y="151"/>
                      </a:lnTo>
                      <a:lnTo>
                        <a:pt x="60" y="148"/>
                      </a:lnTo>
                      <a:lnTo>
                        <a:pt x="75" y="145"/>
                      </a:lnTo>
                      <a:lnTo>
                        <a:pt x="89" y="140"/>
                      </a:lnTo>
                      <a:lnTo>
                        <a:pt x="104" y="138"/>
                      </a:lnTo>
                      <a:lnTo>
                        <a:pt x="101" y="106"/>
                      </a:lnTo>
                      <a:lnTo>
                        <a:pt x="95" y="75"/>
                      </a:lnTo>
                      <a:lnTo>
                        <a:pt x="88" y="44"/>
                      </a:lnTo>
                      <a:lnTo>
                        <a:pt x="85" y="12"/>
                      </a:lnTo>
                      <a:lnTo>
                        <a:pt x="101" y="0"/>
                      </a:lnTo>
                      <a:lnTo>
                        <a:pt x="108" y="35"/>
                      </a:lnTo>
                      <a:lnTo>
                        <a:pt x="115" y="75"/>
                      </a:lnTo>
                      <a:lnTo>
                        <a:pt x="124" y="116"/>
                      </a:lnTo>
                      <a:lnTo>
                        <a:pt x="131" y="156"/>
                      </a:lnTo>
                      <a:lnTo>
                        <a:pt x="124" y="158"/>
                      </a:lnTo>
                      <a:lnTo>
                        <a:pt x="115" y="158"/>
                      </a:lnTo>
                      <a:lnTo>
                        <a:pt x="108" y="159"/>
                      </a:lnTo>
                      <a:lnTo>
                        <a:pt x="101" y="159"/>
                      </a:lnTo>
                      <a:lnTo>
                        <a:pt x="94" y="159"/>
                      </a:lnTo>
                      <a:lnTo>
                        <a:pt x="85" y="161"/>
                      </a:lnTo>
                      <a:lnTo>
                        <a:pt x="78" y="164"/>
                      </a:lnTo>
                      <a:lnTo>
                        <a:pt x="69" y="166"/>
                      </a:lnTo>
                      <a:lnTo>
                        <a:pt x="63" y="168"/>
                      </a:lnTo>
                      <a:lnTo>
                        <a:pt x="58" y="168"/>
                      </a:lnTo>
                      <a:lnTo>
                        <a:pt x="52" y="171"/>
                      </a:lnTo>
                      <a:lnTo>
                        <a:pt x="46" y="172"/>
                      </a:lnTo>
                      <a:lnTo>
                        <a:pt x="40" y="175"/>
                      </a:lnTo>
                      <a:lnTo>
                        <a:pt x="34" y="177"/>
                      </a:lnTo>
                      <a:lnTo>
                        <a:pt x="27" y="179"/>
                      </a:lnTo>
                      <a:lnTo>
                        <a:pt x="2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055000" y="2138400"/>
                  <a:ext cx="7920" cy="11160"/>
                </a:xfrm>
                <a:custGeom>
                  <a:avLst/>
                  <a:gdLst/>
                  <a:ahLst/>
                  <a:rect l="l" t="t" r="r" b="b"/>
                  <a:pathLst>
                    <a:path w="14" h="21">
                      <a:moveTo>
                        <a:pt x="0" y="21"/>
                      </a:moveTo>
                      <a:lnTo>
                        <a:pt x="3" y="0"/>
                      </a:lnTo>
                      <a:lnTo>
                        <a:pt x="14" y="6"/>
                      </a:lnTo>
                      <a:lnTo>
                        <a:pt x="14" y="11"/>
                      </a:lnTo>
                      <a:lnTo>
                        <a:pt x="12" y="16"/>
                      </a:lnTo>
                      <a:lnTo>
                        <a:pt x="7"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0" name=""/>
                <p:cNvSpPr/>
                <p:nvPr/>
              </p:nvSpPr>
              <p:spPr>
                <a:xfrm>
                  <a:off x="7107120" y="1995480"/>
                  <a:ext cx="216000" cy="152280"/>
                </a:xfrm>
                <a:custGeom>
                  <a:avLst/>
                  <a:gdLst/>
                  <a:ahLst/>
                  <a:rect l="l" t="t" r="r" b="b"/>
                  <a:pathLst>
                    <a:path w="410" h="286">
                      <a:moveTo>
                        <a:pt x="326" y="286"/>
                      </a:moveTo>
                      <a:lnTo>
                        <a:pt x="319" y="282"/>
                      </a:lnTo>
                      <a:lnTo>
                        <a:pt x="311" y="282"/>
                      </a:lnTo>
                      <a:lnTo>
                        <a:pt x="304" y="280"/>
                      </a:lnTo>
                      <a:lnTo>
                        <a:pt x="294" y="277"/>
                      </a:lnTo>
                      <a:lnTo>
                        <a:pt x="292" y="254"/>
                      </a:lnTo>
                      <a:lnTo>
                        <a:pt x="282" y="253"/>
                      </a:lnTo>
                      <a:lnTo>
                        <a:pt x="275" y="257"/>
                      </a:lnTo>
                      <a:lnTo>
                        <a:pt x="269" y="263"/>
                      </a:lnTo>
                      <a:lnTo>
                        <a:pt x="258" y="262"/>
                      </a:lnTo>
                      <a:lnTo>
                        <a:pt x="259" y="253"/>
                      </a:lnTo>
                      <a:lnTo>
                        <a:pt x="265" y="244"/>
                      </a:lnTo>
                      <a:lnTo>
                        <a:pt x="269" y="237"/>
                      </a:lnTo>
                      <a:lnTo>
                        <a:pt x="275" y="228"/>
                      </a:lnTo>
                      <a:lnTo>
                        <a:pt x="272" y="218"/>
                      </a:lnTo>
                      <a:lnTo>
                        <a:pt x="252" y="218"/>
                      </a:lnTo>
                      <a:lnTo>
                        <a:pt x="238" y="238"/>
                      </a:lnTo>
                      <a:lnTo>
                        <a:pt x="229" y="233"/>
                      </a:lnTo>
                      <a:lnTo>
                        <a:pt x="235" y="223"/>
                      </a:lnTo>
                      <a:lnTo>
                        <a:pt x="239" y="211"/>
                      </a:lnTo>
                      <a:lnTo>
                        <a:pt x="245" y="201"/>
                      </a:lnTo>
                      <a:lnTo>
                        <a:pt x="251" y="191"/>
                      </a:lnTo>
                      <a:lnTo>
                        <a:pt x="245" y="182"/>
                      </a:lnTo>
                      <a:lnTo>
                        <a:pt x="238" y="181"/>
                      </a:lnTo>
                      <a:lnTo>
                        <a:pt x="227" y="185"/>
                      </a:lnTo>
                      <a:lnTo>
                        <a:pt x="222" y="195"/>
                      </a:lnTo>
                      <a:lnTo>
                        <a:pt x="216" y="207"/>
                      </a:lnTo>
                      <a:lnTo>
                        <a:pt x="206" y="217"/>
                      </a:lnTo>
                      <a:lnTo>
                        <a:pt x="206" y="205"/>
                      </a:lnTo>
                      <a:lnTo>
                        <a:pt x="210" y="195"/>
                      </a:lnTo>
                      <a:lnTo>
                        <a:pt x="214" y="186"/>
                      </a:lnTo>
                      <a:lnTo>
                        <a:pt x="220" y="175"/>
                      </a:lnTo>
                      <a:lnTo>
                        <a:pt x="216" y="153"/>
                      </a:lnTo>
                      <a:lnTo>
                        <a:pt x="204" y="158"/>
                      </a:lnTo>
                      <a:lnTo>
                        <a:pt x="201" y="165"/>
                      </a:lnTo>
                      <a:lnTo>
                        <a:pt x="197" y="172"/>
                      </a:lnTo>
                      <a:lnTo>
                        <a:pt x="191" y="178"/>
                      </a:lnTo>
                      <a:lnTo>
                        <a:pt x="184" y="186"/>
                      </a:lnTo>
                      <a:lnTo>
                        <a:pt x="172" y="192"/>
                      </a:lnTo>
                      <a:lnTo>
                        <a:pt x="174" y="184"/>
                      </a:lnTo>
                      <a:lnTo>
                        <a:pt x="177" y="172"/>
                      </a:lnTo>
                      <a:lnTo>
                        <a:pt x="181" y="160"/>
                      </a:lnTo>
                      <a:lnTo>
                        <a:pt x="185" y="149"/>
                      </a:lnTo>
                      <a:lnTo>
                        <a:pt x="164" y="146"/>
                      </a:lnTo>
                      <a:lnTo>
                        <a:pt x="162" y="155"/>
                      </a:lnTo>
                      <a:lnTo>
                        <a:pt x="159" y="160"/>
                      </a:lnTo>
                      <a:lnTo>
                        <a:pt x="154" y="168"/>
                      </a:lnTo>
                      <a:lnTo>
                        <a:pt x="148" y="175"/>
                      </a:lnTo>
                      <a:lnTo>
                        <a:pt x="142" y="168"/>
                      </a:lnTo>
                      <a:lnTo>
                        <a:pt x="144" y="156"/>
                      </a:lnTo>
                      <a:lnTo>
                        <a:pt x="148" y="146"/>
                      </a:lnTo>
                      <a:lnTo>
                        <a:pt x="149" y="136"/>
                      </a:lnTo>
                      <a:lnTo>
                        <a:pt x="148" y="124"/>
                      </a:lnTo>
                      <a:lnTo>
                        <a:pt x="138" y="124"/>
                      </a:lnTo>
                      <a:lnTo>
                        <a:pt x="128" y="132"/>
                      </a:lnTo>
                      <a:lnTo>
                        <a:pt x="125" y="137"/>
                      </a:lnTo>
                      <a:lnTo>
                        <a:pt x="120" y="146"/>
                      </a:lnTo>
                      <a:lnTo>
                        <a:pt x="119" y="156"/>
                      </a:lnTo>
                      <a:lnTo>
                        <a:pt x="118" y="166"/>
                      </a:lnTo>
                      <a:lnTo>
                        <a:pt x="112" y="158"/>
                      </a:lnTo>
                      <a:lnTo>
                        <a:pt x="112" y="146"/>
                      </a:lnTo>
                      <a:lnTo>
                        <a:pt x="112" y="132"/>
                      </a:lnTo>
                      <a:lnTo>
                        <a:pt x="110" y="117"/>
                      </a:lnTo>
                      <a:lnTo>
                        <a:pt x="89" y="124"/>
                      </a:lnTo>
                      <a:lnTo>
                        <a:pt x="90" y="130"/>
                      </a:lnTo>
                      <a:lnTo>
                        <a:pt x="87" y="137"/>
                      </a:lnTo>
                      <a:lnTo>
                        <a:pt x="86" y="145"/>
                      </a:lnTo>
                      <a:lnTo>
                        <a:pt x="87" y="153"/>
                      </a:lnTo>
                      <a:lnTo>
                        <a:pt x="80" y="153"/>
                      </a:lnTo>
                      <a:lnTo>
                        <a:pt x="78" y="146"/>
                      </a:lnTo>
                      <a:lnTo>
                        <a:pt x="77" y="137"/>
                      </a:lnTo>
                      <a:lnTo>
                        <a:pt x="73" y="130"/>
                      </a:lnTo>
                      <a:lnTo>
                        <a:pt x="68" y="124"/>
                      </a:lnTo>
                      <a:lnTo>
                        <a:pt x="57" y="126"/>
                      </a:lnTo>
                      <a:lnTo>
                        <a:pt x="55" y="134"/>
                      </a:lnTo>
                      <a:lnTo>
                        <a:pt x="54" y="146"/>
                      </a:lnTo>
                      <a:lnTo>
                        <a:pt x="54" y="156"/>
                      </a:lnTo>
                      <a:lnTo>
                        <a:pt x="55" y="168"/>
                      </a:lnTo>
                      <a:lnTo>
                        <a:pt x="51" y="179"/>
                      </a:lnTo>
                      <a:lnTo>
                        <a:pt x="44" y="188"/>
                      </a:lnTo>
                      <a:lnTo>
                        <a:pt x="37" y="198"/>
                      </a:lnTo>
                      <a:lnTo>
                        <a:pt x="32" y="211"/>
                      </a:lnTo>
                      <a:lnTo>
                        <a:pt x="29" y="218"/>
                      </a:lnTo>
                      <a:lnTo>
                        <a:pt x="31" y="227"/>
                      </a:lnTo>
                      <a:lnTo>
                        <a:pt x="31" y="236"/>
                      </a:lnTo>
                      <a:lnTo>
                        <a:pt x="31" y="246"/>
                      </a:lnTo>
                      <a:lnTo>
                        <a:pt x="26" y="236"/>
                      </a:lnTo>
                      <a:lnTo>
                        <a:pt x="22" y="224"/>
                      </a:lnTo>
                      <a:lnTo>
                        <a:pt x="18" y="214"/>
                      </a:lnTo>
                      <a:lnTo>
                        <a:pt x="12" y="204"/>
                      </a:lnTo>
                      <a:lnTo>
                        <a:pt x="0" y="185"/>
                      </a:lnTo>
                      <a:lnTo>
                        <a:pt x="2" y="162"/>
                      </a:lnTo>
                      <a:lnTo>
                        <a:pt x="5" y="139"/>
                      </a:lnTo>
                      <a:lnTo>
                        <a:pt x="9" y="114"/>
                      </a:lnTo>
                      <a:lnTo>
                        <a:pt x="13" y="91"/>
                      </a:lnTo>
                      <a:lnTo>
                        <a:pt x="21" y="67"/>
                      </a:lnTo>
                      <a:lnTo>
                        <a:pt x="28" y="45"/>
                      </a:lnTo>
                      <a:lnTo>
                        <a:pt x="37" y="22"/>
                      </a:lnTo>
                      <a:lnTo>
                        <a:pt x="48" y="1"/>
                      </a:lnTo>
                      <a:lnTo>
                        <a:pt x="74" y="0"/>
                      </a:lnTo>
                      <a:lnTo>
                        <a:pt x="100" y="0"/>
                      </a:lnTo>
                      <a:lnTo>
                        <a:pt x="129" y="3"/>
                      </a:lnTo>
                      <a:lnTo>
                        <a:pt x="157" y="7"/>
                      </a:lnTo>
                      <a:lnTo>
                        <a:pt x="184" y="14"/>
                      </a:lnTo>
                      <a:lnTo>
                        <a:pt x="210" y="22"/>
                      </a:lnTo>
                      <a:lnTo>
                        <a:pt x="236" y="30"/>
                      </a:lnTo>
                      <a:lnTo>
                        <a:pt x="259" y="40"/>
                      </a:lnTo>
                      <a:lnTo>
                        <a:pt x="275" y="61"/>
                      </a:lnTo>
                      <a:lnTo>
                        <a:pt x="292" y="81"/>
                      </a:lnTo>
                      <a:lnTo>
                        <a:pt x="311" y="101"/>
                      </a:lnTo>
                      <a:lnTo>
                        <a:pt x="330" y="121"/>
                      </a:lnTo>
                      <a:lnTo>
                        <a:pt x="349" y="142"/>
                      </a:lnTo>
                      <a:lnTo>
                        <a:pt x="368" y="163"/>
                      </a:lnTo>
                      <a:lnTo>
                        <a:pt x="385" y="184"/>
                      </a:lnTo>
                      <a:lnTo>
                        <a:pt x="402" y="205"/>
                      </a:lnTo>
                      <a:lnTo>
                        <a:pt x="410" y="225"/>
                      </a:lnTo>
                      <a:lnTo>
                        <a:pt x="410" y="237"/>
                      </a:lnTo>
                      <a:lnTo>
                        <a:pt x="395" y="257"/>
                      </a:lnTo>
                      <a:lnTo>
                        <a:pt x="388" y="262"/>
                      </a:lnTo>
                      <a:lnTo>
                        <a:pt x="381" y="266"/>
                      </a:lnTo>
                      <a:lnTo>
                        <a:pt x="372" y="270"/>
                      </a:lnTo>
                      <a:lnTo>
                        <a:pt x="363" y="273"/>
                      </a:lnTo>
                      <a:lnTo>
                        <a:pt x="355" y="276"/>
                      </a:lnTo>
                      <a:lnTo>
                        <a:pt x="345" y="279"/>
                      </a:lnTo>
                      <a:lnTo>
                        <a:pt x="336" y="283"/>
                      </a:lnTo>
                      <a:lnTo>
                        <a:pt x="326" y="286"/>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362800" y="2114640"/>
                  <a:ext cx="11160" cy="12600"/>
                </a:xfrm>
                <a:custGeom>
                  <a:avLst/>
                  <a:gdLst/>
                  <a:ahLst/>
                  <a:rect l="l" t="t" r="r" b="b"/>
                  <a:pathLst>
                    <a:path w="19" h="25">
                      <a:moveTo>
                        <a:pt x="13" y="25"/>
                      </a:moveTo>
                      <a:lnTo>
                        <a:pt x="0" y="17"/>
                      </a:lnTo>
                      <a:lnTo>
                        <a:pt x="0" y="10"/>
                      </a:lnTo>
                      <a:lnTo>
                        <a:pt x="3" y="3"/>
                      </a:lnTo>
                      <a:lnTo>
                        <a:pt x="8" y="0"/>
                      </a:lnTo>
                      <a:lnTo>
                        <a:pt x="19" y="1"/>
                      </a:lnTo>
                      <a:lnTo>
                        <a:pt x="1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2" name=""/>
                <p:cNvSpPr/>
                <p:nvPr/>
              </p:nvSpPr>
              <p:spPr>
                <a:xfrm>
                  <a:off x="7891560" y="2112840"/>
                  <a:ext cx="12600" cy="12960"/>
                </a:xfrm>
                <a:custGeom>
                  <a:avLst/>
                  <a:gdLst/>
                  <a:ahLst/>
                  <a:rect l="l" t="t" r="r" b="b"/>
                  <a:pathLst>
                    <a:path w="22" h="23">
                      <a:moveTo>
                        <a:pt x="16" y="23"/>
                      </a:moveTo>
                      <a:lnTo>
                        <a:pt x="0" y="4"/>
                      </a:lnTo>
                      <a:lnTo>
                        <a:pt x="22" y="0"/>
                      </a:lnTo>
                      <a:lnTo>
                        <a:pt x="16"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3" name=""/>
                <p:cNvSpPr/>
                <p:nvPr/>
              </p:nvSpPr>
              <p:spPr>
                <a:xfrm>
                  <a:off x="7742160" y="2092320"/>
                  <a:ext cx="14400" cy="15840"/>
                </a:xfrm>
                <a:custGeom>
                  <a:avLst/>
                  <a:gdLst/>
                  <a:ahLst/>
                  <a:rect l="l" t="t" r="r" b="b"/>
                  <a:pathLst>
                    <a:path w="25" h="30">
                      <a:moveTo>
                        <a:pt x="10" y="30"/>
                      </a:moveTo>
                      <a:lnTo>
                        <a:pt x="0" y="23"/>
                      </a:lnTo>
                      <a:lnTo>
                        <a:pt x="0" y="16"/>
                      </a:lnTo>
                      <a:lnTo>
                        <a:pt x="1" y="8"/>
                      </a:lnTo>
                      <a:lnTo>
                        <a:pt x="6" y="3"/>
                      </a:lnTo>
                      <a:lnTo>
                        <a:pt x="16" y="0"/>
                      </a:lnTo>
                      <a:lnTo>
                        <a:pt x="23" y="7"/>
                      </a:lnTo>
                      <a:lnTo>
                        <a:pt x="25" y="14"/>
                      </a:lnTo>
                      <a:lnTo>
                        <a:pt x="22" y="18"/>
                      </a:lnTo>
                      <a:lnTo>
                        <a:pt x="16" y="24"/>
                      </a:lnTo>
                      <a:lnTo>
                        <a:pt x="1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4" name=""/>
                <p:cNvSpPr/>
                <p:nvPr/>
              </p:nvSpPr>
              <p:spPr>
                <a:xfrm>
                  <a:off x="7974000" y="2087640"/>
                  <a:ext cx="7920" cy="9360"/>
                </a:xfrm>
                <a:custGeom>
                  <a:avLst/>
                  <a:gdLst/>
                  <a:ahLst/>
                  <a:rect l="l" t="t" r="r" b="b"/>
                  <a:pathLst>
                    <a:path w="15" h="20">
                      <a:moveTo>
                        <a:pt x="2" y="20"/>
                      </a:moveTo>
                      <a:lnTo>
                        <a:pt x="0" y="0"/>
                      </a:lnTo>
                      <a:lnTo>
                        <a:pt x="12" y="0"/>
                      </a:lnTo>
                      <a:lnTo>
                        <a:pt x="15" y="4"/>
                      </a:lnTo>
                      <a:lnTo>
                        <a:pt x="13" y="13"/>
                      </a:lnTo>
                      <a:lnTo>
                        <a:pt x="9" y="20"/>
                      </a:lnTo>
                      <a:lnTo>
                        <a:pt x="2"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5" name=""/>
                <p:cNvSpPr/>
                <p:nvPr/>
              </p:nvSpPr>
              <p:spPr>
                <a:xfrm>
                  <a:off x="8264520" y="2073240"/>
                  <a:ext cx="9360" cy="14400"/>
                </a:xfrm>
                <a:custGeom>
                  <a:avLst/>
                  <a:gdLst/>
                  <a:ahLst/>
                  <a:rect l="l" t="t" r="r" b="b"/>
                  <a:pathLst>
                    <a:path w="19" h="25">
                      <a:moveTo>
                        <a:pt x="3" y="25"/>
                      </a:moveTo>
                      <a:lnTo>
                        <a:pt x="0" y="19"/>
                      </a:lnTo>
                      <a:lnTo>
                        <a:pt x="1" y="11"/>
                      </a:lnTo>
                      <a:lnTo>
                        <a:pt x="7" y="5"/>
                      </a:lnTo>
                      <a:lnTo>
                        <a:pt x="13" y="0"/>
                      </a:lnTo>
                      <a:lnTo>
                        <a:pt x="19" y="6"/>
                      </a:lnTo>
                      <a:lnTo>
                        <a:pt x="17" y="15"/>
                      </a:lnTo>
                      <a:lnTo>
                        <a:pt x="10" y="22"/>
                      </a:lnTo>
                      <a:lnTo>
                        <a:pt x="3"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6" name=""/>
                <p:cNvSpPr/>
                <p:nvPr/>
              </p:nvSpPr>
              <p:spPr>
                <a:xfrm>
                  <a:off x="8116920" y="2071800"/>
                  <a:ext cx="9360" cy="12600"/>
                </a:xfrm>
                <a:custGeom>
                  <a:avLst/>
                  <a:gdLst/>
                  <a:ahLst/>
                  <a:rect l="l" t="t" r="r" b="b"/>
                  <a:pathLst>
                    <a:path w="19" h="23">
                      <a:moveTo>
                        <a:pt x="0" y="20"/>
                      </a:moveTo>
                      <a:lnTo>
                        <a:pt x="2" y="13"/>
                      </a:lnTo>
                      <a:lnTo>
                        <a:pt x="3" y="6"/>
                      </a:lnTo>
                      <a:lnTo>
                        <a:pt x="9" y="0"/>
                      </a:lnTo>
                      <a:lnTo>
                        <a:pt x="19" y="0"/>
                      </a:lnTo>
                      <a:lnTo>
                        <a:pt x="19" y="9"/>
                      </a:lnTo>
                      <a:lnTo>
                        <a:pt x="16" y="17"/>
                      </a:lnTo>
                      <a:lnTo>
                        <a:pt x="10" y="23"/>
                      </a:lnTo>
                      <a:lnTo>
                        <a:pt x="0"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7" name=""/>
                <p:cNvSpPr/>
                <p:nvPr/>
              </p:nvSpPr>
              <p:spPr>
                <a:xfrm>
                  <a:off x="7169040" y="1932120"/>
                  <a:ext cx="204840" cy="160200"/>
                </a:xfrm>
                <a:custGeom>
                  <a:avLst/>
                  <a:gdLst/>
                  <a:ahLst/>
                  <a:rect l="l" t="t" r="r" b="b"/>
                  <a:pathLst>
                    <a:path w="386" h="301">
                      <a:moveTo>
                        <a:pt x="309" y="301"/>
                      </a:moveTo>
                      <a:lnTo>
                        <a:pt x="311" y="293"/>
                      </a:lnTo>
                      <a:lnTo>
                        <a:pt x="312" y="286"/>
                      </a:lnTo>
                      <a:lnTo>
                        <a:pt x="315" y="279"/>
                      </a:lnTo>
                      <a:lnTo>
                        <a:pt x="318" y="269"/>
                      </a:lnTo>
                      <a:lnTo>
                        <a:pt x="311" y="263"/>
                      </a:lnTo>
                      <a:lnTo>
                        <a:pt x="304" y="265"/>
                      </a:lnTo>
                      <a:lnTo>
                        <a:pt x="298" y="270"/>
                      </a:lnTo>
                      <a:lnTo>
                        <a:pt x="291" y="276"/>
                      </a:lnTo>
                      <a:lnTo>
                        <a:pt x="283" y="273"/>
                      </a:lnTo>
                      <a:lnTo>
                        <a:pt x="282" y="265"/>
                      </a:lnTo>
                      <a:lnTo>
                        <a:pt x="285" y="259"/>
                      </a:lnTo>
                      <a:lnTo>
                        <a:pt x="288" y="252"/>
                      </a:lnTo>
                      <a:lnTo>
                        <a:pt x="289" y="241"/>
                      </a:lnTo>
                      <a:lnTo>
                        <a:pt x="280" y="239"/>
                      </a:lnTo>
                      <a:lnTo>
                        <a:pt x="273" y="239"/>
                      </a:lnTo>
                      <a:lnTo>
                        <a:pt x="266" y="243"/>
                      </a:lnTo>
                      <a:lnTo>
                        <a:pt x="256" y="247"/>
                      </a:lnTo>
                      <a:lnTo>
                        <a:pt x="259" y="237"/>
                      </a:lnTo>
                      <a:lnTo>
                        <a:pt x="262" y="227"/>
                      </a:lnTo>
                      <a:lnTo>
                        <a:pt x="266" y="214"/>
                      </a:lnTo>
                      <a:lnTo>
                        <a:pt x="270" y="202"/>
                      </a:lnTo>
                      <a:lnTo>
                        <a:pt x="260" y="201"/>
                      </a:lnTo>
                      <a:lnTo>
                        <a:pt x="254" y="205"/>
                      </a:lnTo>
                      <a:lnTo>
                        <a:pt x="249" y="211"/>
                      </a:lnTo>
                      <a:lnTo>
                        <a:pt x="240" y="214"/>
                      </a:lnTo>
                      <a:lnTo>
                        <a:pt x="244" y="189"/>
                      </a:lnTo>
                      <a:lnTo>
                        <a:pt x="236" y="187"/>
                      </a:lnTo>
                      <a:lnTo>
                        <a:pt x="230" y="189"/>
                      </a:lnTo>
                      <a:lnTo>
                        <a:pt x="223" y="194"/>
                      </a:lnTo>
                      <a:lnTo>
                        <a:pt x="213" y="198"/>
                      </a:lnTo>
                      <a:lnTo>
                        <a:pt x="211" y="191"/>
                      </a:lnTo>
                      <a:lnTo>
                        <a:pt x="213" y="184"/>
                      </a:lnTo>
                      <a:lnTo>
                        <a:pt x="217" y="176"/>
                      </a:lnTo>
                      <a:lnTo>
                        <a:pt x="221" y="169"/>
                      </a:lnTo>
                      <a:lnTo>
                        <a:pt x="226" y="158"/>
                      </a:lnTo>
                      <a:lnTo>
                        <a:pt x="220" y="152"/>
                      </a:lnTo>
                      <a:lnTo>
                        <a:pt x="213" y="153"/>
                      </a:lnTo>
                      <a:lnTo>
                        <a:pt x="205" y="158"/>
                      </a:lnTo>
                      <a:lnTo>
                        <a:pt x="197" y="159"/>
                      </a:lnTo>
                      <a:lnTo>
                        <a:pt x="204" y="136"/>
                      </a:lnTo>
                      <a:lnTo>
                        <a:pt x="197" y="132"/>
                      </a:lnTo>
                      <a:lnTo>
                        <a:pt x="189" y="136"/>
                      </a:lnTo>
                      <a:lnTo>
                        <a:pt x="182" y="142"/>
                      </a:lnTo>
                      <a:lnTo>
                        <a:pt x="175" y="145"/>
                      </a:lnTo>
                      <a:lnTo>
                        <a:pt x="175" y="132"/>
                      </a:lnTo>
                      <a:lnTo>
                        <a:pt x="179" y="120"/>
                      </a:lnTo>
                      <a:lnTo>
                        <a:pt x="184" y="108"/>
                      </a:lnTo>
                      <a:lnTo>
                        <a:pt x="182" y="93"/>
                      </a:lnTo>
                      <a:lnTo>
                        <a:pt x="172" y="93"/>
                      </a:lnTo>
                      <a:lnTo>
                        <a:pt x="163" y="101"/>
                      </a:lnTo>
                      <a:lnTo>
                        <a:pt x="158" y="108"/>
                      </a:lnTo>
                      <a:lnTo>
                        <a:pt x="153" y="116"/>
                      </a:lnTo>
                      <a:lnTo>
                        <a:pt x="143" y="126"/>
                      </a:lnTo>
                      <a:lnTo>
                        <a:pt x="139" y="119"/>
                      </a:lnTo>
                      <a:lnTo>
                        <a:pt x="139" y="111"/>
                      </a:lnTo>
                      <a:lnTo>
                        <a:pt x="142" y="104"/>
                      </a:lnTo>
                      <a:lnTo>
                        <a:pt x="143" y="95"/>
                      </a:lnTo>
                      <a:lnTo>
                        <a:pt x="147" y="85"/>
                      </a:lnTo>
                      <a:lnTo>
                        <a:pt x="134" y="78"/>
                      </a:lnTo>
                      <a:lnTo>
                        <a:pt x="124" y="85"/>
                      </a:lnTo>
                      <a:lnTo>
                        <a:pt x="121" y="88"/>
                      </a:lnTo>
                      <a:lnTo>
                        <a:pt x="120" y="95"/>
                      </a:lnTo>
                      <a:lnTo>
                        <a:pt x="116" y="104"/>
                      </a:lnTo>
                      <a:lnTo>
                        <a:pt x="108" y="111"/>
                      </a:lnTo>
                      <a:lnTo>
                        <a:pt x="100" y="106"/>
                      </a:lnTo>
                      <a:lnTo>
                        <a:pt x="104" y="95"/>
                      </a:lnTo>
                      <a:lnTo>
                        <a:pt x="104" y="87"/>
                      </a:lnTo>
                      <a:lnTo>
                        <a:pt x="106" y="78"/>
                      </a:lnTo>
                      <a:lnTo>
                        <a:pt x="111" y="72"/>
                      </a:lnTo>
                      <a:lnTo>
                        <a:pt x="100" y="68"/>
                      </a:lnTo>
                      <a:lnTo>
                        <a:pt x="93" y="69"/>
                      </a:lnTo>
                      <a:lnTo>
                        <a:pt x="87" y="75"/>
                      </a:lnTo>
                      <a:lnTo>
                        <a:pt x="84" y="84"/>
                      </a:lnTo>
                      <a:lnTo>
                        <a:pt x="78" y="93"/>
                      </a:lnTo>
                      <a:lnTo>
                        <a:pt x="75" y="82"/>
                      </a:lnTo>
                      <a:lnTo>
                        <a:pt x="78" y="72"/>
                      </a:lnTo>
                      <a:lnTo>
                        <a:pt x="79" y="64"/>
                      </a:lnTo>
                      <a:lnTo>
                        <a:pt x="74" y="56"/>
                      </a:lnTo>
                      <a:lnTo>
                        <a:pt x="68" y="64"/>
                      </a:lnTo>
                      <a:lnTo>
                        <a:pt x="61" y="71"/>
                      </a:lnTo>
                      <a:lnTo>
                        <a:pt x="53" y="80"/>
                      </a:lnTo>
                      <a:lnTo>
                        <a:pt x="48" y="94"/>
                      </a:lnTo>
                      <a:lnTo>
                        <a:pt x="38" y="95"/>
                      </a:lnTo>
                      <a:lnTo>
                        <a:pt x="38" y="88"/>
                      </a:lnTo>
                      <a:lnTo>
                        <a:pt x="38" y="80"/>
                      </a:lnTo>
                      <a:lnTo>
                        <a:pt x="36" y="71"/>
                      </a:lnTo>
                      <a:lnTo>
                        <a:pt x="30" y="64"/>
                      </a:lnTo>
                      <a:lnTo>
                        <a:pt x="20" y="68"/>
                      </a:lnTo>
                      <a:lnTo>
                        <a:pt x="20" y="78"/>
                      </a:lnTo>
                      <a:lnTo>
                        <a:pt x="19" y="88"/>
                      </a:lnTo>
                      <a:lnTo>
                        <a:pt x="9" y="93"/>
                      </a:lnTo>
                      <a:lnTo>
                        <a:pt x="0" y="87"/>
                      </a:lnTo>
                      <a:lnTo>
                        <a:pt x="1" y="69"/>
                      </a:lnTo>
                      <a:lnTo>
                        <a:pt x="4" y="54"/>
                      </a:lnTo>
                      <a:lnTo>
                        <a:pt x="7" y="39"/>
                      </a:lnTo>
                      <a:lnTo>
                        <a:pt x="9" y="22"/>
                      </a:lnTo>
                      <a:lnTo>
                        <a:pt x="14" y="17"/>
                      </a:lnTo>
                      <a:lnTo>
                        <a:pt x="22" y="13"/>
                      </a:lnTo>
                      <a:lnTo>
                        <a:pt x="29" y="7"/>
                      </a:lnTo>
                      <a:lnTo>
                        <a:pt x="38" y="2"/>
                      </a:lnTo>
                      <a:lnTo>
                        <a:pt x="56" y="2"/>
                      </a:lnTo>
                      <a:lnTo>
                        <a:pt x="75" y="0"/>
                      </a:lnTo>
                      <a:lnTo>
                        <a:pt x="94" y="0"/>
                      </a:lnTo>
                      <a:lnTo>
                        <a:pt x="114" y="0"/>
                      </a:lnTo>
                      <a:lnTo>
                        <a:pt x="134" y="0"/>
                      </a:lnTo>
                      <a:lnTo>
                        <a:pt x="155" y="2"/>
                      </a:lnTo>
                      <a:lnTo>
                        <a:pt x="175" y="4"/>
                      </a:lnTo>
                      <a:lnTo>
                        <a:pt x="195" y="9"/>
                      </a:lnTo>
                      <a:lnTo>
                        <a:pt x="200" y="13"/>
                      </a:lnTo>
                      <a:lnTo>
                        <a:pt x="207" y="20"/>
                      </a:lnTo>
                      <a:lnTo>
                        <a:pt x="214" y="26"/>
                      </a:lnTo>
                      <a:lnTo>
                        <a:pt x="223" y="29"/>
                      </a:lnTo>
                      <a:lnTo>
                        <a:pt x="239" y="46"/>
                      </a:lnTo>
                      <a:lnTo>
                        <a:pt x="254" y="62"/>
                      </a:lnTo>
                      <a:lnTo>
                        <a:pt x="272" y="80"/>
                      </a:lnTo>
                      <a:lnTo>
                        <a:pt x="289" y="97"/>
                      </a:lnTo>
                      <a:lnTo>
                        <a:pt x="307" y="114"/>
                      </a:lnTo>
                      <a:lnTo>
                        <a:pt x="324" y="132"/>
                      </a:lnTo>
                      <a:lnTo>
                        <a:pt x="343" y="150"/>
                      </a:lnTo>
                      <a:lnTo>
                        <a:pt x="361" y="171"/>
                      </a:lnTo>
                      <a:lnTo>
                        <a:pt x="369" y="185"/>
                      </a:lnTo>
                      <a:lnTo>
                        <a:pt x="374" y="200"/>
                      </a:lnTo>
                      <a:lnTo>
                        <a:pt x="382" y="215"/>
                      </a:lnTo>
                      <a:lnTo>
                        <a:pt x="386" y="233"/>
                      </a:lnTo>
                      <a:lnTo>
                        <a:pt x="382" y="254"/>
                      </a:lnTo>
                      <a:lnTo>
                        <a:pt x="380" y="263"/>
                      </a:lnTo>
                      <a:lnTo>
                        <a:pt x="377" y="270"/>
                      </a:lnTo>
                      <a:lnTo>
                        <a:pt x="372" y="278"/>
                      </a:lnTo>
                      <a:lnTo>
                        <a:pt x="363" y="285"/>
                      </a:lnTo>
                      <a:lnTo>
                        <a:pt x="356" y="289"/>
                      </a:lnTo>
                      <a:lnTo>
                        <a:pt x="348" y="292"/>
                      </a:lnTo>
                      <a:lnTo>
                        <a:pt x="343" y="293"/>
                      </a:lnTo>
                      <a:lnTo>
                        <a:pt x="337" y="295"/>
                      </a:lnTo>
                      <a:lnTo>
                        <a:pt x="331" y="296"/>
                      </a:lnTo>
                      <a:lnTo>
                        <a:pt x="324" y="296"/>
                      </a:lnTo>
                      <a:lnTo>
                        <a:pt x="317" y="298"/>
                      </a:lnTo>
                      <a:lnTo>
                        <a:pt x="309" y="301"/>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993000" y="2082960"/>
                  <a:ext cx="12600" cy="12600"/>
                </a:xfrm>
                <a:custGeom>
                  <a:avLst/>
                  <a:gdLst/>
                  <a:ahLst/>
                  <a:rect l="l" t="t" r="r" b="b"/>
                  <a:pathLst>
                    <a:path w="23" h="23">
                      <a:moveTo>
                        <a:pt x="3" y="23"/>
                      </a:moveTo>
                      <a:lnTo>
                        <a:pt x="0" y="0"/>
                      </a:lnTo>
                      <a:lnTo>
                        <a:pt x="23" y="4"/>
                      </a:lnTo>
                      <a:lnTo>
                        <a:pt x="23" y="13"/>
                      </a:lnTo>
                      <a:lnTo>
                        <a:pt x="19" y="19"/>
                      </a:lnTo>
                      <a:lnTo>
                        <a:pt x="13" y="23"/>
                      </a:lnTo>
                      <a:lnTo>
                        <a:pt x="3"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9" name=""/>
                <p:cNvSpPr/>
                <p:nvPr/>
              </p:nvSpPr>
              <p:spPr>
                <a:xfrm>
                  <a:off x="7861320" y="2070000"/>
                  <a:ext cx="7920" cy="12960"/>
                </a:xfrm>
                <a:custGeom>
                  <a:avLst/>
                  <a:gdLst/>
                  <a:ahLst/>
                  <a:rect l="l" t="t" r="r" b="b"/>
                  <a:pathLst>
                    <a:path w="16" h="26">
                      <a:moveTo>
                        <a:pt x="7" y="26"/>
                      </a:moveTo>
                      <a:lnTo>
                        <a:pt x="1" y="23"/>
                      </a:lnTo>
                      <a:lnTo>
                        <a:pt x="0" y="14"/>
                      </a:lnTo>
                      <a:lnTo>
                        <a:pt x="3" y="4"/>
                      </a:lnTo>
                      <a:lnTo>
                        <a:pt x="8" y="0"/>
                      </a:lnTo>
                      <a:lnTo>
                        <a:pt x="13" y="3"/>
                      </a:lnTo>
                      <a:lnTo>
                        <a:pt x="14" y="8"/>
                      </a:lnTo>
                      <a:lnTo>
                        <a:pt x="16" y="17"/>
                      </a:lnTo>
                      <a:lnTo>
                        <a:pt x="16" y="26"/>
                      </a:lnTo>
                      <a:lnTo>
                        <a:pt x="7" y="2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 name=""/>
                <p:cNvSpPr/>
                <p:nvPr/>
              </p:nvSpPr>
              <p:spPr>
                <a:xfrm>
                  <a:off x="8055000" y="2063880"/>
                  <a:ext cx="14400" cy="9360"/>
                </a:xfrm>
                <a:custGeom>
                  <a:avLst/>
                  <a:gdLst/>
                  <a:ahLst/>
                  <a:rect l="l" t="t" r="r" b="b"/>
                  <a:pathLst>
                    <a:path w="25" h="18">
                      <a:moveTo>
                        <a:pt x="9" y="18"/>
                      </a:moveTo>
                      <a:lnTo>
                        <a:pt x="0" y="0"/>
                      </a:lnTo>
                      <a:lnTo>
                        <a:pt x="22" y="3"/>
                      </a:lnTo>
                      <a:lnTo>
                        <a:pt x="25" y="9"/>
                      </a:lnTo>
                      <a:lnTo>
                        <a:pt x="22" y="13"/>
                      </a:lnTo>
                      <a:lnTo>
                        <a:pt x="15" y="16"/>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 name=""/>
                <p:cNvSpPr/>
                <p:nvPr/>
              </p:nvSpPr>
              <p:spPr>
                <a:xfrm>
                  <a:off x="8358120" y="2057400"/>
                  <a:ext cx="14400" cy="9360"/>
                </a:xfrm>
                <a:custGeom>
                  <a:avLst/>
                  <a:gdLst/>
                  <a:ahLst/>
                  <a:rect l="l" t="t" r="r" b="b"/>
                  <a:pathLst>
                    <a:path w="26" h="16">
                      <a:moveTo>
                        <a:pt x="9" y="16"/>
                      </a:moveTo>
                      <a:lnTo>
                        <a:pt x="0" y="4"/>
                      </a:lnTo>
                      <a:lnTo>
                        <a:pt x="4" y="0"/>
                      </a:lnTo>
                      <a:lnTo>
                        <a:pt x="13" y="0"/>
                      </a:lnTo>
                      <a:lnTo>
                        <a:pt x="22" y="3"/>
                      </a:lnTo>
                      <a:lnTo>
                        <a:pt x="26" y="10"/>
                      </a:lnTo>
                      <a:lnTo>
                        <a:pt x="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7054920" y="2058840"/>
                  <a:ext cx="9360" cy="11160"/>
                </a:xfrm>
                <a:custGeom>
                  <a:avLst/>
                  <a:gdLst/>
                  <a:ahLst/>
                  <a:rect l="l" t="t" r="r" b="b"/>
                  <a:pathLst>
                    <a:path w="20" h="20">
                      <a:moveTo>
                        <a:pt x="4" y="20"/>
                      </a:moveTo>
                      <a:lnTo>
                        <a:pt x="0" y="0"/>
                      </a:lnTo>
                      <a:lnTo>
                        <a:pt x="20" y="0"/>
                      </a:lnTo>
                      <a:lnTo>
                        <a:pt x="20" y="7"/>
                      </a:lnTo>
                      <a:lnTo>
                        <a:pt x="18" y="14"/>
                      </a:lnTo>
                      <a:lnTo>
                        <a:pt x="13"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3" name=""/>
                <p:cNvSpPr/>
                <p:nvPr/>
              </p:nvSpPr>
              <p:spPr>
                <a:xfrm>
                  <a:off x="7800840" y="2036880"/>
                  <a:ext cx="12960" cy="17280"/>
                </a:xfrm>
                <a:custGeom>
                  <a:avLst/>
                  <a:gdLst/>
                  <a:ahLst/>
                  <a:rect l="l" t="t" r="r" b="b"/>
                  <a:pathLst>
                    <a:path w="22" h="32">
                      <a:moveTo>
                        <a:pt x="8" y="30"/>
                      </a:moveTo>
                      <a:lnTo>
                        <a:pt x="0" y="25"/>
                      </a:lnTo>
                      <a:lnTo>
                        <a:pt x="6" y="17"/>
                      </a:lnTo>
                      <a:lnTo>
                        <a:pt x="15" y="10"/>
                      </a:lnTo>
                      <a:lnTo>
                        <a:pt x="19" y="0"/>
                      </a:lnTo>
                      <a:lnTo>
                        <a:pt x="21" y="7"/>
                      </a:lnTo>
                      <a:lnTo>
                        <a:pt x="22" y="15"/>
                      </a:lnTo>
                      <a:lnTo>
                        <a:pt x="21" y="22"/>
                      </a:lnTo>
                      <a:lnTo>
                        <a:pt x="19" y="32"/>
                      </a:lnTo>
                      <a:lnTo>
                        <a:pt x="8" y="3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7937640" y="2038320"/>
                  <a:ext cx="6120" cy="12600"/>
                </a:xfrm>
                <a:custGeom>
                  <a:avLst/>
                  <a:gdLst/>
                  <a:ahLst/>
                  <a:rect l="l" t="t" r="r" b="b"/>
                  <a:pathLst>
                    <a:path w="13" h="22">
                      <a:moveTo>
                        <a:pt x="0" y="22"/>
                      </a:moveTo>
                      <a:lnTo>
                        <a:pt x="2" y="0"/>
                      </a:lnTo>
                      <a:lnTo>
                        <a:pt x="12" y="0"/>
                      </a:lnTo>
                      <a:lnTo>
                        <a:pt x="13" y="7"/>
                      </a:lnTo>
                      <a:lnTo>
                        <a:pt x="12" y="14"/>
                      </a:lnTo>
                      <a:lnTo>
                        <a:pt x="8" y="20"/>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5" name=""/>
                <p:cNvSpPr/>
                <p:nvPr/>
              </p:nvSpPr>
              <p:spPr>
                <a:xfrm>
                  <a:off x="7684920" y="2028960"/>
                  <a:ext cx="16200" cy="10800"/>
                </a:xfrm>
                <a:custGeom>
                  <a:avLst/>
                  <a:gdLst/>
                  <a:ahLst/>
                  <a:rect l="l" t="t" r="r" b="b"/>
                  <a:pathLst>
                    <a:path w="30" h="22">
                      <a:moveTo>
                        <a:pt x="17" y="22"/>
                      </a:moveTo>
                      <a:lnTo>
                        <a:pt x="0" y="5"/>
                      </a:lnTo>
                      <a:lnTo>
                        <a:pt x="5" y="0"/>
                      </a:lnTo>
                      <a:lnTo>
                        <a:pt x="13" y="2"/>
                      </a:lnTo>
                      <a:lnTo>
                        <a:pt x="23" y="5"/>
                      </a:lnTo>
                      <a:lnTo>
                        <a:pt x="30" y="7"/>
                      </a:lnTo>
                      <a:lnTo>
                        <a:pt x="17"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6" name=""/>
                <p:cNvSpPr/>
                <p:nvPr/>
              </p:nvSpPr>
              <p:spPr>
                <a:xfrm>
                  <a:off x="8170920" y="2023920"/>
                  <a:ext cx="11160" cy="9720"/>
                </a:xfrm>
                <a:custGeom>
                  <a:avLst/>
                  <a:gdLst/>
                  <a:ahLst/>
                  <a:rect l="l" t="t" r="r" b="b"/>
                  <a:pathLst>
                    <a:path w="19" h="19">
                      <a:moveTo>
                        <a:pt x="4" y="19"/>
                      </a:moveTo>
                      <a:lnTo>
                        <a:pt x="0" y="0"/>
                      </a:lnTo>
                      <a:lnTo>
                        <a:pt x="19" y="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7" name=""/>
                <p:cNvSpPr/>
                <p:nvPr/>
              </p:nvSpPr>
              <p:spPr>
                <a:xfrm>
                  <a:off x="7985160" y="2014560"/>
                  <a:ext cx="9360" cy="11160"/>
                </a:xfrm>
                <a:custGeom>
                  <a:avLst/>
                  <a:gdLst/>
                  <a:ahLst/>
                  <a:rect l="l" t="t" r="r" b="b"/>
                  <a:pathLst>
                    <a:path w="19" h="21">
                      <a:moveTo>
                        <a:pt x="6" y="21"/>
                      </a:moveTo>
                      <a:lnTo>
                        <a:pt x="0" y="0"/>
                      </a:lnTo>
                      <a:lnTo>
                        <a:pt x="19" y="3"/>
                      </a:lnTo>
                      <a:lnTo>
                        <a:pt x="19" y="8"/>
                      </a:lnTo>
                      <a:lnTo>
                        <a:pt x="16" y="14"/>
                      </a:lnTo>
                      <a:lnTo>
                        <a:pt x="12" y="20"/>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8" name=""/>
                <p:cNvSpPr/>
                <p:nvPr/>
              </p:nvSpPr>
              <p:spPr>
                <a:xfrm>
                  <a:off x="8226360" y="2009880"/>
                  <a:ext cx="9720" cy="12600"/>
                </a:xfrm>
                <a:custGeom>
                  <a:avLst/>
                  <a:gdLst/>
                  <a:ahLst/>
                  <a:rect l="l" t="t" r="r" b="b"/>
                  <a:pathLst>
                    <a:path w="18" h="26">
                      <a:moveTo>
                        <a:pt x="5" y="26"/>
                      </a:moveTo>
                      <a:lnTo>
                        <a:pt x="1" y="23"/>
                      </a:lnTo>
                      <a:lnTo>
                        <a:pt x="0" y="14"/>
                      </a:lnTo>
                      <a:lnTo>
                        <a:pt x="4" y="4"/>
                      </a:lnTo>
                      <a:lnTo>
                        <a:pt x="11" y="0"/>
                      </a:lnTo>
                      <a:lnTo>
                        <a:pt x="18" y="2"/>
                      </a:lnTo>
                      <a:lnTo>
                        <a:pt x="17" y="13"/>
                      </a:lnTo>
                      <a:lnTo>
                        <a:pt x="11" y="21"/>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9" name=""/>
                <p:cNvSpPr/>
                <p:nvPr/>
              </p:nvSpPr>
              <p:spPr>
                <a:xfrm>
                  <a:off x="7219800" y="1860480"/>
                  <a:ext cx="187560" cy="157320"/>
                </a:xfrm>
                <a:custGeom>
                  <a:avLst/>
                  <a:gdLst/>
                  <a:ahLst/>
                  <a:rect l="l" t="t" r="r" b="b"/>
                  <a:pathLst>
                    <a:path w="355" h="297">
                      <a:moveTo>
                        <a:pt x="311" y="297"/>
                      </a:moveTo>
                      <a:lnTo>
                        <a:pt x="310" y="290"/>
                      </a:lnTo>
                      <a:lnTo>
                        <a:pt x="308" y="283"/>
                      </a:lnTo>
                      <a:lnTo>
                        <a:pt x="308" y="274"/>
                      </a:lnTo>
                      <a:lnTo>
                        <a:pt x="307" y="264"/>
                      </a:lnTo>
                      <a:lnTo>
                        <a:pt x="301" y="264"/>
                      </a:lnTo>
                      <a:lnTo>
                        <a:pt x="294" y="266"/>
                      </a:lnTo>
                      <a:lnTo>
                        <a:pt x="287" y="270"/>
                      </a:lnTo>
                      <a:lnTo>
                        <a:pt x="278" y="271"/>
                      </a:lnTo>
                      <a:lnTo>
                        <a:pt x="281" y="258"/>
                      </a:lnTo>
                      <a:lnTo>
                        <a:pt x="285" y="248"/>
                      </a:lnTo>
                      <a:lnTo>
                        <a:pt x="288" y="238"/>
                      </a:lnTo>
                      <a:lnTo>
                        <a:pt x="287" y="227"/>
                      </a:lnTo>
                      <a:lnTo>
                        <a:pt x="277" y="224"/>
                      </a:lnTo>
                      <a:lnTo>
                        <a:pt x="268" y="227"/>
                      </a:lnTo>
                      <a:lnTo>
                        <a:pt x="262" y="234"/>
                      </a:lnTo>
                      <a:lnTo>
                        <a:pt x="258" y="243"/>
                      </a:lnTo>
                      <a:lnTo>
                        <a:pt x="249" y="234"/>
                      </a:lnTo>
                      <a:lnTo>
                        <a:pt x="253" y="228"/>
                      </a:lnTo>
                      <a:lnTo>
                        <a:pt x="259" y="221"/>
                      </a:lnTo>
                      <a:lnTo>
                        <a:pt x="264" y="214"/>
                      </a:lnTo>
                      <a:lnTo>
                        <a:pt x="268" y="204"/>
                      </a:lnTo>
                      <a:lnTo>
                        <a:pt x="249" y="195"/>
                      </a:lnTo>
                      <a:lnTo>
                        <a:pt x="233" y="219"/>
                      </a:lnTo>
                      <a:lnTo>
                        <a:pt x="229" y="211"/>
                      </a:lnTo>
                      <a:lnTo>
                        <a:pt x="232" y="202"/>
                      </a:lnTo>
                      <a:lnTo>
                        <a:pt x="236" y="191"/>
                      </a:lnTo>
                      <a:lnTo>
                        <a:pt x="239" y="179"/>
                      </a:lnTo>
                      <a:lnTo>
                        <a:pt x="238" y="167"/>
                      </a:lnTo>
                      <a:lnTo>
                        <a:pt x="214" y="173"/>
                      </a:lnTo>
                      <a:lnTo>
                        <a:pt x="204" y="193"/>
                      </a:lnTo>
                      <a:lnTo>
                        <a:pt x="206" y="186"/>
                      </a:lnTo>
                      <a:lnTo>
                        <a:pt x="207" y="178"/>
                      </a:lnTo>
                      <a:lnTo>
                        <a:pt x="210" y="169"/>
                      </a:lnTo>
                      <a:lnTo>
                        <a:pt x="213" y="159"/>
                      </a:lnTo>
                      <a:lnTo>
                        <a:pt x="210" y="149"/>
                      </a:lnTo>
                      <a:lnTo>
                        <a:pt x="203" y="144"/>
                      </a:lnTo>
                      <a:lnTo>
                        <a:pt x="194" y="147"/>
                      </a:lnTo>
                      <a:lnTo>
                        <a:pt x="190" y="156"/>
                      </a:lnTo>
                      <a:lnTo>
                        <a:pt x="187" y="165"/>
                      </a:lnTo>
                      <a:lnTo>
                        <a:pt x="181" y="172"/>
                      </a:lnTo>
                      <a:lnTo>
                        <a:pt x="174" y="166"/>
                      </a:lnTo>
                      <a:lnTo>
                        <a:pt x="174" y="144"/>
                      </a:lnTo>
                      <a:lnTo>
                        <a:pt x="178" y="140"/>
                      </a:lnTo>
                      <a:lnTo>
                        <a:pt x="181" y="131"/>
                      </a:lnTo>
                      <a:lnTo>
                        <a:pt x="183" y="123"/>
                      </a:lnTo>
                      <a:lnTo>
                        <a:pt x="187" y="114"/>
                      </a:lnTo>
                      <a:lnTo>
                        <a:pt x="165" y="114"/>
                      </a:lnTo>
                      <a:lnTo>
                        <a:pt x="162" y="123"/>
                      </a:lnTo>
                      <a:lnTo>
                        <a:pt x="157" y="127"/>
                      </a:lnTo>
                      <a:lnTo>
                        <a:pt x="149" y="133"/>
                      </a:lnTo>
                      <a:lnTo>
                        <a:pt x="148" y="143"/>
                      </a:lnTo>
                      <a:lnTo>
                        <a:pt x="148" y="130"/>
                      </a:lnTo>
                      <a:lnTo>
                        <a:pt x="149" y="117"/>
                      </a:lnTo>
                      <a:lnTo>
                        <a:pt x="152" y="104"/>
                      </a:lnTo>
                      <a:lnTo>
                        <a:pt x="155" y="91"/>
                      </a:lnTo>
                      <a:lnTo>
                        <a:pt x="146" y="84"/>
                      </a:lnTo>
                      <a:lnTo>
                        <a:pt x="138" y="85"/>
                      </a:lnTo>
                      <a:lnTo>
                        <a:pt x="133" y="89"/>
                      </a:lnTo>
                      <a:lnTo>
                        <a:pt x="131" y="98"/>
                      </a:lnTo>
                      <a:lnTo>
                        <a:pt x="128" y="107"/>
                      </a:lnTo>
                      <a:lnTo>
                        <a:pt x="123" y="115"/>
                      </a:lnTo>
                      <a:lnTo>
                        <a:pt x="116" y="124"/>
                      </a:lnTo>
                      <a:lnTo>
                        <a:pt x="109" y="111"/>
                      </a:lnTo>
                      <a:lnTo>
                        <a:pt x="110" y="101"/>
                      </a:lnTo>
                      <a:lnTo>
                        <a:pt x="113" y="89"/>
                      </a:lnTo>
                      <a:lnTo>
                        <a:pt x="115" y="78"/>
                      </a:lnTo>
                      <a:lnTo>
                        <a:pt x="107" y="71"/>
                      </a:lnTo>
                      <a:lnTo>
                        <a:pt x="97" y="71"/>
                      </a:lnTo>
                      <a:lnTo>
                        <a:pt x="91" y="76"/>
                      </a:lnTo>
                      <a:lnTo>
                        <a:pt x="89" y="87"/>
                      </a:lnTo>
                      <a:lnTo>
                        <a:pt x="84" y="98"/>
                      </a:lnTo>
                      <a:lnTo>
                        <a:pt x="78" y="107"/>
                      </a:lnTo>
                      <a:lnTo>
                        <a:pt x="71" y="100"/>
                      </a:lnTo>
                      <a:lnTo>
                        <a:pt x="73" y="91"/>
                      </a:lnTo>
                      <a:lnTo>
                        <a:pt x="74" y="81"/>
                      </a:lnTo>
                      <a:lnTo>
                        <a:pt x="76" y="69"/>
                      </a:lnTo>
                      <a:lnTo>
                        <a:pt x="78" y="58"/>
                      </a:lnTo>
                      <a:lnTo>
                        <a:pt x="57" y="56"/>
                      </a:lnTo>
                      <a:lnTo>
                        <a:pt x="54" y="65"/>
                      </a:lnTo>
                      <a:lnTo>
                        <a:pt x="52" y="76"/>
                      </a:lnTo>
                      <a:lnTo>
                        <a:pt x="50" y="88"/>
                      </a:lnTo>
                      <a:lnTo>
                        <a:pt x="45" y="100"/>
                      </a:lnTo>
                      <a:lnTo>
                        <a:pt x="38" y="107"/>
                      </a:lnTo>
                      <a:lnTo>
                        <a:pt x="34" y="101"/>
                      </a:lnTo>
                      <a:lnTo>
                        <a:pt x="32" y="94"/>
                      </a:lnTo>
                      <a:lnTo>
                        <a:pt x="32" y="85"/>
                      </a:lnTo>
                      <a:lnTo>
                        <a:pt x="34" y="76"/>
                      </a:lnTo>
                      <a:lnTo>
                        <a:pt x="26" y="59"/>
                      </a:lnTo>
                      <a:lnTo>
                        <a:pt x="15" y="63"/>
                      </a:lnTo>
                      <a:lnTo>
                        <a:pt x="12" y="72"/>
                      </a:lnTo>
                      <a:lnTo>
                        <a:pt x="11" y="84"/>
                      </a:lnTo>
                      <a:lnTo>
                        <a:pt x="9" y="95"/>
                      </a:lnTo>
                      <a:lnTo>
                        <a:pt x="8" y="107"/>
                      </a:lnTo>
                      <a:lnTo>
                        <a:pt x="2" y="91"/>
                      </a:lnTo>
                      <a:lnTo>
                        <a:pt x="0" y="76"/>
                      </a:lnTo>
                      <a:lnTo>
                        <a:pt x="0" y="61"/>
                      </a:lnTo>
                      <a:lnTo>
                        <a:pt x="0" y="43"/>
                      </a:lnTo>
                      <a:lnTo>
                        <a:pt x="15" y="23"/>
                      </a:lnTo>
                      <a:lnTo>
                        <a:pt x="37" y="14"/>
                      </a:lnTo>
                      <a:lnTo>
                        <a:pt x="60" y="7"/>
                      </a:lnTo>
                      <a:lnTo>
                        <a:pt x="84" y="3"/>
                      </a:lnTo>
                      <a:lnTo>
                        <a:pt x="109" y="0"/>
                      </a:lnTo>
                      <a:lnTo>
                        <a:pt x="133" y="0"/>
                      </a:lnTo>
                      <a:lnTo>
                        <a:pt x="159" y="3"/>
                      </a:lnTo>
                      <a:lnTo>
                        <a:pt x="185" y="9"/>
                      </a:lnTo>
                      <a:lnTo>
                        <a:pt x="212" y="17"/>
                      </a:lnTo>
                      <a:lnTo>
                        <a:pt x="233" y="39"/>
                      </a:lnTo>
                      <a:lnTo>
                        <a:pt x="253" y="61"/>
                      </a:lnTo>
                      <a:lnTo>
                        <a:pt x="271" y="82"/>
                      </a:lnTo>
                      <a:lnTo>
                        <a:pt x="288" y="104"/>
                      </a:lnTo>
                      <a:lnTo>
                        <a:pt x="304" y="127"/>
                      </a:lnTo>
                      <a:lnTo>
                        <a:pt x="320" y="150"/>
                      </a:lnTo>
                      <a:lnTo>
                        <a:pt x="334" y="175"/>
                      </a:lnTo>
                      <a:lnTo>
                        <a:pt x="350" y="199"/>
                      </a:lnTo>
                      <a:lnTo>
                        <a:pt x="350" y="208"/>
                      </a:lnTo>
                      <a:lnTo>
                        <a:pt x="353" y="218"/>
                      </a:lnTo>
                      <a:lnTo>
                        <a:pt x="355" y="230"/>
                      </a:lnTo>
                      <a:lnTo>
                        <a:pt x="355" y="241"/>
                      </a:lnTo>
                      <a:lnTo>
                        <a:pt x="350" y="248"/>
                      </a:lnTo>
                      <a:lnTo>
                        <a:pt x="346" y="257"/>
                      </a:lnTo>
                      <a:lnTo>
                        <a:pt x="342" y="267"/>
                      </a:lnTo>
                      <a:lnTo>
                        <a:pt x="336" y="280"/>
                      </a:lnTo>
                      <a:lnTo>
                        <a:pt x="311" y="297"/>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291520" y="1990800"/>
                  <a:ext cx="11160" cy="12600"/>
                </a:xfrm>
                <a:custGeom>
                  <a:avLst/>
                  <a:gdLst/>
                  <a:ahLst/>
                  <a:rect l="l" t="t" r="r" b="b"/>
                  <a:pathLst>
                    <a:path w="20" h="22">
                      <a:moveTo>
                        <a:pt x="0" y="22"/>
                      </a:moveTo>
                      <a:lnTo>
                        <a:pt x="4" y="0"/>
                      </a:lnTo>
                      <a:lnTo>
                        <a:pt x="20" y="6"/>
                      </a:lnTo>
                      <a:lnTo>
                        <a:pt x="19" y="13"/>
                      </a:lnTo>
                      <a:lnTo>
                        <a:pt x="14" y="18"/>
                      </a:lnTo>
                      <a:lnTo>
                        <a:pt x="7" y="21"/>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1" name=""/>
                <p:cNvSpPr/>
                <p:nvPr/>
              </p:nvSpPr>
              <p:spPr>
                <a:xfrm>
                  <a:off x="7912080" y="1995480"/>
                  <a:ext cx="12600" cy="9360"/>
                </a:xfrm>
                <a:custGeom>
                  <a:avLst/>
                  <a:gdLst/>
                  <a:ahLst/>
                  <a:rect l="l" t="t" r="r" b="b"/>
                  <a:pathLst>
                    <a:path w="24" h="17">
                      <a:moveTo>
                        <a:pt x="5" y="17"/>
                      </a:moveTo>
                      <a:lnTo>
                        <a:pt x="0" y="7"/>
                      </a:lnTo>
                      <a:lnTo>
                        <a:pt x="4" y="2"/>
                      </a:lnTo>
                      <a:lnTo>
                        <a:pt x="13" y="0"/>
                      </a:lnTo>
                      <a:lnTo>
                        <a:pt x="21" y="1"/>
                      </a:lnTo>
                      <a:lnTo>
                        <a:pt x="24" y="10"/>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2" name=""/>
                <p:cNvSpPr/>
                <p:nvPr/>
              </p:nvSpPr>
              <p:spPr>
                <a:xfrm>
                  <a:off x="7037280" y="1989000"/>
                  <a:ext cx="14400" cy="12960"/>
                </a:xfrm>
                <a:custGeom>
                  <a:avLst/>
                  <a:gdLst/>
                  <a:ahLst/>
                  <a:rect l="l" t="t" r="r" b="b"/>
                  <a:pathLst>
                    <a:path w="26" h="22">
                      <a:moveTo>
                        <a:pt x="6" y="22"/>
                      </a:moveTo>
                      <a:lnTo>
                        <a:pt x="0" y="0"/>
                      </a:lnTo>
                      <a:lnTo>
                        <a:pt x="21" y="0"/>
                      </a:lnTo>
                      <a:lnTo>
                        <a:pt x="26" y="9"/>
                      </a:lnTo>
                      <a:lnTo>
                        <a:pt x="23" y="18"/>
                      </a:lnTo>
                      <a:lnTo>
                        <a:pt x="17" y="22"/>
                      </a:lnTo>
                      <a:lnTo>
                        <a:pt x="6"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 name=""/>
                <p:cNvSpPr/>
                <p:nvPr/>
              </p:nvSpPr>
              <p:spPr>
                <a:xfrm>
                  <a:off x="7642080" y="1982880"/>
                  <a:ext cx="7920" cy="11160"/>
                </a:xfrm>
                <a:custGeom>
                  <a:avLst/>
                  <a:gdLst/>
                  <a:ahLst/>
                  <a:rect l="l" t="t" r="r" b="b"/>
                  <a:pathLst>
                    <a:path w="14" h="22">
                      <a:moveTo>
                        <a:pt x="1" y="22"/>
                      </a:moveTo>
                      <a:lnTo>
                        <a:pt x="0" y="0"/>
                      </a:lnTo>
                      <a:lnTo>
                        <a:pt x="11" y="0"/>
                      </a:lnTo>
                      <a:lnTo>
                        <a:pt x="14" y="6"/>
                      </a:lnTo>
                      <a:lnTo>
                        <a:pt x="13" y="13"/>
                      </a:lnTo>
                      <a:lnTo>
                        <a:pt x="8" y="19"/>
                      </a:lnTo>
                      <a:lnTo>
                        <a:pt x="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4" name=""/>
                <p:cNvSpPr/>
                <p:nvPr/>
              </p:nvSpPr>
              <p:spPr>
                <a:xfrm>
                  <a:off x="6993000" y="1987560"/>
                  <a:ext cx="11160" cy="12600"/>
                </a:xfrm>
                <a:custGeom>
                  <a:avLst/>
                  <a:gdLst/>
                  <a:ahLst/>
                  <a:rect l="l" t="t" r="r" b="b"/>
                  <a:pathLst>
                    <a:path w="19" h="25">
                      <a:moveTo>
                        <a:pt x="9" y="25"/>
                      </a:moveTo>
                      <a:lnTo>
                        <a:pt x="2" y="22"/>
                      </a:lnTo>
                      <a:lnTo>
                        <a:pt x="0" y="13"/>
                      </a:lnTo>
                      <a:lnTo>
                        <a:pt x="3" y="4"/>
                      </a:lnTo>
                      <a:lnTo>
                        <a:pt x="8" y="0"/>
                      </a:lnTo>
                      <a:lnTo>
                        <a:pt x="16" y="3"/>
                      </a:lnTo>
                      <a:lnTo>
                        <a:pt x="19" y="10"/>
                      </a:lnTo>
                      <a:lnTo>
                        <a:pt x="15" y="19"/>
                      </a:lnTo>
                      <a:lnTo>
                        <a:pt x="9"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5" name=""/>
                <p:cNvSpPr/>
                <p:nvPr/>
              </p:nvSpPr>
              <p:spPr>
                <a:xfrm>
                  <a:off x="7758000" y="1976400"/>
                  <a:ext cx="11160" cy="9720"/>
                </a:xfrm>
                <a:custGeom>
                  <a:avLst/>
                  <a:gdLst/>
                  <a:ahLst/>
                  <a:rect l="l" t="t" r="r" b="b"/>
                  <a:pathLst>
                    <a:path w="22" h="16">
                      <a:moveTo>
                        <a:pt x="9" y="16"/>
                      </a:moveTo>
                      <a:lnTo>
                        <a:pt x="0" y="7"/>
                      </a:lnTo>
                      <a:lnTo>
                        <a:pt x="3" y="1"/>
                      </a:lnTo>
                      <a:lnTo>
                        <a:pt x="9" y="0"/>
                      </a:lnTo>
                      <a:lnTo>
                        <a:pt x="16" y="4"/>
                      </a:lnTo>
                      <a:lnTo>
                        <a:pt x="22" y="11"/>
                      </a:lnTo>
                      <a:lnTo>
                        <a:pt x="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6" name=""/>
                <p:cNvSpPr/>
                <p:nvPr/>
              </p:nvSpPr>
              <p:spPr>
                <a:xfrm>
                  <a:off x="7862760" y="1973160"/>
                  <a:ext cx="6480" cy="11160"/>
                </a:xfrm>
                <a:custGeom>
                  <a:avLst/>
                  <a:gdLst/>
                  <a:ahLst/>
                  <a:rect l="l" t="t" r="r" b="b"/>
                  <a:pathLst>
                    <a:path w="13" h="21">
                      <a:moveTo>
                        <a:pt x="3" y="21"/>
                      </a:moveTo>
                      <a:lnTo>
                        <a:pt x="0" y="16"/>
                      </a:lnTo>
                      <a:lnTo>
                        <a:pt x="2" y="7"/>
                      </a:lnTo>
                      <a:lnTo>
                        <a:pt x="4" y="0"/>
                      </a:lnTo>
                      <a:lnTo>
                        <a:pt x="12" y="0"/>
                      </a:lnTo>
                      <a:lnTo>
                        <a:pt x="12" y="5"/>
                      </a:lnTo>
                      <a:lnTo>
                        <a:pt x="13" y="14"/>
                      </a:lnTo>
                      <a:lnTo>
                        <a:pt x="12"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7" name=""/>
                <p:cNvSpPr/>
                <p:nvPr/>
              </p:nvSpPr>
              <p:spPr>
                <a:xfrm>
                  <a:off x="8104320" y="1962000"/>
                  <a:ext cx="9360" cy="11160"/>
                </a:xfrm>
                <a:custGeom>
                  <a:avLst/>
                  <a:gdLst/>
                  <a:ahLst/>
                  <a:rect l="l" t="t" r="r" b="b"/>
                  <a:pathLst>
                    <a:path w="17" h="21">
                      <a:moveTo>
                        <a:pt x="3" y="21"/>
                      </a:moveTo>
                      <a:lnTo>
                        <a:pt x="0" y="13"/>
                      </a:lnTo>
                      <a:lnTo>
                        <a:pt x="1" y="6"/>
                      </a:lnTo>
                      <a:lnTo>
                        <a:pt x="9" y="0"/>
                      </a:lnTo>
                      <a:lnTo>
                        <a:pt x="17" y="0"/>
                      </a:lnTo>
                      <a:lnTo>
                        <a:pt x="17" y="8"/>
                      </a:lnTo>
                      <a:lnTo>
                        <a:pt x="14" y="15"/>
                      </a:lnTo>
                      <a:lnTo>
                        <a:pt x="10"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8" name=""/>
                <p:cNvSpPr/>
                <p:nvPr/>
              </p:nvSpPr>
              <p:spPr>
                <a:xfrm>
                  <a:off x="8045280" y="1962000"/>
                  <a:ext cx="12960" cy="9720"/>
                </a:xfrm>
                <a:custGeom>
                  <a:avLst/>
                  <a:gdLst/>
                  <a:ahLst/>
                  <a:rect l="l" t="t" r="r" b="b"/>
                  <a:pathLst>
                    <a:path w="25" h="20">
                      <a:moveTo>
                        <a:pt x="12" y="20"/>
                      </a:moveTo>
                      <a:lnTo>
                        <a:pt x="0" y="1"/>
                      </a:lnTo>
                      <a:lnTo>
                        <a:pt x="22" y="0"/>
                      </a:lnTo>
                      <a:lnTo>
                        <a:pt x="25" y="6"/>
                      </a:lnTo>
                      <a:lnTo>
                        <a:pt x="23" y="12"/>
                      </a:lnTo>
                      <a:lnTo>
                        <a:pt x="19" y="16"/>
                      </a:lnTo>
                      <a:lnTo>
                        <a:pt x="12"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9" name=""/>
                <p:cNvSpPr/>
                <p:nvPr/>
              </p:nvSpPr>
              <p:spPr>
                <a:xfrm>
                  <a:off x="8244000" y="1954080"/>
                  <a:ext cx="11160" cy="12960"/>
                </a:xfrm>
                <a:custGeom>
                  <a:avLst/>
                  <a:gdLst/>
                  <a:ahLst/>
                  <a:rect l="l" t="t" r="r" b="b"/>
                  <a:pathLst>
                    <a:path w="21" h="23">
                      <a:moveTo>
                        <a:pt x="7" y="23"/>
                      </a:moveTo>
                      <a:lnTo>
                        <a:pt x="0" y="0"/>
                      </a:lnTo>
                      <a:lnTo>
                        <a:pt x="21" y="7"/>
                      </a:lnTo>
                      <a:lnTo>
                        <a:pt x="7"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 name=""/>
                <p:cNvSpPr/>
                <p:nvPr/>
              </p:nvSpPr>
              <p:spPr>
                <a:xfrm>
                  <a:off x="8161200" y="1954080"/>
                  <a:ext cx="11160" cy="11160"/>
                </a:xfrm>
                <a:custGeom>
                  <a:avLst/>
                  <a:gdLst/>
                  <a:ahLst/>
                  <a:rect l="l" t="t" r="r" b="b"/>
                  <a:pathLst>
                    <a:path w="21" h="19">
                      <a:moveTo>
                        <a:pt x="13" y="19"/>
                      </a:moveTo>
                      <a:lnTo>
                        <a:pt x="0" y="7"/>
                      </a:lnTo>
                      <a:lnTo>
                        <a:pt x="21" y="0"/>
                      </a:lnTo>
                      <a:lnTo>
                        <a:pt x="1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1" name=""/>
                <p:cNvSpPr/>
                <p:nvPr/>
              </p:nvSpPr>
              <p:spPr>
                <a:xfrm>
                  <a:off x="8366040" y="1951200"/>
                  <a:ext cx="7920" cy="10800"/>
                </a:xfrm>
                <a:custGeom>
                  <a:avLst/>
                  <a:gdLst/>
                  <a:ahLst/>
                  <a:rect l="l" t="t" r="r" b="b"/>
                  <a:pathLst>
                    <a:path w="17" h="19">
                      <a:moveTo>
                        <a:pt x="0" y="19"/>
                      </a:moveTo>
                      <a:lnTo>
                        <a:pt x="0" y="0"/>
                      </a:lnTo>
                      <a:lnTo>
                        <a:pt x="17" y="12"/>
                      </a:lnTo>
                      <a:lnTo>
                        <a:pt x="0" y="1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2" name=""/>
                <p:cNvSpPr/>
                <p:nvPr/>
              </p:nvSpPr>
              <p:spPr>
                <a:xfrm>
                  <a:off x="7804080" y="1943280"/>
                  <a:ext cx="9720" cy="1080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3" name=""/>
                <p:cNvSpPr/>
                <p:nvPr/>
              </p:nvSpPr>
              <p:spPr>
                <a:xfrm>
                  <a:off x="7319880" y="1824120"/>
                  <a:ext cx="127080" cy="123840"/>
                </a:xfrm>
                <a:custGeom>
                  <a:avLst/>
                  <a:gdLst/>
                  <a:ahLst/>
                  <a:rect l="l" t="t" r="r" b="b"/>
                  <a:pathLst>
                    <a:path w="240" h="233">
                      <a:moveTo>
                        <a:pt x="210" y="233"/>
                      </a:moveTo>
                      <a:lnTo>
                        <a:pt x="207" y="224"/>
                      </a:lnTo>
                      <a:lnTo>
                        <a:pt x="199" y="222"/>
                      </a:lnTo>
                      <a:lnTo>
                        <a:pt x="191" y="225"/>
                      </a:lnTo>
                      <a:lnTo>
                        <a:pt x="181" y="227"/>
                      </a:lnTo>
                      <a:lnTo>
                        <a:pt x="178" y="221"/>
                      </a:lnTo>
                      <a:lnTo>
                        <a:pt x="182" y="214"/>
                      </a:lnTo>
                      <a:lnTo>
                        <a:pt x="186" y="207"/>
                      </a:lnTo>
                      <a:lnTo>
                        <a:pt x="192" y="199"/>
                      </a:lnTo>
                      <a:lnTo>
                        <a:pt x="199" y="189"/>
                      </a:lnTo>
                      <a:lnTo>
                        <a:pt x="188" y="182"/>
                      </a:lnTo>
                      <a:lnTo>
                        <a:pt x="181" y="183"/>
                      </a:lnTo>
                      <a:lnTo>
                        <a:pt x="176" y="186"/>
                      </a:lnTo>
                      <a:lnTo>
                        <a:pt x="169" y="191"/>
                      </a:lnTo>
                      <a:lnTo>
                        <a:pt x="159" y="196"/>
                      </a:lnTo>
                      <a:lnTo>
                        <a:pt x="159" y="189"/>
                      </a:lnTo>
                      <a:lnTo>
                        <a:pt x="162" y="179"/>
                      </a:lnTo>
                      <a:lnTo>
                        <a:pt x="168" y="172"/>
                      </a:lnTo>
                      <a:lnTo>
                        <a:pt x="173" y="165"/>
                      </a:lnTo>
                      <a:lnTo>
                        <a:pt x="181" y="155"/>
                      </a:lnTo>
                      <a:lnTo>
                        <a:pt x="173" y="152"/>
                      </a:lnTo>
                      <a:lnTo>
                        <a:pt x="168" y="152"/>
                      </a:lnTo>
                      <a:lnTo>
                        <a:pt x="160" y="155"/>
                      </a:lnTo>
                      <a:lnTo>
                        <a:pt x="150" y="157"/>
                      </a:lnTo>
                      <a:lnTo>
                        <a:pt x="150" y="149"/>
                      </a:lnTo>
                      <a:lnTo>
                        <a:pt x="152" y="142"/>
                      </a:lnTo>
                      <a:lnTo>
                        <a:pt x="155" y="134"/>
                      </a:lnTo>
                      <a:lnTo>
                        <a:pt x="159" y="129"/>
                      </a:lnTo>
                      <a:lnTo>
                        <a:pt x="153" y="120"/>
                      </a:lnTo>
                      <a:lnTo>
                        <a:pt x="147" y="121"/>
                      </a:lnTo>
                      <a:lnTo>
                        <a:pt x="142" y="126"/>
                      </a:lnTo>
                      <a:lnTo>
                        <a:pt x="134" y="124"/>
                      </a:lnTo>
                      <a:lnTo>
                        <a:pt x="134" y="117"/>
                      </a:lnTo>
                      <a:lnTo>
                        <a:pt x="137" y="110"/>
                      </a:lnTo>
                      <a:lnTo>
                        <a:pt x="137" y="103"/>
                      </a:lnTo>
                      <a:lnTo>
                        <a:pt x="131" y="95"/>
                      </a:lnTo>
                      <a:lnTo>
                        <a:pt x="124" y="100"/>
                      </a:lnTo>
                      <a:lnTo>
                        <a:pt x="116" y="105"/>
                      </a:lnTo>
                      <a:lnTo>
                        <a:pt x="107" y="113"/>
                      </a:lnTo>
                      <a:lnTo>
                        <a:pt x="100" y="124"/>
                      </a:lnTo>
                      <a:lnTo>
                        <a:pt x="100" y="111"/>
                      </a:lnTo>
                      <a:lnTo>
                        <a:pt x="102" y="98"/>
                      </a:lnTo>
                      <a:lnTo>
                        <a:pt x="105" y="85"/>
                      </a:lnTo>
                      <a:lnTo>
                        <a:pt x="107" y="69"/>
                      </a:lnTo>
                      <a:lnTo>
                        <a:pt x="98" y="72"/>
                      </a:lnTo>
                      <a:lnTo>
                        <a:pt x="91" y="78"/>
                      </a:lnTo>
                      <a:lnTo>
                        <a:pt x="85" y="84"/>
                      </a:lnTo>
                      <a:lnTo>
                        <a:pt x="76" y="90"/>
                      </a:lnTo>
                      <a:lnTo>
                        <a:pt x="76" y="79"/>
                      </a:lnTo>
                      <a:lnTo>
                        <a:pt x="78" y="68"/>
                      </a:lnTo>
                      <a:lnTo>
                        <a:pt x="81" y="58"/>
                      </a:lnTo>
                      <a:lnTo>
                        <a:pt x="89" y="48"/>
                      </a:lnTo>
                      <a:lnTo>
                        <a:pt x="81" y="42"/>
                      </a:lnTo>
                      <a:lnTo>
                        <a:pt x="71" y="40"/>
                      </a:lnTo>
                      <a:lnTo>
                        <a:pt x="63" y="43"/>
                      </a:lnTo>
                      <a:lnTo>
                        <a:pt x="59" y="49"/>
                      </a:lnTo>
                      <a:lnTo>
                        <a:pt x="55" y="56"/>
                      </a:lnTo>
                      <a:lnTo>
                        <a:pt x="48" y="66"/>
                      </a:lnTo>
                      <a:lnTo>
                        <a:pt x="48" y="58"/>
                      </a:lnTo>
                      <a:lnTo>
                        <a:pt x="50" y="52"/>
                      </a:lnTo>
                      <a:lnTo>
                        <a:pt x="53" y="45"/>
                      </a:lnTo>
                      <a:lnTo>
                        <a:pt x="56" y="33"/>
                      </a:lnTo>
                      <a:lnTo>
                        <a:pt x="48" y="30"/>
                      </a:lnTo>
                      <a:lnTo>
                        <a:pt x="42" y="33"/>
                      </a:lnTo>
                      <a:lnTo>
                        <a:pt x="35" y="40"/>
                      </a:lnTo>
                      <a:lnTo>
                        <a:pt x="27" y="49"/>
                      </a:lnTo>
                      <a:lnTo>
                        <a:pt x="22" y="49"/>
                      </a:lnTo>
                      <a:lnTo>
                        <a:pt x="16" y="48"/>
                      </a:lnTo>
                      <a:lnTo>
                        <a:pt x="9" y="46"/>
                      </a:lnTo>
                      <a:lnTo>
                        <a:pt x="0" y="42"/>
                      </a:lnTo>
                      <a:lnTo>
                        <a:pt x="16" y="33"/>
                      </a:lnTo>
                      <a:lnTo>
                        <a:pt x="32" y="26"/>
                      </a:lnTo>
                      <a:lnTo>
                        <a:pt x="49" y="17"/>
                      </a:lnTo>
                      <a:lnTo>
                        <a:pt x="68" y="10"/>
                      </a:lnTo>
                      <a:lnTo>
                        <a:pt x="87" y="6"/>
                      </a:lnTo>
                      <a:lnTo>
                        <a:pt x="107" y="1"/>
                      </a:lnTo>
                      <a:lnTo>
                        <a:pt x="127" y="0"/>
                      </a:lnTo>
                      <a:lnTo>
                        <a:pt x="149" y="1"/>
                      </a:lnTo>
                      <a:lnTo>
                        <a:pt x="165" y="19"/>
                      </a:lnTo>
                      <a:lnTo>
                        <a:pt x="179" y="39"/>
                      </a:lnTo>
                      <a:lnTo>
                        <a:pt x="192" y="61"/>
                      </a:lnTo>
                      <a:lnTo>
                        <a:pt x="202" y="84"/>
                      </a:lnTo>
                      <a:lnTo>
                        <a:pt x="212" y="110"/>
                      </a:lnTo>
                      <a:lnTo>
                        <a:pt x="221" y="136"/>
                      </a:lnTo>
                      <a:lnTo>
                        <a:pt x="231" y="162"/>
                      </a:lnTo>
                      <a:lnTo>
                        <a:pt x="240" y="189"/>
                      </a:lnTo>
                      <a:lnTo>
                        <a:pt x="238" y="196"/>
                      </a:lnTo>
                      <a:lnTo>
                        <a:pt x="237" y="205"/>
                      </a:lnTo>
                      <a:lnTo>
                        <a:pt x="234" y="212"/>
                      </a:lnTo>
                      <a:lnTo>
                        <a:pt x="227" y="220"/>
                      </a:lnTo>
                      <a:lnTo>
                        <a:pt x="210" y="233"/>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1040" y="1930320"/>
                  <a:ext cx="7920" cy="11160"/>
                </a:xfrm>
                <a:custGeom>
                  <a:avLst/>
                  <a:gdLst/>
                  <a:ahLst/>
                  <a:rect l="l" t="t" r="r" b="b"/>
                  <a:pathLst>
                    <a:path w="13" h="20">
                      <a:moveTo>
                        <a:pt x="0" y="20"/>
                      </a:moveTo>
                      <a:lnTo>
                        <a:pt x="1" y="0"/>
                      </a:lnTo>
                      <a:lnTo>
                        <a:pt x="8" y="3"/>
                      </a:lnTo>
                      <a:lnTo>
                        <a:pt x="13" y="7"/>
                      </a:lnTo>
                      <a:lnTo>
                        <a:pt x="13" y="15"/>
                      </a:lnTo>
                      <a:lnTo>
                        <a:pt x="10"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5" name=""/>
                <p:cNvSpPr/>
                <p:nvPr/>
              </p:nvSpPr>
              <p:spPr>
                <a:xfrm>
                  <a:off x="7705800" y="1920960"/>
                  <a:ext cx="9360" cy="14040"/>
                </a:xfrm>
                <a:custGeom>
                  <a:avLst/>
                  <a:gdLst/>
                  <a:ahLst/>
                  <a:rect l="l" t="t" r="r" b="b"/>
                  <a:pathLst>
                    <a:path w="17" h="28">
                      <a:moveTo>
                        <a:pt x="7" y="28"/>
                      </a:moveTo>
                      <a:lnTo>
                        <a:pt x="0" y="25"/>
                      </a:lnTo>
                      <a:lnTo>
                        <a:pt x="1" y="16"/>
                      </a:lnTo>
                      <a:lnTo>
                        <a:pt x="5" y="8"/>
                      </a:lnTo>
                      <a:lnTo>
                        <a:pt x="8" y="0"/>
                      </a:lnTo>
                      <a:lnTo>
                        <a:pt x="16" y="5"/>
                      </a:lnTo>
                      <a:lnTo>
                        <a:pt x="17" y="13"/>
                      </a:lnTo>
                      <a:lnTo>
                        <a:pt x="13" y="24"/>
                      </a:lnTo>
                      <a:lnTo>
                        <a:pt x="7"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6" name=""/>
                <p:cNvSpPr/>
                <p:nvPr/>
              </p:nvSpPr>
              <p:spPr>
                <a:xfrm>
                  <a:off x="7991640" y="1909800"/>
                  <a:ext cx="7920" cy="11160"/>
                </a:xfrm>
                <a:custGeom>
                  <a:avLst/>
                  <a:gdLst/>
                  <a:ahLst/>
                  <a:rect l="l" t="t" r="r" b="b"/>
                  <a:pathLst>
                    <a:path w="17" h="20">
                      <a:moveTo>
                        <a:pt x="0" y="20"/>
                      </a:moveTo>
                      <a:lnTo>
                        <a:pt x="2" y="0"/>
                      </a:lnTo>
                      <a:lnTo>
                        <a:pt x="14" y="0"/>
                      </a:lnTo>
                      <a:lnTo>
                        <a:pt x="17" y="9"/>
                      </a:lnTo>
                      <a:lnTo>
                        <a:pt x="15" y="16"/>
                      </a:lnTo>
                      <a:lnTo>
                        <a:pt x="8"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7" name=""/>
                <p:cNvSpPr/>
                <p:nvPr/>
              </p:nvSpPr>
              <p:spPr>
                <a:xfrm>
                  <a:off x="7869240" y="1909800"/>
                  <a:ext cx="14400" cy="9360"/>
                </a:xfrm>
                <a:custGeom>
                  <a:avLst/>
                  <a:gdLst/>
                  <a:ahLst/>
                  <a:rect l="l" t="t" r="r" b="b"/>
                  <a:pathLst>
                    <a:path w="27" h="18">
                      <a:moveTo>
                        <a:pt x="3" y="18"/>
                      </a:moveTo>
                      <a:lnTo>
                        <a:pt x="0" y="6"/>
                      </a:lnTo>
                      <a:lnTo>
                        <a:pt x="4" y="2"/>
                      </a:lnTo>
                      <a:lnTo>
                        <a:pt x="10" y="0"/>
                      </a:lnTo>
                      <a:lnTo>
                        <a:pt x="18" y="2"/>
                      </a:lnTo>
                      <a:lnTo>
                        <a:pt x="26" y="5"/>
                      </a:lnTo>
                      <a:lnTo>
                        <a:pt x="27" y="12"/>
                      </a:lnTo>
                      <a:lnTo>
                        <a:pt x="20" y="15"/>
                      </a:lnTo>
                      <a:lnTo>
                        <a:pt x="10" y="16"/>
                      </a:lnTo>
                      <a:lnTo>
                        <a:pt x="3"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8" name=""/>
                <p:cNvSpPr/>
                <p:nvPr/>
              </p:nvSpPr>
              <p:spPr>
                <a:xfrm>
                  <a:off x="7062840" y="1913040"/>
                  <a:ext cx="9360" cy="11160"/>
                </a:xfrm>
                <a:custGeom>
                  <a:avLst/>
                  <a:gdLst/>
                  <a:ahLst/>
                  <a:rect l="l" t="t" r="r" b="b"/>
                  <a:pathLst>
                    <a:path w="16" h="21">
                      <a:moveTo>
                        <a:pt x="0" y="21"/>
                      </a:moveTo>
                      <a:lnTo>
                        <a:pt x="0" y="0"/>
                      </a:lnTo>
                      <a:lnTo>
                        <a:pt x="16" y="5"/>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9" name=""/>
                <p:cNvSpPr/>
                <p:nvPr/>
              </p:nvSpPr>
              <p:spPr>
                <a:xfrm>
                  <a:off x="7935840" y="1900080"/>
                  <a:ext cx="7920" cy="11160"/>
                </a:xfrm>
                <a:custGeom>
                  <a:avLst/>
                  <a:gdLst/>
                  <a:ahLst/>
                  <a:rect l="l" t="t" r="r" b="b"/>
                  <a:pathLst>
                    <a:path w="16" h="22">
                      <a:moveTo>
                        <a:pt x="3" y="21"/>
                      </a:moveTo>
                      <a:lnTo>
                        <a:pt x="0" y="15"/>
                      </a:lnTo>
                      <a:lnTo>
                        <a:pt x="2" y="8"/>
                      </a:lnTo>
                      <a:lnTo>
                        <a:pt x="6" y="2"/>
                      </a:lnTo>
                      <a:lnTo>
                        <a:pt x="13" y="0"/>
                      </a:lnTo>
                      <a:lnTo>
                        <a:pt x="16" y="6"/>
                      </a:lnTo>
                      <a:lnTo>
                        <a:pt x="15" y="16"/>
                      </a:lnTo>
                      <a:lnTo>
                        <a:pt x="11" y="22"/>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0" name=""/>
                <p:cNvSpPr/>
                <p:nvPr/>
              </p:nvSpPr>
              <p:spPr>
                <a:xfrm>
                  <a:off x="8121600" y="1893960"/>
                  <a:ext cx="11160" cy="11160"/>
                </a:xfrm>
                <a:custGeom>
                  <a:avLst/>
                  <a:gdLst/>
                  <a:ahLst/>
                  <a:rect l="l" t="t" r="r" b="b"/>
                  <a:pathLst>
                    <a:path w="22" h="20">
                      <a:moveTo>
                        <a:pt x="6" y="20"/>
                      </a:moveTo>
                      <a:lnTo>
                        <a:pt x="0" y="0"/>
                      </a:lnTo>
                      <a:lnTo>
                        <a:pt x="22" y="4"/>
                      </a:lnTo>
                      <a:lnTo>
                        <a:pt x="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
                <p:cNvSpPr/>
                <p:nvPr/>
              </p:nvSpPr>
              <p:spPr>
                <a:xfrm>
                  <a:off x="8188200" y="1890720"/>
                  <a:ext cx="7920" cy="14400"/>
                </a:xfrm>
                <a:custGeom>
                  <a:avLst/>
                  <a:gdLst/>
                  <a:ahLst/>
                  <a:rect l="l" t="t" r="r" b="b"/>
                  <a:pathLst>
                    <a:path w="16" h="25">
                      <a:moveTo>
                        <a:pt x="4" y="25"/>
                      </a:moveTo>
                      <a:lnTo>
                        <a:pt x="0" y="20"/>
                      </a:lnTo>
                      <a:lnTo>
                        <a:pt x="0" y="12"/>
                      </a:lnTo>
                      <a:lnTo>
                        <a:pt x="3" y="4"/>
                      </a:lnTo>
                      <a:lnTo>
                        <a:pt x="11" y="0"/>
                      </a:lnTo>
                      <a:lnTo>
                        <a:pt x="16" y="6"/>
                      </a:lnTo>
                      <a:lnTo>
                        <a:pt x="16" y="12"/>
                      </a:lnTo>
                      <a:lnTo>
                        <a:pt x="11" y="19"/>
                      </a:lnTo>
                      <a:lnTo>
                        <a:pt x="4"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2" name=""/>
                <p:cNvSpPr/>
                <p:nvPr/>
              </p:nvSpPr>
              <p:spPr>
                <a:xfrm>
                  <a:off x="8323200" y="1889280"/>
                  <a:ext cx="11160" cy="10800"/>
                </a:xfrm>
                <a:custGeom>
                  <a:avLst/>
                  <a:gdLst/>
                  <a:ahLst/>
                  <a:rect l="l" t="t" r="r" b="b"/>
                  <a:pathLst>
                    <a:path w="20" h="21">
                      <a:moveTo>
                        <a:pt x="2" y="21"/>
                      </a:moveTo>
                      <a:lnTo>
                        <a:pt x="0" y="0"/>
                      </a:lnTo>
                      <a:lnTo>
                        <a:pt x="20" y="4"/>
                      </a:lnTo>
                      <a:lnTo>
                        <a:pt x="2"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3" name=""/>
                <p:cNvSpPr/>
                <p:nvPr/>
              </p:nvSpPr>
              <p:spPr>
                <a:xfrm>
                  <a:off x="6991200" y="1889280"/>
                  <a:ext cx="17640" cy="12600"/>
                </a:xfrm>
                <a:custGeom>
                  <a:avLst/>
                  <a:gdLst/>
                  <a:ahLst/>
                  <a:rect l="l" t="t" r="r" b="b"/>
                  <a:pathLst>
                    <a:path w="34" h="23">
                      <a:moveTo>
                        <a:pt x="5" y="23"/>
                      </a:moveTo>
                      <a:lnTo>
                        <a:pt x="1" y="20"/>
                      </a:lnTo>
                      <a:lnTo>
                        <a:pt x="0" y="13"/>
                      </a:lnTo>
                      <a:lnTo>
                        <a:pt x="2" y="5"/>
                      </a:lnTo>
                      <a:lnTo>
                        <a:pt x="7" y="0"/>
                      </a:lnTo>
                      <a:lnTo>
                        <a:pt x="14" y="2"/>
                      </a:lnTo>
                      <a:lnTo>
                        <a:pt x="21" y="5"/>
                      </a:lnTo>
                      <a:lnTo>
                        <a:pt x="27" y="10"/>
                      </a:lnTo>
                      <a:lnTo>
                        <a:pt x="34" y="16"/>
                      </a:lnTo>
                      <a:lnTo>
                        <a:pt x="31" y="22"/>
                      </a:lnTo>
                      <a:lnTo>
                        <a:pt x="24" y="23"/>
                      </a:lnTo>
                      <a:lnTo>
                        <a:pt x="14" y="22"/>
                      </a:lnTo>
                      <a:lnTo>
                        <a:pt x="5"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4" name=""/>
                <p:cNvSpPr/>
                <p:nvPr/>
              </p:nvSpPr>
              <p:spPr>
                <a:xfrm>
                  <a:off x="7121520" y="1886040"/>
                  <a:ext cx="11160" cy="12600"/>
                </a:xfrm>
                <a:custGeom>
                  <a:avLst/>
                  <a:gdLst/>
                  <a:ahLst/>
                  <a:rect l="l" t="t" r="r" b="b"/>
                  <a:pathLst>
                    <a:path w="22" h="25">
                      <a:moveTo>
                        <a:pt x="3" y="25"/>
                      </a:moveTo>
                      <a:lnTo>
                        <a:pt x="0" y="3"/>
                      </a:lnTo>
                      <a:lnTo>
                        <a:pt x="10" y="0"/>
                      </a:lnTo>
                      <a:lnTo>
                        <a:pt x="22" y="17"/>
                      </a:lnTo>
                      <a:lnTo>
                        <a:pt x="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5" name=""/>
                <p:cNvSpPr/>
                <p:nvPr/>
              </p:nvSpPr>
              <p:spPr>
                <a:xfrm>
                  <a:off x="8053560" y="1873080"/>
                  <a:ext cx="10800" cy="11160"/>
                </a:xfrm>
                <a:custGeom>
                  <a:avLst/>
                  <a:gdLst/>
                  <a:ahLst/>
                  <a:rect l="l" t="t" r="r" b="b"/>
                  <a:pathLst>
                    <a:path w="21" h="21">
                      <a:moveTo>
                        <a:pt x="11" y="21"/>
                      </a:moveTo>
                      <a:lnTo>
                        <a:pt x="0" y="13"/>
                      </a:lnTo>
                      <a:lnTo>
                        <a:pt x="14" y="0"/>
                      </a:lnTo>
                      <a:lnTo>
                        <a:pt x="18" y="5"/>
                      </a:lnTo>
                      <a:lnTo>
                        <a:pt x="21" y="12"/>
                      </a:lnTo>
                      <a:lnTo>
                        <a:pt x="18" y="19"/>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 name=""/>
                <p:cNvSpPr/>
                <p:nvPr/>
              </p:nvSpPr>
              <p:spPr>
                <a:xfrm>
                  <a:off x="8367840" y="1862280"/>
                  <a:ext cx="12600" cy="10800"/>
                </a:xfrm>
                <a:custGeom>
                  <a:avLst/>
                  <a:gdLst/>
                  <a:ahLst/>
                  <a:rect l="l" t="t" r="r" b="b"/>
                  <a:pathLst>
                    <a:path w="25" h="21">
                      <a:moveTo>
                        <a:pt x="6" y="21"/>
                      </a:moveTo>
                      <a:lnTo>
                        <a:pt x="0" y="10"/>
                      </a:lnTo>
                      <a:lnTo>
                        <a:pt x="3" y="4"/>
                      </a:lnTo>
                      <a:lnTo>
                        <a:pt x="9" y="1"/>
                      </a:lnTo>
                      <a:lnTo>
                        <a:pt x="16" y="0"/>
                      </a:lnTo>
                      <a:lnTo>
                        <a:pt x="25" y="1"/>
                      </a:lnTo>
                      <a:lnTo>
                        <a:pt x="25" y="7"/>
                      </a:lnTo>
                      <a:lnTo>
                        <a:pt x="22" y="13"/>
                      </a:lnTo>
                      <a:lnTo>
                        <a:pt x="16" y="19"/>
                      </a:lnTo>
                      <a:lnTo>
                        <a:pt x="6"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7" name=""/>
                <p:cNvSpPr/>
                <p:nvPr/>
              </p:nvSpPr>
              <p:spPr>
                <a:xfrm>
                  <a:off x="7672320" y="1870200"/>
                  <a:ext cx="7920" cy="11160"/>
                </a:xfrm>
                <a:custGeom>
                  <a:avLst/>
                  <a:gdLst/>
                  <a:ahLst/>
                  <a:rect l="l" t="t" r="r" b="b"/>
                  <a:pathLst>
                    <a:path w="17" h="19">
                      <a:moveTo>
                        <a:pt x="2" y="19"/>
                      </a:moveTo>
                      <a:lnTo>
                        <a:pt x="0" y="0"/>
                      </a:lnTo>
                      <a:lnTo>
                        <a:pt x="17" y="2"/>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8269200" y="1859040"/>
                  <a:ext cx="11160" cy="12600"/>
                </a:xfrm>
                <a:custGeom>
                  <a:avLst/>
                  <a:gdLst/>
                  <a:ahLst/>
                  <a:rect l="l" t="t" r="r" b="b"/>
                  <a:pathLst>
                    <a:path w="19" h="25">
                      <a:moveTo>
                        <a:pt x="6" y="25"/>
                      </a:moveTo>
                      <a:lnTo>
                        <a:pt x="0" y="20"/>
                      </a:lnTo>
                      <a:lnTo>
                        <a:pt x="0" y="12"/>
                      </a:lnTo>
                      <a:lnTo>
                        <a:pt x="3" y="4"/>
                      </a:lnTo>
                      <a:lnTo>
                        <a:pt x="9" y="0"/>
                      </a:lnTo>
                      <a:lnTo>
                        <a:pt x="15" y="4"/>
                      </a:lnTo>
                      <a:lnTo>
                        <a:pt x="19" y="13"/>
                      </a:lnTo>
                      <a:lnTo>
                        <a:pt x="18" y="22"/>
                      </a:lnTo>
                      <a:lnTo>
                        <a:pt x="6"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 name=""/>
                <p:cNvSpPr/>
                <p:nvPr/>
              </p:nvSpPr>
              <p:spPr>
                <a:xfrm>
                  <a:off x="7758000" y="1859040"/>
                  <a:ext cx="11160" cy="9360"/>
                </a:xfrm>
                <a:custGeom>
                  <a:avLst/>
                  <a:gdLst/>
                  <a:ahLst/>
                  <a:rect l="l" t="t" r="r" b="b"/>
                  <a:pathLst>
                    <a:path w="23" h="19">
                      <a:moveTo>
                        <a:pt x="7" y="15"/>
                      </a:moveTo>
                      <a:lnTo>
                        <a:pt x="0" y="8"/>
                      </a:lnTo>
                      <a:lnTo>
                        <a:pt x="20" y="0"/>
                      </a:lnTo>
                      <a:lnTo>
                        <a:pt x="23" y="8"/>
                      </a:lnTo>
                      <a:lnTo>
                        <a:pt x="21" y="15"/>
                      </a:lnTo>
                      <a:lnTo>
                        <a:pt x="15" y="19"/>
                      </a:lnTo>
                      <a:lnTo>
                        <a:pt x="7"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0" name=""/>
                <p:cNvSpPr/>
                <p:nvPr/>
              </p:nvSpPr>
              <p:spPr>
                <a:xfrm>
                  <a:off x="7575480" y="1844640"/>
                  <a:ext cx="9720" cy="14400"/>
                </a:xfrm>
                <a:custGeom>
                  <a:avLst/>
                  <a:gdLst/>
                  <a:ahLst/>
                  <a:rect l="l" t="t" r="r" b="b"/>
                  <a:pathLst>
                    <a:path w="17" h="28">
                      <a:moveTo>
                        <a:pt x="6" y="28"/>
                      </a:moveTo>
                      <a:lnTo>
                        <a:pt x="0" y="24"/>
                      </a:lnTo>
                      <a:lnTo>
                        <a:pt x="0" y="17"/>
                      </a:lnTo>
                      <a:lnTo>
                        <a:pt x="4" y="8"/>
                      </a:lnTo>
                      <a:lnTo>
                        <a:pt x="6" y="0"/>
                      </a:lnTo>
                      <a:lnTo>
                        <a:pt x="14" y="0"/>
                      </a:lnTo>
                      <a:lnTo>
                        <a:pt x="17" y="7"/>
                      </a:lnTo>
                      <a:lnTo>
                        <a:pt x="17" y="15"/>
                      </a:lnTo>
                      <a:lnTo>
                        <a:pt x="11" y="24"/>
                      </a:lnTo>
                      <a:lnTo>
                        <a:pt x="6" y="2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1" name=""/>
                <p:cNvSpPr/>
                <p:nvPr/>
              </p:nvSpPr>
              <p:spPr>
                <a:xfrm>
                  <a:off x="7904160" y="1844640"/>
                  <a:ext cx="6480" cy="9720"/>
                </a:xfrm>
                <a:custGeom>
                  <a:avLst/>
                  <a:gdLst/>
                  <a:ahLst/>
                  <a:rect l="l" t="t" r="r" b="b"/>
                  <a:pathLst>
                    <a:path w="13" h="18">
                      <a:moveTo>
                        <a:pt x="0" y="18"/>
                      </a:moveTo>
                      <a:lnTo>
                        <a:pt x="1" y="0"/>
                      </a:lnTo>
                      <a:lnTo>
                        <a:pt x="11" y="1"/>
                      </a:lnTo>
                      <a:lnTo>
                        <a:pt x="13" y="7"/>
                      </a:lnTo>
                      <a:lnTo>
                        <a:pt x="8" y="15"/>
                      </a:lnTo>
                      <a:lnTo>
                        <a:pt x="0"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2" name=""/>
                <p:cNvSpPr/>
                <p:nvPr/>
              </p:nvSpPr>
              <p:spPr>
                <a:xfrm>
                  <a:off x="7493040" y="1847880"/>
                  <a:ext cx="17280" cy="11160"/>
                </a:xfrm>
                <a:custGeom>
                  <a:avLst/>
                  <a:gdLst/>
                  <a:ahLst/>
                  <a:rect l="l" t="t" r="r" b="b"/>
                  <a:pathLst>
                    <a:path w="33" h="19">
                      <a:moveTo>
                        <a:pt x="10" y="19"/>
                      </a:moveTo>
                      <a:lnTo>
                        <a:pt x="0" y="3"/>
                      </a:lnTo>
                      <a:lnTo>
                        <a:pt x="8" y="0"/>
                      </a:lnTo>
                      <a:lnTo>
                        <a:pt x="17" y="0"/>
                      </a:lnTo>
                      <a:lnTo>
                        <a:pt x="26" y="0"/>
                      </a:lnTo>
                      <a:lnTo>
                        <a:pt x="33" y="3"/>
                      </a:lnTo>
                      <a:lnTo>
                        <a:pt x="10"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7840800" y="1843200"/>
                  <a:ext cx="7920" cy="11160"/>
                </a:xfrm>
                <a:custGeom>
                  <a:avLst/>
                  <a:gdLst/>
                  <a:ahLst/>
                  <a:rect l="l" t="t" r="r" b="b"/>
                  <a:pathLst>
                    <a:path w="17" h="21">
                      <a:moveTo>
                        <a:pt x="5" y="21"/>
                      </a:moveTo>
                      <a:lnTo>
                        <a:pt x="0" y="17"/>
                      </a:lnTo>
                      <a:lnTo>
                        <a:pt x="3" y="10"/>
                      </a:lnTo>
                      <a:lnTo>
                        <a:pt x="10" y="4"/>
                      </a:lnTo>
                      <a:lnTo>
                        <a:pt x="17" y="0"/>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a:off x="8031240" y="1832040"/>
                  <a:ext cx="11160" cy="14400"/>
                </a:xfrm>
                <a:custGeom>
                  <a:avLst/>
                  <a:gdLst/>
                  <a:ahLst/>
                  <a:rect l="l" t="t" r="r" b="b"/>
                  <a:pathLst>
                    <a:path w="20" h="26">
                      <a:moveTo>
                        <a:pt x="6" y="26"/>
                      </a:moveTo>
                      <a:lnTo>
                        <a:pt x="0" y="22"/>
                      </a:lnTo>
                      <a:lnTo>
                        <a:pt x="2" y="13"/>
                      </a:lnTo>
                      <a:lnTo>
                        <a:pt x="6" y="4"/>
                      </a:lnTo>
                      <a:lnTo>
                        <a:pt x="12" y="0"/>
                      </a:lnTo>
                      <a:lnTo>
                        <a:pt x="18" y="4"/>
                      </a:lnTo>
                      <a:lnTo>
                        <a:pt x="20" y="13"/>
                      </a:lnTo>
                      <a:lnTo>
                        <a:pt x="16" y="22"/>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5" name=""/>
                <p:cNvSpPr/>
                <p:nvPr/>
              </p:nvSpPr>
              <p:spPr>
                <a:xfrm>
                  <a:off x="8172360" y="1828800"/>
                  <a:ext cx="11160" cy="11160"/>
                </a:xfrm>
                <a:custGeom>
                  <a:avLst/>
                  <a:gdLst/>
                  <a:ahLst/>
                  <a:rect l="l" t="t" r="r" b="b"/>
                  <a:pathLst>
                    <a:path w="20" h="21">
                      <a:moveTo>
                        <a:pt x="11" y="21"/>
                      </a:moveTo>
                      <a:lnTo>
                        <a:pt x="0" y="13"/>
                      </a:lnTo>
                      <a:lnTo>
                        <a:pt x="1" y="5"/>
                      </a:lnTo>
                      <a:lnTo>
                        <a:pt x="7" y="1"/>
                      </a:lnTo>
                      <a:lnTo>
                        <a:pt x="14" y="0"/>
                      </a:lnTo>
                      <a:lnTo>
                        <a:pt x="20" y="3"/>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6" name=""/>
                <p:cNvSpPr/>
                <p:nvPr/>
              </p:nvSpPr>
              <p:spPr>
                <a:xfrm>
                  <a:off x="7969320" y="1828800"/>
                  <a:ext cx="11160" cy="7920"/>
                </a:xfrm>
                <a:custGeom>
                  <a:avLst/>
                  <a:gdLst/>
                  <a:ahLst/>
                  <a:rect l="l" t="t" r="r" b="b"/>
                  <a:pathLst>
                    <a:path w="23" h="16">
                      <a:moveTo>
                        <a:pt x="13" y="16"/>
                      </a:moveTo>
                      <a:lnTo>
                        <a:pt x="0" y="0"/>
                      </a:lnTo>
                      <a:lnTo>
                        <a:pt x="23" y="0"/>
                      </a:lnTo>
                      <a:lnTo>
                        <a:pt x="1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
                <p:cNvSpPr/>
                <p:nvPr/>
              </p:nvSpPr>
              <p:spPr>
                <a:xfrm>
                  <a:off x="8102520" y="1822320"/>
                  <a:ext cx="11160" cy="11160"/>
                </a:xfrm>
                <a:custGeom>
                  <a:avLst/>
                  <a:gdLst/>
                  <a:ahLst/>
                  <a:rect l="l" t="t" r="r" b="b"/>
                  <a:pathLst>
                    <a:path w="19" h="20">
                      <a:moveTo>
                        <a:pt x="3" y="19"/>
                      </a:moveTo>
                      <a:lnTo>
                        <a:pt x="0" y="12"/>
                      </a:lnTo>
                      <a:lnTo>
                        <a:pt x="2" y="4"/>
                      </a:lnTo>
                      <a:lnTo>
                        <a:pt x="7" y="0"/>
                      </a:lnTo>
                      <a:lnTo>
                        <a:pt x="16" y="0"/>
                      </a:lnTo>
                      <a:lnTo>
                        <a:pt x="19" y="9"/>
                      </a:lnTo>
                      <a:lnTo>
                        <a:pt x="17" y="16"/>
                      </a:lnTo>
                      <a:lnTo>
                        <a:pt x="12" y="20"/>
                      </a:lnTo>
                      <a:lnTo>
                        <a:pt x="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8" name=""/>
                <p:cNvSpPr/>
                <p:nvPr/>
              </p:nvSpPr>
              <p:spPr>
                <a:xfrm>
                  <a:off x="7140600" y="1824120"/>
                  <a:ext cx="12600" cy="15840"/>
                </a:xfrm>
                <a:custGeom>
                  <a:avLst/>
                  <a:gdLst/>
                  <a:ahLst/>
                  <a:rect l="l" t="t" r="r" b="b"/>
                  <a:pathLst>
                    <a:path w="26" h="29">
                      <a:moveTo>
                        <a:pt x="7" y="29"/>
                      </a:moveTo>
                      <a:lnTo>
                        <a:pt x="1" y="23"/>
                      </a:lnTo>
                      <a:lnTo>
                        <a:pt x="0" y="16"/>
                      </a:lnTo>
                      <a:lnTo>
                        <a:pt x="2" y="7"/>
                      </a:lnTo>
                      <a:lnTo>
                        <a:pt x="7" y="0"/>
                      </a:lnTo>
                      <a:lnTo>
                        <a:pt x="26" y="12"/>
                      </a:lnTo>
                      <a:lnTo>
                        <a:pt x="7"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9" name=""/>
                <p:cNvSpPr/>
                <p:nvPr/>
              </p:nvSpPr>
              <p:spPr>
                <a:xfrm>
                  <a:off x="7716960" y="1798560"/>
                  <a:ext cx="11160" cy="11160"/>
                </a:xfrm>
                <a:custGeom>
                  <a:avLst/>
                  <a:gdLst/>
                  <a:ahLst/>
                  <a:rect l="l" t="t" r="r" b="b"/>
                  <a:pathLst>
                    <a:path w="20" h="23">
                      <a:moveTo>
                        <a:pt x="6" y="23"/>
                      </a:moveTo>
                      <a:lnTo>
                        <a:pt x="0" y="19"/>
                      </a:lnTo>
                      <a:lnTo>
                        <a:pt x="0" y="11"/>
                      </a:lnTo>
                      <a:lnTo>
                        <a:pt x="6" y="3"/>
                      </a:lnTo>
                      <a:lnTo>
                        <a:pt x="14" y="0"/>
                      </a:lnTo>
                      <a:lnTo>
                        <a:pt x="20" y="4"/>
                      </a:lnTo>
                      <a:lnTo>
                        <a:pt x="19" y="11"/>
                      </a:lnTo>
                      <a:lnTo>
                        <a:pt x="11" y="19"/>
                      </a:lnTo>
                      <a:lnTo>
                        <a:pt x="6"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7056360" y="1806480"/>
                  <a:ext cx="12600" cy="11160"/>
                </a:xfrm>
                <a:custGeom>
                  <a:avLst/>
                  <a:gdLst/>
                  <a:ahLst/>
                  <a:rect l="l" t="t" r="r" b="b"/>
                  <a:pathLst>
                    <a:path w="23" h="21">
                      <a:moveTo>
                        <a:pt x="6" y="21"/>
                      </a:moveTo>
                      <a:lnTo>
                        <a:pt x="0" y="3"/>
                      </a:lnTo>
                      <a:lnTo>
                        <a:pt x="7" y="0"/>
                      </a:lnTo>
                      <a:lnTo>
                        <a:pt x="14" y="1"/>
                      </a:lnTo>
                      <a:lnTo>
                        <a:pt x="20" y="7"/>
                      </a:lnTo>
                      <a:lnTo>
                        <a:pt x="23" y="14"/>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8304120" y="1790640"/>
                  <a:ext cx="11160" cy="9720"/>
                </a:xfrm>
                <a:custGeom>
                  <a:avLst/>
                  <a:gdLst/>
                  <a:ahLst/>
                  <a:rect l="l" t="t" r="r" b="b"/>
                  <a:pathLst>
                    <a:path w="21" h="19">
                      <a:moveTo>
                        <a:pt x="0" y="19"/>
                      </a:moveTo>
                      <a:lnTo>
                        <a:pt x="2" y="0"/>
                      </a:lnTo>
                      <a:lnTo>
                        <a:pt x="21" y="10"/>
                      </a:lnTo>
                      <a:lnTo>
                        <a:pt x="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2" name=""/>
                <p:cNvSpPr/>
                <p:nvPr/>
              </p:nvSpPr>
              <p:spPr>
                <a:xfrm>
                  <a:off x="7013520" y="1801800"/>
                  <a:ext cx="11160" cy="12600"/>
                </a:xfrm>
                <a:custGeom>
                  <a:avLst/>
                  <a:gdLst/>
                  <a:ahLst/>
                  <a:rect l="l" t="t" r="r" b="b"/>
                  <a:pathLst>
                    <a:path w="20" h="23">
                      <a:moveTo>
                        <a:pt x="1" y="23"/>
                      </a:moveTo>
                      <a:lnTo>
                        <a:pt x="0" y="16"/>
                      </a:lnTo>
                      <a:lnTo>
                        <a:pt x="1" y="10"/>
                      </a:lnTo>
                      <a:lnTo>
                        <a:pt x="9" y="4"/>
                      </a:lnTo>
                      <a:lnTo>
                        <a:pt x="17" y="0"/>
                      </a:lnTo>
                      <a:lnTo>
                        <a:pt x="20" y="22"/>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3" name=""/>
                <p:cNvSpPr/>
                <p:nvPr/>
              </p:nvSpPr>
              <p:spPr>
                <a:xfrm>
                  <a:off x="7864560" y="1793880"/>
                  <a:ext cx="11160" cy="7920"/>
                </a:xfrm>
                <a:custGeom>
                  <a:avLst/>
                  <a:gdLst/>
                  <a:ahLst/>
                  <a:rect l="l" t="t" r="r" b="b"/>
                  <a:pathLst>
                    <a:path w="21" h="14">
                      <a:moveTo>
                        <a:pt x="12" y="14"/>
                      </a:moveTo>
                      <a:lnTo>
                        <a:pt x="0" y="0"/>
                      </a:lnTo>
                      <a:lnTo>
                        <a:pt x="21" y="0"/>
                      </a:lnTo>
                      <a:lnTo>
                        <a:pt x="12"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4" name=""/>
                <p:cNvSpPr/>
                <p:nvPr/>
              </p:nvSpPr>
              <p:spPr>
                <a:xfrm>
                  <a:off x="8366040" y="1784520"/>
                  <a:ext cx="12960" cy="12600"/>
                </a:xfrm>
                <a:custGeom>
                  <a:avLst/>
                  <a:gdLst/>
                  <a:ahLst/>
                  <a:rect l="l" t="t" r="r" b="b"/>
                  <a:pathLst>
                    <a:path w="23" h="22">
                      <a:moveTo>
                        <a:pt x="14" y="22"/>
                      </a:moveTo>
                      <a:lnTo>
                        <a:pt x="0" y="9"/>
                      </a:lnTo>
                      <a:lnTo>
                        <a:pt x="4" y="2"/>
                      </a:lnTo>
                      <a:lnTo>
                        <a:pt x="11" y="0"/>
                      </a:lnTo>
                      <a:lnTo>
                        <a:pt x="20" y="5"/>
                      </a:lnTo>
                      <a:lnTo>
                        <a:pt x="23" y="10"/>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5" name=""/>
                <p:cNvSpPr/>
                <p:nvPr/>
              </p:nvSpPr>
              <p:spPr>
                <a:xfrm>
                  <a:off x="7202520" y="1798560"/>
                  <a:ext cx="9360" cy="12600"/>
                </a:xfrm>
                <a:custGeom>
                  <a:avLst/>
                  <a:gdLst/>
                  <a:ahLst/>
                  <a:rect l="l" t="t" r="r" b="b"/>
                  <a:pathLst>
                    <a:path w="20" h="23">
                      <a:moveTo>
                        <a:pt x="0" y="22"/>
                      </a:moveTo>
                      <a:lnTo>
                        <a:pt x="1" y="0"/>
                      </a:lnTo>
                      <a:lnTo>
                        <a:pt x="8" y="2"/>
                      </a:lnTo>
                      <a:lnTo>
                        <a:pt x="13" y="6"/>
                      </a:lnTo>
                      <a:lnTo>
                        <a:pt x="17" y="13"/>
                      </a:lnTo>
                      <a:lnTo>
                        <a:pt x="20" y="23"/>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6" name=""/>
                <p:cNvSpPr/>
                <p:nvPr/>
              </p:nvSpPr>
              <p:spPr>
                <a:xfrm>
                  <a:off x="8213760" y="1779480"/>
                  <a:ext cx="11160" cy="12960"/>
                </a:xfrm>
                <a:custGeom>
                  <a:avLst/>
                  <a:gdLst/>
                  <a:ahLst/>
                  <a:rect l="l" t="t" r="r" b="b"/>
                  <a:pathLst>
                    <a:path w="21" h="25">
                      <a:moveTo>
                        <a:pt x="5" y="25"/>
                      </a:moveTo>
                      <a:lnTo>
                        <a:pt x="0" y="17"/>
                      </a:lnTo>
                      <a:lnTo>
                        <a:pt x="2" y="10"/>
                      </a:lnTo>
                      <a:lnTo>
                        <a:pt x="8" y="4"/>
                      </a:lnTo>
                      <a:lnTo>
                        <a:pt x="16" y="0"/>
                      </a:lnTo>
                      <a:lnTo>
                        <a:pt x="21" y="19"/>
                      </a:lnTo>
                      <a:lnTo>
                        <a:pt x="5"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 name=""/>
                <p:cNvSpPr/>
                <p:nvPr/>
              </p:nvSpPr>
              <p:spPr>
                <a:xfrm>
                  <a:off x="7624800" y="1785960"/>
                  <a:ext cx="11160" cy="9360"/>
                </a:xfrm>
                <a:custGeom>
                  <a:avLst/>
                  <a:gdLst/>
                  <a:ahLst/>
                  <a:rect l="l" t="t" r="r" b="b"/>
                  <a:pathLst>
                    <a:path w="23" h="17">
                      <a:moveTo>
                        <a:pt x="11" y="17"/>
                      </a:moveTo>
                      <a:lnTo>
                        <a:pt x="0" y="10"/>
                      </a:lnTo>
                      <a:lnTo>
                        <a:pt x="3" y="2"/>
                      </a:lnTo>
                      <a:lnTo>
                        <a:pt x="10" y="0"/>
                      </a:lnTo>
                      <a:lnTo>
                        <a:pt x="17" y="3"/>
                      </a:lnTo>
                      <a:lnTo>
                        <a:pt x="23" y="7"/>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8" name=""/>
                <p:cNvSpPr/>
                <p:nvPr/>
              </p:nvSpPr>
              <p:spPr>
                <a:xfrm>
                  <a:off x="7291440" y="1785960"/>
                  <a:ext cx="9360" cy="12600"/>
                </a:xfrm>
                <a:custGeom>
                  <a:avLst/>
                  <a:gdLst/>
                  <a:ahLst/>
                  <a:rect l="l" t="t" r="r" b="b"/>
                  <a:pathLst>
                    <a:path w="17" h="22">
                      <a:moveTo>
                        <a:pt x="1" y="22"/>
                      </a:moveTo>
                      <a:lnTo>
                        <a:pt x="0" y="0"/>
                      </a:lnTo>
                      <a:lnTo>
                        <a:pt x="17" y="4"/>
                      </a:lnTo>
                      <a:lnTo>
                        <a:pt x="17" y="12"/>
                      </a:lnTo>
                      <a:lnTo>
                        <a:pt x="14" y="17"/>
                      </a:lnTo>
                      <a:lnTo>
                        <a:pt x="9" y="20"/>
                      </a:lnTo>
                      <a:lnTo>
                        <a:pt x="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 name=""/>
                <p:cNvSpPr/>
                <p:nvPr/>
              </p:nvSpPr>
              <p:spPr>
                <a:xfrm>
                  <a:off x="8082000" y="1776240"/>
                  <a:ext cx="9360" cy="9720"/>
                </a:xfrm>
                <a:custGeom>
                  <a:avLst/>
                  <a:gdLst/>
                  <a:ahLst/>
                  <a:rect l="l" t="t" r="r" b="b"/>
                  <a:pathLst>
                    <a:path w="18" h="19">
                      <a:moveTo>
                        <a:pt x="10" y="19"/>
                      </a:moveTo>
                      <a:lnTo>
                        <a:pt x="0" y="13"/>
                      </a:lnTo>
                      <a:lnTo>
                        <a:pt x="1" y="6"/>
                      </a:lnTo>
                      <a:lnTo>
                        <a:pt x="7" y="2"/>
                      </a:lnTo>
                      <a:lnTo>
                        <a:pt x="13" y="0"/>
                      </a:lnTo>
                      <a:lnTo>
                        <a:pt x="18" y="3"/>
                      </a:lnTo>
                      <a:lnTo>
                        <a:pt x="1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0" name=""/>
                <p:cNvSpPr/>
                <p:nvPr/>
              </p:nvSpPr>
              <p:spPr>
                <a:xfrm>
                  <a:off x="7458120" y="1782720"/>
                  <a:ext cx="9360" cy="11160"/>
                </a:xfrm>
                <a:custGeom>
                  <a:avLst/>
                  <a:gdLst/>
                  <a:ahLst/>
                  <a:rect l="l" t="t" r="r" b="b"/>
                  <a:pathLst>
                    <a:path w="20" h="21">
                      <a:moveTo>
                        <a:pt x="0" y="21"/>
                      </a:moveTo>
                      <a:lnTo>
                        <a:pt x="0" y="0"/>
                      </a:lnTo>
                      <a:lnTo>
                        <a:pt x="20" y="3"/>
                      </a:lnTo>
                      <a:lnTo>
                        <a:pt x="18" y="10"/>
                      </a:lnTo>
                      <a:lnTo>
                        <a:pt x="16" y="16"/>
                      </a:lnTo>
                      <a:lnTo>
                        <a:pt x="8"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1" name=""/>
                <p:cNvSpPr/>
                <p:nvPr/>
              </p:nvSpPr>
              <p:spPr>
                <a:xfrm>
                  <a:off x="7932600" y="1776240"/>
                  <a:ext cx="12960" cy="9720"/>
                </a:xfrm>
                <a:custGeom>
                  <a:avLst/>
                  <a:gdLst/>
                  <a:ahLst/>
                  <a:rect l="l" t="t" r="r" b="b"/>
                  <a:pathLst>
                    <a:path w="22" h="19">
                      <a:moveTo>
                        <a:pt x="7" y="19"/>
                      </a:moveTo>
                      <a:lnTo>
                        <a:pt x="0" y="11"/>
                      </a:lnTo>
                      <a:lnTo>
                        <a:pt x="2" y="4"/>
                      </a:lnTo>
                      <a:lnTo>
                        <a:pt x="6" y="0"/>
                      </a:lnTo>
                      <a:lnTo>
                        <a:pt x="13" y="0"/>
                      </a:lnTo>
                      <a:lnTo>
                        <a:pt x="22" y="3"/>
                      </a:lnTo>
                      <a:lnTo>
                        <a:pt x="7"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grpSp>
        <p:nvGrpSpPr>
          <p:cNvPr id="272" name=""/>
          <p:cNvGrpSpPr/>
          <p:nvPr/>
        </p:nvGrpSpPr>
        <p:grpSpPr>
          <a:xfrm>
            <a:off x="511560" y="1676520"/>
            <a:ext cx="1765800" cy="2001600"/>
            <a:chOff x="511560" y="1676520"/>
            <a:chExt cx="1765800" cy="2001600"/>
          </a:xfrm>
        </p:grpSpPr>
        <p:sp>
          <p:nvSpPr>
            <p:cNvPr id="273" name=""/>
            <p:cNvSpPr/>
            <p:nvPr/>
          </p:nvSpPr>
          <p:spPr>
            <a:xfrm>
              <a:off x="511560" y="3157560"/>
              <a:ext cx="176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halation</a:t>
              </a:r>
              <a:endParaRPr b="0" lang="en-US" sz="2800" spc="-1" strike="noStrike">
                <a:solidFill>
                  <a:srgbClr val="000000"/>
                </a:solidFill>
                <a:latin typeface="Arial"/>
              </a:endParaRPr>
            </a:p>
          </p:txBody>
        </p:sp>
        <p:grpSp>
          <p:nvGrpSpPr>
            <p:cNvPr id="274" name=""/>
            <p:cNvGrpSpPr/>
            <p:nvPr/>
          </p:nvGrpSpPr>
          <p:grpSpPr>
            <a:xfrm>
              <a:off x="822240" y="1676520"/>
              <a:ext cx="1027080" cy="1334880"/>
              <a:chOff x="822240" y="1676520"/>
              <a:chExt cx="1027080" cy="1334880"/>
            </a:xfrm>
          </p:grpSpPr>
          <p:sp>
            <p:nvSpPr>
              <p:cNvPr id="275" name=""/>
              <p:cNvSpPr/>
              <p:nvPr/>
            </p:nvSpPr>
            <p:spPr>
              <a:xfrm>
                <a:off x="873000" y="1676520"/>
                <a:ext cx="976320" cy="1271520"/>
              </a:xfrm>
              <a:custGeom>
                <a:avLst/>
                <a:gdLst/>
                <a:ahLst/>
                <a:rect l="l" t="t" r="r" b="b"/>
                <a:pathLst>
                  <a:path w="1846" h="2404">
                    <a:moveTo>
                      <a:pt x="1124" y="0"/>
                    </a:moveTo>
                    <a:lnTo>
                      <a:pt x="1680" y="512"/>
                    </a:lnTo>
                    <a:lnTo>
                      <a:pt x="1846" y="1882"/>
                    </a:lnTo>
                    <a:lnTo>
                      <a:pt x="1664" y="2140"/>
                    </a:lnTo>
                    <a:lnTo>
                      <a:pt x="1132" y="2140"/>
                    </a:lnTo>
                    <a:lnTo>
                      <a:pt x="481" y="2404"/>
                    </a:lnTo>
                    <a:lnTo>
                      <a:pt x="211" y="2354"/>
                    </a:lnTo>
                    <a:lnTo>
                      <a:pt x="0" y="2016"/>
                    </a:lnTo>
                    <a:lnTo>
                      <a:pt x="327" y="1420"/>
                    </a:lnTo>
                    <a:lnTo>
                      <a:pt x="795" y="412"/>
                    </a:lnTo>
                    <a:lnTo>
                      <a:pt x="1124" y="0"/>
                    </a:lnTo>
                    <a:lnTo>
                      <a:pt x="1124"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822240" y="1676520"/>
                <a:ext cx="1027080" cy="1334880"/>
              </a:xfrm>
              <a:custGeom>
                <a:avLst/>
                <a:gdLst/>
                <a:ahLst/>
                <a:rect l="l" t="t" r="r" b="b"/>
                <a:pathLst>
                  <a:path w="1941" h="2523">
                    <a:moveTo>
                      <a:pt x="1212" y="0"/>
                    </a:moveTo>
                    <a:lnTo>
                      <a:pt x="1081" y="102"/>
                    </a:lnTo>
                    <a:lnTo>
                      <a:pt x="920" y="264"/>
                    </a:lnTo>
                    <a:lnTo>
                      <a:pt x="795" y="449"/>
                    </a:lnTo>
                    <a:lnTo>
                      <a:pt x="620" y="794"/>
                    </a:lnTo>
                    <a:lnTo>
                      <a:pt x="445" y="1147"/>
                    </a:lnTo>
                    <a:lnTo>
                      <a:pt x="256" y="1464"/>
                    </a:lnTo>
                    <a:lnTo>
                      <a:pt x="87" y="1721"/>
                    </a:lnTo>
                    <a:lnTo>
                      <a:pt x="28" y="1846"/>
                    </a:lnTo>
                    <a:lnTo>
                      <a:pt x="7" y="1957"/>
                    </a:lnTo>
                    <a:lnTo>
                      <a:pt x="0" y="2030"/>
                    </a:lnTo>
                    <a:lnTo>
                      <a:pt x="37" y="2163"/>
                    </a:lnTo>
                    <a:lnTo>
                      <a:pt x="122" y="2296"/>
                    </a:lnTo>
                    <a:lnTo>
                      <a:pt x="233" y="2404"/>
                    </a:lnTo>
                    <a:lnTo>
                      <a:pt x="344" y="2479"/>
                    </a:lnTo>
                    <a:lnTo>
                      <a:pt x="452" y="2517"/>
                    </a:lnTo>
                    <a:lnTo>
                      <a:pt x="540" y="2523"/>
                    </a:lnTo>
                    <a:lnTo>
                      <a:pt x="613" y="2509"/>
                    </a:lnTo>
                    <a:lnTo>
                      <a:pt x="766" y="2429"/>
                    </a:lnTo>
                    <a:lnTo>
                      <a:pt x="947" y="2339"/>
                    </a:lnTo>
                    <a:lnTo>
                      <a:pt x="1182" y="2273"/>
                    </a:lnTo>
                    <a:lnTo>
                      <a:pt x="1401" y="2244"/>
                    </a:lnTo>
                    <a:lnTo>
                      <a:pt x="1634" y="2252"/>
                    </a:lnTo>
                    <a:lnTo>
                      <a:pt x="1759" y="2252"/>
                    </a:lnTo>
                    <a:lnTo>
                      <a:pt x="1853" y="2222"/>
                    </a:lnTo>
                    <a:lnTo>
                      <a:pt x="1905" y="2140"/>
                    </a:lnTo>
                    <a:lnTo>
                      <a:pt x="1934" y="2000"/>
                    </a:lnTo>
                    <a:lnTo>
                      <a:pt x="1941" y="1854"/>
                    </a:lnTo>
                    <a:lnTo>
                      <a:pt x="1905" y="1669"/>
                    </a:lnTo>
                    <a:lnTo>
                      <a:pt x="1833" y="1531"/>
                    </a:lnTo>
                    <a:lnTo>
                      <a:pt x="1722" y="1434"/>
                    </a:lnTo>
                    <a:lnTo>
                      <a:pt x="1577" y="1376"/>
                    </a:lnTo>
                    <a:lnTo>
                      <a:pt x="1453" y="1384"/>
                    </a:lnTo>
                    <a:lnTo>
                      <a:pt x="1350" y="1427"/>
                    </a:lnTo>
                    <a:lnTo>
                      <a:pt x="1284" y="1485"/>
                    </a:lnTo>
                    <a:lnTo>
                      <a:pt x="1227" y="1566"/>
                    </a:lnTo>
                    <a:lnTo>
                      <a:pt x="1189" y="1663"/>
                    </a:lnTo>
                    <a:lnTo>
                      <a:pt x="1204" y="1714"/>
                    </a:lnTo>
                    <a:lnTo>
                      <a:pt x="1241" y="1736"/>
                    </a:lnTo>
                    <a:lnTo>
                      <a:pt x="1307" y="1730"/>
                    </a:lnTo>
                    <a:lnTo>
                      <a:pt x="1350" y="1684"/>
                    </a:lnTo>
                    <a:lnTo>
                      <a:pt x="1415" y="1609"/>
                    </a:lnTo>
                    <a:lnTo>
                      <a:pt x="1496" y="1589"/>
                    </a:lnTo>
                    <a:lnTo>
                      <a:pt x="1577" y="1602"/>
                    </a:lnTo>
                    <a:lnTo>
                      <a:pt x="1664" y="1649"/>
                    </a:lnTo>
                    <a:lnTo>
                      <a:pt x="1729" y="1736"/>
                    </a:lnTo>
                    <a:lnTo>
                      <a:pt x="1752" y="1838"/>
                    </a:lnTo>
                    <a:lnTo>
                      <a:pt x="1738" y="1987"/>
                    </a:lnTo>
                    <a:lnTo>
                      <a:pt x="1715" y="2045"/>
                    </a:lnTo>
                    <a:lnTo>
                      <a:pt x="1679" y="2060"/>
                    </a:lnTo>
                    <a:lnTo>
                      <a:pt x="1314" y="2060"/>
                    </a:lnTo>
                    <a:lnTo>
                      <a:pt x="1081" y="2088"/>
                    </a:lnTo>
                    <a:lnTo>
                      <a:pt x="882" y="2156"/>
                    </a:lnTo>
                    <a:lnTo>
                      <a:pt x="701" y="2259"/>
                    </a:lnTo>
                    <a:lnTo>
                      <a:pt x="597" y="2296"/>
                    </a:lnTo>
                    <a:lnTo>
                      <a:pt x="518" y="2296"/>
                    </a:lnTo>
                    <a:lnTo>
                      <a:pt x="408" y="2252"/>
                    </a:lnTo>
                    <a:lnTo>
                      <a:pt x="321" y="2179"/>
                    </a:lnTo>
                    <a:lnTo>
                      <a:pt x="256" y="2104"/>
                    </a:lnTo>
                    <a:lnTo>
                      <a:pt x="233" y="2053"/>
                    </a:lnTo>
                    <a:lnTo>
                      <a:pt x="219" y="1980"/>
                    </a:lnTo>
                    <a:lnTo>
                      <a:pt x="226" y="1929"/>
                    </a:lnTo>
                    <a:lnTo>
                      <a:pt x="247" y="1854"/>
                    </a:lnTo>
                    <a:lnTo>
                      <a:pt x="402" y="1602"/>
                    </a:lnTo>
                    <a:lnTo>
                      <a:pt x="525" y="1391"/>
                    </a:lnTo>
                    <a:lnTo>
                      <a:pt x="635" y="1170"/>
                    </a:lnTo>
                    <a:lnTo>
                      <a:pt x="744" y="964"/>
                    </a:lnTo>
                    <a:lnTo>
                      <a:pt x="839" y="749"/>
                    </a:lnTo>
                    <a:lnTo>
                      <a:pt x="943" y="566"/>
                    </a:lnTo>
                    <a:lnTo>
                      <a:pt x="1028" y="426"/>
                    </a:lnTo>
                    <a:lnTo>
                      <a:pt x="1139" y="310"/>
                    </a:lnTo>
                    <a:lnTo>
                      <a:pt x="1241" y="206"/>
                    </a:lnTo>
                    <a:lnTo>
                      <a:pt x="1292" y="154"/>
                    </a:lnTo>
                    <a:lnTo>
                      <a:pt x="1300" y="89"/>
                    </a:lnTo>
                    <a:lnTo>
                      <a:pt x="1277" y="44"/>
                    </a:lnTo>
                    <a:lnTo>
                      <a:pt x="1241" y="7"/>
                    </a:lnTo>
                    <a:lnTo>
                      <a:pt x="1212" y="0"/>
                    </a:lnTo>
                    <a:lnTo>
                      <a:pt x="1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7" name=""/>
          <p:cNvGrpSpPr/>
          <p:nvPr/>
        </p:nvGrpSpPr>
        <p:grpSpPr>
          <a:xfrm>
            <a:off x="2532240" y="1644480"/>
            <a:ext cx="1901160" cy="2033640"/>
            <a:chOff x="2532240" y="1644480"/>
            <a:chExt cx="1901160" cy="2033640"/>
          </a:xfrm>
        </p:grpSpPr>
        <p:sp>
          <p:nvSpPr>
            <p:cNvPr id="278" name=""/>
            <p:cNvSpPr/>
            <p:nvPr/>
          </p:nvSpPr>
          <p:spPr>
            <a:xfrm>
              <a:off x="3747960" y="3084480"/>
              <a:ext cx="6480" cy="9720"/>
            </a:xfrm>
            <a:custGeom>
              <a:avLst/>
              <a:gdLst/>
              <a:ahLst/>
              <a:rect l="l" t="t" r="r" b="b"/>
              <a:pathLst>
                <a:path w="4" h="6">
                  <a:moveTo>
                    <a:pt x="4" y="0"/>
                  </a:moveTo>
                  <a:lnTo>
                    <a:pt x="4" y="2"/>
                  </a:lnTo>
                  <a:lnTo>
                    <a:pt x="4" y="2"/>
                  </a:lnTo>
                  <a:lnTo>
                    <a:pt x="2" y="2"/>
                  </a:lnTo>
                  <a:lnTo>
                    <a:pt x="2" y="4"/>
                  </a:lnTo>
                  <a:lnTo>
                    <a:pt x="2" y="4"/>
                  </a:lnTo>
                  <a:lnTo>
                    <a:pt x="2" y="4"/>
                  </a:lnTo>
                  <a:lnTo>
                    <a:pt x="2" y="6"/>
                  </a:lnTo>
                  <a:lnTo>
                    <a:pt x="0" y="6"/>
                  </a:lnTo>
                  <a:lnTo>
                    <a:pt x="0" y="6"/>
                  </a:lnTo>
                  <a:lnTo>
                    <a:pt x="0" y="6"/>
                  </a:lnTo>
                  <a:lnTo>
                    <a:pt x="0" y="6"/>
                  </a:lnTo>
                  <a:lnTo>
                    <a:pt x="0" y="6"/>
                  </a:lnTo>
                  <a:lnTo>
                    <a:pt x="0" y="6"/>
                  </a:lnTo>
                  <a:lnTo>
                    <a:pt x="0" y="6"/>
                  </a:lnTo>
                  <a:lnTo>
                    <a:pt x="0" y="6"/>
                  </a:lnTo>
                  <a:lnTo>
                    <a:pt x="0" y="6"/>
                  </a:lnTo>
                  <a:lnTo>
                    <a:pt x="0" y="6"/>
                  </a:lnTo>
                  <a:lnTo>
                    <a:pt x="0" y="4"/>
                  </a:lnTo>
                  <a:lnTo>
                    <a:pt x="0" y="4"/>
                  </a:lnTo>
                  <a:lnTo>
                    <a:pt x="0" y="4"/>
                  </a:lnTo>
                  <a:lnTo>
                    <a:pt x="0" y="4"/>
                  </a:lnTo>
                  <a:lnTo>
                    <a:pt x="0" y="2"/>
                  </a:lnTo>
                  <a:lnTo>
                    <a:pt x="0" y="2"/>
                  </a:lnTo>
                  <a:lnTo>
                    <a:pt x="0" y="2"/>
                  </a:lnTo>
                  <a:lnTo>
                    <a:pt x="0" y="2"/>
                  </a:lnTo>
                  <a:lnTo>
                    <a:pt x="2" y="2"/>
                  </a:lnTo>
                  <a:lnTo>
                    <a:pt x="2" y="2"/>
                  </a:lnTo>
                  <a:lnTo>
                    <a:pt x="2" y="2"/>
                  </a:lnTo>
                  <a:lnTo>
                    <a:pt x="2" y="2"/>
                  </a:lnTo>
                  <a:lnTo>
                    <a:pt x="4" y="2"/>
                  </a:lnTo>
                  <a:lnTo>
                    <a:pt x="4" y="2"/>
                  </a:lnTo>
                  <a:lnTo>
                    <a:pt x="4" y="0"/>
                  </a:lnTo>
                  <a:close/>
                </a:path>
              </a:pathLst>
            </a:custGeom>
            <a:solidFill>
              <a:srgbClr val="e5b2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9" name=""/>
            <p:cNvSpPr/>
            <p:nvPr/>
          </p:nvSpPr>
          <p:spPr>
            <a:xfrm>
              <a:off x="2532240" y="315756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orption</a:t>
              </a:r>
              <a:endParaRPr b="0" lang="en-US" sz="2800" spc="-1" strike="noStrike">
                <a:solidFill>
                  <a:srgbClr val="000000"/>
                </a:solidFill>
                <a:latin typeface="Arial"/>
              </a:endParaRPr>
            </a:p>
          </p:txBody>
        </p:sp>
        <p:grpSp>
          <p:nvGrpSpPr>
            <p:cNvPr id="280" name=""/>
            <p:cNvGrpSpPr/>
            <p:nvPr/>
          </p:nvGrpSpPr>
          <p:grpSpPr>
            <a:xfrm>
              <a:off x="2643120" y="1644480"/>
              <a:ext cx="1749240" cy="1511640"/>
              <a:chOff x="2643120" y="1644480"/>
              <a:chExt cx="1749240" cy="1511640"/>
            </a:xfrm>
          </p:grpSpPr>
          <p:grpSp>
            <p:nvGrpSpPr>
              <p:cNvPr id="281" name=""/>
              <p:cNvGrpSpPr/>
              <p:nvPr/>
            </p:nvGrpSpPr>
            <p:grpSpPr>
              <a:xfrm>
                <a:off x="2960640" y="1741680"/>
                <a:ext cx="1431720" cy="1414440"/>
                <a:chOff x="2960640" y="1741680"/>
                <a:chExt cx="1431720" cy="1414440"/>
              </a:xfrm>
            </p:grpSpPr>
            <p:sp>
              <p:nvSpPr>
                <p:cNvPr id="282" name=""/>
                <p:cNvSpPr/>
                <p:nvPr/>
              </p:nvSpPr>
              <p:spPr>
                <a:xfrm>
                  <a:off x="2960640" y="1741680"/>
                  <a:ext cx="1428480" cy="1352520"/>
                </a:xfrm>
                <a:custGeom>
                  <a:avLst/>
                  <a:gdLst/>
                  <a:ahLst/>
                  <a:rect l="l" t="t" r="r" b="b"/>
                  <a:pathLst>
                    <a:path w="1800" h="1704">
                      <a:moveTo>
                        <a:pt x="0" y="1161"/>
                      </a:moveTo>
                      <a:lnTo>
                        <a:pt x="353" y="867"/>
                      </a:lnTo>
                      <a:lnTo>
                        <a:pt x="488" y="709"/>
                      </a:lnTo>
                      <a:lnTo>
                        <a:pt x="810" y="433"/>
                      </a:lnTo>
                      <a:lnTo>
                        <a:pt x="1101" y="288"/>
                      </a:lnTo>
                      <a:lnTo>
                        <a:pt x="1521" y="70"/>
                      </a:lnTo>
                      <a:lnTo>
                        <a:pt x="1800" y="0"/>
                      </a:lnTo>
                      <a:lnTo>
                        <a:pt x="1772" y="94"/>
                      </a:lnTo>
                      <a:lnTo>
                        <a:pt x="1390" y="270"/>
                      </a:lnTo>
                      <a:lnTo>
                        <a:pt x="1260" y="401"/>
                      </a:lnTo>
                      <a:lnTo>
                        <a:pt x="1509" y="410"/>
                      </a:lnTo>
                      <a:lnTo>
                        <a:pt x="1439" y="512"/>
                      </a:lnTo>
                      <a:lnTo>
                        <a:pt x="1460" y="582"/>
                      </a:lnTo>
                      <a:lnTo>
                        <a:pt x="1439" y="652"/>
                      </a:lnTo>
                      <a:lnTo>
                        <a:pt x="1439" y="730"/>
                      </a:lnTo>
                      <a:lnTo>
                        <a:pt x="1380" y="830"/>
                      </a:lnTo>
                      <a:lnTo>
                        <a:pt x="1361" y="974"/>
                      </a:lnTo>
                      <a:lnTo>
                        <a:pt x="1270" y="1061"/>
                      </a:lnTo>
                      <a:lnTo>
                        <a:pt x="1125" y="1131"/>
                      </a:lnTo>
                      <a:lnTo>
                        <a:pt x="976" y="1118"/>
                      </a:lnTo>
                      <a:lnTo>
                        <a:pt x="637" y="1178"/>
                      </a:lnTo>
                      <a:lnTo>
                        <a:pt x="635" y="1180"/>
                      </a:lnTo>
                      <a:lnTo>
                        <a:pt x="631" y="1184"/>
                      </a:lnTo>
                      <a:lnTo>
                        <a:pt x="626" y="1187"/>
                      </a:lnTo>
                      <a:lnTo>
                        <a:pt x="623" y="1192"/>
                      </a:lnTo>
                      <a:lnTo>
                        <a:pt x="619" y="1196"/>
                      </a:lnTo>
                      <a:lnTo>
                        <a:pt x="614" y="1202"/>
                      </a:lnTo>
                      <a:lnTo>
                        <a:pt x="608" y="1207"/>
                      </a:lnTo>
                      <a:lnTo>
                        <a:pt x="601" y="1214"/>
                      </a:lnTo>
                      <a:lnTo>
                        <a:pt x="594" y="1220"/>
                      </a:lnTo>
                      <a:lnTo>
                        <a:pt x="588" y="1229"/>
                      </a:lnTo>
                      <a:lnTo>
                        <a:pt x="579" y="1236"/>
                      </a:lnTo>
                      <a:lnTo>
                        <a:pt x="571" y="1245"/>
                      </a:lnTo>
                      <a:lnTo>
                        <a:pt x="562" y="1254"/>
                      </a:lnTo>
                      <a:lnTo>
                        <a:pt x="555" y="1263"/>
                      </a:lnTo>
                      <a:lnTo>
                        <a:pt x="545" y="1273"/>
                      </a:lnTo>
                      <a:lnTo>
                        <a:pt x="534" y="1282"/>
                      </a:lnTo>
                      <a:lnTo>
                        <a:pt x="524" y="1293"/>
                      </a:lnTo>
                      <a:lnTo>
                        <a:pt x="515" y="1305"/>
                      </a:lnTo>
                      <a:lnTo>
                        <a:pt x="503" y="1315"/>
                      </a:lnTo>
                      <a:lnTo>
                        <a:pt x="493" y="1327"/>
                      </a:lnTo>
                      <a:lnTo>
                        <a:pt x="481" y="1339"/>
                      </a:lnTo>
                      <a:lnTo>
                        <a:pt x="469" y="1351"/>
                      </a:lnTo>
                      <a:lnTo>
                        <a:pt x="459" y="1361"/>
                      </a:lnTo>
                      <a:lnTo>
                        <a:pt x="447" y="1374"/>
                      </a:lnTo>
                      <a:lnTo>
                        <a:pt x="435" y="1386"/>
                      </a:lnTo>
                      <a:lnTo>
                        <a:pt x="423" y="1398"/>
                      </a:lnTo>
                      <a:lnTo>
                        <a:pt x="410" y="1411"/>
                      </a:lnTo>
                      <a:lnTo>
                        <a:pt x="398" y="1425"/>
                      </a:lnTo>
                      <a:lnTo>
                        <a:pt x="386" y="1437"/>
                      </a:lnTo>
                      <a:lnTo>
                        <a:pt x="374" y="1450"/>
                      </a:lnTo>
                      <a:lnTo>
                        <a:pt x="361" y="1462"/>
                      </a:lnTo>
                      <a:lnTo>
                        <a:pt x="349" y="1474"/>
                      </a:lnTo>
                      <a:lnTo>
                        <a:pt x="335" y="1486"/>
                      </a:lnTo>
                      <a:lnTo>
                        <a:pt x="323" y="1499"/>
                      </a:lnTo>
                      <a:lnTo>
                        <a:pt x="312" y="1511"/>
                      </a:lnTo>
                      <a:lnTo>
                        <a:pt x="300" y="1523"/>
                      </a:lnTo>
                      <a:lnTo>
                        <a:pt x="288" y="1535"/>
                      </a:lnTo>
                      <a:lnTo>
                        <a:pt x="277" y="1546"/>
                      </a:lnTo>
                      <a:lnTo>
                        <a:pt x="266" y="1558"/>
                      </a:lnTo>
                      <a:lnTo>
                        <a:pt x="254" y="1569"/>
                      </a:lnTo>
                      <a:lnTo>
                        <a:pt x="243" y="1581"/>
                      </a:lnTo>
                      <a:lnTo>
                        <a:pt x="233" y="1591"/>
                      </a:lnTo>
                      <a:lnTo>
                        <a:pt x="221" y="1601"/>
                      </a:lnTo>
                      <a:lnTo>
                        <a:pt x="212" y="1612"/>
                      </a:lnTo>
                      <a:lnTo>
                        <a:pt x="202" y="1621"/>
                      </a:lnTo>
                      <a:lnTo>
                        <a:pt x="193" y="1631"/>
                      </a:lnTo>
                      <a:lnTo>
                        <a:pt x="184" y="1640"/>
                      </a:lnTo>
                      <a:lnTo>
                        <a:pt x="175" y="1647"/>
                      </a:lnTo>
                      <a:lnTo>
                        <a:pt x="166" y="1655"/>
                      </a:lnTo>
                      <a:lnTo>
                        <a:pt x="159" y="1664"/>
                      </a:lnTo>
                      <a:lnTo>
                        <a:pt x="151" y="1670"/>
                      </a:lnTo>
                      <a:lnTo>
                        <a:pt x="144" y="1677"/>
                      </a:lnTo>
                      <a:lnTo>
                        <a:pt x="138" y="1681"/>
                      </a:lnTo>
                      <a:lnTo>
                        <a:pt x="134" y="1687"/>
                      </a:lnTo>
                      <a:lnTo>
                        <a:pt x="128" y="1692"/>
                      </a:lnTo>
                      <a:lnTo>
                        <a:pt x="123" y="1695"/>
                      </a:lnTo>
                      <a:lnTo>
                        <a:pt x="119" y="1698"/>
                      </a:lnTo>
                      <a:lnTo>
                        <a:pt x="117" y="1701"/>
                      </a:lnTo>
                      <a:lnTo>
                        <a:pt x="113" y="1704"/>
                      </a:lnTo>
                      <a:lnTo>
                        <a:pt x="111" y="1704"/>
                      </a:lnTo>
                      <a:lnTo>
                        <a:pt x="111" y="1701"/>
                      </a:lnTo>
                      <a:lnTo>
                        <a:pt x="111" y="1699"/>
                      </a:lnTo>
                      <a:lnTo>
                        <a:pt x="110" y="1696"/>
                      </a:lnTo>
                      <a:lnTo>
                        <a:pt x="110" y="1693"/>
                      </a:lnTo>
                      <a:lnTo>
                        <a:pt x="108" y="1689"/>
                      </a:lnTo>
                      <a:lnTo>
                        <a:pt x="107" y="1684"/>
                      </a:lnTo>
                      <a:lnTo>
                        <a:pt x="107" y="1678"/>
                      </a:lnTo>
                      <a:lnTo>
                        <a:pt x="105" y="1673"/>
                      </a:lnTo>
                      <a:lnTo>
                        <a:pt x="104" y="1667"/>
                      </a:lnTo>
                      <a:lnTo>
                        <a:pt x="102" y="1659"/>
                      </a:lnTo>
                      <a:lnTo>
                        <a:pt x="101" y="1652"/>
                      </a:lnTo>
                      <a:lnTo>
                        <a:pt x="99" y="1644"/>
                      </a:lnTo>
                      <a:lnTo>
                        <a:pt x="98" y="1635"/>
                      </a:lnTo>
                      <a:lnTo>
                        <a:pt x="96" y="1628"/>
                      </a:lnTo>
                      <a:lnTo>
                        <a:pt x="95" y="1618"/>
                      </a:lnTo>
                      <a:lnTo>
                        <a:pt x="93" y="1609"/>
                      </a:lnTo>
                      <a:lnTo>
                        <a:pt x="91" y="1598"/>
                      </a:lnTo>
                      <a:lnTo>
                        <a:pt x="89" y="1588"/>
                      </a:lnTo>
                      <a:lnTo>
                        <a:pt x="86" y="1578"/>
                      </a:lnTo>
                      <a:lnTo>
                        <a:pt x="85" y="1567"/>
                      </a:lnTo>
                      <a:lnTo>
                        <a:pt x="82" y="1555"/>
                      </a:lnTo>
                      <a:lnTo>
                        <a:pt x="79" y="1545"/>
                      </a:lnTo>
                      <a:lnTo>
                        <a:pt x="77" y="1533"/>
                      </a:lnTo>
                      <a:lnTo>
                        <a:pt x="74" y="1521"/>
                      </a:lnTo>
                      <a:lnTo>
                        <a:pt x="71" y="1509"/>
                      </a:lnTo>
                      <a:lnTo>
                        <a:pt x="70" y="1496"/>
                      </a:lnTo>
                      <a:lnTo>
                        <a:pt x="67" y="1484"/>
                      </a:lnTo>
                      <a:lnTo>
                        <a:pt x="65" y="1472"/>
                      </a:lnTo>
                      <a:lnTo>
                        <a:pt x="62" y="1460"/>
                      </a:lnTo>
                      <a:lnTo>
                        <a:pt x="59" y="1447"/>
                      </a:lnTo>
                      <a:lnTo>
                        <a:pt x="56" y="1435"/>
                      </a:lnTo>
                      <a:lnTo>
                        <a:pt x="55" y="1423"/>
                      </a:lnTo>
                      <a:lnTo>
                        <a:pt x="52" y="1410"/>
                      </a:lnTo>
                      <a:lnTo>
                        <a:pt x="49" y="1398"/>
                      </a:lnTo>
                      <a:lnTo>
                        <a:pt x="46" y="1386"/>
                      </a:lnTo>
                      <a:lnTo>
                        <a:pt x="45" y="1373"/>
                      </a:lnTo>
                      <a:lnTo>
                        <a:pt x="40" y="1361"/>
                      </a:lnTo>
                      <a:lnTo>
                        <a:pt x="39" y="1349"/>
                      </a:lnTo>
                      <a:lnTo>
                        <a:pt x="36" y="1337"/>
                      </a:lnTo>
                      <a:lnTo>
                        <a:pt x="34" y="1325"/>
                      </a:lnTo>
                      <a:lnTo>
                        <a:pt x="31" y="1313"/>
                      </a:lnTo>
                      <a:lnTo>
                        <a:pt x="30" y="1303"/>
                      </a:lnTo>
                      <a:lnTo>
                        <a:pt x="27" y="1291"/>
                      </a:lnTo>
                      <a:lnTo>
                        <a:pt x="25" y="1281"/>
                      </a:lnTo>
                      <a:lnTo>
                        <a:pt x="22" y="1270"/>
                      </a:lnTo>
                      <a:lnTo>
                        <a:pt x="21" y="1260"/>
                      </a:lnTo>
                      <a:lnTo>
                        <a:pt x="18" y="1251"/>
                      </a:lnTo>
                      <a:lnTo>
                        <a:pt x="16" y="1241"/>
                      </a:lnTo>
                      <a:lnTo>
                        <a:pt x="15" y="1232"/>
                      </a:lnTo>
                      <a:lnTo>
                        <a:pt x="12" y="1223"/>
                      </a:lnTo>
                      <a:lnTo>
                        <a:pt x="10" y="1214"/>
                      </a:lnTo>
                      <a:lnTo>
                        <a:pt x="9" y="1207"/>
                      </a:lnTo>
                      <a:lnTo>
                        <a:pt x="7" y="1199"/>
                      </a:lnTo>
                      <a:lnTo>
                        <a:pt x="6" y="1193"/>
                      </a:lnTo>
                      <a:lnTo>
                        <a:pt x="4" y="1187"/>
                      </a:lnTo>
                      <a:lnTo>
                        <a:pt x="3" y="1181"/>
                      </a:lnTo>
                      <a:lnTo>
                        <a:pt x="1" y="1177"/>
                      </a:lnTo>
                      <a:lnTo>
                        <a:pt x="1" y="1172"/>
                      </a:lnTo>
                      <a:lnTo>
                        <a:pt x="0" y="1168"/>
                      </a:lnTo>
                      <a:lnTo>
                        <a:pt x="0" y="1165"/>
                      </a:lnTo>
                      <a:lnTo>
                        <a:pt x="0" y="1161"/>
                      </a:lnTo>
                      <a:lnTo>
                        <a:pt x="0" y="1161"/>
                      </a:lnTo>
                      <a:lnTo>
                        <a:pt x="0" y="1161"/>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984400" y="1773360"/>
                  <a:ext cx="1400040" cy="1380960"/>
                </a:xfrm>
                <a:custGeom>
                  <a:avLst/>
                  <a:gdLst/>
                  <a:ahLst/>
                  <a:rect l="l" t="t" r="r" b="b"/>
                  <a:pathLst>
                    <a:path w="1764" h="1739">
                      <a:moveTo>
                        <a:pt x="0" y="1276"/>
                      </a:moveTo>
                      <a:lnTo>
                        <a:pt x="0" y="1275"/>
                      </a:lnTo>
                      <a:lnTo>
                        <a:pt x="1" y="1273"/>
                      </a:lnTo>
                      <a:lnTo>
                        <a:pt x="3" y="1270"/>
                      </a:lnTo>
                      <a:lnTo>
                        <a:pt x="7" y="1267"/>
                      </a:lnTo>
                      <a:lnTo>
                        <a:pt x="10" y="1262"/>
                      </a:lnTo>
                      <a:lnTo>
                        <a:pt x="16" y="1257"/>
                      </a:lnTo>
                      <a:lnTo>
                        <a:pt x="17" y="1253"/>
                      </a:lnTo>
                      <a:lnTo>
                        <a:pt x="20" y="1250"/>
                      </a:lnTo>
                      <a:lnTo>
                        <a:pt x="23" y="1245"/>
                      </a:lnTo>
                      <a:lnTo>
                        <a:pt x="28" y="1242"/>
                      </a:lnTo>
                      <a:lnTo>
                        <a:pt x="31" y="1238"/>
                      </a:lnTo>
                      <a:lnTo>
                        <a:pt x="34" y="1235"/>
                      </a:lnTo>
                      <a:lnTo>
                        <a:pt x="37" y="1230"/>
                      </a:lnTo>
                      <a:lnTo>
                        <a:pt x="41" y="1226"/>
                      </a:lnTo>
                      <a:lnTo>
                        <a:pt x="44" y="1220"/>
                      </a:lnTo>
                      <a:lnTo>
                        <a:pt x="49" y="1216"/>
                      </a:lnTo>
                      <a:lnTo>
                        <a:pt x="53" y="1211"/>
                      </a:lnTo>
                      <a:lnTo>
                        <a:pt x="58" y="1205"/>
                      </a:lnTo>
                      <a:lnTo>
                        <a:pt x="62" y="1201"/>
                      </a:lnTo>
                      <a:lnTo>
                        <a:pt x="66" y="1195"/>
                      </a:lnTo>
                      <a:lnTo>
                        <a:pt x="71" y="1189"/>
                      </a:lnTo>
                      <a:lnTo>
                        <a:pt x="77" y="1184"/>
                      </a:lnTo>
                      <a:lnTo>
                        <a:pt x="81" y="1178"/>
                      </a:lnTo>
                      <a:lnTo>
                        <a:pt x="86" y="1173"/>
                      </a:lnTo>
                      <a:lnTo>
                        <a:pt x="92" y="1167"/>
                      </a:lnTo>
                      <a:lnTo>
                        <a:pt x="96" y="1162"/>
                      </a:lnTo>
                      <a:lnTo>
                        <a:pt x="102" y="1155"/>
                      </a:lnTo>
                      <a:lnTo>
                        <a:pt x="107" y="1149"/>
                      </a:lnTo>
                      <a:lnTo>
                        <a:pt x="112" y="1143"/>
                      </a:lnTo>
                      <a:lnTo>
                        <a:pt x="118" y="1137"/>
                      </a:lnTo>
                      <a:lnTo>
                        <a:pt x="123" y="1129"/>
                      </a:lnTo>
                      <a:lnTo>
                        <a:pt x="129" y="1124"/>
                      </a:lnTo>
                      <a:lnTo>
                        <a:pt x="135" y="1118"/>
                      </a:lnTo>
                      <a:lnTo>
                        <a:pt x="141" y="1110"/>
                      </a:lnTo>
                      <a:lnTo>
                        <a:pt x="147" y="1104"/>
                      </a:lnTo>
                      <a:lnTo>
                        <a:pt x="153" y="1098"/>
                      </a:lnTo>
                      <a:lnTo>
                        <a:pt x="157" y="1091"/>
                      </a:lnTo>
                      <a:lnTo>
                        <a:pt x="163" y="1085"/>
                      </a:lnTo>
                      <a:lnTo>
                        <a:pt x="169" y="1078"/>
                      </a:lnTo>
                      <a:lnTo>
                        <a:pt x="175" y="1072"/>
                      </a:lnTo>
                      <a:lnTo>
                        <a:pt x="182" y="1064"/>
                      </a:lnTo>
                      <a:lnTo>
                        <a:pt x="188" y="1060"/>
                      </a:lnTo>
                      <a:lnTo>
                        <a:pt x="193" y="1052"/>
                      </a:lnTo>
                      <a:lnTo>
                        <a:pt x="200" y="1046"/>
                      </a:lnTo>
                      <a:lnTo>
                        <a:pt x="206" y="1039"/>
                      </a:lnTo>
                      <a:lnTo>
                        <a:pt x="212" y="1033"/>
                      </a:lnTo>
                      <a:lnTo>
                        <a:pt x="218" y="1027"/>
                      </a:lnTo>
                      <a:lnTo>
                        <a:pt x="224" y="1021"/>
                      </a:lnTo>
                      <a:lnTo>
                        <a:pt x="230" y="1015"/>
                      </a:lnTo>
                      <a:lnTo>
                        <a:pt x="236" y="1009"/>
                      </a:lnTo>
                      <a:lnTo>
                        <a:pt x="242" y="1003"/>
                      </a:lnTo>
                      <a:lnTo>
                        <a:pt x="247" y="997"/>
                      </a:lnTo>
                      <a:lnTo>
                        <a:pt x="252" y="991"/>
                      </a:lnTo>
                      <a:lnTo>
                        <a:pt x="259" y="986"/>
                      </a:lnTo>
                      <a:lnTo>
                        <a:pt x="264" y="981"/>
                      </a:lnTo>
                      <a:lnTo>
                        <a:pt x="271" y="975"/>
                      </a:lnTo>
                      <a:lnTo>
                        <a:pt x="276" y="971"/>
                      </a:lnTo>
                      <a:lnTo>
                        <a:pt x="282" y="966"/>
                      </a:lnTo>
                      <a:lnTo>
                        <a:pt x="288" y="960"/>
                      </a:lnTo>
                      <a:lnTo>
                        <a:pt x="293" y="956"/>
                      </a:lnTo>
                      <a:lnTo>
                        <a:pt x="298" y="950"/>
                      </a:lnTo>
                      <a:lnTo>
                        <a:pt x="304" y="945"/>
                      </a:lnTo>
                      <a:lnTo>
                        <a:pt x="308" y="941"/>
                      </a:lnTo>
                      <a:lnTo>
                        <a:pt x="313" y="937"/>
                      </a:lnTo>
                      <a:lnTo>
                        <a:pt x="319" y="934"/>
                      </a:lnTo>
                      <a:lnTo>
                        <a:pt x="323" y="929"/>
                      </a:lnTo>
                      <a:lnTo>
                        <a:pt x="328" y="925"/>
                      </a:lnTo>
                      <a:lnTo>
                        <a:pt x="334" y="920"/>
                      </a:lnTo>
                      <a:lnTo>
                        <a:pt x="338" y="917"/>
                      </a:lnTo>
                      <a:lnTo>
                        <a:pt x="342" y="914"/>
                      </a:lnTo>
                      <a:lnTo>
                        <a:pt x="347" y="910"/>
                      </a:lnTo>
                      <a:lnTo>
                        <a:pt x="353" y="907"/>
                      </a:lnTo>
                      <a:lnTo>
                        <a:pt x="357" y="902"/>
                      </a:lnTo>
                      <a:lnTo>
                        <a:pt x="362" y="901"/>
                      </a:lnTo>
                      <a:lnTo>
                        <a:pt x="365" y="897"/>
                      </a:lnTo>
                      <a:lnTo>
                        <a:pt x="369" y="894"/>
                      </a:lnTo>
                      <a:lnTo>
                        <a:pt x="374" y="891"/>
                      </a:lnTo>
                      <a:lnTo>
                        <a:pt x="378" y="889"/>
                      </a:lnTo>
                      <a:lnTo>
                        <a:pt x="383" y="886"/>
                      </a:lnTo>
                      <a:lnTo>
                        <a:pt x="387" y="883"/>
                      </a:lnTo>
                      <a:lnTo>
                        <a:pt x="390" y="880"/>
                      </a:lnTo>
                      <a:lnTo>
                        <a:pt x="394" y="879"/>
                      </a:lnTo>
                      <a:lnTo>
                        <a:pt x="397" y="877"/>
                      </a:lnTo>
                      <a:lnTo>
                        <a:pt x="402" y="874"/>
                      </a:lnTo>
                      <a:lnTo>
                        <a:pt x="405" y="873"/>
                      </a:lnTo>
                      <a:lnTo>
                        <a:pt x="409" y="870"/>
                      </a:lnTo>
                      <a:lnTo>
                        <a:pt x="412" y="868"/>
                      </a:lnTo>
                      <a:lnTo>
                        <a:pt x="415" y="867"/>
                      </a:lnTo>
                      <a:lnTo>
                        <a:pt x="418" y="865"/>
                      </a:lnTo>
                      <a:lnTo>
                        <a:pt x="423" y="864"/>
                      </a:lnTo>
                      <a:lnTo>
                        <a:pt x="429" y="859"/>
                      </a:lnTo>
                      <a:lnTo>
                        <a:pt x="433" y="858"/>
                      </a:lnTo>
                      <a:lnTo>
                        <a:pt x="439" y="855"/>
                      </a:lnTo>
                      <a:lnTo>
                        <a:pt x="443" y="853"/>
                      </a:lnTo>
                      <a:lnTo>
                        <a:pt x="448" y="851"/>
                      </a:lnTo>
                      <a:lnTo>
                        <a:pt x="454" y="849"/>
                      </a:lnTo>
                      <a:lnTo>
                        <a:pt x="457" y="848"/>
                      </a:lnTo>
                      <a:lnTo>
                        <a:pt x="461" y="846"/>
                      </a:lnTo>
                      <a:lnTo>
                        <a:pt x="466" y="845"/>
                      </a:lnTo>
                      <a:lnTo>
                        <a:pt x="472" y="843"/>
                      </a:lnTo>
                      <a:lnTo>
                        <a:pt x="473" y="843"/>
                      </a:lnTo>
                      <a:lnTo>
                        <a:pt x="474" y="843"/>
                      </a:lnTo>
                      <a:lnTo>
                        <a:pt x="474" y="842"/>
                      </a:lnTo>
                      <a:lnTo>
                        <a:pt x="476" y="839"/>
                      </a:lnTo>
                      <a:lnTo>
                        <a:pt x="476" y="836"/>
                      </a:lnTo>
                      <a:lnTo>
                        <a:pt x="476" y="833"/>
                      </a:lnTo>
                      <a:lnTo>
                        <a:pt x="477" y="830"/>
                      </a:lnTo>
                      <a:lnTo>
                        <a:pt x="479" y="827"/>
                      </a:lnTo>
                      <a:lnTo>
                        <a:pt x="479" y="822"/>
                      </a:lnTo>
                      <a:lnTo>
                        <a:pt x="480" y="818"/>
                      </a:lnTo>
                      <a:lnTo>
                        <a:pt x="482" y="813"/>
                      </a:lnTo>
                      <a:lnTo>
                        <a:pt x="485" y="809"/>
                      </a:lnTo>
                      <a:lnTo>
                        <a:pt x="486" y="803"/>
                      </a:lnTo>
                      <a:lnTo>
                        <a:pt x="488" y="797"/>
                      </a:lnTo>
                      <a:lnTo>
                        <a:pt x="491" y="791"/>
                      </a:lnTo>
                      <a:lnTo>
                        <a:pt x="494" y="785"/>
                      </a:lnTo>
                      <a:lnTo>
                        <a:pt x="495" y="782"/>
                      </a:lnTo>
                      <a:lnTo>
                        <a:pt x="495" y="778"/>
                      </a:lnTo>
                      <a:lnTo>
                        <a:pt x="497" y="775"/>
                      </a:lnTo>
                      <a:lnTo>
                        <a:pt x="500" y="772"/>
                      </a:lnTo>
                      <a:lnTo>
                        <a:pt x="500" y="767"/>
                      </a:lnTo>
                      <a:lnTo>
                        <a:pt x="503" y="764"/>
                      </a:lnTo>
                      <a:lnTo>
                        <a:pt x="504" y="760"/>
                      </a:lnTo>
                      <a:lnTo>
                        <a:pt x="506" y="757"/>
                      </a:lnTo>
                      <a:lnTo>
                        <a:pt x="507" y="753"/>
                      </a:lnTo>
                      <a:lnTo>
                        <a:pt x="510" y="750"/>
                      </a:lnTo>
                      <a:lnTo>
                        <a:pt x="512" y="745"/>
                      </a:lnTo>
                      <a:lnTo>
                        <a:pt x="513" y="742"/>
                      </a:lnTo>
                      <a:lnTo>
                        <a:pt x="515" y="738"/>
                      </a:lnTo>
                      <a:lnTo>
                        <a:pt x="518" y="733"/>
                      </a:lnTo>
                      <a:lnTo>
                        <a:pt x="520" y="730"/>
                      </a:lnTo>
                      <a:lnTo>
                        <a:pt x="523" y="726"/>
                      </a:lnTo>
                      <a:lnTo>
                        <a:pt x="525" y="721"/>
                      </a:lnTo>
                      <a:lnTo>
                        <a:pt x="528" y="718"/>
                      </a:lnTo>
                      <a:lnTo>
                        <a:pt x="529" y="714"/>
                      </a:lnTo>
                      <a:lnTo>
                        <a:pt x="534" y="710"/>
                      </a:lnTo>
                      <a:lnTo>
                        <a:pt x="535" y="705"/>
                      </a:lnTo>
                      <a:lnTo>
                        <a:pt x="538" y="702"/>
                      </a:lnTo>
                      <a:lnTo>
                        <a:pt x="541" y="698"/>
                      </a:lnTo>
                      <a:lnTo>
                        <a:pt x="544" y="693"/>
                      </a:lnTo>
                      <a:lnTo>
                        <a:pt x="547" y="689"/>
                      </a:lnTo>
                      <a:lnTo>
                        <a:pt x="550" y="684"/>
                      </a:lnTo>
                      <a:lnTo>
                        <a:pt x="553" y="680"/>
                      </a:lnTo>
                      <a:lnTo>
                        <a:pt x="558" y="677"/>
                      </a:lnTo>
                      <a:lnTo>
                        <a:pt x="561" y="672"/>
                      </a:lnTo>
                      <a:lnTo>
                        <a:pt x="565" y="668"/>
                      </a:lnTo>
                      <a:lnTo>
                        <a:pt x="568" y="664"/>
                      </a:lnTo>
                      <a:lnTo>
                        <a:pt x="572" y="659"/>
                      </a:lnTo>
                      <a:lnTo>
                        <a:pt x="575" y="655"/>
                      </a:lnTo>
                      <a:lnTo>
                        <a:pt x="578" y="650"/>
                      </a:lnTo>
                      <a:lnTo>
                        <a:pt x="583" y="646"/>
                      </a:lnTo>
                      <a:lnTo>
                        <a:pt x="587" y="641"/>
                      </a:lnTo>
                      <a:lnTo>
                        <a:pt x="590" y="637"/>
                      </a:lnTo>
                      <a:lnTo>
                        <a:pt x="595" y="632"/>
                      </a:lnTo>
                      <a:lnTo>
                        <a:pt x="599" y="628"/>
                      </a:lnTo>
                      <a:lnTo>
                        <a:pt x="605" y="623"/>
                      </a:lnTo>
                      <a:lnTo>
                        <a:pt x="608" y="619"/>
                      </a:lnTo>
                      <a:lnTo>
                        <a:pt x="614" y="615"/>
                      </a:lnTo>
                      <a:lnTo>
                        <a:pt x="618" y="610"/>
                      </a:lnTo>
                      <a:lnTo>
                        <a:pt x="623" y="606"/>
                      </a:lnTo>
                      <a:lnTo>
                        <a:pt x="627" y="600"/>
                      </a:lnTo>
                      <a:lnTo>
                        <a:pt x="633" y="595"/>
                      </a:lnTo>
                      <a:lnTo>
                        <a:pt x="638" y="591"/>
                      </a:lnTo>
                      <a:lnTo>
                        <a:pt x="644" y="586"/>
                      </a:lnTo>
                      <a:lnTo>
                        <a:pt x="650" y="582"/>
                      </a:lnTo>
                      <a:lnTo>
                        <a:pt x="654" y="576"/>
                      </a:lnTo>
                      <a:lnTo>
                        <a:pt x="660" y="572"/>
                      </a:lnTo>
                      <a:lnTo>
                        <a:pt x="666" y="567"/>
                      </a:lnTo>
                      <a:lnTo>
                        <a:pt x="672" y="563"/>
                      </a:lnTo>
                      <a:lnTo>
                        <a:pt x="676" y="558"/>
                      </a:lnTo>
                      <a:lnTo>
                        <a:pt x="682" y="552"/>
                      </a:lnTo>
                      <a:lnTo>
                        <a:pt x="688" y="549"/>
                      </a:lnTo>
                      <a:lnTo>
                        <a:pt x="694" y="543"/>
                      </a:lnTo>
                      <a:lnTo>
                        <a:pt x="699" y="539"/>
                      </a:lnTo>
                      <a:lnTo>
                        <a:pt x="704" y="534"/>
                      </a:lnTo>
                      <a:lnTo>
                        <a:pt x="710" y="530"/>
                      </a:lnTo>
                      <a:lnTo>
                        <a:pt x="716" y="526"/>
                      </a:lnTo>
                      <a:lnTo>
                        <a:pt x="722" y="521"/>
                      </a:lnTo>
                      <a:lnTo>
                        <a:pt x="728" y="515"/>
                      </a:lnTo>
                      <a:lnTo>
                        <a:pt x="736" y="511"/>
                      </a:lnTo>
                      <a:lnTo>
                        <a:pt x="740" y="506"/>
                      </a:lnTo>
                      <a:lnTo>
                        <a:pt x="746" y="502"/>
                      </a:lnTo>
                      <a:lnTo>
                        <a:pt x="752" y="497"/>
                      </a:lnTo>
                      <a:lnTo>
                        <a:pt x="758" y="493"/>
                      </a:lnTo>
                      <a:lnTo>
                        <a:pt x="764" y="488"/>
                      </a:lnTo>
                      <a:lnTo>
                        <a:pt x="770" y="484"/>
                      </a:lnTo>
                      <a:lnTo>
                        <a:pt x="776" y="478"/>
                      </a:lnTo>
                      <a:lnTo>
                        <a:pt x="783" y="475"/>
                      </a:lnTo>
                      <a:lnTo>
                        <a:pt x="788" y="469"/>
                      </a:lnTo>
                      <a:lnTo>
                        <a:pt x="795" y="466"/>
                      </a:lnTo>
                      <a:lnTo>
                        <a:pt x="799" y="462"/>
                      </a:lnTo>
                      <a:lnTo>
                        <a:pt x="805" y="457"/>
                      </a:lnTo>
                      <a:lnTo>
                        <a:pt x="811" y="453"/>
                      </a:lnTo>
                      <a:lnTo>
                        <a:pt x="817" y="448"/>
                      </a:lnTo>
                      <a:lnTo>
                        <a:pt x="825" y="444"/>
                      </a:lnTo>
                      <a:lnTo>
                        <a:pt x="831" y="441"/>
                      </a:lnTo>
                      <a:lnTo>
                        <a:pt x="835" y="437"/>
                      </a:lnTo>
                      <a:lnTo>
                        <a:pt x="841" y="432"/>
                      </a:lnTo>
                      <a:lnTo>
                        <a:pt x="847" y="428"/>
                      </a:lnTo>
                      <a:lnTo>
                        <a:pt x="853" y="425"/>
                      </a:lnTo>
                      <a:lnTo>
                        <a:pt x="857" y="420"/>
                      </a:lnTo>
                      <a:lnTo>
                        <a:pt x="863" y="417"/>
                      </a:lnTo>
                      <a:lnTo>
                        <a:pt x="869" y="413"/>
                      </a:lnTo>
                      <a:lnTo>
                        <a:pt x="875" y="410"/>
                      </a:lnTo>
                      <a:lnTo>
                        <a:pt x="881" y="405"/>
                      </a:lnTo>
                      <a:lnTo>
                        <a:pt x="886" y="402"/>
                      </a:lnTo>
                      <a:lnTo>
                        <a:pt x="891" y="398"/>
                      </a:lnTo>
                      <a:lnTo>
                        <a:pt x="896" y="395"/>
                      </a:lnTo>
                      <a:lnTo>
                        <a:pt x="902" y="391"/>
                      </a:lnTo>
                      <a:lnTo>
                        <a:pt x="906" y="388"/>
                      </a:lnTo>
                      <a:lnTo>
                        <a:pt x="911" y="385"/>
                      </a:lnTo>
                      <a:lnTo>
                        <a:pt x="917" y="383"/>
                      </a:lnTo>
                      <a:lnTo>
                        <a:pt x="921" y="379"/>
                      </a:lnTo>
                      <a:lnTo>
                        <a:pt x="926" y="376"/>
                      </a:lnTo>
                      <a:lnTo>
                        <a:pt x="930" y="373"/>
                      </a:lnTo>
                      <a:lnTo>
                        <a:pt x="936" y="368"/>
                      </a:lnTo>
                      <a:lnTo>
                        <a:pt x="940" y="365"/>
                      </a:lnTo>
                      <a:lnTo>
                        <a:pt x="943" y="364"/>
                      </a:lnTo>
                      <a:lnTo>
                        <a:pt x="948" y="361"/>
                      </a:lnTo>
                      <a:lnTo>
                        <a:pt x="954" y="358"/>
                      </a:lnTo>
                      <a:lnTo>
                        <a:pt x="957" y="355"/>
                      </a:lnTo>
                      <a:lnTo>
                        <a:pt x="961" y="352"/>
                      </a:lnTo>
                      <a:lnTo>
                        <a:pt x="966" y="349"/>
                      </a:lnTo>
                      <a:lnTo>
                        <a:pt x="970" y="346"/>
                      </a:lnTo>
                      <a:lnTo>
                        <a:pt x="973" y="345"/>
                      </a:lnTo>
                      <a:lnTo>
                        <a:pt x="978" y="342"/>
                      </a:lnTo>
                      <a:lnTo>
                        <a:pt x="982" y="339"/>
                      </a:lnTo>
                      <a:lnTo>
                        <a:pt x="986" y="337"/>
                      </a:lnTo>
                      <a:lnTo>
                        <a:pt x="991" y="334"/>
                      </a:lnTo>
                      <a:lnTo>
                        <a:pt x="994" y="331"/>
                      </a:lnTo>
                      <a:lnTo>
                        <a:pt x="998" y="330"/>
                      </a:lnTo>
                      <a:lnTo>
                        <a:pt x="1003" y="327"/>
                      </a:lnTo>
                      <a:lnTo>
                        <a:pt x="1006" y="325"/>
                      </a:lnTo>
                      <a:lnTo>
                        <a:pt x="1010" y="322"/>
                      </a:lnTo>
                      <a:lnTo>
                        <a:pt x="1015" y="321"/>
                      </a:lnTo>
                      <a:lnTo>
                        <a:pt x="1019" y="319"/>
                      </a:lnTo>
                      <a:lnTo>
                        <a:pt x="1022" y="316"/>
                      </a:lnTo>
                      <a:lnTo>
                        <a:pt x="1026" y="313"/>
                      </a:lnTo>
                      <a:lnTo>
                        <a:pt x="1029" y="312"/>
                      </a:lnTo>
                      <a:lnTo>
                        <a:pt x="1034" y="309"/>
                      </a:lnTo>
                      <a:lnTo>
                        <a:pt x="1038" y="307"/>
                      </a:lnTo>
                      <a:lnTo>
                        <a:pt x="1043" y="304"/>
                      </a:lnTo>
                      <a:lnTo>
                        <a:pt x="1047" y="303"/>
                      </a:lnTo>
                      <a:lnTo>
                        <a:pt x="1052" y="301"/>
                      </a:lnTo>
                      <a:lnTo>
                        <a:pt x="1055" y="299"/>
                      </a:lnTo>
                      <a:lnTo>
                        <a:pt x="1059" y="297"/>
                      </a:lnTo>
                      <a:lnTo>
                        <a:pt x="1064" y="294"/>
                      </a:lnTo>
                      <a:lnTo>
                        <a:pt x="1067" y="293"/>
                      </a:lnTo>
                      <a:lnTo>
                        <a:pt x="1071" y="290"/>
                      </a:lnTo>
                      <a:lnTo>
                        <a:pt x="1075" y="288"/>
                      </a:lnTo>
                      <a:lnTo>
                        <a:pt x="1080" y="285"/>
                      </a:lnTo>
                      <a:lnTo>
                        <a:pt x="1086" y="284"/>
                      </a:lnTo>
                      <a:lnTo>
                        <a:pt x="1090" y="281"/>
                      </a:lnTo>
                      <a:lnTo>
                        <a:pt x="1095" y="278"/>
                      </a:lnTo>
                      <a:lnTo>
                        <a:pt x="1099" y="276"/>
                      </a:lnTo>
                      <a:lnTo>
                        <a:pt x="1104" y="275"/>
                      </a:lnTo>
                      <a:lnTo>
                        <a:pt x="1108" y="272"/>
                      </a:lnTo>
                      <a:lnTo>
                        <a:pt x="1114" y="269"/>
                      </a:lnTo>
                      <a:lnTo>
                        <a:pt x="1120" y="266"/>
                      </a:lnTo>
                      <a:lnTo>
                        <a:pt x="1124" y="264"/>
                      </a:lnTo>
                      <a:lnTo>
                        <a:pt x="1130" y="261"/>
                      </a:lnTo>
                      <a:lnTo>
                        <a:pt x="1135" y="258"/>
                      </a:lnTo>
                      <a:lnTo>
                        <a:pt x="1141" y="255"/>
                      </a:lnTo>
                      <a:lnTo>
                        <a:pt x="1147" y="254"/>
                      </a:lnTo>
                      <a:lnTo>
                        <a:pt x="1153" y="251"/>
                      </a:lnTo>
                      <a:lnTo>
                        <a:pt x="1157" y="248"/>
                      </a:lnTo>
                      <a:lnTo>
                        <a:pt x="1164" y="245"/>
                      </a:lnTo>
                      <a:lnTo>
                        <a:pt x="1170" y="242"/>
                      </a:lnTo>
                      <a:lnTo>
                        <a:pt x="1176" y="239"/>
                      </a:lnTo>
                      <a:lnTo>
                        <a:pt x="1184" y="236"/>
                      </a:lnTo>
                      <a:lnTo>
                        <a:pt x="1190" y="233"/>
                      </a:lnTo>
                      <a:lnTo>
                        <a:pt x="1197" y="230"/>
                      </a:lnTo>
                      <a:lnTo>
                        <a:pt x="1205" y="226"/>
                      </a:lnTo>
                      <a:lnTo>
                        <a:pt x="1210" y="223"/>
                      </a:lnTo>
                      <a:lnTo>
                        <a:pt x="1218" y="220"/>
                      </a:lnTo>
                      <a:lnTo>
                        <a:pt x="1227" y="217"/>
                      </a:lnTo>
                      <a:lnTo>
                        <a:pt x="1234" y="212"/>
                      </a:lnTo>
                      <a:lnTo>
                        <a:pt x="1242" y="209"/>
                      </a:lnTo>
                      <a:lnTo>
                        <a:pt x="1249" y="205"/>
                      </a:lnTo>
                      <a:lnTo>
                        <a:pt x="1258" y="202"/>
                      </a:lnTo>
                      <a:lnTo>
                        <a:pt x="1265" y="198"/>
                      </a:lnTo>
                      <a:lnTo>
                        <a:pt x="1273" y="193"/>
                      </a:lnTo>
                      <a:lnTo>
                        <a:pt x="1282" y="189"/>
                      </a:lnTo>
                      <a:lnTo>
                        <a:pt x="1292" y="186"/>
                      </a:lnTo>
                      <a:lnTo>
                        <a:pt x="1300" y="181"/>
                      </a:lnTo>
                      <a:lnTo>
                        <a:pt x="1308" y="177"/>
                      </a:lnTo>
                      <a:lnTo>
                        <a:pt x="1317" y="172"/>
                      </a:lnTo>
                      <a:lnTo>
                        <a:pt x="1326" y="168"/>
                      </a:lnTo>
                      <a:lnTo>
                        <a:pt x="1335" y="163"/>
                      </a:lnTo>
                      <a:lnTo>
                        <a:pt x="1344" y="159"/>
                      </a:lnTo>
                      <a:lnTo>
                        <a:pt x="1354" y="155"/>
                      </a:lnTo>
                      <a:lnTo>
                        <a:pt x="1363" y="152"/>
                      </a:lnTo>
                      <a:lnTo>
                        <a:pt x="1374" y="146"/>
                      </a:lnTo>
                      <a:lnTo>
                        <a:pt x="1383" y="143"/>
                      </a:lnTo>
                      <a:lnTo>
                        <a:pt x="1391" y="137"/>
                      </a:lnTo>
                      <a:lnTo>
                        <a:pt x="1400" y="134"/>
                      </a:lnTo>
                      <a:lnTo>
                        <a:pt x="1411" y="128"/>
                      </a:lnTo>
                      <a:lnTo>
                        <a:pt x="1420" y="123"/>
                      </a:lnTo>
                      <a:lnTo>
                        <a:pt x="1430" y="119"/>
                      </a:lnTo>
                      <a:lnTo>
                        <a:pt x="1439" y="116"/>
                      </a:lnTo>
                      <a:lnTo>
                        <a:pt x="1449" y="110"/>
                      </a:lnTo>
                      <a:lnTo>
                        <a:pt x="1458" y="107"/>
                      </a:lnTo>
                      <a:lnTo>
                        <a:pt x="1467" y="101"/>
                      </a:lnTo>
                      <a:lnTo>
                        <a:pt x="1478" y="98"/>
                      </a:lnTo>
                      <a:lnTo>
                        <a:pt x="1486" y="94"/>
                      </a:lnTo>
                      <a:lnTo>
                        <a:pt x="1497" y="89"/>
                      </a:lnTo>
                      <a:lnTo>
                        <a:pt x="1506" y="86"/>
                      </a:lnTo>
                      <a:lnTo>
                        <a:pt x="1516" y="82"/>
                      </a:lnTo>
                      <a:lnTo>
                        <a:pt x="1524" y="77"/>
                      </a:lnTo>
                      <a:lnTo>
                        <a:pt x="1534" y="73"/>
                      </a:lnTo>
                      <a:lnTo>
                        <a:pt x="1541" y="69"/>
                      </a:lnTo>
                      <a:lnTo>
                        <a:pt x="1552" y="66"/>
                      </a:lnTo>
                      <a:lnTo>
                        <a:pt x="1561" y="61"/>
                      </a:lnTo>
                      <a:lnTo>
                        <a:pt x="1568" y="58"/>
                      </a:lnTo>
                      <a:lnTo>
                        <a:pt x="1577" y="54"/>
                      </a:lnTo>
                      <a:lnTo>
                        <a:pt x="1586" y="51"/>
                      </a:lnTo>
                      <a:lnTo>
                        <a:pt x="1593" y="46"/>
                      </a:lnTo>
                      <a:lnTo>
                        <a:pt x="1602" y="43"/>
                      </a:lnTo>
                      <a:lnTo>
                        <a:pt x="1610" y="40"/>
                      </a:lnTo>
                      <a:lnTo>
                        <a:pt x="1619" y="37"/>
                      </a:lnTo>
                      <a:lnTo>
                        <a:pt x="1626" y="33"/>
                      </a:lnTo>
                      <a:lnTo>
                        <a:pt x="1635" y="30"/>
                      </a:lnTo>
                      <a:lnTo>
                        <a:pt x="1642" y="27"/>
                      </a:lnTo>
                      <a:lnTo>
                        <a:pt x="1650" y="25"/>
                      </a:lnTo>
                      <a:lnTo>
                        <a:pt x="1657" y="23"/>
                      </a:lnTo>
                      <a:lnTo>
                        <a:pt x="1663" y="20"/>
                      </a:lnTo>
                      <a:lnTo>
                        <a:pt x="1670" y="18"/>
                      </a:lnTo>
                      <a:lnTo>
                        <a:pt x="1676" y="15"/>
                      </a:lnTo>
                      <a:lnTo>
                        <a:pt x="1684" y="14"/>
                      </a:lnTo>
                      <a:lnTo>
                        <a:pt x="1690" y="11"/>
                      </a:lnTo>
                      <a:lnTo>
                        <a:pt x="1696" y="9"/>
                      </a:lnTo>
                      <a:lnTo>
                        <a:pt x="1702" y="8"/>
                      </a:lnTo>
                      <a:lnTo>
                        <a:pt x="1706" y="6"/>
                      </a:lnTo>
                      <a:lnTo>
                        <a:pt x="1712" y="5"/>
                      </a:lnTo>
                      <a:lnTo>
                        <a:pt x="1718" y="3"/>
                      </a:lnTo>
                      <a:lnTo>
                        <a:pt x="1722" y="3"/>
                      </a:lnTo>
                      <a:lnTo>
                        <a:pt x="1727" y="2"/>
                      </a:lnTo>
                      <a:lnTo>
                        <a:pt x="1731" y="0"/>
                      </a:lnTo>
                      <a:lnTo>
                        <a:pt x="1736" y="0"/>
                      </a:lnTo>
                      <a:lnTo>
                        <a:pt x="1740" y="0"/>
                      </a:lnTo>
                      <a:lnTo>
                        <a:pt x="1745" y="0"/>
                      </a:lnTo>
                      <a:lnTo>
                        <a:pt x="1751" y="0"/>
                      </a:lnTo>
                      <a:lnTo>
                        <a:pt x="1755" y="2"/>
                      </a:lnTo>
                      <a:lnTo>
                        <a:pt x="1759" y="3"/>
                      </a:lnTo>
                      <a:lnTo>
                        <a:pt x="1761" y="6"/>
                      </a:lnTo>
                      <a:lnTo>
                        <a:pt x="1762" y="9"/>
                      </a:lnTo>
                      <a:lnTo>
                        <a:pt x="1764" y="12"/>
                      </a:lnTo>
                      <a:lnTo>
                        <a:pt x="1764" y="17"/>
                      </a:lnTo>
                      <a:lnTo>
                        <a:pt x="1762" y="20"/>
                      </a:lnTo>
                      <a:lnTo>
                        <a:pt x="1762" y="24"/>
                      </a:lnTo>
                      <a:lnTo>
                        <a:pt x="1759" y="28"/>
                      </a:lnTo>
                      <a:lnTo>
                        <a:pt x="1758" y="34"/>
                      </a:lnTo>
                      <a:lnTo>
                        <a:pt x="1755" y="39"/>
                      </a:lnTo>
                      <a:lnTo>
                        <a:pt x="1751" y="45"/>
                      </a:lnTo>
                      <a:lnTo>
                        <a:pt x="1748" y="51"/>
                      </a:lnTo>
                      <a:lnTo>
                        <a:pt x="1745" y="57"/>
                      </a:lnTo>
                      <a:lnTo>
                        <a:pt x="1740" y="61"/>
                      </a:lnTo>
                      <a:lnTo>
                        <a:pt x="1736" y="67"/>
                      </a:lnTo>
                      <a:lnTo>
                        <a:pt x="1731" y="71"/>
                      </a:lnTo>
                      <a:lnTo>
                        <a:pt x="1727" y="77"/>
                      </a:lnTo>
                      <a:lnTo>
                        <a:pt x="1721" y="82"/>
                      </a:lnTo>
                      <a:lnTo>
                        <a:pt x="1718" y="88"/>
                      </a:lnTo>
                      <a:lnTo>
                        <a:pt x="1713" y="92"/>
                      </a:lnTo>
                      <a:lnTo>
                        <a:pt x="1709" y="97"/>
                      </a:lnTo>
                      <a:lnTo>
                        <a:pt x="1706" y="101"/>
                      </a:lnTo>
                      <a:lnTo>
                        <a:pt x="1702" y="104"/>
                      </a:lnTo>
                      <a:lnTo>
                        <a:pt x="1699" y="107"/>
                      </a:lnTo>
                      <a:lnTo>
                        <a:pt x="1697" y="110"/>
                      </a:lnTo>
                      <a:lnTo>
                        <a:pt x="1693" y="115"/>
                      </a:lnTo>
                      <a:lnTo>
                        <a:pt x="1691" y="116"/>
                      </a:lnTo>
                      <a:lnTo>
                        <a:pt x="1430" y="214"/>
                      </a:lnTo>
                      <a:lnTo>
                        <a:pt x="1213" y="385"/>
                      </a:lnTo>
                      <a:lnTo>
                        <a:pt x="958" y="423"/>
                      </a:lnTo>
                      <a:lnTo>
                        <a:pt x="728" y="583"/>
                      </a:lnTo>
                      <a:lnTo>
                        <a:pt x="731" y="582"/>
                      </a:lnTo>
                      <a:lnTo>
                        <a:pt x="734" y="580"/>
                      </a:lnTo>
                      <a:lnTo>
                        <a:pt x="739" y="579"/>
                      </a:lnTo>
                      <a:lnTo>
                        <a:pt x="743" y="577"/>
                      </a:lnTo>
                      <a:lnTo>
                        <a:pt x="749" y="576"/>
                      </a:lnTo>
                      <a:lnTo>
                        <a:pt x="753" y="575"/>
                      </a:lnTo>
                      <a:lnTo>
                        <a:pt x="759" y="572"/>
                      </a:lnTo>
                      <a:lnTo>
                        <a:pt x="762" y="572"/>
                      </a:lnTo>
                      <a:lnTo>
                        <a:pt x="765" y="570"/>
                      </a:lnTo>
                      <a:lnTo>
                        <a:pt x="770" y="569"/>
                      </a:lnTo>
                      <a:lnTo>
                        <a:pt x="773" y="569"/>
                      </a:lnTo>
                      <a:lnTo>
                        <a:pt x="776" y="567"/>
                      </a:lnTo>
                      <a:lnTo>
                        <a:pt x="780" y="566"/>
                      </a:lnTo>
                      <a:lnTo>
                        <a:pt x="783" y="564"/>
                      </a:lnTo>
                      <a:lnTo>
                        <a:pt x="788" y="564"/>
                      </a:lnTo>
                      <a:lnTo>
                        <a:pt x="791" y="561"/>
                      </a:lnTo>
                      <a:lnTo>
                        <a:pt x="795" y="561"/>
                      </a:lnTo>
                      <a:lnTo>
                        <a:pt x="799" y="560"/>
                      </a:lnTo>
                      <a:lnTo>
                        <a:pt x="804" y="558"/>
                      </a:lnTo>
                      <a:lnTo>
                        <a:pt x="808" y="557"/>
                      </a:lnTo>
                      <a:lnTo>
                        <a:pt x="811" y="555"/>
                      </a:lnTo>
                      <a:lnTo>
                        <a:pt x="816" y="554"/>
                      </a:lnTo>
                      <a:lnTo>
                        <a:pt x="820" y="552"/>
                      </a:lnTo>
                      <a:lnTo>
                        <a:pt x="825" y="551"/>
                      </a:lnTo>
                      <a:lnTo>
                        <a:pt x="829" y="549"/>
                      </a:lnTo>
                      <a:lnTo>
                        <a:pt x="834" y="548"/>
                      </a:lnTo>
                      <a:lnTo>
                        <a:pt x="838" y="546"/>
                      </a:lnTo>
                      <a:lnTo>
                        <a:pt x="842" y="545"/>
                      </a:lnTo>
                      <a:lnTo>
                        <a:pt x="847" y="543"/>
                      </a:lnTo>
                      <a:lnTo>
                        <a:pt x="851" y="542"/>
                      </a:lnTo>
                      <a:lnTo>
                        <a:pt x="856" y="540"/>
                      </a:lnTo>
                      <a:lnTo>
                        <a:pt x="860" y="539"/>
                      </a:lnTo>
                      <a:lnTo>
                        <a:pt x="865" y="537"/>
                      </a:lnTo>
                      <a:lnTo>
                        <a:pt x="869" y="536"/>
                      </a:lnTo>
                      <a:lnTo>
                        <a:pt x="874" y="534"/>
                      </a:lnTo>
                      <a:lnTo>
                        <a:pt x="878" y="533"/>
                      </a:lnTo>
                      <a:lnTo>
                        <a:pt x="883" y="531"/>
                      </a:lnTo>
                      <a:lnTo>
                        <a:pt x="887" y="530"/>
                      </a:lnTo>
                      <a:lnTo>
                        <a:pt x="891" y="529"/>
                      </a:lnTo>
                      <a:lnTo>
                        <a:pt x="896" y="526"/>
                      </a:lnTo>
                      <a:lnTo>
                        <a:pt x="900" y="526"/>
                      </a:lnTo>
                      <a:lnTo>
                        <a:pt x="903" y="524"/>
                      </a:lnTo>
                      <a:lnTo>
                        <a:pt x="909" y="523"/>
                      </a:lnTo>
                      <a:lnTo>
                        <a:pt x="912" y="521"/>
                      </a:lnTo>
                      <a:lnTo>
                        <a:pt x="917" y="518"/>
                      </a:lnTo>
                      <a:lnTo>
                        <a:pt x="921" y="518"/>
                      </a:lnTo>
                      <a:lnTo>
                        <a:pt x="926" y="517"/>
                      </a:lnTo>
                      <a:lnTo>
                        <a:pt x="929" y="515"/>
                      </a:lnTo>
                      <a:lnTo>
                        <a:pt x="933" y="514"/>
                      </a:lnTo>
                      <a:lnTo>
                        <a:pt x="936" y="512"/>
                      </a:lnTo>
                      <a:lnTo>
                        <a:pt x="940" y="511"/>
                      </a:lnTo>
                      <a:lnTo>
                        <a:pt x="946" y="508"/>
                      </a:lnTo>
                      <a:lnTo>
                        <a:pt x="954" y="505"/>
                      </a:lnTo>
                      <a:lnTo>
                        <a:pt x="958" y="502"/>
                      </a:lnTo>
                      <a:lnTo>
                        <a:pt x="966" y="499"/>
                      </a:lnTo>
                      <a:lnTo>
                        <a:pt x="970" y="496"/>
                      </a:lnTo>
                      <a:lnTo>
                        <a:pt x="976" y="494"/>
                      </a:lnTo>
                      <a:lnTo>
                        <a:pt x="980" y="491"/>
                      </a:lnTo>
                      <a:lnTo>
                        <a:pt x="986" y="488"/>
                      </a:lnTo>
                      <a:lnTo>
                        <a:pt x="991" y="487"/>
                      </a:lnTo>
                      <a:lnTo>
                        <a:pt x="995" y="484"/>
                      </a:lnTo>
                      <a:lnTo>
                        <a:pt x="1000" y="481"/>
                      </a:lnTo>
                      <a:lnTo>
                        <a:pt x="1004" y="480"/>
                      </a:lnTo>
                      <a:lnTo>
                        <a:pt x="1007" y="477"/>
                      </a:lnTo>
                      <a:lnTo>
                        <a:pt x="1012" y="475"/>
                      </a:lnTo>
                      <a:lnTo>
                        <a:pt x="1016" y="474"/>
                      </a:lnTo>
                      <a:lnTo>
                        <a:pt x="1021" y="472"/>
                      </a:lnTo>
                      <a:lnTo>
                        <a:pt x="1024" y="469"/>
                      </a:lnTo>
                      <a:lnTo>
                        <a:pt x="1026" y="468"/>
                      </a:lnTo>
                      <a:lnTo>
                        <a:pt x="1031" y="466"/>
                      </a:lnTo>
                      <a:lnTo>
                        <a:pt x="1034" y="463"/>
                      </a:lnTo>
                      <a:lnTo>
                        <a:pt x="1038" y="462"/>
                      </a:lnTo>
                      <a:lnTo>
                        <a:pt x="1041" y="460"/>
                      </a:lnTo>
                      <a:lnTo>
                        <a:pt x="1046" y="459"/>
                      </a:lnTo>
                      <a:lnTo>
                        <a:pt x="1050" y="459"/>
                      </a:lnTo>
                      <a:lnTo>
                        <a:pt x="1055" y="456"/>
                      </a:lnTo>
                      <a:lnTo>
                        <a:pt x="1058" y="454"/>
                      </a:lnTo>
                      <a:lnTo>
                        <a:pt x="1062" y="453"/>
                      </a:lnTo>
                      <a:lnTo>
                        <a:pt x="1068" y="451"/>
                      </a:lnTo>
                      <a:lnTo>
                        <a:pt x="1072" y="451"/>
                      </a:lnTo>
                      <a:lnTo>
                        <a:pt x="1077" y="450"/>
                      </a:lnTo>
                      <a:lnTo>
                        <a:pt x="1083" y="448"/>
                      </a:lnTo>
                      <a:lnTo>
                        <a:pt x="1089" y="448"/>
                      </a:lnTo>
                      <a:lnTo>
                        <a:pt x="1095" y="447"/>
                      </a:lnTo>
                      <a:lnTo>
                        <a:pt x="1101" y="447"/>
                      </a:lnTo>
                      <a:lnTo>
                        <a:pt x="1107" y="445"/>
                      </a:lnTo>
                      <a:lnTo>
                        <a:pt x="1113" y="444"/>
                      </a:lnTo>
                      <a:lnTo>
                        <a:pt x="1120" y="444"/>
                      </a:lnTo>
                      <a:lnTo>
                        <a:pt x="1126" y="444"/>
                      </a:lnTo>
                      <a:lnTo>
                        <a:pt x="1129" y="442"/>
                      </a:lnTo>
                      <a:lnTo>
                        <a:pt x="1133" y="442"/>
                      </a:lnTo>
                      <a:lnTo>
                        <a:pt x="1136" y="442"/>
                      </a:lnTo>
                      <a:lnTo>
                        <a:pt x="1141" y="442"/>
                      </a:lnTo>
                      <a:lnTo>
                        <a:pt x="1144" y="442"/>
                      </a:lnTo>
                      <a:lnTo>
                        <a:pt x="1147" y="442"/>
                      </a:lnTo>
                      <a:lnTo>
                        <a:pt x="1150" y="441"/>
                      </a:lnTo>
                      <a:lnTo>
                        <a:pt x="1154" y="441"/>
                      </a:lnTo>
                      <a:lnTo>
                        <a:pt x="1157" y="441"/>
                      </a:lnTo>
                      <a:lnTo>
                        <a:pt x="1162" y="441"/>
                      </a:lnTo>
                      <a:lnTo>
                        <a:pt x="1164" y="441"/>
                      </a:lnTo>
                      <a:lnTo>
                        <a:pt x="1167" y="441"/>
                      </a:lnTo>
                      <a:lnTo>
                        <a:pt x="1170" y="439"/>
                      </a:lnTo>
                      <a:lnTo>
                        <a:pt x="1175" y="439"/>
                      </a:lnTo>
                      <a:lnTo>
                        <a:pt x="1178" y="439"/>
                      </a:lnTo>
                      <a:lnTo>
                        <a:pt x="1181" y="439"/>
                      </a:lnTo>
                      <a:lnTo>
                        <a:pt x="1184" y="439"/>
                      </a:lnTo>
                      <a:lnTo>
                        <a:pt x="1188" y="439"/>
                      </a:lnTo>
                      <a:lnTo>
                        <a:pt x="1191" y="439"/>
                      </a:lnTo>
                      <a:lnTo>
                        <a:pt x="1194" y="439"/>
                      </a:lnTo>
                      <a:lnTo>
                        <a:pt x="1202" y="439"/>
                      </a:lnTo>
                      <a:lnTo>
                        <a:pt x="1208" y="439"/>
                      </a:lnTo>
                      <a:lnTo>
                        <a:pt x="1213" y="439"/>
                      </a:lnTo>
                      <a:lnTo>
                        <a:pt x="1218" y="439"/>
                      </a:lnTo>
                      <a:lnTo>
                        <a:pt x="1224" y="439"/>
                      </a:lnTo>
                      <a:lnTo>
                        <a:pt x="1228" y="439"/>
                      </a:lnTo>
                      <a:lnTo>
                        <a:pt x="1233" y="439"/>
                      </a:lnTo>
                      <a:lnTo>
                        <a:pt x="1239" y="439"/>
                      </a:lnTo>
                      <a:lnTo>
                        <a:pt x="1242" y="439"/>
                      </a:lnTo>
                      <a:lnTo>
                        <a:pt x="1246" y="439"/>
                      </a:lnTo>
                      <a:lnTo>
                        <a:pt x="1248" y="439"/>
                      </a:lnTo>
                      <a:lnTo>
                        <a:pt x="1251" y="439"/>
                      </a:lnTo>
                      <a:lnTo>
                        <a:pt x="1255" y="439"/>
                      </a:lnTo>
                      <a:lnTo>
                        <a:pt x="1256" y="439"/>
                      </a:lnTo>
                      <a:lnTo>
                        <a:pt x="1254" y="441"/>
                      </a:lnTo>
                      <a:lnTo>
                        <a:pt x="1251" y="444"/>
                      </a:lnTo>
                      <a:lnTo>
                        <a:pt x="1245" y="450"/>
                      </a:lnTo>
                      <a:lnTo>
                        <a:pt x="1240" y="456"/>
                      </a:lnTo>
                      <a:lnTo>
                        <a:pt x="1236" y="462"/>
                      </a:lnTo>
                      <a:lnTo>
                        <a:pt x="1236" y="466"/>
                      </a:lnTo>
                      <a:lnTo>
                        <a:pt x="1237" y="469"/>
                      </a:lnTo>
                      <a:lnTo>
                        <a:pt x="1240" y="471"/>
                      </a:lnTo>
                      <a:lnTo>
                        <a:pt x="1242" y="471"/>
                      </a:lnTo>
                      <a:lnTo>
                        <a:pt x="1245" y="472"/>
                      </a:lnTo>
                      <a:lnTo>
                        <a:pt x="1248" y="472"/>
                      </a:lnTo>
                      <a:lnTo>
                        <a:pt x="1251" y="472"/>
                      </a:lnTo>
                      <a:lnTo>
                        <a:pt x="1254" y="472"/>
                      </a:lnTo>
                      <a:lnTo>
                        <a:pt x="1258" y="471"/>
                      </a:lnTo>
                      <a:lnTo>
                        <a:pt x="1261" y="471"/>
                      </a:lnTo>
                      <a:lnTo>
                        <a:pt x="1265" y="469"/>
                      </a:lnTo>
                      <a:lnTo>
                        <a:pt x="1271" y="469"/>
                      </a:lnTo>
                      <a:lnTo>
                        <a:pt x="1276" y="468"/>
                      </a:lnTo>
                      <a:lnTo>
                        <a:pt x="1282" y="466"/>
                      </a:lnTo>
                      <a:lnTo>
                        <a:pt x="1288" y="466"/>
                      </a:lnTo>
                      <a:lnTo>
                        <a:pt x="1294" y="463"/>
                      </a:lnTo>
                      <a:lnTo>
                        <a:pt x="1300" y="462"/>
                      </a:lnTo>
                      <a:lnTo>
                        <a:pt x="1305" y="460"/>
                      </a:lnTo>
                      <a:lnTo>
                        <a:pt x="1311" y="459"/>
                      </a:lnTo>
                      <a:lnTo>
                        <a:pt x="1317" y="457"/>
                      </a:lnTo>
                      <a:lnTo>
                        <a:pt x="1323" y="456"/>
                      </a:lnTo>
                      <a:lnTo>
                        <a:pt x="1329" y="454"/>
                      </a:lnTo>
                      <a:lnTo>
                        <a:pt x="1337" y="453"/>
                      </a:lnTo>
                      <a:lnTo>
                        <a:pt x="1341" y="451"/>
                      </a:lnTo>
                      <a:lnTo>
                        <a:pt x="1347" y="450"/>
                      </a:lnTo>
                      <a:lnTo>
                        <a:pt x="1353" y="447"/>
                      </a:lnTo>
                      <a:lnTo>
                        <a:pt x="1359" y="447"/>
                      </a:lnTo>
                      <a:lnTo>
                        <a:pt x="1363" y="444"/>
                      </a:lnTo>
                      <a:lnTo>
                        <a:pt x="1368" y="444"/>
                      </a:lnTo>
                      <a:lnTo>
                        <a:pt x="1372" y="442"/>
                      </a:lnTo>
                      <a:lnTo>
                        <a:pt x="1378" y="441"/>
                      </a:lnTo>
                      <a:lnTo>
                        <a:pt x="1381" y="439"/>
                      </a:lnTo>
                      <a:lnTo>
                        <a:pt x="1384" y="438"/>
                      </a:lnTo>
                      <a:lnTo>
                        <a:pt x="1387" y="437"/>
                      </a:lnTo>
                      <a:lnTo>
                        <a:pt x="1390" y="437"/>
                      </a:lnTo>
                      <a:lnTo>
                        <a:pt x="1393" y="437"/>
                      </a:lnTo>
                      <a:lnTo>
                        <a:pt x="1396" y="437"/>
                      </a:lnTo>
                      <a:lnTo>
                        <a:pt x="1383" y="497"/>
                      </a:lnTo>
                      <a:lnTo>
                        <a:pt x="1371" y="536"/>
                      </a:lnTo>
                      <a:lnTo>
                        <a:pt x="1371" y="537"/>
                      </a:lnTo>
                      <a:lnTo>
                        <a:pt x="1371" y="540"/>
                      </a:lnTo>
                      <a:lnTo>
                        <a:pt x="1369" y="542"/>
                      </a:lnTo>
                      <a:lnTo>
                        <a:pt x="1368" y="546"/>
                      </a:lnTo>
                      <a:lnTo>
                        <a:pt x="1366" y="551"/>
                      </a:lnTo>
                      <a:lnTo>
                        <a:pt x="1365" y="557"/>
                      </a:lnTo>
                      <a:lnTo>
                        <a:pt x="1363" y="558"/>
                      </a:lnTo>
                      <a:lnTo>
                        <a:pt x="1362" y="561"/>
                      </a:lnTo>
                      <a:lnTo>
                        <a:pt x="1360" y="564"/>
                      </a:lnTo>
                      <a:lnTo>
                        <a:pt x="1359" y="569"/>
                      </a:lnTo>
                      <a:lnTo>
                        <a:pt x="1356" y="572"/>
                      </a:lnTo>
                      <a:lnTo>
                        <a:pt x="1354" y="576"/>
                      </a:lnTo>
                      <a:lnTo>
                        <a:pt x="1351" y="579"/>
                      </a:lnTo>
                      <a:lnTo>
                        <a:pt x="1348" y="583"/>
                      </a:lnTo>
                      <a:lnTo>
                        <a:pt x="1346" y="588"/>
                      </a:lnTo>
                      <a:lnTo>
                        <a:pt x="1343" y="592"/>
                      </a:lnTo>
                      <a:lnTo>
                        <a:pt x="1340" y="598"/>
                      </a:lnTo>
                      <a:lnTo>
                        <a:pt x="1335" y="603"/>
                      </a:lnTo>
                      <a:lnTo>
                        <a:pt x="1331" y="609"/>
                      </a:lnTo>
                      <a:lnTo>
                        <a:pt x="1328" y="615"/>
                      </a:lnTo>
                      <a:lnTo>
                        <a:pt x="1322" y="621"/>
                      </a:lnTo>
                      <a:lnTo>
                        <a:pt x="1319" y="626"/>
                      </a:lnTo>
                      <a:lnTo>
                        <a:pt x="1311" y="632"/>
                      </a:lnTo>
                      <a:lnTo>
                        <a:pt x="1307" y="640"/>
                      </a:lnTo>
                      <a:lnTo>
                        <a:pt x="1302" y="643"/>
                      </a:lnTo>
                      <a:lnTo>
                        <a:pt x="1300" y="646"/>
                      </a:lnTo>
                      <a:lnTo>
                        <a:pt x="1297" y="649"/>
                      </a:lnTo>
                      <a:lnTo>
                        <a:pt x="1294" y="653"/>
                      </a:lnTo>
                      <a:lnTo>
                        <a:pt x="1291" y="656"/>
                      </a:lnTo>
                      <a:lnTo>
                        <a:pt x="1288" y="659"/>
                      </a:lnTo>
                      <a:lnTo>
                        <a:pt x="1283" y="662"/>
                      </a:lnTo>
                      <a:lnTo>
                        <a:pt x="1280" y="667"/>
                      </a:lnTo>
                      <a:lnTo>
                        <a:pt x="1277" y="669"/>
                      </a:lnTo>
                      <a:lnTo>
                        <a:pt x="1273" y="674"/>
                      </a:lnTo>
                      <a:lnTo>
                        <a:pt x="1270" y="677"/>
                      </a:lnTo>
                      <a:lnTo>
                        <a:pt x="1267" y="681"/>
                      </a:lnTo>
                      <a:lnTo>
                        <a:pt x="1264" y="684"/>
                      </a:lnTo>
                      <a:lnTo>
                        <a:pt x="1259" y="689"/>
                      </a:lnTo>
                      <a:lnTo>
                        <a:pt x="1256" y="692"/>
                      </a:lnTo>
                      <a:lnTo>
                        <a:pt x="1254" y="696"/>
                      </a:lnTo>
                      <a:lnTo>
                        <a:pt x="1249" y="699"/>
                      </a:lnTo>
                      <a:lnTo>
                        <a:pt x="1246" y="702"/>
                      </a:lnTo>
                      <a:lnTo>
                        <a:pt x="1242" y="707"/>
                      </a:lnTo>
                      <a:lnTo>
                        <a:pt x="1239" y="710"/>
                      </a:lnTo>
                      <a:lnTo>
                        <a:pt x="1236" y="713"/>
                      </a:lnTo>
                      <a:lnTo>
                        <a:pt x="1231" y="717"/>
                      </a:lnTo>
                      <a:lnTo>
                        <a:pt x="1228" y="720"/>
                      </a:lnTo>
                      <a:lnTo>
                        <a:pt x="1225" y="724"/>
                      </a:lnTo>
                      <a:lnTo>
                        <a:pt x="1221" y="727"/>
                      </a:lnTo>
                      <a:lnTo>
                        <a:pt x="1218" y="730"/>
                      </a:lnTo>
                      <a:lnTo>
                        <a:pt x="1215" y="735"/>
                      </a:lnTo>
                      <a:lnTo>
                        <a:pt x="1212" y="738"/>
                      </a:lnTo>
                      <a:lnTo>
                        <a:pt x="1206" y="745"/>
                      </a:lnTo>
                      <a:lnTo>
                        <a:pt x="1199" y="751"/>
                      </a:lnTo>
                      <a:lnTo>
                        <a:pt x="1193" y="756"/>
                      </a:lnTo>
                      <a:lnTo>
                        <a:pt x="1187" y="763"/>
                      </a:lnTo>
                      <a:lnTo>
                        <a:pt x="1182" y="767"/>
                      </a:lnTo>
                      <a:lnTo>
                        <a:pt x="1176" y="773"/>
                      </a:lnTo>
                      <a:lnTo>
                        <a:pt x="1172" y="778"/>
                      </a:lnTo>
                      <a:lnTo>
                        <a:pt x="1167" y="782"/>
                      </a:lnTo>
                      <a:lnTo>
                        <a:pt x="1163" y="785"/>
                      </a:lnTo>
                      <a:lnTo>
                        <a:pt x="1160" y="790"/>
                      </a:lnTo>
                      <a:lnTo>
                        <a:pt x="1156" y="793"/>
                      </a:lnTo>
                      <a:lnTo>
                        <a:pt x="1154" y="796"/>
                      </a:lnTo>
                      <a:lnTo>
                        <a:pt x="1150" y="799"/>
                      </a:lnTo>
                      <a:lnTo>
                        <a:pt x="1150" y="802"/>
                      </a:lnTo>
                      <a:lnTo>
                        <a:pt x="1381" y="656"/>
                      </a:lnTo>
                      <a:lnTo>
                        <a:pt x="1380" y="658"/>
                      </a:lnTo>
                      <a:lnTo>
                        <a:pt x="1377" y="661"/>
                      </a:lnTo>
                      <a:lnTo>
                        <a:pt x="1374" y="665"/>
                      </a:lnTo>
                      <a:lnTo>
                        <a:pt x="1369" y="669"/>
                      </a:lnTo>
                      <a:lnTo>
                        <a:pt x="1363" y="677"/>
                      </a:lnTo>
                      <a:lnTo>
                        <a:pt x="1360" y="680"/>
                      </a:lnTo>
                      <a:lnTo>
                        <a:pt x="1357" y="683"/>
                      </a:lnTo>
                      <a:lnTo>
                        <a:pt x="1354" y="687"/>
                      </a:lnTo>
                      <a:lnTo>
                        <a:pt x="1351" y="692"/>
                      </a:lnTo>
                      <a:lnTo>
                        <a:pt x="1348" y="695"/>
                      </a:lnTo>
                      <a:lnTo>
                        <a:pt x="1344" y="699"/>
                      </a:lnTo>
                      <a:lnTo>
                        <a:pt x="1341" y="704"/>
                      </a:lnTo>
                      <a:lnTo>
                        <a:pt x="1337" y="708"/>
                      </a:lnTo>
                      <a:lnTo>
                        <a:pt x="1334" y="713"/>
                      </a:lnTo>
                      <a:lnTo>
                        <a:pt x="1329" y="718"/>
                      </a:lnTo>
                      <a:lnTo>
                        <a:pt x="1325" y="723"/>
                      </a:lnTo>
                      <a:lnTo>
                        <a:pt x="1322" y="729"/>
                      </a:lnTo>
                      <a:lnTo>
                        <a:pt x="1316" y="733"/>
                      </a:lnTo>
                      <a:lnTo>
                        <a:pt x="1311" y="739"/>
                      </a:lnTo>
                      <a:lnTo>
                        <a:pt x="1307" y="745"/>
                      </a:lnTo>
                      <a:lnTo>
                        <a:pt x="1302" y="751"/>
                      </a:lnTo>
                      <a:lnTo>
                        <a:pt x="1298" y="756"/>
                      </a:lnTo>
                      <a:lnTo>
                        <a:pt x="1294" y="763"/>
                      </a:lnTo>
                      <a:lnTo>
                        <a:pt x="1289" y="769"/>
                      </a:lnTo>
                      <a:lnTo>
                        <a:pt x="1285" y="775"/>
                      </a:lnTo>
                      <a:lnTo>
                        <a:pt x="1280" y="781"/>
                      </a:lnTo>
                      <a:lnTo>
                        <a:pt x="1276" y="787"/>
                      </a:lnTo>
                      <a:lnTo>
                        <a:pt x="1270" y="793"/>
                      </a:lnTo>
                      <a:lnTo>
                        <a:pt x="1265" y="799"/>
                      </a:lnTo>
                      <a:lnTo>
                        <a:pt x="1261" y="805"/>
                      </a:lnTo>
                      <a:lnTo>
                        <a:pt x="1256" y="810"/>
                      </a:lnTo>
                      <a:lnTo>
                        <a:pt x="1252" y="816"/>
                      </a:lnTo>
                      <a:lnTo>
                        <a:pt x="1248" y="824"/>
                      </a:lnTo>
                      <a:lnTo>
                        <a:pt x="1243" y="828"/>
                      </a:lnTo>
                      <a:lnTo>
                        <a:pt x="1239" y="834"/>
                      </a:lnTo>
                      <a:lnTo>
                        <a:pt x="1234" y="840"/>
                      </a:lnTo>
                      <a:lnTo>
                        <a:pt x="1230" y="846"/>
                      </a:lnTo>
                      <a:lnTo>
                        <a:pt x="1225" y="851"/>
                      </a:lnTo>
                      <a:lnTo>
                        <a:pt x="1222" y="856"/>
                      </a:lnTo>
                      <a:lnTo>
                        <a:pt x="1218" y="861"/>
                      </a:lnTo>
                      <a:lnTo>
                        <a:pt x="1215" y="867"/>
                      </a:lnTo>
                      <a:lnTo>
                        <a:pt x="1212" y="871"/>
                      </a:lnTo>
                      <a:lnTo>
                        <a:pt x="1208" y="876"/>
                      </a:lnTo>
                      <a:lnTo>
                        <a:pt x="1205" y="880"/>
                      </a:lnTo>
                      <a:lnTo>
                        <a:pt x="1202" y="885"/>
                      </a:lnTo>
                      <a:lnTo>
                        <a:pt x="1199" y="888"/>
                      </a:lnTo>
                      <a:lnTo>
                        <a:pt x="1196" y="892"/>
                      </a:lnTo>
                      <a:lnTo>
                        <a:pt x="1193" y="895"/>
                      </a:lnTo>
                      <a:lnTo>
                        <a:pt x="1191" y="899"/>
                      </a:lnTo>
                      <a:lnTo>
                        <a:pt x="1187" y="904"/>
                      </a:lnTo>
                      <a:lnTo>
                        <a:pt x="1184" y="907"/>
                      </a:lnTo>
                      <a:lnTo>
                        <a:pt x="1182" y="910"/>
                      </a:lnTo>
                      <a:lnTo>
                        <a:pt x="1182" y="911"/>
                      </a:lnTo>
                      <a:lnTo>
                        <a:pt x="1285" y="843"/>
                      </a:lnTo>
                      <a:lnTo>
                        <a:pt x="1285" y="845"/>
                      </a:lnTo>
                      <a:lnTo>
                        <a:pt x="1285" y="848"/>
                      </a:lnTo>
                      <a:lnTo>
                        <a:pt x="1286" y="852"/>
                      </a:lnTo>
                      <a:lnTo>
                        <a:pt x="1286" y="856"/>
                      </a:lnTo>
                      <a:lnTo>
                        <a:pt x="1286" y="862"/>
                      </a:lnTo>
                      <a:lnTo>
                        <a:pt x="1285" y="865"/>
                      </a:lnTo>
                      <a:lnTo>
                        <a:pt x="1285" y="868"/>
                      </a:lnTo>
                      <a:lnTo>
                        <a:pt x="1285" y="873"/>
                      </a:lnTo>
                      <a:lnTo>
                        <a:pt x="1285" y="877"/>
                      </a:lnTo>
                      <a:lnTo>
                        <a:pt x="1285" y="880"/>
                      </a:lnTo>
                      <a:lnTo>
                        <a:pt x="1283" y="885"/>
                      </a:lnTo>
                      <a:lnTo>
                        <a:pt x="1282" y="888"/>
                      </a:lnTo>
                      <a:lnTo>
                        <a:pt x="1282" y="892"/>
                      </a:lnTo>
                      <a:lnTo>
                        <a:pt x="1280" y="897"/>
                      </a:lnTo>
                      <a:lnTo>
                        <a:pt x="1279" y="902"/>
                      </a:lnTo>
                      <a:lnTo>
                        <a:pt x="1277" y="907"/>
                      </a:lnTo>
                      <a:lnTo>
                        <a:pt x="1276" y="913"/>
                      </a:lnTo>
                      <a:lnTo>
                        <a:pt x="1273" y="917"/>
                      </a:lnTo>
                      <a:lnTo>
                        <a:pt x="1270" y="922"/>
                      </a:lnTo>
                      <a:lnTo>
                        <a:pt x="1268" y="928"/>
                      </a:lnTo>
                      <a:lnTo>
                        <a:pt x="1265" y="934"/>
                      </a:lnTo>
                      <a:lnTo>
                        <a:pt x="1262" y="940"/>
                      </a:lnTo>
                      <a:lnTo>
                        <a:pt x="1258" y="944"/>
                      </a:lnTo>
                      <a:lnTo>
                        <a:pt x="1255" y="951"/>
                      </a:lnTo>
                      <a:lnTo>
                        <a:pt x="1251" y="957"/>
                      </a:lnTo>
                      <a:lnTo>
                        <a:pt x="1245" y="963"/>
                      </a:lnTo>
                      <a:lnTo>
                        <a:pt x="1240" y="968"/>
                      </a:lnTo>
                      <a:lnTo>
                        <a:pt x="1234" y="974"/>
                      </a:lnTo>
                      <a:lnTo>
                        <a:pt x="1228" y="980"/>
                      </a:lnTo>
                      <a:lnTo>
                        <a:pt x="1222" y="986"/>
                      </a:lnTo>
                      <a:lnTo>
                        <a:pt x="1216" y="990"/>
                      </a:lnTo>
                      <a:lnTo>
                        <a:pt x="1210" y="996"/>
                      </a:lnTo>
                      <a:lnTo>
                        <a:pt x="1205" y="1002"/>
                      </a:lnTo>
                      <a:lnTo>
                        <a:pt x="1200" y="1005"/>
                      </a:lnTo>
                      <a:lnTo>
                        <a:pt x="1197" y="1008"/>
                      </a:lnTo>
                      <a:lnTo>
                        <a:pt x="1193" y="1011"/>
                      </a:lnTo>
                      <a:lnTo>
                        <a:pt x="1190" y="1014"/>
                      </a:lnTo>
                      <a:lnTo>
                        <a:pt x="1184" y="1020"/>
                      </a:lnTo>
                      <a:lnTo>
                        <a:pt x="1176" y="1024"/>
                      </a:lnTo>
                      <a:lnTo>
                        <a:pt x="1173" y="1027"/>
                      </a:lnTo>
                      <a:lnTo>
                        <a:pt x="1169" y="1030"/>
                      </a:lnTo>
                      <a:lnTo>
                        <a:pt x="1166" y="1032"/>
                      </a:lnTo>
                      <a:lnTo>
                        <a:pt x="1163" y="1035"/>
                      </a:lnTo>
                      <a:lnTo>
                        <a:pt x="1157" y="1039"/>
                      </a:lnTo>
                      <a:lnTo>
                        <a:pt x="1151" y="1045"/>
                      </a:lnTo>
                      <a:lnTo>
                        <a:pt x="1144" y="1049"/>
                      </a:lnTo>
                      <a:lnTo>
                        <a:pt x="1138" y="1054"/>
                      </a:lnTo>
                      <a:lnTo>
                        <a:pt x="1132" y="1058"/>
                      </a:lnTo>
                      <a:lnTo>
                        <a:pt x="1126" y="1063"/>
                      </a:lnTo>
                      <a:lnTo>
                        <a:pt x="1120" y="1066"/>
                      </a:lnTo>
                      <a:lnTo>
                        <a:pt x="1116" y="1070"/>
                      </a:lnTo>
                      <a:lnTo>
                        <a:pt x="1111" y="1073"/>
                      </a:lnTo>
                      <a:lnTo>
                        <a:pt x="1107" y="1076"/>
                      </a:lnTo>
                      <a:lnTo>
                        <a:pt x="1102" y="1079"/>
                      </a:lnTo>
                      <a:lnTo>
                        <a:pt x="1099" y="1082"/>
                      </a:lnTo>
                      <a:lnTo>
                        <a:pt x="1095" y="1083"/>
                      </a:lnTo>
                      <a:lnTo>
                        <a:pt x="1093" y="1085"/>
                      </a:lnTo>
                      <a:lnTo>
                        <a:pt x="1090" y="1088"/>
                      </a:lnTo>
                      <a:lnTo>
                        <a:pt x="1089" y="1089"/>
                      </a:lnTo>
                      <a:lnTo>
                        <a:pt x="1026" y="1094"/>
                      </a:lnTo>
                      <a:lnTo>
                        <a:pt x="992" y="1085"/>
                      </a:lnTo>
                      <a:lnTo>
                        <a:pt x="699" y="1153"/>
                      </a:lnTo>
                      <a:lnTo>
                        <a:pt x="581" y="1156"/>
                      </a:lnTo>
                      <a:lnTo>
                        <a:pt x="431" y="1348"/>
                      </a:lnTo>
                      <a:lnTo>
                        <a:pt x="55" y="1739"/>
                      </a:lnTo>
                      <a:lnTo>
                        <a:pt x="0" y="1276"/>
                      </a:lnTo>
                      <a:lnTo>
                        <a:pt x="0" y="127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476520" y="2209680"/>
                  <a:ext cx="515880" cy="447840"/>
                </a:xfrm>
                <a:custGeom>
                  <a:avLst/>
                  <a:gdLst/>
                  <a:ahLst/>
                  <a:rect l="l" t="t" r="r" b="b"/>
                  <a:pathLst>
                    <a:path w="650" h="564">
                      <a:moveTo>
                        <a:pt x="442" y="0"/>
                      </a:moveTo>
                      <a:lnTo>
                        <a:pt x="441" y="1"/>
                      </a:lnTo>
                      <a:lnTo>
                        <a:pt x="439" y="4"/>
                      </a:lnTo>
                      <a:lnTo>
                        <a:pt x="436" y="6"/>
                      </a:lnTo>
                      <a:lnTo>
                        <a:pt x="435" y="9"/>
                      </a:lnTo>
                      <a:lnTo>
                        <a:pt x="432" y="13"/>
                      </a:lnTo>
                      <a:lnTo>
                        <a:pt x="429" y="16"/>
                      </a:lnTo>
                      <a:lnTo>
                        <a:pt x="424" y="19"/>
                      </a:lnTo>
                      <a:lnTo>
                        <a:pt x="420" y="24"/>
                      </a:lnTo>
                      <a:lnTo>
                        <a:pt x="414" y="28"/>
                      </a:lnTo>
                      <a:lnTo>
                        <a:pt x="408" y="32"/>
                      </a:lnTo>
                      <a:lnTo>
                        <a:pt x="405" y="34"/>
                      </a:lnTo>
                      <a:lnTo>
                        <a:pt x="402" y="37"/>
                      </a:lnTo>
                      <a:lnTo>
                        <a:pt x="398" y="40"/>
                      </a:lnTo>
                      <a:lnTo>
                        <a:pt x="395" y="41"/>
                      </a:lnTo>
                      <a:lnTo>
                        <a:pt x="390" y="43"/>
                      </a:lnTo>
                      <a:lnTo>
                        <a:pt x="386" y="46"/>
                      </a:lnTo>
                      <a:lnTo>
                        <a:pt x="381" y="49"/>
                      </a:lnTo>
                      <a:lnTo>
                        <a:pt x="377" y="52"/>
                      </a:lnTo>
                      <a:lnTo>
                        <a:pt x="372" y="53"/>
                      </a:lnTo>
                      <a:lnTo>
                        <a:pt x="366" y="56"/>
                      </a:lnTo>
                      <a:lnTo>
                        <a:pt x="360" y="59"/>
                      </a:lnTo>
                      <a:lnTo>
                        <a:pt x="355" y="61"/>
                      </a:lnTo>
                      <a:lnTo>
                        <a:pt x="349" y="62"/>
                      </a:lnTo>
                      <a:lnTo>
                        <a:pt x="343" y="65"/>
                      </a:lnTo>
                      <a:lnTo>
                        <a:pt x="337" y="68"/>
                      </a:lnTo>
                      <a:lnTo>
                        <a:pt x="331" y="70"/>
                      </a:lnTo>
                      <a:lnTo>
                        <a:pt x="325" y="72"/>
                      </a:lnTo>
                      <a:lnTo>
                        <a:pt x="319" y="74"/>
                      </a:lnTo>
                      <a:lnTo>
                        <a:pt x="313" y="77"/>
                      </a:lnTo>
                      <a:lnTo>
                        <a:pt x="307" y="78"/>
                      </a:lnTo>
                      <a:lnTo>
                        <a:pt x="301" y="81"/>
                      </a:lnTo>
                      <a:lnTo>
                        <a:pt x="295" y="83"/>
                      </a:lnTo>
                      <a:lnTo>
                        <a:pt x="291" y="84"/>
                      </a:lnTo>
                      <a:lnTo>
                        <a:pt x="285" y="87"/>
                      </a:lnTo>
                      <a:lnTo>
                        <a:pt x="279" y="89"/>
                      </a:lnTo>
                      <a:lnTo>
                        <a:pt x="273" y="90"/>
                      </a:lnTo>
                      <a:lnTo>
                        <a:pt x="268" y="92"/>
                      </a:lnTo>
                      <a:lnTo>
                        <a:pt x="264" y="93"/>
                      </a:lnTo>
                      <a:lnTo>
                        <a:pt x="258" y="95"/>
                      </a:lnTo>
                      <a:lnTo>
                        <a:pt x="254" y="96"/>
                      </a:lnTo>
                      <a:lnTo>
                        <a:pt x="251" y="96"/>
                      </a:lnTo>
                      <a:lnTo>
                        <a:pt x="248" y="98"/>
                      </a:lnTo>
                      <a:lnTo>
                        <a:pt x="243" y="99"/>
                      </a:lnTo>
                      <a:lnTo>
                        <a:pt x="240" y="99"/>
                      </a:lnTo>
                      <a:lnTo>
                        <a:pt x="237" y="101"/>
                      </a:lnTo>
                      <a:lnTo>
                        <a:pt x="236" y="101"/>
                      </a:lnTo>
                      <a:lnTo>
                        <a:pt x="233" y="102"/>
                      </a:lnTo>
                      <a:lnTo>
                        <a:pt x="233" y="104"/>
                      </a:lnTo>
                      <a:lnTo>
                        <a:pt x="234" y="104"/>
                      </a:lnTo>
                      <a:lnTo>
                        <a:pt x="239" y="105"/>
                      </a:lnTo>
                      <a:lnTo>
                        <a:pt x="242" y="107"/>
                      </a:lnTo>
                      <a:lnTo>
                        <a:pt x="245" y="108"/>
                      </a:lnTo>
                      <a:lnTo>
                        <a:pt x="249" y="111"/>
                      </a:lnTo>
                      <a:lnTo>
                        <a:pt x="252" y="114"/>
                      </a:lnTo>
                      <a:lnTo>
                        <a:pt x="257" y="116"/>
                      </a:lnTo>
                      <a:lnTo>
                        <a:pt x="260" y="118"/>
                      </a:lnTo>
                      <a:lnTo>
                        <a:pt x="263" y="123"/>
                      </a:lnTo>
                      <a:lnTo>
                        <a:pt x="267" y="127"/>
                      </a:lnTo>
                      <a:lnTo>
                        <a:pt x="268" y="132"/>
                      </a:lnTo>
                      <a:lnTo>
                        <a:pt x="271" y="138"/>
                      </a:lnTo>
                      <a:lnTo>
                        <a:pt x="273" y="142"/>
                      </a:lnTo>
                      <a:lnTo>
                        <a:pt x="274" y="148"/>
                      </a:lnTo>
                      <a:lnTo>
                        <a:pt x="274" y="154"/>
                      </a:lnTo>
                      <a:lnTo>
                        <a:pt x="273" y="162"/>
                      </a:lnTo>
                      <a:lnTo>
                        <a:pt x="271" y="164"/>
                      </a:lnTo>
                      <a:lnTo>
                        <a:pt x="271" y="169"/>
                      </a:lnTo>
                      <a:lnTo>
                        <a:pt x="270" y="172"/>
                      </a:lnTo>
                      <a:lnTo>
                        <a:pt x="268" y="176"/>
                      </a:lnTo>
                      <a:lnTo>
                        <a:pt x="267" y="179"/>
                      </a:lnTo>
                      <a:lnTo>
                        <a:pt x="264" y="184"/>
                      </a:lnTo>
                      <a:lnTo>
                        <a:pt x="263" y="188"/>
                      </a:lnTo>
                      <a:lnTo>
                        <a:pt x="261" y="193"/>
                      </a:lnTo>
                      <a:lnTo>
                        <a:pt x="258" y="197"/>
                      </a:lnTo>
                      <a:lnTo>
                        <a:pt x="255" y="202"/>
                      </a:lnTo>
                      <a:lnTo>
                        <a:pt x="252" y="206"/>
                      </a:lnTo>
                      <a:lnTo>
                        <a:pt x="249" y="210"/>
                      </a:lnTo>
                      <a:lnTo>
                        <a:pt x="246" y="215"/>
                      </a:lnTo>
                      <a:lnTo>
                        <a:pt x="242" y="219"/>
                      </a:lnTo>
                      <a:lnTo>
                        <a:pt x="239" y="224"/>
                      </a:lnTo>
                      <a:lnTo>
                        <a:pt x="234" y="230"/>
                      </a:lnTo>
                      <a:lnTo>
                        <a:pt x="230" y="234"/>
                      </a:lnTo>
                      <a:lnTo>
                        <a:pt x="225" y="239"/>
                      </a:lnTo>
                      <a:lnTo>
                        <a:pt x="221" y="245"/>
                      </a:lnTo>
                      <a:lnTo>
                        <a:pt x="217" y="251"/>
                      </a:lnTo>
                      <a:lnTo>
                        <a:pt x="212" y="255"/>
                      </a:lnTo>
                      <a:lnTo>
                        <a:pt x="206" y="259"/>
                      </a:lnTo>
                      <a:lnTo>
                        <a:pt x="200" y="265"/>
                      </a:lnTo>
                      <a:lnTo>
                        <a:pt x="196" y="271"/>
                      </a:lnTo>
                      <a:lnTo>
                        <a:pt x="190" y="276"/>
                      </a:lnTo>
                      <a:lnTo>
                        <a:pt x="184" y="282"/>
                      </a:lnTo>
                      <a:lnTo>
                        <a:pt x="178" y="288"/>
                      </a:lnTo>
                      <a:lnTo>
                        <a:pt x="172" y="294"/>
                      </a:lnTo>
                      <a:lnTo>
                        <a:pt x="168" y="297"/>
                      </a:lnTo>
                      <a:lnTo>
                        <a:pt x="165" y="300"/>
                      </a:lnTo>
                      <a:lnTo>
                        <a:pt x="162" y="302"/>
                      </a:lnTo>
                      <a:lnTo>
                        <a:pt x="159" y="305"/>
                      </a:lnTo>
                      <a:lnTo>
                        <a:pt x="154" y="307"/>
                      </a:lnTo>
                      <a:lnTo>
                        <a:pt x="151" y="310"/>
                      </a:lnTo>
                      <a:lnTo>
                        <a:pt x="147" y="313"/>
                      </a:lnTo>
                      <a:lnTo>
                        <a:pt x="144" y="316"/>
                      </a:lnTo>
                      <a:lnTo>
                        <a:pt x="141" y="319"/>
                      </a:lnTo>
                      <a:lnTo>
                        <a:pt x="136" y="322"/>
                      </a:lnTo>
                      <a:lnTo>
                        <a:pt x="133" y="325"/>
                      </a:lnTo>
                      <a:lnTo>
                        <a:pt x="130" y="328"/>
                      </a:lnTo>
                      <a:lnTo>
                        <a:pt x="126" y="329"/>
                      </a:lnTo>
                      <a:lnTo>
                        <a:pt x="123" y="334"/>
                      </a:lnTo>
                      <a:lnTo>
                        <a:pt x="119" y="337"/>
                      </a:lnTo>
                      <a:lnTo>
                        <a:pt x="116" y="340"/>
                      </a:lnTo>
                      <a:lnTo>
                        <a:pt x="111" y="341"/>
                      </a:lnTo>
                      <a:lnTo>
                        <a:pt x="108" y="344"/>
                      </a:lnTo>
                      <a:lnTo>
                        <a:pt x="104" y="347"/>
                      </a:lnTo>
                      <a:lnTo>
                        <a:pt x="101" y="350"/>
                      </a:lnTo>
                      <a:lnTo>
                        <a:pt x="96" y="351"/>
                      </a:lnTo>
                      <a:lnTo>
                        <a:pt x="93" y="356"/>
                      </a:lnTo>
                      <a:lnTo>
                        <a:pt x="89" y="357"/>
                      </a:lnTo>
                      <a:lnTo>
                        <a:pt x="86" y="360"/>
                      </a:lnTo>
                      <a:lnTo>
                        <a:pt x="83" y="363"/>
                      </a:lnTo>
                      <a:lnTo>
                        <a:pt x="79" y="366"/>
                      </a:lnTo>
                      <a:lnTo>
                        <a:pt x="76" y="368"/>
                      </a:lnTo>
                      <a:lnTo>
                        <a:pt x="73" y="371"/>
                      </a:lnTo>
                      <a:lnTo>
                        <a:pt x="65" y="377"/>
                      </a:lnTo>
                      <a:lnTo>
                        <a:pt x="59" y="381"/>
                      </a:lnTo>
                      <a:lnTo>
                        <a:pt x="53" y="386"/>
                      </a:lnTo>
                      <a:lnTo>
                        <a:pt x="47" y="390"/>
                      </a:lnTo>
                      <a:lnTo>
                        <a:pt x="40" y="393"/>
                      </a:lnTo>
                      <a:lnTo>
                        <a:pt x="36" y="397"/>
                      </a:lnTo>
                      <a:lnTo>
                        <a:pt x="30" y="400"/>
                      </a:lnTo>
                      <a:lnTo>
                        <a:pt x="25" y="405"/>
                      </a:lnTo>
                      <a:lnTo>
                        <a:pt x="21" y="408"/>
                      </a:lnTo>
                      <a:lnTo>
                        <a:pt x="16" y="412"/>
                      </a:lnTo>
                      <a:lnTo>
                        <a:pt x="12" y="414"/>
                      </a:lnTo>
                      <a:lnTo>
                        <a:pt x="9" y="417"/>
                      </a:lnTo>
                      <a:lnTo>
                        <a:pt x="6" y="418"/>
                      </a:lnTo>
                      <a:lnTo>
                        <a:pt x="4" y="420"/>
                      </a:lnTo>
                      <a:lnTo>
                        <a:pt x="0" y="423"/>
                      </a:lnTo>
                      <a:lnTo>
                        <a:pt x="0" y="424"/>
                      </a:lnTo>
                      <a:lnTo>
                        <a:pt x="0" y="424"/>
                      </a:lnTo>
                      <a:lnTo>
                        <a:pt x="4" y="424"/>
                      </a:lnTo>
                      <a:lnTo>
                        <a:pt x="7" y="424"/>
                      </a:lnTo>
                      <a:lnTo>
                        <a:pt x="10" y="424"/>
                      </a:lnTo>
                      <a:lnTo>
                        <a:pt x="13" y="424"/>
                      </a:lnTo>
                      <a:lnTo>
                        <a:pt x="18" y="424"/>
                      </a:lnTo>
                      <a:lnTo>
                        <a:pt x="22" y="424"/>
                      </a:lnTo>
                      <a:lnTo>
                        <a:pt x="27" y="424"/>
                      </a:lnTo>
                      <a:lnTo>
                        <a:pt x="33" y="424"/>
                      </a:lnTo>
                      <a:lnTo>
                        <a:pt x="38" y="424"/>
                      </a:lnTo>
                      <a:lnTo>
                        <a:pt x="44" y="424"/>
                      </a:lnTo>
                      <a:lnTo>
                        <a:pt x="50" y="426"/>
                      </a:lnTo>
                      <a:lnTo>
                        <a:pt x="53" y="426"/>
                      </a:lnTo>
                      <a:lnTo>
                        <a:pt x="56" y="426"/>
                      </a:lnTo>
                      <a:lnTo>
                        <a:pt x="59" y="427"/>
                      </a:lnTo>
                      <a:lnTo>
                        <a:pt x="64" y="427"/>
                      </a:lnTo>
                      <a:lnTo>
                        <a:pt x="70" y="427"/>
                      </a:lnTo>
                      <a:lnTo>
                        <a:pt x="77" y="429"/>
                      </a:lnTo>
                      <a:lnTo>
                        <a:pt x="80" y="429"/>
                      </a:lnTo>
                      <a:lnTo>
                        <a:pt x="84" y="429"/>
                      </a:lnTo>
                      <a:lnTo>
                        <a:pt x="87" y="430"/>
                      </a:lnTo>
                      <a:lnTo>
                        <a:pt x="92" y="432"/>
                      </a:lnTo>
                      <a:lnTo>
                        <a:pt x="95" y="432"/>
                      </a:lnTo>
                      <a:lnTo>
                        <a:pt x="98" y="432"/>
                      </a:lnTo>
                      <a:lnTo>
                        <a:pt x="102" y="432"/>
                      </a:lnTo>
                      <a:lnTo>
                        <a:pt x="105" y="433"/>
                      </a:lnTo>
                      <a:lnTo>
                        <a:pt x="108" y="433"/>
                      </a:lnTo>
                      <a:lnTo>
                        <a:pt x="113" y="435"/>
                      </a:lnTo>
                      <a:lnTo>
                        <a:pt x="116" y="435"/>
                      </a:lnTo>
                      <a:lnTo>
                        <a:pt x="120" y="436"/>
                      </a:lnTo>
                      <a:lnTo>
                        <a:pt x="123" y="438"/>
                      </a:lnTo>
                      <a:lnTo>
                        <a:pt x="126" y="439"/>
                      </a:lnTo>
                      <a:lnTo>
                        <a:pt x="130" y="439"/>
                      </a:lnTo>
                      <a:lnTo>
                        <a:pt x="133" y="440"/>
                      </a:lnTo>
                      <a:lnTo>
                        <a:pt x="136" y="440"/>
                      </a:lnTo>
                      <a:lnTo>
                        <a:pt x="141" y="442"/>
                      </a:lnTo>
                      <a:lnTo>
                        <a:pt x="144" y="443"/>
                      </a:lnTo>
                      <a:lnTo>
                        <a:pt x="147" y="445"/>
                      </a:lnTo>
                      <a:lnTo>
                        <a:pt x="153" y="446"/>
                      </a:lnTo>
                      <a:lnTo>
                        <a:pt x="160" y="449"/>
                      </a:lnTo>
                      <a:lnTo>
                        <a:pt x="166" y="454"/>
                      </a:lnTo>
                      <a:lnTo>
                        <a:pt x="172" y="457"/>
                      </a:lnTo>
                      <a:lnTo>
                        <a:pt x="176" y="460"/>
                      </a:lnTo>
                      <a:lnTo>
                        <a:pt x="182" y="463"/>
                      </a:lnTo>
                      <a:lnTo>
                        <a:pt x="185" y="467"/>
                      </a:lnTo>
                      <a:lnTo>
                        <a:pt x="191" y="472"/>
                      </a:lnTo>
                      <a:lnTo>
                        <a:pt x="194" y="475"/>
                      </a:lnTo>
                      <a:lnTo>
                        <a:pt x="199" y="479"/>
                      </a:lnTo>
                      <a:lnTo>
                        <a:pt x="203" y="484"/>
                      </a:lnTo>
                      <a:lnTo>
                        <a:pt x="206" y="488"/>
                      </a:lnTo>
                      <a:lnTo>
                        <a:pt x="209" y="491"/>
                      </a:lnTo>
                      <a:lnTo>
                        <a:pt x="212" y="497"/>
                      </a:lnTo>
                      <a:lnTo>
                        <a:pt x="215" y="500"/>
                      </a:lnTo>
                      <a:lnTo>
                        <a:pt x="218" y="506"/>
                      </a:lnTo>
                      <a:lnTo>
                        <a:pt x="220" y="510"/>
                      </a:lnTo>
                      <a:lnTo>
                        <a:pt x="222" y="513"/>
                      </a:lnTo>
                      <a:lnTo>
                        <a:pt x="224" y="518"/>
                      </a:lnTo>
                      <a:lnTo>
                        <a:pt x="227" y="524"/>
                      </a:lnTo>
                      <a:lnTo>
                        <a:pt x="228" y="527"/>
                      </a:lnTo>
                      <a:lnTo>
                        <a:pt x="230" y="531"/>
                      </a:lnTo>
                      <a:lnTo>
                        <a:pt x="230" y="534"/>
                      </a:lnTo>
                      <a:lnTo>
                        <a:pt x="231" y="538"/>
                      </a:lnTo>
                      <a:lnTo>
                        <a:pt x="233" y="541"/>
                      </a:lnTo>
                      <a:lnTo>
                        <a:pt x="234" y="546"/>
                      </a:lnTo>
                      <a:lnTo>
                        <a:pt x="234" y="549"/>
                      </a:lnTo>
                      <a:lnTo>
                        <a:pt x="236" y="552"/>
                      </a:lnTo>
                      <a:lnTo>
                        <a:pt x="236" y="556"/>
                      </a:lnTo>
                      <a:lnTo>
                        <a:pt x="237" y="559"/>
                      </a:lnTo>
                      <a:lnTo>
                        <a:pt x="237" y="562"/>
                      </a:lnTo>
                      <a:lnTo>
                        <a:pt x="237" y="564"/>
                      </a:lnTo>
                      <a:lnTo>
                        <a:pt x="405" y="540"/>
                      </a:lnTo>
                      <a:lnTo>
                        <a:pt x="405" y="537"/>
                      </a:lnTo>
                      <a:lnTo>
                        <a:pt x="405" y="532"/>
                      </a:lnTo>
                      <a:lnTo>
                        <a:pt x="405" y="528"/>
                      </a:lnTo>
                      <a:lnTo>
                        <a:pt x="406" y="525"/>
                      </a:lnTo>
                      <a:lnTo>
                        <a:pt x="406" y="519"/>
                      </a:lnTo>
                      <a:lnTo>
                        <a:pt x="409" y="515"/>
                      </a:lnTo>
                      <a:lnTo>
                        <a:pt x="409" y="510"/>
                      </a:lnTo>
                      <a:lnTo>
                        <a:pt x="412" y="504"/>
                      </a:lnTo>
                      <a:lnTo>
                        <a:pt x="414" y="498"/>
                      </a:lnTo>
                      <a:lnTo>
                        <a:pt x="417" y="494"/>
                      </a:lnTo>
                      <a:lnTo>
                        <a:pt x="420" y="488"/>
                      </a:lnTo>
                      <a:lnTo>
                        <a:pt x="424" y="484"/>
                      </a:lnTo>
                      <a:lnTo>
                        <a:pt x="427" y="479"/>
                      </a:lnTo>
                      <a:lnTo>
                        <a:pt x="432" y="476"/>
                      </a:lnTo>
                      <a:lnTo>
                        <a:pt x="436" y="472"/>
                      </a:lnTo>
                      <a:lnTo>
                        <a:pt x="442" y="469"/>
                      </a:lnTo>
                      <a:lnTo>
                        <a:pt x="447" y="466"/>
                      </a:lnTo>
                      <a:lnTo>
                        <a:pt x="452" y="464"/>
                      </a:lnTo>
                      <a:lnTo>
                        <a:pt x="458" y="461"/>
                      </a:lnTo>
                      <a:lnTo>
                        <a:pt x="464" y="461"/>
                      </a:lnTo>
                      <a:lnTo>
                        <a:pt x="470" y="460"/>
                      </a:lnTo>
                      <a:lnTo>
                        <a:pt x="476" y="460"/>
                      </a:lnTo>
                      <a:lnTo>
                        <a:pt x="481" y="460"/>
                      </a:lnTo>
                      <a:lnTo>
                        <a:pt x="485" y="460"/>
                      </a:lnTo>
                      <a:lnTo>
                        <a:pt x="490" y="460"/>
                      </a:lnTo>
                      <a:lnTo>
                        <a:pt x="494" y="460"/>
                      </a:lnTo>
                      <a:lnTo>
                        <a:pt x="497" y="460"/>
                      </a:lnTo>
                      <a:lnTo>
                        <a:pt x="500" y="460"/>
                      </a:lnTo>
                      <a:lnTo>
                        <a:pt x="500" y="460"/>
                      </a:lnTo>
                      <a:lnTo>
                        <a:pt x="501" y="461"/>
                      </a:lnTo>
                      <a:lnTo>
                        <a:pt x="544" y="383"/>
                      </a:lnTo>
                      <a:lnTo>
                        <a:pt x="381" y="448"/>
                      </a:lnTo>
                      <a:lnTo>
                        <a:pt x="380" y="446"/>
                      </a:lnTo>
                      <a:lnTo>
                        <a:pt x="380" y="445"/>
                      </a:lnTo>
                      <a:lnTo>
                        <a:pt x="378" y="442"/>
                      </a:lnTo>
                      <a:lnTo>
                        <a:pt x="377" y="439"/>
                      </a:lnTo>
                      <a:lnTo>
                        <a:pt x="375" y="433"/>
                      </a:lnTo>
                      <a:lnTo>
                        <a:pt x="375" y="427"/>
                      </a:lnTo>
                      <a:lnTo>
                        <a:pt x="372" y="421"/>
                      </a:lnTo>
                      <a:lnTo>
                        <a:pt x="372" y="415"/>
                      </a:lnTo>
                      <a:lnTo>
                        <a:pt x="372" y="412"/>
                      </a:lnTo>
                      <a:lnTo>
                        <a:pt x="371" y="408"/>
                      </a:lnTo>
                      <a:lnTo>
                        <a:pt x="371" y="405"/>
                      </a:lnTo>
                      <a:lnTo>
                        <a:pt x="371" y="400"/>
                      </a:lnTo>
                      <a:lnTo>
                        <a:pt x="371" y="397"/>
                      </a:lnTo>
                      <a:lnTo>
                        <a:pt x="371" y="393"/>
                      </a:lnTo>
                      <a:lnTo>
                        <a:pt x="371" y="390"/>
                      </a:lnTo>
                      <a:lnTo>
                        <a:pt x="371" y="387"/>
                      </a:lnTo>
                      <a:lnTo>
                        <a:pt x="371" y="384"/>
                      </a:lnTo>
                      <a:lnTo>
                        <a:pt x="372" y="380"/>
                      </a:lnTo>
                      <a:lnTo>
                        <a:pt x="372" y="377"/>
                      </a:lnTo>
                      <a:lnTo>
                        <a:pt x="374" y="374"/>
                      </a:lnTo>
                      <a:lnTo>
                        <a:pt x="377" y="368"/>
                      </a:lnTo>
                      <a:lnTo>
                        <a:pt x="381" y="363"/>
                      </a:lnTo>
                      <a:lnTo>
                        <a:pt x="386" y="359"/>
                      </a:lnTo>
                      <a:lnTo>
                        <a:pt x="392" y="354"/>
                      </a:lnTo>
                      <a:lnTo>
                        <a:pt x="393" y="353"/>
                      </a:lnTo>
                      <a:lnTo>
                        <a:pt x="396" y="351"/>
                      </a:lnTo>
                      <a:lnTo>
                        <a:pt x="401" y="350"/>
                      </a:lnTo>
                      <a:lnTo>
                        <a:pt x="404" y="348"/>
                      </a:lnTo>
                      <a:lnTo>
                        <a:pt x="406" y="348"/>
                      </a:lnTo>
                      <a:lnTo>
                        <a:pt x="411" y="347"/>
                      </a:lnTo>
                      <a:lnTo>
                        <a:pt x="414" y="346"/>
                      </a:lnTo>
                      <a:lnTo>
                        <a:pt x="418" y="346"/>
                      </a:lnTo>
                      <a:lnTo>
                        <a:pt x="421" y="346"/>
                      </a:lnTo>
                      <a:lnTo>
                        <a:pt x="426" y="344"/>
                      </a:lnTo>
                      <a:lnTo>
                        <a:pt x="429" y="344"/>
                      </a:lnTo>
                      <a:lnTo>
                        <a:pt x="433" y="344"/>
                      </a:lnTo>
                      <a:lnTo>
                        <a:pt x="436" y="344"/>
                      </a:lnTo>
                      <a:lnTo>
                        <a:pt x="439" y="344"/>
                      </a:lnTo>
                      <a:lnTo>
                        <a:pt x="442" y="344"/>
                      </a:lnTo>
                      <a:lnTo>
                        <a:pt x="447" y="344"/>
                      </a:lnTo>
                      <a:lnTo>
                        <a:pt x="452" y="344"/>
                      </a:lnTo>
                      <a:lnTo>
                        <a:pt x="458" y="344"/>
                      </a:lnTo>
                      <a:lnTo>
                        <a:pt x="463" y="344"/>
                      </a:lnTo>
                      <a:lnTo>
                        <a:pt x="466" y="344"/>
                      </a:lnTo>
                      <a:lnTo>
                        <a:pt x="467" y="344"/>
                      </a:lnTo>
                      <a:lnTo>
                        <a:pt x="469" y="346"/>
                      </a:lnTo>
                      <a:lnTo>
                        <a:pt x="553" y="252"/>
                      </a:lnTo>
                      <a:lnTo>
                        <a:pt x="381" y="313"/>
                      </a:lnTo>
                      <a:lnTo>
                        <a:pt x="381" y="311"/>
                      </a:lnTo>
                      <a:lnTo>
                        <a:pt x="381" y="308"/>
                      </a:lnTo>
                      <a:lnTo>
                        <a:pt x="381" y="304"/>
                      </a:lnTo>
                      <a:lnTo>
                        <a:pt x="383" y="300"/>
                      </a:lnTo>
                      <a:lnTo>
                        <a:pt x="383" y="295"/>
                      </a:lnTo>
                      <a:lnTo>
                        <a:pt x="383" y="292"/>
                      </a:lnTo>
                      <a:lnTo>
                        <a:pt x="384" y="288"/>
                      </a:lnTo>
                      <a:lnTo>
                        <a:pt x="384" y="285"/>
                      </a:lnTo>
                      <a:lnTo>
                        <a:pt x="386" y="280"/>
                      </a:lnTo>
                      <a:lnTo>
                        <a:pt x="387" y="276"/>
                      </a:lnTo>
                      <a:lnTo>
                        <a:pt x="387" y="273"/>
                      </a:lnTo>
                      <a:lnTo>
                        <a:pt x="389" y="268"/>
                      </a:lnTo>
                      <a:lnTo>
                        <a:pt x="390" y="264"/>
                      </a:lnTo>
                      <a:lnTo>
                        <a:pt x="392" y="259"/>
                      </a:lnTo>
                      <a:lnTo>
                        <a:pt x="392" y="254"/>
                      </a:lnTo>
                      <a:lnTo>
                        <a:pt x="395" y="251"/>
                      </a:lnTo>
                      <a:lnTo>
                        <a:pt x="395" y="245"/>
                      </a:lnTo>
                      <a:lnTo>
                        <a:pt x="398" y="240"/>
                      </a:lnTo>
                      <a:lnTo>
                        <a:pt x="399" y="236"/>
                      </a:lnTo>
                      <a:lnTo>
                        <a:pt x="401" y="233"/>
                      </a:lnTo>
                      <a:lnTo>
                        <a:pt x="402" y="228"/>
                      </a:lnTo>
                      <a:lnTo>
                        <a:pt x="405" y="224"/>
                      </a:lnTo>
                      <a:lnTo>
                        <a:pt x="406" y="219"/>
                      </a:lnTo>
                      <a:lnTo>
                        <a:pt x="409" y="216"/>
                      </a:lnTo>
                      <a:lnTo>
                        <a:pt x="414" y="210"/>
                      </a:lnTo>
                      <a:lnTo>
                        <a:pt x="420" y="206"/>
                      </a:lnTo>
                      <a:lnTo>
                        <a:pt x="424" y="200"/>
                      </a:lnTo>
                      <a:lnTo>
                        <a:pt x="430" y="197"/>
                      </a:lnTo>
                      <a:lnTo>
                        <a:pt x="436" y="194"/>
                      </a:lnTo>
                      <a:lnTo>
                        <a:pt x="444" y="194"/>
                      </a:lnTo>
                      <a:lnTo>
                        <a:pt x="450" y="193"/>
                      </a:lnTo>
                      <a:lnTo>
                        <a:pt x="455" y="193"/>
                      </a:lnTo>
                      <a:lnTo>
                        <a:pt x="463" y="194"/>
                      </a:lnTo>
                      <a:lnTo>
                        <a:pt x="469" y="196"/>
                      </a:lnTo>
                      <a:lnTo>
                        <a:pt x="475" y="196"/>
                      </a:lnTo>
                      <a:lnTo>
                        <a:pt x="481" y="197"/>
                      </a:lnTo>
                      <a:lnTo>
                        <a:pt x="485" y="200"/>
                      </a:lnTo>
                      <a:lnTo>
                        <a:pt x="490" y="202"/>
                      </a:lnTo>
                      <a:lnTo>
                        <a:pt x="493" y="203"/>
                      </a:lnTo>
                      <a:lnTo>
                        <a:pt x="496" y="205"/>
                      </a:lnTo>
                      <a:lnTo>
                        <a:pt x="497" y="205"/>
                      </a:lnTo>
                      <a:lnTo>
                        <a:pt x="498" y="206"/>
                      </a:lnTo>
                      <a:lnTo>
                        <a:pt x="498" y="205"/>
                      </a:lnTo>
                      <a:lnTo>
                        <a:pt x="500" y="203"/>
                      </a:lnTo>
                      <a:lnTo>
                        <a:pt x="501" y="200"/>
                      </a:lnTo>
                      <a:lnTo>
                        <a:pt x="506" y="197"/>
                      </a:lnTo>
                      <a:lnTo>
                        <a:pt x="509" y="193"/>
                      </a:lnTo>
                      <a:lnTo>
                        <a:pt x="513" y="187"/>
                      </a:lnTo>
                      <a:lnTo>
                        <a:pt x="518" y="181"/>
                      </a:lnTo>
                      <a:lnTo>
                        <a:pt x="525" y="175"/>
                      </a:lnTo>
                      <a:lnTo>
                        <a:pt x="527" y="170"/>
                      </a:lnTo>
                      <a:lnTo>
                        <a:pt x="530" y="167"/>
                      </a:lnTo>
                      <a:lnTo>
                        <a:pt x="533" y="163"/>
                      </a:lnTo>
                      <a:lnTo>
                        <a:pt x="537" y="160"/>
                      </a:lnTo>
                      <a:lnTo>
                        <a:pt x="540" y="156"/>
                      </a:lnTo>
                      <a:lnTo>
                        <a:pt x="544" y="151"/>
                      </a:lnTo>
                      <a:lnTo>
                        <a:pt x="547" y="147"/>
                      </a:lnTo>
                      <a:lnTo>
                        <a:pt x="552" y="144"/>
                      </a:lnTo>
                      <a:lnTo>
                        <a:pt x="555" y="138"/>
                      </a:lnTo>
                      <a:lnTo>
                        <a:pt x="559" y="135"/>
                      </a:lnTo>
                      <a:lnTo>
                        <a:pt x="562" y="130"/>
                      </a:lnTo>
                      <a:lnTo>
                        <a:pt x="567" y="126"/>
                      </a:lnTo>
                      <a:lnTo>
                        <a:pt x="570" y="121"/>
                      </a:lnTo>
                      <a:lnTo>
                        <a:pt x="574" y="117"/>
                      </a:lnTo>
                      <a:lnTo>
                        <a:pt x="577" y="113"/>
                      </a:lnTo>
                      <a:lnTo>
                        <a:pt x="582" y="108"/>
                      </a:lnTo>
                      <a:lnTo>
                        <a:pt x="585" y="104"/>
                      </a:lnTo>
                      <a:lnTo>
                        <a:pt x="588" y="99"/>
                      </a:lnTo>
                      <a:lnTo>
                        <a:pt x="590" y="95"/>
                      </a:lnTo>
                      <a:lnTo>
                        <a:pt x="595" y="90"/>
                      </a:lnTo>
                      <a:lnTo>
                        <a:pt x="598" y="84"/>
                      </a:lnTo>
                      <a:lnTo>
                        <a:pt x="601" y="81"/>
                      </a:lnTo>
                      <a:lnTo>
                        <a:pt x="604" y="75"/>
                      </a:lnTo>
                      <a:lnTo>
                        <a:pt x="608" y="72"/>
                      </a:lnTo>
                      <a:lnTo>
                        <a:pt x="610" y="67"/>
                      </a:lnTo>
                      <a:lnTo>
                        <a:pt x="613" y="62"/>
                      </a:lnTo>
                      <a:lnTo>
                        <a:pt x="616" y="59"/>
                      </a:lnTo>
                      <a:lnTo>
                        <a:pt x="620" y="55"/>
                      </a:lnTo>
                      <a:lnTo>
                        <a:pt x="622" y="50"/>
                      </a:lnTo>
                      <a:lnTo>
                        <a:pt x="625" y="47"/>
                      </a:lnTo>
                      <a:lnTo>
                        <a:pt x="628" y="43"/>
                      </a:lnTo>
                      <a:lnTo>
                        <a:pt x="631" y="40"/>
                      </a:lnTo>
                      <a:lnTo>
                        <a:pt x="632" y="37"/>
                      </a:lnTo>
                      <a:lnTo>
                        <a:pt x="634" y="32"/>
                      </a:lnTo>
                      <a:lnTo>
                        <a:pt x="635" y="29"/>
                      </a:lnTo>
                      <a:lnTo>
                        <a:pt x="638" y="28"/>
                      </a:lnTo>
                      <a:lnTo>
                        <a:pt x="641" y="22"/>
                      </a:lnTo>
                      <a:lnTo>
                        <a:pt x="645" y="18"/>
                      </a:lnTo>
                      <a:lnTo>
                        <a:pt x="647" y="13"/>
                      </a:lnTo>
                      <a:lnTo>
                        <a:pt x="648" y="12"/>
                      </a:lnTo>
                      <a:lnTo>
                        <a:pt x="650" y="9"/>
                      </a:lnTo>
                      <a:lnTo>
                        <a:pt x="650" y="9"/>
                      </a:lnTo>
                      <a:lnTo>
                        <a:pt x="442" y="0"/>
                      </a:lnTo>
                      <a:lnTo>
                        <a:pt x="442"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03360" y="1743120"/>
                  <a:ext cx="1089000" cy="614160"/>
                </a:xfrm>
                <a:custGeom>
                  <a:avLst/>
                  <a:gdLst/>
                  <a:ahLst/>
                  <a:rect l="l" t="t" r="r" b="b"/>
                  <a:pathLst>
                    <a:path w="1372" h="774">
                      <a:moveTo>
                        <a:pt x="0" y="774"/>
                      </a:moveTo>
                      <a:lnTo>
                        <a:pt x="0" y="773"/>
                      </a:lnTo>
                      <a:lnTo>
                        <a:pt x="0" y="771"/>
                      </a:lnTo>
                      <a:lnTo>
                        <a:pt x="1" y="770"/>
                      </a:lnTo>
                      <a:lnTo>
                        <a:pt x="4" y="767"/>
                      </a:lnTo>
                      <a:lnTo>
                        <a:pt x="6" y="762"/>
                      </a:lnTo>
                      <a:lnTo>
                        <a:pt x="10" y="758"/>
                      </a:lnTo>
                      <a:lnTo>
                        <a:pt x="13" y="752"/>
                      </a:lnTo>
                      <a:lnTo>
                        <a:pt x="18" y="746"/>
                      </a:lnTo>
                      <a:lnTo>
                        <a:pt x="19" y="742"/>
                      </a:lnTo>
                      <a:lnTo>
                        <a:pt x="21" y="739"/>
                      </a:lnTo>
                      <a:lnTo>
                        <a:pt x="24" y="734"/>
                      </a:lnTo>
                      <a:lnTo>
                        <a:pt x="27" y="731"/>
                      </a:lnTo>
                      <a:lnTo>
                        <a:pt x="29" y="727"/>
                      </a:lnTo>
                      <a:lnTo>
                        <a:pt x="32" y="722"/>
                      </a:lnTo>
                      <a:lnTo>
                        <a:pt x="35" y="719"/>
                      </a:lnTo>
                      <a:lnTo>
                        <a:pt x="38" y="715"/>
                      </a:lnTo>
                      <a:lnTo>
                        <a:pt x="41" y="709"/>
                      </a:lnTo>
                      <a:lnTo>
                        <a:pt x="44" y="705"/>
                      </a:lnTo>
                      <a:lnTo>
                        <a:pt x="49" y="700"/>
                      </a:lnTo>
                      <a:lnTo>
                        <a:pt x="52" y="696"/>
                      </a:lnTo>
                      <a:lnTo>
                        <a:pt x="56" y="690"/>
                      </a:lnTo>
                      <a:lnTo>
                        <a:pt x="59" y="685"/>
                      </a:lnTo>
                      <a:lnTo>
                        <a:pt x="64" y="681"/>
                      </a:lnTo>
                      <a:lnTo>
                        <a:pt x="68" y="676"/>
                      </a:lnTo>
                      <a:lnTo>
                        <a:pt x="71" y="670"/>
                      </a:lnTo>
                      <a:lnTo>
                        <a:pt x="75" y="664"/>
                      </a:lnTo>
                      <a:lnTo>
                        <a:pt x="80" y="659"/>
                      </a:lnTo>
                      <a:lnTo>
                        <a:pt x="84" y="654"/>
                      </a:lnTo>
                      <a:lnTo>
                        <a:pt x="89" y="648"/>
                      </a:lnTo>
                      <a:lnTo>
                        <a:pt x="93" y="642"/>
                      </a:lnTo>
                      <a:lnTo>
                        <a:pt x="98" y="636"/>
                      </a:lnTo>
                      <a:lnTo>
                        <a:pt x="104" y="630"/>
                      </a:lnTo>
                      <a:lnTo>
                        <a:pt x="108" y="624"/>
                      </a:lnTo>
                      <a:lnTo>
                        <a:pt x="113" y="618"/>
                      </a:lnTo>
                      <a:lnTo>
                        <a:pt x="117" y="613"/>
                      </a:lnTo>
                      <a:lnTo>
                        <a:pt x="123" y="607"/>
                      </a:lnTo>
                      <a:lnTo>
                        <a:pt x="127" y="601"/>
                      </a:lnTo>
                      <a:lnTo>
                        <a:pt x="133" y="595"/>
                      </a:lnTo>
                      <a:lnTo>
                        <a:pt x="139" y="589"/>
                      </a:lnTo>
                      <a:lnTo>
                        <a:pt x="145" y="583"/>
                      </a:lnTo>
                      <a:lnTo>
                        <a:pt x="150" y="577"/>
                      </a:lnTo>
                      <a:lnTo>
                        <a:pt x="156" y="571"/>
                      </a:lnTo>
                      <a:lnTo>
                        <a:pt x="162" y="565"/>
                      </a:lnTo>
                      <a:lnTo>
                        <a:pt x="167" y="559"/>
                      </a:lnTo>
                      <a:lnTo>
                        <a:pt x="172" y="553"/>
                      </a:lnTo>
                      <a:lnTo>
                        <a:pt x="179" y="547"/>
                      </a:lnTo>
                      <a:lnTo>
                        <a:pt x="185" y="541"/>
                      </a:lnTo>
                      <a:lnTo>
                        <a:pt x="191" y="535"/>
                      </a:lnTo>
                      <a:lnTo>
                        <a:pt x="197" y="529"/>
                      </a:lnTo>
                      <a:lnTo>
                        <a:pt x="205" y="523"/>
                      </a:lnTo>
                      <a:lnTo>
                        <a:pt x="210" y="518"/>
                      </a:lnTo>
                      <a:lnTo>
                        <a:pt x="218" y="512"/>
                      </a:lnTo>
                      <a:lnTo>
                        <a:pt x="224" y="506"/>
                      </a:lnTo>
                      <a:lnTo>
                        <a:pt x="230" y="500"/>
                      </a:lnTo>
                      <a:lnTo>
                        <a:pt x="236" y="495"/>
                      </a:lnTo>
                      <a:lnTo>
                        <a:pt x="243" y="489"/>
                      </a:lnTo>
                      <a:lnTo>
                        <a:pt x="251" y="485"/>
                      </a:lnTo>
                      <a:lnTo>
                        <a:pt x="256" y="479"/>
                      </a:lnTo>
                      <a:lnTo>
                        <a:pt x="264" y="473"/>
                      </a:lnTo>
                      <a:lnTo>
                        <a:pt x="271" y="469"/>
                      </a:lnTo>
                      <a:lnTo>
                        <a:pt x="277" y="463"/>
                      </a:lnTo>
                      <a:lnTo>
                        <a:pt x="285" y="458"/>
                      </a:lnTo>
                      <a:lnTo>
                        <a:pt x="292" y="452"/>
                      </a:lnTo>
                      <a:lnTo>
                        <a:pt x="300" y="448"/>
                      </a:lnTo>
                      <a:lnTo>
                        <a:pt x="305" y="443"/>
                      </a:lnTo>
                      <a:lnTo>
                        <a:pt x="313" y="439"/>
                      </a:lnTo>
                      <a:lnTo>
                        <a:pt x="319" y="434"/>
                      </a:lnTo>
                      <a:lnTo>
                        <a:pt x="326" y="430"/>
                      </a:lnTo>
                      <a:lnTo>
                        <a:pt x="334" y="426"/>
                      </a:lnTo>
                      <a:lnTo>
                        <a:pt x="341" y="421"/>
                      </a:lnTo>
                      <a:lnTo>
                        <a:pt x="348" y="417"/>
                      </a:lnTo>
                      <a:lnTo>
                        <a:pt x="356" y="414"/>
                      </a:lnTo>
                      <a:lnTo>
                        <a:pt x="363" y="409"/>
                      </a:lnTo>
                      <a:lnTo>
                        <a:pt x="369" y="405"/>
                      </a:lnTo>
                      <a:lnTo>
                        <a:pt x="377" y="400"/>
                      </a:lnTo>
                      <a:lnTo>
                        <a:pt x="383" y="396"/>
                      </a:lnTo>
                      <a:lnTo>
                        <a:pt x="390" y="393"/>
                      </a:lnTo>
                      <a:lnTo>
                        <a:pt x="396" y="388"/>
                      </a:lnTo>
                      <a:lnTo>
                        <a:pt x="403" y="385"/>
                      </a:lnTo>
                      <a:lnTo>
                        <a:pt x="411" y="383"/>
                      </a:lnTo>
                      <a:lnTo>
                        <a:pt x="417" y="378"/>
                      </a:lnTo>
                      <a:lnTo>
                        <a:pt x="424" y="375"/>
                      </a:lnTo>
                      <a:lnTo>
                        <a:pt x="430" y="371"/>
                      </a:lnTo>
                      <a:lnTo>
                        <a:pt x="438" y="369"/>
                      </a:lnTo>
                      <a:lnTo>
                        <a:pt x="443" y="365"/>
                      </a:lnTo>
                      <a:lnTo>
                        <a:pt x="449" y="362"/>
                      </a:lnTo>
                      <a:lnTo>
                        <a:pt x="455" y="359"/>
                      </a:lnTo>
                      <a:lnTo>
                        <a:pt x="463" y="357"/>
                      </a:lnTo>
                      <a:lnTo>
                        <a:pt x="467" y="353"/>
                      </a:lnTo>
                      <a:lnTo>
                        <a:pt x="473" y="350"/>
                      </a:lnTo>
                      <a:lnTo>
                        <a:pt x="479" y="347"/>
                      </a:lnTo>
                      <a:lnTo>
                        <a:pt x="485" y="345"/>
                      </a:lnTo>
                      <a:lnTo>
                        <a:pt x="489" y="342"/>
                      </a:lnTo>
                      <a:lnTo>
                        <a:pt x="495" y="339"/>
                      </a:lnTo>
                      <a:lnTo>
                        <a:pt x="501" y="338"/>
                      </a:lnTo>
                      <a:lnTo>
                        <a:pt x="507" y="337"/>
                      </a:lnTo>
                      <a:lnTo>
                        <a:pt x="512" y="334"/>
                      </a:lnTo>
                      <a:lnTo>
                        <a:pt x="516" y="331"/>
                      </a:lnTo>
                      <a:lnTo>
                        <a:pt x="521" y="329"/>
                      </a:lnTo>
                      <a:lnTo>
                        <a:pt x="525" y="328"/>
                      </a:lnTo>
                      <a:lnTo>
                        <a:pt x="530" y="326"/>
                      </a:lnTo>
                      <a:lnTo>
                        <a:pt x="534" y="325"/>
                      </a:lnTo>
                      <a:lnTo>
                        <a:pt x="538" y="323"/>
                      </a:lnTo>
                      <a:lnTo>
                        <a:pt x="541" y="322"/>
                      </a:lnTo>
                      <a:lnTo>
                        <a:pt x="546" y="320"/>
                      </a:lnTo>
                      <a:lnTo>
                        <a:pt x="549" y="319"/>
                      </a:lnTo>
                      <a:lnTo>
                        <a:pt x="552" y="317"/>
                      </a:lnTo>
                      <a:lnTo>
                        <a:pt x="555" y="316"/>
                      </a:lnTo>
                      <a:lnTo>
                        <a:pt x="561" y="314"/>
                      </a:lnTo>
                      <a:lnTo>
                        <a:pt x="565" y="313"/>
                      </a:lnTo>
                      <a:lnTo>
                        <a:pt x="568" y="311"/>
                      </a:lnTo>
                      <a:lnTo>
                        <a:pt x="571" y="310"/>
                      </a:lnTo>
                      <a:lnTo>
                        <a:pt x="573" y="310"/>
                      </a:lnTo>
                      <a:lnTo>
                        <a:pt x="574" y="310"/>
                      </a:lnTo>
                      <a:lnTo>
                        <a:pt x="574" y="310"/>
                      </a:lnTo>
                      <a:lnTo>
                        <a:pt x="576" y="308"/>
                      </a:lnTo>
                      <a:lnTo>
                        <a:pt x="577" y="305"/>
                      </a:lnTo>
                      <a:lnTo>
                        <a:pt x="581" y="304"/>
                      </a:lnTo>
                      <a:lnTo>
                        <a:pt x="586" y="299"/>
                      </a:lnTo>
                      <a:lnTo>
                        <a:pt x="592" y="295"/>
                      </a:lnTo>
                      <a:lnTo>
                        <a:pt x="595" y="293"/>
                      </a:lnTo>
                      <a:lnTo>
                        <a:pt x="598" y="291"/>
                      </a:lnTo>
                      <a:lnTo>
                        <a:pt x="602" y="288"/>
                      </a:lnTo>
                      <a:lnTo>
                        <a:pt x="607" y="286"/>
                      </a:lnTo>
                      <a:lnTo>
                        <a:pt x="610" y="282"/>
                      </a:lnTo>
                      <a:lnTo>
                        <a:pt x="614" y="279"/>
                      </a:lnTo>
                      <a:lnTo>
                        <a:pt x="619" y="276"/>
                      </a:lnTo>
                      <a:lnTo>
                        <a:pt x="624" y="273"/>
                      </a:lnTo>
                      <a:lnTo>
                        <a:pt x="627" y="270"/>
                      </a:lnTo>
                      <a:lnTo>
                        <a:pt x="633" y="265"/>
                      </a:lnTo>
                      <a:lnTo>
                        <a:pt x="639" y="262"/>
                      </a:lnTo>
                      <a:lnTo>
                        <a:pt x="645" y="259"/>
                      </a:lnTo>
                      <a:lnTo>
                        <a:pt x="650" y="255"/>
                      </a:lnTo>
                      <a:lnTo>
                        <a:pt x="656" y="250"/>
                      </a:lnTo>
                      <a:lnTo>
                        <a:pt x="662" y="246"/>
                      </a:lnTo>
                      <a:lnTo>
                        <a:pt x="669" y="243"/>
                      </a:lnTo>
                      <a:lnTo>
                        <a:pt x="673" y="239"/>
                      </a:lnTo>
                      <a:lnTo>
                        <a:pt x="681" y="234"/>
                      </a:lnTo>
                      <a:lnTo>
                        <a:pt x="688" y="230"/>
                      </a:lnTo>
                      <a:lnTo>
                        <a:pt x="696" y="225"/>
                      </a:lnTo>
                      <a:lnTo>
                        <a:pt x="702" y="221"/>
                      </a:lnTo>
                      <a:lnTo>
                        <a:pt x="708" y="216"/>
                      </a:lnTo>
                      <a:lnTo>
                        <a:pt x="715" y="212"/>
                      </a:lnTo>
                      <a:lnTo>
                        <a:pt x="722" y="207"/>
                      </a:lnTo>
                      <a:lnTo>
                        <a:pt x="730" y="203"/>
                      </a:lnTo>
                      <a:lnTo>
                        <a:pt x="737" y="199"/>
                      </a:lnTo>
                      <a:lnTo>
                        <a:pt x="746" y="193"/>
                      </a:lnTo>
                      <a:lnTo>
                        <a:pt x="754" y="188"/>
                      </a:lnTo>
                      <a:lnTo>
                        <a:pt x="761" y="184"/>
                      </a:lnTo>
                      <a:lnTo>
                        <a:pt x="770" y="179"/>
                      </a:lnTo>
                      <a:lnTo>
                        <a:pt x="777" y="173"/>
                      </a:lnTo>
                      <a:lnTo>
                        <a:pt x="786" y="169"/>
                      </a:lnTo>
                      <a:lnTo>
                        <a:pt x="795" y="164"/>
                      </a:lnTo>
                      <a:lnTo>
                        <a:pt x="804" y="160"/>
                      </a:lnTo>
                      <a:lnTo>
                        <a:pt x="811" y="155"/>
                      </a:lnTo>
                      <a:lnTo>
                        <a:pt x="820" y="151"/>
                      </a:lnTo>
                      <a:lnTo>
                        <a:pt x="829" y="147"/>
                      </a:lnTo>
                      <a:lnTo>
                        <a:pt x="838" y="142"/>
                      </a:lnTo>
                      <a:lnTo>
                        <a:pt x="846" y="136"/>
                      </a:lnTo>
                      <a:lnTo>
                        <a:pt x="856" y="132"/>
                      </a:lnTo>
                      <a:lnTo>
                        <a:pt x="865" y="127"/>
                      </a:lnTo>
                      <a:lnTo>
                        <a:pt x="874" y="123"/>
                      </a:lnTo>
                      <a:lnTo>
                        <a:pt x="883" y="118"/>
                      </a:lnTo>
                      <a:lnTo>
                        <a:pt x="893" y="114"/>
                      </a:lnTo>
                      <a:lnTo>
                        <a:pt x="902" y="109"/>
                      </a:lnTo>
                      <a:lnTo>
                        <a:pt x="911" y="105"/>
                      </a:lnTo>
                      <a:lnTo>
                        <a:pt x="920" y="102"/>
                      </a:lnTo>
                      <a:lnTo>
                        <a:pt x="930" y="98"/>
                      </a:lnTo>
                      <a:lnTo>
                        <a:pt x="939" y="93"/>
                      </a:lnTo>
                      <a:lnTo>
                        <a:pt x="948" y="90"/>
                      </a:lnTo>
                      <a:lnTo>
                        <a:pt x="957" y="86"/>
                      </a:lnTo>
                      <a:lnTo>
                        <a:pt x="967" y="83"/>
                      </a:lnTo>
                      <a:lnTo>
                        <a:pt x="976" y="80"/>
                      </a:lnTo>
                      <a:lnTo>
                        <a:pt x="987" y="75"/>
                      </a:lnTo>
                      <a:lnTo>
                        <a:pt x="995" y="71"/>
                      </a:lnTo>
                      <a:lnTo>
                        <a:pt x="1004" y="68"/>
                      </a:lnTo>
                      <a:lnTo>
                        <a:pt x="1013" y="65"/>
                      </a:lnTo>
                      <a:lnTo>
                        <a:pt x="1024" y="62"/>
                      </a:lnTo>
                      <a:lnTo>
                        <a:pt x="1033" y="59"/>
                      </a:lnTo>
                      <a:lnTo>
                        <a:pt x="1041" y="56"/>
                      </a:lnTo>
                      <a:lnTo>
                        <a:pt x="1050" y="53"/>
                      </a:lnTo>
                      <a:lnTo>
                        <a:pt x="1059" y="52"/>
                      </a:lnTo>
                      <a:lnTo>
                        <a:pt x="1070" y="49"/>
                      </a:lnTo>
                      <a:lnTo>
                        <a:pt x="1079" y="46"/>
                      </a:lnTo>
                      <a:lnTo>
                        <a:pt x="1087" y="43"/>
                      </a:lnTo>
                      <a:lnTo>
                        <a:pt x="1096" y="41"/>
                      </a:lnTo>
                      <a:lnTo>
                        <a:pt x="1105" y="38"/>
                      </a:lnTo>
                      <a:lnTo>
                        <a:pt x="1114" y="37"/>
                      </a:lnTo>
                      <a:lnTo>
                        <a:pt x="1123" y="34"/>
                      </a:lnTo>
                      <a:lnTo>
                        <a:pt x="1132" y="32"/>
                      </a:lnTo>
                      <a:lnTo>
                        <a:pt x="1139" y="31"/>
                      </a:lnTo>
                      <a:lnTo>
                        <a:pt x="1150" y="29"/>
                      </a:lnTo>
                      <a:lnTo>
                        <a:pt x="1157" y="26"/>
                      </a:lnTo>
                      <a:lnTo>
                        <a:pt x="1166" y="25"/>
                      </a:lnTo>
                      <a:lnTo>
                        <a:pt x="1173" y="23"/>
                      </a:lnTo>
                      <a:lnTo>
                        <a:pt x="1182" y="22"/>
                      </a:lnTo>
                      <a:lnTo>
                        <a:pt x="1190" y="20"/>
                      </a:lnTo>
                      <a:lnTo>
                        <a:pt x="1199" y="19"/>
                      </a:lnTo>
                      <a:lnTo>
                        <a:pt x="1206" y="17"/>
                      </a:lnTo>
                      <a:lnTo>
                        <a:pt x="1215" y="16"/>
                      </a:lnTo>
                      <a:lnTo>
                        <a:pt x="1222" y="15"/>
                      </a:lnTo>
                      <a:lnTo>
                        <a:pt x="1230" y="15"/>
                      </a:lnTo>
                      <a:lnTo>
                        <a:pt x="1237" y="13"/>
                      </a:lnTo>
                      <a:lnTo>
                        <a:pt x="1245" y="13"/>
                      </a:lnTo>
                      <a:lnTo>
                        <a:pt x="1251" y="12"/>
                      </a:lnTo>
                      <a:lnTo>
                        <a:pt x="1258" y="10"/>
                      </a:lnTo>
                      <a:lnTo>
                        <a:pt x="1264" y="9"/>
                      </a:lnTo>
                      <a:lnTo>
                        <a:pt x="1271" y="9"/>
                      </a:lnTo>
                      <a:lnTo>
                        <a:pt x="1277" y="7"/>
                      </a:lnTo>
                      <a:lnTo>
                        <a:pt x="1283" y="7"/>
                      </a:lnTo>
                      <a:lnTo>
                        <a:pt x="1289" y="6"/>
                      </a:lnTo>
                      <a:lnTo>
                        <a:pt x="1297" y="6"/>
                      </a:lnTo>
                      <a:lnTo>
                        <a:pt x="1301" y="4"/>
                      </a:lnTo>
                      <a:lnTo>
                        <a:pt x="1307" y="4"/>
                      </a:lnTo>
                      <a:lnTo>
                        <a:pt x="1313" y="3"/>
                      </a:lnTo>
                      <a:lnTo>
                        <a:pt x="1319" y="3"/>
                      </a:lnTo>
                      <a:lnTo>
                        <a:pt x="1323" y="3"/>
                      </a:lnTo>
                      <a:lnTo>
                        <a:pt x="1328" y="3"/>
                      </a:lnTo>
                      <a:lnTo>
                        <a:pt x="1332" y="3"/>
                      </a:lnTo>
                      <a:lnTo>
                        <a:pt x="1337" y="3"/>
                      </a:lnTo>
                      <a:lnTo>
                        <a:pt x="1341" y="1"/>
                      </a:lnTo>
                      <a:lnTo>
                        <a:pt x="1344" y="1"/>
                      </a:lnTo>
                      <a:lnTo>
                        <a:pt x="1349" y="0"/>
                      </a:lnTo>
                      <a:lnTo>
                        <a:pt x="1352" y="0"/>
                      </a:lnTo>
                      <a:lnTo>
                        <a:pt x="1357" y="0"/>
                      </a:lnTo>
                      <a:lnTo>
                        <a:pt x="1363" y="0"/>
                      </a:lnTo>
                      <a:lnTo>
                        <a:pt x="1366" y="0"/>
                      </a:lnTo>
                      <a:lnTo>
                        <a:pt x="1369" y="0"/>
                      </a:lnTo>
                      <a:lnTo>
                        <a:pt x="1371" y="0"/>
                      </a:lnTo>
                      <a:lnTo>
                        <a:pt x="1372" y="0"/>
                      </a:lnTo>
                      <a:lnTo>
                        <a:pt x="1371" y="0"/>
                      </a:lnTo>
                      <a:lnTo>
                        <a:pt x="1369" y="0"/>
                      </a:lnTo>
                      <a:lnTo>
                        <a:pt x="1366" y="1"/>
                      </a:lnTo>
                      <a:lnTo>
                        <a:pt x="1363" y="3"/>
                      </a:lnTo>
                      <a:lnTo>
                        <a:pt x="1357" y="3"/>
                      </a:lnTo>
                      <a:lnTo>
                        <a:pt x="1353" y="4"/>
                      </a:lnTo>
                      <a:lnTo>
                        <a:pt x="1349" y="4"/>
                      </a:lnTo>
                      <a:lnTo>
                        <a:pt x="1346" y="6"/>
                      </a:lnTo>
                      <a:lnTo>
                        <a:pt x="1343" y="7"/>
                      </a:lnTo>
                      <a:lnTo>
                        <a:pt x="1340" y="7"/>
                      </a:lnTo>
                      <a:lnTo>
                        <a:pt x="1335" y="9"/>
                      </a:lnTo>
                      <a:lnTo>
                        <a:pt x="1331" y="10"/>
                      </a:lnTo>
                      <a:lnTo>
                        <a:pt x="1326" y="10"/>
                      </a:lnTo>
                      <a:lnTo>
                        <a:pt x="1322" y="12"/>
                      </a:lnTo>
                      <a:lnTo>
                        <a:pt x="1316" y="13"/>
                      </a:lnTo>
                      <a:lnTo>
                        <a:pt x="1311" y="15"/>
                      </a:lnTo>
                      <a:lnTo>
                        <a:pt x="1307" y="16"/>
                      </a:lnTo>
                      <a:lnTo>
                        <a:pt x="1301" y="17"/>
                      </a:lnTo>
                      <a:lnTo>
                        <a:pt x="1295" y="19"/>
                      </a:lnTo>
                      <a:lnTo>
                        <a:pt x="1289" y="20"/>
                      </a:lnTo>
                      <a:lnTo>
                        <a:pt x="1283" y="22"/>
                      </a:lnTo>
                      <a:lnTo>
                        <a:pt x="1277" y="23"/>
                      </a:lnTo>
                      <a:lnTo>
                        <a:pt x="1271" y="26"/>
                      </a:lnTo>
                      <a:lnTo>
                        <a:pt x="1265" y="28"/>
                      </a:lnTo>
                      <a:lnTo>
                        <a:pt x="1260" y="29"/>
                      </a:lnTo>
                      <a:lnTo>
                        <a:pt x="1254" y="32"/>
                      </a:lnTo>
                      <a:lnTo>
                        <a:pt x="1246" y="34"/>
                      </a:lnTo>
                      <a:lnTo>
                        <a:pt x="1239" y="35"/>
                      </a:lnTo>
                      <a:lnTo>
                        <a:pt x="1231" y="37"/>
                      </a:lnTo>
                      <a:lnTo>
                        <a:pt x="1225" y="40"/>
                      </a:lnTo>
                      <a:lnTo>
                        <a:pt x="1218" y="41"/>
                      </a:lnTo>
                      <a:lnTo>
                        <a:pt x="1211" y="44"/>
                      </a:lnTo>
                      <a:lnTo>
                        <a:pt x="1203" y="47"/>
                      </a:lnTo>
                      <a:lnTo>
                        <a:pt x="1196" y="49"/>
                      </a:lnTo>
                      <a:lnTo>
                        <a:pt x="1187" y="52"/>
                      </a:lnTo>
                      <a:lnTo>
                        <a:pt x="1179" y="55"/>
                      </a:lnTo>
                      <a:lnTo>
                        <a:pt x="1171" y="56"/>
                      </a:lnTo>
                      <a:lnTo>
                        <a:pt x="1163" y="61"/>
                      </a:lnTo>
                      <a:lnTo>
                        <a:pt x="1156" y="62"/>
                      </a:lnTo>
                      <a:lnTo>
                        <a:pt x="1147" y="65"/>
                      </a:lnTo>
                      <a:lnTo>
                        <a:pt x="1139" y="68"/>
                      </a:lnTo>
                      <a:lnTo>
                        <a:pt x="1132" y="71"/>
                      </a:lnTo>
                      <a:lnTo>
                        <a:pt x="1123" y="74"/>
                      </a:lnTo>
                      <a:lnTo>
                        <a:pt x="1114" y="77"/>
                      </a:lnTo>
                      <a:lnTo>
                        <a:pt x="1105" y="80"/>
                      </a:lnTo>
                      <a:lnTo>
                        <a:pt x="1098" y="84"/>
                      </a:lnTo>
                      <a:lnTo>
                        <a:pt x="1089" y="87"/>
                      </a:lnTo>
                      <a:lnTo>
                        <a:pt x="1080" y="90"/>
                      </a:lnTo>
                      <a:lnTo>
                        <a:pt x="1071" y="95"/>
                      </a:lnTo>
                      <a:lnTo>
                        <a:pt x="1064" y="98"/>
                      </a:lnTo>
                      <a:lnTo>
                        <a:pt x="1055" y="102"/>
                      </a:lnTo>
                      <a:lnTo>
                        <a:pt x="1046" y="105"/>
                      </a:lnTo>
                      <a:lnTo>
                        <a:pt x="1037" y="109"/>
                      </a:lnTo>
                      <a:lnTo>
                        <a:pt x="1028" y="112"/>
                      </a:lnTo>
                      <a:lnTo>
                        <a:pt x="1019" y="117"/>
                      </a:lnTo>
                      <a:lnTo>
                        <a:pt x="1010" y="120"/>
                      </a:lnTo>
                      <a:lnTo>
                        <a:pt x="1001" y="124"/>
                      </a:lnTo>
                      <a:lnTo>
                        <a:pt x="994" y="129"/>
                      </a:lnTo>
                      <a:lnTo>
                        <a:pt x="984" y="132"/>
                      </a:lnTo>
                      <a:lnTo>
                        <a:pt x="975" y="136"/>
                      </a:lnTo>
                      <a:lnTo>
                        <a:pt x="966" y="141"/>
                      </a:lnTo>
                      <a:lnTo>
                        <a:pt x="957" y="145"/>
                      </a:lnTo>
                      <a:lnTo>
                        <a:pt x="948" y="150"/>
                      </a:lnTo>
                      <a:lnTo>
                        <a:pt x="939" y="154"/>
                      </a:lnTo>
                      <a:lnTo>
                        <a:pt x="932" y="158"/>
                      </a:lnTo>
                      <a:lnTo>
                        <a:pt x="923" y="163"/>
                      </a:lnTo>
                      <a:lnTo>
                        <a:pt x="912" y="167"/>
                      </a:lnTo>
                      <a:lnTo>
                        <a:pt x="905" y="172"/>
                      </a:lnTo>
                      <a:lnTo>
                        <a:pt x="896" y="176"/>
                      </a:lnTo>
                      <a:lnTo>
                        <a:pt x="887" y="181"/>
                      </a:lnTo>
                      <a:lnTo>
                        <a:pt x="878" y="185"/>
                      </a:lnTo>
                      <a:lnTo>
                        <a:pt x="871" y="191"/>
                      </a:lnTo>
                      <a:lnTo>
                        <a:pt x="862" y="196"/>
                      </a:lnTo>
                      <a:lnTo>
                        <a:pt x="854" y="200"/>
                      </a:lnTo>
                      <a:lnTo>
                        <a:pt x="846" y="203"/>
                      </a:lnTo>
                      <a:lnTo>
                        <a:pt x="838" y="209"/>
                      </a:lnTo>
                      <a:lnTo>
                        <a:pt x="829" y="213"/>
                      </a:lnTo>
                      <a:lnTo>
                        <a:pt x="822" y="218"/>
                      </a:lnTo>
                      <a:lnTo>
                        <a:pt x="814" y="222"/>
                      </a:lnTo>
                      <a:lnTo>
                        <a:pt x="806" y="227"/>
                      </a:lnTo>
                      <a:lnTo>
                        <a:pt x="798" y="231"/>
                      </a:lnTo>
                      <a:lnTo>
                        <a:pt x="791" y="236"/>
                      </a:lnTo>
                      <a:lnTo>
                        <a:pt x="783" y="240"/>
                      </a:lnTo>
                      <a:lnTo>
                        <a:pt x="776" y="245"/>
                      </a:lnTo>
                      <a:lnTo>
                        <a:pt x="768" y="249"/>
                      </a:lnTo>
                      <a:lnTo>
                        <a:pt x="762" y="253"/>
                      </a:lnTo>
                      <a:lnTo>
                        <a:pt x="755" y="258"/>
                      </a:lnTo>
                      <a:lnTo>
                        <a:pt x="748" y="262"/>
                      </a:lnTo>
                      <a:lnTo>
                        <a:pt x="742" y="267"/>
                      </a:lnTo>
                      <a:lnTo>
                        <a:pt x="736" y="271"/>
                      </a:lnTo>
                      <a:lnTo>
                        <a:pt x="728" y="274"/>
                      </a:lnTo>
                      <a:lnTo>
                        <a:pt x="721" y="279"/>
                      </a:lnTo>
                      <a:lnTo>
                        <a:pt x="715" y="282"/>
                      </a:lnTo>
                      <a:lnTo>
                        <a:pt x="709" y="286"/>
                      </a:lnTo>
                      <a:lnTo>
                        <a:pt x="703" y="291"/>
                      </a:lnTo>
                      <a:lnTo>
                        <a:pt x="697" y="293"/>
                      </a:lnTo>
                      <a:lnTo>
                        <a:pt x="691" y="298"/>
                      </a:lnTo>
                      <a:lnTo>
                        <a:pt x="687" y="301"/>
                      </a:lnTo>
                      <a:lnTo>
                        <a:pt x="681" y="304"/>
                      </a:lnTo>
                      <a:lnTo>
                        <a:pt x="676" y="308"/>
                      </a:lnTo>
                      <a:lnTo>
                        <a:pt x="672" y="311"/>
                      </a:lnTo>
                      <a:lnTo>
                        <a:pt x="668" y="314"/>
                      </a:lnTo>
                      <a:lnTo>
                        <a:pt x="662" y="317"/>
                      </a:lnTo>
                      <a:lnTo>
                        <a:pt x="659" y="320"/>
                      </a:lnTo>
                      <a:lnTo>
                        <a:pt x="654" y="323"/>
                      </a:lnTo>
                      <a:lnTo>
                        <a:pt x="651" y="326"/>
                      </a:lnTo>
                      <a:lnTo>
                        <a:pt x="647" y="328"/>
                      </a:lnTo>
                      <a:lnTo>
                        <a:pt x="642" y="331"/>
                      </a:lnTo>
                      <a:lnTo>
                        <a:pt x="639" y="332"/>
                      </a:lnTo>
                      <a:lnTo>
                        <a:pt x="636" y="335"/>
                      </a:lnTo>
                      <a:lnTo>
                        <a:pt x="632" y="338"/>
                      </a:lnTo>
                      <a:lnTo>
                        <a:pt x="627" y="342"/>
                      </a:lnTo>
                      <a:lnTo>
                        <a:pt x="623" y="344"/>
                      </a:lnTo>
                      <a:lnTo>
                        <a:pt x="622" y="347"/>
                      </a:lnTo>
                      <a:lnTo>
                        <a:pt x="620" y="348"/>
                      </a:lnTo>
                      <a:lnTo>
                        <a:pt x="620" y="348"/>
                      </a:lnTo>
                      <a:lnTo>
                        <a:pt x="619" y="348"/>
                      </a:lnTo>
                      <a:lnTo>
                        <a:pt x="617" y="350"/>
                      </a:lnTo>
                      <a:lnTo>
                        <a:pt x="614" y="350"/>
                      </a:lnTo>
                      <a:lnTo>
                        <a:pt x="611" y="351"/>
                      </a:lnTo>
                      <a:lnTo>
                        <a:pt x="605" y="353"/>
                      </a:lnTo>
                      <a:lnTo>
                        <a:pt x="601" y="356"/>
                      </a:lnTo>
                      <a:lnTo>
                        <a:pt x="598" y="356"/>
                      </a:lnTo>
                      <a:lnTo>
                        <a:pt x="593" y="357"/>
                      </a:lnTo>
                      <a:lnTo>
                        <a:pt x="590" y="359"/>
                      </a:lnTo>
                      <a:lnTo>
                        <a:pt x="587" y="362"/>
                      </a:lnTo>
                      <a:lnTo>
                        <a:pt x="583" y="362"/>
                      </a:lnTo>
                      <a:lnTo>
                        <a:pt x="578" y="365"/>
                      </a:lnTo>
                      <a:lnTo>
                        <a:pt x="576" y="366"/>
                      </a:lnTo>
                      <a:lnTo>
                        <a:pt x="571" y="368"/>
                      </a:lnTo>
                      <a:lnTo>
                        <a:pt x="565" y="369"/>
                      </a:lnTo>
                      <a:lnTo>
                        <a:pt x="561" y="372"/>
                      </a:lnTo>
                      <a:lnTo>
                        <a:pt x="556" y="374"/>
                      </a:lnTo>
                      <a:lnTo>
                        <a:pt x="552" y="377"/>
                      </a:lnTo>
                      <a:lnTo>
                        <a:pt x="546" y="378"/>
                      </a:lnTo>
                      <a:lnTo>
                        <a:pt x="540" y="381"/>
                      </a:lnTo>
                      <a:lnTo>
                        <a:pt x="534" y="384"/>
                      </a:lnTo>
                      <a:lnTo>
                        <a:pt x="530" y="387"/>
                      </a:lnTo>
                      <a:lnTo>
                        <a:pt x="524" y="388"/>
                      </a:lnTo>
                      <a:lnTo>
                        <a:pt x="518" y="391"/>
                      </a:lnTo>
                      <a:lnTo>
                        <a:pt x="512" y="394"/>
                      </a:lnTo>
                      <a:lnTo>
                        <a:pt x="506" y="399"/>
                      </a:lnTo>
                      <a:lnTo>
                        <a:pt x="500" y="400"/>
                      </a:lnTo>
                      <a:lnTo>
                        <a:pt x="494" y="403"/>
                      </a:lnTo>
                      <a:lnTo>
                        <a:pt x="486" y="406"/>
                      </a:lnTo>
                      <a:lnTo>
                        <a:pt x="481" y="411"/>
                      </a:lnTo>
                      <a:lnTo>
                        <a:pt x="473" y="414"/>
                      </a:lnTo>
                      <a:lnTo>
                        <a:pt x="467" y="417"/>
                      </a:lnTo>
                      <a:lnTo>
                        <a:pt x="460" y="421"/>
                      </a:lnTo>
                      <a:lnTo>
                        <a:pt x="452" y="424"/>
                      </a:lnTo>
                      <a:lnTo>
                        <a:pt x="445" y="429"/>
                      </a:lnTo>
                      <a:lnTo>
                        <a:pt x="439" y="431"/>
                      </a:lnTo>
                      <a:lnTo>
                        <a:pt x="432" y="436"/>
                      </a:lnTo>
                      <a:lnTo>
                        <a:pt x="424" y="439"/>
                      </a:lnTo>
                      <a:lnTo>
                        <a:pt x="417" y="443"/>
                      </a:lnTo>
                      <a:lnTo>
                        <a:pt x="409" y="446"/>
                      </a:lnTo>
                      <a:lnTo>
                        <a:pt x="402" y="451"/>
                      </a:lnTo>
                      <a:lnTo>
                        <a:pt x="396" y="455"/>
                      </a:lnTo>
                      <a:lnTo>
                        <a:pt x="389" y="460"/>
                      </a:lnTo>
                      <a:lnTo>
                        <a:pt x="381" y="463"/>
                      </a:lnTo>
                      <a:lnTo>
                        <a:pt x="374" y="467"/>
                      </a:lnTo>
                      <a:lnTo>
                        <a:pt x="366" y="472"/>
                      </a:lnTo>
                      <a:lnTo>
                        <a:pt x="359" y="476"/>
                      </a:lnTo>
                      <a:lnTo>
                        <a:pt x="351" y="480"/>
                      </a:lnTo>
                      <a:lnTo>
                        <a:pt x="344" y="485"/>
                      </a:lnTo>
                      <a:lnTo>
                        <a:pt x="337" y="489"/>
                      </a:lnTo>
                      <a:lnTo>
                        <a:pt x="328" y="494"/>
                      </a:lnTo>
                      <a:lnTo>
                        <a:pt x="320" y="498"/>
                      </a:lnTo>
                      <a:lnTo>
                        <a:pt x="313" y="503"/>
                      </a:lnTo>
                      <a:lnTo>
                        <a:pt x="305" y="507"/>
                      </a:lnTo>
                      <a:lnTo>
                        <a:pt x="298" y="513"/>
                      </a:lnTo>
                      <a:lnTo>
                        <a:pt x="291" y="518"/>
                      </a:lnTo>
                      <a:lnTo>
                        <a:pt x="283" y="522"/>
                      </a:lnTo>
                      <a:lnTo>
                        <a:pt x="277" y="528"/>
                      </a:lnTo>
                      <a:lnTo>
                        <a:pt x="270" y="532"/>
                      </a:lnTo>
                      <a:lnTo>
                        <a:pt x="262" y="538"/>
                      </a:lnTo>
                      <a:lnTo>
                        <a:pt x="255" y="543"/>
                      </a:lnTo>
                      <a:lnTo>
                        <a:pt x="248" y="549"/>
                      </a:lnTo>
                      <a:lnTo>
                        <a:pt x="240" y="553"/>
                      </a:lnTo>
                      <a:lnTo>
                        <a:pt x="233" y="558"/>
                      </a:lnTo>
                      <a:lnTo>
                        <a:pt x="227" y="564"/>
                      </a:lnTo>
                      <a:lnTo>
                        <a:pt x="219" y="569"/>
                      </a:lnTo>
                      <a:lnTo>
                        <a:pt x="212" y="574"/>
                      </a:lnTo>
                      <a:lnTo>
                        <a:pt x="206" y="580"/>
                      </a:lnTo>
                      <a:lnTo>
                        <a:pt x="199" y="584"/>
                      </a:lnTo>
                      <a:lnTo>
                        <a:pt x="193" y="590"/>
                      </a:lnTo>
                      <a:lnTo>
                        <a:pt x="187" y="595"/>
                      </a:lnTo>
                      <a:lnTo>
                        <a:pt x="179" y="601"/>
                      </a:lnTo>
                      <a:lnTo>
                        <a:pt x="173" y="605"/>
                      </a:lnTo>
                      <a:lnTo>
                        <a:pt x="167" y="611"/>
                      </a:lnTo>
                      <a:lnTo>
                        <a:pt x="162" y="617"/>
                      </a:lnTo>
                      <a:lnTo>
                        <a:pt x="154" y="621"/>
                      </a:lnTo>
                      <a:lnTo>
                        <a:pt x="148" y="626"/>
                      </a:lnTo>
                      <a:lnTo>
                        <a:pt x="142" y="632"/>
                      </a:lnTo>
                      <a:lnTo>
                        <a:pt x="138" y="636"/>
                      </a:lnTo>
                      <a:lnTo>
                        <a:pt x="132" y="642"/>
                      </a:lnTo>
                      <a:lnTo>
                        <a:pt x="126" y="647"/>
                      </a:lnTo>
                      <a:lnTo>
                        <a:pt x="120" y="653"/>
                      </a:lnTo>
                      <a:lnTo>
                        <a:pt x="116" y="657"/>
                      </a:lnTo>
                      <a:lnTo>
                        <a:pt x="110" y="663"/>
                      </a:lnTo>
                      <a:lnTo>
                        <a:pt x="105" y="666"/>
                      </a:lnTo>
                      <a:lnTo>
                        <a:pt x="99" y="672"/>
                      </a:lnTo>
                      <a:lnTo>
                        <a:pt x="93" y="676"/>
                      </a:lnTo>
                      <a:lnTo>
                        <a:pt x="90" y="681"/>
                      </a:lnTo>
                      <a:lnTo>
                        <a:pt x="84" y="687"/>
                      </a:lnTo>
                      <a:lnTo>
                        <a:pt x="80" y="691"/>
                      </a:lnTo>
                      <a:lnTo>
                        <a:pt x="75" y="696"/>
                      </a:lnTo>
                      <a:lnTo>
                        <a:pt x="71" y="700"/>
                      </a:lnTo>
                      <a:lnTo>
                        <a:pt x="65" y="705"/>
                      </a:lnTo>
                      <a:lnTo>
                        <a:pt x="62" y="707"/>
                      </a:lnTo>
                      <a:lnTo>
                        <a:pt x="58" y="712"/>
                      </a:lnTo>
                      <a:lnTo>
                        <a:pt x="53" y="716"/>
                      </a:lnTo>
                      <a:lnTo>
                        <a:pt x="50" y="719"/>
                      </a:lnTo>
                      <a:lnTo>
                        <a:pt x="46" y="724"/>
                      </a:lnTo>
                      <a:lnTo>
                        <a:pt x="43" y="727"/>
                      </a:lnTo>
                      <a:lnTo>
                        <a:pt x="38" y="731"/>
                      </a:lnTo>
                      <a:lnTo>
                        <a:pt x="35" y="734"/>
                      </a:lnTo>
                      <a:lnTo>
                        <a:pt x="32" y="737"/>
                      </a:lnTo>
                      <a:lnTo>
                        <a:pt x="27" y="745"/>
                      </a:lnTo>
                      <a:lnTo>
                        <a:pt x="21" y="751"/>
                      </a:lnTo>
                      <a:lnTo>
                        <a:pt x="15" y="755"/>
                      </a:lnTo>
                      <a:lnTo>
                        <a:pt x="12" y="759"/>
                      </a:lnTo>
                      <a:lnTo>
                        <a:pt x="7" y="764"/>
                      </a:lnTo>
                      <a:lnTo>
                        <a:pt x="4" y="768"/>
                      </a:lnTo>
                      <a:lnTo>
                        <a:pt x="1" y="773"/>
                      </a:lnTo>
                      <a:lnTo>
                        <a:pt x="0" y="774"/>
                      </a:lnTo>
                      <a:lnTo>
                        <a:pt x="0" y="77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948120" y="1757520"/>
                  <a:ext cx="444240" cy="307800"/>
                </a:xfrm>
                <a:custGeom>
                  <a:avLst/>
                  <a:gdLst/>
                  <a:ahLst/>
                  <a:rect l="l" t="t" r="r" b="b"/>
                  <a:pathLst>
                    <a:path w="561" h="387">
                      <a:moveTo>
                        <a:pt x="557" y="0"/>
                      </a:moveTo>
                      <a:lnTo>
                        <a:pt x="555" y="0"/>
                      </a:lnTo>
                      <a:lnTo>
                        <a:pt x="555" y="1"/>
                      </a:lnTo>
                      <a:lnTo>
                        <a:pt x="555" y="3"/>
                      </a:lnTo>
                      <a:lnTo>
                        <a:pt x="554" y="7"/>
                      </a:lnTo>
                      <a:lnTo>
                        <a:pt x="552" y="10"/>
                      </a:lnTo>
                      <a:lnTo>
                        <a:pt x="551" y="16"/>
                      </a:lnTo>
                      <a:lnTo>
                        <a:pt x="549" y="19"/>
                      </a:lnTo>
                      <a:lnTo>
                        <a:pt x="549" y="22"/>
                      </a:lnTo>
                      <a:lnTo>
                        <a:pt x="548" y="27"/>
                      </a:lnTo>
                      <a:lnTo>
                        <a:pt x="546" y="30"/>
                      </a:lnTo>
                      <a:lnTo>
                        <a:pt x="544" y="33"/>
                      </a:lnTo>
                      <a:lnTo>
                        <a:pt x="542" y="36"/>
                      </a:lnTo>
                      <a:lnTo>
                        <a:pt x="541" y="40"/>
                      </a:lnTo>
                      <a:lnTo>
                        <a:pt x="538" y="43"/>
                      </a:lnTo>
                      <a:lnTo>
                        <a:pt x="535" y="47"/>
                      </a:lnTo>
                      <a:lnTo>
                        <a:pt x="533" y="52"/>
                      </a:lnTo>
                      <a:lnTo>
                        <a:pt x="530" y="55"/>
                      </a:lnTo>
                      <a:lnTo>
                        <a:pt x="527" y="59"/>
                      </a:lnTo>
                      <a:lnTo>
                        <a:pt x="523" y="64"/>
                      </a:lnTo>
                      <a:lnTo>
                        <a:pt x="520" y="67"/>
                      </a:lnTo>
                      <a:lnTo>
                        <a:pt x="515" y="71"/>
                      </a:lnTo>
                      <a:lnTo>
                        <a:pt x="512" y="76"/>
                      </a:lnTo>
                      <a:lnTo>
                        <a:pt x="506" y="79"/>
                      </a:lnTo>
                      <a:lnTo>
                        <a:pt x="502" y="83"/>
                      </a:lnTo>
                      <a:lnTo>
                        <a:pt x="496" y="86"/>
                      </a:lnTo>
                      <a:lnTo>
                        <a:pt x="492" y="90"/>
                      </a:lnTo>
                      <a:lnTo>
                        <a:pt x="486" y="93"/>
                      </a:lnTo>
                      <a:lnTo>
                        <a:pt x="478" y="98"/>
                      </a:lnTo>
                      <a:lnTo>
                        <a:pt x="472" y="101"/>
                      </a:lnTo>
                      <a:lnTo>
                        <a:pt x="466" y="105"/>
                      </a:lnTo>
                      <a:lnTo>
                        <a:pt x="462" y="105"/>
                      </a:lnTo>
                      <a:lnTo>
                        <a:pt x="459" y="108"/>
                      </a:lnTo>
                      <a:lnTo>
                        <a:pt x="454" y="108"/>
                      </a:lnTo>
                      <a:lnTo>
                        <a:pt x="452" y="111"/>
                      </a:lnTo>
                      <a:lnTo>
                        <a:pt x="449" y="113"/>
                      </a:lnTo>
                      <a:lnTo>
                        <a:pt x="444" y="114"/>
                      </a:lnTo>
                      <a:lnTo>
                        <a:pt x="441" y="117"/>
                      </a:lnTo>
                      <a:lnTo>
                        <a:pt x="437" y="119"/>
                      </a:lnTo>
                      <a:lnTo>
                        <a:pt x="432" y="120"/>
                      </a:lnTo>
                      <a:lnTo>
                        <a:pt x="428" y="122"/>
                      </a:lnTo>
                      <a:lnTo>
                        <a:pt x="423" y="123"/>
                      </a:lnTo>
                      <a:lnTo>
                        <a:pt x="420" y="125"/>
                      </a:lnTo>
                      <a:lnTo>
                        <a:pt x="416" y="126"/>
                      </a:lnTo>
                      <a:lnTo>
                        <a:pt x="411" y="128"/>
                      </a:lnTo>
                      <a:lnTo>
                        <a:pt x="407" y="129"/>
                      </a:lnTo>
                      <a:lnTo>
                        <a:pt x="404" y="132"/>
                      </a:lnTo>
                      <a:lnTo>
                        <a:pt x="398" y="132"/>
                      </a:lnTo>
                      <a:lnTo>
                        <a:pt x="394" y="135"/>
                      </a:lnTo>
                      <a:lnTo>
                        <a:pt x="389" y="136"/>
                      </a:lnTo>
                      <a:lnTo>
                        <a:pt x="385" y="138"/>
                      </a:lnTo>
                      <a:lnTo>
                        <a:pt x="380" y="139"/>
                      </a:lnTo>
                      <a:lnTo>
                        <a:pt x="376" y="142"/>
                      </a:lnTo>
                      <a:lnTo>
                        <a:pt x="371" y="144"/>
                      </a:lnTo>
                      <a:lnTo>
                        <a:pt x="367" y="145"/>
                      </a:lnTo>
                      <a:lnTo>
                        <a:pt x="362" y="147"/>
                      </a:lnTo>
                      <a:lnTo>
                        <a:pt x="358" y="148"/>
                      </a:lnTo>
                      <a:lnTo>
                        <a:pt x="352" y="150"/>
                      </a:lnTo>
                      <a:lnTo>
                        <a:pt x="348" y="153"/>
                      </a:lnTo>
                      <a:lnTo>
                        <a:pt x="343" y="154"/>
                      </a:lnTo>
                      <a:lnTo>
                        <a:pt x="337" y="156"/>
                      </a:lnTo>
                      <a:lnTo>
                        <a:pt x="333" y="157"/>
                      </a:lnTo>
                      <a:lnTo>
                        <a:pt x="328" y="160"/>
                      </a:lnTo>
                      <a:lnTo>
                        <a:pt x="322" y="162"/>
                      </a:lnTo>
                      <a:lnTo>
                        <a:pt x="318" y="165"/>
                      </a:lnTo>
                      <a:lnTo>
                        <a:pt x="314" y="166"/>
                      </a:lnTo>
                      <a:lnTo>
                        <a:pt x="309" y="169"/>
                      </a:lnTo>
                      <a:lnTo>
                        <a:pt x="303" y="171"/>
                      </a:lnTo>
                      <a:lnTo>
                        <a:pt x="299" y="172"/>
                      </a:lnTo>
                      <a:lnTo>
                        <a:pt x="293" y="175"/>
                      </a:lnTo>
                      <a:lnTo>
                        <a:pt x="288" y="178"/>
                      </a:lnTo>
                      <a:lnTo>
                        <a:pt x="284" y="180"/>
                      </a:lnTo>
                      <a:lnTo>
                        <a:pt x="278" y="181"/>
                      </a:lnTo>
                      <a:lnTo>
                        <a:pt x="273" y="184"/>
                      </a:lnTo>
                      <a:lnTo>
                        <a:pt x="269" y="187"/>
                      </a:lnTo>
                      <a:lnTo>
                        <a:pt x="263" y="188"/>
                      </a:lnTo>
                      <a:lnTo>
                        <a:pt x="259" y="191"/>
                      </a:lnTo>
                      <a:lnTo>
                        <a:pt x="253" y="194"/>
                      </a:lnTo>
                      <a:lnTo>
                        <a:pt x="248" y="197"/>
                      </a:lnTo>
                      <a:lnTo>
                        <a:pt x="242" y="199"/>
                      </a:lnTo>
                      <a:lnTo>
                        <a:pt x="238" y="202"/>
                      </a:lnTo>
                      <a:lnTo>
                        <a:pt x="232" y="205"/>
                      </a:lnTo>
                      <a:lnTo>
                        <a:pt x="227" y="208"/>
                      </a:lnTo>
                      <a:lnTo>
                        <a:pt x="222" y="211"/>
                      </a:lnTo>
                      <a:lnTo>
                        <a:pt x="217" y="214"/>
                      </a:lnTo>
                      <a:lnTo>
                        <a:pt x="213" y="217"/>
                      </a:lnTo>
                      <a:lnTo>
                        <a:pt x="208" y="220"/>
                      </a:lnTo>
                      <a:lnTo>
                        <a:pt x="202" y="223"/>
                      </a:lnTo>
                      <a:lnTo>
                        <a:pt x="198" y="226"/>
                      </a:lnTo>
                      <a:lnTo>
                        <a:pt x="192" y="228"/>
                      </a:lnTo>
                      <a:lnTo>
                        <a:pt x="187" y="231"/>
                      </a:lnTo>
                      <a:lnTo>
                        <a:pt x="181" y="234"/>
                      </a:lnTo>
                      <a:lnTo>
                        <a:pt x="177" y="237"/>
                      </a:lnTo>
                      <a:lnTo>
                        <a:pt x="173" y="240"/>
                      </a:lnTo>
                      <a:lnTo>
                        <a:pt x="168" y="245"/>
                      </a:lnTo>
                      <a:lnTo>
                        <a:pt x="162" y="248"/>
                      </a:lnTo>
                      <a:lnTo>
                        <a:pt x="158" y="252"/>
                      </a:lnTo>
                      <a:lnTo>
                        <a:pt x="152" y="255"/>
                      </a:lnTo>
                      <a:lnTo>
                        <a:pt x="147" y="258"/>
                      </a:lnTo>
                      <a:lnTo>
                        <a:pt x="143" y="261"/>
                      </a:lnTo>
                      <a:lnTo>
                        <a:pt x="138" y="266"/>
                      </a:lnTo>
                      <a:lnTo>
                        <a:pt x="134" y="269"/>
                      </a:lnTo>
                      <a:lnTo>
                        <a:pt x="130" y="273"/>
                      </a:lnTo>
                      <a:lnTo>
                        <a:pt x="124" y="276"/>
                      </a:lnTo>
                      <a:lnTo>
                        <a:pt x="121" y="279"/>
                      </a:lnTo>
                      <a:lnTo>
                        <a:pt x="115" y="282"/>
                      </a:lnTo>
                      <a:lnTo>
                        <a:pt x="110" y="286"/>
                      </a:lnTo>
                      <a:lnTo>
                        <a:pt x="106" y="289"/>
                      </a:lnTo>
                      <a:lnTo>
                        <a:pt x="101" y="294"/>
                      </a:lnTo>
                      <a:lnTo>
                        <a:pt x="97" y="297"/>
                      </a:lnTo>
                      <a:lnTo>
                        <a:pt x="94" y="300"/>
                      </a:lnTo>
                      <a:lnTo>
                        <a:pt x="89" y="303"/>
                      </a:lnTo>
                      <a:lnTo>
                        <a:pt x="85" y="307"/>
                      </a:lnTo>
                      <a:lnTo>
                        <a:pt x="81" y="310"/>
                      </a:lnTo>
                      <a:lnTo>
                        <a:pt x="78" y="313"/>
                      </a:lnTo>
                      <a:lnTo>
                        <a:pt x="73" y="316"/>
                      </a:lnTo>
                      <a:lnTo>
                        <a:pt x="70" y="320"/>
                      </a:lnTo>
                      <a:lnTo>
                        <a:pt x="66" y="323"/>
                      </a:lnTo>
                      <a:lnTo>
                        <a:pt x="63" y="328"/>
                      </a:lnTo>
                      <a:lnTo>
                        <a:pt x="60" y="329"/>
                      </a:lnTo>
                      <a:lnTo>
                        <a:pt x="55" y="332"/>
                      </a:lnTo>
                      <a:lnTo>
                        <a:pt x="52" y="335"/>
                      </a:lnTo>
                      <a:lnTo>
                        <a:pt x="49" y="338"/>
                      </a:lnTo>
                      <a:lnTo>
                        <a:pt x="42" y="344"/>
                      </a:lnTo>
                      <a:lnTo>
                        <a:pt x="38" y="350"/>
                      </a:lnTo>
                      <a:lnTo>
                        <a:pt x="30" y="355"/>
                      </a:lnTo>
                      <a:lnTo>
                        <a:pt x="26" y="361"/>
                      </a:lnTo>
                      <a:lnTo>
                        <a:pt x="21" y="365"/>
                      </a:lnTo>
                      <a:lnTo>
                        <a:pt x="17" y="369"/>
                      </a:lnTo>
                      <a:lnTo>
                        <a:pt x="12" y="372"/>
                      </a:lnTo>
                      <a:lnTo>
                        <a:pt x="9" y="377"/>
                      </a:lnTo>
                      <a:lnTo>
                        <a:pt x="6" y="378"/>
                      </a:lnTo>
                      <a:lnTo>
                        <a:pt x="5" y="381"/>
                      </a:lnTo>
                      <a:lnTo>
                        <a:pt x="0" y="384"/>
                      </a:lnTo>
                      <a:lnTo>
                        <a:pt x="0" y="387"/>
                      </a:lnTo>
                      <a:lnTo>
                        <a:pt x="64" y="387"/>
                      </a:lnTo>
                      <a:lnTo>
                        <a:pt x="66" y="386"/>
                      </a:lnTo>
                      <a:lnTo>
                        <a:pt x="67" y="383"/>
                      </a:lnTo>
                      <a:lnTo>
                        <a:pt x="72" y="377"/>
                      </a:lnTo>
                      <a:lnTo>
                        <a:pt x="78" y="372"/>
                      </a:lnTo>
                      <a:lnTo>
                        <a:pt x="81" y="368"/>
                      </a:lnTo>
                      <a:lnTo>
                        <a:pt x="85" y="364"/>
                      </a:lnTo>
                      <a:lnTo>
                        <a:pt x="88" y="359"/>
                      </a:lnTo>
                      <a:lnTo>
                        <a:pt x="94" y="356"/>
                      </a:lnTo>
                      <a:lnTo>
                        <a:pt x="97" y="350"/>
                      </a:lnTo>
                      <a:lnTo>
                        <a:pt x="103" y="346"/>
                      </a:lnTo>
                      <a:lnTo>
                        <a:pt x="109" y="341"/>
                      </a:lnTo>
                      <a:lnTo>
                        <a:pt x="115" y="335"/>
                      </a:lnTo>
                      <a:lnTo>
                        <a:pt x="121" y="329"/>
                      </a:lnTo>
                      <a:lnTo>
                        <a:pt x="127" y="323"/>
                      </a:lnTo>
                      <a:lnTo>
                        <a:pt x="130" y="320"/>
                      </a:lnTo>
                      <a:lnTo>
                        <a:pt x="133" y="319"/>
                      </a:lnTo>
                      <a:lnTo>
                        <a:pt x="135" y="316"/>
                      </a:lnTo>
                      <a:lnTo>
                        <a:pt x="140" y="313"/>
                      </a:lnTo>
                      <a:lnTo>
                        <a:pt x="143" y="310"/>
                      </a:lnTo>
                      <a:lnTo>
                        <a:pt x="146" y="307"/>
                      </a:lnTo>
                      <a:lnTo>
                        <a:pt x="150" y="304"/>
                      </a:lnTo>
                      <a:lnTo>
                        <a:pt x="153" y="301"/>
                      </a:lnTo>
                      <a:lnTo>
                        <a:pt x="158" y="298"/>
                      </a:lnTo>
                      <a:lnTo>
                        <a:pt x="161" y="295"/>
                      </a:lnTo>
                      <a:lnTo>
                        <a:pt x="165" y="292"/>
                      </a:lnTo>
                      <a:lnTo>
                        <a:pt x="170" y="289"/>
                      </a:lnTo>
                      <a:lnTo>
                        <a:pt x="173" y="285"/>
                      </a:lnTo>
                      <a:lnTo>
                        <a:pt x="177" y="283"/>
                      </a:lnTo>
                      <a:lnTo>
                        <a:pt x="181" y="280"/>
                      </a:lnTo>
                      <a:lnTo>
                        <a:pt x="186" y="277"/>
                      </a:lnTo>
                      <a:lnTo>
                        <a:pt x="189" y="274"/>
                      </a:lnTo>
                      <a:lnTo>
                        <a:pt x="193" y="272"/>
                      </a:lnTo>
                      <a:lnTo>
                        <a:pt x="198" y="269"/>
                      </a:lnTo>
                      <a:lnTo>
                        <a:pt x="202" y="267"/>
                      </a:lnTo>
                      <a:lnTo>
                        <a:pt x="205" y="263"/>
                      </a:lnTo>
                      <a:lnTo>
                        <a:pt x="211" y="261"/>
                      </a:lnTo>
                      <a:lnTo>
                        <a:pt x="216" y="258"/>
                      </a:lnTo>
                      <a:lnTo>
                        <a:pt x="220" y="255"/>
                      </a:lnTo>
                      <a:lnTo>
                        <a:pt x="224" y="252"/>
                      </a:lnTo>
                      <a:lnTo>
                        <a:pt x="229" y="249"/>
                      </a:lnTo>
                      <a:lnTo>
                        <a:pt x="233" y="248"/>
                      </a:lnTo>
                      <a:lnTo>
                        <a:pt x="239" y="245"/>
                      </a:lnTo>
                      <a:lnTo>
                        <a:pt x="244" y="242"/>
                      </a:lnTo>
                      <a:lnTo>
                        <a:pt x="248" y="240"/>
                      </a:lnTo>
                      <a:lnTo>
                        <a:pt x="253" y="237"/>
                      </a:lnTo>
                      <a:lnTo>
                        <a:pt x="257" y="236"/>
                      </a:lnTo>
                      <a:lnTo>
                        <a:pt x="262" y="233"/>
                      </a:lnTo>
                      <a:lnTo>
                        <a:pt x="266" y="230"/>
                      </a:lnTo>
                      <a:lnTo>
                        <a:pt x="272" y="228"/>
                      </a:lnTo>
                      <a:lnTo>
                        <a:pt x="276" y="226"/>
                      </a:lnTo>
                      <a:lnTo>
                        <a:pt x="281" y="224"/>
                      </a:lnTo>
                      <a:lnTo>
                        <a:pt x="287" y="221"/>
                      </a:lnTo>
                      <a:lnTo>
                        <a:pt x="291" y="220"/>
                      </a:lnTo>
                      <a:lnTo>
                        <a:pt x="297" y="218"/>
                      </a:lnTo>
                      <a:lnTo>
                        <a:pt x="302" y="217"/>
                      </a:lnTo>
                      <a:lnTo>
                        <a:pt x="306" y="214"/>
                      </a:lnTo>
                      <a:lnTo>
                        <a:pt x="312" y="212"/>
                      </a:lnTo>
                      <a:lnTo>
                        <a:pt x="318" y="211"/>
                      </a:lnTo>
                      <a:lnTo>
                        <a:pt x="321" y="209"/>
                      </a:lnTo>
                      <a:lnTo>
                        <a:pt x="327" y="206"/>
                      </a:lnTo>
                      <a:lnTo>
                        <a:pt x="331" y="205"/>
                      </a:lnTo>
                      <a:lnTo>
                        <a:pt x="337" y="203"/>
                      </a:lnTo>
                      <a:lnTo>
                        <a:pt x="342" y="202"/>
                      </a:lnTo>
                      <a:lnTo>
                        <a:pt x="346" y="199"/>
                      </a:lnTo>
                      <a:lnTo>
                        <a:pt x="351" y="197"/>
                      </a:lnTo>
                      <a:lnTo>
                        <a:pt x="357" y="196"/>
                      </a:lnTo>
                      <a:lnTo>
                        <a:pt x="362" y="194"/>
                      </a:lnTo>
                      <a:lnTo>
                        <a:pt x="367" y="191"/>
                      </a:lnTo>
                      <a:lnTo>
                        <a:pt x="371" y="190"/>
                      </a:lnTo>
                      <a:lnTo>
                        <a:pt x="377" y="188"/>
                      </a:lnTo>
                      <a:lnTo>
                        <a:pt x="382" y="187"/>
                      </a:lnTo>
                      <a:lnTo>
                        <a:pt x="386" y="185"/>
                      </a:lnTo>
                      <a:lnTo>
                        <a:pt x="392" y="184"/>
                      </a:lnTo>
                      <a:lnTo>
                        <a:pt x="397" y="182"/>
                      </a:lnTo>
                      <a:lnTo>
                        <a:pt x="401" y="181"/>
                      </a:lnTo>
                      <a:lnTo>
                        <a:pt x="406" y="180"/>
                      </a:lnTo>
                      <a:lnTo>
                        <a:pt x="410" y="177"/>
                      </a:lnTo>
                      <a:lnTo>
                        <a:pt x="414" y="177"/>
                      </a:lnTo>
                      <a:lnTo>
                        <a:pt x="419" y="174"/>
                      </a:lnTo>
                      <a:lnTo>
                        <a:pt x="425" y="172"/>
                      </a:lnTo>
                      <a:lnTo>
                        <a:pt x="429" y="171"/>
                      </a:lnTo>
                      <a:lnTo>
                        <a:pt x="434" y="169"/>
                      </a:lnTo>
                      <a:lnTo>
                        <a:pt x="438" y="168"/>
                      </a:lnTo>
                      <a:lnTo>
                        <a:pt x="443" y="165"/>
                      </a:lnTo>
                      <a:lnTo>
                        <a:pt x="447" y="163"/>
                      </a:lnTo>
                      <a:lnTo>
                        <a:pt x="452" y="162"/>
                      </a:lnTo>
                      <a:lnTo>
                        <a:pt x="456" y="160"/>
                      </a:lnTo>
                      <a:lnTo>
                        <a:pt x="459" y="159"/>
                      </a:lnTo>
                      <a:lnTo>
                        <a:pt x="463" y="157"/>
                      </a:lnTo>
                      <a:lnTo>
                        <a:pt x="468" y="156"/>
                      </a:lnTo>
                      <a:lnTo>
                        <a:pt x="472" y="153"/>
                      </a:lnTo>
                      <a:lnTo>
                        <a:pt x="475" y="151"/>
                      </a:lnTo>
                      <a:lnTo>
                        <a:pt x="480" y="150"/>
                      </a:lnTo>
                      <a:lnTo>
                        <a:pt x="483" y="147"/>
                      </a:lnTo>
                      <a:lnTo>
                        <a:pt x="487" y="145"/>
                      </a:lnTo>
                      <a:lnTo>
                        <a:pt x="490" y="144"/>
                      </a:lnTo>
                      <a:lnTo>
                        <a:pt x="495" y="142"/>
                      </a:lnTo>
                      <a:lnTo>
                        <a:pt x="498" y="139"/>
                      </a:lnTo>
                      <a:lnTo>
                        <a:pt x="505" y="135"/>
                      </a:lnTo>
                      <a:lnTo>
                        <a:pt x="511" y="132"/>
                      </a:lnTo>
                      <a:lnTo>
                        <a:pt x="517" y="128"/>
                      </a:lnTo>
                      <a:lnTo>
                        <a:pt x="523" y="123"/>
                      </a:lnTo>
                      <a:lnTo>
                        <a:pt x="527" y="117"/>
                      </a:lnTo>
                      <a:lnTo>
                        <a:pt x="532" y="113"/>
                      </a:lnTo>
                      <a:lnTo>
                        <a:pt x="536" y="107"/>
                      </a:lnTo>
                      <a:lnTo>
                        <a:pt x="541" y="102"/>
                      </a:lnTo>
                      <a:lnTo>
                        <a:pt x="544" y="96"/>
                      </a:lnTo>
                      <a:lnTo>
                        <a:pt x="546" y="92"/>
                      </a:lnTo>
                      <a:lnTo>
                        <a:pt x="549" y="86"/>
                      </a:lnTo>
                      <a:lnTo>
                        <a:pt x="552" y="82"/>
                      </a:lnTo>
                      <a:lnTo>
                        <a:pt x="554" y="76"/>
                      </a:lnTo>
                      <a:lnTo>
                        <a:pt x="555" y="70"/>
                      </a:lnTo>
                      <a:lnTo>
                        <a:pt x="557" y="65"/>
                      </a:lnTo>
                      <a:lnTo>
                        <a:pt x="558" y="61"/>
                      </a:lnTo>
                      <a:lnTo>
                        <a:pt x="560" y="55"/>
                      </a:lnTo>
                      <a:lnTo>
                        <a:pt x="560" y="50"/>
                      </a:lnTo>
                      <a:lnTo>
                        <a:pt x="560" y="44"/>
                      </a:lnTo>
                      <a:lnTo>
                        <a:pt x="561" y="42"/>
                      </a:lnTo>
                      <a:lnTo>
                        <a:pt x="560" y="37"/>
                      </a:lnTo>
                      <a:lnTo>
                        <a:pt x="560" y="33"/>
                      </a:lnTo>
                      <a:lnTo>
                        <a:pt x="560" y="28"/>
                      </a:lnTo>
                      <a:lnTo>
                        <a:pt x="560" y="24"/>
                      </a:lnTo>
                      <a:lnTo>
                        <a:pt x="560" y="21"/>
                      </a:lnTo>
                      <a:lnTo>
                        <a:pt x="560" y="16"/>
                      </a:lnTo>
                      <a:lnTo>
                        <a:pt x="558" y="13"/>
                      </a:lnTo>
                      <a:lnTo>
                        <a:pt x="558" y="10"/>
                      </a:lnTo>
                      <a:lnTo>
                        <a:pt x="557" y="6"/>
                      </a:lnTo>
                      <a:lnTo>
                        <a:pt x="557" y="3"/>
                      </a:lnTo>
                      <a:lnTo>
                        <a:pt x="557" y="0"/>
                      </a:lnTo>
                      <a:lnTo>
                        <a:pt x="557" y="0"/>
                      </a:lnTo>
                      <a:lnTo>
                        <a:pt x="55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536640" y="2046240"/>
                  <a:ext cx="635040" cy="209520"/>
                </a:xfrm>
                <a:custGeom>
                  <a:avLst/>
                  <a:gdLst/>
                  <a:ahLst/>
                  <a:rect l="l" t="t" r="r" b="b"/>
                  <a:pathLst>
                    <a:path w="799" h="264">
                      <a:moveTo>
                        <a:pt x="244" y="59"/>
                      </a:moveTo>
                      <a:lnTo>
                        <a:pt x="244" y="59"/>
                      </a:lnTo>
                      <a:lnTo>
                        <a:pt x="246" y="58"/>
                      </a:lnTo>
                      <a:lnTo>
                        <a:pt x="247" y="55"/>
                      </a:lnTo>
                      <a:lnTo>
                        <a:pt x="252" y="53"/>
                      </a:lnTo>
                      <a:lnTo>
                        <a:pt x="256" y="50"/>
                      </a:lnTo>
                      <a:lnTo>
                        <a:pt x="262" y="48"/>
                      </a:lnTo>
                      <a:lnTo>
                        <a:pt x="265" y="46"/>
                      </a:lnTo>
                      <a:lnTo>
                        <a:pt x="270" y="45"/>
                      </a:lnTo>
                      <a:lnTo>
                        <a:pt x="273" y="43"/>
                      </a:lnTo>
                      <a:lnTo>
                        <a:pt x="277" y="42"/>
                      </a:lnTo>
                      <a:lnTo>
                        <a:pt x="282" y="40"/>
                      </a:lnTo>
                      <a:lnTo>
                        <a:pt x="286" y="37"/>
                      </a:lnTo>
                      <a:lnTo>
                        <a:pt x="290" y="36"/>
                      </a:lnTo>
                      <a:lnTo>
                        <a:pt x="295" y="34"/>
                      </a:lnTo>
                      <a:lnTo>
                        <a:pt x="299" y="33"/>
                      </a:lnTo>
                      <a:lnTo>
                        <a:pt x="305" y="30"/>
                      </a:lnTo>
                      <a:lnTo>
                        <a:pt x="311" y="28"/>
                      </a:lnTo>
                      <a:lnTo>
                        <a:pt x="317" y="27"/>
                      </a:lnTo>
                      <a:lnTo>
                        <a:pt x="323" y="25"/>
                      </a:lnTo>
                      <a:lnTo>
                        <a:pt x="330" y="22"/>
                      </a:lnTo>
                      <a:lnTo>
                        <a:pt x="333" y="22"/>
                      </a:lnTo>
                      <a:lnTo>
                        <a:pt x="336" y="21"/>
                      </a:lnTo>
                      <a:lnTo>
                        <a:pt x="339" y="19"/>
                      </a:lnTo>
                      <a:lnTo>
                        <a:pt x="344" y="19"/>
                      </a:lnTo>
                      <a:lnTo>
                        <a:pt x="347" y="18"/>
                      </a:lnTo>
                      <a:lnTo>
                        <a:pt x="350" y="18"/>
                      </a:lnTo>
                      <a:lnTo>
                        <a:pt x="354" y="16"/>
                      </a:lnTo>
                      <a:lnTo>
                        <a:pt x="357" y="16"/>
                      </a:lnTo>
                      <a:lnTo>
                        <a:pt x="362" y="15"/>
                      </a:lnTo>
                      <a:lnTo>
                        <a:pt x="365" y="15"/>
                      </a:lnTo>
                      <a:lnTo>
                        <a:pt x="369" y="13"/>
                      </a:lnTo>
                      <a:lnTo>
                        <a:pt x="374" y="13"/>
                      </a:lnTo>
                      <a:lnTo>
                        <a:pt x="376" y="12"/>
                      </a:lnTo>
                      <a:lnTo>
                        <a:pt x="381" y="12"/>
                      </a:lnTo>
                      <a:lnTo>
                        <a:pt x="384" y="10"/>
                      </a:lnTo>
                      <a:lnTo>
                        <a:pt x="388" y="10"/>
                      </a:lnTo>
                      <a:lnTo>
                        <a:pt x="391" y="9"/>
                      </a:lnTo>
                      <a:lnTo>
                        <a:pt x="396" y="9"/>
                      </a:lnTo>
                      <a:lnTo>
                        <a:pt x="400" y="7"/>
                      </a:lnTo>
                      <a:lnTo>
                        <a:pt x="405" y="7"/>
                      </a:lnTo>
                      <a:lnTo>
                        <a:pt x="409" y="7"/>
                      </a:lnTo>
                      <a:lnTo>
                        <a:pt x="412" y="7"/>
                      </a:lnTo>
                      <a:lnTo>
                        <a:pt x="417" y="6"/>
                      </a:lnTo>
                      <a:lnTo>
                        <a:pt x="421" y="6"/>
                      </a:lnTo>
                      <a:lnTo>
                        <a:pt x="425" y="6"/>
                      </a:lnTo>
                      <a:lnTo>
                        <a:pt x="431" y="4"/>
                      </a:lnTo>
                      <a:lnTo>
                        <a:pt x="434" y="4"/>
                      </a:lnTo>
                      <a:lnTo>
                        <a:pt x="440" y="4"/>
                      </a:lnTo>
                      <a:lnTo>
                        <a:pt x="443" y="4"/>
                      </a:lnTo>
                      <a:lnTo>
                        <a:pt x="449" y="3"/>
                      </a:lnTo>
                      <a:lnTo>
                        <a:pt x="454" y="3"/>
                      </a:lnTo>
                      <a:lnTo>
                        <a:pt x="458" y="3"/>
                      </a:lnTo>
                      <a:lnTo>
                        <a:pt x="463" y="3"/>
                      </a:lnTo>
                      <a:lnTo>
                        <a:pt x="467" y="2"/>
                      </a:lnTo>
                      <a:lnTo>
                        <a:pt x="471" y="2"/>
                      </a:lnTo>
                      <a:lnTo>
                        <a:pt x="476" y="2"/>
                      </a:lnTo>
                      <a:lnTo>
                        <a:pt x="480" y="2"/>
                      </a:lnTo>
                      <a:lnTo>
                        <a:pt x="486" y="2"/>
                      </a:lnTo>
                      <a:lnTo>
                        <a:pt x="491" y="0"/>
                      </a:lnTo>
                      <a:lnTo>
                        <a:pt x="495" y="0"/>
                      </a:lnTo>
                      <a:lnTo>
                        <a:pt x="500" y="0"/>
                      </a:lnTo>
                      <a:lnTo>
                        <a:pt x="504" y="0"/>
                      </a:lnTo>
                      <a:lnTo>
                        <a:pt x="509" y="0"/>
                      </a:lnTo>
                      <a:lnTo>
                        <a:pt x="514" y="0"/>
                      </a:lnTo>
                      <a:lnTo>
                        <a:pt x="519" y="0"/>
                      </a:lnTo>
                      <a:lnTo>
                        <a:pt x="523" y="0"/>
                      </a:lnTo>
                      <a:lnTo>
                        <a:pt x="528" y="0"/>
                      </a:lnTo>
                      <a:lnTo>
                        <a:pt x="532" y="0"/>
                      </a:lnTo>
                      <a:lnTo>
                        <a:pt x="537" y="0"/>
                      </a:lnTo>
                      <a:lnTo>
                        <a:pt x="543" y="0"/>
                      </a:lnTo>
                      <a:lnTo>
                        <a:pt x="547" y="0"/>
                      </a:lnTo>
                      <a:lnTo>
                        <a:pt x="552" y="0"/>
                      </a:lnTo>
                      <a:lnTo>
                        <a:pt x="556" y="0"/>
                      </a:lnTo>
                      <a:lnTo>
                        <a:pt x="560" y="0"/>
                      </a:lnTo>
                      <a:lnTo>
                        <a:pt x="565" y="0"/>
                      </a:lnTo>
                      <a:lnTo>
                        <a:pt x="569" y="0"/>
                      </a:lnTo>
                      <a:lnTo>
                        <a:pt x="574" y="0"/>
                      </a:lnTo>
                      <a:lnTo>
                        <a:pt x="580" y="0"/>
                      </a:lnTo>
                      <a:lnTo>
                        <a:pt x="584" y="0"/>
                      </a:lnTo>
                      <a:lnTo>
                        <a:pt x="589" y="0"/>
                      </a:lnTo>
                      <a:lnTo>
                        <a:pt x="593" y="0"/>
                      </a:lnTo>
                      <a:lnTo>
                        <a:pt x="598" y="0"/>
                      </a:lnTo>
                      <a:lnTo>
                        <a:pt x="602" y="0"/>
                      </a:lnTo>
                      <a:lnTo>
                        <a:pt x="606" y="0"/>
                      </a:lnTo>
                      <a:lnTo>
                        <a:pt x="611" y="0"/>
                      </a:lnTo>
                      <a:lnTo>
                        <a:pt x="615" y="0"/>
                      </a:lnTo>
                      <a:lnTo>
                        <a:pt x="620" y="0"/>
                      </a:lnTo>
                      <a:lnTo>
                        <a:pt x="624" y="0"/>
                      </a:lnTo>
                      <a:lnTo>
                        <a:pt x="629" y="0"/>
                      </a:lnTo>
                      <a:lnTo>
                        <a:pt x="633" y="0"/>
                      </a:lnTo>
                      <a:lnTo>
                        <a:pt x="638" y="0"/>
                      </a:lnTo>
                      <a:lnTo>
                        <a:pt x="641" y="0"/>
                      </a:lnTo>
                      <a:lnTo>
                        <a:pt x="645" y="0"/>
                      </a:lnTo>
                      <a:lnTo>
                        <a:pt x="650" y="0"/>
                      </a:lnTo>
                      <a:lnTo>
                        <a:pt x="654" y="0"/>
                      </a:lnTo>
                      <a:lnTo>
                        <a:pt x="658" y="0"/>
                      </a:lnTo>
                      <a:lnTo>
                        <a:pt x="663" y="0"/>
                      </a:lnTo>
                      <a:lnTo>
                        <a:pt x="666" y="0"/>
                      </a:lnTo>
                      <a:lnTo>
                        <a:pt x="670" y="0"/>
                      </a:lnTo>
                      <a:lnTo>
                        <a:pt x="675" y="0"/>
                      </a:lnTo>
                      <a:lnTo>
                        <a:pt x="678" y="0"/>
                      </a:lnTo>
                      <a:lnTo>
                        <a:pt x="682" y="0"/>
                      </a:lnTo>
                      <a:lnTo>
                        <a:pt x="685" y="0"/>
                      </a:lnTo>
                      <a:lnTo>
                        <a:pt x="690" y="0"/>
                      </a:lnTo>
                      <a:lnTo>
                        <a:pt x="693" y="0"/>
                      </a:lnTo>
                      <a:lnTo>
                        <a:pt x="695" y="0"/>
                      </a:lnTo>
                      <a:lnTo>
                        <a:pt x="698" y="0"/>
                      </a:lnTo>
                      <a:lnTo>
                        <a:pt x="703" y="0"/>
                      </a:lnTo>
                      <a:lnTo>
                        <a:pt x="706" y="0"/>
                      </a:lnTo>
                      <a:lnTo>
                        <a:pt x="709" y="0"/>
                      </a:lnTo>
                      <a:lnTo>
                        <a:pt x="712" y="0"/>
                      </a:lnTo>
                      <a:lnTo>
                        <a:pt x="716" y="0"/>
                      </a:lnTo>
                      <a:lnTo>
                        <a:pt x="722" y="0"/>
                      </a:lnTo>
                      <a:lnTo>
                        <a:pt x="728" y="0"/>
                      </a:lnTo>
                      <a:lnTo>
                        <a:pt x="734" y="0"/>
                      </a:lnTo>
                      <a:lnTo>
                        <a:pt x="740" y="0"/>
                      </a:lnTo>
                      <a:lnTo>
                        <a:pt x="744" y="0"/>
                      </a:lnTo>
                      <a:lnTo>
                        <a:pt x="750" y="0"/>
                      </a:lnTo>
                      <a:lnTo>
                        <a:pt x="755" y="0"/>
                      </a:lnTo>
                      <a:lnTo>
                        <a:pt x="761" y="0"/>
                      </a:lnTo>
                      <a:lnTo>
                        <a:pt x="764" y="0"/>
                      </a:lnTo>
                      <a:lnTo>
                        <a:pt x="768" y="0"/>
                      </a:lnTo>
                      <a:lnTo>
                        <a:pt x="771" y="0"/>
                      </a:lnTo>
                      <a:lnTo>
                        <a:pt x="776" y="0"/>
                      </a:lnTo>
                      <a:lnTo>
                        <a:pt x="779" y="0"/>
                      </a:lnTo>
                      <a:lnTo>
                        <a:pt x="782" y="0"/>
                      </a:lnTo>
                      <a:lnTo>
                        <a:pt x="783" y="0"/>
                      </a:lnTo>
                      <a:lnTo>
                        <a:pt x="786" y="0"/>
                      </a:lnTo>
                      <a:lnTo>
                        <a:pt x="790" y="0"/>
                      </a:lnTo>
                      <a:lnTo>
                        <a:pt x="793" y="0"/>
                      </a:lnTo>
                      <a:lnTo>
                        <a:pt x="795" y="0"/>
                      </a:lnTo>
                      <a:lnTo>
                        <a:pt x="796" y="0"/>
                      </a:lnTo>
                      <a:lnTo>
                        <a:pt x="798" y="2"/>
                      </a:lnTo>
                      <a:lnTo>
                        <a:pt x="798" y="4"/>
                      </a:lnTo>
                      <a:lnTo>
                        <a:pt x="799" y="9"/>
                      </a:lnTo>
                      <a:lnTo>
                        <a:pt x="799" y="12"/>
                      </a:lnTo>
                      <a:lnTo>
                        <a:pt x="799" y="15"/>
                      </a:lnTo>
                      <a:lnTo>
                        <a:pt x="799" y="19"/>
                      </a:lnTo>
                      <a:lnTo>
                        <a:pt x="799" y="24"/>
                      </a:lnTo>
                      <a:lnTo>
                        <a:pt x="798" y="30"/>
                      </a:lnTo>
                      <a:lnTo>
                        <a:pt x="798" y="36"/>
                      </a:lnTo>
                      <a:lnTo>
                        <a:pt x="798" y="37"/>
                      </a:lnTo>
                      <a:lnTo>
                        <a:pt x="798" y="42"/>
                      </a:lnTo>
                      <a:lnTo>
                        <a:pt x="796" y="45"/>
                      </a:lnTo>
                      <a:lnTo>
                        <a:pt x="796" y="49"/>
                      </a:lnTo>
                      <a:lnTo>
                        <a:pt x="795" y="52"/>
                      </a:lnTo>
                      <a:lnTo>
                        <a:pt x="793" y="55"/>
                      </a:lnTo>
                      <a:lnTo>
                        <a:pt x="793" y="59"/>
                      </a:lnTo>
                      <a:lnTo>
                        <a:pt x="792" y="65"/>
                      </a:lnTo>
                      <a:lnTo>
                        <a:pt x="789" y="70"/>
                      </a:lnTo>
                      <a:lnTo>
                        <a:pt x="787" y="74"/>
                      </a:lnTo>
                      <a:lnTo>
                        <a:pt x="785" y="80"/>
                      </a:lnTo>
                      <a:lnTo>
                        <a:pt x="783" y="86"/>
                      </a:lnTo>
                      <a:lnTo>
                        <a:pt x="780" y="92"/>
                      </a:lnTo>
                      <a:lnTo>
                        <a:pt x="777" y="98"/>
                      </a:lnTo>
                      <a:lnTo>
                        <a:pt x="774" y="104"/>
                      </a:lnTo>
                      <a:lnTo>
                        <a:pt x="771" y="110"/>
                      </a:lnTo>
                      <a:lnTo>
                        <a:pt x="767" y="116"/>
                      </a:lnTo>
                      <a:lnTo>
                        <a:pt x="762" y="123"/>
                      </a:lnTo>
                      <a:lnTo>
                        <a:pt x="761" y="126"/>
                      </a:lnTo>
                      <a:lnTo>
                        <a:pt x="758" y="131"/>
                      </a:lnTo>
                      <a:lnTo>
                        <a:pt x="756" y="134"/>
                      </a:lnTo>
                      <a:lnTo>
                        <a:pt x="755" y="137"/>
                      </a:lnTo>
                      <a:lnTo>
                        <a:pt x="749" y="142"/>
                      </a:lnTo>
                      <a:lnTo>
                        <a:pt x="744" y="150"/>
                      </a:lnTo>
                      <a:lnTo>
                        <a:pt x="739" y="156"/>
                      </a:lnTo>
                      <a:lnTo>
                        <a:pt x="734" y="162"/>
                      </a:lnTo>
                      <a:lnTo>
                        <a:pt x="728" y="168"/>
                      </a:lnTo>
                      <a:lnTo>
                        <a:pt x="722" y="175"/>
                      </a:lnTo>
                      <a:lnTo>
                        <a:pt x="716" y="180"/>
                      </a:lnTo>
                      <a:lnTo>
                        <a:pt x="710" y="187"/>
                      </a:lnTo>
                      <a:lnTo>
                        <a:pt x="707" y="188"/>
                      </a:lnTo>
                      <a:lnTo>
                        <a:pt x="704" y="191"/>
                      </a:lnTo>
                      <a:lnTo>
                        <a:pt x="700" y="194"/>
                      </a:lnTo>
                      <a:lnTo>
                        <a:pt x="697" y="197"/>
                      </a:lnTo>
                      <a:lnTo>
                        <a:pt x="693" y="199"/>
                      </a:lnTo>
                      <a:lnTo>
                        <a:pt x="690" y="202"/>
                      </a:lnTo>
                      <a:lnTo>
                        <a:pt x="685" y="203"/>
                      </a:lnTo>
                      <a:lnTo>
                        <a:pt x="682" y="206"/>
                      </a:lnTo>
                      <a:lnTo>
                        <a:pt x="679" y="209"/>
                      </a:lnTo>
                      <a:lnTo>
                        <a:pt x="675" y="211"/>
                      </a:lnTo>
                      <a:lnTo>
                        <a:pt x="672" y="214"/>
                      </a:lnTo>
                      <a:lnTo>
                        <a:pt x="667" y="215"/>
                      </a:lnTo>
                      <a:lnTo>
                        <a:pt x="663" y="217"/>
                      </a:lnTo>
                      <a:lnTo>
                        <a:pt x="660" y="220"/>
                      </a:lnTo>
                      <a:lnTo>
                        <a:pt x="655" y="221"/>
                      </a:lnTo>
                      <a:lnTo>
                        <a:pt x="652" y="223"/>
                      </a:lnTo>
                      <a:lnTo>
                        <a:pt x="648" y="224"/>
                      </a:lnTo>
                      <a:lnTo>
                        <a:pt x="644" y="224"/>
                      </a:lnTo>
                      <a:lnTo>
                        <a:pt x="641" y="226"/>
                      </a:lnTo>
                      <a:lnTo>
                        <a:pt x="636" y="227"/>
                      </a:lnTo>
                      <a:lnTo>
                        <a:pt x="632" y="229"/>
                      </a:lnTo>
                      <a:lnTo>
                        <a:pt x="627" y="229"/>
                      </a:lnTo>
                      <a:lnTo>
                        <a:pt x="623" y="230"/>
                      </a:lnTo>
                      <a:lnTo>
                        <a:pt x="618" y="232"/>
                      </a:lnTo>
                      <a:lnTo>
                        <a:pt x="614" y="232"/>
                      </a:lnTo>
                      <a:lnTo>
                        <a:pt x="609" y="233"/>
                      </a:lnTo>
                      <a:lnTo>
                        <a:pt x="604" y="233"/>
                      </a:lnTo>
                      <a:lnTo>
                        <a:pt x="599" y="233"/>
                      </a:lnTo>
                      <a:lnTo>
                        <a:pt x="593" y="234"/>
                      </a:lnTo>
                      <a:lnTo>
                        <a:pt x="589" y="234"/>
                      </a:lnTo>
                      <a:lnTo>
                        <a:pt x="583" y="236"/>
                      </a:lnTo>
                      <a:lnTo>
                        <a:pt x="578" y="236"/>
                      </a:lnTo>
                      <a:lnTo>
                        <a:pt x="572" y="236"/>
                      </a:lnTo>
                      <a:lnTo>
                        <a:pt x="568" y="236"/>
                      </a:lnTo>
                      <a:lnTo>
                        <a:pt x="562" y="236"/>
                      </a:lnTo>
                      <a:lnTo>
                        <a:pt x="558" y="236"/>
                      </a:lnTo>
                      <a:lnTo>
                        <a:pt x="552" y="236"/>
                      </a:lnTo>
                      <a:lnTo>
                        <a:pt x="547" y="236"/>
                      </a:lnTo>
                      <a:lnTo>
                        <a:pt x="541" y="236"/>
                      </a:lnTo>
                      <a:lnTo>
                        <a:pt x="537" y="236"/>
                      </a:lnTo>
                      <a:lnTo>
                        <a:pt x="531" y="236"/>
                      </a:lnTo>
                      <a:lnTo>
                        <a:pt x="526" y="236"/>
                      </a:lnTo>
                      <a:lnTo>
                        <a:pt x="520" y="236"/>
                      </a:lnTo>
                      <a:lnTo>
                        <a:pt x="516" y="236"/>
                      </a:lnTo>
                      <a:lnTo>
                        <a:pt x="510" y="236"/>
                      </a:lnTo>
                      <a:lnTo>
                        <a:pt x="506" y="236"/>
                      </a:lnTo>
                      <a:lnTo>
                        <a:pt x="500" y="236"/>
                      </a:lnTo>
                      <a:lnTo>
                        <a:pt x="495" y="236"/>
                      </a:lnTo>
                      <a:lnTo>
                        <a:pt x="489" y="236"/>
                      </a:lnTo>
                      <a:lnTo>
                        <a:pt x="483" y="236"/>
                      </a:lnTo>
                      <a:lnTo>
                        <a:pt x="479" y="236"/>
                      </a:lnTo>
                      <a:lnTo>
                        <a:pt x="474" y="236"/>
                      </a:lnTo>
                      <a:lnTo>
                        <a:pt x="468" y="234"/>
                      </a:lnTo>
                      <a:lnTo>
                        <a:pt x="464" y="234"/>
                      </a:lnTo>
                      <a:lnTo>
                        <a:pt x="458" y="234"/>
                      </a:lnTo>
                      <a:lnTo>
                        <a:pt x="454" y="234"/>
                      </a:lnTo>
                      <a:lnTo>
                        <a:pt x="448" y="233"/>
                      </a:lnTo>
                      <a:lnTo>
                        <a:pt x="443" y="233"/>
                      </a:lnTo>
                      <a:lnTo>
                        <a:pt x="439" y="233"/>
                      </a:lnTo>
                      <a:lnTo>
                        <a:pt x="434" y="233"/>
                      </a:lnTo>
                      <a:lnTo>
                        <a:pt x="428" y="233"/>
                      </a:lnTo>
                      <a:lnTo>
                        <a:pt x="424" y="232"/>
                      </a:lnTo>
                      <a:lnTo>
                        <a:pt x="420" y="232"/>
                      </a:lnTo>
                      <a:lnTo>
                        <a:pt x="417" y="232"/>
                      </a:lnTo>
                      <a:lnTo>
                        <a:pt x="411" y="232"/>
                      </a:lnTo>
                      <a:lnTo>
                        <a:pt x="406" y="230"/>
                      </a:lnTo>
                      <a:lnTo>
                        <a:pt x="402" y="230"/>
                      </a:lnTo>
                      <a:lnTo>
                        <a:pt x="397" y="230"/>
                      </a:lnTo>
                      <a:lnTo>
                        <a:pt x="394" y="229"/>
                      </a:lnTo>
                      <a:lnTo>
                        <a:pt x="390" y="229"/>
                      </a:lnTo>
                      <a:lnTo>
                        <a:pt x="385" y="229"/>
                      </a:lnTo>
                      <a:lnTo>
                        <a:pt x="382" y="229"/>
                      </a:lnTo>
                      <a:lnTo>
                        <a:pt x="378" y="229"/>
                      </a:lnTo>
                      <a:lnTo>
                        <a:pt x="375" y="227"/>
                      </a:lnTo>
                      <a:lnTo>
                        <a:pt x="371" y="227"/>
                      </a:lnTo>
                      <a:lnTo>
                        <a:pt x="368" y="227"/>
                      </a:lnTo>
                      <a:lnTo>
                        <a:pt x="362" y="226"/>
                      </a:lnTo>
                      <a:lnTo>
                        <a:pt x="356" y="226"/>
                      </a:lnTo>
                      <a:lnTo>
                        <a:pt x="350" y="224"/>
                      </a:lnTo>
                      <a:lnTo>
                        <a:pt x="345" y="224"/>
                      </a:lnTo>
                      <a:lnTo>
                        <a:pt x="341" y="224"/>
                      </a:lnTo>
                      <a:lnTo>
                        <a:pt x="338" y="224"/>
                      </a:lnTo>
                      <a:lnTo>
                        <a:pt x="333" y="223"/>
                      </a:lnTo>
                      <a:lnTo>
                        <a:pt x="332" y="223"/>
                      </a:lnTo>
                      <a:lnTo>
                        <a:pt x="332" y="223"/>
                      </a:lnTo>
                      <a:lnTo>
                        <a:pt x="335" y="223"/>
                      </a:lnTo>
                      <a:lnTo>
                        <a:pt x="338" y="223"/>
                      </a:lnTo>
                      <a:lnTo>
                        <a:pt x="342" y="223"/>
                      </a:lnTo>
                      <a:lnTo>
                        <a:pt x="344" y="221"/>
                      </a:lnTo>
                      <a:lnTo>
                        <a:pt x="347" y="221"/>
                      </a:lnTo>
                      <a:lnTo>
                        <a:pt x="351" y="221"/>
                      </a:lnTo>
                      <a:lnTo>
                        <a:pt x="354" y="221"/>
                      </a:lnTo>
                      <a:lnTo>
                        <a:pt x="357" y="221"/>
                      </a:lnTo>
                      <a:lnTo>
                        <a:pt x="362" y="221"/>
                      </a:lnTo>
                      <a:lnTo>
                        <a:pt x="366" y="221"/>
                      </a:lnTo>
                      <a:lnTo>
                        <a:pt x="371" y="221"/>
                      </a:lnTo>
                      <a:lnTo>
                        <a:pt x="375" y="221"/>
                      </a:lnTo>
                      <a:lnTo>
                        <a:pt x="379" y="220"/>
                      </a:lnTo>
                      <a:lnTo>
                        <a:pt x="384" y="220"/>
                      </a:lnTo>
                      <a:lnTo>
                        <a:pt x="390" y="220"/>
                      </a:lnTo>
                      <a:lnTo>
                        <a:pt x="394" y="218"/>
                      </a:lnTo>
                      <a:lnTo>
                        <a:pt x="400" y="218"/>
                      </a:lnTo>
                      <a:lnTo>
                        <a:pt x="405" y="218"/>
                      </a:lnTo>
                      <a:lnTo>
                        <a:pt x="412" y="218"/>
                      </a:lnTo>
                      <a:lnTo>
                        <a:pt x="417" y="217"/>
                      </a:lnTo>
                      <a:lnTo>
                        <a:pt x="422" y="217"/>
                      </a:lnTo>
                      <a:lnTo>
                        <a:pt x="428" y="217"/>
                      </a:lnTo>
                      <a:lnTo>
                        <a:pt x="434" y="215"/>
                      </a:lnTo>
                      <a:lnTo>
                        <a:pt x="442" y="215"/>
                      </a:lnTo>
                      <a:lnTo>
                        <a:pt x="448" y="214"/>
                      </a:lnTo>
                      <a:lnTo>
                        <a:pt x="454" y="214"/>
                      </a:lnTo>
                      <a:lnTo>
                        <a:pt x="461" y="214"/>
                      </a:lnTo>
                      <a:lnTo>
                        <a:pt x="467" y="212"/>
                      </a:lnTo>
                      <a:lnTo>
                        <a:pt x="474" y="212"/>
                      </a:lnTo>
                      <a:lnTo>
                        <a:pt x="480" y="211"/>
                      </a:lnTo>
                      <a:lnTo>
                        <a:pt x="488" y="209"/>
                      </a:lnTo>
                      <a:lnTo>
                        <a:pt x="494" y="209"/>
                      </a:lnTo>
                      <a:lnTo>
                        <a:pt x="500" y="208"/>
                      </a:lnTo>
                      <a:lnTo>
                        <a:pt x="507" y="206"/>
                      </a:lnTo>
                      <a:lnTo>
                        <a:pt x="513" y="206"/>
                      </a:lnTo>
                      <a:lnTo>
                        <a:pt x="520" y="205"/>
                      </a:lnTo>
                      <a:lnTo>
                        <a:pt x="526" y="203"/>
                      </a:lnTo>
                      <a:lnTo>
                        <a:pt x="534" y="202"/>
                      </a:lnTo>
                      <a:lnTo>
                        <a:pt x="540" y="202"/>
                      </a:lnTo>
                      <a:lnTo>
                        <a:pt x="547" y="200"/>
                      </a:lnTo>
                      <a:lnTo>
                        <a:pt x="553" y="199"/>
                      </a:lnTo>
                      <a:lnTo>
                        <a:pt x="559" y="199"/>
                      </a:lnTo>
                      <a:lnTo>
                        <a:pt x="566" y="197"/>
                      </a:lnTo>
                      <a:lnTo>
                        <a:pt x="572" y="196"/>
                      </a:lnTo>
                      <a:lnTo>
                        <a:pt x="578" y="194"/>
                      </a:lnTo>
                      <a:lnTo>
                        <a:pt x="584" y="193"/>
                      </a:lnTo>
                      <a:lnTo>
                        <a:pt x="590" y="191"/>
                      </a:lnTo>
                      <a:lnTo>
                        <a:pt x="596" y="190"/>
                      </a:lnTo>
                      <a:lnTo>
                        <a:pt x="602" y="188"/>
                      </a:lnTo>
                      <a:lnTo>
                        <a:pt x="606" y="187"/>
                      </a:lnTo>
                      <a:lnTo>
                        <a:pt x="612" y="186"/>
                      </a:lnTo>
                      <a:lnTo>
                        <a:pt x="618" y="184"/>
                      </a:lnTo>
                      <a:lnTo>
                        <a:pt x="623" y="183"/>
                      </a:lnTo>
                      <a:lnTo>
                        <a:pt x="627" y="180"/>
                      </a:lnTo>
                      <a:lnTo>
                        <a:pt x="633" y="178"/>
                      </a:lnTo>
                      <a:lnTo>
                        <a:pt x="638" y="177"/>
                      </a:lnTo>
                      <a:lnTo>
                        <a:pt x="641" y="175"/>
                      </a:lnTo>
                      <a:lnTo>
                        <a:pt x="645" y="172"/>
                      </a:lnTo>
                      <a:lnTo>
                        <a:pt x="650" y="172"/>
                      </a:lnTo>
                      <a:lnTo>
                        <a:pt x="655" y="166"/>
                      </a:lnTo>
                      <a:lnTo>
                        <a:pt x="663" y="162"/>
                      </a:lnTo>
                      <a:lnTo>
                        <a:pt x="669" y="157"/>
                      </a:lnTo>
                      <a:lnTo>
                        <a:pt x="676" y="153"/>
                      </a:lnTo>
                      <a:lnTo>
                        <a:pt x="681" y="147"/>
                      </a:lnTo>
                      <a:lnTo>
                        <a:pt x="687" y="141"/>
                      </a:lnTo>
                      <a:lnTo>
                        <a:pt x="691" y="137"/>
                      </a:lnTo>
                      <a:lnTo>
                        <a:pt x="697" y="132"/>
                      </a:lnTo>
                      <a:lnTo>
                        <a:pt x="700" y="126"/>
                      </a:lnTo>
                      <a:lnTo>
                        <a:pt x="704" y="120"/>
                      </a:lnTo>
                      <a:lnTo>
                        <a:pt x="709" y="116"/>
                      </a:lnTo>
                      <a:lnTo>
                        <a:pt x="713" y="110"/>
                      </a:lnTo>
                      <a:lnTo>
                        <a:pt x="716" y="104"/>
                      </a:lnTo>
                      <a:lnTo>
                        <a:pt x="719" y="98"/>
                      </a:lnTo>
                      <a:lnTo>
                        <a:pt x="722" y="94"/>
                      </a:lnTo>
                      <a:lnTo>
                        <a:pt x="727" y="89"/>
                      </a:lnTo>
                      <a:lnTo>
                        <a:pt x="728" y="83"/>
                      </a:lnTo>
                      <a:lnTo>
                        <a:pt x="730" y="79"/>
                      </a:lnTo>
                      <a:lnTo>
                        <a:pt x="733" y="73"/>
                      </a:lnTo>
                      <a:lnTo>
                        <a:pt x="734" y="70"/>
                      </a:lnTo>
                      <a:lnTo>
                        <a:pt x="736" y="64"/>
                      </a:lnTo>
                      <a:lnTo>
                        <a:pt x="737" y="61"/>
                      </a:lnTo>
                      <a:lnTo>
                        <a:pt x="739" y="56"/>
                      </a:lnTo>
                      <a:lnTo>
                        <a:pt x="741" y="53"/>
                      </a:lnTo>
                      <a:lnTo>
                        <a:pt x="741" y="50"/>
                      </a:lnTo>
                      <a:lnTo>
                        <a:pt x="741" y="48"/>
                      </a:lnTo>
                      <a:lnTo>
                        <a:pt x="743" y="45"/>
                      </a:lnTo>
                      <a:lnTo>
                        <a:pt x="744" y="43"/>
                      </a:lnTo>
                      <a:lnTo>
                        <a:pt x="744" y="40"/>
                      </a:lnTo>
                      <a:lnTo>
                        <a:pt x="744" y="40"/>
                      </a:lnTo>
                      <a:lnTo>
                        <a:pt x="602" y="59"/>
                      </a:lnTo>
                      <a:lnTo>
                        <a:pt x="599" y="59"/>
                      </a:lnTo>
                      <a:lnTo>
                        <a:pt x="595" y="58"/>
                      </a:lnTo>
                      <a:lnTo>
                        <a:pt x="590" y="58"/>
                      </a:lnTo>
                      <a:lnTo>
                        <a:pt x="586" y="58"/>
                      </a:lnTo>
                      <a:lnTo>
                        <a:pt x="580" y="56"/>
                      </a:lnTo>
                      <a:lnTo>
                        <a:pt x="575" y="56"/>
                      </a:lnTo>
                      <a:lnTo>
                        <a:pt x="571" y="56"/>
                      </a:lnTo>
                      <a:lnTo>
                        <a:pt x="568" y="56"/>
                      </a:lnTo>
                      <a:lnTo>
                        <a:pt x="563" y="55"/>
                      </a:lnTo>
                      <a:lnTo>
                        <a:pt x="560" y="55"/>
                      </a:lnTo>
                      <a:lnTo>
                        <a:pt x="556" y="55"/>
                      </a:lnTo>
                      <a:lnTo>
                        <a:pt x="553" y="55"/>
                      </a:lnTo>
                      <a:lnTo>
                        <a:pt x="549" y="55"/>
                      </a:lnTo>
                      <a:lnTo>
                        <a:pt x="546" y="55"/>
                      </a:lnTo>
                      <a:lnTo>
                        <a:pt x="540" y="55"/>
                      </a:lnTo>
                      <a:lnTo>
                        <a:pt x="535" y="55"/>
                      </a:lnTo>
                      <a:lnTo>
                        <a:pt x="532" y="53"/>
                      </a:lnTo>
                      <a:lnTo>
                        <a:pt x="528" y="53"/>
                      </a:lnTo>
                      <a:lnTo>
                        <a:pt x="522" y="53"/>
                      </a:lnTo>
                      <a:lnTo>
                        <a:pt x="517" y="53"/>
                      </a:lnTo>
                      <a:lnTo>
                        <a:pt x="513" y="53"/>
                      </a:lnTo>
                      <a:lnTo>
                        <a:pt x="509" y="53"/>
                      </a:lnTo>
                      <a:lnTo>
                        <a:pt x="503" y="53"/>
                      </a:lnTo>
                      <a:lnTo>
                        <a:pt x="498" y="53"/>
                      </a:lnTo>
                      <a:lnTo>
                        <a:pt x="492" y="53"/>
                      </a:lnTo>
                      <a:lnTo>
                        <a:pt x="488" y="53"/>
                      </a:lnTo>
                      <a:lnTo>
                        <a:pt x="482" y="53"/>
                      </a:lnTo>
                      <a:lnTo>
                        <a:pt x="477" y="53"/>
                      </a:lnTo>
                      <a:lnTo>
                        <a:pt x="473" y="53"/>
                      </a:lnTo>
                      <a:lnTo>
                        <a:pt x="467" y="53"/>
                      </a:lnTo>
                      <a:lnTo>
                        <a:pt x="461" y="53"/>
                      </a:lnTo>
                      <a:lnTo>
                        <a:pt x="457" y="53"/>
                      </a:lnTo>
                      <a:lnTo>
                        <a:pt x="451" y="53"/>
                      </a:lnTo>
                      <a:lnTo>
                        <a:pt x="446" y="53"/>
                      </a:lnTo>
                      <a:lnTo>
                        <a:pt x="440" y="53"/>
                      </a:lnTo>
                      <a:lnTo>
                        <a:pt x="434" y="55"/>
                      </a:lnTo>
                      <a:lnTo>
                        <a:pt x="428" y="55"/>
                      </a:lnTo>
                      <a:lnTo>
                        <a:pt x="424" y="55"/>
                      </a:lnTo>
                      <a:lnTo>
                        <a:pt x="418" y="55"/>
                      </a:lnTo>
                      <a:lnTo>
                        <a:pt x="412" y="55"/>
                      </a:lnTo>
                      <a:lnTo>
                        <a:pt x="408" y="56"/>
                      </a:lnTo>
                      <a:lnTo>
                        <a:pt x="402" y="56"/>
                      </a:lnTo>
                      <a:lnTo>
                        <a:pt x="396" y="56"/>
                      </a:lnTo>
                      <a:lnTo>
                        <a:pt x="391" y="58"/>
                      </a:lnTo>
                      <a:lnTo>
                        <a:pt x="385" y="58"/>
                      </a:lnTo>
                      <a:lnTo>
                        <a:pt x="381" y="59"/>
                      </a:lnTo>
                      <a:lnTo>
                        <a:pt x="375" y="59"/>
                      </a:lnTo>
                      <a:lnTo>
                        <a:pt x="371" y="61"/>
                      </a:lnTo>
                      <a:lnTo>
                        <a:pt x="365" y="61"/>
                      </a:lnTo>
                      <a:lnTo>
                        <a:pt x="360" y="62"/>
                      </a:lnTo>
                      <a:lnTo>
                        <a:pt x="356" y="62"/>
                      </a:lnTo>
                      <a:lnTo>
                        <a:pt x="351" y="64"/>
                      </a:lnTo>
                      <a:lnTo>
                        <a:pt x="345" y="65"/>
                      </a:lnTo>
                      <a:lnTo>
                        <a:pt x="341" y="67"/>
                      </a:lnTo>
                      <a:lnTo>
                        <a:pt x="336" y="67"/>
                      </a:lnTo>
                      <a:lnTo>
                        <a:pt x="332" y="68"/>
                      </a:lnTo>
                      <a:lnTo>
                        <a:pt x="328" y="70"/>
                      </a:lnTo>
                      <a:lnTo>
                        <a:pt x="323" y="71"/>
                      </a:lnTo>
                      <a:lnTo>
                        <a:pt x="319" y="73"/>
                      </a:lnTo>
                      <a:lnTo>
                        <a:pt x="316" y="74"/>
                      </a:lnTo>
                      <a:lnTo>
                        <a:pt x="311" y="74"/>
                      </a:lnTo>
                      <a:lnTo>
                        <a:pt x="308" y="77"/>
                      </a:lnTo>
                      <a:lnTo>
                        <a:pt x="304" y="79"/>
                      </a:lnTo>
                      <a:lnTo>
                        <a:pt x="299" y="79"/>
                      </a:lnTo>
                      <a:lnTo>
                        <a:pt x="296" y="80"/>
                      </a:lnTo>
                      <a:lnTo>
                        <a:pt x="292" y="82"/>
                      </a:lnTo>
                      <a:lnTo>
                        <a:pt x="284" y="86"/>
                      </a:lnTo>
                      <a:lnTo>
                        <a:pt x="279" y="89"/>
                      </a:lnTo>
                      <a:lnTo>
                        <a:pt x="276" y="92"/>
                      </a:lnTo>
                      <a:lnTo>
                        <a:pt x="271" y="94"/>
                      </a:lnTo>
                      <a:lnTo>
                        <a:pt x="268" y="95"/>
                      </a:lnTo>
                      <a:lnTo>
                        <a:pt x="265" y="96"/>
                      </a:lnTo>
                      <a:lnTo>
                        <a:pt x="259" y="101"/>
                      </a:lnTo>
                      <a:lnTo>
                        <a:pt x="253" y="105"/>
                      </a:lnTo>
                      <a:lnTo>
                        <a:pt x="247" y="108"/>
                      </a:lnTo>
                      <a:lnTo>
                        <a:pt x="243" y="113"/>
                      </a:lnTo>
                      <a:lnTo>
                        <a:pt x="237" y="117"/>
                      </a:lnTo>
                      <a:lnTo>
                        <a:pt x="233" y="123"/>
                      </a:lnTo>
                      <a:lnTo>
                        <a:pt x="227" y="126"/>
                      </a:lnTo>
                      <a:lnTo>
                        <a:pt x="221" y="131"/>
                      </a:lnTo>
                      <a:lnTo>
                        <a:pt x="216" y="135"/>
                      </a:lnTo>
                      <a:lnTo>
                        <a:pt x="210" y="141"/>
                      </a:lnTo>
                      <a:lnTo>
                        <a:pt x="206" y="145"/>
                      </a:lnTo>
                      <a:lnTo>
                        <a:pt x="201" y="150"/>
                      </a:lnTo>
                      <a:lnTo>
                        <a:pt x="195" y="154"/>
                      </a:lnTo>
                      <a:lnTo>
                        <a:pt x="191" y="160"/>
                      </a:lnTo>
                      <a:lnTo>
                        <a:pt x="185" y="165"/>
                      </a:lnTo>
                      <a:lnTo>
                        <a:pt x="181" y="169"/>
                      </a:lnTo>
                      <a:lnTo>
                        <a:pt x="176" y="174"/>
                      </a:lnTo>
                      <a:lnTo>
                        <a:pt x="170" y="178"/>
                      </a:lnTo>
                      <a:lnTo>
                        <a:pt x="166" y="183"/>
                      </a:lnTo>
                      <a:lnTo>
                        <a:pt x="160" y="187"/>
                      </a:lnTo>
                      <a:lnTo>
                        <a:pt x="154" y="191"/>
                      </a:lnTo>
                      <a:lnTo>
                        <a:pt x="149" y="197"/>
                      </a:lnTo>
                      <a:lnTo>
                        <a:pt x="142" y="200"/>
                      </a:lnTo>
                      <a:lnTo>
                        <a:pt x="136" y="205"/>
                      </a:lnTo>
                      <a:lnTo>
                        <a:pt x="130" y="208"/>
                      </a:lnTo>
                      <a:lnTo>
                        <a:pt x="124" y="212"/>
                      </a:lnTo>
                      <a:lnTo>
                        <a:pt x="117" y="215"/>
                      </a:lnTo>
                      <a:lnTo>
                        <a:pt x="111" y="220"/>
                      </a:lnTo>
                      <a:lnTo>
                        <a:pt x="105" y="223"/>
                      </a:lnTo>
                      <a:lnTo>
                        <a:pt x="99" y="227"/>
                      </a:lnTo>
                      <a:lnTo>
                        <a:pt x="92" y="229"/>
                      </a:lnTo>
                      <a:lnTo>
                        <a:pt x="86" y="233"/>
                      </a:lnTo>
                      <a:lnTo>
                        <a:pt x="80" y="234"/>
                      </a:lnTo>
                      <a:lnTo>
                        <a:pt x="72" y="237"/>
                      </a:lnTo>
                      <a:lnTo>
                        <a:pt x="66" y="240"/>
                      </a:lnTo>
                      <a:lnTo>
                        <a:pt x="62" y="243"/>
                      </a:lnTo>
                      <a:lnTo>
                        <a:pt x="56" y="245"/>
                      </a:lnTo>
                      <a:lnTo>
                        <a:pt x="50" y="248"/>
                      </a:lnTo>
                      <a:lnTo>
                        <a:pt x="44" y="249"/>
                      </a:lnTo>
                      <a:lnTo>
                        <a:pt x="40" y="251"/>
                      </a:lnTo>
                      <a:lnTo>
                        <a:pt x="34" y="254"/>
                      </a:lnTo>
                      <a:lnTo>
                        <a:pt x="29" y="255"/>
                      </a:lnTo>
                      <a:lnTo>
                        <a:pt x="25" y="257"/>
                      </a:lnTo>
                      <a:lnTo>
                        <a:pt x="20" y="258"/>
                      </a:lnTo>
                      <a:lnTo>
                        <a:pt x="17" y="258"/>
                      </a:lnTo>
                      <a:lnTo>
                        <a:pt x="13" y="261"/>
                      </a:lnTo>
                      <a:lnTo>
                        <a:pt x="10" y="261"/>
                      </a:lnTo>
                      <a:lnTo>
                        <a:pt x="7" y="263"/>
                      </a:lnTo>
                      <a:lnTo>
                        <a:pt x="4" y="263"/>
                      </a:lnTo>
                      <a:lnTo>
                        <a:pt x="3" y="264"/>
                      </a:lnTo>
                      <a:lnTo>
                        <a:pt x="0" y="264"/>
                      </a:lnTo>
                      <a:lnTo>
                        <a:pt x="244" y="59"/>
                      </a:lnTo>
                      <a:lnTo>
                        <a:pt x="244" y="5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465360" y="2219400"/>
                  <a:ext cx="382680" cy="342720"/>
                </a:xfrm>
                <a:custGeom>
                  <a:avLst/>
                  <a:gdLst/>
                  <a:ahLst/>
                  <a:rect l="l" t="t" r="r" b="b"/>
                  <a:pathLst>
                    <a:path w="484" h="431">
                      <a:moveTo>
                        <a:pt x="444" y="7"/>
                      </a:moveTo>
                      <a:lnTo>
                        <a:pt x="442" y="9"/>
                      </a:lnTo>
                      <a:lnTo>
                        <a:pt x="441" y="13"/>
                      </a:lnTo>
                      <a:lnTo>
                        <a:pt x="439" y="14"/>
                      </a:lnTo>
                      <a:lnTo>
                        <a:pt x="436" y="19"/>
                      </a:lnTo>
                      <a:lnTo>
                        <a:pt x="435" y="23"/>
                      </a:lnTo>
                      <a:lnTo>
                        <a:pt x="433" y="29"/>
                      </a:lnTo>
                      <a:lnTo>
                        <a:pt x="430" y="34"/>
                      </a:lnTo>
                      <a:lnTo>
                        <a:pt x="427" y="40"/>
                      </a:lnTo>
                      <a:lnTo>
                        <a:pt x="424" y="43"/>
                      </a:lnTo>
                      <a:lnTo>
                        <a:pt x="423" y="47"/>
                      </a:lnTo>
                      <a:lnTo>
                        <a:pt x="421" y="50"/>
                      </a:lnTo>
                      <a:lnTo>
                        <a:pt x="420" y="55"/>
                      </a:lnTo>
                      <a:lnTo>
                        <a:pt x="417" y="58"/>
                      </a:lnTo>
                      <a:lnTo>
                        <a:pt x="416" y="62"/>
                      </a:lnTo>
                      <a:lnTo>
                        <a:pt x="414" y="65"/>
                      </a:lnTo>
                      <a:lnTo>
                        <a:pt x="411" y="69"/>
                      </a:lnTo>
                      <a:lnTo>
                        <a:pt x="410" y="74"/>
                      </a:lnTo>
                      <a:lnTo>
                        <a:pt x="407" y="78"/>
                      </a:lnTo>
                      <a:lnTo>
                        <a:pt x="404" y="83"/>
                      </a:lnTo>
                      <a:lnTo>
                        <a:pt x="402" y="89"/>
                      </a:lnTo>
                      <a:lnTo>
                        <a:pt x="399" y="92"/>
                      </a:lnTo>
                      <a:lnTo>
                        <a:pt x="396" y="96"/>
                      </a:lnTo>
                      <a:lnTo>
                        <a:pt x="393" y="101"/>
                      </a:lnTo>
                      <a:lnTo>
                        <a:pt x="390" y="106"/>
                      </a:lnTo>
                      <a:lnTo>
                        <a:pt x="387" y="111"/>
                      </a:lnTo>
                      <a:lnTo>
                        <a:pt x="384" y="115"/>
                      </a:lnTo>
                      <a:lnTo>
                        <a:pt x="380" y="120"/>
                      </a:lnTo>
                      <a:lnTo>
                        <a:pt x="378" y="126"/>
                      </a:lnTo>
                      <a:lnTo>
                        <a:pt x="374" y="129"/>
                      </a:lnTo>
                      <a:lnTo>
                        <a:pt x="371" y="135"/>
                      </a:lnTo>
                      <a:lnTo>
                        <a:pt x="368" y="139"/>
                      </a:lnTo>
                      <a:lnTo>
                        <a:pt x="365" y="145"/>
                      </a:lnTo>
                      <a:lnTo>
                        <a:pt x="361" y="150"/>
                      </a:lnTo>
                      <a:lnTo>
                        <a:pt x="358" y="155"/>
                      </a:lnTo>
                      <a:lnTo>
                        <a:pt x="353" y="160"/>
                      </a:lnTo>
                      <a:lnTo>
                        <a:pt x="350" y="166"/>
                      </a:lnTo>
                      <a:lnTo>
                        <a:pt x="346" y="170"/>
                      </a:lnTo>
                      <a:lnTo>
                        <a:pt x="341" y="176"/>
                      </a:lnTo>
                      <a:lnTo>
                        <a:pt x="337" y="181"/>
                      </a:lnTo>
                      <a:lnTo>
                        <a:pt x="332" y="187"/>
                      </a:lnTo>
                      <a:lnTo>
                        <a:pt x="328" y="191"/>
                      </a:lnTo>
                      <a:lnTo>
                        <a:pt x="324" y="197"/>
                      </a:lnTo>
                      <a:lnTo>
                        <a:pt x="321" y="201"/>
                      </a:lnTo>
                      <a:lnTo>
                        <a:pt x="316" y="207"/>
                      </a:lnTo>
                      <a:lnTo>
                        <a:pt x="312" y="212"/>
                      </a:lnTo>
                      <a:lnTo>
                        <a:pt x="306" y="218"/>
                      </a:lnTo>
                      <a:lnTo>
                        <a:pt x="301" y="222"/>
                      </a:lnTo>
                      <a:lnTo>
                        <a:pt x="297" y="228"/>
                      </a:lnTo>
                      <a:lnTo>
                        <a:pt x="291" y="233"/>
                      </a:lnTo>
                      <a:lnTo>
                        <a:pt x="286" y="239"/>
                      </a:lnTo>
                      <a:lnTo>
                        <a:pt x="282" y="243"/>
                      </a:lnTo>
                      <a:lnTo>
                        <a:pt x="278" y="249"/>
                      </a:lnTo>
                      <a:lnTo>
                        <a:pt x="272" y="253"/>
                      </a:lnTo>
                      <a:lnTo>
                        <a:pt x="266" y="258"/>
                      </a:lnTo>
                      <a:lnTo>
                        <a:pt x="260" y="262"/>
                      </a:lnTo>
                      <a:lnTo>
                        <a:pt x="255" y="268"/>
                      </a:lnTo>
                      <a:lnTo>
                        <a:pt x="249" y="273"/>
                      </a:lnTo>
                      <a:lnTo>
                        <a:pt x="243" y="277"/>
                      </a:lnTo>
                      <a:lnTo>
                        <a:pt x="237" y="282"/>
                      </a:lnTo>
                      <a:lnTo>
                        <a:pt x="233" y="288"/>
                      </a:lnTo>
                      <a:lnTo>
                        <a:pt x="227" y="290"/>
                      </a:lnTo>
                      <a:lnTo>
                        <a:pt x="221" y="295"/>
                      </a:lnTo>
                      <a:lnTo>
                        <a:pt x="215" y="299"/>
                      </a:lnTo>
                      <a:lnTo>
                        <a:pt x="209" y="305"/>
                      </a:lnTo>
                      <a:lnTo>
                        <a:pt x="203" y="308"/>
                      </a:lnTo>
                      <a:lnTo>
                        <a:pt x="197" y="314"/>
                      </a:lnTo>
                      <a:lnTo>
                        <a:pt x="191" y="317"/>
                      </a:lnTo>
                      <a:lnTo>
                        <a:pt x="186" y="322"/>
                      </a:lnTo>
                      <a:lnTo>
                        <a:pt x="180" y="326"/>
                      </a:lnTo>
                      <a:lnTo>
                        <a:pt x="174" y="329"/>
                      </a:lnTo>
                      <a:lnTo>
                        <a:pt x="168" y="334"/>
                      </a:lnTo>
                      <a:lnTo>
                        <a:pt x="162" y="338"/>
                      </a:lnTo>
                      <a:lnTo>
                        <a:pt x="156" y="341"/>
                      </a:lnTo>
                      <a:lnTo>
                        <a:pt x="150" y="345"/>
                      </a:lnTo>
                      <a:lnTo>
                        <a:pt x="145" y="348"/>
                      </a:lnTo>
                      <a:lnTo>
                        <a:pt x="140" y="353"/>
                      </a:lnTo>
                      <a:lnTo>
                        <a:pt x="134" y="356"/>
                      </a:lnTo>
                      <a:lnTo>
                        <a:pt x="128" y="360"/>
                      </a:lnTo>
                      <a:lnTo>
                        <a:pt x="123" y="363"/>
                      </a:lnTo>
                      <a:lnTo>
                        <a:pt x="117" y="366"/>
                      </a:lnTo>
                      <a:lnTo>
                        <a:pt x="111" y="371"/>
                      </a:lnTo>
                      <a:lnTo>
                        <a:pt x="107" y="374"/>
                      </a:lnTo>
                      <a:lnTo>
                        <a:pt x="101" y="377"/>
                      </a:lnTo>
                      <a:lnTo>
                        <a:pt x="97" y="381"/>
                      </a:lnTo>
                      <a:lnTo>
                        <a:pt x="91" y="382"/>
                      </a:lnTo>
                      <a:lnTo>
                        <a:pt x="85" y="385"/>
                      </a:lnTo>
                      <a:lnTo>
                        <a:pt x="80" y="388"/>
                      </a:lnTo>
                      <a:lnTo>
                        <a:pt x="76" y="391"/>
                      </a:lnTo>
                      <a:lnTo>
                        <a:pt x="70" y="394"/>
                      </a:lnTo>
                      <a:lnTo>
                        <a:pt x="67" y="396"/>
                      </a:lnTo>
                      <a:lnTo>
                        <a:pt x="61" y="399"/>
                      </a:lnTo>
                      <a:lnTo>
                        <a:pt x="58" y="402"/>
                      </a:lnTo>
                      <a:lnTo>
                        <a:pt x="52" y="405"/>
                      </a:lnTo>
                      <a:lnTo>
                        <a:pt x="48" y="406"/>
                      </a:lnTo>
                      <a:lnTo>
                        <a:pt x="45" y="408"/>
                      </a:lnTo>
                      <a:lnTo>
                        <a:pt x="40" y="411"/>
                      </a:lnTo>
                      <a:lnTo>
                        <a:pt x="37" y="412"/>
                      </a:lnTo>
                      <a:lnTo>
                        <a:pt x="33" y="415"/>
                      </a:lnTo>
                      <a:lnTo>
                        <a:pt x="30" y="417"/>
                      </a:lnTo>
                      <a:lnTo>
                        <a:pt x="27" y="418"/>
                      </a:lnTo>
                      <a:lnTo>
                        <a:pt x="21" y="421"/>
                      </a:lnTo>
                      <a:lnTo>
                        <a:pt x="15" y="424"/>
                      </a:lnTo>
                      <a:lnTo>
                        <a:pt x="10" y="427"/>
                      </a:lnTo>
                      <a:lnTo>
                        <a:pt x="7" y="428"/>
                      </a:lnTo>
                      <a:lnTo>
                        <a:pt x="2" y="431"/>
                      </a:lnTo>
                      <a:lnTo>
                        <a:pt x="0" y="431"/>
                      </a:lnTo>
                      <a:lnTo>
                        <a:pt x="2" y="431"/>
                      </a:lnTo>
                      <a:lnTo>
                        <a:pt x="3" y="431"/>
                      </a:lnTo>
                      <a:lnTo>
                        <a:pt x="7" y="430"/>
                      </a:lnTo>
                      <a:lnTo>
                        <a:pt x="10" y="430"/>
                      </a:lnTo>
                      <a:lnTo>
                        <a:pt x="16" y="428"/>
                      </a:lnTo>
                      <a:lnTo>
                        <a:pt x="19" y="428"/>
                      </a:lnTo>
                      <a:lnTo>
                        <a:pt x="22" y="427"/>
                      </a:lnTo>
                      <a:lnTo>
                        <a:pt x="25" y="427"/>
                      </a:lnTo>
                      <a:lnTo>
                        <a:pt x="30" y="427"/>
                      </a:lnTo>
                      <a:lnTo>
                        <a:pt x="33" y="426"/>
                      </a:lnTo>
                      <a:lnTo>
                        <a:pt x="37" y="426"/>
                      </a:lnTo>
                      <a:lnTo>
                        <a:pt x="40" y="424"/>
                      </a:lnTo>
                      <a:lnTo>
                        <a:pt x="45" y="423"/>
                      </a:lnTo>
                      <a:lnTo>
                        <a:pt x="49" y="423"/>
                      </a:lnTo>
                      <a:lnTo>
                        <a:pt x="53" y="421"/>
                      </a:lnTo>
                      <a:lnTo>
                        <a:pt x="58" y="420"/>
                      </a:lnTo>
                      <a:lnTo>
                        <a:pt x="62" y="420"/>
                      </a:lnTo>
                      <a:lnTo>
                        <a:pt x="67" y="417"/>
                      </a:lnTo>
                      <a:lnTo>
                        <a:pt x="73" y="415"/>
                      </a:lnTo>
                      <a:lnTo>
                        <a:pt x="77" y="415"/>
                      </a:lnTo>
                      <a:lnTo>
                        <a:pt x="83" y="414"/>
                      </a:lnTo>
                      <a:lnTo>
                        <a:pt x="89" y="412"/>
                      </a:lnTo>
                      <a:lnTo>
                        <a:pt x="94" y="411"/>
                      </a:lnTo>
                      <a:lnTo>
                        <a:pt x="99" y="409"/>
                      </a:lnTo>
                      <a:lnTo>
                        <a:pt x="105" y="408"/>
                      </a:lnTo>
                      <a:lnTo>
                        <a:pt x="111" y="405"/>
                      </a:lnTo>
                      <a:lnTo>
                        <a:pt x="117" y="403"/>
                      </a:lnTo>
                      <a:lnTo>
                        <a:pt x="123" y="402"/>
                      </a:lnTo>
                      <a:lnTo>
                        <a:pt x="129" y="400"/>
                      </a:lnTo>
                      <a:lnTo>
                        <a:pt x="134" y="397"/>
                      </a:lnTo>
                      <a:lnTo>
                        <a:pt x="141" y="396"/>
                      </a:lnTo>
                      <a:lnTo>
                        <a:pt x="147" y="393"/>
                      </a:lnTo>
                      <a:lnTo>
                        <a:pt x="153" y="391"/>
                      </a:lnTo>
                      <a:lnTo>
                        <a:pt x="159" y="388"/>
                      </a:lnTo>
                      <a:lnTo>
                        <a:pt x="166" y="385"/>
                      </a:lnTo>
                      <a:lnTo>
                        <a:pt x="171" y="382"/>
                      </a:lnTo>
                      <a:lnTo>
                        <a:pt x="178" y="380"/>
                      </a:lnTo>
                      <a:lnTo>
                        <a:pt x="184" y="377"/>
                      </a:lnTo>
                      <a:lnTo>
                        <a:pt x="191" y="374"/>
                      </a:lnTo>
                      <a:lnTo>
                        <a:pt x="197" y="371"/>
                      </a:lnTo>
                      <a:lnTo>
                        <a:pt x="205" y="369"/>
                      </a:lnTo>
                      <a:lnTo>
                        <a:pt x="209" y="365"/>
                      </a:lnTo>
                      <a:lnTo>
                        <a:pt x="217" y="362"/>
                      </a:lnTo>
                      <a:lnTo>
                        <a:pt x="223" y="357"/>
                      </a:lnTo>
                      <a:lnTo>
                        <a:pt x="229" y="354"/>
                      </a:lnTo>
                      <a:lnTo>
                        <a:pt x="235" y="351"/>
                      </a:lnTo>
                      <a:lnTo>
                        <a:pt x="242" y="347"/>
                      </a:lnTo>
                      <a:lnTo>
                        <a:pt x="248" y="344"/>
                      </a:lnTo>
                      <a:lnTo>
                        <a:pt x="254" y="339"/>
                      </a:lnTo>
                      <a:lnTo>
                        <a:pt x="260" y="335"/>
                      </a:lnTo>
                      <a:lnTo>
                        <a:pt x="266" y="331"/>
                      </a:lnTo>
                      <a:lnTo>
                        <a:pt x="272" y="326"/>
                      </a:lnTo>
                      <a:lnTo>
                        <a:pt x="279" y="322"/>
                      </a:lnTo>
                      <a:lnTo>
                        <a:pt x="283" y="317"/>
                      </a:lnTo>
                      <a:lnTo>
                        <a:pt x="291" y="313"/>
                      </a:lnTo>
                      <a:lnTo>
                        <a:pt x="297" y="308"/>
                      </a:lnTo>
                      <a:lnTo>
                        <a:pt x="303" y="304"/>
                      </a:lnTo>
                      <a:lnTo>
                        <a:pt x="307" y="298"/>
                      </a:lnTo>
                      <a:lnTo>
                        <a:pt x="313" y="292"/>
                      </a:lnTo>
                      <a:lnTo>
                        <a:pt x="318" y="288"/>
                      </a:lnTo>
                      <a:lnTo>
                        <a:pt x="324" y="282"/>
                      </a:lnTo>
                      <a:lnTo>
                        <a:pt x="328" y="276"/>
                      </a:lnTo>
                      <a:lnTo>
                        <a:pt x="334" y="270"/>
                      </a:lnTo>
                      <a:lnTo>
                        <a:pt x="338" y="264"/>
                      </a:lnTo>
                      <a:lnTo>
                        <a:pt x="344" y="259"/>
                      </a:lnTo>
                      <a:lnTo>
                        <a:pt x="349" y="253"/>
                      </a:lnTo>
                      <a:lnTo>
                        <a:pt x="353" y="246"/>
                      </a:lnTo>
                      <a:lnTo>
                        <a:pt x="358" y="240"/>
                      </a:lnTo>
                      <a:lnTo>
                        <a:pt x="364" y="234"/>
                      </a:lnTo>
                      <a:lnTo>
                        <a:pt x="368" y="228"/>
                      </a:lnTo>
                      <a:lnTo>
                        <a:pt x="373" y="222"/>
                      </a:lnTo>
                      <a:lnTo>
                        <a:pt x="375" y="215"/>
                      </a:lnTo>
                      <a:lnTo>
                        <a:pt x="381" y="210"/>
                      </a:lnTo>
                      <a:lnTo>
                        <a:pt x="384" y="203"/>
                      </a:lnTo>
                      <a:lnTo>
                        <a:pt x="389" y="197"/>
                      </a:lnTo>
                      <a:lnTo>
                        <a:pt x="393" y="190"/>
                      </a:lnTo>
                      <a:lnTo>
                        <a:pt x="398" y="185"/>
                      </a:lnTo>
                      <a:lnTo>
                        <a:pt x="401" y="178"/>
                      </a:lnTo>
                      <a:lnTo>
                        <a:pt x="405" y="172"/>
                      </a:lnTo>
                      <a:lnTo>
                        <a:pt x="408" y="164"/>
                      </a:lnTo>
                      <a:lnTo>
                        <a:pt x="413" y="158"/>
                      </a:lnTo>
                      <a:lnTo>
                        <a:pt x="416" y="152"/>
                      </a:lnTo>
                      <a:lnTo>
                        <a:pt x="419" y="147"/>
                      </a:lnTo>
                      <a:lnTo>
                        <a:pt x="421" y="141"/>
                      </a:lnTo>
                      <a:lnTo>
                        <a:pt x="424" y="135"/>
                      </a:lnTo>
                      <a:lnTo>
                        <a:pt x="429" y="129"/>
                      </a:lnTo>
                      <a:lnTo>
                        <a:pt x="432" y="121"/>
                      </a:lnTo>
                      <a:lnTo>
                        <a:pt x="435" y="117"/>
                      </a:lnTo>
                      <a:lnTo>
                        <a:pt x="438" y="111"/>
                      </a:lnTo>
                      <a:lnTo>
                        <a:pt x="441" y="105"/>
                      </a:lnTo>
                      <a:lnTo>
                        <a:pt x="444" y="99"/>
                      </a:lnTo>
                      <a:lnTo>
                        <a:pt x="445" y="93"/>
                      </a:lnTo>
                      <a:lnTo>
                        <a:pt x="448" y="87"/>
                      </a:lnTo>
                      <a:lnTo>
                        <a:pt x="451" y="81"/>
                      </a:lnTo>
                      <a:lnTo>
                        <a:pt x="453" y="77"/>
                      </a:lnTo>
                      <a:lnTo>
                        <a:pt x="456" y="71"/>
                      </a:lnTo>
                      <a:lnTo>
                        <a:pt x="459" y="66"/>
                      </a:lnTo>
                      <a:lnTo>
                        <a:pt x="460" y="60"/>
                      </a:lnTo>
                      <a:lnTo>
                        <a:pt x="462" y="56"/>
                      </a:lnTo>
                      <a:lnTo>
                        <a:pt x="463" y="52"/>
                      </a:lnTo>
                      <a:lnTo>
                        <a:pt x="466" y="47"/>
                      </a:lnTo>
                      <a:lnTo>
                        <a:pt x="466" y="43"/>
                      </a:lnTo>
                      <a:lnTo>
                        <a:pt x="469" y="38"/>
                      </a:lnTo>
                      <a:lnTo>
                        <a:pt x="470" y="35"/>
                      </a:lnTo>
                      <a:lnTo>
                        <a:pt x="472" y="31"/>
                      </a:lnTo>
                      <a:lnTo>
                        <a:pt x="473" y="28"/>
                      </a:lnTo>
                      <a:lnTo>
                        <a:pt x="473" y="23"/>
                      </a:lnTo>
                      <a:lnTo>
                        <a:pt x="475" y="20"/>
                      </a:lnTo>
                      <a:lnTo>
                        <a:pt x="476" y="17"/>
                      </a:lnTo>
                      <a:lnTo>
                        <a:pt x="478" y="12"/>
                      </a:lnTo>
                      <a:lnTo>
                        <a:pt x="481" y="7"/>
                      </a:lnTo>
                      <a:lnTo>
                        <a:pt x="481" y="3"/>
                      </a:lnTo>
                      <a:lnTo>
                        <a:pt x="482" y="1"/>
                      </a:lnTo>
                      <a:lnTo>
                        <a:pt x="484" y="0"/>
                      </a:lnTo>
                      <a:lnTo>
                        <a:pt x="444" y="7"/>
                      </a:lnTo>
                      <a:lnTo>
                        <a:pt x="444"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733560" y="2141640"/>
                  <a:ext cx="397080" cy="330120"/>
                </a:xfrm>
                <a:custGeom>
                  <a:avLst/>
                  <a:gdLst/>
                  <a:ahLst/>
                  <a:rect l="l" t="t" r="r" b="b"/>
                  <a:pathLst>
                    <a:path w="500" h="417">
                      <a:moveTo>
                        <a:pt x="465" y="14"/>
                      </a:moveTo>
                      <a:lnTo>
                        <a:pt x="465" y="14"/>
                      </a:lnTo>
                      <a:lnTo>
                        <a:pt x="465" y="17"/>
                      </a:lnTo>
                      <a:lnTo>
                        <a:pt x="465" y="20"/>
                      </a:lnTo>
                      <a:lnTo>
                        <a:pt x="466" y="25"/>
                      </a:lnTo>
                      <a:lnTo>
                        <a:pt x="465" y="30"/>
                      </a:lnTo>
                      <a:lnTo>
                        <a:pt x="465" y="33"/>
                      </a:lnTo>
                      <a:lnTo>
                        <a:pt x="465" y="37"/>
                      </a:lnTo>
                      <a:lnTo>
                        <a:pt x="465" y="42"/>
                      </a:lnTo>
                      <a:lnTo>
                        <a:pt x="465" y="46"/>
                      </a:lnTo>
                      <a:lnTo>
                        <a:pt x="465" y="52"/>
                      </a:lnTo>
                      <a:lnTo>
                        <a:pt x="465" y="58"/>
                      </a:lnTo>
                      <a:lnTo>
                        <a:pt x="463" y="64"/>
                      </a:lnTo>
                      <a:lnTo>
                        <a:pt x="462" y="70"/>
                      </a:lnTo>
                      <a:lnTo>
                        <a:pt x="460" y="76"/>
                      </a:lnTo>
                      <a:lnTo>
                        <a:pt x="459" y="82"/>
                      </a:lnTo>
                      <a:lnTo>
                        <a:pt x="457" y="89"/>
                      </a:lnTo>
                      <a:lnTo>
                        <a:pt x="456" y="92"/>
                      </a:lnTo>
                      <a:lnTo>
                        <a:pt x="454" y="95"/>
                      </a:lnTo>
                      <a:lnTo>
                        <a:pt x="453" y="98"/>
                      </a:lnTo>
                      <a:lnTo>
                        <a:pt x="451" y="103"/>
                      </a:lnTo>
                      <a:lnTo>
                        <a:pt x="450" y="106"/>
                      </a:lnTo>
                      <a:lnTo>
                        <a:pt x="448" y="110"/>
                      </a:lnTo>
                      <a:lnTo>
                        <a:pt x="447" y="113"/>
                      </a:lnTo>
                      <a:lnTo>
                        <a:pt x="446" y="117"/>
                      </a:lnTo>
                      <a:lnTo>
                        <a:pt x="444" y="122"/>
                      </a:lnTo>
                      <a:lnTo>
                        <a:pt x="443" y="125"/>
                      </a:lnTo>
                      <a:lnTo>
                        <a:pt x="440" y="129"/>
                      </a:lnTo>
                      <a:lnTo>
                        <a:pt x="438" y="132"/>
                      </a:lnTo>
                      <a:lnTo>
                        <a:pt x="435" y="137"/>
                      </a:lnTo>
                      <a:lnTo>
                        <a:pt x="434" y="141"/>
                      </a:lnTo>
                      <a:lnTo>
                        <a:pt x="431" y="146"/>
                      </a:lnTo>
                      <a:lnTo>
                        <a:pt x="428" y="150"/>
                      </a:lnTo>
                      <a:lnTo>
                        <a:pt x="425" y="153"/>
                      </a:lnTo>
                      <a:lnTo>
                        <a:pt x="422" y="158"/>
                      </a:lnTo>
                      <a:lnTo>
                        <a:pt x="419" y="162"/>
                      </a:lnTo>
                      <a:lnTo>
                        <a:pt x="416" y="166"/>
                      </a:lnTo>
                      <a:lnTo>
                        <a:pt x="413" y="169"/>
                      </a:lnTo>
                      <a:lnTo>
                        <a:pt x="410" y="174"/>
                      </a:lnTo>
                      <a:lnTo>
                        <a:pt x="405" y="178"/>
                      </a:lnTo>
                      <a:lnTo>
                        <a:pt x="403" y="184"/>
                      </a:lnTo>
                      <a:lnTo>
                        <a:pt x="398" y="187"/>
                      </a:lnTo>
                      <a:lnTo>
                        <a:pt x="395" y="192"/>
                      </a:lnTo>
                      <a:lnTo>
                        <a:pt x="391" y="196"/>
                      </a:lnTo>
                      <a:lnTo>
                        <a:pt x="386" y="201"/>
                      </a:lnTo>
                      <a:lnTo>
                        <a:pt x="382" y="204"/>
                      </a:lnTo>
                      <a:lnTo>
                        <a:pt x="377" y="209"/>
                      </a:lnTo>
                      <a:lnTo>
                        <a:pt x="373" y="212"/>
                      </a:lnTo>
                      <a:lnTo>
                        <a:pt x="368" y="218"/>
                      </a:lnTo>
                      <a:lnTo>
                        <a:pt x="364" y="221"/>
                      </a:lnTo>
                      <a:lnTo>
                        <a:pt x="358" y="226"/>
                      </a:lnTo>
                      <a:lnTo>
                        <a:pt x="354" y="230"/>
                      </a:lnTo>
                      <a:lnTo>
                        <a:pt x="349" y="235"/>
                      </a:lnTo>
                      <a:lnTo>
                        <a:pt x="343" y="239"/>
                      </a:lnTo>
                      <a:lnTo>
                        <a:pt x="337" y="244"/>
                      </a:lnTo>
                      <a:lnTo>
                        <a:pt x="333" y="248"/>
                      </a:lnTo>
                      <a:lnTo>
                        <a:pt x="328" y="252"/>
                      </a:lnTo>
                      <a:lnTo>
                        <a:pt x="322" y="255"/>
                      </a:lnTo>
                      <a:lnTo>
                        <a:pt x="316" y="260"/>
                      </a:lnTo>
                      <a:lnTo>
                        <a:pt x="311" y="264"/>
                      </a:lnTo>
                      <a:lnTo>
                        <a:pt x="305" y="269"/>
                      </a:lnTo>
                      <a:lnTo>
                        <a:pt x="300" y="272"/>
                      </a:lnTo>
                      <a:lnTo>
                        <a:pt x="294" y="276"/>
                      </a:lnTo>
                      <a:lnTo>
                        <a:pt x="288" y="281"/>
                      </a:lnTo>
                      <a:lnTo>
                        <a:pt x="282" y="285"/>
                      </a:lnTo>
                      <a:lnTo>
                        <a:pt x="276" y="288"/>
                      </a:lnTo>
                      <a:lnTo>
                        <a:pt x="270" y="293"/>
                      </a:lnTo>
                      <a:lnTo>
                        <a:pt x="265" y="296"/>
                      </a:lnTo>
                      <a:lnTo>
                        <a:pt x="259" y="300"/>
                      </a:lnTo>
                      <a:lnTo>
                        <a:pt x="253" y="304"/>
                      </a:lnTo>
                      <a:lnTo>
                        <a:pt x="248" y="307"/>
                      </a:lnTo>
                      <a:lnTo>
                        <a:pt x="242" y="312"/>
                      </a:lnTo>
                      <a:lnTo>
                        <a:pt x="236" y="315"/>
                      </a:lnTo>
                      <a:lnTo>
                        <a:pt x="230" y="318"/>
                      </a:lnTo>
                      <a:lnTo>
                        <a:pt x="224" y="321"/>
                      </a:lnTo>
                      <a:lnTo>
                        <a:pt x="219" y="324"/>
                      </a:lnTo>
                      <a:lnTo>
                        <a:pt x="213" y="327"/>
                      </a:lnTo>
                      <a:lnTo>
                        <a:pt x="207" y="330"/>
                      </a:lnTo>
                      <a:lnTo>
                        <a:pt x="201" y="334"/>
                      </a:lnTo>
                      <a:lnTo>
                        <a:pt x="195" y="337"/>
                      </a:lnTo>
                      <a:lnTo>
                        <a:pt x="190" y="340"/>
                      </a:lnTo>
                      <a:lnTo>
                        <a:pt x="184" y="342"/>
                      </a:lnTo>
                      <a:lnTo>
                        <a:pt x="178" y="344"/>
                      </a:lnTo>
                      <a:lnTo>
                        <a:pt x="173" y="347"/>
                      </a:lnTo>
                      <a:lnTo>
                        <a:pt x="168" y="350"/>
                      </a:lnTo>
                      <a:lnTo>
                        <a:pt x="162" y="352"/>
                      </a:lnTo>
                      <a:lnTo>
                        <a:pt x="156" y="355"/>
                      </a:lnTo>
                      <a:lnTo>
                        <a:pt x="152" y="356"/>
                      </a:lnTo>
                      <a:lnTo>
                        <a:pt x="147" y="359"/>
                      </a:lnTo>
                      <a:lnTo>
                        <a:pt x="141" y="361"/>
                      </a:lnTo>
                      <a:lnTo>
                        <a:pt x="137" y="362"/>
                      </a:lnTo>
                      <a:lnTo>
                        <a:pt x="131" y="364"/>
                      </a:lnTo>
                      <a:lnTo>
                        <a:pt x="128" y="367"/>
                      </a:lnTo>
                      <a:lnTo>
                        <a:pt x="122" y="368"/>
                      </a:lnTo>
                      <a:lnTo>
                        <a:pt x="118" y="368"/>
                      </a:lnTo>
                      <a:lnTo>
                        <a:pt x="113" y="370"/>
                      </a:lnTo>
                      <a:lnTo>
                        <a:pt x="109" y="371"/>
                      </a:lnTo>
                      <a:lnTo>
                        <a:pt x="106" y="373"/>
                      </a:lnTo>
                      <a:lnTo>
                        <a:pt x="101" y="373"/>
                      </a:lnTo>
                      <a:lnTo>
                        <a:pt x="97" y="373"/>
                      </a:lnTo>
                      <a:lnTo>
                        <a:pt x="94" y="374"/>
                      </a:lnTo>
                      <a:lnTo>
                        <a:pt x="89" y="376"/>
                      </a:lnTo>
                      <a:lnTo>
                        <a:pt x="86" y="376"/>
                      </a:lnTo>
                      <a:lnTo>
                        <a:pt x="83" y="376"/>
                      </a:lnTo>
                      <a:lnTo>
                        <a:pt x="81" y="376"/>
                      </a:lnTo>
                      <a:lnTo>
                        <a:pt x="73" y="376"/>
                      </a:lnTo>
                      <a:lnTo>
                        <a:pt x="69" y="374"/>
                      </a:lnTo>
                      <a:lnTo>
                        <a:pt x="64" y="373"/>
                      </a:lnTo>
                      <a:lnTo>
                        <a:pt x="60" y="371"/>
                      </a:lnTo>
                      <a:lnTo>
                        <a:pt x="57" y="368"/>
                      </a:lnTo>
                      <a:lnTo>
                        <a:pt x="52" y="364"/>
                      </a:lnTo>
                      <a:lnTo>
                        <a:pt x="51" y="361"/>
                      </a:lnTo>
                      <a:lnTo>
                        <a:pt x="49" y="358"/>
                      </a:lnTo>
                      <a:lnTo>
                        <a:pt x="46" y="353"/>
                      </a:lnTo>
                      <a:lnTo>
                        <a:pt x="45" y="349"/>
                      </a:lnTo>
                      <a:lnTo>
                        <a:pt x="45" y="344"/>
                      </a:lnTo>
                      <a:lnTo>
                        <a:pt x="45" y="340"/>
                      </a:lnTo>
                      <a:lnTo>
                        <a:pt x="45" y="336"/>
                      </a:lnTo>
                      <a:lnTo>
                        <a:pt x="45" y="330"/>
                      </a:lnTo>
                      <a:lnTo>
                        <a:pt x="45" y="325"/>
                      </a:lnTo>
                      <a:lnTo>
                        <a:pt x="45" y="321"/>
                      </a:lnTo>
                      <a:lnTo>
                        <a:pt x="45" y="315"/>
                      </a:lnTo>
                      <a:lnTo>
                        <a:pt x="46" y="310"/>
                      </a:lnTo>
                      <a:lnTo>
                        <a:pt x="48" y="306"/>
                      </a:lnTo>
                      <a:lnTo>
                        <a:pt x="49" y="301"/>
                      </a:lnTo>
                      <a:lnTo>
                        <a:pt x="51" y="297"/>
                      </a:lnTo>
                      <a:lnTo>
                        <a:pt x="52" y="293"/>
                      </a:lnTo>
                      <a:lnTo>
                        <a:pt x="52" y="288"/>
                      </a:lnTo>
                      <a:lnTo>
                        <a:pt x="55" y="284"/>
                      </a:lnTo>
                      <a:lnTo>
                        <a:pt x="55" y="281"/>
                      </a:lnTo>
                      <a:lnTo>
                        <a:pt x="57" y="278"/>
                      </a:lnTo>
                      <a:lnTo>
                        <a:pt x="58" y="275"/>
                      </a:lnTo>
                      <a:lnTo>
                        <a:pt x="60" y="272"/>
                      </a:lnTo>
                      <a:lnTo>
                        <a:pt x="61" y="269"/>
                      </a:lnTo>
                      <a:lnTo>
                        <a:pt x="12" y="303"/>
                      </a:lnTo>
                      <a:lnTo>
                        <a:pt x="12" y="304"/>
                      </a:lnTo>
                      <a:lnTo>
                        <a:pt x="11" y="306"/>
                      </a:lnTo>
                      <a:lnTo>
                        <a:pt x="9" y="310"/>
                      </a:lnTo>
                      <a:lnTo>
                        <a:pt x="8" y="316"/>
                      </a:lnTo>
                      <a:lnTo>
                        <a:pt x="6" y="319"/>
                      </a:lnTo>
                      <a:lnTo>
                        <a:pt x="6" y="322"/>
                      </a:lnTo>
                      <a:lnTo>
                        <a:pt x="5" y="327"/>
                      </a:lnTo>
                      <a:lnTo>
                        <a:pt x="5" y="330"/>
                      </a:lnTo>
                      <a:lnTo>
                        <a:pt x="3" y="334"/>
                      </a:lnTo>
                      <a:lnTo>
                        <a:pt x="3" y="339"/>
                      </a:lnTo>
                      <a:lnTo>
                        <a:pt x="2" y="342"/>
                      </a:lnTo>
                      <a:lnTo>
                        <a:pt x="2" y="347"/>
                      </a:lnTo>
                      <a:lnTo>
                        <a:pt x="0" y="350"/>
                      </a:lnTo>
                      <a:lnTo>
                        <a:pt x="0" y="356"/>
                      </a:lnTo>
                      <a:lnTo>
                        <a:pt x="0" y="359"/>
                      </a:lnTo>
                      <a:lnTo>
                        <a:pt x="0" y="364"/>
                      </a:lnTo>
                      <a:lnTo>
                        <a:pt x="0" y="368"/>
                      </a:lnTo>
                      <a:lnTo>
                        <a:pt x="0" y="373"/>
                      </a:lnTo>
                      <a:lnTo>
                        <a:pt x="0" y="377"/>
                      </a:lnTo>
                      <a:lnTo>
                        <a:pt x="0" y="383"/>
                      </a:lnTo>
                      <a:lnTo>
                        <a:pt x="0" y="386"/>
                      </a:lnTo>
                      <a:lnTo>
                        <a:pt x="2" y="390"/>
                      </a:lnTo>
                      <a:lnTo>
                        <a:pt x="2" y="393"/>
                      </a:lnTo>
                      <a:lnTo>
                        <a:pt x="5" y="398"/>
                      </a:lnTo>
                      <a:lnTo>
                        <a:pt x="8" y="404"/>
                      </a:lnTo>
                      <a:lnTo>
                        <a:pt x="12" y="410"/>
                      </a:lnTo>
                      <a:lnTo>
                        <a:pt x="17" y="413"/>
                      </a:lnTo>
                      <a:lnTo>
                        <a:pt x="24" y="416"/>
                      </a:lnTo>
                      <a:lnTo>
                        <a:pt x="27" y="416"/>
                      </a:lnTo>
                      <a:lnTo>
                        <a:pt x="32" y="417"/>
                      </a:lnTo>
                      <a:lnTo>
                        <a:pt x="35" y="417"/>
                      </a:lnTo>
                      <a:lnTo>
                        <a:pt x="39" y="417"/>
                      </a:lnTo>
                      <a:lnTo>
                        <a:pt x="43" y="417"/>
                      </a:lnTo>
                      <a:lnTo>
                        <a:pt x="48" y="417"/>
                      </a:lnTo>
                      <a:lnTo>
                        <a:pt x="52" y="417"/>
                      </a:lnTo>
                      <a:lnTo>
                        <a:pt x="57" y="417"/>
                      </a:lnTo>
                      <a:lnTo>
                        <a:pt x="61" y="416"/>
                      </a:lnTo>
                      <a:lnTo>
                        <a:pt x="66" y="414"/>
                      </a:lnTo>
                      <a:lnTo>
                        <a:pt x="70" y="414"/>
                      </a:lnTo>
                      <a:lnTo>
                        <a:pt x="75" y="414"/>
                      </a:lnTo>
                      <a:lnTo>
                        <a:pt x="79" y="413"/>
                      </a:lnTo>
                      <a:lnTo>
                        <a:pt x="82" y="411"/>
                      </a:lnTo>
                      <a:lnTo>
                        <a:pt x="86" y="410"/>
                      </a:lnTo>
                      <a:lnTo>
                        <a:pt x="91" y="410"/>
                      </a:lnTo>
                      <a:lnTo>
                        <a:pt x="94" y="407"/>
                      </a:lnTo>
                      <a:lnTo>
                        <a:pt x="97" y="407"/>
                      </a:lnTo>
                      <a:lnTo>
                        <a:pt x="100" y="405"/>
                      </a:lnTo>
                      <a:lnTo>
                        <a:pt x="104" y="405"/>
                      </a:lnTo>
                      <a:lnTo>
                        <a:pt x="109" y="402"/>
                      </a:lnTo>
                      <a:lnTo>
                        <a:pt x="113" y="402"/>
                      </a:lnTo>
                      <a:lnTo>
                        <a:pt x="116" y="401"/>
                      </a:lnTo>
                      <a:lnTo>
                        <a:pt x="116" y="401"/>
                      </a:lnTo>
                      <a:lnTo>
                        <a:pt x="116" y="399"/>
                      </a:lnTo>
                      <a:lnTo>
                        <a:pt x="119" y="399"/>
                      </a:lnTo>
                      <a:lnTo>
                        <a:pt x="121" y="398"/>
                      </a:lnTo>
                      <a:lnTo>
                        <a:pt x="125" y="396"/>
                      </a:lnTo>
                      <a:lnTo>
                        <a:pt x="128" y="395"/>
                      </a:lnTo>
                      <a:lnTo>
                        <a:pt x="134" y="393"/>
                      </a:lnTo>
                      <a:lnTo>
                        <a:pt x="137" y="390"/>
                      </a:lnTo>
                      <a:lnTo>
                        <a:pt x="140" y="390"/>
                      </a:lnTo>
                      <a:lnTo>
                        <a:pt x="144" y="389"/>
                      </a:lnTo>
                      <a:lnTo>
                        <a:pt x="147" y="388"/>
                      </a:lnTo>
                      <a:lnTo>
                        <a:pt x="150" y="386"/>
                      </a:lnTo>
                      <a:lnTo>
                        <a:pt x="155" y="385"/>
                      </a:lnTo>
                      <a:lnTo>
                        <a:pt x="159" y="383"/>
                      </a:lnTo>
                      <a:lnTo>
                        <a:pt x="164" y="382"/>
                      </a:lnTo>
                      <a:lnTo>
                        <a:pt x="167" y="380"/>
                      </a:lnTo>
                      <a:lnTo>
                        <a:pt x="173" y="377"/>
                      </a:lnTo>
                      <a:lnTo>
                        <a:pt x="177" y="376"/>
                      </a:lnTo>
                      <a:lnTo>
                        <a:pt x="181" y="374"/>
                      </a:lnTo>
                      <a:lnTo>
                        <a:pt x="186" y="371"/>
                      </a:lnTo>
                      <a:lnTo>
                        <a:pt x="192" y="370"/>
                      </a:lnTo>
                      <a:lnTo>
                        <a:pt x="196" y="367"/>
                      </a:lnTo>
                      <a:lnTo>
                        <a:pt x="202" y="365"/>
                      </a:lnTo>
                      <a:lnTo>
                        <a:pt x="207" y="362"/>
                      </a:lnTo>
                      <a:lnTo>
                        <a:pt x="213" y="361"/>
                      </a:lnTo>
                      <a:lnTo>
                        <a:pt x="219" y="358"/>
                      </a:lnTo>
                      <a:lnTo>
                        <a:pt x="224" y="356"/>
                      </a:lnTo>
                      <a:lnTo>
                        <a:pt x="229" y="353"/>
                      </a:lnTo>
                      <a:lnTo>
                        <a:pt x="235" y="349"/>
                      </a:lnTo>
                      <a:lnTo>
                        <a:pt x="241" y="346"/>
                      </a:lnTo>
                      <a:lnTo>
                        <a:pt x="247" y="344"/>
                      </a:lnTo>
                      <a:lnTo>
                        <a:pt x="251" y="342"/>
                      </a:lnTo>
                      <a:lnTo>
                        <a:pt x="259" y="339"/>
                      </a:lnTo>
                      <a:lnTo>
                        <a:pt x="263" y="336"/>
                      </a:lnTo>
                      <a:lnTo>
                        <a:pt x="270" y="333"/>
                      </a:lnTo>
                      <a:lnTo>
                        <a:pt x="275" y="330"/>
                      </a:lnTo>
                      <a:lnTo>
                        <a:pt x="281" y="327"/>
                      </a:lnTo>
                      <a:lnTo>
                        <a:pt x="287" y="322"/>
                      </a:lnTo>
                      <a:lnTo>
                        <a:pt x="293" y="319"/>
                      </a:lnTo>
                      <a:lnTo>
                        <a:pt x="299" y="316"/>
                      </a:lnTo>
                      <a:lnTo>
                        <a:pt x="305" y="313"/>
                      </a:lnTo>
                      <a:lnTo>
                        <a:pt x="312" y="310"/>
                      </a:lnTo>
                      <a:lnTo>
                        <a:pt x="318" y="307"/>
                      </a:lnTo>
                      <a:lnTo>
                        <a:pt x="322" y="303"/>
                      </a:lnTo>
                      <a:lnTo>
                        <a:pt x="328" y="300"/>
                      </a:lnTo>
                      <a:lnTo>
                        <a:pt x="334" y="296"/>
                      </a:lnTo>
                      <a:lnTo>
                        <a:pt x="340" y="293"/>
                      </a:lnTo>
                      <a:lnTo>
                        <a:pt x="346" y="290"/>
                      </a:lnTo>
                      <a:lnTo>
                        <a:pt x="352" y="285"/>
                      </a:lnTo>
                      <a:lnTo>
                        <a:pt x="357" y="282"/>
                      </a:lnTo>
                      <a:lnTo>
                        <a:pt x="362" y="278"/>
                      </a:lnTo>
                      <a:lnTo>
                        <a:pt x="367" y="275"/>
                      </a:lnTo>
                      <a:lnTo>
                        <a:pt x="373" y="270"/>
                      </a:lnTo>
                      <a:lnTo>
                        <a:pt x="377" y="267"/>
                      </a:lnTo>
                      <a:lnTo>
                        <a:pt x="383" y="263"/>
                      </a:lnTo>
                      <a:lnTo>
                        <a:pt x="388" y="258"/>
                      </a:lnTo>
                      <a:lnTo>
                        <a:pt x="394" y="255"/>
                      </a:lnTo>
                      <a:lnTo>
                        <a:pt x="398" y="251"/>
                      </a:lnTo>
                      <a:lnTo>
                        <a:pt x="403" y="248"/>
                      </a:lnTo>
                      <a:lnTo>
                        <a:pt x="407" y="244"/>
                      </a:lnTo>
                      <a:lnTo>
                        <a:pt x="411" y="239"/>
                      </a:lnTo>
                      <a:lnTo>
                        <a:pt x="416" y="235"/>
                      </a:lnTo>
                      <a:lnTo>
                        <a:pt x="420" y="232"/>
                      </a:lnTo>
                      <a:lnTo>
                        <a:pt x="423" y="227"/>
                      </a:lnTo>
                      <a:lnTo>
                        <a:pt x="428" y="223"/>
                      </a:lnTo>
                      <a:lnTo>
                        <a:pt x="431" y="218"/>
                      </a:lnTo>
                      <a:lnTo>
                        <a:pt x="435" y="215"/>
                      </a:lnTo>
                      <a:lnTo>
                        <a:pt x="438" y="211"/>
                      </a:lnTo>
                      <a:lnTo>
                        <a:pt x="441" y="206"/>
                      </a:lnTo>
                      <a:lnTo>
                        <a:pt x="444" y="204"/>
                      </a:lnTo>
                      <a:lnTo>
                        <a:pt x="447" y="199"/>
                      </a:lnTo>
                      <a:lnTo>
                        <a:pt x="450" y="195"/>
                      </a:lnTo>
                      <a:lnTo>
                        <a:pt x="453" y="190"/>
                      </a:lnTo>
                      <a:lnTo>
                        <a:pt x="456" y="187"/>
                      </a:lnTo>
                      <a:lnTo>
                        <a:pt x="459" y="183"/>
                      </a:lnTo>
                      <a:lnTo>
                        <a:pt x="460" y="178"/>
                      </a:lnTo>
                      <a:lnTo>
                        <a:pt x="463" y="174"/>
                      </a:lnTo>
                      <a:lnTo>
                        <a:pt x="465" y="169"/>
                      </a:lnTo>
                      <a:lnTo>
                        <a:pt x="468" y="166"/>
                      </a:lnTo>
                      <a:lnTo>
                        <a:pt x="469" y="162"/>
                      </a:lnTo>
                      <a:lnTo>
                        <a:pt x="472" y="159"/>
                      </a:lnTo>
                      <a:lnTo>
                        <a:pt x="474" y="155"/>
                      </a:lnTo>
                      <a:lnTo>
                        <a:pt x="475" y="152"/>
                      </a:lnTo>
                      <a:lnTo>
                        <a:pt x="477" y="147"/>
                      </a:lnTo>
                      <a:lnTo>
                        <a:pt x="480" y="144"/>
                      </a:lnTo>
                      <a:lnTo>
                        <a:pt x="480" y="140"/>
                      </a:lnTo>
                      <a:lnTo>
                        <a:pt x="483" y="137"/>
                      </a:lnTo>
                      <a:lnTo>
                        <a:pt x="483" y="132"/>
                      </a:lnTo>
                      <a:lnTo>
                        <a:pt x="484" y="129"/>
                      </a:lnTo>
                      <a:lnTo>
                        <a:pt x="486" y="126"/>
                      </a:lnTo>
                      <a:lnTo>
                        <a:pt x="487" y="123"/>
                      </a:lnTo>
                      <a:lnTo>
                        <a:pt x="489" y="119"/>
                      </a:lnTo>
                      <a:lnTo>
                        <a:pt x="490" y="116"/>
                      </a:lnTo>
                      <a:lnTo>
                        <a:pt x="490" y="113"/>
                      </a:lnTo>
                      <a:lnTo>
                        <a:pt x="492" y="109"/>
                      </a:lnTo>
                      <a:lnTo>
                        <a:pt x="493" y="103"/>
                      </a:lnTo>
                      <a:lnTo>
                        <a:pt x="494" y="97"/>
                      </a:lnTo>
                      <a:lnTo>
                        <a:pt x="494" y="91"/>
                      </a:lnTo>
                      <a:lnTo>
                        <a:pt x="496" y="86"/>
                      </a:lnTo>
                      <a:lnTo>
                        <a:pt x="497" y="82"/>
                      </a:lnTo>
                      <a:lnTo>
                        <a:pt x="497" y="77"/>
                      </a:lnTo>
                      <a:lnTo>
                        <a:pt x="497" y="73"/>
                      </a:lnTo>
                      <a:lnTo>
                        <a:pt x="499" y="70"/>
                      </a:lnTo>
                      <a:lnTo>
                        <a:pt x="499" y="67"/>
                      </a:lnTo>
                      <a:lnTo>
                        <a:pt x="499" y="66"/>
                      </a:lnTo>
                      <a:lnTo>
                        <a:pt x="499" y="61"/>
                      </a:lnTo>
                      <a:lnTo>
                        <a:pt x="500" y="61"/>
                      </a:lnTo>
                      <a:lnTo>
                        <a:pt x="481" y="0"/>
                      </a:lnTo>
                      <a:lnTo>
                        <a:pt x="465" y="14"/>
                      </a:lnTo>
                      <a:lnTo>
                        <a:pt x="465" y="1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784320" y="2205000"/>
                  <a:ext cx="181080" cy="133560"/>
                </a:xfrm>
                <a:custGeom>
                  <a:avLst/>
                  <a:gdLst/>
                  <a:ahLst/>
                  <a:rect l="l" t="t" r="r" b="b"/>
                  <a:pathLst>
                    <a:path w="227" h="166">
                      <a:moveTo>
                        <a:pt x="160" y="4"/>
                      </a:moveTo>
                      <a:lnTo>
                        <a:pt x="160" y="4"/>
                      </a:lnTo>
                      <a:lnTo>
                        <a:pt x="157" y="7"/>
                      </a:lnTo>
                      <a:lnTo>
                        <a:pt x="154" y="12"/>
                      </a:lnTo>
                      <a:lnTo>
                        <a:pt x="151" y="18"/>
                      </a:lnTo>
                      <a:lnTo>
                        <a:pt x="145" y="24"/>
                      </a:lnTo>
                      <a:lnTo>
                        <a:pt x="142" y="31"/>
                      </a:lnTo>
                      <a:lnTo>
                        <a:pt x="138" y="37"/>
                      </a:lnTo>
                      <a:lnTo>
                        <a:pt x="135" y="43"/>
                      </a:lnTo>
                      <a:lnTo>
                        <a:pt x="132" y="47"/>
                      </a:lnTo>
                      <a:lnTo>
                        <a:pt x="129" y="52"/>
                      </a:lnTo>
                      <a:lnTo>
                        <a:pt x="127" y="55"/>
                      </a:lnTo>
                      <a:lnTo>
                        <a:pt x="126" y="58"/>
                      </a:lnTo>
                      <a:lnTo>
                        <a:pt x="124" y="61"/>
                      </a:lnTo>
                      <a:lnTo>
                        <a:pt x="124" y="64"/>
                      </a:lnTo>
                      <a:lnTo>
                        <a:pt x="123" y="62"/>
                      </a:lnTo>
                      <a:lnTo>
                        <a:pt x="120" y="62"/>
                      </a:lnTo>
                      <a:lnTo>
                        <a:pt x="117" y="62"/>
                      </a:lnTo>
                      <a:lnTo>
                        <a:pt x="111" y="62"/>
                      </a:lnTo>
                      <a:lnTo>
                        <a:pt x="108" y="62"/>
                      </a:lnTo>
                      <a:lnTo>
                        <a:pt x="104" y="64"/>
                      </a:lnTo>
                      <a:lnTo>
                        <a:pt x="101" y="65"/>
                      </a:lnTo>
                      <a:lnTo>
                        <a:pt x="96" y="68"/>
                      </a:lnTo>
                      <a:lnTo>
                        <a:pt x="92" y="70"/>
                      </a:lnTo>
                      <a:lnTo>
                        <a:pt x="87" y="73"/>
                      </a:lnTo>
                      <a:lnTo>
                        <a:pt x="81" y="77"/>
                      </a:lnTo>
                      <a:lnTo>
                        <a:pt x="77" y="81"/>
                      </a:lnTo>
                      <a:lnTo>
                        <a:pt x="69" y="86"/>
                      </a:lnTo>
                      <a:lnTo>
                        <a:pt x="63" y="92"/>
                      </a:lnTo>
                      <a:lnTo>
                        <a:pt x="61" y="95"/>
                      </a:lnTo>
                      <a:lnTo>
                        <a:pt x="58" y="98"/>
                      </a:lnTo>
                      <a:lnTo>
                        <a:pt x="55" y="102"/>
                      </a:lnTo>
                      <a:lnTo>
                        <a:pt x="50" y="105"/>
                      </a:lnTo>
                      <a:lnTo>
                        <a:pt x="47" y="108"/>
                      </a:lnTo>
                      <a:lnTo>
                        <a:pt x="44" y="111"/>
                      </a:lnTo>
                      <a:lnTo>
                        <a:pt x="41" y="116"/>
                      </a:lnTo>
                      <a:lnTo>
                        <a:pt x="38" y="119"/>
                      </a:lnTo>
                      <a:lnTo>
                        <a:pt x="34" y="122"/>
                      </a:lnTo>
                      <a:lnTo>
                        <a:pt x="32" y="126"/>
                      </a:lnTo>
                      <a:lnTo>
                        <a:pt x="28" y="129"/>
                      </a:lnTo>
                      <a:lnTo>
                        <a:pt x="26" y="133"/>
                      </a:lnTo>
                      <a:lnTo>
                        <a:pt x="20" y="139"/>
                      </a:lnTo>
                      <a:lnTo>
                        <a:pt x="15" y="145"/>
                      </a:lnTo>
                      <a:lnTo>
                        <a:pt x="10" y="151"/>
                      </a:lnTo>
                      <a:lnTo>
                        <a:pt x="7" y="156"/>
                      </a:lnTo>
                      <a:lnTo>
                        <a:pt x="3" y="160"/>
                      </a:lnTo>
                      <a:lnTo>
                        <a:pt x="1" y="163"/>
                      </a:lnTo>
                      <a:lnTo>
                        <a:pt x="0" y="165"/>
                      </a:lnTo>
                      <a:lnTo>
                        <a:pt x="0" y="166"/>
                      </a:lnTo>
                      <a:lnTo>
                        <a:pt x="1" y="165"/>
                      </a:lnTo>
                      <a:lnTo>
                        <a:pt x="6" y="160"/>
                      </a:lnTo>
                      <a:lnTo>
                        <a:pt x="9" y="157"/>
                      </a:lnTo>
                      <a:lnTo>
                        <a:pt x="13" y="154"/>
                      </a:lnTo>
                      <a:lnTo>
                        <a:pt x="17" y="151"/>
                      </a:lnTo>
                      <a:lnTo>
                        <a:pt x="22" y="148"/>
                      </a:lnTo>
                      <a:lnTo>
                        <a:pt x="28" y="144"/>
                      </a:lnTo>
                      <a:lnTo>
                        <a:pt x="32" y="139"/>
                      </a:lnTo>
                      <a:lnTo>
                        <a:pt x="38" y="136"/>
                      </a:lnTo>
                      <a:lnTo>
                        <a:pt x="44" y="132"/>
                      </a:lnTo>
                      <a:lnTo>
                        <a:pt x="50" y="129"/>
                      </a:lnTo>
                      <a:lnTo>
                        <a:pt x="56" y="124"/>
                      </a:lnTo>
                      <a:lnTo>
                        <a:pt x="62" y="122"/>
                      </a:lnTo>
                      <a:lnTo>
                        <a:pt x="69" y="119"/>
                      </a:lnTo>
                      <a:lnTo>
                        <a:pt x="74" y="114"/>
                      </a:lnTo>
                      <a:lnTo>
                        <a:pt x="80" y="111"/>
                      </a:lnTo>
                      <a:lnTo>
                        <a:pt x="84" y="108"/>
                      </a:lnTo>
                      <a:lnTo>
                        <a:pt x="90" y="107"/>
                      </a:lnTo>
                      <a:lnTo>
                        <a:pt x="95" y="105"/>
                      </a:lnTo>
                      <a:lnTo>
                        <a:pt x="99" y="102"/>
                      </a:lnTo>
                      <a:lnTo>
                        <a:pt x="104" y="102"/>
                      </a:lnTo>
                      <a:lnTo>
                        <a:pt x="108" y="101"/>
                      </a:lnTo>
                      <a:lnTo>
                        <a:pt x="111" y="99"/>
                      </a:lnTo>
                      <a:lnTo>
                        <a:pt x="114" y="98"/>
                      </a:lnTo>
                      <a:lnTo>
                        <a:pt x="117" y="98"/>
                      </a:lnTo>
                      <a:lnTo>
                        <a:pt x="120" y="98"/>
                      </a:lnTo>
                      <a:lnTo>
                        <a:pt x="123" y="98"/>
                      </a:lnTo>
                      <a:lnTo>
                        <a:pt x="124" y="98"/>
                      </a:lnTo>
                      <a:lnTo>
                        <a:pt x="141" y="144"/>
                      </a:lnTo>
                      <a:lnTo>
                        <a:pt x="141" y="142"/>
                      </a:lnTo>
                      <a:lnTo>
                        <a:pt x="141" y="139"/>
                      </a:lnTo>
                      <a:lnTo>
                        <a:pt x="141" y="136"/>
                      </a:lnTo>
                      <a:lnTo>
                        <a:pt x="141" y="133"/>
                      </a:lnTo>
                      <a:lnTo>
                        <a:pt x="142" y="129"/>
                      </a:lnTo>
                      <a:lnTo>
                        <a:pt x="144" y="126"/>
                      </a:lnTo>
                      <a:lnTo>
                        <a:pt x="144" y="122"/>
                      </a:lnTo>
                      <a:lnTo>
                        <a:pt x="145" y="117"/>
                      </a:lnTo>
                      <a:lnTo>
                        <a:pt x="147" y="111"/>
                      </a:lnTo>
                      <a:lnTo>
                        <a:pt x="150" y="107"/>
                      </a:lnTo>
                      <a:lnTo>
                        <a:pt x="151" y="101"/>
                      </a:lnTo>
                      <a:lnTo>
                        <a:pt x="155" y="95"/>
                      </a:lnTo>
                      <a:lnTo>
                        <a:pt x="158" y="87"/>
                      </a:lnTo>
                      <a:lnTo>
                        <a:pt x="163" y="81"/>
                      </a:lnTo>
                      <a:lnTo>
                        <a:pt x="164" y="78"/>
                      </a:lnTo>
                      <a:lnTo>
                        <a:pt x="166" y="74"/>
                      </a:lnTo>
                      <a:lnTo>
                        <a:pt x="169" y="71"/>
                      </a:lnTo>
                      <a:lnTo>
                        <a:pt x="170" y="68"/>
                      </a:lnTo>
                      <a:lnTo>
                        <a:pt x="173" y="64"/>
                      </a:lnTo>
                      <a:lnTo>
                        <a:pt x="176" y="61"/>
                      </a:lnTo>
                      <a:lnTo>
                        <a:pt x="178" y="56"/>
                      </a:lnTo>
                      <a:lnTo>
                        <a:pt x="182" y="53"/>
                      </a:lnTo>
                      <a:lnTo>
                        <a:pt x="184" y="50"/>
                      </a:lnTo>
                      <a:lnTo>
                        <a:pt x="187" y="46"/>
                      </a:lnTo>
                      <a:lnTo>
                        <a:pt x="190" y="43"/>
                      </a:lnTo>
                      <a:lnTo>
                        <a:pt x="193" y="40"/>
                      </a:lnTo>
                      <a:lnTo>
                        <a:pt x="199" y="34"/>
                      </a:lnTo>
                      <a:lnTo>
                        <a:pt x="204" y="28"/>
                      </a:lnTo>
                      <a:lnTo>
                        <a:pt x="207" y="22"/>
                      </a:lnTo>
                      <a:lnTo>
                        <a:pt x="213" y="16"/>
                      </a:lnTo>
                      <a:lnTo>
                        <a:pt x="216" y="12"/>
                      </a:lnTo>
                      <a:lnTo>
                        <a:pt x="221" y="7"/>
                      </a:lnTo>
                      <a:lnTo>
                        <a:pt x="224" y="4"/>
                      </a:lnTo>
                      <a:lnTo>
                        <a:pt x="227" y="3"/>
                      </a:lnTo>
                      <a:lnTo>
                        <a:pt x="227" y="0"/>
                      </a:lnTo>
                      <a:lnTo>
                        <a:pt x="160" y="4"/>
                      </a:lnTo>
                      <a:lnTo>
                        <a:pt x="160" y="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0960" y="2305080"/>
                  <a:ext cx="392040" cy="284040"/>
                </a:xfrm>
                <a:custGeom>
                  <a:avLst/>
                  <a:gdLst/>
                  <a:ahLst/>
                  <a:rect l="l" t="t" r="r" b="b"/>
                  <a:pathLst>
                    <a:path w="494" h="360">
                      <a:moveTo>
                        <a:pt x="494" y="0"/>
                      </a:moveTo>
                      <a:lnTo>
                        <a:pt x="493" y="0"/>
                      </a:lnTo>
                      <a:lnTo>
                        <a:pt x="490" y="5"/>
                      </a:lnTo>
                      <a:lnTo>
                        <a:pt x="488" y="6"/>
                      </a:lnTo>
                      <a:lnTo>
                        <a:pt x="485" y="9"/>
                      </a:lnTo>
                      <a:lnTo>
                        <a:pt x="484" y="12"/>
                      </a:lnTo>
                      <a:lnTo>
                        <a:pt x="481" y="17"/>
                      </a:lnTo>
                      <a:lnTo>
                        <a:pt x="476" y="20"/>
                      </a:lnTo>
                      <a:lnTo>
                        <a:pt x="473" y="26"/>
                      </a:lnTo>
                      <a:lnTo>
                        <a:pt x="469" y="30"/>
                      </a:lnTo>
                      <a:lnTo>
                        <a:pt x="466" y="36"/>
                      </a:lnTo>
                      <a:lnTo>
                        <a:pt x="460" y="42"/>
                      </a:lnTo>
                      <a:lnTo>
                        <a:pt x="456" y="46"/>
                      </a:lnTo>
                      <a:lnTo>
                        <a:pt x="453" y="49"/>
                      </a:lnTo>
                      <a:lnTo>
                        <a:pt x="450" y="52"/>
                      </a:lnTo>
                      <a:lnTo>
                        <a:pt x="447" y="57"/>
                      </a:lnTo>
                      <a:lnTo>
                        <a:pt x="445" y="61"/>
                      </a:lnTo>
                      <a:lnTo>
                        <a:pt x="438" y="67"/>
                      </a:lnTo>
                      <a:lnTo>
                        <a:pt x="432" y="73"/>
                      </a:lnTo>
                      <a:lnTo>
                        <a:pt x="429" y="78"/>
                      </a:lnTo>
                      <a:lnTo>
                        <a:pt x="424" y="81"/>
                      </a:lnTo>
                      <a:lnTo>
                        <a:pt x="421" y="85"/>
                      </a:lnTo>
                      <a:lnTo>
                        <a:pt x="419" y="88"/>
                      </a:lnTo>
                      <a:lnTo>
                        <a:pt x="414" y="92"/>
                      </a:lnTo>
                      <a:lnTo>
                        <a:pt x="411" y="95"/>
                      </a:lnTo>
                      <a:lnTo>
                        <a:pt x="407" y="100"/>
                      </a:lnTo>
                      <a:lnTo>
                        <a:pt x="404" y="103"/>
                      </a:lnTo>
                      <a:lnTo>
                        <a:pt x="399" y="107"/>
                      </a:lnTo>
                      <a:lnTo>
                        <a:pt x="396" y="110"/>
                      </a:lnTo>
                      <a:lnTo>
                        <a:pt x="392" y="115"/>
                      </a:lnTo>
                      <a:lnTo>
                        <a:pt x="389" y="119"/>
                      </a:lnTo>
                      <a:lnTo>
                        <a:pt x="384" y="122"/>
                      </a:lnTo>
                      <a:lnTo>
                        <a:pt x="380" y="127"/>
                      </a:lnTo>
                      <a:lnTo>
                        <a:pt x="375" y="130"/>
                      </a:lnTo>
                      <a:lnTo>
                        <a:pt x="371" y="134"/>
                      </a:lnTo>
                      <a:lnTo>
                        <a:pt x="367" y="138"/>
                      </a:lnTo>
                      <a:lnTo>
                        <a:pt x="362" y="143"/>
                      </a:lnTo>
                      <a:lnTo>
                        <a:pt x="358" y="146"/>
                      </a:lnTo>
                      <a:lnTo>
                        <a:pt x="353" y="150"/>
                      </a:lnTo>
                      <a:lnTo>
                        <a:pt x="349" y="155"/>
                      </a:lnTo>
                      <a:lnTo>
                        <a:pt x="344" y="158"/>
                      </a:lnTo>
                      <a:lnTo>
                        <a:pt x="340" y="162"/>
                      </a:lnTo>
                      <a:lnTo>
                        <a:pt x="335" y="167"/>
                      </a:lnTo>
                      <a:lnTo>
                        <a:pt x="331" y="170"/>
                      </a:lnTo>
                      <a:lnTo>
                        <a:pt x="325" y="174"/>
                      </a:lnTo>
                      <a:lnTo>
                        <a:pt x="321" y="177"/>
                      </a:lnTo>
                      <a:lnTo>
                        <a:pt x="316" y="182"/>
                      </a:lnTo>
                      <a:lnTo>
                        <a:pt x="310" y="184"/>
                      </a:lnTo>
                      <a:lnTo>
                        <a:pt x="306" y="189"/>
                      </a:lnTo>
                      <a:lnTo>
                        <a:pt x="300" y="192"/>
                      </a:lnTo>
                      <a:lnTo>
                        <a:pt x="295" y="195"/>
                      </a:lnTo>
                      <a:lnTo>
                        <a:pt x="289" y="198"/>
                      </a:lnTo>
                      <a:lnTo>
                        <a:pt x="285" y="202"/>
                      </a:lnTo>
                      <a:lnTo>
                        <a:pt x="279" y="205"/>
                      </a:lnTo>
                      <a:lnTo>
                        <a:pt x="275" y="210"/>
                      </a:lnTo>
                      <a:lnTo>
                        <a:pt x="269" y="213"/>
                      </a:lnTo>
                      <a:lnTo>
                        <a:pt x="264" y="216"/>
                      </a:lnTo>
                      <a:lnTo>
                        <a:pt x="258" y="219"/>
                      </a:lnTo>
                      <a:lnTo>
                        <a:pt x="252" y="223"/>
                      </a:lnTo>
                      <a:lnTo>
                        <a:pt x="248" y="226"/>
                      </a:lnTo>
                      <a:lnTo>
                        <a:pt x="242" y="229"/>
                      </a:lnTo>
                      <a:lnTo>
                        <a:pt x="237" y="232"/>
                      </a:lnTo>
                      <a:lnTo>
                        <a:pt x="233" y="235"/>
                      </a:lnTo>
                      <a:lnTo>
                        <a:pt x="227" y="238"/>
                      </a:lnTo>
                      <a:lnTo>
                        <a:pt x="221" y="241"/>
                      </a:lnTo>
                      <a:lnTo>
                        <a:pt x="215" y="244"/>
                      </a:lnTo>
                      <a:lnTo>
                        <a:pt x="211" y="247"/>
                      </a:lnTo>
                      <a:lnTo>
                        <a:pt x="205" y="250"/>
                      </a:lnTo>
                      <a:lnTo>
                        <a:pt x="200" y="253"/>
                      </a:lnTo>
                      <a:lnTo>
                        <a:pt x="196" y="256"/>
                      </a:lnTo>
                      <a:lnTo>
                        <a:pt x="191" y="259"/>
                      </a:lnTo>
                      <a:lnTo>
                        <a:pt x="186" y="260"/>
                      </a:lnTo>
                      <a:lnTo>
                        <a:pt x="181" y="263"/>
                      </a:lnTo>
                      <a:lnTo>
                        <a:pt x="175" y="266"/>
                      </a:lnTo>
                      <a:lnTo>
                        <a:pt x="171" y="269"/>
                      </a:lnTo>
                      <a:lnTo>
                        <a:pt x="166" y="271"/>
                      </a:lnTo>
                      <a:lnTo>
                        <a:pt x="162" y="274"/>
                      </a:lnTo>
                      <a:lnTo>
                        <a:pt x="157" y="275"/>
                      </a:lnTo>
                      <a:lnTo>
                        <a:pt x="153" y="279"/>
                      </a:lnTo>
                      <a:lnTo>
                        <a:pt x="148" y="281"/>
                      </a:lnTo>
                      <a:lnTo>
                        <a:pt x="144" y="282"/>
                      </a:lnTo>
                      <a:lnTo>
                        <a:pt x="140" y="284"/>
                      </a:lnTo>
                      <a:lnTo>
                        <a:pt x="135" y="287"/>
                      </a:lnTo>
                      <a:lnTo>
                        <a:pt x="131" y="288"/>
                      </a:lnTo>
                      <a:lnTo>
                        <a:pt x="126" y="290"/>
                      </a:lnTo>
                      <a:lnTo>
                        <a:pt x="123" y="293"/>
                      </a:lnTo>
                      <a:lnTo>
                        <a:pt x="119" y="294"/>
                      </a:lnTo>
                      <a:lnTo>
                        <a:pt x="116" y="296"/>
                      </a:lnTo>
                      <a:lnTo>
                        <a:pt x="111" y="297"/>
                      </a:lnTo>
                      <a:lnTo>
                        <a:pt x="108" y="299"/>
                      </a:lnTo>
                      <a:lnTo>
                        <a:pt x="105" y="302"/>
                      </a:lnTo>
                      <a:lnTo>
                        <a:pt x="99" y="303"/>
                      </a:lnTo>
                      <a:lnTo>
                        <a:pt x="94" y="306"/>
                      </a:lnTo>
                      <a:lnTo>
                        <a:pt x="88" y="309"/>
                      </a:lnTo>
                      <a:lnTo>
                        <a:pt x="83" y="311"/>
                      </a:lnTo>
                      <a:lnTo>
                        <a:pt x="79" y="312"/>
                      </a:lnTo>
                      <a:lnTo>
                        <a:pt x="76" y="314"/>
                      </a:lnTo>
                      <a:lnTo>
                        <a:pt x="71" y="317"/>
                      </a:lnTo>
                      <a:lnTo>
                        <a:pt x="70" y="317"/>
                      </a:lnTo>
                      <a:lnTo>
                        <a:pt x="68" y="317"/>
                      </a:lnTo>
                      <a:lnTo>
                        <a:pt x="62" y="314"/>
                      </a:lnTo>
                      <a:lnTo>
                        <a:pt x="59" y="311"/>
                      </a:lnTo>
                      <a:lnTo>
                        <a:pt x="58" y="306"/>
                      </a:lnTo>
                      <a:lnTo>
                        <a:pt x="56" y="302"/>
                      </a:lnTo>
                      <a:lnTo>
                        <a:pt x="55" y="297"/>
                      </a:lnTo>
                      <a:lnTo>
                        <a:pt x="55" y="293"/>
                      </a:lnTo>
                      <a:lnTo>
                        <a:pt x="55" y="288"/>
                      </a:lnTo>
                      <a:lnTo>
                        <a:pt x="55" y="284"/>
                      </a:lnTo>
                      <a:lnTo>
                        <a:pt x="55" y="281"/>
                      </a:lnTo>
                      <a:lnTo>
                        <a:pt x="55" y="278"/>
                      </a:lnTo>
                      <a:lnTo>
                        <a:pt x="55" y="275"/>
                      </a:lnTo>
                      <a:lnTo>
                        <a:pt x="55" y="271"/>
                      </a:lnTo>
                      <a:lnTo>
                        <a:pt x="56" y="268"/>
                      </a:lnTo>
                      <a:lnTo>
                        <a:pt x="56" y="263"/>
                      </a:lnTo>
                      <a:lnTo>
                        <a:pt x="58" y="260"/>
                      </a:lnTo>
                      <a:lnTo>
                        <a:pt x="58" y="256"/>
                      </a:lnTo>
                      <a:lnTo>
                        <a:pt x="58" y="251"/>
                      </a:lnTo>
                      <a:lnTo>
                        <a:pt x="58" y="247"/>
                      </a:lnTo>
                      <a:lnTo>
                        <a:pt x="59" y="244"/>
                      </a:lnTo>
                      <a:lnTo>
                        <a:pt x="61" y="239"/>
                      </a:lnTo>
                      <a:lnTo>
                        <a:pt x="61" y="236"/>
                      </a:lnTo>
                      <a:lnTo>
                        <a:pt x="61" y="232"/>
                      </a:lnTo>
                      <a:lnTo>
                        <a:pt x="62" y="229"/>
                      </a:lnTo>
                      <a:lnTo>
                        <a:pt x="62" y="226"/>
                      </a:lnTo>
                      <a:lnTo>
                        <a:pt x="64" y="222"/>
                      </a:lnTo>
                      <a:lnTo>
                        <a:pt x="64" y="219"/>
                      </a:lnTo>
                      <a:lnTo>
                        <a:pt x="65" y="216"/>
                      </a:lnTo>
                      <a:lnTo>
                        <a:pt x="67" y="210"/>
                      </a:lnTo>
                      <a:lnTo>
                        <a:pt x="68" y="204"/>
                      </a:lnTo>
                      <a:lnTo>
                        <a:pt x="68" y="199"/>
                      </a:lnTo>
                      <a:lnTo>
                        <a:pt x="68" y="196"/>
                      </a:lnTo>
                      <a:lnTo>
                        <a:pt x="70" y="195"/>
                      </a:lnTo>
                      <a:lnTo>
                        <a:pt x="70" y="195"/>
                      </a:lnTo>
                      <a:lnTo>
                        <a:pt x="52" y="195"/>
                      </a:lnTo>
                      <a:lnTo>
                        <a:pt x="51" y="195"/>
                      </a:lnTo>
                      <a:lnTo>
                        <a:pt x="51" y="196"/>
                      </a:lnTo>
                      <a:lnTo>
                        <a:pt x="49" y="199"/>
                      </a:lnTo>
                      <a:lnTo>
                        <a:pt x="48" y="201"/>
                      </a:lnTo>
                      <a:lnTo>
                        <a:pt x="46" y="204"/>
                      </a:lnTo>
                      <a:lnTo>
                        <a:pt x="46" y="208"/>
                      </a:lnTo>
                      <a:lnTo>
                        <a:pt x="43" y="211"/>
                      </a:lnTo>
                      <a:lnTo>
                        <a:pt x="42" y="216"/>
                      </a:lnTo>
                      <a:lnTo>
                        <a:pt x="39" y="220"/>
                      </a:lnTo>
                      <a:lnTo>
                        <a:pt x="37" y="226"/>
                      </a:lnTo>
                      <a:lnTo>
                        <a:pt x="36" y="229"/>
                      </a:lnTo>
                      <a:lnTo>
                        <a:pt x="34" y="232"/>
                      </a:lnTo>
                      <a:lnTo>
                        <a:pt x="33" y="235"/>
                      </a:lnTo>
                      <a:lnTo>
                        <a:pt x="31" y="239"/>
                      </a:lnTo>
                      <a:lnTo>
                        <a:pt x="30" y="242"/>
                      </a:lnTo>
                      <a:lnTo>
                        <a:pt x="28" y="245"/>
                      </a:lnTo>
                      <a:lnTo>
                        <a:pt x="28" y="250"/>
                      </a:lnTo>
                      <a:lnTo>
                        <a:pt x="27" y="254"/>
                      </a:lnTo>
                      <a:lnTo>
                        <a:pt x="24" y="259"/>
                      </a:lnTo>
                      <a:lnTo>
                        <a:pt x="22" y="263"/>
                      </a:lnTo>
                      <a:lnTo>
                        <a:pt x="19" y="266"/>
                      </a:lnTo>
                      <a:lnTo>
                        <a:pt x="18" y="272"/>
                      </a:lnTo>
                      <a:lnTo>
                        <a:pt x="16" y="275"/>
                      </a:lnTo>
                      <a:lnTo>
                        <a:pt x="13" y="281"/>
                      </a:lnTo>
                      <a:lnTo>
                        <a:pt x="12" y="285"/>
                      </a:lnTo>
                      <a:lnTo>
                        <a:pt x="10" y="290"/>
                      </a:lnTo>
                      <a:lnTo>
                        <a:pt x="9" y="294"/>
                      </a:lnTo>
                      <a:lnTo>
                        <a:pt x="6" y="300"/>
                      </a:lnTo>
                      <a:lnTo>
                        <a:pt x="5" y="305"/>
                      </a:lnTo>
                      <a:lnTo>
                        <a:pt x="3" y="309"/>
                      </a:lnTo>
                      <a:lnTo>
                        <a:pt x="2" y="314"/>
                      </a:lnTo>
                      <a:lnTo>
                        <a:pt x="2" y="318"/>
                      </a:lnTo>
                      <a:lnTo>
                        <a:pt x="2" y="322"/>
                      </a:lnTo>
                      <a:lnTo>
                        <a:pt x="2" y="327"/>
                      </a:lnTo>
                      <a:lnTo>
                        <a:pt x="0" y="331"/>
                      </a:lnTo>
                      <a:lnTo>
                        <a:pt x="0" y="334"/>
                      </a:lnTo>
                      <a:lnTo>
                        <a:pt x="0" y="339"/>
                      </a:lnTo>
                      <a:lnTo>
                        <a:pt x="2" y="342"/>
                      </a:lnTo>
                      <a:lnTo>
                        <a:pt x="5" y="348"/>
                      </a:lnTo>
                      <a:lnTo>
                        <a:pt x="9" y="354"/>
                      </a:lnTo>
                      <a:lnTo>
                        <a:pt x="10" y="355"/>
                      </a:lnTo>
                      <a:lnTo>
                        <a:pt x="13" y="357"/>
                      </a:lnTo>
                      <a:lnTo>
                        <a:pt x="18" y="358"/>
                      </a:lnTo>
                      <a:lnTo>
                        <a:pt x="22" y="360"/>
                      </a:lnTo>
                      <a:lnTo>
                        <a:pt x="27" y="360"/>
                      </a:lnTo>
                      <a:lnTo>
                        <a:pt x="31" y="360"/>
                      </a:lnTo>
                      <a:lnTo>
                        <a:pt x="34" y="360"/>
                      </a:lnTo>
                      <a:lnTo>
                        <a:pt x="37" y="360"/>
                      </a:lnTo>
                      <a:lnTo>
                        <a:pt x="42" y="360"/>
                      </a:lnTo>
                      <a:lnTo>
                        <a:pt x="45" y="360"/>
                      </a:lnTo>
                      <a:lnTo>
                        <a:pt x="48" y="358"/>
                      </a:lnTo>
                      <a:lnTo>
                        <a:pt x="51" y="358"/>
                      </a:lnTo>
                      <a:lnTo>
                        <a:pt x="55" y="357"/>
                      </a:lnTo>
                      <a:lnTo>
                        <a:pt x="58" y="355"/>
                      </a:lnTo>
                      <a:lnTo>
                        <a:pt x="62" y="354"/>
                      </a:lnTo>
                      <a:lnTo>
                        <a:pt x="65" y="354"/>
                      </a:lnTo>
                      <a:lnTo>
                        <a:pt x="70" y="352"/>
                      </a:lnTo>
                      <a:lnTo>
                        <a:pt x="76" y="351"/>
                      </a:lnTo>
                      <a:lnTo>
                        <a:pt x="79" y="349"/>
                      </a:lnTo>
                      <a:lnTo>
                        <a:pt x="85" y="348"/>
                      </a:lnTo>
                      <a:lnTo>
                        <a:pt x="88" y="346"/>
                      </a:lnTo>
                      <a:lnTo>
                        <a:pt x="94" y="345"/>
                      </a:lnTo>
                      <a:lnTo>
                        <a:pt x="98" y="343"/>
                      </a:lnTo>
                      <a:lnTo>
                        <a:pt x="102" y="340"/>
                      </a:lnTo>
                      <a:lnTo>
                        <a:pt x="107" y="339"/>
                      </a:lnTo>
                      <a:lnTo>
                        <a:pt x="113" y="337"/>
                      </a:lnTo>
                      <a:lnTo>
                        <a:pt x="117" y="336"/>
                      </a:lnTo>
                      <a:lnTo>
                        <a:pt x="122" y="333"/>
                      </a:lnTo>
                      <a:lnTo>
                        <a:pt x="128" y="331"/>
                      </a:lnTo>
                      <a:lnTo>
                        <a:pt x="132" y="328"/>
                      </a:lnTo>
                      <a:lnTo>
                        <a:pt x="138" y="327"/>
                      </a:lnTo>
                      <a:lnTo>
                        <a:pt x="143" y="324"/>
                      </a:lnTo>
                      <a:lnTo>
                        <a:pt x="147" y="322"/>
                      </a:lnTo>
                      <a:lnTo>
                        <a:pt x="153" y="321"/>
                      </a:lnTo>
                      <a:lnTo>
                        <a:pt x="159" y="318"/>
                      </a:lnTo>
                      <a:lnTo>
                        <a:pt x="163" y="315"/>
                      </a:lnTo>
                      <a:lnTo>
                        <a:pt x="168" y="314"/>
                      </a:lnTo>
                      <a:lnTo>
                        <a:pt x="174" y="311"/>
                      </a:lnTo>
                      <a:lnTo>
                        <a:pt x="178" y="309"/>
                      </a:lnTo>
                      <a:lnTo>
                        <a:pt x="184" y="306"/>
                      </a:lnTo>
                      <a:lnTo>
                        <a:pt x="189" y="305"/>
                      </a:lnTo>
                      <a:lnTo>
                        <a:pt x="194" y="302"/>
                      </a:lnTo>
                      <a:lnTo>
                        <a:pt x="199" y="300"/>
                      </a:lnTo>
                      <a:lnTo>
                        <a:pt x="203" y="297"/>
                      </a:lnTo>
                      <a:lnTo>
                        <a:pt x="208" y="294"/>
                      </a:lnTo>
                      <a:lnTo>
                        <a:pt x="212" y="293"/>
                      </a:lnTo>
                      <a:lnTo>
                        <a:pt x="217" y="290"/>
                      </a:lnTo>
                      <a:lnTo>
                        <a:pt x="221" y="288"/>
                      </a:lnTo>
                      <a:lnTo>
                        <a:pt x="226" y="285"/>
                      </a:lnTo>
                      <a:lnTo>
                        <a:pt x="230" y="284"/>
                      </a:lnTo>
                      <a:lnTo>
                        <a:pt x="235" y="281"/>
                      </a:lnTo>
                      <a:lnTo>
                        <a:pt x="239" y="279"/>
                      </a:lnTo>
                      <a:lnTo>
                        <a:pt x="242" y="278"/>
                      </a:lnTo>
                      <a:lnTo>
                        <a:pt x="246" y="275"/>
                      </a:lnTo>
                      <a:lnTo>
                        <a:pt x="251" y="274"/>
                      </a:lnTo>
                      <a:lnTo>
                        <a:pt x="254" y="272"/>
                      </a:lnTo>
                      <a:lnTo>
                        <a:pt x="258" y="271"/>
                      </a:lnTo>
                      <a:lnTo>
                        <a:pt x="261" y="269"/>
                      </a:lnTo>
                      <a:lnTo>
                        <a:pt x="267" y="265"/>
                      </a:lnTo>
                      <a:lnTo>
                        <a:pt x="273" y="263"/>
                      </a:lnTo>
                      <a:lnTo>
                        <a:pt x="278" y="260"/>
                      </a:lnTo>
                      <a:lnTo>
                        <a:pt x="282" y="259"/>
                      </a:lnTo>
                      <a:lnTo>
                        <a:pt x="285" y="257"/>
                      </a:lnTo>
                      <a:lnTo>
                        <a:pt x="288" y="256"/>
                      </a:lnTo>
                      <a:lnTo>
                        <a:pt x="289" y="254"/>
                      </a:lnTo>
                      <a:lnTo>
                        <a:pt x="289" y="254"/>
                      </a:lnTo>
                      <a:lnTo>
                        <a:pt x="291" y="253"/>
                      </a:lnTo>
                      <a:lnTo>
                        <a:pt x="294" y="250"/>
                      </a:lnTo>
                      <a:lnTo>
                        <a:pt x="297" y="248"/>
                      </a:lnTo>
                      <a:lnTo>
                        <a:pt x="301" y="245"/>
                      </a:lnTo>
                      <a:lnTo>
                        <a:pt x="304" y="242"/>
                      </a:lnTo>
                      <a:lnTo>
                        <a:pt x="309" y="241"/>
                      </a:lnTo>
                      <a:lnTo>
                        <a:pt x="313" y="236"/>
                      </a:lnTo>
                      <a:lnTo>
                        <a:pt x="318" y="233"/>
                      </a:lnTo>
                      <a:lnTo>
                        <a:pt x="324" y="229"/>
                      </a:lnTo>
                      <a:lnTo>
                        <a:pt x="328" y="225"/>
                      </a:lnTo>
                      <a:lnTo>
                        <a:pt x="334" y="220"/>
                      </a:lnTo>
                      <a:lnTo>
                        <a:pt x="340" y="216"/>
                      </a:lnTo>
                      <a:lnTo>
                        <a:pt x="346" y="211"/>
                      </a:lnTo>
                      <a:lnTo>
                        <a:pt x="353" y="207"/>
                      </a:lnTo>
                      <a:lnTo>
                        <a:pt x="359" y="199"/>
                      </a:lnTo>
                      <a:lnTo>
                        <a:pt x="367" y="195"/>
                      </a:lnTo>
                      <a:lnTo>
                        <a:pt x="370" y="192"/>
                      </a:lnTo>
                      <a:lnTo>
                        <a:pt x="373" y="189"/>
                      </a:lnTo>
                      <a:lnTo>
                        <a:pt x="375" y="186"/>
                      </a:lnTo>
                      <a:lnTo>
                        <a:pt x="380" y="183"/>
                      </a:lnTo>
                      <a:lnTo>
                        <a:pt x="386" y="177"/>
                      </a:lnTo>
                      <a:lnTo>
                        <a:pt x="393" y="171"/>
                      </a:lnTo>
                      <a:lnTo>
                        <a:pt x="396" y="168"/>
                      </a:lnTo>
                      <a:lnTo>
                        <a:pt x="399" y="165"/>
                      </a:lnTo>
                      <a:lnTo>
                        <a:pt x="404" y="162"/>
                      </a:lnTo>
                      <a:lnTo>
                        <a:pt x="407" y="159"/>
                      </a:lnTo>
                      <a:lnTo>
                        <a:pt x="414" y="152"/>
                      </a:lnTo>
                      <a:lnTo>
                        <a:pt x="420" y="146"/>
                      </a:lnTo>
                      <a:lnTo>
                        <a:pt x="426" y="140"/>
                      </a:lnTo>
                      <a:lnTo>
                        <a:pt x="433" y="134"/>
                      </a:lnTo>
                      <a:lnTo>
                        <a:pt x="439" y="128"/>
                      </a:lnTo>
                      <a:lnTo>
                        <a:pt x="444" y="121"/>
                      </a:lnTo>
                      <a:lnTo>
                        <a:pt x="450" y="115"/>
                      </a:lnTo>
                      <a:lnTo>
                        <a:pt x="456" y="109"/>
                      </a:lnTo>
                      <a:lnTo>
                        <a:pt x="459" y="103"/>
                      </a:lnTo>
                      <a:lnTo>
                        <a:pt x="463" y="97"/>
                      </a:lnTo>
                      <a:lnTo>
                        <a:pt x="467" y="91"/>
                      </a:lnTo>
                      <a:lnTo>
                        <a:pt x="470" y="87"/>
                      </a:lnTo>
                      <a:lnTo>
                        <a:pt x="473" y="81"/>
                      </a:lnTo>
                      <a:lnTo>
                        <a:pt x="476" y="75"/>
                      </a:lnTo>
                      <a:lnTo>
                        <a:pt x="479" y="70"/>
                      </a:lnTo>
                      <a:lnTo>
                        <a:pt x="482" y="64"/>
                      </a:lnTo>
                      <a:lnTo>
                        <a:pt x="484" y="60"/>
                      </a:lnTo>
                      <a:lnTo>
                        <a:pt x="485" y="55"/>
                      </a:lnTo>
                      <a:lnTo>
                        <a:pt x="487" y="49"/>
                      </a:lnTo>
                      <a:lnTo>
                        <a:pt x="488" y="46"/>
                      </a:lnTo>
                      <a:lnTo>
                        <a:pt x="490" y="42"/>
                      </a:lnTo>
                      <a:lnTo>
                        <a:pt x="491" y="38"/>
                      </a:lnTo>
                      <a:lnTo>
                        <a:pt x="491" y="35"/>
                      </a:lnTo>
                      <a:lnTo>
                        <a:pt x="493" y="30"/>
                      </a:lnTo>
                      <a:lnTo>
                        <a:pt x="493" y="27"/>
                      </a:lnTo>
                      <a:lnTo>
                        <a:pt x="493" y="23"/>
                      </a:lnTo>
                      <a:lnTo>
                        <a:pt x="493" y="20"/>
                      </a:lnTo>
                      <a:lnTo>
                        <a:pt x="494" y="17"/>
                      </a:lnTo>
                      <a:lnTo>
                        <a:pt x="494" y="11"/>
                      </a:lnTo>
                      <a:lnTo>
                        <a:pt x="494" y="8"/>
                      </a:lnTo>
                      <a:lnTo>
                        <a:pt x="494" y="3"/>
                      </a:lnTo>
                      <a:lnTo>
                        <a:pt x="494" y="2"/>
                      </a:lnTo>
                      <a:lnTo>
                        <a:pt x="494" y="0"/>
                      </a:lnTo>
                      <a:lnTo>
                        <a:pt x="49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760560" y="2381400"/>
                  <a:ext cx="298440" cy="282600"/>
                </a:xfrm>
                <a:custGeom>
                  <a:avLst/>
                  <a:gdLst/>
                  <a:ahLst/>
                  <a:rect l="l" t="t" r="r" b="b"/>
                  <a:pathLst>
                    <a:path w="376" h="356">
                      <a:moveTo>
                        <a:pt x="356" y="36"/>
                      </a:moveTo>
                      <a:lnTo>
                        <a:pt x="356" y="36"/>
                      </a:lnTo>
                      <a:lnTo>
                        <a:pt x="356" y="39"/>
                      </a:lnTo>
                      <a:lnTo>
                        <a:pt x="356" y="41"/>
                      </a:lnTo>
                      <a:lnTo>
                        <a:pt x="356" y="47"/>
                      </a:lnTo>
                      <a:lnTo>
                        <a:pt x="354" y="50"/>
                      </a:lnTo>
                      <a:lnTo>
                        <a:pt x="354" y="53"/>
                      </a:lnTo>
                      <a:lnTo>
                        <a:pt x="354" y="58"/>
                      </a:lnTo>
                      <a:lnTo>
                        <a:pt x="354" y="61"/>
                      </a:lnTo>
                      <a:lnTo>
                        <a:pt x="353" y="65"/>
                      </a:lnTo>
                      <a:lnTo>
                        <a:pt x="353" y="70"/>
                      </a:lnTo>
                      <a:lnTo>
                        <a:pt x="351" y="74"/>
                      </a:lnTo>
                      <a:lnTo>
                        <a:pt x="351" y="80"/>
                      </a:lnTo>
                      <a:lnTo>
                        <a:pt x="351" y="85"/>
                      </a:lnTo>
                      <a:lnTo>
                        <a:pt x="350" y="90"/>
                      </a:lnTo>
                      <a:lnTo>
                        <a:pt x="348" y="95"/>
                      </a:lnTo>
                      <a:lnTo>
                        <a:pt x="348" y="101"/>
                      </a:lnTo>
                      <a:lnTo>
                        <a:pt x="345" y="107"/>
                      </a:lnTo>
                      <a:lnTo>
                        <a:pt x="344" y="113"/>
                      </a:lnTo>
                      <a:lnTo>
                        <a:pt x="342" y="119"/>
                      </a:lnTo>
                      <a:lnTo>
                        <a:pt x="341" y="125"/>
                      </a:lnTo>
                      <a:lnTo>
                        <a:pt x="338" y="131"/>
                      </a:lnTo>
                      <a:lnTo>
                        <a:pt x="336" y="136"/>
                      </a:lnTo>
                      <a:lnTo>
                        <a:pt x="332" y="142"/>
                      </a:lnTo>
                      <a:lnTo>
                        <a:pt x="330" y="150"/>
                      </a:lnTo>
                      <a:lnTo>
                        <a:pt x="326" y="156"/>
                      </a:lnTo>
                      <a:lnTo>
                        <a:pt x="323" y="162"/>
                      </a:lnTo>
                      <a:lnTo>
                        <a:pt x="320" y="168"/>
                      </a:lnTo>
                      <a:lnTo>
                        <a:pt x="317" y="175"/>
                      </a:lnTo>
                      <a:lnTo>
                        <a:pt x="311" y="179"/>
                      </a:lnTo>
                      <a:lnTo>
                        <a:pt x="307" y="185"/>
                      </a:lnTo>
                      <a:lnTo>
                        <a:pt x="302" y="191"/>
                      </a:lnTo>
                      <a:lnTo>
                        <a:pt x="299" y="197"/>
                      </a:lnTo>
                      <a:lnTo>
                        <a:pt x="293" y="203"/>
                      </a:lnTo>
                      <a:lnTo>
                        <a:pt x="287" y="209"/>
                      </a:lnTo>
                      <a:lnTo>
                        <a:pt x="281" y="214"/>
                      </a:lnTo>
                      <a:lnTo>
                        <a:pt x="277" y="220"/>
                      </a:lnTo>
                      <a:lnTo>
                        <a:pt x="271" y="224"/>
                      </a:lnTo>
                      <a:lnTo>
                        <a:pt x="265" y="230"/>
                      </a:lnTo>
                      <a:lnTo>
                        <a:pt x="259" y="234"/>
                      </a:lnTo>
                      <a:lnTo>
                        <a:pt x="253" y="240"/>
                      </a:lnTo>
                      <a:lnTo>
                        <a:pt x="246" y="245"/>
                      </a:lnTo>
                      <a:lnTo>
                        <a:pt x="240" y="249"/>
                      </a:lnTo>
                      <a:lnTo>
                        <a:pt x="234" y="254"/>
                      </a:lnTo>
                      <a:lnTo>
                        <a:pt x="228" y="260"/>
                      </a:lnTo>
                      <a:lnTo>
                        <a:pt x="224" y="261"/>
                      </a:lnTo>
                      <a:lnTo>
                        <a:pt x="221" y="263"/>
                      </a:lnTo>
                      <a:lnTo>
                        <a:pt x="218" y="264"/>
                      </a:lnTo>
                      <a:lnTo>
                        <a:pt x="215" y="267"/>
                      </a:lnTo>
                      <a:lnTo>
                        <a:pt x="207" y="271"/>
                      </a:lnTo>
                      <a:lnTo>
                        <a:pt x="201" y="276"/>
                      </a:lnTo>
                      <a:lnTo>
                        <a:pt x="198" y="276"/>
                      </a:lnTo>
                      <a:lnTo>
                        <a:pt x="194" y="279"/>
                      </a:lnTo>
                      <a:lnTo>
                        <a:pt x="191" y="280"/>
                      </a:lnTo>
                      <a:lnTo>
                        <a:pt x="188" y="282"/>
                      </a:lnTo>
                      <a:lnTo>
                        <a:pt x="181" y="286"/>
                      </a:lnTo>
                      <a:lnTo>
                        <a:pt x="175" y="289"/>
                      </a:lnTo>
                      <a:lnTo>
                        <a:pt x="167" y="292"/>
                      </a:lnTo>
                      <a:lnTo>
                        <a:pt x="161" y="295"/>
                      </a:lnTo>
                      <a:lnTo>
                        <a:pt x="155" y="298"/>
                      </a:lnTo>
                      <a:lnTo>
                        <a:pt x="149" y="301"/>
                      </a:lnTo>
                      <a:lnTo>
                        <a:pt x="142" y="303"/>
                      </a:lnTo>
                      <a:lnTo>
                        <a:pt x="138" y="306"/>
                      </a:lnTo>
                      <a:lnTo>
                        <a:pt x="132" y="307"/>
                      </a:lnTo>
                      <a:lnTo>
                        <a:pt x="126" y="310"/>
                      </a:lnTo>
                      <a:lnTo>
                        <a:pt x="120" y="312"/>
                      </a:lnTo>
                      <a:lnTo>
                        <a:pt x="115" y="313"/>
                      </a:lnTo>
                      <a:lnTo>
                        <a:pt x="109" y="313"/>
                      </a:lnTo>
                      <a:lnTo>
                        <a:pt x="105" y="315"/>
                      </a:lnTo>
                      <a:lnTo>
                        <a:pt x="99" y="316"/>
                      </a:lnTo>
                      <a:lnTo>
                        <a:pt x="94" y="316"/>
                      </a:lnTo>
                      <a:lnTo>
                        <a:pt x="90" y="317"/>
                      </a:lnTo>
                      <a:lnTo>
                        <a:pt x="87" y="317"/>
                      </a:lnTo>
                      <a:lnTo>
                        <a:pt x="83" y="317"/>
                      </a:lnTo>
                      <a:lnTo>
                        <a:pt x="78" y="317"/>
                      </a:lnTo>
                      <a:lnTo>
                        <a:pt x="75" y="317"/>
                      </a:lnTo>
                      <a:lnTo>
                        <a:pt x="72" y="319"/>
                      </a:lnTo>
                      <a:lnTo>
                        <a:pt x="65" y="319"/>
                      </a:lnTo>
                      <a:lnTo>
                        <a:pt x="60" y="319"/>
                      </a:lnTo>
                      <a:lnTo>
                        <a:pt x="54" y="317"/>
                      </a:lnTo>
                      <a:lnTo>
                        <a:pt x="51" y="317"/>
                      </a:lnTo>
                      <a:lnTo>
                        <a:pt x="47" y="316"/>
                      </a:lnTo>
                      <a:lnTo>
                        <a:pt x="44" y="316"/>
                      </a:lnTo>
                      <a:lnTo>
                        <a:pt x="41" y="313"/>
                      </a:lnTo>
                      <a:lnTo>
                        <a:pt x="40" y="313"/>
                      </a:lnTo>
                      <a:lnTo>
                        <a:pt x="38" y="313"/>
                      </a:lnTo>
                      <a:lnTo>
                        <a:pt x="37" y="312"/>
                      </a:lnTo>
                      <a:lnTo>
                        <a:pt x="35" y="310"/>
                      </a:lnTo>
                      <a:lnTo>
                        <a:pt x="35" y="306"/>
                      </a:lnTo>
                      <a:lnTo>
                        <a:pt x="35" y="303"/>
                      </a:lnTo>
                      <a:lnTo>
                        <a:pt x="37" y="300"/>
                      </a:lnTo>
                      <a:lnTo>
                        <a:pt x="38" y="297"/>
                      </a:lnTo>
                      <a:lnTo>
                        <a:pt x="40" y="294"/>
                      </a:lnTo>
                      <a:lnTo>
                        <a:pt x="41" y="289"/>
                      </a:lnTo>
                      <a:lnTo>
                        <a:pt x="43" y="285"/>
                      </a:lnTo>
                      <a:lnTo>
                        <a:pt x="44" y="280"/>
                      </a:lnTo>
                      <a:lnTo>
                        <a:pt x="47" y="274"/>
                      </a:lnTo>
                      <a:lnTo>
                        <a:pt x="48" y="269"/>
                      </a:lnTo>
                      <a:lnTo>
                        <a:pt x="51" y="264"/>
                      </a:lnTo>
                      <a:lnTo>
                        <a:pt x="54" y="258"/>
                      </a:lnTo>
                      <a:lnTo>
                        <a:pt x="57" y="254"/>
                      </a:lnTo>
                      <a:lnTo>
                        <a:pt x="59" y="248"/>
                      </a:lnTo>
                      <a:lnTo>
                        <a:pt x="62" y="243"/>
                      </a:lnTo>
                      <a:lnTo>
                        <a:pt x="63" y="239"/>
                      </a:lnTo>
                      <a:lnTo>
                        <a:pt x="66" y="236"/>
                      </a:lnTo>
                      <a:lnTo>
                        <a:pt x="69" y="231"/>
                      </a:lnTo>
                      <a:lnTo>
                        <a:pt x="71" y="230"/>
                      </a:lnTo>
                      <a:lnTo>
                        <a:pt x="37" y="242"/>
                      </a:lnTo>
                      <a:lnTo>
                        <a:pt x="35" y="242"/>
                      </a:lnTo>
                      <a:lnTo>
                        <a:pt x="32" y="245"/>
                      </a:lnTo>
                      <a:lnTo>
                        <a:pt x="28" y="249"/>
                      </a:lnTo>
                      <a:lnTo>
                        <a:pt x="25" y="254"/>
                      </a:lnTo>
                      <a:lnTo>
                        <a:pt x="22" y="257"/>
                      </a:lnTo>
                      <a:lnTo>
                        <a:pt x="19" y="261"/>
                      </a:lnTo>
                      <a:lnTo>
                        <a:pt x="16" y="264"/>
                      </a:lnTo>
                      <a:lnTo>
                        <a:pt x="14" y="269"/>
                      </a:lnTo>
                      <a:lnTo>
                        <a:pt x="11" y="271"/>
                      </a:lnTo>
                      <a:lnTo>
                        <a:pt x="10" y="277"/>
                      </a:lnTo>
                      <a:lnTo>
                        <a:pt x="7" y="282"/>
                      </a:lnTo>
                      <a:lnTo>
                        <a:pt x="7" y="288"/>
                      </a:lnTo>
                      <a:lnTo>
                        <a:pt x="4" y="292"/>
                      </a:lnTo>
                      <a:lnTo>
                        <a:pt x="2" y="298"/>
                      </a:lnTo>
                      <a:lnTo>
                        <a:pt x="2" y="303"/>
                      </a:lnTo>
                      <a:lnTo>
                        <a:pt x="1" y="309"/>
                      </a:lnTo>
                      <a:lnTo>
                        <a:pt x="0" y="313"/>
                      </a:lnTo>
                      <a:lnTo>
                        <a:pt x="0" y="319"/>
                      </a:lnTo>
                      <a:lnTo>
                        <a:pt x="0" y="325"/>
                      </a:lnTo>
                      <a:lnTo>
                        <a:pt x="0" y="329"/>
                      </a:lnTo>
                      <a:lnTo>
                        <a:pt x="0" y="334"/>
                      </a:lnTo>
                      <a:lnTo>
                        <a:pt x="0" y="338"/>
                      </a:lnTo>
                      <a:lnTo>
                        <a:pt x="0" y="341"/>
                      </a:lnTo>
                      <a:lnTo>
                        <a:pt x="0" y="346"/>
                      </a:lnTo>
                      <a:lnTo>
                        <a:pt x="0" y="350"/>
                      </a:lnTo>
                      <a:lnTo>
                        <a:pt x="1" y="352"/>
                      </a:lnTo>
                      <a:lnTo>
                        <a:pt x="2" y="352"/>
                      </a:lnTo>
                      <a:lnTo>
                        <a:pt x="4" y="353"/>
                      </a:lnTo>
                      <a:lnTo>
                        <a:pt x="8" y="353"/>
                      </a:lnTo>
                      <a:lnTo>
                        <a:pt x="11" y="355"/>
                      </a:lnTo>
                      <a:lnTo>
                        <a:pt x="17" y="355"/>
                      </a:lnTo>
                      <a:lnTo>
                        <a:pt x="20" y="355"/>
                      </a:lnTo>
                      <a:lnTo>
                        <a:pt x="23" y="355"/>
                      </a:lnTo>
                      <a:lnTo>
                        <a:pt x="28" y="355"/>
                      </a:lnTo>
                      <a:lnTo>
                        <a:pt x="31" y="356"/>
                      </a:lnTo>
                      <a:lnTo>
                        <a:pt x="35" y="355"/>
                      </a:lnTo>
                      <a:lnTo>
                        <a:pt x="38" y="355"/>
                      </a:lnTo>
                      <a:lnTo>
                        <a:pt x="43" y="355"/>
                      </a:lnTo>
                      <a:lnTo>
                        <a:pt x="47" y="355"/>
                      </a:lnTo>
                      <a:lnTo>
                        <a:pt x="51" y="355"/>
                      </a:lnTo>
                      <a:lnTo>
                        <a:pt x="56" y="355"/>
                      </a:lnTo>
                      <a:lnTo>
                        <a:pt x="62" y="353"/>
                      </a:lnTo>
                      <a:lnTo>
                        <a:pt x="66" y="353"/>
                      </a:lnTo>
                      <a:lnTo>
                        <a:pt x="72" y="352"/>
                      </a:lnTo>
                      <a:lnTo>
                        <a:pt x="78" y="352"/>
                      </a:lnTo>
                      <a:lnTo>
                        <a:pt x="84" y="350"/>
                      </a:lnTo>
                      <a:lnTo>
                        <a:pt x="90" y="349"/>
                      </a:lnTo>
                      <a:lnTo>
                        <a:pt x="96" y="347"/>
                      </a:lnTo>
                      <a:lnTo>
                        <a:pt x="103" y="346"/>
                      </a:lnTo>
                      <a:lnTo>
                        <a:pt x="106" y="344"/>
                      </a:lnTo>
                      <a:lnTo>
                        <a:pt x="109" y="344"/>
                      </a:lnTo>
                      <a:lnTo>
                        <a:pt x="112" y="344"/>
                      </a:lnTo>
                      <a:lnTo>
                        <a:pt x="117" y="343"/>
                      </a:lnTo>
                      <a:lnTo>
                        <a:pt x="120" y="341"/>
                      </a:lnTo>
                      <a:lnTo>
                        <a:pt x="123" y="340"/>
                      </a:lnTo>
                      <a:lnTo>
                        <a:pt x="127" y="338"/>
                      </a:lnTo>
                      <a:lnTo>
                        <a:pt x="130" y="337"/>
                      </a:lnTo>
                      <a:lnTo>
                        <a:pt x="135" y="335"/>
                      </a:lnTo>
                      <a:lnTo>
                        <a:pt x="138" y="334"/>
                      </a:lnTo>
                      <a:lnTo>
                        <a:pt x="142" y="332"/>
                      </a:lnTo>
                      <a:lnTo>
                        <a:pt x="145" y="332"/>
                      </a:lnTo>
                      <a:lnTo>
                        <a:pt x="149" y="329"/>
                      </a:lnTo>
                      <a:lnTo>
                        <a:pt x="152" y="328"/>
                      </a:lnTo>
                      <a:lnTo>
                        <a:pt x="157" y="326"/>
                      </a:lnTo>
                      <a:lnTo>
                        <a:pt x="160" y="325"/>
                      </a:lnTo>
                      <a:lnTo>
                        <a:pt x="164" y="323"/>
                      </a:lnTo>
                      <a:lnTo>
                        <a:pt x="169" y="322"/>
                      </a:lnTo>
                      <a:lnTo>
                        <a:pt x="172" y="320"/>
                      </a:lnTo>
                      <a:lnTo>
                        <a:pt x="176" y="319"/>
                      </a:lnTo>
                      <a:lnTo>
                        <a:pt x="181" y="317"/>
                      </a:lnTo>
                      <a:lnTo>
                        <a:pt x="184" y="315"/>
                      </a:lnTo>
                      <a:lnTo>
                        <a:pt x="188" y="313"/>
                      </a:lnTo>
                      <a:lnTo>
                        <a:pt x="192" y="312"/>
                      </a:lnTo>
                      <a:lnTo>
                        <a:pt x="195" y="310"/>
                      </a:lnTo>
                      <a:lnTo>
                        <a:pt x="200" y="307"/>
                      </a:lnTo>
                      <a:lnTo>
                        <a:pt x="204" y="306"/>
                      </a:lnTo>
                      <a:lnTo>
                        <a:pt x="209" y="304"/>
                      </a:lnTo>
                      <a:lnTo>
                        <a:pt x="212" y="301"/>
                      </a:lnTo>
                      <a:lnTo>
                        <a:pt x="216" y="300"/>
                      </a:lnTo>
                      <a:lnTo>
                        <a:pt x="219" y="297"/>
                      </a:lnTo>
                      <a:lnTo>
                        <a:pt x="224" y="295"/>
                      </a:lnTo>
                      <a:lnTo>
                        <a:pt x="228" y="292"/>
                      </a:lnTo>
                      <a:lnTo>
                        <a:pt x="231" y="291"/>
                      </a:lnTo>
                      <a:lnTo>
                        <a:pt x="235" y="289"/>
                      </a:lnTo>
                      <a:lnTo>
                        <a:pt x="240" y="288"/>
                      </a:lnTo>
                      <a:lnTo>
                        <a:pt x="243" y="285"/>
                      </a:lnTo>
                      <a:lnTo>
                        <a:pt x="247" y="282"/>
                      </a:lnTo>
                      <a:lnTo>
                        <a:pt x="250" y="280"/>
                      </a:lnTo>
                      <a:lnTo>
                        <a:pt x="255" y="277"/>
                      </a:lnTo>
                      <a:lnTo>
                        <a:pt x="258" y="276"/>
                      </a:lnTo>
                      <a:lnTo>
                        <a:pt x="262" y="273"/>
                      </a:lnTo>
                      <a:lnTo>
                        <a:pt x="265" y="270"/>
                      </a:lnTo>
                      <a:lnTo>
                        <a:pt x="270" y="269"/>
                      </a:lnTo>
                      <a:lnTo>
                        <a:pt x="273" y="266"/>
                      </a:lnTo>
                      <a:lnTo>
                        <a:pt x="277" y="263"/>
                      </a:lnTo>
                      <a:lnTo>
                        <a:pt x="280" y="261"/>
                      </a:lnTo>
                      <a:lnTo>
                        <a:pt x="284" y="258"/>
                      </a:lnTo>
                      <a:lnTo>
                        <a:pt x="287" y="255"/>
                      </a:lnTo>
                      <a:lnTo>
                        <a:pt x="290" y="254"/>
                      </a:lnTo>
                      <a:lnTo>
                        <a:pt x="293" y="251"/>
                      </a:lnTo>
                      <a:lnTo>
                        <a:pt x="298" y="249"/>
                      </a:lnTo>
                      <a:lnTo>
                        <a:pt x="304" y="243"/>
                      </a:lnTo>
                      <a:lnTo>
                        <a:pt x="310" y="239"/>
                      </a:lnTo>
                      <a:lnTo>
                        <a:pt x="316" y="233"/>
                      </a:lnTo>
                      <a:lnTo>
                        <a:pt x="322" y="227"/>
                      </a:lnTo>
                      <a:lnTo>
                        <a:pt x="326" y="223"/>
                      </a:lnTo>
                      <a:lnTo>
                        <a:pt x="332" y="217"/>
                      </a:lnTo>
                      <a:lnTo>
                        <a:pt x="336" y="212"/>
                      </a:lnTo>
                      <a:lnTo>
                        <a:pt x="342" y="208"/>
                      </a:lnTo>
                      <a:lnTo>
                        <a:pt x="345" y="202"/>
                      </a:lnTo>
                      <a:lnTo>
                        <a:pt x="350" y="196"/>
                      </a:lnTo>
                      <a:lnTo>
                        <a:pt x="353" y="190"/>
                      </a:lnTo>
                      <a:lnTo>
                        <a:pt x="356" y="185"/>
                      </a:lnTo>
                      <a:lnTo>
                        <a:pt x="359" y="179"/>
                      </a:lnTo>
                      <a:lnTo>
                        <a:pt x="362" y="175"/>
                      </a:lnTo>
                      <a:lnTo>
                        <a:pt x="365" y="171"/>
                      </a:lnTo>
                      <a:lnTo>
                        <a:pt x="366" y="165"/>
                      </a:lnTo>
                      <a:lnTo>
                        <a:pt x="368" y="160"/>
                      </a:lnTo>
                      <a:lnTo>
                        <a:pt x="370" y="156"/>
                      </a:lnTo>
                      <a:lnTo>
                        <a:pt x="370" y="150"/>
                      </a:lnTo>
                      <a:lnTo>
                        <a:pt x="372" y="145"/>
                      </a:lnTo>
                      <a:lnTo>
                        <a:pt x="373" y="141"/>
                      </a:lnTo>
                      <a:lnTo>
                        <a:pt x="373" y="136"/>
                      </a:lnTo>
                      <a:lnTo>
                        <a:pt x="375" y="133"/>
                      </a:lnTo>
                      <a:lnTo>
                        <a:pt x="376" y="129"/>
                      </a:lnTo>
                      <a:lnTo>
                        <a:pt x="376" y="125"/>
                      </a:lnTo>
                      <a:lnTo>
                        <a:pt x="376" y="122"/>
                      </a:lnTo>
                      <a:lnTo>
                        <a:pt x="376" y="117"/>
                      </a:lnTo>
                      <a:lnTo>
                        <a:pt x="376" y="114"/>
                      </a:lnTo>
                      <a:lnTo>
                        <a:pt x="376" y="108"/>
                      </a:lnTo>
                      <a:lnTo>
                        <a:pt x="376" y="102"/>
                      </a:lnTo>
                      <a:lnTo>
                        <a:pt x="375" y="99"/>
                      </a:lnTo>
                      <a:lnTo>
                        <a:pt x="375" y="95"/>
                      </a:lnTo>
                      <a:lnTo>
                        <a:pt x="375" y="93"/>
                      </a:lnTo>
                      <a:lnTo>
                        <a:pt x="375" y="0"/>
                      </a:lnTo>
                      <a:lnTo>
                        <a:pt x="356" y="36"/>
                      </a:lnTo>
                      <a:lnTo>
                        <a:pt x="356" y="3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402000" y="2589120"/>
                  <a:ext cx="377640" cy="111240"/>
                </a:xfrm>
                <a:custGeom>
                  <a:avLst/>
                  <a:gdLst/>
                  <a:ahLst/>
                  <a:rect l="l" t="t" r="r" b="b"/>
                  <a:pathLst>
                    <a:path w="475" h="139">
                      <a:moveTo>
                        <a:pt x="475" y="0"/>
                      </a:moveTo>
                      <a:lnTo>
                        <a:pt x="474" y="0"/>
                      </a:lnTo>
                      <a:lnTo>
                        <a:pt x="474" y="1"/>
                      </a:lnTo>
                      <a:lnTo>
                        <a:pt x="474" y="3"/>
                      </a:lnTo>
                      <a:lnTo>
                        <a:pt x="472" y="7"/>
                      </a:lnTo>
                      <a:lnTo>
                        <a:pt x="469" y="10"/>
                      </a:lnTo>
                      <a:lnTo>
                        <a:pt x="466" y="14"/>
                      </a:lnTo>
                      <a:lnTo>
                        <a:pt x="462" y="20"/>
                      </a:lnTo>
                      <a:lnTo>
                        <a:pt x="456" y="26"/>
                      </a:lnTo>
                      <a:lnTo>
                        <a:pt x="453" y="28"/>
                      </a:lnTo>
                      <a:lnTo>
                        <a:pt x="449" y="32"/>
                      </a:lnTo>
                      <a:lnTo>
                        <a:pt x="444" y="34"/>
                      </a:lnTo>
                      <a:lnTo>
                        <a:pt x="440" y="38"/>
                      </a:lnTo>
                      <a:lnTo>
                        <a:pt x="435" y="41"/>
                      </a:lnTo>
                      <a:lnTo>
                        <a:pt x="429" y="44"/>
                      </a:lnTo>
                      <a:lnTo>
                        <a:pt x="423" y="47"/>
                      </a:lnTo>
                      <a:lnTo>
                        <a:pt x="417" y="50"/>
                      </a:lnTo>
                      <a:lnTo>
                        <a:pt x="414" y="52"/>
                      </a:lnTo>
                      <a:lnTo>
                        <a:pt x="410" y="54"/>
                      </a:lnTo>
                      <a:lnTo>
                        <a:pt x="407" y="54"/>
                      </a:lnTo>
                      <a:lnTo>
                        <a:pt x="404" y="57"/>
                      </a:lnTo>
                      <a:lnTo>
                        <a:pt x="400" y="57"/>
                      </a:lnTo>
                      <a:lnTo>
                        <a:pt x="395" y="60"/>
                      </a:lnTo>
                      <a:lnTo>
                        <a:pt x="392" y="62"/>
                      </a:lnTo>
                      <a:lnTo>
                        <a:pt x="388" y="63"/>
                      </a:lnTo>
                      <a:lnTo>
                        <a:pt x="383" y="65"/>
                      </a:lnTo>
                      <a:lnTo>
                        <a:pt x="379" y="66"/>
                      </a:lnTo>
                      <a:lnTo>
                        <a:pt x="373" y="68"/>
                      </a:lnTo>
                      <a:lnTo>
                        <a:pt x="370" y="69"/>
                      </a:lnTo>
                      <a:lnTo>
                        <a:pt x="364" y="71"/>
                      </a:lnTo>
                      <a:lnTo>
                        <a:pt x="360" y="72"/>
                      </a:lnTo>
                      <a:lnTo>
                        <a:pt x="354" y="74"/>
                      </a:lnTo>
                      <a:lnTo>
                        <a:pt x="349" y="77"/>
                      </a:lnTo>
                      <a:lnTo>
                        <a:pt x="343" y="77"/>
                      </a:lnTo>
                      <a:lnTo>
                        <a:pt x="337" y="78"/>
                      </a:lnTo>
                      <a:lnTo>
                        <a:pt x="331" y="80"/>
                      </a:lnTo>
                      <a:lnTo>
                        <a:pt x="324" y="81"/>
                      </a:lnTo>
                      <a:lnTo>
                        <a:pt x="318" y="81"/>
                      </a:lnTo>
                      <a:lnTo>
                        <a:pt x="312" y="84"/>
                      </a:lnTo>
                      <a:lnTo>
                        <a:pt x="306" y="84"/>
                      </a:lnTo>
                      <a:lnTo>
                        <a:pt x="299" y="86"/>
                      </a:lnTo>
                      <a:lnTo>
                        <a:pt x="293" y="87"/>
                      </a:lnTo>
                      <a:lnTo>
                        <a:pt x="285" y="89"/>
                      </a:lnTo>
                      <a:lnTo>
                        <a:pt x="279" y="89"/>
                      </a:lnTo>
                      <a:lnTo>
                        <a:pt x="272" y="90"/>
                      </a:lnTo>
                      <a:lnTo>
                        <a:pt x="265" y="92"/>
                      </a:lnTo>
                      <a:lnTo>
                        <a:pt x="257" y="92"/>
                      </a:lnTo>
                      <a:lnTo>
                        <a:pt x="251" y="93"/>
                      </a:lnTo>
                      <a:lnTo>
                        <a:pt x="244" y="95"/>
                      </a:lnTo>
                      <a:lnTo>
                        <a:pt x="236" y="96"/>
                      </a:lnTo>
                      <a:lnTo>
                        <a:pt x="229" y="96"/>
                      </a:lnTo>
                      <a:lnTo>
                        <a:pt x="222" y="98"/>
                      </a:lnTo>
                      <a:lnTo>
                        <a:pt x="216" y="99"/>
                      </a:lnTo>
                      <a:lnTo>
                        <a:pt x="208" y="99"/>
                      </a:lnTo>
                      <a:lnTo>
                        <a:pt x="201" y="100"/>
                      </a:lnTo>
                      <a:lnTo>
                        <a:pt x="193" y="100"/>
                      </a:lnTo>
                      <a:lnTo>
                        <a:pt x="186" y="102"/>
                      </a:lnTo>
                      <a:lnTo>
                        <a:pt x="178" y="102"/>
                      </a:lnTo>
                      <a:lnTo>
                        <a:pt x="171" y="103"/>
                      </a:lnTo>
                      <a:lnTo>
                        <a:pt x="164" y="103"/>
                      </a:lnTo>
                      <a:lnTo>
                        <a:pt x="158" y="105"/>
                      </a:lnTo>
                      <a:lnTo>
                        <a:pt x="150" y="105"/>
                      </a:lnTo>
                      <a:lnTo>
                        <a:pt x="143" y="106"/>
                      </a:lnTo>
                      <a:lnTo>
                        <a:pt x="137" y="108"/>
                      </a:lnTo>
                      <a:lnTo>
                        <a:pt x="131" y="108"/>
                      </a:lnTo>
                      <a:lnTo>
                        <a:pt x="124" y="108"/>
                      </a:lnTo>
                      <a:lnTo>
                        <a:pt x="116" y="109"/>
                      </a:lnTo>
                      <a:lnTo>
                        <a:pt x="109" y="109"/>
                      </a:lnTo>
                      <a:lnTo>
                        <a:pt x="103" y="111"/>
                      </a:lnTo>
                      <a:lnTo>
                        <a:pt x="97" y="111"/>
                      </a:lnTo>
                      <a:lnTo>
                        <a:pt x="89" y="111"/>
                      </a:lnTo>
                      <a:lnTo>
                        <a:pt x="85" y="111"/>
                      </a:lnTo>
                      <a:lnTo>
                        <a:pt x="79" y="112"/>
                      </a:lnTo>
                      <a:lnTo>
                        <a:pt x="73" y="112"/>
                      </a:lnTo>
                      <a:lnTo>
                        <a:pt x="67" y="112"/>
                      </a:lnTo>
                      <a:lnTo>
                        <a:pt x="61" y="114"/>
                      </a:lnTo>
                      <a:lnTo>
                        <a:pt x="57" y="114"/>
                      </a:lnTo>
                      <a:lnTo>
                        <a:pt x="51" y="114"/>
                      </a:lnTo>
                      <a:lnTo>
                        <a:pt x="46" y="115"/>
                      </a:lnTo>
                      <a:lnTo>
                        <a:pt x="42" y="115"/>
                      </a:lnTo>
                      <a:lnTo>
                        <a:pt x="38" y="115"/>
                      </a:lnTo>
                      <a:lnTo>
                        <a:pt x="33" y="115"/>
                      </a:lnTo>
                      <a:lnTo>
                        <a:pt x="29" y="115"/>
                      </a:lnTo>
                      <a:lnTo>
                        <a:pt x="26" y="115"/>
                      </a:lnTo>
                      <a:lnTo>
                        <a:pt x="23" y="117"/>
                      </a:lnTo>
                      <a:lnTo>
                        <a:pt x="18" y="117"/>
                      </a:lnTo>
                      <a:lnTo>
                        <a:pt x="15" y="117"/>
                      </a:lnTo>
                      <a:lnTo>
                        <a:pt x="12" y="117"/>
                      </a:lnTo>
                      <a:lnTo>
                        <a:pt x="11" y="117"/>
                      </a:lnTo>
                      <a:lnTo>
                        <a:pt x="5" y="117"/>
                      </a:lnTo>
                      <a:lnTo>
                        <a:pt x="2" y="118"/>
                      </a:lnTo>
                      <a:lnTo>
                        <a:pt x="0" y="118"/>
                      </a:lnTo>
                      <a:lnTo>
                        <a:pt x="0" y="118"/>
                      </a:lnTo>
                      <a:lnTo>
                        <a:pt x="0" y="118"/>
                      </a:lnTo>
                      <a:lnTo>
                        <a:pt x="5" y="120"/>
                      </a:lnTo>
                      <a:lnTo>
                        <a:pt x="6" y="120"/>
                      </a:lnTo>
                      <a:lnTo>
                        <a:pt x="11" y="121"/>
                      </a:lnTo>
                      <a:lnTo>
                        <a:pt x="14" y="121"/>
                      </a:lnTo>
                      <a:lnTo>
                        <a:pt x="18" y="123"/>
                      </a:lnTo>
                      <a:lnTo>
                        <a:pt x="21" y="123"/>
                      </a:lnTo>
                      <a:lnTo>
                        <a:pt x="27" y="124"/>
                      </a:lnTo>
                      <a:lnTo>
                        <a:pt x="32" y="126"/>
                      </a:lnTo>
                      <a:lnTo>
                        <a:pt x="38" y="127"/>
                      </a:lnTo>
                      <a:lnTo>
                        <a:pt x="40" y="127"/>
                      </a:lnTo>
                      <a:lnTo>
                        <a:pt x="43" y="127"/>
                      </a:lnTo>
                      <a:lnTo>
                        <a:pt x="48" y="129"/>
                      </a:lnTo>
                      <a:lnTo>
                        <a:pt x="51" y="129"/>
                      </a:lnTo>
                      <a:lnTo>
                        <a:pt x="54" y="130"/>
                      </a:lnTo>
                      <a:lnTo>
                        <a:pt x="58" y="130"/>
                      </a:lnTo>
                      <a:lnTo>
                        <a:pt x="61" y="130"/>
                      </a:lnTo>
                      <a:lnTo>
                        <a:pt x="66" y="132"/>
                      </a:lnTo>
                      <a:lnTo>
                        <a:pt x="70" y="132"/>
                      </a:lnTo>
                      <a:lnTo>
                        <a:pt x="73" y="133"/>
                      </a:lnTo>
                      <a:lnTo>
                        <a:pt x="78" y="133"/>
                      </a:lnTo>
                      <a:lnTo>
                        <a:pt x="81" y="133"/>
                      </a:lnTo>
                      <a:lnTo>
                        <a:pt x="85" y="133"/>
                      </a:lnTo>
                      <a:lnTo>
                        <a:pt x="89" y="135"/>
                      </a:lnTo>
                      <a:lnTo>
                        <a:pt x="94" y="135"/>
                      </a:lnTo>
                      <a:lnTo>
                        <a:pt x="98" y="136"/>
                      </a:lnTo>
                      <a:lnTo>
                        <a:pt x="101" y="136"/>
                      </a:lnTo>
                      <a:lnTo>
                        <a:pt x="107" y="138"/>
                      </a:lnTo>
                      <a:lnTo>
                        <a:pt x="112" y="138"/>
                      </a:lnTo>
                      <a:lnTo>
                        <a:pt x="116" y="138"/>
                      </a:lnTo>
                      <a:lnTo>
                        <a:pt x="121" y="138"/>
                      </a:lnTo>
                      <a:lnTo>
                        <a:pt x="127" y="138"/>
                      </a:lnTo>
                      <a:lnTo>
                        <a:pt x="131" y="138"/>
                      </a:lnTo>
                      <a:lnTo>
                        <a:pt x="135" y="139"/>
                      </a:lnTo>
                      <a:lnTo>
                        <a:pt x="140" y="139"/>
                      </a:lnTo>
                      <a:lnTo>
                        <a:pt x="146" y="139"/>
                      </a:lnTo>
                      <a:lnTo>
                        <a:pt x="150" y="139"/>
                      </a:lnTo>
                      <a:lnTo>
                        <a:pt x="156" y="139"/>
                      </a:lnTo>
                      <a:lnTo>
                        <a:pt x="161" y="139"/>
                      </a:lnTo>
                      <a:lnTo>
                        <a:pt x="165" y="139"/>
                      </a:lnTo>
                      <a:lnTo>
                        <a:pt x="171" y="139"/>
                      </a:lnTo>
                      <a:lnTo>
                        <a:pt x="176" y="139"/>
                      </a:lnTo>
                      <a:lnTo>
                        <a:pt x="181" y="139"/>
                      </a:lnTo>
                      <a:lnTo>
                        <a:pt x="187" y="139"/>
                      </a:lnTo>
                      <a:lnTo>
                        <a:pt x="192" y="138"/>
                      </a:lnTo>
                      <a:lnTo>
                        <a:pt x="198" y="138"/>
                      </a:lnTo>
                      <a:lnTo>
                        <a:pt x="204" y="138"/>
                      </a:lnTo>
                      <a:lnTo>
                        <a:pt x="210" y="138"/>
                      </a:lnTo>
                      <a:lnTo>
                        <a:pt x="214" y="138"/>
                      </a:lnTo>
                      <a:lnTo>
                        <a:pt x="220" y="138"/>
                      </a:lnTo>
                      <a:lnTo>
                        <a:pt x="224" y="136"/>
                      </a:lnTo>
                      <a:lnTo>
                        <a:pt x="230" y="135"/>
                      </a:lnTo>
                      <a:lnTo>
                        <a:pt x="236" y="133"/>
                      </a:lnTo>
                      <a:lnTo>
                        <a:pt x="242" y="133"/>
                      </a:lnTo>
                      <a:lnTo>
                        <a:pt x="247" y="132"/>
                      </a:lnTo>
                      <a:lnTo>
                        <a:pt x="253" y="132"/>
                      </a:lnTo>
                      <a:lnTo>
                        <a:pt x="259" y="130"/>
                      </a:lnTo>
                      <a:lnTo>
                        <a:pt x="265" y="130"/>
                      </a:lnTo>
                      <a:lnTo>
                        <a:pt x="269" y="127"/>
                      </a:lnTo>
                      <a:lnTo>
                        <a:pt x="275" y="127"/>
                      </a:lnTo>
                      <a:lnTo>
                        <a:pt x="281" y="126"/>
                      </a:lnTo>
                      <a:lnTo>
                        <a:pt x="287" y="124"/>
                      </a:lnTo>
                      <a:lnTo>
                        <a:pt x="291" y="123"/>
                      </a:lnTo>
                      <a:lnTo>
                        <a:pt x="297" y="123"/>
                      </a:lnTo>
                      <a:lnTo>
                        <a:pt x="303" y="120"/>
                      </a:lnTo>
                      <a:lnTo>
                        <a:pt x="309" y="120"/>
                      </a:lnTo>
                      <a:lnTo>
                        <a:pt x="314" y="118"/>
                      </a:lnTo>
                      <a:lnTo>
                        <a:pt x="319" y="117"/>
                      </a:lnTo>
                      <a:lnTo>
                        <a:pt x="324" y="115"/>
                      </a:lnTo>
                      <a:lnTo>
                        <a:pt x="330" y="114"/>
                      </a:lnTo>
                      <a:lnTo>
                        <a:pt x="334" y="111"/>
                      </a:lnTo>
                      <a:lnTo>
                        <a:pt x="340" y="111"/>
                      </a:lnTo>
                      <a:lnTo>
                        <a:pt x="345" y="109"/>
                      </a:lnTo>
                      <a:lnTo>
                        <a:pt x="351" y="108"/>
                      </a:lnTo>
                      <a:lnTo>
                        <a:pt x="355" y="106"/>
                      </a:lnTo>
                      <a:lnTo>
                        <a:pt x="361" y="105"/>
                      </a:lnTo>
                      <a:lnTo>
                        <a:pt x="365" y="103"/>
                      </a:lnTo>
                      <a:lnTo>
                        <a:pt x="370" y="102"/>
                      </a:lnTo>
                      <a:lnTo>
                        <a:pt x="374" y="99"/>
                      </a:lnTo>
                      <a:lnTo>
                        <a:pt x="380" y="99"/>
                      </a:lnTo>
                      <a:lnTo>
                        <a:pt x="385" y="98"/>
                      </a:lnTo>
                      <a:lnTo>
                        <a:pt x="389" y="96"/>
                      </a:lnTo>
                      <a:lnTo>
                        <a:pt x="394" y="95"/>
                      </a:lnTo>
                      <a:lnTo>
                        <a:pt x="398" y="92"/>
                      </a:lnTo>
                      <a:lnTo>
                        <a:pt x="403" y="92"/>
                      </a:lnTo>
                      <a:lnTo>
                        <a:pt x="407" y="90"/>
                      </a:lnTo>
                      <a:lnTo>
                        <a:pt x="410" y="89"/>
                      </a:lnTo>
                      <a:lnTo>
                        <a:pt x="414" y="87"/>
                      </a:lnTo>
                      <a:lnTo>
                        <a:pt x="417" y="86"/>
                      </a:lnTo>
                      <a:lnTo>
                        <a:pt x="422" y="84"/>
                      </a:lnTo>
                      <a:lnTo>
                        <a:pt x="425" y="83"/>
                      </a:lnTo>
                      <a:lnTo>
                        <a:pt x="429" y="81"/>
                      </a:lnTo>
                      <a:lnTo>
                        <a:pt x="432" y="80"/>
                      </a:lnTo>
                      <a:lnTo>
                        <a:pt x="437" y="78"/>
                      </a:lnTo>
                      <a:lnTo>
                        <a:pt x="443" y="77"/>
                      </a:lnTo>
                      <a:lnTo>
                        <a:pt x="449" y="74"/>
                      </a:lnTo>
                      <a:lnTo>
                        <a:pt x="453" y="72"/>
                      </a:lnTo>
                      <a:lnTo>
                        <a:pt x="457" y="69"/>
                      </a:lnTo>
                      <a:lnTo>
                        <a:pt x="462" y="69"/>
                      </a:lnTo>
                      <a:lnTo>
                        <a:pt x="465" y="68"/>
                      </a:lnTo>
                      <a:lnTo>
                        <a:pt x="469" y="65"/>
                      </a:lnTo>
                      <a:lnTo>
                        <a:pt x="471" y="65"/>
                      </a:lnTo>
                      <a:lnTo>
                        <a:pt x="475" y="0"/>
                      </a:lnTo>
                      <a:lnTo>
                        <a:pt x="475"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031920" y="2695680"/>
                  <a:ext cx="424080" cy="460440"/>
                </a:xfrm>
                <a:custGeom>
                  <a:avLst/>
                  <a:gdLst/>
                  <a:ahLst/>
                  <a:rect l="l" t="t" r="r" b="b"/>
                  <a:pathLst>
                    <a:path w="534" h="580">
                      <a:moveTo>
                        <a:pt x="497" y="0"/>
                      </a:moveTo>
                      <a:lnTo>
                        <a:pt x="496" y="0"/>
                      </a:lnTo>
                      <a:lnTo>
                        <a:pt x="493" y="3"/>
                      </a:lnTo>
                      <a:lnTo>
                        <a:pt x="491" y="5"/>
                      </a:lnTo>
                      <a:lnTo>
                        <a:pt x="490" y="8"/>
                      </a:lnTo>
                      <a:lnTo>
                        <a:pt x="487" y="11"/>
                      </a:lnTo>
                      <a:lnTo>
                        <a:pt x="485" y="15"/>
                      </a:lnTo>
                      <a:lnTo>
                        <a:pt x="482" y="18"/>
                      </a:lnTo>
                      <a:lnTo>
                        <a:pt x="479" y="22"/>
                      </a:lnTo>
                      <a:lnTo>
                        <a:pt x="475" y="25"/>
                      </a:lnTo>
                      <a:lnTo>
                        <a:pt x="472" y="31"/>
                      </a:lnTo>
                      <a:lnTo>
                        <a:pt x="467" y="36"/>
                      </a:lnTo>
                      <a:lnTo>
                        <a:pt x="463" y="42"/>
                      </a:lnTo>
                      <a:lnTo>
                        <a:pt x="457" y="48"/>
                      </a:lnTo>
                      <a:lnTo>
                        <a:pt x="453" y="55"/>
                      </a:lnTo>
                      <a:lnTo>
                        <a:pt x="450" y="58"/>
                      </a:lnTo>
                      <a:lnTo>
                        <a:pt x="447" y="61"/>
                      </a:lnTo>
                      <a:lnTo>
                        <a:pt x="444" y="64"/>
                      </a:lnTo>
                      <a:lnTo>
                        <a:pt x="441" y="68"/>
                      </a:lnTo>
                      <a:lnTo>
                        <a:pt x="438" y="71"/>
                      </a:lnTo>
                      <a:lnTo>
                        <a:pt x="435" y="74"/>
                      </a:lnTo>
                      <a:lnTo>
                        <a:pt x="432" y="79"/>
                      </a:lnTo>
                      <a:lnTo>
                        <a:pt x="429" y="83"/>
                      </a:lnTo>
                      <a:lnTo>
                        <a:pt x="424" y="86"/>
                      </a:lnTo>
                      <a:lnTo>
                        <a:pt x="421" y="91"/>
                      </a:lnTo>
                      <a:lnTo>
                        <a:pt x="417" y="95"/>
                      </a:lnTo>
                      <a:lnTo>
                        <a:pt x="414" y="98"/>
                      </a:lnTo>
                      <a:lnTo>
                        <a:pt x="410" y="103"/>
                      </a:lnTo>
                      <a:lnTo>
                        <a:pt x="407" y="107"/>
                      </a:lnTo>
                      <a:lnTo>
                        <a:pt x="402" y="111"/>
                      </a:lnTo>
                      <a:lnTo>
                        <a:pt x="399" y="116"/>
                      </a:lnTo>
                      <a:lnTo>
                        <a:pt x="393" y="120"/>
                      </a:lnTo>
                      <a:lnTo>
                        <a:pt x="390" y="125"/>
                      </a:lnTo>
                      <a:lnTo>
                        <a:pt x="384" y="129"/>
                      </a:lnTo>
                      <a:lnTo>
                        <a:pt x="381" y="134"/>
                      </a:lnTo>
                      <a:lnTo>
                        <a:pt x="377" y="138"/>
                      </a:lnTo>
                      <a:lnTo>
                        <a:pt x="372" y="144"/>
                      </a:lnTo>
                      <a:lnTo>
                        <a:pt x="368" y="147"/>
                      </a:lnTo>
                      <a:lnTo>
                        <a:pt x="364" y="153"/>
                      </a:lnTo>
                      <a:lnTo>
                        <a:pt x="358" y="157"/>
                      </a:lnTo>
                      <a:lnTo>
                        <a:pt x="353" y="162"/>
                      </a:lnTo>
                      <a:lnTo>
                        <a:pt x="347" y="168"/>
                      </a:lnTo>
                      <a:lnTo>
                        <a:pt x="343" y="174"/>
                      </a:lnTo>
                      <a:lnTo>
                        <a:pt x="337" y="178"/>
                      </a:lnTo>
                      <a:lnTo>
                        <a:pt x="332" y="184"/>
                      </a:lnTo>
                      <a:lnTo>
                        <a:pt x="328" y="189"/>
                      </a:lnTo>
                      <a:lnTo>
                        <a:pt x="322" y="195"/>
                      </a:lnTo>
                      <a:lnTo>
                        <a:pt x="316" y="200"/>
                      </a:lnTo>
                      <a:lnTo>
                        <a:pt x="310" y="205"/>
                      </a:lnTo>
                      <a:lnTo>
                        <a:pt x="304" y="211"/>
                      </a:lnTo>
                      <a:lnTo>
                        <a:pt x="298" y="217"/>
                      </a:lnTo>
                      <a:lnTo>
                        <a:pt x="292" y="223"/>
                      </a:lnTo>
                      <a:lnTo>
                        <a:pt x="286" y="227"/>
                      </a:lnTo>
                      <a:lnTo>
                        <a:pt x="280" y="233"/>
                      </a:lnTo>
                      <a:lnTo>
                        <a:pt x="276" y="239"/>
                      </a:lnTo>
                      <a:lnTo>
                        <a:pt x="269" y="245"/>
                      </a:lnTo>
                      <a:lnTo>
                        <a:pt x="263" y="249"/>
                      </a:lnTo>
                      <a:lnTo>
                        <a:pt x="257" y="255"/>
                      </a:lnTo>
                      <a:lnTo>
                        <a:pt x="251" y="261"/>
                      </a:lnTo>
                      <a:lnTo>
                        <a:pt x="243" y="267"/>
                      </a:lnTo>
                      <a:lnTo>
                        <a:pt x="239" y="273"/>
                      </a:lnTo>
                      <a:lnTo>
                        <a:pt x="232" y="279"/>
                      </a:lnTo>
                      <a:lnTo>
                        <a:pt x="226" y="285"/>
                      </a:lnTo>
                      <a:lnTo>
                        <a:pt x="220" y="289"/>
                      </a:lnTo>
                      <a:lnTo>
                        <a:pt x="212" y="295"/>
                      </a:lnTo>
                      <a:lnTo>
                        <a:pt x="206" y="301"/>
                      </a:lnTo>
                      <a:lnTo>
                        <a:pt x="200" y="306"/>
                      </a:lnTo>
                      <a:lnTo>
                        <a:pt x="194" y="312"/>
                      </a:lnTo>
                      <a:lnTo>
                        <a:pt x="188" y="318"/>
                      </a:lnTo>
                      <a:lnTo>
                        <a:pt x="183" y="324"/>
                      </a:lnTo>
                      <a:lnTo>
                        <a:pt x="177" y="328"/>
                      </a:lnTo>
                      <a:lnTo>
                        <a:pt x="171" y="334"/>
                      </a:lnTo>
                      <a:lnTo>
                        <a:pt x="163" y="340"/>
                      </a:lnTo>
                      <a:lnTo>
                        <a:pt x="157" y="344"/>
                      </a:lnTo>
                      <a:lnTo>
                        <a:pt x="153" y="350"/>
                      </a:lnTo>
                      <a:lnTo>
                        <a:pt x="147" y="355"/>
                      </a:lnTo>
                      <a:lnTo>
                        <a:pt x="141" y="359"/>
                      </a:lnTo>
                      <a:lnTo>
                        <a:pt x="135" y="365"/>
                      </a:lnTo>
                      <a:lnTo>
                        <a:pt x="131" y="370"/>
                      </a:lnTo>
                      <a:lnTo>
                        <a:pt x="125" y="374"/>
                      </a:lnTo>
                      <a:lnTo>
                        <a:pt x="119" y="379"/>
                      </a:lnTo>
                      <a:lnTo>
                        <a:pt x="113" y="383"/>
                      </a:lnTo>
                      <a:lnTo>
                        <a:pt x="108" y="389"/>
                      </a:lnTo>
                      <a:lnTo>
                        <a:pt x="102" y="392"/>
                      </a:lnTo>
                      <a:lnTo>
                        <a:pt x="98" y="396"/>
                      </a:lnTo>
                      <a:lnTo>
                        <a:pt x="94" y="401"/>
                      </a:lnTo>
                      <a:lnTo>
                        <a:pt x="89" y="405"/>
                      </a:lnTo>
                      <a:lnTo>
                        <a:pt x="83" y="410"/>
                      </a:lnTo>
                      <a:lnTo>
                        <a:pt x="79" y="413"/>
                      </a:lnTo>
                      <a:lnTo>
                        <a:pt x="74" y="417"/>
                      </a:lnTo>
                      <a:lnTo>
                        <a:pt x="70" y="420"/>
                      </a:lnTo>
                      <a:lnTo>
                        <a:pt x="67" y="423"/>
                      </a:lnTo>
                      <a:lnTo>
                        <a:pt x="62" y="426"/>
                      </a:lnTo>
                      <a:lnTo>
                        <a:pt x="59" y="429"/>
                      </a:lnTo>
                      <a:lnTo>
                        <a:pt x="55" y="433"/>
                      </a:lnTo>
                      <a:lnTo>
                        <a:pt x="52" y="436"/>
                      </a:lnTo>
                      <a:lnTo>
                        <a:pt x="48" y="438"/>
                      </a:lnTo>
                      <a:lnTo>
                        <a:pt x="45" y="441"/>
                      </a:lnTo>
                      <a:lnTo>
                        <a:pt x="43" y="444"/>
                      </a:lnTo>
                      <a:lnTo>
                        <a:pt x="37" y="448"/>
                      </a:lnTo>
                      <a:lnTo>
                        <a:pt x="33" y="453"/>
                      </a:lnTo>
                      <a:lnTo>
                        <a:pt x="30" y="454"/>
                      </a:lnTo>
                      <a:lnTo>
                        <a:pt x="28" y="457"/>
                      </a:lnTo>
                      <a:lnTo>
                        <a:pt x="25" y="459"/>
                      </a:lnTo>
                      <a:lnTo>
                        <a:pt x="25" y="459"/>
                      </a:lnTo>
                      <a:lnTo>
                        <a:pt x="0" y="580"/>
                      </a:lnTo>
                      <a:lnTo>
                        <a:pt x="2" y="580"/>
                      </a:lnTo>
                      <a:lnTo>
                        <a:pt x="3" y="577"/>
                      </a:lnTo>
                      <a:lnTo>
                        <a:pt x="7" y="574"/>
                      </a:lnTo>
                      <a:lnTo>
                        <a:pt x="10" y="570"/>
                      </a:lnTo>
                      <a:lnTo>
                        <a:pt x="16" y="565"/>
                      </a:lnTo>
                      <a:lnTo>
                        <a:pt x="18" y="563"/>
                      </a:lnTo>
                      <a:lnTo>
                        <a:pt x="22" y="560"/>
                      </a:lnTo>
                      <a:lnTo>
                        <a:pt x="25" y="557"/>
                      </a:lnTo>
                      <a:lnTo>
                        <a:pt x="30" y="554"/>
                      </a:lnTo>
                      <a:lnTo>
                        <a:pt x="33" y="551"/>
                      </a:lnTo>
                      <a:lnTo>
                        <a:pt x="36" y="546"/>
                      </a:lnTo>
                      <a:lnTo>
                        <a:pt x="40" y="543"/>
                      </a:lnTo>
                      <a:lnTo>
                        <a:pt x="43" y="539"/>
                      </a:lnTo>
                      <a:lnTo>
                        <a:pt x="48" y="534"/>
                      </a:lnTo>
                      <a:lnTo>
                        <a:pt x="52" y="531"/>
                      </a:lnTo>
                      <a:lnTo>
                        <a:pt x="56" y="527"/>
                      </a:lnTo>
                      <a:lnTo>
                        <a:pt x="61" y="524"/>
                      </a:lnTo>
                      <a:lnTo>
                        <a:pt x="65" y="518"/>
                      </a:lnTo>
                      <a:lnTo>
                        <a:pt x="70" y="514"/>
                      </a:lnTo>
                      <a:lnTo>
                        <a:pt x="76" y="509"/>
                      </a:lnTo>
                      <a:lnTo>
                        <a:pt x="82" y="505"/>
                      </a:lnTo>
                      <a:lnTo>
                        <a:pt x="86" y="499"/>
                      </a:lnTo>
                      <a:lnTo>
                        <a:pt x="92" y="494"/>
                      </a:lnTo>
                      <a:lnTo>
                        <a:pt x="96" y="490"/>
                      </a:lnTo>
                      <a:lnTo>
                        <a:pt x="104" y="484"/>
                      </a:lnTo>
                      <a:lnTo>
                        <a:pt x="108" y="478"/>
                      </a:lnTo>
                      <a:lnTo>
                        <a:pt x="114" y="472"/>
                      </a:lnTo>
                      <a:lnTo>
                        <a:pt x="120" y="468"/>
                      </a:lnTo>
                      <a:lnTo>
                        <a:pt x="126" y="462"/>
                      </a:lnTo>
                      <a:lnTo>
                        <a:pt x="131" y="456"/>
                      </a:lnTo>
                      <a:lnTo>
                        <a:pt x="138" y="448"/>
                      </a:lnTo>
                      <a:lnTo>
                        <a:pt x="144" y="442"/>
                      </a:lnTo>
                      <a:lnTo>
                        <a:pt x="150" y="438"/>
                      </a:lnTo>
                      <a:lnTo>
                        <a:pt x="156" y="430"/>
                      </a:lnTo>
                      <a:lnTo>
                        <a:pt x="163" y="425"/>
                      </a:lnTo>
                      <a:lnTo>
                        <a:pt x="169" y="419"/>
                      </a:lnTo>
                      <a:lnTo>
                        <a:pt x="175" y="411"/>
                      </a:lnTo>
                      <a:lnTo>
                        <a:pt x="183" y="405"/>
                      </a:lnTo>
                      <a:lnTo>
                        <a:pt x="188" y="399"/>
                      </a:lnTo>
                      <a:lnTo>
                        <a:pt x="194" y="392"/>
                      </a:lnTo>
                      <a:lnTo>
                        <a:pt x="202" y="386"/>
                      </a:lnTo>
                      <a:lnTo>
                        <a:pt x="208" y="379"/>
                      </a:lnTo>
                      <a:lnTo>
                        <a:pt x="215" y="373"/>
                      </a:lnTo>
                      <a:lnTo>
                        <a:pt x="221" y="365"/>
                      </a:lnTo>
                      <a:lnTo>
                        <a:pt x="229" y="359"/>
                      </a:lnTo>
                      <a:lnTo>
                        <a:pt x="234" y="352"/>
                      </a:lnTo>
                      <a:lnTo>
                        <a:pt x="242" y="346"/>
                      </a:lnTo>
                      <a:lnTo>
                        <a:pt x="248" y="338"/>
                      </a:lnTo>
                      <a:lnTo>
                        <a:pt x="254" y="333"/>
                      </a:lnTo>
                      <a:lnTo>
                        <a:pt x="261" y="325"/>
                      </a:lnTo>
                      <a:lnTo>
                        <a:pt x="267" y="319"/>
                      </a:lnTo>
                      <a:lnTo>
                        <a:pt x="273" y="312"/>
                      </a:lnTo>
                      <a:lnTo>
                        <a:pt x="280" y="306"/>
                      </a:lnTo>
                      <a:lnTo>
                        <a:pt x="286" y="298"/>
                      </a:lnTo>
                      <a:lnTo>
                        <a:pt x="294" y="292"/>
                      </a:lnTo>
                      <a:lnTo>
                        <a:pt x="300" y="285"/>
                      </a:lnTo>
                      <a:lnTo>
                        <a:pt x="306" y="279"/>
                      </a:lnTo>
                      <a:lnTo>
                        <a:pt x="312" y="272"/>
                      </a:lnTo>
                      <a:lnTo>
                        <a:pt x="318" y="264"/>
                      </a:lnTo>
                      <a:lnTo>
                        <a:pt x="325" y="258"/>
                      </a:lnTo>
                      <a:lnTo>
                        <a:pt x="331" y="251"/>
                      </a:lnTo>
                      <a:lnTo>
                        <a:pt x="335" y="245"/>
                      </a:lnTo>
                      <a:lnTo>
                        <a:pt x="343" y="238"/>
                      </a:lnTo>
                      <a:lnTo>
                        <a:pt x="347" y="232"/>
                      </a:lnTo>
                      <a:lnTo>
                        <a:pt x="355" y="226"/>
                      </a:lnTo>
                      <a:lnTo>
                        <a:pt x="359" y="218"/>
                      </a:lnTo>
                      <a:lnTo>
                        <a:pt x="365" y="212"/>
                      </a:lnTo>
                      <a:lnTo>
                        <a:pt x="371" y="205"/>
                      </a:lnTo>
                      <a:lnTo>
                        <a:pt x="377" y="199"/>
                      </a:lnTo>
                      <a:lnTo>
                        <a:pt x="381" y="193"/>
                      </a:lnTo>
                      <a:lnTo>
                        <a:pt x="387" y="187"/>
                      </a:lnTo>
                      <a:lnTo>
                        <a:pt x="392" y="181"/>
                      </a:lnTo>
                      <a:lnTo>
                        <a:pt x="398" y="175"/>
                      </a:lnTo>
                      <a:lnTo>
                        <a:pt x="402" y="169"/>
                      </a:lnTo>
                      <a:lnTo>
                        <a:pt x="407" y="162"/>
                      </a:lnTo>
                      <a:lnTo>
                        <a:pt x="413" y="156"/>
                      </a:lnTo>
                      <a:lnTo>
                        <a:pt x="417" y="151"/>
                      </a:lnTo>
                      <a:lnTo>
                        <a:pt x="421" y="146"/>
                      </a:lnTo>
                      <a:lnTo>
                        <a:pt x="426" y="140"/>
                      </a:lnTo>
                      <a:lnTo>
                        <a:pt x="432" y="134"/>
                      </a:lnTo>
                      <a:lnTo>
                        <a:pt x="436" y="129"/>
                      </a:lnTo>
                      <a:lnTo>
                        <a:pt x="441" y="123"/>
                      </a:lnTo>
                      <a:lnTo>
                        <a:pt x="444" y="117"/>
                      </a:lnTo>
                      <a:lnTo>
                        <a:pt x="448" y="113"/>
                      </a:lnTo>
                      <a:lnTo>
                        <a:pt x="453" y="108"/>
                      </a:lnTo>
                      <a:lnTo>
                        <a:pt x="457" y="103"/>
                      </a:lnTo>
                      <a:lnTo>
                        <a:pt x="461" y="98"/>
                      </a:lnTo>
                      <a:lnTo>
                        <a:pt x="466" y="94"/>
                      </a:lnTo>
                      <a:lnTo>
                        <a:pt x="470" y="89"/>
                      </a:lnTo>
                      <a:lnTo>
                        <a:pt x="473" y="83"/>
                      </a:lnTo>
                      <a:lnTo>
                        <a:pt x="476" y="80"/>
                      </a:lnTo>
                      <a:lnTo>
                        <a:pt x="479" y="74"/>
                      </a:lnTo>
                      <a:lnTo>
                        <a:pt x="484" y="71"/>
                      </a:lnTo>
                      <a:lnTo>
                        <a:pt x="487" y="65"/>
                      </a:lnTo>
                      <a:lnTo>
                        <a:pt x="490" y="62"/>
                      </a:lnTo>
                      <a:lnTo>
                        <a:pt x="493" y="58"/>
                      </a:lnTo>
                      <a:lnTo>
                        <a:pt x="497" y="55"/>
                      </a:lnTo>
                      <a:lnTo>
                        <a:pt x="499" y="51"/>
                      </a:lnTo>
                      <a:lnTo>
                        <a:pt x="502" y="48"/>
                      </a:lnTo>
                      <a:lnTo>
                        <a:pt x="505" y="43"/>
                      </a:lnTo>
                      <a:lnTo>
                        <a:pt x="507" y="40"/>
                      </a:lnTo>
                      <a:lnTo>
                        <a:pt x="512" y="34"/>
                      </a:lnTo>
                      <a:lnTo>
                        <a:pt x="516" y="30"/>
                      </a:lnTo>
                      <a:lnTo>
                        <a:pt x="519" y="24"/>
                      </a:lnTo>
                      <a:lnTo>
                        <a:pt x="522" y="19"/>
                      </a:lnTo>
                      <a:lnTo>
                        <a:pt x="527" y="15"/>
                      </a:lnTo>
                      <a:lnTo>
                        <a:pt x="528" y="12"/>
                      </a:lnTo>
                      <a:lnTo>
                        <a:pt x="531" y="9"/>
                      </a:lnTo>
                      <a:lnTo>
                        <a:pt x="534" y="8"/>
                      </a:lnTo>
                      <a:lnTo>
                        <a:pt x="497" y="0"/>
                      </a:lnTo>
                      <a:lnTo>
                        <a:pt x="49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960640" y="2384280"/>
                  <a:ext cx="303120" cy="311400"/>
                </a:xfrm>
                <a:custGeom>
                  <a:avLst/>
                  <a:gdLst/>
                  <a:ahLst/>
                  <a:rect l="l" t="t" r="r" b="b"/>
                  <a:pathLst>
                    <a:path w="383" h="392">
                      <a:moveTo>
                        <a:pt x="383" y="0"/>
                      </a:moveTo>
                      <a:lnTo>
                        <a:pt x="381" y="0"/>
                      </a:lnTo>
                      <a:lnTo>
                        <a:pt x="380" y="2"/>
                      </a:lnTo>
                      <a:lnTo>
                        <a:pt x="375" y="3"/>
                      </a:lnTo>
                      <a:lnTo>
                        <a:pt x="372" y="8"/>
                      </a:lnTo>
                      <a:lnTo>
                        <a:pt x="369" y="9"/>
                      </a:lnTo>
                      <a:lnTo>
                        <a:pt x="367" y="12"/>
                      </a:lnTo>
                      <a:lnTo>
                        <a:pt x="364" y="15"/>
                      </a:lnTo>
                      <a:lnTo>
                        <a:pt x="361" y="18"/>
                      </a:lnTo>
                      <a:lnTo>
                        <a:pt x="356" y="21"/>
                      </a:lnTo>
                      <a:lnTo>
                        <a:pt x="353" y="26"/>
                      </a:lnTo>
                      <a:lnTo>
                        <a:pt x="349" y="29"/>
                      </a:lnTo>
                      <a:lnTo>
                        <a:pt x="344" y="33"/>
                      </a:lnTo>
                      <a:lnTo>
                        <a:pt x="338" y="37"/>
                      </a:lnTo>
                      <a:lnTo>
                        <a:pt x="334" y="42"/>
                      </a:lnTo>
                      <a:lnTo>
                        <a:pt x="328" y="46"/>
                      </a:lnTo>
                      <a:lnTo>
                        <a:pt x="322" y="51"/>
                      </a:lnTo>
                      <a:lnTo>
                        <a:pt x="316" y="55"/>
                      </a:lnTo>
                      <a:lnTo>
                        <a:pt x="310" y="61"/>
                      </a:lnTo>
                      <a:lnTo>
                        <a:pt x="303" y="66"/>
                      </a:lnTo>
                      <a:lnTo>
                        <a:pt x="297" y="73"/>
                      </a:lnTo>
                      <a:lnTo>
                        <a:pt x="294" y="75"/>
                      </a:lnTo>
                      <a:lnTo>
                        <a:pt x="289" y="78"/>
                      </a:lnTo>
                      <a:lnTo>
                        <a:pt x="286" y="81"/>
                      </a:lnTo>
                      <a:lnTo>
                        <a:pt x="282" y="83"/>
                      </a:lnTo>
                      <a:lnTo>
                        <a:pt x="277" y="86"/>
                      </a:lnTo>
                      <a:lnTo>
                        <a:pt x="275" y="89"/>
                      </a:lnTo>
                      <a:lnTo>
                        <a:pt x="270" y="92"/>
                      </a:lnTo>
                      <a:lnTo>
                        <a:pt x="267" y="97"/>
                      </a:lnTo>
                      <a:lnTo>
                        <a:pt x="263" y="100"/>
                      </a:lnTo>
                      <a:lnTo>
                        <a:pt x="258" y="103"/>
                      </a:lnTo>
                      <a:lnTo>
                        <a:pt x="254" y="106"/>
                      </a:lnTo>
                      <a:lnTo>
                        <a:pt x="249" y="110"/>
                      </a:lnTo>
                      <a:lnTo>
                        <a:pt x="245" y="113"/>
                      </a:lnTo>
                      <a:lnTo>
                        <a:pt x="240" y="118"/>
                      </a:lnTo>
                      <a:lnTo>
                        <a:pt x="236" y="121"/>
                      </a:lnTo>
                      <a:lnTo>
                        <a:pt x="231" y="125"/>
                      </a:lnTo>
                      <a:lnTo>
                        <a:pt x="227" y="128"/>
                      </a:lnTo>
                      <a:lnTo>
                        <a:pt x="221" y="131"/>
                      </a:lnTo>
                      <a:lnTo>
                        <a:pt x="217" y="135"/>
                      </a:lnTo>
                      <a:lnTo>
                        <a:pt x="212" y="138"/>
                      </a:lnTo>
                      <a:lnTo>
                        <a:pt x="206" y="143"/>
                      </a:lnTo>
                      <a:lnTo>
                        <a:pt x="202" y="146"/>
                      </a:lnTo>
                      <a:lnTo>
                        <a:pt x="197" y="150"/>
                      </a:lnTo>
                      <a:lnTo>
                        <a:pt x="191" y="155"/>
                      </a:lnTo>
                      <a:lnTo>
                        <a:pt x="185" y="158"/>
                      </a:lnTo>
                      <a:lnTo>
                        <a:pt x="181" y="162"/>
                      </a:lnTo>
                      <a:lnTo>
                        <a:pt x="175" y="167"/>
                      </a:lnTo>
                      <a:lnTo>
                        <a:pt x="171" y="171"/>
                      </a:lnTo>
                      <a:lnTo>
                        <a:pt x="165" y="174"/>
                      </a:lnTo>
                      <a:lnTo>
                        <a:pt x="160" y="178"/>
                      </a:lnTo>
                      <a:lnTo>
                        <a:pt x="156" y="181"/>
                      </a:lnTo>
                      <a:lnTo>
                        <a:pt x="150" y="186"/>
                      </a:lnTo>
                      <a:lnTo>
                        <a:pt x="144" y="190"/>
                      </a:lnTo>
                      <a:lnTo>
                        <a:pt x="139" y="193"/>
                      </a:lnTo>
                      <a:lnTo>
                        <a:pt x="134" y="198"/>
                      </a:lnTo>
                      <a:lnTo>
                        <a:pt x="129" y="202"/>
                      </a:lnTo>
                      <a:lnTo>
                        <a:pt x="123" y="205"/>
                      </a:lnTo>
                      <a:lnTo>
                        <a:pt x="119" y="210"/>
                      </a:lnTo>
                      <a:lnTo>
                        <a:pt x="114" y="213"/>
                      </a:lnTo>
                      <a:lnTo>
                        <a:pt x="110" y="217"/>
                      </a:lnTo>
                      <a:lnTo>
                        <a:pt x="104" y="220"/>
                      </a:lnTo>
                      <a:lnTo>
                        <a:pt x="99" y="224"/>
                      </a:lnTo>
                      <a:lnTo>
                        <a:pt x="93" y="227"/>
                      </a:lnTo>
                      <a:lnTo>
                        <a:pt x="89" y="232"/>
                      </a:lnTo>
                      <a:lnTo>
                        <a:pt x="85" y="235"/>
                      </a:lnTo>
                      <a:lnTo>
                        <a:pt x="80" y="239"/>
                      </a:lnTo>
                      <a:lnTo>
                        <a:pt x="74" y="242"/>
                      </a:lnTo>
                      <a:lnTo>
                        <a:pt x="71" y="247"/>
                      </a:lnTo>
                      <a:lnTo>
                        <a:pt x="67" y="250"/>
                      </a:lnTo>
                      <a:lnTo>
                        <a:pt x="62" y="253"/>
                      </a:lnTo>
                      <a:lnTo>
                        <a:pt x="56" y="256"/>
                      </a:lnTo>
                      <a:lnTo>
                        <a:pt x="52" y="259"/>
                      </a:lnTo>
                      <a:lnTo>
                        <a:pt x="47" y="262"/>
                      </a:lnTo>
                      <a:lnTo>
                        <a:pt x="45" y="265"/>
                      </a:lnTo>
                      <a:lnTo>
                        <a:pt x="40" y="267"/>
                      </a:lnTo>
                      <a:lnTo>
                        <a:pt x="37" y="272"/>
                      </a:lnTo>
                      <a:lnTo>
                        <a:pt x="33" y="273"/>
                      </a:lnTo>
                      <a:lnTo>
                        <a:pt x="30" y="276"/>
                      </a:lnTo>
                      <a:lnTo>
                        <a:pt x="25" y="279"/>
                      </a:lnTo>
                      <a:lnTo>
                        <a:pt x="22" y="282"/>
                      </a:lnTo>
                      <a:lnTo>
                        <a:pt x="18" y="284"/>
                      </a:lnTo>
                      <a:lnTo>
                        <a:pt x="15" y="287"/>
                      </a:lnTo>
                      <a:lnTo>
                        <a:pt x="12" y="290"/>
                      </a:lnTo>
                      <a:lnTo>
                        <a:pt x="10" y="291"/>
                      </a:lnTo>
                      <a:lnTo>
                        <a:pt x="4" y="296"/>
                      </a:lnTo>
                      <a:lnTo>
                        <a:pt x="0" y="299"/>
                      </a:lnTo>
                      <a:lnTo>
                        <a:pt x="0" y="302"/>
                      </a:lnTo>
                      <a:lnTo>
                        <a:pt x="0" y="305"/>
                      </a:lnTo>
                      <a:lnTo>
                        <a:pt x="0" y="308"/>
                      </a:lnTo>
                      <a:lnTo>
                        <a:pt x="0" y="309"/>
                      </a:lnTo>
                      <a:lnTo>
                        <a:pt x="0" y="392"/>
                      </a:lnTo>
                      <a:lnTo>
                        <a:pt x="0" y="391"/>
                      </a:lnTo>
                      <a:lnTo>
                        <a:pt x="0" y="389"/>
                      </a:lnTo>
                      <a:lnTo>
                        <a:pt x="0" y="388"/>
                      </a:lnTo>
                      <a:lnTo>
                        <a:pt x="0" y="385"/>
                      </a:lnTo>
                      <a:lnTo>
                        <a:pt x="3" y="383"/>
                      </a:lnTo>
                      <a:lnTo>
                        <a:pt x="6" y="382"/>
                      </a:lnTo>
                      <a:lnTo>
                        <a:pt x="9" y="379"/>
                      </a:lnTo>
                      <a:lnTo>
                        <a:pt x="13" y="376"/>
                      </a:lnTo>
                      <a:lnTo>
                        <a:pt x="18" y="373"/>
                      </a:lnTo>
                      <a:lnTo>
                        <a:pt x="22" y="370"/>
                      </a:lnTo>
                      <a:lnTo>
                        <a:pt x="27" y="365"/>
                      </a:lnTo>
                      <a:lnTo>
                        <a:pt x="33" y="361"/>
                      </a:lnTo>
                      <a:lnTo>
                        <a:pt x="39" y="357"/>
                      </a:lnTo>
                      <a:lnTo>
                        <a:pt x="45" y="354"/>
                      </a:lnTo>
                      <a:lnTo>
                        <a:pt x="50" y="348"/>
                      </a:lnTo>
                      <a:lnTo>
                        <a:pt x="56" y="343"/>
                      </a:lnTo>
                      <a:lnTo>
                        <a:pt x="59" y="340"/>
                      </a:lnTo>
                      <a:lnTo>
                        <a:pt x="62" y="337"/>
                      </a:lnTo>
                      <a:lnTo>
                        <a:pt x="67" y="334"/>
                      </a:lnTo>
                      <a:lnTo>
                        <a:pt x="70" y="333"/>
                      </a:lnTo>
                      <a:lnTo>
                        <a:pt x="73" y="328"/>
                      </a:lnTo>
                      <a:lnTo>
                        <a:pt x="77" y="325"/>
                      </a:lnTo>
                      <a:lnTo>
                        <a:pt x="80" y="322"/>
                      </a:lnTo>
                      <a:lnTo>
                        <a:pt x="85" y="321"/>
                      </a:lnTo>
                      <a:lnTo>
                        <a:pt x="88" y="316"/>
                      </a:lnTo>
                      <a:lnTo>
                        <a:pt x="92" y="313"/>
                      </a:lnTo>
                      <a:lnTo>
                        <a:pt x="95" y="311"/>
                      </a:lnTo>
                      <a:lnTo>
                        <a:pt x="99" y="309"/>
                      </a:lnTo>
                      <a:lnTo>
                        <a:pt x="104" y="305"/>
                      </a:lnTo>
                      <a:lnTo>
                        <a:pt x="107" y="302"/>
                      </a:lnTo>
                      <a:lnTo>
                        <a:pt x="111" y="299"/>
                      </a:lnTo>
                      <a:lnTo>
                        <a:pt x="114" y="294"/>
                      </a:lnTo>
                      <a:lnTo>
                        <a:pt x="119" y="291"/>
                      </a:lnTo>
                      <a:lnTo>
                        <a:pt x="123" y="287"/>
                      </a:lnTo>
                      <a:lnTo>
                        <a:pt x="128" y="284"/>
                      </a:lnTo>
                      <a:lnTo>
                        <a:pt x="132" y="281"/>
                      </a:lnTo>
                      <a:lnTo>
                        <a:pt x="135" y="276"/>
                      </a:lnTo>
                      <a:lnTo>
                        <a:pt x="139" y="273"/>
                      </a:lnTo>
                      <a:lnTo>
                        <a:pt x="144" y="269"/>
                      </a:lnTo>
                      <a:lnTo>
                        <a:pt x="148" y="266"/>
                      </a:lnTo>
                      <a:lnTo>
                        <a:pt x="151" y="262"/>
                      </a:lnTo>
                      <a:lnTo>
                        <a:pt x="156" y="259"/>
                      </a:lnTo>
                      <a:lnTo>
                        <a:pt x="160" y="254"/>
                      </a:lnTo>
                      <a:lnTo>
                        <a:pt x="166" y="251"/>
                      </a:lnTo>
                      <a:lnTo>
                        <a:pt x="169" y="247"/>
                      </a:lnTo>
                      <a:lnTo>
                        <a:pt x="174" y="242"/>
                      </a:lnTo>
                      <a:lnTo>
                        <a:pt x="178" y="238"/>
                      </a:lnTo>
                      <a:lnTo>
                        <a:pt x="183" y="235"/>
                      </a:lnTo>
                      <a:lnTo>
                        <a:pt x="187" y="230"/>
                      </a:lnTo>
                      <a:lnTo>
                        <a:pt x="191" y="226"/>
                      </a:lnTo>
                      <a:lnTo>
                        <a:pt x="196" y="221"/>
                      </a:lnTo>
                      <a:lnTo>
                        <a:pt x="200" y="219"/>
                      </a:lnTo>
                      <a:lnTo>
                        <a:pt x="205" y="213"/>
                      </a:lnTo>
                      <a:lnTo>
                        <a:pt x="209" y="210"/>
                      </a:lnTo>
                      <a:lnTo>
                        <a:pt x="212" y="205"/>
                      </a:lnTo>
                      <a:lnTo>
                        <a:pt x="218" y="201"/>
                      </a:lnTo>
                      <a:lnTo>
                        <a:pt x="223" y="196"/>
                      </a:lnTo>
                      <a:lnTo>
                        <a:pt x="227" y="192"/>
                      </a:lnTo>
                      <a:lnTo>
                        <a:pt x="230" y="187"/>
                      </a:lnTo>
                      <a:lnTo>
                        <a:pt x="236" y="184"/>
                      </a:lnTo>
                      <a:lnTo>
                        <a:pt x="239" y="180"/>
                      </a:lnTo>
                      <a:lnTo>
                        <a:pt x="243" y="175"/>
                      </a:lnTo>
                      <a:lnTo>
                        <a:pt x="248" y="171"/>
                      </a:lnTo>
                      <a:lnTo>
                        <a:pt x="252" y="167"/>
                      </a:lnTo>
                      <a:lnTo>
                        <a:pt x="255" y="164"/>
                      </a:lnTo>
                      <a:lnTo>
                        <a:pt x="260" y="159"/>
                      </a:lnTo>
                      <a:lnTo>
                        <a:pt x="264" y="155"/>
                      </a:lnTo>
                      <a:lnTo>
                        <a:pt x="269" y="152"/>
                      </a:lnTo>
                      <a:lnTo>
                        <a:pt x="272" y="147"/>
                      </a:lnTo>
                      <a:lnTo>
                        <a:pt x="276" y="143"/>
                      </a:lnTo>
                      <a:lnTo>
                        <a:pt x="279" y="138"/>
                      </a:lnTo>
                      <a:lnTo>
                        <a:pt x="283" y="135"/>
                      </a:lnTo>
                      <a:lnTo>
                        <a:pt x="288" y="131"/>
                      </a:lnTo>
                      <a:lnTo>
                        <a:pt x="291" y="128"/>
                      </a:lnTo>
                      <a:lnTo>
                        <a:pt x="295" y="124"/>
                      </a:lnTo>
                      <a:lnTo>
                        <a:pt x="300" y="121"/>
                      </a:lnTo>
                      <a:lnTo>
                        <a:pt x="303" y="118"/>
                      </a:lnTo>
                      <a:lnTo>
                        <a:pt x="306" y="113"/>
                      </a:lnTo>
                      <a:lnTo>
                        <a:pt x="309" y="110"/>
                      </a:lnTo>
                      <a:lnTo>
                        <a:pt x="312" y="107"/>
                      </a:lnTo>
                      <a:lnTo>
                        <a:pt x="319" y="100"/>
                      </a:lnTo>
                      <a:lnTo>
                        <a:pt x="325" y="94"/>
                      </a:lnTo>
                      <a:lnTo>
                        <a:pt x="331" y="88"/>
                      </a:lnTo>
                      <a:lnTo>
                        <a:pt x="335" y="82"/>
                      </a:lnTo>
                      <a:lnTo>
                        <a:pt x="340" y="76"/>
                      </a:lnTo>
                      <a:lnTo>
                        <a:pt x="346" y="73"/>
                      </a:lnTo>
                      <a:lnTo>
                        <a:pt x="349" y="69"/>
                      </a:lnTo>
                      <a:lnTo>
                        <a:pt x="353" y="66"/>
                      </a:lnTo>
                      <a:lnTo>
                        <a:pt x="356" y="61"/>
                      </a:lnTo>
                      <a:lnTo>
                        <a:pt x="359" y="58"/>
                      </a:lnTo>
                      <a:lnTo>
                        <a:pt x="362" y="55"/>
                      </a:lnTo>
                      <a:lnTo>
                        <a:pt x="364" y="54"/>
                      </a:lnTo>
                      <a:lnTo>
                        <a:pt x="383" y="0"/>
                      </a:lnTo>
                      <a:lnTo>
                        <a:pt x="383"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
              <p:cNvGrpSpPr/>
              <p:nvPr/>
            </p:nvGrpSpPr>
            <p:grpSpPr>
              <a:xfrm>
                <a:off x="2643120" y="1644480"/>
                <a:ext cx="826920" cy="560520"/>
                <a:chOff x="2643120" y="1644480"/>
                <a:chExt cx="826920" cy="560520"/>
              </a:xfrm>
            </p:grpSpPr>
            <p:sp>
              <p:nvSpPr>
                <p:cNvPr id="297" name=""/>
                <p:cNvSpPr/>
                <p:nvPr/>
              </p:nvSpPr>
              <p:spPr>
                <a:xfrm>
                  <a:off x="2697840" y="1732320"/>
                  <a:ext cx="729000" cy="472680"/>
                </a:xfrm>
                <a:custGeom>
                  <a:avLst/>
                  <a:gdLst/>
                  <a:ahLst/>
                  <a:rect l="l" t="t" r="r" b="b"/>
                  <a:pathLst>
                    <a:path w="797" h="516">
                      <a:moveTo>
                        <a:pt x="398" y="0"/>
                      </a:moveTo>
                      <a:lnTo>
                        <a:pt x="358" y="2"/>
                      </a:lnTo>
                      <a:lnTo>
                        <a:pt x="318" y="6"/>
                      </a:lnTo>
                      <a:lnTo>
                        <a:pt x="280" y="12"/>
                      </a:lnTo>
                      <a:lnTo>
                        <a:pt x="244" y="20"/>
                      </a:lnTo>
                      <a:lnTo>
                        <a:pt x="209" y="31"/>
                      </a:lnTo>
                      <a:lnTo>
                        <a:pt x="176" y="45"/>
                      </a:lnTo>
                      <a:lnTo>
                        <a:pt x="146" y="59"/>
                      </a:lnTo>
                      <a:lnTo>
                        <a:pt x="117" y="75"/>
                      </a:lnTo>
                      <a:lnTo>
                        <a:pt x="91" y="94"/>
                      </a:lnTo>
                      <a:lnTo>
                        <a:pt x="69" y="114"/>
                      </a:lnTo>
                      <a:lnTo>
                        <a:pt x="49" y="134"/>
                      </a:lnTo>
                      <a:lnTo>
                        <a:pt x="31" y="157"/>
                      </a:lnTo>
                      <a:lnTo>
                        <a:pt x="18" y="181"/>
                      </a:lnTo>
                      <a:lnTo>
                        <a:pt x="8" y="205"/>
                      </a:lnTo>
                      <a:lnTo>
                        <a:pt x="3" y="231"/>
                      </a:lnTo>
                      <a:lnTo>
                        <a:pt x="0" y="258"/>
                      </a:lnTo>
                      <a:lnTo>
                        <a:pt x="3" y="284"/>
                      </a:lnTo>
                      <a:lnTo>
                        <a:pt x="8" y="310"/>
                      </a:lnTo>
                      <a:lnTo>
                        <a:pt x="18" y="334"/>
                      </a:lnTo>
                      <a:lnTo>
                        <a:pt x="31" y="358"/>
                      </a:lnTo>
                      <a:lnTo>
                        <a:pt x="49" y="381"/>
                      </a:lnTo>
                      <a:lnTo>
                        <a:pt x="69" y="402"/>
                      </a:lnTo>
                      <a:lnTo>
                        <a:pt x="91" y="422"/>
                      </a:lnTo>
                      <a:lnTo>
                        <a:pt x="117" y="440"/>
                      </a:lnTo>
                      <a:lnTo>
                        <a:pt x="146" y="457"/>
                      </a:lnTo>
                      <a:lnTo>
                        <a:pt x="176" y="472"/>
                      </a:lnTo>
                      <a:lnTo>
                        <a:pt x="209" y="485"/>
                      </a:lnTo>
                      <a:lnTo>
                        <a:pt x="244" y="496"/>
                      </a:lnTo>
                      <a:lnTo>
                        <a:pt x="280" y="504"/>
                      </a:lnTo>
                      <a:lnTo>
                        <a:pt x="318" y="511"/>
                      </a:lnTo>
                      <a:lnTo>
                        <a:pt x="358" y="515"/>
                      </a:lnTo>
                      <a:lnTo>
                        <a:pt x="398" y="516"/>
                      </a:lnTo>
                      <a:lnTo>
                        <a:pt x="438" y="515"/>
                      </a:lnTo>
                      <a:lnTo>
                        <a:pt x="478" y="511"/>
                      </a:lnTo>
                      <a:lnTo>
                        <a:pt x="516" y="504"/>
                      </a:lnTo>
                      <a:lnTo>
                        <a:pt x="553" y="496"/>
                      </a:lnTo>
                      <a:lnTo>
                        <a:pt x="588" y="485"/>
                      </a:lnTo>
                      <a:lnTo>
                        <a:pt x="620" y="472"/>
                      </a:lnTo>
                      <a:lnTo>
                        <a:pt x="651" y="457"/>
                      </a:lnTo>
                      <a:lnTo>
                        <a:pt x="681" y="440"/>
                      </a:lnTo>
                      <a:lnTo>
                        <a:pt x="706" y="422"/>
                      </a:lnTo>
                      <a:lnTo>
                        <a:pt x="729" y="402"/>
                      </a:lnTo>
                      <a:lnTo>
                        <a:pt x="749" y="381"/>
                      </a:lnTo>
                      <a:lnTo>
                        <a:pt x="766" y="358"/>
                      </a:lnTo>
                      <a:lnTo>
                        <a:pt x="780" y="334"/>
                      </a:lnTo>
                      <a:lnTo>
                        <a:pt x="789" y="310"/>
                      </a:lnTo>
                      <a:lnTo>
                        <a:pt x="794" y="284"/>
                      </a:lnTo>
                      <a:lnTo>
                        <a:pt x="797" y="258"/>
                      </a:lnTo>
                      <a:lnTo>
                        <a:pt x="794" y="231"/>
                      </a:lnTo>
                      <a:lnTo>
                        <a:pt x="789" y="205"/>
                      </a:lnTo>
                      <a:lnTo>
                        <a:pt x="780" y="181"/>
                      </a:lnTo>
                      <a:lnTo>
                        <a:pt x="766" y="157"/>
                      </a:lnTo>
                      <a:lnTo>
                        <a:pt x="749" y="134"/>
                      </a:lnTo>
                      <a:lnTo>
                        <a:pt x="729" y="114"/>
                      </a:lnTo>
                      <a:lnTo>
                        <a:pt x="706" y="94"/>
                      </a:lnTo>
                      <a:lnTo>
                        <a:pt x="681" y="75"/>
                      </a:lnTo>
                      <a:lnTo>
                        <a:pt x="651" y="59"/>
                      </a:lnTo>
                      <a:lnTo>
                        <a:pt x="620" y="45"/>
                      </a:lnTo>
                      <a:lnTo>
                        <a:pt x="588" y="31"/>
                      </a:lnTo>
                      <a:lnTo>
                        <a:pt x="553" y="20"/>
                      </a:lnTo>
                      <a:lnTo>
                        <a:pt x="516" y="12"/>
                      </a:lnTo>
                      <a:lnTo>
                        <a:pt x="478" y="6"/>
                      </a:lnTo>
                      <a:lnTo>
                        <a:pt x="438" y="2"/>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41040" y="1774440"/>
                  <a:ext cx="643320" cy="387360"/>
                </a:xfrm>
                <a:custGeom>
                  <a:avLst/>
                  <a:gdLst/>
                  <a:ahLst/>
                  <a:rect l="l" t="t" r="r" b="b"/>
                  <a:pathLst>
                    <a:path w="703" h="423">
                      <a:moveTo>
                        <a:pt x="0" y="212"/>
                      </a:moveTo>
                      <a:lnTo>
                        <a:pt x="2" y="190"/>
                      </a:lnTo>
                      <a:lnTo>
                        <a:pt x="7" y="169"/>
                      </a:lnTo>
                      <a:lnTo>
                        <a:pt x="16" y="149"/>
                      </a:lnTo>
                      <a:lnTo>
                        <a:pt x="28" y="130"/>
                      </a:lnTo>
                      <a:lnTo>
                        <a:pt x="43" y="111"/>
                      </a:lnTo>
                      <a:lnTo>
                        <a:pt x="61" y="94"/>
                      </a:lnTo>
                      <a:lnTo>
                        <a:pt x="81" y="78"/>
                      </a:lnTo>
                      <a:lnTo>
                        <a:pt x="103" y="62"/>
                      </a:lnTo>
                      <a:lnTo>
                        <a:pt x="129" y="48"/>
                      </a:lnTo>
                      <a:lnTo>
                        <a:pt x="156" y="36"/>
                      </a:lnTo>
                      <a:lnTo>
                        <a:pt x="184" y="25"/>
                      </a:lnTo>
                      <a:lnTo>
                        <a:pt x="214" y="16"/>
                      </a:lnTo>
                      <a:lnTo>
                        <a:pt x="247" y="9"/>
                      </a:lnTo>
                      <a:lnTo>
                        <a:pt x="280" y="4"/>
                      </a:lnTo>
                      <a:lnTo>
                        <a:pt x="315" y="1"/>
                      </a:lnTo>
                      <a:lnTo>
                        <a:pt x="351" y="0"/>
                      </a:lnTo>
                      <a:lnTo>
                        <a:pt x="387" y="1"/>
                      </a:lnTo>
                      <a:lnTo>
                        <a:pt x="422" y="4"/>
                      </a:lnTo>
                      <a:lnTo>
                        <a:pt x="455" y="9"/>
                      </a:lnTo>
                      <a:lnTo>
                        <a:pt x="488" y="16"/>
                      </a:lnTo>
                      <a:lnTo>
                        <a:pt x="518" y="25"/>
                      </a:lnTo>
                      <a:lnTo>
                        <a:pt x="548" y="36"/>
                      </a:lnTo>
                      <a:lnTo>
                        <a:pt x="575" y="48"/>
                      </a:lnTo>
                      <a:lnTo>
                        <a:pt x="600" y="62"/>
                      </a:lnTo>
                      <a:lnTo>
                        <a:pt x="623" y="78"/>
                      </a:lnTo>
                      <a:lnTo>
                        <a:pt x="643" y="94"/>
                      </a:lnTo>
                      <a:lnTo>
                        <a:pt x="660" y="111"/>
                      </a:lnTo>
                      <a:lnTo>
                        <a:pt x="675" y="130"/>
                      </a:lnTo>
                      <a:lnTo>
                        <a:pt x="687" y="149"/>
                      </a:lnTo>
                      <a:lnTo>
                        <a:pt x="696" y="169"/>
                      </a:lnTo>
                      <a:lnTo>
                        <a:pt x="702" y="190"/>
                      </a:lnTo>
                      <a:lnTo>
                        <a:pt x="703" y="212"/>
                      </a:lnTo>
                      <a:lnTo>
                        <a:pt x="702" y="233"/>
                      </a:lnTo>
                      <a:lnTo>
                        <a:pt x="696" y="255"/>
                      </a:lnTo>
                      <a:lnTo>
                        <a:pt x="687" y="275"/>
                      </a:lnTo>
                      <a:lnTo>
                        <a:pt x="675" y="293"/>
                      </a:lnTo>
                      <a:lnTo>
                        <a:pt x="660" y="312"/>
                      </a:lnTo>
                      <a:lnTo>
                        <a:pt x="643" y="330"/>
                      </a:lnTo>
                      <a:lnTo>
                        <a:pt x="623" y="346"/>
                      </a:lnTo>
                      <a:lnTo>
                        <a:pt x="600" y="362"/>
                      </a:lnTo>
                      <a:lnTo>
                        <a:pt x="575" y="375"/>
                      </a:lnTo>
                      <a:lnTo>
                        <a:pt x="548" y="387"/>
                      </a:lnTo>
                      <a:lnTo>
                        <a:pt x="518" y="398"/>
                      </a:lnTo>
                      <a:lnTo>
                        <a:pt x="488" y="407"/>
                      </a:lnTo>
                      <a:lnTo>
                        <a:pt x="455" y="414"/>
                      </a:lnTo>
                      <a:lnTo>
                        <a:pt x="422" y="419"/>
                      </a:lnTo>
                      <a:lnTo>
                        <a:pt x="387" y="422"/>
                      </a:lnTo>
                      <a:lnTo>
                        <a:pt x="351" y="423"/>
                      </a:lnTo>
                      <a:lnTo>
                        <a:pt x="315" y="422"/>
                      </a:lnTo>
                      <a:lnTo>
                        <a:pt x="280" y="419"/>
                      </a:lnTo>
                      <a:lnTo>
                        <a:pt x="247" y="414"/>
                      </a:lnTo>
                      <a:lnTo>
                        <a:pt x="214" y="407"/>
                      </a:lnTo>
                      <a:lnTo>
                        <a:pt x="184" y="398"/>
                      </a:lnTo>
                      <a:lnTo>
                        <a:pt x="156" y="387"/>
                      </a:lnTo>
                      <a:lnTo>
                        <a:pt x="129" y="375"/>
                      </a:lnTo>
                      <a:lnTo>
                        <a:pt x="103" y="362"/>
                      </a:lnTo>
                      <a:lnTo>
                        <a:pt x="81" y="346"/>
                      </a:lnTo>
                      <a:lnTo>
                        <a:pt x="61" y="330"/>
                      </a:lnTo>
                      <a:lnTo>
                        <a:pt x="43" y="312"/>
                      </a:lnTo>
                      <a:lnTo>
                        <a:pt x="28" y="293"/>
                      </a:lnTo>
                      <a:lnTo>
                        <a:pt x="16" y="275"/>
                      </a:lnTo>
                      <a:lnTo>
                        <a:pt x="7" y="255"/>
                      </a:lnTo>
                      <a:lnTo>
                        <a:pt x="2" y="233"/>
                      </a:lnTo>
                      <a:lnTo>
                        <a:pt x="0"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859120" y="1761480"/>
                  <a:ext cx="400680" cy="402840"/>
                </a:xfrm>
                <a:custGeom>
                  <a:avLst/>
                  <a:gdLst/>
                  <a:ahLst/>
                  <a:rect l="l" t="t" r="r" b="b"/>
                  <a:pathLst>
                    <a:path w="438" h="440">
                      <a:moveTo>
                        <a:pt x="0" y="220"/>
                      </a:moveTo>
                      <a:lnTo>
                        <a:pt x="1" y="243"/>
                      </a:lnTo>
                      <a:lnTo>
                        <a:pt x="4" y="264"/>
                      </a:lnTo>
                      <a:lnTo>
                        <a:pt x="9" y="286"/>
                      </a:lnTo>
                      <a:lnTo>
                        <a:pt x="17" y="306"/>
                      </a:lnTo>
                      <a:lnTo>
                        <a:pt x="27" y="325"/>
                      </a:lnTo>
                      <a:lnTo>
                        <a:pt x="37" y="342"/>
                      </a:lnTo>
                      <a:lnTo>
                        <a:pt x="51" y="360"/>
                      </a:lnTo>
                      <a:lnTo>
                        <a:pt x="64" y="376"/>
                      </a:lnTo>
                      <a:lnTo>
                        <a:pt x="80" y="389"/>
                      </a:lnTo>
                      <a:lnTo>
                        <a:pt x="96" y="403"/>
                      </a:lnTo>
                      <a:lnTo>
                        <a:pt x="115" y="413"/>
                      </a:lnTo>
                      <a:lnTo>
                        <a:pt x="134" y="423"/>
                      </a:lnTo>
                      <a:lnTo>
                        <a:pt x="154" y="431"/>
                      </a:lnTo>
                      <a:lnTo>
                        <a:pt x="174" y="436"/>
                      </a:lnTo>
                      <a:lnTo>
                        <a:pt x="197" y="439"/>
                      </a:lnTo>
                      <a:lnTo>
                        <a:pt x="218" y="440"/>
                      </a:lnTo>
                      <a:lnTo>
                        <a:pt x="241" y="439"/>
                      </a:lnTo>
                      <a:lnTo>
                        <a:pt x="262" y="436"/>
                      </a:lnTo>
                      <a:lnTo>
                        <a:pt x="284" y="431"/>
                      </a:lnTo>
                      <a:lnTo>
                        <a:pt x="304" y="423"/>
                      </a:lnTo>
                      <a:lnTo>
                        <a:pt x="322" y="413"/>
                      </a:lnTo>
                      <a:lnTo>
                        <a:pt x="341" y="403"/>
                      </a:lnTo>
                      <a:lnTo>
                        <a:pt x="357" y="389"/>
                      </a:lnTo>
                      <a:lnTo>
                        <a:pt x="373" y="376"/>
                      </a:lnTo>
                      <a:lnTo>
                        <a:pt x="388" y="360"/>
                      </a:lnTo>
                      <a:lnTo>
                        <a:pt x="400" y="342"/>
                      </a:lnTo>
                      <a:lnTo>
                        <a:pt x="411" y="325"/>
                      </a:lnTo>
                      <a:lnTo>
                        <a:pt x="420" y="306"/>
                      </a:lnTo>
                      <a:lnTo>
                        <a:pt x="428" y="286"/>
                      </a:lnTo>
                      <a:lnTo>
                        <a:pt x="434" y="264"/>
                      </a:lnTo>
                      <a:lnTo>
                        <a:pt x="436" y="243"/>
                      </a:lnTo>
                      <a:lnTo>
                        <a:pt x="438" y="220"/>
                      </a:lnTo>
                      <a:lnTo>
                        <a:pt x="436" y="197"/>
                      </a:lnTo>
                      <a:lnTo>
                        <a:pt x="434" y="176"/>
                      </a:lnTo>
                      <a:lnTo>
                        <a:pt x="428" y="155"/>
                      </a:lnTo>
                      <a:lnTo>
                        <a:pt x="420" y="134"/>
                      </a:lnTo>
                      <a:lnTo>
                        <a:pt x="411" y="116"/>
                      </a:lnTo>
                      <a:lnTo>
                        <a:pt x="400" y="98"/>
                      </a:lnTo>
                      <a:lnTo>
                        <a:pt x="388" y="81"/>
                      </a:lnTo>
                      <a:lnTo>
                        <a:pt x="373" y="65"/>
                      </a:lnTo>
                      <a:lnTo>
                        <a:pt x="357" y="51"/>
                      </a:lnTo>
                      <a:lnTo>
                        <a:pt x="341" y="38"/>
                      </a:lnTo>
                      <a:lnTo>
                        <a:pt x="322" y="27"/>
                      </a:lnTo>
                      <a:lnTo>
                        <a:pt x="304" y="18"/>
                      </a:lnTo>
                      <a:lnTo>
                        <a:pt x="284" y="10"/>
                      </a:lnTo>
                      <a:lnTo>
                        <a:pt x="262" y="4"/>
                      </a:lnTo>
                      <a:lnTo>
                        <a:pt x="241" y="2"/>
                      </a:lnTo>
                      <a:lnTo>
                        <a:pt x="218" y="0"/>
                      </a:lnTo>
                      <a:lnTo>
                        <a:pt x="197" y="2"/>
                      </a:lnTo>
                      <a:lnTo>
                        <a:pt x="174" y="4"/>
                      </a:lnTo>
                      <a:lnTo>
                        <a:pt x="154" y="10"/>
                      </a:lnTo>
                      <a:lnTo>
                        <a:pt x="134" y="18"/>
                      </a:lnTo>
                      <a:lnTo>
                        <a:pt x="115" y="27"/>
                      </a:lnTo>
                      <a:lnTo>
                        <a:pt x="96" y="38"/>
                      </a:lnTo>
                      <a:lnTo>
                        <a:pt x="80" y="51"/>
                      </a:lnTo>
                      <a:lnTo>
                        <a:pt x="64" y="65"/>
                      </a:lnTo>
                      <a:lnTo>
                        <a:pt x="51" y="81"/>
                      </a:lnTo>
                      <a:lnTo>
                        <a:pt x="37" y="98"/>
                      </a:lnTo>
                      <a:lnTo>
                        <a:pt x="27" y="116"/>
                      </a:lnTo>
                      <a:lnTo>
                        <a:pt x="17" y="134"/>
                      </a:lnTo>
                      <a:lnTo>
                        <a:pt x="9" y="155"/>
                      </a:lnTo>
                      <a:lnTo>
                        <a:pt x="4" y="176"/>
                      </a:lnTo>
                      <a:lnTo>
                        <a:pt x="1" y="197"/>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910240" y="1813680"/>
                  <a:ext cx="297360" cy="299520"/>
                </a:xfrm>
                <a:custGeom>
                  <a:avLst/>
                  <a:gdLst/>
                  <a:ahLst/>
                  <a:rect l="l" t="t" r="r" b="b"/>
                  <a:pathLst>
                    <a:path w="325" h="327">
                      <a:moveTo>
                        <a:pt x="0" y="163"/>
                      </a:moveTo>
                      <a:lnTo>
                        <a:pt x="3" y="131"/>
                      </a:lnTo>
                      <a:lnTo>
                        <a:pt x="12" y="100"/>
                      </a:lnTo>
                      <a:lnTo>
                        <a:pt x="28" y="72"/>
                      </a:lnTo>
                      <a:lnTo>
                        <a:pt x="47" y="48"/>
                      </a:lnTo>
                      <a:lnTo>
                        <a:pt x="71" y="28"/>
                      </a:lnTo>
                      <a:lnTo>
                        <a:pt x="99" y="13"/>
                      </a:lnTo>
                      <a:lnTo>
                        <a:pt x="130" y="2"/>
                      </a:lnTo>
                      <a:lnTo>
                        <a:pt x="162" y="0"/>
                      </a:lnTo>
                      <a:lnTo>
                        <a:pt x="195" y="2"/>
                      </a:lnTo>
                      <a:lnTo>
                        <a:pt x="226" y="13"/>
                      </a:lnTo>
                      <a:lnTo>
                        <a:pt x="253" y="28"/>
                      </a:lnTo>
                      <a:lnTo>
                        <a:pt x="278" y="48"/>
                      </a:lnTo>
                      <a:lnTo>
                        <a:pt x="297" y="72"/>
                      </a:lnTo>
                      <a:lnTo>
                        <a:pt x="313" y="100"/>
                      </a:lnTo>
                      <a:lnTo>
                        <a:pt x="323" y="131"/>
                      </a:lnTo>
                      <a:lnTo>
                        <a:pt x="325" y="163"/>
                      </a:lnTo>
                      <a:lnTo>
                        <a:pt x="323" y="195"/>
                      </a:lnTo>
                      <a:lnTo>
                        <a:pt x="313" y="226"/>
                      </a:lnTo>
                      <a:lnTo>
                        <a:pt x="297" y="254"/>
                      </a:lnTo>
                      <a:lnTo>
                        <a:pt x="278" y="279"/>
                      </a:lnTo>
                      <a:lnTo>
                        <a:pt x="253" y="299"/>
                      </a:lnTo>
                      <a:lnTo>
                        <a:pt x="226" y="313"/>
                      </a:lnTo>
                      <a:lnTo>
                        <a:pt x="195" y="324"/>
                      </a:lnTo>
                      <a:lnTo>
                        <a:pt x="162" y="327"/>
                      </a:lnTo>
                      <a:lnTo>
                        <a:pt x="130" y="324"/>
                      </a:lnTo>
                      <a:lnTo>
                        <a:pt x="99" y="313"/>
                      </a:lnTo>
                      <a:lnTo>
                        <a:pt x="71" y="299"/>
                      </a:lnTo>
                      <a:lnTo>
                        <a:pt x="47" y="279"/>
                      </a:lnTo>
                      <a:lnTo>
                        <a:pt x="28" y="254"/>
                      </a:lnTo>
                      <a:lnTo>
                        <a:pt x="12" y="226"/>
                      </a:lnTo>
                      <a:lnTo>
                        <a:pt x="3" y="195"/>
                      </a:lnTo>
                      <a:lnTo>
                        <a:pt x="0" y="163"/>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954160" y="1858680"/>
                  <a:ext cx="209160" cy="208800"/>
                </a:xfrm>
                <a:custGeom>
                  <a:avLst/>
                  <a:gdLst/>
                  <a:ahLst/>
                  <a:rect l="l" t="t" r="r" b="b"/>
                  <a:pathLst>
                    <a:path w="229" h="228">
                      <a:moveTo>
                        <a:pt x="0" y="114"/>
                      </a:moveTo>
                      <a:lnTo>
                        <a:pt x="3" y="91"/>
                      </a:lnTo>
                      <a:lnTo>
                        <a:pt x="10" y="69"/>
                      </a:lnTo>
                      <a:lnTo>
                        <a:pt x="20" y="50"/>
                      </a:lnTo>
                      <a:lnTo>
                        <a:pt x="34" y="32"/>
                      </a:lnTo>
                      <a:lnTo>
                        <a:pt x="51" y="19"/>
                      </a:lnTo>
                      <a:lnTo>
                        <a:pt x="70" y="10"/>
                      </a:lnTo>
                      <a:lnTo>
                        <a:pt x="91" y="3"/>
                      </a:lnTo>
                      <a:lnTo>
                        <a:pt x="114" y="0"/>
                      </a:lnTo>
                      <a:lnTo>
                        <a:pt x="137" y="3"/>
                      </a:lnTo>
                      <a:lnTo>
                        <a:pt x="158" y="10"/>
                      </a:lnTo>
                      <a:lnTo>
                        <a:pt x="178" y="19"/>
                      </a:lnTo>
                      <a:lnTo>
                        <a:pt x="196" y="32"/>
                      </a:lnTo>
                      <a:lnTo>
                        <a:pt x="209" y="50"/>
                      </a:lnTo>
                      <a:lnTo>
                        <a:pt x="220" y="69"/>
                      </a:lnTo>
                      <a:lnTo>
                        <a:pt x="226" y="91"/>
                      </a:lnTo>
                      <a:lnTo>
                        <a:pt x="229" y="114"/>
                      </a:lnTo>
                      <a:lnTo>
                        <a:pt x="226" y="137"/>
                      </a:lnTo>
                      <a:lnTo>
                        <a:pt x="220" y="158"/>
                      </a:lnTo>
                      <a:lnTo>
                        <a:pt x="209" y="179"/>
                      </a:lnTo>
                      <a:lnTo>
                        <a:pt x="196" y="195"/>
                      </a:lnTo>
                      <a:lnTo>
                        <a:pt x="178" y="208"/>
                      </a:lnTo>
                      <a:lnTo>
                        <a:pt x="158" y="219"/>
                      </a:lnTo>
                      <a:lnTo>
                        <a:pt x="137" y="225"/>
                      </a:lnTo>
                      <a:lnTo>
                        <a:pt x="114" y="228"/>
                      </a:lnTo>
                      <a:lnTo>
                        <a:pt x="91" y="225"/>
                      </a:lnTo>
                      <a:lnTo>
                        <a:pt x="70" y="219"/>
                      </a:lnTo>
                      <a:lnTo>
                        <a:pt x="51" y="208"/>
                      </a:lnTo>
                      <a:lnTo>
                        <a:pt x="34" y="195"/>
                      </a:lnTo>
                      <a:lnTo>
                        <a:pt x="20" y="179"/>
                      </a:lnTo>
                      <a:lnTo>
                        <a:pt x="10" y="158"/>
                      </a:lnTo>
                      <a:lnTo>
                        <a:pt x="3" y="137"/>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101760" y="1873440"/>
                  <a:ext cx="61920" cy="60120"/>
                </a:xfrm>
                <a:custGeom>
                  <a:avLst/>
                  <a:gdLst/>
                  <a:ahLst/>
                  <a:rect l="l" t="t" r="r" b="b"/>
                  <a:pathLst>
                    <a:path w="68" h="66">
                      <a:moveTo>
                        <a:pt x="68" y="33"/>
                      </a:moveTo>
                      <a:lnTo>
                        <a:pt x="65" y="46"/>
                      </a:lnTo>
                      <a:lnTo>
                        <a:pt x="59" y="57"/>
                      </a:lnTo>
                      <a:lnTo>
                        <a:pt x="48" y="63"/>
                      </a:lnTo>
                      <a:lnTo>
                        <a:pt x="35" y="66"/>
                      </a:lnTo>
                      <a:lnTo>
                        <a:pt x="35" y="66"/>
                      </a:lnTo>
                      <a:lnTo>
                        <a:pt x="21" y="63"/>
                      </a:lnTo>
                      <a:lnTo>
                        <a:pt x="11" y="57"/>
                      </a:lnTo>
                      <a:lnTo>
                        <a:pt x="3" y="46"/>
                      </a:lnTo>
                      <a:lnTo>
                        <a:pt x="0" y="33"/>
                      </a:lnTo>
                      <a:lnTo>
                        <a:pt x="0" y="33"/>
                      </a:lnTo>
                      <a:lnTo>
                        <a:pt x="3" y="19"/>
                      </a:lnTo>
                      <a:lnTo>
                        <a:pt x="11" y="10"/>
                      </a:lnTo>
                      <a:lnTo>
                        <a:pt x="21" y="3"/>
                      </a:lnTo>
                      <a:lnTo>
                        <a:pt x="35" y="0"/>
                      </a:lnTo>
                      <a:lnTo>
                        <a:pt x="35" y="0"/>
                      </a:lnTo>
                      <a:lnTo>
                        <a:pt x="48" y="3"/>
                      </a:lnTo>
                      <a:lnTo>
                        <a:pt x="59" y="10"/>
                      </a:lnTo>
                      <a:lnTo>
                        <a:pt x="65" y="19"/>
                      </a:lnTo>
                      <a:lnTo>
                        <a:pt x="68" y="33"/>
                      </a:lnTo>
                      <a:lnTo>
                        <a:pt x="68" y="3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3" name=""/>
                <p:cNvSpPr/>
                <p:nvPr/>
              </p:nvSpPr>
              <p:spPr>
                <a:xfrm>
                  <a:off x="3037320" y="1644480"/>
                  <a:ext cx="327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884680" y="1656000"/>
                  <a:ext cx="61200" cy="109080"/>
                </a:xfrm>
                <a:custGeom>
                  <a:avLst/>
                  <a:gdLst/>
                  <a:ahLst/>
                  <a:rect l="l" t="t" r="r" b="b"/>
                  <a:pathLst>
                    <a:path w="67" h="119">
                      <a:moveTo>
                        <a:pt x="0" y="11"/>
                      </a:moveTo>
                      <a:lnTo>
                        <a:pt x="31" y="119"/>
                      </a:lnTo>
                      <a:lnTo>
                        <a:pt x="67" y="110"/>
                      </a:lnTo>
                      <a:lnTo>
                        <a:pt x="3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9960" y="1712880"/>
                  <a:ext cx="89640" cy="102600"/>
                </a:xfrm>
                <a:custGeom>
                  <a:avLst/>
                  <a:gdLst/>
                  <a:ahLst/>
                  <a:rect l="l" t="t" r="r" b="b"/>
                  <a:pathLst>
                    <a:path w="98" h="112">
                      <a:moveTo>
                        <a:pt x="0" y="23"/>
                      </a:moveTo>
                      <a:lnTo>
                        <a:pt x="68" y="112"/>
                      </a:lnTo>
                      <a:lnTo>
                        <a:pt x="98" y="90"/>
                      </a:lnTo>
                      <a:lnTo>
                        <a:pt x="29"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643120" y="1825560"/>
                  <a:ext cx="103320" cy="88560"/>
                </a:xfrm>
                <a:custGeom>
                  <a:avLst/>
                  <a:gdLst/>
                  <a:ahLst/>
                  <a:rect l="l" t="t" r="r" b="b"/>
                  <a:pathLst>
                    <a:path w="113" h="97">
                      <a:moveTo>
                        <a:pt x="0" y="31"/>
                      </a:moveTo>
                      <a:lnTo>
                        <a:pt x="91" y="97"/>
                      </a:lnTo>
                      <a:lnTo>
                        <a:pt x="113" y="67"/>
                      </a:lnTo>
                      <a:lnTo>
                        <a:pt x="22" y="0"/>
                      </a:lnTo>
                      <a:lnTo>
                        <a:pt x="0"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7" name=""/>
                <p:cNvSpPr/>
                <p:nvPr/>
              </p:nvSpPr>
              <p:spPr>
                <a:xfrm>
                  <a:off x="3168360" y="1656000"/>
                  <a:ext cx="60480" cy="109080"/>
                </a:xfrm>
                <a:custGeom>
                  <a:avLst/>
                  <a:gdLst/>
                  <a:ahLst/>
                  <a:rect l="l" t="t" r="r" b="b"/>
                  <a:pathLst>
                    <a:path w="66" h="119">
                      <a:moveTo>
                        <a:pt x="66" y="11"/>
                      </a:moveTo>
                      <a:lnTo>
                        <a:pt x="35" y="119"/>
                      </a:lnTo>
                      <a:lnTo>
                        <a:pt x="0" y="110"/>
                      </a:lnTo>
                      <a:lnTo>
                        <a:pt x="31" y="0"/>
                      </a:lnTo>
                      <a:lnTo>
                        <a:pt x="6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283560" y="1712880"/>
                  <a:ext cx="89640" cy="102600"/>
                </a:xfrm>
                <a:custGeom>
                  <a:avLst/>
                  <a:gdLst/>
                  <a:ahLst/>
                  <a:rect l="l" t="t" r="r" b="b"/>
                  <a:pathLst>
                    <a:path w="98" h="112">
                      <a:moveTo>
                        <a:pt x="98" y="23"/>
                      </a:moveTo>
                      <a:lnTo>
                        <a:pt x="30" y="112"/>
                      </a:lnTo>
                      <a:lnTo>
                        <a:pt x="0" y="90"/>
                      </a:lnTo>
                      <a:lnTo>
                        <a:pt x="69" y="0"/>
                      </a:lnTo>
                      <a:lnTo>
                        <a:pt x="9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366720" y="1825560"/>
                  <a:ext cx="103320" cy="88560"/>
                </a:xfrm>
                <a:custGeom>
                  <a:avLst/>
                  <a:gdLst/>
                  <a:ahLst/>
                  <a:rect l="l" t="t" r="r" b="b"/>
                  <a:pathLst>
                    <a:path w="113" h="97">
                      <a:moveTo>
                        <a:pt x="113" y="31"/>
                      </a:moveTo>
                      <a:lnTo>
                        <a:pt x="23" y="97"/>
                      </a:lnTo>
                      <a:lnTo>
                        <a:pt x="0" y="67"/>
                      </a:lnTo>
                      <a:lnTo>
                        <a:pt x="91" y="0"/>
                      </a:lnTo>
                      <a:lnTo>
                        <a:pt x="113"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1000"/>
                                        <p:tgtEl>
                                          <p:spTgt spid="27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277"/>
                                        </p:tgtEl>
                                        <p:attrNameLst>
                                          <p:attrName>style.visibility</p:attrName>
                                        </p:attrNameLst>
                                      </p:cBhvr>
                                      <p:to>
                                        <p:strVal val="visible"/>
                                      </p:to>
                                    </p:set>
                                    <p:animEffect filter="fade" transition="in">
                                      <p:cBhvr additive="repl">
                                        <p:cTn id="11" dur="1000"/>
                                        <p:tgtEl>
                                          <p:spTgt spid="277"/>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57"/>
                                        </p:tgtEl>
                                        <p:attrNameLst>
                                          <p:attrName>style.visibility</p:attrName>
                                        </p:attrNameLst>
                                      </p:cBhvr>
                                      <p:to>
                                        <p:strVal val="visible"/>
                                      </p:to>
                                    </p:set>
                                    <p:animEffect filter="fade" transition="in">
                                      <p:cBhvr additive="repl">
                                        <p:cTn id="15" dur="1000"/>
                                        <p:tgtEl>
                                          <p:spTgt spid="57"/>
                                        </p:tgtEl>
                                      </p:cBhvr>
                                    </p:animEffect>
                                  </p:childTnLst>
                                </p:cTn>
                              </p:par>
                            </p:childTnLst>
                          </p:cTn>
                        </p:par>
                        <p:par>
                          <p:cTn id="16" fill="hold">
                            <p:stCondLst>
                              <p:cond delay="3000"/>
                            </p:stCondLst>
                            <p:childTnLst>
                              <p:par>
                                <p:cTn id="17" nodeType="afterEffect" fill="hold" presetClass="entr" presetID="10">
                                  <p:stCondLst>
                                    <p:cond delay="0"/>
                                  </p:stCondLst>
                                  <p:childTnLst>
                                    <p:set>
                                      <p:cBhvr>
                                        <p:cTn id="18" dur="1" fill="hold">
                                          <p:stCondLst>
                                            <p:cond delay="0"/>
                                          </p:stCondLst>
                                        </p:cTn>
                                        <p:tgtEl>
                                          <p:spTgt spid="68"/>
                                        </p:tgtEl>
                                        <p:attrNameLst>
                                          <p:attrName>style.visibility</p:attrName>
                                        </p:attrNameLst>
                                      </p:cBhvr>
                                      <p:to>
                                        <p:strVal val="visible"/>
                                      </p:to>
                                    </p:set>
                                    <p:animEffect filter="fade" transition="in">
                                      <p:cBhvr additive="repl">
                                        <p:cTn id="1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43080" y="1327320"/>
            <a:ext cx="8343720" cy="5233680"/>
          </a:xfrm>
          <a:custGeom>
            <a:avLst/>
            <a:gdLst/>
            <a:ahLst/>
            <a:rect l="l" t="t" r="r" b="b"/>
            <a:pathLst>
              <a:path w="5184" h="3297">
                <a:moveTo>
                  <a:pt x="0" y="2912"/>
                </a:moveTo>
                <a:lnTo>
                  <a:pt x="0" y="0"/>
                </a:lnTo>
                <a:lnTo>
                  <a:pt x="1325" y="0"/>
                </a:lnTo>
                <a:lnTo>
                  <a:pt x="1325" y="1669"/>
                </a:lnTo>
                <a:lnTo>
                  <a:pt x="5184" y="1669"/>
                </a:lnTo>
                <a:lnTo>
                  <a:pt x="5184" y="3297"/>
                </a:lnTo>
                <a:lnTo>
                  <a:pt x="0" y="3297"/>
                </a:lnTo>
                <a:lnTo>
                  <a:pt x="0" y="2912"/>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PlaceHolder 1"/>
          <p:cNvSpPr>
            <a:spLocks noGrp="1"/>
          </p:cNvSpPr>
          <p:nvPr>
            <p:ph type="title"/>
          </p:nvPr>
        </p:nvSpPr>
        <p:spPr>
          <a:xfrm>
            <a:off x="762120" y="24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Routes of Exposure</a:t>
            </a:r>
            <a:endParaRPr b="0" lang="en-US" sz="4400" spc="-1" strike="noStrike">
              <a:solidFill>
                <a:srgbClr val="000000"/>
              </a:solidFill>
              <a:latin typeface="Times New Roman"/>
            </a:endParaRPr>
          </a:p>
        </p:txBody>
      </p:sp>
      <p:sp>
        <p:nvSpPr>
          <p:cNvPr id="313" name="PlaceHolder 2"/>
          <p:cNvSpPr>
            <a:spLocks noGrp="1"/>
          </p:cNvSpPr>
          <p:nvPr>
            <p:ph/>
          </p:nvPr>
        </p:nvSpPr>
        <p:spPr>
          <a:xfrm>
            <a:off x="762120" y="4157280"/>
            <a:ext cx="7772400" cy="941400"/>
          </a:xfrm>
          <a:prstGeom prst="rect">
            <a:avLst/>
          </a:prstGeom>
          <a:noFill/>
          <a:ln w="0">
            <a:noFill/>
          </a:ln>
        </p:spPr>
        <p:txBody>
          <a:bodyPr lIns="90000" rIns="90000" tIns="46800" bIns="46800" anchor="t">
            <a:normAutofit fontScale="7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pors, gases, mists or particulates can be inhaled and then deposited in the respiratory tract. Damage can be caused by direct contact with tissue or by diffusion through the lung-blood interface.</a:t>
            </a:r>
            <a:endParaRPr b="0" lang="en-US" sz="2800" spc="-1" strike="noStrike">
              <a:solidFill>
                <a:srgbClr val="000000"/>
              </a:solidFill>
              <a:latin typeface="Times New Roman"/>
            </a:endParaRPr>
          </a:p>
        </p:txBody>
      </p:sp>
      <p:sp>
        <p:nvSpPr>
          <p:cNvPr id="314" name=""/>
          <p:cNvSpPr/>
          <p:nvPr/>
        </p:nvSpPr>
        <p:spPr>
          <a:xfrm>
            <a:off x="5570640" y="4430880"/>
            <a:ext cx="90360" cy="2880"/>
          </a:xfrm>
          <a:custGeom>
            <a:avLst/>
            <a:gdLst/>
            <a:ahLst/>
            <a:rect l="l" t="t" r="r" b="b"/>
            <a:pathLst>
              <a:path w="57" h="2">
                <a:moveTo>
                  <a:pt x="0" y="2"/>
                </a:moveTo>
                <a:lnTo>
                  <a:pt x="21" y="2"/>
                </a:lnTo>
                <a:lnTo>
                  <a:pt x="21" y="2"/>
                </a:lnTo>
                <a:lnTo>
                  <a:pt x="21" y="2"/>
                </a:lnTo>
                <a:lnTo>
                  <a:pt x="21" y="2"/>
                </a:lnTo>
                <a:lnTo>
                  <a:pt x="21" y="2"/>
                </a:lnTo>
                <a:lnTo>
                  <a:pt x="21" y="2"/>
                </a:lnTo>
                <a:lnTo>
                  <a:pt x="21" y="2"/>
                </a:lnTo>
                <a:lnTo>
                  <a:pt x="21" y="2"/>
                </a:lnTo>
                <a:lnTo>
                  <a:pt x="21" y="2"/>
                </a:lnTo>
                <a:lnTo>
                  <a:pt x="17" y="2"/>
                </a:lnTo>
                <a:lnTo>
                  <a:pt x="15" y="2"/>
                </a:lnTo>
                <a:lnTo>
                  <a:pt x="13" y="2"/>
                </a:lnTo>
                <a:lnTo>
                  <a:pt x="9" y="2"/>
                </a:lnTo>
                <a:lnTo>
                  <a:pt x="7" y="2"/>
                </a:lnTo>
                <a:lnTo>
                  <a:pt x="5" y="2"/>
                </a:lnTo>
                <a:lnTo>
                  <a:pt x="2" y="2"/>
                </a:lnTo>
                <a:lnTo>
                  <a:pt x="0" y="2"/>
                </a:lnTo>
                <a:close/>
                <a:moveTo>
                  <a:pt x="44" y="0"/>
                </a:moveTo>
                <a:lnTo>
                  <a:pt x="57" y="0"/>
                </a:lnTo>
                <a:lnTo>
                  <a:pt x="55" y="0"/>
                </a:lnTo>
                <a:lnTo>
                  <a:pt x="53" y="0"/>
                </a:lnTo>
                <a:lnTo>
                  <a:pt x="53" y="0"/>
                </a:lnTo>
                <a:lnTo>
                  <a:pt x="51" y="0"/>
                </a:lnTo>
                <a:lnTo>
                  <a:pt x="50" y="0"/>
                </a:lnTo>
                <a:lnTo>
                  <a:pt x="48" y="0"/>
                </a:lnTo>
                <a:lnTo>
                  <a:pt x="48" y="2"/>
                </a:lnTo>
                <a:lnTo>
                  <a:pt x="46" y="2"/>
                </a:lnTo>
                <a:lnTo>
                  <a:pt x="46" y="2"/>
                </a:lnTo>
                <a:lnTo>
                  <a:pt x="46" y="2"/>
                </a:lnTo>
                <a:lnTo>
                  <a:pt x="46" y="0"/>
                </a:lnTo>
                <a:lnTo>
                  <a:pt x="46" y="0"/>
                </a:lnTo>
                <a:lnTo>
                  <a:pt x="46" y="0"/>
                </a:lnTo>
                <a:lnTo>
                  <a:pt x="44" y="0"/>
                </a:lnTo>
                <a:lnTo>
                  <a:pt x="44" y="0"/>
                </a:lnTo>
                <a:lnTo>
                  <a:pt x="44" y="0"/>
                </a:lnTo>
                <a:close/>
              </a:path>
            </a:pathLst>
          </a:custGeom>
          <a:solidFill>
            <a:srgbClr val="83b6b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5" name=""/>
          <p:cNvSpPr/>
          <p:nvPr/>
        </p:nvSpPr>
        <p:spPr>
          <a:xfrm>
            <a:off x="3747960" y="3084480"/>
            <a:ext cx="6480" cy="9720"/>
          </a:xfrm>
          <a:custGeom>
            <a:avLst/>
            <a:gdLst/>
            <a:ahLst/>
            <a:rect l="l" t="t" r="r" b="b"/>
            <a:pathLst>
              <a:path w="4" h="6">
                <a:moveTo>
                  <a:pt x="4" y="0"/>
                </a:moveTo>
                <a:lnTo>
                  <a:pt x="4" y="2"/>
                </a:lnTo>
                <a:lnTo>
                  <a:pt x="4" y="2"/>
                </a:lnTo>
                <a:lnTo>
                  <a:pt x="2" y="2"/>
                </a:lnTo>
                <a:lnTo>
                  <a:pt x="2" y="4"/>
                </a:lnTo>
                <a:lnTo>
                  <a:pt x="2" y="4"/>
                </a:lnTo>
                <a:lnTo>
                  <a:pt x="2" y="4"/>
                </a:lnTo>
                <a:lnTo>
                  <a:pt x="2" y="6"/>
                </a:lnTo>
                <a:lnTo>
                  <a:pt x="0" y="6"/>
                </a:lnTo>
                <a:lnTo>
                  <a:pt x="0" y="6"/>
                </a:lnTo>
                <a:lnTo>
                  <a:pt x="0" y="6"/>
                </a:lnTo>
                <a:lnTo>
                  <a:pt x="0" y="6"/>
                </a:lnTo>
                <a:lnTo>
                  <a:pt x="0" y="6"/>
                </a:lnTo>
                <a:lnTo>
                  <a:pt x="0" y="6"/>
                </a:lnTo>
                <a:lnTo>
                  <a:pt x="0" y="6"/>
                </a:lnTo>
                <a:lnTo>
                  <a:pt x="0" y="6"/>
                </a:lnTo>
                <a:lnTo>
                  <a:pt x="0" y="6"/>
                </a:lnTo>
                <a:lnTo>
                  <a:pt x="0" y="6"/>
                </a:lnTo>
                <a:lnTo>
                  <a:pt x="0" y="4"/>
                </a:lnTo>
                <a:lnTo>
                  <a:pt x="0" y="4"/>
                </a:lnTo>
                <a:lnTo>
                  <a:pt x="0" y="4"/>
                </a:lnTo>
                <a:lnTo>
                  <a:pt x="0" y="4"/>
                </a:lnTo>
                <a:lnTo>
                  <a:pt x="0" y="2"/>
                </a:lnTo>
                <a:lnTo>
                  <a:pt x="0" y="2"/>
                </a:lnTo>
                <a:lnTo>
                  <a:pt x="0" y="2"/>
                </a:lnTo>
                <a:lnTo>
                  <a:pt x="0" y="2"/>
                </a:lnTo>
                <a:lnTo>
                  <a:pt x="2" y="2"/>
                </a:lnTo>
                <a:lnTo>
                  <a:pt x="2" y="2"/>
                </a:lnTo>
                <a:lnTo>
                  <a:pt x="2" y="2"/>
                </a:lnTo>
                <a:lnTo>
                  <a:pt x="2" y="2"/>
                </a:lnTo>
                <a:lnTo>
                  <a:pt x="4" y="2"/>
                </a:lnTo>
                <a:lnTo>
                  <a:pt x="4" y="2"/>
                </a:lnTo>
                <a:lnTo>
                  <a:pt x="4" y="0"/>
                </a:lnTo>
                <a:close/>
              </a:path>
            </a:pathLst>
          </a:custGeom>
          <a:solidFill>
            <a:srgbClr val="e5b2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6" name=""/>
          <p:cNvSpPr/>
          <p:nvPr/>
        </p:nvSpPr>
        <p:spPr>
          <a:xfrm>
            <a:off x="511560" y="3157560"/>
            <a:ext cx="176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halation</a:t>
            </a:r>
            <a:endParaRPr b="0" lang="en-US" sz="2800" spc="-1" strike="noStrike">
              <a:solidFill>
                <a:srgbClr val="000000"/>
              </a:solidFill>
              <a:latin typeface="Arial"/>
            </a:endParaRPr>
          </a:p>
        </p:txBody>
      </p:sp>
      <p:sp>
        <p:nvSpPr>
          <p:cNvPr id="317" name=""/>
          <p:cNvSpPr/>
          <p:nvPr/>
        </p:nvSpPr>
        <p:spPr>
          <a:xfrm>
            <a:off x="2532240" y="315756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orption</a:t>
            </a:r>
            <a:endParaRPr b="0" lang="en-US" sz="2800" spc="-1" strike="noStrike">
              <a:solidFill>
                <a:srgbClr val="000000"/>
              </a:solidFill>
              <a:latin typeface="Arial"/>
            </a:endParaRPr>
          </a:p>
        </p:txBody>
      </p:sp>
      <p:sp>
        <p:nvSpPr>
          <p:cNvPr id="318" name=""/>
          <p:cNvSpPr/>
          <p:nvPr/>
        </p:nvSpPr>
        <p:spPr>
          <a:xfrm>
            <a:off x="4786920" y="315756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gestion</a:t>
            </a:r>
            <a:endParaRPr b="0" lang="en-US" sz="2800" spc="-1" strike="noStrike">
              <a:solidFill>
                <a:srgbClr val="000000"/>
              </a:solidFill>
              <a:latin typeface="Arial"/>
            </a:endParaRPr>
          </a:p>
        </p:txBody>
      </p:sp>
      <p:sp>
        <p:nvSpPr>
          <p:cNvPr id="319" name=""/>
          <p:cNvSpPr/>
          <p:nvPr/>
        </p:nvSpPr>
        <p:spPr>
          <a:xfrm>
            <a:off x="6885000" y="315756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jection</a:t>
            </a:r>
            <a:endParaRPr b="0" lang="en-US" sz="2800" spc="-1" strike="noStrike">
              <a:solidFill>
                <a:srgbClr val="000000"/>
              </a:solidFill>
              <a:latin typeface="Arial"/>
            </a:endParaRPr>
          </a:p>
        </p:txBody>
      </p:sp>
      <p:grpSp>
        <p:nvGrpSpPr>
          <p:cNvPr id="320" name=""/>
          <p:cNvGrpSpPr/>
          <p:nvPr/>
        </p:nvGrpSpPr>
        <p:grpSpPr>
          <a:xfrm>
            <a:off x="4786200" y="2001240"/>
            <a:ext cx="1581480" cy="913680"/>
            <a:chOff x="4786200" y="2001240"/>
            <a:chExt cx="1581480" cy="913680"/>
          </a:xfrm>
        </p:grpSpPr>
        <p:sp>
          <p:nvSpPr>
            <p:cNvPr id="321" name=""/>
            <p:cNvSpPr/>
            <p:nvPr/>
          </p:nvSpPr>
          <p:spPr>
            <a:xfrm>
              <a:off x="4834080" y="2049480"/>
              <a:ext cx="1514520" cy="730440"/>
            </a:xfrm>
            <a:custGeom>
              <a:avLst/>
              <a:gdLst/>
              <a:ahLst/>
              <a:rect l="l" t="t" r="r" b="b"/>
              <a:pathLst>
                <a:path w="4262" h="2060">
                  <a:moveTo>
                    <a:pt x="0" y="1035"/>
                  </a:moveTo>
                  <a:lnTo>
                    <a:pt x="522" y="576"/>
                  </a:lnTo>
                  <a:lnTo>
                    <a:pt x="1262" y="91"/>
                  </a:lnTo>
                  <a:lnTo>
                    <a:pt x="1600" y="0"/>
                  </a:lnTo>
                  <a:lnTo>
                    <a:pt x="1848" y="128"/>
                  </a:lnTo>
                  <a:lnTo>
                    <a:pt x="2231" y="274"/>
                  </a:lnTo>
                  <a:lnTo>
                    <a:pt x="2433" y="202"/>
                  </a:lnTo>
                  <a:lnTo>
                    <a:pt x="2688" y="73"/>
                  </a:lnTo>
                  <a:lnTo>
                    <a:pt x="3054" y="82"/>
                  </a:lnTo>
                  <a:lnTo>
                    <a:pt x="3842" y="641"/>
                  </a:lnTo>
                  <a:lnTo>
                    <a:pt x="4262" y="851"/>
                  </a:lnTo>
                  <a:lnTo>
                    <a:pt x="4262" y="1007"/>
                  </a:lnTo>
                  <a:lnTo>
                    <a:pt x="3859" y="1446"/>
                  </a:lnTo>
                  <a:lnTo>
                    <a:pt x="2991" y="2060"/>
                  </a:lnTo>
                  <a:lnTo>
                    <a:pt x="851" y="1986"/>
                  </a:lnTo>
                  <a:lnTo>
                    <a:pt x="128" y="1492"/>
                  </a:lnTo>
                  <a:lnTo>
                    <a:pt x="0" y="1035"/>
                  </a:lnTo>
                  <a:lnTo>
                    <a:pt x="0" y="10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02040" y="2152440"/>
              <a:ext cx="1556280" cy="591840"/>
            </a:xfrm>
            <a:custGeom>
              <a:avLst/>
              <a:gdLst/>
              <a:ahLst/>
              <a:rect l="l" t="t" r="r" b="b"/>
              <a:pathLst>
                <a:path w="4382" h="1667">
                  <a:moveTo>
                    <a:pt x="55" y="1007"/>
                  </a:moveTo>
                  <a:lnTo>
                    <a:pt x="303" y="1245"/>
                  </a:lnTo>
                  <a:lnTo>
                    <a:pt x="1931" y="1667"/>
                  </a:lnTo>
                  <a:lnTo>
                    <a:pt x="3448" y="1447"/>
                  </a:lnTo>
                  <a:lnTo>
                    <a:pt x="4108" y="1034"/>
                  </a:lnTo>
                  <a:lnTo>
                    <a:pt x="4382" y="668"/>
                  </a:lnTo>
                  <a:lnTo>
                    <a:pt x="4097" y="631"/>
                  </a:lnTo>
                  <a:lnTo>
                    <a:pt x="3751" y="466"/>
                  </a:lnTo>
                  <a:lnTo>
                    <a:pt x="3221" y="151"/>
                  </a:lnTo>
                  <a:lnTo>
                    <a:pt x="2973" y="36"/>
                  </a:lnTo>
                  <a:lnTo>
                    <a:pt x="2826" y="72"/>
                  </a:lnTo>
                  <a:lnTo>
                    <a:pt x="2680" y="127"/>
                  </a:lnTo>
                  <a:lnTo>
                    <a:pt x="2415" y="229"/>
                  </a:lnTo>
                  <a:lnTo>
                    <a:pt x="2251" y="220"/>
                  </a:lnTo>
                  <a:lnTo>
                    <a:pt x="1903" y="31"/>
                  </a:lnTo>
                  <a:lnTo>
                    <a:pt x="1592" y="0"/>
                  </a:lnTo>
                  <a:lnTo>
                    <a:pt x="1345" y="72"/>
                  </a:lnTo>
                  <a:lnTo>
                    <a:pt x="960" y="255"/>
                  </a:lnTo>
                  <a:lnTo>
                    <a:pt x="645" y="512"/>
                  </a:lnTo>
                  <a:lnTo>
                    <a:pt x="211" y="696"/>
                  </a:lnTo>
                  <a:lnTo>
                    <a:pt x="0" y="788"/>
                  </a:lnTo>
                  <a:lnTo>
                    <a:pt x="55" y="1007"/>
                  </a:lnTo>
                  <a:lnTo>
                    <a:pt x="55" y="100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837320" y="2165040"/>
              <a:ext cx="1530360" cy="362880"/>
            </a:xfrm>
            <a:custGeom>
              <a:avLst/>
              <a:gdLst/>
              <a:ahLst/>
              <a:rect l="l" t="t" r="r" b="b"/>
              <a:pathLst>
                <a:path w="4308" h="1022">
                  <a:moveTo>
                    <a:pt x="0" y="861"/>
                  </a:moveTo>
                  <a:lnTo>
                    <a:pt x="26" y="851"/>
                  </a:lnTo>
                  <a:lnTo>
                    <a:pt x="95" y="820"/>
                  </a:lnTo>
                  <a:lnTo>
                    <a:pt x="140" y="797"/>
                  </a:lnTo>
                  <a:lnTo>
                    <a:pt x="190" y="771"/>
                  </a:lnTo>
                  <a:lnTo>
                    <a:pt x="241" y="740"/>
                  </a:lnTo>
                  <a:lnTo>
                    <a:pt x="293" y="706"/>
                  </a:lnTo>
                  <a:lnTo>
                    <a:pt x="343" y="668"/>
                  </a:lnTo>
                  <a:lnTo>
                    <a:pt x="390" y="628"/>
                  </a:lnTo>
                  <a:lnTo>
                    <a:pt x="438" y="588"/>
                  </a:lnTo>
                  <a:lnTo>
                    <a:pt x="482" y="550"/>
                  </a:lnTo>
                  <a:lnTo>
                    <a:pt x="526" y="514"/>
                  </a:lnTo>
                  <a:lnTo>
                    <a:pt x="567" y="483"/>
                  </a:lnTo>
                  <a:lnTo>
                    <a:pt x="609" y="458"/>
                  </a:lnTo>
                  <a:lnTo>
                    <a:pt x="650" y="439"/>
                  </a:lnTo>
                  <a:lnTo>
                    <a:pt x="725" y="429"/>
                  </a:lnTo>
                  <a:lnTo>
                    <a:pt x="792" y="438"/>
                  </a:lnTo>
                  <a:lnTo>
                    <a:pt x="842" y="452"/>
                  </a:lnTo>
                  <a:lnTo>
                    <a:pt x="868" y="458"/>
                  </a:lnTo>
                  <a:lnTo>
                    <a:pt x="864" y="407"/>
                  </a:lnTo>
                  <a:lnTo>
                    <a:pt x="864" y="358"/>
                  </a:lnTo>
                  <a:lnTo>
                    <a:pt x="887" y="302"/>
                  </a:lnTo>
                  <a:lnTo>
                    <a:pt x="912" y="274"/>
                  </a:lnTo>
                  <a:lnTo>
                    <a:pt x="948" y="246"/>
                  </a:lnTo>
                  <a:lnTo>
                    <a:pt x="989" y="218"/>
                  </a:lnTo>
                  <a:lnTo>
                    <a:pt x="1036" y="193"/>
                  </a:lnTo>
                  <a:lnTo>
                    <a:pt x="1086" y="169"/>
                  </a:lnTo>
                  <a:lnTo>
                    <a:pt x="1137" y="149"/>
                  </a:lnTo>
                  <a:lnTo>
                    <a:pt x="1187" y="132"/>
                  </a:lnTo>
                  <a:lnTo>
                    <a:pt x="1234" y="119"/>
                  </a:lnTo>
                  <a:lnTo>
                    <a:pt x="1386" y="103"/>
                  </a:lnTo>
                  <a:lnTo>
                    <a:pt x="1491" y="91"/>
                  </a:lnTo>
                  <a:lnTo>
                    <a:pt x="1535" y="69"/>
                  </a:lnTo>
                  <a:lnTo>
                    <a:pt x="1581" y="39"/>
                  </a:lnTo>
                  <a:lnTo>
                    <a:pt x="1635" y="13"/>
                  </a:lnTo>
                  <a:lnTo>
                    <a:pt x="1701" y="0"/>
                  </a:lnTo>
                  <a:lnTo>
                    <a:pt x="1783" y="8"/>
                  </a:lnTo>
                  <a:lnTo>
                    <a:pt x="1870" y="39"/>
                  </a:lnTo>
                  <a:lnTo>
                    <a:pt x="1909" y="64"/>
                  </a:lnTo>
                  <a:lnTo>
                    <a:pt x="1945" y="95"/>
                  </a:lnTo>
                  <a:lnTo>
                    <a:pt x="1993" y="174"/>
                  </a:lnTo>
                  <a:lnTo>
                    <a:pt x="2007" y="274"/>
                  </a:lnTo>
                  <a:lnTo>
                    <a:pt x="1995" y="376"/>
                  </a:lnTo>
                  <a:lnTo>
                    <a:pt x="1977" y="454"/>
                  </a:lnTo>
                  <a:lnTo>
                    <a:pt x="1967" y="485"/>
                  </a:lnTo>
                  <a:lnTo>
                    <a:pt x="1985" y="461"/>
                  </a:lnTo>
                  <a:lnTo>
                    <a:pt x="2004" y="433"/>
                  </a:lnTo>
                  <a:lnTo>
                    <a:pt x="2029" y="401"/>
                  </a:lnTo>
                  <a:lnTo>
                    <a:pt x="2058" y="365"/>
                  </a:lnTo>
                  <a:lnTo>
                    <a:pt x="2091" y="331"/>
                  </a:lnTo>
                  <a:lnTo>
                    <a:pt x="2125" y="300"/>
                  </a:lnTo>
                  <a:lnTo>
                    <a:pt x="2159" y="275"/>
                  </a:lnTo>
                  <a:lnTo>
                    <a:pt x="2191" y="259"/>
                  </a:lnTo>
                  <a:lnTo>
                    <a:pt x="2222" y="250"/>
                  </a:lnTo>
                  <a:lnTo>
                    <a:pt x="2283" y="247"/>
                  </a:lnTo>
                  <a:lnTo>
                    <a:pt x="2387" y="247"/>
                  </a:lnTo>
                  <a:lnTo>
                    <a:pt x="2434" y="225"/>
                  </a:lnTo>
                  <a:lnTo>
                    <a:pt x="2480" y="197"/>
                  </a:lnTo>
                  <a:lnTo>
                    <a:pt x="2527" y="181"/>
                  </a:lnTo>
                  <a:lnTo>
                    <a:pt x="2579" y="193"/>
                  </a:lnTo>
                  <a:lnTo>
                    <a:pt x="2635" y="244"/>
                  </a:lnTo>
                  <a:lnTo>
                    <a:pt x="2663" y="278"/>
                  </a:lnTo>
                  <a:lnTo>
                    <a:pt x="2690" y="314"/>
                  </a:lnTo>
                  <a:lnTo>
                    <a:pt x="2712" y="348"/>
                  </a:lnTo>
                  <a:lnTo>
                    <a:pt x="2728" y="376"/>
                  </a:lnTo>
                  <a:lnTo>
                    <a:pt x="2744" y="404"/>
                  </a:lnTo>
                  <a:lnTo>
                    <a:pt x="2756" y="290"/>
                  </a:lnTo>
                  <a:lnTo>
                    <a:pt x="2780" y="110"/>
                  </a:lnTo>
                  <a:lnTo>
                    <a:pt x="2797" y="63"/>
                  </a:lnTo>
                  <a:lnTo>
                    <a:pt x="2825" y="45"/>
                  </a:lnTo>
                  <a:lnTo>
                    <a:pt x="2918" y="64"/>
                  </a:lnTo>
                  <a:lnTo>
                    <a:pt x="2986" y="84"/>
                  </a:lnTo>
                  <a:lnTo>
                    <a:pt x="3066" y="107"/>
                  </a:lnTo>
                  <a:lnTo>
                    <a:pt x="3154" y="140"/>
                  </a:lnTo>
                  <a:lnTo>
                    <a:pt x="3200" y="159"/>
                  </a:lnTo>
                  <a:lnTo>
                    <a:pt x="3247" y="184"/>
                  </a:lnTo>
                  <a:lnTo>
                    <a:pt x="3294" y="210"/>
                  </a:lnTo>
                  <a:lnTo>
                    <a:pt x="3341" y="241"/>
                  </a:lnTo>
                  <a:lnTo>
                    <a:pt x="3387" y="274"/>
                  </a:lnTo>
                  <a:lnTo>
                    <a:pt x="3431" y="309"/>
                  </a:lnTo>
                  <a:lnTo>
                    <a:pt x="3471" y="345"/>
                  </a:lnTo>
                  <a:lnTo>
                    <a:pt x="3508" y="380"/>
                  </a:lnTo>
                  <a:lnTo>
                    <a:pt x="3567" y="449"/>
                  </a:lnTo>
                  <a:lnTo>
                    <a:pt x="3617" y="560"/>
                  </a:lnTo>
                  <a:lnTo>
                    <a:pt x="3622" y="604"/>
                  </a:lnTo>
                  <a:lnTo>
                    <a:pt x="3642" y="595"/>
                  </a:lnTo>
                  <a:lnTo>
                    <a:pt x="3690" y="575"/>
                  </a:lnTo>
                  <a:lnTo>
                    <a:pt x="3747" y="554"/>
                  </a:lnTo>
                  <a:lnTo>
                    <a:pt x="3796" y="550"/>
                  </a:lnTo>
                  <a:lnTo>
                    <a:pt x="3830" y="567"/>
                  </a:lnTo>
                  <a:lnTo>
                    <a:pt x="3864" y="600"/>
                  </a:lnTo>
                  <a:lnTo>
                    <a:pt x="3884" y="618"/>
                  </a:lnTo>
                  <a:lnTo>
                    <a:pt x="3911" y="635"/>
                  </a:lnTo>
                  <a:lnTo>
                    <a:pt x="3945" y="650"/>
                  </a:lnTo>
                  <a:lnTo>
                    <a:pt x="3987" y="660"/>
                  </a:lnTo>
                  <a:lnTo>
                    <a:pt x="4213" y="665"/>
                  </a:lnTo>
                  <a:lnTo>
                    <a:pt x="4293" y="671"/>
                  </a:lnTo>
                  <a:lnTo>
                    <a:pt x="4308" y="679"/>
                  </a:lnTo>
                  <a:lnTo>
                    <a:pt x="4299" y="696"/>
                  </a:lnTo>
                  <a:lnTo>
                    <a:pt x="4265" y="721"/>
                  </a:lnTo>
                  <a:lnTo>
                    <a:pt x="4209" y="753"/>
                  </a:lnTo>
                  <a:lnTo>
                    <a:pt x="4173" y="769"/>
                  </a:lnTo>
                  <a:lnTo>
                    <a:pt x="4133" y="789"/>
                  </a:lnTo>
                  <a:lnTo>
                    <a:pt x="4092" y="808"/>
                  </a:lnTo>
                  <a:lnTo>
                    <a:pt x="4049" y="828"/>
                  </a:lnTo>
                  <a:lnTo>
                    <a:pt x="4004" y="848"/>
                  </a:lnTo>
                  <a:lnTo>
                    <a:pt x="3958" y="867"/>
                  </a:lnTo>
                  <a:lnTo>
                    <a:pt x="3912" y="887"/>
                  </a:lnTo>
                  <a:lnTo>
                    <a:pt x="3867" y="907"/>
                  </a:lnTo>
                  <a:lnTo>
                    <a:pt x="3822" y="924"/>
                  </a:lnTo>
                  <a:lnTo>
                    <a:pt x="3781" y="941"/>
                  </a:lnTo>
                  <a:lnTo>
                    <a:pt x="3704" y="971"/>
                  </a:lnTo>
                  <a:lnTo>
                    <a:pt x="3642" y="994"/>
                  </a:lnTo>
                  <a:lnTo>
                    <a:pt x="3594" y="1010"/>
                  </a:lnTo>
                  <a:lnTo>
                    <a:pt x="3523" y="1022"/>
                  </a:lnTo>
                  <a:lnTo>
                    <a:pt x="3464" y="1011"/>
                  </a:lnTo>
                  <a:lnTo>
                    <a:pt x="3393" y="980"/>
                  </a:lnTo>
                  <a:lnTo>
                    <a:pt x="3346" y="958"/>
                  </a:lnTo>
                  <a:lnTo>
                    <a:pt x="3290" y="933"/>
                  </a:lnTo>
                  <a:lnTo>
                    <a:pt x="3226" y="908"/>
                  </a:lnTo>
                  <a:lnTo>
                    <a:pt x="3157" y="884"/>
                  </a:lnTo>
                  <a:lnTo>
                    <a:pt x="3080" y="862"/>
                  </a:lnTo>
                  <a:lnTo>
                    <a:pt x="2999" y="846"/>
                  </a:lnTo>
                  <a:lnTo>
                    <a:pt x="2827" y="833"/>
                  </a:lnTo>
                  <a:lnTo>
                    <a:pt x="2647" y="855"/>
                  </a:lnTo>
                  <a:lnTo>
                    <a:pt x="2485" y="896"/>
                  </a:lnTo>
                  <a:lnTo>
                    <a:pt x="2420" y="917"/>
                  </a:lnTo>
                  <a:lnTo>
                    <a:pt x="2368" y="935"/>
                  </a:lnTo>
                  <a:lnTo>
                    <a:pt x="2322" y="952"/>
                  </a:lnTo>
                  <a:lnTo>
                    <a:pt x="1719" y="787"/>
                  </a:lnTo>
                  <a:lnTo>
                    <a:pt x="696" y="971"/>
                  </a:lnTo>
                  <a:lnTo>
                    <a:pt x="146" y="980"/>
                  </a:lnTo>
                  <a:lnTo>
                    <a:pt x="0" y="861"/>
                  </a:lnTo>
                  <a:lnTo>
                    <a:pt x="0" y="861"/>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905360" y="2288880"/>
              <a:ext cx="1372680" cy="321480"/>
            </a:xfrm>
            <a:custGeom>
              <a:avLst/>
              <a:gdLst/>
              <a:ahLst/>
              <a:rect l="l" t="t" r="r" b="b"/>
              <a:pathLst>
                <a:path w="3863" h="905">
                  <a:moveTo>
                    <a:pt x="0" y="613"/>
                  </a:moveTo>
                  <a:lnTo>
                    <a:pt x="53" y="631"/>
                  </a:lnTo>
                  <a:lnTo>
                    <a:pt x="109" y="649"/>
                  </a:lnTo>
                  <a:lnTo>
                    <a:pt x="180" y="671"/>
                  </a:lnTo>
                  <a:lnTo>
                    <a:pt x="258" y="694"/>
                  </a:lnTo>
                  <a:lnTo>
                    <a:pt x="338" y="719"/>
                  </a:lnTo>
                  <a:lnTo>
                    <a:pt x="416" y="741"/>
                  </a:lnTo>
                  <a:lnTo>
                    <a:pt x="485" y="761"/>
                  </a:lnTo>
                  <a:lnTo>
                    <a:pt x="590" y="783"/>
                  </a:lnTo>
                  <a:lnTo>
                    <a:pt x="662" y="789"/>
                  </a:lnTo>
                  <a:lnTo>
                    <a:pt x="797" y="778"/>
                  </a:lnTo>
                  <a:lnTo>
                    <a:pt x="1263" y="761"/>
                  </a:lnTo>
                  <a:lnTo>
                    <a:pt x="1446" y="753"/>
                  </a:lnTo>
                  <a:lnTo>
                    <a:pt x="1565" y="761"/>
                  </a:lnTo>
                  <a:lnTo>
                    <a:pt x="1646" y="792"/>
                  </a:lnTo>
                  <a:lnTo>
                    <a:pt x="1683" y="808"/>
                  </a:lnTo>
                  <a:lnTo>
                    <a:pt x="1720" y="815"/>
                  </a:lnTo>
                  <a:lnTo>
                    <a:pt x="1807" y="805"/>
                  </a:lnTo>
                  <a:lnTo>
                    <a:pt x="1885" y="798"/>
                  </a:lnTo>
                  <a:lnTo>
                    <a:pt x="1937" y="830"/>
                  </a:lnTo>
                  <a:lnTo>
                    <a:pt x="1965" y="855"/>
                  </a:lnTo>
                  <a:lnTo>
                    <a:pt x="2005" y="880"/>
                  </a:lnTo>
                  <a:lnTo>
                    <a:pt x="2061" y="896"/>
                  </a:lnTo>
                  <a:lnTo>
                    <a:pt x="2131" y="905"/>
                  </a:lnTo>
                  <a:lnTo>
                    <a:pt x="2305" y="880"/>
                  </a:lnTo>
                  <a:lnTo>
                    <a:pt x="2401" y="843"/>
                  </a:lnTo>
                  <a:lnTo>
                    <a:pt x="2450" y="821"/>
                  </a:lnTo>
                  <a:lnTo>
                    <a:pt x="2499" y="799"/>
                  </a:lnTo>
                  <a:lnTo>
                    <a:pt x="2546" y="778"/>
                  </a:lnTo>
                  <a:lnTo>
                    <a:pt x="2593" y="759"/>
                  </a:lnTo>
                  <a:lnTo>
                    <a:pt x="2681" y="733"/>
                  </a:lnTo>
                  <a:lnTo>
                    <a:pt x="2761" y="730"/>
                  </a:lnTo>
                  <a:lnTo>
                    <a:pt x="2835" y="741"/>
                  </a:lnTo>
                  <a:lnTo>
                    <a:pt x="2910" y="758"/>
                  </a:lnTo>
                  <a:lnTo>
                    <a:pt x="2991" y="769"/>
                  </a:lnTo>
                  <a:lnTo>
                    <a:pt x="3187" y="752"/>
                  </a:lnTo>
                  <a:lnTo>
                    <a:pt x="3296" y="727"/>
                  </a:lnTo>
                  <a:lnTo>
                    <a:pt x="3413" y="696"/>
                  </a:lnTo>
                  <a:lnTo>
                    <a:pt x="3479" y="677"/>
                  </a:lnTo>
                  <a:lnTo>
                    <a:pt x="3555" y="650"/>
                  </a:lnTo>
                  <a:lnTo>
                    <a:pt x="3634" y="619"/>
                  </a:lnTo>
                  <a:lnTo>
                    <a:pt x="3711" y="587"/>
                  </a:lnTo>
                  <a:lnTo>
                    <a:pt x="3779" y="553"/>
                  </a:lnTo>
                  <a:lnTo>
                    <a:pt x="3830" y="520"/>
                  </a:lnTo>
                  <a:lnTo>
                    <a:pt x="3863" y="470"/>
                  </a:lnTo>
                  <a:lnTo>
                    <a:pt x="3838" y="452"/>
                  </a:lnTo>
                  <a:lnTo>
                    <a:pt x="3794" y="441"/>
                  </a:lnTo>
                  <a:lnTo>
                    <a:pt x="3671" y="423"/>
                  </a:lnTo>
                  <a:lnTo>
                    <a:pt x="3422" y="393"/>
                  </a:lnTo>
                  <a:lnTo>
                    <a:pt x="3212" y="367"/>
                  </a:lnTo>
                  <a:lnTo>
                    <a:pt x="3117" y="346"/>
                  </a:lnTo>
                  <a:lnTo>
                    <a:pt x="3056" y="302"/>
                  </a:lnTo>
                  <a:lnTo>
                    <a:pt x="3024" y="234"/>
                  </a:lnTo>
                  <a:lnTo>
                    <a:pt x="2994" y="160"/>
                  </a:lnTo>
                  <a:lnTo>
                    <a:pt x="2959" y="100"/>
                  </a:lnTo>
                  <a:lnTo>
                    <a:pt x="2937" y="81"/>
                  </a:lnTo>
                  <a:lnTo>
                    <a:pt x="2910" y="73"/>
                  </a:lnTo>
                  <a:lnTo>
                    <a:pt x="2853" y="87"/>
                  </a:lnTo>
                  <a:lnTo>
                    <a:pt x="2797" y="122"/>
                  </a:lnTo>
                  <a:lnTo>
                    <a:pt x="2739" y="168"/>
                  </a:lnTo>
                  <a:lnTo>
                    <a:pt x="2711" y="190"/>
                  </a:lnTo>
                  <a:lnTo>
                    <a:pt x="2681" y="211"/>
                  </a:lnTo>
                  <a:lnTo>
                    <a:pt x="2649" y="225"/>
                  </a:lnTo>
                  <a:lnTo>
                    <a:pt x="2617" y="233"/>
                  </a:lnTo>
                  <a:lnTo>
                    <a:pt x="2546" y="230"/>
                  </a:lnTo>
                  <a:lnTo>
                    <a:pt x="2476" y="221"/>
                  </a:lnTo>
                  <a:lnTo>
                    <a:pt x="2416" y="219"/>
                  </a:lnTo>
                  <a:lnTo>
                    <a:pt x="2369" y="249"/>
                  </a:lnTo>
                  <a:lnTo>
                    <a:pt x="2330" y="303"/>
                  </a:lnTo>
                  <a:lnTo>
                    <a:pt x="2311" y="333"/>
                  </a:lnTo>
                  <a:lnTo>
                    <a:pt x="2292" y="361"/>
                  </a:lnTo>
                  <a:lnTo>
                    <a:pt x="2269" y="385"/>
                  </a:lnTo>
                  <a:lnTo>
                    <a:pt x="2242" y="404"/>
                  </a:lnTo>
                  <a:lnTo>
                    <a:pt x="2177" y="424"/>
                  </a:lnTo>
                  <a:lnTo>
                    <a:pt x="2105" y="433"/>
                  </a:lnTo>
                  <a:lnTo>
                    <a:pt x="1968" y="413"/>
                  </a:lnTo>
                  <a:lnTo>
                    <a:pt x="1916" y="377"/>
                  </a:lnTo>
                  <a:lnTo>
                    <a:pt x="1873" y="327"/>
                  </a:lnTo>
                  <a:lnTo>
                    <a:pt x="1829" y="275"/>
                  </a:lnTo>
                  <a:lnTo>
                    <a:pt x="1804" y="255"/>
                  </a:lnTo>
                  <a:lnTo>
                    <a:pt x="1776" y="239"/>
                  </a:lnTo>
                  <a:lnTo>
                    <a:pt x="1704" y="224"/>
                  </a:lnTo>
                  <a:lnTo>
                    <a:pt x="1621" y="221"/>
                  </a:lnTo>
                  <a:lnTo>
                    <a:pt x="1465" y="184"/>
                  </a:lnTo>
                  <a:lnTo>
                    <a:pt x="1406" y="131"/>
                  </a:lnTo>
                  <a:lnTo>
                    <a:pt x="1357" y="73"/>
                  </a:lnTo>
                  <a:lnTo>
                    <a:pt x="1317" y="25"/>
                  </a:lnTo>
                  <a:lnTo>
                    <a:pt x="1298" y="8"/>
                  </a:lnTo>
                  <a:lnTo>
                    <a:pt x="1282" y="0"/>
                  </a:lnTo>
                  <a:lnTo>
                    <a:pt x="1248" y="10"/>
                  </a:lnTo>
                  <a:lnTo>
                    <a:pt x="1217" y="47"/>
                  </a:lnTo>
                  <a:lnTo>
                    <a:pt x="1171" y="137"/>
                  </a:lnTo>
                  <a:lnTo>
                    <a:pt x="1145" y="193"/>
                  </a:lnTo>
                  <a:lnTo>
                    <a:pt x="1080" y="247"/>
                  </a:lnTo>
                  <a:lnTo>
                    <a:pt x="1050" y="270"/>
                  </a:lnTo>
                  <a:lnTo>
                    <a:pt x="1013" y="293"/>
                  </a:lnTo>
                  <a:lnTo>
                    <a:pt x="972" y="318"/>
                  </a:lnTo>
                  <a:lnTo>
                    <a:pt x="925" y="345"/>
                  </a:lnTo>
                  <a:lnTo>
                    <a:pt x="875" y="370"/>
                  </a:lnTo>
                  <a:lnTo>
                    <a:pt x="820" y="392"/>
                  </a:lnTo>
                  <a:lnTo>
                    <a:pt x="764" y="410"/>
                  </a:lnTo>
                  <a:lnTo>
                    <a:pt x="705" y="421"/>
                  </a:lnTo>
                  <a:lnTo>
                    <a:pt x="463" y="424"/>
                  </a:lnTo>
                  <a:lnTo>
                    <a:pt x="239" y="439"/>
                  </a:lnTo>
                  <a:lnTo>
                    <a:pt x="143" y="485"/>
                  </a:lnTo>
                  <a:lnTo>
                    <a:pt x="68" y="542"/>
                  </a:lnTo>
                  <a:lnTo>
                    <a:pt x="19" y="593"/>
                  </a:lnTo>
                  <a:lnTo>
                    <a:pt x="0" y="613"/>
                  </a:lnTo>
                  <a:lnTo>
                    <a:pt x="0" y="613"/>
                  </a:lnTo>
                  <a:close/>
                </a:path>
              </a:pathLst>
            </a:custGeom>
            <a:solidFill>
              <a:srgbClr val="a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821480" y="2457000"/>
              <a:ext cx="1528200" cy="417240"/>
            </a:xfrm>
            <a:custGeom>
              <a:avLst/>
              <a:gdLst/>
              <a:ahLst/>
              <a:rect l="l" t="t" r="r" b="b"/>
              <a:pathLst>
                <a:path w="4302" h="1175">
                  <a:moveTo>
                    <a:pt x="0" y="150"/>
                  </a:moveTo>
                  <a:lnTo>
                    <a:pt x="19" y="314"/>
                  </a:lnTo>
                  <a:lnTo>
                    <a:pt x="47" y="357"/>
                  </a:lnTo>
                  <a:lnTo>
                    <a:pt x="81" y="395"/>
                  </a:lnTo>
                  <a:lnTo>
                    <a:pt x="128" y="434"/>
                  </a:lnTo>
                  <a:lnTo>
                    <a:pt x="187" y="465"/>
                  </a:lnTo>
                  <a:lnTo>
                    <a:pt x="256" y="494"/>
                  </a:lnTo>
                  <a:lnTo>
                    <a:pt x="335" y="532"/>
                  </a:lnTo>
                  <a:lnTo>
                    <a:pt x="376" y="558"/>
                  </a:lnTo>
                  <a:lnTo>
                    <a:pt x="420" y="590"/>
                  </a:lnTo>
                  <a:lnTo>
                    <a:pt x="467" y="628"/>
                  </a:lnTo>
                  <a:lnTo>
                    <a:pt x="517" y="671"/>
                  </a:lnTo>
                  <a:lnTo>
                    <a:pt x="575" y="720"/>
                  </a:lnTo>
                  <a:lnTo>
                    <a:pt x="643" y="770"/>
                  </a:lnTo>
                  <a:lnTo>
                    <a:pt x="681" y="796"/>
                  </a:lnTo>
                  <a:lnTo>
                    <a:pt x="722" y="823"/>
                  </a:lnTo>
                  <a:lnTo>
                    <a:pt x="768" y="850"/>
                  </a:lnTo>
                  <a:lnTo>
                    <a:pt x="817" y="875"/>
                  </a:lnTo>
                  <a:lnTo>
                    <a:pt x="870" y="901"/>
                  </a:lnTo>
                  <a:lnTo>
                    <a:pt x="929" y="926"/>
                  </a:lnTo>
                  <a:lnTo>
                    <a:pt x="992" y="951"/>
                  </a:lnTo>
                  <a:lnTo>
                    <a:pt x="1062" y="975"/>
                  </a:lnTo>
                  <a:lnTo>
                    <a:pt x="1135" y="997"/>
                  </a:lnTo>
                  <a:lnTo>
                    <a:pt x="1214" y="1018"/>
                  </a:lnTo>
                  <a:lnTo>
                    <a:pt x="1296" y="1038"/>
                  </a:lnTo>
                  <a:lnTo>
                    <a:pt x="1379" y="1057"/>
                  </a:lnTo>
                  <a:lnTo>
                    <a:pt x="1463" y="1075"/>
                  </a:lnTo>
                  <a:lnTo>
                    <a:pt x="1547" y="1091"/>
                  </a:lnTo>
                  <a:lnTo>
                    <a:pt x="1708" y="1121"/>
                  </a:lnTo>
                  <a:lnTo>
                    <a:pt x="1849" y="1144"/>
                  </a:lnTo>
                  <a:lnTo>
                    <a:pt x="1964" y="1162"/>
                  </a:lnTo>
                  <a:lnTo>
                    <a:pt x="2068" y="1175"/>
                  </a:lnTo>
                  <a:lnTo>
                    <a:pt x="3247" y="1066"/>
                  </a:lnTo>
                  <a:lnTo>
                    <a:pt x="3851" y="627"/>
                  </a:lnTo>
                  <a:lnTo>
                    <a:pt x="3895" y="578"/>
                  </a:lnTo>
                  <a:lnTo>
                    <a:pt x="3942" y="527"/>
                  </a:lnTo>
                  <a:lnTo>
                    <a:pt x="3969" y="496"/>
                  </a:lnTo>
                  <a:lnTo>
                    <a:pt x="3997" y="463"/>
                  </a:lnTo>
                  <a:lnTo>
                    <a:pt x="4028" y="431"/>
                  </a:lnTo>
                  <a:lnTo>
                    <a:pt x="4057" y="397"/>
                  </a:lnTo>
                  <a:lnTo>
                    <a:pt x="4087" y="363"/>
                  </a:lnTo>
                  <a:lnTo>
                    <a:pt x="4116" y="330"/>
                  </a:lnTo>
                  <a:lnTo>
                    <a:pt x="4143" y="299"/>
                  </a:lnTo>
                  <a:lnTo>
                    <a:pt x="4168" y="270"/>
                  </a:lnTo>
                  <a:lnTo>
                    <a:pt x="4207" y="223"/>
                  </a:lnTo>
                  <a:lnTo>
                    <a:pt x="4237" y="186"/>
                  </a:lnTo>
                  <a:lnTo>
                    <a:pt x="4262" y="152"/>
                  </a:lnTo>
                  <a:lnTo>
                    <a:pt x="4295" y="96"/>
                  </a:lnTo>
                  <a:lnTo>
                    <a:pt x="4302" y="52"/>
                  </a:lnTo>
                  <a:lnTo>
                    <a:pt x="4281" y="22"/>
                  </a:lnTo>
                  <a:lnTo>
                    <a:pt x="4231" y="6"/>
                  </a:lnTo>
                  <a:lnTo>
                    <a:pt x="4162" y="0"/>
                  </a:lnTo>
                  <a:lnTo>
                    <a:pt x="4016" y="22"/>
                  </a:lnTo>
                  <a:lnTo>
                    <a:pt x="3915" y="74"/>
                  </a:lnTo>
                  <a:lnTo>
                    <a:pt x="3876" y="112"/>
                  </a:lnTo>
                  <a:lnTo>
                    <a:pt x="3833" y="159"/>
                  </a:lnTo>
                  <a:lnTo>
                    <a:pt x="3780" y="214"/>
                  </a:lnTo>
                  <a:lnTo>
                    <a:pt x="3747" y="242"/>
                  </a:lnTo>
                  <a:lnTo>
                    <a:pt x="3712" y="271"/>
                  </a:lnTo>
                  <a:lnTo>
                    <a:pt x="3672" y="298"/>
                  </a:lnTo>
                  <a:lnTo>
                    <a:pt x="3628" y="322"/>
                  </a:lnTo>
                  <a:lnTo>
                    <a:pt x="3578" y="344"/>
                  </a:lnTo>
                  <a:lnTo>
                    <a:pt x="3522" y="360"/>
                  </a:lnTo>
                  <a:lnTo>
                    <a:pt x="3395" y="382"/>
                  </a:lnTo>
                  <a:lnTo>
                    <a:pt x="3259" y="397"/>
                  </a:lnTo>
                  <a:lnTo>
                    <a:pt x="3028" y="442"/>
                  </a:lnTo>
                  <a:lnTo>
                    <a:pt x="2960" y="494"/>
                  </a:lnTo>
                  <a:lnTo>
                    <a:pt x="2923" y="555"/>
                  </a:lnTo>
                  <a:lnTo>
                    <a:pt x="2890" y="636"/>
                  </a:lnTo>
                  <a:lnTo>
                    <a:pt x="2849" y="596"/>
                  </a:lnTo>
                  <a:lnTo>
                    <a:pt x="2808" y="553"/>
                  </a:lnTo>
                  <a:lnTo>
                    <a:pt x="2778" y="534"/>
                  </a:lnTo>
                  <a:lnTo>
                    <a:pt x="2744" y="516"/>
                  </a:lnTo>
                  <a:lnTo>
                    <a:pt x="2656" y="497"/>
                  </a:lnTo>
                  <a:lnTo>
                    <a:pt x="2556" y="496"/>
                  </a:lnTo>
                  <a:lnTo>
                    <a:pt x="2454" y="512"/>
                  </a:lnTo>
                  <a:lnTo>
                    <a:pt x="2368" y="544"/>
                  </a:lnTo>
                  <a:lnTo>
                    <a:pt x="2273" y="633"/>
                  </a:lnTo>
                  <a:lnTo>
                    <a:pt x="2252" y="668"/>
                  </a:lnTo>
                  <a:lnTo>
                    <a:pt x="2242" y="681"/>
                  </a:lnTo>
                  <a:lnTo>
                    <a:pt x="2218" y="625"/>
                  </a:lnTo>
                  <a:lnTo>
                    <a:pt x="2193" y="578"/>
                  </a:lnTo>
                  <a:lnTo>
                    <a:pt x="2174" y="555"/>
                  </a:lnTo>
                  <a:lnTo>
                    <a:pt x="2150" y="534"/>
                  </a:lnTo>
                  <a:lnTo>
                    <a:pt x="2119" y="518"/>
                  </a:lnTo>
                  <a:lnTo>
                    <a:pt x="2082" y="506"/>
                  </a:lnTo>
                  <a:lnTo>
                    <a:pt x="1998" y="497"/>
                  </a:lnTo>
                  <a:lnTo>
                    <a:pt x="1908" y="506"/>
                  </a:lnTo>
                  <a:lnTo>
                    <a:pt x="1820" y="534"/>
                  </a:lnTo>
                  <a:lnTo>
                    <a:pt x="1780" y="556"/>
                  </a:lnTo>
                  <a:lnTo>
                    <a:pt x="1745" y="581"/>
                  </a:lnTo>
                  <a:lnTo>
                    <a:pt x="1686" y="631"/>
                  </a:lnTo>
                  <a:lnTo>
                    <a:pt x="1647" y="670"/>
                  </a:lnTo>
                  <a:lnTo>
                    <a:pt x="1637" y="681"/>
                  </a:lnTo>
                  <a:lnTo>
                    <a:pt x="1653" y="653"/>
                  </a:lnTo>
                  <a:lnTo>
                    <a:pt x="1674" y="599"/>
                  </a:lnTo>
                  <a:lnTo>
                    <a:pt x="1678" y="568"/>
                  </a:lnTo>
                  <a:lnTo>
                    <a:pt x="1675" y="535"/>
                  </a:lnTo>
                  <a:lnTo>
                    <a:pt x="1659" y="506"/>
                  </a:lnTo>
                  <a:lnTo>
                    <a:pt x="1628" y="479"/>
                  </a:lnTo>
                  <a:lnTo>
                    <a:pt x="1581" y="460"/>
                  </a:lnTo>
                  <a:lnTo>
                    <a:pt x="1519" y="445"/>
                  </a:lnTo>
                  <a:lnTo>
                    <a:pt x="1367" y="432"/>
                  </a:lnTo>
                  <a:lnTo>
                    <a:pt x="1062" y="442"/>
                  </a:lnTo>
                  <a:lnTo>
                    <a:pt x="891" y="472"/>
                  </a:lnTo>
                  <a:lnTo>
                    <a:pt x="786" y="479"/>
                  </a:lnTo>
                  <a:lnTo>
                    <a:pt x="637" y="438"/>
                  </a:lnTo>
                  <a:lnTo>
                    <a:pt x="588" y="419"/>
                  </a:lnTo>
                  <a:lnTo>
                    <a:pt x="534" y="397"/>
                  </a:lnTo>
                  <a:lnTo>
                    <a:pt x="475" y="370"/>
                  </a:lnTo>
                  <a:lnTo>
                    <a:pt x="411" y="342"/>
                  </a:lnTo>
                  <a:lnTo>
                    <a:pt x="343" y="311"/>
                  </a:lnTo>
                  <a:lnTo>
                    <a:pt x="273" y="279"/>
                  </a:lnTo>
                  <a:lnTo>
                    <a:pt x="203" y="246"/>
                  </a:lnTo>
                  <a:lnTo>
                    <a:pt x="138" y="215"/>
                  </a:lnTo>
                  <a:lnTo>
                    <a:pt x="84" y="190"/>
                  </a:lnTo>
                  <a:lnTo>
                    <a:pt x="40" y="170"/>
                  </a:lnTo>
                  <a:lnTo>
                    <a:pt x="0" y="150"/>
                  </a:lnTo>
                  <a:lnTo>
                    <a:pt x="0" y="15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69000" y="2601720"/>
              <a:ext cx="1406880" cy="313200"/>
            </a:xfrm>
            <a:custGeom>
              <a:avLst/>
              <a:gdLst/>
              <a:ahLst/>
              <a:rect l="l" t="t" r="r" b="b"/>
              <a:pathLst>
                <a:path w="3960" h="882">
                  <a:moveTo>
                    <a:pt x="65" y="39"/>
                  </a:moveTo>
                  <a:lnTo>
                    <a:pt x="171" y="41"/>
                  </a:lnTo>
                  <a:lnTo>
                    <a:pt x="291" y="63"/>
                  </a:lnTo>
                  <a:lnTo>
                    <a:pt x="419" y="104"/>
                  </a:lnTo>
                  <a:lnTo>
                    <a:pt x="485" y="128"/>
                  </a:lnTo>
                  <a:lnTo>
                    <a:pt x="552" y="156"/>
                  </a:lnTo>
                  <a:lnTo>
                    <a:pt x="618" y="185"/>
                  </a:lnTo>
                  <a:lnTo>
                    <a:pt x="683" y="215"/>
                  </a:lnTo>
                  <a:lnTo>
                    <a:pt x="746" y="246"/>
                  </a:lnTo>
                  <a:lnTo>
                    <a:pt x="808" y="275"/>
                  </a:lnTo>
                  <a:lnTo>
                    <a:pt x="866" y="305"/>
                  </a:lnTo>
                  <a:lnTo>
                    <a:pt x="920" y="333"/>
                  </a:lnTo>
                  <a:lnTo>
                    <a:pt x="972" y="358"/>
                  </a:lnTo>
                  <a:lnTo>
                    <a:pt x="1018" y="382"/>
                  </a:lnTo>
                  <a:lnTo>
                    <a:pt x="1062" y="402"/>
                  </a:lnTo>
                  <a:lnTo>
                    <a:pt x="1105" y="420"/>
                  </a:lnTo>
                  <a:lnTo>
                    <a:pt x="1186" y="452"/>
                  </a:lnTo>
                  <a:lnTo>
                    <a:pt x="1264" y="476"/>
                  </a:lnTo>
                  <a:lnTo>
                    <a:pt x="1339" y="494"/>
                  </a:lnTo>
                  <a:lnTo>
                    <a:pt x="1481" y="514"/>
                  </a:lnTo>
                  <a:lnTo>
                    <a:pt x="1618" y="517"/>
                  </a:lnTo>
                  <a:lnTo>
                    <a:pt x="1897" y="497"/>
                  </a:lnTo>
                  <a:lnTo>
                    <a:pt x="2050" y="485"/>
                  </a:lnTo>
                  <a:lnTo>
                    <a:pt x="2220" y="480"/>
                  </a:lnTo>
                  <a:lnTo>
                    <a:pt x="2708" y="474"/>
                  </a:lnTo>
                  <a:lnTo>
                    <a:pt x="2953" y="445"/>
                  </a:lnTo>
                  <a:lnTo>
                    <a:pt x="3068" y="417"/>
                  </a:lnTo>
                  <a:lnTo>
                    <a:pt x="3172" y="377"/>
                  </a:lnTo>
                  <a:lnTo>
                    <a:pt x="3208" y="359"/>
                  </a:lnTo>
                  <a:lnTo>
                    <a:pt x="3258" y="333"/>
                  </a:lnTo>
                  <a:lnTo>
                    <a:pt x="3320" y="300"/>
                  </a:lnTo>
                  <a:lnTo>
                    <a:pt x="3354" y="281"/>
                  </a:lnTo>
                  <a:lnTo>
                    <a:pt x="3391" y="262"/>
                  </a:lnTo>
                  <a:lnTo>
                    <a:pt x="3428" y="241"/>
                  </a:lnTo>
                  <a:lnTo>
                    <a:pt x="3467" y="219"/>
                  </a:lnTo>
                  <a:lnTo>
                    <a:pt x="3507" y="199"/>
                  </a:lnTo>
                  <a:lnTo>
                    <a:pt x="3547" y="177"/>
                  </a:lnTo>
                  <a:lnTo>
                    <a:pt x="3587" y="156"/>
                  </a:lnTo>
                  <a:lnTo>
                    <a:pt x="3627" y="134"/>
                  </a:lnTo>
                  <a:lnTo>
                    <a:pt x="3666" y="115"/>
                  </a:lnTo>
                  <a:lnTo>
                    <a:pt x="3705" y="95"/>
                  </a:lnTo>
                  <a:lnTo>
                    <a:pt x="3742" y="76"/>
                  </a:lnTo>
                  <a:lnTo>
                    <a:pt x="3777" y="60"/>
                  </a:lnTo>
                  <a:lnTo>
                    <a:pt x="3842" y="31"/>
                  </a:lnTo>
                  <a:lnTo>
                    <a:pt x="3895" y="10"/>
                  </a:lnTo>
                  <a:lnTo>
                    <a:pt x="3935" y="0"/>
                  </a:lnTo>
                  <a:lnTo>
                    <a:pt x="3957" y="1"/>
                  </a:lnTo>
                  <a:lnTo>
                    <a:pt x="3960" y="16"/>
                  </a:lnTo>
                  <a:lnTo>
                    <a:pt x="3941" y="48"/>
                  </a:lnTo>
                  <a:lnTo>
                    <a:pt x="3897" y="97"/>
                  </a:lnTo>
                  <a:lnTo>
                    <a:pt x="3861" y="134"/>
                  </a:lnTo>
                  <a:lnTo>
                    <a:pt x="3827" y="169"/>
                  </a:lnTo>
                  <a:lnTo>
                    <a:pt x="3792" y="208"/>
                  </a:lnTo>
                  <a:lnTo>
                    <a:pt x="3758" y="246"/>
                  </a:lnTo>
                  <a:lnTo>
                    <a:pt x="3724" y="284"/>
                  </a:lnTo>
                  <a:lnTo>
                    <a:pt x="3689" y="321"/>
                  </a:lnTo>
                  <a:lnTo>
                    <a:pt x="3655" y="359"/>
                  </a:lnTo>
                  <a:lnTo>
                    <a:pt x="3619" y="396"/>
                  </a:lnTo>
                  <a:lnTo>
                    <a:pt x="3582" y="433"/>
                  </a:lnTo>
                  <a:lnTo>
                    <a:pt x="3546" y="469"/>
                  </a:lnTo>
                  <a:lnTo>
                    <a:pt x="3509" y="502"/>
                  </a:lnTo>
                  <a:lnTo>
                    <a:pt x="3469" y="533"/>
                  </a:lnTo>
                  <a:lnTo>
                    <a:pt x="3429" y="564"/>
                  </a:lnTo>
                  <a:lnTo>
                    <a:pt x="3388" y="592"/>
                  </a:lnTo>
                  <a:lnTo>
                    <a:pt x="3345" y="618"/>
                  </a:lnTo>
                  <a:lnTo>
                    <a:pt x="3299" y="641"/>
                  </a:lnTo>
                  <a:lnTo>
                    <a:pt x="3245" y="666"/>
                  </a:lnTo>
                  <a:lnTo>
                    <a:pt x="3184" y="690"/>
                  </a:lnTo>
                  <a:lnTo>
                    <a:pt x="3121" y="713"/>
                  </a:lnTo>
                  <a:lnTo>
                    <a:pt x="3053" y="735"/>
                  </a:lnTo>
                  <a:lnTo>
                    <a:pt x="2984" y="755"/>
                  </a:lnTo>
                  <a:lnTo>
                    <a:pt x="2908" y="774"/>
                  </a:lnTo>
                  <a:lnTo>
                    <a:pt x="2833" y="792"/>
                  </a:lnTo>
                  <a:lnTo>
                    <a:pt x="2754" y="808"/>
                  </a:lnTo>
                  <a:lnTo>
                    <a:pt x="2590" y="836"/>
                  </a:lnTo>
                  <a:lnTo>
                    <a:pt x="2420" y="858"/>
                  </a:lnTo>
                  <a:lnTo>
                    <a:pt x="2246" y="873"/>
                  </a:lnTo>
                  <a:lnTo>
                    <a:pt x="2071" y="882"/>
                  </a:lnTo>
                  <a:lnTo>
                    <a:pt x="1723" y="874"/>
                  </a:lnTo>
                  <a:lnTo>
                    <a:pt x="1394" y="834"/>
                  </a:lnTo>
                  <a:lnTo>
                    <a:pt x="1243" y="799"/>
                  </a:lnTo>
                  <a:lnTo>
                    <a:pt x="1173" y="778"/>
                  </a:lnTo>
                  <a:lnTo>
                    <a:pt x="1105" y="756"/>
                  </a:lnTo>
                  <a:lnTo>
                    <a:pt x="1041" y="730"/>
                  </a:lnTo>
                  <a:lnTo>
                    <a:pt x="981" y="702"/>
                  </a:lnTo>
                  <a:lnTo>
                    <a:pt x="925" y="671"/>
                  </a:lnTo>
                  <a:lnTo>
                    <a:pt x="872" y="638"/>
                  </a:lnTo>
                  <a:lnTo>
                    <a:pt x="845" y="618"/>
                  </a:lnTo>
                  <a:lnTo>
                    <a:pt x="817" y="598"/>
                  </a:lnTo>
                  <a:lnTo>
                    <a:pt x="792" y="579"/>
                  </a:lnTo>
                  <a:lnTo>
                    <a:pt x="765" y="560"/>
                  </a:lnTo>
                  <a:lnTo>
                    <a:pt x="740" y="542"/>
                  </a:lnTo>
                  <a:lnTo>
                    <a:pt x="717" y="525"/>
                  </a:lnTo>
                  <a:lnTo>
                    <a:pt x="668" y="488"/>
                  </a:lnTo>
                  <a:lnTo>
                    <a:pt x="621" y="454"/>
                  </a:lnTo>
                  <a:lnTo>
                    <a:pt x="575" y="421"/>
                  </a:lnTo>
                  <a:lnTo>
                    <a:pt x="529" y="389"/>
                  </a:lnTo>
                  <a:lnTo>
                    <a:pt x="484" y="358"/>
                  </a:lnTo>
                  <a:lnTo>
                    <a:pt x="437" y="328"/>
                  </a:lnTo>
                  <a:lnTo>
                    <a:pt x="389" y="300"/>
                  </a:lnTo>
                  <a:lnTo>
                    <a:pt x="341" y="272"/>
                  </a:lnTo>
                  <a:lnTo>
                    <a:pt x="289" y="247"/>
                  </a:lnTo>
                  <a:lnTo>
                    <a:pt x="236" y="222"/>
                  </a:lnTo>
                  <a:lnTo>
                    <a:pt x="178" y="199"/>
                  </a:lnTo>
                  <a:lnTo>
                    <a:pt x="119" y="177"/>
                  </a:lnTo>
                  <a:lnTo>
                    <a:pt x="56" y="157"/>
                  </a:lnTo>
                  <a:lnTo>
                    <a:pt x="13" y="131"/>
                  </a:lnTo>
                  <a:lnTo>
                    <a:pt x="0" y="94"/>
                  </a:lnTo>
                  <a:lnTo>
                    <a:pt x="18" y="59"/>
                  </a:lnTo>
                  <a:lnTo>
                    <a:pt x="38" y="47"/>
                  </a:lnTo>
                  <a:lnTo>
                    <a:pt x="65" y="39"/>
                  </a:lnTo>
                  <a:lnTo>
                    <a:pt x="6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885200" y="2270880"/>
              <a:ext cx="1362240" cy="282960"/>
            </a:xfrm>
            <a:custGeom>
              <a:avLst/>
              <a:gdLst/>
              <a:ahLst/>
              <a:rect l="l" t="t" r="r" b="b"/>
              <a:pathLst>
                <a:path w="3833" h="800">
                  <a:moveTo>
                    <a:pt x="1503" y="61"/>
                  </a:moveTo>
                  <a:lnTo>
                    <a:pt x="1525" y="113"/>
                  </a:lnTo>
                  <a:lnTo>
                    <a:pt x="1546" y="159"/>
                  </a:lnTo>
                  <a:lnTo>
                    <a:pt x="1568" y="200"/>
                  </a:lnTo>
                  <a:lnTo>
                    <a:pt x="1589" y="237"/>
                  </a:lnTo>
                  <a:lnTo>
                    <a:pt x="1612" y="269"/>
                  </a:lnTo>
                  <a:lnTo>
                    <a:pt x="1636" y="300"/>
                  </a:lnTo>
                  <a:lnTo>
                    <a:pt x="1687" y="351"/>
                  </a:lnTo>
                  <a:lnTo>
                    <a:pt x="1752" y="383"/>
                  </a:lnTo>
                  <a:lnTo>
                    <a:pt x="1795" y="410"/>
                  </a:lnTo>
                  <a:lnTo>
                    <a:pt x="1841" y="439"/>
                  </a:lnTo>
                  <a:lnTo>
                    <a:pt x="1888" y="470"/>
                  </a:lnTo>
                  <a:lnTo>
                    <a:pt x="1932" y="498"/>
                  </a:lnTo>
                  <a:lnTo>
                    <a:pt x="1974" y="522"/>
                  </a:lnTo>
                  <a:lnTo>
                    <a:pt x="2007" y="536"/>
                  </a:lnTo>
                  <a:lnTo>
                    <a:pt x="2152" y="544"/>
                  </a:lnTo>
                  <a:lnTo>
                    <a:pt x="2372" y="491"/>
                  </a:lnTo>
                  <a:lnTo>
                    <a:pt x="2388" y="479"/>
                  </a:lnTo>
                  <a:lnTo>
                    <a:pt x="2445" y="445"/>
                  </a:lnTo>
                  <a:lnTo>
                    <a:pt x="2502" y="412"/>
                  </a:lnTo>
                  <a:lnTo>
                    <a:pt x="2556" y="382"/>
                  </a:lnTo>
                  <a:lnTo>
                    <a:pt x="2611" y="349"/>
                  </a:lnTo>
                  <a:lnTo>
                    <a:pt x="2662" y="315"/>
                  </a:lnTo>
                  <a:lnTo>
                    <a:pt x="2712" y="278"/>
                  </a:lnTo>
                  <a:lnTo>
                    <a:pt x="2761" y="234"/>
                  </a:lnTo>
                  <a:lnTo>
                    <a:pt x="2808" y="184"/>
                  </a:lnTo>
                  <a:lnTo>
                    <a:pt x="2855" y="120"/>
                  </a:lnTo>
                  <a:lnTo>
                    <a:pt x="2878" y="90"/>
                  </a:lnTo>
                  <a:lnTo>
                    <a:pt x="2901" y="60"/>
                  </a:lnTo>
                  <a:lnTo>
                    <a:pt x="2922" y="42"/>
                  </a:lnTo>
                  <a:lnTo>
                    <a:pt x="2944" y="33"/>
                  </a:lnTo>
                  <a:lnTo>
                    <a:pt x="2984" y="42"/>
                  </a:lnTo>
                  <a:lnTo>
                    <a:pt x="3006" y="75"/>
                  </a:lnTo>
                  <a:lnTo>
                    <a:pt x="3000" y="123"/>
                  </a:lnTo>
                  <a:lnTo>
                    <a:pt x="2971" y="190"/>
                  </a:lnTo>
                  <a:lnTo>
                    <a:pt x="2942" y="252"/>
                  </a:lnTo>
                  <a:lnTo>
                    <a:pt x="2925" y="281"/>
                  </a:lnTo>
                  <a:lnTo>
                    <a:pt x="2901" y="312"/>
                  </a:lnTo>
                  <a:lnTo>
                    <a:pt x="2872" y="343"/>
                  </a:lnTo>
                  <a:lnTo>
                    <a:pt x="2833" y="376"/>
                  </a:lnTo>
                  <a:lnTo>
                    <a:pt x="2972" y="398"/>
                  </a:lnTo>
                  <a:lnTo>
                    <a:pt x="3031" y="420"/>
                  </a:lnTo>
                  <a:lnTo>
                    <a:pt x="3089" y="443"/>
                  </a:lnTo>
                  <a:lnTo>
                    <a:pt x="3147" y="467"/>
                  </a:lnTo>
                  <a:lnTo>
                    <a:pt x="3211" y="489"/>
                  </a:lnTo>
                  <a:lnTo>
                    <a:pt x="3283" y="504"/>
                  </a:lnTo>
                  <a:lnTo>
                    <a:pt x="3367" y="510"/>
                  </a:lnTo>
                  <a:lnTo>
                    <a:pt x="3673" y="519"/>
                  </a:lnTo>
                  <a:lnTo>
                    <a:pt x="3814" y="551"/>
                  </a:lnTo>
                  <a:lnTo>
                    <a:pt x="3833" y="581"/>
                  </a:lnTo>
                  <a:lnTo>
                    <a:pt x="3823" y="598"/>
                  </a:lnTo>
                  <a:lnTo>
                    <a:pt x="3799" y="620"/>
                  </a:lnTo>
                  <a:lnTo>
                    <a:pt x="3770" y="641"/>
                  </a:lnTo>
                  <a:lnTo>
                    <a:pt x="3742" y="660"/>
                  </a:lnTo>
                  <a:lnTo>
                    <a:pt x="3714" y="679"/>
                  </a:lnTo>
                  <a:lnTo>
                    <a:pt x="3686" y="696"/>
                  </a:lnTo>
                  <a:lnTo>
                    <a:pt x="3633" y="724"/>
                  </a:lnTo>
                  <a:lnTo>
                    <a:pt x="3581" y="749"/>
                  </a:lnTo>
                  <a:lnTo>
                    <a:pt x="3531" y="768"/>
                  </a:lnTo>
                  <a:lnTo>
                    <a:pt x="3482" y="783"/>
                  </a:lnTo>
                  <a:lnTo>
                    <a:pt x="3391" y="800"/>
                  </a:lnTo>
                  <a:lnTo>
                    <a:pt x="3224" y="796"/>
                  </a:lnTo>
                  <a:lnTo>
                    <a:pt x="3075" y="759"/>
                  </a:lnTo>
                  <a:lnTo>
                    <a:pt x="3007" y="733"/>
                  </a:lnTo>
                  <a:lnTo>
                    <a:pt x="2941" y="706"/>
                  </a:lnTo>
                  <a:lnTo>
                    <a:pt x="2876" y="682"/>
                  </a:lnTo>
                  <a:lnTo>
                    <a:pt x="2813" y="662"/>
                  </a:lnTo>
                  <a:lnTo>
                    <a:pt x="2749" y="647"/>
                  </a:lnTo>
                  <a:lnTo>
                    <a:pt x="2686" y="643"/>
                  </a:lnTo>
                  <a:lnTo>
                    <a:pt x="2558" y="672"/>
                  </a:lnTo>
                  <a:lnTo>
                    <a:pt x="2502" y="697"/>
                  </a:lnTo>
                  <a:lnTo>
                    <a:pt x="2450" y="718"/>
                  </a:lnTo>
                  <a:lnTo>
                    <a:pt x="2400" y="735"/>
                  </a:lnTo>
                  <a:lnTo>
                    <a:pt x="2354" y="752"/>
                  </a:lnTo>
                  <a:lnTo>
                    <a:pt x="2271" y="774"/>
                  </a:lnTo>
                  <a:lnTo>
                    <a:pt x="2198" y="787"/>
                  </a:lnTo>
                  <a:lnTo>
                    <a:pt x="2074" y="790"/>
                  </a:lnTo>
                  <a:lnTo>
                    <a:pt x="1971" y="771"/>
                  </a:lnTo>
                  <a:lnTo>
                    <a:pt x="1873" y="738"/>
                  </a:lnTo>
                  <a:lnTo>
                    <a:pt x="1822" y="722"/>
                  </a:lnTo>
                  <a:lnTo>
                    <a:pt x="1769" y="707"/>
                  </a:lnTo>
                  <a:lnTo>
                    <a:pt x="1645" y="685"/>
                  </a:lnTo>
                  <a:lnTo>
                    <a:pt x="1488" y="685"/>
                  </a:lnTo>
                  <a:lnTo>
                    <a:pt x="1134" y="725"/>
                  </a:lnTo>
                  <a:lnTo>
                    <a:pt x="951" y="750"/>
                  </a:lnTo>
                  <a:lnTo>
                    <a:pt x="769" y="772"/>
                  </a:lnTo>
                  <a:lnTo>
                    <a:pt x="586" y="786"/>
                  </a:lnTo>
                  <a:lnTo>
                    <a:pt x="404" y="787"/>
                  </a:lnTo>
                  <a:lnTo>
                    <a:pt x="226" y="772"/>
                  </a:lnTo>
                  <a:lnTo>
                    <a:pt x="50" y="734"/>
                  </a:lnTo>
                  <a:lnTo>
                    <a:pt x="9" y="706"/>
                  </a:lnTo>
                  <a:lnTo>
                    <a:pt x="0" y="668"/>
                  </a:lnTo>
                  <a:lnTo>
                    <a:pt x="21" y="632"/>
                  </a:lnTo>
                  <a:lnTo>
                    <a:pt x="68" y="617"/>
                  </a:lnTo>
                  <a:lnTo>
                    <a:pt x="260" y="612"/>
                  </a:lnTo>
                  <a:lnTo>
                    <a:pt x="437" y="588"/>
                  </a:lnTo>
                  <a:lnTo>
                    <a:pt x="602" y="554"/>
                  </a:lnTo>
                  <a:lnTo>
                    <a:pt x="680" y="533"/>
                  </a:lnTo>
                  <a:lnTo>
                    <a:pt x="758" y="511"/>
                  </a:lnTo>
                  <a:lnTo>
                    <a:pt x="835" y="489"/>
                  </a:lnTo>
                  <a:lnTo>
                    <a:pt x="910" y="466"/>
                  </a:lnTo>
                  <a:lnTo>
                    <a:pt x="985" y="443"/>
                  </a:lnTo>
                  <a:lnTo>
                    <a:pt x="1061" y="421"/>
                  </a:lnTo>
                  <a:lnTo>
                    <a:pt x="1137" y="401"/>
                  </a:lnTo>
                  <a:lnTo>
                    <a:pt x="1215" y="382"/>
                  </a:lnTo>
                  <a:lnTo>
                    <a:pt x="1294" y="365"/>
                  </a:lnTo>
                  <a:lnTo>
                    <a:pt x="1375" y="351"/>
                  </a:lnTo>
                  <a:lnTo>
                    <a:pt x="1344" y="230"/>
                  </a:lnTo>
                  <a:lnTo>
                    <a:pt x="1317" y="123"/>
                  </a:lnTo>
                  <a:lnTo>
                    <a:pt x="1314" y="79"/>
                  </a:lnTo>
                  <a:lnTo>
                    <a:pt x="1325" y="44"/>
                  </a:lnTo>
                  <a:lnTo>
                    <a:pt x="1348" y="16"/>
                  </a:lnTo>
                  <a:lnTo>
                    <a:pt x="1379" y="0"/>
                  </a:lnTo>
                  <a:lnTo>
                    <a:pt x="1448" y="2"/>
                  </a:lnTo>
                  <a:lnTo>
                    <a:pt x="1503" y="61"/>
                  </a:lnTo>
                  <a:lnTo>
                    <a:pt x="150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786200" y="2001240"/>
              <a:ext cx="1572120" cy="444960"/>
            </a:xfrm>
            <a:custGeom>
              <a:avLst/>
              <a:gdLst/>
              <a:ahLst/>
              <a:rect l="l" t="t" r="r" b="b"/>
              <a:pathLst>
                <a:path w="4424" h="1254">
                  <a:moveTo>
                    <a:pt x="2644" y="170"/>
                  </a:moveTo>
                  <a:lnTo>
                    <a:pt x="2712" y="136"/>
                  </a:lnTo>
                  <a:lnTo>
                    <a:pt x="2776" y="108"/>
                  </a:lnTo>
                  <a:lnTo>
                    <a:pt x="2833" y="82"/>
                  </a:lnTo>
                  <a:lnTo>
                    <a:pt x="2888" y="59"/>
                  </a:lnTo>
                  <a:lnTo>
                    <a:pt x="2939" y="42"/>
                  </a:lnTo>
                  <a:lnTo>
                    <a:pt x="2987" y="27"/>
                  </a:lnTo>
                  <a:lnTo>
                    <a:pt x="3071" y="6"/>
                  </a:lnTo>
                  <a:lnTo>
                    <a:pt x="3211" y="3"/>
                  </a:lnTo>
                  <a:lnTo>
                    <a:pt x="3324" y="48"/>
                  </a:lnTo>
                  <a:lnTo>
                    <a:pt x="3379" y="85"/>
                  </a:lnTo>
                  <a:lnTo>
                    <a:pt x="3433" y="130"/>
                  </a:lnTo>
                  <a:lnTo>
                    <a:pt x="3491" y="186"/>
                  </a:lnTo>
                  <a:lnTo>
                    <a:pt x="3522" y="217"/>
                  </a:lnTo>
                  <a:lnTo>
                    <a:pt x="3554" y="250"/>
                  </a:lnTo>
                  <a:lnTo>
                    <a:pt x="3588" y="285"/>
                  </a:lnTo>
                  <a:lnTo>
                    <a:pt x="3625" y="322"/>
                  </a:lnTo>
                  <a:lnTo>
                    <a:pt x="3665" y="360"/>
                  </a:lnTo>
                  <a:lnTo>
                    <a:pt x="3706" y="400"/>
                  </a:lnTo>
                  <a:lnTo>
                    <a:pt x="3750" y="441"/>
                  </a:lnTo>
                  <a:lnTo>
                    <a:pt x="3799" y="484"/>
                  </a:lnTo>
                  <a:lnTo>
                    <a:pt x="3851" y="528"/>
                  </a:lnTo>
                  <a:lnTo>
                    <a:pt x="3907" y="574"/>
                  </a:lnTo>
                  <a:lnTo>
                    <a:pt x="3941" y="596"/>
                  </a:lnTo>
                  <a:lnTo>
                    <a:pt x="3978" y="623"/>
                  </a:lnTo>
                  <a:lnTo>
                    <a:pt x="4025" y="655"/>
                  </a:lnTo>
                  <a:lnTo>
                    <a:pt x="4051" y="673"/>
                  </a:lnTo>
                  <a:lnTo>
                    <a:pt x="4078" y="694"/>
                  </a:lnTo>
                  <a:lnTo>
                    <a:pt x="4107" y="714"/>
                  </a:lnTo>
                  <a:lnTo>
                    <a:pt x="4137" y="735"/>
                  </a:lnTo>
                  <a:lnTo>
                    <a:pt x="4166" y="757"/>
                  </a:lnTo>
                  <a:lnTo>
                    <a:pt x="4196" y="779"/>
                  </a:lnTo>
                  <a:lnTo>
                    <a:pt x="4255" y="825"/>
                  </a:lnTo>
                  <a:lnTo>
                    <a:pt x="4308" y="869"/>
                  </a:lnTo>
                  <a:lnTo>
                    <a:pt x="4357" y="910"/>
                  </a:lnTo>
                  <a:lnTo>
                    <a:pt x="4420" y="980"/>
                  </a:lnTo>
                  <a:lnTo>
                    <a:pt x="4424" y="1018"/>
                  </a:lnTo>
                  <a:lnTo>
                    <a:pt x="4346" y="1015"/>
                  </a:lnTo>
                  <a:lnTo>
                    <a:pt x="4264" y="995"/>
                  </a:lnTo>
                  <a:lnTo>
                    <a:pt x="4186" y="972"/>
                  </a:lnTo>
                  <a:lnTo>
                    <a:pt x="4110" y="946"/>
                  </a:lnTo>
                  <a:lnTo>
                    <a:pt x="4041" y="918"/>
                  </a:lnTo>
                  <a:lnTo>
                    <a:pt x="3973" y="888"/>
                  </a:lnTo>
                  <a:lnTo>
                    <a:pt x="3910" y="857"/>
                  </a:lnTo>
                  <a:lnTo>
                    <a:pt x="3848" y="825"/>
                  </a:lnTo>
                  <a:lnTo>
                    <a:pt x="3790" y="792"/>
                  </a:lnTo>
                  <a:lnTo>
                    <a:pt x="3736" y="759"/>
                  </a:lnTo>
                  <a:lnTo>
                    <a:pt x="3683" y="723"/>
                  </a:lnTo>
                  <a:lnTo>
                    <a:pt x="3632" y="689"/>
                  </a:lnTo>
                  <a:lnTo>
                    <a:pt x="3582" y="655"/>
                  </a:lnTo>
                  <a:lnTo>
                    <a:pt x="3537" y="621"/>
                  </a:lnTo>
                  <a:lnTo>
                    <a:pt x="3491" y="587"/>
                  </a:lnTo>
                  <a:lnTo>
                    <a:pt x="3447" y="555"/>
                  </a:lnTo>
                  <a:lnTo>
                    <a:pt x="3402" y="524"/>
                  </a:lnTo>
                  <a:lnTo>
                    <a:pt x="3360" y="495"/>
                  </a:lnTo>
                  <a:lnTo>
                    <a:pt x="3318" y="468"/>
                  </a:lnTo>
                  <a:lnTo>
                    <a:pt x="3276" y="441"/>
                  </a:lnTo>
                  <a:lnTo>
                    <a:pt x="3234" y="419"/>
                  </a:lnTo>
                  <a:lnTo>
                    <a:pt x="3193" y="399"/>
                  </a:lnTo>
                  <a:lnTo>
                    <a:pt x="3150" y="381"/>
                  </a:lnTo>
                  <a:lnTo>
                    <a:pt x="3063" y="356"/>
                  </a:lnTo>
                  <a:lnTo>
                    <a:pt x="2972" y="346"/>
                  </a:lnTo>
                  <a:lnTo>
                    <a:pt x="2874" y="353"/>
                  </a:lnTo>
                  <a:lnTo>
                    <a:pt x="2768" y="381"/>
                  </a:lnTo>
                  <a:lnTo>
                    <a:pt x="2712" y="402"/>
                  </a:lnTo>
                  <a:lnTo>
                    <a:pt x="2653" y="430"/>
                  </a:lnTo>
                  <a:lnTo>
                    <a:pt x="2636" y="459"/>
                  </a:lnTo>
                  <a:lnTo>
                    <a:pt x="2616" y="484"/>
                  </a:lnTo>
                  <a:lnTo>
                    <a:pt x="2578" y="524"/>
                  </a:lnTo>
                  <a:lnTo>
                    <a:pt x="2537" y="548"/>
                  </a:lnTo>
                  <a:lnTo>
                    <a:pt x="2492" y="561"/>
                  </a:lnTo>
                  <a:lnTo>
                    <a:pt x="2395" y="559"/>
                  </a:lnTo>
                  <a:lnTo>
                    <a:pt x="2283" y="533"/>
                  </a:lnTo>
                  <a:lnTo>
                    <a:pt x="2226" y="509"/>
                  </a:lnTo>
                  <a:lnTo>
                    <a:pt x="2168" y="475"/>
                  </a:lnTo>
                  <a:lnTo>
                    <a:pt x="2140" y="455"/>
                  </a:lnTo>
                  <a:lnTo>
                    <a:pt x="2110" y="434"/>
                  </a:lnTo>
                  <a:lnTo>
                    <a:pt x="2054" y="390"/>
                  </a:lnTo>
                  <a:lnTo>
                    <a:pt x="2025" y="369"/>
                  </a:lnTo>
                  <a:lnTo>
                    <a:pt x="1997" y="349"/>
                  </a:lnTo>
                  <a:lnTo>
                    <a:pt x="1967" y="329"/>
                  </a:lnTo>
                  <a:lnTo>
                    <a:pt x="1939" y="313"/>
                  </a:lnTo>
                  <a:lnTo>
                    <a:pt x="1880" y="288"/>
                  </a:lnTo>
                  <a:lnTo>
                    <a:pt x="1821" y="279"/>
                  </a:lnTo>
                  <a:lnTo>
                    <a:pt x="1715" y="297"/>
                  </a:lnTo>
                  <a:lnTo>
                    <a:pt x="1650" y="316"/>
                  </a:lnTo>
                  <a:lnTo>
                    <a:pt x="1577" y="341"/>
                  </a:lnTo>
                  <a:lnTo>
                    <a:pt x="1498" y="374"/>
                  </a:lnTo>
                  <a:lnTo>
                    <a:pt x="1416" y="409"/>
                  </a:lnTo>
                  <a:lnTo>
                    <a:pt x="1375" y="428"/>
                  </a:lnTo>
                  <a:lnTo>
                    <a:pt x="1332" y="449"/>
                  </a:lnTo>
                  <a:lnTo>
                    <a:pt x="1288" y="469"/>
                  </a:lnTo>
                  <a:lnTo>
                    <a:pt x="1245" y="490"/>
                  </a:lnTo>
                  <a:lnTo>
                    <a:pt x="1202" y="512"/>
                  </a:lnTo>
                  <a:lnTo>
                    <a:pt x="1158" y="534"/>
                  </a:lnTo>
                  <a:lnTo>
                    <a:pt x="1116" y="556"/>
                  </a:lnTo>
                  <a:lnTo>
                    <a:pt x="1074" y="579"/>
                  </a:lnTo>
                  <a:lnTo>
                    <a:pt x="1032" y="602"/>
                  </a:lnTo>
                  <a:lnTo>
                    <a:pt x="993" y="624"/>
                  </a:lnTo>
                  <a:lnTo>
                    <a:pt x="953" y="646"/>
                  </a:lnTo>
                  <a:lnTo>
                    <a:pt x="914" y="669"/>
                  </a:lnTo>
                  <a:lnTo>
                    <a:pt x="878" y="691"/>
                  </a:lnTo>
                  <a:lnTo>
                    <a:pt x="844" y="711"/>
                  </a:lnTo>
                  <a:lnTo>
                    <a:pt x="810" y="732"/>
                  </a:lnTo>
                  <a:lnTo>
                    <a:pt x="779" y="751"/>
                  </a:lnTo>
                  <a:lnTo>
                    <a:pt x="723" y="788"/>
                  </a:lnTo>
                  <a:lnTo>
                    <a:pt x="678" y="820"/>
                  </a:lnTo>
                  <a:lnTo>
                    <a:pt x="612" y="875"/>
                  </a:lnTo>
                  <a:lnTo>
                    <a:pt x="577" y="909"/>
                  </a:lnTo>
                  <a:lnTo>
                    <a:pt x="540" y="944"/>
                  </a:lnTo>
                  <a:lnTo>
                    <a:pt x="503" y="980"/>
                  </a:lnTo>
                  <a:lnTo>
                    <a:pt x="465" y="1018"/>
                  </a:lnTo>
                  <a:lnTo>
                    <a:pt x="425" y="1055"/>
                  </a:lnTo>
                  <a:lnTo>
                    <a:pt x="385" y="1092"/>
                  </a:lnTo>
                  <a:lnTo>
                    <a:pt x="344" y="1127"/>
                  </a:lnTo>
                  <a:lnTo>
                    <a:pt x="302" y="1158"/>
                  </a:lnTo>
                  <a:lnTo>
                    <a:pt x="263" y="1188"/>
                  </a:lnTo>
                  <a:lnTo>
                    <a:pt x="221" y="1213"/>
                  </a:lnTo>
                  <a:lnTo>
                    <a:pt x="180" y="1232"/>
                  </a:lnTo>
                  <a:lnTo>
                    <a:pt x="139" y="1247"/>
                  </a:lnTo>
                  <a:lnTo>
                    <a:pt x="59" y="1254"/>
                  </a:lnTo>
                  <a:lnTo>
                    <a:pt x="15" y="1235"/>
                  </a:lnTo>
                  <a:lnTo>
                    <a:pt x="0" y="1197"/>
                  </a:lnTo>
                  <a:lnTo>
                    <a:pt x="10" y="1155"/>
                  </a:lnTo>
                  <a:lnTo>
                    <a:pt x="28" y="1138"/>
                  </a:lnTo>
                  <a:lnTo>
                    <a:pt x="52" y="1127"/>
                  </a:lnTo>
                  <a:lnTo>
                    <a:pt x="128" y="1093"/>
                  </a:lnTo>
                  <a:lnTo>
                    <a:pt x="168" y="1070"/>
                  </a:lnTo>
                  <a:lnTo>
                    <a:pt x="208" y="1043"/>
                  </a:lnTo>
                  <a:lnTo>
                    <a:pt x="249" y="1012"/>
                  </a:lnTo>
                  <a:lnTo>
                    <a:pt x="291" y="977"/>
                  </a:lnTo>
                  <a:lnTo>
                    <a:pt x="333" y="938"/>
                  </a:lnTo>
                  <a:lnTo>
                    <a:pt x="376" y="899"/>
                  </a:lnTo>
                  <a:lnTo>
                    <a:pt x="420" y="856"/>
                  </a:lnTo>
                  <a:lnTo>
                    <a:pt x="466" y="810"/>
                  </a:lnTo>
                  <a:lnTo>
                    <a:pt x="512" y="764"/>
                  </a:lnTo>
                  <a:lnTo>
                    <a:pt x="559" y="716"/>
                  </a:lnTo>
                  <a:lnTo>
                    <a:pt x="608" y="667"/>
                  </a:lnTo>
                  <a:lnTo>
                    <a:pt x="656" y="617"/>
                  </a:lnTo>
                  <a:lnTo>
                    <a:pt x="708" y="567"/>
                  </a:lnTo>
                  <a:lnTo>
                    <a:pt x="760" y="518"/>
                  </a:lnTo>
                  <a:lnTo>
                    <a:pt x="814" y="468"/>
                  </a:lnTo>
                  <a:lnTo>
                    <a:pt x="869" y="419"/>
                  </a:lnTo>
                  <a:lnTo>
                    <a:pt x="926" y="371"/>
                  </a:lnTo>
                  <a:lnTo>
                    <a:pt x="984" y="325"/>
                  </a:lnTo>
                  <a:lnTo>
                    <a:pt x="1013" y="301"/>
                  </a:lnTo>
                  <a:lnTo>
                    <a:pt x="1043" y="279"/>
                  </a:lnTo>
                  <a:lnTo>
                    <a:pt x="1074" y="259"/>
                  </a:lnTo>
                  <a:lnTo>
                    <a:pt x="1105" y="238"/>
                  </a:lnTo>
                  <a:lnTo>
                    <a:pt x="1136" y="217"/>
                  </a:lnTo>
                  <a:lnTo>
                    <a:pt x="1168" y="197"/>
                  </a:lnTo>
                  <a:lnTo>
                    <a:pt x="1199" y="177"/>
                  </a:lnTo>
                  <a:lnTo>
                    <a:pt x="1233" y="160"/>
                  </a:lnTo>
                  <a:lnTo>
                    <a:pt x="1265" y="142"/>
                  </a:lnTo>
                  <a:lnTo>
                    <a:pt x="1299" y="124"/>
                  </a:lnTo>
                  <a:lnTo>
                    <a:pt x="1367" y="95"/>
                  </a:lnTo>
                  <a:lnTo>
                    <a:pt x="1438" y="67"/>
                  </a:lnTo>
                  <a:lnTo>
                    <a:pt x="1510" y="45"/>
                  </a:lnTo>
                  <a:lnTo>
                    <a:pt x="1585" y="26"/>
                  </a:lnTo>
                  <a:lnTo>
                    <a:pt x="1662" y="12"/>
                  </a:lnTo>
                  <a:lnTo>
                    <a:pt x="1821" y="0"/>
                  </a:lnTo>
                  <a:lnTo>
                    <a:pt x="1911" y="26"/>
                  </a:lnTo>
                  <a:lnTo>
                    <a:pt x="1960" y="52"/>
                  </a:lnTo>
                  <a:lnTo>
                    <a:pt x="2012" y="85"/>
                  </a:lnTo>
                  <a:lnTo>
                    <a:pt x="2038" y="104"/>
                  </a:lnTo>
                  <a:lnTo>
                    <a:pt x="2066" y="123"/>
                  </a:lnTo>
                  <a:lnTo>
                    <a:pt x="2093" y="144"/>
                  </a:lnTo>
                  <a:lnTo>
                    <a:pt x="2119" y="163"/>
                  </a:lnTo>
                  <a:lnTo>
                    <a:pt x="2147" y="183"/>
                  </a:lnTo>
                  <a:lnTo>
                    <a:pt x="2175" y="203"/>
                  </a:lnTo>
                  <a:lnTo>
                    <a:pt x="2203" y="222"/>
                  </a:lnTo>
                  <a:lnTo>
                    <a:pt x="2231" y="239"/>
                  </a:lnTo>
                  <a:lnTo>
                    <a:pt x="2287" y="272"/>
                  </a:lnTo>
                  <a:lnTo>
                    <a:pt x="2344" y="297"/>
                  </a:lnTo>
                  <a:lnTo>
                    <a:pt x="2398" y="313"/>
                  </a:lnTo>
                  <a:lnTo>
                    <a:pt x="2451" y="318"/>
                  </a:lnTo>
                  <a:lnTo>
                    <a:pt x="2553" y="281"/>
                  </a:lnTo>
                  <a:lnTo>
                    <a:pt x="2600" y="236"/>
                  </a:lnTo>
                  <a:lnTo>
                    <a:pt x="2644" y="170"/>
                  </a:lnTo>
                  <a:lnTo>
                    <a:pt x="2644"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6927840" y="1719360"/>
            <a:ext cx="1531800" cy="1393560"/>
            <a:chOff x="6927840" y="1719360"/>
            <a:chExt cx="1531800" cy="1393560"/>
          </a:xfrm>
        </p:grpSpPr>
        <p:grpSp>
          <p:nvGrpSpPr>
            <p:cNvPr id="330" name=""/>
            <p:cNvGrpSpPr/>
            <p:nvPr/>
          </p:nvGrpSpPr>
          <p:grpSpPr>
            <a:xfrm>
              <a:off x="6927840" y="1719360"/>
              <a:ext cx="1531800" cy="1393560"/>
              <a:chOff x="6927840" y="1719360"/>
              <a:chExt cx="1531800" cy="1393560"/>
            </a:xfrm>
          </p:grpSpPr>
          <p:sp>
            <p:nvSpPr>
              <p:cNvPr id="331" name=""/>
              <p:cNvSpPr/>
              <p:nvPr/>
            </p:nvSpPr>
            <p:spPr>
              <a:xfrm>
                <a:off x="6927840" y="1719360"/>
                <a:ext cx="1531800" cy="139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948360" y="1736640"/>
                <a:ext cx="1494000" cy="1363680"/>
              </a:xfrm>
              <a:custGeom>
                <a:avLst/>
                <a:gdLst/>
                <a:ahLst/>
                <a:rect l="l" t="t" r="r" b="b"/>
                <a:pathLst>
                  <a:path w="2823" h="2579">
                    <a:moveTo>
                      <a:pt x="2789" y="2560"/>
                    </a:moveTo>
                    <a:lnTo>
                      <a:pt x="2703" y="2560"/>
                    </a:lnTo>
                    <a:lnTo>
                      <a:pt x="2617" y="2560"/>
                    </a:lnTo>
                    <a:lnTo>
                      <a:pt x="2531" y="2560"/>
                    </a:lnTo>
                    <a:lnTo>
                      <a:pt x="2444" y="2560"/>
                    </a:lnTo>
                    <a:lnTo>
                      <a:pt x="2359" y="2562"/>
                    </a:lnTo>
                    <a:lnTo>
                      <a:pt x="2272" y="2562"/>
                    </a:lnTo>
                    <a:lnTo>
                      <a:pt x="2186" y="2562"/>
                    </a:lnTo>
                    <a:lnTo>
                      <a:pt x="2100" y="2562"/>
                    </a:lnTo>
                    <a:lnTo>
                      <a:pt x="2013" y="2562"/>
                    </a:lnTo>
                    <a:lnTo>
                      <a:pt x="1928" y="2562"/>
                    </a:lnTo>
                    <a:lnTo>
                      <a:pt x="1841" y="2562"/>
                    </a:lnTo>
                    <a:lnTo>
                      <a:pt x="1754" y="2563"/>
                    </a:lnTo>
                    <a:lnTo>
                      <a:pt x="1667" y="2563"/>
                    </a:lnTo>
                    <a:lnTo>
                      <a:pt x="1582" y="2563"/>
                    </a:lnTo>
                    <a:lnTo>
                      <a:pt x="1495" y="2563"/>
                    </a:lnTo>
                    <a:lnTo>
                      <a:pt x="1409" y="2564"/>
                    </a:lnTo>
                    <a:lnTo>
                      <a:pt x="1322" y="2564"/>
                    </a:lnTo>
                    <a:lnTo>
                      <a:pt x="1236" y="2564"/>
                    </a:lnTo>
                    <a:lnTo>
                      <a:pt x="1150" y="2566"/>
                    </a:lnTo>
                    <a:lnTo>
                      <a:pt x="1063" y="2566"/>
                    </a:lnTo>
                    <a:lnTo>
                      <a:pt x="976" y="2567"/>
                    </a:lnTo>
                    <a:lnTo>
                      <a:pt x="889" y="2567"/>
                    </a:lnTo>
                    <a:lnTo>
                      <a:pt x="803" y="2569"/>
                    </a:lnTo>
                    <a:lnTo>
                      <a:pt x="716" y="2569"/>
                    </a:lnTo>
                    <a:lnTo>
                      <a:pt x="631" y="2570"/>
                    </a:lnTo>
                    <a:lnTo>
                      <a:pt x="544" y="2572"/>
                    </a:lnTo>
                    <a:lnTo>
                      <a:pt x="457" y="2573"/>
                    </a:lnTo>
                    <a:lnTo>
                      <a:pt x="369" y="2573"/>
                    </a:lnTo>
                    <a:lnTo>
                      <a:pt x="282" y="2575"/>
                    </a:lnTo>
                    <a:lnTo>
                      <a:pt x="195" y="2576"/>
                    </a:lnTo>
                    <a:lnTo>
                      <a:pt x="108" y="2577"/>
                    </a:lnTo>
                    <a:lnTo>
                      <a:pt x="22" y="2579"/>
                    </a:lnTo>
                    <a:lnTo>
                      <a:pt x="13" y="2573"/>
                    </a:lnTo>
                    <a:lnTo>
                      <a:pt x="10" y="2398"/>
                    </a:lnTo>
                    <a:lnTo>
                      <a:pt x="10" y="2223"/>
                    </a:lnTo>
                    <a:lnTo>
                      <a:pt x="10" y="2047"/>
                    </a:lnTo>
                    <a:lnTo>
                      <a:pt x="10" y="1871"/>
                    </a:lnTo>
                    <a:lnTo>
                      <a:pt x="4" y="1407"/>
                    </a:lnTo>
                    <a:lnTo>
                      <a:pt x="3" y="948"/>
                    </a:lnTo>
                    <a:lnTo>
                      <a:pt x="1" y="490"/>
                    </a:lnTo>
                    <a:lnTo>
                      <a:pt x="0" y="32"/>
                    </a:lnTo>
                    <a:lnTo>
                      <a:pt x="28" y="17"/>
                    </a:lnTo>
                    <a:lnTo>
                      <a:pt x="78" y="17"/>
                    </a:lnTo>
                    <a:lnTo>
                      <a:pt x="129" y="16"/>
                    </a:lnTo>
                    <a:lnTo>
                      <a:pt x="179" y="16"/>
                    </a:lnTo>
                    <a:lnTo>
                      <a:pt x="230" y="14"/>
                    </a:lnTo>
                    <a:lnTo>
                      <a:pt x="282" y="14"/>
                    </a:lnTo>
                    <a:lnTo>
                      <a:pt x="333" y="14"/>
                    </a:lnTo>
                    <a:lnTo>
                      <a:pt x="383" y="13"/>
                    </a:lnTo>
                    <a:lnTo>
                      <a:pt x="434" y="13"/>
                    </a:lnTo>
                    <a:lnTo>
                      <a:pt x="484" y="13"/>
                    </a:lnTo>
                    <a:lnTo>
                      <a:pt x="535" y="13"/>
                    </a:lnTo>
                    <a:lnTo>
                      <a:pt x="586" y="11"/>
                    </a:lnTo>
                    <a:lnTo>
                      <a:pt x="636" y="11"/>
                    </a:lnTo>
                    <a:lnTo>
                      <a:pt x="687" y="11"/>
                    </a:lnTo>
                    <a:lnTo>
                      <a:pt x="738" y="11"/>
                    </a:lnTo>
                    <a:lnTo>
                      <a:pt x="788" y="10"/>
                    </a:lnTo>
                    <a:lnTo>
                      <a:pt x="839" y="10"/>
                    </a:lnTo>
                    <a:lnTo>
                      <a:pt x="889" y="10"/>
                    </a:lnTo>
                    <a:lnTo>
                      <a:pt x="940" y="10"/>
                    </a:lnTo>
                    <a:lnTo>
                      <a:pt x="991" y="10"/>
                    </a:lnTo>
                    <a:lnTo>
                      <a:pt x="1041" y="10"/>
                    </a:lnTo>
                    <a:lnTo>
                      <a:pt x="1092" y="8"/>
                    </a:lnTo>
                    <a:lnTo>
                      <a:pt x="1142" y="8"/>
                    </a:lnTo>
                    <a:lnTo>
                      <a:pt x="1194" y="8"/>
                    </a:lnTo>
                    <a:lnTo>
                      <a:pt x="1245" y="8"/>
                    </a:lnTo>
                    <a:lnTo>
                      <a:pt x="1296" y="8"/>
                    </a:lnTo>
                    <a:lnTo>
                      <a:pt x="1346" y="7"/>
                    </a:lnTo>
                    <a:lnTo>
                      <a:pt x="1397" y="7"/>
                    </a:lnTo>
                    <a:lnTo>
                      <a:pt x="1448" y="7"/>
                    </a:lnTo>
                    <a:lnTo>
                      <a:pt x="1498" y="7"/>
                    </a:lnTo>
                    <a:lnTo>
                      <a:pt x="1550" y="7"/>
                    </a:lnTo>
                    <a:lnTo>
                      <a:pt x="1601" y="6"/>
                    </a:lnTo>
                    <a:lnTo>
                      <a:pt x="1651" y="6"/>
                    </a:lnTo>
                    <a:lnTo>
                      <a:pt x="1688" y="6"/>
                    </a:lnTo>
                    <a:lnTo>
                      <a:pt x="1725" y="6"/>
                    </a:lnTo>
                    <a:lnTo>
                      <a:pt x="1761" y="6"/>
                    </a:lnTo>
                    <a:lnTo>
                      <a:pt x="1797" y="6"/>
                    </a:lnTo>
                    <a:lnTo>
                      <a:pt x="1834" y="6"/>
                    </a:lnTo>
                    <a:lnTo>
                      <a:pt x="1871" y="6"/>
                    </a:lnTo>
                    <a:lnTo>
                      <a:pt x="1907" y="6"/>
                    </a:lnTo>
                    <a:lnTo>
                      <a:pt x="1944" y="6"/>
                    </a:lnTo>
                    <a:lnTo>
                      <a:pt x="1980" y="4"/>
                    </a:lnTo>
                    <a:lnTo>
                      <a:pt x="2016" y="4"/>
                    </a:lnTo>
                    <a:lnTo>
                      <a:pt x="2052" y="4"/>
                    </a:lnTo>
                    <a:lnTo>
                      <a:pt x="2088" y="4"/>
                    </a:lnTo>
                    <a:lnTo>
                      <a:pt x="2124" y="3"/>
                    </a:lnTo>
                    <a:lnTo>
                      <a:pt x="2160" y="3"/>
                    </a:lnTo>
                    <a:lnTo>
                      <a:pt x="2195" y="3"/>
                    </a:lnTo>
                    <a:lnTo>
                      <a:pt x="2231" y="3"/>
                    </a:lnTo>
                    <a:lnTo>
                      <a:pt x="2267" y="1"/>
                    </a:lnTo>
                    <a:lnTo>
                      <a:pt x="2304" y="1"/>
                    </a:lnTo>
                    <a:lnTo>
                      <a:pt x="2338" y="1"/>
                    </a:lnTo>
                    <a:lnTo>
                      <a:pt x="2374" y="1"/>
                    </a:lnTo>
                    <a:lnTo>
                      <a:pt x="2411" y="1"/>
                    </a:lnTo>
                    <a:lnTo>
                      <a:pt x="2445" y="1"/>
                    </a:lnTo>
                    <a:lnTo>
                      <a:pt x="2481" y="0"/>
                    </a:lnTo>
                    <a:lnTo>
                      <a:pt x="2516" y="0"/>
                    </a:lnTo>
                    <a:lnTo>
                      <a:pt x="2552" y="1"/>
                    </a:lnTo>
                    <a:lnTo>
                      <a:pt x="2587" y="1"/>
                    </a:lnTo>
                    <a:lnTo>
                      <a:pt x="2623" y="1"/>
                    </a:lnTo>
                    <a:lnTo>
                      <a:pt x="2658" y="1"/>
                    </a:lnTo>
                    <a:lnTo>
                      <a:pt x="2694" y="1"/>
                    </a:lnTo>
                    <a:lnTo>
                      <a:pt x="2729" y="3"/>
                    </a:lnTo>
                    <a:lnTo>
                      <a:pt x="2765" y="3"/>
                    </a:lnTo>
                    <a:lnTo>
                      <a:pt x="2800" y="4"/>
                    </a:lnTo>
                    <a:lnTo>
                      <a:pt x="2811" y="24"/>
                    </a:lnTo>
                    <a:lnTo>
                      <a:pt x="2813" y="605"/>
                    </a:lnTo>
                    <a:lnTo>
                      <a:pt x="2817" y="1187"/>
                    </a:lnTo>
                    <a:lnTo>
                      <a:pt x="2820" y="1770"/>
                    </a:lnTo>
                    <a:lnTo>
                      <a:pt x="2821" y="2351"/>
                    </a:lnTo>
                    <a:lnTo>
                      <a:pt x="2821" y="2405"/>
                    </a:lnTo>
                    <a:lnTo>
                      <a:pt x="2823" y="2459"/>
                    </a:lnTo>
                    <a:lnTo>
                      <a:pt x="2821" y="2510"/>
                    </a:lnTo>
                    <a:lnTo>
                      <a:pt x="2816" y="2556"/>
                    </a:lnTo>
                    <a:lnTo>
                      <a:pt x="2789" y="2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615080" y="2595600"/>
                <a:ext cx="812880" cy="484200"/>
              </a:xfrm>
              <a:custGeom>
                <a:avLst/>
                <a:gdLst/>
                <a:ahLst/>
                <a:rect l="l" t="t" r="r" b="b"/>
                <a:pathLst>
                  <a:path w="1534" h="916">
                    <a:moveTo>
                      <a:pt x="1394" y="909"/>
                    </a:moveTo>
                    <a:lnTo>
                      <a:pt x="1351" y="909"/>
                    </a:lnTo>
                    <a:lnTo>
                      <a:pt x="1307" y="909"/>
                    </a:lnTo>
                    <a:lnTo>
                      <a:pt x="1264" y="909"/>
                    </a:lnTo>
                    <a:lnTo>
                      <a:pt x="1222" y="910"/>
                    </a:lnTo>
                    <a:lnTo>
                      <a:pt x="1179" y="910"/>
                    </a:lnTo>
                    <a:lnTo>
                      <a:pt x="1135" y="910"/>
                    </a:lnTo>
                    <a:lnTo>
                      <a:pt x="1092" y="910"/>
                    </a:lnTo>
                    <a:lnTo>
                      <a:pt x="1048" y="910"/>
                    </a:lnTo>
                    <a:lnTo>
                      <a:pt x="1005" y="912"/>
                    </a:lnTo>
                    <a:lnTo>
                      <a:pt x="962" y="912"/>
                    </a:lnTo>
                    <a:lnTo>
                      <a:pt x="918" y="912"/>
                    </a:lnTo>
                    <a:lnTo>
                      <a:pt x="875" y="913"/>
                    </a:lnTo>
                    <a:lnTo>
                      <a:pt x="831" y="913"/>
                    </a:lnTo>
                    <a:lnTo>
                      <a:pt x="787" y="913"/>
                    </a:lnTo>
                    <a:lnTo>
                      <a:pt x="743" y="913"/>
                    </a:lnTo>
                    <a:lnTo>
                      <a:pt x="700" y="914"/>
                    </a:lnTo>
                    <a:lnTo>
                      <a:pt x="657" y="914"/>
                    </a:lnTo>
                    <a:lnTo>
                      <a:pt x="613" y="914"/>
                    </a:lnTo>
                    <a:lnTo>
                      <a:pt x="570" y="914"/>
                    </a:lnTo>
                    <a:lnTo>
                      <a:pt x="526" y="916"/>
                    </a:lnTo>
                    <a:lnTo>
                      <a:pt x="482" y="916"/>
                    </a:lnTo>
                    <a:lnTo>
                      <a:pt x="438" y="916"/>
                    </a:lnTo>
                    <a:lnTo>
                      <a:pt x="395" y="916"/>
                    </a:lnTo>
                    <a:lnTo>
                      <a:pt x="351" y="916"/>
                    </a:lnTo>
                    <a:lnTo>
                      <a:pt x="307" y="916"/>
                    </a:lnTo>
                    <a:lnTo>
                      <a:pt x="263" y="916"/>
                    </a:lnTo>
                    <a:lnTo>
                      <a:pt x="220" y="916"/>
                    </a:lnTo>
                    <a:lnTo>
                      <a:pt x="175" y="916"/>
                    </a:lnTo>
                    <a:lnTo>
                      <a:pt x="132" y="916"/>
                    </a:lnTo>
                    <a:lnTo>
                      <a:pt x="88" y="916"/>
                    </a:lnTo>
                    <a:lnTo>
                      <a:pt x="43" y="916"/>
                    </a:lnTo>
                    <a:lnTo>
                      <a:pt x="0" y="916"/>
                    </a:lnTo>
                    <a:lnTo>
                      <a:pt x="0" y="901"/>
                    </a:lnTo>
                    <a:lnTo>
                      <a:pt x="14" y="888"/>
                    </a:lnTo>
                    <a:lnTo>
                      <a:pt x="29" y="875"/>
                    </a:lnTo>
                    <a:lnTo>
                      <a:pt x="42" y="862"/>
                    </a:lnTo>
                    <a:lnTo>
                      <a:pt x="58" y="848"/>
                    </a:lnTo>
                    <a:lnTo>
                      <a:pt x="72" y="834"/>
                    </a:lnTo>
                    <a:lnTo>
                      <a:pt x="87" y="821"/>
                    </a:lnTo>
                    <a:lnTo>
                      <a:pt x="103" y="808"/>
                    </a:lnTo>
                    <a:lnTo>
                      <a:pt x="119" y="795"/>
                    </a:lnTo>
                    <a:lnTo>
                      <a:pt x="168" y="767"/>
                    </a:lnTo>
                    <a:lnTo>
                      <a:pt x="214" y="737"/>
                    </a:lnTo>
                    <a:lnTo>
                      <a:pt x="257" y="702"/>
                    </a:lnTo>
                    <a:lnTo>
                      <a:pt x="296" y="666"/>
                    </a:lnTo>
                    <a:lnTo>
                      <a:pt x="334" y="627"/>
                    </a:lnTo>
                    <a:lnTo>
                      <a:pt x="369" y="586"/>
                    </a:lnTo>
                    <a:lnTo>
                      <a:pt x="402" y="543"/>
                    </a:lnTo>
                    <a:lnTo>
                      <a:pt x="434" y="498"/>
                    </a:lnTo>
                    <a:lnTo>
                      <a:pt x="464" y="454"/>
                    </a:lnTo>
                    <a:lnTo>
                      <a:pt x="493" y="407"/>
                    </a:lnTo>
                    <a:lnTo>
                      <a:pt x="522" y="361"/>
                    </a:lnTo>
                    <a:lnTo>
                      <a:pt x="550" y="315"/>
                    </a:lnTo>
                    <a:lnTo>
                      <a:pt x="578" y="269"/>
                    </a:lnTo>
                    <a:lnTo>
                      <a:pt x="607" y="222"/>
                    </a:lnTo>
                    <a:lnTo>
                      <a:pt x="638" y="178"/>
                    </a:lnTo>
                    <a:lnTo>
                      <a:pt x="668" y="134"/>
                    </a:lnTo>
                    <a:lnTo>
                      <a:pt x="678" y="118"/>
                    </a:lnTo>
                    <a:lnTo>
                      <a:pt x="688" y="104"/>
                    </a:lnTo>
                    <a:lnTo>
                      <a:pt x="698" y="88"/>
                    </a:lnTo>
                    <a:lnTo>
                      <a:pt x="709" y="71"/>
                    </a:lnTo>
                    <a:lnTo>
                      <a:pt x="719" y="55"/>
                    </a:lnTo>
                    <a:lnTo>
                      <a:pt x="730" y="37"/>
                    </a:lnTo>
                    <a:lnTo>
                      <a:pt x="742" y="20"/>
                    </a:lnTo>
                    <a:lnTo>
                      <a:pt x="755" y="1"/>
                    </a:lnTo>
                    <a:lnTo>
                      <a:pt x="766" y="0"/>
                    </a:lnTo>
                    <a:lnTo>
                      <a:pt x="792" y="11"/>
                    </a:lnTo>
                    <a:lnTo>
                      <a:pt x="817" y="24"/>
                    </a:lnTo>
                    <a:lnTo>
                      <a:pt x="840" y="37"/>
                    </a:lnTo>
                    <a:lnTo>
                      <a:pt x="862" y="52"/>
                    </a:lnTo>
                    <a:lnTo>
                      <a:pt x="884" y="66"/>
                    </a:lnTo>
                    <a:lnTo>
                      <a:pt x="907" y="82"/>
                    </a:lnTo>
                    <a:lnTo>
                      <a:pt x="930" y="97"/>
                    </a:lnTo>
                    <a:lnTo>
                      <a:pt x="956" y="110"/>
                    </a:lnTo>
                    <a:lnTo>
                      <a:pt x="989" y="137"/>
                    </a:lnTo>
                    <a:lnTo>
                      <a:pt x="1024" y="163"/>
                    </a:lnTo>
                    <a:lnTo>
                      <a:pt x="1059" y="188"/>
                    </a:lnTo>
                    <a:lnTo>
                      <a:pt x="1095" y="211"/>
                    </a:lnTo>
                    <a:lnTo>
                      <a:pt x="1131" y="234"/>
                    </a:lnTo>
                    <a:lnTo>
                      <a:pt x="1167" y="256"/>
                    </a:lnTo>
                    <a:lnTo>
                      <a:pt x="1205" y="277"/>
                    </a:lnTo>
                    <a:lnTo>
                      <a:pt x="1241" y="297"/>
                    </a:lnTo>
                    <a:lnTo>
                      <a:pt x="1278" y="319"/>
                    </a:lnTo>
                    <a:lnTo>
                      <a:pt x="1316" y="339"/>
                    </a:lnTo>
                    <a:lnTo>
                      <a:pt x="1352" y="361"/>
                    </a:lnTo>
                    <a:lnTo>
                      <a:pt x="1390" y="383"/>
                    </a:lnTo>
                    <a:lnTo>
                      <a:pt x="1426" y="404"/>
                    </a:lnTo>
                    <a:lnTo>
                      <a:pt x="1463" y="428"/>
                    </a:lnTo>
                    <a:lnTo>
                      <a:pt x="1498" y="452"/>
                    </a:lnTo>
                    <a:lnTo>
                      <a:pt x="1534" y="477"/>
                    </a:lnTo>
                    <a:lnTo>
                      <a:pt x="1534" y="553"/>
                    </a:lnTo>
                    <a:lnTo>
                      <a:pt x="1534" y="628"/>
                    </a:lnTo>
                    <a:lnTo>
                      <a:pt x="1534" y="705"/>
                    </a:lnTo>
                    <a:lnTo>
                      <a:pt x="1534" y="781"/>
                    </a:lnTo>
                    <a:lnTo>
                      <a:pt x="1533" y="815"/>
                    </a:lnTo>
                    <a:lnTo>
                      <a:pt x="1533" y="844"/>
                    </a:lnTo>
                    <a:lnTo>
                      <a:pt x="1531" y="868"/>
                    </a:lnTo>
                    <a:lnTo>
                      <a:pt x="1531" y="894"/>
                    </a:lnTo>
                    <a:lnTo>
                      <a:pt x="1505" y="909"/>
                    </a:lnTo>
                    <a:lnTo>
                      <a:pt x="1492" y="909"/>
                    </a:lnTo>
                    <a:lnTo>
                      <a:pt x="1479" y="909"/>
                    </a:lnTo>
                    <a:lnTo>
                      <a:pt x="1466" y="907"/>
                    </a:lnTo>
                    <a:lnTo>
                      <a:pt x="1455" y="907"/>
                    </a:lnTo>
                    <a:lnTo>
                      <a:pt x="1442" y="907"/>
                    </a:lnTo>
                    <a:lnTo>
                      <a:pt x="1429" y="907"/>
                    </a:lnTo>
                    <a:lnTo>
                      <a:pt x="1416" y="906"/>
                    </a:lnTo>
                    <a:lnTo>
                      <a:pt x="1401" y="904"/>
                    </a:lnTo>
                    <a:lnTo>
                      <a:pt x="1394" y="90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170840" y="2287440"/>
                <a:ext cx="901440" cy="795600"/>
              </a:xfrm>
              <a:custGeom>
                <a:avLst/>
                <a:gdLst/>
                <a:ahLst/>
                <a:rect l="l" t="t" r="r" b="b"/>
                <a:pathLst>
                  <a:path w="1705" h="1504">
                    <a:moveTo>
                      <a:pt x="356" y="1504"/>
                    </a:moveTo>
                    <a:lnTo>
                      <a:pt x="334" y="1502"/>
                    </a:lnTo>
                    <a:lnTo>
                      <a:pt x="313" y="1502"/>
                    </a:lnTo>
                    <a:lnTo>
                      <a:pt x="290" y="1502"/>
                    </a:lnTo>
                    <a:lnTo>
                      <a:pt x="268" y="1502"/>
                    </a:lnTo>
                    <a:lnTo>
                      <a:pt x="246" y="1502"/>
                    </a:lnTo>
                    <a:lnTo>
                      <a:pt x="223" y="1502"/>
                    </a:lnTo>
                    <a:lnTo>
                      <a:pt x="201" y="1502"/>
                    </a:lnTo>
                    <a:lnTo>
                      <a:pt x="178" y="1502"/>
                    </a:lnTo>
                    <a:lnTo>
                      <a:pt x="157" y="1502"/>
                    </a:lnTo>
                    <a:lnTo>
                      <a:pt x="135" y="1502"/>
                    </a:lnTo>
                    <a:lnTo>
                      <a:pt x="112" y="1502"/>
                    </a:lnTo>
                    <a:lnTo>
                      <a:pt x="90" y="1502"/>
                    </a:lnTo>
                    <a:lnTo>
                      <a:pt x="67" y="1502"/>
                    </a:lnTo>
                    <a:lnTo>
                      <a:pt x="45" y="1502"/>
                    </a:lnTo>
                    <a:lnTo>
                      <a:pt x="22" y="1502"/>
                    </a:lnTo>
                    <a:lnTo>
                      <a:pt x="0" y="1501"/>
                    </a:lnTo>
                    <a:lnTo>
                      <a:pt x="25" y="1488"/>
                    </a:lnTo>
                    <a:lnTo>
                      <a:pt x="51" y="1475"/>
                    </a:lnTo>
                    <a:lnTo>
                      <a:pt x="76" y="1460"/>
                    </a:lnTo>
                    <a:lnTo>
                      <a:pt x="100" y="1446"/>
                    </a:lnTo>
                    <a:lnTo>
                      <a:pt x="123" y="1431"/>
                    </a:lnTo>
                    <a:lnTo>
                      <a:pt x="148" y="1417"/>
                    </a:lnTo>
                    <a:lnTo>
                      <a:pt x="171" y="1401"/>
                    </a:lnTo>
                    <a:lnTo>
                      <a:pt x="194" y="1385"/>
                    </a:lnTo>
                    <a:lnTo>
                      <a:pt x="217" y="1368"/>
                    </a:lnTo>
                    <a:lnTo>
                      <a:pt x="240" y="1350"/>
                    </a:lnTo>
                    <a:lnTo>
                      <a:pt x="262" y="1333"/>
                    </a:lnTo>
                    <a:lnTo>
                      <a:pt x="285" y="1314"/>
                    </a:lnTo>
                    <a:lnTo>
                      <a:pt x="307" y="1294"/>
                    </a:lnTo>
                    <a:lnTo>
                      <a:pt x="327" y="1274"/>
                    </a:lnTo>
                    <a:lnTo>
                      <a:pt x="349" y="1254"/>
                    </a:lnTo>
                    <a:lnTo>
                      <a:pt x="369" y="1232"/>
                    </a:lnTo>
                    <a:lnTo>
                      <a:pt x="379" y="1225"/>
                    </a:lnTo>
                    <a:lnTo>
                      <a:pt x="391" y="1218"/>
                    </a:lnTo>
                    <a:lnTo>
                      <a:pt x="401" y="1209"/>
                    </a:lnTo>
                    <a:lnTo>
                      <a:pt x="413" y="1199"/>
                    </a:lnTo>
                    <a:lnTo>
                      <a:pt x="423" y="1187"/>
                    </a:lnTo>
                    <a:lnTo>
                      <a:pt x="433" y="1177"/>
                    </a:lnTo>
                    <a:lnTo>
                      <a:pt x="444" y="1166"/>
                    </a:lnTo>
                    <a:lnTo>
                      <a:pt x="454" y="1154"/>
                    </a:lnTo>
                    <a:lnTo>
                      <a:pt x="469" y="1134"/>
                    </a:lnTo>
                    <a:lnTo>
                      <a:pt x="480" y="1114"/>
                    </a:lnTo>
                    <a:lnTo>
                      <a:pt x="492" y="1092"/>
                    </a:lnTo>
                    <a:lnTo>
                      <a:pt x="502" y="1067"/>
                    </a:lnTo>
                    <a:lnTo>
                      <a:pt x="512" y="1044"/>
                    </a:lnTo>
                    <a:lnTo>
                      <a:pt x="522" y="1020"/>
                    </a:lnTo>
                    <a:lnTo>
                      <a:pt x="534" y="995"/>
                    </a:lnTo>
                    <a:lnTo>
                      <a:pt x="546" y="969"/>
                    </a:lnTo>
                    <a:lnTo>
                      <a:pt x="564" y="892"/>
                    </a:lnTo>
                    <a:lnTo>
                      <a:pt x="589" y="819"/>
                    </a:lnTo>
                    <a:lnTo>
                      <a:pt x="618" y="749"/>
                    </a:lnTo>
                    <a:lnTo>
                      <a:pt x="651" y="684"/>
                    </a:lnTo>
                    <a:lnTo>
                      <a:pt x="687" y="621"/>
                    </a:lnTo>
                    <a:lnTo>
                      <a:pt x="728" y="562"/>
                    </a:lnTo>
                    <a:lnTo>
                      <a:pt x="771" y="502"/>
                    </a:lnTo>
                    <a:lnTo>
                      <a:pt x="819" y="447"/>
                    </a:lnTo>
                    <a:lnTo>
                      <a:pt x="868" y="393"/>
                    </a:lnTo>
                    <a:lnTo>
                      <a:pt x="919" y="339"/>
                    </a:lnTo>
                    <a:lnTo>
                      <a:pt x="972" y="287"/>
                    </a:lnTo>
                    <a:lnTo>
                      <a:pt x="1027" y="235"/>
                    </a:lnTo>
                    <a:lnTo>
                      <a:pt x="1083" y="184"/>
                    </a:lnTo>
                    <a:lnTo>
                      <a:pt x="1140" y="132"/>
                    </a:lnTo>
                    <a:lnTo>
                      <a:pt x="1198" y="80"/>
                    </a:lnTo>
                    <a:lnTo>
                      <a:pt x="1256" y="27"/>
                    </a:lnTo>
                    <a:lnTo>
                      <a:pt x="1261" y="24"/>
                    </a:lnTo>
                    <a:lnTo>
                      <a:pt x="1269" y="21"/>
                    </a:lnTo>
                    <a:lnTo>
                      <a:pt x="1274" y="18"/>
                    </a:lnTo>
                    <a:lnTo>
                      <a:pt x="1282" y="15"/>
                    </a:lnTo>
                    <a:lnTo>
                      <a:pt x="1287" y="11"/>
                    </a:lnTo>
                    <a:lnTo>
                      <a:pt x="1295" y="8"/>
                    </a:lnTo>
                    <a:lnTo>
                      <a:pt x="1302" y="4"/>
                    </a:lnTo>
                    <a:lnTo>
                      <a:pt x="1309" y="0"/>
                    </a:lnTo>
                    <a:lnTo>
                      <a:pt x="1316" y="2"/>
                    </a:lnTo>
                    <a:lnTo>
                      <a:pt x="1322" y="4"/>
                    </a:lnTo>
                    <a:lnTo>
                      <a:pt x="1328" y="4"/>
                    </a:lnTo>
                    <a:lnTo>
                      <a:pt x="1335" y="5"/>
                    </a:lnTo>
                    <a:lnTo>
                      <a:pt x="1341" y="7"/>
                    </a:lnTo>
                    <a:lnTo>
                      <a:pt x="1348" y="8"/>
                    </a:lnTo>
                    <a:lnTo>
                      <a:pt x="1355" y="10"/>
                    </a:lnTo>
                    <a:lnTo>
                      <a:pt x="1363" y="14"/>
                    </a:lnTo>
                    <a:lnTo>
                      <a:pt x="1367" y="20"/>
                    </a:lnTo>
                    <a:lnTo>
                      <a:pt x="1368" y="30"/>
                    </a:lnTo>
                    <a:lnTo>
                      <a:pt x="1368" y="41"/>
                    </a:lnTo>
                    <a:lnTo>
                      <a:pt x="1370" y="54"/>
                    </a:lnTo>
                    <a:lnTo>
                      <a:pt x="1342" y="33"/>
                    </a:lnTo>
                    <a:lnTo>
                      <a:pt x="1328" y="44"/>
                    </a:lnTo>
                    <a:lnTo>
                      <a:pt x="1334" y="50"/>
                    </a:lnTo>
                    <a:lnTo>
                      <a:pt x="1338" y="56"/>
                    </a:lnTo>
                    <a:lnTo>
                      <a:pt x="1344" y="65"/>
                    </a:lnTo>
                    <a:lnTo>
                      <a:pt x="1351" y="72"/>
                    </a:lnTo>
                    <a:lnTo>
                      <a:pt x="1355" y="85"/>
                    </a:lnTo>
                    <a:lnTo>
                      <a:pt x="1344" y="86"/>
                    </a:lnTo>
                    <a:lnTo>
                      <a:pt x="1331" y="67"/>
                    </a:lnTo>
                    <a:lnTo>
                      <a:pt x="1322" y="65"/>
                    </a:lnTo>
                    <a:lnTo>
                      <a:pt x="1315" y="63"/>
                    </a:lnTo>
                    <a:lnTo>
                      <a:pt x="1306" y="66"/>
                    </a:lnTo>
                    <a:lnTo>
                      <a:pt x="1299" y="73"/>
                    </a:lnTo>
                    <a:lnTo>
                      <a:pt x="1302" y="82"/>
                    </a:lnTo>
                    <a:lnTo>
                      <a:pt x="1308" y="86"/>
                    </a:lnTo>
                    <a:lnTo>
                      <a:pt x="1316" y="91"/>
                    </a:lnTo>
                    <a:lnTo>
                      <a:pt x="1325" y="98"/>
                    </a:lnTo>
                    <a:lnTo>
                      <a:pt x="1328" y="115"/>
                    </a:lnTo>
                    <a:lnTo>
                      <a:pt x="1321" y="119"/>
                    </a:lnTo>
                    <a:lnTo>
                      <a:pt x="1311" y="111"/>
                    </a:lnTo>
                    <a:lnTo>
                      <a:pt x="1302" y="102"/>
                    </a:lnTo>
                    <a:lnTo>
                      <a:pt x="1293" y="95"/>
                    </a:lnTo>
                    <a:lnTo>
                      <a:pt x="1283" y="85"/>
                    </a:lnTo>
                    <a:lnTo>
                      <a:pt x="1264" y="102"/>
                    </a:lnTo>
                    <a:lnTo>
                      <a:pt x="1273" y="111"/>
                    </a:lnTo>
                    <a:lnTo>
                      <a:pt x="1279" y="117"/>
                    </a:lnTo>
                    <a:lnTo>
                      <a:pt x="1284" y="124"/>
                    </a:lnTo>
                    <a:lnTo>
                      <a:pt x="1293" y="131"/>
                    </a:lnTo>
                    <a:lnTo>
                      <a:pt x="1292" y="143"/>
                    </a:lnTo>
                    <a:lnTo>
                      <a:pt x="1282" y="141"/>
                    </a:lnTo>
                    <a:lnTo>
                      <a:pt x="1274" y="135"/>
                    </a:lnTo>
                    <a:lnTo>
                      <a:pt x="1269" y="128"/>
                    </a:lnTo>
                    <a:lnTo>
                      <a:pt x="1263" y="121"/>
                    </a:lnTo>
                    <a:lnTo>
                      <a:pt x="1241" y="121"/>
                    </a:lnTo>
                    <a:lnTo>
                      <a:pt x="1238" y="131"/>
                    </a:lnTo>
                    <a:lnTo>
                      <a:pt x="1244" y="138"/>
                    </a:lnTo>
                    <a:lnTo>
                      <a:pt x="1250" y="147"/>
                    </a:lnTo>
                    <a:lnTo>
                      <a:pt x="1258" y="157"/>
                    </a:lnTo>
                    <a:lnTo>
                      <a:pt x="1267" y="169"/>
                    </a:lnTo>
                    <a:lnTo>
                      <a:pt x="1256" y="170"/>
                    </a:lnTo>
                    <a:lnTo>
                      <a:pt x="1248" y="163"/>
                    </a:lnTo>
                    <a:lnTo>
                      <a:pt x="1240" y="154"/>
                    </a:lnTo>
                    <a:lnTo>
                      <a:pt x="1230" y="150"/>
                    </a:lnTo>
                    <a:lnTo>
                      <a:pt x="1214" y="161"/>
                    </a:lnTo>
                    <a:lnTo>
                      <a:pt x="1219" y="171"/>
                    </a:lnTo>
                    <a:lnTo>
                      <a:pt x="1227" y="180"/>
                    </a:lnTo>
                    <a:lnTo>
                      <a:pt x="1234" y="190"/>
                    </a:lnTo>
                    <a:lnTo>
                      <a:pt x="1241" y="203"/>
                    </a:lnTo>
                    <a:lnTo>
                      <a:pt x="1231" y="208"/>
                    </a:lnTo>
                    <a:lnTo>
                      <a:pt x="1224" y="200"/>
                    </a:lnTo>
                    <a:lnTo>
                      <a:pt x="1218" y="196"/>
                    </a:lnTo>
                    <a:lnTo>
                      <a:pt x="1211" y="190"/>
                    </a:lnTo>
                    <a:lnTo>
                      <a:pt x="1199" y="186"/>
                    </a:lnTo>
                    <a:lnTo>
                      <a:pt x="1179" y="197"/>
                    </a:lnTo>
                    <a:lnTo>
                      <a:pt x="1182" y="208"/>
                    </a:lnTo>
                    <a:lnTo>
                      <a:pt x="1189" y="210"/>
                    </a:lnTo>
                    <a:lnTo>
                      <a:pt x="1196" y="218"/>
                    </a:lnTo>
                    <a:lnTo>
                      <a:pt x="1205" y="226"/>
                    </a:lnTo>
                    <a:lnTo>
                      <a:pt x="1215" y="229"/>
                    </a:lnTo>
                    <a:lnTo>
                      <a:pt x="1206" y="244"/>
                    </a:lnTo>
                    <a:lnTo>
                      <a:pt x="1196" y="241"/>
                    </a:lnTo>
                    <a:lnTo>
                      <a:pt x="1189" y="234"/>
                    </a:lnTo>
                    <a:lnTo>
                      <a:pt x="1180" y="226"/>
                    </a:lnTo>
                    <a:lnTo>
                      <a:pt x="1167" y="222"/>
                    </a:lnTo>
                    <a:lnTo>
                      <a:pt x="1147" y="236"/>
                    </a:lnTo>
                    <a:lnTo>
                      <a:pt x="1156" y="242"/>
                    </a:lnTo>
                    <a:lnTo>
                      <a:pt x="1163" y="250"/>
                    </a:lnTo>
                    <a:lnTo>
                      <a:pt x="1170" y="258"/>
                    </a:lnTo>
                    <a:lnTo>
                      <a:pt x="1180" y="264"/>
                    </a:lnTo>
                    <a:lnTo>
                      <a:pt x="1176" y="273"/>
                    </a:lnTo>
                    <a:lnTo>
                      <a:pt x="1166" y="273"/>
                    </a:lnTo>
                    <a:lnTo>
                      <a:pt x="1162" y="265"/>
                    </a:lnTo>
                    <a:lnTo>
                      <a:pt x="1154" y="260"/>
                    </a:lnTo>
                    <a:lnTo>
                      <a:pt x="1146" y="254"/>
                    </a:lnTo>
                    <a:lnTo>
                      <a:pt x="1137" y="247"/>
                    </a:lnTo>
                    <a:lnTo>
                      <a:pt x="1120" y="263"/>
                    </a:lnTo>
                    <a:lnTo>
                      <a:pt x="1125" y="270"/>
                    </a:lnTo>
                    <a:lnTo>
                      <a:pt x="1133" y="278"/>
                    </a:lnTo>
                    <a:lnTo>
                      <a:pt x="1141" y="287"/>
                    </a:lnTo>
                    <a:lnTo>
                      <a:pt x="1149" y="299"/>
                    </a:lnTo>
                    <a:lnTo>
                      <a:pt x="1140" y="299"/>
                    </a:lnTo>
                    <a:lnTo>
                      <a:pt x="1136" y="291"/>
                    </a:lnTo>
                    <a:lnTo>
                      <a:pt x="1127" y="286"/>
                    </a:lnTo>
                    <a:lnTo>
                      <a:pt x="1118" y="278"/>
                    </a:lnTo>
                    <a:lnTo>
                      <a:pt x="1110" y="268"/>
                    </a:lnTo>
                    <a:lnTo>
                      <a:pt x="1099" y="268"/>
                    </a:lnTo>
                    <a:lnTo>
                      <a:pt x="1095" y="289"/>
                    </a:lnTo>
                    <a:lnTo>
                      <a:pt x="1101" y="297"/>
                    </a:lnTo>
                    <a:lnTo>
                      <a:pt x="1107" y="304"/>
                    </a:lnTo>
                    <a:lnTo>
                      <a:pt x="1112" y="312"/>
                    </a:lnTo>
                    <a:lnTo>
                      <a:pt x="1118" y="322"/>
                    </a:lnTo>
                    <a:lnTo>
                      <a:pt x="1114" y="329"/>
                    </a:lnTo>
                    <a:lnTo>
                      <a:pt x="1105" y="323"/>
                    </a:lnTo>
                    <a:lnTo>
                      <a:pt x="1099" y="313"/>
                    </a:lnTo>
                    <a:lnTo>
                      <a:pt x="1091" y="303"/>
                    </a:lnTo>
                    <a:lnTo>
                      <a:pt x="1081" y="297"/>
                    </a:lnTo>
                    <a:lnTo>
                      <a:pt x="1062" y="309"/>
                    </a:lnTo>
                    <a:lnTo>
                      <a:pt x="1068" y="320"/>
                    </a:lnTo>
                    <a:lnTo>
                      <a:pt x="1073" y="329"/>
                    </a:lnTo>
                    <a:lnTo>
                      <a:pt x="1081" y="338"/>
                    </a:lnTo>
                    <a:lnTo>
                      <a:pt x="1088" y="349"/>
                    </a:lnTo>
                    <a:lnTo>
                      <a:pt x="1079" y="349"/>
                    </a:lnTo>
                    <a:lnTo>
                      <a:pt x="1070" y="345"/>
                    </a:lnTo>
                    <a:lnTo>
                      <a:pt x="1063" y="338"/>
                    </a:lnTo>
                    <a:lnTo>
                      <a:pt x="1053" y="332"/>
                    </a:lnTo>
                    <a:lnTo>
                      <a:pt x="1033" y="338"/>
                    </a:lnTo>
                    <a:lnTo>
                      <a:pt x="1036" y="348"/>
                    </a:lnTo>
                    <a:lnTo>
                      <a:pt x="1044" y="355"/>
                    </a:lnTo>
                    <a:lnTo>
                      <a:pt x="1052" y="364"/>
                    </a:lnTo>
                    <a:lnTo>
                      <a:pt x="1053" y="378"/>
                    </a:lnTo>
                    <a:lnTo>
                      <a:pt x="1043" y="375"/>
                    </a:lnTo>
                    <a:lnTo>
                      <a:pt x="1034" y="368"/>
                    </a:lnTo>
                    <a:lnTo>
                      <a:pt x="1027" y="359"/>
                    </a:lnTo>
                    <a:lnTo>
                      <a:pt x="1016" y="356"/>
                    </a:lnTo>
                    <a:lnTo>
                      <a:pt x="997" y="371"/>
                    </a:lnTo>
                    <a:lnTo>
                      <a:pt x="1001" y="378"/>
                    </a:lnTo>
                    <a:lnTo>
                      <a:pt x="1010" y="384"/>
                    </a:lnTo>
                    <a:lnTo>
                      <a:pt x="1017" y="393"/>
                    </a:lnTo>
                    <a:lnTo>
                      <a:pt x="1017" y="403"/>
                    </a:lnTo>
                    <a:lnTo>
                      <a:pt x="1004" y="410"/>
                    </a:lnTo>
                    <a:lnTo>
                      <a:pt x="976" y="419"/>
                    </a:lnTo>
                    <a:lnTo>
                      <a:pt x="976" y="430"/>
                    </a:lnTo>
                    <a:lnTo>
                      <a:pt x="987" y="442"/>
                    </a:lnTo>
                    <a:lnTo>
                      <a:pt x="998" y="442"/>
                    </a:lnTo>
                    <a:lnTo>
                      <a:pt x="1010" y="437"/>
                    </a:lnTo>
                    <a:lnTo>
                      <a:pt x="1021" y="433"/>
                    </a:lnTo>
                    <a:lnTo>
                      <a:pt x="1031" y="427"/>
                    </a:lnTo>
                    <a:lnTo>
                      <a:pt x="1040" y="420"/>
                    </a:lnTo>
                    <a:lnTo>
                      <a:pt x="1049" y="413"/>
                    </a:lnTo>
                    <a:lnTo>
                      <a:pt x="1059" y="407"/>
                    </a:lnTo>
                    <a:lnTo>
                      <a:pt x="1070" y="400"/>
                    </a:lnTo>
                    <a:lnTo>
                      <a:pt x="1082" y="394"/>
                    </a:lnTo>
                    <a:lnTo>
                      <a:pt x="1107" y="377"/>
                    </a:lnTo>
                    <a:lnTo>
                      <a:pt x="1130" y="356"/>
                    </a:lnTo>
                    <a:lnTo>
                      <a:pt x="1151" y="338"/>
                    </a:lnTo>
                    <a:lnTo>
                      <a:pt x="1173" y="316"/>
                    </a:lnTo>
                    <a:lnTo>
                      <a:pt x="1195" y="294"/>
                    </a:lnTo>
                    <a:lnTo>
                      <a:pt x="1215" y="273"/>
                    </a:lnTo>
                    <a:lnTo>
                      <a:pt x="1237" y="250"/>
                    </a:lnTo>
                    <a:lnTo>
                      <a:pt x="1257" y="226"/>
                    </a:lnTo>
                    <a:lnTo>
                      <a:pt x="1277" y="203"/>
                    </a:lnTo>
                    <a:lnTo>
                      <a:pt x="1299" y="180"/>
                    </a:lnTo>
                    <a:lnTo>
                      <a:pt x="1319" y="157"/>
                    </a:lnTo>
                    <a:lnTo>
                      <a:pt x="1341" y="135"/>
                    </a:lnTo>
                    <a:lnTo>
                      <a:pt x="1363" y="112"/>
                    </a:lnTo>
                    <a:lnTo>
                      <a:pt x="1384" y="91"/>
                    </a:lnTo>
                    <a:lnTo>
                      <a:pt x="1407" y="69"/>
                    </a:lnTo>
                    <a:lnTo>
                      <a:pt x="1432" y="49"/>
                    </a:lnTo>
                    <a:lnTo>
                      <a:pt x="1452" y="47"/>
                    </a:lnTo>
                    <a:lnTo>
                      <a:pt x="1474" y="54"/>
                    </a:lnTo>
                    <a:lnTo>
                      <a:pt x="1480" y="56"/>
                    </a:lnTo>
                    <a:lnTo>
                      <a:pt x="1487" y="62"/>
                    </a:lnTo>
                    <a:lnTo>
                      <a:pt x="1494" y="69"/>
                    </a:lnTo>
                    <a:lnTo>
                      <a:pt x="1501" y="78"/>
                    </a:lnTo>
                    <a:lnTo>
                      <a:pt x="1503" y="85"/>
                    </a:lnTo>
                    <a:lnTo>
                      <a:pt x="1506" y="92"/>
                    </a:lnTo>
                    <a:lnTo>
                      <a:pt x="1509" y="99"/>
                    </a:lnTo>
                    <a:lnTo>
                      <a:pt x="1510" y="109"/>
                    </a:lnTo>
                    <a:lnTo>
                      <a:pt x="1504" y="109"/>
                    </a:lnTo>
                    <a:lnTo>
                      <a:pt x="1497" y="109"/>
                    </a:lnTo>
                    <a:lnTo>
                      <a:pt x="1490" y="112"/>
                    </a:lnTo>
                    <a:lnTo>
                      <a:pt x="1480" y="115"/>
                    </a:lnTo>
                    <a:lnTo>
                      <a:pt x="1480" y="122"/>
                    </a:lnTo>
                    <a:lnTo>
                      <a:pt x="1485" y="125"/>
                    </a:lnTo>
                    <a:lnTo>
                      <a:pt x="1493" y="130"/>
                    </a:lnTo>
                    <a:lnTo>
                      <a:pt x="1496" y="138"/>
                    </a:lnTo>
                    <a:lnTo>
                      <a:pt x="1490" y="137"/>
                    </a:lnTo>
                    <a:lnTo>
                      <a:pt x="1483" y="130"/>
                    </a:lnTo>
                    <a:lnTo>
                      <a:pt x="1474" y="124"/>
                    </a:lnTo>
                    <a:lnTo>
                      <a:pt x="1461" y="121"/>
                    </a:lnTo>
                    <a:lnTo>
                      <a:pt x="1449" y="140"/>
                    </a:lnTo>
                    <a:lnTo>
                      <a:pt x="1454" y="148"/>
                    </a:lnTo>
                    <a:lnTo>
                      <a:pt x="1461" y="154"/>
                    </a:lnTo>
                    <a:lnTo>
                      <a:pt x="1468" y="160"/>
                    </a:lnTo>
                    <a:lnTo>
                      <a:pt x="1477" y="171"/>
                    </a:lnTo>
                    <a:lnTo>
                      <a:pt x="1477" y="180"/>
                    </a:lnTo>
                    <a:lnTo>
                      <a:pt x="1471" y="180"/>
                    </a:lnTo>
                    <a:lnTo>
                      <a:pt x="1465" y="179"/>
                    </a:lnTo>
                    <a:lnTo>
                      <a:pt x="1461" y="176"/>
                    </a:lnTo>
                    <a:lnTo>
                      <a:pt x="1457" y="173"/>
                    </a:lnTo>
                    <a:lnTo>
                      <a:pt x="1452" y="169"/>
                    </a:lnTo>
                    <a:lnTo>
                      <a:pt x="1446" y="166"/>
                    </a:lnTo>
                    <a:lnTo>
                      <a:pt x="1441" y="164"/>
                    </a:lnTo>
                    <a:lnTo>
                      <a:pt x="1433" y="163"/>
                    </a:lnTo>
                    <a:lnTo>
                      <a:pt x="1425" y="171"/>
                    </a:lnTo>
                    <a:lnTo>
                      <a:pt x="1426" y="182"/>
                    </a:lnTo>
                    <a:lnTo>
                      <a:pt x="1435" y="189"/>
                    </a:lnTo>
                    <a:lnTo>
                      <a:pt x="1445" y="197"/>
                    </a:lnTo>
                    <a:lnTo>
                      <a:pt x="1449" y="210"/>
                    </a:lnTo>
                    <a:lnTo>
                      <a:pt x="1444" y="210"/>
                    </a:lnTo>
                    <a:lnTo>
                      <a:pt x="1439" y="210"/>
                    </a:lnTo>
                    <a:lnTo>
                      <a:pt x="1433" y="209"/>
                    </a:lnTo>
                    <a:lnTo>
                      <a:pt x="1428" y="206"/>
                    </a:lnTo>
                    <a:lnTo>
                      <a:pt x="1422" y="205"/>
                    </a:lnTo>
                    <a:lnTo>
                      <a:pt x="1416" y="205"/>
                    </a:lnTo>
                    <a:lnTo>
                      <a:pt x="1412" y="205"/>
                    </a:lnTo>
                    <a:lnTo>
                      <a:pt x="1406" y="208"/>
                    </a:lnTo>
                    <a:lnTo>
                      <a:pt x="1403" y="219"/>
                    </a:lnTo>
                    <a:lnTo>
                      <a:pt x="1405" y="226"/>
                    </a:lnTo>
                    <a:lnTo>
                      <a:pt x="1410" y="231"/>
                    </a:lnTo>
                    <a:lnTo>
                      <a:pt x="1418" y="235"/>
                    </a:lnTo>
                    <a:lnTo>
                      <a:pt x="1425" y="244"/>
                    </a:lnTo>
                    <a:lnTo>
                      <a:pt x="1407" y="244"/>
                    </a:lnTo>
                    <a:lnTo>
                      <a:pt x="1397" y="244"/>
                    </a:lnTo>
                    <a:lnTo>
                      <a:pt x="1390" y="247"/>
                    </a:lnTo>
                    <a:lnTo>
                      <a:pt x="1384" y="252"/>
                    </a:lnTo>
                    <a:lnTo>
                      <a:pt x="1380" y="260"/>
                    </a:lnTo>
                    <a:lnTo>
                      <a:pt x="1384" y="264"/>
                    </a:lnTo>
                    <a:lnTo>
                      <a:pt x="1392" y="267"/>
                    </a:lnTo>
                    <a:lnTo>
                      <a:pt x="1399" y="271"/>
                    </a:lnTo>
                    <a:lnTo>
                      <a:pt x="1399" y="280"/>
                    </a:lnTo>
                    <a:lnTo>
                      <a:pt x="1394" y="277"/>
                    </a:lnTo>
                    <a:lnTo>
                      <a:pt x="1387" y="277"/>
                    </a:lnTo>
                    <a:lnTo>
                      <a:pt x="1377" y="277"/>
                    </a:lnTo>
                    <a:lnTo>
                      <a:pt x="1365" y="280"/>
                    </a:lnTo>
                    <a:lnTo>
                      <a:pt x="1363" y="300"/>
                    </a:lnTo>
                    <a:lnTo>
                      <a:pt x="1380" y="309"/>
                    </a:lnTo>
                    <a:lnTo>
                      <a:pt x="1371" y="320"/>
                    </a:lnTo>
                    <a:lnTo>
                      <a:pt x="1361" y="317"/>
                    </a:lnTo>
                    <a:lnTo>
                      <a:pt x="1354" y="312"/>
                    </a:lnTo>
                    <a:lnTo>
                      <a:pt x="1344" y="304"/>
                    </a:lnTo>
                    <a:lnTo>
                      <a:pt x="1331" y="303"/>
                    </a:lnTo>
                    <a:lnTo>
                      <a:pt x="1321" y="315"/>
                    </a:lnTo>
                    <a:lnTo>
                      <a:pt x="1328" y="320"/>
                    </a:lnTo>
                    <a:lnTo>
                      <a:pt x="1334" y="328"/>
                    </a:lnTo>
                    <a:lnTo>
                      <a:pt x="1341" y="335"/>
                    </a:lnTo>
                    <a:lnTo>
                      <a:pt x="1351" y="342"/>
                    </a:lnTo>
                    <a:lnTo>
                      <a:pt x="1348" y="352"/>
                    </a:lnTo>
                    <a:lnTo>
                      <a:pt x="1339" y="351"/>
                    </a:lnTo>
                    <a:lnTo>
                      <a:pt x="1331" y="345"/>
                    </a:lnTo>
                    <a:lnTo>
                      <a:pt x="1321" y="339"/>
                    </a:lnTo>
                    <a:lnTo>
                      <a:pt x="1306" y="341"/>
                    </a:lnTo>
                    <a:lnTo>
                      <a:pt x="1296" y="346"/>
                    </a:lnTo>
                    <a:lnTo>
                      <a:pt x="1299" y="356"/>
                    </a:lnTo>
                    <a:lnTo>
                      <a:pt x="1308" y="362"/>
                    </a:lnTo>
                    <a:lnTo>
                      <a:pt x="1316" y="368"/>
                    </a:lnTo>
                    <a:lnTo>
                      <a:pt x="1322" y="381"/>
                    </a:lnTo>
                    <a:lnTo>
                      <a:pt x="1315" y="391"/>
                    </a:lnTo>
                    <a:lnTo>
                      <a:pt x="1309" y="391"/>
                    </a:lnTo>
                    <a:lnTo>
                      <a:pt x="1303" y="390"/>
                    </a:lnTo>
                    <a:lnTo>
                      <a:pt x="1299" y="385"/>
                    </a:lnTo>
                    <a:lnTo>
                      <a:pt x="1295" y="381"/>
                    </a:lnTo>
                    <a:lnTo>
                      <a:pt x="1290" y="378"/>
                    </a:lnTo>
                    <a:lnTo>
                      <a:pt x="1284" y="374"/>
                    </a:lnTo>
                    <a:lnTo>
                      <a:pt x="1279" y="371"/>
                    </a:lnTo>
                    <a:lnTo>
                      <a:pt x="1271" y="371"/>
                    </a:lnTo>
                    <a:lnTo>
                      <a:pt x="1256" y="384"/>
                    </a:lnTo>
                    <a:lnTo>
                      <a:pt x="1263" y="393"/>
                    </a:lnTo>
                    <a:lnTo>
                      <a:pt x="1270" y="400"/>
                    </a:lnTo>
                    <a:lnTo>
                      <a:pt x="1277" y="407"/>
                    </a:lnTo>
                    <a:lnTo>
                      <a:pt x="1283" y="417"/>
                    </a:lnTo>
                    <a:lnTo>
                      <a:pt x="1273" y="427"/>
                    </a:lnTo>
                    <a:lnTo>
                      <a:pt x="1263" y="424"/>
                    </a:lnTo>
                    <a:lnTo>
                      <a:pt x="1254" y="417"/>
                    </a:lnTo>
                    <a:lnTo>
                      <a:pt x="1244" y="411"/>
                    </a:lnTo>
                    <a:lnTo>
                      <a:pt x="1231" y="407"/>
                    </a:lnTo>
                    <a:lnTo>
                      <a:pt x="1219" y="414"/>
                    </a:lnTo>
                    <a:lnTo>
                      <a:pt x="1219" y="424"/>
                    </a:lnTo>
                    <a:lnTo>
                      <a:pt x="1224" y="432"/>
                    </a:lnTo>
                    <a:lnTo>
                      <a:pt x="1230" y="437"/>
                    </a:lnTo>
                    <a:lnTo>
                      <a:pt x="1237" y="442"/>
                    </a:lnTo>
                    <a:lnTo>
                      <a:pt x="1248" y="446"/>
                    </a:lnTo>
                    <a:lnTo>
                      <a:pt x="1232" y="463"/>
                    </a:lnTo>
                    <a:lnTo>
                      <a:pt x="1227" y="459"/>
                    </a:lnTo>
                    <a:lnTo>
                      <a:pt x="1219" y="453"/>
                    </a:lnTo>
                    <a:lnTo>
                      <a:pt x="1211" y="447"/>
                    </a:lnTo>
                    <a:lnTo>
                      <a:pt x="1202" y="439"/>
                    </a:lnTo>
                    <a:lnTo>
                      <a:pt x="1183" y="456"/>
                    </a:lnTo>
                    <a:lnTo>
                      <a:pt x="1186" y="463"/>
                    </a:lnTo>
                    <a:lnTo>
                      <a:pt x="1193" y="468"/>
                    </a:lnTo>
                    <a:lnTo>
                      <a:pt x="1202" y="473"/>
                    </a:lnTo>
                    <a:lnTo>
                      <a:pt x="1209" y="482"/>
                    </a:lnTo>
                    <a:lnTo>
                      <a:pt x="1204" y="489"/>
                    </a:lnTo>
                    <a:lnTo>
                      <a:pt x="1196" y="486"/>
                    </a:lnTo>
                    <a:lnTo>
                      <a:pt x="1191" y="481"/>
                    </a:lnTo>
                    <a:lnTo>
                      <a:pt x="1183" y="476"/>
                    </a:lnTo>
                    <a:lnTo>
                      <a:pt x="1172" y="476"/>
                    </a:lnTo>
                    <a:lnTo>
                      <a:pt x="1166" y="489"/>
                    </a:lnTo>
                    <a:lnTo>
                      <a:pt x="1167" y="497"/>
                    </a:lnTo>
                    <a:lnTo>
                      <a:pt x="1173" y="504"/>
                    </a:lnTo>
                    <a:lnTo>
                      <a:pt x="1177" y="510"/>
                    </a:lnTo>
                    <a:lnTo>
                      <a:pt x="1183" y="518"/>
                    </a:lnTo>
                    <a:lnTo>
                      <a:pt x="1179" y="524"/>
                    </a:lnTo>
                    <a:lnTo>
                      <a:pt x="1175" y="534"/>
                    </a:lnTo>
                    <a:lnTo>
                      <a:pt x="1175" y="544"/>
                    </a:lnTo>
                    <a:lnTo>
                      <a:pt x="1179" y="551"/>
                    </a:lnTo>
                    <a:lnTo>
                      <a:pt x="1191" y="551"/>
                    </a:lnTo>
                    <a:lnTo>
                      <a:pt x="1215" y="528"/>
                    </a:lnTo>
                    <a:lnTo>
                      <a:pt x="1240" y="504"/>
                    </a:lnTo>
                    <a:lnTo>
                      <a:pt x="1263" y="479"/>
                    </a:lnTo>
                    <a:lnTo>
                      <a:pt x="1286" y="455"/>
                    </a:lnTo>
                    <a:lnTo>
                      <a:pt x="1309" y="430"/>
                    </a:lnTo>
                    <a:lnTo>
                      <a:pt x="1331" y="406"/>
                    </a:lnTo>
                    <a:lnTo>
                      <a:pt x="1352" y="381"/>
                    </a:lnTo>
                    <a:lnTo>
                      <a:pt x="1374" y="355"/>
                    </a:lnTo>
                    <a:lnTo>
                      <a:pt x="1396" y="330"/>
                    </a:lnTo>
                    <a:lnTo>
                      <a:pt x="1416" y="304"/>
                    </a:lnTo>
                    <a:lnTo>
                      <a:pt x="1438" y="278"/>
                    </a:lnTo>
                    <a:lnTo>
                      <a:pt x="1459" y="254"/>
                    </a:lnTo>
                    <a:lnTo>
                      <a:pt x="1480" y="228"/>
                    </a:lnTo>
                    <a:lnTo>
                      <a:pt x="1501" y="202"/>
                    </a:lnTo>
                    <a:lnTo>
                      <a:pt x="1525" y="177"/>
                    </a:lnTo>
                    <a:lnTo>
                      <a:pt x="1546" y="151"/>
                    </a:lnTo>
                    <a:lnTo>
                      <a:pt x="1551" y="148"/>
                    </a:lnTo>
                    <a:lnTo>
                      <a:pt x="1558" y="145"/>
                    </a:lnTo>
                    <a:lnTo>
                      <a:pt x="1564" y="143"/>
                    </a:lnTo>
                    <a:lnTo>
                      <a:pt x="1572" y="140"/>
                    </a:lnTo>
                    <a:lnTo>
                      <a:pt x="1579" y="137"/>
                    </a:lnTo>
                    <a:lnTo>
                      <a:pt x="1588" y="135"/>
                    </a:lnTo>
                    <a:lnTo>
                      <a:pt x="1595" y="134"/>
                    </a:lnTo>
                    <a:lnTo>
                      <a:pt x="1603" y="132"/>
                    </a:lnTo>
                    <a:lnTo>
                      <a:pt x="1621" y="151"/>
                    </a:lnTo>
                    <a:lnTo>
                      <a:pt x="1627" y="173"/>
                    </a:lnTo>
                    <a:lnTo>
                      <a:pt x="1610" y="184"/>
                    </a:lnTo>
                    <a:lnTo>
                      <a:pt x="1613" y="193"/>
                    </a:lnTo>
                    <a:lnTo>
                      <a:pt x="1617" y="202"/>
                    </a:lnTo>
                    <a:lnTo>
                      <a:pt x="1621" y="212"/>
                    </a:lnTo>
                    <a:lnTo>
                      <a:pt x="1620" y="223"/>
                    </a:lnTo>
                    <a:lnTo>
                      <a:pt x="1611" y="222"/>
                    </a:lnTo>
                    <a:lnTo>
                      <a:pt x="1603" y="221"/>
                    </a:lnTo>
                    <a:lnTo>
                      <a:pt x="1595" y="221"/>
                    </a:lnTo>
                    <a:lnTo>
                      <a:pt x="1588" y="226"/>
                    </a:lnTo>
                    <a:lnTo>
                      <a:pt x="1590" y="236"/>
                    </a:lnTo>
                    <a:lnTo>
                      <a:pt x="1594" y="245"/>
                    </a:lnTo>
                    <a:lnTo>
                      <a:pt x="1598" y="255"/>
                    </a:lnTo>
                    <a:lnTo>
                      <a:pt x="1600" y="268"/>
                    </a:lnTo>
                    <a:lnTo>
                      <a:pt x="1594" y="265"/>
                    </a:lnTo>
                    <a:lnTo>
                      <a:pt x="1588" y="258"/>
                    </a:lnTo>
                    <a:lnTo>
                      <a:pt x="1581" y="252"/>
                    </a:lnTo>
                    <a:lnTo>
                      <a:pt x="1571" y="251"/>
                    </a:lnTo>
                    <a:lnTo>
                      <a:pt x="1564" y="261"/>
                    </a:lnTo>
                    <a:lnTo>
                      <a:pt x="1568" y="273"/>
                    </a:lnTo>
                    <a:lnTo>
                      <a:pt x="1575" y="281"/>
                    </a:lnTo>
                    <a:lnTo>
                      <a:pt x="1581" y="291"/>
                    </a:lnTo>
                    <a:lnTo>
                      <a:pt x="1581" y="303"/>
                    </a:lnTo>
                    <a:lnTo>
                      <a:pt x="1571" y="306"/>
                    </a:lnTo>
                    <a:lnTo>
                      <a:pt x="1564" y="300"/>
                    </a:lnTo>
                    <a:lnTo>
                      <a:pt x="1553" y="293"/>
                    </a:lnTo>
                    <a:lnTo>
                      <a:pt x="1540" y="293"/>
                    </a:lnTo>
                    <a:lnTo>
                      <a:pt x="1532" y="304"/>
                    </a:lnTo>
                    <a:lnTo>
                      <a:pt x="1536" y="313"/>
                    </a:lnTo>
                    <a:lnTo>
                      <a:pt x="1542" y="320"/>
                    </a:lnTo>
                    <a:lnTo>
                      <a:pt x="1549" y="328"/>
                    </a:lnTo>
                    <a:lnTo>
                      <a:pt x="1558" y="336"/>
                    </a:lnTo>
                    <a:lnTo>
                      <a:pt x="1548" y="354"/>
                    </a:lnTo>
                    <a:lnTo>
                      <a:pt x="1527" y="338"/>
                    </a:lnTo>
                    <a:lnTo>
                      <a:pt x="1506" y="345"/>
                    </a:lnTo>
                    <a:lnTo>
                      <a:pt x="1509" y="352"/>
                    </a:lnTo>
                    <a:lnTo>
                      <a:pt x="1514" y="359"/>
                    </a:lnTo>
                    <a:lnTo>
                      <a:pt x="1523" y="365"/>
                    </a:lnTo>
                    <a:lnTo>
                      <a:pt x="1532" y="374"/>
                    </a:lnTo>
                    <a:lnTo>
                      <a:pt x="1529" y="381"/>
                    </a:lnTo>
                    <a:lnTo>
                      <a:pt x="1526" y="388"/>
                    </a:lnTo>
                    <a:lnTo>
                      <a:pt x="1520" y="394"/>
                    </a:lnTo>
                    <a:lnTo>
                      <a:pt x="1509" y="398"/>
                    </a:lnTo>
                    <a:lnTo>
                      <a:pt x="1490" y="381"/>
                    </a:lnTo>
                    <a:lnTo>
                      <a:pt x="1480" y="385"/>
                    </a:lnTo>
                    <a:lnTo>
                      <a:pt x="1475" y="397"/>
                    </a:lnTo>
                    <a:lnTo>
                      <a:pt x="1478" y="407"/>
                    </a:lnTo>
                    <a:lnTo>
                      <a:pt x="1485" y="414"/>
                    </a:lnTo>
                    <a:lnTo>
                      <a:pt x="1491" y="421"/>
                    </a:lnTo>
                    <a:lnTo>
                      <a:pt x="1493" y="434"/>
                    </a:lnTo>
                    <a:lnTo>
                      <a:pt x="1483" y="442"/>
                    </a:lnTo>
                    <a:lnTo>
                      <a:pt x="1475" y="439"/>
                    </a:lnTo>
                    <a:lnTo>
                      <a:pt x="1468" y="432"/>
                    </a:lnTo>
                    <a:lnTo>
                      <a:pt x="1461" y="423"/>
                    </a:lnTo>
                    <a:lnTo>
                      <a:pt x="1452" y="417"/>
                    </a:lnTo>
                    <a:lnTo>
                      <a:pt x="1441" y="421"/>
                    </a:lnTo>
                    <a:lnTo>
                      <a:pt x="1436" y="432"/>
                    </a:lnTo>
                    <a:lnTo>
                      <a:pt x="1441" y="439"/>
                    </a:lnTo>
                    <a:lnTo>
                      <a:pt x="1445" y="446"/>
                    </a:lnTo>
                    <a:lnTo>
                      <a:pt x="1451" y="453"/>
                    </a:lnTo>
                    <a:lnTo>
                      <a:pt x="1458" y="460"/>
                    </a:lnTo>
                    <a:lnTo>
                      <a:pt x="1452" y="472"/>
                    </a:lnTo>
                    <a:lnTo>
                      <a:pt x="1441" y="473"/>
                    </a:lnTo>
                    <a:lnTo>
                      <a:pt x="1436" y="462"/>
                    </a:lnTo>
                    <a:lnTo>
                      <a:pt x="1431" y="458"/>
                    </a:lnTo>
                    <a:lnTo>
                      <a:pt x="1425" y="453"/>
                    </a:lnTo>
                    <a:lnTo>
                      <a:pt x="1416" y="449"/>
                    </a:lnTo>
                    <a:lnTo>
                      <a:pt x="1405" y="446"/>
                    </a:lnTo>
                    <a:lnTo>
                      <a:pt x="1400" y="453"/>
                    </a:lnTo>
                    <a:lnTo>
                      <a:pt x="1403" y="463"/>
                    </a:lnTo>
                    <a:lnTo>
                      <a:pt x="1410" y="475"/>
                    </a:lnTo>
                    <a:lnTo>
                      <a:pt x="1418" y="485"/>
                    </a:lnTo>
                    <a:lnTo>
                      <a:pt x="1423" y="497"/>
                    </a:lnTo>
                    <a:lnTo>
                      <a:pt x="1413" y="515"/>
                    </a:lnTo>
                    <a:lnTo>
                      <a:pt x="1406" y="510"/>
                    </a:lnTo>
                    <a:lnTo>
                      <a:pt x="1399" y="499"/>
                    </a:lnTo>
                    <a:lnTo>
                      <a:pt x="1390" y="491"/>
                    </a:lnTo>
                    <a:lnTo>
                      <a:pt x="1376" y="485"/>
                    </a:lnTo>
                    <a:lnTo>
                      <a:pt x="1368" y="495"/>
                    </a:lnTo>
                    <a:lnTo>
                      <a:pt x="1371" y="507"/>
                    </a:lnTo>
                    <a:lnTo>
                      <a:pt x="1377" y="517"/>
                    </a:lnTo>
                    <a:lnTo>
                      <a:pt x="1383" y="527"/>
                    </a:lnTo>
                    <a:lnTo>
                      <a:pt x="1390" y="538"/>
                    </a:lnTo>
                    <a:lnTo>
                      <a:pt x="1371" y="550"/>
                    </a:lnTo>
                    <a:lnTo>
                      <a:pt x="1367" y="544"/>
                    </a:lnTo>
                    <a:lnTo>
                      <a:pt x="1363" y="537"/>
                    </a:lnTo>
                    <a:lnTo>
                      <a:pt x="1357" y="530"/>
                    </a:lnTo>
                    <a:lnTo>
                      <a:pt x="1348" y="524"/>
                    </a:lnTo>
                    <a:lnTo>
                      <a:pt x="1337" y="524"/>
                    </a:lnTo>
                    <a:lnTo>
                      <a:pt x="1334" y="534"/>
                    </a:lnTo>
                    <a:lnTo>
                      <a:pt x="1337" y="546"/>
                    </a:lnTo>
                    <a:lnTo>
                      <a:pt x="1342" y="554"/>
                    </a:lnTo>
                    <a:lnTo>
                      <a:pt x="1350" y="563"/>
                    </a:lnTo>
                    <a:lnTo>
                      <a:pt x="1355" y="576"/>
                    </a:lnTo>
                    <a:lnTo>
                      <a:pt x="1345" y="590"/>
                    </a:lnTo>
                    <a:lnTo>
                      <a:pt x="1342" y="582"/>
                    </a:lnTo>
                    <a:lnTo>
                      <a:pt x="1338" y="575"/>
                    </a:lnTo>
                    <a:lnTo>
                      <a:pt x="1331" y="567"/>
                    </a:lnTo>
                    <a:lnTo>
                      <a:pt x="1324" y="559"/>
                    </a:lnTo>
                    <a:lnTo>
                      <a:pt x="1302" y="569"/>
                    </a:lnTo>
                    <a:lnTo>
                      <a:pt x="1306" y="580"/>
                    </a:lnTo>
                    <a:lnTo>
                      <a:pt x="1312" y="589"/>
                    </a:lnTo>
                    <a:lnTo>
                      <a:pt x="1319" y="598"/>
                    </a:lnTo>
                    <a:lnTo>
                      <a:pt x="1325" y="611"/>
                    </a:lnTo>
                    <a:lnTo>
                      <a:pt x="1332" y="632"/>
                    </a:lnTo>
                    <a:lnTo>
                      <a:pt x="1352" y="628"/>
                    </a:lnTo>
                    <a:lnTo>
                      <a:pt x="1364" y="615"/>
                    </a:lnTo>
                    <a:lnTo>
                      <a:pt x="1374" y="602"/>
                    </a:lnTo>
                    <a:lnTo>
                      <a:pt x="1386" y="589"/>
                    </a:lnTo>
                    <a:lnTo>
                      <a:pt x="1397" y="576"/>
                    </a:lnTo>
                    <a:lnTo>
                      <a:pt x="1409" y="563"/>
                    </a:lnTo>
                    <a:lnTo>
                      <a:pt x="1422" y="549"/>
                    </a:lnTo>
                    <a:lnTo>
                      <a:pt x="1433" y="536"/>
                    </a:lnTo>
                    <a:lnTo>
                      <a:pt x="1445" y="523"/>
                    </a:lnTo>
                    <a:lnTo>
                      <a:pt x="1475" y="491"/>
                    </a:lnTo>
                    <a:lnTo>
                      <a:pt x="1503" y="459"/>
                    </a:lnTo>
                    <a:lnTo>
                      <a:pt x="1529" y="429"/>
                    </a:lnTo>
                    <a:lnTo>
                      <a:pt x="1552" y="398"/>
                    </a:lnTo>
                    <a:lnTo>
                      <a:pt x="1572" y="369"/>
                    </a:lnTo>
                    <a:lnTo>
                      <a:pt x="1593" y="341"/>
                    </a:lnTo>
                    <a:lnTo>
                      <a:pt x="1613" y="312"/>
                    </a:lnTo>
                    <a:lnTo>
                      <a:pt x="1632" y="283"/>
                    </a:lnTo>
                    <a:lnTo>
                      <a:pt x="1639" y="276"/>
                    </a:lnTo>
                    <a:lnTo>
                      <a:pt x="1645" y="270"/>
                    </a:lnTo>
                    <a:lnTo>
                      <a:pt x="1650" y="265"/>
                    </a:lnTo>
                    <a:lnTo>
                      <a:pt x="1660" y="258"/>
                    </a:lnTo>
                    <a:lnTo>
                      <a:pt x="1669" y="263"/>
                    </a:lnTo>
                    <a:lnTo>
                      <a:pt x="1678" y="265"/>
                    </a:lnTo>
                    <a:lnTo>
                      <a:pt x="1686" y="268"/>
                    </a:lnTo>
                    <a:lnTo>
                      <a:pt x="1695" y="274"/>
                    </a:lnTo>
                    <a:lnTo>
                      <a:pt x="1705" y="294"/>
                    </a:lnTo>
                    <a:lnTo>
                      <a:pt x="1684" y="294"/>
                    </a:lnTo>
                    <a:lnTo>
                      <a:pt x="1679" y="306"/>
                    </a:lnTo>
                    <a:lnTo>
                      <a:pt x="1684" y="313"/>
                    </a:lnTo>
                    <a:lnTo>
                      <a:pt x="1689" y="319"/>
                    </a:lnTo>
                    <a:lnTo>
                      <a:pt x="1695" y="326"/>
                    </a:lnTo>
                    <a:lnTo>
                      <a:pt x="1700" y="338"/>
                    </a:lnTo>
                    <a:lnTo>
                      <a:pt x="1691" y="352"/>
                    </a:lnTo>
                    <a:lnTo>
                      <a:pt x="1684" y="345"/>
                    </a:lnTo>
                    <a:lnTo>
                      <a:pt x="1679" y="338"/>
                    </a:lnTo>
                    <a:lnTo>
                      <a:pt x="1672" y="333"/>
                    </a:lnTo>
                    <a:lnTo>
                      <a:pt x="1662" y="336"/>
                    </a:lnTo>
                    <a:lnTo>
                      <a:pt x="1656" y="346"/>
                    </a:lnTo>
                    <a:lnTo>
                      <a:pt x="1662" y="355"/>
                    </a:lnTo>
                    <a:lnTo>
                      <a:pt x="1666" y="367"/>
                    </a:lnTo>
                    <a:lnTo>
                      <a:pt x="1671" y="378"/>
                    </a:lnTo>
                    <a:lnTo>
                      <a:pt x="1679" y="388"/>
                    </a:lnTo>
                    <a:lnTo>
                      <a:pt x="1675" y="400"/>
                    </a:lnTo>
                    <a:lnTo>
                      <a:pt x="1668" y="394"/>
                    </a:lnTo>
                    <a:lnTo>
                      <a:pt x="1663" y="387"/>
                    </a:lnTo>
                    <a:lnTo>
                      <a:pt x="1658" y="381"/>
                    </a:lnTo>
                    <a:lnTo>
                      <a:pt x="1650" y="378"/>
                    </a:lnTo>
                    <a:lnTo>
                      <a:pt x="1639" y="382"/>
                    </a:lnTo>
                    <a:lnTo>
                      <a:pt x="1642" y="398"/>
                    </a:lnTo>
                    <a:lnTo>
                      <a:pt x="1647" y="413"/>
                    </a:lnTo>
                    <a:lnTo>
                      <a:pt x="1650" y="429"/>
                    </a:lnTo>
                    <a:lnTo>
                      <a:pt x="1647" y="447"/>
                    </a:lnTo>
                    <a:lnTo>
                      <a:pt x="1639" y="443"/>
                    </a:lnTo>
                    <a:lnTo>
                      <a:pt x="1633" y="434"/>
                    </a:lnTo>
                    <a:lnTo>
                      <a:pt x="1627" y="424"/>
                    </a:lnTo>
                    <a:lnTo>
                      <a:pt x="1614" y="417"/>
                    </a:lnTo>
                    <a:lnTo>
                      <a:pt x="1606" y="421"/>
                    </a:lnTo>
                    <a:lnTo>
                      <a:pt x="1603" y="433"/>
                    </a:lnTo>
                    <a:lnTo>
                      <a:pt x="1607" y="442"/>
                    </a:lnTo>
                    <a:lnTo>
                      <a:pt x="1611" y="450"/>
                    </a:lnTo>
                    <a:lnTo>
                      <a:pt x="1616" y="460"/>
                    </a:lnTo>
                    <a:lnTo>
                      <a:pt x="1619" y="475"/>
                    </a:lnTo>
                    <a:lnTo>
                      <a:pt x="1619" y="482"/>
                    </a:lnTo>
                    <a:lnTo>
                      <a:pt x="1619" y="488"/>
                    </a:lnTo>
                    <a:lnTo>
                      <a:pt x="1614" y="494"/>
                    </a:lnTo>
                    <a:lnTo>
                      <a:pt x="1607" y="494"/>
                    </a:lnTo>
                    <a:lnTo>
                      <a:pt x="1606" y="486"/>
                    </a:lnTo>
                    <a:lnTo>
                      <a:pt x="1600" y="481"/>
                    </a:lnTo>
                    <a:lnTo>
                      <a:pt x="1594" y="475"/>
                    </a:lnTo>
                    <a:lnTo>
                      <a:pt x="1588" y="466"/>
                    </a:lnTo>
                    <a:lnTo>
                      <a:pt x="1566" y="468"/>
                    </a:lnTo>
                    <a:lnTo>
                      <a:pt x="1569" y="481"/>
                    </a:lnTo>
                    <a:lnTo>
                      <a:pt x="1575" y="497"/>
                    </a:lnTo>
                    <a:lnTo>
                      <a:pt x="1582" y="514"/>
                    </a:lnTo>
                    <a:lnTo>
                      <a:pt x="1591" y="533"/>
                    </a:lnTo>
                    <a:lnTo>
                      <a:pt x="1590" y="538"/>
                    </a:lnTo>
                    <a:lnTo>
                      <a:pt x="1585" y="544"/>
                    </a:lnTo>
                    <a:lnTo>
                      <a:pt x="1578" y="550"/>
                    </a:lnTo>
                    <a:lnTo>
                      <a:pt x="1571" y="557"/>
                    </a:lnTo>
                    <a:lnTo>
                      <a:pt x="1569" y="550"/>
                    </a:lnTo>
                    <a:lnTo>
                      <a:pt x="1568" y="543"/>
                    </a:lnTo>
                    <a:lnTo>
                      <a:pt x="1564" y="536"/>
                    </a:lnTo>
                    <a:lnTo>
                      <a:pt x="1561" y="527"/>
                    </a:lnTo>
                    <a:lnTo>
                      <a:pt x="1556" y="520"/>
                    </a:lnTo>
                    <a:lnTo>
                      <a:pt x="1548" y="515"/>
                    </a:lnTo>
                    <a:lnTo>
                      <a:pt x="1538" y="514"/>
                    </a:lnTo>
                    <a:lnTo>
                      <a:pt x="1529" y="521"/>
                    </a:lnTo>
                    <a:lnTo>
                      <a:pt x="1535" y="536"/>
                    </a:lnTo>
                    <a:lnTo>
                      <a:pt x="1540" y="551"/>
                    </a:lnTo>
                    <a:lnTo>
                      <a:pt x="1545" y="569"/>
                    </a:lnTo>
                    <a:lnTo>
                      <a:pt x="1552" y="583"/>
                    </a:lnTo>
                    <a:lnTo>
                      <a:pt x="1552" y="592"/>
                    </a:lnTo>
                    <a:lnTo>
                      <a:pt x="1551" y="601"/>
                    </a:lnTo>
                    <a:lnTo>
                      <a:pt x="1546" y="608"/>
                    </a:lnTo>
                    <a:lnTo>
                      <a:pt x="1538" y="615"/>
                    </a:lnTo>
                    <a:lnTo>
                      <a:pt x="1536" y="606"/>
                    </a:lnTo>
                    <a:lnTo>
                      <a:pt x="1532" y="601"/>
                    </a:lnTo>
                    <a:lnTo>
                      <a:pt x="1527" y="593"/>
                    </a:lnTo>
                    <a:lnTo>
                      <a:pt x="1523" y="583"/>
                    </a:lnTo>
                    <a:lnTo>
                      <a:pt x="1516" y="576"/>
                    </a:lnTo>
                    <a:lnTo>
                      <a:pt x="1510" y="570"/>
                    </a:lnTo>
                    <a:lnTo>
                      <a:pt x="1503" y="566"/>
                    </a:lnTo>
                    <a:lnTo>
                      <a:pt x="1493" y="570"/>
                    </a:lnTo>
                    <a:lnTo>
                      <a:pt x="1493" y="582"/>
                    </a:lnTo>
                    <a:lnTo>
                      <a:pt x="1499" y="586"/>
                    </a:lnTo>
                    <a:lnTo>
                      <a:pt x="1501" y="595"/>
                    </a:lnTo>
                    <a:lnTo>
                      <a:pt x="1504" y="605"/>
                    </a:lnTo>
                    <a:lnTo>
                      <a:pt x="1509" y="612"/>
                    </a:lnTo>
                    <a:lnTo>
                      <a:pt x="1510" y="625"/>
                    </a:lnTo>
                    <a:lnTo>
                      <a:pt x="1512" y="637"/>
                    </a:lnTo>
                    <a:lnTo>
                      <a:pt x="1513" y="650"/>
                    </a:lnTo>
                    <a:lnTo>
                      <a:pt x="1510" y="663"/>
                    </a:lnTo>
                    <a:lnTo>
                      <a:pt x="1503" y="657"/>
                    </a:lnTo>
                    <a:lnTo>
                      <a:pt x="1499" y="648"/>
                    </a:lnTo>
                    <a:lnTo>
                      <a:pt x="1494" y="640"/>
                    </a:lnTo>
                    <a:lnTo>
                      <a:pt x="1485" y="630"/>
                    </a:lnTo>
                    <a:lnTo>
                      <a:pt x="1480" y="627"/>
                    </a:lnTo>
                    <a:lnTo>
                      <a:pt x="1471" y="622"/>
                    </a:lnTo>
                    <a:lnTo>
                      <a:pt x="1461" y="621"/>
                    </a:lnTo>
                    <a:lnTo>
                      <a:pt x="1455" y="630"/>
                    </a:lnTo>
                    <a:lnTo>
                      <a:pt x="1465" y="644"/>
                    </a:lnTo>
                    <a:lnTo>
                      <a:pt x="1474" y="661"/>
                    </a:lnTo>
                    <a:lnTo>
                      <a:pt x="1480" y="682"/>
                    </a:lnTo>
                    <a:lnTo>
                      <a:pt x="1487" y="703"/>
                    </a:lnTo>
                    <a:lnTo>
                      <a:pt x="1485" y="712"/>
                    </a:lnTo>
                    <a:lnTo>
                      <a:pt x="1481" y="718"/>
                    </a:lnTo>
                    <a:lnTo>
                      <a:pt x="1475" y="725"/>
                    </a:lnTo>
                    <a:lnTo>
                      <a:pt x="1472" y="735"/>
                    </a:lnTo>
                    <a:lnTo>
                      <a:pt x="1465" y="731"/>
                    </a:lnTo>
                    <a:lnTo>
                      <a:pt x="1459" y="715"/>
                    </a:lnTo>
                    <a:lnTo>
                      <a:pt x="1454" y="699"/>
                    </a:lnTo>
                    <a:lnTo>
                      <a:pt x="1446" y="683"/>
                    </a:lnTo>
                    <a:lnTo>
                      <a:pt x="1438" y="670"/>
                    </a:lnTo>
                    <a:lnTo>
                      <a:pt x="1426" y="663"/>
                    </a:lnTo>
                    <a:lnTo>
                      <a:pt x="1415" y="670"/>
                    </a:lnTo>
                    <a:lnTo>
                      <a:pt x="1418" y="683"/>
                    </a:lnTo>
                    <a:lnTo>
                      <a:pt x="1422" y="697"/>
                    </a:lnTo>
                    <a:lnTo>
                      <a:pt x="1429" y="712"/>
                    </a:lnTo>
                    <a:lnTo>
                      <a:pt x="1436" y="726"/>
                    </a:lnTo>
                    <a:lnTo>
                      <a:pt x="1442" y="741"/>
                    </a:lnTo>
                    <a:lnTo>
                      <a:pt x="1446" y="755"/>
                    </a:lnTo>
                    <a:lnTo>
                      <a:pt x="1446" y="771"/>
                    </a:lnTo>
                    <a:lnTo>
                      <a:pt x="1442" y="786"/>
                    </a:lnTo>
                    <a:lnTo>
                      <a:pt x="1435" y="786"/>
                    </a:lnTo>
                    <a:lnTo>
                      <a:pt x="1431" y="767"/>
                    </a:lnTo>
                    <a:lnTo>
                      <a:pt x="1422" y="751"/>
                    </a:lnTo>
                    <a:lnTo>
                      <a:pt x="1412" y="736"/>
                    </a:lnTo>
                    <a:lnTo>
                      <a:pt x="1400" y="721"/>
                    </a:lnTo>
                    <a:lnTo>
                      <a:pt x="1389" y="722"/>
                    </a:lnTo>
                    <a:lnTo>
                      <a:pt x="1381" y="732"/>
                    </a:lnTo>
                    <a:lnTo>
                      <a:pt x="1390" y="751"/>
                    </a:lnTo>
                    <a:lnTo>
                      <a:pt x="1400" y="771"/>
                    </a:lnTo>
                    <a:lnTo>
                      <a:pt x="1409" y="793"/>
                    </a:lnTo>
                    <a:lnTo>
                      <a:pt x="1415" y="817"/>
                    </a:lnTo>
                    <a:lnTo>
                      <a:pt x="1406" y="826"/>
                    </a:lnTo>
                    <a:lnTo>
                      <a:pt x="1403" y="820"/>
                    </a:lnTo>
                    <a:lnTo>
                      <a:pt x="1402" y="813"/>
                    </a:lnTo>
                    <a:lnTo>
                      <a:pt x="1399" y="807"/>
                    </a:lnTo>
                    <a:lnTo>
                      <a:pt x="1393" y="800"/>
                    </a:lnTo>
                    <a:lnTo>
                      <a:pt x="1386" y="791"/>
                    </a:lnTo>
                    <a:lnTo>
                      <a:pt x="1381" y="784"/>
                    </a:lnTo>
                    <a:lnTo>
                      <a:pt x="1374" y="777"/>
                    </a:lnTo>
                    <a:lnTo>
                      <a:pt x="1364" y="768"/>
                    </a:lnTo>
                    <a:lnTo>
                      <a:pt x="1354" y="768"/>
                    </a:lnTo>
                    <a:lnTo>
                      <a:pt x="1351" y="778"/>
                    </a:lnTo>
                    <a:lnTo>
                      <a:pt x="1358" y="796"/>
                    </a:lnTo>
                    <a:lnTo>
                      <a:pt x="1365" y="812"/>
                    </a:lnTo>
                    <a:lnTo>
                      <a:pt x="1374" y="829"/>
                    </a:lnTo>
                    <a:lnTo>
                      <a:pt x="1381" y="851"/>
                    </a:lnTo>
                    <a:lnTo>
                      <a:pt x="1365" y="872"/>
                    </a:lnTo>
                    <a:lnTo>
                      <a:pt x="1358" y="861"/>
                    </a:lnTo>
                    <a:lnTo>
                      <a:pt x="1352" y="848"/>
                    </a:lnTo>
                    <a:lnTo>
                      <a:pt x="1344" y="833"/>
                    </a:lnTo>
                    <a:lnTo>
                      <a:pt x="1335" y="820"/>
                    </a:lnTo>
                    <a:lnTo>
                      <a:pt x="1313" y="823"/>
                    </a:lnTo>
                    <a:lnTo>
                      <a:pt x="1316" y="840"/>
                    </a:lnTo>
                    <a:lnTo>
                      <a:pt x="1326" y="858"/>
                    </a:lnTo>
                    <a:lnTo>
                      <a:pt x="1338" y="877"/>
                    </a:lnTo>
                    <a:lnTo>
                      <a:pt x="1345" y="898"/>
                    </a:lnTo>
                    <a:lnTo>
                      <a:pt x="1347" y="905"/>
                    </a:lnTo>
                    <a:lnTo>
                      <a:pt x="1345" y="911"/>
                    </a:lnTo>
                    <a:lnTo>
                      <a:pt x="1341" y="917"/>
                    </a:lnTo>
                    <a:lnTo>
                      <a:pt x="1332" y="923"/>
                    </a:lnTo>
                    <a:lnTo>
                      <a:pt x="1329" y="917"/>
                    </a:lnTo>
                    <a:lnTo>
                      <a:pt x="1325" y="911"/>
                    </a:lnTo>
                    <a:lnTo>
                      <a:pt x="1321" y="904"/>
                    </a:lnTo>
                    <a:lnTo>
                      <a:pt x="1315" y="897"/>
                    </a:lnTo>
                    <a:lnTo>
                      <a:pt x="1311" y="891"/>
                    </a:lnTo>
                    <a:lnTo>
                      <a:pt x="1303" y="884"/>
                    </a:lnTo>
                    <a:lnTo>
                      <a:pt x="1296" y="878"/>
                    </a:lnTo>
                    <a:lnTo>
                      <a:pt x="1289" y="874"/>
                    </a:lnTo>
                    <a:lnTo>
                      <a:pt x="1279" y="877"/>
                    </a:lnTo>
                    <a:lnTo>
                      <a:pt x="1283" y="897"/>
                    </a:lnTo>
                    <a:lnTo>
                      <a:pt x="1293" y="916"/>
                    </a:lnTo>
                    <a:lnTo>
                      <a:pt x="1305" y="931"/>
                    </a:lnTo>
                    <a:lnTo>
                      <a:pt x="1313" y="950"/>
                    </a:lnTo>
                    <a:lnTo>
                      <a:pt x="1313" y="960"/>
                    </a:lnTo>
                    <a:lnTo>
                      <a:pt x="1313" y="969"/>
                    </a:lnTo>
                    <a:lnTo>
                      <a:pt x="1309" y="976"/>
                    </a:lnTo>
                    <a:lnTo>
                      <a:pt x="1305" y="983"/>
                    </a:lnTo>
                    <a:lnTo>
                      <a:pt x="1299" y="992"/>
                    </a:lnTo>
                    <a:lnTo>
                      <a:pt x="1289" y="997"/>
                    </a:lnTo>
                    <a:lnTo>
                      <a:pt x="1287" y="989"/>
                    </a:lnTo>
                    <a:lnTo>
                      <a:pt x="1284" y="982"/>
                    </a:lnTo>
                    <a:lnTo>
                      <a:pt x="1282" y="975"/>
                    </a:lnTo>
                    <a:lnTo>
                      <a:pt x="1277" y="965"/>
                    </a:lnTo>
                    <a:lnTo>
                      <a:pt x="1271" y="955"/>
                    </a:lnTo>
                    <a:lnTo>
                      <a:pt x="1263" y="943"/>
                    </a:lnTo>
                    <a:lnTo>
                      <a:pt x="1253" y="933"/>
                    </a:lnTo>
                    <a:lnTo>
                      <a:pt x="1241" y="926"/>
                    </a:lnTo>
                    <a:lnTo>
                      <a:pt x="1234" y="937"/>
                    </a:lnTo>
                    <a:lnTo>
                      <a:pt x="1244" y="960"/>
                    </a:lnTo>
                    <a:lnTo>
                      <a:pt x="1254" y="982"/>
                    </a:lnTo>
                    <a:lnTo>
                      <a:pt x="1266" y="1005"/>
                    </a:lnTo>
                    <a:lnTo>
                      <a:pt x="1276" y="1031"/>
                    </a:lnTo>
                    <a:lnTo>
                      <a:pt x="1260" y="1050"/>
                    </a:lnTo>
                    <a:lnTo>
                      <a:pt x="1253" y="1037"/>
                    </a:lnTo>
                    <a:lnTo>
                      <a:pt x="1247" y="1024"/>
                    </a:lnTo>
                    <a:lnTo>
                      <a:pt x="1238" y="1010"/>
                    </a:lnTo>
                    <a:lnTo>
                      <a:pt x="1230" y="995"/>
                    </a:lnTo>
                    <a:lnTo>
                      <a:pt x="1208" y="979"/>
                    </a:lnTo>
                    <a:lnTo>
                      <a:pt x="1201" y="986"/>
                    </a:lnTo>
                    <a:lnTo>
                      <a:pt x="1201" y="997"/>
                    </a:lnTo>
                    <a:lnTo>
                      <a:pt x="1212" y="1017"/>
                    </a:lnTo>
                    <a:lnTo>
                      <a:pt x="1221" y="1036"/>
                    </a:lnTo>
                    <a:lnTo>
                      <a:pt x="1231" y="1057"/>
                    </a:lnTo>
                    <a:lnTo>
                      <a:pt x="1241" y="1080"/>
                    </a:lnTo>
                    <a:lnTo>
                      <a:pt x="1227" y="1102"/>
                    </a:lnTo>
                    <a:lnTo>
                      <a:pt x="1219" y="1093"/>
                    </a:lnTo>
                    <a:lnTo>
                      <a:pt x="1219" y="1082"/>
                    </a:lnTo>
                    <a:lnTo>
                      <a:pt x="1208" y="1062"/>
                    </a:lnTo>
                    <a:lnTo>
                      <a:pt x="1202" y="1051"/>
                    </a:lnTo>
                    <a:lnTo>
                      <a:pt x="1195" y="1041"/>
                    </a:lnTo>
                    <a:lnTo>
                      <a:pt x="1186" y="1033"/>
                    </a:lnTo>
                    <a:lnTo>
                      <a:pt x="1175" y="1024"/>
                    </a:lnTo>
                    <a:lnTo>
                      <a:pt x="1162" y="1017"/>
                    </a:lnTo>
                    <a:lnTo>
                      <a:pt x="1159" y="1037"/>
                    </a:lnTo>
                    <a:lnTo>
                      <a:pt x="1164" y="1047"/>
                    </a:lnTo>
                    <a:lnTo>
                      <a:pt x="1172" y="1057"/>
                    </a:lnTo>
                    <a:lnTo>
                      <a:pt x="1179" y="1069"/>
                    </a:lnTo>
                    <a:lnTo>
                      <a:pt x="1185" y="1080"/>
                    </a:lnTo>
                    <a:lnTo>
                      <a:pt x="1192" y="1092"/>
                    </a:lnTo>
                    <a:lnTo>
                      <a:pt x="1196" y="1105"/>
                    </a:lnTo>
                    <a:lnTo>
                      <a:pt x="1201" y="1118"/>
                    </a:lnTo>
                    <a:lnTo>
                      <a:pt x="1202" y="1132"/>
                    </a:lnTo>
                    <a:lnTo>
                      <a:pt x="1186" y="1154"/>
                    </a:lnTo>
                    <a:lnTo>
                      <a:pt x="1179" y="1145"/>
                    </a:lnTo>
                    <a:lnTo>
                      <a:pt x="1176" y="1135"/>
                    </a:lnTo>
                    <a:lnTo>
                      <a:pt x="1172" y="1125"/>
                    </a:lnTo>
                    <a:lnTo>
                      <a:pt x="1167" y="1116"/>
                    </a:lnTo>
                    <a:lnTo>
                      <a:pt x="1163" y="1108"/>
                    </a:lnTo>
                    <a:lnTo>
                      <a:pt x="1157" y="1099"/>
                    </a:lnTo>
                    <a:lnTo>
                      <a:pt x="1151" y="1090"/>
                    </a:lnTo>
                    <a:lnTo>
                      <a:pt x="1144" y="1082"/>
                    </a:lnTo>
                    <a:lnTo>
                      <a:pt x="1136" y="1073"/>
                    </a:lnTo>
                    <a:lnTo>
                      <a:pt x="1114" y="1075"/>
                    </a:lnTo>
                    <a:lnTo>
                      <a:pt x="1118" y="1095"/>
                    </a:lnTo>
                    <a:lnTo>
                      <a:pt x="1125" y="1101"/>
                    </a:lnTo>
                    <a:lnTo>
                      <a:pt x="1131" y="1109"/>
                    </a:lnTo>
                    <a:lnTo>
                      <a:pt x="1137" y="1118"/>
                    </a:lnTo>
                    <a:lnTo>
                      <a:pt x="1141" y="1128"/>
                    </a:lnTo>
                    <a:lnTo>
                      <a:pt x="1146" y="1138"/>
                    </a:lnTo>
                    <a:lnTo>
                      <a:pt x="1151" y="1148"/>
                    </a:lnTo>
                    <a:lnTo>
                      <a:pt x="1157" y="1158"/>
                    </a:lnTo>
                    <a:lnTo>
                      <a:pt x="1163" y="1167"/>
                    </a:lnTo>
                    <a:lnTo>
                      <a:pt x="1170" y="1171"/>
                    </a:lnTo>
                    <a:lnTo>
                      <a:pt x="1163" y="1177"/>
                    </a:lnTo>
                    <a:lnTo>
                      <a:pt x="1159" y="1184"/>
                    </a:lnTo>
                    <a:lnTo>
                      <a:pt x="1154" y="1193"/>
                    </a:lnTo>
                    <a:lnTo>
                      <a:pt x="1144" y="1199"/>
                    </a:lnTo>
                    <a:lnTo>
                      <a:pt x="1140" y="1189"/>
                    </a:lnTo>
                    <a:lnTo>
                      <a:pt x="1136" y="1180"/>
                    </a:lnTo>
                    <a:lnTo>
                      <a:pt x="1131" y="1171"/>
                    </a:lnTo>
                    <a:lnTo>
                      <a:pt x="1127" y="1163"/>
                    </a:lnTo>
                    <a:lnTo>
                      <a:pt x="1121" y="1154"/>
                    </a:lnTo>
                    <a:lnTo>
                      <a:pt x="1115" y="1145"/>
                    </a:lnTo>
                    <a:lnTo>
                      <a:pt x="1110" y="1137"/>
                    </a:lnTo>
                    <a:lnTo>
                      <a:pt x="1101" y="1128"/>
                    </a:lnTo>
                    <a:lnTo>
                      <a:pt x="1094" y="1127"/>
                    </a:lnTo>
                    <a:lnTo>
                      <a:pt x="1086" y="1124"/>
                    </a:lnTo>
                    <a:lnTo>
                      <a:pt x="1079" y="1124"/>
                    </a:lnTo>
                    <a:lnTo>
                      <a:pt x="1070" y="1129"/>
                    </a:lnTo>
                    <a:lnTo>
                      <a:pt x="1072" y="1138"/>
                    </a:lnTo>
                    <a:lnTo>
                      <a:pt x="1079" y="1144"/>
                    </a:lnTo>
                    <a:lnTo>
                      <a:pt x="1085" y="1150"/>
                    </a:lnTo>
                    <a:lnTo>
                      <a:pt x="1091" y="1158"/>
                    </a:lnTo>
                    <a:lnTo>
                      <a:pt x="1097" y="1167"/>
                    </a:lnTo>
                    <a:lnTo>
                      <a:pt x="1101" y="1176"/>
                    </a:lnTo>
                    <a:lnTo>
                      <a:pt x="1105" y="1186"/>
                    </a:lnTo>
                    <a:lnTo>
                      <a:pt x="1111" y="1197"/>
                    </a:lnTo>
                    <a:lnTo>
                      <a:pt x="1115" y="1207"/>
                    </a:lnTo>
                    <a:lnTo>
                      <a:pt x="1125" y="1218"/>
                    </a:lnTo>
                    <a:lnTo>
                      <a:pt x="1118" y="1223"/>
                    </a:lnTo>
                    <a:lnTo>
                      <a:pt x="1114" y="1231"/>
                    </a:lnTo>
                    <a:lnTo>
                      <a:pt x="1107" y="1236"/>
                    </a:lnTo>
                    <a:lnTo>
                      <a:pt x="1098" y="1239"/>
                    </a:lnTo>
                    <a:lnTo>
                      <a:pt x="1091" y="1232"/>
                    </a:lnTo>
                    <a:lnTo>
                      <a:pt x="1085" y="1223"/>
                    </a:lnTo>
                    <a:lnTo>
                      <a:pt x="1079" y="1213"/>
                    </a:lnTo>
                    <a:lnTo>
                      <a:pt x="1072" y="1205"/>
                    </a:lnTo>
                    <a:lnTo>
                      <a:pt x="1039" y="1168"/>
                    </a:lnTo>
                    <a:lnTo>
                      <a:pt x="1023" y="1183"/>
                    </a:lnTo>
                    <a:lnTo>
                      <a:pt x="1030" y="1192"/>
                    </a:lnTo>
                    <a:lnTo>
                      <a:pt x="1037" y="1200"/>
                    </a:lnTo>
                    <a:lnTo>
                      <a:pt x="1044" y="1209"/>
                    </a:lnTo>
                    <a:lnTo>
                      <a:pt x="1050" y="1220"/>
                    </a:lnTo>
                    <a:lnTo>
                      <a:pt x="1056" y="1231"/>
                    </a:lnTo>
                    <a:lnTo>
                      <a:pt x="1062" y="1244"/>
                    </a:lnTo>
                    <a:lnTo>
                      <a:pt x="1068" y="1255"/>
                    </a:lnTo>
                    <a:lnTo>
                      <a:pt x="1073" y="1268"/>
                    </a:lnTo>
                    <a:lnTo>
                      <a:pt x="1055" y="1280"/>
                    </a:lnTo>
                    <a:lnTo>
                      <a:pt x="1047" y="1274"/>
                    </a:lnTo>
                    <a:lnTo>
                      <a:pt x="1040" y="1268"/>
                    </a:lnTo>
                    <a:lnTo>
                      <a:pt x="1034" y="1259"/>
                    </a:lnTo>
                    <a:lnTo>
                      <a:pt x="1029" y="1249"/>
                    </a:lnTo>
                    <a:lnTo>
                      <a:pt x="1023" y="1241"/>
                    </a:lnTo>
                    <a:lnTo>
                      <a:pt x="1016" y="1231"/>
                    </a:lnTo>
                    <a:lnTo>
                      <a:pt x="1007" y="1220"/>
                    </a:lnTo>
                    <a:lnTo>
                      <a:pt x="997" y="1210"/>
                    </a:lnTo>
                    <a:lnTo>
                      <a:pt x="978" y="1215"/>
                    </a:lnTo>
                    <a:lnTo>
                      <a:pt x="978" y="1225"/>
                    </a:lnTo>
                    <a:lnTo>
                      <a:pt x="991" y="1235"/>
                    </a:lnTo>
                    <a:lnTo>
                      <a:pt x="992" y="1245"/>
                    </a:lnTo>
                    <a:lnTo>
                      <a:pt x="997" y="1251"/>
                    </a:lnTo>
                    <a:lnTo>
                      <a:pt x="1003" y="1258"/>
                    </a:lnTo>
                    <a:lnTo>
                      <a:pt x="1005" y="1268"/>
                    </a:lnTo>
                    <a:lnTo>
                      <a:pt x="1011" y="1275"/>
                    </a:lnTo>
                    <a:lnTo>
                      <a:pt x="1016" y="1283"/>
                    </a:lnTo>
                    <a:lnTo>
                      <a:pt x="1023" y="1290"/>
                    </a:lnTo>
                    <a:lnTo>
                      <a:pt x="1031" y="1298"/>
                    </a:lnTo>
                    <a:lnTo>
                      <a:pt x="1029" y="1306"/>
                    </a:lnTo>
                    <a:lnTo>
                      <a:pt x="1021" y="1310"/>
                    </a:lnTo>
                    <a:lnTo>
                      <a:pt x="1011" y="1314"/>
                    </a:lnTo>
                    <a:lnTo>
                      <a:pt x="1004" y="1320"/>
                    </a:lnTo>
                    <a:lnTo>
                      <a:pt x="995" y="1313"/>
                    </a:lnTo>
                    <a:lnTo>
                      <a:pt x="988" y="1306"/>
                    </a:lnTo>
                    <a:lnTo>
                      <a:pt x="981" y="1298"/>
                    </a:lnTo>
                    <a:lnTo>
                      <a:pt x="975" y="1291"/>
                    </a:lnTo>
                    <a:lnTo>
                      <a:pt x="968" y="1283"/>
                    </a:lnTo>
                    <a:lnTo>
                      <a:pt x="962" y="1275"/>
                    </a:lnTo>
                    <a:lnTo>
                      <a:pt x="955" y="1267"/>
                    </a:lnTo>
                    <a:lnTo>
                      <a:pt x="948" y="1259"/>
                    </a:lnTo>
                    <a:lnTo>
                      <a:pt x="926" y="1258"/>
                    </a:lnTo>
                    <a:lnTo>
                      <a:pt x="926" y="1268"/>
                    </a:lnTo>
                    <a:lnTo>
                      <a:pt x="929" y="1277"/>
                    </a:lnTo>
                    <a:lnTo>
                      <a:pt x="935" y="1285"/>
                    </a:lnTo>
                    <a:lnTo>
                      <a:pt x="940" y="1293"/>
                    </a:lnTo>
                    <a:lnTo>
                      <a:pt x="946" y="1300"/>
                    </a:lnTo>
                    <a:lnTo>
                      <a:pt x="953" y="1307"/>
                    </a:lnTo>
                    <a:lnTo>
                      <a:pt x="959" y="1314"/>
                    </a:lnTo>
                    <a:lnTo>
                      <a:pt x="966" y="1323"/>
                    </a:lnTo>
                    <a:lnTo>
                      <a:pt x="972" y="1332"/>
                    </a:lnTo>
                    <a:lnTo>
                      <a:pt x="974" y="1340"/>
                    </a:lnTo>
                    <a:lnTo>
                      <a:pt x="952" y="1348"/>
                    </a:lnTo>
                    <a:lnTo>
                      <a:pt x="943" y="1343"/>
                    </a:lnTo>
                    <a:lnTo>
                      <a:pt x="935" y="1339"/>
                    </a:lnTo>
                    <a:lnTo>
                      <a:pt x="926" y="1332"/>
                    </a:lnTo>
                    <a:lnTo>
                      <a:pt x="917" y="1323"/>
                    </a:lnTo>
                    <a:lnTo>
                      <a:pt x="909" y="1316"/>
                    </a:lnTo>
                    <a:lnTo>
                      <a:pt x="900" y="1307"/>
                    </a:lnTo>
                    <a:lnTo>
                      <a:pt x="891" y="1300"/>
                    </a:lnTo>
                    <a:lnTo>
                      <a:pt x="882" y="1294"/>
                    </a:lnTo>
                    <a:lnTo>
                      <a:pt x="869" y="1311"/>
                    </a:lnTo>
                    <a:lnTo>
                      <a:pt x="875" y="1319"/>
                    </a:lnTo>
                    <a:lnTo>
                      <a:pt x="881" y="1326"/>
                    </a:lnTo>
                    <a:lnTo>
                      <a:pt x="887" y="1333"/>
                    </a:lnTo>
                    <a:lnTo>
                      <a:pt x="893" y="1342"/>
                    </a:lnTo>
                    <a:lnTo>
                      <a:pt x="900" y="1349"/>
                    </a:lnTo>
                    <a:lnTo>
                      <a:pt x="907" y="1356"/>
                    </a:lnTo>
                    <a:lnTo>
                      <a:pt x="916" y="1362"/>
                    </a:lnTo>
                    <a:lnTo>
                      <a:pt x="924" y="1366"/>
                    </a:lnTo>
                    <a:lnTo>
                      <a:pt x="916" y="1374"/>
                    </a:lnTo>
                    <a:lnTo>
                      <a:pt x="909" y="1381"/>
                    </a:lnTo>
                    <a:lnTo>
                      <a:pt x="901" y="1387"/>
                    </a:lnTo>
                    <a:lnTo>
                      <a:pt x="891" y="1391"/>
                    </a:lnTo>
                    <a:lnTo>
                      <a:pt x="884" y="1384"/>
                    </a:lnTo>
                    <a:lnTo>
                      <a:pt x="877" y="1375"/>
                    </a:lnTo>
                    <a:lnTo>
                      <a:pt x="868" y="1368"/>
                    </a:lnTo>
                    <a:lnTo>
                      <a:pt x="861" y="1359"/>
                    </a:lnTo>
                    <a:lnTo>
                      <a:pt x="852" y="1352"/>
                    </a:lnTo>
                    <a:lnTo>
                      <a:pt x="842" y="1345"/>
                    </a:lnTo>
                    <a:lnTo>
                      <a:pt x="832" y="1337"/>
                    </a:lnTo>
                    <a:lnTo>
                      <a:pt x="822" y="1330"/>
                    </a:lnTo>
                    <a:lnTo>
                      <a:pt x="812" y="1340"/>
                    </a:lnTo>
                    <a:lnTo>
                      <a:pt x="816" y="1350"/>
                    </a:lnTo>
                    <a:lnTo>
                      <a:pt x="822" y="1359"/>
                    </a:lnTo>
                    <a:lnTo>
                      <a:pt x="829" y="1368"/>
                    </a:lnTo>
                    <a:lnTo>
                      <a:pt x="836" y="1377"/>
                    </a:lnTo>
                    <a:lnTo>
                      <a:pt x="845" y="1384"/>
                    </a:lnTo>
                    <a:lnTo>
                      <a:pt x="854" y="1392"/>
                    </a:lnTo>
                    <a:lnTo>
                      <a:pt x="862" y="1401"/>
                    </a:lnTo>
                    <a:lnTo>
                      <a:pt x="872" y="1410"/>
                    </a:lnTo>
                    <a:lnTo>
                      <a:pt x="869" y="1417"/>
                    </a:lnTo>
                    <a:lnTo>
                      <a:pt x="864" y="1424"/>
                    </a:lnTo>
                    <a:lnTo>
                      <a:pt x="856" y="1430"/>
                    </a:lnTo>
                    <a:lnTo>
                      <a:pt x="848" y="1439"/>
                    </a:lnTo>
                    <a:lnTo>
                      <a:pt x="841" y="1439"/>
                    </a:lnTo>
                    <a:lnTo>
                      <a:pt x="832" y="1431"/>
                    </a:lnTo>
                    <a:lnTo>
                      <a:pt x="825" y="1426"/>
                    </a:lnTo>
                    <a:lnTo>
                      <a:pt x="816" y="1420"/>
                    </a:lnTo>
                    <a:lnTo>
                      <a:pt x="810" y="1414"/>
                    </a:lnTo>
                    <a:lnTo>
                      <a:pt x="803" y="1407"/>
                    </a:lnTo>
                    <a:lnTo>
                      <a:pt x="796" y="1400"/>
                    </a:lnTo>
                    <a:lnTo>
                      <a:pt x="788" y="1392"/>
                    </a:lnTo>
                    <a:lnTo>
                      <a:pt x="780" y="1382"/>
                    </a:lnTo>
                    <a:lnTo>
                      <a:pt x="757" y="1394"/>
                    </a:lnTo>
                    <a:lnTo>
                      <a:pt x="761" y="1404"/>
                    </a:lnTo>
                    <a:lnTo>
                      <a:pt x="767" y="1413"/>
                    </a:lnTo>
                    <a:lnTo>
                      <a:pt x="774" y="1421"/>
                    </a:lnTo>
                    <a:lnTo>
                      <a:pt x="783" y="1430"/>
                    </a:lnTo>
                    <a:lnTo>
                      <a:pt x="793" y="1437"/>
                    </a:lnTo>
                    <a:lnTo>
                      <a:pt x="803" y="1446"/>
                    </a:lnTo>
                    <a:lnTo>
                      <a:pt x="813" y="1455"/>
                    </a:lnTo>
                    <a:lnTo>
                      <a:pt x="822" y="1463"/>
                    </a:lnTo>
                    <a:lnTo>
                      <a:pt x="815" y="1469"/>
                    </a:lnTo>
                    <a:lnTo>
                      <a:pt x="810" y="1475"/>
                    </a:lnTo>
                    <a:lnTo>
                      <a:pt x="803" y="1481"/>
                    </a:lnTo>
                    <a:lnTo>
                      <a:pt x="793" y="1485"/>
                    </a:lnTo>
                    <a:lnTo>
                      <a:pt x="784" y="1481"/>
                    </a:lnTo>
                    <a:lnTo>
                      <a:pt x="775" y="1473"/>
                    </a:lnTo>
                    <a:lnTo>
                      <a:pt x="767" y="1468"/>
                    </a:lnTo>
                    <a:lnTo>
                      <a:pt x="760" y="1460"/>
                    </a:lnTo>
                    <a:lnTo>
                      <a:pt x="751" y="1452"/>
                    </a:lnTo>
                    <a:lnTo>
                      <a:pt x="742" y="1444"/>
                    </a:lnTo>
                    <a:lnTo>
                      <a:pt x="734" y="1436"/>
                    </a:lnTo>
                    <a:lnTo>
                      <a:pt x="723" y="1429"/>
                    </a:lnTo>
                    <a:lnTo>
                      <a:pt x="702" y="1442"/>
                    </a:lnTo>
                    <a:lnTo>
                      <a:pt x="705" y="1449"/>
                    </a:lnTo>
                    <a:lnTo>
                      <a:pt x="710" y="1456"/>
                    </a:lnTo>
                    <a:lnTo>
                      <a:pt x="718" y="1462"/>
                    </a:lnTo>
                    <a:lnTo>
                      <a:pt x="723" y="1468"/>
                    </a:lnTo>
                    <a:lnTo>
                      <a:pt x="731" y="1472"/>
                    </a:lnTo>
                    <a:lnTo>
                      <a:pt x="738" y="1476"/>
                    </a:lnTo>
                    <a:lnTo>
                      <a:pt x="744" y="1481"/>
                    </a:lnTo>
                    <a:lnTo>
                      <a:pt x="749" y="1486"/>
                    </a:lnTo>
                    <a:lnTo>
                      <a:pt x="754" y="1494"/>
                    </a:lnTo>
                    <a:lnTo>
                      <a:pt x="747" y="1496"/>
                    </a:lnTo>
                    <a:lnTo>
                      <a:pt x="736" y="1496"/>
                    </a:lnTo>
                    <a:lnTo>
                      <a:pt x="726" y="1496"/>
                    </a:lnTo>
                    <a:lnTo>
                      <a:pt x="716" y="1499"/>
                    </a:lnTo>
                    <a:lnTo>
                      <a:pt x="695" y="1492"/>
                    </a:lnTo>
                    <a:lnTo>
                      <a:pt x="686" y="1488"/>
                    </a:lnTo>
                    <a:lnTo>
                      <a:pt x="679" y="1479"/>
                    </a:lnTo>
                    <a:lnTo>
                      <a:pt x="670" y="1470"/>
                    </a:lnTo>
                    <a:lnTo>
                      <a:pt x="658" y="1465"/>
                    </a:lnTo>
                    <a:lnTo>
                      <a:pt x="650" y="1468"/>
                    </a:lnTo>
                    <a:lnTo>
                      <a:pt x="644" y="1476"/>
                    </a:lnTo>
                    <a:lnTo>
                      <a:pt x="644" y="1485"/>
                    </a:lnTo>
                    <a:lnTo>
                      <a:pt x="650" y="1492"/>
                    </a:lnTo>
                    <a:lnTo>
                      <a:pt x="647" y="1499"/>
                    </a:lnTo>
                    <a:lnTo>
                      <a:pt x="629" y="1499"/>
                    </a:lnTo>
                    <a:lnTo>
                      <a:pt x="612" y="1501"/>
                    </a:lnTo>
                    <a:lnTo>
                      <a:pt x="595" y="1501"/>
                    </a:lnTo>
                    <a:lnTo>
                      <a:pt x="576" y="1501"/>
                    </a:lnTo>
                    <a:lnTo>
                      <a:pt x="559" y="1501"/>
                    </a:lnTo>
                    <a:lnTo>
                      <a:pt x="541" y="1501"/>
                    </a:lnTo>
                    <a:lnTo>
                      <a:pt x="524" y="1501"/>
                    </a:lnTo>
                    <a:lnTo>
                      <a:pt x="507" y="1499"/>
                    </a:lnTo>
                    <a:lnTo>
                      <a:pt x="488" y="1499"/>
                    </a:lnTo>
                    <a:lnTo>
                      <a:pt x="470" y="1499"/>
                    </a:lnTo>
                    <a:lnTo>
                      <a:pt x="453" y="1499"/>
                    </a:lnTo>
                    <a:lnTo>
                      <a:pt x="434" y="1499"/>
                    </a:lnTo>
                    <a:lnTo>
                      <a:pt x="417" y="1499"/>
                    </a:lnTo>
                    <a:lnTo>
                      <a:pt x="398" y="1499"/>
                    </a:lnTo>
                    <a:lnTo>
                      <a:pt x="381" y="1499"/>
                    </a:lnTo>
                    <a:lnTo>
                      <a:pt x="362" y="1499"/>
                    </a:lnTo>
                    <a:lnTo>
                      <a:pt x="356" y="1504"/>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962760" y="1749600"/>
                <a:ext cx="1463760" cy="1334880"/>
              </a:xfrm>
              <a:custGeom>
                <a:avLst/>
                <a:gdLst/>
                <a:ahLst/>
                <a:rect l="l" t="t" r="r" b="b"/>
                <a:pathLst>
                  <a:path w="2766" h="2525">
                    <a:moveTo>
                      <a:pt x="136" y="2525"/>
                    </a:moveTo>
                    <a:lnTo>
                      <a:pt x="123" y="2522"/>
                    </a:lnTo>
                    <a:lnTo>
                      <a:pt x="109" y="2520"/>
                    </a:lnTo>
                    <a:lnTo>
                      <a:pt x="96" y="2520"/>
                    </a:lnTo>
                    <a:lnTo>
                      <a:pt x="81" y="2520"/>
                    </a:lnTo>
                    <a:lnTo>
                      <a:pt x="65" y="2522"/>
                    </a:lnTo>
                    <a:lnTo>
                      <a:pt x="51" y="2522"/>
                    </a:lnTo>
                    <a:lnTo>
                      <a:pt x="35" y="2522"/>
                    </a:lnTo>
                    <a:lnTo>
                      <a:pt x="20" y="2522"/>
                    </a:lnTo>
                    <a:lnTo>
                      <a:pt x="9" y="1902"/>
                    </a:lnTo>
                    <a:lnTo>
                      <a:pt x="4" y="1279"/>
                    </a:lnTo>
                    <a:lnTo>
                      <a:pt x="2" y="656"/>
                    </a:lnTo>
                    <a:lnTo>
                      <a:pt x="0" y="32"/>
                    </a:lnTo>
                    <a:lnTo>
                      <a:pt x="15" y="21"/>
                    </a:lnTo>
                    <a:lnTo>
                      <a:pt x="67" y="19"/>
                    </a:lnTo>
                    <a:lnTo>
                      <a:pt x="120" y="16"/>
                    </a:lnTo>
                    <a:lnTo>
                      <a:pt x="172" y="16"/>
                    </a:lnTo>
                    <a:lnTo>
                      <a:pt x="226" y="15"/>
                    </a:lnTo>
                    <a:lnTo>
                      <a:pt x="278" y="13"/>
                    </a:lnTo>
                    <a:lnTo>
                      <a:pt x="331" y="13"/>
                    </a:lnTo>
                    <a:lnTo>
                      <a:pt x="385" y="13"/>
                    </a:lnTo>
                    <a:lnTo>
                      <a:pt x="438" y="12"/>
                    </a:lnTo>
                    <a:lnTo>
                      <a:pt x="492" y="12"/>
                    </a:lnTo>
                    <a:lnTo>
                      <a:pt x="544" y="12"/>
                    </a:lnTo>
                    <a:lnTo>
                      <a:pt x="597" y="13"/>
                    </a:lnTo>
                    <a:lnTo>
                      <a:pt x="651" y="13"/>
                    </a:lnTo>
                    <a:lnTo>
                      <a:pt x="704" y="13"/>
                    </a:lnTo>
                    <a:lnTo>
                      <a:pt x="758" y="13"/>
                    </a:lnTo>
                    <a:lnTo>
                      <a:pt x="810" y="13"/>
                    </a:lnTo>
                    <a:lnTo>
                      <a:pt x="863" y="13"/>
                    </a:lnTo>
                    <a:lnTo>
                      <a:pt x="923" y="13"/>
                    </a:lnTo>
                    <a:lnTo>
                      <a:pt x="982" y="12"/>
                    </a:lnTo>
                    <a:lnTo>
                      <a:pt x="1043" y="12"/>
                    </a:lnTo>
                    <a:lnTo>
                      <a:pt x="1102" y="10"/>
                    </a:lnTo>
                    <a:lnTo>
                      <a:pt x="1161" y="10"/>
                    </a:lnTo>
                    <a:lnTo>
                      <a:pt x="1221" y="9"/>
                    </a:lnTo>
                    <a:lnTo>
                      <a:pt x="1280" y="9"/>
                    </a:lnTo>
                    <a:lnTo>
                      <a:pt x="1339" y="9"/>
                    </a:lnTo>
                    <a:lnTo>
                      <a:pt x="1398" y="8"/>
                    </a:lnTo>
                    <a:lnTo>
                      <a:pt x="1456" y="8"/>
                    </a:lnTo>
                    <a:lnTo>
                      <a:pt x="1516" y="8"/>
                    </a:lnTo>
                    <a:lnTo>
                      <a:pt x="1575" y="6"/>
                    </a:lnTo>
                    <a:lnTo>
                      <a:pt x="1634" y="6"/>
                    </a:lnTo>
                    <a:lnTo>
                      <a:pt x="1692" y="6"/>
                    </a:lnTo>
                    <a:lnTo>
                      <a:pt x="1751" y="5"/>
                    </a:lnTo>
                    <a:lnTo>
                      <a:pt x="1811" y="5"/>
                    </a:lnTo>
                    <a:lnTo>
                      <a:pt x="1870" y="5"/>
                    </a:lnTo>
                    <a:lnTo>
                      <a:pt x="1928" y="3"/>
                    </a:lnTo>
                    <a:lnTo>
                      <a:pt x="1987" y="3"/>
                    </a:lnTo>
                    <a:lnTo>
                      <a:pt x="2045" y="3"/>
                    </a:lnTo>
                    <a:lnTo>
                      <a:pt x="2104" y="3"/>
                    </a:lnTo>
                    <a:lnTo>
                      <a:pt x="2162" y="3"/>
                    </a:lnTo>
                    <a:lnTo>
                      <a:pt x="2221" y="2"/>
                    </a:lnTo>
                    <a:lnTo>
                      <a:pt x="2279" y="2"/>
                    </a:lnTo>
                    <a:lnTo>
                      <a:pt x="2338" y="2"/>
                    </a:lnTo>
                    <a:lnTo>
                      <a:pt x="2396" y="2"/>
                    </a:lnTo>
                    <a:lnTo>
                      <a:pt x="2455" y="2"/>
                    </a:lnTo>
                    <a:lnTo>
                      <a:pt x="2513" y="0"/>
                    </a:lnTo>
                    <a:lnTo>
                      <a:pt x="2573" y="0"/>
                    </a:lnTo>
                    <a:lnTo>
                      <a:pt x="2630" y="0"/>
                    </a:lnTo>
                    <a:lnTo>
                      <a:pt x="2690" y="0"/>
                    </a:lnTo>
                    <a:lnTo>
                      <a:pt x="2748" y="0"/>
                    </a:lnTo>
                    <a:lnTo>
                      <a:pt x="2761" y="289"/>
                    </a:lnTo>
                    <a:lnTo>
                      <a:pt x="2765" y="580"/>
                    </a:lnTo>
                    <a:lnTo>
                      <a:pt x="2765" y="870"/>
                    </a:lnTo>
                    <a:lnTo>
                      <a:pt x="2766" y="1161"/>
                    </a:lnTo>
                    <a:lnTo>
                      <a:pt x="2752" y="1168"/>
                    </a:lnTo>
                    <a:lnTo>
                      <a:pt x="2740" y="1165"/>
                    </a:lnTo>
                    <a:lnTo>
                      <a:pt x="2729" y="1161"/>
                    </a:lnTo>
                    <a:lnTo>
                      <a:pt x="2719" y="1156"/>
                    </a:lnTo>
                    <a:lnTo>
                      <a:pt x="2709" y="1150"/>
                    </a:lnTo>
                    <a:lnTo>
                      <a:pt x="2697" y="1146"/>
                    </a:lnTo>
                    <a:lnTo>
                      <a:pt x="2685" y="1142"/>
                    </a:lnTo>
                    <a:lnTo>
                      <a:pt x="2672" y="1139"/>
                    </a:lnTo>
                    <a:lnTo>
                      <a:pt x="2659" y="1136"/>
                    </a:lnTo>
                    <a:lnTo>
                      <a:pt x="2639" y="1129"/>
                    </a:lnTo>
                    <a:lnTo>
                      <a:pt x="2620" y="1122"/>
                    </a:lnTo>
                    <a:lnTo>
                      <a:pt x="2599" y="1114"/>
                    </a:lnTo>
                    <a:lnTo>
                      <a:pt x="2578" y="1107"/>
                    </a:lnTo>
                    <a:lnTo>
                      <a:pt x="2557" y="1101"/>
                    </a:lnTo>
                    <a:lnTo>
                      <a:pt x="2536" y="1094"/>
                    </a:lnTo>
                    <a:lnTo>
                      <a:pt x="2515" y="1087"/>
                    </a:lnTo>
                    <a:lnTo>
                      <a:pt x="2493" y="1080"/>
                    </a:lnTo>
                    <a:lnTo>
                      <a:pt x="2470" y="1072"/>
                    </a:lnTo>
                    <a:lnTo>
                      <a:pt x="2448" y="1065"/>
                    </a:lnTo>
                    <a:lnTo>
                      <a:pt x="2427" y="1058"/>
                    </a:lnTo>
                    <a:lnTo>
                      <a:pt x="2405" y="1051"/>
                    </a:lnTo>
                    <a:lnTo>
                      <a:pt x="2383" y="1044"/>
                    </a:lnTo>
                    <a:lnTo>
                      <a:pt x="2363" y="1036"/>
                    </a:lnTo>
                    <a:lnTo>
                      <a:pt x="2341" y="1029"/>
                    </a:lnTo>
                    <a:lnTo>
                      <a:pt x="2321" y="1020"/>
                    </a:lnTo>
                    <a:lnTo>
                      <a:pt x="2285" y="1007"/>
                    </a:lnTo>
                    <a:lnTo>
                      <a:pt x="2249" y="996"/>
                    </a:lnTo>
                    <a:lnTo>
                      <a:pt x="2213" y="984"/>
                    </a:lnTo>
                    <a:lnTo>
                      <a:pt x="2176" y="973"/>
                    </a:lnTo>
                    <a:lnTo>
                      <a:pt x="2140" y="963"/>
                    </a:lnTo>
                    <a:lnTo>
                      <a:pt x="2103" y="951"/>
                    </a:lnTo>
                    <a:lnTo>
                      <a:pt x="2066" y="941"/>
                    </a:lnTo>
                    <a:lnTo>
                      <a:pt x="2029" y="931"/>
                    </a:lnTo>
                    <a:lnTo>
                      <a:pt x="1991" y="922"/>
                    </a:lnTo>
                    <a:lnTo>
                      <a:pt x="1955" y="912"/>
                    </a:lnTo>
                    <a:lnTo>
                      <a:pt x="1919" y="902"/>
                    </a:lnTo>
                    <a:lnTo>
                      <a:pt x="1881" y="892"/>
                    </a:lnTo>
                    <a:lnTo>
                      <a:pt x="1845" y="882"/>
                    </a:lnTo>
                    <a:lnTo>
                      <a:pt x="1809" y="872"/>
                    </a:lnTo>
                    <a:lnTo>
                      <a:pt x="1773" y="860"/>
                    </a:lnTo>
                    <a:lnTo>
                      <a:pt x="1738" y="850"/>
                    </a:lnTo>
                    <a:lnTo>
                      <a:pt x="1704" y="838"/>
                    </a:lnTo>
                    <a:lnTo>
                      <a:pt x="1669" y="827"/>
                    </a:lnTo>
                    <a:lnTo>
                      <a:pt x="1634" y="814"/>
                    </a:lnTo>
                    <a:lnTo>
                      <a:pt x="1601" y="801"/>
                    </a:lnTo>
                    <a:lnTo>
                      <a:pt x="1568" y="786"/>
                    </a:lnTo>
                    <a:lnTo>
                      <a:pt x="1536" y="772"/>
                    </a:lnTo>
                    <a:lnTo>
                      <a:pt x="1504" y="757"/>
                    </a:lnTo>
                    <a:lnTo>
                      <a:pt x="1474" y="740"/>
                    </a:lnTo>
                    <a:lnTo>
                      <a:pt x="1445" y="723"/>
                    </a:lnTo>
                    <a:lnTo>
                      <a:pt x="1416" y="705"/>
                    </a:lnTo>
                    <a:lnTo>
                      <a:pt x="1387" y="685"/>
                    </a:lnTo>
                    <a:lnTo>
                      <a:pt x="1361" y="665"/>
                    </a:lnTo>
                    <a:lnTo>
                      <a:pt x="1333" y="643"/>
                    </a:lnTo>
                    <a:lnTo>
                      <a:pt x="1309" y="620"/>
                    </a:lnTo>
                    <a:lnTo>
                      <a:pt x="1286" y="596"/>
                    </a:lnTo>
                    <a:lnTo>
                      <a:pt x="1262" y="570"/>
                    </a:lnTo>
                    <a:lnTo>
                      <a:pt x="1248" y="547"/>
                    </a:lnTo>
                    <a:lnTo>
                      <a:pt x="1231" y="523"/>
                    </a:lnTo>
                    <a:lnTo>
                      <a:pt x="1213" y="500"/>
                    </a:lnTo>
                    <a:lnTo>
                      <a:pt x="1196" y="479"/>
                    </a:lnTo>
                    <a:lnTo>
                      <a:pt x="1176" y="458"/>
                    </a:lnTo>
                    <a:lnTo>
                      <a:pt x="1155" y="437"/>
                    </a:lnTo>
                    <a:lnTo>
                      <a:pt x="1135" y="416"/>
                    </a:lnTo>
                    <a:lnTo>
                      <a:pt x="1114" y="398"/>
                    </a:lnTo>
                    <a:lnTo>
                      <a:pt x="1092" y="379"/>
                    </a:lnTo>
                    <a:lnTo>
                      <a:pt x="1069" y="359"/>
                    </a:lnTo>
                    <a:lnTo>
                      <a:pt x="1047" y="341"/>
                    </a:lnTo>
                    <a:lnTo>
                      <a:pt x="1024" y="323"/>
                    </a:lnTo>
                    <a:lnTo>
                      <a:pt x="1001" y="304"/>
                    </a:lnTo>
                    <a:lnTo>
                      <a:pt x="978" y="286"/>
                    </a:lnTo>
                    <a:lnTo>
                      <a:pt x="954" y="268"/>
                    </a:lnTo>
                    <a:lnTo>
                      <a:pt x="931" y="250"/>
                    </a:lnTo>
                    <a:lnTo>
                      <a:pt x="926" y="242"/>
                    </a:lnTo>
                    <a:lnTo>
                      <a:pt x="920" y="232"/>
                    </a:lnTo>
                    <a:lnTo>
                      <a:pt x="914" y="221"/>
                    </a:lnTo>
                    <a:lnTo>
                      <a:pt x="908" y="211"/>
                    </a:lnTo>
                    <a:lnTo>
                      <a:pt x="902" y="201"/>
                    </a:lnTo>
                    <a:lnTo>
                      <a:pt x="897" y="190"/>
                    </a:lnTo>
                    <a:lnTo>
                      <a:pt x="891" y="178"/>
                    </a:lnTo>
                    <a:lnTo>
                      <a:pt x="885" y="167"/>
                    </a:lnTo>
                    <a:lnTo>
                      <a:pt x="872" y="145"/>
                    </a:lnTo>
                    <a:lnTo>
                      <a:pt x="866" y="141"/>
                    </a:lnTo>
                    <a:lnTo>
                      <a:pt x="860" y="136"/>
                    </a:lnTo>
                    <a:lnTo>
                      <a:pt x="855" y="132"/>
                    </a:lnTo>
                    <a:lnTo>
                      <a:pt x="849" y="127"/>
                    </a:lnTo>
                    <a:lnTo>
                      <a:pt x="843" y="123"/>
                    </a:lnTo>
                    <a:lnTo>
                      <a:pt x="839" y="119"/>
                    </a:lnTo>
                    <a:lnTo>
                      <a:pt x="833" y="116"/>
                    </a:lnTo>
                    <a:lnTo>
                      <a:pt x="827" y="112"/>
                    </a:lnTo>
                    <a:lnTo>
                      <a:pt x="801" y="112"/>
                    </a:lnTo>
                    <a:lnTo>
                      <a:pt x="774" y="114"/>
                    </a:lnTo>
                    <a:lnTo>
                      <a:pt x="748" y="120"/>
                    </a:lnTo>
                    <a:lnTo>
                      <a:pt x="722" y="127"/>
                    </a:lnTo>
                    <a:lnTo>
                      <a:pt x="696" y="139"/>
                    </a:lnTo>
                    <a:lnTo>
                      <a:pt x="671" y="151"/>
                    </a:lnTo>
                    <a:lnTo>
                      <a:pt x="648" y="165"/>
                    </a:lnTo>
                    <a:lnTo>
                      <a:pt x="628" y="180"/>
                    </a:lnTo>
                    <a:lnTo>
                      <a:pt x="616" y="180"/>
                    </a:lnTo>
                    <a:lnTo>
                      <a:pt x="606" y="181"/>
                    </a:lnTo>
                    <a:lnTo>
                      <a:pt x="594" y="181"/>
                    </a:lnTo>
                    <a:lnTo>
                      <a:pt x="583" y="182"/>
                    </a:lnTo>
                    <a:lnTo>
                      <a:pt x="573" y="184"/>
                    </a:lnTo>
                    <a:lnTo>
                      <a:pt x="561" y="185"/>
                    </a:lnTo>
                    <a:lnTo>
                      <a:pt x="548" y="187"/>
                    </a:lnTo>
                    <a:lnTo>
                      <a:pt x="537" y="188"/>
                    </a:lnTo>
                    <a:lnTo>
                      <a:pt x="529" y="191"/>
                    </a:lnTo>
                    <a:lnTo>
                      <a:pt x="522" y="194"/>
                    </a:lnTo>
                    <a:lnTo>
                      <a:pt x="516" y="197"/>
                    </a:lnTo>
                    <a:lnTo>
                      <a:pt x="511" y="200"/>
                    </a:lnTo>
                    <a:lnTo>
                      <a:pt x="505" y="204"/>
                    </a:lnTo>
                    <a:lnTo>
                      <a:pt x="499" y="208"/>
                    </a:lnTo>
                    <a:lnTo>
                      <a:pt x="492" y="211"/>
                    </a:lnTo>
                    <a:lnTo>
                      <a:pt x="483" y="216"/>
                    </a:lnTo>
                    <a:lnTo>
                      <a:pt x="476" y="221"/>
                    </a:lnTo>
                    <a:lnTo>
                      <a:pt x="470" y="229"/>
                    </a:lnTo>
                    <a:lnTo>
                      <a:pt x="464" y="236"/>
                    </a:lnTo>
                    <a:lnTo>
                      <a:pt x="458" y="245"/>
                    </a:lnTo>
                    <a:lnTo>
                      <a:pt x="457" y="262"/>
                    </a:lnTo>
                    <a:lnTo>
                      <a:pt x="457" y="279"/>
                    </a:lnTo>
                    <a:lnTo>
                      <a:pt x="457" y="298"/>
                    </a:lnTo>
                    <a:lnTo>
                      <a:pt x="457" y="317"/>
                    </a:lnTo>
                    <a:lnTo>
                      <a:pt x="435" y="317"/>
                    </a:lnTo>
                    <a:lnTo>
                      <a:pt x="424" y="318"/>
                    </a:lnTo>
                    <a:lnTo>
                      <a:pt x="414" y="323"/>
                    </a:lnTo>
                    <a:lnTo>
                      <a:pt x="405" y="330"/>
                    </a:lnTo>
                    <a:lnTo>
                      <a:pt x="393" y="337"/>
                    </a:lnTo>
                    <a:lnTo>
                      <a:pt x="388" y="338"/>
                    </a:lnTo>
                    <a:lnTo>
                      <a:pt x="382" y="344"/>
                    </a:lnTo>
                    <a:lnTo>
                      <a:pt x="375" y="351"/>
                    </a:lnTo>
                    <a:lnTo>
                      <a:pt x="369" y="360"/>
                    </a:lnTo>
                    <a:lnTo>
                      <a:pt x="367" y="377"/>
                    </a:lnTo>
                    <a:lnTo>
                      <a:pt x="363" y="396"/>
                    </a:lnTo>
                    <a:lnTo>
                      <a:pt x="360" y="415"/>
                    </a:lnTo>
                    <a:lnTo>
                      <a:pt x="357" y="434"/>
                    </a:lnTo>
                    <a:lnTo>
                      <a:pt x="353" y="434"/>
                    </a:lnTo>
                    <a:lnTo>
                      <a:pt x="347" y="435"/>
                    </a:lnTo>
                    <a:lnTo>
                      <a:pt x="343" y="437"/>
                    </a:lnTo>
                    <a:lnTo>
                      <a:pt x="337" y="438"/>
                    </a:lnTo>
                    <a:lnTo>
                      <a:pt x="331" y="440"/>
                    </a:lnTo>
                    <a:lnTo>
                      <a:pt x="325" y="441"/>
                    </a:lnTo>
                    <a:lnTo>
                      <a:pt x="320" y="442"/>
                    </a:lnTo>
                    <a:lnTo>
                      <a:pt x="314" y="444"/>
                    </a:lnTo>
                    <a:lnTo>
                      <a:pt x="295" y="460"/>
                    </a:lnTo>
                    <a:lnTo>
                      <a:pt x="281" y="481"/>
                    </a:lnTo>
                    <a:lnTo>
                      <a:pt x="269" y="507"/>
                    </a:lnTo>
                    <a:lnTo>
                      <a:pt x="262" y="536"/>
                    </a:lnTo>
                    <a:lnTo>
                      <a:pt x="255" y="567"/>
                    </a:lnTo>
                    <a:lnTo>
                      <a:pt x="250" y="597"/>
                    </a:lnTo>
                    <a:lnTo>
                      <a:pt x="247" y="627"/>
                    </a:lnTo>
                    <a:lnTo>
                      <a:pt x="243" y="656"/>
                    </a:lnTo>
                    <a:lnTo>
                      <a:pt x="247" y="666"/>
                    </a:lnTo>
                    <a:lnTo>
                      <a:pt x="253" y="678"/>
                    </a:lnTo>
                    <a:lnTo>
                      <a:pt x="257" y="688"/>
                    </a:lnTo>
                    <a:lnTo>
                      <a:pt x="263" y="700"/>
                    </a:lnTo>
                    <a:lnTo>
                      <a:pt x="268" y="710"/>
                    </a:lnTo>
                    <a:lnTo>
                      <a:pt x="273" y="721"/>
                    </a:lnTo>
                    <a:lnTo>
                      <a:pt x="279" y="731"/>
                    </a:lnTo>
                    <a:lnTo>
                      <a:pt x="286" y="743"/>
                    </a:lnTo>
                    <a:lnTo>
                      <a:pt x="291" y="756"/>
                    </a:lnTo>
                    <a:lnTo>
                      <a:pt x="297" y="769"/>
                    </a:lnTo>
                    <a:lnTo>
                      <a:pt x="302" y="782"/>
                    </a:lnTo>
                    <a:lnTo>
                      <a:pt x="311" y="794"/>
                    </a:lnTo>
                    <a:lnTo>
                      <a:pt x="320" y="807"/>
                    </a:lnTo>
                    <a:lnTo>
                      <a:pt x="328" y="818"/>
                    </a:lnTo>
                    <a:lnTo>
                      <a:pt x="337" y="833"/>
                    </a:lnTo>
                    <a:lnTo>
                      <a:pt x="346" y="846"/>
                    </a:lnTo>
                    <a:lnTo>
                      <a:pt x="364" y="847"/>
                    </a:lnTo>
                    <a:lnTo>
                      <a:pt x="372" y="864"/>
                    </a:lnTo>
                    <a:lnTo>
                      <a:pt x="376" y="882"/>
                    </a:lnTo>
                    <a:lnTo>
                      <a:pt x="380" y="899"/>
                    </a:lnTo>
                    <a:lnTo>
                      <a:pt x="383" y="916"/>
                    </a:lnTo>
                    <a:lnTo>
                      <a:pt x="392" y="938"/>
                    </a:lnTo>
                    <a:lnTo>
                      <a:pt x="405" y="951"/>
                    </a:lnTo>
                    <a:lnTo>
                      <a:pt x="418" y="963"/>
                    </a:lnTo>
                    <a:lnTo>
                      <a:pt x="431" y="976"/>
                    </a:lnTo>
                    <a:lnTo>
                      <a:pt x="444" y="989"/>
                    </a:lnTo>
                    <a:lnTo>
                      <a:pt x="458" y="1000"/>
                    </a:lnTo>
                    <a:lnTo>
                      <a:pt x="471" y="1013"/>
                    </a:lnTo>
                    <a:lnTo>
                      <a:pt x="486" y="1026"/>
                    </a:lnTo>
                    <a:lnTo>
                      <a:pt x="502" y="1038"/>
                    </a:lnTo>
                    <a:lnTo>
                      <a:pt x="516" y="1051"/>
                    </a:lnTo>
                    <a:lnTo>
                      <a:pt x="532" y="1062"/>
                    </a:lnTo>
                    <a:lnTo>
                      <a:pt x="548" y="1074"/>
                    </a:lnTo>
                    <a:lnTo>
                      <a:pt x="564" y="1085"/>
                    </a:lnTo>
                    <a:lnTo>
                      <a:pt x="580" y="1096"/>
                    </a:lnTo>
                    <a:lnTo>
                      <a:pt x="597" y="1106"/>
                    </a:lnTo>
                    <a:lnTo>
                      <a:pt x="615" y="1116"/>
                    </a:lnTo>
                    <a:lnTo>
                      <a:pt x="632" y="1126"/>
                    </a:lnTo>
                    <a:lnTo>
                      <a:pt x="655" y="1133"/>
                    </a:lnTo>
                    <a:lnTo>
                      <a:pt x="678" y="1137"/>
                    </a:lnTo>
                    <a:lnTo>
                      <a:pt x="701" y="1140"/>
                    </a:lnTo>
                    <a:lnTo>
                      <a:pt x="725" y="1142"/>
                    </a:lnTo>
                    <a:lnTo>
                      <a:pt x="749" y="1143"/>
                    </a:lnTo>
                    <a:lnTo>
                      <a:pt x="772" y="1142"/>
                    </a:lnTo>
                    <a:lnTo>
                      <a:pt x="797" y="1140"/>
                    </a:lnTo>
                    <a:lnTo>
                      <a:pt x="821" y="1139"/>
                    </a:lnTo>
                    <a:lnTo>
                      <a:pt x="846" y="1136"/>
                    </a:lnTo>
                    <a:lnTo>
                      <a:pt x="869" y="1133"/>
                    </a:lnTo>
                    <a:lnTo>
                      <a:pt x="894" y="1130"/>
                    </a:lnTo>
                    <a:lnTo>
                      <a:pt x="918" y="1129"/>
                    </a:lnTo>
                    <a:lnTo>
                      <a:pt x="943" y="1126"/>
                    </a:lnTo>
                    <a:lnTo>
                      <a:pt x="967" y="1124"/>
                    </a:lnTo>
                    <a:lnTo>
                      <a:pt x="992" y="1124"/>
                    </a:lnTo>
                    <a:lnTo>
                      <a:pt x="1017" y="1126"/>
                    </a:lnTo>
                    <a:lnTo>
                      <a:pt x="1028" y="1129"/>
                    </a:lnTo>
                    <a:lnTo>
                      <a:pt x="1037" y="1135"/>
                    </a:lnTo>
                    <a:lnTo>
                      <a:pt x="1046" y="1139"/>
                    </a:lnTo>
                    <a:lnTo>
                      <a:pt x="1054" y="1145"/>
                    </a:lnTo>
                    <a:lnTo>
                      <a:pt x="1063" y="1150"/>
                    </a:lnTo>
                    <a:lnTo>
                      <a:pt x="1073" y="1156"/>
                    </a:lnTo>
                    <a:lnTo>
                      <a:pt x="1085" y="1161"/>
                    </a:lnTo>
                    <a:lnTo>
                      <a:pt x="1098" y="1163"/>
                    </a:lnTo>
                    <a:lnTo>
                      <a:pt x="1114" y="1174"/>
                    </a:lnTo>
                    <a:lnTo>
                      <a:pt x="1129" y="1182"/>
                    </a:lnTo>
                    <a:lnTo>
                      <a:pt x="1145" y="1191"/>
                    </a:lnTo>
                    <a:lnTo>
                      <a:pt x="1161" y="1200"/>
                    </a:lnTo>
                    <a:lnTo>
                      <a:pt x="1179" y="1208"/>
                    </a:lnTo>
                    <a:lnTo>
                      <a:pt x="1195" y="1215"/>
                    </a:lnTo>
                    <a:lnTo>
                      <a:pt x="1212" y="1223"/>
                    </a:lnTo>
                    <a:lnTo>
                      <a:pt x="1228" y="1228"/>
                    </a:lnTo>
                    <a:lnTo>
                      <a:pt x="1244" y="1236"/>
                    </a:lnTo>
                    <a:lnTo>
                      <a:pt x="1261" y="1243"/>
                    </a:lnTo>
                    <a:lnTo>
                      <a:pt x="1277" y="1249"/>
                    </a:lnTo>
                    <a:lnTo>
                      <a:pt x="1294" y="1256"/>
                    </a:lnTo>
                    <a:lnTo>
                      <a:pt x="1310" y="1262"/>
                    </a:lnTo>
                    <a:lnTo>
                      <a:pt x="1326" y="1269"/>
                    </a:lnTo>
                    <a:lnTo>
                      <a:pt x="1342" y="1275"/>
                    </a:lnTo>
                    <a:lnTo>
                      <a:pt x="1358" y="1282"/>
                    </a:lnTo>
                    <a:lnTo>
                      <a:pt x="1345" y="1296"/>
                    </a:lnTo>
                    <a:lnTo>
                      <a:pt x="1330" y="1311"/>
                    </a:lnTo>
                    <a:lnTo>
                      <a:pt x="1315" y="1324"/>
                    </a:lnTo>
                    <a:lnTo>
                      <a:pt x="1299" y="1338"/>
                    </a:lnTo>
                    <a:lnTo>
                      <a:pt x="1280" y="1353"/>
                    </a:lnTo>
                    <a:lnTo>
                      <a:pt x="1262" y="1369"/>
                    </a:lnTo>
                    <a:lnTo>
                      <a:pt x="1242" y="1383"/>
                    </a:lnTo>
                    <a:lnTo>
                      <a:pt x="1223" y="1399"/>
                    </a:lnTo>
                    <a:lnTo>
                      <a:pt x="1208" y="1408"/>
                    </a:lnTo>
                    <a:lnTo>
                      <a:pt x="1193" y="1418"/>
                    </a:lnTo>
                    <a:lnTo>
                      <a:pt x="1179" y="1429"/>
                    </a:lnTo>
                    <a:lnTo>
                      <a:pt x="1166" y="1442"/>
                    </a:lnTo>
                    <a:lnTo>
                      <a:pt x="1153" y="1457"/>
                    </a:lnTo>
                    <a:lnTo>
                      <a:pt x="1141" y="1471"/>
                    </a:lnTo>
                    <a:lnTo>
                      <a:pt x="1129" y="1486"/>
                    </a:lnTo>
                    <a:lnTo>
                      <a:pt x="1118" y="1500"/>
                    </a:lnTo>
                    <a:lnTo>
                      <a:pt x="1106" y="1522"/>
                    </a:lnTo>
                    <a:lnTo>
                      <a:pt x="1101" y="1535"/>
                    </a:lnTo>
                    <a:lnTo>
                      <a:pt x="1095" y="1549"/>
                    </a:lnTo>
                    <a:lnTo>
                      <a:pt x="1089" y="1562"/>
                    </a:lnTo>
                    <a:lnTo>
                      <a:pt x="1083" y="1575"/>
                    </a:lnTo>
                    <a:lnTo>
                      <a:pt x="1079" y="1588"/>
                    </a:lnTo>
                    <a:lnTo>
                      <a:pt x="1072" y="1601"/>
                    </a:lnTo>
                    <a:lnTo>
                      <a:pt x="1064" y="1616"/>
                    </a:lnTo>
                    <a:lnTo>
                      <a:pt x="1056" y="1629"/>
                    </a:lnTo>
                    <a:lnTo>
                      <a:pt x="1041" y="1662"/>
                    </a:lnTo>
                    <a:lnTo>
                      <a:pt x="1027" y="1697"/>
                    </a:lnTo>
                    <a:lnTo>
                      <a:pt x="1011" y="1730"/>
                    </a:lnTo>
                    <a:lnTo>
                      <a:pt x="996" y="1765"/>
                    </a:lnTo>
                    <a:lnTo>
                      <a:pt x="980" y="1799"/>
                    </a:lnTo>
                    <a:lnTo>
                      <a:pt x="965" y="1834"/>
                    </a:lnTo>
                    <a:lnTo>
                      <a:pt x="949" y="1869"/>
                    </a:lnTo>
                    <a:lnTo>
                      <a:pt x="931" y="1903"/>
                    </a:lnTo>
                    <a:lnTo>
                      <a:pt x="921" y="1949"/>
                    </a:lnTo>
                    <a:lnTo>
                      <a:pt x="908" y="1993"/>
                    </a:lnTo>
                    <a:lnTo>
                      <a:pt x="891" y="2035"/>
                    </a:lnTo>
                    <a:lnTo>
                      <a:pt x="872" y="2074"/>
                    </a:lnTo>
                    <a:lnTo>
                      <a:pt x="850" y="2110"/>
                    </a:lnTo>
                    <a:lnTo>
                      <a:pt x="826" y="2146"/>
                    </a:lnTo>
                    <a:lnTo>
                      <a:pt x="798" y="2179"/>
                    </a:lnTo>
                    <a:lnTo>
                      <a:pt x="771" y="2211"/>
                    </a:lnTo>
                    <a:lnTo>
                      <a:pt x="740" y="2241"/>
                    </a:lnTo>
                    <a:lnTo>
                      <a:pt x="709" y="2272"/>
                    </a:lnTo>
                    <a:lnTo>
                      <a:pt x="675" y="2301"/>
                    </a:lnTo>
                    <a:lnTo>
                      <a:pt x="641" y="2328"/>
                    </a:lnTo>
                    <a:lnTo>
                      <a:pt x="606" y="2354"/>
                    </a:lnTo>
                    <a:lnTo>
                      <a:pt x="571" y="2381"/>
                    </a:lnTo>
                    <a:lnTo>
                      <a:pt x="535" y="2408"/>
                    </a:lnTo>
                    <a:lnTo>
                      <a:pt x="499" y="2434"/>
                    </a:lnTo>
                    <a:lnTo>
                      <a:pt x="479" y="2444"/>
                    </a:lnTo>
                    <a:lnTo>
                      <a:pt x="458" y="2452"/>
                    </a:lnTo>
                    <a:lnTo>
                      <a:pt x="437" y="2462"/>
                    </a:lnTo>
                    <a:lnTo>
                      <a:pt x="417" y="2473"/>
                    </a:lnTo>
                    <a:lnTo>
                      <a:pt x="395" y="2484"/>
                    </a:lnTo>
                    <a:lnTo>
                      <a:pt x="373" y="2496"/>
                    </a:lnTo>
                    <a:lnTo>
                      <a:pt x="353" y="2507"/>
                    </a:lnTo>
                    <a:lnTo>
                      <a:pt x="333" y="2520"/>
                    </a:lnTo>
                    <a:lnTo>
                      <a:pt x="310" y="2520"/>
                    </a:lnTo>
                    <a:lnTo>
                      <a:pt x="286" y="2520"/>
                    </a:lnTo>
                    <a:lnTo>
                      <a:pt x="263" y="2522"/>
                    </a:lnTo>
                    <a:lnTo>
                      <a:pt x="240" y="2522"/>
                    </a:lnTo>
                    <a:lnTo>
                      <a:pt x="217" y="2522"/>
                    </a:lnTo>
                    <a:lnTo>
                      <a:pt x="192" y="2522"/>
                    </a:lnTo>
                    <a:lnTo>
                      <a:pt x="168" y="2522"/>
                    </a:lnTo>
                    <a:lnTo>
                      <a:pt x="143" y="2520"/>
                    </a:lnTo>
                    <a:lnTo>
                      <a:pt x="136" y="252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08920" y="3048120"/>
                <a:ext cx="11160" cy="14040"/>
              </a:xfrm>
              <a:custGeom>
                <a:avLst/>
                <a:gdLst/>
                <a:ahLst/>
                <a:rect l="l" t="t" r="r" b="b"/>
                <a:pathLst>
                  <a:path w="21" h="27">
                    <a:moveTo>
                      <a:pt x="10" y="27"/>
                    </a:moveTo>
                    <a:lnTo>
                      <a:pt x="3" y="23"/>
                    </a:lnTo>
                    <a:lnTo>
                      <a:pt x="0" y="16"/>
                    </a:lnTo>
                    <a:lnTo>
                      <a:pt x="2" y="7"/>
                    </a:lnTo>
                    <a:lnTo>
                      <a:pt x="8" y="0"/>
                    </a:lnTo>
                    <a:lnTo>
                      <a:pt x="18" y="6"/>
                    </a:lnTo>
                    <a:lnTo>
                      <a:pt x="21" y="10"/>
                    </a:lnTo>
                    <a:lnTo>
                      <a:pt x="19" y="16"/>
                    </a:lnTo>
                    <a:lnTo>
                      <a:pt x="16" y="23"/>
                    </a:lnTo>
                    <a:lnTo>
                      <a:pt x="10" y="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7" name=""/>
              <p:cNvSpPr/>
              <p:nvPr/>
            </p:nvSpPr>
            <p:spPr>
              <a:xfrm>
                <a:off x="7800840" y="3046320"/>
                <a:ext cx="9720" cy="12960"/>
              </a:xfrm>
              <a:custGeom>
                <a:avLst/>
                <a:gdLst/>
                <a:ahLst/>
                <a:rect l="l" t="t" r="r" b="b"/>
                <a:pathLst>
                  <a:path w="17" h="25">
                    <a:moveTo>
                      <a:pt x="13" y="25"/>
                    </a:moveTo>
                    <a:lnTo>
                      <a:pt x="4" y="23"/>
                    </a:lnTo>
                    <a:lnTo>
                      <a:pt x="0" y="16"/>
                    </a:lnTo>
                    <a:lnTo>
                      <a:pt x="0" y="8"/>
                    </a:lnTo>
                    <a:lnTo>
                      <a:pt x="7" y="0"/>
                    </a:lnTo>
                    <a:lnTo>
                      <a:pt x="12" y="3"/>
                    </a:lnTo>
                    <a:lnTo>
                      <a:pt x="17" y="12"/>
                    </a:lnTo>
                    <a:lnTo>
                      <a:pt x="17" y="19"/>
                    </a:lnTo>
                    <a:lnTo>
                      <a:pt x="13"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 name=""/>
              <p:cNvSpPr/>
              <p:nvPr/>
            </p:nvSpPr>
            <p:spPr>
              <a:xfrm>
                <a:off x="8120160" y="3040200"/>
                <a:ext cx="11160" cy="10800"/>
              </a:xfrm>
              <a:custGeom>
                <a:avLst/>
                <a:gdLst/>
                <a:ahLst/>
                <a:rect l="l" t="t" r="r" b="b"/>
                <a:pathLst>
                  <a:path w="21" h="23">
                    <a:moveTo>
                      <a:pt x="5" y="23"/>
                    </a:moveTo>
                    <a:lnTo>
                      <a:pt x="0" y="19"/>
                    </a:lnTo>
                    <a:lnTo>
                      <a:pt x="0" y="12"/>
                    </a:lnTo>
                    <a:lnTo>
                      <a:pt x="2" y="5"/>
                    </a:lnTo>
                    <a:lnTo>
                      <a:pt x="9" y="0"/>
                    </a:lnTo>
                    <a:lnTo>
                      <a:pt x="19" y="6"/>
                    </a:lnTo>
                    <a:lnTo>
                      <a:pt x="21" y="12"/>
                    </a:lnTo>
                    <a:lnTo>
                      <a:pt x="18" y="18"/>
                    </a:lnTo>
                    <a:lnTo>
                      <a:pt x="12" y="22"/>
                    </a:lnTo>
                    <a:lnTo>
                      <a:pt x="5"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9" name=""/>
              <p:cNvSpPr/>
              <p:nvPr/>
            </p:nvSpPr>
            <p:spPr>
              <a:xfrm>
                <a:off x="8226360" y="3027240"/>
                <a:ext cx="9720" cy="11160"/>
              </a:xfrm>
              <a:custGeom>
                <a:avLst/>
                <a:gdLst/>
                <a:ahLst/>
                <a:rect l="l" t="t" r="r" b="b"/>
                <a:pathLst>
                  <a:path w="18" h="23">
                    <a:moveTo>
                      <a:pt x="7" y="23"/>
                    </a:moveTo>
                    <a:lnTo>
                      <a:pt x="0" y="3"/>
                    </a:lnTo>
                    <a:lnTo>
                      <a:pt x="8" y="0"/>
                    </a:lnTo>
                    <a:lnTo>
                      <a:pt x="15" y="3"/>
                    </a:lnTo>
                    <a:lnTo>
                      <a:pt x="18" y="8"/>
                    </a:lnTo>
                    <a:lnTo>
                      <a:pt x="18" y="16"/>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
              <p:cNvSpPr/>
              <p:nvPr/>
            </p:nvSpPr>
            <p:spPr>
              <a:xfrm>
                <a:off x="8315280" y="3025800"/>
                <a:ext cx="6480" cy="11160"/>
              </a:xfrm>
              <a:custGeom>
                <a:avLst/>
                <a:gdLst/>
                <a:ahLst/>
                <a:rect l="l" t="t" r="r" b="b"/>
                <a:pathLst>
                  <a:path w="13" h="22">
                    <a:moveTo>
                      <a:pt x="0" y="22"/>
                    </a:moveTo>
                    <a:lnTo>
                      <a:pt x="0" y="0"/>
                    </a:lnTo>
                    <a:lnTo>
                      <a:pt x="7" y="2"/>
                    </a:lnTo>
                    <a:lnTo>
                      <a:pt x="11" y="6"/>
                    </a:lnTo>
                    <a:lnTo>
                      <a:pt x="13" y="13"/>
                    </a:lnTo>
                    <a:lnTo>
                      <a:pt x="10" y="22"/>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a:off x="7734240" y="3032280"/>
                <a:ext cx="11160" cy="10800"/>
              </a:xfrm>
              <a:custGeom>
                <a:avLst/>
                <a:gdLst/>
                <a:ahLst/>
                <a:rect l="l" t="t" r="r" b="b"/>
                <a:pathLst>
                  <a:path w="22" h="20">
                    <a:moveTo>
                      <a:pt x="3" y="20"/>
                    </a:moveTo>
                    <a:lnTo>
                      <a:pt x="0" y="16"/>
                    </a:lnTo>
                    <a:lnTo>
                      <a:pt x="2" y="9"/>
                    </a:lnTo>
                    <a:lnTo>
                      <a:pt x="4" y="3"/>
                    </a:lnTo>
                    <a:lnTo>
                      <a:pt x="12" y="0"/>
                    </a:lnTo>
                    <a:lnTo>
                      <a:pt x="22" y="6"/>
                    </a:lnTo>
                    <a:lnTo>
                      <a:pt x="20" y="9"/>
                    </a:lnTo>
                    <a:lnTo>
                      <a:pt x="16" y="14"/>
                    </a:lnTo>
                    <a:lnTo>
                      <a:pt x="10" y="19"/>
                    </a:lnTo>
                    <a:lnTo>
                      <a:pt x="3"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42" name=""/>
              <p:cNvSpPr/>
              <p:nvPr/>
            </p:nvSpPr>
            <p:spPr>
              <a:xfrm>
                <a:off x="7040520" y="3033720"/>
                <a:ext cx="11160" cy="11160"/>
              </a:xfrm>
              <a:custGeom>
                <a:avLst/>
                <a:gdLst/>
                <a:ahLst/>
                <a:rect l="l" t="t" r="r" b="b"/>
                <a:pathLst>
                  <a:path w="20" h="21">
                    <a:moveTo>
                      <a:pt x="13" y="21"/>
                    </a:moveTo>
                    <a:lnTo>
                      <a:pt x="0" y="11"/>
                    </a:lnTo>
                    <a:lnTo>
                      <a:pt x="20" y="0"/>
                    </a:lnTo>
                    <a:lnTo>
                      <a:pt x="20" y="6"/>
                    </a:lnTo>
                    <a:lnTo>
                      <a:pt x="20" y="13"/>
                    </a:lnTo>
                    <a:lnTo>
                      <a:pt x="17" y="20"/>
                    </a:lnTo>
                    <a:lnTo>
                      <a:pt x="1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3" name=""/>
              <p:cNvSpPr/>
              <p:nvPr/>
            </p:nvSpPr>
            <p:spPr>
              <a:xfrm>
                <a:off x="7854840" y="3019320"/>
                <a:ext cx="7920" cy="11160"/>
              </a:xfrm>
              <a:custGeom>
                <a:avLst/>
                <a:gdLst/>
                <a:ahLst/>
                <a:rect l="l" t="t" r="r" b="b"/>
                <a:pathLst>
                  <a:path w="15" h="22">
                    <a:moveTo>
                      <a:pt x="0" y="22"/>
                    </a:moveTo>
                    <a:lnTo>
                      <a:pt x="0" y="0"/>
                    </a:lnTo>
                    <a:lnTo>
                      <a:pt x="7" y="2"/>
                    </a:lnTo>
                    <a:lnTo>
                      <a:pt x="12" y="8"/>
                    </a:lnTo>
                    <a:lnTo>
                      <a:pt x="15" y="15"/>
                    </a:lnTo>
                    <a:lnTo>
                      <a:pt x="15" y="21"/>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4" name=""/>
              <p:cNvSpPr/>
              <p:nvPr/>
            </p:nvSpPr>
            <p:spPr>
              <a:xfrm>
                <a:off x="7161120" y="3027240"/>
                <a:ext cx="11160" cy="7920"/>
              </a:xfrm>
              <a:custGeom>
                <a:avLst/>
                <a:gdLst/>
                <a:ahLst/>
                <a:rect l="l" t="t" r="r" b="b"/>
                <a:pathLst>
                  <a:path w="21" h="16">
                    <a:moveTo>
                      <a:pt x="11" y="16"/>
                    </a:moveTo>
                    <a:lnTo>
                      <a:pt x="0" y="3"/>
                    </a:lnTo>
                    <a:lnTo>
                      <a:pt x="18" y="0"/>
                    </a:lnTo>
                    <a:lnTo>
                      <a:pt x="21" y="4"/>
                    </a:lnTo>
                    <a:lnTo>
                      <a:pt x="21" y="10"/>
                    </a:lnTo>
                    <a:lnTo>
                      <a:pt x="17" y="16"/>
                    </a:lnTo>
                    <a:lnTo>
                      <a:pt x="1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5" name=""/>
              <p:cNvSpPr/>
              <p:nvPr/>
            </p:nvSpPr>
            <p:spPr>
              <a:xfrm>
                <a:off x="8364600" y="2995560"/>
                <a:ext cx="9360" cy="11160"/>
              </a:xfrm>
              <a:custGeom>
                <a:avLst/>
                <a:gdLst/>
                <a:ahLst/>
                <a:rect l="l" t="t" r="r" b="b"/>
                <a:pathLst>
                  <a:path w="19" h="21">
                    <a:moveTo>
                      <a:pt x="0" y="21"/>
                    </a:moveTo>
                    <a:lnTo>
                      <a:pt x="5" y="0"/>
                    </a:lnTo>
                    <a:lnTo>
                      <a:pt x="19" y="13"/>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6" name=""/>
              <p:cNvSpPr/>
              <p:nvPr/>
            </p:nvSpPr>
            <p:spPr>
              <a:xfrm>
                <a:off x="7783560" y="2987640"/>
                <a:ext cx="9360" cy="11160"/>
              </a:xfrm>
              <a:custGeom>
                <a:avLst/>
                <a:gdLst/>
                <a:ahLst/>
                <a:rect l="l" t="t" r="r" b="b"/>
                <a:pathLst>
                  <a:path w="18" h="21">
                    <a:moveTo>
                      <a:pt x="8" y="21"/>
                    </a:moveTo>
                    <a:lnTo>
                      <a:pt x="0" y="4"/>
                    </a:lnTo>
                    <a:lnTo>
                      <a:pt x="8" y="0"/>
                    </a:lnTo>
                    <a:lnTo>
                      <a:pt x="14" y="1"/>
                    </a:lnTo>
                    <a:lnTo>
                      <a:pt x="18" y="8"/>
                    </a:lnTo>
                    <a:lnTo>
                      <a:pt x="18" y="15"/>
                    </a:lnTo>
                    <a:lnTo>
                      <a:pt x="8"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7" name=""/>
              <p:cNvSpPr/>
              <p:nvPr/>
            </p:nvSpPr>
            <p:spPr>
              <a:xfrm>
                <a:off x="8178840" y="2975040"/>
                <a:ext cx="9360" cy="11160"/>
              </a:xfrm>
              <a:custGeom>
                <a:avLst/>
                <a:gdLst/>
                <a:ahLst/>
                <a:rect l="l" t="t" r="r" b="b"/>
                <a:pathLst>
                  <a:path w="19" h="19">
                    <a:moveTo>
                      <a:pt x="5" y="19"/>
                    </a:moveTo>
                    <a:lnTo>
                      <a:pt x="0" y="0"/>
                    </a:lnTo>
                    <a:lnTo>
                      <a:pt x="9" y="0"/>
                    </a:lnTo>
                    <a:lnTo>
                      <a:pt x="15" y="3"/>
                    </a:lnTo>
                    <a:lnTo>
                      <a:pt x="19" y="9"/>
                    </a:lnTo>
                    <a:lnTo>
                      <a:pt x="19" y="19"/>
                    </a:lnTo>
                    <a:lnTo>
                      <a:pt x="5"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8" name=""/>
              <p:cNvSpPr/>
              <p:nvPr/>
            </p:nvSpPr>
            <p:spPr>
              <a:xfrm>
                <a:off x="7227720" y="2979720"/>
                <a:ext cx="16200" cy="12600"/>
              </a:xfrm>
              <a:custGeom>
                <a:avLst/>
                <a:gdLst/>
                <a:ahLst/>
                <a:rect l="l" t="t" r="r" b="b"/>
                <a:pathLst>
                  <a:path w="29" h="26">
                    <a:moveTo>
                      <a:pt x="14" y="26"/>
                    </a:moveTo>
                    <a:lnTo>
                      <a:pt x="0" y="7"/>
                    </a:lnTo>
                    <a:lnTo>
                      <a:pt x="4" y="2"/>
                    </a:lnTo>
                    <a:lnTo>
                      <a:pt x="13" y="0"/>
                    </a:lnTo>
                    <a:lnTo>
                      <a:pt x="22" y="4"/>
                    </a:lnTo>
                    <a:lnTo>
                      <a:pt x="29" y="12"/>
                    </a:lnTo>
                    <a:lnTo>
                      <a:pt x="1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
              <p:cNvSpPr/>
              <p:nvPr/>
            </p:nvSpPr>
            <p:spPr>
              <a:xfrm>
                <a:off x="8085240" y="2963880"/>
                <a:ext cx="7920" cy="11160"/>
              </a:xfrm>
              <a:custGeom>
                <a:avLst/>
                <a:gdLst/>
                <a:ahLst/>
                <a:rect l="l" t="t" r="r" b="b"/>
                <a:pathLst>
                  <a:path w="16" h="21">
                    <a:moveTo>
                      <a:pt x="3" y="21"/>
                    </a:moveTo>
                    <a:lnTo>
                      <a:pt x="0" y="0"/>
                    </a:lnTo>
                    <a:lnTo>
                      <a:pt x="9" y="1"/>
                    </a:lnTo>
                    <a:lnTo>
                      <a:pt x="15" y="4"/>
                    </a:lnTo>
                    <a:lnTo>
                      <a:pt x="16" y="11"/>
                    </a:lnTo>
                    <a:lnTo>
                      <a:pt x="15"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0" name=""/>
              <p:cNvSpPr/>
              <p:nvPr/>
            </p:nvSpPr>
            <p:spPr>
              <a:xfrm>
                <a:off x="8021520" y="2959200"/>
                <a:ext cx="9720" cy="11160"/>
              </a:xfrm>
              <a:custGeom>
                <a:avLst/>
                <a:gdLst/>
                <a:ahLst/>
                <a:rect l="l" t="t" r="r" b="b"/>
                <a:pathLst>
                  <a:path w="17" h="22">
                    <a:moveTo>
                      <a:pt x="7" y="22"/>
                    </a:moveTo>
                    <a:lnTo>
                      <a:pt x="0" y="4"/>
                    </a:lnTo>
                    <a:lnTo>
                      <a:pt x="9" y="0"/>
                    </a:lnTo>
                    <a:lnTo>
                      <a:pt x="14" y="3"/>
                    </a:lnTo>
                    <a:lnTo>
                      <a:pt x="17" y="10"/>
                    </a:lnTo>
                    <a:lnTo>
                      <a:pt x="16" y="17"/>
                    </a:lnTo>
                    <a:lnTo>
                      <a:pt x="7"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 name=""/>
              <p:cNvSpPr/>
              <p:nvPr/>
            </p:nvSpPr>
            <p:spPr>
              <a:xfrm>
                <a:off x="7010280" y="2965320"/>
                <a:ext cx="11160" cy="11160"/>
              </a:xfrm>
              <a:custGeom>
                <a:avLst/>
                <a:gdLst/>
                <a:ahLst/>
                <a:rect l="l" t="t" r="r" b="b"/>
                <a:pathLst>
                  <a:path w="23" h="22">
                    <a:moveTo>
                      <a:pt x="14" y="22"/>
                    </a:moveTo>
                    <a:lnTo>
                      <a:pt x="7" y="20"/>
                    </a:lnTo>
                    <a:lnTo>
                      <a:pt x="1" y="16"/>
                    </a:lnTo>
                    <a:lnTo>
                      <a:pt x="0" y="10"/>
                    </a:lnTo>
                    <a:lnTo>
                      <a:pt x="3" y="2"/>
                    </a:lnTo>
                    <a:lnTo>
                      <a:pt x="23" y="0"/>
                    </a:lnTo>
                    <a:lnTo>
                      <a:pt x="1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
              <p:cNvSpPr/>
              <p:nvPr/>
            </p:nvSpPr>
            <p:spPr>
              <a:xfrm>
                <a:off x="7937640" y="2949480"/>
                <a:ext cx="9360" cy="12960"/>
              </a:xfrm>
              <a:custGeom>
                <a:avLst/>
                <a:gdLst/>
                <a:ahLst/>
                <a:rect l="l" t="t" r="r" b="b"/>
                <a:pathLst>
                  <a:path w="19" h="23">
                    <a:moveTo>
                      <a:pt x="8" y="23"/>
                    </a:moveTo>
                    <a:lnTo>
                      <a:pt x="0" y="3"/>
                    </a:lnTo>
                    <a:lnTo>
                      <a:pt x="9" y="0"/>
                    </a:lnTo>
                    <a:lnTo>
                      <a:pt x="16" y="4"/>
                    </a:lnTo>
                    <a:lnTo>
                      <a:pt x="19" y="11"/>
                    </a:lnTo>
                    <a:lnTo>
                      <a:pt x="15" y="20"/>
                    </a:lnTo>
                    <a:lnTo>
                      <a:pt x="8"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 name=""/>
              <p:cNvSpPr/>
              <p:nvPr/>
            </p:nvSpPr>
            <p:spPr>
              <a:xfrm>
                <a:off x="7095960" y="2962440"/>
                <a:ext cx="9720" cy="10800"/>
              </a:xfrm>
              <a:custGeom>
                <a:avLst/>
                <a:gdLst/>
                <a:ahLst/>
                <a:rect l="l" t="t" r="r" b="b"/>
                <a:pathLst>
                  <a:path w="17" h="21">
                    <a:moveTo>
                      <a:pt x="0" y="21"/>
                    </a:moveTo>
                    <a:lnTo>
                      <a:pt x="0" y="0"/>
                    </a:lnTo>
                    <a:lnTo>
                      <a:pt x="7" y="0"/>
                    </a:lnTo>
                    <a:lnTo>
                      <a:pt x="13" y="3"/>
                    </a:lnTo>
                    <a:lnTo>
                      <a:pt x="17" y="9"/>
                    </a:lnTo>
                    <a:lnTo>
                      <a:pt x="17" y="18"/>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4" name=""/>
              <p:cNvSpPr/>
              <p:nvPr/>
            </p:nvSpPr>
            <p:spPr>
              <a:xfrm>
                <a:off x="8385120" y="2943360"/>
                <a:ext cx="9720" cy="10800"/>
              </a:xfrm>
              <a:custGeom>
                <a:avLst/>
                <a:gdLst/>
                <a:ahLst/>
                <a:rect l="l" t="t" r="r" b="b"/>
                <a:pathLst>
                  <a:path w="16" h="22">
                    <a:moveTo>
                      <a:pt x="0" y="22"/>
                    </a:moveTo>
                    <a:lnTo>
                      <a:pt x="0" y="0"/>
                    </a:lnTo>
                    <a:lnTo>
                      <a:pt x="16" y="13"/>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5" name=""/>
              <p:cNvSpPr/>
              <p:nvPr/>
            </p:nvSpPr>
            <p:spPr>
              <a:xfrm>
                <a:off x="8282160" y="2941560"/>
                <a:ext cx="7920" cy="12600"/>
              </a:xfrm>
              <a:custGeom>
                <a:avLst/>
                <a:gdLst/>
                <a:ahLst/>
                <a:rect l="l" t="t" r="r" b="b"/>
                <a:pathLst>
                  <a:path w="15" h="24">
                    <a:moveTo>
                      <a:pt x="6" y="24"/>
                    </a:moveTo>
                    <a:lnTo>
                      <a:pt x="3" y="20"/>
                    </a:lnTo>
                    <a:lnTo>
                      <a:pt x="0" y="13"/>
                    </a:lnTo>
                    <a:lnTo>
                      <a:pt x="2" y="4"/>
                    </a:lnTo>
                    <a:lnTo>
                      <a:pt x="9" y="0"/>
                    </a:lnTo>
                    <a:lnTo>
                      <a:pt x="12" y="4"/>
                    </a:lnTo>
                    <a:lnTo>
                      <a:pt x="15" y="11"/>
                    </a:lnTo>
                    <a:lnTo>
                      <a:pt x="15" y="20"/>
                    </a:lnTo>
                    <a:lnTo>
                      <a:pt x="6"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6" name=""/>
              <p:cNvSpPr/>
              <p:nvPr/>
            </p:nvSpPr>
            <p:spPr>
              <a:xfrm>
                <a:off x="7851600" y="2941560"/>
                <a:ext cx="8280" cy="11160"/>
              </a:xfrm>
              <a:custGeom>
                <a:avLst/>
                <a:gdLst/>
                <a:ahLst/>
                <a:rect l="l" t="t" r="r" b="b"/>
                <a:pathLst>
                  <a:path w="14" h="22">
                    <a:moveTo>
                      <a:pt x="3" y="22"/>
                    </a:moveTo>
                    <a:lnTo>
                      <a:pt x="0" y="3"/>
                    </a:lnTo>
                    <a:lnTo>
                      <a:pt x="7" y="0"/>
                    </a:lnTo>
                    <a:lnTo>
                      <a:pt x="13" y="4"/>
                    </a:lnTo>
                    <a:lnTo>
                      <a:pt x="14" y="11"/>
                    </a:lnTo>
                    <a:lnTo>
                      <a:pt x="13" y="20"/>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7" name=""/>
              <p:cNvSpPr/>
              <p:nvPr/>
            </p:nvSpPr>
            <p:spPr>
              <a:xfrm>
                <a:off x="8115480" y="2927520"/>
                <a:ext cx="10800" cy="12600"/>
              </a:xfrm>
              <a:custGeom>
                <a:avLst/>
                <a:gdLst/>
                <a:ahLst/>
                <a:rect l="l" t="t" r="r" b="b"/>
                <a:pathLst>
                  <a:path w="22" h="22">
                    <a:moveTo>
                      <a:pt x="12" y="22"/>
                    </a:moveTo>
                    <a:lnTo>
                      <a:pt x="0" y="0"/>
                    </a:lnTo>
                    <a:lnTo>
                      <a:pt x="22" y="6"/>
                    </a:lnTo>
                    <a:lnTo>
                      <a:pt x="1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8" name=""/>
              <p:cNvSpPr/>
              <p:nvPr/>
            </p:nvSpPr>
            <p:spPr>
              <a:xfrm>
                <a:off x="8191440" y="2914560"/>
                <a:ext cx="9720" cy="11160"/>
              </a:xfrm>
              <a:custGeom>
                <a:avLst/>
                <a:gdLst/>
                <a:ahLst/>
                <a:rect l="l" t="t" r="r" b="b"/>
                <a:pathLst>
                  <a:path w="16" h="21">
                    <a:moveTo>
                      <a:pt x="4" y="21"/>
                    </a:moveTo>
                    <a:lnTo>
                      <a:pt x="0" y="2"/>
                    </a:lnTo>
                    <a:lnTo>
                      <a:pt x="7" y="0"/>
                    </a:lnTo>
                    <a:lnTo>
                      <a:pt x="13" y="5"/>
                    </a:lnTo>
                    <a:lnTo>
                      <a:pt x="16" y="10"/>
                    </a:lnTo>
                    <a:lnTo>
                      <a:pt x="13" y="21"/>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9" name=""/>
              <p:cNvSpPr/>
              <p:nvPr/>
            </p:nvSpPr>
            <p:spPr>
              <a:xfrm>
                <a:off x="7254720" y="2919240"/>
                <a:ext cx="11160" cy="11160"/>
              </a:xfrm>
              <a:custGeom>
                <a:avLst/>
                <a:gdLst/>
                <a:ahLst/>
                <a:rect l="l" t="t" r="r" b="b"/>
                <a:pathLst>
                  <a:path w="22" h="23">
                    <a:moveTo>
                      <a:pt x="12" y="23"/>
                    </a:moveTo>
                    <a:lnTo>
                      <a:pt x="5" y="22"/>
                    </a:lnTo>
                    <a:lnTo>
                      <a:pt x="2" y="16"/>
                    </a:lnTo>
                    <a:lnTo>
                      <a:pt x="2" y="9"/>
                    </a:lnTo>
                    <a:lnTo>
                      <a:pt x="0" y="0"/>
                    </a:lnTo>
                    <a:lnTo>
                      <a:pt x="22" y="6"/>
                    </a:lnTo>
                    <a:lnTo>
                      <a:pt x="12"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0" name=""/>
              <p:cNvSpPr/>
              <p:nvPr/>
            </p:nvSpPr>
            <p:spPr>
              <a:xfrm>
                <a:off x="7170840" y="2911320"/>
                <a:ext cx="12600" cy="12960"/>
              </a:xfrm>
              <a:custGeom>
                <a:avLst/>
                <a:gdLst/>
                <a:ahLst/>
                <a:rect l="l" t="t" r="r" b="b"/>
                <a:pathLst>
                  <a:path w="24" h="22">
                    <a:moveTo>
                      <a:pt x="8" y="22"/>
                    </a:moveTo>
                    <a:lnTo>
                      <a:pt x="0" y="0"/>
                    </a:lnTo>
                    <a:lnTo>
                      <a:pt x="24" y="9"/>
                    </a:lnTo>
                    <a:lnTo>
                      <a:pt x="8"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1" name=""/>
              <p:cNvSpPr/>
              <p:nvPr/>
            </p:nvSpPr>
            <p:spPr>
              <a:xfrm>
                <a:off x="8267760" y="2886120"/>
                <a:ext cx="9360" cy="7920"/>
              </a:xfrm>
              <a:custGeom>
                <a:avLst/>
                <a:gdLst/>
                <a:ahLst/>
                <a:rect l="l" t="t" r="r" b="b"/>
                <a:pathLst>
                  <a:path w="19" h="16">
                    <a:moveTo>
                      <a:pt x="0" y="16"/>
                    </a:moveTo>
                    <a:lnTo>
                      <a:pt x="6" y="0"/>
                    </a:lnTo>
                    <a:lnTo>
                      <a:pt x="19" y="16"/>
                    </a:lnTo>
                    <a:lnTo>
                      <a:pt x="0"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2" name=""/>
              <p:cNvSpPr/>
              <p:nvPr/>
            </p:nvSpPr>
            <p:spPr>
              <a:xfrm>
                <a:off x="7012080" y="2900520"/>
                <a:ext cx="11160" cy="9360"/>
              </a:xfrm>
              <a:custGeom>
                <a:avLst/>
                <a:gdLst/>
                <a:ahLst/>
                <a:rect l="l" t="t" r="r" b="b"/>
                <a:pathLst>
                  <a:path w="22" h="20">
                    <a:moveTo>
                      <a:pt x="3" y="19"/>
                    </a:moveTo>
                    <a:lnTo>
                      <a:pt x="0" y="0"/>
                    </a:lnTo>
                    <a:lnTo>
                      <a:pt x="22" y="1"/>
                    </a:lnTo>
                    <a:lnTo>
                      <a:pt x="22" y="10"/>
                    </a:lnTo>
                    <a:lnTo>
                      <a:pt x="19" y="16"/>
                    </a:lnTo>
                    <a:lnTo>
                      <a:pt x="13" y="20"/>
                    </a:lnTo>
                    <a:lnTo>
                      <a:pt x="3"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3" name=""/>
              <p:cNvSpPr/>
              <p:nvPr/>
            </p:nvSpPr>
            <p:spPr>
              <a:xfrm>
                <a:off x="8331120" y="2876400"/>
                <a:ext cx="9720" cy="16200"/>
              </a:xfrm>
              <a:custGeom>
                <a:avLst/>
                <a:gdLst/>
                <a:ahLst/>
                <a:rect l="l" t="t" r="r" b="b"/>
                <a:pathLst>
                  <a:path w="20" h="28">
                    <a:moveTo>
                      <a:pt x="14" y="28"/>
                    </a:moveTo>
                    <a:lnTo>
                      <a:pt x="4" y="24"/>
                    </a:lnTo>
                    <a:lnTo>
                      <a:pt x="0" y="17"/>
                    </a:lnTo>
                    <a:lnTo>
                      <a:pt x="1" y="10"/>
                    </a:lnTo>
                    <a:lnTo>
                      <a:pt x="5" y="2"/>
                    </a:lnTo>
                    <a:lnTo>
                      <a:pt x="13" y="0"/>
                    </a:lnTo>
                    <a:lnTo>
                      <a:pt x="17" y="5"/>
                    </a:lnTo>
                    <a:lnTo>
                      <a:pt x="20" y="14"/>
                    </a:lnTo>
                    <a:lnTo>
                      <a:pt x="20" y="23"/>
                    </a:lnTo>
                    <a:lnTo>
                      <a:pt x="14" y="2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4" name=""/>
              <p:cNvSpPr/>
              <p:nvPr/>
            </p:nvSpPr>
            <p:spPr>
              <a:xfrm>
                <a:off x="8109000" y="2874960"/>
                <a:ext cx="9360" cy="11160"/>
              </a:xfrm>
              <a:custGeom>
                <a:avLst/>
                <a:gdLst/>
                <a:ahLst/>
                <a:rect l="l" t="t" r="r" b="b"/>
                <a:pathLst>
                  <a:path w="17" h="23">
                    <a:moveTo>
                      <a:pt x="11" y="23"/>
                    </a:moveTo>
                    <a:lnTo>
                      <a:pt x="3" y="20"/>
                    </a:lnTo>
                    <a:lnTo>
                      <a:pt x="0" y="13"/>
                    </a:lnTo>
                    <a:lnTo>
                      <a:pt x="3" y="5"/>
                    </a:lnTo>
                    <a:lnTo>
                      <a:pt x="10" y="0"/>
                    </a:lnTo>
                    <a:lnTo>
                      <a:pt x="14" y="3"/>
                    </a:lnTo>
                    <a:lnTo>
                      <a:pt x="17" y="12"/>
                    </a:lnTo>
                    <a:lnTo>
                      <a:pt x="17" y="19"/>
                    </a:lnTo>
                    <a:lnTo>
                      <a:pt x="11"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5" name=""/>
              <p:cNvSpPr/>
              <p:nvPr/>
            </p:nvSpPr>
            <p:spPr>
              <a:xfrm>
                <a:off x="7956720" y="2873520"/>
                <a:ext cx="7920" cy="10800"/>
              </a:xfrm>
              <a:custGeom>
                <a:avLst/>
                <a:gdLst/>
                <a:ahLst/>
                <a:rect l="l" t="t" r="r" b="b"/>
                <a:pathLst>
                  <a:path w="16" h="23">
                    <a:moveTo>
                      <a:pt x="0" y="23"/>
                    </a:moveTo>
                    <a:lnTo>
                      <a:pt x="0" y="0"/>
                    </a:lnTo>
                    <a:lnTo>
                      <a:pt x="16" y="10"/>
                    </a:lnTo>
                    <a:lnTo>
                      <a:pt x="0"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66" name=""/>
              <p:cNvSpPr/>
              <p:nvPr/>
            </p:nvSpPr>
            <p:spPr>
              <a:xfrm>
                <a:off x="8393040" y="2863800"/>
                <a:ext cx="7920" cy="11160"/>
              </a:xfrm>
              <a:custGeom>
                <a:avLst/>
                <a:gdLst/>
                <a:ahLst/>
                <a:rect l="l" t="t" r="r" b="b"/>
                <a:pathLst>
                  <a:path w="16" h="21">
                    <a:moveTo>
                      <a:pt x="2" y="21"/>
                    </a:moveTo>
                    <a:lnTo>
                      <a:pt x="0" y="2"/>
                    </a:lnTo>
                    <a:lnTo>
                      <a:pt x="7" y="0"/>
                    </a:lnTo>
                    <a:lnTo>
                      <a:pt x="13" y="3"/>
                    </a:lnTo>
                    <a:lnTo>
                      <a:pt x="16" y="11"/>
                    </a:lnTo>
                    <a:lnTo>
                      <a:pt x="16" y="21"/>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7" name=""/>
              <p:cNvSpPr/>
              <p:nvPr/>
            </p:nvSpPr>
            <p:spPr>
              <a:xfrm>
                <a:off x="7877160" y="2867040"/>
                <a:ext cx="7920" cy="11160"/>
              </a:xfrm>
              <a:custGeom>
                <a:avLst/>
                <a:gdLst/>
                <a:ahLst/>
                <a:rect l="l" t="t" r="r" b="b"/>
                <a:pathLst>
                  <a:path w="16" h="21">
                    <a:moveTo>
                      <a:pt x="3" y="21"/>
                    </a:moveTo>
                    <a:lnTo>
                      <a:pt x="0" y="0"/>
                    </a:lnTo>
                    <a:lnTo>
                      <a:pt x="10" y="0"/>
                    </a:lnTo>
                    <a:lnTo>
                      <a:pt x="15" y="4"/>
                    </a:lnTo>
                    <a:lnTo>
                      <a:pt x="16" y="11"/>
                    </a:lnTo>
                    <a:lnTo>
                      <a:pt x="16"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8" name=""/>
              <p:cNvSpPr/>
              <p:nvPr/>
            </p:nvSpPr>
            <p:spPr>
              <a:xfrm>
                <a:off x="8040600" y="2862360"/>
                <a:ext cx="7920" cy="9360"/>
              </a:xfrm>
              <a:custGeom>
                <a:avLst/>
                <a:gdLst/>
                <a:ahLst/>
                <a:rect l="l" t="t" r="r" b="b"/>
                <a:pathLst>
                  <a:path w="13" h="20">
                    <a:moveTo>
                      <a:pt x="0" y="20"/>
                    </a:moveTo>
                    <a:lnTo>
                      <a:pt x="0" y="0"/>
                    </a:lnTo>
                    <a:lnTo>
                      <a:pt x="7" y="1"/>
                    </a:lnTo>
                    <a:lnTo>
                      <a:pt x="12" y="5"/>
                    </a:lnTo>
                    <a:lnTo>
                      <a:pt x="13" y="13"/>
                    </a:lnTo>
                    <a:lnTo>
                      <a:pt x="10" y="20"/>
                    </a:lnTo>
                    <a:lnTo>
                      <a:pt x="0"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69" name=""/>
              <p:cNvSpPr/>
              <p:nvPr/>
            </p:nvSpPr>
            <p:spPr>
              <a:xfrm>
                <a:off x="7095960" y="2852640"/>
                <a:ext cx="11160" cy="11160"/>
              </a:xfrm>
              <a:custGeom>
                <a:avLst/>
                <a:gdLst/>
                <a:ahLst/>
                <a:rect l="l" t="t" r="r" b="b"/>
                <a:pathLst>
                  <a:path w="20" h="21">
                    <a:moveTo>
                      <a:pt x="4" y="21"/>
                    </a:moveTo>
                    <a:lnTo>
                      <a:pt x="0" y="0"/>
                    </a:lnTo>
                    <a:lnTo>
                      <a:pt x="7" y="0"/>
                    </a:lnTo>
                    <a:lnTo>
                      <a:pt x="16" y="3"/>
                    </a:lnTo>
                    <a:lnTo>
                      <a:pt x="20" y="10"/>
                    </a:lnTo>
                    <a:lnTo>
                      <a:pt x="17" y="19"/>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0" name=""/>
              <p:cNvSpPr/>
              <p:nvPr/>
            </p:nvSpPr>
            <p:spPr>
              <a:xfrm>
                <a:off x="7331040" y="2835360"/>
                <a:ext cx="12600" cy="9360"/>
              </a:xfrm>
              <a:custGeom>
                <a:avLst/>
                <a:gdLst/>
                <a:ahLst/>
                <a:rect l="l" t="t" r="r" b="b"/>
                <a:pathLst>
                  <a:path w="24" h="17">
                    <a:moveTo>
                      <a:pt x="1" y="17"/>
                    </a:moveTo>
                    <a:lnTo>
                      <a:pt x="0" y="0"/>
                    </a:lnTo>
                    <a:lnTo>
                      <a:pt x="7" y="0"/>
                    </a:lnTo>
                    <a:lnTo>
                      <a:pt x="14" y="1"/>
                    </a:lnTo>
                    <a:lnTo>
                      <a:pt x="21" y="4"/>
                    </a:lnTo>
                    <a:lnTo>
                      <a:pt x="24" y="10"/>
                    </a:lnTo>
                    <a:lnTo>
                      <a:pt x="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1" name=""/>
              <p:cNvSpPr/>
              <p:nvPr/>
            </p:nvSpPr>
            <p:spPr>
              <a:xfrm>
                <a:off x="8318520" y="2817720"/>
                <a:ext cx="11160" cy="11160"/>
              </a:xfrm>
              <a:custGeom>
                <a:avLst/>
                <a:gdLst/>
                <a:ahLst/>
                <a:rect l="l" t="t" r="r" b="b"/>
                <a:pathLst>
                  <a:path w="19" h="23">
                    <a:moveTo>
                      <a:pt x="7" y="23"/>
                    </a:moveTo>
                    <a:lnTo>
                      <a:pt x="3" y="20"/>
                    </a:lnTo>
                    <a:lnTo>
                      <a:pt x="0" y="13"/>
                    </a:lnTo>
                    <a:lnTo>
                      <a:pt x="0" y="4"/>
                    </a:lnTo>
                    <a:lnTo>
                      <a:pt x="9" y="0"/>
                    </a:lnTo>
                    <a:lnTo>
                      <a:pt x="13" y="4"/>
                    </a:lnTo>
                    <a:lnTo>
                      <a:pt x="19" y="13"/>
                    </a:lnTo>
                    <a:lnTo>
                      <a:pt x="19" y="22"/>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2" name=""/>
              <p:cNvSpPr/>
              <p:nvPr/>
            </p:nvSpPr>
            <p:spPr>
              <a:xfrm>
                <a:off x="8220240" y="2817720"/>
                <a:ext cx="10800" cy="11160"/>
              </a:xfrm>
              <a:custGeom>
                <a:avLst/>
                <a:gdLst/>
                <a:ahLst/>
                <a:rect l="l" t="t" r="r" b="b"/>
                <a:pathLst>
                  <a:path w="22" h="23">
                    <a:moveTo>
                      <a:pt x="13" y="23"/>
                    </a:moveTo>
                    <a:lnTo>
                      <a:pt x="4" y="20"/>
                    </a:lnTo>
                    <a:lnTo>
                      <a:pt x="0" y="11"/>
                    </a:lnTo>
                    <a:lnTo>
                      <a:pt x="3" y="4"/>
                    </a:lnTo>
                    <a:lnTo>
                      <a:pt x="10" y="0"/>
                    </a:lnTo>
                    <a:lnTo>
                      <a:pt x="17" y="3"/>
                    </a:lnTo>
                    <a:lnTo>
                      <a:pt x="22" y="11"/>
                    </a:lnTo>
                    <a:lnTo>
                      <a:pt x="22" y="19"/>
                    </a:lnTo>
                    <a:lnTo>
                      <a:pt x="1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3" name=""/>
              <p:cNvSpPr/>
              <p:nvPr/>
            </p:nvSpPr>
            <p:spPr>
              <a:xfrm>
                <a:off x="7211880" y="2830680"/>
                <a:ext cx="9720" cy="9360"/>
              </a:xfrm>
              <a:custGeom>
                <a:avLst/>
                <a:gdLst/>
                <a:ahLst/>
                <a:rect l="l" t="t" r="r" b="b"/>
                <a:pathLst>
                  <a:path w="18" h="19">
                    <a:moveTo>
                      <a:pt x="2" y="19"/>
                    </a:moveTo>
                    <a:lnTo>
                      <a:pt x="0" y="2"/>
                    </a:lnTo>
                    <a:lnTo>
                      <a:pt x="8" y="0"/>
                    </a:lnTo>
                    <a:lnTo>
                      <a:pt x="14" y="3"/>
                    </a:lnTo>
                    <a:lnTo>
                      <a:pt x="18" y="11"/>
                    </a:lnTo>
                    <a:lnTo>
                      <a:pt x="16" y="19"/>
                    </a:lnTo>
                    <a:lnTo>
                      <a:pt x="2"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4" name=""/>
              <p:cNvSpPr/>
              <p:nvPr/>
            </p:nvSpPr>
            <p:spPr>
              <a:xfrm>
                <a:off x="8416800" y="2808360"/>
                <a:ext cx="9720" cy="15840"/>
              </a:xfrm>
              <a:custGeom>
                <a:avLst/>
                <a:gdLst/>
                <a:ahLst/>
                <a:rect l="l" t="t" r="r" b="b"/>
                <a:pathLst>
                  <a:path w="18" h="32">
                    <a:moveTo>
                      <a:pt x="12" y="32"/>
                    </a:moveTo>
                    <a:lnTo>
                      <a:pt x="0" y="24"/>
                    </a:lnTo>
                    <a:lnTo>
                      <a:pt x="0" y="16"/>
                    </a:lnTo>
                    <a:lnTo>
                      <a:pt x="2" y="11"/>
                    </a:lnTo>
                    <a:lnTo>
                      <a:pt x="6" y="5"/>
                    </a:lnTo>
                    <a:lnTo>
                      <a:pt x="16" y="0"/>
                    </a:lnTo>
                    <a:lnTo>
                      <a:pt x="18" y="8"/>
                    </a:lnTo>
                    <a:lnTo>
                      <a:pt x="18" y="15"/>
                    </a:lnTo>
                    <a:lnTo>
                      <a:pt x="15" y="22"/>
                    </a:lnTo>
                    <a:lnTo>
                      <a:pt x="12" y="32"/>
                    </a:lnTo>
                    <a:close/>
                  </a:path>
                </a:pathLst>
              </a:custGeom>
              <a:solidFill>
                <a:srgbClr val="6619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5" name=""/>
              <p:cNvSpPr/>
              <p:nvPr/>
            </p:nvSpPr>
            <p:spPr>
              <a:xfrm>
                <a:off x="7008840" y="2822400"/>
                <a:ext cx="11160" cy="11160"/>
              </a:xfrm>
              <a:custGeom>
                <a:avLst/>
                <a:gdLst/>
                <a:ahLst/>
                <a:rect l="l" t="t" r="r" b="b"/>
                <a:pathLst>
                  <a:path w="22" h="19">
                    <a:moveTo>
                      <a:pt x="9" y="19"/>
                    </a:moveTo>
                    <a:lnTo>
                      <a:pt x="0" y="5"/>
                    </a:lnTo>
                    <a:lnTo>
                      <a:pt x="9" y="0"/>
                    </a:lnTo>
                    <a:lnTo>
                      <a:pt x="16" y="0"/>
                    </a:lnTo>
                    <a:lnTo>
                      <a:pt x="21" y="6"/>
                    </a:lnTo>
                    <a:lnTo>
                      <a:pt x="22" y="15"/>
                    </a:lnTo>
                    <a:lnTo>
                      <a:pt x="9"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6" name=""/>
              <p:cNvSpPr/>
              <p:nvPr/>
            </p:nvSpPr>
            <p:spPr>
              <a:xfrm>
                <a:off x="7140600" y="1906560"/>
                <a:ext cx="1285920" cy="903240"/>
              </a:xfrm>
              <a:custGeom>
                <a:avLst/>
                <a:gdLst/>
                <a:ahLst/>
                <a:rect l="l" t="t" r="r" b="b"/>
                <a:pathLst>
                  <a:path w="2431" h="1708">
                    <a:moveTo>
                      <a:pt x="2374" y="1708"/>
                    </a:moveTo>
                    <a:lnTo>
                      <a:pt x="2366" y="1698"/>
                    </a:lnTo>
                    <a:lnTo>
                      <a:pt x="2370" y="1688"/>
                    </a:lnTo>
                    <a:lnTo>
                      <a:pt x="2376" y="1679"/>
                    </a:lnTo>
                    <a:lnTo>
                      <a:pt x="2383" y="1670"/>
                    </a:lnTo>
                    <a:lnTo>
                      <a:pt x="2390" y="1662"/>
                    </a:lnTo>
                    <a:lnTo>
                      <a:pt x="2398" y="1651"/>
                    </a:lnTo>
                    <a:lnTo>
                      <a:pt x="2405" y="1643"/>
                    </a:lnTo>
                    <a:lnTo>
                      <a:pt x="2412" y="1633"/>
                    </a:lnTo>
                    <a:lnTo>
                      <a:pt x="2418" y="1621"/>
                    </a:lnTo>
                    <a:lnTo>
                      <a:pt x="2415" y="1612"/>
                    </a:lnTo>
                    <a:lnTo>
                      <a:pt x="2405" y="1607"/>
                    </a:lnTo>
                    <a:lnTo>
                      <a:pt x="2395" y="1612"/>
                    </a:lnTo>
                    <a:lnTo>
                      <a:pt x="2387" y="1620"/>
                    </a:lnTo>
                    <a:lnTo>
                      <a:pt x="2382" y="1628"/>
                    </a:lnTo>
                    <a:lnTo>
                      <a:pt x="2374" y="1637"/>
                    </a:lnTo>
                    <a:lnTo>
                      <a:pt x="2369" y="1647"/>
                    </a:lnTo>
                    <a:lnTo>
                      <a:pt x="2363" y="1657"/>
                    </a:lnTo>
                    <a:lnTo>
                      <a:pt x="2356" y="1666"/>
                    </a:lnTo>
                    <a:lnTo>
                      <a:pt x="2347" y="1675"/>
                    </a:lnTo>
                    <a:lnTo>
                      <a:pt x="2338" y="1683"/>
                    </a:lnTo>
                    <a:lnTo>
                      <a:pt x="2314" y="1667"/>
                    </a:lnTo>
                    <a:lnTo>
                      <a:pt x="2322" y="1657"/>
                    </a:lnTo>
                    <a:lnTo>
                      <a:pt x="2332" y="1647"/>
                    </a:lnTo>
                    <a:lnTo>
                      <a:pt x="2341" y="1637"/>
                    </a:lnTo>
                    <a:lnTo>
                      <a:pt x="2350" y="1625"/>
                    </a:lnTo>
                    <a:lnTo>
                      <a:pt x="2360" y="1614"/>
                    </a:lnTo>
                    <a:lnTo>
                      <a:pt x="2367" y="1602"/>
                    </a:lnTo>
                    <a:lnTo>
                      <a:pt x="2374" y="1591"/>
                    </a:lnTo>
                    <a:lnTo>
                      <a:pt x="2382" y="1578"/>
                    </a:lnTo>
                    <a:lnTo>
                      <a:pt x="2380" y="1565"/>
                    </a:lnTo>
                    <a:lnTo>
                      <a:pt x="2359" y="1563"/>
                    </a:lnTo>
                    <a:lnTo>
                      <a:pt x="2353" y="1575"/>
                    </a:lnTo>
                    <a:lnTo>
                      <a:pt x="2347" y="1585"/>
                    </a:lnTo>
                    <a:lnTo>
                      <a:pt x="2340" y="1595"/>
                    </a:lnTo>
                    <a:lnTo>
                      <a:pt x="2331" y="1604"/>
                    </a:lnTo>
                    <a:lnTo>
                      <a:pt x="2322" y="1615"/>
                    </a:lnTo>
                    <a:lnTo>
                      <a:pt x="2314" y="1625"/>
                    </a:lnTo>
                    <a:lnTo>
                      <a:pt x="2305" y="1637"/>
                    </a:lnTo>
                    <a:lnTo>
                      <a:pt x="2296" y="1650"/>
                    </a:lnTo>
                    <a:lnTo>
                      <a:pt x="2304" y="1662"/>
                    </a:lnTo>
                    <a:lnTo>
                      <a:pt x="2292" y="1657"/>
                    </a:lnTo>
                    <a:lnTo>
                      <a:pt x="2280" y="1651"/>
                    </a:lnTo>
                    <a:lnTo>
                      <a:pt x="2270" y="1646"/>
                    </a:lnTo>
                    <a:lnTo>
                      <a:pt x="2259" y="1640"/>
                    </a:lnTo>
                    <a:lnTo>
                      <a:pt x="2249" y="1634"/>
                    </a:lnTo>
                    <a:lnTo>
                      <a:pt x="2238" y="1627"/>
                    </a:lnTo>
                    <a:lnTo>
                      <a:pt x="2228" y="1618"/>
                    </a:lnTo>
                    <a:lnTo>
                      <a:pt x="2218" y="1610"/>
                    </a:lnTo>
                    <a:lnTo>
                      <a:pt x="2230" y="1599"/>
                    </a:lnTo>
                    <a:lnTo>
                      <a:pt x="2234" y="1589"/>
                    </a:lnTo>
                    <a:lnTo>
                      <a:pt x="2240" y="1584"/>
                    </a:lnTo>
                    <a:lnTo>
                      <a:pt x="2247" y="1576"/>
                    </a:lnTo>
                    <a:lnTo>
                      <a:pt x="2250" y="1566"/>
                    </a:lnTo>
                    <a:lnTo>
                      <a:pt x="2254" y="1555"/>
                    </a:lnTo>
                    <a:lnTo>
                      <a:pt x="2263" y="1542"/>
                    </a:lnTo>
                    <a:lnTo>
                      <a:pt x="2273" y="1529"/>
                    </a:lnTo>
                    <a:lnTo>
                      <a:pt x="2282" y="1513"/>
                    </a:lnTo>
                    <a:lnTo>
                      <a:pt x="2266" y="1501"/>
                    </a:lnTo>
                    <a:lnTo>
                      <a:pt x="2257" y="1511"/>
                    </a:lnTo>
                    <a:lnTo>
                      <a:pt x="2247" y="1521"/>
                    </a:lnTo>
                    <a:lnTo>
                      <a:pt x="2238" y="1533"/>
                    </a:lnTo>
                    <a:lnTo>
                      <a:pt x="2230" y="1543"/>
                    </a:lnTo>
                    <a:lnTo>
                      <a:pt x="2223" y="1556"/>
                    </a:lnTo>
                    <a:lnTo>
                      <a:pt x="2214" y="1568"/>
                    </a:lnTo>
                    <a:lnTo>
                      <a:pt x="2207" y="1581"/>
                    </a:lnTo>
                    <a:lnTo>
                      <a:pt x="2201" y="1595"/>
                    </a:lnTo>
                    <a:lnTo>
                      <a:pt x="2195" y="1599"/>
                    </a:lnTo>
                    <a:lnTo>
                      <a:pt x="2185" y="1597"/>
                    </a:lnTo>
                    <a:lnTo>
                      <a:pt x="2178" y="1594"/>
                    </a:lnTo>
                    <a:lnTo>
                      <a:pt x="2172" y="1588"/>
                    </a:lnTo>
                    <a:lnTo>
                      <a:pt x="2168" y="1579"/>
                    </a:lnTo>
                    <a:lnTo>
                      <a:pt x="2173" y="1566"/>
                    </a:lnTo>
                    <a:lnTo>
                      <a:pt x="2181" y="1555"/>
                    </a:lnTo>
                    <a:lnTo>
                      <a:pt x="2189" y="1543"/>
                    </a:lnTo>
                    <a:lnTo>
                      <a:pt x="2198" y="1532"/>
                    </a:lnTo>
                    <a:lnTo>
                      <a:pt x="2208" y="1521"/>
                    </a:lnTo>
                    <a:lnTo>
                      <a:pt x="2217" y="1510"/>
                    </a:lnTo>
                    <a:lnTo>
                      <a:pt x="2225" y="1497"/>
                    </a:lnTo>
                    <a:lnTo>
                      <a:pt x="2233" y="1484"/>
                    </a:lnTo>
                    <a:lnTo>
                      <a:pt x="2224" y="1475"/>
                    </a:lnTo>
                    <a:lnTo>
                      <a:pt x="2215" y="1475"/>
                    </a:lnTo>
                    <a:lnTo>
                      <a:pt x="2207" y="1485"/>
                    </a:lnTo>
                    <a:lnTo>
                      <a:pt x="2197" y="1497"/>
                    </a:lnTo>
                    <a:lnTo>
                      <a:pt x="2186" y="1507"/>
                    </a:lnTo>
                    <a:lnTo>
                      <a:pt x="2176" y="1519"/>
                    </a:lnTo>
                    <a:lnTo>
                      <a:pt x="2168" y="1530"/>
                    </a:lnTo>
                    <a:lnTo>
                      <a:pt x="2158" y="1542"/>
                    </a:lnTo>
                    <a:lnTo>
                      <a:pt x="2147" y="1553"/>
                    </a:lnTo>
                    <a:lnTo>
                      <a:pt x="2137" y="1566"/>
                    </a:lnTo>
                    <a:lnTo>
                      <a:pt x="2131" y="1563"/>
                    </a:lnTo>
                    <a:lnTo>
                      <a:pt x="2124" y="1560"/>
                    </a:lnTo>
                    <a:lnTo>
                      <a:pt x="2118" y="1556"/>
                    </a:lnTo>
                    <a:lnTo>
                      <a:pt x="2113" y="1549"/>
                    </a:lnTo>
                    <a:lnTo>
                      <a:pt x="2118" y="1542"/>
                    </a:lnTo>
                    <a:lnTo>
                      <a:pt x="2123" y="1533"/>
                    </a:lnTo>
                    <a:lnTo>
                      <a:pt x="2129" y="1526"/>
                    </a:lnTo>
                    <a:lnTo>
                      <a:pt x="2133" y="1517"/>
                    </a:lnTo>
                    <a:lnTo>
                      <a:pt x="2139" y="1508"/>
                    </a:lnTo>
                    <a:lnTo>
                      <a:pt x="2145" y="1500"/>
                    </a:lnTo>
                    <a:lnTo>
                      <a:pt x="2150" y="1493"/>
                    </a:lnTo>
                    <a:lnTo>
                      <a:pt x="2159" y="1484"/>
                    </a:lnTo>
                    <a:lnTo>
                      <a:pt x="2162" y="1478"/>
                    </a:lnTo>
                    <a:lnTo>
                      <a:pt x="2168" y="1471"/>
                    </a:lnTo>
                    <a:lnTo>
                      <a:pt x="2172" y="1464"/>
                    </a:lnTo>
                    <a:lnTo>
                      <a:pt x="2176" y="1454"/>
                    </a:lnTo>
                    <a:lnTo>
                      <a:pt x="2172" y="1442"/>
                    </a:lnTo>
                    <a:lnTo>
                      <a:pt x="2160" y="1442"/>
                    </a:lnTo>
                    <a:lnTo>
                      <a:pt x="2150" y="1452"/>
                    </a:lnTo>
                    <a:lnTo>
                      <a:pt x="2140" y="1464"/>
                    </a:lnTo>
                    <a:lnTo>
                      <a:pt x="2131" y="1475"/>
                    </a:lnTo>
                    <a:lnTo>
                      <a:pt x="2123" y="1487"/>
                    </a:lnTo>
                    <a:lnTo>
                      <a:pt x="2114" y="1498"/>
                    </a:lnTo>
                    <a:lnTo>
                      <a:pt x="2107" y="1510"/>
                    </a:lnTo>
                    <a:lnTo>
                      <a:pt x="2100" y="1521"/>
                    </a:lnTo>
                    <a:lnTo>
                      <a:pt x="2091" y="1533"/>
                    </a:lnTo>
                    <a:lnTo>
                      <a:pt x="2082" y="1532"/>
                    </a:lnTo>
                    <a:lnTo>
                      <a:pt x="2075" y="1529"/>
                    </a:lnTo>
                    <a:lnTo>
                      <a:pt x="2069" y="1523"/>
                    </a:lnTo>
                    <a:lnTo>
                      <a:pt x="2065" y="1513"/>
                    </a:lnTo>
                    <a:lnTo>
                      <a:pt x="2071" y="1503"/>
                    </a:lnTo>
                    <a:lnTo>
                      <a:pt x="2077" y="1493"/>
                    </a:lnTo>
                    <a:lnTo>
                      <a:pt x="2085" y="1484"/>
                    </a:lnTo>
                    <a:lnTo>
                      <a:pt x="2092" y="1474"/>
                    </a:lnTo>
                    <a:lnTo>
                      <a:pt x="2100" y="1464"/>
                    </a:lnTo>
                    <a:lnTo>
                      <a:pt x="2107" y="1452"/>
                    </a:lnTo>
                    <a:lnTo>
                      <a:pt x="2113" y="1441"/>
                    </a:lnTo>
                    <a:lnTo>
                      <a:pt x="2118" y="1428"/>
                    </a:lnTo>
                    <a:lnTo>
                      <a:pt x="2110" y="1419"/>
                    </a:lnTo>
                    <a:lnTo>
                      <a:pt x="2098" y="1426"/>
                    </a:lnTo>
                    <a:lnTo>
                      <a:pt x="2088" y="1436"/>
                    </a:lnTo>
                    <a:lnTo>
                      <a:pt x="2079" y="1446"/>
                    </a:lnTo>
                    <a:lnTo>
                      <a:pt x="2072" y="1458"/>
                    </a:lnTo>
                    <a:lnTo>
                      <a:pt x="2064" y="1471"/>
                    </a:lnTo>
                    <a:lnTo>
                      <a:pt x="2055" y="1482"/>
                    </a:lnTo>
                    <a:lnTo>
                      <a:pt x="2046" y="1494"/>
                    </a:lnTo>
                    <a:lnTo>
                      <a:pt x="2037" y="1506"/>
                    </a:lnTo>
                    <a:lnTo>
                      <a:pt x="2030" y="1504"/>
                    </a:lnTo>
                    <a:lnTo>
                      <a:pt x="2026" y="1498"/>
                    </a:lnTo>
                    <a:lnTo>
                      <a:pt x="2019" y="1491"/>
                    </a:lnTo>
                    <a:lnTo>
                      <a:pt x="2009" y="1488"/>
                    </a:lnTo>
                    <a:lnTo>
                      <a:pt x="2009" y="1478"/>
                    </a:lnTo>
                    <a:lnTo>
                      <a:pt x="2016" y="1468"/>
                    </a:lnTo>
                    <a:lnTo>
                      <a:pt x="2023" y="1459"/>
                    </a:lnTo>
                    <a:lnTo>
                      <a:pt x="2030" y="1449"/>
                    </a:lnTo>
                    <a:lnTo>
                      <a:pt x="2037" y="1439"/>
                    </a:lnTo>
                    <a:lnTo>
                      <a:pt x="2043" y="1429"/>
                    </a:lnTo>
                    <a:lnTo>
                      <a:pt x="2051" y="1419"/>
                    </a:lnTo>
                    <a:lnTo>
                      <a:pt x="2056" y="1407"/>
                    </a:lnTo>
                    <a:lnTo>
                      <a:pt x="2064" y="1394"/>
                    </a:lnTo>
                    <a:lnTo>
                      <a:pt x="2056" y="1384"/>
                    </a:lnTo>
                    <a:lnTo>
                      <a:pt x="2045" y="1389"/>
                    </a:lnTo>
                    <a:lnTo>
                      <a:pt x="2036" y="1397"/>
                    </a:lnTo>
                    <a:lnTo>
                      <a:pt x="2030" y="1407"/>
                    </a:lnTo>
                    <a:lnTo>
                      <a:pt x="2023" y="1416"/>
                    </a:lnTo>
                    <a:lnTo>
                      <a:pt x="2017" y="1426"/>
                    </a:lnTo>
                    <a:lnTo>
                      <a:pt x="2010" y="1438"/>
                    </a:lnTo>
                    <a:lnTo>
                      <a:pt x="2003" y="1448"/>
                    </a:lnTo>
                    <a:lnTo>
                      <a:pt x="1994" y="1459"/>
                    </a:lnTo>
                    <a:lnTo>
                      <a:pt x="1984" y="1469"/>
                    </a:lnTo>
                    <a:lnTo>
                      <a:pt x="1962" y="1455"/>
                    </a:lnTo>
                    <a:lnTo>
                      <a:pt x="1967" y="1445"/>
                    </a:lnTo>
                    <a:lnTo>
                      <a:pt x="1972" y="1436"/>
                    </a:lnTo>
                    <a:lnTo>
                      <a:pt x="1980" y="1428"/>
                    </a:lnTo>
                    <a:lnTo>
                      <a:pt x="1985" y="1419"/>
                    </a:lnTo>
                    <a:lnTo>
                      <a:pt x="1993" y="1410"/>
                    </a:lnTo>
                    <a:lnTo>
                      <a:pt x="2000" y="1402"/>
                    </a:lnTo>
                    <a:lnTo>
                      <a:pt x="2007" y="1393"/>
                    </a:lnTo>
                    <a:lnTo>
                      <a:pt x="2013" y="1383"/>
                    </a:lnTo>
                    <a:lnTo>
                      <a:pt x="2006" y="1364"/>
                    </a:lnTo>
                    <a:lnTo>
                      <a:pt x="1996" y="1371"/>
                    </a:lnTo>
                    <a:lnTo>
                      <a:pt x="1987" y="1378"/>
                    </a:lnTo>
                    <a:lnTo>
                      <a:pt x="1978" y="1389"/>
                    </a:lnTo>
                    <a:lnTo>
                      <a:pt x="1970" y="1399"/>
                    </a:lnTo>
                    <a:lnTo>
                      <a:pt x="1962" y="1410"/>
                    </a:lnTo>
                    <a:lnTo>
                      <a:pt x="1954" y="1420"/>
                    </a:lnTo>
                    <a:lnTo>
                      <a:pt x="1943" y="1430"/>
                    </a:lnTo>
                    <a:lnTo>
                      <a:pt x="1933" y="1439"/>
                    </a:lnTo>
                    <a:lnTo>
                      <a:pt x="1917" y="1420"/>
                    </a:lnTo>
                    <a:lnTo>
                      <a:pt x="1923" y="1410"/>
                    </a:lnTo>
                    <a:lnTo>
                      <a:pt x="1929" y="1402"/>
                    </a:lnTo>
                    <a:lnTo>
                      <a:pt x="1935" y="1393"/>
                    </a:lnTo>
                    <a:lnTo>
                      <a:pt x="1942" y="1384"/>
                    </a:lnTo>
                    <a:lnTo>
                      <a:pt x="1949" y="1374"/>
                    </a:lnTo>
                    <a:lnTo>
                      <a:pt x="1957" y="1364"/>
                    </a:lnTo>
                    <a:lnTo>
                      <a:pt x="1964" y="1354"/>
                    </a:lnTo>
                    <a:lnTo>
                      <a:pt x="1972" y="1341"/>
                    </a:lnTo>
                    <a:lnTo>
                      <a:pt x="1961" y="1329"/>
                    </a:lnTo>
                    <a:lnTo>
                      <a:pt x="1949" y="1332"/>
                    </a:lnTo>
                    <a:lnTo>
                      <a:pt x="1941" y="1341"/>
                    </a:lnTo>
                    <a:lnTo>
                      <a:pt x="1933" y="1350"/>
                    </a:lnTo>
                    <a:lnTo>
                      <a:pt x="1928" y="1360"/>
                    </a:lnTo>
                    <a:lnTo>
                      <a:pt x="1922" y="1370"/>
                    </a:lnTo>
                    <a:lnTo>
                      <a:pt x="1916" y="1380"/>
                    </a:lnTo>
                    <a:lnTo>
                      <a:pt x="1909" y="1389"/>
                    </a:lnTo>
                    <a:lnTo>
                      <a:pt x="1902" y="1399"/>
                    </a:lnTo>
                    <a:lnTo>
                      <a:pt x="1893" y="1409"/>
                    </a:lnTo>
                    <a:lnTo>
                      <a:pt x="1886" y="1404"/>
                    </a:lnTo>
                    <a:lnTo>
                      <a:pt x="1878" y="1399"/>
                    </a:lnTo>
                    <a:lnTo>
                      <a:pt x="1871" y="1394"/>
                    </a:lnTo>
                    <a:lnTo>
                      <a:pt x="1863" y="1387"/>
                    </a:lnTo>
                    <a:lnTo>
                      <a:pt x="1870" y="1380"/>
                    </a:lnTo>
                    <a:lnTo>
                      <a:pt x="1877" y="1373"/>
                    </a:lnTo>
                    <a:lnTo>
                      <a:pt x="1884" y="1364"/>
                    </a:lnTo>
                    <a:lnTo>
                      <a:pt x="1891" y="1357"/>
                    </a:lnTo>
                    <a:lnTo>
                      <a:pt x="1897" y="1348"/>
                    </a:lnTo>
                    <a:lnTo>
                      <a:pt x="1904" y="1339"/>
                    </a:lnTo>
                    <a:lnTo>
                      <a:pt x="1909" y="1332"/>
                    </a:lnTo>
                    <a:lnTo>
                      <a:pt x="1915" y="1323"/>
                    </a:lnTo>
                    <a:lnTo>
                      <a:pt x="1904" y="1306"/>
                    </a:lnTo>
                    <a:lnTo>
                      <a:pt x="1896" y="1312"/>
                    </a:lnTo>
                    <a:lnTo>
                      <a:pt x="1889" y="1319"/>
                    </a:lnTo>
                    <a:lnTo>
                      <a:pt x="1881" y="1328"/>
                    </a:lnTo>
                    <a:lnTo>
                      <a:pt x="1874" y="1336"/>
                    </a:lnTo>
                    <a:lnTo>
                      <a:pt x="1867" y="1345"/>
                    </a:lnTo>
                    <a:lnTo>
                      <a:pt x="1861" y="1355"/>
                    </a:lnTo>
                    <a:lnTo>
                      <a:pt x="1854" y="1365"/>
                    </a:lnTo>
                    <a:lnTo>
                      <a:pt x="1847" y="1374"/>
                    </a:lnTo>
                    <a:lnTo>
                      <a:pt x="1838" y="1371"/>
                    </a:lnTo>
                    <a:lnTo>
                      <a:pt x="1831" y="1367"/>
                    </a:lnTo>
                    <a:lnTo>
                      <a:pt x="1825" y="1363"/>
                    </a:lnTo>
                    <a:lnTo>
                      <a:pt x="1818" y="1354"/>
                    </a:lnTo>
                    <a:lnTo>
                      <a:pt x="1822" y="1345"/>
                    </a:lnTo>
                    <a:lnTo>
                      <a:pt x="1826" y="1338"/>
                    </a:lnTo>
                    <a:lnTo>
                      <a:pt x="1832" y="1331"/>
                    </a:lnTo>
                    <a:lnTo>
                      <a:pt x="1838" y="1323"/>
                    </a:lnTo>
                    <a:lnTo>
                      <a:pt x="1845" y="1318"/>
                    </a:lnTo>
                    <a:lnTo>
                      <a:pt x="1851" y="1309"/>
                    </a:lnTo>
                    <a:lnTo>
                      <a:pt x="1857" y="1302"/>
                    </a:lnTo>
                    <a:lnTo>
                      <a:pt x="1863" y="1293"/>
                    </a:lnTo>
                    <a:lnTo>
                      <a:pt x="1855" y="1282"/>
                    </a:lnTo>
                    <a:lnTo>
                      <a:pt x="1845" y="1282"/>
                    </a:lnTo>
                    <a:lnTo>
                      <a:pt x="1839" y="1286"/>
                    </a:lnTo>
                    <a:lnTo>
                      <a:pt x="1834" y="1293"/>
                    </a:lnTo>
                    <a:lnTo>
                      <a:pt x="1826" y="1300"/>
                    </a:lnTo>
                    <a:lnTo>
                      <a:pt x="1821" y="1308"/>
                    </a:lnTo>
                    <a:lnTo>
                      <a:pt x="1813" y="1316"/>
                    </a:lnTo>
                    <a:lnTo>
                      <a:pt x="1805" y="1325"/>
                    </a:lnTo>
                    <a:lnTo>
                      <a:pt x="1797" y="1332"/>
                    </a:lnTo>
                    <a:lnTo>
                      <a:pt x="1790" y="1339"/>
                    </a:lnTo>
                    <a:lnTo>
                      <a:pt x="1777" y="1335"/>
                    </a:lnTo>
                    <a:lnTo>
                      <a:pt x="1783" y="1328"/>
                    </a:lnTo>
                    <a:lnTo>
                      <a:pt x="1790" y="1321"/>
                    </a:lnTo>
                    <a:lnTo>
                      <a:pt x="1800" y="1315"/>
                    </a:lnTo>
                    <a:lnTo>
                      <a:pt x="1809" y="1306"/>
                    </a:lnTo>
                    <a:lnTo>
                      <a:pt x="1812" y="1299"/>
                    </a:lnTo>
                    <a:lnTo>
                      <a:pt x="1815" y="1292"/>
                    </a:lnTo>
                    <a:lnTo>
                      <a:pt x="1821" y="1284"/>
                    </a:lnTo>
                    <a:lnTo>
                      <a:pt x="1825" y="1273"/>
                    </a:lnTo>
                    <a:lnTo>
                      <a:pt x="1818" y="1257"/>
                    </a:lnTo>
                    <a:lnTo>
                      <a:pt x="1795" y="1266"/>
                    </a:lnTo>
                    <a:lnTo>
                      <a:pt x="1787" y="1277"/>
                    </a:lnTo>
                    <a:lnTo>
                      <a:pt x="1780" y="1290"/>
                    </a:lnTo>
                    <a:lnTo>
                      <a:pt x="1771" y="1305"/>
                    </a:lnTo>
                    <a:lnTo>
                      <a:pt x="1758" y="1318"/>
                    </a:lnTo>
                    <a:lnTo>
                      <a:pt x="1747" y="1316"/>
                    </a:lnTo>
                    <a:lnTo>
                      <a:pt x="1744" y="1306"/>
                    </a:lnTo>
                    <a:lnTo>
                      <a:pt x="1747" y="1295"/>
                    </a:lnTo>
                    <a:lnTo>
                      <a:pt x="1753" y="1284"/>
                    </a:lnTo>
                    <a:lnTo>
                      <a:pt x="1760" y="1274"/>
                    </a:lnTo>
                    <a:lnTo>
                      <a:pt x="1770" y="1263"/>
                    </a:lnTo>
                    <a:lnTo>
                      <a:pt x="1782" y="1253"/>
                    </a:lnTo>
                    <a:lnTo>
                      <a:pt x="1767" y="1237"/>
                    </a:lnTo>
                    <a:lnTo>
                      <a:pt x="1760" y="1241"/>
                    </a:lnTo>
                    <a:lnTo>
                      <a:pt x="1753" y="1245"/>
                    </a:lnTo>
                    <a:lnTo>
                      <a:pt x="1745" y="1253"/>
                    </a:lnTo>
                    <a:lnTo>
                      <a:pt x="1738" y="1260"/>
                    </a:lnTo>
                    <a:lnTo>
                      <a:pt x="1731" y="1267"/>
                    </a:lnTo>
                    <a:lnTo>
                      <a:pt x="1725" y="1276"/>
                    </a:lnTo>
                    <a:lnTo>
                      <a:pt x="1719" y="1283"/>
                    </a:lnTo>
                    <a:lnTo>
                      <a:pt x="1716" y="1290"/>
                    </a:lnTo>
                    <a:lnTo>
                      <a:pt x="1712" y="1283"/>
                    </a:lnTo>
                    <a:lnTo>
                      <a:pt x="1714" y="1276"/>
                    </a:lnTo>
                    <a:lnTo>
                      <a:pt x="1716" y="1270"/>
                    </a:lnTo>
                    <a:lnTo>
                      <a:pt x="1721" y="1263"/>
                    </a:lnTo>
                    <a:lnTo>
                      <a:pt x="1725" y="1253"/>
                    </a:lnTo>
                    <a:lnTo>
                      <a:pt x="1708" y="1240"/>
                    </a:lnTo>
                    <a:lnTo>
                      <a:pt x="1705" y="1248"/>
                    </a:lnTo>
                    <a:lnTo>
                      <a:pt x="1698" y="1253"/>
                    </a:lnTo>
                    <a:lnTo>
                      <a:pt x="1689" y="1258"/>
                    </a:lnTo>
                    <a:lnTo>
                      <a:pt x="1683" y="1267"/>
                    </a:lnTo>
                    <a:lnTo>
                      <a:pt x="1672" y="1271"/>
                    </a:lnTo>
                    <a:lnTo>
                      <a:pt x="1677" y="1258"/>
                    </a:lnTo>
                    <a:lnTo>
                      <a:pt x="1683" y="1245"/>
                    </a:lnTo>
                    <a:lnTo>
                      <a:pt x="1692" y="1232"/>
                    </a:lnTo>
                    <a:lnTo>
                      <a:pt x="1703" y="1219"/>
                    </a:lnTo>
                    <a:lnTo>
                      <a:pt x="1712" y="1221"/>
                    </a:lnTo>
                    <a:lnTo>
                      <a:pt x="1719" y="1221"/>
                    </a:lnTo>
                    <a:lnTo>
                      <a:pt x="1729" y="1224"/>
                    </a:lnTo>
                    <a:lnTo>
                      <a:pt x="1738" y="1225"/>
                    </a:lnTo>
                    <a:lnTo>
                      <a:pt x="1748" y="1227"/>
                    </a:lnTo>
                    <a:lnTo>
                      <a:pt x="1757" y="1230"/>
                    </a:lnTo>
                    <a:lnTo>
                      <a:pt x="1767" y="1231"/>
                    </a:lnTo>
                    <a:lnTo>
                      <a:pt x="1776" y="1234"/>
                    </a:lnTo>
                    <a:lnTo>
                      <a:pt x="1799" y="1227"/>
                    </a:lnTo>
                    <a:lnTo>
                      <a:pt x="1810" y="1224"/>
                    </a:lnTo>
                    <a:lnTo>
                      <a:pt x="1821" y="1219"/>
                    </a:lnTo>
                    <a:lnTo>
                      <a:pt x="1831" y="1212"/>
                    </a:lnTo>
                    <a:lnTo>
                      <a:pt x="1841" y="1204"/>
                    </a:lnTo>
                    <a:lnTo>
                      <a:pt x="1868" y="1166"/>
                    </a:lnTo>
                    <a:lnTo>
                      <a:pt x="1894" y="1127"/>
                    </a:lnTo>
                    <a:lnTo>
                      <a:pt x="1917" y="1088"/>
                    </a:lnTo>
                    <a:lnTo>
                      <a:pt x="1942" y="1048"/>
                    </a:lnTo>
                    <a:lnTo>
                      <a:pt x="1964" y="1006"/>
                    </a:lnTo>
                    <a:lnTo>
                      <a:pt x="1984" y="962"/>
                    </a:lnTo>
                    <a:lnTo>
                      <a:pt x="2003" y="917"/>
                    </a:lnTo>
                    <a:lnTo>
                      <a:pt x="2020" y="868"/>
                    </a:lnTo>
                    <a:lnTo>
                      <a:pt x="2022" y="848"/>
                    </a:lnTo>
                    <a:lnTo>
                      <a:pt x="2017" y="841"/>
                    </a:lnTo>
                    <a:lnTo>
                      <a:pt x="2013" y="835"/>
                    </a:lnTo>
                    <a:lnTo>
                      <a:pt x="2004" y="832"/>
                    </a:lnTo>
                    <a:lnTo>
                      <a:pt x="1993" y="828"/>
                    </a:lnTo>
                    <a:lnTo>
                      <a:pt x="1990" y="821"/>
                    </a:lnTo>
                    <a:lnTo>
                      <a:pt x="1990" y="813"/>
                    </a:lnTo>
                    <a:lnTo>
                      <a:pt x="1993" y="806"/>
                    </a:lnTo>
                    <a:lnTo>
                      <a:pt x="1991" y="799"/>
                    </a:lnTo>
                    <a:lnTo>
                      <a:pt x="1977" y="793"/>
                    </a:lnTo>
                    <a:lnTo>
                      <a:pt x="1964" y="789"/>
                    </a:lnTo>
                    <a:lnTo>
                      <a:pt x="1954" y="783"/>
                    </a:lnTo>
                    <a:lnTo>
                      <a:pt x="1943" y="779"/>
                    </a:lnTo>
                    <a:lnTo>
                      <a:pt x="1933" y="774"/>
                    </a:lnTo>
                    <a:lnTo>
                      <a:pt x="1925" y="770"/>
                    </a:lnTo>
                    <a:lnTo>
                      <a:pt x="1915" y="766"/>
                    </a:lnTo>
                    <a:lnTo>
                      <a:pt x="1904" y="763"/>
                    </a:lnTo>
                    <a:lnTo>
                      <a:pt x="1891" y="763"/>
                    </a:lnTo>
                    <a:lnTo>
                      <a:pt x="1876" y="757"/>
                    </a:lnTo>
                    <a:lnTo>
                      <a:pt x="1858" y="751"/>
                    </a:lnTo>
                    <a:lnTo>
                      <a:pt x="1842" y="746"/>
                    </a:lnTo>
                    <a:lnTo>
                      <a:pt x="1825" y="740"/>
                    </a:lnTo>
                    <a:lnTo>
                      <a:pt x="1808" y="734"/>
                    </a:lnTo>
                    <a:lnTo>
                      <a:pt x="1790" y="728"/>
                    </a:lnTo>
                    <a:lnTo>
                      <a:pt x="1773" y="722"/>
                    </a:lnTo>
                    <a:lnTo>
                      <a:pt x="1756" y="718"/>
                    </a:lnTo>
                    <a:lnTo>
                      <a:pt x="1738" y="712"/>
                    </a:lnTo>
                    <a:lnTo>
                      <a:pt x="1721" y="707"/>
                    </a:lnTo>
                    <a:lnTo>
                      <a:pt x="1703" y="702"/>
                    </a:lnTo>
                    <a:lnTo>
                      <a:pt x="1686" y="696"/>
                    </a:lnTo>
                    <a:lnTo>
                      <a:pt x="1670" y="691"/>
                    </a:lnTo>
                    <a:lnTo>
                      <a:pt x="1653" y="686"/>
                    </a:lnTo>
                    <a:lnTo>
                      <a:pt x="1635" y="681"/>
                    </a:lnTo>
                    <a:lnTo>
                      <a:pt x="1620" y="675"/>
                    </a:lnTo>
                    <a:lnTo>
                      <a:pt x="1608" y="670"/>
                    </a:lnTo>
                    <a:lnTo>
                      <a:pt x="1596" y="666"/>
                    </a:lnTo>
                    <a:lnTo>
                      <a:pt x="1585" y="662"/>
                    </a:lnTo>
                    <a:lnTo>
                      <a:pt x="1573" y="657"/>
                    </a:lnTo>
                    <a:lnTo>
                      <a:pt x="1562" y="653"/>
                    </a:lnTo>
                    <a:lnTo>
                      <a:pt x="1550" y="649"/>
                    </a:lnTo>
                    <a:lnTo>
                      <a:pt x="1537" y="644"/>
                    </a:lnTo>
                    <a:lnTo>
                      <a:pt x="1526" y="640"/>
                    </a:lnTo>
                    <a:lnTo>
                      <a:pt x="1500" y="633"/>
                    </a:lnTo>
                    <a:lnTo>
                      <a:pt x="1474" y="624"/>
                    </a:lnTo>
                    <a:lnTo>
                      <a:pt x="1448" y="616"/>
                    </a:lnTo>
                    <a:lnTo>
                      <a:pt x="1420" y="607"/>
                    </a:lnTo>
                    <a:lnTo>
                      <a:pt x="1394" y="598"/>
                    </a:lnTo>
                    <a:lnTo>
                      <a:pt x="1367" y="591"/>
                    </a:lnTo>
                    <a:lnTo>
                      <a:pt x="1339" y="585"/>
                    </a:lnTo>
                    <a:lnTo>
                      <a:pt x="1313" y="582"/>
                    </a:lnTo>
                    <a:lnTo>
                      <a:pt x="1301" y="584"/>
                    </a:lnTo>
                    <a:lnTo>
                      <a:pt x="1293" y="588"/>
                    </a:lnTo>
                    <a:lnTo>
                      <a:pt x="1284" y="594"/>
                    </a:lnTo>
                    <a:lnTo>
                      <a:pt x="1274" y="600"/>
                    </a:lnTo>
                    <a:lnTo>
                      <a:pt x="1257" y="614"/>
                    </a:lnTo>
                    <a:lnTo>
                      <a:pt x="1242" y="630"/>
                    </a:lnTo>
                    <a:lnTo>
                      <a:pt x="1228" y="646"/>
                    </a:lnTo>
                    <a:lnTo>
                      <a:pt x="1215" y="663"/>
                    </a:lnTo>
                    <a:lnTo>
                      <a:pt x="1202" y="681"/>
                    </a:lnTo>
                    <a:lnTo>
                      <a:pt x="1190" y="698"/>
                    </a:lnTo>
                    <a:lnTo>
                      <a:pt x="1177" y="715"/>
                    </a:lnTo>
                    <a:lnTo>
                      <a:pt x="1164" y="731"/>
                    </a:lnTo>
                    <a:lnTo>
                      <a:pt x="1155" y="747"/>
                    </a:lnTo>
                    <a:lnTo>
                      <a:pt x="1145" y="763"/>
                    </a:lnTo>
                    <a:lnTo>
                      <a:pt x="1135" y="779"/>
                    </a:lnTo>
                    <a:lnTo>
                      <a:pt x="1126" y="796"/>
                    </a:lnTo>
                    <a:lnTo>
                      <a:pt x="1116" y="812"/>
                    </a:lnTo>
                    <a:lnTo>
                      <a:pt x="1106" y="829"/>
                    </a:lnTo>
                    <a:lnTo>
                      <a:pt x="1096" y="847"/>
                    </a:lnTo>
                    <a:lnTo>
                      <a:pt x="1087" y="865"/>
                    </a:lnTo>
                    <a:lnTo>
                      <a:pt x="1087" y="877"/>
                    </a:lnTo>
                    <a:lnTo>
                      <a:pt x="1090" y="886"/>
                    </a:lnTo>
                    <a:lnTo>
                      <a:pt x="1095" y="893"/>
                    </a:lnTo>
                    <a:lnTo>
                      <a:pt x="1100" y="900"/>
                    </a:lnTo>
                    <a:lnTo>
                      <a:pt x="1106" y="907"/>
                    </a:lnTo>
                    <a:lnTo>
                      <a:pt x="1100" y="913"/>
                    </a:lnTo>
                    <a:lnTo>
                      <a:pt x="1095" y="920"/>
                    </a:lnTo>
                    <a:lnTo>
                      <a:pt x="1089" y="928"/>
                    </a:lnTo>
                    <a:lnTo>
                      <a:pt x="1082" y="935"/>
                    </a:lnTo>
                    <a:lnTo>
                      <a:pt x="1074" y="942"/>
                    </a:lnTo>
                    <a:lnTo>
                      <a:pt x="1069" y="949"/>
                    </a:lnTo>
                    <a:lnTo>
                      <a:pt x="1061" y="955"/>
                    </a:lnTo>
                    <a:lnTo>
                      <a:pt x="1054" y="959"/>
                    </a:lnTo>
                    <a:lnTo>
                      <a:pt x="1047" y="959"/>
                    </a:lnTo>
                    <a:lnTo>
                      <a:pt x="1047" y="938"/>
                    </a:lnTo>
                    <a:lnTo>
                      <a:pt x="1056" y="928"/>
                    </a:lnTo>
                    <a:lnTo>
                      <a:pt x="1064" y="916"/>
                    </a:lnTo>
                    <a:lnTo>
                      <a:pt x="1073" y="906"/>
                    </a:lnTo>
                    <a:lnTo>
                      <a:pt x="1082" y="896"/>
                    </a:lnTo>
                    <a:lnTo>
                      <a:pt x="1082" y="884"/>
                    </a:lnTo>
                    <a:lnTo>
                      <a:pt x="1070" y="878"/>
                    </a:lnTo>
                    <a:lnTo>
                      <a:pt x="1061" y="883"/>
                    </a:lnTo>
                    <a:lnTo>
                      <a:pt x="1053" y="890"/>
                    </a:lnTo>
                    <a:lnTo>
                      <a:pt x="1044" y="897"/>
                    </a:lnTo>
                    <a:lnTo>
                      <a:pt x="1037" y="906"/>
                    </a:lnTo>
                    <a:lnTo>
                      <a:pt x="1028" y="915"/>
                    </a:lnTo>
                    <a:lnTo>
                      <a:pt x="1022" y="925"/>
                    </a:lnTo>
                    <a:lnTo>
                      <a:pt x="1015" y="933"/>
                    </a:lnTo>
                    <a:lnTo>
                      <a:pt x="1011" y="942"/>
                    </a:lnTo>
                    <a:lnTo>
                      <a:pt x="1001" y="942"/>
                    </a:lnTo>
                    <a:lnTo>
                      <a:pt x="995" y="932"/>
                    </a:lnTo>
                    <a:lnTo>
                      <a:pt x="1002" y="920"/>
                    </a:lnTo>
                    <a:lnTo>
                      <a:pt x="1011" y="907"/>
                    </a:lnTo>
                    <a:lnTo>
                      <a:pt x="1019" y="893"/>
                    </a:lnTo>
                    <a:lnTo>
                      <a:pt x="1028" y="877"/>
                    </a:lnTo>
                    <a:lnTo>
                      <a:pt x="1017" y="863"/>
                    </a:lnTo>
                    <a:lnTo>
                      <a:pt x="1008" y="867"/>
                    </a:lnTo>
                    <a:lnTo>
                      <a:pt x="999" y="873"/>
                    </a:lnTo>
                    <a:lnTo>
                      <a:pt x="993" y="878"/>
                    </a:lnTo>
                    <a:lnTo>
                      <a:pt x="988" y="887"/>
                    </a:lnTo>
                    <a:lnTo>
                      <a:pt x="983" y="894"/>
                    </a:lnTo>
                    <a:lnTo>
                      <a:pt x="979" y="903"/>
                    </a:lnTo>
                    <a:lnTo>
                      <a:pt x="973" y="912"/>
                    </a:lnTo>
                    <a:lnTo>
                      <a:pt x="967" y="920"/>
                    </a:lnTo>
                    <a:lnTo>
                      <a:pt x="956" y="922"/>
                    </a:lnTo>
                    <a:lnTo>
                      <a:pt x="953" y="916"/>
                    </a:lnTo>
                    <a:lnTo>
                      <a:pt x="962" y="903"/>
                    </a:lnTo>
                    <a:lnTo>
                      <a:pt x="967" y="890"/>
                    </a:lnTo>
                    <a:lnTo>
                      <a:pt x="975" y="877"/>
                    </a:lnTo>
                    <a:lnTo>
                      <a:pt x="982" y="863"/>
                    </a:lnTo>
                    <a:lnTo>
                      <a:pt x="965" y="848"/>
                    </a:lnTo>
                    <a:lnTo>
                      <a:pt x="959" y="855"/>
                    </a:lnTo>
                    <a:lnTo>
                      <a:pt x="954" y="863"/>
                    </a:lnTo>
                    <a:lnTo>
                      <a:pt x="949" y="870"/>
                    </a:lnTo>
                    <a:lnTo>
                      <a:pt x="943" y="877"/>
                    </a:lnTo>
                    <a:lnTo>
                      <a:pt x="936" y="884"/>
                    </a:lnTo>
                    <a:lnTo>
                      <a:pt x="930" y="891"/>
                    </a:lnTo>
                    <a:lnTo>
                      <a:pt x="923" y="899"/>
                    </a:lnTo>
                    <a:lnTo>
                      <a:pt x="917" y="907"/>
                    </a:lnTo>
                    <a:lnTo>
                      <a:pt x="912" y="906"/>
                    </a:lnTo>
                    <a:lnTo>
                      <a:pt x="905" y="904"/>
                    </a:lnTo>
                    <a:lnTo>
                      <a:pt x="899" y="902"/>
                    </a:lnTo>
                    <a:lnTo>
                      <a:pt x="897" y="894"/>
                    </a:lnTo>
                    <a:lnTo>
                      <a:pt x="910" y="874"/>
                    </a:lnTo>
                    <a:lnTo>
                      <a:pt x="914" y="867"/>
                    </a:lnTo>
                    <a:lnTo>
                      <a:pt x="920" y="860"/>
                    </a:lnTo>
                    <a:lnTo>
                      <a:pt x="925" y="851"/>
                    </a:lnTo>
                    <a:lnTo>
                      <a:pt x="930" y="841"/>
                    </a:lnTo>
                    <a:lnTo>
                      <a:pt x="921" y="831"/>
                    </a:lnTo>
                    <a:lnTo>
                      <a:pt x="910" y="832"/>
                    </a:lnTo>
                    <a:lnTo>
                      <a:pt x="904" y="838"/>
                    </a:lnTo>
                    <a:lnTo>
                      <a:pt x="899" y="844"/>
                    </a:lnTo>
                    <a:lnTo>
                      <a:pt x="894" y="851"/>
                    </a:lnTo>
                    <a:lnTo>
                      <a:pt x="888" y="857"/>
                    </a:lnTo>
                    <a:lnTo>
                      <a:pt x="882" y="864"/>
                    </a:lnTo>
                    <a:lnTo>
                      <a:pt x="876" y="870"/>
                    </a:lnTo>
                    <a:lnTo>
                      <a:pt x="871" y="877"/>
                    </a:lnTo>
                    <a:lnTo>
                      <a:pt x="866" y="883"/>
                    </a:lnTo>
                    <a:lnTo>
                      <a:pt x="850" y="874"/>
                    </a:lnTo>
                    <a:lnTo>
                      <a:pt x="862" y="861"/>
                    </a:lnTo>
                    <a:lnTo>
                      <a:pt x="872" y="848"/>
                    </a:lnTo>
                    <a:lnTo>
                      <a:pt x="879" y="835"/>
                    </a:lnTo>
                    <a:lnTo>
                      <a:pt x="888" y="821"/>
                    </a:lnTo>
                    <a:lnTo>
                      <a:pt x="878" y="805"/>
                    </a:lnTo>
                    <a:lnTo>
                      <a:pt x="872" y="809"/>
                    </a:lnTo>
                    <a:lnTo>
                      <a:pt x="865" y="815"/>
                    </a:lnTo>
                    <a:lnTo>
                      <a:pt x="859" y="821"/>
                    </a:lnTo>
                    <a:lnTo>
                      <a:pt x="853" y="828"/>
                    </a:lnTo>
                    <a:lnTo>
                      <a:pt x="846" y="837"/>
                    </a:lnTo>
                    <a:lnTo>
                      <a:pt x="840" y="844"/>
                    </a:lnTo>
                    <a:lnTo>
                      <a:pt x="833" y="851"/>
                    </a:lnTo>
                    <a:lnTo>
                      <a:pt x="827" y="858"/>
                    </a:lnTo>
                    <a:lnTo>
                      <a:pt x="807" y="852"/>
                    </a:lnTo>
                    <a:lnTo>
                      <a:pt x="807" y="848"/>
                    </a:lnTo>
                    <a:lnTo>
                      <a:pt x="814" y="837"/>
                    </a:lnTo>
                    <a:lnTo>
                      <a:pt x="823" y="826"/>
                    </a:lnTo>
                    <a:lnTo>
                      <a:pt x="831" y="816"/>
                    </a:lnTo>
                    <a:lnTo>
                      <a:pt x="840" y="806"/>
                    </a:lnTo>
                    <a:lnTo>
                      <a:pt x="840" y="796"/>
                    </a:lnTo>
                    <a:lnTo>
                      <a:pt x="829" y="787"/>
                    </a:lnTo>
                    <a:lnTo>
                      <a:pt x="821" y="792"/>
                    </a:lnTo>
                    <a:lnTo>
                      <a:pt x="814" y="798"/>
                    </a:lnTo>
                    <a:lnTo>
                      <a:pt x="808" y="803"/>
                    </a:lnTo>
                    <a:lnTo>
                      <a:pt x="803" y="811"/>
                    </a:lnTo>
                    <a:lnTo>
                      <a:pt x="797" y="819"/>
                    </a:lnTo>
                    <a:lnTo>
                      <a:pt x="790" y="825"/>
                    </a:lnTo>
                    <a:lnTo>
                      <a:pt x="782" y="831"/>
                    </a:lnTo>
                    <a:lnTo>
                      <a:pt x="772" y="835"/>
                    </a:lnTo>
                    <a:lnTo>
                      <a:pt x="764" y="829"/>
                    </a:lnTo>
                    <a:lnTo>
                      <a:pt x="765" y="822"/>
                    </a:lnTo>
                    <a:lnTo>
                      <a:pt x="768" y="816"/>
                    </a:lnTo>
                    <a:lnTo>
                      <a:pt x="774" y="809"/>
                    </a:lnTo>
                    <a:lnTo>
                      <a:pt x="779" y="800"/>
                    </a:lnTo>
                    <a:lnTo>
                      <a:pt x="781" y="793"/>
                    </a:lnTo>
                    <a:lnTo>
                      <a:pt x="785" y="787"/>
                    </a:lnTo>
                    <a:lnTo>
                      <a:pt x="791" y="780"/>
                    </a:lnTo>
                    <a:lnTo>
                      <a:pt x="794" y="770"/>
                    </a:lnTo>
                    <a:lnTo>
                      <a:pt x="782" y="763"/>
                    </a:lnTo>
                    <a:lnTo>
                      <a:pt x="775" y="767"/>
                    </a:lnTo>
                    <a:lnTo>
                      <a:pt x="768" y="772"/>
                    </a:lnTo>
                    <a:lnTo>
                      <a:pt x="762" y="779"/>
                    </a:lnTo>
                    <a:lnTo>
                      <a:pt x="758" y="786"/>
                    </a:lnTo>
                    <a:lnTo>
                      <a:pt x="752" y="793"/>
                    </a:lnTo>
                    <a:lnTo>
                      <a:pt x="746" y="800"/>
                    </a:lnTo>
                    <a:lnTo>
                      <a:pt x="739" y="808"/>
                    </a:lnTo>
                    <a:lnTo>
                      <a:pt x="730" y="813"/>
                    </a:lnTo>
                    <a:lnTo>
                      <a:pt x="722" y="809"/>
                    </a:lnTo>
                    <a:lnTo>
                      <a:pt x="727" y="799"/>
                    </a:lnTo>
                    <a:lnTo>
                      <a:pt x="733" y="789"/>
                    </a:lnTo>
                    <a:lnTo>
                      <a:pt x="740" y="777"/>
                    </a:lnTo>
                    <a:lnTo>
                      <a:pt x="748" y="767"/>
                    </a:lnTo>
                    <a:lnTo>
                      <a:pt x="740" y="747"/>
                    </a:lnTo>
                    <a:lnTo>
                      <a:pt x="733" y="751"/>
                    </a:lnTo>
                    <a:lnTo>
                      <a:pt x="727" y="756"/>
                    </a:lnTo>
                    <a:lnTo>
                      <a:pt x="722" y="761"/>
                    </a:lnTo>
                    <a:lnTo>
                      <a:pt x="717" y="769"/>
                    </a:lnTo>
                    <a:lnTo>
                      <a:pt x="711" y="776"/>
                    </a:lnTo>
                    <a:lnTo>
                      <a:pt x="704" y="783"/>
                    </a:lnTo>
                    <a:lnTo>
                      <a:pt x="697" y="790"/>
                    </a:lnTo>
                    <a:lnTo>
                      <a:pt x="688" y="798"/>
                    </a:lnTo>
                    <a:lnTo>
                      <a:pt x="675" y="793"/>
                    </a:lnTo>
                    <a:lnTo>
                      <a:pt x="678" y="785"/>
                    </a:lnTo>
                    <a:lnTo>
                      <a:pt x="683" y="777"/>
                    </a:lnTo>
                    <a:lnTo>
                      <a:pt x="688" y="772"/>
                    </a:lnTo>
                    <a:lnTo>
                      <a:pt x="694" y="763"/>
                    </a:lnTo>
                    <a:lnTo>
                      <a:pt x="694" y="753"/>
                    </a:lnTo>
                    <a:lnTo>
                      <a:pt x="693" y="746"/>
                    </a:lnTo>
                    <a:lnTo>
                      <a:pt x="688" y="741"/>
                    </a:lnTo>
                    <a:lnTo>
                      <a:pt x="678" y="737"/>
                    </a:lnTo>
                    <a:lnTo>
                      <a:pt x="674" y="743"/>
                    </a:lnTo>
                    <a:lnTo>
                      <a:pt x="671" y="751"/>
                    </a:lnTo>
                    <a:lnTo>
                      <a:pt x="668" y="761"/>
                    </a:lnTo>
                    <a:lnTo>
                      <a:pt x="662" y="767"/>
                    </a:lnTo>
                    <a:lnTo>
                      <a:pt x="654" y="772"/>
                    </a:lnTo>
                    <a:lnTo>
                      <a:pt x="646" y="779"/>
                    </a:lnTo>
                    <a:lnTo>
                      <a:pt x="639" y="787"/>
                    </a:lnTo>
                    <a:lnTo>
                      <a:pt x="630" y="793"/>
                    </a:lnTo>
                    <a:lnTo>
                      <a:pt x="619" y="792"/>
                    </a:lnTo>
                    <a:lnTo>
                      <a:pt x="625" y="783"/>
                    </a:lnTo>
                    <a:lnTo>
                      <a:pt x="630" y="774"/>
                    </a:lnTo>
                    <a:lnTo>
                      <a:pt x="636" y="766"/>
                    </a:lnTo>
                    <a:lnTo>
                      <a:pt x="642" y="756"/>
                    </a:lnTo>
                    <a:lnTo>
                      <a:pt x="636" y="734"/>
                    </a:lnTo>
                    <a:lnTo>
                      <a:pt x="626" y="734"/>
                    </a:lnTo>
                    <a:lnTo>
                      <a:pt x="620" y="740"/>
                    </a:lnTo>
                    <a:lnTo>
                      <a:pt x="616" y="748"/>
                    </a:lnTo>
                    <a:lnTo>
                      <a:pt x="610" y="756"/>
                    </a:lnTo>
                    <a:lnTo>
                      <a:pt x="604" y="764"/>
                    </a:lnTo>
                    <a:lnTo>
                      <a:pt x="597" y="773"/>
                    </a:lnTo>
                    <a:lnTo>
                      <a:pt x="591" y="782"/>
                    </a:lnTo>
                    <a:lnTo>
                      <a:pt x="584" y="790"/>
                    </a:lnTo>
                    <a:lnTo>
                      <a:pt x="577" y="799"/>
                    </a:lnTo>
                    <a:lnTo>
                      <a:pt x="564" y="793"/>
                    </a:lnTo>
                    <a:lnTo>
                      <a:pt x="568" y="786"/>
                    </a:lnTo>
                    <a:lnTo>
                      <a:pt x="574" y="776"/>
                    </a:lnTo>
                    <a:lnTo>
                      <a:pt x="578" y="764"/>
                    </a:lnTo>
                    <a:lnTo>
                      <a:pt x="583" y="750"/>
                    </a:lnTo>
                    <a:lnTo>
                      <a:pt x="564" y="741"/>
                    </a:lnTo>
                    <a:lnTo>
                      <a:pt x="558" y="750"/>
                    </a:lnTo>
                    <a:lnTo>
                      <a:pt x="552" y="761"/>
                    </a:lnTo>
                    <a:lnTo>
                      <a:pt x="547" y="773"/>
                    </a:lnTo>
                    <a:lnTo>
                      <a:pt x="539" y="785"/>
                    </a:lnTo>
                    <a:lnTo>
                      <a:pt x="529" y="789"/>
                    </a:lnTo>
                    <a:lnTo>
                      <a:pt x="523" y="796"/>
                    </a:lnTo>
                    <a:lnTo>
                      <a:pt x="518" y="805"/>
                    </a:lnTo>
                    <a:lnTo>
                      <a:pt x="505" y="808"/>
                    </a:lnTo>
                    <a:lnTo>
                      <a:pt x="497" y="805"/>
                    </a:lnTo>
                    <a:lnTo>
                      <a:pt x="503" y="795"/>
                    </a:lnTo>
                    <a:lnTo>
                      <a:pt x="509" y="785"/>
                    </a:lnTo>
                    <a:lnTo>
                      <a:pt x="516" y="774"/>
                    </a:lnTo>
                    <a:lnTo>
                      <a:pt x="525" y="764"/>
                    </a:lnTo>
                    <a:lnTo>
                      <a:pt x="510" y="747"/>
                    </a:lnTo>
                    <a:lnTo>
                      <a:pt x="503" y="754"/>
                    </a:lnTo>
                    <a:lnTo>
                      <a:pt x="497" y="761"/>
                    </a:lnTo>
                    <a:lnTo>
                      <a:pt x="490" y="769"/>
                    </a:lnTo>
                    <a:lnTo>
                      <a:pt x="484" y="776"/>
                    </a:lnTo>
                    <a:lnTo>
                      <a:pt x="479" y="783"/>
                    </a:lnTo>
                    <a:lnTo>
                      <a:pt x="471" y="792"/>
                    </a:lnTo>
                    <a:lnTo>
                      <a:pt x="467" y="800"/>
                    </a:lnTo>
                    <a:lnTo>
                      <a:pt x="461" y="809"/>
                    </a:lnTo>
                    <a:lnTo>
                      <a:pt x="454" y="811"/>
                    </a:lnTo>
                    <a:lnTo>
                      <a:pt x="448" y="811"/>
                    </a:lnTo>
                    <a:lnTo>
                      <a:pt x="441" y="812"/>
                    </a:lnTo>
                    <a:lnTo>
                      <a:pt x="431" y="813"/>
                    </a:lnTo>
                    <a:lnTo>
                      <a:pt x="424" y="812"/>
                    </a:lnTo>
                    <a:lnTo>
                      <a:pt x="432" y="802"/>
                    </a:lnTo>
                    <a:lnTo>
                      <a:pt x="441" y="792"/>
                    </a:lnTo>
                    <a:lnTo>
                      <a:pt x="448" y="780"/>
                    </a:lnTo>
                    <a:lnTo>
                      <a:pt x="456" y="767"/>
                    </a:lnTo>
                    <a:lnTo>
                      <a:pt x="437" y="754"/>
                    </a:lnTo>
                    <a:lnTo>
                      <a:pt x="431" y="760"/>
                    </a:lnTo>
                    <a:lnTo>
                      <a:pt x="427" y="767"/>
                    </a:lnTo>
                    <a:lnTo>
                      <a:pt x="421" y="773"/>
                    </a:lnTo>
                    <a:lnTo>
                      <a:pt x="415" y="780"/>
                    </a:lnTo>
                    <a:lnTo>
                      <a:pt x="409" y="786"/>
                    </a:lnTo>
                    <a:lnTo>
                      <a:pt x="403" y="793"/>
                    </a:lnTo>
                    <a:lnTo>
                      <a:pt x="398" y="799"/>
                    </a:lnTo>
                    <a:lnTo>
                      <a:pt x="392" y="806"/>
                    </a:lnTo>
                    <a:lnTo>
                      <a:pt x="386" y="809"/>
                    </a:lnTo>
                    <a:lnTo>
                      <a:pt x="380" y="811"/>
                    </a:lnTo>
                    <a:lnTo>
                      <a:pt x="372" y="811"/>
                    </a:lnTo>
                    <a:lnTo>
                      <a:pt x="364" y="806"/>
                    </a:lnTo>
                    <a:lnTo>
                      <a:pt x="373" y="802"/>
                    </a:lnTo>
                    <a:lnTo>
                      <a:pt x="380" y="793"/>
                    </a:lnTo>
                    <a:lnTo>
                      <a:pt x="388" y="782"/>
                    </a:lnTo>
                    <a:lnTo>
                      <a:pt x="396" y="769"/>
                    </a:lnTo>
                    <a:lnTo>
                      <a:pt x="385" y="753"/>
                    </a:lnTo>
                    <a:lnTo>
                      <a:pt x="377" y="757"/>
                    </a:lnTo>
                    <a:lnTo>
                      <a:pt x="370" y="763"/>
                    </a:lnTo>
                    <a:lnTo>
                      <a:pt x="363" y="770"/>
                    </a:lnTo>
                    <a:lnTo>
                      <a:pt x="357" y="777"/>
                    </a:lnTo>
                    <a:lnTo>
                      <a:pt x="350" y="786"/>
                    </a:lnTo>
                    <a:lnTo>
                      <a:pt x="343" y="793"/>
                    </a:lnTo>
                    <a:lnTo>
                      <a:pt x="335" y="800"/>
                    </a:lnTo>
                    <a:lnTo>
                      <a:pt x="325" y="806"/>
                    </a:lnTo>
                    <a:lnTo>
                      <a:pt x="317" y="803"/>
                    </a:lnTo>
                    <a:lnTo>
                      <a:pt x="320" y="790"/>
                    </a:lnTo>
                    <a:lnTo>
                      <a:pt x="328" y="780"/>
                    </a:lnTo>
                    <a:lnTo>
                      <a:pt x="337" y="770"/>
                    </a:lnTo>
                    <a:lnTo>
                      <a:pt x="343" y="760"/>
                    </a:lnTo>
                    <a:lnTo>
                      <a:pt x="330" y="743"/>
                    </a:lnTo>
                    <a:lnTo>
                      <a:pt x="324" y="746"/>
                    </a:lnTo>
                    <a:lnTo>
                      <a:pt x="318" y="750"/>
                    </a:lnTo>
                    <a:lnTo>
                      <a:pt x="312" y="756"/>
                    </a:lnTo>
                    <a:lnTo>
                      <a:pt x="307" y="761"/>
                    </a:lnTo>
                    <a:lnTo>
                      <a:pt x="301" y="767"/>
                    </a:lnTo>
                    <a:lnTo>
                      <a:pt x="294" y="773"/>
                    </a:lnTo>
                    <a:lnTo>
                      <a:pt x="288" y="780"/>
                    </a:lnTo>
                    <a:lnTo>
                      <a:pt x="281" y="786"/>
                    </a:lnTo>
                    <a:lnTo>
                      <a:pt x="273" y="780"/>
                    </a:lnTo>
                    <a:lnTo>
                      <a:pt x="282" y="770"/>
                    </a:lnTo>
                    <a:lnTo>
                      <a:pt x="291" y="757"/>
                    </a:lnTo>
                    <a:lnTo>
                      <a:pt x="298" y="746"/>
                    </a:lnTo>
                    <a:lnTo>
                      <a:pt x="307" y="733"/>
                    </a:lnTo>
                    <a:lnTo>
                      <a:pt x="298" y="720"/>
                    </a:lnTo>
                    <a:lnTo>
                      <a:pt x="286" y="720"/>
                    </a:lnTo>
                    <a:lnTo>
                      <a:pt x="279" y="730"/>
                    </a:lnTo>
                    <a:lnTo>
                      <a:pt x="270" y="740"/>
                    </a:lnTo>
                    <a:lnTo>
                      <a:pt x="262" y="751"/>
                    </a:lnTo>
                    <a:lnTo>
                      <a:pt x="250" y="761"/>
                    </a:lnTo>
                    <a:lnTo>
                      <a:pt x="240" y="761"/>
                    </a:lnTo>
                    <a:lnTo>
                      <a:pt x="247" y="744"/>
                    </a:lnTo>
                    <a:lnTo>
                      <a:pt x="256" y="733"/>
                    </a:lnTo>
                    <a:lnTo>
                      <a:pt x="262" y="724"/>
                    </a:lnTo>
                    <a:lnTo>
                      <a:pt x="266" y="712"/>
                    </a:lnTo>
                    <a:lnTo>
                      <a:pt x="259" y="701"/>
                    </a:lnTo>
                    <a:lnTo>
                      <a:pt x="247" y="701"/>
                    </a:lnTo>
                    <a:lnTo>
                      <a:pt x="239" y="709"/>
                    </a:lnTo>
                    <a:lnTo>
                      <a:pt x="233" y="721"/>
                    </a:lnTo>
                    <a:lnTo>
                      <a:pt x="224" y="731"/>
                    </a:lnTo>
                    <a:lnTo>
                      <a:pt x="210" y="737"/>
                    </a:lnTo>
                    <a:lnTo>
                      <a:pt x="205" y="727"/>
                    </a:lnTo>
                    <a:lnTo>
                      <a:pt x="210" y="720"/>
                    </a:lnTo>
                    <a:lnTo>
                      <a:pt x="217" y="712"/>
                    </a:lnTo>
                    <a:lnTo>
                      <a:pt x="226" y="704"/>
                    </a:lnTo>
                    <a:lnTo>
                      <a:pt x="236" y="694"/>
                    </a:lnTo>
                    <a:lnTo>
                      <a:pt x="223" y="676"/>
                    </a:lnTo>
                    <a:lnTo>
                      <a:pt x="214" y="678"/>
                    </a:lnTo>
                    <a:lnTo>
                      <a:pt x="207" y="683"/>
                    </a:lnTo>
                    <a:lnTo>
                      <a:pt x="201" y="689"/>
                    </a:lnTo>
                    <a:lnTo>
                      <a:pt x="194" y="695"/>
                    </a:lnTo>
                    <a:lnTo>
                      <a:pt x="187" y="705"/>
                    </a:lnTo>
                    <a:lnTo>
                      <a:pt x="181" y="702"/>
                    </a:lnTo>
                    <a:lnTo>
                      <a:pt x="185" y="698"/>
                    </a:lnTo>
                    <a:lnTo>
                      <a:pt x="189" y="689"/>
                    </a:lnTo>
                    <a:lnTo>
                      <a:pt x="191" y="679"/>
                    </a:lnTo>
                    <a:lnTo>
                      <a:pt x="192" y="669"/>
                    </a:lnTo>
                    <a:lnTo>
                      <a:pt x="172" y="666"/>
                    </a:lnTo>
                    <a:lnTo>
                      <a:pt x="161" y="688"/>
                    </a:lnTo>
                    <a:lnTo>
                      <a:pt x="149" y="685"/>
                    </a:lnTo>
                    <a:lnTo>
                      <a:pt x="143" y="676"/>
                    </a:lnTo>
                    <a:lnTo>
                      <a:pt x="149" y="669"/>
                    </a:lnTo>
                    <a:lnTo>
                      <a:pt x="155" y="662"/>
                    </a:lnTo>
                    <a:lnTo>
                      <a:pt x="162" y="656"/>
                    </a:lnTo>
                    <a:lnTo>
                      <a:pt x="166" y="647"/>
                    </a:lnTo>
                    <a:lnTo>
                      <a:pt x="159" y="634"/>
                    </a:lnTo>
                    <a:lnTo>
                      <a:pt x="149" y="636"/>
                    </a:lnTo>
                    <a:lnTo>
                      <a:pt x="142" y="640"/>
                    </a:lnTo>
                    <a:lnTo>
                      <a:pt x="134" y="644"/>
                    </a:lnTo>
                    <a:lnTo>
                      <a:pt x="127" y="650"/>
                    </a:lnTo>
                    <a:lnTo>
                      <a:pt x="119" y="657"/>
                    </a:lnTo>
                    <a:lnTo>
                      <a:pt x="107" y="653"/>
                    </a:lnTo>
                    <a:lnTo>
                      <a:pt x="114" y="646"/>
                    </a:lnTo>
                    <a:lnTo>
                      <a:pt x="121" y="640"/>
                    </a:lnTo>
                    <a:lnTo>
                      <a:pt x="129" y="634"/>
                    </a:lnTo>
                    <a:lnTo>
                      <a:pt x="136" y="626"/>
                    </a:lnTo>
                    <a:lnTo>
                      <a:pt x="129" y="614"/>
                    </a:lnTo>
                    <a:lnTo>
                      <a:pt x="119" y="614"/>
                    </a:lnTo>
                    <a:lnTo>
                      <a:pt x="108" y="620"/>
                    </a:lnTo>
                    <a:lnTo>
                      <a:pt x="98" y="627"/>
                    </a:lnTo>
                    <a:lnTo>
                      <a:pt x="88" y="626"/>
                    </a:lnTo>
                    <a:lnTo>
                      <a:pt x="97" y="617"/>
                    </a:lnTo>
                    <a:lnTo>
                      <a:pt x="107" y="608"/>
                    </a:lnTo>
                    <a:lnTo>
                      <a:pt x="114" y="597"/>
                    </a:lnTo>
                    <a:lnTo>
                      <a:pt x="121" y="582"/>
                    </a:lnTo>
                    <a:lnTo>
                      <a:pt x="108" y="574"/>
                    </a:lnTo>
                    <a:lnTo>
                      <a:pt x="100" y="575"/>
                    </a:lnTo>
                    <a:lnTo>
                      <a:pt x="94" y="581"/>
                    </a:lnTo>
                    <a:lnTo>
                      <a:pt x="87" y="588"/>
                    </a:lnTo>
                    <a:lnTo>
                      <a:pt x="78" y="595"/>
                    </a:lnTo>
                    <a:lnTo>
                      <a:pt x="75" y="588"/>
                    </a:lnTo>
                    <a:lnTo>
                      <a:pt x="84" y="579"/>
                    </a:lnTo>
                    <a:lnTo>
                      <a:pt x="93" y="572"/>
                    </a:lnTo>
                    <a:lnTo>
                      <a:pt x="100" y="565"/>
                    </a:lnTo>
                    <a:lnTo>
                      <a:pt x="108" y="555"/>
                    </a:lnTo>
                    <a:lnTo>
                      <a:pt x="94" y="539"/>
                    </a:lnTo>
                    <a:lnTo>
                      <a:pt x="91" y="543"/>
                    </a:lnTo>
                    <a:lnTo>
                      <a:pt x="84" y="546"/>
                    </a:lnTo>
                    <a:lnTo>
                      <a:pt x="74" y="549"/>
                    </a:lnTo>
                    <a:lnTo>
                      <a:pt x="64" y="553"/>
                    </a:lnTo>
                    <a:lnTo>
                      <a:pt x="64" y="532"/>
                    </a:lnTo>
                    <a:lnTo>
                      <a:pt x="67" y="526"/>
                    </a:lnTo>
                    <a:lnTo>
                      <a:pt x="75" y="523"/>
                    </a:lnTo>
                    <a:lnTo>
                      <a:pt x="82" y="519"/>
                    </a:lnTo>
                    <a:lnTo>
                      <a:pt x="85" y="509"/>
                    </a:lnTo>
                    <a:lnTo>
                      <a:pt x="71" y="496"/>
                    </a:lnTo>
                    <a:lnTo>
                      <a:pt x="49" y="509"/>
                    </a:lnTo>
                    <a:lnTo>
                      <a:pt x="52" y="497"/>
                    </a:lnTo>
                    <a:lnTo>
                      <a:pt x="59" y="490"/>
                    </a:lnTo>
                    <a:lnTo>
                      <a:pt x="69" y="484"/>
                    </a:lnTo>
                    <a:lnTo>
                      <a:pt x="78" y="474"/>
                    </a:lnTo>
                    <a:lnTo>
                      <a:pt x="72" y="461"/>
                    </a:lnTo>
                    <a:lnTo>
                      <a:pt x="65" y="459"/>
                    </a:lnTo>
                    <a:lnTo>
                      <a:pt x="58" y="461"/>
                    </a:lnTo>
                    <a:lnTo>
                      <a:pt x="51" y="464"/>
                    </a:lnTo>
                    <a:lnTo>
                      <a:pt x="42" y="467"/>
                    </a:lnTo>
                    <a:lnTo>
                      <a:pt x="45" y="458"/>
                    </a:lnTo>
                    <a:lnTo>
                      <a:pt x="52" y="454"/>
                    </a:lnTo>
                    <a:lnTo>
                      <a:pt x="59" y="448"/>
                    </a:lnTo>
                    <a:lnTo>
                      <a:pt x="62" y="438"/>
                    </a:lnTo>
                    <a:lnTo>
                      <a:pt x="54" y="426"/>
                    </a:lnTo>
                    <a:lnTo>
                      <a:pt x="46" y="428"/>
                    </a:lnTo>
                    <a:lnTo>
                      <a:pt x="39" y="432"/>
                    </a:lnTo>
                    <a:lnTo>
                      <a:pt x="32" y="438"/>
                    </a:lnTo>
                    <a:lnTo>
                      <a:pt x="25" y="439"/>
                    </a:lnTo>
                    <a:lnTo>
                      <a:pt x="32" y="432"/>
                    </a:lnTo>
                    <a:lnTo>
                      <a:pt x="38" y="425"/>
                    </a:lnTo>
                    <a:lnTo>
                      <a:pt x="40" y="418"/>
                    </a:lnTo>
                    <a:lnTo>
                      <a:pt x="35" y="407"/>
                    </a:lnTo>
                    <a:lnTo>
                      <a:pt x="30" y="405"/>
                    </a:lnTo>
                    <a:lnTo>
                      <a:pt x="23" y="406"/>
                    </a:lnTo>
                    <a:lnTo>
                      <a:pt x="16" y="409"/>
                    </a:lnTo>
                    <a:lnTo>
                      <a:pt x="9" y="413"/>
                    </a:lnTo>
                    <a:lnTo>
                      <a:pt x="1" y="407"/>
                    </a:lnTo>
                    <a:lnTo>
                      <a:pt x="0" y="400"/>
                    </a:lnTo>
                    <a:lnTo>
                      <a:pt x="0" y="393"/>
                    </a:lnTo>
                    <a:lnTo>
                      <a:pt x="0" y="386"/>
                    </a:lnTo>
                    <a:lnTo>
                      <a:pt x="3" y="376"/>
                    </a:lnTo>
                    <a:lnTo>
                      <a:pt x="17" y="363"/>
                    </a:lnTo>
                    <a:lnTo>
                      <a:pt x="39" y="363"/>
                    </a:lnTo>
                    <a:lnTo>
                      <a:pt x="56" y="368"/>
                    </a:lnTo>
                    <a:lnTo>
                      <a:pt x="72" y="376"/>
                    </a:lnTo>
                    <a:lnTo>
                      <a:pt x="88" y="384"/>
                    </a:lnTo>
                    <a:lnTo>
                      <a:pt x="104" y="393"/>
                    </a:lnTo>
                    <a:lnTo>
                      <a:pt x="119" y="403"/>
                    </a:lnTo>
                    <a:lnTo>
                      <a:pt x="132" y="415"/>
                    </a:lnTo>
                    <a:lnTo>
                      <a:pt x="146" y="428"/>
                    </a:lnTo>
                    <a:lnTo>
                      <a:pt x="159" y="442"/>
                    </a:lnTo>
                    <a:lnTo>
                      <a:pt x="166" y="455"/>
                    </a:lnTo>
                    <a:lnTo>
                      <a:pt x="175" y="467"/>
                    </a:lnTo>
                    <a:lnTo>
                      <a:pt x="184" y="477"/>
                    </a:lnTo>
                    <a:lnTo>
                      <a:pt x="192" y="487"/>
                    </a:lnTo>
                    <a:lnTo>
                      <a:pt x="201" y="497"/>
                    </a:lnTo>
                    <a:lnTo>
                      <a:pt x="208" y="509"/>
                    </a:lnTo>
                    <a:lnTo>
                      <a:pt x="215" y="522"/>
                    </a:lnTo>
                    <a:lnTo>
                      <a:pt x="221" y="535"/>
                    </a:lnTo>
                    <a:lnTo>
                      <a:pt x="247" y="536"/>
                    </a:lnTo>
                    <a:lnTo>
                      <a:pt x="273" y="535"/>
                    </a:lnTo>
                    <a:lnTo>
                      <a:pt x="301" y="532"/>
                    </a:lnTo>
                    <a:lnTo>
                      <a:pt x="330" y="526"/>
                    </a:lnTo>
                    <a:lnTo>
                      <a:pt x="357" y="519"/>
                    </a:lnTo>
                    <a:lnTo>
                      <a:pt x="385" y="511"/>
                    </a:lnTo>
                    <a:lnTo>
                      <a:pt x="414" y="504"/>
                    </a:lnTo>
                    <a:lnTo>
                      <a:pt x="441" y="498"/>
                    </a:lnTo>
                    <a:lnTo>
                      <a:pt x="445" y="488"/>
                    </a:lnTo>
                    <a:lnTo>
                      <a:pt x="422" y="484"/>
                    </a:lnTo>
                    <a:lnTo>
                      <a:pt x="398" y="484"/>
                    </a:lnTo>
                    <a:lnTo>
                      <a:pt x="372" y="487"/>
                    </a:lnTo>
                    <a:lnTo>
                      <a:pt x="347" y="491"/>
                    </a:lnTo>
                    <a:lnTo>
                      <a:pt x="321" y="497"/>
                    </a:lnTo>
                    <a:lnTo>
                      <a:pt x="295" y="503"/>
                    </a:lnTo>
                    <a:lnTo>
                      <a:pt x="269" y="507"/>
                    </a:lnTo>
                    <a:lnTo>
                      <a:pt x="244" y="509"/>
                    </a:lnTo>
                    <a:lnTo>
                      <a:pt x="228" y="484"/>
                    </a:lnTo>
                    <a:lnTo>
                      <a:pt x="230" y="481"/>
                    </a:lnTo>
                    <a:lnTo>
                      <a:pt x="244" y="483"/>
                    </a:lnTo>
                    <a:lnTo>
                      <a:pt x="260" y="483"/>
                    </a:lnTo>
                    <a:lnTo>
                      <a:pt x="275" y="481"/>
                    </a:lnTo>
                    <a:lnTo>
                      <a:pt x="291" y="480"/>
                    </a:lnTo>
                    <a:lnTo>
                      <a:pt x="305" y="475"/>
                    </a:lnTo>
                    <a:lnTo>
                      <a:pt x="318" y="470"/>
                    </a:lnTo>
                    <a:lnTo>
                      <a:pt x="333" y="462"/>
                    </a:lnTo>
                    <a:lnTo>
                      <a:pt x="346" y="454"/>
                    </a:lnTo>
                    <a:lnTo>
                      <a:pt x="354" y="444"/>
                    </a:lnTo>
                    <a:lnTo>
                      <a:pt x="362" y="433"/>
                    </a:lnTo>
                    <a:lnTo>
                      <a:pt x="367" y="423"/>
                    </a:lnTo>
                    <a:lnTo>
                      <a:pt x="375" y="413"/>
                    </a:lnTo>
                    <a:lnTo>
                      <a:pt x="375" y="405"/>
                    </a:lnTo>
                    <a:lnTo>
                      <a:pt x="375" y="397"/>
                    </a:lnTo>
                    <a:lnTo>
                      <a:pt x="375" y="390"/>
                    </a:lnTo>
                    <a:lnTo>
                      <a:pt x="376" y="381"/>
                    </a:lnTo>
                    <a:lnTo>
                      <a:pt x="386" y="380"/>
                    </a:lnTo>
                    <a:lnTo>
                      <a:pt x="396" y="377"/>
                    </a:lnTo>
                    <a:lnTo>
                      <a:pt x="406" y="374"/>
                    </a:lnTo>
                    <a:lnTo>
                      <a:pt x="418" y="370"/>
                    </a:lnTo>
                    <a:lnTo>
                      <a:pt x="428" y="366"/>
                    </a:lnTo>
                    <a:lnTo>
                      <a:pt x="440" y="357"/>
                    </a:lnTo>
                    <a:lnTo>
                      <a:pt x="450" y="347"/>
                    </a:lnTo>
                    <a:lnTo>
                      <a:pt x="460" y="334"/>
                    </a:lnTo>
                    <a:lnTo>
                      <a:pt x="466" y="312"/>
                    </a:lnTo>
                    <a:lnTo>
                      <a:pt x="469" y="289"/>
                    </a:lnTo>
                    <a:lnTo>
                      <a:pt x="469" y="267"/>
                    </a:lnTo>
                    <a:lnTo>
                      <a:pt x="469" y="243"/>
                    </a:lnTo>
                    <a:lnTo>
                      <a:pt x="474" y="237"/>
                    </a:lnTo>
                    <a:lnTo>
                      <a:pt x="482" y="231"/>
                    </a:lnTo>
                    <a:lnTo>
                      <a:pt x="489" y="227"/>
                    </a:lnTo>
                    <a:lnTo>
                      <a:pt x="500" y="223"/>
                    </a:lnTo>
                    <a:lnTo>
                      <a:pt x="512" y="211"/>
                    </a:lnTo>
                    <a:lnTo>
                      <a:pt x="518" y="196"/>
                    </a:lnTo>
                    <a:lnTo>
                      <a:pt x="523" y="182"/>
                    </a:lnTo>
                    <a:lnTo>
                      <a:pt x="529" y="166"/>
                    </a:lnTo>
                    <a:lnTo>
                      <a:pt x="536" y="147"/>
                    </a:lnTo>
                    <a:lnTo>
                      <a:pt x="536" y="140"/>
                    </a:lnTo>
                    <a:lnTo>
                      <a:pt x="539" y="133"/>
                    </a:lnTo>
                    <a:lnTo>
                      <a:pt x="541" y="127"/>
                    </a:lnTo>
                    <a:lnTo>
                      <a:pt x="541" y="118"/>
                    </a:lnTo>
                    <a:lnTo>
                      <a:pt x="552" y="114"/>
                    </a:lnTo>
                    <a:lnTo>
                      <a:pt x="563" y="108"/>
                    </a:lnTo>
                    <a:lnTo>
                      <a:pt x="571" y="103"/>
                    </a:lnTo>
                    <a:lnTo>
                      <a:pt x="581" y="97"/>
                    </a:lnTo>
                    <a:lnTo>
                      <a:pt x="599" y="77"/>
                    </a:lnTo>
                    <a:lnTo>
                      <a:pt x="602" y="74"/>
                    </a:lnTo>
                    <a:lnTo>
                      <a:pt x="604" y="66"/>
                    </a:lnTo>
                    <a:lnTo>
                      <a:pt x="607" y="56"/>
                    </a:lnTo>
                    <a:lnTo>
                      <a:pt x="613" y="46"/>
                    </a:lnTo>
                    <a:lnTo>
                      <a:pt x="612" y="35"/>
                    </a:lnTo>
                    <a:lnTo>
                      <a:pt x="609" y="25"/>
                    </a:lnTo>
                    <a:lnTo>
                      <a:pt x="609" y="13"/>
                    </a:lnTo>
                    <a:lnTo>
                      <a:pt x="613" y="0"/>
                    </a:lnTo>
                    <a:lnTo>
                      <a:pt x="646" y="22"/>
                    </a:lnTo>
                    <a:lnTo>
                      <a:pt x="678" y="46"/>
                    </a:lnTo>
                    <a:lnTo>
                      <a:pt x="707" y="72"/>
                    </a:lnTo>
                    <a:lnTo>
                      <a:pt x="735" y="100"/>
                    </a:lnTo>
                    <a:lnTo>
                      <a:pt x="761" y="127"/>
                    </a:lnTo>
                    <a:lnTo>
                      <a:pt x="787" y="157"/>
                    </a:lnTo>
                    <a:lnTo>
                      <a:pt x="811" y="188"/>
                    </a:lnTo>
                    <a:lnTo>
                      <a:pt x="834" y="218"/>
                    </a:lnTo>
                    <a:lnTo>
                      <a:pt x="859" y="249"/>
                    </a:lnTo>
                    <a:lnTo>
                      <a:pt x="884" y="277"/>
                    </a:lnTo>
                    <a:lnTo>
                      <a:pt x="908" y="306"/>
                    </a:lnTo>
                    <a:lnTo>
                      <a:pt x="933" y="335"/>
                    </a:lnTo>
                    <a:lnTo>
                      <a:pt x="960" y="361"/>
                    </a:lnTo>
                    <a:lnTo>
                      <a:pt x="989" y="386"/>
                    </a:lnTo>
                    <a:lnTo>
                      <a:pt x="1019" y="409"/>
                    </a:lnTo>
                    <a:lnTo>
                      <a:pt x="1051" y="429"/>
                    </a:lnTo>
                    <a:lnTo>
                      <a:pt x="1080" y="448"/>
                    </a:lnTo>
                    <a:lnTo>
                      <a:pt x="1111" y="465"/>
                    </a:lnTo>
                    <a:lnTo>
                      <a:pt x="1142" y="481"/>
                    </a:lnTo>
                    <a:lnTo>
                      <a:pt x="1176" y="497"/>
                    </a:lnTo>
                    <a:lnTo>
                      <a:pt x="1209" y="511"/>
                    </a:lnTo>
                    <a:lnTo>
                      <a:pt x="1244" y="526"/>
                    </a:lnTo>
                    <a:lnTo>
                      <a:pt x="1280" y="539"/>
                    </a:lnTo>
                    <a:lnTo>
                      <a:pt x="1316" y="552"/>
                    </a:lnTo>
                    <a:lnTo>
                      <a:pt x="1354" y="565"/>
                    </a:lnTo>
                    <a:lnTo>
                      <a:pt x="1391" y="576"/>
                    </a:lnTo>
                    <a:lnTo>
                      <a:pt x="1429" y="588"/>
                    </a:lnTo>
                    <a:lnTo>
                      <a:pt x="1468" y="600"/>
                    </a:lnTo>
                    <a:lnTo>
                      <a:pt x="1505" y="613"/>
                    </a:lnTo>
                    <a:lnTo>
                      <a:pt x="1543" y="624"/>
                    </a:lnTo>
                    <a:lnTo>
                      <a:pt x="1582" y="636"/>
                    </a:lnTo>
                    <a:lnTo>
                      <a:pt x="1620" y="649"/>
                    </a:lnTo>
                    <a:lnTo>
                      <a:pt x="1644" y="655"/>
                    </a:lnTo>
                    <a:lnTo>
                      <a:pt x="1667" y="662"/>
                    </a:lnTo>
                    <a:lnTo>
                      <a:pt x="1689" y="669"/>
                    </a:lnTo>
                    <a:lnTo>
                      <a:pt x="1709" y="676"/>
                    </a:lnTo>
                    <a:lnTo>
                      <a:pt x="1731" y="683"/>
                    </a:lnTo>
                    <a:lnTo>
                      <a:pt x="1751" y="689"/>
                    </a:lnTo>
                    <a:lnTo>
                      <a:pt x="1771" y="695"/>
                    </a:lnTo>
                    <a:lnTo>
                      <a:pt x="1793" y="699"/>
                    </a:lnTo>
                    <a:lnTo>
                      <a:pt x="1834" y="711"/>
                    </a:lnTo>
                    <a:lnTo>
                      <a:pt x="1874" y="722"/>
                    </a:lnTo>
                    <a:lnTo>
                      <a:pt x="1915" y="735"/>
                    </a:lnTo>
                    <a:lnTo>
                      <a:pt x="1955" y="747"/>
                    </a:lnTo>
                    <a:lnTo>
                      <a:pt x="1996" y="760"/>
                    </a:lnTo>
                    <a:lnTo>
                      <a:pt x="2036" y="773"/>
                    </a:lnTo>
                    <a:lnTo>
                      <a:pt x="2075" y="786"/>
                    </a:lnTo>
                    <a:lnTo>
                      <a:pt x="2116" y="799"/>
                    </a:lnTo>
                    <a:lnTo>
                      <a:pt x="2156" y="812"/>
                    </a:lnTo>
                    <a:lnTo>
                      <a:pt x="2195" y="825"/>
                    </a:lnTo>
                    <a:lnTo>
                      <a:pt x="2234" y="838"/>
                    </a:lnTo>
                    <a:lnTo>
                      <a:pt x="2273" y="852"/>
                    </a:lnTo>
                    <a:lnTo>
                      <a:pt x="2312" y="865"/>
                    </a:lnTo>
                    <a:lnTo>
                      <a:pt x="2351" y="880"/>
                    </a:lnTo>
                    <a:lnTo>
                      <a:pt x="2389" y="893"/>
                    </a:lnTo>
                    <a:lnTo>
                      <a:pt x="2426" y="907"/>
                    </a:lnTo>
                    <a:lnTo>
                      <a:pt x="2429" y="1091"/>
                    </a:lnTo>
                    <a:lnTo>
                      <a:pt x="2431" y="1274"/>
                    </a:lnTo>
                    <a:lnTo>
                      <a:pt x="2431" y="1458"/>
                    </a:lnTo>
                    <a:lnTo>
                      <a:pt x="2429" y="1641"/>
                    </a:lnTo>
                    <a:lnTo>
                      <a:pt x="2421" y="1654"/>
                    </a:lnTo>
                    <a:lnTo>
                      <a:pt x="2412" y="1670"/>
                    </a:lnTo>
                    <a:lnTo>
                      <a:pt x="2402" y="1688"/>
                    </a:lnTo>
                    <a:lnTo>
                      <a:pt x="2390" y="1705"/>
                    </a:lnTo>
                    <a:lnTo>
                      <a:pt x="2374" y="1708"/>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140600" y="2816280"/>
                <a:ext cx="12600" cy="9360"/>
              </a:xfrm>
              <a:custGeom>
                <a:avLst/>
                <a:gdLst/>
                <a:ahLst/>
                <a:rect l="l" t="t" r="r" b="b"/>
                <a:pathLst>
                  <a:path w="26" h="18">
                    <a:moveTo>
                      <a:pt x="10" y="18"/>
                    </a:moveTo>
                    <a:lnTo>
                      <a:pt x="0" y="9"/>
                    </a:lnTo>
                    <a:lnTo>
                      <a:pt x="2" y="2"/>
                    </a:lnTo>
                    <a:lnTo>
                      <a:pt x="11" y="0"/>
                    </a:lnTo>
                    <a:lnTo>
                      <a:pt x="20" y="0"/>
                    </a:lnTo>
                    <a:lnTo>
                      <a:pt x="26" y="5"/>
                    </a:lnTo>
                    <a:lnTo>
                      <a:pt x="10"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
              <p:cNvSpPr/>
              <p:nvPr/>
            </p:nvSpPr>
            <p:spPr>
              <a:xfrm>
                <a:off x="7958160" y="2795760"/>
                <a:ext cx="9360" cy="10800"/>
              </a:xfrm>
              <a:custGeom>
                <a:avLst/>
                <a:gdLst/>
                <a:ahLst/>
                <a:rect l="l" t="t" r="r" b="b"/>
                <a:pathLst>
                  <a:path w="19" h="23">
                    <a:moveTo>
                      <a:pt x="6" y="23"/>
                    </a:moveTo>
                    <a:lnTo>
                      <a:pt x="0" y="20"/>
                    </a:lnTo>
                    <a:lnTo>
                      <a:pt x="0" y="13"/>
                    </a:lnTo>
                    <a:lnTo>
                      <a:pt x="2" y="4"/>
                    </a:lnTo>
                    <a:lnTo>
                      <a:pt x="6" y="0"/>
                    </a:lnTo>
                    <a:lnTo>
                      <a:pt x="12" y="6"/>
                    </a:lnTo>
                    <a:lnTo>
                      <a:pt x="19" y="13"/>
                    </a:lnTo>
                    <a:lnTo>
                      <a:pt x="19" y="19"/>
                    </a:lnTo>
                    <a:lnTo>
                      <a:pt x="6"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9" name=""/>
              <p:cNvSpPr/>
              <p:nvPr/>
            </p:nvSpPr>
            <p:spPr>
              <a:xfrm>
                <a:off x="8053560" y="2793960"/>
                <a:ext cx="9360" cy="9720"/>
              </a:xfrm>
              <a:custGeom>
                <a:avLst/>
                <a:gdLst/>
                <a:ahLst/>
                <a:rect l="l" t="t" r="r" b="b"/>
                <a:pathLst>
                  <a:path w="18" h="19">
                    <a:moveTo>
                      <a:pt x="4" y="19"/>
                    </a:moveTo>
                    <a:lnTo>
                      <a:pt x="0" y="16"/>
                    </a:lnTo>
                    <a:lnTo>
                      <a:pt x="0" y="7"/>
                    </a:lnTo>
                    <a:lnTo>
                      <a:pt x="3" y="1"/>
                    </a:lnTo>
                    <a:lnTo>
                      <a:pt x="10" y="0"/>
                    </a:lnTo>
                    <a:lnTo>
                      <a:pt x="16" y="4"/>
                    </a:lnTo>
                    <a:lnTo>
                      <a:pt x="18" y="13"/>
                    </a:lnTo>
                    <a:lnTo>
                      <a:pt x="16" y="1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0" name=""/>
              <p:cNvSpPr/>
              <p:nvPr/>
            </p:nvSpPr>
            <p:spPr>
              <a:xfrm>
                <a:off x="8120160" y="2778120"/>
                <a:ext cx="9360" cy="12600"/>
              </a:xfrm>
              <a:custGeom>
                <a:avLst/>
                <a:gdLst/>
                <a:ahLst/>
                <a:rect l="l" t="t" r="r" b="b"/>
                <a:pathLst>
                  <a:path w="19" h="26">
                    <a:moveTo>
                      <a:pt x="9" y="26"/>
                    </a:moveTo>
                    <a:lnTo>
                      <a:pt x="3" y="21"/>
                    </a:lnTo>
                    <a:lnTo>
                      <a:pt x="0" y="14"/>
                    </a:lnTo>
                    <a:lnTo>
                      <a:pt x="0" y="5"/>
                    </a:lnTo>
                    <a:lnTo>
                      <a:pt x="6" y="0"/>
                    </a:lnTo>
                    <a:lnTo>
                      <a:pt x="14" y="3"/>
                    </a:lnTo>
                    <a:lnTo>
                      <a:pt x="19" y="11"/>
                    </a:lnTo>
                    <a:lnTo>
                      <a:pt x="17" y="20"/>
                    </a:lnTo>
                    <a:lnTo>
                      <a:pt x="9"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1" name=""/>
              <p:cNvSpPr/>
              <p:nvPr/>
            </p:nvSpPr>
            <p:spPr>
              <a:xfrm>
                <a:off x="8221680" y="2768760"/>
                <a:ext cx="7920" cy="10800"/>
              </a:xfrm>
              <a:custGeom>
                <a:avLst/>
                <a:gdLst/>
                <a:ahLst/>
                <a:rect l="l" t="t" r="r" b="b"/>
                <a:pathLst>
                  <a:path w="17" h="22">
                    <a:moveTo>
                      <a:pt x="0" y="22"/>
                    </a:moveTo>
                    <a:lnTo>
                      <a:pt x="3" y="0"/>
                    </a:lnTo>
                    <a:lnTo>
                      <a:pt x="17" y="15"/>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2" name=""/>
              <p:cNvSpPr/>
              <p:nvPr/>
            </p:nvSpPr>
            <p:spPr>
              <a:xfrm>
                <a:off x="7089840" y="2776680"/>
                <a:ext cx="11160" cy="10800"/>
              </a:xfrm>
              <a:custGeom>
                <a:avLst/>
                <a:gdLst/>
                <a:ahLst/>
                <a:rect l="l" t="t" r="r" b="b"/>
                <a:pathLst>
                  <a:path w="21" h="23">
                    <a:moveTo>
                      <a:pt x="7" y="23"/>
                    </a:moveTo>
                    <a:lnTo>
                      <a:pt x="0" y="4"/>
                    </a:lnTo>
                    <a:lnTo>
                      <a:pt x="8" y="0"/>
                    </a:lnTo>
                    <a:lnTo>
                      <a:pt x="15" y="3"/>
                    </a:lnTo>
                    <a:lnTo>
                      <a:pt x="20" y="11"/>
                    </a:lnTo>
                    <a:lnTo>
                      <a:pt x="21" y="21"/>
                    </a:lnTo>
                    <a:lnTo>
                      <a:pt x="7"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3" name=""/>
              <p:cNvSpPr/>
              <p:nvPr/>
            </p:nvSpPr>
            <p:spPr>
              <a:xfrm>
                <a:off x="8339040" y="2716200"/>
                <a:ext cx="39960" cy="50760"/>
              </a:xfrm>
              <a:custGeom>
                <a:avLst/>
                <a:gdLst/>
                <a:ahLst/>
                <a:rect l="l" t="t" r="r" b="b"/>
                <a:pathLst>
                  <a:path w="75" h="95">
                    <a:moveTo>
                      <a:pt x="7" y="95"/>
                    </a:moveTo>
                    <a:lnTo>
                      <a:pt x="0" y="77"/>
                    </a:lnTo>
                    <a:lnTo>
                      <a:pt x="9" y="68"/>
                    </a:lnTo>
                    <a:lnTo>
                      <a:pt x="17" y="58"/>
                    </a:lnTo>
                    <a:lnTo>
                      <a:pt x="25" y="49"/>
                    </a:lnTo>
                    <a:lnTo>
                      <a:pt x="32" y="39"/>
                    </a:lnTo>
                    <a:lnTo>
                      <a:pt x="39" y="29"/>
                    </a:lnTo>
                    <a:lnTo>
                      <a:pt x="46" y="19"/>
                    </a:lnTo>
                    <a:lnTo>
                      <a:pt x="53" y="10"/>
                    </a:lnTo>
                    <a:lnTo>
                      <a:pt x="62" y="0"/>
                    </a:lnTo>
                    <a:lnTo>
                      <a:pt x="72" y="2"/>
                    </a:lnTo>
                    <a:lnTo>
                      <a:pt x="75" y="9"/>
                    </a:lnTo>
                    <a:lnTo>
                      <a:pt x="69" y="20"/>
                    </a:lnTo>
                    <a:lnTo>
                      <a:pt x="64" y="32"/>
                    </a:lnTo>
                    <a:lnTo>
                      <a:pt x="56" y="43"/>
                    </a:lnTo>
                    <a:lnTo>
                      <a:pt x="48" y="55"/>
                    </a:lnTo>
                    <a:lnTo>
                      <a:pt x="38" y="65"/>
                    </a:lnTo>
                    <a:lnTo>
                      <a:pt x="27" y="77"/>
                    </a:lnTo>
                    <a:lnTo>
                      <a:pt x="17" y="85"/>
                    </a:lnTo>
                    <a:lnTo>
                      <a:pt x="7"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7209000" y="2757600"/>
                <a:ext cx="14040" cy="12600"/>
              </a:xfrm>
              <a:custGeom>
                <a:avLst/>
                <a:gdLst/>
                <a:ahLst/>
                <a:rect l="l" t="t" r="r" b="b"/>
                <a:pathLst>
                  <a:path w="25" h="24">
                    <a:moveTo>
                      <a:pt x="15" y="24"/>
                    </a:moveTo>
                    <a:lnTo>
                      <a:pt x="0" y="5"/>
                    </a:lnTo>
                    <a:lnTo>
                      <a:pt x="7" y="0"/>
                    </a:lnTo>
                    <a:lnTo>
                      <a:pt x="15" y="1"/>
                    </a:lnTo>
                    <a:lnTo>
                      <a:pt x="20" y="8"/>
                    </a:lnTo>
                    <a:lnTo>
                      <a:pt x="25" y="18"/>
                    </a:lnTo>
                    <a:lnTo>
                      <a:pt x="1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5" name=""/>
              <p:cNvSpPr/>
              <p:nvPr/>
            </p:nvSpPr>
            <p:spPr>
              <a:xfrm>
                <a:off x="7402680" y="2751120"/>
                <a:ext cx="10800" cy="14400"/>
              </a:xfrm>
              <a:custGeom>
                <a:avLst/>
                <a:gdLst/>
                <a:ahLst/>
                <a:rect l="l" t="t" r="r" b="b"/>
                <a:pathLst>
                  <a:path w="19" h="26">
                    <a:moveTo>
                      <a:pt x="6" y="26"/>
                    </a:moveTo>
                    <a:lnTo>
                      <a:pt x="0" y="23"/>
                    </a:lnTo>
                    <a:lnTo>
                      <a:pt x="0" y="14"/>
                    </a:lnTo>
                    <a:lnTo>
                      <a:pt x="4" y="5"/>
                    </a:lnTo>
                    <a:lnTo>
                      <a:pt x="13" y="0"/>
                    </a:lnTo>
                    <a:lnTo>
                      <a:pt x="17" y="5"/>
                    </a:lnTo>
                    <a:lnTo>
                      <a:pt x="19" y="14"/>
                    </a:lnTo>
                    <a:lnTo>
                      <a:pt x="16" y="23"/>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6" name=""/>
              <p:cNvSpPr/>
              <p:nvPr/>
            </p:nvSpPr>
            <p:spPr>
              <a:xfrm>
                <a:off x="8013600" y="2744640"/>
                <a:ext cx="12960" cy="12960"/>
              </a:xfrm>
              <a:custGeom>
                <a:avLst/>
                <a:gdLst/>
                <a:ahLst/>
                <a:rect l="l" t="t" r="r" b="b"/>
                <a:pathLst>
                  <a:path w="22" h="22">
                    <a:moveTo>
                      <a:pt x="13" y="22"/>
                    </a:moveTo>
                    <a:lnTo>
                      <a:pt x="0" y="6"/>
                    </a:lnTo>
                    <a:lnTo>
                      <a:pt x="3" y="0"/>
                    </a:lnTo>
                    <a:lnTo>
                      <a:pt x="12" y="0"/>
                    </a:lnTo>
                    <a:lnTo>
                      <a:pt x="19" y="4"/>
                    </a:lnTo>
                    <a:lnTo>
                      <a:pt x="22" y="10"/>
                    </a:lnTo>
                    <a:lnTo>
                      <a:pt x="13"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87" name=""/>
              <p:cNvSpPr/>
              <p:nvPr/>
            </p:nvSpPr>
            <p:spPr>
              <a:xfrm>
                <a:off x="7334280" y="2749680"/>
                <a:ext cx="7920" cy="12600"/>
              </a:xfrm>
              <a:custGeom>
                <a:avLst/>
                <a:gdLst/>
                <a:ahLst/>
                <a:rect l="l" t="t" r="r" b="b"/>
                <a:pathLst>
                  <a:path w="16" h="26">
                    <a:moveTo>
                      <a:pt x="6" y="26"/>
                    </a:moveTo>
                    <a:lnTo>
                      <a:pt x="3" y="22"/>
                    </a:lnTo>
                    <a:lnTo>
                      <a:pt x="0" y="13"/>
                    </a:lnTo>
                    <a:lnTo>
                      <a:pt x="1" y="5"/>
                    </a:lnTo>
                    <a:lnTo>
                      <a:pt x="10" y="0"/>
                    </a:lnTo>
                    <a:lnTo>
                      <a:pt x="13" y="5"/>
                    </a:lnTo>
                    <a:lnTo>
                      <a:pt x="16" y="13"/>
                    </a:lnTo>
                    <a:lnTo>
                      <a:pt x="14" y="23"/>
                    </a:lnTo>
                    <a:lnTo>
                      <a:pt x="6"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8" name=""/>
              <p:cNvSpPr/>
              <p:nvPr/>
            </p:nvSpPr>
            <p:spPr>
              <a:xfrm>
                <a:off x="7020000" y="2752560"/>
                <a:ext cx="9360" cy="1116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
              <p:cNvSpPr/>
              <p:nvPr/>
            </p:nvSpPr>
            <p:spPr>
              <a:xfrm>
                <a:off x="8140680" y="2733840"/>
                <a:ext cx="9720" cy="10800"/>
              </a:xfrm>
              <a:custGeom>
                <a:avLst/>
                <a:gdLst/>
                <a:ahLst/>
                <a:rect l="l" t="t" r="r" b="b"/>
                <a:pathLst>
                  <a:path w="17" h="22">
                    <a:moveTo>
                      <a:pt x="9" y="22"/>
                    </a:moveTo>
                    <a:lnTo>
                      <a:pt x="0" y="0"/>
                    </a:lnTo>
                    <a:lnTo>
                      <a:pt x="17" y="3"/>
                    </a:lnTo>
                    <a:lnTo>
                      <a:pt x="9"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0" name=""/>
              <p:cNvSpPr/>
              <p:nvPr/>
            </p:nvSpPr>
            <p:spPr>
              <a:xfrm>
                <a:off x="7156440" y="2732040"/>
                <a:ext cx="7920" cy="11160"/>
              </a:xfrm>
              <a:custGeom>
                <a:avLst/>
                <a:gdLst/>
                <a:ahLst/>
                <a:rect l="l" t="t" r="r" b="b"/>
                <a:pathLst>
                  <a:path w="16" h="22">
                    <a:moveTo>
                      <a:pt x="4" y="22"/>
                    </a:moveTo>
                    <a:lnTo>
                      <a:pt x="0" y="0"/>
                    </a:lnTo>
                    <a:lnTo>
                      <a:pt x="7" y="0"/>
                    </a:lnTo>
                    <a:lnTo>
                      <a:pt x="13" y="4"/>
                    </a:lnTo>
                    <a:lnTo>
                      <a:pt x="16" y="12"/>
                    </a:lnTo>
                    <a:lnTo>
                      <a:pt x="13" y="22"/>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1" name=""/>
              <p:cNvSpPr/>
              <p:nvPr/>
            </p:nvSpPr>
            <p:spPr>
              <a:xfrm>
                <a:off x="7962840" y="2717640"/>
                <a:ext cx="11160" cy="11160"/>
              </a:xfrm>
              <a:custGeom>
                <a:avLst/>
                <a:gdLst/>
                <a:ahLst/>
                <a:rect l="l" t="t" r="r" b="b"/>
                <a:pathLst>
                  <a:path w="21" h="21">
                    <a:moveTo>
                      <a:pt x="5" y="21"/>
                    </a:moveTo>
                    <a:lnTo>
                      <a:pt x="0" y="3"/>
                    </a:lnTo>
                    <a:lnTo>
                      <a:pt x="5" y="0"/>
                    </a:lnTo>
                    <a:lnTo>
                      <a:pt x="13" y="2"/>
                    </a:lnTo>
                    <a:lnTo>
                      <a:pt x="18" y="8"/>
                    </a:lnTo>
                    <a:lnTo>
                      <a:pt x="21" y="15"/>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2" name=""/>
              <p:cNvSpPr/>
              <p:nvPr/>
            </p:nvSpPr>
            <p:spPr>
              <a:xfrm>
                <a:off x="8088480" y="2698920"/>
                <a:ext cx="10800" cy="10800"/>
              </a:xfrm>
              <a:custGeom>
                <a:avLst/>
                <a:gdLst/>
                <a:ahLst/>
                <a:rect l="l" t="t" r="r" b="b"/>
                <a:pathLst>
                  <a:path w="21" h="20">
                    <a:moveTo>
                      <a:pt x="11" y="20"/>
                    </a:moveTo>
                    <a:lnTo>
                      <a:pt x="0" y="3"/>
                    </a:lnTo>
                    <a:lnTo>
                      <a:pt x="7" y="0"/>
                    </a:lnTo>
                    <a:lnTo>
                      <a:pt x="14" y="3"/>
                    </a:lnTo>
                    <a:lnTo>
                      <a:pt x="18" y="10"/>
                    </a:lnTo>
                    <a:lnTo>
                      <a:pt x="21" y="19"/>
                    </a:lnTo>
                    <a:lnTo>
                      <a:pt x="11"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
              <p:cNvSpPr/>
              <p:nvPr/>
            </p:nvSpPr>
            <p:spPr>
              <a:xfrm>
                <a:off x="7269120" y="2700360"/>
                <a:ext cx="11160" cy="11160"/>
              </a:xfrm>
              <a:custGeom>
                <a:avLst/>
                <a:gdLst/>
                <a:ahLst/>
                <a:rect l="l" t="t" r="r" b="b"/>
                <a:pathLst>
                  <a:path w="19" h="21">
                    <a:moveTo>
                      <a:pt x="5" y="21"/>
                    </a:moveTo>
                    <a:lnTo>
                      <a:pt x="0" y="1"/>
                    </a:lnTo>
                    <a:lnTo>
                      <a:pt x="9" y="0"/>
                    </a:lnTo>
                    <a:lnTo>
                      <a:pt x="15" y="3"/>
                    </a:lnTo>
                    <a:lnTo>
                      <a:pt x="19" y="10"/>
                    </a:lnTo>
                    <a:lnTo>
                      <a:pt x="18" y="19"/>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4" name=""/>
              <p:cNvSpPr/>
              <p:nvPr/>
            </p:nvSpPr>
            <p:spPr>
              <a:xfrm>
                <a:off x="6994440" y="2700360"/>
                <a:ext cx="12960" cy="14400"/>
              </a:xfrm>
              <a:custGeom>
                <a:avLst/>
                <a:gdLst/>
                <a:ahLst/>
                <a:rect l="l" t="t" r="r" b="b"/>
                <a:pathLst>
                  <a:path w="24" h="25">
                    <a:moveTo>
                      <a:pt x="7" y="25"/>
                    </a:moveTo>
                    <a:lnTo>
                      <a:pt x="0" y="3"/>
                    </a:lnTo>
                    <a:lnTo>
                      <a:pt x="7" y="0"/>
                    </a:lnTo>
                    <a:lnTo>
                      <a:pt x="13" y="2"/>
                    </a:lnTo>
                    <a:lnTo>
                      <a:pt x="19" y="7"/>
                    </a:lnTo>
                    <a:lnTo>
                      <a:pt x="24" y="13"/>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5" name=""/>
              <p:cNvSpPr/>
              <p:nvPr/>
            </p:nvSpPr>
            <p:spPr>
              <a:xfrm>
                <a:off x="8034480" y="2676600"/>
                <a:ext cx="7920" cy="11160"/>
              </a:xfrm>
              <a:custGeom>
                <a:avLst/>
                <a:gdLst/>
                <a:ahLst/>
                <a:rect l="l" t="t" r="r" b="b"/>
                <a:pathLst>
                  <a:path w="15" h="19">
                    <a:moveTo>
                      <a:pt x="2" y="19"/>
                    </a:moveTo>
                    <a:lnTo>
                      <a:pt x="0" y="0"/>
                    </a:lnTo>
                    <a:lnTo>
                      <a:pt x="5" y="0"/>
                    </a:lnTo>
                    <a:lnTo>
                      <a:pt x="11" y="3"/>
                    </a:lnTo>
                    <a:lnTo>
                      <a:pt x="15" y="9"/>
                    </a:lnTo>
                    <a:lnTo>
                      <a:pt x="13" y="19"/>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6" name=""/>
              <p:cNvSpPr/>
              <p:nvPr/>
            </p:nvSpPr>
            <p:spPr>
              <a:xfrm>
                <a:off x="7094520" y="2679840"/>
                <a:ext cx="9720" cy="14040"/>
              </a:xfrm>
              <a:custGeom>
                <a:avLst/>
                <a:gdLst/>
                <a:ahLst/>
                <a:rect l="l" t="t" r="r" b="b"/>
                <a:pathLst>
                  <a:path w="18" h="26">
                    <a:moveTo>
                      <a:pt x="10" y="26"/>
                    </a:moveTo>
                    <a:lnTo>
                      <a:pt x="3" y="23"/>
                    </a:lnTo>
                    <a:lnTo>
                      <a:pt x="0" y="16"/>
                    </a:lnTo>
                    <a:lnTo>
                      <a:pt x="0" y="7"/>
                    </a:lnTo>
                    <a:lnTo>
                      <a:pt x="6" y="0"/>
                    </a:lnTo>
                    <a:lnTo>
                      <a:pt x="12" y="5"/>
                    </a:lnTo>
                    <a:lnTo>
                      <a:pt x="18" y="13"/>
                    </a:lnTo>
                    <a:lnTo>
                      <a:pt x="18" y="22"/>
                    </a:lnTo>
                    <a:lnTo>
                      <a:pt x="1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7" name=""/>
              <p:cNvSpPr/>
              <p:nvPr/>
            </p:nvSpPr>
            <p:spPr>
              <a:xfrm>
                <a:off x="7439040" y="2662200"/>
                <a:ext cx="9360" cy="14400"/>
              </a:xfrm>
              <a:custGeom>
                <a:avLst/>
                <a:gdLst/>
                <a:ahLst/>
                <a:rect l="l" t="t" r="r" b="b"/>
                <a:pathLst>
                  <a:path w="17" h="25">
                    <a:moveTo>
                      <a:pt x="7" y="25"/>
                    </a:moveTo>
                    <a:lnTo>
                      <a:pt x="0" y="9"/>
                    </a:lnTo>
                    <a:lnTo>
                      <a:pt x="16" y="0"/>
                    </a:lnTo>
                    <a:lnTo>
                      <a:pt x="17" y="6"/>
                    </a:lnTo>
                    <a:lnTo>
                      <a:pt x="17" y="13"/>
                    </a:lnTo>
                    <a:lnTo>
                      <a:pt x="14" y="20"/>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8" name=""/>
              <p:cNvSpPr/>
              <p:nvPr/>
            </p:nvSpPr>
            <p:spPr>
              <a:xfrm>
                <a:off x="7034040" y="2665440"/>
                <a:ext cx="9720" cy="11160"/>
              </a:xfrm>
              <a:custGeom>
                <a:avLst/>
                <a:gdLst/>
                <a:ahLst/>
                <a:rect l="l" t="t" r="r" b="b"/>
                <a:pathLst>
                  <a:path w="18" h="23">
                    <a:moveTo>
                      <a:pt x="3" y="23"/>
                    </a:moveTo>
                    <a:lnTo>
                      <a:pt x="0" y="0"/>
                    </a:lnTo>
                    <a:lnTo>
                      <a:pt x="8" y="0"/>
                    </a:lnTo>
                    <a:lnTo>
                      <a:pt x="15" y="3"/>
                    </a:lnTo>
                    <a:lnTo>
                      <a:pt x="18" y="9"/>
                    </a:lnTo>
                    <a:lnTo>
                      <a:pt x="18" y="16"/>
                    </a:lnTo>
                    <a:lnTo>
                      <a:pt x="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9" name=""/>
              <p:cNvSpPr/>
              <p:nvPr/>
            </p:nvSpPr>
            <p:spPr>
              <a:xfrm>
                <a:off x="7218360" y="2649600"/>
                <a:ext cx="12600" cy="12600"/>
              </a:xfrm>
              <a:custGeom>
                <a:avLst/>
                <a:gdLst/>
                <a:ahLst/>
                <a:rect l="l" t="t" r="r" b="b"/>
                <a:pathLst>
                  <a:path w="26" h="25">
                    <a:moveTo>
                      <a:pt x="10" y="25"/>
                    </a:moveTo>
                    <a:lnTo>
                      <a:pt x="0" y="8"/>
                    </a:lnTo>
                    <a:lnTo>
                      <a:pt x="9" y="0"/>
                    </a:lnTo>
                    <a:lnTo>
                      <a:pt x="26" y="15"/>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0" name=""/>
              <p:cNvSpPr/>
              <p:nvPr/>
            </p:nvSpPr>
            <p:spPr>
              <a:xfrm>
                <a:off x="8051760" y="2630520"/>
                <a:ext cx="7920" cy="11160"/>
              </a:xfrm>
              <a:custGeom>
                <a:avLst/>
                <a:gdLst/>
                <a:ahLst/>
                <a:rect l="l" t="t" r="r" b="b"/>
                <a:pathLst>
                  <a:path w="16" h="22">
                    <a:moveTo>
                      <a:pt x="3" y="22"/>
                    </a:moveTo>
                    <a:lnTo>
                      <a:pt x="0" y="1"/>
                    </a:lnTo>
                    <a:lnTo>
                      <a:pt x="5" y="0"/>
                    </a:lnTo>
                    <a:lnTo>
                      <a:pt x="10" y="3"/>
                    </a:lnTo>
                    <a:lnTo>
                      <a:pt x="15" y="7"/>
                    </a:lnTo>
                    <a:lnTo>
                      <a:pt x="16" y="14"/>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1" name=""/>
              <p:cNvSpPr/>
              <p:nvPr/>
            </p:nvSpPr>
            <p:spPr>
              <a:xfrm>
                <a:off x="7304040" y="2635200"/>
                <a:ext cx="11160" cy="11160"/>
              </a:xfrm>
              <a:custGeom>
                <a:avLst/>
                <a:gdLst/>
                <a:ahLst/>
                <a:rect l="l" t="t" r="r" b="b"/>
                <a:pathLst>
                  <a:path w="23" h="23">
                    <a:moveTo>
                      <a:pt x="4" y="23"/>
                    </a:moveTo>
                    <a:lnTo>
                      <a:pt x="0" y="2"/>
                    </a:lnTo>
                    <a:lnTo>
                      <a:pt x="6" y="0"/>
                    </a:lnTo>
                    <a:lnTo>
                      <a:pt x="13" y="1"/>
                    </a:lnTo>
                    <a:lnTo>
                      <a:pt x="19" y="7"/>
                    </a:lnTo>
                    <a:lnTo>
                      <a:pt x="23" y="15"/>
                    </a:lnTo>
                    <a:lnTo>
                      <a:pt x="4"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2" name=""/>
              <p:cNvSpPr/>
              <p:nvPr/>
            </p:nvSpPr>
            <p:spPr>
              <a:xfrm>
                <a:off x="7373880" y="2635200"/>
                <a:ext cx="9720" cy="11160"/>
              </a:xfrm>
              <a:custGeom>
                <a:avLst/>
                <a:gdLst/>
                <a:ahLst/>
                <a:rect l="l" t="t" r="r" b="b"/>
                <a:pathLst>
                  <a:path w="18" h="21">
                    <a:moveTo>
                      <a:pt x="0" y="21"/>
                    </a:moveTo>
                    <a:lnTo>
                      <a:pt x="0" y="1"/>
                    </a:lnTo>
                    <a:lnTo>
                      <a:pt x="9" y="0"/>
                    </a:lnTo>
                    <a:lnTo>
                      <a:pt x="15" y="2"/>
                    </a:lnTo>
                    <a:lnTo>
                      <a:pt x="18" y="10"/>
                    </a:lnTo>
                    <a:lnTo>
                      <a:pt x="15"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3" name=""/>
              <p:cNvSpPr/>
              <p:nvPr/>
            </p:nvSpPr>
            <p:spPr>
              <a:xfrm>
                <a:off x="7480440" y="2606760"/>
                <a:ext cx="12600" cy="11160"/>
              </a:xfrm>
              <a:custGeom>
                <a:avLst/>
                <a:gdLst/>
                <a:ahLst/>
                <a:rect l="l" t="t" r="r" b="b"/>
                <a:pathLst>
                  <a:path w="23" h="22">
                    <a:moveTo>
                      <a:pt x="15" y="22"/>
                    </a:moveTo>
                    <a:lnTo>
                      <a:pt x="6" y="20"/>
                    </a:lnTo>
                    <a:lnTo>
                      <a:pt x="1" y="14"/>
                    </a:lnTo>
                    <a:lnTo>
                      <a:pt x="0" y="7"/>
                    </a:lnTo>
                    <a:lnTo>
                      <a:pt x="1" y="0"/>
                    </a:lnTo>
                    <a:lnTo>
                      <a:pt x="23" y="3"/>
                    </a:lnTo>
                    <a:lnTo>
                      <a:pt x="15"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4" name=""/>
              <p:cNvSpPr/>
              <p:nvPr/>
            </p:nvSpPr>
            <p:spPr>
              <a:xfrm>
                <a:off x="7104240" y="2606760"/>
                <a:ext cx="10800" cy="11160"/>
              </a:xfrm>
              <a:custGeom>
                <a:avLst/>
                <a:gdLst/>
                <a:ahLst/>
                <a:rect l="l" t="t" r="r" b="b"/>
                <a:pathLst>
                  <a:path w="19" h="21">
                    <a:moveTo>
                      <a:pt x="9" y="21"/>
                    </a:moveTo>
                    <a:lnTo>
                      <a:pt x="0" y="2"/>
                    </a:lnTo>
                    <a:lnTo>
                      <a:pt x="6" y="0"/>
                    </a:lnTo>
                    <a:lnTo>
                      <a:pt x="12" y="2"/>
                    </a:lnTo>
                    <a:lnTo>
                      <a:pt x="17" y="6"/>
                    </a:lnTo>
                    <a:lnTo>
                      <a:pt x="19" y="13"/>
                    </a:lnTo>
                    <a:lnTo>
                      <a:pt x="9"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5" name=""/>
              <p:cNvSpPr/>
              <p:nvPr/>
            </p:nvSpPr>
            <p:spPr>
              <a:xfrm>
                <a:off x="7161120" y="2593800"/>
                <a:ext cx="12960" cy="14400"/>
              </a:xfrm>
              <a:custGeom>
                <a:avLst/>
                <a:gdLst/>
                <a:ahLst/>
                <a:rect l="l" t="t" r="r" b="b"/>
                <a:pathLst>
                  <a:path w="24" h="26">
                    <a:moveTo>
                      <a:pt x="6" y="26"/>
                    </a:moveTo>
                    <a:lnTo>
                      <a:pt x="0" y="22"/>
                    </a:lnTo>
                    <a:lnTo>
                      <a:pt x="0" y="13"/>
                    </a:lnTo>
                    <a:lnTo>
                      <a:pt x="5" y="4"/>
                    </a:lnTo>
                    <a:lnTo>
                      <a:pt x="14" y="0"/>
                    </a:lnTo>
                    <a:lnTo>
                      <a:pt x="24" y="24"/>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6" name=""/>
              <p:cNvSpPr/>
              <p:nvPr/>
            </p:nvSpPr>
            <p:spPr>
              <a:xfrm>
                <a:off x="7257960" y="2583000"/>
                <a:ext cx="11160" cy="9360"/>
              </a:xfrm>
              <a:custGeom>
                <a:avLst/>
                <a:gdLst/>
                <a:ahLst/>
                <a:rect l="l" t="t" r="r" b="b"/>
                <a:pathLst>
                  <a:path w="20" h="18">
                    <a:moveTo>
                      <a:pt x="5" y="18"/>
                    </a:moveTo>
                    <a:lnTo>
                      <a:pt x="0" y="0"/>
                    </a:lnTo>
                    <a:lnTo>
                      <a:pt x="5" y="0"/>
                    </a:lnTo>
                    <a:lnTo>
                      <a:pt x="13" y="3"/>
                    </a:lnTo>
                    <a:lnTo>
                      <a:pt x="17" y="7"/>
                    </a:lnTo>
                    <a:lnTo>
                      <a:pt x="20" y="16"/>
                    </a:lnTo>
                    <a:lnTo>
                      <a:pt x="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a:off x="6991200" y="2571840"/>
                <a:ext cx="7920" cy="11160"/>
              </a:xfrm>
              <a:custGeom>
                <a:avLst/>
                <a:gdLst/>
                <a:ahLst/>
                <a:rect l="l" t="t" r="r" b="b"/>
                <a:pathLst>
                  <a:path w="15" h="21">
                    <a:moveTo>
                      <a:pt x="5" y="21"/>
                    </a:moveTo>
                    <a:lnTo>
                      <a:pt x="0" y="0"/>
                    </a:lnTo>
                    <a:lnTo>
                      <a:pt x="8" y="2"/>
                    </a:lnTo>
                    <a:lnTo>
                      <a:pt x="15" y="10"/>
                    </a:lnTo>
                    <a:lnTo>
                      <a:pt x="15" y="17"/>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8" name=""/>
              <p:cNvSpPr/>
              <p:nvPr/>
            </p:nvSpPr>
            <p:spPr>
              <a:xfrm>
                <a:off x="7332840" y="2563920"/>
                <a:ext cx="10800" cy="12600"/>
              </a:xfrm>
              <a:custGeom>
                <a:avLst/>
                <a:gdLst/>
                <a:ahLst/>
                <a:rect l="l" t="t" r="r" b="b"/>
                <a:pathLst>
                  <a:path w="23" h="23">
                    <a:moveTo>
                      <a:pt x="8" y="23"/>
                    </a:moveTo>
                    <a:lnTo>
                      <a:pt x="0" y="1"/>
                    </a:lnTo>
                    <a:lnTo>
                      <a:pt x="10" y="0"/>
                    </a:lnTo>
                    <a:lnTo>
                      <a:pt x="17" y="1"/>
                    </a:lnTo>
                    <a:lnTo>
                      <a:pt x="23" y="7"/>
                    </a:lnTo>
                    <a:lnTo>
                      <a:pt x="23" y="17"/>
                    </a:lnTo>
                    <a:lnTo>
                      <a:pt x="8"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9" name=""/>
              <p:cNvSpPr/>
              <p:nvPr/>
            </p:nvSpPr>
            <p:spPr>
              <a:xfrm>
                <a:off x="7464600" y="2550960"/>
                <a:ext cx="14040" cy="11160"/>
              </a:xfrm>
              <a:custGeom>
                <a:avLst/>
                <a:gdLst/>
                <a:ahLst/>
                <a:rect l="l" t="t" r="r" b="b"/>
                <a:pathLst>
                  <a:path w="25" h="19">
                    <a:moveTo>
                      <a:pt x="7" y="19"/>
                    </a:moveTo>
                    <a:lnTo>
                      <a:pt x="0" y="3"/>
                    </a:lnTo>
                    <a:lnTo>
                      <a:pt x="7" y="0"/>
                    </a:lnTo>
                    <a:lnTo>
                      <a:pt x="15" y="2"/>
                    </a:lnTo>
                    <a:lnTo>
                      <a:pt x="22" y="8"/>
                    </a:lnTo>
                    <a:lnTo>
                      <a:pt x="25" y="15"/>
                    </a:lnTo>
                    <a:lnTo>
                      <a:pt x="7"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0" name=""/>
              <p:cNvSpPr/>
              <p:nvPr/>
            </p:nvSpPr>
            <p:spPr>
              <a:xfrm>
                <a:off x="7732800" y="2232000"/>
                <a:ext cx="460440" cy="311040"/>
              </a:xfrm>
              <a:custGeom>
                <a:avLst/>
                <a:gdLst/>
                <a:ahLst/>
                <a:rect l="l" t="t" r="r" b="b"/>
                <a:pathLst>
                  <a:path w="869" h="588">
                    <a:moveTo>
                      <a:pt x="663" y="588"/>
                    </a:moveTo>
                    <a:lnTo>
                      <a:pt x="657" y="587"/>
                    </a:lnTo>
                    <a:lnTo>
                      <a:pt x="650" y="585"/>
                    </a:lnTo>
                    <a:lnTo>
                      <a:pt x="642" y="585"/>
                    </a:lnTo>
                    <a:lnTo>
                      <a:pt x="635" y="584"/>
                    </a:lnTo>
                    <a:lnTo>
                      <a:pt x="628" y="584"/>
                    </a:lnTo>
                    <a:lnTo>
                      <a:pt x="621" y="582"/>
                    </a:lnTo>
                    <a:lnTo>
                      <a:pt x="613" y="579"/>
                    </a:lnTo>
                    <a:lnTo>
                      <a:pt x="608" y="575"/>
                    </a:lnTo>
                    <a:lnTo>
                      <a:pt x="618" y="555"/>
                    </a:lnTo>
                    <a:lnTo>
                      <a:pt x="629" y="535"/>
                    </a:lnTo>
                    <a:lnTo>
                      <a:pt x="642" y="514"/>
                    </a:lnTo>
                    <a:lnTo>
                      <a:pt x="654" y="493"/>
                    </a:lnTo>
                    <a:lnTo>
                      <a:pt x="664" y="471"/>
                    </a:lnTo>
                    <a:lnTo>
                      <a:pt x="671" y="448"/>
                    </a:lnTo>
                    <a:lnTo>
                      <a:pt x="677" y="422"/>
                    </a:lnTo>
                    <a:lnTo>
                      <a:pt x="678" y="396"/>
                    </a:lnTo>
                    <a:lnTo>
                      <a:pt x="671" y="383"/>
                    </a:lnTo>
                    <a:lnTo>
                      <a:pt x="663" y="370"/>
                    </a:lnTo>
                    <a:lnTo>
                      <a:pt x="651" y="357"/>
                    </a:lnTo>
                    <a:lnTo>
                      <a:pt x="638" y="345"/>
                    </a:lnTo>
                    <a:lnTo>
                      <a:pt x="628" y="341"/>
                    </a:lnTo>
                    <a:lnTo>
                      <a:pt x="619" y="337"/>
                    </a:lnTo>
                    <a:lnTo>
                      <a:pt x="609" y="334"/>
                    </a:lnTo>
                    <a:lnTo>
                      <a:pt x="597" y="335"/>
                    </a:lnTo>
                    <a:lnTo>
                      <a:pt x="597" y="318"/>
                    </a:lnTo>
                    <a:lnTo>
                      <a:pt x="597" y="301"/>
                    </a:lnTo>
                    <a:lnTo>
                      <a:pt x="597" y="282"/>
                    </a:lnTo>
                    <a:lnTo>
                      <a:pt x="596" y="263"/>
                    </a:lnTo>
                    <a:lnTo>
                      <a:pt x="593" y="256"/>
                    </a:lnTo>
                    <a:lnTo>
                      <a:pt x="590" y="249"/>
                    </a:lnTo>
                    <a:lnTo>
                      <a:pt x="586" y="241"/>
                    </a:lnTo>
                    <a:lnTo>
                      <a:pt x="580" y="234"/>
                    </a:lnTo>
                    <a:lnTo>
                      <a:pt x="560" y="217"/>
                    </a:lnTo>
                    <a:lnTo>
                      <a:pt x="548" y="214"/>
                    </a:lnTo>
                    <a:lnTo>
                      <a:pt x="538" y="211"/>
                    </a:lnTo>
                    <a:lnTo>
                      <a:pt x="527" y="211"/>
                    </a:lnTo>
                    <a:lnTo>
                      <a:pt x="516" y="211"/>
                    </a:lnTo>
                    <a:lnTo>
                      <a:pt x="505" y="212"/>
                    </a:lnTo>
                    <a:lnTo>
                      <a:pt x="495" y="217"/>
                    </a:lnTo>
                    <a:lnTo>
                      <a:pt x="485" y="221"/>
                    </a:lnTo>
                    <a:lnTo>
                      <a:pt x="475" y="227"/>
                    </a:lnTo>
                    <a:lnTo>
                      <a:pt x="472" y="218"/>
                    </a:lnTo>
                    <a:lnTo>
                      <a:pt x="473" y="211"/>
                    </a:lnTo>
                    <a:lnTo>
                      <a:pt x="475" y="202"/>
                    </a:lnTo>
                    <a:lnTo>
                      <a:pt x="475" y="194"/>
                    </a:lnTo>
                    <a:lnTo>
                      <a:pt x="472" y="182"/>
                    </a:lnTo>
                    <a:lnTo>
                      <a:pt x="467" y="172"/>
                    </a:lnTo>
                    <a:lnTo>
                      <a:pt x="460" y="162"/>
                    </a:lnTo>
                    <a:lnTo>
                      <a:pt x="453" y="153"/>
                    </a:lnTo>
                    <a:lnTo>
                      <a:pt x="431" y="136"/>
                    </a:lnTo>
                    <a:lnTo>
                      <a:pt x="424" y="132"/>
                    </a:lnTo>
                    <a:lnTo>
                      <a:pt x="415" y="129"/>
                    </a:lnTo>
                    <a:lnTo>
                      <a:pt x="407" y="127"/>
                    </a:lnTo>
                    <a:lnTo>
                      <a:pt x="398" y="126"/>
                    </a:lnTo>
                    <a:lnTo>
                      <a:pt x="388" y="124"/>
                    </a:lnTo>
                    <a:lnTo>
                      <a:pt x="378" y="124"/>
                    </a:lnTo>
                    <a:lnTo>
                      <a:pt x="369" y="124"/>
                    </a:lnTo>
                    <a:lnTo>
                      <a:pt x="359" y="126"/>
                    </a:lnTo>
                    <a:lnTo>
                      <a:pt x="353" y="127"/>
                    </a:lnTo>
                    <a:lnTo>
                      <a:pt x="347" y="133"/>
                    </a:lnTo>
                    <a:lnTo>
                      <a:pt x="339" y="137"/>
                    </a:lnTo>
                    <a:lnTo>
                      <a:pt x="330" y="140"/>
                    </a:lnTo>
                    <a:lnTo>
                      <a:pt x="330" y="130"/>
                    </a:lnTo>
                    <a:lnTo>
                      <a:pt x="329" y="121"/>
                    </a:lnTo>
                    <a:lnTo>
                      <a:pt x="327" y="113"/>
                    </a:lnTo>
                    <a:lnTo>
                      <a:pt x="323" y="106"/>
                    </a:lnTo>
                    <a:lnTo>
                      <a:pt x="317" y="98"/>
                    </a:lnTo>
                    <a:lnTo>
                      <a:pt x="308" y="95"/>
                    </a:lnTo>
                    <a:lnTo>
                      <a:pt x="301" y="93"/>
                    </a:lnTo>
                    <a:lnTo>
                      <a:pt x="292" y="91"/>
                    </a:lnTo>
                    <a:lnTo>
                      <a:pt x="285" y="90"/>
                    </a:lnTo>
                    <a:lnTo>
                      <a:pt x="278" y="88"/>
                    </a:lnTo>
                    <a:lnTo>
                      <a:pt x="269" y="85"/>
                    </a:lnTo>
                    <a:lnTo>
                      <a:pt x="262" y="82"/>
                    </a:lnTo>
                    <a:lnTo>
                      <a:pt x="253" y="78"/>
                    </a:lnTo>
                    <a:lnTo>
                      <a:pt x="243" y="80"/>
                    </a:lnTo>
                    <a:lnTo>
                      <a:pt x="237" y="81"/>
                    </a:lnTo>
                    <a:lnTo>
                      <a:pt x="232" y="82"/>
                    </a:lnTo>
                    <a:lnTo>
                      <a:pt x="226" y="85"/>
                    </a:lnTo>
                    <a:lnTo>
                      <a:pt x="221" y="88"/>
                    </a:lnTo>
                    <a:lnTo>
                      <a:pt x="217" y="91"/>
                    </a:lnTo>
                    <a:lnTo>
                      <a:pt x="211" y="95"/>
                    </a:lnTo>
                    <a:lnTo>
                      <a:pt x="206" y="100"/>
                    </a:lnTo>
                    <a:lnTo>
                      <a:pt x="200" y="104"/>
                    </a:lnTo>
                    <a:lnTo>
                      <a:pt x="190" y="103"/>
                    </a:lnTo>
                    <a:lnTo>
                      <a:pt x="168" y="121"/>
                    </a:lnTo>
                    <a:lnTo>
                      <a:pt x="146" y="140"/>
                    </a:lnTo>
                    <a:lnTo>
                      <a:pt x="123" y="162"/>
                    </a:lnTo>
                    <a:lnTo>
                      <a:pt x="101" y="184"/>
                    </a:lnTo>
                    <a:lnTo>
                      <a:pt x="78" y="205"/>
                    </a:lnTo>
                    <a:lnTo>
                      <a:pt x="55" y="228"/>
                    </a:lnTo>
                    <a:lnTo>
                      <a:pt x="32" y="251"/>
                    </a:lnTo>
                    <a:lnTo>
                      <a:pt x="9" y="275"/>
                    </a:lnTo>
                    <a:lnTo>
                      <a:pt x="0" y="264"/>
                    </a:lnTo>
                    <a:lnTo>
                      <a:pt x="15" y="230"/>
                    </a:lnTo>
                    <a:lnTo>
                      <a:pt x="29" y="198"/>
                    </a:lnTo>
                    <a:lnTo>
                      <a:pt x="47" y="166"/>
                    </a:lnTo>
                    <a:lnTo>
                      <a:pt x="65" y="137"/>
                    </a:lnTo>
                    <a:lnTo>
                      <a:pt x="84" y="108"/>
                    </a:lnTo>
                    <a:lnTo>
                      <a:pt x="107" y="80"/>
                    </a:lnTo>
                    <a:lnTo>
                      <a:pt x="130" y="51"/>
                    </a:lnTo>
                    <a:lnTo>
                      <a:pt x="156" y="22"/>
                    </a:lnTo>
                    <a:lnTo>
                      <a:pt x="164" y="17"/>
                    </a:lnTo>
                    <a:lnTo>
                      <a:pt x="171" y="12"/>
                    </a:lnTo>
                    <a:lnTo>
                      <a:pt x="178" y="6"/>
                    </a:lnTo>
                    <a:lnTo>
                      <a:pt x="188" y="2"/>
                    </a:lnTo>
                    <a:lnTo>
                      <a:pt x="200" y="0"/>
                    </a:lnTo>
                    <a:lnTo>
                      <a:pt x="211" y="0"/>
                    </a:lnTo>
                    <a:lnTo>
                      <a:pt x="224" y="2"/>
                    </a:lnTo>
                    <a:lnTo>
                      <a:pt x="236" y="3"/>
                    </a:lnTo>
                    <a:lnTo>
                      <a:pt x="248" y="6"/>
                    </a:lnTo>
                    <a:lnTo>
                      <a:pt x="259" y="10"/>
                    </a:lnTo>
                    <a:lnTo>
                      <a:pt x="271" y="13"/>
                    </a:lnTo>
                    <a:lnTo>
                      <a:pt x="282" y="16"/>
                    </a:lnTo>
                    <a:lnTo>
                      <a:pt x="300" y="22"/>
                    </a:lnTo>
                    <a:lnTo>
                      <a:pt x="317" y="28"/>
                    </a:lnTo>
                    <a:lnTo>
                      <a:pt x="336" y="32"/>
                    </a:lnTo>
                    <a:lnTo>
                      <a:pt x="353" y="38"/>
                    </a:lnTo>
                    <a:lnTo>
                      <a:pt x="370" y="43"/>
                    </a:lnTo>
                    <a:lnTo>
                      <a:pt x="389" y="51"/>
                    </a:lnTo>
                    <a:lnTo>
                      <a:pt x="407" y="56"/>
                    </a:lnTo>
                    <a:lnTo>
                      <a:pt x="425" y="62"/>
                    </a:lnTo>
                    <a:lnTo>
                      <a:pt x="444" y="68"/>
                    </a:lnTo>
                    <a:lnTo>
                      <a:pt x="462" y="75"/>
                    </a:lnTo>
                    <a:lnTo>
                      <a:pt x="480" y="81"/>
                    </a:lnTo>
                    <a:lnTo>
                      <a:pt x="498" y="88"/>
                    </a:lnTo>
                    <a:lnTo>
                      <a:pt x="515" y="95"/>
                    </a:lnTo>
                    <a:lnTo>
                      <a:pt x="534" y="103"/>
                    </a:lnTo>
                    <a:lnTo>
                      <a:pt x="551" y="110"/>
                    </a:lnTo>
                    <a:lnTo>
                      <a:pt x="569" y="117"/>
                    </a:lnTo>
                    <a:lnTo>
                      <a:pt x="586" y="120"/>
                    </a:lnTo>
                    <a:lnTo>
                      <a:pt x="603" y="124"/>
                    </a:lnTo>
                    <a:lnTo>
                      <a:pt x="621" y="127"/>
                    </a:lnTo>
                    <a:lnTo>
                      <a:pt x="637" y="132"/>
                    </a:lnTo>
                    <a:lnTo>
                      <a:pt x="652" y="137"/>
                    </a:lnTo>
                    <a:lnTo>
                      <a:pt x="668" y="142"/>
                    </a:lnTo>
                    <a:lnTo>
                      <a:pt x="686" y="147"/>
                    </a:lnTo>
                    <a:lnTo>
                      <a:pt x="702" y="152"/>
                    </a:lnTo>
                    <a:lnTo>
                      <a:pt x="717" y="158"/>
                    </a:lnTo>
                    <a:lnTo>
                      <a:pt x="733" y="163"/>
                    </a:lnTo>
                    <a:lnTo>
                      <a:pt x="749" y="169"/>
                    </a:lnTo>
                    <a:lnTo>
                      <a:pt x="765" y="175"/>
                    </a:lnTo>
                    <a:lnTo>
                      <a:pt x="781" y="182"/>
                    </a:lnTo>
                    <a:lnTo>
                      <a:pt x="797" y="188"/>
                    </a:lnTo>
                    <a:lnTo>
                      <a:pt x="813" y="194"/>
                    </a:lnTo>
                    <a:lnTo>
                      <a:pt x="830" y="199"/>
                    </a:lnTo>
                    <a:lnTo>
                      <a:pt x="838" y="210"/>
                    </a:lnTo>
                    <a:lnTo>
                      <a:pt x="819" y="251"/>
                    </a:lnTo>
                    <a:lnTo>
                      <a:pt x="797" y="290"/>
                    </a:lnTo>
                    <a:lnTo>
                      <a:pt x="772" y="328"/>
                    </a:lnTo>
                    <a:lnTo>
                      <a:pt x="749" y="366"/>
                    </a:lnTo>
                    <a:lnTo>
                      <a:pt x="725" y="405"/>
                    </a:lnTo>
                    <a:lnTo>
                      <a:pt x="703" y="445"/>
                    </a:lnTo>
                    <a:lnTo>
                      <a:pt x="684" y="488"/>
                    </a:lnTo>
                    <a:lnTo>
                      <a:pt x="668" y="538"/>
                    </a:lnTo>
                    <a:lnTo>
                      <a:pt x="687" y="555"/>
                    </a:lnTo>
                    <a:lnTo>
                      <a:pt x="697" y="545"/>
                    </a:lnTo>
                    <a:lnTo>
                      <a:pt x="699" y="523"/>
                    </a:lnTo>
                    <a:lnTo>
                      <a:pt x="710" y="496"/>
                    </a:lnTo>
                    <a:lnTo>
                      <a:pt x="722" y="470"/>
                    </a:lnTo>
                    <a:lnTo>
                      <a:pt x="735" y="444"/>
                    </a:lnTo>
                    <a:lnTo>
                      <a:pt x="749" y="419"/>
                    </a:lnTo>
                    <a:lnTo>
                      <a:pt x="764" y="395"/>
                    </a:lnTo>
                    <a:lnTo>
                      <a:pt x="778" y="371"/>
                    </a:lnTo>
                    <a:lnTo>
                      <a:pt x="793" y="347"/>
                    </a:lnTo>
                    <a:lnTo>
                      <a:pt x="809" y="322"/>
                    </a:lnTo>
                    <a:lnTo>
                      <a:pt x="814" y="312"/>
                    </a:lnTo>
                    <a:lnTo>
                      <a:pt x="819" y="302"/>
                    </a:lnTo>
                    <a:lnTo>
                      <a:pt x="826" y="290"/>
                    </a:lnTo>
                    <a:lnTo>
                      <a:pt x="832" y="280"/>
                    </a:lnTo>
                    <a:lnTo>
                      <a:pt x="839" y="269"/>
                    </a:lnTo>
                    <a:lnTo>
                      <a:pt x="845" y="259"/>
                    </a:lnTo>
                    <a:lnTo>
                      <a:pt x="852" y="247"/>
                    </a:lnTo>
                    <a:lnTo>
                      <a:pt x="859" y="237"/>
                    </a:lnTo>
                    <a:lnTo>
                      <a:pt x="869" y="251"/>
                    </a:lnTo>
                    <a:lnTo>
                      <a:pt x="865" y="272"/>
                    </a:lnTo>
                    <a:lnTo>
                      <a:pt x="858" y="298"/>
                    </a:lnTo>
                    <a:lnTo>
                      <a:pt x="849" y="322"/>
                    </a:lnTo>
                    <a:lnTo>
                      <a:pt x="840" y="344"/>
                    </a:lnTo>
                    <a:lnTo>
                      <a:pt x="830" y="363"/>
                    </a:lnTo>
                    <a:lnTo>
                      <a:pt x="819" y="383"/>
                    </a:lnTo>
                    <a:lnTo>
                      <a:pt x="809" y="402"/>
                    </a:lnTo>
                    <a:lnTo>
                      <a:pt x="798" y="422"/>
                    </a:lnTo>
                    <a:lnTo>
                      <a:pt x="787" y="442"/>
                    </a:lnTo>
                    <a:lnTo>
                      <a:pt x="777" y="462"/>
                    </a:lnTo>
                    <a:lnTo>
                      <a:pt x="767" y="483"/>
                    </a:lnTo>
                    <a:lnTo>
                      <a:pt x="757" y="503"/>
                    </a:lnTo>
                    <a:lnTo>
                      <a:pt x="757" y="514"/>
                    </a:lnTo>
                    <a:lnTo>
                      <a:pt x="749" y="520"/>
                    </a:lnTo>
                    <a:lnTo>
                      <a:pt x="741" y="527"/>
                    </a:lnTo>
                    <a:lnTo>
                      <a:pt x="733" y="535"/>
                    </a:lnTo>
                    <a:lnTo>
                      <a:pt x="726" y="543"/>
                    </a:lnTo>
                    <a:lnTo>
                      <a:pt x="719" y="552"/>
                    </a:lnTo>
                    <a:lnTo>
                      <a:pt x="712" y="561"/>
                    </a:lnTo>
                    <a:lnTo>
                      <a:pt x="704" y="571"/>
                    </a:lnTo>
                    <a:lnTo>
                      <a:pt x="697" y="581"/>
                    </a:lnTo>
                    <a:lnTo>
                      <a:pt x="689" y="582"/>
                    </a:lnTo>
                    <a:lnTo>
                      <a:pt x="680" y="584"/>
                    </a:lnTo>
                    <a:lnTo>
                      <a:pt x="671" y="587"/>
                    </a:lnTo>
                    <a:lnTo>
                      <a:pt x="663" y="5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056360" y="2535120"/>
                <a:ext cx="11160" cy="11160"/>
              </a:xfrm>
              <a:custGeom>
                <a:avLst/>
                <a:gdLst/>
                <a:ahLst/>
                <a:rect l="l" t="t" r="r" b="b"/>
                <a:pathLst>
                  <a:path w="21" h="21">
                    <a:moveTo>
                      <a:pt x="2" y="21"/>
                    </a:moveTo>
                    <a:lnTo>
                      <a:pt x="0" y="0"/>
                    </a:lnTo>
                    <a:lnTo>
                      <a:pt x="9" y="0"/>
                    </a:lnTo>
                    <a:lnTo>
                      <a:pt x="16" y="1"/>
                    </a:lnTo>
                    <a:lnTo>
                      <a:pt x="21" y="7"/>
                    </a:lnTo>
                    <a:lnTo>
                      <a:pt x="19" y="17"/>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a:off x="7122960" y="2536920"/>
                <a:ext cx="12960" cy="9360"/>
              </a:xfrm>
              <a:custGeom>
                <a:avLst/>
                <a:gdLst/>
                <a:ahLst/>
                <a:rect l="l" t="t" r="r" b="b"/>
                <a:pathLst>
                  <a:path w="23" h="18">
                    <a:moveTo>
                      <a:pt x="9" y="18"/>
                    </a:moveTo>
                    <a:lnTo>
                      <a:pt x="0" y="4"/>
                    </a:lnTo>
                    <a:lnTo>
                      <a:pt x="5" y="0"/>
                    </a:lnTo>
                    <a:lnTo>
                      <a:pt x="12" y="0"/>
                    </a:lnTo>
                    <a:lnTo>
                      <a:pt x="20" y="4"/>
                    </a:lnTo>
                    <a:lnTo>
                      <a:pt x="23" y="10"/>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3" name=""/>
              <p:cNvSpPr/>
              <p:nvPr/>
            </p:nvSpPr>
            <p:spPr>
              <a:xfrm>
                <a:off x="7385040" y="2513160"/>
                <a:ext cx="11160" cy="12600"/>
              </a:xfrm>
              <a:custGeom>
                <a:avLst/>
                <a:gdLst/>
                <a:ahLst/>
                <a:rect l="l" t="t" r="r" b="b"/>
                <a:pathLst>
                  <a:path w="21" h="23">
                    <a:moveTo>
                      <a:pt x="6" y="23"/>
                    </a:moveTo>
                    <a:lnTo>
                      <a:pt x="0" y="0"/>
                    </a:lnTo>
                    <a:lnTo>
                      <a:pt x="21" y="5"/>
                    </a:lnTo>
                    <a:lnTo>
                      <a:pt x="21" y="10"/>
                    </a:lnTo>
                    <a:lnTo>
                      <a:pt x="18" y="16"/>
                    </a:lnTo>
                    <a:lnTo>
                      <a:pt x="13" y="22"/>
                    </a:lnTo>
                    <a:lnTo>
                      <a:pt x="6"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4" name=""/>
              <p:cNvSpPr/>
              <p:nvPr/>
            </p:nvSpPr>
            <p:spPr>
              <a:xfrm>
                <a:off x="7302600" y="2508120"/>
                <a:ext cx="12600" cy="12960"/>
              </a:xfrm>
              <a:custGeom>
                <a:avLst/>
                <a:gdLst/>
                <a:ahLst/>
                <a:rect l="l" t="t" r="r" b="b"/>
                <a:pathLst>
                  <a:path w="26" h="25">
                    <a:moveTo>
                      <a:pt x="7" y="25"/>
                    </a:moveTo>
                    <a:lnTo>
                      <a:pt x="0" y="3"/>
                    </a:lnTo>
                    <a:lnTo>
                      <a:pt x="9" y="0"/>
                    </a:lnTo>
                    <a:lnTo>
                      <a:pt x="16" y="3"/>
                    </a:lnTo>
                    <a:lnTo>
                      <a:pt x="22" y="9"/>
                    </a:lnTo>
                    <a:lnTo>
                      <a:pt x="26" y="17"/>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5" name=""/>
              <p:cNvSpPr/>
              <p:nvPr/>
            </p:nvSpPr>
            <p:spPr>
              <a:xfrm>
                <a:off x="7191360" y="2509920"/>
                <a:ext cx="11160" cy="11160"/>
              </a:xfrm>
              <a:custGeom>
                <a:avLst/>
                <a:gdLst/>
                <a:ahLst/>
                <a:rect l="l" t="t" r="r" b="b"/>
                <a:pathLst>
                  <a:path w="22" h="21">
                    <a:moveTo>
                      <a:pt x="3" y="21"/>
                    </a:moveTo>
                    <a:lnTo>
                      <a:pt x="0" y="0"/>
                    </a:lnTo>
                    <a:lnTo>
                      <a:pt x="22" y="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6" name=""/>
              <p:cNvSpPr/>
              <p:nvPr/>
            </p:nvSpPr>
            <p:spPr>
              <a:xfrm>
                <a:off x="7488360" y="2494080"/>
                <a:ext cx="9360" cy="12600"/>
              </a:xfrm>
              <a:custGeom>
                <a:avLst/>
                <a:gdLst/>
                <a:ahLst/>
                <a:rect l="l" t="t" r="r" b="b"/>
                <a:pathLst>
                  <a:path w="17" h="23">
                    <a:moveTo>
                      <a:pt x="10" y="23"/>
                    </a:moveTo>
                    <a:lnTo>
                      <a:pt x="4" y="20"/>
                    </a:lnTo>
                    <a:lnTo>
                      <a:pt x="0" y="13"/>
                    </a:lnTo>
                    <a:lnTo>
                      <a:pt x="1" y="6"/>
                    </a:lnTo>
                    <a:lnTo>
                      <a:pt x="7" y="0"/>
                    </a:lnTo>
                    <a:lnTo>
                      <a:pt x="14" y="3"/>
                    </a:lnTo>
                    <a:lnTo>
                      <a:pt x="17" y="10"/>
                    </a:lnTo>
                    <a:lnTo>
                      <a:pt x="17" y="17"/>
                    </a:lnTo>
                    <a:lnTo>
                      <a:pt x="1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7" name=""/>
              <p:cNvSpPr/>
              <p:nvPr/>
            </p:nvSpPr>
            <p:spPr>
              <a:xfrm>
                <a:off x="7151760" y="2487600"/>
                <a:ext cx="11160" cy="12600"/>
              </a:xfrm>
              <a:custGeom>
                <a:avLst/>
                <a:gdLst/>
                <a:ahLst/>
                <a:rect l="l" t="t" r="r" b="b"/>
                <a:pathLst>
                  <a:path w="20" h="23">
                    <a:moveTo>
                      <a:pt x="1" y="23"/>
                    </a:moveTo>
                    <a:lnTo>
                      <a:pt x="0" y="0"/>
                    </a:lnTo>
                    <a:lnTo>
                      <a:pt x="20" y="10"/>
                    </a:lnTo>
                    <a:lnTo>
                      <a:pt x="20" y="17"/>
                    </a:lnTo>
                    <a:lnTo>
                      <a:pt x="16" y="20"/>
                    </a:lnTo>
                    <a:lnTo>
                      <a:pt x="10" y="20"/>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8" name=""/>
              <p:cNvSpPr/>
              <p:nvPr/>
            </p:nvSpPr>
            <p:spPr>
              <a:xfrm>
                <a:off x="7537320" y="2473200"/>
                <a:ext cx="14400" cy="12960"/>
              </a:xfrm>
              <a:custGeom>
                <a:avLst/>
                <a:gdLst/>
                <a:ahLst/>
                <a:rect l="l" t="t" r="r" b="b"/>
                <a:pathLst>
                  <a:path w="28" h="22">
                    <a:moveTo>
                      <a:pt x="7" y="22"/>
                    </a:moveTo>
                    <a:lnTo>
                      <a:pt x="0" y="9"/>
                    </a:lnTo>
                    <a:lnTo>
                      <a:pt x="7" y="0"/>
                    </a:lnTo>
                    <a:lnTo>
                      <a:pt x="15" y="0"/>
                    </a:lnTo>
                    <a:lnTo>
                      <a:pt x="22" y="0"/>
                    </a:lnTo>
                    <a:lnTo>
                      <a:pt x="28" y="6"/>
                    </a:lnTo>
                    <a:lnTo>
                      <a:pt x="28" y="15"/>
                    </a:lnTo>
                    <a:lnTo>
                      <a:pt x="7"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9" name=""/>
              <p:cNvSpPr/>
              <p:nvPr/>
            </p:nvSpPr>
            <p:spPr>
              <a:xfrm>
                <a:off x="7080120" y="2471760"/>
                <a:ext cx="11160" cy="12600"/>
              </a:xfrm>
              <a:custGeom>
                <a:avLst/>
                <a:gdLst/>
                <a:ahLst/>
                <a:rect l="l" t="t" r="r" b="b"/>
                <a:pathLst>
                  <a:path w="20" h="22">
                    <a:moveTo>
                      <a:pt x="10" y="22"/>
                    </a:moveTo>
                    <a:lnTo>
                      <a:pt x="0" y="3"/>
                    </a:lnTo>
                    <a:lnTo>
                      <a:pt x="6" y="0"/>
                    </a:lnTo>
                    <a:lnTo>
                      <a:pt x="13" y="2"/>
                    </a:lnTo>
                    <a:lnTo>
                      <a:pt x="19" y="7"/>
                    </a:lnTo>
                    <a:lnTo>
                      <a:pt x="20" y="15"/>
                    </a:lnTo>
                    <a:lnTo>
                      <a:pt x="1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0" name=""/>
              <p:cNvSpPr/>
              <p:nvPr/>
            </p:nvSpPr>
            <p:spPr>
              <a:xfrm>
                <a:off x="7016760" y="2468520"/>
                <a:ext cx="14400" cy="14400"/>
              </a:xfrm>
              <a:custGeom>
                <a:avLst/>
                <a:gdLst/>
                <a:ahLst/>
                <a:rect l="l" t="t" r="r" b="b"/>
                <a:pathLst>
                  <a:path w="25" h="26">
                    <a:moveTo>
                      <a:pt x="10" y="26"/>
                    </a:moveTo>
                    <a:lnTo>
                      <a:pt x="0" y="3"/>
                    </a:lnTo>
                    <a:lnTo>
                      <a:pt x="6" y="0"/>
                    </a:lnTo>
                    <a:lnTo>
                      <a:pt x="15" y="2"/>
                    </a:lnTo>
                    <a:lnTo>
                      <a:pt x="22" y="8"/>
                    </a:lnTo>
                    <a:lnTo>
                      <a:pt x="25" y="13"/>
                    </a:lnTo>
                    <a:lnTo>
                      <a:pt x="1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1" name=""/>
              <p:cNvSpPr/>
              <p:nvPr/>
            </p:nvSpPr>
            <p:spPr>
              <a:xfrm>
                <a:off x="7413480" y="2459160"/>
                <a:ext cx="9720" cy="11160"/>
              </a:xfrm>
              <a:custGeom>
                <a:avLst/>
                <a:gdLst/>
                <a:ahLst/>
                <a:rect l="l" t="t" r="r" b="b"/>
                <a:pathLst>
                  <a:path w="20" h="22">
                    <a:moveTo>
                      <a:pt x="11" y="22"/>
                    </a:moveTo>
                    <a:lnTo>
                      <a:pt x="4" y="19"/>
                    </a:lnTo>
                    <a:lnTo>
                      <a:pt x="0" y="12"/>
                    </a:lnTo>
                    <a:lnTo>
                      <a:pt x="1" y="5"/>
                    </a:lnTo>
                    <a:lnTo>
                      <a:pt x="6" y="0"/>
                    </a:lnTo>
                    <a:lnTo>
                      <a:pt x="11" y="3"/>
                    </a:lnTo>
                    <a:lnTo>
                      <a:pt x="17" y="10"/>
                    </a:lnTo>
                    <a:lnTo>
                      <a:pt x="20" y="19"/>
                    </a:lnTo>
                    <a:lnTo>
                      <a:pt x="1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2" name=""/>
              <p:cNvSpPr/>
              <p:nvPr/>
            </p:nvSpPr>
            <p:spPr>
              <a:xfrm>
                <a:off x="7624800" y="2440080"/>
                <a:ext cx="7920" cy="11160"/>
              </a:xfrm>
              <a:custGeom>
                <a:avLst/>
                <a:gdLst/>
                <a:ahLst/>
                <a:rect l="l" t="t" r="r" b="b"/>
                <a:pathLst>
                  <a:path w="17" h="21">
                    <a:moveTo>
                      <a:pt x="3" y="21"/>
                    </a:moveTo>
                    <a:lnTo>
                      <a:pt x="0" y="0"/>
                    </a:lnTo>
                    <a:lnTo>
                      <a:pt x="9" y="0"/>
                    </a:lnTo>
                    <a:lnTo>
                      <a:pt x="14" y="2"/>
                    </a:lnTo>
                    <a:lnTo>
                      <a:pt x="17" y="8"/>
                    </a:lnTo>
                    <a:lnTo>
                      <a:pt x="17" y="1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3" name=""/>
              <p:cNvSpPr/>
              <p:nvPr/>
            </p:nvSpPr>
            <p:spPr>
              <a:xfrm>
                <a:off x="7340760" y="2435400"/>
                <a:ext cx="10800" cy="12600"/>
              </a:xfrm>
              <a:custGeom>
                <a:avLst/>
                <a:gdLst/>
                <a:ahLst/>
                <a:rect l="l" t="t" r="r" b="b"/>
                <a:pathLst>
                  <a:path w="20" h="22">
                    <a:moveTo>
                      <a:pt x="13" y="22"/>
                    </a:moveTo>
                    <a:lnTo>
                      <a:pt x="4" y="19"/>
                    </a:lnTo>
                    <a:lnTo>
                      <a:pt x="0" y="13"/>
                    </a:lnTo>
                    <a:lnTo>
                      <a:pt x="0" y="6"/>
                    </a:lnTo>
                    <a:lnTo>
                      <a:pt x="4" y="0"/>
                    </a:lnTo>
                    <a:lnTo>
                      <a:pt x="13" y="1"/>
                    </a:lnTo>
                    <a:lnTo>
                      <a:pt x="19" y="7"/>
                    </a:lnTo>
                    <a:lnTo>
                      <a:pt x="20" y="14"/>
                    </a:lnTo>
                    <a:lnTo>
                      <a:pt x="13"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4" name=""/>
              <p:cNvSpPr/>
              <p:nvPr/>
            </p:nvSpPr>
            <p:spPr>
              <a:xfrm>
                <a:off x="7475400" y="2432160"/>
                <a:ext cx="12960" cy="12600"/>
              </a:xfrm>
              <a:custGeom>
                <a:avLst/>
                <a:gdLst/>
                <a:ahLst/>
                <a:rect l="l" t="t" r="r" b="b"/>
                <a:pathLst>
                  <a:path w="25" h="24">
                    <a:moveTo>
                      <a:pt x="9" y="24"/>
                    </a:moveTo>
                    <a:lnTo>
                      <a:pt x="0" y="3"/>
                    </a:lnTo>
                    <a:lnTo>
                      <a:pt x="4" y="0"/>
                    </a:lnTo>
                    <a:lnTo>
                      <a:pt x="11" y="1"/>
                    </a:lnTo>
                    <a:lnTo>
                      <a:pt x="19" y="5"/>
                    </a:lnTo>
                    <a:lnTo>
                      <a:pt x="25" y="14"/>
                    </a:lnTo>
                    <a:lnTo>
                      <a:pt x="9"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5" name=""/>
              <p:cNvSpPr/>
              <p:nvPr/>
            </p:nvSpPr>
            <p:spPr>
              <a:xfrm>
                <a:off x="7191360" y="2432160"/>
                <a:ext cx="11160" cy="9360"/>
              </a:xfrm>
              <a:custGeom>
                <a:avLst/>
                <a:gdLst/>
                <a:ahLst/>
                <a:rect l="l" t="t" r="r" b="b"/>
                <a:pathLst>
                  <a:path w="20" h="17">
                    <a:moveTo>
                      <a:pt x="11" y="17"/>
                    </a:moveTo>
                    <a:lnTo>
                      <a:pt x="0" y="0"/>
                    </a:lnTo>
                    <a:lnTo>
                      <a:pt x="20" y="4"/>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6" name=""/>
              <p:cNvSpPr/>
              <p:nvPr/>
            </p:nvSpPr>
            <p:spPr>
              <a:xfrm>
                <a:off x="7575480" y="2422440"/>
                <a:ext cx="11160" cy="12960"/>
              </a:xfrm>
              <a:custGeom>
                <a:avLst/>
                <a:gdLst/>
                <a:ahLst/>
                <a:rect l="l" t="t" r="r" b="b"/>
                <a:pathLst>
                  <a:path w="21" h="25">
                    <a:moveTo>
                      <a:pt x="7" y="25"/>
                    </a:moveTo>
                    <a:lnTo>
                      <a:pt x="1" y="21"/>
                    </a:lnTo>
                    <a:lnTo>
                      <a:pt x="0" y="12"/>
                    </a:lnTo>
                    <a:lnTo>
                      <a:pt x="4" y="3"/>
                    </a:lnTo>
                    <a:lnTo>
                      <a:pt x="14" y="0"/>
                    </a:lnTo>
                    <a:lnTo>
                      <a:pt x="21" y="5"/>
                    </a:lnTo>
                    <a:lnTo>
                      <a:pt x="21" y="15"/>
                    </a:lnTo>
                    <a:lnTo>
                      <a:pt x="16" y="23"/>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7" name=""/>
              <p:cNvSpPr/>
              <p:nvPr/>
            </p:nvSpPr>
            <p:spPr>
              <a:xfrm>
                <a:off x="7270920" y="2408400"/>
                <a:ext cx="10800" cy="15840"/>
              </a:xfrm>
              <a:custGeom>
                <a:avLst/>
                <a:gdLst/>
                <a:ahLst/>
                <a:rect l="l" t="t" r="r" b="b"/>
                <a:pathLst>
                  <a:path w="20" h="29">
                    <a:moveTo>
                      <a:pt x="13" y="29"/>
                    </a:moveTo>
                    <a:lnTo>
                      <a:pt x="7" y="26"/>
                    </a:lnTo>
                    <a:lnTo>
                      <a:pt x="3" y="19"/>
                    </a:lnTo>
                    <a:lnTo>
                      <a:pt x="0" y="9"/>
                    </a:lnTo>
                    <a:lnTo>
                      <a:pt x="3" y="0"/>
                    </a:lnTo>
                    <a:lnTo>
                      <a:pt x="20" y="12"/>
                    </a:lnTo>
                    <a:lnTo>
                      <a:pt x="1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8" name=""/>
              <p:cNvSpPr/>
              <p:nvPr/>
            </p:nvSpPr>
            <p:spPr>
              <a:xfrm>
                <a:off x="7105680" y="2403360"/>
                <a:ext cx="11160" cy="15840"/>
              </a:xfrm>
              <a:custGeom>
                <a:avLst/>
                <a:gdLst/>
                <a:ahLst/>
                <a:rect l="l" t="t" r="r" b="b"/>
                <a:pathLst>
                  <a:path w="21" h="29">
                    <a:moveTo>
                      <a:pt x="6" y="29"/>
                    </a:moveTo>
                    <a:lnTo>
                      <a:pt x="2" y="23"/>
                    </a:lnTo>
                    <a:lnTo>
                      <a:pt x="0" y="15"/>
                    </a:lnTo>
                    <a:lnTo>
                      <a:pt x="0" y="6"/>
                    </a:lnTo>
                    <a:lnTo>
                      <a:pt x="5" y="0"/>
                    </a:lnTo>
                    <a:lnTo>
                      <a:pt x="13" y="3"/>
                    </a:lnTo>
                    <a:lnTo>
                      <a:pt x="19" y="12"/>
                    </a:lnTo>
                    <a:lnTo>
                      <a:pt x="21" y="20"/>
                    </a:lnTo>
                    <a:lnTo>
                      <a:pt x="13" y="29"/>
                    </a:lnTo>
                    <a:lnTo>
                      <a:pt x="6"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9" name=""/>
              <p:cNvSpPr/>
              <p:nvPr/>
            </p:nvSpPr>
            <p:spPr>
              <a:xfrm>
                <a:off x="7388280" y="2386080"/>
                <a:ext cx="11160" cy="11160"/>
              </a:xfrm>
              <a:custGeom>
                <a:avLst/>
                <a:gdLst/>
                <a:ahLst/>
                <a:rect l="l" t="t" r="r" b="b"/>
                <a:pathLst>
                  <a:path w="20" h="21">
                    <a:moveTo>
                      <a:pt x="1" y="21"/>
                    </a:moveTo>
                    <a:lnTo>
                      <a:pt x="0" y="0"/>
                    </a:lnTo>
                    <a:lnTo>
                      <a:pt x="20" y="3"/>
                    </a:lnTo>
                    <a:lnTo>
                      <a:pt x="20" y="10"/>
                    </a:lnTo>
                    <a:lnTo>
                      <a:pt x="17" y="16"/>
                    </a:lnTo>
                    <a:lnTo>
                      <a:pt x="11" y="19"/>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0" name=""/>
              <p:cNvSpPr/>
              <p:nvPr/>
            </p:nvSpPr>
            <p:spPr>
              <a:xfrm>
                <a:off x="7021440" y="2382840"/>
                <a:ext cx="15840" cy="14400"/>
              </a:xfrm>
              <a:custGeom>
                <a:avLst/>
                <a:gdLst/>
                <a:ahLst/>
                <a:rect l="l" t="t" r="r" b="b"/>
                <a:pathLst>
                  <a:path w="32" h="29">
                    <a:moveTo>
                      <a:pt x="22" y="29"/>
                    </a:moveTo>
                    <a:lnTo>
                      <a:pt x="0" y="21"/>
                    </a:lnTo>
                    <a:lnTo>
                      <a:pt x="3" y="0"/>
                    </a:lnTo>
                    <a:lnTo>
                      <a:pt x="13" y="3"/>
                    </a:lnTo>
                    <a:lnTo>
                      <a:pt x="22" y="7"/>
                    </a:lnTo>
                    <a:lnTo>
                      <a:pt x="28" y="11"/>
                    </a:lnTo>
                    <a:lnTo>
                      <a:pt x="32" y="20"/>
                    </a:lnTo>
                    <a:lnTo>
                      <a:pt x="22"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1" name=""/>
              <p:cNvSpPr/>
              <p:nvPr/>
            </p:nvSpPr>
            <p:spPr>
              <a:xfrm>
                <a:off x="7500960" y="2379600"/>
                <a:ext cx="12600" cy="9720"/>
              </a:xfrm>
              <a:custGeom>
                <a:avLst/>
                <a:gdLst/>
                <a:ahLst/>
                <a:rect l="l" t="t" r="r" b="b"/>
                <a:pathLst>
                  <a:path w="23" h="20">
                    <a:moveTo>
                      <a:pt x="4" y="20"/>
                    </a:moveTo>
                    <a:lnTo>
                      <a:pt x="0" y="0"/>
                    </a:lnTo>
                    <a:lnTo>
                      <a:pt x="22" y="4"/>
                    </a:lnTo>
                    <a:lnTo>
                      <a:pt x="23" y="10"/>
                    </a:lnTo>
                    <a:lnTo>
                      <a:pt x="19" y="16"/>
                    </a:lnTo>
                    <a:lnTo>
                      <a:pt x="13" y="19"/>
                    </a:lnTo>
                    <a:lnTo>
                      <a:pt x="4"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32" name=""/>
              <p:cNvSpPr/>
              <p:nvPr/>
            </p:nvSpPr>
            <p:spPr>
              <a:xfrm>
                <a:off x="7450200" y="2370240"/>
                <a:ext cx="12600" cy="12600"/>
              </a:xfrm>
              <a:custGeom>
                <a:avLst/>
                <a:gdLst/>
                <a:ahLst/>
                <a:rect l="l" t="t" r="r" b="b"/>
                <a:pathLst>
                  <a:path w="26" h="22">
                    <a:moveTo>
                      <a:pt x="9" y="22"/>
                    </a:moveTo>
                    <a:lnTo>
                      <a:pt x="0" y="12"/>
                    </a:lnTo>
                    <a:lnTo>
                      <a:pt x="3" y="4"/>
                    </a:lnTo>
                    <a:lnTo>
                      <a:pt x="12" y="0"/>
                    </a:lnTo>
                    <a:lnTo>
                      <a:pt x="20" y="1"/>
                    </a:lnTo>
                    <a:lnTo>
                      <a:pt x="26" y="7"/>
                    </a:lnTo>
                    <a:lnTo>
                      <a:pt x="9"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3" name=""/>
              <p:cNvSpPr/>
              <p:nvPr/>
            </p:nvSpPr>
            <p:spPr>
              <a:xfrm>
                <a:off x="7172280" y="2371680"/>
                <a:ext cx="11160" cy="9720"/>
              </a:xfrm>
              <a:custGeom>
                <a:avLst/>
                <a:gdLst/>
                <a:ahLst/>
                <a:rect l="l" t="t" r="r" b="b"/>
                <a:pathLst>
                  <a:path w="23" h="18">
                    <a:moveTo>
                      <a:pt x="6" y="18"/>
                    </a:moveTo>
                    <a:lnTo>
                      <a:pt x="0" y="0"/>
                    </a:lnTo>
                    <a:lnTo>
                      <a:pt x="23" y="6"/>
                    </a:lnTo>
                    <a:lnTo>
                      <a:pt x="6"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34" name=""/>
              <p:cNvSpPr/>
              <p:nvPr/>
            </p:nvSpPr>
            <p:spPr>
              <a:xfrm>
                <a:off x="7243920" y="2346480"/>
                <a:ext cx="10800" cy="10800"/>
              </a:xfrm>
              <a:custGeom>
                <a:avLst/>
                <a:gdLst/>
                <a:ahLst/>
                <a:rect l="l" t="t" r="r" b="b"/>
                <a:pathLst>
                  <a:path w="21" h="20">
                    <a:moveTo>
                      <a:pt x="8" y="20"/>
                    </a:moveTo>
                    <a:lnTo>
                      <a:pt x="0" y="3"/>
                    </a:lnTo>
                    <a:lnTo>
                      <a:pt x="7" y="0"/>
                    </a:lnTo>
                    <a:lnTo>
                      <a:pt x="16" y="2"/>
                    </a:lnTo>
                    <a:lnTo>
                      <a:pt x="20" y="7"/>
                    </a:lnTo>
                    <a:lnTo>
                      <a:pt x="21" y="16"/>
                    </a:lnTo>
                    <a:lnTo>
                      <a:pt x="8"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5" name=""/>
              <p:cNvSpPr/>
              <p:nvPr/>
            </p:nvSpPr>
            <p:spPr>
              <a:xfrm>
                <a:off x="6999120" y="2333520"/>
                <a:ext cx="11160" cy="11160"/>
              </a:xfrm>
              <a:custGeom>
                <a:avLst/>
                <a:gdLst/>
                <a:ahLst/>
                <a:rect l="l" t="t" r="r" b="b"/>
                <a:pathLst>
                  <a:path w="19" h="22">
                    <a:moveTo>
                      <a:pt x="4" y="22"/>
                    </a:moveTo>
                    <a:lnTo>
                      <a:pt x="0" y="0"/>
                    </a:lnTo>
                    <a:lnTo>
                      <a:pt x="19" y="7"/>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6" name=""/>
              <p:cNvSpPr/>
              <p:nvPr/>
            </p:nvSpPr>
            <p:spPr>
              <a:xfrm>
                <a:off x="7064280" y="2332080"/>
                <a:ext cx="12960" cy="9360"/>
              </a:xfrm>
              <a:custGeom>
                <a:avLst/>
                <a:gdLst/>
                <a:ahLst/>
                <a:rect l="l" t="t" r="r" b="b"/>
                <a:pathLst>
                  <a:path w="24" h="16">
                    <a:moveTo>
                      <a:pt x="4" y="16"/>
                    </a:moveTo>
                    <a:lnTo>
                      <a:pt x="0" y="7"/>
                    </a:lnTo>
                    <a:lnTo>
                      <a:pt x="4" y="1"/>
                    </a:lnTo>
                    <a:lnTo>
                      <a:pt x="13" y="0"/>
                    </a:lnTo>
                    <a:lnTo>
                      <a:pt x="20" y="3"/>
                    </a:lnTo>
                    <a:lnTo>
                      <a:pt x="24" y="8"/>
                    </a:lnTo>
                    <a:lnTo>
                      <a:pt x="4"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7" name=""/>
              <p:cNvSpPr/>
              <p:nvPr/>
            </p:nvSpPr>
            <p:spPr>
              <a:xfrm>
                <a:off x="7143840" y="2305080"/>
                <a:ext cx="14040" cy="14400"/>
              </a:xfrm>
              <a:custGeom>
                <a:avLst/>
                <a:gdLst/>
                <a:ahLst/>
                <a:rect l="l" t="t" r="r" b="b"/>
                <a:pathLst>
                  <a:path w="25" h="26">
                    <a:moveTo>
                      <a:pt x="7" y="26"/>
                    </a:moveTo>
                    <a:lnTo>
                      <a:pt x="0" y="20"/>
                    </a:lnTo>
                    <a:lnTo>
                      <a:pt x="2" y="12"/>
                    </a:lnTo>
                    <a:lnTo>
                      <a:pt x="6" y="5"/>
                    </a:lnTo>
                    <a:lnTo>
                      <a:pt x="13" y="0"/>
                    </a:lnTo>
                    <a:lnTo>
                      <a:pt x="23" y="5"/>
                    </a:lnTo>
                    <a:lnTo>
                      <a:pt x="25" y="13"/>
                    </a:lnTo>
                    <a:lnTo>
                      <a:pt x="23" y="19"/>
                    </a:lnTo>
                    <a:lnTo>
                      <a:pt x="18" y="23"/>
                    </a:lnTo>
                    <a:lnTo>
                      <a:pt x="7"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8" name=""/>
              <p:cNvSpPr/>
              <p:nvPr/>
            </p:nvSpPr>
            <p:spPr>
              <a:xfrm>
                <a:off x="8317080" y="2271600"/>
                <a:ext cx="9360" cy="11160"/>
              </a:xfrm>
              <a:custGeom>
                <a:avLst/>
                <a:gdLst/>
                <a:ahLst/>
                <a:rect l="l" t="t" r="r" b="b"/>
                <a:pathLst>
                  <a:path w="18" h="21">
                    <a:moveTo>
                      <a:pt x="1" y="21"/>
                    </a:moveTo>
                    <a:lnTo>
                      <a:pt x="0" y="0"/>
                    </a:lnTo>
                    <a:lnTo>
                      <a:pt x="18" y="1"/>
                    </a:lnTo>
                    <a:lnTo>
                      <a:pt x="17" y="8"/>
                    </a:lnTo>
                    <a:lnTo>
                      <a:pt x="14" y="14"/>
                    </a:lnTo>
                    <a:lnTo>
                      <a:pt x="10" y="18"/>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9" name=""/>
              <p:cNvSpPr/>
              <p:nvPr/>
            </p:nvSpPr>
            <p:spPr>
              <a:xfrm>
                <a:off x="8381880" y="2270160"/>
                <a:ext cx="9720" cy="9360"/>
              </a:xfrm>
              <a:custGeom>
                <a:avLst/>
                <a:gdLst/>
                <a:ahLst/>
                <a:rect l="l" t="t" r="r" b="b"/>
                <a:pathLst>
                  <a:path w="17" h="17">
                    <a:moveTo>
                      <a:pt x="5" y="17"/>
                    </a:moveTo>
                    <a:lnTo>
                      <a:pt x="0" y="1"/>
                    </a:lnTo>
                    <a:lnTo>
                      <a:pt x="10" y="0"/>
                    </a:lnTo>
                    <a:lnTo>
                      <a:pt x="17" y="7"/>
                    </a:lnTo>
                    <a:lnTo>
                      <a:pt x="17" y="14"/>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0" name=""/>
              <p:cNvSpPr/>
              <p:nvPr/>
            </p:nvSpPr>
            <p:spPr>
              <a:xfrm>
                <a:off x="7118280" y="2268360"/>
                <a:ext cx="11160" cy="11160"/>
              </a:xfrm>
              <a:custGeom>
                <a:avLst/>
                <a:gdLst/>
                <a:ahLst/>
                <a:rect l="l" t="t" r="r" b="b"/>
                <a:pathLst>
                  <a:path w="23" h="20">
                    <a:moveTo>
                      <a:pt x="4" y="20"/>
                    </a:moveTo>
                    <a:lnTo>
                      <a:pt x="0" y="0"/>
                    </a:lnTo>
                    <a:lnTo>
                      <a:pt x="20" y="3"/>
                    </a:lnTo>
                    <a:lnTo>
                      <a:pt x="23" y="10"/>
                    </a:lnTo>
                    <a:lnTo>
                      <a:pt x="20" y="16"/>
                    </a:lnTo>
                    <a:lnTo>
                      <a:pt x="14"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1" name=""/>
              <p:cNvSpPr/>
              <p:nvPr/>
            </p:nvSpPr>
            <p:spPr>
              <a:xfrm>
                <a:off x="8248680" y="2249640"/>
                <a:ext cx="14400" cy="9360"/>
              </a:xfrm>
              <a:custGeom>
                <a:avLst/>
                <a:gdLst/>
                <a:ahLst/>
                <a:rect l="l" t="t" r="r" b="b"/>
                <a:pathLst>
                  <a:path w="26" h="18">
                    <a:moveTo>
                      <a:pt x="7" y="18"/>
                    </a:moveTo>
                    <a:lnTo>
                      <a:pt x="0" y="8"/>
                    </a:lnTo>
                    <a:lnTo>
                      <a:pt x="4" y="2"/>
                    </a:lnTo>
                    <a:lnTo>
                      <a:pt x="11" y="0"/>
                    </a:lnTo>
                    <a:lnTo>
                      <a:pt x="20" y="3"/>
                    </a:lnTo>
                    <a:lnTo>
                      <a:pt x="26" y="8"/>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2" name=""/>
              <p:cNvSpPr/>
              <p:nvPr/>
            </p:nvSpPr>
            <p:spPr>
              <a:xfrm>
                <a:off x="7056360" y="2257560"/>
                <a:ext cx="11160" cy="12600"/>
              </a:xfrm>
              <a:custGeom>
                <a:avLst/>
                <a:gdLst/>
                <a:ahLst/>
                <a:rect l="l" t="t" r="r" b="b"/>
                <a:pathLst>
                  <a:path w="19" h="24">
                    <a:moveTo>
                      <a:pt x="3" y="24"/>
                    </a:moveTo>
                    <a:lnTo>
                      <a:pt x="0" y="17"/>
                    </a:lnTo>
                    <a:lnTo>
                      <a:pt x="2" y="10"/>
                    </a:lnTo>
                    <a:lnTo>
                      <a:pt x="8" y="3"/>
                    </a:lnTo>
                    <a:lnTo>
                      <a:pt x="13" y="0"/>
                    </a:lnTo>
                    <a:lnTo>
                      <a:pt x="19" y="4"/>
                    </a:lnTo>
                    <a:lnTo>
                      <a:pt x="19" y="13"/>
                    </a:lnTo>
                    <a:lnTo>
                      <a:pt x="13" y="21"/>
                    </a:lnTo>
                    <a:lnTo>
                      <a:pt x="3"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3" name=""/>
              <p:cNvSpPr/>
              <p:nvPr/>
            </p:nvSpPr>
            <p:spPr>
              <a:xfrm>
                <a:off x="7002360" y="2232000"/>
                <a:ext cx="12960" cy="12600"/>
              </a:xfrm>
              <a:custGeom>
                <a:avLst/>
                <a:gdLst/>
                <a:ahLst/>
                <a:rect l="l" t="t" r="r" b="b"/>
                <a:pathLst>
                  <a:path w="26" h="24">
                    <a:moveTo>
                      <a:pt x="5" y="24"/>
                    </a:moveTo>
                    <a:lnTo>
                      <a:pt x="0" y="2"/>
                    </a:lnTo>
                    <a:lnTo>
                      <a:pt x="9" y="0"/>
                    </a:lnTo>
                    <a:lnTo>
                      <a:pt x="16" y="1"/>
                    </a:lnTo>
                    <a:lnTo>
                      <a:pt x="22" y="5"/>
                    </a:lnTo>
                    <a:lnTo>
                      <a:pt x="26" y="14"/>
                    </a:lnTo>
                    <a:lnTo>
                      <a:pt x="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4" name=""/>
              <p:cNvSpPr/>
              <p:nvPr/>
            </p:nvSpPr>
            <p:spPr>
              <a:xfrm>
                <a:off x="8170920" y="2211480"/>
                <a:ext cx="9360" cy="11160"/>
              </a:xfrm>
              <a:custGeom>
                <a:avLst/>
                <a:gdLst/>
                <a:ahLst/>
                <a:rect l="l" t="t" r="r" b="b"/>
                <a:pathLst>
                  <a:path w="19" h="22">
                    <a:moveTo>
                      <a:pt x="9" y="22"/>
                    </a:moveTo>
                    <a:lnTo>
                      <a:pt x="0" y="15"/>
                    </a:lnTo>
                    <a:lnTo>
                      <a:pt x="15" y="0"/>
                    </a:lnTo>
                    <a:lnTo>
                      <a:pt x="19" y="4"/>
                    </a:lnTo>
                    <a:lnTo>
                      <a:pt x="19" y="13"/>
                    </a:lnTo>
                    <a:lnTo>
                      <a:pt x="16" y="20"/>
                    </a:lnTo>
                    <a:lnTo>
                      <a:pt x="9"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5" name=""/>
              <p:cNvSpPr/>
              <p:nvPr/>
            </p:nvSpPr>
            <p:spPr>
              <a:xfrm>
                <a:off x="8045280" y="2203560"/>
                <a:ext cx="9720" cy="12600"/>
              </a:xfrm>
              <a:custGeom>
                <a:avLst/>
                <a:gdLst/>
                <a:ahLst/>
                <a:rect l="l" t="t" r="r" b="b"/>
                <a:pathLst>
                  <a:path w="19" h="23">
                    <a:moveTo>
                      <a:pt x="2" y="23"/>
                    </a:moveTo>
                    <a:lnTo>
                      <a:pt x="0" y="17"/>
                    </a:lnTo>
                    <a:lnTo>
                      <a:pt x="2" y="10"/>
                    </a:lnTo>
                    <a:lnTo>
                      <a:pt x="6" y="2"/>
                    </a:lnTo>
                    <a:lnTo>
                      <a:pt x="15" y="0"/>
                    </a:lnTo>
                    <a:lnTo>
                      <a:pt x="19" y="4"/>
                    </a:lnTo>
                    <a:lnTo>
                      <a:pt x="18" y="13"/>
                    </a:lnTo>
                    <a:lnTo>
                      <a:pt x="12" y="21"/>
                    </a:lnTo>
                    <a:lnTo>
                      <a:pt x="2"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8396280" y="2193840"/>
                <a:ext cx="9360" cy="14400"/>
              </a:xfrm>
              <a:custGeom>
                <a:avLst/>
                <a:gdLst/>
                <a:ahLst/>
                <a:rect l="l" t="t" r="r" b="b"/>
                <a:pathLst>
                  <a:path w="17" h="27">
                    <a:moveTo>
                      <a:pt x="4" y="27"/>
                    </a:moveTo>
                    <a:lnTo>
                      <a:pt x="1" y="21"/>
                    </a:lnTo>
                    <a:lnTo>
                      <a:pt x="0" y="14"/>
                    </a:lnTo>
                    <a:lnTo>
                      <a:pt x="1" y="7"/>
                    </a:lnTo>
                    <a:lnTo>
                      <a:pt x="7" y="0"/>
                    </a:lnTo>
                    <a:lnTo>
                      <a:pt x="14" y="3"/>
                    </a:lnTo>
                    <a:lnTo>
                      <a:pt x="17" y="10"/>
                    </a:lnTo>
                    <a:lnTo>
                      <a:pt x="17" y="19"/>
                    </a:lnTo>
                    <a:lnTo>
                      <a:pt x="14" y="27"/>
                    </a:lnTo>
                    <a:lnTo>
                      <a:pt x="4"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7" name=""/>
              <p:cNvSpPr/>
              <p:nvPr/>
            </p:nvSpPr>
            <p:spPr>
              <a:xfrm>
                <a:off x="7104240" y="2200320"/>
                <a:ext cx="10800" cy="14400"/>
              </a:xfrm>
              <a:custGeom>
                <a:avLst/>
                <a:gdLst/>
                <a:ahLst/>
                <a:rect l="l" t="t" r="r" b="b"/>
                <a:pathLst>
                  <a:path w="21" h="25">
                    <a:moveTo>
                      <a:pt x="7" y="25"/>
                    </a:moveTo>
                    <a:lnTo>
                      <a:pt x="0" y="0"/>
                    </a:lnTo>
                    <a:lnTo>
                      <a:pt x="17" y="0"/>
                    </a:lnTo>
                    <a:lnTo>
                      <a:pt x="21" y="3"/>
                    </a:lnTo>
                    <a:lnTo>
                      <a:pt x="21" y="12"/>
                    </a:lnTo>
                    <a:lnTo>
                      <a:pt x="15" y="22"/>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8" name=""/>
              <p:cNvSpPr/>
              <p:nvPr/>
            </p:nvSpPr>
            <p:spPr>
              <a:xfrm>
                <a:off x="8105760" y="2189160"/>
                <a:ext cx="12600" cy="9360"/>
              </a:xfrm>
              <a:custGeom>
                <a:avLst/>
                <a:gdLst/>
                <a:ahLst/>
                <a:rect l="l" t="t" r="r" b="b"/>
                <a:pathLst>
                  <a:path w="25" h="20">
                    <a:moveTo>
                      <a:pt x="9" y="20"/>
                    </a:moveTo>
                    <a:lnTo>
                      <a:pt x="0" y="9"/>
                    </a:lnTo>
                    <a:lnTo>
                      <a:pt x="3" y="3"/>
                    </a:lnTo>
                    <a:lnTo>
                      <a:pt x="12" y="0"/>
                    </a:lnTo>
                    <a:lnTo>
                      <a:pt x="21" y="2"/>
                    </a:lnTo>
                    <a:lnTo>
                      <a:pt x="25" y="6"/>
                    </a:lnTo>
                    <a:lnTo>
                      <a:pt x="9"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9" name=""/>
              <p:cNvSpPr/>
              <p:nvPr/>
            </p:nvSpPr>
            <p:spPr>
              <a:xfrm>
                <a:off x="8340840" y="2185920"/>
                <a:ext cx="11160" cy="7920"/>
              </a:xfrm>
              <a:custGeom>
                <a:avLst/>
                <a:gdLst/>
                <a:ahLst/>
                <a:rect l="l" t="t" r="r" b="b"/>
                <a:pathLst>
                  <a:path w="19" h="16">
                    <a:moveTo>
                      <a:pt x="3" y="16"/>
                    </a:moveTo>
                    <a:lnTo>
                      <a:pt x="0" y="8"/>
                    </a:lnTo>
                    <a:lnTo>
                      <a:pt x="4" y="2"/>
                    </a:lnTo>
                    <a:lnTo>
                      <a:pt x="11" y="0"/>
                    </a:lnTo>
                    <a:lnTo>
                      <a:pt x="19" y="9"/>
                    </a:lnTo>
                    <a:lnTo>
                      <a:pt x="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0" name=""/>
              <p:cNvSpPr/>
              <p:nvPr/>
            </p:nvSpPr>
            <p:spPr>
              <a:xfrm>
                <a:off x="7931160" y="2181240"/>
                <a:ext cx="15840" cy="12600"/>
              </a:xfrm>
              <a:custGeom>
                <a:avLst/>
                <a:gdLst/>
                <a:ahLst/>
                <a:rect l="l" t="t" r="r" b="b"/>
                <a:pathLst>
                  <a:path w="29" h="22">
                    <a:moveTo>
                      <a:pt x="14" y="22"/>
                    </a:moveTo>
                    <a:lnTo>
                      <a:pt x="0" y="9"/>
                    </a:lnTo>
                    <a:lnTo>
                      <a:pt x="7" y="2"/>
                    </a:lnTo>
                    <a:lnTo>
                      <a:pt x="17" y="0"/>
                    </a:lnTo>
                    <a:lnTo>
                      <a:pt x="24" y="2"/>
                    </a:lnTo>
                    <a:lnTo>
                      <a:pt x="29" y="9"/>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1" name=""/>
              <p:cNvSpPr/>
              <p:nvPr/>
            </p:nvSpPr>
            <p:spPr>
              <a:xfrm>
                <a:off x="7991640" y="2171880"/>
                <a:ext cx="10800" cy="10800"/>
              </a:xfrm>
              <a:custGeom>
                <a:avLst/>
                <a:gdLst/>
                <a:ahLst/>
                <a:rect l="l" t="t" r="r" b="b"/>
                <a:pathLst>
                  <a:path w="22" h="22">
                    <a:moveTo>
                      <a:pt x="6" y="22"/>
                    </a:moveTo>
                    <a:lnTo>
                      <a:pt x="0" y="0"/>
                    </a:lnTo>
                    <a:lnTo>
                      <a:pt x="22" y="3"/>
                    </a:lnTo>
                    <a:lnTo>
                      <a:pt x="6"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2" name=""/>
              <p:cNvSpPr/>
              <p:nvPr/>
            </p:nvSpPr>
            <p:spPr>
              <a:xfrm>
                <a:off x="8263080" y="2163600"/>
                <a:ext cx="10800" cy="12960"/>
              </a:xfrm>
              <a:custGeom>
                <a:avLst/>
                <a:gdLst/>
                <a:ahLst/>
                <a:rect l="l" t="t" r="r" b="b"/>
                <a:pathLst>
                  <a:path w="22" h="25">
                    <a:moveTo>
                      <a:pt x="9" y="25"/>
                    </a:moveTo>
                    <a:lnTo>
                      <a:pt x="0" y="18"/>
                    </a:lnTo>
                    <a:lnTo>
                      <a:pt x="2" y="11"/>
                    </a:lnTo>
                    <a:lnTo>
                      <a:pt x="6" y="5"/>
                    </a:lnTo>
                    <a:lnTo>
                      <a:pt x="12" y="0"/>
                    </a:lnTo>
                    <a:lnTo>
                      <a:pt x="21" y="0"/>
                    </a:lnTo>
                    <a:lnTo>
                      <a:pt x="22" y="8"/>
                    </a:lnTo>
                    <a:lnTo>
                      <a:pt x="21" y="13"/>
                    </a:lnTo>
                    <a:lnTo>
                      <a:pt x="16" y="19"/>
                    </a:lnTo>
                    <a:lnTo>
                      <a:pt x="9"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3" name=""/>
              <p:cNvSpPr/>
              <p:nvPr/>
            </p:nvSpPr>
            <p:spPr>
              <a:xfrm>
                <a:off x="6997680" y="2162160"/>
                <a:ext cx="9720" cy="12600"/>
              </a:xfrm>
              <a:custGeom>
                <a:avLst/>
                <a:gdLst/>
                <a:ahLst/>
                <a:rect l="l" t="t" r="r" b="b"/>
                <a:pathLst>
                  <a:path w="17" h="23">
                    <a:moveTo>
                      <a:pt x="0" y="23"/>
                    </a:moveTo>
                    <a:lnTo>
                      <a:pt x="0" y="1"/>
                    </a:lnTo>
                    <a:lnTo>
                      <a:pt x="17" y="0"/>
                    </a:lnTo>
                    <a:lnTo>
                      <a:pt x="17" y="9"/>
                    </a:lnTo>
                    <a:lnTo>
                      <a:pt x="16" y="16"/>
                    </a:lnTo>
                    <a:lnTo>
                      <a:pt x="10" y="22"/>
                    </a:lnTo>
                    <a:lnTo>
                      <a:pt x="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4" name=""/>
              <p:cNvSpPr/>
              <p:nvPr/>
            </p:nvSpPr>
            <p:spPr>
              <a:xfrm>
                <a:off x="7826400" y="2146320"/>
                <a:ext cx="14400" cy="12600"/>
              </a:xfrm>
              <a:custGeom>
                <a:avLst/>
                <a:gdLst/>
                <a:ahLst/>
                <a:rect l="l" t="t" r="r" b="b"/>
                <a:pathLst>
                  <a:path w="25" h="25">
                    <a:moveTo>
                      <a:pt x="7" y="25"/>
                    </a:moveTo>
                    <a:lnTo>
                      <a:pt x="0" y="18"/>
                    </a:lnTo>
                    <a:lnTo>
                      <a:pt x="0" y="7"/>
                    </a:lnTo>
                    <a:lnTo>
                      <a:pt x="3" y="2"/>
                    </a:lnTo>
                    <a:lnTo>
                      <a:pt x="12" y="0"/>
                    </a:lnTo>
                    <a:lnTo>
                      <a:pt x="20" y="3"/>
                    </a:lnTo>
                    <a:lnTo>
                      <a:pt x="25" y="7"/>
                    </a:lnTo>
                    <a:lnTo>
                      <a:pt x="7"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5" name=""/>
              <p:cNvSpPr/>
              <p:nvPr/>
            </p:nvSpPr>
            <p:spPr>
              <a:xfrm>
                <a:off x="7062840" y="2154240"/>
                <a:ext cx="11160" cy="14400"/>
              </a:xfrm>
              <a:custGeom>
                <a:avLst/>
                <a:gdLst/>
                <a:ahLst/>
                <a:rect l="l" t="t" r="r" b="b"/>
                <a:pathLst>
                  <a:path w="21" h="26">
                    <a:moveTo>
                      <a:pt x="15" y="26"/>
                    </a:moveTo>
                    <a:lnTo>
                      <a:pt x="0" y="9"/>
                    </a:lnTo>
                    <a:lnTo>
                      <a:pt x="17" y="0"/>
                    </a:lnTo>
                    <a:lnTo>
                      <a:pt x="20" y="3"/>
                    </a:lnTo>
                    <a:lnTo>
                      <a:pt x="21" y="10"/>
                    </a:lnTo>
                    <a:lnTo>
                      <a:pt x="20" y="19"/>
                    </a:lnTo>
                    <a:lnTo>
                      <a:pt x="15"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6" name=""/>
              <p:cNvSpPr/>
              <p:nvPr/>
            </p:nvSpPr>
            <p:spPr>
              <a:xfrm>
                <a:off x="8194680" y="2143080"/>
                <a:ext cx="12600" cy="7920"/>
              </a:xfrm>
              <a:custGeom>
                <a:avLst/>
                <a:gdLst/>
                <a:ahLst/>
                <a:rect l="l" t="t" r="r" b="b"/>
                <a:pathLst>
                  <a:path w="24" h="16">
                    <a:moveTo>
                      <a:pt x="7" y="16"/>
                    </a:moveTo>
                    <a:lnTo>
                      <a:pt x="0" y="6"/>
                    </a:lnTo>
                    <a:lnTo>
                      <a:pt x="4" y="0"/>
                    </a:lnTo>
                    <a:lnTo>
                      <a:pt x="11" y="0"/>
                    </a:lnTo>
                    <a:lnTo>
                      <a:pt x="20" y="2"/>
                    </a:lnTo>
                    <a:lnTo>
                      <a:pt x="24" y="6"/>
                    </a:lnTo>
                    <a:lnTo>
                      <a:pt x="7"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7" name=""/>
              <p:cNvSpPr/>
              <p:nvPr/>
            </p:nvSpPr>
            <p:spPr>
              <a:xfrm>
                <a:off x="7435800" y="2062080"/>
                <a:ext cx="68400" cy="95400"/>
              </a:xfrm>
              <a:custGeom>
                <a:avLst/>
                <a:gdLst/>
                <a:ahLst/>
                <a:rect l="l" t="t" r="r" b="b"/>
                <a:pathLst>
                  <a:path w="131" h="182">
                    <a:moveTo>
                      <a:pt x="20" y="182"/>
                    </a:moveTo>
                    <a:lnTo>
                      <a:pt x="0" y="174"/>
                    </a:lnTo>
                    <a:lnTo>
                      <a:pt x="10" y="166"/>
                    </a:lnTo>
                    <a:lnTo>
                      <a:pt x="21" y="159"/>
                    </a:lnTo>
                    <a:lnTo>
                      <a:pt x="34" y="155"/>
                    </a:lnTo>
                    <a:lnTo>
                      <a:pt x="47" y="151"/>
                    </a:lnTo>
                    <a:lnTo>
                      <a:pt x="60" y="148"/>
                    </a:lnTo>
                    <a:lnTo>
                      <a:pt x="75" y="145"/>
                    </a:lnTo>
                    <a:lnTo>
                      <a:pt x="89" y="140"/>
                    </a:lnTo>
                    <a:lnTo>
                      <a:pt x="104" y="138"/>
                    </a:lnTo>
                    <a:lnTo>
                      <a:pt x="101" y="106"/>
                    </a:lnTo>
                    <a:lnTo>
                      <a:pt x="95" y="75"/>
                    </a:lnTo>
                    <a:lnTo>
                      <a:pt x="88" y="44"/>
                    </a:lnTo>
                    <a:lnTo>
                      <a:pt x="85" y="12"/>
                    </a:lnTo>
                    <a:lnTo>
                      <a:pt x="101" y="0"/>
                    </a:lnTo>
                    <a:lnTo>
                      <a:pt x="108" y="35"/>
                    </a:lnTo>
                    <a:lnTo>
                      <a:pt x="115" y="75"/>
                    </a:lnTo>
                    <a:lnTo>
                      <a:pt x="124" y="116"/>
                    </a:lnTo>
                    <a:lnTo>
                      <a:pt x="131" y="156"/>
                    </a:lnTo>
                    <a:lnTo>
                      <a:pt x="124" y="158"/>
                    </a:lnTo>
                    <a:lnTo>
                      <a:pt x="115" y="158"/>
                    </a:lnTo>
                    <a:lnTo>
                      <a:pt x="108" y="159"/>
                    </a:lnTo>
                    <a:lnTo>
                      <a:pt x="101" y="159"/>
                    </a:lnTo>
                    <a:lnTo>
                      <a:pt x="94" y="159"/>
                    </a:lnTo>
                    <a:lnTo>
                      <a:pt x="85" y="161"/>
                    </a:lnTo>
                    <a:lnTo>
                      <a:pt x="78" y="164"/>
                    </a:lnTo>
                    <a:lnTo>
                      <a:pt x="69" y="166"/>
                    </a:lnTo>
                    <a:lnTo>
                      <a:pt x="63" y="168"/>
                    </a:lnTo>
                    <a:lnTo>
                      <a:pt x="58" y="168"/>
                    </a:lnTo>
                    <a:lnTo>
                      <a:pt x="52" y="171"/>
                    </a:lnTo>
                    <a:lnTo>
                      <a:pt x="46" y="172"/>
                    </a:lnTo>
                    <a:lnTo>
                      <a:pt x="40" y="175"/>
                    </a:lnTo>
                    <a:lnTo>
                      <a:pt x="34" y="177"/>
                    </a:lnTo>
                    <a:lnTo>
                      <a:pt x="27" y="179"/>
                    </a:lnTo>
                    <a:lnTo>
                      <a:pt x="2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055000" y="2138400"/>
                <a:ext cx="7920" cy="11160"/>
              </a:xfrm>
              <a:custGeom>
                <a:avLst/>
                <a:gdLst/>
                <a:ahLst/>
                <a:rect l="l" t="t" r="r" b="b"/>
                <a:pathLst>
                  <a:path w="14" h="21">
                    <a:moveTo>
                      <a:pt x="0" y="21"/>
                    </a:moveTo>
                    <a:lnTo>
                      <a:pt x="3" y="0"/>
                    </a:lnTo>
                    <a:lnTo>
                      <a:pt x="14" y="6"/>
                    </a:lnTo>
                    <a:lnTo>
                      <a:pt x="14" y="11"/>
                    </a:lnTo>
                    <a:lnTo>
                      <a:pt x="12" y="16"/>
                    </a:lnTo>
                    <a:lnTo>
                      <a:pt x="7"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9" name=""/>
              <p:cNvSpPr/>
              <p:nvPr/>
            </p:nvSpPr>
            <p:spPr>
              <a:xfrm>
                <a:off x="7107120" y="1995480"/>
                <a:ext cx="216000" cy="152280"/>
              </a:xfrm>
              <a:custGeom>
                <a:avLst/>
                <a:gdLst/>
                <a:ahLst/>
                <a:rect l="l" t="t" r="r" b="b"/>
                <a:pathLst>
                  <a:path w="410" h="286">
                    <a:moveTo>
                      <a:pt x="326" y="286"/>
                    </a:moveTo>
                    <a:lnTo>
                      <a:pt x="319" y="282"/>
                    </a:lnTo>
                    <a:lnTo>
                      <a:pt x="311" y="282"/>
                    </a:lnTo>
                    <a:lnTo>
                      <a:pt x="304" y="280"/>
                    </a:lnTo>
                    <a:lnTo>
                      <a:pt x="294" y="277"/>
                    </a:lnTo>
                    <a:lnTo>
                      <a:pt x="292" y="254"/>
                    </a:lnTo>
                    <a:lnTo>
                      <a:pt x="282" y="253"/>
                    </a:lnTo>
                    <a:lnTo>
                      <a:pt x="275" y="257"/>
                    </a:lnTo>
                    <a:lnTo>
                      <a:pt x="269" y="263"/>
                    </a:lnTo>
                    <a:lnTo>
                      <a:pt x="258" y="262"/>
                    </a:lnTo>
                    <a:lnTo>
                      <a:pt x="259" y="253"/>
                    </a:lnTo>
                    <a:lnTo>
                      <a:pt x="265" y="244"/>
                    </a:lnTo>
                    <a:lnTo>
                      <a:pt x="269" y="237"/>
                    </a:lnTo>
                    <a:lnTo>
                      <a:pt x="275" y="228"/>
                    </a:lnTo>
                    <a:lnTo>
                      <a:pt x="272" y="218"/>
                    </a:lnTo>
                    <a:lnTo>
                      <a:pt x="252" y="218"/>
                    </a:lnTo>
                    <a:lnTo>
                      <a:pt x="238" y="238"/>
                    </a:lnTo>
                    <a:lnTo>
                      <a:pt x="229" y="233"/>
                    </a:lnTo>
                    <a:lnTo>
                      <a:pt x="235" y="223"/>
                    </a:lnTo>
                    <a:lnTo>
                      <a:pt x="239" y="211"/>
                    </a:lnTo>
                    <a:lnTo>
                      <a:pt x="245" y="201"/>
                    </a:lnTo>
                    <a:lnTo>
                      <a:pt x="251" y="191"/>
                    </a:lnTo>
                    <a:lnTo>
                      <a:pt x="245" y="182"/>
                    </a:lnTo>
                    <a:lnTo>
                      <a:pt x="238" y="181"/>
                    </a:lnTo>
                    <a:lnTo>
                      <a:pt x="227" y="185"/>
                    </a:lnTo>
                    <a:lnTo>
                      <a:pt x="222" y="195"/>
                    </a:lnTo>
                    <a:lnTo>
                      <a:pt x="216" y="207"/>
                    </a:lnTo>
                    <a:lnTo>
                      <a:pt x="206" y="217"/>
                    </a:lnTo>
                    <a:lnTo>
                      <a:pt x="206" y="205"/>
                    </a:lnTo>
                    <a:lnTo>
                      <a:pt x="210" y="195"/>
                    </a:lnTo>
                    <a:lnTo>
                      <a:pt x="214" y="186"/>
                    </a:lnTo>
                    <a:lnTo>
                      <a:pt x="220" y="175"/>
                    </a:lnTo>
                    <a:lnTo>
                      <a:pt x="216" y="153"/>
                    </a:lnTo>
                    <a:lnTo>
                      <a:pt x="204" y="158"/>
                    </a:lnTo>
                    <a:lnTo>
                      <a:pt x="201" y="165"/>
                    </a:lnTo>
                    <a:lnTo>
                      <a:pt x="197" y="172"/>
                    </a:lnTo>
                    <a:lnTo>
                      <a:pt x="191" y="178"/>
                    </a:lnTo>
                    <a:lnTo>
                      <a:pt x="184" y="186"/>
                    </a:lnTo>
                    <a:lnTo>
                      <a:pt x="172" y="192"/>
                    </a:lnTo>
                    <a:lnTo>
                      <a:pt x="174" y="184"/>
                    </a:lnTo>
                    <a:lnTo>
                      <a:pt x="177" y="172"/>
                    </a:lnTo>
                    <a:lnTo>
                      <a:pt x="181" y="160"/>
                    </a:lnTo>
                    <a:lnTo>
                      <a:pt x="185" y="149"/>
                    </a:lnTo>
                    <a:lnTo>
                      <a:pt x="164" y="146"/>
                    </a:lnTo>
                    <a:lnTo>
                      <a:pt x="162" y="155"/>
                    </a:lnTo>
                    <a:lnTo>
                      <a:pt x="159" y="160"/>
                    </a:lnTo>
                    <a:lnTo>
                      <a:pt x="154" y="168"/>
                    </a:lnTo>
                    <a:lnTo>
                      <a:pt x="148" y="175"/>
                    </a:lnTo>
                    <a:lnTo>
                      <a:pt x="142" y="168"/>
                    </a:lnTo>
                    <a:lnTo>
                      <a:pt x="144" y="156"/>
                    </a:lnTo>
                    <a:lnTo>
                      <a:pt x="148" y="146"/>
                    </a:lnTo>
                    <a:lnTo>
                      <a:pt x="149" y="136"/>
                    </a:lnTo>
                    <a:lnTo>
                      <a:pt x="148" y="124"/>
                    </a:lnTo>
                    <a:lnTo>
                      <a:pt x="138" y="124"/>
                    </a:lnTo>
                    <a:lnTo>
                      <a:pt x="128" y="132"/>
                    </a:lnTo>
                    <a:lnTo>
                      <a:pt x="125" y="137"/>
                    </a:lnTo>
                    <a:lnTo>
                      <a:pt x="120" y="146"/>
                    </a:lnTo>
                    <a:lnTo>
                      <a:pt x="119" y="156"/>
                    </a:lnTo>
                    <a:lnTo>
                      <a:pt x="118" y="166"/>
                    </a:lnTo>
                    <a:lnTo>
                      <a:pt x="112" y="158"/>
                    </a:lnTo>
                    <a:lnTo>
                      <a:pt x="112" y="146"/>
                    </a:lnTo>
                    <a:lnTo>
                      <a:pt x="112" y="132"/>
                    </a:lnTo>
                    <a:lnTo>
                      <a:pt x="110" y="117"/>
                    </a:lnTo>
                    <a:lnTo>
                      <a:pt x="89" y="124"/>
                    </a:lnTo>
                    <a:lnTo>
                      <a:pt x="90" y="130"/>
                    </a:lnTo>
                    <a:lnTo>
                      <a:pt x="87" y="137"/>
                    </a:lnTo>
                    <a:lnTo>
                      <a:pt x="86" y="145"/>
                    </a:lnTo>
                    <a:lnTo>
                      <a:pt x="87" y="153"/>
                    </a:lnTo>
                    <a:lnTo>
                      <a:pt x="80" y="153"/>
                    </a:lnTo>
                    <a:lnTo>
                      <a:pt x="78" y="146"/>
                    </a:lnTo>
                    <a:lnTo>
                      <a:pt x="77" y="137"/>
                    </a:lnTo>
                    <a:lnTo>
                      <a:pt x="73" y="130"/>
                    </a:lnTo>
                    <a:lnTo>
                      <a:pt x="68" y="124"/>
                    </a:lnTo>
                    <a:lnTo>
                      <a:pt x="57" y="126"/>
                    </a:lnTo>
                    <a:lnTo>
                      <a:pt x="55" y="134"/>
                    </a:lnTo>
                    <a:lnTo>
                      <a:pt x="54" y="146"/>
                    </a:lnTo>
                    <a:lnTo>
                      <a:pt x="54" y="156"/>
                    </a:lnTo>
                    <a:lnTo>
                      <a:pt x="55" y="168"/>
                    </a:lnTo>
                    <a:lnTo>
                      <a:pt x="51" y="179"/>
                    </a:lnTo>
                    <a:lnTo>
                      <a:pt x="44" y="188"/>
                    </a:lnTo>
                    <a:lnTo>
                      <a:pt x="37" y="198"/>
                    </a:lnTo>
                    <a:lnTo>
                      <a:pt x="32" y="211"/>
                    </a:lnTo>
                    <a:lnTo>
                      <a:pt x="29" y="218"/>
                    </a:lnTo>
                    <a:lnTo>
                      <a:pt x="31" y="227"/>
                    </a:lnTo>
                    <a:lnTo>
                      <a:pt x="31" y="236"/>
                    </a:lnTo>
                    <a:lnTo>
                      <a:pt x="31" y="246"/>
                    </a:lnTo>
                    <a:lnTo>
                      <a:pt x="26" y="236"/>
                    </a:lnTo>
                    <a:lnTo>
                      <a:pt x="22" y="224"/>
                    </a:lnTo>
                    <a:lnTo>
                      <a:pt x="18" y="214"/>
                    </a:lnTo>
                    <a:lnTo>
                      <a:pt x="12" y="204"/>
                    </a:lnTo>
                    <a:lnTo>
                      <a:pt x="0" y="185"/>
                    </a:lnTo>
                    <a:lnTo>
                      <a:pt x="2" y="162"/>
                    </a:lnTo>
                    <a:lnTo>
                      <a:pt x="5" y="139"/>
                    </a:lnTo>
                    <a:lnTo>
                      <a:pt x="9" y="114"/>
                    </a:lnTo>
                    <a:lnTo>
                      <a:pt x="13" y="91"/>
                    </a:lnTo>
                    <a:lnTo>
                      <a:pt x="21" y="67"/>
                    </a:lnTo>
                    <a:lnTo>
                      <a:pt x="28" y="45"/>
                    </a:lnTo>
                    <a:lnTo>
                      <a:pt x="37" y="22"/>
                    </a:lnTo>
                    <a:lnTo>
                      <a:pt x="48" y="1"/>
                    </a:lnTo>
                    <a:lnTo>
                      <a:pt x="74" y="0"/>
                    </a:lnTo>
                    <a:lnTo>
                      <a:pt x="100" y="0"/>
                    </a:lnTo>
                    <a:lnTo>
                      <a:pt x="129" y="3"/>
                    </a:lnTo>
                    <a:lnTo>
                      <a:pt x="157" y="7"/>
                    </a:lnTo>
                    <a:lnTo>
                      <a:pt x="184" y="14"/>
                    </a:lnTo>
                    <a:lnTo>
                      <a:pt x="210" y="22"/>
                    </a:lnTo>
                    <a:lnTo>
                      <a:pt x="236" y="30"/>
                    </a:lnTo>
                    <a:lnTo>
                      <a:pt x="259" y="40"/>
                    </a:lnTo>
                    <a:lnTo>
                      <a:pt x="275" y="61"/>
                    </a:lnTo>
                    <a:lnTo>
                      <a:pt x="292" y="81"/>
                    </a:lnTo>
                    <a:lnTo>
                      <a:pt x="311" y="101"/>
                    </a:lnTo>
                    <a:lnTo>
                      <a:pt x="330" y="121"/>
                    </a:lnTo>
                    <a:lnTo>
                      <a:pt x="349" y="142"/>
                    </a:lnTo>
                    <a:lnTo>
                      <a:pt x="368" y="163"/>
                    </a:lnTo>
                    <a:lnTo>
                      <a:pt x="385" y="184"/>
                    </a:lnTo>
                    <a:lnTo>
                      <a:pt x="402" y="205"/>
                    </a:lnTo>
                    <a:lnTo>
                      <a:pt x="410" y="225"/>
                    </a:lnTo>
                    <a:lnTo>
                      <a:pt x="410" y="237"/>
                    </a:lnTo>
                    <a:lnTo>
                      <a:pt x="395" y="257"/>
                    </a:lnTo>
                    <a:lnTo>
                      <a:pt x="388" y="262"/>
                    </a:lnTo>
                    <a:lnTo>
                      <a:pt x="381" y="266"/>
                    </a:lnTo>
                    <a:lnTo>
                      <a:pt x="372" y="270"/>
                    </a:lnTo>
                    <a:lnTo>
                      <a:pt x="363" y="273"/>
                    </a:lnTo>
                    <a:lnTo>
                      <a:pt x="355" y="276"/>
                    </a:lnTo>
                    <a:lnTo>
                      <a:pt x="345" y="279"/>
                    </a:lnTo>
                    <a:lnTo>
                      <a:pt x="336" y="283"/>
                    </a:lnTo>
                    <a:lnTo>
                      <a:pt x="326" y="286"/>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362800" y="2114640"/>
                <a:ext cx="11160" cy="12600"/>
              </a:xfrm>
              <a:custGeom>
                <a:avLst/>
                <a:gdLst/>
                <a:ahLst/>
                <a:rect l="l" t="t" r="r" b="b"/>
                <a:pathLst>
                  <a:path w="19" h="25">
                    <a:moveTo>
                      <a:pt x="13" y="25"/>
                    </a:moveTo>
                    <a:lnTo>
                      <a:pt x="0" y="17"/>
                    </a:lnTo>
                    <a:lnTo>
                      <a:pt x="0" y="10"/>
                    </a:lnTo>
                    <a:lnTo>
                      <a:pt x="3" y="3"/>
                    </a:lnTo>
                    <a:lnTo>
                      <a:pt x="8" y="0"/>
                    </a:lnTo>
                    <a:lnTo>
                      <a:pt x="19" y="1"/>
                    </a:lnTo>
                    <a:lnTo>
                      <a:pt x="1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1" name=""/>
              <p:cNvSpPr/>
              <p:nvPr/>
            </p:nvSpPr>
            <p:spPr>
              <a:xfrm>
                <a:off x="7891560" y="2112840"/>
                <a:ext cx="12600" cy="12960"/>
              </a:xfrm>
              <a:custGeom>
                <a:avLst/>
                <a:gdLst/>
                <a:ahLst/>
                <a:rect l="l" t="t" r="r" b="b"/>
                <a:pathLst>
                  <a:path w="22" h="23">
                    <a:moveTo>
                      <a:pt x="16" y="23"/>
                    </a:moveTo>
                    <a:lnTo>
                      <a:pt x="0" y="4"/>
                    </a:lnTo>
                    <a:lnTo>
                      <a:pt x="22" y="0"/>
                    </a:lnTo>
                    <a:lnTo>
                      <a:pt x="16"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2" name=""/>
              <p:cNvSpPr/>
              <p:nvPr/>
            </p:nvSpPr>
            <p:spPr>
              <a:xfrm>
                <a:off x="7742160" y="2092320"/>
                <a:ext cx="14400" cy="15840"/>
              </a:xfrm>
              <a:custGeom>
                <a:avLst/>
                <a:gdLst/>
                <a:ahLst/>
                <a:rect l="l" t="t" r="r" b="b"/>
                <a:pathLst>
                  <a:path w="25" h="30">
                    <a:moveTo>
                      <a:pt x="10" y="30"/>
                    </a:moveTo>
                    <a:lnTo>
                      <a:pt x="0" y="23"/>
                    </a:lnTo>
                    <a:lnTo>
                      <a:pt x="0" y="16"/>
                    </a:lnTo>
                    <a:lnTo>
                      <a:pt x="1" y="8"/>
                    </a:lnTo>
                    <a:lnTo>
                      <a:pt x="6" y="3"/>
                    </a:lnTo>
                    <a:lnTo>
                      <a:pt x="16" y="0"/>
                    </a:lnTo>
                    <a:lnTo>
                      <a:pt x="23" y="7"/>
                    </a:lnTo>
                    <a:lnTo>
                      <a:pt x="25" y="14"/>
                    </a:lnTo>
                    <a:lnTo>
                      <a:pt x="22" y="18"/>
                    </a:lnTo>
                    <a:lnTo>
                      <a:pt x="16" y="24"/>
                    </a:lnTo>
                    <a:lnTo>
                      <a:pt x="1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3" name=""/>
              <p:cNvSpPr/>
              <p:nvPr/>
            </p:nvSpPr>
            <p:spPr>
              <a:xfrm>
                <a:off x="7974000" y="2087640"/>
                <a:ext cx="7920" cy="9360"/>
              </a:xfrm>
              <a:custGeom>
                <a:avLst/>
                <a:gdLst/>
                <a:ahLst/>
                <a:rect l="l" t="t" r="r" b="b"/>
                <a:pathLst>
                  <a:path w="15" h="20">
                    <a:moveTo>
                      <a:pt x="2" y="20"/>
                    </a:moveTo>
                    <a:lnTo>
                      <a:pt x="0" y="0"/>
                    </a:lnTo>
                    <a:lnTo>
                      <a:pt x="12" y="0"/>
                    </a:lnTo>
                    <a:lnTo>
                      <a:pt x="15" y="4"/>
                    </a:lnTo>
                    <a:lnTo>
                      <a:pt x="13" y="13"/>
                    </a:lnTo>
                    <a:lnTo>
                      <a:pt x="9" y="20"/>
                    </a:lnTo>
                    <a:lnTo>
                      <a:pt x="2"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4" name=""/>
              <p:cNvSpPr/>
              <p:nvPr/>
            </p:nvSpPr>
            <p:spPr>
              <a:xfrm>
                <a:off x="8264520" y="2073240"/>
                <a:ext cx="9360" cy="14400"/>
              </a:xfrm>
              <a:custGeom>
                <a:avLst/>
                <a:gdLst/>
                <a:ahLst/>
                <a:rect l="l" t="t" r="r" b="b"/>
                <a:pathLst>
                  <a:path w="19" h="25">
                    <a:moveTo>
                      <a:pt x="3" y="25"/>
                    </a:moveTo>
                    <a:lnTo>
                      <a:pt x="0" y="19"/>
                    </a:lnTo>
                    <a:lnTo>
                      <a:pt x="1" y="11"/>
                    </a:lnTo>
                    <a:lnTo>
                      <a:pt x="7" y="5"/>
                    </a:lnTo>
                    <a:lnTo>
                      <a:pt x="13" y="0"/>
                    </a:lnTo>
                    <a:lnTo>
                      <a:pt x="19" y="6"/>
                    </a:lnTo>
                    <a:lnTo>
                      <a:pt x="17" y="15"/>
                    </a:lnTo>
                    <a:lnTo>
                      <a:pt x="10" y="22"/>
                    </a:lnTo>
                    <a:lnTo>
                      <a:pt x="3"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5" name=""/>
              <p:cNvSpPr/>
              <p:nvPr/>
            </p:nvSpPr>
            <p:spPr>
              <a:xfrm>
                <a:off x="8116920" y="2071800"/>
                <a:ext cx="9360" cy="12600"/>
              </a:xfrm>
              <a:custGeom>
                <a:avLst/>
                <a:gdLst/>
                <a:ahLst/>
                <a:rect l="l" t="t" r="r" b="b"/>
                <a:pathLst>
                  <a:path w="19" h="23">
                    <a:moveTo>
                      <a:pt x="0" y="20"/>
                    </a:moveTo>
                    <a:lnTo>
                      <a:pt x="2" y="13"/>
                    </a:lnTo>
                    <a:lnTo>
                      <a:pt x="3" y="6"/>
                    </a:lnTo>
                    <a:lnTo>
                      <a:pt x="9" y="0"/>
                    </a:lnTo>
                    <a:lnTo>
                      <a:pt x="19" y="0"/>
                    </a:lnTo>
                    <a:lnTo>
                      <a:pt x="19" y="9"/>
                    </a:lnTo>
                    <a:lnTo>
                      <a:pt x="16" y="17"/>
                    </a:lnTo>
                    <a:lnTo>
                      <a:pt x="10" y="23"/>
                    </a:lnTo>
                    <a:lnTo>
                      <a:pt x="0"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6" name=""/>
              <p:cNvSpPr/>
              <p:nvPr/>
            </p:nvSpPr>
            <p:spPr>
              <a:xfrm>
                <a:off x="7169040" y="1932120"/>
                <a:ext cx="204840" cy="160200"/>
              </a:xfrm>
              <a:custGeom>
                <a:avLst/>
                <a:gdLst/>
                <a:ahLst/>
                <a:rect l="l" t="t" r="r" b="b"/>
                <a:pathLst>
                  <a:path w="386" h="301">
                    <a:moveTo>
                      <a:pt x="309" y="301"/>
                    </a:moveTo>
                    <a:lnTo>
                      <a:pt x="311" y="293"/>
                    </a:lnTo>
                    <a:lnTo>
                      <a:pt x="312" y="286"/>
                    </a:lnTo>
                    <a:lnTo>
                      <a:pt x="315" y="279"/>
                    </a:lnTo>
                    <a:lnTo>
                      <a:pt x="318" y="269"/>
                    </a:lnTo>
                    <a:lnTo>
                      <a:pt x="311" y="263"/>
                    </a:lnTo>
                    <a:lnTo>
                      <a:pt x="304" y="265"/>
                    </a:lnTo>
                    <a:lnTo>
                      <a:pt x="298" y="270"/>
                    </a:lnTo>
                    <a:lnTo>
                      <a:pt x="291" y="276"/>
                    </a:lnTo>
                    <a:lnTo>
                      <a:pt x="283" y="273"/>
                    </a:lnTo>
                    <a:lnTo>
                      <a:pt x="282" y="265"/>
                    </a:lnTo>
                    <a:lnTo>
                      <a:pt x="285" y="259"/>
                    </a:lnTo>
                    <a:lnTo>
                      <a:pt x="288" y="252"/>
                    </a:lnTo>
                    <a:lnTo>
                      <a:pt x="289" y="241"/>
                    </a:lnTo>
                    <a:lnTo>
                      <a:pt x="280" y="239"/>
                    </a:lnTo>
                    <a:lnTo>
                      <a:pt x="273" y="239"/>
                    </a:lnTo>
                    <a:lnTo>
                      <a:pt x="266" y="243"/>
                    </a:lnTo>
                    <a:lnTo>
                      <a:pt x="256" y="247"/>
                    </a:lnTo>
                    <a:lnTo>
                      <a:pt x="259" y="237"/>
                    </a:lnTo>
                    <a:lnTo>
                      <a:pt x="262" y="227"/>
                    </a:lnTo>
                    <a:lnTo>
                      <a:pt x="266" y="214"/>
                    </a:lnTo>
                    <a:lnTo>
                      <a:pt x="270" y="202"/>
                    </a:lnTo>
                    <a:lnTo>
                      <a:pt x="260" y="201"/>
                    </a:lnTo>
                    <a:lnTo>
                      <a:pt x="254" y="205"/>
                    </a:lnTo>
                    <a:lnTo>
                      <a:pt x="249" y="211"/>
                    </a:lnTo>
                    <a:lnTo>
                      <a:pt x="240" y="214"/>
                    </a:lnTo>
                    <a:lnTo>
                      <a:pt x="244" y="189"/>
                    </a:lnTo>
                    <a:lnTo>
                      <a:pt x="236" y="187"/>
                    </a:lnTo>
                    <a:lnTo>
                      <a:pt x="230" y="189"/>
                    </a:lnTo>
                    <a:lnTo>
                      <a:pt x="223" y="194"/>
                    </a:lnTo>
                    <a:lnTo>
                      <a:pt x="213" y="198"/>
                    </a:lnTo>
                    <a:lnTo>
                      <a:pt x="211" y="191"/>
                    </a:lnTo>
                    <a:lnTo>
                      <a:pt x="213" y="184"/>
                    </a:lnTo>
                    <a:lnTo>
                      <a:pt x="217" y="176"/>
                    </a:lnTo>
                    <a:lnTo>
                      <a:pt x="221" y="169"/>
                    </a:lnTo>
                    <a:lnTo>
                      <a:pt x="226" y="158"/>
                    </a:lnTo>
                    <a:lnTo>
                      <a:pt x="220" y="152"/>
                    </a:lnTo>
                    <a:lnTo>
                      <a:pt x="213" y="153"/>
                    </a:lnTo>
                    <a:lnTo>
                      <a:pt x="205" y="158"/>
                    </a:lnTo>
                    <a:lnTo>
                      <a:pt x="197" y="159"/>
                    </a:lnTo>
                    <a:lnTo>
                      <a:pt x="204" y="136"/>
                    </a:lnTo>
                    <a:lnTo>
                      <a:pt x="197" y="132"/>
                    </a:lnTo>
                    <a:lnTo>
                      <a:pt x="189" y="136"/>
                    </a:lnTo>
                    <a:lnTo>
                      <a:pt x="182" y="142"/>
                    </a:lnTo>
                    <a:lnTo>
                      <a:pt x="175" y="145"/>
                    </a:lnTo>
                    <a:lnTo>
                      <a:pt x="175" y="132"/>
                    </a:lnTo>
                    <a:lnTo>
                      <a:pt x="179" y="120"/>
                    </a:lnTo>
                    <a:lnTo>
                      <a:pt x="184" y="108"/>
                    </a:lnTo>
                    <a:lnTo>
                      <a:pt x="182" y="93"/>
                    </a:lnTo>
                    <a:lnTo>
                      <a:pt x="172" y="93"/>
                    </a:lnTo>
                    <a:lnTo>
                      <a:pt x="163" y="101"/>
                    </a:lnTo>
                    <a:lnTo>
                      <a:pt x="158" y="108"/>
                    </a:lnTo>
                    <a:lnTo>
                      <a:pt x="153" y="116"/>
                    </a:lnTo>
                    <a:lnTo>
                      <a:pt x="143" y="126"/>
                    </a:lnTo>
                    <a:lnTo>
                      <a:pt x="139" y="119"/>
                    </a:lnTo>
                    <a:lnTo>
                      <a:pt x="139" y="111"/>
                    </a:lnTo>
                    <a:lnTo>
                      <a:pt x="142" y="104"/>
                    </a:lnTo>
                    <a:lnTo>
                      <a:pt x="143" y="95"/>
                    </a:lnTo>
                    <a:lnTo>
                      <a:pt x="147" y="85"/>
                    </a:lnTo>
                    <a:lnTo>
                      <a:pt x="134" y="78"/>
                    </a:lnTo>
                    <a:lnTo>
                      <a:pt x="124" y="85"/>
                    </a:lnTo>
                    <a:lnTo>
                      <a:pt x="121" y="88"/>
                    </a:lnTo>
                    <a:lnTo>
                      <a:pt x="120" y="95"/>
                    </a:lnTo>
                    <a:lnTo>
                      <a:pt x="116" y="104"/>
                    </a:lnTo>
                    <a:lnTo>
                      <a:pt x="108" y="111"/>
                    </a:lnTo>
                    <a:lnTo>
                      <a:pt x="100" y="106"/>
                    </a:lnTo>
                    <a:lnTo>
                      <a:pt x="104" y="95"/>
                    </a:lnTo>
                    <a:lnTo>
                      <a:pt x="104" y="87"/>
                    </a:lnTo>
                    <a:lnTo>
                      <a:pt x="106" y="78"/>
                    </a:lnTo>
                    <a:lnTo>
                      <a:pt x="111" y="72"/>
                    </a:lnTo>
                    <a:lnTo>
                      <a:pt x="100" y="68"/>
                    </a:lnTo>
                    <a:lnTo>
                      <a:pt x="93" y="69"/>
                    </a:lnTo>
                    <a:lnTo>
                      <a:pt x="87" y="75"/>
                    </a:lnTo>
                    <a:lnTo>
                      <a:pt x="84" y="84"/>
                    </a:lnTo>
                    <a:lnTo>
                      <a:pt x="78" y="93"/>
                    </a:lnTo>
                    <a:lnTo>
                      <a:pt x="75" y="82"/>
                    </a:lnTo>
                    <a:lnTo>
                      <a:pt x="78" y="72"/>
                    </a:lnTo>
                    <a:lnTo>
                      <a:pt x="79" y="64"/>
                    </a:lnTo>
                    <a:lnTo>
                      <a:pt x="74" y="56"/>
                    </a:lnTo>
                    <a:lnTo>
                      <a:pt x="68" y="64"/>
                    </a:lnTo>
                    <a:lnTo>
                      <a:pt x="61" y="71"/>
                    </a:lnTo>
                    <a:lnTo>
                      <a:pt x="53" y="80"/>
                    </a:lnTo>
                    <a:lnTo>
                      <a:pt x="48" y="94"/>
                    </a:lnTo>
                    <a:lnTo>
                      <a:pt x="38" y="95"/>
                    </a:lnTo>
                    <a:lnTo>
                      <a:pt x="38" y="88"/>
                    </a:lnTo>
                    <a:lnTo>
                      <a:pt x="38" y="80"/>
                    </a:lnTo>
                    <a:lnTo>
                      <a:pt x="36" y="71"/>
                    </a:lnTo>
                    <a:lnTo>
                      <a:pt x="30" y="64"/>
                    </a:lnTo>
                    <a:lnTo>
                      <a:pt x="20" y="68"/>
                    </a:lnTo>
                    <a:lnTo>
                      <a:pt x="20" y="78"/>
                    </a:lnTo>
                    <a:lnTo>
                      <a:pt x="19" y="88"/>
                    </a:lnTo>
                    <a:lnTo>
                      <a:pt x="9" y="93"/>
                    </a:lnTo>
                    <a:lnTo>
                      <a:pt x="0" y="87"/>
                    </a:lnTo>
                    <a:lnTo>
                      <a:pt x="1" y="69"/>
                    </a:lnTo>
                    <a:lnTo>
                      <a:pt x="4" y="54"/>
                    </a:lnTo>
                    <a:lnTo>
                      <a:pt x="7" y="39"/>
                    </a:lnTo>
                    <a:lnTo>
                      <a:pt x="9" y="22"/>
                    </a:lnTo>
                    <a:lnTo>
                      <a:pt x="14" y="17"/>
                    </a:lnTo>
                    <a:lnTo>
                      <a:pt x="22" y="13"/>
                    </a:lnTo>
                    <a:lnTo>
                      <a:pt x="29" y="7"/>
                    </a:lnTo>
                    <a:lnTo>
                      <a:pt x="38" y="2"/>
                    </a:lnTo>
                    <a:lnTo>
                      <a:pt x="56" y="2"/>
                    </a:lnTo>
                    <a:lnTo>
                      <a:pt x="75" y="0"/>
                    </a:lnTo>
                    <a:lnTo>
                      <a:pt x="94" y="0"/>
                    </a:lnTo>
                    <a:lnTo>
                      <a:pt x="114" y="0"/>
                    </a:lnTo>
                    <a:lnTo>
                      <a:pt x="134" y="0"/>
                    </a:lnTo>
                    <a:lnTo>
                      <a:pt x="155" y="2"/>
                    </a:lnTo>
                    <a:lnTo>
                      <a:pt x="175" y="4"/>
                    </a:lnTo>
                    <a:lnTo>
                      <a:pt x="195" y="9"/>
                    </a:lnTo>
                    <a:lnTo>
                      <a:pt x="200" y="13"/>
                    </a:lnTo>
                    <a:lnTo>
                      <a:pt x="207" y="20"/>
                    </a:lnTo>
                    <a:lnTo>
                      <a:pt x="214" y="26"/>
                    </a:lnTo>
                    <a:lnTo>
                      <a:pt x="223" y="29"/>
                    </a:lnTo>
                    <a:lnTo>
                      <a:pt x="239" y="46"/>
                    </a:lnTo>
                    <a:lnTo>
                      <a:pt x="254" y="62"/>
                    </a:lnTo>
                    <a:lnTo>
                      <a:pt x="272" y="80"/>
                    </a:lnTo>
                    <a:lnTo>
                      <a:pt x="289" y="97"/>
                    </a:lnTo>
                    <a:lnTo>
                      <a:pt x="307" y="114"/>
                    </a:lnTo>
                    <a:lnTo>
                      <a:pt x="324" y="132"/>
                    </a:lnTo>
                    <a:lnTo>
                      <a:pt x="343" y="150"/>
                    </a:lnTo>
                    <a:lnTo>
                      <a:pt x="361" y="171"/>
                    </a:lnTo>
                    <a:lnTo>
                      <a:pt x="369" y="185"/>
                    </a:lnTo>
                    <a:lnTo>
                      <a:pt x="374" y="200"/>
                    </a:lnTo>
                    <a:lnTo>
                      <a:pt x="382" y="215"/>
                    </a:lnTo>
                    <a:lnTo>
                      <a:pt x="386" y="233"/>
                    </a:lnTo>
                    <a:lnTo>
                      <a:pt x="382" y="254"/>
                    </a:lnTo>
                    <a:lnTo>
                      <a:pt x="380" y="263"/>
                    </a:lnTo>
                    <a:lnTo>
                      <a:pt x="377" y="270"/>
                    </a:lnTo>
                    <a:lnTo>
                      <a:pt x="372" y="278"/>
                    </a:lnTo>
                    <a:lnTo>
                      <a:pt x="363" y="285"/>
                    </a:lnTo>
                    <a:lnTo>
                      <a:pt x="356" y="289"/>
                    </a:lnTo>
                    <a:lnTo>
                      <a:pt x="348" y="292"/>
                    </a:lnTo>
                    <a:lnTo>
                      <a:pt x="343" y="293"/>
                    </a:lnTo>
                    <a:lnTo>
                      <a:pt x="337" y="295"/>
                    </a:lnTo>
                    <a:lnTo>
                      <a:pt x="331" y="296"/>
                    </a:lnTo>
                    <a:lnTo>
                      <a:pt x="324" y="296"/>
                    </a:lnTo>
                    <a:lnTo>
                      <a:pt x="317" y="298"/>
                    </a:lnTo>
                    <a:lnTo>
                      <a:pt x="309" y="301"/>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993000" y="2082960"/>
                <a:ext cx="12600" cy="12600"/>
              </a:xfrm>
              <a:custGeom>
                <a:avLst/>
                <a:gdLst/>
                <a:ahLst/>
                <a:rect l="l" t="t" r="r" b="b"/>
                <a:pathLst>
                  <a:path w="23" h="23">
                    <a:moveTo>
                      <a:pt x="3" y="23"/>
                    </a:moveTo>
                    <a:lnTo>
                      <a:pt x="0" y="0"/>
                    </a:lnTo>
                    <a:lnTo>
                      <a:pt x="23" y="4"/>
                    </a:lnTo>
                    <a:lnTo>
                      <a:pt x="23" y="13"/>
                    </a:lnTo>
                    <a:lnTo>
                      <a:pt x="19" y="19"/>
                    </a:lnTo>
                    <a:lnTo>
                      <a:pt x="13" y="23"/>
                    </a:lnTo>
                    <a:lnTo>
                      <a:pt x="3"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8" name=""/>
              <p:cNvSpPr/>
              <p:nvPr/>
            </p:nvSpPr>
            <p:spPr>
              <a:xfrm>
                <a:off x="7861320" y="2070000"/>
                <a:ext cx="7920" cy="12960"/>
              </a:xfrm>
              <a:custGeom>
                <a:avLst/>
                <a:gdLst/>
                <a:ahLst/>
                <a:rect l="l" t="t" r="r" b="b"/>
                <a:pathLst>
                  <a:path w="16" h="26">
                    <a:moveTo>
                      <a:pt x="7" y="26"/>
                    </a:moveTo>
                    <a:lnTo>
                      <a:pt x="1" y="23"/>
                    </a:lnTo>
                    <a:lnTo>
                      <a:pt x="0" y="14"/>
                    </a:lnTo>
                    <a:lnTo>
                      <a:pt x="3" y="4"/>
                    </a:lnTo>
                    <a:lnTo>
                      <a:pt x="8" y="0"/>
                    </a:lnTo>
                    <a:lnTo>
                      <a:pt x="13" y="3"/>
                    </a:lnTo>
                    <a:lnTo>
                      <a:pt x="14" y="8"/>
                    </a:lnTo>
                    <a:lnTo>
                      <a:pt x="16" y="17"/>
                    </a:lnTo>
                    <a:lnTo>
                      <a:pt x="16" y="26"/>
                    </a:lnTo>
                    <a:lnTo>
                      <a:pt x="7" y="2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9" name=""/>
              <p:cNvSpPr/>
              <p:nvPr/>
            </p:nvSpPr>
            <p:spPr>
              <a:xfrm>
                <a:off x="8055000" y="2063880"/>
                <a:ext cx="14400" cy="9360"/>
              </a:xfrm>
              <a:custGeom>
                <a:avLst/>
                <a:gdLst/>
                <a:ahLst/>
                <a:rect l="l" t="t" r="r" b="b"/>
                <a:pathLst>
                  <a:path w="25" h="18">
                    <a:moveTo>
                      <a:pt x="9" y="18"/>
                    </a:moveTo>
                    <a:lnTo>
                      <a:pt x="0" y="0"/>
                    </a:lnTo>
                    <a:lnTo>
                      <a:pt x="22" y="3"/>
                    </a:lnTo>
                    <a:lnTo>
                      <a:pt x="25" y="9"/>
                    </a:lnTo>
                    <a:lnTo>
                      <a:pt x="22" y="13"/>
                    </a:lnTo>
                    <a:lnTo>
                      <a:pt x="15" y="16"/>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0" name=""/>
              <p:cNvSpPr/>
              <p:nvPr/>
            </p:nvSpPr>
            <p:spPr>
              <a:xfrm>
                <a:off x="8358120" y="2057400"/>
                <a:ext cx="14400" cy="9360"/>
              </a:xfrm>
              <a:custGeom>
                <a:avLst/>
                <a:gdLst/>
                <a:ahLst/>
                <a:rect l="l" t="t" r="r" b="b"/>
                <a:pathLst>
                  <a:path w="26" h="16">
                    <a:moveTo>
                      <a:pt x="9" y="16"/>
                    </a:moveTo>
                    <a:lnTo>
                      <a:pt x="0" y="4"/>
                    </a:lnTo>
                    <a:lnTo>
                      <a:pt x="4" y="0"/>
                    </a:lnTo>
                    <a:lnTo>
                      <a:pt x="13" y="0"/>
                    </a:lnTo>
                    <a:lnTo>
                      <a:pt x="22" y="3"/>
                    </a:lnTo>
                    <a:lnTo>
                      <a:pt x="26" y="10"/>
                    </a:lnTo>
                    <a:lnTo>
                      <a:pt x="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1" name=""/>
              <p:cNvSpPr/>
              <p:nvPr/>
            </p:nvSpPr>
            <p:spPr>
              <a:xfrm>
                <a:off x="7054920" y="2058840"/>
                <a:ext cx="9360" cy="11160"/>
              </a:xfrm>
              <a:custGeom>
                <a:avLst/>
                <a:gdLst/>
                <a:ahLst/>
                <a:rect l="l" t="t" r="r" b="b"/>
                <a:pathLst>
                  <a:path w="20" h="20">
                    <a:moveTo>
                      <a:pt x="4" y="20"/>
                    </a:moveTo>
                    <a:lnTo>
                      <a:pt x="0" y="0"/>
                    </a:lnTo>
                    <a:lnTo>
                      <a:pt x="20" y="0"/>
                    </a:lnTo>
                    <a:lnTo>
                      <a:pt x="20" y="7"/>
                    </a:lnTo>
                    <a:lnTo>
                      <a:pt x="18" y="14"/>
                    </a:lnTo>
                    <a:lnTo>
                      <a:pt x="13"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2" name=""/>
              <p:cNvSpPr/>
              <p:nvPr/>
            </p:nvSpPr>
            <p:spPr>
              <a:xfrm>
                <a:off x="7800840" y="2036880"/>
                <a:ext cx="12960" cy="17280"/>
              </a:xfrm>
              <a:custGeom>
                <a:avLst/>
                <a:gdLst/>
                <a:ahLst/>
                <a:rect l="l" t="t" r="r" b="b"/>
                <a:pathLst>
                  <a:path w="22" h="32">
                    <a:moveTo>
                      <a:pt x="8" y="30"/>
                    </a:moveTo>
                    <a:lnTo>
                      <a:pt x="0" y="25"/>
                    </a:lnTo>
                    <a:lnTo>
                      <a:pt x="6" y="17"/>
                    </a:lnTo>
                    <a:lnTo>
                      <a:pt x="15" y="10"/>
                    </a:lnTo>
                    <a:lnTo>
                      <a:pt x="19" y="0"/>
                    </a:lnTo>
                    <a:lnTo>
                      <a:pt x="21" y="7"/>
                    </a:lnTo>
                    <a:lnTo>
                      <a:pt x="22" y="15"/>
                    </a:lnTo>
                    <a:lnTo>
                      <a:pt x="21" y="22"/>
                    </a:lnTo>
                    <a:lnTo>
                      <a:pt x="19" y="32"/>
                    </a:lnTo>
                    <a:lnTo>
                      <a:pt x="8" y="3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3" name=""/>
              <p:cNvSpPr/>
              <p:nvPr/>
            </p:nvSpPr>
            <p:spPr>
              <a:xfrm>
                <a:off x="7937640" y="2038320"/>
                <a:ext cx="6120" cy="12600"/>
              </a:xfrm>
              <a:custGeom>
                <a:avLst/>
                <a:gdLst/>
                <a:ahLst/>
                <a:rect l="l" t="t" r="r" b="b"/>
                <a:pathLst>
                  <a:path w="13" h="22">
                    <a:moveTo>
                      <a:pt x="0" y="22"/>
                    </a:moveTo>
                    <a:lnTo>
                      <a:pt x="2" y="0"/>
                    </a:lnTo>
                    <a:lnTo>
                      <a:pt x="12" y="0"/>
                    </a:lnTo>
                    <a:lnTo>
                      <a:pt x="13" y="7"/>
                    </a:lnTo>
                    <a:lnTo>
                      <a:pt x="12" y="14"/>
                    </a:lnTo>
                    <a:lnTo>
                      <a:pt x="8" y="20"/>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4" name=""/>
              <p:cNvSpPr/>
              <p:nvPr/>
            </p:nvSpPr>
            <p:spPr>
              <a:xfrm>
                <a:off x="7684920" y="2028960"/>
                <a:ext cx="16200" cy="10800"/>
              </a:xfrm>
              <a:custGeom>
                <a:avLst/>
                <a:gdLst/>
                <a:ahLst/>
                <a:rect l="l" t="t" r="r" b="b"/>
                <a:pathLst>
                  <a:path w="30" h="22">
                    <a:moveTo>
                      <a:pt x="17" y="22"/>
                    </a:moveTo>
                    <a:lnTo>
                      <a:pt x="0" y="5"/>
                    </a:lnTo>
                    <a:lnTo>
                      <a:pt x="5" y="0"/>
                    </a:lnTo>
                    <a:lnTo>
                      <a:pt x="13" y="2"/>
                    </a:lnTo>
                    <a:lnTo>
                      <a:pt x="23" y="5"/>
                    </a:lnTo>
                    <a:lnTo>
                      <a:pt x="30" y="7"/>
                    </a:lnTo>
                    <a:lnTo>
                      <a:pt x="17"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75" name=""/>
              <p:cNvSpPr/>
              <p:nvPr/>
            </p:nvSpPr>
            <p:spPr>
              <a:xfrm>
                <a:off x="8170920" y="2023920"/>
                <a:ext cx="11160" cy="9720"/>
              </a:xfrm>
              <a:custGeom>
                <a:avLst/>
                <a:gdLst/>
                <a:ahLst/>
                <a:rect l="l" t="t" r="r" b="b"/>
                <a:pathLst>
                  <a:path w="19" h="19">
                    <a:moveTo>
                      <a:pt x="4" y="19"/>
                    </a:moveTo>
                    <a:lnTo>
                      <a:pt x="0" y="0"/>
                    </a:lnTo>
                    <a:lnTo>
                      <a:pt x="19" y="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6" name=""/>
              <p:cNvSpPr/>
              <p:nvPr/>
            </p:nvSpPr>
            <p:spPr>
              <a:xfrm>
                <a:off x="7985160" y="2014560"/>
                <a:ext cx="9360" cy="11160"/>
              </a:xfrm>
              <a:custGeom>
                <a:avLst/>
                <a:gdLst/>
                <a:ahLst/>
                <a:rect l="l" t="t" r="r" b="b"/>
                <a:pathLst>
                  <a:path w="19" h="21">
                    <a:moveTo>
                      <a:pt x="6" y="21"/>
                    </a:moveTo>
                    <a:lnTo>
                      <a:pt x="0" y="0"/>
                    </a:lnTo>
                    <a:lnTo>
                      <a:pt x="19" y="3"/>
                    </a:lnTo>
                    <a:lnTo>
                      <a:pt x="19" y="8"/>
                    </a:lnTo>
                    <a:lnTo>
                      <a:pt x="16" y="14"/>
                    </a:lnTo>
                    <a:lnTo>
                      <a:pt x="12" y="20"/>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7" name=""/>
              <p:cNvSpPr/>
              <p:nvPr/>
            </p:nvSpPr>
            <p:spPr>
              <a:xfrm>
                <a:off x="8226360" y="2009880"/>
                <a:ext cx="9720" cy="12600"/>
              </a:xfrm>
              <a:custGeom>
                <a:avLst/>
                <a:gdLst/>
                <a:ahLst/>
                <a:rect l="l" t="t" r="r" b="b"/>
                <a:pathLst>
                  <a:path w="18" h="26">
                    <a:moveTo>
                      <a:pt x="5" y="26"/>
                    </a:moveTo>
                    <a:lnTo>
                      <a:pt x="1" y="23"/>
                    </a:lnTo>
                    <a:lnTo>
                      <a:pt x="0" y="14"/>
                    </a:lnTo>
                    <a:lnTo>
                      <a:pt x="4" y="4"/>
                    </a:lnTo>
                    <a:lnTo>
                      <a:pt x="11" y="0"/>
                    </a:lnTo>
                    <a:lnTo>
                      <a:pt x="18" y="2"/>
                    </a:lnTo>
                    <a:lnTo>
                      <a:pt x="17" y="13"/>
                    </a:lnTo>
                    <a:lnTo>
                      <a:pt x="11" y="21"/>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8" name=""/>
              <p:cNvSpPr/>
              <p:nvPr/>
            </p:nvSpPr>
            <p:spPr>
              <a:xfrm>
                <a:off x="7219800" y="1860480"/>
                <a:ext cx="187560" cy="157320"/>
              </a:xfrm>
              <a:custGeom>
                <a:avLst/>
                <a:gdLst/>
                <a:ahLst/>
                <a:rect l="l" t="t" r="r" b="b"/>
                <a:pathLst>
                  <a:path w="355" h="297">
                    <a:moveTo>
                      <a:pt x="311" y="297"/>
                    </a:moveTo>
                    <a:lnTo>
                      <a:pt x="310" y="290"/>
                    </a:lnTo>
                    <a:lnTo>
                      <a:pt x="308" y="283"/>
                    </a:lnTo>
                    <a:lnTo>
                      <a:pt x="308" y="274"/>
                    </a:lnTo>
                    <a:lnTo>
                      <a:pt x="307" y="264"/>
                    </a:lnTo>
                    <a:lnTo>
                      <a:pt x="301" y="264"/>
                    </a:lnTo>
                    <a:lnTo>
                      <a:pt x="294" y="266"/>
                    </a:lnTo>
                    <a:lnTo>
                      <a:pt x="287" y="270"/>
                    </a:lnTo>
                    <a:lnTo>
                      <a:pt x="278" y="271"/>
                    </a:lnTo>
                    <a:lnTo>
                      <a:pt x="281" y="258"/>
                    </a:lnTo>
                    <a:lnTo>
                      <a:pt x="285" y="248"/>
                    </a:lnTo>
                    <a:lnTo>
                      <a:pt x="288" y="238"/>
                    </a:lnTo>
                    <a:lnTo>
                      <a:pt x="287" y="227"/>
                    </a:lnTo>
                    <a:lnTo>
                      <a:pt x="277" y="224"/>
                    </a:lnTo>
                    <a:lnTo>
                      <a:pt x="268" y="227"/>
                    </a:lnTo>
                    <a:lnTo>
                      <a:pt x="262" y="234"/>
                    </a:lnTo>
                    <a:lnTo>
                      <a:pt x="258" y="243"/>
                    </a:lnTo>
                    <a:lnTo>
                      <a:pt x="249" y="234"/>
                    </a:lnTo>
                    <a:lnTo>
                      <a:pt x="253" y="228"/>
                    </a:lnTo>
                    <a:lnTo>
                      <a:pt x="259" y="221"/>
                    </a:lnTo>
                    <a:lnTo>
                      <a:pt x="264" y="214"/>
                    </a:lnTo>
                    <a:lnTo>
                      <a:pt x="268" y="204"/>
                    </a:lnTo>
                    <a:lnTo>
                      <a:pt x="249" y="195"/>
                    </a:lnTo>
                    <a:lnTo>
                      <a:pt x="233" y="219"/>
                    </a:lnTo>
                    <a:lnTo>
                      <a:pt x="229" y="211"/>
                    </a:lnTo>
                    <a:lnTo>
                      <a:pt x="232" y="202"/>
                    </a:lnTo>
                    <a:lnTo>
                      <a:pt x="236" y="191"/>
                    </a:lnTo>
                    <a:lnTo>
                      <a:pt x="239" y="179"/>
                    </a:lnTo>
                    <a:lnTo>
                      <a:pt x="238" y="167"/>
                    </a:lnTo>
                    <a:lnTo>
                      <a:pt x="214" y="173"/>
                    </a:lnTo>
                    <a:lnTo>
                      <a:pt x="204" y="193"/>
                    </a:lnTo>
                    <a:lnTo>
                      <a:pt x="206" y="186"/>
                    </a:lnTo>
                    <a:lnTo>
                      <a:pt x="207" y="178"/>
                    </a:lnTo>
                    <a:lnTo>
                      <a:pt x="210" y="169"/>
                    </a:lnTo>
                    <a:lnTo>
                      <a:pt x="213" y="159"/>
                    </a:lnTo>
                    <a:lnTo>
                      <a:pt x="210" y="149"/>
                    </a:lnTo>
                    <a:lnTo>
                      <a:pt x="203" y="144"/>
                    </a:lnTo>
                    <a:lnTo>
                      <a:pt x="194" y="147"/>
                    </a:lnTo>
                    <a:lnTo>
                      <a:pt x="190" y="156"/>
                    </a:lnTo>
                    <a:lnTo>
                      <a:pt x="187" y="165"/>
                    </a:lnTo>
                    <a:lnTo>
                      <a:pt x="181" y="172"/>
                    </a:lnTo>
                    <a:lnTo>
                      <a:pt x="174" y="166"/>
                    </a:lnTo>
                    <a:lnTo>
                      <a:pt x="174" y="144"/>
                    </a:lnTo>
                    <a:lnTo>
                      <a:pt x="178" y="140"/>
                    </a:lnTo>
                    <a:lnTo>
                      <a:pt x="181" y="131"/>
                    </a:lnTo>
                    <a:lnTo>
                      <a:pt x="183" y="123"/>
                    </a:lnTo>
                    <a:lnTo>
                      <a:pt x="187" y="114"/>
                    </a:lnTo>
                    <a:lnTo>
                      <a:pt x="165" y="114"/>
                    </a:lnTo>
                    <a:lnTo>
                      <a:pt x="162" y="123"/>
                    </a:lnTo>
                    <a:lnTo>
                      <a:pt x="157" y="127"/>
                    </a:lnTo>
                    <a:lnTo>
                      <a:pt x="149" y="133"/>
                    </a:lnTo>
                    <a:lnTo>
                      <a:pt x="148" y="143"/>
                    </a:lnTo>
                    <a:lnTo>
                      <a:pt x="148" y="130"/>
                    </a:lnTo>
                    <a:lnTo>
                      <a:pt x="149" y="117"/>
                    </a:lnTo>
                    <a:lnTo>
                      <a:pt x="152" y="104"/>
                    </a:lnTo>
                    <a:lnTo>
                      <a:pt x="155" y="91"/>
                    </a:lnTo>
                    <a:lnTo>
                      <a:pt x="146" y="84"/>
                    </a:lnTo>
                    <a:lnTo>
                      <a:pt x="138" y="85"/>
                    </a:lnTo>
                    <a:lnTo>
                      <a:pt x="133" y="89"/>
                    </a:lnTo>
                    <a:lnTo>
                      <a:pt x="131" y="98"/>
                    </a:lnTo>
                    <a:lnTo>
                      <a:pt x="128" y="107"/>
                    </a:lnTo>
                    <a:lnTo>
                      <a:pt x="123" y="115"/>
                    </a:lnTo>
                    <a:lnTo>
                      <a:pt x="116" y="124"/>
                    </a:lnTo>
                    <a:lnTo>
                      <a:pt x="109" y="111"/>
                    </a:lnTo>
                    <a:lnTo>
                      <a:pt x="110" y="101"/>
                    </a:lnTo>
                    <a:lnTo>
                      <a:pt x="113" y="89"/>
                    </a:lnTo>
                    <a:lnTo>
                      <a:pt x="115" y="78"/>
                    </a:lnTo>
                    <a:lnTo>
                      <a:pt x="107" y="71"/>
                    </a:lnTo>
                    <a:lnTo>
                      <a:pt x="97" y="71"/>
                    </a:lnTo>
                    <a:lnTo>
                      <a:pt x="91" y="76"/>
                    </a:lnTo>
                    <a:lnTo>
                      <a:pt x="89" y="87"/>
                    </a:lnTo>
                    <a:lnTo>
                      <a:pt x="84" y="98"/>
                    </a:lnTo>
                    <a:lnTo>
                      <a:pt x="78" y="107"/>
                    </a:lnTo>
                    <a:lnTo>
                      <a:pt x="71" y="100"/>
                    </a:lnTo>
                    <a:lnTo>
                      <a:pt x="73" y="91"/>
                    </a:lnTo>
                    <a:lnTo>
                      <a:pt x="74" y="81"/>
                    </a:lnTo>
                    <a:lnTo>
                      <a:pt x="76" y="69"/>
                    </a:lnTo>
                    <a:lnTo>
                      <a:pt x="78" y="58"/>
                    </a:lnTo>
                    <a:lnTo>
                      <a:pt x="57" y="56"/>
                    </a:lnTo>
                    <a:lnTo>
                      <a:pt x="54" y="65"/>
                    </a:lnTo>
                    <a:lnTo>
                      <a:pt x="52" y="76"/>
                    </a:lnTo>
                    <a:lnTo>
                      <a:pt x="50" y="88"/>
                    </a:lnTo>
                    <a:lnTo>
                      <a:pt x="45" y="100"/>
                    </a:lnTo>
                    <a:lnTo>
                      <a:pt x="38" y="107"/>
                    </a:lnTo>
                    <a:lnTo>
                      <a:pt x="34" y="101"/>
                    </a:lnTo>
                    <a:lnTo>
                      <a:pt x="32" y="94"/>
                    </a:lnTo>
                    <a:lnTo>
                      <a:pt x="32" y="85"/>
                    </a:lnTo>
                    <a:lnTo>
                      <a:pt x="34" y="76"/>
                    </a:lnTo>
                    <a:lnTo>
                      <a:pt x="26" y="59"/>
                    </a:lnTo>
                    <a:lnTo>
                      <a:pt x="15" y="63"/>
                    </a:lnTo>
                    <a:lnTo>
                      <a:pt x="12" y="72"/>
                    </a:lnTo>
                    <a:lnTo>
                      <a:pt x="11" y="84"/>
                    </a:lnTo>
                    <a:lnTo>
                      <a:pt x="9" y="95"/>
                    </a:lnTo>
                    <a:lnTo>
                      <a:pt x="8" y="107"/>
                    </a:lnTo>
                    <a:lnTo>
                      <a:pt x="2" y="91"/>
                    </a:lnTo>
                    <a:lnTo>
                      <a:pt x="0" y="76"/>
                    </a:lnTo>
                    <a:lnTo>
                      <a:pt x="0" y="61"/>
                    </a:lnTo>
                    <a:lnTo>
                      <a:pt x="0" y="43"/>
                    </a:lnTo>
                    <a:lnTo>
                      <a:pt x="15" y="23"/>
                    </a:lnTo>
                    <a:lnTo>
                      <a:pt x="37" y="14"/>
                    </a:lnTo>
                    <a:lnTo>
                      <a:pt x="60" y="7"/>
                    </a:lnTo>
                    <a:lnTo>
                      <a:pt x="84" y="3"/>
                    </a:lnTo>
                    <a:lnTo>
                      <a:pt x="109" y="0"/>
                    </a:lnTo>
                    <a:lnTo>
                      <a:pt x="133" y="0"/>
                    </a:lnTo>
                    <a:lnTo>
                      <a:pt x="159" y="3"/>
                    </a:lnTo>
                    <a:lnTo>
                      <a:pt x="185" y="9"/>
                    </a:lnTo>
                    <a:lnTo>
                      <a:pt x="212" y="17"/>
                    </a:lnTo>
                    <a:lnTo>
                      <a:pt x="233" y="39"/>
                    </a:lnTo>
                    <a:lnTo>
                      <a:pt x="253" y="61"/>
                    </a:lnTo>
                    <a:lnTo>
                      <a:pt x="271" y="82"/>
                    </a:lnTo>
                    <a:lnTo>
                      <a:pt x="288" y="104"/>
                    </a:lnTo>
                    <a:lnTo>
                      <a:pt x="304" y="127"/>
                    </a:lnTo>
                    <a:lnTo>
                      <a:pt x="320" y="150"/>
                    </a:lnTo>
                    <a:lnTo>
                      <a:pt x="334" y="175"/>
                    </a:lnTo>
                    <a:lnTo>
                      <a:pt x="350" y="199"/>
                    </a:lnTo>
                    <a:lnTo>
                      <a:pt x="350" y="208"/>
                    </a:lnTo>
                    <a:lnTo>
                      <a:pt x="353" y="218"/>
                    </a:lnTo>
                    <a:lnTo>
                      <a:pt x="355" y="230"/>
                    </a:lnTo>
                    <a:lnTo>
                      <a:pt x="355" y="241"/>
                    </a:lnTo>
                    <a:lnTo>
                      <a:pt x="350" y="248"/>
                    </a:lnTo>
                    <a:lnTo>
                      <a:pt x="346" y="257"/>
                    </a:lnTo>
                    <a:lnTo>
                      <a:pt x="342" y="267"/>
                    </a:lnTo>
                    <a:lnTo>
                      <a:pt x="336" y="280"/>
                    </a:lnTo>
                    <a:lnTo>
                      <a:pt x="311" y="297"/>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291520" y="1990800"/>
                <a:ext cx="11160" cy="12600"/>
              </a:xfrm>
              <a:custGeom>
                <a:avLst/>
                <a:gdLst/>
                <a:ahLst/>
                <a:rect l="l" t="t" r="r" b="b"/>
                <a:pathLst>
                  <a:path w="20" h="22">
                    <a:moveTo>
                      <a:pt x="0" y="22"/>
                    </a:moveTo>
                    <a:lnTo>
                      <a:pt x="4" y="0"/>
                    </a:lnTo>
                    <a:lnTo>
                      <a:pt x="20" y="6"/>
                    </a:lnTo>
                    <a:lnTo>
                      <a:pt x="19" y="13"/>
                    </a:lnTo>
                    <a:lnTo>
                      <a:pt x="14" y="18"/>
                    </a:lnTo>
                    <a:lnTo>
                      <a:pt x="7" y="21"/>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0" name=""/>
              <p:cNvSpPr/>
              <p:nvPr/>
            </p:nvSpPr>
            <p:spPr>
              <a:xfrm>
                <a:off x="7912080" y="1995480"/>
                <a:ext cx="12600" cy="9360"/>
              </a:xfrm>
              <a:custGeom>
                <a:avLst/>
                <a:gdLst/>
                <a:ahLst/>
                <a:rect l="l" t="t" r="r" b="b"/>
                <a:pathLst>
                  <a:path w="24" h="17">
                    <a:moveTo>
                      <a:pt x="5" y="17"/>
                    </a:moveTo>
                    <a:lnTo>
                      <a:pt x="0" y="7"/>
                    </a:lnTo>
                    <a:lnTo>
                      <a:pt x="4" y="2"/>
                    </a:lnTo>
                    <a:lnTo>
                      <a:pt x="13" y="0"/>
                    </a:lnTo>
                    <a:lnTo>
                      <a:pt x="21" y="1"/>
                    </a:lnTo>
                    <a:lnTo>
                      <a:pt x="24" y="10"/>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1" name=""/>
              <p:cNvSpPr/>
              <p:nvPr/>
            </p:nvSpPr>
            <p:spPr>
              <a:xfrm>
                <a:off x="7037280" y="1989000"/>
                <a:ext cx="14400" cy="12960"/>
              </a:xfrm>
              <a:custGeom>
                <a:avLst/>
                <a:gdLst/>
                <a:ahLst/>
                <a:rect l="l" t="t" r="r" b="b"/>
                <a:pathLst>
                  <a:path w="26" h="22">
                    <a:moveTo>
                      <a:pt x="6" y="22"/>
                    </a:moveTo>
                    <a:lnTo>
                      <a:pt x="0" y="0"/>
                    </a:lnTo>
                    <a:lnTo>
                      <a:pt x="21" y="0"/>
                    </a:lnTo>
                    <a:lnTo>
                      <a:pt x="26" y="9"/>
                    </a:lnTo>
                    <a:lnTo>
                      <a:pt x="23" y="18"/>
                    </a:lnTo>
                    <a:lnTo>
                      <a:pt x="17" y="22"/>
                    </a:lnTo>
                    <a:lnTo>
                      <a:pt x="6"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2" name=""/>
              <p:cNvSpPr/>
              <p:nvPr/>
            </p:nvSpPr>
            <p:spPr>
              <a:xfrm>
                <a:off x="7642080" y="1982880"/>
                <a:ext cx="7920" cy="11160"/>
              </a:xfrm>
              <a:custGeom>
                <a:avLst/>
                <a:gdLst/>
                <a:ahLst/>
                <a:rect l="l" t="t" r="r" b="b"/>
                <a:pathLst>
                  <a:path w="14" h="22">
                    <a:moveTo>
                      <a:pt x="1" y="22"/>
                    </a:moveTo>
                    <a:lnTo>
                      <a:pt x="0" y="0"/>
                    </a:lnTo>
                    <a:lnTo>
                      <a:pt x="11" y="0"/>
                    </a:lnTo>
                    <a:lnTo>
                      <a:pt x="14" y="6"/>
                    </a:lnTo>
                    <a:lnTo>
                      <a:pt x="13" y="13"/>
                    </a:lnTo>
                    <a:lnTo>
                      <a:pt x="8" y="19"/>
                    </a:lnTo>
                    <a:lnTo>
                      <a:pt x="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3" name=""/>
              <p:cNvSpPr/>
              <p:nvPr/>
            </p:nvSpPr>
            <p:spPr>
              <a:xfrm>
                <a:off x="6993000" y="1987560"/>
                <a:ext cx="11160" cy="12600"/>
              </a:xfrm>
              <a:custGeom>
                <a:avLst/>
                <a:gdLst/>
                <a:ahLst/>
                <a:rect l="l" t="t" r="r" b="b"/>
                <a:pathLst>
                  <a:path w="19" h="25">
                    <a:moveTo>
                      <a:pt x="9" y="25"/>
                    </a:moveTo>
                    <a:lnTo>
                      <a:pt x="2" y="22"/>
                    </a:lnTo>
                    <a:lnTo>
                      <a:pt x="0" y="13"/>
                    </a:lnTo>
                    <a:lnTo>
                      <a:pt x="3" y="4"/>
                    </a:lnTo>
                    <a:lnTo>
                      <a:pt x="8" y="0"/>
                    </a:lnTo>
                    <a:lnTo>
                      <a:pt x="16" y="3"/>
                    </a:lnTo>
                    <a:lnTo>
                      <a:pt x="19" y="10"/>
                    </a:lnTo>
                    <a:lnTo>
                      <a:pt x="15" y="19"/>
                    </a:lnTo>
                    <a:lnTo>
                      <a:pt x="9"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4" name=""/>
              <p:cNvSpPr/>
              <p:nvPr/>
            </p:nvSpPr>
            <p:spPr>
              <a:xfrm>
                <a:off x="7758000" y="1976400"/>
                <a:ext cx="11160" cy="9720"/>
              </a:xfrm>
              <a:custGeom>
                <a:avLst/>
                <a:gdLst/>
                <a:ahLst/>
                <a:rect l="l" t="t" r="r" b="b"/>
                <a:pathLst>
                  <a:path w="22" h="16">
                    <a:moveTo>
                      <a:pt x="9" y="16"/>
                    </a:moveTo>
                    <a:lnTo>
                      <a:pt x="0" y="7"/>
                    </a:lnTo>
                    <a:lnTo>
                      <a:pt x="3" y="1"/>
                    </a:lnTo>
                    <a:lnTo>
                      <a:pt x="9" y="0"/>
                    </a:lnTo>
                    <a:lnTo>
                      <a:pt x="16" y="4"/>
                    </a:lnTo>
                    <a:lnTo>
                      <a:pt x="22" y="11"/>
                    </a:lnTo>
                    <a:lnTo>
                      <a:pt x="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5" name=""/>
              <p:cNvSpPr/>
              <p:nvPr/>
            </p:nvSpPr>
            <p:spPr>
              <a:xfrm>
                <a:off x="7862760" y="1973160"/>
                <a:ext cx="6480" cy="11160"/>
              </a:xfrm>
              <a:custGeom>
                <a:avLst/>
                <a:gdLst/>
                <a:ahLst/>
                <a:rect l="l" t="t" r="r" b="b"/>
                <a:pathLst>
                  <a:path w="13" h="21">
                    <a:moveTo>
                      <a:pt x="3" y="21"/>
                    </a:moveTo>
                    <a:lnTo>
                      <a:pt x="0" y="16"/>
                    </a:lnTo>
                    <a:lnTo>
                      <a:pt x="2" y="7"/>
                    </a:lnTo>
                    <a:lnTo>
                      <a:pt x="4" y="0"/>
                    </a:lnTo>
                    <a:lnTo>
                      <a:pt x="12" y="0"/>
                    </a:lnTo>
                    <a:lnTo>
                      <a:pt x="12" y="5"/>
                    </a:lnTo>
                    <a:lnTo>
                      <a:pt x="13" y="14"/>
                    </a:lnTo>
                    <a:lnTo>
                      <a:pt x="12"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6" name=""/>
              <p:cNvSpPr/>
              <p:nvPr/>
            </p:nvSpPr>
            <p:spPr>
              <a:xfrm>
                <a:off x="8104320" y="1962000"/>
                <a:ext cx="9360" cy="11160"/>
              </a:xfrm>
              <a:custGeom>
                <a:avLst/>
                <a:gdLst/>
                <a:ahLst/>
                <a:rect l="l" t="t" r="r" b="b"/>
                <a:pathLst>
                  <a:path w="17" h="21">
                    <a:moveTo>
                      <a:pt x="3" y="21"/>
                    </a:moveTo>
                    <a:lnTo>
                      <a:pt x="0" y="13"/>
                    </a:lnTo>
                    <a:lnTo>
                      <a:pt x="1" y="6"/>
                    </a:lnTo>
                    <a:lnTo>
                      <a:pt x="9" y="0"/>
                    </a:lnTo>
                    <a:lnTo>
                      <a:pt x="17" y="0"/>
                    </a:lnTo>
                    <a:lnTo>
                      <a:pt x="17" y="8"/>
                    </a:lnTo>
                    <a:lnTo>
                      <a:pt x="14" y="15"/>
                    </a:lnTo>
                    <a:lnTo>
                      <a:pt x="10"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7" name=""/>
              <p:cNvSpPr/>
              <p:nvPr/>
            </p:nvSpPr>
            <p:spPr>
              <a:xfrm>
                <a:off x="8045280" y="1962000"/>
                <a:ext cx="12960" cy="9720"/>
              </a:xfrm>
              <a:custGeom>
                <a:avLst/>
                <a:gdLst/>
                <a:ahLst/>
                <a:rect l="l" t="t" r="r" b="b"/>
                <a:pathLst>
                  <a:path w="25" h="20">
                    <a:moveTo>
                      <a:pt x="12" y="20"/>
                    </a:moveTo>
                    <a:lnTo>
                      <a:pt x="0" y="1"/>
                    </a:lnTo>
                    <a:lnTo>
                      <a:pt x="22" y="0"/>
                    </a:lnTo>
                    <a:lnTo>
                      <a:pt x="25" y="6"/>
                    </a:lnTo>
                    <a:lnTo>
                      <a:pt x="23" y="12"/>
                    </a:lnTo>
                    <a:lnTo>
                      <a:pt x="19" y="16"/>
                    </a:lnTo>
                    <a:lnTo>
                      <a:pt x="12"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88" name=""/>
              <p:cNvSpPr/>
              <p:nvPr/>
            </p:nvSpPr>
            <p:spPr>
              <a:xfrm>
                <a:off x="8244000" y="1954080"/>
                <a:ext cx="11160" cy="12960"/>
              </a:xfrm>
              <a:custGeom>
                <a:avLst/>
                <a:gdLst/>
                <a:ahLst/>
                <a:rect l="l" t="t" r="r" b="b"/>
                <a:pathLst>
                  <a:path w="21" h="23">
                    <a:moveTo>
                      <a:pt x="7" y="23"/>
                    </a:moveTo>
                    <a:lnTo>
                      <a:pt x="0" y="0"/>
                    </a:lnTo>
                    <a:lnTo>
                      <a:pt x="21" y="7"/>
                    </a:lnTo>
                    <a:lnTo>
                      <a:pt x="7"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9" name=""/>
              <p:cNvSpPr/>
              <p:nvPr/>
            </p:nvSpPr>
            <p:spPr>
              <a:xfrm>
                <a:off x="8161200" y="1954080"/>
                <a:ext cx="11160" cy="11160"/>
              </a:xfrm>
              <a:custGeom>
                <a:avLst/>
                <a:gdLst/>
                <a:ahLst/>
                <a:rect l="l" t="t" r="r" b="b"/>
                <a:pathLst>
                  <a:path w="21" h="19">
                    <a:moveTo>
                      <a:pt x="13" y="19"/>
                    </a:moveTo>
                    <a:lnTo>
                      <a:pt x="0" y="7"/>
                    </a:lnTo>
                    <a:lnTo>
                      <a:pt x="21" y="0"/>
                    </a:lnTo>
                    <a:lnTo>
                      <a:pt x="1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0" name=""/>
              <p:cNvSpPr/>
              <p:nvPr/>
            </p:nvSpPr>
            <p:spPr>
              <a:xfrm>
                <a:off x="8366040" y="1951200"/>
                <a:ext cx="7920" cy="10800"/>
              </a:xfrm>
              <a:custGeom>
                <a:avLst/>
                <a:gdLst/>
                <a:ahLst/>
                <a:rect l="l" t="t" r="r" b="b"/>
                <a:pathLst>
                  <a:path w="17" h="19">
                    <a:moveTo>
                      <a:pt x="0" y="19"/>
                    </a:moveTo>
                    <a:lnTo>
                      <a:pt x="0" y="0"/>
                    </a:lnTo>
                    <a:lnTo>
                      <a:pt x="17" y="12"/>
                    </a:lnTo>
                    <a:lnTo>
                      <a:pt x="0" y="1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1" name=""/>
              <p:cNvSpPr/>
              <p:nvPr/>
            </p:nvSpPr>
            <p:spPr>
              <a:xfrm>
                <a:off x="7804080" y="1943280"/>
                <a:ext cx="9720" cy="1080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2" name=""/>
              <p:cNvSpPr/>
              <p:nvPr/>
            </p:nvSpPr>
            <p:spPr>
              <a:xfrm>
                <a:off x="7319880" y="1824120"/>
                <a:ext cx="127080" cy="123840"/>
              </a:xfrm>
              <a:custGeom>
                <a:avLst/>
                <a:gdLst/>
                <a:ahLst/>
                <a:rect l="l" t="t" r="r" b="b"/>
                <a:pathLst>
                  <a:path w="240" h="233">
                    <a:moveTo>
                      <a:pt x="210" y="233"/>
                    </a:moveTo>
                    <a:lnTo>
                      <a:pt x="207" y="224"/>
                    </a:lnTo>
                    <a:lnTo>
                      <a:pt x="199" y="222"/>
                    </a:lnTo>
                    <a:lnTo>
                      <a:pt x="191" y="225"/>
                    </a:lnTo>
                    <a:lnTo>
                      <a:pt x="181" y="227"/>
                    </a:lnTo>
                    <a:lnTo>
                      <a:pt x="178" y="221"/>
                    </a:lnTo>
                    <a:lnTo>
                      <a:pt x="182" y="214"/>
                    </a:lnTo>
                    <a:lnTo>
                      <a:pt x="186" y="207"/>
                    </a:lnTo>
                    <a:lnTo>
                      <a:pt x="192" y="199"/>
                    </a:lnTo>
                    <a:lnTo>
                      <a:pt x="199" y="189"/>
                    </a:lnTo>
                    <a:lnTo>
                      <a:pt x="188" y="182"/>
                    </a:lnTo>
                    <a:lnTo>
                      <a:pt x="181" y="183"/>
                    </a:lnTo>
                    <a:lnTo>
                      <a:pt x="176" y="186"/>
                    </a:lnTo>
                    <a:lnTo>
                      <a:pt x="169" y="191"/>
                    </a:lnTo>
                    <a:lnTo>
                      <a:pt x="159" y="196"/>
                    </a:lnTo>
                    <a:lnTo>
                      <a:pt x="159" y="189"/>
                    </a:lnTo>
                    <a:lnTo>
                      <a:pt x="162" y="179"/>
                    </a:lnTo>
                    <a:lnTo>
                      <a:pt x="168" y="172"/>
                    </a:lnTo>
                    <a:lnTo>
                      <a:pt x="173" y="165"/>
                    </a:lnTo>
                    <a:lnTo>
                      <a:pt x="181" y="155"/>
                    </a:lnTo>
                    <a:lnTo>
                      <a:pt x="173" y="152"/>
                    </a:lnTo>
                    <a:lnTo>
                      <a:pt x="168" y="152"/>
                    </a:lnTo>
                    <a:lnTo>
                      <a:pt x="160" y="155"/>
                    </a:lnTo>
                    <a:lnTo>
                      <a:pt x="150" y="157"/>
                    </a:lnTo>
                    <a:lnTo>
                      <a:pt x="150" y="149"/>
                    </a:lnTo>
                    <a:lnTo>
                      <a:pt x="152" y="142"/>
                    </a:lnTo>
                    <a:lnTo>
                      <a:pt x="155" y="134"/>
                    </a:lnTo>
                    <a:lnTo>
                      <a:pt x="159" y="129"/>
                    </a:lnTo>
                    <a:lnTo>
                      <a:pt x="153" y="120"/>
                    </a:lnTo>
                    <a:lnTo>
                      <a:pt x="147" y="121"/>
                    </a:lnTo>
                    <a:lnTo>
                      <a:pt x="142" y="126"/>
                    </a:lnTo>
                    <a:lnTo>
                      <a:pt x="134" y="124"/>
                    </a:lnTo>
                    <a:lnTo>
                      <a:pt x="134" y="117"/>
                    </a:lnTo>
                    <a:lnTo>
                      <a:pt x="137" y="110"/>
                    </a:lnTo>
                    <a:lnTo>
                      <a:pt x="137" y="103"/>
                    </a:lnTo>
                    <a:lnTo>
                      <a:pt x="131" y="95"/>
                    </a:lnTo>
                    <a:lnTo>
                      <a:pt x="124" y="100"/>
                    </a:lnTo>
                    <a:lnTo>
                      <a:pt x="116" y="105"/>
                    </a:lnTo>
                    <a:lnTo>
                      <a:pt x="107" y="113"/>
                    </a:lnTo>
                    <a:lnTo>
                      <a:pt x="100" y="124"/>
                    </a:lnTo>
                    <a:lnTo>
                      <a:pt x="100" y="111"/>
                    </a:lnTo>
                    <a:lnTo>
                      <a:pt x="102" y="98"/>
                    </a:lnTo>
                    <a:lnTo>
                      <a:pt x="105" y="85"/>
                    </a:lnTo>
                    <a:lnTo>
                      <a:pt x="107" y="69"/>
                    </a:lnTo>
                    <a:lnTo>
                      <a:pt x="98" y="72"/>
                    </a:lnTo>
                    <a:lnTo>
                      <a:pt x="91" y="78"/>
                    </a:lnTo>
                    <a:lnTo>
                      <a:pt x="85" y="84"/>
                    </a:lnTo>
                    <a:lnTo>
                      <a:pt x="76" y="90"/>
                    </a:lnTo>
                    <a:lnTo>
                      <a:pt x="76" y="79"/>
                    </a:lnTo>
                    <a:lnTo>
                      <a:pt x="78" y="68"/>
                    </a:lnTo>
                    <a:lnTo>
                      <a:pt x="81" y="58"/>
                    </a:lnTo>
                    <a:lnTo>
                      <a:pt x="89" y="48"/>
                    </a:lnTo>
                    <a:lnTo>
                      <a:pt x="81" y="42"/>
                    </a:lnTo>
                    <a:lnTo>
                      <a:pt x="71" y="40"/>
                    </a:lnTo>
                    <a:lnTo>
                      <a:pt x="63" y="43"/>
                    </a:lnTo>
                    <a:lnTo>
                      <a:pt x="59" y="49"/>
                    </a:lnTo>
                    <a:lnTo>
                      <a:pt x="55" y="56"/>
                    </a:lnTo>
                    <a:lnTo>
                      <a:pt x="48" y="66"/>
                    </a:lnTo>
                    <a:lnTo>
                      <a:pt x="48" y="58"/>
                    </a:lnTo>
                    <a:lnTo>
                      <a:pt x="50" y="52"/>
                    </a:lnTo>
                    <a:lnTo>
                      <a:pt x="53" y="45"/>
                    </a:lnTo>
                    <a:lnTo>
                      <a:pt x="56" y="33"/>
                    </a:lnTo>
                    <a:lnTo>
                      <a:pt x="48" y="30"/>
                    </a:lnTo>
                    <a:lnTo>
                      <a:pt x="42" y="33"/>
                    </a:lnTo>
                    <a:lnTo>
                      <a:pt x="35" y="40"/>
                    </a:lnTo>
                    <a:lnTo>
                      <a:pt x="27" y="49"/>
                    </a:lnTo>
                    <a:lnTo>
                      <a:pt x="22" y="49"/>
                    </a:lnTo>
                    <a:lnTo>
                      <a:pt x="16" y="48"/>
                    </a:lnTo>
                    <a:lnTo>
                      <a:pt x="9" y="46"/>
                    </a:lnTo>
                    <a:lnTo>
                      <a:pt x="0" y="42"/>
                    </a:lnTo>
                    <a:lnTo>
                      <a:pt x="16" y="33"/>
                    </a:lnTo>
                    <a:lnTo>
                      <a:pt x="32" y="26"/>
                    </a:lnTo>
                    <a:lnTo>
                      <a:pt x="49" y="17"/>
                    </a:lnTo>
                    <a:lnTo>
                      <a:pt x="68" y="10"/>
                    </a:lnTo>
                    <a:lnTo>
                      <a:pt x="87" y="6"/>
                    </a:lnTo>
                    <a:lnTo>
                      <a:pt x="107" y="1"/>
                    </a:lnTo>
                    <a:lnTo>
                      <a:pt x="127" y="0"/>
                    </a:lnTo>
                    <a:lnTo>
                      <a:pt x="149" y="1"/>
                    </a:lnTo>
                    <a:lnTo>
                      <a:pt x="165" y="19"/>
                    </a:lnTo>
                    <a:lnTo>
                      <a:pt x="179" y="39"/>
                    </a:lnTo>
                    <a:lnTo>
                      <a:pt x="192" y="61"/>
                    </a:lnTo>
                    <a:lnTo>
                      <a:pt x="202" y="84"/>
                    </a:lnTo>
                    <a:lnTo>
                      <a:pt x="212" y="110"/>
                    </a:lnTo>
                    <a:lnTo>
                      <a:pt x="221" y="136"/>
                    </a:lnTo>
                    <a:lnTo>
                      <a:pt x="231" y="162"/>
                    </a:lnTo>
                    <a:lnTo>
                      <a:pt x="240" y="189"/>
                    </a:lnTo>
                    <a:lnTo>
                      <a:pt x="238" y="196"/>
                    </a:lnTo>
                    <a:lnTo>
                      <a:pt x="237" y="205"/>
                    </a:lnTo>
                    <a:lnTo>
                      <a:pt x="234" y="212"/>
                    </a:lnTo>
                    <a:lnTo>
                      <a:pt x="227" y="220"/>
                    </a:lnTo>
                    <a:lnTo>
                      <a:pt x="210" y="233"/>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601040" y="1930320"/>
                <a:ext cx="7920" cy="11160"/>
              </a:xfrm>
              <a:custGeom>
                <a:avLst/>
                <a:gdLst/>
                <a:ahLst/>
                <a:rect l="l" t="t" r="r" b="b"/>
                <a:pathLst>
                  <a:path w="13" h="20">
                    <a:moveTo>
                      <a:pt x="0" y="20"/>
                    </a:moveTo>
                    <a:lnTo>
                      <a:pt x="1" y="0"/>
                    </a:lnTo>
                    <a:lnTo>
                      <a:pt x="8" y="3"/>
                    </a:lnTo>
                    <a:lnTo>
                      <a:pt x="13" y="7"/>
                    </a:lnTo>
                    <a:lnTo>
                      <a:pt x="13" y="15"/>
                    </a:lnTo>
                    <a:lnTo>
                      <a:pt x="10"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4" name=""/>
              <p:cNvSpPr/>
              <p:nvPr/>
            </p:nvSpPr>
            <p:spPr>
              <a:xfrm>
                <a:off x="7705800" y="1920960"/>
                <a:ext cx="9360" cy="14040"/>
              </a:xfrm>
              <a:custGeom>
                <a:avLst/>
                <a:gdLst/>
                <a:ahLst/>
                <a:rect l="l" t="t" r="r" b="b"/>
                <a:pathLst>
                  <a:path w="17" h="28">
                    <a:moveTo>
                      <a:pt x="7" y="28"/>
                    </a:moveTo>
                    <a:lnTo>
                      <a:pt x="0" y="25"/>
                    </a:lnTo>
                    <a:lnTo>
                      <a:pt x="1" y="16"/>
                    </a:lnTo>
                    <a:lnTo>
                      <a:pt x="5" y="8"/>
                    </a:lnTo>
                    <a:lnTo>
                      <a:pt x="8" y="0"/>
                    </a:lnTo>
                    <a:lnTo>
                      <a:pt x="16" y="5"/>
                    </a:lnTo>
                    <a:lnTo>
                      <a:pt x="17" y="13"/>
                    </a:lnTo>
                    <a:lnTo>
                      <a:pt x="13" y="24"/>
                    </a:lnTo>
                    <a:lnTo>
                      <a:pt x="7"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5" name=""/>
              <p:cNvSpPr/>
              <p:nvPr/>
            </p:nvSpPr>
            <p:spPr>
              <a:xfrm>
                <a:off x="7991640" y="1909800"/>
                <a:ext cx="7920" cy="11160"/>
              </a:xfrm>
              <a:custGeom>
                <a:avLst/>
                <a:gdLst/>
                <a:ahLst/>
                <a:rect l="l" t="t" r="r" b="b"/>
                <a:pathLst>
                  <a:path w="17" h="20">
                    <a:moveTo>
                      <a:pt x="0" y="20"/>
                    </a:moveTo>
                    <a:lnTo>
                      <a:pt x="2" y="0"/>
                    </a:lnTo>
                    <a:lnTo>
                      <a:pt x="14" y="0"/>
                    </a:lnTo>
                    <a:lnTo>
                      <a:pt x="17" y="9"/>
                    </a:lnTo>
                    <a:lnTo>
                      <a:pt x="15" y="16"/>
                    </a:lnTo>
                    <a:lnTo>
                      <a:pt x="8"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6" name=""/>
              <p:cNvSpPr/>
              <p:nvPr/>
            </p:nvSpPr>
            <p:spPr>
              <a:xfrm>
                <a:off x="7869240" y="1909800"/>
                <a:ext cx="14400" cy="9360"/>
              </a:xfrm>
              <a:custGeom>
                <a:avLst/>
                <a:gdLst/>
                <a:ahLst/>
                <a:rect l="l" t="t" r="r" b="b"/>
                <a:pathLst>
                  <a:path w="27" h="18">
                    <a:moveTo>
                      <a:pt x="3" y="18"/>
                    </a:moveTo>
                    <a:lnTo>
                      <a:pt x="0" y="6"/>
                    </a:lnTo>
                    <a:lnTo>
                      <a:pt x="4" y="2"/>
                    </a:lnTo>
                    <a:lnTo>
                      <a:pt x="10" y="0"/>
                    </a:lnTo>
                    <a:lnTo>
                      <a:pt x="18" y="2"/>
                    </a:lnTo>
                    <a:lnTo>
                      <a:pt x="26" y="5"/>
                    </a:lnTo>
                    <a:lnTo>
                      <a:pt x="27" y="12"/>
                    </a:lnTo>
                    <a:lnTo>
                      <a:pt x="20" y="15"/>
                    </a:lnTo>
                    <a:lnTo>
                      <a:pt x="10" y="16"/>
                    </a:lnTo>
                    <a:lnTo>
                      <a:pt x="3"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7" name=""/>
              <p:cNvSpPr/>
              <p:nvPr/>
            </p:nvSpPr>
            <p:spPr>
              <a:xfrm>
                <a:off x="7062840" y="1913040"/>
                <a:ext cx="9360" cy="11160"/>
              </a:xfrm>
              <a:custGeom>
                <a:avLst/>
                <a:gdLst/>
                <a:ahLst/>
                <a:rect l="l" t="t" r="r" b="b"/>
                <a:pathLst>
                  <a:path w="16" h="21">
                    <a:moveTo>
                      <a:pt x="0" y="21"/>
                    </a:moveTo>
                    <a:lnTo>
                      <a:pt x="0" y="0"/>
                    </a:lnTo>
                    <a:lnTo>
                      <a:pt x="16" y="5"/>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8" name=""/>
              <p:cNvSpPr/>
              <p:nvPr/>
            </p:nvSpPr>
            <p:spPr>
              <a:xfrm>
                <a:off x="7935840" y="1900080"/>
                <a:ext cx="7920" cy="11160"/>
              </a:xfrm>
              <a:custGeom>
                <a:avLst/>
                <a:gdLst/>
                <a:ahLst/>
                <a:rect l="l" t="t" r="r" b="b"/>
                <a:pathLst>
                  <a:path w="16" h="22">
                    <a:moveTo>
                      <a:pt x="3" y="21"/>
                    </a:moveTo>
                    <a:lnTo>
                      <a:pt x="0" y="15"/>
                    </a:lnTo>
                    <a:lnTo>
                      <a:pt x="2" y="8"/>
                    </a:lnTo>
                    <a:lnTo>
                      <a:pt x="6" y="2"/>
                    </a:lnTo>
                    <a:lnTo>
                      <a:pt x="13" y="0"/>
                    </a:lnTo>
                    <a:lnTo>
                      <a:pt x="16" y="6"/>
                    </a:lnTo>
                    <a:lnTo>
                      <a:pt x="15" y="16"/>
                    </a:lnTo>
                    <a:lnTo>
                      <a:pt x="11" y="22"/>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9" name=""/>
              <p:cNvSpPr/>
              <p:nvPr/>
            </p:nvSpPr>
            <p:spPr>
              <a:xfrm>
                <a:off x="8121600" y="1893960"/>
                <a:ext cx="11160" cy="11160"/>
              </a:xfrm>
              <a:custGeom>
                <a:avLst/>
                <a:gdLst/>
                <a:ahLst/>
                <a:rect l="l" t="t" r="r" b="b"/>
                <a:pathLst>
                  <a:path w="22" h="20">
                    <a:moveTo>
                      <a:pt x="6" y="20"/>
                    </a:moveTo>
                    <a:lnTo>
                      <a:pt x="0" y="0"/>
                    </a:lnTo>
                    <a:lnTo>
                      <a:pt x="22" y="4"/>
                    </a:lnTo>
                    <a:lnTo>
                      <a:pt x="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0" name=""/>
              <p:cNvSpPr/>
              <p:nvPr/>
            </p:nvSpPr>
            <p:spPr>
              <a:xfrm>
                <a:off x="8188200" y="1890720"/>
                <a:ext cx="7920" cy="14400"/>
              </a:xfrm>
              <a:custGeom>
                <a:avLst/>
                <a:gdLst/>
                <a:ahLst/>
                <a:rect l="l" t="t" r="r" b="b"/>
                <a:pathLst>
                  <a:path w="16" h="25">
                    <a:moveTo>
                      <a:pt x="4" y="25"/>
                    </a:moveTo>
                    <a:lnTo>
                      <a:pt x="0" y="20"/>
                    </a:lnTo>
                    <a:lnTo>
                      <a:pt x="0" y="12"/>
                    </a:lnTo>
                    <a:lnTo>
                      <a:pt x="3" y="4"/>
                    </a:lnTo>
                    <a:lnTo>
                      <a:pt x="11" y="0"/>
                    </a:lnTo>
                    <a:lnTo>
                      <a:pt x="16" y="6"/>
                    </a:lnTo>
                    <a:lnTo>
                      <a:pt x="16" y="12"/>
                    </a:lnTo>
                    <a:lnTo>
                      <a:pt x="11" y="19"/>
                    </a:lnTo>
                    <a:lnTo>
                      <a:pt x="4"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1" name=""/>
              <p:cNvSpPr/>
              <p:nvPr/>
            </p:nvSpPr>
            <p:spPr>
              <a:xfrm>
                <a:off x="8323200" y="1889280"/>
                <a:ext cx="11160" cy="10800"/>
              </a:xfrm>
              <a:custGeom>
                <a:avLst/>
                <a:gdLst/>
                <a:ahLst/>
                <a:rect l="l" t="t" r="r" b="b"/>
                <a:pathLst>
                  <a:path w="20" h="21">
                    <a:moveTo>
                      <a:pt x="2" y="21"/>
                    </a:moveTo>
                    <a:lnTo>
                      <a:pt x="0" y="0"/>
                    </a:lnTo>
                    <a:lnTo>
                      <a:pt x="20" y="4"/>
                    </a:lnTo>
                    <a:lnTo>
                      <a:pt x="2"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2" name=""/>
              <p:cNvSpPr/>
              <p:nvPr/>
            </p:nvSpPr>
            <p:spPr>
              <a:xfrm>
                <a:off x="6991200" y="1889280"/>
                <a:ext cx="17640" cy="12600"/>
              </a:xfrm>
              <a:custGeom>
                <a:avLst/>
                <a:gdLst/>
                <a:ahLst/>
                <a:rect l="l" t="t" r="r" b="b"/>
                <a:pathLst>
                  <a:path w="34" h="23">
                    <a:moveTo>
                      <a:pt x="5" y="23"/>
                    </a:moveTo>
                    <a:lnTo>
                      <a:pt x="1" y="20"/>
                    </a:lnTo>
                    <a:lnTo>
                      <a:pt x="0" y="13"/>
                    </a:lnTo>
                    <a:lnTo>
                      <a:pt x="2" y="5"/>
                    </a:lnTo>
                    <a:lnTo>
                      <a:pt x="7" y="0"/>
                    </a:lnTo>
                    <a:lnTo>
                      <a:pt x="14" y="2"/>
                    </a:lnTo>
                    <a:lnTo>
                      <a:pt x="21" y="5"/>
                    </a:lnTo>
                    <a:lnTo>
                      <a:pt x="27" y="10"/>
                    </a:lnTo>
                    <a:lnTo>
                      <a:pt x="34" y="16"/>
                    </a:lnTo>
                    <a:lnTo>
                      <a:pt x="31" y="22"/>
                    </a:lnTo>
                    <a:lnTo>
                      <a:pt x="24" y="23"/>
                    </a:lnTo>
                    <a:lnTo>
                      <a:pt x="14" y="22"/>
                    </a:lnTo>
                    <a:lnTo>
                      <a:pt x="5"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3" name=""/>
              <p:cNvSpPr/>
              <p:nvPr/>
            </p:nvSpPr>
            <p:spPr>
              <a:xfrm>
                <a:off x="7121520" y="1886040"/>
                <a:ext cx="11160" cy="12600"/>
              </a:xfrm>
              <a:custGeom>
                <a:avLst/>
                <a:gdLst/>
                <a:ahLst/>
                <a:rect l="l" t="t" r="r" b="b"/>
                <a:pathLst>
                  <a:path w="22" h="25">
                    <a:moveTo>
                      <a:pt x="3" y="25"/>
                    </a:moveTo>
                    <a:lnTo>
                      <a:pt x="0" y="3"/>
                    </a:lnTo>
                    <a:lnTo>
                      <a:pt x="10" y="0"/>
                    </a:lnTo>
                    <a:lnTo>
                      <a:pt x="22" y="17"/>
                    </a:lnTo>
                    <a:lnTo>
                      <a:pt x="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4" name=""/>
              <p:cNvSpPr/>
              <p:nvPr/>
            </p:nvSpPr>
            <p:spPr>
              <a:xfrm>
                <a:off x="8053560" y="1873080"/>
                <a:ext cx="10800" cy="11160"/>
              </a:xfrm>
              <a:custGeom>
                <a:avLst/>
                <a:gdLst/>
                <a:ahLst/>
                <a:rect l="l" t="t" r="r" b="b"/>
                <a:pathLst>
                  <a:path w="21" h="21">
                    <a:moveTo>
                      <a:pt x="11" y="21"/>
                    </a:moveTo>
                    <a:lnTo>
                      <a:pt x="0" y="13"/>
                    </a:lnTo>
                    <a:lnTo>
                      <a:pt x="14" y="0"/>
                    </a:lnTo>
                    <a:lnTo>
                      <a:pt x="18" y="5"/>
                    </a:lnTo>
                    <a:lnTo>
                      <a:pt x="21" y="12"/>
                    </a:lnTo>
                    <a:lnTo>
                      <a:pt x="18" y="19"/>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8367840" y="1862280"/>
                <a:ext cx="12600" cy="10800"/>
              </a:xfrm>
              <a:custGeom>
                <a:avLst/>
                <a:gdLst/>
                <a:ahLst/>
                <a:rect l="l" t="t" r="r" b="b"/>
                <a:pathLst>
                  <a:path w="25" h="21">
                    <a:moveTo>
                      <a:pt x="6" y="21"/>
                    </a:moveTo>
                    <a:lnTo>
                      <a:pt x="0" y="10"/>
                    </a:lnTo>
                    <a:lnTo>
                      <a:pt x="3" y="4"/>
                    </a:lnTo>
                    <a:lnTo>
                      <a:pt x="9" y="1"/>
                    </a:lnTo>
                    <a:lnTo>
                      <a:pt x="16" y="0"/>
                    </a:lnTo>
                    <a:lnTo>
                      <a:pt x="25" y="1"/>
                    </a:lnTo>
                    <a:lnTo>
                      <a:pt x="25" y="7"/>
                    </a:lnTo>
                    <a:lnTo>
                      <a:pt x="22" y="13"/>
                    </a:lnTo>
                    <a:lnTo>
                      <a:pt x="16" y="19"/>
                    </a:lnTo>
                    <a:lnTo>
                      <a:pt x="6"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6" name=""/>
              <p:cNvSpPr/>
              <p:nvPr/>
            </p:nvSpPr>
            <p:spPr>
              <a:xfrm>
                <a:off x="7672320" y="1870200"/>
                <a:ext cx="7920" cy="11160"/>
              </a:xfrm>
              <a:custGeom>
                <a:avLst/>
                <a:gdLst/>
                <a:ahLst/>
                <a:rect l="l" t="t" r="r" b="b"/>
                <a:pathLst>
                  <a:path w="17" h="19">
                    <a:moveTo>
                      <a:pt x="2" y="19"/>
                    </a:moveTo>
                    <a:lnTo>
                      <a:pt x="0" y="0"/>
                    </a:lnTo>
                    <a:lnTo>
                      <a:pt x="17" y="2"/>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7" name=""/>
              <p:cNvSpPr/>
              <p:nvPr/>
            </p:nvSpPr>
            <p:spPr>
              <a:xfrm>
                <a:off x="8269200" y="1859040"/>
                <a:ext cx="11160" cy="12600"/>
              </a:xfrm>
              <a:custGeom>
                <a:avLst/>
                <a:gdLst/>
                <a:ahLst/>
                <a:rect l="l" t="t" r="r" b="b"/>
                <a:pathLst>
                  <a:path w="19" h="25">
                    <a:moveTo>
                      <a:pt x="6" y="25"/>
                    </a:moveTo>
                    <a:lnTo>
                      <a:pt x="0" y="20"/>
                    </a:lnTo>
                    <a:lnTo>
                      <a:pt x="0" y="12"/>
                    </a:lnTo>
                    <a:lnTo>
                      <a:pt x="3" y="4"/>
                    </a:lnTo>
                    <a:lnTo>
                      <a:pt x="9" y="0"/>
                    </a:lnTo>
                    <a:lnTo>
                      <a:pt x="15" y="4"/>
                    </a:lnTo>
                    <a:lnTo>
                      <a:pt x="19" y="13"/>
                    </a:lnTo>
                    <a:lnTo>
                      <a:pt x="18" y="22"/>
                    </a:lnTo>
                    <a:lnTo>
                      <a:pt x="6"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8" name=""/>
              <p:cNvSpPr/>
              <p:nvPr/>
            </p:nvSpPr>
            <p:spPr>
              <a:xfrm>
                <a:off x="7758000" y="1859040"/>
                <a:ext cx="11160" cy="9360"/>
              </a:xfrm>
              <a:custGeom>
                <a:avLst/>
                <a:gdLst/>
                <a:ahLst/>
                <a:rect l="l" t="t" r="r" b="b"/>
                <a:pathLst>
                  <a:path w="23" h="19">
                    <a:moveTo>
                      <a:pt x="7" y="15"/>
                    </a:moveTo>
                    <a:lnTo>
                      <a:pt x="0" y="8"/>
                    </a:lnTo>
                    <a:lnTo>
                      <a:pt x="20" y="0"/>
                    </a:lnTo>
                    <a:lnTo>
                      <a:pt x="23" y="8"/>
                    </a:lnTo>
                    <a:lnTo>
                      <a:pt x="21" y="15"/>
                    </a:lnTo>
                    <a:lnTo>
                      <a:pt x="15" y="19"/>
                    </a:lnTo>
                    <a:lnTo>
                      <a:pt x="7"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9" name=""/>
              <p:cNvSpPr/>
              <p:nvPr/>
            </p:nvSpPr>
            <p:spPr>
              <a:xfrm>
                <a:off x="7575480" y="1844640"/>
                <a:ext cx="9720" cy="14400"/>
              </a:xfrm>
              <a:custGeom>
                <a:avLst/>
                <a:gdLst/>
                <a:ahLst/>
                <a:rect l="l" t="t" r="r" b="b"/>
                <a:pathLst>
                  <a:path w="17" h="28">
                    <a:moveTo>
                      <a:pt x="6" y="28"/>
                    </a:moveTo>
                    <a:lnTo>
                      <a:pt x="0" y="24"/>
                    </a:lnTo>
                    <a:lnTo>
                      <a:pt x="0" y="17"/>
                    </a:lnTo>
                    <a:lnTo>
                      <a:pt x="4" y="8"/>
                    </a:lnTo>
                    <a:lnTo>
                      <a:pt x="6" y="0"/>
                    </a:lnTo>
                    <a:lnTo>
                      <a:pt x="14" y="0"/>
                    </a:lnTo>
                    <a:lnTo>
                      <a:pt x="17" y="7"/>
                    </a:lnTo>
                    <a:lnTo>
                      <a:pt x="17" y="15"/>
                    </a:lnTo>
                    <a:lnTo>
                      <a:pt x="11" y="24"/>
                    </a:lnTo>
                    <a:lnTo>
                      <a:pt x="6" y="2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0" name=""/>
              <p:cNvSpPr/>
              <p:nvPr/>
            </p:nvSpPr>
            <p:spPr>
              <a:xfrm>
                <a:off x="7904160" y="1844640"/>
                <a:ext cx="6480" cy="9720"/>
              </a:xfrm>
              <a:custGeom>
                <a:avLst/>
                <a:gdLst/>
                <a:ahLst/>
                <a:rect l="l" t="t" r="r" b="b"/>
                <a:pathLst>
                  <a:path w="13" h="18">
                    <a:moveTo>
                      <a:pt x="0" y="18"/>
                    </a:moveTo>
                    <a:lnTo>
                      <a:pt x="1" y="0"/>
                    </a:lnTo>
                    <a:lnTo>
                      <a:pt x="11" y="1"/>
                    </a:lnTo>
                    <a:lnTo>
                      <a:pt x="13" y="7"/>
                    </a:lnTo>
                    <a:lnTo>
                      <a:pt x="8" y="15"/>
                    </a:lnTo>
                    <a:lnTo>
                      <a:pt x="0"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1" name=""/>
              <p:cNvSpPr/>
              <p:nvPr/>
            </p:nvSpPr>
            <p:spPr>
              <a:xfrm>
                <a:off x="7493040" y="1847880"/>
                <a:ext cx="17280" cy="11160"/>
              </a:xfrm>
              <a:custGeom>
                <a:avLst/>
                <a:gdLst/>
                <a:ahLst/>
                <a:rect l="l" t="t" r="r" b="b"/>
                <a:pathLst>
                  <a:path w="33" h="19">
                    <a:moveTo>
                      <a:pt x="10" y="19"/>
                    </a:moveTo>
                    <a:lnTo>
                      <a:pt x="0" y="3"/>
                    </a:lnTo>
                    <a:lnTo>
                      <a:pt x="8" y="0"/>
                    </a:lnTo>
                    <a:lnTo>
                      <a:pt x="17" y="0"/>
                    </a:lnTo>
                    <a:lnTo>
                      <a:pt x="26" y="0"/>
                    </a:lnTo>
                    <a:lnTo>
                      <a:pt x="33" y="3"/>
                    </a:lnTo>
                    <a:lnTo>
                      <a:pt x="10"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7840800" y="1843200"/>
                <a:ext cx="7920" cy="11160"/>
              </a:xfrm>
              <a:custGeom>
                <a:avLst/>
                <a:gdLst/>
                <a:ahLst/>
                <a:rect l="l" t="t" r="r" b="b"/>
                <a:pathLst>
                  <a:path w="17" h="21">
                    <a:moveTo>
                      <a:pt x="5" y="21"/>
                    </a:moveTo>
                    <a:lnTo>
                      <a:pt x="0" y="17"/>
                    </a:lnTo>
                    <a:lnTo>
                      <a:pt x="3" y="10"/>
                    </a:lnTo>
                    <a:lnTo>
                      <a:pt x="10" y="4"/>
                    </a:lnTo>
                    <a:lnTo>
                      <a:pt x="17" y="0"/>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3" name=""/>
              <p:cNvSpPr/>
              <p:nvPr/>
            </p:nvSpPr>
            <p:spPr>
              <a:xfrm>
                <a:off x="8031240" y="1832040"/>
                <a:ext cx="11160" cy="14400"/>
              </a:xfrm>
              <a:custGeom>
                <a:avLst/>
                <a:gdLst/>
                <a:ahLst/>
                <a:rect l="l" t="t" r="r" b="b"/>
                <a:pathLst>
                  <a:path w="20" h="26">
                    <a:moveTo>
                      <a:pt x="6" y="26"/>
                    </a:moveTo>
                    <a:lnTo>
                      <a:pt x="0" y="22"/>
                    </a:lnTo>
                    <a:lnTo>
                      <a:pt x="2" y="13"/>
                    </a:lnTo>
                    <a:lnTo>
                      <a:pt x="6" y="4"/>
                    </a:lnTo>
                    <a:lnTo>
                      <a:pt x="12" y="0"/>
                    </a:lnTo>
                    <a:lnTo>
                      <a:pt x="18" y="4"/>
                    </a:lnTo>
                    <a:lnTo>
                      <a:pt x="20" y="13"/>
                    </a:lnTo>
                    <a:lnTo>
                      <a:pt x="16" y="22"/>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4" name=""/>
              <p:cNvSpPr/>
              <p:nvPr/>
            </p:nvSpPr>
            <p:spPr>
              <a:xfrm>
                <a:off x="8172360" y="1828800"/>
                <a:ext cx="11160" cy="11160"/>
              </a:xfrm>
              <a:custGeom>
                <a:avLst/>
                <a:gdLst/>
                <a:ahLst/>
                <a:rect l="l" t="t" r="r" b="b"/>
                <a:pathLst>
                  <a:path w="20" h="21">
                    <a:moveTo>
                      <a:pt x="11" y="21"/>
                    </a:moveTo>
                    <a:lnTo>
                      <a:pt x="0" y="13"/>
                    </a:lnTo>
                    <a:lnTo>
                      <a:pt x="1" y="5"/>
                    </a:lnTo>
                    <a:lnTo>
                      <a:pt x="7" y="1"/>
                    </a:lnTo>
                    <a:lnTo>
                      <a:pt x="14" y="0"/>
                    </a:lnTo>
                    <a:lnTo>
                      <a:pt x="20" y="3"/>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5" name=""/>
              <p:cNvSpPr/>
              <p:nvPr/>
            </p:nvSpPr>
            <p:spPr>
              <a:xfrm>
                <a:off x="7969320" y="1828800"/>
                <a:ext cx="11160" cy="7920"/>
              </a:xfrm>
              <a:custGeom>
                <a:avLst/>
                <a:gdLst/>
                <a:ahLst/>
                <a:rect l="l" t="t" r="r" b="b"/>
                <a:pathLst>
                  <a:path w="23" h="16">
                    <a:moveTo>
                      <a:pt x="13" y="16"/>
                    </a:moveTo>
                    <a:lnTo>
                      <a:pt x="0" y="0"/>
                    </a:lnTo>
                    <a:lnTo>
                      <a:pt x="23" y="0"/>
                    </a:lnTo>
                    <a:lnTo>
                      <a:pt x="1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6" name=""/>
              <p:cNvSpPr/>
              <p:nvPr/>
            </p:nvSpPr>
            <p:spPr>
              <a:xfrm>
                <a:off x="8102520" y="1822320"/>
                <a:ext cx="11160" cy="11160"/>
              </a:xfrm>
              <a:custGeom>
                <a:avLst/>
                <a:gdLst/>
                <a:ahLst/>
                <a:rect l="l" t="t" r="r" b="b"/>
                <a:pathLst>
                  <a:path w="19" h="20">
                    <a:moveTo>
                      <a:pt x="3" y="19"/>
                    </a:moveTo>
                    <a:lnTo>
                      <a:pt x="0" y="12"/>
                    </a:lnTo>
                    <a:lnTo>
                      <a:pt x="2" y="4"/>
                    </a:lnTo>
                    <a:lnTo>
                      <a:pt x="7" y="0"/>
                    </a:lnTo>
                    <a:lnTo>
                      <a:pt x="16" y="0"/>
                    </a:lnTo>
                    <a:lnTo>
                      <a:pt x="19" y="9"/>
                    </a:lnTo>
                    <a:lnTo>
                      <a:pt x="17" y="16"/>
                    </a:lnTo>
                    <a:lnTo>
                      <a:pt x="12" y="20"/>
                    </a:lnTo>
                    <a:lnTo>
                      <a:pt x="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7" name=""/>
              <p:cNvSpPr/>
              <p:nvPr/>
            </p:nvSpPr>
            <p:spPr>
              <a:xfrm>
                <a:off x="7140600" y="1824120"/>
                <a:ext cx="12600" cy="15840"/>
              </a:xfrm>
              <a:custGeom>
                <a:avLst/>
                <a:gdLst/>
                <a:ahLst/>
                <a:rect l="l" t="t" r="r" b="b"/>
                <a:pathLst>
                  <a:path w="26" h="29">
                    <a:moveTo>
                      <a:pt x="7" y="29"/>
                    </a:moveTo>
                    <a:lnTo>
                      <a:pt x="1" y="23"/>
                    </a:lnTo>
                    <a:lnTo>
                      <a:pt x="0" y="16"/>
                    </a:lnTo>
                    <a:lnTo>
                      <a:pt x="2" y="7"/>
                    </a:lnTo>
                    <a:lnTo>
                      <a:pt x="7" y="0"/>
                    </a:lnTo>
                    <a:lnTo>
                      <a:pt x="26" y="12"/>
                    </a:lnTo>
                    <a:lnTo>
                      <a:pt x="7"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8" name=""/>
              <p:cNvSpPr/>
              <p:nvPr/>
            </p:nvSpPr>
            <p:spPr>
              <a:xfrm>
                <a:off x="7716960" y="1798560"/>
                <a:ext cx="11160" cy="11160"/>
              </a:xfrm>
              <a:custGeom>
                <a:avLst/>
                <a:gdLst/>
                <a:ahLst/>
                <a:rect l="l" t="t" r="r" b="b"/>
                <a:pathLst>
                  <a:path w="20" h="23">
                    <a:moveTo>
                      <a:pt x="6" y="23"/>
                    </a:moveTo>
                    <a:lnTo>
                      <a:pt x="0" y="19"/>
                    </a:lnTo>
                    <a:lnTo>
                      <a:pt x="0" y="11"/>
                    </a:lnTo>
                    <a:lnTo>
                      <a:pt x="6" y="3"/>
                    </a:lnTo>
                    <a:lnTo>
                      <a:pt x="14" y="0"/>
                    </a:lnTo>
                    <a:lnTo>
                      <a:pt x="20" y="4"/>
                    </a:lnTo>
                    <a:lnTo>
                      <a:pt x="19" y="11"/>
                    </a:lnTo>
                    <a:lnTo>
                      <a:pt x="11" y="19"/>
                    </a:lnTo>
                    <a:lnTo>
                      <a:pt x="6"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9" name=""/>
              <p:cNvSpPr/>
              <p:nvPr/>
            </p:nvSpPr>
            <p:spPr>
              <a:xfrm>
                <a:off x="7056360" y="1806480"/>
                <a:ext cx="12600" cy="11160"/>
              </a:xfrm>
              <a:custGeom>
                <a:avLst/>
                <a:gdLst/>
                <a:ahLst/>
                <a:rect l="l" t="t" r="r" b="b"/>
                <a:pathLst>
                  <a:path w="23" h="21">
                    <a:moveTo>
                      <a:pt x="6" y="21"/>
                    </a:moveTo>
                    <a:lnTo>
                      <a:pt x="0" y="3"/>
                    </a:lnTo>
                    <a:lnTo>
                      <a:pt x="7" y="0"/>
                    </a:lnTo>
                    <a:lnTo>
                      <a:pt x="14" y="1"/>
                    </a:lnTo>
                    <a:lnTo>
                      <a:pt x="20" y="7"/>
                    </a:lnTo>
                    <a:lnTo>
                      <a:pt x="23" y="14"/>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0" name=""/>
              <p:cNvSpPr/>
              <p:nvPr/>
            </p:nvSpPr>
            <p:spPr>
              <a:xfrm>
                <a:off x="8304120" y="1790640"/>
                <a:ext cx="11160" cy="9720"/>
              </a:xfrm>
              <a:custGeom>
                <a:avLst/>
                <a:gdLst/>
                <a:ahLst/>
                <a:rect l="l" t="t" r="r" b="b"/>
                <a:pathLst>
                  <a:path w="21" h="19">
                    <a:moveTo>
                      <a:pt x="0" y="19"/>
                    </a:moveTo>
                    <a:lnTo>
                      <a:pt x="2" y="0"/>
                    </a:lnTo>
                    <a:lnTo>
                      <a:pt x="21" y="10"/>
                    </a:lnTo>
                    <a:lnTo>
                      <a:pt x="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21" name=""/>
              <p:cNvSpPr/>
              <p:nvPr/>
            </p:nvSpPr>
            <p:spPr>
              <a:xfrm>
                <a:off x="7013520" y="1801800"/>
                <a:ext cx="11160" cy="12600"/>
              </a:xfrm>
              <a:custGeom>
                <a:avLst/>
                <a:gdLst/>
                <a:ahLst/>
                <a:rect l="l" t="t" r="r" b="b"/>
                <a:pathLst>
                  <a:path w="20" h="23">
                    <a:moveTo>
                      <a:pt x="1" y="23"/>
                    </a:moveTo>
                    <a:lnTo>
                      <a:pt x="0" y="16"/>
                    </a:lnTo>
                    <a:lnTo>
                      <a:pt x="1" y="10"/>
                    </a:lnTo>
                    <a:lnTo>
                      <a:pt x="9" y="4"/>
                    </a:lnTo>
                    <a:lnTo>
                      <a:pt x="17" y="0"/>
                    </a:lnTo>
                    <a:lnTo>
                      <a:pt x="20" y="22"/>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2" name=""/>
              <p:cNvSpPr/>
              <p:nvPr/>
            </p:nvSpPr>
            <p:spPr>
              <a:xfrm>
                <a:off x="7864560" y="1793880"/>
                <a:ext cx="11160" cy="7920"/>
              </a:xfrm>
              <a:custGeom>
                <a:avLst/>
                <a:gdLst/>
                <a:ahLst/>
                <a:rect l="l" t="t" r="r" b="b"/>
                <a:pathLst>
                  <a:path w="21" h="14">
                    <a:moveTo>
                      <a:pt x="12" y="14"/>
                    </a:moveTo>
                    <a:lnTo>
                      <a:pt x="0" y="0"/>
                    </a:lnTo>
                    <a:lnTo>
                      <a:pt x="21" y="0"/>
                    </a:lnTo>
                    <a:lnTo>
                      <a:pt x="12"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3" name=""/>
              <p:cNvSpPr/>
              <p:nvPr/>
            </p:nvSpPr>
            <p:spPr>
              <a:xfrm>
                <a:off x="8366040" y="1784520"/>
                <a:ext cx="12960" cy="12600"/>
              </a:xfrm>
              <a:custGeom>
                <a:avLst/>
                <a:gdLst/>
                <a:ahLst/>
                <a:rect l="l" t="t" r="r" b="b"/>
                <a:pathLst>
                  <a:path w="23" h="22">
                    <a:moveTo>
                      <a:pt x="14" y="22"/>
                    </a:moveTo>
                    <a:lnTo>
                      <a:pt x="0" y="9"/>
                    </a:lnTo>
                    <a:lnTo>
                      <a:pt x="4" y="2"/>
                    </a:lnTo>
                    <a:lnTo>
                      <a:pt x="11" y="0"/>
                    </a:lnTo>
                    <a:lnTo>
                      <a:pt x="20" y="5"/>
                    </a:lnTo>
                    <a:lnTo>
                      <a:pt x="23" y="10"/>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4" name=""/>
              <p:cNvSpPr/>
              <p:nvPr/>
            </p:nvSpPr>
            <p:spPr>
              <a:xfrm>
                <a:off x="7202520" y="1798560"/>
                <a:ext cx="9360" cy="12600"/>
              </a:xfrm>
              <a:custGeom>
                <a:avLst/>
                <a:gdLst/>
                <a:ahLst/>
                <a:rect l="l" t="t" r="r" b="b"/>
                <a:pathLst>
                  <a:path w="20" h="23">
                    <a:moveTo>
                      <a:pt x="0" y="22"/>
                    </a:moveTo>
                    <a:lnTo>
                      <a:pt x="1" y="0"/>
                    </a:lnTo>
                    <a:lnTo>
                      <a:pt x="8" y="2"/>
                    </a:lnTo>
                    <a:lnTo>
                      <a:pt x="13" y="6"/>
                    </a:lnTo>
                    <a:lnTo>
                      <a:pt x="17" y="13"/>
                    </a:lnTo>
                    <a:lnTo>
                      <a:pt x="20" y="23"/>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5" name=""/>
              <p:cNvSpPr/>
              <p:nvPr/>
            </p:nvSpPr>
            <p:spPr>
              <a:xfrm>
                <a:off x="8213760" y="1779480"/>
                <a:ext cx="11160" cy="12960"/>
              </a:xfrm>
              <a:custGeom>
                <a:avLst/>
                <a:gdLst/>
                <a:ahLst/>
                <a:rect l="l" t="t" r="r" b="b"/>
                <a:pathLst>
                  <a:path w="21" h="25">
                    <a:moveTo>
                      <a:pt x="5" y="25"/>
                    </a:moveTo>
                    <a:lnTo>
                      <a:pt x="0" y="17"/>
                    </a:lnTo>
                    <a:lnTo>
                      <a:pt x="2" y="10"/>
                    </a:lnTo>
                    <a:lnTo>
                      <a:pt x="8" y="4"/>
                    </a:lnTo>
                    <a:lnTo>
                      <a:pt x="16" y="0"/>
                    </a:lnTo>
                    <a:lnTo>
                      <a:pt x="21" y="19"/>
                    </a:lnTo>
                    <a:lnTo>
                      <a:pt x="5"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6" name=""/>
              <p:cNvSpPr/>
              <p:nvPr/>
            </p:nvSpPr>
            <p:spPr>
              <a:xfrm>
                <a:off x="7624800" y="1785960"/>
                <a:ext cx="11160" cy="9360"/>
              </a:xfrm>
              <a:custGeom>
                <a:avLst/>
                <a:gdLst/>
                <a:ahLst/>
                <a:rect l="l" t="t" r="r" b="b"/>
                <a:pathLst>
                  <a:path w="23" h="17">
                    <a:moveTo>
                      <a:pt x="11" y="17"/>
                    </a:moveTo>
                    <a:lnTo>
                      <a:pt x="0" y="10"/>
                    </a:lnTo>
                    <a:lnTo>
                      <a:pt x="3" y="2"/>
                    </a:lnTo>
                    <a:lnTo>
                      <a:pt x="10" y="0"/>
                    </a:lnTo>
                    <a:lnTo>
                      <a:pt x="17" y="3"/>
                    </a:lnTo>
                    <a:lnTo>
                      <a:pt x="23" y="7"/>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7" name=""/>
              <p:cNvSpPr/>
              <p:nvPr/>
            </p:nvSpPr>
            <p:spPr>
              <a:xfrm>
                <a:off x="7291440" y="1785960"/>
                <a:ext cx="9360" cy="12600"/>
              </a:xfrm>
              <a:custGeom>
                <a:avLst/>
                <a:gdLst/>
                <a:ahLst/>
                <a:rect l="l" t="t" r="r" b="b"/>
                <a:pathLst>
                  <a:path w="17" h="22">
                    <a:moveTo>
                      <a:pt x="1" y="22"/>
                    </a:moveTo>
                    <a:lnTo>
                      <a:pt x="0" y="0"/>
                    </a:lnTo>
                    <a:lnTo>
                      <a:pt x="17" y="4"/>
                    </a:lnTo>
                    <a:lnTo>
                      <a:pt x="17" y="12"/>
                    </a:lnTo>
                    <a:lnTo>
                      <a:pt x="14" y="17"/>
                    </a:lnTo>
                    <a:lnTo>
                      <a:pt x="9" y="20"/>
                    </a:lnTo>
                    <a:lnTo>
                      <a:pt x="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8" name=""/>
              <p:cNvSpPr/>
              <p:nvPr/>
            </p:nvSpPr>
            <p:spPr>
              <a:xfrm>
                <a:off x="8082000" y="1776240"/>
                <a:ext cx="9360" cy="9720"/>
              </a:xfrm>
              <a:custGeom>
                <a:avLst/>
                <a:gdLst/>
                <a:ahLst/>
                <a:rect l="l" t="t" r="r" b="b"/>
                <a:pathLst>
                  <a:path w="18" h="19">
                    <a:moveTo>
                      <a:pt x="10" y="19"/>
                    </a:moveTo>
                    <a:lnTo>
                      <a:pt x="0" y="13"/>
                    </a:lnTo>
                    <a:lnTo>
                      <a:pt x="1" y="6"/>
                    </a:lnTo>
                    <a:lnTo>
                      <a:pt x="7" y="2"/>
                    </a:lnTo>
                    <a:lnTo>
                      <a:pt x="13" y="0"/>
                    </a:lnTo>
                    <a:lnTo>
                      <a:pt x="18" y="3"/>
                    </a:lnTo>
                    <a:lnTo>
                      <a:pt x="1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29" name=""/>
              <p:cNvSpPr/>
              <p:nvPr/>
            </p:nvSpPr>
            <p:spPr>
              <a:xfrm>
                <a:off x="7458120" y="1782720"/>
                <a:ext cx="9360" cy="11160"/>
              </a:xfrm>
              <a:custGeom>
                <a:avLst/>
                <a:gdLst/>
                <a:ahLst/>
                <a:rect l="l" t="t" r="r" b="b"/>
                <a:pathLst>
                  <a:path w="20" h="21">
                    <a:moveTo>
                      <a:pt x="0" y="21"/>
                    </a:moveTo>
                    <a:lnTo>
                      <a:pt x="0" y="0"/>
                    </a:lnTo>
                    <a:lnTo>
                      <a:pt x="20" y="3"/>
                    </a:lnTo>
                    <a:lnTo>
                      <a:pt x="18" y="10"/>
                    </a:lnTo>
                    <a:lnTo>
                      <a:pt x="16" y="16"/>
                    </a:lnTo>
                    <a:lnTo>
                      <a:pt x="8"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0" name=""/>
              <p:cNvSpPr/>
              <p:nvPr/>
            </p:nvSpPr>
            <p:spPr>
              <a:xfrm>
                <a:off x="7932600" y="1776240"/>
                <a:ext cx="12960" cy="9720"/>
              </a:xfrm>
              <a:custGeom>
                <a:avLst/>
                <a:gdLst/>
                <a:ahLst/>
                <a:rect l="l" t="t" r="r" b="b"/>
                <a:pathLst>
                  <a:path w="22" h="19">
                    <a:moveTo>
                      <a:pt x="7" y="19"/>
                    </a:moveTo>
                    <a:lnTo>
                      <a:pt x="0" y="11"/>
                    </a:lnTo>
                    <a:lnTo>
                      <a:pt x="2" y="4"/>
                    </a:lnTo>
                    <a:lnTo>
                      <a:pt x="6" y="0"/>
                    </a:lnTo>
                    <a:lnTo>
                      <a:pt x="13" y="0"/>
                    </a:lnTo>
                    <a:lnTo>
                      <a:pt x="22" y="3"/>
                    </a:lnTo>
                    <a:lnTo>
                      <a:pt x="7"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531" name=""/>
          <p:cNvGrpSpPr/>
          <p:nvPr/>
        </p:nvGrpSpPr>
        <p:grpSpPr>
          <a:xfrm>
            <a:off x="822240" y="1676520"/>
            <a:ext cx="1027080" cy="1334880"/>
            <a:chOff x="822240" y="1676520"/>
            <a:chExt cx="1027080" cy="1334880"/>
          </a:xfrm>
        </p:grpSpPr>
        <p:sp>
          <p:nvSpPr>
            <p:cNvPr id="532" name=""/>
            <p:cNvSpPr/>
            <p:nvPr/>
          </p:nvSpPr>
          <p:spPr>
            <a:xfrm>
              <a:off x="873000" y="1676520"/>
              <a:ext cx="976320" cy="1271520"/>
            </a:xfrm>
            <a:custGeom>
              <a:avLst/>
              <a:gdLst/>
              <a:ahLst/>
              <a:rect l="l" t="t" r="r" b="b"/>
              <a:pathLst>
                <a:path w="1846" h="2404">
                  <a:moveTo>
                    <a:pt x="1124" y="0"/>
                  </a:moveTo>
                  <a:lnTo>
                    <a:pt x="1680" y="512"/>
                  </a:lnTo>
                  <a:lnTo>
                    <a:pt x="1846" y="1882"/>
                  </a:lnTo>
                  <a:lnTo>
                    <a:pt x="1664" y="2140"/>
                  </a:lnTo>
                  <a:lnTo>
                    <a:pt x="1132" y="2140"/>
                  </a:lnTo>
                  <a:lnTo>
                    <a:pt x="481" y="2404"/>
                  </a:lnTo>
                  <a:lnTo>
                    <a:pt x="211" y="2354"/>
                  </a:lnTo>
                  <a:lnTo>
                    <a:pt x="0" y="2016"/>
                  </a:lnTo>
                  <a:lnTo>
                    <a:pt x="327" y="1420"/>
                  </a:lnTo>
                  <a:lnTo>
                    <a:pt x="795" y="412"/>
                  </a:lnTo>
                  <a:lnTo>
                    <a:pt x="1124" y="0"/>
                  </a:lnTo>
                  <a:lnTo>
                    <a:pt x="1124"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822240" y="1676520"/>
              <a:ext cx="1027080" cy="1334880"/>
            </a:xfrm>
            <a:custGeom>
              <a:avLst/>
              <a:gdLst/>
              <a:ahLst/>
              <a:rect l="l" t="t" r="r" b="b"/>
              <a:pathLst>
                <a:path w="1941" h="2523">
                  <a:moveTo>
                    <a:pt x="1212" y="0"/>
                  </a:moveTo>
                  <a:lnTo>
                    <a:pt x="1081" y="102"/>
                  </a:lnTo>
                  <a:lnTo>
                    <a:pt x="920" y="264"/>
                  </a:lnTo>
                  <a:lnTo>
                    <a:pt x="795" y="449"/>
                  </a:lnTo>
                  <a:lnTo>
                    <a:pt x="620" y="794"/>
                  </a:lnTo>
                  <a:lnTo>
                    <a:pt x="445" y="1147"/>
                  </a:lnTo>
                  <a:lnTo>
                    <a:pt x="256" y="1464"/>
                  </a:lnTo>
                  <a:lnTo>
                    <a:pt x="87" y="1721"/>
                  </a:lnTo>
                  <a:lnTo>
                    <a:pt x="28" y="1846"/>
                  </a:lnTo>
                  <a:lnTo>
                    <a:pt x="7" y="1957"/>
                  </a:lnTo>
                  <a:lnTo>
                    <a:pt x="0" y="2030"/>
                  </a:lnTo>
                  <a:lnTo>
                    <a:pt x="37" y="2163"/>
                  </a:lnTo>
                  <a:lnTo>
                    <a:pt x="122" y="2296"/>
                  </a:lnTo>
                  <a:lnTo>
                    <a:pt x="233" y="2404"/>
                  </a:lnTo>
                  <a:lnTo>
                    <a:pt x="344" y="2479"/>
                  </a:lnTo>
                  <a:lnTo>
                    <a:pt x="452" y="2517"/>
                  </a:lnTo>
                  <a:lnTo>
                    <a:pt x="540" y="2523"/>
                  </a:lnTo>
                  <a:lnTo>
                    <a:pt x="613" y="2509"/>
                  </a:lnTo>
                  <a:lnTo>
                    <a:pt x="766" y="2429"/>
                  </a:lnTo>
                  <a:lnTo>
                    <a:pt x="947" y="2339"/>
                  </a:lnTo>
                  <a:lnTo>
                    <a:pt x="1182" y="2273"/>
                  </a:lnTo>
                  <a:lnTo>
                    <a:pt x="1401" y="2244"/>
                  </a:lnTo>
                  <a:lnTo>
                    <a:pt x="1634" y="2252"/>
                  </a:lnTo>
                  <a:lnTo>
                    <a:pt x="1759" y="2252"/>
                  </a:lnTo>
                  <a:lnTo>
                    <a:pt x="1853" y="2222"/>
                  </a:lnTo>
                  <a:lnTo>
                    <a:pt x="1905" y="2140"/>
                  </a:lnTo>
                  <a:lnTo>
                    <a:pt x="1934" y="2000"/>
                  </a:lnTo>
                  <a:lnTo>
                    <a:pt x="1941" y="1854"/>
                  </a:lnTo>
                  <a:lnTo>
                    <a:pt x="1905" y="1669"/>
                  </a:lnTo>
                  <a:lnTo>
                    <a:pt x="1833" y="1531"/>
                  </a:lnTo>
                  <a:lnTo>
                    <a:pt x="1722" y="1434"/>
                  </a:lnTo>
                  <a:lnTo>
                    <a:pt x="1577" y="1376"/>
                  </a:lnTo>
                  <a:lnTo>
                    <a:pt x="1453" y="1384"/>
                  </a:lnTo>
                  <a:lnTo>
                    <a:pt x="1350" y="1427"/>
                  </a:lnTo>
                  <a:lnTo>
                    <a:pt x="1284" y="1485"/>
                  </a:lnTo>
                  <a:lnTo>
                    <a:pt x="1227" y="1566"/>
                  </a:lnTo>
                  <a:lnTo>
                    <a:pt x="1189" y="1663"/>
                  </a:lnTo>
                  <a:lnTo>
                    <a:pt x="1204" y="1714"/>
                  </a:lnTo>
                  <a:lnTo>
                    <a:pt x="1241" y="1736"/>
                  </a:lnTo>
                  <a:lnTo>
                    <a:pt x="1307" y="1730"/>
                  </a:lnTo>
                  <a:lnTo>
                    <a:pt x="1350" y="1684"/>
                  </a:lnTo>
                  <a:lnTo>
                    <a:pt x="1415" y="1609"/>
                  </a:lnTo>
                  <a:lnTo>
                    <a:pt x="1496" y="1589"/>
                  </a:lnTo>
                  <a:lnTo>
                    <a:pt x="1577" y="1602"/>
                  </a:lnTo>
                  <a:lnTo>
                    <a:pt x="1664" y="1649"/>
                  </a:lnTo>
                  <a:lnTo>
                    <a:pt x="1729" y="1736"/>
                  </a:lnTo>
                  <a:lnTo>
                    <a:pt x="1752" y="1838"/>
                  </a:lnTo>
                  <a:lnTo>
                    <a:pt x="1738" y="1987"/>
                  </a:lnTo>
                  <a:lnTo>
                    <a:pt x="1715" y="2045"/>
                  </a:lnTo>
                  <a:lnTo>
                    <a:pt x="1679" y="2060"/>
                  </a:lnTo>
                  <a:lnTo>
                    <a:pt x="1314" y="2060"/>
                  </a:lnTo>
                  <a:lnTo>
                    <a:pt x="1081" y="2088"/>
                  </a:lnTo>
                  <a:lnTo>
                    <a:pt x="882" y="2156"/>
                  </a:lnTo>
                  <a:lnTo>
                    <a:pt x="701" y="2259"/>
                  </a:lnTo>
                  <a:lnTo>
                    <a:pt x="597" y="2296"/>
                  </a:lnTo>
                  <a:lnTo>
                    <a:pt x="518" y="2296"/>
                  </a:lnTo>
                  <a:lnTo>
                    <a:pt x="408" y="2252"/>
                  </a:lnTo>
                  <a:lnTo>
                    <a:pt x="321" y="2179"/>
                  </a:lnTo>
                  <a:lnTo>
                    <a:pt x="256" y="2104"/>
                  </a:lnTo>
                  <a:lnTo>
                    <a:pt x="233" y="2053"/>
                  </a:lnTo>
                  <a:lnTo>
                    <a:pt x="219" y="1980"/>
                  </a:lnTo>
                  <a:lnTo>
                    <a:pt x="226" y="1929"/>
                  </a:lnTo>
                  <a:lnTo>
                    <a:pt x="247" y="1854"/>
                  </a:lnTo>
                  <a:lnTo>
                    <a:pt x="402" y="1602"/>
                  </a:lnTo>
                  <a:lnTo>
                    <a:pt x="525" y="1391"/>
                  </a:lnTo>
                  <a:lnTo>
                    <a:pt x="635" y="1170"/>
                  </a:lnTo>
                  <a:lnTo>
                    <a:pt x="744" y="964"/>
                  </a:lnTo>
                  <a:lnTo>
                    <a:pt x="839" y="749"/>
                  </a:lnTo>
                  <a:lnTo>
                    <a:pt x="943" y="566"/>
                  </a:lnTo>
                  <a:lnTo>
                    <a:pt x="1028" y="426"/>
                  </a:lnTo>
                  <a:lnTo>
                    <a:pt x="1139" y="310"/>
                  </a:lnTo>
                  <a:lnTo>
                    <a:pt x="1241" y="206"/>
                  </a:lnTo>
                  <a:lnTo>
                    <a:pt x="1292" y="154"/>
                  </a:lnTo>
                  <a:lnTo>
                    <a:pt x="1300" y="89"/>
                  </a:lnTo>
                  <a:lnTo>
                    <a:pt x="1277" y="44"/>
                  </a:lnTo>
                  <a:lnTo>
                    <a:pt x="1241" y="7"/>
                  </a:lnTo>
                  <a:lnTo>
                    <a:pt x="1212" y="0"/>
                  </a:lnTo>
                  <a:lnTo>
                    <a:pt x="1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2643120" y="1644480"/>
            <a:ext cx="1749240" cy="1511640"/>
            <a:chOff x="2643120" y="1644480"/>
            <a:chExt cx="1749240" cy="1511640"/>
          </a:xfrm>
        </p:grpSpPr>
        <p:grpSp>
          <p:nvGrpSpPr>
            <p:cNvPr id="535" name=""/>
            <p:cNvGrpSpPr/>
            <p:nvPr/>
          </p:nvGrpSpPr>
          <p:grpSpPr>
            <a:xfrm>
              <a:off x="2960640" y="1741680"/>
              <a:ext cx="1431720" cy="1414440"/>
              <a:chOff x="2960640" y="1741680"/>
              <a:chExt cx="1431720" cy="1414440"/>
            </a:xfrm>
          </p:grpSpPr>
          <p:sp>
            <p:nvSpPr>
              <p:cNvPr id="536" name=""/>
              <p:cNvSpPr/>
              <p:nvPr/>
            </p:nvSpPr>
            <p:spPr>
              <a:xfrm>
                <a:off x="2960640" y="1741680"/>
                <a:ext cx="1428480" cy="1352520"/>
              </a:xfrm>
              <a:custGeom>
                <a:avLst/>
                <a:gdLst/>
                <a:ahLst/>
                <a:rect l="l" t="t" r="r" b="b"/>
                <a:pathLst>
                  <a:path w="1800" h="1704">
                    <a:moveTo>
                      <a:pt x="0" y="1161"/>
                    </a:moveTo>
                    <a:lnTo>
                      <a:pt x="353" y="867"/>
                    </a:lnTo>
                    <a:lnTo>
                      <a:pt x="488" y="709"/>
                    </a:lnTo>
                    <a:lnTo>
                      <a:pt x="810" y="433"/>
                    </a:lnTo>
                    <a:lnTo>
                      <a:pt x="1101" y="288"/>
                    </a:lnTo>
                    <a:lnTo>
                      <a:pt x="1521" y="70"/>
                    </a:lnTo>
                    <a:lnTo>
                      <a:pt x="1800" y="0"/>
                    </a:lnTo>
                    <a:lnTo>
                      <a:pt x="1772" y="94"/>
                    </a:lnTo>
                    <a:lnTo>
                      <a:pt x="1390" y="270"/>
                    </a:lnTo>
                    <a:lnTo>
                      <a:pt x="1260" y="401"/>
                    </a:lnTo>
                    <a:lnTo>
                      <a:pt x="1509" y="410"/>
                    </a:lnTo>
                    <a:lnTo>
                      <a:pt x="1439" y="512"/>
                    </a:lnTo>
                    <a:lnTo>
                      <a:pt x="1460" y="582"/>
                    </a:lnTo>
                    <a:lnTo>
                      <a:pt x="1439" y="652"/>
                    </a:lnTo>
                    <a:lnTo>
                      <a:pt x="1439" y="730"/>
                    </a:lnTo>
                    <a:lnTo>
                      <a:pt x="1380" y="830"/>
                    </a:lnTo>
                    <a:lnTo>
                      <a:pt x="1361" y="974"/>
                    </a:lnTo>
                    <a:lnTo>
                      <a:pt x="1270" y="1061"/>
                    </a:lnTo>
                    <a:lnTo>
                      <a:pt x="1125" y="1131"/>
                    </a:lnTo>
                    <a:lnTo>
                      <a:pt x="976" y="1118"/>
                    </a:lnTo>
                    <a:lnTo>
                      <a:pt x="637" y="1178"/>
                    </a:lnTo>
                    <a:lnTo>
                      <a:pt x="635" y="1180"/>
                    </a:lnTo>
                    <a:lnTo>
                      <a:pt x="631" y="1184"/>
                    </a:lnTo>
                    <a:lnTo>
                      <a:pt x="626" y="1187"/>
                    </a:lnTo>
                    <a:lnTo>
                      <a:pt x="623" y="1192"/>
                    </a:lnTo>
                    <a:lnTo>
                      <a:pt x="619" y="1196"/>
                    </a:lnTo>
                    <a:lnTo>
                      <a:pt x="614" y="1202"/>
                    </a:lnTo>
                    <a:lnTo>
                      <a:pt x="608" y="1207"/>
                    </a:lnTo>
                    <a:lnTo>
                      <a:pt x="601" y="1214"/>
                    </a:lnTo>
                    <a:lnTo>
                      <a:pt x="594" y="1220"/>
                    </a:lnTo>
                    <a:lnTo>
                      <a:pt x="588" y="1229"/>
                    </a:lnTo>
                    <a:lnTo>
                      <a:pt x="579" y="1236"/>
                    </a:lnTo>
                    <a:lnTo>
                      <a:pt x="571" y="1245"/>
                    </a:lnTo>
                    <a:lnTo>
                      <a:pt x="562" y="1254"/>
                    </a:lnTo>
                    <a:lnTo>
                      <a:pt x="555" y="1263"/>
                    </a:lnTo>
                    <a:lnTo>
                      <a:pt x="545" y="1273"/>
                    </a:lnTo>
                    <a:lnTo>
                      <a:pt x="534" y="1282"/>
                    </a:lnTo>
                    <a:lnTo>
                      <a:pt x="524" y="1293"/>
                    </a:lnTo>
                    <a:lnTo>
                      <a:pt x="515" y="1305"/>
                    </a:lnTo>
                    <a:lnTo>
                      <a:pt x="503" y="1315"/>
                    </a:lnTo>
                    <a:lnTo>
                      <a:pt x="493" y="1327"/>
                    </a:lnTo>
                    <a:lnTo>
                      <a:pt x="481" y="1339"/>
                    </a:lnTo>
                    <a:lnTo>
                      <a:pt x="469" y="1351"/>
                    </a:lnTo>
                    <a:lnTo>
                      <a:pt x="459" y="1361"/>
                    </a:lnTo>
                    <a:lnTo>
                      <a:pt x="447" y="1374"/>
                    </a:lnTo>
                    <a:lnTo>
                      <a:pt x="435" y="1386"/>
                    </a:lnTo>
                    <a:lnTo>
                      <a:pt x="423" y="1398"/>
                    </a:lnTo>
                    <a:lnTo>
                      <a:pt x="410" y="1411"/>
                    </a:lnTo>
                    <a:lnTo>
                      <a:pt x="398" y="1425"/>
                    </a:lnTo>
                    <a:lnTo>
                      <a:pt x="386" y="1437"/>
                    </a:lnTo>
                    <a:lnTo>
                      <a:pt x="374" y="1450"/>
                    </a:lnTo>
                    <a:lnTo>
                      <a:pt x="361" y="1462"/>
                    </a:lnTo>
                    <a:lnTo>
                      <a:pt x="349" y="1474"/>
                    </a:lnTo>
                    <a:lnTo>
                      <a:pt x="335" y="1486"/>
                    </a:lnTo>
                    <a:lnTo>
                      <a:pt x="323" y="1499"/>
                    </a:lnTo>
                    <a:lnTo>
                      <a:pt x="312" y="1511"/>
                    </a:lnTo>
                    <a:lnTo>
                      <a:pt x="300" y="1523"/>
                    </a:lnTo>
                    <a:lnTo>
                      <a:pt x="288" y="1535"/>
                    </a:lnTo>
                    <a:lnTo>
                      <a:pt x="277" y="1546"/>
                    </a:lnTo>
                    <a:lnTo>
                      <a:pt x="266" y="1558"/>
                    </a:lnTo>
                    <a:lnTo>
                      <a:pt x="254" y="1569"/>
                    </a:lnTo>
                    <a:lnTo>
                      <a:pt x="243" y="1581"/>
                    </a:lnTo>
                    <a:lnTo>
                      <a:pt x="233" y="1591"/>
                    </a:lnTo>
                    <a:lnTo>
                      <a:pt x="221" y="1601"/>
                    </a:lnTo>
                    <a:lnTo>
                      <a:pt x="212" y="1612"/>
                    </a:lnTo>
                    <a:lnTo>
                      <a:pt x="202" y="1621"/>
                    </a:lnTo>
                    <a:lnTo>
                      <a:pt x="193" y="1631"/>
                    </a:lnTo>
                    <a:lnTo>
                      <a:pt x="184" y="1640"/>
                    </a:lnTo>
                    <a:lnTo>
                      <a:pt x="175" y="1647"/>
                    </a:lnTo>
                    <a:lnTo>
                      <a:pt x="166" y="1655"/>
                    </a:lnTo>
                    <a:lnTo>
                      <a:pt x="159" y="1664"/>
                    </a:lnTo>
                    <a:lnTo>
                      <a:pt x="151" y="1670"/>
                    </a:lnTo>
                    <a:lnTo>
                      <a:pt x="144" y="1677"/>
                    </a:lnTo>
                    <a:lnTo>
                      <a:pt x="138" y="1681"/>
                    </a:lnTo>
                    <a:lnTo>
                      <a:pt x="134" y="1687"/>
                    </a:lnTo>
                    <a:lnTo>
                      <a:pt x="128" y="1692"/>
                    </a:lnTo>
                    <a:lnTo>
                      <a:pt x="123" y="1695"/>
                    </a:lnTo>
                    <a:lnTo>
                      <a:pt x="119" y="1698"/>
                    </a:lnTo>
                    <a:lnTo>
                      <a:pt x="117" y="1701"/>
                    </a:lnTo>
                    <a:lnTo>
                      <a:pt x="113" y="1704"/>
                    </a:lnTo>
                    <a:lnTo>
                      <a:pt x="111" y="1704"/>
                    </a:lnTo>
                    <a:lnTo>
                      <a:pt x="111" y="1701"/>
                    </a:lnTo>
                    <a:lnTo>
                      <a:pt x="111" y="1699"/>
                    </a:lnTo>
                    <a:lnTo>
                      <a:pt x="110" y="1696"/>
                    </a:lnTo>
                    <a:lnTo>
                      <a:pt x="110" y="1693"/>
                    </a:lnTo>
                    <a:lnTo>
                      <a:pt x="108" y="1689"/>
                    </a:lnTo>
                    <a:lnTo>
                      <a:pt x="107" y="1684"/>
                    </a:lnTo>
                    <a:lnTo>
                      <a:pt x="107" y="1678"/>
                    </a:lnTo>
                    <a:lnTo>
                      <a:pt x="105" y="1673"/>
                    </a:lnTo>
                    <a:lnTo>
                      <a:pt x="104" y="1667"/>
                    </a:lnTo>
                    <a:lnTo>
                      <a:pt x="102" y="1659"/>
                    </a:lnTo>
                    <a:lnTo>
                      <a:pt x="101" y="1652"/>
                    </a:lnTo>
                    <a:lnTo>
                      <a:pt x="99" y="1644"/>
                    </a:lnTo>
                    <a:lnTo>
                      <a:pt x="98" y="1635"/>
                    </a:lnTo>
                    <a:lnTo>
                      <a:pt x="96" y="1628"/>
                    </a:lnTo>
                    <a:lnTo>
                      <a:pt x="95" y="1618"/>
                    </a:lnTo>
                    <a:lnTo>
                      <a:pt x="93" y="1609"/>
                    </a:lnTo>
                    <a:lnTo>
                      <a:pt x="91" y="1598"/>
                    </a:lnTo>
                    <a:lnTo>
                      <a:pt x="89" y="1588"/>
                    </a:lnTo>
                    <a:lnTo>
                      <a:pt x="86" y="1578"/>
                    </a:lnTo>
                    <a:lnTo>
                      <a:pt x="85" y="1567"/>
                    </a:lnTo>
                    <a:lnTo>
                      <a:pt x="82" y="1555"/>
                    </a:lnTo>
                    <a:lnTo>
                      <a:pt x="79" y="1545"/>
                    </a:lnTo>
                    <a:lnTo>
                      <a:pt x="77" y="1533"/>
                    </a:lnTo>
                    <a:lnTo>
                      <a:pt x="74" y="1521"/>
                    </a:lnTo>
                    <a:lnTo>
                      <a:pt x="71" y="1509"/>
                    </a:lnTo>
                    <a:lnTo>
                      <a:pt x="70" y="1496"/>
                    </a:lnTo>
                    <a:lnTo>
                      <a:pt x="67" y="1484"/>
                    </a:lnTo>
                    <a:lnTo>
                      <a:pt x="65" y="1472"/>
                    </a:lnTo>
                    <a:lnTo>
                      <a:pt x="62" y="1460"/>
                    </a:lnTo>
                    <a:lnTo>
                      <a:pt x="59" y="1447"/>
                    </a:lnTo>
                    <a:lnTo>
                      <a:pt x="56" y="1435"/>
                    </a:lnTo>
                    <a:lnTo>
                      <a:pt x="55" y="1423"/>
                    </a:lnTo>
                    <a:lnTo>
                      <a:pt x="52" y="1410"/>
                    </a:lnTo>
                    <a:lnTo>
                      <a:pt x="49" y="1398"/>
                    </a:lnTo>
                    <a:lnTo>
                      <a:pt x="46" y="1386"/>
                    </a:lnTo>
                    <a:lnTo>
                      <a:pt x="45" y="1373"/>
                    </a:lnTo>
                    <a:lnTo>
                      <a:pt x="40" y="1361"/>
                    </a:lnTo>
                    <a:lnTo>
                      <a:pt x="39" y="1349"/>
                    </a:lnTo>
                    <a:lnTo>
                      <a:pt x="36" y="1337"/>
                    </a:lnTo>
                    <a:lnTo>
                      <a:pt x="34" y="1325"/>
                    </a:lnTo>
                    <a:lnTo>
                      <a:pt x="31" y="1313"/>
                    </a:lnTo>
                    <a:lnTo>
                      <a:pt x="30" y="1303"/>
                    </a:lnTo>
                    <a:lnTo>
                      <a:pt x="27" y="1291"/>
                    </a:lnTo>
                    <a:lnTo>
                      <a:pt x="25" y="1281"/>
                    </a:lnTo>
                    <a:lnTo>
                      <a:pt x="22" y="1270"/>
                    </a:lnTo>
                    <a:lnTo>
                      <a:pt x="21" y="1260"/>
                    </a:lnTo>
                    <a:lnTo>
                      <a:pt x="18" y="1251"/>
                    </a:lnTo>
                    <a:lnTo>
                      <a:pt x="16" y="1241"/>
                    </a:lnTo>
                    <a:lnTo>
                      <a:pt x="15" y="1232"/>
                    </a:lnTo>
                    <a:lnTo>
                      <a:pt x="12" y="1223"/>
                    </a:lnTo>
                    <a:lnTo>
                      <a:pt x="10" y="1214"/>
                    </a:lnTo>
                    <a:lnTo>
                      <a:pt x="9" y="1207"/>
                    </a:lnTo>
                    <a:lnTo>
                      <a:pt x="7" y="1199"/>
                    </a:lnTo>
                    <a:lnTo>
                      <a:pt x="6" y="1193"/>
                    </a:lnTo>
                    <a:lnTo>
                      <a:pt x="4" y="1187"/>
                    </a:lnTo>
                    <a:lnTo>
                      <a:pt x="3" y="1181"/>
                    </a:lnTo>
                    <a:lnTo>
                      <a:pt x="1" y="1177"/>
                    </a:lnTo>
                    <a:lnTo>
                      <a:pt x="1" y="1172"/>
                    </a:lnTo>
                    <a:lnTo>
                      <a:pt x="0" y="1168"/>
                    </a:lnTo>
                    <a:lnTo>
                      <a:pt x="0" y="1165"/>
                    </a:lnTo>
                    <a:lnTo>
                      <a:pt x="0" y="1161"/>
                    </a:lnTo>
                    <a:lnTo>
                      <a:pt x="0" y="1161"/>
                    </a:lnTo>
                    <a:lnTo>
                      <a:pt x="0" y="1161"/>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984400" y="1773360"/>
                <a:ext cx="1400040" cy="1380960"/>
              </a:xfrm>
              <a:custGeom>
                <a:avLst/>
                <a:gdLst/>
                <a:ahLst/>
                <a:rect l="l" t="t" r="r" b="b"/>
                <a:pathLst>
                  <a:path w="1764" h="1739">
                    <a:moveTo>
                      <a:pt x="0" y="1276"/>
                    </a:moveTo>
                    <a:lnTo>
                      <a:pt x="0" y="1275"/>
                    </a:lnTo>
                    <a:lnTo>
                      <a:pt x="1" y="1273"/>
                    </a:lnTo>
                    <a:lnTo>
                      <a:pt x="3" y="1270"/>
                    </a:lnTo>
                    <a:lnTo>
                      <a:pt x="7" y="1267"/>
                    </a:lnTo>
                    <a:lnTo>
                      <a:pt x="10" y="1262"/>
                    </a:lnTo>
                    <a:lnTo>
                      <a:pt x="16" y="1257"/>
                    </a:lnTo>
                    <a:lnTo>
                      <a:pt x="17" y="1253"/>
                    </a:lnTo>
                    <a:lnTo>
                      <a:pt x="20" y="1250"/>
                    </a:lnTo>
                    <a:lnTo>
                      <a:pt x="23" y="1245"/>
                    </a:lnTo>
                    <a:lnTo>
                      <a:pt x="28" y="1242"/>
                    </a:lnTo>
                    <a:lnTo>
                      <a:pt x="31" y="1238"/>
                    </a:lnTo>
                    <a:lnTo>
                      <a:pt x="34" y="1235"/>
                    </a:lnTo>
                    <a:lnTo>
                      <a:pt x="37" y="1230"/>
                    </a:lnTo>
                    <a:lnTo>
                      <a:pt x="41" y="1226"/>
                    </a:lnTo>
                    <a:lnTo>
                      <a:pt x="44" y="1220"/>
                    </a:lnTo>
                    <a:lnTo>
                      <a:pt x="49" y="1216"/>
                    </a:lnTo>
                    <a:lnTo>
                      <a:pt x="53" y="1211"/>
                    </a:lnTo>
                    <a:lnTo>
                      <a:pt x="58" y="1205"/>
                    </a:lnTo>
                    <a:lnTo>
                      <a:pt x="62" y="1201"/>
                    </a:lnTo>
                    <a:lnTo>
                      <a:pt x="66" y="1195"/>
                    </a:lnTo>
                    <a:lnTo>
                      <a:pt x="71" y="1189"/>
                    </a:lnTo>
                    <a:lnTo>
                      <a:pt x="77" y="1184"/>
                    </a:lnTo>
                    <a:lnTo>
                      <a:pt x="81" y="1178"/>
                    </a:lnTo>
                    <a:lnTo>
                      <a:pt x="86" y="1173"/>
                    </a:lnTo>
                    <a:lnTo>
                      <a:pt x="92" y="1167"/>
                    </a:lnTo>
                    <a:lnTo>
                      <a:pt x="96" y="1162"/>
                    </a:lnTo>
                    <a:lnTo>
                      <a:pt x="102" y="1155"/>
                    </a:lnTo>
                    <a:lnTo>
                      <a:pt x="107" y="1149"/>
                    </a:lnTo>
                    <a:lnTo>
                      <a:pt x="112" y="1143"/>
                    </a:lnTo>
                    <a:lnTo>
                      <a:pt x="118" y="1137"/>
                    </a:lnTo>
                    <a:lnTo>
                      <a:pt x="123" y="1129"/>
                    </a:lnTo>
                    <a:lnTo>
                      <a:pt x="129" y="1124"/>
                    </a:lnTo>
                    <a:lnTo>
                      <a:pt x="135" y="1118"/>
                    </a:lnTo>
                    <a:lnTo>
                      <a:pt x="141" y="1110"/>
                    </a:lnTo>
                    <a:lnTo>
                      <a:pt x="147" y="1104"/>
                    </a:lnTo>
                    <a:lnTo>
                      <a:pt x="153" y="1098"/>
                    </a:lnTo>
                    <a:lnTo>
                      <a:pt x="157" y="1091"/>
                    </a:lnTo>
                    <a:lnTo>
                      <a:pt x="163" y="1085"/>
                    </a:lnTo>
                    <a:lnTo>
                      <a:pt x="169" y="1078"/>
                    </a:lnTo>
                    <a:lnTo>
                      <a:pt x="175" y="1072"/>
                    </a:lnTo>
                    <a:lnTo>
                      <a:pt x="182" y="1064"/>
                    </a:lnTo>
                    <a:lnTo>
                      <a:pt x="188" y="1060"/>
                    </a:lnTo>
                    <a:lnTo>
                      <a:pt x="193" y="1052"/>
                    </a:lnTo>
                    <a:lnTo>
                      <a:pt x="200" y="1046"/>
                    </a:lnTo>
                    <a:lnTo>
                      <a:pt x="206" y="1039"/>
                    </a:lnTo>
                    <a:lnTo>
                      <a:pt x="212" y="1033"/>
                    </a:lnTo>
                    <a:lnTo>
                      <a:pt x="218" y="1027"/>
                    </a:lnTo>
                    <a:lnTo>
                      <a:pt x="224" y="1021"/>
                    </a:lnTo>
                    <a:lnTo>
                      <a:pt x="230" y="1015"/>
                    </a:lnTo>
                    <a:lnTo>
                      <a:pt x="236" y="1009"/>
                    </a:lnTo>
                    <a:lnTo>
                      <a:pt x="242" y="1003"/>
                    </a:lnTo>
                    <a:lnTo>
                      <a:pt x="247" y="997"/>
                    </a:lnTo>
                    <a:lnTo>
                      <a:pt x="252" y="991"/>
                    </a:lnTo>
                    <a:lnTo>
                      <a:pt x="259" y="986"/>
                    </a:lnTo>
                    <a:lnTo>
                      <a:pt x="264" y="981"/>
                    </a:lnTo>
                    <a:lnTo>
                      <a:pt x="271" y="975"/>
                    </a:lnTo>
                    <a:lnTo>
                      <a:pt x="276" y="971"/>
                    </a:lnTo>
                    <a:lnTo>
                      <a:pt x="282" y="966"/>
                    </a:lnTo>
                    <a:lnTo>
                      <a:pt x="288" y="960"/>
                    </a:lnTo>
                    <a:lnTo>
                      <a:pt x="293" y="956"/>
                    </a:lnTo>
                    <a:lnTo>
                      <a:pt x="298" y="950"/>
                    </a:lnTo>
                    <a:lnTo>
                      <a:pt x="304" y="945"/>
                    </a:lnTo>
                    <a:lnTo>
                      <a:pt x="308" y="941"/>
                    </a:lnTo>
                    <a:lnTo>
                      <a:pt x="313" y="937"/>
                    </a:lnTo>
                    <a:lnTo>
                      <a:pt x="319" y="934"/>
                    </a:lnTo>
                    <a:lnTo>
                      <a:pt x="323" y="929"/>
                    </a:lnTo>
                    <a:lnTo>
                      <a:pt x="328" y="925"/>
                    </a:lnTo>
                    <a:lnTo>
                      <a:pt x="334" y="920"/>
                    </a:lnTo>
                    <a:lnTo>
                      <a:pt x="338" y="917"/>
                    </a:lnTo>
                    <a:lnTo>
                      <a:pt x="342" y="914"/>
                    </a:lnTo>
                    <a:lnTo>
                      <a:pt x="347" y="910"/>
                    </a:lnTo>
                    <a:lnTo>
                      <a:pt x="353" y="907"/>
                    </a:lnTo>
                    <a:lnTo>
                      <a:pt x="357" y="902"/>
                    </a:lnTo>
                    <a:lnTo>
                      <a:pt x="362" y="901"/>
                    </a:lnTo>
                    <a:lnTo>
                      <a:pt x="365" y="897"/>
                    </a:lnTo>
                    <a:lnTo>
                      <a:pt x="369" y="894"/>
                    </a:lnTo>
                    <a:lnTo>
                      <a:pt x="374" y="891"/>
                    </a:lnTo>
                    <a:lnTo>
                      <a:pt x="378" y="889"/>
                    </a:lnTo>
                    <a:lnTo>
                      <a:pt x="383" y="886"/>
                    </a:lnTo>
                    <a:lnTo>
                      <a:pt x="387" y="883"/>
                    </a:lnTo>
                    <a:lnTo>
                      <a:pt x="390" y="880"/>
                    </a:lnTo>
                    <a:lnTo>
                      <a:pt x="394" y="879"/>
                    </a:lnTo>
                    <a:lnTo>
                      <a:pt x="397" y="877"/>
                    </a:lnTo>
                    <a:lnTo>
                      <a:pt x="402" y="874"/>
                    </a:lnTo>
                    <a:lnTo>
                      <a:pt x="405" y="873"/>
                    </a:lnTo>
                    <a:lnTo>
                      <a:pt x="409" y="870"/>
                    </a:lnTo>
                    <a:lnTo>
                      <a:pt x="412" y="868"/>
                    </a:lnTo>
                    <a:lnTo>
                      <a:pt x="415" y="867"/>
                    </a:lnTo>
                    <a:lnTo>
                      <a:pt x="418" y="865"/>
                    </a:lnTo>
                    <a:lnTo>
                      <a:pt x="423" y="864"/>
                    </a:lnTo>
                    <a:lnTo>
                      <a:pt x="429" y="859"/>
                    </a:lnTo>
                    <a:lnTo>
                      <a:pt x="433" y="858"/>
                    </a:lnTo>
                    <a:lnTo>
                      <a:pt x="439" y="855"/>
                    </a:lnTo>
                    <a:lnTo>
                      <a:pt x="443" y="853"/>
                    </a:lnTo>
                    <a:lnTo>
                      <a:pt x="448" y="851"/>
                    </a:lnTo>
                    <a:lnTo>
                      <a:pt x="454" y="849"/>
                    </a:lnTo>
                    <a:lnTo>
                      <a:pt x="457" y="848"/>
                    </a:lnTo>
                    <a:lnTo>
                      <a:pt x="461" y="846"/>
                    </a:lnTo>
                    <a:lnTo>
                      <a:pt x="466" y="845"/>
                    </a:lnTo>
                    <a:lnTo>
                      <a:pt x="472" y="843"/>
                    </a:lnTo>
                    <a:lnTo>
                      <a:pt x="473" y="843"/>
                    </a:lnTo>
                    <a:lnTo>
                      <a:pt x="474" y="843"/>
                    </a:lnTo>
                    <a:lnTo>
                      <a:pt x="474" y="842"/>
                    </a:lnTo>
                    <a:lnTo>
                      <a:pt x="476" y="839"/>
                    </a:lnTo>
                    <a:lnTo>
                      <a:pt x="476" y="836"/>
                    </a:lnTo>
                    <a:lnTo>
                      <a:pt x="476" y="833"/>
                    </a:lnTo>
                    <a:lnTo>
                      <a:pt x="477" y="830"/>
                    </a:lnTo>
                    <a:lnTo>
                      <a:pt x="479" y="827"/>
                    </a:lnTo>
                    <a:lnTo>
                      <a:pt x="479" y="822"/>
                    </a:lnTo>
                    <a:lnTo>
                      <a:pt x="480" y="818"/>
                    </a:lnTo>
                    <a:lnTo>
                      <a:pt x="482" y="813"/>
                    </a:lnTo>
                    <a:lnTo>
                      <a:pt x="485" y="809"/>
                    </a:lnTo>
                    <a:lnTo>
                      <a:pt x="486" y="803"/>
                    </a:lnTo>
                    <a:lnTo>
                      <a:pt x="488" y="797"/>
                    </a:lnTo>
                    <a:lnTo>
                      <a:pt x="491" y="791"/>
                    </a:lnTo>
                    <a:lnTo>
                      <a:pt x="494" y="785"/>
                    </a:lnTo>
                    <a:lnTo>
                      <a:pt x="495" y="782"/>
                    </a:lnTo>
                    <a:lnTo>
                      <a:pt x="495" y="778"/>
                    </a:lnTo>
                    <a:lnTo>
                      <a:pt x="497" y="775"/>
                    </a:lnTo>
                    <a:lnTo>
                      <a:pt x="500" y="772"/>
                    </a:lnTo>
                    <a:lnTo>
                      <a:pt x="500" y="767"/>
                    </a:lnTo>
                    <a:lnTo>
                      <a:pt x="503" y="764"/>
                    </a:lnTo>
                    <a:lnTo>
                      <a:pt x="504" y="760"/>
                    </a:lnTo>
                    <a:lnTo>
                      <a:pt x="506" y="757"/>
                    </a:lnTo>
                    <a:lnTo>
                      <a:pt x="507" y="753"/>
                    </a:lnTo>
                    <a:lnTo>
                      <a:pt x="510" y="750"/>
                    </a:lnTo>
                    <a:lnTo>
                      <a:pt x="512" y="745"/>
                    </a:lnTo>
                    <a:lnTo>
                      <a:pt x="513" y="742"/>
                    </a:lnTo>
                    <a:lnTo>
                      <a:pt x="515" y="738"/>
                    </a:lnTo>
                    <a:lnTo>
                      <a:pt x="518" y="733"/>
                    </a:lnTo>
                    <a:lnTo>
                      <a:pt x="520" y="730"/>
                    </a:lnTo>
                    <a:lnTo>
                      <a:pt x="523" y="726"/>
                    </a:lnTo>
                    <a:lnTo>
                      <a:pt x="525" y="721"/>
                    </a:lnTo>
                    <a:lnTo>
                      <a:pt x="528" y="718"/>
                    </a:lnTo>
                    <a:lnTo>
                      <a:pt x="529" y="714"/>
                    </a:lnTo>
                    <a:lnTo>
                      <a:pt x="534" y="710"/>
                    </a:lnTo>
                    <a:lnTo>
                      <a:pt x="535" y="705"/>
                    </a:lnTo>
                    <a:lnTo>
                      <a:pt x="538" y="702"/>
                    </a:lnTo>
                    <a:lnTo>
                      <a:pt x="541" y="698"/>
                    </a:lnTo>
                    <a:lnTo>
                      <a:pt x="544" y="693"/>
                    </a:lnTo>
                    <a:lnTo>
                      <a:pt x="547" y="689"/>
                    </a:lnTo>
                    <a:lnTo>
                      <a:pt x="550" y="684"/>
                    </a:lnTo>
                    <a:lnTo>
                      <a:pt x="553" y="680"/>
                    </a:lnTo>
                    <a:lnTo>
                      <a:pt x="558" y="677"/>
                    </a:lnTo>
                    <a:lnTo>
                      <a:pt x="561" y="672"/>
                    </a:lnTo>
                    <a:lnTo>
                      <a:pt x="565" y="668"/>
                    </a:lnTo>
                    <a:lnTo>
                      <a:pt x="568" y="664"/>
                    </a:lnTo>
                    <a:lnTo>
                      <a:pt x="572" y="659"/>
                    </a:lnTo>
                    <a:lnTo>
                      <a:pt x="575" y="655"/>
                    </a:lnTo>
                    <a:lnTo>
                      <a:pt x="578" y="650"/>
                    </a:lnTo>
                    <a:lnTo>
                      <a:pt x="583" y="646"/>
                    </a:lnTo>
                    <a:lnTo>
                      <a:pt x="587" y="641"/>
                    </a:lnTo>
                    <a:lnTo>
                      <a:pt x="590" y="637"/>
                    </a:lnTo>
                    <a:lnTo>
                      <a:pt x="595" y="632"/>
                    </a:lnTo>
                    <a:lnTo>
                      <a:pt x="599" y="628"/>
                    </a:lnTo>
                    <a:lnTo>
                      <a:pt x="605" y="623"/>
                    </a:lnTo>
                    <a:lnTo>
                      <a:pt x="608" y="619"/>
                    </a:lnTo>
                    <a:lnTo>
                      <a:pt x="614" y="615"/>
                    </a:lnTo>
                    <a:lnTo>
                      <a:pt x="618" y="610"/>
                    </a:lnTo>
                    <a:lnTo>
                      <a:pt x="623" y="606"/>
                    </a:lnTo>
                    <a:lnTo>
                      <a:pt x="627" y="600"/>
                    </a:lnTo>
                    <a:lnTo>
                      <a:pt x="633" y="595"/>
                    </a:lnTo>
                    <a:lnTo>
                      <a:pt x="638" y="591"/>
                    </a:lnTo>
                    <a:lnTo>
                      <a:pt x="644" y="586"/>
                    </a:lnTo>
                    <a:lnTo>
                      <a:pt x="650" y="582"/>
                    </a:lnTo>
                    <a:lnTo>
                      <a:pt x="654" y="576"/>
                    </a:lnTo>
                    <a:lnTo>
                      <a:pt x="660" y="572"/>
                    </a:lnTo>
                    <a:lnTo>
                      <a:pt x="666" y="567"/>
                    </a:lnTo>
                    <a:lnTo>
                      <a:pt x="672" y="563"/>
                    </a:lnTo>
                    <a:lnTo>
                      <a:pt x="676" y="558"/>
                    </a:lnTo>
                    <a:lnTo>
                      <a:pt x="682" y="552"/>
                    </a:lnTo>
                    <a:lnTo>
                      <a:pt x="688" y="549"/>
                    </a:lnTo>
                    <a:lnTo>
                      <a:pt x="694" y="543"/>
                    </a:lnTo>
                    <a:lnTo>
                      <a:pt x="699" y="539"/>
                    </a:lnTo>
                    <a:lnTo>
                      <a:pt x="704" y="534"/>
                    </a:lnTo>
                    <a:lnTo>
                      <a:pt x="710" y="530"/>
                    </a:lnTo>
                    <a:lnTo>
                      <a:pt x="716" y="526"/>
                    </a:lnTo>
                    <a:lnTo>
                      <a:pt x="722" y="521"/>
                    </a:lnTo>
                    <a:lnTo>
                      <a:pt x="728" y="515"/>
                    </a:lnTo>
                    <a:lnTo>
                      <a:pt x="736" y="511"/>
                    </a:lnTo>
                    <a:lnTo>
                      <a:pt x="740" y="506"/>
                    </a:lnTo>
                    <a:lnTo>
                      <a:pt x="746" y="502"/>
                    </a:lnTo>
                    <a:lnTo>
                      <a:pt x="752" y="497"/>
                    </a:lnTo>
                    <a:lnTo>
                      <a:pt x="758" y="493"/>
                    </a:lnTo>
                    <a:lnTo>
                      <a:pt x="764" y="488"/>
                    </a:lnTo>
                    <a:lnTo>
                      <a:pt x="770" y="484"/>
                    </a:lnTo>
                    <a:lnTo>
                      <a:pt x="776" y="478"/>
                    </a:lnTo>
                    <a:lnTo>
                      <a:pt x="783" y="475"/>
                    </a:lnTo>
                    <a:lnTo>
                      <a:pt x="788" y="469"/>
                    </a:lnTo>
                    <a:lnTo>
                      <a:pt x="795" y="466"/>
                    </a:lnTo>
                    <a:lnTo>
                      <a:pt x="799" y="462"/>
                    </a:lnTo>
                    <a:lnTo>
                      <a:pt x="805" y="457"/>
                    </a:lnTo>
                    <a:lnTo>
                      <a:pt x="811" y="453"/>
                    </a:lnTo>
                    <a:lnTo>
                      <a:pt x="817" y="448"/>
                    </a:lnTo>
                    <a:lnTo>
                      <a:pt x="825" y="444"/>
                    </a:lnTo>
                    <a:lnTo>
                      <a:pt x="831" y="441"/>
                    </a:lnTo>
                    <a:lnTo>
                      <a:pt x="835" y="437"/>
                    </a:lnTo>
                    <a:lnTo>
                      <a:pt x="841" y="432"/>
                    </a:lnTo>
                    <a:lnTo>
                      <a:pt x="847" y="428"/>
                    </a:lnTo>
                    <a:lnTo>
                      <a:pt x="853" y="425"/>
                    </a:lnTo>
                    <a:lnTo>
                      <a:pt x="857" y="420"/>
                    </a:lnTo>
                    <a:lnTo>
                      <a:pt x="863" y="417"/>
                    </a:lnTo>
                    <a:lnTo>
                      <a:pt x="869" y="413"/>
                    </a:lnTo>
                    <a:lnTo>
                      <a:pt x="875" y="410"/>
                    </a:lnTo>
                    <a:lnTo>
                      <a:pt x="881" y="405"/>
                    </a:lnTo>
                    <a:lnTo>
                      <a:pt x="886" y="402"/>
                    </a:lnTo>
                    <a:lnTo>
                      <a:pt x="891" y="398"/>
                    </a:lnTo>
                    <a:lnTo>
                      <a:pt x="896" y="395"/>
                    </a:lnTo>
                    <a:lnTo>
                      <a:pt x="902" y="391"/>
                    </a:lnTo>
                    <a:lnTo>
                      <a:pt x="906" y="388"/>
                    </a:lnTo>
                    <a:lnTo>
                      <a:pt x="911" y="385"/>
                    </a:lnTo>
                    <a:lnTo>
                      <a:pt x="917" y="383"/>
                    </a:lnTo>
                    <a:lnTo>
                      <a:pt x="921" y="379"/>
                    </a:lnTo>
                    <a:lnTo>
                      <a:pt x="926" y="376"/>
                    </a:lnTo>
                    <a:lnTo>
                      <a:pt x="930" y="373"/>
                    </a:lnTo>
                    <a:lnTo>
                      <a:pt x="936" y="368"/>
                    </a:lnTo>
                    <a:lnTo>
                      <a:pt x="940" y="365"/>
                    </a:lnTo>
                    <a:lnTo>
                      <a:pt x="943" y="364"/>
                    </a:lnTo>
                    <a:lnTo>
                      <a:pt x="948" y="361"/>
                    </a:lnTo>
                    <a:lnTo>
                      <a:pt x="954" y="358"/>
                    </a:lnTo>
                    <a:lnTo>
                      <a:pt x="957" y="355"/>
                    </a:lnTo>
                    <a:lnTo>
                      <a:pt x="961" y="352"/>
                    </a:lnTo>
                    <a:lnTo>
                      <a:pt x="966" y="349"/>
                    </a:lnTo>
                    <a:lnTo>
                      <a:pt x="970" y="346"/>
                    </a:lnTo>
                    <a:lnTo>
                      <a:pt x="973" y="345"/>
                    </a:lnTo>
                    <a:lnTo>
                      <a:pt x="978" y="342"/>
                    </a:lnTo>
                    <a:lnTo>
                      <a:pt x="982" y="339"/>
                    </a:lnTo>
                    <a:lnTo>
                      <a:pt x="986" y="337"/>
                    </a:lnTo>
                    <a:lnTo>
                      <a:pt x="991" y="334"/>
                    </a:lnTo>
                    <a:lnTo>
                      <a:pt x="994" y="331"/>
                    </a:lnTo>
                    <a:lnTo>
                      <a:pt x="998" y="330"/>
                    </a:lnTo>
                    <a:lnTo>
                      <a:pt x="1003" y="327"/>
                    </a:lnTo>
                    <a:lnTo>
                      <a:pt x="1006" y="325"/>
                    </a:lnTo>
                    <a:lnTo>
                      <a:pt x="1010" y="322"/>
                    </a:lnTo>
                    <a:lnTo>
                      <a:pt x="1015" y="321"/>
                    </a:lnTo>
                    <a:lnTo>
                      <a:pt x="1019" y="319"/>
                    </a:lnTo>
                    <a:lnTo>
                      <a:pt x="1022" y="316"/>
                    </a:lnTo>
                    <a:lnTo>
                      <a:pt x="1026" y="313"/>
                    </a:lnTo>
                    <a:lnTo>
                      <a:pt x="1029" y="312"/>
                    </a:lnTo>
                    <a:lnTo>
                      <a:pt x="1034" y="309"/>
                    </a:lnTo>
                    <a:lnTo>
                      <a:pt x="1038" y="307"/>
                    </a:lnTo>
                    <a:lnTo>
                      <a:pt x="1043" y="304"/>
                    </a:lnTo>
                    <a:lnTo>
                      <a:pt x="1047" y="303"/>
                    </a:lnTo>
                    <a:lnTo>
                      <a:pt x="1052" y="301"/>
                    </a:lnTo>
                    <a:lnTo>
                      <a:pt x="1055" y="299"/>
                    </a:lnTo>
                    <a:lnTo>
                      <a:pt x="1059" y="297"/>
                    </a:lnTo>
                    <a:lnTo>
                      <a:pt x="1064" y="294"/>
                    </a:lnTo>
                    <a:lnTo>
                      <a:pt x="1067" y="293"/>
                    </a:lnTo>
                    <a:lnTo>
                      <a:pt x="1071" y="290"/>
                    </a:lnTo>
                    <a:lnTo>
                      <a:pt x="1075" y="288"/>
                    </a:lnTo>
                    <a:lnTo>
                      <a:pt x="1080" y="285"/>
                    </a:lnTo>
                    <a:lnTo>
                      <a:pt x="1086" y="284"/>
                    </a:lnTo>
                    <a:lnTo>
                      <a:pt x="1090" y="281"/>
                    </a:lnTo>
                    <a:lnTo>
                      <a:pt x="1095" y="278"/>
                    </a:lnTo>
                    <a:lnTo>
                      <a:pt x="1099" y="276"/>
                    </a:lnTo>
                    <a:lnTo>
                      <a:pt x="1104" y="275"/>
                    </a:lnTo>
                    <a:lnTo>
                      <a:pt x="1108" y="272"/>
                    </a:lnTo>
                    <a:lnTo>
                      <a:pt x="1114" y="269"/>
                    </a:lnTo>
                    <a:lnTo>
                      <a:pt x="1120" y="266"/>
                    </a:lnTo>
                    <a:lnTo>
                      <a:pt x="1124" y="264"/>
                    </a:lnTo>
                    <a:lnTo>
                      <a:pt x="1130" y="261"/>
                    </a:lnTo>
                    <a:lnTo>
                      <a:pt x="1135" y="258"/>
                    </a:lnTo>
                    <a:lnTo>
                      <a:pt x="1141" y="255"/>
                    </a:lnTo>
                    <a:lnTo>
                      <a:pt x="1147" y="254"/>
                    </a:lnTo>
                    <a:lnTo>
                      <a:pt x="1153" y="251"/>
                    </a:lnTo>
                    <a:lnTo>
                      <a:pt x="1157" y="248"/>
                    </a:lnTo>
                    <a:lnTo>
                      <a:pt x="1164" y="245"/>
                    </a:lnTo>
                    <a:lnTo>
                      <a:pt x="1170" y="242"/>
                    </a:lnTo>
                    <a:lnTo>
                      <a:pt x="1176" y="239"/>
                    </a:lnTo>
                    <a:lnTo>
                      <a:pt x="1184" y="236"/>
                    </a:lnTo>
                    <a:lnTo>
                      <a:pt x="1190" y="233"/>
                    </a:lnTo>
                    <a:lnTo>
                      <a:pt x="1197" y="230"/>
                    </a:lnTo>
                    <a:lnTo>
                      <a:pt x="1205" y="226"/>
                    </a:lnTo>
                    <a:lnTo>
                      <a:pt x="1210" y="223"/>
                    </a:lnTo>
                    <a:lnTo>
                      <a:pt x="1218" y="220"/>
                    </a:lnTo>
                    <a:lnTo>
                      <a:pt x="1227" y="217"/>
                    </a:lnTo>
                    <a:lnTo>
                      <a:pt x="1234" y="212"/>
                    </a:lnTo>
                    <a:lnTo>
                      <a:pt x="1242" y="209"/>
                    </a:lnTo>
                    <a:lnTo>
                      <a:pt x="1249" y="205"/>
                    </a:lnTo>
                    <a:lnTo>
                      <a:pt x="1258" y="202"/>
                    </a:lnTo>
                    <a:lnTo>
                      <a:pt x="1265" y="198"/>
                    </a:lnTo>
                    <a:lnTo>
                      <a:pt x="1273" y="193"/>
                    </a:lnTo>
                    <a:lnTo>
                      <a:pt x="1282" y="189"/>
                    </a:lnTo>
                    <a:lnTo>
                      <a:pt x="1292" y="186"/>
                    </a:lnTo>
                    <a:lnTo>
                      <a:pt x="1300" y="181"/>
                    </a:lnTo>
                    <a:lnTo>
                      <a:pt x="1308" y="177"/>
                    </a:lnTo>
                    <a:lnTo>
                      <a:pt x="1317" y="172"/>
                    </a:lnTo>
                    <a:lnTo>
                      <a:pt x="1326" y="168"/>
                    </a:lnTo>
                    <a:lnTo>
                      <a:pt x="1335" y="163"/>
                    </a:lnTo>
                    <a:lnTo>
                      <a:pt x="1344" y="159"/>
                    </a:lnTo>
                    <a:lnTo>
                      <a:pt x="1354" y="155"/>
                    </a:lnTo>
                    <a:lnTo>
                      <a:pt x="1363" y="152"/>
                    </a:lnTo>
                    <a:lnTo>
                      <a:pt x="1374" y="146"/>
                    </a:lnTo>
                    <a:lnTo>
                      <a:pt x="1383" y="143"/>
                    </a:lnTo>
                    <a:lnTo>
                      <a:pt x="1391" y="137"/>
                    </a:lnTo>
                    <a:lnTo>
                      <a:pt x="1400" y="134"/>
                    </a:lnTo>
                    <a:lnTo>
                      <a:pt x="1411" y="128"/>
                    </a:lnTo>
                    <a:lnTo>
                      <a:pt x="1420" y="123"/>
                    </a:lnTo>
                    <a:lnTo>
                      <a:pt x="1430" y="119"/>
                    </a:lnTo>
                    <a:lnTo>
                      <a:pt x="1439" y="116"/>
                    </a:lnTo>
                    <a:lnTo>
                      <a:pt x="1449" y="110"/>
                    </a:lnTo>
                    <a:lnTo>
                      <a:pt x="1458" y="107"/>
                    </a:lnTo>
                    <a:lnTo>
                      <a:pt x="1467" y="101"/>
                    </a:lnTo>
                    <a:lnTo>
                      <a:pt x="1478" y="98"/>
                    </a:lnTo>
                    <a:lnTo>
                      <a:pt x="1486" y="94"/>
                    </a:lnTo>
                    <a:lnTo>
                      <a:pt x="1497" y="89"/>
                    </a:lnTo>
                    <a:lnTo>
                      <a:pt x="1506" y="86"/>
                    </a:lnTo>
                    <a:lnTo>
                      <a:pt x="1516" y="82"/>
                    </a:lnTo>
                    <a:lnTo>
                      <a:pt x="1524" y="77"/>
                    </a:lnTo>
                    <a:lnTo>
                      <a:pt x="1534" y="73"/>
                    </a:lnTo>
                    <a:lnTo>
                      <a:pt x="1541" y="69"/>
                    </a:lnTo>
                    <a:lnTo>
                      <a:pt x="1552" y="66"/>
                    </a:lnTo>
                    <a:lnTo>
                      <a:pt x="1561" y="61"/>
                    </a:lnTo>
                    <a:lnTo>
                      <a:pt x="1568" y="58"/>
                    </a:lnTo>
                    <a:lnTo>
                      <a:pt x="1577" y="54"/>
                    </a:lnTo>
                    <a:lnTo>
                      <a:pt x="1586" y="51"/>
                    </a:lnTo>
                    <a:lnTo>
                      <a:pt x="1593" y="46"/>
                    </a:lnTo>
                    <a:lnTo>
                      <a:pt x="1602" y="43"/>
                    </a:lnTo>
                    <a:lnTo>
                      <a:pt x="1610" y="40"/>
                    </a:lnTo>
                    <a:lnTo>
                      <a:pt x="1619" y="37"/>
                    </a:lnTo>
                    <a:lnTo>
                      <a:pt x="1626" y="33"/>
                    </a:lnTo>
                    <a:lnTo>
                      <a:pt x="1635" y="30"/>
                    </a:lnTo>
                    <a:lnTo>
                      <a:pt x="1642" y="27"/>
                    </a:lnTo>
                    <a:lnTo>
                      <a:pt x="1650" y="25"/>
                    </a:lnTo>
                    <a:lnTo>
                      <a:pt x="1657" y="23"/>
                    </a:lnTo>
                    <a:lnTo>
                      <a:pt x="1663" y="20"/>
                    </a:lnTo>
                    <a:lnTo>
                      <a:pt x="1670" y="18"/>
                    </a:lnTo>
                    <a:lnTo>
                      <a:pt x="1676" y="15"/>
                    </a:lnTo>
                    <a:lnTo>
                      <a:pt x="1684" y="14"/>
                    </a:lnTo>
                    <a:lnTo>
                      <a:pt x="1690" y="11"/>
                    </a:lnTo>
                    <a:lnTo>
                      <a:pt x="1696" y="9"/>
                    </a:lnTo>
                    <a:lnTo>
                      <a:pt x="1702" y="8"/>
                    </a:lnTo>
                    <a:lnTo>
                      <a:pt x="1706" y="6"/>
                    </a:lnTo>
                    <a:lnTo>
                      <a:pt x="1712" y="5"/>
                    </a:lnTo>
                    <a:lnTo>
                      <a:pt x="1718" y="3"/>
                    </a:lnTo>
                    <a:lnTo>
                      <a:pt x="1722" y="3"/>
                    </a:lnTo>
                    <a:lnTo>
                      <a:pt x="1727" y="2"/>
                    </a:lnTo>
                    <a:lnTo>
                      <a:pt x="1731" y="0"/>
                    </a:lnTo>
                    <a:lnTo>
                      <a:pt x="1736" y="0"/>
                    </a:lnTo>
                    <a:lnTo>
                      <a:pt x="1740" y="0"/>
                    </a:lnTo>
                    <a:lnTo>
                      <a:pt x="1745" y="0"/>
                    </a:lnTo>
                    <a:lnTo>
                      <a:pt x="1751" y="0"/>
                    </a:lnTo>
                    <a:lnTo>
                      <a:pt x="1755" y="2"/>
                    </a:lnTo>
                    <a:lnTo>
                      <a:pt x="1759" y="3"/>
                    </a:lnTo>
                    <a:lnTo>
                      <a:pt x="1761" y="6"/>
                    </a:lnTo>
                    <a:lnTo>
                      <a:pt x="1762" y="9"/>
                    </a:lnTo>
                    <a:lnTo>
                      <a:pt x="1764" y="12"/>
                    </a:lnTo>
                    <a:lnTo>
                      <a:pt x="1764" y="17"/>
                    </a:lnTo>
                    <a:lnTo>
                      <a:pt x="1762" y="20"/>
                    </a:lnTo>
                    <a:lnTo>
                      <a:pt x="1762" y="24"/>
                    </a:lnTo>
                    <a:lnTo>
                      <a:pt x="1759" y="28"/>
                    </a:lnTo>
                    <a:lnTo>
                      <a:pt x="1758" y="34"/>
                    </a:lnTo>
                    <a:lnTo>
                      <a:pt x="1755" y="39"/>
                    </a:lnTo>
                    <a:lnTo>
                      <a:pt x="1751" y="45"/>
                    </a:lnTo>
                    <a:lnTo>
                      <a:pt x="1748" y="51"/>
                    </a:lnTo>
                    <a:lnTo>
                      <a:pt x="1745" y="57"/>
                    </a:lnTo>
                    <a:lnTo>
                      <a:pt x="1740" y="61"/>
                    </a:lnTo>
                    <a:lnTo>
                      <a:pt x="1736" y="67"/>
                    </a:lnTo>
                    <a:lnTo>
                      <a:pt x="1731" y="71"/>
                    </a:lnTo>
                    <a:lnTo>
                      <a:pt x="1727" y="77"/>
                    </a:lnTo>
                    <a:lnTo>
                      <a:pt x="1721" y="82"/>
                    </a:lnTo>
                    <a:lnTo>
                      <a:pt x="1718" y="88"/>
                    </a:lnTo>
                    <a:lnTo>
                      <a:pt x="1713" y="92"/>
                    </a:lnTo>
                    <a:lnTo>
                      <a:pt x="1709" y="97"/>
                    </a:lnTo>
                    <a:lnTo>
                      <a:pt x="1706" y="101"/>
                    </a:lnTo>
                    <a:lnTo>
                      <a:pt x="1702" y="104"/>
                    </a:lnTo>
                    <a:lnTo>
                      <a:pt x="1699" y="107"/>
                    </a:lnTo>
                    <a:lnTo>
                      <a:pt x="1697" y="110"/>
                    </a:lnTo>
                    <a:lnTo>
                      <a:pt x="1693" y="115"/>
                    </a:lnTo>
                    <a:lnTo>
                      <a:pt x="1691" y="116"/>
                    </a:lnTo>
                    <a:lnTo>
                      <a:pt x="1430" y="214"/>
                    </a:lnTo>
                    <a:lnTo>
                      <a:pt x="1213" y="385"/>
                    </a:lnTo>
                    <a:lnTo>
                      <a:pt x="958" y="423"/>
                    </a:lnTo>
                    <a:lnTo>
                      <a:pt x="728" y="583"/>
                    </a:lnTo>
                    <a:lnTo>
                      <a:pt x="731" y="582"/>
                    </a:lnTo>
                    <a:lnTo>
                      <a:pt x="734" y="580"/>
                    </a:lnTo>
                    <a:lnTo>
                      <a:pt x="739" y="579"/>
                    </a:lnTo>
                    <a:lnTo>
                      <a:pt x="743" y="577"/>
                    </a:lnTo>
                    <a:lnTo>
                      <a:pt x="749" y="576"/>
                    </a:lnTo>
                    <a:lnTo>
                      <a:pt x="753" y="575"/>
                    </a:lnTo>
                    <a:lnTo>
                      <a:pt x="759" y="572"/>
                    </a:lnTo>
                    <a:lnTo>
                      <a:pt x="762" y="572"/>
                    </a:lnTo>
                    <a:lnTo>
                      <a:pt x="765" y="570"/>
                    </a:lnTo>
                    <a:lnTo>
                      <a:pt x="770" y="569"/>
                    </a:lnTo>
                    <a:lnTo>
                      <a:pt x="773" y="569"/>
                    </a:lnTo>
                    <a:lnTo>
                      <a:pt x="776" y="567"/>
                    </a:lnTo>
                    <a:lnTo>
                      <a:pt x="780" y="566"/>
                    </a:lnTo>
                    <a:lnTo>
                      <a:pt x="783" y="564"/>
                    </a:lnTo>
                    <a:lnTo>
                      <a:pt x="788" y="564"/>
                    </a:lnTo>
                    <a:lnTo>
                      <a:pt x="791" y="561"/>
                    </a:lnTo>
                    <a:lnTo>
                      <a:pt x="795" y="561"/>
                    </a:lnTo>
                    <a:lnTo>
                      <a:pt x="799" y="560"/>
                    </a:lnTo>
                    <a:lnTo>
                      <a:pt x="804" y="558"/>
                    </a:lnTo>
                    <a:lnTo>
                      <a:pt x="808" y="557"/>
                    </a:lnTo>
                    <a:lnTo>
                      <a:pt x="811" y="555"/>
                    </a:lnTo>
                    <a:lnTo>
                      <a:pt x="816" y="554"/>
                    </a:lnTo>
                    <a:lnTo>
                      <a:pt x="820" y="552"/>
                    </a:lnTo>
                    <a:lnTo>
                      <a:pt x="825" y="551"/>
                    </a:lnTo>
                    <a:lnTo>
                      <a:pt x="829" y="549"/>
                    </a:lnTo>
                    <a:lnTo>
                      <a:pt x="834" y="548"/>
                    </a:lnTo>
                    <a:lnTo>
                      <a:pt x="838" y="546"/>
                    </a:lnTo>
                    <a:lnTo>
                      <a:pt x="842" y="545"/>
                    </a:lnTo>
                    <a:lnTo>
                      <a:pt x="847" y="543"/>
                    </a:lnTo>
                    <a:lnTo>
                      <a:pt x="851" y="542"/>
                    </a:lnTo>
                    <a:lnTo>
                      <a:pt x="856" y="540"/>
                    </a:lnTo>
                    <a:lnTo>
                      <a:pt x="860" y="539"/>
                    </a:lnTo>
                    <a:lnTo>
                      <a:pt x="865" y="537"/>
                    </a:lnTo>
                    <a:lnTo>
                      <a:pt x="869" y="536"/>
                    </a:lnTo>
                    <a:lnTo>
                      <a:pt x="874" y="534"/>
                    </a:lnTo>
                    <a:lnTo>
                      <a:pt x="878" y="533"/>
                    </a:lnTo>
                    <a:lnTo>
                      <a:pt x="883" y="531"/>
                    </a:lnTo>
                    <a:lnTo>
                      <a:pt x="887" y="530"/>
                    </a:lnTo>
                    <a:lnTo>
                      <a:pt x="891" y="529"/>
                    </a:lnTo>
                    <a:lnTo>
                      <a:pt x="896" y="526"/>
                    </a:lnTo>
                    <a:lnTo>
                      <a:pt x="900" y="526"/>
                    </a:lnTo>
                    <a:lnTo>
                      <a:pt x="903" y="524"/>
                    </a:lnTo>
                    <a:lnTo>
                      <a:pt x="909" y="523"/>
                    </a:lnTo>
                    <a:lnTo>
                      <a:pt x="912" y="521"/>
                    </a:lnTo>
                    <a:lnTo>
                      <a:pt x="917" y="518"/>
                    </a:lnTo>
                    <a:lnTo>
                      <a:pt x="921" y="518"/>
                    </a:lnTo>
                    <a:lnTo>
                      <a:pt x="926" y="517"/>
                    </a:lnTo>
                    <a:lnTo>
                      <a:pt x="929" y="515"/>
                    </a:lnTo>
                    <a:lnTo>
                      <a:pt x="933" y="514"/>
                    </a:lnTo>
                    <a:lnTo>
                      <a:pt x="936" y="512"/>
                    </a:lnTo>
                    <a:lnTo>
                      <a:pt x="940" y="511"/>
                    </a:lnTo>
                    <a:lnTo>
                      <a:pt x="946" y="508"/>
                    </a:lnTo>
                    <a:lnTo>
                      <a:pt x="954" y="505"/>
                    </a:lnTo>
                    <a:lnTo>
                      <a:pt x="958" y="502"/>
                    </a:lnTo>
                    <a:lnTo>
                      <a:pt x="966" y="499"/>
                    </a:lnTo>
                    <a:lnTo>
                      <a:pt x="970" y="496"/>
                    </a:lnTo>
                    <a:lnTo>
                      <a:pt x="976" y="494"/>
                    </a:lnTo>
                    <a:lnTo>
                      <a:pt x="980" y="491"/>
                    </a:lnTo>
                    <a:lnTo>
                      <a:pt x="986" y="488"/>
                    </a:lnTo>
                    <a:lnTo>
                      <a:pt x="991" y="487"/>
                    </a:lnTo>
                    <a:lnTo>
                      <a:pt x="995" y="484"/>
                    </a:lnTo>
                    <a:lnTo>
                      <a:pt x="1000" y="481"/>
                    </a:lnTo>
                    <a:lnTo>
                      <a:pt x="1004" y="480"/>
                    </a:lnTo>
                    <a:lnTo>
                      <a:pt x="1007" y="477"/>
                    </a:lnTo>
                    <a:lnTo>
                      <a:pt x="1012" y="475"/>
                    </a:lnTo>
                    <a:lnTo>
                      <a:pt x="1016" y="474"/>
                    </a:lnTo>
                    <a:lnTo>
                      <a:pt x="1021" y="472"/>
                    </a:lnTo>
                    <a:lnTo>
                      <a:pt x="1024" y="469"/>
                    </a:lnTo>
                    <a:lnTo>
                      <a:pt x="1026" y="468"/>
                    </a:lnTo>
                    <a:lnTo>
                      <a:pt x="1031" y="466"/>
                    </a:lnTo>
                    <a:lnTo>
                      <a:pt x="1034" y="463"/>
                    </a:lnTo>
                    <a:lnTo>
                      <a:pt x="1038" y="462"/>
                    </a:lnTo>
                    <a:lnTo>
                      <a:pt x="1041" y="460"/>
                    </a:lnTo>
                    <a:lnTo>
                      <a:pt x="1046" y="459"/>
                    </a:lnTo>
                    <a:lnTo>
                      <a:pt x="1050" y="459"/>
                    </a:lnTo>
                    <a:lnTo>
                      <a:pt x="1055" y="456"/>
                    </a:lnTo>
                    <a:lnTo>
                      <a:pt x="1058" y="454"/>
                    </a:lnTo>
                    <a:lnTo>
                      <a:pt x="1062" y="453"/>
                    </a:lnTo>
                    <a:lnTo>
                      <a:pt x="1068" y="451"/>
                    </a:lnTo>
                    <a:lnTo>
                      <a:pt x="1072" y="451"/>
                    </a:lnTo>
                    <a:lnTo>
                      <a:pt x="1077" y="450"/>
                    </a:lnTo>
                    <a:lnTo>
                      <a:pt x="1083" y="448"/>
                    </a:lnTo>
                    <a:lnTo>
                      <a:pt x="1089" y="448"/>
                    </a:lnTo>
                    <a:lnTo>
                      <a:pt x="1095" y="447"/>
                    </a:lnTo>
                    <a:lnTo>
                      <a:pt x="1101" y="447"/>
                    </a:lnTo>
                    <a:lnTo>
                      <a:pt x="1107" y="445"/>
                    </a:lnTo>
                    <a:lnTo>
                      <a:pt x="1113" y="444"/>
                    </a:lnTo>
                    <a:lnTo>
                      <a:pt x="1120" y="444"/>
                    </a:lnTo>
                    <a:lnTo>
                      <a:pt x="1126" y="444"/>
                    </a:lnTo>
                    <a:lnTo>
                      <a:pt x="1129" y="442"/>
                    </a:lnTo>
                    <a:lnTo>
                      <a:pt x="1133" y="442"/>
                    </a:lnTo>
                    <a:lnTo>
                      <a:pt x="1136" y="442"/>
                    </a:lnTo>
                    <a:lnTo>
                      <a:pt x="1141" y="442"/>
                    </a:lnTo>
                    <a:lnTo>
                      <a:pt x="1144" y="442"/>
                    </a:lnTo>
                    <a:lnTo>
                      <a:pt x="1147" y="442"/>
                    </a:lnTo>
                    <a:lnTo>
                      <a:pt x="1150" y="441"/>
                    </a:lnTo>
                    <a:lnTo>
                      <a:pt x="1154" y="441"/>
                    </a:lnTo>
                    <a:lnTo>
                      <a:pt x="1157" y="441"/>
                    </a:lnTo>
                    <a:lnTo>
                      <a:pt x="1162" y="441"/>
                    </a:lnTo>
                    <a:lnTo>
                      <a:pt x="1164" y="441"/>
                    </a:lnTo>
                    <a:lnTo>
                      <a:pt x="1167" y="441"/>
                    </a:lnTo>
                    <a:lnTo>
                      <a:pt x="1170" y="439"/>
                    </a:lnTo>
                    <a:lnTo>
                      <a:pt x="1175" y="439"/>
                    </a:lnTo>
                    <a:lnTo>
                      <a:pt x="1178" y="439"/>
                    </a:lnTo>
                    <a:lnTo>
                      <a:pt x="1181" y="439"/>
                    </a:lnTo>
                    <a:lnTo>
                      <a:pt x="1184" y="439"/>
                    </a:lnTo>
                    <a:lnTo>
                      <a:pt x="1188" y="439"/>
                    </a:lnTo>
                    <a:lnTo>
                      <a:pt x="1191" y="439"/>
                    </a:lnTo>
                    <a:lnTo>
                      <a:pt x="1194" y="439"/>
                    </a:lnTo>
                    <a:lnTo>
                      <a:pt x="1202" y="439"/>
                    </a:lnTo>
                    <a:lnTo>
                      <a:pt x="1208" y="439"/>
                    </a:lnTo>
                    <a:lnTo>
                      <a:pt x="1213" y="439"/>
                    </a:lnTo>
                    <a:lnTo>
                      <a:pt x="1218" y="439"/>
                    </a:lnTo>
                    <a:lnTo>
                      <a:pt x="1224" y="439"/>
                    </a:lnTo>
                    <a:lnTo>
                      <a:pt x="1228" y="439"/>
                    </a:lnTo>
                    <a:lnTo>
                      <a:pt x="1233" y="439"/>
                    </a:lnTo>
                    <a:lnTo>
                      <a:pt x="1239" y="439"/>
                    </a:lnTo>
                    <a:lnTo>
                      <a:pt x="1242" y="439"/>
                    </a:lnTo>
                    <a:lnTo>
                      <a:pt x="1246" y="439"/>
                    </a:lnTo>
                    <a:lnTo>
                      <a:pt x="1248" y="439"/>
                    </a:lnTo>
                    <a:lnTo>
                      <a:pt x="1251" y="439"/>
                    </a:lnTo>
                    <a:lnTo>
                      <a:pt x="1255" y="439"/>
                    </a:lnTo>
                    <a:lnTo>
                      <a:pt x="1256" y="439"/>
                    </a:lnTo>
                    <a:lnTo>
                      <a:pt x="1254" y="441"/>
                    </a:lnTo>
                    <a:lnTo>
                      <a:pt x="1251" y="444"/>
                    </a:lnTo>
                    <a:lnTo>
                      <a:pt x="1245" y="450"/>
                    </a:lnTo>
                    <a:lnTo>
                      <a:pt x="1240" y="456"/>
                    </a:lnTo>
                    <a:lnTo>
                      <a:pt x="1236" y="462"/>
                    </a:lnTo>
                    <a:lnTo>
                      <a:pt x="1236" y="466"/>
                    </a:lnTo>
                    <a:lnTo>
                      <a:pt x="1237" y="469"/>
                    </a:lnTo>
                    <a:lnTo>
                      <a:pt x="1240" y="471"/>
                    </a:lnTo>
                    <a:lnTo>
                      <a:pt x="1242" y="471"/>
                    </a:lnTo>
                    <a:lnTo>
                      <a:pt x="1245" y="472"/>
                    </a:lnTo>
                    <a:lnTo>
                      <a:pt x="1248" y="472"/>
                    </a:lnTo>
                    <a:lnTo>
                      <a:pt x="1251" y="472"/>
                    </a:lnTo>
                    <a:lnTo>
                      <a:pt x="1254" y="472"/>
                    </a:lnTo>
                    <a:lnTo>
                      <a:pt x="1258" y="471"/>
                    </a:lnTo>
                    <a:lnTo>
                      <a:pt x="1261" y="471"/>
                    </a:lnTo>
                    <a:lnTo>
                      <a:pt x="1265" y="469"/>
                    </a:lnTo>
                    <a:lnTo>
                      <a:pt x="1271" y="469"/>
                    </a:lnTo>
                    <a:lnTo>
                      <a:pt x="1276" y="468"/>
                    </a:lnTo>
                    <a:lnTo>
                      <a:pt x="1282" y="466"/>
                    </a:lnTo>
                    <a:lnTo>
                      <a:pt x="1288" y="466"/>
                    </a:lnTo>
                    <a:lnTo>
                      <a:pt x="1294" y="463"/>
                    </a:lnTo>
                    <a:lnTo>
                      <a:pt x="1300" y="462"/>
                    </a:lnTo>
                    <a:lnTo>
                      <a:pt x="1305" y="460"/>
                    </a:lnTo>
                    <a:lnTo>
                      <a:pt x="1311" y="459"/>
                    </a:lnTo>
                    <a:lnTo>
                      <a:pt x="1317" y="457"/>
                    </a:lnTo>
                    <a:lnTo>
                      <a:pt x="1323" y="456"/>
                    </a:lnTo>
                    <a:lnTo>
                      <a:pt x="1329" y="454"/>
                    </a:lnTo>
                    <a:lnTo>
                      <a:pt x="1337" y="453"/>
                    </a:lnTo>
                    <a:lnTo>
                      <a:pt x="1341" y="451"/>
                    </a:lnTo>
                    <a:lnTo>
                      <a:pt x="1347" y="450"/>
                    </a:lnTo>
                    <a:lnTo>
                      <a:pt x="1353" y="447"/>
                    </a:lnTo>
                    <a:lnTo>
                      <a:pt x="1359" y="447"/>
                    </a:lnTo>
                    <a:lnTo>
                      <a:pt x="1363" y="444"/>
                    </a:lnTo>
                    <a:lnTo>
                      <a:pt x="1368" y="444"/>
                    </a:lnTo>
                    <a:lnTo>
                      <a:pt x="1372" y="442"/>
                    </a:lnTo>
                    <a:lnTo>
                      <a:pt x="1378" y="441"/>
                    </a:lnTo>
                    <a:lnTo>
                      <a:pt x="1381" y="439"/>
                    </a:lnTo>
                    <a:lnTo>
                      <a:pt x="1384" y="438"/>
                    </a:lnTo>
                    <a:lnTo>
                      <a:pt x="1387" y="437"/>
                    </a:lnTo>
                    <a:lnTo>
                      <a:pt x="1390" y="437"/>
                    </a:lnTo>
                    <a:lnTo>
                      <a:pt x="1393" y="437"/>
                    </a:lnTo>
                    <a:lnTo>
                      <a:pt x="1396" y="437"/>
                    </a:lnTo>
                    <a:lnTo>
                      <a:pt x="1383" y="497"/>
                    </a:lnTo>
                    <a:lnTo>
                      <a:pt x="1371" y="536"/>
                    </a:lnTo>
                    <a:lnTo>
                      <a:pt x="1371" y="537"/>
                    </a:lnTo>
                    <a:lnTo>
                      <a:pt x="1371" y="540"/>
                    </a:lnTo>
                    <a:lnTo>
                      <a:pt x="1369" y="542"/>
                    </a:lnTo>
                    <a:lnTo>
                      <a:pt x="1368" y="546"/>
                    </a:lnTo>
                    <a:lnTo>
                      <a:pt x="1366" y="551"/>
                    </a:lnTo>
                    <a:lnTo>
                      <a:pt x="1365" y="557"/>
                    </a:lnTo>
                    <a:lnTo>
                      <a:pt x="1363" y="558"/>
                    </a:lnTo>
                    <a:lnTo>
                      <a:pt x="1362" y="561"/>
                    </a:lnTo>
                    <a:lnTo>
                      <a:pt x="1360" y="564"/>
                    </a:lnTo>
                    <a:lnTo>
                      <a:pt x="1359" y="569"/>
                    </a:lnTo>
                    <a:lnTo>
                      <a:pt x="1356" y="572"/>
                    </a:lnTo>
                    <a:lnTo>
                      <a:pt x="1354" y="576"/>
                    </a:lnTo>
                    <a:lnTo>
                      <a:pt x="1351" y="579"/>
                    </a:lnTo>
                    <a:lnTo>
                      <a:pt x="1348" y="583"/>
                    </a:lnTo>
                    <a:lnTo>
                      <a:pt x="1346" y="588"/>
                    </a:lnTo>
                    <a:lnTo>
                      <a:pt x="1343" y="592"/>
                    </a:lnTo>
                    <a:lnTo>
                      <a:pt x="1340" y="598"/>
                    </a:lnTo>
                    <a:lnTo>
                      <a:pt x="1335" y="603"/>
                    </a:lnTo>
                    <a:lnTo>
                      <a:pt x="1331" y="609"/>
                    </a:lnTo>
                    <a:lnTo>
                      <a:pt x="1328" y="615"/>
                    </a:lnTo>
                    <a:lnTo>
                      <a:pt x="1322" y="621"/>
                    </a:lnTo>
                    <a:lnTo>
                      <a:pt x="1319" y="626"/>
                    </a:lnTo>
                    <a:lnTo>
                      <a:pt x="1311" y="632"/>
                    </a:lnTo>
                    <a:lnTo>
                      <a:pt x="1307" y="640"/>
                    </a:lnTo>
                    <a:lnTo>
                      <a:pt x="1302" y="643"/>
                    </a:lnTo>
                    <a:lnTo>
                      <a:pt x="1300" y="646"/>
                    </a:lnTo>
                    <a:lnTo>
                      <a:pt x="1297" y="649"/>
                    </a:lnTo>
                    <a:lnTo>
                      <a:pt x="1294" y="653"/>
                    </a:lnTo>
                    <a:lnTo>
                      <a:pt x="1291" y="656"/>
                    </a:lnTo>
                    <a:lnTo>
                      <a:pt x="1288" y="659"/>
                    </a:lnTo>
                    <a:lnTo>
                      <a:pt x="1283" y="662"/>
                    </a:lnTo>
                    <a:lnTo>
                      <a:pt x="1280" y="667"/>
                    </a:lnTo>
                    <a:lnTo>
                      <a:pt x="1277" y="669"/>
                    </a:lnTo>
                    <a:lnTo>
                      <a:pt x="1273" y="674"/>
                    </a:lnTo>
                    <a:lnTo>
                      <a:pt x="1270" y="677"/>
                    </a:lnTo>
                    <a:lnTo>
                      <a:pt x="1267" y="681"/>
                    </a:lnTo>
                    <a:lnTo>
                      <a:pt x="1264" y="684"/>
                    </a:lnTo>
                    <a:lnTo>
                      <a:pt x="1259" y="689"/>
                    </a:lnTo>
                    <a:lnTo>
                      <a:pt x="1256" y="692"/>
                    </a:lnTo>
                    <a:lnTo>
                      <a:pt x="1254" y="696"/>
                    </a:lnTo>
                    <a:lnTo>
                      <a:pt x="1249" y="699"/>
                    </a:lnTo>
                    <a:lnTo>
                      <a:pt x="1246" y="702"/>
                    </a:lnTo>
                    <a:lnTo>
                      <a:pt x="1242" y="707"/>
                    </a:lnTo>
                    <a:lnTo>
                      <a:pt x="1239" y="710"/>
                    </a:lnTo>
                    <a:lnTo>
                      <a:pt x="1236" y="713"/>
                    </a:lnTo>
                    <a:lnTo>
                      <a:pt x="1231" y="717"/>
                    </a:lnTo>
                    <a:lnTo>
                      <a:pt x="1228" y="720"/>
                    </a:lnTo>
                    <a:lnTo>
                      <a:pt x="1225" y="724"/>
                    </a:lnTo>
                    <a:lnTo>
                      <a:pt x="1221" y="727"/>
                    </a:lnTo>
                    <a:lnTo>
                      <a:pt x="1218" y="730"/>
                    </a:lnTo>
                    <a:lnTo>
                      <a:pt x="1215" y="735"/>
                    </a:lnTo>
                    <a:lnTo>
                      <a:pt x="1212" y="738"/>
                    </a:lnTo>
                    <a:lnTo>
                      <a:pt x="1206" y="745"/>
                    </a:lnTo>
                    <a:lnTo>
                      <a:pt x="1199" y="751"/>
                    </a:lnTo>
                    <a:lnTo>
                      <a:pt x="1193" y="756"/>
                    </a:lnTo>
                    <a:lnTo>
                      <a:pt x="1187" y="763"/>
                    </a:lnTo>
                    <a:lnTo>
                      <a:pt x="1182" y="767"/>
                    </a:lnTo>
                    <a:lnTo>
                      <a:pt x="1176" y="773"/>
                    </a:lnTo>
                    <a:lnTo>
                      <a:pt x="1172" y="778"/>
                    </a:lnTo>
                    <a:lnTo>
                      <a:pt x="1167" y="782"/>
                    </a:lnTo>
                    <a:lnTo>
                      <a:pt x="1163" y="785"/>
                    </a:lnTo>
                    <a:lnTo>
                      <a:pt x="1160" y="790"/>
                    </a:lnTo>
                    <a:lnTo>
                      <a:pt x="1156" y="793"/>
                    </a:lnTo>
                    <a:lnTo>
                      <a:pt x="1154" y="796"/>
                    </a:lnTo>
                    <a:lnTo>
                      <a:pt x="1150" y="799"/>
                    </a:lnTo>
                    <a:lnTo>
                      <a:pt x="1150" y="802"/>
                    </a:lnTo>
                    <a:lnTo>
                      <a:pt x="1381" y="656"/>
                    </a:lnTo>
                    <a:lnTo>
                      <a:pt x="1380" y="658"/>
                    </a:lnTo>
                    <a:lnTo>
                      <a:pt x="1377" y="661"/>
                    </a:lnTo>
                    <a:lnTo>
                      <a:pt x="1374" y="665"/>
                    </a:lnTo>
                    <a:lnTo>
                      <a:pt x="1369" y="669"/>
                    </a:lnTo>
                    <a:lnTo>
                      <a:pt x="1363" y="677"/>
                    </a:lnTo>
                    <a:lnTo>
                      <a:pt x="1360" y="680"/>
                    </a:lnTo>
                    <a:lnTo>
                      <a:pt x="1357" y="683"/>
                    </a:lnTo>
                    <a:lnTo>
                      <a:pt x="1354" y="687"/>
                    </a:lnTo>
                    <a:lnTo>
                      <a:pt x="1351" y="692"/>
                    </a:lnTo>
                    <a:lnTo>
                      <a:pt x="1348" y="695"/>
                    </a:lnTo>
                    <a:lnTo>
                      <a:pt x="1344" y="699"/>
                    </a:lnTo>
                    <a:lnTo>
                      <a:pt x="1341" y="704"/>
                    </a:lnTo>
                    <a:lnTo>
                      <a:pt x="1337" y="708"/>
                    </a:lnTo>
                    <a:lnTo>
                      <a:pt x="1334" y="713"/>
                    </a:lnTo>
                    <a:lnTo>
                      <a:pt x="1329" y="718"/>
                    </a:lnTo>
                    <a:lnTo>
                      <a:pt x="1325" y="723"/>
                    </a:lnTo>
                    <a:lnTo>
                      <a:pt x="1322" y="729"/>
                    </a:lnTo>
                    <a:lnTo>
                      <a:pt x="1316" y="733"/>
                    </a:lnTo>
                    <a:lnTo>
                      <a:pt x="1311" y="739"/>
                    </a:lnTo>
                    <a:lnTo>
                      <a:pt x="1307" y="745"/>
                    </a:lnTo>
                    <a:lnTo>
                      <a:pt x="1302" y="751"/>
                    </a:lnTo>
                    <a:lnTo>
                      <a:pt x="1298" y="756"/>
                    </a:lnTo>
                    <a:lnTo>
                      <a:pt x="1294" y="763"/>
                    </a:lnTo>
                    <a:lnTo>
                      <a:pt x="1289" y="769"/>
                    </a:lnTo>
                    <a:lnTo>
                      <a:pt x="1285" y="775"/>
                    </a:lnTo>
                    <a:lnTo>
                      <a:pt x="1280" y="781"/>
                    </a:lnTo>
                    <a:lnTo>
                      <a:pt x="1276" y="787"/>
                    </a:lnTo>
                    <a:lnTo>
                      <a:pt x="1270" y="793"/>
                    </a:lnTo>
                    <a:lnTo>
                      <a:pt x="1265" y="799"/>
                    </a:lnTo>
                    <a:lnTo>
                      <a:pt x="1261" y="805"/>
                    </a:lnTo>
                    <a:lnTo>
                      <a:pt x="1256" y="810"/>
                    </a:lnTo>
                    <a:lnTo>
                      <a:pt x="1252" y="816"/>
                    </a:lnTo>
                    <a:lnTo>
                      <a:pt x="1248" y="824"/>
                    </a:lnTo>
                    <a:lnTo>
                      <a:pt x="1243" y="828"/>
                    </a:lnTo>
                    <a:lnTo>
                      <a:pt x="1239" y="834"/>
                    </a:lnTo>
                    <a:lnTo>
                      <a:pt x="1234" y="840"/>
                    </a:lnTo>
                    <a:lnTo>
                      <a:pt x="1230" y="846"/>
                    </a:lnTo>
                    <a:lnTo>
                      <a:pt x="1225" y="851"/>
                    </a:lnTo>
                    <a:lnTo>
                      <a:pt x="1222" y="856"/>
                    </a:lnTo>
                    <a:lnTo>
                      <a:pt x="1218" y="861"/>
                    </a:lnTo>
                    <a:lnTo>
                      <a:pt x="1215" y="867"/>
                    </a:lnTo>
                    <a:lnTo>
                      <a:pt x="1212" y="871"/>
                    </a:lnTo>
                    <a:lnTo>
                      <a:pt x="1208" y="876"/>
                    </a:lnTo>
                    <a:lnTo>
                      <a:pt x="1205" y="880"/>
                    </a:lnTo>
                    <a:lnTo>
                      <a:pt x="1202" y="885"/>
                    </a:lnTo>
                    <a:lnTo>
                      <a:pt x="1199" y="888"/>
                    </a:lnTo>
                    <a:lnTo>
                      <a:pt x="1196" y="892"/>
                    </a:lnTo>
                    <a:lnTo>
                      <a:pt x="1193" y="895"/>
                    </a:lnTo>
                    <a:lnTo>
                      <a:pt x="1191" y="899"/>
                    </a:lnTo>
                    <a:lnTo>
                      <a:pt x="1187" y="904"/>
                    </a:lnTo>
                    <a:lnTo>
                      <a:pt x="1184" y="907"/>
                    </a:lnTo>
                    <a:lnTo>
                      <a:pt x="1182" y="910"/>
                    </a:lnTo>
                    <a:lnTo>
                      <a:pt x="1182" y="911"/>
                    </a:lnTo>
                    <a:lnTo>
                      <a:pt x="1285" y="843"/>
                    </a:lnTo>
                    <a:lnTo>
                      <a:pt x="1285" y="845"/>
                    </a:lnTo>
                    <a:lnTo>
                      <a:pt x="1285" y="848"/>
                    </a:lnTo>
                    <a:lnTo>
                      <a:pt x="1286" y="852"/>
                    </a:lnTo>
                    <a:lnTo>
                      <a:pt x="1286" y="856"/>
                    </a:lnTo>
                    <a:lnTo>
                      <a:pt x="1286" y="862"/>
                    </a:lnTo>
                    <a:lnTo>
                      <a:pt x="1285" y="865"/>
                    </a:lnTo>
                    <a:lnTo>
                      <a:pt x="1285" y="868"/>
                    </a:lnTo>
                    <a:lnTo>
                      <a:pt x="1285" y="873"/>
                    </a:lnTo>
                    <a:lnTo>
                      <a:pt x="1285" y="877"/>
                    </a:lnTo>
                    <a:lnTo>
                      <a:pt x="1285" y="880"/>
                    </a:lnTo>
                    <a:lnTo>
                      <a:pt x="1283" y="885"/>
                    </a:lnTo>
                    <a:lnTo>
                      <a:pt x="1282" y="888"/>
                    </a:lnTo>
                    <a:lnTo>
                      <a:pt x="1282" y="892"/>
                    </a:lnTo>
                    <a:lnTo>
                      <a:pt x="1280" y="897"/>
                    </a:lnTo>
                    <a:lnTo>
                      <a:pt x="1279" y="902"/>
                    </a:lnTo>
                    <a:lnTo>
                      <a:pt x="1277" y="907"/>
                    </a:lnTo>
                    <a:lnTo>
                      <a:pt x="1276" y="913"/>
                    </a:lnTo>
                    <a:lnTo>
                      <a:pt x="1273" y="917"/>
                    </a:lnTo>
                    <a:lnTo>
                      <a:pt x="1270" y="922"/>
                    </a:lnTo>
                    <a:lnTo>
                      <a:pt x="1268" y="928"/>
                    </a:lnTo>
                    <a:lnTo>
                      <a:pt x="1265" y="934"/>
                    </a:lnTo>
                    <a:lnTo>
                      <a:pt x="1262" y="940"/>
                    </a:lnTo>
                    <a:lnTo>
                      <a:pt x="1258" y="944"/>
                    </a:lnTo>
                    <a:lnTo>
                      <a:pt x="1255" y="951"/>
                    </a:lnTo>
                    <a:lnTo>
                      <a:pt x="1251" y="957"/>
                    </a:lnTo>
                    <a:lnTo>
                      <a:pt x="1245" y="963"/>
                    </a:lnTo>
                    <a:lnTo>
                      <a:pt x="1240" y="968"/>
                    </a:lnTo>
                    <a:lnTo>
                      <a:pt x="1234" y="974"/>
                    </a:lnTo>
                    <a:lnTo>
                      <a:pt x="1228" y="980"/>
                    </a:lnTo>
                    <a:lnTo>
                      <a:pt x="1222" y="986"/>
                    </a:lnTo>
                    <a:lnTo>
                      <a:pt x="1216" y="990"/>
                    </a:lnTo>
                    <a:lnTo>
                      <a:pt x="1210" y="996"/>
                    </a:lnTo>
                    <a:lnTo>
                      <a:pt x="1205" y="1002"/>
                    </a:lnTo>
                    <a:lnTo>
                      <a:pt x="1200" y="1005"/>
                    </a:lnTo>
                    <a:lnTo>
                      <a:pt x="1197" y="1008"/>
                    </a:lnTo>
                    <a:lnTo>
                      <a:pt x="1193" y="1011"/>
                    </a:lnTo>
                    <a:lnTo>
                      <a:pt x="1190" y="1014"/>
                    </a:lnTo>
                    <a:lnTo>
                      <a:pt x="1184" y="1020"/>
                    </a:lnTo>
                    <a:lnTo>
                      <a:pt x="1176" y="1024"/>
                    </a:lnTo>
                    <a:lnTo>
                      <a:pt x="1173" y="1027"/>
                    </a:lnTo>
                    <a:lnTo>
                      <a:pt x="1169" y="1030"/>
                    </a:lnTo>
                    <a:lnTo>
                      <a:pt x="1166" y="1032"/>
                    </a:lnTo>
                    <a:lnTo>
                      <a:pt x="1163" y="1035"/>
                    </a:lnTo>
                    <a:lnTo>
                      <a:pt x="1157" y="1039"/>
                    </a:lnTo>
                    <a:lnTo>
                      <a:pt x="1151" y="1045"/>
                    </a:lnTo>
                    <a:lnTo>
                      <a:pt x="1144" y="1049"/>
                    </a:lnTo>
                    <a:lnTo>
                      <a:pt x="1138" y="1054"/>
                    </a:lnTo>
                    <a:lnTo>
                      <a:pt x="1132" y="1058"/>
                    </a:lnTo>
                    <a:lnTo>
                      <a:pt x="1126" y="1063"/>
                    </a:lnTo>
                    <a:lnTo>
                      <a:pt x="1120" y="1066"/>
                    </a:lnTo>
                    <a:lnTo>
                      <a:pt x="1116" y="1070"/>
                    </a:lnTo>
                    <a:lnTo>
                      <a:pt x="1111" y="1073"/>
                    </a:lnTo>
                    <a:lnTo>
                      <a:pt x="1107" y="1076"/>
                    </a:lnTo>
                    <a:lnTo>
                      <a:pt x="1102" y="1079"/>
                    </a:lnTo>
                    <a:lnTo>
                      <a:pt x="1099" y="1082"/>
                    </a:lnTo>
                    <a:lnTo>
                      <a:pt x="1095" y="1083"/>
                    </a:lnTo>
                    <a:lnTo>
                      <a:pt x="1093" y="1085"/>
                    </a:lnTo>
                    <a:lnTo>
                      <a:pt x="1090" y="1088"/>
                    </a:lnTo>
                    <a:lnTo>
                      <a:pt x="1089" y="1089"/>
                    </a:lnTo>
                    <a:lnTo>
                      <a:pt x="1026" y="1094"/>
                    </a:lnTo>
                    <a:lnTo>
                      <a:pt x="992" y="1085"/>
                    </a:lnTo>
                    <a:lnTo>
                      <a:pt x="699" y="1153"/>
                    </a:lnTo>
                    <a:lnTo>
                      <a:pt x="581" y="1156"/>
                    </a:lnTo>
                    <a:lnTo>
                      <a:pt x="431" y="1348"/>
                    </a:lnTo>
                    <a:lnTo>
                      <a:pt x="55" y="1739"/>
                    </a:lnTo>
                    <a:lnTo>
                      <a:pt x="0" y="1276"/>
                    </a:lnTo>
                    <a:lnTo>
                      <a:pt x="0" y="127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476520" y="2209680"/>
                <a:ext cx="515880" cy="447840"/>
              </a:xfrm>
              <a:custGeom>
                <a:avLst/>
                <a:gdLst/>
                <a:ahLst/>
                <a:rect l="l" t="t" r="r" b="b"/>
                <a:pathLst>
                  <a:path w="650" h="564">
                    <a:moveTo>
                      <a:pt x="442" y="0"/>
                    </a:moveTo>
                    <a:lnTo>
                      <a:pt x="441" y="1"/>
                    </a:lnTo>
                    <a:lnTo>
                      <a:pt x="439" y="4"/>
                    </a:lnTo>
                    <a:lnTo>
                      <a:pt x="436" y="6"/>
                    </a:lnTo>
                    <a:lnTo>
                      <a:pt x="435" y="9"/>
                    </a:lnTo>
                    <a:lnTo>
                      <a:pt x="432" y="13"/>
                    </a:lnTo>
                    <a:lnTo>
                      <a:pt x="429" y="16"/>
                    </a:lnTo>
                    <a:lnTo>
                      <a:pt x="424" y="19"/>
                    </a:lnTo>
                    <a:lnTo>
                      <a:pt x="420" y="24"/>
                    </a:lnTo>
                    <a:lnTo>
                      <a:pt x="414" y="28"/>
                    </a:lnTo>
                    <a:lnTo>
                      <a:pt x="408" y="32"/>
                    </a:lnTo>
                    <a:lnTo>
                      <a:pt x="405" y="34"/>
                    </a:lnTo>
                    <a:lnTo>
                      <a:pt x="402" y="37"/>
                    </a:lnTo>
                    <a:lnTo>
                      <a:pt x="398" y="40"/>
                    </a:lnTo>
                    <a:lnTo>
                      <a:pt x="395" y="41"/>
                    </a:lnTo>
                    <a:lnTo>
                      <a:pt x="390" y="43"/>
                    </a:lnTo>
                    <a:lnTo>
                      <a:pt x="386" y="46"/>
                    </a:lnTo>
                    <a:lnTo>
                      <a:pt x="381" y="49"/>
                    </a:lnTo>
                    <a:lnTo>
                      <a:pt x="377" y="52"/>
                    </a:lnTo>
                    <a:lnTo>
                      <a:pt x="372" y="53"/>
                    </a:lnTo>
                    <a:lnTo>
                      <a:pt x="366" y="56"/>
                    </a:lnTo>
                    <a:lnTo>
                      <a:pt x="360" y="59"/>
                    </a:lnTo>
                    <a:lnTo>
                      <a:pt x="355" y="61"/>
                    </a:lnTo>
                    <a:lnTo>
                      <a:pt x="349" y="62"/>
                    </a:lnTo>
                    <a:lnTo>
                      <a:pt x="343" y="65"/>
                    </a:lnTo>
                    <a:lnTo>
                      <a:pt x="337" y="68"/>
                    </a:lnTo>
                    <a:lnTo>
                      <a:pt x="331" y="70"/>
                    </a:lnTo>
                    <a:lnTo>
                      <a:pt x="325" y="72"/>
                    </a:lnTo>
                    <a:lnTo>
                      <a:pt x="319" y="74"/>
                    </a:lnTo>
                    <a:lnTo>
                      <a:pt x="313" y="77"/>
                    </a:lnTo>
                    <a:lnTo>
                      <a:pt x="307" y="78"/>
                    </a:lnTo>
                    <a:lnTo>
                      <a:pt x="301" y="81"/>
                    </a:lnTo>
                    <a:lnTo>
                      <a:pt x="295" y="83"/>
                    </a:lnTo>
                    <a:lnTo>
                      <a:pt x="291" y="84"/>
                    </a:lnTo>
                    <a:lnTo>
                      <a:pt x="285" y="87"/>
                    </a:lnTo>
                    <a:lnTo>
                      <a:pt x="279" y="89"/>
                    </a:lnTo>
                    <a:lnTo>
                      <a:pt x="273" y="90"/>
                    </a:lnTo>
                    <a:lnTo>
                      <a:pt x="268" y="92"/>
                    </a:lnTo>
                    <a:lnTo>
                      <a:pt x="264" y="93"/>
                    </a:lnTo>
                    <a:lnTo>
                      <a:pt x="258" y="95"/>
                    </a:lnTo>
                    <a:lnTo>
                      <a:pt x="254" y="96"/>
                    </a:lnTo>
                    <a:lnTo>
                      <a:pt x="251" y="96"/>
                    </a:lnTo>
                    <a:lnTo>
                      <a:pt x="248" y="98"/>
                    </a:lnTo>
                    <a:lnTo>
                      <a:pt x="243" y="99"/>
                    </a:lnTo>
                    <a:lnTo>
                      <a:pt x="240" y="99"/>
                    </a:lnTo>
                    <a:lnTo>
                      <a:pt x="237" y="101"/>
                    </a:lnTo>
                    <a:lnTo>
                      <a:pt x="236" y="101"/>
                    </a:lnTo>
                    <a:lnTo>
                      <a:pt x="233" y="102"/>
                    </a:lnTo>
                    <a:lnTo>
                      <a:pt x="233" y="104"/>
                    </a:lnTo>
                    <a:lnTo>
                      <a:pt x="234" y="104"/>
                    </a:lnTo>
                    <a:lnTo>
                      <a:pt x="239" y="105"/>
                    </a:lnTo>
                    <a:lnTo>
                      <a:pt x="242" y="107"/>
                    </a:lnTo>
                    <a:lnTo>
                      <a:pt x="245" y="108"/>
                    </a:lnTo>
                    <a:lnTo>
                      <a:pt x="249" y="111"/>
                    </a:lnTo>
                    <a:lnTo>
                      <a:pt x="252" y="114"/>
                    </a:lnTo>
                    <a:lnTo>
                      <a:pt x="257" y="116"/>
                    </a:lnTo>
                    <a:lnTo>
                      <a:pt x="260" y="118"/>
                    </a:lnTo>
                    <a:lnTo>
                      <a:pt x="263" y="123"/>
                    </a:lnTo>
                    <a:lnTo>
                      <a:pt x="267" y="127"/>
                    </a:lnTo>
                    <a:lnTo>
                      <a:pt x="268" y="132"/>
                    </a:lnTo>
                    <a:lnTo>
                      <a:pt x="271" y="138"/>
                    </a:lnTo>
                    <a:lnTo>
                      <a:pt x="273" y="142"/>
                    </a:lnTo>
                    <a:lnTo>
                      <a:pt x="274" y="148"/>
                    </a:lnTo>
                    <a:lnTo>
                      <a:pt x="274" y="154"/>
                    </a:lnTo>
                    <a:lnTo>
                      <a:pt x="273" y="162"/>
                    </a:lnTo>
                    <a:lnTo>
                      <a:pt x="271" y="164"/>
                    </a:lnTo>
                    <a:lnTo>
                      <a:pt x="271" y="169"/>
                    </a:lnTo>
                    <a:lnTo>
                      <a:pt x="270" y="172"/>
                    </a:lnTo>
                    <a:lnTo>
                      <a:pt x="268" y="176"/>
                    </a:lnTo>
                    <a:lnTo>
                      <a:pt x="267" y="179"/>
                    </a:lnTo>
                    <a:lnTo>
                      <a:pt x="264" y="184"/>
                    </a:lnTo>
                    <a:lnTo>
                      <a:pt x="263" y="188"/>
                    </a:lnTo>
                    <a:lnTo>
                      <a:pt x="261" y="193"/>
                    </a:lnTo>
                    <a:lnTo>
                      <a:pt x="258" y="197"/>
                    </a:lnTo>
                    <a:lnTo>
                      <a:pt x="255" y="202"/>
                    </a:lnTo>
                    <a:lnTo>
                      <a:pt x="252" y="206"/>
                    </a:lnTo>
                    <a:lnTo>
                      <a:pt x="249" y="210"/>
                    </a:lnTo>
                    <a:lnTo>
                      <a:pt x="246" y="215"/>
                    </a:lnTo>
                    <a:lnTo>
                      <a:pt x="242" y="219"/>
                    </a:lnTo>
                    <a:lnTo>
                      <a:pt x="239" y="224"/>
                    </a:lnTo>
                    <a:lnTo>
                      <a:pt x="234" y="230"/>
                    </a:lnTo>
                    <a:lnTo>
                      <a:pt x="230" y="234"/>
                    </a:lnTo>
                    <a:lnTo>
                      <a:pt x="225" y="239"/>
                    </a:lnTo>
                    <a:lnTo>
                      <a:pt x="221" y="245"/>
                    </a:lnTo>
                    <a:lnTo>
                      <a:pt x="217" y="251"/>
                    </a:lnTo>
                    <a:lnTo>
                      <a:pt x="212" y="255"/>
                    </a:lnTo>
                    <a:lnTo>
                      <a:pt x="206" y="259"/>
                    </a:lnTo>
                    <a:lnTo>
                      <a:pt x="200" y="265"/>
                    </a:lnTo>
                    <a:lnTo>
                      <a:pt x="196" y="271"/>
                    </a:lnTo>
                    <a:lnTo>
                      <a:pt x="190" y="276"/>
                    </a:lnTo>
                    <a:lnTo>
                      <a:pt x="184" y="282"/>
                    </a:lnTo>
                    <a:lnTo>
                      <a:pt x="178" y="288"/>
                    </a:lnTo>
                    <a:lnTo>
                      <a:pt x="172" y="294"/>
                    </a:lnTo>
                    <a:lnTo>
                      <a:pt x="168" y="297"/>
                    </a:lnTo>
                    <a:lnTo>
                      <a:pt x="165" y="300"/>
                    </a:lnTo>
                    <a:lnTo>
                      <a:pt x="162" y="302"/>
                    </a:lnTo>
                    <a:lnTo>
                      <a:pt x="159" y="305"/>
                    </a:lnTo>
                    <a:lnTo>
                      <a:pt x="154" y="307"/>
                    </a:lnTo>
                    <a:lnTo>
                      <a:pt x="151" y="310"/>
                    </a:lnTo>
                    <a:lnTo>
                      <a:pt x="147" y="313"/>
                    </a:lnTo>
                    <a:lnTo>
                      <a:pt x="144" y="316"/>
                    </a:lnTo>
                    <a:lnTo>
                      <a:pt x="141" y="319"/>
                    </a:lnTo>
                    <a:lnTo>
                      <a:pt x="136" y="322"/>
                    </a:lnTo>
                    <a:lnTo>
                      <a:pt x="133" y="325"/>
                    </a:lnTo>
                    <a:lnTo>
                      <a:pt x="130" y="328"/>
                    </a:lnTo>
                    <a:lnTo>
                      <a:pt x="126" y="329"/>
                    </a:lnTo>
                    <a:lnTo>
                      <a:pt x="123" y="334"/>
                    </a:lnTo>
                    <a:lnTo>
                      <a:pt x="119" y="337"/>
                    </a:lnTo>
                    <a:lnTo>
                      <a:pt x="116" y="340"/>
                    </a:lnTo>
                    <a:lnTo>
                      <a:pt x="111" y="341"/>
                    </a:lnTo>
                    <a:lnTo>
                      <a:pt x="108" y="344"/>
                    </a:lnTo>
                    <a:lnTo>
                      <a:pt x="104" y="347"/>
                    </a:lnTo>
                    <a:lnTo>
                      <a:pt x="101" y="350"/>
                    </a:lnTo>
                    <a:lnTo>
                      <a:pt x="96" y="351"/>
                    </a:lnTo>
                    <a:lnTo>
                      <a:pt x="93" y="356"/>
                    </a:lnTo>
                    <a:lnTo>
                      <a:pt x="89" y="357"/>
                    </a:lnTo>
                    <a:lnTo>
                      <a:pt x="86" y="360"/>
                    </a:lnTo>
                    <a:lnTo>
                      <a:pt x="83" y="363"/>
                    </a:lnTo>
                    <a:lnTo>
                      <a:pt x="79" y="366"/>
                    </a:lnTo>
                    <a:lnTo>
                      <a:pt x="76" y="368"/>
                    </a:lnTo>
                    <a:lnTo>
                      <a:pt x="73" y="371"/>
                    </a:lnTo>
                    <a:lnTo>
                      <a:pt x="65" y="377"/>
                    </a:lnTo>
                    <a:lnTo>
                      <a:pt x="59" y="381"/>
                    </a:lnTo>
                    <a:lnTo>
                      <a:pt x="53" y="386"/>
                    </a:lnTo>
                    <a:lnTo>
                      <a:pt x="47" y="390"/>
                    </a:lnTo>
                    <a:lnTo>
                      <a:pt x="40" y="393"/>
                    </a:lnTo>
                    <a:lnTo>
                      <a:pt x="36" y="397"/>
                    </a:lnTo>
                    <a:lnTo>
                      <a:pt x="30" y="400"/>
                    </a:lnTo>
                    <a:lnTo>
                      <a:pt x="25" y="405"/>
                    </a:lnTo>
                    <a:lnTo>
                      <a:pt x="21" y="408"/>
                    </a:lnTo>
                    <a:lnTo>
                      <a:pt x="16" y="412"/>
                    </a:lnTo>
                    <a:lnTo>
                      <a:pt x="12" y="414"/>
                    </a:lnTo>
                    <a:lnTo>
                      <a:pt x="9" y="417"/>
                    </a:lnTo>
                    <a:lnTo>
                      <a:pt x="6" y="418"/>
                    </a:lnTo>
                    <a:lnTo>
                      <a:pt x="4" y="420"/>
                    </a:lnTo>
                    <a:lnTo>
                      <a:pt x="0" y="423"/>
                    </a:lnTo>
                    <a:lnTo>
                      <a:pt x="0" y="424"/>
                    </a:lnTo>
                    <a:lnTo>
                      <a:pt x="0" y="424"/>
                    </a:lnTo>
                    <a:lnTo>
                      <a:pt x="4" y="424"/>
                    </a:lnTo>
                    <a:lnTo>
                      <a:pt x="7" y="424"/>
                    </a:lnTo>
                    <a:lnTo>
                      <a:pt x="10" y="424"/>
                    </a:lnTo>
                    <a:lnTo>
                      <a:pt x="13" y="424"/>
                    </a:lnTo>
                    <a:lnTo>
                      <a:pt x="18" y="424"/>
                    </a:lnTo>
                    <a:lnTo>
                      <a:pt x="22" y="424"/>
                    </a:lnTo>
                    <a:lnTo>
                      <a:pt x="27" y="424"/>
                    </a:lnTo>
                    <a:lnTo>
                      <a:pt x="33" y="424"/>
                    </a:lnTo>
                    <a:lnTo>
                      <a:pt x="38" y="424"/>
                    </a:lnTo>
                    <a:lnTo>
                      <a:pt x="44" y="424"/>
                    </a:lnTo>
                    <a:lnTo>
                      <a:pt x="50" y="426"/>
                    </a:lnTo>
                    <a:lnTo>
                      <a:pt x="53" y="426"/>
                    </a:lnTo>
                    <a:lnTo>
                      <a:pt x="56" y="426"/>
                    </a:lnTo>
                    <a:lnTo>
                      <a:pt x="59" y="427"/>
                    </a:lnTo>
                    <a:lnTo>
                      <a:pt x="64" y="427"/>
                    </a:lnTo>
                    <a:lnTo>
                      <a:pt x="70" y="427"/>
                    </a:lnTo>
                    <a:lnTo>
                      <a:pt x="77" y="429"/>
                    </a:lnTo>
                    <a:lnTo>
                      <a:pt x="80" y="429"/>
                    </a:lnTo>
                    <a:lnTo>
                      <a:pt x="84" y="429"/>
                    </a:lnTo>
                    <a:lnTo>
                      <a:pt x="87" y="430"/>
                    </a:lnTo>
                    <a:lnTo>
                      <a:pt x="92" y="432"/>
                    </a:lnTo>
                    <a:lnTo>
                      <a:pt x="95" y="432"/>
                    </a:lnTo>
                    <a:lnTo>
                      <a:pt x="98" y="432"/>
                    </a:lnTo>
                    <a:lnTo>
                      <a:pt x="102" y="432"/>
                    </a:lnTo>
                    <a:lnTo>
                      <a:pt x="105" y="433"/>
                    </a:lnTo>
                    <a:lnTo>
                      <a:pt x="108" y="433"/>
                    </a:lnTo>
                    <a:lnTo>
                      <a:pt x="113" y="435"/>
                    </a:lnTo>
                    <a:lnTo>
                      <a:pt x="116" y="435"/>
                    </a:lnTo>
                    <a:lnTo>
                      <a:pt x="120" y="436"/>
                    </a:lnTo>
                    <a:lnTo>
                      <a:pt x="123" y="438"/>
                    </a:lnTo>
                    <a:lnTo>
                      <a:pt x="126" y="439"/>
                    </a:lnTo>
                    <a:lnTo>
                      <a:pt x="130" y="439"/>
                    </a:lnTo>
                    <a:lnTo>
                      <a:pt x="133" y="440"/>
                    </a:lnTo>
                    <a:lnTo>
                      <a:pt x="136" y="440"/>
                    </a:lnTo>
                    <a:lnTo>
                      <a:pt x="141" y="442"/>
                    </a:lnTo>
                    <a:lnTo>
                      <a:pt x="144" y="443"/>
                    </a:lnTo>
                    <a:lnTo>
                      <a:pt x="147" y="445"/>
                    </a:lnTo>
                    <a:lnTo>
                      <a:pt x="153" y="446"/>
                    </a:lnTo>
                    <a:lnTo>
                      <a:pt x="160" y="449"/>
                    </a:lnTo>
                    <a:lnTo>
                      <a:pt x="166" y="454"/>
                    </a:lnTo>
                    <a:lnTo>
                      <a:pt x="172" y="457"/>
                    </a:lnTo>
                    <a:lnTo>
                      <a:pt x="176" y="460"/>
                    </a:lnTo>
                    <a:lnTo>
                      <a:pt x="182" y="463"/>
                    </a:lnTo>
                    <a:lnTo>
                      <a:pt x="185" y="467"/>
                    </a:lnTo>
                    <a:lnTo>
                      <a:pt x="191" y="472"/>
                    </a:lnTo>
                    <a:lnTo>
                      <a:pt x="194" y="475"/>
                    </a:lnTo>
                    <a:lnTo>
                      <a:pt x="199" y="479"/>
                    </a:lnTo>
                    <a:lnTo>
                      <a:pt x="203" y="484"/>
                    </a:lnTo>
                    <a:lnTo>
                      <a:pt x="206" y="488"/>
                    </a:lnTo>
                    <a:lnTo>
                      <a:pt x="209" y="491"/>
                    </a:lnTo>
                    <a:lnTo>
                      <a:pt x="212" y="497"/>
                    </a:lnTo>
                    <a:lnTo>
                      <a:pt x="215" y="500"/>
                    </a:lnTo>
                    <a:lnTo>
                      <a:pt x="218" y="506"/>
                    </a:lnTo>
                    <a:lnTo>
                      <a:pt x="220" y="510"/>
                    </a:lnTo>
                    <a:lnTo>
                      <a:pt x="222" y="513"/>
                    </a:lnTo>
                    <a:lnTo>
                      <a:pt x="224" y="518"/>
                    </a:lnTo>
                    <a:lnTo>
                      <a:pt x="227" y="524"/>
                    </a:lnTo>
                    <a:lnTo>
                      <a:pt x="228" y="527"/>
                    </a:lnTo>
                    <a:lnTo>
                      <a:pt x="230" y="531"/>
                    </a:lnTo>
                    <a:lnTo>
                      <a:pt x="230" y="534"/>
                    </a:lnTo>
                    <a:lnTo>
                      <a:pt x="231" y="538"/>
                    </a:lnTo>
                    <a:lnTo>
                      <a:pt x="233" y="541"/>
                    </a:lnTo>
                    <a:lnTo>
                      <a:pt x="234" y="546"/>
                    </a:lnTo>
                    <a:lnTo>
                      <a:pt x="234" y="549"/>
                    </a:lnTo>
                    <a:lnTo>
                      <a:pt x="236" y="552"/>
                    </a:lnTo>
                    <a:lnTo>
                      <a:pt x="236" y="556"/>
                    </a:lnTo>
                    <a:lnTo>
                      <a:pt x="237" y="559"/>
                    </a:lnTo>
                    <a:lnTo>
                      <a:pt x="237" y="562"/>
                    </a:lnTo>
                    <a:lnTo>
                      <a:pt x="237" y="564"/>
                    </a:lnTo>
                    <a:lnTo>
                      <a:pt x="405" y="540"/>
                    </a:lnTo>
                    <a:lnTo>
                      <a:pt x="405" y="537"/>
                    </a:lnTo>
                    <a:lnTo>
                      <a:pt x="405" y="532"/>
                    </a:lnTo>
                    <a:lnTo>
                      <a:pt x="405" y="528"/>
                    </a:lnTo>
                    <a:lnTo>
                      <a:pt x="406" y="525"/>
                    </a:lnTo>
                    <a:lnTo>
                      <a:pt x="406" y="519"/>
                    </a:lnTo>
                    <a:lnTo>
                      <a:pt x="409" y="515"/>
                    </a:lnTo>
                    <a:lnTo>
                      <a:pt x="409" y="510"/>
                    </a:lnTo>
                    <a:lnTo>
                      <a:pt x="412" y="504"/>
                    </a:lnTo>
                    <a:lnTo>
                      <a:pt x="414" y="498"/>
                    </a:lnTo>
                    <a:lnTo>
                      <a:pt x="417" y="494"/>
                    </a:lnTo>
                    <a:lnTo>
                      <a:pt x="420" y="488"/>
                    </a:lnTo>
                    <a:lnTo>
                      <a:pt x="424" y="484"/>
                    </a:lnTo>
                    <a:lnTo>
                      <a:pt x="427" y="479"/>
                    </a:lnTo>
                    <a:lnTo>
                      <a:pt x="432" y="476"/>
                    </a:lnTo>
                    <a:lnTo>
                      <a:pt x="436" y="472"/>
                    </a:lnTo>
                    <a:lnTo>
                      <a:pt x="442" y="469"/>
                    </a:lnTo>
                    <a:lnTo>
                      <a:pt x="447" y="466"/>
                    </a:lnTo>
                    <a:lnTo>
                      <a:pt x="452" y="464"/>
                    </a:lnTo>
                    <a:lnTo>
                      <a:pt x="458" y="461"/>
                    </a:lnTo>
                    <a:lnTo>
                      <a:pt x="464" y="461"/>
                    </a:lnTo>
                    <a:lnTo>
                      <a:pt x="470" y="460"/>
                    </a:lnTo>
                    <a:lnTo>
                      <a:pt x="476" y="460"/>
                    </a:lnTo>
                    <a:lnTo>
                      <a:pt x="481" y="460"/>
                    </a:lnTo>
                    <a:lnTo>
                      <a:pt x="485" y="460"/>
                    </a:lnTo>
                    <a:lnTo>
                      <a:pt x="490" y="460"/>
                    </a:lnTo>
                    <a:lnTo>
                      <a:pt x="494" y="460"/>
                    </a:lnTo>
                    <a:lnTo>
                      <a:pt x="497" y="460"/>
                    </a:lnTo>
                    <a:lnTo>
                      <a:pt x="500" y="460"/>
                    </a:lnTo>
                    <a:lnTo>
                      <a:pt x="500" y="460"/>
                    </a:lnTo>
                    <a:lnTo>
                      <a:pt x="501" y="461"/>
                    </a:lnTo>
                    <a:lnTo>
                      <a:pt x="544" y="383"/>
                    </a:lnTo>
                    <a:lnTo>
                      <a:pt x="381" y="448"/>
                    </a:lnTo>
                    <a:lnTo>
                      <a:pt x="380" y="446"/>
                    </a:lnTo>
                    <a:lnTo>
                      <a:pt x="380" y="445"/>
                    </a:lnTo>
                    <a:lnTo>
                      <a:pt x="378" y="442"/>
                    </a:lnTo>
                    <a:lnTo>
                      <a:pt x="377" y="439"/>
                    </a:lnTo>
                    <a:lnTo>
                      <a:pt x="375" y="433"/>
                    </a:lnTo>
                    <a:lnTo>
                      <a:pt x="375" y="427"/>
                    </a:lnTo>
                    <a:lnTo>
                      <a:pt x="372" y="421"/>
                    </a:lnTo>
                    <a:lnTo>
                      <a:pt x="372" y="415"/>
                    </a:lnTo>
                    <a:lnTo>
                      <a:pt x="372" y="412"/>
                    </a:lnTo>
                    <a:lnTo>
                      <a:pt x="371" y="408"/>
                    </a:lnTo>
                    <a:lnTo>
                      <a:pt x="371" y="405"/>
                    </a:lnTo>
                    <a:lnTo>
                      <a:pt x="371" y="400"/>
                    </a:lnTo>
                    <a:lnTo>
                      <a:pt x="371" y="397"/>
                    </a:lnTo>
                    <a:lnTo>
                      <a:pt x="371" y="393"/>
                    </a:lnTo>
                    <a:lnTo>
                      <a:pt x="371" y="390"/>
                    </a:lnTo>
                    <a:lnTo>
                      <a:pt x="371" y="387"/>
                    </a:lnTo>
                    <a:lnTo>
                      <a:pt x="371" y="384"/>
                    </a:lnTo>
                    <a:lnTo>
                      <a:pt x="372" y="380"/>
                    </a:lnTo>
                    <a:lnTo>
                      <a:pt x="372" y="377"/>
                    </a:lnTo>
                    <a:lnTo>
                      <a:pt x="374" y="374"/>
                    </a:lnTo>
                    <a:lnTo>
                      <a:pt x="377" y="368"/>
                    </a:lnTo>
                    <a:lnTo>
                      <a:pt x="381" y="363"/>
                    </a:lnTo>
                    <a:lnTo>
                      <a:pt x="386" y="359"/>
                    </a:lnTo>
                    <a:lnTo>
                      <a:pt x="392" y="354"/>
                    </a:lnTo>
                    <a:lnTo>
                      <a:pt x="393" y="353"/>
                    </a:lnTo>
                    <a:lnTo>
                      <a:pt x="396" y="351"/>
                    </a:lnTo>
                    <a:lnTo>
                      <a:pt x="401" y="350"/>
                    </a:lnTo>
                    <a:lnTo>
                      <a:pt x="404" y="348"/>
                    </a:lnTo>
                    <a:lnTo>
                      <a:pt x="406" y="348"/>
                    </a:lnTo>
                    <a:lnTo>
                      <a:pt x="411" y="347"/>
                    </a:lnTo>
                    <a:lnTo>
                      <a:pt x="414" y="346"/>
                    </a:lnTo>
                    <a:lnTo>
                      <a:pt x="418" y="346"/>
                    </a:lnTo>
                    <a:lnTo>
                      <a:pt x="421" y="346"/>
                    </a:lnTo>
                    <a:lnTo>
                      <a:pt x="426" y="344"/>
                    </a:lnTo>
                    <a:lnTo>
                      <a:pt x="429" y="344"/>
                    </a:lnTo>
                    <a:lnTo>
                      <a:pt x="433" y="344"/>
                    </a:lnTo>
                    <a:lnTo>
                      <a:pt x="436" y="344"/>
                    </a:lnTo>
                    <a:lnTo>
                      <a:pt x="439" y="344"/>
                    </a:lnTo>
                    <a:lnTo>
                      <a:pt x="442" y="344"/>
                    </a:lnTo>
                    <a:lnTo>
                      <a:pt x="447" y="344"/>
                    </a:lnTo>
                    <a:lnTo>
                      <a:pt x="452" y="344"/>
                    </a:lnTo>
                    <a:lnTo>
                      <a:pt x="458" y="344"/>
                    </a:lnTo>
                    <a:lnTo>
                      <a:pt x="463" y="344"/>
                    </a:lnTo>
                    <a:lnTo>
                      <a:pt x="466" y="344"/>
                    </a:lnTo>
                    <a:lnTo>
                      <a:pt x="467" y="344"/>
                    </a:lnTo>
                    <a:lnTo>
                      <a:pt x="469" y="346"/>
                    </a:lnTo>
                    <a:lnTo>
                      <a:pt x="553" y="252"/>
                    </a:lnTo>
                    <a:lnTo>
                      <a:pt x="381" y="313"/>
                    </a:lnTo>
                    <a:lnTo>
                      <a:pt x="381" y="311"/>
                    </a:lnTo>
                    <a:lnTo>
                      <a:pt x="381" y="308"/>
                    </a:lnTo>
                    <a:lnTo>
                      <a:pt x="381" y="304"/>
                    </a:lnTo>
                    <a:lnTo>
                      <a:pt x="383" y="300"/>
                    </a:lnTo>
                    <a:lnTo>
                      <a:pt x="383" y="295"/>
                    </a:lnTo>
                    <a:lnTo>
                      <a:pt x="383" y="292"/>
                    </a:lnTo>
                    <a:lnTo>
                      <a:pt x="384" y="288"/>
                    </a:lnTo>
                    <a:lnTo>
                      <a:pt x="384" y="285"/>
                    </a:lnTo>
                    <a:lnTo>
                      <a:pt x="386" y="280"/>
                    </a:lnTo>
                    <a:lnTo>
                      <a:pt x="387" y="276"/>
                    </a:lnTo>
                    <a:lnTo>
                      <a:pt x="387" y="273"/>
                    </a:lnTo>
                    <a:lnTo>
                      <a:pt x="389" y="268"/>
                    </a:lnTo>
                    <a:lnTo>
                      <a:pt x="390" y="264"/>
                    </a:lnTo>
                    <a:lnTo>
                      <a:pt x="392" y="259"/>
                    </a:lnTo>
                    <a:lnTo>
                      <a:pt x="392" y="254"/>
                    </a:lnTo>
                    <a:lnTo>
                      <a:pt x="395" y="251"/>
                    </a:lnTo>
                    <a:lnTo>
                      <a:pt x="395" y="245"/>
                    </a:lnTo>
                    <a:lnTo>
                      <a:pt x="398" y="240"/>
                    </a:lnTo>
                    <a:lnTo>
                      <a:pt x="399" y="236"/>
                    </a:lnTo>
                    <a:lnTo>
                      <a:pt x="401" y="233"/>
                    </a:lnTo>
                    <a:lnTo>
                      <a:pt x="402" y="228"/>
                    </a:lnTo>
                    <a:lnTo>
                      <a:pt x="405" y="224"/>
                    </a:lnTo>
                    <a:lnTo>
                      <a:pt x="406" y="219"/>
                    </a:lnTo>
                    <a:lnTo>
                      <a:pt x="409" y="216"/>
                    </a:lnTo>
                    <a:lnTo>
                      <a:pt x="414" y="210"/>
                    </a:lnTo>
                    <a:lnTo>
                      <a:pt x="420" y="206"/>
                    </a:lnTo>
                    <a:lnTo>
                      <a:pt x="424" y="200"/>
                    </a:lnTo>
                    <a:lnTo>
                      <a:pt x="430" y="197"/>
                    </a:lnTo>
                    <a:lnTo>
                      <a:pt x="436" y="194"/>
                    </a:lnTo>
                    <a:lnTo>
                      <a:pt x="444" y="194"/>
                    </a:lnTo>
                    <a:lnTo>
                      <a:pt x="450" y="193"/>
                    </a:lnTo>
                    <a:lnTo>
                      <a:pt x="455" y="193"/>
                    </a:lnTo>
                    <a:lnTo>
                      <a:pt x="463" y="194"/>
                    </a:lnTo>
                    <a:lnTo>
                      <a:pt x="469" y="196"/>
                    </a:lnTo>
                    <a:lnTo>
                      <a:pt x="475" y="196"/>
                    </a:lnTo>
                    <a:lnTo>
                      <a:pt x="481" y="197"/>
                    </a:lnTo>
                    <a:lnTo>
                      <a:pt x="485" y="200"/>
                    </a:lnTo>
                    <a:lnTo>
                      <a:pt x="490" y="202"/>
                    </a:lnTo>
                    <a:lnTo>
                      <a:pt x="493" y="203"/>
                    </a:lnTo>
                    <a:lnTo>
                      <a:pt x="496" y="205"/>
                    </a:lnTo>
                    <a:lnTo>
                      <a:pt x="497" y="205"/>
                    </a:lnTo>
                    <a:lnTo>
                      <a:pt x="498" y="206"/>
                    </a:lnTo>
                    <a:lnTo>
                      <a:pt x="498" y="205"/>
                    </a:lnTo>
                    <a:lnTo>
                      <a:pt x="500" y="203"/>
                    </a:lnTo>
                    <a:lnTo>
                      <a:pt x="501" y="200"/>
                    </a:lnTo>
                    <a:lnTo>
                      <a:pt x="506" y="197"/>
                    </a:lnTo>
                    <a:lnTo>
                      <a:pt x="509" y="193"/>
                    </a:lnTo>
                    <a:lnTo>
                      <a:pt x="513" y="187"/>
                    </a:lnTo>
                    <a:lnTo>
                      <a:pt x="518" y="181"/>
                    </a:lnTo>
                    <a:lnTo>
                      <a:pt x="525" y="175"/>
                    </a:lnTo>
                    <a:lnTo>
                      <a:pt x="527" y="170"/>
                    </a:lnTo>
                    <a:lnTo>
                      <a:pt x="530" y="167"/>
                    </a:lnTo>
                    <a:lnTo>
                      <a:pt x="533" y="163"/>
                    </a:lnTo>
                    <a:lnTo>
                      <a:pt x="537" y="160"/>
                    </a:lnTo>
                    <a:lnTo>
                      <a:pt x="540" y="156"/>
                    </a:lnTo>
                    <a:lnTo>
                      <a:pt x="544" y="151"/>
                    </a:lnTo>
                    <a:lnTo>
                      <a:pt x="547" y="147"/>
                    </a:lnTo>
                    <a:lnTo>
                      <a:pt x="552" y="144"/>
                    </a:lnTo>
                    <a:lnTo>
                      <a:pt x="555" y="138"/>
                    </a:lnTo>
                    <a:lnTo>
                      <a:pt x="559" y="135"/>
                    </a:lnTo>
                    <a:lnTo>
                      <a:pt x="562" y="130"/>
                    </a:lnTo>
                    <a:lnTo>
                      <a:pt x="567" y="126"/>
                    </a:lnTo>
                    <a:lnTo>
                      <a:pt x="570" y="121"/>
                    </a:lnTo>
                    <a:lnTo>
                      <a:pt x="574" y="117"/>
                    </a:lnTo>
                    <a:lnTo>
                      <a:pt x="577" y="113"/>
                    </a:lnTo>
                    <a:lnTo>
                      <a:pt x="582" y="108"/>
                    </a:lnTo>
                    <a:lnTo>
                      <a:pt x="585" y="104"/>
                    </a:lnTo>
                    <a:lnTo>
                      <a:pt x="588" y="99"/>
                    </a:lnTo>
                    <a:lnTo>
                      <a:pt x="590" y="95"/>
                    </a:lnTo>
                    <a:lnTo>
                      <a:pt x="595" y="90"/>
                    </a:lnTo>
                    <a:lnTo>
                      <a:pt x="598" y="84"/>
                    </a:lnTo>
                    <a:lnTo>
                      <a:pt x="601" y="81"/>
                    </a:lnTo>
                    <a:lnTo>
                      <a:pt x="604" y="75"/>
                    </a:lnTo>
                    <a:lnTo>
                      <a:pt x="608" y="72"/>
                    </a:lnTo>
                    <a:lnTo>
                      <a:pt x="610" y="67"/>
                    </a:lnTo>
                    <a:lnTo>
                      <a:pt x="613" y="62"/>
                    </a:lnTo>
                    <a:lnTo>
                      <a:pt x="616" y="59"/>
                    </a:lnTo>
                    <a:lnTo>
                      <a:pt x="620" y="55"/>
                    </a:lnTo>
                    <a:lnTo>
                      <a:pt x="622" y="50"/>
                    </a:lnTo>
                    <a:lnTo>
                      <a:pt x="625" y="47"/>
                    </a:lnTo>
                    <a:lnTo>
                      <a:pt x="628" y="43"/>
                    </a:lnTo>
                    <a:lnTo>
                      <a:pt x="631" y="40"/>
                    </a:lnTo>
                    <a:lnTo>
                      <a:pt x="632" y="37"/>
                    </a:lnTo>
                    <a:lnTo>
                      <a:pt x="634" y="32"/>
                    </a:lnTo>
                    <a:lnTo>
                      <a:pt x="635" y="29"/>
                    </a:lnTo>
                    <a:lnTo>
                      <a:pt x="638" y="28"/>
                    </a:lnTo>
                    <a:lnTo>
                      <a:pt x="641" y="22"/>
                    </a:lnTo>
                    <a:lnTo>
                      <a:pt x="645" y="18"/>
                    </a:lnTo>
                    <a:lnTo>
                      <a:pt x="647" y="13"/>
                    </a:lnTo>
                    <a:lnTo>
                      <a:pt x="648" y="12"/>
                    </a:lnTo>
                    <a:lnTo>
                      <a:pt x="650" y="9"/>
                    </a:lnTo>
                    <a:lnTo>
                      <a:pt x="650" y="9"/>
                    </a:lnTo>
                    <a:lnTo>
                      <a:pt x="442" y="0"/>
                    </a:lnTo>
                    <a:lnTo>
                      <a:pt x="442"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303360" y="1743120"/>
                <a:ext cx="1089000" cy="614160"/>
              </a:xfrm>
              <a:custGeom>
                <a:avLst/>
                <a:gdLst/>
                <a:ahLst/>
                <a:rect l="l" t="t" r="r" b="b"/>
                <a:pathLst>
                  <a:path w="1372" h="774">
                    <a:moveTo>
                      <a:pt x="0" y="774"/>
                    </a:moveTo>
                    <a:lnTo>
                      <a:pt x="0" y="773"/>
                    </a:lnTo>
                    <a:lnTo>
                      <a:pt x="0" y="771"/>
                    </a:lnTo>
                    <a:lnTo>
                      <a:pt x="1" y="770"/>
                    </a:lnTo>
                    <a:lnTo>
                      <a:pt x="4" y="767"/>
                    </a:lnTo>
                    <a:lnTo>
                      <a:pt x="6" y="762"/>
                    </a:lnTo>
                    <a:lnTo>
                      <a:pt x="10" y="758"/>
                    </a:lnTo>
                    <a:lnTo>
                      <a:pt x="13" y="752"/>
                    </a:lnTo>
                    <a:lnTo>
                      <a:pt x="18" y="746"/>
                    </a:lnTo>
                    <a:lnTo>
                      <a:pt x="19" y="742"/>
                    </a:lnTo>
                    <a:lnTo>
                      <a:pt x="21" y="739"/>
                    </a:lnTo>
                    <a:lnTo>
                      <a:pt x="24" y="734"/>
                    </a:lnTo>
                    <a:lnTo>
                      <a:pt x="27" y="731"/>
                    </a:lnTo>
                    <a:lnTo>
                      <a:pt x="29" y="727"/>
                    </a:lnTo>
                    <a:lnTo>
                      <a:pt x="32" y="722"/>
                    </a:lnTo>
                    <a:lnTo>
                      <a:pt x="35" y="719"/>
                    </a:lnTo>
                    <a:lnTo>
                      <a:pt x="38" y="715"/>
                    </a:lnTo>
                    <a:lnTo>
                      <a:pt x="41" y="709"/>
                    </a:lnTo>
                    <a:lnTo>
                      <a:pt x="44" y="705"/>
                    </a:lnTo>
                    <a:lnTo>
                      <a:pt x="49" y="700"/>
                    </a:lnTo>
                    <a:lnTo>
                      <a:pt x="52" y="696"/>
                    </a:lnTo>
                    <a:lnTo>
                      <a:pt x="56" y="690"/>
                    </a:lnTo>
                    <a:lnTo>
                      <a:pt x="59" y="685"/>
                    </a:lnTo>
                    <a:lnTo>
                      <a:pt x="64" y="681"/>
                    </a:lnTo>
                    <a:lnTo>
                      <a:pt x="68" y="676"/>
                    </a:lnTo>
                    <a:lnTo>
                      <a:pt x="71" y="670"/>
                    </a:lnTo>
                    <a:lnTo>
                      <a:pt x="75" y="664"/>
                    </a:lnTo>
                    <a:lnTo>
                      <a:pt x="80" y="659"/>
                    </a:lnTo>
                    <a:lnTo>
                      <a:pt x="84" y="654"/>
                    </a:lnTo>
                    <a:lnTo>
                      <a:pt x="89" y="648"/>
                    </a:lnTo>
                    <a:lnTo>
                      <a:pt x="93" y="642"/>
                    </a:lnTo>
                    <a:lnTo>
                      <a:pt x="98" y="636"/>
                    </a:lnTo>
                    <a:lnTo>
                      <a:pt x="104" y="630"/>
                    </a:lnTo>
                    <a:lnTo>
                      <a:pt x="108" y="624"/>
                    </a:lnTo>
                    <a:lnTo>
                      <a:pt x="113" y="618"/>
                    </a:lnTo>
                    <a:lnTo>
                      <a:pt x="117" y="613"/>
                    </a:lnTo>
                    <a:lnTo>
                      <a:pt x="123" y="607"/>
                    </a:lnTo>
                    <a:lnTo>
                      <a:pt x="127" y="601"/>
                    </a:lnTo>
                    <a:lnTo>
                      <a:pt x="133" y="595"/>
                    </a:lnTo>
                    <a:lnTo>
                      <a:pt x="139" y="589"/>
                    </a:lnTo>
                    <a:lnTo>
                      <a:pt x="145" y="583"/>
                    </a:lnTo>
                    <a:lnTo>
                      <a:pt x="150" y="577"/>
                    </a:lnTo>
                    <a:lnTo>
                      <a:pt x="156" y="571"/>
                    </a:lnTo>
                    <a:lnTo>
                      <a:pt x="162" y="565"/>
                    </a:lnTo>
                    <a:lnTo>
                      <a:pt x="167" y="559"/>
                    </a:lnTo>
                    <a:lnTo>
                      <a:pt x="172" y="553"/>
                    </a:lnTo>
                    <a:lnTo>
                      <a:pt x="179" y="547"/>
                    </a:lnTo>
                    <a:lnTo>
                      <a:pt x="185" y="541"/>
                    </a:lnTo>
                    <a:lnTo>
                      <a:pt x="191" y="535"/>
                    </a:lnTo>
                    <a:lnTo>
                      <a:pt x="197" y="529"/>
                    </a:lnTo>
                    <a:lnTo>
                      <a:pt x="205" y="523"/>
                    </a:lnTo>
                    <a:lnTo>
                      <a:pt x="210" y="518"/>
                    </a:lnTo>
                    <a:lnTo>
                      <a:pt x="218" y="512"/>
                    </a:lnTo>
                    <a:lnTo>
                      <a:pt x="224" y="506"/>
                    </a:lnTo>
                    <a:lnTo>
                      <a:pt x="230" y="500"/>
                    </a:lnTo>
                    <a:lnTo>
                      <a:pt x="236" y="495"/>
                    </a:lnTo>
                    <a:lnTo>
                      <a:pt x="243" y="489"/>
                    </a:lnTo>
                    <a:lnTo>
                      <a:pt x="251" y="485"/>
                    </a:lnTo>
                    <a:lnTo>
                      <a:pt x="256" y="479"/>
                    </a:lnTo>
                    <a:lnTo>
                      <a:pt x="264" y="473"/>
                    </a:lnTo>
                    <a:lnTo>
                      <a:pt x="271" y="469"/>
                    </a:lnTo>
                    <a:lnTo>
                      <a:pt x="277" y="463"/>
                    </a:lnTo>
                    <a:lnTo>
                      <a:pt x="285" y="458"/>
                    </a:lnTo>
                    <a:lnTo>
                      <a:pt x="292" y="452"/>
                    </a:lnTo>
                    <a:lnTo>
                      <a:pt x="300" y="448"/>
                    </a:lnTo>
                    <a:lnTo>
                      <a:pt x="305" y="443"/>
                    </a:lnTo>
                    <a:lnTo>
                      <a:pt x="313" y="439"/>
                    </a:lnTo>
                    <a:lnTo>
                      <a:pt x="319" y="434"/>
                    </a:lnTo>
                    <a:lnTo>
                      <a:pt x="326" y="430"/>
                    </a:lnTo>
                    <a:lnTo>
                      <a:pt x="334" y="426"/>
                    </a:lnTo>
                    <a:lnTo>
                      <a:pt x="341" y="421"/>
                    </a:lnTo>
                    <a:lnTo>
                      <a:pt x="348" y="417"/>
                    </a:lnTo>
                    <a:lnTo>
                      <a:pt x="356" y="414"/>
                    </a:lnTo>
                    <a:lnTo>
                      <a:pt x="363" y="409"/>
                    </a:lnTo>
                    <a:lnTo>
                      <a:pt x="369" y="405"/>
                    </a:lnTo>
                    <a:lnTo>
                      <a:pt x="377" y="400"/>
                    </a:lnTo>
                    <a:lnTo>
                      <a:pt x="383" y="396"/>
                    </a:lnTo>
                    <a:lnTo>
                      <a:pt x="390" y="393"/>
                    </a:lnTo>
                    <a:lnTo>
                      <a:pt x="396" y="388"/>
                    </a:lnTo>
                    <a:lnTo>
                      <a:pt x="403" y="385"/>
                    </a:lnTo>
                    <a:lnTo>
                      <a:pt x="411" y="383"/>
                    </a:lnTo>
                    <a:lnTo>
                      <a:pt x="417" y="378"/>
                    </a:lnTo>
                    <a:lnTo>
                      <a:pt x="424" y="375"/>
                    </a:lnTo>
                    <a:lnTo>
                      <a:pt x="430" y="371"/>
                    </a:lnTo>
                    <a:lnTo>
                      <a:pt x="438" y="369"/>
                    </a:lnTo>
                    <a:lnTo>
                      <a:pt x="443" y="365"/>
                    </a:lnTo>
                    <a:lnTo>
                      <a:pt x="449" y="362"/>
                    </a:lnTo>
                    <a:lnTo>
                      <a:pt x="455" y="359"/>
                    </a:lnTo>
                    <a:lnTo>
                      <a:pt x="463" y="357"/>
                    </a:lnTo>
                    <a:lnTo>
                      <a:pt x="467" y="353"/>
                    </a:lnTo>
                    <a:lnTo>
                      <a:pt x="473" y="350"/>
                    </a:lnTo>
                    <a:lnTo>
                      <a:pt x="479" y="347"/>
                    </a:lnTo>
                    <a:lnTo>
                      <a:pt x="485" y="345"/>
                    </a:lnTo>
                    <a:lnTo>
                      <a:pt x="489" y="342"/>
                    </a:lnTo>
                    <a:lnTo>
                      <a:pt x="495" y="339"/>
                    </a:lnTo>
                    <a:lnTo>
                      <a:pt x="501" y="338"/>
                    </a:lnTo>
                    <a:lnTo>
                      <a:pt x="507" y="337"/>
                    </a:lnTo>
                    <a:lnTo>
                      <a:pt x="512" y="334"/>
                    </a:lnTo>
                    <a:lnTo>
                      <a:pt x="516" y="331"/>
                    </a:lnTo>
                    <a:lnTo>
                      <a:pt x="521" y="329"/>
                    </a:lnTo>
                    <a:lnTo>
                      <a:pt x="525" y="328"/>
                    </a:lnTo>
                    <a:lnTo>
                      <a:pt x="530" y="326"/>
                    </a:lnTo>
                    <a:lnTo>
                      <a:pt x="534" y="325"/>
                    </a:lnTo>
                    <a:lnTo>
                      <a:pt x="538" y="323"/>
                    </a:lnTo>
                    <a:lnTo>
                      <a:pt x="541" y="322"/>
                    </a:lnTo>
                    <a:lnTo>
                      <a:pt x="546" y="320"/>
                    </a:lnTo>
                    <a:lnTo>
                      <a:pt x="549" y="319"/>
                    </a:lnTo>
                    <a:lnTo>
                      <a:pt x="552" y="317"/>
                    </a:lnTo>
                    <a:lnTo>
                      <a:pt x="555" y="316"/>
                    </a:lnTo>
                    <a:lnTo>
                      <a:pt x="561" y="314"/>
                    </a:lnTo>
                    <a:lnTo>
                      <a:pt x="565" y="313"/>
                    </a:lnTo>
                    <a:lnTo>
                      <a:pt x="568" y="311"/>
                    </a:lnTo>
                    <a:lnTo>
                      <a:pt x="571" y="310"/>
                    </a:lnTo>
                    <a:lnTo>
                      <a:pt x="573" y="310"/>
                    </a:lnTo>
                    <a:lnTo>
                      <a:pt x="574" y="310"/>
                    </a:lnTo>
                    <a:lnTo>
                      <a:pt x="574" y="310"/>
                    </a:lnTo>
                    <a:lnTo>
                      <a:pt x="576" y="308"/>
                    </a:lnTo>
                    <a:lnTo>
                      <a:pt x="577" y="305"/>
                    </a:lnTo>
                    <a:lnTo>
                      <a:pt x="581" y="304"/>
                    </a:lnTo>
                    <a:lnTo>
                      <a:pt x="586" y="299"/>
                    </a:lnTo>
                    <a:lnTo>
                      <a:pt x="592" y="295"/>
                    </a:lnTo>
                    <a:lnTo>
                      <a:pt x="595" y="293"/>
                    </a:lnTo>
                    <a:lnTo>
                      <a:pt x="598" y="291"/>
                    </a:lnTo>
                    <a:lnTo>
                      <a:pt x="602" y="288"/>
                    </a:lnTo>
                    <a:lnTo>
                      <a:pt x="607" y="286"/>
                    </a:lnTo>
                    <a:lnTo>
                      <a:pt x="610" y="282"/>
                    </a:lnTo>
                    <a:lnTo>
                      <a:pt x="614" y="279"/>
                    </a:lnTo>
                    <a:lnTo>
                      <a:pt x="619" y="276"/>
                    </a:lnTo>
                    <a:lnTo>
                      <a:pt x="624" y="273"/>
                    </a:lnTo>
                    <a:lnTo>
                      <a:pt x="627" y="270"/>
                    </a:lnTo>
                    <a:lnTo>
                      <a:pt x="633" y="265"/>
                    </a:lnTo>
                    <a:lnTo>
                      <a:pt x="639" y="262"/>
                    </a:lnTo>
                    <a:lnTo>
                      <a:pt x="645" y="259"/>
                    </a:lnTo>
                    <a:lnTo>
                      <a:pt x="650" y="255"/>
                    </a:lnTo>
                    <a:lnTo>
                      <a:pt x="656" y="250"/>
                    </a:lnTo>
                    <a:lnTo>
                      <a:pt x="662" y="246"/>
                    </a:lnTo>
                    <a:lnTo>
                      <a:pt x="669" y="243"/>
                    </a:lnTo>
                    <a:lnTo>
                      <a:pt x="673" y="239"/>
                    </a:lnTo>
                    <a:lnTo>
                      <a:pt x="681" y="234"/>
                    </a:lnTo>
                    <a:lnTo>
                      <a:pt x="688" y="230"/>
                    </a:lnTo>
                    <a:lnTo>
                      <a:pt x="696" y="225"/>
                    </a:lnTo>
                    <a:lnTo>
                      <a:pt x="702" y="221"/>
                    </a:lnTo>
                    <a:lnTo>
                      <a:pt x="708" y="216"/>
                    </a:lnTo>
                    <a:lnTo>
                      <a:pt x="715" y="212"/>
                    </a:lnTo>
                    <a:lnTo>
                      <a:pt x="722" y="207"/>
                    </a:lnTo>
                    <a:lnTo>
                      <a:pt x="730" y="203"/>
                    </a:lnTo>
                    <a:lnTo>
                      <a:pt x="737" y="199"/>
                    </a:lnTo>
                    <a:lnTo>
                      <a:pt x="746" y="193"/>
                    </a:lnTo>
                    <a:lnTo>
                      <a:pt x="754" y="188"/>
                    </a:lnTo>
                    <a:lnTo>
                      <a:pt x="761" y="184"/>
                    </a:lnTo>
                    <a:lnTo>
                      <a:pt x="770" y="179"/>
                    </a:lnTo>
                    <a:lnTo>
                      <a:pt x="777" y="173"/>
                    </a:lnTo>
                    <a:lnTo>
                      <a:pt x="786" y="169"/>
                    </a:lnTo>
                    <a:lnTo>
                      <a:pt x="795" y="164"/>
                    </a:lnTo>
                    <a:lnTo>
                      <a:pt x="804" y="160"/>
                    </a:lnTo>
                    <a:lnTo>
                      <a:pt x="811" y="155"/>
                    </a:lnTo>
                    <a:lnTo>
                      <a:pt x="820" y="151"/>
                    </a:lnTo>
                    <a:lnTo>
                      <a:pt x="829" y="147"/>
                    </a:lnTo>
                    <a:lnTo>
                      <a:pt x="838" y="142"/>
                    </a:lnTo>
                    <a:lnTo>
                      <a:pt x="846" y="136"/>
                    </a:lnTo>
                    <a:lnTo>
                      <a:pt x="856" y="132"/>
                    </a:lnTo>
                    <a:lnTo>
                      <a:pt x="865" y="127"/>
                    </a:lnTo>
                    <a:lnTo>
                      <a:pt x="874" y="123"/>
                    </a:lnTo>
                    <a:lnTo>
                      <a:pt x="883" y="118"/>
                    </a:lnTo>
                    <a:lnTo>
                      <a:pt x="893" y="114"/>
                    </a:lnTo>
                    <a:lnTo>
                      <a:pt x="902" y="109"/>
                    </a:lnTo>
                    <a:lnTo>
                      <a:pt x="911" y="105"/>
                    </a:lnTo>
                    <a:lnTo>
                      <a:pt x="920" y="102"/>
                    </a:lnTo>
                    <a:lnTo>
                      <a:pt x="930" y="98"/>
                    </a:lnTo>
                    <a:lnTo>
                      <a:pt x="939" y="93"/>
                    </a:lnTo>
                    <a:lnTo>
                      <a:pt x="948" y="90"/>
                    </a:lnTo>
                    <a:lnTo>
                      <a:pt x="957" y="86"/>
                    </a:lnTo>
                    <a:lnTo>
                      <a:pt x="967" y="83"/>
                    </a:lnTo>
                    <a:lnTo>
                      <a:pt x="976" y="80"/>
                    </a:lnTo>
                    <a:lnTo>
                      <a:pt x="987" y="75"/>
                    </a:lnTo>
                    <a:lnTo>
                      <a:pt x="995" y="71"/>
                    </a:lnTo>
                    <a:lnTo>
                      <a:pt x="1004" y="68"/>
                    </a:lnTo>
                    <a:lnTo>
                      <a:pt x="1013" y="65"/>
                    </a:lnTo>
                    <a:lnTo>
                      <a:pt x="1024" y="62"/>
                    </a:lnTo>
                    <a:lnTo>
                      <a:pt x="1033" y="59"/>
                    </a:lnTo>
                    <a:lnTo>
                      <a:pt x="1041" y="56"/>
                    </a:lnTo>
                    <a:lnTo>
                      <a:pt x="1050" y="53"/>
                    </a:lnTo>
                    <a:lnTo>
                      <a:pt x="1059" y="52"/>
                    </a:lnTo>
                    <a:lnTo>
                      <a:pt x="1070" y="49"/>
                    </a:lnTo>
                    <a:lnTo>
                      <a:pt x="1079" y="46"/>
                    </a:lnTo>
                    <a:lnTo>
                      <a:pt x="1087" y="43"/>
                    </a:lnTo>
                    <a:lnTo>
                      <a:pt x="1096" y="41"/>
                    </a:lnTo>
                    <a:lnTo>
                      <a:pt x="1105" y="38"/>
                    </a:lnTo>
                    <a:lnTo>
                      <a:pt x="1114" y="37"/>
                    </a:lnTo>
                    <a:lnTo>
                      <a:pt x="1123" y="34"/>
                    </a:lnTo>
                    <a:lnTo>
                      <a:pt x="1132" y="32"/>
                    </a:lnTo>
                    <a:lnTo>
                      <a:pt x="1139" y="31"/>
                    </a:lnTo>
                    <a:lnTo>
                      <a:pt x="1150" y="29"/>
                    </a:lnTo>
                    <a:lnTo>
                      <a:pt x="1157" y="26"/>
                    </a:lnTo>
                    <a:lnTo>
                      <a:pt x="1166" y="25"/>
                    </a:lnTo>
                    <a:lnTo>
                      <a:pt x="1173" y="23"/>
                    </a:lnTo>
                    <a:lnTo>
                      <a:pt x="1182" y="22"/>
                    </a:lnTo>
                    <a:lnTo>
                      <a:pt x="1190" y="20"/>
                    </a:lnTo>
                    <a:lnTo>
                      <a:pt x="1199" y="19"/>
                    </a:lnTo>
                    <a:lnTo>
                      <a:pt x="1206" y="17"/>
                    </a:lnTo>
                    <a:lnTo>
                      <a:pt x="1215" y="16"/>
                    </a:lnTo>
                    <a:lnTo>
                      <a:pt x="1222" y="15"/>
                    </a:lnTo>
                    <a:lnTo>
                      <a:pt x="1230" y="15"/>
                    </a:lnTo>
                    <a:lnTo>
                      <a:pt x="1237" y="13"/>
                    </a:lnTo>
                    <a:lnTo>
                      <a:pt x="1245" y="13"/>
                    </a:lnTo>
                    <a:lnTo>
                      <a:pt x="1251" y="12"/>
                    </a:lnTo>
                    <a:lnTo>
                      <a:pt x="1258" y="10"/>
                    </a:lnTo>
                    <a:lnTo>
                      <a:pt x="1264" y="9"/>
                    </a:lnTo>
                    <a:lnTo>
                      <a:pt x="1271" y="9"/>
                    </a:lnTo>
                    <a:lnTo>
                      <a:pt x="1277" y="7"/>
                    </a:lnTo>
                    <a:lnTo>
                      <a:pt x="1283" y="7"/>
                    </a:lnTo>
                    <a:lnTo>
                      <a:pt x="1289" y="6"/>
                    </a:lnTo>
                    <a:lnTo>
                      <a:pt x="1297" y="6"/>
                    </a:lnTo>
                    <a:lnTo>
                      <a:pt x="1301" y="4"/>
                    </a:lnTo>
                    <a:lnTo>
                      <a:pt x="1307" y="4"/>
                    </a:lnTo>
                    <a:lnTo>
                      <a:pt x="1313" y="3"/>
                    </a:lnTo>
                    <a:lnTo>
                      <a:pt x="1319" y="3"/>
                    </a:lnTo>
                    <a:lnTo>
                      <a:pt x="1323" y="3"/>
                    </a:lnTo>
                    <a:lnTo>
                      <a:pt x="1328" y="3"/>
                    </a:lnTo>
                    <a:lnTo>
                      <a:pt x="1332" y="3"/>
                    </a:lnTo>
                    <a:lnTo>
                      <a:pt x="1337" y="3"/>
                    </a:lnTo>
                    <a:lnTo>
                      <a:pt x="1341" y="1"/>
                    </a:lnTo>
                    <a:lnTo>
                      <a:pt x="1344" y="1"/>
                    </a:lnTo>
                    <a:lnTo>
                      <a:pt x="1349" y="0"/>
                    </a:lnTo>
                    <a:lnTo>
                      <a:pt x="1352" y="0"/>
                    </a:lnTo>
                    <a:lnTo>
                      <a:pt x="1357" y="0"/>
                    </a:lnTo>
                    <a:lnTo>
                      <a:pt x="1363" y="0"/>
                    </a:lnTo>
                    <a:lnTo>
                      <a:pt x="1366" y="0"/>
                    </a:lnTo>
                    <a:lnTo>
                      <a:pt x="1369" y="0"/>
                    </a:lnTo>
                    <a:lnTo>
                      <a:pt x="1371" y="0"/>
                    </a:lnTo>
                    <a:lnTo>
                      <a:pt x="1372" y="0"/>
                    </a:lnTo>
                    <a:lnTo>
                      <a:pt x="1371" y="0"/>
                    </a:lnTo>
                    <a:lnTo>
                      <a:pt x="1369" y="0"/>
                    </a:lnTo>
                    <a:lnTo>
                      <a:pt x="1366" y="1"/>
                    </a:lnTo>
                    <a:lnTo>
                      <a:pt x="1363" y="3"/>
                    </a:lnTo>
                    <a:lnTo>
                      <a:pt x="1357" y="3"/>
                    </a:lnTo>
                    <a:lnTo>
                      <a:pt x="1353" y="4"/>
                    </a:lnTo>
                    <a:lnTo>
                      <a:pt x="1349" y="4"/>
                    </a:lnTo>
                    <a:lnTo>
                      <a:pt x="1346" y="6"/>
                    </a:lnTo>
                    <a:lnTo>
                      <a:pt x="1343" y="7"/>
                    </a:lnTo>
                    <a:lnTo>
                      <a:pt x="1340" y="7"/>
                    </a:lnTo>
                    <a:lnTo>
                      <a:pt x="1335" y="9"/>
                    </a:lnTo>
                    <a:lnTo>
                      <a:pt x="1331" y="10"/>
                    </a:lnTo>
                    <a:lnTo>
                      <a:pt x="1326" y="10"/>
                    </a:lnTo>
                    <a:lnTo>
                      <a:pt x="1322" y="12"/>
                    </a:lnTo>
                    <a:lnTo>
                      <a:pt x="1316" y="13"/>
                    </a:lnTo>
                    <a:lnTo>
                      <a:pt x="1311" y="15"/>
                    </a:lnTo>
                    <a:lnTo>
                      <a:pt x="1307" y="16"/>
                    </a:lnTo>
                    <a:lnTo>
                      <a:pt x="1301" y="17"/>
                    </a:lnTo>
                    <a:lnTo>
                      <a:pt x="1295" y="19"/>
                    </a:lnTo>
                    <a:lnTo>
                      <a:pt x="1289" y="20"/>
                    </a:lnTo>
                    <a:lnTo>
                      <a:pt x="1283" y="22"/>
                    </a:lnTo>
                    <a:lnTo>
                      <a:pt x="1277" y="23"/>
                    </a:lnTo>
                    <a:lnTo>
                      <a:pt x="1271" y="26"/>
                    </a:lnTo>
                    <a:lnTo>
                      <a:pt x="1265" y="28"/>
                    </a:lnTo>
                    <a:lnTo>
                      <a:pt x="1260" y="29"/>
                    </a:lnTo>
                    <a:lnTo>
                      <a:pt x="1254" y="32"/>
                    </a:lnTo>
                    <a:lnTo>
                      <a:pt x="1246" y="34"/>
                    </a:lnTo>
                    <a:lnTo>
                      <a:pt x="1239" y="35"/>
                    </a:lnTo>
                    <a:lnTo>
                      <a:pt x="1231" y="37"/>
                    </a:lnTo>
                    <a:lnTo>
                      <a:pt x="1225" y="40"/>
                    </a:lnTo>
                    <a:lnTo>
                      <a:pt x="1218" y="41"/>
                    </a:lnTo>
                    <a:lnTo>
                      <a:pt x="1211" y="44"/>
                    </a:lnTo>
                    <a:lnTo>
                      <a:pt x="1203" y="47"/>
                    </a:lnTo>
                    <a:lnTo>
                      <a:pt x="1196" y="49"/>
                    </a:lnTo>
                    <a:lnTo>
                      <a:pt x="1187" y="52"/>
                    </a:lnTo>
                    <a:lnTo>
                      <a:pt x="1179" y="55"/>
                    </a:lnTo>
                    <a:lnTo>
                      <a:pt x="1171" y="56"/>
                    </a:lnTo>
                    <a:lnTo>
                      <a:pt x="1163" y="61"/>
                    </a:lnTo>
                    <a:lnTo>
                      <a:pt x="1156" y="62"/>
                    </a:lnTo>
                    <a:lnTo>
                      <a:pt x="1147" y="65"/>
                    </a:lnTo>
                    <a:lnTo>
                      <a:pt x="1139" y="68"/>
                    </a:lnTo>
                    <a:lnTo>
                      <a:pt x="1132" y="71"/>
                    </a:lnTo>
                    <a:lnTo>
                      <a:pt x="1123" y="74"/>
                    </a:lnTo>
                    <a:lnTo>
                      <a:pt x="1114" y="77"/>
                    </a:lnTo>
                    <a:lnTo>
                      <a:pt x="1105" y="80"/>
                    </a:lnTo>
                    <a:lnTo>
                      <a:pt x="1098" y="84"/>
                    </a:lnTo>
                    <a:lnTo>
                      <a:pt x="1089" y="87"/>
                    </a:lnTo>
                    <a:lnTo>
                      <a:pt x="1080" y="90"/>
                    </a:lnTo>
                    <a:lnTo>
                      <a:pt x="1071" y="95"/>
                    </a:lnTo>
                    <a:lnTo>
                      <a:pt x="1064" y="98"/>
                    </a:lnTo>
                    <a:lnTo>
                      <a:pt x="1055" y="102"/>
                    </a:lnTo>
                    <a:lnTo>
                      <a:pt x="1046" y="105"/>
                    </a:lnTo>
                    <a:lnTo>
                      <a:pt x="1037" y="109"/>
                    </a:lnTo>
                    <a:lnTo>
                      <a:pt x="1028" y="112"/>
                    </a:lnTo>
                    <a:lnTo>
                      <a:pt x="1019" y="117"/>
                    </a:lnTo>
                    <a:lnTo>
                      <a:pt x="1010" y="120"/>
                    </a:lnTo>
                    <a:lnTo>
                      <a:pt x="1001" y="124"/>
                    </a:lnTo>
                    <a:lnTo>
                      <a:pt x="994" y="129"/>
                    </a:lnTo>
                    <a:lnTo>
                      <a:pt x="984" y="132"/>
                    </a:lnTo>
                    <a:lnTo>
                      <a:pt x="975" y="136"/>
                    </a:lnTo>
                    <a:lnTo>
                      <a:pt x="966" y="141"/>
                    </a:lnTo>
                    <a:lnTo>
                      <a:pt x="957" y="145"/>
                    </a:lnTo>
                    <a:lnTo>
                      <a:pt x="948" y="150"/>
                    </a:lnTo>
                    <a:lnTo>
                      <a:pt x="939" y="154"/>
                    </a:lnTo>
                    <a:lnTo>
                      <a:pt x="932" y="158"/>
                    </a:lnTo>
                    <a:lnTo>
                      <a:pt x="923" y="163"/>
                    </a:lnTo>
                    <a:lnTo>
                      <a:pt x="912" y="167"/>
                    </a:lnTo>
                    <a:lnTo>
                      <a:pt x="905" y="172"/>
                    </a:lnTo>
                    <a:lnTo>
                      <a:pt x="896" y="176"/>
                    </a:lnTo>
                    <a:lnTo>
                      <a:pt x="887" y="181"/>
                    </a:lnTo>
                    <a:lnTo>
                      <a:pt x="878" y="185"/>
                    </a:lnTo>
                    <a:lnTo>
                      <a:pt x="871" y="191"/>
                    </a:lnTo>
                    <a:lnTo>
                      <a:pt x="862" y="196"/>
                    </a:lnTo>
                    <a:lnTo>
                      <a:pt x="854" y="200"/>
                    </a:lnTo>
                    <a:lnTo>
                      <a:pt x="846" y="203"/>
                    </a:lnTo>
                    <a:lnTo>
                      <a:pt x="838" y="209"/>
                    </a:lnTo>
                    <a:lnTo>
                      <a:pt x="829" y="213"/>
                    </a:lnTo>
                    <a:lnTo>
                      <a:pt x="822" y="218"/>
                    </a:lnTo>
                    <a:lnTo>
                      <a:pt x="814" y="222"/>
                    </a:lnTo>
                    <a:lnTo>
                      <a:pt x="806" y="227"/>
                    </a:lnTo>
                    <a:lnTo>
                      <a:pt x="798" y="231"/>
                    </a:lnTo>
                    <a:lnTo>
                      <a:pt x="791" y="236"/>
                    </a:lnTo>
                    <a:lnTo>
                      <a:pt x="783" y="240"/>
                    </a:lnTo>
                    <a:lnTo>
                      <a:pt x="776" y="245"/>
                    </a:lnTo>
                    <a:lnTo>
                      <a:pt x="768" y="249"/>
                    </a:lnTo>
                    <a:lnTo>
                      <a:pt x="762" y="253"/>
                    </a:lnTo>
                    <a:lnTo>
                      <a:pt x="755" y="258"/>
                    </a:lnTo>
                    <a:lnTo>
                      <a:pt x="748" y="262"/>
                    </a:lnTo>
                    <a:lnTo>
                      <a:pt x="742" y="267"/>
                    </a:lnTo>
                    <a:lnTo>
                      <a:pt x="736" y="271"/>
                    </a:lnTo>
                    <a:lnTo>
                      <a:pt x="728" y="274"/>
                    </a:lnTo>
                    <a:lnTo>
                      <a:pt x="721" y="279"/>
                    </a:lnTo>
                    <a:lnTo>
                      <a:pt x="715" y="282"/>
                    </a:lnTo>
                    <a:lnTo>
                      <a:pt x="709" y="286"/>
                    </a:lnTo>
                    <a:lnTo>
                      <a:pt x="703" y="291"/>
                    </a:lnTo>
                    <a:lnTo>
                      <a:pt x="697" y="293"/>
                    </a:lnTo>
                    <a:lnTo>
                      <a:pt x="691" y="298"/>
                    </a:lnTo>
                    <a:lnTo>
                      <a:pt x="687" y="301"/>
                    </a:lnTo>
                    <a:lnTo>
                      <a:pt x="681" y="304"/>
                    </a:lnTo>
                    <a:lnTo>
                      <a:pt x="676" y="308"/>
                    </a:lnTo>
                    <a:lnTo>
                      <a:pt x="672" y="311"/>
                    </a:lnTo>
                    <a:lnTo>
                      <a:pt x="668" y="314"/>
                    </a:lnTo>
                    <a:lnTo>
                      <a:pt x="662" y="317"/>
                    </a:lnTo>
                    <a:lnTo>
                      <a:pt x="659" y="320"/>
                    </a:lnTo>
                    <a:lnTo>
                      <a:pt x="654" y="323"/>
                    </a:lnTo>
                    <a:lnTo>
                      <a:pt x="651" y="326"/>
                    </a:lnTo>
                    <a:lnTo>
                      <a:pt x="647" y="328"/>
                    </a:lnTo>
                    <a:lnTo>
                      <a:pt x="642" y="331"/>
                    </a:lnTo>
                    <a:lnTo>
                      <a:pt x="639" y="332"/>
                    </a:lnTo>
                    <a:lnTo>
                      <a:pt x="636" y="335"/>
                    </a:lnTo>
                    <a:lnTo>
                      <a:pt x="632" y="338"/>
                    </a:lnTo>
                    <a:lnTo>
                      <a:pt x="627" y="342"/>
                    </a:lnTo>
                    <a:lnTo>
                      <a:pt x="623" y="344"/>
                    </a:lnTo>
                    <a:lnTo>
                      <a:pt x="622" y="347"/>
                    </a:lnTo>
                    <a:lnTo>
                      <a:pt x="620" y="348"/>
                    </a:lnTo>
                    <a:lnTo>
                      <a:pt x="620" y="348"/>
                    </a:lnTo>
                    <a:lnTo>
                      <a:pt x="619" y="348"/>
                    </a:lnTo>
                    <a:lnTo>
                      <a:pt x="617" y="350"/>
                    </a:lnTo>
                    <a:lnTo>
                      <a:pt x="614" y="350"/>
                    </a:lnTo>
                    <a:lnTo>
                      <a:pt x="611" y="351"/>
                    </a:lnTo>
                    <a:lnTo>
                      <a:pt x="605" y="353"/>
                    </a:lnTo>
                    <a:lnTo>
                      <a:pt x="601" y="356"/>
                    </a:lnTo>
                    <a:lnTo>
                      <a:pt x="598" y="356"/>
                    </a:lnTo>
                    <a:lnTo>
                      <a:pt x="593" y="357"/>
                    </a:lnTo>
                    <a:lnTo>
                      <a:pt x="590" y="359"/>
                    </a:lnTo>
                    <a:lnTo>
                      <a:pt x="587" y="362"/>
                    </a:lnTo>
                    <a:lnTo>
                      <a:pt x="583" y="362"/>
                    </a:lnTo>
                    <a:lnTo>
                      <a:pt x="578" y="365"/>
                    </a:lnTo>
                    <a:lnTo>
                      <a:pt x="576" y="366"/>
                    </a:lnTo>
                    <a:lnTo>
                      <a:pt x="571" y="368"/>
                    </a:lnTo>
                    <a:lnTo>
                      <a:pt x="565" y="369"/>
                    </a:lnTo>
                    <a:lnTo>
                      <a:pt x="561" y="372"/>
                    </a:lnTo>
                    <a:lnTo>
                      <a:pt x="556" y="374"/>
                    </a:lnTo>
                    <a:lnTo>
                      <a:pt x="552" y="377"/>
                    </a:lnTo>
                    <a:lnTo>
                      <a:pt x="546" y="378"/>
                    </a:lnTo>
                    <a:lnTo>
                      <a:pt x="540" y="381"/>
                    </a:lnTo>
                    <a:lnTo>
                      <a:pt x="534" y="384"/>
                    </a:lnTo>
                    <a:lnTo>
                      <a:pt x="530" y="387"/>
                    </a:lnTo>
                    <a:lnTo>
                      <a:pt x="524" y="388"/>
                    </a:lnTo>
                    <a:lnTo>
                      <a:pt x="518" y="391"/>
                    </a:lnTo>
                    <a:lnTo>
                      <a:pt x="512" y="394"/>
                    </a:lnTo>
                    <a:lnTo>
                      <a:pt x="506" y="399"/>
                    </a:lnTo>
                    <a:lnTo>
                      <a:pt x="500" y="400"/>
                    </a:lnTo>
                    <a:lnTo>
                      <a:pt x="494" y="403"/>
                    </a:lnTo>
                    <a:lnTo>
                      <a:pt x="486" y="406"/>
                    </a:lnTo>
                    <a:lnTo>
                      <a:pt x="481" y="411"/>
                    </a:lnTo>
                    <a:lnTo>
                      <a:pt x="473" y="414"/>
                    </a:lnTo>
                    <a:lnTo>
                      <a:pt x="467" y="417"/>
                    </a:lnTo>
                    <a:lnTo>
                      <a:pt x="460" y="421"/>
                    </a:lnTo>
                    <a:lnTo>
                      <a:pt x="452" y="424"/>
                    </a:lnTo>
                    <a:lnTo>
                      <a:pt x="445" y="429"/>
                    </a:lnTo>
                    <a:lnTo>
                      <a:pt x="439" y="431"/>
                    </a:lnTo>
                    <a:lnTo>
                      <a:pt x="432" y="436"/>
                    </a:lnTo>
                    <a:lnTo>
                      <a:pt x="424" y="439"/>
                    </a:lnTo>
                    <a:lnTo>
                      <a:pt x="417" y="443"/>
                    </a:lnTo>
                    <a:lnTo>
                      <a:pt x="409" y="446"/>
                    </a:lnTo>
                    <a:lnTo>
                      <a:pt x="402" y="451"/>
                    </a:lnTo>
                    <a:lnTo>
                      <a:pt x="396" y="455"/>
                    </a:lnTo>
                    <a:lnTo>
                      <a:pt x="389" y="460"/>
                    </a:lnTo>
                    <a:lnTo>
                      <a:pt x="381" y="463"/>
                    </a:lnTo>
                    <a:lnTo>
                      <a:pt x="374" y="467"/>
                    </a:lnTo>
                    <a:lnTo>
                      <a:pt x="366" y="472"/>
                    </a:lnTo>
                    <a:lnTo>
                      <a:pt x="359" y="476"/>
                    </a:lnTo>
                    <a:lnTo>
                      <a:pt x="351" y="480"/>
                    </a:lnTo>
                    <a:lnTo>
                      <a:pt x="344" y="485"/>
                    </a:lnTo>
                    <a:lnTo>
                      <a:pt x="337" y="489"/>
                    </a:lnTo>
                    <a:lnTo>
                      <a:pt x="328" y="494"/>
                    </a:lnTo>
                    <a:lnTo>
                      <a:pt x="320" y="498"/>
                    </a:lnTo>
                    <a:lnTo>
                      <a:pt x="313" y="503"/>
                    </a:lnTo>
                    <a:lnTo>
                      <a:pt x="305" y="507"/>
                    </a:lnTo>
                    <a:lnTo>
                      <a:pt x="298" y="513"/>
                    </a:lnTo>
                    <a:lnTo>
                      <a:pt x="291" y="518"/>
                    </a:lnTo>
                    <a:lnTo>
                      <a:pt x="283" y="522"/>
                    </a:lnTo>
                    <a:lnTo>
                      <a:pt x="277" y="528"/>
                    </a:lnTo>
                    <a:lnTo>
                      <a:pt x="270" y="532"/>
                    </a:lnTo>
                    <a:lnTo>
                      <a:pt x="262" y="538"/>
                    </a:lnTo>
                    <a:lnTo>
                      <a:pt x="255" y="543"/>
                    </a:lnTo>
                    <a:lnTo>
                      <a:pt x="248" y="549"/>
                    </a:lnTo>
                    <a:lnTo>
                      <a:pt x="240" y="553"/>
                    </a:lnTo>
                    <a:lnTo>
                      <a:pt x="233" y="558"/>
                    </a:lnTo>
                    <a:lnTo>
                      <a:pt x="227" y="564"/>
                    </a:lnTo>
                    <a:lnTo>
                      <a:pt x="219" y="569"/>
                    </a:lnTo>
                    <a:lnTo>
                      <a:pt x="212" y="574"/>
                    </a:lnTo>
                    <a:lnTo>
                      <a:pt x="206" y="580"/>
                    </a:lnTo>
                    <a:lnTo>
                      <a:pt x="199" y="584"/>
                    </a:lnTo>
                    <a:lnTo>
                      <a:pt x="193" y="590"/>
                    </a:lnTo>
                    <a:lnTo>
                      <a:pt x="187" y="595"/>
                    </a:lnTo>
                    <a:lnTo>
                      <a:pt x="179" y="601"/>
                    </a:lnTo>
                    <a:lnTo>
                      <a:pt x="173" y="605"/>
                    </a:lnTo>
                    <a:lnTo>
                      <a:pt x="167" y="611"/>
                    </a:lnTo>
                    <a:lnTo>
                      <a:pt x="162" y="617"/>
                    </a:lnTo>
                    <a:lnTo>
                      <a:pt x="154" y="621"/>
                    </a:lnTo>
                    <a:lnTo>
                      <a:pt x="148" y="626"/>
                    </a:lnTo>
                    <a:lnTo>
                      <a:pt x="142" y="632"/>
                    </a:lnTo>
                    <a:lnTo>
                      <a:pt x="138" y="636"/>
                    </a:lnTo>
                    <a:lnTo>
                      <a:pt x="132" y="642"/>
                    </a:lnTo>
                    <a:lnTo>
                      <a:pt x="126" y="647"/>
                    </a:lnTo>
                    <a:lnTo>
                      <a:pt x="120" y="653"/>
                    </a:lnTo>
                    <a:lnTo>
                      <a:pt x="116" y="657"/>
                    </a:lnTo>
                    <a:lnTo>
                      <a:pt x="110" y="663"/>
                    </a:lnTo>
                    <a:lnTo>
                      <a:pt x="105" y="666"/>
                    </a:lnTo>
                    <a:lnTo>
                      <a:pt x="99" y="672"/>
                    </a:lnTo>
                    <a:lnTo>
                      <a:pt x="93" y="676"/>
                    </a:lnTo>
                    <a:lnTo>
                      <a:pt x="90" y="681"/>
                    </a:lnTo>
                    <a:lnTo>
                      <a:pt x="84" y="687"/>
                    </a:lnTo>
                    <a:lnTo>
                      <a:pt x="80" y="691"/>
                    </a:lnTo>
                    <a:lnTo>
                      <a:pt x="75" y="696"/>
                    </a:lnTo>
                    <a:lnTo>
                      <a:pt x="71" y="700"/>
                    </a:lnTo>
                    <a:lnTo>
                      <a:pt x="65" y="705"/>
                    </a:lnTo>
                    <a:lnTo>
                      <a:pt x="62" y="707"/>
                    </a:lnTo>
                    <a:lnTo>
                      <a:pt x="58" y="712"/>
                    </a:lnTo>
                    <a:lnTo>
                      <a:pt x="53" y="716"/>
                    </a:lnTo>
                    <a:lnTo>
                      <a:pt x="50" y="719"/>
                    </a:lnTo>
                    <a:lnTo>
                      <a:pt x="46" y="724"/>
                    </a:lnTo>
                    <a:lnTo>
                      <a:pt x="43" y="727"/>
                    </a:lnTo>
                    <a:lnTo>
                      <a:pt x="38" y="731"/>
                    </a:lnTo>
                    <a:lnTo>
                      <a:pt x="35" y="734"/>
                    </a:lnTo>
                    <a:lnTo>
                      <a:pt x="32" y="737"/>
                    </a:lnTo>
                    <a:lnTo>
                      <a:pt x="27" y="745"/>
                    </a:lnTo>
                    <a:lnTo>
                      <a:pt x="21" y="751"/>
                    </a:lnTo>
                    <a:lnTo>
                      <a:pt x="15" y="755"/>
                    </a:lnTo>
                    <a:lnTo>
                      <a:pt x="12" y="759"/>
                    </a:lnTo>
                    <a:lnTo>
                      <a:pt x="7" y="764"/>
                    </a:lnTo>
                    <a:lnTo>
                      <a:pt x="4" y="768"/>
                    </a:lnTo>
                    <a:lnTo>
                      <a:pt x="1" y="773"/>
                    </a:lnTo>
                    <a:lnTo>
                      <a:pt x="0" y="774"/>
                    </a:lnTo>
                    <a:lnTo>
                      <a:pt x="0" y="77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948120" y="1757520"/>
                <a:ext cx="444240" cy="307800"/>
              </a:xfrm>
              <a:custGeom>
                <a:avLst/>
                <a:gdLst/>
                <a:ahLst/>
                <a:rect l="l" t="t" r="r" b="b"/>
                <a:pathLst>
                  <a:path w="561" h="387">
                    <a:moveTo>
                      <a:pt x="557" y="0"/>
                    </a:moveTo>
                    <a:lnTo>
                      <a:pt x="555" y="0"/>
                    </a:lnTo>
                    <a:lnTo>
                      <a:pt x="555" y="1"/>
                    </a:lnTo>
                    <a:lnTo>
                      <a:pt x="555" y="3"/>
                    </a:lnTo>
                    <a:lnTo>
                      <a:pt x="554" y="7"/>
                    </a:lnTo>
                    <a:lnTo>
                      <a:pt x="552" y="10"/>
                    </a:lnTo>
                    <a:lnTo>
                      <a:pt x="551" y="16"/>
                    </a:lnTo>
                    <a:lnTo>
                      <a:pt x="549" y="19"/>
                    </a:lnTo>
                    <a:lnTo>
                      <a:pt x="549" y="22"/>
                    </a:lnTo>
                    <a:lnTo>
                      <a:pt x="548" y="27"/>
                    </a:lnTo>
                    <a:lnTo>
                      <a:pt x="546" y="30"/>
                    </a:lnTo>
                    <a:lnTo>
                      <a:pt x="544" y="33"/>
                    </a:lnTo>
                    <a:lnTo>
                      <a:pt x="542" y="36"/>
                    </a:lnTo>
                    <a:lnTo>
                      <a:pt x="541" y="40"/>
                    </a:lnTo>
                    <a:lnTo>
                      <a:pt x="538" y="43"/>
                    </a:lnTo>
                    <a:lnTo>
                      <a:pt x="535" y="47"/>
                    </a:lnTo>
                    <a:lnTo>
                      <a:pt x="533" y="52"/>
                    </a:lnTo>
                    <a:lnTo>
                      <a:pt x="530" y="55"/>
                    </a:lnTo>
                    <a:lnTo>
                      <a:pt x="527" y="59"/>
                    </a:lnTo>
                    <a:lnTo>
                      <a:pt x="523" y="64"/>
                    </a:lnTo>
                    <a:lnTo>
                      <a:pt x="520" y="67"/>
                    </a:lnTo>
                    <a:lnTo>
                      <a:pt x="515" y="71"/>
                    </a:lnTo>
                    <a:lnTo>
                      <a:pt x="512" y="76"/>
                    </a:lnTo>
                    <a:lnTo>
                      <a:pt x="506" y="79"/>
                    </a:lnTo>
                    <a:lnTo>
                      <a:pt x="502" y="83"/>
                    </a:lnTo>
                    <a:lnTo>
                      <a:pt x="496" y="86"/>
                    </a:lnTo>
                    <a:lnTo>
                      <a:pt x="492" y="90"/>
                    </a:lnTo>
                    <a:lnTo>
                      <a:pt x="486" y="93"/>
                    </a:lnTo>
                    <a:lnTo>
                      <a:pt x="478" y="98"/>
                    </a:lnTo>
                    <a:lnTo>
                      <a:pt x="472" y="101"/>
                    </a:lnTo>
                    <a:lnTo>
                      <a:pt x="466" y="105"/>
                    </a:lnTo>
                    <a:lnTo>
                      <a:pt x="462" y="105"/>
                    </a:lnTo>
                    <a:lnTo>
                      <a:pt x="459" y="108"/>
                    </a:lnTo>
                    <a:lnTo>
                      <a:pt x="454" y="108"/>
                    </a:lnTo>
                    <a:lnTo>
                      <a:pt x="452" y="111"/>
                    </a:lnTo>
                    <a:lnTo>
                      <a:pt x="449" y="113"/>
                    </a:lnTo>
                    <a:lnTo>
                      <a:pt x="444" y="114"/>
                    </a:lnTo>
                    <a:lnTo>
                      <a:pt x="441" y="117"/>
                    </a:lnTo>
                    <a:lnTo>
                      <a:pt x="437" y="119"/>
                    </a:lnTo>
                    <a:lnTo>
                      <a:pt x="432" y="120"/>
                    </a:lnTo>
                    <a:lnTo>
                      <a:pt x="428" y="122"/>
                    </a:lnTo>
                    <a:lnTo>
                      <a:pt x="423" y="123"/>
                    </a:lnTo>
                    <a:lnTo>
                      <a:pt x="420" y="125"/>
                    </a:lnTo>
                    <a:lnTo>
                      <a:pt x="416" y="126"/>
                    </a:lnTo>
                    <a:lnTo>
                      <a:pt x="411" y="128"/>
                    </a:lnTo>
                    <a:lnTo>
                      <a:pt x="407" y="129"/>
                    </a:lnTo>
                    <a:lnTo>
                      <a:pt x="404" y="132"/>
                    </a:lnTo>
                    <a:lnTo>
                      <a:pt x="398" y="132"/>
                    </a:lnTo>
                    <a:lnTo>
                      <a:pt x="394" y="135"/>
                    </a:lnTo>
                    <a:lnTo>
                      <a:pt x="389" y="136"/>
                    </a:lnTo>
                    <a:lnTo>
                      <a:pt x="385" y="138"/>
                    </a:lnTo>
                    <a:lnTo>
                      <a:pt x="380" y="139"/>
                    </a:lnTo>
                    <a:lnTo>
                      <a:pt x="376" y="142"/>
                    </a:lnTo>
                    <a:lnTo>
                      <a:pt x="371" y="144"/>
                    </a:lnTo>
                    <a:lnTo>
                      <a:pt x="367" y="145"/>
                    </a:lnTo>
                    <a:lnTo>
                      <a:pt x="362" y="147"/>
                    </a:lnTo>
                    <a:lnTo>
                      <a:pt x="358" y="148"/>
                    </a:lnTo>
                    <a:lnTo>
                      <a:pt x="352" y="150"/>
                    </a:lnTo>
                    <a:lnTo>
                      <a:pt x="348" y="153"/>
                    </a:lnTo>
                    <a:lnTo>
                      <a:pt x="343" y="154"/>
                    </a:lnTo>
                    <a:lnTo>
                      <a:pt x="337" y="156"/>
                    </a:lnTo>
                    <a:lnTo>
                      <a:pt x="333" y="157"/>
                    </a:lnTo>
                    <a:lnTo>
                      <a:pt x="328" y="160"/>
                    </a:lnTo>
                    <a:lnTo>
                      <a:pt x="322" y="162"/>
                    </a:lnTo>
                    <a:lnTo>
                      <a:pt x="318" y="165"/>
                    </a:lnTo>
                    <a:lnTo>
                      <a:pt x="314" y="166"/>
                    </a:lnTo>
                    <a:lnTo>
                      <a:pt x="309" y="169"/>
                    </a:lnTo>
                    <a:lnTo>
                      <a:pt x="303" y="171"/>
                    </a:lnTo>
                    <a:lnTo>
                      <a:pt x="299" y="172"/>
                    </a:lnTo>
                    <a:lnTo>
                      <a:pt x="293" y="175"/>
                    </a:lnTo>
                    <a:lnTo>
                      <a:pt x="288" y="178"/>
                    </a:lnTo>
                    <a:lnTo>
                      <a:pt x="284" y="180"/>
                    </a:lnTo>
                    <a:lnTo>
                      <a:pt x="278" y="181"/>
                    </a:lnTo>
                    <a:lnTo>
                      <a:pt x="273" y="184"/>
                    </a:lnTo>
                    <a:lnTo>
                      <a:pt x="269" y="187"/>
                    </a:lnTo>
                    <a:lnTo>
                      <a:pt x="263" y="188"/>
                    </a:lnTo>
                    <a:lnTo>
                      <a:pt x="259" y="191"/>
                    </a:lnTo>
                    <a:lnTo>
                      <a:pt x="253" y="194"/>
                    </a:lnTo>
                    <a:lnTo>
                      <a:pt x="248" y="197"/>
                    </a:lnTo>
                    <a:lnTo>
                      <a:pt x="242" y="199"/>
                    </a:lnTo>
                    <a:lnTo>
                      <a:pt x="238" y="202"/>
                    </a:lnTo>
                    <a:lnTo>
                      <a:pt x="232" y="205"/>
                    </a:lnTo>
                    <a:lnTo>
                      <a:pt x="227" y="208"/>
                    </a:lnTo>
                    <a:lnTo>
                      <a:pt x="222" y="211"/>
                    </a:lnTo>
                    <a:lnTo>
                      <a:pt x="217" y="214"/>
                    </a:lnTo>
                    <a:lnTo>
                      <a:pt x="213" y="217"/>
                    </a:lnTo>
                    <a:lnTo>
                      <a:pt x="208" y="220"/>
                    </a:lnTo>
                    <a:lnTo>
                      <a:pt x="202" y="223"/>
                    </a:lnTo>
                    <a:lnTo>
                      <a:pt x="198" y="226"/>
                    </a:lnTo>
                    <a:lnTo>
                      <a:pt x="192" y="228"/>
                    </a:lnTo>
                    <a:lnTo>
                      <a:pt x="187" y="231"/>
                    </a:lnTo>
                    <a:lnTo>
                      <a:pt x="181" y="234"/>
                    </a:lnTo>
                    <a:lnTo>
                      <a:pt x="177" y="237"/>
                    </a:lnTo>
                    <a:lnTo>
                      <a:pt x="173" y="240"/>
                    </a:lnTo>
                    <a:lnTo>
                      <a:pt x="168" y="245"/>
                    </a:lnTo>
                    <a:lnTo>
                      <a:pt x="162" y="248"/>
                    </a:lnTo>
                    <a:lnTo>
                      <a:pt x="158" y="252"/>
                    </a:lnTo>
                    <a:lnTo>
                      <a:pt x="152" y="255"/>
                    </a:lnTo>
                    <a:lnTo>
                      <a:pt x="147" y="258"/>
                    </a:lnTo>
                    <a:lnTo>
                      <a:pt x="143" y="261"/>
                    </a:lnTo>
                    <a:lnTo>
                      <a:pt x="138" y="266"/>
                    </a:lnTo>
                    <a:lnTo>
                      <a:pt x="134" y="269"/>
                    </a:lnTo>
                    <a:lnTo>
                      <a:pt x="130" y="273"/>
                    </a:lnTo>
                    <a:lnTo>
                      <a:pt x="124" y="276"/>
                    </a:lnTo>
                    <a:lnTo>
                      <a:pt x="121" y="279"/>
                    </a:lnTo>
                    <a:lnTo>
                      <a:pt x="115" y="282"/>
                    </a:lnTo>
                    <a:lnTo>
                      <a:pt x="110" y="286"/>
                    </a:lnTo>
                    <a:lnTo>
                      <a:pt x="106" y="289"/>
                    </a:lnTo>
                    <a:lnTo>
                      <a:pt x="101" y="294"/>
                    </a:lnTo>
                    <a:lnTo>
                      <a:pt x="97" y="297"/>
                    </a:lnTo>
                    <a:lnTo>
                      <a:pt x="94" y="300"/>
                    </a:lnTo>
                    <a:lnTo>
                      <a:pt x="89" y="303"/>
                    </a:lnTo>
                    <a:lnTo>
                      <a:pt x="85" y="307"/>
                    </a:lnTo>
                    <a:lnTo>
                      <a:pt x="81" y="310"/>
                    </a:lnTo>
                    <a:lnTo>
                      <a:pt x="78" y="313"/>
                    </a:lnTo>
                    <a:lnTo>
                      <a:pt x="73" y="316"/>
                    </a:lnTo>
                    <a:lnTo>
                      <a:pt x="70" y="320"/>
                    </a:lnTo>
                    <a:lnTo>
                      <a:pt x="66" y="323"/>
                    </a:lnTo>
                    <a:lnTo>
                      <a:pt x="63" y="328"/>
                    </a:lnTo>
                    <a:lnTo>
                      <a:pt x="60" y="329"/>
                    </a:lnTo>
                    <a:lnTo>
                      <a:pt x="55" y="332"/>
                    </a:lnTo>
                    <a:lnTo>
                      <a:pt x="52" y="335"/>
                    </a:lnTo>
                    <a:lnTo>
                      <a:pt x="49" y="338"/>
                    </a:lnTo>
                    <a:lnTo>
                      <a:pt x="42" y="344"/>
                    </a:lnTo>
                    <a:lnTo>
                      <a:pt x="38" y="350"/>
                    </a:lnTo>
                    <a:lnTo>
                      <a:pt x="30" y="355"/>
                    </a:lnTo>
                    <a:lnTo>
                      <a:pt x="26" y="361"/>
                    </a:lnTo>
                    <a:lnTo>
                      <a:pt x="21" y="365"/>
                    </a:lnTo>
                    <a:lnTo>
                      <a:pt x="17" y="369"/>
                    </a:lnTo>
                    <a:lnTo>
                      <a:pt x="12" y="372"/>
                    </a:lnTo>
                    <a:lnTo>
                      <a:pt x="9" y="377"/>
                    </a:lnTo>
                    <a:lnTo>
                      <a:pt x="6" y="378"/>
                    </a:lnTo>
                    <a:lnTo>
                      <a:pt x="5" y="381"/>
                    </a:lnTo>
                    <a:lnTo>
                      <a:pt x="0" y="384"/>
                    </a:lnTo>
                    <a:lnTo>
                      <a:pt x="0" y="387"/>
                    </a:lnTo>
                    <a:lnTo>
                      <a:pt x="64" y="387"/>
                    </a:lnTo>
                    <a:lnTo>
                      <a:pt x="66" y="386"/>
                    </a:lnTo>
                    <a:lnTo>
                      <a:pt x="67" y="383"/>
                    </a:lnTo>
                    <a:lnTo>
                      <a:pt x="72" y="377"/>
                    </a:lnTo>
                    <a:lnTo>
                      <a:pt x="78" y="372"/>
                    </a:lnTo>
                    <a:lnTo>
                      <a:pt x="81" y="368"/>
                    </a:lnTo>
                    <a:lnTo>
                      <a:pt x="85" y="364"/>
                    </a:lnTo>
                    <a:lnTo>
                      <a:pt x="88" y="359"/>
                    </a:lnTo>
                    <a:lnTo>
                      <a:pt x="94" y="356"/>
                    </a:lnTo>
                    <a:lnTo>
                      <a:pt x="97" y="350"/>
                    </a:lnTo>
                    <a:lnTo>
                      <a:pt x="103" y="346"/>
                    </a:lnTo>
                    <a:lnTo>
                      <a:pt x="109" y="341"/>
                    </a:lnTo>
                    <a:lnTo>
                      <a:pt x="115" y="335"/>
                    </a:lnTo>
                    <a:lnTo>
                      <a:pt x="121" y="329"/>
                    </a:lnTo>
                    <a:lnTo>
                      <a:pt x="127" y="323"/>
                    </a:lnTo>
                    <a:lnTo>
                      <a:pt x="130" y="320"/>
                    </a:lnTo>
                    <a:lnTo>
                      <a:pt x="133" y="319"/>
                    </a:lnTo>
                    <a:lnTo>
                      <a:pt x="135" y="316"/>
                    </a:lnTo>
                    <a:lnTo>
                      <a:pt x="140" y="313"/>
                    </a:lnTo>
                    <a:lnTo>
                      <a:pt x="143" y="310"/>
                    </a:lnTo>
                    <a:lnTo>
                      <a:pt x="146" y="307"/>
                    </a:lnTo>
                    <a:lnTo>
                      <a:pt x="150" y="304"/>
                    </a:lnTo>
                    <a:lnTo>
                      <a:pt x="153" y="301"/>
                    </a:lnTo>
                    <a:lnTo>
                      <a:pt x="158" y="298"/>
                    </a:lnTo>
                    <a:lnTo>
                      <a:pt x="161" y="295"/>
                    </a:lnTo>
                    <a:lnTo>
                      <a:pt x="165" y="292"/>
                    </a:lnTo>
                    <a:lnTo>
                      <a:pt x="170" y="289"/>
                    </a:lnTo>
                    <a:lnTo>
                      <a:pt x="173" y="285"/>
                    </a:lnTo>
                    <a:lnTo>
                      <a:pt x="177" y="283"/>
                    </a:lnTo>
                    <a:lnTo>
                      <a:pt x="181" y="280"/>
                    </a:lnTo>
                    <a:lnTo>
                      <a:pt x="186" y="277"/>
                    </a:lnTo>
                    <a:lnTo>
                      <a:pt x="189" y="274"/>
                    </a:lnTo>
                    <a:lnTo>
                      <a:pt x="193" y="272"/>
                    </a:lnTo>
                    <a:lnTo>
                      <a:pt x="198" y="269"/>
                    </a:lnTo>
                    <a:lnTo>
                      <a:pt x="202" y="267"/>
                    </a:lnTo>
                    <a:lnTo>
                      <a:pt x="205" y="263"/>
                    </a:lnTo>
                    <a:lnTo>
                      <a:pt x="211" y="261"/>
                    </a:lnTo>
                    <a:lnTo>
                      <a:pt x="216" y="258"/>
                    </a:lnTo>
                    <a:lnTo>
                      <a:pt x="220" y="255"/>
                    </a:lnTo>
                    <a:lnTo>
                      <a:pt x="224" y="252"/>
                    </a:lnTo>
                    <a:lnTo>
                      <a:pt x="229" y="249"/>
                    </a:lnTo>
                    <a:lnTo>
                      <a:pt x="233" y="248"/>
                    </a:lnTo>
                    <a:lnTo>
                      <a:pt x="239" y="245"/>
                    </a:lnTo>
                    <a:lnTo>
                      <a:pt x="244" y="242"/>
                    </a:lnTo>
                    <a:lnTo>
                      <a:pt x="248" y="240"/>
                    </a:lnTo>
                    <a:lnTo>
                      <a:pt x="253" y="237"/>
                    </a:lnTo>
                    <a:lnTo>
                      <a:pt x="257" y="236"/>
                    </a:lnTo>
                    <a:lnTo>
                      <a:pt x="262" y="233"/>
                    </a:lnTo>
                    <a:lnTo>
                      <a:pt x="266" y="230"/>
                    </a:lnTo>
                    <a:lnTo>
                      <a:pt x="272" y="228"/>
                    </a:lnTo>
                    <a:lnTo>
                      <a:pt x="276" y="226"/>
                    </a:lnTo>
                    <a:lnTo>
                      <a:pt x="281" y="224"/>
                    </a:lnTo>
                    <a:lnTo>
                      <a:pt x="287" y="221"/>
                    </a:lnTo>
                    <a:lnTo>
                      <a:pt x="291" y="220"/>
                    </a:lnTo>
                    <a:lnTo>
                      <a:pt x="297" y="218"/>
                    </a:lnTo>
                    <a:lnTo>
                      <a:pt x="302" y="217"/>
                    </a:lnTo>
                    <a:lnTo>
                      <a:pt x="306" y="214"/>
                    </a:lnTo>
                    <a:lnTo>
                      <a:pt x="312" y="212"/>
                    </a:lnTo>
                    <a:lnTo>
                      <a:pt x="318" y="211"/>
                    </a:lnTo>
                    <a:lnTo>
                      <a:pt x="321" y="209"/>
                    </a:lnTo>
                    <a:lnTo>
                      <a:pt x="327" y="206"/>
                    </a:lnTo>
                    <a:lnTo>
                      <a:pt x="331" y="205"/>
                    </a:lnTo>
                    <a:lnTo>
                      <a:pt x="337" y="203"/>
                    </a:lnTo>
                    <a:lnTo>
                      <a:pt x="342" y="202"/>
                    </a:lnTo>
                    <a:lnTo>
                      <a:pt x="346" y="199"/>
                    </a:lnTo>
                    <a:lnTo>
                      <a:pt x="351" y="197"/>
                    </a:lnTo>
                    <a:lnTo>
                      <a:pt x="357" y="196"/>
                    </a:lnTo>
                    <a:lnTo>
                      <a:pt x="362" y="194"/>
                    </a:lnTo>
                    <a:lnTo>
                      <a:pt x="367" y="191"/>
                    </a:lnTo>
                    <a:lnTo>
                      <a:pt x="371" y="190"/>
                    </a:lnTo>
                    <a:lnTo>
                      <a:pt x="377" y="188"/>
                    </a:lnTo>
                    <a:lnTo>
                      <a:pt x="382" y="187"/>
                    </a:lnTo>
                    <a:lnTo>
                      <a:pt x="386" y="185"/>
                    </a:lnTo>
                    <a:lnTo>
                      <a:pt x="392" y="184"/>
                    </a:lnTo>
                    <a:lnTo>
                      <a:pt x="397" y="182"/>
                    </a:lnTo>
                    <a:lnTo>
                      <a:pt x="401" y="181"/>
                    </a:lnTo>
                    <a:lnTo>
                      <a:pt x="406" y="180"/>
                    </a:lnTo>
                    <a:lnTo>
                      <a:pt x="410" y="177"/>
                    </a:lnTo>
                    <a:lnTo>
                      <a:pt x="414" y="177"/>
                    </a:lnTo>
                    <a:lnTo>
                      <a:pt x="419" y="174"/>
                    </a:lnTo>
                    <a:lnTo>
                      <a:pt x="425" y="172"/>
                    </a:lnTo>
                    <a:lnTo>
                      <a:pt x="429" y="171"/>
                    </a:lnTo>
                    <a:lnTo>
                      <a:pt x="434" y="169"/>
                    </a:lnTo>
                    <a:lnTo>
                      <a:pt x="438" y="168"/>
                    </a:lnTo>
                    <a:lnTo>
                      <a:pt x="443" y="165"/>
                    </a:lnTo>
                    <a:lnTo>
                      <a:pt x="447" y="163"/>
                    </a:lnTo>
                    <a:lnTo>
                      <a:pt x="452" y="162"/>
                    </a:lnTo>
                    <a:lnTo>
                      <a:pt x="456" y="160"/>
                    </a:lnTo>
                    <a:lnTo>
                      <a:pt x="459" y="159"/>
                    </a:lnTo>
                    <a:lnTo>
                      <a:pt x="463" y="157"/>
                    </a:lnTo>
                    <a:lnTo>
                      <a:pt x="468" y="156"/>
                    </a:lnTo>
                    <a:lnTo>
                      <a:pt x="472" y="153"/>
                    </a:lnTo>
                    <a:lnTo>
                      <a:pt x="475" y="151"/>
                    </a:lnTo>
                    <a:lnTo>
                      <a:pt x="480" y="150"/>
                    </a:lnTo>
                    <a:lnTo>
                      <a:pt x="483" y="147"/>
                    </a:lnTo>
                    <a:lnTo>
                      <a:pt x="487" y="145"/>
                    </a:lnTo>
                    <a:lnTo>
                      <a:pt x="490" y="144"/>
                    </a:lnTo>
                    <a:lnTo>
                      <a:pt x="495" y="142"/>
                    </a:lnTo>
                    <a:lnTo>
                      <a:pt x="498" y="139"/>
                    </a:lnTo>
                    <a:lnTo>
                      <a:pt x="505" y="135"/>
                    </a:lnTo>
                    <a:lnTo>
                      <a:pt x="511" y="132"/>
                    </a:lnTo>
                    <a:lnTo>
                      <a:pt x="517" y="128"/>
                    </a:lnTo>
                    <a:lnTo>
                      <a:pt x="523" y="123"/>
                    </a:lnTo>
                    <a:lnTo>
                      <a:pt x="527" y="117"/>
                    </a:lnTo>
                    <a:lnTo>
                      <a:pt x="532" y="113"/>
                    </a:lnTo>
                    <a:lnTo>
                      <a:pt x="536" y="107"/>
                    </a:lnTo>
                    <a:lnTo>
                      <a:pt x="541" y="102"/>
                    </a:lnTo>
                    <a:lnTo>
                      <a:pt x="544" y="96"/>
                    </a:lnTo>
                    <a:lnTo>
                      <a:pt x="546" y="92"/>
                    </a:lnTo>
                    <a:lnTo>
                      <a:pt x="549" y="86"/>
                    </a:lnTo>
                    <a:lnTo>
                      <a:pt x="552" y="82"/>
                    </a:lnTo>
                    <a:lnTo>
                      <a:pt x="554" y="76"/>
                    </a:lnTo>
                    <a:lnTo>
                      <a:pt x="555" y="70"/>
                    </a:lnTo>
                    <a:lnTo>
                      <a:pt x="557" y="65"/>
                    </a:lnTo>
                    <a:lnTo>
                      <a:pt x="558" y="61"/>
                    </a:lnTo>
                    <a:lnTo>
                      <a:pt x="560" y="55"/>
                    </a:lnTo>
                    <a:lnTo>
                      <a:pt x="560" y="50"/>
                    </a:lnTo>
                    <a:lnTo>
                      <a:pt x="560" y="44"/>
                    </a:lnTo>
                    <a:lnTo>
                      <a:pt x="561" y="42"/>
                    </a:lnTo>
                    <a:lnTo>
                      <a:pt x="560" y="37"/>
                    </a:lnTo>
                    <a:lnTo>
                      <a:pt x="560" y="33"/>
                    </a:lnTo>
                    <a:lnTo>
                      <a:pt x="560" y="28"/>
                    </a:lnTo>
                    <a:lnTo>
                      <a:pt x="560" y="24"/>
                    </a:lnTo>
                    <a:lnTo>
                      <a:pt x="560" y="21"/>
                    </a:lnTo>
                    <a:lnTo>
                      <a:pt x="560" y="16"/>
                    </a:lnTo>
                    <a:lnTo>
                      <a:pt x="558" y="13"/>
                    </a:lnTo>
                    <a:lnTo>
                      <a:pt x="558" y="10"/>
                    </a:lnTo>
                    <a:lnTo>
                      <a:pt x="557" y="6"/>
                    </a:lnTo>
                    <a:lnTo>
                      <a:pt x="557" y="3"/>
                    </a:lnTo>
                    <a:lnTo>
                      <a:pt x="557" y="0"/>
                    </a:lnTo>
                    <a:lnTo>
                      <a:pt x="557" y="0"/>
                    </a:lnTo>
                    <a:lnTo>
                      <a:pt x="55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536640" y="2046240"/>
                <a:ext cx="635040" cy="209520"/>
              </a:xfrm>
              <a:custGeom>
                <a:avLst/>
                <a:gdLst/>
                <a:ahLst/>
                <a:rect l="l" t="t" r="r" b="b"/>
                <a:pathLst>
                  <a:path w="799" h="264">
                    <a:moveTo>
                      <a:pt x="244" y="59"/>
                    </a:moveTo>
                    <a:lnTo>
                      <a:pt x="244" y="59"/>
                    </a:lnTo>
                    <a:lnTo>
                      <a:pt x="246" y="58"/>
                    </a:lnTo>
                    <a:lnTo>
                      <a:pt x="247" y="55"/>
                    </a:lnTo>
                    <a:lnTo>
                      <a:pt x="252" y="53"/>
                    </a:lnTo>
                    <a:lnTo>
                      <a:pt x="256" y="50"/>
                    </a:lnTo>
                    <a:lnTo>
                      <a:pt x="262" y="48"/>
                    </a:lnTo>
                    <a:lnTo>
                      <a:pt x="265" y="46"/>
                    </a:lnTo>
                    <a:lnTo>
                      <a:pt x="270" y="45"/>
                    </a:lnTo>
                    <a:lnTo>
                      <a:pt x="273" y="43"/>
                    </a:lnTo>
                    <a:lnTo>
                      <a:pt x="277" y="42"/>
                    </a:lnTo>
                    <a:lnTo>
                      <a:pt x="282" y="40"/>
                    </a:lnTo>
                    <a:lnTo>
                      <a:pt x="286" y="37"/>
                    </a:lnTo>
                    <a:lnTo>
                      <a:pt x="290" y="36"/>
                    </a:lnTo>
                    <a:lnTo>
                      <a:pt x="295" y="34"/>
                    </a:lnTo>
                    <a:lnTo>
                      <a:pt x="299" y="33"/>
                    </a:lnTo>
                    <a:lnTo>
                      <a:pt x="305" y="30"/>
                    </a:lnTo>
                    <a:lnTo>
                      <a:pt x="311" y="28"/>
                    </a:lnTo>
                    <a:lnTo>
                      <a:pt x="317" y="27"/>
                    </a:lnTo>
                    <a:lnTo>
                      <a:pt x="323" y="25"/>
                    </a:lnTo>
                    <a:lnTo>
                      <a:pt x="330" y="22"/>
                    </a:lnTo>
                    <a:lnTo>
                      <a:pt x="333" y="22"/>
                    </a:lnTo>
                    <a:lnTo>
                      <a:pt x="336" y="21"/>
                    </a:lnTo>
                    <a:lnTo>
                      <a:pt x="339" y="19"/>
                    </a:lnTo>
                    <a:lnTo>
                      <a:pt x="344" y="19"/>
                    </a:lnTo>
                    <a:lnTo>
                      <a:pt x="347" y="18"/>
                    </a:lnTo>
                    <a:lnTo>
                      <a:pt x="350" y="18"/>
                    </a:lnTo>
                    <a:lnTo>
                      <a:pt x="354" y="16"/>
                    </a:lnTo>
                    <a:lnTo>
                      <a:pt x="357" y="16"/>
                    </a:lnTo>
                    <a:lnTo>
                      <a:pt x="362" y="15"/>
                    </a:lnTo>
                    <a:lnTo>
                      <a:pt x="365" y="15"/>
                    </a:lnTo>
                    <a:lnTo>
                      <a:pt x="369" y="13"/>
                    </a:lnTo>
                    <a:lnTo>
                      <a:pt x="374" y="13"/>
                    </a:lnTo>
                    <a:lnTo>
                      <a:pt x="376" y="12"/>
                    </a:lnTo>
                    <a:lnTo>
                      <a:pt x="381" y="12"/>
                    </a:lnTo>
                    <a:lnTo>
                      <a:pt x="384" y="10"/>
                    </a:lnTo>
                    <a:lnTo>
                      <a:pt x="388" y="10"/>
                    </a:lnTo>
                    <a:lnTo>
                      <a:pt x="391" y="9"/>
                    </a:lnTo>
                    <a:lnTo>
                      <a:pt x="396" y="9"/>
                    </a:lnTo>
                    <a:lnTo>
                      <a:pt x="400" y="7"/>
                    </a:lnTo>
                    <a:lnTo>
                      <a:pt x="405" y="7"/>
                    </a:lnTo>
                    <a:lnTo>
                      <a:pt x="409" y="7"/>
                    </a:lnTo>
                    <a:lnTo>
                      <a:pt x="412" y="7"/>
                    </a:lnTo>
                    <a:lnTo>
                      <a:pt x="417" y="6"/>
                    </a:lnTo>
                    <a:lnTo>
                      <a:pt x="421" y="6"/>
                    </a:lnTo>
                    <a:lnTo>
                      <a:pt x="425" y="6"/>
                    </a:lnTo>
                    <a:lnTo>
                      <a:pt x="431" y="4"/>
                    </a:lnTo>
                    <a:lnTo>
                      <a:pt x="434" y="4"/>
                    </a:lnTo>
                    <a:lnTo>
                      <a:pt x="440" y="4"/>
                    </a:lnTo>
                    <a:lnTo>
                      <a:pt x="443" y="4"/>
                    </a:lnTo>
                    <a:lnTo>
                      <a:pt x="449" y="3"/>
                    </a:lnTo>
                    <a:lnTo>
                      <a:pt x="454" y="3"/>
                    </a:lnTo>
                    <a:lnTo>
                      <a:pt x="458" y="3"/>
                    </a:lnTo>
                    <a:lnTo>
                      <a:pt x="463" y="3"/>
                    </a:lnTo>
                    <a:lnTo>
                      <a:pt x="467" y="2"/>
                    </a:lnTo>
                    <a:lnTo>
                      <a:pt x="471" y="2"/>
                    </a:lnTo>
                    <a:lnTo>
                      <a:pt x="476" y="2"/>
                    </a:lnTo>
                    <a:lnTo>
                      <a:pt x="480" y="2"/>
                    </a:lnTo>
                    <a:lnTo>
                      <a:pt x="486" y="2"/>
                    </a:lnTo>
                    <a:lnTo>
                      <a:pt x="491" y="0"/>
                    </a:lnTo>
                    <a:lnTo>
                      <a:pt x="495" y="0"/>
                    </a:lnTo>
                    <a:lnTo>
                      <a:pt x="500" y="0"/>
                    </a:lnTo>
                    <a:lnTo>
                      <a:pt x="504" y="0"/>
                    </a:lnTo>
                    <a:lnTo>
                      <a:pt x="509" y="0"/>
                    </a:lnTo>
                    <a:lnTo>
                      <a:pt x="514" y="0"/>
                    </a:lnTo>
                    <a:lnTo>
                      <a:pt x="519" y="0"/>
                    </a:lnTo>
                    <a:lnTo>
                      <a:pt x="523" y="0"/>
                    </a:lnTo>
                    <a:lnTo>
                      <a:pt x="528" y="0"/>
                    </a:lnTo>
                    <a:lnTo>
                      <a:pt x="532" y="0"/>
                    </a:lnTo>
                    <a:lnTo>
                      <a:pt x="537" y="0"/>
                    </a:lnTo>
                    <a:lnTo>
                      <a:pt x="543" y="0"/>
                    </a:lnTo>
                    <a:lnTo>
                      <a:pt x="547" y="0"/>
                    </a:lnTo>
                    <a:lnTo>
                      <a:pt x="552" y="0"/>
                    </a:lnTo>
                    <a:lnTo>
                      <a:pt x="556" y="0"/>
                    </a:lnTo>
                    <a:lnTo>
                      <a:pt x="560" y="0"/>
                    </a:lnTo>
                    <a:lnTo>
                      <a:pt x="565" y="0"/>
                    </a:lnTo>
                    <a:lnTo>
                      <a:pt x="569" y="0"/>
                    </a:lnTo>
                    <a:lnTo>
                      <a:pt x="574" y="0"/>
                    </a:lnTo>
                    <a:lnTo>
                      <a:pt x="580" y="0"/>
                    </a:lnTo>
                    <a:lnTo>
                      <a:pt x="584" y="0"/>
                    </a:lnTo>
                    <a:lnTo>
                      <a:pt x="589" y="0"/>
                    </a:lnTo>
                    <a:lnTo>
                      <a:pt x="593" y="0"/>
                    </a:lnTo>
                    <a:lnTo>
                      <a:pt x="598" y="0"/>
                    </a:lnTo>
                    <a:lnTo>
                      <a:pt x="602" y="0"/>
                    </a:lnTo>
                    <a:lnTo>
                      <a:pt x="606" y="0"/>
                    </a:lnTo>
                    <a:lnTo>
                      <a:pt x="611" y="0"/>
                    </a:lnTo>
                    <a:lnTo>
                      <a:pt x="615" y="0"/>
                    </a:lnTo>
                    <a:lnTo>
                      <a:pt x="620" y="0"/>
                    </a:lnTo>
                    <a:lnTo>
                      <a:pt x="624" y="0"/>
                    </a:lnTo>
                    <a:lnTo>
                      <a:pt x="629" y="0"/>
                    </a:lnTo>
                    <a:lnTo>
                      <a:pt x="633" y="0"/>
                    </a:lnTo>
                    <a:lnTo>
                      <a:pt x="638" y="0"/>
                    </a:lnTo>
                    <a:lnTo>
                      <a:pt x="641" y="0"/>
                    </a:lnTo>
                    <a:lnTo>
                      <a:pt x="645" y="0"/>
                    </a:lnTo>
                    <a:lnTo>
                      <a:pt x="650" y="0"/>
                    </a:lnTo>
                    <a:lnTo>
                      <a:pt x="654" y="0"/>
                    </a:lnTo>
                    <a:lnTo>
                      <a:pt x="658" y="0"/>
                    </a:lnTo>
                    <a:lnTo>
                      <a:pt x="663" y="0"/>
                    </a:lnTo>
                    <a:lnTo>
                      <a:pt x="666" y="0"/>
                    </a:lnTo>
                    <a:lnTo>
                      <a:pt x="670" y="0"/>
                    </a:lnTo>
                    <a:lnTo>
                      <a:pt x="675" y="0"/>
                    </a:lnTo>
                    <a:lnTo>
                      <a:pt x="678" y="0"/>
                    </a:lnTo>
                    <a:lnTo>
                      <a:pt x="682" y="0"/>
                    </a:lnTo>
                    <a:lnTo>
                      <a:pt x="685" y="0"/>
                    </a:lnTo>
                    <a:lnTo>
                      <a:pt x="690" y="0"/>
                    </a:lnTo>
                    <a:lnTo>
                      <a:pt x="693" y="0"/>
                    </a:lnTo>
                    <a:lnTo>
                      <a:pt x="695" y="0"/>
                    </a:lnTo>
                    <a:lnTo>
                      <a:pt x="698" y="0"/>
                    </a:lnTo>
                    <a:lnTo>
                      <a:pt x="703" y="0"/>
                    </a:lnTo>
                    <a:lnTo>
                      <a:pt x="706" y="0"/>
                    </a:lnTo>
                    <a:lnTo>
                      <a:pt x="709" y="0"/>
                    </a:lnTo>
                    <a:lnTo>
                      <a:pt x="712" y="0"/>
                    </a:lnTo>
                    <a:lnTo>
                      <a:pt x="716" y="0"/>
                    </a:lnTo>
                    <a:lnTo>
                      <a:pt x="722" y="0"/>
                    </a:lnTo>
                    <a:lnTo>
                      <a:pt x="728" y="0"/>
                    </a:lnTo>
                    <a:lnTo>
                      <a:pt x="734" y="0"/>
                    </a:lnTo>
                    <a:lnTo>
                      <a:pt x="740" y="0"/>
                    </a:lnTo>
                    <a:lnTo>
                      <a:pt x="744" y="0"/>
                    </a:lnTo>
                    <a:lnTo>
                      <a:pt x="750" y="0"/>
                    </a:lnTo>
                    <a:lnTo>
                      <a:pt x="755" y="0"/>
                    </a:lnTo>
                    <a:lnTo>
                      <a:pt x="761" y="0"/>
                    </a:lnTo>
                    <a:lnTo>
                      <a:pt x="764" y="0"/>
                    </a:lnTo>
                    <a:lnTo>
                      <a:pt x="768" y="0"/>
                    </a:lnTo>
                    <a:lnTo>
                      <a:pt x="771" y="0"/>
                    </a:lnTo>
                    <a:lnTo>
                      <a:pt x="776" y="0"/>
                    </a:lnTo>
                    <a:lnTo>
                      <a:pt x="779" y="0"/>
                    </a:lnTo>
                    <a:lnTo>
                      <a:pt x="782" y="0"/>
                    </a:lnTo>
                    <a:lnTo>
                      <a:pt x="783" y="0"/>
                    </a:lnTo>
                    <a:lnTo>
                      <a:pt x="786" y="0"/>
                    </a:lnTo>
                    <a:lnTo>
                      <a:pt x="790" y="0"/>
                    </a:lnTo>
                    <a:lnTo>
                      <a:pt x="793" y="0"/>
                    </a:lnTo>
                    <a:lnTo>
                      <a:pt x="795" y="0"/>
                    </a:lnTo>
                    <a:lnTo>
                      <a:pt x="796" y="0"/>
                    </a:lnTo>
                    <a:lnTo>
                      <a:pt x="798" y="2"/>
                    </a:lnTo>
                    <a:lnTo>
                      <a:pt x="798" y="4"/>
                    </a:lnTo>
                    <a:lnTo>
                      <a:pt x="799" y="9"/>
                    </a:lnTo>
                    <a:lnTo>
                      <a:pt x="799" y="12"/>
                    </a:lnTo>
                    <a:lnTo>
                      <a:pt x="799" y="15"/>
                    </a:lnTo>
                    <a:lnTo>
                      <a:pt x="799" y="19"/>
                    </a:lnTo>
                    <a:lnTo>
                      <a:pt x="799" y="24"/>
                    </a:lnTo>
                    <a:lnTo>
                      <a:pt x="798" y="30"/>
                    </a:lnTo>
                    <a:lnTo>
                      <a:pt x="798" y="36"/>
                    </a:lnTo>
                    <a:lnTo>
                      <a:pt x="798" y="37"/>
                    </a:lnTo>
                    <a:lnTo>
                      <a:pt x="798" y="42"/>
                    </a:lnTo>
                    <a:lnTo>
                      <a:pt x="796" y="45"/>
                    </a:lnTo>
                    <a:lnTo>
                      <a:pt x="796" y="49"/>
                    </a:lnTo>
                    <a:lnTo>
                      <a:pt x="795" y="52"/>
                    </a:lnTo>
                    <a:lnTo>
                      <a:pt x="793" y="55"/>
                    </a:lnTo>
                    <a:lnTo>
                      <a:pt x="793" y="59"/>
                    </a:lnTo>
                    <a:lnTo>
                      <a:pt x="792" y="65"/>
                    </a:lnTo>
                    <a:lnTo>
                      <a:pt x="789" y="70"/>
                    </a:lnTo>
                    <a:lnTo>
                      <a:pt x="787" y="74"/>
                    </a:lnTo>
                    <a:lnTo>
                      <a:pt x="785" y="80"/>
                    </a:lnTo>
                    <a:lnTo>
                      <a:pt x="783" y="86"/>
                    </a:lnTo>
                    <a:lnTo>
                      <a:pt x="780" y="92"/>
                    </a:lnTo>
                    <a:lnTo>
                      <a:pt x="777" y="98"/>
                    </a:lnTo>
                    <a:lnTo>
                      <a:pt x="774" y="104"/>
                    </a:lnTo>
                    <a:lnTo>
                      <a:pt x="771" y="110"/>
                    </a:lnTo>
                    <a:lnTo>
                      <a:pt x="767" y="116"/>
                    </a:lnTo>
                    <a:lnTo>
                      <a:pt x="762" y="123"/>
                    </a:lnTo>
                    <a:lnTo>
                      <a:pt x="761" y="126"/>
                    </a:lnTo>
                    <a:lnTo>
                      <a:pt x="758" y="131"/>
                    </a:lnTo>
                    <a:lnTo>
                      <a:pt x="756" y="134"/>
                    </a:lnTo>
                    <a:lnTo>
                      <a:pt x="755" y="137"/>
                    </a:lnTo>
                    <a:lnTo>
                      <a:pt x="749" y="142"/>
                    </a:lnTo>
                    <a:lnTo>
                      <a:pt x="744" y="150"/>
                    </a:lnTo>
                    <a:lnTo>
                      <a:pt x="739" y="156"/>
                    </a:lnTo>
                    <a:lnTo>
                      <a:pt x="734" y="162"/>
                    </a:lnTo>
                    <a:lnTo>
                      <a:pt x="728" y="168"/>
                    </a:lnTo>
                    <a:lnTo>
                      <a:pt x="722" y="175"/>
                    </a:lnTo>
                    <a:lnTo>
                      <a:pt x="716" y="180"/>
                    </a:lnTo>
                    <a:lnTo>
                      <a:pt x="710" y="187"/>
                    </a:lnTo>
                    <a:lnTo>
                      <a:pt x="707" y="188"/>
                    </a:lnTo>
                    <a:lnTo>
                      <a:pt x="704" y="191"/>
                    </a:lnTo>
                    <a:lnTo>
                      <a:pt x="700" y="194"/>
                    </a:lnTo>
                    <a:lnTo>
                      <a:pt x="697" y="197"/>
                    </a:lnTo>
                    <a:lnTo>
                      <a:pt x="693" y="199"/>
                    </a:lnTo>
                    <a:lnTo>
                      <a:pt x="690" y="202"/>
                    </a:lnTo>
                    <a:lnTo>
                      <a:pt x="685" y="203"/>
                    </a:lnTo>
                    <a:lnTo>
                      <a:pt x="682" y="206"/>
                    </a:lnTo>
                    <a:lnTo>
                      <a:pt x="679" y="209"/>
                    </a:lnTo>
                    <a:lnTo>
                      <a:pt x="675" y="211"/>
                    </a:lnTo>
                    <a:lnTo>
                      <a:pt x="672" y="214"/>
                    </a:lnTo>
                    <a:lnTo>
                      <a:pt x="667" y="215"/>
                    </a:lnTo>
                    <a:lnTo>
                      <a:pt x="663" y="217"/>
                    </a:lnTo>
                    <a:lnTo>
                      <a:pt x="660" y="220"/>
                    </a:lnTo>
                    <a:lnTo>
                      <a:pt x="655" y="221"/>
                    </a:lnTo>
                    <a:lnTo>
                      <a:pt x="652" y="223"/>
                    </a:lnTo>
                    <a:lnTo>
                      <a:pt x="648" y="224"/>
                    </a:lnTo>
                    <a:lnTo>
                      <a:pt x="644" y="224"/>
                    </a:lnTo>
                    <a:lnTo>
                      <a:pt x="641" y="226"/>
                    </a:lnTo>
                    <a:lnTo>
                      <a:pt x="636" y="227"/>
                    </a:lnTo>
                    <a:lnTo>
                      <a:pt x="632" y="229"/>
                    </a:lnTo>
                    <a:lnTo>
                      <a:pt x="627" y="229"/>
                    </a:lnTo>
                    <a:lnTo>
                      <a:pt x="623" y="230"/>
                    </a:lnTo>
                    <a:lnTo>
                      <a:pt x="618" y="232"/>
                    </a:lnTo>
                    <a:lnTo>
                      <a:pt x="614" y="232"/>
                    </a:lnTo>
                    <a:lnTo>
                      <a:pt x="609" y="233"/>
                    </a:lnTo>
                    <a:lnTo>
                      <a:pt x="604" y="233"/>
                    </a:lnTo>
                    <a:lnTo>
                      <a:pt x="599" y="233"/>
                    </a:lnTo>
                    <a:lnTo>
                      <a:pt x="593" y="234"/>
                    </a:lnTo>
                    <a:lnTo>
                      <a:pt x="589" y="234"/>
                    </a:lnTo>
                    <a:lnTo>
                      <a:pt x="583" y="236"/>
                    </a:lnTo>
                    <a:lnTo>
                      <a:pt x="578" y="236"/>
                    </a:lnTo>
                    <a:lnTo>
                      <a:pt x="572" y="236"/>
                    </a:lnTo>
                    <a:lnTo>
                      <a:pt x="568" y="236"/>
                    </a:lnTo>
                    <a:lnTo>
                      <a:pt x="562" y="236"/>
                    </a:lnTo>
                    <a:lnTo>
                      <a:pt x="558" y="236"/>
                    </a:lnTo>
                    <a:lnTo>
                      <a:pt x="552" y="236"/>
                    </a:lnTo>
                    <a:lnTo>
                      <a:pt x="547" y="236"/>
                    </a:lnTo>
                    <a:lnTo>
                      <a:pt x="541" y="236"/>
                    </a:lnTo>
                    <a:lnTo>
                      <a:pt x="537" y="236"/>
                    </a:lnTo>
                    <a:lnTo>
                      <a:pt x="531" y="236"/>
                    </a:lnTo>
                    <a:lnTo>
                      <a:pt x="526" y="236"/>
                    </a:lnTo>
                    <a:lnTo>
                      <a:pt x="520" y="236"/>
                    </a:lnTo>
                    <a:lnTo>
                      <a:pt x="516" y="236"/>
                    </a:lnTo>
                    <a:lnTo>
                      <a:pt x="510" y="236"/>
                    </a:lnTo>
                    <a:lnTo>
                      <a:pt x="506" y="236"/>
                    </a:lnTo>
                    <a:lnTo>
                      <a:pt x="500" y="236"/>
                    </a:lnTo>
                    <a:lnTo>
                      <a:pt x="495" y="236"/>
                    </a:lnTo>
                    <a:lnTo>
                      <a:pt x="489" y="236"/>
                    </a:lnTo>
                    <a:lnTo>
                      <a:pt x="483" y="236"/>
                    </a:lnTo>
                    <a:lnTo>
                      <a:pt x="479" y="236"/>
                    </a:lnTo>
                    <a:lnTo>
                      <a:pt x="474" y="236"/>
                    </a:lnTo>
                    <a:lnTo>
                      <a:pt x="468" y="234"/>
                    </a:lnTo>
                    <a:lnTo>
                      <a:pt x="464" y="234"/>
                    </a:lnTo>
                    <a:lnTo>
                      <a:pt x="458" y="234"/>
                    </a:lnTo>
                    <a:lnTo>
                      <a:pt x="454" y="234"/>
                    </a:lnTo>
                    <a:lnTo>
                      <a:pt x="448" y="233"/>
                    </a:lnTo>
                    <a:lnTo>
                      <a:pt x="443" y="233"/>
                    </a:lnTo>
                    <a:lnTo>
                      <a:pt x="439" y="233"/>
                    </a:lnTo>
                    <a:lnTo>
                      <a:pt x="434" y="233"/>
                    </a:lnTo>
                    <a:lnTo>
                      <a:pt x="428" y="233"/>
                    </a:lnTo>
                    <a:lnTo>
                      <a:pt x="424" y="232"/>
                    </a:lnTo>
                    <a:lnTo>
                      <a:pt x="420" y="232"/>
                    </a:lnTo>
                    <a:lnTo>
                      <a:pt x="417" y="232"/>
                    </a:lnTo>
                    <a:lnTo>
                      <a:pt x="411" y="232"/>
                    </a:lnTo>
                    <a:lnTo>
                      <a:pt x="406" y="230"/>
                    </a:lnTo>
                    <a:lnTo>
                      <a:pt x="402" y="230"/>
                    </a:lnTo>
                    <a:lnTo>
                      <a:pt x="397" y="230"/>
                    </a:lnTo>
                    <a:lnTo>
                      <a:pt x="394" y="229"/>
                    </a:lnTo>
                    <a:lnTo>
                      <a:pt x="390" y="229"/>
                    </a:lnTo>
                    <a:lnTo>
                      <a:pt x="385" y="229"/>
                    </a:lnTo>
                    <a:lnTo>
                      <a:pt x="382" y="229"/>
                    </a:lnTo>
                    <a:lnTo>
                      <a:pt x="378" y="229"/>
                    </a:lnTo>
                    <a:lnTo>
                      <a:pt x="375" y="227"/>
                    </a:lnTo>
                    <a:lnTo>
                      <a:pt x="371" y="227"/>
                    </a:lnTo>
                    <a:lnTo>
                      <a:pt x="368" y="227"/>
                    </a:lnTo>
                    <a:lnTo>
                      <a:pt x="362" y="226"/>
                    </a:lnTo>
                    <a:lnTo>
                      <a:pt x="356" y="226"/>
                    </a:lnTo>
                    <a:lnTo>
                      <a:pt x="350" y="224"/>
                    </a:lnTo>
                    <a:lnTo>
                      <a:pt x="345" y="224"/>
                    </a:lnTo>
                    <a:lnTo>
                      <a:pt x="341" y="224"/>
                    </a:lnTo>
                    <a:lnTo>
                      <a:pt x="338" y="224"/>
                    </a:lnTo>
                    <a:lnTo>
                      <a:pt x="333" y="223"/>
                    </a:lnTo>
                    <a:lnTo>
                      <a:pt x="332" y="223"/>
                    </a:lnTo>
                    <a:lnTo>
                      <a:pt x="332" y="223"/>
                    </a:lnTo>
                    <a:lnTo>
                      <a:pt x="335" y="223"/>
                    </a:lnTo>
                    <a:lnTo>
                      <a:pt x="338" y="223"/>
                    </a:lnTo>
                    <a:lnTo>
                      <a:pt x="342" y="223"/>
                    </a:lnTo>
                    <a:lnTo>
                      <a:pt x="344" y="221"/>
                    </a:lnTo>
                    <a:lnTo>
                      <a:pt x="347" y="221"/>
                    </a:lnTo>
                    <a:lnTo>
                      <a:pt x="351" y="221"/>
                    </a:lnTo>
                    <a:lnTo>
                      <a:pt x="354" y="221"/>
                    </a:lnTo>
                    <a:lnTo>
                      <a:pt x="357" y="221"/>
                    </a:lnTo>
                    <a:lnTo>
                      <a:pt x="362" y="221"/>
                    </a:lnTo>
                    <a:lnTo>
                      <a:pt x="366" y="221"/>
                    </a:lnTo>
                    <a:lnTo>
                      <a:pt x="371" y="221"/>
                    </a:lnTo>
                    <a:lnTo>
                      <a:pt x="375" y="221"/>
                    </a:lnTo>
                    <a:lnTo>
                      <a:pt x="379" y="220"/>
                    </a:lnTo>
                    <a:lnTo>
                      <a:pt x="384" y="220"/>
                    </a:lnTo>
                    <a:lnTo>
                      <a:pt x="390" y="220"/>
                    </a:lnTo>
                    <a:lnTo>
                      <a:pt x="394" y="218"/>
                    </a:lnTo>
                    <a:lnTo>
                      <a:pt x="400" y="218"/>
                    </a:lnTo>
                    <a:lnTo>
                      <a:pt x="405" y="218"/>
                    </a:lnTo>
                    <a:lnTo>
                      <a:pt x="412" y="218"/>
                    </a:lnTo>
                    <a:lnTo>
                      <a:pt x="417" y="217"/>
                    </a:lnTo>
                    <a:lnTo>
                      <a:pt x="422" y="217"/>
                    </a:lnTo>
                    <a:lnTo>
                      <a:pt x="428" y="217"/>
                    </a:lnTo>
                    <a:lnTo>
                      <a:pt x="434" y="215"/>
                    </a:lnTo>
                    <a:lnTo>
                      <a:pt x="442" y="215"/>
                    </a:lnTo>
                    <a:lnTo>
                      <a:pt x="448" y="214"/>
                    </a:lnTo>
                    <a:lnTo>
                      <a:pt x="454" y="214"/>
                    </a:lnTo>
                    <a:lnTo>
                      <a:pt x="461" y="214"/>
                    </a:lnTo>
                    <a:lnTo>
                      <a:pt x="467" y="212"/>
                    </a:lnTo>
                    <a:lnTo>
                      <a:pt x="474" y="212"/>
                    </a:lnTo>
                    <a:lnTo>
                      <a:pt x="480" y="211"/>
                    </a:lnTo>
                    <a:lnTo>
                      <a:pt x="488" y="209"/>
                    </a:lnTo>
                    <a:lnTo>
                      <a:pt x="494" y="209"/>
                    </a:lnTo>
                    <a:lnTo>
                      <a:pt x="500" y="208"/>
                    </a:lnTo>
                    <a:lnTo>
                      <a:pt x="507" y="206"/>
                    </a:lnTo>
                    <a:lnTo>
                      <a:pt x="513" y="206"/>
                    </a:lnTo>
                    <a:lnTo>
                      <a:pt x="520" y="205"/>
                    </a:lnTo>
                    <a:lnTo>
                      <a:pt x="526" y="203"/>
                    </a:lnTo>
                    <a:lnTo>
                      <a:pt x="534" y="202"/>
                    </a:lnTo>
                    <a:lnTo>
                      <a:pt x="540" y="202"/>
                    </a:lnTo>
                    <a:lnTo>
                      <a:pt x="547" y="200"/>
                    </a:lnTo>
                    <a:lnTo>
                      <a:pt x="553" y="199"/>
                    </a:lnTo>
                    <a:lnTo>
                      <a:pt x="559" y="199"/>
                    </a:lnTo>
                    <a:lnTo>
                      <a:pt x="566" y="197"/>
                    </a:lnTo>
                    <a:lnTo>
                      <a:pt x="572" y="196"/>
                    </a:lnTo>
                    <a:lnTo>
                      <a:pt x="578" y="194"/>
                    </a:lnTo>
                    <a:lnTo>
                      <a:pt x="584" y="193"/>
                    </a:lnTo>
                    <a:lnTo>
                      <a:pt x="590" y="191"/>
                    </a:lnTo>
                    <a:lnTo>
                      <a:pt x="596" y="190"/>
                    </a:lnTo>
                    <a:lnTo>
                      <a:pt x="602" y="188"/>
                    </a:lnTo>
                    <a:lnTo>
                      <a:pt x="606" y="187"/>
                    </a:lnTo>
                    <a:lnTo>
                      <a:pt x="612" y="186"/>
                    </a:lnTo>
                    <a:lnTo>
                      <a:pt x="618" y="184"/>
                    </a:lnTo>
                    <a:lnTo>
                      <a:pt x="623" y="183"/>
                    </a:lnTo>
                    <a:lnTo>
                      <a:pt x="627" y="180"/>
                    </a:lnTo>
                    <a:lnTo>
                      <a:pt x="633" y="178"/>
                    </a:lnTo>
                    <a:lnTo>
                      <a:pt x="638" y="177"/>
                    </a:lnTo>
                    <a:lnTo>
                      <a:pt x="641" y="175"/>
                    </a:lnTo>
                    <a:lnTo>
                      <a:pt x="645" y="172"/>
                    </a:lnTo>
                    <a:lnTo>
                      <a:pt x="650" y="172"/>
                    </a:lnTo>
                    <a:lnTo>
                      <a:pt x="655" y="166"/>
                    </a:lnTo>
                    <a:lnTo>
                      <a:pt x="663" y="162"/>
                    </a:lnTo>
                    <a:lnTo>
                      <a:pt x="669" y="157"/>
                    </a:lnTo>
                    <a:lnTo>
                      <a:pt x="676" y="153"/>
                    </a:lnTo>
                    <a:lnTo>
                      <a:pt x="681" y="147"/>
                    </a:lnTo>
                    <a:lnTo>
                      <a:pt x="687" y="141"/>
                    </a:lnTo>
                    <a:lnTo>
                      <a:pt x="691" y="137"/>
                    </a:lnTo>
                    <a:lnTo>
                      <a:pt x="697" y="132"/>
                    </a:lnTo>
                    <a:lnTo>
                      <a:pt x="700" y="126"/>
                    </a:lnTo>
                    <a:lnTo>
                      <a:pt x="704" y="120"/>
                    </a:lnTo>
                    <a:lnTo>
                      <a:pt x="709" y="116"/>
                    </a:lnTo>
                    <a:lnTo>
                      <a:pt x="713" y="110"/>
                    </a:lnTo>
                    <a:lnTo>
                      <a:pt x="716" y="104"/>
                    </a:lnTo>
                    <a:lnTo>
                      <a:pt x="719" y="98"/>
                    </a:lnTo>
                    <a:lnTo>
                      <a:pt x="722" y="94"/>
                    </a:lnTo>
                    <a:lnTo>
                      <a:pt x="727" y="89"/>
                    </a:lnTo>
                    <a:lnTo>
                      <a:pt x="728" y="83"/>
                    </a:lnTo>
                    <a:lnTo>
                      <a:pt x="730" y="79"/>
                    </a:lnTo>
                    <a:lnTo>
                      <a:pt x="733" y="73"/>
                    </a:lnTo>
                    <a:lnTo>
                      <a:pt x="734" y="70"/>
                    </a:lnTo>
                    <a:lnTo>
                      <a:pt x="736" y="64"/>
                    </a:lnTo>
                    <a:lnTo>
                      <a:pt x="737" y="61"/>
                    </a:lnTo>
                    <a:lnTo>
                      <a:pt x="739" y="56"/>
                    </a:lnTo>
                    <a:lnTo>
                      <a:pt x="741" y="53"/>
                    </a:lnTo>
                    <a:lnTo>
                      <a:pt x="741" y="50"/>
                    </a:lnTo>
                    <a:lnTo>
                      <a:pt x="741" y="48"/>
                    </a:lnTo>
                    <a:lnTo>
                      <a:pt x="743" y="45"/>
                    </a:lnTo>
                    <a:lnTo>
                      <a:pt x="744" y="43"/>
                    </a:lnTo>
                    <a:lnTo>
                      <a:pt x="744" y="40"/>
                    </a:lnTo>
                    <a:lnTo>
                      <a:pt x="744" y="40"/>
                    </a:lnTo>
                    <a:lnTo>
                      <a:pt x="602" y="59"/>
                    </a:lnTo>
                    <a:lnTo>
                      <a:pt x="599" y="59"/>
                    </a:lnTo>
                    <a:lnTo>
                      <a:pt x="595" y="58"/>
                    </a:lnTo>
                    <a:lnTo>
                      <a:pt x="590" y="58"/>
                    </a:lnTo>
                    <a:lnTo>
                      <a:pt x="586" y="58"/>
                    </a:lnTo>
                    <a:lnTo>
                      <a:pt x="580" y="56"/>
                    </a:lnTo>
                    <a:lnTo>
                      <a:pt x="575" y="56"/>
                    </a:lnTo>
                    <a:lnTo>
                      <a:pt x="571" y="56"/>
                    </a:lnTo>
                    <a:lnTo>
                      <a:pt x="568" y="56"/>
                    </a:lnTo>
                    <a:lnTo>
                      <a:pt x="563" y="55"/>
                    </a:lnTo>
                    <a:lnTo>
                      <a:pt x="560" y="55"/>
                    </a:lnTo>
                    <a:lnTo>
                      <a:pt x="556" y="55"/>
                    </a:lnTo>
                    <a:lnTo>
                      <a:pt x="553" y="55"/>
                    </a:lnTo>
                    <a:lnTo>
                      <a:pt x="549" y="55"/>
                    </a:lnTo>
                    <a:lnTo>
                      <a:pt x="546" y="55"/>
                    </a:lnTo>
                    <a:lnTo>
                      <a:pt x="540" y="55"/>
                    </a:lnTo>
                    <a:lnTo>
                      <a:pt x="535" y="55"/>
                    </a:lnTo>
                    <a:lnTo>
                      <a:pt x="532" y="53"/>
                    </a:lnTo>
                    <a:lnTo>
                      <a:pt x="528" y="53"/>
                    </a:lnTo>
                    <a:lnTo>
                      <a:pt x="522" y="53"/>
                    </a:lnTo>
                    <a:lnTo>
                      <a:pt x="517" y="53"/>
                    </a:lnTo>
                    <a:lnTo>
                      <a:pt x="513" y="53"/>
                    </a:lnTo>
                    <a:lnTo>
                      <a:pt x="509" y="53"/>
                    </a:lnTo>
                    <a:lnTo>
                      <a:pt x="503" y="53"/>
                    </a:lnTo>
                    <a:lnTo>
                      <a:pt x="498" y="53"/>
                    </a:lnTo>
                    <a:lnTo>
                      <a:pt x="492" y="53"/>
                    </a:lnTo>
                    <a:lnTo>
                      <a:pt x="488" y="53"/>
                    </a:lnTo>
                    <a:lnTo>
                      <a:pt x="482" y="53"/>
                    </a:lnTo>
                    <a:lnTo>
                      <a:pt x="477" y="53"/>
                    </a:lnTo>
                    <a:lnTo>
                      <a:pt x="473" y="53"/>
                    </a:lnTo>
                    <a:lnTo>
                      <a:pt x="467" y="53"/>
                    </a:lnTo>
                    <a:lnTo>
                      <a:pt x="461" y="53"/>
                    </a:lnTo>
                    <a:lnTo>
                      <a:pt x="457" y="53"/>
                    </a:lnTo>
                    <a:lnTo>
                      <a:pt x="451" y="53"/>
                    </a:lnTo>
                    <a:lnTo>
                      <a:pt x="446" y="53"/>
                    </a:lnTo>
                    <a:lnTo>
                      <a:pt x="440" y="53"/>
                    </a:lnTo>
                    <a:lnTo>
                      <a:pt x="434" y="55"/>
                    </a:lnTo>
                    <a:lnTo>
                      <a:pt x="428" y="55"/>
                    </a:lnTo>
                    <a:lnTo>
                      <a:pt x="424" y="55"/>
                    </a:lnTo>
                    <a:lnTo>
                      <a:pt x="418" y="55"/>
                    </a:lnTo>
                    <a:lnTo>
                      <a:pt x="412" y="55"/>
                    </a:lnTo>
                    <a:lnTo>
                      <a:pt x="408" y="56"/>
                    </a:lnTo>
                    <a:lnTo>
                      <a:pt x="402" y="56"/>
                    </a:lnTo>
                    <a:lnTo>
                      <a:pt x="396" y="56"/>
                    </a:lnTo>
                    <a:lnTo>
                      <a:pt x="391" y="58"/>
                    </a:lnTo>
                    <a:lnTo>
                      <a:pt x="385" y="58"/>
                    </a:lnTo>
                    <a:lnTo>
                      <a:pt x="381" y="59"/>
                    </a:lnTo>
                    <a:lnTo>
                      <a:pt x="375" y="59"/>
                    </a:lnTo>
                    <a:lnTo>
                      <a:pt x="371" y="61"/>
                    </a:lnTo>
                    <a:lnTo>
                      <a:pt x="365" y="61"/>
                    </a:lnTo>
                    <a:lnTo>
                      <a:pt x="360" y="62"/>
                    </a:lnTo>
                    <a:lnTo>
                      <a:pt x="356" y="62"/>
                    </a:lnTo>
                    <a:lnTo>
                      <a:pt x="351" y="64"/>
                    </a:lnTo>
                    <a:lnTo>
                      <a:pt x="345" y="65"/>
                    </a:lnTo>
                    <a:lnTo>
                      <a:pt x="341" y="67"/>
                    </a:lnTo>
                    <a:lnTo>
                      <a:pt x="336" y="67"/>
                    </a:lnTo>
                    <a:lnTo>
                      <a:pt x="332" y="68"/>
                    </a:lnTo>
                    <a:lnTo>
                      <a:pt x="328" y="70"/>
                    </a:lnTo>
                    <a:lnTo>
                      <a:pt x="323" y="71"/>
                    </a:lnTo>
                    <a:lnTo>
                      <a:pt x="319" y="73"/>
                    </a:lnTo>
                    <a:lnTo>
                      <a:pt x="316" y="74"/>
                    </a:lnTo>
                    <a:lnTo>
                      <a:pt x="311" y="74"/>
                    </a:lnTo>
                    <a:lnTo>
                      <a:pt x="308" y="77"/>
                    </a:lnTo>
                    <a:lnTo>
                      <a:pt x="304" y="79"/>
                    </a:lnTo>
                    <a:lnTo>
                      <a:pt x="299" y="79"/>
                    </a:lnTo>
                    <a:lnTo>
                      <a:pt x="296" y="80"/>
                    </a:lnTo>
                    <a:lnTo>
                      <a:pt x="292" y="82"/>
                    </a:lnTo>
                    <a:lnTo>
                      <a:pt x="284" y="86"/>
                    </a:lnTo>
                    <a:lnTo>
                      <a:pt x="279" y="89"/>
                    </a:lnTo>
                    <a:lnTo>
                      <a:pt x="276" y="92"/>
                    </a:lnTo>
                    <a:lnTo>
                      <a:pt x="271" y="94"/>
                    </a:lnTo>
                    <a:lnTo>
                      <a:pt x="268" y="95"/>
                    </a:lnTo>
                    <a:lnTo>
                      <a:pt x="265" y="96"/>
                    </a:lnTo>
                    <a:lnTo>
                      <a:pt x="259" y="101"/>
                    </a:lnTo>
                    <a:lnTo>
                      <a:pt x="253" y="105"/>
                    </a:lnTo>
                    <a:lnTo>
                      <a:pt x="247" y="108"/>
                    </a:lnTo>
                    <a:lnTo>
                      <a:pt x="243" y="113"/>
                    </a:lnTo>
                    <a:lnTo>
                      <a:pt x="237" y="117"/>
                    </a:lnTo>
                    <a:lnTo>
                      <a:pt x="233" y="123"/>
                    </a:lnTo>
                    <a:lnTo>
                      <a:pt x="227" y="126"/>
                    </a:lnTo>
                    <a:lnTo>
                      <a:pt x="221" y="131"/>
                    </a:lnTo>
                    <a:lnTo>
                      <a:pt x="216" y="135"/>
                    </a:lnTo>
                    <a:lnTo>
                      <a:pt x="210" y="141"/>
                    </a:lnTo>
                    <a:lnTo>
                      <a:pt x="206" y="145"/>
                    </a:lnTo>
                    <a:lnTo>
                      <a:pt x="201" y="150"/>
                    </a:lnTo>
                    <a:lnTo>
                      <a:pt x="195" y="154"/>
                    </a:lnTo>
                    <a:lnTo>
                      <a:pt x="191" y="160"/>
                    </a:lnTo>
                    <a:lnTo>
                      <a:pt x="185" y="165"/>
                    </a:lnTo>
                    <a:lnTo>
                      <a:pt x="181" y="169"/>
                    </a:lnTo>
                    <a:lnTo>
                      <a:pt x="176" y="174"/>
                    </a:lnTo>
                    <a:lnTo>
                      <a:pt x="170" y="178"/>
                    </a:lnTo>
                    <a:lnTo>
                      <a:pt x="166" y="183"/>
                    </a:lnTo>
                    <a:lnTo>
                      <a:pt x="160" y="187"/>
                    </a:lnTo>
                    <a:lnTo>
                      <a:pt x="154" y="191"/>
                    </a:lnTo>
                    <a:lnTo>
                      <a:pt x="149" y="197"/>
                    </a:lnTo>
                    <a:lnTo>
                      <a:pt x="142" y="200"/>
                    </a:lnTo>
                    <a:lnTo>
                      <a:pt x="136" y="205"/>
                    </a:lnTo>
                    <a:lnTo>
                      <a:pt x="130" y="208"/>
                    </a:lnTo>
                    <a:lnTo>
                      <a:pt x="124" y="212"/>
                    </a:lnTo>
                    <a:lnTo>
                      <a:pt x="117" y="215"/>
                    </a:lnTo>
                    <a:lnTo>
                      <a:pt x="111" y="220"/>
                    </a:lnTo>
                    <a:lnTo>
                      <a:pt x="105" y="223"/>
                    </a:lnTo>
                    <a:lnTo>
                      <a:pt x="99" y="227"/>
                    </a:lnTo>
                    <a:lnTo>
                      <a:pt x="92" y="229"/>
                    </a:lnTo>
                    <a:lnTo>
                      <a:pt x="86" y="233"/>
                    </a:lnTo>
                    <a:lnTo>
                      <a:pt x="80" y="234"/>
                    </a:lnTo>
                    <a:lnTo>
                      <a:pt x="72" y="237"/>
                    </a:lnTo>
                    <a:lnTo>
                      <a:pt x="66" y="240"/>
                    </a:lnTo>
                    <a:lnTo>
                      <a:pt x="62" y="243"/>
                    </a:lnTo>
                    <a:lnTo>
                      <a:pt x="56" y="245"/>
                    </a:lnTo>
                    <a:lnTo>
                      <a:pt x="50" y="248"/>
                    </a:lnTo>
                    <a:lnTo>
                      <a:pt x="44" y="249"/>
                    </a:lnTo>
                    <a:lnTo>
                      <a:pt x="40" y="251"/>
                    </a:lnTo>
                    <a:lnTo>
                      <a:pt x="34" y="254"/>
                    </a:lnTo>
                    <a:lnTo>
                      <a:pt x="29" y="255"/>
                    </a:lnTo>
                    <a:lnTo>
                      <a:pt x="25" y="257"/>
                    </a:lnTo>
                    <a:lnTo>
                      <a:pt x="20" y="258"/>
                    </a:lnTo>
                    <a:lnTo>
                      <a:pt x="17" y="258"/>
                    </a:lnTo>
                    <a:lnTo>
                      <a:pt x="13" y="261"/>
                    </a:lnTo>
                    <a:lnTo>
                      <a:pt x="10" y="261"/>
                    </a:lnTo>
                    <a:lnTo>
                      <a:pt x="7" y="263"/>
                    </a:lnTo>
                    <a:lnTo>
                      <a:pt x="4" y="263"/>
                    </a:lnTo>
                    <a:lnTo>
                      <a:pt x="3" y="264"/>
                    </a:lnTo>
                    <a:lnTo>
                      <a:pt x="0" y="264"/>
                    </a:lnTo>
                    <a:lnTo>
                      <a:pt x="244" y="59"/>
                    </a:lnTo>
                    <a:lnTo>
                      <a:pt x="244" y="5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465360" y="2219400"/>
                <a:ext cx="382680" cy="342720"/>
              </a:xfrm>
              <a:custGeom>
                <a:avLst/>
                <a:gdLst/>
                <a:ahLst/>
                <a:rect l="l" t="t" r="r" b="b"/>
                <a:pathLst>
                  <a:path w="484" h="431">
                    <a:moveTo>
                      <a:pt x="444" y="7"/>
                    </a:moveTo>
                    <a:lnTo>
                      <a:pt x="442" y="9"/>
                    </a:lnTo>
                    <a:lnTo>
                      <a:pt x="441" y="13"/>
                    </a:lnTo>
                    <a:lnTo>
                      <a:pt x="439" y="14"/>
                    </a:lnTo>
                    <a:lnTo>
                      <a:pt x="436" y="19"/>
                    </a:lnTo>
                    <a:lnTo>
                      <a:pt x="435" y="23"/>
                    </a:lnTo>
                    <a:lnTo>
                      <a:pt x="433" y="29"/>
                    </a:lnTo>
                    <a:lnTo>
                      <a:pt x="430" y="34"/>
                    </a:lnTo>
                    <a:lnTo>
                      <a:pt x="427" y="40"/>
                    </a:lnTo>
                    <a:lnTo>
                      <a:pt x="424" y="43"/>
                    </a:lnTo>
                    <a:lnTo>
                      <a:pt x="423" y="47"/>
                    </a:lnTo>
                    <a:lnTo>
                      <a:pt x="421" y="50"/>
                    </a:lnTo>
                    <a:lnTo>
                      <a:pt x="420" y="55"/>
                    </a:lnTo>
                    <a:lnTo>
                      <a:pt x="417" y="58"/>
                    </a:lnTo>
                    <a:lnTo>
                      <a:pt x="416" y="62"/>
                    </a:lnTo>
                    <a:lnTo>
                      <a:pt x="414" y="65"/>
                    </a:lnTo>
                    <a:lnTo>
                      <a:pt x="411" y="69"/>
                    </a:lnTo>
                    <a:lnTo>
                      <a:pt x="410" y="74"/>
                    </a:lnTo>
                    <a:lnTo>
                      <a:pt x="407" y="78"/>
                    </a:lnTo>
                    <a:lnTo>
                      <a:pt x="404" y="83"/>
                    </a:lnTo>
                    <a:lnTo>
                      <a:pt x="402" y="89"/>
                    </a:lnTo>
                    <a:lnTo>
                      <a:pt x="399" y="92"/>
                    </a:lnTo>
                    <a:lnTo>
                      <a:pt x="396" y="96"/>
                    </a:lnTo>
                    <a:lnTo>
                      <a:pt x="393" y="101"/>
                    </a:lnTo>
                    <a:lnTo>
                      <a:pt x="390" y="106"/>
                    </a:lnTo>
                    <a:lnTo>
                      <a:pt x="387" y="111"/>
                    </a:lnTo>
                    <a:lnTo>
                      <a:pt x="384" y="115"/>
                    </a:lnTo>
                    <a:lnTo>
                      <a:pt x="380" y="120"/>
                    </a:lnTo>
                    <a:lnTo>
                      <a:pt x="378" y="126"/>
                    </a:lnTo>
                    <a:lnTo>
                      <a:pt x="374" y="129"/>
                    </a:lnTo>
                    <a:lnTo>
                      <a:pt x="371" y="135"/>
                    </a:lnTo>
                    <a:lnTo>
                      <a:pt x="368" y="139"/>
                    </a:lnTo>
                    <a:lnTo>
                      <a:pt x="365" y="145"/>
                    </a:lnTo>
                    <a:lnTo>
                      <a:pt x="361" y="150"/>
                    </a:lnTo>
                    <a:lnTo>
                      <a:pt x="358" y="155"/>
                    </a:lnTo>
                    <a:lnTo>
                      <a:pt x="353" y="160"/>
                    </a:lnTo>
                    <a:lnTo>
                      <a:pt x="350" y="166"/>
                    </a:lnTo>
                    <a:lnTo>
                      <a:pt x="346" y="170"/>
                    </a:lnTo>
                    <a:lnTo>
                      <a:pt x="341" y="176"/>
                    </a:lnTo>
                    <a:lnTo>
                      <a:pt x="337" y="181"/>
                    </a:lnTo>
                    <a:lnTo>
                      <a:pt x="332" y="187"/>
                    </a:lnTo>
                    <a:lnTo>
                      <a:pt x="328" y="191"/>
                    </a:lnTo>
                    <a:lnTo>
                      <a:pt x="324" y="197"/>
                    </a:lnTo>
                    <a:lnTo>
                      <a:pt x="321" y="201"/>
                    </a:lnTo>
                    <a:lnTo>
                      <a:pt x="316" y="207"/>
                    </a:lnTo>
                    <a:lnTo>
                      <a:pt x="312" y="212"/>
                    </a:lnTo>
                    <a:lnTo>
                      <a:pt x="306" y="218"/>
                    </a:lnTo>
                    <a:lnTo>
                      <a:pt x="301" y="222"/>
                    </a:lnTo>
                    <a:lnTo>
                      <a:pt x="297" y="228"/>
                    </a:lnTo>
                    <a:lnTo>
                      <a:pt x="291" y="233"/>
                    </a:lnTo>
                    <a:lnTo>
                      <a:pt x="286" y="239"/>
                    </a:lnTo>
                    <a:lnTo>
                      <a:pt x="282" y="243"/>
                    </a:lnTo>
                    <a:lnTo>
                      <a:pt x="278" y="249"/>
                    </a:lnTo>
                    <a:lnTo>
                      <a:pt x="272" y="253"/>
                    </a:lnTo>
                    <a:lnTo>
                      <a:pt x="266" y="258"/>
                    </a:lnTo>
                    <a:lnTo>
                      <a:pt x="260" y="262"/>
                    </a:lnTo>
                    <a:lnTo>
                      <a:pt x="255" y="268"/>
                    </a:lnTo>
                    <a:lnTo>
                      <a:pt x="249" y="273"/>
                    </a:lnTo>
                    <a:lnTo>
                      <a:pt x="243" y="277"/>
                    </a:lnTo>
                    <a:lnTo>
                      <a:pt x="237" y="282"/>
                    </a:lnTo>
                    <a:lnTo>
                      <a:pt x="233" y="288"/>
                    </a:lnTo>
                    <a:lnTo>
                      <a:pt x="227" y="290"/>
                    </a:lnTo>
                    <a:lnTo>
                      <a:pt x="221" y="295"/>
                    </a:lnTo>
                    <a:lnTo>
                      <a:pt x="215" y="299"/>
                    </a:lnTo>
                    <a:lnTo>
                      <a:pt x="209" y="305"/>
                    </a:lnTo>
                    <a:lnTo>
                      <a:pt x="203" y="308"/>
                    </a:lnTo>
                    <a:lnTo>
                      <a:pt x="197" y="314"/>
                    </a:lnTo>
                    <a:lnTo>
                      <a:pt x="191" y="317"/>
                    </a:lnTo>
                    <a:lnTo>
                      <a:pt x="186" y="322"/>
                    </a:lnTo>
                    <a:lnTo>
                      <a:pt x="180" y="326"/>
                    </a:lnTo>
                    <a:lnTo>
                      <a:pt x="174" y="329"/>
                    </a:lnTo>
                    <a:lnTo>
                      <a:pt x="168" y="334"/>
                    </a:lnTo>
                    <a:lnTo>
                      <a:pt x="162" y="338"/>
                    </a:lnTo>
                    <a:lnTo>
                      <a:pt x="156" y="341"/>
                    </a:lnTo>
                    <a:lnTo>
                      <a:pt x="150" y="345"/>
                    </a:lnTo>
                    <a:lnTo>
                      <a:pt x="145" y="348"/>
                    </a:lnTo>
                    <a:lnTo>
                      <a:pt x="140" y="353"/>
                    </a:lnTo>
                    <a:lnTo>
                      <a:pt x="134" y="356"/>
                    </a:lnTo>
                    <a:lnTo>
                      <a:pt x="128" y="360"/>
                    </a:lnTo>
                    <a:lnTo>
                      <a:pt x="123" y="363"/>
                    </a:lnTo>
                    <a:lnTo>
                      <a:pt x="117" y="366"/>
                    </a:lnTo>
                    <a:lnTo>
                      <a:pt x="111" y="371"/>
                    </a:lnTo>
                    <a:lnTo>
                      <a:pt x="107" y="374"/>
                    </a:lnTo>
                    <a:lnTo>
                      <a:pt x="101" y="377"/>
                    </a:lnTo>
                    <a:lnTo>
                      <a:pt x="97" y="381"/>
                    </a:lnTo>
                    <a:lnTo>
                      <a:pt x="91" y="382"/>
                    </a:lnTo>
                    <a:lnTo>
                      <a:pt x="85" y="385"/>
                    </a:lnTo>
                    <a:lnTo>
                      <a:pt x="80" y="388"/>
                    </a:lnTo>
                    <a:lnTo>
                      <a:pt x="76" y="391"/>
                    </a:lnTo>
                    <a:lnTo>
                      <a:pt x="70" y="394"/>
                    </a:lnTo>
                    <a:lnTo>
                      <a:pt x="67" y="396"/>
                    </a:lnTo>
                    <a:lnTo>
                      <a:pt x="61" y="399"/>
                    </a:lnTo>
                    <a:lnTo>
                      <a:pt x="58" y="402"/>
                    </a:lnTo>
                    <a:lnTo>
                      <a:pt x="52" y="405"/>
                    </a:lnTo>
                    <a:lnTo>
                      <a:pt x="48" y="406"/>
                    </a:lnTo>
                    <a:lnTo>
                      <a:pt x="45" y="408"/>
                    </a:lnTo>
                    <a:lnTo>
                      <a:pt x="40" y="411"/>
                    </a:lnTo>
                    <a:lnTo>
                      <a:pt x="37" y="412"/>
                    </a:lnTo>
                    <a:lnTo>
                      <a:pt x="33" y="415"/>
                    </a:lnTo>
                    <a:lnTo>
                      <a:pt x="30" y="417"/>
                    </a:lnTo>
                    <a:lnTo>
                      <a:pt x="27" y="418"/>
                    </a:lnTo>
                    <a:lnTo>
                      <a:pt x="21" y="421"/>
                    </a:lnTo>
                    <a:lnTo>
                      <a:pt x="15" y="424"/>
                    </a:lnTo>
                    <a:lnTo>
                      <a:pt x="10" y="427"/>
                    </a:lnTo>
                    <a:lnTo>
                      <a:pt x="7" y="428"/>
                    </a:lnTo>
                    <a:lnTo>
                      <a:pt x="2" y="431"/>
                    </a:lnTo>
                    <a:lnTo>
                      <a:pt x="0" y="431"/>
                    </a:lnTo>
                    <a:lnTo>
                      <a:pt x="2" y="431"/>
                    </a:lnTo>
                    <a:lnTo>
                      <a:pt x="3" y="431"/>
                    </a:lnTo>
                    <a:lnTo>
                      <a:pt x="7" y="430"/>
                    </a:lnTo>
                    <a:lnTo>
                      <a:pt x="10" y="430"/>
                    </a:lnTo>
                    <a:lnTo>
                      <a:pt x="16" y="428"/>
                    </a:lnTo>
                    <a:lnTo>
                      <a:pt x="19" y="428"/>
                    </a:lnTo>
                    <a:lnTo>
                      <a:pt x="22" y="427"/>
                    </a:lnTo>
                    <a:lnTo>
                      <a:pt x="25" y="427"/>
                    </a:lnTo>
                    <a:lnTo>
                      <a:pt x="30" y="427"/>
                    </a:lnTo>
                    <a:lnTo>
                      <a:pt x="33" y="426"/>
                    </a:lnTo>
                    <a:lnTo>
                      <a:pt x="37" y="426"/>
                    </a:lnTo>
                    <a:lnTo>
                      <a:pt x="40" y="424"/>
                    </a:lnTo>
                    <a:lnTo>
                      <a:pt x="45" y="423"/>
                    </a:lnTo>
                    <a:lnTo>
                      <a:pt x="49" y="423"/>
                    </a:lnTo>
                    <a:lnTo>
                      <a:pt x="53" y="421"/>
                    </a:lnTo>
                    <a:lnTo>
                      <a:pt x="58" y="420"/>
                    </a:lnTo>
                    <a:lnTo>
                      <a:pt x="62" y="420"/>
                    </a:lnTo>
                    <a:lnTo>
                      <a:pt x="67" y="417"/>
                    </a:lnTo>
                    <a:lnTo>
                      <a:pt x="73" y="415"/>
                    </a:lnTo>
                    <a:lnTo>
                      <a:pt x="77" y="415"/>
                    </a:lnTo>
                    <a:lnTo>
                      <a:pt x="83" y="414"/>
                    </a:lnTo>
                    <a:lnTo>
                      <a:pt x="89" y="412"/>
                    </a:lnTo>
                    <a:lnTo>
                      <a:pt x="94" y="411"/>
                    </a:lnTo>
                    <a:lnTo>
                      <a:pt x="99" y="409"/>
                    </a:lnTo>
                    <a:lnTo>
                      <a:pt x="105" y="408"/>
                    </a:lnTo>
                    <a:lnTo>
                      <a:pt x="111" y="405"/>
                    </a:lnTo>
                    <a:lnTo>
                      <a:pt x="117" y="403"/>
                    </a:lnTo>
                    <a:lnTo>
                      <a:pt x="123" y="402"/>
                    </a:lnTo>
                    <a:lnTo>
                      <a:pt x="129" y="400"/>
                    </a:lnTo>
                    <a:lnTo>
                      <a:pt x="134" y="397"/>
                    </a:lnTo>
                    <a:lnTo>
                      <a:pt x="141" y="396"/>
                    </a:lnTo>
                    <a:lnTo>
                      <a:pt x="147" y="393"/>
                    </a:lnTo>
                    <a:lnTo>
                      <a:pt x="153" y="391"/>
                    </a:lnTo>
                    <a:lnTo>
                      <a:pt x="159" y="388"/>
                    </a:lnTo>
                    <a:lnTo>
                      <a:pt x="166" y="385"/>
                    </a:lnTo>
                    <a:lnTo>
                      <a:pt x="171" y="382"/>
                    </a:lnTo>
                    <a:lnTo>
                      <a:pt x="178" y="380"/>
                    </a:lnTo>
                    <a:lnTo>
                      <a:pt x="184" y="377"/>
                    </a:lnTo>
                    <a:lnTo>
                      <a:pt x="191" y="374"/>
                    </a:lnTo>
                    <a:lnTo>
                      <a:pt x="197" y="371"/>
                    </a:lnTo>
                    <a:lnTo>
                      <a:pt x="205" y="369"/>
                    </a:lnTo>
                    <a:lnTo>
                      <a:pt x="209" y="365"/>
                    </a:lnTo>
                    <a:lnTo>
                      <a:pt x="217" y="362"/>
                    </a:lnTo>
                    <a:lnTo>
                      <a:pt x="223" y="357"/>
                    </a:lnTo>
                    <a:lnTo>
                      <a:pt x="229" y="354"/>
                    </a:lnTo>
                    <a:lnTo>
                      <a:pt x="235" y="351"/>
                    </a:lnTo>
                    <a:lnTo>
                      <a:pt x="242" y="347"/>
                    </a:lnTo>
                    <a:lnTo>
                      <a:pt x="248" y="344"/>
                    </a:lnTo>
                    <a:lnTo>
                      <a:pt x="254" y="339"/>
                    </a:lnTo>
                    <a:lnTo>
                      <a:pt x="260" y="335"/>
                    </a:lnTo>
                    <a:lnTo>
                      <a:pt x="266" y="331"/>
                    </a:lnTo>
                    <a:lnTo>
                      <a:pt x="272" y="326"/>
                    </a:lnTo>
                    <a:lnTo>
                      <a:pt x="279" y="322"/>
                    </a:lnTo>
                    <a:lnTo>
                      <a:pt x="283" y="317"/>
                    </a:lnTo>
                    <a:lnTo>
                      <a:pt x="291" y="313"/>
                    </a:lnTo>
                    <a:lnTo>
                      <a:pt x="297" y="308"/>
                    </a:lnTo>
                    <a:lnTo>
                      <a:pt x="303" y="304"/>
                    </a:lnTo>
                    <a:lnTo>
                      <a:pt x="307" y="298"/>
                    </a:lnTo>
                    <a:lnTo>
                      <a:pt x="313" y="292"/>
                    </a:lnTo>
                    <a:lnTo>
                      <a:pt x="318" y="288"/>
                    </a:lnTo>
                    <a:lnTo>
                      <a:pt x="324" y="282"/>
                    </a:lnTo>
                    <a:lnTo>
                      <a:pt x="328" y="276"/>
                    </a:lnTo>
                    <a:lnTo>
                      <a:pt x="334" y="270"/>
                    </a:lnTo>
                    <a:lnTo>
                      <a:pt x="338" y="264"/>
                    </a:lnTo>
                    <a:lnTo>
                      <a:pt x="344" y="259"/>
                    </a:lnTo>
                    <a:lnTo>
                      <a:pt x="349" y="253"/>
                    </a:lnTo>
                    <a:lnTo>
                      <a:pt x="353" y="246"/>
                    </a:lnTo>
                    <a:lnTo>
                      <a:pt x="358" y="240"/>
                    </a:lnTo>
                    <a:lnTo>
                      <a:pt x="364" y="234"/>
                    </a:lnTo>
                    <a:lnTo>
                      <a:pt x="368" y="228"/>
                    </a:lnTo>
                    <a:lnTo>
                      <a:pt x="373" y="222"/>
                    </a:lnTo>
                    <a:lnTo>
                      <a:pt x="375" y="215"/>
                    </a:lnTo>
                    <a:lnTo>
                      <a:pt x="381" y="210"/>
                    </a:lnTo>
                    <a:lnTo>
                      <a:pt x="384" y="203"/>
                    </a:lnTo>
                    <a:lnTo>
                      <a:pt x="389" y="197"/>
                    </a:lnTo>
                    <a:lnTo>
                      <a:pt x="393" y="190"/>
                    </a:lnTo>
                    <a:lnTo>
                      <a:pt x="398" y="185"/>
                    </a:lnTo>
                    <a:lnTo>
                      <a:pt x="401" y="178"/>
                    </a:lnTo>
                    <a:lnTo>
                      <a:pt x="405" y="172"/>
                    </a:lnTo>
                    <a:lnTo>
                      <a:pt x="408" y="164"/>
                    </a:lnTo>
                    <a:lnTo>
                      <a:pt x="413" y="158"/>
                    </a:lnTo>
                    <a:lnTo>
                      <a:pt x="416" y="152"/>
                    </a:lnTo>
                    <a:lnTo>
                      <a:pt x="419" y="147"/>
                    </a:lnTo>
                    <a:lnTo>
                      <a:pt x="421" y="141"/>
                    </a:lnTo>
                    <a:lnTo>
                      <a:pt x="424" y="135"/>
                    </a:lnTo>
                    <a:lnTo>
                      <a:pt x="429" y="129"/>
                    </a:lnTo>
                    <a:lnTo>
                      <a:pt x="432" y="121"/>
                    </a:lnTo>
                    <a:lnTo>
                      <a:pt x="435" y="117"/>
                    </a:lnTo>
                    <a:lnTo>
                      <a:pt x="438" y="111"/>
                    </a:lnTo>
                    <a:lnTo>
                      <a:pt x="441" y="105"/>
                    </a:lnTo>
                    <a:lnTo>
                      <a:pt x="444" y="99"/>
                    </a:lnTo>
                    <a:lnTo>
                      <a:pt x="445" y="93"/>
                    </a:lnTo>
                    <a:lnTo>
                      <a:pt x="448" y="87"/>
                    </a:lnTo>
                    <a:lnTo>
                      <a:pt x="451" y="81"/>
                    </a:lnTo>
                    <a:lnTo>
                      <a:pt x="453" y="77"/>
                    </a:lnTo>
                    <a:lnTo>
                      <a:pt x="456" y="71"/>
                    </a:lnTo>
                    <a:lnTo>
                      <a:pt x="459" y="66"/>
                    </a:lnTo>
                    <a:lnTo>
                      <a:pt x="460" y="60"/>
                    </a:lnTo>
                    <a:lnTo>
                      <a:pt x="462" y="56"/>
                    </a:lnTo>
                    <a:lnTo>
                      <a:pt x="463" y="52"/>
                    </a:lnTo>
                    <a:lnTo>
                      <a:pt x="466" y="47"/>
                    </a:lnTo>
                    <a:lnTo>
                      <a:pt x="466" y="43"/>
                    </a:lnTo>
                    <a:lnTo>
                      <a:pt x="469" y="38"/>
                    </a:lnTo>
                    <a:lnTo>
                      <a:pt x="470" y="35"/>
                    </a:lnTo>
                    <a:lnTo>
                      <a:pt x="472" y="31"/>
                    </a:lnTo>
                    <a:lnTo>
                      <a:pt x="473" y="28"/>
                    </a:lnTo>
                    <a:lnTo>
                      <a:pt x="473" y="23"/>
                    </a:lnTo>
                    <a:lnTo>
                      <a:pt x="475" y="20"/>
                    </a:lnTo>
                    <a:lnTo>
                      <a:pt x="476" y="17"/>
                    </a:lnTo>
                    <a:lnTo>
                      <a:pt x="478" y="12"/>
                    </a:lnTo>
                    <a:lnTo>
                      <a:pt x="481" y="7"/>
                    </a:lnTo>
                    <a:lnTo>
                      <a:pt x="481" y="3"/>
                    </a:lnTo>
                    <a:lnTo>
                      <a:pt x="482" y="1"/>
                    </a:lnTo>
                    <a:lnTo>
                      <a:pt x="484" y="0"/>
                    </a:lnTo>
                    <a:lnTo>
                      <a:pt x="444" y="7"/>
                    </a:lnTo>
                    <a:lnTo>
                      <a:pt x="444"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33560" y="2141640"/>
                <a:ext cx="397080" cy="330120"/>
              </a:xfrm>
              <a:custGeom>
                <a:avLst/>
                <a:gdLst/>
                <a:ahLst/>
                <a:rect l="l" t="t" r="r" b="b"/>
                <a:pathLst>
                  <a:path w="500" h="417">
                    <a:moveTo>
                      <a:pt x="465" y="14"/>
                    </a:moveTo>
                    <a:lnTo>
                      <a:pt x="465" y="14"/>
                    </a:lnTo>
                    <a:lnTo>
                      <a:pt x="465" y="17"/>
                    </a:lnTo>
                    <a:lnTo>
                      <a:pt x="465" y="20"/>
                    </a:lnTo>
                    <a:lnTo>
                      <a:pt x="466" y="25"/>
                    </a:lnTo>
                    <a:lnTo>
                      <a:pt x="465" y="30"/>
                    </a:lnTo>
                    <a:lnTo>
                      <a:pt x="465" y="33"/>
                    </a:lnTo>
                    <a:lnTo>
                      <a:pt x="465" y="37"/>
                    </a:lnTo>
                    <a:lnTo>
                      <a:pt x="465" y="42"/>
                    </a:lnTo>
                    <a:lnTo>
                      <a:pt x="465" y="46"/>
                    </a:lnTo>
                    <a:lnTo>
                      <a:pt x="465" y="52"/>
                    </a:lnTo>
                    <a:lnTo>
                      <a:pt x="465" y="58"/>
                    </a:lnTo>
                    <a:lnTo>
                      <a:pt x="463" y="64"/>
                    </a:lnTo>
                    <a:lnTo>
                      <a:pt x="462" y="70"/>
                    </a:lnTo>
                    <a:lnTo>
                      <a:pt x="460" y="76"/>
                    </a:lnTo>
                    <a:lnTo>
                      <a:pt x="459" y="82"/>
                    </a:lnTo>
                    <a:lnTo>
                      <a:pt x="457" y="89"/>
                    </a:lnTo>
                    <a:lnTo>
                      <a:pt x="456" y="92"/>
                    </a:lnTo>
                    <a:lnTo>
                      <a:pt x="454" y="95"/>
                    </a:lnTo>
                    <a:lnTo>
                      <a:pt x="453" y="98"/>
                    </a:lnTo>
                    <a:lnTo>
                      <a:pt x="451" y="103"/>
                    </a:lnTo>
                    <a:lnTo>
                      <a:pt x="450" y="106"/>
                    </a:lnTo>
                    <a:lnTo>
                      <a:pt x="448" y="110"/>
                    </a:lnTo>
                    <a:lnTo>
                      <a:pt x="447" y="113"/>
                    </a:lnTo>
                    <a:lnTo>
                      <a:pt x="446" y="117"/>
                    </a:lnTo>
                    <a:lnTo>
                      <a:pt x="444" y="122"/>
                    </a:lnTo>
                    <a:lnTo>
                      <a:pt x="443" y="125"/>
                    </a:lnTo>
                    <a:lnTo>
                      <a:pt x="440" y="129"/>
                    </a:lnTo>
                    <a:lnTo>
                      <a:pt x="438" y="132"/>
                    </a:lnTo>
                    <a:lnTo>
                      <a:pt x="435" y="137"/>
                    </a:lnTo>
                    <a:lnTo>
                      <a:pt x="434" y="141"/>
                    </a:lnTo>
                    <a:lnTo>
                      <a:pt x="431" y="146"/>
                    </a:lnTo>
                    <a:lnTo>
                      <a:pt x="428" y="150"/>
                    </a:lnTo>
                    <a:lnTo>
                      <a:pt x="425" y="153"/>
                    </a:lnTo>
                    <a:lnTo>
                      <a:pt x="422" y="158"/>
                    </a:lnTo>
                    <a:lnTo>
                      <a:pt x="419" y="162"/>
                    </a:lnTo>
                    <a:lnTo>
                      <a:pt x="416" y="166"/>
                    </a:lnTo>
                    <a:lnTo>
                      <a:pt x="413" y="169"/>
                    </a:lnTo>
                    <a:lnTo>
                      <a:pt x="410" y="174"/>
                    </a:lnTo>
                    <a:lnTo>
                      <a:pt x="405" y="178"/>
                    </a:lnTo>
                    <a:lnTo>
                      <a:pt x="403" y="184"/>
                    </a:lnTo>
                    <a:lnTo>
                      <a:pt x="398" y="187"/>
                    </a:lnTo>
                    <a:lnTo>
                      <a:pt x="395" y="192"/>
                    </a:lnTo>
                    <a:lnTo>
                      <a:pt x="391" y="196"/>
                    </a:lnTo>
                    <a:lnTo>
                      <a:pt x="386" y="201"/>
                    </a:lnTo>
                    <a:lnTo>
                      <a:pt x="382" y="204"/>
                    </a:lnTo>
                    <a:lnTo>
                      <a:pt x="377" y="209"/>
                    </a:lnTo>
                    <a:lnTo>
                      <a:pt x="373" y="212"/>
                    </a:lnTo>
                    <a:lnTo>
                      <a:pt x="368" y="218"/>
                    </a:lnTo>
                    <a:lnTo>
                      <a:pt x="364" y="221"/>
                    </a:lnTo>
                    <a:lnTo>
                      <a:pt x="358" y="226"/>
                    </a:lnTo>
                    <a:lnTo>
                      <a:pt x="354" y="230"/>
                    </a:lnTo>
                    <a:lnTo>
                      <a:pt x="349" y="235"/>
                    </a:lnTo>
                    <a:lnTo>
                      <a:pt x="343" y="239"/>
                    </a:lnTo>
                    <a:lnTo>
                      <a:pt x="337" y="244"/>
                    </a:lnTo>
                    <a:lnTo>
                      <a:pt x="333" y="248"/>
                    </a:lnTo>
                    <a:lnTo>
                      <a:pt x="328" y="252"/>
                    </a:lnTo>
                    <a:lnTo>
                      <a:pt x="322" y="255"/>
                    </a:lnTo>
                    <a:lnTo>
                      <a:pt x="316" y="260"/>
                    </a:lnTo>
                    <a:lnTo>
                      <a:pt x="311" y="264"/>
                    </a:lnTo>
                    <a:lnTo>
                      <a:pt x="305" y="269"/>
                    </a:lnTo>
                    <a:lnTo>
                      <a:pt x="300" y="272"/>
                    </a:lnTo>
                    <a:lnTo>
                      <a:pt x="294" y="276"/>
                    </a:lnTo>
                    <a:lnTo>
                      <a:pt x="288" y="281"/>
                    </a:lnTo>
                    <a:lnTo>
                      <a:pt x="282" y="285"/>
                    </a:lnTo>
                    <a:lnTo>
                      <a:pt x="276" y="288"/>
                    </a:lnTo>
                    <a:lnTo>
                      <a:pt x="270" y="293"/>
                    </a:lnTo>
                    <a:lnTo>
                      <a:pt x="265" y="296"/>
                    </a:lnTo>
                    <a:lnTo>
                      <a:pt x="259" y="300"/>
                    </a:lnTo>
                    <a:lnTo>
                      <a:pt x="253" y="304"/>
                    </a:lnTo>
                    <a:lnTo>
                      <a:pt x="248" y="307"/>
                    </a:lnTo>
                    <a:lnTo>
                      <a:pt x="242" y="312"/>
                    </a:lnTo>
                    <a:lnTo>
                      <a:pt x="236" y="315"/>
                    </a:lnTo>
                    <a:lnTo>
                      <a:pt x="230" y="318"/>
                    </a:lnTo>
                    <a:lnTo>
                      <a:pt x="224" y="321"/>
                    </a:lnTo>
                    <a:lnTo>
                      <a:pt x="219" y="324"/>
                    </a:lnTo>
                    <a:lnTo>
                      <a:pt x="213" y="327"/>
                    </a:lnTo>
                    <a:lnTo>
                      <a:pt x="207" y="330"/>
                    </a:lnTo>
                    <a:lnTo>
                      <a:pt x="201" y="334"/>
                    </a:lnTo>
                    <a:lnTo>
                      <a:pt x="195" y="337"/>
                    </a:lnTo>
                    <a:lnTo>
                      <a:pt x="190" y="340"/>
                    </a:lnTo>
                    <a:lnTo>
                      <a:pt x="184" y="342"/>
                    </a:lnTo>
                    <a:lnTo>
                      <a:pt x="178" y="344"/>
                    </a:lnTo>
                    <a:lnTo>
                      <a:pt x="173" y="347"/>
                    </a:lnTo>
                    <a:lnTo>
                      <a:pt x="168" y="350"/>
                    </a:lnTo>
                    <a:lnTo>
                      <a:pt x="162" y="352"/>
                    </a:lnTo>
                    <a:lnTo>
                      <a:pt x="156" y="355"/>
                    </a:lnTo>
                    <a:lnTo>
                      <a:pt x="152" y="356"/>
                    </a:lnTo>
                    <a:lnTo>
                      <a:pt x="147" y="359"/>
                    </a:lnTo>
                    <a:lnTo>
                      <a:pt x="141" y="361"/>
                    </a:lnTo>
                    <a:lnTo>
                      <a:pt x="137" y="362"/>
                    </a:lnTo>
                    <a:lnTo>
                      <a:pt x="131" y="364"/>
                    </a:lnTo>
                    <a:lnTo>
                      <a:pt x="128" y="367"/>
                    </a:lnTo>
                    <a:lnTo>
                      <a:pt x="122" y="368"/>
                    </a:lnTo>
                    <a:lnTo>
                      <a:pt x="118" y="368"/>
                    </a:lnTo>
                    <a:lnTo>
                      <a:pt x="113" y="370"/>
                    </a:lnTo>
                    <a:lnTo>
                      <a:pt x="109" y="371"/>
                    </a:lnTo>
                    <a:lnTo>
                      <a:pt x="106" y="373"/>
                    </a:lnTo>
                    <a:lnTo>
                      <a:pt x="101" y="373"/>
                    </a:lnTo>
                    <a:lnTo>
                      <a:pt x="97" y="373"/>
                    </a:lnTo>
                    <a:lnTo>
                      <a:pt x="94" y="374"/>
                    </a:lnTo>
                    <a:lnTo>
                      <a:pt x="89" y="376"/>
                    </a:lnTo>
                    <a:lnTo>
                      <a:pt x="86" y="376"/>
                    </a:lnTo>
                    <a:lnTo>
                      <a:pt x="83" y="376"/>
                    </a:lnTo>
                    <a:lnTo>
                      <a:pt x="81" y="376"/>
                    </a:lnTo>
                    <a:lnTo>
                      <a:pt x="73" y="376"/>
                    </a:lnTo>
                    <a:lnTo>
                      <a:pt x="69" y="374"/>
                    </a:lnTo>
                    <a:lnTo>
                      <a:pt x="64" y="373"/>
                    </a:lnTo>
                    <a:lnTo>
                      <a:pt x="60" y="371"/>
                    </a:lnTo>
                    <a:lnTo>
                      <a:pt x="57" y="368"/>
                    </a:lnTo>
                    <a:lnTo>
                      <a:pt x="52" y="364"/>
                    </a:lnTo>
                    <a:lnTo>
                      <a:pt x="51" y="361"/>
                    </a:lnTo>
                    <a:lnTo>
                      <a:pt x="49" y="358"/>
                    </a:lnTo>
                    <a:lnTo>
                      <a:pt x="46" y="353"/>
                    </a:lnTo>
                    <a:lnTo>
                      <a:pt x="45" y="349"/>
                    </a:lnTo>
                    <a:lnTo>
                      <a:pt x="45" y="344"/>
                    </a:lnTo>
                    <a:lnTo>
                      <a:pt x="45" y="340"/>
                    </a:lnTo>
                    <a:lnTo>
                      <a:pt x="45" y="336"/>
                    </a:lnTo>
                    <a:lnTo>
                      <a:pt x="45" y="330"/>
                    </a:lnTo>
                    <a:lnTo>
                      <a:pt x="45" y="325"/>
                    </a:lnTo>
                    <a:lnTo>
                      <a:pt x="45" y="321"/>
                    </a:lnTo>
                    <a:lnTo>
                      <a:pt x="45" y="315"/>
                    </a:lnTo>
                    <a:lnTo>
                      <a:pt x="46" y="310"/>
                    </a:lnTo>
                    <a:lnTo>
                      <a:pt x="48" y="306"/>
                    </a:lnTo>
                    <a:lnTo>
                      <a:pt x="49" y="301"/>
                    </a:lnTo>
                    <a:lnTo>
                      <a:pt x="51" y="297"/>
                    </a:lnTo>
                    <a:lnTo>
                      <a:pt x="52" y="293"/>
                    </a:lnTo>
                    <a:lnTo>
                      <a:pt x="52" y="288"/>
                    </a:lnTo>
                    <a:lnTo>
                      <a:pt x="55" y="284"/>
                    </a:lnTo>
                    <a:lnTo>
                      <a:pt x="55" y="281"/>
                    </a:lnTo>
                    <a:lnTo>
                      <a:pt x="57" y="278"/>
                    </a:lnTo>
                    <a:lnTo>
                      <a:pt x="58" y="275"/>
                    </a:lnTo>
                    <a:lnTo>
                      <a:pt x="60" y="272"/>
                    </a:lnTo>
                    <a:lnTo>
                      <a:pt x="61" y="269"/>
                    </a:lnTo>
                    <a:lnTo>
                      <a:pt x="12" y="303"/>
                    </a:lnTo>
                    <a:lnTo>
                      <a:pt x="12" y="304"/>
                    </a:lnTo>
                    <a:lnTo>
                      <a:pt x="11" y="306"/>
                    </a:lnTo>
                    <a:lnTo>
                      <a:pt x="9" y="310"/>
                    </a:lnTo>
                    <a:lnTo>
                      <a:pt x="8" y="316"/>
                    </a:lnTo>
                    <a:lnTo>
                      <a:pt x="6" y="319"/>
                    </a:lnTo>
                    <a:lnTo>
                      <a:pt x="6" y="322"/>
                    </a:lnTo>
                    <a:lnTo>
                      <a:pt x="5" y="327"/>
                    </a:lnTo>
                    <a:lnTo>
                      <a:pt x="5" y="330"/>
                    </a:lnTo>
                    <a:lnTo>
                      <a:pt x="3" y="334"/>
                    </a:lnTo>
                    <a:lnTo>
                      <a:pt x="3" y="339"/>
                    </a:lnTo>
                    <a:lnTo>
                      <a:pt x="2" y="342"/>
                    </a:lnTo>
                    <a:lnTo>
                      <a:pt x="2" y="347"/>
                    </a:lnTo>
                    <a:lnTo>
                      <a:pt x="0" y="350"/>
                    </a:lnTo>
                    <a:lnTo>
                      <a:pt x="0" y="356"/>
                    </a:lnTo>
                    <a:lnTo>
                      <a:pt x="0" y="359"/>
                    </a:lnTo>
                    <a:lnTo>
                      <a:pt x="0" y="364"/>
                    </a:lnTo>
                    <a:lnTo>
                      <a:pt x="0" y="368"/>
                    </a:lnTo>
                    <a:lnTo>
                      <a:pt x="0" y="373"/>
                    </a:lnTo>
                    <a:lnTo>
                      <a:pt x="0" y="377"/>
                    </a:lnTo>
                    <a:lnTo>
                      <a:pt x="0" y="383"/>
                    </a:lnTo>
                    <a:lnTo>
                      <a:pt x="0" y="386"/>
                    </a:lnTo>
                    <a:lnTo>
                      <a:pt x="2" y="390"/>
                    </a:lnTo>
                    <a:lnTo>
                      <a:pt x="2" y="393"/>
                    </a:lnTo>
                    <a:lnTo>
                      <a:pt x="5" y="398"/>
                    </a:lnTo>
                    <a:lnTo>
                      <a:pt x="8" y="404"/>
                    </a:lnTo>
                    <a:lnTo>
                      <a:pt x="12" y="410"/>
                    </a:lnTo>
                    <a:lnTo>
                      <a:pt x="17" y="413"/>
                    </a:lnTo>
                    <a:lnTo>
                      <a:pt x="24" y="416"/>
                    </a:lnTo>
                    <a:lnTo>
                      <a:pt x="27" y="416"/>
                    </a:lnTo>
                    <a:lnTo>
                      <a:pt x="32" y="417"/>
                    </a:lnTo>
                    <a:lnTo>
                      <a:pt x="35" y="417"/>
                    </a:lnTo>
                    <a:lnTo>
                      <a:pt x="39" y="417"/>
                    </a:lnTo>
                    <a:lnTo>
                      <a:pt x="43" y="417"/>
                    </a:lnTo>
                    <a:lnTo>
                      <a:pt x="48" y="417"/>
                    </a:lnTo>
                    <a:lnTo>
                      <a:pt x="52" y="417"/>
                    </a:lnTo>
                    <a:lnTo>
                      <a:pt x="57" y="417"/>
                    </a:lnTo>
                    <a:lnTo>
                      <a:pt x="61" y="416"/>
                    </a:lnTo>
                    <a:lnTo>
                      <a:pt x="66" y="414"/>
                    </a:lnTo>
                    <a:lnTo>
                      <a:pt x="70" y="414"/>
                    </a:lnTo>
                    <a:lnTo>
                      <a:pt x="75" y="414"/>
                    </a:lnTo>
                    <a:lnTo>
                      <a:pt x="79" y="413"/>
                    </a:lnTo>
                    <a:lnTo>
                      <a:pt x="82" y="411"/>
                    </a:lnTo>
                    <a:lnTo>
                      <a:pt x="86" y="410"/>
                    </a:lnTo>
                    <a:lnTo>
                      <a:pt x="91" y="410"/>
                    </a:lnTo>
                    <a:lnTo>
                      <a:pt x="94" y="407"/>
                    </a:lnTo>
                    <a:lnTo>
                      <a:pt x="97" y="407"/>
                    </a:lnTo>
                    <a:lnTo>
                      <a:pt x="100" y="405"/>
                    </a:lnTo>
                    <a:lnTo>
                      <a:pt x="104" y="405"/>
                    </a:lnTo>
                    <a:lnTo>
                      <a:pt x="109" y="402"/>
                    </a:lnTo>
                    <a:lnTo>
                      <a:pt x="113" y="402"/>
                    </a:lnTo>
                    <a:lnTo>
                      <a:pt x="116" y="401"/>
                    </a:lnTo>
                    <a:lnTo>
                      <a:pt x="116" y="401"/>
                    </a:lnTo>
                    <a:lnTo>
                      <a:pt x="116" y="399"/>
                    </a:lnTo>
                    <a:lnTo>
                      <a:pt x="119" y="399"/>
                    </a:lnTo>
                    <a:lnTo>
                      <a:pt x="121" y="398"/>
                    </a:lnTo>
                    <a:lnTo>
                      <a:pt x="125" y="396"/>
                    </a:lnTo>
                    <a:lnTo>
                      <a:pt x="128" y="395"/>
                    </a:lnTo>
                    <a:lnTo>
                      <a:pt x="134" y="393"/>
                    </a:lnTo>
                    <a:lnTo>
                      <a:pt x="137" y="390"/>
                    </a:lnTo>
                    <a:lnTo>
                      <a:pt x="140" y="390"/>
                    </a:lnTo>
                    <a:lnTo>
                      <a:pt x="144" y="389"/>
                    </a:lnTo>
                    <a:lnTo>
                      <a:pt x="147" y="388"/>
                    </a:lnTo>
                    <a:lnTo>
                      <a:pt x="150" y="386"/>
                    </a:lnTo>
                    <a:lnTo>
                      <a:pt x="155" y="385"/>
                    </a:lnTo>
                    <a:lnTo>
                      <a:pt x="159" y="383"/>
                    </a:lnTo>
                    <a:lnTo>
                      <a:pt x="164" y="382"/>
                    </a:lnTo>
                    <a:lnTo>
                      <a:pt x="167" y="380"/>
                    </a:lnTo>
                    <a:lnTo>
                      <a:pt x="173" y="377"/>
                    </a:lnTo>
                    <a:lnTo>
                      <a:pt x="177" y="376"/>
                    </a:lnTo>
                    <a:lnTo>
                      <a:pt x="181" y="374"/>
                    </a:lnTo>
                    <a:lnTo>
                      <a:pt x="186" y="371"/>
                    </a:lnTo>
                    <a:lnTo>
                      <a:pt x="192" y="370"/>
                    </a:lnTo>
                    <a:lnTo>
                      <a:pt x="196" y="367"/>
                    </a:lnTo>
                    <a:lnTo>
                      <a:pt x="202" y="365"/>
                    </a:lnTo>
                    <a:lnTo>
                      <a:pt x="207" y="362"/>
                    </a:lnTo>
                    <a:lnTo>
                      <a:pt x="213" y="361"/>
                    </a:lnTo>
                    <a:lnTo>
                      <a:pt x="219" y="358"/>
                    </a:lnTo>
                    <a:lnTo>
                      <a:pt x="224" y="356"/>
                    </a:lnTo>
                    <a:lnTo>
                      <a:pt x="229" y="353"/>
                    </a:lnTo>
                    <a:lnTo>
                      <a:pt x="235" y="349"/>
                    </a:lnTo>
                    <a:lnTo>
                      <a:pt x="241" y="346"/>
                    </a:lnTo>
                    <a:lnTo>
                      <a:pt x="247" y="344"/>
                    </a:lnTo>
                    <a:lnTo>
                      <a:pt x="251" y="342"/>
                    </a:lnTo>
                    <a:lnTo>
                      <a:pt x="259" y="339"/>
                    </a:lnTo>
                    <a:lnTo>
                      <a:pt x="263" y="336"/>
                    </a:lnTo>
                    <a:lnTo>
                      <a:pt x="270" y="333"/>
                    </a:lnTo>
                    <a:lnTo>
                      <a:pt x="275" y="330"/>
                    </a:lnTo>
                    <a:lnTo>
                      <a:pt x="281" y="327"/>
                    </a:lnTo>
                    <a:lnTo>
                      <a:pt x="287" y="322"/>
                    </a:lnTo>
                    <a:lnTo>
                      <a:pt x="293" y="319"/>
                    </a:lnTo>
                    <a:lnTo>
                      <a:pt x="299" y="316"/>
                    </a:lnTo>
                    <a:lnTo>
                      <a:pt x="305" y="313"/>
                    </a:lnTo>
                    <a:lnTo>
                      <a:pt x="312" y="310"/>
                    </a:lnTo>
                    <a:lnTo>
                      <a:pt x="318" y="307"/>
                    </a:lnTo>
                    <a:lnTo>
                      <a:pt x="322" y="303"/>
                    </a:lnTo>
                    <a:lnTo>
                      <a:pt x="328" y="300"/>
                    </a:lnTo>
                    <a:lnTo>
                      <a:pt x="334" y="296"/>
                    </a:lnTo>
                    <a:lnTo>
                      <a:pt x="340" y="293"/>
                    </a:lnTo>
                    <a:lnTo>
                      <a:pt x="346" y="290"/>
                    </a:lnTo>
                    <a:lnTo>
                      <a:pt x="352" y="285"/>
                    </a:lnTo>
                    <a:lnTo>
                      <a:pt x="357" y="282"/>
                    </a:lnTo>
                    <a:lnTo>
                      <a:pt x="362" y="278"/>
                    </a:lnTo>
                    <a:lnTo>
                      <a:pt x="367" y="275"/>
                    </a:lnTo>
                    <a:lnTo>
                      <a:pt x="373" y="270"/>
                    </a:lnTo>
                    <a:lnTo>
                      <a:pt x="377" y="267"/>
                    </a:lnTo>
                    <a:lnTo>
                      <a:pt x="383" y="263"/>
                    </a:lnTo>
                    <a:lnTo>
                      <a:pt x="388" y="258"/>
                    </a:lnTo>
                    <a:lnTo>
                      <a:pt x="394" y="255"/>
                    </a:lnTo>
                    <a:lnTo>
                      <a:pt x="398" y="251"/>
                    </a:lnTo>
                    <a:lnTo>
                      <a:pt x="403" y="248"/>
                    </a:lnTo>
                    <a:lnTo>
                      <a:pt x="407" y="244"/>
                    </a:lnTo>
                    <a:lnTo>
                      <a:pt x="411" y="239"/>
                    </a:lnTo>
                    <a:lnTo>
                      <a:pt x="416" y="235"/>
                    </a:lnTo>
                    <a:lnTo>
                      <a:pt x="420" y="232"/>
                    </a:lnTo>
                    <a:lnTo>
                      <a:pt x="423" y="227"/>
                    </a:lnTo>
                    <a:lnTo>
                      <a:pt x="428" y="223"/>
                    </a:lnTo>
                    <a:lnTo>
                      <a:pt x="431" y="218"/>
                    </a:lnTo>
                    <a:lnTo>
                      <a:pt x="435" y="215"/>
                    </a:lnTo>
                    <a:lnTo>
                      <a:pt x="438" y="211"/>
                    </a:lnTo>
                    <a:lnTo>
                      <a:pt x="441" y="206"/>
                    </a:lnTo>
                    <a:lnTo>
                      <a:pt x="444" y="204"/>
                    </a:lnTo>
                    <a:lnTo>
                      <a:pt x="447" y="199"/>
                    </a:lnTo>
                    <a:lnTo>
                      <a:pt x="450" y="195"/>
                    </a:lnTo>
                    <a:lnTo>
                      <a:pt x="453" y="190"/>
                    </a:lnTo>
                    <a:lnTo>
                      <a:pt x="456" y="187"/>
                    </a:lnTo>
                    <a:lnTo>
                      <a:pt x="459" y="183"/>
                    </a:lnTo>
                    <a:lnTo>
                      <a:pt x="460" y="178"/>
                    </a:lnTo>
                    <a:lnTo>
                      <a:pt x="463" y="174"/>
                    </a:lnTo>
                    <a:lnTo>
                      <a:pt x="465" y="169"/>
                    </a:lnTo>
                    <a:lnTo>
                      <a:pt x="468" y="166"/>
                    </a:lnTo>
                    <a:lnTo>
                      <a:pt x="469" y="162"/>
                    </a:lnTo>
                    <a:lnTo>
                      <a:pt x="472" y="159"/>
                    </a:lnTo>
                    <a:lnTo>
                      <a:pt x="474" y="155"/>
                    </a:lnTo>
                    <a:lnTo>
                      <a:pt x="475" y="152"/>
                    </a:lnTo>
                    <a:lnTo>
                      <a:pt x="477" y="147"/>
                    </a:lnTo>
                    <a:lnTo>
                      <a:pt x="480" y="144"/>
                    </a:lnTo>
                    <a:lnTo>
                      <a:pt x="480" y="140"/>
                    </a:lnTo>
                    <a:lnTo>
                      <a:pt x="483" y="137"/>
                    </a:lnTo>
                    <a:lnTo>
                      <a:pt x="483" y="132"/>
                    </a:lnTo>
                    <a:lnTo>
                      <a:pt x="484" y="129"/>
                    </a:lnTo>
                    <a:lnTo>
                      <a:pt x="486" y="126"/>
                    </a:lnTo>
                    <a:lnTo>
                      <a:pt x="487" y="123"/>
                    </a:lnTo>
                    <a:lnTo>
                      <a:pt x="489" y="119"/>
                    </a:lnTo>
                    <a:lnTo>
                      <a:pt x="490" y="116"/>
                    </a:lnTo>
                    <a:lnTo>
                      <a:pt x="490" y="113"/>
                    </a:lnTo>
                    <a:lnTo>
                      <a:pt x="492" y="109"/>
                    </a:lnTo>
                    <a:lnTo>
                      <a:pt x="493" y="103"/>
                    </a:lnTo>
                    <a:lnTo>
                      <a:pt x="494" y="97"/>
                    </a:lnTo>
                    <a:lnTo>
                      <a:pt x="494" y="91"/>
                    </a:lnTo>
                    <a:lnTo>
                      <a:pt x="496" y="86"/>
                    </a:lnTo>
                    <a:lnTo>
                      <a:pt x="497" y="82"/>
                    </a:lnTo>
                    <a:lnTo>
                      <a:pt x="497" y="77"/>
                    </a:lnTo>
                    <a:lnTo>
                      <a:pt x="497" y="73"/>
                    </a:lnTo>
                    <a:lnTo>
                      <a:pt x="499" y="70"/>
                    </a:lnTo>
                    <a:lnTo>
                      <a:pt x="499" y="67"/>
                    </a:lnTo>
                    <a:lnTo>
                      <a:pt x="499" y="66"/>
                    </a:lnTo>
                    <a:lnTo>
                      <a:pt x="499" y="61"/>
                    </a:lnTo>
                    <a:lnTo>
                      <a:pt x="500" y="61"/>
                    </a:lnTo>
                    <a:lnTo>
                      <a:pt x="481" y="0"/>
                    </a:lnTo>
                    <a:lnTo>
                      <a:pt x="465" y="14"/>
                    </a:lnTo>
                    <a:lnTo>
                      <a:pt x="465" y="1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784320" y="2205000"/>
                <a:ext cx="181080" cy="133560"/>
              </a:xfrm>
              <a:custGeom>
                <a:avLst/>
                <a:gdLst/>
                <a:ahLst/>
                <a:rect l="l" t="t" r="r" b="b"/>
                <a:pathLst>
                  <a:path w="227" h="166">
                    <a:moveTo>
                      <a:pt x="160" y="4"/>
                    </a:moveTo>
                    <a:lnTo>
                      <a:pt x="160" y="4"/>
                    </a:lnTo>
                    <a:lnTo>
                      <a:pt x="157" y="7"/>
                    </a:lnTo>
                    <a:lnTo>
                      <a:pt x="154" y="12"/>
                    </a:lnTo>
                    <a:lnTo>
                      <a:pt x="151" y="18"/>
                    </a:lnTo>
                    <a:lnTo>
                      <a:pt x="145" y="24"/>
                    </a:lnTo>
                    <a:lnTo>
                      <a:pt x="142" y="31"/>
                    </a:lnTo>
                    <a:lnTo>
                      <a:pt x="138" y="37"/>
                    </a:lnTo>
                    <a:lnTo>
                      <a:pt x="135" y="43"/>
                    </a:lnTo>
                    <a:lnTo>
                      <a:pt x="132" y="47"/>
                    </a:lnTo>
                    <a:lnTo>
                      <a:pt x="129" y="52"/>
                    </a:lnTo>
                    <a:lnTo>
                      <a:pt x="127" y="55"/>
                    </a:lnTo>
                    <a:lnTo>
                      <a:pt x="126" y="58"/>
                    </a:lnTo>
                    <a:lnTo>
                      <a:pt x="124" y="61"/>
                    </a:lnTo>
                    <a:lnTo>
                      <a:pt x="124" y="64"/>
                    </a:lnTo>
                    <a:lnTo>
                      <a:pt x="123" y="62"/>
                    </a:lnTo>
                    <a:lnTo>
                      <a:pt x="120" y="62"/>
                    </a:lnTo>
                    <a:lnTo>
                      <a:pt x="117" y="62"/>
                    </a:lnTo>
                    <a:lnTo>
                      <a:pt x="111" y="62"/>
                    </a:lnTo>
                    <a:lnTo>
                      <a:pt x="108" y="62"/>
                    </a:lnTo>
                    <a:lnTo>
                      <a:pt x="104" y="64"/>
                    </a:lnTo>
                    <a:lnTo>
                      <a:pt x="101" y="65"/>
                    </a:lnTo>
                    <a:lnTo>
                      <a:pt x="96" y="68"/>
                    </a:lnTo>
                    <a:lnTo>
                      <a:pt x="92" y="70"/>
                    </a:lnTo>
                    <a:lnTo>
                      <a:pt x="87" y="73"/>
                    </a:lnTo>
                    <a:lnTo>
                      <a:pt x="81" y="77"/>
                    </a:lnTo>
                    <a:lnTo>
                      <a:pt x="77" y="81"/>
                    </a:lnTo>
                    <a:lnTo>
                      <a:pt x="69" y="86"/>
                    </a:lnTo>
                    <a:lnTo>
                      <a:pt x="63" y="92"/>
                    </a:lnTo>
                    <a:lnTo>
                      <a:pt x="61" y="95"/>
                    </a:lnTo>
                    <a:lnTo>
                      <a:pt x="58" y="98"/>
                    </a:lnTo>
                    <a:lnTo>
                      <a:pt x="55" y="102"/>
                    </a:lnTo>
                    <a:lnTo>
                      <a:pt x="50" y="105"/>
                    </a:lnTo>
                    <a:lnTo>
                      <a:pt x="47" y="108"/>
                    </a:lnTo>
                    <a:lnTo>
                      <a:pt x="44" y="111"/>
                    </a:lnTo>
                    <a:lnTo>
                      <a:pt x="41" y="116"/>
                    </a:lnTo>
                    <a:lnTo>
                      <a:pt x="38" y="119"/>
                    </a:lnTo>
                    <a:lnTo>
                      <a:pt x="34" y="122"/>
                    </a:lnTo>
                    <a:lnTo>
                      <a:pt x="32" y="126"/>
                    </a:lnTo>
                    <a:lnTo>
                      <a:pt x="28" y="129"/>
                    </a:lnTo>
                    <a:lnTo>
                      <a:pt x="26" y="133"/>
                    </a:lnTo>
                    <a:lnTo>
                      <a:pt x="20" y="139"/>
                    </a:lnTo>
                    <a:lnTo>
                      <a:pt x="15" y="145"/>
                    </a:lnTo>
                    <a:lnTo>
                      <a:pt x="10" y="151"/>
                    </a:lnTo>
                    <a:lnTo>
                      <a:pt x="7" y="156"/>
                    </a:lnTo>
                    <a:lnTo>
                      <a:pt x="3" y="160"/>
                    </a:lnTo>
                    <a:lnTo>
                      <a:pt x="1" y="163"/>
                    </a:lnTo>
                    <a:lnTo>
                      <a:pt x="0" y="165"/>
                    </a:lnTo>
                    <a:lnTo>
                      <a:pt x="0" y="166"/>
                    </a:lnTo>
                    <a:lnTo>
                      <a:pt x="1" y="165"/>
                    </a:lnTo>
                    <a:lnTo>
                      <a:pt x="6" y="160"/>
                    </a:lnTo>
                    <a:lnTo>
                      <a:pt x="9" y="157"/>
                    </a:lnTo>
                    <a:lnTo>
                      <a:pt x="13" y="154"/>
                    </a:lnTo>
                    <a:lnTo>
                      <a:pt x="17" y="151"/>
                    </a:lnTo>
                    <a:lnTo>
                      <a:pt x="22" y="148"/>
                    </a:lnTo>
                    <a:lnTo>
                      <a:pt x="28" y="144"/>
                    </a:lnTo>
                    <a:lnTo>
                      <a:pt x="32" y="139"/>
                    </a:lnTo>
                    <a:lnTo>
                      <a:pt x="38" y="136"/>
                    </a:lnTo>
                    <a:lnTo>
                      <a:pt x="44" y="132"/>
                    </a:lnTo>
                    <a:lnTo>
                      <a:pt x="50" y="129"/>
                    </a:lnTo>
                    <a:lnTo>
                      <a:pt x="56" y="124"/>
                    </a:lnTo>
                    <a:lnTo>
                      <a:pt x="62" y="122"/>
                    </a:lnTo>
                    <a:lnTo>
                      <a:pt x="69" y="119"/>
                    </a:lnTo>
                    <a:lnTo>
                      <a:pt x="74" y="114"/>
                    </a:lnTo>
                    <a:lnTo>
                      <a:pt x="80" y="111"/>
                    </a:lnTo>
                    <a:lnTo>
                      <a:pt x="84" y="108"/>
                    </a:lnTo>
                    <a:lnTo>
                      <a:pt x="90" y="107"/>
                    </a:lnTo>
                    <a:lnTo>
                      <a:pt x="95" y="105"/>
                    </a:lnTo>
                    <a:lnTo>
                      <a:pt x="99" y="102"/>
                    </a:lnTo>
                    <a:lnTo>
                      <a:pt x="104" y="102"/>
                    </a:lnTo>
                    <a:lnTo>
                      <a:pt x="108" y="101"/>
                    </a:lnTo>
                    <a:lnTo>
                      <a:pt x="111" y="99"/>
                    </a:lnTo>
                    <a:lnTo>
                      <a:pt x="114" y="98"/>
                    </a:lnTo>
                    <a:lnTo>
                      <a:pt x="117" y="98"/>
                    </a:lnTo>
                    <a:lnTo>
                      <a:pt x="120" y="98"/>
                    </a:lnTo>
                    <a:lnTo>
                      <a:pt x="123" y="98"/>
                    </a:lnTo>
                    <a:lnTo>
                      <a:pt x="124" y="98"/>
                    </a:lnTo>
                    <a:lnTo>
                      <a:pt x="141" y="144"/>
                    </a:lnTo>
                    <a:lnTo>
                      <a:pt x="141" y="142"/>
                    </a:lnTo>
                    <a:lnTo>
                      <a:pt x="141" y="139"/>
                    </a:lnTo>
                    <a:lnTo>
                      <a:pt x="141" y="136"/>
                    </a:lnTo>
                    <a:lnTo>
                      <a:pt x="141" y="133"/>
                    </a:lnTo>
                    <a:lnTo>
                      <a:pt x="142" y="129"/>
                    </a:lnTo>
                    <a:lnTo>
                      <a:pt x="144" y="126"/>
                    </a:lnTo>
                    <a:lnTo>
                      <a:pt x="144" y="122"/>
                    </a:lnTo>
                    <a:lnTo>
                      <a:pt x="145" y="117"/>
                    </a:lnTo>
                    <a:lnTo>
                      <a:pt x="147" y="111"/>
                    </a:lnTo>
                    <a:lnTo>
                      <a:pt x="150" y="107"/>
                    </a:lnTo>
                    <a:lnTo>
                      <a:pt x="151" y="101"/>
                    </a:lnTo>
                    <a:lnTo>
                      <a:pt x="155" y="95"/>
                    </a:lnTo>
                    <a:lnTo>
                      <a:pt x="158" y="87"/>
                    </a:lnTo>
                    <a:lnTo>
                      <a:pt x="163" y="81"/>
                    </a:lnTo>
                    <a:lnTo>
                      <a:pt x="164" y="78"/>
                    </a:lnTo>
                    <a:lnTo>
                      <a:pt x="166" y="74"/>
                    </a:lnTo>
                    <a:lnTo>
                      <a:pt x="169" y="71"/>
                    </a:lnTo>
                    <a:lnTo>
                      <a:pt x="170" y="68"/>
                    </a:lnTo>
                    <a:lnTo>
                      <a:pt x="173" y="64"/>
                    </a:lnTo>
                    <a:lnTo>
                      <a:pt x="176" y="61"/>
                    </a:lnTo>
                    <a:lnTo>
                      <a:pt x="178" y="56"/>
                    </a:lnTo>
                    <a:lnTo>
                      <a:pt x="182" y="53"/>
                    </a:lnTo>
                    <a:lnTo>
                      <a:pt x="184" y="50"/>
                    </a:lnTo>
                    <a:lnTo>
                      <a:pt x="187" y="46"/>
                    </a:lnTo>
                    <a:lnTo>
                      <a:pt x="190" y="43"/>
                    </a:lnTo>
                    <a:lnTo>
                      <a:pt x="193" y="40"/>
                    </a:lnTo>
                    <a:lnTo>
                      <a:pt x="199" y="34"/>
                    </a:lnTo>
                    <a:lnTo>
                      <a:pt x="204" y="28"/>
                    </a:lnTo>
                    <a:lnTo>
                      <a:pt x="207" y="22"/>
                    </a:lnTo>
                    <a:lnTo>
                      <a:pt x="213" y="16"/>
                    </a:lnTo>
                    <a:lnTo>
                      <a:pt x="216" y="12"/>
                    </a:lnTo>
                    <a:lnTo>
                      <a:pt x="221" y="7"/>
                    </a:lnTo>
                    <a:lnTo>
                      <a:pt x="224" y="4"/>
                    </a:lnTo>
                    <a:lnTo>
                      <a:pt x="227" y="3"/>
                    </a:lnTo>
                    <a:lnTo>
                      <a:pt x="227" y="0"/>
                    </a:lnTo>
                    <a:lnTo>
                      <a:pt x="160" y="4"/>
                    </a:lnTo>
                    <a:lnTo>
                      <a:pt x="160" y="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720960" y="2305080"/>
                <a:ext cx="392040" cy="284040"/>
              </a:xfrm>
              <a:custGeom>
                <a:avLst/>
                <a:gdLst/>
                <a:ahLst/>
                <a:rect l="l" t="t" r="r" b="b"/>
                <a:pathLst>
                  <a:path w="494" h="360">
                    <a:moveTo>
                      <a:pt x="494" y="0"/>
                    </a:moveTo>
                    <a:lnTo>
                      <a:pt x="493" y="0"/>
                    </a:lnTo>
                    <a:lnTo>
                      <a:pt x="490" y="5"/>
                    </a:lnTo>
                    <a:lnTo>
                      <a:pt x="488" y="6"/>
                    </a:lnTo>
                    <a:lnTo>
                      <a:pt x="485" y="9"/>
                    </a:lnTo>
                    <a:lnTo>
                      <a:pt x="484" y="12"/>
                    </a:lnTo>
                    <a:lnTo>
                      <a:pt x="481" y="17"/>
                    </a:lnTo>
                    <a:lnTo>
                      <a:pt x="476" y="20"/>
                    </a:lnTo>
                    <a:lnTo>
                      <a:pt x="473" y="26"/>
                    </a:lnTo>
                    <a:lnTo>
                      <a:pt x="469" y="30"/>
                    </a:lnTo>
                    <a:lnTo>
                      <a:pt x="466" y="36"/>
                    </a:lnTo>
                    <a:lnTo>
                      <a:pt x="460" y="42"/>
                    </a:lnTo>
                    <a:lnTo>
                      <a:pt x="456" y="46"/>
                    </a:lnTo>
                    <a:lnTo>
                      <a:pt x="453" y="49"/>
                    </a:lnTo>
                    <a:lnTo>
                      <a:pt x="450" y="52"/>
                    </a:lnTo>
                    <a:lnTo>
                      <a:pt x="447" y="57"/>
                    </a:lnTo>
                    <a:lnTo>
                      <a:pt x="445" y="61"/>
                    </a:lnTo>
                    <a:lnTo>
                      <a:pt x="438" y="67"/>
                    </a:lnTo>
                    <a:lnTo>
                      <a:pt x="432" y="73"/>
                    </a:lnTo>
                    <a:lnTo>
                      <a:pt x="429" y="78"/>
                    </a:lnTo>
                    <a:lnTo>
                      <a:pt x="424" y="81"/>
                    </a:lnTo>
                    <a:lnTo>
                      <a:pt x="421" y="85"/>
                    </a:lnTo>
                    <a:lnTo>
                      <a:pt x="419" y="88"/>
                    </a:lnTo>
                    <a:lnTo>
                      <a:pt x="414" y="92"/>
                    </a:lnTo>
                    <a:lnTo>
                      <a:pt x="411" y="95"/>
                    </a:lnTo>
                    <a:lnTo>
                      <a:pt x="407" y="100"/>
                    </a:lnTo>
                    <a:lnTo>
                      <a:pt x="404" y="103"/>
                    </a:lnTo>
                    <a:lnTo>
                      <a:pt x="399" y="107"/>
                    </a:lnTo>
                    <a:lnTo>
                      <a:pt x="396" y="110"/>
                    </a:lnTo>
                    <a:lnTo>
                      <a:pt x="392" y="115"/>
                    </a:lnTo>
                    <a:lnTo>
                      <a:pt x="389" y="119"/>
                    </a:lnTo>
                    <a:lnTo>
                      <a:pt x="384" y="122"/>
                    </a:lnTo>
                    <a:lnTo>
                      <a:pt x="380" y="127"/>
                    </a:lnTo>
                    <a:lnTo>
                      <a:pt x="375" y="130"/>
                    </a:lnTo>
                    <a:lnTo>
                      <a:pt x="371" y="134"/>
                    </a:lnTo>
                    <a:lnTo>
                      <a:pt x="367" y="138"/>
                    </a:lnTo>
                    <a:lnTo>
                      <a:pt x="362" y="143"/>
                    </a:lnTo>
                    <a:lnTo>
                      <a:pt x="358" y="146"/>
                    </a:lnTo>
                    <a:lnTo>
                      <a:pt x="353" y="150"/>
                    </a:lnTo>
                    <a:lnTo>
                      <a:pt x="349" y="155"/>
                    </a:lnTo>
                    <a:lnTo>
                      <a:pt x="344" y="158"/>
                    </a:lnTo>
                    <a:lnTo>
                      <a:pt x="340" y="162"/>
                    </a:lnTo>
                    <a:lnTo>
                      <a:pt x="335" y="167"/>
                    </a:lnTo>
                    <a:lnTo>
                      <a:pt x="331" y="170"/>
                    </a:lnTo>
                    <a:lnTo>
                      <a:pt x="325" y="174"/>
                    </a:lnTo>
                    <a:lnTo>
                      <a:pt x="321" y="177"/>
                    </a:lnTo>
                    <a:lnTo>
                      <a:pt x="316" y="182"/>
                    </a:lnTo>
                    <a:lnTo>
                      <a:pt x="310" y="184"/>
                    </a:lnTo>
                    <a:lnTo>
                      <a:pt x="306" y="189"/>
                    </a:lnTo>
                    <a:lnTo>
                      <a:pt x="300" y="192"/>
                    </a:lnTo>
                    <a:lnTo>
                      <a:pt x="295" y="195"/>
                    </a:lnTo>
                    <a:lnTo>
                      <a:pt x="289" y="198"/>
                    </a:lnTo>
                    <a:lnTo>
                      <a:pt x="285" y="202"/>
                    </a:lnTo>
                    <a:lnTo>
                      <a:pt x="279" y="205"/>
                    </a:lnTo>
                    <a:lnTo>
                      <a:pt x="275" y="210"/>
                    </a:lnTo>
                    <a:lnTo>
                      <a:pt x="269" y="213"/>
                    </a:lnTo>
                    <a:lnTo>
                      <a:pt x="264" y="216"/>
                    </a:lnTo>
                    <a:lnTo>
                      <a:pt x="258" y="219"/>
                    </a:lnTo>
                    <a:lnTo>
                      <a:pt x="252" y="223"/>
                    </a:lnTo>
                    <a:lnTo>
                      <a:pt x="248" y="226"/>
                    </a:lnTo>
                    <a:lnTo>
                      <a:pt x="242" y="229"/>
                    </a:lnTo>
                    <a:lnTo>
                      <a:pt x="237" y="232"/>
                    </a:lnTo>
                    <a:lnTo>
                      <a:pt x="233" y="235"/>
                    </a:lnTo>
                    <a:lnTo>
                      <a:pt x="227" y="238"/>
                    </a:lnTo>
                    <a:lnTo>
                      <a:pt x="221" y="241"/>
                    </a:lnTo>
                    <a:lnTo>
                      <a:pt x="215" y="244"/>
                    </a:lnTo>
                    <a:lnTo>
                      <a:pt x="211" y="247"/>
                    </a:lnTo>
                    <a:lnTo>
                      <a:pt x="205" y="250"/>
                    </a:lnTo>
                    <a:lnTo>
                      <a:pt x="200" y="253"/>
                    </a:lnTo>
                    <a:lnTo>
                      <a:pt x="196" y="256"/>
                    </a:lnTo>
                    <a:lnTo>
                      <a:pt x="191" y="259"/>
                    </a:lnTo>
                    <a:lnTo>
                      <a:pt x="186" y="260"/>
                    </a:lnTo>
                    <a:lnTo>
                      <a:pt x="181" y="263"/>
                    </a:lnTo>
                    <a:lnTo>
                      <a:pt x="175" y="266"/>
                    </a:lnTo>
                    <a:lnTo>
                      <a:pt x="171" y="269"/>
                    </a:lnTo>
                    <a:lnTo>
                      <a:pt x="166" y="271"/>
                    </a:lnTo>
                    <a:lnTo>
                      <a:pt x="162" y="274"/>
                    </a:lnTo>
                    <a:lnTo>
                      <a:pt x="157" y="275"/>
                    </a:lnTo>
                    <a:lnTo>
                      <a:pt x="153" y="279"/>
                    </a:lnTo>
                    <a:lnTo>
                      <a:pt x="148" y="281"/>
                    </a:lnTo>
                    <a:lnTo>
                      <a:pt x="144" y="282"/>
                    </a:lnTo>
                    <a:lnTo>
                      <a:pt x="140" y="284"/>
                    </a:lnTo>
                    <a:lnTo>
                      <a:pt x="135" y="287"/>
                    </a:lnTo>
                    <a:lnTo>
                      <a:pt x="131" y="288"/>
                    </a:lnTo>
                    <a:lnTo>
                      <a:pt x="126" y="290"/>
                    </a:lnTo>
                    <a:lnTo>
                      <a:pt x="123" y="293"/>
                    </a:lnTo>
                    <a:lnTo>
                      <a:pt x="119" y="294"/>
                    </a:lnTo>
                    <a:lnTo>
                      <a:pt x="116" y="296"/>
                    </a:lnTo>
                    <a:lnTo>
                      <a:pt x="111" y="297"/>
                    </a:lnTo>
                    <a:lnTo>
                      <a:pt x="108" y="299"/>
                    </a:lnTo>
                    <a:lnTo>
                      <a:pt x="105" y="302"/>
                    </a:lnTo>
                    <a:lnTo>
                      <a:pt x="99" y="303"/>
                    </a:lnTo>
                    <a:lnTo>
                      <a:pt x="94" y="306"/>
                    </a:lnTo>
                    <a:lnTo>
                      <a:pt x="88" y="309"/>
                    </a:lnTo>
                    <a:lnTo>
                      <a:pt x="83" y="311"/>
                    </a:lnTo>
                    <a:lnTo>
                      <a:pt x="79" y="312"/>
                    </a:lnTo>
                    <a:lnTo>
                      <a:pt x="76" y="314"/>
                    </a:lnTo>
                    <a:lnTo>
                      <a:pt x="71" y="317"/>
                    </a:lnTo>
                    <a:lnTo>
                      <a:pt x="70" y="317"/>
                    </a:lnTo>
                    <a:lnTo>
                      <a:pt x="68" y="317"/>
                    </a:lnTo>
                    <a:lnTo>
                      <a:pt x="62" y="314"/>
                    </a:lnTo>
                    <a:lnTo>
                      <a:pt x="59" y="311"/>
                    </a:lnTo>
                    <a:lnTo>
                      <a:pt x="58" y="306"/>
                    </a:lnTo>
                    <a:lnTo>
                      <a:pt x="56" y="302"/>
                    </a:lnTo>
                    <a:lnTo>
                      <a:pt x="55" y="297"/>
                    </a:lnTo>
                    <a:lnTo>
                      <a:pt x="55" y="293"/>
                    </a:lnTo>
                    <a:lnTo>
                      <a:pt x="55" y="288"/>
                    </a:lnTo>
                    <a:lnTo>
                      <a:pt x="55" y="284"/>
                    </a:lnTo>
                    <a:lnTo>
                      <a:pt x="55" y="281"/>
                    </a:lnTo>
                    <a:lnTo>
                      <a:pt x="55" y="278"/>
                    </a:lnTo>
                    <a:lnTo>
                      <a:pt x="55" y="275"/>
                    </a:lnTo>
                    <a:lnTo>
                      <a:pt x="55" y="271"/>
                    </a:lnTo>
                    <a:lnTo>
                      <a:pt x="56" y="268"/>
                    </a:lnTo>
                    <a:lnTo>
                      <a:pt x="56" y="263"/>
                    </a:lnTo>
                    <a:lnTo>
                      <a:pt x="58" y="260"/>
                    </a:lnTo>
                    <a:lnTo>
                      <a:pt x="58" y="256"/>
                    </a:lnTo>
                    <a:lnTo>
                      <a:pt x="58" y="251"/>
                    </a:lnTo>
                    <a:lnTo>
                      <a:pt x="58" y="247"/>
                    </a:lnTo>
                    <a:lnTo>
                      <a:pt x="59" y="244"/>
                    </a:lnTo>
                    <a:lnTo>
                      <a:pt x="61" y="239"/>
                    </a:lnTo>
                    <a:lnTo>
                      <a:pt x="61" y="236"/>
                    </a:lnTo>
                    <a:lnTo>
                      <a:pt x="61" y="232"/>
                    </a:lnTo>
                    <a:lnTo>
                      <a:pt x="62" y="229"/>
                    </a:lnTo>
                    <a:lnTo>
                      <a:pt x="62" y="226"/>
                    </a:lnTo>
                    <a:lnTo>
                      <a:pt x="64" y="222"/>
                    </a:lnTo>
                    <a:lnTo>
                      <a:pt x="64" y="219"/>
                    </a:lnTo>
                    <a:lnTo>
                      <a:pt x="65" y="216"/>
                    </a:lnTo>
                    <a:lnTo>
                      <a:pt x="67" y="210"/>
                    </a:lnTo>
                    <a:lnTo>
                      <a:pt x="68" y="204"/>
                    </a:lnTo>
                    <a:lnTo>
                      <a:pt x="68" y="199"/>
                    </a:lnTo>
                    <a:lnTo>
                      <a:pt x="68" y="196"/>
                    </a:lnTo>
                    <a:lnTo>
                      <a:pt x="70" y="195"/>
                    </a:lnTo>
                    <a:lnTo>
                      <a:pt x="70" y="195"/>
                    </a:lnTo>
                    <a:lnTo>
                      <a:pt x="52" y="195"/>
                    </a:lnTo>
                    <a:lnTo>
                      <a:pt x="51" y="195"/>
                    </a:lnTo>
                    <a:lnTo>
                      <a:pt x="51" y="196"/>
                    </a:lnTo>
                    <a:lnTo>
                      <a:pt x="49" y="199"/>
                    </a:lnTo>
                    <a:lnTo>
                      <a:pt x="48" y="201"/>
                    </a:lnTo>
                    <a:lnTo>
                      <a:pt x="46" y="204"/>
                    </a:lnTo>
                    <a:lnTo>
                      <a:pt x="46" y="208"/>
                    </a:lnTo>
                    <a:lnTo>
                      <a:pt x="43" y="211"/>
                    </a:lnTo>
                    <a:lnTo>
                      <a:pt x="42" y="216"/>
                    </a:lnTo>
                    <a:lnTo>
                      <a:pt x="39" y="220"/>
                    </a:lnTo>
                    <a:lnTo>
                      <a:pt x="37" y="226"/>
                    </a:lnTo>
                    <a:lnTo>
                      <a:pt x="36" y="229"/>
                    </a:lnTo>
                    <a:lnTo>
                      <a:pt x="34" y="232"/>
                    </a:lnTo>
                    <a:lnTo>
                      <a:pt x="33" y="235"/>
                    </a:lnTo>
                    <a:lnTo>
                      <a:pt x="31" y="239"/>
                    </a:lnTo>
                    <a:lnTo>
                      <a:pt x="30" y="242"/>
                    </a:lnTo>
                    <a:lnTo>
                      <a:pt x="28" y="245"/>
                    </a:lnTo>
                    <a:lnTo>
                      <a:pt x="28" y="250"/>
                    </a:lnTo>
                    <a:lnTo>
                      <a:pt x="27" y="254"/>
                    </a:lnTo>
                    <a:lnTo>
                      <a:pt x="24" y="259"/>
                    </a:lnTo>
                    <a:lnTo>
                      <a:pt x="22" y="263"/>
                    </a:lnTo>
                    <a:lnTo>
                      <a:pt x="19" y="266"/>
                    </a:lnTo>
                    <a:lnTo>
                      <a:pt x="18" y="272"/>
                    </a:lnTo>
                    <a:lnTo>
                      <a:pt x="16" y="275"/>
                    </a:lnTo>
                    <a:lnTo>
                      <a:pt x="13" y="281"/>
                    </a:lnTo>
                    <a:lnTo>
                      <a:pt x="12" y="285"/>
                    </a:lnTo>
                    <a:lnTo>
                      <a:pt x="10" y="290"/>
                    </a:lnTo>
                    <a:lnTo>
                      <a:pt x="9" y="294"/>
                    </a:lnTo>
                    <a:lnTo>
                      <a:pt x="6" y="300"/>
                    </a:lnTo>
                    <a:lnTo>
                      <a:pt x="5" y="305"/>
                    </a:lnTo>
                    <a:lnTo>
                      <a:pt x="3" y="309"/>
                    </a:lnTo>
                    <a:lnTo>
                      <a:pt x="2" y="314"/>
                    </a:lnTo>
                    <a:lnTo>
                      <a:pt x="2" y="318"/>
                    </a:lnTo>
                    <a:lnTo>
                      <a:pt x="2" y="322"/>
                    </a:lnTo>
                    <a:lnTo>
                      <a:pt x="2" y="327"/>
                    </a:lnTo>
                    <a:lnTo>
                      <a:pt x="0" y="331"/>
                    </a:lnTo>
                    <a:lnTo>
                      <a:pt x="0" y="334"/>
                    </a:lnTo>
                    <a:lnTo>
                      <a:pt x="0" y="339"/>
                    </a:lnTo>
                    <a:lnTo>
                      <a:pt x="2" y="342"/>
                    </a:lnTo>
                    <a:lnTo>
                      <a:pt x="5" y="348"/>
                    </a:lnTo>
                    <a:lnTo>
                      <a:pt x="9" y="354"/>
                    </a:lnTo>
                    <a:lnTo>
                      <a:pt x="10" y="355"/>
                    </a:lnTo>
                    <a:lnTo>
                      <a:pt x="13" y="357"/>
                    </a:lnTo>
                    <a:lnTo>
                      <a:pt x="18" y="358"/>
                    </a:lnTo>
                    <a:lnTo>
                      <a:pt x="22" y="360"/>
                    </a:lnTo>
                    <a:lnTo>
                      <a:pt x="27" y="360"/>
                    </a:lnTo>
                    <a:lnTo>
                      <a:pt x="31" y="360"/>
                    </a:lnTo>
                    <a:lnTo>
                      <a:pt x="34" y="360"/>
                    </a:lnTo>
                    <a:lnTo>
                      <a:pt x="37" y="360"/>
                    </a:lnTo>
                    <a:lnTo>
                      <a:pt x="42" y="360"/>
                    </a:lnTo>
                    <a:lnTo>
                      <a:pt x="45" y="360"/>
                    </a:lnTo>
                    <a:lnTo>
                      <a:pt x="48" y="358"/>
                    </a:lnTo>
                    <a:lnTo>
                      <a:pt x="51" y="358"/>
                    </a:lnTo>
                    <a:lnTo>
                      <a:pt x="55" y="357"/>
                    </a:lnTo>
                    <a:lnTo>
                      <a:pt x="58" y="355"/>
                    </a:lnTo>
                    <a:lnTo>
                      <a:pt x="62" y="354"/>
                    </a:lnTo>
                    <a:lnTo>
                      <a:pt x="65" y="354"/>
                    </a:lnTo>
                    <a:lnTo>
                      <a:pt x="70" y="352"/>
                    </a:lnTo>
                    <a:lnTo>
                      <a:pt x="76" y="351"/>
                    </a:lnTo>
                    <a:lnTo>
                      <a:pt x="79" y="349"/>
                    </a:lnTo>
                    <a:lnTo>
                      <a:pt x="85" y="348"/>
                    </a:lnTo>
                    <a:lnTo>
                      <a:pt x="88" y="346"/>
                    </a:lnTo>
                    <a:lnTo>
                      <a:pt x="94" y="345"/>
                    </a:lnTo>
                    <a:lnTo>
                      <a:pt x="98" y="343"/>
                    </a:lnTo>
                    <a:lnTo>
                      <a:pt x="102" y="340"/>
                    </a:lnTo>
                    <a:lnTo>
                      <a:pt x="107" y="339"/>
                    </a:lnTo>
                    <a:lnTo>
                      <a:pt x="113" y="337"/>
                    </a:lnTo>
                    <a:lnTo>
                      <a:pt x="117" y="336"/>
                    </a:lnTo>
                    <a:lnTo>
                      <a:pt x="122" y="333"/>
                    </a:lnTo>
                    <a:lnTo>
                      <a:pt x="128" y="331"/>
                    </a:lnTo>
                    <a:lnTo>
                      <a:pt x="132" y="328"/>
                    </a:lnTo>
                    <a:lnTo>
                      <a:pt x="138" y="327"/>
                    </a:lnTo>
                    <a:lnTo>
                      <a:pt x="143" y="324"/>
                    </a:lnTo>
                    <a:lnTo>
                      <a:pt x="147" y="322"/>
                    </a:lnTo>
                    <a:lnTo>
                      <a:pt x="153" y="321"/>
                    </a:lnTo>
                    <a:lnTo>
                      <a:pt x="159" y="318"/>
                    </a:lnTo>
                    <a:lnTo>
                      <a:pt x="163" y="315"/>
                    </a:lnTo>
                    <a:lnTo>
                      <a:pt x="168" y="314"/>
                    </a:lnTo>
                    <a:lnTo>
                      <a:pt x="174" y="311"/>
                    </a:lnTo>
                    <a:lnTo>
                      <a:pt x="178" y="309"/>
                    </a:lnTo>
                    <a:lnTo>
                      <a:pt x="184" y="306"/>
                    </a:lnTo>
                    <a:lnTo>
                      <a:pt x="189" y="305"/>
                    </a:lnTo>
                    <a:lnTo>
                      <a:pt x="194" y="302"/>
                    </a:lnTo>
                    <a:lnTo>
                      <a:pt x="199" y="300"/>
                    </a:lnTo>
                    <a:lnTo>
                      <a:pt x="203" y="297"/>
                    </a:lnTo>
                    <a:lnTo>
                      <a:pt x="208" y="294"/>
                    </a:lnTo>
                    <a:lnTo>
                      <a:pt x="212" y="293"/>
                    </a:lnTo>
                    <a:lnTo>
                      <a:pt x="217" y="290"/>
                    </a:lnTo>
                    <a:lnTo>
                      <a:pt x="221" y="288"/>
                    </a:lnTo>
                    <a:lnTo>
                      <a:pt x="226" y="285"/>
                    </a:lnTo>
                    <a:lnTo>
                      <a:pt x="230" y="284"/>
                    </a:lnTo>
                    <a:lnTo>
                      <a:pt x="235" y="281"/>
                    </a:lnTo>
                    <a:lnTo>
                      <a:pt x="239" y="279"/>
                    </a:lnTo>
                    <a:lnTo>
                      <a:pt x="242" y="278"/>
                    </a:lnTo>
                    <a:lnTo>
                      <a:pt x="246" y="275"/>
                    </a:lnTo>
                    <a:lnTo>
                      <a:pt x="251" y="274"/>
                    </a:lnTo>
                    <a:lnTo>
                      <a:pt x="254" y="272"/>
                    </a:lnTo>
                    <a:lnTo>
                      <a:pt x="258" y="271"/>
                    </a:lnTo>
                    <a:lnTo>
                      <a:pt x="261" y="269"/>
                    </a:lnTo>
                    <a:lnTo>
                      <a:pt x="267" y="265"/>
                    </a:lnTo>
                    <a:lnTo>
                      <a:pt x="273" y="263"/>
                    </a:lnTo>
                    <a:lnTo>
                      <a:pt x="278" y="260"/>
                    </a:lnTo>
                    <a:lnTo>
                      <a:pt x="282" y="259"/>
                    </a:lnTo>
                    <a:lnTo>
                      <a:pt x="285" y="257"/>
                    </a:lnTo>
                    <a:lnTo>
                      <a:pt x="288" y="256"/>
                    </a:lnTo>
                    <a:lnTo>
                      <a:pt x="289" y="254"/>
                    </a:lnTo>
                    <a:lnTo>
                      <a:pt x="289" y="254"/>
                    </a:lnTo>
                    <a:lnTo>
                      <a:pt x="291" y="253"/>
                    </a:lnTo>
                    <a:lnTo>
                      <a:pt x="294" y="250"/>
                    </a:lnTo>
                    <a:lnTo>
                      <a:pt x="297" y="248"/>
                    </a:lnTo>
                    <a:lnTo>
                      <a:pt x="301" y="245"/>
                    </a:lnTo>
                    <a:lnTo>
                      <a:pt x="304" y="242"/>
                    </a:lnTo>
                    <a:lnTo>
                      <a:pt x="309" y="241"/>
                    </a:lnTo>
                    <a:lnTo>
                      <a:pt x="313" y="236"/>
                    </a:lnTo>
                    <a:lnTo>
                      <a:pt x="318" y="233"/>
                    </a:lnTo>
                    <a:lnTo>
                      <a:pt x="324" y="229"/>
                    </a:lnTo>
                    <a:lnTo>
                      <a:pt x="328" y="225"/>
                    </a:lnTo>
                    <a:lnTo>
                      <a:pt x="334" y="220"/>
                    </a:lnTo>
                    <a:lnTo>
                      <a:pt x="340" y="216"/>
                    </a:lnTo>
                    <a:lnTo>
                      <a:pt x="346" y="211"/>
                    </a:lnTo>
                    <a:lnTo>
                      <a:pt x="353" y="207"/>
                    </a:lnTo>
                    <a:lnTo>
                      <a:pt x="359" y="199"/>
                    </a:lnTo>
                    <a:lnTo>
                      <a:pt x="367" y="195"/>
                    </a:lnTo>
                    <a:lnTo>
                      <a:pt x="370" y="192"/>
                    </a:lnTo>
                    <a:lnTo>
                      <a:pt x="373" y="189"/>
                    </a:lnTo>
                    <a:lnTo>
                      <a:pt x="375" y="186"/>
                    </a:lnTo>
                    <a:lnTo>
                      <a:pt x="380" y="183"/>
                    </a:lnTo>
                    <a:lnTo>
                      <a:pt x="386" y="177"/>
                    </a:lnTo>
                    <a:lnTo>
                      <a:pt x="393" y="171"/>
                    </a:lnTo>
                    <a:lnTo>
                      <a:pt x="396" y="168"/>
                    </a:lnTo>
                    <a:lnTo>
                      <a:pt x="399" y="165"/>
                    </a:lnTo>
                    <a:lnTo>
                      <a:pt x="404" y="162"/>
                    </a:lnTo>
                    <a:lnTo>
                      <a:pt x="407" y="159"/>
                    </a:lnTo>
                    <a:lnTo>
                      <a:pt x="414" y="152"/>
                    </a:lnTo>
                    <a:lnTo>
                      <a:pt x="420" y="146"/>
                    </a:lnTo>
                    <a:lnTo>
                      <a:pt x="426" y="140"/>
                    </a:lnTo>
                    <a:lnTo>
                      <a:pt x="433" y="134"/>
                    </a:lnTo>
                    <a:lnTo>
                      <a:pt x="439" y="128"/>
                    </a:lnTo>
                    <a:lnTo>
                      <a:pt x="444" y="121"/>
                    </a:lnTo>
                    <a:lnTo>
                      <a:pt x="450" y="115"/>
                    </a:lnTo>
                    <a:lnTo>
                      <a:pt x="456" y="109"/>
                    </a:lnTo>
                    <a:lnTo>
                      <a:pt x="459" y="103"/>
                    </a:lnTo>
                    <a:lnTo>
                      <a:pt x="463" y="97"/>
                    </a:lnTo>
                    <a:lnTo>
                      <a:pt x="467" y="91"/>
                    </a:lnTo>
                    <a:lnTo>
                      <a:pt x="470" y="87"/>
                    </a:lnTo>
                    <a:lnTo>
                      <a:pt x="473" y="81"/>
                    </a:lnTo>
                    <a:lnTo>
                      <a:pt x="476" y="75"/>
                    </a:lnTo>
                    <a:lnTo>
                      <a:pt x="479" y="70"/>
                    </a:lnTo>
                    <a:lnTo>
                      <a:pt x="482" y="64"/>
                    </a:lnTo>
                    <a:lnTo>
                      <a:pt x="484" y="60"/>
                    </a:lnTo>
                    <a:lnTo>
                      <a:pt x="485" y="55"/>
                    </a:lnTo>
                    <a:lnTo>
                      <a:pt x="487" y="49"/>
                    </a:lnTo>
                    <a:lnTo>
                      <a:pt x="488" y="46"/>
                    </a:lnTo>
                    <a:lnTo>
                      <a:pt x="490" y="42"/>
                    </a:lnTo>
                    <a:lnTo>
                      <a:pt x="491" y="38"/>
                    </a:lnTo>
                    <a:lnTo>
                      <a:pt x="491" y="35"/>
                    </a:lnTo>
                    <a:lnTo>
                      <a:pt x="493" y="30"/>
                    </a:lnTo>
                    <a:lnTo>
                      <a:pt x="493" y="27"/>
                    </a:lnTo>
                    <a:lnTo>
                      <a:pt x="493" y="23"/>
                    </a:lnTo>
                    <a:lnTo>
                      <a:pt x="493" y="20"/>
                    </a:lnTo>
                    <a:lnTo>
                      <a:pt x="494" y="17"/>
                    </a:lnTo>
                    <a:lnTo>
                      <a:pt x="494" y="11"/>
                    </a:lnTo>
                    <a:lnTo>
                      <a:pt x="494" y="8"/>
                    </a:lnTo>
                    <a:lnTo>
                      <a:pt x="494" y="3"/>
                    </a:lnTo>
                    <a:lnTo>
                      <a:pt x="494" y="2"/>
                    </a:lnTo>
                    <a:lnTo>
                      <a:pt x="494" y="0"/>
                    </a:lnTo>
                    <a:lnTo>
                      <a:pt x="49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760560" y="2381400"/>
                <a:ext cx="298440" cy="282600"/>
              </a:xfrm>
              <a:custGeom>
                <a:avLst/>
                <a:gdLst/>
                <a:ahLst/>
                <a:rect l="l" t="t" r="r" b="b"/>
                <a:pathLst>
                  <a:path w="376" h="356">
                    <a:moveTo>
                      <a:pt x="356" y="36"/>
                    </a:moveTo>
                    <a:lnTo>
                      <a:pt x="356" y="36"/>
                    </a:lnTo>
                    <a:lnTo>
                      <a:pt x="356" y="39"/>
                    </a:lnTo>
                    <a:lnTo>
                      <a:pt x="356" y="41"/>
                    </a:lnTo>
                    <a:lnTo>
                      <a:pt x="356" y="47"/>
                    </a:lnTo>
                    <a:lnTo>
                      <a:pt x="354" y="50"/>
                    </a:lnTo>
                    <a:lnTo>
                      <a:pt x="354" y="53"/>
                    </a:lnTo>
                    <a:lnTo>
                      <a:pt x="354" y="58"/>
                    </a:lnTo>
                    <a:lnTo>
                      <a:pt x="354" y="61"/>
                    </a:lnTo>
                    <a:lnTo>
                      <a:pt x="353" y="65"/>
                    </a:lnTo>
                    <a:lnTo>
                      <a:pt x="353" y="70"/>
                    </a:lnTo>
                    <a:lnTo>
                      <a:pt x="351" y="74"/>
                    </a:lnTo>
                    <a:lnTo>
                      <a:pt x="351" y="80"/>
                    </a:lnTo>
                    <a:lnTo>
                      <a:pt x="351" y="85"/>
                    </a:lnTo>
                    <a:lnTo>
                      <a:pt x="350" y="90"/>
                    </a:lnTo>
                    <a:lnTo>
                      <a:pt x="348" y="95"/>
                    </a:lnTo>
                    <a:lnTo>
                      <a:pt x="348" y="101"/>
                    </a:lnTo>
                    <a:lnTo>
                      <a:pt x="345" y="107"/>
                    </a:lnTo>
                    <a:lnTo>
                      <a:pt x="344" y="113"/>
                    </a:lnTo>
                    <a:lnTo>
                      <a:pt x="342" y="119"/>
                    </a:lnTo>
                    <a:lnTo>
                      <a:pt x="341" y="125"/>
                    </a:lnTo>
                    <a:lnTo>
                      <a:pt x="338" y="131"/>
                    </a:lnTo>
                    <a:lnTo>
                      <a:pt x="336" y="136"/>
                    </a:lnTo>
                    <a:lnTo>
                      <a:pt x="332" y="142"/>
                    </a:lnTo>
                    <a:lnTo>
                      <a:pt x="330" y="150"/>
                    </a:lnTo>
                    <a:lnTo>
                      <a:pt x="326" y="156"/>
                    </a:lnTo>
                    <a:lnTo>
                      <a:pt x="323" y="162"/>
                    </a:lnTo>
                    <a:lnTo>
                      <a:pt x="320" y="168"/>
                    </a:lnTo>
                    <a:lnTo>
                      <a:pt x="317" y="175"/>
                    </a:lnTo>
                    <a:lnTo>
                      <a:pt x="311" y="179"/>
                    </a:lnTo>
                    <a:lnTo>
                      <a:pt x="307" y="185"/>
                    </a:lnTo>
                    <a:lnTo>
                      <a:pt x="302" y="191"/>
                    </a:lnTo>
                    <a:lnTo>
                      <a:pt x="299" y="197"/>
                    </a:lnTo>
                    <a:lnTo>
                      <a:pt x="293" y="203"/>
                    </a:lnTo>
                    <a:lnTo>
                      <a:pt x="287" y="209"/>
                    </a:lnTo>
                    <a:lnTo>
                      <a:pt x="281" y="214"/>
                    </a:lnTo>
                    <a:lnTo>
                      <a:pt x="277" y="220"/>
                    </a:lnTo>
                    <a:lnTo>
                      <a:pt x="271" y="224"/>
                    </a:lnTo>
                    <a:lnTo>
                      <a:pt x="265" y="230"/>
                    </a:lnTo>
                    <a:lnTo>
                      <a:pt x="259" y="234"/>
                    </a:lnTo>
                    <a:lnTo>
                      <a:pt x="253" y="240"/>
                    </a:lnTo>
                    <a:lnTo>
                      <a:pt x="246" y="245"/>
                    </a:lnTo>
                    <a:lnTo>
                      <a:pt x="240" y="249"/>
                    </a:lnTo>
                    <a:lnTo>
                      <a:pt x="234" y="254"/>
                    </a:lnTo>
                    <a:lnTo>
                      <a:pt x="228" y="260"/>
                    </a:lnTo>
                    <a:lnTo>
                      <a:pt x="224" y="261"/>
                    </a:lnTo>
                    <a:lnTo>
                      <a:pt x="221" y="263"/>
                    </a:lnTo>
                    <a:lnTo>
                      <a:pt x="218" y="264"/>
                    </a:lnTo>
                    <a:lnTo>
                      <a:pt x="215" y="267"/>
                    </a:lnTo>
                    <a:lnTo>
                      <a:pt x="207" y="271"/>
                    </a:lnTo>
                    <a:lnTo>
                      <a:pt x="201" y="276"/>
                    </a:lnTo>
                    <a:lnTo>
                      <a:pt x="198" y="276"/>
                    </a:lnTo>
                    <a:lnTo>
                      <a:pt x="194" y="279"/>
                    </a:lnTo>
                    <a:lnTo>
                      <a:pt x="191" y="280"/>
                    </a:lnTo>
                    <a:lnTo>
                      <a:pt x="188" y="282"/>
                    </a:lnTo>
                    <a:lnTo>
                      <a:pt x="181" y="286"/>
                    </a:lnTo>
                    <a:lnTo>
                      <a:pt x="175" y="289"/>
                    </a:lnTo>
                    <a:lnTo>
                      <a:pt x="167" y="292"/>
                    </a:lnTo>
                    <a:lnTo>
                      <a:pt x="161" y="295"/>
                    </a:lnTo>
                    <a:lnTo>
                      <a:pt x="155" y="298"/>
                    </a:lnTo>
                    <a:lnTo>
                      <a:pt x="149" y="301"/>
                    </a:lnTo>
                    <a:lnTo>
                      <a:pt x="142" y="303"/>
                    </a:lnTo>
                    <a:lnTo>
                      <a:pt x="138" y="306"/>
                    </a:lnTo>
                    <a:lnTo>
                      <a:pt x="132" y="307"/>
                    </a:lnTo>
                    <a:lnTo>
                      <a:pt x="126" y="310"/>
                    </a:lnTo>
                    <a:lnTo>
                      <a:pt x="120" y="312"/>
                    </a:lnTo>
                    <a:lnTo>
                      <a:pt x="115" y="313"/>
                    </a:lnTo>
                    <a:lnTo>
                      <a:pt x="109" y="313"/>
                    </a:lnTo>
                    <a:lnTo>
                      <a:pt x="105" y="315"/>
                    </a:lnTo>
                    <a:lnTo>
                      <a:pt x="99" y="316"/>
                    </a:lnTo>
                    <a:lnTo>
                      <a:pt x="94" y="316"/>
                    </a:lnTo>
                    <a:lnTo>
                      <a:pt x="90" y="317"/>
                    </a:lnTo>
                    <a:lnTo>
                      <a:pt x="87" y="317"/>
                    </a:lnTo>
                    <a:lnTo>
                      <a:pt x="83" y="317"/>
                    </a:lnTo>
                    <a:lnTo>
                      <a:pt x="78" y="317"/>
                    </a:lnTo>
                    <a:lnTo>
                      <a:pt x="75" y="317"/>
                    </a:lnTo>
                    <a:lnTo>
                      <a:pt x="72" y="319"/>
                    </a:lnTo>
                    <a:lnTo>
                      <a:pt x="65" y="319"/>
                    </a:lnTo>
                    <a:lnTo>
                      <a:pt x="60" y="319"/>
                    </a:lnTo>
                    <a:lnTo>
                      <a:pt x="54" y="317"/>
                    </a:lnTo>
                    <a:lnTo>
                      <a:pt x="51" y="317"/>
                    </a:lnTo>
                    <a:lnTo>
                      <a:pt x="47" y="316"/>
                    </a:lnTo>
                    <a:lnTo>
                      <a:pt x="44" y="316"/>
                    </a:lnTo>
                    <a:lnTo>
                      <a:pt x="41" y="313"/>
                    </a:lnTo>
                    <a:lnTo>
                      <a:pt x="40" y="313"/>
                    </a:lnTo>
                    <a:lnTo>
                      <a:pt x="38" y="313"/>
                    </a:lnTo>
                    <a:lnTo>
                      <a:pt x="37" y="312"/>
                    </a:lnTo>
                    <a:lnTo>
                      <a:pt x="35" y="310"/>
                    </a:lnTo>
                    <a:lnTo>
                      <a:pt x="35" y="306"/>
                    </a:lnTo>
                    <a:lnTo>
                      <a:pt x="35" y="303"/>
                    </a:lnTo>
                    <a:lnTo>
                      <a:pt x="37" y="300"/>
                    </a:lnTo>
                    <a:lnTo>
                      <a:pt x="38" y="297"/>
                    </a:lnTo>
                    <a:lnTo>
                      <a:pt x="40" y="294"/>
                    </a:lnTo>
                    <a:lnTo>
                      <a:pt x="41" y="289"/>
                    </a:lnTo>
                    <a:lnTo>
                      <a:pt x="43" y="285"/>
                    </a:lnTo>
                    <a:lnTo>
                      <a:pt x="44" y="280"/>
                    </a:lnTo>
                    <a:lnTo>
                      <a:pt x="47" y="274"/>
                    </a:lnTo>
                    <a:lnTo>
                      <a:pt x="48" y="269"/>
                    </a:lnTo>
                    <a:lnTo>
                      <a:pt x="51" y="264"/>
                    </a:lnTo>
                    <a:lnTo>
                      <a:pt x="54" y="258"/>
                    </a:lnTo>
                    <a:lnTo>
                      <a:pt x="57" y="254"/>
                    </a:lnTo>
                    <a:lnTo>
                      <a:pt x="59" y="248"/>
                    </a:lnTo>
                    <a:lnTo>
                      <a:pt x="62" y="243"/>
                    </a:lnTo>
                    <a:lnTo>
                      <a:pt x="63" y="239"/>
                    </a:lnTo>
                    <a:lnTo>
                      <a:pt x="66" y="236"/>
                    </a:lnTo>
                    <a:lnTo>
                      <a:pt x="69" y="231"/>
                    </a:lnTo>
                    <a:lnTo>
                      <a:pt x="71" y="230"/>
                    </a:lnTo>
                    <a:lnTo>
                      <a:pt x="37" y="242"/>
                    </a:lnTo>
                    <a:lnTo>
                      <a:pt x="35" y="242"/>
                    </a:lnTo>
                    <a:lnTo>
                      <a:pt x="32" y="245"/>
                    </a:lnTo>
                    <a:lnTo>
                      <a:pt x="28" y="249"/>
                    </a:lnTo>
                    <a:lnTo>
                      <a:pt x="25" y="254"/>
                    </a:lnTo>
                    <a:lnTo>
                      <a:pt x="22" y="257"/>
                    </a:lnTo>
                    <a:lnTo>
                      <a:pt x="19" y="261"/>
                    </a:lnTo>
                    <a:lnTo>
                      <a:pt x="16" y="264"/>
                    </a:lnTo>
                    <a:lnTo>
                      <a:pt x="14" y="269"/>
                    </a:lnTo>
                    <a:lnTo>
                      <a:pt x="11" y="271"/>
                    </a:lnTo>
                    <a:lnTo>
                      <a:pt x="10" y="277"/>
                    </a:lnTo>
                    <a:lnTo>
                      <a:pt x="7" y="282"/>
                    </a:lnTo>
                    <a:lnTo>
                      <a:pt x="7" y="288"/>
                    </a:lnTo>
                    <a:lnTo>
                      <a:pt x="4" y="292"/>
                    </a:lnTo>
                    <a:lnTo>
                      <a:pt x="2" y="298"/>
                    </a:lnTo>
                    <a:lnTo>
                      <a:pt x="2" y="303"/>
                    </a:lnTo>
                    <a:lnTo>
                      <a:pt x="1" y="309"/>
                    </a:lnTo>
                    <a:lnTo>
                      <a:pt x="0" y="313"/>
                    </a:lnTo>
                    <a:lnTo>
                      <a:pt x="0" y="319"/>
                    </a:lnTo>
                    <a:lnTo>
                      <a:pt x="0" y="325"/>
                    </a:lnTo>
                    <a:lnTo>
                      <a:pt x="0" y="329"/>
                    </a:lnTo>
                    <a:lnTo>
                      <a:pt x="0" y="334"/>
                    </a:lnTo>
                    <a:lnTo>
                      <a:pt x="0" y="338"/>
                    </a:lnTo>
                    <a:lnTo>
                      <a:pt x="0" y="341"/>
                    </a:lnTo>
                    <a:lnTo>
                      <a:pt x="0" y="346"/>
                    </a:lnTo>
                    <a:lnTo>
                      <a:pt x="0" y="350"/>
                    </a:lnTo>
                    <a:lnTo>
                      <a:pt x="1" y="352"/>
                    </a:lnTo>
                    <a:lnTo>
                      <a:pt x="2" y="352"/>
                    </a:lnTo>
                    <a:lnTo>
                      <a:pt x="4" y="353"/>
                    </a:lnTo>
                    <a:lnTo>
                      <a:pt x="8" y="353"/>
                    </a:lnTo>
                    <a:lnTo>
                      <a:pt x="11" y="355"/>
                    </a:lnTo>
                    <a:lnTo>
                      <a:pt x="17" y="355"/>
                    </a:lnTo>
                    <a:lnTo>
                      <a:pt x="20" y="355"/>
                    </a:lnTo>
                    <a:lnTo>
                      <a:pt x="23" y="355"/>
                    </a:lnTo>
                    <a:lnTo>
                      <a:pt x="28" y="355"/>
                    </a:lnTo>
                    <a:lnTo>
                      <a:pt x="31" y="356"/>
                    </a:lnTo>
                    <a:lnTo>
                      <a:pt x="35" y="355"/>
                    </a:lnTo>
                    <a:lnTo>
                      <a:pt x="38" y="355"/>
                    </a:lnTo>
                    <a:lnTo>
                      <a:pt x="43" y="355"/>
                    </a:lnTo>
                    <a:lnTo>
                      <a:pt x="47" y="355"/>
                    </a:lnTo>
                    <a:lnTo>
                      <a:pt x="51" y="355"/>
                    </a:lnTo>
                    <a:lnTo>
                      <a:pt x="56" y="355"/>
                    </a:lnTo>
                    <a:lnTo>
                      <a:pt x="62" y="353"/>
                    </a:lnTo>
                    <a:lnTo>
                      <a:pt x="66" y="353"/>
                    </a:lnTo>
                    <a:lnTo>
                      <a:pt x="72" y="352"/>
                    </a:lnTo>
                    <a:lnTo>
                      <a:pt x="78" y="352"/>
                    </a:lnTo>
                    <a:lnTo>
                      <a:pt x="84" y="350"/>
                    </a:lnTo>
                    <a:lnTo>
                      <a:pt x="90" y="349"/>
                    </a:lnTo>
                    <a:lnTo>
                      <a:pt x="96" y="347"/>
                    </a:lnTo>
                    <a:lnTo>
                      <a:pt x="103" y="346"/>
                    </a:lnTo>
                    <a:lnTo>
                      <a:pt x="106" y="344"/>
                    </a:lnTo>
                    <a:lnTo>
                      <a:pt x="109" y="344"/>
                    </a:lnTo>
                    <a:lnTo>
                      <a:pt x="112" y="344"/>
                    </a:lnTo>
                    <a:lnTo>
                      <a:pt x="117" y="343"/>
                    </a:lnTo>
                    <a:lnTo>
                      <a:pt x="120" y="341"/>
                    </a:lnTo>
                    <a:lnTo>
                      <a:pt x="123" y="340"/>
                    </a:lnTo>
                    <a:lnTo>
                      <a:pt x="127" y="338"/>
                    </a:lnTo>
                    <a:lnTo>
                      <a:pt x="130" y="337"/>
                    </a:lnTo>
                    <a:lnTo>
                      <a:pt x="135" y="335"/>
                    </a:lnTo>
                    <a:lnTo>
                      <a:pt x="138" y="334"/>
                    </a:lnTo>
                    <a:lnTo>
                      <a:pt x="142" y="332"/>
                    </a:lnTo>
                    <a:lnTo>
                      <a:pt x="145" y="332"/>
                    </a:lnTo>
                    <a:lnTo>
                      <a:pt x="149" y="329"/>
                    </a:lnTo>
                    <a:lnTo>
                      <a:pt x="152" y="328"/>
                    </a:lnTo>
                    <a:lnTo>
                      <a:pt x="157" y="326"/>
                    </a:lnTo>
                    <a:lnTo>
                      <a:pt x="160" y="325"/>
                    </a:lnTo>
                    <a:lnTo>
                      <a:pt x="164" y="323"/>
                    </a:lnTo>
                    <a:lnTo>
                      <a:pt x="169" y="322"/>
                    </a:lnTo>
                    <a:lnTo>
                      <a:pt x="172" y="320"/>
                    </a:lnTo>
                    <a:lnTo>
                      <a:pt x="176" y="319"/>
                    </a:lnTo>
                    <a:lnTo>
                      <a:pt x="181" y="317"/>
                    </a:lnTo>
                    <a:lnTo>
                      <a:pt x="184" y="315"/>
                    </a:lnTo>
                    <a:lnTo>
                      <a:pt x="188" y="313"/>
                    </a:lnTo>
                    <a:lnTo>
                      <a:pt x="192" y="312"/>
                    </a:lnTo>
                    <a:lnTo>
                      <a:pt x="195" y="310"/>
                    </a:lnTo>
                    <a:lnTo>
                      <a:pt x="200" y="307"/>
                    </a:lnTo>
                    <a:lnTo>
                      <a:pt x="204" y="306"/>
                    </a:lnTo>
                    <a:lnTo>
                      <a:pt x="209" y="304"/>
                    </a:lnTo>
                    <a:lnTo>
                      <a:pt x="212" y="301"/>
                    </a:lnTo>
                    <a:lnTo>
                      <a:pt x="216" y="300"/>
                    </a:lnTo>
                    <a:lnTo>
                      <a:pt x="219" y="297"/>
                    </a:lnTo>
                    <a:lnTo>
                      <a:pt x="224" y="295"/>
                    </a:lnTo>
                    <a:lnTo>
                      <a:pt x="228" y="292"/>
                    </a:lnTo>
                    <a:lnTo>
                      <a:pt x="231" y="291"/>
                    </a:lnTo>
                    <a:lnTo>
                      <a:pt x="235" y="289"/>
                    </a:lnTo>
                    <a:lnTo>
                      <a:pt x="240" y="288"/>
                    </a:lnTo>
                    <a:lnTo>
                      <a:pt x="243" y="285"/>
                    </a:lnTo>
                    <a:lnTo>
                      <a:pt x="247" y="282"/>
                    </a:lnTo>
                    <a:lnTo>
                      <a:pt x="250" y="280"/>
                    </a:lnTo>
                    <a:lnTo>
                      <a:pt x="255" y="277"/>
                    </a:lnTo>
                    <a:lnTo>
                      <a:pt x="258" y="276"/>
                    </a:lnTo>
                    <a:lnTo>
                      <a:pt x="262" y="273"/>
                    </a:lnTo>
                    <a:lnTo>
                      <a:pt x="265" y="270"/>
                    </a:lnTo>
                    <a:lnTo>
                      <a:pt x="270" y="269"/>
                    </a:lnTo>
                    <a:lnTo>
                      <a:pt x="273" y="266"/>
                    </a:lnTo>
                    <a:lnTo>
                      <a:pt x="277" y="263"/>
                    </a:lnTo>
                    <a:lnTo>
                      <a:pt x="280" y="261"/>
                    </a:lnTo>
                    <a:lnTo>
                      <a:pt x="284" y="258"/>
                    </a:lnTo>
                    <a:lnTo>
                      <a:pt x="287" y="255"/>
                    </a:lnTo>
                    <a:lnTo>
                      <a:pt x="290" y="254"/>
                    </a:lnTo>
                    <a:lnTo>
                      <a:pt x="293" y="251"/>
                    </a:lnTo>
                    <a:lnTo>
                      <a:pt x="298" y="249"/>
                    </a:lnTo>
                    <a:lnTo>
                      <a:pt x="304" y="243"/>
                    </a:lnTo>
                    <a:lnTo>
                      <a:pt x="310" y="239"/>
                    </a:lnTo>
                    <a:lnTo>
                      <a:pt x="316" y="233"/>
                    </a:lnTo>
                    <a:lnTo>
                      <a:pt x="322" y="227"/>
                    </a:lnTo>
                    <a:lnTo>
                      <a:pt x="326" y="223"/>
                    </a:lnTo>
                    <a:lnTo>
                      <a:pt x="332" y="217"/>
                    </a:lnTo>
                    <a:lnTo>
                      <a:pt x="336" y="212"/>
                    </a:lnTo>
                    <a:lnTo>
                      <a:pt x="342" y="208"/>
                    </a:lnTo>
                    <a:lnTo>
                      <a:pt x="345" y="202"/>
                    </a:lnTo>
                    <a:lnTo>
                      <a:pt x="350" y="196"/>
                    </a:lnTo>
                    <a:lnTo>
                      <a:pt x="353" y="190"/>
                    </a:lnTo>
                    <a:lnTo>
                      <a:pt x="356" y="185"/>
                    </a:lnTo>
                    <a:lnTo>
                      <a:pt x="359" y="179"/>
                    </a:lnTo>
                    <a:lnTo>
                      <a:pt x="362" y="175"/>
                    </a:lnTo>
                    <a:lnTo>
                      <a:pt x="365" y="171"/>
                    </a:lnTo>
                    <a:lnTo>
                      <a:pt x="366" y="165"/>
                    </a:lnTo>
                    <a:lnTo>
                      <a:pt x="368" y="160"/>
                    </a:lnTo>
                    <a:lnTo>
                      <a:pt x="370" y="156"/>
                    </a:lnTo>
                    <a:lnTo>
                      <a:pt x="370" y="150"/>
                    </a:lnTo>
                    <a:lnTo>
                      <a:pt x="372" y="145"/>
                    </a:lnTo>
                    <a:lnTo>
                      <a:pt x="373" y="141"/>
                    </a:lnTo>
                    <a:lnTo>
                      <a:pt x="373" y="136"/>
                    </a:lnTo>
                    <a:lnTo>
                      <a:pt x="375" y="133"/>
                    </a:lnTo>
                    <a:lnTo>
                      <a:pt x="376" y="129"/>
                    </a:lnTo>
                    <a:lnTo>
                      <a:pt x="376" y="125"/>
                    </a:lnTo>
                    <a:lnTo>
                      <a:pt x="376" y="122"/>
                    </a:lnTo>
                    <a:lnTo>
                      <a:pt x="376" y="117"/>
                    </a:lnTo>
                    <a:lnTo>
                      <a:pt x="376" y="114"/>
                    </a:lnTo>
                    <a:lnTo>
                      <a:pt x="376" y="108"/>
                    </a:lnTo>
                    <a:lnTo>
                      <a:pt x="376" y="102"/>
                    </a:lnTo>
                    <a:lnTo>
                      <a:pt x="375" y="99"/>
                    </a:lnTo>
                    <a:lnTo>
                      <a:pt x="375" y="95"/>
                    </a:lnTo>
                    <a:lnTo>
                      <a:pt x="375" y="93"/>
                    </a:lnTo>
                    <a:lnTo>
                      <a:pt x="375" y="0"/>
                    </a:lnTo>
                    <a:lnTo>
                      <a:pt x="356" y="36"/>
                    </a:lnTo>
                    <a:lnTo>
                      <a:pt x="356" y="3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402000" y="2589120"/>
                <a:ext cx="377640" cy="111240"/>
              </a:xfrm>
              <a:custGeom>
                <a:avLst/>
                <a:gdLst/>
                <a:ahLst/>
                <a:rect l="l" t="t" r="r" b="b"/>
                <a:pathLst>
                  <a:path w="475" h="139">
                    <a:moveTo>
                      <a:pt x="475" y="0"/>
                    </a:moveTo>
                    <a:lnTo>
                      <a:pt x="474" y="0"/>
                    </a:lnTo>
                    <a:lnTo>
                      <a:pt x="474" y="1"/>
                    </a:lnTo>
                    <a:lnTo>
                      <a:pt x="474" y="3"/>
                    </a:lnTo>
                    <a:lnTo>
                      <a:pt x="472" y="7"/>
                    </a:lnTo>
                    <a:lnTo>
                      <a:pt x="469" y="10"/>
                    </a:lnTo>
                    <a:lnTo>
                      <a:pt x="466" y="14"/>
                    </a:lnTo>
                    <a:lnTo>
                      <a:pt x="462" y="20"/>
                    </a:lnTo>
                    <a:lnTo>
                      <a:pt x="456" y="26"/>
                    </a:lnTo>
                    <a:lnTo>
                      <a:pt x="453" y="28"/>
                    </a:lnTo>
                    <a:lnTo>
                      <a:pt x="449" y="32"/>
                    </a:lnTo>
                    <a:lnTo>
                      <a:pt x="444" y="34"/>
                    </a:lnTo>
                    <a:lnTo>
                      <a:pt x="440" y="38"/>
                    </a:lnTo>
                    <a:lnTo>
                      <a:pt x="435" y="41"/>
                    </a:lnTo>
                    <a:lnTo>
                      <a:pt x="429" y="44"/>
                    </a:lnTo>
                    <a:lnTo>
                      <a:pt x="423" y="47"/>
                    </a:lnTo>
                    <a:lnTo>
                      <a:pt x="417" y="50"/>
                    </a:lnTo>
                    <a:lnTo>
                      <a:pt x="414" y="52"/>
                    </a:lnTo>
                    <a:lnTo>
                      <a:pt x="410" y="54"/>
                    </a:lnTo>
                    <a:lnTo>
                      <a:pt x="407" y="54"/>
                    </a:lnTo>
                    <a:lnTo>
                      <a:pt x="404" y="57"/>
                    </a:lnTo>
                    <a:lnTo>
                      <a:pt x="400" y="57"/>
                    </a:lnTo>
                    <a:lnTo>
                      <a:pt x="395" y="60"/>
                    </a:lnTo>
                    <a:lnTo>
                      <a:pt x="392" y="62"/>
                    </a:lnTo>
                    <a:lnTo>
                      <a:pt x="388" y="63"/>
                    </a:lnTo>
                    <a:lnTo>
                      <a:pt x="383" y="65"/>
                    </a:lnTo>
                    <a:lnTo>
                      <a:pt x="379" y="66"/>
                    </a:lnTo>
                    <a:lnTo>
                      <a:pt x="373" y="68"/>
                    </a:lnTo>
                    <a:lnTo>
                      <a:pt x="370" y="69"/>
                    </a:lnTo>
                    <a:lnTo>
                      <a:pt x="364" y="71"/>
                    </a:lnTo>
                    <a:lnTo>
                      <a:pt x="360" y="72"/>
                    </a:lnTo>
                    <a:lnTo>
                      <a:pt x="354" y="74"/>
                    </a:lnTo>
                    <a:lnTo>
                      <a:pt x="349" y="77"/>
                    </a:lnTo>
                    <a:lnTo>
                      <a:pt x="343" y="77"/>
                    </a:lnTo>
                    <a:lnTo>
                      <a:pt x="337" y="78"/>
                    </a:lnTo>
                    <a:lnTo>
                      <a:pt x="331" y="80"/>
                    </a:lnTo>
                    <a:lnTo>
                      <a:pt x="324" y="81"/>
                    </a:lnTo>
                    <a:lnTo>
                      <a:pt x="318" y="81"/>
                    </a:lnTo>
                    <a:lnTo>
                      <a:pt x="312" y="84"/>
                    </a:lnTo>
                    <a:lnTo>
                      <a:pt x="306" y="84"/>
                    </a:lnTo>
                    <a:lnTo>
                      <a:pt x="299" y="86"/>
                    </a:lnTo>
                    <a:lnTo>
                      <a:pt x="293" y="87"/>
                    </a:lnTo>
                    <a:lnTo>
                      <a:pt x="285" y="89"/>
                    </a:lnTo>
                    <a:lnTo>
                      <a:pt x="279" y="89"/>
                    </a:lnTo>
                    <a:lnTo>
                      <a:pt x="272" y="90"/>
                    </a:lnTo>
                    <a:lnTo>
                      <a:pt x="265" y="92"/>
                    </a:lnTo>
                    <a:lnTo>
                      <a:pt x="257" y="92"/>
                    </a:lnTo>
                    <a:lnTo>
                      <a:pt x="251" y="93"/>
                    </a:lnTo>
                    <a:lnTo>
                      <a:pt x="244" y="95"/>
                    </a:lnTo>
                    <a:lnTo>
                      <a:pt x="236" y="96"/>
                    </a:lnTo>
                    <a:lnTo>
                      <a:pt x="229" y="96"/>
                    </a:lnTo>
                    <a:lnTo>
                      <a:pt x="222" y="98"/>
                    </a:lnTo>
                    <a:lnTo>
                      <a:pt x="216" y="99"/>
                    </a:lnTo>
                    <a:lnTo>
                      <a:pt x="208" y="99"/>
                    </a:lnTo>
                    <a:lnTo>
                      <a:pt x="201" y="100"/>
                    </a:lnTo>
                    <a:lnTo>
                      <a:pt x="193" y="100"/>
                    </a:lnTo>
                    <a:lnTo>
                      <a:pt x="186" y="102"/>
                    </a:lnTo>
                    <a:lnTo>
                      <a:pt x="178" y="102"/>
                    </a:lnTo>
                    <a:lnTo>
                      <a:pt x="171" y="103"/>
                    </a:lnTo>
                    <a:lnTo>
                      <a:pt x="164" y="103"/>
                    </a:lnTo>
                    <a:lnTo>
                      <a:pt x="158" y="105"/>
                    </a:lnTo>
                    <a:lnTo>
                      <a:pt x="150" y="105"/>
                    </a:lnTo>
                    <a:lnTo>
                      <a:pt x="143" y="106"/>
                    </a:lnTo>
                    <a:lnTo>
                      <a:pt x="137" y="108"/>
                    </a:lnTo>
                    <a:lnTo>
                      <a:pt x="131" y="108"/>
                    </a:lnTo>
                    <a:lnTo>
                      <a:pt x="124" y="108"/>
                    </a:lnTo>
                    <a:lnTo>
                      <a:pt x="116" y="109"/>
                    </a:lnTo>
                    <a:lnTo>
                      <a:pt x="109" y="109"/>
                    </a:lnTo>
                    <a:lnTo>
                      <a:pt x="103" y="111"/>
                    </a:lnTo>
                    <a:lnTo>
                      <a:pt x="97" y="111"/>
                    </a:lnTo>
                    <a:lnTo>
                      <a:pt x="89" y="111"/>
                    </a:lnTo>
                    <a:lnTo>
                      <a:pt x="85" y="111"/>
                    </a:lnTo>
                    <a:lnTo>
                      <a:pt x="79" y="112"/>
                    </a:lnTo>
                    <a:lnTo>
                      <a:pt x="73" y="112"/>
                    </a:lnTo>
                    <a:lnTo>
                      <a:pt x="67" y="112"/>
                    </a:lnTo>
                    <a:lnTo>
                      <a:pt x="61" y="114"/>
                    </a:lnTo>
                    <a:lnTo>
                      <a:pt x="57" y="114"/>
                    </a:lnTo>
                    <a:lnTo>
                      <a:pt x="51" y="114"/>
                    </a:lnTo>
                    <a:lnTo>
                      <a:pt x="46" y="115"/>
                    </a:lnTo>
                    <a:lnTo>
                      <a:pt x="42" y="115"/>
                    </a:lnTo>
                    <a:lnTo>
                      <a:pt x="38" y="115"/>
                    </a:lnTo>
                    <a:lnTo>
                      <a:pt x="33" y="115"/>
                    </a:lnTo>
                    <a:lnTo>
                      <a:pt x="29" y="115"/>
                    </a:lnTo>
                    <a:lnTo>
                      <a:pt x="26" y="115"/>
                    </a:lnTo>
                    <a:lnTo>
                      <a:pt x="23" y="117"/>
                    </a:lnTo>
                    <a:lnTo>
                      <a:pt x="18" y="117"/>
                    </a:lnTo>
                    <a:lnTo>
                      <a:pt x="15" y="117"/>
                    </a:lnTo>
                    <a:lnTo>
                      <a:pt x="12" y="117"/>
                    </a:lnTo>
                    <a:lnTo>
                      <a:pt x="11" y="117"/>
                    </a:lnTo>
                    <a:lnTo>
                      <a:pt x="5" y="117"/>
                    </a:lnTo>
                    <a:lnTo>
                      <a:pt x="2" y="118"/>
                    </a:lnTo>
                    <a:lnTo>
                      <a:pt x="0" y="118"/>
                    </a:lnTo>
                    <a:lnTo>
                      <a:pt x="0" y="118"/>
                    </a:lnTo>
                    <a:lnTo>
                      <a:pt x="0" y="118"/>
                    </a:lnTo>
                    <a:lnTo>
                      <a:pt x="5" y="120"/>
                    </a:lnTo>
                    <a:lnTo>
                      <a:pt x="6" y="120"/>
                    </a:lnTo>
                    <a:lnTo>
                      <a:pt x="11" y="121"/>
                    </a:lnTo>
                    <a:lnTo>
                      <a:pt x="14" y="121"/>
                    </a:lnTo>
                    <a:lnTo>
                      <a:pt x="18" y="123"/>
                    </a:lnTo>
                    <a:lnTo>
                      <a:pt x="21" y="123"/>
                    </a:lnTo>
                    <a:lnTo>
                      <a:pt x="27" y="124"/>
                    </a:lnTo>
                    <a:lnTo>
                      <a:pt x="32" y="126"/>
                    </a:lnTo>
                    <a:lnTo>
                      <a:pt x="38" y="127"/>
                    </a:lnTo>
                    <a:lnTo>
                      <a:pt x="40" y="127"/>
                    </a:lnTo>
                    <a:lnTo>
                      <a:pt x="43" y="127"/>
                    </a:lnTo>
                    <a:lnTo>
                      <a:pt x="48" y="129"/>
                    </a:lnTo>
                    <a:lnTo>
                      <a:pt x="51" y="129"/>
                    </a:lnTo>
                    <a:lnTo>
                      <a:pt x="54" y="130"/>
                    </a:lnTo>
                    <a:lnTo>
                      <a:pt x="58" y="130"/>
                    </a:lnTo>
                    <a:lnTo>
                      <a:pt x="61" y="130"/>
                    </a:lnTo>
                    <a:lnTo>
                      <a:pt x="66" y="132"/>
                    </a:lnTo>
                    <a:lnTo>
                      <a:pt x="70" y="132"/>
                    </a:lnTo>
                    <a:lnTo>
                      <a:pt x="73" y="133"/>
                    </a:lnTo>
                    <a:lnTo>
                      <a:pt x="78" y="133"/>
                    </a:lnTo>
                    <a:lnTo>
                      <a:pt x="81" y="133"/>
                    </a:lnTo>
                    <a:lnTo>
                      <a:pt x="85" y="133"/>
                    </a:lnTo>
                    <a:lnTo>
                      <a:pt x="89" y="135"/>
                    </a:lnTo>
                    <a:lnTo>
                      <a:pt x="94" y="135"/>
                    </a:lnTo>
                    <a:lnTo>
                      <a:pt x="98" y="136"/>
                    </a:lnTo>
                    <a:lnTo>
                      <a:pt x="101" y="136"/>
                    </a:lnTo>
                    <a:lnTo>
                      <a:pt x="107" y="138"/>
                    </a:lnTo>
                    <a:lnTo>
                      <a:pt x="112" y="138"/>
                    </a:lnTo>
                    <a:lnTo>
                      <a:pt x="116" y="138"/>
                    </a:lnTo>
                    <a:lnTo>
                      <a:pt x="121" y="138"/>
                    </a:lnTo>
                    <a:lnTo>
                      <a:pt x="127" y="138"/>
                    </a:lnTo>
                    <a:lnTo>
                      <a:pt x="131" y="138"/>
                    </a:lnTo>
                    <a:lnTo>
                      <a:pt x="135" y="139"/>
                    </a:lnTo>
                    <a:lnTo>
                      <a:pt x="140" y="139"/>
                    </a:lnTo>
                    <a:lnTo>
                      <a:pt x="146" y="139"/>
                    </a:lnTo>
                    <a:lnTo>
                      <a:pt x="150" y="139"/>
                    </a:lnTo>
                    <a:lnTo>
                      <a:pt x="156" y="139"/>
                    </a:lnTo>
                    <a:lnTo>
                      <a:pt x="161" y="139"/>
                    </a:lnTo>
                    <a:lnTo>
                      <a:pt x="165" y="139"/>
                    </a:lnTo>
                    <a:lnTo>
                      <a:pt x="171" y="139"/>
                    </a:lnTo>
                    <a:lnTo>
                      <a:pt x="176" y="139"/>
                    </a:lnTo>
                    <a:lnTo>
                      <a:pt x="181" y="139"/>
                    </a:lnTo>
                    <a:lnTo>
                      <a:pt x="187" y="139"/>
                    </a:lnTo>
                    <a:lnTo>
                      <a:pt x="192" y="138"/>
                    </a:lnTo>
                    <a:lnTo>
                      <a:pt x="198" y="138"/>
                    </a:lnTo>
                    <a:lnTo>
                      <a:pt x="204" y="138"/>
                    </a:lnTo>
                    <a:lnTo>
                      <a:pt x="210" y="138"/>
                    </a:lnTo>
                    <a:lnTo>
                      <a:pt x="214" y="138"/>
                    </a:lnTo>
                    <a:lnTo>
                      <a:pt x="220" y="138"/>
                    </a:lnTo>
                    <a:lnTo>
                      <a:pt x="224" y="136"/>
                    </a:lnTo>
                    <a:lnTo>
                      <a:pt x="230" y="135"/>
                    </a:lnTo>
                    <a:lnTo>
                      <a:pt x="236" y="133"/>
                    </a:lnTo>
                    <a:lnTo>
                      <a:pt x="242" y="133"/>
                    </a:lnTo>
                    <a:lnTo>
                      <a:pt x="247" y="132"/>
                    </a:lnTo>
                    <a:lnTo>
                      <a:pt x="253" y="132"/>
                    </a:lnTo>
                    <a:lnTo>
                      <a:pt x="259" y="130"/>
                    </a:lnTo>
                    <a:lnTo>
                      <a:pt x="265" y="130"/>
                    </a:lnTo>
                    <a:lnTo>
                      <a:pt x="269" y="127"/>
                    </a:lnTo>
                    <a:lnTo>
                      <a:pt x="275" y="127"/>
                    </a:lnTo>
                    <a:lnTo>
                      <a:pt x="281" y="126"/>
                    </a:lnTo>
                    <a:lnTo>
                      <a:pt x="287" y="124"/>
                    </a:lnTo>
                    <a:lnTo>
                      <a:pt x="291" y="123"/>
                    </a:lnTo>
                    <a:lnTo>
                      <a:pt x="297" y="123"/>
                    </a:lnTo>
                    <a:lnTo>
                      <a:pt x="303" y="120"/>
                    </a:lnTo>
                    <a:lnTo>
                      <a:pt x="309" y="120"/>
                    </a:lnTo>
                    <a:lnTo>
                      <a:pt x="314" y="118"/>
                    </a:lnTo>
                    <a:lnTo>
                      <a:pt x="319" y="117"/>
                    </a:lnTo>
                    <a:lnTo>
                      <a:pt x="324" y="115"/>
                    </a:lnTo>
                    <a:lnTo>
                      <a:pt x="330" y="114"/>
                    </a:lnTo>
                    <a:lnTo>
                      <a:pt x="334" y="111"/>
                    </a:lnTo>
                    <a:lnTo>
                      <a:pt x="340" y="111"/>
                    </a:lnTo>
                    <a:lnTo>
                      <a:pt x="345" y="109"/>
                    </a:lnTo>
                    <a:lnTo>
                      <a:pt x="351" y="108"/>
                    </a:lnTo>
                    <a:lnTo>
                      <a:pt x="355" y="106"/>
                    </a:lnTo>
                    <a:lnTo>
                      <a:pt x="361" y="105"/>
                    </a:lnTo>
                    <a:lnTo>
                      <a:pt x="365" y="103"/>
                    </a:lnTo>
                    <a:lnTo>
                      <a:pt x="370" y="102"/>
                    </a:lnTo>
                    <a:lnTo>
                      <a:pt x="374" y="99"/>
                    </a:lnTo>
                    <a:lnTo>
                      <a:pt x="380" y="99"/>
                    </a:lnTo>
                    <a:lnTo>
                      <a:pt x="385" y="98"/>
                    </a:lnTo>
                    <a:lnTo>
                      <a:pt x="389" y="96"/>
                    </a:lnTo>
                    <a:lnTo>
                      <a:pt x="394" y="95"/>
                    </a:lnTo>
                    <a:lnTo>
                      <a:pt x="398" y="92"/>
                    </a:lnTo>
                    <a:lnTo>
                      <a:pt x="403" y="92"/>
                    </a:lnTo>
                    <a:lnTo>
                      <a:pt x="407" y="90"/>
                    </a:lnTo>
                    <a:lnTo>
                      <a:pt x="410" y="89"/>
                    </a:lnTo>
                    <a:lnTo>
                      <a:pt x="414" y="87"/>
                    </a:lnTo>
                    <a:lnTo>
                      <a:pt x="417" y="86"/>
                    </a:lnTo>
                    <a:lnTo>
                      <a:pt x="422" y="84"/>
                    </a:lnTo>
                    <a:lnTo>
                      <a:pt x="425" y="83"/>
                    </a:lnTo>
                    <a:lnTo>
                      <a:pt x="429" y="81"/>
                    </a:lnTo>
                    <a:lnTo>
                      <a:pt x="432" y="80"/>
                    </a:lnTo>
                    <a:lnTo>
                      <a:pt x="437" y="78"/>
                    </a:lnTo>
                    <a:lnTo>
                      <a:pt x="443" y="77"/>
                    </a:lnTo>
                    <a:lnTo>
                      <a:pt x="449" y="74"/>
                    </a:lnTo>
                    <a:lnTo>
                      <a:pt x="453" y="72"/>
                    </a:lnTo>
                    <a:lnTo>
                      <a:pt x="457" y="69"/>
                    </a:lnTo>
                    <a:lnTo>
                      <a:pt x="462" y="69"/>
                    </a:lnTo>
                    <a:lnTo>
                      <a:pt x="465" y="68"/>
                    </a:lnTo>
                    <a:lnTo>
                      <a:pt x="469" y="65"/>
                    </a:lnTo>
                    <a:lnTo>
                      <a:pt x="471" y="65"/>
                    </a:lnTo>
                    <a:lnTo>
                      <a:pt x="475" y="0"/>
                    </a:lnTo>
                    <a:lnTo>
                      <a:pt x="475"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031920" y="2695680"/>
                <a:ext cx="424080" cy="460440"/>
              </a:xfrm>
              <a:custGeom>
                <a:avLst/>
                <a:gdLst/>
                <a:ahLst/>
                <a:rect l="l" t="t" r="r" b="b"/>
                <a:pathLst>
                  <a:path w="534" h="580">
                    <a:moveTo>
                      <a:pt x="497" y="0"/>
                    </a:moveTo>
                    <a:lnTo>
                      <a:pt x="496" y="0"/>
                    </a:lnTo>
                    <a:lnTo>
                      <a:pt x="493" y="3"/>
                    </a:lnTo>
                    <a:lnTo>
                      <a:pt x="491" y="5"/>
                    </a:lnTo>
                    <a:lnTo>
                      <a:pt x="490" y="8"/>
                    </a:lnTo>
                    <a:lnTo>
                      <a:pt x="487" y="11"/>
                    </a:lnTo>
                    <a:lnTo>
                      <a:pt x="485" y="15"/>
                    </a:lnTo>
                    <a:lnTo>
                      <a:pt x="482" y="18"/>
                    </a:lnTo>
                    <a:lnTo>
                      <a:pt x="479" y="22"/>
                    </a:lnTo>
                    <a:lnTo>
                      <a:pt x="475" y="25"/>
                    </a:lnTo>
                    <a:lnTo>
                      <a:pt x="472" y="31"/>
                    </a:lnTo>
                    <a:lnTo>
                      <a:pt x="467" y="36"/>
                    </a:lnTo>
                    <a:lnTo>
                      <a:pt x="463" y="42"/>
                    </a:lnTo>
                    <a:lnTo>
                      <a:pt x="457" y="48"/>
                    </a:lnTo>
                    <a:lnTo>
                      <a:pt x="453" y="55"/>
                    </a:lnTo>
                    <a:lnTo>
                      <a:pt x="450" y="58"/>
                    </a:lnTo>
                    <a:lnTo>
                      <a:pt x="447" y="61"/>
                    </a:lnTo>
                    <a:lnTo>
                      <a:pt x="444" y="64"/>
                    </a:lnTo>
                    <a:lnTo>
                      <a:pt x="441" y="68"/>
                    </a:lnTo>
                    <a:lnTo>
                      <a:pt x="438" y="71"/>
                    </a:lnTo>
                    <a:lnTo>
                      <a:pt x="435" y="74"/>
                    </a:lnTo>
                    <a:lnTo>
                      <a:pt x="432" y="79"/>
                    </a:lnTo>
                    <a:lnTo>
                      <a:pt x="429" y="83"/>
                    </a:lnTo>
                    <a:lnTo>
                      <a:pt x="424" y="86"/>
                    </a:lnTo>
                    <a:lnTo>
                      <a:pt x="421" y="91"/>
                    </a:lnTo>
                    <a:lnTo>
                      <a:pt x="417" y="95"/>
                    </a:lnTo>
                    <a:lnTo>
                      <a:pt x="414" y="98"/>
                    </a:lnTo>
                    <a:lnTo>
                      <a:pt x="410" y="103"/>
                    </a:lnTo>
                    <a:lnTo>
                      <a:pt x="407" y="107"/>
                    </a:lnTo>
                    <a:lnTo>
                      <a:pt x="402" y="111"/>
                    </a:lnTo>
                    <a:lnTo>
                      <a:pt x="399" y="116"/>
                    </a:lnTo>
                    <a:lnTo>
                      <a:pt x="393" y="120"/>
                    </a:lnTo>
                    <a:lnTo>
                      <a:pt x="390" y="125"/>
                    </a:lnTo>
                    <a:lnTo>
                      <a:pt x="384" y="129"/>
                    </a:lnTo>
                    <a:lnTo>
                      <a:pt x="381" y="134"/>
                    </a:lnTo>
                    <a:lnTo>
                      <a:pt x="377" y="138"/>
                    </a:lnTo>
                    <a:lnTo>
                      <a:pt x="372" y="144"/>
                    </a:lnTo>
                    <a:lnTo>
                      <a:pt x="368" y="147"/>
                    </a:lnTo>
                    <a:lnTo>
                      <a:pt x="364" y="153"/>
                    </a:lnTo>
                    <a:lnTo>
                      <a:pt x="358" y="157"/>
                    </a:lnTo>
                    <a:lnTo>
                      <a:pt x="353" y="162"/>
                    </a:lnTo>
                    <a:lnTo>
                      <a:pt x="347" y="168"/>
                    </a:lnTo>
                    <a:lnTo>
                      <a:pt x="343" y="174"/>
                    </a:lnTo>
                    <a:lnTo>
                      <a:pt x="337" y="178"/>
                    </a:lnTo>
                    <a:lnTo>
                      <a:pt x="332" y="184"/>
                    </a:lnTo>
                    <a:lnTo>
                      <a:pt x="328" y="189"/>
                    </a:lnTo>
                    <a:lnTo>
                      <a:pt x="322" y="195"/>
                    </a:lnTo>
                    <a:lnTo>
                      <a:pt x="316" y="200"/>
                    </a:lnTo>
                    <a:lnTo>
                      <a:pt x="310" y="205"/>
                    </a:lnTo>
                    <a:lnTo>
                      <a:pt x="304" y="211"/>
                    </a:lnTo>
                    <a:lnTo>
                      <a:pt x="298" y="217"/>
                    </a:lnTo>
                    <a:lnTo>
                      <a:pt x="292" y="223"/>
                    </a:lnTo>
                    <a:lnTo>
                      <a:pt x="286" y="227"/>
                    </a:lnTo>
                    <a:lnTo>
                      <a:pt x="280" y="233"/>
                    </a:lnTo>
                    <a:lnTo>
                      <a:pt x="276" y="239"/>
                    </a:lnTo>
                    <a:lnTo>
                      <a:pt x="269" y="245"/>
                    </a:lnTo>
                    <a:lnTo>
                      <a:pt x="263" y="249"/>
                    </a:lnTo>
                    <a:lnTo>
                      <a:pt x="257" y="255"/>
                    </a:lnTo>
                    <a:lnTo>
                      <a:pt x="251" y="261"/>
                    </a:lnTo>
                    <a:lnTo>
                      <a:pt x="243" y="267"/>
                    </a:lnTo>
                    <a:lnTo>
                      <a:pt x="239" y="273"/>
                    </a:lnTo>
                    <a:lnTo>
                      <a:pt x="232" y="279"/>
                    </a:lnTo>
                    <a:lnTo>
                      <a:pt x="226" y="285"/>
                    </a:lnTo>
                    <a:lnTo>
                      <a:pt x="220" y="289"/>
                    </a:lnTo>
                    <a:lnTo>
                      <a:pt x="212" y="295"/>
                    </a:lnTo>
                    <a:lnTo>
                      <a:pt x="206" y="301"/>
                    </a:lnTo>
                    <a:lnTo>
                      <a:pt x="200" y="306"/>
                    </a:lnTo>
                    <a:lnTo>
                      <a:pt x="194" y="312"/>
                    </a:lnTo>
                    <a:lnTo>
                      <a:pt x="188" y="318"/>
                    </a:lnTo>
                    <a:lnTo>
                      <a:pt x="183" y="324"/>
                    </a:lnTo>
                    <a:lnTo>
                      <a:pt x="177" y="328"/>
                    </a:lnTo>
                    <a:lnTo>
                      <a:pt x="171" y="334"/>
                    </a:lnTo>
                    <a:lnTo>
                      <a:pt x="163" y="340"/>
                    </a:lnTo>
                    <a:lnTo>
                      <a:pt x="157" y="344"/>
                    </a:lnTo>
                    <a:lnTo>
                      <a:pt x="153" y="350"/>
                    </a:lnTo>
                    <a:lnTo>
                      <a:pt x="147" y="355"/>
                    </a:lnTo>
                    <a:lnTo>
                      <a:pt x="141" y="359"/>
                    </a:lnTo>
                    <a:lnTo>
                      <a:pt x="135" y="365"/>
                    </a:lnTo>
                    <a:lnTo>
                      <a:pt x="131" y="370"/>
                    </a:lnTo>
                    <a:lnTo>
                      <a:pt x="125" y="374"/>
                    </a:lnTo>
                    <a:lnTo>
                      <a:pt x="119" y="379"/>
                    </a:lnTo>
                    <a:lnTo>
                      <a:pt x="113" y="383"/>
                    </a:lnTo>
                    <a:lnTo>
                      <a:pt x="108" y="389"/>
                    </a:lnTo>
                    <a:lnTo>
                      <a:pt x="102" y="392"/>
                    </a:lnTo>
                    <a:lnTo>
                      <a:pt x="98" y="396"/>
                    </a:lnTo>
                    <a:lnTo>
                      <a:pt x="94" y="401"/>
                    </a:lnTo>
                    <a:lnTo>
                      <a:pt x="89" y="405"/>
                    </a:lnTo>
                    <a:lnTo>
                      <a:pt x="83" y="410"/>
                    </a:lnTo>
                    <a:lnTo>
                      <a:pt x="79" y="413"/>
                    </a:lnTo>
                    <a:lnTo>
                      <a:pt x="74" y="417"/>
                    </a:lnTo>
                    <a:lnTo>
                      <a:pt x="70" y="420"/>
                    </a:lnTo>
                    <a:lnTo>
                      <a:pt x="67" y="423"/>
                    </a:lnTo>
                    <a:lnTo>
                      <a:pt x="62" y="426"/>
                    </a:lnTo>
                    <a:lnTo>
                      <a:pt x="59" y="429"/>
                    </a:lnTo>
                    <a:lnTo>
                      <a:pt x="55" y="433"/>
                    </a:lnTo>
                    <a:lnTo>
                      <a:pt x="52" y="436"/>
                    </a:lnTo>
                    <a:lnTo>
                      <a:pt x="48" y="438"/>
                    </a:lnTo>
                    <a:lnTo>
                      <a:pt x="45" y="441"/>
                    </a:lnTo>
                    <a:lnTo>
                      <a:pt x="43" y="444"/>
                    </a:lnTo>
                    <a:lnTo>
                      <a:pt x="37" y="448"/>
                    </a:lnTo>
                    <a:lnTo>
                      <a:pt x="33" y="453"/>
                    </a:lnTo>
                    <a:lnTo>
                      <a:pt x="30" y="454"/>
                    </a:lnTo>
                    <a:lnTo>
                      <a:pt x="28" y="457"/>
                    </a:lnTo>
                    <a:lnTo>
                      <a:pt x="25" y="459"/>
                    </a:lnTo>
                    <a:lnTo>
                      <a:pt x="25" y="459"/>
                    </a:lnTo>
                    <a:lnTo>
                      <a:pt x="0" y="580"/>
                    </a:lnTo>
                    <a:lnTo>
                      <a:pt x="2" y="580"/>
                    </a:lnTo>
                    <a:lnTo>
                      <a:pt x="3" y="577"/>
                    </a:lnTo>
                    <a:lnTo>
                      <a:pt x="7" y="574"/>
                    </a:lnTo>
                    <a:lnTo>
                      <a:pt x="10" y="570"/>
                    </a:lnTo>
                    <a:lnTo>
                      <a:pt x="16" y="565"/>
                    </a:lnTo>
                    <a:lnTo>
                      <a:pt x="18" y="563"/>
                    </a:lnTo>
                    <a:lnTo>
                      <a:pt x="22" y="560"/>
                    </a:lnTo>
                    <a:lnTo>
                      <a:pt x="25" y="557"/>
                    </a:lnTo>
                    <a:lnTo>
                      <a:pt x="30" y="554"/>
                    </a:lnTo>
                    <a:lnTo>
                      <a:pt x="33" y="551"/>
                    </a:lnTo>
                    <a:lnTo>
                      <a:pt x="36" y="546"/>
                    </a:lnTo>
                    <a:lnTo>
                      <a:pt x="40" y="543"/>
                    </a:lnTo>
                    <a:lnTo>
                      <a:pt x="43" y="539"/>
                    </a:lnTo>
                    <a:lnTo>
                      <a:pt x="48" y="534"/>
                    </a:lnTo>
                    <a:lnTo>
                      <a:pt x="52" y="531"/>
                    </a:lnTo>
                    <a:lnTo>
                      <a:pt x="56" y="527"/>
                    </a:lnTo>
                    <a:lnTo>
                      <a:pt x="61" y="524"/>
                    </a:lnTo>
                    <a:lnTo>
                      <a:pt x="65" y="518"/>
                    </a:lnTo>
                    <a:lnTo>
                      <a:pt x="70" y="514"/>
                    </a:lnTo>
                    <a:lnTo>
                      <a:pt x="76" y="509"/>
                    </a:lnTo>
                    <a:lnTo>
                      <a:pt x="82" y="505"/>
                    </a:lnTo>
                    <a:lnTo>
                      <a:pt x="86" y="499"/>
                    </a:lnTo>
                    <a:lnTo>
                      <a:pt x="92" y="494"/>
                    </a:lnTo>
                    <a:lnTo>
                      <a:pt x="96" y="490"/>
                    </a:lnTo>
                    <a:lnTo>
                      <a:pt x="104" y="484"/>
                    </a:lnTo>
                    <a:lnTo>
                      <a:pt x="108" y="478"/>
                    </a:lnTo>
                    <a:lnTo>
                      <a:pt x="114" y="472"/>
                    </a:lnTo>
                    <a:lnTo>
                      <a:pt x="120" y="468"/>
                    </a:lnTo>
                    <a:lnTo>
                      <a:pt x="126" y="462"/>
                    </a:lnTo>
                    <a:lnTo>
                      <a:pt x="131" y="456"/>
                    </a:lnTo>
                    <a:lnTo>
                      <a:pt x="138" y="448"/>
                    </a:lnTo>
                    <a:lnTo>
                      <a:pt x="144" y="442"/>
                    </a:lnTo>
                    <a:lnTo>
                      <a:pt x="150" y="438"/>
                    </a:lnTo>
                    <a:lnTo>
                      <a:pt x="156" y="430"/>
                    </a:lnTo>
                    <a:lnTo>
                      <a:pt x="163" y="425"/>
                    </a:lnTo>
                    <a:lnTo>
                      <a:pt x="169" y="419"/>
                    </a:lnTo>
                    <a:lnTo>
                      <a:pt x="175" y="411"/>
                    </a:lnTo>
                    <a:lnTo>
                      <a:pt x="183" y="405"/>
                    </a:lnTo>
                    <a:lnTo>
                      <a:pt x="188" y="399"/>
                    </a:lnTo>
                    <a:lnTo>
                      <a:pt x="194" y="392"/>
                    </a:lnTo>
                    <a:lnTo>
                      <a:pt x="202" y="386"/>
                    </a:lnTo>
                    <a:lnTo>
                      <a:pt x="208" y="379"/>
                    </a:lnTo>
                    <a:lnTo>
                      <a:pt x="215" y="373"/>
                    </a:lnTo>
                    <a:lnTo>
                      <a:pt x="221" y="365"/>
                    </a:lnTo>
                    <a:lnTo>
                      <a:pt x="229" y="359"/>
                    </a:lnTo>
                    <a:lnTo>
                      <a:pt x="234" y="352"/>
                    </a:lnTo>
                    <a:lnTo>
                      <a:pt x="242" y="346"/>
                    </a:lnTo>
                    <a:lnTo>
                      <a:pt x="248" y="338"/>
                    </a:lnTo>
                    <a:lnTo>
                      <a:pt x="254" y="333"/>
                    </a:lnTo>
                    <a:lnTo>
                      <a:pt x="261" y="325"/>
                    </a:lnTo>
                    <a:lnTo>
                      <a:pt x="267" y="319"/>
                    </a:lnTo>
                    <a:lnTo>
                      <a:pt x="273" y="312"/>
                    </a:lnTo>
                    <a:lnTo>
                      <a:pt x="280" y="306"/>
                    </a:lnTo>
                    <a:lnTo>
                      <a:pt x="286" y="298"/>
                    </a:lnTo>
                    <a:lnTo>
                      <a:pt x="294" y="292"/>
                    </a:lnTo>
                    <a:lnTo>
                      <a:pt x="300" y="285"/>
                    </a:lnTo>
                    <a:lnTo>
                      <a:pt x="306" y="279"/>
                    </a:lnTo>
                    <a:lnTo>
                      <a:pt x="312" y="272"/>
                    </a:lnTo>
                    <a:lnTo>
                      <a:pt x="318" y="264"/>
                    </a:lnTo>
                    <a:lnTo>
                      <a:pt x="325" y="258"/>
                    </a:lnTo>
                    <a:lnTo>
                      <a:pt x="331" y="251"/>
                    </a:lnTo>
                    <a:lnTo>
                      <a:pt x="335" y="245"/>
                    </a:lnTo>
                    <a:lnTo>
                      <a:pt x="343" y="238"/>
                    </a:lnTo>
                    <a:lnTo>
                      <a:pt x="347" y="232"/>
                    </a:lnTo>
                    <a:lnTo>
                      <a:pt x="355" y="226"/>
                    </a:lnTo>
                    <a:lnTo>
                      <a:pt x="359" y="218"/>
                    </a:lnTo>
                    <a:lnTo>
                      <a:pt x="365" y="212"/>
                    </a:lnTo>
                    <a:lnTo>
                      <a:pt x="371" y="205"/>
                    </a:lnTo>
                    <a:lnTo>
                      <a:pt x="377" y="199"/>
                    </a:lnTo>
                    <a:lnTo>
                      <a:pt x="381" y="193"/>
                    </a:lnTo>
                    <a:lnTo>
                      <a:pt x="387" y="187"/>
                    </a:lnTo>
                    <a:lnTo>
                      <a:pt x="392" y="181"/>
                    </a:lnTo>
                    <a:lnTo>
                      <a:pt x="398" y="175"/>
                    </a:lnTo>
                    <a:lnTo>
                      <a:pt x="402" y="169"/>
                    </a:lnTo>
                    <a:lnTo>
                      <a:pt x="407" y="162"/>
                    </a:lnTo>
                    <a:lnTo>
                      <a:pt x="413" y="156"/>
                    </a:lnTo>
                    <a:lnTo>
                      <a:pt x="417" y="151"/>
                    </a:lnTo>
                    <a:lnTo>
                      <a:pt x="421" y="146"/>
                    </a:lnTo>
                    <a:lnTo>
                      <a:pt x="426" y="140"/>
                    </a:lnTo>
                    <a:lnTo>
                      <a:pt x="432" y="134"/>
                    </a:lnTo>
                    <a:lnTo>
                      <a:pt x="436" y="129"/>
                    </a:lnTo>
                    <a:lnTo>
                      <a:pt x="441" y="123"/>
                    </a:lnTo>
                    <a:lnTo>
                      <a:pt x="444" y="117"/>
                    </a:lnTo>
                    <a:lnTo>
                      <a:pt x="448" y="113"/>
                    </a:lnTo>
                    <a:lnTo>
                      <a:pt x="453" y="108"/>
                    </a:lnTo>
                    <a:lnTo>
                      <a:pt x="457" y="103"/>
                    </a:lnTo>
                    <a:lnTo>
                      <a:pt x="461" y="98"/>
                    </a:lnTo>
                    <a:lnTo>
                      <a:pt x="466" y="94"/>
                    </a:lnTo>
                    <a:lnTo>
                      <a:pt x="470" y="89"/>
                    </a:lnTo>
                    <a:lnTo>
                      <a:pt x="473" y="83"/>
                    </a:lnTo>
                    <a:lnTo>
                      <a:pt x="476" y="80"/>
                    </a:lnTo>
                    <a:lnTo>
                      <a:pt x="479" y="74"/>
                    </a:lnTo>
                    <a:lnTo>
                      <a:pt x="484" y="71"/>
                    </a:lnTo>
                    <a:lnTo>
                      <a:pt x="487" y="65"/>
                    </a:lnTo>
                    <a:lnTo>
                      <a:pt x="490" y="62"/>
                    </a:lnTo>
                    <a:lnTo>
                      <a:pt x="493" y="58"/>
                    </a:lnTo>
                    <a:lnTo>
                      <a:pt x="497" y="55"/>
                    </a:lnTo>
                    <a:lnTo>
                      <a:pt x="499" y="51"/>
                    </a:lnTo>
                    <a:lnTo>
                      <a:pt x="502" y="48"/>
                    </a:lnTo>
                    <a:lnTo>
                      <a:pt x="505" y="43"/>
                    </a:lnTo>
                    <a:lnTo>
                      <a:pt x="507" y="40"/>
                    </a:lnTo>
                    <a:lnTo>
                      <a:pt x="512" y="34"/>
                    </a:lnTo>
                    <a:lnTo>
                      <a:pt x="516" y="30"/>
                    </a:lnTo>
                    <a:lnTo>
                      <a:pt x="519" y="24"/>
                    </a:lnTo>
                    <a:lnTo>
                      <a:pt x="522" y="19"/>
                    </a:lnTo>
                    <a:lnTo>
                      <a:pt x="527" y="15"/>
                    </a:lnTo>
                    <a:lnTo>
                      <a:pt x="528" y="12"/>
                    </a:lnTo>
                    <a:lnTo>
                      <a:pt x="531" y="9"/>
                    </a:lnTo>
                    <a:lnTo>
                      <a:pt x="534" y="8"/>
                    </a:lnTo>
                    <a:lnTo>
                      <a:pt x="497" y="0"/>
                    </a:lnTo>
                    <a:lnTo>
                      <a:pt x="49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960640" y="2384280"/>
                <a:ext cx="303120" cy="311400"/>
              </a:xfrm>
              <a:custGeom>
                <a:avLst/>
                <a:gdLst/>
                <a:ahLst/>
                <a:rect l="l" t="t" r="r" b="b"/>
                <a:pathLst>
                  <a:path w="383" h="392">
                    <a:moveTo>
                      <a:pt x="383" y="0"/>
                    </a:moveTo>
                    <a:lnTo>
                      <a:pt x="381" y="0"/>
                    </a:lnTo>
                    <a:lnTo>
                      <a:pt x="380" y="2"/>
                    </a:lnTo>
                    <a:lnTo>
                      <a:pt x="375" y="3"/>
                    </a:lnTo>
                    <a:lnTo>
                      <a:pt x="372" y="8"/>
                    </a:lnTo>
                    <a:lnTo>
                      <a:pt x="369" y="9"/>
                    </a:lnTo>
                    <a:lnTo>
                      <a:pt x="367" y="12"/>
                    </a:lnTo>
                    <a:lnTo>
                      <a:pt x="364" y="15"/>
                    </a:lnTo>
                    <a:lnTo>
                      <a:pt x="361" y="18"/>
                    </a:lnTo>
                    <a:lnTo>
                      <a:pt x="356" y="21"/>
                    </a:lnTo>
                    <a:lnTo>
                      <a:pt x="353" y="26"/>
                    </a:lnTo>
                    <a:lnTo>
                      <a:pt x="349" y="29"/>
                    </a:lnTo>
                    <a:lnTo>
                      <a:pt x="344" y="33"/>
                    </a:lnTo>
                    <a:lnTo>
                      <a:pt x="338" y="37"/>
                    </a:lnTo>
                    <a:lnTo>
                      <a:pt x="334" y="42"/>
                    </a:lnTo>
                    <a:lnTo>
                      <a:pt x="328" y="46"/>
                    </a:lnTo>
                    <a:lnTo>
                      <a:pt x="322" y="51"/>
                    </a:lnTo>
                    <a:lnTo>
                      <a:pt x="316" y="55"/>
                    </a:lnTo>
                    <a:lnTo>
                      <a:pt x="310" y="61"/>
                    </a:lnTo>
                    <a:lnTo>
                      <a:pt x="303" y="66"/>
                    </a:lnTo>
                    <a:lnTo>
                      <a:pt x="297" y="73"/>
                    </a:lnTo>
                    <a:lnTo>
                      <a:pt x="294" y="75"/>
                    </a:lnTo>
                    <a:lnTo>
                      <a:pt x="289" y="78"/>
                    </a:lnTo>
                    <a:lnTo>
                      <a:pt x="286" y="81"/>
                    </a:lnTo>
                    <a:lnTo>
                      <a:pt x="282" y="83"/>
                    </a:lnTo>
                    <a:lnTo>
                      <a:pt x="277" y="86"/>
                    </a:lnTo>
                    <a:lnTo>
                      <a:pt x="275" y="89"/>
                    </a:lnTo>
                    <a:lnTo>
                      <a:pt x="270" y="92"/>
                    </a:lnTo>
                    <a:lnTo>
                      <a:pt x="267" y="97"/>
                    </a:lnTo>
                    <a:lnTo>
                      <a:pt x="263" y="100"/>
                    </a:lnTo>
                    <a:lnTo>
                      <a:pt x="258" y="103"/>
                    </a:lnTo>
                    <a:lnTo>
                      <a:pt x="254" y="106"/>
                    </a:lnTo>
                    <a:lnTo>
                      <a:pt x="249" y="110"/>
                    </a:lnTo>
                    <a:lnTo>
                      <a:pt x="245" y="113"/>
                    </a:lnTo>
                    <a:lnTo>
                      <a:pt x="240" y="118"/>
                    </a:lnTo>
                    <a:lnTo>
                      <a:pt x="236" y="121"/>
                    </a:lnTo>
                    <a:lnTo>
                      <a:pt x="231" y="125"/>
                    </a:lnTo>
                    <a:lnTo>
                      <a:pt x="227" y="128"/>
                    </a:lnTo>
                    <a:lnTo>
                      <a:pt x="221" y="131"/>
                    </a:lnTo>
                    <a:lnTo>
                      <a:pt x="217" y="135"/>
                    </a:lnTo>
                    <a:lnTo>
                      <a:pt x="212" y="138"/>
                    </a:lnTo>
                    <a:lnTo>
                      <a:pt x="206" y="143"/>
                    </a:lnTo>
                    <a:lnTo>
                      <a:pt x="202" y="146"/>
                    </a:lnTo>
                    <a:lnTo>
                      <a:pt x="197" y="150"/>
                    </a:lnTo>
                    <a:lnTo>
                      <a:pt x="191" y="155"/>
                    </a:lnTo>
                    <a:lnTo>
                      <a:pt x="185" y="158"/>
                    </a:lnTo>
                    <a:lnTo>
                      <a:pt x="181" y="162"/>
                    </a:lnTo>
                    <a:lnTo>
                      <a:pt x="175" y="167"/>
                    </a:lnTo>
                    <a:lnTo>
                      <a:pt x="171" y="171"/>
                    </a:lnTo>
                    <a:lnTo>
                      <a:pt x="165" y="174"/>
                    </a:lnTo>
                    <a:lnTo>
                      <a:pt x="160" y="178"/>
                    </a:lnTo>
                    <a:lnTo>
                      <a:pt x="156" y="181"/>
                    </a:lnTo>
                    <a:lnTo>
                      <a:pt x="150" y="186"/>
                    </a:lnTo>
                    <a:lnTo>
                      <a:pt x="144" y="190"/>
                    </a:lnTo>
                    <a:lnTo>
                      <a:pt x="139" y="193"/>
                    </a:lnTo>
                    <a:lnTo>
                      <a:pt x="134" y="198"/>
                    </a:lnTo>
                    <a:lnTo>
                      <a:pt x="129" y="202"/>
                    </a:lnTo>
                    <a:lnTo>
                      <a:pt x="123" y="205"/>
                    </a:lnTo>
                    <a:lnTo>
                      <a:pt x="119" y="210"/>
                    </a:lnTo>
                    <a:lnTo>
                      <a:pt x="114" y="213"/>
                    </a:lnTo>
                    <a:lnTo>
                      <a:pt x="110" y="217"/>
                    </a:lnTo>
                    <a:lnTo>
                      <a:pt x="104" y="220"/>
                    </a:lnTo>
                    <a:lnTo>
                      <a:pt x="99" y="224"/>
                    </a:lnTo>
                    <a:lnTo>
                      <a:pt x="93" y="227"/>
                    </a:lnTo>
                    <a:lnTo>
                      <a:pt x="89" y="232"/>
                    </a:lnTo>
                    <a:lnTo>
                      <a:pt x="85" y="235"/>
                    </a:lnTo>
                    <a:lnTo>
                      <a:pt x="80" y="239"/>
                    </a:lnTo>
                    <a:lnTo>
                      <a:pt x="74" y="242"/>
                    </a:lnTo>
                    <a:lnTo>
                      <a:pt x="71" y="247"/>
                    </a:lnTo>
                    <a:lnTo>
                      <a:pt x="67" y="250"/>
                    </a:lnTo>
                    <a:lnTo>
                      <a:pt x="62" y="253"/>
                    </a:lnTo>
                    <a:lnTo>
                      <a:pt x="56" y="256"/>
                    </a:lnTo>
                    <a:lnTo>
                      <a:pt x="52" y="259"/>
                    </a:lnTo>
                    <a:lnTo>
                      <a:pt x="47" y="262"/>
                    </a:lnTo>
                    <a:lnTo>
                      <a:pt x="45" y="265"/>
                    </a:lnTo>
                    <a:lnTo>
                      <a:pt x="40" y="267"/>
                    </a:lnTo>
                    <a:lnTo>
                      <a:pt x="37" y="272"/>
                    </a:lnTo>
                    <a:lnTo>
                      <a:pt x="33" y="273"/>
                    </a:lnTo>
                    <a:lnTo>
                      <a:pt x="30" y="276"/>
                    </a:lnTo>
                    <a:lnTo>
                      <a:pt x="25" y="279"/>
                    </a:lnTo>
                    <a:lnTo>
                      <a:pt x="22" y="282"/>
                    </a:lnTo>
                    <a:lnTo>
                      <a:pt x="18" y="284"/>
                    </a:lnTo>
                    <a:lnTo>
                      <a:pt x="15" y="287"/>
                    </a:lnTo>
                    <a:lnTo>
                      <a:pt x="12" y="290"/>
                    </a:lnTo>
                    <a:lnTo>
                      <a:pt x="10" y="291"/>
                    </a:lnTo>
                    <a:lnTo>
                      <a:pt x="4" y="296"/>
                    </a:lnTo>
                    <a:lnTo>
                      <a:pt x="0" y="299"/>
                    </a:lnTo>
                    <a:lnTo>
                      <a:pt x="0" y="302"/>
                    </a:lnTo>
                    <a:lnTo>
                      <a:pt x="0" y="305"/>
                    </a:lnTo>
                    <a:lnTo>
                      <a:pt x="0" y="308"/>
                    </a:lnTo>
                    <a:lnTo>
                      <a:pt x="0" y="309"/>
                    </a:lnTo>
                    <a:lnTo>
                      <a:pt x="0" y="392"/>
                    </a:lnTo>
                    <a:lnTo>
                      <a:pt x="0" y="391"/>
                    </a:lnTo>
                    <a:lnTo>
                      <a:pt x="0" y="389"/>
                    </a:lnTo>
                    <a:lnTo>
                      <a:pt x="0" y="388"/>
                    </a:lnTo>
                    <a:lnTo>
                      <a:pt x="0" y="385"/>
                    </a:lnTo>
                    <a:lnTo>
                      <a:pt x="3" y="383"/>
                    </a:lnTo>
                    <a:lnTo>
                      <a:pt x="6" y="382"/>
                    </a:lnTo>
                    <a:lnTo>
                      <a:pt x="9" y="379"/>
                    </a:lnTo>
                    <a:lnTo>
                      <a:pt x="13" y="376"/>
                    </a:lnTo>
                    <a:lnTo>
                      <a:pt x="18" y="373"/>
                    </a:lnTo>
                    <a:lnTo>
                      <a:pt x="22" y="370"/>
                    </a:lnTo>
                    <a:lnTo>
                      <a:pt x="27" y="365"/>
                    </a:lnTo>
                    <a:lnTo>
                      <a:pt x="33" y="361"/>
                    </a:lnTo>
                    <a:lnTo>
                      <a:pt x="39" y="357"/>
                    </a:lnTo>
                    <a:lnTo>
                      <a:pt x="45" y="354"/>
                    </a:lnTo>
                    <a:lnTo>
                      <a:pt x="50" y="348"/>
                    </a:lnTo>
                    <a:lnTo>
                      <a:pt x="56" y="343"/>
                    </a:lnTo>
                    <a:lnTo>
                      <a:pt x="59" y="340"/>
                    </a:lnTo>
                    <a:lnTo>
                      <a:pt x="62" y="337"/>
                    </a:lnTo>
                    <a:lnTo>
                      <a:pt x="67" y="334"/>
                    </a:lnTo>
                    <a:lnTo>
                      <a:pt x="70" y="333"/>
                    </a:lnTo>
                    <a:lnTo>
                      <a:pt x="73" y="328"/>
                    </a:lnTo>
                    <a:lnTo>
                      <a:pt x="77" y="325"/>
                    </a:lnTo>
                    <a:lnTo>
                      <a:pt x="80" y="322"/>
                    </a:lnTo>
                    <a:lnTo>
                      <a:pt x="85" y="321"/>
                    </a:lnTo>
                    <a:lnTo>
                      <a:pt x="88" y="316"/>
                    </a:lnTo>
                    <a:lnTo>
                      <a:pt x="92" y="313"/>
                    </a:lnTo>
                    <a:lnTo>
                      <a:pt x="95" y="311"/>
                    </a:lnTo>
                    <a:lnTo>
                      <a:pt x="99" y="309"/>
                    </a:lnTo>
                    <a:lnTo>
                      <a:pt x="104" y="305"/>
                    </a:lnTo>
                    <a:lnTo>
                      <a:pt x="107" y="302"/>
                    </a:lnTo>
                    <a:lnTo>
                      <a:pt x="111" y="299"/>
                    </a:lnTo>
                    <a:lnTo>
                      <a:pt x="114" y="294"/>
                    </a:lnTo>
                    <a:lnTo>
                      <a:pt x="119" y="291"/>
                    </a:lnTo>
                    <a:lnTo>
                      <a:pt x="123" y="287"/>
                    </a:lnTo>
                    <a:lnTo>
                      <a:pt x="128" y="284"/>
                    </a:lnTo>
                    <a:lnTo>
                      <a:pt x="132" y="281"/>
                    </a:lnTo>
                    <a:lnTo>
                      <a:pt x="135" y="276"/>
                    </a:lnTo>
                    <a:lnTo>
                      <a:pt x="139" y="273"/>
                    </a:lnTo>
                    <a:lnTo>
                      <a:pt x="144" y="269"/>
                    </a:lnTo>
                    <a:lnTo>
                      <a:pt x="148" y="266"/>
                    </a:lnTo>
                    <a:lnTo>
                      <a:pt x="151" y="262"/>
                    </a:lnTo>
                    <a:lnTo>
                      <a:pt x="156" y="259"/>
                    </a:lnTo>
                    <a:lnTo>
                      <a:pt x="160" y="254"/>
                    </a:lnTo>
                    <a:lnTo>
                      <a:pt x="166" y="251"/>
                    </a:lnTo>
                    <a:lnTo>
                      <a:pt x="169" y="247"/>
                    </a:lnTo>
                    <a:lnTo>
                      <a:pt x="174" y="242"/>
                    </a:lnTo>
                    <a:lnTo>
                      <a:pt x="178" y="238"/>
                    </a:lnTo>
                    <a:lnTo>
                      <a:pt x="183" y="235"/>
                    </a:lnTo>
                    <a:lnTo>
                      <a:pt x="187" y="230"/>
                    </a:lnTo>
                    <a:lnTo>
                      <a:pt x="191" y="226"/>
                    </a:lnTo>
                    <a:lnTo>
                      <a:pt x="196" y="221"/>
                    </a:lnTo>
                    <a:lnTo>
                      <a:pt x="200" y="219"/>
                    </a:lnTo>
                    <a:lnTo>
                      <a:pt x="205" y="213"/>
                    </a:lnTo>
                    <a:lnTo>
                      <a:pt x="209" y="210"/>
                    </a:lnTo>
                    <a:lnTo>
                      <a:pt x="212" y="205"/>
                    </a:lnTo>
                    <a:lnTo>
                      <a:pt x="218" y="201"/>
                    </a:lnTo>
                    <a:lnTo>
                      <a:pt x="223" y="196"/>
                    </a:lnTo>
                    <a:lnTo>
                      <a:pt x="227" y="192"/>
                    </a:lnTo>
                    <a:lnTo>
                      <a:pt x="230" y="187"/>
                    </a:lnTo>
                    <a:lnTo>
                      <a:pt x="236" y="184"/>
                    </a:lnTo>
                    <a:lnTo>
                      <a:pt x="239" y="180"/>
                    </a:lnTo>
                    <a:lnTo>
                      <a:pt x="243" y="175"/>
                    </a:lnTo>
                    <a:lnTo>
                      <a:pt x="248" y="171"/>
                    </a:lnTo>
                    <a:lnTo>
                      <a:pt x="252" y="167"/>
                    </a:lnTo>
                    <a:lnTo>
                      <a:pt x="255" y="164"/>
                    </a:lnTo>
                    <a:lnTo>
                      <a:pt x="260" y="159"/>
                    </a:lnTo>
                    <a:lnTo>
                      <a:pt x="264" y="155"/>
                    </a:lnTo>
                    <a:lnTo>
                      <a:pt x="269" y="152"/>
                    </a:lnTo>
                    <a:lnTo>
                      <a:pt x="272" y="147"/>
                    </a:lnTo>
                    <a:lnTo>
                      <a:pt x="276" y="143"/>
                    </a:lnTo>
                    <a:lnTo>
                      <a:pt x="279" y="138"/>
                    </a:lnTo>
                    <a:lnTo>
                      <a:pt x="283" y="135"/>
                    </a:lnTo>
                    <a:lnTo>
                      <a:pt x="288" y="131"/>
                    </a:lnTo>
                    <a:lnTo>
                      <a:pt x="291" y="128"/>
                    </a:lnTo>
                    <a:lnTo>
                      <a:pt x="295" y="124"/>
                    </a:lnTo>
                    <a:lnTo>
                      <a:pt x="300" y="121"/>
                    </a:lnTo>
                    <a:lnTo>
                      <a:pt x="303" y="118"/>
                    </a:lnTo>
                    <a:lnTo>
                      <a:pt x="306" y="113"/>
                    </a:lnTo>
                    <a:lnTo>
                      <a:pt x="309" y="110"/>
                    </a:lnTo>
                    <a:lnTo>
                      <a:pt x="312" y="107"/>
                    </a:lnTo>
                    <a:lnTo>
                      <a:pt x="319" y="100"/>
                    </a:lnTo>
                    <a:lnTo>
                      <a:pt x="325" y="94"/>
                    </a:lnTo>
                    <a:lnTo>
                      <a:pt x="331" y="88"/>
                    </a:lnTo>
                    <a:lnTo>
                      <a:pt x="335" y="82"/>
                    </a:lnTo>
                    <a:lnTo>
                      <a:pt x="340" y="76"/>
                    </a:lnTo>
                    <a:lnTo>
                      <a:pt x="346" y="73"/>
                    </a:lnTo>
                    <a:lnTo>
                      <a:pt x="349" y="69"/>
                    </a:lnTo>
                    <a:lnTo>
                      <a:pt x="353" y="66"/>
                    </a:lnTo>
                    <a:lnTo>
                      <a:pt x="356" y="61"/>
                    </a:lnTo>
                    <a:lnTo>
                      <a:pt x="359" y="58"/>
                    </a:lnTo>
                    <a:lnTo>
                      <a:pt x="362" y="55"/>
                    </a:lnTo>
                    <a:lnTo>
                      <a:pt x="364" y="54"/>
                    </a:lnTo>
                    <a:lnTo>
                      <a:pt x="383" y="0"/>
                    </a:lnTo>
                    <a:lnTo>
                      <a:pt x="383"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2643120" y="1644480"/>
              <a:ext cx="826920" cy="560520"/>
              <a:chOff x="2643120" y="1644480"/>
              <a:chExt cx="826920" cy="560520"/>
            </a:xfrm>
          </p:grpSpPr>
          <p:sp>
            <p:nvSpPr>
              <p:cNvPr id="551" name=""/>
              <p:cNvSpPr/>
              <p:nvPr/>
            </p:nvSpPr>
            <p:spPr>
              <a:xfrm>
                <a:off x="2697840" y="1732320"/>
                <a:ext cx="729000" cy="472680"/>
              </a:xfrm>
              <a:custGeom>
                <a:avLst/>
                <a:gdLst/>
                <a:ahLst/>
                <a:rect l="l" t="t" r="r" b="b"/>
                <a:pathLst>
                  <a:path w="797" h="516">
                    <a:moveTo>
                      <a:pt x="398" y="0"/>
                    </a:moveTo>
                    <a:lnTo>
                      <a:pt x="358" y="2"/>
                    </a:lnTo>
                    <a:lnTo>
                      <a:pt x="318" y="6"/>
                    </a:lnTo>
                    <a:lnTo>
                      <a:pt x="280" y="12"/>
                    </a:lnTo>
                    <a:lnTo>
                      <a:pt x="244" y="20"/>
                    </a:lnTo>
                    <a:lnTo>
                      <a:pt x="209" y="31"/>
                    </a:lnTo>
                    <a:lnTo>
                      <a:pt x="176" y="45"/>
                    </a:lnTo>
                    <a:lnTo>
                      <a:pt x="146" y="59"/>
                    </a:lnTo>
                    <a:lnTo>
                      <a:pt x="117" y="75"/>
                    </a:lnTo>
                    <a:lnTo>
                      <a:pt x="91" y="94"/>
                    </a:lnTo>
                    <a:lnTo>
                      <a:pt x="69" y="114"/>
                    </a:lnTo>
                    <a:lnTo>
                      <a:pt x="49" y="134"/>
                    </a:lnTo>
                    <a:lnTo>
                      <a:pt x="31" y="157"/>
                    </a:lnTo>
                    <a:lnTo>
                      <a:pt x="18" y="181"/>
                    </a:lnTo>
                    <a:lnTo>
                      <a:pt x="8" y="205"/>
                    </a:lnTo>
                    <a:lnTo>
                      <a:pt x="3" y="231"/>
                    </a:lnTo>
                    <a:lnTo>
                      <a:pt x="0" y="258"/>
                    </a:lnTo>
                    <a:lnTo>
                      <a:pt x="3" y="284"/>
                    </a:lnTo>
                    <a:lnTo>
                      <a:pt x="8" y="310"/>
                    </a:lnTo>
                    <a:lnTo>
                      <a:pt x="18" y="334"/>
                    </a:lnTo>
                    <a:lnTo>
                      <a:pt x="31" y="358"/>
                    </a:lnTo>
                    <a:lnTo>
                      <a:pt x="49" y="381"/>
                    </a:lnTo>
                    <a:lnTo>
                      <a:pt x="69" y="402"/>
                    </a:lnTo>
                    <a:lnTo>
                      <a:pt x="91" y="422"/>
                    </a:lnTo>
                    <a:lnTo>
                      <a:pt x="117" y="440"/>
                    </a:lnTo>
                    <a:lnTo>
                      <a:pt x="146" y="457"/>
                    </a:lnTo>
                    <a:lnTo>
                      <a:pt x="176" y="472"/>
                    </a:lnTo>
                    <a:lnTo>
                      <a:pt x="209" y="485"/>
                    </a:lnTo>
                    <a:lnTo>
                      <a:pt x="244" y="496"/>
                    </a:lnTo>
                    <a:lnTo>
                      <a:pt x="280" y="504"/>
                    </a:lnTo>
                    <a:lnTo>
                      <a:pt x="318" y="511"/>
                    </a:lnTo>
                    <a:lnTo>
                      <a:pt x="358" y="515"/>
                    </a:lnTo>
                    <a:lnTo>
                      <a:pt x="398" y="516"/>
                    </a:lnTo>
                    <a:lnTo>
                      <a:pt x="438" y="515"/>
                    </a:lnTo>
                    <a:lnTo>
                      <a:pt x="478" y="511"/>
                    </a:lnTo>
                    <a:lnTo>
                      <a:pt x="516" y="504"/>
                    </a:lnTo>
                    <a:lnTo>
                      <a:pt x="553" y="496"/>
                    </a:lnTo>
                    <a:lnTo>
                      <a:pt x="588" y="485"/>
                    </a:lnTo>
                    <a:lnTo>
                      <a:pt x="620" y="472"/>
                    </a:lnTo>
                    <a:lnTo>
                      <a:pt x="651" y="457"/>
                    </a:lnTo>
                    <a:lnTo>
                      <a:pt x="681" y="440"/>
                    </a:lnTo>
                    <a:lnTo>
                      <a:pt x="706" y="422"/>
                    </a:lnTo>
                    <a:lnTo>
                      <a:pt x="729" y="402"/>
                    </a:lnTo>
                    <a:lnTo>
                      <a:pt x="749" y="381"/>
                    </a:lnTo>
                    <a:lnTo>
                      <a:pt x="766" y="358"/>
                    </a:lnTo>
                    <a:lnTo>
                      <a:pt x="780" y="334"/>
                    </a:lnTo>
                    <a:lnTo>
                      <a:pt x="789" y="310"/>
                    </a:lnTo>
                    <a:lnTo>
                      <a:pt x="794" y="284"/>
                    </a:lnTo>
                    <a:lnTo>
                      <a:pt x="797" y="258"/>
                    </a:lnTo>
                    <a:lnTo>
                      <a:pt x="794" y="231"/>
                    </a:lnTo>
                    <a:lnTo>
                      <a:pt x="789" y="205"/>
                    </a:lnTo>
                    <a:lnTo>
                      <a:pt x="780" y="181"/>
                    </a:lnTo>
                    <a:lnTo>
                      <a:pt x="766" y="157"/>
                    </a:lnTo>
                    <a:lnTo>
                      <a:pt x="749" y="134"/>
                    </a:lnTo>
                    <a:lnTo>
                      <a:pt x="729" y="114"/>
                    </a:lnTo>
                    <a:lnTo>
                      <a:pt x="706" y="94"/>
                    </a:lnTo>
                    <a:lnTo>
                      <a:pt x="681" y="75"/>
                    </a:lnTo>
                    <a:lnTo>
                      <a:pt x="651" y="59"/>
                    </a:lnTo>
                    <a:lnTo>
                      <a:pt x="620" y="45"/>
                    </a:lnTo>
                    <a:lnTo>
                      <a:pt x="588" y="31"/>
                    </a:lnTo>
                    <a:lnTo>
                      <a:pt x="553" y="20"/>
                    </a:lnTo>
                    <a:lnTo>
                      <a:pt x="516" y="12"/>
                    </a:lnTo>
                    <a:lnTo>
                      <a:pt x="478" y="6"/>
                    </a:lnTo>
                    <a:lnTo>
                      <a:pt x="438" y="2"/>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741040" y="1774440"/>
                <a:ext cx="643320" cy="387360"/>
              </a:xfrm>
              <a:custGeom>
                <a:avLst/>
                <a:gdLst/>
                <a:ahLst/>
                <a:rect l="l" t="t" r="r" b="b"/>
                <a:pathLst>
                  <a:path w="703" h="423">
                    <a:moveTo>
                      <a:pt x="0" y="212"/>
                    </a:moveTo>
                    <a:lnTo>
                      <a:pt x="2" y="190"/>
                    </a:lnTo>
                    <a:lnTo>
                      <a:pt x="7" y="169"/>
                    </a:lnTo>
                    <a:lnTo>
                      <a:pt x="16" y="149"/>
                    </a:lnTo>
                    <a:lnTo>
                      <a:pt x="28" y="130"/>
                    </a:lnTo>
                    <a:lnTo>
                      <a:pt x="43" y="111"/>
                    </a:lnTo>
                    <a:lnTo>
                      <a:pt x="61" y="94"/>
                    </a:lnTo>
                    <a:lnTo>
                      <a:pt x="81" y="78"/>
                    </a:lnTo>
                    <a:lnTo>
                      <a:pt x="103" y="62"/>
                    </a:lnTo>
                    <a:lnTo>
                      <a:pt x="129" y="48"/>
                    </a:lnTo>
                    <a:lnTo>
                      <a:pt x="156" y="36"/>
                    </a:lnTo>
                    <a:lnTo>
                      <a:pt x="184" y="25"/>
                    </a:lnTo>
                    <a:lnTo>
                      <a:pt x="214" y="16"/>
                    </a:lnTo>
                    <a:lnTo>
                      <a:pt x="247" y="9"/>
                    </a:lnTo>
                    <a:lnTo>
                      <a:pt x="280" y="4"/>
                    </a:lnTo>
                    <a:lnTo>
                      <a:pt x="315" y="1"/>
                    </a:lnTo>
                    <a:lnTo>
                      <a:pt x="351" y="0"/>
                    </a:lnTo>
                    <a:lnTo>
                      <a:pt x="387" y="1"/>
                    </a:lnTo>
                    <a:lnTo>
                      <a:pt x="422" y="4"/>
                    </a:lnTo>
                    <a:lnTo>
                      <a:pt x="455" y="9"/>
                    </a:lnTo>
                    <a:lnTo>
                      <a:pt x="488" y="16"/>
                    </a:lnTo>
                    <a:lnTo>
                      <a:pt x="518" y="25"/>
                    </a:lnTo>
                    <a:lnTo>
                      <a:pt x="548" y="36"/>
                    </a:lnTo>
                    <a:lnTo>
                      <a:pt x="575" y="48"/>
                    </a:lnTo>
                    <a:lnTo>
                      <a:pt x="600" y="62"/>
                    </a:lnTo>
                    <a:lnTo>
                      <a:pt x="623" y="78"/>
                    </a:lnTo>
                    <a:lnTo>
                      <a:pt x="643" y="94"/>
                    </a:lnTo>
                    <a:lnTo>
                      <a:pt x="660" y="111"/>
                    </a:lnTo>
                    <a:lnTo>
                      <a:pt x="675" y="130"/>
                    </a:lnTo>
                    <a:lnTo>
                      <a:pt x="687" y="149"/>
                    </a:lnTo>
                    <a:lnTo>
                      <a:pt x="696" y="169"/>
                    </a:lnTo>
                    <a:lnTo>
                      <a:pt x="702" y="190"/>
                    </a:lnTo>
                    <a:lnTo>
                      <a:pt x="703" y="212"/>
                    </a:lnTo>
                    <a:lnTo>
                      <a:pt x="702" y="233"/>
                    </a:lnTo>
                    <a:lnTo>
                      <a:pt x="696" y="255"/>
                    </a:lnTo>
                    <a:lnTo>
                      <a:pt x="687" y="275"/>
                    </a:lnTo>
                    <a:lnTo>
                      <a:pt x="675" y="293"/>
                    </a:lnTo>
                    <a:lnTo>
                      <a:pt x="660" y="312"/>
                    </a:lnTo>
                    <a:lnTo>
                      <a:pt x="643" y="330"/>
                    </a:lnTo>
                    <a:lnTo>
                      <a:pt x="623" y="346"/>
                    </a:lnTo>
                    <a:lnTo>
                      <a:pt x="600" y="362"/>
                    </a:lnTo>
                    <a:lnTo>
                      <a:pt x="575" y="375"/>
                    </a:lnTo>
                    <a:lnTo>
                      <a:pt x="548" y="387"/>
                    </a:lnTo>
                    <a:lnTo>
                      <a:pt x="518" y="398"/>
                    </a:lnTo>
                    <a:lnTo>
                      <a:pt x="488" y="407"/>
                    </a:lnTo>
                    <a:lnTo>
                      <a:pt x="455" y="414"/>
                    </a:lnTo>
                    <a:lnTo>
                      <a:pt x="422" y="419"/>
                    </a:lnTo>
                    <a:lnTo>
                      <a:pt x="387" y="422"/>
                    </a:lnTo>
                    <a:lnTo>
                      <a:pt x="351" y="423"/>
                    </a:lnTo>
                    <a:lnTo>
                      <a:pt x="315" y="422"/>
                    </a:lnTo>
                    <a:lnTo>
                      <a:pt x="280" y="419"/>
                    </a:lnTo>
                    <a:lnTo>
                      <a:pt x="247" y="414"/>
                    </a:lnTo>
                    <a:lnTo>
                      <a:pt x="214" y="407"/>
                    </a:lnTo>
                    <a:lnTo>
                      <a:pt x="184" y="398"/>
                    </a:lnTo>
                    <a:lnTo>
                      <a:pt x="156" y="387"/>
                    </a:lnTo>
                    <a:lnTo>
                      <a:pt x="129" y="375"/>
                    </a:lnTo>
                    <a:lnTo>
                      <a:pt x="103" y="362"/>
                    </a:lnTo>
                    <a:lnTo>
                      <a:pt x="81" y="346"/>
                    </a:lnTo>
                    <a:lnTo>
                      <a:pt x="61" y="330"/>
                    </a:lnTo>
                    <a:lnTo>
                      <a:pt x="43" y="312"/>
                    </a:lnTo>
                    <a:lnTo>
                      <a:pt x="28" y="293"/>
                    </a:lnTo>
                    <a:lnTo>
                      <a:pt x="16" y="275"/>
                    </a:lnTo>
                    <a:lnTo>
                      <a:pt x="7" y="255"/>
                    </a:lnTo>
                    <a:lnTo>
                      <a:pt x="2" y="233"/>
                    </a:lnTo>
                    <a:lnTo>
                      <a:pt x="0"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859120" y="1761480"/>
                <a:ext cx="400680" cy="402840"/>
              </a:xfrm>
              <a:custGeom>
                <a:avLst/>
                <a:gdLst/>
                <a:ahLst/>
                <a:rect l="l" t="t" r="r" b="b"/>
                <a:pathLst>
                  <a:path w="438" h="440">
                    <a:moveTo>
                      <a:pt x="0" y="220"/>
                    </a:moveTo>
                    <a:lnTo>
                      <a:pt x="1" y="243"/>
                    </a:lnTo>
                    <a:lnTo>
                      <a:pt x="4" y="264"/>
                    </a:lnTo>
                    <a:lnTo>
                      <a:pt x="9" y="286"/>
                    </a:lnTo>
                    <a:lnTo>
                      <a:pt x="17" y="306"/>
                    </a:lnTo>
                    <a:lnTo>
                      <a:pt x="27" y="325"/>
                    </a:lnTo>
                    <a:lnTo>
                      <a:pt x="37" y="342"/>
                    </a:lnTo>
                    <a:lnTo>
                      <a:pt x="51" y="360"/>
                    </a:lnTo>
                    <a:lnTo>
                      <a:pt x="64" y="376"/>
                    </a:lnTo>
                    <a:lnTo>
                      <a:pt x="80" y="389"/>
                    </a:lnTo>
                    <a:lnTo>
                      <a:pt x="96" y="403"/>
                    </a:lnTo>
                    <a:lnTo>
                      <a:pt x="115" y="413"/>
                    </a:lnTo>
                    <a:lnTo>
                      <a:pt x="134" y="423"/>
                    </a:lnTo>
                    <a:lnTo>
                      <a:pt x="154" y="431"/>
                    </a:lnTo>
                    <a:lnTo>
                      <a:pt x="174" y="436"/>
                    </a:lnTo>
                    <a:lnTo>
                      <a:pt x="197" y="439"/>
                    </a:lnTo>
                    <a:lnTo>
                      <a:pt x="218" y="440"/>
                    </a:lnTo>
                    <a:lnTo>
                      <a:pt x="241" y="439"/>
                    </a:lnTo>
                    <a:lnTo>
                      <a:pt x="262" y="436"/>
                    </a:lnTo>
                    <a:lnTo>
                      <a:pt x="284" y="431"/>
                    </a:lnTo>
                    <a:lnTo>
                      <a:pt x="304" y="423"/>
                    </a:lnTo>
                    <a:lnTo>
                      <a:pt x="322" y="413"/>
                    </a:lnTo>
                    <a:lnTo>
                      <a:pt x="341" y="403"/>
                    </a:lnTo>
                    <a:lnTo>
                      <a:pt x="357" y="389"/>
                    </a:lnTo>
                    <a:lnTo>
                      <a:pt x="373" y="376"/>
                    </a:lnTo>
                    <a:lnTo>
                      <a:pt x="388" y="360"/>
                    </a:lnTo>
                    <a:lnTo>
                      <a:pt x="400" y="342"/>
                    </a:lnTo>
                    <a:lnTo>
                      <a:pt x="411" y="325"/>
                    </a:lnTo>
                    <a:lnTo>
                      <a:pt x="420" y="306"/>
                    </a:lnTo>
                    <a:lnTo>
                      <a:pt x="428" y="286"/>
                    </a:lnTo>
                    <a:lnTo>
                      <a:pt x="434" y="264"/>
                    </a:lnTo>
                    <a:lnTo>
                      <a:pt x="436" y="243"/>
                    </a:lnTo>
                    <a:lnTo>
                      <a:pt x="438" y="220"/>
                    </a:lnTo>
                    <a:lnTo>
                      <a:pt x="436" y="197"/>
                    </a:lnTo>
                    <a:lnTo>
                      <a:pt x="434" y="176"/>
                    </a:lnTo>
                    <a:lnTo>
                      <a:pt x="428" y="155"/>
                    </a:lnTo>
                    <a:lnTo>
                      <a:pt x="420" y="134"/>
                    </a:lnTo>
                    <a:lnTo>
                      <a:pt x="411" y="116"/>
                    </a:lnTo>
                    <a:lnTo>
                      <a:pt x="400" y="98"/>
                    </a:lnTo>
                    <a:lnTo>
                      <a:pt x="388" y="81"/>
                    </a:lnTo>
                    <a:lnTo>
                      <a:pt x="373" y="65"/>
                    </a:lnTo>
                    <a:lnTo>
                      <a:pt x="357" y="51"/>
                    </a:lnTo>
                    <a:lnTo>
                      <a:pt x="341" y="38"/>
                    </a:lnTo>
                    <a:lnTo>
                      <a:pt x="322" y="27"/>
                    </a:lnTo>
                    <a:lnTo>
                      <a:pt x="304" y="18"/>
                    </a:lnTo>
                    <a:lnTo>
                      <a:pt x="284" y="10"/>
                    </a:lnTo>
                    <a:lnTo>
                      <a:pt x="262" y="4"/>
                    </a:lnTo>
                    <a:lnTo>
                      <a:pt x="241" y="2"/>
                    </a:lnTo>
                    <a:lnTo>
                      <a:pt x="218" y="0"/>
                    </a:lnTo>
                    <a:lnTo>
                      <a:pt x="197" y="2"/>
                    </a:lnTo>
                    <a:lnTo>
                      <a:pt x="174" y="4"/>
                    </a:lnTo>
                    <a:lnTo>
                      <a:pt x="154" y="10"/>
                    </a:lnTo>
                    <a:lnTo>
                      <a:pt x="134" y="18"/>
                    </a:lnTo>
                    <a:lnTo>
                      <a:pt x="115" y="27"/>
                    </a:lnTo>
                    <a:lnTo>
                      <a:pt x="96" y="38"/>
                    </a:lnTo>
                    <a:lnTo>
                      <a:pt x="80" y="51"/>
                    </a:lnTo>
                    <a:lnTo>
                      <a:pt x="64" y="65"/>
                    </a:lnTo>
                    <a:lnTo>
                      <a:pt x="51" y="81"/>
                    </a:lnTo>
                    <a:lnTo>
                      <a:pt x="37" y="98"/>
                    </a:lnTo>
                    <a:lnTo>
                      <a:pt x="27" y="116"/>
                    </a:lnTo>
                    <a:lnTo>
                      <a:pt x="17" y="134"/>
                    </a:lnTo>
                    <a:lnTo>
                      <a:pt x="9" y="155"/>
                    </a:lnTo>
                    <a:lnTo>
                      <a:pt x="4" y="176"/>
                    </a:lnTo>
                    <a:lnTo>
                      <a:pt x="1" y="197"/>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910240" y="1813680"/>
                <a:ext cx="297360" cy="299520"/>
              </a:xfrm>
              <a:custGeom>
                <a:avLst/>
                <a:gdLst/>
                <a:ahLst/>
                <a:rect l="l" t="t" r="r" b="b"/>
                <a:pathLst>
                  <a:path w="325" h="327">
                    <a:moveTo>
                      <a:pt x="0" y="163"/>
                    </a:moveTo>
                    <a:lnTo>
                      <a:pt x="3" y="131"/>
                    </a:lnTo>
                    <a:lnTo>
                      <a:pt x="12" y="100"/>
                    </a:lnTo>
                    <a:lnTo>
                      <a:pt x="28" y="72"/>
                    </a:lnTo>
                    <a:lnTo>
                      <a:pt x="47" y="48"/>
                    </a:lnTo>
                    <a:lnTo>
                      <a:pt x="71" y="28"/>
                    </a:lnTo>
                    <a:lnTo>
                      <a:pt x="99" y="13"/>
                    </a:lnTo>
                    <a:lnTo>
                      <a:pt x="130" y="2"/>
                    </a:lnTo>
                    <a:lnTo>
                      <a:pt x="162" y="0"/>
                    </a:lnTo>
                    <a:lnTo>
                      <a:pt x="195" y="2"/>
                    </a:lnTo>
                    <a:lnTo>
                      <a:pt x="226" y="13"/>
                    </a:lnTo>
                    <a:lnTo>
                      <a:pt x="253" y="28"/>
                    </a:lnTo>
                    <a:lnTo>
                      <a:pt x="278" y="48"/>
                    </a:lnTo>
                    <a:lnTo>
                      <a:pt x="297" y="72"/>
                    </a:lnTo>
                    <a:lnTo>
                      <a:pt x="313" y="100"/>
                    </a:lnTo>
                    <a:lnTo>
                      <a:pt x="323" y="131"/>
                    </a:lnTo>
                    <a:lnTo>
                      <a:pt x="325" y="163"/>
                    </a:lnTo>
                    <a:lnTo>
                      <a:pt x="323" y="195"/>
                    </a:lnTo>
                    <a:lnTo>
                      <a:pt x="313" y="226"/>
                    </a:lnTo>
                    <a:lnTo>
                      <a:pt x="297" y="254"/>
                    </a:lnTo>
                    <a:lnTo>
                      <a:pt x="278" y="279"/>
                    </a:lnTo>
                    <a:lnTo>
                      <a:pt x="253" y="299"/>
                    </a:lnTo>
                    <a:lnTo>
                      <a:pt x="226" y="313"/>
                    </a:lnTo>
                    <a:lnTo>
                      <a:pt x="195" y="324"/>
                    </a:lnTo>
                    <a:lnTo>
                      <a:pt x="162" y="327"/>
                    </a:lnTo>
                    <a:lnTo>
                      <a:pt x="130" y="324"/>
                    </a:lnTo>
                    <a:lnTo>
                      <a:pt x="99" y="313"/>
                    </a:lnTo>
                    <a:lnTo>
                      <a:pt x="71" y="299"/>
                    </a:lnTo>
                    <a:lnTo>
                      <a:pt x="47" y="279"/>
                    </a:lnTo>
                    <a:lnTo>
                      <a:pt x="28" y="254"/>
                    </a:lnTo>
                    <a:lnTo>
                      <a:pt x="12" y="226"/>
                    </a:lnTo>
                    <a:lnTo>
                      <a:pt x="3" y="195"/>
                    </a:lnTo>
                    <a:lnTo>
                      <a:pt x="0" y="163"/>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954160" y="1858680"/>
                <a:ext cx="209160" cy="208800"/>
              </a:xfrm>
              <a:custGeom>
                <a:avLst/>
                <a:gdLst/>
                <a:ahLst/>
                <a:rect l="l" t="t" r="r" b="b"/>
                <a:pathLst>
                  <a:path w="229" h="228">
                    <a:moveTo>
                      <a:pt x="0" y="114"/>
                    </a:moveTo>
                    <a:lnTo>
                      <a:pt x="3" y="91"/>
                    </a:lnTo>
                    <a:lnTo>
                      <a:pt x="10" y="69"/>
                    </a:lnTo>
                    <a:lnTo>
                      <a:pt x="20" y="50"/>
                    </a:lnTo>
                    <a:lnTo>
                      <a:pt x="34" y="32"/>
                    </a:lnTo>
                    <a:lnTo>
                      <a:pt x="51" y="19"/>
                    </a:lnTo>
                    <a:lnTo>
                      <a:pt x="70" y="10"/>
                    </a:lnTo>
                    <a:lnTo>
                      <a:pt x="91" y="3"/>
                    </a:lnTo>
                    <a:lnTo>
                      <a:pt x="114" y="0"/>
                    </a:lnTo>
                    <a:lnTo>
                      <a:pt x="137" y="3"/>
                    </a:lnTo>
                    <a:lnTo>
                      <a:pt x="158" y="10"/>
                    </a:lnTo>
                    <a:lnTo>
                      <a:pt x="178" y="19"/>
                    </a:lnTo>
                    <a:lnTo>
                      <a:pt x="196" y="32"/>
                    </a:lnTo>
                    <a:lnTo>
                      <a:pt x="209" y="50"/>
                    </a:lnTo>
                    <a:lnTo>
                      <a:pt x="220" y="69"/>
                    </a:lnTo>
                    <a:lnTo>
                      <a:pt x="226" y="91"/>
                    </a:lnTo>
                    <a:lnTo>
                      <a:pt x="229" y="114"/>
                    </a:lnTo>
                    <a:lnTo>
                      <a:pt x="226" y="137"/>
                    </a:lnTo>
                    <a:lnTo>
                      <a:pt x="220" y="158"/>
                    </a:lnTo>
                    <a:lnTo>
                      <a:pt x="209" y="179"/>
                    </a:lnTo>
                    <a:lnTo>
                      <a:pt x="196" y="195"/>
                    </a:lnTo>
                    <a:lnTo>
                      <a:pt x="178" y="208"/>
                    </a:lnTo>
                    <a:lnTo>
                      <a:pt x="158" y="219"/>
                    </a:lnTo>
                    <a:lnTo>
                      <a:pt x="137" y="225"/>
                    </a:lnTo>
                    <a:lnTo>
                      <a:pt x="114" y="228"/>
                    </a:lnTo>
                    <a:lnTo>
                      <a:pt x="91" y="225"/>
                    </a:lnTo>
                    <a:lnTo>
                      <a:pt x="70" y="219"/>
                    </a:lnTo>
                    <a:lnTo>
                      <a:pt x="51" y="208"/>
                    </a:lnTo>
                    <a:lnTo>
                      <a:pt x="34" y="195"/>
                    </a:lnTo>
                    <a:lnTo>
                      <a:pt x="20" y="179"/>
                    </a:lnTo>
                    <a:lnTo>
                      <a:pt x="10" y="158"/>
                    </a:lnTo>
                    <a:lnTo>
                      <a:pt x="3" y="137"/>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01760" y="1873440"/>
                <a:ext cx="61920" cy="60120"/>
              </a:xfrm>
              <a:custGeom>
                <a:avLst/>
                <a:gdLst/>
                <a:ahLst/>
                <a:rect l="l" t="t" r="r" b="b"/>
                <a:pathLst>
                  <a:path w="68" h="66">
                    <a:moveTo>
                      <a:pt x="68" y="33"/>
                    </a:moveTo>
                    <a:lnTo>
                      <a:pt x="65" y="46"/>
                    </a:lnTo>
                    <a:lnTo>
                      <a:pt x="59" y="57"/>
                    </a:lnTo>
                    <a:lnTo>
                      <a:pt x="48" y="63"/>
                    </a:lnTo>
                    <a:lnTo>
                      <a:pt x="35" y="66"/>
                    </a:lnTo>
                    <a:lnTo>
                      <a:pt x="35" y="66"/>
                    </a:lnTo>
                    <a:lnTo>
                      <a:pt x="21" y="63"/>
                    </a:lnTo>
                    <a:lnTo>
                      <a:pt x="11" y="57"/>
                    </a:lnTo>
                    <a:lnTo>
                      <a:pt x="3" y="46"/>
                    </a:lnTo>
                    <a:lnTo>
                      <a:pt x="0" y="33"/>
                    </a:lnTo>
                    <a:lnTo>
                      <a:pt x="0" y="33"/>
                    </a:lnTo>
                    <a:lnTo>
                      <a:pt x="3" y="19"/>
                    </a:lnTo>
                    <a:lnTo>
                      <a:pt x="11" y="10"/>
                    </a:lnTo>
                    <a:lnTo>
                      <a:pt x="21" y="3"/>
                    </a:lnTo>
                    <a:lnTo>
                      <a:pt x="35" y="0"/>
                    </a:lnTo>
                    <a:lnTo>
                      <a:pt x="35" y="0"/>
                    </a:lnTo>
                    <a:lnTo>
                      <a:pt x="48" y="3"/>
                    </a:lnTo>
                    <a:lnTo>
                      <a:pt x="59" y="10"/>
                    </a:lnTo>
                    <a:lnTo>
                      <a:pt x="65" y="19"/>
                    </a:lnTo>
                    <a:lnTo>
                      <a:pt x="68" y="33"/>
                    </a:lnTo>
                    <a:lnTo>
                      <a:pt x="68" y="3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7" name=""/>
              <p:cNvSpPr/>
              <p:nvPr/>
            </p:nvSpPr>
            <p:spPr>
              <a:xfrm>
                <a:off x="3037320" y="1644480"/>
                <a:ext cx="327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884680" y="1656000"/>
                <a:ext cx="61200" cy="109080"/>
              </a:xfrm>
              <a:custGeom>
                <a:avLst/>
                <a:gdLst/>
                <a:ahLst/>
                <a:rect l="l" t="t" r="r" b="b"/>
                <a:pathLst>
                  <a:path w="67" h="119">
                    <a:moveTo>
                      <a:pt x="0" y="11"/>
                    </a:moveTo>
                    <a:lnTo>
                      <a:pt x="31" y="119"/>
                    </a:lnTo>
                    <a:lnTo>
                      <a:pt x="67" y="110"/>
                    </a:lnTo>
                    <a:lnTo>
                      <a:pt x="3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739960" y="1712880"/>
                <a:ext cx="89640" cy="102600"/>
              </a:xfrm>
              <a:custGeom>
                <a:avLst/>
                <a:gdLst/>
                <a:ahLst/>
                <a:rect l="l" t="t" r="r" b="b"/>
                <a:pathLst>
                  <a:path w="98" h="112">
                    <a:moveTo>
                      <a:pt x="0" y="23"/>
                    </a:moveTo>
                    <a:lnTo>
                      <a:pt x="68" y="112"/>
                    </a:lnTo>
                    <a:lnTo>
                      <a:pt x="98" y="90"/>
                    </a:lnTo>
                    <a:lnTo>
                      <a:pt x="29"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643120" y="1825560"/>
                <a:ext cx="103320" cy="88560"/>
              </a:xfrm>
              <a:custGeom>
                <a:avLst/>
                <a:gdLst/>
                <a:ahLst/>
                <a:rect l="l" t="t" r="r" b="b"/>
                <a:pathLst>
                  <a:path w="113" h="97">
                    <a:moveTo>
                      <a:pt x="0" y="31"/>
                    </a:moveTo>
                    <a:lnTo>
                      <a:pt x="91" y="97"/>
                    </a:lnTo>
                    <a:lnTo>
                      <a:pt x="113" y="67"/>
                    </a:lnTo>
                    <a:lnTo>
                      <a:pt x="22" y="0"/>
                    </a:lnTo>
                    <a:lnTo>
                      <a:pt x="0"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61" name=""/>
              <p:cNvSpPr/>
              <p:nvPr/>
            </p:nvSpPr>
            <p:spPr>
              <a:xfrm>
                <a:off x="3168360" y="1656000"/>
                <a:ext cx="60480" cy="109080"/>
              </a:xfrm>
              <a:custGeom>
                <a:avLst/>
                <a:gdLst/>
                <a:ahLst/>
                <a:rect l="l" t="t" r="r" b="b"/>
                <a:pathLst>
                  <a:path w="66" h="119">
                    <a:moveTo>
                      <a:pt x="66" y="11"/>
                    </a:moveTo>
                    <a:lnTo>
                      <a:pt x="35" y="119"/>
                    </a:lnTo>
                    <a:lnTo>
                      <a:pt x="0" y="110"/>
                    </a:lnTo>
                    <a:lnTo>
                      <a:pt x="31" y="0"/>
                    </a:lnTo>
                    <a:lnTo>
                      <a:pt x="6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283560" y="1712880"/>
                <a:ext cx="89640" cy="102600"/>
              </a:xfrm>
              <a:custGeom>
                <a:avLst/>
                <a:gdLst/>
                <a:ahLst/>
                <a:rect l="l" t="t" r="r" b="b"/>
                <a:pathLst>
                  <a:path w="98" h="112">
                    <a:moveTo>
                      <a:pt x="98" y="23"/>
                    </a:moveTo>
                    <a:lnTo>
                      <a:pt x="30" y="112"/>
                    </a:lnTo>
                    <a:lnTo>
                      <a:pt x="0" y="90"/>
                    </a:lnTo>
                    <a:lnTo>
                      <a:pt x="69" y="0"/>
                    </a:lnTo>
                    <a:lnTo>
                      <a:pt x="9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366720" y="1825560"/>
                <a:ext cx="103320" cy="88560"/>
              </a:xfrm>
              <a:custGeom>
                <a:avLst/>
                <a:gdLst/>
                <a:ahLst/>
                <a:rect l="l" t="t" r="r" b="b"/>
                <a:pathLst>
                  <a:path w="113" h="97">
                    <a:moveTo>
                      <a:pt x="113" y="31"/>
                    </a:moveTo>
                    <a:lnTo>
                      <a:pt x="23" y="97"/>
                    </a:lnTo>
                    <a:lnTo>
                      <a:pt x="0" y="67"/>
                    </a:lnTo>
                    <a:lnTo>
                      <a:pt x="91" y="0"/>
                    </a:lnTo>
                    <a:lnTo>
                      <a:pt x="113"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sp>
        <p:nvSpPr>
          <p:cNvPr id="5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7.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
          <p:cNvSpPr/>
          <p:nvPr/>
        </p:nvSpPr>
        <p:spPr>
          <a:xfrm>
            <a:off x="343080" y="1325520"/>
            <a:ext cx="8343720" cy="5235480"/>
          </a:xfrm>
          <a:custGeom>
            <a:avLst/>
            <a:gdLst/>
            <a:ahLst/>
            <a:rect l="l" t="t" r="r" b="b"/>
            <a:pathLst>
              <a:path w="5184" h="3298">
                <a:moveTo>
                  <a:pt x="0" y="1671"/>
                </a:moveTo>
                <a:lnTo>
                  <a:pt x="1238" y="1671"/>
                </a:lnTo>
                <a:lnTo>
                  <a:pt x="1238" y="0"/>
                </a:lnTo>
                <a:lnTo>
                  <a:pt x="2693" y="0"/>
                </a:lnTo>
                <a:lnTo>
                  <a:pt x="2693" y="1671"/>
                </a:lnTo>
                <a:lnTo>
                  <a:pt x="5184" y="1670"/>
                </a:lnTo>
                <a:lnTo>
                  <a:pt x="5184" y="3298"/>
                </a:lnTo>
                <a:lnTo>
                  <a:pt x="0" y="3298"/>
                </a:lnTo>
                <a:lnTo>
                  <a:pt x="0" y="167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PlaceHolder 1"/>
          <p:cNvSpPr>
            <a:spLocks noGrp="1"/>
          </p:cNvSpPr>
          <p:nvPr>
            <p:ph type="title"/>
          </p:nvPr>
        </p:nvSpPr>
        <p:spPr>
          <a:xfrm>
            <a:off x="762120" y="24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Routes of Exposure</a:t>
            </a:r>
            <a:endParaRPr b="0" lang="en-US" sz="4400" spc="-1" strike="noStrike">
              <a:solidFill>
                <a:srgbClr val="000000"/>
              </a:solidFill>
              <a:latin typeface="Times New Roman"/>
            </a:endParaRPr>
          </a:p>
        </p:txBody>
      </p:sp>
      <p:sp>
        <p:nvSpPr>
          <p:cNvPr id="567" name="PlaceHolder 2"/>
          <p:cNvSpPr>
            <a:spLocks noGrp="1"/>
          </p:cNvSpPr>
          <p:nvPr>
            <p:ph/>
          </p:nvPr>
        </p:nvSpPr>
        <p:spPr>
          <a:xfrm>
            <a:off x="762120" y="4157280"/>
            <a:ext cx="7772400" cy="941400"/>
          </a:xfrm>
          <a:prstGeom prst="rect">
            <a:avLst/>
          </a:prstGeom>
          <a:noFill/>
          <a:ln w="0">
            <a:noFill/>
          </a:ln>
        </p:spPr>
        <p:txBody>
          <a:bodyPr lIns="90000" rIns="90000" tIns="46800" bIns="46800" anchor="t">
            <a:normAutofit fontScale="72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 contact can cause surface irritation, but many chemicals can also cross the skin barrier and be absorbed into the blood system, where they can damage internal organs. The eyes are particularly sensitive.</a:t>
            </a:r>
            <a:endParaRPr b="0" lang="en-US" sz="2800" spc="-1" strike="noStrike">
              <a:solidFill>
                <a:srgbClr val="000000"/>
              </a:solidFill>
              <a:latin typeface="Times New Roman"/>
            </a:endParaRPr>
          </a:p>
        </p:txBody>
      </p:sp>
      <p:sp>
        <p:nvSpPr>
          <p:cNvPr id="568" name=""/>
          <p:cNvSpPr/>
          <p:nvPr/>
        </p:nvSpPr>
        <p:spPr>
          <a:xfrm>
            <a:off x="5570640" y="4430880"/>
            <a:ext cx="90360" cy="2880"/>
          </a:xfrm>
          <a:custGeom>
            <a:avLst/>
            <a:gdLst/>
            <a:ahLst/>
            <a:rect l="l" t="t" r="r" b="b"/>
            <a:pathLst>
              <a:path w="57" h="2">
                <a:moveTo>
                  <a:pt x="0" y="2"/>
                </a:moveTo>
                <a:lnTo>
                  <a:pt x="21" y="2"/>
                </a:lnTo>
                <a:lnTo>
                  <a:pt x="21" y="2"/>
                </a:lnTo>
                <a:lnTo>
                  <a:pt x="21" y="2"/>
                </a:lnTo>
                <a:lnTo>
                  <a:pt x="21" y="2"/>
                </a:lnTo>
                <a:lnTo>
                  <a:pt x="21" y="2"/>
                </a:lnTo>
                <a:lnTo>
                  <a:pt x="21" y="2"/>
                </a:lnTo>
                <a:lnTo>
                  <a:pt x="21" y="2"/>
                </a:lnTo>
                <a:lnTo>
                  <a:pt x="21" y="2"/>
                </a:lnTo>
                <a:lnTo>
                  <a:pt x="21" y="2"/>
                </a:lnTo>
                <a:lnTo>
                  <a:pt x="17" y="2"/>
                </a:lnTo>
                <a:lnTo>
                  <a:pt x="15" y="2"/>
                </a:lnTo>
                <a:lnTo>
                  <a:pt x="13" y="2"/>
                </a:lnTo>
                <a:lnTo>
                  <a:pt x="9" y="2"/>
                </a:lnTo>
                <a:lnTo>
                  <a:pt x="7" y="2"/>
                </a:lnTo>
                <a:lnTo>
                  <a:pt x="5" y="2"/>
                </a:lnTo>
                <a:lnTo>
                  <a:pt x="2" y="2"/>
                </a:lnTo>
                <a:lnTo>
                  <a:pt x="0" y="2"/>
                </a:lnTo>
                <a:close/>
                <a:moveTo>
                  <a:pt x="44" y="0"/>
                </a:moveTo>
                <a:lnTo>
                  <a:pt x="57" y="0"/>
                </a:lnTo>
                <a:lnTo>
                  <a:pt x="55" y="0"/>
                </a:lnTo>
                <a:lnTo>
                  <a:pt x="53" y="0"/>
                </a:lnTo>
                <a:lnTo>
                  <a:pt x="53" y="0"/>
                </a:lnTo>
                <a:lnTo>
                  <a:pt x="51" y="0"/>
                </a:lnTo>
                <a:lnTo>
                  <a:pt x="50" y="0"/>
                </a:lnTo>
                <a:lnTo>
                  <a:pt x="48" y="0"/>
                </a:lnTo>
                <a:lnTo>
                  <a:pt x="48" y="2"/>
                </a:lnTo>
                <a:lnTo>
                  <a:pt x="46" y="2"/>
                </a:lnTo>
                <a:lnTo>
                  <a:pt x="46" y="2"/>
                </a:lnTo>
                <a:lnTo>
                  <a:pt x="46" y="2"/>
                </a:lnTo>
                <a:lnTo>
                  <a:pt x="46" y="0"/>
                </a:lnTo>
                <a:lnTo>
                  <a:pt x="46" y="0"/>
                </a:lnTo>
                <a:lnTo>
                  <a:pt x="46" y="0"/>
                </a:lnTo>
                <a:lnTo>
                  <a:pt x="44" y="0"/>
                </a:lnTo>
                <a:lnTo>
                  <a:pt x="44" y="0"/>
                </a:lnTo>
                <a:lnTo>
                  <a:pt x="44" y="0"/>
                </a:lnTo>
                <a:close/>
              </a:path>
            </a:pathLst>
          </a:custGeom>
          <a:solidFill>
            <a:srgbClr val="83b6b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9" name=""/>
          <p:cNvSpPr/>
          <p:nvPr/>
        </p:nvSpPr>
        <p:spPr>
          <a:xfrm>
            <a:off x="3747960" y="3084480"/>
            <a:ext cx="6480" cy="9720"/>
          </a:xfrm>
          <a:custGeom>
            <a:avLst/>
            <a:gdLst/>
            <a:ahLst/>
            <a:rect l="l" t="t" r="r" b="b"/>
            <a:pathLst>
              <a:path w="4" h="6">
                <a:moveTo>
                  <a:pt x="4" y="0"/>
                </a:moveTo>
                <a:lnTo>
                  <a:pt x="4" y="2"/>
                </a:lnTo>
                <a:lnTo>
                  <a:pt x="4" y="2"/>
                </a:lnTo>
                <a:lnTo>
                  <a:pt x="2" y="2"/>
                </a:lnTo>
                <a:lnTo>
                  <a:pt x="2" y="4"/>
                </a:lnTo>
                <a:lnTo>
                  <a:pt x="2" y="4"/>
                </a:lnTo>
                <a:lnTo>
                  <a:pt x="2" y="4"/>
                </a:lnTo>
                <a:lnTo>
                  <a:pt x="2" y="6"/>
                </a:lnTo>
                <a:lnTo>
                  <a:pt x="0" y="6"/>
                </a:lnTo>
                <a:lnTo>
                  <a:pt x="0" y="6"/>
                </a:lnTo>
                <a:lnTo>
                  <a:pt x="0" y="6"/>
                </a:lnTo>
                <a:lnTo>
                  <a:pt x="0" y="6"/>
                </a:lnTo>
                <a:lnTo>
                  <a:pt x="0" y="6"/>
                </a:lnTo>
                <a:lnTo>
                  <a:pt x="0" y="6"/>
                </a:lnTo>
                <a:lnTo>
                  <a:pt x="0" y="6"/>
                </a:lnTo>
                <a:lnTo>
                  <a:pt x="0" y="6"/>
                </a:lnTo>
                <a:lnTo>
                  <a:pt x="0" y="6"/>
                </a:lnTo>
                <a:lnTo>
                  <a:pt x="0" y="6"/>
                </a:lnTo>
                <a:lnTo>
                  <a:pt x="0" y="4"/>
                </a:lnTo>
                <a:lnTo>
                  <a:pt x="0" y="4"/>
                </a:lnTo>
                <a:lnTo>
                  <a:pt x="0" y="4"/>
                </a:lnTo>
                <a:lnTo>
                  <a:pt x="0" y="4"/>
                </a:lnTo>
                <a:lnTo>
                  <a:pt x="0" y="2"/>
                </a:lnTo>
                <a:lnTo>
                  <a:pt x="0" y="2"/>
                </a:lnTo>
                <a:lnTo>
                  <a:pt x="0" y="2"/>
                </a:lnTo>
                <a:lnTo>
                  <a:pt x="0" y="2"/>
                </a:lnTo>
                <a:lnTo>
                  <a:pt x="2" y="2"/>
                </a:lnTo>
                <a:lnTo>
                  <a:pt x="2" y="2"/>
                </a:lnTo>
                <a:lnTo>
                  <a:pt x="2" y="2"/>
                </a:lnTo>
                <a:lnTo>
                  <a:pt x="2" y="2"/>
                </a:lnTo>
                <a:lnTo>
                  <a:pt x="4" y="2"/>
                </a:lnTo>
                <a:lnTo>
                  <a:pt x="4" y="2"/>
                </a:lnTo>
                <a:lnTo>
                  <a:pt x="4" y="0"/>
                </a:lnTo>
                <a:close/>
              </a:path>
            </a:pathLst>
          </a:custGeom>
          <a:solidFill>
            <a:srgbClr val="e5b2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0" name=""/>
          <p:cNvSpPr/>
          <p:nvPr/>
        </p:nvSpPr>
        <p:spPr>
          <a:xfrm>
            <a:off x="511560" y="3157560"/>
            <a:ext cx="176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halation</a:t>
            </a:r>
            <a:endParaRPr b="0" lang="en-US" sz="2800" spc="-1" strike="noStrike">
              <a:solidFill>
                <a:srgbClr val="000000"/>
              </a:solidFill>
              <a:latin typeface="Arial"/>
            </a:endParaRPr>
          </a:p>
        </p:txBody>
      </p:sp>
      <p:sp>
        <p:nvSpPr>
          <p:cNvPr id="571" name=""/>
          <p:cNvSpPr/>
          <p:nvPr/>
        </p:nvSpPr>
        <p:spPr>
          <a:xfrm>
            <a:off x="2532240" y="315756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orption</a:t>
            </a:r>
            <a:endParaRPr b="0" lang="en-US" sz="2800" spc="-1" strike="noStrike">
              <a:solidFill>
                <a:srgbClr val="000000"/>
              </a:solidFill>
              <a:latin typeface="Arial"/>
            </a:endParaRPr>
          </a:p>
        </p:txBody>
      </p:sp>
      <p:sp>
        <p:nvSpPr>
          <p:cNvPr id="572" name=""/>
          <p:cNvSpPr/>
          <p:nvPr/>
        </p:nvSpPr>
        <p:spPr>
          <a:xfrm>
            <a:off x="4786920" y="315756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gestion</a:t>
            </a:r>
            <a:endParaRPr b="0" lang="en-US" sz="2800" spc="-1" strike="noStrike">
              <a:solidFill>
                <a:srgbClr val="000000"/>
              </a:solidFill>
              <a:latin typeface="Arial"/>
            </a:endParaRPr>
          </a:p>
        </p:txBody>
      </p:sp>
      <p:sp>
        <p:nvSpPr>
          <p:cNvPr id="573" name=""/>
          <p:cNvSpPr/>
          <p:nvPr/>
        </p:nvSpPr>
        <p:spPr>
          <a:xfrm>
            <a:off x="6885000" y="315756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jection</a:t>
            </a:r>
            <a:endParaRPr b="0" lang="en-US" sz="2800" spc="-1" strike="noStrike">
              <a:solidFill>
                <a:srgbClr val="000000"/>
              </a:solidFill>
              <a:latin typeface="Arial"/>
            </a:endParaRPr>
          </a:p>
        </p:txBody>
      </p:sp>
      <p:grpSp>
        <p:nvGrpSpPr>
          <p:cNvPr id="574" name=""/>
          <p:cNvGrpSpPr/>
          <p:nvPr/>
        </p:nvGrpSpPr>
        <p:grpSpPr>
          <a:xfrm>
            <a:off x="4786200" y="2001240"/>
            <a:ext cx="1581480" cy="913680"/>
            <a:chOff x="4786200" y="2001240"/>
            <a:chExt cx="1581480" cy="913680"/>
          </a:xfrm>
        </p:grpSpPr>
        <p:sp>
          <p:nvSpPr>
            <p:cNvPr id="575" name=""/>
            <p:cNvSpPr/>
            <p:nvPr/>
          </p:nvSpPr>
          <p:spPr>
            <a:xfrm>
              <a:off x="4834080" y="2049480"/>
              <a:ext cx="1514520" cy="730440"/>
            </a:xfrm>
            <a:custGeom>
              <a:avLst/>
              <a:gdLst/>
              <a:ahLst/>
              <a:rect l="l" t="t" r="r" b="b"/>
              <a:pathLst>
                <a:path w="4262" h="2060">
                  <a:moveTo>
                    <a:pt x="0" y="1035"/>
                  </a:moveTo>
                  <a:lnTo>
                    <a:pt x="522" y="576"/>
                  </a:lnTo>
                  <a:lnTo>
                    <a:pt x="1262" y="91"/>
                  </a:lnTo>
                  <a:lnTo>
                    <a:pt x="1600" y="0"/>
                  </a:lnTo>
                  <a:lnTo>
                    <a:pt x="1848" y="128"/>
                  </a:lnTo>
                  <a:lnTo>
                    <a:pt x="2231" y="274"/>
                  </a:lnTo>
                  <a:lnTo>
                    <a:pt x="2433" y="202"/>
                  </a:lnTo>
                  <a:lnTo>
                    <a:pt x="2688" y="73"/>
                  </a:lnTo>
                  <a:lnTo>
                    <a:pt x="3054" y="82"/>
                  </a:lnTo>
                  <a:lnTo>
                    <a:pt x="3842" y="641"/>
                  </a:lnTo>
                  <a:lnTo>
                    <a:pt x="4262" y="851"/>
                  </a:lnTo>
                  <a:lnTo>
                    <a:pt x="4262" y="1007"/>
                  </a:lnTo>
                  <a:lnTo>
                    <a:pt x="3859" y="1446"/>
                  </a:lnTo>
                  <a:lnTo>
                    <a:pt x="2991" y="2060"/>
                  </a:lnTo>
                  <a:lnTo>
                    <a:pt x="851" y="1986"/>
                  </a:lnTo>
                  <a:lnTo>
                    <a:pt x="128" y="1492"/>
                  </a:lnTo>
                  <a:lnTo>
                    <a:pt x="0" y="1035"/>
                  </a:lnTo>
                  <a:lnTo>
                    <a:pt x="0" y="10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802040" y="2152440"/>
              <a:ext cx="1556280" cy="591840"/>
            </a:xfrm>
            <a:custGeom>
              <a:avLst/>
              <a:gdLst/>
              <a:ahLst/>
              <a:rect l="l" t="t" r="r" b="b"/>
              <a:pathLst>
                <a:path w="4382" h="1667">
                  <a:moveTo>
                    <a:pt x="55" y="1007"/>
                  </a:moveTo>
                  <a:lnTo>
                    <a:pt x="303" y="1245"/>
                  </a:lnTo>
                  <a:lnTo>
                    <a:pt x="1931" y="1667"/>
                  </a:lnTo>
                  <a:lnTo>
                    <a:pt x="3448" y="1447"/>
                  </a:lnTo>
                  <a:lnTo>
                    <a:pt x="4108" y="1034"/>
                  </a:lnTo>
                  <a:lnTo>
                    <a:pt x="4382" y="668"/>
                  </a:lnTo>
                  <a:lnTo>
                    <a:pt x="4097" y="631"/>
                  </a:lnTo>
                  <a:lnTo>
                    <a:pt x="3751" y="466"/>
                  </a:lnTo>
                  <a:lnTo>
                    <a:pt x="3221" y="151"/>
                  </a:lnTo>
                  <a:lnTo>
                    <a:pt x="2973" y="36"/>
                  </a:lnTo>
                  <a:lnTo>
                    <a:pt x="2826" y="72"/>
                  </a:lnTo>
                  <a:lnTo>
                    <a:pt x="2680" y="127"/>
                  </a:lnTo>
                  <a:lnTo>
                    <a:pt x="2415" y="229"/>
                  </a:lnTo>
                  <a:lnTo>
                    <a:pt x="2251" y="220"/>
                  </a:lnTo>
                  <a:lnTo>
                    <a:pt x="1903" y="31"/>
                  </a:lnTo>
                  <a:lnTo>
                    <a:pt x="1592" y="0"/>
                  </a:lnTo>
                  <a:lnTo>
                    <a:pt x="1345" y="72"/>
                  </a:lnTo>
                  <a:lnTo>
                    <a:pt x="960" y="255"/>
                  </a:lnTo>
                  <a:lnTo>
                    <a:pt x="645" y="512"/>
                  </a:lnTo>
                  <a:lnTo>
                    <a:pt x="211" y="696"/>
                  </a:lnTo>
                  <a:lnTo>
                    <a:pt x="0" y="788"/>
                  </a:lnTo>
                  <a:lnTo>
                    <a:pt x="55" y="1007"/>
                  </a:lnTo>
                  <a:lnTo>
                    <a:pt x="55" y="100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837320" y="2165040"/>
              <a:ext cx="1530360" cy="362880"/>
            </a:xfrm>
            <a:custGeom>
              <a:avLst/>
              <a:gdLst/>
              <a:ahLst/>
              <a:rect l="l" t="t" r="r" b="b"/>
              <a:pathLst>
                <a:path w="4308" h="1022">
                  <a:moveTo>
                    <a:pt x="0" y="861"/>
                  </a:moveTo>
                  <a:lnTo>
                    <a:pt x="26" y="851"/>
                  </a:lnTo>
                  <a:lnTo>
                    <a:pt x="95" y="820"/>
                  </a:lnTo>
                  <a:lnTo>
                    <a:pt x="140" y="797"/>
                  </a:lnTo>
                  <a:lnTo>
                    <a:pt x="190" y="771"/>
                  </a:lnTo>
                  <a:lnTo>
                    <a:pt x="241" y="740"/>
                  </a:lnTo>
                  <a:lnTo>
                    <a:pt x="293" y="706"/>
                  </a:lnTo>
                  <a:lnTo>
                    <a:pt x="343" y="668"/>
                  </a:lnTo>
                  <a:lnTo>
                    <a:pt x="390" y="628"/>
                  </a:lnTo>
                  <a:lnTo>
                    <a:pt x="438" y="588"/>
                  </a:lnTo>
                  <a:lnTo>
                    <a:pt x="482" y="550"/>
                  </a:lnTo>
                  <a:lnTo>
                    <a:pt x="526" y="514"/>
                  </a:lnTo>
                  <a:lnTo>
                    <a:pt x="567" y="483"/>
                  </a:lnTo>
                  <a:lnTo>
                    <a:pt x="609" y="458"/>
                  </a:lnTo>
                  <a:lnTo>
                    <a:pt x="650" y="439"/>
                  </a:lnTo>
                  <a:lnTo>
                    <a:pt x="725" y="429"/>
                  </a:lnTo>
                  <a:lnTo>
                    <a:pt x="792" y="438"/>
                  </a:lnTo>
                  <a:lnTo>
                    <a:pt x="842" y="452"/>
                  </a:lnTo>
                  <a:lnTo>
                    <a:pt x="868" y="458"/>
                  </a:lnTo>
                  <a:lnTo>
                    <a:pt x="864" y="407"/>
                  </a:lnTo>
                  <a:lnTo>
                    <a:pt x="864" y="358"/>
                  </a:lnTo>
                  <a:lnTo>
                    <a:pt x="887" y="302"/>
                  </a:lnTo>
                  <a:lnTo>
                    <a:pt x="912" y="274"/>
                  </a:lnTo>
                  <a:lnTo>
                    <a:pt x="948" y="246"/>
                  </a:lnTo>
                  <a:lnTo>
                    <a:pt x="989" y="218"/>
                  </a:lnTo>
                  <a:lnTo>
                    <a:pt x="1036" y="193"/>
                  </a:lnTo>
                  <a:lnTo>
                    <a:pt x="1086" y="169"/>
                  </a:lnTo>
                  <a:lnTo>
                    <a:pt x="1137" y="149"/>
                  </a:lnTo>
                  <a:lnTo>
                    <a:pt x="1187" y="132"/>
                  </a:lnTo>
                  <a:lnTo>
                    <a:pt x="1234" y="119"/>
                  </a:lnTo>
                  <a:lnTo>
                    <a:pt x="1386" y="103"/>
                  </a:lnTo>
                  <a:lnTo>
                    <a:pt x="1491" y="91"/>
                  </a:lnTo>
                  <a:lnTo>
                    <a:pt x="1535" y="69"/>
                  </a:lnTo>
                  <a:lnTo>
                    <a:pt x="1581" y="39"/>
                  </a:lnTo>
                  <a:lnTo>
                    <a:pt x="1635" y="13"/>
                  </a:lnTo>
                  <a:lnTo>
                    <a:pt x="1701" y="0"/>
                  </a:lnTo>
                  <a:lnTo>
                    <a:pt x="1783" y="8"/>
                  </a:lnTo>
                  <a:lnTo>
                    <a:pt x="1870" y="39"/>
                  </a:lnTo>
                  <a:lnTo>
                    <a:pt x="1909" y="64"/>
                  </a:lnTo>
                  <a:lnTo>
                    <a:pt x="1945" y="95"/>
                  </a:lnTo>
                  <a:lnTo>
                    <a:pt x="1993" y="174"/>
                  </a:lnTo>
                  <a:lnTo>
                    <a:pt x="2007" y="274"/>
                  </a:lnTo>
                  <a:lnTo>
                    <a:pt x="1995" y="376"/>
                  </a:lnTo>
                  <a:lnTo>
                    <a:pt x="1977" y="454"/>
                  </a:lnTo>
                  <a:lnTo>
                    <a:pt x="1967" y="485"/>
                  </a:lnTo>
                  <a:lnTo>
                    <a:pt x="1985" y="461"/>
                  </a:lnTo>
                  <a:lnTo>
                    <a:pt x="2004" y="433"/>
                  </a:lnTo>
                  <a:lnTo>
                    <a:pt x="2029" y="401"/>
                  </a:lnTo>
                  <a:lnTo>
                    <a:pt x="2058" y="365"/>
                  </a:lnTo>
                  <a:lnTo>
                    <a:pt x="2091" y="331"/>
                  </a:lnTo>
                  <a:lnTo>
                    <a:pt x="2125" y="300"/>
                  </a:lnTo>
                  <a:lnTo>
                    <a:pt x="2159" y="275"/>
                  </a:lnTo>
                  <a:lnTo>
                    <a:pt x="2191" y="259"/>
                  </a:lnTo>
                  <a:lnTo>
                    <a:pt x="2222" y="250"/>
                  </a:lnTo>
                  <a:lnTo>
                    <a:pt x="2283" y="247"/>
                  </a:lnTo>
                  <a:lnTo>
                    <a:pt x="2387" y="247"/>
                  </a:lnTo>
                  <a:lnTo>
                    <a:pt x="2434" y="225"/>
                  </a:lnTo>
                  <a:lnTo>
                    <a:pt x="2480" y="197"/>
                  </a:lnTo>
                  <a:lnTo>
                    <a:pt x="2527" y="181"/>
                  </a:lnTo>
                  <a:lnTo>
                    <a:pt x="2579" y="193"/>
                  </a:lnTo>
                  <a:lnTo>
                    <a:pt x="2635" y="244"/>
                  </a:lnTo>
                  <a:lnTo>
                    <a:pt x="2663" y="278"/>
                  </a:lnTo>
                  <a:lnTo>
                    <a:pt x="2690" y="314"/>
                  </a:lnTo>
                  <a:lnTo>
                    <a:pt x="2712" y="348"/>
                  </a:lnTo>
                  <a:lnTo>
                    <a:pt x="2728" y="376"/>
                  </a:lnTo>
                  <a:lnTo>
                    <a:pt x="2744" y="404"/>
                  </a:lnTo>
                  <a:lnTo>
                    <a:pt x="2756" y="290"/>
                  </a:lnTo>
                  <a:lnTo>
                    <a:pt x="2780" y="110"/>
                  </a:lnTo>
                  <a:lnTo>
                    <a:pt x="2797" y="63"/>
                  </a:lnTo>
                  <a:lnTo>
                    <a:pt x="2825" y="45"/>
                  </a:lnTo>
                  <a:lnTo>
                    <a:pt x="2918" y="64"/>
                  </a:lnTo>
                  <a:lnTo>
                    <a:pt x="2986" y="84"/>
                  </a:lnTo>
                  <a:lnTo>
                    <a:pt x="3066" y="107"/>
                  </a:lnTo>
                  <a:lnTo>
                    <a:pt x="3154" y="140"/>
                  </a:lnTo>
                  <a:lnTo>
                    <a:pt x="3200" y="159"/>
                  </a:lnTo>
                  <a:lnTo>
                    <a:pt x="3247" y="184"/>
                  </a:lnTo>
                  <a:lnTo>
                    <a:pt x="3294" y="210"/>
                  </a:lnTo>
                  <a:lnTo>
                    <a:pt x="3341" y="241"/>
                  </a:lnTo>
                  <a:lnTo>
                    <a:pt x="3387" y="274"/>
                  </a:lnTo>
                  <a:lnTo>
                    <a:pt x="3431" y="309"/>
                  </a:lnTo>
                  <a:lnTo>
                    <a:pt x="3471" y="345"/>
                  </a:lnTo>
                  <a:lnTo>
                    <a:pt x="3508" y="380"/>
                  </a:lnTo>
                  <a:lnTo>
                    <a:pt x="3567" y="449"/>
                  </a:lnTo>
                  <a:lnTo>
                    <a:pt x="3617" y="560"/>
                  </a:lnTo>
                  <a:lnTo>
                    <a:pt x="3622" y="604"/>
                  </a:lnTo>
                  <a:lnTo>
                    <a:pt x="3642" y="595"/>
                  </a:lnTo>
                  <a:lnTo>
                    <a:pt x="3690" y="575"/>
                  </a:lnTo>
                  <a:lnTo>
                    <a:pt x="3747" y="554"/>
                  </a:lnTo>
                  <a:lnTo>
                    <a:pt x="3796" y="550"/>
                  </a:lnTo>
                  <a:lnTo>
                    <a:pt x="3830" y="567"/>
                  </a:lnTo>
                  <a:lnTo>
                    <a:pt x="3864" y="600"/>
                  </a:lnTo>
                  <a:lnTo>
                    <a:pt x="3884" y="618"/>
                  </a:lnTo>
                  <a:lnTo>
                    <a:pt x="3911" y="635"/>
                  </a:lnTo>
                  <a:lnTo>
                    <a:pt x="3945" y="650"/>
                  </a:lnTo>
                  <a:lnTo>
                    <a:pt x="3987" y="660"/>
                  </a:lnTo>
                  <a:lnTo>
                    <a:pt x="4213" y="665"/>
                  </a:lnTo>
                  <a:lnTo>
                    <a:pt x="4293" y="671"/>
                  </a:lnTo>
                  <a:lnTo>
                    <a:pt x="4308" y="679"/>
                  </a:lnTo>
                  <a:lnTo>
                    <a:pt x="4299" y="696"/>
                  </a:lnTo>
                  <a:lnTo>
                    <a:pt x="4265" y="721"/>
                  </a:lnTo>
                  <a:lnTo>
                    <a:pt x="4209" y="753"/>
                  </a:lnTo>
                  <a:lnTo>
                    <a:pt x="4173" y="769"/>
                  </a:lnTo>
                  <a:lnTo>
                    <a:pt x="4133" y="789"/>
                  </a:lnTo>
                  <a:lnTo>
                    <a:pt x="4092" y="808"/>
                  </a:lnTo>
                  <a:lnTo>
                    <a:pt x="4049" y="828"/>
                  </a:lnTo>
                  <a:lnTo>
                    <a:pt x="4004" y="848"/>
                  </a:lnTo>
                  <a:lnTo>
                    <a:pt x="3958" y="867"/>
                  </a:lnTo>
                  <a:lnTo>
                    <a:pt x="3912" y="887"/>
                  </a:lnTo>
                  <a:lnTo>
                    <a:pt x="3867" y="907"/>
                  </a:lnTo>
                  <a:lnTo>
                    <a:pt x="3822" y="924"/>
                  </a:lnTo>
                  <a:lnTo>
                    <a:pt x="3781" y="941"/>
                  </a:lnTo>
                  <a:lnTo>
                    <a:pt x="3704" y="971"/>
                  </a:lnTo>
                  <a:lnTo>
                    <a:pt x="3642" y="994"/>
                  </a:lnTo>
                  <a:lnTo>
                    <a:pt x="3594" y="1010"/>
                  </a:lnTo>
                  <a:lnTo>
                    <a:pt x="3523" y="1022"/>
                  </a:lnTo>
                  <a:lnTo>
                    <a:pt x="3464" y="1011"/>
                  </a:lnTo>
                  <a:lnTo>
                    <a:pt x="3393" y="980"/>
                  </a:lnTo>
                  <a:lnTo>
                    <a:pt x="3346" y="958"/>
                  </a:lnTo>
                  <a:lnTo>
                    <a:pt x="3290" y="933"/>
                  </a:lnTo>
                  <a:lnTo>
                    <a:pt x="3226" y="908"/>
                  </a:lnTo>
                  <a:lnTo>
                    <a:pt x="3157" y="884"/>
                  </a:lnTo>
                  <a:lnTo>
                    <a:pt x="3080" y="862"/>
                  </a:lnTo>
                  <a:lnTo>
                    <a:pt x="2999" y="846"/>
                  </a:lnTo>
                  <a:lnTo>
                    <a:pt x="2827" y="833"/>
                  </a:lnTo>
                  <a:lnTo>
                    <a:pt x="2647" y="855"/>
                  </a:lnTo>
                  <a:lnTo>
                    <a:pt x="2485" y="896"/>
                  </a:lnTo>
                  <a:lnTo>
                    <a:pt x="2420" y="917"/>
                  </a:lnTo>
                  <a:lnTo>
                    <a:pt x="2368" y="935"/>
                  </a:lnTo>
                  <a:lnTo>
                    <a:pt x="2322" y="952"/>
                  </a:lnTo>
                  <a:lnTo>
                    <a:pt x="1719" y="787"/>
                  </a:lnTo>
                  <a:lnTo>
                    <a:pt x="696" y="971"/>
                  </a:lnTo>
                  <a:lnTo>
                    <a:pt x="146" y="980"/>
                  </a:lnTo>
                  <a:lnTo>
                    <a:pt x="0" y="861"/>
                  </a:lnTo>
                  <a:lnTo>
                    <a:pt x="0" y="861"/>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905360" y="2288880"/>
              <a:ext cx="1372680" cy="321480"/>
            </a:xfrm>
            <a:custGeom>
              <a:avLst/>
              <a:gdLst/>
              <a:ahLst/>
              <a:rect l="l" t="t" r="r" b="b"/>
              <a:pathLst>
                <a:path w="3863" h="905">
                  <a:moveTo>
                    <a:pt x="0" y="613"/>
                  </a:moveTo>
                  <a:lnTo>
                    <a:pt x="53" y="631"/>
                  </a:lnTo>
                  <a:lnTo>
                    <a:pt x="109" y="649"/>
                  </a:lnTo>
                  <a:lnTo>
                    <a:pt x="180" y="671"/>
                  </a:lnTo>
                  <a:lnTo>
                    <a:pt x="258" y="694"/>
                  </a:lnTo>
                  <a:lnTo>
                    <a:pt x="338" y="719"/>
                  </a:lnTo>
                  <a:lnTo>
                    <a:pt x="416" y="741"/>
                  </a:lnTo>
                  <a:lnTo>
                    <a:pt x="485" y="761"/>
                  </a:lnTo>
                  <a:lnTo>
                    <a:pt x="590" y="783"/>
                  </a:lnTo>
                  <a:lnTo>
                    <a:pt x="662" y="789"/>
                  </a:lnTo>
                  <a:lnTo>
                    <a:pt x="797" y="778"/>
                  </a:lnTo>
                  <a:lnTo>
                    <a:pt x="1263" y="761"/>
                  </a:lnTo>
                  <a:lnTo>
                    <a:pt x="1446" y="753"/>
                  </a:lnTo>
                  <a:lnTo>
                    <a:pt x="1565" y="761"/>
                  </a:lnTo>
                  <a:lnTo>
                    <a:pt x="1646" y="792"/>
                  </a:lnTo>
                  <a:lnTo>
                    <a:pt x="1683" y="808"/>
                  </a:lnTo>
                  <a:lnTo>
                    <a:pt x="1720" y="815"/>
                  </a:lnTo>
                  <a:lnTo>
                    <a:pt x="1807" y="805"/>
                  </a:lnTo>
                  <a:lnTo>
                    <a:pt x="1885" y="798"/>
                  </a:lnTo>
                  <a:lnTo>
                    <a:pt x="1937" y="830"/>
                  </a:lnTo>
                  <a:lnTo>
                    <a:pt x="1965" y="855"/>
                  </a:lnTo>
                  <a:lnTo>
                    <a:pt x="2005" y="880"/>
                  </a:lnTo>
                  <a:lnTo>
                    <a:pt x="2061" y="896"/>
                  </a:lnTo>
                  <a:lnTo>
                    <a:pt x="2131" y="905"/>
                  </a:lnTo>
                  <a:lnTo>
                    <a:pt x="2305" y="880"/>
                  </a:lnTo>
                  <a:lnTo>
                    <a:pt x="2401" y="843"/>
                  </a:lnTo>
                  <a:lnTo>
                    <a:pt x="2450" y="821"/>
                  </a:lnTo>
                  <a:lnTo>
                    <a:pt x="2499" y="799"/>
                  </a:lnTo>
                  <a:lnTo>
                    <a:pt x="2546" y="778"/>
                  </a:lnTo>
                  <a:lnTo>
                    <a:pt x="2593" y="759"/>
                  </a:lnTo>
                  <a:lnTo>
                    <a:pt x="2681" y="733"/>
                  </a:lnTo>
                  <a:lnTo>
                    <a:pt x="2761" y="730"/>
                  </a:lnTo>
                  <a:lnTo>
                    <a:pt x="2835" y="741"/>
                  </a:lnTo>
                  <a:lnTo>
                    <a:pt x="2910" y="758"/>
                  </a:lnTo>
                  <a:lnTo>
                    <a:pt x="2991" y="769"/>
                  </a:lnTo>
                  <a:lnTo>
                    <a:pt x="3187" y="752"/>
                  </a:lnTo>
                  <a:lnTo>
                    <a:pt x="3296" y="727"/>
                  </a:lnTo>
                  <a:lnTo>
                    <a:pt x="3413" y="696"/>
                  </a:lnTo>
                  <a:lnTo>
                    <a:pt x="3479" y="677"/>
                  </a:lnTo>
                  <a:lnTo>
                    <a:pt x="3555" y="650"/>
                  </a:lnTo>
                  <a:lnTo>
                    <a:pt x="3634" y="619"/>
                  </a:lnTo>
                  <a:lnTo>
                    <a:pt x="3711" y="587"/>
                  </a:lnTo>
                  <a:lnTo>
                    <a:pt x="3779" y="553"/>
                  </a:lnTo>
                  <a:lnTo>
                    <a:pt x="3830" y="520"/>
                  </a:lnTo>
                  <a:lnTo>
                    <a:pt x="3863" y="470"/>
                  </a:lnTo>
                  <a:lnTo>
                    <a:pt x="3838" y="452"/>
                  </a:lnTo>
                  <a:lnTo>
                    <a:pt x="3794" y="441"/>
                  </a:lnTo>
                  <a:lnTo>
                    <a:pt x="3671" y="423"/>
                  </a:lnTo>
                  <a:lnTo>
                    <a:pt x="3422" y="393"/>
                  </a:lnTo>
                  <a:lnTo>
                    <a:pt x="3212" y="367"/>
                  </a:lnTo>
                  <a:lnTo>
                    <a:pt x="3117" y="346"/>
                  </a:lnTo>
                  <a:lnTo>
                    <a:pt x="3056" y="302"/>
                  </a:lnTo>
                  <a:lnTo>
                    <a:pt x="3024" y="234"/>
                  </a:lnTo>
                  <a:lnTo>
                    <a:pt x="2994" y="160"/>
                  </a:lnTo>
                  <a:lnTo>
                    <a:pt x="2959" y="100"/>
                  </a:lnTo>
                  <a:lnTo>
                    <a:pt x="2937" y="81"/>
                  </a:lnTo>
                  <a:lnTo>
                    <a:pt x="2910" y="73"/>
                  </a:lnTo>
                  <a:lnTo>
                    <a:pt x="2853" y="87"/>
                  </a:lnTo>
                  <a:lnTo>
                    <a:pt x="2797" y="122"/>
                  </a:lnTo>
                  <a:lnTo>
                    <a:pt x="2739" y="168"/>
                  </a:lnTo>
                  <a:lnTo>
                    <a:pt x="2711" y="190"/>
                  </a:lnTo>
                  <a:lnTo>
                    <a:pt x="2681" y="211"/>
                  </a:lnTo>
                  <a:lnTo>
                    <a:pt x="2649" y="225"/>
                  </a:lnTo>
                  <a:lnTo>
                    <a:pt x="2617" y="233"/>
                  </a:lnTo>
                  <a:lnTo>
                    <a:pt x="2546" y="230"/>
                  </a:lnTo>
                  <a:lnTo>
                    <a:pt x="2476" y="221"/>
                  </a:lnTo>
                  <a:lnTo>
                    <a:pt x="2416" y="219"/>
                  </a:lnTo>
                  <a:lnTo>
                    <a:pt x="2369" y="249"/>
                  </a:lnTo>
                  <a:lnTo>
                    <a:pt x="2330" y="303"/>
                  </a:lnTo>
                  <a:lnTo>
                    <a:pt x="2311" y="333"/>
                  </a:lnTo>
                  <a:lnTo>
                    <a:pt x="2292" y="361"/>
                  </a:lnTo>
                  <a:lnTo>
                    <a:pt x="2269" y="385"/>
                  </a:lnTo>
                  <a:lnTo>
                    <a:pt x="2242" y="404"/>
                  </a:lnTo>
                  <a:lnTo>
                    <a:pt x="2177" y="424"/>
                  </a:lnTo>
                  <a:lnTo>
                    <a:pt x="2105" y="433"/>
                  </a:lnTo>
                  <a:lnTo>
                    <a:pt x="1968" y="413"/>
                  </a:lnTo>
                  <a:lnTo>
                    <a:pt x="1916" y="377"/>
                  </a:lnTo>
                  <a:lnTo>
                    <a:pt x="1873" y="327"/>
                  </a:lnTo>
                  <a:lnTo>
                    <a:pt x="1829" y="275"/>
                  </a:lnTo>
                  <a:lnTo>
                    <a:pt x="1804" y="255"/>
                  </a:lnTo>
                  <a:lnTo>
                    <a:pt x="1776" y="239"/>
                  </a:lnTo>
                  <a:lnTo>
                    <a:pt x="1704" y="224"/>
                  </a:lnTo>
                  <a:lnTo>
                    <a:pt x="1621" y="221"/>
                  </a:lnTo>
                  <a:lnTo>
                    <a:pt x="1465" y="184"/>
                  </a:lnTo>
                  <a:lnTo>
                    <a:pt x="1406" y="131"/>
                  </a:lnTo>
                  <a:lnTo>
                    <a:pt x="1357" y="73"/>
                  </a:lnTo>
                  <a:lnTo>
                    <a:pt x="1317" y="25"/>
                  </a:lnTo>
                  <a:lnTo>
                    <a:pt x="1298" y="8"/>
                  </a:lnTo>
                  <a:lnTo>
                    <a:pt x="1282" y="0"/>
                  </a:lnTo>
                  <a:lnTo>
                    <a:pt x="1248" y="10"/>
                  </a:lnTo>
                  <a:lnTo>
                    <a:pt x="1217" y="47"/>
                  </a:lnTo>
                  <a:lnTo>
                    <a:pt x="1171" y="137"/>
                  </a:lnTo>
                  <a:lnTo>
                    <a:pt x="1145" y="193"/>
                  </a:lnTo>
                  <a:lnTo>
                    <a:pt x="1080" y="247"/>
                  </a:lnTo>
                  <a:lnTo>
                    <a:pt x="1050" y="270"/>
                  </a:lnTo>
                  <a:lnTo>
                    <a:pt x="1013" y="293"/>
                  </a:lnTo>
                  <a:lnTo>
                    <a:pt x="972" y="318"/>
                  </a:lnTo>
                  <a:lnTo>
                    <a:pt x="925" y="345"/>
                  </a:lnTo>
                  <a:lnTo>
                    <a:pt x="875" y="370"/>
                  </a:lnTo>
                  <a:lnTo>
                    <a:pt x="820" y="392"/>
                  </a:lnTo>
                  <a:lnTo>
                    <a:pt x="764" y="410"/>
                  </a:lnTo>
                  <a:lnTo>
                    <a:pt x="705" y="421"/>
                  </a:lnTo>
                  <a:lnTo>
                    <a:pt x="463" y="424"/>
                  </a:lnTo>
                  <a:lnTo>
                    <a:pt x="239" y="439"/>
                  </a:lnTo>
                  <a:lnTo>
                    <a:pt x="143" y="485"/>
                  </a:lnTo>
                  <a:lnTo>
                    <a:pt x="68" y="542"/>
                  </a:lnTo>
                  <a:lnTo>
                    <a:pt x="19" y="593"/>
                  </a:lnTo>
                  <a:lnTo>
                    <a:pt x="0" y="613"/>
                  </a:lnTo>
                  <a:lnTo>
                    <a:pt x="0" y="613"/>
                  </a:lnTo>
                  <a:close/>
                </a:path>
              </a:pathLst>
            </a:custGeom>
            <a:solidFill>
              <a:srgbClr val="a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821480" y="2457000"/>
              <a:ext cx="1528200" cy="417240"/>
            </a:xfrm>
            <a:custGeom>
              <a:avLst/>
              <a:gdLst/>
              <a:ahLst/>
              <a:rect l="l" t="t" r="r" b="b"/>
              <a:pathLst>
                <a:path w="4302" h="1175">
                  <a:moveTo>
                    <a:pt x="0" y="150"/>
                  </a:moveTo>
                  <a:lnTo>
                    <a:pt x="19" y="314"/>
                  </a:lnTo>
                  <a:lnTo>
                    <a:pt x="47" y="357"/>
                  </a:lnTo>
                  <a:lnTo>
                    <a:pt x="81" y="395"/>
                  </a:lnTo>
                  <a:lnTo>
                    <a:pt x="128" y="434"/>
                  </a:lnTo>
                  <a:lnTo>
                    <a:pt x="187" y="465"/>
                  </a:lnTo>
                  <a:lnTo>
                    <a:pt x="256" y="494"/>
                  </a:lnTo>
                  <a:lnTo>
                    <a:pt x="335" y="532"/>
                  </a:lnTo>
                  <a:lnTo>
                    <a:pt x="376" y="558"/>
                  </a:lnTo>
                  <a:lnTo>
                    <a:pt x="420" y="590"/>
                  </a:lnTo>
                  <a:lnTo>
                    <a:pt x="467" y="628"/>
                  </a:lnTo>
                  <a:lnTo>
                    <a:pt x="517" y="671"/>
                  </a:lnTo>
                  <a:lnTo>
                    <a:pt x="575" y="720"/>
                  </a:lnTo>
                  <a:lnTo>
                    <a:pt x="643" y="770"/>
                  </a:lnTo>
                  <a:lnTo>
                    <a:pt x="681" y="796"/>
                  </a:lnTo>
                  <a:lnTo>
                    <a:pt x="722" y="823"/>
                  </a:lnTo>
                  <a:lnTo>
                    <a:pt x="768" y="850"/>
                  </a:lnTo>
                  <a:lnTo>
                    <a:pt x="817" y="875"/>
                  </a:lnTo>
                  <a:lnTo>
                    <a:pt x="870" y="901"/>
                  </a:lnTo>
                  <a:lnTo>
                    <a:pt x="929" y="926"/>
                  </a:lnTo>
                  <a:lnTo>
                    <a:pt x="992" y="951"/>
                  </a:lnTo>
                  <a:lnTo>
                    <a:pt x="1062" y="975"/>
                  </a:lnTo>
                  <a:lnTo>
                    <a:pt x="1135" y="997"/>
                  </a:lnTo>
                  <a:lnTo>
                    <a:pt x="1214" y="1018"/>
                  </a:lnTo>
                  <a:lnTo>
                    <a:pt x="1296" y="1038"/>
                  </a:lnTo>
                  <a:lnTo>
                    <a:pt x="1379" y="1057"/>
                  </a:lnTo>
                  <a:lnTo>
                    <a:pt x="1463" y="1075"/>
                  </a:lnTo>
                  <a:lnTo>
                    <a:pt x="1547" y="1091"/>
                  </a:lnTo>
                  <a:lnTo>
                    <a:pt x="1708" y="1121"/>
                  </a:lnTo>
                  <a:lnTo>
                    <a:pt x="1849" y="1144"/>
                  </a:lnTo>
                  <a:lnTo>
                    <a:pt x="1964" y="1162"/>
                  </a:lnTo>
                  <a:lnTo>
                    <a:pt x="2068" y="1175"/>
                  </a:lnTo>
                  <a:lnTo>
                    <a:pt x="3247" y="1066"/>
                  </a:lnTo>
                  <a:lnTo>
                    <a:pt x="3851" y="627"/>
                  </a:lnTo>
                  <a:lnTo>
                    <a:pt x="3895" y="578"/>
                  </a:lnTo>
                  <a:lnTo>
                    <a:pt x="3942" y="527"/>
                  </a:lnTo>
                  <a:lnTo>
                    <a:pt x="3969" y="496"/>
                  </a:lnTo>
                  <a:lnTo>
                    <a:pt x="3997" y="463"/>
                  </a:lnTo>
                  <a:lnTo>
                    <a:pt x="4028" y="431"/>
                  </a:lnTo>
                  <a:lnTo>
                    <a:pt x="4057" y="397"/>
                  </a:lnTo>
                  <a:lnTo>
                    <a:pt x="4087" y="363"/>
                  </a:lnTo>
                  <a:lnTo>
                    <a:pt x="4116" y="330"/>
                  </a:lnTo>
                  <a:lnTo>
                    <a:pt x="4143" y="299"/>
                  </a:lnTo>
                  <a:lnTo>
                    <a:pt x="4168" y="270"/>
                  </a:lnTo>
                  <a:lnTo>
                    <a:pt x="4207" y="223"/>
                  </a:lnTo>
                  <a:lnTo>
                    <a:pt x="4237" y="186"/>
                  </a:lnTo>
                  <a:lnTo>
                    <a:pt x="4262" y="152"/>
                  </a:lnTo>
                  <a:lnTo>
                    <a:pt x="4295" y="96"/>
                  </a:lnTo>
                  <a:lnTo>
                    <a:pt x="4302" y="52"/>
                  </a:lnTo>
                  <a:lnTo>
                    <a:pt x="4281" y="22"/>
                  </a:lnTo>
                  <a:lnTo>
                    <a:pt x="4231" y="6"/>
                  </a:lnTo>
                  <a:lnTo>
                    <a:pt x="4162" y="0"/>
                  </a:lnTo>
                  <a:lnTo>
                    <a:pt x="4016" y="22"/>
                  </a:lnTo>
                  <a:lnTo>
                    <a:pt x="3915" y="74"/>
                  </a:lnTo>
                  <a:lnTo>
                    <a:pt x="3876" y="112"/>
                  </a:lnTo>
                  <a:lnTo>
                    <a:pt x="3833" y="159"/>
                  </a:lnTo>
                  <a:lnTo>
                    <a:pt x="3780" y="214"/>
                  </a:lnTo>
                  <a:lnTo>
                    <a:pt x="3747" y="242"/>
                  </a:lnTo>
                  <a:lnTo>
                    <a:pt x="3712" y="271"/>
                  </a:lnTo>
                  <a:lnTo>
                    <a:pt x="3672" y="298"/>
                  </a:lnTo>
                  <a:lnTo>
                    <a:pt x="3628" y="322"/>
                  </a:lnTo>
                  <a:lnTo>
                    <a:pt x="3578" y="344"/>
                  </a:lnTo>
                  <a:lnTo>
                    <a:pt x="3522" y="360"/>
                  </a:lnTo>
                  <a:lnTo>
                    <a:pt x="3395" y="382"/>
                  </a:lnTo>
                  <a:lnTo>
                    <a:pt x="3259" y="397"/>
                  </a:lnTo>
                  <a:lnTo>
                    <a:pt x="3028" y="442"/>
                  </a:lnTo>
                  <a:lnTo>
                    <a:pt x="2960" y="494"/>
                  </a:lnTo>
                  <a:lnTo>
                    <a:pt x="2923" y="555"/>
                  </a:lnTo>
                  <a:lnTo>
                    <a:pt x="2890" y="636"/>
                  </a:lnTo>
                  <a:lnTo>
                    <a:pt x="2849" y="596"/>
                  </a:lnTo>
                  <a:lnTo>
                    <a:pt x="2808" y="553"/>
                  </a:lnTo>
                  <a:lnTo>
                    <a:pt x="2778" y="534"/>
                  </a:lnTo>
                  <a:lnTo>
                    <a:pt x="2744" y="516"/>
                  </a:lnTo>
                  <a:lnTo>
                    <a:pt x="2656" y="497"/>
                  </a:lnTo>
                  <a:lnTo>
                    <a:pt x="2556" y="496"/>
                  </a:lnTo>
                  <a:lnTo>
                    <a:pt x="2454" y="512"/>
                  </a:lnTo>
                  <a:lnTo>
                    <a:pt x="2368" y="544"/>
                  </a:lnTo>
                  <a:lnTo>
                    <a:pt x="2273" y="633"/>
                  </a:lnTo>
                  <a:lnTo>
                    <a:pt x="2252" y="668"/>
                  </a:lnTo>
                  <a:lnTo>
                    <a:pt x="2242" y="681"/>
                  </a:lnTo>
                  <a:lnTo>
                    <a:pt x="2218" y="625"/>
                  </a:lnTo>
                  <a:lnTo>
                    <a:pt x="2193" y="578"/>
                  </a:lnTo>
                  <a:lnTo>
                    <a:pt x="2174" y="555"/>
                  </a:lnTo>
                  <a:lnTo>
                    <a:pt x="2150" y="534"/>
                  </a:lnTo>
                  <a:lnTo>
                    <a:pt x="2119" y="518"/>
                  </a:lnTo>
                  <a:lnTo>
                    <a:pt x="2082" y="506"/>
                  </a:lnTo>
                  <a:lnTo>
                    <a:pt x="1998" y="497"/>
                  </a:lnTo>
                  <a:lnTo>
                    <a:pt x="1908" y="506"/>
                  </a:lnTo>
                  <a:lnTo>
                    <a:pt x="1820" y="534"/>
                  </a:lnTo>
                  <a:lnTo>
                    <a:pt x="1780" y="556"/>
                  </a:lnTo>
                  <a:lnTo>
                    <a:pt x="1745" y="581"/>
                  </a:lnTo>
                  <a:lnTo>
                    <a:pt x="1686" y="631"/>
                  </a:lnTo>
                  <a:lnTo>
                    <a:pt x="1647" y="670"/>
                  </a:lnTo>
                  <a:lnTo>
                    <a:pt x="1637" y="681"/>
                  </a:lnTo>
                  <a:lnTo>
                    <a:pt x="1653" y="653"/>
                  </a:lnTo>
                  <a:lnTo>
                    <a:pt x="1674" y="599"/>
                  </a:lnTo>
                  <a:lnTo>
                    <a:pt x="1678" y="568"/>
                  </a:lnTo>
                  <a:lnTo>
                    <a:pt x="1675" y="535"/>
                  </a:lnTo>
                  <a:lnTo>
                    <a:pt x="1659" y="506"/>
                  </a:lnTo>
                  <a:lnTo>
                    <a:pt x="1628" y="479"/>
                  </a:lnTo>
                  <a:lnTo>
                    <a:pt x="1581" y="460"/>
                  </a:lnTo>
                  <a:lnTo>
                    <a:pt x="1519" y="445"/>
                  </a:lnTo>
                  <a:lnTo>
                    <a:pt x="1367" y="432"/>
                  </a:lnTo>
                  <a:lnTo>
                    <a:pt x="1062" y="442"/>
                  </a:lnTo>
                  <a:lnTo>
                    <a:pt x="891" y="472"/>
                  </a:lnTo>
                  <a:lnTo>
                    <a:pt x="786" y="479"/>
                  </a:lnTo>
                  <a:lnTo>
                    <a:pt x="637" y="438"/>
                  </a:lnTo>
                  <a:lnTo>
                    <a:pt x="588" y="419"/>
                  </a:lnTo>
                  <a:lnTo>
                    <a:pt x="534" y="397"/>
                  </a:lnTo>
                  <a:lnTo>
                    <a:pt x="475" y="370"/>
                  </a:lnTo>
                  <a:lnTo>
                    <a:pt x="411" y="342"/>
                  </a:lnTo>
                  <a:lnTo>
                    <a:pt x="343" y="311"/>
                  </a:lnTo>
                  <a:lnTo>
                    <a:pt x="273" y="279"/>
                  </a:lnTo>
                  <a:lnTo>
                    <a:pt x="203" y="246"/>
                  </a:lnTo>
                  <a:lnTo>
                    <a:pt x="138" y="215"/>
                  </a:lnTo>
                  <a:lnTo>
                    <a:pt x="84" y="190"/>
                  </a:lnTo>
                  <a:lnTo>
                    <a:pt x="40" y="170"/>
                  </a:lnTo>
                  <a:lnTo>
                    <a:pt x="0" y="150"/>
                  </a:lnTo>
                  <a:lnTo>
                    <a:pt x="0" y="15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869000" y="2601720"/>
              <a:ext cx="1406880" cy="313200"/>
            </a:xfrm>
            <a:custGeom>
              <a:avLst/>
              <a:gdLst/>
              <a:ahLst/>
              <a:rect l="l" t="t" r="r" b="b"/>
              <a:pathLst>
                <a:path w="3960" h="882">
                  <a:moveTo>
                    <a:pt x="65" y="39"/>
                  </a:moveTo>
                  <a:lnTo>
                    <a:pt x="171" y="41"/>
                  </a:lnTo>
                  <a:lnTo>
                    <a:pt x="291" y="63"/>
                  </a:lnTo>
                  <a:lnTo>
                    <a:pt x="419" y="104"/>
                  </a:lnTo>
                  <a:lnTo>
                    <a:pt x="485" y="128"/>
                  </a:lnTo>
                  <a:lnTo>
                    <a:pt x="552" y="156"/>
                  </a:lnTo>
                  <a:lnTo>
                    <a:pt x="618" y="185"/>
                  </a:lnTo>
                  <a:lnTo>
                    <a:pt x="683" y="215"/>
                  </a:lnTo>
                  <a:lnTo>
                    <a:pt x="746" y="246"/>
                  </a:lnTo>
                  <a:lnTo>
                    <a:pt x="808" y="275"/>
                  </a:lnTo>
                  <a:lnTo>
                    <a:pt x="866" y="305"/>
                  </a:lnTo>
                  <a:lnTo>
                    <a:pt x="920" y="333"/>
                  </a:lnTo>
                  <a:lnTo>
                    <a:pt x="972" y="358"/>
                  </a:lnTo>
                  <a:lnTo>
                    <a:pt x="1018" y="382"/>
                  </a:lnTo>
                  <a:lnTo>
                    <a:pt x="1062" y="402"/>
                  </a:lnTo>
                  <a:lnTo>
                    <a:pt x="1105" y="420"/>
                  </a:lnTo>
                  <a:lnTo>
                    <a:pt x="1186" y="452"/>
                  </a:lnTo>
                  <a:lnTo>
                    <a:pt x="1264" y="476"/>
                  </a:lnTo>
                  <a:lnTo>
                    <a:pt x="1339" y="494"/>
                  </a:lnTo>
                  <a:lnTo>
                    <a:pt x="1481" y="514"/>
                  </a:lnTo>
                  <a:lnTo>
                    <a:pt x="1618" y="517"/>
                  </a:lnTo>
                  <a:lnTo>
                    <a:pt x="1897" y="497"/>
                  </a:lnTo>
                  <a:lnTo>
                    <a:pt x="2050" y="485"/>
                  </a:lnTo>
                  <a:lnTo>
                    <a:pt x="2220" y="480"/>
                  </a:lnTo>
                  <a:lnTo>
                    <a:pt x="2708" y="474"/>
                  </a:lnTo>
                  <a:lnTo>
                    <a:pt x="2953" y="445"/>
                  </a:lnTo>
                  <a:lnTo>
                    <a:pt x="3068" y="417"/>
                  </a:lnTo>
                  <a:lnTo>
                    <a:pt x="3172" y="377"/>
                  </a:lnTo>
                  <a:lnTo>
                    <a:pt x="3208" y="359"/>
                  </a:lnTo>
                  <a:lnTo>
                    <a:pt x="3258" y="333"/>
                  </a:lnTo>
                  <a:lnTo>
                    <a:pt x="3320" y="300"/>
                  </a:lnTo>
                  <a:lnTo>
                    <a:pt x="3354" y="281"/>
                  </a:lnTo>
                  <a:lnTo>
                    <a:pt x="3391" y="262"/>
                  </a:lnTo>
                  <a:lnTo>
                    <a:pt x="3428" y="241"/>
                  </a:lnTo>
                  <a:lnTo>
                    <a:pt x="3467" y="219"/>
                  </a:lnTo>
                  <a:lnTo>
                    <a:pt x="3507" y="199"/>
                  </a:lnTo>
                  <a:lnTo>
                    <a:pt x="3547" y="177"/>
                  </a:lnTo>
                  <a:lnTo>
                    <a:pt x="3587" y="156"/>
                  </a:lnTo>
                  <a:lnTo>
                    <a:pt x="3627" y="134"/>
                  </a:lnTo>
                  <a:lnTo>
                    <a:pt x="3666" y="115"/>
                  </a:lnTo>
                  <a:lnTo>
                    <a:pt x="3705" y="95"/>
                  </a:lnTo>
                  <a:lnTo>
                    <a:pt x="3742" y="76"/>
                  </a:lnTo>
                  <a:lnTo>
                    <a:pt x="3777" y="60"/>
                  </a:lnTo>
                  <a:lnTo>
                    <a:pt x="3842" y="31"/>
                  </a:lnTo>
                  <a:lnTo>
                    <a:pt x="3895" y="10"/>
                  </a:lnTo>
                  <a:lnTo>
                    <a:pt x="3935" y="0"/>
                  </a:lnTo>
                  <a:lnTo>
                    <a:pt x="3957" y="1"/>
                  </a:lnTo>
                  <a:lnTo>
                    <a:pt x="3960" y="16"/>
                  </a:lnTo>
                  <a:lnTo>
                    <a:pt x="3941" y="48"/>
                  </a:lnTo>
                  <a:lnTo>
                    <a:pt x="3897" y="97"/>
                  </a:lnTo>
                  <a:lnTo>
                    <a:pt x="3861" y="134"/>
                  </a:lnTo>
                  <a:lnTo>
                    <a:pt x="3827" y="169"/>
                  </a:lnTo>
                  <a:lnTo>
                    <a:pt x="3792" y="208"/>
                  </a:lnTo>
                  <a:lnTo>
                    <a:pt x="3758" y="246"/>
                  </a:lnTo>
                  <a:lnTo>
                    <a:pt x="3724" y="284"/>
                  </a:lnTo>
                  <a:lnTo>
                    <a:pt x="3689" y="321"/>
                  </a:lnTo>
                  <a:lnTo>
                    <a:pt x="3655" y="359"/>
                  </a:lnTo>
                  <a:lnTo>
                    <a:pt x="3619" y="396"/>
                  </a:lnTo>
                  <a:lnTo>
                    <a:pt x="3582" y="433"/>
                  </a:lnTo>
                  <a:lnTo>
                    <a:pt x="3546" y="469"/>
                  </a:lnTo>
                  <a:lnTo>
                    <a:pt x="3509" y="502"/>
                  </a:lnTo>
                  <a:lnTo>
                    <a:pt x="3469" y="533"/>
                  </a:lnTo>
                  <a:lnTo>
                    <a:pt x="3429" y="564"/>
                  </a:lnTo>
                  <a:lnTo>
                    <a:pt x="3388" y="592"/>
                  </a:lnTo>
                  <a:lnTo>
                    <a:pt x="3345" y="618"/>
                  </a:lnTo>
                  <a:lnTo>
                    <a:pt x="3299" y="641"/>
                  </a:lnTo>
                  <a:lnTo>
                    <a:pt x="3245" y="666"/>
                  </a:lnTo>
                  <a:lnTo>
                    <a:pt x="3184" y="690"/>
                  </a:lnTo>
                  <a:lnTo>
                    <a:pt x="3121" y="713"/>
                  </a:lnTo>
                  <a:lnTo>
                    <a:pt x="3053" y="735"/>
                  </a:lnTo>
                  <a:lnTo>
                    <a:pt x="2984" y="755"/>
                  </a:lnTo>
                  <a:lnTo>
                    <a:pt x="2908" y="774"/>
                  </a:lnTo>
                  <a:lnTo>
                    <a:pt x="2833" y="792"/>
                  </a:lnTo>
                  <a:lnTo>
                    <a:pt x="2754" y="808"/>
                  </a:lnTo>
                  <a:lnTo>
                    <a:pt x="2590" y="836"/>
                  </a:lnTo>
                  <a:lnTo>
                    <a:pt x="2420" y="858"/>
                  </a:lnTo>
                  <a:lnTo>
                    <a:pt x="2246" y="873"/>
                  </a:lnTo>
                  <a:lnTo>
                    <a:pt x="2071" y="882"/>
                  </a:lnTo>
                  <a:lnTo>
                    <a:pt x="1723" y="874"/>
                  </a:lnTo>
                  <a:lnTo>
                    <a:pt x="1394" y="834"/>
                  </a:lnTo>
                  <a:lnTo>
                    <a:pt x="1243" y="799"/>
                  </a:lnTo>
                  <a:lnTo>
                    <a:pt x="1173" y="778"/>
                  </a:lnTo>
                  <a:lnTo>
                    <a:pt x="1105" y="756"/>
                  </a:lnTo>
                  <a:lnTo>
                    <a:pt x="1041" y="730"/>
                  </a:lnTo>
                  <a:lnTo>
                    <a:pt x="981" y="702"/>
                  </a:lnTo>
                  <a:lnTo>
                    <a:pt x="925" y="671"/>
                  </a:lnTo>
                  <a:lnTo>
                    <a:pt x="872" y="638"/>
                  </a:lnTo>
                  <a:lnTo>
                    <a:pt x="845" y="618"/>
                  </a:lnTo>
                  <a:lnTo>
                    <a:pt x="817" y="598"/>
                  </a:lnTo>
                  <a:lnTo>
                    <a:pt x="792" y="579"/>
                  </a:lnTo>
                  <a:lnTo>
                    <a:pt x="765" y="560"/>
                  </a:lnTo>
                  <a:lnTo>
                    <a:pt x="740" y="542"/>
                  </a:lnTo>
                  <a:lnTo>
                    <a:pt x="717" y="525"/>
                  </a:lnTo>
                  <a:lnTo>
                    <a:pt x="668" y="488"/>
                  </a:lnTo>
                  <a:lnTo>
                    <a:pt x="621" y="454"/>
                  </a:lnTo>
                  <a:lnTo>
                    <a:pt x="575" y="421"/>
                  </a:lnTo>
                  <a:lnTo>
                    <a:pt x="529" y="389"/>
                  </a:lnTo>
                  <a:lnTo>
                    <a:pt x="484" y="358"/>
                  </a:lnTo>
                  <a:lnTo>
                    <a:pt x="437" y="328"/>
                  </a:lnTo>
                  <a:lnTo>
                    <a:pt x="389" y="300"/>
                  </a:lnTo>
                  <a:lnTo>
                    <a:pt x="341" y="272"/>
                  </a:lnTo>
                  <a:lnTo>
                    <a:pt x="289" y="247"/>
                  </a:lnTo>
                  <a:lnTo>
                    <a:pt x="236" y="222"/>
                  </a:lnTo>
                  <a:lnTo>
                    <a:pt x="178" y="199"/>
                  </a:lnTo>
                  <a:lnTo>
                    <a:pt x="119" y="177"/>
                  </a:lnTo>
                  <a:lnTo>
                    <a:pt x="56" y="157"/>
                  </a:lnTo>
                  <a:lnTo>
                    <a:pt x="13" y="131"/>
                  </a:lnTo>
                  <a:lnTo>
                    <a:pt x="0" y="94"/>
                  </a:lnTo>
                  <a:lnTo>
                    <a:pt x="18" y="59"/>
                  </a:lnTo>
                  <a:lnTo>
                    <a:pt x="38" y="47"/>
                  </a:lnTo>
                  <a:lnTo>
                    <a:pt x="65" y="39"/>
                  </a:lnTo>
                  <a:lnTo>
                    <a:pt x="6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885200" y="2270880"/>
              <a:ext cx="1362240" cy="282960"/>
            </a:xfrm>
            <a:custGeom>
              <a:avLst/>
              <a:gdLst/>
              <a:ahLst/>
              <a:rect l="l" t="t" r="r" b="b"/>
              <a:pathLst>
                <a:path w="3833" h="800">
                  <a:moveTo>
                    <a:pt x="1503" y="61"/>
                  </a:moveTo>
                  <a:lnTo>
                    <a:pt x="1525" y="113"/>
                  </a:lnTo>
                  <a:lnTo>
                    <a:pt x="1546" y="159"/>
                  </a:lnTo>
                  <a:lnTo>
                    <a:pt x="1568" y="200"/>
                  </a:lnTo>
                  <a:lnTo>
                    <a:pt x="1589" y="237"/>
                  </a:lnTo>
                  <a:lnTo>
                    <a:pt x="1612" y="269"/>
                  </a:lnTo>
                  <a:lnTo>
                    <a:pt x="1636" y="300"/>
                  </a:lnTo>
                  <a:lnTo>
                    <a:pt x="1687" y="351"/>
                  </a:lnTo>
                  <a:lnTo>
                    <a:pt x="1752" y="383"/>
                  </a:lnTo>
                  <a:lnTo>
                    <a:pt x="1795" y="410"/>
                  </a:lnTo>
                  <a:lnTo>
                    <a:pt x="1841" y="439"/>
                  </a:lnTo>
                  <a:lnTo>
                    <a:pt x="1888" y="470"/>
                  </a:lnTo>
                  <a:lnTo>
                    <a:pt x="1932" y="498"/>
                  </a:lnTo>
                  <a:lnTo>
                    <a:pt x="1974" y="522"/>
                  </a:lnTo>
                  <a:lnTo>
                    <a:pt x="2007" y="536"/>
                  </a:lnTo>
                  <a:lnTo>
                    <a:pt x="2152" y="544"/>
                  </a:lnTo>
                  <a:lnTo>
                    <a:pt x="2372" y="491"/>
                  </a:lnTo>
                  <a:lnTo>
                    <a:pt x="2388" y="479"/>
                  </a:lnTo>
                  <a:lnTo>
                    <a:pt x="2445" y="445"/>
                  </a:lnTo>
                  <a:lnTo>
                    <a:pt x="2502" y="412"/>
                  </a:lnTo>
                  <a:lnTo>
                    <a:pt x="2556" y="382"/>
                  </a:lnTo>
                  <a:lnTo>
                    <a:pt x="2611" y="349"/>
                  </a:lnTo>
                  <a:lnTo>
                    <a:pt x="2662" y="315"/>
                  </a:lnTo>
                  <a:lnTo>
                    <a:pt x="2712" y="278"/>
                  </a:lnTo>
                  <a:lnTo>
                    <a:pt x="2761" y="234"/>
                  </a:lnTo>
                  <a:lnTo>
                    <a:pt x="2808" y="184"/>
                  </a:lnTo>
                  <a:lnTo>
                    <a:pt x="2855" y="120"/>
                  </a:lnTo>
                  <a:lnTo>
                    <a:pt x="2878" y="90"/>
                  </a:lnTo>
                  <a:lnTo>
                    <a:pt x="2901" y="60"/>
                  </a:lnTo>
                  <a:lnTo>
                    <a:pt x="2922" y="42"/>
                  </a:lnTo>
                  <a:lnTo>
                    <a:pt x="2944" y="33"/>
                  </a:lnTo>
                  <a:lnTo>
                    <a:pt x="2984" y="42"/>
                  </a:lnTo>
                  <a:lnTo>
                    <a:pt x="3006" y="75"/>
                  </a:lnTo>
                  <a:lnTo>
                    <a:pt x="3000" y="123"/>
                  </a:lnTo>
                  <a:lnTo>
                    <a:pt x="2971" y="190"/>
                  </a:lnTo>
                  <a:lnTo>
                    <a:pt x="2942" y="252"/>
                  </a:lnTo>
                  <a:lnTo>
                    <a:pt x="2925" y="281"/>
                  </a:lnTo>
                  <a:lnTo>
                    <a:pt x="2901" y="312"/>
                  </a:lnTo>
                  <a:lnTo>
                    <a:pt x="2872" y="343"/>
                  </a:lnTo>
                  <a:lnTo>
                    <a:pt x="2833" y="376"/>
                  </a:lnTo>
                  <a:lnTo>
                    <a:pt x="2972" y="398"/>
                  </a:lnTo>
                  <a:lnTo>
                    <a:pt x="3031" y="420"/>
                  </a:lnTo>
                  <a:lnTo>
                    <a:pt x="3089" y="443"/>
                  </a:lnTo>
                  <a:lnTo>
                    <a:pt x="3147" y="467"/>
                  </a:lnTo>
                  <a:lnTo>
                    <a:pt x="3211" y="489"/>
                  </a:lnTo>
                  <a:lnTo>
                    <a:pt x="3283" y="504"/>
                  </a:lnTo>
                  <a:lnTo>
                    <a:pt x="3367" y="510"/>
                  </a:lnTo>
                  <a:lnTo>
                    <a:pt x="3673" y="519"/>
                  </a:lnTo>
                  <a:lnTo>
                    <a:pt x="3814" y="551"/>
                  </a:lnTo>
                  <a:lnTo>
                    <a:pt x="3833" y="581"/>
                  </a:lnTo>
                  <a:lnTo>
                    <a:pt x="3823" y="598"/>
                  </a:lnTo>
                  <a:lnTo>
                    <a:pt x="3799" y="620"/>
                  </a:lnTo>
                  <a:lnTo>
                    <a:pt x="3770" y="641"/>
                  </a:lnTo>
                  <a:lnTo>
                    <a:pt x="3742" y="660"/>
                  </a:lnTo>
                  <a:lnTo>
                    <a:pt x="3714" y="679"/>
                  </a:lnTo>
                  <a:lnTo>
                    <a:pt x="3686" y="696"/>
                  </a:lnTo>
                  <a:lnTo>
                    <a:pt x="3633" y="724"/>
                  </a:lnTo>
                  <a:lnTo>
                    <a:pt x="3581" y="749"/>
                  </a:lnTo>
                  <a:lnTo>
                    <a:pt x="3531" y="768"/>
                  </a:lnTo>
                  <a:lnTo>
                    <a:pt x="3482" y="783"/>
                  </a:lnTo>
                  <a:lnTo>
                    <a:pt x="3391" y="800"/>
                  </a:lnTo>
                  <a:lnTo>
                    <a:pt x="3224" y="796"/>
                  </a:lnTo>
                  <a:lnTo>
                    <a:pt x="3075" y="759"/>
                  </a:lnTo>
                  <a:lnTo>
                    <a:pt x="3007" y="733"/>
                  </a:lnTo>
                  <a:lnTo>
                    <a:pt x="2941" y="706"/>
                  </a:lnTo>
                  <a:lnTo>
                    <a:pt x="2876" y="682"/>
                  </a:lnTo>
                  <a:lnTo>
                    <a:pt x="2813" y="662"/>
                  </a:lnTo>
                  <a:lnTo>
                    <a:pt x="2749" y="647"/>
                  </a:lnTo>
                  <a:lnTo>
                    <a:pt x="2686" y="643"/>
                  </a:lnTo>
                  <a:lnTo>
                    <a:pt x="2558" y="672"/>
                  </a:lnTo>
                  <a:lnTo>
                    <a:pt x="2502" y="697"/>
                  </a:lnTo>
                  <a:lnTo>
                    <a:pt x="2450" y="718"/>
                  </a:lnTo>
                  <a:lnTo>
                    <a:pt x="2400" y="735"/>
                  </a:lnTo>
                  <a:lnTo>
                    <a:pt x="2354" y="752"/>
                  </a:lnTo>
                  <a:lnTo>
                    <a:pt x="2271" y="774"/>
                  </a:lnTo>
                  <a:lnTo>
                    <a:pt x="2198" y="787"/>
                  </a:lnTo>
                  <a:lnTo>
                    <a:pt x="2074" y="790"/>
                  </a:lnTo>
                  <a:lnTo>
                    <a:pt x="1971" y="771"/>
                  </a:lnTo>
                  <a:lnTo>
                    <a:pt x="1873" y="738"/>
                  </a:lnTo>
                  <a:lnTo>
                    <a:pt x="1822" y="722"/>
                  </a:lnTo>
                  <a:lnTo>
                    <a:pt x="1769" y="707"/>
                  </a:lnTo>
                  <a:lnTo>
                    <a:pt x="1645" y="685"/>
                  </a:lnTo>
                  <a:lnTo>
                    <a:pt x="1488" y="685"/>
                  </a:lnTo>
                  <a:lnTo>
                    <a:pt x="1134" y="725"/>
                  </a:lnTo>
                  <a:lnTo>
                    <a:pt x="951" y="750"/>
                  </a:lnTo>
                  <a:lnTo>
                    <a:pt x="769" y="772"/>
                  </a:lnTo>
                  <a:lnTo>
                    <a:pt x="586" y="786"/>
                  </a:lnTo>
                  <a:lnTo>
                    <a:pt x="404" y="787"/>
                  </a:lnTo>
                  <a:lnTo>
                    <a:pt x="226" y="772"/>
                  </a:lnTo>
                  <a:lnTo>
                    <a:pt x="50" y="734"/>
                  </a:lnTo>
                  <a:lnTo>
                    <a:pt x="9" y="706"/>
                  </a:lnTo>
                  <a:lnTo>
                    <a:pt x="0" y="668"/>
                  </a:lnTo>
                  <a:lnTo>
                    <a:pt x="21" y="632"/>
                  </a:lnTo>
                  <a:lnTo>
                    <a:pt x="68" y="617"/>
                  </a:lnTo>
                  <a:lnTo>
                    <a:pt x="260" y="612"/>
                  </a:lnTo>
                  <a:lnTo>
                    <a:pt x="437" y="588"/>
                  </a:lnTo>
                  <a:lnTo>
                    <a:pt x="602" y="554"/>
                  </a:lnTo>
                  <a:lnTo>
                    <a:pt x="680" y="533"/>
                  </a:lnTo>
                  <a:lnTo>
                    <a:pt x="758" y="511"/>
                  </a:lnTo>
                  <a:lnTo>
                    <a:pt x="835" y="489"/>
                  </a:lnTo>
                  <a:lnTo>
                    <a:pt x="910" y="466"/>
                  </a:lnTo>
                  <a:lnTo>
                    <a:pt x="985" y="443"/>
                  </a:lnTo>
                  <a:lnTo>
                    <a:pt x="1061" y="421"/>
                  </a:lnTo>
                  <a:lnTo>
                    <a:pt x="1137" y="401"/>
                  </a:lnTo>
                  <a:lnTo>
                    <a:pt x="1215" y="382"/>
                  </a:lnTo>
                  <a:lnTo>
                    <a:pt x="1294" y="365"/>
                  </a:lnTo>
                  <a:lnTo>
                    <a:pt x="1375" y="351"/>
                  </a:lnTo>
                  <a:lnTo>
                    <a:pt x="1344" y="230"/>
                  </a:lnTo>
                  <a:lnTo>
                    <a:pt x="1317" y="123"/>
                  </a:lnTo>
                  <a:lnTo>
                    <a:pt x="1314" y="79"/>
                  </a:lnTo>
                  <a:lnTo>
                    <a:pt x="1325" y="44"/>
                  </a:lnTo>
                  <a:lnTo>
                    <a:pt x="1348" y="16"/>
                  </a:lnTo>
                  <a:lnTo>
                    <a:pt x="1379" y="0"/>
                  </a:lnTo>
                  <a:lnTo>
                    <a:pt x="1448" y="2"/>
                  </a:lnTo>
                  <a:lnTo>
                    <a:pt x="1503" y="61"/>
                  </a:lnTo>
                  <a:lnTo>
                    <a:pt x="150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86200" y="2001240"/>
              <a:ext cx="1572120" cy="444960"/>
            </a:xfrm>
            <a:custGeom>
              <a:avLst/>
              <a:gdLst/>
              <a:ahLst/>
              <a:rect l="l" t="t" r="r" b="b"/>
              <a:pathLst>
                <a:path w="4424" h="1254">
                  <a:moveTo>
                    <a:pt x="2644" y="170"/>
                  </a:moveTo>
                  <a:lnTo>
                    <a:pt x="2712" y="136"/>
                  </a:lnTo>
                  <a:lnTo>
                    <a:pt x="2776" y="108"/>
                  </a:lnTo>
                  <a:lnTo>
                    <a:pt x="2833" y="82"/>
                  </a:lnTo>
                  <a:lnTo>
                    <a:pt x="2888" y="59"/>
                  </a:lnTo>
                  <a:lnTo>
                    <a:pt x="2939" y="42"/>
                  </a:lnTo>
                  <a:lnTo>
                    <a:pt x="2987" y="27"/>
                  </a:lnTo>
                  <a:lnTo>
                    <a:pt x="3071" y="6"/>
                  </a:lnTo>
                  <a:lnTo>
                    <a:pt x="3211" y="3"/>
                  </a:lnTo>
                  <a:lnTo>
                    <a:pt x="3324" y="48"/>
                  </a:lnTo>
                  <a:lnTo>
                    <a:pt x="3379" y="85"/>
                  </a:lnTo>
                  <a:lnTo>
                    <a:pt x="3433" y="130"/>
                  </a:lnTo>
                  <a:lnTo>
                    <a:pt x="3491" y="186"/>
                  </a:lnTo>
                  <a:lnTo>
                    <a:pt x="3522" y="217"/>
                  </a:lnTo>
                  <a:lnTo>
                    <a:pt x="3554" y="250"/>
                  </a:lnTo>
                  <a:lnTo>
                    <a:pt x="3588" y="285"/>
                  </a:lnTo>
                  <a:lnTo>
                    <a:pt x="3625" y="322"/>
                  </a:lnTo>
                  <a:lnTo>
                    <a:pt x="3665" y="360"/>
                  </a:lnTo>
                  <a:lnTo>
                    <a:pt x="3706" y="400"/>
                  </a:lnTo>
                  <a:lnTo>
                    <a:pt x="3750" y="441"/>
                  </a:lnTo>
                  <a:lnTo>
                    <a:pt x="3799" y="484"/>
                  </a:lnTo>
                  <a:lnTo>
                    <a:pt x="3851" y="528"/>
                  </a:lnTo>
                  <a:lnTo>
                    <a:pt x="3907" y="574"/>
                  </a:lnTo>
                  <a:lnTo>
                    <a:pt x="3941" y="596"/>
                  </a:lnTo>
                  <a:lnTo>
                    <a:pt x="3978" y="623"/>
                  </a:lnTo>
                  <a:lnTo>
                    <a:pt x="4025" y="655"/>
                  </a:lnTo>
                  <a:lnTo>
                    <a:pt x="4051" y="673"/>
                  </a:lnTo>
                  <a:lnTo>
                    <a:pt x="4078" y="694"/>
                  </a:lnTo>
                  <a:lnTo>
                    <a:pt x="4107" y="714"/>
                  </a:lnTo>
                  <a:lnTo>
                    <a:pt x="4137" y="735"/>
                  </a:lnTo>
                  <a:lnTo>
                    <a:pt x="4166" y="757"/>
                  </a:lnTo>
                  <a:lnTo>
                    <a:pt x="4196" y="779"/>
                  </a:lnTo>
                  <a:lnTo>
                    <a:pt x="4255" y="825"/>
                  </a:lnTo>
                  <a:lnTo>
                    <a:pt x="4308" y="869"/>
                  </a:lnTo>
                  <a:lnTo>
                    <a:pt x="4357" y="910"/>
                  </a:lnTo>
                  <a:lnTo>
                    <a:pt x="4420" y="980"/>
                  </a:lnTo>
                  <a:lnTo>
                    <a:pt x="4424" y="1018"/>
                  </a:lnTo>
                  <a:lnTo>
                    <a:pt x="4346" y="1015"/>
                  </a:lnTo>
                  <a:lnTo>
                    <a:pt x="4264" y="995"/>
                  </a:lnTo>
                  <a:lnTo>
                    <a:pt x="4186" y="972"/>
                  </a:lnTo>
                  <a:lnTo>
                    <a:pt x="4110" y="946"/>
                  </a:lnTo>
                  <a:lnTo>
                    <a:pt x="4041" y="918"/>
                  </a:lnTo>
                  <a:lnTo>
                    <a:pt x="3973" y="888"/>
                  </a:lnTo>
                  <a:lnTo>
                    <a:pt x="3910" y="857"/>
                  </a:lnTo>
                  <a:lnTo>
                    <a:pt x="3848" y="825"/>
                  </a:lnTo>
                  <a:lnTo>
                    <a:pt x="3790" y="792"/>
                  </a:lnTo>
                  <a:lnTo>
                    <a:pt x="3736" y="759"/>
                  </a:lnTo>
                  <a:lnTo>
                    <a:pt x="3683" y="723"/>
                  </a:lnTo>
                  <a:lnTo>
                    <a:pt x="3632" y="689"/>
                  </a:lnTo>
                  <a:lnTo>
                    <a:pt x="3582" y="655"/>
                  </a:lnTo>
                  <a:lnTo>
                    <a:pt x="3537" y="621"/>
                  </a:lnTo>
                  <a:lnTo>
                    <a:pt x="3491" y="587"/>
                  </a:lnTo>
                  <a:lnTo>
                    <a:pt x="3447" y="555"/>
                  </a:lnTo>
                  <a:lnTo>
                    <a:pt x="3402" y="524"/>
                  </a:lnTo>
                  <a:lnTo>
                    <a:pt x="3360" y="495"/>
                  </a:lnTo>
                  <a:lnTo>
                    <a:pt x="3318" y="468"/>
                  </a:lnTo>
                  <a:lnTo>
                    <a:pt x="3276" y="441"/>
                  </a:lnTo>
                  <a:lnTo>
                    <a:pt x="3234" y="419"/>
                  </a:lnTo>
                  <a:lnTo>
                    <a:pt x="3193" y="399"/>
                  </a:lnTo>
                  <a:lnTo>
                    <a:pt x="3150" y="381"/>
                  </a:lnTo>
                  <a:lnTo>
                    <a:pt x="3063" y="356"/>
                  </a:lnTo>
                  <a:lnTo>
                    <a:pt x="2972" y="346"/>
                  </a:lnTo>
                  <a:lnTo>
                    <a:pt x="2874" y="353"/>
                  </a:lnTo>
                  <a:lnTo>
                    <a:pt x="2768" y="381"/>
                  </a:lnTo>
                  <a:lnTo>
                    <a:pt x="2712" y="402"/>
                  </a:lnTo>
                  <a:lnTo>
                    <a:pt x="2653" y="430"/>
                  </a:lnTo>
                  <a:lnTo>
                    <a:pt x="2636" y="459"/>
                  </a:lnTo>
                  <a:lnTo>
                    <a:pt x="2616" y="484"/>
                  </a:lnTo>
                  <a:lnTo>
                    <a:pt x="2578" y="524"/>
                  </a:lnTo>
                  <a:lnTo>
                    <a:pt x="2537" y="548"/>
                  </a:lnTo>
                  <a:lnTo>
                    <a:pt x="2492" y="561"/>
                  </a:lnTo>
                  <a:lnTo>
                    <a:pt x="2395" y="559"/>
                  </a:lnTo>
                  <a:lnTo>
                    <a:pt x="2283" y="533"/>
                  </a:lnTo>
                  <a:lnTo>
                    <a:pt x="2226" y="509"/>
                  </a:lnTo>
                  <a:lnTo>
                    <a:pt x="2168" y="475"/>
                  </a:lnTo>
                  <a:lnTo>
                    <a:pt x="2140" y="455"/>
                  </a:lnTo>
                  <a:lnTo>
                    <a:pt x="2110" y="434"/>
                  </a:lnTo>
                  <a:lnTo>
                    <a:pt x="2054" y="390"/>
                  </a:lnTo>
                  <a:lnTo>
                    <a:pt x="2025" y="369"/>
                  </a:lnTo>
                  <a:lnTo>
                    <a:pt x="1997" y="349"/>
                  </a:lnTo>
                  <a:lnTo>
                    <a:pt x="1967" y="329"/>
                  </a:lnTo>
                  <a:lnTo>
                    <a:pt x="1939" y="313"/>
                  </a:lnTo>
                  <a:lnTo>
                    <a:pt x="1880" y="288"/>
                  </a:lnTo>
                  <a:lnTo>
                    <a:pt x="1821" y="279"/>
                  </a:lnTo>
                  <a:lnTo>
                    <a:pt x="1715" y="297"/>
                  </a:lnTo>
                  <a:lnTo>
                    <a:pt x="1650" y="316"/>
                  </a:lnTo>
                  <a:lnTo>
                    <a:pt x="1577" y="341"/>
                  </a:lnTo>
                  <a:lnTo>
                    <a:pt x="1498" y="374"/>
                  </a:lnTo>
                  <a:lnTo>
                    <a:pt x="1416" y="409"/>
                  </a:lnTo>
                  <a:lnTo>
                    <a:pt x="1375" y="428"/>
                  </a:lnTo>
                  <a:lnTo>
                    <a:pt x="1332" y="449"/>
                  </a:lnTo>
                  <a:lnTo>
                    <a:pt x="1288" y="469"/>
                  </a:lnTo>
                  <a:lnTo>
                    <a:pt x="1245" y="490"/>
                  </a:lnTo>
                  <a:lnTo>
                    <a:pt x="1202" y="512"/>
                  </a:lnTo>
                  <a:lnTo>
                    <a:pt x="1158" y="534"/>
                  </a:lnTo>
                  <a:lnTo>
                    <a:pt x="1116" y="556"/>
                  </a:lnTo>
                  <a:lnTo>
                    <a:pt x="1074" y="579"/>
                  </a:lnTo>
                  <a:lnTo>
                    <a:pt x="1032" y="602"/>
                  </a:lnTo>
                  <a:lnTo>
                    <a:pt x="993" y="624"/>
                  </a:lnTo>
                  <a:lnTo>
                    <a:pt x="953" y="646"/>
                  </a:lnTo>
                  <a:lnTo>
                    <a:pt x="914" y="669"/>
                  </a:lnTo>
                  <a:lnTo>
                    <a:pt x="878" y="691"/>
                  </a:lnTo>
                  <a:lnTo>
                    <a:pt x="844" y="711"/>
                  </a:lnTo>
                  <a:lnTo>
                    <a:pt x="810" y="732"/>
                  </a:lnTo>
                  <a:lnTo>
                    <a:pt x="779" y="751"/>
                  </a:lnTo>
                  <a:lnTo>
                    <a:pt x="723" y="788"/>
                  </a:lnTo>
                  <a:lnTo>
                    <a:pt x="678" y="820"/>
                  </a:lnTo>
                  <a:lnTo>
                    <a:pt x="612" y="875"/>
                  </a:lnTo>
                  <a:lnTo>
                    <a:pt x="577" y="909"/>
                  </a:lnTo>
                  <a:lnTo>
                    <a:pt x="540" y="944"/>
                  </a:lnTo>
                  <a:lnTo>
                    <a:pt x="503" y="980"/>
                  </a:lnTo>
                  <a:lnTo>
                    <a:pt x="465" y="1018"/>
                  </a:lnTo>
                  <a:lnTo>
                    <a:pt x="425" y="1055"/>
                  </a:lnTo>
                  <a:lnTo>
                    <a:pt x="385" y="1092"/>
                  </a:lnTo>
                  <a:lnTo>
                    <a:pt x="344" y="1127"/>
                  </a:lnTo>
                  <a:lnTo>
                    <a:pt x="302" y="1158"/>
                  </a:lnTo>
                  <a:lnTo>
                    <a:pt x="263" y="1188"/>
                  </a:lnTo>
                  <a:lnTo>
                    <a:pt x="221" y="1213"/>
                  </a:lnTo>
                  <a:lnTo>
                    <a:pt x="180" y="1232"/>
                  </a:lnTo>
                  <a:lnTo>
                    <a:pt x="139" y="1247"/>
                  </a:lnTo>
                  <a:lnTo>
                    <a:pt x="59" y="1254"/>
                  </a:lnTo>
                  <a:lnTo>
                    <a:pt x="15" y="1235"/>
                  </a:lnTo>
                  <a:lnTo>
                    <a:pt x="0" y="1197"/>
                  </a:lnTo>
                  <a:lnTo>
                    <a:pt x="10" y="1155"/>
                  </a:lnTo>
                  <a:lnTo>
                    <a:pt x="28" y="1138"/>
                  </a:lnTo>
                  <a:lnTo>
                    <a:pt x="52" y="1127"/>
                  </a:lnTo>
                  <a:lnTo>
                    <a:pt x="128" y="1093"/>
                  </a:lnTo>
                  <a:lnTo>
                    <a:pt x="168" y="1070"/>
                  </a:lnTo>
                  <a:lnTo>
                    <a:pt x="208" y="1043"/>
                  </a:lnTo>
                  <a:lnTo>
                    <a:pt x="249" y="1012"/>
                  </a:lnTo>
                  <a:lnTo>
                    <a:pt x="291" y="977"/>
                  </a:lnTo>
                  <a:lnTo>
                    <a:pt x="333" y="938"/>
                  </a:lnTo>
                  <a:lnTo>
                    <a:pt x="376" y="899"/>
                  </a:lnTo>
                  <a:lnTo>
                    <a:pt x="420" y="856"/>
                  </a:lnTo>
                  <a:lnTo>
                    <a:pt x="466" y="810"/>
                  </a:lnTo>
                  <a:lnTo>
                    <a:pt x="512" y="764"/>
                  </a:lnTo>
                  <a:lnTo>
                    <a:pt x="559" y="716"/>
                  </a:lnTo>
                  <a:lnTo>
                    <a:pt x="608" y="667"/>
                  </a:lnTo>
                  <a:lnTo>
                    <a:pt x="656" y="617"/>
                  </a:lnTo>
                  <a:lnTo>
                    <a:pt x="708" y="567"/>
                  </a:lnTo>
                  <a:lnTo>
                    <a:pt x="760" y="518"/>
                  </a:lnTo>
                  <a:lnTo>
                    <a:pt x="814" y="468"/>
                  </a:lnTo>
                  <a:lnTo>
                    <a:pt x="869" y="419"/>
                  </a:lnTo>
                  <a:lnTo>
                    <a:pt x="926" y="371"/>
                  </a:lnTo>
                  <a:lnTo>
                    <a:pt x="984" y="325"/>
                  </a:lnTo>
                  <a:lnTo>
                    <a:pt x="1013" y="301"/>
                  </a:lnTo>
                  <a:lnTo>
                    <a:pt x="1043" y="279"/>
                  </a:lnTo>
                  <a:lnTo>
                    <a:pt x="1074" y="259"/>
                  </a:lnTo>
                  <a:lnTo>
                    <a:pt x="1105" y="238"/>
                  </a:lnTo>
                  <a:lnTo>
                    <a:pt x="1136" y="217"/>
                  </a:lnTo>
                  <a:lnTo>
                    <a:pt x="1168" y="197"/>
                  </a:lnTo>
                  <a:lnTo>
                    <a:pt x="1199" y="177"/>
                  </a:lnTo>
                  <a:lnTo>
                    <a:pt x="1233" y="160"/>
                  </a:lnTo>
                  <a:lnTo>
                    <a:pt x="1265" y="142"/>
                  </a:lnTo>
                  <a:lnTo>
                    <a:pt x="1299" y="124"/>
                  </a:lnTo>
                  <a:lnTo>
                    <a:pt x="1367" y="95"/>
                  </a:lnTo>
                  <a:lnTo>
                    <a:pt x="1438" y="67"/>
                  </a:lnTo>
                  <a:lnTo>
                    <a:pt x="1510" y="45"/>
                  </a:lnTo>
                  <a:lnTo>
                    <a:pt x="1585" y="26"/>
                  </a:lnTo>
                  <a:lnTo>
                    <a:pt x="1662" y="12"/>
                  </a:lnTo>
                  <a:lnTo>
                    <a:pt x="1821" y="0"/>
                  </a:lnTo>
                  <a:lnTo>
                    <a:pt x="1911" y="26"/>
                  </a:lnTo>
                  <a:lnTo>
                    <a:pt x="1960" y="52"/>
                  </a:lnTo>
                  <a:lnTo>
                    <a:pt x="2012" y="85"/>
                  </a:lnTo>
                  <a:lnTo>
                    <a:pt x="2038" y="104"/>
                  </a:lnTo>
                  <a:lnTo>
                    <a:pt x="2066" y="123"/>
                  </a:lnTo>
                  <a:lnTo>
                    <a:pt x="2093" y="144"/>
                  </a:lnTo>
                  <a:lnTo>
                    <a:pt x="2119" y="163"/>
                  </a:lnTo>
                  <a:lnTo>
                    <a:pt x="2147" y="183"/>
                  </a:lnTo>
                  <a:lnTo>
                    <a:pt x="2175" y="203"/>
                  </a:lnTo>
                  <a:lnTo>
                    <a:pt x="2203" y="222"/>
                  </a:lnTo>
                  <a:lnTo>
                    <a:pt x="2231" y="239"/>
                  </a:lnTo>
                  <a:lnTo>
                    <a:pt x="2287" y="272"/>
                  </a:lnTo>
                  <a:lnTo>
                    <a:pt x="2344" y="297"/>
                  </a:lnTo>
                  <a:lnTo>
                    <a:pt x="2398" y="313"/>
                  </a:lnTo>
                  <a:lnTo>
                    <a:pt x="2451" y="318"/>
                  </a:lnTo>
                  <a:lnTo>
                    <a:pt x="2553" y="281"/>
                  </a:lnTo>
                  <a:lnTo>
                    <a:pt x="2600" y="236"/>
                  </a:lnTo>
                  <a:lnTo>
                    <a:pt x="2644" y="170"/>
                  </a:lnTo>
                  <a:lnTo>
                    <a:pt x="2644"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6927840" y="1719360"/>
            <a:ext cx="1531800" cy="1393560"/>
            <a:chOff x="6927840" y="1719360"/>
            <a:chExt cx="1531800" cy="1393560"/>
          </a:xfrm>
        </p:grpSpPr>
        <p:grpSp>
          <p:nvGrpSpPr>
            <p:cNvPr id="584" name=""/>
            <p:cNvGrpSpPr/>
            <p:nvPr/>
          </p:nvGrpSpPr>
          <p:grpSpPr>
            <a:xfrm>
              <a:off x="6927840" y="1719360"/>
              <a:ext cx="1531800" cy="1393560"/>
              <a:chOff x="6927840" y="1719360"/>
              <a:chExt cx="1531800" cy="1393560"/>
            </a:xfrm>
          </p:grpSpPr>
          <p:sp>
            <p:nvSpPr>
              <p:cNvPr id="585" name=""/>
              <p:cNvSpPr/>
              <p:nvPr/>
            </p:nvSpPr>
            <p:spPr>
              <a:xfrm>
                <a:off x="6927840" y="1719360"/>
                <a:ext cx="1531800" cy="139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948360" y="1736640"/>
                <a:ext cx="1494000" cy="1363680"/>
              </a:xfrm>
              <a:custGeom>
                <a:avLst/>
                <a:gdLst/>
                <a:ahLst/>
                <a:rect l="l" t="t" r="r" b="b"/>
                <a:pathLst>
                  <a:path w="2823" h="2579">
                    <a:moveTo>
                      <a:pt x="2789" y="2560"/>
                    </a:moveTo>
                    <a:lnTo>
                      <a:pt x="2703" y="2560"/>
                    </a:lnTo>
                    <a:lnTo>
                      <a:pt x="2617" y="2560"/>
                    </a:lnTo>
                    <a:lnTo>
                      <a:pt x="2531" y="2560"/>
                    </a:lnTo>
                    <a:lnTo>
                      <a:pt x="2444" y="2560"/>
                    </a:lnTo>
                    <a:lnTo>
                      <a:pt x="2359" y="2562"/>
                    </a:lnTo>
                    <a:lnTo>
                      <a:pt x="2272" y="2562"/>
                    </a:lnTo>
                    <a:lnTo>
                      <a:pt x="2186" y="2562"/>
                    </a:lnTo>
                    <a:lnTo>
                      <a:pt x="2100" y="2562"/>
                    </a:lnTo>
                    <a:lnTo>
                      <a:pt x="2013" y="2562"/>
                    </a:lnTo>
                    <a:lnTo>
                      <a:pt x="1928" y="2562"/>
                    </a:lnTo>
                    <a:lnTo>
                      <a:pt x="1841" y="2562"/>
                    </a:lnTo>
                    <a:lnTo>
                      <a:pt x="1754" y="2563"/>
                    </a:lnTo>
                    <a:lnTo>
                      <a:pt x="1667" y="2563"/>
                    </a:lnTo>
                    <a:lnTo>
                      <a:pt x="1582" y="2563"/>
                    </a:lnTo>
                    <a:lnTo>
                      <a:pt x="1495" y="2563"/>
                    </a:lnTo>
                    <a:lnTo>
                      <a:pt x="1409" y="2564"/>
                    </a:lnTo>
                    <a:lnTo>
                      <a:pt x="1322" y="2564"/>
                    </a:lnTo>
                    <a:lnTo>
                      <a:pt x="1236" y="2564"/>
                    </a:lnTo>
                    <a:lnTo>
                      <a:pt x="1150" y="2566"/>
                    </a:lnTo>
                    <a:lnTo>
                      <a:pt x="1063" y="2566"/>
                    </a:lnTo>
                    <a:lnTo>
                      <a:pt x="976" y="2567"/>
                    </a:lnTo>
                    <a:lnTo>
                      <a:pt x="889" y="2567"/>
                    </a:lnTo>
                    <a:lnTo>
                      <a:pt x="803" y="2569"/>
                    </a:lnTo>
                    <a:lnTo>
                      <a:pt x="716" y="2569"/>
                    </a:lnTo>
                    <a:lnTo>
                      <a:pt x="631" y="2570"/>
                    </a:lnTo>
                    <a:lnTo>
                      <a:pt x="544" y="2572"/>
                    </a:lnTo>
                    <a:lnTo>
                      <a:pt x="457" y="2573"/>
                    </a:lnTo>
                    <a:lnTo>
                      <a:pt x="369" y="2573"/>
                    </a:lnTo>
                    <a:lnTo>
                      <a:pt x="282" y="2575"/>
                    </a:lnTo>
                    <a:lnTo>
                      <a:pt x="195" y="2576"/>
                    </a:lnTo>
                    <a:lnTo>
                      <a:pt x="108" y="2577"/>
                    </a:lnTo>
                    <a:lnTo>
                      <a:pt x="22" y="2579"/>
                    </a:lnTo>
                    <a:lnTo>
                      <a:pt x="13" y="2573"/>
                    </a:lnTo>
                    <a:lnTo>
                      <a:pt x="10" y="2398"/>
                    </a:lnTo>
                    <a:lnTo>
                      <a:pt x="10" y="2223"/>
                    </a:lnTo>
                    <a:lnTo>
                      <a:pt x="10" y="2047"/>
                    </a:lnTo>
                    <a:lnTo>
                      <a:pt x="10" y="1871"/>
                    </a:lnTo>
                    <a:lnTo>
                      <a:pt x="4" y="1407"/>
                    </a:lnTo>
                    <a:lnTo>
                      <a:pt x="3" y="948"/>
                    </a:lnTo>
                    <a:lnTo>
                      <a:pt x="1" y="490"/>
                    </a:lnTo>
                    <a:lnTo>
                      <a:pt x="0" y="32"/>
                    </a:lnTo>
                    <a:lnTo>
                      <a:pt x="28" y="17"/>
                    </a:lnTo>
                    <a:lnTo>
                      <a:pt x="78" y="17"/>
                    </a:lnTo>
                    <a:lnTo>
                      <a:pt x="129" y="16"/>
                    </a:lnTo>
                    <a:lnTo>
                      <a:pt x="179" y="16"/>
                    </a:lnTo>
                    <a:lnTo>
                      <a:pt x="230" y="14"/>
                    </a:lnTo>
                    <a:lnTo>
                      <a:pt x="282" y="14"/>
                    </a:lnTo>
                    <a:lnTo>
                      <a:pt x="333" y="14"/>
                    </a:lnTo>
                    <a:lnTo>
                      <a:pt x="383" y="13"/>
                    </a:lnTo>
                    <a:lnTo>
                      <a:pt x="434" y="13"/>
                    </a:lnTo>
                    <a:lnTo>
                      <a:pt x="484" y="13"/>
                    </a:lnTo>
                    <a:lnTo>
                      <a:pt x="535" y="13"/>
                    </a:lnTo>
                    <a:lnTo>
                      <a:pt x="586" y="11"/>
                    </a:lnTo>
                    <a:lnTo>
                      <a:pt x="636" y="11"/>
                    </a:lnTo>
                    <a:lnTo>
                      <a:pt x="687" y="11"/>
                    </a:lnTo>
                    <a:lnTo>
                      <a:pt x="738" y="11"/>
                    </a:lnTo>
                    <a:lnTo>
                      <a:pt x="788" y="10"/>
                    </a:lnTo>
                    <a:lnTo>
                      <a:pt x="839" y="10"/>
                    </a:lnTo>
                    <a:lnTo>
                      <a:pt x="889" y="10"/>
                    </a:lnTo>
                    <a:lnTo>
                      <a:pt x="940" y="10"/>
                    </a:lnTo>
                    <a:lnTo>
                      <a:pt x="991" y="10"/>
                    </a:lnTo>
                    <a:lnTo>
                      <a:pt x="1041" y="10"/>
                    </a:lnTo>
                    <a:lnTo>
                      <a:pt x="1092" y="8"/>
                    </a:lnTo>
                    <a:lnTo>
                      <a:pt x="1142" y="8"/>
                    </a:lnTo>
                    <a:lnTo>
                      <a:pt x="1194" y="8"/>
                    </a:lnTo>
                    <a:lnTo>
                      <a:pt x="1245" y="8"/>
                    </a:lnTo>
                    <a:lnTo>
                      <a:pt x="1296" y="8"/>
                    </a:lnTo>
                    <a:lnTo>
                      <a:pt x="1346" y="7"/>
                    </a:lnTo>
                    <a:lnTo>
                      <a:pt x="1397" y="7"/>
                    </a:lnTo>
                    <a:lnTo>
                      <a:pt x="1448" y="7"/>
                    </a:lnTo>
                    <a:lnTo>
                      <a:pt x="1498" y="7"/>
                    </a:lnTo>
                    <a:lnTo>
                      <a:pt x="1550" y="7"/>
                    </a:lnTo>
                    <a:lnTo>
                      <a:pt x="1601" y="6"/>
                    </a:lnTo>
                    <a:lnTo>
                      <a:pt x="1651" y="6"/>
                    </a:lnTo>
                    <a:lnTo>
                      <a:pt x="1688" y="6"/>
                    </a:lnTo>
                    <a:lnTo>
                      <a:pt x="1725" y="6"/>
                    </a:lnTo>
                    <a:lnTo>
                      <a:pt x="1761" y="6"/>
                    </a:lnTo>
                    <a:lnTo>
                      <a:pt x="1797" y="6"/>
                    </a:lnTo>
                    <a:lnTo>
                      <a:pt x="1834" y="6"/>
                    </a:lnTo>
                    <a:lnTo>
                      <a:pt x="1871" y="6"/>
                    </a:lnTo>
                    <a:lnTo>
                      <a:pt x="1907" y="6"/>
                    </a:lnTo>
                    <a:lnTo>
                      <a:pt x="1944" y="6"/>
                    </a:lnTo>
                    <a:lnTo>
                      <a:pt x="1980" y="4"/>
                    </a:lnTo>
                    <a:lnTo>
                      <a:pt x="2016" y="4"/>
                    </a:lnTo>
                    <a:lnTo>
                      <a:pt x="2052" y="4"/>
                    </a:lnTo>
                    <a:lnTo>
                      <a:pt x="2088" y="4"/>
                    </a:lnTo>
                    <a:lnTo>
                      <a:pt x="2124" y="3"/>
                    </a:lnTo>
                    <a:lnTo>
                      <a:pt x="2160" y="3"/>
                    </a:lnTo>
                    <a:lnTo>
                      <a:pt x="2195" y="3"/>
                    </a:lnTo>
                    <a:lnTo>
                      <a:pt x="2231" y="3"/>
                    </a:lnTo>
                    <a:lnTo>
                      <a:pt x="2267" y="1"/>
                    </a:lnTo>
                    <a:lnTo>
                      <a:pt x="2304" y="1"/>
                    </a:lnTo>
                    <a:lnTo>
                      <a:pt x="2338" y="1"/>
                    </a:lnTo>
                    <a:lnTo>
                      <a:pt x="2374" y="1"/>
                    </a:lnTo>
                    <a:lnTo>
                      <a:pt x="2411" y="1"/>
                    </a:lnTo>
                    <a:lnTo>
                      <a:pt x="2445" y="1"/>
                    </a:lnTo>
                    <a:lnTo>
                      <a:pt x="2481" y="0"/>
                    </a:lnTo>
                    <a:lnTo>
                      <a:pt x="2516" y="0"/>
                    </a:lnTo>
                    <a:lnTo>
                      <a:pt x="2552" y="1"/>
                    </a:lnTo>
                    <a:lnTo>
                      <a:pt x="2587" y="1"/>
                    </a:lnTo>
                    <a:lnTo>
                      <a:pt x="2623" y="1"/>
                    </a:lnTo>
                    <a:lnTo>
                      <a:pt x="2658" y="1"/>
                    </a:lnTo>
                    <a:lnTo>
                      <a:pt x="2694" y="1"/>
                    </a:lnTo>
                    <a:lnTo>
                      <a:pt x="2729" y="3"/>
                    </a:lnTo>
                    <a:lnTo>
                      <a:pt x="2765" y="3"/>
                    </a:lnTo>
                    <a:lnTo>
                      <a:pt x="2800" y="4"/>
                    </a:lnTo>
                    <a:lnTo>
                      <a:pt x="2811" y="24"/>
                    </a:lnTo>
                    <a:lnTo>
                      <a:pt x="2813" y="605"/>
                    </a:lnTo>
                    <a:lnTo>
                      <a:pt x="2817" y="1187"/>
                    </a:lnTo>
                    <a:lnTo>
                      <a:pt x="2820" y="1770"/>
                    </a:lnTo>
                    <a:lnTo>
                      <a:pt x="2821" y="2351"/>
                    </a:lnTo>
                    <a:lnTo>
                      <a:pt x="2821" y="2405"/>
                    </a:lnTo>
                    <a:lnTo>
                      <a:pt x="2823" y="2459"/>
                    </a:lnTo>
                    <a:lnTo>
                      <a:pt x="2821" y="2510"/>
                    </a:lnTo>
                    <a:lnTo>
                      <a:pt x="2816" y="2556"/>
                    </a:lnTo>
                    <a:lnTo>
                      <a:pt x="2789" y="2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7615080" y="2595600"/>
                <a:ext cx="812880" cy="484200"/>
              </a:xfrm>
              <a:custGeom>
                <a:avLst/>
                <a:gdLst/>
                <a:ahLst/>
                <a:rect l="l" t="t" r="r" b="b"/>
                <a:pathLst>
                  <a:path w="1534" h="916">
                    <a:moveTo>
                      <a:pt x="1394" y="909"/>
                    </a:moveTo>
                    <a:lnTo>
                      <a:pt x="1351" y="909"/>
                    </a:lnTo>
                    <a:lnTo>
                      <a:pt x="1307" y="909"/>
                    </a:lnTo>
                    <a:lnTo>
                      <a:pt x="1264" y="909"/>
                    </a:lnTo>
                    <a:lnTo>
                      <a:pt x="1222" y="910"/>
                    </a:lnTo>
                    <a:lnTo>
                      <a:pt x="1179" y="910"/>
                    </a:lnTo>
                    <a:lnTo>
                      <a:pt x="1135" y="910"/>
                    </a:lnTo>
                    <a:lnTo>
                      <a:pt x="1092" y="910"/>
                    </a:lnTo>
                    <a:lnTo>
                      <a:pt x="1048" y="910"/>
                    </a:lnTo>
                    <a:lnTo>
                      <a:pt x="1005" y="912"/>
                    </a:lnTo>
                    <a:lnTo>
                      <a:pt x="962" y="912"/>
                    </a:lnTo>
                    <a:lnTo>
                      <a:pt x="918" y="912"/>
                    </a:lnTo>
                    <a:lnTo>
                      <a:pt x="875" y="913"/>
                    </a:lnTo>
                    <a:lnTo>
                      <a:pt x="831" y="913"/>
                    </a:lnTo>
                    <a:lnTo>
                      <a:pt x="787" y="913"/>
                    </a:lnTo>
                    <a:lnTo>
                      <a:pt x="743" y="913"/>
                    </a:lnTo>
                    <a:lnTo>
                      <a:pt x="700" y="914"/>
                    </a:lnTo>
                    <a:lnTo>
                      <a:pt x="657" y="914"/>
                    </a:lnTo>
                    <a:lnTo>
                      <a:pt x="613" y="914"/>
                    </a:lnTo>
                    <a:lnTo>
                      <a:pt x="570" y="914"/>
                    </a:lnTo>
                    <a:lnTo>
                      <a:pt x="526" y="916"/>
                    </a:lnTo>
                    <a:lnTo>
                      <a:pt x="482" y="916"/>
                    </a:lnTo>
                    <a:lnTo>
                      <a:pt x="438" y="916"/>
                    </a:lnTo>
                    <a:lnTo>
                      <a:pt x="395" y="916"/>
                    </a:lnTo>
                    <a:lnTo>
                      <a:pt x="351" y="916"/>
                    </a:lnTo>
                    <a:lnTo>
                      <a:pt x="307" y="916"/>
                    </a:lnTo>
                    <a:lnTo>
                      <a:pt x="263" y="916"/>
                    </a:lnTo>
                    <a:lnTo>
                      <a:pt x="220" y="916"/>
                    </a:lnTo>
                    <a:lnTo>
                      <a:pt x="175" y="916"/>
                    </a:lnTo>
                    <a:lnTo>
                      <a:pt x="132" y="916"/>
                    </a:lnTo>
                    <a:lnTo>
                      <a:pt x="88" y="916"/>
                    </a:lnTo>
                    <a:lnTo>
                      <a:pt x="43" y="916"/>
                    </a:lnTo>
                    <a:lnTo>
                      <a:pt x="0" y="916"/>
                    </a:lnTo>
                    <a:lnTo>
                      <a:pt x="0" y="901"/>
                    </a:lnTo>
                    <a:lnTo>
                      <a:pt x="14" y="888"/>
                    </a:lnTo>
                    <a:lnTo>
                      <a:pt x="29" y="875"/>
                    </a:lnTo>
                    <a:lnTo>
                      <a:pt x="42" y="862"/>
                    </a:lnTo>
                    <a:lnTo>
                      <a:pt x="58" y="848"/>
                    </a:lnTo>
                    <a:lnTo>
                      <a:pt x="72" y="834"/>
                    </a:lnTo>
                    <a:lnTo>
                      <a:pt x="87" y="821"/>
                    </a:lnTo>
                    <a:lnTo>
                      <a:pt x="103" y="808"/>
                    </a:lnTo>
                    <a:lnTo>
                      <a:pt x="119" y="795"/>
                    </a:lnTo>
                    <a:lnTo>
                      <a:pt x="168" y="767"/>
                    </a:lnTo>
                    <a:lnTo>
                      <a:pt x="214" y="737"/>
                    </a:lnTo>
                    <a:lnTo>
                      <a:pt x="257" y="702"/>
                    </a:lnTo>
                    <a:lnTo>
                      <a:pt x="296" y="666"/>
                    </a:lnTo>
                    <a:lnTo>
                      <a:pt x="334" y="627"/>
                    </a:lnTo>
                    <a:lnTo>
                      <a:pt x="369" y="586"/>
                    </a:lnTo>
                    <a:lnTo>
                      <a:pt x="402" y="543"/>
                    </a:lnTo>
                    <a:lnTo>
                      <a:pt x="434" y="498"/>
                    </a:lnTo>
                    <a:lnTo>
                      <a:pt x="464" y="454"/>
                    </a:lnTo>
                    <a:lnTo>
                      <a:pt x="493" y="407"/>
                    </a:lnTo>
                    <a:lnTo>
                      <a:pt x="522" y="361"/>
                    </a:lnTo>
                    <a:lnTo>
                      <a:pt x="550" y="315"/>
                    </a:lnTo>
                    <a:lnTo>
                      <a:pt x="578" y="269"/>
                    </a:lnTo>
                    <a:lnTo>
                      <a:pt x="607" y="222"/>
                    </a:lnTo>
                    <a:lnTo>
                      <a:pt x="638" y="178"/>
                    </a:lnTo>
                    <a:lnTo>
                      <a:pt x="668" y="134"/>
                    </a:lnTo>
                    <a:lnTo>
                      <a:pt x="678" y="118"/>
                    </a:lnTo>
                    <a:lnTo>
                      <a:pt x="688" y="104"/>
                    </a:lnTo>
                    <a:lnTo>
                      <a:pt x="698" y="88"/>
                    </a:lnTo>
                    <a:lnTo>
                      <a:pt x="709" y="71"/>
                    </a:lnTo>
                    <a:lnTo>
                      <a:pt x="719" y="55"/>
                    </a:lnTo>
                    <a:lnTo>
                      <a:pt x="730" y="37"/>
                    </a:lnTo>
                    <a:lnTo>
                      <a:pt x="742" y="20"/>
                    </a:lnTo>
                    <a:lnTo>
                      <a:pt x="755" y="1"/>
                    </a:lnTo>
                    <a:lnTo>
                      <a:pt x="766" y="0"/>
                    </a:lnTo>
                    <a:lnTo>
                      <a:pt x="792" y="11"/>
                    </a:lnTo>
                    <a:lnTo>
                      <a:pt x="817" y="24"/>
                    </a:lnTo>
                    <a:lnTo>
                      <a:pt x="840" y="37"/>
                    </a:lnTo>
                    <a:lnTo>
                      <a:pt x="862" y="52"/>
                    </a:lnTo>
                    <a:lnTo>
                      <a:pt x="884" y="66"/>
                    </a:lnTo>
                    <a:lnTo>
                      <a:pt x="907" y="82"/>
                    </a:lnTo>
                    <a:lnTo>
                      <a:pt x="930" y="97"/>
                    </a:lnTo>
                    <a:lnTo>
                      <a:pt x="956" y="110"/>
                    </a:lnTo>
                    <a:lnTo>
                      <a:pt x="989" y="137"/>
                    </a:lnTo>
                    <a:lnTo>
                      <a:pt x="1024" y="163"/>
                    </a:lnTo>
                    <a:lnTo>
                      <a:pt x="1059" y="188"/>
                    </a:lnTo>
                    <a:lnTo>
                      <a:pt x="1095" y="211"/>
                    </a:lnTo>
                    <a:lnTo>
                      <a:pt x="1131" y="234"/>
                    </a:lnTo>
                    <a:lnTo>
                      <a:pt x="1167" y="256"/>
                    </a:lnTo>
                    <a:lnTo>
                      <a:pt x="1205" y="277"/>
                    </a:lnTo>
                    <a:lnTo>
                      <a:pt x="1241" y="297"/>
                    </a:lnTo>
                    <a:lnTo>
                      <a:pt x="1278" y="319"/>
                    </a:lnTo>
                    <a:lnTo>
                      <a:pt x="1316" y="339"/>
                    </a:lnTo>
                    <a:lnTo>
                      <a:pt x="1352" y="361"/>
                    </a:lnTo>
                    <a:lnTo>
                      <a:pt x="1390" y="383"/>
                    </a:lnTo>
                    <a:lnTo>
                      <a:pt x="1426" y="404"/>
                    </a:lnTo>
                    <a:lnTo>
                      <a:pt x="1463" y="428"/>
                    </a:lnTo>
                    <a:lnTo>
                      <a:pt x="1498" y="452"/>
                    </a:lnTo>
                    <a:lnTo>
                      <a:pt x="1534" y="477"/>
                    </a:lnTo>
                    <a:lnTo>
                      <a:pt x="1534" y="553"/>
                    </a:lnTo>
                    <a:lnTo>
                      <a:pt x="1534" y="628"/>
                    </a:lnTo>
                    <a:lnTo>
                      <a:pt x="1534" y="705"/>
                    </a:lnTo>
                    <a:lnTo>
                      <a:pt x="1534" y="781"/>
                    </a:lnTo>
                    <a:lnTo>
                      <a:pt x="1533" y="815"/>
                    </a:lnTo>
                    <a:lnTo>
                      <a:pt x="1533" y="844"/>
                    </a:lnTo>
                    <a:lnTo>
                      <a:pt x="1531" y="868"/>
                    </a:lnTo>
                    <a:lnTo>
                      <a:pt x="1531" y="894"/>
                    </a:lnTo>
                    <a:lnTo>
                      <a:pt x="1505" y="909"/>
                    </a:lnTo>
                    <a:lnTo>
                      <a:pt x="1492" y="909"/>
                    </a:lnTo>
                    <a:lnTo>
                      <a:pt x="1479" y="909"/>
                    </a:lnTo>
                    <a:lnTo>
                      <a:pt x="1466" y="907"/>
                    </a:lnTo>
                    <a:lnTo>
                      <a:pt x="1455" y="907"/>
                    </a:lnTo>
                    <a:lnTo>
                      <a:pt x="1442" y="907"/>
                    </a:lnTo>
                    <a:lnTo>
                      <a:pt x="1429" y="907"/>
                    </a:lnTo>
                    <a:lnTo>
                      <a:pt x="1416" y="906"/>
                    </a:lnTo>
                    <a:lnTo>
                      <a:pt x="1401" y="904"/>
                    </a:lnTo>
                    <a:lnTo>
                      <a:pt x="1394" y="90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170840" y="2287440"/>
                <a:ext cx="901440" cy="795600"/>
              </a:xfrm>
              <a:custGeom>
                <a:avLst/>
                <a:gdLst/>
                <a:ahLst/>
                <a:rect l="l" t="t" r="r" b="b"/>
                <a:pathLst>
                  <a:path w="1705" h="1504">
                    <a:moveTo>
                      <a:pt x="356" y="1504"/>
                    </a:moveTo>
                    <a:lnTo>
                      <a:pt x="334" y="1502"/>
                    </a:lnTo>
                    <a:lnTo>
                      <a:pt x="313" y="1502"/>
                    </a:lnTo>
                    <a:lnTo>
                      <a:pt x="290" y="1502"/>
                    </a:lnTo>
                    <a:lnTo>
                      <a:pt x="268" y="1502"/>
                    </a:lnTo>
                    <a:lnTo>
                      <a:pt x="246" y="1502"/>
                    </a:lnTo>
                    <a:lnTo>
                      <a:pt x="223" y="1502"/>
                    </a:lnTo>
                    <a:lnTo>
                      <a:pt x="201" y="1502"/>
                    </a:lnTo>
                    <a:lnTo>
                      <a:pt x="178" y="1502"/>
                    </a:lnTo>
                    <a:lnTo>
                      <a:pt x="157" y="1502"/>
                    </a:lnTo>
                    <a:lnTo>
                      <a:pt x="135" y="1502"/>
                    </a:lnTo>
                    <a:lnTo>
                      <a:pt x="112" y="1502"/>
                    </a:lnTo>
                    <a:lnTo>
                      <a:pt x="90" y="1502"/>
                    </a:lnTo>
                    <a:lnTo>
                      <a:pt x="67" y="1502"/>
                    </a:lnTo>
                    <a:lnTo>
                      <a:pt x="45" y="1502"/>
                    </a:lnTo>
                    <a:lnTo>
                      <a:pt x="22" y="1502"/>
                    </a:lnTo>
                    <a:lnTo>
                      <a:pt x="0" y="1501"/>
                    </a:lnTo>
                    <a:lnTo>
                      <a:pt x="25" y="1488"/>
                    </a:lnTo>
                    <a:lnTo>
                      <a:pt x="51" y="1475"/>
                    </a:lnTo>
                    <a:lnTo>
                      <a:pt x="76" y="1460"/>
                    </a:lnTo>
                    <a:lnTo>
                      <a:pt x="100" y="1446"/>
                    </a:lnTo>
                    <a:lnTo>
                      <a:pt x="123" y="1431"/>
                    </a:lnTo>
                    <a:lnTo>
                      <a:pt x="148" y="1417"/>
                    </a:lnTo>
                    <a:lnTo>
                      <a:pt x="171" y="1401"/>
                    </a:lnTo>
                    <a:lnTo>
                      <a:pt x="194" y="1385"/>
                    </a:lnTo>
                    <a:lnTo>
                      <a:pt x="217" y="1368"/>
                    </a:lnTo>
                    <a:lnTo>
                      <a:pt x="240" y="1350"/>
                    </a:lnTo>
                    <a:lnTo>
                      <a:pt x="262" y="1333"/>
                    </a:lnTo>
                    <a:lnTo>
                      <a:pt x="285" y="1314"/>
                    </a:lnTo>
                    <a:lnTo>
                      <a:pt x="307" y="1294"/>
                    </a:lnTo>
                    <a:lnTo>
                      <a:pt x="327" y="1274"/>
                    </a:lnTo>
                    <a:lnTo>
                      <a:pt x="349" y="1254"/>
                    </a:lnTo>
                    <a:lnTo>
                      <a:pt x="369" y="1232"/>
                    </a:lnTo>
                    <a:lnTo>
                      <a:pt x="379" y="1225"/>
                    </a:lnTo>
                    <a:lnTo>
                      <a:pt x="391" y="1218"/>
                    </a:lnTo>
                    <a:lnTo>
                      <a:pt x="401" y="1209"/>
                    </a:lnTo>
                    <a:lnTo>
                      <a:pt x="413" y="1199"/>
                    </a:lnTo>
                    <a:lnTo>
                      <a:pt x="423" y="1187"/>
                    </a:lnTo>
                    <a:lnTo>
                      <a:pt x="433" y="1177"/>
                    </a:lnTo>
                    <a:lnTo>
                      <a:pt x="444" y="1166"/>
                    </a:lnTo>
                    <a:lnTo>
                      <a:pt x="454" y="1154"/>
                    </a:lnTo>
                    <a:lnTo>
                      <a:pt x="469" y="1134"/>
                    </a:lnTo>
                    <a:lnTo>
                      <a:pt x="480" y="1114"/>
                    </a:lnTo>
                    <a:lnTo>
                      <a:pt x="492" y="1092"/>
                    </a:lnTo>
                    <a:lnTo>
                      <a:pt x="502" y="1067"/>
                    </a:lnTo>
                    <a:lnTo>
                      <a:pt x="512" y="1044"/>
                    </a:lnTo>
                    <a:lnTo>
                      <a:pt x="522" y="1020"/>
                    </a:lnTo>
                    <a:lnTo>
                      <a:pt x="534" y="995"/>
                    </a:lnTo>
                    <a:lnTo>
                      <a:pt x="546" y="969"/>
                    </a:lnTo>
                    <a:lnTo>
                      <a:pt x="564" y="892"/>
                    </a:lnTo>
                    <a:lnTo>
                      <a:pt x="589" y="819"/>
                    </a:lnTo>
                    <a:lnTo>
                      <a:pt x="618" y="749"/>
                    </a:lnTo>
                    <a:lnTo>
                      <a:pt x="651" y="684"/>
                    </a:lnTo>
                    <a:lnTo>
                      <a:pt x="687" y="621"/>
                    </a:lnTo>
                    <a:lnTo>
                      <a:pt x="728" y="562"/>
                    </a:lnTo>
                    <a:lnTo>
                      <a:pt x="771" y="502"/>
                    </a:lnTo>
                    <a:lnTo>
                      <a:pt x="819" y="447"/>
                    </a:lnTo>
                    <a:lnTo>
                      <a:pt x="868" y="393"/>
                    </a:lnTo>
                    <a:lnTo>
                      <a:pt x="919" y="339"/>
                    </a:lnTo>
                    <a:lnTo>
                      <a:pt x="972" y="287"/>
                    </a:lnTo>
                    <a:lnTo>
                      <a:pt x="1027" y="235"/>
                    </a:lnTo>
                    <a:lnTo>
                      <a:pt x="1083" y="184"/>
                    </a:lnTo>
                    <a:lnTo>
                      <a:pt x="1140" y="132"/>
                    </a:lnTo>
                    <a:lnTo>
                      <a:pt x="1198" y="80"/>
                    </a:lnTo>
                    <a:lnTo>
                      <a:pt x="1256" y="27"/>
                    </a:lnTo>
                    <a:lnTo>
                      <a:pt x="1261" y="24"/>
                    </a:lnTo>
                    <a:lnTo>
                      <a:pt x="1269" y="21"/>
                    </a:lnTo>
                    <a:lnTo>
                      <a:pt x="1274" y="18"/>
                    </a:lnTo>
                    <a:lnTo>
                      <a:pt x="1282" y="15"/>
                    </a:lnTo>
                    <a:lnTo>
                      <a:pt x="1287" y="11"/>
                    </a:lnTo>
                    <a:lnTo>
                      <a:pt x="1295" y="8"/>
                    </a:lnTo>
                    <a:lnTo>
                      <a:pt x="1302" y="4"/>
                    </a:lnTo>
                    <a:lnTo>
                      <a:pt x="1309" y="0"/>
                    </a:lnTo>
                    <a:lnTo>
                      <a:pt x="1316" y="2"/>
                    </a:lnTo>
                    <a:lnTo>
                      <a:pt x="1322" y="4"/>
                    </a:lnTo>
                    <a:lnTo>
                      <a:pt x="1328" y="4"/>
                    </a:lnTo>
                    <a:lnTo>
                      <a:pt x="1335" y="5"/>
                    </a:lnTo>
                    <a:lnTo>
                      <a:pt x="1341" y="7"/>
                    </a:lnTo>
                    <a:lnTo>
                      <a:pt x="1348" y="8"/>
                    </a:lnTo>
                    <a:lnTo>
                      <a:pt x="1355" y="10"/>
                    </a:lnTo>
                    <a:lnTo>
                      <a:pt x="1363" y="14"/>
                    </a:lnTo>
                    <a:lnTo>
                      <a:pt x="1367" y="20"/>
                    </a:lnTo>
                    <a:lnTo>
                      <a:pt x="1368" y="30"/>
                    </a:lnTo>
                    <a:lnTo>
                      <a:pt x="1368" y="41"/>
                    </a:lnTo>
                    <a:lnTo>
                      <a:pt x="1370" y="54"/>
                    </a:lnTo>
                    <a:lnTo>
                      <a:pt x="1342" y="33"/>
                    </a:lnTo>
                    <a:lnTo>
                      <a:pt x="1328" y="44"/>
                    </a:lnTo>
                    <a:lnTo>
                      <a:pt x="1334" y="50"/>
                    </a:lnTo>
                    <a:lnTo>
                      <a:pt x="1338" y="56"/>
                    </a:lnTo>
                    <a:lnTo>
                      <a:pt x="1344" y="65"/>
                    </a:lnTo>
                    <a:lnTo>
                      <a:pt x="1351" y="72"/>
                    </a:lnTo>
                    <a:lnTo>
                      <a:pt x="1355" y="85"/>
                    </a:lnTo>
                    <a:lnTo>
                      <a:pt x="1344" y="86"/>
                    </a:lnTo>
                    <a:lnTo>
                      <a:pt x="1331" y="67"/>
                    </a:lnTo>
                    <a:lnTo>
                      <a:pt x="1322" y="65"/>
                    </a:lnTo>
                    <a:lnTo>
                      <a:pt x="1315" y="63"/>
                    </a:lnTo>
                    <a:lnTo>
                      <a:pt x="1306" y="66"/>
                    </a:lnTo>
                    <a:lnTo>
                      <a:pt x="1299" y="73"/>
                    </a:lnTo>
                    <a:lnTo>
                      <a:pt x="1302" y="82"/>
                    </a:lnTo>
                    <a:lnTo>
                      <a:pt x="1308" y="86"/>
                    </a:lnTo>
                    <a:lnTo>
                      <a:pt x="1316" y="91"/>
                    </a:lnTo>
                    <a:lnTo>
                      <a:pt x="1325" y="98"/>
                    </a:lnTo>
                    <a:lnTo>
                      <a:pt x="1328" y="115"/>
                    </a:lnTo>
                    <a:lnTo>
                      <a:pt x="1321" y="119"/>
                    </a:lnTo>
                    <a:lnTo>
                      <a:pt x="1311" y="111"/>
                    </a:lnTo>
                    <a:lnTo>
                      <a:pt x="1302" y="102"/>
                    </a:lnTo>
                    <a:lnTo>
                      <a:pt x="1293" y="95"/>
                    </a:lnTo>
                    <a:lnTo>
                      <a:pt x="1283" y="85"/>
                    </a:lnTo>
                    <a:lnTo>
                      <a:pt x="1264" y="102"/>
                    </a:lnTo>
                    <a:lnTo>
                      <a:pt x="1273" y="111"/>
                    </a:lnTo>
                    <a:lnTo>
                      <a:pt x="1279" y="117"/>
                    </a:lnTo>
                    <a:lnTo>
                      <a:pt x="1284" y="124"/>
                    </a:lnTo>
                    <a:lnTo>
                      <a:pt x="1293" y="131"/>
                    </a:lnTo>
                    <a:lnTo>
                      <a:pt x="1292" y="143"/>
                    </a:lnTo>
                    <a:lnTo>
                      <a:pt x="1282" y="141"/>
                    </a:lnTo>
                    <a:lnTo>
                      <a:pt x="1274" y="135"/>
                    </a:lnTo>
                    <a:lnTo>
                      <a:pt x="1269" y="128"/>
                    </a:lnTo>
                    <a:lnTo>
                      <a:pt x="1263" y="121"/>
                    </a:lnTo>
                    <a:lnTo>
                      <a:pt x="1241" y="121"/>
                    </a:lnTo>
                    <a:lnTo>
                      <a:pt x="1238" y="131"/>
                    </a:lnTo>
                    <a:lnTo>
                      <a:pt x="1244" y="138"/>
                    </a:lnTo>
                    <a:lnTo>
                      <a:pt x="1250" y="147"/>
                    </a:lnTo>
                    <a:lnTo>
                      <a:pt x="1258" y="157"/>
                    </a:lnTo>
                    <a:lnTo>
                      <a:pt x="1267" y="169"/>
                    </a:lnTo>
                    <a:lnTo>
                      <a:pt x="1256" y="170"/>
                    </a:lnTo>
                    <a:lnTo>
                      <a:pt x="1248" y="163"/>
                    </a:lnTo>
                    <a:lnTo>
                      <a:pt x="1240" y="154"/>
                    </a:lnTo>
                    <a:lnTo>
                      <a:pt x="1230" y="150"/>
                    </a:lnTo>
                    <a:lnTo>
                      <a:pt x="1214" y="161"/>
                    </a:lnTo>
                    <a:lnTo>
                      <a:pt x="1219" y="171"/>
                    </a:lnTo>
                    <a:lnTo>
                      <a:pt x="1227" y="180"/>
                    </a:lnTo>
                    <a:lnTo>
                      <a:pt x="1234" y="190"/>
                    </a:lnTo>
                    <a:lnTo>
                      <a:pt x="1241" y="203"/>
                    </a:lnTo>
                    <a:lnTo>
                      <a:pt x="1231" y="208"/>
                    </a:lnTo>
                    <a:lnTo>
                      <a:pt x="1224" y="200"/>
                    </a:lnTo>
                    <a:lnTo>
                      <a:pt x="1218" y="196"/>
                    </a:lnTo>
                    <a:lnTo>
                      <a:pt x="1211" y="190"/>
                    </a:lnTo>
                    <a:lnTo>
                      <a:pt x="1199" y="186"/>
                    </a:lnTo>
                    <a:lnTo>
                      <a:pt x="1179" y="197"/>
                    </a:lnTo>
                    <a:lnTo>
                      <a:pt x="1182" y="208"/>
                    </a:lnTo>
                    <a:lnTo>
                      <a:pt x="1189" y="210"/>
                    </a:lnTo>
                    <a:lnTo>
                      <a:pt x="1196" y="218"/>
                    </a:lnTo>
                    <a:lnTo>
                      <a:pt x="1205" y="226"/>
                    </a:lnTo>
                    <a:lnTo>
                      <a:pt x="1215" y="229"/>
                    </a:lnTo>
                    <a:lnTo>
                      <a:pt x="1206" y="244"/>
                    </a:lnTo>
                    <a:lnTo>
                      <a:pt x="1196" y="241"/>
                    </a:lnTo>
                    <a:lnTo>
                      <a:pt x="1189" y="234"/>
                    </a:lnTo>
                    <a:lnTo>
                      <a:pt x="1180" y="226"/>
                    </a:lnTo>
                    <a:lnTo>
                      <a:pt x="1167" y="222"/>
                    </a:lnTo>
                    <a:lnTo>
                      <a:pt x="1147" y="236"/>
                    </a:lnTo>
                    <a:lnTo>
                      <a:pt x="1156" y="242"/>
                    </a:lnTo>
                    <a:lnTo>
                      <a:pt x="1163" y="250"/>
                    </a:lnTo>
                    <a:lnTo>
                      <a:pt x="1170" y="258"/>
                    </a:lnTo>
                    <a:lnTo>
                      <a:pt x="1180" y="264"/>
                    </a:lnTo>
                    <a:lnTo>
                      <a:pt x="1176" y="273"/>
                    </a:lnTo>
                    <a:lnTo>
                      <a:pt x="1166" y="273"/>
                    </a:lnTo>
                    <a:lnTo>
                      <a:pt x="1162" y="265"/>
                    </a:lnTo>
                    <a:lnTo>
                      <a:pt x="1154" y="260"/>
                    </a:lnTo>
                    <a:lnTo>
                      <a:pt x="1146" y="254"/>
                    </a:lnTo>
                    <a:lnTo>
                      <a:pt x="1137" y="247"/>
                    </a:lnTo>
                    <a:lnTo>
                      <a:pt x="1120" y="263"/>
                    </a:lnTo>
                    <a:lnTo>
                      <a:pt x="1125" y="270"/>
                    </a:lnTo>
                    <a:lnTo>
                      <a:pt x="1133" y="278"/>
                    </a:lnTo>
                    <a:lnTo>
                      <a:pt x="1141" y="287"/>
                    </a:lnTo>
                    <a:lnTo>
                      <a:pt x="1149" y="299"/>
                    </a:lnTo>
                    <a:lnTo>
                      <a:pt x="1140" y="299"/>
                    </a:lnTo>
                    <a:lnTo>
                      <a:pt x="1136" y="291"/>
                    </a:lnTo>
                    <a:lnTo>
                      <a:pt x="1127" y="286"/>
                    </a:lnTo>
                    <a:lnTo>
                      <a:pt x="1118" y="278"/>
                    </a:lnTo>
                    <a:lnTo>
                      <a:pt x="1110" y="268"/>
                    </a:lnTo>
                    <a:lnTo>
                      <a:pt x="1099" y="268"/>
                    </a:lnTo>
                    <a:lnTo>
                      <a:pt x="1095" y="289"/>
                    </a:lnTo>
                    <a:lnTo>
                      <a:pt x="1101" y="297"/>
                    </a:lnTo>
                    <a:lnTo>
                      <a:pt x="1107" y="304"/>
                    </a:lnTo>
                    <a:lnTo>
                      <a:pt x="1112" y="312"/>
                    </a:lnTo>
                    <a:lnTo>
                      <a:pt x="1118" y="322"/>
                    </a:lnTo>
                    <a:lnTo>
                      <a:pt x="1114" y="329"/>
                    </a:lnTo>
                    <a:lnTo>
                      <a:pt x="1105" y="323"/>
                    </a:lnTo>
                    <a:lnTo>
                      <a:pt x="1099" y="313"/>
                    </a:lnTo>
                    <a:lnTo>
                      <a:pt x="1091" y="303"/>
                    </a:lnTo>
                    <a:lnTo>
                      <a:pt x="1081" y="297"/>
                    </a:lnTo>
                    <a:lnTo>
                      <a:pt x="1062" y="309"/>
                    </a:lnTo>
                    <a:lnTo>
                      <a:pt x="1068" y="320"/>
                    </a:lnTo>
                    <a:lnTo>
                      <a:pt x="1073" y="329"/>
                    </a:lnTo>
                    <a:lnTo>
                      <a:pt x="1081" y="338"/>
                    </a:lnTo>
                    <a:lnTo>
                      <a:pt x="1088" y="349"/>
                    </a:lnTo>
                    <a:lnTo>
                      <a:pt x="1079" y="349"/>
                    </a:lnTo>
                    <a:lnTo>
                      <a:pt x="1070" y="345"/>
                    </a:lnTo>
                    <a:lnTo>
                      <a:pt x="1063" y="338"/>
                    </a:lnTo>
                    <a:lnTo>
                      <a:pt x="1053" y="332"/>
                    </a:lnTo>
                    <a:lnTo>
                      <a:pt x="1033" y="338"/>
                    </a:lnTo>
                    <a:lnTo>
                      <a:pt x="1036" y="348"/>
                    </a:lnTo>
                    <a:lnTo>
                      <a:pt x="1044" y="355"/>
                    </a:lnTo>
                    <a:lnTo>
                      <a:pt x="1052" y="364"/>
                    </a:lnTo>
                    <a:lnTo>
                      <a:pt x="1053" y="378"/>
                    </a:lnTo>
                    <a:lnTo>
                      <a:pt x="1043" y="375"/>
                    </a:lnTo>
                    <a:lnTo>
                      <a:pt x="1034" y="368"/>
                    </a:lnTo>
                    <a:lnTo>
                      <a:pt x="1027" y="359"/>
                    </a:lnTo>
                    <a:lnTo>
                      <a:pt x="1016" y="356"/>
                    </a:lnTo>
                    <a:lnTo>
                      <a:pt x="997" y="371"/>
                    </a:lnTo>
                    <a:lnTo>
                      <a:pt x="1001" y="378"/>
                    </a:lnTo>
                    <a:lnTo>
                      <a:pt x="1010" y="384"/>
                    </a:lnTo>
                    <a:lnTo>
                      <a:pt x="1017" y="393"/>
                    </a:lnTo>
                    <a:lnTo>
                      <a:pt x="1017" y="403"/>
                    </a:lnTo>
                    <a:lnTo>
                      <a:pt x="1004" y="410"/>
                    </a:lnTo>
                    <a:lnTo>
                      <a:pt x="976" y="419"/>
                    </a:lnTo>
                    <a:lnTo>
                      <a:pt x="976" y="430"/>
                    </a:lnTo>
                    <a:lnTo>
                      <a:pt x="987" y="442"/>
                    </a:lnTo>
                    <a:lnTo>
                      <a:pt x="998" y="442"/>
                    </a:lnTo>
                    <a:lnTo>
                      <a:pt x="1010" y="437"/>
                    </a:lnTo>
                    <a:lnTo>
                      <a:pt x="1021" y="433"/>
                    </a:lnTo>
                    <a:lnTo>
                      <a:pt x="1031" y="427"/>
                    </a:lnTo>
                    <a:lnTo>
                      <a:pt x="1040" y="420"/>
                    </a:lnTo>
                    <a:lnTo>
                      <a:pt x="1049" y="413"/>
                    </a:lnTo>
                    <a:lnTo>
                      <a:pt x="1059" y="407"/>
                    </a:lnTo>
                    <a:lnTo>
                      <a:pt x="1070" y="400"/>
                    </a:lnTo>
                    <a:lnTo>
                      <a:pt x="1082" y="394"/>
                    </a:lnTo>
                    <a:lnTo>
                      <a:pt x="1107" y="377"/>
                    </a:lnTo>
                    <a:lnTo>
                      <a:pt x="1130" y="356"/>
                    </a:lnTo>
                    <a:lnTo>
                      <a:pt x="1151" y="338"/>
                    </a:lnTo>
                    <a:lnTo>
                      <a:pt x="1173" y="316"/>
                    </a:lnTo>
                    <a:lnTo>
                      <a:pt x="1195" y="294"/>
                    </a:lnTo>
                    <a:lnTo>
                      <a:pt x="1215" y="273"/>
                    </a:lnTo>
                    <a:lnTo>
                      <a:pt x="1237" y="250"/>
                    </a:lnTo>
                    <a:lnTo>
                      <a:pt x="1257" y="226"/>
                    </a:lnTo>
                    <a:lnTo>
                      <a:pt x="1277" y="203"/>
                    </a:lnTo>
                    <a:lnTo>
                      <a:pt x="1299" y="180"/>
                    </a:lnTo>
                    <a:lnTo>
                      <a:pt x="1319" y="157"/>
                    </a:lnTo>
                    <a:lnTo>
                      <a:pt x="1341" y="135"/>
                    </a:lnTo>
                    <a:lnTo>
                      <a:pt x="1363" y="112"/>
                    </a:lnTo>
                    <a:lnTo>
                      <a:pt x="1384" y="91"/>
                    </a:lnTo>
                    <a:lnTo>
                      <a:pt x="1407" y="69"/>
                    </a:lnTo>
                    <a:lnTo>
                      <a:pt x="1432" y="49"/>
                    </a:lnTo>
                    <a:lnTo>
                      <a:pt x="1452" y="47"/>
                    </a:lnTo>
                    <a:lnTo>
                      <a:pt x="1474" y="54"/>
                    </a:lnTo>
                    <a:lnTo>
                      <a:pt x="1480" y="56"/>
                    </a:lnTo>
                    <a:lnTo>
                      <a:pt x="1487" y="62"/>
                    </a:lnTo>
                    <a:lnTo>
                      <a:pt x="1494" y="69"/>
                    </a:lnTo>
                    <a:lnTo>
                      <a:pt x="1501" y="78"/>
                    </a:lnTo>
                    <a:lnTo>
                      <a:pt x="1503" y="85"/>
                    </a:lnTo>
                    <a:lnTo>
                      <a:pt x="1506" y="92"/>
                    </a:lnTo>
                    <a:lnTo>
                      <a:pt x="1509" y="99"/>
                    </a:lnTo>
                    <a:lnTo>
                      <a:pt x="1510" y="109"/>
                    </a:lnTo>
                    <a:lnTo>
                      <a:pt x="1504" y="109"/>
                    </a:lnTo>
                    <a:lnTo>
                      <a:pt x="1497" y="109"/>
                    </a:lnTo>
                    <a:lnTo>
                      <a:pt x="1490" y="112"/>
                    </a:lnTo>
                    <a:lnTo>
                      <a:pt x="1480" y="115"/>
                    </a:lnTo>
                    <a:lnTo>
                      <a:pt x="1480" y="122"/>
                    </a:lnTo>
                    <a:lnTo>
                      <a:pt x="1485" y="125"/>
                    </a:lnTo>
                    <a:lnTo>
                      <a:pt x="1493" y="130"/>
                    </a:lnTo>
                    <a:lnTo>
                      <a:pt x="1496" y="138"/>
                    </a:lnTo>
                    <a:lnTo>
                      <a:pt x="1490" y="137"/>
                    </a:lnTo>
                    <a:lnTo>
                      <a:pt x="1483" y="130"/>
                    </a:lnTo>
                    <a:lnTo>
                      <a:pt x="1474" y="124"/>
                    </a:lnTo>
                    <a:lnTo>
                      <a:pt x="1461" y="121"/>
                    </a:lnTo>
                    <a:lnTo>
                      <a:pt x="1449" y="140"/>
                    </a:lnTo>
                    <a:lnTo>
                      <a:pt x="1454" y="148"/>
                    </a:lnTo>
                    <a:lnTo>
                      <a:pt x="1461" y="154"/>
                    </a:lnTo>
                    <a:lnTo>
                      <a:pt x="1468" y="160"/>
                    </a:lnTo>
                    <a:lnTo>
                      <a:pt x="1477" y="171"/>
                    </a:lnTo>
                    <a:lnTo>
                      <a:pt x="1477" y="180"/>
                    </a:lnTo>
                    <a:lnTo>
                      <a:pt x="1471" y="180"/>
                    </a:lnTo>
                    <a:lnTo>
                      <a:pt x="1465" y="179"/>
                    </a:lnTo>
                    <a:lnTo>
                      <a:pt x="1461" y="176"/>
                    </a:lnTo>
                    <a:lnTo>
                      <a:pt x="1457" y="173"/>
                    </a:lnTo>
                    <a:lnTo>
                      <a:pt x="1452" y="169"/>
                    </a:lnTo>
                    <a:lnTo>
                      <a:pt x="1446" y="166"/>
                    </a:lnTo>
                    <a:lnTo>
                      <a:pt x="1441" y="164"/>
                    </a:lnTo>
                    <a:lnTo>
                      <a:pt x="1433" y="163"/>
                    </a:lnTo>
                    <a:lnTo>
                      <a:pt x="1425" y="171"/>
                    </a:lnTo>
                    <a:lnTo>
                      <a:pt x="1426" y="182"/>
                    </a:lnTo>
                    <a:lnTo>
                      <a:pt x="1435" y="189"/>
                    </a:lnTo>
                    <a:lnTo>
                      <a:pt x="1445" y="197"/>
                    </a:lnTo>
                    <a:lnTo>
                      <a:pt x="1449" y="210"/>
                    </a:lnTo>
                    <a:lnTo>
                      <a:pt x="1444" y="210"/>
                    </a:lnTo>
                    <a:lnTo>
                      <a:pt x="1439" y="210"/>
                    </a:lnTo>
                    <a:lnTo>
                      <a:pt x="1433" y="209"/>
                    </a:lnTo>
                    <a:lnTo>
                      <a:pt x="1428" y="206"/>
                    </a:lnTo>
                    <a:lnTo>
                      <a:pt x="1422" y="205"/>
                    </a:lnTo>
                    <a:lnTo>
                      <a:pt x="1416" y="205"/>
                    </a:lnTo>
                    <a:lnTo>
                      <a:pt x="1412" y="205"/>
                    </a:lnTo>
                    <a:lnTo>
                      <a:pt x="1406" y="208"/>
                    </a:lnTo>
                    <a:lnTo>
                      <a:pt x="1403" y="219"/>
                    </a:lnTo>
                    <a:lnTo>
                      <a:pt x="1405" y="226"/>
                    </a:lnTo>
                    <a:lnTo>
                      <a:pt x="1410" y="231"/>
                    </a:lnTo>
                    <a:lnTo>
                      <a:pt x="1418" y="235"/>
                    </a:lnTo>
                    <a:lnTo>
                      <a:pt x="1425" y="244"/>
                    </a:lnTo>
                    <a:lnTo>
                      <a:pt x="1407" y="244"/>
                    </a:lnTo>
                    <a:lnTo>
                      <a:pt x="1397" y="244"/>
                    </a:lnTo>
                    <a:lnTo>
                      <a:pt x="1390" y="247"/>
                    </a:lnTo>
                    <a:lnTo>
                      <a:pt x="1384" y="252"/>
                    </a:lnTo>
                    <a:lnTo>
                      <a:pt x="1380" y="260"/>
                    </a:lnTo>
                    <a:lnTo>
                      <a:pt x="1384" y="264"/>
                    </a:lnTo>
                    <a:lnTo>
                      <a:pt x="1392" y="267"/>
                    </a:lnTo>
                    <a:lnTo>
                      <a:pt x="1399" y="271"/>
                    </a:lnTo>
                    <a:lnTo>
                      <a:pt x="1399" y="280"/>
                    </a:lnTo>
                    <a:lnTo>
                      <a:pt x="1394" y="277"/>
                    </a:lnTo>
                    <a:lnTo>
                      <a:pt x="1387" y="277"/>
                    </a:lnTo>
                    <a:lnTo>
                      <a:pt x="1377" y="277"/>
                    </a:lnTo>
                    <a:lnTo>
                      <a:pt x="1365" y="280"/>
                    </a:lnTo>
                    <a:lnTo>
                      <a:pt x="1363" y="300"/>
                    </a:lnTo>
                    <a:lnTo>
                      <a:pt x="1380" y="309"/>
                    </a:lnTo>
                    <a:lnTo>
                      <a:pt x="1371" y="320"/>
                    </a:lnTo>
                    <a:lnTo>
                      <a:pt x="1361" y="317"/>
                    </a:lnTo>
                    <a:lnTo>
                      <a:pt x="1354" y="312"/>
                    </a:lnTo>
                    <a:lnTo>
                      <a:pt x="1344" y="304"/>
                    </a:lnTo>
                    <a:lnTo>
                      <a:pt x="1331" y="303"/>
                    </a:lnTo>
                    <a:lnTo>
                      <a:pt x="1321" y="315"/>
                    </a:lnTo>
                    <a:lnTo>
                      <a:pt x="1328" y="320"/>
                    </a:lnTo>
                    <a:lnTo>
                      <a:pt x="1334" y="328"/>
                    </a:lnTo>
                    <a:lnTo>
                      <a:pt x="1341" y="335"/>
                    </a:lnTo>
                    <a:lnTo>
                      <a:pt x="1351" y="342"/>
                    </a:lnTo>
                    <a:lnTo>
                      <a:pt x="1348" y="352"/>
                    </a:lnTo>
                    <a:lnTo>
                      <a:pt x="1339" y="351"/>
                    </a:lnTo>
                    <a:lnTo>
                      <a:pt x="1331" y="345"/>
                    </a:lnTo>
                    <a:lnTo>
                      <a:pt x="1321" y="339"/>
                    </a:lnTo>
                    <a:lnTo>
                      <a:pt x="1306" y="341"/>
                    </a:lnTo>
                    <a:lnTo>
                      <a:pt x="1296" y="346"/>
                    </a:lnTo>
                    <a:lnTo>
                      <a:pt x="1299" y="356"/>
                    </a:lnTo>
                    <a:lnTo>
                      <a:pt x="1308" y="362"/>
                    </a:lnTo>
                    <a:lnTo>
                      <a:pt x="1316" y="368"/>
                    </a:lnTo>
                    <a:lnTo>
                      <a:pt x="1322" y="381"/>
                    </a:lnTo>
                    <a:lnTo>
                      <a:pt x="1315" y="391"/>
                    </a:lnTo>
                    <a:lnTo>
                      <a:pt x="1309" y="391"/>
                    </a:lnTo>
                    <a:lnTo>
                      <a:pt x="1303" y="390"/>
                    </a:lnTo>
                    <a:lnTo>
                      <a:pt x="1299" y="385"/>
                    </a:lnTo>
                    <a:lnTo>
                      <a:pt x="1295" y="381"/>
                    </a:lnTo>
                    <a:lnTo>
                      <a:pt x="1290" y="378"/>
                    </a:lnTo>
                    <a:lnTo>
                      <a:pt x="1284" y="374"/>
                    </a:lnTo>
                    <a:lnTo>
                      <a:pt x="1279" y="371"/>
                    </a:lnTo>
                    <a:lnTo>
                      <a:pt x="1271" y="371"/>
                    </a:lnTo>
                    <a:lnTo>
                      <a:pt x="1256" y="384"/>
                    </a:lnTo>
                    <a:lnTo>
                      <a:pt x="1263" y="393"/>
                    </a:lnTo>
                    <a:lnTo>
                      <a:pt x="1270" y="400"/>
                    </a:lnTo>
                    <a:lnTo>
                      <a:pt x="1277" y="407"/>
                    </a:lnTo>
                    <a:lnTo>
                      <a:pt x="1283" y="417"/>
                    </a:lnTo>
                    <a:lnTo>
                      <a:pt x="1273" y="427"/>
                    </a:lnTo>
                    <a:lnTo>
                      <a:pt x="1263" y="424"/>
                    </a:lnTo>
                    <a:lnTo>
                      <a:pt x="1254" y="417"/>
                    </a:lnTo>
                    <a:lnTo>
                      <a:pt x="1244" y="411"/>
                    </a:lnTo>
                    <a:lnTo>
                      <a:pt x="1231" y="407"/>
                    </a:lnTo>
                    <a:lnTo>
                      <a:pt x="1219" y="414"/>
                    </a:lnTo>
                    <a:lnTo>
                      <a:pt x="1219" y="424"/>
                    </a:lnTo>
                    <a:lnTo>
                      <a:pt x="1224" y="432"/>
                    </a:lnTo>
                    <a:lnTo>
                      <a:pt x="1230" y="437"/>
                    </a:lnTo>
                    <a:lnTo>
                      <a:pt x="1237" y="442"/>
                    </a:lnTo>
                    <a:lnTo>
                      <a:pt x="1248" y="446"/>
                    </a:lnTo>
                    <a:lnTo>
                      <a:pt x="1232" y="463"/>
                    </a:lnTo>
                    <a:lnTo>
                      <a:pt x="1227" y="459"/>
                    </a:lnTo>
                    <a:lnTo>
                      <a:pt x="1219" y="453"/>
                    </a:lnTo>
                    <a:lnTo>
                      <a:pt x="1211" y="447"/>
                    </a:lnTo>
                    <a:lnTo>
                      <a:pt x="1202" y="439"/>
                    </a:lnTo>
                    <a:lnTo>
                      <a:pt x="1183" y="456"/>
                    </a:lnTo>
                    <a:lnTo>
                      <a:pt x="1186" y="463"/>
                    </a:lnTo>
                    <a:lnTo>
                      <a:pt x="1193" y="468"/>
                    </a:lnTo>
                    <a:lnTo>
                      <a:pt x="1202" y="473"/>
                    </a:lnTo>
                    <a:lnTo>
                      <a:pt x="1209" y="482"/>
                    </a:lnTo>
                    <a:lnTo>
                      <a:pt x="1204" y="489"/>
                    </a:lnTo>
                    <a:lnTo>
                      <a:pt x="1196" y="486"/>
                    </a:lnTo>
                    <a:lnTo>
                      <a:pt x="1191" y="481"/>
                    </a:lnTo>
                    <a:lnTo>
                      <a:pt x="1183" y="476"/>
                    </a:lnTo>
                    <a:lnTo>
                      <a:pt x="1172" y="476"/>
                    </a:lnTo>
                    <a:lnTo>
                      <a:pt x="1166" y="489"/>
                    </a:lnTo>
                    <a:lnTo>
                      <a:pt x="1167" y="497"/>
                    </a:lnTo>
                    <a:lnTo>
                      <a:pt x="1173" y="504"/>
                    </a:lnTo>
                    <a:lnTo>
                      <a:pt x="1177" y="510"/>
                    </a:lnTo>
                    <a:lnTo>
                      <a:pt x="1183" y="518"/>
                    </a:lnTo>
                    <a:lnTo>
                      <a:pt x="1179" y="524"/>
                    </a:lnTo>
                    <a:lnTo>
                      <a:pt x="1175" y="534"/>
                    </a:lnTo>
                    <a:lnTo>
                      <a:pt x="1175" y="544"/>
                    </a:lnTo>
                    <a:lnTo>
                      <a:pt x="1179" y="551"/>
                    </a:lnTo>
                    <a:lnTo>
                      <a:pt x="1191" y="551"/>
                    </a:lnTo>
                    <a:lnTo>
                      <a:pt x="1215" y="528"/>
                    </a:lnTo>
                    <a:lnTo>
                      <a:pt x="1240" y="504"/>
                    </a:lnTo>
                    <a:lnTo>
                      <a:pt x="1263" y="479"/>
                    </a:lnTo>
                    <a:lnTo>
                      <a:pt x="1286" y="455"/>
                    </a:lnTo>
                    <a:lnTo>
                      <a:pt x="1309" y="430"/>
                    </a:lnTo>
                    <a:lnTo>
                      <a:pt x="1331" y="406"/>
                    </a:lnTo>
                    <a:lnTo>
                      <a:pt x="1352" y="381"/>
                    </a:lnTo>
                    <a:lnTo>
                      <a:pt x="1374" y="355"/>
                    </a:lnTo>
                    <a:lnTo>
                      <a:pt x="1396" y="330"/>
                    </a:lnTo>
                    <a:lnTo>
                      <a:pt x="1416" y="304"/>
                    </a:lnTo>
                    <a:lnTo>
                      <a:pt x="1438" y="278"/>
                    </a:lnTo>
                    <a:lnTo>
                      <a:pt x="1459" y="254"/>
                    </a:lnTo>
                    <a:lnTo>
                      <a:pt x="1480" y="228"/>
                    </a:lnTo>
                    <a:lnTo>
                      <a:pt x="1501" y="202"/>
                    </a:lnTo>
                    <a:lnTo>
                      <a:pt x="1525" y="177"/>
                    </a:lnTo>
                    <a:lnTo>
                      <a:pt x="1546" y="151"/>
                    </a:lnTo>
                    <a:lnTo>
                      <a:pt x="1551" y="148"/>
                    </a:lnTo>
                    <a:lnTo>
                      <a:pt x="1558" y="145"/>
                    </a:lnTo>
                    <a:lnTo>
                      <a:pt x="1564" y="143"/>
                    </a:lnTo>
                    <a:lnTo>
                      <a:pt x="1572" y="140"/>
                    </a:lnTo>
                    <a:lnTo>
                      <a:pt x="1579" y="137"/>
                    </a:lnTo>
                    <a:lnTo>
                      <a:pt x="1588" y="135"/>
                    </a:lnTo>
                    <a:lnTo>
                      <a:pt x="1595" y="134"/>
                    </a:lnTo>
                    <a:lnTo>
                      <a:pt x="1603" y="132"/>
                    </a:lnTo>
                    <a:lnTo>
                      <a:pt x="1621" y="151"/>
                    </a:lnTo>
                    <a:lnTo>
                      <a:pt x="1627" y="173"/>
                    </a:lnTo>
                    <a:lnTo>
                      <a:pt x="1610" y="184"/>
                    </a:lnTo>
                    <a:lnTo>
                      <a:pt x="1613" y="193"/>
                    </a:lnTo>
                    <a:lnTo>
                      <a:pt x="1617" y="202"/>
                    </a:lnTo>
                    <a:lnTo>
                      <a:pt x="1621" y="212"/>
                    </a:lnTo>
                    <a:lnTo>
                      <a:pt x="1620" y="223"/>
                    </a:lnTo>
                    <a:lnTo>
                      <a:pt x="1611" y="222"/>
                    </a:lnTo>
                    <a:lnTo>
                      <a:pt x="1603" y="221"/>
                    </a:lnTo>
                    <a:lnTo>
                      <a:pt x="1595" y="221"/>
                    </a:lnTo>
                    <a:lnTo>
                      <a:pt x="1588" y="226"/>
                    </a:lnTo>
                    <a:lnTo>
                      <a:pt x="1590" y="236"/>
                    </a:lnTo>
                    <a:lnTo>
                      <a:pt x="1594" y="245"/>
                    </a:lnTo>
                    <a:lnTo>
                      <a:pt x="1598" y="255"/>
                    </a:lnTo>
                    <a:lnTo>
                      <a:pt x="1600" y="268"/>
                    </a:lnTo>
                    <a:lnTo>
                      <a:pt x="1594" y="265"/>
                    </a:lnTo>
                    <a:lnTo>
                      <a:pt x="1588" y="258"/>
                    </a:lnTo>
                    <a:lnTo>
                      <a:pt x="1581" y="252"/>
                    </a:lnTo>
                    <a:lnTo>
                      <a:pt x="1571" y="251"/>
                    </a:lnTo>
                    <a:lnTo>
                      <a:pt x="1564" y="261"/>
                    </a:lnTo>
                    <a:lnTo>
                      <a:pt x="1568" y="273"/>
                    </a:lnTo>
                    <a:lnTo>
                      <a:pt x="1575" y="281"/>
                    </a:lnTo>
                    <a:lnTo>
                      <a:pt x="1581" y="291"/>
                    </a:lnTo>
                    <a:lnTo>
                      <a:pt x="1581" y="303"/>
                    </a:lnTo>
                    <a:lnTo>
                      <a:pt x="1571" y="306"/>
                    </a:lnTo>
                    <a:lnTo>
                      <a:pt x="1564" y="300"/>
                    </a:lnTo>
                    <a:lnTo>
                      <a:pt x="1553" y="293"/>
                    </a:lnTo>
                    <a:lnTo>
                      <a:pt x="1540" y="293"/>
                    </a:lnTo>
                    <a:lnTo>
                      <a:pt x="1532" y="304"/>
                    </a:lnTo>
                    <a:lnTo>
                      <a:pt x="1536" y="313"/>
                    </a:lnTo>
                    <a:lnTo>
                      <a:pt x="1542" y="320"/>
                    </a:lnTo>
                    <a:lnTo>
                      <a:pt x="1549" y="328"/>
                    </a:lnTo>
                    <a:lnTo>
                      <a:pt x="1558" y="336"/>
                    </a:lnTo>
                    <a:lnTo>
                      <a:pt x="1548" y="354"/>
                    </a:lnTo>
                    <a:lnTo>
                      <a:pt x="1527" y="338"/>
                    </a:lnTo>
                    <a:lnTo>
                      <a:pt x="1506" y="345"/>
                    </a:lnTo>
                    <a:lnTo>
                      <a:pt x="1509" y="352"/>
                    </a:lnTo>
                    <a:lnTo>
                      <a:pt x="1514" y="359"/>
                    </a:lnTo>
                    <a:lnTo>
                      <a:pt x="1523" y="365"/>
                    </a:lnTo>
                    <a:lnTo>
                      <a:pt x="1532" y="374"/>
                    </a:lnTo>
                    <a:lnTo>
                      <a:pt x="1529" y="381"/>
                    </a:lnTo>
                    <a:lnTo>
                      <a:pt x="1526" y="388"/>
                    </a:lnTo>
                    <a:lnTo>
                      <a:pt x="1520" y="394"/>
                    </a:lnTo>
                    <a:lnTo>
                      <a:pt x="1509" y="398"/>
                    </a:lnTo>
                    <a:lnTo>
                      <a:pt x="1490" y="381"/>
                    </a:lnTo>
                    <a:lnTo>
                      <a:pt x="1480" y="385"/>
                    </a:lnTo>
                    <a:lnTo>
                      <a:pt x="1475" y="397"/>
                    </a:lnTo>
                    <a:lnTo>
                      <a:pt x="1478" y="407"/>
                    </a:lnTo>
                    <a:lnTo>
                      <a:pt x="1485" y="414"/>
                    </a:lnTo>
                    <a:lnTo>
                      <a:pt x="1491" y="421"/>
                    </a:lnTo>
                    <a:lnTo>
                      <a:pt x="1493" y="434"/>
                    </a:lnTo>
                    <a:lnTo>
                      <a:pt x="1483" y="442"/>
                    </a:lnTo>
                    <a:lnTo>
                      <a:pt x="1475" y="439"/>
                    </a:lnTo>
                    <a:lnTo>
                      <a:pt x="1468" y="432"/>
                    </a:lnTo>
                    <a:lnTo>
                      <a:pt x="1461" y="423"/>
                    </a:lnTo>
                    <a:lnTo>
                      <a:pt x="1452" y="417"/>
                    </a:lnTo>
                    <a:lnTo>
                      <a:pt x="1441" y="421"/>
                    </a:lnTo>
                    <a:lnTo>
                      <a:pt x="1436" y="432"/>
                    </a:lnTo>
                    <a:lnTo>
                      <a:pt x="1441" y="439"/>
                    </a:lnTo>
                    <a:lnTo>
                      <a:pt x="1445" y="446"/>
                    </a:lnTo>
                    <a:lnTo>
                      <a:pt x="1451" y="453"/>
                    </a:lnTo>
                    <a:lnTo>
                      <a:pt x="1458" y="460"/>
                    </a:lnTo>
                    <a:lnTo>
                      <a:pt x="1452" y="472"/>
                    </a:lnTo>
                    <a:lnTo>
                      <a:pt x="1441" y="473"/>
                    </a:lnTo>
                    <a:lnTo>
                      <a:pt x="1436" y="462"/>
                    </a:lnTo>
                    <a:lnTo>
                      <a:pt x="1431" y="458"/>
                    </a:lnTo>
                    <a:lnTo>
                      <a:pt x="1425" y="453"/>
                    </a:lnTo>
                    <a:lnTo>
                      <a:pt x="1416" y="449"/>
                    </a:lnTo>
                    <a:lnTo>
                      <a:pt x="1405" y="446"/>
                    </a:lnTo>
                    <a:lnTo>
                      <a:pt x="1400" y="453"/>
                    </a:lnTo>
                    <a:lnTo>
                      <a:pt x="1403" y="463"/>
                    </a:lnTo>
                    <a:lnTo>
                      <a:pt x="1410" y="475"/>
                    </a:lnTo>
                    <a:lnTo>
                      <a:pt x="1418" y="485"/>
                    </a:lnTo>
                    <a:lnTo>
                      <a:pt x="1423" y="497"/>
                    </a:lnTo>
                    <a:lnTo>
                      <a:pt x="1413" y="515"/>
                    </a:lnTo>
                    <a:lnTo>
                      <a:pt x="1406" y="510"/>
                    </a:lnTo>
                    <a:lnTo>
                      <a:pt x="1399" y="499"/>
                    </a:lnTo>
                    <a:lnTo>
                      <a:pt x="1390" y="491"/>
                    </a:lnTo>
                    <a:lnTo>
                      <a:pt x="1376" y="485"/>
                    </a:lnTo>
                    <a:lnTo>
                      <a:pt x="1368" y="495"/>
                    </a:lnTo>
                    <a:lnTo>
                      <a:pt x="1371" y="507"/>
                    </a:lnTo>
                    <a:lnTo>
                      <a:pt x="1377" y="517"/>
                    </a:lnTo>
                    <a:lnTo>
                      <a:pt x="1383" y="527"/>
                    </a:lnTo>
                    <a:lnTo>
                      <a:pt x="1390" y="538"/>
                    </a:lnTo>
                    <a:lnTo>
                      <a:pt x="1371" y="550"/>
                    </a:lnTo>
                    <a:lnTo>
                      <a:pt x="1367" y="544"/>
                    </a:lnTo>
                    <a:lnTo>
                      <a:pt x="1363" y="537"/>
                    </a:lnTo>
                    <a:lnTo>
                      <a:pt x="1357" y="530"/>
                    </a:lnTo>
                    <a:lnTo>
                      <a:pt x="1348" y="524"/>
                    </a:lnTo>
                    <a:lnTo>
                      <a:pt x="1337" y="524"/>
                    </a:lnTo>
                    <a:lnTo>
                      <a:pt x="1334" y="534"/>
                    </a:lnTo>
                    <a:lnTo>
                      <a:pt x="1337" y="546"/>
                    </a:lnTo>
                    <a:lnTo>
                      <a:pt x="1342" y="554"/>
                    </a:lnTo>
                    <a:lnTo>
                      <a:pt x="1350" y="563"/>
                    </a:lnTo>
                    <a:lnTo>
                      <a:pt x="1355" y="576"/>
                    </a:lnTo>
                    <a:lnTo>
                      <a:pt x="1345" y="590"/>
                    </a:lnTo>
                    <a:lnTo>
                      <a:pt x="1342" y="582"/>
                    </a:lnTo>
                    <a:lnTo>
                      <a:pt x="1338" y="575"/>
                    </a:lnTo>
                    <a:lnTo>
                      <a:pt x="1331" y="567"/>
                    </a:lnTo>
                    <a:lnTo>
                      <a:pt x="1324" y="559"/>
                    </a:lnTo>
                    <a:lnTo>
                      <a:pt x="1302" y="569"/>
                    </a:lnTo>
                    <a:lnTo>
                      <a:pt x="1306" y="580"/>
                    </a:lnTo>
                    <a:lnTo>
                      <a:pt x="1312" y="589"/>
                    </a:lnTo>
                    <a:lnTo>
                      <a:pt x="1319" y="598"/>
                    </a:lnTo>
                    <a:lnTo>
                      <a:pt x="1325" y="611"/>
                    </a:lnTo>
                    <a:lnTo>
                      <a:pt x="1332" y="632"/>
                    </a:lnTo>
                    <a:lnTo>
                      <a:pt x="1352" y="628"/>
                    </a:lnTo>
                    <a:lnTo>
                      <a:pt x="1364" y="615"/>
                    </a:lnTo>
                    <a:lnTo>
                      <a:pt x="1374" y="602"/>
                    </a:lnTo>
                    <a:lnTo>
                      <a:pt x="1386" y="589"/>
                    </a:lnTo>
                    <a:lnTo>
                      <a:pt x="1397" y="576"/>
                    </a:lnTo>
                    <a:lnTo>
                      <a:pt x="1409" y="563"/>
                    </a:lnTo>
                    <a:lnTo>
                      <a:pt x="1422" y="549"/>
                    </a:lnTo>
                    <a:lnTo>
                      <a:pt x="1433" y="536"/>
                    </a:lnTo>
                    <a:lnTo>
                      <a:pt x="1445" y="523"/>
                    </a:lnTo>
                    <a:lnTo>
                      <a:pt x="1475" y="491"/>
                    </a:lnTo>
                    <a:lnTo>
                      <a:pt x="1503" y="459"/>
                    </a:lnTo>
                    <a:lnTo>
                      <a:pt x="1529" y="429"/>
                    </a:lnTo>
                    <a:lnTo>
                      <a:pt x="1552" y="398"/>
                    </a:lnTo>
                    <a:lnTo>
                      <a:pt x="1572" y="369"/>
                    </a:lnTo>
                    <a:lnTo>
                      <a:pt x="1593" y="341"/>
                    </a:lnTo>
                    <a:lnTo>
                      <a:pt x="1613" y="312"/>
                    </a:lnTo>
                    <a:lnTo>
                      <a:pt x="1632" y="283"/>
                    </a:lnTo>
                    <a:lnTo>
                      <a:pt x="1639" y="276"/>
                    </a:lnTo>
                    <a:lnTo>
                      <a:pt x="1645" y="270"/>
                    </a:lnTo>
                    <a:lnTo>
                      <a:pt x="1650" y="265"/>
                    </a:lnTo>
                    <a:lnTo>
                      <a:pt x="1660" y="258"/>
                    </a:lnTo>
                    <a:lnTo>
                      <a:pt x="1669" y="263"/>
                    </a:lnTo>
                    <a:lnTo>
                      <a:pt x="1678" y="265"/>
                    </a:lnTo>
                    <a:lnTo>
                      <a:pt x="1686" y="268"/>
                    </a:lnTo>
                    <a:lnTo>
                      <a:pt x="1695" y="274"/>
                    </a:lnTo>
                    <a:lnTo>
                      <a:pt x="1705" y="294"/>
                    </a:lnTo>
                    <a:lnTo>
                      <a:pt x="1684" y="294"/>
                    </a:lnTo>
                    <a:lnTo>
                      <a:pt x="1679" y="306"/>
                    </a:lnTo>
                    <a:lnTo>
                      <a:pt x="1684" y="313"/>
                    </a:lnTo>
                    <a:lnTo>
                      <a:pt x="1689" y="319"/>
                    </a:lnTo>
                    <a:lnTo>
                      <a:pt x="1695" y="326"/>
                    </a:lnTo>
                    <a:lnTo>
                      <a:pt x="1700" y="338"/>
                    </a:lnTo>
                    <a:lnTo>
                      <a:pt x="1691" y="352"/>
                    </a:lnTo>
                    <a:lnTo>
                      <a:pt x="1684" y="345"/>
                    </a:lnTo>
                    <a:lnTo>
                      <a:pt x="1679" y="338"/>
                    </a:lnTo>
                    <a:lnTo>
                      <a:pt x="1672" y="333"/>
                    </a:lnTo>
                    <a:lnTo>
                      <a:pt x="1662" y="336"/>
                    </a:lnTo>
                    <a:lnTo>
                      <a:pt x="1656" y="346"/>
                    </a:lnTo>
                    <a:lnTo>
                      <a:pt x="1662" y="355"/>
                    </a:lnTo>
                    <a:lnTo>
                      <a:pt x="1666" y="367"/>
                    </a:lnTo>
                    <a:lnTo>
                      <a:pt x="1671" y="378"/>
                    </a:lnTo>
                    <a:lnTo>
                      <a:pt x="1679" y="388"/>
                    </a:lnTo>
                    <a:lnTo>
                      <a:pt x="1675" y="400"/>
                    </a:lnTo>
                    <a:lnTo>
                      <a:pt x="1668" y="394"/>
                    </a:lnTo>
                    <a:lnTo>
                      <a:pt x="1663" y="387"/>
                    </a:lnTo>
                    <a:lnTo>
                      <a:pt x="1658" y="381"/>
                    </a:lnTo>
                    <a:lnTo>
                      <a:pt x="1650" y="378"/>
                    </a:lnTo>
                    <a:lnTo>
                      <a:pt x="1639" y="382"/>
                    </a:lnTo>
                    <a:lnTo>
                      <a:pt x="1642" y="398"/>
                    </a:lnTo>
                    <a:lnTo>
                      <a:pt x="1647" y="413"/>
                    </a:lnTo>
                    <a:lnTo>
                      <a:pt x="1650" y="429"/>
                    </a:lnTo>
                    <a:lnTo>
                      <a:pt x="1647" y="447"/>
                    </a:lnTo>
                    <a:lnTo>
                      <a:pt x="1639" y="443"/>
                    </a:lnTo>
                    <a:lnTo>
                      <a:pt x="1633" y="434"/>
                    </a:lnTo>
                    <a:lnTo>
                      <a:pt x="1627" y="424"/>
                    </a:lnTo>
                    <a:lnTo>
                      <a:pt x="1614" y="417"/>
                    </a:lnTo>
                    <a:lnTo>
                      <a:pt x="1606" y="421"/>
                    </a:lnTo>
                    <a:lnTo>
                      <a:pt x="1603" y="433"/>
                    </a:lnTo>
                    <a:lnTo>
                      <a:pt x="1607" y="442"/>
                    </a:lnTo>
                    <a:lnTo>
                      <a:pt x="1611" y="450"/>
                    </a:lnTo>
                    <a:lnTo>
                      <a:pt x="1616" y="460"/>
                    </a:lnTo>
                    <a:lnTo>
                      <a:pt x="1619" y="475"/>
                    </a:lnTo>
                    <a:lnTo>
                      <a:pt x="1619" y="482"/>
                    </a:lnTo>
                    <a:lnTo>
                      <a:pt x="1619" y="488"/>
                    </a:lnTo>
                    <a:lnTo>
                      <a:pt x="1614" y="494"/>
                    </a:lnTo>
                    <a:lnTo>
                      <a:pt x="1607" y="494"/>
                    </a:lnTo>
                    <a:lnTo>
                      <a:pt x="1606" y="486"/>
                    </a:lnTo>
                    <a:lnTo>
                      <a:pt x="1600" y="481"/>
                    </a:lnTo>
                    <a:lnTo>
                      <a:pt x="1594" y="475"/>
                    </a:lnTo>
                    <a:lnTo>
                      <a:pt x="1588" y="466"/>
                    </a:lnTo>
                    <a:lnTo>
                      <a:pt x="1566" y="468"/>
                    </a:lnTo>
                    <a:lnTo>
                      <a:pt x="1569" y="481"/>
                    </a:lnTo>
                    <a:lnTo>
                      <a:pt x="1575" y="497"/>
                    </a:lnTo>
                    <a:lnTo>
                      <a:pt x="1582" y="514"/>
                    </a:lnTo>
                    <a:lnTo>
                      <a:pt x="1591" y="533"/>
                    </a:lnTo>
                    <a:lnTo>
                      <a:pt x="1590" y="538"/>
                    </a:lnTo>
                    <a:lnTo>
                      <a:pt x="1585" y="544"/>
                    </a:lnTo>
                    <a:lnTo>
                      <a:pt x="1578" y="550"/>
                    </a:lnTo>
                    <a:lnTo>
                      <a:pt x="1571" y="557"/>
                    </a:lnTo>
                    <a:lnTo>
                      <a:pt x="1569" y="550"/>
                    </a:lnTo>
                    <a:lnTo>
                      <a:pt x="1568" y="543"/>
                    </a:lnTo>
                    <a:lnTo>
                      <a:pt x="1564" y="536"/>
                    </a:lnTo>
                    <a:lnTo>
                      <a:pt x="1561" y="527"/>
                    </a:lnTo>
                    <a:lnTo>
                      <a:pt x="1556" y="520"/>
                    </a:lnTo>
                    <a:lnTo>
                      <a:pt x="1548" y="515"/>
                    </a:lnTo>
                    <a:lnTo>
                      <a:pt x="1538" y="514"/>
                    </a:lnTo>
                    <a:lnTo>
                      <a:pt x="1529" y="521"/>
                    </a:lnTo>
                    <a:lnTo>
                      <a:pt x="1535" y="536"/>
                    </a:lnTo>
                    <a:lnTo>
                      <a:pt x="1540" y="551"/>
                    </a:lnTo>
                    <a:lnTo>
                      <a:pt x="1545" y="569"/>
                    </a:lnTo>
                    <a:lnTo>
                      <a:pt x="1552" y="583"/>
                    </a:lnTo>
                    <a:lnTo>
                      <a:pt x="1552" y="592"/>
                    </a:lnTo>
                    <a:lnTo>
                      <a:pt x="1551" y="601"/>
                    </a:lnTo>
                    <a:lnTo>
                      <a:pt x="1546" y="608"/>
                    </a:lnTo>
                    <a:lnTo>
                      <a:pt x="1538" y="615"/>
                    </a:lnTo>
                    <a:lnTo>
                      <a:pt x="1536" y="606"/>
                    </a:lnTo>
                    <a:lnTo>
                      <a:pt x="1532" y="601"/>
                    </a:lnTo>
                    <a:lnTo>
                      <a:pt x="1527" y="593"/>
                    </a:lnTo>
                    <a:lnTo>
                      <a:pt x="1523" y="583"/>
                    </a:lnTo>
                    <a:lnTo>
                      <a:pt x="1516" y="576"/>
                    </a:lnTo>
                    <a:lnTo>
                      <a:pt x="1510" y="570"/>
                    </a:lnTo>
                    <a:lnTo>
                      <a:pt x="1503" y="566"/>
                    </a:lnTo>
                    <a:lnTo>
                      <a:pt x="1493" y="570"/>
                    </a:lnTo>
                    <a:lnTo>
                      <a:pt x="1493" y="582"/>
                    </a:lnTo>
                    <a:lnTo>
                      <a:pt x="1499" y="586"/>
                    </a:lnTo>
                    <a:lnTo>
                      <a:pt x="1501" y="595"/>
                    </a:lnTo>
                    <a:lnTo>
                      <a:pt x="1504" y="605"/>
                    </a:lnTo>
                    <a:lnTo>
                      <a:pt x="1509" y="612"/>
                    </a:lnTo>
                    <a:lnTo>
                      <a:pt x="1510" y="625"/>
                    </a:lnTo>
                    <a:lnTo>
                      <a:pt x="1512" y="637"/>
                    </a:lnTo>
                    <a:lnTo>
                      <a:pt x="1513" y="650"/>
                    </a:lnTo>
                    <a:lnTo>
                      <a:pt x="1510" y="663"/>
                    </a:lnTo>
                    <a:lnTo>
                      <a:pt x="1503" y="657"/>
                    </a:lnTo>
                    <a:lnTo>
                      <a:pt x="1499" y="648"/>
                    </a:lnTo>
                    <a:lnTo>
                      <a:pt x="1494" y="640"/>
                    </a:lnTo>
                    <a:lnTo>
                      <a:pt x="1485" y="630"/>
                    </a:lnTo>
                    <a:lnTo>
                      <a:pt x="1480" y="627"/>
                    </a:lnTo>
                    <a:lnTo>
                      <a:pt x="1471" y="622"/>
                    </a:lnTo>
                    <a:lnTo>
                      <a:pt x="1461" y="621"/>
                    </a:lnTo>
                    <a:lnTo>
                      <a:pt x="1455" y="630"/>
                    </a:lnTo>
                    <a:lnTo>
                      <a:pt x="1465" y="644"/>
                    </a:lnTo>
                    <a:lnTo>
                      <a:pt x="1474" y="661"/>
                    </a:lnTo>
                    <a:lnTo>
                      <a:pt x="1480" y="682"/>
                    </a:lnTo>
                    <a:lnTo>
                      <a:pt x="1487" y="703"/>
                    </a:lnTo>
                    <a:lnTo>
                      <a:pt x="1485" y="712"/>
                    </a:lnTo>
                    <a:lnTo>
                      <a:pt x="1481" y="718"/>
                    </a:lnTo>
                    <a:lnTo>
                      <a:pt x="1475" y="725"/>
                    </a:lnTo>
                    <a:lnTo>
                      <a:pt x="1472" y="735"/>
                    </a:lnTo>
                    <a:lnTo>
                      <a:pt x="1465" y="731"/>
                    </a:lnTo>
                    <a:lnTo>
                      <a:pt x="1459" y="715"/>
                    </a:lnTo>
                    <a:lnTo>
                      <a:pt x="1454" y="699"/>
                    </a:lnTo>
                    <a:lnTo>
                      <a:pt x="1446" y="683"/>
                    </a:lnTo>
                    <a:lnTo>
                      <a:pt x="1438" y="670"/>
                    </a:lnTo>
                    <a:lnTo>
                      <a:pt x="1426" y="663"/>
                    </a:lnTo>
                    <a:lnTo>
                      <a:pt x="1415" y="670"/>
                    </a:lnTo>
                    <a:lnTo>
                      <a:pt x="1418" y="683"/>
                    </a:lnTo>
                    <a:lnTo>
                      <a:pt x="1422" y="697"/>
                    </a:lnTo>
                    <a:lnTo>
                      <a:pt x="1429" y="712"/>
                    </a:lnTo>
                    <a:lnTo>
                      <a:pt x="1436" y="726"/>
                    </a:lnTo>
                    <a:lnTo>
                      <a:pt x="1442" y="741"/>
                    </a:lnTo>
                    <a:lnTo>
                      <a:pt x="1446" y="755"/>
                    </a:lnTo>
                    <a:lnTo>
                      <a:pt x="1446" y="771"/>
                    </a:lnTo>
                    <a:lnTo>
                      <a:pt x="1442" y="786"/>
                    </a:lnTo>
                    <a:lnTo>
                      <a:pt x="1435" y="786"/>
                    </a:lnTo>
                    <a:lnTo>
                      <a:pt x="1431" y="767"/>
                    </a:lnTo>
                    <a:lnTo>
                      <a:pt x="1422" y="751"/>
                    </a:lnTo>
                    <a:lnTo>
                      <a:pt x="1412" y="736"/>
                    </a:lnTo>
                    <a:lnTo>
                      <a:pt x="1400" y="721"/>
                    </a:lnTo>
                    <a:lnTo>
                      <a:pt x="1389" y="722"/>
                    </a:lnTo>
                    <a:lnTo>
                      <a:pt x="1381" y="732"/>
                    </a:lnTo>
                    <a:lnTo>
                      <a:pt x="1390" y="751"/>
                    </a:lnTo>
                    <a:lnTo>
                      <a:pt x="1400" y="771"/>
                    </a:lnTo>
                    <a:lnTo>
                      <a:pt x="1409" y="793"/>
                    </a:lnTo>
                    <a:lnTo>
                      <a:pt x="1415" y="817"/>
                    </a:lnTo>
                    <a:lnTo>
                      <a:pt x="1406" y="826"/>
                    </a:lnTo>
                    <a:lnTo>
                      <a:pt x="1403" y="820"/>
                    </a:lnTo>
                    <a:lnTo>
                      <a:pt x="1402" y="813"/>
                    </a:lnTo>
                    <a:lnTo>
                      <a:pt x="1399" y="807"/>
                    </a:lnTo>
                    <a:lnTo>
                      <a:pt x="1393" y="800"/>
                    </a:lnTo>
                    <a:lnTo>
                      <a:pt x="1386" y="791"/>
                    </a:lnTo>
                    <a:lnTo>
                      <a:pt x="1381" y="784"/>
                    </a:lnTo>
                    <a:lnTo>
                      <a:pt x="1374" y="777"/>
                    </a:lnTo>
                    <a:lnTo>
                      <a:pt x="1364" y="768"/>
                    </a:lnTo>
                    <a:lnTo>
                      <a:pt x="1354" y="768"/>
                    </a:lnTo>
                    <a:lnTo>
                      <a:pt x="1351" y="778"/>
                    </a:lnTo>
                    <a:lnTo>
                      <a:pt x="1358" y="796"/>
                    </a:lnTo>
                    <a:lnTo>
                      <a:pt x="1365" y="812"/>
                    </a:lnTo>
                    <a:lnTo>
                      <a:pt x="1374" y="829"/>
                    </a:lnTo>
                    <a:lnTo>
                      <a:pt x="1381" y="851"/>
                    </a:lnTo>
                    <a:lnTo>
                      <a:pt x="1365" y="872"/>
                    </a:lnTo>
                    <a:lnTo>
                      <a:pt x="1358" y="861"/>
                    </a:lnTo>
                    <a:lnTo>
                      <a:pt x="1352" y="848"/>
                    </a:lnTo>
                    <a:lnTo>
                      <a:pt x="1344" y="833"/>
                    </a:lnTo>
                    <a:lnTo>
                      <a:pt x="1335" y="820"/>
                    </a:lnTo>
                    <a:lnTo>
                      <a:pt x="1313" y="823"/>
                    </a:lnTo>
                    <a:lnTo>
                      <a:pt x="1316" y="840"/>
                    </a:lnTo>
                    <a:lnTo>
                      <a:pt x="1326" y="858"/>
                    </a:lnTo>
                    <a:lnTo>
                      <a:pt x="1338" y="877"/>
                    </a:lnTo>
                    <a:lnTo>
                      <a:pt x="1345" y="898"/>
                    </a:lnTo>
                    <a:lnTo>
                      <a:pt x="1347" y="905"/>
                    </a:lnTo>
                    <a:lnTo>
                      <a:pt x="1345" y="911"/>
                    </a:lnTo>
                    <a:lnTo>
                      <a:pt x="1341" y="917"/>
                    </a:lnTo>
                    <a:lnTo>
                      <a:pt x="1332" y="923"/>
                    </a:lnTo>
                    <a:lnTo>
                      <a:pt x="1329" y="917"/>
                    </a:lnTo>
                    <a:lnTo>
                      <a:pt x="1325" y="911"/>
                    </a:lnTo>
                    <a:lnTo>
                      <a:pt x="1321" y="904"/>
                    </a:lnTo>
                    <a:lnTo>
                      <a:pt x="1315" y="897"/>
                    </a:lnTo>
                    <a:lnTo>
                      <a:pt x="1311" y="891"/>
                    </a:lnTo>
                    <a:lnTo>
                      <a:pt x="1303" y="884"/>
                    </a:lnTo>
                    <a:lnTo>
                      <a:pt x="1296" y="878"/>
                    </a:lnTo>
                    <a:lnTo>
                      <a:pt x="1289" y="874"/>
                    </a:lnTo>
                    <a:lnTo>
                      <a:pt x="1279" y="877"/>
                    </a:lnTo>
                    <a:lnTo>
                      <a:pt x="1283" y="897"/>
                    </a:lnTo>
                    <a:lnTo>
                      <a:pt x="1293" y="916"/>
                    </a:lnTo>
                    <a:lnTo>
                      <a:pt x="1305" y="931"/>
                    </a:lnTo>
                    <a:lnTo>
                      <a:pt x="1313" y="950"/>
                    </a:lnTo>
                    <a:lnTo>
                      <a:pt x="1313" y="960"/>
                    </a:lnTo>
                    <a:lnTo>
                      <a:pt x="1313" y="969"/>
                    </a:lnTo>
                    <a:lnTo>
                      <a:pt x="1309" y="976"/>
                    </a:lnTo>
                    <a:lnTo>
                      <a:pt x="1305" y="983"/>
                    </a:lnTo>
                    <a:lnTo>
                      <a:pt x="1299" y="992"/>
                    </a:lnTo>
                    <a:lnTo>
                      <a:pt x="1289" y="997"/>
                    </a:lnTo>
                    <a:lnTo>
                      <a:pt x="1287" y="989"/>
                    </a:lnTo>
                    <a:lnTo>
                      <a:pt x="1284" y="982"/>
                    </a:lnTo>
                    <a:lnTo>
                      <a:pt x="1282" y="975"/>
                    </a:lnTo>
                    <a:lnTo>
                      <a:pt x="1277" y="965"/>
                    </a:lnTo>
                    <a:lnTo>
                      <a:pt x="1271" y="955"/>
                    </a:lnTo>
                    <a:lnTo>
                      <a:pt x="1263" y="943"/>
                    </a:lnTo>
                    <a:lnTo>
                      <a:pt x="1253" y="933"/>
                    </a:lnTo>
                    <a:lnTo>
                      <a:pt x="1241" y="926"/>
                    </a:lnTo>
                    <a:lnTo>
                      <a:pt x="1234" y="937"/>
                    </a:lnTo>
                    <a:lnTo>
                      <a:pt x="1244" y="960"/>
                    </a:lnTo>
                    <a:lnTo>
                      <a:pt x="1254" y="982"/>
                    </a:lnTo>
                    <a:lnTo>
                      <a:pt x="1266" y="1005"/>
                    </a:lnTo>
                    <a:lnTo>
                      <a:pt x="1276" y="1031"/>
                    </a:lnTo>
                    <a:lnTo>
                      <a:pt x="1260" y="1050"/>
                    </a:lnTo>
                    <a:lnTo>
                      <a:pt x="1253" y="1037"/>
                    </a:lnTo>
                    <a:lnTo>
                      <a:pt x="1247" y="1024"/>
                    </a:lnTo>
                    <a:lnTo>
                      <a:pt x="1238" y="1010"/>
                    </a:lnTo>
                    <a:lnTo>
                      <a:pt x="1230" y="995"/>
                    </a:lnTo>
                    <a:lnTo>
                      <a:pt x="1208" y="979"/>
                    </a:lnTo>
                    <a:lnTo>
                      <a:pt x="1201" y="986"/>
                    </a:lnTo>
                    <a:lnTo>
                      <a:pt x="1201" y="997"/>
                    </a:lnTo>
                    <a:lnTo>
                      <a:pt x="1212" y="1017"/>
                    </a:lnTo>
                    <a:lnTo>
                      <a:pt x="1221" y="1036"/>
                    </a:lnTo>
                    <a:lnTo>
                      <a:pt x="1231" y="1057"/>
                    </a:lnTo>
                    <a:lnTo>
                      <a:pt x="1241" y="1080"/>
                    </a:lnTo>
                    <a:lnTo>
                      <a:pt x="1227" y="1102"/>
                    </a:lnTo>
                    <a:lnTo>
                      <a:pt x="1219" y="1093"/>
                    </a:lnTo>
                    <a:lnTo>
                      <a:pt x="1219" y="1082"/>
                    </a:lnTo>
                    <a:lnTo>
                      <a:pt x="1208" y="1062"/>
                    </a:lnTo>
                    <a:lnTo>
                      <a:pt x="1202" y="1051"/>
                    </a:lnTo>
                    <a:lnTo>
                      <a:pt x="1195" y="1041"/>
                    </a:lnTo>
                    <a:lnTo>
                      <a:pt x="1186" y="1033"/>
                    </a:lnTo>
                    <a:lnTo>
                      <a:pt x="1175" y="1024"/>
                    </a:lnTo>
                    <a:lnTo>
                      <a:pt x="1162" y="1017"/>
                    </a:lnTo>
                    <a:lnTo>
                      <a:pt x="1159" y="1037"/>
                    </a:lnTo>
                    <a:lnTo>
                      <a:pt x="1164" y="1047"/>
                    </a:lnTo>
                    <a:lnTo>
                      <a:pt x="1172" y="1057"/>
                    </a:lnTo>
                    <a:lnTo>
                      <a:pt x="1179" y="1069"/>
                    </a:lnTo>
                    <a:lnTo>
                      <a:pt x="1185" y="1080"/>
                    </a:lnTo>
                    <a:lnTo>
                      <a:pt x="1192" y="1092"/>
                    </a:lnTo>
                    <a:lnTo>
                      <a:pt x="1196" y="1105"/>
                    </a:lnTo>
                    <a:lnTo>
                      <a:pt x="1201" y="1118"/>
                    </a:lnTo>
                    <a:lnTo>
                      <a:pt x="1202" y="1132"/>
                    </a:lnTo>
                    <a:lnTo>
                      <a:pt x="1186" y="1154"/>
                    </a:lnTo>
                    <a:lnTo>
                      <a:pt x="1179" y="1145"/>
                    </a:lnTo>
                    <a:lnTo>
                      <a:pt x="1176" y="1135"/>
                    </a:lnTo>
                    <a:lnTo>
                      <a:pt x="1172" y="1125"/>
                    </a:lnTo>
                    <a:lnTo>
                      <a:pt x="1167" y="1116"/>
                    </a:lnTo>
                    <a:lnTo>
                      <a:pt x="1163" y="1108"/>
                    </a:lnTo>
                    <a:lnTo>
                      <a:pt x="1157" y="1099"/>
                    </a:lnTo>
                    <a:lnTo>
                      <a:pt x="1151" y="1090"/>
                    </a:lnTo>
                    <a:lnTo>
                      <a:pt x="1144" y="1082"/>
                    </a:lnTo>
                    <a:lnTo>
                      <a:pt x="1136" y="1073"/>
                    </a:lnTo>
                    <a:lnTo>
                      <a:pt x="1114" y="1075"/>
                    </a:lnTo>
                    <a:lnTo>
                      <a:pt x="1118" y="1095"/>
                    </a:lnTo>
                    <a:lnTo>
                      <a:pt x="1125" y="1101"/>
                    </a:lnTo>
                    <a:lnTo>
                      <a:pt x="1131" y="1109"/>
                    </a:lnTo>
                    <a:lnTo>
                      <a:pt x="1137" y="1118"/>
                    </a:lnTo>
                    <a:lnTo>
                      <a:pt x="1141" y="1128"/>
                    </a:lnTo>
                    <a:lnTo>
                      <a:pt x="1146" y="1138"/>
                    </a:lnTo>
                    <a:lnTo>
                      <a:pt x="1151" y="1148"/>
                    </a:lnTo>
                    <a:lnTo>
                      <a:pt x="1157" y="1158"/>
                    </a:lnTo>
                    <a:lnTo>
                      <a:pt x="1163" y="1167"/>
                    </a:lnTo>
                    <a:lnTo>
                      <a:pt x="1170" y="1171"/>
                    </a:lnTo>
                    <a:lnTo>
                      <a:pt x="1163" y="1177"/>
                    </a:lnTo>
                    <a:lnTo>
                      <a:pt x="1159" y="1184"/>
                    </a:lnTo>
                    <a:lnTo>
                      <a:pt x="1154" y="1193"/>
                    </a:lnTo>
                    <a:lnTo>
                      <a:pt x="1144" y="1199"/>
                    </a:lnTo>
                    <a:lnTo>
                      <a:pt x="1140" y="1189"/>
                    </a:lnTo>
                    <a:lnTo>
                      <a:pt x="1136" y="1180"/>
                    </a:lnTo>
                    <a:lnTo>
                      <a:pt x="1131" y="1171"/>
                    </a:lnTo>
                    <a:lnTo>
                      <a:pt x="1127" y="1163"/>
                    </a:lnTo>
                    <a:lnTo>
                      <a:pt x="1121" y="1154"/>
                    </a:lnTo>
                    <a:lnTo>
                      <a:pt x="1115" y="1145"/>
                    </a:lnTo>
                    <a:lnTo>
                      <a:pt x="1110" y="1137"/>
                    </a:lnTo>
                    <a:lnTo>
                      <a:pt x="1101" y="1128"/>
                    </a:lnTo>
                    <a:lnTo>
                      <a:pt x="1094" y="1127"/>
                    </a:lnTo>
                    <a:lnTo>
                      <a:pt x="1086" y="1124"/>
                    </a:lnTo>
                    <a:lnTo>
                      <a:pt x="1079" y="1124"/>
                    </a:lnTo>
                    <a:lnTo>
                      <a:pt x="1070" y="1129"/>
                    </a:lnTo>
                    <a:lnTo>
                      <a:pt x="1072" y="1138"/>
                    </a:lnTo>
                    <a:lnTo>
                      <a:pt x="1079" y="1144"/>
                    </a:lnTo>
                    <a:lnTo>
                      <a:pt x="1085" y="1150"/>
                    </a:lnTo>
                    <a:lnTo>
                      <a:pt x="1091" y="1158"/>
                    </a:lnTo>
                    <a:lnTo>
                      <a:pt x="1097" y="1167"/>
                    </a:lnTo>
                    <a:lnTo>
                      <a:pt x="1101" y="1176"/>
                    </a:lnTo>
                    <a:lnTo>
                      <a:pt x="1105" y="1186"/>
                    </a:lnTo>
                    <a:lnTo>
                      <a:pt x="1111" y="1197"/>
                    </a:lnTo>
                    <a:lnTo>
                      <a:pt x="1115" y="1207"/>
                    </a:lnTo>
                    <a:lnTo>
                      <a:pt x="1125" y="1218"/>
                    </a:lnTo>
                    <a:lnTo>
                      <a:pt x="1118" y="1223"/>
                    </a:lnTo>
                    <a:lnTo>
                      <a:pt x="1114" y="1231"/>
                    </a:lnTo>
                    <a:lnTo>
                      <a:pt x="1107" y="1236"/>
                    </a:lnTo>
                    <a:lnTo>
                      <a:pt x="1098" y="1239"/>
                    </a:lnTo>
                    <a:lnTo>
                      <a:pt x="1091" y="1232"/>
                    </a:lnTo>
                    <a:lnTo>
                      <a:pt x="1085" y="1223"/>
                    </a:lnTo>
                    <a:lnTo>
                      <a:pt x="1079" y="1213"/>
                    </a:lnTo>
                    <a:lnTo>
                      <a:pt x="1072" y="1205"/>
                    </a:lnTo>
                    <a:lnTo>
                      <a:pt x="1039" y="1168"/>
                    </a:lnTo>
                    <a:lnTo>
                      <a:pt x="1023" y="1183"/>
                    </a:lnTo>
                    <a:lnTo>
                      <a:pt x="1030" y="1192"/>
                    </a:lnTo>
                    <a:lnTo>
                      <a:pt x="1037" y="1200"/>
                    </a:lnTo>
                    <a:lnTo>
                      <a:pt x="1044" y="1209"/>
                    </a:lnTo>
                    <a:lnTo>
                      <a:pt x="1050" y="1220"/>
                    </a:lnTo>
                    <a:lnTo>
                      <a:pt x="1056" y="1231"/>
                    </a:lnTo>
                    <a:lnTo>
                      <a:pt x="1062" y="1244"/>
                    </a:lnTo>
                    <a:lnTo>
                      <a:pt x="1068" y="1255"/>
                    </a:lnTo>
                    <a:lnTo>
                      <a:pt x="1073" y="1268"/>
                    </a:lnTo>
                    <a:lnTo>
                      <a:pt x="1055" y="1280"/>
                    </a:lnTo>
                    <a:lnTo>
                      <a:pt x="1047" y="1274"/>
                    </a:lnTo>
                    <a:lnTo>
                      <a:pt x="1040" y="1268"/>
                    </a:lnTo>
                    <a:lnTo>
                      <a:pt x="1034" y="1259"/>
                    </a:lnTo>
                    <a:lnTo>
                      <a:pt x="1029" y="1249"/>
                    </a:lnTo>
                    <a:lnTo>
                      <a:pt x="1023" y="1241"/>
                    </a:lnTo>
                    <a:lnTo>
                      <a:pt x="1016" y="1231"/>
                    </a:lnTo>
                    <a:lnTo>
                      <a:pt x="1007" y="1220"/>
                    </a:lnTo>
                    <a:lnTo>
                      <a:pt x="997" y="1210"/>
                    </a:lnTo>
                    <a:lnTo>
                      <a:pt x="978" y="1215"/>
                    </a:lnTo>
                    <a:lnTo>
                      <a:pt x="978" y="1225"/>
                    </a:lnTo>
                    <a:lnTo>
                      <a:pt x="991" y="1235"/>
                    </a:lnTo>
                    <a:lnTo>
                      <a:pt x="992" y="1245"/>
                    </a:lnTo>
                    <a:lnTo>
                      <a:pt x="997" y="1251"/>
                    </a:lnTo>
                    <a:lnTo>
                      <a:pt x="1003" y="1258"/>
                    </a:lnTo>
                    <a:lnTo>
                      <a:pt x="1005" y="1268"/>
                    </a:lnTo>
                    <a:lnTo>
                      <a:pt x="1011" y="1275"/>
                    </a:lnTo>
                    <a:lnTo>
                      <a:pt x="1016" y="1283"/>
                    </a:lnTo>
                    <a:lnTo>
                      <a:pt x="1023" y="1290"/>
                    </a:lnTo>
                    <a:lnTo>
                      <a:pt x="1031" y="1298"/>
                    </a:lnTo>
                    <a:lnTo>
                      <a:pt x="1029" y="1306"/>
                    </a:lnTo>
                    <a:lnTo>
                      <a:pt x="1021" y="1310"/>
                    </a:lnTo>
                    <a:lnTo>
                      <a:pt x="1011" y="1314"/>
                    </a:lnTo>
                    <a:lnTo>
                      <a:pt x="1004" y="1320"/>
                    </a:lnTo>
                    <a:lnTo>
                      <a:pt x="995" y="1313"/>
                    </a:lnTo>
                    <a:lnTo>
                      <a:pt x="988" y="1306"/>
                    </a:lnTo>
                    <a:lnTo>
                      <a:pt x="981" y="1298"/>
                    </a:lnTo>
                    <a:lnTo>
                      <a:pt x="975" y="1291"/>
                    </a:lnTo>
                    <a:lnTo>
                      <a:pt x="968" y="1283"/>
                    </a:lnTo>
                    <a:lnTo>
                      <a:pt x="962" y="1275"/>
                    </a:lnTo>
                    <a:lnTo>
                      <a:pt x="955" y="1267"/>
                    </a:lnTo>
                    <a:lnTo>
                      <a:pt x="948" y="1259"/>
                    </a:lnTo>
                    <a:lnTo>
                      <a:pt x="926" y="1258"/>
                    </a:lnTo>
                    <a:lnTo>
                      <a:pt x="926" y="1268"/>
                    </a:lnTo>
                    <a:lnTo>
                      <a:pt x="929" y="1277"/>
                    </a:lnTo>
                    <a:lnTo>
                      <a:pt x="935" y="1285"/>
                    </a:lnTo>
                    <a:lnTo>
                      <a:pt x="940" y="1293"/>
                    </a:lnTo>
                    <a:lnTo>
                      <a:pt x="946" y="1300"/>
                    </a:lnTo>
                    <a:lnTo>
                      <a:pt x="953" y="1307"/>
                    </a:lnTo>
                    <a:lnTo>
                      <a:pt x="959" y="1314"/>
                    </a:lnTo>
                    <a:lnTo>
                      <a:pt x="966" y="1323"/>
                    </a:lnTo>
                    <a:lnTo>
                      <a:pt x="972" y="1332"/>
                    </a:lnTo>
                    <a:lnTo>
                      <a:pt x="974" y="1340"/>
                    </a:lnTo>
                    <a:lnTo>
                      <a:pt x="952" y="1348"/>
                    </a:lnTo>
                    <a:lnTo>
                      <a:pt x="943" y="1343"/>
                    </a:lnTo>
                    <a:lnTo>
                      <a:pt x="935" y="1339"/>
                    </a:lnTo>
                    <a:lnTo>
                      <a:pt x="926" y="1332"/>
                    </a:lnTo>
                    <a:lnTo>
                      <a:pt x="917" y="1323"/>
                    </a:lnTo>
                    <a:lnTo>
                      <a:pt x="909" y="1316"/>
                    </a:lnTo>
                    <a:lnTo>
                      <a:pt x="900" y="1307"/>
                    </a:lnTo>
                    <a:lnTo>
                      <a:pt x="891" y="1300"/>
                    </a:lnTo>
                    <a:lnTo>
                      <a:pt x="882" y="1294"/>
                    </a:lnTo>
                    <a:lnTo>
                      <a:pt x="869" y="1311"/>
                    </a:lnTo>
                    <a:lnTo>
                      <a:pt x="875" y="1319"/>
                    </a:lnTo>
                    <a:lnTo>
                      <a:pt x="881" y="1326"/>
                    </a:lnTo>
                    <a:lnTo>
                      <a:pt x="887" y="1333"/>
                    </a:lnTo>
                    <a:lnTo>
                      <a:pt x="893" y="1342"/>
                    </a:lnTo>
                    <a:lnTo>
                      <a:pt x="900" y="1349"/>
                    </a:lnTo>
                    <a:lnTo>
                      <a:pt x="907" y="1356"/>
                    </a:lnTo>
                    <a:lnTo>
                      <a:pt x="916" y="1362"/>
                    </a:lnTo>
                    <a:lnTo>
                      <a:pt x="924" y="1366"/>
                    </a:lnTo>
                    <a:lnTo>
                      <a:pt x="916" y="1374"/>
                    </a:lnTo>
                    <a:lnTo>
                      <a:pt x="909" y="1381"/>
                    </a:lnTo>
                    <a:lnTo>
                      <a:pt x="901" y="1387"/>
                    </a:lnTo>
                    <a:lnTo>
                      <a:pt x="891" y="1391"/>
                    </a:lnTo>
                    <a:lnTo>
                      <a:pt x="884" y="1384"/>
                    </a:lnTo>
                    <a:lnTo>
                      <a:pt x="877" y="1375"/>
                    </a:lnTo>
                    <a:lnTo>
                      <a:pt x="868" y="1368"/>
                    </a:lnTo>
                    <a:lnTo>
                      <a:pt x="861" y="1359"/>
                    </a:lnTo>
                    <a:lnTo>
                      <a:pt x="852" y="1352"/>
                    </a:lnTo>
                    <a:lnTo>
                      <a:pt x="842" y="1345"/>
                    </a:lnTo>
                    <a:lnTo>
                      <a:pt x="832" y="1337"/>
                    </a:lnTo>
                    <a:lnTo>
                      <a:pt x="822" y="1330"/>
                    </a:lnTo>
                    <a:lnTo>
                      <a:pt x="812" y="1340"/>
                    </a:lnTo>
                    <a:lnTo>
                      <a:pt x="816" y="1350"/>
                    </a:lnTo>
                    <a:lnTo>
                      <a:pt x="822" y="1359"/>
                    </a:lnTo>
                    <a:lnTo>
                      <a:pt x="829" y="1368"/>
                    </a:lnTo>
                    <a:lnTo>
                      <a:pt x="836" y="1377"/>
                    </a:lnTo>
                    <a:lnTo>
                      <a:pt x="845" y="1384"/>
                    </a:lnTo>
                    <a:lnTo>
                      <a:pt x="854" y="1392"/>
                    </a:lnTo>
                    <a:lnTo>
                      <a:pt x="862" y="1401"/>
                    </a:lnTo>
                    <a:lnTo>
                      <a:pt x="872" y="1410"/>
                    </a:lnTo>
                    <a:lnTo>
                      <a:pt x="869" y="1417"/>
                    </a:lnTo>
                    <a:lnTo>
                      <a:pt x="864" y="1424"/>
                    </a:lnTo>
                    <a:lnTo>
                      <a:pt x="856" y="1430"/>
                    </a:lnTo>
                    <a:lnTo>
                      <a:pt x="848" y="1439"/>
                    </a:lnTo>
                    <a:lnTo>
                      <a:pt x="841" y="1439"/>
                    </a:lnTo>
                    <a:lnTo>
                      <a:pt x="832" y="1431"/>
                    </a:lnTo>
                    <a:lnTo>
                      <a:pt x="825" y="1426"/>
                    </a:lnTo>
                    <a:lnTo>
                      <a:pt x="816" y="1420"/>
                    </a:lnTo>
                    <a:lnTo>
                      <a:pt x="810" y="1414"/>
                    </a:lnTo>
                    <a:lnTo>
                      <a:pt x="803" y="1407"/>
                    </a:lnTo>
                    <a:lnTo>
                      <a:pt x="796" y="1400"/>
                    </a:lnTo>
                    <a:lnTo>
                      <a:pt x="788" y="1392"/>
                    </a:lnTo>
                    <a:lnTo>
                      <a:pt x="780" y="1382"/>
                    </a:lnTo>
                    <a:lnTo>
                      <a:pt x="757" y="1394"/>
                    </a:lnTo>
                    <a:lnTo>
                      <a:pt x="761" y="1404"/>
                    </a:lnTo>
                    <a:lnTo>
                      <a:pt x="767" y="1413"/>
                    </a:lnTo>
                    <a:lnTo>
                      <a:pt x="774" y="1421"/>
                    </a:lnTo>
                    <a:lnTo>
                      <a:pt x="783" y="1430"/>
                    </a:lnTo>
                    <a:lnTo>
                      <a:pt x="793" y="1437"/>
                    </a:lnTo>
                    <a:lnTo>
                      <a:pt x="803" y="1446"/>
                    </a:lnTo>
                    <a:lnTo>
                      <a:pt x="813" y="1455"/>
                    </a:lnTo>
                    <a:lnTo>
                      <a:pt x="822" y="1463"/>
                    </a:lnTo>
                    <a:lnTo>
                      <a:pt x="815" y="1469"/>
                    </a:lnTo>
                    <a:lnTo>
                      <a:pt x="810" y="1475"/>
                    </a:lnTo>
                    <a:lnTo>
                      <a:pt x="803" y="1481"/>
                    </a:lnTo>
                    <a:lnTo>
                      <a:pt x="793" y="1485"/>
                    </a:lnTo>
                    <a:lnTo>
                      <a:pt x="784" y="1481"/>
                    </a:lnTo>
                    <a:lnTo>
                      <a:pt x="775" y="1473"/>
                    </a:lnTo>
                    <a:lnTo>
                      <a:pt x="767" y="1468"/>
                    </a:lnTo>
                    <a:lnTo>
                      <a:pt x="760" y="1460"/>
                    </a:lnTo>
                    <a:lnTo>
                      <a:pt x="751" y="1452"/>
                    </a:lnTo>
                    <a:lnTo>
                      <a:pt x="742" y="1444"/>
                    </a:lnTo>
                    <a:lnTo>
                      <a:pt x="734" y="1436"/>
                    </a:lnTo>
                    <a:lnTo>
                      <a:pt x="723" y="1429"/>
                    </a:lnTo>
                    <a:lnTo>
                      <a:pt x="702" y="1442"/>
                    </a:lnTo>
                    <a:lnTo>
                      <a:pt x="705" y="1449"/>
                    </a:lnTo>
                    <a:lnTo>
                      <a:pt x="710" y="1456"/>
                    </a:lnTo>
                    <a:lnTo>
                      <a:pt x="718" y="1462"/>
                    </a:lnTo>
                    <a:lnTo>
                      <a:pt x="723" y="1468"/>
                    </a:lnTo>
                    <a:lnTo>
                      <a:pt x="731" y="1472"/>
                    </a:lnTo>
                    <a:lnTo>
                      <a:pt x="738" y="1476"/>
                    </a:lnTo>
                    <a:lnTo>
                      <a:pt x="744" y="1481"/>
                    </a:lnTo>
                    <a:lnTo>
                      <a:pt x="749" y="1486"/>
                    </a:lnTo>
                    <a:lnTo>
                      <a:pt x="754" y="1494"/>
                    </a:lnTo>
                    <a:lnTo>
                      <a:pt x="747" y="1496"/>
                    </a:lnTo>
                    <a:lnTo>
                      <a:pt x="736" y="1496"/>
                    </a:lnTo>
                    <a:lnTo>
                      <a:pt x="726" y="1496"/>
                    </a:lnTo>
                    <a:lnTo>
                      <a:pt x="716" y="1499"/>
                    </a:lnTo>
                    <a:lnTo>
                      <a:pt x="695" y="1492"/>
                    </a:lnTo>
                    <a:lnTo>
                      <a:pt x="686" y="1488"/>
                    </a:lnTo>
                    <a:lnTo>
                      <a:pt x="679" y="1479"/>
                    </a:lnTo>
                    <a:lnTo>
                      <a:pt x="670" y="1470"/>
                    </a:lnTo>
                    <a:lnTo>
                      <a:pt x="658" y="1465"/>
                    </a:lnTo>
                    <a:lnTo>
                      <a:pt x="650" y="1468"/>
                    </a:lnTo>
                    <a:lnTo>
                      <a:pt x="644" y="1476"/>
                    </a:lnTo>
                    <a:lnTo>
                      <a:pt x="644" y="1485"/>
                    </a:lnTo>
                    <a:lnTo>
                      <a:pt x="650" y="1492"/>
                    </a:lnTo>
                    <a:lnTo>
                      <a:pt x="647" y="1499"/>
                    </a:lnTo>
                    <a:lnTo>
                      <a:pt x="629" y="1499"/>
                    </a:lnTo>
                    <a:lnTo>
                      <a:pt x="612" y="1501"/>
                    </a:lnTo>
                    <a:lnTo>
                      <a:pt x="595" y="1501"/>
                    </a:lnTo>
                    <a:lnTo>
                      <a:pt x="576" y="1501"/>
                    </a:lnTo>
                    <a:lnTo>
                      <a:pt x="559" y="1501"/>
                    </a:lnTo>
                    <a:lnTo>
                      <a:pt x="541" y="1501"/>
                    </a:lnTo>
                    <a:lnTo>
                      <a:pt x="524" y="1501"/>
                    </a:lnTo>
                    <a:lnTo>
                      <a:pt x="507" y="1499"/>
                    </a:lnTo>
                    <a:lnTo>
                      <a:pt x="488" y="1499"/>
                    </a:lnTo>
                    <a:lnTo>
                      <a:pt x="470" y="1499"/>
                    </a:lnTo>
                    <a:lnTo>
                      <a:pt x="453" y="1499"/>
                    </a:lnTo>
                    <a:lnTo>
                      <a:pt x="434" y="1499"/>
                    </a:lnTo>
                    <a:lnTo>
                      <a:pt x="417" y="1499"/>
                    </a:lnTo>
                    <a:lnTo>
                      <a:pt x="398" y="1499"/>
                    </a:lnTo>
                    <a:lnTo>
                      <a:pt x="381" y="1499"/>
                    </a:lnTo>
                    <a:lnTo>
                      <a:pt x="362" y="1499"/>
                    </a:lnTo>
                    <a:lnTo>
                      <a:pt x="356" y="1504"/>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962760" y="1749600"/>
                <a:ext cx="1463760" cy="1334880"/>
              </a:xfrm>
              <a:custGeom>
                <a:avLst/>
                <a:gdLst/>
                <a:ahLst/>
                <a:rect l="l" t="t" r="r" b="b"/>
                <a:pathLst>
                  <a:path w="2766" h="2525">
                    <a:moveTo>
                      <a:pt x="136" y="2525"/>
                    </a:moveTo>
                    <a:lnTo>
                      <a:pt x="123" y="2522"/>
                    </a:lnTo>
                    <a:lnTo>
                      <a:pt x="109" y="2520"/>
                    </a:lnTo>
                    <a:lnTo>
                      <a:pt x="96" y="2520"/>
                    </a:lnTo>
                    <a:lnTo>
                      <a:pt x="81" y="2520"/>
                    </a:lnTo>
                    <a:lnTo>
                      <a:pt x="65" y="2522"/>
                    </a:lnTo>
                    <a:lnTo>
                      <a:pt x="51" y="2522"/>
                    </a:lnTo>
                    <a:lnTo>
                      <a:pt x="35" y="2522"/>
                    </a:lnTo>
                    <a:lnTo>
                      <a:pt x="20" y="2522"/>
                    </a:lnTo>
                    <a:lnTo>
                      <a:pt x="9" y="1902"/>
                    </a:lnTo>
                    <a:lnTo>
                      <a:pt x="4" y="1279"/>
                    </a:lnTo>
                    <a:lnTo>
                      <a:pt x="2" y="656"/>
                    </a:lnTo>
                    <a:lnTo>
                      <a:pt x="0" y="32"/>
                    </a:lnTo>
                    <a:lnTo>
                      <a:pt x="15" y="21"/>
                    </a:lnTo>
                    <a:lnTo>
                      <a:pt x="67" y="19"/>
                    </a:lnTo>
                    <a:lnTo>
                      <a:pt x="120" y="16"/>
                    </a:lnTo>
                    <a:lnTo>
                      <a:pt x="172" y="16"/>
                    </a:lnTo>
                    <a:lnTo>
                      <a:pt x="226" y="15"/>
                    </a:lnTo>
                    <a:lnTo>
                      <a:pt x="278" y="13"/>
                    </a:lnTo>
                    <a:lnTo>
                      <a:pt x="331" y="13"/>
                    </a:lnTo>
                    <a:lnTo>
                      <a:pt x="385" y="13"/>
                    </a:lnTo>
                    <a:lnTo>
                      <a:pt x="438" y="12"/>
                    </a:lnTo>
                    <a:lnTo>
                      <a:pt x="492" y="12"/>
                    </a:lnTo>
                    <a:lnTo>
                      <a:pt x="544" y="12"/>
                    </a:lnTo>
                    <a:lnTo>
                      <a:pt x="597" y="13"/>
                    </a:lnTo>
                    <a:lnTo>
                      <a:pt x="651" y="13"/>
                    </a:lnTo>
                    <a:lnTo>
                      <a:pt x="704" y="13"/>
                    </a:lnTo>
                    <a:lnTo>
                      <a:pt x="758" y="13"/>
                    </a:lnTo>
                    <a:lnTo>
                      <a:pt x="810" y="13"/>
                    </a:lnTo>
                    <a:lnTo>
                      <a:pt x="863" y="13"/>
                    </a:lnTo>
                    <a:lnTo>
                      <a:pt x="923" y="13"/>
                    </a:lnTo>
                    <a:lnTo>
                      <a:pt x="982" y="12"/>
                    </a:lnTo>
                    <a:lnTo>
                      <a:pt x="1043" y="12"/>
                    </a:lnTo>
                    <a:lnTo>
                      <a:pt x="1102" y="10"/>
                    </a:lnTo>
                    <a:lnTo>
                      <a:pt x="1161" y="10"/>
                    </a:lnTo>
                    <a:lnTo>
                      <a:pt x="1221" y="9"/>
                    </a:lnTo>
                    <a:lnTo>
                      <a:pt x="1280" y="9"/>
                    </a:lnTo>
                    <a:lnTo>
                      <a:pt x="1339" y="9"/>
                    </a:lnTo>
                    <a:lnTo>
                      <a:pt x="1398" y="8"/>
                    </a:lnTo>
                    <a:lnTo>
                      <a:pt x="1456" y="8"/>
                    </a:lnTo>
                    <a:lnTo>
                      <a:pt x="1516" y="8"/>
                    </a:lnTo>
                    <a:lnTo>
                      <a:pt x="1575" y="6"/>
                    </a:lnTo>
                    <a:lnTo>
                      <a:pt x="1634" y="6"/>
                    </a:lnTo>
                    <a:lnTo>
                      <a:pt x="1692" y="6"/>
                    </a:lnTo>
                    <a:lnTo>
                      <a:pt x="1751" y="5"/>
                    </a:lnTo>
                    <a:lnTo>
                      <a:pt x="1811" y="5"/>
                    </a:lnTo>
                    <a:lnTo>
                      <a:pt x="1870" y="5"/>
                    </a:lnTo>
                    <a:lnTo>
                      <a:pt x="1928" y="3"/>
                    </a:lnTo>
                    <a:lnTo>
                      <a:pt x="1987" y="3"/>
                    </a:lnTo>
                    <a:lnTo>
                      <a:pt x="2045" y="3"/>
                    </a:lnTo>
                    <a:lnTo>
                      <a:pt x="2104" y="3"/>
                    </a:lnTo>
                    <a:lnTo>
                      <a:pt x="2162" y="3"/>
                    </a:lnTo>
                    <a:lnTo>
                      <a:pt x="2221" y="2"/>
                    </a:lnTo>
                    <a:lnTo>
                      <a:pt x="2279" y="2"/>
                    </a:lnTo>
                    <a:lnTo>
                      <a:pt x="2338" y="2"/>
                    </a:lnTo>
                    <a:lnTo>
                      <a:pt x="2396" y="2"/>
                    </a:lnTo>
                    <a:lnTo>
                      <a:pt x="2455" y="2"/>
                    </a:lnTo>
                    <a:lnTo>
                      <a:pt x="2513" y="0"/>
                    </a:lnTo>
                    <a:lnTo>
                      <a:pt x="2573" y="0"/>
                    </a:lnTo>
                    <a:lnTo>
                      <a:pt x="2630" y="0"/>
                    </a:lnTo>
                    <a:lnTo>
                      <a:pt x="2690" y="0"/>
                    </a:lnTo>
                    <a:lnTo>
                      <a:pt x="2748" y="0"/>
                    </a:lnTo>
                    <a:lnTo>
                      <a:pt x="2761" y="289"/>
                    </a:lnTo>
                    <a:lnTo>
                      <a:pt x="2765" y="580"/>
                    </a:lnTo>
                    <a:lnTo>
                      <a:pt x="2765" y="870"/>
                    </a:lnTo>
                    <a:lnTo>
                      <a:pt x="2766" y="1161"/>
                    </a:lnTo>
                    <a:lnTo>
                      <a:pt x="2752" y="1168"/>
                    </a:lnTo>
                    <a:lnTo>
                      <a:pt x="2740" y="1165"/>
                    </a:lnTo>
                    <a:lnTo>
                      <a:pt x="2729" y="1161"/>
                    </a:lnTo>
                    <a:lnTo>
                      <a:pt x="2719" y="1156"/>
                    </a:lnTo>
                    <a:lnTo>
                      <a:pt x="2709" y="1150"/>
                    </a:lnTo>
                    <a:lnTo>
                      <a:pt x="2697" y="1146"/>
                    </a:lnTo>
                    <a:lnTo>
                      <a:pt x="2685" y="1142"/>
                    </a:lnTo>
                    <a:lnTo>
                      <a:pt x="2672" y="1139"/>
                    </a:lnTo>
                    <a:lnTo>
                      <a:pt x="2659" y="1136"/>
                    </a:lnTo>
                    <a:lnTo>
                      <a:pt x="2639" y="1129"/>
                    </a:lnTo>
                    <a:lnTo>
                      <a:pt x="2620" y="1122"/>
                    </a:lnTo>
                    <a:lnTo>
                      <a:pt x="2599" y="1114"/>
                    </a:lnTo>
                    <a:lnTo>
                      <a:pt x="2578" y="1107"/>
                    </a:lnTo>
                    <a:lnTo>
                      <a:pt x="2557" y="1101"/>
                    </a:lnTo>
                    <a:lnTo>
                      <a:pt x="2536" y="1094"/>
                    </a:lnTo>
                    <a:lnTo>
                      <a:pt x="2515" y="1087"/>
                    </a:lnTo>
                    <a:lnTo>
                      <a:pt x="2493" y="1080"/>
                    </a:lnTo>
                    <a:lnTo>
                      <a:pt x="2470" y="1072"/>
                    </a:lnTo>
                    <a:lnTo>
                      <a:pt x="2448" y="1065"/>
                    </a:lnTo>
                    <a:lnTo>
                      <a:pt x="2427" y="1058"/>
                    </a:lnTo>
                    <a:lnTo>
                      <a:pt x="2405" y="1051"/>
                    </a:lnTo>
                    <a:lnTo>
                      <a:pt x="2383" y="1044"/>
                    </a:lnTo>
                    <a:lnTo>
                      <a:pt x="2363" y="1036"/>
                    </a:lnTo>
                    <a:lnTo>
                      <a:pt x="2341" y="1029"/>
                    </a:lnTo>
                    <a:lnTo>
                      <a:pt x="2321" y="1020"/>
                    </a:lnTo>
                    <a:lnTo>
                      <a:pt x="2285" y="1007"/>
                    </a:lnTo>
                    <a:lnTo>
                      <a:pt x="2249" y="996"/>
                    </a:lnTo>
                    <a:lnTo>
                      <a:pt x="2213" y="984"/>
                    </a:lnTo>
                    <a:lnTo>
                      <a:pt x="2176" y="973"/>
                    </a:lnTo>
                    <a:lnTo>
                      <a:pt x="2140" y="963"/>
                    </a:lnTo>
                    <a:lnTo>
                      <a:pt x="2103" y="951"/>
                    </a:lnTo>
                    <a:lnTo>
                      <a:pt x="2066" y="941"/>
                    </a:lnTo>
                    <a:lnTo>
                      <a:pt x="2029" y="931"/>
                    </a:lnTo>
                    <a:lnTo>
                      <a:pt x="1991" y="922"/>
                    </a:lnTo>
                    <a:lnTo>
                      <a:pt x="1955" y="912"/>
                    </a:lnTo>
                    <a:lnTo>
                      <a:pt x="1919" y="902"/>
                    </a:lnTo>
                    <a:lnTo>
                      <a:pt x="1881" y="892"/>
                    </a:lnTo>
                    <a:lnTo>
                      <a:pt x="1845" y="882"/>
                    </a:lnTo>
                    <a:lnTo>
                      <a:pt x="1809" y="872"/>
                    </a:lnTo>
                    <a:lnTo>
                      <a:pt x="1773" y="860"/>
                    </a:lnTo>
                    <a:lnTo>
                      <a:pt x="1738" y="850"/>
                    </a:lnTo>
                    <a:lnTo>
                      <a:pt x="1704" y="838"/>
                    </a:lnTo>
                    <a:lnTo>
                      <a:pt x="1669" y="827"/>
                    </a:lnTo>
                    <a:lnTo>
                      <a:pt x="1634" y="814"/>
                    </a:lnTo>
                    <a:lnTo>
                      <a:pt x="1601" y="801"/>
                    </a:lnTo>
                    <a:lnTo>
                      <a:pt x="1568" y="786"/>
                    </a:lnTo>
                    <a:lnTo>
                      <a:pt x="1536" y="772"/>
                    </a:lnTo>
                    <a:lnTo>
                      <a:pt x="1504" y="757"/>
                    </a:lnTo>
                    <a:lnTo>
                      <a:pt x="1474" y="740"/>
                    </a:lnTo>
                    <a:lnTo>
                      <a:pt x="1445" y="723"/>
                    </a:lnTo>
                    <a:lnTo>
                      <a:pt x="1416" y="705"/>
                    </a:lnTo>
                    <a:lnTo>
                      <a:pt x="1387" y="685"/>
                    </a:lnTo>
                    <a:lnTo>
                      <a:pt x="1361" y="665"/>
                    </a:lnTo>
                    <a:lnTo>
                      <a:pt x="1333" y="643"/>
                    </a:lnTo>
                    <a:lnTo>
                      <a:pt x="1309" y="620"/>
                    </a:lnTo>
                    <a:lnTo>
                      <a:pt x="1286" y="596"/>
                    </a:lnTo>
                    <a:lnTo>
                      <a:pt x="1262" y="570"/>
                    </a:lnTo>
                    <a:lnTo>
                      <a:pt x="1248" y="547"/>
                    </a:lnTo>
                    <a:lnTo>
                      <a:pt x="1231" y="523"/>
                    </a:lnTo>
                    <a:lnTo>
                      <a:pt x="1213" y="500"/>
                    </a:lnTo>
                    <a:lnTo>
                      <a:pt x="1196" y="479"/>
                    </a:lnTo>
                    <a:lnTo>
                      <a:pt x="1176" y="458"/>
                    </a:lnTo>
                    <a:lnTo>
                      <a:pt x="1155" y="437"/>
                    </a:lnTo>
                    <a:lnTo>
                      <a:pt x="1135" y="416"/>
                    </a:lnTo>
                    <a:lnTo>
                      <a:pt x="1114" y="398"/>
                    </a:lnTo>
                    <a:lnTo>
                      <a:pt x="1092" y="379"/>
                    </a:lnTo>
                    <a:lnTo>
                      <a:pt x="1069" y="359"/>
                    </a:lnTo>
                    <a:lnTo>
                      <a:pt x="1047" y="341"/>
                    </a:lnTo>
                    <a:lnTo>
                      <a:pt x="1024" y="323"/>
                    </a:lnTo>
                    <a:lnTo>
                      <a:pt x="1001" y="304"/>
                    </a:lnTo>
                    <a:lnTo>
                      <a:pt x="978" y="286"/>
                    </a:lnTo>
                    <a:lnTo>
                      <a:pt x="954" y="268"/>
                    </a:lnTo>
                    <a:lnTo>
                      <a:pt x="931" y="250"/>
                    </a:lnTo>
                    <a:lnTo>
                      <a:pt x="926" y="242"/>
                    </a:lnTo>
                    <a:lnTo>
                      <a:pt x="920" y="232"/>
                    </a:lnTo>
                    <a:lnTo>
                      <a:pt x="914" y="221"/>
                    </a:lnTo>
                    <a:lnTo>
                      <a:pt x="908" y="211"/>
                    </a:lnTo>
                    <a:lnTo>
                      <a:pt x="902" y="201"/>
                    </a:lnTo>
                    <a:lnTo>
                      <a:pt x="897" y="190"/>
                    </a:lnTo>
                    <a:lnTo>
                      <a:pt x="891" y="178"/>
                    </a:lnTo>
                    <a:lnTo>
                      <a:pt x="885" y="167"/>
                    </a:lnTo>
                    <a:lnTo>
                      <a:pt x="872" y="145"/>
                    </a:lnTo>
                    <a:lnTo>
                      <a:pt x="866" y="141"/>
                    </a:lnTo>
                    <a:lnTo>
                      <a:pt x="860" y="136"/>
                    </a:lnTo>
                    <a:lnTo>
                      <a:pt x="855" y="132"/>
                    </a:lnTo>
                    <a:lnTo>
                      <a:pt x="849" y="127"/>
                    </a:lnTo>
                    <a:lnTo>
                      <a:pt x="843" y="123"/>
                    </a:lnTo>
                    <a:lnTo>
                      <a:pt x="839" y="119"/>
                    </a:lnTo>
                    <a:lnTo>
                      <a:pt x="833" y="116"/>
                    </a:lnTo>
                    <a:lnTo>
                      <a:pt x="827" y="112"/>
                    </a:lnTo>
                    <a:lnTo>
                      <a:pt x="801" y="112"/>
                    </a:lnTo>
                    <a:lnTo>
                      <a:pt x="774" y="114"/>
                    </a:lnTo>
                    <a:lnTo>
                      <a:pt x="748" y="120"/>
                    </a:lnTo>
                    <a:lnTo>
                      <a:pt x="722" y="127"/>
                    </a:lnTo>
                    <a:lnTo>
                      <a:pt x="696" y="139"/>
                    </a:lnTo>
                    <a:lnTo>
                      <a:pt x="671" y="151"/>
                    </a:lnTo>
                    <a:lnTo>
                      <a:pt x="648" y="165"/>
                    </a:lnTo>
                    <a:lnTo>
                      <a:pt x="628" y="180"/>
                    </a:lnTo>
                    <a:lnTo>
                      <a:pt x="616" y="180"/>
                    </a:lnTo>
                    <a:lnTo>
                      <a:pt x="606" y="181"/>
                    </a:lnTo>
                    <a:lnTo>
                      <a:pt x="594" y="181"/>
                    </a:lnTo>
                    <a:lnTo>
                      <a:pt x="583" y="182"/>
                    </a:lnTo>
                    <a:lnTo>
                      <a:pt x="573" y="184"/>
                    </a:lnTo>
                    <a:lnTo>
                      <a:pt x="561" y="185"/>
                    </a:lnTo>
                    <a:lnTo>
                      <a:pt x="548" y="187"/>
                    </a:lnTo>
                    <a:lnTo>
                      <a:pt x="537" y="188"/>
                    </a:lnTo>
                    <a:lnTo>
                      <a:pt x="529" y="191"/>
                    </a:lnTo>
                    <a:lnTo>
                      <a:pt x="522" y="194"/>
                    </a:lnTo>
                    <a:lnTo>
                      <a:pt x="516" y="197"/>
                    </a:lnTo>
                    <a:lnTo>
                      <a:pt x="511" y="200"/>
                    </a:lnTo>
                    <a:lnTo>
                      <a:pt x="505" y="204"/>
                    </a:lnTo>
                    <a:lnTo>
                      <a:pt x="499" y="208"/>
                    </a:lnTo>
                    <a:lnTo>
                      <a:pt x="492" y="211"/>
                    </a:lnTo>
                    <a:lnTo>
                      <a:pt x="483" y="216"/>
                    </a:lnTo>
                    <a:lnTo>
                      <a:pt x="476" y="221"/>
                    </a:lnTo>
                    <a:lnTo>
                      <a:pt x="470" y="229"/>
                    </a:lnTo>
                    <a:lnTo>
                      <a:pt x="464" y="236"/>
                    </a:lnTo>
                    <a:lnTo>
                      <a:pt x="458" y="245"/>
                    </a:lnTo>
                    <a:lnTo>
                      <a:pt x="457" y="262"/>
                    </a:lnTo>
                    <a:lnTo>
                      <a:pt x="457" y="279"/>
                    </a:lnTo>
                    <a:lnTo>
                      <a:pt x="457" y="298"/>
                    </a:lnTo>
                    <a:lnTo>
                      <a:pt x="457" y="317"/>
                    </a:lnTo>
                    <a:lnTo>
                      <a:pt x="435" y="317"/>
                    </a:lnTo>
                    <a:lnTo>
                      <a:pt x="424" y="318"/>
                    </a:lnTo>
                    <a:lnTo>
                      <a:pt x="414" y="323"/>
                    </a:lnTo>
                    <a:lnTo>
                      <a:pt x="405" y="330"/>
                    </a:lnTo>
                    <a:lnTo>
                      <a:pt x="393" y="337"/>
                    </a:lnTo>
                    <a:lnTo>
                      <a:pt x="388" y="338"/>
                    </a:lnTo>
                    <a:lnTo>
                      <a:pt x="382" y="344"/>
                    </a:lnTo>
                    <a:lnTo>
                      <a:pt x="375" y="351"/>
                    </a:lnTo>
                    <a:lnTo>
                      <a:pt x="369" y="360"/>
                    </a:lnTo>
                    <a:lnTo>
                      <a:pt x="367" y="377"/>
                    </a:lnTo>
                    <a:lnTo>
                      <a:pt x="363" y="396"/>
                    </a:lnTo>
                    <a:lnTo>
                      <a:pt x="360" y="415"/>
                    </a:lnTo>
                    <a:lnTo>
                      <a:pt x="357" y="434"/>
                    </a:lnTo>
                    <a:lnTo>
                      <a:pt x="353" y="434"/>
                    </a:lnTo>
                    <a:lnTo>
                      <a:pt x="347" y="435"/>
                    </a:lnTo>
                    <a:lnTo>
                      <a:pt x="343" y="437"/>
                    </a:lnTo>
                    <a:lnTo>
                      <a:pt x="337" y="438"/>
                    </a:lnTo>
                    <a:lnTo>
                      <a:pt x="331" y="440"/>
                    </a:lnTo>
                    <a:lnTo>
                      <a:pt x="325" y="441"/>
                    </a:lnTo>
                    <a:lnTo>
                      <a:pt x="320" y="442"/>
                    </a:lnTo>
                    <a:lnTo>
                      <a:pt x="314" y="444"/>
                    </a:lnTo>
                    <a:lnTo>
                      <a:pt x="295" y="460"/>
                    </a:lnTo>
                    <a:lnTo>
                      <a:pt x="281" y="481"/>
                    </a:lnTo>
                    <a:lnTo>
                      <a:pt x="269" y="507"/>
                    </a:lnTo>
                    <a:lnTo>
                      <a:pt x="262" y="536"/>
                    </a:lnTo>
                    <a:lnTo>
                      <a:pt x="255" y="567"/>
                    </a:lnTo>
                    <a:lnTo>
                      <a:pt x="250" y="597"/>
                    </a:lnTo>
                    <a:lnTo>
                      <a:pt x="247" y="627"/>
                    </a:lnTo>
                    <a:lnTo>
                      <a:pt x="243" y="656"/>
                    </a:lnTo>
                    <a:lnTo>
                      <a:pt x="247" y="666"/>
                    </a:lnTo>
                    <a:lnTo>
                      <a:pt x="253" y="678"/>
                    </a:lnTo>
                    <a:lnTo>
                      <a:pt x="257" y="688"/>
                    </a:lnTo>
                    <a:lnTo>
                      <a:pt x="263" y="700"/>
                    </a:lnTo>
                    <a:lnTo>
                      <a:pt x="268" y="710"/>
                    </a:lnTo>
                    <a:lnTo>
                      <a:pt x="273" y="721"/>
                    </a:lnTo>
                    <a:lnTo>
                      <a:pt x="279" y="731"/>
                    </a:lnTo>
                    <a:lnTo>
                      <a:pt x="286" y="743"/>
                    </a:lnTo>
                    <a:lnTo>
                      <a:pt x="291" y="756"/>
                    </a:lnTo>
                    <a:lnTo>
                      <a:pt x="297" y="769"/>
                    </a:lnTo>
                    <a:lnTo>
                      <a:pt x="302" y="782"/>
                    </a:lnTo>
                    <a:lnTo>
                      <a:pt x="311" y="794"/>
                    </a:lnTo>
                    <a:lnTo>
                      <a:pt x="320" y="807"/>
                    </a:lnTo>
                    <a:lnTo>
                      <a:pt x="328" y="818"/>
                    </a:lnTo>
                    <a:lnTo>
                      <a:pt x="337" y="833"/>
                    </a:lnTo>
                    <a:lnTo>
                      <a:pt x="346" y="846"/>
                    </a:lnTo>
                    <a:lnTo>
                      <a:pt x="364" y="847"/>
                    </a:lnTo>
                    <a:lnTo>
                      <a:pt x="372" y="864"/>
                    </a:lnTo>
                    <a:lnTo>
                      <a:pt x="376" y="882"/>
                    </a:lnTo>
                    <a:lnTo>
                      <a:pt x="380" y="899"/>
                    </a:lnTo>
                    <a:lnTo>
                      <a:pt x="383" y="916"/>
                    </a:lnTo>
                    <a:lnTo>
                      <a:pt x="392" y="938"/>
                    </a:lnTo>
                    <a:lnTo>
                      <a:pt x="405" y="951"/>
                    </a:lnTo>
                    <a:lnTo>
                      <a:pt x="418" y="963"/>
                    </a:lnTo>
                    <a:lnTo>
                      <a:pt x="431" y="976"/>
                    </a:lnTo>
                    <a:lnTo>
                      <a:pt x="444" y="989"/>
                    </a:lnTo>
                    <a:lnTo>
                      <a:pt x="458" y="1000"/>
                    </a:lnTo>
                    <a:lnTo>
                      <a:pt x="471" y="1013"/>
                    </a:lnTo>
                    <a:lnTo>
                      <a:pt x="486" y="1026"/>
                    </a:lnTo>
                    <a:lnTo>
                      <a:pt x="502" y="1038"/>
                    </a:lnTo>
                    <a:lnTo>
                      <a:pt x="516" y="1051"/>
                    </a:lnTo>
                    <a:lnTo>
                      <a:pt x="532" y="1062"/>
                    </a:lnTo>
                    <a:lnTo>
                      <a:pt x="548" y="1074"/>
                    </a:lnTo>
                    <a:lnTo>
                      <a:pt x="564" y="1085"/>
                    </a:lnTo>
                    <a:lnTo>
                      <a:pt x="580" y="1096"/>
                    </a:lnTo>
                    <a:lnTo>
                      <a:pt x="597" y="1106"/>
                    </a:lnTo>
                    <a:lnTo>
                      <a:pt x="615" y="1116"/>
                    </a:lnTo>
                    <a:lnTo>
                      <a:pt x="632" y="1126"/>
                    </a:lnTo>
                    <a:lnTo>
                      <a:pt x="655" y="1133"/>
                    </a:lnTo>
                    <a:lnTo>
                      <a:pt x="678" y="1137"/>
                    </a:lnTo>
                    <a:lnTo>
                      <a:pt x="701" y="1140"/>
                    </a:lnTo>
                    <a:lnTo>
                      <a:pt x="725" y="1142"/>
                    </a:lnTo>
                    <a:lnTo>
                      <a:pt x="749" y="1143"/>
                    </a:lnTo>
                    <a:lnTo>
                      <a:pt x="772" y="1142"/>
                    </a:lnTo>
                    <a:lnTo>
                      <a:pt x="797" y="1140"/>
                    </a:lnTo>
                    <a:lnTo>
                      <a:pt x="821" y="1139"/>
                    </a:lnTo>
                    <a:lnTo>
                      <a:pt x="846" y="1136"/>
                    </a:lnTo>
                    <a:lnTo>
                      <a:pt x="869" y="1133"/>
                    </a:lnTo>
                    <a:lnTo>
                      <a:pt x="894" y="1130"/>
                    </a:lnTo>
                    <a:lnTo>
                      <a:pt x="918" y="1129"/>
                    </a:lnTo>
                    <a:lnTo>
                      <a:pt x="943" y="1126"/>
                    </a:lnTo>
                    <a:lnTo>
                      <a:pt x="967" y="1124"/>
                    </a:lnTo>
                    <a:lnTo>
                      <a:pt x="992" y="1124"/>
                    </a:lnTo>
                    <a:lnTo>
                      <a:pt x="1017" y="1126"/>
                    </a:lnTo>
                    <a:lnTo>
                      <a:pt x="1028" y="1129"/>
                    </a:lnTo>
                    <a:lnTo>
                      <a:pt x="1037" y="1135"/>
                    </a:lnTo>
                    <a:lnTo>
                      <a:pt x="1046" y="1139"/>
                    </a:lnTo>
                    <a:lnTo>
                      <a:pt x="1054" y="1145"/>
                    </a:lnTo>
                    <a:lnTo>
                      <a:pt x="1063" y="1150"/>
                    </a:lnTo>
                    <a:lnTo>
                      <a:pt x="1073" y="1156"/>
                    </a:lnTo>
                    <a:lnTo>
                      <a:pt x="1085" y="1161"/>
                    </a:lnTo>
                    <a:lnTo>
                      <a:pt x="1098" y="1163"/>
                    </a:lnTo>
                    <a:lnTo>
                      <a:pt x="1114" y="1174"/>
                    </a:lnTo>
                    <a:lnTo>
                      <a:pt x="1129" y="1182"/>
                    </a:lnTo>
                    <a:lnTo>
                      <a:pt x="1145" y="1191"/>
                    </a:lnTo>
                    <a:lnTo>
                      <a:pt x="1161" y="1200"/>
                    </a:lnTo>
                    <a:lnTo>
                      <a:pt x="1179" y="1208"/>
                    </a:lnTo>
                    <a:lnTo>
                      <a:pt x="1195" y="1215"/>
                    </a:lnTo>
                    <a:lnTo>
                      <a:pt x="1212" y="1223"/>
                    </a:lnTo>
                    <a:lnTo>
                      <a:pt x="1228" y="1228"/>
                    </a:lnTo>
                    <a:lnTo>
                      <a:pt x="1244" y="1236"/>
                    </a:lnTo>
                    <a:lnTo>
                      <a:pt x="1261" y="1243"/>
                    </a:lnTo>
                    <a:lnTo>
                      <a:pt x="1277" y="1249"/>
                    </a:lnTo>
                    <a:lnTo>
                      <a:pt x="1294" y="1256"/>
                    </a:lnTo>
                    <a:lnTo>
                      <a:pt x="1310" y="1262"/>
                    </a:lnTo>
                    <a:lnTo>
                      <a:pt x="1326" y="1269"/>
                    </a:lnTo>
                    <a:lnTo>
                      <a:pt x="1342" y="1275"/>
                    </a:lnTo>
                    <a:lnTo>
                      <a:pt x="1358" y="1282"/>
                    </a:lnTo>
                    <a:lnTo>
                      <a:pt x="1345" y="1296"/>
                    </a:lnTo>
                    <a:lnTo>
                      <a:pt x="1330" y="1311"/>
                    </a:lnTo>
                    <a:lnTo>
                      <a:pt x="1315" y="1324"/>
                    </a:lnTo>
                    <a:lnTo>
                      <a:pt x="1299" y="1338"/>
                    </a:lnTo>
                    <a:lnTo>
                      <a:pt x="1280" y="1353"/>
                    </a:lnTo>
                    <a:lnTo>
                      <a:pt x="1262" y="1369"/>
                    </a:lnTo>
                    <a:lnTo>
                      <a:pt x="1242" y="1383"/>
                    </a:lnTo>
                    <a:lnTo>
                      <a:pt x="1223" y="1399"/>
                    </a:lnTo>
                    <a:lnTo>
                      <a:pt x="1208" y="1408"/>
                    </a:lnTo>
                    <a:lnTo>
                      <a:pt x="1193" y="1418"/>
                    </a:lnTo>
                    <a:lnTo>
                      <a:pt x="1179" y="1429"/>
                    </a:lnTo>
                    <a:lnTo>
                      <a:pt x="1166" y="1442"/>
                    </a:lnTo>
                    <a:lnTo>
                      <a:pt x="1153" y="1457"/>
                    </a:lnTo>
                    <a:lnTo>
                      <a:pt x="1141" y="1471"/>
                    </a:lnTo>
                    <a:lnTo>
                      <a:pt x="1129" y="1486"/>
                    </a:lnTo>
                    <a:lnTo>
                      <a:pt x="1118" y="1500"/>
                    </a:lnTo>
                    <a:lnTo>
                      <a:pt x="1106" y="1522"/>
                    </a:lnTo>
                    <a:lnTo>
                      <a:pt x="1101" y="1535"/>
                    </a:lnTo>
                    <a:lnTo>
                      <a:pt x="1095" y="1549"/>
                    </a:lnTo>
                    <a:lnTo>
                      <a:pt x="1089" y="1562"/>
                    </a:lnTo>
                    <a:lnTo>
                      <a:pt x="1083" y="1575"/>
                    </a:lnTo>
                    <a:lnTo>
                      <a:pt x="1079" y="1588"/>
                    </a:lnTo>
                    <a:lnTo>
                      <a:pt x="1072" y="1601"/>
                    </a:lnTo>
                    <a:lnTo>
                      <a:pt x="1064" y="1616"/>
                    </a:lnTo>
                    <a:lnTo>
                      <a:pt x="1056" y="1629"/>
                    </a:lnTo>
                    <a:lnTo>
                      <a:pt x="1041" y="1662"/>
                    </a:lnTo>
                    <a:lnTo>
                      <a:pt x="1027" y="1697"/>
                    </a:lnTo>
                    <a:lnTo>
                      <a:pt x="1011" y="1730"/>
                    </a:lnTo>
                    <a:lnTo>
                      <a:pt x="996" y="1765"/>
                    </a:lnTo>
                    <a:lnTo>
                      <a:pt x="980" y="1799"/>
                    </a:lnTo>
                    <a:lnTo>
                      <a:pt x="965" y="1834"/>
                    </a:lnTo>
                    <a:lnTo>
                      <a:pt x="949" y="1869"/>
                    </a:lnTo>
                    <a:lnTo>
                      <a:pt x="931" y="1903"/>
                    </a:lnTo>
                    <a:lnTo>
                      <a:pt x="921" y="1949"/>
                    </a:lnTo>
                    <a:lnTo>
                      <a:pt x="908" y="1993"/>
                    </a:lnTo>
                    <a:lnTo>
                      <a:pt x="891" y="2035"/>
                    </a:lnTo>
                    <a:lnTo>
                      <a:pt x="872" y="2074"/>
                    </a:lnTo>
                    <a:lnTo>
                      <a:pt x="850" y="2110"/>
                    </a:lnTo>
                    <a:lnTo>
                      <a:pt x="826" y="2146"/>
                    </a:lnTo>
                    <a:lnTo>
                      <a:pt x="798" y="2179"/>
                    </a:lnTo>
                    <a:lnTo>
                      <a:pt x="771" y="2211"/>
                    </a:lnTo>
                    <a:lnTo>
                      <a:pt x="740" y="2241"/>
                    </a:lnTo>
                    <a:lnTo>
                      <a:pt x="709" y="2272"/>
                    </a:lnTo>
                    <a:lnTo>
                      <a:pt x="675" y="2301"/>
                    </a:lnTo>
                    <a:lnTo>
                      <a:pt x="641" y="2328"/>
                    </a:lnTo>
                    <a:lnTo>
                      <a:pt x="606" y="2354"/>
                    </a:lnTo>
                    <a:lnTo>
                      <a:pt x="571" y="2381"/>
                    </a:lnTo>
                    <a:lnTo>
                      <a:pt x="535" y="2408"/>
                    </a:lnTo>
                    <a:lnTo>
                      <a:pt x="499" y="2434"/>
                    </a:lnTo>
                    <a:lnTo>
                      <a:pt x="479" y="2444"/>
                    </a:lnTo>
                    <a:lnTo>
                      <a:pt x="458" y="2452"/>
                    </a:lnTo>
                    <a:lnTo>
                      <a:pt x="437" y="2462"/>
                    </a:lnTo>
                    <a:lnTo>
                      <a:pt x="417" y="2473"/>
                    </a:lnTo>
                    <a:lnTo>
                      <a:pt x="395" y="2484"/>
                    </a:lnTo>
                    <a:lnTo>
                      <a:pt x="373" y="2496"/>
                    </a:lnTo>
                    <a:lnTo>
                      <a:pt x="353" y="2507"/>
                    </a:lnTo>
                    <a:lnTo>
                      <a:pt x="333" y="2520"/>
                    </a:lnTo>
                    <a:lnTo>
                      <a:pt x="310" y="2520"/>
                    </a:lnTo>
                    <a:lnTo>
                      <a:pt x="286" y="2520"/>
                    </a:lnTo>
                    <a:lnTo>
                      <a:pt x="263" y="2522"/>
                    </a:lnTo>
                    <a:lnTo>
                      <a:pt x="240" y="2522"/>
                    </a:lnTo>
                    <a:lnTo>
                      <a:pt x="217" y="2522"/>
                    </a:lnTo>
                    <a:lnTo>
                      <a:pt x="192" y="2522"/>
                    </a:lnTo>
                    <a:lnTo>
                      <a:pt x="168" y="2522"/>
                    </a:lnTo>
                    <a:lnTo>
                      <a:pt x="143" y="2520"/>
                    </a:lnTo>
                    <a:lnTo>
                      <a:pt x="136" y="252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8008920" y="3048120"/>
                <a:ext cx="11160" cy="14040"/>
              </a:xfrm>
              <a:custGeom>
                <a:avLst/>
                <a:gdLst/>
                <a:ahLst/>
                <a:rect l="l" t="t" r="r" b="b"/>
                <a:pathLst>
                  <a:path w="21" h="27">
                    <a:moveTo>
                      <a:pt x="10" y="27"/>
                    </a:moveTo>
                    <a:lnTo>
                      <a:pt x="3" y="23"/>
                    </a:lnTo>
                    <a:lnTo>
                      <a:pt x="0" y="16"/>
                    </a:lnTo>
                    <a:lnTo>
                      <a:pt x="2" y="7"/>
                    </a:lnTo>
                    <a:lnTo>
                      <a:pt x="8" y="0"/>
                    </a:lnTo>
                    <a:lnTo>
                      <a:pt x="18" y="6"/>
                    </a:lnTo>
                    <a:lnTo>
                      <a:pt x="21" y="10"/>
                    </a:lnTo>
                    <a:lnTo>
                      <a:pt x="19" y="16"/>
                    </a:lnTo>
                    <a:lnTo>
                      <a:pt x="16" y="23"/>
                    </a:lnTo>
                    <a:lnTo>
                      <a:pt x="10" y="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91" name=""/>
              <p:cNvSpPr/>
              <p:nvPr/>
            </p:nvSpPr>
            <p:spPr>
              <a:xfrm>
                <a:off x="7800840" y="3046320"/>
                <a:ext cx="9720" cy="12960"/>
              </a:xfrm>
              <a:custGeom>
                <a:avLst/>
                <a:gdLst/>
                <a:ahLst/>
                <a:rect l="l" t="t" r="r" b="b"/>
                <a:pathLst>
                  <a:path w="17" h="25">
                    <a:moveTo>
                      <a:pt x="13" y="25"/>
                    </a:moveTo>
                    <a:lnTo>
                      <a:pt x="4" y="23"/>
                    </a:lnTo>
                    <a:lnTo>
                      <a:pt x="0" y="16"/>
                    </a:lnTo>
                    <a:lnTo>
                      <a:pt x="0" y="8"/>
                    </a:lnTo>
                    <a:lnTo>
                      <a:pt x="7" y="0"/>
                    </a:lnTo>
                    <a:lnTo>
                      <a:pt x="12" y="3"/>
                    </a:lnTo>
                    <a:lnTo>
                      <a:pt x="17" y="12"/>
                    </a:lnTo>
                    <a:lnTo>
                      <a:pt x="17" y="19"/>
                    </a:lnTo>
                    <a:lnTo>
                      <a:pt x="13"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2" name=""/>
              <p:cNvSpPr/>
              <p:nvPr/>
            </p:nvSpPr>
            <p:spPr>
              <a:xfrm>
                <a:off x="8120160" y="3040200"/>
                <a:ext cx="11160" cy="10800"/>
              </a:xfrm>
              <a:custGeom>
                <a:avLst/>
                <a:gdLst/>
                <a:ahLst/>
                <a:rect l="l" t="t" r="r" b="b"/>
                <a:pathLst>
                  <a:path w="21" h="23">
                    <a:moveTo>
                      <a:pt x="5" y="23"/>
                    </a:moveTo>
                    <a:lnTo>
                      <a:pt x="0" y="19"/>
                    </a:lnTo>
                    <a:lnTo>
                      <a:pt x="0" y="12"/>
                    </a:lnTo>
                    <a:lnTo>
                      <a:pt x="2" y="5"/>
                    </a:lnTo>
                    <a:lnTo>
                      <a:pt x="9" y="0"/>
                    </a:lnTo>
                    <a:lnTo>
                      <a:pt x="19" y="6"/>
                    </a:lnTo>
                    <a:lnTo>
                      <a:pt x="21" y="12"/>
                    </a:lnTo>
                    <a:lnTo>
                      <a:pt x="18" y="18"/>
                    </a:lnTo>
                    <a:lnTo>
                      <a:pt x="12" y="22"/>
                    </a:lnTo>
                    <a:lnTo>
                      <a:pt x="5"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3" name=""/>
              <p:cNvSpPr/>
              <p:nvPr/>
            </p:nvSpPr>
            <p:spPr>
              <a:xfrm>
                <a:off x="8226360" y="3027240"/>
                <a:ext cx="9720" cy="11160"/>
              </a:xfrm>
              <a:custGeom>
                <a:avLst/>
                <a:gdLst/>
                <a:ahLst/>
                <a:rect l="l" t="t" r="r" b="b"/>
                <a:pathLst>
                  <a:path w="18" h="23">
                    <a:moveTo>
                      <a:pt x="7" y="23"/>
                    </a:moveTo>
                    <a:lnTo>
                      <a:pt x="0" y="3"/>
                    </a:lnTo>
                    <a:lnTo>
                      <a:pt x="8" y="0"/>
                    </a:lnTo>
                    <a:lnTo>
                      <a:pt x="15" y="3"/>
                    </a:lnTo>
                    <a:lnTo>
                      <a:pt x="18" y="8"/>
                    </a:lnTo>
                    <a:lnTo>
                      <a:pt x="18" y="16"/>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8315280" y="3025800"/>
                <a:ext cx="6480" cy="11160"/>
              </a:xfrm>
              <a:custGeom>
                <a:avLst/>
                <a:gdLst/>
                <a:ahLst/>
                <a:rect l="l" t="t" r="r" b="b"/>
                <a:pathLst>
                  <a:path w="13" h="22">
                    <a:moveTo>
                      <a:pt x="0" y="22"/>
                    </a:moveTo>
                    <a:lnTo>
                      <a:pt x="0" y="0"/>
                    </a:lnTo>
                    <a:lnTo>
                      <a:pt x="7" y="2"/>
                    </a:lnTo>
                    <a:lnTo>
                      <a:pt x="11" y="6"/>
                    </a:lnTo>
                    <a:lnTo>
                      <a:pt x="13" y="13"/>
                    </a:lnTo>
                    <a:lnTo>
                      <a:pt x="10" y="22"/>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5" name=""/>
              <p:cNvSpPr/>
              <p:nvPr/>
            </p:nvSpPr>
            <p:spPr>
              <a:xfrm>
                <a:off x="7734240" y="3032280"/>
                <a:ext cx="11160" cy="10800"/>
              </a:xfrm>
              <a:custGeom>
                <a:avLst/>
                <a:gdLst/>
                <a:ahLst/>
                <a:rect l="l" t="t" r="r" b="b"/>
                <a:pathLst>
                  <a:path w="22" h="20">
                    <a:moveTo>
                      <a:pt x="3" y="20"/>
                    </a:moveTo>
                    <a:lnTo>
                      <a:pt x="0" y="16"/>
                    </a:lnTo>
                    <a:lnTo>
                      <a:pt x="2" y="9"/>
                    </a:lnTo>
                    <a:lnTo>
                      <a:pt x="4" y="3"/>
                    </a:lnTo>
                    <a:lnTo>
                      <a:pt x="12" y="0"/>
                    </a:lnTo>
                    <a:lnTo>
                      <a:pt x="22" y="6"/>
                    </a:lnTo>
                    <a:lnTo>
                      <a:pt x="20" y="9"/>
                    </a:lnTo>
                    <a:lnTo>
                      <a:pt x="16" y="14"/>
                    </a:lnTo>
                    <a:lnTo>
                      <a:pt x="10" y="19"/>
                    </a:lnTo>
                    <a:lnTo>
                      <a:pt x="3"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6" name=""/>
              <p:cNvSpPr/>
              <p:nvPr/>
            </p:nvSpPr>
            <p:spPr>
              <a:xfrm>
                <a:off x="7040520" y="3033720"/>
                <a:ext cx="11160" cy="11160"/>
              </a:xfrm>
              <a:custGeom>
                <a:avLst/>
                <a:gdLst/>
                <a:ahLst/>
                <a:rect l="l" t="t" r="r" b="b"/>
                <a:pathLst>
                  <a:path w="20" h="21">
                    <a:moveTo>
                      <a:pt x="13" y="21"/>
                    </a:moveTo>
                    <a:lnTo>
                      <a:pt x="0" y="11"/>
                    </a:lnTo>
                    <a:lnTo>
                      <a:pt x="20" y="0"/>
                    </a:lnTo>
                    <a:lnTo>
                      <a:pt x="20" y="6"/>
                    </a:lnTo>
                    <a:lnTo>
                      <a:pt x="20" y="13"/>
                    </a:lnTo>
                    <a:lnTo>
                      <a:pt x="17" y="20"/>
                    </a:lnTo>
                    <a:lnTo>
                      <a:pt x="1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7" name=""/>
              <p:cNvSpPr/>
              <p:nvPr/>
            </p:nvSpPr>
            <p:spPr>
              <a:xfrm>
                <a:off x="7854840" y="3019320"/>
                <a:ext cx="7920" cy="11160"/>
              </a:xfrm>
              <a:custGeom>
                <a:avLst/>
                <a:gdLst/>
                <a:ahLst/>
                <a:rect l="l" t="t" r="r" b="b"/>
                <a:pathLst>
                  <a:path w="15" h="22">
                    <a:moveTo>
                      <a:pt x="0" y="22"/>
                    </a:moveTo>
                    <a:lnTo>
                      <a:pt x="0" y="0"/>
                    </a:lnTo>
                    <a:lnTo>
                      <a:pt x="7" y="2"/>
                    </a:lnTo>
                    <a:lnTo>
                      <a:pt x="12" y="8"/>
                    </a:lnTo>
                    <a:lnTo>
                      <a:pt x="15" y="15"/>
                    </a:lnTo>
                    <a:lnTo>
                      <a:pt x="15" y="21"/>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8" name=""/>
              <p:cNvSpPr/>
              <p:nvPr/>
            </p:nvSpPr>
            <p:spPr>
              <a:xfrm>
                <a:off x="7161120" y="3027240"/>
                <a:ext cx="11160" cy="7920"/>
              </a:xfrm>
              <a:custGeom>
                <a:avLst/>
                <a:gdLst/>
                <a:ahLst/>
                <a:rect l="l" t="t" r="r" b="b"/>
                <a:pathLst>
                  <a:path w="21" h="16">
                    <a:moveTo>
                      <a:pt x="11" y="16"/>
                    </a:moveTo>
                    <a:lnTo>
                      <a:pt x="0" y="3"/>
                    </a:lnTo>
                    <a:lnTo>
                      <a:pt x="18" y="0"/>
                    </a:lnTo>
                    <a:lnTo>
                      <a:pt x="21" y="4"/>
                    </a:lnTo>
                    <a:lnTo>
                      <a:pt x="21" y="10"/>
                    </a:lnTo>
                    <a:lnTo>
                      <a:pt x="17" y="16"/>
                    </a:lnTo>
                    <a:lnTo>
                      <a:pt x="1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9" name=""/>
              <p:cNvSpPr/>
              <p:nvPr/>
            </p:nvSpPr>
            <p:spPr>
              <a:xfrm>
                <a:off x="8364600" y="2995560"/>
                <a:ext cx="9360" cy="11160"/>
              </a:xfrm>
              <a:custGeom>
                <a:avLst/>
                <a:gdLst/>
                <a:ahLst/>
                <a:rect l="l" t="t" r="r" b="b"/>
                <a:pathLst>
                  <a:path w="19" h="21">
                    <a:moveTo>
                      <a:pt x="0" y="21"/>
                    </a:moveTo>
                    <a:lnTo>
                      <a:pt x="5" y="0"/>
                    </a:lnTo>
                    <a:lnTo>
                      <a:pt x="19" y="13"/>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
              <p:cNvSpPr/>
              <p:nvPr/>
            </p:nvSpPr>
            <p:spPr>
              <a:xfrm>
                <a:off x="7783560" y="2987640"/>
                <a:ext cx="9360" cy="11160"/>
              </a:xfrm>
              <a:custGeom>
                <a:avLst/>
                <a:gdLst/>
                <a:ahLst/>
                <a:rect l="l" t="t" r="r" b="b"/>
                <a:pathLst>
                  <a:path w="18" h="21">
                    <a:moveTo>
                      <a:pt x="8" y="21"/>
                    </a:moveTo>
                    <a:lnTo>
                      <a:pt x="0" y="4"/>
                    </a:lnTo>
                    <a:lnTo>
                      <a:pt x="8" y="0"/>
                    </a:lnTo>
                    <a:lnTo>
                      <a:pt x="14" y="1"/>
                    </a:lnTo>
                    <a:lnTo>
                      <a:pt x="18" y="8"/>
                    </a:lnTo>
                    <a:lnTo>
                      <a:pt x="18" y="15"/>
                    </a:lnTo>
                    <a:lnTo>
                      <a:pt x="8"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1" name=""/>
              <p:cNvSpPr/>
              <p:nvPr/>
            </p:nvSpPr>
            <p:spPr>
              <a:xfrm>
                <a:off x="8178840" y="2975040"/>
                <a:ext cx="9360" cy="11160"/>
              </a:xfrm>
              <a:custGeom>
                <a:avLst/>
                <a:gdLst/>
                <a:ahLst/>
                <a:rect l="l" t="t" r="r" b="b"/>
                <a:pathLst>
                  <a:path w="19" h="19">
                    <a:moveTo>
                      <a:pt x="5" y="19"/>
                    </a:moveTo>
                    <a:lnTo>
                      <a:pt x="0" y="0"/>
                    </a:lnTo>
                    <a:lnTo>
                      <a:pt x="9" y="0"/>
                    </a:lnTo>
                    <a:lnTo>
                      <a:pt x="15" y="3"/>
                    </a:lnTo>
                    <a:lnTo>
                      <a:pt x="19" y="9"/>
                    </a:lnTo>
                    <a:lnTo>
                      <a:pt x="19" y="19"/>
                    </a:lnTo>
                    <a:lnTo>
                      <a:pt x="5"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2" name=""/>
              <p:cNvSpPr/>
              <p:nvPr/>
            </p:nvSpPr>
            <p:spPr>
              <a:xfrm>
                <a:off x="7227720" y="2979720"/>
                <a:ext cx="16200" cy="12600"/>
              </a:xfrm>
              <a:custGeom>
                <a:avLst/>
                <a:gdLst/>
                <a:ahLst/>
                <a:rect l="l" t="t" r="r" b="b"/>
                <a:pathLst>
                  <a:path w="29" h="26">
                    <a:moveTo>
                      <a:pt x="14" y="26"/>
                    </a:moveTo>
                    <a:lnTo>
                      <a:pt x="0" y="7"/>
                    </a:lnTo>
                    <a:lnTo>
                      <a:pt x="4" y="2"/>
                    </a:lnTo>
                    <a:lnTo>
                      <a:pt x="13" y="0"/>
                    </a:lnTo>
                    <a:lnTo>
                      <a:pt x="22" y="4"/>
                    </a:lnTo>
                    <a:lnTo>
                      <a:pt x="29" y="12"/>
                    </a:lnTo>
                    <a:lnTo>
                      <a:pt x="1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3" name=""/>
              <p:cNvSpPr/>
              <p:nvPr/>
            </p:nvSpPr>
            <p:spPr>
              <a:xfrm>
                <a:off x="8085240" y="2963880"/>
                <a:ext cx="7920" cy="11160"/>
              </a:xfrm>
              <a:custGeom>
                <a:avLst/>
                <a:gdLst/>
                <a:ahLst/>
                <a:rect l="l" t="t" r="r" b="b"/>
                <a:pathLst>
                  <a:path w="16" h="21">
                    <a:moveTo>
                      <a:pt x="3" y="21"/>
                    </a:moveTo>
                    <a:lnTo>
                      <a:pt x="0" y="0"/>
                    </a:lnTo>
                    <a:lnTo>
                      <a:pt x="9" y="1"/>
                    </a:lnTo>
                    <a:lnTo>
                      <a:pt x="15" y="4"/>
                    </a:lnTo>
                    <a:lnTo>
                      <a:pt x="16" y="11"/>
                    </a:lnTo>
                    <a:lnTo>
                      <a:pt x="15"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4" name=""/>
              <p:cNvSpPr/>
              <p:nvPr/>
            </p:nvSpPr>
            <p:spPr>
              <a:xfrm>
                <a:off x="8021520" y="2959200"/>
                <a:ext cx="9720" cy="11160"/>
              </a:xfrm>
              <a:custGeom>
                <a:avLst/>
                <a:gdLst/>
                <a:ahLst/>
                <a:rect l="l" t="t" r="r" b="b"/>
                <a:pathLst>
                  <a:path w="17" h="22">
                    <a:moveTo>
                      <a:pt x="7" y="22"/>
                    </a:moveTo>
                    <a:lnTo>
                      <a:pt x="0" y="4"/>
                    </a:lnTo>
                    <a:lnTo>
                      <a:pt x="9" y="0"/>
                    </a:lnTo>
                    <a:lnTo>
                      <a:pt x="14" y="3"/>
                    </a:lnTo>
                    <a:lnTo>
                      <a:pt x="17" y="10"/>
                    </a:lnTo>
                    <a:lnTo>
                      <a:pt x="16" y="17"/>
                    </a:lnTo>
                    <a:lnTo>
                      <a:pt x="7"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5" name=""/>
              <p:cNvSpPr/>
              <p:nvPr/>
            </p:nvSpPr>
            <p:spPr>
              <a:xfrm>
                <a:off x="7010280" y="2965320"/>
                <a:ext cx="11160" cy="11160"/>
              </a:xfrm>
              <a:custGeom>
                <a:avLst/>
                <a:gdLst/>
                <a:ahLst/>
                <a:rect l="l" t="t" r="r" b="b"/>
                <a:pathLst>
                  <a:path w="23" h="22">
                    <a:moveTo>
                      <a:pt x="14" y="22"/>
                    </a:moveTo>
                    <a:lnTo>
                      <a:pt x="7" y="20"/>
                    </a:lnTo>
                    <a:lnTo>
                      <a:pt x="1" y="16"/>
                    </a:lnTo>
                    <a:lnTo>
                      <a:pt x="0" y="10"/>
                    </a:lnTo>
                    <a:lnTo>
                      <a:pt x="3" y="2"/>
                    </a:lnTo>
                    <a:lnTo>
                      <a:pt x="23" y="0"/>
                    </a:lnTo>
                    <a:lnTo>
                      <a:pt x="1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6" name=""/>
              <p:cNvSpPr/>
              <p:nvPr/>
            </p:nvSpPr>
            <p:spPr>
              <a:xfrm>
                <a:off x="7937640" y="2949480"/>
                <a:ext cx="9360" cy="12960"/>
              </a:xfrm>
              <a:custGeom>
                <a:avLst/>
                <a:gdLst/>
                <a:ahLst/>
                <a:rect l="l" t="t" r="r" b="b"/>
                <a:pathLst>
                  <a:path w="19" h="23">
                    <a:moveTo>
                      <a:pt x="8" y="23"/>
                    </a:moveTo>
                    <a:lnTo>
                      <a:pt x="0" y="3"/>
                    </a:lnTo>
                    <a:lnTo>
                      <a:pt x="9" y="0"/>
                    </a:lnTo>
                    <a:lnTo>
                      <a:pt x="16" y="4"/>
                    </a:lnTo>
                    <a:lnTo>
                      <a:pt x="19" y="11"/>
                    </a:lnTo>
                    <a:lnTo>
                      <a:pt x="15" y="20"/>
                    </a:lnTo>
                    <a:lnTo>
                      <a:pt x="8"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7" name=""/>
              <p:cNvSpPr/>
              <p:nvPr/>
            </p:nvSpPr>
            <p:spPr>
              <a:xfrm>
                <a:off x="7095960" y="2962440"/>
                <a:ext cx="9720" cy="10800"/>
              </a:xfrm>
              <a:custGeom>
                <a:avLst/>
                <a:gdLst/>
                <a:ahLst/>
                <a:rect l="l" t="t" r="r" b="b"/>
                <a:pathLst>
                  <a:path w="17" h="21">
                    <a:moveTo>
                      <a:pt x="0" y="21"/>
                    </a:moveTo>
                    <a:lnTo>
                      <a:pt x="0" y="0"/>
                    </a:lnTo>
                    <a:lnTo>
                      <a:pt x="7" y="0"/>
                    </a:lnTo>
                    <a:lnTo>
                      <a:pt x="13" y="3"/>
                    </a:lnTo>
                    <a:lnTo>
                      <a:pt x="17" y="9"/>
                    </a:lnTo>
                    <a:lnTo>
                      <a:pt x="17" y="18"/>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08" name=""/>
              <p:cNvSpPr/>
              <p:nvPr/>
            </p:nvSpPr>
            <p:spPr>
              <a:xfrm>
                <a:off x="8385120" y="2943360"/>
                <a:ext cx="9720" cy="10800"/>
              </a:xfrm>
              <a:custGeom>
                <a:avLst/>
                <a:gdLst/>
                <a:ahLst/>
                <a:rect l="l" t="t" r="r" b="b"/>
                <a:pathLst>
                  <a:path w="16" h="22">
                    <a:moveTo>
                      <a:pt x="0" y="22"/>
                    </a:moveTo>
                    <a:lnTo>
                      <a:pt x="0" y="0"/>
                    </a:lnTo>
                    <a:lnTo>
                      <a:pt x="16" y="13"/>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09" name=""/>
              <p:cNvSpPr/>
              <p:nvPr/>
            </p:nvSpPr>
            <p:spPr>
              <a:xfrm>
                <a:off x="8282160" y="2941560"/>
                <a:ext cx="7920" cy="12600"/>
              </a:xfrm>
              <a:custGeom>
                <a:avLst/>
                <a:gdLst/>
                <a:ahLst/>
                <a:rect l="l" t="t" r="r" b="b"/>
                <a:pathLst>
                  <a:path w="15" h="24">
                    <a:moveTo>
                      <a:pt x="6" y="24"/>
                    </a:moveTo>
                    <a:lnTo>
                      <a:pt x="3" y="20"/>
                    </a:lnTo>
                    <a:lnTo>
                      <a:pt x="0" y="13"/>
                    </a:lnTo>
                    <a:lnTo>
                      <a:pt x="2" y="4"/>
                    </a:lnTo>
                    <a:lnTo>
                      <a:pt x="9" y="0"/>
                    </a:lnTo>
                    <a:lnTo>
                      <a:pt x="12" y="4"/>
                    </a:lnTo>
                    <a:lnTo>
                      <a:pt x="15" y="11"/>
                    </a:lnTo>
                    <a:lnTo>
                      <a:pt x="15" y="20"/>
                    </a:lnTo>
                    <a:lnTo>
                      <a:pt x="6"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0" name=""/>
              <p:cNvSpPr/>
              <p:nvPr/>
            </p:nvSpPr>
            <p:spPr>
              <a:xfrm>
                <a:off x="7851600" y="2941560"/>
                <a:ext cx="8280" cy="11160"/>
              </a:xfrm>
              <a:custGeom>
                <a:avLst/>
                <a:gdLst/>
                <a:ahLst/>
                <a:rect l="l" t="t" r="r" b="b"/>
                <a:pathLst>
                  <a:path w="14" h="22">
                    <a:moveTo>
                      <a:pt x="3" y="22"/>
                    </a:moveTo>
                    <a:lnTo>
                      <a:pt x="0" y="3"/>
                    </a:lnTo>
                    <a:lnTo>
                      <a:pt x="7" y="0"/>
                    </a:lnTo>
                    <a:lnTo>
                      <a:pt x="13" y="4"/>
                    </a:lnTo>
                    <a:lnTo>
                      <a:pt x="14" y="11"/>
                    </a:lnTo>
                    <a:lnTo>
                      <a:pt x="13" y="20"/>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1" name=""/>
              <p:cNvSpPr/>
              <p:nvPr/>
            </p:nvSpPr>
            <p:spPr>
              <a:xfrm>
                <a:off x="8115480" y="2927520"/>
                <a:ext cx="10800" cy="12600"/>
              </a:xfrm>
              <a:custGeom>
                <a:avLst/>
                <a:gdLst/>
                <a:ahLst/>
                <a:rect l="l" t="t" r="r" b="b"/>
                <a:pathLst>
                  <a:path w="22" h="22">
                    <a:moveTo>
                      <a:pt x="12" y="22"/>
                    </a:moveTo>
                    <a:lnTo>
                      <a:pt x="0" y="0"/>
                    </a:lnTo>
                    <a:lnTo>
                      <a:pt x="22" y="6"/>
                    </a:lnTo>
                    <a:lnTo>
                      <a:pt x="1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2" name=""/>
              <p:cNvSpPr/>
              <p:nvPr/>
            </p:nvSpPr>
            <p:spPr>
              <a:xfrm>
                <a:off x="8191440" y="2914560"/>
                <a:ext cx="9720" cy="11160"/>
              </a:xfrm>
              <a:custGeom>
                <a:avLst/>
                <a:gdLst/>
                <a:ahLst/>
                <a:rect l="l" t="t" r="r" b="b"/>
                <a:pathLst>
                  <a:path w="16" h="21">
                    <a:moveTo>
                      <a:pt x="4" y="21"/>
                    </a:moveTo>
                    <a:lnTo>
                      <a:pt x="0" y="2"/>
                    </a:lnTo>
                    <a:lnTo>
                      <a:pt x="7" y="0"/>
                    </a:lnTo>
                    <a:lnTo>
                      <a:pt x="13" y="5"/>
                    </a:lnTo>
                    <a:lnTo>
                      <a:pt x="16" y="10"/>
                    </a:lnTo>
                    <a:lnTo>
                      <a:pt x="13" y="21"/>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3" name=""/>
              <p:cNvSpPr/>
              <p:nvPr/>
            </p:nvSpPr>
            <p:spPr>
              <a:xfrm>
                <a:off x="7254720" y="2919240"/>
                <a:ext cx="11160" cy="11160"/>
              </a:xfrm>
              <a:custGeom>
                <a:avLst/>
                <a:gdLst/>
                <a:ahLst/>
                <a:rect l="l" t="t" r="r" b="b"/>
                <a:pathLst>
                  <a:path w="22" h="23">
                    <a:moveTo>
                      <a:pt x="12" y="23"/>
                    </a:moveTo>
                    <a:lnTo>
                      <a:pt x="5" y="22"/>
                    </a:lnTo>
                    <a:lnTo>
                      <a:pt x="2" y="16"/>
                    </a:lnTo>
                    <a:lnTo>
                      <a:pt x="2" y="9"/>
                    </a:lnTo>
                    <a:lnTo>
                      <a:pt x="0" y="0"/>
                    </a:lnTo>
                    <a:lnTo>
                      <a:pt x="22" y="6"/>
                    </a:lnTo>
                    <a:lnTo>
                      <a:pt x="12"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4" name=""/>
              <p:cNvSpPr/>
              <p:nvPr/>
            </p:nvSpPr>
            <p:spPr>
              <a:xfrm>
                <a:off x="7170840" y="2911320"/>
                <a:ext cx="12600" cy="12960"/>
              </a:xfrm>
              <a:custGeom>
                <a:avLst/>
                <a:gdLst/>
                <a:ahLst/>
                <a:rect l="l" t="t" r="r" b="b"/>
                <a:pathLst>
                  <a:path w="24" h="22">
                    <a:moveTo>
                      <a:pt x="8" y="22"/>
                    </a:moveTo>
                    <a:lnTo>
                      <a:pt x="0" y="0"/>
                    </a:lnTo>
                    <a:lnTo>
                      <a:pt x="24" y="9"/>
                    </a:lnTo>
                    <a:lnTo>
                      <a:pt x="8"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5" name=""/>
              <p:cNvSpPr/>
              <p:nvPr/>
            </p:nvSpPr>
            <p:spPr>
              <a:xfrm>
                <a:off x="8267760" y="2886120"/>
                <a:ext cx="9360" cy="7920"/>
              </a:xfrm>
              <a:custGeom>
                <a:avLst/>
                <a:gdLst/>
                <a:ahLst/>
                <a:rect l="l" t="t" r="r" b="b"/>
                <a:pathLst>
                  <a:path w="19" h="16">
                    <a:moveTo>
                      <a:pt x="0" y="16"/>
                    </a:moveTo>
                    <a:lnTo>
                      <a:pt x="6" y="0"/>
                    </a:lnTo>
                    <a:lnTo>
                      <a:pt x="19" y="16"/>
                    </a:lnTo>
                    <a:lnTo>
                      <a:pt x="0"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16" name=""/>
              <p:cNvSpPr/>
              <p:nvPr/>
            </p:nvSpPr>
            <p:spPr>
              <a:xfrm>
                <a:off x="7012080" y="2900520"/>
                <a:ext cx="11160" cy="9360"/>
              </a:xfrm>
              <a:custGeom>
                <a:avLst/>
                <a:gdLst/>
                <a:ahLst/>
                <a:rect l="l" t="t" r="r" b="b"/>
                <a:pathLst>
                  <a:path w="22" h="20">
                    <a:moveTo>
                      <a:pt x="3" y="19"/>
                    </a:moveTo>
                    <a:lnTo>
                      <a:pt x="0" y="0"/>
                    </a:lnTo>
                    <a:lnTo>
                      <a:pt x="22" y="1"/>
                    </a:lnTo>
                    <a:lnTo>
                      <a:pt x="22" y="10"/>
                    </a:lnTo>
                    <a:lnTo>
                      <a:pt x="19" y="16"/>
                    </a:lnTo>
                    <a:lnTo>
                      <a:pt x="13" y="20"/>
                    </a:lnTo>
                    <a:lnTo>
                      <a:pt x="3"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7" name=""/>
              <p:cNvSpPr/>
              <p:nvPr/>
            </p:nvSpPr>
            <p:spPr>
              <a:xfrm>
                <a:off x="8331120" y="2876400"/>
                <a:ext cx="9720" cy="16200"/>
              </a:xfrm>
              <a:custGeom>
                <a:avLst/>
                <a:gdLst/>
                <a:ahLst/>
                <a:rect l="l" t="t" r="r" b="b"/>
                <a:pathLst>
                  <a:path w="20" h="28">
                    <a:moveTo>
                      <a:pt x="14" y="28"/>
                    </a:moveTo>
                    <a:lnTo>
                      <a:pt x="4" y="24"/>
                    </a:lnTo>
                    <a:lnTo>
                      <a:pt x="0" y="17"/>
                    </a:lnTo>
                    <a:lnTo>
                      <a:pt x="1" y="10"/>
                    </a:lnTo>
                    <a:lnTo>
                      <a:pt x="5" y="2"/>
                    </a:lnTo>
                    <a:lnTo>
                      <a:pt x="13" y="0"/>
                    </a:lnTo>
                    <a:lnTo>
                      <a:pt x="17" y="5"/>
                    </a:lnTo>
                    <a:lnTo>
                      <a:pt x="20" y="14"/>
                    </a:lnTo>
                    <a:lnTo>
                      <a:pt x="20" y="23"/>
                    </a:lnTo>
                    <a:lnTo>
                      <a:pt x="14" y="2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18" name=""/>
              <p:cNvSpPr/>
              <p:nvPr/>
            </p:nvSpPr>
            <p:spPr>
              <a:xfrm>
                <a:off x="8109000" y="2874960"/>
                <a:ext cx="9360" cy="11160"/>
              </a:xfrm>
              <a:custGeom>
                <a:avLst/>
                <a:gdLst/>
                <a:ahLst/>
                <a:rect l="l" t="t" r="r" b="b"/>
                <a:pathLst>
                  <a:path w="17" h="23">
                    <a:moveTo>
                      <a:pt x="11" y="23"/>
                    </a:moveTo>
                    <a:lnTo>
                      <a:pt x="3" y="20"/>
                    </a:lnTo>
                    <a:lnTo>
                      <a:pt x="0" y="13"/>
                    </a:lnTo>
                    <a:lnTo>
                      <a:pt x="3" y="5"/>
                    </a:lnTo>
                    <a:lnTo>
                      <a:pt x="10" y="0"/>
                    </a:lnTo>
                    <a:lnTo>
                      <a:pt x="14" y="3"/>
                    </a:lnTo>
                    <a:lnTo>
                      <a:pt x="17" y="12"/>
                    </a:lnTo>
                    <a:lnTo>
                      <a:pt x="17" y="19"/>
                    </a:lnTo>
                    <a:lnTo>
                      <a:pt x="11"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9" name=""/>
              <p:cNvSpPr/>
              <p:nvPr/>
            </p:nvSpPr>
            <p:spPr>
              <a:xfrm>
                <a:off x="7956720" y="2873520"/>
                <a:ext cx="7920" cy="10800"/>
              </a:xfrm>
              <a:custGeom>
                <a:avLst/>
                <a:gdLst/>
                <a:ahLst/>
                <a:rect l="l" t="t" r="r" b="b"/>
                <a:pathLst>
                  <a:path w="16" h="23">
                    <a:moveTo>
                      <a:pt x="0" y="23"/>
                    </a:moveTo>
                    <a:lnTo>
                      <a:pt x="0" y="0"/>
                    </a:lnTo>
                    <a:lnTo>
                      <a:pt x="16" y="10"/>
                    </a:lnTo>
                    <a:lnTo>
                      <a:pt x="0"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0" name=""/>
              <p:cNvSpPr/>
              <p:nvPr/>
            </p:nvSpPr>
            <p:spPr>
              <a:xfrm>
                <a:off x="8393040" y="2863800"/>
                <a:ext cx="7920" cy="11160"/>
              </a:xfrm>
              <a:custGeom>
                <a:avLst/>
                <a:gdLst/>
                <a:ahLst/>
                <a:rect l="l" t="t" r="r" b="b"/>
                <a:pathLst>
                  <a:path w="16" h="21">
                    <a:moveTo>
                      <a:pt x="2" y="21"/>
                    </a:moveTo>
                    <a:lnTo>
                      <a:pt x="0" y="2"/>
                    </a:lnTo>
                    <a:lnTo>
                      <a:pt x="7" y="0"/>
                    </a:lnTo>
                    <a:lnTo>
                      <a:pt x="13" y="3"/>
                    </a:lnTo>
                    <a:lnTo>
                      <a:pt x="16" y="11"/>
                    </a:lnTo>
                    <a:lnTo>
                      <a:pt x="16" y="21"/>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1" name=""/>
              <p:cNvSpPr/>
              <p:nvPr/>
            </p:nvSpPr>
            <p:spPr>
              <a:xfrm>
                <a:off x="7877160" y="2867040"/>
                <a:ext cx="7920" cy="11160"/>
              </a:xfrm>
              <a:custGeom>
                <a:avLst/>
                <a:gdLst/>
                <a:ahLst/>
                <a:rect l="l" t="t" r="r" b="b"/>
                <a:pathLst>
                  <a:path w="16" h="21">
                    <a:moveTo>
                      <a:pt x="3" y="21"/>
                    </a:moveTo>
                    <a:lnTo>
                      <a:pt x="0" y="0"/>
                    </a:lnTo>
                    <a:lnTo>
                      <a:pt x="10" y="0"/>
                    </a:lnTo>
                    <a:lnTo>
                      <a:pt x="15" y="4"/>
                    </a:lnTo>
                    <a:lnTo>
                      <a:pt x="16" y="11"/>
                    </a:lnTo>
                    <a:lnTo>
                      <a:pt x="16"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2" name=""/>
              <p:cNvSpPr/>
              <p:nvPr/>
            </p:nvSpPr>
            <p:spPr>
              <a:xfrm>
                <a:off x="8040600" y="2862360"/>
                <a:ext cx="7920" cy="9360"/>
              </a:xfrm>
              <a:custGeom>
                <a:avLst/>
                <a:gdLst/>
                <a:ahLst/>
                <a:rect l="l" t="t" r="r" b="b"/>
                <a:pathLst>
                  <a:path w="13" h="20">
                    <a:moveTo>
                      <a:pt x="0" y="20"/>
                    </a:moveTo>
                    <a:lnTo>
                      <a:pt x="0" y="0"/>
                    </a:lnTo>
                    <a:lnTo>
                      <a:pt x="7" y="1"/>
                    </a:lnTo>
                    <a:lnTo>
                      <a:pt x="12" y="5"/>
                    </a:lnTo>
                    <a:lnTo>
                      <a:pt x="13" y="13"/>
                    </a:lnTo>
                    <a:lnTo>
                      <a:pt x="10" y="20"/>
                    </a:lnTo>
                    <a:lnTo>
                      <a:pt x="0"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3" name=""/>
              <p:cNvSpPr/>
              <p:nvPr/>
            </p:nvSpPr>
            <p:spPr>
              <a:xfrm>
                <a:off x="7095960" y="2852640"/>
                <a:ext cx="11160" cy="11160"/>
              </a:xfrm>
              <a:custGeom>
                <a:avLst/>
                <a:gdLst/>
                <a:ahLst/>
                <a:rect l="l" t="t" r="r" b="b"/>
                <a:pathLst>
                  <a:path w="20" h="21">
                    <a:moveTo>
                      <a:pt x="4" y="21"/>
                    </a:moveTo>
                    <a:lnTo>
                      <a:pt x="0" y="0"/>
                    </a:lnTo>
                    <a:lnTo>
                      <a:pt x="7" y="0"/>
                    </a:lnTo>
                    <a:lnTo>
                      <a:pt x="16" y="3"/>
                    </a:lnTo>
                    <a:lnTo>
                      <a:pt x="20" y="10"/>
                    </a:lnTo>
                    <a:lnTo>
                      <a:pt x="17" y="19"/>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4" name=""/>
              <p:cNvSpPr/>
              <p:nvPr/>
            </p:nvSpPr>
            <p:spPr>
              <a:xfrm>
                <a:off x="7331040" y="2835360"/>
                <a:ext cx="12600" cy="9360"/>
              </a:xfrm>
              <a:custGeom>
                <a:avLst/>
                <a:gdLst/>
                <a:ahLst/>
                <a:rect l="l" t="t" r="r" b="b"/>
                <a:pathLst>
                  <a:path w="24" h="17">
                    <a:moveTo>
                      <a:pt x="1" y="17"/>
                    </a:moveTo>
                    <a:lnTo>
                      <a:pt x="0" y="0"/>
                    </a:lnTo>
                    <a:lnTo>
                      <a:pt x="7" y="0"/>
                    </a:lnTo>
                    <a:lnTo>
                      <a:pt x="14" y="1"/>
                    </a:lnTo>
                    <a:lnTo>
                      <a:pt x="21" y="4"/>
                    </a:lnTo>
                    <a:lnTo>
                      <a:pt x="24" y="10"/>
                    </a:lnTo>
                    <a:lnTo>
                      <a:pt x="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5" name=""/>
              <p:cNvSpPr/>
              <p:nvPr/>
            </p:nvSpPr>
            <p:spPr>
              <a:xfrm>
                <a:off x="8318520" y="2817720"/>
                <a:ext cx="11160" cy="11160"/>
              </a:xfrm>
              <a:custGeom>
                <a:avLst/>
                <a:gdLst/>
                <a:ahLst/>
                <a:rect l="l" t="t" r="r" b="b"/>
                <a:pathLst>
                  <a:path w="19" h="23">
                    <a:moveTo>
                      <a:pt x="7" y="23"/>
                    </a:moveTo>
                    <a:lnTo>
                      <a:pt x="3" y="20"/>
                    </a:lnTo>
                    <a:lnTo>
                      <a:pt x="0" y="13"/>
                    </a:lnTo>
                    <a:lnTo>
                      <a:pt x="0" y="4"/>
                    </a:lnTo>
                    <a:lnTo>
                      <a:pt x="9" y="0"/>
                    </a:lnTo>
                    <a:lnTo>
                      <a:pt x="13" y="4"/>
                    </a:lnTo>
                    <a:lnTo>
                      <a:pt x="19" y="13"/>
                    </a:lnTo>
                    <a:lnTo>
                      <a:pt x="19" y="22"/>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6" name=""/>
              <p:cNvSpPr/>
              <p:nvPr/>
            </p:nvSpPr>
            <p:spPr>
              <a:xfrm>
                <a:off x="8220240" y="2817720"/>
                <a:ext cx="10800" cy="11160"/>
              </a:xfrm>
              <a:custGeom>
                <a:avLst/>
                <a:gdLst/>
                <a:ahLst/>
                <a:rect l="l" t="t" r="r" b="b"/>
                <a:pathLst>
                  <a:path w="22" h="23">
                    <a:moveTo>
                      <a:pt x="13" y="23"/>
                    </a:moveTo>
                    <a:lnTo>
                      <a:pt x="4" y="20"/>
                    </a:lnTo>
                    <a:lnTo>
                      <a:pt x="0" y="11"/>
                    </a:lnTo>
                    <a:lnTo>
                      <a:pt x="3" y="4"/>
                    </a:lnTo>
                    <a:lnTo>
                      <a:pt x="10" y="0"/>
                    </a:lnTo>
                    <a:lnTo>
                      <a:pt x="17" y="3"/>
                    </a:lnTo>
                    <a:lnTo>
                      <a:pt x="22" y="11"/>
                    </a:lnTo>
                    <a:lnTo>
                      <a:pt x="22" y="19"/>
                    </a:lnTo>
                    <a:lnTo>
                      <a:pt x="1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27" name=""/>
              <p:cNvSpPr/>
              <p:nvPr/>
            </p:nvSpPr>
            <p:spPr>
              <a:xfrm>
                <a:off x="7211880" y="2830680"/>
                <a:ext cx="9720" cy="9360"/>
              </a:xfrm>
              <a:custGeom>
                <a:avLst/>
                <a:gdLst/>
                <a:ahLst/>
                <a:rect l="l" t="t" r="r" b="b"/>
                <a:pathLst>
                  <a:path w="18" h="19">
                    <a:moveTo>
                      <a:pt x="2" y="19"/>
                    </a:moveTo>
                    <a:lnTo>
                      <a:pt x="0" y="2"/>
                    </a:lnTo>
                    <a:lnTo>
                      <a:pt x="8" y="0"/>
                    </a:lnTo>
                    <a:lnTo>
                      <a:pt x="14" y="3"/>
                    </a:lnTo>
                    <a:lnTo>
                      <a:pt x="18" y="11"/>
                    </a:lnTo>
                    <a:lnTo>
                      <a:pt x="16" y="19"/>
                    </a:lnTo>
                    <a:lnTo>
                      <a:pt x="2"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8" name=""/>
              <p:cNvSpPr/>
              <p:nvPr/>
            </p:nvSpPr>
            <p:spPr>
              <a:xfrm>
                <a:off x="8416800" y="2808360"/>
                <a:ext cx="9720" cy="15840"/>
              </a:xfrm>
              <a:custGeom>
                <a:avLst/>
                <a:gdLst/>
                <a:ahLst/>
                <a:rect l="l" t="t" r="r" b="b"/>
                <a:pathLst>
                  <a:path w="18" h="32">
                    <a:moveTo>
                      <a:pt x="12" y="32"/>
                    </a:moveTo>
                    <a:lnTo>
                      <a:pt x="0" y="24"/>
                    </a:lnTo>
                    <a:lnTo>
                      <a:pt x="0" y="16"/>
                    </a:lnTo>
                    <a:lnTo>
                      <a:pt x="2" y="11"/>
                    </a:lnTo>
                    <a:lnTo>
                      <a:pt x="6" y="5"/>
                    </a:lnTo>
                    <a:lnTo>
                      <a:pt x="16" y="0"/>
                    </a:lnTo>
                    <a:lnTo>
                      <a:pt x="18" y="8"/>
                    </a:lnTo>
                    <a:lnTo>
                      <a:pt x="18" y="15"/>
                    </a:lnTo>
                    <a:lnTo>
                      <a:pt x="15" y="22"/>
                    </a:lnTo>
                    <a:lnTo>
                      <a:pt x="12" y="32"/>
                    </a:lnTo>
                    <a:close/>
                  </a:path>
                </a:pathLst>
              </a:custGeom>
              <a:solidFill>
                <a:srgbClr val="6619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29" name=""/>
              <p:cNvSpPr/>
              <p:nvPr/>
            </p:nvSpPr>
            <p:spPr>
              <a:xfrm>
                <a:off x="7008840" y="2822400"/>
                <a:ext cx="11160" cy="11160"/>
              </a:xfrm>
              <a:custGeom>
                <a:avLst/>
                <a:gdLst/>
                <a:ahLst/>
                <a:rect l="l" t="t" r="r" b="b"/>
                <a:pathLst>
                  <a:path w="22" h="19">
                    <a:moveTo>
                      <a:pt x="9" y="19"/>
                    </a:moveTo>
                    <a:lnTo>
                      <a:pt x="0" y="5"/>
                    </a:lnTo>
                    <a:lnTo>
                      <a:pt x="9" y="0"/>
                    </a:lnTo>
                    <a:lnTo>
                      <a:pt x="16" y="0"/>
                    </a:lnTo>
                    <a:lnTo>
                      <a:pt x="21" y="6"/>
                    </a:lnTo>
                    <a:lnTo>
                      <a:pt x="22" y="15"/>
                    </a:lnTo>
                    <a:lnTo>
                      <a:pt x="9"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0" name=""/>
              <p:cNvSpPr/>
              <p:nvPr/>
            </p:nvSpPr>
            <p:spPr>
              <a:xfrm>
                <a:off x="7140600" y="1906560"/>
                <a:ext cx="1285920" cy="903240"/>
              </a:xfrm>
              <a:custGeom>
                <a:avLst/>
                <a:gdLst/>
                <a:ahLst/>
                <a:rect l="l" t="t" r="r" b="b"/>
                <a:pathLst>
                  <a:path w="2431" h="1708">
                    <a:moveTo>
                      <a:pt x="2374" y="1708"/>
                    </a:moveTo>
                    <a:lnTo>
                      <a:pt x="2366" y="1698"/>
                    </a:lnTo>
                    <a:lnTo>
                      <a:pt x="2370" y="1688"/>
                    </a:lnTo>
                    <a:lnTo>
                      <a:pt x="2376" y="1679"/>
                    </a:lnTo>
                    <a:lnTo>
                      <a:pt x="2383" y="1670"/>
                    </a:lnTo>
                    <a:lnTo>
                      <a:pt x="2390" y="1662"/>
                    </a:lnTo>
                    <a:lnTo>
                      <a:pt x="2398" y="1651"/>
                    </a:lnTo>
                    <a:lnTo>
                      <a:pt x="2405" y="1643"/>
                    </a:lnTo>
                    <a:lnTo>
                      <a:pt x="2412" y="1633"/>
                    </a:lnTo>
                    <a:lnTo>
                      <a:pt x="2418" y="1621"/>
                    </a:lnTo>
                    <a:lnTo>
                      <a:pt x="2415" y="1612"/>
                    </a:lnTo>
                    <a:lnTo>
                      <a:pt x="2405" y="1607"/>
                    </a:lnTo>
                    <a:lnTo>
                      <a:pt x="2395" y="1612"/>
                    </a:lnTo>
                    <a:lnTo>
                      <a:pt x="2387" y="1620"/>
                    </a:lnTo>
                    <a:lnTo>
                      <a:pt x="2382" y="1628"/>
                    </a:lnTo>
                    <a:lnTo>
                      <a:pt x="2374" y="1637"/>
                    </a:lnTo>
                    <a:lnTo>
                      <a:pt x="2369" y="1647"/>
                    </a:lnTo>
                    <a:lnTo>
                      <a:pt x="2363" y="1657"/>
                    </a:lnTo>
                    <a:lnTo>
                      <a:pt x="2356" y="1666"/>
                    </a:lnTo>
                    <a:lnTo>
                      <a:pt x="2347" y="1675"/>
                    </a:lnTo>
                    <a:lnTo>
                      <a:pt x="2338" y="1683"/>
                    </a:lnTo>
                    <a:lnTo>
                      <a:pt x="2314" y="1667"/>
                    </a:lnTo>
                    <a:lnTo>
                      <a:pt x="2322" y="1657"/>
                    </a:lnTo>
                    <a:lnTo>
                      <a:pt x="2332" y="1647"/>
                    </a:lnTo>
                    <a:lnTo>
                      <a:pt x="2341" y="1637"/>
                    </a:lnTo>
                    <a:lnTo>
                      <a:pt x="2350" y="1625"/>
                    </a:lnTo>
                    <a:lnTo>
                      <a:pt x="2360" y="1614"/>
                    </a:lnTo>
                    <a:lnTo>
                      <a:pt x="2367" y="1602"/>
                    </a:lnTo>
                    <a:lnTo>
                      <a:pt x="2374" y="1591"/>
                    </a:lnTo>
                    <a:lnTo>
                      <a:pt x="2382" y="1578"/>
                    </a:lnTo>
                    <a:lnTo>
                      <a:pt x="2380" y="1565"/>
                    </a:lnTo>
                    <a:lnTo>
                      <a:pt x="2359" y="1563"/>
                    </a:lnTo>
                    <a:lnTo>
                      <a:pt x="2353" y="1575"/>
                    </a:lnTo>
                    <a:lnTo>
                      <a:pt x="2347" y="1585"/>
                    </a:lnTo>
                    <a:lnTo>
                      <a:pt x="2340" y="1595"/>
                    </a:lnTo>
                    <a:lnTo>
                      <a:pt x="2331" y="1604"/>
                    </a:lnTo>
                    <a:lnTo>
                      <a:pt x="2322" y="1615"/>
                    </a:lnTo>
                    <a:lnTo>
                      <a:pt x="2314" y="1625"/>
                    </a:lnTo>
                    <a:lnTo>
                      <a:pt x="2305" y="1637"/>
                    </a:lnTo>
                    <a:lnTo>
                      <a:pt x="2296" y="1650"/>
                    </a:lnTo>
                    <a:lnTo>
                      <a:pt x="2304" y="1662"/>
                    </a:lnTo>
                    <a:lnTo>
                      <a:pt x="2292" y="1657"/>
                    </a:lnTo>
                    <a:lnTo>
                      <a:pt x="2280" y="1651"/>
                    </a:lnTo>
                    <a:lnTo>
                      <a:pt x="2270" y="1646"/>
                    </a:lnTo>
                    <a:lnTo>
                      <a:pt x="2259" y="1640"/>
                    </a:lnTo>
                    <a:lnTo>
                      <a:pt x="2249" y="1634"/>
                    </a:lnTo>
                    <a:lnTo>
                      <a:pt x="2238" y="1627"/>
                    </a:lnTo>
                    <a:lnTo>
                      <a:pt x="2228" y="1618"/>
                    </a:lnTo>
                    <a:lnTo>
                      <a:pt x="2218" y="1610"/>
                    </a:lnTo>
                    <a:lnTo>
                      <a:pt x="2230" y="1599"/>
                    </a:lnTo>
                    <a:lnTo>
                      <a:pt x="2234" y="1589"/>
                    </a:lnTo>
                    <a:lnTo>
                      <a:pt x="2240" y="1584"/>
                    </a:lnTo>
                    <a:lnTo>
                      <a:pt x="2247" y="1576"/>
                    </a:lnTo>
                    <a:lnTo>
                      <a:pt x="2250" y="1566"/>
                    </a:lnTo>
                    <a:lnTo>
                      <a:pt x="2254" y="1555"/>
                    </a:lnTo>
                    <a:lnTo>
                      <a:pt x="2263" y="1542"/>
                    </a:lnTo>
                    <a:lnTo>
                      <a:pt x="2273" y="1529"/>
                    </a:lnTo>
                    <a:lnTo>
                      <a:pt x="2282" y="1513"/>
                    </a:lnTo>
                    <a:lnTo>
                      <a:pt x="2266" y="1501"/>
                    </a:lnTo>
                    <a:lnTo>
                      <a:pt x="2257" y="1511"/>
                    </a:lnTo>
                    <a:lnTo>
                      <a:pt x="2247" y="1521"/>
                    </a:lnTo>
                    <a:lnTo>
                      <a:pt x="2238" y="1533"/>
                    </a:lnTo>
                    <a:lnTo>
                      <a:pt x="2230" y="1543"/>
                    </a:lnTo>
                    <a:lnTo>
                      <a:pt x="2223" y="1556"/>
                    </a:lnTo>
                    <a:lnTo>
                      <a:pt x="2214" y="1568"/>
                    </a:lnTo>
                    <a:lnTo>
                      <a:pt x="2207" y="1581"/>
                    </a:lnTo>
                    <a:lnTo>
                      <a:pt x="2201" y="1595"/>
                    </a:lnTo>
                    <a:lnTo>
                      <a:pt x="2195" y="1599"/>
                    </a:lnTo>
                    <a:lnTo>
                      <a:pt x="2185" y="1597"/>
                    </a:lnTo>
                    <a:lnTo>
                      <a:pt x="2178" y="1594"/>
                    </a:lnTo>
                    <a:lnTo>
                      <a:pt x="2172" y="1588"/>
                    </a:lnTo>
                    <a:lnTo>
                      <a:pt x="2168" y="1579"/>
                    </a:lnTo>
                    <a:lnTo>
                      <a:pt x="2173" y="1566"/>
                    </a:lnTo>
                    <a:lnTo>
                      <a:pt x="2181" y="1555"/>
                    </a:lnTo>
                    <a:lnTo>
                      <a:pt x="2189" y="1543"/>
                    </a:lnTo>
                    <a:lnTo>
                      <a:pt x="2198" y="1532"/>
                    </a:lnTo>
                    <a:lnTo>
                      <a:pt x="2208" y="1521"/>
                    </a:lnTo>
                    <a:lnTo>
                      <a:pt x="2217" y="1510"/>
                    </a:lnTo>
                    <a:lnTo>
                      <a:pt x="2225" y="1497"/>
                    </a:lnTo>
                    <a:lnTo>
                      <a:pt x="2233" y="1484"/>
                    </a:lnTo>
                    <a:lnTo>
                      <a:pt x="2224" y="1475"/>
                    </a:lnTo>
                    <a:lnTo>
                      <a:pt x="2215" y="1475"/>
                    </a:lnTo>
                    <a:lnTo>
                      <a:pt x="2207" y="1485"/>
                    </a:lnTo>
                    <a:lnTo>
                      <a:pt x="2197" y="1497"/>
                    </a:lnTo>
                    <a:lnTo>
                      <a:pt x="2186" y="1507"/>
                    </a:lnTo>
                    <a:lnTo>
                      <a:pt x="2176" y="1519"/>
                    </a:lnTo>
                    <a:lnTo>
                      <a:pt x="2168" y="1530"/>
                    </a:lnTo>
                    <a:lnTo>
                      <a:pt x="2158" y="1542"/>
                    </a:lnTo>
                    <a:lnTo>
                      <a:pt x="2147" y="1553"/>
                    </a:lnTo>
                    <a:lnTo>
                      <a:pt x="2137" y="1566"/>
                    </a:lnTo>
                    <a:lnTo>
                      <a:pt x="2131" y="1563"/>
                    </a:lnTo>
                    <a:lnTo>
                      <a:pt x="2124" y="1560"/>
                    </a:lnTo>
                    <a:lnTo>
                      <a:pt x="2118" y="1556"/>
                    </a:lnTo>
                    <a:lnTo>
                      <a:pt x="2113" y="1549"/>
                    </a:lnTo>
                    <a:lnTo>
                      <a:pt x="2118" y="1542"/>
                    </a:lnTo>
                    <a:lnTo>
                      <a:pt x="2123" y="1533"/>
                    </a:lnTo>
                    <a:lnTo>
                      <a:pt x="2129" y="1526"/>
                    </a:lnTo>
                    <a:lnTo>
                      <a:pt x="2133" y="1517"/>
                    </a:lnTo>
                    <a:lnTo>
                      <a:pt x="2139" y="1508"/>
                    </a:lnTo>
                    <a:lnTo>
                      <a:pt x="2145" y="1500"/>
                    </a:lnTo>
                    <a:lnTo>
                      <a:pt x="2150" y="1493"/>
                    </a:lnTo>
                    <a:lnTo>
                      <a:pt x="2159" y="1484"/>
                    </a:lnTo>
                    <a:lnTo>
                      <a:pt x="2162" y="1478"/>
                    </a:lnTo>
                    <a:lnTo>
                      <a:pt x="2168" y="1471"/>
                    </a:lnTo>
                    <a:lnTo>
                      <a:pt x="2172" y="1464"/>
                    </a:lnTo>
                    <a:lnTo>
                      <a:pt x="2176" y="1454"/>
                    </a:lnTo>
                    <a:lnTo>
                      <a:pt x="2172" y="1442"/>
                    </a:lnTo>
                    <a:lnTo>
                      <a:pt x="2160" y="1442"/>
                    </a:lnTo>
                    <a:lnTo>
                      <a:pt x="2150" y="1452"/>
                    </a:lnTo>
                    <a:lnTo>
                      <a:pt x="2140" y="1464"/>
                    </a:lnTo>
                    <a:lnTo>
                      <a:pt x="2131" y="1475"/>
                    </a:lnTo>
                    <a:lnTo>
                      <a:pt x="2123" y="1487"/>
                    </a:lnTo>
                    <a:lnTo>
                      <a:pt x="2114" y="1498"/>
                    </a:lnTo>
                    <a:lnTo>
                      <a:pt x="2107" y="1510"/>
                    </a:lnTo>
                    <a:lnTo>
                      <a:pt x="2100" y="1521"/>
                    </a:lnTo>
                    <a:lnTo>
                      <a:pt x="2091" y="1533"/>
                    </a:lnTo>
                    <a:lnTo>
                      <a:pt x="2082" y="1532"/>
                    </a:lnTo>
                    <a:lnTo>
                      <a:pt x="2075" y="1529"/>
                    </a:lnTo>
                    <a:lnTo>
                      <a:pt x="2069" y="1523"/>
                    </a:lnTo>
                    <a:lnTo>
                      <a:pt x="2065" y="1513"/>
                    </a:lnTo>
                    <a:lnTo>
                      <a:pt x="2071" y="1503"/>
                    </a:lnTo>
                    <a:lnTo>
                      <a:pt x="2077" y="1493"/>
                    </a:lnTo>
                    <a:lnTo>
                      <a:pt x="2085" y="1484"/>
                    </a:lnTo>
                    <a:lnTo>
                      <a:pt x="2092" y="1474"/>
                    </a:lnTo>
                    <a:lnTo>
                      <a:pt x="2100" y="1464"/>
                    </a:lnTo>
                    <a:lnTo>
                      <a:pt x="2107" y="1452"/>
                    </a:lnTo>
                    <a:lnTo>
                      <a:pt x="2113" y="1441"/>
                    </a:lnTo>
                    <a:lnTo>
                      <a:pt x="2118" y="1428"/>
                    </a:lnTo>
                    <a:lnTo>
                      <a:pt x="2110" y="1419"/>
                    </a:lnTo>
                    <a:lnTo>
                      <a:pt x="2098" y="1426"/>
                    </a:lnTo>
                    <a:lnTo>
                      <a:pt x="2088" y="1436"/>
                    </a:lnTo>
                    <a:lnTo>
                      <a:pt x="2079" y="1446"/>
                    </a:lnTo>
                    <a:lnTo>
                      <a:pt x="2072" y="1458"/>
                    </a:lnTo>
                    <a:lnTo>
                      <a:pt x="2064" y="1471"/>
                    </a:lnTo>
                    <a:lnTo>
                      <a:pt x="2055" y="1482"/>
                    </a:lnTo>
                    <a:lnTo>
                      <a:pt x="2046" y="1494"/>
                    </a:lnTo>
                    <a:lnTo>
                      <a:pt x="2037" y="1506"/>
                    </a:lnTo>
                    <a:lnTo>
                      <a:pt x="2030" y="1504"/>
                    </a:lnTo>
                    <a:lnTo>
                      <a:pt x="2026" y="1498"/>
                    </a:lnTo>
                    <a:lnTo>
                      <a:pt x="2019" y="1491"/>
                    </a:lnTo>
                    <a:lnTo>
                      <a:pt x="2009" y="1488"/>
                    </a:lnTo>
                    <a:lnTo>
                      <a:pt x="2009" y="1478"/>
                    </a:lnTo>
                    <a:lnTo>
                      <a:pt x="2016" y="1468"/>
                    </a:lnTo>
                    <a:lnTo>
                      <a:pt x="2023" y="1459"/>
                    </a:lnTo>
                    <a:lnTo>
                      <a:pt x="2030" y="1449"/>
                    </a:lnTo>
                    <a:lnTo>
                      <a:pt x="2037" y="1439"/>
                    </a:lnTo>
                    <a:lnTo>
                      <a:pt x="2043" y="1429"/>
                    </a:lnTo>
                    <a:lnTo>
                      <a:pt x="2051" y="1419"/>
                    </a:lnTo>
                    <a:lnTo>
                      <a:pt x="2056" y="1407"/>
                    </a:lnTo>
                    <a:lnTo>
                      <a:pt x="2064" y="1394"/>
                    </a:lnTo>
                    <a:lnTo>
                      <a:pt x="2056" y="1384"/>
                    </a:lnTo>
                    <a:lnTo>
                      <a:pt x="2045" y="1389"/>
                    </a:lnTo>
                    <a:lnTo>
                      <a:pt x="2036" y="1397"/>
                    </a:lnTo>
                    <a:lnTo>
                      <a:pt x="2030" y="1407"/>
                    </a:lnTo>
                    <a:lnTo>
                      <a:pt x="2023" y="1416"/>
                    </a:lnTo>
                    <a:lnTo>
                      <a:pt x="2017" y="1426"/>
                    </a:lnTo>
                    <a:lnTo>
                      <a:pt x="2010" y="1438"/>
                    </a:lnTo>
                    <a:lnTo>
                      <a:pt x="2003" y="1448"/>
                    </a:lnTo>
                    <a:lnTo>
                      <a:pt x="1994" y="1459"/>
                    </a:lnTo>
                    <a:lnTo>
                      <a:pt x="1984" y="1469"/>
                    </a:lnTo>
                    <a:lnTo>
                      <a:pt x="1962" y="1455"/>
                    </a:lnTo>
                    <a:lnTo>
                      <a:pt x="1967" y="1445"/>
                    </a:lnTo>
                    <a:lnTo>
                      <a:pt x="1972" y="1436"/>
                    </a:lnTo>
                    <a:lnTo>
                      <a:pt x="1980" y="1428"/>
                    </a:lnTo>
                    <a:lnTo>
                      <a:pt x="1985" y="1419"/>
                    </a:lnTo>
                    <a:lnTo>
                      <a:pt x="1993" y="1410"/>
                    </a:lnTo>
                    <a:lnTo>
                      <a:pt x="2000" y="1402"/>
                    </a:lnTo>
                    <a:lnTo>
                      <a:pt x="2007" y="1393"/>
                    </a:lnTo>
                    <a:lnTo>
                      <a:pt x="2013" y="1383"/>
                    </a:lnTo>
                    <a:lnTo>
                      <a:pt x="2006" y="1364"/>
                    </a:lnTo>
                    <a:lnTo>
                      <a:pt x="1996" y="1371"/>
                    </a:lnTo>
                    <a:lnTo>
                      <a:pt x="1987" y="1378"/>
                    </a:lnTo>
                    <a:lnTo>
                      <a:pt x="1978" y="1389"/>
                    </a:lnTo>
                    <a:lnTo>
                      <a:pt x="1970" y="1399"/>
                    </a:lnTo>
                    <a:lnTo>
                      <a:pt x="1962" y="1410"/>
                    </a:lnTo>
                    <a:lnTo>
                      <a:pt x="1954" y="1420"/>
                    </a:lnTo>
                    <a:lnTo>
                      <a:pt x="1943" y="1430"/>
                    </a:lnTo>
                    <a:lnTo>
                      <a:pt x="1933" y="1439"/>
                    </a:lnTo>
                    <a:lnTo>
                      <a:pt x="1917" y="1420"/>
                    </a:lnTo>
                    <a:lnTo>
                      <a:pt x="1923" y="1410"/>
                    </a:lnTo>
                    <a:lnTo>
                      <a:pt x="1929" y="1402"/>
                    </a:lnTo>
                    <a:lnTo>
                      <a:pt x="1935" y="1393"/>
                    </a:lnTo>
                    <a:lnTo>
                      <a:pt x="1942" y="1384"/>
                    </a:lnTo>
                    <a:lnTo>
                      <a:pt x="1949" y="1374"/>
                    </a:lnTo>
                    <a:lnTo>
                      <a:pt x="1957" y="1364"/>
                    </a:lnTo>
                    <a:lnTo>
                      <a:pt x="1964" y="1354"/>
                    </a:lnTo>
                    <a:lnTo>
                      <a:pt x="1972" y="1341"/>
                    </a:lnTo>
                    <a:lnTo>
                      <a:pt x="1961" y="1329"/>
                    </a:lnTo>
                    <a:lnTo>
                      <a:pt x="1949" y="1332"/>
                    </a:lnTo>
                    <a:lnTo>
                      <a:pt x="1941" y="1341"/>
                    </a:lnTo>
                    <a:lnTo>
                      <a:pt x="1933" y="1350"/>
                    </a:lnTo>
                    <a:lnTo>
                      <a:pt x="1928" y="1360"/>
                    </a:lnTo>
                    <a:lnTo>
                      <a:pt x="1922" y="1370"/>
                    </a:lnTo>
                    <a:lnTo>
                      <a:pt x="1916" y="1380"/>
                    </a:lnTo>
                    <a:lnTo>
                      <a:pt x="1909" y="1389"/>
                    </a:lnTo>
                    <a:lnTo>
                      <a:pt x="1902" y="1399"/>
                    </a:lnTo>
                    <a:lnTo>
                      <a:pt x="1893" y="1409"/>
                    </a:lnTo>
                    <a:lnTo>
                      <a:pt x="1886" y="1404"/>
                    </a:lnTo>
                    <a:lnTo>
                      <a:pt x="1878" y="1399"/>
                    </a:lnTo>
                    <a:lnTo>
                      <a:pt x="1871" y="1394"/>
                    </a:lnTo>
                    <a:lnTo>
                      <a:pt x="1863" y="1387"/>
                    </a:lnTo>
                    <a:lnTo>
                      <a:pt x="1870" y="1380"/>
                    </a:lnTo>
                    <a:lnTo>
                      <a:pt x="1877" y="1373"/>
                    </a:lnTo>
                    <a:lnTo>
                      <a:pt x="1884" y="1364"/>
                    </a:lnTo>
                    <a:lnTo>
                      <a:pt x="1891" y="1357"/>
                    </a:lnTo>
                    <a:lnTo>
                      <a:pt x="1897" y="1348"/>
                    </a:lnTo>
                    <a:lnTo>
                      <a:pt x="1904" y="1339"/>
                    </a:lnTo>
                    <a:lnTo>
                      <a:pt x="1909" y="1332"/>
                    </a:lnTo>
                    <a:lnTo>
                      <a:pt x="1915" y="1323"/>
                    </a:lnTo>
                    <a:lnTo>
                      <a:pt x="1904" y="1306"/>
                    </a:lnTo>
                    <a:lnTo>
                      <a:pt x="1896" y="1312"/>
                    </a:lnTo>
                    <a:lnTo>
                      <a:pt x="1889" y="1319"/>
                    </a:lnTo>
                    <a:lnTo>
                      <a:pt x="1881" y="1328"/>
                    </a:lnTo>
                    <a:lnTo>
                      <a:pt x="1874" y="1336"/>
                    </a:lnTo>
                    <a:lnTo>
                      <a:pt x="1867" y="1345"/>
                    </a:lnTo>
                    <a:lnTo>
                      <a:pt x="1861" y="1355"/>
                    </a:lnTo>
                    <a:lnTo>
                      <a:pt x="1854" y="1365"/>
                    </a:lnTo>
                    <a:lnTo>
                      <a:pt x="1847" y="1374"/>
                    </a:lnTo>
                    <a:lnTo>
                      <a:pt x="1838" y="1371"/>
                    </a:lnTo>
                    <a:lnTo>
                      <a:pt x="1831" y="1367"/>
                    </a:lnTo>
                    <a:lnTo>
                      <a:pt x="1825" y="1363"/>
                    </a:lnTo>
                    <a:lnTo>
                      <a:pt x="1818" y="1354"/>
                    </a:lnTo>
                    <a:lnTo>
                      <a:pt x="1822" y="1345"/>
                    </a:lnTo>
                    <a:lnTo>
                      <a:pt x="1826" y="1338"/>
                    </a:lnTo>
                    <a:lnTo>
                      <a:pt x="1832" y="1331"/>
                    </a:lnTo>
                    <a:lnTo>
                      <a:pt x="1838" y="1323"/>
                    </a:lnTo>
                    <a:lnTo>
                      <a:pt x="1845" y="1318"/>
                    </a:lnTo>
                    <a:lnTo>
                      <a:pt x="1851" y="1309"/>
                    </a:lnTo>
                    <a:lnTo>
                      <a:pt x="1857" y="1302"/>
                    </a:lnTo>
                    <a:lnTo>
                      <a:pt x="1863" y="1293"/>
                    </a:lnTo>
                    <a:lnTo>
                      <a:pt x="1855" y="1282"/>
                    </a:lnTo>
                    <a:lnTo>
                      <a:pt x="1845" y="1282"/>
                    </a:lnTo>
                    <a:lnTo>
                      <a:pt x="1839" y="1286"/>
                    </a:lnTo>
                    <a:lnTo>
                      <a:pt x="1834" y="1293"/>
                    </a:lnTo>
                    <a:lnTo>
                      <a:pt x="1826" y="1300"/>
                    </a:lnTo>
                    <a:lnTo>
                      <a:pt x="1821" y="1308"/>
                    </a:lnTo>
                    <a:lnTo>
                      <a:pt x="1813" y="1316"/>
                    </a:lnTo>
                    <a:lnTo>
                      <a:pt x="1805" y="1325"/>
                    </a:lnTo>
                    <a:lnTo>
                      <a:pt x="1797" y="1332"/>
                    </a:lnTo>
                    <a:lnTo>
                      <a:pt x="1790" y="1339"/>
                    </a:lnTo>
                    <a:lnTo>
                      <a:pt x="1777" y="1335"/>
                    </a:lnTo>
                    <a:lnTo>
                      <a:pt x="1783" y="1328"/>
                    </a:lnTo>
                    <a:lnTo>
                      <a:pt x="1790" y="1321"/>
                    </a:lnTo>
                    <a:lnTo>
                      <a:pt x="1800" y="1315"/>
                    </a:lnTo>
                    <a:lnTo>
                      <a:pt x="1809" y="1306"/>
                    </a:lnTo>
                    <a:lnTo>
                      <a:pt x="1812" y="1299"/>
                    </a:lnTo>
                    <a:lnTo>
                      <a:pt x="1815" y="1292"/>
                    </a:lnTo>
                    <a:lnTo>
                      <a:pt x="1821" y="1284"/>
                    </a:lnTo>
                    <a:lnTo>
                      <a:pt x="1825" y="1273"/>
                    </a:lnTo>
                    <a:lnTo>
                      <a:pt x="1818" y="1257"/>
                    </a:lnTo>
                    <a:lnTo>
                      <a:pt x="1795" y="1266"/>
                    </a:lnTo>
                    <a:lnTo>
                      <a:pt x="1787" y="1277"/>
                    </a:lnTo>
                    <a:lnTo>
                      <a:pt x="1780" y="1290"/>
                    </a:lnTo>
                    <a:lnTo>
                      <a:pt x="1771" y="1305"/>
                    </a:lnTo>
                    <a:lnTo>
                      <a:pt x="1758" y="1318"/>
                    </a:lnTo>
                    <a:lnTo>
                      <a:pt x="1747" y="1316"/>
                    </a:lnTo>
                    <a:lnTo>
                      <a:pt x="1744" y="1306"/>
                    </a:lnTo>
                    <a:lnTo>
                      <a:pt x="1747" y="1295"/>
                    </a:lnTo>
                    <a:lnTo>
                      <a:pt x="1753" y="1284"/>
                    </a:lnTo>
                    <a:lnTo>
                      <a:pt x="1760" y="1274"/>
                    </a:lnTo>
                    <a:lnTo>
                      <a:pt x="1770" y="1263"/>
                    </a:lnTo>
                    <a:lnTo>
                      <a:pt x="1782" y="1253"/>
                    </a:lnTo>
                    <a:lnTo>
                      <a:pt x="1767" y="1237"/>
                    </a:lnTo>
                    <a:lnTo>
                      <a:pt x="1760" y="1241"/>
                    </a:lnTo>
                    <a:lnTo>
                      <a:pt x="1753" y="1245"/>
                    </a:lnTo>
                    <a:lnTo>
                      <a:pt x="1745" y="1253"/>
                    </a:lnTo>
                    <a:lnTo>
                      <a:pt x="1738" y="1260"/>
                    </a:lnTo>
                    <a:lnTo>
                      <a:pt x="1731" y="1267"/>
                    </a:lnTo>
                    <a:lnTo>
                      <a:pt x="1725" y="1276"/>
                    </a:lnTo>
                    <a:lnTo>
                      <a:pt x="1719" y="1283"/>
                    </a:lnTo>
                    <a:lnTo>
                      <a:pt x="1716" y="1290"/>
                    </a:lnTo>
                    <a:lnTo>
                      <a:pt x="1712" y="1283"/>
                    </a:lnTo>
                    <a:lnTo>
                      <a:pt x="1714" y="1276"/>
                    </a:lnTo>
                    <a:lnTo>
                      <a:pt x="1716" y="1270"/>
                    </a:lnTo>
                    <a:lnTo>
                      <a:pt x="1721" y="1263"/>
                    </a:lnTo>
                    <a:lnTo>
                      <a:pt x="1725" y="1253"/>
                    </a:lnTo>
                    <a:lnTo>
                      <a:pt x="1708" y="1240"/>
                    </a:lnTo>
                    <a:lnTo>
                      <a:pt x="1705" y="1248"/>
                    </a:lnTo>
                    <a:lnTo>
                      <a:pt x="1698" y="1253"/>
                    </a:lnTo>
                    <a:lnTo>
                      <a:pt x="1689" y="1258"/>
                    </a:lnTo>
                    <a:lnTo>
                      <a:pt x="1683" y="1267"/>
                    </a:lnTo>
                    <a:lnTo>
                      <a:pt x="1672" y="1271"/>
                    </a:lnTo>
                    <a:lnTo>
                      <a:pt x="1677" y="1258"/>
                    </a:lnTo>
                    <a:lnTo>
                      <a:pt x="1683" y="1245"/>
                    </a:lnTo>
                    <a:lnTo>
                      <a:pt x="1692" y="1232"/>
                    </a:lnTo>
                    <a:lnTo>
                      <a:pt x="1703" y="1219"/>
                    </a:lnTo>
                    <a:lnTo>
                      <a:pt x="1712" y="1221"/>
                    </a:lnTo>
                    <a:lnTo>
                      <a:pt x="1719" y="1221"/>
                    </a:lnTo>
                    <a:lnTo>
                      <a:pt x="1729" y="1224"/>
                    </a:lnTo>
                    <a:lnTo>
                      <a:pt x="1738" y="1225"/>
                    </a:lnTo>
                    <a:lnTo>
                      <a:pt x="1748" y="1227"/>
                    </a:lnTo>
                    <a:lnTo>
                      <a:pt x="1757" y="1230"/>
                    </a:lnTo>
                    <a:lnTo>
                      <a:pt x="1767" y="1231"/>
                    </a:lnTo>
                    <a:lnTo>
                      <a:pt x="1776" y="1234"/>
                    </a:lnTo>
                    <a:lnTo>
                      <a:pt x="1799" y="1227"/>
                    </a:lnTo>
                    <a:lnTo>
                      <a:pt x="1810" y="1224"/>
                    </a:lnTo>
                    <a:lnTo>
                      <a:pt x="1821" y="1219"/>
                    </a:lnTo>
                    <a:lnTo>
                      <a:pt x="1831" y="1212"/>
                    </a:lnTo>
                    <a:lnTo>
                      <a:pt x="1841" y="1204"/>
                    </a:lnTo>
                    <a:lnTo>
                      <a:pt x="1868" y="1166"/>
                    </a:lnTo>
                    <a:lnTo>
                      <a:pt x="1894" y="1127"/>
                    </a:lnTo>
                    <a:lnTo>
                      <a:pt x="1917" y="1088"/>
                    </a:lnTo>
                    <a:lnTo>
                      <a:pt x="1942" y="1048"/>
                    </a:lnTo>
                    <a:lnTo>
                      <a:pt x="1964" y="1006"/>
                    </a:lnTo>
                    <a:lnTo>
                      <a:pt x="1984" y="962"/>
                    </a:lnTo>
                    <a:lnTo>
                      <a:pt x="2003" y="917"/>
                    </a:lnTo>
                    <a:lnTo>
                      <a:pt x="2020" y="868"/>
                    </a:lnTo>
                    <a:lnTo>
                      <a:pt x="2022" y="848"/>
                    </a:lnTo>
                    <a:lnTo>
                      <a:pt x="2017" y="841"/>
                    </a:lnTo>
                    <a:lnTo>
                      <a:pt x="2013" y="835"/>
                    </a:lnTo>
                    <a:lnTo>
                      <a:pt x="2004" y="832"/>
                    </a:lnTo>
                    <a:lnTo>
                      <a:pt x="1993" y="828"/>
                    </a:lnTo>
                    <a:lnTo>
                      <a:pt x="1990" y="821"/>
                    </a:lnTo>
                    <a:lnTo>
                      <a:pt x="1990" y="813"/>
                    </a:lnTo>
                    <a:lnTo>
                      <a:pt x="1993" y="806"/>
                    </a:lnTo>
                    <a:lnTo>
                      <a:pt x="1991" y="799"/>
                    </a:lnTo>
                    <a:lnTo>
                      <a:pt x="1977" y="793"/>
                    </a:lnTo>
                    <a:lnTo>
                      <a:pt x="1964" y="789"/>
                    </a:lnTo>
                    <a:lnTo>
                      <a:pt x="1954" y="783"/>
                    </a:lnTo>
                    <a:lnTo>
                      <a:pt x="1943" y="779"/>
                    </a:lnTo>
                    <a:lnTo>
                      <a:pt x="1933" y="774"/>
                    </a:lnTo>
                    <a:lnTo>
                      <a:pt x="1925" y="770"/>
                    </a:lnTo>
                    <a:lnTo>
                      <a:pt x="1915" y="766"/>
                    </a:lnTo>
                    <a:lnTo>
                      <a:pt x="1904" y="763"/>
                    </a:lnTo>
                    <a:lnTo>
                      <a:pt x="1891" y="763"/>
                    </a:lnTo>
                    <a:lnTo>
                      <a:pt x="1876" y="757"/>
                    </a:lnTo>
                    <a:lnTo>
                      <a:pt x="1858" y="751"/>
                    </a:lnTo>
                    <a:lnTo>
                      <a:pt x="1842" y="746"/>
                    </a:lnTo>
                    <a:lnTo>
                      <a:pt x="1825" y="740"/>
                    </a:lnTo>
                    <a:lnTo>
                      <a:pt x="1808" y="734"/>
                    </a:lnTo>
                    <a:lnTo>
                      <a:pt x="1790" y="728"/>
                    </a:lnTo>
                    <a:lnTo>
                      <a:pt x="1773" y="722"/>
                    </a:lnTo>
                    <a:lnTo>
                      <a:pt x="1756" y="718"/>
                    </a:lnTo>
                    <a:lnTo>
                      <a:pt x="1738" y="712"/>
                    </a:lnTo>
                    <a:lnTo>
                      <a:pt x="1721" y="707"/>
                    </a:lnTo>
                    <a:lnTo>
                      <a:pt x="1703" y="702"/>
                    </a:lnTo>
                    <a:lnTo>
                      <a:pt x="1686" y="696"/>
                    </a:lnTo>
                    <a:lnTo>
                      <a:pt x="1670" y="691"/>
                    </a:lnTo>
                    <a:lnTo>
                      <a:pt x="1653" y="686"/>
                    </a:lnTo>
                    <a:lnTo>
                      <a:pt x="1635" y="681"/>
                    </a:lnTo>
                    <a:lnTo>
                      <a:pt x="1620" y="675"/>
                    </a:lnTo>
                    <a:lnTo>
                      <a:pt x="1608" y="670"/>
                    </a:lnTo>
                    <a:lnTo>
                      <a:pt x="1596" y="666"/>
                    </a:lnTo>
                    <a:lnTo>
                      <a:pt x="1585" y="662"/>
                    </a:lnTo>
                    <a:lnTo>
                      <a:pt x="1573" y="657"/>
                    </a:lnTo>
                    <a:lnTo>
                      <a:pt x="1562" y="653"/>
                    </a:lnTo>
                    <a:lnTo>
                      <a:pt x="1550" y="649"/>
                    </a:lnTo>
                    <a:lnTo>
                      <a:pt x="1537" y="644"/>
                    </a:lnTo>
                    <a:lnTo>
                      <a:pt x="1526" y="640"/>
                    </a:lnTo>
                    <a:lnTo>
                      <a:pt x="1500" y="633"/>
                    </a:lnTo>
                    <a:lnTo>
                      <a:pt x="1474" y="624"/>
                    </a:lnTo>
                    <a:lnTo>
                      <a:pt x="1448" y="616"/>
                    </a:lnTo>
                    <a:lnTo>
                      <a:pt x="1420" y="607"/>
                    </a:lnTo>
                    <a:lnTo>
                      <a:pt x="1394" y="598"/>
                    </a:lnTo>
                    <a:lnTo>
                      <a:pt x="1367" y="591"/>
                    </a:lnTo>
                    <a:lnTo>
                      <a:pt x="1339" y="585"/>
                    </a:lnTo>
                    <a:lnTo>
                      <a:pt x="1313" y="582"/>
                    </a:lnTo>
                    <a:lnTo>
                      <a:pt x="1301" y="584"/>
                    </a:lnTo>
                    <a:lnTo>
                      <a:pt x="1293" y="588"/>
                    </a:lnTo>
                    <a:lnTo>
                      <a:pt x="1284" y="594"/>
                    </a:lnTo>
                    <a:lnTo>
                      <a:pt x="1274" y="600"/>
                    </a:lnTo>
                    <a:lnTo>
                      <a:pt x="1257" y="614"/>
                    </a:lnTo>
                    <a:lnTo>
                      <a:pt x="1242" y="630"/>
                    </a:lnTo>
                    <a:lnTo>
                      <a:pt x="1228" y="646"/>
                    </a:lnTo>
                    <a:lnTo>
                      <a:pt x="1215" y="663"/>
                    </a:lnTo>
                    <a:lnTo>
                      <a:pt x="1202" y="681"/>
                    </a:lnTo>
                    <a:lnTo>
                      <a:pt x="1190" y="698"/>
                    </a:lnTo>
                    <a:lnTo>
                      <a:pt x="1177" y="715"/>
                    </a:lnTo>
                    <a:lnTo>
                      <a:pt x="1164" y="731"/>
                    </a:lnTo>
                    <a:lnTo>
                      <a:pt x="1155" y="747"/>
                    </a:lnTo>
                    <a:lnTo>
                      <a:pt x="1145" y="763"/>
                    </a:lnTo>
                    <a:lnTo>
                      <a:pt x="1135" y="779"/>
                    </a:lnTo>
                    <a:lnTo>
                      <a:pt x="1126" y="796"/>
                    </a:lnTo>
                    <a:lnTo>
                      <a:pt x="1116" y="812"/>
                    </a:lnTo>
                    <a:lnTo>
                      <a:pt x="1106" y="829"/>
                    </a:lnTo>
                    <a:lnTo>
                      <a:pt x="1096" y="847"/>
                    </a:lnTo>
                    <a:lnTo>
                      <a:pt x="1087" y="865"/>
                    </a:lnTo>
                    <a:lnTo>
                      <a:pt x="1087" y="877"/>
                    </a:lnTo>
                    <a:lnTo>
                      <a:pt x="1090" y="886"/>
                    </a:lnTo>
                    <a:lnTo>
                      <a:pt x="1095" y="893"/>
                    </a:lnTo>
                    <a:lnTo>
                      <a:pt x="1100" y="900"/>
                    </a:lnTo>
                    <a:lnTo>
                      <a:pt x="1106" y="907"/>
                    </a:lnTo>
                    <a:lnTo>
                      <a:pt x="1100" y="913"/>
                    </a:lnTo>
                    <a:lnTo>
                      <a:pt x="1095" y="920"/>
                    </a:lnTo>
                    <a:lnTo>
                      <a:pt x="1089" y="928"/>
                    </a:lnTo>
                    <a:lnTo>
                      <a:pt x="1082" y="935"/>
                    </a:lnTo>
                    <a:lnTo>
                      <a:pt x="1074" y="942"/>
                    </a:lnTo>
                    <a:lnTo>
                      <a:pt x="1069" y="949"/>
                    </a:lnTo>
                    <a:lnTo>
                      <a:pt x="1061" y="955"/>
                    </a:lnTo>
                    <a:lnTo>
                      <a:pt x="1054" y="959"/>
                    </a:lnTo>
                    <a:lnTo>
                      <a:pt x="1047" y="959"/>
                    </a:lnTo>
                    <a:lnTo>
                      <a:pt x="1047" y="938"/>
                    </a:lnTo>
                    <a:lnTo>
                      <a:pt x="1056" y="928"/>
                    </a:lnTo>
                    <a:lnTo>
                      <a:pt x="1064" y="916"/>
                    </a:lnTo>
                    <a:lnTo>
                      <a:pt x="1073" y="906"/>
                    </a:lnTo>
                    <a:lnTo>
                      <a:pt x="1082" y="896"/>
                    </a:lnTo>
                    <a:lnTo>
                      <a:pt x="1082" y="884"/>
                    </a:lnTo>
                    <a:lnTo>
                      <a:pt x="1070" y="878"/>
                    </a:lnTo>
                    <a:lnTo>
                      <a:pt x="1061" y="883"/>
                    </a:lnTo>
                    <a:lnTo>
                      <a:pt x="1053" y="890"/>
                    </a:lnTo>
                    <a:lnTo>
                      <a:pt x="1044" y="897"/>
                    </a:lnTo>
                    <a:lnTo>
                      <a:pt x="1037" y="906"/>
                    </a:lnTo>
                    <a:lnTo>
                      <a:pt x="1028" y="915"/>
                    </a:lnTo>
                    <a:lnTo>
                      <a:pt x="1022" y="925"/>
                    </a:lnTo>
                    <a:lnTo>
                      <a:pt x="1015" y="933"/>
                    </a:lnTo>
                    <a:lnTo>
                      <a:pt x="1011" y="942"/>
                    </a:lnTo>
                    <a:lnTo>
                      <a:pt x="1001" y="942"/>
                    </a:lnTo>
                    <a:lnTo>
                      <a:pt x="995" y="932"/>
                    </a:lnTo>
                    <a:lnTo>
                      <a:pt x="1002" y="920"/>
                    </a:lnTo>
                    <a:lnTo>
                      <a:pt x="1011" y="907"/>
                    </a:lnTo>
                    <a:lnTo>
                      <a:pt x="1019" y="893"/>
                    </a:lnTo>
                    <a:lnTo>
                      <a:pt x="1028" y="877"/>
                    </a:lnTo>
                    <a:lnTo>
                      <a:pt x="1017" y="863"/>
                    </a:lnTo>
                    <a:lnTo>
                      <a:pt x="1008" y="867"/>
                    </a:lnTo>
                    <a:lnTo>
                      <a:pt x="999" y="873"/>
                    </a:lnTo>
                    <a:lnTo>
                      <a:pt x="993" y="878"/>
                    </a:lnTo>
                    <a:lnTo>
                      <a:pt x="988" y="887"/>
                    </a:lnTo>
                    <a:lnTo>
                      <a:pt x="983" y="894"/>
                    </a:lnTo>
                    <a:lnTo>
                      <a:pt x="979" y="903"/>
                    </a:lnTo>
                    <a:lnTo>
                      <a:pt x="973" y="912"/>
                    </a:lnTo>
                    <a:lnTo>
                      <a:pt x="967" y="920"/>
                    </a:lnTo>
                    <a:lnTo>
                      <a:pt x="956" y="922"/>
                    </a:lnTo>
                    <a:lnTo>
                      <a:pt x="953" y="916"/>
                    </a:lnTo>
                    <a:lnTo>
                      <a:pt x="962" y="903"/>
                    </a:lnTo>
                    <a:lnTo>
                      <a:pt x="967" y="890"/>
                    </a:lnTo>
                    <a:lnTo>
                      <a:pt x="975" y="877"/>
                    </a:lnTo>
                    <a:lnTo>
                      <a:pt x="982" y="863"/>
                    </a:lnTo>
                    <a:lnTo>
                      <a:pt x="965" y="848"/>
                    </a:lnTo>
                    <a:lnTo>
                      <a:pt x="959" y="855"/>
                    </a:lnTo>
                    <a:lnTo>
                      <a:pt x="954" y="863"/>
                    </a:lnTo>
                    <a:lnTo>
                      <a:pt x="949" y="870"/>
                    </a:lnTo>
                    <a:lnTo>
                      <a:pt x="943" y="877"/>
                    </a:lnTo>
                    <a:lnTo>
                      <a:pt x="936" y="884"/>
                    </a:lnTo>
                    <a:lnTo>
                      <a:pt x="930" y="891"/>
                    </a:lnTo>
                    <a:lnTo>
                      <a:pt x="923" y="899"/>
                    </a:lnTo>
                    <a:lnTo>
                      <a:pt x="917" y="907"/>
                    </a:lnTo>
                    <a:lnTo>
                      <a:pt x="912" y="906"/>
                    </a:lnTo>
                    <a:lnTo>
                      <a:pt x="905" y="904"/>
                    </a:lnTo>
                    <a:lnTo>
                      <a:pt x="899" y="902"/>
                    </a:lnTo>
                    <a:lnTo>
                      <a:pt x="897" y="894"/>
                    </a:lnTo>
                    <a:lnTo>
                      <a:pt x="910" y="874"/>
                    </a:lnTo>
                    <a:lnTo>
                      <a:pt x="914" y="867"/>
                    </a:lnTo>
                    <a:lnTo>
                      <a:pt x="920" y="860"/>
                    </a:lnTo>
                    <a:lnTo>
                      <a:pt x="925" y="851"/>
                    </a:lnTo>
                    <a:lnTo>
                      <a:pt x="930" y="841"/>
                    </a:lnTo>
                    <a:lnTo>
                      <a:pt x="921" y="831"/>
                    </a:lnTo>
                    <a:lnTo>
                      <a:pt x="910" y="832"/>
                    </a:lnTo>
                    <a:lnTo>
                      <a:pt x="904" y="838"/>
                    </a:lnTo>
                    <a:lnTo>
                      <a:pt x="899" y="844"/>
                    </a:lnTo>
                    <a:lnTo>
                      <a:pt x="894" y="851"/>
                    </a:lnTo>
                    <a:lnTo>
                      <a:pt x="888" y="857"/>
                    </a:lnTo>
                    <a:lnTo>
                      <a:pt x="882" y="864"/>
                    </a:lnTo>
                    <a:lnTo>
                      <a:pt x="876" y="870"/>
                    </a:lnTo>
                    <a:lnTo>
                      <a:pt x="871" y="877"/>
                    </a:lnTo>
                    <a:lnTo>
                      <a:pt x="866" y="883"/>
                    </a:lnTo>
                    <a:lnTo>
                      <a:pt x="850" y="874"/>
                    </a:lnTo>
                    <a:lnTo>
                      <a:pt x="862" y="861"/>
                    </a:lnTo>
                    <a:lnTo>
                      <a:pt x="872" y="848"/>
                    </a:lnTo>
                    <a:lnTo>
                      <a:pt x="879" y="835"/>
                    </a:lnTo>
                    <a:lnTo>
                      <a:pt x="888" y="821"/>
                    </a:lnTo>
                    <a:lnTo>
                      <a:pt x="878" y="805"/>
                    </a:lnTo>
                    <a:lnTo>
                      <a:pt x="872" y="809"/>
                    </a:lnTo>
                    <a:lnTo>
                      <a:pt x="865" y="815"/>
                    </a:lnTo>
                    <a:lnTo>
                      <a:pt x="859" y="821"/>
                    </a:lnTo>
                    <a:lnTo>
                      <a:pt x="853" y="828"/>
                    </a:lnTo>
                    <a:lnTo>
                      <a:pt x="846" y="837"/>
                    </a:lnTo>
                    <a:lnTo>
                      <a:pt x="840" y="844"/>
                    </a:lnTo>
                    <a:lnTo>
                      <a:pt x="833" y="851"/>
                    </a:lnTo>
                    <a:lnTo>
                      <a:pt x="827" y="858"/>
                    </a:lnTo>
                    <a:lnTo>
                      <a:pt x="807" y="852"/>
                    </a:lnTo>
                    <a:lnTo>
                      <a:pt x="807" y="848"/>
                    </a:lnTo>
                    <a:lnTo>
                      <a:pt x="814" y="837"/>
                    </a:lnTo>
                    <a:lnTo>
                      <a:pt x="823" y="826"/>
                    </a:lnTo>
                    <a:lnTo>
                      <a:pt x="831" y="816"/>
                    </a:lnTo>
                    <a:lnTo>
                      <a:pt x="840" y="806"/>
                    </a:lnTo>
                    <a:lnTo>
                      <a:pt x="840" y="796"/>
                    </a:lnTo>
                    <a:lnTo>
                      <a:pt x="829" y="787"/>
                    </a:lnTo>
                    <a:lnTo>
                      <a:pt x="821" y="792"/>
                    </a:lnTo>
                    <a:lnTo>
                      <a:pt x="814" y="798"/>
                    </a:lnTo>
                    <a:lnTo>
                      <a:pt x="808" y="803"/>
                    </a:lnTo>
                    <a:lnTo>
                      <a:pt x="803" y="811"/>
                    </a:lnTo>
                    <a:lnTo>
                      <a:pt x="797" y="819"/>
                    </a:lnTo>
                    <a:lnTo>
                      <a:pt x="790" y="825"/>
                    </a:lnTo>
                    <a:lnTo>
                      <a:pt x="782" y="831"/>
                    </a:lnTo>
                    <a:lnTo>
                      <a:pt x="772" y="835"/>
                    </a:lnTo>
                    <a:lnTo>
                      <a:pt x="764" y="829"/>
                    </a:lnTo>
                    <a:lnTo>
                      <a:pt x="765" y="822"/>
                    </a:lnTo>
                    <a:lnTo>
                      <a:pt x="768" y="816"/>
                    </a:lnTo>
                    <a:lnTo>
                      <a:pt x="774" y="809"/>
                    </a:lnTo>
                    <a:lnTo>
                      <a:pt x="779" y="800"/>
                    </a:lnTo>
                    <a:lnTo>
                      <a:pt x="781" y="793"/>
                    </a:lnTo>
                    <a:lnTo>
                      <a:pt x="785" y="787"/>
                    </a:lnTo>
                    <a:lnTo>
                      <a:pt x="791" y="780"/>
                    </a:lnTo>
                    <a:lnTo>
                      <a:pt x="794" y="770"/>
                    </a:lnTo>
                    <a:lnTo>
                      <a:pt x="782" y="763"/>
                    </a:lnTo>
                    <a:lnTo>
                      <a:pt x="775" y="767"/>
                    </a:lnTo>
                    <a:lnTo>
                      <a:pt x="768" y="772"/>
                    </a:lnTo>
                    <a:lnTo>
                      <a:pt x="762" y="779"/>
                    </a:lnTo>
                    <a:lnTo>
                      <a:pt x="758" y="786"/>
                    </a:lnTo>
                    <a:lnTo>
                      <a:pt x="752" y="793"/>
                    </a:lnTo>
                    <a:lnTo>
                      <a:pt x="746" y="800"/>
                    </a:lnTo>
                    <a:lnTo>
                      <a:pt x="739" y="808"/>
                    </a:lnTo>
                    <a:lnTo>
                      <a:pt x="730" y="813"/>
                    </a:lnTo>
                    <a:lnTo>
                      <a:pt x="722" y="809"/>
                    </a:lnTo>
                    <a:lnTo>
                      <a:pt x="727" y="799"/>
                    </a:lnTo>
                    <a:lnTo>
                      <a:pt x="733" y="789"/>
                    </a:lnTo>
                    <a:lnTo>
                      <a:pt x="740" y="777"/>
                    </a:lnTo>
                    <a:lnTo>
                      <a:pt x="748" y="767"/>
                    </a:lnTo>
                    <a:lnTo>
                      <a:pt x="740" y="747"/>
                    </a:lnTo>
                    <a:lnTo>
                      <a:pt x="733" y="751"/>
                    </a:lnTo>
                    <a:lnTo>
                      <a:pt x="727" y="756"/>
                    </a:lnTo>
                    <a:lnTo>
                      <a:pt x="722" y="761"/>
                    </a:lnTo>
                    <a:lnTo>
                      <a:pt x="717" y="769"/>
                    </a:lnTo>
                    <a:lnTo>
                      <a:pt x="711" y="776"/>
                    </a:lnTo>
                    <a:lnTo>
                      <a:pt x="704" y="783"/>
                    </a:lnTo>
                    <a:lnTo>
                      <a:pt x="697" y="790"/>
                    </a:lnTo>
                    <a:lnTo>
                      <a:pt x="688" y="798"/>
                    </a:lnTo>
                    <a:lnTo>
                      <a:pt x="675" y="793"/>
                    </a:lnTo>
                    <a:lnTo>
                      <a:pt x="678" y="785"/>
                    </a:lnTo>
                    <a:lnTo>
                      <a:pt x="683" y="777"/>
                    </a:lnTo>
                    <a:lnTo>
                      <a:pt x="688" y="772"/>
                    </a:lnTo>
                    <a:lnTo>
                      <a:pt x="694" y="763"/>
                    </a:lnTo>
                    <a:lnTo>
                      <a:pt x="694" y="753"/>
                    </a:lnTo>
                    <a:lnTo>
                      <a:pt x="693" y="746"/>
                    </a:lnTo>
                    <a:lnTo>
                      <a:pt x="688" y="741"/>
                    </a:lnTo>
                    <a:lnTo>
                      <a:pt x="678" y="737"/>
                    </a:lnTo>
                    <a:lnTo>
                      <a:pt x="674" y="743"/>
                    </a:lnTo>
                    <a:lnTo>
                      <a:pt x="671" y="751"/>
                    </a:lnTo>
                    <a:lnTo>
                      <a:pt x="668" y="761"/>
                    </a:lnTo>
                    <a:lnTo>
                      <a:pt x="662" y="767"/>
                    </a:lnTo>
                    <a:lnTo>
                      <a:pt x="654" y="772"/>
                    </a:lnTo>
                    <a:lnTo>
                      <a:pt x="646" y="779"/>
                    </a:lnTo>
                    <a:lnTo>
                      <a:pt x="639" y="787"/>
                    </a:lnTo>
                    <a:lnTo>
                      <a:pt x="630" y="793"/>
                    </a:lnTo>
                    <a:lnTo>
                      <a:pt x="619" y="792"/>
                    </a:lnTo>
                    <a:lnTo>
                      <a:pt x="625" y="783"/>
                    </a:lnTo>
                    <a:lnTo>
                      <a:pt x="630" y="774"/>
                    </a:lnTo>
                    <a:lnTo>
                      <a:pt x="636" y="766"/>
                    </a:lnTo>
                    <a:lnTo>
                      <a:pt x="642" y="756"/>
                    </a:lnTo>
                    <a:lnTo>
                      <a:pt x="636" y="734"/>
                    </a:lnTo>
                    <a:lnTo>
                      <a:pt x="626" y="734"/>
                    </a:lnTo>
                    <a:lnTo>
                      <a:pt x="620" y="740"/>
                    </a:lnTo>
                    <a:lnTo>
                      <a:pt x="616" y="748"/>
                    </a:lnTo>
                    <a:lnTo>
                      <a:pt x="610" y="756"/>
                    </a:lnTo>
                    <a:lnTo>
                      <a:pt x="604" y="764"/>
                    </a:lnTo>
                    <a:lnTo>
                      <a:pt x="597" y="773"/>
                    </a:lnTo>
                    <a:lnTo>
                      <a:pt x="591" y="782"/>
                    </a:lnTo>
                    <a:lnTo>
                      <a:pt x="584" y="790"/>
                    </a:lnTo>
                    <a:lnTo>
                      <a:pt x="577" y="799"/>
                    </a:lnTo>
                    <a:lnTo>
                      <a:pt x="564" y="793"/>
                    </a:lnTo>
                    <a:lnTo>
                      <a:pt x="568" y="786"/>
                    </a:lnTo>
                    <a:lnTo>
                      <a:pt x="574" y="776"/>
                    </a:lnTo>
                    <a:lnTo>
                      <a:pt x="578" y="764"/>
                    </a:lnTo>
                    <a:lnTo>
                      <a:pt x="583" y="750"/>
                    </a:lnTo>
                    <a:lnTo>
                      <a:pt x="564" y="741"/>
                    </a:lnTo>
                    <a:lnTo>
                      <a:pt x="558" y="750"/>
                    </a:lnTo>
                    <a:lnTo>
                      <a:pt x="552" y="761"/>
                    </a:lnTo>
                    <a:lnTo>
                      <a:pt x="547" y="773"/>
                    </a:lnTo>
                    <a:lnTo>
                      <a:pt x="539" y="785"/>
                    </a:lnTo>
                    <a:lnTo>
                      <a:pt x="529" y="789"/>
                    </a:lnTo>
                    <a:lnTo>
                      <a:pt x="523" y="796"/>
                    </a:lnTo>
                    <a:lnTo>
                      <a:pt x="518" y="805"/>
                    </a:lnTo>
                    <a:lnTo>
                      <a:pt x="505" y="808"/>
                    </a:lnTo>
                    <a:lnTo>
                      <a:pt x="497" y="805"/>
                    </a:lnTo>
                    <a:lnTo>
                      <a:pt x="503" y="795"/>
                    </a:lnTo>
                    <a:lnTo>
                      <a:pt x="509" y="785"/>
                    </a:lnTo>
                    <a:lnTo>
                      <a:pt x="516" y="774"/>
                    </a:lnTo>
                    <a:lnTo>
                      <a:pt x="525" y="764"/>
                    </a:lnTo>
                    <a:lnTo>
                      <a:pt x="510" y="747"/>
                    </a:lnTo>
                    <a:lnTo>
                      <a:pt x="503" y="754"/>
                    </a:lnTo>
                    <a:lnTo>
                      <a:pt x="497" y="761"/>
                    </a:lnTo>
                    <a:lnTo>
                      <a:pt x="490" y="769"/>
                    </a:lnTo>
                    <a:lnTo>
                      <a:pt x="484" y="776"/>
                    </a:lnTo>
                    <a:lnTo>
                      <a:pt x="479" y="783"/>
                    </a:lnTo>
                    <a:lnTo>
                      <a:pt x="471" y="792"/>
                    </a:lnTo>
                    <a:lnTo>
                      <a:pt x="467" y="800"/>
                    </a:lnTo>
                    <a:lnTo>
                      <a:pt x="461" y="809"/>
                    </a:lnTo>
                    <a:lnTo>
                      <a:pt x="454" y="811"/>
                    </a:lnTo>
                    <a:lnTo>
                      <a:pt x="448" y="811"/>
                    </a:lnTo>
                    <a:lnTo>
                      <a:pt x="441" y="812"/>
                    </a:lnTo>
                    <a:lnTo>
                      <a:pt x="431" y="813"/>
                    </a:lnTo>
                    <a:lnTo>
                      <a:pt x="424" y="812"/>
                    </a:lnTo>
                    <a:lnTo>
                      <a:pt x="432" y="802"/>
                    </a:lnTo>
                    <a:lnTo>
                      <a:pt x="441" y="792"/>
                    </a:lnTo>
                    <a:lnTo>
                      <a:pt x="448" y="780"/>
                    </a:lnTo>
                    <a:lnTo>
                      <a:pt x="456" y="767"/>
                    </a:lnTo>
                    <a:lnTo>
                      <a:pt x="437" y="754"/>
                    </a:lnTo>
                    <a:lnTo>
                      <a:pt x="431" y="760"/>
                    </a:lnTo>
                    <a:lnTo>
                      <a:pt x="427" y="767"/>
                    </a:lnTo>
                    <a:lnTo>
                      <a:pt x="421" y="773"/>
                    </a:lnTo>
                    <a:lnTo>
                      <a:pt x="415" y="780"/>
                    </a:lnTo>
                    <a:lnTo>
                      <a:pt x="409" y="786"/>
                    </a:lnTo>
                    <a:lnTo>
                      <a:pt x="403" y="793"/>
                    </a:lnTo>
                    <a:lnTo>
                      <a:pt x="398" y="799"/>
                    </a:lnTo>
                    <a:lnTo>
                      <a:pt x="392" y="806"/>
                    </a:lnTo>
                    <a:lnTo>
                      <a:pt x="386" y="809"/>
                    </a:lnTo>
                    <a:lnTo>
                      <a:pt x="380" y="811"/>
                    </a:lnTo>
                    <a:lnTo>
                      <a:pt x="372" y="811"/>
                    </a:lnTo>
                    <a:lnTo>
                      <a:pt x="364" y="806"/>
                    </a:lnTo>
                    <a:lnTo>
                      <a:pt x="373" y="802"/>
                    </a:lnTo>
                    <a:lnTo>
                      <a:pt x="380" y="793"/>
                    </a:lnTo>
                    <a:lnTo>
                      <a:pt x="388" y="782"/>
                    </a:lnTo>
                    <a:lnTo>
                      <a:pt x="396" y="769"/>
                    </a:lnTo>
                    <a:lnTo>
                      <a:pt x="385" y="753"/>
                    </a:lnTo>
                    <a:lnTo>
                      <a:pt x="377" y="757"/>
                    </a:lnTo>
                    <a:lnTo>
                      <a:pt x="370" y="763"/>
                    </a:lnTo>
                    <a:lnTo>
                      <a:pt x="363" y="770"/>
                    </a:lnTo>
                    <a:lnTo>
                      <a:pt x="357" y="777"/>
                    </a:lnTo>
                    <a:lnTo>
                      <a:pt x="350" y="786"/>
                    </a:lnTo>
                    <a:lnTo>
                      <a:pt x="343" y="793"/>
                    </a:lnTo>
                    <a:lnTo>
                      <a:pt x="335" y="800"/>
                    </a:lnTo>
                    <a:lnTo>
                      <a:pt x="325" y="806"/>
                    </a:lnTo>
                    <a:lnTo>
                      <a:pt x="317" y="803"/>
                    </a:lnTo>
                    <a:lnTo>
                      <a:pt x="320" y="790"/>
                    </a:lnTo>
                    <a:lnTo>
                      <a:pt x="328" y="780"/>
                    </a:lnTo>
                    <a:lnTo>
                      <a:pt x="337" y="770"/>
                    </a:lnTo>
                    <a:lnTo>
                      <a:pt x="343" y="760"/>
                    </a:lnTo>
                    <a:lnTo>
                      <a:pt x="330" y="743"/>
                    </a:lnTo>
                    <a:lnTo>
                      <a:pt x="324" y="746"/>
                    </a:lnTo>
                    <a:lnTo>
                      <a:pt x="318" y="750"/>
                    </a:lnTo>
                    <a:lnTo>
                      <a:pt x="312" y="756"/>
                    </a:lnTo>
                    <a:lnTo>
                      <a:pt x="307" y="761"/>
                    </a:lnTo>
                    <a:lnTo>
                      <a:pt x="301" y="767"/>
                    </a:lnTo>
                    <a:lnTo>
                      <a:pt x="294" y="773"/>
                    </a:lnTo>
                    <a:lnTo>
                      <a:pt x="288" y="780"/>
                    </a:lnTo>
                    <a:lnTo>
                      <a:pt x="281" y="786"/>
                    </a:lnTo>
                    <a:lnTo>
                      <a:pt x="273" y="780"/>
                    </a:lnTo>
                    <a:lnTo>
                      <a:pt x="282" y="770"/>
                    </a:lnTo>
                    <a:lnTo>
                      <a:pt x="291" y="757"/>
                    </a:lnTo>
                    <a:lnTo>
                      <a:pt x="298" y="746"/>
                    </a:lnTo>
                    <a:lnTo>
                      <a:pt x="307" y="733"/>
                    </a:lnTo>
                    <a:lnTo>
                      <a:pt x="298" y="720"/>
                    </a:lnTo>
                    <a:lnTo>
                      <a:pt x="286" y="720"/>
                    </a:lnTo>
                    <a:lnTo>
                      <a:pt x="279" y="730"/>
                    </a:lnTo>
                    <a:lnTo>
                      <a:pt x="270" y="740"/>
                    </a:lnTo>
                    <a:lnTo>
                      <a:pt x="262" y="751"/>
                    </a:lnTo>
                    <a:lnTo>
                      <a:pt x="250" y="761"/>
                    </a:lnTo>
                    <a:lnTo>
                      <a:pt x="240" y="761"/>
                    </a:lnTo>
                    <a:lnTo>
                      <a:pt x="247" y="744"/>
                    </a:lnTo>
                    <a:lnTo>
                      <a:pt x="256" y="733"/>
                    </a:lnTo>
                    <a:lnTo>
                      <a:pt x="262" y="724"/>
                    </a:lnTo>
                    <a:lnTo>
                      <a:pt x="266" y="712"/>
                    </a:lnTo>
                    <a:lnTo>
                      <a:pt x="259" y="701"/>
                    </a:lnTo>
                    <a:lnTo>
                      <a:pt x="247" y="701"/>
                    </a:lnTo>
                    <a:lnTo>
                      <a:pt x="239" y="709"/>
                    </a:lnTo>
                    <a:lnTo>
                      <a:pt x="233" y="721"/>
                    </a:lnTo>
                    <a:lnTo>
                      <a:pt x="224" y="731"/>
                    </a:lnTo>
                    <a:lnTo>
                      <a:pt x="210" y="737"/>
                    </a:lnTo>
                    <a:lnTo>
                      <a:pt x="205" y="727"/>
                    </a:lnTo>
                    <a:lnTo>
                      <a:pt x="210" y="720"/>
                    </a:lnTo>
                    <a:lnTo>
                      <a:pt x="217" y="712"/>
                    </a:lnTo>
                    <a:lnTo>
                      <a:pt x="226" y="704"/>
                    </a:lnTo>
                    <a:lnTo>
                      <a:pt x="236" y="694"/>
                    </a:lnTo>
                    <a:lnTo>
                      <a:pt x="223" y="676"/>
                    </a:lnTo>
                    <a:lnTo>
                      <a:pt x="214" y="678"/>
                    </a:lnTo>
                    <a:lnTo>
                      <a:pt x="207" y="683"/>
                    </a:lnTo>
                    <a:lnTo>
                      <a:pt x="201" y="689"/>
                    </a:lnTo>
                    <a:lnTo>
                      <a:pt x="194" y="695"/>
                    </a:lnTo>
                    <a:lnTo>
                      <a:pt x="187" y="705"/>
                    </a:lnTo>
                    <a:lnTo>
                      <a:pt x="181" y="702"/>
                    </a:lnTo>
                    <a:lnTo>
                      <a:pt x="185" y="698"/>
                    </a:lnTo>
                    <a:lnTo>
                      <a:pt x="189" y="689"/>
                    </a:lnTo>
                    <a:lnTo>
                      <a:pt x="191" y="679"/>
                    </a:lnTo>
                    <a:lnTo>
                      <a:pt x="192" y="669"/>
                    </a:lnTo>
                    <a:lnTo>
                      <a:pt x="172" y="666"/>
                    </a:lnTo>
                    <a:lnTo>
                      <a:pt x="161" y="688"/>
                    </a:lnTo>
                    <a:lnTo>
                      <a:pt x="149" y="685"/>
                    </a:lnTo>
                    <a:lnTo>
                      <a:pt x="143" y="676"/>
                    </a:lnTo>
                    <a:lnTo>
                      <a:pt x="149" y="669"/>
                    </a:lnTo>
                    <a:lnTo>
                      <a:pt x="155" y="662"/>
                    </a:lnTo>
                    <a:lnTo>
                      <a:pt x="162" y="656"/>
                    </a:lnTo>
                    <a:lnTo>
                      <a:pt x="166" y="647"/>
                    </a:lnTo>
                    <a:lnTo>
                      <a:pt x="159" y="634"/>
                    </a:lnTo>
                    <a:lnTo>
                      <a:pt x="149" y="636"/>
                    </a:lnTo>
                    <a:lnTo>
                      <a:pt x="142" y="640"/>
                    </a:lnTo>
                    <a:lnTo>
                      <a:pt x="134" y="644"/>
                    </a:lnTo>
                    <a:lnTo>
                      <a:pt x="127" y="650"/>
                    </a:lnTo>
                    <a:lnTo>
                      <a:pt x="119" y="657"/>
                    </a:lnTo>
                    <a:lnTo>
                      <a:pt x="107" y="653"/>
                    </a:lnTo>
                    <a:lnTo>
                      <a:pt x="114" y="646"/>
                    </a:lnTo>
                    <a:lnTo>
                      <a:pt x="121" y="640"/>
                    </a:lnTo>
                    <a:lnTo>
                      <a:pt x="129" y="634"/>
                    </a:lnTo>
                    <a:lnTo>
                      <a:pt x="136" y="626"/>
                    </a:lnTo>
                    <a:lnTo>
                      <a:pt x="129" y="614"/>
                    </a:lnTo>
                    <a:lnTo>
                      <a:pt x="119" y="614"/>
                    </a:lnTo>
                    <a:lnTo>
                      <a:pt x="108" y="620"/>
                    </a:lnTo>
                    <a:lnTo>
                      <a:pt x="98" y="627"/>
                    </a:lnTo>
                    <a:lnTo>
                      <a:pt x="88" y="626"/>
                    </a:lnTo>
                    <a:lnTo>
                      <a:pt x="97" y="617"/>
                    </a:lnTo>
                    <a:lnTo>
                      <a:pt x="107" y="608"/>
                    </a:lnTo>
                    <a:lnTo>
                      <a:pt x="114" y="597"/>
                    </a:lnTo>
                    <a:lnTo>
                      <a:pt x="121" y="582"/>
                    </a:lnTo>
                    <a:lnTo>
                      <a:pt x="108" y="574"/>
                    </a:lnTo>
                    <a:lnTo>
                      <a:pt x="100" y="575"/>
                    </a:lnTo>
                    <a:lnTo>
                      <a:pt x="94" y="581"/>
                    </a:lnTo>
                    <a:lnTo>
                      <a:pt x="87" y="588"/>
                    </a:lnTo>
                    <a:lnTo>
                      <a:pt x="78" y="595"/>
                    </a:lnTo>
                    <a:lnTo>
                      <a:pt x="75" y="588"/>
                    </a:lnTo>
                    <a:lnTo>
                      <a:pt x="84" y="579"/>
                    </a:lnTo>
                    <a:lnTo>
                      <a:pt x="93" y="572"/>
                    </a:lnTo>
                    <a:lnTo>
                      <a:pt x="100" y="565"/>
                    </a:lnTo>
                    <a:lnTo>
                      <a:pt x="108" y="555"/>
                    </a:lnTo>
                    <a:lnTo>
                      <a:pt x="94" y="539"/>
                    </a:lnTo>
                    <a:lnTo>
                      <a:pt x="91" y="543"/>
                    </a:lnTo>
                    <a:lnTo>
                      <a:pt x="84" y="546"/>
                    </a:lnTo>
                    <a:lnTo>
                      <a:pt x="74" y="549"/>
                    </a:lnTo>
                    <a:lnTo>
                      <a:pt x="64" y="553"/>
                    </a:lnTo>
                    <a:lnTo>
                      <a:pt x="64" y="532"/>
                    </a:lnTo>
                    <a:lnTo>
                      <a:pt x="67" y="526"/>
                    </a:lnTo>
                    <a:lnTo>
                      <a:pt x="75" y="523"/>
                    </a:lnTo>
                    <a:lnTo>
                      <a:pt x="82" y="519"/>
                    </a:lnTo>
                    <a:lnTo>
                      <a:pt x="85" y="509"/>
                    </a:lnTo>
                    <a:lnTo>
                      <a:pt x="71" y="496"/>
                    </a:lnTo>
                    <a:lnTo>
                      <a:pt x="49" y="509"/>
                    </a:lnTo>
                    <a:lnTo>
                      <a:pt x="52" y="497"/>
                    </a:lnTo>
                    <a:lnTo>
                      <a:pt x="59" y="490"/>
                    </a:lnTo>
                    <a:lnTo>
                      <a:pt x="69" y="484"/>
                    </a:lnTo>
                    <a:lnTo>
                      <a:pt x="78" y="474"/>
                    </a:lnTo>
                    <a:lnTo>
                      <a:pt x="72" y="461"/>
                    </a:lnTo>
                    <a:lnTo>
                      <a:pt x="65" y="459"/>
                    </a:lnTo>
                    <a:lnTo>
                      <a:pt x="58" y="461"/>
                    </a:lnTo>
                    <a:lnTo>
                      <a:pt x="51" y="464"/>
                    </a:lnTo>
                    <a:lnTo>
                      <a:pt x="42" y="467"/>
                    </a:lnTo>
                    <a:lnTo>
                      <a:pt x="45" y="458"/>
                    </a:lnTo>
                    <a:lnTo>
                      <a:pt x="52" y="454"/>
                    </a:lnTo>
                    <a:lnTo>
                      <a:pt x="59" y="448"/>
                    </a:lnTo>
                    <a:lnTo>
                      <a:pt x="62" y="438"/>
                    </a:lnTo>
                    <a:lnTo>
                      <a:pt x="54" y="426"/>
                    </a:lnTo>
                    <a:lnTo>
                      <a:pt x="46" y="428"/>
                    </a:lnTo>
                    <a:lnTo>
                      <a:pt x="39" y="432"/>
                    </a:lnTo>
                    <a:lnTo>
                      <a:pt x="32" y="438"/>
                    </a:lnTo>
                    <a:lnTo>
                      <a:pt x="25" y="439"/>
                    </a:lnTo>
                    <a:lnTo>
                      <a:pt x="32" y="432"/>
                    </a:lnTo>
                    <a:lnTo>
                      <a:pt x="38" y="425"/>
                    </a:lnTo>
                    <a:lnTo>
                      <a:pt x="40" y="418"/>
                    </a:lnTo>
                    <a:lnTo>
                      <a:pt x="35" y="407"/>
                    </a:lnTo>
                    <a:lnTo>
                      <a:pt x="30" y="405"/>
                    </a:lnTo>
                    <a:lnTo>
                      <a:pt x="23" y="406"/>
                    </a:lnTo>
                    <a:lnTo>
                      <a:pt x="16" y="409"/>
                    </a:lnTo>
                    <a:lnTo>
                      <a:pt x="9" y="413"/>
                    </a:lnTo>
                    <a:lnTo>
                      <a:pt x="1" y="407"/>
                    </a:lnTo>
                    <a:lnTo>
                      <a:pt x="0" y="400"/>
                    </a:lnTo>
                    <a:lnTo>
                      <a:pt x="0" y="393"/>
                    </a:lnTo>
                    <a:lnTo>
                      <a:pt x="0" y="386"/>
                    </a:lnTo>
                    <a:lnTo>
                      <a:pt x="3" y="376"/>
                    </a:lnTo>
                    <a:lnTo>
                      <a:pt x="17" y="363"/>
                    </a:lnTo>
                    <a:lnTo>
                      <a:pt x="39" y="363"/>
                    </a:lnTo>
                    <a:lnTo>
                      <a:pt x="56" y="368"/>
                    </a:lnTo>
                    <a:lnTo>
                      <a:pt x="72" y="376"/>
                    </a:lnTo>
                    <a:lnTo>
                      <a:pt x="88" y="384"/>
                    </a:lnTo>
                    <a:lnTo>
                      <a:pt x="104" y="393"/>
                    </a:lnTo>
                    <a:lnTo>
                      <a:pt x="119" y="403"/>
                    </a:lnTo>
                    <a:lnTo>
                      <a:pt x="132" y="415"/>
                    </a:lnTo>
                    <a:lnTo>
                      <a:pt x="146" y="428"/>
                    </a:lnTo>
                    <a:lnTo>
                      <a:pt x="159" y="442"/>
                    </a:lnTo>
                    <a:lnTo>
                      <a:pt x="166" y="455"/>
                    </a:lnTo>
                    <a:lnTo>
                      <a:pt x="175" y="467"/>
                    </a:lnTo>
                    <a:lnTo>
                      <a:pt x="184" y="477"/>
                    </a:lnTo>
                    <a:lnTo>
                      <a:pt x="192" y="487"/>
                    </a:lnTo>
                    <a:lnTo>
                      <a:pt x="201" y="497"/>
                    </a:lnTo>
                    <a:lnTo>
                      <a:pt x="208" y="509"/>
                    </a:lnTo>
                    <a:lnTo>
                      <a:pt x="215" y="522"/>
                    </a:lnTo>
                    <a:lnTo>
                      <a:pt x="221" y="535"/>
                    </a:lnTo>
                    <a:lnTo>
                      <a:pt x="247" y="536"/>
                    </a:lnTo>
                    <a:lnTo>
                      <a:pt x="273" y="535"/>
                    </a:lnTo>
                    <a:lnTo>
                      <a:pt x="301" y="532"/>
                    </a:lnTo>
                    <a:lnTo>
                      <a:pt x="330" y="526"/>
                    </a:lnTo>
                    <a:lnTo>
                      <a:pt x="357" y="519"/>
                    </a:lnTo>
                    <a:lnTo>
                      <a:pt x="385" y="511"/>
                    </a:lnTo>
                    <a:lnTo>
                      <a:pt x="414" y="504"/>
                    </a:lnTo>
                    <a:lnTo>
                      <a:pt x="441" y="498"/>
                    </a:lnTo>
                    <a:lnTo>
                      <a:pt x="445" y="488"/>
                    </a:lnTo>
                    <a:lnTo>
                      <a:pt x="422" y="484"/>
                    </a:lnTo>
                    <a:lnTo>
                      <a:pt x="398" y="484"/>
                    </a:lnTo>
                    <a:lnTo>
                      <a:pt x="372" y="487"/>
                    </a:lnTo>
                    <a:lnTo>
                      <a:pt x="347" y="491"/>
                    </a:lnTo>
                    <a:lnTo>
                      <a:pt x="321" y="497"/>
                    </a:lnTo>
                    <a:lnTo>
                      <a:pt x="295" y="503"/>
                    </a:lnTo>
                    <a:lnTo>
                      <a:pt x="269" y="507"/>
                    </a:lnTo>
                    <a:lnTo>
                      <a:pt x="244" y="509"/>
                    </a:lnTo>
                    <a:lnTo>
                      <a:pt x="228" y="484"/>
                    </a:lnTo>
                    <a:lnTo>
                      <a:pt x="230" y="481"/>
                    </a:lnTo>
                    <a:lnTo>
                      <a:pt x="244" y="483"/>
                    </a:lnTo>
                    <a:lnTo>
                      <a:pt x="260" y="483"/>
                    </a:lnTo>
                    <a:lnTo>
                      <a:pt x="275" y="481"/>
                    </a:lnTo>
                    <a:lnTo>
                      <a:pt x="291" y="480"/>
                    </a:lnTo>
                    <a:lnTo>
                      <a:pt x="305" y="475"/>
                    </a:lnTo>
                    <a:lnTo>
                      <a:pt x="318" y="470"/>
                    </a:lnTo>
                    <a:lnTo>
                      <a:pt x="333" y="462"/>
                    </a:lnTo>
                    <a:lnTo>
                      <a:pt x="346" y="454"/>
                    </a:lnTo>
                    <a:lnTo>
                      <a:pt x="354" y="444"/>
                    </a:lnTo>
                    <a:lnTo>
                      <a:pt x="362" y="433"/>
                    </a:lnTo>
                    <a:lnTo>
                      <a:pt x="367" y="423"/>
                    </a:lnTo>
                    <a:lnTo>
                      <a:pt x="375" y="413"/>
                    </a:lnTo>
                    <a:lnTo>
                      <a:pt x="375" y="405"/>
                    </a:lnTo>
                    <a:lnTo>
                      <a:pt x="375" y="397"/>
                    </a:lnTo>
                    <a:lnTo>
                      <a:pt x="375" y="390"/>
                    </a:lnTo>
                    <a:lnTo>
                      <a:pt x="376" y="381"/>
                    </a:lnTo>
                    <a:lnTo>
                      <a:pt x="386" y="380"/>
                    </a:lnTo>
                    <a:lnTo>
                      <a:pt x="396" y="377"/>
                    </a:lnTo>
                    <a:lnTo>
                      <a:pt x="406" y="374"/>
                    </a:lnTo>
                    <a:lnTo>
                      <a:pt x="418" y="370"/>
                    </a:lnTo>
                    <a:lnTo>
                      <a:pt x="428" y="366"/>
                    </a:lnTo>
                    <a:lnTo>
                      <a:pt x="440" y="357"/>
                    </a:lnTo>
                    <a:lnTo>
                      <a:pt x="450" y="347"/>
                    </a:lnTo>
                    <a:lnTo>
                      <a:pt x="460" y="334"/>
                    </a:lnTo>
                    <a:lnTo>
                      <a:pt x="466" y="312"/>
                    </a:lnTo>
                    <a:lnTo>
                      <a:pt x="469" y="289"/>
                    </a:lnTo>
                    <a:lnTo>
                      <a:pt x="469" y="267"/>
                    </a:lnTo>
                    <a:lnTo>
                      <a:pt x="469" y="243"/>
                    </a:lnTo>
                    <a:lnTo>
                      <a:pt x="474" y="237"/>
                    </a:lnTo>
                    <a:lnTo>
                      <a:pt x="482" y="231"/>
                    </a:lnTo>
                    <a:lnTo>
                      <a:pt x="489" y="227"/>
                    </a:lnTo>
                    <a:lnTo>
                      <a:pt x="500" y="223"/>
                    </a:lnTo>
                    <a:lnTo>
                      <a:pt x="512" y="211"/>
                    </a:lnTo>
                    <a:lnTo>
                      <a:pt x="518" y="196"/>
                    </a:lnTo>
                    <a:lnTo>
                      <a:pt x="523" y="182"/>
                    </a:lnTo>
                    <a:lnTo>
                      <a:pt x="529" y="166"/>
                    </a:lnTo>
                    <a:lnTo>
                      <a:pt x="536" y="147"/>
                    </a:lnTo>
                    <a:lnTo>
                      <a:pt x="536" y="140"/>
                    </a:lnTo>
                    <a:lnTo>
                      <a:pt x="539" y="133"/>
                    </a:lnTo>
                    <a:lnTo>
                      <a:pt x="541" y="127"/>
                    </a:lnTo>
                    <a:lnTo>
                      <a:pt x="541" y="118"/>
                    </a:lnTo>
                    <a:lnTo>
                      <a:pt x="552" y="114"/>
                    </a:lnTo>
                    <a:lnTo>
                      <a:pt x="563" y="108"/>
                    </a:lnTo>
                    <a:lnTo>
                      <a:pt x="571" y="103"/>
                    </a:lnTo>
                    <a:lnTo>
                      <a:pt x="581" y="97"/>
                    </a:lnTo>
                    <a:lnTo>
                      <a:pt x="599" y="77"/>
                    </a:lnTo>
                    <a:lnTo>
                      <a:pt x="602" y="74"/>
                    </a:lnTo>
                    <a:lnTo>
                      <a:pt x="604" y="66"/>
                    </a:lnTo>
                    <a:lnTo>
                      <a:pt x="607" y="56"/>
                    </a:lnTo>
                    <a:lnTo>
                      <a:pt x="613" y="46"/>
                    </a:lnTo>
                    <a:lnTo>
                      <a:pt x="612" y="35"/>
                    </a:lnTo>
                    <a:lnTo>
                      <a:pt x="609" y="25"/>
                    </a:lnTo>
                    <a:lnTo>
                      <a:pt x="609" y="13"/>
                    </a:lnTo>
                    <a:lnTo>
                      <a:pt x="613" y="0"/>
                    </a:lnTo>
                    <a:lnTo>
                      <a:pt x="646" y="22"/>
                    </a:lnTo>
                    <a:lnTo>
                      <a:pt x="678" y="46"/>
                    </a:lnTo>
                    <a:lnTo>
                      <a:pt x="707" y="72"/>
                    </a:lnTo>
                    <a:lnTo>
                      <a:pt x="735" y="100"/>
                    </a:lnTo>
                    <a:lnTo>
                      <a:pt x="761" y="127"/>
                    </a:lnTo>
                    <a:lnTo>
                      <a:pt x="787" y="157"/>
                    </a:lnTo>
                    <a:lnTo>
                      <a:pt x="811" y="188"/>
                    </a:lnTo>
                    <a:lnTo>
                      <a:pt x="834" y="218"/>
                    </a:lnTo>
                    <a:lnTo>
                      <a:pt x="859" y="249"/>
                    </a:lnTo>
                    <a:lnTo>
                      <a:pt x="884" y="277"/>
                    </a:lnTo>
                    <a:lnTo>
                      <a:pt x="908" y="306"/>
                    </a:lnTo>
                    <a:lnTo>
                      <a:pt x="933" y="335"/>
                    </a:lnTo>
                    <a:lnTo>
                      <a:pt x="960" y="361"/>
                    </a:lnTo>
                    <a:lnTo>
                      <a:pt x="989" y="386"/>
                    </a:lnTo>
                    <a:lnTo>
                      <a:pt x="1019" y="409"/>
                    </a:lnTo>
                    <a:lnTo>
                      <a:pt x="1051" y="429"/>
                    </a:lnTo>
                    <a:lnTo>
                      <a:pt x="1080" y="448"/>
                    </a:lnTo>
                    <a:lnTo>
                      <a:pt x="1111" y="465"/>
                    </a:lnTo>
                    <a:lnTo>
                      <a:pt x="1142" y="481"/>
                    </a:lnTo>
                    <a:lnTo>
                      <a:pt x="1176" y="497"/>
                    </a:lnTo>
                    <a:lnTo>
                      <a:pt x="1209" y="511"/>
                    </a:lnTo>
                    <a:lnTo>
                      <a:pt x="1244" y="526"/>
                    </a:lnTo>
                    <a:lnTo>
                      <a:pt x="1280" y="539"/>
                    </a:lnTo>
                    <a:lnTo>
                      <a:pt x="1316" y="552"/>
                    </a:lnTo>
                    <a:lnTo>
                      <a:pt x="1354" y="565"/>
                    </a:lnTo>
                    <a:lnTo>
                      <a:pt x="1391" y="576"/>
                    </a:lnTo>
                    <a:lnTo>
                      <a:pt x="1429" y="588"/>
                    </a:lnTo>
                    <a:lnTo>
                      <a:pt x="1468" y="600"/>
                    </a:lnTo>
                    <a:lnTo>
                      <a:pt x="1505" y="613"/>
                    </a:lnTo>
                    <a:lnTo>
                      <a:pt x="1543" y="624"/>
                    </a:lnTo>
                    <a:lnTo>
                      <a:pt x="1582" y="636"/>
                    </a:lnTo>
                    <a:lnTo>
                      <a:pt x="1620" y="649"/>
                    </a:lnTo>
                    <a:lnTo>
                      <a:pt x="1644" y="655"/>
                    </a:lnTo>
                    <a:lnTo>
                      <a:pt x="1667" y="662"/>
                    </a:lnTo>
                    <a:lnTo>
                      <a:pt x="1689" y="669"/>
                    </a:lnTo>
                    <a:lnTo>
                      <a:pt x="1709" y="676"/>
                    </a:lnTo>
                    <a:lnTo>
                      <a:pt x="1731" y="683"/>
                    </a:lnTo>
                    <a:lnTo>
                      <a:pt x="1751" y="689"/>
                    </a:lnTo>
                    <a:lnTo>
                      <a:pt x="1771" y="695"/>
                    </a:lnTo>
                    <a:lnTo>
                      <a:pt x="1793" y="699"/>
                    </a:lnTo>
                    <a:lnTo>
                      <a:pt x="1834" y="711"/>
                    </a:lnTo>
                    <a:lnTo>
                      <a:pt x="1874" y="722"/>
                    </a:lnTo>
                    <a:lnTo>
                      <a:pt x="1915" y="735"/>
                    </a:lnTo>
                    <a:lnTo>
                      <a:pt x="1955" y="747"/>
                    </a:lnTo>
                    <a:lnTo>
                      <a:pt x="1996" y="760"/>
                    </a:lnTo>
                    <a:lnTo>
                      <a:pt x="2036" y="773"/>
                    </a:lnTo>
                    <a:lnTo>
                      <a:pt x="2075" y="786"/>
                    </a:lnTo>
                    <a:lnTo>
                      <a:pt x="2116" y="799"/>
                    </a:lnTo>
                    <a:lnTo>
                      <a:pt x="2156" y="812"/>
                    </a:lnTo>
                    <a:lnTo>
                      <a:pt x="2195" y="825"/>
                    </a:lnTo>
                    <a:lnTo>
                      <a:pt x="2234" y="838"/>
                    </a:lnTo>
                    <a:lnTo>
                      <a:pt x="2273" y="852"/>
                    </a:lnTo>
                    <a:lnTo>
                      <a:pt x="2312" y="865"/>
                    </a:lnTo>
                    <a:lnTo>
                      <a:pt x="2351" y="880"/>
                    </a:lnTo>
                    <a:lnTo>
                      <a:pt x="2389" y="893"/>
                    </a:lnTo>
                    <a:lnTo>
                      <a:pt x="2426" y="907"/>
                    </a:lnTo>
                    <a:lnTo>
                      <a:pt x="2429" y="1091"/>
                    </a:lnTo>
                    <a:lnTo>
                      <a:pt x="2431" y="1274"/>
                    </a:lnTo>
                    <a:lnTo>
                      <a:pt x="2431" y="1458"/>
                    </a:lnTo>
                    <a:lnTo>
                      <a:pt x="2429" y="1641"/>
                    </a:lnTo>
                    <a:lnTo>
                      <a:pt x="2421" y="1654"/>
                    </a:lnTo>
                    <a:lnTo>
                      <a:pt x="2412" y="1670"/>
                    </a:lnTo>
                    <a:lnTo>
                      <a:pt x="2402" y="1688"/>
                    </a:lnTo>
                    <a:lnTo>
                      <a:pt x="2390" y="1705"/>
                    </a:lnTo>
                    <a:lnTo>
                      <a:pt x="2374" y="1708"/>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140600" y="2816280"/>
                <a:ext cx="12600" cy="9360"/>
              </a:xfrm>
              <a:custGeom>
                <a:avLst/>
                <a:gdLst/>
                <a:ahLst/>
                <a:rect l="l" t="t" r="r" b="b"/>
                <a:pathLst>
                  <a:path w="26" h="18">
                    <a:moveTo>
                      <a:pt x="10" y="18"/>
                    </a:moveTo>
                    <a:lnTo>
                      <a:pt x="0" y="9"/>
                    </a:lnTo>
                    <a:lnTo>
                      <a:pt x="2" y="2"/>
                    </a:lnTo>
                    <a:lnTo>
                      <a:pt x="11" y="0"/>
                    </a:lnTo>
                    <a:lnTo>
                      <a:pt x="20" y="0"/>
                    </a:lnTo>
                    <a:lnTo>
                      <a:pt x="26" y="5"/>
                    </a:lnTo>
                    <a:lnTo>
                      <a:pt x="10"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2" name=""/>
              <p:cNvSpPr/>
              <p:nvPr/>
            </p:nvSpPr>
            <p:spPr>
              <a:xfrm>
                <a:off x="7958160" y="2795760"/>
                <a:ext cx="9360" cy="10800"/>
              </a:xfrm>
              <a:custGeom>
                <a:avLst/>
                <a:gdLst/>
                <a:ahLst/>
                <a:rect l="l" t="t" r="r" b="b"/>
                <a:pathLst>
                  <a:path w="19" h="23">
                    <a:moveTo>
                      <a:pt x="6" y="23"/>
                    </a:moveTo>
                    <a:lnTo>
                      <a:pt x="0" y="20"/>
                    </a:lnTo>
                    <a:lnTo>
                      <a:pt x="0" y="13"/>
                    </a:lnTo>
                    <a:lnTo>
                      <a:pt x="2" y="4"/>
                    </a:lnTo>
                    <a:lnTo>
                      <a:pt x="6" y="0"/>
                    </a:lnTo>
                    <a:lnTo>
                      <a:pt x="12" y="6"/>
                    </a:lnTo>
                    <a:lnTo>
                      <a:pt x="19" y="13"/>
                    </a:lnTo>
                    <a:lnTo>
                      <a:pt x="19" y="19"/>
                    </a:lnTo>
                    <a:lnTo>
                      <a:pt x="6"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33" name=""/>
              <p:cNvSpPr/>
              <p:nvPr/>
            </p:nvSpPr>
            <p:spPr>
              <a:xfrm>
                <a:off x="8053560" y="2793960"/>
                <a:ext cx="9360" cy="9720"/>
              </a:xfrm>
              <a:custGeom>
                <a:avLst/>
                <a:gdLst/>
                <a:ahLst/>
                <a:rect l="l" t="t" r="r" b="b"/>
                <a:pathLst>
                  <a:path w="18" h="19">
                    <a:moveTo>
                      <a:pt x="4" y="19"/>
                    </a:moveTo>
                    <a:lnTo>
                      <a:pt x="0" y="16"/>
                    </a:lnTo>
                    <a:lnTo>
                      <a:pt x="0" y="7"/>
                    </a:lnTo>
                    <a:lnTo>
                      <a:pt x="3" y="1"/>
                    </a:lnTo>
                    <a:lnTo>
                      <a:pt x="10" y="0"/>
                    </a:lnTo>
                    <a:lnTo>
                      <a:pt x="16" y="4"/>
                    </a:lnTo>
                    <a:lnTo>
                      <a:pt x="18" y="13"/>
                    </a:lnTo>
                    <a:lnTo>
                      <a:pt x="16" y="1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4" name=""/>
              <p:cNvSpPr/>
              <p:nvPr/>
            </p:nvSpPr>
            <p:spPr>
              <a:xfrm>
                <a:off x="8120160" y="2778120"/>
                <a:ext cx="9360" cy="12600"/>
              </a:xfrm>
              <a:custGeom>
                <a:avLst/>
                <a:gdLst/>
                <a:ahLst/>
                <a:rect l="l" t="t" r="r" b="b"/>
                <a:pathLst>
                  <a:path w="19" h="26">
                    <a:moveTo>
                      <a:pt x="9" y="26"/>
                    </a:moveTo>
                    <a:lnTo>
                      <a:pt x="3" y="21"/>
                    </a:lnTo>
                    <a:lnTo>
                      <a:pt x="0" y="14"/>
                    </a:lnTo>
                    <a:lnTo>
                      <a:pt x="0" y="5"/>
                    </a:lnTo>
                    <a:lnTo>
                      <a:pt x="6" y="0"/>
                    </a:lnTo>
                    <a:lnTo>
                      <a:pt x="14" y="3"/>
                    </a:lnTo>
                    <a:lnTo>
                      <a:pt x="19" y="11"/>
                    </a:lnTo>
                    <a:lnTo>
                      <a:pt x="17" y="20"/>
                    </a:lnTo>
                    <a:lnTo>
                      <a:pt x="9"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5" name=""/>
              <p:cNvSpPr/>
              <p:nvPr/>
            </p:nvSpPr>
            <p:spPr>
              <a:xfrm>
                <a:off x="8221680" y="2768760"/>
                <a:ext cx="7920" cy="10800"/>
              </a:xfrm>
              <a:custGeom>
                <a:avLst/>
                <a:gdLst/>
                <a:ahLst/>
                <a:rect l="l" t="t" r="r" b="b"/>
                <a:pathLst>
                  <a:path w="17" h="22">
                    <a:moveTo>
                      <a:pt x="0" y="22"/>
                    </a:moveTo>
                    <a:lnTo>
                      <a:pt x="3" y="0"/>
                    </a:lnTo>
                    <a:lnTo>
                      <a:pt x="17" y="15"/>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36" name=""/>
              <p:cNvSpPr/>
              <p:nvPr/>
            </p:nvSpPr>
            <p:spPr>
              <a:xfrm>
                <a:off x="7089840" y="2776680"/>
                <a:ext cx="11160" cy="10800"/>
              </a:xfrm>
              <a:custGeom>
                <a:avLst/>
                <a:gdLst/>
                <a:ahLst/>
                <a:rect l="l" t="t" r="r" b="b"/>
                <a:pathLst>
                  <a:path w="21" h="23">
                    <a:moveTo>
                      <a:pt x="7" y="23"/>
                    </a:moveTo>
                    <a:lnTo>
                      <a:pt x="0" y="4"/>
                    </a:lnTo>
                    <a:lnTo>
                      <a:pt x="8" y="0"/>
                    </a:lnTo>
                    <a:lnTo>
                      <a:pt x="15" y="3"/>
                    </a:lnTo>
                    <a:lnTo>
                      <a:pt x="20" y="11"/>
                    </a:lnTo>
                    <a:lnTo>
                      <a:pt x="21" y="21"/>
                    </a:lnTo>
                    <a:lnTo>
                      <a:pt x="7"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37" name=""/>
              <p:cNvSpPr/>
              <p:nvPr/>
            </p:nvSpPr>
            <p:spPr>
              <a:xfrm>
                <a:off x="8339040" y="2716200"/>
                <a:ext cx="39960" cy="50760"/>
              </a:xfrm>
              <a:custGeom>
                <a:avLst/>
                <a:gdLst/>
                <a:ahLst/>
                <a:rect l="l" t="t" r="r" b="b"/>
                <a:pathLst>
                  <a:path w="75" h="95">
                    <a:moveTo>
                      <a:pt x="7" y="95"/>
                    </a:moveTo>
                    <a:lnTo>
                      <a:pt x="0" y="77"/>
                    </a:lnTo>
                    <a:lnTo>
                      <a:pt x="9" y="68"/>
                    </a:lnTo>
                    <a:lnTo>
                      <a:pt x="17" y="58"/>
                    </a:lnTo>
                    <a:lnTo>
                      <a:pt x="25" y="49"/>
                    </a:lnTo>
                    <a:lnTo>
                      <a:pt x="32" y="39"/>
                    </a:lnTo>
                    <a:lnTo>
                      <a:pt x="39" y="29"/>
                    </a:lnTo>
                    <a:lnTo>
                      <a:pt x="46" y="19"/>
                    </a:lnTo>
                    <a:lnTo>
                      <a:pt x="53" y="10"/>
                    </a:lnTo>
                    <a:lnTo>
                      <a:pt x="62" y="0"/>
                    </a:lnTo>
                    <a:lnTo>
                      <a:pt x="72" y="2"/>
                    </a:lnTo>
                    <a:lnTo>
                      <a:pt x="75" y="9"/>
                    </a:lnTo>
                    <a:lnTo>
                      <a:pt x="69" y="20"/>
                    </a:lnTo>
                    <a:lnTo>
                      <a:pt x="64" y="32"/>
                    </a:lnTo>
                    <a:lnTo>
                      <a:pt x="56" y="43"/>
                    </a:lnTo>
                    <a:lnTo>
                      <a:pt x="48" y="55"/>
                    </a:lnTo>
                    <a:lnTo>
                      <a:pt x="38" y="65"/>
                    </a:lnTo>
                    <a:lnTo>
                      <a:pt x="27" y="77"/>
                    </a:lnTo>
                    <a:lnTo>
                      <a:pt x="17" y="85"/>
                    </a:lnTo>
                    <a:lnTo>
                      <a:pt x="7"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7209000" y="2757600"/>
                <a:ext cx="14040" cy="12600"/>
              </a:xfrm>
              <a:custGeom>
                <a:avLst/>
                <a:gdLst/>
                <a:ahLst/>
                <a:rect l="l" t="t" r="r" b="b"/>
                <a:pathLst>
                  <a:path w="25" h="24">
                    <a:moveTo>
                      <a:pt x="15" y="24"/>
                    </a:moveTo>
                    <a:lnTo>
                      <a:pt x="0" y="5"/>
                    </a:lnTo>
                    <a:lnTo>
                      <a:pt x="7" y="0"/>
                    </a:lnTo>
                    <a:lnTo>
                      <a:pt x="15" y="1"/>
                    </a:lnTo>
                    <a:lnTo>
                      <a:pt x="20" y="8"/>
                    </a:lnTo>
                    <a:lnTo>
                      <a:pt x="25" y="18"/>
                    </a:lnTo>
                    <a:lnTo>
                      <a:pt x="1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9" name=""/>
              <p:cNvSpPr/>
              <p:nvPr/>
            </p:nvSpPr>
            <p:spPr>
              <a:xfrm>
                <a:off x="7402680" y="2751120"/>
                <a:ext cx="10800" cy="14400"/>
              </a:xfrm>
              <a:custGeom>
                <a:avLst/>
                <a:gdLst/>
                <a:ahLst/>
                <a:rect l="l" t="t" r="r" b="b"/>
                <a:pathLst>
                  <a:path w="19" h="26">
                    <a:moveTo>
                      <a:pt x="6" y="26"/>
                    </a:moveTo>
                    <a:lnTo>
                      <a:pt x="0" y="23"/>
                    </a:lnTo>
                    <a:lnTo>
                      <a:pt x="0" y="14"/>
                    </a:lnTo>
                    <a:lnTo>
                      <a:pt x="4" y="5"/>
                    </a:lnTo>
                    <a:lnTo>
                      <a:pt x="13" y="0"/>
                    </a:lnTo>
                    <a:lnTo>
                      <a:pt x="17" y="5"/>
                    </a:lnTo>
                    <a:lnTo>
                      <a:pt x="19" y="14"/>
                    </a:lnTo>
                    <a:lnTo>
                      <a:pt x="16" y="23"/>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0" name=""/>
              <p:cNvSpPr/>
              <p:nvPr/>
            </p:nvSpPr>
            <p:spPr>
              <a:xfrm>
                <a:off x="8013600" y="2744640"/>
                <a:ext cx="12960" cy="12960"/>
              </a:xfrm>
              <a:custGeom>
                <a:avLst/>
                <a:gdLst/>
                <a:ahLst/>
                <a:rect l="l" t="t" r="r" b="b"/>
                <a:pathLst>
                  <a:path w="22" h="22">
                    <a:moveTo>
                      <a:pt x="13" y="22"/>
                    </a:moveTo>
                    <a:lnTo>
                      <a:pt x="0" y="6"/>
                    </a:lnTo>
                    <a:lnTo>
                      <a:pt x="3" y="0"/>
                    </a:lnTo>
                    <a:lnTo>
                      <a:pt x="12" y="0"/>
                    </a:lnTo>
                    <a:lnTo>
                      <a:pt x="19" y="4"/>
                    </a:lnTo>
                    <a:lnTo>
                      <a:pt x="22" y="10"/>
                    </a:lnTo>
                    <a:lnTo>
                      <a:pt x="13"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1" name=""/>
              <p:cNvSpPr/>
              <p:nvPr/>
            </p:nvSpPr>
            <p:spPr>
              <a:xfrm>
                <a:off x="7334280" y="2749680"/>
                <a:ext cx="7920" cy="12600"/>
              </a:xfrm>
              <a:custGeom>
                <a:avLst/>
                <a:gdLst/>
                <a:ahLst/>
                <a:rect l="l" t="t" r="r" b="b"/>
                <a:pathLst>
                  <a:path w="16" h="26">
                    <a:moveTo>
                      <a:pt x="6" y="26"/>
                    </a:moveTo>
                    <a:lnTo>
                      <a:pt x="3" y="22"/>
                    </a:lnTo>
                    <a:lnTo>
                      <a:pt x="0" y="13"/>
                    </a:lnTo>
                    <a:lnTo>
                      <a:pt x="1" y="5"/>
                    </a:lnTo>
                    <a:lnTo>
                      <a:pt x="10" y="0"/>
                    </a:lnTo>
                    <a:lnTo>
                      <a:pt x="13" y="5"/>
                    </a:lnTo>
                    <a:lnTo>
                      <a:pt x="16" y="13"/>
                    </a:lnTo>
                    <a:lnTo>
                      <a:pt x="14" y="23"/>
                    </a:lnTo>
                    <a:lnTo>
                      <a:pt x="6"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2" name=""/>
              <p:cNvSpPr/>
              <p:nvPr/>
            </p:nvSpPr>
            <p:spPr>
              <a:xfrm>
                <a:off x="7020000" y="2752560"/>
                <a:ext cx="9360" cy="1116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3" name=""/>
              <p:cNvSpPr/>
              <p:nvPr/>
            </p:nvSpPr>
            <p:spPr>
              <a:xfrm>
                <a:off x="8140680" y="2733840"/>
                <a:ext cx="9720" cy="10800"/>
              </a:xfrm>
              <a:custGeom>
                <a:avLst/>
                <a:gdLst/>
                <a:ahLst/>
                <a:rect l="l" t="t" r="r" b="b"/>
                <a:pathLst>
                  <a:path w="17" h="22">
                    <a:moveTo>
                      <a:pt x="9" y="22"/>
                    </a:moveTo>
                    <a:lnTo>
                      <a:pt x="0" y="0"/>
                    </a:lnTo>
                    <a:lnTo>
                      <a:pt x="17" y="3"/>
                    </a:lnTo>
                    <a:lnTo>
                      <a:pt x="9"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44" name=""/>
              <p:cNvSpPr/>
              <p:nvPr/>
            </p:nvSpPr>
            <p:spPr>
              <a:xfrm>
                <a:off x="7156440" y="2732040"/>
                <a:ext cx="7920" cy="11160"/>
              </a:xfrm>
              <a:custGeom>
                <a:avLst/>
                <a:gdLst/>
                <a:ahLst/>
                <a:rect l="l" t="t" r="r" b="b"/>
                <a:pathLst>
                  <a:path w="16" h="22">
                    <a:moveTo>
                      <a:pt x="4" y="22"/>
                    </a:moveTo>
                    <a:lnTo>
                      <a:pt x="0" y="0"/>
                    </a:lnTo>
                    <a:lnTo>
                      <a:pt x="7" y="0"/>
                    </a:lnTo>
                    <a:lnTo>
                      <a:pt x="13" y="4"/>
                    </a:lnTo>
                    <a:lnTo>
                      <a:pt x="16" y="12"/>
                    </a:lnTo>
                    <a:lnTo>
                      <a:pt x="13" y="22"/>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5" name=""/>
              <p:cNvSpPr/>
              <p:nvPr/>
            </p:nvSpPr>
            <p:spPr>
              <a:xfrm>
                <a:off x="7962840" y="2717640"/>
                <a:ext cx="11160" cy="11160"/>
              </a:xfrm>
              <a:custGeom>
                <a:avLst/>
                <a:gdLst/>
                <a:ahLst/>
                <a:rect l="l" t="t" r="r" b="b"/>
                <a:pathLst>
                  <a:path w="21" h="21">
                    <a:moveTo>
                      <a:pt x="5" y="21"/>
                    </a:moveTo>
                    <a:lnTo>
                      <a:pt x="0" y="3"/>
                    </a:lnTo>
                    <a:lnTo>
                      <a:pt x="5" y="0"/>
                    </a:lnTo>
                    <a:lnTo>
                      <a:pt x="13" y="2"/>
                    </a:lnTo>
                    <a:lnTo>
                      <a:pt x="18" y="8"/>
                    </a:lnTo>
                    <a:lnTo>
                      <a:pt x="21" y="15"/>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6" name=""/>
              <p:cNvSpPr/>
              <p:nvPr/>
            </p:nvSpPr>
            <p:spPr>
              <a:xfrm>
                <a:off x="8088480" y="2698920"/>
                <a:ext cx="10800" cy="10800"/>
              </a:xfrm>
              <a:custGeom>
                <a:avLst/>
                <a:gdLst/>
                <a:ahLst/>
                <a:rect l="l" t="t" r="r" b="b"/>
                <a:pathLst>
                  <a:path w="21" h="20">
                    <a:moveTo>
                      <a:pt x="11" y="20"/>
                    </a:moveTo>
                    <a:lnTo>
                      <a:pt x="0" y="3"/>
                    </a:lnTo>
                    <a:lnTo>
                      <a:pt x="7" y="0"/>
                    </a:lnTo>
                    <a:lnTo>
                      <a:pt x="14" y="3"/>
                    </a:lnTo>
                    <a:lnTo>
                      <a:pt x="18" y="10"/>
                    </a:lnTo>
                    <a:lnTo>
                      <a:pt x="21" y="19"/>
                    </a:lnTo>
                    <a:lnTo>
                      <a:pt x="11"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47" name=""/>
              <p:cNvSpPr/>
              <p:nvPr/>
            </p:nvSpPr>
            <p:spPr>
              <a:xfrm>
                <a:off x="7269120" y="2700360"/>
                <a:ext cx="11160" cy="11160"/>
              </a:xfrm>
              <a:custGeom>
                <a:avLst/>
                <a:gdLst/>
                <a:ahLst/>
                <a:rect l="l" t="t" r="r" b="b"/>
                <a:pathLst>
                  <a:path w="19" h="21">
                    <a:moveTo>
                      <a:pt x="5" y="21"/>
                    </a:moveTo>
                    <a:lnTo>
                      <a:pt x="0" y="1"/>
                    </a:lnTo>
                    <a:lnTo>
                      <a:pt x="9" y="0"/>
                    </a:lnTo>
                    <a:lnTo>
                      <a:pt x="15" y="3"/>
                    </a:lnTo>
                    <a:lnTo>
                      <a:pt x="19" y="10"/>
                    </a:lnTo>
                    <a:lnTo>
                      <a:pt x="18" y="19"/>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8" name=""/>
              <p:cNvSpPr/>
              <p:nvPr/>
            </p:nvSpPr>
            <p:spPr>
              <a:xfrm>
                <a:off x="6994440" y="2700360"/>
                <a:ext cx="12960" cy="14400"/>
              </a:xfrm>
              <a:custGeom>
                <a:avLst/>
                <a:gdLst/>
                <a:ahLst/>
                <a:rect l="l" t="t" r="r" b="b"/>
                <a:pathLst>
                  <a:path w="24" h="25">
                    <a:moveTo>
                      <a:pt x="7" y="25"/>
                    </a:moveTo>
                    <a:lnTo>
                      <a:pt x="0" y="3"/>
                    </a:lnTo>
                    <a:lnTo>
                      <a:pt x="7" y="0"/>
                    </a:lnTo>
                    <a:lnTo>
                      <a:pt x="13" y="2"/>
                    </a:lnTo>
                    <a:lnTo>
                      <a:pt x="19" y="7"/>
                    </a:lnTo>
                    <a:lnTo>
                      <a:pt x="24" y="13"/>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9" name=""/>
              <p:cNvSpPr/>
              <p:nvPr/>
            </p:nvSpPr>
            <p:spPr>
              <a:xfrm>
                <a:off x="8034480" y="2676600"/>
                <a:ext cx="7920" cy="11160"/>
              </a:xfrm>
              <a:custGeom>
                <a:avLst/>
                <a:gdLst/>
                <a:ahLst/>
                <a:rect l="l" t="t" r="r" b="b"/>
                <a:pathLst>
                  <a:path w="15" h="19">
                    <a:moveTo>
                      <a:pt x="2" y="19"/>
                    </a:moveTo>
                    <a:lnTo>
                      <a:pt x="0" y="0"/>
                    </a:lnTo>
                    <a:lnTo>
                      <a:pt x="5" y="0"/>
                    </a:lnTo>
                    <a:lnTo>
                      <a:pt x="11" y="3"/>
                    </a:lnTo>
                    <a:lnTo>
                      <a:pt x="15" y="9"/>
                    </a:lnTo>
                    <a:lnTo>
                      <a:pt x="13" y="19"/>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0" name=""/>
              <p:cNvSpPr/>
              <p:nvPr/>
            </p:nvSpPr>
            <p:spPr>
              <a:xfrm>
                <a:off x="7094520" y="2679840"/>
                <a:ext cx="9720" cy="14040"/>
              </a:xfrm>
              <a:custGeom>
                <a:avLst/>
                <a:gdLst/>
                <a:ahLst/>
                <a:rect l="l" t="t" r="r" b="b"/>
                <a:pathLst>
                  <a:path w="18" h="26">
                    <a:moveTo>
                      <a:pt x="10" y="26"/>
                    </a:moveTo>
                    <a:lnTo>
                      <a:pt x="3" y="23"/>
                    </a:lnTo>
                    <a:lnTo>
                      <a:pt x="0" y="16"/>
                    </a:lnTo>
                    <a:lnTo>
                      <a:pt x="0" y="7"/>
                    </a:lnTo>
                    <a:lnTo>
                      <a:pt x="6" y="0"/>
                    </a:lnTo>
                    <a:lnTo>
                      <a:pt x="12" y="5"/>
                    </a:lnTo>
                    <a:lnTo>
                      <a:pt x="18" y="13"/>
                    </a:lnTo>
                    <a:lnTo>
                      <a:pt x="18" y="22"/>
                    </a:lnTo>
                    <a:lnTo>
                      <a:pt x="1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51" name=""/>
              <p:cNvSpPr/>
              <p:nvPr/>
            </p:nvSpPr>
            <p:spPr>
              <a:xfrm>
                <a:off x="7439040" y="2662200"/>
                <a:ext cx="9360" cy="14400"/>
              </a:xfrm>
              <a:custGeom>
                <a:avLst/>
                <a:gdLst/>
                <a:ahLst/>
                <a:rect l="l" t="t" r="r" b="b"/>
                <a:pathLst>
                  <a:path w="17" h="25">
                    <a:moveTo>
                      <a:pt x="7" y="25"/>
                    </a:moveTo>
                    <a:lnTo>
                      <a:pt x="0" y="9"/>
                    </a:lnTo>
                    <a:lnTo>
                      <a:pt x="16" y="0"/>
                    </a:lnTo>
                    <a:lnTo>
                      <a:pt x="17" y="6"/>
                    </a:lnTo>
                    <a:lnTo>
                      <a:pt x="17" y="13"/>
                    </a:lnTo>
                    <a:lnTo>
                      <a:pt x="14" y="20"/>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2" name=""/>
              <p:cNvSpPr/>
              <p:nvPr/>
            </p:nvSpPr>
            <p:spPr>
              <a:xfrm>
                <a:off x="7034040" y="2665440"/>
                <a:ext cx="9720" cy="11160"/>
              </a:xfrm>
              <a:custGeom>
                <a:avLst/>
                <a:gdLst/>
                <a:ahLst/>
                <a:rect l="l" t="t" r="r" b="b"/>
                <a:pathLst>
                  <a:path w="18" h="23">
                    <a:moveTo>
                      <a:pt x="3" y="23"/>
                    </a:moveTo>
                    <a:lnTo>
                      <a:pt x="0" y="0"/>
                    </a:lnTo>
                    <a:lnTo>
                      <a:pt x="8" y="0"/>
                    </a:lnTo>
                    <a:lnTo>
                      <a:pt x="15" y="3"/>
                    </a:lnTo>
                    <a:lnTo>
                      <a:pt x="18" y="9"/>
                    </a:lnTo>
                    <a:lnTo>
                      <a:pt x="18" y="16"/>
                    </a:lnTo>
                    <a:lnTo>
                      <a:pt x="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3" name=""/>
              <p:cNvSpPr/>
              <p:nvPr/>
            </p:nvSpPr>
            <p:spPr>
              <a:xfrm>
                <a:off x="7218360" y="2649600"/>
                <a:ext cx="12600" cy="12600"/>
              </a:xfrm>
              <a:custGeom>
                <a:avLst/>
                <a:gdLst/>
                <a:ahLst/>
                <a:rect l="l" t="t" r="r" b="b"/>
                <a:pathLst>
                  <a:path w="26" h="25">
                    <a:moveTo>
                      <a:pt x="10" y="25"/>
                    </a:moveTo>
                    <a:lnTo>
                      <a:pt x="0" y="8"/>
                    </a:lnTo>
                    <a:lnTo>
                      <a:pt x="9" y="0"/>
                    </a:lnTo>
                    <a:lnTo>
                      <a:pt x="26" y="15"/>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
              <p:cNvSpPr/>
              <p:nvPr/>
            </p:nvSpPr>
            <p:spPr>
              <a:xfrm>
                <a:off x="8051760" y="2630520"/>
                <a:ext cx="7920" cy="11160"/>
              </a:xfrm>
              <a:custGeom>
                <a:avLst/>
                <a:gdLst/>
                <a:ahLst/>
                <a:rect l="l" t="t" r="r" b="b"/>
                <a:pathLst>
                  <a:path w="16" h="22">
                    <a:moveTo>
                      <a:pt x="3" y="22"/>
                    </a:moveTo>
                    <a:lnTo>
                      <a:pt x="0" y="1"/>
                    </a:lnTo>
                    <a:lnTo>
                      <a:pt x="5" y="0"/>
                    </a:lnTo>
                    <a:lnTo>
                      <a:pt x="10" y="3"/>
                    </a:lnTo>
                    <a:lnTo>
                      <a:pt x="15" y="7"/>
                    </a:lnTo>
                    <a:lnTo>
                      <a:pt x="16" y="14"/>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5" name=""/>
              <p:cNvSpPr/>
              <p:nvPr/>
            </p:nvSpPr>
            <p:spPr>
              <a:xfrm>
                <a:off x="7304040" y="2635200"/>
                <a:ext cx="11160" cy="11160"/>
              </a:xfrm>
              <a:custGeom>
                <a:avLst/>
                <a:gdLst/>
                <a:ahLst/>
                <a:rect l="l" t="t" r="r" b="b"/>
                <a:pathLst>
                  <a:path w="23" h="23">
                    <a:moveTo>
                      <a:pt x="4" y="23"/>
                    </a:moveTo>
                    <a:lnTo>
                      <a:pt x="0" y="2"/>
                    </a:lnTo>
                    <a:lnTo>
                      <a:pt x="6" y="0"/>
                    </a:lnTo>
                    <a:lnTo>
                      <a:pt x="13" y="1"/>
                    </a:lnTo>
                    <a:lnTo>
                      <a:pt x="19" y="7"/>
                    </a:lnTo>
                    <a:lnTo>
                      <a:pt x="23" y="15"/>
                    </a:lnTo>
                    <a:lnTo>
                      <a:pt x="4"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6" name=""/>
              <p:cNvSpPr/>
              <p:nvPr/>
            </p:nvSpPr>
            <p:spPr>
              <a:xfrm>
                <a:off x="7373880" y="2635200"/>
                <a:ext cx="9720" cy="11160"/>
              </a:xfrm>
              <a:custGeom>
                <a:avLst/>
                <a:gdLst/>
                <a:ahLst/>
                <a:rect l="l" t="t" r="r" b="b"/>
                <a:pathLst>
                  <a:path w="18" h="21">
                    <a:moveTo>
                      <a:pt x="0" y="21"/>
                    </a:moveTo>
                    <a:lnTo>
                      <a:pt x="0" y="1"/>
                    </a:lnTo>
                    <a:lnTo>
                      <a:pt x="9" y="0"/>
                    </a:lnTo>
                    <a:lnTo>
                      <a:pt x="15" y="2"/>
                    </a:lnTo>
                    <a:lnTo>
                      <a:pt x="18" y="10"/>
                    </a:lnTo>
                    <a:lnTo>
                      <a:pt x="15"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7" name=""/>
              <p:cNvSpPr/>
              <p:nvPr/>
            </p:nvSpPr>
            <p:spPr>
              <a:xfrm>
                <a:off x="7480440" y="2606760"/>
                <a:ext cx="12600" cy="11160"/>
              </a:xfrm>
              <a:custGeom>
                <a:avLst/>
                <a:gdLst/>
                <a:ahLst/>
                <a:rect l="l" t="t" r="r" b="b"/>
                <a:pathLst>
                  <a:path w="23" h="22">
                    <a:moveTo>
                      <a:pt x="15" y="22"/>
                    </a:moveTo>
                    <a:lnTo>
                      <a:pt x="6" y="20"/>
                    </a:lnTo>
                    <a:lnTo>
                      <a:pt x="1" y="14"/>
                    </a:lnTo>
                    <a:lnTo>
                      <a:pt x="0" y="7"/>
                    </a:lnTo>
                    <a:lnTo>
                      <a:pt x="1" y="0"/>
                    </a:lnTo>
                    <a:lnTo>
                      <a:pt x="23" y="3"/>
                    </a:lnTo>
                    <a:lnTo>
                      <a:pt x="15"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8" name=""/>
              <p:cNvSpPr/>
              <p:nvPr/>
            </p:nvSpPr>
            <p:spPr>
              <a:xfrm>
                <a:off x="7104240" y="2606760"/>
                <a:ext cx="10800" cy="11160"/>
              </a:xfrm>
              <a:custGeom>
                <a:avLst/>
                <a:gdLst/>
                <a:ahLst/>
                <a:rect l="l" t="t" r="r" b="b"/>
                <a:pathLst>
                  <a:path w="19" h="21">
                    <a:moveTo>
                      <a:pt x="9" y="21"/>
                    </a:moveTo>
                    <a:lnTo>
                      <a:pt x="0" y="2"/>
                    </a:lnTo>
                    <a:lnTo>
                      <a:pt x="6" y="0"/>
                    </a:lnTo>
                    <a:lnTo>
                      <a:pt x="12" y="2"/>
                    </a:lnTo>
                    <a:lnTo>
                      <a:pt x="17" y="6"/>
                    </a:lnTo>
                    <a:lnTo>
                      <a:pt x="19" y="13"/>
                    </a:lnTo>
                    <a:lnTo>
                      <a:pt x="9"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9" name=""/>
              <p:cNvSpPr/>
              <p:nvPr/>
            </p:nvSpPr>
            <p:spPr>
              <a:xfrm>
                <a:off x="7161120" y="2593800"/>
                <a:ext cx="12960" cy="14400"/>
              </a:xfrm>
              <a:custGeom>
                <a:avLst/>
                <a:gdLst/>
                <a:ahLst/>
                <a:rect l="l" t="t" r="r" b="b"/>
                <a:pathLst>
                  <a:path w="24" h="26">
                    <a:moveTo>
                      <a:pt x="6" y="26"/>
                    </a:moveTo>
                    <a:lnTo>
                      <a:pt x="0" y="22"/>
                    </a:lnTo>
                    <a:lnTo>
                      <a:pt x="0" y="13"/>
                    </a:lnTo>
                    <a:lnTo>
                      <a:pt x="5" y="4"/>
                    </a:lnTo>
                    <a:lnTo>
                      <a:pt x="14" y="0"/>
                    </a:lnTo>
                    <a:lnTo>
                      <a:pt x="24" y="24"/>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0" name=""/>
              <p:cNvSpPr/>
              <p:nvPr/>
            </p:nvSpPr>
            <p:spPr>
              <a:xfrm>
                <a:off x="7257960" y="2583000"/>
                <a:ext cx="11160" cy="9360"/>
              </a:xfrm>
              <a:custGeom>
                <a:avLst/>
                <a:gdLst/>
                <a:ahLst/>
                <a:rect l="l" t="t" r="r" b="b"/>
                <a:pathLst>
                  <a:path w="20" h="18">
                    <a:moveTo>
                      <a:pt x="5" y="18"/>
                    </a:moveTo>
                    <a:lnTo>
                      <a:pt x="0" y="0"/>
                    </a:lnTo>
                    <a:lnTo>
                      <a:pt x="5" y="0"/>
                    </a:lnTo>
                    <a:lnTo>
                      <a:pt x="13" y="3"/>
                    </a:lnTo>
                    <a:lnTo>
                      <a:pt x="17" y="7"/>
                    </a:lnTo>
                    <a:lnTo>
                      <a:pt x="20" y="16"/>
                    </a:lnTo>
                    <a:lnTo>
                      <a:pt x="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1" name=""/>
              <p:cNvSpPr/>
              <p:nvPr/>
            </p:nvSpPr>
            <p:spPr>
              <a:xfrm>
                <a:off x="6991200" y="2571840"/>
                <a:ext cx="7920" cy="11160"/>
              </a:xfrm>
              <a:custGeom>
                <a:avLst/>
                <a:gdLst/>
                <a:ahLst/>
                <a:rect l="l" t="t" r="r" b="b"/>
                <a:pathLst>
                  <a:path w="15" h="21">
                    <a:moveTo>
                      <a:pt x="5" y="21"/>
                    </a:moveTo>
                    <a:lnTo>
                      <a:pt x="0" y="0"/>
                    </a:lnTo>
                    <a:lnTo>
                      <a:pt x="8" y="2"/>
                    </a:lnTo>
                    <a:lnTo>
                      <a:pt x="15" y="10"/>
                    </a:lnTo>
                    <a:lnTo>
                      <a:pt x="15" y="17"/>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2" name=""/>
              <p:cNvSpPr/>
              <p:nvPr/>
            </p:nvSpPr>
            <p:spPr>
              <a:xfrm>
                <a:off x="7332840" y="2563920"/>
                <a:ext cx="10800" cy="12600"/>
              </a:xfrm>
              <a:custGeom>
                <a:avLst/>
                <a:gdLst/>
                <a:ahLst/>
                <a:rect l="l" t="t" r="r" b="b"/>
                <a:pathLst>
                  <a:path w="23" h="23">
                    <a:moveTo>
                      <a:pt x="8" y="23"/>
                    </a:moveTo>
                    <a:lnTo>
                      <a:pt x="0" y="1"/>
                    </a:lnTo>
                    <a:lnTo>
                      <a:pt x="10" y="0"/>
                    </a:lnTo>
                    <a:lnTo>
                      <a:pt x="17" y="1"/>
                    </a:lnTo>
                    <a:lnTo>
                      <a:pt x="23" y="7"/>
                    </a:lnTo>
                    <a:lnTo>
                      <a:pt x="23" y="17"/>
                    </a:lnTo>
                    <a:lnTo>
                      <a:pt x="8"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3" name=""/>
              <p:cNvSpPr/>
              <p:nvPr/>
            </p:nvSpPr>
            <p:spPr>
              <a:xfrm>
                <a:off x="7464600" y="2550960"/>
                <a:ext cx="14040" cy="11160"/>
              </a:xfrm>
              <a:custGeom>
                <a:avLst/>
                <a:gdLst/>
                <a:ahLst/>
                <a:rect l="l" t="t" r="r" b="b"/>
                <a:pathLst>
                  <a:path w="25" h="19">
                    <a:moveTo>
                      <a:pt x="7" y="19"/>
                    </a:moveTo>
                    <a:lnTo>
                      <a:pt x="0" y="3"/>
                    </a:lnTo>
                    <a:lnTo>
                      <a:pt x="7" y="0"/>
                    </a:lnTo>
                    <a:lnTo>
                      <a:pt x="15" y="2"/>
                    </a:lnTo>
                    <a:lnTo>
                      <a:pt x="22" y="8"/>
                    </a:lnTo>
                    <a:lnTo>
                      <a:pt x="25" y="15"/>
                    </a:lnTo>
                    <a:lnTo>
                      <a:pt x="7"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4" name=""/>
              <p:cNvSpPr/>
              <p:nvPr/>
            </p:nvSpPr>
            <p:spPr>
              <a:xfrm>
                <a:off x="7732800" y="2232000"/>
                <a:ext cx="460440" cy="311040"/>
              </a:xfrm>
              <a:custGeom>
                <a:avLst/>
                <a:gdLst/>
                <a:ahLst/>
                <a:rect l="l" t="t" r="r" b="b"/>
                <a:pathLst>
                  <a:path w="869" h="588">
                    <a:moveTo>
                      <a:pt x="663" y="588"/>
                    </a:moveTo>
                    <a:lnTo>
                      <a:pt x="657" y="587"/>
                    </a:lnTo>
                    <a:lnTo>
                      <a:pt x="650" y="585"/>
                    </a:lnTo>
                    <a:lnTo>
                      <a:pt x="642" y="585"/>
                    </a:lnTo>
                    <a:lnTo>
                      <a:pt x="635" y="584"/>
                    </a:lnTo>
                    <a:lnTo>
                      <a:pt x="628" y="584"/>
                    </a:lnTo>
                    <a:lnTo>
                      <a:pt x="621" y="582"/>
                    </a:lnTo>
                    <a:lnTo>
                      <a:pt x="613" y="579"/>
                    </a:lnTo>
                    <a:lnTo>
                      <a:pt x="608" y="575"/>
                    </a:lnTo>
                    <a:lnTo>
                      <a:pt x="618" y="555"/>
                    </a:lnTo>
                    <a:lnTo>
                      <a:pt x="629" y="535"/>
                    </a:lnTo>
                    <a:lnTo>
                      <a:pt x="642" y="514"/>
                    </a:lnTo>
                    <a:lnTo>
                      <a:pt x="654" y="493"/>
                    </a:lnTo>
                    <a:lnTo>
                      <a:pt x="664" y="471"/>
                    </a:lnTo>
                    <a:lnTo>
                      <a:pt x="671" y="448"/>
                    </a:lnTo>
                    <a:lnTo>
                      <a:pt x="677" y="422"/>
                    </a:lnTo>
                    <a:lnTo>
                      <a:pt x="678" y="396"/>
                    </a:lnTo>
                    <a:lnTo>
                      <a:pt x="671" y="383"/>
                    </a:lnTo>
                    <a:lnTo>
                      <a:pt x="663" y="370"/>
                    </a:lnTo>
                    <a:lnTo>
                      <a:pt x="651" y="357"/>
                    </a:lnTo>
                    <a:lnTo>
                      <a:pt x="638" y="345"/>
                    </a:lnTo>
                    <a:lnTo>
                      <a:pt x="628" y="341"/>
                    </a:lnTo>
                    <a:lnTo>
                      <a:pt x="619" y="337"/>
                    </a:lnTo>
                    <a:lnTo>
                      <a:pt x="609" y="334"/>
                    </a:lnTo>
                    <a:lnTo>
                      <a:pt x="597" y="335"/>
                    </a:lnTo>
                    <a:lnTo>
                      <a:pt x="597" y="318"/>
                    </a:lnTo>
                    <a:lnTo>
                      <a:pt x="597" y="301"/>
                    </a:lnTo>
                    <a:lnTo>
                      <a:pt x="597" y="282"/>
                    </a:lnTo>
                    <a:lnTo>
                      <a:pt x="596" y="263"/>
                    </a:lnTo>
                    <a:lnTo>
                      <a:pt x="593" y="256"/>
                    </a:lnTo>
                    <a:lnTo>
                      <a:pt x="590" y="249"/>
                    </a:lnTo>
                    <a:lnTo>
                      <a:pt x="586" y="241"/>
                    </a:lnTo>
                    <a:lnTo>
                      <a:pt x="580" y="234"/>
                    </a:lnTo>
                    <a:lnTo>
                      <a:pt x="560" y="217"/>
                    </a:lnTo>
                    <a:lnTo>
                      <a:pt x="548" y="214"/>
                    </a:lnTo>
                    <a:lnTo>
                      <a:pt x="538" y="211"/>
                    </a:lnTo>
                    <a:lnTo>
                      <a:pt x="527" y="211"/>
                    </a:lnTo>
                    <a:lnTo>
                      <a:pt x="516" y="211"/>
                    </a:lnTo>
                    <a:lnTo>
                      <a:pt x="505" y="212"/>
                    </a:lnTo>
                    <a:lnTo>
                      <a:pt x="495" y="217"/>
                    </a:lnTo>
                    <a:lnTo>
                      <a:pt x="485" y="221"/>
                    </a:lnTo>
                    <a:lnTo>
                      <a:pt x="475" y="227"/>
                    </a:lnTo>
                    <a:lnTo>
                      <a:pt x="472" y="218"/>
                    </a:lnTo>
                    <a:lnTo>
                      <a:pt x="473" y="211"/>
                    </a:lnTo>
                    <a:lnTo>
                      <a:pt x="475" y="202"/>
                    </a:lnTo>
                    <a:lnTo>
                      <a:pt x="475" y="194"/>
                    </a:lnTo>
                    <a:lnTo>
                      <a:pt x="472" y="182"/>
                    </a:lnTo>
                    <a:lnTo>
                      <a:pt x="467" y="172"/>
                    </a:lnTo>
                    <a:lnTo>
                      <a:pt x="460" y="162"/>
                    </a:lnTo>
                    <a:lnTo>
                      <a:pt x="453" y="153"/>
                    </a:lnTo>
                    <a:lnTo>
                      <a:pt x="431" y="136"/>
                    </a:lnTo>
                    <a:lnTo>
                      <a:pt x="424" y="132"/>
                    </a:lnTo>
                    <a:lnTo>
                      <a:pt x="415" y="129"/>
                    </a:lnTo>
                    <a:lnTo>
                      <a:pt x="407" y="127"/>
                    </a:lnTo>
                    <a:lnTo>
                      <a:pt x="398" y="126"/>
                    </a:lnTo>
                    <a:lnTo>
                      <a:pt x="388" y="124"/>
                    </a:lnTo>
                    <a:lnTo>
                      <a:pt x="378" y="124"/>
                    </a:lnTo>
                    <a:lnTo>
                      <a:pt x="369" y="124"/>
                    </a:lnTo>
                    <a:lnTo>
                      <a:pt x="359" y="126"/>
                    </a:lnTo>
                    <a:lnTo>
                      <a:pt x="353" y="127"/>
                    </a:lnTo>
                    <a:lnTo>
                      <a:pt x="347" y="133"/>
                    </a:lnTo>
                    <a:lnTo>
                      <a:pt x="339" y="137"/>
                    </a:lnTo>
                    <a:lnTo>
                      <a:pt x="330" y="140"/>
                    </a:lnTo>
                    <a:lnTo>
                      <a:pt x="330" y="130"/>
                    </a:lnTo>
                    <a:lnTo>
                      <a:pt x="329" y="121"/>
                    </a:lnTo>
                    <a:lnTo>
                      <a:pt x="327" y="113"/>
                    </a:lnTo>
                    <a:lnTo>
                      <a:pt x="323" y="106"/>
                    </a:lnTo>
                    <a:lnTo>
                      <a:pt x="317" y="98"/>
                    </a:lnTo>
                    <a:lnTo>
                      <a:pt x="308" y="95"/>
                    </a:lnTo>
                    <a:lnTo>
                      <a:pt x="301" y="93"/>
                    </a:lnTo>
                    <a:lnTo>
                      <a:pt x="292" y="91"/>
                    </a:lnTo>
                    <a:lnTo>
                      <a:pt x="285" y="90"/>
                    </a:lnTo>
                    <a:lnTo>
                      <a:pt x="278" y="88"/>
                    </a:lnTo>
                    <a:lnTo>
                      <a:pt x="269" y="85"/>
                    </a:lnTo>
                    <a:lnTo>
                      <a:pt x="262" y="82"/>
                    </a:lnTo>
                    <a:lnTo>
                      <a:pt x="253" y="78"/>
                    </a:lnTo>
                    <a:lnTo>
                      <a:pt x="243" y="80"/>
                    </a:lnTo>
                    <a:lnTo>
                      <a:pt x="237" y="81"/>
                    </a:lnTo>
                    <a:lnTo>
                      <a:pt x="232" y="82"/>
                    </a:lnTo>
                    <a:lnTo>
                      <a:pt x="226" y="85"/>
                    </a:lnTo>
                    <a:lnTo>
                      <a:pt x="221" y="88"/>
                    </a:lnTo>
                    <a:lnTo>
                      <a:pt x="217" y="91"/>
                    </a:lnTo>
                    <a:lnTo>
                      <a:pt x="211" y="95"/>
                    </a:lnTo>
                    <a:lnTo>
                      <a:pt x="206" y="100"/>
                    </a:lnTo>
                    <a:lnTo>
                      <a:pt x="200" y="104"/>
                    </a:lnTo>
                    <a:lnTo>
                      <a:pt x="190" y="103"/>
                    </a:lnTo>
                    <a:lnTo>
                      <a:pt x="168" y="121"/>
                    </a:lnTo>
                    <a:lnTo>
                      <a:pt x="146" y="140"/>
                    </a:lnTo>
                    <a:lnTo>
                      <a:pt x="123" y="162"/>
                    </a:lnTo>
                    <a:lnTo>
                      <a:pt x="101" y="184"/>
                    </a:lnTo>
                    <a:lnTo>
                      <a:pt x="78" y="205"/>
                    </a:lnTo>
                    <a:lnTo>
                      <a:pt x="55" y="228"/>
                    </a:lnTo>
                    <a:lnTo>
                      <a:pt x="32" y="251"/>
                    </a:lnTo>
                    <a:lnTo>
                      <a:pt x="9" y="275"/>
                    </a:lnTo>
                    <a:lnTo>
                      <a:pt x="0" y="264"/>
                    </a:lnTo>
                    <a:lnTo>
                      <a:pt x="15" y="230"/>
                    </a:lnTo>
                    <a:lnTo>
                      <a:pt x="29" y="198"/>
                    </a:lnTo>
                    <a:lnTo>
                      <a:pt x="47" y="166"/>
                    </a:lnTo>
                    <a:lnTo>
                      <a:pt x="65" y="137"/>
                    </a:lnTo>
                    <a:lnTo>
                      <a:pt x="84" y="108"/>
                    </a:lnTo>
                    <a:lnTo>
                      <a:pt x="107" y="80"/>
                    </a:lnTo>
                    <a:lnTo>
                      <a:pt x="130" y="51"/>
                    </a:lnTo>
                    <a:lnTo>
                      <a:pt x="156" y="22"/>
                    </a:lnTo>
                    <a:lnTo>
                      <a:pt x="164" y="17"/>
                    </a:lnTo>
                    <a:lnTo>
                      <a:pt x="171" y="12"/>
                    </a:lnTo>
                    <a:lnTo>
                      <a:pt x="178" y="6"/>
                    </a:lnTo>
                    <a:lnTo>
                      <a:pt x="188" y="2"/>
                    </a:lnTo>
                    <a:lnTo>
                      <a:pt x="200" y="0"/>
                    </a:lnTo>
                    <a:lnTo>
                      <a:pt x="211" y="0"/>
                    </a:lnTo>
                    <a:lnTo>
                      <a:pt x="224" y="2"/>
                    </a:lnTo>
                    <a:lnTo>
                      <a:pt x="236" y="3"/>
                    </a:lnTo>
                    <a:lnTo>
                      <a:pt x="248" y="6"/>
                    </a:lnTo>
                    <a:lnTo>
                      <a:pt x="259" y="10"/>
                    </a:lnTo>
                    <a:lnTo>
                      <a:pt x="271" y="13"/>
                    </a:lnTo>
                    <a:lnTo>
                      <a:pt x="282" y="16"/>
                    </a:lnTo>
                    <a:lnTo>
                      <a:pt x="300" y="22"/>
                    </a:lnTo>
                    <a:lnTo>
                      <a:pt x="317" y="28"/>
                    </a:lnTo>
                    <a:lnTo>
                      <a:pt x="336" y="32"/>
                    </a:lnTo>
                    <a:lnTo>
                      <a:pt x="353" y="38"/>
                    </a:lnTo>
                    <a:lnTo>
                      <a:pt x="370" y="43"/>
                    </a:lnTo>
                    <a:lnTo>
                      <a:pt x="389" y="51"/>
                    </a:lnTo>
                    <a:lnTo>
                      <a:pt x="407" y="56"/>
                    </a:lnTo>
                    <a:lnTo>
                      <a:pt x="425" y="62"/>
                    </a:lnTo>
                    <a:lnTo>
                      <a:pt x="444" y="68"/>
                    </a:lnTo>
                    <a:lnTo>
                      <a:pt x="462" y="75"/>
                    </a:lnTo>
                    <a:lnTo>
                      <a:pt x="480" y="81"/>
                    </a:lnTo>
                    <a:lnTo>
                      <a:pt x="498" y="88"/>
                    </a:lnTo>
                    <a:lnTo>
                      <a:pt x="515" y="95"/>
                    </a:lnTo>
                    <a:lnTo>
                      <a:pt x="534" y="103"/>
                    </a:lnTo>
                    <a:lnTo>
                      <a:pt x="551" y="110"/>
                    </a:lnTo>
                    <a:lnTo>
                      <a:pt x="569" y="117"/>
                    </a:lnTo>
                    <a:lnTo>
                      <a:pt x="586" y="120"/>
                    </a:lnTo>
                    <a:lnTo>
                      <a:pt x="603" y="124"/>
                    </a:lnTo>
                    <a:lnTo>
                      <a:pt x="621" y="127"/>
                    </a:lnTo>
                    <a:lnTo>
                      <a:pt x="637" y="132"/>
                    </a:lnTo>
                    <a:lnTo>
                      <a:pt x="652" y="137"/>
                    </a:lnTo>
                    <a:lnTo>
                      <a:pt x="668" y="142"/>
                    </a:lnTo>
                    <a:lnTo>
                      <a:pt x="686" y="147"/>
                    </a:lnTo>
                    <a:lnTo>
                      <a:pt x="702" y="152"/>
                    </a:lnTo>
                    <a:lnTo>
                      <a:pt x="717" y="158"/>
                    </a:lnTo>
                    <a:lnTo>
                      <a:pt x="733" y="163"/>
                    </a:lnTo>
                    <a:lnTo>
                      <a:pt x="749" y="169"/>
                    </a:lnTo>
                    <a:lnTo>
                      <a:pt x="765" y="175"/>
                    </a:lnTo>
                    <a:lnTo>
                      <a:pt x="781" y="182"/>
                    </a:lnTo>
                    <a:lnTo>
                      <a:pt x="797" y="188"/>
                    </a:lnTo>
                    <a:lnTo>
                      <a:pt x="813" y="194"/>
                    </a:lnTo>
                    <a:lnTo>
                      <a:pt x="830" y="199"/>
                    </a:lnTo>
                    <a:lnTo>
                      <a:pt x="838" y="210"/>
                    </a:lnTo>
                    <a:lnTo>
                      <a:pt x="819" y="251"/>
                    </a:lnTo>
                    <a:lnTo>
                      <a:pt x="797" y="290"/>
                    </a:lnTo>
                    <a:lnTo>
                      <a:pt x="772" y="328"/>
                    </a:lnTo>
                    <a:lnTo>
                      <a:pt x="749" y="366"/>
                    </a:lnTo>
                    <a:lnTo>
                      <a:pt x="725" y="405"/>
                    </a:lnTo>
                    <a:lnTo>
                      <a:pt x="703" y="445"/>
                    </a:lnTo>
                    <a:lnTo>
                      <a:pt x="684" y="488"/>
                    </a:lnTo>
                    <a:lnTo>
                      <a:pt x="668" y="538"/>
                    </a:lnTo>
                    <a:lnTo>
                      <a:pt x="687" y="555"/>
                    </a:lnTo>
                    <a:lnTo>
                      <a:pt x="697" y="545"/>
                    </a:lnTo>
                    <a:lnTo>
                      <a:pt x="699" y="523"/>
                    </a:lnTo>
                    <a:lnTo>
                      <a:pt x="710" y="496"/>
                    </a:lnTo>
                    <a:lnTo>
                      <a:pt x="722" y="470"/>
                    </a:lnTo>
                    <a:lnTo>
                      <a:pt x="735" y="444"/>
                    </a:lnTo>
                    <a:lnTo>
                      <a:pt x="749" y="419"/>
                    </a:lnTo>
                    <a:lnTo>
                      <a:pt x="764" y="395"/>
                    </a:lnTo>
                    <a:lnTo>
                      <a:pt x="778" y="371"/>
                    </a:lnTo>
                    <a:lnTo>
                      <a:pt x="793" y="347"/>
                    </a:lnTo>
                    <a:lnTo>
                      <a:pt x="809" y="322"/>
                    </a:lnTo>
                    <a:lnTo>
                      <a:pt x="814" y="312"/>
                    </a:lnTo>
                    <a:lnTo>
                      <a:pt x="819" y="302"/>
                    </a:lnTo>
                    <a:lnTo>
                      <a:pt x="826" y="290"/>
                    </a:lnTo>
                    <a:lnTo>
                      <a:pt x="832" y="280"/>
                    </a:lnTo>
                    <a:lnTo>
                      <a:pt x="839" y="269"/>
                    </a:lnTo>
                    <a:lnTo>
                      <a:pt x="845" y="259"/>
                    </a:lnTo>
                    <a:lnTo>
                      <a:pt x="852" y="247"/>
                    </a:lnTo>
                    <a:lnTo>
                      <a:pt x="859" y="237"/>
                    </a:lnTo>
                    <a:lnTo>
                      <a:pt x="869" y="251"/>
                    </a:lnTo>
                    <a:lnTo>
                      <a:pt x="865" y="272"/>
                    </a:lnTo>
                    <a:lnTo>
                      <a:pt x="858" y="298"/>
                    </a:lnTo>
                    <a:lnTo>
                      <a:pt x="849" y="322"/>
                    </a:lnTo>
                    <a:lnTo>
                      <a:pt x="840" y="344"/>
                    </a:lnTo>
                    <a:lnTo>
                      <a:pt x="830" y="363"/>
                    </a:lnTo>
                    <a:lnTo>
                      <a:pt x="819" y="383"/>
                    </a:lnTo>
                    <a:lnTo>
                      <a:pt x="809" y="402"/>
                    </a:lnTo>
                    <a:lnTo>
                      <a:pt x="798" y="422"/>
                    </a:lnTo>
                    <a:lnTo>
                      <a:pt x="787" y="442"/>
                    </a:lnTo>
                    <a:lnTo>
                      <a:pt x="777" y="462"/>
                    </a:lnTo>
                    <a:lnTo>
                      <a:pt x="767" y="483"/>
                    </a:lnTo>
                    <a:lnTo>
                      <a:pt x="757" y="503"/>
                    </a:lnTo>
                    <a:lnTo>
                      <a:pt x="757" y="514"/>
                    </a:lnTo>
                    <a:lnTo>
                      <a:pt x="749" y="520"/>
                    </a:lnTo>
                    <a:lnTo>
                      <a:pt x="741" y="527"/>
                    </a:lnTo>
                    <a:lnTo>
                      <a:pt x="733" y="535"/>
                    </a:lnTo>
                    <a:lnTo>
                      <a:pt x="726" y="543"/>
                    </a:lnTo>
                    <a:lnTo>
                      <a:pt x="719" y="552"/>
                    </a:lnTo>
                    <a:lnTo>
                      <a:pt x="712" y="561"/>
                    </a:lnTo>
                    <a:lnTo>
                      <a:pt x="704" y="571"/>
                    </a:lnTo>
                    <a:lnTo>
                      <a:pt x="697" y="581"/>
                    </a:lnTo>
                    <a:lnTo>
                      <a:pt x="689" y="582"/>
                    </a:lnTo>
                    <a:lnTo>
                      <a:pt x="680" y="584"/>
                    </a:lnTo>
                    <a:lnTo>
                      <a:pt x="671" y="587"/>
                    </a:lnTo>
                    <a:lnTo>
                      <a:pt x="663" y="5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056360" y="2535120"/>
                <a:ext cx="11160" cy="11160"/>
              </a:xfrm>
              <a:custGeom>
                <a:avLst/>
                <a:gdLst/>
                <a:ahLst/>
                <a:rect l="l" t="t" r="r" b="b"/>
                <a:pathLst>
                  <a:path w="21" h="21">
                    <a:moveTo>
                      <a:pt x="2" y="21"/>
                    </a:moveTo>
                    <a:lnTo>
                      <a:pt x="0" y="0"/>
                    </a:lnTo>
                    <a:lnTo>
                      <a:pt x="9" y="0"/>
                    </a:lnTo>
                    <a:lnTo>
                      <a:pt x="16" y="1"/>
                    </a:lnTo>
                    <a:lnTo>
                      <a:pt x="21" y="7"/>
                    </a:lnTo>
                    <a:lnTo>
                      <a:pt x="19" y="17"/>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6" name=""/>
              <p:cNvSpPr/>
              <p:nvPr/>
            </p:nvSpPr>
            <p:spPr>
              <a:xfrm>
                <a:off x="7122960" y="2536920"/>
                <a:ext cx="12960" cy="9360"/>
              </a:xfrm>
              <a:custGeom>
                <a:avLst/>
                <a:gdLst/>
                <a:ahLst/>
                <a:rect l="l" t="t" r="r" b="b"/>
                <a:pathLst>
                  <a:path w="23" h="18">
                    <a:moveTo>
                      <a:pt x="9" y="18"/>
                    </a:moveTo>
                    <a:lnTo>
                      <a:pt x="0" y="4"/>
                    </a:lnTo>
                    <a:lnTo>
                      <a:pt x="5" y="0"/>
                    </a:lnTo>
                    <a:lnTo>
                      <a:pt x="12" y="0"/>
                    </a:lnTo>
                    <a:lnTo>
                      <a:pt x="20" y="4"/>
                    </a:lnTo>
                    <a:lnTo>
                      <a:pt x="23" y="10"/>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7" name=""/>
              <p:cNvSpPr/>
              <p:nvPr/>
            </p:nvSpPr>
            <p:spPr>
              <a:xfrm>
                <a:off x="7385040" y="2513160"/>
                <a:ext cx="11160" cy="12600"/>
              </a:xfrm>
              <a:custGeom>
                <a:avLst/>
                <a:gdLst/>
                <a:ahLst/>
                <a:rect l="l" t="t" r="r" b="b"/>
                <a:pathLst>
                  <a:path w="21" h="23">
                    <a:moveTo>
                      <a:pt x="6" y="23"/>
                    </a:moveTo>
                    <a:lnTo>
                      <a:pt x="0" y="0"/>
                    </a:lnTo>
                    <a:lnTo>
                      <a:pt x="21" y="5"/>
                    </a:lnTo>
                    <a:lnTo>
                      <a:pt x="21" y="10"/>
                    </a:lnTo>
                    <a:lnTo>
                      <a:pt x="18" y="16"/>
                    </a:lnTo>
                    <a:lnTo>
                      <a:pt x="13" y="22"/>
                    </a:lnTo>
                    <a:lnTo>
                      <a:pt x="6"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8" name=""/>
              <p:cNvSpPr/>
              <p:nvPr/>
            </p:nvSpPr>
            <p:spPr>
              <a:xfrm>
                <a:off x="7302600" y="2508120"/>
                <a:ext cx="12600" cy="12960"/>
              </a:xfrm>
              <a:custGeom>
                <a:avLst/>
                <a:gdLst/>
                <a:ahLst/>
                <a:rect l="l" t="t" r="r" b="b"/>
                <a:pathLst>
                  <a:path w="26" h="25">
                    <a:moveTo>
                      <a:pt x="7" y="25"/>
                    </a:moveTo>
                    <a:lnTo>
                      <a:pt x="0" y="3"/>
                    </a:lnTo>
                    <a:lnTo>
                      <a:pt x="9" y="0"/>
                    </a:lnTo>
                    <a:lnTo>
                      <a:pt x="16" y="3"/>
                    </a:lnTo>
                    <a:lnTo>
                      <a:pt x="22" y="9"/>
                    </a:lnTo>
                    <a:lnTo>
                      <a:pt x="26" y="17"/>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69" name=""/>
              <p:cNvSpPr/>
              <p:nvPr/>
            </p:nvSpPr>
            <p:spPr>
              <a:xfrm>
                <a:off x="7191360" y="2509920"/>
                <a:ext cx="11160" cy="11160"/>
              </a:xfrm>
              <a:custGeom>
                <a:avLst/>
                <a:gdLst/>
                <a:ahLst/>
                <a:rect l="l" t="t" r="r" b="b"/>
                <a:pathLst>
                  <a:path w="22" h="21">
                    <a:moveTo>
                      <a:pt x="3" y="21"/>
                    </a:moveTo>
                    <a:lnTo>
                      <a:pt x="0" y="0"/>
                    </a:lnTo>
                    <a:lnTo>
                      <a:pt x="22" y="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0" name=""/>
              <p:cNvSpPr/>
              <p:nvPr/>
            </p:nvSpPr>
            <p:spPr>
              <a:xfrm>
                <a:off x="7488360" y="2494080"/>
                <a:ext cx="9360" cy="12600"/>
              </a:xfrm>
              <a:custGeom>
                <a:avLst/>
                <a:gdLst/>
                <a:ahLst/>
                <a:rect l="l" t="t" r="r" b="b"/>
                <a:pathLst>
                  <a:path w="17" h="23">
                    <a:moveTo>
                      <a:pt x="10" y="23"/>
                    </a:moveTo>
                    <a:lnTo>
                      <a:pt x="4" y="20"/>
                    </a:lnTo>
                    <a:lnTo>
                      <a:pt x="0" y="13"/>
                    </a:lnTo>
                    <a:lnTo>
                      <a:pt x="1" y="6"/>
                    </a:lnTo>
                    <a:lnTo>
                      <a:pt x="7" y="0"/>
                    </a:lnTo>
                    <a:lnTo>
                      <a:pt x="14" y="3"/>
                    </a:lnTo>
                    <a:lnTo>
                      <a:pt x="17" y="10"/>
                    </a:lnTo>
                    <a:lnTo>
                      <a:pt x="17" y="17"/>
                    </a:lnTo>
                    <a:lnTo>
                      <a:pt x="1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1" name=""/>
              <p:cNvSpPr/>
              <p:nvPr/>
            </p:nvSpPr>
            <p:spPr>
              <a:xfrm>
                <a:off x="7151760" y="2487600"/>
                <a:ext cx="11160" cy="12600"/>
              </a:xfrm>
              <a:custGeom>
                <a:avLst/>
                <a:gdLst/>
                <a:ahLst/>
                <a:rect l="l" t="t" r="r" b="b"/>
                <a:pathLst>
                  <a:path w="20" h="23">
                    <a:moveTo>
                      <a:pt x="1" y="23"/>
                    </a:moveTo>
                    <a:lnTo>
                      <a:pt x="0" y="0"/>
                    </a:lnTo>
                    <a:lnTo>
                      <a:pt x="20" y="10"/>
                    </a:lnTo>
                    <a:lnTo>
                      <a:pt x="20" y="17"/>
                    </a:lnTo>
                    <a:lnTo>
                      <a:pt x="16" y="20"/>
                    </a:lnTo>
                    <a:lnTo>
                      <a:pt x="10" y="20"/>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2" name=""/>
              <p:cNvSpPr/>
              <p:nvPr/>
            </p:nvSpPr>
            <p:spPr>
              <a:xfrm>
                <a:off x="7537320" y="2473200"/>
                <a:ext cx="14400" cy="12960"/>
              </a:xfrm>
              <a:custGeom>
                <a:avLst/>
                <a:gdLst/>
                <a:ahLst/>
                <a:rect l="l" t="t" r="r" b="b"/>
                <a:pathLst>
                  <a:path w="28" h="22">
                    <a:moveTo>
                      <a:pt x="7" y="22"/>
                    </a:moveTo>
                    <a:lnTo>
                      <a:pt x="0" y="9"/>
                    </a:lnTo>
                    <a:lnTo>
                      <a:pt x="7" y="0"/>
                    </a:lnTo>
                    <a:lnTo>
                      <a:pt x="15" y="0"/>
                    </a:lnTo>
                    <a:lnTo>
                      <a:pt x="22" y="0"/>
                    </a:lnTo>
                    <a:lnTo>
                      <a:pt x="28" y="6"/>
                    </a:lnTo>
                    <a:lnTo>
                      <a:pt x="28" y="15"/>
                    </a:lnTo>
                    <a:lnTo>
                      <a:pt x="7"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73" name=""/>
              <p:cNvSpPr/>
              <p:nvPr/>
            </p:nvSpPr>
            <p:spPr>
              <a:xfrm>
                <a:off x="7080120" y="2471760"/>
                <a:ext cx="11160" cy="12600"/>
              </a:xfrm>
              <a:custGeom>
                <a:avLst/>
                <a:gdLst/>
                <a:ahLst/>
                <a:rect l="l" t="t" r="r" b="b"/>
                <a:pathLst>
                  <a:path w="20" h="22">
                    <a:moveTo>
                      <a:pt x="10" y="22"/>
                    </a:moveTo>
                    <a:lnTo>
                      <a:pt x="0" y="3"/>
                    </a:lnTo>
                    <a:lnTo>
                      <a:pt x="6" y="0"/>
                    </a:lnTo>
                    <a:lnTo>
                      <a:pt x="13" y="2"/>
                    </a:lnTo>
                    <a:lnTo>
                      <a:pt x="19" y="7"/>
                    </a:lnTo>
                    <a:lnTo>
                      <a:pt x="20" y="15"/>
                    </a:lnTo>
                    <a:lnTo>
                      <a:pt x="1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4" name=""/>
              <p:cNvSpPr/>
              <p:nvPr/>
            </p:nvSpPr>
            <p:spPr>
              <a:xfrm>
                <a:off x="7016760" y="2468520"/>
                <a:ext cx="14400" cy="14400"/>
              </a:xfrm>
              <a:custGeom>
                <a:avLst/>
                <a:gdLst/>
                <a:ahLst/>
                <a:rect l="l" t="t" r="r" b="b"/>
                <a:pathLst>
                  <a:path w="25" h="26">
                    <a:moveTo>
                      <a:pt x="10" y="26"/>
                    </a:moveTo>
                    <a:lnTo>
                      <a:pt x="0" y="3"/>
                    </a:lnTo>
                    <a:lnTo>
                      <a:pt x="6" y="0"/>
                    </a:lnTo>
                    <a:lnTo>
                      <a:pt x="15" y="2"/>
                    </a:lnTo>
                    <a:lnTo>
                      <a:pt x="22" y="8"/>
                    </a:lnTo>
                    <a:lnTo>
                      <a:pt x="25" y="13"/>
                    </a:lnTo>
                    <a:lnTo>
                      <a:pt x="1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5" name=""/>
              <p:cNvSpPr/>
              <p:nvPr/>
            </p:nvSpPr>
            <p:spPr>
              <a:xfrm>
                <a:off x="7413480" y="2459160"/>
                <a:ext cx="9720" cy="11160"/>
              </a:xfrm>
              <a:custGeom>
                <a:avLst/>
                <a:gdLst/>
                <a:ahLst/>
                <a:rect l="l" t="t" r="r" b="b"/>
                <a:pathLst>
                  <a:path w="20" h="22">
                    <a:moveTo>
                      <a:pt x="11" y="22"/>
                    </a:moveTo>
                    <a:lnTo>
                      <a:pt x="4" y="19"/>
                    </a:lnTo>
                    <a:lnTo>
                      <a:pt x="0" y="12"/>
                    </a:lnTo>
                    <a:lnTo>
                      <a:pt x="1" y="5"/>
                    </a:lnTo>
                    <a:lnTo>
                      <a:pt x="6" y="0"/>
                    </a:lnTo>
                    <a:lnTo>
                      <a:pt x="11" y="3"/>
                    </a:lnTo>
                    <a:lnTo>
                      <a:pt x="17" y="10"/>
                    </a:lnTo>
                    <a:lnTo>
                      <a:pt x="20" y="19"/>
                    </a:lnTo>
                    <a:lnTo>
                      <a:pt x="1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6" name=""/>
              <p:cNvSpPr/>
              <p:nvPr/>
            </p:nvSpPr>
            <p:spPr>
              <a:xfrm>
                <a:off x="7624800" y="2440080"/>
                <a:ext cx="7920" cy="11160"/>
              </a:xfrm>
              <a:custGeom>
                <a:avLst/>
                <a:gdLst/>
                <a:ahLst/>
                <a:rect l="l" t="t" r="r" b="b"/>
                <a:pathLst>
                  <a:path w="17" h="21">
                    <a:moveTo>
                      <a:pt x="3" y="21"/>
                    </a:moveTo>
                    <a:lnTo>
                      <a:pt x="0" y="0"/>
                    </a:lnTo>
                    <a:lnTo>
                      <a:pt x="9" y="0"/>
                    </a:lnTo>
                    <a:lnTo>
                      <a:pt x="14" y="2"/>
                    </a:lnTo>
                    <a:lnTo>
                      <a:pt x="17" y="8"/>
                    </a:lnTo>
                    <a:lnTo>
                      <a:pt x="17" y="1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77" name=""/>
              <p:cNvSpPr/>
              <p:nvPr/>
            </p:nvSpPr>
            <p:spPr>
              <a:xfrm>
                <a:off x="7340760" y="2435400"/>
                <a:ext cx="10800" cy="12600"/>
              </a:xfrm>
              <a:custGeom>
                <a:avLst/>
                <a:gdLst/>
                <a:ahLst/>
                <a:rect l="l" t="t" r="r" b="b"/>
                <a:pathLst>
                  <a:path w="20" h="22">
                    <a:moveTo>
                      <a:pt x="13" y="22"/>
                    </a:moveTo>
                    <a:lnTo>
                      <a:pt x="4" y="19"/>
                    </a:lnTo>
                    <a:lnTo>
                      <a:pt x="0" y="13"/>
                    </a:lnTo>
                    <a:lnTo>
                      <a:pt x="0" y="6"/>
                    </a:lnTo>
                    <a:lnTo>
                      <a:pt x="4" y="0"/>
                    </a:lnTo>
                    <a:lnTo>
                      <a:pt x="13" y="1"/>
                    </a:lnTo>
                    <a:lnTo>
                      <a:pt x="19" y="7"/>
                    </a:lnTo>
                    <a:lnTo>
                      <a:pt x="20" y="14"/>
                    </a:lnTo>
                    <a:lnTo>
                      <a:pt x="13"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8" name=""/>
              <p:cNvSpPr/>
              <p:nvPr/>
            </p:nvSpPr>
            <p:spPr>
              <a:xfrm>
                <a:off x="7475400" y="2432160"/>
                <a:ext cx="12960" cy="12600"/>
              </a:xfrm>
              <a:custGeom>
                <a:avLst/>
                <a:gdLst/>
                <a:ahLst/>
                <a:rect l="l" t="t" r="r" b="b"/>
                <a:pathLst>
                  <a:path w="25" h="24">
                    <a:moveTo>
                      <a:pt x="9" y="24"/>
                    </a:moveTo>
                    <a:lnTo>
                      <a:pt x="0" y="3"/>
                    </a:lnTo>
                    <a:lnTo>
                      <a:pt x="4" y="0"/>
                    </a:lnTo>
                    <a:lnTo>
                      <a:pt x="11" y="1"/>
                    </a:lnTo>
                    <a:lnTo>
                      <a:pt x="19" y="5"/>
                    </a:lnTo>
                    <a:lnTo>
                      <a:pt x="25" y="14"/>
                    </a:lnTo>
                    <a:lnTo>
                      <a:pt x="9"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79" name=""/>
              <p:cNvSpPr/>
              <p:nvPr/>
            </p:nvSpPr>
            <p:spPr>
              <a:xfrm>
                <a:off x="7191360" y="2432160"/>
                <a:ext cx="11160" cy="9360"/>
              </a:xfrm>
              <a:custGeom>
                <a:avLst/>
                <a:gdLst/>
                <a:ahLst/>
                <a:rect l="l" t="t" r="r" b="b"/>
                <a:pathLst>
                  <a:path w="20" h="17">
                    <a:moveTo>
                      <a:pt x="11" y="17"/>
                    </a:moveTo>
                    <a:lnTo>
                      <a:pt x="0" y="0"/>
                    </a:lnTo>
                    <a:lnTo>
                      <a:pt x="20" y="4"/>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0" name=""/>
              <p:cNvSpPr/>
              <p:nvPr/>
            </p:nvSpPr>
            <p:spPr>
              <a:xfrm>
                <a:off x="7575480" y="2422440"/>
                <a:ext cx="11160" cy="12960"/>
              </a:xfrm>
              <a:custGeom>
                <a:avLst/>
                <a:gdLst/>
                <a:ahLst/>
                <a:rect l="l" t="t" r="r" b="b"/>
                <a:pathLst>
                  <a:path w="21" h="25">
                    <a:moveTo>
                      <a:pt x="7" y="25"/>
                    </a:moveTo>
                    <a:lnTo>
                      <a:pt x="1" y="21"/>
                    </a:lnTo>
                    <a:lnTo>
                      <a:pt x="0" y="12"/>
                    </a:lnTo>
                    <a:lnTo>
                      <a:pt x="4" y="3"/>
                    </a:lnTo>
                    <a:lnTo>
                      <a:pt x="14" y="0"/>
                    </a:lnTo>
                    <a:lnTo>
                      <a:pt x="21" y="5"/>
                    </a:lnTo>
                    <a:lnTo>
                      <a:pt x="21" y="15"/>
                    </a:lnTo>
                    <a:lnTo>
                      <a:pt x="16" y="23"/>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1" name=""/>
              <p:cNvSpPr/>
              <p:nvPr/>
            </p:nvSpPr>
            <p:spPr>
              <a:xfrm>
                <a:off x="7270920" y="2408400"/>
                <a:ext cx="10800" cy="15840"/>
              </a:xfrm>
              <a:custGeom>
                <a:avLst/>
                <a:gdLst/>
                <a:ahLst/>
                <a:rect l="l" t="t" r="r" b="b"/>
                <a:pathLst>
                  <a:path w="20" h="29">
                    <a:moveTo>
                      <a:pt x="13" y="29"/>
                    </a:moveTo>
                    <a:lnTo>
                      <a:pt x="7" y="26"/>
                    </a:lnTo>
                    <a:lnTo>
                      <a:pt x="3" y="19"/>
                    </a:lnTo>
                    <a:lnTo>
                      <a:pt x="0" y="9"/>
                    </a:lnTo>
                    <a:lnTo>
                      <a:pt x="3" y="0"/>
                    </a:lnTo>
                    <a:lnTo>
                      <a:pt x="20" y="12"/>
                    </a:lnTo>
                    <a:lnTo>
                      <a:pt x="1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82" name=""/>
              <p:cNvSpPr/>
              <p:nvPr/>
            </p:nvSpPr>
            <p:spPr>
              <a:xfrm>
                <a:off x="7105680" y="2403360"/>
                <a:ext cx="11160" cy="15840"/>
              </a:xfrm>
              <a:custGeom>
                <a:avLst/>
                <a:gdLst/>
                <a:ahLst/>
                <a:rect l="l" t="t" r="r" b="b"/>
                <a:pathLst>
                  <a:path w="21" h="29">
                    <a:moveTo>
                      <a:pt x="6" y="29"/>
                    </a:moveTo>
                    <a:lnTo>
                      <a:pt x="2" y="23"/>
                    </a:lnTo>
                    <a:lnTo>
                      <a:pt x="0" y="15"/>
                    </a:lnTo>
                    <a:lnTo>
                      <a:pt x="0" y="6"/>
                    </a:lnTo>
                    <a:lnTo>
                      <a:pt x="5" y="0"/>
                    </a:lnTo>
                    <a:lnTo>
                      <a:pt x="13" y="3"/>
                    </a:lnTo>
                    <a:lnTo>
                      <a:pt x="19" y="12"/>
                    </a:lnTo>
                    <a:lnTo>
                      <a:pt x="21" y="20"/>
                    </a:lnTo>
                    <a:lnTo>
                      <a:pt x="13" y="29"/>
                    </a:lnTo>
                    <a:lnTo>
                      <a:pt x="6"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83" name=""/>
              <p:cNvSpPr/>
              <p:nvPr/>
            </p:nvSpPr>
            <p:spPr>
              <a:xfrm>
                <a:off x="7388280" y="2386080"/>
                <a:ext cx="11160" cy="11160"/>
              </a:xfrm>
              <a:custGeom>
                <a:avLst/>
                <a:gdLst/>
                <a:ahLst/>
                <a:rect l="l" t="t" r="r" b="b"/>
                <a:pathLst>
                  <a:path w="20" h="21">
                    <a:moveTo>
                      <a:pt x="1" y="21"/>
                    </a:moveTo>
                    <a:lnTo>
                      <a:pt x="0" y="0"/>
                    </a:lnTo>
                    <a:lnTo>
                      <a:pt x="20" y="3"/>
                    </a:lnTo>
                    <a:lnTo>
                      <a:pt x="20" y="10"/>
                    </a:lnTo>
                    <a:lnTo>
                      <a:pt x="17" y="16"/>
                    </a:lnTo>
                    <a:lnTo>
                      <a:pt x="11" y="19"/>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4" name=""/>
              <p:cNvSpPr/>
              <p:nvPr/>
            </p:nvSpPr>
            <p:spPr>
              <a:xfrm>
                <a:off x="7021440" y="2382840"/>
                <a:ext cx="15840" cy="14400"/>
              </a:xfrm>
              <a:custGeom>
                <a:avLst/>
                <a:gdLst/>
                <a:ahLst/>
                <a:rect l="l" t="t" r="r" b="b"/>
                <a:pathLst>
                  <a:path w="32" h="29">
                    <a:moveTo>
                      <a:pt x="22" y="29"/>
                    </a:moveTo>
                    <a:lnTo>
                      <a:pt x="0" y="21"/>
                    </a:lnTo>
                    <a:lnTo>
                      <a:pt x="3" y="0"/>
                    </a:lnTo>
                    <a:lnTo>
                      <a:pt x="13" y="3"/>
                    </a:lnTo>
                    <a:lnTo>
                      <a:pt x="22" y="7"/>
                    </a:lnTo>
                    <a:lnTo>
                      <a:pt x="28" y="11"/>
                    </a:lnTo>
                    <a:lnTo>
                      <a:pt x="32" y="20"/>
                    </a:lnTo>
                    <a:lnTo>
                      <a:pt x="22"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5" name=""/>
              <p:cNvSpPr/>
              <p:nvPr/>
            </p:nvSpPr>
            <p:spPr>
              <a:xfrm>
                <a:off x="7500960" y="2379600"/>
                <a:ext cx="12600" cy="9720"/>
              </a:xfrm>
              <a:custGeom>
                <a:avLst/>
                <a:gdLst/>
                <a:ahLst/>
                <a:rect l="l" t="t" r="r" b="b"/>
                <a:pathLst>
                  <a:path w="23" h="20">
                    <a:moveTo>
                      <a:pt x="4" y="20"/>
                    </a:moveTo>
                    <a:lnTo>
                      <a:pt x="0" y="0"/>
                    </a:lnTo>
                    <a:lnTo>
                      <a:pt x="22" y="4"/>
                    </a:lnTo>
                    <a:lnTo>
                      <a:pt x="23" y="10"/>
                    </a:lnTo>
                    <a:lnTo>
                      <a:pt x="19" y="16"/>
                    </a:lnTo>
                    <a:lnTo>
                      <a:pt x="13" y="19"/>
                    </a:lnTo>
                    <a:lnTo>
                      <a:pt x="4"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86" name=""/>
              <p:cNvSpPr/>
              <p:nvPr/>
            </p:nvSpPr>
            <p:spPr>
              <a:xfrm>
                <a:off x="7450200" y="2370240"/>
                <a:ext cx="12600" cy="12600"/>
              </a:xfrm>
              <a:custGeom>
                <a:avLst/>
                <a:gdLst/>
                <a:ahLst/>
                <a:rect l="l" t="t" r="r" b="b"/>
                <a:pathLst>
                  <a:path w="26" h="22">
                    <a:moveTo>
                      <a:pt x="9" y="22"/>
                    </a:moveTo>
                    <a:lnTo>
                      <a:pt x="0" y="12"/>
                    </a:lnTo>
                    <a:lnTo>
                      <a:pt x="3" y="4"/>
                    </a:lnTo>
                    <a:lnTo>
                      <a:pt x="12" y="0"/>
                    </a:lnTo>
                    <a:lnTo>
                      <a:pt x="20" y="1"/>
                    </a:lnTo>
                    <a:lnTo>
                      <a:pt x="26" y="7"/>
                    </a:lnTo>
                    <a:lnTo>
                      <a:pt x="9"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7" name=""/>
              <p:cNvSpPr/>
              <p:nvPr/>
            </p:nvSpPr>
            <p:spPr>
              <a:xfrm>
                <a:off x="7172280" y="2371680"/>
                <a:ext cx="11160" cy="9720"/>
              </a:xfrm>
              <a:custGeom>
                <a:avLst/>
                <a:gdLst/>
                <a:ahLst/>
                <a:rect l="l" t="t" r="r" b="b"/>
                <a:pathLst>
                  <a:path w="23" h="18">
                    <a:moveTo>
                      <a:pt x="6" y="18"/>
                    </a:moveTo>
                    <a:lnTo>
                      <a:pt x="0" y="0"/>
                    </a:lnTo>
                    <a:lnTo>
                      <a:pt x="23" y="6"/>
                    </a:lnTo>
                    <a:lnTo>
                      <a:pt x="6"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88" name=""/>
              <p:cNvSpPr/>
              <p:nvPr/>
            </p:nvSpPr>
            <p:spPr>
              <a:xfrm>
                <a:off x="7243920" y="2346480"/>
                <a:ext cx="10800" cy="10800"/>
              </a:xfrm>
              <a:custGeom>
                <a:avLst/>
                <a:gdLst/>
                <a:ahLst/>
                <a:rect l="l" t="t" r="r" b="b"/>
                <a:pathLst>
                  <a:path w="21" h="20">
                    <a:moveTo>
                      <a:pt x="8" y="20"/>
                    </a:moveTo>
                    <a:lnTo>
                      <a:pt x="0" y="3"/>
                    </a:lnTo>
                    <a:lnTo>
                      <a:pt x="7" y="0"/>
                    </a:lnTo>
                    <a:lnTo>
                      <a:pt x="16" y="2"/>
                    </a:lnTo>
                    <a:lnTo>
                      <a:pt x="20" y="7"/>
                    </a:lnTo>
                    <a:lnTo>
                      <a:pt x="21" y="16"/>
                    </a:lnTo>
                    <a:lnTo>
                      <a:pt x="8"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89" name=""/>
              <p:cNvSpPr/>
              <p:nvPr/>
            </p:nvSpPr>
            <p:spPr>
              <a:xfrm>
                <a:off x="6999120" y="2333520"/>
                <a:ext cx="11160" cy="11160"/>
              </a:xfrm>
              <a:custGeom>
                <a:avLst/>
                <a:gdLst/>
                <a:ahLst/>
                <a:rect l="l" t="t" r="r" b="b"/>
                <a:pathLst>
                  <a:path w="19" h="22">
                    <a:moveTo>
                      <a:pt x="4" y="22"/>
                    </a:moveTo>
                    <a:lnTo>
                      <a:pt x="0" y="0"/>
                    </a:lnTo>
                    <a:lnTo>
                      <a:pt x="19" y="7"/>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0" name=""/>
              <p:cNvSpPr/>
              <p:nvPr/>
            </p:nvSpPr>
            <p:spPr>
              <a:xfrm>
                <a:off x="7064280" y="2332080"/>
                <a:ext cx="12960" cy="9360"/>
              </a:xfrm>
              <a:custGeom>
                <a:avLst/>
                <a:gdLst/>
                <a:ahLst/>
                <a:rect l="l" t="t" r="r" b="b"/>
                <a:pathLst>
                  <a:path w="24" h="16">
                    <a:moveTo>
                      <a:pt x="4" y="16"/>
                    </a:moveTo>
                    <a:lnTo>
                      <a:pt x="0" y="7"/>
                    </a:lnTo>
                    <a:lnTo>
                      <a:pt x="4" y="1"/>
                    </a:lnTo>
                    <a:lnTo>
                      <a:pt x="13" y="0"/>
                    </a:lnTo>
                    <a:lnTo>
                      <a:pt x="20" y="3"/>
                    </a:lnTo>
                    <a:lnTo>
                      <a:pt x="24" y="8"/>
                    </a:lnTo>
                    <a:lnTo>
                      <a:pt x="4"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1" name=""/>
              <p:cNvSpPr/>
              <p:nvPr/>
            </p:nvSpPr>
            <p:spPr>
              <a:xfrm>
                <a:off x="7143840" y="2305080"/>
                <a:ext cx="14040" cy="14400"/>
              </a:xfrm>
              <a:custGeom>
                <a:avLst/>
                <a:gdLst/>
                <a:ahLst/>
                <a:rect l="l" t="t" r="r" b="b"/>
                <a:pathLst>
                  <a:path w="25" h="26">
                    <a:moveTo>
                      <a:pt x="7" y="26"/>
                    </a:moveTo>
                    <a:lnTo>
                      <a:pt x="0" y="20"/>
                    </a:lnTo>
                    <a:lnTo>
                      <a:pt x="2" y="12"/>
                    </a:lnTo>
                    <a:lnTo>
                      <a:pt x="6" y="5"/>
                    </a:lnTo>
                    <a:lnTo>
                      <a:pt x="13" y="0"/>
                    </a:lnTo>
                    <a:lnTo>
                      <a:pt x="23" y="5"/>
                    </a:lnTo>
                    <a:lnTo>
                      <a:pt x="25" y="13"/>
                    </a:lnTo>
                    <a:lnTo>
                      <a:pt x="23" y="19"/>
                    </a:lnTo>
                    <a:lnTo>
                      <a:pt x="18" y="23"/>
                    </a:lnTo>
                    <a:lnTo>
                      <a:pt x="7"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2" name=""/>
              <p:cNvSpPr/>
              <p:nvPr/>
            </p:nvSpPr>
            <p:spPr>
              <a:xfrm>
                <a:off x="8317080" y="2271600"/>
                <a:ext cx="9360" cy="11160"/>
              </a:xfrm>
              <a:custGeom>
                <a:avLst/>
                <a:gdLst/>
                <a:ahLst/>
                <a:rect l="l" t="t" r="r" b="b"/>
                <a:pathLst>
                  <a:path w="18" h="21">
                    <a:moveTo>
                      <a:pt x="1" y="21"/>
                    </a:moveTo>
                    <a:lnTo>
                      <a:pt x="0" y="0"/>
                    </a:lnTo>
                    <a:lnTo>
                      <a:pt x="18" y="1"/>
                    </a:lnTo>
                    <a:lnTo>
                      <a:pt x="17" y="8"/>
                    </a:lnTo>
                    <a:lnTo>
                      <a:pt x="14" y="14"/>
                    </a:lnTo>
                    <a:lnTo>
                      <a:pt x="10" y="18"/>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3" name=""/>
              <p:cNvSpPr/>
              <p:nvPr/>
            </p:nvSpPr>
            <p:spPr>
              <a:xfrm>
                <a:off x="8381880" y="2270160"/>
                <a:ext cx="9720" cy="9360"/>
              </a:xfrm>
              <a:custGeom>
                <a:avLst/>
                <a:gdLst/>
                <a:ahLst/>
                <a:rect l="l" t="t" r="r" b="b"/>
                <a:pathLst>
                  <a:path w="17" h="17">
                    <a:moveTo>
                      <a:pt x="5" y="17"/>
                    </a:moveTo>
                    <a:lnTo>
                      <a:pt x="0" y="1"/>
                    </a:lnTo>
                    <a:lnTo>
                      <a:pt x="10" y="0"/>
                    </a:lnTo>
                    <a:lnTo>
                      <a:pt x="17" y="7"/>
                    </a:lnTo>
                    <a:lnTo>
                      <a:pt x="17" y="14"/>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4" name=""/>
              <p:cNvSpPr/>
              <p:nvPr/>
            </p:nvSpPr>
            <p:spPr>
              <a:xfrm>
                <a:off x="7118280" y="2268360"/>
                <a:ext cx="11160" cy="11160"/>
              </a:xfrm>
              <a:custGeom>
                <a:avLst/>
                <a:gdLst/>
                <a:ahLst/>
                <a:rect l="l" t="t" r="r" b="b"/>
                <a:pathLst>
                  <a:path w="23" h="20">
                    <a:moveTo>
                      <a:pt x="4" y="20"/>
                    </a:moveTo>
                    <a:lnTo>
                      <a:pt x="0" y="0"/>
                    </a:lnTo>
                    <a:lnTo>
                      <a:pt x="20" y="3"/>
                    </a:lnTo>
                    <a:lnTo>
                      <a:pt x="23" y="10"/>
                    </a:lnTo>
                    <a:lnTo>
                      <a:pt x="20" y="16"/>
                    </a:lnTo>
                    <a:lnTo>
                      <a:pt x="14"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5" name=""/>
              <p:cNvSpPr/>
              <p:nvPr/>
            </p:nvSpPr>
            <p:spPr>
              <a:xfrm>
                <a:off x="8248680" y="2249640"/>
                <a:ext cx="14400" cy="9360"/>
              </a:xfrm>
              <a:custGeom>
                <a:avLst/>
                <a:gdLst/>
                <a:ahLst/>
                <a:rect l="l" t="t" r="r" b="b"/>
                <a:pathLst>
                  <a:path w="26" h="18">
                    <a:moveTo>
                      <a:pt x="7" y="18"/>
                    </a:moveTo>
                    <a:lnTo>
                      <a:pt x="0" y="8"/>
                    </a:lnTo>
                    <a:lnTo>
                      <a:pt x="4" y="2"/>
                    </a:lnTo>
                    <a:lnTo>
                      <a:pt x="11" y="0"/>
                    </a:lnTo>
                    <a:lnTo>
                      <a:pt x="20" y="3"/>
                    </a:lnTo>
                    <a:lnTo>
                      <a:pt x="26" y="8"/>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6" name=""/>
              <p:cNvSpPr/>
              <p:nvPr/>
            </p:nvSpPr>
            <p:spPr>
              <a:xfrm>
                <a:off x="7056360" y="2257560"/>
                <a:ext cx="11160" cy="12600"/>
              </a:xfrm>
              <a:custGeom>
                <a:avLst/>
                <a:gdLst/>
                <a:ahLst/>
                <a:rect l="l" t="t" r="r" b="b"/>
                <a:pathLst>
                  <a:path w="19" h="24">
                    <a:moveTo>
                      <a:pt x="3" y="24"/>
                    </a:moveTo>
                    <a:lnTo>
                      <a:pt x="0" y="17"/>
                    </a:lnTo>
                    <a:lnTo>
                      <a:pt x="2" y="10"/>
                    </a:lnTo>
                    <a:lnTo>
                      <a:pt x="8" y="3"/>
                    </a:lnTo>
                    <a:lnTo>
                      <a:pt x="13" y="0"/>
                    </a:lnTo>
                    <a:lnTo>
                      <a:pt x="19" y="4"/>
                    </a:lnTo>
                    <a:lnTo>
                      <a:pt x="19" y="13"/>
                    </a:lnTo>
                    <a:lnTo>
                      <a:pt x="13" y="21"/>
                    </a:lnTo>
                    <a:lnTo>
                      <a:pt x="3"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97" name=""/>
              <p:cNvSpPr/>
              <p:nvPr/>
            </p:nvSpPr>
            <p:spPr>
              <a:xfrm>
                <a:off x="7002360" y="2232000"/>
                <a:ext cx="12960" cy="12600"/>
              </a:xfrm>
              <a:custGeom>
                <a:avLst/>
                <a:gdLst/>
                <a:ahLst/>
                <a:rect l="l" t="t" r="r" b="b"/>
                <a:pathLst>
                  <a:path w="26" h="24">
                    <a:moveTo>
                      <a:pt x="5" y="24"/>
                    </a:moveTo>
                    <a:lnTo>
                      <a:pt x="0" y="2"/>
                    </a:lnTo>
                    <a:lnTo>
                      <a:pt x="9" y="0"/>
                    </a:lnTo>
                    <a:lnTo>
                      <a:pt x="16" y="1"/>
                    </a:lnTo>
                    <a:lnTo>
                      <a:pt x="22" y="5"/>
                    </a:lnTo>
                    <a:lnTo>
                      <a:pt x="26" y="14"/>
                    </a:lnTo>
                    <a:lnTo>
                      <a:pt x="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98" name=""/>
              <p:cNvSpPr/>
              <p:nvPr/>
            </p:nvSpPr>
            <p:spPr>
              <a:xfrm>
                <a:off x="8170920" y="2211480"/>
                <a:ext cx="9360" cy="11160"/>
              </a:xfrm>
              <a:custGeom>
                <a:avLst/>
                <a:gdLst/>
                <a:ahLst/>
                <a:rect l="l" t="t" r="r" b="b"/>
                <a:pathLst>
                  <a:path w="19" h="22">
                    <a:moveTo>
                      <a:pt x="9" y="22"/>
                    </a:moveTo>
                    <a:lnTo>
                      <a:pt x="0" y="15"/>
                    </a:lnTo>
                    <a:lnTo>
                      <a:pt x="15" y="0"/>
                    </a:lnTo>
                    <a:lnTo>
                      <a:pt x="19" y="4"/>
                    </a:lnTo>
                    <a:lnTo>
                      <a:pt x="19" y="13"/>
                    </a:lnTo>
                    <a:lnTo>
                      <a:pt x="16" y="20"/>
                    </a:lnTo>
                    <a:lnTo>
                      <a:pt x="9"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9" name=""/>
              <p:cNvSpPr/>
              <p:nvPr/>
            </p:nvSpPr>
            <p:spPr>
              <a:xfrm>
                <a:off x="8045280" y="2203560"/>
                <a:ext cx="9720" cy="12600"/>
              </a:xfrm>
              <a:custGeom>
                <a:avLst/>
                <a:gdLst/>
                <a:ahLst/>
                <a:rect l="l" t="t" r="r" b="b"/>
                <a:pathLst>
                  <a:path w="19" h="23">
                    <a:moveTo>
                      <a:pt x="2" y="23"/>
                    </a:moveTo>
                    <a:lnTo>
                      <a:pt x="0" y="17"/>
                    </a:lnTo>
                    <a:lnTo>
                      <a:pt x="2" y="10"/>
                    </a:lnTo>
                    <a:lnTo>
                      <a:pt x="6" y="2"/>
                    </a:lnTo>
                    <a:lnTo>
                      <a:pt x="15" y="0"/>
                    </a:lnTo>
                    <a:lnTo>
                      <a:pt x="19" y="4"/>
                    </a:lnTo>
                    <a:lnTo>
                      <a:pt x="18" y="13"/>
                    </a:lnTo>
                    <a:lnTo>
                      <a:pt x="12" y="21"/>
                    </a:lnTo>
                    <a:lnTo>
                      <a:pt x="2"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0" name=""/>
              <p:cNvSpPr/>
              <p:nvPr/>
            </p:nvSpPr>
            <p:spPr>
              <a:xfrm>
                <a:off x="8396280" y="2193840"/>
                <a:ext cx="9360" cy="14400"/>
              </a:xfrm>
              <a:custGeom>
                <a:avLst/>
                <a:gdLst/>
                <a:ahLst/>
                <a:rect l="l" t="t" r="r" b="b"/>
                <a:pathLst>
                  <a:path w="17" h="27">
                    <a:moveTo>
                      <a:pt x="4" y="27"/>
                    </a:moveTo>
                    <a:lnTo>
                      <a:pt x="1" y="21"/>
                    </a:lnTo>
                    <a:lnTo>
                      <a:pt x="0" y="14"/>
                    </a:lnTo>
                    <a:lnTo>
                      <a:pt x="1" y="7"/>
                    </a:lnTo>
                    <a:lnTo>
                      <a:pt x="7" y="0"/>
                    </a:lnTo>
                    <a:lnTo>
                      <a:pt x="14" y="3"/>
                    </a:lnTo>
                    <a:lnTo>
                      <a:pt x="17" y="10"/>
                    </a:lnTo>
                    <a:lnTo>
                      <a:pt x="17" y="19"/>
                    </a:lnTo>
                    <a:lnTo>
                      <a:pt x="14" y="27"/>
                    </a:lnTo>
                    <a:lnTo>
                      <a:pt x="4"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1" name=""/>
              <p:cNvSpPr/>
              <p:nvPr/>
            </p:nvSpPr>
            <p:spPr>
              <a:xfrm>
                <a:off x="7104240" y="2200320"/>
                <a:ext cx="10800" cy="14400"/>
              </a:xfrm>
              <a:custGeom>
                <a:avLst/>
                <a:gdLst/>
                <a:ahLst/>
                <a:rect l="l" t="t" r="r" b="b"/>
                <a:pathLst>
                  <a:path w="21" h="25">
                    <a:moveTo>
                      <a:pt x="7" y="25"/>
                    </a:moveTo>
                    <a:lnTo>
                      <a:pt x="0" y="0"/>
                    </a:lnTo>
                    <a:lnTo>
                      <a:pt x="17" y="0"/>
                    </a:lnTo>
                    <a:lnTo>
                      <a:pt x="21" y="3"/>
                    </a:lnTo>
                    <a:lnTo>
                      <a:pt x="21" y="12"/>
                    </a:lnTo>
                    <a:lnTo>
                      <a:pt x="15" y="22"/>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2" name=""/>
              <p:cNvSpPr/>
              <p:nvPr/>
            </p:nvSpPr>
            <p:spPr>
              <a:xfrm>
                <a:off x="8105760" y="2189160"/>
                <a:ext cx="12600" cy="9360"/>
              </a:xfrm>
              <a:custGeom>
                <a:avLst/>
                <a:gdLst/>
                <a:ahLst/>
                <a:rect l="l" t="t" r="r" b="b"/>
                <a:pathLst>
                  <a:path w="25" h="20">
                    <a:moveTo>
                      <a:pt x="9" y="20"/>
                    </a:moveTo>
                    <a:lnTo>
                      <a:pt x="0" y="9"/>
                    </a:lnTo>
                    <a:lnTo>
                      <a:pt x="3" y="3"/>
                    </a:lnTo>
                    <a:lnTo>
                      <a:pt x="12" y="0"/>
                    </a:lnTo>
                    <a:lnTo>
                      <a:pt x="21" y="2"/>
                    </a:lnTo>
                    <a:lnTo>
                      <a:pt x="25" y="6"/>
                    </a:lnTo>
                    <a:lnTo>
                      <a:pt x="9"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3" name=""/>
              <p:cNvSpPr/>
              <p:nvPr/>
            </p:nvSpPr>
            <p:spPr>
              <a:xfrm>
                <a:off x="8340840" y="2185920"/>
                <a:ext cx="11160" cy="7920"/>
              </a:xfrm>
              <a:custGeom>
                <a:avLst/>
                <a:gdLst/>
                <a:ahLst/>
                <a:rect l="l" t="t" r="r" b="b"/>
                <a:pathLst>
                  <a:path w="19" h="16">
                    <a:moveTo>
                      <a:pt x="3" y="16"/>
                    </a:moveTo>
                    <a:lnTo>
                      <a:pt x="0" y="8"/>
                    </a:lnTo>
                    <a:lnTo>
                      <a:pt x="4" y="2"/>
                    </a:lnTo>
                    <a:lnTo>
                      <a:pt x="11" y="0"/>
                    </a:lnTo>
                    <a:lnTo>
                      <a:pt x="19" y="9"/>
                    </a:lnTo>
                    <a:lnTo>
                      <a:pt x="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4" name=""/>
              <p:cNvSpPr/>
              <p:nvPr/>
            </p:nvSpPr>
            <p:spPr>
              <a:xfrm>
                <a:off x="7931160" y="2181240"/>
                <a:ext cx="15840" cy="12600"/>
              </a:xfrm>
              <a:custGeom>
                <a:avLst/>
                <a:gdLst/>
                <a:ahLst/>
                <a:rect l="l" t="t" r="r" b="b"/>
                <a:pathLst>
                  <a:path w="29" h="22">
                    <a:moveTo>
                      <a:pt x="14" y="22"/>
                    </a:moveTo>
                    <a:lnTo>
                      <a:pt x="0" y="9"/>
                    </a:lnTo>
                    <a:lnTo>
                      <a:pt x="7" y="2"/>
                    </a:lnTo>
                    <a:lnTo>
                      <a:pt x="17" y="0"/>
                    </a:lnTo>
                    <a:lnTo>
                      <a:pt x="24" y="2"/>
                    </a:lnTo>
                    <a:lnTo>
                      <a:pt x="29" y="9"/>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5" name=""/>
              <p:cNvSpPr/>
              <p:nvPr/>
            </p:nvSpPr>
            <p:spPr>
              <a:xfrm>
                <a:off x="7991640" y="2171880"/>
                <a:ext cx="10800" cy="10800"/>
              </a:xfrm>
              <a:custGeom>
                <a:avLst/>
                <a:gdLst/>
                <a:ahLst/>
                <a:rect l="l" t="t" r="r" b="b"/>
                <a:pathLst>
                  <a:path w="22" h="22">
                    <a:moveTo>
                      <a:pt x="6" y="22"/>
                    </a:moveTo>
                    <a:lnTo>
                      <a:pt x="0" y="0"/>
                    </a:lnTo>
                    <a:lnTo>
                      <a:pt x="22" y="3"/>
                    </a:lnTo>
                    <a:lnTo>
                      <a:pt x="6"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06" name=""/>
              <p:cNvSpPr/>
              <p:nvPr/>
            </p:nvSpPr>
            <p:spPr>
              <a:xfrm>
                <a:off x="8263080" y="2163600"/>
                <a:ext cx="10800" cy="12960"/>
              </a:xfrm>
              <a:custGeom>
                <a:avLst/>
                <a:gdLst/>
                <a:ahLst/>
                <a:rect l="l" t="t" r="r" b="b"/>
                <a:pathLst>
                  <a:path w="22" h="25">
                    <a:moveTo>
                      <a:pt x="9" y="25"/>
                    </a:moveTo>
                    <a:lnTo>
                      <a:pt x="0" y="18"/>
                    </a:lnTo>
                    <a:lnTo>
                      <a:pt x="2" y="11"/>
                    </a:lnTo>
                    <a:lnTo>
                      <a:pt x="6" y="5"/>
                    </a:lnTo>
                    <a:lnTo>
                      <a:pt x="12" y="0"/>
                    </a:lnTo>
                    <a:lnTo>
                      <a:pt x="21" y="0"/>
                    </a:lnTo>
                    <a:lnTo>
                      <a:pt x="22" y="8"/>
                    </a:lnTo>
                    <a:lnTo>
                      <a:pt x="21" y="13"/>
                    </a:lnTo>
                    <a:lnTo>
                      <a:pt x="16" y="19"/>
                    </a:lnTo>
                    <a:lnTo>
                      <a:pt x="9"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7" name=""/>
              <p:cNvSpPr/>
              <p:nvPr/>
            </p:nvSpPr>
            <p:spPr>
              <a:xfrm>
                <a:off x="6997680" y="2162160"/>
                <a:ext cx="9720" cy="12600"/>
              </a:xfrm>
              <a:custGeom>
                <a:avLst/>
                <a:gdLst/>
                <a:ahLst/>
                <a:rect l="l" t="t" r="r" b="b"/>
                <a:pathLst>
                  <a:path w="17" h="23">
                    <a:moveTo>
                      <a:pt x="0" y="23"/>
                    </a:moveTo>
                    <a:lnTo>
                      <a:pt x="0" y="1"/>
                    </a:lnTo>
                    <a:lnTo>
                      <a:pt x="17" y="0"/>
                    </a:lnTo>
                    <a:lnTo>
                      <a:pt x="17" y="9"/>
                    </a:lnTo>
                    <a:lnTo>
                      <a:pt x="16" y="16"/>
                    </a:lnTo>
                    <a:lnTo>
                      <a:pt x="10" y="22"/>
                    </a:lnTo>
                    <a:lnTo>
                      <a:pt x="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8" name=""/>
              <p:cNvSpPr/>
              <p:nvPr/>
            </p:nvSpPr>
            <p:spPr>
              <a:xfrm>
                <a:off x="7826400" y="2146320"/>
                <a:ext cx="14400" cy="12600"/>
              </a:xfrm>
              <a:custGeom>
                <a:avLst/>
                <a:gdLst/>
                <a:ahLst/>
                <a:rect l="l" t="t" r="r" b="b"/>
                <a:pathLst>
                  <a:path w="25" h="25">
                    <a:moveTo>
                      <a:pt x="7" y="25"/>
                    </a:moveTo>
                    <a:lnTo>
                      <a:pt x="0" y="18"/>
                    </a:lnTo>
                    <a:lnTo>
                      <a:pt x="0" y="7"/>
                    </a:lnTo>
                    <a:lnTo>
                      <a:pt x="3" y="2"/>
                    </a:lnTo>
                    <a:lnTo>
                      <a:pt x="12" y="0"/>
                    </a:lnTo>
                    <a:lnTo>
                      <a:pt x="20" y="3"/>
                    </a:lnTo>
                    <a:lnTo>
                      <a:pt x="25" y="7"/>
                    </a:lnTo>
                    <a:lnTo>
                      <a:pt x="7"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9" name=""/>
              <p:cNvSpPr/>
              <p:nvPr/>
            </p:nvSpPr>
            <p:spPr>
              <a:xfrm>
                <a:off x="7062840" y="2154240"/>
                <a:ext cx="11160" cy="14400"/>
              </a:xfrm>
              <a:custGeom>
                <a:avLst/>
                <a:gdLst/>
                <a:ahLst/>
                <a:rect l="l" t="t" r="r" b="b"/>
                <a:pathLst>
                  <a:path w="21" h="26">
                    <a:moveTo>
                      <a:pt x="15" y="26"/>
                    </a:moveTo>
                    <a:lnTo>
                      <a:pt x="0" y="9"/>
                    </a:lnTo>
                    <a:lnTo>
                      <a:pt x="17" y="0"/>
                    </a:lnTo>
                    <a:lnTo>
                      <a:pt x="20" y="3"/>
                    </a:lnTo>
                    <a:lnTo>
                      <a:pt x="21" y="10"/>
                    </a:lnTo>
                    <a:lnTo>
                      <a:pt x="20" y="19"/>
                    </a:lnTo>
                    <a:lnTo>
                      <a:pt x="15"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0" name=""/>
              <p:cNvSpPr/>
              <p:nvPr/>
            </p:nvSpPr>
            <p:spPr>
              <a:xfrm>
                <a:off x="8194680" y="2143080"/>
                <a:ext cx="12600" cy="7920"/>
              </a:xfrm>
              <a:custGeom>
                <a:avLst/>
                <a:gdLst/>
                <a:ahLst/>
                <a:rect l="l" t="t" r="r" b="b"/>
                <a:pathLst>
                  <a:path w="24" h="16">
                    <a:moveTo>
                      <a:pt x="7" y="16"/>
                    </a:moveTo>
                    <a:lnTo>
                      <a:pt x="0" y="6"/>
                    </a:lnTo>
                    <a:lnTo>
                      <a:pt x="4" y="0"/>
                    </a:lnTo>
                    <a:lnTo>
                      <a:pt x="11" y="0"/>
                    </a:lnTo>
                    <a:lnTo>
                      <a:pt x="20" y="2"/>
                    </a:lnTo>
                    <a:lnTo>
                      <a:pt x="24" y="6"/>
                    </a:lnTo>
                    <a:lnTo>
                      <a:pt x="7"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1" name=""/>
              <p:cNvSpPr/>
              <p:nvPr/>
            </p:nvSpPr>
            <p:spPr>
              <a:xfrm>
                <a:off x="7435800" y="2062080"/>
                <a:ext cx="68400" cy="95400"/>
              </a:xfrm>
              <a:custGeom>
                <a:avLst/>
                <a:gdLst/>
                <a:ahLst/>
                <a:rect l="l" t="t" r="r" b="b"/>
                <a:pathLst>
                  <a:path w="131" h="182">
                    <a:moveTo>
                      <a:pt x="20" y="182"/>
                    </a:moveTo>
                    <a:lnTo>
                      <a:pt x="0" y="174"/>
                    </a:lnTo>
                    <a:lnTo>
                      <a:pt x="10" y="166"/>
                    </a:lnTo>
                    <a:lnTo>
                      <a:pt x="21" y="159"/>
                    </a:lnTo>
                    <a:lnTo>
                      <a:pt x="34" y="155"/>
                    </a:lnTo>
                    <a:lnTo>
                      <a:pt x="47" y="151"/>
                    </a:lnTo>
                    <a:lnTo>
                      <a:pt x="60" y="148"/>
                    </a:lnTo>
                    <a:lnTo>
                      <a:pt x="75" y="145"/>
                    </a:lnTo>
                    <a:lnTo>
                      <a:pt x="89" y="140"/>
                    </a:lnTo>
                    <a:lnTo>
                      <a:pt x="104" y="138"/>
                    </a:lnTo>
                    <a:lnTo>
                      <a:pt x="101" y="106"/>
                    </a:lnTo>
                    <a:lnTo>
                      <a:pt x="95" y="75"/>
                    </a:lnTo>
                    <a:lnTo>
                      <a:pt x="88" y="44"/>
                    </a:lnTo>
                    <a:lnTo>
                      <a:pt x="85" y="12"/>
                    </a:lnTo>
                    <a:lnTo>
                      <a:pt x="101" y="0"/>
                    </a:lnTo>
                    <a:lnTo>
                      <a:pt x="108" y="35"/>
                    </a:lnTo>
                    <a:lnTo>
                      <a:pt x="115" y="75"/>
                    </a:lnTo>
                    <a:lnTo>
                      <a:pt x="124" y="116"/>
                    </a:lnTo>
                    <a:lnTo>
                      <a:pt x="131" y="156"/>
                    </a:lnTo>
                    <a:lnTo>
                      <a:pt x="124" y="158"/>
                    </a:lnTo>
                    <a:lnTo>
                      <a:pt x="115" y="158"/>
                    </a:lnTo>
                    <a:lnTo>
                      <a:pt x="108" y="159"/>
                    </a:lnTo>
                    <a:lnTo>
                      <a:pt x="101" y="159"/>
                    </a:lnTo>
                    <a:lnTo>
                      <a:pt x="94" y="159"/>
                    </a:lnTo>
                    <a:lnTo>
                      <a:pt x="85" y="161"/>
                    </a:lnTo>
                    <a:lnTo>
                      <a:pt x="78" y="164"/>
                    </a:lnTo>
                    <a:lnTo>
                      <a:pt x="69" y="166"/>
                    </a:lnTo>
                    <a:lnTo>
                      <a:pt x="63" y="168"/>
                    </a:lnTo>
                    <a:lnTo>
                      <a:pt x="58" y="168"/>
                    </a:lnTo>
                    <a:lnTo>
                      <a:pt x="52" y="171"/>
                    </a:lnTo>
                    <a:lnTo>
                      <a:pt x="46" y="172"/>
                    </a:lnTo>
                    <a:lnTo>
                      <a:pt x="40" y="175"/>
                    </a:lnTo>
                    <a:lnTo>
                      <a:pt x="34" y="177"/>
                    </a:lnTo>
                    <a:lnTo>
                      <a:pt x="27" y="179"/>
                    </a:lnTo>
                    <a:lnTo>
                      <a:pt x="2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055000" y="2138400"/>
                <a:ext cx="7920" cy="11160"/>
              </a:xfrm>
              <a:custGeom>
                <a:avLst/>
                <a:gdLst/>
                <a:ahLst/>
                <a:rect l="l" t="t" r="r" b="b"/>
                <a:pathLst>
                  <a:path w="14" h="21">
                    <a:moveTo>
                      <a:pt x="0" y="21"/>
                    </a:moveTo>
                    <a:lnTo>
                      <a:pt x="3" y="0"/>
                    </a:lnTo>
                    <a:lnTo>
                      <a:pt x="14" y="6"/>
                    </a:lnTo>
                    <a:lnTo>
                      <a:pt x="14" y="11"/>
                    </a:lnTo>
                    <a:lnTo>
                      <a:pt x="12" y="16"/>
                    </a:lnTo>
                    <a:lnTo>
                      <a:pt x="7"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13" name=""/>
              <p:cNvSpPr/>
              <p:nvPr/>
            </p:nvSpPr>
            <p:spPr>
              <a:xfrm>
                <a:off x="7107120" y="1995480"/>
                <a:ext cx="216000" cy="152280"/>
              </a:xfrm>
              <a:custGeom>
                <a:avLst/>
                <a:gdLst/>
                <a:ahLst/>
                <a:rect l="l" t="t" r="r" b="b"/>
                <a:pathLst>
                  <a:path w="410" h="286">
                    <a:moveTo>
                      <a:pt x="326" y="286"/>
                    </a:moveTo>
                    <a:lnTo>
                      <a:pt x="319" y="282"/>
                    </a:lnTo>
                    <a:lnTo>
                      <a:pt x="311" y="282"/>
                    </a:lnTo>
                    <a:lnTo>
                      <a:pt x="304" y="280"/>
                    </a:lnTo>
                    <a:lnTo>
                      <a:pt x="294" y="277"/>
                    </a:lnTo>
                    <a:lnTo>
                      <a:pt x="292" y="254"/>
                    </a:lnTo>
                    <a:lnTo>
                      <a:pt x="282" y="253"/>
                    </a:lnTo>
                    <a:lnTo>
                      <a:pt x="275" y="257"/>
                    </a:lnTo>
                    <a:lnTo>
                      <a:pt x="269" y="263"/>
                    </a:lnTo>
                    <a:lnTo>
                      <a:pt x="258" y="262"/>
                    </a:lnTo>
                    <a:lnTo>
                      <a:pt x="259" y="253"/>
                    </a:lnTo>
                    <a:lnTo>
                      <a:pt x="265" y="244"/>
                    </a:lnTo>
                    <a:lnTo>
                      <a:pt x="269" y="237"/>
                    </a:lnTo>
                    <a:lnTo>
                      <a:pt x="275" y="228"/>
                    </a:lnTo>
                    <a:lnTo>
                      <a:pt x="272" y="218"/>
                    </a:lnTo>
                    <a:lnTo>
                      <a:pt x="252" y="218"/>
                    </a:lnTo>
                    <a:lnTo>
                      <a:pt x="238" y="238"/>
                    </a:lnTo>
                    <a:lnTo>
                      <a:pt x="229" y="233"/>
                    </a:lnTo>
                    <a:lnTo>
                      <a:pt x="235" y="223"/>
                    </a:lnTo>
                    <a:lnTo>
                      <a:pt x="239" y="211"/>
                    </a:lnTo>
                    <a:lnTo>
                      <a:pt x="245" y="201"/>
                    </a:lnTo>
                    <a:lnTo>
                      <a:pt x="251" y="191"/>
                    </a:lnTo>
                    <a:lnTo>
                      <a:pt x="245" y="182"/>
                    </a:lnTo>
                    <a:lnTo>
                      <a:pt x="238" y="181"/>
                    </a:lnTo>
                    <a:lnTo>
                      <a:pt x="227" y="185"/>
                    </a:lnTo>
                    <a:lnTo>
                      <a:pt x="222" y="195"/>
                    </a:lnTo>
                    <a:lnTo>
                      <a:pt x="216" y="207"/>
                    </a:lnTo>
                    <a:lnTo>
                      <a:pt x="206" y="217"/>
                    </a:lnTo>
                    <a:lnTo>
                      <a:pt x="206" y="205"/>
                    </a:lnTo>
                    <a:lnTo>
                      <a:pt x="210" y="195"/>
                    </a:lnTo>
                    <a:lnTo>
                      <a:pt x="214" y="186"/>
                    </a:lnTo>
                    <a:lnTo>
                      <a:pt x="220" y="175"/>
                    </a:lnTo>
                    <a:lnTo>
                      <a:pt x="216" y="153"/>
                    </a:lnTo>
                    <a:lnTo>
                      <a:pt x="204" y="158"/>
                    </a:lnTo>
                    <a:lnTo>
                      <a:pt x="201" y="165"/>
                    </a:lnTo>
                    <a:lnTo>
                      <a:pt x="197" y="172"/>
                    </a:lnTo>
                    <a:lnTo>
                      <a:pt x="191" y="178"/>
                    </a:lnTo>
                    <a:lnTo>
                      <a:pt x="184" y="186"/>
                    </a:lnTo>
                    <a:lnTo>
                      <a:pt x="172" y="192"/>
                    </a:lnTo>
                    <a:lnTo>
                      <a:pt x="174" y="184"/>
                    </a:lnTo>
                    <a:lnTo>
                      <a:pt x="177" y="172"/>
                    </a:lnTo>
                    <a:lnTo>
                      <a:pt x="181" y="160"/>
                    </a:lnTo>
                    <a:lnTo>
                      <a:pt x="185" y="149"/>
                    </a:lnTo>
                    <a:lnTo>
                      <a:pt x="164" y="146"/>
                    </a:lnTo>
                    <a:lnTo>
                      <a:pt x="162" y="155"/>
                    </a:lnTo>
                    <a:lnTo>
                      <a:pt x="159" y="160"/>
                    </a:lnTo>
                    <a:lnTo>
                      <a:pt x="154" y="168"/>
                    </a:lnTo>
                    <a:lnTo>
                      <a:pt x="148" y="175"/>
                    </a:lnTo>
                    <a:lnTo>
                      <a:pt x="142" y="168"/>
                    </a:lnTo>
                    <a:lnTo>
                      <a:pt x="144" y="156"/>
                    </a:lnTo>
                    <a:lnTo>
                      <a:pt x="148" y="146"/>
                    </a:lnTo>
                    <a:lnTo>
                      <a:pt x="149" y="136"/>
                    </a:lnTo>
                    <a:lnTo>
                      <a:pt x="148" y="124"/>
                    </a:lnTo>
                    <a:lnTo>
                      <a:pt x="138" y="124"/>
                    </a:lnTo>
                    <a:lnTo>
                      <a:pt x="128" y="132"/>
                    </a:lnTo>
                    <a:lnTo>
                      <a:pt x="125" y="137"/>
                    </a:lnTo>
                    <a:lnTo>
                      <a:pt x="120" y="146"/>
                    </a:lnTo>
                    <a:lnTo>
                      <a:pt x="119" y="156"/>
                    </a:lnTo>
                    <a:lnTo>
                      <a:pt x="118" y="166"/>
                    </a:lnTo>
                    <a:lnTo>
                      <a:pt x="112" y="158"/>
                    </a:lnTo>
                    <a:lnTo>
                      <a:pt x="112" y="146"/>
                    </a:lnTo>
                    <a:lnTo>
                      <a:pt x="112" y="132"/>
                    </a:lnTo>
                    <a:lnTo>
                      <a:pt x="110" y="117"/>
                    </a:lnTo>
                    <a:lnTo>
                      <a:pt x="89" y="124"/>
                    </a:lnTo>
                    <a:lnTo>
                      <a:pt x="90" y="130"/>
                    </a:lnTo>
                    <a:lnTo>
                      <a:pt x="87" y="137"/>
                    </a:lnTo>
                    <a:lnTo>
                      <a:pt x="86" y="145"/>
                    </a:lnTo>
                    <a:lnTo>
                      <a:pt x="87" y="153"/>
                    </a:lnTo>
                    <a:lnTo>
                      <a:pt x="80" y="153"/>
                    </a:lnTo>
                    <a:lnTo>
                      <a:pt x="78" y="146"/>
                    </a:lnTo>
                    <a:lnTo>
                      <a:pt x="77" y="137"/>
                    </a:lnTo>
                    <a:lnTo>
                      <a:pt x="73" y="130"/>
                    </a:lnTo>
                    <a:lnTo>
                      <a:pt x="68" y="124"/>
                    </a:lnTo>
                    <a:lnTo>
                      <a:pt x="57" y="126"/>
                    </a:lnTo>
                    <a:lnTo>
                      <a:pt x="55" y="134"/>
                    </a:lnTo>
                    <a:lnTo>
                      <a:pt x="54" y="146"/>
                    </a:lnTo>
                    <a:lnTo>
                      <a:pt x="54" y="156"/>
                    </a:lnTo>
                    <a:lnTo>
                      <a:pt x="55" y="168"/>
                    </a:lnTo>
                    <a:lnTo>
                      <a:pt x="51" y="179"/>
                    </a:lnTo>
                    <a:lnTo>
                      <a:pt x="44" y="188"/>
                    </a:lnTo>
                    <a:lnTo>
                      <a:pt x="37" y="198"/>
                    </a:lnTo>
                    <a:lnTo>
                      <a:pt x="32" y="211"/>
                    </a:lnTo>
                    <a:lnTo>
                      <a:pt x="29" y="218"/>
                    </a:lnTo>
                    <a:lnTo>
                      <a:pt x="31" y="227"/>
                    </a:lnTo>
                    <a:lnTo>
                      <a:pt x="31" y="236"/>
                    </a:lnTo>
                    <a:lnTo>
                      <a:pt x="31" y="246"/>
                    </a:lnTo>
                    <a:lnTo>
                      <a:pt x="26" y="236"/>
                    </a:lnTo>
                    <a:lnTo>
                      <a:pt x="22" y="224"/>
                    </a:lnTo>
                    <a:lnTo>
                      <a:pt x="18" y="214"/>
                    </a:lnTo>
                    <a:lnTo>
                      <a:pt x="12" y="204"/>
                    </a:lnTo>
                    <a:lnTo>
                      <a:pt x="0" y="185"/>
                    </a:lnTo>
                    <a:lnTo>
                      <a:pt x="2" y="162"/>
                    </a:lnTo>
                    <a:lnTo>
                      <a:pt x="5" y="139"/>
                    </a:lnTo>
                    <a:lnTo>
                      <a:pt x="9" y="114"/>
                    </a:lnTo>
                    <a:lnTo>
                      <a:pt x="13" y="91"/>
                    </a:lnTo>
                    <a:lnTo>
                      <a:pt x="21" y="67"/>
                    </a:lnTo>
                    <a:lnTo>
                      <a:pt x="28" y="45"/>
                    </a:lnTo>
                    <a:lnTo>
                      <a:pt x="37" y="22"/>
                    </a:lnTo>
                    <a:lnTo>
                      <a:pt x="48" y="1"/>
                    </a:lnTo>
                    <a:lnTo>
                      <a:pt x="74" y="0"/>
                    </a:lnTo>
                    <a:lnTo>
                      <a:pt x="100" y="0"/>
                    </a:lnTo>
                    <a:lnTo>
                      <a:pt x="129" y="3"/>
                    </a:lnTo>
                    <a:lnTo>
                      <a:pt x="157" y="7"/>
                    </a:lnTo>
                    <a:lnTo>
                      <a:pt x="184" y="14"/>
                    </a:lnTo>
                    <a:lnTo>
                      <a:pt x="210" y="22"/>
                    </a:lnTo>
                    <a:lnTo>
                      <a:pt x="236" y="30"/>
                    </a:lnTo>
                    <a:lnTo>
                      <a:pt x="259" y="40"/>
                    </a:lnTo>
                    <a:lnTo>
                      <a:pt x="275" y="61"/>
                    </a:lnTo>
                    <a:lnTo>
                      <a:pt x="292" y="81"/>
                    </a:lnTo>
                    <a:lnTo>
                      <a:pt x="311" y="101"/>
                    </a:lnTo>
                    <a:lnTo>
                      <a:pt x="330" y="121"/>
                    </a:lnTo>
                    <a:lnTo>
                      <a:pt x="349" y="142"/>
                    </a:lnTo>
                    <a:lnTo>
                      <a:pt x="368" y="163"/>
                    </a:lnTo>
                    <a:lnTo>
                      <a:pt x="385" y="184"/>
                    </a:lnTo>
                    <a:lnTo>
                      <a:pt x="402" y="205"/>
                    </a:lnTo>
                    <a:lnTo>
                      <a:pt x="410" y="225"/>
                    </a:lnTo>
                    <a:lnTo>
                      <a:pt x="410" y="237"/>
                    </a:lnTo>
                    <a:lnTo>
                      <a:pt x="395" y="257"/>
                    </a:lnTo>
                    <a:lnTo>
                      <a:pt x="388" y="262"/>
                    </a:lnTo>
                    <a:lnTo>
                      <a:pt x="381" y="266"/>
                    </a:lnTo>
                    <a:lnTo>
                      <a:pt x="372" y="270"/>
                    </a:lnTo>
                    <a:lnTo>
                      <a:pt x="363" y="273"/>
                    </a:lnTo>
                    <a:lnTo>
                      <a:pt x="355" y="276"/>
                    </a:lnTo>
                    <a:lnTo>
                      <a:pt x="345" y="279"/>
                    </a:lnTo>
                    <a:lnTo>
                      <a:pt x="336" y="283"/>
                    </a:lnTo>
                    <a:lnTo>
                      <a:pt x="326" y="286"/>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8362800" y="2114640"/>
                <a:ext cx="11160" cy="12600"/>
              </a:xfrm>
              <a:custGeom>
                <a:avLst/>
                <a:gdLst/>
                <a:ahLst/>
                <a:rect l="l" t="t" r="r" b="b"/>
                <a:pathLst>
                  <a:path w="19" h="25">
                    <a:moveTo>
                      <a:pt x="13" y="25"/>
                    </a:moveTo>
                    <a:lnTo>
                      <a:pt x="0" y="17"/>
                    </a:lnTo>
                    <a:lnTo>
                      <a:pt x="0" y="10"/>
                    </a:lnTo>
                    <a:lnTo>
                      <a:pt x="3" y="3"/>
                    </a:lnTo>
                    <a:lnTo>
                      <a:pt x="8" y="0"/>
                    </a:lnTo>
                    <a:lnTo>
                      <a:pt x="19" y="1"/>
                    </a:lnTo>
                    <a:lnTo>
                      <a:pt x="1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5" name=""/>
              <p:cNvSpPr/>
              <p:nvPr/>
            </p:nvSpPr>
            <p:spPr>
              <a:xfrm>
                <a:off x="7891560" y="2112840"/>
                <a:ext cx="12600" cy="12960"/>
              </a:xfrm>
              <a:custGeom>
                <a:avLst/>
                <a:gdLst/>
                <a:ahLst/>
                <a:rect l="l" t="t" r="r" b="b"/>
                <a:pathLst>
                  <a:path w="22" h="23">
                    <a:moveTo>
                      <a:pt x="16" y="23"/>
                    </a:moveTo>
                    <a:lnTo>
                      <a:pt x="0" y="4"/>
                    </a:lnTo>
                    <a:lnTo>
                      <a:pt x="22" y="0"/>
                    </a:lnTo>
                    <a:lnTo>
                      <a:pt x="16"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16" name=""/>
              <p:cNvSpPr/>
              <p:nvPr/>
            </p:nvSpPr>
            <p:spPr>
              <a:xfrm>
                <a:off x="7742160" y="2092320"/>
                <a:ext cx="14400" cy="15840"/>
              </a:xfrm>
              <a:custGeom>
                <a:avLst/>
                <a:gdLst/>
                <a:ahLst/>
                <a:rect l="l" t="t" r="r" b="b"/>
                <a:pathLst>
                  <a:path w="25" h="30">
                    <a:moveTo>
                      <a:pt x="10" y="30"/>
                    </a:moveTo>
                    <a:lnTo>
                      <a:pt x="0" y="23"/>
                    </a:lnTo>
                    <a:lnTo>
                      <a:pt x="0" y="16"/>
                    </a:lnTo>
                    <a:lnTo>
                      <a:pt x="1" y="8"/>
                    </a:lnTo>
                    <a:lnTo>
                      <a:pt x="6" y="3"/>
                    </a:lnTo>
                    <a:lnTo>
                      <a:pt x="16" y="0"/>
                    </a:lnTo>
                    <a:lnTo>
                      <a:pt x="23" y="7"/>
                    </a:lnTo>
                    <a:lnTo>
                      <a:pt x="25" y="14"/>
                    </a:lnTo>
                    <a:lnTo>
                      <a:pt x="22" y="18"/>
                    </a:lnTo>
                    <a:lnTo>
                      <a:pt x="16" y="24"/>
                    </a:lnTo>
                    <a:lnTo>
                      <a:pt x="1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17" name=""/>
              <p:cNvSpPr/>
              <p:nvPr/>
            </p:nvSpPr>
            <p:spPr>
              <a:xfrm>
                <a:off x="7974000" y="2087640"/>
                <a:ext cx="7920" cy="9360"/>
              </a:xfrm>
              <a:custGeom>
                <a:avLst/>
                <a:gdLst/>
                <a:ahLst/>
                <a:rect l="l" t="t" r="r" b="b"/>
                <a:pathLst>
                  <a:path w="15" h="20">
                    <a:moveTo>
                      <a:pt x="2" y="20"/>
                    </a:moveTo>
                    <a:lnTo>
                      <a:pt x="0" y="0"/>
                    </a:lnTo>
                    <a:lnTo>
                      <a:pt x="12" y="0"/>
                    </a:lnTo>
                    <a:lnTo>
                      <a:pt x="15" y="4"/>
                    </a:lnTo>
                    <a:lnTo>
                      <a:pt x="13" y="13"/>
                    </a:lnTo>
                    <a:lnTo>
                      <a:pt x="9" y="20"/>
                    </a:lnTo>
                    <a:lnTo>
                      <a:pt x="2"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8" name=""/>
              <p:cNvSpPr/>
              <p:nvPr/>
            </p:nvSpPr>
            <p:spPr>
              <a:xfrm>
                <a:off x="8264520" y="2073240"/>
                <a:ext cx="9360" cy="14400"/>
              </a:xfrm>
              <a:custGeom>
                <a:avLst/>
                <a:gdLst/>
                <a:ahLst/>
                <a:rect l="l" t="t" r="r" b="b"/>
                <a:pathLst>
                  <a:path w="19" h="25">
                    <a:moveTo>
                      <a:pt x="3" y="25"/>
                    </a:moveTo>
                    <a:lnTo>
                      <a:pt x="0" y="19"/>
                    </a:lnTo>
                    <a:lnTo>
                      <a:pt x="1" y="11"/>
                    </a:lnTo>
                    <a:lnTo>
                      <a:pt x="7" y="5"/>
                    </a:lnTo>
                    <a:lnTo>
                      <a:pt x="13" y="0"/>
                    </a:lnTo>
                    <a:lnTo>
                      <a:pt x="19" y="6"/>
                    </a:lnTo>
                    <a:lnTo>
                      <a:pt x="17" y="15"/>
                    </a:lnTo>
                    <a:lnTo>
                      <a:pt x="10" y="22"/>
                    </a:lnTo>
                    <a:lnTo>
                      <a:pt x="3"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9" name=""/>
              <p:cNvSpPr/>
              <p:nvPr/>
            </p:nvSpPr>
            <p:spPr>
              <a:xfrm>
                <a:off x="8116920" y="2071800"/>
                <a:ext cx="9360" cy="12600"/>
              </a:xfrm>
              <a:custGeom>
                <a:avLst/>
                <a:gdLst/>
                <a:ahLst/>
                <a:rect l="l" t="t" r="r" b="b"/>
                <a:pathLst>
                  <a:path w="19" h="23">
                    <a:moveTo>
                      <a:pt x="0" y="20"/>
                    </a:moveTo>
                    <a:lnTo>
                      <a:pt x="2" y="13"/>
                    </a:lnTo>
                    <a:lnTo>
                      <a:pt x="3" y="6"/>
                    </a:lnTo>
                    <a:lnTo>
                      <a:pt x="9" y="0"/>
                    </a:lnTo>
                    <a:lnTo>
                      <a:pt x="19" y="0"/>
                    </a:lnTo>
                    <a:lnTo>
                      <a:pt x="19" y="9"/>
                    </a:lnTo>
                    <a:lnTo>
                      <a:pt x="16" y="17"/>
                    </a:lnTo>
                    <a:lnTo>
                      <a:pt x="10" y="23"/>
                    </a:lnTo>
                    <a:lnTo>
                      <a:pt x="0"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0" name=""/>
              <p:cNvSpPr/>
              <p:nvPr/>
            </p:nvSpPr>
            <p:spPr>
              <a:xfrm>
                <a:off x="7169040" y="1932120"/>
                <a:ext cx="204840" cy="160200"/>
              </a:xfrm>
              <a:custGeom>
                <a:avLst/>
                <a:gdLst/>
                <a:ahLst/>
                <a:rect l="l" t="t" r="r" b="b"/>
                <a:pathLst>
                  <a:path w="386" h="301">
                    <a:moveTo>
                      <a:pt x="309" y="301"/>
                    </a:moveTo>
                    <a:lnTo>
                      <a:pt x="311" y="293"/>
                    </a:lnTo>
                    <a:lnTo>
                      <a:pt x="312" y="286"/>
                    </a:lnTo>
                    <a:lnTo>
                      <a:pt x="315" y="279"/>
                    </a:lnTo>
                    <a:lnTo>
                      <a:pt x="318" y="269"/>
                    </a:lnTo>
                    <a:lnTo>
                      <a:pt x="311" y="263"/>
                    </a:lnTo>
                    <a:lnTo>
                      <a:pt x="304" y="265"/>
                    </a:lnTo>
                    <a:lnTo>
                      <a:pt x="298" y="270"/>
                    </a:lnTo>
                    <a:lnTo>
                      <a:pt x="291" y="276"/>
                    </a:lnTo>
                    <a:lnTo>
                      <a:pt x="283" y="273"/>
                    </a:lnTo>
                    <a:lnTo>
                      <a:pt x="282" y="265"/>
                    </a:lnTo>
                    <a:lnTo>
                      <a:pt x="285" y="259"/>
                    </a:lnTo>
                    <a:lnTo>
                      <a:pt x="288" y="252"/>
                    </a:lnTo>
                    <a:lnTo>
                      <a:pt x="289" y="241"/>
                    </a:lnTo>
                    <a:lnTo>
                      <a:pt x="280" y="239"/>
                    </a:lnTo>
                    <a:lnTo>
                      <a:pt x="273" y="239"/>
                    </a:lnTo>
                    <a:lnTo>
                      <a:pt x="266" y="243"/>
                    </a:lnTo>
                    <a:lnTo>
                      <a:pt x="256" y="247"/>
                    </a:lnTo>
                    <a:lnTo>
                      <a:pt x="259" y="237"/>
                    </a:lnTo>
                    <a:lnTo>
                      <a:pt x="262" y="227"/>
                    </a:lnTo>
                    <a:lnTo>
                      <a:pt x="266" y="214"/>
                    </a:lnTo>
                    <a:lnTo>
                      <a:pt x="270" y="202"/>
                    </a:lnTo>
                    <a:lnTo>
                      <a:pt x="260" y="201"/>
                    </a:lnTo>
                    <a:lnTo>
                      <a:pt x="254" y="205"/>
                    </a:lnTo>
                    <a:lnTo>
                      <a:pt x="249" y="211"/>
                    </a:lnTo>
                    <a:lnTo>
                      <a:pt x="240" y="214"/>
                    </a:lnTo>
                    <a:lnTo>
                      <a:pt x="244" y="189"/>
                    </a:lnTo>
                    <a:lnTo>
                      <a:pt x="236" y="187"/>
                    </a:lnTo>
                    <a:lnTo>
                      <a:pt x="230" y="189"/>
                    </a:lnTo>
                    <a:lnTo>
                      <a:pt x="223" y="194"/>
                    </a:lnTo>
                    <a:lnTo>
                      <a:pt x="213" y="198"/>
                    </a:lnTo>
                    <a:lnTo>
                      <a:pt x="211" y="191"/>
                    </a:lnTo>
                    <a:lnTo>
                      <a:pt x="213" y="184"/>
                    </a:lnTo>
                    <a:lnTo>
                      <a:pt x="217" y="176"/>
                    </a:lnTo>
                    <a:lnTo>
                      <a:pt x="221" y="169"/>
                    </a:lnTo>
                    <a:lnTo>
                      <a:pt x="226" y="158"/>
                    </a:lnTo>
                    <a:lnTo>
                      <a:pt x="220" y="152"/>
                    </a:lnTo>
                    <a:lnTo>
                      <a:pt x="213" y="153"/>
                    </a:lnTo>
                    <a:lnTo>
                      <a:pt x="205" y="158"/>
                    </a:lnTo>
                    <a:lnTo>
                      <a:pt x="197" y="159"/>
                    </a:lnTo>
                    <a:lnTo>
                      <a:pt x="204" y="136"/>
                    </a:lnTo>
                    <a:lnTo>
                      <a:pt x="197" y="132"/>
                    </a:lnTo>
                    <a:lnTo>
                      <a:pt x="189" y="136"/>
                    </a:lnTo>
                    <a:lnTo>
                      <a:pt x="182" y="142"/>
                    </a:lnTo>
                    <a:lnTo>
                      <a:pt x="175" y="145"/>
                    </a:lnTo>
                    <a:lnTo>
                      <a:pt x="175" y="132"/>
                    </a:lnTo>
                    <a:lnTo>
                      <a:pt x="179" y="120"/>
                    </a:lnTo>
                    <a:lnTo>
                      <a:pt x="184" y="108"/>
                    </a:lnTo>
                    <a:lnTo>
                      <a:pt x="182" y="93"/>
                    </a:lnTo>
                    <a:lnTo>
                      <a:pt x="172" y="93"/>
                    </a:lnTo>
                    <a:lnTo>
                      <a:pt x="163" y="101"/>
                    </a:lnTo>
                    <a:lnTo>
                      <a:pt x="158" y="108"/>
                    </a:lnTo>
                    <a:lnTo>
                      <a:pt x="153" y="116"/>
                    </a:lnTo>
                    <a:lnTo>
                      <a:pt x="143" y="126"/>
                    </a:lnTo>
                    <a:lnTo>
                      <a:pt x="139" y="119"/>
                    </a:lnTo>
                    <a:lnTo>
                      <a:pt x="139" y="111"/>
                    </a:lnTo>
                    <a:lnTo>
                      <a:pt x="142" y="104"/>
                    </a:lnTo>
                    <a:lnTo>
                      <a:pt x="143" y="95"/>
                    </a:lnTo>
                    <a:lnTo>
                      <a:pt x="147" y="85"/>
                    </a:lnTo>
                    <a:lnTo>
                      <a:pt x="134" y="78"/>
                    </a:lnTo>
                    <a:lnTo>
                      <a:pt x="124" y="85"/>
                    </a:lnTo>
                    <a:lnTo>
                      <a:pt x="121" y="88"/>
                    </a:lnTo>
                    <a:lnTo>
                      <a:pt x="120" y="95"/>
                    </a:lnTo>
                    <a:lnTo>
                      <a:pt x="116" y="104"/>
                    </a:lnTo>
                    <a:lnTo>
                      <a:pt x="108" y="111"/>
                    </a:lnTo>
                    <a:lnTo>
                      <a:pt x="100" y="106"/>
                    </a:lnTo>
                    <a:lnTo>
                      <a:pt x="104" y="95"/>
                    </a:lnTo>
                    <a:lnTo>
                      <a:pt x="104" y="87"/>
                    </a:lnTo>
                    <a:lnTo>
                      <a:pt x="106" y="78"/>
                    </a:lnTo>
                    <a:lnTo>
                      <a:pt x="111" y="72"/>
                    </a:lnTo>
                    <a:lnTo>
                      <a:pt x="100" y="68"/>
                    </a:lnTo>
                    <a:lnTo>
                      <a:pt x="93" y="69"/>
                    </a:lnTo>
                    <a:lnTo>
                      <a:pt x="87" y="75"/>
                    </a:lnTo>
                    <a:lnTo>
                      <a:pt x="84" y="84"/>
                    </a:lnTo>
                    <a:lnTo>
                      <a:pt x="78" y="93"/>
                    </a:lnTo>
                    <a:lnTo>
                      <a:pt x="75" y="82"/>
                    </a:lnTo>
                    <a:lnTo>
                      <a:pt x="78" y="72"/>
                    </a:lnTo>
                    <a:lnTo>
                      <a:pt x="79" y="64"/>
                    </a:lnTo>
                    <a:lnTo>
                      <a:pt x="74" y="56"/>
                    </a:lnTo>
                    <a:lnTo>
                      <a:pt x="68" y="64"/>
                    </a:lnTo>
                    <a:lnTo>
                      <a:pt x="61" y="71"/>
                    </a:lnTo>
                    <a:lnTo>
                      <a:pt x="53" y="80"/>
                    </a:lnTo>
                    <a:lnTo>
                      <a:pt x="48" y="94"/>
                    </a:lnTo>
                    <a:lnTo>
                      <a:pt x="38" y="95"/>
                    </a:lnTo>
                    <a:lnTo>
                      <a:pt x="38" y="88"/>
                    </a:lnTo>
                    <a:lnTo>
                      <a:pt x="38" y="80"/>
                    </a:lnTo>
                    <a:lnTo>
                      <a:pt x="36" y="71"/>
                    </a:lnTo>
                    <a:lnTo>
                      <a:pt x="30" y="64"/>
                    </a:lnTo>
                    <a:lnTo>
                      <a:pt x="20" y="68"/>
                    </a:lnTo>
                    <a:lnTo>
                      <a:pt x="20" y="78"/>
                    </a:lnTo>
                    <a:lnTo>
                      <a:pt x="19" y="88"/>
                    </a:lnTo>
                    <a:lnTo>
                      <a:pt x="9" y="93"/>
                    </a:lnTo>
                    <a:lnTo>
                      <a:pt x="0" y="87"/>
                    </a:lnTo>
                    <a:lnTo>
                      <a:pt x="1" y="69"/>
                    </a:lnTo>
                    <a:lnTo>
                      <a:pt x="4" y="54"/>
                    </a:lnTo>
                    <a:lnTo>
                      <a:pt x="7" y="39"/>
                    </a:lnTo>
                    <a:lnTo>
                      <a:pt x="9" y="22"/>
                    </a:lnTo>
                    <a:lnTo>
                      <a:pt x="14" y="17"/>
                    </a:lnTo>
                    <a:lnTo>
                      <a:pt x="22" y="13"/>
                    </a:lnTo>
                    <a:lnTo>
                      <a:pt x="29" y="7"/>
                    </a:lnTo>
                    <a:lnTo>
                      <a:pt x="38" y="2"/>
                    </a:lnTo>
                    <a:lnTo>
                      <a:pt x="56" y="2"/>
                    </a:lnTo>
                    <a:lnTo>
                      <a:pt x="75" y="0"/>
                    </a:lnTo>
                    <a:lnTo>
                      <a:pt x="94" y="0"/>
                    </a:lnTo>
                    <a:lnTo>
                      <a:pt x="114" y="0"/>
                    </a:lnTo>
                    <a:lnTo>
                      <a:pt x="134" y="0"/>
                    </a:lnTo>
                    <a:lnTo>
                      <a:pt x="155" y="2"/>
                    </a:lnTo>
                    <a:lnTo>
                      <a:pt x="175" y="4"/>
                    </a:lnTo>
                    <a:lnTo>
                      <a:pt x="195" y="9"/>
                    </a:lnTo>
                    <a:lnTo>
                      <a:pt x="200" y="13"/>
                    </a:lnTo>
                    <a:lnTo>
                      <a:pt x="207" y="20"/>
                    </a:lnTo>
                    <a:lnTo>
                      <a:pt x="214" y="26"/>
                    </a:lnTo>
                    <a:lnTo>
                      <a:pt x="223" y="29"/>
                    </a:lnTo>
                    <a:lnTo>
                      <a:pt x="239" y="46"/>
                    </a:lnTo>
                    <a:lnTo>
                      <a:pt x="254" y="62"/>
                    </a:lnTo>
                    <a:lnTo>
                      <a:pt x="272" y="80"/>
                    </a:lnTo>
                    <a:lnTo>
                      <a:pt x="289" y="97"/>
                    </a:lnTo>
                    <a:lnTo>
                      <a:pt x="307" y="114"/>
                    </a:lnTo>
                    <a:lnTo>
                      <a:pt x="324" y="132"/>
                    </a:lnTo>
                    <a:lnTo>
                      <a:pt x="343" y="150"/>
                    </a:lnTo>
                    <a:lnTo>
                      <a:pt x="361" y="171"/>
                    </a:lnTo>
                    <a:lnTo>
                      <a:pt x="369" y="185"/>
                    </a:lnTo>
                    <a:lnTo>
                      <a:pt x="374" y="200"/>
                    </a:lnTo>
                    <a:lnTo>
                      <a:pt x="382" y="215"/>
                    </a:lnTo>
                    <a:lnTo>
                      <a:pt x="386" y="233"/>
                    </a:lnTo>
                    <a:lnTo>
                      <a:pt x="382" y="254"/>
                    </a:lnTo>
                    <a:lnTo>
                      <a:pt x="380" y="263"/>
                    </a:lnTo>
                    <a:lnTo>
                      <a:pt x="377" y="270"/>
                    </a:lnTo>
                    <a:lnTo>
                      <a:pt x="372" y="278"/>
                    </a:lnTo>
                    <a:lnTo>
                      <a:pt x="363" y="285"/>
                    </a:lnTo>
                    <a:lnTo>
                      <a:pt x="356" y="289"/>
                    </a:lnTo>
                    <a:lnTo>
                      <a:pt x="348" y="292"/>
                    </a:lnTo>
                    <a:lnTo>
                      <a:pt x="343" y="293"/>
                    </a:lnTo>
                    <a:lnTo>
                      <a:pt x="337" y="295"/>
                    </a:lnTo>
                    <a:lnTo>
                      <a:pt x="331" y="296"/>
                    </a:lnTo>
                    <a:lnTo>
                      <a:pt x="324" y="296"/>
                    </a:lnTo>
                    <a:lnTo>
                      <a:pt x="317" y="298"/>
                    </a:lnTo>
                    <a:lnTo>
                      <a:pt x="309" y="301"/>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993000" y="2082960"/>
                <a:ext cx="12600" cy="12600"/>
              </a:xfrm>
              <a:custGeom>
                <a:avLst/>
                <a:gdLst/>
                <a:ahLst/>
                <a:rect l="l" t="t" r="r" b="b"/>
                <a:pathLst>
                  <a:path w="23" h="23">
                    <a:moveTo>
                      <a:pt x="3" y="23"/>
                    </a:moveTo>
                    <a:lnTo>
                      <a:pt x="0" y="0"/>
                    </a:lnTo>
                    <a:lnTo>
                      <a:pt x="23" y="4"/>
                    </a:lnTo>
                    <a:lnTo>
                      <a:pt x="23" y="13"/>
                    </a:lnTo>
                    <a:lnTo>
                      <a:pt x="19" y="19"/>
                    </a:lnTo>
                    <a:lnTo>
                      <a:pt x="13" y="23"/>
                    </a:lnTo>
                    <a:lnTo>
                      <a:pt x="3"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2" name=""/>
              <p:cNvSpPr/>
              <p:nvPr/>
            </p:nvSpPr>
            <p:spPr>
              <a:xfrm>
                <a:off x="7861320" y="2070000"/>
                <a:ext cx="7920" cy="12960"/>
              </a:xfrm>
              <a:custGeom>
                <a:avLst/>
                <a:gdLst/>
                <a:ahLst/>
                <a:rect l="l" t="t" r="r" b="b"/>
                <a:pathLst>
                  <a:path w="16" h="26">
                    <a:moveTo>
                      <a:pt x="7" y="26"/>
                    </a:moveTo>
                    <a:lnTo>
                      <a:pt x="1" y="23"/>
                    </a:lnTo>
                    <a:lnTo>
                      <a:pt x="0" y="14"/>
                    </a:lnTo>
                    <a:lnTo>
                      <a:pt x="3" y="4"/>
                    </a:lnTo>
                    <a:lnTo>
                      <a:pt x="8" y="0"/>
                    </a:lnTo>
                    <a:lnTo>
                      <a:pt x="13" y="3"/>
                    </a:lnTo>
                    <a:lnTo>
                      <a:pt x="14" y="8"/>
                    </a:lnTo>
                    <a:lnTo>
                      <a:pt x="16" y="17"/>
                    </a:lnTo>
                    <a:lnTo>
                      <a:pt x="16" y="26"/>
                    </a:lnTo>
                    <a:lnTo>
                      <a:pt x="7" y="2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3" name=""/>
              <p:cNvSpPr/>
              <p:nvPr/>
            </p:nvSpPr>
            <p:spPr>
              <a:xfrm>
                <a:off x="8055000" y="2063880"/>
                <a:ext cx="14400" cy="9360"/>
              </a:xfrm>
              <a:custGeom>
                <a:avLst/>
                <a:gdLst/>
                <a:ahLst/>
                <a:rect l="l" t="t" r="r" b="b"/>
                <a:pathLst>
                  <a:path w="25" h="18">
                    <a:moveTo>
                      <a:pt x="9" y="18"/>
                    </a:moveTo>
                    <a:lnTo>
                      <a:pt x="0" y="0"/>
                    </a:lnTo>
                    <a:lnTo>
                      <a:pt x="22" y="3"/>
                    </a:lnTo>
                    <a:lnTo>
                      <a:pt x="25" y="9"/>
                    </a:lnTo>
                    <a:lnTo>
                      <a:pt x="22" y="13"/>
                    </a:lnTo>
                    <a:lnTo>
                      <a:pt x="15" y="16"/>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4" name=""/>
              <p:cNvSpPr/>
              <p:nvPr/>
            </p:nvSpPr>
            <p:spPr>
              <a:xfrm>
                <a:off x="8358120" y="2057400"/>
                <a:ext cx="14400" cy="9360"/>
              </a:xfrm>
              <a:custGeom>
                <a:avLst/>
                <a:gdLst/>
                <a:ahLst/>
                <a:rect l="l" t="t" r="r" b="b"/>
                <a:pathLst>
                  <a:path w="26" h="16">
                    <a:moveTo>
                      <a:pt x="9" y="16"/>
                    </a:moveTo>
                    <a:lnTo>
                      <a:pt x="0" y="4"/>
                    </a:lnTo>
                    <a:lnTo>
                      <a:pt x="4" y="0"/>
                    </a:lnTo>
                    <a:lnTo>
                      <a:pt x="13" y="0"/>
                    </a:lnTo>
                    <a:lnTo>
                      <a:pt x="22" y="3"/>
                    </a:lnTo>
                    <a:lnTo>
                      <a:pt x="26" y="10"/>
                    </a:lnTo>
                    <a:lnTo>
                      <a:pt x="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5" name=""/>
              <p:cNvSpPr/>
              <p:nvPr/>
            </p:nvSpPr>
            <p:spPr>
              <a:xfrm>
                <a:off x="7054920" y="2058840"/>
                <a:ext cx="9360" cy="11160"/>
              </a:xfrm>
              <a:custGeom>
                <a:avLst/>
                <a:gdLst/>
                <a:ahLst/>
                <a:rect l="l" t="t" r="r" b="b"/>
                <a:pathLst>
                  <a:path w="20" h="20">
                    <a:moveTo>
                      <a:pt x="4" y="20"/>
                    </a:moveTo>
                    <a:lnTo>
                      <a:pt x="0" y="0"/>
                    </a:lnTo>
                    <a:lnTo>
                      <a:pt x="20" y="0"/>
                    </a:lnTo>
                    <a:lnTo>
                      <a:pt x="20" y="7"/>
                    </a:lnTo>
                    <a:lnTo>
                      <a:pt x="18" y="14"/>
                    </a:lnTo>
                    <a:lnTo>
                      <a:pt x="13"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6" name=""/>
              <p:cNvSpPr/>
              <p:nvPr/>
            </p:nvSpPr>
            <p:spPr>
              <a:xfrm>
                <a:off x="7800840" y="2036880"/>
                <a:ext cx="12960" cy="17280"/>
              </a:xfrm>
              <a:custGeom>
                <a:avLst/>
                <a:gdLst/>
                <a:ahLst/>
                <a:rect l="l" t="t" r="r" b="b"/>
                <a:pathLst>
                  <a:path w="22" h="32">
                    <a:moveTo>
                      <a:pt x="8" y="30"/>
                    </a:moveTo>
                    <a:lnTo>
                      <a:pt x="0" y="25"/>
                    </a:lnTo>
                    <a:lnTo>
                      <a:pt x="6" y="17"/>
                    </a:lnTo>
                    <a:lnTo>
                      <a:pt x="15" y="10"/>
                    </a:lnTo>
                    <a:lnTo>
                      <a:pt x="19" y="0"/>
                    </a:lnTo>
                    <a:lnTo>
                      <a:pt x="21" y="7"/>
                    </a:lnTo>
                    <a:lnTo>
                      <a:pt x="22" y="15"/>
                    </a:lnTo>
                    <a:lnTo>
                      <a:pt x="21" y="22"/>
                    </a:lnTo>
                    <a:lnTo>
                      <a:pt x="19" y="32"/>
                    </a:lnTo>
                    <a:lnTo>
                      <a:pt x="8" y="3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7" name=""/>
              <p:cNvSpPr/>
              <p:nvPr/>
            </p:nvSpPr>
            <p:spPr>
              <a:xfrm>
                <a:off x="7937640" y="2038320"/>
                <a:ext cx="6120" cy="12600"/>
              </a:xfrm>
              <a:custGeom>
                <a:avLst/>
                <a:gdLst/>
                <a:ahLst/>
                <a:rect l="l" t="t" r="r" b="b"/>
                <a:pathLst>
                  <a:path w="13" h="22">
                    <a:moveTo>
                      <a:pt x="0" y="22"/>
                    </a:moveTo>
                    <a:lnTo>
                      <a:pt x="2" y="0"/>
                    </a:lnTo>
                    <a:lnTo>
                      <a:pt x="12" y="0"/>
                    </a:lnTo>
                    <a:lnTo>
                      <a:pt x="13" y="7"/>
                    </a:lnTo>
                    <a:lnTo>
                      <a:pt x="12" y="14"/>
                    </a:lnTo>
                    <a:lnTo>
                      <a:pt x="8" y="20"/>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8" name=""/>
              <p:cNvSpPr/>
              <p:nvPr/>
            </p:nvSpPr>
            <p:spPr>
              <a:xfrm>
                <a:off x="7684920" y="2028960"/>
                <a:ext cx="16200" cy="10800"/>
              </a:xfrm>
              <a:custGeom>
                <a:avLst/>
                <a:gdLst/>
                <a:ahLst/>
                <a:rect l="l" t="t" r="r" b="b"/>
                <a:pathLst>
                  <a:path w="30" h="22">
                    <a:moveTo>
                      <a:pt x="17" y="22"/>
                    </a:moveTo>
                    <a:lnTo>
                      <a:pt x="0" y="5"/>
                    </a:lnTo>
                    <a:lnTo>
                      <a:pt x="5" y="0"/>
                    </a:lnTo>
                    <a:lnTo>
                      <a:pt x="13" y="2"/>
                    </a:lnTo>
                    <a:lnTo>
                      <a:pt x="23" y="5"/>
                    </a:lnTo>
                    <a:lnTo>
                      <a:pt x="30" y="7"/>
                    </a:lnTo>
                    <a:lnTo>
                      <a:pt x="17"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9" name=""/>
              <p:cNvSpPr/>
              <p:nvPr/>
            </p:nvSpPr>
            <p:spPr>
              <a:xfrm>
                <a:off x="8170920" y="2023920"/>
                <a:ext cx="11160" cy="9720"/>
              </a:xfrm>
              <a:custGeom>
                <a:avLst/>
                <a:gdLst/>
                <a:ahLst/>
                <a:rect l="l" t="t" r="r" b="b"/>
                <a:pathLst>
                  <a:path w="19" h="19">
                    <a:moveTo>
                      <a:pt x="4" y="19"/>
                    </a:moveTo>
                    <a:lnTo>
                      <a:pt x="0" y="0"/>
                    </a:lnTo>
                    <a:lnTo>
                      <a:pt x="19" y="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0" name=""/>
              <p:cNvSpPr/>
              <p:nvPr/>
            </p:nvSpPr>
            <p:spPr>
              <a:xfrm>
                <a:off x="7985160" y="2014560"/>
                <a:ext cx="9360" cy="11160"/>
              </a:xfrm>
              <a:custGeom>
                <a:avLst/>
                <a:gdLst/>
                <a:ahLst/>
                <a:rect l="l" t="t" r="r" b="b"/>
                <a:pathLst>
                  <a:path w="19" h="21">
                    <a:moveTo>
                      <a:pt x="6" y="21"/>
                    </a:moveTo>
                    <a:lnTo>
                      <a:pt x="0" y="0"/>
                    </a:lnTo>
                    <a:lnTo>
                      <a:pt x="19" y="3"/>
                    </a:lnTo>
                    <a:lnTo>
                      <a:pt x="19" y="8"/>
                    </a:lnTo>
                    <a:lnTo>
                      <a:pt x="16" y="14"/>
                    </a:lnTo>
                    <a:lnTo>
                      <a:pt x="12" y="20"/>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1" name=""/>
              <p:cNvSpPr/>
              <p:nvPr/>
            </p:nvSpPr>
            <p:spPr>
              <a:xfrm>
                <a:off x="8226360" y="2009880"/>
                <a:ext cx="9720" cy="12600"/>
              </a:xfrm>
              <a:custGeom>
                <a:avLst/>
                <a:gdLst/>
                <a:ahLst/>
                <a:rect l="l" t="t" r="r" b="b"/>
                <a:pathLst>
                  <a:path w="18" h="26">
                    <a:moveTo>
                      <a:pt x="5" y="26"/>
                    </a:moveTo>
                    <a:lnTo>
                      <a:pt x="1" y="23"/>
                    </a:lnTo>
                    <a:lnTo>
                      <a:pt x="0" y="14"/>
                    </a:lnTo>
                    <a:lnTo>
                      <a:pt x="4" y="4"/>
                    </a:lnTo>
                    <a:lnTo>
                      <a:pt x="11" y="0"/>
                    </a:lnTo>
                    <a:lnTo>
                      <a:pt x="18" y="2"/>
                    </a:lnTo>
                    <a:lnTo>
                      <a:pt x="17" y="13"/>
                    </a:lnTo>
                    <a:lnTo>
                      <a:pt x="11" y="21"/>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2" name=""/>
              <p:cNvSpPr/>
              <p:nvPr/>
            </p:nvSpPr>
            <p:spPr>
              <a:xfrm>
                <a:off x="7219800" y="1860480"/>
                <a:ext cx="187560" cy="157320"/>
              </a:xfrm>
              <a:custGeom>
                <a:avLst/>
                <a:gdLst/>
                <a:ahLst/>
                <a:rect l="l" t="t" r="r" b="b"/>
                <a:pathLst>
                  <a:path w="355" h="297">
                    <a:moveTo>
                      <a:pt x="311" y="297"/>
                    </a:moveTo>
                    <a:lnTo>
                      <a:pt x="310" y="290"/>
                    </a:lnTo>
                    <a:lnTo>
                      <a:pt x="308" y="283"/>
                    </a:lnTo>
                    <a:lnTo>
                      <a:pt x="308" y="274"/>
                    </a:lnTo>
                    <a:lnTo>
                      <a:pt x="307" y="264"/>
                    </a:lnTo>
                    <a:lnTo>
                      <a:pt x="301" y="264"/>
                    </a:lnTo>
                    <a:lnTo>
                      <a:pt x="294" y="266"/>
                    </a:lnTo>
                    <a:lnTo>
                      <a:pt x="287" y="270"/>
                    </a:lnTo>
                    <a:lnTo>
                      <a:pt x="278" y="271"/>
                    </a:lnTo>
                    <a:lnTo>
                      <a:pt x="281" y="258"/>
                    </a:lnTo>
                    <a:lnTo>
                      <a:pt x="285" y="248"/>
                    </a:lnTo>
                    <a:lnTo>
                      <a:pt x="288" y="238"/>
                    </a:lnTo>
                    <a:lnTo>
                      <a:pt x="287" y="227"/>
                    </a:lnTo>
                    <a:lnTo>
                      <a:pt x="277" y="224"/>
                    </a:lnTo>
                    <a:lnTo>
                      <a:pt x="268" y="227"/>
                    </a:lnTo>
                    <a:lnTo>
                      <a:pt x="262" y="234"/>
                    </a:lnTo>
                    <a:lnTo>
                      <a:pt x="258" y="243"/>
                    </a:lnTo>
                    <a:lnTo>
                      <a:pt x="249" y="234"/>
                    </a:lnTo>
                    <a:lnTo>
                      <a:pt x="253" y="228"/>
                    </a:lnTo>
                    <a:lnTo>
                      <a:pt x="259" y="221"/>
                    </a:lnTo>
                    <a:lnTo>
                      <a:pt x="264" y="214"/>
                    </a:lnTo>
                    <a:lnTo>
                      <a:pt x="268" y="204"/>
                    </a:lnTo>
                    <a:lnTo>
                      <a:pt x="249" y="195"/>
                    </a:lnTo>
                    <a:lnTo>
                      <a:pt x="233" y="219"/>
                    </a:lnTo>
                    <a:lnTo>
                      <a:pt x="229" y="211"/>
                    </a:lnTo>
                    <a:lnTo>
                      <a:pt x="232" y="202"/>
                    </a:lnTo>
                    <a:lnTo>
                      <a:pt x="236" y="191"/>
                    </a:lnTo>
                    <a:lnTo>
                      <a:pt x="239" y="179"/>
                    </a:lnTo>
                    <a:lnTo>
                      <a:pt x="238" y="167"/>
                    </a:lnTo>
                    <a:lnTo>
                      <a:pt x="214" y="173"/>
                    </a:lnTo>
                    <a:lnTo>
                      <a:pt x="204" y="193"/>
                    </a:lnTo>
                    <a:lnTo>
                      <a:pt x="206" y="186"/>
                    </a:lnTo>
                    <a:lnTo>
                      <a:pt x="207" y="178"/>
                    </a:lnTo>
                    <a:lnTo>
                      <a:pt x="210" y="169"/>
                    </a:lnTo>
                    <a:lnTo>
                      <a:pt x="213" y="159"/>
                    </a:lnTo>
                    <a:lnTo>
                      <a:pt x="210" y="149"/>
                    </a:lnTo>
                    <a:lnTo>
                      <a:pt x="203" y="144"/>
                    </a:lnTo>
                    <a:lnTo>
                      <a:pt x="194" y="147"/>
                    </a:lnTo>
                    <a:lnTo>
                      <a:pt x="190" y="156"/>
                    </a:lnTo>
                    <a:lnTo>
                      <a:pt x="187" y="165"/>
                    </a:lnTo>
                    <a:lnTo>
                      <a:pt x="181" y="172"/>
                    </a:lnTo>
                    <a:lnTo>
                      <a:pt x="174" y="166"/>
                    </a:lnTo>
                    <a:lnTo>
                      <a:pt x="174" y="144"/>
                    </a:lnTo>
                    <a:lnTo>
                      <a:pt x="178" y="140"/>
                    </a:lnTo>
                    <a:lnTo>
                      <a:pt x="181" y="131"/>
                    </a:lnTo>
                    <a:lnTo>
                      <a:pt x="183" y="123"/>
                    </a:lnTo>
                    <a:lnTo>
                      <a:pt x="187" y="114"/>
                    </a:lnTo>
                    <a:lnTo>
                      <a:pt x="165" y="114"/>
                    </a:lnTo>
                    <a:lnTo>
                      <a:pt x="162" y="123"/>
                    </a:lnTo>
                    <a:lnTo>
                      <a:pt x="157" y="127"/>
                    </a:lnTo>
                    <a:lnTo>
                      <a:pt x="149" y="133"/>
                    </a:lnTo>
                    <a:lnTo>
                      <a:pt x="148" y="143"/>
                    </a:lnTo>
                    <a:lnTo>
                      <a:pt x="148" y="130"/>
                    </a:lnTo>
                    <a:lnTo>
                      <a:pt x="149" y="117"/>
                    </a:lnTo>
                    <a:lnTo>
                      <a:pt x="152" y="104"/>
                    </a:lnTo>
                    <a:lnTo>
                      <a:pt x="155" y="91"/>
                    </a:lnTo>
                    <a:lnTo>
                      <a:pt x="146" y="84"/>
                    </a:lnTo>
                    <a:lnTo>
                      <a:pt x="138" y="85"/>
                    </a:lnTo>
                    <a:lnTo>
                      <a:pt x="133" y="89"/>
                    </a:lnTo>
                    <a:lnTo>
                      <a:pt x="131" y="98"/>
                    </a:lnTo>
                    <a:lnTo>
                      <a:pt x="128" y="107"/>
                    </a:lnTo>
                    <a:lnTo>
                      <a:pt x="123" y="115"/>
                    </a:lnTo>
                    <a:lnTo>
                      <a:pt x="116" y="124"/>
                    </a:lnTo>
                    <a:lnTo>
                      <a:pt x="109" y="111"/>
                    </a:lnTo>
                    <a:lnTo>
                      <a:pt x="110" y="101"/>
                    </a:lnTo>
                    <a:lnTo>
                      <a:pt x="113" y="89"/>
                    </a:lnTo>
                    <a:lnTo>
                      <a:pt x="115" y="78"/>
                    </a:lnTo>
                    <a:lnTo>
                      <a:pt x="107" y="71"/>
                    </a:lnTo>
                    <a:lnTo>
                      <a:pt x="97" y="71"/>
                    </a:lnTo>
                    <a:lnTo>
                      <a:pt x="91" y="76"/>
                    </a:lnTo>
                    <a:lnTo>
                      <a:pt x="89" y="87"/>
                    </a:lnTo>
                    <a:lnTo>
                      <a:pt x="84" y="98"/>
                    </a:lnTo>
                    <a:lnTo>
                      <a:pt x="78" y="107"/>
                    </a:lnTo>
                    <a:lnTo>
                      <a:pt x="71" y="100"/>
                    </a:lnTo>
                    <a:lnTo>
                      <a:pt x="73" y="91"/>
                    </a:lnTo>
                    <a:lnTo>
                      <a:pt x="74" y="81"/>
                    </a:lnTo>
                    <a:lnTo>
                      <a:pt x="76" y="69"/>
                    </a:lnTo>
                    <a:lnTo>
                      <a:pt x="78" y="58"/>
                    </a:lnTo>
                    <a:lnTo>
                      <a:pt x="57" y="56"/>
                    </a:lnTo>
                    <a:lnTo>
                      <a:pt x="54" y="65"/>
                    </a:lnTo>
                    <a:lnTo>
                      <a:pt x="52" y="76"/>
                    </a:lnTo>
                    <a:lnTo>
                      <a:pt x="50" y="88"/>
                    </a:lnTo>
                    <a:lnTo>
                      <a:pt x="45" y="100"/>
                    </a:lnTo>
                    <a:lnTo>
                      <a:pt x="38" y="107"/>
                    </a:lnTo>
                    <a:lnTo>
                      <a:pt x="34" y="101"/>
                    </a:lnTo>
                    <a:lnTo>
                      <a:pt x="32" y="94"/>
                    </a:lnTo>
                    <a:lnTo>
                      <a:pt x="32" y="85"/>
                    </a:lnTo>
                    <a:lnTo>
                      <a:pt x="34" y="76"/>
                    </a:lnTo>
                    <a:lnTo>
                      <a:pt x="26" y="59"/>
                    </a:lnTo>
                    <a:lnTo>
                      <a:pt x="15" y="63"/>
                    </a:lnTo>
                    <a:lnTo>
                      <a:pt x="12" y="72"/>
                    </a:lnTo>
                    <a:lnTo>
                      <a:pt x="11" y="84"/>
                    </a:lnTo>
                    <a:lnTo>
                      <a:pt x="9" y="95"/>
                    </a:lnTo>
                    <a:lnTo>
                      <a:pt x="8" y="107"/>
                    </a:lnTo>
                    <a:lnTo>
                      <a:pt x="2" y="91"/>
                    </a:lnTo>
                    <a:lnTo>
                      <a:pt x="0" y="76"/>
                    </a:lnTo>
                    <a:lnTo>
                      <a:pt x="0" y="61"/>
                    </a:lnTo>
                    <a:lnTo>
                      <a:pt x="0" y="43"/>
                    </a:lnTo>
                    <a:lnTo>
                      <a:pt x="15" y="23"/>
                    </a:lnTo>
                    <a:lnTo>
                      <a:pt x="37" y="14"/>
                    </a:lnTo>
                    <a:lnTo>
                      <a:pt x="60" y="7"/>
                    </a:lnTo>
                    <a:lnTo>
                      <a:pt x="84" y="3"/>
                    </a:lnTo>
                    <a:lnTo>
                      <a:pt x="109" y="0"/>
                    </a:lnTo>
                    <a:lnTo>
                      <a:pt x="133" y="0"/>
                    </a:lnTo>
                    <a:lnTo>
                      <a:pt x="159" y="3"/>
                    </a:lnTo>
                    <a:lnTo>
                      <a:pt x="185" y="9"/>
                    </a:lnTo>
                    <a:lnTo>
                      <a:pt x="212" y="17"/>
                    </a:lnTo>
                    <a:lnTo>
                      <a:pt x="233" y="39"/>
                    </a:lnTo>
                    <a:lnTo>
                      <a:pt x="253" y="61"/>
                    </a:lnTo>
                    <a:lnTo>
                      <a:pt x="271" y="82"/>
                    </a:lnTo>
                    <a:lnTo>
                      <a:pt x="288" y="104"/>
                    </a:lnTo>
                    <a:lnTo>
                      <a:pt x="304" y="127"/>
                    </a:lnTo>
                    <a:lnTo>
                      <a:pt x="320" y="150"/>
                    </a:lnTo>
                    <a:lnTo>
                      <a:pt x="334" y="175"/>
                    </a:lnTo>
                    <a:lnTo>
                      <a:pt x="350" y="199"/>
                    </a:lnTo>
                    <a:lnTo>
                      <a:pt x="350" y="208"/>
                    </a:lnTo>
                    <a:lnTo>
                      <a:pt x="353" y="218"/>
                    </a:lnTo>
                    <a:lnTo>
                      <a:pt x="355" y="230"/>
                    </a:lnTo>
                    <a:lnTo>
                      <a:pt x="355" y="241"/>
                    </a:lnTo>
                    <a:lnTo>
                      <a:pt x="350" y="248"/>
                    </a:lnTo>
                    <a:lnTo>
                      <a:pt x="346" y="257"/>
                    </a:lnTo>
                    <a:lnTo>
                      <a:pt x="342" y="267"/>
                    </a:lnTo>
                    <a:lnTo>
                      <a:pt x="336" y="280"/>
                    </a:lnTo>
                    <a:lnTo>
                      <a:pt x="311" y="297"/>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291520" y="1990800"/>
                <a:ext cx="11160" cy="12600"/>
              </a:xfrm>
              <a:custGeom>
                <a:avLst/>
                <a:gdLst/>
                <a:ahLst/>
                <a:rect l="l" t="t" r="r" b="b"/>
                <a:pathLst>
                  <a:path w="20" h="22">
                    <a:moveTo>
                      <a:pt x="0" y="22"/>
                    </a:moveTo>
                    <a:lnTo>
                      <a:pt x="4" y="0"/>
                    </a:lnTo>
                    <a:lnTo>
                      <a:pt x="20" y="6"/>
                    </a:lnTo>
                    <a:lnTo>
                      <a:pt x="19" y="13"/>
                    </a:lnTo>
                    <a:lnTo>
                      <a:pt x="14" y="18"/>
                    </a:lnTo>
                    <a:lnTo>
                      <a:pt x="7" y="21"/>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4" name=""/>
              <p:cNvSpPr/>
              <p:nvPr/>
            </p:nvSpPr>
            <p:spPr>
              <a:xfrm>
                <a:off x="7912080" y="1995480"/>
                <a:ext cx="12600" cy="9360"/>
              </a:xfrm>
              <a:custGeom>
                <a:avLst/>
                <a:gdLst/>
                <a:ahLst/>
                <a:rect l="l" t="t" r="r" b="b"/>
                <a:pathLst>
                  <a:path w="24" h="17">
                    <a:moveTo>
                      <a:pt x="5" y="17"/>
                    </a:moveTo>
                    <a:lnTo>
                      <a:pt x="0" y="7"/>
                    </a:lnTo>
                    <a:lnTo>
                      <a:pt x="4" y="2"/>
                    </a:lnTo>
                    <a:lnTo>
                      <a:pt x="13" y="0"/>
                    </a:lnTo>
                    <a:lnTo>
                      <a:pt x="21" y="1"/>
                    </a:lnTo>
                    <a:lnTo>
                      <a:pt x="24" y="10"/>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5" name=""/>
              <p:cNvSpPr/>
              <p:nvPr/>
            </p:nvSpPr>
            <p:spPr>
              <a:xfrm>
                <a:off x="7037280" y="1989000"/>
                <a:ext cx="14400" cy="12960"/>
              </a:xfrm>
              <a:custGeom>
                <a:avLst/>
                <a:gdLst/>
                <a:ahLst/>
                <a:rect l="l" t="t" r="r" b="b"/>
                <a:pathLst>
                  <a:path w="26" h="22">
                    <a:moveTo>
                      <a:pt x="6" y="22"/>
                    </a:moveTo>
                    <a:lnTo>
                      <a:pt x="0" y="0"/>
                    </a:lnTo>
                    <a:lnTo>
                      <a:pt x="21" y="0"/>
                    </a:lnTo>
                    <a:lnTo>
                      <a:pt x="26" y="9"/>
                    </a:lnTo>
                    <a:lnTo>
                      <a:pt x="23" y="18"/>
                    </a:lnTo>
                    <a:lnTo>
                      <a:pt x="17" y="22"/>
                    </a:lnTo>
                    <a:lnTo>
                      <a:pt x="6"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6" name=""/>
              <p:cNvSpPr/>
              <p:nvPr/>
            </p:nvSpPr>
            <p:spPr>
              <a:xfrm>
                <a:off x="7642080" y="1982880"/>
                <a:ext cx="7920" cy="11160"/>
              </a:xfrm>
              <a:custGeom>
                <a:avLst/>
                <a:gdLst/>
                <a:ahLst/>
                <a:rect l="l" t="t" r="r" b="b"/>
                <a:pathLst>
                  <a:path w="14" h="22">
                    <a:moveTo>
                      <a:pt x="1" y="22"/>
                    </a:moveTo>
                    <a:lnTo>
                      <a:pt x="0" y="0"/>
                    </a:lnTo>
                    <a:lnTo>
                      <a:pt x="11" y="0"/>
                    </a:lnTo>
                    <a:lnTo>
                      <a:pt x="14" y="6"/>
                    </a:lnTo>
                    <a:lnTo>
                      <a:pt x="13" y="13"/>
                    </a:lnTo>
                    <a:lnTo>
                      <a:pt x="8" y="19"/>
                    </a:lnTo>
                    <a:lnTo>
                      <a:pt x="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6993000" y="1987560"/>
                <a:ext cx="11160" cy="12600"/>
              </a:xfrm>
              <a:custGeom>
                <a:avLst/>
                <a:gdLst/>
                <a:ahLst/>
                <a:rect l="l" t="t" r="r" b="b"/>
                <a:pathLst>
                  <a:path w="19" h="25">
                    <a:moveTo>
                      <a:pt x="9" y="25"/>
                    </a:moveTo>
                    <a:lnTo>
                      <a:pt x="2" y="22"/>
                    </a:lnTo>
                    <a:lnTo>
                      <a:pt x="0" y="13"/>
                    </a:lnTo>
                    <a:lnTo>
                      <a:pt x="3" y="4"/>
                    </a:lnTo>
                    <a:lnTo>
                      <a:pt x="8" y="0"/>
                    </a:lnTo>
                    <a:lnTo>
                      <a:pt x="16" y="3"/>
                    </a:lnTo>
                    <a:lnTo>
                      <a:pt x="19" y="10"/>
                    </a:lnTo>
                    <a:lnTo>
                      <a:pt x="15" y="19"/>
                    </a:lnTo>
                    <a:lnTo>
                      <a:pt x="9"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8" name=""/>
              <p:cNvSpPr/>
              <p:nvPr/>
            </p:nvSpPr>
            <p:spPr>
              <a:xfrm>
                <a:off x="7758000" y="1976400"/>
                <a:ext cx="11160" cy="9720"/>
              </a:xfrm>
              <a:custGeom>
                <a:avLst/>
                <a:gdLst/>
                <a:ahLst/>
                <a:rect l="l" t="t" r="r" b="b"/>
                <a:pathLst>
                  <a:path w="22" h="16">
                    <a:moveTo>
                      <a:pt x="9" y="16"/>
                    </a:moveTo>
                    <a:lnTo>
                      <a:pt x="0" y="7"/>
                    </a:lnTo>
                    <a:lnTo>
                      <a:pt x="3" y="1"/>
                    </a:lnTo>
                    <a:lnTo>
                      <a:pt x="9" y="0"/>
                    </a:lnTo>
                    <a:lnTo>
                      <a:pt x="16" y="4"/>
                    </a:lnTo>
                    <a:lnTo>
                      <a:pt x="22" y="11"/>
                    </a:lnTo>
                    <a:lnTo>
                      <a:pt x="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9" name=""/>
              <p:cNvSpPr/>
              <p:nvPr/>
            </p:nvSpPr>
            <p:spPr>
              <a:xfrm>
                <a:off x="7862760" y="1973160"/>
                <a:ext cx="6480" cy="11160"/>
              </a:xfrm>
              <a:custGeom>
                <a:avLst/>
                <a:gdLst/>
                <a:ahLst/>
                <a:rect l="l" t="t" r="r" b="b"/>
                <a:pathLst>
                  <a:path w="13" h="21">
                    <a:moveTo>
                      <a:pt x="3" y="21"/>
                    </a:moveTo>
                    <a:lnTo>
                      <a:pt x="0" y="16"/>
                    </a:lnTo>
                    <a:lnTo>
                      <a:pt x="2" y="7"/>
                    </a:lnTo>
                    <a:lnTo>
                      <a:pt x="4" y="0"/>
                    </a:lnTo>
                    <a:lnTo>
                      <a:pt x="12" y="0"/>
                    </a:lnTo>
                    <a:lnTo>
                      <a:pt x="12" y="5"/>
                    </a:lnTo>
                    <a:lnTo>
                      <a:pt x="13" y="14"/>
                    </a:lnTo>
                    <a:lnTo>
                      <a:pt x="12"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40" name=""/>
              <p:cNvSpPr/>
              <p:nvPr/>
            </p:nvSpPr>
            <p:spPr>
              <a:xfrm>
                <a:off x="8104320" y="1962000"/>
                <a:ext cx="9360" cy="11160"/>
              </a:xfrm>
              <a:custGeom>
                <a:avLst/>
                <a:gdLst/>
                <a:ahLst/>
                <a:rect l="l" t="t" r="r" b="b"/>
                <a:pathLst>
                  <a:path w="17" h="21">
                    <a:moveTo>
                      <a:pt x="3" y="21"/>
                    </a:moveTo>
                    <a:lnTo>
                      <a:pt x="0" y="13"/>
                    </a:lnTo>
                    <a:lnTo>
                      <a:pt x="1" y="6"/>
                    </a:lnTo>
                    <a:lnTo>
                      <a:pt x="9" y="0"/>
                    </a:lnTo>
                    <a:lnTo>
                      <a:pt x="17" y="0"/>
                    </a:lnTo>
                    <a:lnTo>
                      <a:pt x="17" y="8"/>
                    </a:lnTo>
                    <a:lnTo>
                      <a:pt x="14" y="15"/>
                    </a:lnTo>
                    <a:lnTo>
                      <a:pt x="10"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41" name=""/>
              <p:cNvSpPr/>
              <p:nvPr/>
            </p:nvSpPr>
            <p:spPr>
              <a:xfrm>
                <a:off x="8045280" y="1962000"/>
                <a:ext cx="12960" cy="9720"/>
              </a:xfrm>
              <a:custGeom>
                <a:avLst/>
                <a:gdLst/>
                <a:ahLst/>
                <a:rect l="l" t="t" r="r" b="b"/>
                <a:pathLst>
                  <a:path w="25" h="20">
                    <a:moveTo>
                      <a:pt x="12" y="20"/>
                    </a:moveTo>
                    <a:lnTo>
                      <a:pt x="0" y="1"/>
                    </a:lnTo>
                    <a:lnTo>
                      <a:pt x="22" y="0"/>
                    </a:lnTo>
                    <a:lnTo>
                      <a:pt x="25" y="6"/>
                    </a:lnTo>
                    <a:lnTo>
                      <a:pt x="23" y="12"/>
                    </a:lnTo>
                    <a:lnTo>
                      <a:pt x="19" y="16"/>
                    </a:lnTo>
                    <a:lnTo>
                      <a:pt x="12"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2" name=""/>
              <p:cNvSpPr/>
              <p:nvPr/>
            </p:nvSpPr>
            <p:spPr>
              <a:xfrm>
                <a:off x="8244000" y="1954080"/>
                <a:ext cx="11160" cy="12960"/>
              </a:xfrm>
              <a:custGeom>
                <a:avLst/>
                <a:gdLst/>
                <a:ahLst/>
                <a:rect l="l" t="t" r="r" b="b"/>
                <a:pathLst>
                  <a:path w="21" h="23">
                    <a:moveTo>
                      <a:pt x="7" y="23"/>
                    </a:moveTo>
                    <a:lnTo>
                      <a:pt x="0" y="0"/>
                    </a:lnTo>
                    <a:lnTo>
                      <a:pt x="21" y="7"/>
                    </a:lnTo>
                    <a:lnTo>
                      <a:pt x="7"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3" name=""/>
              <p:cNvSpPr/>
              <p:nvPr/>
            </p:nvSpPr>
            <p:spPr>
              <a:xfrm>
                <a:off x="8161200" y="1954080"/>
                <a:ext cx="11160" cy="11160"/>
              </a:xfrm>
              <a:custGeom>
                <a:avLst/>
                <a:gdLst/>
                <a:ahLst/>
                <a:rect l="l" t="t" r="r" b="b"/>
                <a:pathLst>
                  <a:path w="21" h="19">
                    <a:moveTo>
                      <a:pt x="13" y="19"/>
                    </a:moveTo>
                    <a:lnTo>
                      <a:pt x="0" y="7"/>
                    </a:lnTo>
                    <a:lnTo>
                      <a:pt x="21" y="0"/>
                    </a:lnTo>
                    <a:lnTo>
                      <a:pt x="1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44" name=""/>
              <p:cNvSpPr/>
              <p:nvPr/>
            </p:nvSpPr>
            <p:spPr>
              <a:xfrm>
                <a:off x="8366040" y="1951200"/>
                <a:ext cx="7920" cy="10800"/>
              </a:xfrm>
              <a:custGeom>
                <a:avLst/>
                <a:gdLst/>
                <a:ahLst/>
                <a:rect l="l" t="t" r="r" b="b"/>
                <a:pathLst>
                  <a:path w="17" h="19">
                    <a:moveTo>
                      <a:pt x="0" y="19"/>
                    </a:moveTo>
                    <a:lnTo>
                      <a:pt x="0" y="0"/>
                    </a:lnTo>
                    <a:lnTo>
                      <a:pt x="17" y="12"/>
                    </a:lnTo>
                    <a:lnTo>
                      <a:pt x="0" y="1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45" name=""/>
              <p:cNvSpPr/>
              <p:nvPr/>
            </p:nvSpPr>
            <p:spPr>
              <a:xfrm>
                <a:off x="7804080" y="1943280"/>
                <a:ext cx="9720" cy="1080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46" name=""/>
              <p:cNvSpPr/>
              <p:nvPr/>
            </p:nvSpPr>
            <p:spPr>
              <a:xfrm>
                <a:off x="7319880" y="1824120"/>
                <a:ext cx="127080" cy="123840"/>
              </a:xfrm>
              <a:custGeom>
                <a:avLst/>
                <a:gdLst/>
                <a:ahLst/>
                <a:rect l="l" t="t" r="r" b="b"/>
                <a:pathLst>
                  <a:path w="240" h="233">
                    <a:moveTo>
                      <a:pt x="210" y="233"/>
                    </a:moveTo>
                    <a:lnTo>
                      <a:pt x="207" y="224"/>
                    </a:lnTo>
                    <a:lnTo>
                      <a:pt x="199" y="222"/>
                    </a:lnTo>
                    <a:lnTo>
                      <a:pt x="191" y="225"/>
                    </a:lnTo>
                    <a:lnTo>
                      <a:pt x="181" y="227"/>
                    </a:lnTo>
                    <a:lnTo>
                      <a:pt x="178" y="221"/>
                    </a:lnTo>
                    <a:lnTo>
                      <a:pt x="182" y="214"/>
                    </a:lnTo>
                    <a:lnTo>
                      <a:pt x="186" y="207"/>
                    </a:lnTo>
                    <a:lnTo>
                      <a:pt x="192" y="199"/>
                    </a:lnTo>
                    <a:lnTo>
                      <a:pt x="199" y="189"/>
                    </a:lnTo>
                    <a:lnTo>
                      <a:pt x="188" y="182"/>
                    </a:lnTo>
                    <a:lnTo>
                      <a:pt x="181" y="183"/>
                    </a:lnTo>
                    <a:lnTo>
                      <a:pt x="176" y="186"/>
                    </a:lnTo>
                    <a:lnTo>
                      <a:pt x="169" y="191"/>
                    </a:lnTo>
                    <a:lnTo>
                      <a:pt x="159" y="196"/>
                    </a:lnTo>
                    <a:lnTo>
                      <a:pt x="159" y="189"/>
                    </a:lnTo>
                    <a:lnTo>
                      <a:pt x="162" y="179"/>
                    </a:lnTo>
                    <a:lnTo>
                      <a:pt x="168" y="172"/>
                    </a:lnTo>
                    <a:lnTo>
                      <a:pt x="173" y="165"/>
                    </a:lnTo>
                    <a:lnTo>
                      <a:pt x="181" y="155"/>
                    </a:lnTo>
                    <a:lnTo>
                      <a:pt x="173" y="152"/>
                    </a:lnTo>
                    <a:lnTo>
                      <a:pt x="168" y="152"/>
                    </a:lnTo>
                    <a:lnTo>
                      <a:pt x="160" y="155"/>
                    </a:lnTo>
                    <a:lnTo>
                      <a:pt x="150" y="157"/>
                    </a:lnTo>
                    <a:lnTo>
                      <a:pt x="150" y="149"/>
                    </a:lnTo>
                    <a:lnTo>
                      <a:pt x="152" y="142"/>
                    </a:lnTo>
                    <a:lnTo>
                      <a:pt x="155" y="134"/>
                    </a:lnTo>
                    <a:lnTo>
                      <a:pt x="159" y="129"/>
                    </a:lnTo>
                    <a:lnTo>
                      <a:pt x="153" y="120"/>
                    </a:lnTo>
                    <a:lnTo>
                      <a:pt x="147" y="121"/>
                    </a:lnTo>
                    <a:lnTo>
                      <a:pt x="142" y="126"/>
                    </a:lnTo>
                    <a:lnTo>
                      <a:pt x="134" y="124"/>
                    </a:lnTo>
                    <a:lnTo>
                      <a:pt x="134" y="117"/>
                    </a:lnTo>
                    <a:lnTo>
                      <a:pt x="137" y="110"/>
                    </a:lnTo>
                    <a:lnTo>
                      <a:pt x="137" y="103"/>
                    </a:lnTo>
                    <a:lnTo>
                      <a:pt x="131" y="95"/>
                    </a:lnTo>
                    <a:lnTo>
                      <a:pt x="124" y="100"/>
                    </a:lnTo>
                    <a:lnTo>
                      <a:pt x="116" y="105"/>
                    </a:lnTo>
                    <a:lnTo>
                      <a:pt x="107" y="113"/>
                    </a:lnTo>
                    <a:lnTo>
                      <a:pt x="100" y="124"/>
                    </a:lnTo>
                    <a:lnTo>
                      <a:pt x="100" y="111"/>
                    </a:lnTo>
                    <a:lnTo>
                      <a:pt x="102" y="98"/>
                    </a:lnTo>
                    <a:lnTo>
                      <a:pt x="105" y="85"/>
                    </a:lnTo>
                    <a:lnTo>
                      <a:pt x="107" y="69"/>
                    </a:lnTo>
                    <a:lnTo>
                      <a:pt x="98" y="72"/>
                    </a:lnTo>
                    <a:lnTo>
                      <a:pt x="91" y="78"/>
                    </a:lnTo>
                    <a:lnTo>
                      <a:pt x="85" y="84"/>
                    </a:lnTo>
                    <a:lnTo>
                      <a:pt x="76" y="90"/>
                    </a:lnTo>
                    <a:lnTo>
                      <a:pt x="76" y="79"/>
                    </a:lnTo>
                    <a:lnTo>
                      <a:pt x="78" y="68"/>
                    </a:lnTo>
                    <a:lnTo>
                      <a:pt x="81" y="58"/>
                    </a:lnTo>
                    <a:lnTo>
                      <a:pt x="89" y="48"/>
                    </a:lnTo>
                    <a:lnTo>
                      <a:pt x="81" y="42"/>
                    </a:lnTo>
                    <a:lnTo>
                      <a:pt x="71" y="40"/>
                    </a:lnTo>
                    <a:lnTo>
                      <a:pt x="63" y="43"/>
                    </a:lnTo>
                    <a:lnTo>
                      <a:pt x="59" y="49"/>
                    </a:lnTo>
                    <a:lnTo>
                      <a:pt x="55" y="56"/>
                    </a:lnTo>
                    <a:lnTo>
                      <a:pt x="48" y="66"/>
                    </a:lnTo>
                    <a:lnTo>
                      <a:pt x="48" y="58"/>
                    </a:lnTo>
                    <a:lnTo>
                      <a:pt x="50" y="52"/>
                    </a:lnTo>
                    <a:lnTo>
                      <a:pt x="53" y="45"/>
                    </a:lnTo>
                    <a:lnTo>
                      <a:pt x="56" y="33"/>
                    </a:lnTo>
                    <a:lnTo>
                      <a:pt x="48" y="30"/>
                    </a:lnTo>
                    <a:lnTo>
                      <a:pt x="42" y="33"/>
                    </a:lnTo>
                    <a:lnTo>
                      <a:pt x="35" y="40"/>
                    </a:lnTo>
                    <a:lnTo>
                      <a:pt x="27" y="49"/>
                    </a:lnTo>
                    <a:lnTo>
                      <a:pt x="22" y="49"/>
                    </a:lnTo>
                    <a:lnTo>
                      <a:pt x="16" y="48"/>
                    </a:lnTo>
                    <a:lnTo>
                      <a:pt x="9" y="46"/>
                    </a:lnTo>
                    <a:lnTo>
                      <a:pt x="0" y="42"/>
                    </a:lnTo>
                    <a:lnTo>
                      <a:pt x="16" y="33"/>
                    </a:lnTo>
                    <a:lnTo>
                      <a:pt x="32" y="26"/>
                    </a:lnTo>
                    <a:lnTo>
                      <a:pt x="49" y="17"/>
                    </a:lnTo>
                    <a:lnTo>
                      <a:pt x="68" y="10"/>
                    </a:lnTo>
                    <a:lnTo>
                      <a:pt x="87" y="6"/>
                    </a:lnTo>
                    <a:lnTo>
                      <a:pt x="107" y="1"/>
                    </a:lnTo>
                    <a:lnTo>
                      <a:pt x="127" y="0"/>
                    </a:lnTo>
                    <a:lnTo>
                      <a:pt x="149" y="1"/>
                    </a:lnTo>
                    <a:lnTo>
                      <a:pt x="165" y="19"/>
                    </a:lnTo>
                    <a:lnTo>
                      <a:pt x="179" y="39"/>
                    </a:lnTo>
                    <a:lnTo>
                      <a:pt x="192" y="61"/>
                    </a:lnTo>
                    <a:lnTo>
                      <a:pt x="202" y="84"/>
                    </a:lnTo>
                    <a:lnTo>
                      <a:pt x="212" y="110"/>
                    </a:lnTo>
                    <a:lnTo>
                      <a:pt x="221" y="136"/>
                    </a:lnTo>
                    <a:lnTo>
                      <a:pt x="231" y="162"/>
                    </a:lnTo>
                    <a:lnTo>
                      <a:pt x="240" y="189"/>
                    </a:lnTo>
                    <a:lnTo>
                      <a:pt x="238" y="196"/>
                    </a:lnTo>
                    <a:lnTo>
                      <a:pt x="237" y="205"/>
                    </a:lnTo>
                    <a:lnTo>
                      <a:pt x="234" y="212"/>
                    </a:lnTo>
                    <a:lnTo>
                      <a:pt x="227" y="220"/>
                    </a:lnTo>
                    <a:lnTo>
                      <a:pt x="210" y="233"/>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7601040" y="1930320"/>
                <a:ext cx="7920" cy="11160"/>
              </a:xfrm>
              <a:custGeom>
                <a:avLst/>
                <a:gdLst/>
                <a:ahLst/>
                <a:rect l="l" t="t" r="r" b="b"/>
                <a:pathLst>
                  <a:path w="13" h="20">
                    <a:moveTo>
                      <a:pt x="0" y="20"/>
                    </a:moveTo>
                    <a:lnTo>
                      <a:pt x="1" y="0"/>
                    </a:lnTo>
                    <a:lnTo>
                      <a:pt x="8" y="3"/>
                    </a:lnTo>
                    <a:lnTo>
                      <a:pt x="13" y="7"/>
                    </a:lnTo>
                    <a:lnTo>
                      <a:pt x="13" y="15"/>
                    </a:lnTo>
                    <a:lnTo>
                      <a:pt x="10"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48" name=""/>
              <p:cNvSpPr/>
              <p:nvPr/>
            </p:nvSpPr>
            <p:spPr>
              <a:xfrm>
                <a:off x="7705800" y="1920960"/>
                <a:ext cx="9360" cy="14040"/>
              </a:xfrm>
              <a:custGeom>
                <a:avLst/>
                <a:gdLst/>
                <a:ahLst/>
                <a:rect l="l" t="t" r="r" b="b"/>
                <a:pathLst>
                  <a:path w="17" h="28">
                    <a:moveTo>
                      <a:pt x="7" y="28"/>
                    </a:moveTo>
                    <a:lnTo>
                      <a:pt x="0" y="25"/>
                    </a:lnTo>
                    <a:lnTo>
                      <a:pt x="1" y="16"/>
                    </a:lnTo>
                    <a:lnTo>
                      <a:pt x="5" y="8"/>
                    </a:lnTo>
                    <a:lnTo>
                      <a:pt x="8" y="0"/>
                    </a:lnTo>
                    <a:lnTo>
                      <a:pt x="16" y="5"/>
                    </a:lnTo>
                    <a:lnTo>
                      <a:pt x="17" y="13"/>
                    </a:lnTo>
                    <a:lnTo>
                      <a:pt x="13" y="24"/>
                    </a:lnTo>
                    <a:lnTo>
                      <a:pt x="7"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9" name=""/>
              <p:cNvSpPr/>
              <p:nvPr/>
            </p:nvSpPr>
            <p:spPr>
              <a:xfrm>
                <a:off x="7991640" y="1909800"/>
                <a:ext cx="7920" cy="11160"/>
              </a:xfrm>
              <a:custGeom>
                <a:avLst/>
                <a:gdLst/>
                <a:ahLst/>
                <a:rect l="l" t="t" r="r" b="b"/>
                <a:pathLst>
                  <a:path w="17" h="20">
                    <a:moveTo>
                      <a:pt x="0" y="20"/>
                    </a:moveTo>
                    <a:lnTo>
                      <a:pt x="2" y="0"/>
                    </a:lnTo>
                    <a:lnTo>
                      <a:pt x="14" y="0"/>
                    </a:lnTo>
                    <a:lnTo>
                      <a:pt x="17" y="9"/>
                    </a:lnTo>
                    <a:lnTo>
                      <a:pt x="15" y="16"/>
                    </a:lnTo>
                    <a:lnTo>
                      <a:pt x="8"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0" name=""/>
              <p:cNvSpPr/>
              <p:nvPr/>
            </p:nvSpPr>
            <p:spPr>
              <a:xfrm>
                <a:off x="7869240" y="1909800"/>
                <a:ext cx="14400" cy="9360"/>
              </a:xfrm>
              <a:custGeom>
                <a:avLst/>
                <a:gdLst/>
                <a:ahLst/>
                <a:rect l="l" t="t" r="r" b="b"/>
                <a:pathLst>
                  <a:path w="27" h="18">
                    <a:moveTo>
                      <a:pt x="3" y="18"/>
                    </a:moveTo>
                    <a:lnTo>
                      <a:pt x="0" y="6"/>
                    </a:lnTo>
                    <a:lnTo>
                      <a:pt x="4" y="2"/>
                    </a:lnTo>
                    <a:lnTo>
                      <a:pt x="10" y="0"/>
                    </a:lnTo>
                    <a:lnTo>
                      <a:pt x="18" y="2"/>
                    </a:lnTo>
                    <a:lnTo>
                      <a:pt x="26" y="5"/>
                    </a:lnTo>
                    <a:lnTo>
                      <a:pt x="27" y="12"/>
                    </a:lnTo>
                    <a:lnTo>
                      <a:pt x="20" y="15"/>
                    </a:lnTo>
                    <a:lnTo>
                      <a:pt x="10" y="16"/>
                    </a:lnTo>
                    <a:lnTo>
                      <a:pt x="3"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1" name=""/>
              <p:cNvSpPr/>
              <p:nvPr/>
            </p:nvSpPr>
            <p:spPr>
              <a:xfrm>
                <a:off x="7062840" y="1913040"/>
                <a:ext cx="9360" cy="11160"/>
              </a:xfrm>
              <a:custGeom>
                <a:avLst/>
                <a:gdLst/>
                <a:ahLst/>
                <a:rect l="l" t="t" r="r" b="b"/>
                <a:pathLst>
                  <a:path w="16" h="21">
                    <a:moveTo>
                      <a:pt x="0" y="21"/>
                    </a:moveTo>
                    <a:lnTo>
                      <a:pt x="0" y="0"/>
                    </a:lnTo>
                    <a:lnTo>
                      <a:pt x="16" y="5"/>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2" name=""/>
              <p:cNvSpPr/>
              <p:nvPr/>
            </p:nvSpPr>
            <p:spPr>
              <a:xfrm>
                <a:off x="7935840" y="1900080"/>
                <a:ext cx="7920" cy="11160"/>
              </a:xfrm>
              <a:custGeom>
                <a:avLst/>
                <a:gdLst/>
                <a:ahLst/>
                <a:rect l="l" t="t" r="r" b="b"/>
                <a:pathLst>
                  <a:path w="16" h="22">
                    <a:moveTo>
                      <a:pt x="3" y="21"/>
                    </a:moveTo>
                    <a:lnTo>
                      <a:pt x="0" y="15"/>
                    </a:lnTo>
                    <a:lnTo>
                      <a:pt x="2" y="8"/>
                    </a:lnTo>
                    <a:lnTo>
                      <a:pt x="6" y="2"/>
                    </a:lnTo>
                    <a:lnTo>
                      <a:pt x="13" y="0"/>
                    </a:lnTo>
                    <a:lnTo>
                      <a:pt x="16" y="6"/>
                    </a:lnTo>
                    <a:lnTo>
                      <a:pt x="15" y="16"/>
                    </a:lnTo>
                    <a:lnTo>
                      <a:pt x="11" y="22"/>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3" name=""/>
              <p:cNvSpPr/>
              <p:nvPr/>
            </p:nvSpPr>
            <p:spPr>
              <a:xfrm>
                <a:off x="8121600" y="1893960"/>
                <a:ext cx="11160" cy="11160"/>
              </a:xfrm>
              <a:custGeom>
                <a:avLst/>
                <a:gdLst/>
                <a:ahLst/>
                <a:rect l="l" t="t" r="r" b="b"/>
                <a:pathLst>
                  <a:path w="22" h="20">
                    <a:moveTo>
                      <a:pt x="6" y="20"/>
                    </a:moveTo>
                    <a:lnTo>
                      <a:pt x="0" y="0"/>
                    </a:lnTo>
                    <a:lnTo>
                      <a:pt x="22" y="4"/>
                    </a:lnTo>
                    <a:lnTo>
                      <a:pt x="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4" name=""/>
              <p:cNvSpPr/>
              <p:nvPr/>
            </p:nvSpPr>
            <p:spPr>
              <a:xfrm>
                <a:off x="8188200" y="1890720"/>
                <a:ext cx="7920" cy="14400"/>
              </a:xfrm>
              <a:custGeom>
                <a:avLst/>
                <a:gdLst/>
                <a:ahLst/>
                <a:rect l="l" t="t" r="r" b="b"/>
                <a:pathLst>
                  <a:path w="16" h="25">
                    <a:moveTo>
                      <a:pt x="4" y="25"/>
                    </a:moveTo>
                    <a:lnTo>
                      <a:pt x="0" y="20"/>
                    </a:lnTo>
                    <a:lnTo>
                      <a:pt x="0" y="12"/>
                    </a:lnTo>
                    <a:lnTo>
                      <a:pt x="3" y="4"/>
                    </a:lnTo>
                    <a:lnTo>
                      <a:pt x="11" y="0"/>
                    </a:lnTo>
                    <a:lnTo>
                      <a:pt x="16" y="6"/>
                    </a:lnTo>
                    <a:lnTo>
                      <a:pt x="16" y="12"/>
                    </a:lnTo>
                    <a:lnTo>
                      <a:pt x="11" y="19"/>
                    </a:lnTo>
                    <a:lnTo>
                      <a:pt x="4"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5" name=""/>
              <p:cNvSpPr/>
              <p:nvPr/>
            </p:nvSpPr>
            <p:spPr>
              <a:xfrm>
                <a:off x="8323200" y="1889280"/>
                <a:ext cx="11160" cy="10800"/>
              </a:xfrm>
              <a:custGeom>
                <a:avLst/>
                <a:gdLst/>
                <a:ahLst/>
                <a:rect l="l" t="t" r="r" b="b"/>
                <a:pathLst>
                  <a:path w="20" h="21">
                    <a:moveTo>
                      <a:pt x="2" y="21"/>
                    </a:moveTo>
                    <a:lnTo>
                      <a:pt x="0" y="0"/>
                    </a:lnTo>
                    <a:lnTo>
                      <a:pt x="20" y="4"/>
                    </a:lnTo>
                    <a:lnTo>
                      <a:pt x="2"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56" name=""/>
              <p:cNvSpPr/>
              <p:nvPr/>
            </p:nvSpPr>
            <p:spPr>
              <a:xfrm>
                <a:off x="6991200" y="1889280"/>
                <a:ext cx="17640" cy="12600"/>
              </a:xfrm>
              <a:custGeom>
                <a:avLst/>
                <a:gdLst/>
                <a:ahLst/>
                <a:rect l="l" t="t" r="r" b="b"/>
                <a:pathLst>
                  <a:path w="34" h="23">
                    <a:moveTo>
                      <a:pt x="5" y="23"/>
                    </a:moveTo>
                    <a:lnTo>
                      <a:pt x="1" y="20"/>
                    </a:lnTo>
                    <a:lnTo>
                      <a:pt x="0" y="13"/>
                    </a:lnTo>
                    <a:lnTo>
                      <a:pt x="2" y="5"/>
                    </a:lnTo>
                    <a:lnTo>
                      <a:pt x="7" y="0"/>
                    </a:lnTo>
                    <a:lnTo>
                      <a:pt x="14" y="2"/>
                    </a:lnTo>
                    <a:lnTo>
                      <a:pt x="21" y="5"/>
                    </a:lnTo>
                    <a:lnTo>
                      <a:pt x="27" y="10"/>
                    </a:lnTo>
                    <a:lnTo>
                      <a:pt x="34" y="16"/>
                    </a:lnTo>
                    <a:lnTo>
                      <a:pt x="31" y="22"/>
                    </a:lnTo>
                    <a:lnTo>
                      <a:pt x="24" y="23"/>
                    </a:lnTo>
                    <a:lnTo>
                      <a:pt x="14" y="22"/>
                    </a:lnTo>
                    <a:lnTo>
                      <a:pt x="5"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7" name=""/>
              <p:cNvSpPr/>
              <p:nvPr/>
            </p:nvSpPr>
            <p:spPr>
              <a:xfrm>
                <a:off x="7121520" y="1886040"/>
                <a:ext cx="11160" cy="12600"/>
              </a:xfrm>
              <a:custGeom>
                <a:avLst/>
                <a:gdLst/>
                <a:ahLst/>
                <a:rect l="l" t="t" r="r" b="b"/>
                <a:pathLst>
                  <a:path w="22" h="25">
                    <a:moveTo>
                      <a:pt x="3" y="25"/>
                    </a:moveTo>
                    <a:lnTo>
                      <a:pt x="0" y="3"/>
                    </a:lnTo>
                    <a:lnTo>
                      <a:pt x="10" y="0"/>
                    </a:lnTo>
                    <a:lnTo>
                      <a:pt x="22" y="17"/>
                    </a:lnTo>
                    <a:lnTo>
                      <a:pt x="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8" name=""/>
              <p:cNvSpPr/>
              <p:nvPr/>
            </p:nvSpPr>
            <p:spPr>
              <a:xfrm>
                <a:off x="8053560" y="1873080"/>
                <a:ext cx="10800" cy="11160"/>
              </a:xfrm>
              <a:custGeom>
                <a:avLst/>
                <a:gdLst/>
                <a:ahLst/>
                <a:rect l="l" t="t" r="r" b="b"/>
                <a:pathLst>
                  <a:path w="21" h="21">
                    <a:moveTo>
                      <a:pt x="11" y="21"/>
                    </a:moveTo>
                    <a:lnTo>
                      <a:pt x="0" y="13"/>
                    </a:lnTo>
                    <a:lnTo>
                      <a:pt x="14" y="0"/>
                    </a:lnTo>
                    <a:lnTo>
                      <a:pt x="18" y="5"/>
                    </a:lnTo>
                    <a:lnTo>
                      <a:pt x="21" y="12"/>
                    </a:lnTo>
                    <a:lnTo>
                      <a:pt x="18" y="19"/>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9" name=""/>
              <p:cNvSpPr/>
              <p:nvPr/>
            </p:nvSpPr>
            <p:spPr>
              <a:xfrm>
                <a:off x="8367840" y="1862280"/>
                <a:ext cx="12600" cy="10800"/>
              </a:xfrm>
              <a:custGeom>
                <a:avLst/>
                <a:gdLst/>
                <a:ahLst/>
                <a:rect l="l" t="t" r="r" b="b"/>
                <a:pathLst>
                  <a:path w="25" h="21">
                    <a:moveTo>
                      <a:pt x="6" y="21"/>
                    </a:moveTo>
                    <a:lnTo>
                      <a:pt x="0" y="10"/>
                    </a:lnTo>
                    <a:lnTo>
                      <a:pt x="3" y="4"/>
                    </a:lnTo>
                    <a:lnTo>
                      <a:pt x="9" y="1"/>
                    </a:lnTo>
                    <a:lnTo>
                      <a:pt x="16" y="0"/>
                    </a:lnTo>
                    <a:lnTo>
                      <a:pt x="25" y="1"/>
                    </a:lnTo>
                    <a:lnTo>
                      <a:pt x="25" y="7"/>
                    </a:lnTo>
                    <a:lnTo>
                      <a:pt x="22" y="13"/>
                    </a:lnTo>
                    <a:lnTo>
                      <a:pt x="16" y="19"/>
                    </a:lnTo>
                    <a:lnTo>
                      <a:pt x="6"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60" name=""/>
              <p:cNvSpPr/>
              <p:nvPr/>
            </p:nvSpPr>
            <p:spPr>
              <a:xfrm>
                <a:off x="7672320" y="1870200"/>
                <a:ext cx="7920" cy="11160"/>
              </a:xfrm>
              <a:custGeom>
                <a:avLst/>
                <a:gdLst/>
                <a:ahLst/>
                <a:rect l="l" t="t" r="r" b="b"/>
                <a:pathLst>
                  <a:path w="17" h="19">
                    <a:moveTo>
                      <a:pt x="2" y="19"/>
                    </a:moveTo>
                    <a:lnTo>
                      <a:pt x="0" y="0"/>
                    </a:lnTo>
                    <a:lnTo>
                      <a:pt x="17" y="2"/>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1" name=""/>
              <p:cNvSpPr/>
              <p:nvPr/>
            </p:nvSpPr>
            <p:spPr>
              <a:xfrm>
                <a:off x="8269200" y="1859040"/>
                <a:ext cx="11160" cy="12600"/>
              </a:xfrm>
              <a:custGeom>
                <a:avLst/>
                <a:gdLst/>
                <a:ahLst/>
                <a:rect l="l" t="t" r="r" b="b"/>
                <a:pathLst>
                  <a:path w="19" h="25">
                    <a:moveTo>
                      <a:pt x="6" y="25"/>
                    </a:moveTo>
                    <a:lnTo>
                      <a:pt x="0" y="20"/>
                    </a:lnTo>
                    <a:lnTo>
                      <a:pt x="0" y="12"/>
                    </a:lnTo>
                    <a:lnTo>
                      <a:pt x="3" y="4"/>
                    </a:lnTo>
                    <a:lnTo>
                      <a:pt x="9" y="0"/>
                    </a:lnTo>
                    <a:lnTo>
                      <a:pt x="15" y="4"/>
                    </a:lnTo>
                    <a:lnTo>
                      <a:pt x="19" y="13"/>
                    </a:lnTo>
                    <a:lnTo>
                      <a:pt x="18" y="22"/>
                    </a:lnTo>
                    <a:lnTo>
                      <a:pt x="6"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2" name=""/>
              <p:cNvSpPr/>
              <p:nvPr/>
            </p:nvSpPr>
            <p:spPr>
              <a:xfrm>
                <a:off x="7758000" y="1859040"/>
                <a:ext cx="11160" cy="9360"/>
              </a:xfrm>
              <a:custGeom>
                <a:avLst/>
                <a:gdLst/>
                <a:ahLst/>
                <a:rect l="l" t="t" r="r" b="b"/>
                <a:pathLst>
                  <a:path w="23" h="19">
                    <a:moveTo>
                      <a:pt x="7" y="15"/>
                    </a:moveTo>
                    <a:lnTo>
                      <a:pt x="0" y="8"/>
                    </a:lnTo>
                    <a:lnTo>
                      <a:pt x="20" y="0"/>
                    </a:lnTo>
                    <a:lnTo>
                      <a:pt x="23" y="8"/>
                    </a:lnTo>
                    <a:lnTo>
                      <a:pt x="21" y="15"/>
                    </a:lnTo>
                    <a:lnTo>
                      <a:pt x="15" y="19"/>
                    </a:lnTo>
                    <a:lnTo>
                      <a:pt x="7"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63" name=""/>
              <p:cNvSpPr/>
              <p:nvPr/>
            </p:nvSpPr>
            <p:spPr>
              <a:xfrm>
                <a:off x="7575480" y="1844640"/>
                <a:ext cx="9720" cy="14400"/>
              </a:xfrm>
              <a:custGeom>
                <a:avLst/>
                <a:gdLst/>
                <a:ahLst/>
                <a:rect l="l" t="t" r="r" b="b"/>
                <a:pathLst>
                  <a:path w="17" h="28">
                    <a:moveTo>
                      <a:pt x="6" y="28"/>
                    </a:moveTo>
                    <a:lnTo>
                      <a:pt x="0" y="24"/>
                    </a:lnTo>
                    <a:lnTo>
                      <a:pt x="0" y="17"/>
                    </a:lnTo>
                    <a:lnTo>
                      <a:pt x="4" y="8"/>
                    </a:lnTo>
                    <a:lnTo>
                      <a:pt x="6" y="0"/>
                    </a:lnTo>
                    <a:lnTo>
                      <a:pt x="14" y="0"/>
                    </a:lnTo>
                    <a:lnTo>
                      <a:pt x="17" y="7"/>
                    </a:lnTo>
                    <a:lnTo>
                      <a:pt x="17" y="15"/>
                    </a:lnTo>
                    <a:lnTo>
                      <a:pt x="11" y="24"/>
                    </a:lnTo>
                    <a:lnTo>
                      <a:pt x="6" y="2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4" name=""/>
              <p:cNvSpPr/>
              <p:nvPr/>
            </p:nvSpPr>
            <p:spPr>
              <a:xfrm>
                <a:off x="7904160" y="1844640"/>
                <a:ext cx="6480" cy="9720"/>
              </a:xfrm>
              <a:custGeom>
                <a:avLst/>
                <a:gdLst/>
                <a:ahLst/>
                <a:rect l="l" t="t" r="r" b="b"/>
                <a:pathLst>
                  <a:path w="13" h="18">
                    <a:moveTo>
                      <a:pt x="0" y="18"/>
                    </a:moveTo>
                    <a:lnTo>
                      <a:pt x="1" y="0"/>
                    </a:lnTo>
                    <a:lnTo>
                      <a:pt x="11" y="1"/>
                    </a:lnTo>
                    <a:lnTo>
                      <a:pt x="13" y="7"/>
                    </a:lnTo>
                    <a:lnTo>
                      <a:pt x="8" y="15"/>
                    </a:lnTo>
                    <a:lnTo>
                      <a:pt x="0"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65" name=""/>
              <p:cNvSpPr/>
              <p:nvPr/>
            </p:nvSpPr>
            <p:spPr>
              <a:xfrm>
                <a:off x="7493040" y="1847880"/>
                <a:ext cx="17280" cy="11160"/>
              </a:xfrm>
              <a:custGeom>
                <a:avLst/>
                <a:gdLst/>
                <a:ahLst/>
                <a:rect l="l" t="t" r="r" b="b"/>
                <a:pathLst>
                  <a:path w="33" h="19">
                    <a:moveTo>
                      <a:pt x="10" y="19"/>
                    </a:moveTo>
                    <a:lnTo>
                      <a:pt x="0" y="3"/>
                    </a:lnTo>
                    <a:lnTo>
                      <a:pt x="8" y="0"/>
                    </a:lnTo>
                    <a:lnTo>
                      <a:pt x="17" y="0"/>
                    </a:lnTo>
                    <a:lnTo>
                      <a:pt x="26" y="0"/>
                    </a:lnTo>
                    <a:lnTo>
                      <a:pt x="33" y="3"/>
                    </a:lnTo>
                    <a:lnTo>
                      <a:pt x="10"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6" name=""/>
              <p:cNvSpPr/>
              <p:nvPr/>
            </p:nvSpPr>
            <p:spPr>
              <a:xfrm>
                <a:off x="7840800" y="1843200"/>
                <a:ext cx="7920" cy="11160"/>
              </a:xfrm>
              <a:custGeom>
                <a:avLst/>
                <a:gdLst/>
                <a:ahLst/>
                <a:rect l="l" t="t" r="r" b="b"/>
                <a:pathLst>
                  <a:path w="17" h="21">
                    <a:moveTo>
                      <a:pt x="5" y="21"/>
                    </a:moveTo>
                    <a:lnTo>
                      <a:pt x="0" y="17"/>
                    </a:lnTo>
                    <a:lnTo>
                      <a:pt x="3" y="10"/>
                    </a:lnTo>
                    <a:lnTo>
                      <a:pt x="10" y="4"/>
                    </a:lnTo>
                    <a:lnTo>
                      <a:pt x="17" y="0"/>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7" name=""/>
              <p:cNvSpPr/>
              <p:nvPr/>
            </p:nvSpPr>
            <p:spPr>
              <a:xfrm>
                <a:off x="8031240" y="1832040"/>
                <a:ext cx="11160" cy="14400"/>
              </a:xfrm>
              <a:custGeom>
                <a:avLst/>
                <a:gdLst/>
                <a:ahLst/>
                <a:rect l="l" t="t" r="r" b="b"/>
                <a:pathLst>
                  <a:path w="20" h="26">
                    <a:moveTo>
                      <a:pt x="6" y="26"/>
                    </a:moveTo>
                    <a:lnTo>
                      <a:pt x="0" y="22"/>
                    </a:lnTo>
                    <a:lnTo>
                      <a:pt x="2" y="13"/>
                    </a:lnTo>
                    <a:lnTo>
                      <a:pt x="6" y="4"/>
                    </a:lnTo>
                    <a:lnTo>
                      <a:pt x="12" y="0"/>
                    </a:lnTo>
                    <a:lnTo>
                      <a:pt x="18" y="4"/>
                    </a:lnTo>
                    <a:lnTo>
                      <a:pt x="20" y="13"/>
                    </a:lnTo>
                    <a:lnTo>
                      <a:pt x="16" y="22"/>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8" name=""/>
              <p:cNvSpPr/>
              <p:nvPr/>
            </p:nvSpPr>
            <p:spPr>
              <a:xfrm>
                <a:off x="8172360" y="1828800"/>
                <a:ext cx="11160" cy="11160"/>
              </a:xfrm>
              <a:custGeom>
                <a:avLst/>
                <a:gdLst/>
                <a:ahLst/>
                <a:rect l="l" t="t" r="r" b="b"/>
                <a:pathLst>
                  <a:path w="20" h="21">
                    <a:moveTo>
                      <a:pt x="11" y="21"/>
                    </a:moveTo>
                    <a:lnTo>
                      <a:pt x="0" y="13"/>
                    </a:lnTo>
                    <a:lnTo>
                      <a:pt x="1" y="5"/>
                    </a:lnTo>
                    <a:lnTo>
                      <a:pt x="7" y="1"/>
                    </a:lnTo>
                    <a:lnTo>
                      <a:pt x="14" y="0"/>
                    </a:lnTo>
                    <a:lnTo>
                      <a:pt x="20" y="3"/>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9" name=""/>
              <p:cNvSpPr/>
              <p:nvPr/>
            </p:nvSpPr>
            <p:spPr>
              <a:xfrm>
                <a:off x="7969320" y="1828800"/>
                <a:ext cx="11160" cy="7920"/>
              </a:xfrm>
              <a:custGeom>
                <a:avLst/>
                <a:gdLst/>
                <a:ahLst/>
                <a:rect l="l" t="t" r="r" b="b"/>
                <a:pathLst>
                  <a:path w="23" h="16">
                    <a:moveTo>
                      <a:pt x="13" y="16"/>
                    </a:moveTo>
                    <a:lnTo>
                      <a:pt x="0" y="0"/>
                    </a:lnTo>
                    <a:lnTo>
                      <a:pt x="23" y="0"/>
                    </a:lnTo>
                    <a:lnTo>
                      <a:pt x="1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0" name=""/>
              <p:cNvSpPr/>
              <p:nvPr/>
            </p:nvSpPr>
            <p:spPr>
              <a:xfrm>
                <a:off x="8102520" y="1822320"/>
                <a:ext cx="11160" cy="11160"/>
              </a:xfrm>
              <a:custGeom>
                <a:avLst/>
                <a:gdLst/>
                <a:ahLst/>
                <a:rect l="l" t="t" r="r" b="b"/>
                <a:pathLst>
                  <a:path w="19" h="20">
                    <a:moveTo>
                      <a:pt x="3" y="19"/>
                    </a:moveTo>
                    <a:lnTo>
                      <a:pt x="0" y="12"/>
                    </a:lnTo>
                    <a:lnTo>
                      <a:pt x="2" y="4"/>
                    </a:lnTo>
                    <a:lnTo>
                      <a:pt x="7" y="0"/>
                    </a:lnTo>
                    <a:lnTo>
                      <a:pt x="16" y="0"/>
                    </a:lnTo>
                    <a:lnTo>
                      <a:pt x="19" y="9"/>
                    </a:lnTo>
                    <a:lnTo>
                      <a:pt x="17" y="16"/>
                    </a:lnTo>
                    <a:lnTo>
                      <a:pt x="12" y="20"/>
                    </a:lnTo>
                    <a:lnTo>
                      <a:pt x="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1" name=""/>
              <p:cNvSpPr/>
              <p:nvPr/>
            </p:nvSpPr>
            <p:spPr>
              <a:xfrm>
                <a:off x="7140600" y="1824120"/>
                <a:ext cx="12600" cy="15840"/>
              </a:xfrm>
              <a:custGeom>
                <a:avLst/>
                <a:gdLst/>
                <a:ahLst/>
                <a:rect l="l" t="t" r="r" b="b"/>
                <a:pathLst>
                  <a:path w="26" h="29">
                    <a:moveTo>
                      <a:pt x="7" y="29"/>
                    </a:moveTo>
                    <a:lnTo>
                      <a:pt x="1" y="23"/>
                    </a:lnTo>
                    <a:lnTo>
                      <a:pt x="0" y="16"/>
                    </a:lnTo>
                    <a:lnTo>
                      <a:pt x="2" y="7"/>
                    </a:lnTo>
                    <a:lnTo>
                      <a:pt x="7" y="0"/>
                    </a:lnTo>
                    <a:lnTo>
                      <a:pt x="26" y="12"/>
                    </a:lnTo>
                    <a:lnTo>
                      <a:pt x="7"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72" name=""/>
              <p:cNvSpPr/>
              <p:nvPr/>
            </p:nvSpPr>
            <p:spPr>
              <a:xfrm>
                <a:off x="7716960" y="1798560"/>
                <a:ext cx="11160" cy="11160"/>
              </a:xfrm>
              <a:custGeom>
                <a:avLst/>
                <a:gdLst/>
                <a:ahLst/>
                <a:rect l="l" t="t" r="r" b="b"/>
                <a:pathLst>
                  <a:path w="20" h="23">
                    <a:moveTo>
                      <a:pt x="6" y="23"/>
                    </a:moveTo>
                    <a:lnTo>
                      <a:pt x="0" y="19"/>
                    </a:lnTo>
                    <a:lnTo>
                      <a:pt x="0" y="11"/>
                    </a:lnTo>
                    <a:lnTo>
                      <a:pt x="6" y="3"/>
                    </a:lnTo>
                    <a:lnTo>
                      <a:pt x="14" y="0"/>
                    </a:lnTo>
                    <a:lnTo>
                      <a:pt x="20" y="4"/>
                    </a:lnTo>
                    <a:lnTo>
                      <a:pt x="19" y="11"/>
                    </a:lnTo>
                    <a:lnTo>
                      <a:pt x="11" y="19"/>
                    </a:lnTo>
                    <a:lnTo>
                      <a:pt x="6"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3" name=""/>
              <p:cNvSpPr/>
              <p:nvPr/>
            </p:nvSpPr>
            <p:spPr>
              <a:xfrm>
                <a:off x="7056360" y="1806480"/>
                <a:ext cx="12600" cy="11160"/>
              </a:xfrm>
              <a:custGeom>
                <a:avLst/>
                <a:gdLst/>
                <a:ahLst/>
                <a:rect l="l" t="t" r="r" b="b"/>
                <a:pathLst>
                  <a:path w="23" h="21">
                    <a:moveTo>
                      <a:pt x="6" y="21"/>
                    </a:moveTo>
                    <a:lnTo>
                      <a:pt x="0" y="3"/>
                    </a:lnTo>
                    <a:lnTo>
                      <a:pt x="7" y="0"/>
                    </a:lnTo>
                    <a:lnTo>
                      <a:pt x="14" y="1"/>
                    </a:lnTo>
                    <a:lnTo>
                      <a:pt x="20" y="7"/>
                    </a:lnTo>
                    <a:lnTo>
                      <a:pt x="23" y="14"/>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4" name=""/>
              <p:cNvSpPr/>
              <p:nvPr/>
            </p:nvSpPr>
            <p:spPr>
              <a:xfrm>
                <a:off x="8304120" y="1790640"/>
                <a:ext cx="11160" cy="9720"/>
              </a:xfrm>
              <a:custGeom>
                <a:avLst/>
                <a:gdLst/>
                <a:ahLst/>
                <a:rect l="l" t="t" r="r" b="b"/>
                <a:pathLst>
                  <a:path w="21" h="19">
                    <a:moveTo>
                      <a:pt x="0" y="19"/>
                    </a:moveTo>
                    <a:lnTo>
                      <a:pt x="2" y="0"/>
                    </a:lnTo>
                    <a:lnTo>
                      <a:pt x="21" y="10"/>
                    </a:lnTo>
                    <a:lnTo>
                      <a:pt x="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75" name=""/>
              <p:cNvSpPr/>
              <p:nvPr/>
            </p:nvSpPr>
            <p:spPr>
              <a:xfrm>
                <a:off x="7013520" y="1801800"/>
                <a:ext cx="11160" cy="12600"/>
              </a:xfrm>
              <a:custGeom>
                <a:avLst/>
                <a:gdLst/>
                <a:ahLst/>
                <a:rect l="l" t="t" r="r" b="b"/>
                <a:pathLst>
                  <a:path w="20" h="23">
                    <a:moveTo>
                      <a:pt x="1" y="23"/>
                    </a:moveTo>
                    <a:lnTo>
                      <a:pt x="0" y="16"/>
                    </a:lnTo>
                    <a:lnTo>
                      <a:pt x="1" y="10"/>
                    </a:lnTo>
                    <a:lnTo>
                      <a:pt x="9" y="4"/>
                    </a:lnTo>
                    <a:lnTo>
                      <a:pt x="17" y="0"/>
                    </a:lnTo>
                    <a:lnTo>
                      <a:pt x="20" y="22"/>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6" name=""/>
              <p:cNvSpPr/>
              <p:nvPr/>
            </p:nvSpPr>
            <p:spPr>
              <a:xfrm>
                <a:off x="7864560" y="1793880"/>
                <a:ext cx="11160" cy="7920"/>
              </a:xfrm>
              <a:custGeom>
                <a:avLst/>
                <a:gdLst/>
                <a:ahLst/>
                <a:rect l="l" t="t" r="r" b="b"/>
                <a:pathLst>
                  <a:path w="21" h="14">
                    <a:moveTo>
                      <a:pt x="12" y="14"/>
                    </a:moveTo>
                    <a:lnTo>
                      <a:pt x="0" y="0"/>
                    </a:lnTo>
                    <a:lnTo>
                      <a:pt x="21" y="0"/>
                    </a:lnTo>
                    <a:lnTo>
                      <a:pt x="12"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7" name=""/>
              <p:cNvSpPr/>
              <p:nvPr/>
            </p:nvSpPr>
            <p:spPr>
              <a:xfrm>
                <a:off x="8366040" y="1784520"/>
                <a:ext cx="12960" cy="12600"/>
              </a:xfrm>
              <a:custGeom>
                <a:avLst/>
                <a:gdLst/>
                <a:ahLst/>
                <a:rect l="l" t="t" r="r" b="b"/>
                <a:pathLst>
                  <a:path w="23" h="22">
                    <a:moveTo>
                      <a:pt x="14" y="22"/>
                    </a:moveTo>
                    <a:lnTo>
                      <a:pt x="0" y="9"/>
                    </a:lnTo>
                    <a:lnTo>
                      <a:pt x="4" y="2"/>
                    </a:lnTo>
                    <a:lnTo>
                      <a:pt x="11" y="0"/>
                    </a:lnTo>
                    <a:lnTo>
                      <a:pt x="20" y="5"/>
                    </a:lnTo>
                    <a:lnTo>
                      <a:pt x="23" y="10"/>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8" name=""/>
              <p:cNvSpPr/>
              <p:nvPr/>
            </p:nvSpPr>
            <p:spPr>
              <a:xfrm>
                <a:off x="7202520" y="1798560"/>
                <a:ext cx="9360" cy="12600"/>
              </a:xfrm>
              <a:custGeom>
                <a:avLst/>
                <a:gdLst/>
                <a:ahLst/>
                <a:rect l="l" t="t" r="r" b="b"/>
                <a:pathLst>
                  <a:path w="20" h="23">
                    <a:moveTo>
                      <a:pt x="0" y="22"/>
                    </a:moveTo>
                    <a:lnTo>
                      <a:pt x="1" y="0"/>
                    </a:lnTo>
                    <a:lnTo>
                      <a:pt x="8" y="2"/>
                    </a:lnTo>
                    <a:lnTo>
                      <a:pt x="13" y="6"/>
                    </a:lnTo>
                    <a:lnTo>
                      <a:pt x="17" y="13"/>
                    </a:lnTo>
                    <a:lnTo>
                      <a:pt x="20" y="23"/>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9" name=""/>
              <p:cNvSpPr/>
              <p:nvPr/>
            </p:nvSpPr>
            <p:spPr>
              <a:xfrm>
                <a:off x="8213760" y="1779480"/>
                <a:ext cx="11160" cy="12960"/>
              </a:xfrm>
              <a:custGeom>
                <a:avLst/>
                <a:gdLst/>
                <a:ahLst/>
                <a:rect l="l" t="t" r="r" b="b"/>
                <a:pathLst>
                  <a:path w="21" h="25">
                    <a:moveTo>
                      <a:pt x="5" y="25"/>
                    </a:moveTo>
                    <a:lnTo>
                      <a:pt x="0" y="17"/>
                    </a:lnTo>
                    <a:lnTo>
                      <a:pt x="2" y="10"/>
                    </a:lnTo>
                    <a:lnTo>
                      <a:pt x="8" y="4"/>
                    </a:lnTo>
                    <a:lnTo>
                      <a:pt x="16" y="0"/>
                    </a:lnTo>
                    <a:lnTo>
                      <a:pt x="21" y="19"/>
                    </a:lnTo>
                    <a:lnTo>
                      <a:pt x="5"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0" name=""/>
              <p:cNvSpPr/>
              <p:nvPr/>
            </p:nvSpPr>
            <p:spPr>
              <a:xfrm>
                <a:off x="7624800" y="1785960"/>
                <a:ext cx="11160" cy="9360"/>
              </a:xfrm>
              <a:custGeom>
                <a:avLst/>
                <a:gdLst/>
                <a:ahLst/>
                <a:rect l="l" t="t" r="r" b="b"/>
                <a:pathLst>
                  <a:path w="23" h="17">
                    <a:moveTo>
                      <a:pt x="11" y="17"/>
                    </a:moveTo>
                    <a:lnTo>
                      <a:pt x="0" y="10"/>
                    </a:lnTo>
                    <a:lnTo>
                      <a:pt x="3" y="2"/>
                    </a:lnTo>
                    <a:lnTo>
                      <a:pt x="10" y="0"/>
                    </a:lnTo>
                    <a:lnTo>
                      <a:pt x="17" y="3"/>
                    </a:lnTo>
                    <a:lnTo>
                      <a:pt x="23" y="7"/>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1" name=""/>
              <p:cNvSpPr/>
              <p:nvPr/>
            </p:nvSpPr>
            <p:spPr>
              <a:xfrm>
                <a:off x="7291440" y="1785960"/>
                <a:ext cx="9360" cy="12600"/>
              </a:xfrm>
              <a:custGeom>
                <a:avLst/>
                <a:gdLst/>
                <a:ahLst/>
                <a:rect l="l" t="t" r="r" b="b"/>
                <a:pathLst>
                  <a:path w="17" h="22">
                    <a:moveTo>
                      <a:pt x="1" y="22"/>
                    </a:moveTo>
                    <a:lnTo>
                      <a:pt x="0" y="0"/>
                    </a:lnTo>
                    <a:lnTo>
                      <a:pt x="17" y="4"/>
                    </a:lnTo>
                    <a:lnTo>
                      <a:pt x="17" y="12"/>
                    </a:lnTo>
                    <a:lnTo>
                      <a:pt x="14" y="17"/>
                    </a:lnTo>
                    <a:lnTo>
                      <a:pt x="9" y="20"/>
                    </a:lnTo>
                    <a:lnTo>
                      <a:pt x="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2" name=""/>
              <p:cNvSpPr/>
              <p:nvPr/>
            </p:nvSpPr>
            <p:spPr>
              <a:xfrm>
                <a:off x="8082000" y="1776240"/>
                <a:ext cx="9360" cy="9720"/>
              </a:xfrm>
              <a:custGeom>
                <a:avLst/>
                <a:gdLst/>
                <a:ahLst/>
                <a:rect l="l" t="t" r="r" b="b"/>
                <a:pathLst>
                  <a:path w="18" h="19">
                    <a:moveTo>
                      <a:pt x="10" y="19"/>
                    </a:moveTo>
                    <a:lnTo>
                      <a:pt x="0" y="13"/>
                    </a:lnTo>
                    <a:lnTo>
                      <a:pt x="1" y="6"/>
                    </a:lnTo>
                    <a:lnTo>
                      <a:pt x="7" y="2"/>
                    </a:lnTo>
                    <a:lnTo>
                      <a:pt x="13" y="0"/>
                    </a:lnTo>
                    <a:lnTo>
                      <a:pt x="18" y="3"/>
                    </a:lnTo>
                    <a:lnTo>
                      <a:pt x="1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3" name=""/>
              <p:cNvSpPr/>
              <p:nvPr/>
            </p:nvSpPr>
            <p:spPr>
              <a:xfrm>
                <a:off x="7458120" y="1782720"/>
                <a:ext cx="9360" cy="11160"/>
              </a:xfrm>
              <a:custGeom>
                <a:avLst/>
                <a:gdLst/>
                <a:ahLst/>
                <a:rect l="l" t="t" r="r" b="b"/>
                <a:pathLst>
                  <a:path w="20" h="21">
                    <a:moveTo>
                      <a:pt x="0" y="21"/>
                    </a:moveTo>
                    <a:lnTo>
                      <a:pt x="0" y="0"/>
                    </a:lnTo>
                    <a:lnTo>
                      <a:pt x="20" y="3"/>
                    </a:lnTo>
                    <a:lnTo>
                      <a:pt x="18" y="10"/>
                    </a:lnTo>
                    <a:lnTo>
                      <a:pt x="16" y="16"/>
                    </a:lnTo>
                    <a:lnTo>
                      <a:pt x="8"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4" name=""/>
              <p:cNvSpPr/>
              <p:nvPr/>
            </p:nvSpPr>
            <p:spPr>
              <a:xfrm>
                <a:off x="7932600" y="1776240"/>
                <a:ext cx="12960" cy="9720"/>
              </a:xfrm>
              <a:custGeom>
                <a:avLst/>
                <a:gdLst/>
                <a:ahLst/>
                <a:rect l="l" t="t" r="r" b="b"/>
                <a:pathLst>
                  <a:path w="22" h="19">
                    <a:moveTo>
                      <a:pt x="7" y="19"/>
                    </a:moveTo>
                    <a:lnTo>
                      <a:pt x="0" y="11"/>
                    </a:lnTo>
                    <a:lnTo>
                      <a:pt x="2" y="4"/>
                    </a:lnTo>
                    <a:lnTo>
                      <a:pt x="6" y="0"/>
                    </a:lnTo>
                    <a:lnTo>
                      <a:pt x="13" y="0"/>
                    </a:lnTo>
                    <a:lnTo>
                      <a:pt x="22" y="3"/>
                    </a:lnTo>
                    <a:lnTo>
                      <a:pt x="7"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785" name=""/>
          <p:cNvGrpSpPr/>
          <p:nvPr/>
        </p:nvGrpSpPr>
        <p:grpSpPr>
          <a:xfrm>
            <a:off x="822240" y="1676520"/>
            <a:ext cx="1027080" cy="1334880"/>
            <a:chOff x="822240" y="1676520"/>
            <a:chExt cx="1027080" cy="1334880"/>
          </a:xfrm>
        </p:grpSpPr>
        <p:sp>
          <p:nvSpPr>
            <p:cNvPr id="786" name=""/>
            <p:cNvSpPr/>
            <p:nvPr/>
          </p:nvSpPr>
          <p:spPr>
            <a:xfrm>
              <a:off x="873000" y="1676520"/>
              <a:ext cx="976320" cy="1271520"/>
            </a:xfrm>
            <a:custGeom>
              <a:avLst/>
              <a:gdLst/>
              <a:ahLst/>
              <a:rect l="l" t="t" r="r" b="b"/>
              <a:pathLst>
                <a:path w="1846" h="2404">
                  <a:moveTo>
                    <a:pt x="1124" y="0"/>
                  </a:moveTo>
                  <a:lnTo>
                    <a:pt x="1680" y="512"/>
                  </a:lnTo>
                  <a:lnTo>
                    <a:pt x="1846" y="1882"/>
                  </a:lnTo>
                  <a:lnTo>
                    <a:pt x="1664" y="2140"/>
                  </a:lnTo>
                  <a:lnTo>
                    <a:pt x="1132" y="2140"/>
                  </a:lnTo>
                  <a:lnTo>
                    <a:pt x="481" y="2404"/>
                  </a:lnTo>
                  <a:lnTo>
                    <a:pt x="211" y="2354"/>
                  </a:lnTo>
                  <a:lnTo>
                    <a:pt x="0" y="2016"/>
                  </a:lnTo>
                  <a:lnTo>
                    <a:pt x="327" y="1420"/>
                  </a:lnTo>
                  <a:lnTo>
                    <a:pt x="795" y="412"/>
                  </a:lnTo>
                  <a:lnTo>
                    <a:pt x="1124" y="0"/>
                  </a:lnTo>
                  <a:lnTo>
                    <a:pt x="1124"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822240" y="1676520"/>
              <a:ext cx="1027080" cy="1334880"/>
            </a:xfrm>
            <a:custGeom>
              <a:avLst/>
              <a:gdLst/>
              <a:ahLst/>
              <a:rect l="l" t="t" r="r" b="b"/>
              <a:pathLst>
                <a:path w="1941" h="2523">
                  <a:moveTo>
                    <a:pt x="1212" y="0"/>
                  </a:moveTo>
                  <a:lnTo>
                    <a:pt x="1081" y="102"/>
                  </a:lnTo>
                  <a:lnTo>
                    <a:pt x="920" y="264"/>
                  </a:lnTo>
                  <a:lnTo>
                    <a:pt x="795" y="449"/>
                  </a:lnTo>
                  <a:lnTo>
                    <a:pt x="620" y="794"/>
                  </a:lnTo>
                  <a:lnTo>
                    <a:pt x="445" y="1147"/>
                  </a:lnTo>
                  <a:lnTo>
                    <a:pt x="256" y="1464"/>
                  </a:lnTo>
                  <a:lnTo>
                    <a:pt x="87" y="1721"/>
                  </a:lnTo>
                  <a:lnTo>
                    <a:pt x="28" y="1846"/>
                  </a:lnTo>
                  <a:lnTo>
                    <a:pt x="7" y="1957"/>
                  </a:lnTo>
                  <a:lnTo>
                    <a:pt x="0" y="2030"/>
                  </a:lnTo>
                  <a:lnTo>
                    <a:pt x="37" y="2163"/>
                  </a:lnTo>
                  <a:lnTo>
                    <a:pt x="122" y="2296"/>
                  </a:lnTo>
                  <a:lnTo>
                    <a:pt x="233" y="2404"/>
                  </a:lnTo>
                  <a:lnTo>
                    <a:pt x="344" y="2479"/>
                  </a:lnTo>
                  <a:lnTo>
                    <a:pt x="452" y="2517"/>
                  </a:lnTo>
                  <a:lnTo>
                    <a:pt x="540" y="2523"/>
                  </a:lnTo>
                  <a:lnTo>
                    <a:pt x="613" y="2509"/>
                  </a:lnTo>
                  <a:lnTo>
                    <a:pt x="766" y="2429"/>
                  </a:lnTo>
                  <a:lnTo>
                    <a:pt x="947" y="2339"/>
                  </a:lnTo>
                  <a:lnTo>
                    <a:pt x="1182" y="2273"/>
                  </a:lnTo>
                  <a:lnTo>
                    <a:pt x="1401" y="2244"/>
                  </a:lnTo>
                  <a:lnTo>
                    <a:pt x="1634" y="2252"/>
                  </a:lnTo>
                  <a:lnTo>
                    <a:pt x="1759" y="2252"/>
                  </a:lnTo>
                  <a:lnTo>
                    <a:pt x="1853" y="2222"/>
                  </a:lnTo>
                  <a:lnTo>
                    <a:pt x="1905" y="2140"/>
                  </a:lnTo>
                  <a:lnTo>
                    <a:pt x="1934" y="2000"/>
                  </a:lnTo>
                  <a:lnTo>
                    <a:pt x="1941" y="1854"/>
                  </a:lnTo>
                  <a:lnTo>
                    <a:pt x="1905" y="1669"/>
                  </a:lnTo>
                  <a:lnTo>
                    <a:pt x="1833" y="1531"/>
                  </a:lnTo>
                  <a:lnTo>
                    <a:pt x="1722" y="1434"/>
                  </a:lnTo>
                  <a:lnTo>
                    <a:pt x="1577" y="1376"/>
                  </a:lnTo>
                  <a:lnTo>
                    <a:pt x="1453" y="1384"/>
                  </a:lnTo>
                  <a:lnTo>
                    <a:pt x="1350" y="1427"/>
                  </a:lnTo>
                  <a:lnTo>
                    <a:pt x="1284" y="1485"/>
                  </a:lnTo>
                  <a:lnTo>
                    <a:pt x="1227" y="1566"/>
                  </a:lnTo>
                  <a:lnTo>
                    <a:pt x="1189" y="1663"/>
                  </a:lnTo>
                  <a:lnTo>
                    <a:pt x="1204" y="1714"/>
                  </a:lnTo>
                  <a:lnTo>
                    <a:pt x="1241" y="1736"/>
                  </a:lnTo>
                  <a:lnTo>
                    <a:pt x="1307" y="1730"/>
                  </a:lnTo>
                  <a:lnTo>
                    <a:pt x="1350" y="1684"/>
                  </a:lnTo>
                  <a:lnTo>
                    <a:pt x="1415" y="1609"/>
                  </a:lnTo>
                  <a:lnTo>
                    <a:pt x="1496" y="1589"/>
                  </a:lnTo>
                  <a:lnTo>
                    <a:pt x="1577" y="1602"/>
                  </a:lnTo>
                  <a:lnTo>
                    <a:pt x="1664" y="1649"/>
                  </a:lnTo>
                  <a:lnTo>
                    <a:pt x="1729" y="1736"/>
                  </a:lnTo>
                  <a:lnTo>
                    <a:pt x="1752" y="1838"/>
                  </a:lnTo>
                  <a:lnTo>
                    <a:pt x="1738" y="1987"/>
                  </a:lnTo>
                  <a:lnTo>
                    <a:pt x="1715" y="2045"/>
                  </a:lnTo>
                  <a:lnTo>
                    <a:pt x="1679" y="2060"/>
                  </a:lnTo>
                  <a:lnTo>
                    <a:pt x="1314" y="2060"/>
                  </a:lnTo>
                  <a:lnTo>
                    <a:pt x="1081" y="2088"/>
                  </a:lnTo>
                  <a:lnTo>
                    <a:pt x="882" y="2156"/>
                  </a:lnTo>
                  <a:lnTo>
                    <a:pt x="701" y="2259"/>
                  </a:lnTo>
                  <a:lnTo>
                    <a:pt x="597" y="2296"/>
                  </a:lnTo>
                  <a:lnTo>
                    <a:pt x="518" y="2296"/>
                  </a:lnTo>
                  <a:lnTo>
                    <a:pt x="408" y="2252"/>
                  </a:lnTo>
                  <a:lnTo>
                    <a:pt x="321" y="2179"/>
                  </a:lnTo>
                  <a:lnTo>
                    <a:pt x="256" y="2104"/>
                  </a:lnTo>
                  <a:lnTo>
                    <a:pt x="233" y="2053"/>
                  </a:lnTo>
                  <a:lnTo>
                    <a:pt x="219" y="1980"/>
                  </a:lnTo>
                  <a:lnTo>
                    <a:pt x="226" y="1929"/>
                  </a:lnTo>
                  <a:lnTo>
                    <a:pt x="247" y="1854"/>
                  </a:lnTo>
                  <a:lnTo>
                    <a:pt x="402" y="1602"/>
                  </a:lnTo>
                  <a:lnTo>
                    <a:pt x="525" y="1391"/>
                  </a:lnTo>
                  <a:lnTo>
                    <a:pt x="635" y="1170"/>
                  </a:lnTo>
                  <a:lnTo>
                    <a:pt x="744" y="964"/>
                  </a:lnTo>
                  <a:lnTo>
                    <a:pt x="839" y="749"/>
                  </a:lnTo>
                  <a:lnTo>
                    <a:pt x="943" y="566"/>
                  </a:lnTo>
                  <a:lnTo>
                    <a:pt x="1028" y="426"/>
                  </a:lnTo>
                  <a:lnTo>
                    <a:pt x="1139" y="310"/>
                  </a:lnTo>
                  <a:lnTo>
                    <a:pt x="1241" y="206"/>
                  </a:lnTo>
                  <a:lnTo>
                    <a:pt x="1292" y="154"/>
                  </a:lnTo>
                  <a:lnTo>
                    <a:pt x="1300" y="89"/>
                  </a:lnTo>
                  <a:lnTo>
                    <a:pt x="1277" y="44"/>
                  </a:lnTo>
                  <a:lnTo>
                    <a:pt x="1241" y="7"/>
                  </a:lnTo>
                  <a:lnTo>
                    <a:pt x="1212" y="0"/>
                  </a:lnTo>
                  <a:lnTo>
                    <a:pt x="1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8" name=""/>
          <p:cNvGrpSpPr/>
          <p:nvPr/>
        </p:nvGrpSpPr>
        <p:grpSpPr>
          <a:xfrm>
            <a:off x="2643120" y="1644480"/>
            <a:ext cx="1749240" cy="1511640"/>
            <a:chOff x="2643120" y="1644480"/>
            <a:chExt cx="1749240" cy="1511640"/>
          </a:xfrm>
        </p:grpSpPr>
        <p:grpSp>
          <p:nvGrpSpPr>
            <p:cNvPr id="789" name=""/>
            <p:cNvGrpSpPr/>
            <p:nvPr/>
          </p:nvGrpSpPr>
          <p:grpSpPr>
            <a:xfrm>
              <a:off x="2960640" y="1741680"/>
              <a:ext cx="1431720" cy="1414440"/>
              <a:chOff x="2960640" y="1741680"/>
              <a:chExt cx="1431720" cy="1414440"/>
            </a:xfrm>
          </p:grpSpPr>
          <p:sp>
            <p:nvSpPr>
              <p:cNvPr id="790" name=""/>
              <p:cNvSpPr/>
              <p:nvPr/>
            </p:nvSpPr>
            <p:spPr>
              <a:xfrm>
                <a:off x="2960640" y="1741680"/>
                <a:ext cx="1428480" cy="1352520"/>
              </a:xfrm>
              <a:custGeom>
                <a:avLst/>
                <a:gdLst/>
                <a:ahLst/>
                <a:rect l="l" t="t" r="r" b="b"/>
                <a:pathLst>
                  <a:path w="1800" h="1704">
                    <a:moveTo>
                      <a:pt x="0" y="1161"/>
                    </a:moveTo>
                    <a:lnTo>
                      <a:pt x="353" y="867"/>
                    </a:lnTo>
                    <a:lnTo>
                      <a:pt x="488" y="709"/>
                    </a:lnTo>
                    <a:lnTo>
                      <a:pt x="810" y="433"/>
                    </a:lnTo>
                    <a:lnTo>
                      <a:pt x="1101" y="288"/>
                    </a:lnTo>
                    <a:lnTo>
                      <a:pt x="1521" y="70"/>
                    </a:lnTo>
                    <a:lnTo>
                      <a:pt x="1800" y="0"/>
                    </a:lnTo>
                    <a:lnTo>
                      <a:pt x="1772" y="94"/>
                    </a:lnTo>
                    <a:lnTo>
                      <a:pt x="1390" y="270"/>
                    </a:lnTo>
                    <a:lnTo>
                      <a:pt x="1260" y="401"/>
                    </a:lnTo>
                    <a:lnTo>
                      <a:pt x="1509" y="410"/>
                    </a:lnTo>
                    <a:lnTo>
                      <a:pt x="1439" y="512"/>
                    </a:lnTo>
                    <a:lnTo>
                      <a:pt x="1460" y="582"/>
                    </a:lnTo>
                    <a:lnTo>
                      <a:pt x="1439" y="652"/>
                    </a:lnTo>
                    <a:lnTo>
                      <a:pt x="1439" y="730"/>
                    </a:lnTo>
                    <a:lnTo>
                      <a:pt x="1380" y="830"/>
                    </a:lnTo>
                    <a:lnTo>
                      <a:pt x="1361" y="974"/>
                    </a:lnTo>
                    <a:lnTo>
                      <a:pt x="1270" y="1061"/>
                    </a:lnTo>
                    <a:lnTo>
                      <a:pt x="1125" y="1131"/>
                    </a:lnTo>
                    <a:lnTo>
                      <a:pt x="976" y="1118"/>
                    </a:lnTo>
                    <a:lnTo>
                      <a:pt x="637" y="1178"/>
                    </a:lnTo>
                    <a:lnTo>
                      <a:pt x="635" y="1180"/>
                    </a:lnTo>
                    <a:lnTo>
                      <a:pt x="631" y="1184"/>
                    </a:lnTo>
                    <a:lnTo>
                      <a:pt x="626" y="1187"/>
                    </a:lnTo>
                    <a:lnTo>
                      <a:pt x="623" y="1192"/>
                    </a:lnTo>
                    <a:lnTo>
                      <a:pt x="619" y="1196"/>
                    </a:lnTo>
                    <a:lnTo>
                      <a:pt x="614" y="1202"/>
                    </a:lnTo>
                    <a:lnTo>
                      <a:pt x="608" y="1207"/>
                    </a:lnTo>
                    <a:lnTo>
                      <a:pt x="601" y="1214"/>
                    </a:lnTo>
                    <a:lnTo>
                      <a:pt x="594" y="1220"/>
                    </a:lnTo>
                    <a:lnTo>
                      <a:pt x="588" y="1229"/>
                    </a:lnTo>
                    <a:lnTo>
                      <a:pt x="579" y="1236"/>
                    </a:lnTo>
                    <a:lnTo>
                      <a:pt x="571" y="1245"/>
                    </a:lnTo>
                    <a:lnTo>
                      <a:pt x="562" y="1254"/>
                    </a:lnTo>
                    <a:lnTo>
                      <a:pt x="555" y="1263"/>
                    </a:lnTo>
                    <a:lnTo>
                      <a:pt x="545" y="1273"/>
                    </a:lnTo>
                    <a:lnTo>
                      <a:pt x="534" y="1282"/>
                    </a:lnTo>
                    <a:lnTo>
                      <a:pt x="524" y="1293"/>
                    </a:lnTo>
                    <a:lnTo>
                      <a:pt x="515" y="1305"/>
                    </a:lnTo>
                    <a:lnTo>
                      <a:pt x="503" y="1315"/>
                    </a:lnTo>
                    <a:lnTo>
                      <a:pt x="493" y="1327"/>
                    </a:lnTo>
                    <a:lnTo>
                      <a:pt x="481" y="1339"/>
                    </a:lnTo>
                    <a:lnTo>
                      <a:pt x="469" y="1351"/>
                    </a:lnTo>
                    <a:lnTo>
                      <a:pt x="459" y="1361"/>
                    </a:lnTo>
                    <a:lnTo>
                      <a:pt x="447" y="1374"/>
                    </a:lnTo>
                    <a:lnTo>
                      <a:pt x="435" y="1386"/>
                    </a:lnTo>
                    <a:lnTo>
                      <a:pt x="423" y="1398"/>
                    </a:lnTo>
                    <a:lnTo>
                      <a:pt x="410" y="1411"/>
                    </a:lnTo>
                    <a:lnTo>
                      <a:pt x="398" y="1425"/>
                    </a:lnTo>
                    <a:lnTo>
                      <a:pt x="386" y="1437"/>
                    </a:lnTo>
                    <a:lnTo>
                      <a:pt x="374" y="1450"/>
                    </a:lnTo>
                    <a:lnTo>
                      <a:pt x="361" y="1462"/>
                    </a:lnTo>
                    <a:lnTo>
                      <a:pt x="349" y="1474"/>
                    </a:lnTo>
                    <a:lnTo>
                      <a:pt x="335" y="1486"/>
                    </a:lnTo>
                    <a:lnTo>
                      <a:pt x="323" y="1499"/>
                    </a:lnTo>
                    <a:lnTo>
                      <a:pt x="312" y="1511"/>
                    </a:lnTo>
                    <a:lnTo>
                      <a:pt x="300" y="1523"/>
                    </a:lnTo>
                    <a:lnTo>
                      <a:pt x="288" y="1535"/>
                    </a:lnTo>
                    <a:lnTo>
                      <a:pt x="277" y="1546"/>
                    </a:lnTo>
                    <a:lnTo>
                      <a:pt x="266" y="1558"/>
                    </a:lnTo>
                    <a:lnTo>
                      <a:pt x="254" y="1569"/>
                    </a:lnTo>
                    <a:lnTo>
                      <a:pt x="243" y="1581"/>
                    </a:lnTo>
                    <a:lnTo>
                      <a:pt x="233" y="1591"/>
                    </a:lnTo>
                    <a:lnTo>
                      <a:pt x="221" y="1601"/>
                    </a:lnTo>
                    <a:lnTo>
                      <a:pt x="212" y="1612"/>
                    </a:lnTo>
                    <a:lnTo>
                      <a:pt x="202" y="1621"/>
                    </a:lnTo>
                    <a:lnTo>
                      <a:pt x="193" y="1631"/>
                    </a:lnTo>
                    <a:lnTo>
                      <a:pt x="184" y="1640"/>
                    </a:lnTo>
                    <a:lnTo>
                      <a:pt x="175" y="1647"/>
                    </a:lnTo>
                    <a:lnTo>
                      <a:pt x="166" y="1655"/>
                    </a:lnTo>
                    <a:lnTo>
                      <a:pt x="159" y="1664"/>
                    </a:lnTo>
                    <a:lnTo>
                      <a:pt x="151" y="1670"/>
                    </a:lnTo>
                    <a:lnTo>
                      <a:pt x="144" y="1677"/>
                    </a:lnTo>
                    <a:lnTo>
                      <a:pt x="138" y="1681"/>
                    </a:lnTo>
                    <a:lnTo>
                      <a:pt x="134" y="1687"/>
                    </a:lnTo>
                    <a:lnTo>
                      <a:pt x="128" y="1692"/>
                    </a:lnTo>
                    <a:lnTo>
                      <a:pt x="123" y="1695"/>
                    </a:lnTo>
                    <a:lnTo>
                      <a:pt x="119" y="1698"/>
                    </a:lnTo>
                    <a:lnTo>
                      <a:pt x="117" y="1701"/>
                    </a:lnTo>
                    <a:lnTo>
                      <a:pt x="113" y="1704"/>
                    </a:lnTo>
                    <a:lnTo>
                      <a:pt x="111" y="1704"/>
                    </a:lnTo>
                    <a:lnTo>
                      <a:pt x="111" y="1701"/>
                    </a:lnTo>
                    <a:lnTo>
                      <a:pt x="111" y="1699"/>
                    </a:lnTo>
                    <a:lnTo>
                      <a:pt x="110" y="1696"/>
                    </a:lnTo>
                    <a:lnTo>
                      <a:pt x="110" y="1693"/>
                    </a:lnTo>
                    <a:lnTo>
                      <a:pt x="108" y="1689"/>
                    </a:lnTo>
                    <a:lnTo>
                      <a:pt x="107" y="1684"/>
                    </a:lnTo>
                    <a:lnTo>
                      <a:pt x="107" y="1678"/>
                    </a:lnTo>
                    <a:lnTo>
                      <a:pt x="105" y="1673"/>
                    </a:lnTo>
                    <a:lnTo>
                      <a:pt x="104" y="1667"/>
                    </a:lnTo>
                    <a:lnTo>
                      <a:pt x="102" y="1659"/>
                    </a:lnTo>
                    <a:lnTo>
                      <a:pt x="101" y="1652"/>
                    </a:lnTo>
                    <a:lnTo>
                      <a:pt x="99" y="1644"/>
                    </a:lnTo>
                    <a:lnTo>
                      <a:pt x="98" y="1635"/>
                    </a:lnTo>
                    <a:lnTo>
                      <a:pt x="96" y="1628"/>
                    </a:lnTo>
                    <a:lnTo>
                      <a:pt x="95" y="1618"/>
                    </a:lnTo>
                    <a:lnTo>
                      <a:pt x="93" y="1609"/>
                    </a:lnTo>
                    <a:lnTo>
                      <a:pt x="91" y="1598"/>
                    </a:lnTo>
                    <a:lnTo>
                      <a:pt x="89" y="1588"/>
                    </a:lnTo>
                    <a:lnTo>
                      <a:pt x="86" y="1578"/>
                    </a:lnTo>
                    <a:lnTo>
                      <a:pt x="85" y="1567"/>
                    </a:lnTo>
                    <a:lnTo>
                      <a:pt x="82" y="1555"/>
                    </a:lnTo>
                    <a:lnTo>
                      <a:pt x="79" y="1545"/>
                    </a:lnTo>
                    <a:lnTo>
                      <a:pt x="77" y="1533"/>
                    </a:lnTo>
                    <a:lnTo>
                      <a:pt x="74" y="1521"/>
                    </a:lnTo>
                    <a:lnTo>
                      <a:pt x="71" y="1509"/>
                    </a:lnTo>
                    <a:lnTo>
                      <a:pt x="70" y="1496"/>
                    </a:lnTo>
                    <a:lnTo>
                      <a:pt x="67" y="1484"/>
                    </a:lnTo>
                    <a:lnTo>
                      <a:pt x="65" y="1472"/>
                    </a:lnTo>
                    <a:lnTo>
                      <a:pt x="62" y="1460"/>
                    </a:lnTo>
                    <a:lnTo>
                      <a:pt x="59" y="1447"/>
                    </a:lnTo>
                    <a:lnTo>
                      <a:pt x="56" y="1435"/>
                    </a:lnTo>
                    <a:lnTo>
                      <a:pt x="55" y="1423"/>
                    </a:lnTo>
                    <a:lnTo>
                      <a:pt x="52" y="1410"/>
                    </a:lnTo>
                    <a:lnTo>
                      <a:pt x="49" y="1398"/>
                    </a:lnTo>
                    <a:lnTo>
                      <a:pt x="46" y="1386"/>
                    </a:lnTo>
                    <a:lnTo>
                      <a:pt x="45" y="1373"/>
                    </a:lnTo>
                    <a:lnTo>
                      <a:pt x="40" y="1361"/>
                    </a:lnTo>
                    <a:lnTo>
                      <a:pt x="39" y="1349"/>
                    </a:lnTo>
                    <a:lnTo>
                      <a:pt x="36" y="1337"/>
                    </a:lnTo>
                    <a:lnTo>
                      <a:pt x="34" y="1325"/>
                    </a:lnTo>
                    <a:lnTo>
                      <a:pt x="31" y="1313"/>
                    </a:lnTo>
                    <a:lnTo>
                      <a:pt x="30" y="1303"/>
                    </a:lnTo>
                    <a:lnTo>
                      <a:pt x="27" y="1291"/>
                    </a:lnTo>
                    <a:lnTo>
                      <a:pt x="25" y="1281"/>
                    </a:lnTo>
                    <a:lnTo>
                      <a:pt x="22" y="1270"/>
                    </a:lnTo>
                    <a:lnTo>
                      <a:pt x="21" y="1260"/>
                    </a:lnTo>
                    <a:lnTo>
                      <a:pt x="18" y="1251"/>
                    </a:lnTo>
                    <a:lnTo>
                      <a:pt x="16" y="1241"/>
                    </a:lnTo>
                    <a:lnTo>
                      <a:pt x="15" y="1232"/>
                    </a:lnTo>
                    <a:lnTo>
                      <a:pt x="12" y="1223"/>
                    </a:lnTo>
                    <a:lnTo>
                      <a:pt x="10" y="1214"/>
                    </a:lnTo>
                    <a:lnTo>
                      <a:pt x="9" y="1207"/>
                    </a:lnTo>
                    <a:lnTo>
                      <a:pt x="7" y="1199"/>
                    </a:lnTo>
                    <a:lnTo>
                      <a:pt x="6" y="1193"/>
                    </a:lnTo>
                    <a:lnTo>
                      <a:pt x="4" y="1187"/>
                    </a:lnTo>
                    <a:lnTo>
                      <a:pt x="3" y="1181"/>
                    </a:lnTo>
                    <a:lnTo>
                      <a:pt x="1" y="1177"/>
                    </a:lnTo>
                    <a:lnTo>
                      <a:pt x="1" y="1172"/>
                    </a:lnTo>
                    <a:lnTo>
                      <a:pt x="0" y="1168"/>
                    </a:lnTo>
                    <a:lnTo>
                      <a:pt x="0" y="1165"/>
                    </a:lnTo>
                    <a:lnTo>
                      <a:pt x="0" y="1161"/>
                    </a:lnTo>
                    <a:lnTo>
                      <a:pt x="0" y="1161"/>
                    </a:lnTo>
                    <a:lnTo>
                      <a:pt x="0" y="1161"/>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2984400" y="1773360"/>
                <a:ext cx="1400040" cy="1380960"/>
              </a:xfrm>
              <a:custGeom>
                <a:avLst/>
                <a:gdLst/>
                <a:ahLst/>
                <a:rect l="l" t="t" r="r" b="b"/>
                <a:pathLst>
                  <a:path w="1764" h="1739">
                    <a:moveTo>
                      <a:pt x="0" y="1276"/>
                    </a:moveTo>
                    <a:lnTo>
                      <a:pt x="0" y="1275"/>
                    </a:lnTo>
                    <a:lnTo>
                      <a:pt x="1" y="1273"/>
                    </a:lnTo>
                    <a:lnTo>
                      <a:pt x="3" y="1270"/>
                    </a:lnTo>
                    <a:lnTo>
                      <a:pt x="7" y="1267"/>
                    </a:lnTo>
                    <a:lnTo>
                      <a:pt x="10" y="1262"/>
                    </a:lnTo>
                    <a:lnTo>
                      <a:pt x="16" y="1257"/>
                    </a:lnTo>
                    <a:lnTo>
                      <a:pt x="17" y="1253"/>
                    </a:lnTo>
                    <a:lnTo>
                      <a:pt x="20" y="1250"/>
                    </a:lnTo>
                    <a:lnTo>
                      <a:pt x="23" y="1245"/>
                    </a:lnTo>
                    <a:lnTo>
                      <a:pt x="28" y="1242"/>
                    </a:lnTo>
                    <a:lnTo>
                      <a:pt x="31" y="1238"/>
                    </a:lnTo>
                    <a:lnTo>
                      <a:pt x="34" y="1235"/>
                    </a:lnTo>
                    <a:lnTo>
                      <a:pt x="37" y="1230"/>
                    </a:lnTo>
                    <a:lnTo>
                      <a:pt x="41" y="1226"/>
                    </a:lnTo>
                    <a:lnTo>
                      <a:pt x="44" y="1220"/>
                    </a:lnTo>
                    <a:lnTo>
                      <a:pt x="49" y="1216"/>
                    </a:lnTo>
                    <a:lnTo>
                      <a:pt x="53" y="1211"/>
                    </a:lnTo>
                    <a:lnTo>
                      <a:pt x="58" y="1205"/>
                    </a:lnTo>
                    <a:lnTo>
                      <a:pt x="62" y="1201"/>
                    </a:lnTo>
                    <a:lnTo>
                      <a:pt x="66" y="1195"/>
                    </a:lnTo>
                    <a:lnTo>
                      <a:pt x="71" y="1189"/>
                    </a:lnTo>
                    <a:lnTo>
                      <a:pt x="77" y="1184"/>
                    </a:lnTo>
                    <a:lnTo>
                      <a:pt x="81" y="1178"/>
                    </a:lnTo>
                    <a:lnTo>
                      <a:pt x="86" y="1173"/>
                    </a:lnTo>
                    <a:lnTo>
                      <a:pt x="92" y="1167"/>
                    </a:lnTo>
                    <a:lnTo>
                      <a:pt x="96" y="1162"/>
                    </a:lnTo>
                    <a:lnTo>
                      <a:pt x="102" y="1155"/>
                    </a:lnTo>
                    <a:lnTo>
                      <a:pt x="107" y="1149"/>
                    </a:lnTo>
                    <a:lnTo>
                      <a:pt x="112" y="1143"/>
                    </a:lnTo>
                    <a:lnTo>
                      <a:pt x="118" y="1137"/>
                    </a:lnTo>
                    <a:lnTo>
                      <a:pt x="123" y="1129"/>
                    </a:lnTo>
                    <a:lnTo>
                      <a:pt x="129" y="1124"/>
                    </a:lnTo>
                    <a:lnTo>
                      <a:pt x="135" y="1118"/>
                    </a:lnTo>
                    <a:lnTo>
                      <a:pt x="141" y="1110"/>
                    </a:lnTo>
                    <a:lnTo>
                      <a:pt x="147" y="1104"/>
                    </a:lnTo>
                    <a:lnTo>
                      <a:pt x="153" y="1098"/>
                    </a:lnTo>
                    <a:lnTo>
                      <a:pt x="157" y="1091"/>
                    </a:lnTo>
                    <a:lnTo>
                      <a:pt x="163" y="1085"/>
                    </a:lnTo>
                    <a:lnTo>
                      <a:pt x="169" y="1078"/>
                    </a:lnTo>
                    <a:lnTo>
                      <a:pt x="175" y="1072"/>
                    </a:lnTo>
                    <a:lnTo>
                      <a:pt x="182" y="1064"/>
                    </a:lnTo>
                    <a:lnTo>
                      <a:pt x="188" y="1060"/>
                    </a:lnTo>
                    <a:lnTo>
                      <a:pt x="193" y="1052"/>
                    </a:lnTo>
                    <a:lnTo>
                      <a:pt x="200" y="1046"/>
                    </a:lnTo>
                    <a:lnTo>
                      <a:pt x="206" y="1039"/>
                    </a:lnTo>
                    <a:lnTo>
                      <a:pt x="212" y="1033"/>
                    </a:lnTo>
                    <a:lnTo>
                      <a:pt x="218" y="1027"/>
                    </a:lnTo>
                    <a:lnTo>
                      <a:pt x="224" y="1021"/>
                    </a:lnTo>
                    <a:lnTo>
                      <a:pt x="230" y="1015"/>
                    </a:lnTo>
                    <a:lnTo>
                      <a:pt x="236" y="1009"/>
                    </a:lnTo>
                    <a:lnTo>
                      <a:pt x="242" y="1003"/>
                    </a:lnTo>
                    <a:lnTo>
                      <a:pt x="247" y="997"/>
                    </a:lnTo>
                    <a:lnTo>
                      <a:pt x="252" y="991"/>
                    </a:lnTo>
                    <a:lnTo>
                      <a:pt x="259" y="986"/>
                    </a:lnTo>
                    <a:lnTo>
                      <a:pt x="264" y="981"/>
                    </a:lnTo>
                    <a:lnTo>
                      <a:pt x="271" y="975"/>
                    </a:lnTo>
                    <a:lnTo>
                      <a:pt x="276" y="971"/>
                    </a:lnTo>
                    <a:lnTo>
                      <a:pt x="282" y="966"/>
                    </a:lnTo>
                    <a:lnTo>
                      <a:pt x="288" y="960"/>
                    </a:lnTo>
                    <a:lnTo>
                      <a:pt x="293" y="956"/>
                    </a:lnTo>
                    <a:lnTo>
                      <a:pt x="298" y="950"/>
                    </a:lnTo>
                    <a:lnTo>
                      <a:pt x="304" y="945"/>
                    </a:lnTo>
                    <a:lnTo>
                      <a:pt x="308" y="941"/>
                    </a:lnTo>
                    <a:lnTo>
                      <a:pt x="313" y="937"/>
                    </a:lnTo>
                    <a:lnTo>
                      <a:pt x="319" y="934"/>
                    </a:lnTo>
                    <a:lnTo>
                      <a:pt x="323" y="929"/>
                    </a:lnTo>
                    <a:lnTo>
                      <a:pt x="328" y="925"/>
                    </a:lnTo>
                    <a:lnTo>
                      <a:pt x="334" y="920"/>
                    </a:lnTo>
                    <a:lnTo>
                      <a:pt x="338" y="917"/>
                    </a:lnTo>
                    <a:lnTo>
                      <a:pt x="342" y="914"/>
                    </a:lnTo>
                    <a:lnTo>
                      <a:pt x="347" y="910"/>
                    </a:lnTo>
                    <a:lnTo>
                      <a:pt x="353" y="907"/>
                    </a:lnTo>
                    <a:lnTo>
                      <a:pt x="357" y="902"/>
                    </a:lnTo>
                    <a:lnTo>
                      <a:pt x="362" y="901"/>
                    </a:lnTo>
                    <a:lnTo>
                      <a:pt x="365" y="897"/>
                    </a:lnTo>
                    <a:lnTo>
                      <a:pt x="369" y="894"/>
                    </a:lnTo>
                    <a:lnTo>
                      <a:pt x="374" y="891"/>
                    </a:lnTo>
                    <a:lnTo>
                      <a:pt x="378" y="889"/>
                    </a:lnTo>
                    <a:lnTo>
                      <a:pt x="383" y="886"/>
                    </a:lnTo>
                    <a:lnTo>
                      <a:pt x="387" y="883"/>
                    </a:lnTo>
                    <a:lnTo>
                      <a:pt x="390" y="880"/>
                    </a:lnTo>
                    <a:lnTo>
                      <a:pt x="394" y="879"/>
                    </a:lnTo>
                    <a:lnTo>
                      <a:pt x="397" y="877"/>
                    </a:lnTo>
                    <a:lnTo>
                      <a:pt x="402" y="874"/>
                    </a:lnTo>
                    <a:lnTo>
                      <a:pt x="405" y="873"/>
                    </a:lnTo>
                    <a:lnTo>
                      <a:pt x="409" y="870"/>
                    </a:lnTo>
                    <a:lnTo>
                      <a:pt x="412" y="868"/>
                    </a:lnTo>
                    <a:lnTo>
                      <a:pt x="415" y="867"/>
                    </a:lnTo>
                    <a:lnTo>
                      <a:pt x="418" y="865"/>
                    </a:lnTo>
                    <a:lnTo>
                      <a:pt x="423" y="864"/>
                    </a:lnTo>
                    <a:lnTo>
                      <a:pt x="429" y="859"/>
                    </a:lnTo>
                    <a:lnTo>
                      <a:pt x="433" y="858"/>
                    </a:lnTo>
                    <a:lnTo>
                      <a:pt x="439" y="855"/>
                    </a:lnTo>
                    <a:lnTo>
                      <a:pt x="443" y="853"/>
                    </a:lnTo>
                    <a:lnTo>
                      <a:pt x="448" y="851"/>
                    </a:lnTo>
                    <a:lnTo>
                      <a:pt x="454" y="849"/>
                    </a:lnTo>
                    <a:lnTo>
                      <a:pt x="457" y="848"/>
                    </a:lnTo>
                    <a:lnTo>
                      <a:pt x="461" y="846"/>
                    </a:lnTo>
                    <a:lnTo>
                      <a:pt x="466" y="845"/>
                    </a:lnTo>
                    <a:lnTo>
                      <a:pt x="472" y="843"/>
                    </a:lnTo>
                    <a:lnTo>
                      <a:pt x="473" y="843"/>
                    </a:lnTo>
                    <a:lnTo>
                      <a:pt x="474" y="843"/>
                    </a:lnTo>
                    <a:lnTo>
                      <a:pt x="474" y="842"/>
                    </a:lnTo>
                    <a:lnTo>
                      <a:pt x="476" y="839"/>
                    </a:lnTo>
                    <a:lnTo>
                      <a:pt x="476" y="836"/>
                    </a:lnTo>
                    <a:lnTo>
                      <a:pt x="476" y="833"/>
                    </a:lnTo>
                    <a:lnTo>
                      <a:pt x="477" y="830"/>
                    </a:lnTo>
                    <a:lnTo>
                      <a:pt x="479" y="827"/>
                    </a:lnTo>
                    <a:lnTo>
                      <a:pt x="479" y="822"/>
                    </a:lnTo>
                    <a:lnTo>
                      <a:pt x="480" y="818"/>
                    </a:lnTo>
                    <a:lnTo>
                      <a:pt x="482" y="813"/>
                    </a:lnTo>
                    <a:lnTo>
                      <a:pt x="485" y="809"/>
                    </a:lnTo>
                    <a:lnTo>
                      <a:pt x="486" y="803"/>
                    </a:lnTo>
                    <a:lnTo>
                      <a:pt x="488" y="797"/>
                    </a:lnTo>
                    <a:lnTo>
                      <a:pt x="491" y="791"/>
                    </a:lnTo>
                    <a:lnTo>
                      <a:pt x="494" y="785"/>
                    </a:lnTo>
                    <a:lnTo>
                      <a:pt x="495" y="782"/>
                    </a:lnTo>
                    <a:lnTo>
                      <a:pt x="495" y="778"/>
                    </a:lnTo>
                    <a:lnTo>
                      <a:pt x="497" y="775"/>
                    </a:lnTo>
                    <a:lnTo>
                      <a:pt x="500" y="772"/>
                    </a:lnTo>
                    <a:lnTo>
                      <a:pt x="500" y="767"/>
                    </a:lnTo>
                    <a:lnTo>
                      <a:pt x="503" y="764"/>
                    </a:lnTo>
                    <a:lnTo>
                      <a:pt x="504" y="760"/>
                    </a:lnTo>
                    <a:lnTo>
                      <a:pt x="506" y="757"/>
                    </a:lnTo>
                    <a:lnTo>
                      <a:pt x="507" y="753"/>
                    </a:lnTo>
                    <a:lnTo>
                      <a:pt x="510" y="750"/>
                    </a:lnTo>
                    <a:lnTo>
                      <a:pt x="512" y="745"/>
                    </a:lnTo>
                    <a:lnTo>
                      <a:pt x="513" y="742"/>
                    </a:lnTo>
                    <a:lnTo>
                      <a:pt x="515" y="738"/>
                    </a:lnTo>
                    <a:lnTo>
                      <a:pt x="518" y="733"/>
                    </a:lnTo>
                    <a:lnTo>
                      <a:pt x="520" y="730"/>
                    </a:lnTo>
                    <a:lnTo>
                      <a:pt x="523" y="726"/>
                    </a:lnTo>
                    <a:lnTo>
                      <a:pt x="525" y="721"/>
                    </a:lnTo>
                    <a:lnTo>
                      <a:pt x="528" y="718"/>
                    </a:lnTo>
                    <a:lnTo>
                      <a:pt x="529" y="714"/>
                    </a:lnTo>
                    <a:lnTo>
                      <a:pt x="534" y="710"/>
                    </a:lnTo>
                    <a:lnTo>
                      <a:pt x="535" y="705"/>
                    </a:lnTo>
                    <a:lnTo>
                      <a:pt x="538" y="702"/>
                    </a:lnTo>
                    <a:lnTo>
                      <a:pt x="541" y="698"/>
                    </a:lnTo>
                    <a:lnTo>
                      <a:pt x="544" y="693"/>
                    </a:lnTo>
                    <a:lnTo>
                      <a:pt x="547" y="689"/>
                    </a:lnTo>
                    <a:lnTo>
                      <a:pt x="550" y="684"/>
                    </a:lnTo>
                    <a:lnTo>
                      <a:pt x="553" y="680"/>
                    </a:lnTo>
                    <a:lnTo>
                      <a:pt x="558" y="677"/>
                    </a:lnTo>
                    <a:lnTo>
                      <a:pt x="561" y="672"/>
                    </a:lnTo>
                    <a:lnTo>
                      <a:pt x="565" y="668"/>
                    </a:lnTo>
                    <a:lnTo>
                      <a:pt x="568" y="664"/>
                    </a:lnTo>
                    <a:lnTo>
                      <a:pt x="572" y="659"/>
                    </a:lnTo>
                    <a:lnTo>
                      <a:pt x="575" y="655"/>
                    </a:lnTo>
                    <a:lnTo>
                      <a:pt x="578" y="650"/>
                    </a:lnTo>
                    <a:lnTo>
                      <a:pt x="583" y="646"/>
                    </a:lnTo>
                    <a:lnTo>
                      <a:pt x="587" y="641"/>
                    </a:lnTo>
                    <a:lnTo>
                      <a:pt x="590" y="637"/>
                    </a:lnTo>
                    <a:lnTo>
                      <a:pt x="595" y="632"/>
                    </a:lnTo>
                    <a:lnTo>
                      <a:pt x="599" y="628"/>
                    </a:lnTo>
                    <a:lnTo>
                      <a:pt x="605" y="623"/>
                    </a:lnTo>
                    <a:lnTo>
                      <a:pt x="608" y="619"/>
                    </a:lnTo>
                    <a:lnTo>
                      <a:pt x="614" y="615"/>
                    </a:lnTo>
                    <a:lnTo>
                      <a:pt x="618" y="610"/>
                    </a:lnTo>
                    <a:lnTo>
                      <a:pt x="623" y="606"/>
                    </a:lnTo>
                    <a:lnTo>
                      <a:pt x="627" y="600"/>
                    </a:lnTo>
                    <a:lnTo>
                      <a:pt x="633" y="595"/>
                    </a:lnTo>
                    <a:lnTo>
                      <a:pt x="638" y="591"/>
                    </a:lnTo>
                    <a:lnTo>
                      <a:pt x="644" y="586"/>
                    </a:lnTo>
                    <a:lnTo>
                      <a:pt x="650" y="582"/>
                    </a:lnTo>
                    <a:lnTo>
                      <a:pt x="654" y="576"/>
                    </a:lnTo>
                    <a:lnTo>
                      <a:pt x="660" y="572"/>
                    </a:lnTo>
                    <a:lnTo>
                      <a:pt x="666" y="567"/>
                    </a:lnTo>
                    <a:lnTo>
                      <a:pt x="672" y="563"/>
                    </a:lnTo>
                    <a:lnTo>
                      <a:pt x="676" y="558"/>
                    </a:lnTo>
                    <a:lnTo>
                      <a:pt x="682" y="552"/>
                    </a:lnTo>
                    <a:lnTo>
                      <a:pt x="688" y="549"/>
                    </a:lnTo>
                    <a:lnTo>
                      <a:pt x="694" y="543"/>
                    </a:lnTo>
                    <a:lnTo>
                      <a:pt x="699" y="539"/>
                    </a:lnTo>
                    <a:lnTo>
                      <a:pt x="704" y="534"/>
                    </a:lnTo>
                    <a:lnTo>
                      <a:pt x="710" y="530"/>
                    </a:lnTo>
                    <a:lnTo>
                      <a:pt x="716" y="526"/>
                    </a:lnTo>
                    <a:lnTo>
                      <a:pt x="722" y="521"/>
                    </a:lnTo>
                    <a:lnTo>
                      <a:pt x="728" y="515"/>
                    </a:lnTo>
                    <a:lnTo>
                      <a:pt x="736" y="511"/>
                    </a:lnTo>
                    <a:lnTo>
                      <a:pt x="740" y="506"/>
                    </a:lnTo>
                    <a:lnTo>
                      <a:pt x="746" y="502"/>
                    </a:lnTo>
                    <a:lnTo>
                      <a:pt x="752" y="497"/>
                    </a:lnTo>
                    <a:lnTo>
                      <a:pt x="758" y="493"/>
                    </a:lnTo>
                    <a:lnTo>
                      <a:pt x="764" y="488"/>
                    </a:lnTo>
                    <a:lnTo>
                      <a:pt x="770" y="484"/>
                    </a:lnTo>
                    <a:lnTo>
                      <a:pt x="776" y="478"/>
                    </a:lnTo>
                    <a:lnTo>
                      <a:pt x="783" y="475"/>
                    </a:lnTo>
                    <a:lnTo>
                      <a:pt x="788" y="469"/>
                    </a:lnTo>
                    <a:lnTo>
                      <a:pt x="795" y="466"/>
                    </a:lnTo>
                    <a:lnTo>
                      <a:pt x="799" y="462"/>
                    </a:lnTo>
                    <a:lnTo>
                      <a:pt x="805" y="457"/>
                    </a:lnTo>
                    <a:lnTo>
                      <a:pt x="811" y="453"/>
                    </a:lnTo>
                    <a:lnTo>
                      <a:pt x="817" y="448"/>
                    </a:lnTo>
                    <a:lnTo>
                      <a:pt x="825" y="444"/>
                    </a:lnTo>
                    <a:lnTo>
                      <a:pt x="831" y="441"/>
                    </a:lnTo>
                    <a:lnTo>
                      <a:pt x="835" y="437"/>
                    </a:lnTo>
                    <a:lnTo>
                      <a:pt x="841" y="432"/>
                    </a:lnTo>
                    <a:lnTo>
                      <a:pt x="847" y="428"/>
                    </a:lnTo>
                    <a:lnTo>
                      <a:pt x="853" y="425"/>
                    </a:lnTo>
                    <a:lnTo>
                      <a:pt x="857" y="420"/>
                    </a:lnTo>
                    <a:lnTo>
                      <a:pt x="863" y="417"/>
                    </a:lnTo>
                    <a:lnTo>
                      <a:pt x="869" y="413"/>
                    </a:lnTo>
                    <a:lnTo>
                      <a:pt x="875" y="410"/>
                    </a:lnTo>
                    <a:lnTo>
                      <a:pt x="881" y="405"/>
                    </a:lnTo>
                    <a:lnTo>
                      <a:pt x="886" y="402"/>
                    </a:lnTo>
                    <a:lnTo>
                      <a:pt x="891" y="398"/>
                    </a:lnTo>
                    <a:lnTo>
                      <a:pt x="896" y="395"/>
                    </a:lnTo>
                    <a:lnTo>
                      <a:pt x="902" y="391"/>
                    </a:lnTo>
                    <a:lnTo>
                      <a:pt x="906" y="388"/>
                    </a:lnTo>
                    <a:lnTo>
                      <a:pt x="911" y="385"/>
                    </a:lnTo>
                    <a:lnTo>
                      <a:pt x="917" y="383"/>
                    </a:lnTo>
                    <a:lnTo>
                      <a:pt x="921" y="379"/>
                    </a:lnTo>
                    <a:lnTo>
                      <a:pt x="926" y="376"/>
                    </a:lnTo>
                    <a:lnTo>
                      <a:pt x="930" y="373"/>
                    </a:lnTo>
                    <a:lnTo>
                      <a:pt x="936" y="368"/>
                    </a:lnTo>
                    <a:lnTo>
                      <a:pt x="940" y="365"/>
                    </a:lnTo>
                    <a:lnTo>
                      <a:pt x="943" y="364"/>
                    </a:lnTo>
                    <a:lnTo>
                      <a:pt x="948" y="361"/>
                    </a:lnTo>
                    <a:lnTo>
                      <a:pt x="954" y="358"/>
                    </a:lnTo>
                    <a:lnTo>
                      <a:pt x="957" y="355"/>
                    </a:lnTo>
                    <a:lnTo>
                      <a:pt x="961" y="352"/>
                    </a:lnTo>
                    <a:lnTo>
                      <a:pt x="966" y="349"/>
                    </a:lnTo>
                    <a:lnTo>
                      <a:pt x="970" y="346"/>
                    </a:lnTo>
                    <a:lnTo>
                      <a:pt x="973" y="345"/>
                    </a:lnTo>
                    <a:lnTo>
                      <a:pt x="978" y="342"/>
                    </a:lnTo>
                    <a:lnTo>
                      <a:pt x="982" y="339"/>
                    </a:lnTo>
                    <a:lnTo>
                      <a:pt x="986" y="337"/>
                    </a:lnTo>
                    <a:lnTo>
                      <a:pt x="991" y="334"/>
                    </a:lnTo>
                    <a:lnTo>
                      <a:pt x="994" y="331"/>
                    </a:lnTo>
                    <a:lnTo>
                      <a:pt x="998" y="330"/>
                    </a:lnTo>
                    <a:lnTo>
                      <a:pt x="1003" y="327"/>
                    </a:lnTo>
                    <a:lnTo>
                      <a:pt x="1006" y="325"/>
                    </a:lnTo>
                    <a:lnTo>
                      <a:pt x="1010" y="322"/>
                    </a:lnTo>
                    <a:lnTo>
                      <a:pt x="1015" y="321"/>
                    </a:lnTo>
                    <a:lnTo>
                      <a:pt x="1019" y="319"/>
                    </a:lnTo>
                    <a:lnTo>
                      <a:pt x="1022" y="316"/>
                    </a:lnTo>
                    <a:lnTo>
                      <a:pt x="1026" y="313"/>
                    </a:lnTo>
                    <a:lnTo>
                      <a:pt x="1029" y="312"/>
                    </a:lnTo>
                    <a:lnTo>
                      <a:pt x="1034" y="309"/>
                    </a:lnTo>
                    <a:lnTo>
                      <a:pt x="1038" y="307"/>
                    </a:lnTo>
                    <a:lnTo>
                      <a:pt x="1043" y="304"/>
                    </a:lnTo>
                    <a:lnTo>
                      <a:pt x="1047" y="303"/>
                    </a:lnTo>
                    <a:lnTo>
                      <a:pt x="1052" y="301"/>
                    </a:lnTo>
                    <a:lnTo>
                      <a:pt x="1055" y="299"/>
                    </a:lnTo>
                    <a:lnTo>
                      <a:pt x="1059" y="297"/>
                    </a:lnTo>
                    <a:lnTo>
                      <a:pt x="1064" y="294"/>
                    </a:lnTo>
                    <a:lnTo>
                      <a:pt x="1067" y="293"/>
                    </a:lnTo>
                    <a:lnTo>
                      <a:pt x="1071" y="290"/>
                    </a:lnTo>
                    <a:lnTo>
                      <a:pt x="1075" y="288"/>
                    </a:lnTo>
                    <a:lnTo>
                      <a:pt x="1080" y="285"/>
                    </a:lnTo>
                    <a:lnTo>
                      <a:pt x="1086" y="284"/>
                    </a:lnTo>
                    <a:lnTo>
                      <a:pt x="1090" y="281"/>
                    </a:lnTo>
                    <a:lnTo>
                      <a:pt x="1095" y="278"/>
                    </a:lnTo>
                    <a:lnTo>
                      <a:pt x="1099" y="276"/>
                    </a:lnTo>
                    <a:lnTo>
                      <a:pt x="1104" y="275"/>
                    </a:lnTo>
                    <a:lnTo>
                      <a:pt x="1108" y="272"/>
                    </a:lnTo>
                    <a:lnTo>
                      <a:pt x="1114" y="269"/>
                    </a:lnTo>
                    <a:lnTo>
                      <a:pt x="1120" y="266"/>
                    </a:lnTo>
                    <a:lnTo>
                      <a:pt x="1124" y="264"/>
                    </a:lnTo>
                    <a:lnTo>
                      <a:pt x="1130" y="261"/>
                    </a:lnTo>
                    <a:lnTo>
                      <a:pt x="1135" y="258"/>
                    </a:lnTo>
                    <a:lnTo>
                      <a:pt x="1141" y="255"/>
                    </a:lnTo>
                    <a:lnTo>
                      <a:pt x="1147" y="254"/>
                    </a:lnTo>
                    <a:lnTo>
                      <a:pt x="1153" y="251"/>
                    </a:lnTo>
                    <a:lnTo>
                      <a:pt x="1157" y="248"/>
                    </a:lnTo>
                    <a:lnTo>
                      <a:pt x="1164" y="245"/>
                    </a:lnTo>
                    <a:lnTo>
                      <a:pt x="1170" y="242"/>
                    </a:lnTo>
                    <a:lnTo>
                      <a:pt x="1176" y="239"/>
                    </a:lnTo>
                    <a:lnTo>
                      <a:pt x="1184" y="236"/>
                    </a:lnTo>
                    <a:lnTo>
                      <a:pt x="1190" y="233"/>
                    </a:lnTo>
                    <a:lnTo>
                      <a:pt x="1197" y="230"/>
                    </a:lnTo>
                    <a:lnTo>
                      <a:pt x="1205" y="226"/>
                    </a:lnTo>
                    <a:lnTo>
                      <a:pt x="1210" y="223"/>
                    </a:lnTo>
                    <a:lnTo>
                      <a:pt x="1218" y="220"/>
                    </a:lnTo>
                    <a:lnTo>
                      <a:pt x="1227" y="217"/>
                    </a:lnTo>
                    <a:lnTo>
                      <a:pt x="1234" y="212"/>
                    </a:lnTo>
                    <a:lnTo>
                      <a:pt x="1242" y="209"/>
                    </a:lnTo>
                    <a:lnTo>
                      <a:pt x="1249" y="205"/>
                    </a:lnTo>
                    <a:lnTo>
                      <a:pt x="1258" y="202"/>
                    </a:lnTo>
                    <a:lnTo>
                      <a:pt x="1265" y="198"/>
                    </a:lnTo>
                    <a:lnTo>
                      <a:pt x="1273" y="193"/>
                    </a:lnTo>
                    <a:lnTo>
                      <a:pt x="1282" y="189"/>
                    </a:lnTo>
                    <a:lnTo>
                      <a:pt x="1292" y="186"/>
                    </a:lnTo>
                    <a:lnTo>
                      <a:pt x="1300" y="181"/>
                    </a:lnTo>
                    <a:lnTo>
                      <a:pt x="1308" y="177"/>
                    </a:lnTo>
                    <a:lnTo>
                      <a:pt x="1317" y="172"/>
                    </a:lnTo>
                    <a:lnTo>
                      <a:pt x="1326" y="168"/>
                    </a:lnTo>
                    <a:lnTo>
                      <a:pt x="1335" y="163"/>
                    </a:lnTo>
                    <a:lnTo>
                      <a:pt x="1344" y="159"/>
                    </a:lnTo>
                    <a:lnTo>
                      <a:pt x="1354" y="155"/>
                    </a:lnTo>
                    <a:lnTo>
                      <a:pt x="1363" y="152"/>
                    </a:lnTo>
                    <a:lnTo>
                      <a:pt x="1374" y="146"/>
                    </a:lnTo>
                    <a:lnTo>
                      <a:pt x="1383" y="143"/>
                    </a:lnTo>
                    <a:lnTo>
                      <a:pt x="1391" y="137"/>
                    </a:lnTo>
                    <a:lnTo>
                      <a:pt x="1400" y="134"/>
                    </a:lnTo>
                    <a:lnTo>
                      <a:pt x="1411" y="128"/>
                    </a:lnTo>
                    <a:lnTo>
                      <a:pt x="1420" y="123"/>
                    </a:lnTo>
                    <a:lnTo>
                      <a:pt x="1430" y="119"/>
                    </a:lnTo>
                    <a:lnTo>
                      <a:pt x="1439" y="116"/>
                    </a:lnTo>
                    <a:lnTo>
                      <a:pt x="1449" y="110"/>
                    </a:lnTo>
                    <a:lnTo>
                      <a:pt x="1458" y="107"/>
                    </a:lnTo>
                    <a:lnTo>
                      <a:pt x="1467" y="101"/>
                    </a:lnTo>
                    <a:lnTo>
                      <a:pt x="1478" y="98"/>
                    </a:lnTo>
                    <a:lnTo>
                      <a:pt x="1486" y="94"/>
                    </a:lnTo>
                    <a:lnTo>
                      <a:pt x="1497" y="89"/>
                    </a:lnTo>
                    <a:lnTo>
                      <a:pt x="1506" y="86"/>
                    </a:lnTo>
                    <a:lnTo>
                      <a:pt x="1516" y="82"/>
                    </a:lnTo>
                    <a:lnTo>
                      <a:pt x="1524" y="77"/>
                    </a:lnTo>
                    <a:lnTo>
                      <a:pt x="1534" y="73"/>
                    </a:lnTo>
                    <a:lnTo>
                      <a:pt x="1541" y="69"/>
                    </a:lnTo>
                    <a:lnTo>
                      <a:pt x="1552" y="66"/>
                    </a:lnTo>
                    <a:lnTo>
                      <a:pt x="1561" y="61"/>
                    </a:lnTo>
                    <a:lnTo>
                      <a:pt x="1568" y="58"/>
                    </a:lnTo>
                    <a:lnTo>
                      <a:pt x="1577" y="54"/>
                    </a:lnTo>
                    <a:lnTo>
                      <a:pt x="1586" y="51"/>
                    </a:lnTo>
                    <a:lnTo>
                      <a:pt x="1593" y="46"/>
                    </a:lnTo>
                    <a:lnTo>
                      <a:pt x="1602" y="43"/>
                    </a:lnTo>
                    <a:lnTo>
                      <a:pt x="1610" y="40"/>
                    </a:lnTo>
                    <a:lnTo>
                      <a:pt x="1619" y="37"/>
                    </a:lnTo>
                    <a:lnTo>
                      <a:pt x="1626" y="33"/>
                    </a:lnTo>
                    <a:lnTo>
                      <a:pt x="1635" y="30"/>
                    </a:lnTo>
                    <a:lnTo>
                      <a:pt x="1642" y="27"/>
                    </a:lnTo>
                    <a:lnTo>
                      <a:pt x="1650" y="25"/>
                    </a:lnTo>
                    <a:lnTo>
                      <a:pt x="1657" y="23"/>
                    </a:lnTo>
                    <a:lnTo>
                      <a:pt x="1663" y="20"/>
                    </a:lnTo>
                    <a:lnTo>
                      <a:pt x="1670" y="18"/>
                    </a:lnTo>
                    <a:lnTo>
                      <a:pt x="1676" y="15"/>
                    </a:lnTo>
                    <a:lnTo>
                      <a:pt x="1684" y="14"/>
                    </a:lnTo>
                    <a:lnTo>
                      <a:pt x="1690" y="11"/>
                    </a:lnTo>
                    <a:lnTo>
                      <a:pt x="1696" y="9"/>
                    </a:lnTo>
                    <a:lnTo>
                      <a:pt x="1702" y="8"/>
                    </a:lnTo>
                    <a:lnTo>
                      <a:pt x="1706" y="6"/>
                    </a:lnTo>
                    <a:lnTo>
                      <a:pt x="1712" y="5"/>
                    </a:lnTo>
                    <a:lnTo>
                      <a:pt x="1718" y="3"/>
                    </a:lnTo>
                    <a:lnTo>
                      <a:pt x="1722" y="3"/>
                    </a:lnTo>
                    <a:lnTo>
                      <a:pt x="1727" y="2"/>
                    </a:lnTo>
                    <a:lnTo>
                      <a:pt x="1731" y="0"/>
                    </a:lnTo>
                    <a:lnTo>
                      <a:pt x="1736" y="0"/>
                    </a:lnTo>
                    <a:lnTo>
                      <a:pt x="1740" y="0"/>
                    </a:lnTo>
                    <a:lnTo>
                      <a:pt x="1745" y="0"/>
                    </a:lnTo>
                    <a:lnTo>
                      <a:pt x="1751" y="0"/>
                    </a:lnTo>
                    <a:lnTo>
                      <a:pt x="1755" y="2"/>
                    </a:lnTo>
                    <a:lnTo>
                      <a:pt x="1759" y="3"/>
                    </a:lnTo>
                    <a:lnTo>
                      <a:pt x="1761" y="6"/>
                    </a:lnTo>
                    <a:lnTo>
                      <a:pt x="1762" y="9"/>
                    </a:lnTo>
                    <a:lnTo>
                      <a:pt x="1764" y="12"/>
                    </a:lnTo>
                    <a:lnTo>
                      <a:pt x="1764" y="17"/>
                    </a:lnTo>
                    <a:lnTo>
                      <a:pt x="1762" y="20"/>
                    </a:lnTo>
                    <a:lnTo>
                      <a:pt x="1762" y="24"/>
                    </a:lnTo>
                    <a:lnTo>
                      <a:pt x="1759" y="28"/>
                    </a:lnTo>
                    <a:lnTo>
                      <a:pt x="1758" y="34"/>
                    </a:lnTo>
                    <a:lnTo>
                      <a:pt x="1755" y="39"/>
                    </a:lnTo>
                    <a:lnTo>
                      <a:pt x="1751" y="45"/>
                    </a:lnTo>
                    <a:lnTo>
                      <a:pt x="1748" y="51"/>
                    </a:lnTo>
                    <a:lnTo>
                      <a:pt x="1745" y="57"/>
                    </a:lnTo>
                    <a:lnTo>
                      <a:pt x="1740" y="61"/>
                    </a:lnTo>
                    <a:lnTo>
                      <a:pt x="1736" y="67"/>
                    </a:lnTo>
                    <a:lnTo>
                      <a:pt x="1731" y="71"/>
                    </a:lnTo>
                    <a:lnTo>
                      <a:pt x="1727" y="77"/>
                    </a:lnTo>
                    <a:lnTo>
                      <a:pt x="1721" y="82"/>
                    </a:lnTo>
                    <a:lnTo>
                      <a:pt x="1718" y="88"/>
                    </a:lnTo>
                    <a:lnTo>
                      <a:pt x="1713" y="92"/>
                    </a:lnTo>
                    <a:lnTo>
                      <a:pt x="1709" y="97"/>
                    </a:lnTo>
                    <a:lnTo>
                      <a:pt x="1706" y="101"/>
                    </a:lnTo>
                    <a:lnTo>
                      <a:pt x="1702" y="104"/>
                    </a:lnTo>
                    <a:lnTo>
                      <a:pt x="1699" y="107"/>
                    </a:lnTo>
                    <a:lnTo>
                      <a:pt x="1697" y="110"/>
                    </a:lnTo>
                    <a:lnTo>
                      <a:pt x="1693" y="115"/>
                    </a:lnTo>
                    <a:lnTo>
                      <a:pt x="1691" y="116"/>
                    </a:lnTo>
                    <a:lnTo>
                      <a:pt x="1430" y="214"/>
                    </a:lnTo>
                    <a:lnTo>
                      <a:pt x="1213" y="385"/>
                    </a:lnTo>
                    <a:lnTo>
                      <a:pt x="958" y="423"/>
                    </a:lnTo>
                    <a:lnTo>
                      <a:pt x="728" y="583"/>
                    </a:lnTo>
                    <a:lnTo>
                      <a:pt x="731" y="582"/>
                    </a:lnTo>
                    <a:lnTo>
                      <a:pt x="734" y="580"/>
                    </a:lnTo>
                    <a:lnTo>
                      <a:pt x="739" y="579"/>
                    </a:lnTo>
                    <a:lnTo>
                      <a:pt x="743" y="577"/>
                    </a:lnTo>
                    <a:lnTo>
                      <a:pt x="749" y="576"/>
                    </a:lnTo>
                    <a:lnTo>
                      <a:pt x="753" y="575"/>
                    </a:lnTo>
                    <a:lnTo>
                      <a:pt x="759" y="572"/>
                    </a:lnTo>
                    <a:lnTo>
                      <a:pt x="762" y="572"/>
                    </a:lnTo>
                    <a:lnTo>
                      <a:pt x="765" y="570"/>
                    </a:lnTo>
                    <a:lnTo>
                      <a:pt x="770" y="569"/>
                    </a:lnTo>
                    <a:lnTo>
                      <a:pt x="773" y="569"/>
                    </a:lnTo>
                    <a:lnTo>
                      <a:pt x="776" y="567"/>
                    </a:lnTo>
                    <a:lnTo>
                      <a:pt x="780" y="566"/>
                    </a:lnTo>
                    <a:lnTo>
                      <a:pt x="783" y="564"/>
                    </a:lnTo>
                    <a:lnTo>
                      <a:pt x="788" y="564"/>
                    </a:lnTo>
                    <a:lnTo>
                      <a:pt x="791" y="561"/>
                    </a:lnTo>
                    <a:lnTo>
                      <a:pt x="795" y="561"/>
                    </a:lnTo>
                    <a:lnTo>
                      <a:pt x="799" y="560"/>
                    </a:lnTo>
                    <a:lnTo>
                      <a:pt x="804" y="558"/>
                    </a:lnTo>
                    <a:lnTo>
                      <a:pt x="808" y="557"/>
                    </a:lnTo>
                    <a:lnTo>
                      <a:pt x="811" y="555"/>
                    </a:lnTo>
                    <a:lnTo>
                      <a:pt x="816" y="554"/>
                    </a:lnTo>
                    <a:lnTo>
                      <a:pt x="820" y="552"/>
                    </a:lnTo>
                    <a:lnTo>
                      <a:pt x="825" y="551"/>
                    </a:lnTo>
                    <a:lnTo>
                      <a:pt x="829" y="549"/>
                    </a:lnTo>
                    <a:lnTo>
                      <a:pt x="834" y="548"/>
                    </a:lnTo>
                    <a:lnTo>
                      <a:pt x="838" y="546"/>
                    </a:lnTo>
                    <a:lnTo>
                      <a:pt x="842" y="545"/>
                    </a:lnTo>
                    <a:lnTo>
                      <a:pt x="847" y="543"/>
                    </a:lnTo>
                    <a:lnTo>
                      <a:pt x="851" y="542"/>
                    </a:lnTo>
                    <a:lnTo>
                      <a:pt x="856" y="540"/>
                    </a:lnTo>
                    <a:lnTo>
                      <a:pt x="860" y="539"/>
                    </a:lnTo>
                    <a:lnTo>
                      <a:pt x="865" y="537"/>
                    </a:lnTo>
                    <a:lnTo>
                      <a:pt x="869" y="536"/>
                    </a:lnTo>
                    <a:lnTo>
                      <a:pt x="874" y="534"/>
                    </a:lnTo>
                    <a:lnTo>
                      <a:pt x="878" y="533"/>
                    </a:lnTo>
                    <a:lnTo>
                      <a:pt x="883" y="531"/>
                    </a:lnTo>
                    <a:lnTo>
                      <a:pt x="887" y="530"/>
                    </a:lnTo>
                    <a:lnTo>
                      <a:pt x="891" y="529"/>
                    </a:lnTo>
                    <a:lnTo>
                      <a:pt x="896" y="526"/>
                    </a:lnTo>
                    <a:lnTo>
                      <a:pt x="900" y="526"/>
                    </a:lnTo>
                    <a:lnTo>
                      <a:pt x="903" y="524"/>
                    </a:lnTo>
                    <a:lnTo>
                      <a:pt x="909" y="523"/>
                    </a:lnTo>
                    <a:lnTo>
                      <a:pt x="912" y="521"/>
                    </a:lnTo>
                    <a:lnTo>
                      <a:pt x="917" y="518"/>
                    </a:lnTo>
                    <a:lnTo>
                      <a:pt x="921" y="518"/>
                    </a:lnTo>
                    <a:lnTo>
                      <a:pt x="926" y="517"/>
                    </a:lnTo>
                    <a:lnTo>
                      <a:pt x="929" y="515"/>
                    </a:lnTo>
                    <a:lnTo>
                      <a:pt x="933" y="514"/>
                    </a:lnTo>
                    <a:lnTo>
                      <a:pt x="936" y="512"/>
                    </a:lnTo>
                    <a:lnTo>
                      <a:pt x="940" y="511"/>
                    </a:lnTo>
                    <a:lnTo>
                      <a:pt x="946" y="508"/>
                    </a:lnTo>
                    <a:lnTo>
                      <a:pt x="954" y="505"/>
                    </a:lnTo>
                    <a:lnTo>
                      <a:pt x="958" y="502"/>
                    </a:lnTo>
                    <a:lnTo>
                      <a:pt x="966" y="499"/>
                    </a:lnTo>
                    <a:lnTo>
                      <a:pt x="970" y="496"/>
                    </a:lnTo>
                    <a:lnTo>
                      <a:pt x="976" y="494"/>
                    </a:lnTo>
                    <a:lnTo>
                      <a:pt x="980" y="491"/>
                    </a:lnTo>
                    <a:lnTo>
                      <a:pt x="986" y="488"/>
                    </a:lnTo>
                    <a:lnTo>
                      <a:pt x="991" y="487"/>
                    </a:lnTo>
                    <a:lnTo>
                      <a:pt x="995" y="484"/>
                    </a:lnTo>
                    <a:lnTo>
                      <a:pt x="1000" y="481"/>
                    </a:lnTo>
                    <a:lnTo>
                      <a:pt x="1004" y="480"/>
                    </a:lnTo>
                    <a:lnTo>
                      <a:pt x="1007" y="477"/>
                    </a:lnTo>
                    <a:lnTo>
                      <a:pt x="1012" y="475"/>
                    </a:lnTo>
                    <a:lnTo>
                      <a:pt x="1016" y="474"/>
                    </a:lnTo>
                    <a:lnTo>
                      <a:pt x="1021" y="472"/>
                    </a:lnTo>
                    <a:lnTo>
                      <a:pt x="1024" y="469"/>
                    </a:lnTo>
                    <a:lnTo>
                      <a:pt x="1026" y="468"/>
                    </a:lnTo>
                    <a:lnTo>
                      <a:pt x="1031" y="466"/>
                    </a:lnTo>
                    <a:lnTo>
                      <a:pt x="1034" y="463"/>
                    </a:lnTo>
                    <a:lnTo>
                      <a:pt x="1038" y="462"/>
                    </a:lnTo>
                    <a:lnTo>
                      <a:pt x="1041" y="460"/>
                    </a:lnTo>
                    <a:lnTo>
                      <a:pt x="1046" y="459"/>
                    </a:lnTo>
                    <a:lnTo>
                      <a:pt x="1050" y="459"/>
                    </a:lnTo>
                    <a:lnTo>
                      <a:pt x="1055" y="456"/>
                    </a:lnTo>
                    <a:lnTo>
                      <a:pt x="1058" y="454"/>
                    </a:lnTo>
                    <a:lnTo>
                      <a:pt x="1062" y="453"/>
                    </a:lnTo>
                    <a:lnTo>
                      <a:pt x="1068" y="451"/>
                    </a:lnTo>
                    <a:lnTo>
                      <a:pt x="1072" y="451"/>
                    </a:lnTo>
                    <a:lnTo>
                      <a:pt x="1077" y="450"/>
                    </a:lnTo>
                    <a:lnTo>
                      <a:pt x="1083" y="448"/>
                    </a:lnTo>
                    <a:lnTo>
                      <a:pt x="1089" y="448"/>
                    </a:lnTo>
                    <a:lnTo>
                      <a:pt x="1095" y="447"/>
                    </a:lnTo>
                    <a:lnTo>
                      <a:pt x="1101" y="447"/>
                    </a:lnTo>
                    <a:lnTo>
                      <a:pt x="1107" y="445"/>
                    </a:lnTo>
                    <a:lnTo>
                      <a:pt x="1113" y="444"/>
                    </a:lnTo>
                    <a:lnTo>
                      <a:pt x="1120" y="444"/>
                    </a:lnTo>
                    <a:lnTo>
                      <a:pt x="1126" y="444"/>
                    </a:lnTo>
                    <a:lnTo>
                      <a:pt x="1129" y="442"/>
                    </a:lnTo>
                    <a:lnTo>
                      <a:pt x="1133" y="442"/>
                    </a:lnTo>
                    <a:lnTo>
                      <a:pt x="1136" y="442"/>
                    </a:lnTo>
                    <a:lnTo>
                      <a:pt x="1141" y="442"/>
                    </a:lnTo>
                    <a:lnTo>
                      <a:pt x="1144" y="442"/>
                    </a:lnTo>
                    <a:lnTo>
                      <a:pt x="1147" y="442"/>
                    </a:lnTo>
                    <a:lnTo>
                      <a:pt x="1150" y="441"/>
                    </a:lnTo>
                    <a:lnTo>
                      <a:pt x="1154" y="441"/>
                    </a:lnTo>
                    <a:lnTo>
                      <a:pt x="1157" y="441"/>
                    </a:lnTo>
                    <a:lnTo>
                      <a:pt x="1162" y="441"/>
                    </a:lnTo>
                    <a:lnTo>
                      <a:pt x="1164" y="441"/>
                    </a:lnTo>
                    <a:lnTo>
                      <a:pt x="1167" y="441"/>
                    </a:lnTo>
                    <a:lnTo>
                      <a:pt x="1170" y="439"/>
                    </a:lnTo>
                    <a:lnTo>
                      <a:pt x="1175" y="439"/>
                    </a:lnTo>
                    <a:lnTo>
                      <a:pt x="1178" y="439"/>
                    </a:lnTo>
                    <a:lnTo>
                      <a:pt x="1181" y="439"/>
                    </a:lnTo>
                    <a:lnTo>
                      <a:pt x="1184" y="439"/>
                    </a:lnTo>
                    <a:lnTo>
                      <a:pt x="1188" y="439"/>
                    </a:lnTo>
                    <a:lnTo>
                      <a:pt x="1191" y="439"/>
                    </a:lnTo>
                    <a:lnTo>
                      <a:pt x="1194" y="439"/>
                    </a:lnTo>
                    <a:lnTo>
                      <a:pt x="1202" y="439"/>
                    </a:lnTo>
                    <a:lnTo>
                      <a:pt x="1208" y="439"/>
                    </a:lnTo>
                    <a:lnTo>
                      <a:pt x="1213" y="439"/>
                    </a:lnTo>
                    <a:lnTo>
                      <a:pt x="1218" y="439"/>
                    </a:lnTo>
                    <a:lnTo>
                      <a:pt x="1224" y="439"/>
                    </a:lnTo>
                    <a:lnTo>
                      <a:pt x="1228" y="439"/>
                    </a:lnTo>
                    <a:lnTo>
                      <a:pt x="1233" y="439"/>
                    </a:lnTo>
                    <a:lnTo>
                      <a:pt x="1239" y="439"/>
                    </a:lnTo>
                    <a:lnTo>
                      <a:pt x="1242" y="439"/>
                    </a:lnTo>
                    <a:lnTo>
                      <a:pt x="1246" y="439"/>
                    </a:lnTo>
                    <a:lnTo>
                      <a:pt x="1248" y="439"/>
                    </a:lnTo>
                    <a:lnTo>
                      <a:pt x="1251" y="439"/>
                    </a:lnTo>
                    <a:lnTo>
                      <a:pt x="1255" y="439"/>
                    </a:lnTo>
                    <a:lnTo>
                      <a:pt x="1256" y="439"/>
                    </a:lnTo>
                    <a:lnTo>
                      <a:pt x="1254" y="441"/>
                    </a:lnTo>
                    <a:lnTo>
                      <a:pt x="1251" y="444"/>
                    </a:lnTo>
                    <a:lnTo>
                      <a:pt x="1245" y="450"/>
                    </a:lnTo>
                    <a:lnTo>
                      <a:pt x="1240" y="456"/>
                    </a:lnTo>
                    <a:lnTo>
                      <a:pt x="1236" y="462"/>
                    </a:lnTo>
                    <a:lnTo>
                      <a:pt x="1236" y="466"/>
                    </a:lnTo>
                    <a:lnTo>
                      <a:pt x="1237" y="469"/>
                    </a:lnTo>
                    <a:lnTo>
                      <a:pt x="1240" y="471"/>
                    </a:lnTo>
                    <a:lnTo>
                      <a:pt x="1242" y="471"/>
                    </a:lnTo>
                    <a:lnTo>
                      <a:pt x="1245" y="472"/>
                    </a:lnTo>
                    <a:lnTo>
                      <a:pt x="1248" y="472"/>
                    </a:lnTo>
                    <a:lnTo>
                      <a:pt x="1251" y="472"/>
                    </a:lnTo>
                    <a:lnTo>
                      <a:pt x="1254" y="472"/>
                    </a:lnTo>
                    <a:lnTo>
                      <a:pt x="1258" y="471"/>
                    </a:lnTo>
                    <a:lnTo>
                      <a:pt x="1261" y="471"/>
                    </a:lnTo>
                    <a:lnTo>
                      <a:pt x="1265" y="469"/>
                    </a:lnTo>
                    <a:lnTo>
                      <a:pt x="1271" y="469"/>
                    </a:lnTo>
                    <a:lnTo>
                      <a:pt x="1276" y="468"/>
                    </a:lnTo>
                    <a:lnTo>
                      <a:pt x="1282" y="466"/>
                    </a:lnTo>
                    <a:lnTo>
                      <a:pt x="1288" y="466"/>
                    </a:lnTo>
                    <a:lnTo>
                      <a:pt x="1294" y="463"/>
                    </a:lnTo>
                    <a:lnTo>
                      <a:pt x="1300" y="462"/>
                    </a:lnTo>
                    <a:lnTo>
                      <a:pt x="1305" y="460"/>
                    </a:lnTo>
                    <a:lnTo>
                      <a:pt x="1311" y="459"/>
                    </a:lnTo>
                    <a:lnTo>
                      <a:pt x="1317" y="457"/>
                    </a:lnTo>
                    <a:lnTo>
                      <a:pt x="1323" y="456"/>
                    </a:lnTo>
                    <a:lnTo>
                      <a:pt x="1329" y="454"/>
                    </a:lnTo>
                    <a:lnTo>
                      <a:pt x="1337" y="453"/>
                    </a:lnTo>
                    <a:lnTo>
                      <a:pt x="1341" y="451"/>
                    </a:lnTo>
                    <a:lnTo>
                      <a:pt x="1347" y="450"/>
                    </a:lnTo>
                    <a:lnTo>
                      <a:pt x="1353" y="447"/>
                    </a:lnTo>
                    <a:lnTo>
                      <a:pt x="1359" y="447"/>
                    </a:lnTo>
                    <a:lnTo>
                      <a:pt x="1363" y="444"/>
                    </a:lnTo>
                    <a:lnTo>
                      <a:pt x="1368" y="444"/>
                    </a:lnTo>
                    <a:lnTo>
                      <a:pt x="1372" y="442"/>
                    </a:lnTo>
                    <a:lnTo>
                      <a:pt x="1378" y="441"/>
                    </a:lnTo>
                    <a:lnTo>
                      <a:pt x="1381" y="439"/>
                    </a:lnTo>
                    <a:lnTo>
                      <a:pt x="1384" y="438"/>
                    </a:lnTo>
                    <a:lnTo>
                      <a:pt x="1387" y="437"/>
                    </a:lnTo>
                    <a:lnTo>
                      <a:pt x="1390" y="437"/>
                    </a:lnTo>
                    <a:lnTo>
                      <a:pt x="1393" y="437"/>
                    </a:lnTo>
                    <a:lnTo>
                      <a:pt x="1396" y="437"/>
                    </a:lnTo>
                    <a:lnTo>
                      <a:pt x="1383" y="497"/>
                    </a:lnTo>
                    <a:lnTo>
                      <a:pt x="1371" y="536"/>
                    </a:lnTo>
                    <a:lnTo>
                      <a:pt x="1371" y="537"/>
                    </a:lnTo>
                    <a:lnTo>
                      <a:pt x="1371" y="540"/>
                    </a:lnTo>
                    <a:lnTo>
                      <a:pt x="1369" y="542"/>
                    </a:lnTo>
                    <a:lnTo>
                      <a:pt x="1368" y="546"/>
                    </a:lnTo>
                    <a:lnTo>
                      <a:pt x="1366" y="551"/>
                    </a:lnTo>
                    <a:lnTo>
                      <a:pt x="1365" y="557"/>
                    </a:lnTo>
                    <a:lnTo>
                      <a:pt x="1363" y="558"/>
                    </a:lnTo>
                    <a:lnTo>
                      <a:pt x="1362" y="561"/>
                    </a:lnTo>
                    <a:lnTo>
                      <a:pt x="1360" y="564"/>
                    </a:lnTo>
                    <a:lnTo>
                      <a:pt x="1359" y="569"/>
                    </a:lnTo>
                    <a:lnTo>
                      <a:pt x="1356" y="572"/>
                    </a:lnTo>
                    <a:lnTo>
                      <a:pt x="1354" y="576"/>
                    </a:lnTo>
                    <a:lnTo>
                      <a:pt x="1351" y="579"/>
                    </a:lnTo>
                    <a:lnTo>
                      <a:pt x="1348" y="583"/>
                    </a:lnTo>
                    <a:lnTo>
                      <a:pt x="1346" y="588"/>
                    </a:lnTo>
                    <a:lnTo>
                      <a:pt x="1343" y="592"/>
                    </a:lnTo>
                    <a:lnTo>
                      <a:pt x="1340" y="598"/>
                    </a:lnTo>
                    <a:lnTo>
                      <a:pt x="1335" y="603"/>
                    </a:lnTo>
                    <a:lnTo>
                      <a:pt x="1331" y="609"/>
                    </a:lnTo>
                    <a:lnTo>
                      <a:pt x="1328" y="615"/>
                    </a:lnTo>
                    <a:lnTo>
                      <a:pt x="1322" y="621"/>
                    </a:lnTo>
                    <a:lnTo>
                      <a:pt x="1319" y="626"/>
                    </a:lnTo>
                    <a:lnTo>
                      <a:pt x="1311" y="632"/>
                    </a:lnTo>
                    <a:lnTo>
                      <a:pt x="1307" y="640"/>
                    </a:lnTo>
                    <a:lnTo>
                      <a:pt x="1302" y="643"/>
                    </a:lnTo>
                    <a:lnTo>
                      <a:pt x="1300" y="646"/>
                    </a:lnTo>
                    <a:lnTo>
                      <a:pt x="1297" y="649"/>
                    </a:lnTo>
                    <a:lnTo>
                      <a:pt x="1294" y="653"/>
                    </a:lnTo>
                    <a:lnTo>
                      <a:pt x="1291" y="656"/>
                    </a:lnTo>
                    <a:lnTo>
                      <a:pt x="1288" y="659"/>
                    </a:lnTo>
                    <a:lnTo>
                      <a:pt x="1283" y="662"/>
                    </a:lnTo>
                    <a:lnTo>
                      <a:pt x="1280" y="667"/>
                    </a:lnTo>
                    <a:lnTo>
                      <a:pt x="1277" y="669"/>
                    </a:lnTo>
                    <a:lnTo>
                      <a:pt x="1273" y="674"/>
                    </a:lnTo>
                    <a:lnTo>
                      <a:pt x="1270" y="677"/>
                    </a:lnTo>
                    <a:lnTo>
                      <a:pt x="1267" y="681"/>
                    </a:lnTo>
                    <a:lnTo>
                      <a:pt x="1264" y="684"/>
                    </a:lnTo>
                    <a:lnTo>
                      <a:pt x="1259" y="689"/>
                    </a:lnTo>
                    <a:lnTo>
                      <a:pt x="1256" y="692"/>
                    </a:lnTo>
                    <a:lnTo>
                      <a:pt x="1254" y="696"/>
                    </a:lnTo>
                    <a:lnTo>
                      <a:pt x="1249" y="699"/>
                    </a:lnTo>
                    <a:lnTo>
                      <a:pt x="1246" y="702"/>
                    </a:lnTo>
                    <a:lnTo>
                      <a:pt x="1242" y="707"/>
                    </a:lnTo>
                    <a:lnTo>
                      <a:pt x="1239" y="710"/>
                    </a:lnTo>
                    <a:lnTo>
                      <a:pt x="1236" y="713"/>
                    </a:lnTo>
                    <a:lnTo>
                      <a:pt x="1231" y="717"/>
                    </a:lnTo>
                    <a:lnTo>
                      <a:pt x="1228" y="720"/>
                    </a:lnTo>
                    <a:lnTo>
                      <a:pt x="1225" y="724"/>
                    </a:lnTo>
                    <a:lnTo>
                      <a:pt x="1221" y="727"/>
                    </a:lnTo>
                    <a:lnTo>
                      <a:pt x="1218" y="730"/>
                    </a:lnTo>
                    <a:lnTo>
                      <a:pt x="1215" y="735"/>
                    </a:lnTo>
                    <a:lnTo>
                      <a:pt x="1212" y="738"/>
                    </a:lnTo>
                    <a:lnTo>
                      <a:pt x="1206" y="745"/>
                    </a:lnTo>
                    <a:lnTo>
                      <a:pt x="1199" y="751"/>
                    </a:lnTo>
                    <a:lnTo>
                      <a:pt x="1193" y="756"/>
                    </a:lnTo>
                    <a:lnTo>
                      <a:pt x="1187" y="763"/>
                    </a:lnTo>
                    <a:lnTo>
                      <a:pt x="1182" y="767"/>
                    </a:lnTo>
                    <a:lnTo>
                      <a:pt x="1176" y="773"/>
                    </a:lnTo>
                    <a:lnTo>
                      <a:pt x="1172" y="778"/>
                    </a:lnTo>
                    <a:lnTo>
                      <a:pt x="1167" y="782"/>
                    </a:lnTo>
                    <a:lnTo>
                      <a:pt x="1163" y="785"/>
                    </a:lnTo>
                    <a:lnTo>
                      <a:pt x="1160" y="790"/>
                    </a:lnTo>
                    <a:lnTo>
                      <a:pt x="1156" y="793"/>
                    </a:lnTo>
                    <a:lnTo>
                      <a:pt x="1154" y="796"/>
                    </a:lnTo>
                    <a:lnTo>
                      <a:pt x="1150" y="799"/>
                    </a:lnTo>
                    <a:lnTo>
                      <a:pt x="1150" y="802"/>
                    </a:lnTo>
                    <a:lnTo>
                      <a:pt x="1381" y="656"/>
                    </a:lnTo>
                    <a:lnTo>
                      <a:pt x="1380" y="658"/>
                    </a:lnTo>
                    <a:lnTo>
                      <a:pt x="1377" y="661"/>
                    </a:lnTo>
                    <a:lnTo>
                      <a:pt x="1374" y="665"/>
                    </a:lnTo>
                    <a:lnTo>
                      <a:pt x="1369" y="669"/>
                    </a:lnTo>
                    <a:lnTo>
                      <a:pt x="1363" y="677"/>
                    </a:lnTo>
                    <a:lnTo>
                      <a:pt x="1360" y="680"/>
                    </a:lnTo>
                    <a:lnTo>
                      <a:pt x="1357" y="683"/>
                    </a:lnTo>
                    <a:lnTo>
                      <a:pt x="1354" y="687"/>
                    </a:lnTo>
                    <a:lnTo>
                      <a:pt x="1351" y="692"/>
                    </a:lnTo>
                    <a:lnTo>
                      <a:pt x="1348" y="695"/>
                    </a:lnTo>
                    <a:lnTo>
                      <a:pt x="1344" y="699"/>
                    </a:lnTo>
                    <a:lnTo>
                      <a:pt x="1341" y="704"/>
                    </a:lnTo>
                    <a:lnTo>
                      <a:pt x="1337" y="708"/>
                    </a:lnTo>
                    <a:lnTo>
                      <a:pt x="1334" y="713"/>
                    </a:lnTo>
                    <a:lnTo>
                      <a:pt x="1329" y="718"/>
                    </a:lnTo>
                    <a:lnTo>
                      <a:pt x="1325" y="723"/>
                    </a:lnTo>
                    <a:lnTo>
                      <a:pt x="1322" y="729"/>
                    </a:lnTo>
                    <a:lnTo>
                      <a:pt x="1316" y="733"/>
                    </a:lnTo>
                    <a:lnTo>
                      <a:pt x="1311" y="739"/>
                    </a:lnTo>
                    <a:lnTo>
                      <a:pt x="1307" y="745"/>
                    </a:lnTo>
                    <a:lnTo>
                      <a:pt x="1302" y="751"/>
                    </a:lnTo>
                    <a:lnTo>
                      <a:pt x="1298" y="756"/>
                    </a:lnTo>
                    <a:lnTo>
                      <a:pt x="1294" y="763"/>
                    </a:lnTo>
                    <a:lnTo>
                      <a:pt x="1289" y="769"/>
                    </a:lnTo>
                    <a:lnTo>
                      <a:pt x="1285" y="775"/>
                    </a:lnTo>
                    <a:lnTo>
                      <a:pt x="1280" y="781"/>
                    </a:lnTo>
                    <a:lnTo>
                      <a:pt x="1276" y="787"/>
                    </a:lnTo>
                    <a:lnTo>
                      <a:pt x="1270" y="793"/>
                    </a:lnTo>
                    <a:lnTo>
                      <a:pt x="1265" y="799"/>
                    </a:lnTo>
                    <a:lnTo>
                      <a:pt x="1261" y="805"/>
                    </a:lnTo>
                    <a:lnTo>
                      <a:pt x="1256" y="810"/>
                    </a:lnTo>
                    <a:lnTo>
                      <a:pt x="1252" y="816"/>
                    </a:lnTo>
                    <a:lnTo>
                      <a:pt x="1248" y="824"/>
                    </a:lnTo>
                    <a:lnTo>
                      <a:pt x="1243" y="828"/>
                    </a:lnTo>
                    <a:lnTo>
                      <a:pt x="1239" y="834"/>
                    </a:lnTo>
                    <a:lnTo>
                      <a:pt x="1234" y="840"/>
                    </a:lnTo>
                    <a:lnTo>
                      <a:pt x="1230" y="846"/>
                    </a:lnTo>
                    <a:lnTo>
                      <a:pt x="1225" y="851"/>
                    </a:lnTo>
                    <a:lnTo>
                      <a:pt x="1222" y="856"/>
                    </a:lnTo>
                    <a:lnTo>
                      <a:pt x="1218" y="861"/>
                    </a:lnTo>
                    <a:lnTo>
                      <a:pt x="1215" y="867"/>
                    </a:lnTo>
                    <a:lnTo>
                      <a:pt x="1212" y="871"/>
                    </a:lnTo>
                    <a:lnTo>
                      <a:pt x="1208" y="876"/>
                    </a:lnTo>
                    <a:lnTo>
                      <a:pt x="1205" y="880"/>
                    </a:lnTo>
                    <a:lnTo>
                      <a:pt x="1202" y="885"/>
                    </a:lnTo>
                    <a:lnTo>
                      <a:pt x="1199" y="888"/>
                    </a:lnTo>
                    <a:lnTo>
                      <a:pt x="1196" y="892"/>
                    </a:lnTo>
                    <a:lnTo>
                      <a:pt x="1193" y="895"/>
                    </a:lnTo>
                    <a:lnTo>
                      <a:pt x="1191" y="899"/>
                    </a:lnTo>
                    <a:lnTo>
                      <a:pt x="1187" y="904"/>
                    </a:lnTo>
                    <a:lnTo>
                      <a:pt x="1184" y="907"/>
                    </a:lnTo>
                    <a:lnTo>
                      <a:pt x="1182" y="910"/>
                    </a:lnTo>
                    <a:lnTo>
                      <a:pt x="1182" y="911"/>
                    </a:lnTo>
                    <a:lnTo>
                      <a:pt x="1285" y="843"/>
                    </a:lnTo>
                    <a:lnTo>
                      <a:pt x="1285" y="845"/>
                    </a:lnTo>
                    <a:lnTo>
                      <a:pt x="1285" y="848"/>
                    </a:lnTo>
                    <a:lnTo>
                      <a:pt x="1286" y="852"/>
                    </a:lnTo>
                    <a:lnTo>
                      <a:pt x="1286" y="856"/>
                    </a:lnTo>
                    <a:lnTo>
                      <a:pt x="1286" y="862"/>
                    </a:lnTo>
                    <a:lnTo>
                      <a:pt x="1285" y="865"/>
                    </a:lnTo>
                    <a:lnTo>
                      <a:pt x="1285" y="868"/>
                    </a:lnTo>
                    <a:lnTo>
                      <a:pt x="1285" y="873"/>
                    </a:lnTo>
                    <a:lnTo>
                      <a:pt x="1285" y="877"/>
                    </a:lnTo>
                    <a:lnTo>
                      <a:pt x="1285" y="880"/>
                    </a:lnTo>
                    <a:lnTo>
                      <a:pt x="1283" y="885"/>
                    </a:lnTo>
                    <a:lnTo>
                      <a:pt x="1282" y="888"/>
                    </a:lnTo>
                    <a:lnTo>
                      <a:pt x="1282" y="892"/>
                    </a:lnTo>
                    <a:lnTo>
                      <a:pt x="1280" y="897"/>
                    </a:lnTo>
                    <a:lnTo>
                      <a:pt x="1279" y="902"/>
                    </a:lnTo>
                    <a:lnTo>
                      <a:pt x="1277" y="907"/>
                    </a:lnTo>
                    <a:lnTo>
                      <a:pt x="1276" y="913"/>
                    </a:lnTo>
                    <a:lnTo>
                      <a:pt x="1273" y="917"/>
                    </a:lnTo>
                    <a:lnTo>
                      <a:pt x="1270" y="922"/>
                    </a:lnTo>
                    <a:lnTo>
                      <a:pt x="1268" y="928"/>
                    </a:lnTo>
                    <a:lnTo>
                      <a:pt x="1265" y="934"/>
                    </a:lnTo>
                    <a:lnTo>
                      <a:pt x="1262" y="940"/>
                    </a:lnTo>
                    <a:lnTo>
                      <a:pt x="1258" y="944"/>
                    </a:lnTo>
                    <a:lnTo>
                      <a:pt x="1255" y="951"/>
                    </a:lnTo>
                    <a:lnTo>
                      <a:pt x="1251" y="957"/>
                    </a:lnTo>
                    <a:lnTo>
                      <a:pt x="1245" y="963"/>
                    </a:lnTo>
                    <a:lnTo>
                      <a:pt x="1240" y="968"/>
                    </a:lnTo>
                    <a:lnTo>
                      <a:pt x="1234" y="974"/>
                    </a:lnTo>
                    <a:lnTo>
                      <a:pt x="1228" y="980"/>
                    </a:lnTo>
                    <a:lnTo>
                      <a:pt x="1222" y="986"/>
                    </a:lnTo>
                    <a:lnTo>
                      <a:pt x="1216" y="990"/>
                    </a:lnTo>
                    <a:lnTo>
                      <a:pt x="1210" y="996"/>
                    </a:lnTo>
                    <a:lnTo>
                      <a:pt x="1205" y="1002"/>
                    </a:lnTo>
                    <a:lnTo>
                      <a:pt x="1200" y="1005"/>
                    </a:lnTo>
                    <a:lnTo>
                      <a:pt x="1197" y="1008"/>
                    </a:lnTo>
                    <a:lnTo>
                      <a:pt x="1193" y="1011"/>
                    </a:lnTo>
                    <a:lnTo>
                      <a:pt x="1190" y="1014"/>
                    </a:lnTo>
                    <a:lnTo>
                      <a:pt x="1184" y="1020"/>
                    </a:lnTo>
                    <a:lnTo>
                      <a:pt x="1176" y="1024"/>
                    </a:lnTo>
                    <a:lnTo>
                      <a:pt x="1173" y="1027"/>
                    </a:lnTo>
                    <a:lnTo>
                      <a:pt x="1169" y="1030"/>
                    </a:lnTo>
                    <a:lnTo>
                      <a:pt x="1166" y="1032"/>
                    </a:lnTo>
                    <a:lnTo>
                      <a:pt x="1163" y="1035"/>
                    </a:lnTo>
                    <a:lnTo>
                      <a:pt x="1157" y="1039"/>
                    </a:lnTo>
                    <a:lnTo>
                      <a:pt x="1151" y="1045"/>
                    </a:lnTo>
                    <a:lnTo>
                      <a:pt x="1144" y="1049"/>
                    </a:lnTo>
                    <a:lnTo>
                      <a:pt x="1138" y="1054"/>
                    </a:lnTo>
                    <a:lnTo>
                      <a:pt x="1132" y="1058"/>
                    </a:lnTo>
                    <a:lnTo>
                      <a:pt x="1126" y="1063"/>
                    </a:lnTo>
                    <a:lnTo>
                      <a:pt x="1120" y="1066"/>
                    </a:lnTo>
                    <a:lnTo>
                      <a:pt x="1116" y="1070"/>
                    </a:lnTo>
                    <a:lnTo>
                      <a:pt x="1111" y="1073"/>
                    </a:lnTo>
                    <a:lnTo>
                      <a:pt x="1107" y="1076"/>
                    </a:lnTo>
                    <a:lnTo>
                      <a:pt x="1102" y="1079"/>
                    </a:lnTo>
                    <a:lnTo>
                      <a:pt x="1099" y="1082"/>
                    </a:lnTo>
                    <a:lnTo>
                      <a:pt x="1095" y="1083"/>
                    </a:lnTo>
                    <a:lnTo>
                      <a:pt x="1093" y="1085"/>
                    </a:lnTo>
                    <a:lnTo>
                      <a:pt x="1090" y="1088"/>
                    </a:lnTo>
                    <a:lnTo>
                      <a:pt x="1089" y="1089"/>
                    </a:lnTo>
                    <a:lnTo>
                      <a:pt x="1026" y="1094"/>
                    </a:lnTo>
                    <a:lnTo>
                      <a:pt x="992" y="1085"/>
                    </a:lnTo>
                    <a:lnTo>
                      <a:pt x="699" y="1153"/>
                    </a:lnTo>
                    <a:lnTo>
                      <a:pt x="581" y="1156"/>
                    </a:lnTo>
                    <a:lnTo>
                      <a:pt x="431" y="1348"/>
                    </a:lnTo>
                    <a:lnTo>
                      <a:pt x="55" y="1739"/>
                    </a:lnTo>
                    <a:lnTo>
                      <a:pt x="0" y="1276"/>
                    </a:lnTo>
                    <a:lnTo>
                      <a:pt x="0" y="127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3476520" y="2209680"/>
                <a:ext cx="515880" cy="447840"/>
              </a:xfrm>
              <a:custGeom>
                <a:avLst/>
                <a:gdLst/>
                <a:ahLst/>
                <a:rect l="l" t="t" r="r" b="b"/>
                <a:pathLst>
                  <a:path w="650" h="564">
                    <a:moveTo>
                      <a:pt x="442" y="0"/>
                    </a:moveTo>
                    <a:lnTo>
                      <a:pt x="441" y="1"/>
                    </a:lnTo>
                    <a:lnTo>
                      <a:pt x="439" y="4"/>
                    </a:lnTo>
                    <a:lnTo>
                      <a:pt x="436" y="6"/>
                    </a:lnTo>
                    <a:lnTo>
                      <a:pt x="435" y="9"/>
                    </a:lnTo>
                    <a:lnTo>
                      <a:pt x="432" y="13"/>
                    </a:lnTo>
                    <a:lnTo>
                      <a:pt x="429" y="16"/>
                    </a:lnTo>
                    <a:lnTo>
                      <a:pt x="424" y="19"/>
                    </a:lnTo>
                    <a:lnTo>
                      <a:pt x="420" y="24"/>
                    </a:lnTo>
                    <a:lnTo>
                      <a:pt x="414" y="28"/>
                    </a:lnTo>
                    <a:lnTo>
                      <a:pt x="408" y="32"/>
                    </a:lnTo>
                    <a:lnTo>
                      <a:pt x="405" y="34"/>
                    </a:lnTo>
                    <a:lnTo>
                      <a:pt x="402" y="37"/>
                    </a:lnTo>
                    <a:lnTo>
                      <a:pt x="398" y="40"/>
                    </a:lnTo>
                    <a:lnTo>
                      <a:pt x="395" y="41"/>
                    </a:lnTo>
                    <a:lnTo>
                      <a:pt x="390" y="43"/>
                    </a:lnTo>
                    <a:lnTo>
                      <a:pt x="386" y="46"/>
                    </a:lnTo>
                    <a:lnTo>
                      <a:pt x="381" y="49"/>
                    </a:lnTo>
                    <a:lnTo>
                      <a:pt x="377" y="52"/>
                    </a:lnTo>
                    <a:lnTo>
                      <a:pt x="372" y="53"/>
                    </a:lnTo>
                    <a:lnTo>
                      <a:pt x="366" y="56"/>
                    </a:lnTo>
                    <a:lnTo>
                      <a:pt x="360" y="59"/>
                    </a:lnTo>
                    <a:lnTo>
                      <a:pt x="355" y="61"/>
                    </a:lnTo>
                    <a:lnTo>
                      <a:pt x="349" y="62"/>
                    </a:lnTo>
                    <a:lnTo>
                      <a:pt x="343" y="65"/>
                    </a:lnTo>
                    <a:lnTo>
                      <a:pt x="337" y="68"/>
                    </a:lnTo>
                    <a:lnTo>
                      <a:pt x="331" y="70"/>
                    </a:lnTo>
                    <a:lnTo>
                      <a:pt x="325" y="72"/>
                    </a:lnTo>
                    <a:lnTo>
                      <a:pt x="319" y="74"/>
                    </a:lnTo>
                    <a:lnTo>
                      <a:pt x="313" y="77"/>
                    </a:lnTo>
                    <a:lnTo>
                      <a:pt x="307" y="78"/>
                    </a:lnTo>
                    <a:lnTo>
                      <a:pt x="301" y="81"/>
                    </a:lnTo>
                    <a:lnTo>
                      <a:pt x="295" y="83"/>
                    </a:lnTo>
                    <a:lnTo>
                      <a:pt x="291" y="84"/>
                    </a:lnTo>
                    <a:lnTo>
                      <a:pt x="285" y="87"/>
                    </a:lnTo>
                    <a:lnTo>
                      <a:pt x="279" y="89"/>
                    </a:lnTo>
                    <a:lnTo>
                      <a:pt x="273" y="90"/>
                    </a:lnTo>
                    <a:lnTo>
                      <a:pt x="268" y="92"/>
                    </a:lnTo>
                    <a:lnTo>
                      <a:pt x="264" y="93"/>
                    </a:lnTo>
                    <a:lnTo>
                      <a:pt x="258" y="95"/>
                    </a:lnTo>
                    <a:lnTo>
                      <a:pt x="254" y="96"/>
                    </a:lnTo>
                    <a:lnTo>
                      <a:pt x="251" y="96"/>
                    </a:lnTo>
                    <a:lnTo>
                      <a:pt x="248" y="98"/>
                    </a:lnTo>
                    <a:lnTo>
                      <a:pt x="243" y="99"/>
                    </a:lnTo>
                    <a:lnTo>
                      <a:pt x="240" y="99"/>
                    </a:lnTo>
                    <a:lnTo>
                      <a:pt x="237" y="101"/>
                    </a:lnTo>
                    <a:lnTo>
                      <a:pt x="236" y="101"/>
                    </a:lnTo>
                    <a:lnTo>
                      <a:pt x="233" y="102"/>
                    </a:lnTo>
                    <a:lnTo>
                      <a:pt x="233" y="104"/>
                    </a:lnTo>
                    <a:lnTo>
                      <a:pt x="234" y="104"/>
                    </a:lnTo>
                    <a:lnTo>
                      <a:pt x="239" y="105"/>
                    </a:lnTo>
                    <a:lnTo>
                      <a:pt x="242" y="107"/>
                    </a:lnTo>
                    <a:lnTo>
                      <a:pt x="245" y="108"/>
                    </a:lnTo>
                    <a:lnTo>
                      <a:pt x="249" y="111"/>
                    </a:lnTo>
                    <a:lnTo>
                      <a:pt x="252" y="114"/>
                    </a:lnTo>
                    <a:lnTo>
                      <a:pt x="257" y="116"/>
                    </a:lnTo>
                    <a:lnTo>
                      <a:pt x="260" y="118"/>
                    </a:lnTo>
                    <a:lnTo>
                      <a:pt x="263" y="123"/>
                    </a:lnTo>
                    <a:lnTo>
                      <a:pt x="267" y="127"/>
                    </a:lnTo>
                    <a:lnTo>
                      <a:pt x="268" y="132"/>
                    </a:lnTo>
                    <a:lnTo>
                      <a:pt x="271" y="138"/>
                    </a:lnTo>
                    <a:lnTo>
                      <a:pt x="273" y="142"/>
                    </a:lnTo>
                    <a:lnTo>
                      <a:pt x="274" y="148"/>
                    </a:lnTo>
                    <a:lnTo>
                      <a:pt x="274" y="154"/>
                    </a:lnTo>
                    <a:lnTo>
                      <a:pt x="273" y="162"/>
                    </a:lnTo>
                    <a:lnTo>
                      <a:pt x="271" y="164"/>
                    </a:lnTo>
                    <a:lnTo>
                      <a:pt x="271" y="169"/>
                    </a:lnTo>
                    <a:lnTo>
                      <a:pt x="270" y="172"/>
                    </a:lnTo>
                    <a:lnTo>
                      <a:pt x="268" y="176"/>
                    </a:lnTo>
                    <a:lnTo>
                      <a:pt x="267" y="179"/>
                    </a:lnTo>
                    <a:lnTo>
                      <a:pt x="264" y="184"/>
                    </a:lnTo>
                    <a:lnTo>
                      <a:pt x="263" y="188"/>
                    </a:lnTo>
                    <a:lnTo>
                      <a:pt x="261" y="193"/>
                    </a:lnTo>
                    <a:lnTo>
                      <a:pt x="258" y="197"/>
                    </a:lnTo>
                    <a:lnTo>
                      <a:pt x="255" y="202"/>
                    </a:lnTo>
                    <a:lnTo>
                      <a:pt x="252" y="206"/>
                    </a:lnTo>
                    <a:lnTo>
                      <a:pt x="249" y="210"/>
                    </a:lnTo>
                    <a:lnTo>
                      <a:pt x="246" y="215"/>
                    </a:lnTo>
                    <a:lnTo>
                      <a:pt x="242" y="219"/>
                    </a:lnTo>
                    <a:lnTo>
                      <a:pt x="239" y="224"/>
                    </a:lnTo>
                    <a:lnTo>
                      <a:pt x="234" y="230"/>
                    </a:lnTo>
                    <a:lnTo>
                      <a:pt x="230" y="234"/>
                    </a:lnTo>
                    <a:lnTo>
                      <a:pt x="225" y="239"/>
                    </a:lnTo>
                    <a:lnTo>
                      <a:pt x="221" y="245"/>
                    </a:lnTo>
                    <a:lnTo>
                      <a:pt x="217" y="251"/>
                    </a:lnTo>
                    <a:lnTo>
                      <a:pt x="212" y="255"/>
                    </a:lnTo>
                    <a:lnTo>
                      <a:pt x="206" y="259"/>
                    </a:lnTo>
                    <a:lnTo>
                      <a:pt x="200" y="265"/>
                    </a:lnTo>
                    <a:lnTo>
                      <a:pt x="196" y="271"/>
                    </a:lnTo>
                    <a:lnTo>
                      <a:pt x="190" y="276"/>
                    </a:lnTo>
                    <a:lnTo>
                      <a:pt x="184" y="282"/>
                    </a:lnTo>
                    <a:lnTo>
                      <a:pt x="178" y="288"/>
                    </a:lnTo>
                    <a:lnTo>
                      <a:pt x="172" y="294"/>
                    </a:lnTo>
                    <a:lnTo>
                      <a:pt x="168" y="297"/>
                    </a:lnTo>
                    <a:lnTo>
                      <a:pt x="165" y="300"/>
                    </a:lnTo>
                    <a:lnTo>
                      <a:pt x="162" y="302"/>
                    </a:lnTo>
                    <a:lnTo>
                      <a:pt x="159" y="305"/>
                    </a:lnTo>
                    <a:lnTo>
                      <a:pt x="154" y="307"/>
                    </a:lnTo>
                    <a:lnTo>
                      <a:pt x="151" y="310"/>
                    </a:lnTo>
                    <a:lnTo>
                      <a:pt x="147" y="313"/>
                    </a:lnTo>
                    <a:lnTo>
                      <a:pt x="144" y="316"/>
                    </a:lnTo>
                    <a:lnTo>
                      <a:pt x="141" y="319"/>
                    </a:lnTo>
                    <a:lnTo>
                      <a:pt x="136" y="322"/>
                    </a:lnTo>
                    <a:lnTo>
                      <a:pt x="133" y="325"/>
                    </a:lnTo>
                    <a:lnTo>
                      <a:pt x="130" y="328"/>
                    </a:lnTo>
                    <a:lnTo>
                      <a:pt x="126" y="329"/>
                    </a:lnTo>
                    <a:lnTo>
                      <a:pt x="123" y="334"/>
                    </a:lnTo>
                    <a:lnTo>
                      <a:pt x="119" y="337"/>
                    </a:lnTo>
                    <a:lnTo>
                      <a:pt x="116" y="340"/>
                    </a:lnTo>
                    <a:lnTo>
                      <a:pt x="111" y="341"/>
                    </a:lnTo>
                    <a:lnTo>
                      <a:pt x="108" y="344"/>
                    </a:lnTo>
                    <a:lnTo>
                      <a:pt x="104" y="347"/>
                    </a:lnTo>
                    <a:lnTo>
                      <a:pt x="101" y="350"/>
                    </a:lnTo>
                    <a:lnTo>
                      <a:pt x="96" y="351"/>
                    </a:lnTo>
                    <a:lnTo>
                      <a:pt x="93" y="356"/>
                    </a:lnTo>
                    <a:lnTo>
                      <a:pt x="89" y="357"/>
                    </a:lnTo>
                    <a:lnTo>
                      <a:pt x="86" y="360"/>
                    </a:lnTo>
                    <a:lnTo>
                      <a:pt x="83" y="363"/>
                    </a:lnTo>
                    <a:lnTo>
                      <a:pt x="79" y="366"/>
                    </a:lnTo>
                    <a:lnTo>
                      <a:pt x="76" y="368"/>
                    </a:lnTo>
                    <a:lnTo>
                      <a:pt x="73" y="371"/>
                    </a:lnTo>
                    <a:lnTo>
                      <a:pt x="65" y="377"/>
                    </a:lnTo>
                    <a:lnTo>
                      <a:pt x="59" y="381"/>
                    </a:lnTo>
                    <a:lnTo>
                      <a:pt x="53" y="386"/>
                    </a:lnTo>
                    <a:lnTo>
                      <a:pt x="47" y="390"/>
                    </a:lnTo>
                    <a:lnTo>
                      <a:pt x="40" y="393"/>
                    </a:lnTo>
                    <a:lnTo>
                      <a:pt x="36" y="397"/>
                    </a:lnTo>
                    <a:lnTo>
                      <a:pt x="30" y="400"/>
                    </a:lnTo>
                    <a:lnTo>
                      <a:pt x="25" y="405"/>
                    </a:lnTo>
                    <a:lnTo>
                      <a:pt x="21" y="408"/>
                    </a:lnTo>
                    <a:lnTo>
                      <a:pt x="16" y="412"/>
                    </a:lnTo>
                    <a:lnTo>
                      <a:pt x="12" y="414"/>
                    </a:lnTo>
                    <a:lnTo>
                      <a:pt x="9" y="417"/>
                    </a:lnTo>
                    <a:lnTo>
                      <a:pt x="6" y="418"/>
                    </a:lnTo>
                    <a:lnTo>
                      <a:pt x="4" y="420"/>
                    </a:lnTo>
                    <a:lnTo>
                      <a:pt x="0" y="423"/>
                    </a:lnTo>
                    <a:lnTo>
                      <a:pt x="0" y="424"/>
                    </a:lnTo>
                    <a:lnTo>
                      <a:pt x="0" y="424"/>
                    </a:lnTo>
                    <a:lnTo>
                      <a:pt x="4" y="424"/>
                    </a:lnTo>
                    <a:lnTo>
                      <a:pt x="7" y="424"/>
                    </a:lnTo>
                    <a:lnTo>
                      <a:pt x="10" y="424"/>
                    </a:lnTo>
                    <a:lnTo>
                      <a:pt x="13" y="424"/>
                    </a:lnTo>
                    <a:lnTo>
                      <a:pt x="18" y="424"/>
                    </a:lnTo>
                    <a:lnTo>
                      <a:pt x="22" y="424"/>
                    </a:lnTo>
                    <a:lnTo>
                      <a:pt x="27" y="424"/>
                    </a:lnTo>
                    <a:lnTo>
                      <a:pt x="33" y="424"/>
                    </a:lnTo>
                    <a:lnTo>
                      <a:pt x="38" y="424"/>
                    </a:lnTo>
                    <a:lnTo>
                      <a:pt x="44" y="424"/>
                    </a:lnTo>
                    <a:lnTo>
                      <a:pt x="50" y="426"/>
                    </a:lnTo>
                    <a:lnTo>
                      <a:pt x="53" y="426"/>
                    </a:lnTo>
                    <a:lnTo>
                      <a:pt x="56" y="426"/>
                    </a:lnTo>
                    <a:lnTo>
                      <a:pt x="59" y="427"/>
                    </a:lnTo>
                    <a:lnTo>
                      <a:pt x="64" y="427"/>
                    </a:lnTo>
                    <a:lnTo>
                      <a:pt x="70" y="427"/>
                    </a:lnTo>
                    <a:lnTo>
                      <a:pt x="77" y="429"/>
                    </a:lnTo>
                    <a:lnTo>
                      <a:pt x="80" y="429"/>
                    </a:lnTo>
                    <a:lnTo>
                      <a:pt x="84" y="429"/>
                    </a:lnTo>
                    <a:lnTo>
                      <a:pt x="87" y="430"/>
                    </a:lnTo>
                    <a:lnTo>
                      <a:pt x="92" y="432"/>
                    </a:lnTo>
                    <a:lnTo>
                      <a:pt x="95" y="432"/>
                    </a:lnTo>
                    <a:lnTo>
                      <a:pt x="98" y="432"/>
                    </a:lnTo>
                    <a:lnTo>
                      <a:pt x="102" y="432"/>
                    </a:lnTo>
                    <a:lnTo>
                      <a:pt x="105" y="433"/>
                    </a:lnTo>
                    <a:lnTo>
                      <a:pt x="108" y="433"/>
                    </a:lnTo>
                    <a:lnTo>
                      <a:pt x="113" y="435"/>
                    </a:lnTo>
                    <a:lnTo>
                      <a:pt x="116" y="435"/>
                    </a:lnTo>
                    <a:lnTo>
                      <a:pt x="120" y="436"/>
                    </a:lnTo>
                    <a:lnTo>
                      <a:pt x="123" y="438"/>
                    </a:lnTo>
                    <a:lnTo>
                      <a:pt x="126" y="439"/>
                    </a:lnTo>
                    <a:lnTo>
                      <a:pt x="130" y="439"/>
                    </a:lnTo>
                    <a:lnTo>
                      <a:pt x="133" y="440"/>
                    </a:lnTo>
                    <a:lnTo>
                      <a:pt x="136" y="440"/>
                    </a:lnTo>
                    <a:lnTo>
                      <a:pt x="141" y="442"/>
                    </a:lnTo>
                    <a:lnTo>
                      <a:pt x="144" y="443"/>
                    </a:lnTo>
                    <a:lnTo>
                      <a:pt x="147" y="445"/>
                    </a:lnTo>
                    <a:lnTo>
                      <a:pt x="153" y="446"/>
                    </a:lnTo>
                    <a:lnTo>
                      <a:pt x="160" y="449"/>
                    </a:lnTo>
                    <a:lnTo>
                      <a:pt x="166" y="454"/>
                    </a:lnTo>
                    <a:lnTo>
                      <a:pt x="172" y="457"/>
                    </a:lnTo>
                    <a:lnTo>
                      <a:pt x="176" y="460"/>
                    </a:lnTo>
                    <a:lnTo>
                      <a:pt x="182" y="463"/>
                    </a:lnTo>
                    <a:lnTo>
                      <a:pt x="185" y="467"/>
                    </a:lnTo>
                    <a:lnTo>
                      <a:pt x="191" y="472"/>
                    </a:lnTo>
                    <a:lnTo>
                      <a:pt x="194" y="475"/>
                    </a:lnTo>
                    <a:lnTo>
                      <a:pt x="199" y="479"/>
                    </a:lnTo>
                    <a:lnTo>
                      <a:pt x="203" y="484"/>
                    </a:lnTo>
                    <a:lnTo>
                      <a:pt x="206" y="488"/>
                    </a:lnTo>
                    <a:lnTo>
                      <a:pt x="209" y="491"/>
                    </a:lnTo>
                    <a:lnTo>
                      <a:pt x="212" y="497"/>
                    </a:lnTo>
                    <a:lnTo>
                      <a:pt x="215" y="500"/>
                    </a:lnTo>
                    <a:lnTo>
                      <a:pt x="218" y="506"/>
                    </a:lnTo>
                    <a:lnTo>
                      <a:pt x="220" y="510"/>
                    </a:lnTo>
                    <a:lnTo>
                      <a:pt x="222" y="513"/>
                    </a:lnTo>
                    <a:lnTo>
                      <a:pt x="224" y="518"/>
                    </a:lnTo>
                    <a:lnTo>
                      <a:pt x="227" y="524"/>
                    </a:lnTo>
                    <a:lnTo>
                      <a:pt x="228" y="527"/>
                    </a:lnTo>
                    <a:lnTo>
                      <a:pt x="230" y="531"/>
                    </a:lnTo>
                    <a:lnTo>
                      <a:pt x="230" y="534"/>
                    </a:lnTo>
                    <a:lnTo>
                      <a:pt x="231" y="538"/>
                    </a:lnTo>
                    <a:lnTo>
                      <a:pt x="233" y="541"/>
                    </a:lnTo>
                    <a:lnTo>
                      <a:pt x="234" y="546"/>
                    </a:lnTo>
                    <a:lnTo>
                      <a:pt x="234" y="549"/>
                    </a:lnTo>
                    <a:lnTo>
                      <a:pt x="236" y="552"/>
                    </a:lnTo>
                    <a:lnTo>
                      <a:pt x="236" y="556"/>
                    </a:lnTo>
                    <a:lnTo>
                      <a:pt x="237" y="559"/>
                    </a:lnTo>
                    <a:lnTo>
                      <a:pt x="237" y="562"/>
                    </a:lnTo>
                    <a:lnTo>
                      <a:pt x="237" y="564"/>
                    </a:lnTo>
                    <a:lnTo>
                      <a:pt x="405" y="540"/>
                    </a:lnTo>
                    <a:lnTo>
                      <a:pt x="405" y="537"/>
                    </a:lnTo>
                    <a:lnTo>
                      <a:pt x="405" y="532"/>
                    </a:lnTo>
                    <a:lnTo>
                      <a:pt x="405" y="528"/>
                    </a:lnTo>
                    <a:lnTo>
                      <a:pt x="406" y="525"/>
                    </a:lnTo>
                    <a:lnTo>
                      <a:pt x="406" y="519"/>
                    </a:lnTo>
                    <a:lnTo>
                      <a:pt x="409" y="515"/>
                    </a:lnTo>
                    <a:lnTo>
                      <a:pt x="409" y="510"/>
                    </a:lnTo>
                    <a:lnTo>
                      <a:pt x="412" y="504"/>
                    </a:lnTo>
                    <a:lnTo>
                      <a:pt x="414" y="498"/>
                    </a:lnTo>
                    <a:lnTo>
                      <a:pt x="417" y="494"/>
                    </a:lnTo>
                    <a:lnTo>
                      <a:pt x="420" y="488"/>
                    </a:lnTo>
                    <a:lnTo>
                      <a:pt x="424" y="484"/>
                    </a:lnTo>
                    <a:lnTo>
                      <a:pt x="427" y="479"/>
                    </a:lnTo>
                    <a:lnTo>
                      <a:pt x="432" y="476"/>
                    </a:lnTo>
                    <a:lnTo>
                      <a:pt x="436" y="472"/>
                    </a:lnTo>
                    <a:lnTo>
                      <a:pt x="442" y="469"/>
                    </a:lnTo>
                    <a:lnTo>
                      <a:pt x="447" y="466"/>
                    </a:lnTo>
                    <a:lnTo>
                      <a:pt x="452" y="464"/>
                    </a:lnTo>
                    <a:lnTo>
                      <a:pt x="458" y="461"/>
                    </a:lnTo>
                    <a:lnTo>
                      <a:pt x="464" y="461"/>
                    </a:lnTo>
                    <a:lnTo>
                      <a:pt x="470" y="460"/>
                    </a:lnTo>
                    <a:lnTo>
                      <a:pt x="476" y="460"/>
                    </a:lnTo>
                    <a:lnTo>
                      <a:pt x="481" y="460"/>
                    </a:lnTo>
                    <a:lnTo>
                      <a:pt x="485" y="460"/>
                    </a:lnTo>
                    <a:lnTo>
                      <a:pt x="490" y="460"/>
                    </a:lnTo>
                    <a:lnTo>
                      <a:pt x="494" y="460"/>
                    </a:lnTo>
                    <a:lnTo>
                      <a:pt x="497" y="460"/>
                    </a:lnTo>
                    <a:lnTo>
                      <a:pt x="500" y="460"/>
                    </a:lnTo>
                    <a:lnTo>
                      <a:pt x="500" y="460"/>
                    </a:lnTo>
                    <a:lnTo>
                      <a:pt x="501" y="461"/>
                    </a:lnTo>
                    <a:lnTo>
                      <a:pt x="544" y="383"/>
                    </a:lnTo>
                    <a:lnTo>
                      <a:pt x="381" y="448"/>
                    </a:lnTo>
                    <a:lnTo>
                      <a:pt x="380" y="446"/>
                    </a:lnTo>
                    <a:lnTo>
                      <a:pt x="380" y="445"/>
                    </a:lnTo>
                    <a:lnTo>
                      <a:pt x="378" y="442"/>
                    </a:lnTo>
                    <a:lnTo>
                      <a:pt x="377" y="439"/>
                    </a:lnTo>
                    <a:lnTo>
                      <a:pt x="375" y="433"/>
                    </a:lnTo>
                    <a:lnTo>
                      <a:pt x="375" y="427"/>
                    </a:lnTo>
                    <a:lnTo>
                      <a:pt x="372" y="421"/>
                    </a:lnTo>
                    <a:lnTo>
                      <a:pt x="372" y="415"/>
                    </a:lnTo>
                    <a:lnTo>
                      <a:pt x="372" y="412"/>
                    </a:lnTo>
                    <a:lnTo>
                      <a:pt x="371" y="408"/>
                    </a:lnTo>
                    <a:lnTo>
                      <a:pt x="371" y="405"/>
                    </a:lnTo>
                    <a:lnTo>
                      <a:pt x="371" y="400"/>
                    </a:lnTo>
                    <a:lnTo>
                      <a:pt x="371" y="397"/>
                    </a:lnTo>
                    <a:lnTo>
                      <a:pt x="371" y="393"/>
                    </a:lnTo>
                    <a:lnTo>
                      <a:pt x="371" y="390"/>
                    </a:lnTo>
                    <a:lnTo>
                      <a:pt x="371" y="387"/>
                    </a:lnTo>
                    <a:lnTo>
                      <a:pt x="371" y="384"/>
                    </a:lnTo>
                    <a:lnTo>
                      <a:pt x="372" y="380"/>
                    </a:lnTo>
                    <a:lnTo>
                      <a:pt x="372" y="377"/>
                    </a:lnTo>
                    <a:lnTo>
                      <a:pt x="374" y="374"/>
                    </a:lnTo>
                    <a:lnTo>
                      <a:pt x="377" y="368"/>
                    </a:lnTo>
                    <a:lnTo>
                      <a:pt x="381" y="363"/>
                    </a:lnTo>
                    <a:lnTo>
                      <a:pt x="386" y="359"/>
                    </a:lnTo>
                    <a:lnTo>
                      <a:pt x="392" y="354"/>
                    </a:lnTo>
                    <a:lnTo>
                      <a:pt x="393" y="353"/>
                    </a:lnTo>
                    <a:lnTo>
                      <a:pt x="396" y="351"/>
                    </a:lnTo>
                    <a:lnTo>
                      <a:pt x="401" y="350"/>
                    </a:lnTo>
                    <a:lnTo>
                      <a:pt x="404" y="348"/>
                    </a:lnTo>
                    <a:lnTo>
                      <a:pt x="406" y="348"/>
                    </a:lnTo>
                    <a:lnTo>
                      <a:pt x="411" y="347"/>
                    </a:lnTo>
                    <a:lnTo>
                      <a:pt x="414" y="346"/>
                    </a:lnTo>
                    <a:lnTo>
                      <a:pt x="418" y="346"/>
                    </a:lnTo>
                    <a:lnTo>
                      <a:pt x="421" y="346"/>
                    </a:lnTo>
                    <a:lnTo>
                      <a:pt x="426" y="344"/>
                    </a:lnTo>
                    <a:lnTo>
                      <a:pt x="429" y="344"/>
                    </a:lnTo>
                    <a:lnTo>
                      <a:pt x="433" y="344"/>
                    </a:lnTo>
                    <a:lnTo>
                      <a:pt x="436" y="344"/>
                    </a:lnTo>
                    <a:lnTo>
                      <a:pt x="439" y="344"/>
                    </a:lnTo>
                    <a:lnTo>
                      <a:pt x="442" y="344"/>
                    </a:lnTo>
                    <a:lnTo>
                      <a:pt x="447" y="344"/>
                    </a:lnTo>
                    <a:lnTo>
                      <a:pt x="452" y="344"/>
                    </a:lnTo>
                    <a:lnTo>
                      <a:pt x="458" y="344"/>
                    </a:lnTo>
                    <a:lnTo>
                      <a:pt x="463" y="344"/>
                    </a:lnTo>
                    <a:lnTo>
                      <a:pt x="466" y="344"/>
                    </a:lnTo>
                    <a:lnTo>
                      <a:pt x="467" y="344"/>
                    </a:lnTo>
                    <a:lnTo>
                      <a:pt x="469" y="346"/>
                    </a:lnTo>
                    <a:lnTo>
                      <a:pt x="553" y="252"/>
                    </a:lnTo>
                    <a:lnTo>
                      <a:pt x="381" y="313"/>
                    </a:lnTo>
                    <a:lnTo>
                      <a:pt x="381" y="311"/>
                    </a:lnTo>
                    <a:lnTo>
                      <a:pt x="381" y="308"/>
                    </a:lnTo>
                    <a:lnTo>
                      <a:pt x="381" y="304"/>
                    </a:lnTo>
                    <a:lnTo>
                      <a:pt x="383" y="300"/>
                    </a:lnTo>
                    <a:lnTo>
                      <a:pt x="383" y="295"/>
                    </a:lnTo>
                    <a:lnTo>
                      <a:pt x="383" y="292"/>
                    </a:lnTo>
                    <a:lnTo>
                      <a:pt x="384" y="288"/>
                    </a:lnTo>
                    <a:lnTo>
                      <a:pt x="384" y="285"/>
                    </a:lnTo>
                    <a:lnTo>
                      <a:pt x="386" y="280"/>
                    </a:lnTo>
                    <a:lnTo>
                      <a:pt x="387" y="276"/>
                    </a:lnTo>
                    <a:lnTo>
                      <a:pt x="387" y="273"/>
                    </a:lnTo>
                    <a:lnTo>
                      <a:pt x="389" y="268"/>
                    </a:lnTo>
                    <a:lnTo>
                      <a:pt x="390" y="264"/>
                    </a:lnTo>
                    <a:lnTo>
                      <a:pt x="392" y="259"/>
                    </a:lnTo>
                    <a:lnTo>
                      <a:pt x="392" y="254"/>
                    </a:lnTo>
                    <a:lnTo>
                      <a:pt x="395" y="251"/>
                    </a:lnTo>
                    <a:lnTo>
                      <a:pt x="395" y="245"/>
                    </a:lnTo>
                    <a:lnTo>
                      <a:pt x="398" y="240"/>
                    </a:lnTo>
                    <a:lnTo>
                      <a:pt x="399" y="236"/>
                    </a:lnTo>
                    <a:lnTo>
                      <a:pt x="401" y="233"/>
                    </a:lnTo>
                    <a:lnTo>
                      <a:pt x="402" y="228"/>
                    </a:lnTo>
                    <a:lnTo>
                      <a:pt x="405" y="224"/>
                    </a:lnTo>
                    <a:lnTo>
                      <a:pt x="406" y="219"/>
                    </a:lnTo>
                    <a:lnTo>
                      <a:pt x="409" y="216"/>
                    </a:lnTo>
                    <a:lnTo>
                      <a:pt x="414" y="210"/>
                    </a:lnTo>
                    <a:lnTo>
                      <a:pt x="420" y="206"/>
                    </a:lnTo>
                    <a:lnTo>
                      <a:pt x="424" y="200"/>
                    </a:lnTo>
                    <a:lnTo>
                      <a:pt x="430" y="197"/>
                    </a:lnTo>
                    <a:lnTo>
                      <a:pt x="436" y="194"/>
                    </a:lnTo>
                    <a:lnTo>
                      <a:pt x="444" y="194"/>
                    </a:lnTo>
                    <a:lnTo>
                      <a:pt x="450" y="193"/>
                    </a:lnTo>
                    <a:lnTo>
                      <a:pt x="455" y="193"/>
                    </a:lnTo>
                    <a:lnTo>
                      <a:pt x="463" y="194"/>
                    </a:lnTo>
                    <a:lnTo>
                      <a:pt x="469" y="196"/>
                    </a:lnTo>
                    <a:lnTo>
                      <a:pt x="475" y="196"/>
                    </a:lnTo>
                    <a:lnTo>
                      <a:pt x="481" y="197"/>
                    </a:lnTo>
                    <a:lnTo>
                      <a:pt x="485" y="200"/>
                    </a:lnTo>
                    <a:lnTo>
                      <a:pt x="490" y="202"/>
                    </a:lnTo>
                    <a:lnTo>
                      <a:pt x="493" y="203"/>
                    </a:lnTo>
                    <a:lnTo>
                      <a:pt x="496" y="205"/>
                    </a:lnTo>
                    <a:lnTo>
                      <a:pt x="497" y="205"/>
                    </a:lnTo>
                    <a:lnTo>
                      <a:pt x="498" y="206"/>
                    </a:lnTo>
                    <a:lnTo>
                      <a:pt x="498" y="205"/>
                    </a:lnTo>
                    <a:lnTo>
                      <a:pt x="500" y="203"/>
                    </a:lnTo>
                    <a:lnTo>
                      <a:pt x="501" y="200"/>
                    </a:lnTo>
                    <a:lnTo>
                      <a:pt x="506" y="197"/>
                    </a:lnTo>
                    <a:lnTo>
                      <a:pt x="509" y="193"/>
                    </a:lnTo>
                    <a:lnTo>
                      <a:pt x="513" y="187"/>
                    </a:lnTo>
                    <a:lnTo>
                      <a:pt x="518" y="181"/>
                    </a:lnTo>
                    <a:lnTo>
                      <a:pt x="525" y="175"/>
                    </a:lnTo>
                    <a:lnTo>
                      <a:pt x="527" y="170"/>
                    </a:lnTo>
                    <a:lnTo>
                      <a:pt x="530" y="167"/>
                    </a:lnTo>
                    <a:lnTo>
                      <a:pt x="533" y="163"/>
                    </a:lnTo>
                    <a:lnTo>
                      <a:pt x="537" y="160"/>
                    </a:lnTo>
                    <a:lnTo>
                      <a:pt x="540" y="156"/>
                    </a:lnTo>
                    <a:lnTo>
                      <a:pt x="544" y="151"/>
                    </a:lnTo>
                    <a:lnTo>
                      <a:pt x="547" y="147"/>
                    </a:lnTo>
                    <a:lnTo>
                      <a:pt x="552" y="144"/>
                    </a:lnTo>
                    <a:lnTo>
                      <a:pt x="555" y="138"/>
                    </a:lnTo>
                    <a:lnTo>
                      <a:pt x="559" y="135"/>
                    </a:lnTo>
                    <a:lnTo>
                      <a:pt x="562" y="130"/>
                    </a:lnTo>
                    <a:lnTo>
                      <a:pt x="567" y="126"/>
                    </a:lnTo>
                    <a:lnTo>
                      <a:pt x="570" y="121"/>
                    </a:lnTo>
                    <a:lnTo>
                      <a:pt x="574" y="117"/>
                    </a:lnTo>
                    <a:lnTo>
                      <a:pt x="577" y="113"/>
                    </a:lnTo>
                    <a:lnTo>
                      <a:pt x="582" y="108"/>
                    </a:lnTo>
                    <a:lnTo>
                      <a:pt x="585" y="104"/>
                    </a:lnTo>
                    <a:lnTo>
                      <a:pt x="588" y="99"/>
                    </a:lnTo>
                    <a:lnTo>
                      <a:pt x="590" y="95"/>
                    </a:lnTo>
                    <a:lnTo>
                      <a:pt x="595" y="90"/>
                    </a:lnTo>
                    <a:lnTo>
                      <a:pt x="598" y="84"/>
                    </a:lnTo>
                    <a:lnTo>
                      <a:pt x="601" y="81"/>
                    </a:lnTo>
                    <a:lnTo>
                      <a:pt x="604" y="75"/>
                    </a:lnTo>
                    <a:lnTo>
                      <a:pt x="608" y="72"/>
                    </a:lnTo>
                    <a:lnTo>
                      <a:pt x="610" y="67"/>
                    </a:lnTo>
                    <a:lnTo>
                      <a:pt x="613" y="62"/>
                    </a:lnTo>
                    <a:lnTo>
                      <a:pt x="616" y="59"/>
                    </a:lnTo>
                    <a:lnTo>
                      <a:pt x="620" y="55"/>
                    </a:lnTo>
                    <a:lnTo>
                      <a:pt x="622" y="50"/>
                    </a:lnTo>
                    <a:lnTo>
                      <a:pt x="625" y="47"/>
                    </a:lnTo>
                    <a:lnTo>
                      <a:pt x="628" y="43"/>
                    </a:lnTo>
                    <a:lnTo>
                      <a:pt x="631" y="40"/>
                    </a:lnTo>
                    <a:lnTo>
                      <a:pt x="632" y="37"/>
                    </a:lnTo>
                    <a:lnTo>
                      <a:pt x="634" y="32"/>
                    </a:lnTo>
                    <a:lnTo>
                      <a:pt x="635" y="29"/>
                    </a:lnTo>
                    <a:lnTo>
                      <a:pt x="638" y="28"/>
                    </a:lnTo>
                    <a:lnTo>
                      <a:pt x="641" y="22"/>
                    </a:lnTo>
                    <a:lnTo>
                      <a:pt x="645" y="18"/>
                    </a:lnTo>
                    <a:lnTo>
                      <a:pt x="647" y="13"/>
                    </a:lnTo>
                    <a:lnTo>
                      <a:pt x="648" y="12"/>
                    </a:lnTo>
                    <a:lnTo>
                      <a:pt x="650" y="9"/>
                    </a:lnTo>
                    <a:lnTo>
                      <a:pt x="650" y="9"/>
                    </a:lnTo>
                    <a:lnTo>
                      <a:pt x="442" y="0"/>
                    </a:lnTo>
                    <a:lnTo>
                      <a:pt x="442"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303360" y="1743120"/>
                <a:ext cx="1089000" cy="614160"/>
              </a:xfrm>
              <a:custGeom>
                <a:avLst/>
                <a:gdLst/>
                <a:ahLst/>
                <a:rect l="l" t="t" r="r" b="b"/>
                <a:pathLst>
                  <a:path w="1372" h="774">
                    <a:moveTo>
                      <a:pt x="0" y="774"/>
                    </a:moveTo>
                    <a:lnTo>
                      <a:pt x="0" y="773"/>
                    </a:lnTo>
                    <a:lnTo>
                      <a:pt x="0" y="771"/>
                    </a:lnTo>
                    <a:lnTo>
                      <a:pt x="1" y="770"/>
                    </a:lnTo>
                    <a:lnTo>
                      <a:pt x="4" y="767"/>
                    </a:lnTo>
                    <a:lnTo>
                      <a:pt x="6" y="762"/>
                    </a:lnTo>
                    <a:lnTo>
                      <a:pt x="10" y="758"/>
                    </a:lnTo>
                    <a:lnTo>
                      <a:pt x="13" y="752"/>
                    </a:lnTo>
                    <a:lnTo>
                      <a:pt x="18" y="746"/>
                    </a:lnTo>
                    <a:lnTo>
                      <a:pt x="19" y="742"/>
                    </a:lnTo>
                    <a:lnTo>
                      <a:pt x="21" y="739"/>
                    </a:lnTo>
                    <a:lnTo>
                      <a:pt x="24" y="734"/>
                    </a:lnTo>
                    <a:lnTo>
                      <a:pt x="27" y="731"/>
                    </a:lnTo>
                    <a:lnTo>
                      <a:pt x="29" y="727"/>
                    </a:lnTo>
                    <a:lnTo>
                      <a:pt x="32" y="722"/>
                    </a:lnTo>
                    <a:lnTo>
                      <a:pt x="35" y="719"/>
                    </a:lnTo>
                    <a:lnTo>
                      <a:pt x="38" y="715"/>
                    </a:lnTo>
                    <a:lnTo>
                      <a:pt x="41" y="709"/>
                    </a:lnTo>
                    <a:lnTo>
                      <a:pt x="44" y="705"/>
                    </a:lnTo>
                    <a:lnTo>
                      <a:pt x="49" y="700"/>
                    </a:lnTo>
                    <a:lnTo>
                      <a:pt x="52" y="696"/>
                    </a:lnTo>
                    <a:lnTo>
                      <a:pt x="56" y="690"/>
                    </a:lnTo>
                    <a:lnTo>
                      <a:pt x="59" y="685"/>
                    </a:lnTo>
                    <a:lnTo>
                      <a:pt x="64" y="681"/>
                    </a:lnTo>
                    <a:lnTo>
                      <a:pt x="68" y="676"/>
                    </a:lnTo>
                    <a:lnTo>
                      <a:pt x="71" y="670"/>
                    </a:lnTo>
                    <a:lnTo>
                      <a:pt x="75" y="664"/>
                    </a:lnTo>
                    <a:lnTo>
                      <a:pt x="80" y="659"/>
                    </a:lnTo>
                    <a:lnTo>
                      <a:pt x="84" y="654"/>
                    </a:lnTo>
                    <a:lnTo>
                      <a:pt x="89" y="648"/>
                    </a:lnTo>
                    <a:lnTo>
                      <a:pt x="93" y="642"/>
                    </a:lnTo>
                    <a:lnTo>
                      <a:pt x="98" y="636"/>
                    </a:lnTo>
                    <a:lnTo>
                      <a:pt x="104" y="630"/>
                    </a:lnTo>
                    <a:lnTo>
                      <a:pt x="108" y="624"/>
                    </a:lnTo>
                    <a:lnTo>
                      <a:pt x="113" y="618"/>
                    </a:lnTo>
                    <a:lnTo>
                      <a:pt x="117" y="613"/>
                    </a:lnTo>
                    <a:lnTo>
                      <a:pt x="123" y="607"/>
                    </a:lnTo>
                    <a:lnTo>
                      <a:pt x="127" y="601"/>
                    </a:lnTo>
                    <a:lnTo>
                      <a:pt x="133" y="595"/>
                    </a:lnTo>
                    <a:lnTo>
                      <a:pt x="139" y="589"/>
                    </a:lnTo>
                    <a:lnTo>
                      <a:pt x="145" y="583"/>
                    </a:lnTo>
                    <a:lnTo>
                      <a:pt x="150" y="577"/>
                    </a:lnTo>
                    <a:lnTo>
                      <a:pt x="156" y="571"/>
                    </a:lnTo>
                    <a:lnTo>
                      <a:pt x="162" y="565"/>
                    </a:lnTo>
                    <a:lnTo>
                      <a:pt x="167" y="559"/>
                    </a:lnTo>
                    <a:lnTo>
                      <a:pt x="172" y="553"/>
                    </a:lnTo>
                    <a:lnTo>
                      <a:pt x="179" y="547"/>
                    </a:lnTo>
                    <a:lnTo>
                      <a:pt x="185" y="541"/>
                    </a:lnTo>
                    <a:lnTo>
                      <a:pt x="191" y="535"/>
                    </a:lnTo>
                    <a:lnTo>
                      <a:pt x="197" y="529"/>
                    </a:lnTo>
                    <a:lnTo>
                      <a:pt x="205" y="523"/>
                    </a:lnTo>
                    <a:lnTo>
                      <a:pt x="210" y="518"/>
                    </a:lnTo>
                    <a:lnTo>
                      <a:pt x="218" y="512"/>
                    </a:lnTo>
                    <a:lnTo>
                      <a:pt x="224" y="506"/>
                    </a:lnTo>
                    <a:lnTo>
                      <a:pt x="230" y="500"/>
                    </a:lnTo>
                    <a:lnTo>
                      <a:pt x="236" y="495"/>
                    </a:lnTo>
                    <a:lnTo>
                      <a:pt x="243" y="489"/>
                    </a:lnTo>
                    <a:lnTo>
                      <a:pt x="251" y="485"/>
                    </a:lnTo>
                    <a:lnTo>
                      <a:pt x="256" y="479"/>
                    </a:lnTo>
                    <a:lnTo>
                      <a:pt x="264" y="473"/>
                    </a:lnTo>
                    <a:lnTo>
                      <a:pt x="271" y="469"/>
                    </a:lnTo>
                    <a:lnTo>
                      <a:pt x="277" y="463"/>
                    </a:lnTo>
                    <a:lnTo>
                      <a:pt x="285" y="458"/>
                    </a:lnTo>
                    <a:lnTo>
                      <a:pt x="292" y="452"/>
                    </a:lnTo>
                    <a:lnTo>
                      <a:pt x="300" y="448"/>
                    </a:lnTo>
                    <a:lnTo>
                      <a:pt x="305" y="443"/>
                    </a:lnTo>
                    <a:lnTo>
                      <a:pt x="313" y="439"/>
                    </a:lnTo>
                    <a:lnTo>
                      <a:pt x="319" y="434"/>
                    </a:lnTo>
                    <a:lnTo>
                      <a:pt x="326" y="430"/>
                    </a:lnTo>
                    <a:lnTo>
                      <a:pt x="334" y="426"/>
                    </a:lnTo>
                    <a:lnTo>
                      <a:pt x="341" y="421"/>
                    </a:lnTo>
                    <a:lnTo>
                      <a:pt x="348" y="417"/>
                    </a:lnTo>
                    <a:lnTo>
                      <a:pt x="356" y="414"/>
                    </a:lnTo>
                    <a:lnTo>
                      <a:pt x="363" y="409"/>
                    </a:lnTo>
                    <a:lnTo>
                      <a:pt x="369" y="405"/>
                    </a:lnTo>
                    <a:lnTo>
                      <a:pt x="377" y="400"/>
                    </a:lnTo>
                    <a:lnTo>
                      <a:pt x="383" y="396"/>
                    </a:lnTo>
                    <a:lnTo>
                      <a:pt x="390" y="393"/>
                    </a:lnTo>
                    <a:lnTo>
                      <a:pt x="396" y="388"/>
                    </a:lnTo>
                    <a:lnTo>
                      <a:pt x="403" y="385"/>
                    </a:lnTo>
                    <a:lnTo>
                      <a:pt x="411" y="383"/>
                    </a:lnTo>
                    <a:lnTo>
                      <a:pt x="417" y="378"/>
                    </a:lnTo>
                    <a:lnTo>
                      <a:pt x="424" y="375"/>
                    </a:lnTo>
                    <a:lnTo>
                      <a:pt x="430" y="371"/>
                    </a:lnTo>
                    <a:lnTo>
                      <a:pt x="438" y="369"/>
                    </a:lnTo>
                    <a:lnTo>
                      <a:pt x="443" y="365"/>
                    </a:lnTo>
                    <a:lnTo>
                      <a:pt x="449" y="362"/>
                    </a:lnTo>
                    <a:lnTo>
                      <a:pt x="455" y="359"/>
                    </a:lnTo>
                    <a:lnTo>
                      <a:pt x="463" y="357"/>
                    </a:lnTo>
                    <a:lnTo>
                      <a:pt x="467" y="353"/>
                    </a:lnTo>
                    <a:lnTo>
                      <a:pt x="473" y="350"/>
                    </a:lnTo>
                    <a:lnTo>
                      <a:pt x="479" y="347"/>
                    </a:lnTo>
                    <a:lnTo>
                      <a:pt x="485" y="345"/>
                    </a:lnTo>
                    <a:lnTo>
                      <a:pt x="489" y="342"/>
                    </a:lnTo>
                    <a:lnTo>
                      <a:pt x="495" y="339"/>
                    </a:lnTo>
                    <a:lnTo>
                      <a:pt x="501" y="338"/>
                    </a:lnTo>
                    <a:lnTo>
                      <a:pt x="507" y="337"/>
                    </a:lnTo>
                    <a:lnTo>
                      <a:pt x="512" y="334"/>
                    </a:lnTo>
                    <a:lnTo>
                      <a:pt x="516" y="331"/>
                    </a:lnTo>
                    <a:lnTo>
                      <a:pt x="521" y="329"/>
                    </a:lnTo>
                    <a:lnTo>
                      <a:pt x="525" y="328"/>
                    </a:lnTo>
                    <a:lnTo>
                      <a:pt x="530" y="326"/>
                    </a:lnTo>
                    <a:lnTo>
                      <a:pt x="534" y="325"/>
                    </a:lnTo>
                    <a:lnTo>
                      <a:pt x="538" y="323"/>
                    </a:lnTo>
                    <a:lnTo>
                      <a:pt x="541" y="322"/>
                    </a:lnTo>
                    <a:lnTo>
                      <a:pt x="546" y="320"/>
                    </a:lnTo>
                    <a:lnTo>
                      <a:pt x="549" y="319"/>
                    </a:lnTo>
                    <a:lnTo>
                      <a:pt x="552" y="317"/>
                    </a:lnTo>
                    <a:lnTo>
                      <a:pt x="555" y="316"/>
                    </a:lnTo>
                    <a:lnTo>
                      <a:pt x="561" y="314"/>
                    </a:lnTo>
                    <a:lnTo>
                      <a:pt x="565" y="313"/>
                    </a:lnTo>
                    <a:lnTo>
                      <a:pt x="568" y="311"/>
                    </a:lnTo>
                    <a:lnTo>
                      <a:pt x="571" y="310"/>
                    </a:lnTo>
                    <a:lnTo>
                      <a:pt x="573" y="310"/>
                    </a:lnTo>
                    <a:lnTo>
                      <a:pt x="574" y="310"/>
                    </a:lnTo>
                    <a:lnTo>
                      <a:pt x="574" y="310"/>
                    </a:lnTo>
                    <a:lnTo>
                      <a:pt x="576" y="308"/>
                    </a:lnTo>
                    <a:lnTo>
                      <a:pt x="577" y="305"/>
                    </a:lnTo>
                    <a:lnTo>
                      <a:pt x="581" y="304"/>
                    </a:lnTo>
                    <a:lnTo>
                      <a:pt x="586" y="299"/>
                    </a:lnTo>
                    <a:lnTo>
                      <a:pt x="592" y="295"/>
                    </a:lnTo>
                    <a:lnTo>
                      <a:pt x="595" y="293"/>
                    </a:lnTo>
                    <a:lnTo>
                      <a:pt x="598" y="291"/>
                    </a:lnTo>
                    <a:lnTo>
                      <a:pt x="602" y="288"/>
                    </a:lnTo>
                    <a:lnTo>
                      <a:pt x="607" y="286"/>
                    </a:lnTo>
                    <a:lnTo>
                      <a:pt x="610" y="282"/>
                    </a:lnTo>
                    <a:lnTo>
                      <a:pt x="614" y="279"/>
                    </a:lnTo>
                    <a:lnTo>
                      <a:pt x="619" y="276"/>
                    </a:lnTo>
                    <a:lnTo>
                      <a:pt x="624" y="273"/>
                    </a:lnTo>
                    <a:lnTo>
                      <a:pt x="627" y="270"/>
                    </a:lnTo>
                    <a:lnTo>
                      <a:pt x="633" y="265"/>
                    </a:lnTo>
                    <a:lnTo>
                      <a:pt x="639" y="262"/>
                    </a:lnTo>
                    <a:lnTo>
                      <a:pt x="645" y="259"/>
                    </a:lnTo>
                    <a:lnTo>
                      <a:pt x="650" y="255"/>
                    </a:lnTo>
                    <a:lnTo>
                      <a:pt x="656" y="250"/>
                    </a:lnTo>
                    <a:lnTo>
                      <a:pt x="662" y="246"/>
                    </a:lnTo>
                    <a:lnTo>
                      <a:pt x="669" y="243"/>
                    </a:lnTo>
                    <a:lnTo>
                      <a:pt x="673" y="239"/>
                    </a:lnTo>
                    <a:lnTo>
                      <a:pt x="681" y="234"/>
                    </a:lnTo>
                    <a:lnTo>
                      <a:pt x="688" y="230"/>
                    </a:lnTo>
                    <a:lnTo>
                      <a:pt x="696" y="225"/>
                    </a:lnTo>
                    <a:lnTo>
                      <a:pt x="702" y="221"/>
                    </a:lnTo>
                    <a:lnTo>
                      <a:pt x="708" y="216"/>
                    </a:lnTo>
                    <a:lnTo>
                      <a:pt x="715" y="212"/>
                    </a:lnTo>
                    <a:lnTo>
                      <a:pt x="722" y="207"/>
                    </a:lnTo>
                    <a:lnTo>
                      <a:pt x="730" y="203"/>
                    </a:lnTo>
                    <a:lnTo>
                      <a:pt x="737" y="199"/>
                    </a:lnTo>
                    <a:lnTo>
                      <a:pt x="746" y="193"/>
                    </a:lnTo>
                    <a:lnTo>
                      <a:pt x="754" y="188"/>
                    </a:lnTo>
                    <a:lnTo>
                      <a:pt x="761" y="184"/>
                    </a:lnTo>
                    <a:lnTo>
                      <a:pt x="770" y="179"/>
                    </a:lnTo>
                    <a:lnTo>
                      <a:pt x="777" y="173"/>
                    </a:lnTo>
                    <a:lnTo>
                      <a:pt x="786" y="169"/>
                    </a:lnTo>
                    <a:lnTo>
                      <a:pt x="795" y="164"/>
                    </a:lnTo>
                    <a:lnTo>
                      <a:pt x="804" y="160"/>
                    </a:lnTo>
                    <a:lnTo>
                      <a:pt x="811" y="155"/>
                    </a:lnTo>
                    <a:lnTo>
                      <a:pt x="820" y="151"/>
                    </a:lnTo>
                    <a:lnTo>
                      <a:pt x="829" y="147"/>
                    </a:lnTo>
                    <a:lnTo>
                      <a:pt x="838" y="142"/>
                    </a:lnTo>
                    <a:lnTo>
                      <a:pt x="846" y="136"/>
                    </a:lnTo>
                    <a:lnTo>
                      <a:pt x="856" y="132"/>
                    </a:lnTo>
                    <a:lnTo>
                      <a:pt x="865" y="127"/>
                    </a:lnTo>
                    <a:lnTo>
                      <a:pt x="874" y="123"/>
                    </a:lnTo>
                    <a:lnTo>
                      <a:pt x="883" y="118"/>
                    </a:lnTo>
                    <a:lnTo>
                      <a:pt x="893" y="114"/>
                    </a:lnTo>
                    <a:lnTo>
                      <a:pt x="902" y="109"/>
                    </a:lnTo>
                    <a:lnTo>
                      <a:pt x="911" y="105"/>
                    </a:lnTo>
                    <a:lnTo>
                      <a:pt x="920" y="102"/>
                    </a:lnTo>
                    <a:lnTo>
                      <a:pt x="930" y="98"/>
                    </a:lnTo>
                    <a:lnTo>
                      <a:pt x="939" y="93"/>
                    </a:lnTo>
                    <a:lnTo>
                      <a:pt x="948" y="90"/>
                    </a:lnTo>
                    <a:lnTo>
                      <a:pt x="957" y="86"/>
                    </a:lnTo>
                    <a:lnTo>
                      <a:pt x="967" y="83"/>
                    </a:lnTo>
                    <a:lnTo>
                      <a:pt x="976" y="80"/>
                    </a:lnTo>
                    <a:lnTo>
                      <a:pt x="987" y="75"/>
                    </a:lnTo>
                    <a:lnTo>
                      <a:pt x="995" y="71"/>
                    </a:lnTo>
                    <a:lnTo>
                      <a:pt x="1004" y="68"/>
                    </a:lnTo>
                    <a:lnTo>
                      <a:pt x="1013" y="65"/>
                    </a:lnTo>
                    <a:lnTo>
                      <a:pt x="1024" y="62"/>
                    </a:lnTo>
                    <a:lnTo>
                      <a:pt x="1033" y="59"/>
                    </a:lnTo>
                    <a:lnTo>
                      <a:pt x="1041" y="56"/>
                    </a:lnTo>
                    <a:lnTo>
                      <a:pt x="1050" y="53"/>
                    </a:lnTo>
                    <a:lnTo>
                      <a:pt x="1059" y="52"/>
                    </a:lnTo>
                    <a:lnTo>
                      <a:pt x="1070" y="49"/>
                    </a:lnTo>
                    <a:lnTo>
                      <a:pt x="1079" y="46"/>
                    </a:lnTo>
                    <a:lnTo>
                      <a:pt x="1087" y="43"/>
                    </a:lnTo>
                    <a:lnTo>
                      <a:pt x="1096" y="41"/>
                    </a:lnTo>
                    <a:lnTo>
                      <a:pt x="1105" y="38"/>
                    </a:lnTo>
                    <a:lnTo>
                      <a:pt x="1114" y="37"/>
                    </a:lnTo>
                    <a:lnTo>
                      <a:pt x="1123" y="34"/>
                    </a:lnTo>
                    <a:lnTo>
                      <a:pt x="1132" y="32"/>
                    </a:lnTo>
                    <a:lnTo>
                      <a:pt x="1139" y="31"/>
                    </a:lnTo>
                    <a:lnTo>
                      <a:pt x="1150" y="29"/>
                    </a:lnTo>
                    <a:lnTo>
                      <a:pt x="1157" y="26"/>
                    </a:lnTo>
                    <a:lnTo>
                      <a:pt x="1166" y="25"/>
                    </a:lnTo>
                    <a:lnTo>
                      <a:pt x="1173" y="23"/>
                    </a:lnTo>
                    <a:lnTo>
                      <a:pt x="1182" y="22"/>
                    </a:lnTo>
                    <a:lnTo>
                      <a:pt x="1190" y="20"/>
                    </a:lnTo>
                    <a:lnTo>
                      <a:pt x="1199" y="19"/>
                    </a:lnTo>
                    <a:lnTo>
                      <a:pt x="1206" y="17"/>
                    </a:lnTo>
                    <a:lnTo>
                      <a:pt x="1215" y="16"/>
                    </a:lnTo>
                    <a:lnTo>
                      <a:pt x="1222" y="15"/>
                    </a:lnTo>
                    <a:lnTo>
                      <a:pt x="1230" y="15"/>
                    </a:lnTo>
                    <a:lnTo>
                      <a:pt x="1237" y="13"/>
                    </a:lnTo>
                    <a:lnTo>
                      <a:pt x="1245" y="13"/>
                    </a:lnTo>
                    <a:lnTo>
                      <a:pt x="1251" y="12"/>
                    </a:lnTo>
                    <a:lnTo>
                      <a:pt x="1258" y="10"/>
                    </a:lnTo>
                    <a:lnTo>
                      <a:pt x="1264" y="9"/>
                    </a:lnTo>
                    <a:lnTo>
                      <a:pt x="1271" y="9"/>
                    </a:lnTo>
                    <a:lnTo>
                      <a:pt x="1277" y="7"/>
                    </a:lnTo>
                    <a:lnTo>
                      <a:pt x="1283" y="7"/>
                    </a:lnTo>
                    <a:lnTo>
                      <a:pt x="1289" y="6"/>
                    </a:lnTo>
                    <a:lnTo>
                      <a:pt x="1297" y="6"/>
                    </a:lnTo>
                    <a:lnTo>
                      <a:pt x="1301" y="4"/>
                    </a:lnTo>
                    <a:lnTo>
                      <a:pt x="1307" y="4"/>
                    </a:lnTo>
                    <a:lnTo>
                      <a:pt x="1313" y="3"/>
                    </a:lnTo>
                    <a:lnTo>
                      <a:pt x="1319" y="3"/>
                    </a:lnTo>
                    <a:lnTo>
                      <a:pt x="1323" y="3"/>
                    </a:lnTo>
                    <a:lnTo>
                      <a:pt x="1328" y="3"/>
                    </a:lnTo>
                    <a:lnTo>
                      <a:pt x="1332" y="3"/>
                    </a:lnTo>
                    <a:lnTo>
                      <a:pt x="1337" y="3"/>
                    </a:lnTo>
                    <a:lnTo>
                      <a:pt x="1341" y="1"/>
                    </a:lnTo>
                    <a:lnTo>
                      <a:pt x="1344" y="1"/>
                    </a:lnTo>
                    <a:lnTo>
                      <a:pt x="1349" y="0"/>
                    </a:lnTo>
                    <a:lnTo>
                      <a:pt x="1352" y="0"/>
                    </a:lnTo>
                    <a:lnTo>
                      <a:pt x="1357" y="0"/>
                    </a:lnTo>
                    <a:lnTo>
                      <a:pt x="1363" y="0"/>
                    </a:lnTo>
                    <a:lnTo>
                      <a:pt x="1366" y="0"/>
                    </a:lnTo>
                    <a:lnTo>
                      <a:pt x="1369" y="0"/>
                    </a:lnTo>
                    <a:lnTo>
                      <a:pt x="1371" y="0"/>
                    </a:lnTo>
                    <a:lnTo>
                      <a:pt x="1372" y="0"/>
                    </a:lnTo>
                    <a:lnTo>
                      <a:pt x="1371" y="0"/>
                    </a:lnTo>
                    <a:lnTo>
                      <a:pt x="1369" y="0"/>
                    </a:lnTo>
                    <a:lnTo>
                      <a:pt x="1366" y="1"/>
                    </a:lnTo>
                    <a:lnTo>
                      <a:pt x="1363" y="3"/>
                    </a:lnTo>
                    <a:lnTo>
                      <a:pt x="1357" y="3"/>
                    </a:lnTo>
                    <a:lnTo>
                      <a:pt x="1353" y="4"/>
                    </a:lnTo>
                    <a:lnTo>
                      <a:pt x="1349" y="4"/>
                    </a:lnTo>
                    <a:lnTo>
                      <a:pt x="1346" y="6"/>
                    </a:lnTo>
                    <a:lnTo>
                      <a:pt x="1343" y="7"/>
                    </a:lnTo>
                    <a:lnTo>
                      <a:pt x="1340" y="7"/>
                    </a:lnTo>
                    <a:lnTo>
                      <a:pt x="1335" y="9"/>
                    </a:lnTo>
                    <a:lnTo>
                      <a:pt x="1331" y="10"/>
                    </a:lnTo>
                    <a:lnTo>
                      <a:pt x="1326" y="10"/>
                    </a:lnTo>
                    <a:lnTo>
                      <a:pt x="1322" y="12"/>
                    </a:lnTo>
                    <a:lnTo>
                      <a:pt x="1316" y="13"/>
                    </a:lnTo>
                    <a:lnTo>
                      <a:pt x="1311" y="15"/>
                    </a:lnTo>
                    <a:lnTo>
                      <a:pt x="1307" y="16"/>
                    </a:lnTo>
                    <a:lnTo>
                      <a:pt x="1301" y="17"/>
                    </a:lnTo>
                    <a:lnTo>
                      <a:pt x="1295" y="19"/>
                    </a:lnTo>
                    <a:lnTo>
                      <a:pt x="1289" y="20"/>
                    </a:lnTo>
                    <a:lnTo>
                      <a:pt x="1283" y="22"/>
                    </a:lnTo>
                    <a:lnTo>
                      <a:pt x="1277" y="23"/>
                    </a:lnTo>
                    <a:lnTo>
                      <a:pt x="1271" y="26"/>
                    </a:lnTo>
                    <a:lnTo>
                      <a:pt x="1265" y="28"/>
                    </a:lnTo>
                    <a:lnTo>
                      <a:pt x="1260" y="29"/>
                    </a:lnTo>
                    <a:lnTo>
                      <a:pt x="1254" y="32"/>
                    </a:lnTo>
                    <a:lnTo>
                      <a:pt x="1246" y="34"/>
                    </a:lnTo>
                    <a:lnTo>
                      <a:pt x="1239" y="35"/>
                    </a:lnTo>
                    <a:lnTo>
                      <a:pt x="1231" y="37"/>
                    </a:lnTo>
                    <a:lnTo>
                      <a:pt x="1225" y="40"/>
                    </a:lnTo>
                    <a:lnTo>
                      <a:pt x="1218" y="41"/>
                    </a:lnTo>
                    <a:lnTo>
                      <a:pt x="1211" y="44"/>
                    </a:lnTo>
                    <a:lnTo>
                      <a:pt x="1203" y="47"/>
                    </a:lnTo>
                    <a:lnTo>
                      <a:pt x="1196" y="49"/>
                    </a:lnTo>
                    <a:lnTo>
                      <a:pt x="1187" y="52"/>
                    </a:lnTo>
                    <a:lnTo>
                      <a:pt x="1179" y="55"/>
                    </a:lnTo>
                    <a:lnTo>
                      <a:pt x="1171" y="56"/>
                    </a:lnTo>
                    <a:lnTo>
                      <a:pt x="1163" y="61"/>
                    </a:lnTo>
                    <a:lnTo>
                      <a:pt x="1156" y="62"/>
                    </a:lnTo>
                    <a:lnTo>
                      <a:pt x="1147" y="65"/>
                    </a:lnTo>
                    <a:lnTo>
                      <a:pt x="1139" y="68"/>
                    </a:lnTo>
                    <a:lnTo>
                      <a:pt x="1132" y="71"/>
                    </a:lnTo>
                    <a:lnTo>
                      <a:pt x="1123" y="74"/>
                    </a:lnTo>
                    <a:lnTo>
                      <a:pt x="1114" y="77"/>
                    </a:lnTo>
                    <a:lnTo>
                      <a:pt x="1105" y="80"/>
                    </a:lnTo>
                    <a:lnTo>
                      <a:pt x="1098" y="84"/>
                    </a:lnTo>
                    <a:lnTo>
                      <a:pt x="1089" y="87"/>
                    </a:lnTo>
                    <a:lnTo>
                      <a:pt x="1080" y="90"/>
                    </a:lnTo>
                    <a:lnTo>
                      <a:pt x="1071" y="95"/>
                    </a:lnTo>
                    <a:lnTo>
                      <a:pt x="1064" y="98"/>
                    </a:lnTo>
                    <a:lnTo>
                      <a:pt x="1055" y="102"/>
                    </a:lnTo>
                    <a:lnTo>
                      <a:pt x="1046" y="105"/>
                    </a:lnTo>
                    <a:lnTo>
                      <a:pt x="1037" y="109"/>
                    </a:lnTo>
                    <a:lnTo>
                      <a:pt x="1028" y="112"/>
                    </a:lnTo>
                    <a:lnTo>
                      <a:pt x="1019" y="117"/>
                    </a:lnTo>
                    <a:lnTo>
                      <a:pt x="1010" y="120"/>
                    </a:lnTo>
                    <a:lnTo>
                      <a:pt x="1001" y="124"/>
                    </a:lnTo>
                    <a:lnTo>
                      <a:pt x="994" y="129"/>
                    </a:lnTo>
                    <a:lnTo>
                      <a:pt x="984" y="132"/>
                    </a:lnTo>
                    <a:lnTo>
                      <a:pt x="975" y="136"/>
                    </a:lnTo>
                    <a:lnTo>
                      <a:pt x="966" y="141"/>
                    </a:lnTo>
                    <a:lnTo>
                      <a:pt x="957" y="145"/>
                    </a:lnTo>
                    <a:lnTo>
                      <a:pt x="948" y="150"/>
                    </a:lnTo>
                    <a:lnTo>
                      <a:pt x="939" y="154"/>
                    </a:lnTo>
                    <a:lnTo>
                      <a:pt x="932" y="158"/>
                    </a:lnTo>
                    <a:lnTo>
                      <a:pt x="923" y="163"/>
                    </a:lnTo>
                    <a:lnTo>
                      <a:pt x="912" y="167"/>
                    </a:lnTo>
                    <a:lnTo>
                      <a:pt x="905" y="172"/>
                    </a:lnTo>
                    <a:lnTo>
                      <a:pt x="896" y="176"/>
                    </a:lnTo>
                    <a:lnTo>
                      <a:pt x="887" y="181"/>
                    </a:lnTo>
                    <a:lnTo>
                      <a:pt x="878" y="185"/>
                    </a:lnTo>
                    <a:lnTo>
                      <a:pt x="871" y="191"/>
                    </a:lnTo>
                    <a:lnTo>
                      <a:pt x="862" y="196"/>
                    </a:lnTo>
                    <a:lnTo>
                      <a:pt x="854" y="200"/>
                    </a:lnTo>
                    <a:lnTo>
                      <a:pt x="846" y="203"/>
                    </a:lnTo>
                    <a:lnTo>
                      <a:pt x="838" y="209"/>
                    </a:lnTo>
                    <a:lnTo>
                      <a:pt x="829" y="213"/>
                    </a:lnTo>
                    <a:lnTo>
                      <a:pt x="822" y="218"/>
                    </a:lnTo>
                    <a:lnTo>
                      <a:pt x="814" y="222"/>
                    </a:lnTo>
                    <a:lnTo>
                      <a:pt x="806" y="227"/>
                    </a:lnTo>
                    <a:lnTo>
                      <a:pt x="798" y="231"/>
                    </a:lnTo>
                    <a:lnTo>
                      <a:pt x="791" y="236"/>
                    </a:lnTo>
                    <a:lnTo>
                      <a:pt x="783" y="240"/>
                    </a:lnTo>
                    <a:lnTo>
                      <a:pt x="776" y="245"/>
                    </a:lnTo>
                    <a:lnTo>
                      <a:pt x="768" y="249"/>
                    </a:lnTo>
                    <a:lnTo>
                      <a:pt x="762" y="253"/>
                    </a:lnTo>
                    <a:lnTo>
                      <a:pt x="755" y="258"/>
                    </a:lnTo>
                    <a:lnTo>
                      <a:pt x="748" y="262"/>
                    </a:lnTo>
                    <a:lnTo>
                      <a:pt x="742" y="267"/>
                    </a:lnTo>
                    <a:lnTo>
                      <a:pt x="736" y="271"/>
                    </a:lnTo>
                    <a:lnTo>
                      <a:pt x="728" y="274"/>
                    </a:lnTo>
                    <a:lnTo>
                      <a:pt x="721" y="279"/>
                    </a:lnTo>
                    <a:lnTo>
                      <a:pt x="715" y="282"/>
                    </a:lnTo>
                    <a:lnTo>
                      <a:pt x="709" y="286"/>
                    </a:lnTo>
                    <a:lnTo>
                      <a:pt x="703" y="291"/>
                    </a:lnTo>
                    <a:lnTo>
                      <a:pt x="697" y="293"/>
                    </a:lnTo>
                    <a:lnTo>
                      <a:pt x="691" y="298"/>
                    </a:lnTo>
                    <a:lnTo>
                      <a:pt x="687" y="301"/>
                    </a:lnTo>
                    <a:lnTo>
                      <a:pt x="681" y="304"/>
                    </a:lnTo>
                    <a:lnTo>
                      <a:pt x="676" y="308"/>
                    </a:lnTo>
                    <a:lnTo>
                      <a:pt x="672" y="311"/>
                    </a:lnTo>
                    <a:lnTo>
                      <a:pt x="668" y="314"/>
                    </a:lnTo>
                    <a:lnTo>
                      <a:pt x="662" y="317"/>
                    </a:lnTo>
                    <a:lnTo>
                      <a:pt x="659" y="320"/>
                    </a:lnTo>
                    <a:lnTo>
                      <a:pt x="654" y="323"/>
                    </a:lnTo>
                    <a:lnTo>
                      <a:pt x="651" y="326"/>
                    </a:lnTo>
                    <a:lnTo>
                      <a:pt x="647" y="328"/>
                    </a:lnTo>
                    <a:lnTo>
                      <a:pt x="642" y="331"/>
                    </a:lnTo>
                    <a:lnTo>
                      <a:pt x="639" y="332"/>
                    </a:lnTo>
                    <a:lnTo>
                      <a:pt x="636" y="335"/>
                    </a:lnTo>
                    <a:lnTo>
                      <a:pt x="632" y="338"/>
                    </a:lnTo>
                    <a:lnTo>
                      <a:pt x="627" y="342"/>
                    </a:lnTo>
                    <a:lnTo>
                      <a:pt x="623" y="344"/>
                    </a:lnTo>
                    <a:lnTo>
                      <a:pt x="622" y="347"/>
                    </a:lnTo>
                    <a:lnTo>
                      <a:pt x="620" y="348"/>
                    </a:lnTo>
                    <a:lnTo>
                      <a:pt x="620" y="348"/>
                    </a:lnTo>
                    <a:lnTo>
                      <a:pt x="619" y="348"/>
                    </a:lnTo>
                    <a:lnTo>
                      <a:pt x="617" y="350"/>
                    </a:lnTo>
                    <a:lnTo>
                      <a:pt x="614" y="350"/>
                    </a:lnTo>
                    <a:lnTo>
                      <a:pt x="611" y="351"/>
                    </a:lnTo>
                    <a:lnTo>
                      <a:pt x="605" y="353"/>
                    </a:lnTo>
                    <a:lnTo>
                      <a:pt x="601" y="356"/>
                    </a:lnTo>
                    <a:lnTo>
                      <a:pt x="598" y="356"/>
                    </a:lnTo>
                    <a:lnTo>
                      <a:pt x="593" y="357"/>
                    </a:lnTo>
                    <a:lnTo>
                      <a:pt x="590" y="359"/>
                    </a:lnTo>
                    <a:lnTo>
                      <a:pt x="587" y="362"/>
                    </a:lnTo>
                    <a:lnTo>
                      <a:pt x="583" y="362"/>
                    </a:lnTo>
                    <a:lnTo>
                      <a:pt x="578" y="365"/>
                    </a:lnTo>
                    <a:lnTo>
                      <a:pt x="576" y="366"/>
                    </a:lnTo>
                    <a:lnTo>
                      <a:pt x="571" y="368"/>
                    </a:lnTo>
                    <a:lnTo>
                      <a:pt x="565" y="369"/>
                    </a:lnTo>
                    <a:lnTo>
                      <a:pt x="561" y="372"/>
                    </a:lnTo>
                    <a:lnTo>
                      <a:pt x="556" y="374"/>
                    </a:lnTo>
                    <a:lnTo>
                      <a:pt x="552" y="377"/>
                    </a:lnTo>
                    <a:lnTo>
                      <a:pt x="546" y="378"/>
                    </a:lnTo>
                    <a:lnTo>
                      <a:pt x="540" y="381"/>
                    </a:lnTo>
                    <a:lnTo>
                      <a:pt x="534" y="384"/>
                    </a:lnTo>
                    <a:lnTo>
                      <a:pt x="530" y="387"/>
                    </a:lnTo>
                    <a:lnTo>
                      <a:pt x="524" y="388"/>
                    </a:lnTo>
                    <a:lnTo>
                      <a:pt x="518" y="391"/>
                    </a:lnTo>
                    <a:lnTo>
                      <a:pt x="512" y="394"/>
                    </a:lnTo>
                    <a:lnTo>
                      <a:pt x="506" y="399"/>
                    </a:lnTo>
                    <a:lnTo>
                      <a:pt x="500" y="400"/>
                    </a:lnTo>
                    <a:lnTo>
                      <a:pt x="494" y="403"/>
                    </a:lnTo>
                    <a:lnTo>
                      <a:pt x="486" y="406"/>
                    </a:lnTo>
                    <a:lnTo>
                      <a:pt x="481" y="411"/>
                    </a:lnTo>
                    <a:lnTo>
                      <a:pt x="473" y="414"/>
                    </a:lnTo>
                    <a:lnTo>
                      <a:pt x="467" y="417"/>
                    </a:lnTo>
                    <a:lnTo>
                      <a:pt x="460" y="421"/>
                    </a:lnTo>
                    <a:lnTo>
                      <a:pt x="452" y="424"/>
                    </a:lnTo>
                    <a:lnTo>
                      <a:pt x="445" y="429"/>
                    </a:lnTo>
                    <a:lnTo>
                      <a:pt x="439" y="431"/>
                    </a:lnTo>
                    <a:lnTo>
                      <a:pt x="432" y="436"/>
                    </a:lnTo>
                    <a:lnTo>
                      <a:pt x="424" y="439"/>
                    </a:lnTo>
                    <a:lnTo>
                      <a:pt x="417" y="443"/>
                    </a:lnTo>
                    <a:lnTo>
                      <a:pt x="409" y="446"/>
                    </a:lnTo>
                    <a:lnTo>
                      <a:pt x="402" y="451"/>
                    </a:lnTo>
                    <a:lnTo>
                      <a:pt x="396" y="455"/>
                    </a:lnTo>
                    <a:lnTo>
                      <a:pt x="389" y="460"/>
                    </a:lnTo>
                    <a:lnTo>
                      <a:pt x="381" y="463"/>
                    </a:lnTo>
                    <a:lnTo>
                      <a:pt x="374" y="467"/>
                    </a:lnTo>
                    <a:lnTo>
                      <a:pt x="366" y="472"/>
                    </a:lnTo>
                    <a:lnTo>
                      <a:pt x="359" y="476"/>
                    </a:lnTo>
                    <a:lnTo>
                      <a:pt x="351" y="480"/>
                    </a:lnTo>
                    <a:lnTo>
                      <a:pt x="344" y="485"/>
                    </a:lnTo>
                    <a:lnTo>
                      <a:pt x="337" y="489"/>
                    </a:lnTo>
                    <a:lnTo>
                      <a:pt x="328" y="494"/>
                    </a:lnTo>
                    <a:lnTo>
                      <a:pt x="320" y="498"/>
                    </a:lnTo>
                    <a:lnTo>
                      <a:pt x="313" y="503"/>
                    </a:lnTo>
                    <a:lnTo>
                      <a:pt x="305" y="507"/>
                    </a:lnTo>
                    <a:lnTo>
                      <a:pt x="298" y="513"/>
                    </a:lnTo>
                    <a:lnTo>
                      <a:pt x="291" y="518"/>
                    </a:lnTo>
                    <a:lnTo>
                      <a:pt x="283" y="522"/>
                    </a:lnTo>
                    <a:lnTo>
                      <a:pt x="277" y="528"/>
                    </a:lnTo>
                    <a:lnTo>
                      <a:pt x="270" y="532"/>
                    </a:lnTo>
                    <a:lnTo>
                      <a:pt x="262" y="538"/>
                    </a:lnTo>
                    <a:lnTo>
                      <a:pt x="255" y="543"/>
                    </a:lnTo>
                    <a:lnTo>
                      <a:pt x="248" y="549"/>
                    </a:lnTo>
                    <a:lnTo>
                      <a:pt x="240" y="553"/>
                    </a:lnTo>
                    <a:lnTo>
                      <a:pt x="233" y="558"/>
                    </a:lnTo>
                    <a:lnTo>
                      <a:pt x="227" y="564"/>
                    </a:lnTo>
                    <a:lnTo>
                      <a:pt x="219" y="569"/>
                    </a:lnTo>
                    <a:lnTo>
                      <a:pt x="212" y="574"/>
                    </a:lnTo>
                    <a:lnTo>
                      <a:pt x="206" y="580"/>
                    </a:lnTo>
                    <a:lnTo>
                      <a:pt x="199" y="584"/>
                    </a:lnTo>
                    <a:lnTo>
                      <a:pt x="193" y="590"/>
                    </a:lnTo>
                    <a:lnTo>
                      <a:pt x="187" y="595"/>
                    </a:lnTo>
                    <a:lnTo>
                      <a:pt x="179" y="601"/>
                    </a:lnTo>
                    <a:lnTo>
                      <a:pt x="173" y="605"/>
                    </a:lnTo>
                    <a:lnTo>
                      <a:pt x="167" y="611"/>
                    </a:lnTo>
                    <a:lnTo>
                      <a:pt x="162" y="617"/>
                    </a:lnTo>
                    <a:lnTo>
                      <a:pt x="154" y="621"/>
                    </a:lnTo>
                    <a:lnTo>
                      <a:pt x="148" y="626"/>
                    </a:lnTo>
                    <a:lnTo>
                      <a:pt x="142" y="632"/>
                    </a:lnTo>
                    <a:lnTo>
                      <a:pt x="138" y="636"/>
                    </a:lnTo>
                    <a:lnTo>
                      <a:pt x="132" y="642"/>
                    </a:lnTo>
                    <a:lnTo>
                      <a:pt x="126" y="647"/>
                    </a:lnTo>
                    <a:lnTo>
                      <a:pt x="120" y="653"/>
                    </a:lnTo>
                    <a:lnTo>
                      <a:pt x="116" y="657"/>
                    </a:lnTo>
                    <a:lnTo>
                      <a:pt x="110" y="663"/>
                    </a:lnTo>
                    <a:lnTo>
                      <a:pt x="105" y="666"/>
                    </a:lnTo>
                    <a:lnTo>
                      <a:pt x="99" y="672"/>
                    </a:lnTo>
                    <a:lnTo>
                      <a:pt x="93" y="676"/>
                    </a:lnTo>
                    <a:lnTo>
                      <a:pt x="90" y="681"/>
                    </a:lnTo>
                    <a:lnTo>
                      <a:pt x="84" y="687"/>
                    </a:lnTo>
                    <a:lnTo>
                      <a:pt x="80" y="691"/>
                    </a:lnTo>
                    <a:lnTo>
                      <a:pt x="75" y="696"/>
                    </a:lnTo>
                    <a:lnTo>
                      <a:pt x="71" y="700"/>
                    </a:lnTo>
                    <a:lnTo>
                      <a:pt x="65" y="705"/>
                    </a:lnTo>
                    <a:lnTo>
                      <a:pt x="62" y="707"/>
                    </a:lnTo>
                    <a:lnTo>
                      <a:pt x="58" y="712"/>
                    </a:lnTo>
                    <a:lnTo>
                      <a:pt x="53" y="716"/>
                    </a:lnTo>
                    <a:lnTo>
                      <a:pt x="50" y="719"/>
                    </a:lnTo>
                    <a:lnTo>
                      <a:pt x="46" y="724"/>
                    </a:lnTo>
                    <a:lnTo>
                      <a:pt x="43" y="727"/>
                    </a:lnTo>
                    <a:lnTo>
                      <a:pt x="38" y="731"/>
                    </a:lnTo>
                    <a:lnTo>
                      <a:pt x="35" y="734"/>
                    </a:lnTo>
                    <a:lnTo>
                      <a:pt x="32" y="737"/>
                    </a:lnTo>
                    <a:lnTo>
                      <a:pt x="27" y="745"/>
                    </a:lnTo>
                    <a:lnTo>
                      <a:pt x="21" y="751"/>
                    </a:lnTo>
                    <a:lnTo>
                      <a:pt x="15" y="755"/>
                    </a:lnTo>
                    <a:lnTo>
                      <a:pt x="12" y="759"/>
                    </a:lnTo>
                    <a:lnTo>
                      <a:pt x="7" y="764"/>
                    </a:lnTo>
                    <a:lnTo>
                      <a:pt x="4" y="768"/>
                    </a:lnTo>
                    <a:lnTo>
                      <a:pt x="1" y="773"/>
                    </a:lnTo>
                    <a:lnTo>
                      <a:pt x="0" y="774"/>
                    </a:lnTo>
                    <a:lnTo>
                      <a:pt x="0" y="77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3948120" y="1757520"/>
                <a:ext cx="444240" cy="307800"/>
              </a:xfrm>
              <a:custGeom>
                <a:avLst/>
                <a:gdLst/>
                <a:ahLst/>
                <a:rect l="l" t="t" r="r" b="b"/>
                <a:pathLst>
                  <a:path w="561" h="387">
                    <a:moveTo>
                      <a:pt x="557" y="0"/>
                    </a:moveTo>
                    <a:lnTo>
                      <a:pt x="555" y="0"/>
                    </a:lnTo>
                    <a:lnTo>
                      <a:pt x="555" y="1"/>
                    </a:lnTo>
                    <a:lnTo>
                      <a:pt x="555" y="3"/>
                    </a:lnTo>
                    <a:lnTo>
                      <a:pt x="554" y="7"/>
                    </a:lnTo>
                    <a:lnTo>
                      <a:pt x="552" y="10"/>
                    </a:lnTo>
                    <a:lnTo>
                      <a:pt x="551" y="16"/>
                    </a:lnTo>
                    <a:lnTo>
                      <a:pt x="549" y="19"/>
                    </a:lnTo>
                    <a:lnTo>
                      <a:pt x="549" y="22"/>
                    </a:lnTo>
                    <a:lnTo>
                      <a:pt x="548" y="27"/>
                    </a:lnTo>
                    <a:lnTo>
                      <a:pt x="546" y="30"/>
                    </a:lnTo>
                    <a:lnTo>
                      <a:pt x="544" y="33"/>
                    </a:lnTo>
                    <a:lnTo>
                      <a:pt x="542" y="36"/>
                    </a:lnTo>
                    <a:lnTo>
                      <a:pt x="541" y="40"/>
                    </a:lnTo>
                    <a:lnTo>
                      <a:pt x="538" y="43"/>
                    </a:lnTo>
                    <a:lnTo>
                      <a:pt x="535" y="47"/>
                    </a:lnTo>
                    <a:lnTo>
                      <a:pt x="533" y="52"/>
                    </a:lnTo>
                    <a:lnTo>
                      <a:pt x="530" y="55"/>
                    </a:lnTo>
                    <a:lnTo>
                      <a:pt x="527" y="59"/>
                    </a:lnTo>
                    <a:lnTo>
                      <a:pt x="523" y="64"/>
                    </a:lnTo>
                    <a:lnTo>
                      <a:pt x="520" y="67"/>
                    </a:lnTo>
                    <a:lnTo>
                      <a:pt x="515" y="71"/>
                    </a:lnTo>
                    <a:lnTo>
                      <a:pt x="512" y="76"/>
                    </a:lnTo>
                    <a:lnTo>
                      <a:pt x="506" y="79"/>
                    </a:lnTo>
                    <a:lnTo>
                      <a:pt x="502" y="83"/>
                    </a:lnTo>
                    <a:lnTo>
                      <a:pt x="496" y="86"/>
                    </a:lnTo>
                    <a:lnTo>
                      <a:pt x="492" y="90"/>
                    </a:lnTo>
                    <a:lnTo>
                      <a:pt x="486" y="93"/>
                    </a:lnTo>
                    <a:lnTo>
                      <a:pt x="478" y="98"/>
                    </a:lnTo>
                    <a:lnTo>
                      <a:pt x="472" y="101"/>
                    </a:lnTo>
                    <a:lnTo>
                      <a:pt x="466" y="105"/>
                    </a:lnTo>
                    <a:lnTo>
                      <a:pt x="462" y="105"/>
                    </a:lnTo>
                    <a:lnTo>
                      <a:pt x="459" y="108"/>
                    </a:lnTo>
                    <a:lnTo>
                      <a:pt x="454" y="108"/>
                    </a:lnTo>
                    <a:lnTo>
                      <a:pt x="452" y="111"/>
                    </a:lnTo>
                    <a:lnTo>
                      <a:pt x="449" y="113"/>
                    </a:lnTo>
                    <a:lnTo>
                      <a:pt x="444" y="114"/>
                    </a:lnTo>
                    <a:lnTo>
                      <a:pt x="441" y="117"/>
                    </a:lnTo>
                    <a:lnTo>
                      <a:pt x="437" y="119"/>
                    </a:lnTo>
                    <a:lnTo>
                      <a:pt x="432" y="120"/>
                    </a:lnTo>
                    <a:lnTo>
                      <a:pt x="428" y="122"/>
                    </a:lnTo>
                    <a:lnTo>
                      <a:pt x="423" y="123"/>
                    </a:lnTo>
                    <a:lnTo>
                      <a:pt x="420" y="125"/>
                    </a:lnTo>
                    <a:lnTo>
                      <a:pt x="416" y="126"/>
                    </a:lnTo>
                    <a:lnTo>
                      <a:pt x="411" y="128"/>
                    </a:lnTo>
                    <a:lnTo>
                      <a:pt x="407" y="129"/>
                    </a:lnTo>
                    <a:lnTo>
                      <a:pt x="404" y="132"/>
                    </a:lnTo>
                    <a:lnTo>
                      <a:pt x="398" y="132"/>
                    </a:lnTo>
                    <a:lnTo>
                      <a:pt x="394" y="135"/>
                    </a:lnTo>
                    <a:lnTo>
                      <a:pt x="389" y="136"/>
                    </a:lnTo>
                    <a:lnTo>
                      <a:pt x="385" y="138"/>
                    </a:lnTo>
                    <a:lnTo>
                      <a:pt x="380" y="139"/>
                    </a:lnTo>
                    <a:lnTo>
                      <a:pt x="376" y="142"/>
                    </a:lnTo>
                    <a:lnTo>
                      <a:pt x="371" y="144"/>
                    </a:lnTo>
                    <a:lnTo>
                      <a:pt x="367" y="145"/>
                    </a:lnTo>
                    <a:lnTo>
                      <a:pt x="362" y="147"/>
                    </a:lnTo>
                    <a:lnTo>
                      <a:pt x="358" y="148"/>
                    </a:lnTo>
                    <a:lnTo>
                      <a:pt x="352" y="150"/>
                    </a:lnTo>
                    <a:lnTo>
                      <a:pt x="348" y="153"/>
                    </a:lnTo>
                    <a:lnTo>
                      <a:pt x="343" y="154"/>
                    </a:lnTo>
                    <a:lnTo>
                      <a:pt x="337" y="156"/>
                    </a:lnTo>
                    <a:lnTo>
                      <a:pt x="333" y="157"/>
                    </a:lnTo>
                    <a:lnTo>
                      <a:pt x="328" y="160"/>
                    </a:lnTo>
                    <a:lnTo>
                      <a:pt x="322" y="162"/>
                    </a:lnTo>
                    <a:lnTo>
                      <a:pt x="318" y="165"/>
                    </a:lnTo>
                    <a:lnTo>
                      <a:pt x="314" y="166"/>
                    </a:lnTo>
                    <a:lnTo>
                      <a:pt x="309" y="169"/>
                    </a:lnTo>
                    <a:lnTo>
                      <a:pt x="303" y="171"/>
                    </a:lnTo>
                    <a:lnTo>
                      <a:pt x="299" y="172"/>
                    </a:lnTo>
                    <a:lnTo>
                      <a:pt x="293" y="175"/>
                    </a:lnTo>
                    <a:lnTo>
                      <a:pt x="288" y="178"/>
                    </a:lnTo>
                    <a:lnTo>
                      <a:pt x="284" y="180"/>
                    </a:lnTo>
                    <a:lnTo>
                      <a:pt x="278" y="181"/>
                    </a:lnTo>
                    <a:lnTo>
                      <a:pt x="273" y="184"/>
                    </a:lnTo>
                    <a:lnTo>
                      <a:pt x="269" y="187"/>
                    </a:lnTo>
                    <a:lnTo>
                      <a:pt x="263" y="188"/>
                    </a:lnTo>
                    <a:lnTo>
                      <a:pt x="259" y="191"/>
                    </a:lnTo>
                    <a:lnTo>
                      <a:pt x="253" y="194"/>
                    </a:lnTo>
                    <a:lnTo>
                      <a:pt x="248" y="197"/>
                    </a:lnTo>
                    <a:lnTo>
                      <a:pt x="242" y="199"/>
                    </a:lnTo>
                    <a:lnTo>
                      <a:pt x="238" y="202"/>
                    </a:lnTo>
                    <a:lnTo>
                      <a:pt x="232" y="205"/>
                    </a:lnTo>
                    <a:lnTo>
                      <a:pt x="227" y="208"/>
                    </a:lnTo>
                    <a:lnTo>
                      <a:pt x="222" y="211"/>
                    </a:lnTo>
                    <a:lnTo>
                      <a:pt x="217" y="214"/>
                    </a:lnTo>
                    <a:lnTo>
                      <a:pt x="213" y="217"/>
                    </a:lnTo>
                    <a:lnTo>
                      <a:pt x="208" y="220"/>
                    </a:lnTo>
                    <a:lnTo>
                      <a:pt x="202" y="223"/>
                    </a:lnTo>
                    <a:lnTo>
                      <a:pt x="198" y="226"/>
                    </a:lnTo>
                    <a:lnTo>
                      <a:pt x="192" y="228"/>
                    </a:lnTo>
                    <a:lnTo>
                      <a:pt x="187" y="231"/>
                    </a:lnTo>
                    <a:lnTo>
                      <a:pt x="181" y="234"/>
                    </a:lnTo>
                    <a:lnTo>
                      <a:pt x="177" y="237"/>
                    </a:lnTo>
                    <a:lnTo>
                      <a:pt x="173" y="240"/>
                    </a:lnTo>
                    <a:lnTo>
                      <a:pt x="168" y="245"/>
                    </a:lnTo>
                    <a:lnTo>
                      <a:pt x="162" y="248"/>
                    </a:lnTo>
                    <a:lnTo>
                      <a:pt x="158" y="252"/>
                    </a:lnTo>
                    <a:lnTo>
                      <a:pt x="152" y="255"/>
                    </a:lnTo>
                    <a:lnTo>
                      <a:pt x="147" y="258"/>
                    </a:lnTo>
                    <a:lnTo>
                      <a:pt x="143" y="261"/>
                    </a:lnTo>
                    <a:lnTo>
                      <a:pt x="138" y="266"/>
                    </a:lnTo>
                    <a:lnTo>
                      <a:pt x="134" y="269"/>
                    </a:lnTo>
                    <a:lnTo>
                      <a:pt x="130" y="273"/>
                    </a:lnTo>
                    <a:lnTo>
                      <a:pt x="124" y="276"/>
                    </a:lnTo>
                    <a:lnTo>
                      <a:pt x="121" y="279"/>
                    </a:lnTo>
                    <a:lnTo>
                      <a:pt x="115" y="282"/>
                    </a:lnTo>
                    <a:lnTo>
                      <a:pt x="110" y="286"/>
                    </a:lnTo>
                    <a:lnTo>
                      <a:pt x="106" y="289"/>
                    </a:lnTo>
                    <a:lnTo>
                      <a:pt x="101" y="294"/>
                    </a:lnTo>
                    <a:lnTo>
                      <a:pt x="97" y="297"/>
                    </a:lnTo>
                    <a:lnTo>
                      <a:pt x="94" y="300"/>
                    </a:lnTo>
                    <a:lnTo>
                      <a:pt x="89" y="303"/>
                    </a:lnTo>
                    <a:lnTo>
                      <a:pt x="85" y="307"/>
                    </a:lnTo>
                    <a:lnTo>
                      <a:pt x="81" y="310"/>
                    </a:lnTo>
                    <a:lnTo>
                      <a:pt x="78" y="313"/>
                    </a:lnTo>
                    <a:lnTo>
                      <a:pt x="73" y="316"/>
                    </a:lnTo>
                    <a:lnTo>
                      <a:pt x="70" y="320"/>
                    </a:lnTo>
                    <a:lnTo>
                      <a:pt x="66" y="323"/>
                    </a:lnTo>
                    <a:lnTo>
                      <a:pt x="63" y="328"/>
                    </a:lnTo>
                    <a:lnTo>
                      <a:pt x="60" y="329"/>
                    </a:lnTo>
                    <a:lnTo>
                      <a:pt x="55" y="332"/>
                    </a:lnTo>
                    <a:lnTo>
                      <a:pt x="52" y="335"/>
                    </a:lnTo>
                    <a:lnTo>
                      <a:pt x="49" y="338"/>
                    </a:lnTo>
                    <a:lnTo>
                      <a:pt x="42" y="344"/>
                    </a:lnTo>
                    <a:lnTo>
                      <a:pt x="38" y="350"/>
                    </a:lnTo>
                    <a:lnTo>
                      <a:pt x="30" y="355"/>
                    </a:lnTo>
                    <a:lnTo>
                      <a:pt x="26" y="361"/>
                    </a:lnTo>
                    <a:lnTo>
                      <a:pt x="21" y="365"/>
                    </a:lnTo>
                    <a:lnTo>
                      <a:pt x="17" y="369"/>
                    </a:lnTo>
                    <a:lnTo>
                      <a:pt x="12" y="372"/>
                    </a:lnTo>
                    <a:lnTo>
                      <a:pt x="9" y="377"/>
                    </a:lnTo>
                    <a:lnTo>
                      <a:pt x="6" y="378"/>
                    </a:lnTo>
                    <a:lnTo>
                      <a:pt x="5" y="381"/>
                    </a:lnTo>
                    <a:lnTo>
                      <a:pt x="0" y="384"/>
                    </a:lnTo>
                    <a:lnTo>
                      <a:pt x="0" y="387"/>
                    </a:lnTo>
                    <a:lnTo>
                      <a:pt x="64" y="387"/>
                    </a:lnTo>
                    <a:lnTo>
                      <a:pt x="66" y="386"/>
                    </a:lnTo>
                    <a:lnTo>
                      <a:pt x="67" y="383"/>
                    </a:lnTo>
                    <a:lnTo>
                      <a:pt x="72" y="377"/>
                    </a:lnTo>
                    <a:lnTo>
                      <a:pt x="78" y="372"/>
                    </a:lnTo>
                    <a:lnTo>
                      <a:pt x="81" y="368"/>
                    </a:lnTo>
                    <a:lnTo>
                      <a:pt x="85" y="364"/>
                    </a:lnTo>
                    <a:lnTo>
                      <a:pt x="88" y="359"/>
                    </a:lnTo>
                    <a:lnTo>
                      <a:pt x="94" y="356"/>
                    </a:lnTo>
                    <a:lnTo>
                      <a:pt x="97" y="350"/>
                    </a:lnTo>
                    <a:lnTo>
                      <a:pt x="103" y="346"/>
                    </a:lnTo>
                    <a:lnTo>
                      <a:pt x="109" y="341"/>
                    </a:lnTo>
                    <a:lnTo>
                      <a:pt x="115" y="335"/>
                    </a:lnTo>
                    <a:lnTo>
                      <a:pt x="121" y="329"/>
                    </a:lnTo>
                    <a:lnTo>
                      <a:pt x="127" y="323"/>
                    </a:lnTo>
                    <a:lnTo>
                      <a:pt x="130" y="320"/>
                    </a:lnTo>
                    <a:lnTo>
                      <a:pt x="133" y="319"/>
                    </a:lnTo>
                    <a:lnTo>
                      <a:pt x="135" y="316"/>
                    </a:lnTo>
                    <a:lnTo>
                      <a:pt x="140" y="313"/>
                    </a:lnTo>
                    <a:lnTo>
                      <a:pt x="143" y="310"/>
                    </a:lnTo>
                    <a:lnTo>
                      <a:pt x="146" y="307"/>
                    </a:lnTo>
                    <a:lnTo>
                      <a:pt x="150" y="304"/>
                    </a:lnTo>
                    <a:lnTo>
                      <a:pt x="153" y="301"/>
                    </a:lnTo>
                    <a:lnTo>
                      <a:pt x="158" y="298"/>
                    </a:lnTo>
                    <a:lnTo>
                      <a:pt x="161" y="295"/>
                    </a:lnTo>
                    <a:lnTo>
                      <a:pt x="165" y="292"/>
                    </a:lnTo>
                    <a:lnTo>
                      <a:pt x="170" y="289"/>
                    </a:lnTo>
                    <a:lnTo>
                      <a:pt x="173" y="285"/>
                    </a:lnTo>
                    <a:lnTo>
                      <a:pt x="177" y="283"/>
                    </a:lnTo>
                    <a:lnTo>
                      <a:pt x="181" y="280"/>
                    </a:lnTo>
                    <a:lnTo>
                      <a:pt x="186" y="277"/>
                    </a:lnTo>
                    <a:lnTo>
                      <a:pt x="189" y="274"/>
                    </a:lnTo>
                    <a:lnTo>
                      <a:pt x="193" y="272"/>
                    </a:lnTo>
                    <a:lnTo>
                      <a:pt x="198" y="269"/>
                    </a:lnTo>
                    <a:lnTo>
                      <a:pt x="202" y="267"/>
                    </a:lnTo>
                    <a:lnTo>
                      <a:pt x="205" y="263"/>
                    </a:lnTo>
                    <a:lnTo>
                      <a:pt x="211" y="261"/>
                    </a:lnTo>
                    <a:lnTo>
                      <a:pt x="216" y="258"/>
                    </a:lnTo>
                    <a:lnTo>
                      <a:pt x="220" y="255"/>
                    </a:lnTo>
                    <a:lnTo>
                      <a:pt x="224" y="252"/>
                    </a:lnTo>
                    <a:lnTo>
                      <a:pt x="229" y="249"/>
                    </a:lnTo>
                    <a:lnTo>
                      <a:pt x="233" y="248"/>
                    </a:lnTo>
                    <a:lnTo>
                      <a:pt x="239" y="245"/>
                    </a:lnTo>
                    <a:lnTo>
                      <a:pt x="244" y="242"/>
                    </a:lnTo>
                    <a:lnTo>
                      <a:pt x="248" y="240"/>
                    </a:lnTo>
                    <a:lnTo>
                      <a:pt x="253" y="237"/>
                    </a:lnTo>
                    <a:lnTo>
                      <a:pt x="257" y="236"/>
                    </a:lnTo>
                    <a:lnTo>
                      <a:pt x="262" y="233"/>
                    </a:lnTo>
                    <a:lnTo>
                      <a:pt x="266" y="230"/>
                    </a:lnTo>
                    <a:lnTo>
                      <a:pt x="272" y="228"/>
                    </a:lnTo>
                    <a:lnTo>
                      <a:pt x="276" y="226"/>
                    </a:lnTo>
                    <a:lnTo>
                      <a:pt x="281" y="224"/>
                    </a:lnTo>
                    <a:lnTo>
                      <a:pt x="287" y="221"/>
                    </a:lnTo>
                    <a:lnTo>
                      <a:pt x="291" y="220"/>
                    </a:lnTo>
                    <a:lnTo>
                      <a:pt x="297" y="218"/>
                    </a:lnTo>
                    <a:lnTo>
                      <a:pt x="302" y="217"/>
                    </a:lnTo>
                    <a:lnTo>
                      <a:pt x="306" y="214"/>
                    </a:lnTo>
                    <a:lnTo>
                      <a:pt x="312" y="212"/>
                    </a:lnTo>
                    <a:lnTo>
                      <a:pt x="318" y="211"/>
                    </a:lnTo>
                    <a:lnTo>
                      <a:pt x="321" y="209"/>
                    </a:lnTo>
                    <a:lnTo>
                      <a:pt x="327" y="206"/>
                    </a:lnTo>
                    <a:lnTo>
                      <a:pt x="331" y="205"/>
                    </a:lnTo>
                    <a:lnTo>
                      <a:pt x="337" y="203"/>
                    </a:lnTo>
                    <a:lnTo>
                      <a:pt x="342" y="202"/>
                    </a:lnTo>
                    <a:lnTo>
                      <a:pt x="346" y="199"/>
                    </a:lnTo>
                    <a:lnTo>
                      <a:pt x="351" y="197"/>
                    </a:lnTo>
                    <a:lnTo>
                      <a:pt x="357" y="196"/>
                    </a:lnTo>
                    <a:lnTo>
                      <a:pt x="362" y="194"/>
                    </a:lnTo>
                    <a:lnTo>
                      <a:pt x="367" y="191"/>
                    </a:lnTo>
                    <a:lnTo>
                      <a:pt x="371" y="190"/>
                    </a:lnTo>
                    <a:lnTo>
                      <a:pt x="377" y="188"/>
                    </a:lnTo>
                    <a:lnTo>
                      <a:pt x="382" y="187"/>
                    </a:lnTo>
                    <a:lnTo>
                      <a:pt x="386" y="185"/>
                    </a:lnTo>
                    <a:lnTo>
                      <a:pt x="392" y="184"/>
                    </a:lnTo>
                    <a:lnTo>
                      <a:pt x="397" y="182"/>
                    </a:lnTo>
                    <a:lnTo>
                      <a:pt x="401" y="181"/>
                    </a:lnTo>
                    <a:lnTo>
                      <a:pt x="406" y="180"/>
                    </a:lnTo>
                    <a:lnTo>
                      <a:pt x="410" y="177"/>
                    </a:lnTo>
                    <a:lnTo>
                      <a:pt x="414" y="177"/>
                    </a:lnTo>
                    <a:lnTo>
                      <a:pt x="419" y="174"/>
                    </a:lnTo>
                    <a:lnTo>
                      <a:pt x="425" y="172"/>
                    </a:lnTo>
                    <a:lnTo>
                      <a:pt x="429" y="171"/>
                    </a:lnTo>
                    <a:lnTo>
                      <a:pt x="434" y="169"/>
                    </a:lnTo>
                    <a:lnTo>
                      <a:pt x="438" y="168"/>
                    </a:lnTo>
                    <a:lnTo>
                      <a:pt x="443" y="165"/>
                    </a:lnTo>
                    <a:lnTo>
                      <a:pt x="447" y="163"/>
                    </a:lnTo>
                    <a:lnTo>
                      <a:pt x="452" y="162"/>
                    </a:lnTo>
                    <a:lnTo>
                      <a:pt x="456" y="160"/>
                    </a:lnTo>
                    <a:lnTo>
                      <a:pt x="459" y="159"/>
                    </a:lnTo>
                    <a:lnTo>
                      <a:pt x="463" y="157"/>
                    </a:lnTo>
                    <a:lnTo>
                      <a:pt x="468" y="156"/>
                    </a:lnTo>
                    <a:lnTo>
                      <a:pt x="472" y="153"/>
                    </a:lnTo>
                    <a:lnTo>
                      <a:pt x="475" y="151"/>
                    </a:lnTo>
                    <a:lnTo>
                      <a:pt x="480" y="150"/>
                    </a:lnTo>
                    <a:lnTo>
                      <a:pt x="483" y="147"/>
                    </a:lnTo>
                    <a:lnTo>
                      <a:pt x="487" y="145"/>
                    </a:lnTo>
                    <a:lnTo>
                      <a:pt x="490" y="144"/>
                    </a:lnTo>
                    <a:lnTo>
                      <a:pt x="495" y="142"/>
                    </a:lnTo>
                    <a:lnTo>
                      <a:pt x="498" y="139"/>
                    </a:lnTo>
                    <a:lnTo>
                      <a:pt x="505" y="135"/>
                    </a:lnTo>
                    <a:lnTo>
                      <a:pt x="511" y="132"/>
                    </a:lnTo>
                    <a:lnTo>
                      <a:pt x="517" y="128"/>
                    </a:lnTo>
                    <a:lnTo>
                      <a:pt x="523" y="123"/>
                    </a:lnTo>
                    <a:lnTo>
                      <a:pt x="527" y="117"/>
                    </a:lnTo>
                    <a:lnTo>
                      <a:pt x="532" y="113"/>
                    </a:lnTo>
                    <a:lnTo>
                      <a:pt x="536" y="107"/>
                    </a:lnTo>
                    <a:lnTo>
                      <a:pt x="541" y="102"/>
                    </a:lnTo>
                    <a:lnTo>
                      <a:pt x="544" y="96"/>
                    </a:lnTo>
                    <a:lnTo>
                      <a:pt x="546" y="92"/>
                    </a:lnTo>
                    <a:lnTo>
                      <a:pt x="549" y="86"/>
                    </a:lnTo>
                    <a:lnTo>
                      <a:pt x="552" y="82"/>
                    </a:lnTo>
                    <a:lnTo>
                      <a:pt x="554" y="76"/>
                    </a:lnTo>
                    <a:lnTo>
                      <a:pt x="555" y="70"/>
                    </a:lnTo>
                    <a:lnTo>
                      <a:pt x="557" y="65"/>
                    </a:lnTo>
                    <a:lnTo>
                      <a:pt x="558" y="61"/>
                    </a:lnTo>
                    <a:lnTo>
                      <a:pt x="560" y="55"/>
                    </a:lnTo>
                    <a:lnTo>
                      <a:pt x="560" y="50"/>
                    </a:lnTo>
                    <a:lnTo>
                      <a:pt x="560" y="44"/>
                    </a:lnTo>
                    <a:lnTo>
                      <a:pt x="561" y="42"/>
                    </a:lnTo>
                    <a:lnTo>
                      <a:pt x="560" y="37"/>
                    </a:lnTo>
                    <a:lnTo>
                      <a:pt x="560" y="33"/>
                    </a:lnTo>
                    <a:lnTo>
                      <a:pt x="560" y="28"/>
                    </a:lnTo>
                    <a:lnTo>
                      <a:pt x="560" y="24"/>
                    </a:lnTo>
                    <a:lnTo>
                      <a:pt x="560" y="21"/>
                    </a:lnTo>
                    <a:lnTo>
                      <a:pt x="560" y="16"/>
                    </a:lnTo>
                    <a:lnTo>
                      <a:pt x="558" y="13"/>
                    </a:lnTo>
                    <a:lnTo>
                      <a:pt x="558" y="10"/>
                    </a:lnTo>
                    <a:lnTo>
                      <a:pt x="557" y="6"/>
                    </a:lnTo>
                    <a:lnTo>
                      <a:pt x="557" y="3"/>
                    </a:lnTo>
                    <a:lnTo>
                      <a:pt x="557" y="0"/>
                    </a:lnTo>
                    <a:lnTo>
                      <a:pt x="557" y="0"/>
                    </a:lnTo>
                    <a:lnTo>
                      <a:pt x="55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3536640" y="2046240"/>
                <a:ext cx="635040" cy="209520"/>
              </a:xfrm>
              <a:custGeom>
                <a:avLst/>
                <a:gdLst/>
                <a:ahLst/>
                <a:rect l="l" t="t" r="r" b="b"/>
                <a:pathLst>
                  <a:path w="799" h="264">
                    <a:moveTo>
                      <a:pt x="244" y="59"/>
                    </a:moveTo>
                    <a:lnTo>
                      <a:pt x="244" y="59"/>
                    </a:lnTo>
                    <a:lnTo>
                      <a:pt x="246" y="58"/>
                    </a:lnTo>
                    <a:lnTo>
                      <a:pt x="247" y="55"/>
                    </a:lnTo>
                    <a:lnTo>
                      <a:pt x="252" y="53"/>
                    </a:lnTo>
                    <a:lnTo>
                      <a:pt x="256" y="50"/>
                    </a:lnTo>
                    <a:lnTo>
                      <a:pt x="262" y="48"/>
                    </a:lnTo>
                    <a:lnTo>
                      <a:pt x="265" y="46"/>
                    </a:lnTo>
                    <a:lnTo>
                      <a:pt x="270" y="45"/>
                    </a:lnTo>
                    <a:lnTo>
                      <a:pt x="273" y="43"/>
                    </a:lnTo>
                    <a:lnTo>
                      <a:pt x="277" y="42"/>
                    </a:lnTo>
                    <a:lnTo>
                      <a:pt x="282" y="40"/>
                    </a:lnTo>
                    <a:lnTo>
                      <a:pt x="286" y="37"/>
                    </a:lnTo>
                    <a:lnTo>
                      <a:pt x="290" y="36"/>
                    </a:lnTo>
                    <a:lnTo>
                      <a:pt x="295" y="34"/>
                    </a:lnTo>
                    <a:lnTo>
                      <a:pt x="299" y="33"/>
                    </a:lnTo>
                    <a:lnTo>
                      <a:pt x="305" y="30"/>
                    </a:lnTo>
                    <a:lnTo>
                      <a:pt x="311" y="28"/>
                    </a:lnTo>
                    <a:lnTo>
                      <a:pt x="317" y="27"/>
                    </a:lnTo>
                    <a:lnTo>
                      <a:pt x="323" y="25"/>
                    </a:lnTo>
                    <a:lnTo>
                      <a:pt x="330" y="22"/>
                    </a:lnTo>
                    <a:lnTo>
                      <a:pt x="333" y="22"/>
                    </a:lnTo>
                    <a:lnTo>
                      <a:pt x="336" y="21"/>
                    </a:lnTo>
                    <a:lnTo>
                      <a:pt x="339" y="19"/>
                    </a:lnTo>
                    <a:lnTo>
                      <a:pt x="344" y="19"/>
                    </a:lnTo>
                    <a:lnTo>
                      <a:pt x="347" y="18"/>
                    </a:lnTo>
                    <a:lnTo>
                      <a:pt x="350" y="18"/>
                    </a:lnTo>
                    <a:lnTo>
                      <a:pt x="354" y="16"/>
                    </a:lnTo>
                    <a:lnTo>
                      <a:pt x="357" y="16"/>
                    </a:lnTo>
                    <a:lnTo>
                      <a:pt x="362" y="15"/>
                    </a:lnTo>
                    <a:lnTo>
                      <a:pt x="365" y="15"/>
                    </a:lnTo>
                    <a:lnTo>
                      <a:pt x="369" y="13"/>
                    </a:lnTo>
                    <a:lnTo>
                      <a:pt x="374" y="13"/>
                    </a:lnTo>
                    <a:lnTo>
                      <a:pt x="376" y="12"/>
                    </a:lnTo>
                    <a:lnTo>
                      <a:pt x="381" y="12"/>
                    </a:lnTo>
                    <a:lnTo>
                      <a:pt x="384" y="10"/>
                    </a:lnTo>
                    <a:lnTo>
                      <a:pt x="388" y="10"/>
                    </a:lnTo>
                    <a:lnTo>
                      <a:pt x="391" y="9"/>
                    </a:lnTo>
                    <a:lnTo>
                      <a:pt x="396" y="9"/>
                    </a:lnTo>
                    <a:lnTo>
                      <a:pt x="400" y="7"/>
                    </a:lnTo>
                    <a:lnTo>
                      <a:pt x="405" y="7"/>
                    </a:lnTo>
                    <a:lnTo>
                      <a:pt x="409" y="7"/>
                    </a:lnTo>
                    <a:lnTo>
                      <a:pt x="412" y="7"/>
                    </a:lnTo>
                    <a:lnTo>
                      <a:pt x="417" y="6"/>
                    </a:lnTo>
                    <a:lnTo>
                      <a:pt x="421" y="6"/>
                    </a:lnTo>
                    <a:lnTo>
                      <a:pt x="425" y="6"/>
                    </a:lnTo>
                    <a:lnTo>
                      <a:pt x="431" y="4"/>
                    </a:lnTo>
                    <a:lnTo>
                      <a:pt x="434" y="4"/>
                    </a:lnTo>
                    <a:lnTo>
                      <a:pt x="440" y="4"/>
                    </a:lnTo>
                    <a:lnTo>
                      <a:pt x="443" y="4"/>
                    </a:lnTo>
                    <a:lnTo>
                      <a:pt x="449" y="3"/>
                    </a:lnTo>
                    <a:lnTo>
                      <a:pt x="454" y="3"/>
                    </a:lnTo>
                    <a:lnTo>
                      <a:pt x="458" y="3"/>
                    </a:lnTo>
                    <a:lnTo>
                      <a:pt x="463" y="3"/>
                    </a:lnTo>
                    <a:lnTo>
                      <a:pt x="467" y="2"/>
                    </a:lnTo>
                    <a:lnTo>
                      <a:pt x="471" y="2"/>
                    </a:lnTo>
                    <a:lnTo>
                      <a:pt x="476" y="2"/>
                    </a:lnTo>
                    <a:lnTo>
                      <a:pt x="480" y="2"/>
                    </a:lnTo>
                    <a:lnTo>
                      <a:pt x="486" y="2"/>
                    </a:lnTo>
                    <a:lnTo>
                      <a:pt x="491" y="0"/>
                    </a:lnTo>
                    <a:lnTo>
                      <a:pt x="495" y="0"/>
                    </a:lnTo>
                    <a:lnTo>
                      <a:pt x="500" y="0"/>
                    </a:lnTo>
                    <a:lnTo>
                      <a:pt x="504" y="0"/>
                    </a:lnTo>
                    <a:lnTo>
                      <a:pt x="509" y="0"/>
                    </a:lnTo>
                    <a:lnTo>
                      <a:pt x="514" y="0"/>
                    </a:lnTo>
                    <a:lnTo>
                      <a:pt x="519" y="0"/>
                    </a:lnTo>
                    <a:lnTo>
                      <a:pt x="523" y="0"/>
                    </a:lnTo>
                    <a:lnTo>
                      <a:pt x="528" y="0"/>
                    </a:lnTo>
                    <a:lnTo>
                      <a:pt x="532" y="0"/>
                    </a:lnTo>
                    <a:lnTo>
                      <a:pt x="537" y="0"/>
                    </a:lnTo>
                    <a:lnTo>
                      <a:pt x="543" y="0"/>
                    </a:lnTo>
                    <a:lnTo>
                      <a:pt x="547" y="0"/>
                    </a:lnTo>
                    <a:lnTo>
                      <a:pt x="552" y="0"/>
                    </a:lnTo>
                    <a:lnTo>
                      <a:pt x="556" y="0"/>
                    </a:lnTo>
                    <a:lnTo>
                      <a:pt x="560" y="0"/>
                    </a:lnTo>
                    <a:lnTo>
                      <a:pt x="565" y="0"/>
                    </a:lnTo>
                    <a:lnTo>
                      <a:pt x="569" y="0"/>
                    </a:lnTo>
                    <a:lnTo>
                      <a:pt x="574" y="0"/>
                    </a:lnTo>
                    <a:lnTo>
                      <a:pt x="580" y="0"/>
                    </a:lnTo>
                    <a:lnTo>
                      <a:pt x="584" y="0"/>
                    </a:lnTo>
                    <a:lnTo>
                      <a:pt x="589" y="0"/>
                    </a:lnTo>
                    <a:lnTo>
                      <a:pt x="593" y="0"/>
                    </a:lnTo>
                    <a:lnTo>
                      <a:pt x="598" y="0"/>
                    </a:lnTo>
                    <a:lnTo>
                      <a:pt x="602" y="0"/>
                    </a:lnTo>
                    <a:lnTo>
                      <a:pt x="606" y="0"/>
                    </a:lnTo>
                    <a:lnTo>
                      <a:pt x="611" y="0"/>
                    </a:lnTo>
                    <a:lnTo>
                      <a:pt x="615" y="0"/>
                    </a:lnTo>
                    <a:lnTo>
                      <a:pt x="620" y="0"/>
                    </a:lnTo>
                    <a:lnTo>
                      <a:pt x="624" y="0"/>
                    </a:lnTo>
                    <a:lnTo>
                      <a:pt x="629" y="0"/>
                    </a:lnTo>
                    <a:lnTo>
                      <a:pt x="633" y="0"/>
                    </a:lnTo>
                    <a:lnTo>
                      <a:pt x="638" y="0"/>
                    </a:lnTo>
                    <a:lnTo>
                      <a:pt x="641" y="0"/>
                    </a:lnTo>
                    <a:lnTo>
                      <a:pt x="645" y="0"/>
                    </a:lnTo>
                    <a:lnTo>
                      <a:pt x="650" y="0"/>
                    </a:lnTo>
                    <a:lnTo>
                      <a:pt x="654" y="0"/>
                    </a:lnTo>
                    <a:lnTo>
                      <a:pt x="658" y="0"/>
                    </a:lnTo>
                    <a:lnTo>
                      <a:pt x="663" y="0"/>
                    </a:lnTo>
                    <a:lnTo>
                      <a:pt x="666" y="0"/>
                    </a:lnTo>
                    <a:lnTo>
                      <a:pt x="670" y="0"/>
                    </a:lnTo>
                    <a:lnTo>
                      <a:pt x="675" y="0"/>
                    </a:lnTo>
                    <a:lnTo>
                      <a:pt x="678" y="0"/>
                    </a:lnTo>
                    <a:lnTo>
                      <a:pt x="682" y="0"/>
                    </a:lnTo>
                    <a:lnTo>
                      <a:pt x="685" y="0"/>
                    </a:lnTo>
                    <a:lnTo>
                      <a:pt x="690" y="0"/>
                    </a:lnTo>
                    <a:lnTo>
                      <a:pt x="693" y="0"/>
                    </a:lnTo>
                    <a:lnTo>
                      <a:pt x="695" y="0"/>
                    </a:lnTo>
                    <a:lnTo>
                      <a:pt x="698" y="0"/>
                    </a:lnTo>
                    <a:lnTo>
                      <a:pt x="703" y="0"/>
                    </a:lnTo>
                    <a:lnTo>
                      <a:pt x="706" y="0"/>
                    </a:lnTo>
                    <a:lnTo>
                      <a:pt x="709" y="0"/>
                    </a:lnTo>
                    <a:lnTo>
                      <a:pt x="712" y="0"/>
                    </a:lnTo>
                    <a:lnTo>
                      <a:pt x="716" y="0"/>
                    </a:lnTo>
                    <a:lnTo>
                      <a:pt x="722" y="0"/>
                    </a:lnTo>
                    <a:lnTo>
                      <a:pt x="728" y="0"/>
                    </a:lnTo>
                    <a:lnTo>
                      <a:pt x="734" y="0"/>
                    </a:lnTo>
                    <a:lnTo>
                      <a:pt x="740" y="0"/>
                    </a:lnTo>
                    <a:lnTo>
                      <a:pt x="744" y="0"/>
                    </a:lnTo>
                    <a:lnTo>
                      <a:pt x="750" y="0"/>
                    </a:lnTo>
                    <a:lnTo>
                      <a:pt x="755" y="0"/>
                    </a:lnTo>
                    <a:lnTo>
                      <a:pt x="761" y="0"/>
                    </a:lnTo>
                    <a:lnTo>
                      <a:pt x="764" y="0"/>
                    </a:lnTo>
                    <a:lnTo>
                      <a:pt x="768" y="0"/>
                    </a:lnTo>
                    <a:lnTo>
                      <a:pt x="771" y="0"/>
                    </a:lnTo>
                    <a:lnTo>
                      <a:pt x="776" y="0"/>
                    </a:lnTo>
                    <a:lnTo>
                      <a:pt x="779" y="0"/>
                    </a:lnTo>
                    <a:lnTo>
                      <a:pt x="782" y="0"/>
                    </a:lnTo>
                    <a:lnTo>
                      <a:pt x="783" y="0"/>
                    </a:lnTo>
                    <a:lnTo>
                      <a:pt x="786" y="0"/>
                    </a:lnTo>
                    <a:lnTo>
                      <a:pt x="790" y="0"/>
                    </a:lnTo>
                    <a:lnTo>
                      <a:pt x="793" y="0"/>
                    </a:lnTo>
                    <a:lnTo>
                      <a:pt x="795" y="0"/>
                    </a:lnTo>
                    <a:lnTo>
                      <a:pt x="796" y="0"/>
                    </a:lnTo>
                    <a:lnTo>
                      <a:pt x="798" y="2"/>
                    </a:lnTo>
                    <a:lnTo>
                      <a:pt x="798" y="4"/>
                    </a:lnTo>
                    <a:lnTo>
                      <a:pt x="799" y="9"/>
                    </a:lnTo>
                    <a:lnTo>
                      <a:pt x="799" y="12"/>
                    </a:lnTo>
                    <a:lnTo>
                      <a:pt x="799" y="15"/>
                    </a:lnTo>
                    <a:lnTo>
                      <a:pt x="799" y="19"/>
                    </a:lnTo>
                    <a:lnTo>
                      <a:pt x="799" y="24"/>
                    </a:lnTo>
                    <a:lnTo>
                      <a:pt x="798" y="30"/>
                    </a:lnTo>
                    <a:lnTo>
                      <a:pt x="798" y="36"/>
                    </a:lnTo>
                    <a:lnTo>
                      <a:pt x="798" y="37"/>
                    </a:lnTo>
                    <a:lnTo>
                      <a:pt x="798" y="42"/>
                    </a:lnTo>
                    <a:lnTo>
                      <a:pt x="796" y="45"/>
                    </a:lnTo>
                    <a:lnTo>
                      <a:pt x="796" y="49"/>
                    </a:lnTo>
                    <a:lnTo>
                      <a:pt x="795" y="52"/>
                    </a:lnTo>
                    <a:lnTo>
                      <a:pt x="793" y="55"/>
                    </a:lnTo>
                    <a:lnTo>
                      <a:pt x="793" y="59"/>
                    </a:lnTo>
                    <a:lnTo>
                      <a:pt x="792" y="65"/>
                    </a:lnTo>
                    <a:lnTo>
                      <a:pt x="789" y="70"/>
                    </a:lnTo>
                    <a:lnTo>
                      <a:pt x="787" y="74"/>
                    </a:lnTo>
                    <a:lnTo>
                      <a:pt x="785" y="80"/>
                    </a:lnTo>
                    <a:lnTo>
                      <a:pt x="783" y="86"/>
                    </a:lnTo>
                    <a:lnTo>
                      <a:pt x="780" y="92"/>
                    </a:lnTo>
                    <a:lnTo>
                      <a:pt x="777" y="98"/>
                    </a:lnTo>
                    <a:lnTo>
                      <a:pt x="774" y="104"/>
                    </a:lnTo>
                    <a:lnTo>
                      <a:pt x="771" y="110"/>
                    </a:lnTo>
                    <a:lnTo>
                      <a:pt x="767" y="116"/>
                    </a:lnTo>
                    <a:lnTo>
                      <a:pt x="762" y="123"/>
                    </a:lnTo>
                    <a:lnTo>
                      <a:pt x="761" y="126"/>
                    </a:lnTo>
                    <a:lnTo>
                      <a:pt x="758" y="131"/>
                    </a:lnTo>
                    <a:lnTo>
                      <a:pt x="756" y="134"/>
                    </a:lnTo>
                    <a:lnTo>
                      <a:pt x="755" y="137"/>
                    </a:lnTo>
                    <a:lnTo>
                      <a:pt x="749" y="142"/>
                    </a:lnTo>
                    <a:lnTo>
                      <a:pt x="744" y="150"/>
                    </a:lnTo>
                    <a:lnTo>
                      <a:pt x="739" y="156"/>
                    </a:lnTo>
                    <a:lnTo>
                      <a:pt x="734" y="162"/>
                    </a:lnTo>
                    <a:lnTo>
                      <a:pt x="728" y="168"/>
                    </a:lnTo>
                    <a:lnTo>
                      <a:pt x="722" y="175"/>
                    </a:lnTo>
                    <a:lnTo>
                      <a:pt x="716" y="180"/>
                    </a:lnTo>
                    <a:lnTo>
                      <a:pt x="710" y="187"/>
                    </a:lnTo>
                    <a:lnTo>
                      <a:pt x="707" y="188"/>
                    </a:lnTo>
                    <a:lnTo>
                      <a:pt x="704" y="191"/>
                    </a:lnTo>
                    <a:lnTo>
                      <a:pt x="700" y="194"/>
                    </a:lnTo>
                    <a:lnTo>
                      <a:pt x="697" y="197"/>
                    </a:lnTo>
                    <a:lnTo>
                      <a:pt x="693" y="199"/>
                    </a:lnTo>
                    <a:lnTo>
                      <a:pt x="690" y="202"/>
                    </a:lnTo>
                    <a:lnTo>
                      <a:pt x="685" y="203"/>
                    </a:lnTo>
                    <a:lnTo>
                      <a:pt x="682" y="206"/>
                    </a:lnTo>
                    <a:lnTo>
                      <a:pt x="679" y="209"/>
                    </a:lnTo>
                    <a:lnTo>
                      <a:pt x="675" y="211"/>
                    </a:lnTo>
                    <a:lnTo>
                      <a:pt x="672" y="214"/>
                    </a:lnTo>
                    <a:lnTo>
                      <a:pt x="667" y="215"/>
                    </a:lnTo>
                    <a:lnTo>
                      <a:pt x="663" y="217"/>
                    </a:lnTo>
                    <a:lnTo>
                      <a:pt x="660" y="220"/>
                    </a:lnTo>
                    <a:lnTo>
                      <a:pt x="655" y="221"/>
                    </a:lnTo>
                    <a:lnTo>
                      <a:pt x="652" y="223"/>
                    </a:lnTo>
                    <a:lnTo>
                      <a:pt x="648" y="224"/>
                    </a:lnTo>
                    <a:lnTo>
                      <a:pt x="644" y="224"/>
                    </a:lnTo>
                    <a:lnTo>
                      <a:pt x="641" y="226"/>
                    </a:lnTo>
                    <a:lnTo>
                      <a:pt x="636" y="227"/>
                    </a:lnTo>
                    <a:lnTo>
                      <a:pt x="632" y="229"/>
                    </a:lnTo>
                    <a:lnTo>
                      <a:pt x="627" y="229"/>
                    </a:lnTo>
                    <a:lnTo>
                      <a:pt x="623" y="230"/>
                    </a:lnTo>
                    <a:lnTo>
                      <a:pt x="618" y="232"/>
                    </a:lnTo>
                    <a:lnTo>
                      <a:pt x="614" y="232"/>
                    </a:lnTo>
                    <a:lnTo>
                      <a:pt x="609" y="233"/>
                    </a:lnTo>
                    <a:lnTo>
                      <a:pt x="604" y="233"/>
                    </a:lnTo>
                    <a:lnTo>
                      <a:pt x="599" y="233"/>
                    </a:lnTo>
                    <a:lnTo>
                      <a:pt x="593" y="234"/>
                    </a:lnTo>
                    <a:lnTo>
                      <a:pt x="589" y="234"/>
                    </a:lnTo>
                    <a:lnTo>
                      <a:pt x="583" y="236"/>
                    </a:lnTo>
                    <a:lnTo>
                      <a:pt x="578" y="236"/>
                    </a:lnTo>
                    <a:lnTo>
                      <a:pt x="572" y="236"/>
                    </a:lnTo>
                    <a:lnTo>
                      <a:pt x="568" y="236"/>
                    </a:lnTo>
                    <a:lnTo>
                      <a:pt x="562" y="236"/>
                    </a:lnTo>
                    <a:lnTo>
                      <a:pt x="558" y="236"/>
                    </a:lnTo>
                    <a:lnTo>
                      <a:pt x="552" y="236"/>
                    </a:lnTo>
                    <a:lnTo>
                      <a:pt x="547" y="236"/>
                    </a:lnTo>
                    <a:lnTo>
                      <a:pt x="541" y="236"/>
                    </a:lnTo>
                    <a:lnTo>
                      <a:pt x="537" y="236"/>
                    </a:lnTo>
                    <a:lnTo>
                      <a:pt x="531" y="236"/>
                    </a:lnTo>
                    <a:lnTo>
                      <a:pt x="526" y="236"/>
                    </a:lnTo>
                    <a:lnTo>
                      <a:pt x="520" y="236"/>
                    </a:lnTo>
                    <a:lnTo>
                      <a:pt x="516" y="236"/>
                    </a:lnTo>
                    <a:lnTo>
                      <a:pt x="510" y="236"/>
                    </a:lnTo>
                    <a:lnTo>
                      <a:pt x="506" y="236"/>
                    </a:lnTo>
                    <a:lnTo>
                      <a:pt x="500" y="236"/>
                    </a:lnTo>
                    <a:lnTo>
                      <a:pt x="495" y="236"/>
                    </a:lnTo>
                    <a:lnTo>
                      <a:pt x="489" y="236"/>
                    </a:lnTo>
                    <a:lnTo>
                      <a:pt x="483" y="236"/>
                    </a:lnTo>
                    <a:lnTo>
                      <a:pt x="479" y="236"/>
                    </a:lnTo>
                    <a:lnTo>
                      <a:pt x="474" y="236"/>
                    </a:lnTo>
                    <a:lnTo>
                      <a:pt x="468" y="234"/>
                    </a:lnTo>
                    <a:lnTo>
                      <a:pt x="464" y="234"/>
                    </a:lnTo>
                    <a:lnTo>
                      <a:pt x="458" y="234"/>
                    </a:lnTo>
                    <a:lnTo>
                      <a:pt x="454" y="234"/>
                    </a:lnTo>
                    <a:lnTo>
                      <a:pt x="448" y="233"/>
                    </a:lnTo>
                    <a:lnTo>
                      <a:pt x="443" y="233"/>
                    </a:lnTo>
                    <a:lnTo>
                      <a:pt x="439" y="233"/>
                    </a:lnTo>
                    <a:lnTo>
                      <a:pt x="434" y="233"/>
                    </a:lnTo>
                    <a:lnTo>
                      <a:pt x="428" y="233"/>
                    </a:lnTo>
                    <a:lnTo>
                      <a:pt x="424" y="232"/>
                    </a:lnTo>
                    <a:lnTo>
                      <a:pt x="420" y="232"/>
                    </a:lnTo>
                    <a:lnTo>
                      <a:pt x="417" y="232"/>
                    </a:lnTo>
                    <a:lnTo>
                      <a:pt x="411" y="232"/>
                    </a:lnTo>
                    <a:lnTo>
                      <a:pt x="406" y="230"/>
                    </a:lnTo>
                    <a:lnTo>
                      <a:pt x="402" y="230"/>
                    </a:lnTo>
                    <a:lnTo>
                      <a:pt x="397" y="230"/>
                    </a:lnTo>
                    <a:lnTo>
                      <a:pt x="394" y="229"/>
                    </a:lnTo>
                    <a:lnTo>
                      <a:pt x="390" y="229"/>
                    </a:lnTo>
                    <a:lnTo>
                      <a:pt x="385" y="229"/>
                    </a:lnTo>
                    <a:lnTo>
                      <a:pt x="382" y="229"/>
                    </a:lnTo>
                    <a:lnTo>
                      <a:pt x="378" y="229"/>
                    </a:lnTo>
                    <a:lnTo>
                      <a:pt x="375" y="227"/>
                    </a:lnTo>
                    <a:lnTo>
                      <a:pt x="371" y="227"/>
                    </a:lnTo>
                    <a:lnTo>
                      <a:pt x="368" y="227"/>
                    </a:lnTo>
                    <a:lnTo>
                      <a:pt x="362" y="226"/>
                    </a:lnTo>
                    <a:lnTo>
                      <a:pt x="356" y="226"/>
                    </a:lnTo>
                    <a:lnTo>
                      <a:pt x="350" y="224"/>
                    </a:lnTo>
                    <a:lnTo>
                      <a:pt x="345" y="224"/>
                    </a:lnTo>
                    <a:lnTo>
                      <a:pt x="341" y="224"/>
                    </a:lnTo>
                    <a:lnTo>
                      <a:pt x="338" y="224"/>
                    </a:lnTo>
                    <a:lnTo>
                      <a:pt x="333" y="223"/>
                    </a:lnTo>
                    <a:lnTo>
                      <a:pt x="332" y="223"/>
                    </a:lnTo>
                    <a:lnTo>
                      <a:pt x="332" y="223"/>
                    </a:lnTo>
                    <a:lnTo>
                      <a:pt x="335" y="223"/>
                    </a:lnTo>
                    <a:lnTo>
                      <a:pt x="338" y="223"/>
                    </a:lnTo>
                    <a:lnTo>
                      <a:pt x="342" y="223"/>
                    </a:lnTo>
                    <a:lnTo>
                      <a:pt x="344" y="221"/>
                    </a:lnTo>
                    <a:lnTo>
                      <a:pt x="347" y="221"/>
                    </a:lnTo>
                    <a:lnTo>
                      <a:pt x="351" y="221"/>
                    </a:lnTo>
                    <a:lnTo>
                      <a:pt x="354" y="221"/>
                    </a:lnTo>
                    <a:lnTo>
                      <a:pt x="357" y="221"/>
                    </a:lnTo>
                    <a:lnTo>
                      <a:pt x="362" y="221"/>
                    </a:lnTo>
                    <a:lnTo>
                      <a:pt x="366" y="221"/>
                    </a:lnTo>
                    <a:lnTo>
                      <a:pt x="371" y="221"/>
                    </a:lnTo>
                    <a:lnTo>
                      <a:pt x="375" y="221"/>
                    </a:lnTo>
                    <a:lnTo>
                      <a:pt x="379" y="220"/>
                    </a:lnTo>
                    <a:lnTo>
                      <a:pt x="384" y="220"/>
                    </a:lnTo>
                    <a:lnTo>
                      <a:pt x="390" y="220"/>
                    </a:lnTo>
                    <a:lnTo>
                      <a:pt x="394" y="218"/>
                    </a:lnTo>
                    <a:lnTo>
                      <a:pt x="400" y="218"/>
                    </a:lnTo>
                    <a:lnTo>
                      <a:pt x="405" y="218"/>
                    </a:lnTo>
                    <a:lnTo>
                      <a:pt x="412" y="218"/>
                    </a:lnTo>
                    <a:lnTo>
                      <a:pt x="417" y="217"/>
                    </a:lnTo>
                    <a:lnTo>
                      <a:pt x="422" y="217"/>
                    </a:lnTo>
                    <a:lnTo>
                      <a:pt x="428" y="217"/>
                    </a:lnTo>
                    <a:lnTo>
                      <a:pt x="434" y="215"/>
                    </a:lnTo>
                    <a:lnTo>
                      <a:pt x="442" y="215"/>
                    </a:lnTo>
                    <a:lnTo>
                      <a:pt x="448" y="214"/>
                    </a:lnTo>
                    <a:lnTo>
                      <a:pt x="454" y="214"/>
                    </a:lnTo>
                    <a:lnTo>
                      <a:pt x="461" y="214"/>
                    </a:lnTo>
                    <a:lnTo>
                      <a:pt x="467" y="212"/>
                    </a:lnTo>
                    <a:lnTo>
                      <a:pt x="474" y="212"/>
                    </a:lnTo>
                    <a:lnTo>
                      <a:pt x="480" y="211"/>
                    </a:lnTo>
                    <a:lnTo>
                      <a:pt x="488" y="209"/>
                    </a:lnTo>
                    <a:lnTo>
                      <a:pt x="494" y="209"/>
                    </a:lnTo>
                    <a:lnTo>
                      <a:pt x="500" y="208"/>
                    </a:lnTo>
                    <a:lnTo>
                      <a:pt x="507" y="206"/>
                    </a:lnTo>
                    <a:lnTo>
                      <a:pt x="513" y="206"/>
                    </a:lnTo>
                    <a:lnTo>
                      <a:pt x="520" y="205"/>
                    </a:lnTo>
                    <a:lnTo>
                      <a:pt x="526" y="203"/>
                    </a:lnTo>
                    <a:lnTo>
                      <a:pt x="534" y="202"/>
                    </a:lnTo>
                    <a:lnTo>
                      <a:pt x="540" y="202"/>
                    </a:lnTo>
                    <a:lnTo>
                      <a:pt x="547" y="200"/>
                    </a:lnTo>
                    <a:lnTo>
                      <a:pt x="553" y="199"/>
                    </a:lnTo>
                    <a:lnTo>
                      <a:pt x="559" y="199"/>
                    </a:lnTo>
                    <a:lnTo>
                      <a:pt x="566" y="197"/>
                    </a:lnTo>
                    <a:lnTo>
                      <a:pt x="572" y="196"/>
                    </a:lnTo>
                    <a:lnTo>
                      <a:pt x="578" y="194"/>
                    </a:lnTo>
                    <a:lnTo>
                      <a:pt x="584" y="193"/>
                    </a:lnTo>
                    <a:lnTo>
                      <a:pt x="590" y="191"/>
                    </a:lnTo>
                    <a:lnTo>
                      <a:pt x="596" y="190"/>
                    </a:lnTo>
                    <a:lnTo>
                      <a:pt x="602" y="188"/>
                    </a:lnTo>
                    <a:lnTo>
                      <a:pt x="606" y="187"/>
                    </a:lnTo>
                    <a:lnTo>
                      <a:pt x="612" y="186"/>
                    </a:lnTo>
                    <a:lnTo>
                      <a:pt x="618" y="184"/>
                    </a:lnTo>
                    <a:lnTo>
                      <a:pt x="623" y="183"/>
                    </a:lnTo>
                    <a:lnTo>
                      <a:pt x="627" y="180"/>
                    </a:lnTo>
                    <a:lnTo>
                      <a:pt x="633" y="178"/>
                    </a:lnTo>
                    <a:lnTo>
                      <a:pt x="638" y="177"/>
                    </a:lnTo>
                    <a:lnTo>
                      <a:pt x="641" y="175"/>
                    </a:lnTo>
                    <a:lnTo>
                      <a:pt x="645" y="172"/>
                    </a:lnTo>
                    <a:lnTo>
                      <a:pt x="650" y="172"/>
                    </a:lnTo>
                    <a:lnTo>
                      <a:pt x="655" y="166"/>
                    </a:lnTo>
                    <a:lnTo>
                      <a:pt x="663" y="162"/>
                    </a:lnTo>
                    <a:lnTo>
                      <a:pt x="669" y="157"/>
                    </a:lnTo>
                    <a:lnTo>
                      <a:pt x="676" y="153"/>
                    </a:lnTo>
                    <a:lnTo>
                      <a:pt x="681" y="147"/>
                    </a:lnTo>
                    <a:lnTo>
                      <a:pt x="687" y="141"/>
                    </a:lnTo>
                    <a:lnTo>
                      <a:pt x="691" y="137"/>
                    </a:lnTo>
                    <a:lnTo>
                      <a:pt x="697" y="132"/>
                    </a:lnTo>
                    <a:lnTo>
                      <a:pt x="700" y="126"/>
                    </a:lnTo>
                    <a:lnTo>
                      <a:pt x="704" y="120"/>
                    </a:lnTo>
                    <a:lnTo>
                      <a:pt x="709" y="116"/>
                    </a:lnTo>
                    <a:lnTo>
                      <a:pt x="713" y="110"/>
                    </a:lnTo>
                    <a:lnTo>
                      <a:pt x="716" y="104"/>
                    </a:lnTo>
                    <a:lnTo>
                      <a:pt x="719" y="98"/>
                    </a:lnTo>
                    <a:lnTo>
                      <a:pt x="722" y="94"/>
                    </a:lnTo>
                    <a:lnTo>
                      <a:pt x="727" y="89"/>
                    </a:lnTo>
                    <a:lnTo>
                      <a:pt x="728" y="83"/>
                    </a:lnTo>
                    <a:lnTo>
                      <a:pt x="730" y="79"/>
                    </a:lnTo>
                    <a:lnTo>
                      <a:pt x="733" y="73"/>
                    </a:lnTo>
                    <a:lnTo>
                      <a:pt x="734" y="70"/>
                    </a:lnTo>
                    <a:lnTo>
                      <a:pt x="736" y="64"/>
                    </a:lnTo>
                    <a:lnTo>
                      <a:pt x="737" y="61"/>
                    </a:lnTo>
                    <a:lnTo>
                      <a:pt x="739" y="56"/>
                    </a:lnTo>
                    <a:lnTo>
                      <a:pt x="741" y="53"/>
                    </a:lnTo>
                    <a:lnTo>
                      <a:pt x="741" y="50"/>
                    </a:lnTo>
                    <a:lnTo>
                      <a:pt x="741" y="48"/>
                    </a:lnTo>
                    <a:lnTo>
                      <a:pt x="743" y="45"/>
                    </a:lnTo>
                    <a:lnTo>
                      <a:pt x="744" y="43"/>
                    </a:lnTo>
                    <a:lnTo>
                      <a:pt x="744" y="40"/>
                    </a:lnTo>
                    <a:lnTo>
                      <a:pt x="744" y="40"/>
                    </a:lnTo>
                    <a:lnTo>
                      <a:pt x="602" y="59"/>
                    </a:lnTo>
                    <a:lnTo>
                      <a:pt x="599" y="59"/>
                    </a:lnTo>
                    <a:lnTo>
                      <a:pt x="595" y="58"/>
                    </a:lnTo>
                    <a:lnTo>
                      <a:pt x="590" y="58"/>
                    </a:lnTo>
                    <a:lnTo>
                      <a:pt x="586" y="58"/>
                    </a:lnTo>
                    <a:lnTo>
                      <a:pt x="580" y="56"/>
                    </a:lnTo>
                    <a:lnTo>
                      <a:pt x="575" y="56"/>
                    </a:lnTo>
                    <a:lnTo>
                      <a:pt x="571" y="56"/>
                    </a:lnTo>
                    <a:lnTo>
                      <a:pt x="568" y="56"/>
                    </a:lnTo>
                    <a:lnTo>
                      <a:pt x="563" y="55"/>
                    </a:lnTo>
                    <a:lnTo>
                      <a:pt x="560" y="55"/>
                    </a:lnTo>
                    <a:lnTo>
                      <a:pt x="556" y="55"/>
                    </a:lnTo>
                    <a:lnTo>
                      <a:pt x="553" y="55"/>
                    </a:lnTo>
                    <a:lnTo>
                      <a:pt x="549" y="55"/>
                    </a:lnTo>
                    <a:lnTo>
                      <a:pt x="546" y="55"/>
                    </a:lnTo>
                    <a:lnTo>
                      <a:pt x="540" y="55"/>
                    </a:lnTo>
                    <a:lnTo>
                      <a:pt x="535" y="55"/>
                    </a:lnTo>
                    <a:lnTo>
                      <a:pt x="532" y="53"/>
                    </a:lnTo>
                    <a:lnTo>
                      <a:pt x="528" y="53"/>
                    </a:lnTo>
                    <a:lnTo>
                      <a:pt x="522" y="53"/>
                    </a:lnTo>
                    <a:lnTo>
                      <a:pt x="517" y="53"/>
                    </a:lnTo>
                    <a:lnTo>
                      <a:pt x="513" y="53"/>
                    </a:lnTo>
                    <a:lnTo>
                      <a:pt x="509" y="53"/>
                    </a:lnTo>
                    <a:lnTo>
                      <a:pt x="503" y="53"/>
                    </a:lnTo>
                    <a:lnTo>
                      <a:pt x="498" y="53"/>
                    </a:lnTo>
                    <a:lnTo>
                      <a:pt x="492" y="53"/>
                    </a:lnTo>
                    <a:lnTo>
                      <a:pt x="488" y="53"/>
                    </a:lnTo>
                    <a:lnTo>
                      <a:pt x="482" y="53"/>
                    </a:lnTo>
                    <a:lnTo>
                      <a:pt x="477" y="53"/>
                    </a:lnTo>
                    <a:lnTo>
                      <a:pt x="473" y="53"/>
                    </a:lnTo>
                    <a:lnTo>
                      <a:pt x="467" y="53"/>
                    </a:lnTo>
                    <a:lnTo>
                      <a:pt x="461" y="53"/>
                    </a:lnTo>
                    <a:lnTo>
                      <a:pt x="457" y="53"/>
                    </a:lnTo>
                    <a:lnTo>
                      <a:pt x="451" y="53"/>
                    </a:lnTo>
                    <a:lnTo>
                      <a:pt x="446" y="53"/>
                    </a:lnTo>
                    <a:lnTo>
                      <a:pt x="440" y="53"/>
                    </a:lnTo>
                    <a:lnTo>
                      <a:pt x="434" y="55"/>
                    </a:lnTo>
                    <a:lnTo>
                      <a:pt x="428" y="55"/>
                    </a:lnTo>
                    <a:lnTo>
                      <a:pt x="424" y="55"/>
                    </a:lnTo>
                    <a:lnTo>
                      <a:pt x="418" y="55"/>
                    </a:lnTo>
                    <a:lnTo>
                      <a:pt x="412" y="55"/>
                    </a:lnTo>
                    <a:lnTo>
                      <a:pt x="408" y="56"/>
                    </a:lnTo>
                    <a:lnTo>
                      <a:pt x="402" y="56"/>
                    </a:lnTo>
                    <a:lnTo>
                      <a:pt x="396" y="56"/>
                    </a:lnTo>
                    <a:lnTo>
                      <a:pt x="391" y="58"/>
                    </a:lnTo>
                    <a:lnTo>
                      <a:pt x="385" y="58"/>
                    </a:lnTo>
                    <a:lnTo>
                      <a:pt x="381" y="59"/>
                    </a:lnTo>
                    <a:lnTo>
                      <a:pt x="375" y="59"/>
                    </a:lnTo>
                    <a:lnTo>
                      <a:pt x="371" y="61"/>
                    </a:lnTo>
                    <a:lnTo>
                      <a:pt x="365" y="61"/>
                    </a:lnTo>
                    <a:lnTo>
                      <a:pt x="360" y="62"/>
                    </a:lnTo>
                    <a:lnTo>
                      <a:pt x="356" y="62"/>
                    </a:lnTo>
                    <a:lnTo>
                      <a:pt x="351" y="64"/>
                    </a:lnTo>
                    <a:lnTo>
                      <a:pt x="345" y="65"/>
                    </a:lnTo>
                    <a:lnTo>
                      <a:pt x="341" y="67"/>
                    </a:lnTo>
                    <a:lnTo>
                      <a:pt x="336" y="67"/>
                    </a:lnTo>
                    <a:lnTo>
                      <a:pt x="332" y="68"/>
                    </a:lnTo>
                    <a:lnTo>
                      <a:pt x="328" y="70"/>
                    </a:lnTo>
                    <a:lnTo>
                      <a:pt x="323" y="71"/>
                    </a:lnTo>
                    <a:lnTo>
                      <a:pt x="319" y="73"/>
                    </a:lnTo>
                    <a:lnTo>
                      <a:pt x="316" y="74"/>
                    </a:lnTo>
                    <a:lnTo>
                      <a:pt x="311" y="74"/>
                    </a:lnTo>
                    <a:lnTo>
                      <a:pt x="308" y="77"/>
                    </a:lnTo>
                    <a:lnTo>
                      <a:pt x="304" y="79"/>
                    </a:lnTo>
                    <a:lnTo>
                      <a:pt x="299" y="79"/>
                    </a:lnTo>
                    <a:lnTo>
                      <a:pt x="296" y="80"/>
                    </a:lnTo>
                    <a:lnTo>
                      <a:pt x="292" y="82"/>
                    </a:lnTo>
                    <a:lnTo>
                      <a:pt x="284" y="86"/>
                    </a:lnTo>
                    <a:lnTo>
                      <a:pt x="279" y="89"/>
                    </a:lnTo>
                    <a:lnTo>
                      <a:pt x="276" y="92"/>
                    </a:lnTo>
                    <a:lnTo>
                      <a:pt x="271" y="94"/>
                    </a:lnTo>
                    <a:lnTo>
                      <a:pt x="268" y="95"/>
                    </a:lnTo>
                    <a:lnTo>
                      <a:pt x="265" y="96"/>
                    </a:lnTo>
                    <a:lnTo>
                      <a:pt x="259" y="101"/>
                    </a:lnTo>
                    <a:lnTo>
                      <a:pt x="253" y="105"/>
                    </a:lnTo>
                    <a:lnTo>
                      <a:pt x="247" y="108"/>
                    </a:lnTo>
                    <a:lnTo>
                      <a:pt x="243" y="113"/>
                    </a:lnTo>
                    <a:lnTo>
                      <a:pt x="237" y="117"/>
                    </a:lnTo>
                    <a:lnTo>
                      <a:pt x="233" y="123"/>
                    </a:lnTo>
                    <a:lnTo>
                      <a:pt x="227" y="126"/>
                    </a:lnTo>
                    <a:lnTo>
                      <a:pt x="221" y="131"/>
                    </a:lnTo>
                    <a:lnTo>
                      <a:pt x="216" y="135"/>
                    </a:lnTo>
                    <a:lnTo>
                      <a:pt x="210" y="141"/>
                    </a:lnTo>
                    <a:lnTo>
                      <a:pt x="206" y="145"/>
                    </a:lnTo>
                    <a:lnTo>
                      <a:pt x="201" y="150"/>
                    </a:lnTo>
                    <a:lnTo>
                      <a:pt x="195" y="154"/>
                    </a:lnTo>
                    <a:lnTo>
                      <a:pt x="191" y="160"/>
                    </a:lnTo>
                    <a:lnTo>
                      <a:pt x="185" y="165"/>
                    </a:lnTo>
                    <a:lnTo>
                      <a:pt x="181" y="169"/>
                    </a:lnTo>
                    <a:lnTo>
                      <a:pt x="176" y="174"/>
                    </a:lnTo>
                    <a:lnTo>
                      <a:pt x="170" y="178"/>
                    </a:lnTo>
                    <a:lnTo>
                      <a:pt x="166" y="183"/>
                    </a:lnTo>
                    <a:lnTo>
                      <a:pt x="160" y="187"/>
                    </a:lnTo>
                    <a:lnTo>
                      <a:pt x="154" y="191"/>
                    </a:lnTo>
                    <a:lnTo>
                      <a:pt x="149" y="197"/>
                    </a:lnTo>
                    <a:lnTo>
                      <a:pt x="142" y="200"/>
                    </a:lnTo>
                    <a:lnTo>
                      <a:pt x="136" y="205"/>
                    </a:lnTo>
                    <a:lnTo>
                      <a:pt x="130" y="208"/>
                    </a:lnTo>
                    <a:lnTo>
                      <a:pt x="124" y="212"/>
                    </a:lnTo>
                    <a:lnTo>
                      <a:pt x="117" y="215"/>
                    </a:lnTo>
                    <a:lnTo>
                      <a:pt x="111" y="220"/>
                    </a:lnTo>
                    <a:lnTo>
                      <a:pt x="105" y="223"/>
                    </a:lnTo>
                    <a:lnTo>
                      <a:pt x="99" y="227"/>
                    </a:lnTo>
                    <a:lnTo>
                      <a:pt x="92" y="229"/>
                    </a:lnTo>
                    <a:lnTo>
                      <a:pt x="86" y="233"/>
                    </a:lnTo>
                    <a:lnTo>
                      <a:pt x="80" y="234"/>
                    </a:lnTo>
                    <a:lnTo>
                      <a:pt x="72" y="237"/>
                    </a:lnTo>
                    <a:lnTo>
                      <a:pt x="66" y="240"/>
                    </a:lnTo>
                    <a:lnTo>
                      <a:pt x="62" y="243"/>
                    </a:lnTo>
                    <a:lnTo>
                      <a:pt x="56" y="245"/>
                    </a:lnTo>
                    <a:lnTo>
                      <a:pt x="50" y="248"/>
                    </a:lnTo>
                    <a:lnTo>
                      <a:pt x="44" y="249"/>
                    </a:lnTo>
                    <a:lnTo>
                      <a:pt x="40" y="251"/>
                    </a:lnTo>
                    <a:lnTo>
                      <a:pt x="34" y="254"/>
                    </a:lnTo>
                    <a:lnTo>
                      <a:pt x="29" y="255"/>
                    </a:lnTo>
                    <a:lnTo>
                      <a:pt x="25" y="257"/>
                    </a:lnTo>
                    <a:lnTo>
                      <a:pt x="20" y="258"/>
                    </a:lnTo>
                    <a:lnTo>
                      <a:pt x="17" y="258"/>
                    </a:lnTo>
                    <a:lnTo>
                      <a:pt x="13" y="261"/>
                    </a:lnTo>
                    <a:lnTo>
                      <a:pt x="10" y="261"/>
                    </a:lnTo>
                    <a:lnTo>
                      <a:pt x="7" y="263"/>
                    </a:lnTo>
                    <a:lnTo>
                      <a:pt x="4" y="263"/>
                    </a:lnTo>
                    <a:lnTo>
                      <a:pt x="3" y="264"/>
                    </a:lnTo>
                    <a:lnTo>
                      <a:pt x="0" y="264"/>
                    </a:lnTo>
                    <a:lnTo>
                      <a:pt x="244" y="59"/>
                    </a:lnTo>
                    <a:lnTo>
                      <a:pt x="244" y="5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465360" y="2219400"/>
                <a:ext cx="382680" cy="342720"/>
              </a:xfrm>
              <a:custGeom>
                <a:avLst/>
                <a:gdLst/>
                <a:ahLst/>
                <a:rect l="l" t="t" r="r" b="b"/>
                <a:pathLst>
                  <a:path w="484" h="431">
                    <a:moveTo>
                      <a:pt x="444" y="7"/>
                    </a:moveTo>
                    <a:lnTo>
                      <a:pt x="442" y="9"/>
                    </a:lnTo>
                    <a:lnTo>
                      <a:pt x="441" y="13"/>
                    </a:lnTo>
                    <a:lnTo>
                      <a:pt x="439" y="14"/>
                    </a:lnTo>
                    <a:lnTo>
                      <a:pt x="436" y="19"/>
                    </a:lnTo>
                    <a:lnTo>
                      <a:pt x="435" y="23"/>
                    </a:lnTo>
                    <a:lnTo>
                      <a:pt x="433" y="29"/>
                    </a:lnTo>
                    <a:lnTo>
                      <a:pt x="430" y="34"/>
                    </a:lnTo>
                    <a:lnTo>
                      <a:pt x="427" y="40"/>
                    </a:lnTo>
                    <a:lnTo>
                      <a:pt x="424" y="43"/>
                    </a:lnTo>
                    <a:lnTo>
                      <a:pt x="423" y="47"/>
                    </a:lnTo>
                    <a:lnTo>
                      <a:pt x="421" y="50"/>
                    </a:lnTo>
                    <a:lnTo>
                      <a:pt x="420" y="55"/>
                    </a:lnTo>
                    <a:lnTo>
                      <a:pt x="417" y="58"/>
                    </a:lnTo>
                    <a:lnTo>
                      <a:pt x="416" y="62"/>
                    </a:lnTo>
                    <a:lnTo>
                      <a:pt x="414" y="65"/>
                    </a:lnTo>
                    <a:lnTo>
                      <a:pt x="411" y="69"/>
                    </a:lnTo>
                    <a:lnTo>
                      <a:pt x="410" y="74"/>
                    </a:lnTo>
                    <a:lnTo>
                      <a:pt x="407" y="78"/>
                    </a:lnTo>
                    <a:lnTo>
                      <a:pt x="404" y="83"/>
                    </a:lnTo>
                    <a:lnTo>
                      <a:pt x="402" y="89"/>
                    </a:lnTo>
                    <a:lnTo>
                      <a:pt x="399" y="92"/>
                    </a:lnTo>
                    <a:lnTo>
                      <a:pt x="396" y="96"/>
                    </a:lnTo>
                    <a:lnTo>
                      <a:pt x="393" y="101"/>
                    </a:lnTo>
                    <a:lnTo>
                      <a:pt x="390" y="106"/>
                    </a:lnTo>
                    <a:lnTo>
                      <a:pt x="387" y="111"/>
                    </a:lnTo>
                    <a:lnTo>
                      <a:pt x="384" y="115"/>
                    </a:lnTo>
                    <a:lnTo>
                      <a:pt x="380" y="120"/>
                    </a:lnTo>
                    <a:lnTo>
                      <a:pt x="378" y="126"/>
                    </a:lnTo>
                    <a:lnTo>
                      <a:pt x="374" y="129"/>
                    </a:lnTo>
                    <a:lnTo>
                      <a:pt x="371" y="135"/>
                    </a:lnTo>
                    <a:lnTo>
                      <a:pt x="368" y="139"/>
                    </a:lnTo>
                    <a:lnTo>
                      <a:pt x="365" y="145"/>
                    </a:lnTo>
                    <a:lnTo>
                      <a:pt x="361" y="150"/>
                    </a:lnTo>
                    <a:lnTo>
                      <a:pt x="358" y="155"/>
                    </a:lnTo>
                    <a:lnTo>
                      <a:pt x="353" y="160"/>
                    </a:lnTo>
                    <a:lnTo>
                      <a:pt x="350" y="166"/>
                    </a:lnTo>
                    <a:lnTo>
                      <a:pt x="346" y="170"/>
                    </a:lnTo>
                    <a:lnTo>
                      <a:pt x="341" y="176"/>
                    </a:lnTo>
                    <a:lnTo>
                      <a:pt x="337" y="181"/>
                    </a:lnTo>
                    <a:lnTo>
                      <a:pt x="332" y="187"/>
                    </a:lnTo>
                    <a:lnTo>
                      <a:pt x="328" y="191"/>
                    </a:lnTo>
                    <a:lnTo>
                      <a:pt x="324" y="197"/>
                    </a:lnTo>
                    <a:lnTo>
                      <a:pt x="321" y="201"/>
                    </a:lnTo>
                    <a:lnTo>
                      <a:pt x="316" y="207"/>
                    </a:lnTo>
                    <a:lnTo>
                      <a:pt x="312" y="212"/>
                    </a:lnTo>
                    <a:lnTo>
                      <a:pt x="306" y="218"/>
                    </a:lnTo>
                    <a:lnTo>
                      <a:pt x="301" y="222"/>
                    </a:lnTo>
                    <a:lnTo>
                      <a:pt x="297" y="228"/>
                    </a:lnTo>
                    <a:lnTo>
                      <a:pt x="291" y="233"/>
                    </a:lnTo>
                    <a:lnTo>
                      <a:pt x="286" y="239"/>
                    </a:lnTo>
                    <a:lnTo>
                      <a:pt x="282" y="243"/>
                    </a:lnTo>
                    <a:lnTo>
                      <a:pt x="278" y="249"/>
                    </a:lnTo>
                    <a:lnTo>
                      <a:pt x="272" y="253"/>
                    </a:lnTo>
                    <a:lnTo>
                      <a:pt x="266" y="258"/>
                    </a:lnTo>
                    <a:lnTo>
                      <a:pt x="260" y="262"/>
                    </a:lnTo>
                    <a:lnTo>
                      <a:pt x="255" y="268"/>
                    </a:lnTo>
                    <a:lnTo>
                      <a:pt x="249" y="273"/>
                    </a:lnTo>
                    <a:lnTo>
                      <a:pt x="243" y="277"/>
                    </a:lnTo>
                    <a:lnTo>
                      <a:pt x="237" y="282"/>
                    </a:lnTo>
                    <a:lnTo>
                      <a:pt x="233" y="288"/>
                    </a:lnTo>
                    <a:lnTo>
                      <a:pt x="227" y="290"/>
                    </a:lnTo>
                    <a:lnTo>
                      <a:pt x="221" y="295"/>
                    </a:lnTo>
                    <a:lnTo>
                      <a:pt x="215" y="299"/>
                    </a:lnTo>
                    <a:lnTo>
                      <a:pt x="209" y="305"/>
                    </a:lnTo>
                    <a:lnTo>
                      <a:pt x="203" y="308"/>
                    </a:lnTo>
                    <a:lnTo>
                      <a:pt x="197" y="314"/>
                    </a:lnTo>
                    <a:lnTo>
                      <a:pt x="191" y="317"/>
                    </a:lnTo>
                    <a:lnTo>
                      <a:pt x="186" y="322"/>
                    </a:lnTo>
                    <a:lnTo>
                      <a:pt x="180" y="326"/>
                    </a:lnTo>
                    <a:lnTo>
                      <a:pt x="174" y="329"/>
                    </a:lnTo>
                    <a:lnTo>
                      <a:pt x="168" y="334"/>
                    </a:lnTo>
                    <a:lnTo>
                      <a:pt x="162" y="338"/>
                    </a:lnTo>
                    <a:lnTo>
                      <a:pt x="156" y="341"/>
                    </a:lnTo>
                    <a:lnTo>
                      <a:pt x="150" y="345"/>
                    </a:lnTo>
                    <a:lnTo>
                      <a:pt x="145" y="348"/>
                    </a:lnTo>
                    <a:lnTo>
                      <a:pt x="140" y="353"/>
                    </a:lnTo>
                    <a:lnTo>
                      <a:pt x="134" y="356"/>
                    </a:lnTo>
                    <a:lnTo>
                      <a:pt x="128" y="360"/>
                    </a:lnTo>
                    <a:lnTo>
                      <a:pt x="123" y="363"/>
                    </a:lnTo>
                    <a:lnTo>
                      <a:pt x="117" y="366"/>
                    </a:lnTo>
                    <a:lnTo>
                      <a:pt x="111" y="371"/>
                    </a:lnTo>
                    <a:lnTo>
                      <a:pt x="107" y="374"/>
                    </a:lnTo>
                    <a:lnTo>
                      <a:pt x="101" y="377"/>
                    </a:lnTo>
                    <a:lnTo>
                      <a:pt x="97" y="381"/>
                    </a:lnTo>
                    <a:lnTo>
                      <a:pt x="91" y="382"/>
                    </a:lnTo>
                    <a:lnTo>
                      <a:pt x="85" y="385"/>
                    </a:lnTo>
                    <a:lnTo>
                      <a:pt x="80" y="388"/>
                    </a:lnTo>
                    <a:lnTo>
                      <a:pt x="76" y="391"/>
                    </a:lnTo>
                    <a:lnTo>
                      <a:pt x="70" y="394"/>
                    </a:lnTo>
                    <a:lnTo>
                      <a:pt x="67" y="396"/>
                    </a:lnTo>
                    <a:lnTo>
                      <a:pt x="61" y="399"/>
                    </a:lnTo>
                    <a:lnTo>
                      <a:pt x="58" y="402"/>
                    </a:lnTo>
                    <a:lnTo>
                      <a:pt x="52" y="405"/>
                    </a:lnTo>
                    <a:lnTo>
                      <a:pt x="48" y="406"/>
                    </a:lnTo>
                    <a:lnTo>
                      <a:pt x="45" y="408"/>
                    </a:lnTo>
                    <a:lnTo>
                      <a:pt x="40" y="411"/>
                    </a:lnTo>
                    <a:lnTo>
                      <a:pt x="37" y="412"/>
                    </a:lnTo>
                    <a:lnTo>
                      <a:pt x="33" y="415"/>
                    </a:lnTo>
                    <a:lnTo>
                      <a:pt x="30" y="417"/>
                    </a:lnTo>
                    <a:lnTo>
                      <a:pt x="27" y="418"/>
                    </a:lnTo>
                    <a:lnTo>
                      <a:pt x="21" y="421"/>
                    </a:lnTo>
                    <a:lnTo>
                      <a:pt x="15" y="424"/>
                    </a:lnTo>
                    <a:lnTo>
                      <a:pt x="10" y="427"/>
                    </a:lnTo>
                    <a:lnTo>
                      <a:pt x="7" y="428"/>
                    </a:lnTo>
                    <a:lnTo>
                      <a:pt x="2" y="431"/>
                    </a:lnTo>
                    <a:lnTo>
                      <a:pt x="0" y="431"/>
                    </a:lnTo>
                    <a:lnTo>
                      <a:pt x="2" y="431"/>
                    </a:lnTo>
                    <a:lnTo>
                      <a:pt x="3" y="431"/>
                    </a:lnTo>
                    <a:lnTo>
                      <a:pt x="7" y="430"/>
                    </a:lnTo>
                    <a:lnTo>
                      <a:pt x="10" y="430"/>
                    </a:lnTo>
                    <a:lnTo>
                      <a:pt x="16" y="428"/>
                    </a:lnTo>
                    <a:lnTo>
                      <a:pt x="19" y="428"/>
                    </a:lnTo>
                    <a:lnTo>
                      <a:pt x="22" y="427"/>
                    </a:lnTo>
                    <a:lnTo>
                      <a:pt x="25" y="427"/>
                    </a:lnTo>
                    <a:lnTo>
                      <a:pt x="30" y="427"/>
                    </a:lnTo>
                    <a:lnTo>
                      <a:pt x="33" y="426"/>
                    </a:lnTo>
                    <a:lnTo>
                      <a:pt x="37" y="426"/>
                    </a:lnTo>
                    <a:lnTo>
                      <a:pt x="40" y="424"/>
                    </a:lnTo>
                    <a:lnTo>
                      <a:pt x="45" y="423"/>
                    </a:lnTo>
                    <a:lnTo>
                      <a:pt x="49" y="423"/>
                    </a:lnTo>
                    <a:lnTo>
                      <a:pt x="53" y="421"/>
                    </a:lnTo>
                    <a:lnTo>
                      <a:pt x="58" y="420"/>
                    </a:lnTo>
                    <a:lnTo>
                      <a:pt x="62" y="420"/>
                    </a:lnTo>
                    <a:lnTo>
                      <a:pt x="67" y="417"/>
                    </a:lnTo>
                    <a:lnTo>
                      <a:pt x="73" y="415"/>
                    </a:lnTo>
                    <a:lnTo>
                      <a:pt x="77" y="415"/>
                    </a:lnTo>
                    <a:lnTo>
                      <a:pt x="83" y="414"/>
                    </a:lnTo>
                    <a:lnTo>
                      <a:pt x="89" y="412"/>
                    </a:lnTo>
                    <a:lnTo>
                      <a:pt x="94" y="411"/>
                    </a:lnTo>
                    <a:lnTo>
                      <a:pt x="99" y="409"/>
                    </a:lnTo>
                    <a:lnTo>
                      <a:pt x="105" y="408"/>
                    </a:lnTo>
                    <a:lnTo>
                      <a:pt x="111" y="405"/>
                    </a:lnTo>
                    <a:lnTo>
                      <a:pt x="117" y="403"/>
                    </a:lnTo>
                    <a:lnTo>
                      <a:pt x="123" y="402"/>
                    </a:lnTo>
                    <a:lnTo>
                      <a:pt x="129" y="400"/>
                    </a:lnTo>
                    <a:lnTo>
                      <a:pt x="134" y="397"/>
                    </a:lnTo>
                    <a:lnTo>
                      <a:pt x="141" y="396"/>
                    </a:lnTo>
                    <a:lnTo>
                      <a:pt x="147" y="393"/>
                    </a:lnTo>
                    <a:lnTo>
                      <a:pt x="153" y="391"/>
                    </a:lnTo>
                    <a:lnTo>
                      <a:pt x="159" y="388"/>
                    </a:lnTo>
                    <a:lnTo>
                      <a:pt x="166" y="385"/>
                    </a:lnTo>
                    <a:lnTo>
                      <a:pt x="171" y="382"/>
                    </a:lnTo>
                    <a:lnTo>
                      <a:pt x="178" y="380"/>
                    </a:lnTo>
                    <a:lnTo>
                      <a:pt x="184" y="377"/>
                    </a:lnTo>
                    <a:lnTo>
                      <a:pt x="191" y="374"/>
                    </a:lnTo>
                    <a:lnTo>
                      <a:pt x="197" y="371"/>
                    </a:lnTo>
                    <a:lnTo>
                      <a:pt x="205" y="369"/>
                    </a:lnTo>
                    <a:lnTo>
                      <a:pt x="209" y="365"/>
                    </a:lnTo>
                    <a:lnTo>
                      <a:pt x="217" y="362"/>
                    </a:lnTo>
                    <a:lnTo>
                      <a:pt x="223" y="357"/>
                    </a:lnTo>
                    <a:lnTo>
                      <a:pt x="229" y="354"/>
                    </a:lnTo>
                    <a:lnTo>
                      <a:pt x="235" y="351"/>
                    </a:lnTo>
                    <a:lnTo>
                      <a:pt x="242" y="347"/>
                    </a:lnTo>
                    <a:lnTo>
                      <a:pt x="248" y="344"/>
                    </a:lnTo>
                    <a:lnTo>
                      <a:pt x="254" y="339"/>
                    </a:lnTo>
                    <a:lnTo>
                      <a:pt x="260" y="335"/>
                    </a:lnTo>
                    <a:lnTo>
                      <a:pt x="266" y="331"/>
                    </a:lnTo>
                    <a:lnTo>
                      <a:pt x="272" y="326"/>
                    </a:lnTo>
                    <a:lnTo>
                      <a:pt x="279" y="322"/>
                    </a:lnTo>
                    <a:lnTo>
                      <a:pt x="283" y="317"/>
                    </a:lnTo>
                    <a:lnTo>
                      <a:pt x="291" y="313"/>
                    </a:lnTo>
                    <a:lnTo>
                      <a:pt x="297" y="308"/>
                    </a:lnTo>
                    <a:lnTo>
                      <a:pt x="303" y="304"/>
                    </a:lnTo>
                    <a:lnTo>
                      <a:pt x="307" y="298"/>
                    </a:lnTo>
                    <a:lnTo>
                      <a:pt x="313" y="292"/>
                    </a:lnTo>
                    <a:lnTo>
                      <a:pt x="318" y="288"/>
                    </a:lnTo>
                    <a:lnTo>
                      <a:pt x="324" y="282"/>
                    </a:lnTo>
                    <a:lnTo>
                      <a:pt x="328" y="276"/>
                    </a:lnTo>
                    <a:lnTo>
                      <a:pt x="334" y="270"/>
                    </a:lnTo>
                    <a:lnTo>
                      <a:pt x="338" y="264"/>
                    </a:lnTo>
                    <a:lnTo>
                      <a:pt x="344" y="259"/>
                    </a:lnTo>
                    <a:lnTo>
                      <a:pt x="349" y="253"/>
                    </a:lnTo>
                    <a:lnTo>
                      <a:pt x="353" y="246"/>
                    </a:lnTo>
                    <a:lnTo>
                      <a:pt x="358" y="240"/>
                    </a:lnTo>
                    <a:lnTo>
                      <a:pt x="364" y="234"/>
                    </a:lnTo>
                    <a:lnTo>
                      <a:pt x="368" y="228"/>
                    </a:lnTo>
                    <a:lnTo>
                      <a:pt x="373" y="222"/>
                    </a:lnTo>
                    <a:lnTo>
                      <a:pt x="375" y="215"/>
                    </a:lnTo>
                    <a:lnTo>
                      <a:pt x="381" y="210"/>
                    </a:lnTo>
                    <a:lnTo>
                      <a:pt x="384" y="203"/>
                    </a:lnTo>
                    <a:lnTo>
                      <a:pt x="389" y="197"/>
                    </a:lnTo>
                    <a:lnTo>
                      <a:pt x="393" y="190"/>
                    </a:lnTo>
                    <a:lnTo>
                      <a:pt x="398" y="185"/>
                    </a:lnTo>
                    <a:lnTo>
                      <a:pt x="401" y="178"/>
                    </a:lnTo>
                    <a:lnTo>
                      <a:pt x="405" y="172"/>
                    </a:lnTo>
                    <a:lnTo>
                      <a:pt x="408" y="164"/>
                    </a:lnTo>
                    <a:lnTo>
                      <a:pt x="413" y="158"/>
                    </a:lnTo>
                    <a:lnTo>
                      <a:pt x="416" y="152"/>
                    </a:lnTo>
                    <a:lnTo>
                      <a:pt x="419" y="147"/>
                    </a:lnTo>
                    <a:lnTo>
                      <a:pt x="421" y="141"/>
                    </a:lnTo>
                    <a:lnTo>
                      <a:pt x="424" y="135"/>
                    </a:lnTo>
                    <a:lnTo>
                      <a:pt x="429" y="129"/>
                    </a:lnTo>
                    <a:lnTo>
                      <a:pt x="432" y="121"/>
                    </a:lnTo>
                    <a:lnTo>
                      <a:pt x="435" y="117"/>
                    </a:lnTo>
                    <a:lnTo>
                      <a:pt x="438" y="111"/>
                    </a:lnTo>
                    <a:lnTo>
                      <a:pt x="441" y="105"/>
                    </a:lnTo>
                    <a:lnTo>
                      <a:pt x="444" y="99"/>
                    </a:lnTo>
                    <a:lnTo>
                      <a:pt x="445" y="93"/>
                    </a:lnTo>
                    <a:lnTo>
                      <a:pt x="448" y="87"/>
                    </a:lnTo>
                    <a:lnTo>
                      <a:pt x="451" y="81"/>
                    </a:lnTo>
                    <a:lnTo>
                      <a:pt x="453" y="77"/>
                    </a:lnTo>
                    <a:lnTo>
                      <a:pt x="456" y="71"/>
                    </a:lnTo>
                    <a:lnTo>
                      <a:pt x="459" y="66"/>
                    </a:lnTo>
                    <a:lnTo>
                      <a:pt x="460" y="60"/>
                    </a:lnTo>
                    <a:lnTo>
                      <a:pt x="462" y="56"/>
                    </a:lnTo>
                    <a:lnTo>
                      <a:pt x="463" y="52"/>
                    </a:lnTo>
                    <a:lnTo>
                      <a:pt x="466" y="47"/>
                    </a:lnTo>
                    <a:lnTo>
                      <a:pt x="466" y="43"/>
                    </a:lnTo>
                    <a:lnTo>
                      <a:pt x="469" y="38"/>
                    </a:lnTo>
                    <a:lnTo>
                      <a:pt x="470" y="35"/>
                    </a:lnTo>
                    <a:lnTo>
                      <a:pt x="472" y="31"/>
                    </a:lnTo>
                    <a:lnTo>
                      <a:pt x="473" y="28"/>
                    </a:lnTo>
                    <a:lnTo>
                      <a:pt x="473" y="23"/>
                    </a:lnTo>
                    <a:lnTo>
                      <a:pt x="475" y="20"/>
                    </a:lnTo>
                    <a:lnTo>
                      <a:pt x="476" y="17"/>
                    </a:lnTo>
                    <a:lnTo>
                      <a:pt x="478" y="12"/>
                    </a:lnTo>
                    <a:lnTo>
                      <a:pt x="481" y="7"/>
                    </a:lnTo>
                    <a:lnTo>
                      <a:pt x="481" y="3"/>
                    </a:lnTo>
                    <a:lnTo>
                      <a:pt x="482" y="1"/>
                    </a:lnTo>
                    <a:lnTo>
                      <a:pt x="484" y="0"/>
                    </a:lnTo>
                    <a:lnTo>
                      <a:pt x="444" y="7"/>
                    </a:lnTo>
                    <a:lnTo>
                      <a:pt x="444"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733560" y="2141640"/>
                <a:ext cx="397080" cy="330120"/>
              </a:xfrm>
              <a:custGeom>
                <a:avLst/>
                <a:gdLst/>
                <a:ahLst/>
                <a:rect l="l" t="t" r="r" b="b"/>
                <a:pathLst>
                  <a:path w="500" h="417">
                    <a:moveTo>
                      <a:pt x="465" y="14"/>
                    </a:moveTo>
                    <a:lnTo>
                      <a:pt x="465" y="14"/>
                    </a:lnTo>
                    <a:lnTo>
                      <a:pt x="465" y="17"/>
                    </a:lnTo>
                    <a:lnTo>
                      <a:pt x="465" y="20"/>
                    </a:lnTo>
                    <a:lnTo>
                      <a:pt x="466" y="25"/>
                    </a:lnTo>
                    <a:lnTo>
                      <a:pt x="465" y="30"/>
                    </a:lnTo>
                    <a:lnTo>
                      <a:pt x="465" y="33"/>
                    </a:lnTo>
                    <a:lnTo>
                      <a:pt x="465" y="37"/>
                    </a:lnTo>
                    <a:lnTo>
                      <a:pt x="465" y="42"/>
                    </a:lnTo>
                    <a:lnTo>
                      <a:pt x="465" y="46"/>
                    </a:lnTo>
                    <a:lnTo>
                      <a:pt x="465" y="52"/>
                    </a:lnTo>
                    <a:lnTo>
                      <a:pt x="465" y="58"/>
                    </a:lnTo>
                    <a:lnTo>
                      <a:pt x="463" y="64"/>
                    </a:lnTo>
                    <a:lnTo>
                      <a:pt x="462" y="70"/>
                    </a:lnTo>
                    <a:lnTo>
                      <a:pt x="460" y="76"/>
                    </a:lnTo>
                    <a:lnTo>
                      <a:pt x="459" y="82"/>
                    </a:lnTo>
                    <a:lnTo>
                      <a:pt x="457" y="89"/>
                    </a:lnTo>
                    <a:lnTo>
                      <a:pt x="456" y="92"/>
                    </a:lnTo>
                    <a:lnTo>
                      <a:pt x="454" y="95"/>
                    </a:lnTo>
                    <a:lnTo>
                      <a:pt x="453" y="98"/>
                    </a:lnTo>
                    <a:lnTo>
                      <a:pt x="451" y="103"/>
                    </a:lnTo>
                    <a:lnTo>
                      <a:pt x="450" y="106"/>
                    </a:lnTo>
                    <a:lnTo>
                      <a:pt x="448" y="110"/>
                    </a:lnTo>
                    <a:lnTo>
                      <a:pt x="447" y="113"/>
                    </a:lnTo>
                    <a:lnTo>
                      <a:pt x="446" y="117"/>
                    </a:lnTo>
                    <a:lnTo>
                      <a:pt x="444" y="122"/>
                    </a:lnTo>
                    <a:lnTo>
                      <a:pt x="443" y="125"/>
                    </a:lnTo>
                    <a:lnTo>
                      <a:pt x="440" y="129"/>
                    </a:lnTo>
                    <a:lnTo>
                      <a:pt x="438" y="132"/>
                    </a:lnTo>
                    <a:lnTo>
                      <a:pt x="435" y="137"/>
                    </a:lnTo>
                    <a:lnTo>
                      <a:pt x="434" y="141"/>
                    </a:lnTo>
                    <a:lnTo>
                      <a:pt x="431" y="146"/>
                    </a:lnTo>
                    <a:lnTo>
                      <a:pt x="428" y="150"/>
                    </a:lnTo>
                    <a:lnTo>
                      <a:pt x="425" y="153"/>
                    </a:lnTo>
                    <a:lnTo>
                      <a:pt x="422" y="158"/>
                    </a:lnTo>
                    <a:lnTo>
                      <a:pt x="419" y="162"/>
                    </a:lnTo>
                    <a:lnTo>
                      <a:pt x="416" y="166"/>
                    </a:lnTo>
                    <a:lnTo>
                      <a:pt x="413" y="169"/>
                    </a:lnTo>
                    <a:lnTo>
                      <a:pt x="410" y="174"/>
                    </a:lnTo>
                    <a:lnTo>
                      <a:pt x="405" y="178"/>
                    </a:lnTo>
                    <a:lnTo>
                      <a:pt x="403" y="184"/>
                    </a:lnTo>
                    <a:lnTo>
                      <a:pt x="398" y="187"/>
                    </a:lnTo>
                    <a:lnTo>
                      <a:pt x="395" y="192"/>
                    </a:lnTo>
                    <a:lnTo>
                      <a:pt x="391" y="196"/>
                    </a:lnTo>
                    <a:lnTo>
                      <a:pt x="386" y="201"/>
                    </a:lnTo>
                    <a:lnTo>
                      <a:pt x="382" y="204"/>
                    </a:lnTo>
                    <a:lnTo>
                      <a:pt x="377" y="209"/>
                    </a:lnTo>
                    <a:lnTo>
                      <a:pt x="373" y="212"/>
                    </a:lnTo>
                    <a:lnTo>
                      <a:pt x="368" y="218"/>
                    </a:lnTo>
                    <a:lnTo>
                      <a:pt x="364" y="221"/>
                    </a:lnTo>
                    <a:lnTo>
                      <a:pt x="358" y="226"/>
                    </a:lnTo>
                    <a:lnTo>
                      <a:pt x="354" y="230"/>
                    </a:lnTo>
                    <a:lnTo>
                      <a:pt x="349" y="235"/>
                    </a:lnTo>
                    <a:lnTo>
                      <a:pt x="343" y="239"/>
                    </a:lnTo>
                    <a:lnTo>
                      <a:pt x="337" y="244"/>
                    </a:lnTo>
                    <a:lnTo>
                      <a:pt x="333" y="248"/>
                    </a:lnTo>
                    <a:lnTo>
                      <a:pt x="328" y="252"/>
                    </a:lnTo>
                    <a:lnTo>
                      <a:pt x="322" y="255"/>
                    </a:lnTo>
                    <a:lnTo>
                      <a:pt x="316" y="260"/>
                    </a:lnTo>
                    <a:lnTo>
                      <a:pt x="311" y="264"/>
                    </a:lnTo>
                    <a:lnTo>
                      <a:pt x="305" y="269"/>
                    </a:lnTo>
                    <a:lnTo>
                      <a:pt x="300" y="272"/>
                    </a:lnTo>
                    <a:lnTo>
                      <a:pt x="294" y="276"/>
                    </a:lnTo>
                    <a:lnTo>
                      <a:pt x="288" y="281"/>
                    </a:lnTo>
                    <a:lnTo>
                      <a:pt x="282" y="285"/>
                    </a:lnTo>
                    <a:lnTo>
                      <a:pt x="276" y="288"/>
                    </a:lnTo>
                    <a:lnTo>
                      <a:pt x="270" y="293"/>
                    </a:lnTo>
                    <a:lnTo>
                      <a:pt x="265" y="296"/>
                    </a:lnTo>
                    <a:lnTo>
                      <a:pt x="259" y="300"/>
                    </a:lnTo>
                    <a:lnTo>
                      <a:pt x="253" y="304"/>
                    </a:lnTo>
                    <a:lnTo>
                      <a:pt x="248" y="307"/>
                    </a:lnTo>
                    <a:lnTo>
                      <a:pt x="242" y="312"/>
                    </a:lnTo>
                    <a:lnTo>
                      <a:pt x="236" y="315"/>
                    </a:lnTo>
                    <a:lnTo>
                      <a:pt x="230" y="318"/>
                    </a:lnTo>
                    <a:lnTo>
                      <a:pt x="224" y="321"/>
                    </a:lnTo>
                    <a:lnTo>
                      <a:pt x="219" y="324"/>
                    </a:lnTo>
                    <a:lnTo>
                      <a:pt x="213" y="327"/>
                    </a:lnTo>
                    <a:lnTo>
                      <a:pt x="207" y="330"/>
                    </a:lnTo>
                    <a:lnTo>
                      <a:pt x="201" y="334"/>
                    </a:lnTo>
                    <a:lnTo>
                      <a:pt x="195" y="337"/>
                    </a:lnTo>
                    <a:lnTo>
                      <a:pt x="190" y="340"/>
                    </a:lnTo>
                    <a:lnTo>
                      <a:pt x="184" y="342"/>
                    </a:lnTo>
                    <a:lnTo>
                      <a:pt x="178" y="344"/>
                    </a:lnTo>
                    <a:lnTo>
                      <a:pt x="173" y="347"/>
                    </a:lnTo>
                    <a:lnTo>
                      <a:pt x="168" y="350"/>
                    </a:lnTo>
                    <a:lnTo>
                      <a:pt x="162" y="352"/>
                    </a:lnTo>
                    <a:lnTo>
                      <a:pt x="156" y="355"/>
                    </a:lnTo>
                    <a:lnTo>
                      <a:pt x="152" y="356"/>
                    </a:lnTo>
                    <a:lnTo>
                      <a:pt x="147" y="359"/>
                    </a:lnTo>
                    <a:lnTo>
                      <a:pt x="141" y="361"/>
                    </a:lnTo>
                    <a:lnTo>
                      <a:pt x="137" y="362"/>
                    </a:lnTo>
                    <a:lnTo>
                      <a:pt x="131" y="364"/>
                    </a:lnTo>
                    <a:lnTo>
                      <a:pt x="128" y="367"/>
                    </a:lnTo>
                    <a:lnTo>
                      <a:pt x="122" y="368"/>
                    </a:lnTo>
                    <a:lnTo>
                      <a:pt x="118" y="368"/>
                    </a:lnTo>
                    <a:lnTo>
                      <a:pt x="113" y="370"/>
                    </a:lnTo>
                    <a:lnTo>
                      <a:pt x="109" y="371"/>
                    </a:lnTo>
                    <a:lnTo>
                      <a:pt x="106" y="373"/>
                    </a:lnTo>
                    <a:lnTo>
                      <a:pt x="101" y="373"/>
                    </a:lnTo>
                    <a:lnTo>
                      <a:pt x="97" y="373"/>
                    </a:lnTo>
                    <a:lnTo>
                      <a:pt x="94" y="374"/>
                    </a:lnTo>
                    <a:lnTo>
                      <a:pt x="89" y="376"/>
                    </a:lnTo>
                    <a:lnTo>
                      <a:pt x="86" y="376"/>
                    </a:lnTo>
                    <a:lnTo>
                      <a:pt x="83" y="376"/>
                    </a:lnTo>
                    <a:lnTo>
                      <a:pt x="81" y="376"/>
                    </a:lnTo>
                    <a:lnTo>
                      <a:pt x="73" y="376"/>
                    </a:lnTo>
                    <a:lnTo>
                      <a:pt x="69" y="374"/>
                    </a:lnTo>
                    <a:lnTo>
                      <a:pt x="64" y="373"/>
                    </a:lnTo>
                    <a:lnTo>
                      <a:pt x="60" y="371"/>
                    </a:lnTo>
                    <a:lnTo>
                      <a:pt x="57" y="368"/>
                    </a:lnTo>
                    <a:lnTo>
                      <a:pt x="52" y="364"/>
                    </a:lnTo>
                    <a:lnTo>
                      <a:pt x="51" y="361"/>
                    </a:lnTo>
                    <a:lnTo>
                      <a:pt x="49" y="358"/>
                    </a:lnTo>
                    <a:lnTo>
                      <a:pt x="46" y="353"/>
                    </a:lnTo>
                    <a:lnTo>
                      <a:pt x="45" y="349"/>
                    </a:lnTo>
                    <a:lnTo>
                      <a:pt x="45" y="344"/>
                    </a:lnTo>
                    <a:lnTo>
                      <a:pt x="45" y="340"/>
                    </a:lnTo>
                    <a:lnTo>
                      <a:pt x="45" y="336"/>
                    </a:lnTo>
                    <a:lnTo>
                      <a:pt x="45" y="330"/>
                    </a:lnTo>
                    <a:lnTo>
                      <a:pt x="45" y="325"/>
                    </a:lnTo>
                    <a:lnTo>
                      <a:pt x="45" y="321"/>
                    </a:lnTo>
                    <a:lnTo>
                      <a:pt x="45" y="315"/>
                    </a:lnTo>
                    <a:lnTo>
                      <a:pt x="46" y="310"/>
                    </a:lnTo>
                    <a:lnTo>
                      <a:pt x="48" y="306"/>
                    </a:lnTo>
                    <a:lnTo>
                      <a:pt x="49" y="301"/>
                    </a:lnTo>
                    <a:lnTo>
                      <a:pt x="51" y="297"/>
                    </a:lnTo>
                    <a:lnTo>
                      <a:pt x="52" y="293"/>
                    </a:lnTo>
                    <a:lnTo>
                      <a:pt x="52" y="288"/>
                    </a:lnTo>
                    <a:lnTo>
                      <a:pt x="55" y="284"/>
                    </a:lnTo>
                    <a:lnTo>
                      <a:pt x="55" y="281"/>
                    </a:lnTo>
                    <a:lnTo>
                      <a:pt x="57" y="278"/>
                    </a:lnTo>
                    <a:lnTo>
                      <a:pt x="58" y="275"/>
                    </a:lnTo>
                    <a:lnTo>
                      <a:pt x="60" y="272"/>
                    </a:lnTo>
                    <a:lnTo>
                      <a:pt x="61" y="269"/>
                    </a:lnTo>
                    <a:lnTo>
                      <a:pt x="12" y="303"/>
                    </a:lnTo>
                    <a:lnTo>
                      <a:pt x="12" y="304"/>
                    </a:lnTo>
                    <a:lnTo>
                      <a:pt x="11" y="306"/>
                    </a:lnTo>
                    <a:lnTo>
                      <a:pt x="9" y="310"/>
                    </a:lnTo>
                    <a:lnTo>
                      <a:pt x="8" y="316"/>
                    </a:lnTo>
                    <a:lnTo>
                      <a:pt x="6" y="319"/>
                    </a:lnTo>
                    <a:lnTo>
                      <a:pt x="6" y="322"/>
                    </a:lnTo>
                    <a:lnTo>
                      <a:pt x="5" y="327"/>
                    </a:lnTo>
                    <a:lnTo>
                      <a:pt x="5" y="330"/>
                    </a:lnTo>
                    <a:lnTo>
                      <a:pt x="3" y="334"/>
                    </a:lnTo>
                    <a:lnTo>
                      <a:pt x="3" y="339"/>
                    </a:lnTo>
                    <a:lnTo>
                      <a:pt x="2" y="342"/>
                    </a:lnTo>
                    <a:lnTo>
                      <a:pt x="2" y="347"/>
                    </a:lnTo>
                    <a:lnTo>
                      <a:pt x="0" y="350"/>
                    </a:lnTo>
                    <a:lnTo>
                      <a:pt x="0" y="356"/>
                    </a:lnTo>
                    <a:lnTo>
                      <a:pt x="0" y="359"/>
                    </a:lnTo>
                    <a:lnTo>
                      <a:pt x="0" y="364"/>
                    </a:lnTo>
                    <a:lnTo>
                      <a:pt x="0" y="368"/>
                    </a:lnTo>
                    <a:lnTo>
                      <a:pt x="0" y="373"/>
                    </a:lnTo>
                    <a:lnTo>
                      <a:pt x="0" y="377"/>
                    </a:lnTo>
                    <a:lnTo>
                      <a:pt x="0" y="383"/>
                    </a:lnTo>
                    <a:lnTo>
                      <a:pt x="0" y="386"/>
                    </a:lnTo>
                    <a:lnTo>
                      <a:pt x="2" y="390"/>
                    </a:lnTo>
                    <a:lnTo>
                      <a:pt x="2" y="393"/>
                    </a:lnTo>
                    <a:lnTo>
                      <a:pt x="5" y="398"/>
                    </a:lnTo>
                    <a:lnTo>
                      <a:pt x="8" y="404"/>
                    </a:lnTo>
                    <a:lnTo>
                      <a:pt x="12" y="410"/>
                    </a:lnTo>
                    <a:lnTo>
                      <a:pt x="17" y="413"/>
                    </a:lnTo>
                    <a:lnTo>
                      <a:pt x="24" y="416"/>
                    </a:lnTo>
                    <a:lnTo>
                      <a:pt x="27" y="416"/>
                    </a:lnTo>
                    <a:lnTo>
                      <a:pt x="32" y="417"/>
                    </a:lnTo>
                    <a:lnTo>
                      <a:pt x="35" y="417"/>
                    </a:lnTo>
                    <a:lnTo>
                      <a:pt x="39" y="417"/>
                    </a:lnTo>
                    <a:lnTo>
                      <a:pt x="43" y="417"/>
                    </a:lnTo>
                    <a:lnTo>
                      <a:pt x="48" y="417"/>
                    </a:lnTo>
                    <a:lnTo>
                      <a:pt x="52" y="417"/>
                    </a:lnTo>
                    <a:lnTo>
                      <a:pt x="57" y="417"/>
                    </a:lnTo>
                    <a:lnTo>
                      <a:pt x="61" y="416"/>
                    </a:lnTo>
                    <a:lnTo>
                      <a:pt x="66" y="414"/>
                    </a:lnTo>
                    <a:lnTo>
                      <a:pt x="70" y="414"/>
                    </a:lnTo>
                    <a:lnTo>
                      <a:pt x="75" y="414"/>
                    </a:lnTo>
                    <a:lnTo>
                      <a:pt x="79" y="413"/>
                    </a:lnTo>
                    <a:lnTo>
                      <a:pt x="82" y="411"/>
                    </a:lnTo>
                    <a:lnTo>
                      <a:pt x="86" y="410"/>
                    </a:lnTo>
                    <a:lnTo>
                      <a:pt x="91" y="410"/>
                    </a:lnTo>
                    <a:lnTo>
                      <a:pt x="94" y="407"/>
                    </a:lnTo>
                    <a:lnTo>
                      <a:pt x="97" y="407"/>
                    </a:lnTo>
                    <a:lnTo>
                      <a:pt x="100" y="405"/>
                    </a:lnTo>
                    <a:lnTo>
                      <a:pt x="104" y="405"/>
                    </a:lnTo>
                    <a:lnTo>
                      <a:pt x="109" y="402"/>
                    </a:lnTo>
                    <a:lnTo>
                      <a:pt x="113" y="402"/>
                    </a:lnTo>
                    <a:lnTo>
                      <a:pt x="116" y="401"/>
                    </a:lnTo>
                    <a:lnTo>
                      <a:pt x="116" y="401"/>
                    </a:lnTo>
                    <a:lnTo>
                      <a:pt x="116" y="399"/>
                    </a:lnTo>
                    <a:lnTo>
                      <a:pt x="119" y="399"/>
                    </a:lnTo>
                    <a:lnTo>
                      <a:pt x="121" y="398"/>
                    </a:lnTo>
                    <a:lnTo>
                      <a:pt x="125" y="396"/>
                    </a:lnTo>
                    <a:lnTo>
                      <a:pt x="128" y="395"/>
                    </a:lnTo>
                    <a:lnTo>
                      <a:pt x="134" y="393"/>
                    </a:lnTo>
                    <a:lnTo>
                      <a:pt x="137" y="390"/>
                    </a:lnTo>
                    <a:lnTo>
                      <a:pt x="140" y="390"/>
                    </a:lnTo>
                    <a:lnTo>
                      <a:pt x="144" y="389"/>
                    </a:lnTo>
                    <a:lnTo>
                      <a:pt x="147" y="388"/>
                    </a:lnTo>
                    <a:lnTo>
                      <a:pt x="150" y="386"/>
                    </a:lnTo>
                    <a:lnTo>
                      <a:pt x="155" y="385"/>
                    </a:lnTo>
                    <a:lnTo>
                      <a:pt x="159" y="383"/>
                    </a:lnTo>
                    <a:lnTo>
                      <a:pt x="164" y="382"/>
                    </a:lnTo>
                    <a:lnTo>
                      <a:pt x="167" y="380"/>
                    </a:lnTo>
                    <a:lnTo>
                      <a:pt x="173" y="377"/>
                    </a:lnTo>
                    <a:lnTo>
                      <a:pt x="177" y="376"/>
                    </a:lnTo>
                    <a:lnTo>
                      <a:pt x="181" y="374"/>
                    </a:lnTo>
                    <a:lnTo>
                      <a:pt x="186" y="371"/>
                    </a:lnTo>
                    <a:lnTo>
                      <a:pt x="192" y="370"/>
                    </a:lnTo>
                    <a:lnTo>
                      <a:pt x="196" y="367"/>
                    </a:lnTo>
                    <a:lnTo>
                      <a:pt x="202" y="365"/>
                    </a:lnTo>
                    <a:lnTo>
                      <a:pt x="207" y="362"/>
                    </a:lnTo>
                    <a:lnTo>
                      <a:pt x="213" y="361"/>
                    </a:lnTo>
                    <a:lnTo>
                      <a:pt x="219" y="358"/>
                    </a:lnTo>
                    <a:lnTo>
                      <a:pt x="224" y="356"/>
                    </a:lnTo>
                    <a:lnTo>
                      <a:pt x="229" y="353"/>
                    </a:lnTo>
                    <a:lnTo>
                      <a:pt x="235" y="349"/>
                    </a:lnTo>
                    <a:lnTo>
                      <a:pt x="241" y="346"/>
                    </a:lnTo>
                    <a:lnTo>
                      <a:pt x="247" y="344"/>
                    </a:lnTo>
                    <a:lnTo>
                      <a:pt x="251" y="342"/>
                    </a:lnTo>
                    <a:lnTo>
                      <a:pt x="259" y="339"/>
                    </a:lnTo>
                    <a:lnTo>
                      <a:pt x="263" y="336"/>
                    </a:lnTo>
                    <a:lnTo>
                      <a:pt x="270" y="333"/>
                    </a:lnTo>
                    <a:lnTo>
                      <a:pt x="275" y="330"/>
                    </a:lnTo>
                    <a:lnTo>
                      <a:pt x="281" y="327"/>
                    </a:lnTo>
                    <a:lnTo>
                      <a:pt x="287" y="322"/>
                    </a:lnTo>
                    <a:lnTo>
                      <a:pt x="293" y="319"/>
                    </a:lnTo>
                    <a:lnTo>
                      <a:pt x="299" y="316"/>
                    </a:lnTo>
                    <a:lnTo>
                      <a:pt x="305" y="313"/>
                    </a:lnTo>
                    <a:lnTo>
                      <a:pt x="312" y="310"/>
                    </a:lnTo>
                    <a:lnTo>
                      <a:pt x="318" y="307"/>
                    </a:lnTo>
                    <a:lnTo>
                      <a:pt x="322" y="303"/>
                    </a:lnTo>
                    <a:lnTo>
                      <a:pt x="328" y="300"/>
                    </a:lnTo>
                    <a:lnTo>
                      <a:pt x="334" y="296"/>
                    </a:lnTo>
                    <a:lnTo>
                      <a:pt x="340" y="293"/>
                    </a:lnTo>
                    <a:lnTo>
                      <a:pt x="346" y="290"/>
                    </a:lnTo>
                    <a:lnTo>
                      <a:pt x="352" y="285"/>
                    </a:lnTo>
                    <a:lnTo>
                      <a:pt x="357" y="282"/>
                    </a:lnTo>
                    <a:lnTo>
                      <a:pt x="362" y="278"/>
                    </a:lnTo>
                    <a:lnTo>
                      <a:pt x="367" y="275"/>
                    </a:lnTo>
                    <a:lnTo>
                      <a:pt x="373" y="270"/>
                    </a:lnTo>
                    <a:lnTo>
                      <a:pt x="377" y="267"/>
                    </a:lnTo>
                    <a:lnTo>
                      <a:pt x="383" y="263"/>
                    </a:lnTo>
                    <a:lnTo>
                      <a:pt x="388" y="258"/>
                    </a:lnTo>
                    <a:lnTo>
                      <a:pt x="394" y="255"/>
                    </a:lnTo>
                    <a:lnTo>
                      <a:pt x="398" y="251"/>
                    </a:lnTo>
                    <a:lnTo>
                      <a:pt x="403" y="248"/>
                    </a:lnTo>
                    <a:lnTo>
                      <a:pt x="407" y="244"/>
                    </a:lnTo>
                    <a:lnTo>
                      <a:pt x="411" y="239"/>
                    </a:lnTo>
                    <a:lnTo>
                      <a:pt x="416" y="235"/>
                    </a:lnTo>
                    <a:lnTo>
                      <a:pt x="420" y="232"/>
                    </a:lnTo>
                    <a:lnTo>
                      <a:pt x="423" y="227"/>
                    </a:lnTo>
                    <a:lnTo>
                      <a:pt x="428" y="223"/>
                    </a:lnTo>
                    <a:lnTo>
                      <a:pt x="431" y="218"/>
                    </a:lnTo>
                    <a:lnTo>
                      <a:pt x="435" y="215"/>
                    </a:lnTo>
                    <a:lnTo>
                      <a:pt x="438" y="211"/>
                    </a:lnTo>
                    <a:lnTo>
                      <a:pt x="441" y="206"/>
                    </a:lnTo>
                    <a:lnTo>
                      <a:pt x="444" y="204"/>
                    </a:lnTo>
                    <a:lnTo>
                      <a:pt x="447" y="199"/>
                    </a:lnTo>
                    <a:lnTo>
                      <a:pt x="450" y="195"/>
                    </a:lnTo>
                    <a:lnTo>
                      <a:pt x="453" y="190"/>
                    </a:lnTo>
                    <a:lnTo>
                      <a:pt x="456" y="187"/>
                    </a:lnTo>
                    <a:lnTo>
                      <a:pt x="459" y="183"/>
                    </a:lnTo>
                    <a:lnTo>
                      <a:pt x="460" y="178"/>
                    </a:lnTo>
                    <a:lnTo>
                      <a:pt x="463" y="174"/>
                    </a:lnTo>
                    <a:lnTo>
                      <a:pt x="465" y="169"/>
                    </a:lnTo>
                    <a:lnTo>
                      <a:pt x="468" y="166"/>
                    </a:lnTo>
                    <a:lnTo>
                      <a:pt x="469" y="162"/>
                    </a:lnTo>
                    <a:lnTo>
                      <a:pt x="472" y="159"/>
                    </a:lnTo>
                    <a:lnTo>
                      <a:pt x="474" y="155"/>
                    </a:lnTo>
                    <a:lnTo>
                      <a:pt x="475" y="152"/>
                    </a:lnTo>
                    <a:lnTo>
                      <a:pt x="477" y="147"/>
                    </a:lnTo>
                    <a:lnTo>
                      <a:pt x="480" y="144"/>
                    </a:lnTo>
                    <a:lnTo>
                      <a:pt x="480" y="140"/>
                    </a:lnTo>
                    <a:lnTo>
                      <a:pt x="483" y="137"/>
                    </a:lnTo>
                    <a:lnTo>
                      <a:pt x="483" y="132"/>
                    </a:lnTo>
                    <a:lnTo>
                      <a:pt x="484" y="129"/>
                    </a:lnTo>
                    <a:lnTo>
                      <a:pt x="486" y="126"/>
                    </a:lnTo>
                    <a:lnTo>
                      <a:pt x="487" y="123"/>
                    </a:lnTo>
                    <a:lnTo>
                      <a:pt x="489" y="119"/>
                    </a:lnTo>
                    <a:lnTo>
                      <a:pt x="490" y="116"/>
                    </a:lnTo>
                    <a:lnTo>
                      <a:pt x="490" y="113"/>
                    </a:lnTo>
                    <a:lnTo>
                      <a:pt x="492" y="109"/>
                    </a:lnTo>
                    <a:lnTo>
                      <a:pt x="493" y="103"/>
                    </a:lnTo>
                    <a:lnTo>
                      <a:pt x="494" y="97"/>
                    </a:lnTo>
                    <a:lnTo>
                      <a:pt x="494" y="91"/>
                    </a:lnTo>
                    <a:lnTo>
                      <a:pt x="496" y="86"/>
                    </a:lnTo>
                    <a:lnTo>
                      <a:pt x="497" y="82"/>
                    </a:lnTo>
                    <a:lnTo>
                      <a:pt x="497" y="77"/>
                    </a:lnTo>
                    <a:lnTo>
                      <a:pt x="497" y="73"/>
                    </a:lnTo>
                    <a:lnTo>
                      <a:pt x="499" y="70"/>
                    </a:lnTo>
                    <a:lnTo>
                      <a:pt x="499" y="67"/>
                    </a:lnTo>
                    <a:lnTo>
                      <a:pt x="499" y="66"/>
                    </a:lnTo>
                    <a:lnTo>
                      <a:pt x="499" y="61"/>
                    </a:lnTo>
                    <a:lnTo>
                      <a:pt x="500" y="61"/>
                    </a:lnTo>
                    <a:lnTo>
                      <a:pt x="481" y="0"/>
                    </a:lnTo>
                    <a:lnTo>
                      <a:pt x="465" y="14"/>
                    </a:lnTo>
                    <a:lnTo>
                      <a:pt x="465" y="1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3784320" y="2205000"/>
                <a:ext cx="181080" cy="133560"/>
              </a:xfrm>
              <a:custGeom>
                <a:avLst/>
                <a:gdLst/>
                <a:ahLst/>
                <a:rect l="l" t="t" r="r" b="b"/>
                <a:pathLst>
                  <a:path w="227" h="166">
                    <a:moveTo>
                      <a:pt x="160" y="4"/>
                    </a:moveTo>
                    <a:lnTo>
                      <a:pt x="160" y="4"/>
                    </a:lnTo>
                    <a:lnTo>
                      <a:pt x="157" y="7"/>
                    </a:lnTo>
                    <a:lnTo>
                      <a:pt x="154" y="12"/>
                    </a:lnTo>
                    <a:lnTo>
                      <a:pt x="151" y="18"/>
                    </a:lnTo>
                    <a:lnTo>
                      <a:pt x="145" y="24"/>
                    </a:lnTo>
                    <a:lnTo>
                      <a:pt x="142" y="31"/>
                    </a:lnTo>
                    <a:lnTo>
                      <a:pt x="138" y="37"/>
                    </a:lnTo>
                    <a:lnTo>
                      <a:pt x="135" y="43"/>
                    </a:lnTo>
                    <a:lnTo>
                      <a:pt x="132" y="47"/>
                    </a:lnTo>
                    <a:lnTo>
                      <a:pt x="129" y="52"/>
                    </a:lnTo>
                    <a:lnTo>
                      <a:pt x="127" y="55"/>
                    </a:lnTo>
                    <a:lnTo>
                      <a:pt x="126" y="58"/>
                    </a:lnTo>
                    <a:lnTo>
                      <a:pt x="124" y="61"/>
                    </a:lnTo>
                    <a:lnTo>
                      <a:pt x="124" y="64"/>
                    </a:lnTo>
                    <a:lnTo>
                      <a:pt x="123" y="62"/>
                    </a:lnTo>
                    <a:lnTo>
                      <a:pt x="120" y="62"/>
                    </a:lnTo>
                    <a:lnTo>
                      <a:pt x="117" y="62"/>
                    </a:lnTo>
                    <a:lnTo>
                      <a:pt x="111" y="62"/>
                    </a:lnTo>
                    <a:lnTo>
                      <a:pt x="108" y="62"/>
                    </a:lnTo>
                    <a:lnTo>
                      <a:pt x="104" y="64"/>
                    </a:lnTo>
                    <a:lnTo>
                      <a:pt x="101" y="65"/>
                    </a:lnTo>
                    <a:lnTo>
                      <a:pt x="96" y="68"/>
                    </a:lnTo>
                    <a:lnTo>
                      <a:pt x="92" y="70"/>
                    </a:lnTo>
                    <a:lnTo>
                      <a:pt x="87" y="73"/>
                    </a:lnTo>
                    <a:lnTo>
                      <a:pt x="81" y="77"/>
                    </a:lnTo>
                    <a:lnTo>
                      <a:pt x="77" y="81"/>
                    </a:lnTo>
                    <a:lnTo>
                      <a:pt x="69" y="86"/>
                    </a:lnTo>
                    <a:lnTo>
                      <a:pt x="63" y="92"/>
                    </a:lnTo>
                    <a:lnTo>
                      <a:pt x="61" y="95"/>
                    </a:lnTo>
                    <a:lnTo>
                      <a:pt x="58" y="98"/>
                    </a:lnTo>
                    <a:lnTo>
                      <a:pt x="55" y="102"/>
                    </a:lnTo>
                    <a:lnTo>
                      <a:pt x="50" y="105"/>
                    </a:lnTo>
                    <a:lnTo>
                      <a:pt x="47" y="108"/>
                    </a:lnTo>
                    <a:lnTo>
                      <a:pt x="44" y="111"/>
                    </a:lnTo>
                    <a:lnTo>
                      <a:pt x="41" y="116"/>
                    </a:lnTo>
                    <a:lnTo>
                      <a:pt x="38" y="119"/>
                    </a:lnTo>
                    <a:lnTo>
                      <a:pt x="34" y="122"/>
                    </a:lnTo>
                    <a:lnTo>
                      <a:pt x="32" y="126"/>
                    </a:lnTo>
                    <a:lnTo>
                      <a:pt x="28" y="129"/>
                    </a:lnTo>
                    <a:lnTo>
                      <a:pt x="26" y="133"/>
                    </a:lnTo>
                    <a:lnTo>
                      <a:pt x="20" y="139"/>
                    </a:lnTo>
                    <a:lnTo>
                      <a:pt x="15" y="145"/>
                    </a:lnTo>
                    <a:lnTo>
                      <a:pt x="10" y="151"/>
                    </a:lnTo>
                    <a:lnTo>
                      <a:pt x="7" y="156"/>
                    </a:lnTo>
                    <a:lnTo>
                      <a:pt x="3" y="160"/>
                    </a:lnTo>
                    <a:lnTo>
                      <a:pt x="1" y="163"/>
                    </a:lnTo>
                    <a:lnTo>
                      <a:pt x="0" y="165"/>
                    </a:lnTo>
                    <a:lnTo>
                      <a:pt x="0" y="166"/>
                    </a:lnTo>
                    <a:lnTo>
                      <a:pt x="1" y="165"/>
                    </a:lnTo>
                    <a:lnTo>
                      <a:pt x="6" y="160"/>
                    </a:lnTo>
                    <a:lnTo>
                      <a:pt x="9" y="157"/>
                    </a:lnTo>
                    <a:lnTo>
                      <a:pt x="13" y="154"/>
                    </a:lnTo>
                    <a:lnTo>
                      <a:pt x="17" y="151"/>
                    </a:lnTo>
                    <a:lnTo>
                      <a:pt x="22" y="148"/>
                    </a:lnTo>
                    <a:lnTo>
                      <a:pt x="28" y="144"/>
                    </a:lnTo>
                    <a:lnTo>
                      <a:pt x="32" y="139"/>
                    </a:lnTo>
                    <a:lnTo>
                      <a:pt x="38" y="136"/>
                    </a:lnTo>
                    <a:lnTo>
                      <a:pt x="44" y="132"/>
                    </a:lnTo>
                    <a:lnTo>
                      <a:pt x="50" y="129"/>
                    </a:lnTo>
                    <a:lnTo>
                      <a:pt x="56" y="124"/>
                    </a:lnTo>
                    <a:lnTo>
                      <a:pt x="62" y="122"/>
                    </a:lnTo>
                    <a:lnTo>
                      <a:pt x="69" y="119"/>
                    </a:lnTo>
                    <a:lnTo>
                      <a:pt x="74" y="114"/>
                    </a:lnTo>
                    <a:lnTo>
                      <a:pt x="80" y="111"/>
                    </a:lnTo>
                    <a:lnTo>
                      <a:pt x="84" y="108"/>
                    </a:lnTo>
                    <a:lnTo>
                      <a:pt x="90" y="107"/>
                    </a:lnTo>
                    <a:lnTo>
                      <a:pt x="95" y="105"/>
                    </a:lnTo>
                    <a:lnTo>
                      <a:pt x="99" y="102"/>
                    </a:lnTo>
                    <a:lnTo>
                      <a:pt x="104" y="102"/>
                    </a:lnTo>
                    <a:lnTo>
                      <a:pt x="108" y="101"/>
                    </a:lnTo>
                    <a:lnTo>
                      <a:pt x="111" y="99"/>
                    </a:lnTo>
                    <a:lnTo>
                      <a:pt x="114" y="98"/>
                    </a:lnTo>
                    <a:lnTo>
                      <a:pt x="117" y="98"/>
                    </a:lnTo>
                    <a:lnTo>
                      <a:pt x="120" y="98"/>
                    </a:lnTo>
                    <a:lnTo>
                      <a:pt x="123" y="98"/>
                    </a:lnTo>
                    <a:lnTo>
                      <a:pt x="124" y="98"/>
                    </a:lnTo>
                    <a:lnTo>
                      <a:pt x="141" y="144"/>
                    </a:lnTo>
                    <a:lnTo>
                      <a:pt x="141" y="142"/>
                    </a:lnTo>
                    <a:lnTo>
                      <a:pt x="141" y="139"/>
                    </a:lnTo>
                    <a:lnTo>
                      <a:pt x="141" y="136"/>
                    </a:lnTo>
                    <a:lnTo>
                      <a:pt x="141" y="133"/>
                    </a:lnTo>
                    <a:lnTo>
                      <a:pt x="142" y="129"/>
                    </a:lnTo>
                    <a:lnTo>
                      <a:pt x="144" y="126"/>
                    </a:lnTo>
                    <a:lnTo>
                      <a:pt x="144" y="122"/>
                    </a:lnTo>
                    <a:lnTo>
                      <a:pt x="145" y="117"/>
                    </a:lnTo>
                    <a:lnTo>
                      <a:pt x="147" y="111"/>
                    </a:lnTo>
                    <a:lnTo>
                      <a:pt x="150" y="107"/>
                    </a:lnTo>
                    <a:lnTo>
                      <a:pt x="151" y="101"/>
                    </a:lnTo>
                    <a:lnTo>
                      <a:pt x="155" y="95"/>
                    </a:lnTo>
                    <a:lnTo>
                      <a:pt x="158" y="87"/>
                    </a:lnTo>
                    <a:lnTo>
                      <a:pt x="163" y="81"/>
                    </a:lnTo>
                    <a:lnTo>
                      <a:pt x="164" y="78"/>
                    </a:lnTo>
                    <a:lnTo>
                      <a:pt x="166" y="74"/>
                    </a:lnTo>
                    <a:lnTo>
                      <a:pt x="169" y="71"/>
                    </a:lnTo>
                    <a:lnTo>
                      <a:pt x="170" y="68"/>
                    </a:lnTo>
                    <a:lnTo>
                      <a:pt x="173" y="64"/>
                    </a:lnTo>
                    <a:lnTo>
                      <a:pt x="176" y="61"/>
                    </a:lnTo>
                    <a:lnTo>
                      <a:pt x="178" y="56"/>
                    </a:lnTo>
                    <a:lnTo>
                      <a:pt x="182" y="53"/>
                    </a:lnTo>
                    <a:lnTo>
                      <a:pt x="184" y="50"/>
                    </a:lnTo>
                    <a:lnTo>
                      <a:pt x="187" y="46"/>
                    </a:lnTo>
                    <a:lnTo>
                      <a:pt x="190" y="43"/>
                    </a:lnTo>
                    <a:lnTo>
                      <a:pt x="193" y="40"/>
                    </a:lnTo>
                    <a:lnTo>
                      <a:pt x="199" y="34"/>
                    </a:lnTo>
                    <a:lnTo>
                      <a:pt x="204" y="28"/>
                    </a:lnTo>
                    <a:lnTo>
                      <a:pt x="207" y="22"/>
                    </a:lnTo>
                    <a:lnTo>
                      <a:pt x="213" y="16"/>
                    </a:lnTo>
                    <a:lnTo>
                      <a:pt x="216" y="12"/>
                    </a:lnTo>
                    <a:lnTo>
                      <a:pt x="221" y="7"/>
                    </a:lnTo>
                    <a:lnTo>
                      <a:pt x="224" y="4"/>
                    </a:lnTo>
                    <a:lnTo>
                      <a:pt x="227" y="3"/>
                    </a:lnTo>
                    <a:lnTo>
                      <a:pt x="227" y="0"/>
                    </a:lnTo>
                    <a:lnTo>
                      <a:pt x="160" y="4"/>
                    </a:lnTo>
                    <a:lnTo>
                      <a:pt x="160" y="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3720960" y="2305080"/>
                <a:ext cx="392040" cy="284040"/>
              </a:xfrm>
              <a:custGeom>
                <a:avLst/>
                <a:gdLst/>
                <a:ahLst/>
                <a:rect l="l" t="t" r="r" b="b"/>
                <a:pathLst>
                  <a:path w="494" h="360">
                    <a:moveTo>
                      <a:pt x="494" y="0"/>
                    </a:moveTo>
                    <a:lnTo>
                      <a:pt x="493" y="0"/>
                    </a:lnTo>
                    <a:lnTo>
                      <a:pt x="490" y="5"/>
                    </a:lnTo>
                    <a:lnTo>
                      <a:pt x="488" y="6"/>
                    </a:lnTo>
                    <a:lnTo>
                      <a:pt x="485" y="9"/>
                    </a:lnTo>
                    <a:lnTo>
                      <a:pt x="484" y="12"/>
                    </a:lnTo>
                    <a:lnTo>
                      <a:pt x="481" y="17"/>
                    </a:lnTo>
                    <a:lnTo>
                      <a:pt x="476" y="20"/>
                    </a:lnTo>
                    <a:lnTo>
                      <a:pt x="473" y="26"/>
                    </a:lnTo>
                    <a:lnTo>
                      <a:pt x="469" y="30"/>
                    </a:lnTo>
                    <a:lnTo>
                      <a:pt x="466" y="36"/>
                    </a:lnTo>
                    <a:lnTo>
                      <a:pt x="460" y="42"/>
                    </a:lnTo>
                    <a:lnTo>
                      <a:pt x="456" y="46"/>
                    </a:lnTo>
                    <a:lnTo>
                      <a:pt x="453" y="49"/>
                    </a:lnTo>
                    <a:lnTo>
                      <a:pt x="450" y="52"/>
                    </a:lnTo>
                    <a:lnTo>
                      <a:pt x="447" y="57"/>
                    </a:lnTo>
                    <a:lnTo>
                      <a:pt x="445" y="61"/>
                    </a:lnTo>
                    <a:lnTo>
                      <a:pt x="438" y="67"/>
                    </a:lnTo>
                    <a:lnTo>
                      <a:pt x="432" y="73"/>
                    </a:lnTo>
                    <a:lnTo>
                      <a:pt x="429" y="78"/>
                    </a:lnTo>
                    <a:lnTo>
                      <a:pt x="424" y="81"/>
                    </a:lnTo>
                    <a:lnTo>
                      <a:pt x="421" y="85"/>
                    </a:lnTo>
                    <a:lnTo>
                      <a:pt x="419" y="88"/>
                    </a:lnTo>
                    <a:lnTo>
                      <a:pt x="414" y="92"/>
                    </a:lnTo>
                    <a:lnTo>
                      <a:pt x="411" y="95"/>
                    </a:lnTo>
                    <a:lnTo>
                      <a:pt x="407" y="100"/>
                    </a:lnTo>
                    <a:lnTo>
                      <a:pt x="404" y="103"/>
                    </a:lnTo>
                    <a:lnTo>
                      <a:pt x="399" y="107"/>
                    </a:lnTo>
                    <a:lnTo>
                      <a:pt x="396" y="110"/>
                    </a:lnTo>
                    <a:lnTo>
                      <a:pt x="392" y="115"/>
                    </a:lnTo>
                    <a:lnTo>
                      <a:pt x="389" y="119"/>
                    </a:lnTo>
                    <a:lnTo>
                      <a:pt x="384" y="122"/>
                    </a:lnTo>
                    <a:lnTo>
                      <a:pt x="380" y="127"/>
                    </a:lnTo>
                    <a:lnTo>
                      <a:pt x="375" y="130"/>
                    </a:lnTo>
                    <a:lnTo>
                      <a:pt x="371" y="134"/>
                    </a:lnTo>
                    <a:lnTo>
                      <a:pt x="367" y="138"/>
                    </a:lnTo>
                    <a:lnTo>
                      <a:pt x="362" y="143"/>
                    </a:lnTo>
                    <a:lnTo>
                      <a:pt x="358" y="146"/>
                    </a:lnTo>
                    <a:lnTo>
                      <a:pt x="353" y="150"/>
                    </a:lnTo>
                    <a:lnTo>
                      <a:pt x="349" y="155"/>
                    </a:lnTo>
                    <a:lnTo>
                      <a:pt x="344" y="158"/>
                    </a:lnTo>
                    <a:lnTo>
                      <a:pt x="340" y="162"/>
                    </a:lnTo>
                    <a:lnTo>
                      <a:pt x="335" y="167"/>
                    </a:lnTo>
                    <a:lnTo>
                      <a:pt x="331" y="170"/>
                    </a:lnTo>
                    <a:lnTo>
                      <a:pt x="325" y="174"/>
                    </a:lnTo>
                    <a:lnTo>
                      <a:pt x="321" y="177"/>
                    </a:lnTo>
                    <a:lnTo>
                      <a:pt x="316" y="182"/>
                    </a:lnTo>
                    <a:lnTo>
                      <a:pt x="310" y="184"/>
                    </a:lnTo>
                    <a:lnTo>
                      <a:pt x="306" y="189"/>
                    </a:lnTo>
                    <a:lnTo>
                      <a:pt x="300" y="192"/>
                    </a:lnTo>
                    <a:lnTo>
                      <a:pt x="295" y="195"/>
                    </a:lnTo>
                    <a:lnTo>
                      <a:pt x="289" y="198"/>
                    </a:lnTo>
                    <a:lnTo>
                      <a:pt x="285" y="202"/>
                    </a:lnTo>
                    <a:lnTo>
                      <a:pt x="279" y="205"/>
                    </a:lnTo>
                    <a:lnTo>
                      <a:pt x="275" y="210"/>
                    </a:lnTo>
                    <a:lnTo>
                      <a:pt x="269" y="213"/>
                    </a:lnTo>
                    <a:lnTo>
                      <a:pt x="264" y="216"/>
                    </a:lnTo>
                    <a:lnTo>
                      <a:pt x="258" y="219"/>
                    </a:lnTo>
                    <a:lnTo>
                      <a:pt x="252" y="223"/>
                    </a:lnTo>
                    <a:lnTo>
                      <a:pt x="248" y="226"/>
                    </a:lnTo>
                    <a:lnTo>
                      <a:pt x="242" y="229"/>
                    </a:lnTo>
                    <a:lnTo>
                      <a:pt x="237" y="232"/>
                    </a:lnTo>
                    <a:lnTo>
                      <a:pt x="233" y="235"/>
                    </a:lnTo>
                    <a:lnTo>
                      <a:pt x="227" y="238"/>
                    </a:lnTo>
                    <a:lnTo>
                      <a:pt x="221" y="241"/>
                    </a:lnTo>
                    <a:lnTo>
                      <a:pt x="215" y="244"/>
                    </a:lnTo>
                    <a:lnTo>
                      <a:pt x="211" y="247"/>
                    </a:lnTo>
                    <a:lnTo>
                      <a:pt x="205" y="250"/>
                    </a:lnTo>
                    <a:lnTo>
                      <a:pt x="200" y="253"/>
                    </a:lnTo>
                    <a:lnTo>
                      <a:pt x="196" y="256"/>
                    </a:lnTo>
                    <a:lnTo>
                      <a:pt x="191" y="259"/>
                    </a:lnTo>
                    <a:lnTo>
                      <a:pt x="186" y="260"/>
                    </a:lnTo>
                    <a:lnTo>
                      <a:pt x="181" y="263"/>
                    </a:lnTo>
                    <a:lnTo>
                      <a:pt x="175" y="266"/>
                    </a:lnTo>
                    <a:lnTo>
                      <a:pt x="171" y="269"/>
                    </a:lnTo>
                    <a:lnTo>
                      <a:pt x="166" y="271"/>
                    </a:lnTo>
                    <a:lnTo>
                      <a:pt x="162" y="274"/>
                    </a:lnTo>
                    <a:lnTo>
                      <a:pt x="157" y="275"/>
                    </a:lnTo>
                    <a:lnTo>
                      <a:pt x="153" y="279"/>
                    </a:lnTo>
                    <a:lnTo>
                      <a:pt x="148" y="281"/>
                    </a:lnTo>
                    <a:lnTo>
                      <a:pt x="144" y="282"/>
                    </a:lnTo>
                    <a:lnTo>
                      <a:pt x="140" y="284"/>
                    </a:lnTo>
                    <a:lnTo>
                      <a:pt x="135" y="287"/>
                    </a:lnTo>
                    <a:lnTo>
                      <a:pt x="131" y="288"/>
                    </a:lnTo>
                    <a:lnTo>
                      <a:pt x="126" y="290"/>
                    </a:lnTo>
                    <a:lnTo>
                      <a:pt x="123" y="293"/>
                    </a:lnTo>
                    <a:lnTo>
                      <a:pt x="119" y="294"/>
                    </a:lnTo>
                    <a:lnTo>
                      <a:pt x="116" y="296"/>
                    </a:lnTo>
                    <a:lnTo>
                      <a:pt x="111" y="297"/>
                    </a:lnTo>
                    <a:lnTo>
                      <a:pt x="108" y="299"/>
                    </a:lnTo>
                    <a:lnTo>
                      <a:pt x="105" y="302"/>
                    </a:lnTo>
                    <a:lnTo>
                      <a:pt x="99" y="303"/>
                    </a:lnTo>
                    <a:lnTo>
                      <a:pt x="94" y="306"/>
                    </a:lnTo>
                    <a:lnTo>
                      <a:pt x="88" y="309"/>
                    </a:lnTo>
                    <a:lnTo>
                      <a:pt x="83" y="311"/>
                    </a:lnTo>
                    <a:lnTo>
                      <a:pt x="79" y="312"/>
                    </a:lnTo>
                    <a:lnTo>
                      <a:pt x="76" y="314"/>
                    </a:lnTo>
                    <a:lnTo>
                      <a:pt x="71" y="317"/>
                    </a:lnTo>
                    <a:lnTo>
                      <a:pt x="70" y="317"/>
                    </a:lnTo>
                    <a:lnTo>
                      <a:pt x="68" y="317"/>
                    </a:lnTo>
                    <a:lnTo>
                      <a:pt x="62" y="314"/>
                    </a:lnTo>
                    <a:lnTo>
                      <a:pt x="59" y="311"/>
                    </a:lnTo>
                    <a:lnTo>
                      <a:pt x="58" y="306"/>
                    </a:lnTo>
                    <a:lnTo>
                      <a:pt x="56" y="302"/>
                    </a:lnTo>
                    <a:lnTo>
                      <a:pt x="55" y="297"/>
                    </a:lnTo>
                    <a:lnTo>
                      <a:pt x="55" y="293"/>
                    </a:lnTo>
                    <a:lnTo>
                      <a:pt x="55" y="288"/>
                    </a:lnTo>
                    <a:lnTo>
                      <a:pt x="55" y="284"/>
                    </a:lnTo>
                    <a:lnTo>
                      <a:pt x="55" y="281"/>
                    </a:lnTo>
                    <a:lnTo>
                      <a:pt x="55" y="278"/>
                    </a:lnTo>
                    <a:lnTo>
                      <a:pt x="55" y="275"/>
                    </a:lnTo>
                    <a:lnTo>
                      <a:pt x="55" y="271"/>
                    </a:lnTo>
                    <a:lnTo>
                      <a:pt x="56" y="268"/>
                    </a:lnTo>
                    <a:lnTo>
                      <a:pt x="56" y="263"/>
                    </a:lnTo>
                    <a:lnTo>
                      <a:pt x="58" y="260"/>
                    </a:lnTo>
                    <a:lnTo>
                      <a:pt x="58" y="256"/>
                    </a:lnTo>
                    <a:lnTo>
                      <a:pt x="58" y="251"/>
                    </a:lnTo>
                    <a:lnTo>
                      <a:pt x="58" y="247"/>
                    </a:lnTo>
                    <a:lnTo>
                      <a:pt x="59" y="244"/>
                    </a:lnTo>
                    <a:lnTo>
                      <a:pt x="61" y="239"/>
                    </a:lnTo>
                    <a:lnTo>
                      <a:pt x="61" y="236"/>
                    </a:lnTo>
                    <a:lnTo>
                      <a:pt x="61" y="232"/>
                    </a:lnTo>
                    <a:lnTo>
                      <a:pt x="62" y="229"/>
                    </a:lnTo>
                    <a:lnTo>
                      <a:pt x="62" y="226"/>
                    </a:lnTo>
                    <a:lnTo>
                      <a:pt x="64" y="222"/>
                    </a:lnTo>
                    <a:lnTo>
                      <a:pt x="64" y="219"/>
                    </a:lnTo>
                    <a:lnTo>
                      <a:pt x="65" y="216"/>
                    </a:lnTo>
                    <a:lnTo>
                      <a:pt x="67" y="210"/>
                    </a:lnTo>
                    <a:lnTo>
                      <a:pt x="68" y="204"/>
                    </a:lnTo>
                    <a:lnTo>
                      <a:pt x="68" y="199"/>
                    </a:lnTo>
                    <a:lnTo>
                      <a:pt x="68" y="196"/>
                    </a:lnTo>
                    <a:lnTo>
                      <a:pt x="70" y="195"/>
                    </a:lnTo>
                    <a:lnTo>
                      <a:pt x="70" y="195"/>
                    </a:lnTo>
                    <a:lnTo>
                      <a:pt x="52" y="195"/>
                    </a:lnTo>
                    <a:lnTo>
                      <a:pt x="51" y="195"/>
                    </a:lnTo>
                    <a:lnTo>
                      <a:pt x="51" y="196"/>
                    </a:lnTo>
                    <a:lnTo>
                      <a:pt x="49" y="199"/>
                    </a:lnTo>
                    <a:lnTo>
                      <a:pt x="48" y="201"/>
                    </a:lnTo>
                    <a:lnTo>
                      <a:pt x="46" y="204"/>
                    </a:lnTo>
                    <a:lnTo>
                      <a:pt x="46" y="208"/>
                    </a:lnTo>
                    <a:lnTo>
                      <a:pt x="43" y="211"/>
                    </a:lnTo>
                    <a:lnTo>
                      <a:pt x="42" y="216"/>
                    </a:lnTo>
                    <a:lnTo>
                      <a:pt x="39" y="220"/>
                    </a:lnTo>
                    <a:lnTo>
                      <a:pt x="37" y="226"/>
                    </a:lnTo>
                    <a:lnTo>
                      <a:pt x="36" y="229"/>
                    </a:lnTo>
                    <a:lnTo>
                      <a:pt x="34" y="232"/>
                    </a:lnTo>
                    <a:lnTo>
                      <a:pt x="33" y="235"/>
                    </a:lnTo>
                    <a:lnTo>
                      <a:pt x="31" y="239"/>
                    </a:lnTo>
                    <a:lnTo>
                      <a:pt x="30" y="242"/>
                    </a:lnTo>
                    <a:lnTo>
                      <a:pt x="28" y="245"/>
                    </a:lnTo>
                    <a:lnTo>
                      <a:pt x="28" y="250"/>
                    </a:lnTo>
                    <a:lnTo>
                      <a:pt x="27" y="254"/>
                    </a:lnTo>
                    <a:lnTo>
                      <a:pt x="24" y="259"/>
                    </a:lnTo>
                    <a:lnTo>
                      <a:pt x="22" y="263"/>
                    </a:lnTo>
                    <a:lnTo>
                      <a:pt x="19" y="266"/>
                    </a:lnTo>
                    <a:lnTo>
                      <a:pt x="18" y="272"/>
                    </a:lnTo>
                    <a:lnTo>
                      <a:pt x="16" y="275"/>
                    </a:lnTo>
                    <a:lnTo>
                      <a:pt x="13" y="281"/>
                    </a:lnTo>
                    <a:lnTo>
                      <a:pt x="12" y="285"/>
                    </a:lnTo>
                    <a:lnTo>
                      <a:pt x="10" y="290"/>
                    </a:lnTo>
                    <a:lnTo>
                      <a:pt x="9" y="294"/>
                    </a:lnTo>
                    <a:lnTo>
                      <a:pt x="6" y="300"/>
                    </a:lnTo>
                    <a:lnTo>
                      <a:pt x="5" y="305"/>
                    </a:lnTo>
                    <a:lnTo>
                      <a:pt x="3" y="309"/>
                    </a:lnTo>
                    <a:lnTo>
                      <a:pt x="2" y="314"/>
                    </a:lnTo>
                    <a:lnTo>
                      <a:pt x="2" y="318"/>
                    </a:lnTo>
                    <a:lnTo>
                      <a:pt x="2" y="322"/>
                    </a:lnTo>
                    <a:lnTo>
                      <a:pt x="2" y="327"/>
                    </a:lnTo>
                    <a:lnTo>
                      <a:pt x="0" y="331"/>
                    </a:lnTo>
                    <a:lnTo>
                      <a:pt x="0" y="334"/>
                    </a:lnTo>
                    <a:lnTo>
                      <a:pt x="0" y="339"/>
                    </a:lnTo>
                    <a:lnTo>
                      <a:pt x="2" y="342"/>
                    </a:lnTo>
                    <a:lnTo>
                      <a:pt x="5" y="348"/>
                    </a:lnTo>
                    <a:lnTo>
                      <a:pt x="9" y="354"/>
                    </a:lnTo>
                    <a:lnTo>
                      <a:pt x="10" y="355"/>
                    </a:lnTo>
                    <a:lnTo>
                      <a:pt x="13" y="357"/>
                    </a:lnTo>
                    <a:lnTo>
                      <a:pt x="18" y="358"/>
                    </a:lnTo>
                    <a:lnTo>
                      <a:pt x="22" y="360"/>
                    </a:lnTo>
                    <a:lnTo>
                      <a:pt x="27" y="360"/>
                    </a:lnTo>
                    <a:lnTo>
                      <a:pt x="31" y="360"/>
                    </a:lnTo>
                    <a:lnTo>
                      <a:pt x="34" y="360"/>
                    </a:lnTo>
                    <a:lnTo>
                      <a:pt x="37" y="360"/>
                    </a:lnTo>
                    <a:lnTo>
                      <a:pt x="42" y="360"/>
                    </a:lnTo>
                    <a:lnTo>
                      <a:pt x="45" y="360"/>
                    </a:lnTo>
                    <a:lnTo>
                      <a:pt x="48" y="358"/>
                    </a:lnTo>
                    <a:lnTo>
                      <a:pt x="51" y="358"/>
                    </a:lnTo>
                    <a:lnTo>
                      <a:pt x="55" y="357"/>
                    </a:lnTo>
                    <a:lnTo>
                      <a:pt x="58" y="355"/>
                    </a:lnTo>
                    <a:lnTo>
                      <a:pt x="62" y="354"/>
                    </a:lnTo>
                    <a:lnTo>
                      <a:pt x="65" y="354"/>
                    </a:lnTo>
                    <a:lnTo>
                      <a:pt x="70" y="352"/>
                    </a:lnTo>
                    <a:lnTo>
                      <a:pt x="76" y="351"/>
                    </a:lnTo>
                    <a:lnTo>
                      <a:pt x="79" y="349"/>
                    </a:lnTo>
                    <a:lnTo>
                      <a:pt x="85" y="348"/>
                    </a:lnTo>
                    <a:lnTo>
                      <a:pt x="88" y="346"/>
                    </a:lnTo>
                    <a:lnTo>
                      <a:pt x="94" y="345"/>
                    </a:lnTo>
                    <a:lnTo>
                      <a:pt x="98" y="343"/>
                    </a:lnTo>
                    <a:lnTo>
                      <a:pt x="102" y="340"/>
                    </a:lnTo>
                    <a:lnTo>
                      <a:pt x="107" y="339"/>
                    </a:lnTo>
                    <a:lnTo>
                      <a:pt x="113" y="337"/>
                    </a:lnTo>
                    <a:lnTo>
                      <a:pt x="117" y="336"/>
                    </a:lnTo>
                    <a:lnTo>
                      <a:pt x="122" y="333"/>
                    </a:lnTo>
                    <a:lnTo>
                      <a:pt x="128" y="331"/>
                    </a:lnTo>
                    <a:lnTo>
                      <a:pt x="132" y="328"/>
                    </a:lnTo>
                    <a:lnTo>
                      <a:pt x="138" y="327"/>
                    </a:lnTo>
                    <a:lnTo>
                      <a:pt x="143" y="324"/>
                    </a:lnTo>
                    <a:lnTo>
                      <a:pt x="147" y="322"/>
                    </a:lnTo>
                    <a:lnTo>
                      <a:pt x="153" y="321"/>
                    </a:lnTo>
                    <a:lnTo>
                      <a:pt x="159" y="318"/>
                    </a:lnTo>
                    <a:lnTo>
                      <a:pt x="163" y="315"/>
                    </a:lnTo>
                    <a:lnTo>
                      <a:pt x="168" y="314"/>
                    </a:lnTo>
                    <a:lnTo>
                      <a:pt x="174" y="311"/>
                    </a:lnTo>
                    <a:lnTo>
                      <a:pt x="178" y="309"/>
                    </a:lnTo>
                    <a:lnTo>
                      <a:pt x="184" y="306"/>
                    </a:lnTo>
                    <a:lnTo>
                      <a:pt x="189" y="305"/>
                    </a:lnTo>
                    <a:lnTo>
                      <a:pt x="194" y="302"/>
                    </a:lnTo>
                    <a:lnTo>
                      <a:pt x="199" y="300"/>
                    </a:lnTo>
                    <a:lnTo>
                      <a:pt x="203" y="297"/>
                    </a:lnTo>
                    <a:lnTo>
                      <a:pt x="208" y="294"/>
                    </a:lnTo>
                    <a:lnTo>
                      <a:pt x="212" y="293"/>
                    </a:lnTo>
                    <a:lnTo>
                      <a:pt x="217" y="290"/>
                    </a:lnTo>
                    <a:lnTo>
                      <a:pt x="221" y="288"/>
                    </a:lnTo>
                    <a:lnTo>
                      <a:pt x="226" y="285"/>
                    </a:lnTo>
                    <a:lnTo>
                      <a:pt x="230" y="284"/>
                    </a:lnTo>
                    <a:lnTo>
                      <a:pt x="235" y="281"/>
                    </a:lnTo>
                    <a:lnTo>
                      <a:pt x="239" y="279"/>
                    </a:lnTo>
                    <a:lnTo>
                      <a:pt x="242" y="278"/>
                    </a:lnTo>
                    <a:lnTo>
                      <a:pt x="246" y="275"/>
                    </a:lnTo>
                    <a:lnTo>
                      <a:pt x="251" y="274"/>
                    </a:lnTo>
                    <a:lnTo>
                      <a:pt x="254" y="272"/>
                    </a:lnTo>
                    <a:lnTo>
                      <a:pt x="258" y="271"/>
                    </a:lnTo>
                    <a:lnTo>
                      <a:pt x="261" y="269"/>
                    </a:lnTo>
                    <a:lnTo>
                      <a:pt x="267" y="265"/>
                    </a:lnTo>
                    <a:lnTo>
                      <a:pt x="273" y="263"/>
                    </a:lnTo>
                    <a:lnTo>
                      <a:pt x="278" y="260"/>
                    </a:lnTo>
                    <a:lnTo>
                      <a:pt x="282" y="259"/>
                    </a:lnTo>
                    <a:lnTo>
                      <a:pt x="285" y="257"/>
                    </a:lnTo>
                    <a:lnTo>
                      <a:pt x="288" y="256"/>
                    </a:lnTo>
                    <a:lnTo>
                      <a:pt x="289" y="254"/>
                    </a:lnTo>
                    <a:lnTo>
                      <a:pt x="289" y="254"/>
                    </a:lnTo>
                    <a:lnTo>
                      <a:pt x="291" y="253"/>
                    </a:lnTo>
                    <a:lnTo>
                      <a:pt x="294" y="250"/>
                    </a:lnTo>
                    <a:lnTo>
                      <a:pt x="297" y="248"/>
                    </a:lnTo>
                    <a:lnTo>
                      <a:pt x="301" y="245"/>
                    </a:lnTo>
                    <a:lnTo>
                      <a:pt x="304" y="242"/>
                    </a:lnTo>
                    <a:lnTo>
                      <a:pt x="309" y="241"/>
                    </a:lnTo>
                    <a:lnTo>
                      <a:pt x="313" y="236"/>
                    </a:lnTo>
                    <a:lnTo>
                      <a:pt x="318" y="233"/>
                    </a:lnTo>
                    <a:lnTo>
                      <a:pt x="324" y="229"/>
                    </a:lnTo>
                    <a:lnTo>
                      <a:pt x="328" y="225"/>
                    </a:lnTo>
                    <a:lnTo>
                      <a:pt x="334" y="220"/>
                    </a:lnTo>
                    <a:lnTo>
                      <a:pt x="340" y="216"/>
                    </a:lnTo>
                    <a:lnTo>
                      <a:pt x="346" y="211"/>
                    </a:lnTo>
                    <a:lnTo>
                      <a:pt x="353" y="207"/>
                    </a:lnTo>
                    <a:lnTo>
                      <a:pt x="359" y="199"/>
                    </a:lnTo>
                    <a:lnTo>
                      <a:pt x="367" y="195"/>
                    </a:lnTo>
                    <a:lnTo>
                      <a:pt x="370" y="192"/>
                    </a:lnTo>
                    <a:lnTo>
                      <a:pt x="373" y="189"/>
                    </a:lnTo>
                    <a:lnTo>
                      <a:pt x="375" y="186"/>
                    </a:lnTo>
                    <a:lnTo>
                      <a:pt x="380" y="183"/>
                    </a:lnTo>
                    <a:lnTo>
                      <a:pt x="386" y="177"/>
                    </a:lnTo>
                    <a:lnTo>
                      <a:pt x="393" y="171"/>
                    </a:lnTo>
                    <a:lnTo>
                      <a:pt x="396" y="168"/>
                    </a:lnTo>
                    <a:lnTo>
                      <a:pt x="399" y="165"/>
                    </a:lnTo>
                    <a:lnTo>
                      <a:pt x="404" y="162"/>
                    </a:lnTo>
                    <a:lnTo>
                      <a:pt x="407" y="159"/>
                    </a:lnTo>
                    <a:lnTo>
                      <a:pt x="414" y="152"/>
                    </a:lnTo>
                    <a:lnTo>
                      <a:pt x="420" y="146"/>
                    </a:lnTo>
                    <a:lnTo>
                      <a:pt x="426" y="140"/>
                    </a:lnTo>
                    <a:lnTo>
                      <a:pt x="433" y="134"/>
                    </a:lnTo>
                    <a:lnTo>
                      <a:pt x="439" y="128"/>
                    </a:lnTo>
                    <a:lnTo>
                      <a:pt x="444" y="121"/>
                    </a:lnTo>
                    <a:lnTo>
                      <a:pt x="450" y="115"/>
                    </a:lnTo>
                    <a:lnTo>
                      <a:pt x="456" y="109"/>
                    </a:lnTo>
                    <a:lnTo>
                      <a:pt x="459" y="103"/>
                    </a:lnTo>
                    <a:lnTo>
                      <a:pt x="463" y="97"/>
                    </a:lnTo>
                    <a:lnTo>
                      <a:pt x="467" y="91"/>
                    </a:lnTo>
                    <a:lnTo>
                      <a:pt x="470" y="87"/>
                    </a:lnTo>
                    <a:lnTo>
                      <a:pt x="473" y="81"/>
                    </a:lnTo>
                    <a:lnTo>
                      <a:pt x="476" y="75"/>
                    </a:lnTo>
                    <a:lnTo>
                      <a:pt x="479" y="70"/>
                    </a:lnTo>
                    <a:lnTo>
                      <a:pt x="482" y="64"/>
                    </a:lnTo>
                    <a:lnTo>
                      <a:pt x="484" y="60"/>
                    </a:lnTo>
                    <a:lnTo>
                      <a:pt x="485" y="55"/>
                    </a:lnTo>
                    <a:lnTo>
                      <a:pt x="487" y="49"/>
                    </a:lnTo>
                    <a:lnTo>
                      <a:pt x="488" y="46"/>
                    </a:lnTo>
                    <a:lnTo>
                      <a:pt x="490" y="42"/>
                    </a:lnTo>
                    <a:lnTo>
                      <a:pt x="491" y="38"/>
                    </a:lnTo>
                    <a:lnTo>
                      <a:pt x="491" y="35"/>
                    </a:lnTo>
                    <a:lnTo>
                      <a:pt x="493" y="30"/>
                    </a:lnTo>
                    <a:lnTo>
                      <a:pt x="493" y="27"/>
                    </a:lnTo>
                    <a:lnTo>
                      <a:pt x="493" y="23"/>
                    </a:lnTo>
                    <a:lnTo>
                      <a:pt x="493" y="20"/>
                    </a:lnTo>
                    <a:lnTo>
                      <a:pt x="494" y="17"/>
                    </a:lnTo>
                    <a:lnTo>
                      <a:pt x="494" y="11"/>
                    </a:lnTo>
                    <a:lnTo>
                      <a:pt x="494" y="8"/>
                    </a:lnTo>
                    <a:lnTo>
                      <a:pt x="494" y="3"/>
                    </a:lnTo>
                    <a:lnTo>
                      <a:pt x="494" y="2"/>
                    </a:lnTo>
                    <a:lnTo>
                      <a:pt x="494" y="0"/>
                    </a:lnTo>
                    <a:lnTo>
                      <a:pt x="49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760560" y="2381400"/>
                <a:ext cx="298440" cy="282600"/>
              </a:xfrm>
              <a:custGeom>
                <a:avLst/>
                <a:gdLst/>
                <a:ahLst/>
                <a:rect l="l" t="t" r="r" b="b"/>
                <a:pathLst>
                  <a:path w="376" h="356">
                    <a:moveTo>
                      <a:pt x="356" y="36"/>
                    </a:moveTo>
                    <a:lnTo>
                      <a:pt x="356" y="36"/>
                    </a:lnTo>
                    <a:lnTo>
                      <a:pt x="356" y="39"/>
                    </a:lnTo>
                    <a:lnTo>
                      <a:pt x="356" y="41"/>
                    </a:lnTo>
                    <a:lnTo>
                      <a:pt x="356" y="47"/>
                    </a:lnTo>
                    <a:lnTo>
                      <a:pt x="354" y="50"/>
                    </a:lnTo>
                    <a:lnTo>
                      <a:pt x="354" y="53"/>
                    </a:lnTo>
                    <a:lnTo>
                      <a:pt x="354" y="58"/>
                    </a:lnTo>
                    <a:lnTo>
                      <a:pt x="354" y="61"/>
                    </a:lnTo>
                    <a:lnTo>
                      <a:pt x="353" y="65"/>
                    </a:lnTo>
                    <a:lnTo>
                      <a:pt x="353" y="70"/>
                    </a:lnTo>
                    <a:lnTo>
                      <a:pt x="351" y="74"/>
                    </a:lnTo>
                    <a:lnTo>
                      <a:pt x="351" y="80"/>
                    </a:lnTo>
                    <a:lnTo>
                      <a:pt x="351" y="85"/>
                    </a:lnTo>
                    <a:lnTo>
                      <a:pt x="350" y="90"/>
                    </a:lnTo>
                    <a:lnTo>
                      <a:pt x="348" y="95"/>
                    </a:lnTo>
                    <a:lnTo>
                      <a:pt x="348" y="101"/>
                    </a:lnTo>
                    <a:lnTo>
                      <a:pt x="345" y="107"/>
                    </a:lnTo>
                    <a:lnTo>
                      <a:pt x="344" y="113"/>
                    </a:lnTo>
                    <a:lnTo>
                      <a:pt x="342" y="119"/>
                    </a:lnTo>
                    <a:lnTo>
                      <a:pt x="341" y="125"/>
                    </a:lnTo>
                    <a:lnTo>
                      <a:pt x="338" y="131"/>
                    </a:lnTo>
                    <a:lnTo>
                      <a:pt x="336" y="136"/>
                    </a:lnTo>
                    <a:lnTo>
                      <a:pt x="332" y="142"/>
                    </a:lnTo>
                    <a:lnTo>
                      <a:pt x="330" y="150"/>
                    </a:lnTo>
                    <a:lnTo>
                      <a:pt x="326" y="156"/>
                    </a:lnTo>
                    <a:lnTo>
                      <a:pt x="323" y="162"/>
                    </a:lnTo>
                    <a:lnTo>
                      <a:pt x="320" y="168"/>
                    </a:lnTo>
                    <a:lnTo>
                      <a:pt x="317" y="175"/>
                    </a:lnTo>
                    <a:lnTo>
                      <a:pt x="311" y="179"/>
                    </a:lnTo>
                    <a:lnTo>
                      <a:pt x="307" y="185"/>
                    </a:lnTo>
                    <a:lnTo>
                      <a:pt x="302" y="191"/>
                    </a:lnTo>
                    <a:lnTo>
                      <a:pt x="299" y="197"/>
                    </a:lnTo>
                    <a:lnTo>
                      <a:pt x="293" y="203"/>
                    </a:lnTo>
                    <a:lnTo>
                      <a:pt x="287" y="209"/>
                    </a:lnTo>
                    <a:lnTo>
                      <a:pt x="281" y="214"/>
                    </a:lnTo>
                    <a:lnTo>
                      <a:pt x="277" y="220"/>
                    </a:lnTo>
                    <a:lnTo>
                      <a:pt x="271" y="224"/>
                    </a:lnTo>
                    <a:lnTo>
                      <a:pt x="265" y="230"/>
                    </a:lnTo>
                    <a:lnTo>
                      <a:pt x="259" y="234"/>
                    </a:lnTo>
                    <a:lnTo>
                      <a:pt x="253" y="240"/>
                    </a:lnTo>
                    <a:lnTo>
                      <a:pt x="246" y="245"/>
                    </a:lnTo>
                    <a:lnTo>
                      <a:pt x="240" y="249"/>
                    </a:lnTo>
                    <a:lnTo>
                      <a:pt x="234" y="254"/>
                    </a:lnTo>
                    <a:lnTo>
                      <a:pt x="228" y="260"/>
                    </a:lnTo>
                    <a:lnTo>
                      <a:pt x="224" y="261"/>
                    </a:lnTo>
                    <a:lnTo>
                      <a:pt x="221" y="263"/>
                    </a:lnTo>
                    <a:lnTo>
                      <a:pt x="218" y="264"/>
                    </a:lnTo>
                    <a:lnTo>
                      <a:pt x="215" y="267"/>
                    </a:lnTo>
                    <a:lnTo>
                      <a:pt x="207" y="271"/>
                    </a:lnTo>
                    <a:lnTo>
                      <a:pt x="201" y="276"/>
                    </a:lnTo>
                    <a:lnTo>
                      <a:pt x="198" y="276"/>
                    </a:lnTo>
                    <a:lnTo>
                      <a:pt x="194" y="279"/>
                    </a:lnTo>
                    <a:lnTo>
                      <a:pt x="191" y="280"/>
                    </a:lnTo>
                    <a:lnTo>
                      <a:pt x="188" y="282"/>
                    </a:lnTo>
                    <a:lnTo>
                      <a:pt x="181" y="286"/>
                    </a:lnTo>
                    <a:lnTo>
                      <a:pt x="175" y="289"/>
                    </a:lnTo>
                    <a:lnTo>
                      <a:pt x="167" y="292"/>
                    </a:lnTo>
                    <a:lnTo>
                      <a:pt x="161" y="295"/>
                    </a:lnTo>
                    <a:lnTo>
                      <a:pt x="155" y="298"/>
                    </a:lnTo>
                    <a:lnTo>
                      <a:pt x="149" y="301"/>
                    </a:lnTo>
                    <a:lnTo>
                      <a:pt x="142" y="303"/>
                    </a:lnTo>
                    <a:lnTo>
                      <a:pt x="138" y="306"/>
                    </a:lnTo>
                    <a:lnTo>
                      <a:pt x="132" y="307"/>
                    </a:lnTo>
                    <a:lnTo>
                      <a:pt x="126" y="310"/>
                    </a:lnTo>
                    <a:lnTo>
                      <a:pt x="120" y="312"/>
                    </a:lnTo>
                    <a:lnTo>
                      <a:pt x="115" y="313"/>
                    </a:lnTo>
                    <a:lnTo>
                      <a:pt x="109" y="313"/>
                    </a:lnTo>
                    <a:lnTo>
                      <a:pt x="105" y="315"/>
                    </a:lnTo>
                    <a:lnTo>
                      <a:pt x="99" y="316"/>
                    </a:lnTo>
                    <a:lnTo>
                      <a:pt x="94" y="316"/>
                    </a:lnTo>
                    <a:lnTo>
                      <a:pt x="90" y="317"/>
                    </a:lnTo>
                    <a:lnTo>
                      <a:pt x="87" y="317"/>
                    </a:lnTo>
                    <a:lnTo>
                      <a:pt x="83" y="317"/>
                    </a:lnTo>
                    <a:lnTo>
                      <a:pt x="78" y="317"/>
                    </a:lnTo>
                    <a:lnTo>
                      <a:pt x="75" y="317"/>
                    </a:lnTo>
                    <a:lnTo>
                      <a:pt x="72" y="319"/>
                    </a:lnTo>
                    <a:lnTo>
                      <a:pt x="65" y="319"/>
                    </a:lnTo>
                    <a:lnTo>
                      <a:pt x="60" y="319"/>
                    </a:lnTo>
                    <a:lnTo>
                      <a:pt x="54" y="317"/>
                    </a:lnTo>
                    <a:lnTo>
                      <a:pt x="51" y="317"/>
                    </a:lnTo>
                    <a:lnTo>
                      <a:pt x="47" y="316"/>
                    </a:lnTo>
                    <a:lnTo>
                      <a:pt x="44" y="316"/>
                    </a:lnTo>
                    <a:lnTo>
                      <a:pt x="41" y="313"/>
                    </a:lnTo>
                    <a:lnTo>
                      <a:pt x="40" y="313"/>
                    </a:lnTo>
                    <a:lnTo>
                      <a:pt x="38" y="313"/>
                    </a:lnTo>
                    <a:lnTo>
                      <a:pt x="37" y="312"/>
                    </a:lnTo>
                    <a:lnTo>
                      <a:pt x="35" y="310"/>
                    </a:lnTo>
                    <a:lnTo>
                      <a:pt x="35" y="306"/>
                    </a:lnTo>
                    <a:lnTo>
                      <a:pt x="35" y="303"/>
                    </a:lnTo>
                    <a:lnTo>
                      <a:pt x="37" y="300"/>
                    </a:lnTo>
                    <a:lnTo>
                      <a:pt x="38" y="297"/>
                    </a:lnTo>
                    <a:lnTo>
                      <a:pt x="40" y="294"/>
                    </a:lnTo>
                    <a:lnTo>
                      <a:pt x="41" y="289"/>
                    </a:lnTo>
                    <a:lnTo>
                      <a:pt x="43" y="285"/>
                    </a:lnTo>
                    <a:lnTo>
                      <a:pt x="44" y="280"/>
                    </a:lnTo>
                    <a:lnTo>
                      <a:pt x="47" y="274"/>
                    </a:lnTo>
                    <a:lnTo>
                      <a:pt x="48" y="269"/>
                    </a:lnTo>
                    <a:lnTo>
                      <a:pt x="51" y="264"/>
                    </a:lnTo>
                    <a:lnTo>
                      <a:pt x="54" y="258"/>
                    </a:lnTo>
                    <a:lnTo>
                      <a:pt x="57" y="254"/>
                    </a:lnTo>
                    <a:lnTo>
                      <a:pt x="59" y="248"/>
                    </a:lnTo>
                    <a:lnTo>
                      <a:pt x="62" y="243"/>
                    </a:lnTo>
                    <a:lnTo>
                      <a:pt x="63" y="239"/>
                    </a:lnTo>
                    <a:lnTo>
                      <a:pt x="66" y="236"/>
                    </a:lnTo>
                    <a:lnTo>
                      <a:pt x="69" y="231"/>
                    </a:lnTo>
                    <a:lnTo>
                      <a:pt x="71" y="230"/>
                    </a:lnTo>
                    <a:lnTo>
                      <a:pt x="37" y="242"/>
                    </a:lnTo>
                    <a:lnTo>
                      <a:pt x="35" y="242"/>
                    </a:lnTo>
                    <a:lnTo>
                      <a:pt x="32" y="245"/>
                    </a:lnTo>
                    <a:lnTo>
                      <a:pt x="28" y="249"/>
                    </a:lnTo>
                    <a:lnTo>
                      <a:pt x="25" y="254"/>
                    </a:lnTo>
                    <a:lnTo>
                      <a:pt x="22" y="257"/>
                    </a:lnTo>
                    <a:lnTo>
                      <a:pt x="19" y="261"/>
                    </a:lnTo>
                    <a:lnTo>
                      <a:pt x="16" y="264"/>
                    </a:lnTo>
                    <a:lnTo>
                      <a:pt x="14" y="269"/>
                    </a:lnTo>
                    <a:lnTo>
                      <a:pt x="11" y="271"/>
                    </a:lnTo>
                    <a:lnTo>
                      <a:pt x="10" y="277"/>
                    </a:lnTo>
                    <a:lnTo>
                      <a:pt x="7" y="282"/>
                    </a:lnTo>
                    <a:lnTo>
                      <a:pt x="7" y="288"/>
                    </a:lnTo>
                    <a:lnTo>
                      <a:pt x="4" y="292"/>
                    </a:lnTo>
                    <a:lnTo>
                      <a:pt x="2" y="298"/>
                    </a:lnTo>
                    <a:lnTo>
                      <a:pt x="2" y="303"/>
                    </a:lnTo>
                    <a:lnTo>
                      <a:pt x="1" y="309"/>
                    </a:lnTo>
                    <a:lnTo>
                      <a:pt x="0" y="313"/>
                    </a:lnTo>
                    <a:lnTo>
                      <a:pt x="0" y="319"/>
                    </a:lnTo>
                    <a:lnTo>
                      <a:pt x="0" y="325"/>
                    </a:lnTo>
                    <a:lnTo>
                      <a:pt x="0" y="329"/>
                    </a:lnTo>
                    <a:lnTo>
                      <a:pt x="0" y="334"/>
                    </a:lnTo>
                    <a:lnTo>
                      <a:pt x="0" y="338"/>
                    </a:lnTo>
                    <a:lnTo>
                      <a:pt x="0" y="341"/>
                    </a:lnTo>
                    <a:lnTo>
                      <a:pt x="0" y="346"/>
                    </a:lnTo>
                    <a:lnTo>
                      <a:pt x="0" y="350"/>
                    </a:lnTo>
                    <a:lnTo>
                      <a:pt x="1" y="352"/>
                    </a:lnTo>
                    <a:lnTo>
                      <a:pt x="2" y="352"/>
                    </a:lnTo>
                    <a:lnTo>
                      <a:pt x="4" y="353"/>
                    </a:lnTo>
                    <a:lnTo>
                      <a:pt x="8" y="353"/>
                    </a:lnTo>
                    <a:lnTo>
                      <a:pt x="11" y="355"/>
                    </a:lnTo>
                    <a:lnTo>
                      <a:pt x="17" y="355"/>
                    </a:lnTo>
                    <a:lnTo>
                      <a:pt x="20" y="355"/>
                    </a:lnTo>
                    <a:lnTo>
                      <a:pt x="23" y="355"/>
                    </a:lnTo>
                    <a:lnTo>
                      <a:pt x="28" y="355"/>
                    </a:lnTo>
                    <a:lnTo>
                      <a:pt x="31" y="356"/>
                    </a:lnTo>
                    <a:lnTo>
                      <a:pt x="35" y="355"/>
                    </a:lnTo>
                    <a:lnTo>
                      <a:pt x="38" y="355"/>
                    </a:lnTo>
                    <a:lnTo>
                      <a:pt x="43" y="355"/>
                    </a:lnTo>
                    <a:lnTo>
                      <a:pt x="47" y="355"/>
                    </a:lnTo>
                    <a:lnTo>
                      <a:pt x="51" y="355"/>
                    </a:lnTo>
                    <a:lnTo>
                      <a:pt x="56" y="355"/>
                    </a:lnTo>
                    <a:lnTo>
                      <a:pt x="62" y="353"/>
                    </a:lnTo>
                    <a:lnTo>
                      <a:pt x="66" y="353"/>
                    </a:lnTo>
                    <a:lnTo>
                      <a:pt x="72" y="352"/>
                    </a:lnTo>
                    <a:lnTo>
                      <a:pt x="78" y="352"/>
                    </a:lnTo>
                    <a:lnTo>
                      <a:pt x="84" y="350"/>
                    </a:lnTo>
                    <a:lnTo>
                      <a:pt x="90" y="349"/>
                    </a:lnTo>
                    <a:lnTo>
                      <a:pt x="96" y="347"/>
                    </a:lnTo>
                    <a:lnTo>
                      <a:pt x="103" y="346"/>
                    </a:lnTo>
                    <a:lnTo>
                      <a:pt x="106" y="344"/>
                    </a:lnTo>
                    <a:lnTo>
                      <a:pt x="109" y="344"/>
                    </a:lnTo>
                    <a:lnTo>
                      <a:pt x="112" y="344"/>
                    </a:lnTo>
                    <a:lnTo>
                      <a:pt x="117" y="343"/>
                    </a:lnTo>
                    <a:lnTo>
                      <a:pt x="120" y="341"/>
                    </a:lnTo>
                    <a:lnTo>
                      <a:pt x="123" y="340"/>
                    </a:lnTo>
                    <a:lnTo>
                      <a:pt x="127" y="338"/>
                    </a:lnTo>
                    <a:lnTo>
                      <a:pt x="130" y="337"/>
                    </a:lnTo>
                    <a:lnTo>
                      <a:pt x="135" y="335"/>
                    </a:lnTo>
                    <a:lnTo>
                      <a:pt x="138" y="334"/>
                    </a:lnTo>
                    <a:lnTo>
                      <a:pt x="142" y="332"/>
                    </a:lnTo>
                    <a:lnTo>
                      <a:pt x="145" y="332"/>
                    </a:lnTo>
                    <a:lnTo>
                      <a:pt x="149" y="329"/>
                    </a:lnTo>
                    <a:lnTo>
                      <a:pt x="152" y="328"/>
                    </a:lnTo>
                    <a:lnTo>
                      <a:pt x="157" y="326"/>
                    </a:lnTo>
                    <a:lnTo>
                      <a:pt x="160" y="325"/>
                    </a:lnTo>
                    <a:lnTo>
                      <a:pt x="164" y="323"/>
                    </a:lnTo>
                    <a:lnTo>
                      <a:pt x="169" y="322"/>
                    </a:lnTo>
                    <a:lnTo>
                      <a:pt x="172" y="320"/>
                    </a:lnTo>
                    <a:lnTo>
                      <a:pt x="176" y="319"/>
                    </a:lnTo>
                    <a:lnTo>
                      <a:pt x="181" y="317"/>
                    </a:lnTo>
                    <a:lnTo>
                      <a:pt x="184" y="315"/>
                    </a:lnTo>
                    <a:lnTo>
                      <a:pt x="188" y="313"/>
                    </a:lnTo>
                    <a:lnTo>
                      <a:pt x="192" y="312"/>
                    </a:lnTo>
                    <a:lnTo>
                      <a:pt x="195" y="310"/>
                    </a:lnTo>
                    <a:lnTo>
                      <a:pt x="200" y="307"/>
                    </a:lnTo>
                    <a:lnTo>
                      <a:pt x="204" y="306"/>
                    </a:lnTo>
                    <a:lnTo>
                      <a:pt x="209" y="304"/>
                    </a:lnTo>
                    <a:lnTo>
                      <a:pt x="212" y="301"/>
                    </a:lnTo>
                    <a:lnTo>
                      <a:pt x="216" y="300"/>
                    </a:lnTo>
                    <a:lnTo>
                      <a:pt x="219" y="297"/>
                    </a:lnTo>
                    <a:lnTo>
                      <a:pt x="224" y="295"/>
                    </a:lnTo>
                    <a:lnTo>
                      <a:pt x="228" y="292"/>
                    </a:lnTo>
                    <a:lnTo>
                      <a:pt x="231" y="291"/>
                    </a:lnTo>
                    <a:lnTo>
                      <a:pt x="235" y="289"/>
                    </a:lnTo>
                    <a:lnTo>
                      <a:pt x="240" y="288"/>
                    </a:lnTo>
                    <a:lnTo>
                      <a:pt x="243" y="285"/>
                    </a:lnTo>
                    <a:lnTo>
                      <a:pt x="247" y="282"/>
                    </a:lnTo>
                    <a:lnTo>
                      <a:pt x="250" y="280"/>
                    </a:lnTo>
                    <a:lnTo>
                      <a:pt x="255" y="277"/>
                    </a:lnTo>
                    <a:lnTo>
                      <a:pt x="258" y="276"/>
                    </a:lnTo>
                    <a:lnTo>
                      <a:pt x="262" y="273"/>
                    </a:lnTo>
                    <a:lnTo>
                      <a:pt x="265" y="270"/>
                    </a:lnTo>
                    <a:lnTo>
                      <a:pt x="270" y="269"/>
                    </a:lnTo>
                    <a:lnTo>
                      <a:pt x="273" y="266"/>
                    </a:lnTo>
                    <a:lnTo>
                      <a:pt x="277" y="263"/>
                    </a:lnTo>
                    <a:lnTo>
                      <a:pt x="280" y="261"/>
                    </a:lnTo>
                    <a:lnTo>
                      <a:pt x="284" y="258"/>
                    </a:lnTo>
                    <a:lnTo>
                      <a:pt x="287" y="255"/>
                    </a:lnTo>
                    <a:lnTo>
                      <a:pt x="290" y="254"/>
                    </a:lnTo>
                    <a:lnTo>
                      <a:pt x="293" y="251"/>
                    </a:lnTo>
                    <a:lnTo>
                      <a:pt x="298" y="249"/>
                    </a:lnTo>
                    <a:lnTo>
                      <a:pt x="304" y="243"/>
                    </a:lnTo>
                    <a:lnTo>
                      <a:pt x="310" y="239"/>
                    </a:lnTo>
                    <a:lnTo>
                      <a:pt x="316" y="233"/>
                    </a:lnTo>
                    <a:lnTo>
                      <a:pt x="322" y="227"/>
                    </a:lnTo>
                    <a:lnTo>
                      <a:pt x="326" y="223"/>
                    </a:lnTo>
                    <a:lnTo>
                      <a:pt x="332" y="217"/>
                    </a:lnTo>
                    <a:lnTo>
                      <a:pt x="336" y="212"/>
                    </a:lnTo>
                    <a:lnTo>
                      <a:pt x="342" y="208"/>
                    </a:lnTo>
                    <a:lnTo>
                      <a:pt x="345" y="202"/>
                    </a:lnTo>
                    <a:lnTo>
                      <a:pt x="350" y="196"/>
                    </a:lnTo>
                    <a:lnTo>
                      <a:pt x="353" y="190"/>
                    </a:lnTo>
                    <a:lnTo>
                      <a:pt x="356" y="185"/>
                    </a:lnTo>
                    <a:lnTo>
                      <a:pt x="359" y="179"/>
                    </a:lnTo>
                    <a:lnTo>
                      <a:pt x="362" y="175"/>
                    </a:lnTo>
                    <a:lnTo>
                      <a:pt x="365" y="171"/>
                    </a:lnTo>
                    <a:lnTo>
                      <a:pt x="366" y="165"/>
                    </a:lnTo>
                    <a:lnTo>
                      <a:pt x="368" y="160"/>
                    </a:lnTo>
                    <a:lnTo>
                      <a:pt x="370" y="156"/>
                    </a:lnTo>
                    <a:lnTo>
                      <a:pt x="370" y="150"/>
                    </a:lnTo>
                    <a:lnTo>
                      <a:pt x="372" y="145"/>
                    </a:lnTo>
                    <a:lnTo>
                      <a:pt x="373" y="141"/>
                    </a:lnTo>
                    <a:lnTo>
                      <a:pt x="373" y="136"/>
                    </a:lnTo>
                    <a:lnTo>
                      <a:pt x="375" y="133"/>
                    </a:lnTo>
                    <a:lnTo>
                      <a:pt x="376" y="129"/>
                    </a:lnTo>
                    <a:lnTo>
                      <a:pt x="376" y="125"/>
                    </a:lnTo>
                    <a:lnTo>
                      <a:pt x="376" y="122"/>
                    </a:lnTo>
                    <a:lnTo>
                      <a:pt x="376" y="117"/>
                    </a:lnTo>
                    <a:lnTo>
                      <a:pt x="376" y="114"/>
                    </a:lnTo>
                    <a:lnTo>
                      <a:pt x="376" y="108"/>
                    </a:lnTo>
                    <a:lnTo>
                      <a:pt x="376" y="102"/>
                    </a:lnTo>
                    <a:lnTo>
                      <a:pt x="375" y="99"/>
                    </a:lnTo>
                    <a:lnTo>
                      <a:pt x="375" y="95"/>
                    </a:lnTo>
                    <a:lnTo>
                      <a:pt x="375" y="93"/>
                    </a:lnTo>
                    <a:lnTo>
                      <a:pt x="375" y="0"/>
                    </a:lnTo>
                    <a:lnTo>
                      <a:pt x="356" y="36"/>
                    </a:lnTo>
                    <a:lnTo>
                      <a:pt x="356" y="3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402000" y="2589120"/>
                <a:ext cx="377640" cy="111240"/>
              </a:xfrm>
              <a:custGeom>
                <a:avLst/>
                <a:gdLst/>
                <a:ahLst/>
                <a:rect l="l" t="t" r="r" b="b"/>
                <a:pathLst>
                  <a:path w="475" h="139">
                    <a:moveTo>
                      <a:pt x="475" y="0"/>
                    </a:moveTo>
                    <a:lnTo>
                      <a:pt x="474" y="0"/>
                    </a:lnTo>
                    <a:lnTo>
                      <a:pt x="474" y="1"/>
                    </a:lnTo>
                    <a:lnTo>
                      <a:pt x="474" y="3"/>
                    </a:lnTo>
                    <a:lnTo>
                      <a:pt x="472" y="7"/>
                    </a:lnTo>
                    <a:lnTo>
                      <a:pt x="469" y="10"/>
                    </a:lnTo>
                    <a:lnTo>
                      <a:pt x="466" y="14"/>
                    </a:lnTo>
                    <a:lnTo>
                      <a:pt x="462" y="20"/>
                    </a:lnTo>
                    <a:lnTo>
                      <a:pt x="456" y="26"/>
                    </a:lnTo>
                    <a:lnTo>
                      <a:pt x="453" y="28"/>
                    </a:lnTo>
                    <a:lnTo>
                      <a:pt x="449" y="32"/>
                    </a:lnTo>
                    <a:lnTo>
                      <a:pt x="444" y="34"/>
                    </a:lnTo>
                    <a:lnTo>
                      <a:pt x="440" y="38"/>
                    </a:lnTo>
                    <a:lnTo>
                      <a:pt x="435" y="41"/>
                    </a:lnTo>
                    <a:lnTo>
                      <a:pt x="429" y="44"/>
                    </a:lnTo>
                    <a:lnTo>
                      <a:pt x="423" y="47"/>
                    </a:lnTo>
                    <a:lnTo>
                      <a:pt x="417" y="50"/>
                    </a:lnTo>
                    <a:lnTo>
                      <a:pt x="414" y="52"/>
                    </a:lnTo>
                    <a:lnTo>
                      <a:pt x="410" y="54"/>
                    </a:lnTo>
                    <a:lnTo>
                      <a:pt x="407" y="54"/>
                    </a:lnTo>
                    <a:lnTo>
                      <a:pt x="404" y="57"/>
                    </a:lnTo>
                    <a:lnTo>
                      <a:pt x="400" y="57"/>
                    </a:lnTo>
                    <a:lnTo>
                      <a:pt x="395" y="60"/>
                    </a:lnTo>
                    <a:lnTo>
                      <a:pt x="392" y="62"/>
                    </a:lnTo>
                    <a:lnTo>
                      <a:pt x="388" y="63"/>
                    </a:lnTo>
                    <a:lnTo>
                      <a:pt x="383" y="65"/>
                    </a:lnTo>
                    <a:lnTo>
                      <a:pt x="379" y="66"/>
                    </a:lnTo>
                    <a:lnTo>
                      <a:pt x="373" y="68"/>
                    </a:lnTo>
                    <a:lnTo>
                      <a:pt x="370" y="69"/>
                    </a:lnTo>
                    <a:lnTo>
                      <a:pt x="364" y="71"/>
                    </a:lnTo>
                    <a:lnTo>
                      <a:pt x="360" y="72"/>
                    </a:lnTo>
                    <a:lnTo>
                      <a:pt x="354" y="74"/>
                    </a:lnTo>
                    <a:lnTo>
                      <a:pt x="349" y="77"/>
                    </a:lnTo>
                    <a:lnTo>
                      <a:pt x="343" y="77"/>
                    </a:lnTo>
                    <a:lnTo>
                      <a:pt x="337" y="78"/>
                    </a:lnTo>
                    <a:lnTo>
                      <a:pt x="331" y="80"/>
                    </a:lnTo>
                    <a:lnTo>
                      <a:pt x="324" y="81"/>
                    </a:lnTo>
                    <a:lnTo>
                      <a:pt x="318" y="81"/>
                    </a:lnTo>
                    <a:lnTo>
                      <a:pt x="312" y="84"/>
                    </a:lnTo>
                    <a:lnTo>
                      <a:pt x="306" y="84"/>
                    </a:lnTo>
                    <a:lnTo>
                      <a:pt x="299" y="86"/>
                    </a:lnTo>
                    <a:lnTo>
                      <a:pt x="293" y="87"/>
                    </a:lnTo>
                    <a:lnTo>
                      <a:pt x="285" y="89"/>
                    </a:lnTo>
                    <a:lnTo>
                      <a:pt x="279" y="89"/>
                    </a:lnTo>
                    <a:lnTo>
                      <a:pt x="272" y="90"/>
                    </a:lnTo>
                    <a:lnTo>
                      <a:pt x="265" y="92"/>
                    </a:lnTo>
                    <a:lnTo>
                      <a:pt x="257" y="92"/>
                    </a:lnTo>
                    <a:lnTo>
                      <a:pt x="251" y="93"/>
                    </a:lnTo>
                    <a:lnTo>
                      <a:pt x="244" y="95"/>
                    </a:lnTo>
                    <a:lnTo>
                      <a:pt x="236" y="96"/>
                    </a:lnTo>
                    <a:lnTo>
                      <a:pt x="229" y="96"/>
                    </a:lnTo>
                    <a:lnTo>
                      <a:pt x="222" y="98"/>
                    </a:lnTo>
                    <a:lnTo>
                      <a:pt x="216" y="99"/>
                    </a:lnTo>
                    <a:lnTo>
                      <a:pt x="208" y="99"/>
                    </a:lnTo>
                    <a:lnTo>
                      <a:pt x="201" y="100"/>
                    </a:lnTo>
                    <a:lnTo>
                      <a:pt x="193" y="100"/>
                    </a:lnTo>
                    <a:lnTo>
                      <a:pt x="186" y="102"/>
                    </a:lnTo>
                    <a:lnTo>
                      <a:pt x="178" y="102"/>
                    </a:lnTo>
                    <a:lnTo>
                      <a:pt x="171" y="103"/>
                    </a:lnTo>
                    <a:lnTo>
                      <a:pt x="164" y="103"/>
                    </a:lnTo>
                    <a:lnTo>
                      <a:pt x="158" y="105"/>
                    </a:lnTo>
                    <a:lnTo>
                      <a:pt x="150" y="105"/>
                    </a:lnTo>
                    <a:lnTo>
                      <a:pt x="143" y="106"/>
                    </a:lnTo>
                    <a:lnTo>
                      <a:pt x="137" y="108"/>
                    </a:lnTo>
                    <a:lnTo>
                      <a:pt x="131" y="108"/>
                    </a:lnTo>
                    <a:lnTo>
                      <a:pt x="124" y="108"/>
                    </a:lnTo>
                    <a:lnTo>
                      <a:pt x="116" y="109"/>
                    </a:lnTo>
                    <a:lnTo>
                      <a:pt x="109" y="109"/>
                    </a:lnTo>
                    <a:lnTo>
                      <a:pt x="103" y="111"/>
                    </a:lnTo>
                    <a:lnTo>
                      <a:pt x="97" y="111"/>
                    </a:lnTo>
                    <a:lnTo>
                      <a:pt x="89" y="111"/>
                    </a:lnTo>
                    <a:lnTo>
                      <a:pt x="85" y="111"/>
                    </a:lnTo>
                    <a:lnTo>
                      <a:pt x="79" y="112"/>
                    </a:lnTo>
                    <a:lnTo>
                      <a:pt x="73" y="112"/>
                    </a:lnTo>
                    <a:lnTo>
                      <a:pt x="67" y="112"/>
                    </a:lnTo>
                    <a:lnTo>
                      <a:pt x="61" y="114"/>
                    </a:lnTo>
                    <a:lnTo>
                      <a:pt x="57" y="114"/>
                    </a:lnTo>
                    <a:lnTo>
                      <a:pt x="51" y="114"/>
                    </a:lnTo>
                    <a:lnTo>
                      <a:pt x="46" y="115"/>
                    </a:lnTo>
                    <a:lnTo>
                      <a:pt x="42" y="115"/>
                    </a:lnTo>
                    <a:lnTo>
                      <a:pt x="38" y="115"/>
                    </a:lnTo>
                    <a:lnTo>
                      <a:pt x="33" y="115"/>
                    </a:lnTo>
                    <a:lnTo>
                      <a:pt x="29" y="115"/>
                    </a:lnTo>
                    <a:lnTo>
                      <a:pt x="26" y="115"/>
                    </a:lnTo>
                    <a:lnTo>
                      <a:pt x="23" y="117"/>
                    </a:lnTo>
                    <a:lnTo>
                      <a:pt x="18" y="117"/>
                    </a:lnTo>
                    <a:lnTo>
                      <a:pt x="15" y="117"/>
                    </a:lnTo>
                    <a:lnTo>
                      <a:pt x="12" y="117"/>
                    </a:lnTo>
                    <a:lnTo>
                      <a:pt x="11" y="117"/>
                    </a:lnTo>
                    <a:lnTo>
                      <a:pt x="5" y="117"/>
                    </a:lnTo>
                    <a:lnTo>
                      <a:pt x="2" y="118"/>
                    </a:lnTo>
                    <a:lnTo>
                      <a:pt x="0" y="118"/>
                    </a:lnTo>
                    <a:lnTo>
                      <a:pt x="0" y="118"/>
                    </a:lnTo>
                    <a:lnTo>
                      <a:pt x="0" y="118"/>
                    </a:lnTo>
                    <a:lnTo>
                      <a:pt x="5" y="120"/>
                    </a:lnTo>
                    <a:lnTo>
                      <a:pt x="6" y="120"/>
                    </a:lnTo>
                    <a:lnTo>
                      <a:pt x="11" y="121"/>
                    </a:lnTo>
                    <a:lnTo>
                      <a:pt x="14" y="121"/>
                    </a:lnTo>
                    <a:lnTo>
                      <a:pt x="18" y="123"/>
                    </a:lnTo>
                    <a:lnTo>
                      <a:pt x="21" y="123"/>
                    </a:lnTo>
                    <a:lnTo>
                      <a:pt x="27" y="124"/>
                    </a:lnTo>
                    <a:lnTo>
                      <a:pt x="32" y="126"/>
                    </a:lnTo>
                    <a:lnTo>
                      <a:pt x="38" y="127"/>
                    </a:lnTo>
                    <a:lnTo>
                      <a:pt x="40" y="127"/>
                    </a:lnTo>
                    <a:lnTo>
                      <a:pt x="43" y="127"/>
                    </a:lnTo>
                    <a:lnTo>
                      <a:pt x="48" y="129"/>
                    </a:lnTo>
                    <a:lnTo>
                      <a:pt x="51" y="129"/>
                    </a:lnTo>
                    <a:lnTo>
                      <a:pt x="54" y="130"/>
                    </a:lnTo>
                    <a:lnTo>
                      <a:pt x="58" y="130"/>
                    </a:lnTo>
                    <a:lnTo>
                      <a:pt x="61" y="130"/>
                    </a:lnTo>
                    <a:lnTo>
                      <a:pt x="66" y="132"/>
                    </a:lnTo>
                    <a:lnTo>
                      <a:pt x="70" y="132"/>
                    </a:lnTo>
                    <a:lnTo>
                      <a:pt x="73" y="133"/>
                    </a:lnTo>
                    <a:lnTo>
                      <a:pt x="78" y="133"/>
                    </a:lnTo>
                    <a:lnTo>
                      <a:pt x="81" y="133"/>
                    </a:lnTo>
                    <a:lnTo>
                      <a:pt x="85" y="133"/>
                    </a:lnTo>
                    <a:lnTo>
                      <a:pt x="89" y="135"/>
                    </a:lnTo>
                    <a:lnTo>
                      <a:pt x="94" y="135"/>
                    </a:lnTo>
                    <a:lnTo>
                      <a:pt x="98" y="136"/>
                    </a:lnTo>
                    <a:lnTo>
                      <a:pt x="101" y="136"/>
                    </a:lnTo>
                    <a:lnTo>
                      <a:pt x="107" y="138"/>
                    </a:lnTo>
                    <a:lnTo>
                      <a:pt x="112" y="138"/>
                    </a:lnTo>
                    <a:lnTo>
                      <a:pt x="116" y="138"/>
                    </a:lnTo>
                    <a:lnTo>
                      <a:pt x="121" y="138"/>
                    </a:lnTo>
                    <a:lnTo>
                      <a:pt x="127" y="138"/>
                    </a:lnTo>
                    <a:lnTo>
                      <a:pt x="131" y="138"/>
                    </a:lnTo>
                    <a:lnTo>
                      <a:pt x="135" y="139"/>
                    </a:lnTo>
                    <a:lnTo>
                      <a:pt x="140" y="139"/>
                    </a:lnTo>
                    <a:lnTo>
                      <a:pt x="146" y="139"/>
                    </a:lnTo>
                    <a:lnTo>
                      <a:pt x="150" y="139"/>
                    </a:lnTo>
                    <a:lnTo>
                      <a:pt x="156" y="139"/>
                    </a:lnTo>
                    <a:lnTo>
                      <a:pt x="161" y="139"/>
                    </a:lnTo>
                    <a:lnTo>
                      <a:pt x="165" y="139"/>
                    </a:lnTo>
                    <a:lnTo>
                      <a:pt x="171" y="139"/>
                    </a:lnTo>
                    <a:lnTo>
                      <a:pt x="176" y="139"/>
                    </a:lnTo>
                    <a:lnTo>
                      <a:pt x="181" y="139"/>
                    </a:lnTo>
                    <a:lnTo>
                      <a:pt x="187" y="139"/>
                    </a:lnTo>
                    <a:lnTo>
                      <a:pt x="192" y="138"/>
                    </a:lnTo>
                    <a:lnTo>
                      <a:pt x="198" y="138"/>
                    </a:lnTo>
                    <a:lnTo>
                      <a:pt x="204" y="138"/>
                    </a:lnTo>
                    <a:lnTo>
                      <a:pt x="210" y="138"/>
                    </a:lnTo>
                    <a:lnTo>
                      <a:pt x="214" y="138"/>
                    </a:lnTo>
                    <a:lnTo>
                      <a:pt x="220" y="138"/>
                    </a:lnTo>
                    <a:lnTo>
                      <a:pt x="224" y="136"/>
                    </a:lnTo>
                    <a:lnTo>
                      <a:pt x="230" y="135"/>
                    </a:lnTo>
                    <a:lnTo>
                      <a:pt x="236" y="133"/>
                    </a:lnTo>
                    <a:lnTo>
                      <a:pt x="242" y="133"/>
                    </a:lnTo>
                    <a:lnTo>
                      <a:pt x="247" y="132"/>
                    </a:lnTo>
                    <a:lnTo>
                      <a:pt x="253" y="132"/>
                    </a:lnTo>
                    <a:lnTo>
                      <a:pt x="259" y="130"/>
                    </a:lnTo>
                    <a:lnTo>
                      <a:pt x="265" y="130"/>
                    </a:lnTo>
                    <a:lnTo>
                      <a:pt x="269" y="127"/>
                    </a:lnTo>
                    <a:lnTo>
                      <a:pt x="275" y="127"/>
                    </a:lnTo>
                    <a:lnTo>
                      <a:pt x="281" y="126"/>
                    </a:lnTo>
                    <a:lnTo>
                      <a:pt x="287" y="124"/>
                    </a:lnTo>
                    <a:lnTo>
                      <a:pt x="291" y="123"/>
                    </a:lnTo>
                    <a:lnTo>
                      <a:pt x="297" y="123"/>
                    </a:lnTo>
                    <a:lnTo>
                      <a:pt x="303" y="120"/>
                    </a:lnTo>
                    <a:lnTo>
                      <a:pt x="309" y="120"/>
                    </a:lnTo>
                    <a:lnTo>
                      <a:pt x="314" y="118"/>
                    </a:lnTo>
                    <a:lnTo>
                      <a:pt x="319" y="117"/>
                    </a:lnTo>
                    <a:lnTo>
                      <a:pt x="324" y="115"/>
                    </a:lnTo>
                    <a:lnTo>
                      <a:pt x="330" y="114"/>
                    </a:lnTo>
                    <a:lnTo>
                      <a:pt x="334" y="111"/>
                    </a:lnTo>
                    <a:lnTo>
                      <a:pt x="340" y="111"/>
                    </a:lnTo>
                    <a:lnTo>
                      <a:pt x="345" y="109"/>
                    </a:lnTo>
                    <a:lnTo>
                      <a:pt x="351" y="108"/>
                    </a:lnTo>
                    <a:lnTo>
                      <a:pt x="355" y="106"/>
                    </a:lnTo>
                    <a:lnTo>
                      <a:pt x="361" y="105"/>
                    </a:lnTo>
                    <a:lnTo>
                      <a:pt x="365" y="103"/>
                    </a:lnTo>
                    <a:lnTo>
                      <a:pt x="370" y="102"/>
                    </a:lnTo>
                    <a:lnTo>
                      <a:pt x="374" y="99"/>
                    </a:lnTo>
                    <a:lnTo>
                      <a:pt x="380" y="99"/>
                    </a:lnTo>
                    <a:lnTo>
                      <a:pt x="385" y="98"/>
                    </a:lnTo>
                    <a:lnTo>
                      <a:pt x="389" y="96"/>
                    </a:lnTo>
                    <a:lnTo>
                      <a:pt x="394" y="95"/>
                    </a:lnTo>
                    <a:lnTo>
                      <a:pt x="398" y="92"/>
                    </a:lnTo>
                    <a:lnTo>
                      <a:pt x="403" y="92"/>
                    </a:lnTo>
                    <a:lnTo>
                      <a:pt x="407" y="90"/>
                    </a:lnTo>
                    <a:lnTo>
                      <a:pt x="410" y="89"/>
                    </a:lnTo>
                    <a:lnTo>
                      <a:pt x="414" y="87"/>
                    </a:lnTo>
                    <a:lnTo>
                      <a:pt x="417" y="86"/>
                    </a:lnTo>
                    <a:lnTo>
                      <a:pt x="422" y="84"/>
                    </a:lnTo>
                    <a:lnTo>
                      <a:pt x="425" y="83"/>
                    </a:lnTo>
                    <a:lnTo>
                      <a:pt x="429" y="81"/>
                    </a:lnTo>
                    <a:lnTo>
                      <a:pt x="432" y="80"/>
                    </a:lnTo>
                    <a:lnTo>
                      <a:pt x="437" y="78"/>
                    </a:lnTo>
                    <a:lnTo>
                      <a:pt x="443" y="77"/>
                    </a:lnTo>
                    <a:lnTo>
                      <a:pt x="449" y="74"/>
                    </a:lnTo>
                    <a:lnTo>
                      <a:pt x="453" y="72"/>
                    </a:lnTo>
                    <a:lnTo>
                      <a:pt x="457" y="69"/>
                    </a:lnTo>
                    <a:lnTo>
                      <a:pt x="462" y="69"/>
                    </a:lnTo>
                    <a:lnTo>
                      <a:pt x="465" y="68"/>
                    </a:lnTo>
                    <a:lnTo>
                      <a:pt x="469" y="65"/>
                    </a:lnTo>
                    <a:lnTo>
                      <a:pt x="471" y="65"/>
                    </a:lnTo>
                    <a:lnTo>
                      <a:pt x="475" y="0"/>
                    </a:lnTo>
                    <a:lnTo>
                      <a:pt x="475"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3031920" y="2695680"/>
                <a:ext cx="424080" cy="460440"/>
              </a:xfrm>
              <a:custGeom>
                <a:avLst/>
                <a:gdLst/>
                <a:ahLst/>
                <a:rect l="l" t="t" r="r" b="b"/>
                <a:pathLst>
                  <a:path w="534" h="580">
                    <a:moveTo>
                      <a:pt x="497" y="0"/>
                    </a:moveTo>
                    <a:lnTo>
                      <a:pt x="496" y="0"/>
                    </a:lnTo>
                    <a:lnTo>
                      <a:pt x="493" y="3"/>
                    </a:lnTo>
                    <a:lnTo>
                      <a:pt x="491" y="5"/>
                    </a:lnTo>
                    <a:lnTo>
                      <a:pt x="490" y="8"/>
                    </a:lnTo>
                    <a:lnTo>
                      <a:pt x="487" y="11"/>
                    </a:lnTo>
                    <a:lnTo>
                      <a:pt x="485" y="15"/>
                    </a:lnTo>
                    <a:lnTo>
                      <a:pt x="482" y="18"/>
                    </a:lnTo>
                    <a:lnTo>
                      <a:pt x="479" y="22"/>
                    </a:lnTo>
                    <a:lnTo>
                      <a:pt x="475" y="25"/>
                    </a:lnTo>
                    <a:lnTo>
                      <a:pt x="472" y="31"/>
                    </a:lnTo>
                    <a:lnTo>
                      <a:pt x="467" y="36"/>
                    </a:lnTo>
                    <a:lnTo>
                      <a:pt x="463" y="42"/>
                    </a:lnTo>
                    <a:lnTo>
                      <a:pt x="457" y="48"/>
                    </a:lnTo>
                    <a:lnTo>
                      <a:pt x="453" y="55"/>
                    </a:lnTo>
                    <a:lnTo>
                      <a:pt x="450" y="58"/>
                    </a:lnTo>
                    <a:lnTo>
                      <a:pt x="447" y="61"/>
                    </a:lnTo>
                    <a:lnTo>
                      <a:pt x="444" y="64"/>
                    </a:lnTo>
                    <a:lnTo>
                      <a:pt x="441" y="68"/>
                    </a:lnTo>
                    <a:lnTo>
                      <a:pt x="438" y="71"/>
                    </a:lnTo>
                    <a:lnTo>
                      <a:pt x="435" y="74"/>
                    </a:lnTo>
                    <a:lnTo>
                      <a:pt x="432" y="79"/>
                    </a:lnTo>
                    <a:lnTo>
                      <a:pt x="429" y="83"/>
                    </a:lnTo>
                    <a:lnTo>
                      <a:pt x="424" y="86"/>
                    </a:lnTo>
                    <a:lnTo>
                      <a:pt x="421" y="91"/>
                    </a:lnTo>
                    <a:lnTo>
                      <a:pt x="417" y="95"/>
                    </a:lnTo>
                    <a:lnTo>
                      <a:pt x="414" y="98"/>
                    </a:lnTo>
                    <a:lnTo>
                      <a:pt x="410" y="103"/>
                    </a:lnTo>
                    <a:lnTo>
                      <a:pt x="407" y="107"/>
                    </a:lnTo>
                    <a:lnTo>
                      <a:pt x="402" y="111"/>
                    </a:lnTo>
                    <a:lnTo>
                      <a:pt x="399" y="116"/>
                    </a:lnTo>
                    <a:lnTo>
                      <a:pt x="393" y="120"/>
                    </a:lnTo>
                    <a:lnTo>
                      <a:pt x="390" y="125"/>
                    </a:lnTo>
                    <a:lnTo>
                      <a:pt x="384" y="129"/>
                    </a:lnTo>
                    <a:lnTo>
                      <a:pt x="381" y="134"/>
                    </a:lnTo>
                    <a:lnTo>
                      <a:pt x="377" y="138"/>
                    </a:lnTo>
                    <a:lnTo>
                      <a:pt x="372" y="144"/>
                    </a:lnTo>
                    <a:lnTo>
                      <a:pt x="368" y="147"/>
                    </a:lnTo>
                    <a:lnTo>
                      <a:pt x="364" y="153"/>
                    </a:lnTo>
                    <a:lnTo>
                      <a:pt x="358" y="157"/>
                    </a:lnTo>
                    <a:lnTo>
                      <a:pt x="353" y="162"/>
                    </a:lnTo>
                    <a:lnTo>
                      <a:pt x="347" y="168"/>
                    </a:lnTo>
                    <a:lnTo>
                      <a:pt x="343" y="174"/>
                    </a:lnTo>
                    <a:lnTo>
                      <a:pt x="337" y="178"/>
                    </a:lnTo>
                    <a:lnTo>
                      <a:pt x="332" y="184"/>
                    </a:lnTo>
                    <a:lnTo>
                      <a:pt x="328" y="189"/>
                    </a:lnTo>
                    <a:lnTo>
                      <a:pt x="322" y="195"/>
                    </a:lnTo>
                    <a:lnTo>
                      <a:pt x="316" y="200"/>
                    </a:lnTo>
                    <a:lnTo>
                      <a:pt x="310" y="205"/>
                    </a:lnTo>
                    <a:lnTo>
                      <a:pt x="304" y="211"/>
                    </a:lnTo>
                    <a:lnTo>
                      <a:pt x="298" y="217"/>
                    </a:lnTo>
                    <a:lnTo>
                      <a:pt x="292" y="223"/>
                    </a:lnTo>
                    <a:lnTo>
                      <a:pt x="286" y="227"/>
                    </a:lnTo>
                    <a:lnTo>
                      <a:pt x="280" y="233"/>
                    </a:lnTo>
                    <a:lnTo>
                      <a:pt x="276" y="239"/>
                    </a:lnTo>
                    <a:lnTo>
                      <a:pt x="269" y="245"/>
                    </a:lnTo>
                    <a:lnTo>
                      <a:pt x="263" y="249"/>
                    </a:lnTo>
                    <a:lnTo>
                      <a:pt x="257" y="255"/>
                    </a:lnTo>
                    <a:lnTo>
                      <a:pt x="251" y="261"/>
                    </a:lnTo>
                    <a:lnTo>
                      <a:pt x="243" y="267"/>
                    </a:lnTo>
                    <a:lnTo>
                      <a:pt x="239" y="273"/>
                    </a:lnTo>
                    <a:lnTo>
                      <a:pt x="232" y="279"/>
                    </a:lnTo>
                    <a:lnTo>
                      <a:pt x="226" y="285"/>
                    </a:lnTo>
                    <a:lnTo>
                      <a:pt x="220" y="289"/>
                    </a:lnTo>
                    <a:lnTo>
                      <a:pt x="212" y="295"/>
                    </a:lnTo>
                    <a:lnTo>
                      <a:pt x="206" y="301"/>
                    </a:lnTo>
                    <a:lnTo>
                      <a:pt x="200" y="306"/>
                    </a:lnTo>
                    <a:lnTo>
                      <a:pt x="194" y="312"/>
                    </a:lnTo>
                    <a:lnTo>
                      <a:pt x="188" y="318"/>
                    </a:lnTo>
                    <a:lnTo>
                      <a:pt x="183" y="324"/>
                    </a:lnTo>
                    <a:lnTo>
                      <a:pt x="177" y="328"/>
                    </a:lnTo>
                    <a:lnTo>
                      <a:pt x="171" y="334"/>
                    </a:lnTo>
                    <a:lnTo>
                      <a:pt x="163" y="340"/>
                    </a:lnTo>
                    <a:lnTo>
                      <a:pt x="157" y="344"/>
                    </a:lnTo>
                    <a:lnTo>
                      <a:pt x="153" y="350"/>
                    </a:lnTo>
                    <a:lnTo>
                      <a:pt x="147" y="355"/>
                    </a:lnTo>
                    <a:lnTo>
                      <a:pt x="141" y="359"/>
                    </a:lnTo>
                    <a:lnTo>
                      <a:pt x="135" y="365"/>
                    </a:lnTo>
                    <a:lnTo>
                      <a:pt x="131" y="370"/>
                    </a:lnTo>
                    <a:lnTo>
                      <a:pt x="125" y="374"/>
                    </a:lnTo>
                    <a:lnTo>
                      <a:pt x="119" y="379"/>
                    </a:lnTo>
                    <a:lnTo>
                      <a:pt x="113" y="383"/>
                    </a:lnTo>
                    <a:lnTo>
                      <a:pt x="108" y="389"/>
                    </a:lnTo>
                    <a:lnTo>
                      <a:pt x="102" y="392"/>
                    </a:lnTo>
                    <a:lnTo>
                      <a:pt x="98" y="396"/>
                    </a:lnTo>
                    <a:lnTo>
                      <a:pt x="94" y="401"/>
                    </a:lnTo>
                    <a:lnTo>
                      <a:pt x="89" y="405"/>
                    </a:lnTo>
                    <a:lnTo>
                      <a:pt x="83" y="410"/>
                    </a:lnTo>
                    <a:lnTo>
                      <a:pt x="79" y="413"/>
                    </a:lnTo>
                    <a:lnTo>
                      <a:pt x="74" y="417"/>
                    </a:lnTo>
                    <a:lnTo>
                      <a:pt x="70" y="420"/>
                    </a:lnTo>
                    <a:lnTo>
                      <a:pt x="67" y="423"/>
                    </a:lnTo>
                    <a:lnTo>
                      <a:pt x="62" y="426"/>
                    </a:lnTo>
                    <a:lnTo>
                      <a:pt x="59" y="429"/>
                    </a:lnTo>
                    <a:lnTo>
                      <a:pt x="55" y="433"/>
                    </a:lnTo>
                    <a:lnTo>
                      <a:pt x="52" y="436"/>
                    </a:lnTo>
                    <a:lnTo>
                      <a:pt x="48" y="438"/>
                    </a:lnTo>
                    <a:lnTo>
                      <a:pt x="45" y="441"/>
                    </a:lnTo>
                    <a:lnTo>
                      <a:pt x="43" y="444"/>
                    </a:lnTo>
                    <a:lnTo>
                      <a:pt x="37" y="448"/>
                    </a:lnTo>
                    <a:lnTo>
                      <a:pt x="33" y="453"/>
                    </a:lnTo>
                    <a:lnTo>
                      <a:pt x="30" y="454"/>
                    </a:lnTo>
                    <a:lnTo>
                      <a:pt x="28" y="457"/>
                    </a:lnTo>
                    <a:lnTo>
                      <a:pt x="25" y="459"/>
                    </a:lnTo>
                    <a:lnTo>
                      <a:pt x="25" y="459"/>
                    </a:lnTo>
                    <a:lnTo>
                      <a:pt x="0" y="580"/>
                    </a:lnTo>
                    <a:lnTo>
                      <a:pt x="2" y="580"/>
                    </a:lnTo>
                    <a:lnTo>
                      <a:pt x="3" y="577"/>
                    </a:lnTo>
                    <a:lnTo>
                      <a:pt x="7" y="574"/>
                    </a:lnTo>
                    <a:lnTo>
                      <a:pt x="10" y="570"/>
                    </a:lnTo>
                    <a:lnTo>
                      <a:pt x="16" y="565"/>
                    </a:lnTo>
                    <a:lnTo>
                      <a:pt x="18" y="563"/>
                    </a:lnTo>
                    <a:lnTo>
                      <a:pt x="22" y="560"/>
                    </a:lnTo>
                    <a:lnTo>
                      <a:pt x="25" y="557"/>
                    </a:lnTo>
                    <a:lnTo>
                      <a:pt x="30" y="554"/>
                    </a:lnTo>
                    <a:lnTo>
                      <a:pt x="33" y="551"/>
                    </a:lnTo>
                    <a:lnTo>
                      <a:pt x="36" y="546"/>
                    </a:lnTo>
                    <a:lnTo>
                      <a:pt x="40" y="543"/>
                    </a:lnTo>
                    <a:lnTo>
                      <a:pt x="43" y="539"/>
                    </a:lnTo>
                    <a:lnTo>
                      <a:pt x="48" y="534"/>
                    </a:lnTo>
                    <a:lnTo>
                      <a:pt x="52" y="531"/>
                    </a:lnTo>
                    <a:lnTo>
                      <a:pt x="56" y="527"/>
                    </a:lnTo>
                    <a:lnTo>
                      <a:pt x="61" y="524"/>
                    </a:lnTo>
                    <a:lnTo>
                      <a:pt x="65" y="518"/>
                    </a:lnTo>
                    <a:lnTo>
                      <a:pt x="70" y="514"/>
                    </a:lnTo>
                    <a:lnTo>
                      <a:pt x="76" y="509"/>
                    </a:lnTo>
                    <a:lnTo>
                      <a:pt x="82" y="505"/>
                    </a:lnTo>
                    <a:lnTo>
                      <a:pt x="86" y="499"/>
                    </a:lnTo>
                    <a:lnTo>
                      <a:pt x="92" y="494"/>
                    </a:lnTo>
                    <a:lnTo>
                      <a:pt x="96" y="490"/>
                    </a:lnTo>
                    <a:lnTo>
                      <a:pt x="104" y="484"/>
                    </a:lnTo>
                    <a:lnTo>
                      <a:pt x="108" y="478"/>
                    </a:lnTo>
                    <a:lnTo>
                      <a:pt x="114" y="472"/>
                    </a:lnTo>
                    <a:lnTo>
                      <a:pt x="120" y="468"/>
                    </a:lnTo>
                    <a:lnTo>
                      <a:pt x="126" y="462"/>
                    </a:lnTo>
                    <a:lnTo>
                      <a:pt x="131" y="456"/>
                    </a:lnTo>
                    <a:lnTo>
                      <a:pt x="138" y="448"/>
                    </a:lnTo>
                    <a:lnTo>
                      <a:pt x="144" y="442"/>
                    </a:lnTo>
                    <a:lnTo>
                      <a:pt x="150" y="438"/>
                    </a:lnTo>
                    <a:lnTo>
                      <a:pt x="156" y="430"/>
                    </a:lnTo>
                    <a:lnTo>
                      <a:pt x="163" y="425"/>
                    </a:lnTo>
                    <a:lnTo>
                      <a:pt x="169" y="419"/>
                    </a:lnTo>
                    <a:lnTo>
                      <a:pt x="175" y="411"/>
                    </a:lnTo>
                    <a:lnTo>
                      <a:pt x="183" y="405"/>
                    </a:lnTo>
                    <a:lnTo>
                      <a:pt x="188" y="399"/>
                    </a:lnTo>
                    <a:lnTo>
                      <a:pt x="194" y="392"/>
                    </a:lnTo>
                    <a:lnTo>
                      <a:pt x="202" y="386"/>
                    </a:lnTo>
                    <a:lnTo>
                      <a:pt x="208" y="379"/>
                    </a:lnTo>
                    <a:lnTo>
                      <a:pt x="215" y="373"/>
                    </a:lnTo>
                    <a:lnTo>
                      <a:pt x="221" y="365"/>
                    </a:lnTo>
                    <a:lnTo>
                      <a:pt x="229" y="359"/>
                    </a:lnTo>
                    <a:lnTo>
                      <a:pt x="234" y="352"/>
                    </a:lnTo>
                    <a:lnTo>
                      <a:pt x="242" y="346"/>
                    </a:lnTo>
                    <a:lnTo>
                      <a:pt x="248" y="338"/>
                    </a:lnTo>
                    <a:lnTo>
                      <a:pt x="254" y="333"/>
                    </a:lnTo>
                    <a:lnTo>
                      <a:pt x="261" y="325"/>
                    </a:lnTo>
                    <a:lnTo>
                      <a:pt x="267" y="319"/>
                    </a:lnTo>
                    <a:lnTo>
                      <a:pt x="273" y="312"/>
                    </a:lnTo>
                    <a:lnTo>
                      <a:pt x="280" y="306"/>
                    </a:lnTo>
                    <a:lnTo>
                      <a:pt x="286" y="298"/>
                    </a:lnTo>
                    <a:lnTo>
                      <a:pt x="294" y="292"/>
                    </a:lnTo>
                    <a:lnTo>
                      <a:pt x="300" y="285"/>
                    </a:lnTo>
                    <a:lnTo>
                      <a:pt x="306" y="279"/>
                    </a:lnTo>
                    <a:lnTo>
                      <a:pt x="312" y="272"/>
                    </a:lnTo>
                    <a:lnTo>
                      <a:pt x="318" y="264"/>
                    </a:lnTo>
                    <a:lnTo>
                      <a:pt x="325" y="258"/>
                    </a:lnTo>
                    <a:lnTo>
                      <a:pt x="331" y="251"/>
                    </a:lnTo>
                    <a:lnTo>
                      <a:pt x="335" y="245"/>
                    </a:lnTo>
                    <a:lnTo>
                      <a:pt x="343" y="238"/>
                    </a:lnTo>
                    <a:lnTo>
                      <a:pt x="347" y="232"/>
                    </a:lnTo>
                    <a:lnTo>
                      <a:pt x="355" y="226"/>
                    </a:lnTo>
                    <a:lnTo>
                      <a:pt x="359" y="218"/>
                    </a:lnTo>
                    <a:lnTo>
                      <a:pt x="365" y="212"/>
                    </a:lnTo>
                    <a:lnTo>
                      <a:pt x="371" y="205"/>
                    </a:lnTo>
                    <a:lnTo>
                      <a:pt x="377" y="199"/>
                    </a:lnTo>
                    <a:lnTo>
                      <a:pt x="381" y="193"/>
                    </a:lnTo>
                    <a:lnTo>
                      <a:pt x="387" y="187"/>
                    </a:lnTo>
                    <a:lnTo>
                      <a:pt x="392" y="181"/>
                    </a:lnTo>
                    <a:lnTo>
                      <a:pt x="398" y="175"/>
                    </a:lnTo>
                    <a:lnTo>
                      <a:pt x="402" y="169"/>
                    </a:lnTo>
                    <a:lnTo>
                      <a:pt x="407" y="162"/>
                    </a:lnTo>
                    <a:lnTo>
                      <a:pt x="413" y="156"/>
                    </a:lnTo>
                    <a:lnTo>
                      <a:pt x="417" y="151"/>
                    </a:lnTo>
                    <a:lnTo>
                      <a:pt x="421" y="146"/>
                    </a:lnTo>
                    <a:lnTo>
                      <a:pt x="426" y="140"/>
                    </a:lnTo>
                    <a:lnTo>
                      <a:pt x="432" y="134"/>
                    </a:lnTo>
                    <a:lnTo>
                      <a:pt x="436" y="129"/>
                    </a:lnTo>
                    <a:lnTo>
                      <a:pt x="441" y="123"/>
                    </a:lnTo>
                    <a:lnTo>
                      <a:pt x="444" y="117"/>
                    </a:lnTo>
                    <a:lnTo>
                      <a:pt x="448" y="113"/>
                    </a:lnTo>
                    <a:lnTo>
                      <a:pt x="453" y="108"/>
                    </a:lnTo>
                    <a:lnTo>
                      <a:pt x="457" y="103"/>
                    </a:lnTo>
                    <a:lnTo>
                      <a:pt x="461" y="98"/>
                    </a:lnTo>
                    <a:lnTo>
                      <a:pt x="466" y="94"/>
                    </a:lnTo>
                    <a:lnTo>
                      <a:pt x="470" y="89"/>
                    </a:lnTo>
                    <a:lnTo>
                      <a:pt x="473" y="83"/>
                    </a:lnTo>
                    <a:lnTo>
                      <a:pt x="476" y="80"/>
                    </a:lnTo>
                    <a:lnTo>
                      <a:pt x="479" y="74"/>
                    </a:lnTo>
                    <a:lnTo>
                      <a:pt x="484" y="71"/>
                    </a:lnTo>
                    <a:lnTo>
                      <a:pt x="487" y="65"/>
                    </a:lnTo>
                    <a:lnTo>
                      <a:pt x="490" y="62"/>
                    </a:lnTo>
                    <a:lnTo>
                      <a:pt x="493" y="58"/>
                    </a:lnTo>
                    <a:lnTo>
                      <a:pt x="497" y="55"/>
                    </a:lnTo>
                    <a:lnTo>
                      <a:pt x="499" y="51"/>
                    </a:lnTo>
                    <a:lnTo>
                      <a:pt x="502" y="48"/>
                    </a:lnTo>
                    <a:lnTo>
                      <a:pt x="505" y="43"/>
                    </a:lnTo>
                    <a:lnTo>
                      <a:pt x="507" y="40"/>
                    </a:lnTo>
                    <a:lnTo>
                      <a:pt x="512" y="34"/>
                    </a:lnTo>
                    <a:lnTo>
                      <a:pt x="516" y="30"/>
                    </a:lnTo>
                    <a:lnTo>
                      <a:pt x="519" y="24"/>
                    </a:lnTo>
                    <a:lnTo>
                      <a:pt x="522" y="19"/>
                    </a:lnTo>
                    <a:lnTo>
                      <a:pt x="527" y="15"/>
                    </a:lnTo>
                    <a:lnTo>
                      <a:pt x="528" y="12"/>
                    </a:lnTo>
                    <a:lnTo>
                      <a:pt x="531" y="9"/>
                    </a:lnTo>
                    <a:lnTo>
                      <a:pt x="534" y="8"/>
                    </a:lnTo>
                    <a:lnTo>
                      <a:pt x="497" y="0"/>
                    </a:lnTo>
                    <a:lnTo>
                      <a:pt x="49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2960640" y="2384280"/>
                <a:ext cx="303120" cy="311400"/>
              </a:xfrm>
              <a:custGeom>
                <a:avLst/>
                <a:gdLst/>
                <a:ahLst/>
                <a:rect l="l" t="t" r="r" b="b"/>
                <a:pathLst>
                  <a:path w="383" h="392">
                    <a:moveTo>
                      <a:pt x="383" y="0"/>
                    </a:moveTo>
                    <a:lnTo>
                      <a:pt x="381" y="0"/>
                    </a:lnTo>
                    <a:lnTo>
                      <a:pt x="380" y="2"/>
                    </a:lnTo>
                    <a:lnTo>
                      <a:pt x="375" y="3"/>
                    </a:lnTo>
                    <a:lnTo>
                      <a:pt x="372" y="8"/>
                    </a:lnTo>
                    <a:lnTo>
                      <a:pt x="369" y="9"/>
                    </a:lnTo>
                    <a:lnTo>
                      <a:pt x="367" y="12"/>
                    </a:lnTo>
                    <a:lnTo>
                      <a:pt x="364" y="15"/>
                    </a:lnTo>
                    <a:lnTo>
                      <a:pt x="361" y="18"/>
                    </a:lnTo>
                    <a:lnTo>
                      <a:pt x="356" y="21"/>
                    </a:lnTo>
                    <a:lnTo>
                      <a:pt x="353" y="26"/>
                    </a:lnTo>
                    <a:lnTo>
                      <a:pt x="349" y="29"/>
                    </a:lnTo>
                    <a:lnTo>
                      <a:pt x="344" y="33"/>
                    </a:lnTo>
                    <a:lnTo>
                      <a:pt x="338" y="37"/>
                    </a:lnTo>
                    <a:lnTo>
                      <a:pt x="334" y="42"/>
                    </a:lnTo>
                    <a:lnTo>
                      <a:pt x="328" y="46"/>
                    </a:lnTo>
                    <a:lnTo>
                      <a:pt x="322" y="51"/>
                    </a:lnTo>
                    <a:lnTo>
                      <a:pt x="316" y="55"/>
                    </a:lnTo>
                    <a:lnTo>
                      <a:pt x="310" y="61"/>
                    </a:lnTo>
                    <a:lnTo>
                      <a:pt x="303" y="66"/>
                    </a:lnTo>
                    <a:lnTo>
                      <a:pt x="297" y="73"/>
                    </a:lnTo>
                    <a:lnTo>
                      <a:pt x="294" y="75"/>
                    </a:lnTo>
                    <a:lnTo>
                      <a:pt x="289" y="78"/>
                    </a:lnTo>
                    <a:lnTo>
                      <a:pt x="286" y="81"/>
                    </a:lnTo>
                    <a:lnTo>
                      <a:pt x="282" y="83"/>
                    </a:lnTo>
                    <a:lnTo>
                      <a:pt x="277" y="86"/>
                    </a:lnTo>
                    <a:lnTo>
                      <a:pt x="275" y="89"/>
                    </a:lnTo>
                    <a:lnTo>
                      <a:pt x="270" y="92"/>
                    </a:lnTo>
                    <a:lnTo>
                      <a:pt x="267" y="97"/>
                    </a:lnTo>
                    <a:lnTo>
                      <a:pt x="263" y="100"/>
                    </a:lnTo>
                    <a:lnTo>
                      <a:pt x="258" y="103"/>
                    </a:lnTo>
                    <a:lnTo>
                      <a:pt x="254" y="106"/>
                    </a:lnTo>
                    <a:lnTo>
                      <a:pt x="249" y="110"/>
                    </a:lnTo>
                    <a:lnTo>
                      <a:pt x="245" y="113"/>
                    </a:lnTo>
                    <a:lnTo>
                      <a:pt x="240" y="118"/>
                    </a:lnTo>
                    <a:lnTo>
                      <a:pt x="236" y="121"/>
                    </a:lnTo>
                    <a:lnTo>
                      <a:pt x="231" y="125"/>
                    </a:lnTo>
                    <a:lnTo>
                      <a:pt x="227" y="128"/>
                    </a:lnTo>
                    <a:lnTo>
                      <a:pt x="221" y="131"/>
                    </a:lnTo>
                    <a:lnTo>
                      <a:pt x="217" y="135"/>
                    </a:lnTo>
                    <a:lnTo>
                      <a:pt x="212" y="138"/>
                    </a:lnTo>
                    <a:lnTo>
                      <a:pt x="206" y="143"/>
                    </a:lnTo>
                    <a:lnTo>
                      <a:pt x="202" y="146"/>
                    </a:lnTo>
                    <a:lnTo>
                      <a:pt x="197" y="150"/>
                    </a:lnTo>
                    <a:lnTo>
                      <a:pt x="191" y="155"/>
                    </a:lnTo>
                    <a:lnTo>
                      <a:pt x="185" y="158"/>
                    </a:lnTo>
                    <a:lnTo>
                      <a:pt x="181" y="162"/>
                    </a:lnTo>
                    <a:lnTo>
                      <a:pt x="175" y="167"/>
                    </a:lnTo>
                    <a:lnTo>
                      <a:pt x="171" y="171"/>
                    </a:lnTo>
                    <a:lnTo>
                      <a:pt x="165" y="174"/>
                    </a:lnTo>
                    <a:lnTo>
                      <a:pt x="160" y="178"/>
                    </a:lnTo>
                    <a:lnTo>
                      <a:pt x="156" y="181"/>
                    </a:lnTo>
                    <a:lnTo>
                      <a:pt x="150" y="186"/>
                    </a:lnTo>
                    <a:lnTo>
                      <a:pt x="144" y="190"/>
                    </a:lnTo>
                    <a:lnTo>
                      <a:pt x="139" y="193"/>
                    </a:lnTo>
                    <a:lnTo>
                      <a:pt x="134" y="198"/>
                    </a:lnTo>
                    <a:lnTo>
                      <a:pt x="129" y="202"/>
                    </a:lnTo>
                    <a:lnTo>
                      <a:pt x="123" y="205"/>
                    </a:lnTo>
                    <a:lnTo>
                      <a:pt x="119" y="210"/>
                    </a:lnTo>
                    <a:lnTo>
                      <a:pt x="114" y="213"/>
                    </a:lnTo>
                    <a:lnTo>
                      <a:pt x="110" y="217"/>
                    </a:lnTo>
                    <a:lnTo>
                      <a:pt x="104" y="220"/>
                    </a:lnTo>
                    <a:lnTo>
                      <a:pt x="99" y="224"/>
                    </a:lnTo>
                    <a:lnTo>
                      <a:pt x="93" y="227"/>
                    </a:lnTo>
                    <a:lnTo>
                      <a:pt x="89" y="232"/>
                    </a:lnTo>
                    <a:lnTo>
                      <a:pt x="85" y="235"/>
                    </a:lnTo>
                    <a:lnTo>
                      <a:pt x="80" y="239"/>
                    </a:lnTo>
                    <a:lnTo>
                      <a:pt x="74" y="242"/>
                    </a:lnTo>
                    <a:lnTo>
                      <a:pt x="71" y="247"/>
                    </a:lnTo>
                    <a:lnTo>
                      <a:pt x="67" y="250"/>
                    </a:lnTo>
                    <a:lnTo>
                      <a:pt x="62" y="253"/>
                    </a:lnTo>
                    <a:lnTo>
                      <a:pt x="56" y="256"/>
                    </a:lnTo>
                    <a:lnTo>
                      <a:pt x="52" y="259"/>
                    </a:lnTo>
                    <a:lnTo>
                      <a:pt x="47" y="262"/>
                    </a:lnTo>
                    <a:lnTo>
                      <a:pt x="45" y="265"/>
                    </a:lnTo>
                    <a:lnTo>
                      <a:pt x="40" y="267"/>
                    </a:lnTo>
                    <a:lnTo>
                      <a:pt x="37" y="272"/>
                    </a:lnTo>
                    <a:lnTo>
                      <a:pt x="33" y="273"/>
                    </a:lnTo>
                    <a:lnTo>
                      <a:pt x="30" y="276"/>
                    </a:lnTo>
                    <a:lnTo>
                      <a:pt x="25" y="279"/>
                    </a:lnTo>
                    <a:lnTo>
                      <a:pt x="22" y="282"/>
                    </a:lnTo>
                    <a:lnTo>
                      <a:pt x="18" y="284"/>
                    </a:lnTo>
                    <a:lnTo>
                      <a:pt x="15" y="287"/>
                    </a:lnTo>
                    <a:lnTo>
                      <a:pt x="12" y="290"/>
                    </a:lnTo>
                    <a:lnTo>
                      <a:pt x="10" y="291"/>
                    </a:lnTo>
                    <a:lnTo>
                      <a:pt x="4" y="296"/>
                    </a:lnTo>
                    <a:lnTo>
                      <a:pt x="0" y="299"/>
                    </a:lnTo>
                    <a:lnTo>
                      <a:pt x="0" y="302"/>
                    </a:lnTo>
                    <a:lnTo>
                      <a:pt x="0" y="305"/>
                    </a:lnTo>
                    <a:lnTo>
                      <a:pt x="0" y="308"/>
                    </a:lnTo>
                    <a:lnTo>
                      <a:pt x="0" y="309"/>
                    </a:lnTo>
                    <a:lnTo>
                      <a:pt x="0" y="392"/>
                    </a:lnTo>
                    <a:lnTo>
                      <a:pt x="0" y="391"/>
                    </a:lnTo>
                    <a:lnTo>
                      <a:pt x="0" y="389"/>
                    </a:lnTo>
                    <a:lnTo>
                      <a:pt x="0" y="388"/>
                    </a:lnTo>
                    <a:lnTo>
                      <a:pt x="0" y="385"/>
                    </a:lnTo>
                    <a:lnTo>
                      <a:pt x="3" y="383"/>
                    </a:lnTo>
                    <a:lnTo>
                      <a:pt x="6" y="382"/>
                    </a:lnTo>
                    <a:lnTo>
                      <a:pt x="9" y="379"/>
                    </a:lnTo>
                    <a:lnTo>
                      <a:pt x="13" y="376"/>
                    </a:lnTo>
                    <a:lnTo>
                      <a:pt x="18" y="373"/>
                    </a:lnTo>
                    <a:lnTo>
                      <a:pt x="22" y="370"/>
                    </a:lnTo>
                    <a:lnTo>
                      <a:pt x="27" y="365"/>
                    </a:lnTo>
                    <a:lnTo>
                      <a:pt x="33" y="361"/>
                    </a:lnTo>
                    <a:lnTo>
                      <a:pt x="39" y="357"/>
                    </a:lnTo>
                    <a:lnTo>
                      <a:pt x="45" y="354"/>
                    </a:lnTo>
                    <a:lnTo>
                      <a:pt x="50" y="348"/>
                    </a:lnTo>
                    <a:lnTo>
                      <a:pt x="56" y="343"/>
                    </a:lnTo>
                    <a:lnTo>
                      <a:pt x="59" y="340"/>
                    </a:lnTo>
                    <a:lnTo>
                      <a:pt x="62" y="337"/>
                    </a:lnTo>
                    <a:lnTo>
                      <a:pt x="67" y="334"/>
                    </a:lnTo>
                    <a:lnTo>
                      <a:pt x="70" y="333"/>
                    </a:lnTo>
                    <a:lnTo>
                      <a:pt x="73" y="328"/>
                    </a:lnTo>
                    <a:lnTo>
                      <a:pt x="77" y="325"/>
                    </a:lnTo>
                    <a:lnTo>
                      <a:pt x="80" y="322"/>
                    </a:lnTo>
                    <a:lnTo>
                      <a:pt x="85" y="321"/>
                    </a:lnTo>
                    <a:lnTo>
                      <a:pt x="88" y="316"/>
                    </a:lnTo>
                    <a:lnTo>
                      <a:pt x="92" y="313"/>
                    </a:lnTo>
                    <a:lnTo>
                      <a:pt x="95" y="311"/>
                    </a:lnTo>
                    <a:lnTo>
                      <a:pt x="99" y="309"/>
                    </a:lnTo>
                    <a:lnTo>
                      <a:pt x="104" y="305"/>
                    </a:lnTo>
                    <a:lnTo>
                      <a:pt x="107" y="302"/>
                    </a:lnTo>
                    <a:lnTo>
                      <a:pt x="111" y="299"/>
                    </a:lnTo>
                    <a:lnTo>
                      <a:pt x="114" y="294"/>
                    </a:lnTo>
                    <a:lnTo>
                      <a:pt x="119" y="291"/>
                    </a:lnTo>
                    <a:lnTo>
                      <a:pt x="123" y="287"/>
                    </a:lnTo>
                    <a:lnTo>
                      <a:pt x="128" y="284"/>
                    </a:lnTo>
                    <a:lnTo>
                      <a:pt x="132" y="281"/>
                    </a:lnTo>
                    <a:lnTo>
                      <a:pt x="135" y="276"/>
                    </a:lnTo>
                    <a:lnTo>
                      <a:pt x="139" y="273"/>
                    </a:lnTo>
                    <a:lnTo>
                      <a:pt x="144" y="269"/>
                    </a:lnTo>
                    <a:lnTo>
                      <a:pt x="148" y="266"/>
                    </a:lnTo>
                    <a:lnTo>
                      <a:pt x="151" y="262"/>
                    </a:lnTo>
                    <a:lnTo>
                      <a:pt x="156" y="259"/>
                    </a:lnTo>
                    <a:lnTo>
                      <a:pt x="160" y="254"/>
                    </a:lnTo>
                    <a:lnTo>
                      <a:pt x="166" y="251"/>
                    </a:lnTo>
                    <a:lnTo>
                      <a:pt x="169" y="247"/>
                    </a:lnTo>
                    <a:lnTo>
                      <a:pt x="174" y="242"/>
                    </a:lnTo>
                    <a:lnTo>
                      <a:pt x="178" y="238"/>
                    </a:lnTo>
                    <a:lnTo>
                      <a:pt x="183" y="235"/>
                    </a:lnTo>
                    <a:lnTo>
                      <a:pt x="187" y="230"/>
                    </a:lnTo>
                    <a:lnTo>
                      <a:pt x="191" y="226"/>
                    </a:lnTo>
                    <a:lnTo>
                      <a:pt x="196" y="221"/>
                    </a:lnTo>
                    <a:lnTo>
                      <a:pt x="200" y="219"/>
                    </a:lnTo>
                    <a:lnTo>
                      <a:pt x="205" y="213"/>
                    </a:lnTo>
                    <a:lnTo>
                      <a:pt x="209" y="210"/>
                    </a:lnTo>
                    <a:lnTo>
                      <a:pt x="212" y="205"/>
                    </a:lnTo>
                    <a:lnTo>
                      <a:pt x="218" y="201"/>
                    </a:lnTo>
                    <a:lnTo>
                      <a:pt x="223" y="196"/>
                    </a:lnTo>
                    <a:lnTo>
                      <a:pt x="227" y="192"/>
                    </a:lnTo>
                    <a:lnTo>
                      <a:pt x="230" y="187"/>
                    </a:lnTo>
                    <a:lnTo>
                      <a:pt x="236" y="184"/>
                    </a:lnTo>
                    <a:lnTo>
                      <a:pt x="239" y="180"/>
                    </a:lnTo>
                    <a:lnTo>
                      <a:pt x="243" y="175"/>
                    </a:lnTo>
                    <a:lnTo>
                      <a:pt x="248" y="171"/>
                    </a:lnTo>
                    <a:lnTo>
                      <a:pt x="252" y="167"/>
                    </a:lnTo>
                    <a:lnTo>
                      <a:pt x="255" y="164"/>
                    </a:lnTo>
                    <a:lnTo>
                      <a:pt x="260" y="159"/>
                    </a:lnTo>
                    <a:lnTo>
                      <a:pt x="264" y="155"/>
                    </a:lnTo>
                    <a:lnTo>
                      <a:pt x="269" y="152"/>
                    </a:lnTo>
                    <a:lnTo>
                      <a:pt x="272" y="147"/>
                    </a:lnTo>
                    <a:lnTo>
                      <a:pt x="276" y="143"/>
                    </a:lnTo>
                    <a:lnTo>
                      <a:pt x="279" y="138"/>
                    </a:lnTo>
                    <a:lnTo>
                      <a:pt x="283" y="135"/>
                    </a:lnTo>
                    <a:lnTo>
                      <a:pt x="288" y="131"/>
                    </a:lnTo>
                    <a:lnTo>
                      <a:pt x="291" y="128"/>
                    </a:lnTo>
                    <a:lnTo>
                      <a:pt x="295" y="124"/>
                    </a:lnTo>
                    <a:lnTo>
                      <a:pt x="300" y="121"/>
                    </a:lnTo>
                    <a:lnTo>
                      <a:pt x="303" y="118"/>
                    </a:lnTo>
                    <a:lnTo>
                      <a:pt x="306" y="113"/>
                    </a:lnTo>
                    <a:lnTo>
                      <a:pt x="309" y="110"/>
                    </a:lnTo>
                    <a:lnTo>
                      <a:pt x="312" y="107"/>
                    </a:lnTo>
                    <a:lnTo>
                      <a:pt x="319" y="100"/>
                    </a:lnTo>
                    <a:lnTo>
                      <a:pt x="325" y="94"/>
                    </a:lnTo>
                    <a:lnTo>
                      <a:pt x="331" y="88"/>
                    </a:lnTo>
                    <a:lnTo>
                      <a:pt x="335" y="82"/>
                    </a:lnTo>
                    <a:lnTo>
                      <a:pt x="340" y="76"/>
                    </a:lnTo>
                    <a:lnTo>
                      <a:pt x="346" y="73"/>
                    </a:lnTo>
                    <a:lnTo>
                      <a:pt x="349" y="69"/>
                    </a:lnTo>
                    <a:lnTo>
                      <a:pt x="353" y="66"/>
                    </a:lnTo>
                    <a:lnTo>
                      <a:pt x="356" y="61"/>
                    </a:lnTo>
                    <a:lnTo>
                      <a:pt x="359" y="58"/>
                    </a:lnTo>
                    <a:lnTo>
                      <a:pt x="362" y="55"/>
                    </a:lnTo>
                    <a:lnTo>
                      <a:pt x="364" y="54"/>
                    </a:lnTo>
                    <a:lnTo>
                      <a:pt x="383" y="0"/>
                    </a:lnTo>
                    <a:lnTo>
                      <a:pt x="383"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4" name=""/>
            <p:cNvGrpSpPr/>
            <p:nvPr/>
          </p:nvGrpSpPr>
          <p:grpSpPr>
            <a:xfrm>
              <a:off x="2643120" y="1644480"/>
              <a:ext cx="826920" cy="560520"/>
              <a:chOff x="2643120" y="1644480"/>
              <a:chExt cx="826920" cy="560520"/>
            </a:xfrm>
          </p:grpSpPr>
          <p:sp>
            <p:nvSpPr>
              <p:cNvPr id="805" name=""/>
              <p:cNvSpPr/>
              <p:nvPr/>
            </p:nvSpPr>
            <p:spPr>
              <a:xfrm>
                <a:off x="2697840" y="1732320"/>
                <a:ext cx="729000" cy="472680"/>
              </a:xfrm>
              <a:custGeom>
                <a:avLst/>
                <a:gdLst/>
                <a:ahLst/>
                <a:rect l="l" t="t" r="r" b="b"/>
                <a:pathLst>
                  <a:path w="797" h="516">
                    <a:moveTo>
                      <a:pt x="398" y="0"/>
                    </a:moveTo>
                    <a:lnTo>
                      <a:pt x="358" y="2"/>
                    </a:lnTo>
                    <a:lnTo>
                      <a:pt x="318" y="6"/>
                    </a:lnTo>
                    <a:lnTo>
                      <a:pt x="280" y="12"/>
                    </a:lnTo>
                    <a:lnTo>
                      <a:pt x="244" y="20"/>
                    </a:lnTo>
                    <a:lnTo>
                      <a:pt x="209" y="31"/>
                    </a:lnTo>
                    <a:lnTo>
                      <a:pt x="176" y="45"/>
                    </a:lnTo>
                    <a:lnTo>
                      <a:pt x="146" y="59"/>
                    </a:lnTo>
                    <a:lnTo>
                      <a:pt x="117" y="75"/>
                    </a:lnTo>
                    <a:lnTo>
                      <a:pt x="91" y="94"/>
                    </a:lnTo>
                    <a:lnTo>
                      <a:pt x="69" y="114"/>
                    </a:lnTo>
                    <a:lnTo>
                      <a:pt x="49" y="134"/>
                    </a:lnTo>
                    <a:lnTo>
                      <a:pt x="31" y="157"/>
                    </a:lnTo>
                    <a:lnTo>
                      <a:pt x="18" y="181"/>
                    </a:lnTo>
                    <a:lnTo>
                      <a:pt x="8" y="205"/>
                    </a:lnTo>
                    <a:lnTo>
                      <a:pt x="3" y="231"/>
                    </a:lnTo>
                    <a:lnTo>
                      <a:pt x="0" y="258"/>
                    </a:lnTo>
                    <a:lnTo>
                      <a:pt x="3" y="284"/>
                    </a:lnTo>
                    <a:lnTo>
                      <a:pt x="8" y="310"/>
                    </a:lnTo>
                    <a:lnTo>
                      <a:pt x="18" y="334"/>
                    </a:lnTo>
                    <a:lnTo>
                      <a:pt x="31" y="358"/>
                    </a:lnTo>
                    <a:lnTo>
                      <a:pt x="49" y="381"/>
                    </a:lnTo>
                    <a:lnTo>
                      <a:pt x="69" y="402"/>
                    </a:lnTo>
                    <a:lnTo>
                      <a:pt x="91" y="422"/>
                    </a:lnTo>
                    <a:lnTo>
                      <a:pt x="117" y="440"/>
                    </a:lnTo>
                    <a:lnTo>
                      <a:pt x="146" y="457"/>
                    </a:lnTo>
                    <a:lnTo>
                      <a:pt x="176" y="472"/>
                    </a:lnTo>
                    <a:lnTo>
                      <a:pt x="209" y="485"/>
                    </a:lnTo>
                    <a:lnTo>
                      <a:pt x="244" y="496"/>
                    </a:lnTo>
                    <a:lnTo>
                      <a:pt x="280" y="504"/>
                    </a:lnTo>
                    <a:lnTo>
                      <a:pt x="318" y="511"/>
                    </a:lnTo>
                    <a:lnTo>
                      <a:pt x="358" y="515"/>
                    </a:lnTo>
                    <a:lnTo>
                      <a:pt x="398" y="516"/>
                    </a:lnTo>
                    <a:lnTo>
                      <a:pt x="438" y="515"/>
                    </a:lnTo>
                    <a:lnTo>
                      <a:pt x="478" y="511"/>
                    </a:lnTo>
                    <a:lnTo>
                      <a:pt x="516" y="504"/>
                    </a:lnTo>
                    <a:lnTo>
                      <a:pt x="553" y="496"/>
                    </a:lnTo>
                    <a:lnTo>
                      <a:pt x="588" y="485"/>
                    </a:lnTo>
                    <a:lnTo>
                      <a:pt x="620" y="472"/>
                    </a:lnTo>
                    <a:lnTo>
                      <a:pt x="651" y="457"/>
                    </a:lnTo>
                    <a:lnTo>
                      <a:pt x="681" y="440"/>
                    </a:lnTo>
                    <a:lnTo>
                      <a:pt x="706" y="422"/>
                    </a:lnTo>
                    <a:lnTo>
                      <a:pt x="729" y="402"/>
                    </a:lnTo>
                    <a:lnTo>
                      <a:pt x="749" y="381"/>
                    </a:lnTo>
                    <a:lnTo>
                      <a:pt x="766" y="358"/>
                    </a:lnTo>
                    <a:lnTo>
                      <a:pt x="780" y="334"/>
                    </a:lnTo>
                    <a:lnTo>
                      <a:pt x="789" y="310"/>
                    </a:lnTo>
                    <a:lnTo>
                      <a:pt x="794" y="284"/>
                    </a:lnTo>
                    <a:lnTo>
                      <a:pt x="797" y="258"/>
                    </a:lnTo>
                    <a:lnTo>
                      <a:pt x="794" y="231"/>
                    </a:lnTo>
                    <a:lnTo>
                      <a:pt x="789" y="205"/>
                    </a:lnTo>
                    <a:lnTo>
                      <a:pt x="780" y="181"/>
                    </a:lnTo>
                    <a:lnTo>
                      <a:pt x="766" y="157"/>
                    </a:lnTo>
                    <a:lnTo>
                      <a:pt x="749" y="134"/>
                    </a:lnTo>
                    <a:lnTo>
                      <a:pt x="729" y="114"/>
                    </a:lnTo>
                    <a:lnTo>
                      <a:pt x="706" y="94"/>
                    </a:lnTo>
                    <a:lnTo>
                      <a:pt x="681" y="75"/>
                    </a:lnTo>
                    <a:lnTo>
                      <a:pt x="651" y="59"/>
                    </a:lnTo>
                    <a:lnTo>
                      <a:pt x="620" y="45"/>
                    </a:lnTo>
                    <a:lnTo>
                      <a:pt x="588" y="31"/>
                    </a:lnTo>
                    <a:lnTo>
                      <a:pt x="553" y="20"/>
                    </a:lnTo>
                    <a:lnTo>
                      <a:pt x="516" y="12"/>
                    </a:lnTo>
                    <a:lnTo>
                      <a:pt x="478" y="6"/>
                    </a:lnTo>
                    <a:lnTo>
                      <a:pt x="438" y="2"/>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741040" y="1774440"/>
                <a:ext cx="643320" cy="387360"/>
              </a:xfrm>
              <a:custGeom>
                <a:avLst/>
                <a:gdLst/>
                <a:ahLst/>
                <a:rect l="l" t="t" r="r" b="b"/>
                <a:pathLst>
                  <a:path w="703" h="423">
                    <a:moveTo>
                      <a:pt x="0" y="212"/>
                    </a:moveTo>
                    <a:lnTo>
                      <a:pt x="2" y="190"/>
                    </a:lnTo>
                    <a:lnTo>
                      <a:pt x="7" y="169"/>
                    </a:lnTo>
                    <a:lnTo>
                      <a:pt x="16" y="149"/>
                    </a:lnTo>
                    <a:lnTo>
                      <a:pt x="28" y="130"/>
                    </a:lnTo>
                    <a:lnTo>
                      <a:pt x="43" y="111"/>
                    </a:lnTo>
                    <a:lnTo>
                      <a:pt x="61" y="94"/>
                    </a:lnTo>
                    <a:lnTo>
                      <a:pt x="81" y="78"/>
                    </a:lnTo>
                    <a:lnTo>
                      <a:pt x="103" y="62"/>
                    </a:lnTo>
                    <a:lnTo>
                      <a:pt x="129" y="48"/>
                    </a:lnTo>
                    <a:lnTo>
                      <a:pt x="156" y="36"/>
                    </a:lnTo>
                    <a:lnTo>
                      <a:pt x="184" y="25"/>
                    </a:lnTo>
                    <a:lnTo>
                      <a:pt x="214" y="16"/>
                    </a:lnTo>
                    <a:lnTo>
                      <a:pt x="247" y="9"/>
                    </a:lnTo>
                    <a:lnTo>
                      <a:pt x="280" y="4"/>
                    </a:lnTo>
                    <a:lnTo>
                      <a:pt x="315" y="1"/>
                    </a:lnTo>
                    <a:lnTo>
                      <a:pt x="351" y="0"/>
                    </a:lnTo>
                    <a:lnTo>
                      <a:pt x="387" y="1"/>
                    </a:lnTo>
                    <a:lnTo>
                      <a:pt x="422" y="4"/>
                    </a:lnTo>
                    <a:lnTo>
                      <a:pt x="455" y="9"/>
                    </a:lnTo>
                    <a:lnTo>
                      <a:pt x="488" y="16"/>
                    </a:lnTo>
                    <a:lnTo>
                      <a:pt x="518" y="25"/>
                    </a:lnTo>
                    <a:lnTo>
                      <a:pt x="548" y="36"/>
                    </a:lnTo>
                    <a:lnTo>
                      <a:pt x="575" y="48"/>
                    </a:lnTo>
                    <a:lnTo>
                      <a:pt x="600" y="62"/>
                    </a:lnTo>
                    <a:lnTo>
                      <a:pt x="623" y="78"/>
                    </a:lnTo>
                    <a:lnTo>
                      <a:pt x="643" y="94"/>
                    </a:lnTo>
                    <a:lnTo>
                      <a:pt x="660" y="111"/>
                    </a:lnTo>
                    <a:lnTo>
                      <a:pt x="675" y="130"/>
                    </a:lnTo>
                    <a:lnTo>
                      <a:pt x="687" y="149"/>
                    </a:lnTo>
                    <a:lnTo>
                      <a:pt x="696" y="169"/>
                    </a:lnTo>
                    <a:lnTo>
                      <a:pt x="702" y="190"/>
                    </a:lnTo>
                    <a:lnTo>
                      <a:pt x="703" y="212"/>
                    </a:lnTo>
                    <a:lnTo>
                      <a:pt x="702" y="233"/>
                    </a:lnTo>
                    <a:lnTo>
                      <a:pt x="696" y="255"/>
                    </a:lnTo>
                    <a:lnTo>
                      <a:pt x="687" y="275"/>
                    </a:lnTo>
                    <a:lnTo>
                      <a:pt x="675" y="293"/>
                    </a:lnTo>
                    <a:lnTo>
                      <a:pt x="660" y="312"/>
                    </a:lnTo>
                    <a:lnTo>
                      <a:pt x="643" y="330"/>
                    </a:lnTo>
                    <a:lnTo>
                      <a:pt x="623" y="346"/>
                    </a:lnTo>
                    <a:lnTo>
                      <a:pt x="600" y="362"/>
                    </a:lnTo>
                    <a:lnTo>
                      <a:pt x="575" y="375"/>
                    </a:lnTo>
                    <a:lnTo>
                      <a:pt x="548" y="387"/>
                    </a:lnTo>
                    <a:lnTo>
                      <a:pt x="518" y="398"/>
                    </a:lnTo>
                    <a:lnTo>
                      <a:pt x="488" y="407"/>
                    </a:lnTo>
                    <a:lnTo>
                      <a:pt x="455" y="414"/>
                    </a:lnTo>
                    <a:lnTo>
                      <a:pt x="422" y="419"/>
                    </a:lnTo>
                    <a:lnTo>
                      <a:pt x="387" y="422"/>
                    </a:lnTo>
                    <a:lnTo>
                      <a:pt x="351" y="423"/>
                    </a:lnTo>
                    <a:lnTo>
                      <a:pt x="315" y="422"/>
                    </a:lnTo>
                    <a:lnTo>
                      <a:pt x="280" y="419"/>
                    </a:lnTo>
                    <a:lnTo>
                      <a:pt x="247" y="414"/>
                    </a:lnTo>
                    <a:lnTo>
                      <a:pt x="214" y="407"/>
                    </a:lnTo>
                    <a:lnTo>
                      <a:pt x="184" y="398"/>
                    </a:lnTo>
                    <a:lnTo>
                      <a:pt x="156" y="387"/>
                    </a:lnTo>
                    <a:lnTo>
                      <a:pt x="129" y="375"/>
                    </a:lnTo>
                    <a:lnTo>
                      <a:pt x="103" y="362"/>
                    </a:lnTo>
                    <a:lnTo>
                      <a:pt x="81" y="346"/>
                    </a:lnTo>
                    <a:lnTo>
                      <a:pt x="61" y="330"/>
                    </a:lnTo>
                    <a:lnTo>
                      <a:pt x="43" y="312"/>
                    </a:lnTo>
                    <a:lnTo>
                      <a:pt x="28" y="293"/>
                    </a:lnTo>
                    <a:lnTo>
                      <a:pt x="16" y="275"/>
                    </a:lnTo>
                    <a:lnTo>
                      <a:pt x="7" y="255"/>
                    </a:lnTo>
                    <a:lnTo>
                      <a:pt x="2" y="233"/>
                    </a:lnTo>
                    <a:lnTo>
                      <a:pt x="0"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59120" y="1761480"/>
                <a:ext cx="400680" cy="402840"/>
              </a:xfrm>
              <a:custGeom>
                <a:avLst/>
                <a:gdLst/>
                <a:ahLst/>
                <a:rect l="l" t="t" r="r" b="b"/>
                <a:pathLst>
                  <a:path w="438" h="440">
                    <a:moveTo>
                      <a:pt x="0" y="220"/>
                    </a:moveTo>
                    <a:lnTo>
                      <a:pt x="1" y="243"/>
                    </a:lnTo>
                    <a:lnTo>
                      <a:pt x="4" y="264"/>
                    </a:lnTo>
                    <a:lnTo>
                      <a:pt x="9" y="286"/>
                    </a:lnTo>
                    <a:lnTo>
                      <a:pt x="17" y="306"/>
                    </a:lnTo>
                    <a:lnTo>
                      <a:pt x="27" y="325"/>
                    </a:lnTo>
                    <a:lnTo>
                      <a:pt x="37" y="342"/>
                    </a:lnTo>
                    <a:lnTo>
                      <a:pt x="51" y="360"/>
                    </a:lnTo>
                    <a:lnTo>
                      <a:pt x="64" y="376"/>
                    </a:lnTo>
                    <a:lnTo>
                      <a:pt x="80" y="389"/>
                    </a:lnTo>
                    <a:lnTo>
                      <a:pt x="96" y="403"/>
                    </a:lnTo>
                    <a:lnTo>
                      <a:pt x="115" y="413"/>
                    </a:lnTo>
                    <a:lnTo>
                      <a:pt x="134" y="423"/>
                    </a:lnTo>
                    <a:lnTo>
                      <a:pt x="154" y="431"/>
                    </a:lnTo>
                    <a:lnTo>
                      <a:pt x="174" y="436"/>
                    </a:lnTo>
                    <a:lnTo>
                      <a:pt x="197" y="439"/>
                    </a:lnTo>
                    <a:lnTo>
                      <a:pt x="218" y="440"/>
                    </a:lnTo>
                    <a:lnTo>
                      <a:pt x="241" y="439"/>
                    </a:lnTo>
                    <a:lnTo>
                      <a:pt x="262" y="436"/>
                    </a:lnTo>
                    <a:lnTo>
                      <a:pt x="284" y="431"/>
                    </a:lnTo>
                    <a:lnTo>
                      <a:pt x="304" y="423"/>
                    </a:lnTo>
                    <a:lnTo>
                      <a:pt x="322" y="413"/>
                    </a:lnTo>
                    <a:lnTo>
                      <a:pt x="341" y="403"/>
                    </a:lnTo>
                    <a:lnTo>
                      <a:pt x="357" y="389"/>
                    </a:lnTo>
                    <a:lnTo>
                      <a:pt x="373" y="376"/>
                    </a:lnTo>
                    <a:lnTo>
                      <a:pt x="388" y="360"/>
                    </a:lnTo>
                    <a:lnTo>
                      <a:pt x="400" y="342"/>
                    </a:lnTo>
                    <a:lnTo>
                      <a:pt x="411" y="325"/>
                    </a:lnTo>
                    <a:lnTo>
                      <a:pt x="420" y="306"/>
                    </a:lnTo>
                    <a:lnTo>
                      <a:pt x="428" y="286"/>
                    </a:lnTo>
                    <a:lnTo>
                      <a:pt x="434" y="264"/>
                    </a:lnTo>
                    <a:lnTo>
                      <a:pt x="436" y="243"/>
                    </a:lnTo>
                    <a:lnTo>
                      <a:pt x="438" y="220"/>
                    </a:lnTo>
                    <a:lnTo>
                      <a:pt x="436" y="197"/>
                    </a:lnTo>
                    <a:lnTo>
                      <a:pt x="434" y="176"/>
                    </a:lnTo>
                    <a:lnTo>
                      <a:pt x="428" y="155"/>
                    </a:lnTo>
                    <a:lnTo>
                      <a:pt x="420" y="134"/>
                    </a:lnTo>
                    <a:lnTo>
                      <a:pt x="411" y="116"/>
                    </a:lnTo>
                    <a:lnTo>
                      <a:pt x="400" y="98"/>
                    </a:lnTo>
                    <a:lnTo>
                      <a:pt x="388" y="81"/>
                    </a:lnTo>
                    <a:lnTo>
                      <a:pt x="373" y="65"/>
                    </a:lnTo>
                    <a:lnTo>
                      <a:pt x="357" y="51"/>
                    </a:lnTo>
                    <a:lnTo>
                      <a:pt x="341" y="38"/>
                    </a:lnTo>
                    <a:lnTo>
                      <a:pt x="322" y="27"/>
                    </a:lnTo>
                    <a:lnTo>
                      <a:pt x="304" y="18"/>
                    </a:lnTo>
                    <a:lnTo>
                      <a:pt x="284" y="10"/>
                    </a:lnTo>
                    <a:lnTo>
                      <a:pt x="262" y="4"/>
                    </a:lnTo>
                    <a:lnTo>
                      <a:pt x="241" y="2"/>
                    </a:lnTo>
                    <a:lnTo>
                      <a:pt x="218" y="0"/>
                    </a:lnTo>
                    <a:lnTo>
                      <a:pt x="197" y="2"/>
                    </a:lnTo>
                    <a:lnTo>
                      <a:pt x="174" y="4"/>
                    </a:lnTo>
                    <a:lnTo>
                      <a:pt x="154" y="10"/>
                    </a:lnTo>
                    <a:lnTo>
                      <a:pt x="134" y="18"/>
                    </a:lnTo>
                    <a:lnTo>
                      <a:pt x="115" y="27"/>
                    </a:lnTo>
                    <a:lnTo>
                      <a:pt x="96" y="38"/>
                    </a:lnTo>
                    <a:lnTo>
                      <a:pt x="80" y="51"/>
                    </a:lnTo>
                    <a:lnTo>
                      <a:pt x="64" y="65"/>
                    </a:lnTo>
                    <a:lnTo>
                      <a:pt x="51" y="81"/>
                    </a:lnTo>
                    <a:lnTo>
                      <a:pt x="37" y="98"/>
                    </a:lnTo>
                    <a:lnTo>
                      <a:pt x="27" y="116"/>
                    </a:lnTo>
                    <a:lnTo>
                      <a:pt x="17" y="134"/>
                    </a:lnTo>
                    <a:lnTo>
                      <a:pt x="9" y="155"/>
                    </a:lnTo>
                    <a:lnTo>
                      <a:pt x="4" y="176"/>
                    </a:lnTo>
                    <a:lnTo>
                      <a:pt x="1" y="197"/>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910240" y="1813680"/>
                <a:ext cx="297360" cy="299520"/>
              </a:xfrm>
              <a:custGeom>
                <a:avLst/>
                <a:gdLst/>
                <a:ahLst/>
                <a:rect l="l" t="t" r="r" b="b"/>
                <a:pathLst>
                  <a:path w="325" h="327">
                    <a:moveTo>
                      <a:pt x="0" y="163"/>
                    </a:moveTo>
                    <a:lnTo>
                      <a:pt x="3" y="131"/>
                    </a:lnTo>
                    <a:lnTo>
                      <a:pt x="12" y="100"/>
                    </a:lnTo>
                    <a:lnTo>
                      <a:pt x="28" y="72"/>
                    </a:lnTo>
                    <a:lnTo>
                      <a:pt x="47" y="48"/>
                    </a:lnTo>
                    <a:lnTo>
                      <a:pt x="71" y="28"/>
                    </a:lnTo>
                    <a:lnTo>
                      <a:pt x="99" y="13"/>
                    </a:lnTo>
                    <a:lnTo>
                      <a:pt x="130" y="2"/>
                    </a:lnTo>
                    <a:lnTo>
                      <a:pt x="162" y="0"/>
                    </a:lnTo>
                    <a:lnTo>
                      <a:pt x="195" y="2"/>
                    </a:lnTo>
                    <a:lnTo>
                      <a:pt x="226" y="13"/>
                    </a:lnTo>
                    <a:lnTo>
                      <a:pt x="253" y="28"/>
                    </a:lnTo>
                    <a:lnTo>
                      <a:pt x="278" y="48"/>
                    </a:lnTo>
                    <a:lnTo>
                      <a:pt x="297" y="72"/>
                    </a:lnTo>
                    <a:lnTo>
                      <a:pt x="313" y="100"/>
                    </a:lnTo>
                    <a:lnTo>
                      <a:pt x="323" y="131"/>
                    </a:lnTo>
                    <a:lnTo>
                      <a:pt x="325" y="163"/>
                    </a:lnTo>
                    <a:lnTo>
                      <a:pt x="323" y="195"/>
                    </a:lnTo>
                    <a:lnTo>
                      <a:pt x="313" y="226"/>
                    </a:lnTo>
                    <a:lnTo>
                      <a:pt x="297" y="254"/>
                    </a:lnTo>
                    <a:lnTo>
                      <a:pt x="278" y="279"/>
                    </a:lnTo>
                    <a:lnTo>
                      <a:pt x="253" y="299"/>
                    </a:lnTo>
                    <a:lnTo>
                      <a:pt x="226" y="313"/>
                    </a:lnTo>
                    <a:lnTo>
                      <a:pt x="195" y="324"/>
                    </a:lnTo>
                    <a:lnTo>
                      <a:pt x="162" y="327"/>
                    </a:lnTo>
                    <a:lnTo>
                      <a:pt x="130" y="324"/>
                    </a:lnTo>
                    <a:lnTo>
                      <a:pt x="99" y="313"/>
                    </a:lnTo>
                    <a:lnTo>
                      <a:pt x="71" y="299"/>
                    </a:lnTo>
                    <a:lnTo>
                      <a:pt x="47" y="279"/>
                    </a:lnTo>
                    <a:lnTo>
                      <a:pt x="28" y="254"/>
                    </a:lnTo>
                    <a:lnTo>
                      <a:pt x="12" y="226"/>
                    </a:lnTo>
                    <a:lnTo>
                      <a:pt x="3" y="195"/>
                    </a:lnTo>
                    <a:lnTo>
                      <a:pt x="0" y="163"/>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2954160" y="1858680"/>
                <a:ext cx="209160" cy="208800"/>
              </a:xfrm>
              <a:custGeom>
                <a:avLst/>
                <a:gdLst/>
                <a:ahLst/>
                <a:rect l="l" t="t" r="r" b="b"/>
                <a:pathLst>
                  <a:path w="229" h="228">
                    <a:moveTo>
                      <a:pt x="0" y="114"/>
                    </a:moveTo>
                    <a:lnTo>
                      <a:pt x="3" y="91"/>
                    </a:lnTo>
                    <a:lnTo>
                      <a:pt x="10" y="69"/>
                    </a:lnTo>
                    <a:lnTo>
                      <a:pt x="20" y="50"/>
                    </a:lnTo>
                    <a:lnTo>
                      <a:pt x="34" y="32"/>
                    </a:lnTo>
                    <a:lnTo>
                      <a:pt x="51" y="19"/>
                    </a:lnTo>
                    <a:lnTo>
                      <a:pt x="70" y="10"/>
                    </a:lnTo>
                    <a:lnTo>
                      <a:pt x="91" y="3"/>
                    </a:lnTo>
                    <a:lnTo>
                      <a:pt x="114" y="0"/>
                    </a:lnTo>
                    <a:lnTo>
                      <a:pt x="137" y="3"/>
                    </a:lnTo>
                    <a:lnTo>
                      <a:pt x="158" y="10"/>
                    </a:lnTo>
                    <a:lnTo>
                      <a:pt x="178" y="19"/>
                    </a:lnTo>
                    <a:lnTo>
                      <a:pt x="196" y="32"/>
                    </a:lnTo>
                    <a:lnTo>
                      <a:pt x="209" y="50"/>
                    </a:lnTo>
                    <a:lnTo>
                      <a:pt x="220" y="69"/>
                    </a:lnTo>
                    <a:lnTo>
                      <a:pt x="226" y="91"/>
                    </a:lnTo>
                    <a:lnTo>
                      <a:pt x="229" y="114"/>
                    </a:lnTo>
                    <a:lnTo>
                      <a:pt x="226" y="137"/>
                    </a:lnTo>
                    <a:lnTo>
                      <a:pt x="220" y="158"/>
                    </a:lnTo>
                    <a:lnTo>
                      <a:pt x="209" y="179"/>
                    </a:lnTo>
                    <a:lnTo>
                      <a:pt x="196" y="195"/>
                    </a:lnTo>
                    <a:lnTo>
                      <a:pt x="178" y="208"/>
                    </a:lnTo>
                    <a:lnTo>
                      <a:pt x="158" y="219"/>
                    </a:lnTo>
                    <a:lnTo>
                      <a:pt x="137" y="225"/>
                    </a:lnTo>
                    <a:lnTo>
                      <a:pt x="114" y="228"/>
                    </a:lnTo>
                    <a:lnTo>
                      <a:pt x="91" y="225"/>
                    </a:lnTo>
                    <a:lnTo>
                      <a:pt x="70" y="219"/>
                    </a:lnTo>
                    <a:lnTo>
                      <a:pt x="51" y="208"/>
                    </a:lnTo>
                    <a:lnTo>
                      <a:pt x="34" y="195"/>
                    </a:lnTo>
                    <a:lnTo>
                      <a:pt x="20" y="179"/>
                    </a:lnTo>
                    <a:lnTo>
                      <a:pt x="10" y="158"/>
                    </a:lnTo>
                    <a:lnTo>
                      <a:pt x="3" y="137"/>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3101760" y="1873440"/>
                <a:ext cx="61920" cy="60120"/>
              </a:xfrm>
              <a:custGeom>
                <a:avLst/>
                <a:gdLst/>
                <a:ahLst/>
                <a:rect l="l" t="t" r="r" b="b"/>
                <a:pathLst>
                  <a:path w="68" h="66">
                    <a:moveTo>
                      <a:pt x="68" y="33"/>
                    </a:moveTo>
                    <a:lnTo>
                      <a:pt x="65" y="46"/>
                    </a:lnTo>
                    <a:lnTo>
                      <a:pt x="59" y="57"/>
                    </a:lnTo>
                    <a:lnTo>
                      <a:pt x="48" y="63"/>
                    </a:lnTo>
                    <a:lnTo>
                      <a:pt x="35" y="66"/>
                    </a:lnTo>
                    <a:lnTo>
                      <a:pt x="35" y="66"/>
                    </a:lnTo>
                    <a:lnTo>
                      <a:pt x="21" y="63"/>
                    </a:lnTo>
                    <a:lnTo>
                      <a:pt x="11" y="57"/>
                    </a:lnTo>
                    <a:lnTo>
                      <a:pt x="3" y="46"/>
                    </a:lnTo>
                    <a:lnTo>
                      <a:pt x="0" y="33"/>
                    </a:lnTo>
                    <a:lnTo>
                      <a:pt x="0" y="33"/>
                    </a:lnTo>
                    <a:lnTo>
                      <a:pt x="3" y="19"/>
                    </a:lnTo>
                    <a:lnTo>
                      <a:pt x="11" y="10"/>
                    </a:lnTo>
                    <a:lnTo>
                      <a:pt x="21" y="3"/>
                    </a:lnTo>
                    <a:lnTo>
                      <a:pt x="35" y="0"/>
                    </a:lnTo>
                    <a:lnTo>
                      <a:pt x="35" y="0"/>
                    </a:lnTo>
                    <a:lnTo>
                      <a:pt x="48" y="3"/>
                    </a:lnTo>
                    <a:lnTo>
                      <a:pt x="59" y="10"/>
                    </a:lnTo>
                    <a:lnTo>
                      <a:pt x="65" y="19"/>
                    </a:lnTo>
                    <a:lnTo>
                      <a:pt x="68" y="33"/>
                    </a:lnTo>
                    <a:lnTo>
                      <a:pt x="68" y="3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11" name=""/>
              <p:cNvSpPr/>
              <p:nvPr/>
            </p:nvSpPr>
            <p:spPr>
              <a:xfrm>
                <a:off x="3037320" y="1644480"/>
                <a:ext cx="327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2884680" y="1656000"/>
                <a:ext cx="61200" cy="109080"/>
              </a:xfrm>
              <a:custGeom>
                <a:avLst/>
                <a:gdLst/>
                <a:ahLst/>
                <a:rect l="l" t="t" r="r" b="b"/>
                <a:pathLst>
                  <a:path w="67" h="119">
                    <a:moveTo>
                      <a:pt x="0" y="11"/>
                    </a:moveTo>
                    <a:lnTo>
                      <a:pt x="31" y="119"/>
                    </a:lnTo>
                    <a:lnTo>
                      <a:pt x="67" y="110"/>
                    </a:lnTo>
                    <a:lnTo>
                      <a:pt x="3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739960" y="1712880"/>
                <a:ext cx="89640" cy="102600"/>
              </a:xfrm>
              <a:custGeom>
                <a:avLst/>
                <a:gdLst/>
                <a:ahLst/>
                <a:rect l="l" t="t" r="r" b="b"/>
                <a:pathLst>
                  <a:path w="98" h="112">
                    <a:moveTo>
                      <a:pt x="0" y="23"/>
                    </a:moveTo>
                    <a:lnTo>
                      <a:pt x="68" y="112"/>
                    </a:lnTo>
                    <a:lnTo>
                      <a:pt x="98" y="90"/>
                    </a:lnTo>
                    <a:lnTo>
                      <a:pt x="29"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643120" y="1825560"/>
                <a:ext cx="103320" cy="88560"/>
              </a:xfrm>
              <a:custGeom>
                <a:avLst/>
                <a:gdLst/>
                <a:ahLst/>
                <a:rect l="l" t="t" r="r" b="b"/>
                <a:pathLst>
                  <a:path w="113" h="97">
                    <a:moveTo>
                      <a:pt x="0" y="31"/>
                    </a:moveTo>
                    <a:lnTo>
                      <a:pt x="91" y="97"/>
                    </a:lnTo>
                    <a:lnTo>
                      <a:pt x="113" y="67"/>
                    </a:lnTo>
                    <a:lnTo>
                      <a:pt x="22" y="0"/>
                    </a:lnTo>
                    <a:lnTo>
                      <a:pt x="0"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15" name=""/>
              <p:cNvSpPr/>
              <p:nvPr/>
            </p:nvSpPr>
            <p:spPr>
              <a:xfrm>
                <a:off x="3168360" y="1656000"/>
                <a:ext cx="60480" cy="109080"/>
              </a:xfrm>
              <a:custGeom>
                <a:avLst/>
                <a:gdLst/>
                <a:ahLst/>
                <a:rect l="l" t="t" r="r" b="b"/>
                <a:pathLst>
                  <a:path w="66" h="119">
                    <a:moveTo>
                      <a:pt x="66" y="11"/>
                    </a:moveTo>
                    <a:lnTo>
                      <a:pt x="35" y="119"/>
                    </a:lnTo>
                    <a:lnTo>
                      <a:pt x="0" y="110"/>
                    </a:lnTo>
                    <a:lnTo>
                      <a:pt x="31" y="0"/>
                    </a:lnTo>
                    <a:lnTo>
                      <a:pt x="6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283560" y="1712880"/>
                <a:ext cx="89640" cy="102600"/>
              </a:xfrm>
              <a:custGeom>
                <a:avLst/>
                <a:gdLst/>
                <a:ahLst/>
                <a:rect l="l" t="t" r="r" b="b"/>
                <a:pathLst>
                  <a:path w="98" h="112">
                    <a:moveTo>
                      <a:pt x="98" y="23"/>
                    </a:moveTo>
                    <a:lnTo>
                      <a:pt x="30" y="112"/>
                    </a:lnTo>
                    <a:lnTo>
                      <a:pt x="0" y="90"/>
                    </a:lnTo>
                    <a:lnTo>
                      <a:pt x="69" y="0"/>
                    </a:lnTo>
                    <a:lnTo>
                      <a:pt x="9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366720" y="1825560"/>
                <a:ext cx="103320" cy="88560"/>
              </a:xfrm>
              <a:custGeom>
                <a:avLst/>
                <a:gdLst/>
                <a:ahLst/>
                <a:rect l="l" t="t" r="r" b="b"/>
                <a:pathLst>
                  <a:path w="113" h="97">
                    <a:moveTo>
                      <a:pt x="113" y="31"/>
                    </a:moveTo>
                    <a:lnTo>
                      <a:pt x="23" y="97"/>
                    </a:lnTo>
                    <a:lnTo>
                      <a:pt x="0" y="67"/>
                    </a:lnTo>
                    <a:lnTo>
                      <a:pt x="91" y="0"/>
                    </a:lnTo>
                    <a:lnTo>
                      <a:pt x="113"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sp>
        <p:nvSpPr>
          <p:cNvPr id="8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7.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
          <p:cNvSpPr/>
          <p:nvPr/>
        </p:nvSpPr>
        <p:spPr>
          <a:xfrm>
            <a:off x="343080" y="1349280"/>
            <a:ext cx="8343720" cy="5211720"/>
          </a:xfrm>
          <a:custGeom>
            <a:avLst/>
            <a:gdLst/>
            <a:ahLst/>
            <a:rect l="l" t="t" r="r" b="b"/>
            <a:pathLst>
              <a:path w="5184" h="3283">
                <a:moveTo>
                  <a:pt x="0" y="1656"/>
                </a:moveTo>
                <a:lnTo>
                  <a:pt x="2621" y="1656"/>
                </a:lnTo>
                <a:lnTo>
                  <a:pt x="2621" y="0"/>
                </a:lnTo>
                <a:lnTo>
                  <a:pt x="3960" y="0"/>
                </a:lnTo>
                <a:lnTo>
                  <a:pt x="3960" y="1656"/>
                </a:lnTo>
                <a:lnTo>
                  <a:pt x="5184" y="1655"/>
                </a:lnTo>
                <a:lnTo>
                  <a:pt x="5184" y="3283"/>
                </a:lnTo>
                <a:lnTo>
                  <a:pt x="0" y="3283"/>
                </a:lnTo>
                <a:lnTo>
                  <a:pt x="0" y="1656"/>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PlaceHolder 1"/>
          <p:cNvSpPr>
            <a:spLocks noGrp="1"/>
          </p:cNvSpPr>
          <p:nvPr>
            <p:ph type="title"/>
          </p:nvPr>
        </p:nvSpPr>
        <p:spPr>
          <a:xfrm>
            <a:off x="762120" y="24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Routes of Exposure</a:t>
            </a:r>
            <a:endParaRPr b="0" lang="en-US" sz="4400" spc="-1" strike="noStrike">
              <a:solidFill>
                <a:srgbClr val="000000"/>
              </a:solidFill>
              <a:latin typeface="Times New Roman"/>
            </a:endParaRPr>
          </a:p>
        </p:txBody>
      </p:sp>
      <p:sp>
        <p:nvSpPr>
          <p:cNvPr id="821" name="PlaceHolder 2"/>
          <p:cNvSpPr>
            <a:spLocks noGrp="1"/>
          </p:cNvSpPr>
          <p:nvPr>
            <p:ph/>
          </p:nvPr>
        </p:nvSpPr>
        <p:spPr>
          <a:xfrm>
            <a:off x="762120" y="4157280"/>
            <a:ext cx="7772400" cy="941400"/>
          </a:xfrm>
          <a:prstGeom prst="rect">
            <a:avLst/>
          </a:prstGeom>
          <a:noFill/>
          <a:ln w="0">
            <a:noFill/>
          </a:ln>
        </p:spPr>
        <p:txBody>
          <a:bodyPr lIns="90000" rIns="90000" tIns="46800" bIns="46800" anchor="t">
            <a:normAutofit fontScale="60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itating or corrosive chemicals can harm the gastrointestinal tract. Chemicals that are not soluble to the chemicals of the digestive system are usually excreted, but those which are soluble can be absorbed and cause damage to internal organs.</a:t>
            </a:r>
            <a:endParaRPr b="0" lang="en-US" sz="2800" spc="-1" strike="noStrike">
              <a:solidFill>
                <a:srgbClr val="000000"/>
              </a:solidFill>
              <a:latin typeface="Times New Roman"/>
            </a:endParaRPr>
          </a:p>
        </p:txBody>
      </p:sp>
      <p:sp>
        <p:nvSpPr>
          <p:cNvPr id="822" name=""/>
          <p:cNvSpPr/>
          <p:nvPr/>
        </p:nvSpPr>
        <p:spPr>
          <a:xfrm>
            <a:off x="5570640" y="4430880"/>
            <a:ext cx="90360" cy="2880"/>
          </a:xfrm>
          <a:custGeom>
            <a:avLst/>
            <a:gdLst/>
            <a:ahLst/>
            <a:rect l="l" t="t" r="r" b="b"/>
            <a:pathLst>
              <a:path w="57" h="2">
                <a:moveTo>
                  <a:pt x="0" y="2"/>
                </a:moveTo>
                <a:lnTo>
                  <a:pt x="21" y="2"/>
                </a:lnTo>
                <a:lnTo>
                  <a:pt x="21" y="2"/>
                </a:lnTo>
                <a:lnTo>
                  <a:pt x="21" y="2"/>
                </a:lnTo>
                <a:lnTo>
                  <a:pt x="21" y="2"/>
                </a:lnTo>
                <a:lnTo>
                  <a:pt x="21" y="2"/>
                </a:lnTo>
                <a:lnTo>
                  <a:pt x="21" y="2"/>
                </a:lnTo>
                <a:lnTo>
                  <a:pt x="21" y="2"/>
                </a:lnTo>
                <a:lnTo>
                  <a:pt x="21" y="2"/>
                </a:lnTo>
                <a:lnTo>
                  <a:pt x="21" y="2"/>
                </a:lnTo>
                <a:lnTo>
                  <a:pt x="17" y="2"/>
                </a:lnTo>
                <a:lnTo>
                  <a:pt x="15" y="2"/>
                </a:lnTo>
                <a:lnTo>
                  <a:pt x="13" y="2"/>
                </a:lnTo>
                <a:lnTo>
                  <a:pt x="9" y="2"/>
                </a:lnTo>
                <a:lnTo>
                  <a:pt x="7" y="2"/>
                </a:lnTo>
                <a:lnTo>
                  <a:pt x="5" y="2"/>
                </a:lnTo>
                <a:lnTo>
                  <a:pt x="2" y="2"/>
                </a:lnTo>
                <a:lnTo>
                  <a:pt x="0" y="2"/>
                </a:lnTo>
                <a:close/>
                <a:moveTo>
                  <a:pt x="44" y="0"/>
                </a:moveTo>
                <a:lnTo>
                  <a:pt x="57" y="0"/>
                </a:lnTo>
                <a:lnTo>
                  <a:pt x="55" y="0"/>
                </a:lnTo>
                <a:lnTo>
                  <a:pt x="53" y="0"/>
                </a:lnTo>
                <a:lnTo>
                  <a:pt x="53" y="0"/>
                </a:lnTo>
                <a:lnTo>
                  <a:pt x="51" y="0"/>
                </a:lnTo>
                <a:lnTo>
                  <a:pt x="50" y="0"/>
                </a:lnTo>
                <a:lnTo>
                  <a:pt x="48" y="0"/>
                </a:lnTo>
                <a:lnTo>
                  <a:pt x="48" y="2"/>
                </a:lnTo>
                <a:lnTo>
                  <a:pt x="46" y="2"/>
                </a:lnTo>
                <a:lnTo>
                  <a:pt x="46" y="2"/>
                </a:lnTo>
                <a:lnTo>
                  <a:pt x="46" y="2"/>
                </a:lnTo>
                <a:lnTo>
                  <a:pt x="46" y="0"/>
                </a:lnTo>
                <a:lnTo>
                  <a:pt x="46" y="0"/>
                </a:lnTo>
                <a:lnTo>
                  <a:pt x="46" y="0"/>
                </a:lnTo>
                <a:lnTo>
                  <a:pt x="44" y="0"/>
                </a:lnTo>
                <a:lnTo>
                  <a:pt x="44" y="0"/>
                </a:lnTo>
                <a:lnTo>
                  <a:pt x="44" y="0"/>
                </a:lnTo>
                <a:close/>
              </a:path>
            </a:pathLst>
          </a:custGeom>
          <a:solidFill>
            <a:srgbClr val="83b6b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3" name=""/>
          <p:cNvSpPr/>
          <p:nvPr/>
        </p:nvSpPr>
        <p:spPr>
          <a:xfrm>
            <a:off x="3747960" y="3084480"/>
            <a:ext cx="6480" cy="9720"/>
          </a:xfrm>
          <a:custGeom>
            <a:avLst/>
            <a:gdLst/>
            <a:ahLst/>
            <a:rect l="l" t="t" r="r" b="b"/>
            <a:pathLst>
              <a:path w="4" h="6">
                <a:moveTo>
                  <a:pt x="4" y="0"/>
                </a:moveTo>
                <a:lnTo>
                  <a:pt x="4" y="2"/>
                </a:lnTo>
                <a:lnTo>
                  <a:pt x="4" y="2"/>
                </a:lnTo>
                <a:lnTo>
                  <a:pt x="2" y="2"/>
                </a:lnTo>
                <a:lnTo>
                  <a:pt x="2" y="4"/>
                </a:lnTo>
                <a:lnTo>
                  <a:pt x="2" y="4"/>
                </a:lnTo>
                <a:lnTo>
                  <a:pt x="2" y="4"/>
                </a:lnTo>
                <a:lnTo>
                  <a:pt x="2" y="6"/>
                </a:lnTo>
                <a:lnTo>
                  <a:pt x="0" y="6"/>
                </a:lnTo>
                <a:lnTo>
                  <a:pt x="0" y="6"/>
                </a:lnTo>
                <a:lnTo>
                  <a:pt x="0" y="6"/>
                </a:lnTo>
                <a:lnTo>
                  <a:pt x="0" y="6"/>
                </a:lnTo>
                <a:lnTo>
                  <a:pt x="0" y="6"/>
                </a:lnTo>
                <a:lnTo>
                  <a:pt x="0" y="6"/>
                </a:lnTo>
                <a:lnTo>
                  <a:pt x="0" y="6"/>
                </a:lnTo>
                <a:lnTo>
                  <a:pt x="0" y="6"/>
                </a:lnTo>
                <a:lnTo>
                  <a:pt x="0" y="6"/>
                </a:lnTo>
                <a:lnTo>
                  <a:pt x="0" y="6"/>
                </a:lnTo>
                <a:lnTo>
                  <a:pt x="0" y="4"/>
                </a:lnTo>
                <a:lnTo>
                  <a:pt x="0" y="4"/>
                </a:lnTo>
                <a:lnTo>
                  <a:pt x="0" y="4"/>
                </a:lnTo>
                <a:lnTo>
                  <a:pt x="0" y="4"/>
                </a:lnTo>
                <a:lnTo>
                  <a:pt x="0" y="2"/>
                </a:lnTo>
                <a:lnTo>
                  <a:pt x="0" y="2"/>
                </a:lnTo>
                <a:lnTo>
                  <a:pt x="0" y="2"/>
                </a:lnTo>
                <a:lnTo>
                  <a:pt x="0" y="2"/>
                </a:lnTo>
                <a:lnTo>
                  <a:pt x="2" y="2"/>
                </a:lnTo>
                <a:lnTo>
                  <a:pt x="2" y="2"/>
                </a:lnTo>
                <a:lnTo>
                  <a:pt x="2" y="2"/>
                </a:lnTo>
                <a:lnTo>
                  <a:pt x="2" y="2"/>
                </a:lnTo>
                <a:lnTo>
                  <a:pt x="4" y="2"/>
                </a:lnTo>
                <a:lnTo>
                  <a:pt x="4" y="2"/>
                </a:lnTo>
                <a:lnTo>
                  <a:pt x="4" y="0"/>
                </a:lnTo>
                <a:close/>
              </a:path>
            </a:pathLst>
          </a:custGeom>
          <a:solidFill>
            <a:srgbClr val="e5b2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24" name=""/>
          <p:cNvSpPr/>
          <p:nvPr/>
        </p:nvSpPr>
        <p:spPr>
          <a:xfrm>
            <a:off x="511560" y="3157560"/>
            <a:ext cx="176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halation</a:t>
            </a:r>
            <a:endParaRPr b="0" lang="en-US" sz="2800" spc="-1" strike="noStrike">
              <a:solidFill>
                <a:srgbClr val="000000"/>
              </a:solidFill>
              <a:latin typeface="Arial"/>
            </a:endParaRPr>
          </a:p>
        </p:txBody>
      </p:sp>
      <p:sp>
        <p:nvSpPr>
          <p:cNvPr id="825" name=""/>
          <p:cNvSpPr/>
          <p:nvPr/>
        </p:nvSpPr>
        <p:spPr>
          <a:xfrm>
            <a:off x="2532240" y="315756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orption</a:t>
            </a:r>
            <a:endParaRPr b="0" lang="en-US" sz="2800" spc="-1" strike="noStrike">
              <a:solidFill>
                <a:srgbClr val="000000"/>
              </a:solidFill>
              <a:latin typeface="Arial"/>
            </a:endParaRPr>
          </a:p>
        </p:txBody>
      </p:sp>
      <p:sp>
        <p:nvSpPr>
          <p:cNvPr id="826" name=""/>
          <p:cNvSpPr/>
          <p:nvPr/>
        </p:nvSpPr>
        <p:spPr>
          <a:xfrm>
            <a:off x="4786920" y="315756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gestion</a:t>
            </a:r>
            <a:endParaRPr b="0" lang="en-US" sz="2800" spc="-1" strike="noStrike">
              <a:solidFill>
                <a:srgbClr val="000000"/>
              </a:solidFill>
              <a:latin typeface="Arial"/>
            </a:endParaRPr>
          </a:p>
        </p:txBody>
      </p:sp>
      <p:sp>
        <p:nvSpPr>
          <p:cNvPr id="827" name=""/>
          <p:cNvSpPr/>
          <p:nvPr/>
        </p:nvSpPr>
        <p:spPr>
          <a:xfrm>
            <a:off x="6885000" y="315756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jection</a:t>
            </a:r>
            <a:endParaRPr b="0" lang="en-US" sz="2800" spc="-1" strike="noStrike">
              <a:solidFill>
                <a:srgbClr val="000000"/>
              </a:solidFill>
              <a:latin typeface="Arial"/>
            </a:endParaRPr>
          </a:p>
        </p:txBody>
      </p:sp>
      <p:grpSp>
        <p:nvGrpSpPr>
          <p:cNvPr id="828" name=""/>
          <p:cNvGrpSpPr/>
          <p:nvPr/>
        </p:nvGrpSpPr>
        <p:grpSpPr>
          <a:xfrm>
            <a:off x="4786200" y="2001240"/>
            <a:ext cx="1581480" cy="913680"/>
            <a:chOff x="4786200" y="2001240"/>
            <a:chExt cx="1581480" cy="913680"/>
          </a:xfrm>
        </p:grpSpPr>
        <p:sp>
          <p:nvSpPr>
            <p:cNvPr id="829" name=""/>
            <p:cNvSpPr/>
            <p:nvPr/>
          </p:nvSpPr>
          <p:spPr>
            <a:xfrm>
              <a:off x="4834080" y="2049480"/>
              <a:ext cx="1514520" cy="730440"/>
            </a:xfrm>
            <a:custGeom>
              <a:avLst/>
              <a:gdLst/>
              <a:ahLst/>
              <a:rect l="l" t="t" r="r" b="b"/>
              <a:pathLst>
                <a:path w="4262" h="2060">
                  <a:moveTo>
                    <a:pt x="0" y="1035"/>
                  </a:moveTo>
                  <a:lnTo>
                    <a:pt x="522" y="576"/>
                  </a:lnTo>
                  <a:lnTo>
                    <a:pt x="1262" y="91"/>
                  </a:lnTo>
                  <a:lnTo>
                    <a:pt x="1600" y="0"/>
                  </a:lnTo>
                  <a:lnTo>
                    <a:pt x="1848" y="128"/>
                  </a:lnTo>
                  <a:lnTo>
                    <a:pt x="2231" y="274"/>
                  </a:lnTo>
                  <a:lnTo>
                    <a:pt x="2433" y="202"/>
                  </a:lnTo>
                  <a:lnTo>
                    <a:pt x="2688" y="73"/>
                  </a:lnTo>
                  <a:lnTo>
                    <a:pt x="3054" y="82"/>
                  </a:lnTo>
                  <a:lnTo>
                    <a:pt x="3842" y="641"/>
                  </a:lnTo>
                  <a:lnTo>
                    <a:pt x="4262" y="851"/>
                  </a:lnTo>
                  <a:lnTo>
                    <a:pt x="4262" y="1007"/>
                  </a:lnTo>
                  <a:lnTo>
                    <a:pt x="3859" y="1446"/>
                  </a:lnTo>
                  <a:lnTo>
                    <a:pt x="2991" y="2060"/>
                  </a:lnTo>
                  <a:lnTo>
                    <a:pt x="851" y="1986"/>
                  </a:lnTo>
                  <a:lnTo>
                    <a:pt x="128" y="1492"/>
                  </a:lnTo>
                  <a:lnTo>
                    <a:pt x="0" y="1035"/>
                  </a:lnTo>
                  <a:lnTo>
                    <a:pt x="0" y="10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4802040" y="2152440"/>
              <a:ext cx="1556280" cy="591840"/>
            </a:xfrm>
            <a:custGeom>
              <a:avLst/>
              <a:gdLst/>
              <a:ahLst/>
              <a:rect l="l" t="t" r="r" b="b"/>
              <a:pathLst>
                <a:path w="4382" h="1667">
                  <a:moveTo>
                    <a:pt x="55" y="1007"/>
                  </a:moveTo>
                  <a:lnTo>
                    <a:pt x="303" y="1245"/>
                  </a:lnTo>
                  <a:lnTo>
                    <a:pt x="1931" y="1667"/>
                  </a:lnTo>
                  <a:lnTo>
                    <a:pt x="3448" y="1447"/>
                  </a:lnTo>
                  <a:lnTo>
                    <a:pt x="4108" y="1034"/>
                  </a:lnTo>
                  <a:lnTo>
                    <a:pt x="4382" y="668"/>
                  </a:lnTo>
                  <a:lnTo>
                    <a:pt x="4097" y="631"/>
                  </a:lnTo>
                  <a:lnTo>
                    <a:pt x="3751" y="466"/>
                  </a:lnTo>
                  <a:lnTo>
                    <a:pt x="3221" y="151"/>
                  </a:lnTo>
                  <a:lnTo>
                    <a:pt x="2973" y="36"/>
                  </a:lnTo>
                  <a:lnTo>
                    <a:pt x="2826" y="72"/>
                  </a:lnTo>
                  <a:lnTo>
                    <a:pt x="2680" y="127"/>
                  </a:lnTo>
                  <a:lnTo>
                    <a:pt x="2415" y="229"/>
                  </a:lnTo>
                  <a:lnTo>
                    <a:pt x="2251" y="220"/>
                  </a:lnTo>
                  <a:lnTo>
                    <a:pt x="1903" y="31"/>
                  </a:lnTo>
                  <a:lnTo>
                    <a:pt x="1592" y="0"/>
                  </a:lnTo>
                  <a:lnTo>
                    <a:pt x="1345" y="72"/>
                  </a:lnTo>
                  <a:lnTo>
                    <a:pt x="960" y="255"/>
                  </a:lnTo>
                  <a:lnTo>
                    <a:pt x="645" y="512"/>
                  </a:lnTo>
                  <a:lnTo>
                    <a:pt x="211" y="696"/>
                  </a:lnTo>
                  <a:lnTo>
                    <a:pt x="0" y="788"/>
                  </a:lnTo>
                  <a:lnTo>
                    <a:pt x="55" y="1007"/>
                  </a:lnTo>
                  <a:lnTo>
                    <a:pt x="55" y="100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4837320" y="2165040"/>
              <a:ext cx="1530360" cy="362880"/>
            </a:xfrm>
            <a:custGeom>
              <a:avLst/>
              <a:gdLst/>
              <a:ahLst/>
              <a:rect l="l" t="t" r="r" b="b"/>
              <a:pathLst>
                <a:path w="4308" h="1022">
                  <a:moveTo>
                    <a:pt x="0" y="861"/>
                  </a:moveTo>
                  <a:lnTo>
                    <a:pt x="26" y="851"/>
                  </a:lnTo>
                  <a:lnTo>
                    <a:pt x="95" y="820"/>
                  </a:lnTo>
                  <a:lnTo>
                    <a:pt x="140" y="797"/>
                  </a:lnTo>
                  <a:lnTo>
                    <a:pt x="190" y="771"/>
                  </a:lnTo>
                  <a:lnTo>
                    <a:pt x="241" y="740"/>
                  </a:lnTo>
                  <a:lnTo>
                    <a:pt x="293" y="706"/>
                  </a:lnTo>
                  <a:lnTo>
                    <a:pt x="343" y="668"/>
                  </a:lnTo>
                  <a:lnTo>
                    <a:pt x="390" y="628"/>
                  </a:lnTo>
                  <a:lnTo>
                    <a:pt x="438" y="588"/>
                  </a:lnTo>
                  <a:lnTo>
                    <a:pt x="482" y="550"/>
                  </a:lnTo>
                  <a:lnTo>
                    <a:pt x="526" y="514"/>
                  </a:lnTo>
                  <a:lnTo>
                    <a:pt x="567" y="483"/>
                  </a:lnTo>
                  <a:lnTo>
                    <a:pt x="609" y="458"/>
                  </a:lnTo>
                  <a:lnTo>
                    <a:pt x="650" y="439"/>
                  </a:lnTo>
                  <a:lnTo>
                    <a:pt x="725" y="429"/>
                  </a:lnTo>
                  <a:lnTo>
                    <a:pt x="792" y="438"/>
                  </a:lnTo>
                  <a:lnTo>
                    <a:pt x="842" y="452"/>
                  </a:lnTo>
                  <a:lnTo>
                    <a:pt x="868" y="458"/>
                  </a:lnTo>
                  <a:lnTo>
                    <a:pt x="864" y="407"/>
                  </a:lnTo>
                  <a:lnTo>
                    <a:pt x="864" y="358"/>
                  </a:lnTo>
                  <a:lnTo>
                    <a:pt x="887" y="302"/>
                  </a:lnTo>
                  <a:lnTo>
                    <a:pt x="912" y="274"/>
                  </a:lnTo>
                  <a:lnTo>
                    <a:pt x="948" y="246"/>
                  </a:lnTo>
                  <a:lnTo>
                    <a:pt x="989" y="218"/>
                  </a:lnTo>
                  <a:lnTo>
                    <a:pt x="1036" y="193"/>
                  </a:lnTo>
                  <a:lnTo>
                    <a:pt x="1086" y="169"/>
                  </a:lnTo>
                  <a:lnTo>
                    <a:pt x="1137" y="149"/>
                  </a:lnTo>
                  <a:lnTo>
                    <a:pt x="1187" y="132"/>
                  </a:lnTo>
                  <a:lnTo>
                    <a:pt x="1234" y="119"/>
                  </a:lnTo>
                  <a:lnTo>
                    <a:pt x="1386" y="103"/>
                  </a:lnTo>
                  <a:lnTo>
                    <a:pt x="1491" y="91"/>
                  </a:lnTo>
                  <a:lnTo>
                    <a:pt x="1535" y="69"/>
                  </a:lnTo>
                  <a:lnTo>
                    <a:pt x="1581" y="39"/>
                  </a:lnTo>
                  <a:lnTo>
                    <a:pt x="1635" y="13"/>
                  </a:lnTo>
                  <a:lnTo>
                    <a:pt x="1701" y="0"/>
                  </a:lnTo>
                  <a:lnTo>
                    <a:pt x="1783" y="8"/>
                  </a:lnTo>
                  <a:lnTo>
                    <a:pt x="1870" y="39"/>
                  </a:lnTo>
                  <a:lnTo>
                    <a:pt x="1909" y="64"/>
                  </a:lnTo>
                  <a:lnTo>
                    <a:pt x="1945" y="95"/>
                  </a:lnTo>
                  <a:lnTo>
                    <a:pt x="1993" y="174"/>
                  </a:lnTo>
                  <a:lnTo>
                    <a:pt x="2007" y="274"/>
                  </a:lnTo>
                  <a:lnTo>
                    <a:pt x="1995" y="376"/>
                  </a:lnTo>
                  <a:lnTo>
                    <a:pt x="1977" y="454"/>
                  </a:lnTo>
                  <a:lnTo>
                    <a:pt x="1967" y="485"/>
                  </a:lnTo>
                  <a:lnTo>
                    <a:pt x="1985" y="461"/>
                  </a:lnTo>
                  <a:lnTo>
                    <a:pt x="2004" y="433"/>
                  </a:lnTo>
                  <a:lnTo>
                    <a:pt x="2029" y="401"/>
                  </a:lnTo>
                  <a:lnTo>
                    <a:pt x="2058" y="365"/>
                  </a:lnTo>
                  <a:lnTo>
                    <a:pt x="2091" y="331"/>
                  </a:lnTo>
                  <a:lnTo>
                    <a:pt x="2125" y="300"/>
                  </a:lnTo>
                  <a:lnTo>
                    <a:pt x="2159" y="275"/>
                  </a:lnTo>
                  <a:lnTo>
                    <a:pt x="2191" y="259"/>
                  </a:lnTo>
                  <a:lnTo>
                    <a:pt x="2222" y="250"/>
                  </a:lnTo>
                  <a:lnTo>
                    <a:pt x="2283" y="247"/>
                  </a:lnTo>
                  <a:lnTo>
                    <a:pt x="2387" y="247"/>
                  </a:lnTo>
                  <a:lnTo>
                    <a:pt x="2434" y="225"/>
                  </a:lnTo>
                  <a:lnTo>
                    <a:pt x="2480" y="197"/>
                  </a:lnTo>
                  <a:lnTo>
                    <a:pt x="2527" y="181"/>
                  </a:lnTo>
                  <a:lnTo>
                    <a:pt x="2579" y="193"/>
                  </a:lnTo>
                  <a:lnTo>
                    <a:pt x="2635" y="244"/>
                  </a:lnTo>
                  <a:lnTo>
                    <a:pt x="2663" y="278"/>
                  </a:lnTo>
                  <a:lnTo>
                    <a:pt x="2690" y="314"/>
                  </a:lnTo>
                  <a:lnTo>
                    <a:pt x="2712" y="348"/>
                  </a:lnTo>
                  <a:lnTo>
                    <a:pt x="2728" y="376"/>
                  </a:lnTo>
                  <a:lnTo>
                    <a:pt x="2744" y="404"/>
                  </a:lnTo>
                  <a:lnTo>
                    <a:pt x="2756" y="290"/>
                  </a:lnTo>
                  <a:lnTo>
                    <a:pt x="2780" y="110"/>
                  </a:lnTo>
                  <a:lnTo>
                    <a:pt x="2797" y="63"/>
                  </a:lnTo>
                  <a:lnTo>
                    <a:pt x="2825" y="45"/>
                  </a:lnTo>
                  <a:lnTo>
                    <a:pt x="2918" y="64"/>
                  </a:lnTo>
                  <a:lnTo>
                    <a:pt x="2986" y="84"/>
                  </a:lnTo>
                  <a:lnTo>
                    <a:pt x="3066" y="107"/>
                  </a:lnTo>
                  <a:lnTo>
                    <a:pt x="3154" y="140"/>
                  </a:lnTo>
                  <a:lnTo>
                    <a:pt x="3200" y="159"/>
                  </a:lnTo>
                  <a:lnTo>
                    <a:pt x="3247" y="184"/>
                  </a:lnTo>
                  <a:lnTo>
                    <a:pt x="3294" y="210"/>
                  </a:lnTo>
                  <a:lnTo>
                    <a:pt x="3341" y="241"/>
                  </a:lnTo>
                  <a:lnTo>
                    <a:pt x="3387" y="274"/>
                  </a:lnTo>
                  <a:lnTo>
                    <a:pt x="3431" y="309"/>
                  </a:lnTo>
                  <a:lnTo>
                    <a:pt x="3471" y="345"/>
                  </a:lnTo>
                  <a:lnTo>
                    <a:pt x="3508" y="380"/>
                  </a:lnTo>
                  <a:lnTo>
                    <a:pt x="3567" y="449"/>
                  </a:lnTo>
                  <a:lnTo>
                    <a:pt x="3617" y="560"/>
                  </a:lnTo>
                  <a:lnTo>
                    <a:pt x="3622" y="604"/>
                  </a:lnTo>
                  <a:lnTo>
                    <a:pt x="3642" y="595"/>
                  </a:lnTo>
                  <a:lnTo>
                    <a:pt x="3690" y="575"/>
                  </a:lnTo>
                  <a:lnTo>
                    <a:pt x="3747" y="554"/>
                  </a:lnTo>
                  <a:lnTo>
                    <a:pt x="3796" y="550"/>
                  </a:lnTo>
                  <a:lnTo>
                    <a:pt x="3830" y="567"/>
                  </a:lnTo>
                  <a:lnTo>
                    <a:pt x="3864" y="600"/>
                  </a:lnTo>
                  <a:lnTo>
                    <a:pt x="3884" y="618"/>
                  </a:lnTo>
                  <a:lnTo>
                    <a:pt x="3911" y="635"/>
                  </a:lnTo>
                  <a:lnTo>
                    <a:pt x="3945" y="650"/>
                  </a:lnTo>
                  <a:lnTo>
                    <a:pt x="3987" y="660"/>
                  </a:lnTo>
                  <a:lnTo>
                    <a:pt x="4213" y="665"/>
                  </a:lnTo>
                  <a:lnTo>
                    <a:pt x="4293" y="671"/>
                  </a:lnTo>
                  <a:lnTo>
                    <a:pt x="4308" y="679"/>
                  </a:lnTo>
                  <a:lnTo>
                    <a:pt x="4299" y="696"/>
                  </a:lnTo>
                  <a:lnTo>
                    <a:pt x="4265" y="721"/>
                  </a:lnTo>
                  <a:lnTo>
                    <a:pt x="4209" y="753"/>
                  </a:lnTo>
                  <a:lnTo>
                    <a:pt x="4173" y="769"/>
                  </a:lnTo>
                  <a:lnTo>
                    <a:pt x="4133" y="789"/>
                  </a:lnTo>
                  <a:lnTo>
                    <a:pt x="4092" y="808"/>
                  </a:lnTo>
                  <a:lnTo>
                    <a:pt x="4049" y="828"/>
                  </a:lnTo>
                  <a:lnTo>
                    <a:pt x="4004" y="848"/>
                  </a:lnTo>
                  <a:lnTo>
                    <a:pt x="3958" y="867"/>
                  </a:lnTo>
                  <a:lnTo>
                    <a:pt x="3912" y="887"/>
                  </a:lnTo>
                  <a:lnTo>
                    <a:pt x="3867" y="907"/>
                  </a:lnTo>
                  <a:lnTo>
                    <a:pt x="3822" y="924"/>
                  </a:lnTo>
                  <a:lnTo>
                    <a:pt x="3781" y="941"/>
                  </a:lnTo>
                  <a:lnTo>
                    <a:pt x="3704" y="971"/>
                  </a:lnTo>
                  <a:lnTo>
                    <a:pt x="3642" y="994"/>
                  </a:lnTo>
                  <a:lnTo>
                    <a:pt x="3594" y="1010"/>
                  </a:lnTo>
                  <a:lnTo>
                    <a:pt x="3523" y="1022"/>
                  </a:lnTo>
                  <a:lnTo>
                    <a:pt x="3464" y="1011"/>
                  </a:lnTo>
                  <a:lnTo>
                    <a:pt x="3393" y="980"/>
                  </a:lnTo>
                  <a:lnTo>
                    <a:pt x="3346" y="958"/>
                  </a:lnTo>
                  <a:lnTo>
                    <a:pt x="3290" y="933"/>
                  </a:lnTo>
                  <a:lnTo>
                    <a:pt x="3226" y="908"/>
                  </a:lnTo>
                  <a:lnTo>
                    <a:pt x="3157" y="884"/>
                  </a:lnTo>
                  <a:lnTo>
                    <a:pt x="3080" y="862"/>
                  </a:lnTo>
                  <a:lnTo>
                    <a:pt x="2999" y="846"/>
                  </a:lnTo>
                  <a:lnTo>
                    <a:pt x="2827" y="833"/>
                  </a:lnTo>
                  <a:lnTo>
                    <a:pt x="2647" y="855"/>
                  </a:lnTo>
                  <a:lnTo>
                    <a:pt x="2485" y="896"/>
                  </a:lnTo>
                  <a:lnTo>
                    <a:pt x="2420" y="917"/>
                  </a:lnTo>
                  <a:lnTo>
                    <a:pt x="2368" y="935"/>
                  </a:lnTo>
                  <a:lnTo>
                    <a:pt x="2322" y="952"/>
                  </a:lnTo>
                  <a:lnTo>
                    <a:pt x="1719" y="787"/>
                  </a:lnTo>
                  <a:lnTo>
                    <a:pt x="696" y="971"/>
                  </a:lnTo>
                  <a:lnTo>
                    <a:pt x="146" y="980"/>
                  </a:lnTo>
                  <a:lnTo>
                    <a:pt x="0" y="861"/>
                  </a:lnTo>
                  <a:lnTo>
                    <a:pt x="0" y="861"/>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905360" y="2288880"/>
              <a:ext cx="1372680" cy="321480"/>
            </a:xfrm>
            <a:custGeom>
              <a:avLst/>
              <a:gdLst/>
              <a:ahLst/>
              <a:rect l="l" t="t" r="r" b="b"/>
              <a:pathLst>
                <a:path w="3863" h="905">
                  <a:moveTo>
                    <a:pt x="0" y="613"/>
                  </a:moveTo>
                  <a:lnTo>
                    <a:pt x="53" y="631"/>
                  </a:lnTo>
                  <a:lnTo>
                    <a:pt x="109" y="649"/>
                  </a:lnTo>
                  <a:lnTo>
                    <a:pt x="180" y="671"/>
                  </a:lnTo>
                  <a:lnTo>
                    <a:pt x="258" y="694"/>
                  </a:lnTo>
                  <a:lnTo>
                    <a:pt x="338" y="719"/>
                  </a:lnTo>
                  <a:lnTo>
                    <a:pt x="416" y="741"/>
                  </a:lnTo>
                  <a:lnTo>
                    <a:pt x="485" y="761"/>
                  </a:lnTo>
                  <a:lnTo>
                    <a:pt x="590" y="783"/>
                  </a:lnTo>
                  <a:lnTo>
                    <a:pt x="662" y="789"/>
                  </a:lnTo>
                  <a:lnTo>
                    <a:pt x="797" y="778"/>
                  </a:lnTo>
                  <a:lnTo>
                    <a:pt x="1263" y="761"/>
                  </a:lnTo>
                  <a:lnTo>
                    <a:pt x="1446" y="753"/>
                  </a:lnTo>
                  <a:lnTo>
                    <a:pt x="1565" y="761"/>
                  </a:lnTo>
                  <a:lnTo>
                    <a:pt x="1646" y="792"/>
                  </a:lnTo>
                  <a:lnTo>
                    <a:pt x="1683" y="808"/>
                  </a:lnTo>
                  <a:lnTo>
                    <a:pt x="1720" y="815"/>
                  </a:lnTo>
                  <a:lnTo>
                    <a:pt x="1807" y="805"/>
                  </a:lnTo>
                  <a:lnTo>
                    <a:pt x="1885" y="798"/>
                  </a:lnTo>
                  <a:lnTo>
                    <a:pt x="1937" y="830"/>
                  </a:lnTo>
                  <a:lnTo>
                    <a:pt x="1965" y="855"/>
                  </a:lnTo>
                  <a:lnTo>
                    <a:pt x="2005" y="880"/>
                  </a:lnTo>
                  <a:lnTo>
                    <a:pt x="2061" y="896"/>
                  </a:lnTo>
                  <a:lnTo>
                    <a:pt x="2131" y="905"/>
                  </a:lnTo>
                  <a:lnTo>
                    <a:pt x="2305" y="880"/>
                  </a:lnTo>
                  <a:lnTo>
                    <a:pt x="2401" y="843"/>
                  </a:lnTo>
                  <a:lnTo>
                    <a:pt x="2450" y="821"/>
                  </a:lnTo>
                  <a:lnTo>
                    <a:pt x="2499" y="799"/>
                  </a:lnTo>
                  <a:lnTo>
                    <a:pt x="2546" y="778"/>
                  </a:lnTo>
                  <a:lnTo>
                    <a:pt x="2593" y="759"/>
                  </a:lnTo>
                  <a:lnTo>
                    <a:pt x="2681" y="733"/>
                  </a:lnTo>
                  <a:lnTo>
                    <a:pt x="2761" y="730"/>
                  </a:lnTo>
                  <a:lnTo>
                    <a:pt x="2835" y="741"/>
                  </a:lnTo>
                  <a:lnTo>
                    <a:pt x="2910" y="758"/>
                  </a:lnTo>
                  <a:lnTo>
                    <a:pt x="2991" y="769"/>
                  </a:lnTo>
                  <a:lnTo>
                    <a:pt x="3187" y="752"/>
                  </a:lnTo>
                  <a:lnTo>
                    <a:pt x="3296" y="727"/>
                  </a:lnTo>
                  <a:lnTo>
                    <a:pt x="3413" y="696"/>
                  </a:lnTo>
                  <a:lnTo>
                    <a:pt x="3479" y="677"/>
                  </a:lnTo>
                  <a:lnTo>
                    <a:pt x="3555" y="650"/>
                  </a:lnTo>
                  <a:lnTo>
                    <a:pt x="3634" y="619"/>
                  </a:lnTo>
                  <a:lnTo>
                    <a:pt x="3711" y="587"/>
                  </a:lnTo>
                  <a:lnTo>
                    <a:pt x="3779" y="553"/>
                  </a:lnTo>
                  <a:lnTo>
                    <a:pt x="3830" y="520"/>
                  </a:lnTo>
                  <a:lnTo>
                    <a:pt x="3863" y="470"/>
                  </a:lnTo>
                  <a:lnTo>
                    <a:pt x="3838" y="452"/>
                  </a:lnTo>
                  <a:lnTo>
                    <a:pt x="3794" y="441"/>
                  </a:lnTo>
                  <a:lnTo>
                    <a:pt x="3671" y="423"/>
                  </a:lnTo>
                  <a:lnTo>
                    <a:pt x="3422" y="393"/>
                  </a:lnTo>
                  <a:lnTo>
                    <a:pt x="3212" y="367"/>
                  </a:lnTo>
                  <a:lnTo>
                    <a:pt x="3117" y="346"/>
                  </a:lnTo>
                  <a:lnTo>
                    <a:pt x="3056" y="302"/>
                  </a:lnTo>
                  <a:lnTo>
                    <a:pt x="3024" y="234"/>
                  </a:lnTo>
                  <a:lnTo>
                    <a:pt x="2994" y="160"/>
                  </a:lnTo>
                  <a:lnTo>
                    <a:pt x="2959" y="100"/>
                  </a:lnTo>
                  <a:lnTo>
                    <a:pt x="2937" y="81"/>
                  </a:lnTo>
                  <a:lnTo>
                    <a:pt x="2910" y="73"/>
                  </a:lnTo>
                  <a:lnTo>
                    <a:pt x="2853" y="87"/>
                  </a:lnTo>
                  <a:lnTo>
                    <a:pt x="2797" y="122"/>
                  </a:lnTo>
                  <a:lnTo>
                    <a:pt x="2739" y="168"/>
                  </a:lnTo>
                  <a:lnTo>
                    <a:pt x="2711" y="190"/>
                  </a:lnTo>
                  <a:lnTo>
                    <a:pt x="2681" y="211"/>
                  </a:lnTo>
                  <a:lnTo>
                    <a:pt x="2649" y="225"/>
                  </a:lnTo>
                  <a:lnTo>
                    <a:pt x="2617" y="233"/>
                  </a:lnTo>
                  <a:lnTo>
                    <a:pt x="2546" y="230"/>
                  </a:lnTo>
                  <a:lnTo>
                    <a:pt x="2476" y="221"/>
                  </a:lnTo>
                  <a:lnTo>
                    <a:pt x="2416" y="219"/>
                  </a:lnTo>
                  <a:lnTo>
                    <a:pt x="2369" y="249"/>
                  </a:lnTo>
                  <a:lnTo>
                    <a:pt x="2330" y="303"/>
                  </a:lnTo>
                  <a:lnTo>
                    <a:pt x="2311" y="333"/>
                  </a:lnTo>
                  <a:lnTo>
                    <a:pt x="2292" y="361"/>
                  </a:lnTo>
                  <a:lnTo>
                    <a:pt x="2269" y="385"/>
                  </a:lnTo>
                  <a:lnTo>
                    <a:pt x="2242" y="404"/>
                  </a:lnTo>
                  <a:lnTo>
                    <a:pt x="2177" y="424"/>
                  </a:lnTo>
                  <a:lnTo>
                    <a:pt x="2105" y="433"/>
                  </a:lnTo>
                  <a:lnTo>
                    <a:pt x="1968" y="413"/>
                  </a:lnTo>
                  <a:lnTo>
                    <a:pt x="1916" y="377"/>
                  </a:lnTo>
                  <a:lnTo>
                    <a:pt x="1873" y="327"/>
                  </a:lnTo>
                  <a:lnTo>
                    <a:pt x="1829" y="275"/>
                  </a:lnTo>
                  <a:lnTo>
                    <a:pt x="1804" y="255"/>
                  </a:lnTo>
                  <a:lnTo>
                    <a:pt x="1776" y="239"/>
                  </a:lnTo>
                  <a:lnTo>
                    <a:pt x="1704" y="224"/>
                  </a:lnTo>
                  <a:lnTo>
                    <a:pt x="1621" y="221"/>
                  </a:lnTo>
                  <a:lnTo>
                    <a:pt x="1465" y="184"/>
                  </a:lnTo>
                  <a:lnTo>
                    <a:pt x="1406" y="131"/>
                  </a:lnTo>
                  <a:lnTo>
                    <a:pt x="1357" y="73"/>
                  </a:lnTo>
                  <a:lnTo>
                    <a:pt x="1317" y="25"/>
                  </a:lnTo>
                  <a:lnTo>
                    <a:pt x="1298" y="8"/>
                  </a:lnTo>
                  <a:lnTo>
                    <a:pt x="1282" y="0"/>
                  </a:lnTo>
                  <a:lnTo>
                    <a:pt x="1248" y="10"/>
                  </a:lnTo>
                  <a:lnTo>
                    <a:pt x="1217" y="47"/>
                  </a:lnTo>
                  <a:lnTo>
                    <a:pt x="1171" y="137"/>
                  </a:lnTo>
                  <a:lnTo>
                    <a:pt x="1145" y="193"/>
                  </a:lnTo>
                  <a:lnTo>
                    <a:pt x="1080" y="247"/>
                  </a:lnTo>
                  <a:lnTo>
                    <a:pt x="1050" y="270"/>
                  </a:lnTo>
                  <a:lnTo>
                    <a:pt x="1013" y="293"/>
                  </a:lnTo>
                  <a:lnTo>
                    <a:pt x="972" y="318"/>
                  </a:lnTo>
                  <a:lnTo>
                    <a:pt x="925" y="345"/>
                  </a:lnTo>
                  <a:lnTo>
                    <a:pt x="875" y="370"/>
                  </a:lnTo>
                  <a:lnTo>
                    <a:pt x="820" y="392"/>
                  </a:lnTo>
                  <a:lnTo>
                    <a:pt x="764" y="410"/>
                  </a:lnTo>
                  <a:lnTo>
                    <a:pt x="705" y="421"/>
                  </a:lnTo>
                  <a:lnTo>
                    <a:pt x="463" y="424"/>
                  </a:lnTo>
                  <a:lnTo>
                    <a:pt x="239" y="439"/>
                  </a:lnTo>
                  <a:lnTo>
                    <a:pt x="143" y="485"/>
                  </a:lnTo>
                  <a:lnTo>
                    <a:pt x="68" y="542"/>
                  </a:lnTo>
                  <a:lnTo>
                    <a:pt x="19" y="593"/>
                  </a:lnTo>
                  <a:lnTo>
                    <a:pt x="0" y="613"/>
                  </a:lnTo>
                  <a:lnTo>
                    <a:pt x="0" y="613"/>
                  </a:lnTo>
                  <a:close/>
                </a:path>
              </a:pathLst>
            </a:custGeom>
            <a:solidFill>
              <a:srgbClr val="a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821480" y="2457000"/>
              <a:ext cx="1528200" cy="417240"/>
            </a:xfrm>
            <a:custGeom>
              <a:avLst/>
              <a:gdLst/>
              <a:ahLst/>
              <a:rect l="l" t="t" r="r" b="b"/>
              <a:pathLst>
                <a:path w="4302" h="1175">
                  <a:moveTo>
                    <a:pt x="0" y="150"/>
                  </a:moveTo>
                  <a:lnTo>
                    <a:pt x="19" y="314"/>
                  </a:lnTo>
                  <a:lnTo>
                    <a:pt x="47" y="357"/>
                  </a:lnTo>
                  <a:lnTo>
                    <a:pt x="81" y="395"/>
                  </a:lnTo>
                  <a:lnTo>
                    <a:pt x="128" y="434"/>
                  </a:lnTo>
                  <a:lnTo>
                    <a:pt x="187" y="465"/>
                  </a:lnTo>
                  <a:lnTo>
                    <a:pt x="256" y="494"/>
                  </a:lnTo>
                  <a:lnTo>
                    <a:pt x="335" y="532"/>
                  </a:lnTo>
                  <a:lnTo>
                    <a:pt x="376" y="558"/>
                  </a:lnTo>
                  <a:lnTo>
                    <a:pt x="420" y="590"/>
                  </a:lnTo>
                  <a:lnTo>
                    <a:pt x="467" y="628"/>
                  </a:lnTo>
                  <a:lnTo>
                    <a:pt x="517" y="671"/>
                  </a:lnTo>
                  <a:lnTo>
                    <a:pt x="575" y="720"/>
                  </a:lnTo>
                  <a:lnTo>
                    <a:pt x="643" y="770"/>
                  </a:lnTo>
                  <a:lnTo>
                    <a:pt x="681" y="796"/>
                  </a:lnTo>
                  <a:lnTo>
                    <a:pt x="722" y="823"/>
                  </a:lnTo>
                  <a:lnTo>
                    <a:pt x="768" y="850"/>
                  </a:lnTo>
                  <a:lnTo>
                    <a:pt x="817" y="875"/>
                  </a:lnTo>
                  <a:lnTo>
                    <a:pt x="870" y="901"/>
                  </a:lnTo>
                  <a:lnTo>
                    <a:pt x="929" y="926"/>
                  </a:lnTo>
                  <a:lnTo>
                    <a:pt x="992" y="951"/>
                  </a:lnTo>
                  <a:lnTo>
                    <a:pt x="1062" y="975"/>
                  </a:lnTo>
                  <a:lnTo>
                    <a:pt x="1135" y="997"/>
                  </a:lnTo>
                  <a:lnTo>
                    <a:pt x="1214" y="1018"/>
                  </a:lnTo>
                  <a:lnTo>
                    <a:pt x="1296" y="1038"/>
                  </a:lnTo>
                  <a:lnTo>
                    <a:pt x="1379" y="1057"/>
                  </a:lnTo>
                  <a:lnTo>
                    <a:pt x="1463" y="1075"/>
                  </a:lnTo>
                  <a:lnTo>
                    <a:pt x="1547" y="1091"/>
                  </a:lnTo>
                  <a:lnTo>
                    <a:pt x="1708" y="1121"/>
                  </a:lnTo>
                  <a:lnTo>
                    <a:pt x="1849" y="1144"/>
                  </a:lnTo>
                  <a:lnTo>
                    <a:pt x="1964" y="1162"/>
                  </a:lnTo>
                  <a:lnTo>
                    <a:pt x="2068" y="1175"/>
                  </a:lnTo>
                  <a:lnTo>
                    <a:pt x="3247" y="1066"/>
                  </a:lnTo>
                  <a:lnTo>
                    <a:pt x="3851" y="627"/>
                  </a:lnTo>
                  <a:lnTo>
                    <a:pt x="3895" y="578"/>
                  </a:lnTo>
                  <a:lnTo>
                    <a:pt x="3942" y="527"/>
                  </a:lnTo>
                  <a:lnTo>
                    <a:pt x="3969" y="496"/>
                  </a:lnTo>
                  <a:lnTo>
                    <a:pt x="3997" y="463"/>
                  </a:lnTo>
                  <a:lnTo>
                    <a:pt x="4028" y="431"/>
                  </a:lnTo>
                  <a:lnTo>
                    <a:pt x="4057" y="397"/>
                  </a:lnTo>
                  <a:lnTo>
                    <a:pt x="4087" y="363"/>
                  </a:lnTo>
                  <a:lnTo>
                    <a:pt x="4116" y="330"/>
                  </a:lnTo>
                  <a:lnTo>
                    <a:pt x="4143" y="299"/>
                  </a:lnTo>
                  <a:lnTo>
                    <a:pt x="4168" y="270"/>
                  </a:lnTo>
                  <a:lnTo>
                    <a:pt x="4207" y="223"/>
                  </a:lnTo>
                  <a:lnTo>
                    <a:pt x="4237" y="186"/>
                  </a:lnTo>
                  <a:lnTo>
                    <a:pt x="4262" y="152"/>
                  </a:lnTo>
                  <a:lnTo>
                    <a:pt x="4295" y="96"/>
                  </a:lnTo>
                  <a:lnTo>
                    <a:pt x="4302" y="52"/>
                  </a:lnTo>
                  <a:lnTo>
                    <a:pt x="4281" y="22"/>
                  </a:lnTo>
                  <a:lnTo>
                    <a:pt x="4231" y="6"/>
                  </a:lnTo>
                  <a:lnTo>
                    <a:pt x="4162" y="0"/>
                  </a:lnTo>
                  <a:lnTo>
                    <a:pt x="4016" y="22"/>
                  </a:lnTo>
                  <a:lnTo>
                    <a:pt x="3915" y="74"/>
                  </a:lnTo>
                  <a:lnTo>
                    <a:pt x="3876" y="112"/>
                  </a:lnTo>
                  <a:lnTo>
                    <a:pt x="3833" y="159"/>
                  </a:lnTo>
                  <a:lnTo>
                    <a:pt x="3780" y="214"/>
                  </a:lnTo>
                  <a:lnTo>
                    <a:pt x="3747" y="242"/>
                  </a:lnTo>
                  <a:lnTo>
                    <a:pt x="3712" y="271"/>
                  </a:lnTo>
                  <a:lnTo>
                    <a:pt x="3672" y="298"/>
                  </a:lnTo>
                  <a:lnTo>
                    <a:pt x="3628" y="322"/>
                  </a:lnTo>
                  <a:lnTo>
                    <a:pt x="3578" y="344"/>
                  </a:lnTo>
                  <a:lnTo>
                    <a:pt x="3522" y="360"/>
                  </a:lnTo>
                  <a:lnTo>
                    <a:pt x="3395" y="382"/>
                  </a:lnTo>
                  <a:lnTo>
                    <a:pt x="3259" y="397"/>
                  </a:lnTo>
                  <a:lnTo>
                    <a:pt x="3028" y="442"/>
                  </a:lnTo>
                  <a:lnTo>
                    <a:pt x="2960" y="494"/>
                  </a:lnTo>
                  <a:lnTo>
                    <a:pt x="2923" y="555"/>
                  </a:lnTo>
                  <a:lnTo>
                    <a:pt x="2890" y="636"/>
                  </a:lnTo>
                  <a:lnTo>
                    <a:pt x="2849" y="596"/>
                  </a:lnTo>
                  <a:lnTo>
                    <a:pt x="2808" y="553"/>
                  </a:lnTo>
                  <a:lnTo>
                    <a:pt x="2778" y="534"/>
                  </a:lnTo>
                  <a:lnTo>
                    <a:pt x="2744" y="516"/>
                  </a:lnTo>
                  <a:lnTo>
                    <a:pt x="2656" y="497"/>
                  </a:lnTo>
                  <a:lnTo>
                    <a:pt x="2556" y="496"/>
                  </a:lnTo>
                  <a:lnTo>
                    <a:pt x="2454" y="512"/>
                  </a:lnTo>
                  <a:lnTo>
                    <a:pt x="2368" y="544"/>
                  </a:lnTo>
                  <a:lnTo>
                    <a:pt x="2273" y="633"/>
                  </a:lnTo>
                  <a:lnTo>
                    <a:pt x="2252" y="668"/>
                  </a:lnTo>
                  <a:lnTo>
                    <a:pt x="2242" y="681"/>
                  </a:lnTo>
                  <a:lnTo>
                    <a:pt x="2218" y="625"/>
                  </a:lnTo>
                  <a:lnTo>
                    <a:pt x="2193" y="578"/>
                  </a:lnTo>
                  <a:lnTo>
                    <a:pt x="2174" y="555"/>
                  </a:lnTo>
                  <a:lnTo>
                    <a:pt x="2150" y="534"/>
                  </a:lnTo>
                  <a:lnTo>
                    <a:pt x="2119" y="518"/>
                  </a:lnTo>
                  <a:lnTo>
                    <a:pt x="2082" y="506"/>
                  </a:lnTo>
                  <a:lnTo>
                    <a:pt x="1998" y="497"/>
                  </a:lnTo>
                  <a:lnTo>
                    <a:pt x="1908" y="506"/>
                  </a:lnTo>
                  <a:lnTo>
                    <a:pt x="1820" y="534"/>
                  </a:lnTo>
                  <a:lnTo>
                    <a:pt x="1780" y="556"/>
                  </a:lnTo>
                  <a:lnTo>
                    <a:pt x="1745" y="581"/>
                  </a:lnTo>
                  <a:lnTo>
                    <a:pt x="1686" y="631"/>
                  </a:lnTo>
                  <a:lnTo>
                    <a:pt x="1647" y="670"/>
                  </a:lnTo>
                  <a:lnTo>
                    <a:pt x="1637" y="681"/>
                  </a:lnTo>
                  <a:lnTo>
                    <a:pt x="1653" y="653"/>
                  </a:lnTo>
                  <a:lnTo>
                    <a:pt x="1674" y="599"/>
                  </a:lnTo>
                  <a:lnTo>
                    <a:pt x="1678" y="568"/>
                  </a:lnTo>
                  <a:lnTo>
                    <a:pt x="1675" y="535"/>
                  </a:lnTo>
                  <a:lnTo>
                    <a:pt x="1659" y="506"/>
                  </a:lnTo>
                  <a:lnTo>
                    <a:pt x="1628" y="479"/>
                  </a:lnTo>
                  <a:lnTo>
                    <a:pt x="1581" y="460"/>
                  </a:lnTo>
                  <a:lnTo>
                    <a:pt x="1519" y="445"/>
                  </a:lnTo>
                  <a:lnTo>
                    <a:pt x="1367" y="432"/>
                  </a:lnTo>
                  <a:lnTo>
                    <a:pt x="1062" y="442"/>
                  </a:lnTo>
                  <a:lnTo>
                    <a:pt x="891" y="472"/>
                  </a:lnTo>
                  <a:lnTo>
                    <a:pt x="786" y="479"/>
                  </a:lnTo>
                  <a:lnTo>
                    <a:pt x="637" y="438"/>
                  </a:lnTo>
                  <a:lnTo>
                    <a:pt x="588" y="419"/>
                  </a:lnTo>
                  <a:lnTo>
                    <a:pt x="534" y="397"/>
                  </a:lnTo>
                  <a:lnTo>
                    <a:pt x="475" y="370"/>
                  </a:lnTo>
                  <a:lnTo>
                    <a:pt x="411" y="342"/>
                  </a:lnTo>
                  <a:lnTo>
                    <a:pt x="343" y="311"/>
                  </a:lnTo>
                  <a:lnTo>
                    <a:pt x="273" y="279"/>
                  </a:lnTo>
                  <a:lnTo>
                    <a:pt x="203" y="246"/>
                  </a:lnTo>
                  <a:lnTo>
                    <a:pt x="138" y="215"/>
                  </a:lnTo>
                  <a:lnTo>
                    <a:pt x="84" y="190"/>
                  </a:lnTo>
                  <a:lnTo>
                    <a:pt x="40" y="170"/>
                  </a:lnTo>
                  <a:lnTo>
                    <a:pt x="0" y="150"/>
                  </a:lnTo>
                  <a:lnTo>
                    <a:pt x="0" y="15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4869000" y="2601720"/>
              <a:ext cx="1406880" cy="313200"/>
            </a:xfrm>
            <a:custGeom>
              <a:avLst/>
              <a:gdLst/>
              <a:ahLst/>
              <a:rect l="l" t="t" r="r" b="b"/>
              <a:pathLst>
                <a:path w="3960" h="882">
                  <a:moveTo>
                    <a:pt x="65" y="39"/>
                  </a:moveTo>
                  <a:lnTo>
                    <a:pt x="171" y="41"/>
                  </a:lnTo>
                  <a:lnTo>
                    <a:pt x="291" y="63"/>
                  </a:lnTo>
                  <a:lnTo>
                    <a:pt x="419" y="104"/>
                  </a:lnTo>
                  <a:lnTo>
                    <a:pt x="485" y="128"/>
                  </a:lnTo>
                  <a:lnTo>
                    <a:pt x="552" y="156"/>
                  </a:lnTo>
                  <a:lnTo>
                    <a:pt x="618" y="185"/>
                  </a:lnTo>
                  <a:lnTo>
                    <a:pt x="683" y="215"/>
                  </a:lnTo>
                  <a:lnTo>
                    <a:pt x="746" y="246"/>
                  </a:lnTo>
                  <a:lnTo>
                    <a:pt x="808" y="275"/>
                  </a:lnTo>
                  <a:lnTo>
                    <a:pt x="866" y="305"/>
                  </a:lnTo>
                  <a:lnTo>
                    <a:pt x="920" y="333"/>
                  </a:lnTo>
                  <a:lnTo>
                    <a:pt x="972" y="358"/>
                  </a:lnTo>
                  <a:lnTo>
                    <a:pt x="1018" y="382"/>
                  </a:lnTo>
                  <a:lnTo>
                    <a:pt x="1062" y="402"/>
                  </a:lnTo>
                  <a:lnTo>
                    <a:pt x="1105" y="420"/>
                  </a:lnTo>
                  <a:lnTo>
                    <a:pt x="1186" y="452"/>
                  </a:lnTo>
                  <a:lnTo>
                    <a:pt x="1264" y="476"/>
                  </a:lnTo>
                  <a:lnTo>
                    <a:pt x="1339" y="494"/>
                  </a:lnTo>
                  <a:lnTo>
                    <a:pt x="1481" y="514"/>
                  </a:lnTo>
                  <a:lnTo>
                    <a:pt x="1618" y="517"/>
                  </a:lnTo>
                  <a:lnTo>
                    <a:pt x="1897" y="497"/>
                  </a:lnTo>
                  <a:lnTo>
                    <a:pt x="2050" y="485"/>
                  </a:lnTo>
                  <a:lnTo>
                    <a:pt x="2220" y="480"/>
                  </a:lnTo>
                  <a:lnTo>
                    <a:pt x="2708" y="474"/>
                  </a:lnTo>
                  <a:lnTo>
                    <a:pt x="2953" y="445"/>
                  </a:lnTo>
                  <a:lnTo>
                    <a:pt x="3068" y="417"/>
                  </a:lnTo>
                  <a:lnTo>
                    <a:pt x="3172" y="377"/>
                  </a:lnTo>
                  <a:lnTo>
                    <a:pt x="3208" y="359"/>
                  </a:lnTo>
                  <a:lnTo>
                    <a:pt x="3258" y="333"/>
                  </a:lnTo>
                  <a:lnTo>
                    <a:pt x="3320" y="300"/>
                  </a:lnTo>
                  <a:lnTo>
                    <a:pt x="3354" y="281"/>
                  </a:lnTo>
                  <a:lnTo>
                    <a:pt x="3391" y="262"/>
                  </a:lnTo>
                  <a:lnTo>
                    <a:pt x="3428" y="241"/>
                  </a:lnTo>
                  <a:lnTo>
                    <a:pt x="3467" y="219"/>
                  </a:lnTo>
                  <a:lnTo>
                    <a:pt x="3507" y="199"/>
                  </a:lnTo>
                  <a:lnTo>
                    <a:pt x="3547" y="177"/>
                  </a:lnTo>
                  <a:lnTo>
                    <a:pt x="3587" y="156"/>
                  </a:lnTo>
                  <a:lnTo>
                    <a:pt x="3627" y="134"/>
                  </a:lnTo>
                  <a:lnTo>
                    <a:pt x="3666" y="115"/>
                  </a:lnTo>
                  <a:lnTo>
                    <a:pt x="3705" y="95"/>
                  </a:lnTo>
                  <a:lnTo>
                    <a:pt x="3742" y="76"/>
                  </a:lnTo>
                  <a:lnTo>
                    <a:pt x="3777" y="60"/>
                  </a:lnTo>
                  <a:lnTo>
                    <a:pt x="3842" y="31"/>
                  </a:lnTo>
                  <a:lnTo>
                    <a:pt x="3895" y="10"/>
                  </a:lnTo>
                  <a:lnTo>
                    <a:pt x="3935" y="0"/>
                  </a:lnTo>
                  <a:lnTo>
                    <a:pt x="3957" y="1"/>
                  </a:lnTo>
                  <a:lnTo>
                    <a:pt x="3960" y="16"/>
                  </a:lnTo>
                  <a:lnTo>
                    <a:pt x="3941" y="48"/>
                  </a:lnTo>
                  <a:lnTo>
                    <a:pt x="3897" y="97"/>
                  </a:lnTo>
                  <a:lnTo>
                    <a:pt x="3861" y="134"/>
                  </a:lnTo>
                  <a:lnTo>
                    <a:pt x="3827" y="169"/>
                  </a:lnTo>
                  <a:lnTo>
                    <a:pt x="3792" y="208"/>
                  </a:lnTo>
                  <a:lnTo>
                    <a:pt x="3758" y="246"/>
                  </a:lnTo>
                  <a:lnTo>
                    <a:pt x="3724" y="284"/>
                  </a:lnTo>
                  <a:lnTo>
                    <a:pt x="3689" y="321"/>
                  </a:lnTo>
                  <a:lnTo>
                    <a:pt x="3655" y="359"/>
                  </a:lnTo>
                  <a:lnTo>
                    <a:pt x="3619" y="396"/>
                  </a:lnTo>
                  <a:lnTo>
                    <a:pt x="3582" y="433"/>
                  </a:lnTo>
                  <a:lnTo>
                    <a:pt x="3546" y="469"/>
                  </a:lnTo>
                  <a:lnTo>
                    <a:pt x="3509" y="502"/>
                  </a:lnTo>
                  <a:lnTo>
                    <a:pt x="3469" y="533"/>
                  </a:lnTo>
                  <a:lnTo>
                    <a:pt x="3429" y="564"/>
                  </a:lnTo>
                  <a:lnTo>
                    <a:pt x="3388" y="592"/>
                  </a:lnTo>
                  <a:lnTo>
                    <a:pt x="3345" y="618"/>
                  </a:lnTo>
                  <a:lnTo>
                    <a:pt x="3299" y="641"/>
                  </a:lnTo>
                  <a:lnTo>
                    <a:pt x="3245" y="666"/>
                  </a:lnTo>
                  <a:lnTo>
                    <a:pt x="3184" y="690"/>
                  </a:lnTo>
                  <a:lnTo>
                    <a:pt x="3121" y="713"/>
                  </a:lnTo>
                  <a:lnTo>
                    <a:pt x="3053" y="735"/>
                  </a:lnTo>
                  <a:lnTo>
                    <a:pt x="2984" y="755"/>
                  </a:lnTo>
                  <a:lnTo>
                    <a:pt x="2908" y="774"/>
                  </a:lnTo>
                  <a:lnTo>
                    <a:pt x="2833" y="792"/>
                  </a:lnTo>
                  <a:lnTo>
                    <a:pt x="2754" y="808"/>
                  </a:lnTo>
                  <a:lnTo>
                    <a:pt x="2590" y="836"/>
                  </a:lnTo>
                  <a:lnTo>
                    <a:pt x="2420" y="858"/>
                  </a:lnTo>
                  <a:lnTo>
                    <a:pt x="2246" y="873"/>
                  </a:lnTo>
                  <a:lnTo>
                    <a:pt x="2071" y="882"/>
                  </a:lnTo>
                  <a:lnTo>
                    <a:pt x="1723" y="874"/>
                  </a:lnTo>
                  <a:lnTo>
                    <a:pt x="1394" y="834"/>
                  </a:lnTo>
                  <a:lnTo>
                    <a:pt x="1243" y="799"/>
                  </a:lnTo>
                  <a:lnTo>
                    <a:pt x="1173" y="778"/>
                  </a:lnTo>
                  <a:lnTo>
                    <a:pt x="1105" y="756"/>
                  </a:lnTo>
                  <a:lnTo>
                    <a:pt x="1041" y="730"/>
                  </a:lnTo>
                  <a:lnTo>
                    <a:pt x="981" y="702"/>
                  </a:lnTo>
                  <a:lnTo>
                    <a:pt x="925" y="671"/>
                  </a:lnTo>
                  <a:lnTo>
                    <a:pt x="872" y="638"/>
                  </a:lnTo>
                  <a:lnTo>
                    <a:pt x="845" y="618"/>
                  </a:lnTo>
                  <a:lnTo>
                    <a:pt x="817" y="598"/>
                  </a:lnTo>
                  <a:lnTo>
                    <a:pt x="792" y="579"/>
                  </a:lnTo>
                  <a:lnTo>
                    <a:pt x="765" y="560"/>
                  </a:lnTo>
                  <a:lnTo>
                    <a:pt x="740" y="542"/>
                  </a:lnTo>
                  <a:lnTo>
                    <a:pt x="717" y="525"/>
                  </a:lnTo>
                  <a:lnTo>
                    <a:pt x="668" y="488"/>
                  </a:lnTo>
                  <a:lnTo>
                    <a:pt x="621" y="454"/>
                  </a:lnTo>
                  <a:lnTo>
                    <a:pt x="575" y="421"/>
                  </a:lnTo>
                  <a:lnTo>
                    <a:pt x="529" y="389"/>
                  </a:lnTo>
                  <a:lnTo>
                    <a:pt x="484" y="358"/>
                  </a:lnTo>
                  <a:lnTo>
                    <a:pt x="437" y="328"/>
                  </a:lnTo>
                  <a:lnTo>
                    <a:pt x="389" y="300"/>
                  </a:lnTo>
                  <a:lnTo>
                    <a:pt x="341" y="272"/>
                  </a:lnTo>
                  <a:lnTo>
                    <a:pt x="289" y="247"/>
                  </a:lnTo>
                  <a:lnTo>
                    <a:pt x="236" y="222"/>
                  </a:lnTo>
                  <a:lnTo>
                    <a:pt x="178" y="199"/>
                  </a:lnTo>
                  <a:lnTo>
                    <a:pt x="119" y="177"/>
                  </a:lnTo>
                  <a:lnTo>
                    <a:pt x="56" y="157"/>
                  </a:lnTo>
                  <a:lnTo>
                    <a:pt x="13" y="131"/>
                  </a:lnTo>
                  <a:lnTo>
                    <a:pt x="0" y="94"/>
                  </a:lnTo>
                  <a:lnTo>
                    <a:pt x="18" y="59"/>
                  </a:lnTo>
                  <a:lnTo>
                    <a:pt x="38" y="47"/>
                  </a:lnTo>
                  <a:lnTo>
                    <a:pt x="65" y="39"/>
                  </a:lnTo>
                  <a:lnTo>
                    <a:pt x="6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4885200" y="2270880"/>
              <a:ext cx="1362240" cy="282960"/>
            </a:xfrm>
            <a:custGeom>
              <a:avLst/>
              <a:gdLst/>
              <a:ahLst/>
              <a:rect l="l" t="t" r="r" b="b"/>
              <a:pathLst>
                <a:path w="3833" h="800">
                  <a:moveTo>
                    <a:pt x="1503" y="61"/>
                  </a:moveTo>
                  <a:lnTo>
                    <a:pt x="1525" y="113"/>
                  </a:lnTo>
                  <a:lnTo>
                    <a:pt x="1546" y="159"/>
                  </a:lnTo>
                  <a:lnTo>
                    <a:pt x="1568" y="200"/>
                  </a:lnTo>
                  <a:lnTo>
                    <a:pt x="1589" y="237"/>
                  </a:lnTo>
                  <a:lnTo>
                    <a:pt x="1612" y="269"/>
                  </a:lnTo>
                  <a:lnTo>
                    <a:pt x="1636" y="300"/>
                  </a:lnTo>
                  <a:lnTo>
                    <a:pt x="1687" y="351"/>
                  </a:lnTo>
                  <a:lnTo>
                    <a:pt x="1752" y="383"/>
                  </a:lnTo>
                  <a:lnTo>
                    <a:pt x="1795" y="410"/>
                  </a:lnTo>
                  <a:lnTo>
                    <a:pt x="1841" y="439"/>
                  </a:lnTo>
                  <a:lnTo>
                    <a:pt x="1888" y="470"/>
                  </a:lnTo>
                  <a:lnTo>
                    <a:pt x="1932" y="498"/>
                  </a:lnTo>
                  <a:lnTo>
                    <a:pt x="1974" y="522"/>
                  </a:lnTo>
                  <a:lnTo>
                    <a:pt x="2007" y="536"/>
                  </a:lnTo>
                  <a:lnTo>
                    <a:pt x="2152" y="544"/>
                  </a:lnTo>
                  <a:lnTo>
                    <a:pt x="2372" y="491"/>
                  </a:lnTo>
                  <a:lnTo>
                    <a:pt x="2388" y="479"/>
                  </a:lnTo>
                  <a:lnTo>
                    <a:pt x="2445" y="445"/>
                  </a:lnTo>
                  <a:lnTo>
                    <a:pt x="2502" y="412"/>
                  </a:lnTo>
                  <a:lnTo>
                    <a:pt x="2556" y="382"/>
                  </a:lnTo>
                  <a:lnTo>
                    <a:pt x="2611" y="349"/>
                  </a:lnTo>
                  <a:lnTo>
                    <a:pt x="2662" y="315"/>
                  </a:lnTo>
                  <a:lnTo>
                    <a:pt x="2712" y="278"/>
                  </a:lnTo>
                  <a:lnTo>
                    <a:pt x="2761" y="234"/>
                  </a:lnTo>
                  <a:lnTo>
                    <a:pt x="2808" y="184"/>
                  </a:lnTo>
                  <a:lnTo>
                    <a:pt x="2855" y="120"/>
                  </a:lnTo>
                  <a:lnTo>
                    <a:pt x="2878" y="90"/>
                  </a:lnTo>
                  <a:lnTo>
                    <a:pt x="2901" y="60"/>
                  </a:lnTo>
                  <a:lnTo>
                    <a:pt x="2922" y="42"/>
                  </a:lnTo>
                  <a:lnTo>
                    <a:pt x="2944" y="33"/>
                  </a:lnTo>
                  <a:lnTo>
                    <a:pt x="2984" y="42"/>
                  </a:lnTo>
                  <a:lnTo>
                    <a:pt x="3006" y="75"/>
                  </a:lnTo>
                  <a:lnTo>
                    <a:pt x="3000" y="123"/>
                  </a:lnTo>
                  <a:lnTo>
                    <a:pt x="2971" y="190"/>
                  </a:lnTo>
                  <a:lnTo>
                    <a:pt x="2942" y="252"/>
                  </a:lnTo>
                  <a:lnTo>
                    <a:pt x="2925" y="281"/>
                  </a:lnTo>
                  <a:lnTo>
                    <a:pt x="2901" y="312"/>
                  </a:lnTo>
                  <a:lnTo>
                    <a:pt x="2872" y="343"/>
                  </a:lnTo>
                  <a:lnTo>
                    <a:pt x="2833" y="376"/>
                  </a:lnTo>
                  <a:lnTo>
                    <a:pt x="2972" y="398"/>
                  </a:lnTo>
                  <a:lnTo>
                    <a:pt x="3031" y="420"/>
                  </a:lnTo>
                  <a:lnTo>
                    <a:pt x="3089" y="443"/>
                  </a:lnTo>
                  <a:lnTo>
                    <a:pt x="3147" y="467"/>
                  </a:lnTo>
                  <a:lnTo>
                    <a:pt x="3211" y="489"/>
                  </a:lnTo>
                  <a:lnTo>
                    <a:pt x="3283" y="504"/>
                  </a:lnTo>
                  <a:lnTo>
                    <a:pt x="3367" y="510"/>
                  </a:lnTo>
                  <a:lnTo>
                    <a:pt x="3673" y="519"/>
                  </a:lnTo>
                  <a:lnTo>
                    <a:pt x="3814" y="551"/>
                  </a:lnTo>
                  <a:lnTo>
                    <a:pt x="3833" y="581"/>
                  </a:lnTo>
                  <a:lnTo>
                    <a:pt x="3823" y="598"/>
                  </a:lnTo>
                  <a:lnTo>
                    <a:pt x="3799" y="620"/>
                  </a:lnTo>
                  <a:lnTo>
                    <a:pt x="3770" y="641"/>
                  </a:lnTo>
                  <a:lnTo>
                    <a:pt x="3742" y="660"/>
                  </a:lnTo>
                  <a:lnTo>
                    <a:pt x="3714" y="679"/>
                  </a:lnTo>
                  <a:lnTo>
                    <a:pt x="3686" y="696"/>
                  </a:lnTo>
                  <a:lnTo>
                    <a:pt x="3633" y="724"/>
                  </a:lnTo>
                  <a:lnTo>
                    <a:pt x="3581" y="749"/>
                  </a:lnTo>
                  <a:lnTo>
                    <a:pt x="3531" y="768"/>
                  </a:lnTo>
                  <a:lnTo>
                    <a:pt x="3482" y="783"/>
                  </a:lnTo>
                  <a:lnTo>
                    <a:pt x="3391" y="800"/>
                  </a:lnTo>
                  <a:lnTo>
                    <a:pt x="3224" y="796"/>
                  </a:lnTo>
                  <a:lnTo>
                    <a:pt x="3075" y="759"/>
                  </a:lnTo>
                  <a:lnTo>
                    <a:pt x="3007" y="733"/>
                  </a:lnTo>
                  <a:lnTo>
                    <a:pt x="2941" y="706"/>
                  </a:lnTo>
                  <a:lnTo>
                    <a:pt x="2876" y="682"/>
                  </a:lnTo>
                  <a:lnTo>
                    <a:pt x="2813" y="662"/>
                  </a:lnTo>
                  <a:lnTo>
                    <a:pt x="2749" y="647"/>
                  </a:lnTo>
                  <a:lnTo>
                    <a:pt x="2686" y="643"/>
                  </a:lnTo>
                  <a:lnTo>
                    <a:pt x="2558" y="672"/>
                  </a:lnTo>
                  <a:lnTo>
                    <a:pt x="2502" y="697"/>
                  </a:lnTo>
                  <a:lnTo>
                    <a:pt x="2450" y="718"/>
                  </a:lnTo>
                  <a:lnTo>
                    <a:pt x="2400" y="735"/>
                  </a:lnTo>
                  <a:lnTo>
                    <a:pt x="2354" y="752"/>
                  </a:lnTo>
                  <a:lnTo>
                    <a:pt x="2271" y="774"/>
                  </a:lnTo>
                  <a:lnTo>
                    <a:pt x="2198" y="787"/>
                  </a:lnTo>
                  <a:lnTo>
                    <a:pt x="2074" y="790"/>
                  </a:lnTo>
                  <a:lnTo>
                    <a:pt x="1971" y="771"/>
                  </a:lnTo>
                  <a:lnTo>
                    <a:pt x="1873" y="738"/>
                  </a:lnTo>
                  <a:lnTo>
                    <a:pt x="1822" y="722"/>
                  </a:lnTo>
                  <a:lnTo>
                    <a:pt x="1769" y="707"/>
                  </a:lnTo>
                  <a:lnTo>
                    <a:pt x="1645" y="685"/>
                  </a:lnTo>
                  <a:lnTo>
                    <a:pt x="1488" y="685"/>
                  </a:lnTo>
                  <a:lnTo>
                    <a:pt x="1134" y="725"/>
                  </a:lnTo>
                  <a:lnTo>
                    <a:pt x="951" y="750"/>
                  </a:lnTo>
                  <a:lnTo>
                    <a:pt x="769" y="772"/>
                  </a:lnTo>
                  <a:lnTo>
                    <a:pt x="586" y="786"/>
                  </a:lnTo>
                  <a:lnTo>
                    <a:pt x="404" y="787"/>
                  </a:lnTo>
                  <a:lnTo>
                    <a:pt x="226" y="772"/>
                  </a:lnTo>
                  <a:lnTo>
                    <a:pt x="50" y="734"/>
                  </a:lnTo>
                  <a:lnTo>
                    <a:pt x="9" y="706"/>
                  </a:lnTo>
                  <a:lnTo>
                    <a:pt x="0" y="668"/>
                  </a:lnTo>
                  <a:lnTo>
                    <a:pt x="21" y="632"/>
                  </a:lnTo>
                  <a:lnTo>
                    <a:pt x="68" y="617"/>
                  </a:lnTo>
                  <a:lnTo>
                    <a:pt x="260" y="612"/>
                  </a:lnTo>
                  <a:lnTo>
                    <a:pt x="437" y="588"/>
                  </a:lnTo>
                  <a:lnTo>
                    <a:pt x="602" y="554"/>
                  </a:lnTo>
                  <a:lnTo>
                    <a:pt x="680" y="533"/>
                  </a:lnTo>
                  <a:lnTo>
                    <a:pt x="758" y="511"/>
                  </a:lnTo>
                  <a:lnTo>
                    <a:pt x="835" y="489"/>
                  </a:lnTo>
                  <a:lnTo>
                    <a:pt x="910" y="466"/>
                  </a:lnTo>
                  <a:lnTo>
                    <a:pt x="985" y="443"/>
                  </a:lnTo>
                  <a:lnTo>
                    <a:pt x="1061" y="421"/>
                  </a:lnTo>
                  <a:lnTo>
                    <a:pt x="1137" y="401"/>
                  </a:lnTo>
                  <a:lnTo>
                    <a:pt x="1215" y="382"/>
                  </a:lnTo>
                  <a:lnTo>
                    <a:pt x="1294" y="365"/>
                  </a:lnTo>
                  <a:lnTo>
                    <a:pt x="1375" y="351"/>
                  </a:lnTo>
                  <a:lnTo>
                    <a:pt x="1344" y="230"/>
                  </a:lnTo>
                  <a:lnTo>
                    <a:pt x="1317" y="123"/>
                  </a:lnTo>
                  <a:lnTo>
                    <a:pt x="1314" y="79"/>
                  </a:lnTo>
                  <a:lnTo>
                    <a:pt x="1325" y="44"/>
                  </a:lnTo>
                  <a:lnTo>
                    <a:pt x="1348" y="16"/>
                  </a:lnTo>
                  <a:lnTo>
                    <a:pt x="1379" y="0"/>
                  </a:lnTo>
                  <a:lnTo>
                    <a:pt x="1448" y="2"/>
                  </a:lnTo>
                  <a:lnTo>
                    <a:pt x="1503" y="61"/>
                  </a:lnTo>
                  <a:lnTo>
                    <a:pt x="150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786200" y="2001240"/>
              <a:ext cx="1572120" cy="444960"/>
            </a:xfrm>
            <a:custGeom>
              <a:avLst/>
              <a:gdLst/>
              <a:ahLst/>
              <a:rect l="l" t="t" r="r" b="b"/>
              <a:pathLst>
                <a:path w="4424" h="1254">
                  <a:moveTo>
                    <a:pt x="2644" y="170"/>
                  </a:moveTo>
                  <a:lnTo>
                    <a:pt x="2712" y="136"/>
                  </a:lnTo>
                  <a:lnTo>
                    <a:pt x="2776" y="108"/>
                  </a:lnTo>
                  <a:lnTo>
                    <a:pt x="2833" y="82"/>
                  </a:lnTo>
                  <a:lnTo>
                    <a:pt x="2888" y="59"/>
                  </a:lnTo>
                  <a:lnTo>
                    <a:pt x="2939" y="42"/>
                  </a:lnTo>
                  <a:lnTo>
                    <a:pt x="2987" y="27"/>
                  </a:lnTo>
                  <a:lnTo>
                    <a:pt x="3071" y="6"/>
                  </a:lnTo>
                  <a:lnTo>
                    <a:pt x="3211" y="3"/>
                  </a:lnTo>
                  <a:lnTo>
                    <a:pt x="3324" y="48"/>
                  </a:lnTo>
                  <a:lnTo>
                    <a:pt x="3379" y="85"/>
                  </a:lnTo>
                  <a:lnTo>
                    <a:pt x="3433" y="130"/>
                  </a:lnTo>
                  <a:lnTo>
                    <a:pt x="3491" y="186"/>
                  </a:lnTo>
                  <a:lnTo>
                    <a:pt x="3522" y="217"/>
                  </a:lnTo>
                  <a:lnTo>
                    <a:pt x="3554" y="250"/>
                  </a:lnTo>
                  <a:lnTo>
                    <a:pt x="3588" y="285"/>
                  </a:lnTo>
                  <a:lnTo>
                    <a:pt x="3625" y="322"/>
                  </a:lnTo>
                  <a:lnTo>
                    <a:pt x="3665" y="360"/>
                  </a:lnTo>
                  <a:lnTo>
                    <a:pt x="3706" y="400"/>
                  </a:lnTo>
                  <a:lnTo>
                    <a:pt x="3750" y="441"/>
                  </a:lnTo>
                  <a:lnTo>
                    <a:pt x="3799" y="484"/>
                  </a:lnTo>
                  <a:lnTo>
                    <a:pt x="3851" y="528"/>
                  </a:lnTo>
                  <a:lnTo>
                    <a:pt x="3907" y="574"/>
                  </a:lnTo>
                  <a:lnTo>
                    <a:pt x="3941" y="596"/>
                  </a:lnTo>
                  <a:lnTo>
                    <a:pt x="3978" y="623"/>
                  </a:lnTo>
                  <a:lnTo>
                    <a:pt x="4025" y="655"/>
                  </a:lnTo>
                  <a:lnTo>
                    <a:pt x="4051" y="673"/>
                  </a:lnTo>
                  <a:lnTo>
                    <a:pt x="4078" y="694"/>
                  </a:lnTo>
                  <a:lnTo>
                    <a:pt x="4107" y="714"/>
                  </a:lnTo>
                  <a:lnTo>
                    <a:pt x="4137" y="735"/>
                  </a:lnTo>
                  <a:lnTo>
                    <a:pt x="4166" y="757"/>
                  </a:lnTo>
                  <a:lnTo>
                    <a:pt x="4196" y="779"/>
                  </a:lnTo>
                  <a:lnTo>
                    <a:pt x="4255" y="825"/>
                  </a:lnTo>
                  <a:lnTo>
                    <a:pt x="4308" y="869"/>
                  </a:lnTo>
                  <a:lnTo>
                    <a:pt x="4357" y="910"/>
                  </a:lnTo>
                  <a:lnTo>
                    <a:pt x="4420" y="980"/>
                  </a:lnTo>
                  <a:lnTo>
                    <a:pt x="4424" y="1018"/>
                  </a:lnTo>
                  <a:lnTo>
                    <a:pt x="4346" y="1015"/>
                  </a:lnTo>
                  <a:lnTo>
                    <a:pt x="4264" y="995"/>
                  </a:lnTo>
                  <a:lnTo>
                    <a:pt x="4186" y="972"/>
                  </a:lnTo>
                  <a:lnTo>
                    <a:pt x="4110" y="946"/>
                  </a:lnTo>
                  <a:lnTo>
                    <a:pt x="4041" y="918"/>
                  </a:lnTo>
                  <a:lnTo>
                    <a:pt x="3973" y="888"/>
                  </a:lnTo>
                  <a:lnTo>
                    <a:pt x="3910" y="857"/>
                  </a:lnTo>
                  <a:lnTo>
                    <a:pt x="3848" y="825"/>
                  </a:lnTo>
                  <a:lnTo>
                    <a:pt x="3790" y="792"/>
                  </a:lnTo>
                  <a:lnTo>
                    <a:pt x="3736" y="759"/>
                  </a:lnTo>
                  <a:lnTo>
                    <a:pt x="3683" y="723"/>
                  </a:lnTo>
                  <a:lnTo>
                    <a:pt x="3632" y="689"/>
                  </a:lnTo>
                  <a:lnTo>
                    <a:pt x="3582" y="655"/>
                  </a:lnTo>
                  <a:lnTo>
                    <a:pt x="3537" y="621"/>
                  </a:lnTo>
                  <a:lnTo>
                    <a:pt x="3491" y="587"/>
                  </a:lnTo>
                  <a:lnTo>
                    <a:pt x="3447" y="555"/>
                  </a:lnTo>
                  <a:lnTo>
                    <a:pt x="3402" y="524"/>
                  </a:lnTo>
                  <a:lnTo>
                    <a:pt x="3360" y="495"/>
                  </a:lnTo>
                  <a:lnTo>
                    <a:pt x="3318" y="468"/>
                  </a:lnTo>
                  <a:lnTo>
                    <a:pt x="3276" y="441"/>
                  </a:lnTo>
                  <a:lnTo>
                    <a:pt x="3234" y="419"/>
                  </a:lnTo>
                  <a:lnTo>
                    <a:pt x="3193" y="399"/>
                  </a:lnTo>
                  <a:lnTo>
                    <a:pt x="3150" y="381"/>
                  </a:lnTo>
                  <a:lnTo>
                    <a:pt x="3063" y="356"/>
                  </a:lnTo>
                  <a:lnTo>
                    <a:pt x="2972" y="346"/>
                  </a:lnTo>
                  <a:lnTo>
                    <a:pt x="2874" y="353"/>
                  </a:lnTo>
                  <a:lnTo>
                    <a:pt x="2768" y="381"/>
                  </a:lnTo>
                  <a:lnTo>
                    <a:pt x="2712" y="402"/>
                  </a:lnTo>
                  <a:lnTo>
                    <a:pt x="2653" y="430"/>
                  </a:lnTo>
                  <a:lnTo>
                    <a:pt x="2636" y="459"/>
                  </a:lnTo>
                  <a:lnTo>
                    <a:pt x="2616" y="484"/>
                  </a:lnTo>
                  <a:lnTo>
                    <a:pt x="2578" y="524"/>
                  </a:lnTo>
                  <a:lnTo>
                    <a:pt x="2537" y="548"/>
                  </a:lnTo>
                  <a:lnTo>
                    <a:pt x="2492" y="561"/>
                  </a:lnTo>
                  <a:lnTo>
                    <a:pt x="2395" y="559"/>
                  </a:lnTo>
                  <a:lnTo>
                    <a:pt x="2283" y="533"/>
                  </a:lnTo>
                  <a:lnTo>
                    <a:pt x="2226" y="509"/>
                  </a:lnTo>
                  <a:lnTo>
                    <a:pt x="2168" y="475"/>
                  </a:lnTo>
                  <a:lnTo>
                    <a:pt x="2140" y="455"/>
                  </a:lnTo>
                  <a:lnTo>
                    <a:pt x="2110" y="434"/>
                  </a:lnTo>
                  <a:lnTo>
                    <a:pt x="2054" y="390"/>
                  </a:lnTo>
                  <a:lnTo>
                    <a:pt x="2025" y="369"/>
                  </a:lnTo>
                  <a:lnTo>
                    <a:pt x="1997" y="349"/>
                  </a:lnTo>
                  <a:lnTo>
                    <a:pt x="1967" y="329"/>
                  </a:lnTo>
                  <a:lnTo>
                    <a:pt x="1939" y="313"/>
                  </a:lnTo>
                  <a:lnTo>
                    <a:pt x="1880" y="288"/>
                  </a:lnTo>
                  <a:lnTo>
                    <a:pt x="1821" y="279"/>
                  </a:lnTo>
                  <a:lnTo>
                    <a:pt x="1715" y="297"/>
                  </a:lnTo>
                  <a:lnTo>
                    <a:pt x="1650" y="316"/>
                  </a:lnTo>
                  <a:lnTo>
                    <a:pt x="1577" y="341"/>
                  </a:lnTo>
                  <a:lnTo>
                    <a:pt x="1498" y="374"/>
                  </a:lnTo>
                  <a:lnTo>
                    <a:pt x="1416" y="409"/>
                  </a:lnTo>
                  <a:lnTo>
                    <a:pt x="1375" y="428"/>
                  </a:lnTo>
                  <a:lnTo>
                    <a:pt x="1332" y="449"/>
                  </a:lnTo>
                  <a:lnTo>
                    <a:pt x="1288" y="469"/>
                  </a:lnTo>
                  <a:lnTo>
                    <a:pt x="1245" y="490"/>
                  </a:lnTo>
                  <a:lnTo>
                    <a:pt x="1202" y="512"/>
                  </a:lnTo>
                  <a:lnTo>
                    <a:pt x="1158" y="534"/>
                  </a:lnTo>
                  <a:lnTo>
                    <a:pt x="1116" y="556"/>
                  </a:lnTo>
                  <a:lnTo>
                    <a:pt x="1074" y="579"/>
                  </a:lnTo>
                  <a:lnTo>
                    <a:pt x="1032" y="602"/>
                  </a:lnTo>
                  <a:lnTo>
                    <a:pt x="993" y="624"/>
                  </a:lnTo>
                  <a:lnTo>
                    <a:pt x="953" y="646"/>
                  </a:lnTo>
                  <a:lnTo>
                    <a:pt x="914" y="669"/>
                  </a:lnTo>
                  <a:lnTo>
                    <a:pt x="878" y="691"/>
                  </a:lnTo>
                  <a:lnTo>
                    <a:pt x="844" y="711"/>
                  </a:lnTo>
                  <a:lnTo>
                    <a:pt x="810" y="732"/>
                  </a:lnTo>
                  <a:lnTo>
                    <a:pt x="779" y="751"/>
                  </a:lnTo>
                  <a:lnTo>
                    <a:pt x="723" y="788"/>
                  </a:lnTo>
                  <a:lnTo>
                    <a:pt x="678" y="820"/>
                  </a:lnTo>
                  <a:lnTo>
                    <a:pt x="612" y="875"/>
                  </a:lnTo>
                  <a:lnTo>
                    <a:pt x="577" y="909"/>
                  </a:lnTo>
                  <a:lnTo>
                    <a:pt x="540" y="944"/>
                  </a:lnTo>
                  <a:lnTo>
                    <a:pt x="503" y="980"/>
                  </a:lnTo>
                  <a:lnTo>
                    <a:pt x="465" y="1018"/>
                  </a:lnTo>
                  <a:lnTo>
                    <a:pt x="425" y="1055"/>
                  </a:lnTo>
                  <a:lnTo>
                    <a:pt x="385" y="1092"/>
                  </a:lnTo>
                  <a:lnTo>
                    <a:pt x="344" y="1127"/>
                  </a:lnTo>
                  <a:lnTo>
                    <a:pt x="302" y="1158"/>
                  </a:lnTo>
                  <a:lnTo>
                    <a:pt x="263" y="1188"/>
                  </a:lnTo>
                  <a:lnTo>
                    <a:pt x="221" y="1213"/>
                  </a:lnTo>
                  <a:lnTo>
                    <a:pt x="180" y="1232"/>
                  </a:lnTo>
                  <a:lnTo>
                    <a:pt x="139" y="1247"/>
                  </a:lnTo>
                  <a:lnTo>
                    <a:pt x="59" y="1254"/>
                  </a:lnTo>
                  <a:lnTo>
                    <a:pt x="15" y="1235"/>
                  </a:lnTo>
                  <a:lnTo>
                    <a:pt x="0" y="1197"/>
                  </a:lnTo>
                  <a:lnTo>
                    <a:pt x="10" y="1155"/>
                  </a:lnTo>
                  <a:lnTo>
                    <a:pt x="28" y="1138"/>
                  </a:lnTo>
                  <a:lnTo>
                    <a:pt x="52" y="1127"/>
                  </a:lnTo>
                  <a:lnTo>
                    <a:pt x="128" y="1093"/>
                  </a:lnTo>
                  <a:lnTo>
                    <a:pt x="168" y="1070"/>
                  </a:lnTo>
                  <a:lnTo>
                    <a:pt x="208" y="1043"/>
                  </a:lnTo>
                  <a:lnTo>
                    <a:pt x="249" y="1012"/>
                  </a:lnTo>
                  <a:lnTo>
                    <a:pt x="291" y="977"/>
                  </a:lnTo>
                  <a:lnTo>
                    <a:pt x="333" y="938"/>
                  </a:lnTo>
                  <a:lnTo>
                    <a:pt x="376" y="899"/>
                  </a:lnTo>
                  <a:lnTo>
                    <a:pt x="420" y="856"/>
                  </a:lnTo>
                  <a:lnTo>
                    <a:pt x="466" y="810"/>
                  </a:lnTo>
                  <a:lnTo>
                    <a:pt x="512" y="764"/>
                  </a:lnTo>
                  <a:lnTo>
                    <a:pt x="559" y="716"/>
                  </a:lnTo>
                  <a:lnTo>
                    <a:pt x="608" y="667"/>
                  </a:lnTo>
                  <a:lnTo>
                    <a:pt x="656" y="617"/>
                  </a:lnTo>
                  <a:lnTo>
                    <a:pt x="708" y="567"/>
                  </a:lnTo>
                  <a:lnTo>
                    <a:pt x="760" y="518"/>
                  </a:lnTo>
                  <a:lnTo>
                    <a:pt x="814" y="468"/>
                  </a:lnTo>
                  <a:lnTo>
                    <a:pt x="869" y="419"/>
                  </a:lnTo>
                  <a:lnTo>
                    <a:pt x="926" y="371"/>
                  </a:lnTo>
                  <a:lnTo>
                    <a:pt x="984" y="325"/>
                  </a:lnTo>
                  <a:lnTo>
                    <a:pt x="1013" y="301"/>
                  </a:lnTo>
                  <a:lnTo>
                    <a:pt x="1043" y="279"/>
                  </a:lnTo>
                  <a:lnTo>
                    <a:pt x="1074" y="259"/>
                  </a:lnTo>
                  <a:lnTo>
                    <a:pt x="1105" y="238"/>
                  </a:lnTo>
                  <a:lnTo>
                    <a:pt x="1136" y="217"/>
                  </a:lnTo>
                  <a:lnTo>
                    <a:pt x="1168" y="197"/>
                  </a:lnTo>
                  <a:lnTo>
                    <a:pt x="1199" y="177"/>
                  </a:lnTo>
                  <a:lnTo>
                    <a:pt x="1233" y="160"/>
                  </a:lnTo>
                  <a:lnTo>
                    <a:pt x="1265" y="142"/>
                  </a:lnTo>
                  <a:lnTo>
                    <a:pt x="1299" y="124"/>
                  </a:lnTo>
                  <a:lnTo>
                    <a:pt x="1367" y="95"/>
                  </a:lnTo>
                  <a:lnTo>
                    <a:pt x="1438" y="67"/>
                  </a:lnTo>
                  <a:lnTo>
                    <a:pt x="1510" y="45"/>
                  </a:lnTo>
                  <a:lnTo>
                    <a:pt x="1585" y="26"/>
                  </a:lnTo>
                  <a:lnTo>
                    <a:pt x="1662" y="12"/>
                  </a:lnTo>
                  <a:lnTo>
                    <a:pt x="1821" y="0"/>
                  </a:lnTo>
                  <a:lnTo>
                    <a:pt x="1911" y="26"/>
                  </a:lnTo>
                  <a:lnTo>
                    <a:pt x="1960" y="52"/>
                  </a:lnTo>
                  <a:lnTo>
                    <a:pt x="2012" y="85"/>
                  </a:lnTo>
                  <a:lnTo>
                    <a:pt x="2038" y="104"/>
                  </a:lnTo>
                  <a:lnTo>
                    <a:pt x="2066" y="123"/>
                  </a:lnTo>
                  <a:lnTo>
                    <a:pt x="2093" y="144"/>
                  </a:lnTo>
                  <a:lnTo>
                    <a:pt x="2119" y="163"/>
                  </a:lnTo>
                  <a:lnTo>
                    <a:pt x="2147" y="183"/>
                  </a:lnTo>
                  <a:lnTo>
                    <a:pt x="2175" y="203"/>
                  </a:lnTo>
                  <a:lnTo>
                    <a:pt x="2203" y="222"/>
                  </a:lnTo>
                  <a:lnTo>
                    <a:pt x="2231" y="239"/>
                  </a:lnTo>
                  <a:lnTo>
                    <a:pt x="2287" y="272"/>
                  </a:lnTo>
                  <a:lnTo>
                    <a:pt x="2344" y="297"/>
                  </a:lnTo>
                  <a:lnTo>
                    <a:pt x="2398" y="313"/>
                  </a:lnTo>
                  <a:lnTo>
                    <a:pt x="2451" y="318"/>
                  </a:lnTo>
                  <a:lnTo>
                    <a:pt x="2553" y="281"/>
                  </a:lnTo>
                  <a:lnTo>
                    <a:pt x="2600" y="236"/>
                  </a:lnTo>
                  <a:lnTo>
                    <a:pt x="2644" y="170"/>
                  </a:lnTo>
                  <a:lnTo>
                    <a:pt x="2644"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7" name=""/>
          <p:cNvGrpSpPr/>
          <p:nvPr/>
        </p:nvGrpSpPr>
        <p:grpSpPr>
          <a:xfrm>
            <a:off x="6927840" y="1719360"/>
            <a:ext cx="1531800" cy="1393560"/>
            <a:chOff x="6927840" y="1719360"/>
            <a:chExt cx="1531800" cy="1393560"/>
          </a:xfrm>
        </p:grpSpPr>
        <p:grpSp>
          <p:nvGrpSpPr>
            <p:cNvPr id="838" name=""/>
            <p:cNvGrpSpPr/>
            <p:nvPr/>
          </p:nvGrpSpPr>
          <p:grpSpPr>
            <a:xfrm>
              <a:off x="6927840" y="1719360"/>
              <a:ext cx="1531800" cy="1393560"/>
              <a:chOff x="6927840" y="1719360"/>
              <a:chExt cx="1531800" cy="1393560"/>
            </a:xfrm>
          </p:grpSpPr>
          <p:sp>
            <p:nvSpPr>
              <p:cNvPr id="839" name=""/>
              <p:cNvSpPr/>
              <p:nvPr/>
            </p:nvSpPr>
            <p:spPr>
              <a:xfrm>
                <a:off x="6927840" y="1719360"/>
                <a:ext cx="1531800" cy="139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948360" y="1736640"/>
                <a:ext cx="1494000" cy="1363680"/>
              </a:xfrm>
              <a:custGeom>
                <a:avLst/>
                <a:gdLst/>
                <a:ahLst/>
                <a:rect l="l" t="t" r="r" b="b"/>
                <a:pathLst>
                  <a:path w="2823" h="2579">
                    <a:moveTo>
                      <a:pt x="2789" y="2560"/>
                    </a:moveTo>
                    <a:lnTo>
                      <a:pt x="2703" y="2560"/>
                    </a:lnTo>
                    <a:lnTo>
                      <a:pt x="2617" y="2560"/>
                    </a:lnTo>
                    <a:lnTo>
                      <a:pt x="2531" y="2560"/>
                    </a:lnTo>
                    <a:lnTo>
                      <a:pt x="2444" y="2560"/>
                    </a:lnTo>
                    <a:lnTo>
                      <a:pt x="2359" y="2562"/>
                    </a:lnTo>
                    <a:lnTo>
                      <a:pt x="2272" y="2562"/>
                    </a:lnTo>
                    <a:lnTo>
                      <a:pt x="2186" y="2562"/>
                    </a:lnTo>
                    <a:lnTo>
                      <a:pt x="2100" y="2562"/>
                    </a:lnTo>
                    <a:lnTo>
                      <a:pt x="2013" y="2562"/>
                    </a:lnTo>
                    <a:lnTo>
                      <a:pt x="1928" y="2562"/>
                    </a:lnTo>
                    <a:lnTo>
                      <a:pt x="1841" y="2562"/>
                    </a:lnTo>
                    <a:lnTo>
                      <a:pt x="1754" y="2563"/>
                    </a:lnTo>
                    <a:lnTo>
                      <a:pt x="1667" y="2563"/>
                    </a:lnTo>
                    <a:lnTo>
                      <a:pt x="1582" y="2563"/>
                    </a:lnTo>
                    <a:lnTo>
                      <a:pt x="1495" y="2563"/>
                    </a:lnTo>
                    <a:lnTo>
                      <a:pt x="1409" y="2564"/>
                    </a:lnTo>
                    <a:lnTo>
                      <a:pt x="1322" y="2564"/>
                    </a:lnTo>
                    <a:lnTo>
                      <a:pt x="1236" y="2564"/>
                    </a:lnTo>
                    <a:lnTo>
                      <a:pt x="1150" y="2566"/>
                    </a:lnTo>
                    <a:lnTo>
                      <a:pt x="1063" y="2566"/>
                    </a:lnTo>
                    <a:lnTo>
                      <a:pt x="976" y="2567"/>
                    </a:lnTo>
                    <a:lnTo>
                      <a:pt x="889" y="2567"/>
                    </a:lnTo>
                    <a:lnTo>
                      <a:pt x="803" y="2569"/>
                    </a:lnTo>
                    <a:lnTo>
                      <a:pt x="716" y="2569"/>
                    </a:lnTo>
                    <a:lnTo>
                      <a:pt x="631" y="2570"/>
                    </a:lnTo>
                    <a:lnTo>
                      <a:pt x="544" y="2572"/>
                    </a:lnTo>
                    <a:lnTo>
                      <a:pt x="457" y="2573"/>
                    </a:lnTo>
                    <a:lnTo>
                      <a:pt x="369" y="2573"/>
                    </a:lnTo>
                    <a:lnTo>
                      <a:pt x="282" y="2575"/>
                    </a:lnTo>
                    <a:lnTo>
                      <a:pt x="195" y="2576"/>
                    </a:lnTo>
                    <a:lnTo>
                      <a:pt x="108" y="2577"/>
                    </a:lnTo>
                    <a:lnTo>
                      <a:pt x="22" y="2579"/>
                    </a:lnTo>
                    <a:lnTo>
                      <a:pt x="13" y="2573"/>
                    </a:lnTo>
                    <a:lnTo>
                      <a:pt x="10" y="2398"/>
                    </a:lnTo>
                    <a:lnTo>
                      <a:pt x="10" y="2223"/>
                    </a:lnTo>
                    <a:lnTo>
                      <a:pt x="10" y="2047"/>
                    </a:lnTo>
                    <a:lnTo>
                      <a:pt x="10" y="1871"/>
                    </a:lnTo>
                    <a:lnTo>
                      <a:pt x="4" y="1407"/>
                    </a:lnTo>
                    <a:lnTo>
                      <a:pt x="3" y="948"/>
                    </a:lnTo>
                    <a:lnTo>
                      <a:pt x="1" y="490"/>
                    </a:lnTo>
                    <a:lnTo>
                      <a:pt x="0" y="32"/>
                    </a:lnTo>
                    <a:lnTo>
                      <a:pt x="28" y="17"/>
                    </a:lnTo>
                    <a:lnTo>
                      <a:pt x="78" y="17"/>
                    </a:lnTo>
                    <a:lnTo>
                      <a:pt x="129" y="16"/>
                    </a:lnTo>
                    <a:lnTo>
                      <a:pt x="179" y="16"/>
                    </a:lnTo>
                    <a:lnTo>
                      <a:pt x="230" y="14"/>
                    </a:lnTo>
                    <a:lnTo>
                      <a:pt x="282" y="14"/>
                    </a:lnTo>
                    <a:lnTo>
                      <a:pt x="333" y="14"/>
                    </a:lnTo>
                    <a:lnTo>
                      <a:pt x="383" y="13"/>
                    </a:lnTo>
                    <a:lnTo>
                      <a:pt x="434" y="13"/>
                    </a:lnTo>
                    <a:lnTo>
                      <a:pt x="484" y="13"/>
                    </a:lnTo>
                    <a:lnTo>
                      <a:pt x="535" y="13"/>
                    </a:lnTo>
                    <a:lnTo>
                      <a:pt x="586" y="11"/>
                    </a:lnTo>
                    <a:lnTo>
                      <a:pt x="636" y="11"/>
                    </a:lnTo>
                    <a:lnTo>
                      <a:pt x="687" y="11"/>
                    </a:lnTo>
                    <a:lnTo>
                      <a:pt x="738" y="11"/>
                    </a:lnTo>
                    <a:lnTo>
                      <a:pt x="788" y="10"/>
                    </a:lnTo>
                    <a:lnTo>
                      <a:pt x="839" y="10"/>
                    </a:lnTo>
                    <a:lnTo>
                      <a:pt x="889" y="10"/>
                    </a:lnTo>
                    <a:lnTo>
                      <a:pt x="940" y="10"/>
                    </a:lnTo>
                    <a:lnTo>
                      <a:pt x="991" y="10"/>
                    </a:lnTo>
                    <a:lnTo>
                      <a:pt x="1041" y="10"/>
                    </a:lnTo>
                    <a:lnTo>
                      <a:pt x="1092" y="8"/>
                    </a:lnTo>
                    <a:lnTo>
                      <a:pt x="1142" y="8"/>
                    </a:lnTo>
                    <a:lnTo>
                      <a:pt x="1194" y="8"/>
                    </a:lnTo>
                    <a:lnTo>
                      <a:pt x="1245" y="8"/>
                    </a:lnTo>
                    <a:lnTo>
                      <a:pt x="1296" y="8"/>
                    </a:lnTo>
                    <a:lnTo>
                      <a:pt x="1346" y="7"/>
                    </a:lnTo>
                    <a:lnTo>
                      <a:pt x="1397" y="7"/>
                    </a:lnTo>
                    <a:lnTo>
                      <a:pt x="1448" y="7"/>
                    </a:lnTo>
                    <a:lnTo>
                      <a:pt x="1498" y="7"/>
                    </a:lnTo>
                    <a:lnTo>
                      <a:pt x="1550" y="7"/>
                    </a:lnTo>
                    <a:lnTo>
                      <a:pt x="1601" y="6"/>
                    </a:lnTo>
                    <a:lnTo>
                      <a:pt x="1651" y="6"/>
                    </a:lnTo>
                    <a:lnTo>
                      <a:pt x="1688" y="6"/>
                    </a:lnTo>
                    <a:lnTo>
                      <a:pt x="1725" y="6"/>
                    </a:lnTo>
                    <a:lnTo>
                      <a:pt x="1761" y="6"/>
                    </a:lnTo>
                    <a:lnTo>
                      <a:pt x="1797" y="6"/>
                    </a:lnTo>
                    <a:lnTo>
                      <a:pt x="1834" y="6"/>
                    </a:lnTo>
                    <a:lnTo>
                      <a:pt x="1871" y="6"/>
                    </a:lnTo>
                    <a:lnTo>
                      <a:pt x="1907" y="6"/>
                    </a:lnTo>
                    <a:lnTo>
                      <a:pt x="1944" y="6"/>
                    </a:lnTo>
                    <a:lnTo>
                      <a:pt x="1980" y="4"/>
                    </a:lnTo>
                    <a:lnTo>
                      <a:pt x="2016" y="4"/>
                    </a:lnTo>
                    <a:lnTo>
                      <a:pt x="2052" y="4"/>
                    </a:lnTo>
                    <a:lnTo>
                      <a:pt x="2088" y="4"/>
                    </a:lnTo>
                    <a:lnTo>
                      <a:pt x="2124" y="3"/>
                    </a:lnTo>
                    <a:lnTo>
                      <a:pt x="2160" y="3"/>
                    </a:lnTo>
                    <a:lnTo>
                      <a:pt x="2195" y="3"/>
                    </a:lnTo>
                    <a:lnTo>
                      <a:pt x="2231" y="3"/>
                    </a:lnTo>
                    <a:lnTo>
                      <a:pt x="2267" y="1"/>
                    </a:lnTo>
                    <a:lnTo>
                      <a:pt x="2304" y="1"/>
                    </a:lnTo>
                    <a:lnTo>
                      <a:pt x="2338" y="1"/>
                    </a:lnTo>
                    <a:lnTo>
                      <a:pt x="2374" y="1"/>
                    </a:lnTo>
                    <a:lnTo>
                      <a:pt x="2411" y="1"/>
                    </a:lnTo>
                    <a:lnTo>
                      <a:pt x="2445" y="1"/>
                    </a:lnTo>
                    <a:lnTo>
                      <a:pt x="2481" y="0"/>
                    </a:lnTo>
                    <a:lnTo>
                      <a:pt x="2516" y="0"/>
                    </a:lnTo>
                    <a:lnTo>
                      <a:pt x="2552" y="1"/>
                    </a:lnTo>
                    <a:lnTo>
                      <a:pt x="2587" y="1"/>
                    </a:lnTo>
                    <a:lnTo>
                      <a:pt x="2623" y="1"/>
                    </a:lnTo>
                    <a:lnTo>
                      <a:pt x="2658" y="1"/>
                    </a:lnTo>
                    <a:lnTo>
                      <a:pt x="2694" y="1"/>
                    </a:lnTo>
                    <a:lnTo>
                      <a:pt x="2729" y="3"/>
                    </a:lnTo>
                    <a:lnTo>
                      <a:pt x="2765" y="3"/>
                    </a:lnTo>
                    <a:lnTo>
                      <a:pt x="2800" y="4"/>
                    </a:lnTo>
                    <a:lnTo>
                      <a:pt x="2811" y="24"/>
                    </a:lnTo>
                    <a:lnTo>
                      <a:pt x="2813" y="605"/>
                    </a:lnTo>
                    <a:lnTo>
                      <a:pt x="2817" y="1187"/>
                    </a:lnTo>
                    <a:lnTo>
                      <a:pt x="2820" y="1770"/>
                    </a:lnTo>
                    <a:lnTo>
                      <a:pt x="2821" y="2351"/>
                    </a:lnTo>
                    <a:lnTo>
                      <a:pt x="2821" y="2405"/>
                    </a:lnTo>
                    <a:lnTo>
                      <a:pt x="2823" y="2459"/>
                    </a:lnTo>
                    <a:lnTo>
                      <a:pt x="2821" y="2510"/>
                    </a:lnTo>
                    <a:lnTo>
                      <a:pt x="2816" y="2556"/>
                    </a:lnTo>
                    <a:lnTo>
                      <a:pt x="2789" y="2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7615080" y="2595600"/>
                <a:ext cx="812880" cy="484200"/>
              </a:xfrm>
              <a:custGeom>
                <a:avLst/>
                <a:gdLst/>
                <a:ahLst/>
                <a:rect l="l" t="t" r="r" b="b"/>
                <a:pathLst>
                  <a:path w="1534" h="916">
                    <a:moveTo>
                      <a:pt x="1394" y="909"/>
                    </a:moveTo>
                    <a:lnTo>
                      <a:pt x="1351" y="909"/>
                    </a:lnTo>
                    <a:lnTo>
                      <a:pt x="1307" y="909"/>
                    </a:lnTo>
                    <a:lnTo>
                      <a:pt x="1264" y="909"/>
                    </a:lnTo>
                    <a:lnTo>
                      <a:pt x="1222" y="910"/>
                    </a:lnTo>
                    <a:lnTo>
                      <a:pt x="1179" y="910"/>
                    </a:lnTo>
                    <a:lnTo>
                      <a:pt x="1135" y="910"/>
                    </a:lnTo>
                    <a:lnTo>
                      <a:pt x="1092" y="910"/>
                    </a:lnTo>
                    <a:lnTo>
                      <a:pt x="1048" y="910"/>
                    </a:lnTo>
                    <a:lnTo>
                      <a:pt x="1005" y="912"/>
                    </a:lnTo>
                    <a:lnTo>
                      <a:pt x="962" y="912"/>
                    </a:lnTo>
                    <a:lnTo>
                      <a:pt x="918" y="912"/>
                    </a:lnTo>
                    <a:lnTo>
                      <a:pt x="875" y="913"/>
                    </a:lnTo>
                    <a:lnTo>
                      <a:pt x="831" y="913"/>
                    </a:lnTo>
                    <a:lnTo>
                      <a:pt x="787" y="913"/>
                    </a:lnTo>
                    <a:lnTo>
                      <a:pt x="743" y="913"/>
                    </a:lnTo>
                    <a:lnTo>
                      <a:pt x="700" y="914"/>
                    </a:lnTo>
                    <a:lnTo>
                      <a:pt x="657" y="914"/>
                    </a:lnTo>
                    <a:lnTo>
                      <a:pt x="613" y="914"/>
                    </a:lnTo>
                    <a:lnTo>
                      <a:pt x="570" y="914"/>
                    </a:lnTo>
                    <a:lnTo>
                      <a:pt x="526" y="916"/>
                    </a:lnTo>
                    <a:lnTo>
                      <a:pt x="482" y="916"/>
                    </a:lnTo>
                    <a:lnTo>
                      <a:pt x="438" y="916"/>
                    </a:lnTo>
                    <a:lnTo>
                      <a:pt x="395" y="916"/>
                    </a:lnTo>
                    <a:lnTo>
                      <a:pt x="351" y="916"/>
                    </a:lnTo>
                    <a:lnTo>
                      <a:pt x="307" y="916"/>
                    </a:lnTo>
                    <a:lnTo>
                      <a:pt x="263" y="916"/>
                    </a:lnTo>
                    <a:lnTo>
                      <a:pt x="220" y="916"/>
                    </a:lnTo>
                    <a:lnTo>
                      <a:pt x="175" y="916"/>
                    </a:lnTo>
                    <a:lnTo>
                      <a:pt x="132" y="916"/>
                    </a:lnTo>
                    <a:lnTo>
                      <a:pt x="88" y="916"/>
                    </a:lnTo>
                    <a:lnTo>
                      <a:pt x="43" y="916"/>
                    </a:lnTo>
                    <a:lnTo>
                      <a:pt x="0" y="916"/>
                    </a:lnTo>
                    <a:lnTo>
                      <a:pt x="0" y="901"/>
                    </a:lnTo>
                    <a:lnTo>
                      <a:pt x="14" y="888"/>
                    </a:lnTo>
                    <a:lnTo>
                      <a:pt x="29" y="875"/>
                    </a:lnTo>
                    <a:lnTo>
                      <a:pt x="42" y="862"/>
                    </a:lnTo>
                    <a:lnTo>
                      <a:pt x="58" y="848"/>
                    </a:lnTo>
                    <a:lnTo>
                      <a:pt x="72" y="834"/>
                    </a:lnTo>
                    <a:lnTo>
                      <a:pt x="87" y="821"/>
                    </a:lnTo>
                    <a:lnTo>
                      <a:pt x="103" y="808"/>
                    </a:lnTo>
                    <a:lnTo>
                      <a:pt x="119" y="795"/>
                    </a:lnTo>
                    <a:lnTo>
                      <a:pt x="168" y="767"/>
                    </a:lnTo>
                    <a:lnTo>
                      <a:pt x="214" y="737"/>
                    </a:lnTo>
                    <a:lnTo>
                      <a:pt x="257" y="702"/>
                    </a:lnTo>
                    <a:lnTo>
                      <a:pt x="296" y="666"/>
                    </a:lnTo>
                    <a:lnTo>
                      <a:pt x="334" y="627"/>
                    </a:lnTo>
                    <a:lnTo>
                      <a:pt x="369" y="586"/>
                    </a:lnTo>
                    <a:lnTo>
                      <a:pt x="402" y="543"/>
                    </a:lnTo>
                    <a:lnTo>
                      <a:pt x="434" y="498"/>
                    </a:lnTo>
                    <a:lnTo>
                      <a:pt x="464" y="454"/>
                    </a:lnTo>
                    <a:lnTo>
                      <a:pt x="493" y="407"/>
                    </a:lnTo>
                    <a:lnTo>
                      <a:pt x="522" y="361"/>
                    </a:lnTo>
                    <a:lnTo>
                      <a:pt x="550" y="315"/>
                    </a:lnTo>
                    <a:lnTo>
                      <a:pt x="578" y="269"/>
                    </a:lnTo>
                    <a:lnTo>
                      <a:pt x="607" y="222"/>
                    </a:lnTo>
                    <a:lnTo>
                      <a:pt x="638" y="178"/>
                    </a:lnTo>
                    <a:lnTo>
                      <a:pt x="668" y="134"/>
                    </a:lnTo>
                    <a:lnTo>
                      <a:pt x="678" y="118"/>
                    </a:lnTo>
                    <a:lnTo>
                      <a:pt x="688" y="104"/>
                    </a:lnTo>
                    <a:lnTo>
                      <a:pt x="698" y="88"/>
                    </a:lnTo>
                    <a:lnTo>
                      <a:pt x="709" y="71"/>
                    </a:lnTo>
                    <a:lnTo>
                      <a:pt x="719" y="55"/>
                    </a:lnTo>
                    <a:lnTo>
                      <a:pt x="730" y="37"/>
                    </a:lnTo>
                    <a:lnTo>
                      <a:pt x="742" y="20"/>
                    </a:lnTo>
                    <a:lnTo>
                      <a:pt x="755" y="1"/>
                    </a:lnTo>
                    <a:lnTo>
                      <a:pt x="766" y="0"/>
                    </a:lnTo>
                    <a:lnTo>
                      <a:pt x="792" y="11"/>
                    </a:lnTo>
                    <a:lnTo>
                      <a:pt x="817" y="24"/>
                    </a:lnTo>
                    <a:lnTo>
                      <a:pt x="840" y="37"/>
                    </a:lnTo>
                    <a:lnTo>
                      <a:pt x="862" y="52"/>
                    </a:lnTo>
                    <a:lnTo>
                      <a:pt x="884" y="66"/>
                    </a:lnTo>
                    <a:lnTo>
                      <a:pt x="907" y="82"/>
                    </a:lnTo>
                    <a:lnTo>
                      <a:pt x="930" y="97"/>
                    </a:lnTo>
                    <a:lnTo>
                      <a:pt x="956" y="110"/>
                    </a:lnTo>
                    <a:lnTo>
                      <a:pt x="989" y="137"/>
                    </a:lnTo>
                    <a:lnTo>
                      <a:pt x="1024" y="163"/>
                    </a:lnTo>
                    <a:lnTo>
                      <a:pt x="1059" y="188"/>
                    </a:lnTo>
                    <a:lnTo>
                      <a:pt x="1095" y="211"/>
                    </a:lnTo>
                    <a:lnTo>
                      <a:pt x="1131" y="234"/>
                    </a:lnTo>
                    <a:lnTo>
                      <a:pt x="1167" y="256"/>
                    </a:lnTo>
                    <a:lnTo>
                      <a:pt x="1205" y="277"/>
                    </a:lnTo>
                    <a:lnTo>
                      <a:pt x="1241" y="297"/>
                    </a:lnTo>
                    <a:lnTo>
                      <a:pt x="1278" y="319"/>
                    </a:lnTo>
                    <a:lnTo>
                      <a:pt x="1316" y="339"/>
                    </a:lnTo>
                    <a:lnTo>
                      <a:pt x="1352" y="361"/>
                    </a:lnTo>
                    <a:lnTo>
                      <a:pt x="1390" y="383"/>
                    </a:lnTo>
                    <a:lnTo>
                      <a:pt x="1426" y="404"/>
                    </a:lnTo>
                    <a:lnTo>
                      <a:pt x="1463" y="428"/>
                    </a:lnTo>
                    <a:lnTo>
                      <a:pt x="1498" y="452"/>
                    </a:lnTo>
                    <a:lnTo>
                      <a:pt x="1534" y="477"/>
                    </a:lnTo>
                    <a:lnTo>
                      <a:pt x="1534" y="553"/>
                    </a:lnTo>
                    <a:lnTo>
                      <a:pt x="1534" y="628"/>
                    </a:lnTo>
                    <a:lnTo>
                      <a:pt x="1534" y="705"/>
                    </a:lnTo>
                    <a:lnTo>
                      <a:pt x="1534" y="781"/>
                    </a:lnTo>
                    <a:lnTo>
                      <a:pt x="1533" y="815"/>
                    </a:lnTo>
                    <a:lnTo>
                      <a:pt x="1533" y="844"/>
                    </a:lnTo>
                    <a:lnTo>
                      <a:pt x="1531" y="868"/>
                    </a:lnTo>
                    <a:lnTo>
                      <a:pt x="1531" y="894"/>
                    </a:lnTo>
                    <a:lnTo>
                      <a:pt x="1505" y="909"/>
                    </a:lnTo>
                    <a:lnTo>
                      <a:pt x="1492" y="909"/>
                    </a:lnTo>
                    <a:lnTo>
                      <a:pt x="1479" y="909"/>
                    </a:lnTo>
                    <a:lnTo>
                      <a:pt x="1466" y="907"/>
                    </a:lnTo>
                    <a:lnTo>
                      <a:pt x="1455" y="907"/>
                    </a:lnTo>
                    <a:lnTo>
                      <a:pt x="1442" y="907"/>
                    </a:lnTo>
                    <a:lnTo>
                      <a:pt x="1429" y="907"/>
                    </a:lnTo>
                    <a:lnTo>
                      <a:pt x="1416" y="906"/>
                    </a:lnTo>
                    <a:lnTo>
                      <a:pt x="1401" y="904"/>
                    </a:lnTo>
                    <a:lnTo>
                      <a:pt x="1394" y="90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170840" y="2287440"/>
                <a:ext cx="901440" cy="795600"/>
              </a:xfrm>
              <a:custGeom>
                <a:avLst/>
                <a:gdLst/>
                <a:ahLst/>
                <a:rect l="l" t="t" r="r" b="b"/>
                <a:pathLst>
                  <a:path w="1705" h="1504">
                    <a:moveTo>
                      <a:pt x="356" y="1504"/>
                    </a:moveTo>
                    <a:lnTo>
                      <a:pt x="334" y="1502"/>
                    </a:lnTo>
                    <a:lnTo>
                      <a:pt x="313" y="1502"/>
                    </a:lnTo>
                    <a:lnTo>
                      <a:pt x="290" y="1502"/>
                    </a:lnTo>
                    <a:lnTo>
                      <a:pt x="268" y="1502"/>
                    </a:lnTo>
                    <a:lnTo>
                      <a:pt x="246" y="1502"/>
                    </a:lnTo>
                    <a:lnTo>
                      <a:pt x="223" y="1502"/>
                    </a:lnTo>
                    <a:lnTo>
                      <a:pt x="201" y="1502"/>
                    </a:lnTo>
                    <a:lnTo>
                      <a:pt x="178" y="1502"/>
                    </a:lnTo>
                    <a:lnTo>
                      <a:pt x="157" y="1502"/>
                    </a:lnTo>
                    <a:lnTo>
                      <a:pt x="135" y="1502"/>
                    </a:lnTo>
                    <a:lnTo>
                      <a:pt x="112" y="1502"/>
                    </a:lnTo>
                    <a:lnTo>
                      <a:pt x="90" y="1502"/>
                    </a:lnTo>
                    <a:lnTo>
                      <a:pt x="67" y="1502"/>
                    </a:lnTo>
                    <a:lnTo>
                      <a:pt x="45" y="1502"/>
                    </a:lnTo>
                    <a:lnTo>
                      <a:pt x="22" y="1502"/>
                    </a:lnTo>
                    <a:lnTo>
                      <a:pt x="0" y="1501"/>
                    </a:lnTo>
                    <a:lnTo>
                      <a:pt x="25" y="1488"/>
                    </a:lnTo>
                    <a:lnTo>
                      <a:pt x="51" y="1475"/>
                    </a:lnTo>
                    <a:lnTo>
                      <a:pt x="76" y="1460"/>
                    </a:lnTo>
                    <a:lnTo>
                      <a:pt x="100" y="1446"/>
                    </a:lnTo>
                    <a:lnTo>
                      <a:pt x="123" y="1431"/>
                    </a:lnTo>
                    <a:lnTo>
                      <a:pt x="148" y="1417"/>
                    </a:lnTo>
                    <a:lnTo>
                      <a:pt x="171" y="1401"/>
                    </a:lnTo>
                    <a:lnTo>
                      <a:pt x="194" y="1385"/>
                    </a:lnTo>
                    <a:lnTo>
                      <a:pt x="217" y="1368"/>
                    </a:lnTo>
                    <a:lnTo>
                      <a:pt x="240" y="1350"/>
                    </a:lnTo>
                    <a:lnTo>
                      <a:pt x="262" y="1333"/>
                    </a:lnTo>
                    <a:lnTo>
                      <a:pt x="285" y="1314"/>
                    </a:lnTo>
                    <a:lnTo>
                      <a:pt x="307" y="1294"/>
                    </a:lnTo>
                    <a:lnTo>
                      <a:pt x="327" y="1274"/>
                    </a:lnTo>
                    <a:lnTo>
                      <a:pt x="349" y="1254"/>
                    </a:lnTo>
                    <a:lnTo>
                      <a:pt x="369" y="1232"/>
                    </a:lnTo>
                    <a:lnTo>
                      <a:pt x="379" y="1225"/>
                    </a:lnTo>
                    <a:lnTo>
                      <a:pt x="391" y="1218"/>
                    </a:lnTo>
                    <a:lnTo>
                      <a:pt x="401" y="1209"/>
                    </a:lnTo>
                    <a:lnTo>
                      <a:pt x="413" y="1199"/>
                    </a:lnTo>
                    <a:lnTo>
                      <a:pt x="423" y="1187"/>
                    </a:lnTo>
                    <a:lnTo>
                      <a:pt x="433" y="1177"/>
                    </a:lnTo>
                    <a:lnTo>
                      <a:pt x="444" y="1166"/>
                    </a:lnTo>
                    <a:lnTo>
                      <a:pt x="454" y="1154"/>
                    </a:lnTo>
                    <a:lnTo>
                      <a:pt x="469" y="1134"/>
                    </a:lnTo>
                    <a:lnTo>
                      <a:pt x="480" y="1114"/>
                    </a:lnTo>
                    <a:lnTo>
                      <a:pt x="492" y="1092"/>
                    </a:lnTo>
                    <a:lnTo>
                      <a:pt x="502" y="1067"/>
                    </a:lnTo>
                    <a:lnTo>
                      <a:pt x="512" y="1044"/>
                    </a:lnTo>
                    <a:lnTo>
                      <a:pt x="522" y="1020"/>
                    </a:lnTo>
                    <a:lnTo>
                      <a:pt x="534" y="995"/>
                    </a:lnTo>
                    <a:lnTo>
                      <a:pt x="546" y="969"/>
                    </a:lnTo>
                    <a:lnTo>
                      <a:pt x="564" y="892"/>
                    </a:lnTo>
                    <a:lnTo>
                      <a:pt x="589" y="819"/>
                    </a:lnTo>
                    <a:lnTo>
                      <a:pt x="618" y="749"/>
                    </a:lnTo>
                    <a:lnTo>
                      <a:pt x="651" y="684"/>
                    </a:lnTo>
                    <a:lnTo>
                      <a:pt x="687" y="621"/>
                    </a:lnTo>
                    <a:lnTo>
                      <a:pt x="728" y="562"/>
                    </a:lnTo>
                    <a:lnTo>
                      <a:pt x="771" y="502"/>
                    </a:lnTo>
                    <a:lnTo>
                      <a:pt x="819" y="447"/>
                    </a:lnTo>
                    <a:lnTo>
                      <a:pt x="868" y="393"/>
                    </a:lnTo>
                    <a:lnTo>
                      <a:pt x="919" y="339"/>
                    </a:lnTo>
                    <a:lnTo>
                      <a:pt x="972" y="287"/>
                    </a:lnTo>
                    <a:lnTo>
                      <a:pt x="1027" y="235"/>
                    </a:lnTo>
                    <a:lnTo>
                      <a:pt x="1083" y="184"/>
                    </a:lnTo>
                    <a:lnTo>
                      <a:pt x="1140" y="132"/>
                    </a:lnTo>
                    <a:lnTo>
                      <a:pt x="1198" y="80"/>
                    </a:lnTo>
                    <a:lnTo>
                      <a:pt x="1256" y="27"/>
                    </a:lnTo>
                    <a:lnTo>
                      <a:pt x="1261" y="24"/>
                    </a:lnTo>
                    <a:lnTo>
                      <a:pt x="1269" y="21"/>
                    </a:lnTo>
                    <a:lnTo>
                      <a:pt x="1274" y="18"/>
                    </a:lnTo>
                    <a:lnTo>
                      <a:pt x="1282" y="15"/>
                    </a:lnTo>
                    <a:lnTo>
                      <a:pt x="1287" y="11"/>
                    </a:lnTo>
                    <a:lnTo>
                      <a:pt x="1295" y="8"/>
                    </a:lnTo>
                    <a:lnTo>
                      <a:pt x="1302" y="4"/>
                    </a:lnTo>
                    <a:lnTo>
                      <a:pt x="1309" y="0"/>
                    </a:lnTo>
                    <a:lnTo>
                      <a:pt x="1316" y="2"/>
                    </a:lnTo>
                    <a:lnTo>
                      <a:pt x="1322" y="4"/>
                    </a:lnTo>
                    <a:lnTo>
                      <a:pt x="1328" y="4"/>
                    </a:lnTo>
                    <a:lnTo>
                      <a:pt x="1335" y="5"/>
                    </a:lnTo>
                    <a:lnTo>
                      <a:pt x="1341" y="7"/>
                    </a:lnTo>
                    <a:lnTo>
                      <a:pt x="1348" y="8"/>
                    </a:lnTo>
                    <a:lnTo>
                      <a:pt x="1355" y="10"/>
                    </a:lnTo>
                    <a:lnTo>
                      <a:pt x="1363" y="14"/>
                    </a:lnTo>
                    <a:lnTo>
                      <a:pt x="1367" y="20"/>
                    </a:lnTo>
                    <a:lnTo>
                      <a:pt x="1368" y="30"/>
                    </a:lnTo>
                    <a:lnTo>
                      <a:pt x="1368" y="41"/>
                    </a:lnTo>
                    <a:lnTo>
                      <a:pt x="1370" y="54"/>
                    </a:lnTo>
                    <a:lnTo>
                      <a:pt x="1342" y="33"/>
                    </a:lnTo>
                    <a:lnTo>
                      <a:pt x="1328" y="44"/>
                    </a:lnTo>
                    <a:lnTo>
                      <a:pt x="1334" y="50"/>
                    </a:lnTo>
                    <a:lnTo>
                      <a:pt x="1338" y="56"/>
                    </a:lnTo>
                    <a:lnTo>
                      <a:pt x="1344" y="65"/>
                    </a:lnTo>
                    <a:lnTo>
                      <a:pt x="1351" y="72"/>
                    </a:lnTo>
                    <a:lnTo>
                      <a:pt x="1355" y="85"/>
                    </a:lnTo>
                    <a:lnTo>
                      <a:pt x="1344" y="86"/>
                    </a:lnTo>
                    <a:lnTo>
                      <a:pt x="1331" y="67"/>
                    </a:lnTo>
                    <a:lnTo>
                      <a:pt x="1322" y="65"/>
                    </a:lnTo>
                    <a:lnTo>
                      <a:pt x="1315" y="63"/>
                    </a:lnTo>
                    <a:lnTo>
                      <a:pt x="1306" y="66"/>
                    </a:lnTo>
                    <a:lnTo>
                      <a:pt x="1299" y="73"/>
                    </a:lnTo>
                    <a:lnTo>
                      <a:pt x="1302" y="82"/>
                    </a:lnTo>
                    <a:lnTo>
                      <a:pt x="1308" y="86"/>
                    </a:lnTo>
                    <a:lnTo>
                      <a:pt x="1316" y="91"/>
                    </a:lnTo>
                    <a:lnTo>
                      <a:pt x="1325" y="98"/>
                    </a:lnTo>
                    <a:lnTo>
                      <a:pt x="1328" y="115"/>
                    </a:lnTo>
                    <a:lnTo>
                      <a:pt x="1321" y="119"/>
                    </a:lnTo>
                    <a:lnTo>
                      <a:pt x="1311" y="111"/>
                    </a:lnTo>
                    <a:lnTo>
                      <a:pt x="1302" y="102"/>
                    </a:lnTo>
                    <a:lnTo>
                      <a:pt x="1293" y="95"/>
                    </a:lnTo>
                    <a:lnTo>
                      <a:pt x="1283" y="85"/>
                    </a:lnTo>
                    <a:lnTo>
                      <a:pt x="1264" y="102"/>
                    </a:lnTo>
                    <a:lnTo>
                      <a:pt x="1273" y="111"/>
                    </a:lnTo>
                    <a:lnTo>
                      <a:pt x="1279" y="117"/>
                    </a:lnTo>
                    <a:lnTo>
                      <a:pt x="1284" y="124"/>
                    </a:lnTo>
                    <a:lnTo>
                      <a:pt x="1293" y="131"/>
                    </a:lnTo>
                    <a:lnTo>
                      <a:pt x="1292" y="143"/>
                    </a:lnTo>
                    <a:lnTo>
                      <a:pt x="1282" y="141"/>
                    </a:lnTo>
                    <a:lnTo>
                      <a:pt x="1274" y="135"/>
                    </a:lnTo>
                    <a:lnTo>
                      <a:pt x="1269" y="128"/>
                    </a:lnTo>
                    <a:lnTo>
                      <a:pt x="1263" y="121"/>
                    </a:lnTo>
                    <a:lnTo>
                      <a:pt x="1241" y="121"/>
                    </a:lnTo>
                    <a:lnTo>
                      <a:pt x="1238" y="131"/>
                    </a:lnTo>
                    <a:lnTo>
                      <a:pt x="1244" y="138"/>
                    </a:lnTo>
                    <a:lnTo>
                      <a:pt x="1250" y="147"/>
                    </a:lnTo>
                    <a:lnTo>
                      <a:pt x="1258" y="157"/>
                    </a:lnTo>
                    <a:lnTo>
                      <a:pt x="1267" y="169"/>
                    </a:lnTo>
                    <a:lnTo>
                      <a:pt x="1256" y="170"/>
                    </a:lnTo>
                    <a:lnTo>
                      <a:pt x="1248" y="163"/>
                    </a:lnTo>
                    <a:lnTo>
                      <a:pt x="1240" y="154"/>
                    </a:lnTo>
                    <a:lnTo>
                      <a:pt x="1230" y="150"/>
                    </a:lnTo>
                    <a:lnTo>
                      <a:pt x="1214" y="161"/>
                    </a:lnTo>
                    <a:lnTo>
                      <a:pt x="1219" y="171"/>
                    </a:lnTo>
                    <a:lnTo>
                      <a:pt x="1227" y="180"/>
                    </a:lnTo>
                    <a:lnTo>
                      <a:pt x="1234" y="190"/>
                    </a:lnTo>
                    <a:lnTo>
                      <a:pt x="1241" y="203"/>
                    </a:lnTo>
                    <a:lnTo>
                      <a:pt x="1231" y="208"/>
                    </a:lnTo>
                    <a:lnTo>
                      <a:pt x="1224" y="200"/>
                    </a:lnTo>
                    <a:lnTo>
                      <a:pt x="1218" y="196"/>
                    </a:lnTo>
                    <a:lnTo>
                      <a:pt x="1211" y="190"/>
                    </a:lnTo>
                    <a:lnTo>
                      <a:pt x="1199" y="186"/>
                    </a:lnTo>
                    <a:lnTo>
                      <a:pt x="1179" y="197"/>
                    </a:lnTo>
                    <a:lnTo>
                      <a:pt x="1182" y="208"/>
                    </a:lnTo>
                    <a:lnTo>
                      <a:pt x="1189" y="210"/>
                    </a:lnTo>
                    <a:lnTo>
                      <a:pt x="1196" y="218"/>
                    </a:lnTo>
                    <a:lnTo>
                      <a:pt x="1205" y="226"/>
                    </a:lnTo>
                    <a:lnTo>
                      <a:pt x="1215" y="229"/>
                    </a:lnTo>
                    <a:lnTo>
                      <a:pt x="1206" y="244"/>
                    </a:lnTo>
                    <a:lnTo>
                      <a:pt x="1196" y="241"/>
                    </a:lnTo>
                    <a:lnTo>
                      <a:pt x="1189" y="234"/>
                    </a:lnTo>
                    <a:lnTo>
                      <a:pt x="1180" y="226"/>
                    </a:lnTo>
                    <a:lnTo>
                      <a:pt x="1167" y="222"/>
                    </a:lnTo>
                    <a:lnTo>
                      <a:pt x="1147" y="236"/>
                    </a:lnTo>
                    <a:lnTo>
                      <a:pt x="1156" y="242"/>
                    </a:lnTo>
                    <a:lnTo>
                      <a:pt x="1163" y="250"/>
                    </a:lnTo>
                    <a:lnTo>
                      <a:pt x="1170" y="258"/>
                    </a:lnTo>
                    <a:lnTo>
                      <a:pt x="1180" y="264"/>
                    </a:lnTo>
                    <a:lnTo>
                      <a:pt x="1176" y="273"/>
                    </a:lnTo>
                    <a:lnTo>
                      <a:pt x="1166" y="273"/>
                    </a:lnTo>
                    <a:lnTo>
                      <a:pt x="1162" y="265"/>
                    </a:lnTo>
                    <a:lnTo>
                      <a:pt x="1154" y="260"/>
                    </a:lnTo>
                    <a:lnTo>
                      <a:pt x="1146" y="254"/>
                    </a:lnTo>
                    <a:lnTo>
                      <a:pt x="1137" y="247"/>
                    </a:lnTo>
                    <a:lnTo>
                      <a:pt x="1120" y="263"/>
                    </a:lnTo>
                    <a:lnTo>
                      <a:pt x="1125" y="270"/>
                    </a:lnTo>
                    <a:lnTo>
                      <a:pt x="1133" y="278"/>
                    </a:lnTo>
                    <a:lnTo>
                      <a:pt x="1141" y="287"/>
                    </a:lnTo>
                    <a:lnTo>
                      <a:pt x="1149" y="299"/>
                    </a:lnTo>
                    <a:lnTo>
                      <a:pt x="1140" y="299"/>
                    </a:lnTo>
                    <a:lnTo>
                      <a:pt x="1136" y="291"/>
                    </a:lnTo>
                    <a:lnTo>
                      <a:pt x="1127" y="286"/>
                    </a:lnTo>
                    <a:lnTo>
                      <a:pt x="1118" y="278"/>
                    </a:lnTo>
                    <a:lnTo>
                      <a:pt x="1110" y="268"/>
                    </a:lnTo>
                    <a:lnTo>
                      <a:pt x="1099" y="268"/>
                    </a:lnTo>
                    <a:lnTo>
                      <a:pt x="1095" y="289"/>
                    </a:lnTo>
                    <a:lnTo>
                      <a:pt x="1101" y="297"/>
                    </a:lnTo>
                    <a:lnTo>
                      <a:pt x="1107" y="304"/>
                    </a:lnTo>
                    <a:lnTo>
                      <a:pt x="1112" y="312"/>
                    </a:lnTo>
                    <a:lnTo>
                      <a:pt x="1118" y="322"/>
                    </a:lnTo>
                    <a:lnTo>
                      <a:pt x="1114" y="329"/>
                    </a:lnTo>
                    <a:lnTo>
                      <a:pt x="1105" y="323"/>
                    </a:lnTo>
                    <a:lnTo>
                      <a:pt x="1099" y="313"/>
                    </a:lnTo>
                    <a:lnTo>
                      <a:pt x="1091" y="303"/>
                    </a:lnTo>
                    <a:lnTo>
                      <a:pt x="1081" y="297"/>
                    </a:lnTo>
                    <a:lnTo>
                      <a:pt x="1062" y="309"/>
                    </a:lnTo>
                    <a:lnTo>
                      <a:pt x="1068" y="320"/>
                    </a:lnTo>
                    <a:lnTo>
                      <a:pt x="1073" y="329"/>
                    </a:lnTo>
                    <a:lnTo>
                      <a:pt x="1081" y="338"/>
                    </a:lnTo>
                    <a:lnTo>
                      <a:pt x="1088" y="349"/>
                    </a:lnTo>
                    <a:lnTo>
                      <a:pt x="1079" y="349"/>
                    </a:lnTo>
                    <a:lnTo>
                      <a:pt x="1070" y="345"/>
                    </a:lnTo>
                    <a:lnTo>
                      <a:pt x="1063" y="338"/>
                    </a:lnTo>
                    <a:lnTo>
                      <a:pt x="1053" y="332"/>
                    </a:lnTo>
                    <a:lnTo>
                      <a:pt x="1033" y="338"/>
                    </a:lnTo>
                    <a:lnTo>
                      <a:pt x="1036" y="348"/>
                    </a:lnTo>
                    <a:lnTo>
                      <a:pt x="1044" y="355"/>
                    </a:lnTo>
                    <a:lnTo>
                      <a:pt x="1052" y="364"/>
                    </a:lnTo>
                    <a:lnTo>
                      <a:pt x="1053" y="378"/>
                    </a:lnTo>
                    <a:lnTo>
                      <a:pt x="1043" y="375"/>
                    </a:lnTo>
                    <a:lnTo>
                      <a:pt x="1034" y="368"/>
                    </a:lnTo>
                    <a:lnTo>
                      <a:pt x="1027" y="359"/>
                    </a:lnTo>
                    <a:lnTo>
                      <a:pt x="1016" y="356"/>
                    </a:lnTo>
                    <a:lnTo>
                      <a:pt x="997" y="371"/>
                    </a:lnTo>
                    <a:lnTo>
                      <a:pt x="1001" y="378"/>
                    </a:lnTo>
                    <a:lnTo>
                      <a:pt x="1010" y="384"/>
                    </a:lnTo>
                    <a:lnTo>
                      <a:pt x="1017" y="393"/>
                    </a:lnTo>
                    <a:lnTo>
                      <a:pt x="1017" y="403"/>
                    </a:lnTo>
                    <a:lnTo>
                      <a:pt x="1004" y="410"/>
                    </a:lnTo>
                    <a:lnTo>
                      <a:pt x="976" y="419"/>
                    </a:lnTo>
                    <a:lnTo>
                      <a:pt x="976" y="430"/>
                    </a:lnTo>
                    <a:lnTo>
                      <a:pt x="987" y="442"/>
                    </a:lnTo>
                    <a:lnTo>
                      <a:pt x="998" y="442"/>
                    </a:lnTo>
                    <a:lnTo>
                      <a:pt x="1010" y="437"/>
                    </a:lnTo>
                    <a:lnTo>
                      <a:pt x="1021" y="433"/>
                    </a:lnTo>
                    <a:lnTo>
                      <a:pt x="1031" y="427"/>
                    </a:lnTo>
                    <a:lnTo>
                      <a:pt x="1040" y="420"/>
                    </a:lnTo>
                    <a:lnTo>
                      <a:pt x="1049" y="413"/>
                    </a:lnTo>
                    <a:lnTo>
                      <a:pt x="1059" y="407"/>
                    </a:lnTo>
                    <a:lnTo>
                      <a:pt x="1070" y="400"/>
                    </a:lnTo>
                    <a:lnTo>
                      <a:pt x="1082" y="394"/>
                    </a:lnTo>
                    <a:lnTo>
                      <a:pt x="1107" y="377"/>
                    </a:lnTo>
                    <a:lnTo>
                      <a:pt x="1130" y="356"/>
                    </a:lnTo>
                    <a:lnTo>
                      <a:pt x="1151" y="338"/>
                    </a:lnTo>
                    <a:lnTo>
                      <a:pt x="1173" y="316"/>
                    </a:lnTo>
                    <a:lnTo>
                      <a:pt x="1195" y="294"/>
                    </a:lnTo>
                    <a:lnTo>
                      <a:pt x="1215" y="273"/>
                    </a:lnTo>
                    <a:lnTo>
                      <a:pt x="1237" y="250"/>
                    </a:lnTo>
                    <a:lnTo>
                      <a:pt x="1257" y="226"/>
                    </a:lnTo>
                    <a:lnTo>
                      <a:pt x="1277" y="203"/>
                    </a:lnTo>
                    <a:lnTo>
                      <a:pt x="1299" y="180"/>
                    </a:lnTo>
                    <a:lnTo>
                      <a:pt x="1319" y="157"/>
                    </a:lnTo>
                    <a:lnTo>
                      <a:pt x="1341" y="135"/>
                    </a:lnTo>
                    <a:lnTo>
                      <a:pt x="1363" y="112"/>
                    </a:lnTo>
                    <a:lnTo>
                      <a:pt x="1384" y="91"/>
                    </a:lnTo>
                    <a:lnTo>
                      <a:pt x="1407" y="69"/>
                    </a:lnTo>
                    <a:lnTo>
                      <a:pt x="1432" y="49"/>
                    </a:lnTo>
                    <a:lnTo>
                      <a:pt x="1452" y="47"/>
                    </a:lnTo>
                    <a:lnTo>
                      <a:pt x="1474" y="54"/>
                    </a:lnTo>
                    <a:lnTo>
                      <a:pt x="1480" y="56"/>
                    </a:lnTo>
                    <a:lnTo>
                      <a:pt x="1487" y="62"/>
                    </a:lnTo>
                    <a:lnTo>
                      <a:pt x="1494" y="69"/>
                    </a:lnTo>
                    <a:lnTo>
                      <a:pt x="1501" y="78"/>
                    </a:lnTo>
                    <a:lnTo>
                      <a:pt x="1503" y="85"/>
                    </a:lnTo>
                    <a:lnTo>
                      <a:pt x="1506" y="92"/>
                    </a:lnTo>
                    <a:lnTo>
                      <a:pt x="1509" y="99"/>
                    </a:lnTo>
                    <a:lnTo>
                      <a:pt x="1510" y="109"/>
                    </a:lnTo>
                    <a:lnTo>
                      <a:pt x="1504" y="109"/>
                    </a:lnTo>
                    <a:lnTo>
                      <a:pt x="1497" y="109"/>
                    </a:lnTo>
                    <a:lnTo>
                      <a:pt x="1490" y="112"/>
                    </a:lnTo>
                    <a:lnTo>
                      <a:pt x="1480" y="115"/>
                    </a:lnTo>
                    <a:lnTo>
                      <a:pt x="1480" y="122"/>
                    </a:lnTo>
                    <a:lnTo>
                      <a:pt x="1485" y="125"/>
                    </a:lnTo>
                    <a:lnTo>
                      <a:pt x="1493" y="130"/>
                    </a:lnTo>
                    <a:lnTo>
                      <a:pt x="1496" y="138"/>
                    </a:lnTo>
                    <a:lnTo>
                      <a:pt x="1490" y="137"/>
                    </a:lnTo>
                    <a:lnTo>
                      <a:pt x="1483" y="130"/>
                    </a:lnTo>
                    <a:lnTo>
                      <a:pt x="1474" y="124"/>
                    </a:lnTo>
                    <a:lnTo>
                      <a:pt x="1461" y="121"/>
                    </a:lnTo>
                    <a:lnTo>
                      <a:pt x="1449" y="140"/>
                    </a:lnTo>
                    <a:lnTo>
                      <a:pt x="1454" y="148"/>
                    </a:lnTo>
                    <a:lnTo>
                      <a:pt x="1461" y="154"/>
                    </a:lnTo>
                    <a:lnTo>
                      <a:pt x="1468" y="160"/>
                    </a:lnTo>
                    <a:lnTo>
                      <a:pt x="1477" y="171"/>
                    </a:lnTo>
                    <a:lnTo>
                      <a:pt x="1477" y="180"/>
                    </a:lnTo>
                    <a:lnTo>
                      <a:pt x="1471" y="180"/>
                    </a:lnTo>
                    <a:lnTo>
                      <a:pt x="1465" y="179"/>
                    </a:lnTo>
                    <a:lnTo>
                      <a:pt x="1461" y="176"/>
                    </a:lnTo>
                    <a:lnTo>
                      <a:pt x="1457" y="173"/>
                    </a:lnTo>
                    <a:lnTo>
                      <a:pt x="1452" y="169"/>
                    </a:lnTo>
                    <a:lnTo>
                      <a:pt x="1446" y="166"/>
                    </a:lnTo>
                    <a:lnTo>
                      <a:pt x="1441" y="164"/>
                    </a:lnTo>
                    <a:lnTo>
                      <a:pt x="1433" y="163"/>
                    </a:lnTo>
                    <a:lnTo>
                      <a:pt x="1425" y="171"/>
                    </a:lnTo>
                    <a:lnTo>
                      <a:pt x="1426" y="182"/>
                    </a:lnTo>
                    <a:lnTo>
                      <a:pt x="1435" y="189"/>
                    </a:lnTo>
                    <a:lnTo>
                      <a:pt x="1445" y="197"/>
                    </a:lnTo>
                    <a:lnTo>
                      <a:pt x="1449" y="210"/>
                    </a:lnTo>
                    <a:lnTo>
                      <a:pt x="1444" y="210"/>
                    </a:lnTo>
                    <a:lnTo>
                      <a:pt x="1439" y="210"/>
                    </a:lnTo>
                    <a:lnTo>
                      <a:pt x="1433" y="209"/>
                    </a:lnTo>
                    <a:lnTo>
                      <a:pt x="1428" y="206"/>
                    </a:lnTo>
                    <a:lnTo>
                      <a:pt x="1422" y="205"/>
                    </a:lnTo>
                    <a:lnTo>
                      <a:pt x="1416" y="205"/>
                    </a:lnTo>
                    <a:lnTo>
                      <a:pt x="1412" y="205"/>
                    </a:lnTo>
                    <a:lnTo>
                      <a:pt x="1406" y="208"/>
                    </a:lnTo>
                    <a:lnTo>
                      <a:pt x="1403" y="219"/>
                    </a:lnTo>
                    <a:lnTo>
                      <a:pt x="1405" y="226"/>
                    </a:lnTo>
                    <a:lnTo>
                      <a:pt x="1410" y="231"/>
                    </a:lnTo>
                    <a:lnTo>
                      <a:pt x="1418" y="235"/>
                    </a:lnTo>
                    <a:lnTo>
                      <a:pt x="1425" y="244"/>
                    </a:lnTo>
                    <a:lnTo>
                      <a:pt x="1407" y="244"/>
                    </a:lnTo>
                    <a:lnTo>
                      <a:pt x="1397" y="244"/>
                    </a:lnTo>
                    <a:lnTo>
                      <a:pt x="1390" y="247"/>
                    </a:lnTo>
                    <a:lnTo>
                      <a:pt x="1384" y="252"/>
                    </a:lnTo>
                    <a:lnTo>
                      <a:pt x="1380" y="260"/>
                    </a:lnTo>
                    <a:lnTo>
                      <a:pt x="1384" y="264"/>
                    </a:lnTo>
                    <a:lnTo>
                      <a:pt x="1392" y="267"/>
                    </a:lnTo>
                    <a:lnTo>
                      <a:pt x="1399" y="271"/>
                    </a:lnTo>
                    <a:lnTo>
                      <a:pt x="1399" y="280"/>
                    </a:lnTo>
                    <a:lnTo>
                      <a:pt x="1394" y="277"/>
                    </a:lnTo>
                    <a:lnTo>
                      <a:pt x="1387" y="277"/>
                    </a:lnTo>
                    <a:lnTo>
                      <a:pt x="1377" y="277"/>
                    </a:lnTo>
                    <a:lnTo>
                      <a:pt x="1365" y="280"/>
                    </a:lnTo>
                    <a:lnTo>
                      <a:pt x="1363" y="300"/>
                    </a:lnTo>
                    <a:lnTo>
                      <a:pt x="1380" y="309"/>
                    </a:lnTo>
                    <a:lnTo>
                      <a:pt x="1371" y="320"/>
                    </a:lnTo>
                    <a:lnTo>
                      <a:pt x="1361" y="317"/>
                    </a:lnTo>
                    <a:lnTo>
                      <a:pt x="1354" y="312"/>
                    </a:lnTo>
                    <a:lnTo>
                      <a:pt x="1344" y="304"/>
                    </a:lnTo>
                    <a:lnTo>
                      <a:pt x="1331" y="303"/>
                    </a:lnTo>
                    <a:lnTo>
                      <a:pt x="1321" y="315"/>
                    </a:lnTo>
                    <a:lnTo>
                      <a:pt x="1328" y="320"/>
                    </a:lnTo>
                    <a:lnTo>
                      <a:pt x="1334" y="328"/>
                    </a:lnTo>
                    <a:lnTo>
                      <a:pt x="1341" y="335"/>
                    </a:lnTo>
                    <a:lnTo>
                      <a:pt x="1351" y="342"/>
                    </a:lnTo>
                    <a:lnTo>
                      <a:pt x="1348" y="352"/>
                    </a:lnTo>
                    <a:lnTo>
                      <a:pt x="1339" y="351"/>
                    </a:lnTo>
                    <a:lnTo>
                      <a:pt x="1331" y="345"/>
                    </a:lnTo>
                    <a:lnTo>
                      <a:pt x="1321" y="339"/>
                    </a:lnTo>
                    <a:lnTo>
                      <a:pt x="1306" y="341"/>
                    </a:lnTo>
                    <a:lnTo>
                      <a:pt x="1296" y="346"/>
                    </a:lnTo>
                    <a:lnTo>
                      <a:pt x="1299" y="356"/>
                    </a:lnTo>
                    <a:lnTo>
                      <a:pt x="1308" y="362"/>
                    </a:lnTo>
                    <a:lnTo>
                      <a:pt x="1316" y="368"/>
                    </a:lnTo>
                    <a:lnTo>
                      <a:pt x="1322" y="381"/>
                    </a:lnTo>
                    <a:lnTo>
                      <a:pt x="1315" y="391"/>
                    </a:lnTo>
                    <a:lnTo>
                      <a:pt x="1309" y="391"/>
                    </a:lnTo>
                    <a:lnTo>
                      <a:pt x="1303" y="390"/>
                    </a:lnTo>
                    <a:lnTo>
                      <a:pt x="1299" y="385"/>
                    </a:lnTo>
                    <a:lnTo>
                      <a:pt x="1295" y="381"/>
                    </a:lnTo>
                    <a:lnTo>
                      <a:pt x="1290" y="378"/>
                    </a:lnTo>
                    <a:lnTo>
                      <a:pt x="1284" y="374"/>
                    </a:lnTo>
                    <a:lnTo>
                      <a:pt x="1279" y="371"/>
                    </a:lnTo>
                    <a:lnTo>
                      <a:pt x="1271" y="371"/>
                    </a:lnTo>
                    <a:lnTo>
                      <a:pt x="1256" y="384"/>
                    </a:lnTo>
                    <a:lnTo>
                      <a:pt x="1263" y="393"/>
                    </a:lnTo>
                    <a:lnTo>
                      <a:pt x="1270" y="400"/>
                    </a:lnTo>
                    <a:lnTo>
                      <a:pt x="1277" y="407"/>
                    </a:lnTo>
                    <a:lnTo>
                      <a:pt x="1283" y="417"/>
                    </a:lnTo>
                    <a:lnTo>
                      <a:pt x="1273" y="427"/>
                    </a:lnTo>
                    <a:lnTo>
                      <a:pt x="1263" y="424"/>
                    </a:lnTo>
                    <a:lnTo>
                      <a:pt x="1254" y="417"/>
                    </a:lnTo>
                    <a:lnTo>
                      <a:pt x="1244" y="411"/>
                    </a:lnTo>
                    <a:lnTo>
                      <a:pt x="1231" y="407"/>
                    </a:lnTo>
                    <a:lnTo>
                      <a:pt x="1219" y="414"/>
                    </a:lnTo>
                    <a:lnTo>
                      <a:pt x="1219" y="424"/>
                    </a:lnTo>
                    <a:lnTo>
                      <a:pt x="1224" y="432"/>
                    </a:lnTo>
                    <a:lnTo>
                      <a:pt x="1230" y="437"/>
                    </a:lnTo>
                    <a:lnTo>
                      <a:pt x="1237" y="442"/>
                    </a:lnTo>
                    <a:lnTo>
                      <a:pt x="1248" y="446"/>
                    </a:lnTo>
                    <a:lnTo>
                      <a:pt x="1232" y="463"/>
                    </a:lnTo>
                    <a:lnTo>
                      <a:pt x="1227" y="459"/>
                    </a:lnTo>
                    <a:lnTo>
                      <a:pt x="1219" y="453"/>
                    </a:lnTo>
                    <a:lnTo>
                      <a:pt x="1211" y="447"/>
                    </a:lnTo>
                    <a:lnTo>
                      <a:pt x="1202" y="439"/>
                    </a:lnTo>
                    <a:lnTo>
                      <a:pt x="1183" y="456"/>
                    </a:lnTo>
                    <a:lnTo>
                      <a:pt x="1186" y="463"/>
                    </a:lnTo>
                    <a:lnTo>
                      <a:pt x="1193" y="468"/>
                    </a:lnTo>
                    <a:lnTo>
                      <a:pt x="1202" y="473"/>
                    </a:lnTo>
                    <a:lnTo>
                      <a:pt x="1209" y="482"/>
                    </a:lnTo>
                    <a:lnTo>
                      <a:pt x="1204" y="489"/>
                    </a:lnTo>
                    <a:lnTo>
                      <a:pt x="1196" y="486"/>
                    </a:lnTo>
                    <a:lnTo>
                      <a:pt x="1191" y="481"/>
                    </a:lnTo>
                    <a:lnTo>
                      <a:pt x="1183" y="476"/>
                    </a:lnTo>
                    <a:lnTo>
                      <a:pt x="1172" y="476"/>
                    </a:lnTo>
                    <a:lnTo>
                      <a:pt x="1166" y="489"/>
                    </a:lnTo>
                    <a:lnTo>
                      <a:pt x="1167" y="497"/>
                    </a:lnTo>
                    <a:lnTo>
                      <a:pt x="1173" y="504"/>
                    </a:lnTo>
                    <a:lnTo>
                      <a:pt x="1177" y="510"/>
                    </a:lnTo>
                    <a:lnTo>
                      <a:pt x="1183" y="518"/>
                    </a:lnTo>
                    <a:lnTo>
                      <a:pt x="1179" y="524"/>
                    </a:lnTo>
                    <a:lnTo>
                      <a:pt x="1175" y="534"/>
                    </a:lnTo>
                    <a:lnTo>
                      <a:pt x="1175" y="544"/>
                    </a:lnTo>
                    <a:lnTo>
                      <a:pt x="1179" y="551"/>
                    </a:lnTo>
                    <a:lnTo>
                      <a:pt x="1191" y="551"/>
                    </a:lnTo>
                    <a:lnTo>
                      <a:pt x="1215" y="528"/>
                    </a:lnTo>
                    <a:lnTo>
                      <a:pt x="1240" y="504"/>
                    </a:lnTo>
                    <a:lnTo>
                      <a:pt x="1263" y="479"/>
                    </a:lnTo>
                    <a:lnTo>
                      <a:pt x="1286" y="455"/>
                    </a:lnTo>
                    <a:lnTo>
                      <a:pt x="1309" y="430"/>
                    </a:lnTo>
                    <a:lnTo>
                      <a:pt x="1331" y="406"/>
                    </a:lnTo>
                    <a:lnTo>
                      <a:pt x="1352" y="381"/>
                    </a:lnTo>
                    <a:lnTo>
                      <a:pt x="1374" y="355"/>
                    </a:lnTo>
                    <a:lnTo>
                      <a:pt x="1396" y="330"/>
                    </a:lnTo>
                    <a:lnTo>
                      <a:pt x="1416" y="304"/>
                    </a:lnTo>
                    <a:lnTo>
                      <a:pt x="1438" y="278"/>
                    </a:lnTo>
                    <a:lnTo>
                      <a:pt x="1459" y="254"/>
                    </a:lnTo>
                    <a:lnTo>
                      <a:pt x="1480" y="228"/>
                    </a:lnTo>
                    <a:lnTo>
                      <a:pt x="1501" y="202"/>
                    </a:lnTo>
                    <a:lnTo>
                      <a:pt x="1525" y="177"/>
                    </a:lnTo>
                    <a:lnTo>
                      <a:pt x="1546" y="151"/>
                    </a:lnTo>
                    <a:lnTo>
                      <a:pt x="1551" y="148"/>
                    </a:lnTo>
                    <a:lnTo>
                      <a:pt x="1558" y="145"/>
                    </a:lnTo>
                    <a:lnTo>
                      <a:pt x="1564" y="143"/>
                    </a:lnTo>
                    <a:lnTo>
                      <a:pt x="1572" y="140"/>
                    </a:lnTo>
                    <a:lnTo>
                      <a:pt x="1579" y="137"/>
                    </a:lnTo>
                    <a:lnTo>
                      <a:pt x="1588" y="135"/>
                    </a:lnTo>
                    <a:lnTo>
                      <a:pt x="1595" y="134"/>
                    </a:lnTo>
                    <a:lnTo>
                      <a:pt x="1603" y="132"/>
                    </a:lnTo>
                    <a:lnTo>
                      <a:pt x="1621" y="151"/>
                    </a:lnTo>
                    <a:lnTo>
                      <a:pt x="1627" y="173"/>
                    </a:lnTo>
                    <a:lnTo>
                      <a:pt x="1610" y="184"/>
                    </a:lnTo>
                    <a:lnTo>
                      <a:pt x="1613" y="193"/>
                    </a:lnTo>
                    <a:lnTo>
                      <a:pt x="1617" y="202"/>
                    </a:lnTo>
                    <a:lnTo>
                      <a:pt x="1621" y="212"/>
                    </a:lnTo>
                    <a:lnTo>
                      <a:pt x="1620" y="223"/>
                    </a:lnTo>
                    <a:lnTo>
                      <a:pt x="1611" y="222"/>
                    </a:lnTo>
                    <a:lnTo>
                      <a:pt x="1603" y="221"/>
                    </a:lnTo>
                    <a:lnTo>
                      <a:pt x="1595" y="221"/>
                    </a:lnTo>
                    <a:lnTo>
                      <a:pt x="1588" y="226"/>
                    </a:lnTo>
                    <a:lnTo>
                      <a:pt x="1590" y="236"/>
                    </a:lnTo>
                    <a:lnTo>
                      <a:pt x="1594" y="245"/>
                    </a:lnTo>
                    <a:lnTo>
                      <a:pt x="1598" y="255"/>
                    </a:lnTo>
                    <a:lnTo>
                      <a:pt x="1600" y="268"/>
                    </a:lnTo>
                    <a:lnTo>
                      <a:pt x="1594" y="265"/>
                    </a:lnTo>
                    <a:lnTo>
                      <a:pt x="1588" y="258"/>
                    </a:lnTo>
                    <a:lnTo>
                      <a:pt x="1581" y="252"/>
                    </a:lnTo>
                    <a:lnTo>
                      <a:pt x="1571" y="251"/>
                    </a:lnTo>
                    <a:lnTo>
                      <a:pt x="1564" y="261"/>
                    </a:lnTo>
                    <a:lnTo>
                      <a:pt x="1568" y="273"/>
                    </a:lnTo>
                    <a:lnTo>
                      <a:pt x="1575" y="281"/>
                    </a:lnTo>
                    <a:lnTo>
                      <a:pt x="1581" y="291"/>
                    </a:lnTo>
                    <a:lnTo>
                      <a:pt x="1581" y="303"/>
                    </a:lnTo>
                    <a:lnTo>
                      <a:pt x="1571" y="306"/>
                    </a:lnTo>
                    <a:lnTo>
                      <a:pt x="1564" y="300"/>
                    </a:lnTo>
                    <a:lnTo>
                      <a:pt x="1553" y="293"/>
                    </a:lnTo>
                    <a:lnTo>
                      <a:pt x="1540" y="293"/>
                    </a:lnTo>
                    <a:lnTo>
                      <a:pt x="1532" y="304"/>
                    </a:lnTo>
                    <a:lnTo>
                      <a:pt x="1536" y="313"/>
                    </a:lnTo>
                    <a:lnTo>
                      <a:pt x="1542" y="320"/>
                    </a:lnTo>
                    <a:lnTo>
                      <a:pt x="1549" y="328"/>
                    </a:lnTo>
                    <a:lnTo>
                      <a:pt x="1558" y="336"/>
                    </a:lnTo>
                    <a:lnTo>
                      <a:pt x="1548" y="354"/>
                    </a:lnTo>
                    <a:lnTo>
                      <a:pt x="1527" y="338"/>
                    </a:lnTo>
                    <a:lnTo>
                      <a:pt x="1506" y="345"/>
                    </a:lnTo>
                    <a:lnTo>
                      <a:pt x="1509" y="352"/>
                    </a:lnTo>
                    <a:lnTo>
                      <a:pt x="1514" y="359"/>
                    </a:lnTo>
                    <a:lnTo>
                      <a:pt x="1523" y="365"/>
                    </a:lnTo>
                    <a:lnTo>
                      <a:pt x="1532" y="374"/>
                    </a:lnTo>
                    <a:lnTo>
                      <a:pt x="1529" y="381"/>
                    </a:lnTo>
                    <a:lnTo>
                      <a:pt x="1526" y="388"/>
                    </a:lnTo>
                    <a:lnTo>
                      <a:pt x="1520" y="394"/>
                    </a:lnTo>
                    <a:lnTo>
                      <a:pt x="1509" y="398"/>
                    </a:lnTo>
                    <a:lnTo>
                      <a:pt x="1490" y="381"/>
                    </a:lnTo>
                    <a:lnTo>
                      <a:pt x="1480" y="385"/>
                    </a:lnTo>
                    <a:lnTo>
                      <a:pt x="1475" y="397"/>
                    </a:lnTo>
                    <a:lnTo>
                      <a:pt x="1478" y="407"/>
                    </a:lnTo>
                    <a:lnTo>
                      <a:pt x="1485" y="414"/>
                    </a:lnTo>
                    <a:lnTo>
                      <a:pt x="1491" y="421"/>
                    </a:lnTo>
                    <a:lnTo>
                      <a:pt x="1493" y="434"/>
                    </a:lnTo>
                    <a:lnTo>
                      <a:pt x="1483" y="442"/>
                    </a:lnTo>
                    <a:lnTo>
                      <a:pt x="1475" y="439"/>
                    </a:lnTo>
                    <a:lnTo>
                      <a:pt x="1468" y="432"/>
                    </a:lnTo>
                    <a:lnTo>
                      <a:pt x="1461" y="423"/>
                    </a:lnTo>
                    <a:lnTo>
                      <a:pt x="1452" y="417"/>
                    </a:lnTo>
                    <a:lnTo>
                      <a:pt x="1441" y="421"/>
                    </a:lnTo>
                    <a:lnTo>
                      <a:pt x="1436" y="432"/>
                    </a:lnTo>
                    <a:lnTo>
                      <a:pt x="1441" y="439"/>
                    </a:lnTo>
                    <a:lnTo>
                      <a:pt x="1445" y="446"/>
                    </a:lnTo>
                    <a:lnTo>
                      <a:pt x="1451" y="453"/>
                    </a:lnTo>
                    <a:lnTo>
                      <a:pt x="1458" y="460"/>
                    </a:lnTo>
                    <a:lnTo>
                      <a:pt x="1452" y="472"/>
                    </a:lnTo>
                    <a:lnTo>
                      <a:pt x="1441" y="473"/>
                    </a:lnTo>
                    <a:lnTo>
                      <a:pt x="1436" y="462"/>
                    </a:lnTo>
                    <a:lnTo>
                      <a:pt x="1431" y="458"/>
                    </a:lnTo>
                    <a:lnTo>
                      <a:pt x="1425" y="453"/>
                    </a:lnTo>
                    <a:lnTo>
                      <a:pt x="1416" y="449"/>
                    </a:lnTo>
                    <a:lnTo>
                      <a:pt x="1405" y="446"/>
                    </a:lnTo>
                    <a:lnTo>
                      <a:pt x="1400" y="453"/>
                    </a:lnTo>
                    <a:lnTo>
                      <a:pt x="1403" y="463"/>
                    </a:lnTo>
                    <a:lnTo>
                      <a:pt x="1410" y="475"/>
                    </a:lnTo>
                    <a:lnTo>
                      <a:pt x="1418" y="485"/>
                    </a:lnTo>
                    <a:lnTo>
                      <a:pt x="1423" y="497"/>
                    </a:lnTo>
                    <a:lnTo>
                      <a:pt x="1413" y="515"/>
                    </a:lnTo>
                    <a:lnTo>
                      <a:pt x="1406" y="510"/>
                    </a:lnTo>
                    <a:lnTo>
                      <a:pt x="1399" y="499"/>
                    </a:lnTo>
                    <a:lnTo>
                      <a:pt x="1390" y="491"/>
                    </a:lnTo>
                    <a:lnTo>
                      <a:pt x="1376" y="485"/>
                    </a:lnTo>
                    <a:lnTo>
                      <a:pt x="1368" y="495"/>
                    </a:lnTo>
                    <a:lnTo>
                      <a:pt x="1371" y="507"/>
                    </a:lnTo>
                    <a:lnTo>
                      <a:pt x="1377" y="517"/>
                    </a:lnTo>
                    <a:lnTo>
                      <a:pt x="1383" y="527"/>
                    </a:lnTo>
                    <a:lnTo>
                      <a:pt x="1390" y="538"/>
                    </a:lnTo>
                    <a:lnTo>
                      <a:pt x="1371" y="550"/>
                    </a:lnTo>
                    <a:lnTo>
                      <a:pt x="1367" y="544"/>
                    </a:lnTo>
                    <a:lnTo>
                      <a:pt x="1363" y="537"/>
                    </a:lnTo>
                    <a:lnTo>
                      <a:pt x="1357" y="530"/>
                    </a:lnTo>
                    <a:lnTo>
                      <a:pt x="1348" y="524"/>
                    </a:lnTo>
                    <a:lnTo>
                      <a:pt x="1337" y="524"/>
                    </a:lnTo>
                    <a:lnTo>
                      <a:pt x="1334" y="534"/>
                    </a:lnTo>
                    <a:lnTo>
                      <a:pt x="1337" y="546"/>
                    </a:lnTo>
                    <a:lnTo>
                      <a:pt x="1342" y="554"/>
                    </a:lnTo>
                    <a:lnTo>
                      <a:pt x="1350" y="563"/>
                    </a:lnTo>
                    <a:lnTo>
                      <a:pt x="1355" y="576"/>
                    </a:lnTo>
                    <a:lnTo>
                      <a:pt x="1345" y="590"/>
                    </a:lnTo>
                    <a:lnTo>
                      <a:pt x="1342" y="582"/>
                    </a:lnTo>
                    <a:lnTo>
                      <a:pt x="1338" y="575"/>
                    </a:lnTo>
                    <a:lnTo>
                      <a:pt x="1331" y="567"/>
                    </a:lnTo>
                    <a:lnTo>
                      <a:pt x="1324" y="559"/>
                    </a:lnTo>
                    <a:lnTo>
                      <a:pt x="1302" y="569"/>
                    </a:lnTo>
                    <a:lnTo>
                      <a:pt x="1306" y="580"/>
                    </a:lnTo>
                    <a:lnTo>
                      <a:pt x="1312" y="589"/>
                    </a:lnTo>
                    <a:lnTo>
                      <a:pt x="1319" y="598"/>
                    </a:lnTo>
                    <a:lnTo>
                      <a:pt x="1325" y="611"/>
                    </a:lnTo>
                    <a:lnTo>
                      <a:pt x="1332" y="632"/>
                    </a:lnTo>
                    <a:lnTo>
                      <a:pt x="1352" y="628"/>
                    </a:lnTo>
                    <a:lnTo>
                      <a:pt x="1364" y="615"/>
                    </a:lnTo>
                    <a:lnTo>
                      <a:pt x="1374" y="602"/>
                    </a:lnTo>
                    <a:lnTo>
                      <a:pt x="1386" y="589"/>
                    </a:lnTo>
                    <a:lnTo>
                      <a:pt x="1397" y="576"/>
                    </a:lnTo>
                    <a:lnTo>
                      <a:pt x="1409" y="563"/>
                    </a:lnTo>
                    <a:lnTo>
                      <a:pt x="1422" y="549"/>
                    </a:lnTo>
                    <a:lnTo>
                      <a:pt x="1433" y="536"/>
                    </a:lnTo>
                    <a:lnTo>
                      <a:pt x="1445" y="523"/>
                    </a:lnTo>
                    <a:lnTo>
                      <a:pt x="1475" y="491"/>
                    </a:lnTo>
                    <a:lnTo>
                      <a:pt x="1503" y="459"/>
                    </a:lnTo>
                    <a:lnTo>
                      <a:pt x="1529" y="429"/>
                    </a:lnTo>
                    <a:lnTo>
                      <a:pt x="1552" y="398"/>
                    </a:lnTo>
                    <a:lnTo>
                      <a:pt x="1572" y="369"/>
                    </a:lnTo>
                    <a:lnTo>
                      <a:pt x="1593" y="341"/>
                    </a:lnTo>
                    <a:lnTo>
                      <a:pt x="1613" y="312"/>
                    </a:lnTo>
                    <a:lnTo>
                      <a:pt x="1632" y="283"/>
                    </a:lnTo>
                    <a:lnTo>
                      <a:pt x="1639" y="276"/>
                    </a:lnTo>
                    <a:lnTo>
                      <a:pt x="1645" y="270"/>
                    </a:lnTo>
                    <a:lnTo>
                      <a:pt x="1650" y="265"/>
                    </a:lnTo>
                    <a:lnTo>
                      <a:pt x="1660" y="258"/>
                    </a:lnTo>
                    <a:lnTo>
                      <a:pt x="1669" y="263"/>
                    </a:lnTo>
                    <a:lnTo>
                      <a:pt x="1678" y="265"/>
                    </a:lnTo>
                    <a:lnTo>
                      <a:pt x="1686" y="268"/>
                    </a:lnTo>
                    <a:lnTo>
                      <a:pt x="1695" y="274"/>
                    </a:lnTo>
                    <a:lnTo>
                      <a:pt x="1705" y="294"/>
                    </a:lnTo>
                    <a:lnTo>
                      <a:pt x="1684" y="294"/>
                    </a:lnTo>
                    <a:lnTo>
                      <a:pt x="1679" y="306"/>
                    </a:lnTo>
                    <a:lnTo>
                      <a:pt x="1684" y="313"/>
                    </a:lnTo>
                    <a:lnTo>
                      <a:pt x="1689" y="319"/>
                    </a:lnTo>
                    <a:lnTo>
                      <a:pt x="1695" y="326"/>
                    </a:lnTo>
                    <a:lnTo>
                      <a:pt x="1700" y="338"/>
                    </a:lnTo>
                    <a:lnTo>
                      <a:pt x="1691" y="352"/>
                    </a:lnTo>
                    <a:lnTo>
                      <a:pt x="1684" y="345"/>
                    </a:lnTo>
                    <a:lnTo>
                      <a:pt x="1679" y="338"/>
                    </a:lnTo>
                    <a:lnTo>
                      <a:pt x="1672" y="333"/>
                    </a:lnTo>
                    <a:lnTo>
                      <a:pt x="1662" y="336"/>
                    </a:lnTo>
                    <a:lnTo>
                      <a:pt x="1656" y="346"/>
                    </a:lnTo>
                    <a:lnTo>
                      <a:pt x="1662" y="355"/>
                    </a:lnTo>
                    <a:lnTo>
                      <a:pt x="1666" y="367"/>
                    </a:lnTo>
                    <a:lnTo>
                      <a:pt x="1671" y="378"/>
                    </a:lnTo>
                    <a:lnTo>
                      <a:pt x="1679" y="388"/>
                    </a:lnTo>
                    <a:lnTo>
                      <a:pt x="1675" y="400"/>
                    </a:lnTo>
                    <a:lnTo>
                      <a:pt x="1668" y="394"/>
                    </a:lnTo>
                    <a:lnTo>
                      <a:pt x="1663" y="387"/>
                    </a:lnTo>
                    <a:lnTo>
                      <a:pt x="1658" y="381"/>
                    </a:lnTo>
                    <a:lnTo>
                      <a:pt x="1650" y="378"/>
                    </a:lnTo>
                    <a:lnTo>
                      <a:pt x="1639" y="382"/>
                    </a:lnTo>
                    <a:lnTo>
                      <a:pt x="1642" y="398"/>
                    </a:lnTo>
                    <a:lnTo>
                      <a:pt x="1647" y="413"/>
                    </a:lnTo>
                    <a:lnTo>
                      <a:pt x="1650" y="429"/>
                    </a:lnTo>
                    <a:lnTo>
                      <a:pt x="1647" y="447"/>
                    </a:lnTo>
                    <a:lnTo>
                      <a:pt x="1639" y="443"/>
                    </a:lnTo>
                    <a:lnTo>
                      <a:pt x="1633" y="434"/>
                    </a:lnTo>
                    <a:lnTo>
                      <a:pt x="1627" y="424"/>
                    </a:lnTo>
                    <a:lnTo>
                      <a:pt x="1614" y="417"/>
                    </a:lnTo>
                    <a:lnTo>
                      <a:pt x="1606" y="421"/>
                    </a:lnTo>
                    <a:lnTo>
                      <a:pt x="1603" y="433"/>
                    </a:lnTo>
                    <a:lnTo>
                      <a:pt x="1607" y="442"/>
                    </a:lnTo>
                    <a:lnTo>
                      <a:pt x="1611" y="450"/>
                    </a:lnTo>
                    <a:lnTo>
                      <a:pt x="1616" y="460"/>
                    </a:lnTo>
                    <a:lnTo>
                      <a:pt x="1619" y="475"/>
                    </a:lnTo>
                    <a:lnTo>
                      <a:pt x="1619" y="482"/>
                    </a:lnTo>
                    <a:lnTo>
                      <a:pt x="1619" y="488"/>
                    </a:lnTo>
                    <a:lnTo>
                      <a:pt x="1614" y="494"/>
                    </a:lnTo>
                    <a:lnTo>
                      <a:pt x="1607" y="494"/>
                    </a:lnTo>
                    <a:lnTo>
                      <a:pt x="1606" y="486"/>
                    </a:lnTo>
                    <a:lnTo>
                      <a:pt x="1600" y="481"/>
                    </a:lnTo>
                    <a:lnTo>
                      <a:pt x="1594" y="475"/>
                    </a:lnTo>
                    <a:lnTo>
                      <a:pt x="1588" y="466"/>
                    </a:lnTo>
                    <a:lnTo>
                      <a:pt x="1566" y="468"/>
                    </a:lnTo>
                    <a:lnTo>
                      <a:pt x="1569" y="481"/>
                    </a:lnTo>
                    <a:lnTo>
                      <a:pt x="1575" y="497"/>
                    </a:lnTo>
                    <a:lnTo>
                      <a:pt x="1582" y="514"/>
                    </a:lnTo>
                    <a:lnTo>
                      <a:pt x="1591" y="533"/>
                    </a:lnTo>
                    <a:lnTo>
                      <a:pt x="1590" y="538"/>
                    </a:lnTo>
                    <a:lnTo>
                      <a:pt x="1585" y="544"/>
                    </a:lnTo>
                    <a:lnTo>
                      <a:pt x="1578" y="550"/>
                    </a:lnTo>
                    <a:lnTo>
                      <a:pt x="1571" y="557"/>
                    </a:lnTo>
                    <a:lnTo>
                      <a:pt x="1569" y="550"/>
                    </a:lnTo>
                    <a:lnTo>
                      <a:pt x="1568" y="543"/>
                    </a:lnTo>
                    <a:lnTo>
                      <a:pt x="1564" y="536"/>
                    </a:lnTo>
                    <a:lnTo>
                      <a:pt x="1561" y="527"/>
                    </a:lnTo>
                    <a:lnTo>
                      <a:pt x="1556" y="520"/>
                    </a:lnTo>
                    <a:lnTo>
                      <a:pt x="1548" y="515"/>
                    </a:lnTo>
                    <a:lnTo>
                      <a:pt x="1538" y="514"/>
                    </a:lnTo>
                    <a:lnTo>
                      <a:pt x="1529" y="521"/>
                    </a:lnTo>
                    <a:lnTo>
                      <a:pt x="1535" y="536"/>
                    </a:lnTo>
                    <a:lnTo>
                      <a:pt x="1540" y="551"/>
                    </a:lnTo>
                    <a:lnTo>
                      <a:pt x="1545" y="569"/>
                    </a:lnTo>
                    <a:lnTo>
                      <a:pt x="1552" y="583"/>
                    </a:lnTo>
                    <a:lnTo>
                      <a:pt x="1552" y="592"/>
                    </a:lnTo>
                    <a:lnTo>
                      <a:pt x="1551" y="601"/>
                    </a:lnTo>
                    <a:lnTo>
                      <a:pt x="1546" y="608"/>
                    </a:lnTo>
                    <a:lnTo>
                      <a:pt x="1538" y="615"/>
                    </a:lnTo>
                    <a:lnTo>
                      <a:pt x="1536" y="606"/>
                    </a:lnTo>
                    <a:lnTo>
                      <a:pt x="1532" y="601"/>
                    </a:lnTo>
                    <a:lnTo>
                      <a:pt x="1527" y="593"/>
                    </a:lnTo>
                    <a:lnTo>
                      <a:pt x="1523" y="583"/>
                    </a:lnTo>
                    <a:lnTo>
                      <a:pt x="1516" y="576"/>
                    </a:lnTo>
                    <a:lnTo>
                      <a:pt x="1510" y="570"/>
                    </a:lnTo>
                    <a:lnTo>
                      <a:pt x="1503" y="566"/>
                    </a:lnTo>
                    <a:lnTo>
                      <a:pt x="1493" y="570"/>
                    </a:lnTo>
                    <a:lnTo>
                      <a:pt x="1493" y="582"/>
                    </a:lnTo>
                    <a:lnTo>
                      <a:pt x="1499" y="586"/>
                    </a:lnTo>
                    <a:lnTo>
                      <a:pt x="1501" y="595"/>
                    </a:lnTo>
                    <a:lnTo>
                      <a:pt x="1504" y="605"/>
                    </a:lnTo>
                    <a:lnTo>
                      <a:pt x="1509" y="612"/>
                    </a:lnTo>
                    <a:lnTo>
                      <a:pt x="1510" y="625"/>
                    </a:lnTo>
                    <a:lnTo>
                      <a:pt x="1512" y="637"/>
                    </a:lnTo>
                    <a:lnTo>
                      <a:pt x="1513" y="650"/>
                    </a:lnTo>
                    <a:lnTo>
                      <a:pt x="1510" y="663"/>
                    </a:lnTo>
                    <a:lnTo>
                      <a:pt x="1503" y="657"/>
                    </a:lnTo>
                    <a:lnTo>
                      <a:pt x="1499" y="648"/>
                    </a:lnTo>
                    <a:lnTo>
                      <a:pt x="1494" y="640"/>
                    </a:lnTo>
                    <a:lnTo>
                      <a:pt x="1485" y="630"/>
                    </a:lnTo>
                    <a:lnTo>
                      <a:pt x="1480" y="627"/>
                    </a:lnTo>
                    <a:lnTo>
                      <a:pt x="1471" y="622"/>
                    </a:lnTo>
                    <a:lnTo>
                      <a:pt x="1461" y="621"/>
                    </a:lnTo>
                    <a:lnTo>
                      <a:pt x="1455" y="630"/>
                    </a:lnTo>
                    <a:lnTo>
                      <a:pt x="1465" y="644"/>
                    </a:lnTo>
                    <a:lnTo>
                      <a:pt x="1474" y="661"/>
                    </a:lnTo>
                    <a:lnTo>
                      <a:pt x="1480" y="682"/>
                    </a:lnTo>
                    <a:lnTo>
                      <a:pt x="1487" y="703"/>
                    </a:lnTo>
                    <a:lnTo>
                      <a:pt x="1485" y="712"/>
                    </a:lnTo>
                    <a:lnTo>
                      <a:pt x="1481" y="718"/>
                    </a:lnTo>
                    <a:lnTo>
                      <a:pt x="1475" y="725"/>
                    </a:lnTo>
                    <a:lnTo>
                      <a:pt x="1472" y="735"/>
                    </a:lnTo>
                    <a:lnTo>
                      <a:pt x="1465" y="731"/>
                    </a:lnTo>
                    <a:lnTo>
                      <a:pt x="1459" y="715"/>
                    </a:lnTo>
                    <a:lnTo>
                      <a:pt x="1454" y="699"/>
                    </a:lnTo>
                    <a:lnTo>
                      <a:pt x="1446" y="683"/>
                    </a:lnTo>
                    <a:lnTo>
                      <a:pt x="1438" y="670"/>
                    </a:lnTo>
                    <a:lnTo>
                      <a:pt x="1426" y="663"/>
                    </a:lnTo>
                    <a:lnTo>
                      <a:pt x="1415" y="670"/>
                    </a:lnTo>
                    <a:lnTo>
                      <a:pt x="1418" y="683"/>
                    </a:lnTo>
                    <a:lnTo>
                      <a:pt x="1422" y="697"/>
                    </a:lnTo>
                    <a:lnTo>
                      <a:pt x="1429" y="712"/>
                    </a:lnTo>
                    <a:lnTo>
                      <a:pt x="1436" y="726"/>
                    </a:lnTo>
                    <a:lnTo>
                      <a:pt x="1442" y="741"/>
                    </a:lnTo>
                    <a:lnTo>
                      <a:pt x="1446" y="755"/>
                    </a:lnTo>
                    <a:lnTo>
                      <a:pt x="1446" y="771"/>
                    </a:lnTo>
                    <a:lnTo>
                      <a:pt x="1442" y="786"/>
                    </a:lnTo>
                    <a:lnTo>
                      <a:pt x="1435" y="786"/>
                    </a:lnTo>
                    <a:lnTo>
                      <a:pt x="1431" y="767"/>
                    </a:lnTo>
                    <a:lnTo>
                      <a:pt x="1422" y="751"/>
                    </a:lnTo>
                    <a:lnTo>
                      <a:pt x="1412" y="736"/>
                    </a:lnTo>
                    <a:lnTo>
                      <a:pt x="1400" y="721"/>
                    </a:lnTo>
                    <a:lnTo>
                      <a:pt x="1389" y="722"/>
                    </a:lnTo>
                    <a:lnTo>
                      <a:pt x="1381" y="732"/>
                    </a:lnTo>
                    <a:lnTo>
                      <a:pt x="1390" y="751"/>
                    </a:lnTo>
                    <a:lnTo>
                      <a:pt x="1400" y="771"/>
                    </a:lnTo>
                    <a:lnTo>
                      <a:pt x="1409" y="793"/>
                    </a:lnTo>
                    <a:lnTo>
                      <a:pt x="1415" y="817"/>
                    </a:lnTo>
                    <a:lnTo>
                      <a:pt x="1406" y="826"/>
                    </a:lnTo>
                    <a:lnTo>
                      <a:pt x="1403" y="820"/>
                    </a:lnTo>
                    <a:lnTo>
                      <a:pt x="1402" y="813"/>
                    </a:lnTo>
                    <a:lnTo>
                      <a:pt x="1399" y="807"/>
                    </a:lnTo>
                    <a:lnTo>
                      <a:pt x="1393" y="800"/>
                    </a:lnTo>
                    <a:lnTo>
                      <a:pt x="1386" y="791"/>
                    </a:lnTo>
                    <a:lnTo>
                      <a:pt x="1381" y="784"/>
                    </a:lnTo>
                    <a:lnTo>
                      <a:pt x="1374" y="777"/>
                    </a:lnTo>
                    <a:lnTo>
                      <a:pt x="1364" y="768"/>
                    </a:lnTo>
                    <a:lnTo>
                      <a:pt x="1354" y="768"/>
                    </a:lnTo>
                    <a:lnTo>
                      <a:pt x="1351" y="778"/>
                    </a:lnTo>
                    <a:lnTo>
                      <a:pt x="1358" y="796"/>
                    </a:lnTo>
                    <a:lnTo>
                      <a:pt x="1365" y="812"/>
                    </a:lnTo>
                    <a:lnTo>
                      <a:pt x="1374" y="829"/>
                    </a:lnTo>
                    <a:lnTo>
                      <a:pt x="1381" y="851"/>
                    </a:lnTo>
                    <a:lnTo>
                      <a:pt x="1365" y="872"/>
                    </a:lnTo>
                    <a:lnTo>
                      <a:pt x="1358" y="861"/>
                    </a:lnTo>
                    <a:lnTo>
                      <a:pt x="1352" y="848"/>
                    </a:lnTo>
                    <a:lnTo>
                      <a:pt x="1344" y="833"/>
                    </a:lnTo>
                    <a:lnTo>
                      <a:pt x="1335" y="820"/>
                    </a:lnTo>
                    <a:lnTo>
                      <a:pt x="1313" y="823"/>
                    </a:lnTo>
                    <a:lnTo>
                      <a:pt x="1316" y="840"/>
                    </a:lnTo>
                    <a:lnTo>
                      <a:pt x="1326" y="858"/>
                    </a:lnTo>
                    <a:lnTo>
                      <a:pt x="1338" y="877"/>
                    </a:lnTo>
                    <a:lnTo>
                      <a:pt x="1345" y="898"/>
                    </a:lnTo>
                    <a:lnTo>
                      <a:pt x="1347" y="905"/>
                    </a:lnTo>
                    <a:lnTo>
                      <a:pt x="1345" y="911"/>
                    </a:lnTo>
                    <a:lnTo>
                      <a:pt x="1341" y="917"/>
                    </a:lnTo>
                    <a:lnTo>
                      <a:pt x="1332" y="923"/>
                    </a:lnTo>
                    <a:lnTo>
                      <a:pt x="1329" y="917"/>
                    </a:lnTo>
                    <a:lnTo>
                      <a:pt x="1325" y="911"/>
                    </a:lnTo>
                    <a:lnTo>
                      <a:pt x="1321" y="904"/>
                    </a:lnTo>
                    <a:lnTo>
                      <a:pt x="1315" y="897"/>
                    </a:lnTo>
                    <a:lnTo>
                      <a:pt x="1311" y="891"/>
                    </a:lnTo>
                    <a:lnTo>
                      <a:pt x="1303" y="884"/>
                    </a:lnTo>
                    <a:lnTo>
                      <a:pt x="1296" y="878"/>
                    </a:lnTo>
                    <a:lnTo>
                      <a:pt x="1289" y="874"/>
                    </a:lnTo>
                    <a:lnTo>
                      <a:pt x="1279" y="877"/>
                    </a:lnTo>
                    <a:lnTo>
                      <a:pt x="1283" y="897"/>
                    </a:lnTo>
                    <a:lnTo>
                      <a:pt x="1293" y="916"/>
                    </a:lnTo>
                    <a:lnTo>
                      <a:pt x="1305" y="931"/>
                    </a:lnTo>
                    <a:lnTo>
                      <a:pt x="1313" y="950"/>
                    </a:lnTo>
                    <a:lnTo>
                      <a:pt x="1313" y="960"/>
                    </a:lnTo>
                    <a:lnTo>
                      <a:pt x="1313" y="969"/>
                    </a:lnTo>
                    <a:lnTo>
                      <a:pt x="1309" y="976"/>
                    </a:lnTo>
                    <a:lnTo>
                      <a:pt x="1305" y="983"/>
                    </a:lnTo>
                    <a:lnTo>
                      <a:pt x="1299" y="992"/>
                    </a:lnTo>
                    <a:lnTo>
                      <a:pt x="1289" y="997"/>
                    </a:lnTo>
                    <a:lnTo>
                      <a:pt x="1287" y="989"/>
                    </a:lnTo>
                    <a:lnTo>
                      <a:pt x="1284" y="982"/>
                    </a:lnTo>
                    <a:lnTo>
                      <a:pt x="1282" y="975"/>
                    </a:lnTo>
                    <a:lnTo>
                      <a:pt x="1277" y="965"/>
                    </a:lnTo>
                    <a:lnTo>
                      <a:pt x="1271" y="955"/>
                    </a:lnTo>
                    <a:lnTo>
                      <a:pt x="1263" y="943"/>
                    </a:lnTo>
                    <a:lnTo>
                      <a:pt x="1253" y="933"/>
                    </a:lnTo>
                    <a:lnTo>
                      <a:pt x="1241" y="926"/>
                    </a:lnTo>
                    <a:lnTo>
                      <a:pt x="1234" y="937"/>
                    </a:lnTo>
                    <a:lnTo>
                      <a:pt x="1244" y="960"/>
                    </a:lnTo>
                    <a:lnTo>
                      <a:pt x="1254" y="982"/>
                    </a:lnTo>
                    <a:lnTo>
                      <a:pt x="1266" y="1005"/>
                    </a:lnTo>
                    <a:lnTo>
                      <a:pt x="1276" y="1031"/>
                    </a:lnTo>
                    <a:lnTo>
                      <a:pt x="1260" y="1050"/>
                    </a:lnTo>
                    <a:lnTo>
                      <a:pt x="1253" y="1037"/>
                    </a:lnTo>
                    <a:lnTo>
                      <a:pt x="1247" y="1024"/>
                    </a:lnTo>
                    <a:lnTo>
                      <a:pt x="1238" y="1010"/>
                    </a:lnTo>
                    <a:lnTo>
                      <a:pt x="1230" y="995"/>
                    </a:lnTo>
                    <a:lnTo>
                      <a:pt x="1208" y="979"/>
                    </a:lnTo>
                    <a:lnTo>
                      <a:pt x="1201" y="986"/>
                    </a:lnTo>
                    <a:lnTo>
                      <a:pt x="1201" y="997"/>
                    </a:lnTo>
                    <a:lnTo>
                      <a:pt x="1212" y="1017"/>
                    </a:lnTo>
                    <a:lnTo>
                      <a:pt x="1221" y="1036"/>
                    </a:lnTo>
                    <a:lnTo>
                      <a:pt x="1231" y="1057"/>
                    </a:lnTo>
                    <a:lnTo>
                      <a:pt x="1241" y="1080"/>
                    </a:lnTo>
                    <a:lnTo>
                      <a:pt x="1227" y="1102"/>
                    </a:lnTo>
                    <a:lnTo>
                      <a:pt x="1219" y="1093"/>
                    </a:lnTo>
                    <a:lnTo>
                      <a:pt x="1219" y="1082"/>
                    </a:lnTo>
                    <a:lnTo>
                      <a:pt x="1208" y="1062"/>
                    </a:lnTo>
                    <a:lnTo>
                      <a:pt x="1202" y="1051"/>
                    </a:lnTo>
                    <a:lnTo>
                      <a:pt x="1195" y="1041"/>
                    </a:lnTo>
                    <a:lnTo>
                      <a:pt x="1186" y="1033"/>
                    </a:lnTo>
                    <a:lnTo>
                      <a:pt x="1175" y="1024"/>
                    </a:lnTo>
                    <a:lnTo>
                      <a:pt x="1162" y="1017"/>
                    </a:lnTo>
                    <a:lnTo>
                      <a:pt x="1159" y="1037"/>
                    </a:lnTo>
                    <a:lnTo>
                      <a:pt x="1164" y="1047"/>
                    </a:lnTo>
                    <a:lnTo>
                      <a:pt x="1172" y="1057"/>
                    </a:lnTo>
                    <a:lnTo>
                      <a:pt x="1179" y="1069"/>
                    </a:lnTo>
                    <a:lnTo>
                      <a:pt x="1185" y="1080"/>
                    </a:lnTo>
                    <a:lnTo>
                      <a:pt x="1192" y="1092"/>
                    </a:lnTo>
                    <a:lnTo>
                      <a:pt x="1196" y="1105"/>
                    </a:lnTo>
                    <a:lnTo>
                      <a:pt x="1201" y="1118"/>
                    </a:lnTo>
                    <a:lnTo>
                      <a:pt x="1202" y="1132"/>
                    </a:lnTo>
                    <a:lnTo>
                      <a:pt x="1186" y="1154"/>
                    </a:lnTo>
                    <a:lnTo>
                      <a:pt x="1179" y="1145"/>
                    </a:lnTo>
                    <a:lnTo>
                      <a:pt x="1176" y="1135"/>
                    </a:lnTo>
                    <a:lnTo>
                      <a:pt x="1172" y="1125"/>
                    </a:lnTo>
                    <a:lnTo>
                      <a:pt x="1167" y="1116"/>
                    </a:lnTo>
                    <a:lnTo>
                      <a:pt x="1163" y="1108"/>
                    </a:lnTo>
                    <a:lnTo>
                      <a:pt x="1157" y="1099"/>
                    </a:lnTo>
                    <a:lnTo>
                      <a:pt x="1151" y="1090"/>
                    </a:lnTo>
                    <a:lnTo>
                      <a:pt x="1144" y="1082"/>
                    </a:lnTo>
                    <a:lnTo>
                      <a:pt x="1136" y="1073"/>
                    </a:lnTo>
                    <a:lnTo>
                      <a:pt x="1114" y="1075"/>
                    </a:lnTo>
                    <a:lnTo>
                      <a:pt x="1118" y="1095"/>
                    </a:lnTo>
                    <a:lnTo>
                      <a:pt x="1125" y="1101"/>
                    </a:lnTo>
                    <a:lnTo>
                      <a:pt x="1131" y="1109"/>
                    </a:lnTo>
                    <a:lnTo>
                      <a:pt x="1137" y="1118"/>
                    </a:lnTo>
                    <a:lnTo>
                      <a:pt x="1141" y="1128"/>
                    </a:lnTo>
                    <a:lnTo>
                      <a:pt x="1146" y="1138"/>
                    </a:lnTo>
                    <a:lnTo>
                      <a:pt x="1151" y="1148"/>
                    </a:lnTo>
                    <a:lnTo>
                      <a:pt x="1157" y="1158"/>
                    </a:lnTo>
                    <a:lnTo>
                      <a:pt x="1163" y="1167"/>
                    </a:lnTo>
                    <a:lnTo>
                      <a:pt x="1170" y="1171"/>
                    </a:lnTo>
                    <a:lnTo>
                      <a:pt x="1163" y="1177"/>
                    </a:lnTo>
                    <a:lnTo>
                      <a:pt x="1159" y="1184"/>
                    </a:lnTo>
                    <a:lnTo>
                      <a:pt x="1154" y="1193"/>
                    </a:lnTo>
                    <a:lnTo>
                      <a:pt x="1144" y="1199"/>
                    </a:lnTo>
                    <a:lnTo>
                      <a:pt x="1140" y="1189"/>
                    </a:lnTo>
                    <a:lnTo>
                      <a:pt x="1136" y="1180"/>
                    </a:lnTo>
                    <a:lnTo>
                      <a:pt x="1131" y="1171"/>
                    </a:lnTo>
                    <a:lnTo>
                      <a:pt x="1127" y="1163"/>
                    </a:lnTo>
                    <a:lnTo>
                      <a:pt x="1121" y="1154"/>
                    </a:lnTo>
                    <a:lnTo>
                      <a:pt x="1115" y="1145"/>
                    </a:lnTo>
                    <a:lnTo>
                      <a:pt x="1110" y="1137"/>
                    </a:lnTo>
                    <a:lnTo>
                      <a:pt x="1101" y="1128"/>
                    </a:lnTo>
                    <a:lnTo>
                      <a:pt x="1094" y="1127"/>
                    </a:lnTo>
                    <a:lnTo>
                      <a:pt x="1086" y="1124"/>
                    </a:lnTo>
                    <a:lnTo>
                      <a:pt x="1079" y="1124"/>
                    </a:lnTo>
                    <a:lnTo>
                      <a:pt x="1070" y="1129"/>
                    </a:lnTo>
                    <a:lnTo>
                      <a:pt x="1072" y="1138"/>
                    </a:lnTo>
                    <a:lnTo>
                      <a:pt x="1079" y="1144"/>
                    </a:lnTo>
                    <a:lnTo>
                      <a:pt x="1085" y="1150"/>
                    </a:lnTo>
                    <a:lnTo>
                      <a:pt x="1091" y="1158"/>
                    </a:lnTo>
                    <a:lnTo>
                      <a:pt x="1097" y="1167"/>
                    </a:lnTo>
                    <a:lnTo>
                      <a:pt x="1101" y="1176"/>
                    </a:lnTo>
                    <a:lnTo>
                      <a:pt x="1105" y="1186"/>
                    </a:lnTo>
                    <a:lnTo>
                      <a:pt x="1111" y="1197"/>
                    </a:lnTo>
                    <a:lnTo>
                      <a:pt x="1115" y="1207"/>
                    </a:lnTo>
                    <a:lnTo>
                      <a:pt x="1125" y="1218"/>
                    </a:lnTo>
                    <a:lnTo>
                      <a:pt x="1118" y="1223"/>
                    </a:lnTo>
                    <a:lnTo>
                      <a:pt x="1114" y="1231"/>
                    </a:lnTo>
                    <a:lnTo>
                      <a:pt x="1107" y="1236"/>
                    </a:lnTo>
                    <a:lnTo>
                      <a:pt x="1098" y="1239"/>
                    </a:lnTo>
                    <a:lnTo>
                      <a:pt x="1091" y="1232"/>
                    </a:lnTo>
                    <a:lnTo>
                      <a:pt x="1085" y="1223"/>
                    </a:lnTo>
                    <a:lnTo>
                      <a:pt x="1079" y="1213"/>
                    </a:lnTo>
                    <a:lnTo>
                      <a:pt x="1072" y="1205"/>
                    </a:lnTo>
                    <a:lnTo>
                      <a:pt x="1039" y="1168"/>
                    </a:lnTo>
                    <a:lnTo>
                      <a:pt x="1023" y="1183"/>
                    </a:lnTo>
                    <a:lnTo>
                      <a:pt x="1030" y="1192"/>
                    </a:lnTo>
                    <a:lnTo>
                      <a:pt x="1037" y="1200"/>
                    </a:lnTo>
                    <a:lnTo>
                      <a:pt x="1044" y="1209"/>
                    </a:lnTo>
                    <a:lnTo>
                      <a:pt x="1050" y="1220"/>
                    </a:lnTo>
                    <a:lnTo>
                      <a:pt x="1056" y="1231"/>
                    </a:lnTo>
                    <a:lnTo>
                      <a:pt x="1062" y="1244"/>
                    </a:lnTo>
                    <a:lnTo>
                      <a:pt x="1068" y="1255"/>
                    </a:lnTo>
                    <a:lnTo>
                      <a:pt x="1073" y="1268"/>
                    </a:lnTo>
                    <a:lnTo>
                      <a:pt x="1055" y="1280"/>
                    </a:lnTo>
                    <a:lnTo>
                      <a:pt x="1047" y="1274"/>
                    </a:lnTo>
                    <a:lnTo>
                      <a:pt x="1040" y="1268"/>
                    </a:lnTo>
                    <a:lnTo>
                      <a:pt x="1034" y="1259"/>
                    </a:lnTo>
                    <a:lnTo>
                      <a:pt x="1029" y="1249"/>
                    </a:lnTo>
                    <a:lnTo>
                      <a:pt x="1023" y="1241"/>
                    </a:lnTo>
                    <a:lnTo>
                      <a:pt x="1016" y="1231"/>
                    </a:lnTo>
                    <a:lnTo>
                      <a:pt x="1007" y="1220"/>
                    </a:lnTo>
                    <a:lnTo>
                      <a:pt x="997" y="1210"/>
                    </a:lnTo>
                    <a:lnTo>
                      <a:pt x="978" y="1215"/>
                    </a:lnTo>
                    <a:lnTo>
                      <a:pt x="978" y="1225"/>
                    </a:lnTo>
                    <a:lnTo>
                      <a:pt x="991" y="1235"/>
                    </a:lnTo>
                    <a:lnTo>
                      <a:pt x="992" y="1245"/>
                    </a:lnTo>
                    <a:lnTo>
                      <a:pt x="997" y="1251"/>
                    </a:lnTo>
                    <a:lnTo>
                      <a:pt x="1003" y="1258"/>
                    </a:lnTo>
                    <a:lnTo>
                      <a:pt x="1005" y="1268"/>
                    </a:lnTo>
                    <a:lnTo>
                      <a:pt x="1011" y="1275"/>
                    </a:lnTo>
                    <a:lnTo>
                      <a:pt x="1016" y="1283"/>
                    </a:lnTo>
                    <a:lnTo>
                      <a:pt x="1023" y="1290"/>
                    </a:lnTo>
                    <a:lnTo>
                      <a:pt x="1031" y="1298"/>
                    </a:lnTo>
                    <a:lnTo>
                      <a:pt x="1029" y="1306"/>
                    </a:lnTo>
                    <a:lnTo>
                      <a:pt x="1021" y="1310"/>
                    </a:lnTo>
                    <a:lnTo>
                      <a:pt x="1011" y="1314"/>
                    </a:lnTo>
                    <a:lnTo>
                      <a:pt x="1004" y="1320"/>
                    </a:lnTo>
                    <a:lnTo>
                      <a:pt x="995" y="1313"/>
                    </a:lnTo>
                    <a:lnTo>
                      <a:pt x="988" y="1306"/>
                    </a:lnTo>
                    <a:lnTo>
                      <a:pt x="981" y="1298"/>
                    </a:lnTo>
                    <a:lnTo>
                      <a:pt x="975" y="1291"/>
                    </a:lnTo>
                    <a:lnTo>
                      <a:pt x="968" y="1283"/>
                    </a:lnTo>
                    <a:lnTo>
                      <a:pt x="962" y="1275"/>
                    </a:lnTo>
                    <a:lnTo>
                      <a:pt x="955" y="1267"/>
                    </a:lnTo>
                    <a:lnTo>
                      <a:pt x="948" y="1259"/>
                    </a:lnTo>
                    <a:lnTo>
                      <a:pt x="926" y="1258"/>
                    </a:lnTo>
                    <a:lnTo>
                      <a:pt x="926" y="1268"/>
                    </a:lnTo>
                    <a:lnTo>
                      <a:pt x="929" y="1277"/>
                    </a:lnTo>
                    <a:lnTo>
                      <a:pt x="935" y="1285"/>
                    </a:lnTo>
                    <a:lnTo>
                      <a:pt x="940" y="1293"/>
                    </a:lnTo>
                    <a:lnTo>
                      <a:pt x="946" y="1300"/>
                    </a:lnTo>
                    <a:lnTo>
                      <a:pt x="953" y="1307"/>
                    </a:lnTo>
                    <a:lnTo>
                      <a:pt x="959" y="1314"/>
                    </a:lnTo>
                    <a:lnTo>
                      <a:pt x="966" y="1323"/>
                    </a:lnTo>
                    <a:lnTo>
                      <a:pt x="972" y="1332"/>
                    </a:lnTo>
                    <a:lnTo>
                      <a:pt x="974" y="1340"/>
                    </a:lnTo>
                    <a:lnTo>
                      <a:pt x="952" y="1348"/>
                    </a:lnTo>
                    <a:lnTo>
                      <a:pt x="943" y="1343"/>
                    </a:lnTo>
                    <a:lnTo>
                      <a:pt x="935" y="1339"/>
                    </a:lnTo>
                    <a:lnTo>
                      <a:pt x="926" y="1332"/>
                    </a:lnTo>
                    <a:lnTo>
                      <a:pt x="917" y="1323"/>
                    </a:lnTo>
                    <a:lnTo>
                      <a:pt x="909" y="1316"/>
                    </a:lnTo>
                    <a:lnTo>
                      <a:pt x="900" y="1307"/>
                    </a:lnTo>
                    <a:lnTo>
                      <a:pt x="891" y="1300"/>
                    </a:lnTo>
                    <a:lnTo>
                      <a:pt x="882" y="1294"/>
                    </a:lnTo>
                    <a:lnTo>
                      <a:pt x="869" y="1311"/>
                    </a:lnTo>
                    <a:lnTo>
                      <a:pt x="875" y="1319"/>
                    </a:lnTo>
                    <a:lnTo>
                      <a:pt x="881" y="1326"/>
                    </a:lnTo>
                    <a:lnTo>
                      <a:pt x="887" y="1333"/>
                    </a:lnTo>
                    <a:lnTo>
                      <a:pt x="893" y="1342"/>
                    </a:lnTo>
                    <a:lnTo>
                      <a:pt x="900" y="1349"/>
                    </a:lnTo>
                    <a:lnTo>
                      <a:pt x="907" y="1356"/>
                    </a:lnTo>
                    <a:lnTo>
                      <a:pt x="916" y="1362"/>
                    </a:lnTo>
                    <a:lnTo>
                      <a:pt x="924" y="1366"/>
                    </a:lnTo>
                    <a:lnTo>
                      <a:pt x="916" y="1374"/>
                    </a:lnTo>
                    <a:lnTo>
                      <a:pt x="909" y="1381"/>
                    </a:lnTo>
                    <a:lnTo>
                      <a:pt x="901" y="1387"/>
                    </a:lnTo>
                    <a:lnTo>
                      <a:pt x="891" y="1391"/>
                    </a:lnTo>
                    <a:lnTo>
                      <a:pt x="884" y="1384"/>
                    </a:lnTo>
                    <a:lnTo>
                      <a:pt x="877" y="1375"/>
                    </a:lnTo>
                    <a:lnTo>
                      <a:pt x="868" y="1368"/>
                    </a:lnTo>
                    <a:lnTo>
                      <a:pt x="861" y="1359"/>
                    </a:lnTo>
                    <a:lnTo>
                      <a:pt x="852" y="1352"/>
                    </a:lnTo>
                    <a:lnTo>
                      <a:pt x="842" y="1345"/>
                    </a:lnTo>
                    <a:lnTo>
                      <a:pt x="832" y="1337"/>
                    </a:lnTo>
                    <a:lnTo>
                      <a:pt x="822" y="1330"/>
                    </a:lnTo>
                    <a:lnTo>
                      <a:pt x="812" y="1340"/>
                    </a:lnTo>
                    <a:lnTo>
                      <a:pt x="816" y="1350"/>
                    </a:lnTo>
                    <a:lnTo>
                      <a:pt x="822" y="1359"/>
                    </a:lnTo>
                    <a:lnTo>
                      <a:pt x="829" y="1368"/>
                    </a:lnTo>
                    <a:lnTo>
                      <a:pt x="836" y="1377"/>
                    </a:lnTo>
                    <a:lnTo>
                      <a:pt x="845" y="1384"/>
                    </a:lnTo>
                    <a:lnTo>
                      <a:pt x="854" y="1392"/>
                    </a:lnTo>
                    <a:lnTo>
                      <a:pt x="862" y="1401"/>
                    </a:lnTo>
                    <a:lnTo>
                      <a:pt x="872" y="1410"/>
                    </a:lnTo>
                    <a:lnTo>
                      <a:pt x="869" y="1417"/>
                    </a:lnTo>
                    <a:lnTo>
                      <a:pt x="864" y="1424"/>
                    </a:lnTo>
                    <a:lnTo>
                      <a:pt x="856" y="1430"/>
                    </a:lnTo>
                    <a:lnTo>
                      <a:pt x="848" y="1439"/>
                    </a:lnTo>
                    <a:lnTo>
                      <a:pt x="841" y="1439"/>
                    </a:lnTo>
                    <a:lnTo>
                      <a:pt x="832" y="1431"/>
                    </a:lnTo>
                    <a:lnTo>
                      <a:pt x="825" y="1426"/>
                    </a:lnTo>
                    <a:lnTo>
                      <a:pt x="816" y="1420"/>
                    </a:lnTo>
                    <a:lnTo>
                      <a:pt x="810" y="1414"/>
                    </a:lnTo>
                    <a:lnTo>
                      <a:pt x="803" y="1407"/>
                    </a:lnTo>
                    <a:lnTo>
                      <a:pt x="796" y="1400"/>
                    </a:lnTo>
                    <a:lnTo>
                      <a:pt x="788" y="1392"/>
                    </a:lnTo>
                    <a:lnTo>
                      <a:pt x="780" y="1382"/>
                    </a:lnTo>
                    <a:lnTo>
                      <a:pt x="757" y="1394"/>
                    </a:lnTo>
                    <a:lnTo>
                      <a:pt x="761" y="1404"/>
                    </a:lnTo>
                    <a:lnTo>
                      <a:pt x="767" y="1413"/>
                    </a:lnTo>
                    <a:lnTo>
                      <a:pt x="774" y="1421"/>
                    </a:lnTo>
                    <a:lnTo>
                      <a:pt x="783" y="1430"/>
                    </a:lnTo>
                    <a:lnTo>
                      <a:pt x="793" y="1437"/>
                    </a:lnTo>
                    <a:lnTo>
                      <a:pt x="803" y="1446"/>
                    </a:lnTo>
                    <a:lnTo>
                      <a:pt x="813" y="1455"/>
                    </a:lnTo>
                    <a:lnTo>
                      <a:pt x="822" y="1463"/>
                    </a:lnTo>
                    <a:lnTo>
                      <a:pt x="815" y="1469"/>
                    </a:lnTo>
                    <a:lnTo>
                      <a:pt x="810" y="1475"/>
                    </a:lnTo>
                    <a:lnTo>
                      <a:pt x="803" y="1481"/>
                    </a:lnTo>
                    <a:lnTo>
                      <a:pt x="793" y="1485"/>
                    </a:lnTo>
                    <a:lnTo>
                      <a:pt x="784" y="1481"/>
                    </a:lnTo>
                    <a:lnTo>
                      <a:pt x="775" y="1473"/>
                    </a:lnTo>
                    <a:lnTo>
                      <a:pt x="767" y="1468"/>
                    </a:lnTo>
                    <a:lnTo>
                      <a:pt x="760" y="1460"/>
                    </a:lnTo>
                    <a:lnTo>
                      <a:pt x="751" y="1452"/>
                    </a:lnTo>
                    <a:lnTo>
                      <a:pt x="742" y="1444"/>
                    </a:lnTo>
                    <a:lnTo>
                      <a:pt x="734" y="1436"/>
                    </a:lnTo>
                    <a:lnTo>
                      <a:pt x="723" y="1429"/>
                    </a:lnTo>
                    <a:lnTo>
                      <a:pt x="702" y="1442"/>
                    </a:lnTo>
                    <a:lnTo>
                      <a:pt x="705" y="1449"/>
                    </a:lnTo>
                    <a:lnTo>
                      <a:pt x="710" y="1456"/>
                    </a:lnTo>
                    <a:lnTo>
                      <a:pt x="718" y="1462"/>
                    </a:lnTo>
                    <a:lnTo>
                      <a:pt x="723" y="1468"/>
                    </a:lnTo>
                    <a:lnTo>
                      <a:pt x="731" y="1472"/>
                    </a:lnTo>
                    <a:lnTo>
                      <a:pt x="738" y="1476"/>
                    </a:lnTo>
                    <a:lnTo>
                      <a:pt x="744" y="1481"/>
                    </a:lnTo>
                    <a:lnTo>
                      <a:pt x="749" y="1486"/>
                    </a:lnTo>
                    <a:lnTo>
                      <a:pt x="754" y="1494"/>
                    </a:lnTo>
                    <a:lnTo>
                      <a:pt x="747" y="1496"/>
                    </a:lnTo>
                    <a:lnTo>
                      <a:pt x="736" y="1496"/>
                    </a:lnTo>
                    <a:lnTo>
                      <a:pt x="726" y="1496"/>
                    </a:lnTo>
                    <a:lnTo>
                      <a:pt x="716" y="1499"/>
                    </a:lnTo>
                    <a:lnTo>
                      <a:pt x="695" y="1492"/>
                    </a:lnTo>
                    <a:lnTo>
                      <a:pt x="686" y="1488"/>
                    </a:lnTo>
                    <a:lnTo>
                      <a:pt x="679" y="1479"/>
                    </a:lnTo>
                    <a:lnTo>
                      <a:pt x="670" y="1470"/>
                    </a:lnTo>
                    <a:lnTo>
                      <a:pt x="658" y="1465"/>
                    </a:lnTo>
                    <a:lnTo>
                      <a:pt x="650" y="1468"/>
                    </a:lnTo>
                    <a:lnTo>
                      <a:pt x="644" y="1476"/>
                    </a:lnTo>
                    <a:lnTo>
                      <a:pt x="644" y="1485"/>
                    </a:lnTo>
                    <a:lnTo>
                      <a:pt x="650" y="1492"/>
                    </a:lnTo>
                    <a:lnTo>
                      <a:pt x="647" y="1499"/>
                    </a:lnTo>
                    <a:lnTo>
                      <a:pt x="629" y="1499"/>
                    </a:lnTo>
                    <a:lnTo>
                      <a:pt x="612" y="1501"/>
                    </a:lnTo>
                    <a:lnTo>
                      <a:pt x="595" y="1501"/>
                    </a:lnTo>
                    <a:lnTo>
                      <a:pt x="576" y="1501"/>
                    </a:lnTo>
                    <a:lnTo>
                      <a:pt x="559" y="1501"/>
                    </a:lnTo>
                    <a:lnTo>
                      <a:pt x="541" y="1501"/>
                    </a:lnTo>
                    <a:lnTo>
                      <a:pt x="524" y="1501"/>
                    </a:lnTo>
                    <a:lnTo>
                      <a:pt x="507" y="1499"/>
                    </a:lnTo>
                    <a:lnTo>
                      <a:pt x="488" y="1499"/>
                    </a:lnTo>
                    <a:lnTo>
                      <a:pt x="470" y="1499"/>
                    </a:lnTo>
                    <a:lnTo>
                      <a:pt x="453" y="1499"/>
                    </a:lnTo>
                    <a:lnTo>
                      <a:pt x="434" y="1499"/>
                    </a:lnTo>
                    <a:lnTo>
                      <a:pt x="417" y="1499"/>
                    </a:lnTo>
                    <a:lnTo>
                      <a:pt x="398" y="1499"/>
                    </a:lnTo>
                    <a:lnTo>
                      <a:pt x="381" y="1499"/>
                    </a:lnTo>
                    <a:lnTo>
                      <a:pt x="362" y="1499"/>
                    </a:lnTo>
                    <a:lnTo>
                      <a:pt x="356" y="1504"/>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962760" y="1749600"/>
                <a:ext cx="1463760" cy="1334880"/>
              </a:xfrm>
              <a:custGeom>
                <a:avLst/>
                <a:gdLst/>
                <a:ahLst/>
                <a:rect l="l" t="t" r="r" b="b"/>
                <a:pathLst>
                  <a:path w="2766" h="2525">
                    <a:moveTo>
                      <a:pt x="136" y="2525"/>
                    </a:moveTo>
                    <a:lnTo>
                      <a:pt x="123" y="2522"/>
                    </a:lnTo>
                    <a:lnTo>
                      <a:pt x="109" y="2520"/>
                    </a:lnTo>
                    <a:lnTo>
                      <a:pt x="96" y="2520"/>
                    </a:lnTo>
                    <a:lnTo>
                      <a:pt x="81" y="2520"/>
                    </a:lnTo>
                    <a:lnTo>
                      <a:pt x="65" y="2522"/>
                    </a:lnTo>
                    <a:lnTo>
                      <a:pt x="51" y="2522"/>
                    </a:lnTo>
                    <a:lnTo>
                      <a:pt x="35" y="2522"/>
                    </a:lnTo>
                    <a:lnTo>
                      <a:pt x="20" y="2522"/>
                    </a:lnTo>
                    <a:lnTo>
                      <a:pt x="9" y="1902"/>
                    </a:lnTo>
                    <a:lnTo>
                      <a:pt x="4" y="1279"/>
                    </a:lnTo>
                    <a:lnTo>
                      <a:pt x="2" y="656"/>
                    </a:lnTo>
                    <a:lnTo>
                      <a:pt x="0" y="32"/>
                    </a:lnTo>
                    <a:lnTo>
                      <a:pt x="15" y="21"/>
                    </a:lnTo>
                    <a:lnTo>
                      <a:pt x="67" y="19"/>
                    </a:lnTo>
                    <a:lnTo>
                      <a:pt x="120" y="16"/>
                    </a:lnTo>
                    <a:lnTo>
                      <a:pt x="172" y="16"/>
                    </a:lnTo>
                    <a:lnTo>
                      <a:pt x="226" y="15"/>
                    </a:lnTo>
                    <a:lnTo>
                      <a:pt x="278" y="13"/>
                    </a:lnTo>
                    <a:lnTo>
                      <a:pt x="331" y="13"/>
                    </a:lnTo>
                    <a:lnTo>
                      <a:pt x="385" y="13"/>
                    </a:lnTo>
                    <a:lnTo>
                      <a:pt x="438" y="12"/>
                    </a:lnTo>
                    <a:lnTo>
                      <a:pt x="492" y="12"/>
                    </a:lnTo>
                    <a:lnTo>
                      <a:pt x="544" y="12"/>
                    </a:lnTo>
                    <a:lnTo>
                      <a:pt x="597" y="13"/>
                    </a:lnTo>
                    <a:lnTo>
                      <a:pt x="651" y="13"/>
                    </a:lnTo>
                    <a:lnTo>
                      <a:pt x="704" y="13"/>
                    </a:lnTo>
                    <a:lnTo>
                      <a:pt x="758" y="13"/>
                    </a:lnTo>
                    <a:lnTo>
                      <a:pt x="810" y="13"/>
                    </a:lnTo>
                    <a:lnTo>
                      <a:pt x="863" y="13"/>
                    </a:lnTo>
                    <a:lnTo>
                      <a:pt x="923" y="13"/>
                    </a:lnTo>
                    <a:lnTo>
                      <a:pt x="982" y="12"/>
                    </a:lnTo>
                    <a:lnTo>
                      <a:pt x="1043" y="12"/>
                    </a:lnTo>
                    <a:lnTo>
                      <a:pt x="1102" y="10"/>
                    </a:lnTo>
                    <a:lnTo>
                      <a:pt x="1161" y="10"/>
                    </a:lnTo>
                    <a:lnTo>
                      <a:pt x="1221" y="9"/>
                    </a:lnTo>
                    <a:lnTo>
                      <a:pt x="1280" y="9"/>
                    </a:lnTo>
                    <a:lnTo>
                      <a:pt x="1339" y="9"/>
                    </a:lnTo>
                    <a:lnTo>
                      <a:pt x="1398" y="8"/>
                    </a:lnTo>
                    <a:lnTo>
                      <a:pt x="1456" y="8"/>
                    </a:lnTo>
                    <a:lnTo>
                      <a:pt x="1516" y="8"/>
                    </a:lnTo>
                    <a:lnTo>
                      <a:pt x="1575" y="6"/>
                    </a:lnTo>
                    <a:lnTo>
                      <a:pt x="1634" y="6"/>
                    </a:lnTo>
                    <a:lnTo>
                      <a:pt x="1692" y="6"/>
                    </a:lnTo>
                    <a:lnTo>
                      <a:pt x="1751" y="5"/>
                    </a:lnTo>
                    <a:lnTo>
                      <a:pt x="1811" y="5"/>
                    </a:lnTo>
                    <a:lnTo>
                      <a:pt x="1870" y="5"/>
                    </a:lnTo>
                    <a:lnTo>
                      <a:pt x="1928" y="3"/>
                    </a:lnTo>
                    <a:lnTo>
                      <a:pt x="1987" y="3"/>
                    </a:lnTo>
                    <a:lnTo>
                      <a:pt x="2045" y="3"/>
                    </a:lnTo>
                    <a:lnTo>
                      <a:pt x="2104" y="3"/>
                    </a:lnTo>
                    <a:lnTo>
                      <a:pt x="2162" y="3"/>
                    </a:lnTo>
                    <a:lnTo>
                      <a:pt x="2221" y="2"/>
                    </a:lnTo>
                    <a:lnTo>
                      <a:pt x="2279" y="2"/>
                    </a:lnTo>
                    <a:lnTo>
                      <a:pt x="2338" y="2"/>
                    </a:lnTo>
                    <a:lnTo>
                      <a:pt x="2396" y="2"/>
                    </a:lnTo>
                    <a:lnTo>
                      <a:pt x="2455" y="2"/>
                    </a:lnTo>
                    <a:lnTo>
                      <a:pt x="2513" y="0"/>
                    </a:lnTo>
                    <a:lnTo>
                      <a:pt x="2573" y="0"/>
                    </a:lnTo>
                    <a:lnTo>
                      <a:pt x="2630" y="0"/>
                    </a:lnTo>
                    <a:lnTo>
                      <a:pt x="2690" y="0"/>
                    </a:lnTo>
                    <a:lnTo>
                      <a:pt x="2748" y="0"/>
                    </a:lnTo>
                    <a:lnTo>
                      <a:pt x="2761" y="289"/>
                    </a:lnTo>
                    <a:lnTo>
                      <a:pt x="2765" y="580"/>
                    </a:lnTo>
                    <a:lnTo>
                      <a:pt x="2765" y="870"/>
                    </a:lnTo>
                    <a:lnTo>
                      <a:pt x="2766" y="1161"/>
                    </a:lnTo>
                    <a:lnTo>
                      <a:pt x="2752" y="1168"/>
                    </a:lnTo>
                    <a:lnTo>
                      <a:pt x="2740" y="1165"/>
                    </a:lnTo>
                    <a:lnTo>
                      <a:pt x="2729" y="1161"/>
                    </a:lnTo>
                    <a:lnTo>
                      <a:pt x="2719" y="1156"/>
                    </a:lnTo>
                    <a:lnTo>
                      <a:pt x="2709" y="1150"/>
                    </a:lnTo>
                    <a:lnTo>
                      <a:pt x="2697" y="1146"/>
                    </a:lnTo>
                    <a:lnTo>
                      <a:pt x="2685" y="1142"/>
                    </a:lnTo>
                    <a:lnTo>
                      <a:pt x="2672" y="1139"/>
                    </a:lnTo>
                    <a:lnTo>
                      <a:pt x="2659" y="1136"/>
                    </a:lnTo>
                    <a:lnTo>
                      <a:pt x="2639" y="1129"/>
                    </a:lnTo>
                    <a:lnTo>
                      <a:pt x="2620" y="1122"/>
                    </a:lnTo>
                    <a:lnTo>
                      <a:pt x="2599" y="1114"/>
                    </a:lnTo>
                    <a:lnTo>
                      <a:pt x="2578" y="1107"/>
                    </a:lnTo>
                    <a:lnTo>
                      <a:pt x="2557" y="1101"/>
                    </a:lnTo>
                    <a:lnTo>
                      <a:pt x="2536" y="1094"/>
                    </a:lnTo>
                    <a:lnTo>
                      <a:pt x="2515" y="1087"/>
                    </a:lnTo>
                    <a:lnTo>
                      <a:pt x="2493" y="1080"/>
                    </a:lnTo>
                    <a:lnTo>
                      <a:pt x="2470" y="1072"/>
                    </a:lnTo>
                    <a:lnTo>
                      <a:pt x="2448" y="1065"/>
                    </a:lnTo>
                    <a:lnTo>
                      <a:pt x="2427" y="1058"/>
                    </a:lnTo>
                    <a:lnTo>
                      <a:pt x="2405" y="1051"/>
                    </a:lnTo>
                    <a:lnTo>
                      <a:pt x="2383" y="1044"/>
                    </a:lnTo>
                    <a:lnTo>
                      <a:pt x="2363" y="1036"/>
                    </a:lnTo>
                    <a:lnTo>
                      <a:pt x="2341" y="1029"/>
                    </a:lnTo>
                    <a:lnTo>
                      <a:pt x="2321" y="1020"/>
                    </a:lnTo>
                    <a:lnTo>
                      <a:pt x="2285" y="1007"/>
                    </a:lnTo>
                    <a:lnTo>
                      <a:pt x="2249" y="996"/>
                    </a:lnTo>
                    <a:lnTo>
                      <a:pt x="2213" y="984"/>
                    </a:lnTo>
                    <a:lnTo>
                      <a:pt x="2176" y="973"/>
                    </a:lnTo>
                    <a:lnTo>
                      <a:pt x="2140" y="963"/>
                    </a:lnTo>
                    <a:lnTo>
                      <a:pt x="2103" y="951"/>
                    </a:lnTo>
                    <a:lnTo>
                      <a:pt x="2066" y="941"/>
                    </a:lnTo>
                    <a:lnTo>
                      <a:pt x="2029" y="931"/>
                    </a:lnTo>
                    <a:lnTo>
                      <a:pt x="1991" y="922"/>
                    </a:lnTo>
                    <a:lnTo>
                      <a:pt x="1955" y="912"/>
                    </a:lnTo>
                    <a:lnTo>
                      <a:pt x="1919" y="902"/>
                    </a:lnTo>
                    <a:lnTo>
                      <a:pt x="1881" y="892"/>
                    </a:lnTo>
                    <a:lnTo>
                      <a:pt x="1845" y="882"/>
                    </a:lnTo>
                    <a:lnTo>
                      <a:pt x="1809" y="872"/>
                    </a:lnTo>
                    <a:lnTo>
                      <a:pt x="1773" y="860"/>
                    </a:lnTo>
                    <a:lnTo>
                      <a:pt x="1738" y="850"/>
                    </a:lnTo>
                    <a:lnTo>
                      <a:pt x="1704" y="838"/>
                    </a:lnTo>
                    <a:lnTo>
                      <a:pt x="1669" y="827"/>
                    </a:lnTo>
                    <a:lnTo>
                      <a:pt x="1634" y="814"/>
                    </a:lnTo>
                    <a:lnTo>
                      <a:pt x="1601" y="801"/>
                    </a:lnTo>
                    <a:lnTo>
                      <a:pt x="1568" y="786"/>
                    </a:lnTo>
                    <a:lnTo>
                      <a:pt x="1536" y="772"/>
                    </a:lnTo>
                    <a:lnTo>
                      <a:pt x="1504" y="757"/>
                    </a:lnTo>
                    <a:lnTo>
                      <a:pt x="1474" y="740"/>
                    </a:lnTo>
                    <a:lnTo>
                      <a:pt x="1445" y="723"/>
                    </a:lnTo>
                    <a:lnTo>
                      <a:pt x="1416" y="705"/>
                    </a:lnTo>
                    <a:lnTo>
                      <a:pt x="1387" y="685"/>
                    </a:lnTo>
                    <a:lnTo>
                      <a:pt x="1361" y="665"/>
                    </a:lnTo>
                    <a:lnTo>
                      <a:pt x="1333" y="643"/>
                    </a:lnTo>
                    <a:lnTo>
                      <a:pt x="1309" y="620"/>
                    </a:lnTo>
                    <a:lnTo>
                      <a:pt x="1286" y="596"/>
                    </a:lnTo>
                    <a:lnTo>
                      <a:pt x="1262" y="570"/>
                    </a:lnTo>
                    <a:lnTo>
                      <a:pt x="1248" y="547"/>
                    </a:lnTo>
                    <a:lnTo>
                      <a:pt x="1231" y="523"/>
                    </a:lnTo>
                    <a:lnTo>
                      <a:pt x="1213" y="500"/>
                    </a:lnTo>
                    <a:lnTo>
                      <a:pt x="1196" y="479"/>
                    </a:lnTo>
                    <a:lnTo>
                      <a:pt x="1176" y="458"/>
                    </a:lnTo>
                    <a:lnTo>
                      <a:pt x="1155" y="437"/>
                    </a:lnTo>
                    <a:lnTo>
                      <a:pt x="1135" y="416"/>
                    </a:lnTo>
                    <a:lnTo>
                      <a:pt x="1114" y="398"/>
                    </a:lnTo>
                    <a:lnTo>
                      <a:pt x="1092" y="379"/>
                    </a:lnTo>
                    <a:lnTo>
                      <a:pt x="1069" y="359"/>
                    </a:lnTo>
                    <a:lnTo>
                      <a:pt x="1047" y="341"/>
                    </a:lnTo>
                    <a:lnTo>
                      <a:pt x="1024" y="323"/>
                    </a:lnTo>
                    <a:lnTo>
                      <a:pt x="1001" y="304"/>
                    </a:lnTo>
                    <a:lnTo>
                      <a:pt x="978" y="286"/>
                    </a:lnTo>
                    <a:lnTo>
                      <a:pt x="954" y="268"/>
                    </a:lnTo>
                    <a:lnTo>
                      <a:pt x="931" y="250"/>
                    </a:lnTo>
                    <a:lnTo>
                      <a:pt x="926" y="242"/>
                    </a:lnTo>
                    <a:lnTo>
                      <a:pt x="920" y="232"/>
                    </a:lnTo>
                    <a:lnTo>
                      <a:pt x="914" y="221"/>
                    </a:lnTo>
                    <a:lnTo>
                      <a:pt x="908" y="211"/>
                    </a:lnTo>
                    <a:lnTo>
                      <a:pt x="902" y="201"/>
                    </a:lnTo>
                    <a:lnTo>
                      <a:pt x="897" y="190"/>
                    </a:lnTo>
                    <a:lnTo>
                      <a:pt x="891" y="178"/>
                    </a:lnTo>
                    <a:lnTo>
                      <a:pt x="885" y="167"/>
                    </a:lnTo>
                    <a:lnTo>
                      <a:pt x="872" y="145"/>
                    </a:lnTo>
                    <a:lnTo>
                      <a:pt x="866" y="141"/>
                    </a:lnTo>
                    <a:lnTo>
                      <a:pt x="860" y="136"/>
                    </a:lnTo>
                    <a:lnTo>
                      <a:pt x="855" y="132"/>
                    </a:lnTo>
                    <a:lnTo>
                      <a:pt x="849" y="127"/>
                    </a:lnTo>
                    <a:lnTo>
                      <a:pt x="843" y="123"/>
                    </a:lnTo>
                    <a:lnTo>
                      <a:pt x="839" y="119"/>
                    </a:lnTo>
                    <a:lnTo>
                      <a:pt x="833" y="116"/>
                    </a:lnTo>
                    <a:lnTo>
                      <a:pt x="827" y="112"/>
                    </a:lnTo>
                    <a:lnTo>
                      <a:pt x="801" y="112"/>
                    </a:lnTo>
                    <a:lnTo>
                      <a:pt x="774" y="114"/>
                    </a:lnTo>
                    <a:lnTo>
                      <a:pt x="748" y="120"/>
                    </a:lnTo>
                    <a:lnTo>
                      <a:pt x="722" y="127"/>
                    </a:lnTo>
                    <a:lnTo>
                      <a:pt x="696" y="139"/>
                    </a:lnTo>
                    <a:lnTo>
                      <a:pt x="671" y="151"/>
                    </a:lnTo>
                    <a:lnTo>
                      <a:pt x="648" y="165"/>
                    </a:lnTo>
                    <a:lnTo>
                      <a:pt x="628" y="180"/>
                    </a:lnTo>
                    <a:lnTo>
                      <a:pt x="616" y="180"/>
                    </a:lnTo>
                    <a:lnTo>
                      <a:pt x="606" y="181"/>
                    </a:lnTo>
                    <a:lnTo>
                      <a:pt x="594" y="181"/>
                    </a:lnTo>
                    <a:lnTo>
                      <a:pt x="583" y="182"/>
                    </a:lnTo>
                    <a:lnTo>
                      <a:pt x="573" y="184"/>
                    </a:lnTo>
                    <a:lnTo>
                      <a:pt x="561" y="185"/>
                    </a:lnTo>
                    <a:lnTo>
                      <a:pt x="548" y="187"/>
                    </a:lnTo>
                    <a:lnTo>
                      <a:pt x="537" y="188"/>
                    </a:lnTo>
                    <a:lnTo>
                      <a:pt x="529" y="191"/>
                    </a:lnTo>
                    <a:lnTo>
                      <a:pt x="522" y="194"/>
                    </a:lnTo>
                    <a:lnTo>
                      <a:pt x="516" y="197"/>
                    </a:lnTo>
                    <a:lnTo>
                      <a:pt x="511" y="200"/>
                    </a:lnTo>
                    <a:lnTo>
                      <a:pt x="505" y="204"/>
                    </a:lnTo>
                    <a:lnTo>
                      <a:pt x="499" y="208"/>
                    </a:lnTo>
                    <a:lnTo>
                      <a:pt x="492" y="211"/>
                    </a:lnTo>
                    <a:lnTo>
                      <a:pt x="483" y="216"/>
                    </a:lnTo>
                    <a:lnTo>
                      <a:pt x="476" y="221"/>
                    </a:lnTo>
                    <a:lnTo>
                      <a:pt x="470" y="229"/>
                    </a:lnTo>
                    <a:lnTo>
                      <a:pt x="464" y="236"/>
                    </a:lnTo>
                    <a:lnTo>
                      <a:pt x="458" y="245"/>
                    </a:lnTo>
                    <a:lnTo>
                      <a:pt x="457" y="262"/>
                    </a:lnTo>
                    <a:lnTo>
                      <a:pt x="457" y="279"/>
                    </a:lnTo>
                    <a:lnTo>
                      <a:pt x="457" y="298"/>
                    </a:lnTo>
                    <a:lnTo>
                      <a:pt x="457" y="317"/>
                    </a:lnTo>
                    <a:lnTo>
                      <a:pt x="435" y="317"/>
                    </a:lnTo>
                    <a:lnTo>
                      <a:pt x="424" y="318"/>
                    </a:lnTo>
                    <a:lnTo>
                      <a:pt x="414" y="323"/>
                    </a:lnTo>
                    <a:lnTo>
                      <a:pt x="405" y="330"/>
                    </a:lnTo>
                    <a:lnTo>
                      <a:pt x="393" y="337"/>
                    </a:lnTo>
                    <a:lnTo>
                      <a:pt x="388" y="338"/>
                    </a:lnTo>
                    <a:lnTo>
                      <a:pt x="382" y="344"/>
                    </a:lnTo>
                    <a:lnTo>
                      <a:pt x="375" y="351"/>
                    </a:lnTo>
                    <a:lnTo>
                      <a:pt x="369" y="360"/>
                    </a:lnTo>
                    <a:lnTo>
                      <a:pt x="367" y="377"/>
                    </a:lnTo>
                    <a:lnTo>
                      <a:pt x="363" y="396"/>
                    </a:lnTo>
                    <a:lnTo>
                      <a:pt x="360" y="415"/>
                    </a:lnTo>
                    <a:lnTo>
                      <a:pt x="357" y="434"/>
                    </a:lnTo>
                    <a:lnTo>
                      <a:pt x="353" y="434"/>
                    </a:lnTo>
                    <a:lnTo>
                      <a:pt x="347" y="435"/>
                    </a:lnTo>
                    <a:lnTo>
                      <a:pt x="343" y="437"/>
                    </a:lnTo>
                    <a:lnTo>
                      <a:pt x="337" y="438"/>
                    </a:lnTo>
                    <a:lnTo>
                      <a:pt x="331" y="440"/>
                    </a:lnTo>
                    <a:lnTo>
                      <a:pt x="325" y="441"/>
                    </a:lnTo>
                    <a:lnTo>
                      <a:pt x="320" y="442"/>
                    </a:lnTo>
                    <a:lnTo>
                      <a:pt x="314" y="444"/>
                    </a:lnTo>
                    <a:lnTo>
                      <a:pt x="295" y="460"/>
                    </a:lnTo>
                    <a:lnTo>
                      <a:pt x="281" y="481"/>
                    </a:lnTo>
                    <a:lnTo>
                      <a:pt x="269" y="507"/>
                    </a:lnTo>
                    <a:lnTo>
                      <a:pt x="262" y="536"/>
                    </a:lnTo>
                    <a:lnTo>
                      <a:pt x="255" y="567"/>
                    </a:lnTo>
                    <a:lnTo>
                      <a:pt x="250" y="597"/>
                    </a:lnTo>
                    <a:lnTo>
                      <a:pt x="247" y="627"/>
                    </a:lnTo>
                    <a:lnTo>
                      <a:pt x="243" y="656"/>
                    </a:lnTo>
                    <a:lnTo>
                      <a:pt x="247" y="666"/>
                    </a:lnTo>
                    <a:lnTo>
                      <a:pt x="253" y="678"/>
                    </a:lnTo>
                    <a:lnTo>
                      <a:pt x="257" y="688"/>
                    </a:lnTo>
                    <a:lnTo>
                      <a:pt x="263" y="700"/>
                    </a:lnTo>
                    <a:lnTo>
                      <a:pt x="268" y="710"/>
                    </a:lnTo>
                    <a:lnTo>
                      <a:pt x="273" y="721"/>
                    </a:lnTo>
                    <a:lnTo>
                      <a:pt x="279" y="731"/>
                    </a:lnTo>
                    <a:lnTo>
                      <a:pt x="286" y="743"/>
                    </a:lnTo>
                    <a:lnTo>
                      <a:pt x="291" y="756"/>
                    </a:lnTo>
                    <a:lnTo>
                      <a:pt x="297" y="769"/>
                    </a:lnTo>
                    <a:lnTo>
                      <a:pt x="302" y="782"/>
                    </a:lnTo>
                    <a:lnTo>
                      <a:pt x="311" y="794"/>
                    </a:lnTo>
                    <a:lnTo>
                      <a:pt x="320" y="807"/>
                    </a:lnTo>
                    <a:lnTo>
                      <a:pt x="328" y="818"/>
                    </a:lnTo>
                    <a:lnTo>
                      <a:pt x="337" y="833"/>
                    </a:lnTo>
                    <a:lnTo>
                      <a:pt x="346" y="846"/>
                    </a:lnTo>
                    <a:lnTo>
                      <a:pt x="364" y="847"/>
                    </a:lnTo>
                    <a:lnTo>
                      <a:pt x="372" y="864"/>
                    </a:lnTo>
                    <a:lnTo>
                      <a:pt x="376" y="882"/>
                    </a:lnTo>
                    <a:lnTo>
                      <a:pt x="380" y="899"/>
                    </a:lnTo>
                    <a:lnTo>
                      <a:pt x="383" y="916"/>
                    </a:lnTo>
                    <a:lnTo>
                      <a:pt x="392" y="938"/>
                    </a:lnTo>
                    <a:lnTo>
                      <a:pt x="405" y="951"/>
                    </a:lnTo>
                    <a:lnTo>
                      <a:pt x="418" y="963"/>
                    </a:lnTo>
                    <a:lnTo>
                      <a:pt x="431" y="976"/>
                    </a:lnTo>
                    <a:lnTo>
                      <a:pt x="444" y="989"/>
                    </a:lnTo>
                    <a:lnTo>
                      <a:pt x="458" y="1000"/>
                    </a:lnTo>
                    <a:lnTo>
                      <a:pt x="471" y="1013"/>
                    </a:lnTo>
                    <a:lnTo>
                      <a:pt x="486" y="1026"/>
                    </a:lnTo>
                    <a:lnTo>
                      <a:pt x="502" y="1038"/>
                    </a:lnTo>
                    <a:lnTo>
                      <a:pt x="516" y="1051"/>
                    </a:lnTo>
                    <a:lnTo>
                      <a:pt x="532" y="1062"/>
                    </a:lnTo>
                    <a:lnTo>
                      <a:pt x="548" y="1074"/>
                    </a:lnTo>
                    <a:lnTo>
                      <a:pt x="564" y="1085"/>
                    </a:lnTo>
                    <a:lnTo>
                      <a:pt x="580" y="1096"/>
                    </a:lnTo>
                    <a:lnTo>
                      <a:pt x="597" y="1106"/>
                    </a:lnTo>
                    <a:lnTo>
                      <a:pt x="615" y="1116"/>
                    </a:lnTo>
                    <a:lnTo>
                      <a:pt x="632" y="1126"/>
                    </a:lnTo>
                    <a:lnTo>
                      <a:pt x="655" y="1133"/>
                    </a:lnTo>
                    <a:lnTo>
                      <a:pt x="678" y="1137"/>
                    </a:lnTo>
                    <a:lnTo>
                      <a:pt x="701" y="1140"/>
                    </a:lnTo>
                    <a:lnTo>
                      <a:pt x="725" y="1142"/>
                    </a:lnTo>
                    <a:lnTo>
                      <a:pt x="749" y="1143"/>
                    </a:lnTo>
                    <a:lnTo>
                      <a:pt x="772" y="1142"/>
                    </a:lnTo>
                    <a:lnTo>
                      <a:pt x="797" y="1140"/>
                    </a:lnTo>
                    <a:lnTo>
                      <a:pt x="821" y="1139"/>
                    </a:lnTo>
                    <a:lnTo>
                      <a:pt x="846" y="1136"/>
                    </a:lnTo>
                    <a:lnTo>
                      <a:pt x="869" y="1133"/>
                    </a:lnTo>
                    <a:lnTo>
                      <a:pt x="894" y="1130"/>
                    </a:lnTo>
                    <a:lnTo>
                      <a:pt x="918" y="1129"/>
                    </a:lnTo>
                    <a:lnTo>
                      <a:pt x="943" y="1126"/>
                    </a:lnTo>
                    <a:lnTo>
                      <a:pt x="967" y="1124"/>
                    </a:lnTo>
                    <a:lnTo>
                      <a:pt x="992" y="1124"/>
                    </a:lnTo>
                    <a:lnTo>
                      <a:pt x="1017" y="1126"/>
                    </a:lnTo>
                    <a:lnTo>
                      <a:pt x="1028" y="1129"/>
                    </a:lnTo>
                    <a:lnTo>
                      <a:pt x="1037" y="1135"/>
                    </a:lnTo>
                    <a:lnTo>
                      <a:pt x="1046" y="1139"/>
                    </a:lnTo>
                    <a:lnTo>
                      <a:pt x="1054" y="1145"/>
                    </a:lnTo>
                    <a:lnTo>
                      <a:pt x="1063" y="1150"/>
                    </a:lnTo>
                    <a:lnTo>
                      <a:pt x="1073" y="1156"/>
                    </a:lnTo>
                    <a:lnTo>
                      <a:pt x="1085" y="1161"/>
                    </a:lnTo>
                    <a:lnTo>
                      <a:pt x="1098" y="1163"/>
                    </a:lnTo>
                    <a:lnTo>
                      <a:pt x="1114" y="1174"/>
                    </a:lnTo>
                    <a:lnTo>
                      <a:pt x="1129" y="1182"/>
                    </a:lnTo>
                    <a:lnTo>
                      <a:pt x="1145" y="1191"/>
                    </a:lnTo>
                    <a:lnTo>
                      <a:pt x="1161" y="1200"/>
                    </a:lnTo>
                    <a:lnTo>
                      <a:pt x="1179" y="1208"/>
                    </a:lnTo>
                    <a:lnTo>
                      <a:pt x="1195" y="1215"/>
                    </a:lnTo>
                    <a:lnTo>
                      <a:pt x="1212" y="1223"/>
                    </a:lnTo>
                    <a:lnTo>
                      <a:pt x="1228" y="1228"/>
                    </a:lnTo>
                    <a:lnTo>
                      <a:pt x="1244" y="1236"/>
                    </a:lnTo>
                    <a:lnTo>
                      <a:pt x="1261" y="1243"/>
                    </a:lnTo>
                    <a:lnTo>
                      <a:pt x="1277" y="1249"/>
                    </a:lnTo>
                    <a:lnTo>
                      <a:pt x="1294" y="1256"/>
                    </a:lnTo>
                    <a:lnTo>
                      <a:pt x="1310" y="1262"/>
                    </a:lnTo>
                    <a:lnTo>
                      <a:pt x="1326" y="1269"/>
                    </a:lnTo>
                    <a:lnTo>
                      <a:pt x="1342" y="1275"/>
                    </a:lnTo>
                    <a:lnTo>
                      <a:pt x="1358" y="1282"/>
                    </a:lnTo>
                    <a:lnTo>
                      <a:pt x="1345" y="1296"/>
                    </a:lnTo>
                    <a:lnTo>
                      <a:pt x="1330" y="1311"/>
                    </a:lnTo>
                    <a:lnTo>
                      <a:pt x="1315" y="1324"/>
                    </a:lnTo>
                    <a:lnTo>
                      <a:pt x="1299" y="1338"/>
                    </a:lnTo>
                    <a:lnTo>
                      <a:pt x="1280" y="1353"/>
                    </a:lnTo>
                    <a:lnTo>
                      <a:pt x="1262" y="1369"/>
                    </a:lnTo>
                    <a:lnTo>
                      <a:pt x="1242" y="1383"/>
                    </a:lnTo>
                    <a:lnTo>
                      <a:pt x="1223" y="1399"/>
                    </a:lnTo>
                    <a:lnTo>
                      <a:pt x="1208" y="1408"/>
                    </a:lnTo>
                    <a:lnTo>
                      <a:pt x="1193" y="1418"/>
                    </a:lnTo>
                    <a:lnTo>
                      <a:pt x="1179" y="1429"/>
                    </a:lnTo>
                    <a:lnTo>
                      <a:pt x="1166" y="1442"/>
                    </a:lnTo>
                    <a:lnTo>
                      <a:pt x="1153" y="1457"/>
                    </a:lnTo>
                    <a:lnTo>
                      <a:pt x="1141" y="1471"/>
                    </a:lnTo>
                    <a:lnTo>
                      <a:pt x="1129" y="1486"/>
                    </a:lnTo>
                    <a:lnTo>
                      <a:pt x="1118" y="1500"/>
                    </a:lnTo>
                    <a:lnTo>
                      <a:pt x="1106" y="1522"/>
                    </a:lnTo>
                    <a:lnTo>
                      <a:pt x="1101" y="1535"/>
                    </a:lnTo>
                    <a:lnTo>
                      <a:pt x="1095" y="1549"/>
                    </a:lnTo>
                    <a:lnTo>
                      <a:pt x="1089" y="1562"/>
                    </a:lnTo>
                    <a:lnTo>
                      <a:pt x="1083" y="1575"/>
                    </a:lnTo>
                    <a:lnTo>
                      <a:pt x="1079" y="1588"/>
                    </a:lnTo>
                    <a:lnTo>
                      <a:pt x="1072" y="1601"/>
                    </a:lnTo>
                    <a:lnTo>
                      <a:pt x="1064" y="1616"/>
                    </a:lnTo>
                    <a:lnTo>
                      <a:pt x="1056" y="1629"/>
                    </a:lnTo>
                    <a:lnTo>
                      <a:pt x="1041" y="1662"/>
                    </a:lnTo>
                    <a:lnTo>
                      <a:pt x="1027" y="1697"/>
                    </a:lnTo>
                    <a:lnTo>
                      <a:pt x="1011" y="1730"/>
                    </a:lnTo>
                    <a:lnTo>
                      <a:pt x="996" y="1765"/>
                    </a:lnTo>
                    <a:lnTo>
                      <a:pt x="980" y="1799"/>
                    </a:lnTo>
                    <a:lnTo>
                      <a:pt x="965" y="1834"/>
                    </a:lnTo>
                    <a:lnTo>
                      <a:pt x="949" y="1869"/>
                    </a:lnTo>
                    <a:lnTo>
                      <a:pt x="931" y="1903"/>
                    </a:lnTo>
                    <a:lnTo>
                      <a:pt x="921" y="1949"/>
                    </a:lnTo>
                    <a:lnTo>
                      <a:pt x="908" y="1993"/>
                    </a:lnTo>
                    <a:lnTo>
                      <a:pt x="891" y="2035"/>
                    </a:lnTo>
                    <a:lnTo>
                      <a:pt x="872" y="2074"/>
                    </a:lnTo>
                    <a:lnTo>
                      <a:pt x="850" y="2110"/>
                    </a:lnTo>
                    <a:lnTo>
                      <a:pt x="826" y="2146"/>
                    </a:lnTo>
                    <a:lnTo>
                      <a:pt x="798" y="2179"/>
                    </a:lnTo>
                    <a:lnTo>
                      <a:pt x="771" y="2211"/>
                    </a:lnTo>
                    <a:lnTo>
                      <a:pt x="740" y="2241"/>
                    </a:lnTo>
                    <a:lnTo>
                      <a:pt x="709" y="2272"/>
                    </a:lnTo>
                    <a:lnTo>
                      <a:pt x="675" y="2301"/>
                    </a:lnTo>
                    <a:lnTo>
                      <a:pt x="641" y="2328"/>
                    </a:lnTo>
                    <a:lnTo>
                      <a:pt x="606" y="2354"/>
                    </a:lnTo>
                    <a:lnTo>
                      <a:pt x="571" y="2381"/>
                    </a:lnTo>
                    <a:lnTo>
                      <a:pt x="535" y="2408"/>
                    </a:lnTo>
                    <a:lnTo>
                      <a:pt x="499" y="2434"/>
                    </a:lnTo>
                    <a:lnTo>
                      <a:pt x="479" y="2444"/>
                    </a:lnTo>
                    <a:lnTo>
                      <a:pt x="458" y="2452"/>
                    </a:lnTo>
                    <a:lnTo>
                      <a:pt x="437" y="2462"/>
                    </a:lnTo>
                    <a:lnTo>
                      <a:pt x="417" y="2473"/>
                    </a:lnTo>
                    <a:lnTo>
                      <a:pt x="395" y="2484"/>
                    </a:lnTo>
                    <a:lnTo>
                      <a:pt x="373" y="2496"/>
                    </a:lnTo>
                    <a:lnTo>
                      <a:pt x="353" y="2507"/>
                    </a:lnTo>
                    <a:lnTo>
                      <a:pt x="333" y="2520"/>
                    </a:lnTo>
                    <a:lnTo>
                      <a:pt x="310" y="2520"/>
                    </a:lnTo>
                    <a:lnTo>
                      <a:pt x="286" y="2520"/>
                    </a:lnTo>
                    <a:lnTo>
                      <a:pt x="263" y="2522"/>
                    </a:lnTo>
                    <a:lnTo>
                      <a:pt x="240" y="2522"/>
                    </a:lnTo>
                    <a:lnTo>
                      <a:pt x="217" y="2522"/>
                    </a:lnTo>
                    <a:lnTo>
                      <a:pt x="192" y="2522"/>
                    </a:lnTo>
                    <a:lnTo>
                      <a:pt x="168" y="2522"/>
                    </a:lnTo>
                    <a:lnTo>
                      <a:pt x="143" y="2520"/>
                    </a:lnTo>
                    <a:lnTo>
                      <a:pt x="136" y="252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008920" y="3048120"/>
                <a:ext cx="11160" cy="14040"/>
              </a:xfrm>
              <a:custGeom>
                <a:avLst/>
                <a:gdLst/>
                <a:ahLst/>
                <a:rect l="l" t="t" r="r" b="b"/>
                <a:pathLst>
                  <a:path w="21" h="27">
                    <a:moveTo>
                      <a:pt x="10" y="27"/>
                    </a:moveTo>
                    <a:lnTo>
                      <a:pt x="3" y="23"/>
                    </a:lnTo>
                    <a:lnTo>
                      <a:pt x="0" y="16"/>
                    </a:lnTo>
                    <a:lnTo>
                      <a:pt x="2" y="7"/>
                    </a:lnTo>
                    <a:lnTo>
                      <a:pt x="8" y="0"/>
                    </a:lnTo>
                    <a:lnTo>
                      <a:pt x="18" y="6"/>
                    </a:lnTo>
                    <a:lnTo>
                      <a:pt x="21" y="10"/>
                    </a:lnTo>
                    <a:lnTo>
                      <a:pt x="19" y="16"/>
                    </a:lnTo>
                    <a:lnTo>
                      <a:pt x="16" y="23"/>
                    </a:lnTo>
                    <a:lnTo>
                      <a:pt x="10" y="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5" name=""/>
              <p:cNvSpPr/>
              <p:nvPr/>
            </p:nvSpPr>
            <p:spPr>
              <a:xfrm>
                <a:off x="7800840" y="3046320"/>
                <a:ext cx="9720" cy="12960"/>
              </a:xfrm>
              <a:custGeom>
                <a:avLst/>
                <a:gdLst/>
                <a:ahLst/>
                <a:rect l="l" t="t" r="r" b="b"/>
                <a:pathLst>
                  <a:path w="17" h="25">
                    <a:moveTo>
                      <a:pt x="13" y="25"/>
                    </a:moveTo>
                    <a:lnTo>
                      <a:pt x="4" y="23"/>
                    </a:lnTo>
                    <a:lnTo>
                      <a:pt x="0" y="16"/>
                    </a:lnTo>
                    <a:lnTo>
                      <a:pt x="0" y="8"/>
                    </a:lnTo>
                    <a:lnTo>
                      <a:pt x="7" y="0"/>
                    </a:lnTo>
                    <a:lnTo>
                      <a:pt x="12" y="3"/>
                    </a:lnTo>
                    <a:lnTo>
                      <a:pt x="17" y="12"/>
                    </a:lnTo>
                    <a:lnTo>
                      <a:pt x="17" y="19"/>
                    </a:lnTo>
                    <a:lnTo>
                      <a:pt x="13"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6" name=""/>
              <p:cNvSpPr/>
              <p:nvPr/>
            </p:nvSpPr>
            <p:spPr>
              <a:xfrm>
                <a:off x="8120160" y="3040200"/>
                <a:ext cx="11160" cy="10800"/>
              </a:xfrm>
              <a:custGeom>
                <a:avLst/>
                <a:gdLst/>
                <a:ahLst/>
                <a:rect l="l" t="t" r="r" b="b"/>
                <a:pathLst>
                  <a:path w="21" h="23">
                    <a:moveTo>
                      <a:pt x="5" y="23"/>
                    </a:moveTo>
                    <a:lnTo>
                      <a:pt x="0" y="19"/>
                    </a:lnTo>
                    <a:lnTo>
                      <a:pt x="0" y="12"/>
                    </a:lnTo>
                    <a:lnTo>
                      <a:pt x="2" y="5"/>
                    </a:lnTo>
                    <a:lnTo>
                      <a:pt x="9" y="0"/>
                    </a:lnTo>
                    <a:lnTo>
                      <a:pt x="19" y="6"/>
                    </a:lnTo>
                    <a:lnTo>
                      <a:pt x="21" y="12"/>
                    </a:lnTo>
                    <a:lnTo>
                      <a:pt x="18" y="18"/>
                    </a:lnTo>
                    <a:lnTo>
                      <a:pt x="12" y="22"/>
                    </a:lnTo>
                    <a:lnTo>
                      <a:pt x="5"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47" name=""/>
              <p:cNvSpPr/>
              <p:nvPr/>
            </p:nvSpPr>
            <p:spPr>
              <a:xfrm>
                <a:off x="8226360" y="3027240"/>
                <a:ext cx="9720" cy="11160"/>
              </a:xfrm>
              <a:custGeom>
                <a:avLst/>
                <a:gdLst/>
                <a:ahLst/>
                <a:rect l="l" t="t" r="r" b="b"/>
                <a:pathLst>
                  <a:path w="18" h="23">
                    <a:moveTo>
                      <a:pt x="7" y="23"/>
                    </a:moveTo>
                    <a:lnTo>
                      <a:pt x="0" y="3"/>
                    </a:lnTo>
                    <a:lnTo>
                      <a:pt x="8" y="0"/>
                    </a:lnTo>
                    <a:lnTo>
                      <a:pt x="15" y="3"/>
                    </a:lnTo>
                    <a:lnTo>
                      <a:pt x="18" y="8"/>
                    </a:lnTo>
                    <a:lnTo>
                      <a:pt x="18" y="16"/>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8" name=""/>
              <p:cNvSpPr/>
              <p:nvPr/>
            </p:nvSpPr>
            <p:spPr>
              <a:xfrm>
                <a:off x="8315280" y="3025800"/>
                <a:ext cx="6480" cy="11160"/>
              </a:xfrm>
              <a:custGeom>
                <a:avLst/>
                <a:gdLst/>
                <a:ahLst/>
                <a:rect l="l" t="t" r="r" b="b"/>
                <a:pathLst>
                  <a:path w="13" h="22">
                    <a:moveTo>
                      <a:pt x="0" y="22"/>
                    </a:moveTo>
                    <a:lnTo>
                      <a:pt x="0" y="0"/>
                    </a:lnTo>
                    <a:lnTo>
                      <a:pt x="7" y="2"/>
                    </a:lnTo>
                    <a:lnTo>
                      <a:pt x="11" y="6"/>
                    </a:lnTo>
                    <a:lnTo>
                      <a:pt x="13" y="13"/>
                    </a:lnTo>
                    <a:lnTo>
                      <a:pt x="10" y="22"/>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9" name=""/>
              <p:cNvSpPr/>
              <p:nvPr/>
            </p:nvSpPr>
            <p:spPr>
              <a:xfrm>
                <a:off x="7734240" y="3032280"/>
                <a:ext cx="11160" cy="10800"/>
              </a:xfrm>
              <a:custGeom>
                <a:avLst/>
                <a:gdLst/>
                <a:ahLst/>
                <a:rect l="l" t="t" r="r" b="b"/>
                <a:pathLst>
                  <a:path w="22" h="20">
                    <a:moveTo>
                      <a:pt x="3" y="20"/>
                    </a:moveTo>
                    <a:lnTo>
                      <a:pt x="0" y="16"/>
                    </a:lnTo>
                    <a:lnTo>
                      <a:pt x="2" y="9"/>
                    </a:lnTo>
                    <a:lnTo>
                      <a:pt x="4" y="3"/>
                    </a:lnTo>
                    <a:lnTo>
                      <a:pt x="12" y="0"/>
                    </a:lnTo>
                    <a:lnTo>
                      <a:pt x="22" y="6"/>
                    </a:lnTo>
                    <a:lnTo>
                      <a:pt x="20" y="9"/>
                    </a:lnTo>
                    <a:lnTo>
                      <a:pt x="16" y="14"/>
                    </a:lnTo>
                    <a:lnTo>
                      <a:pt x="10" y="19"/>
                    </a:lnTo>
                    <a:lnTo>
                      <a:pt x="3"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0" name=""/>
              <p:cNvSpPr/>
              <p:nvPr/>
            </p:nvSpPr>
            <p:spPr>
              <a:xfrm>
                <a:off x="7040520" y="3033720"/>
                <a:ext cx="11160" cy="11160"/>
              </a:xfrm>
              <a:custGeom>
                <a:avLst/>
                <a:gdLst/>
                <a:ahLst/>
                <a:rect l="l" t="t" r="r" b="b"/>
                <a:pathLst>
                  <a:path w="20" h="21">
                    <a:moveTo>
                      <a:pt x="13" y="21"/>
                    </a:moveTo>
                    <a:lnTo>
                      <a:pt x="0" y="11"/>
                    </a:lnTo>
                    <a:lnTo>
                      <a:pt x="20" y="0"/>
                    </a:lnTo>
                    <a:lnTo>
                      <a:pt x="20" y="6"/>
                    </a:lnTo>
                    <a:lnTo>
                      <a:pt x="20" y="13"/>
                    </a:lnTo>
                    <a:lnTo>
                      <a:pt x="17" y="20"/>
                    </a:lnTo>
                    <a:lnTo>
                      <a:pt x="1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1" name=""/>
              <p:cNvSpPr/>
              <p:nvPr/>
            </p:nvSpPr>
            <p:spPr>
              <a:xfrm>
                <a:off x="7854840" y="3019320"/>
                <a:ext cx="7920" cy="11160"/>
              </a:xfrm>
              <a:custGeom>
                <a:avLst/>
                <a:gdLst/>
                <a:ahLst/>
                <a:rect l="l" t="t" r="r" b="b"/>
                <a:pathLst>
                  <a:path w="15" h="22">
                    <a:moveTo>
                      <a:pt x="0" y="22"/>
                    </a:moveTo>
                    <a:lnTo>
                      <a:pt x="0" y="0"/>
                    </a:lnTo>
                    <a:lnTo>
                      <a:pt x="7" y="2"/>
                    </a:lnTo>
                    <a:lnTo>
                      <a:pt x="12" y="8"/>
                    </a:lnTo>
                    <a:lnTo>
                      <a:pt x="15" y="15"/>
                    </a:lnTo>
                    <a:lnTo>
                      <a:pt x="15" y="21"/>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2" name=""/>
              <p:cNvSpPr/>
              <p:nvPr/>
            </p:nvSpPr>
            <p:spPr>
              <a:xfrm>
                <a:off x="7161120" y="3027240"/>
                <a:ext cx="11160" cy="7920"/>
              </a:xfrm>
              <a:custGeom>
                <a:avLst/>
                <a:gdLst/>
                <a:ahLst/>
                <a:rect l="l" t="t" r="r" b="b"/>
                <a:pathLst>
                  <a:path w="21" h="16">
                    <a:moveTo>
                      <a:pt x="11" y="16"/>
                    </a:moveTo>
                    <a:lnTo>
                      <a:pt x="0" y="3"/>
                    </a:lnTo>
                    <a:lnTo>
                      <a:pt x="18" y="0"/>
                    </a:lnTo>
                    <a:lnTo>
                      <a:pt x="21" y="4"/>
                    </a:lnTo>
                    <a:lnTo>
                      <a:pt x="21" y="10"/>
                    </a:lnTo>
                    <a:lnTo>
                      <a:pt x="17" y="16"/>
                    </a:lnTo>
                    <a:lnTo>
                      <a:pt x="1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3" name=""/>
              <p:cNvSpPr/>
              <p:nvPr/>
            </p:nvSpPr>
            <p:spPr>
              <a:xfrm>
                <a:off x="8364600" y="2995560"/>
                <a:ext cx="9360" cy="11160"/>
              </a:xfrm>
              <a:custGeom>
                <a:avLst/>
                <a:gdLst/>
                <a:ahLst/>
                <a:rect l="l" t="t" r="r" b="b"/>
                <a:pathLst>
                  <a:path w="19" h="21">
                    <a:moveTo>
                      <a:pt x="0" y="21"/>
                    </a:moveTo>
                    <a:lnTo>
                      <a:pt x="5" y="0"/>
                    </a:lnTo>
                    <a:lnTo>
                      <a:pt x="19" y="13"/>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4" name=""/>
              <p:cNvSpPr/>
              <p:nvPr/>
            </p:nvSpPr>
            <p:spPr>
              <a:xfrm>
                <a:off x="7783560" y="2987640"/>
                <a:ext cx="9360" cy="11160"/>
              </a:xfrm>
              <a:custGeom>
                <a:avLst/>
                <a:gdLst/>
                <a:ahLst/>
                <a:rect l="l" t="t" r="r" b="b"/>
                <a:pathLst>
                  <a:path w="18" h="21">
                    <a:moveTo>
                      <a:pt x="8" y="21"/>
                    </a:moveTo>
                    <a:lnTo>
                      <a:pt x="0" y="4"/>
                    </a:lnTo>
                    <a:lnTo>
                      <a:pt x="8" y="0"/>
                    </a:lnTo>
                    <a:lnTo>
                      <a:pt x="14" y="1"/>
                    </a:lnTo>
                    <a:lnTo>
                      <a:pt x="18" y="8"/>
                    </a:lnTo>
                    <a:lnTo>
                      <a:pt x="18" y="15"/>
                    </a:lnTo>
                    <a:lnTo>
                      <a:pt x="8"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5" name=""/>
              <p:cNvSpPr/>
              <p:nvPr/>
            </p:nvSpPr>
            <p:spPr>
              <a:xfrm>
                <a:off x="8178840" y="2975040"/>
                <a:ext cx="9360" cy="11160"/>
              </a:xfrm>
              <a:custGeom>
                <a:avLst/>
                <a:gdLst/>
                <a:ahLst/>
                <a:rect l="l" t="t" r="r" b="b"/>
                <a:pathLst>
                  <a:path w="19" h="19">
                    <a:moveTo>
                      <a:pt x="5" y="19"/>
                    </a:moveTo>
                    <a:lnTo>
                      <a:pt x="0" y="0"/>
                    </a:lnTo>
                    <a:lnTo>
                      <a:pt x="9" y="0"/>
                    </a:lnTo>
                    <a:lnTo>
                      <a:pt x="15" y="3"/>
                    </a:lnTo>
                    <a:lnTo>
                      <a:pt x="19" y="9"/>
                    </a:lnTo>
                    <a:lnTo>
                      <a:pt x="19" y="19"/>
                    </a:lnTo>
                    <a:lnTo>
                      <a:pt x="5"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6" name=""/>
              <p:cNvSpPr/>
              <p:nvPr/>
            </p:nvSpPr>
            <p:spPr>
              <a:xfrm>
                <a:off x="7227720" y="2979720"/>
                <a:ext cx="16200" cy="12600"/>
              </a:xfrm>
              <a:custGeom>
                <a:avLst/>
                <a:gdLst/>
                <a:ahLst/>
                <a:rect l="l" t="t" r="r" b="b"/>
                <a:pathLst>
                  <a:path w="29" h="26">
                    <a:moveTo>
                      <a:pt x="14" y="26"/>
                    </a:moveTo>
                    <a:lnTo>
                      <a:pt x="0" y="7"/>
                    </a:lnTo>
                    <a:lnTo>
                      <a:pt x="4" y="2"/>
                    </a:lnTo>
                    <a:lnTo>
                      <a:pt x="13" y="0"/>
                    </a:lnTo>
                    <a:lnTo>
                      <a:pt x="22" y="4"/>
                    </a:lnTo>
                    <a:lnTo>
                      <a:pt x="29" y="12"/>
                    </a:lnTo>
                    <a:lnTo>
                      <a:pt x="1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57" name=""/>
              <p:cNvSpPr/>
              <p:nvPr/>
            </p:nvSpPr>
            <p:spPr>
              <a:xfrm>
                <a:off x="8085240" y="2963880"/>
                <a:ext cx="7920" cy="11160"/>
              </a:xfrm>
              <a:custGeom>
                <a:avLst/>
                <a:gdLst/>
                <a:ahLst/>
                <a:rect l="l" t="t" r="r" b="b"/>
                <a:pathLst>
                  <a:path w="16" h="21">
                    <a:moveTo>
                      <a:pt x="3" y="21"/>
                    </a:moveTo>
                    <a:lnTo>
                      <a:pt x="0" y="0"/>
                    </a:lnTo>
                    <a:lnTo>
                      <a:pt x="9" y="1"/>
                    </a:lnTo>
                    <a:lnTo>
                      <a:pt x="15" y="4"/>
                    </a:lnTo>
                    <a:lnTo>
                      <a:pt x="16" y="11"/>
                    </a:lnTo>
                    <a:lnTo>
                      <a:pt x="15"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8" name=""/>
              <p:cNvSpPr/>
              <p:nvPr/>
            </p:nvSpPr>
            <p:spPr>
              <a:xfrm>
                <a:off x="8021520" y="2959200"/>
                <a:ext cx="9720" cy="11160"/>
              </a:xfrm>
              <a:custGeom>
                <a:avLst/>
                <a:gdLst/>
                <a:ahLst/>
                <a:rect l="l" t="t" r="r" b="b"/>
                <a:pathLst>
                  <a:path w="17" h="22">
                    <a:moveTo>
                      <a:pt x="7" y="22"/>
                    </a:moveTo>
                    <a:lnTo>
                      <a:pt x="0" y="4"/>
                    </a:lnTo>
                    <a:lnTo>
                      <a:pt x="9" y="0"/>
                    </a:lnTo>
                    <a:lnTo>
                      <a:pt x="14" y="3"/>
                    </a:lnTo>
                    <a:lnTo>
                      <a:pt x="17" y="10"/>
                    </a:lnTo>
                    <a:lnTo>
                      <a:pt x="16" y="17"/>
                    </a:lnTo>
                    <a:lnTo>
                      <a:pt x="7"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59" name=""/>
              <p:cNvSpPr/>
              <p:nvPr/>
            </p:nvSpPr>
            <p:spPr>
              <a:xfrm>
                <a:off x="7010280" y="2965320"/>
                <a:ext cx="11160" cy="11160"/>
              </a:xfrm>
              <a:custGeom>
                <a:avLst/>
                <a:gdLst/>
                <a:ahLst/>
                <a:rect l="l" t="t" r="r" b="b"/>
                <a:pathLst>
                  <a:path w="23" h="22">
                    <a:moveTo>
                      <a:pt x="14" y="22"/>
                    </a:moveTo>
                    <a:lnTo>
                      <a:pt x="7" y="20"/>
                    </a:lnTo>
                    <a:lnTo>
                      <a:pt x="1" y="16"/>
                    </a:lnTo>
                    <a:lnTo>
                      <a:pt x="0" y="10"/>
                    </a:lnTo>
                    <a:lnTo>
                      <a:pt x="3" y="2"/>
                    </a:lnTo>
                    <a:lnTo>
                      <a:pt x="23" y="0"/>
                    </a:lnTo>
                    <a:lnTo>
                      <a:pt x="1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60" name=""/>
              <p:cNvSpPr/>
              <p:nvPr/>
            </p:nvSpPr>
            <p:spPr>
              <a:xfrm>
                <a:off x="7937640" y="2949480"/>
                <a:ext cx="9360" cy="12960"/>
              </a:xfrm>
              <a:custGeom>
                <a:avLst/>
                <a:gdLst/>
                <a:ahLst/>
                <a:rect l="l" t="t" r="r" b="b"/>
                <a:pathLst>
                  <a:path w="19" h="23">
                    <a:moveTo>
                      <a:pt x="8" y="23"/>
                    </a:moveTo>
                    <a:lnTo>
                      <a:pt x="0" y="3"/>
                    </a:lnTo>
                    <a:lnTo>
                      <a:pt x="9" y="0"/>
                    </a:lnTo>
                    <a:lnTo>
                      <a:pt x="16" y="4"/>
                    </a:lnTo>
                    <a:lnTo>
                      <a:pt x="19" y="11"/>
                    </a:lnTo>
                    <a:lnTo>
                      <a:pt x="15" y="20"/>
                    </a:lnTo>
                    <a:lnTo>
                      <a:pt x="8"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61" name=""/>
              <p:cNvSpPr/>
              <p:nvPr/>
            </p:nvSpPr>
            <p:spPr>
              <a:xfrm>
                <a:off x="7095960" y="2962440"/>
                <a:ext cx="9720" cy="10800"/>
              </a:xfrm>
              <a:custGeom>
                <a:avLst/>
                <a:gdLst/>
                <a:ahLst/>
                <a:rect l="l" t="t" r="r" b="b"/>
                <a:pathLst>
                  <a:path w="17" h="21">
                    <a:moveTo>
                      <a:pt x="0" y="21"/>
                    </a:moveTo>
                    <a:lnTo>
                      <a:pt x="0" y="0"/>
                    </a:lnTo>
                    <a:lnTo>
                      <a:pt x="7" y="0"/>
                    </a:lnTo>
                    <a:lnTo>
                      <a:pt x="13" y="3"/>
                    </a:lnTo>
                    <a:lnTo>
                      <a:pt x="17" y="9"/>
                    </a:lnTo>
                    <a:lnTo>
                      <a:pt x="17" y="18"/>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62" name=""/>
              <p:cNvSpPr/>
              <p:nvPr/>
            </p:nvSpPr>
            <p:spPr>
              <a:xfrm>
                <a:off x="8385120" y="2943360"/>
                <a:ext cx="9720" cy="10800"/>
              </a:xfrm>
              <a:custGeom>
                <a:avLst/>
                <a:gdLst/>
                <a:ahLst/>
                <a:rect l="l" t="t" r="r" b="b"/>
                <a:pathLst>
                  <a:path w="16" h="22">
                    <a:moveTo>
                      <a:pt x="0" y="22"/>
                    </a:moveTo>
                    <a:lnTo>
                      <a:pt x="0" y="0"/>
                    </a:lnTo>
                    <a:lnTo>
                      <a:pt x="16" y="13"/>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63" name=""/>
              <p:cNvSpPr/>
              <p:nvPr/>
            </p:nvSpPr>
            <p:spPr>
              <a:xfrm>
                <a:off x="8282160" y="2941560"/>
                <a:ext cx="7920" cy="12600"/>
              </a:xfrm>
              <a:custGeom>
                <a:avLst/>
                <a:gdLst/>
                <a:ahLst/>
                <a:rect l="l" t="t" r="r" b="b"/>
                <a:pathLst>
                  <a:path w="15" h="24">
                    <a:moveTo>
                      <a:pt x="6" y="24"/>
                    </a:moveTo>
                    <a:lnTo>
                      <a:pt x="3" y="20"/>
                    </a:lnTo>
                    <a:lnTo>
                      <a:pt x="0" y="13"/>
                    </a:lnTo>
                    <a:lnTo>
                      <a:pt x="2" y="4"/>
                    </a:lnTo>
                    <a:lnTo>
                      <a:pt x="9" y="0"/>
                    </a:lnTo>
                    <a:lnTo>
                      <a:pt x="12" y="4"/>
                    </a:lnTo>
                    <a:lnTo>
                      <a:pt x="15" y="11"/>
                    </a:lnTo>
                    <a:lnTo>
                      <a:pt x="15" y="20"/>
                    </a:lnTo>
                    <a:lnTo>
                      <a:pt x="6"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4" name=""/>
              <p:cNvSpPr/>
              <p:nvPr/>
            </p:nvSpPr>
            <p:spPr>
              <a:xfrm>
                <a:off x="7851600" y="2941560"/>
                <a:ext cx="8280" cy="11160"/>
              </a:xfrm>
              <a:custGeom>
                <a:avLst/>
                <a:gdLst/>
                <a:ahLst/>
                <a:rect l="l" t="t" r="r" b="b"/>
                <a:pathLst>
                  <a:path w="14" h="22">
                    <a:moveTo>
                      <a:pt x="3" y="22"/>
                    </a:moveTo>
                    <a:lnTo>
                      <a:pt x="0" y="3"/>
                    </a:lnTo>
                    <a:lnTo>
                      <a:pt x="7" y="0"/>
                    </a:lnTo>
                    <a:lnTo>
                      <a:pt x="13" y="4"/>
                    </a:lnTo>
                    <a:lnTo>
                      <a:pt x="14" y="11"/>
                    </a:lnTo>
                    <a:lnTo>
                      <a:pt x="13" y="20"/>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65" name=""/>
              <p:cNvSpPr/>
              <p:nvPr/>
            </p:nvSpPr>
            <p:spPr>
              <a:xfrm>
                <a:off x="8115480" y="2927520"/>
                <a:ext cx="10800" cy="12600"/>
              </a:xfrm>
              <a:custGeom>
                <a:avLst/>
                <a:gdLst/>
                <a:ahLst/>
                <a:rect l="l" t="t" r="r" b="b"/>
                <a:pathLst>
                  <a:path w="22" h="22">
                    <a:moveTo>
                      <a:pt x="12" y="22"/>
                    </a:moveTo>
                    <a:lnTo>
                      <a:pt x="0" y="0"/>
                    </a:lnTo>
                    <a:lnTo>
                      <a:pt x="22" y="6"/>
                    </a:lnTo>
                    <a:lnTo>
                      <a:pt x="1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6" name=""/>
              <p:cNvSpPr/>
              <p:nvPr/>
            </p:nvSpPr>
            <p:spPr>
              <a:xfrm>
                <a:off x="8191440" y="2914560"/>
                <a:ext cx="9720" cy="11160"/>
              </a:xfrm>
              <a:custGeom>
                <a:avLst/>
                <a:gdLst/>
                <a:ahLst/>
                <a:rect l="l" t="t" r="r" b="b"/>
                <a:pathLst>
                  <a:path w="16" h="21">
                    <a:moveTo>
                      <a:pt x="4" y="21"/>
                    </a:moveTo>
                    <a:lnTo>
                      <a:pt x="0" y="2"/>
                    </a:lnTo>
                    <a:lnTo>
                      <a:pt x="7" y="0"/>
                    </a:lnTo>
                    <a:lnTo>
                      <a:pt x="13" y="5"/>
                    </a:lnTo>
                    <a:lnTo>
                      <a:pt x="16" y="10"/>
                    </a:lnTo>
                    <a:lnTo>
                      <a:pt x="13" y="21"/>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67" name=""/>
              <p:cNvSpPr/>
              <p:nvPr/>
            </p:nvSpPr>
            <p:spPr>
              <a:xfrm>
                <a:off x="7254720" y="2919240"/>
                <a:ext cx="11160" cy="11160"/>
              </a:xfrm>
              <a:custGeom>
                <a:avLst/>
                <a:gdLst/>
                <a:ahLst/>
                <a:rect l="l" t="t" r="r" b="b"/>
                <a:pathLst>
                  <a:path w="22" h="23">
                    <a:moveTo>
                      <a:pt x="12" y="23"/>
                    </a:moveTo>
                    <a:lnTo>
                      <a:pt x="5" y="22"/>
                    </a:lnTo>
                    <a:lnTo>
                      <a:pt x="2" y="16"/>
                    </a:lnTo>
                    <a:lnTo>
                      <a:pt x="2" y="9"/>
                    </a:lnTo>
                    <a:lnTo>
                      <a:pt x="0" y="0"/>
                    </a:lnTo>
                    <a:lnTo>
                      <a:pt x="22" y="6"/>
                    </a:lnTo>
                    <a:lnTo>
                      <a:pt x="12"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68" name=""/>
              <p:cNvSpPr/>
              <p:nvPr/>
            </p:nvSpPr>
            <p:spPr>
              <a:xfrm>
                <a:off x="7170840" y="2911320"/>
                <a:ext cx="12600" cy="12960"/>
              </a:xfrm>
              <a:custGeom>
                <a:avLst/>
                <a:gdLst/>
                <a:ahLst/>
                <a:rect l="l" t="t" r="r" b="b"/>
                <a:pathLst>
                  <a:path w="24" h="22">
                    <a:moveTo>
                      <a:pt x="8" y="22"/>
                    </a:moveTo>
                    <a:lnTo>
                      <a:pt x="0" y="0"/>
                    </a:lnTo>
                    <a:lnTo>
                      <a:pt x="24" y="9"/>
                    </a:lnTo>
                    <a:lnTo>
                      <a:pt x="8"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69" name=""/>
              <p:cNvSpPr/>
              <p:nvPr/>
            </p:nvSpPr>
            <p:spPr>
              <a:xfrm>
                <a:off x="8267760" y="2886120"/>
                <a:ext cx="9360" cy="7920"/>
              </a:xfrm>
              <a:custGeom>
                <a:avLst/>
                <a:gdLst/>
                <a:ahLst/>
                <a:rect l="l" t="t" r="r" b="b"/>
                <a:pathLst>
                  <a:path w="19" h="16">
                    <a:moveTo>
                      <a:pt x="0" y="16"/>
                    </a:moveTo>
                    <a:lnTo>
                      <a:pt x="6" y="0"/>
                    </a:lnTo>
                    <a:lnTo>
                      <a:pt x="19" y="16"/>
                    </a:lnTo>
                    <a:lnTo>
                      <a:pt x="0"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70" name=""/>
              <p:cNvSpPr/>
              <p:nvPr/>
            </p:nvSpPr>
            <p:spPr>
              <a:xfrm>
                <a:off x="7012080" y="2900520"/>
                <a:ext cx="11160" cy="9360"/>
              </a:xfrm>
              <a:custGeom>
                <a:avLst/>
                <a:gdLst/>
                <a:ahLst/>
                <a:rect l="l" t="t" r="r" b="b"/>
                <a:pathLst>
                  <a:path w="22" h="20">
                    <a:moveTo>
                      <a:pt x="3" y="19"/>
                    </a:moveTo>
                    <a:lnTo>
                      <a:pt x="0" y="0"/>
                    </a:lnTo>
                    <a:lnTo>
                      <a:pt x="22" y="1"/>
                    </a:lnTo>
                    <a:lnTo>
                      <a:pt x="22" y="10"/>
                    </a:lnTo>
                    <a:lnTo>
                      <a:pt x="19" y="16"/>
                    </a:lnTo>
                    <a:lnTo>
                      <a:pt x="13" y="20"/>
                    </a:lnTo>
                    <a:lnTo>
                      <a:pt x="3"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71" name=""/>
              <p:cNvSpPr/>
              <p:nvPr/>
            </p:nvSpPr>
            <p:spPr>
              <a:xfrm>
                <a:off x="8331120" y="2876400"/>
                <a:ext cx="9720" cy="16200"/>
              </a:xfrm>
              <a:custGeom>
                <a:avLst/>
                <a:gdLst/>
                <a:ahLst/>
                <a:rect l="l" t="t" r="r" b="b"/>
                <a:pathLst>
                  <a:path w="20" h="28">
                    <a:moveTo>
                      <a:pt x="14" y="28"/>
                    </a:moveTo>
                    <a:lnTo>
                      <a:pt x="4" y="24"/>
                    </a:lnTo>
                    <a:lnTo>
                      <a:pt x="0" y="17"/>
                    </a:lnTo>
                    <a:lnTo>
                      <a:pt x="1" y="10"/>
                    </a:lnTo>
                    <a:lnTo>
                      <a:pt x="5" y="2"/>
                    </a:lnTo>
                    <a:lnTo>
                      <a:pt x="13" y="0"/>
                    </a:lnTo>
                    <a:lnTo>
                      <a:pt x="17" y="5"/>
                    </a:lnTo>
                    <a:lnTo>
                      <a:pt x="20" y="14"/>
                    </a:lnTo>
                    <a:lnTo>
                      <a:pt x="20" y="23"/>
                    </a:lnTo>
                    <a:lnTo>
                      <a:pt x="14" y="2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72" name=""/>
              <p:cNvSpPr/>
              <p:nvPr/>
            </p:nvSpPr>
            <p:spPr>
              <a:xfrm>
                <a:off x="8109000" y="2874960"/>
                <a:ext cx="9360" cy="11160"/>
              </a:xfrm>
              <a:custGeom>
                <a:avLst/>
                <a:gdLst/>
                <a:ahLst/>
                <a:rect l="l" t="t" r="r" b="b"/>
                <a:pathLst>
                  <a:path w="17" h="23">
                    <a:moveTo>
                      <a:pt x="11" y="23"/>
                    </a:moveTo>
                    <a:lnTo>
                      <a:pt x="3" y="20"/>
                    </a:lnTo>
                    <a:lnTo>
                      <a:pt x="0" y="13"/>
                    </a:lnTo>
                    <a:lnTo>
                      <a:pt x="3" y="5"/>
                    </a:lnTo>
                    <a:lnTo>
                      <a:pt x="10" y="0"/>
                    </a:lnTo>
                    <a:lnTo>
                      <a:pt x="14" y="3"/>
                    </a:lnTo>
                    <a:lnTo>
                      <a:pt x="17" y="12"/>
                    </a:lnTo>
                    <a:lnTo>
                      <a:pt x="17" y="19"/>
                    </a:lnTo>
                    <a:lnTo>
                      <a:pt x="11"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3" name=""/>
              <p:cNvSpPr/>
              <p:nvPr/>
            </p:nvSpPr>
            <p:spPr>
              <a:xfrm>
                <a:off x="7956720" y="2873520"/>
                <a:ext cx="7920" cy="10800"/>
              </a:xfrm>
              <a:custGeom>
                <a:avLst/>
                <a:gdLst/>
                <a:ahLst/>
                <a:rect l="l" t="t" r="r" b="b"/>
                <a:pathLst>
                  <a:path w="16" h="23">
                    <a:moveTo>
                      <a:pt x="0" y="23"/>
                    </a:moveTo>
                    <a:lnTo>
                      <a:pt x="0" y="0"/>
                    </a:lnTo>
                    <a:lnTo>
                      <a:pt x="16" y="10"/>
                    </a:lnTo>
                    <a:lnTo>
                      <a:pt x="0"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74" name=""/>
              <p:cNvSpPr/>
              <p:nvPr/>
            </p:nvSpPr>
            <p:spPr>
              <a:xfrm>
                <a:off x="8393040" y="2863800"/>
                <a:ext cx="7920" cy="11160"/>
              </a:xfrm>
              <a:custGeom>
                <a:avLst/>
                <a:gdLst/>
                <a:ahLst/>
                <a:rect l="l" t="t" r="r" b="b"/>
                <a:pathLst>
                  <a:path w="16" h="21">
                    <a:moveTo>
                      <a:pt x="2" y="21"/>
                    </a:moveTo>
                    <a:lnTo>
                      <a:pt x="0" y="2"/>
                    </a:lnTo>
                    <a:lnTo>
                      <a:pt x="7" y="0"/>
                    </a:lnTo>
                    <a:lnTo>
                      <a:pt x="13" y="3"/>
                    </a:lnTo>
                    <a:lnTo>
                      <a:pt x="16" y="11"/>
                    </a:lnTo>
                    <a:lnTo>
                      <a:pt x="16" y="21"/>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5" name=""/>
              <p:cNvSpPr/>
              <p:nvPr/>
            </p:nvSpPr>
            <p:spPr>
              <a:xfrm>
                <a:off x="7877160" y="2867040"/>
                <a:ext cx="7920" cy="11160"/>
              </a:xfrm>
              <a:custGeom>
                <a:avLst/>
                <a:gdLst/>
                <a:ahLst/>
                <a:rect l="l" t="t" r="r" b="b"/>
                <a:pathLst>
                  <a:path w="16" h="21">
                    <a:moveTo>
                      <a:pt x="3" y="21"/>
                    </a:moveTo>
                    <a:lnTo>
                      <a:pt x="0" y="0"/>
                    </a:lnTo>
                    <a:lnTo>
                      <a:pt x="10" y="0"/>
                    </a:lnTo>
                    <a:lnTo>
                      <a:pt x="15" y="4"/>
                    </a:lnTo>
                    <a:lnTo>
                      <a:pt x="16" y="11"/>
                    </a:lnTo>
                    <a:lnTo>
                      <a:pt x="16"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6" name=""/>
              <p:cNvSpPr/>
              <p:nvPr/>
            </p:nvSpPr>
            <p:spPr>
              <a:xfrm>
                <a:off x="8040600" y="2862360"/>
                <a:ext cx="7920" cy="9360"/>
              </a:xfrm>
              <a:custGeom>
                <a:avLst/>
                <a:gdLst/>
                <a:ahLst/>
                <a:rect l="l" t="t" r="r" b="b"/>
                <a:pathLst>
                  <a:path w="13" h="20">
                    <a:moveTo>
                      <a:pt x="0" y="20"/>
                    </a:moveTo>
                    <a:lnTo>
                      <a:pt x="0" y="0"/>
                    </a:lnTo>
                    <a:lnTo>
                      <a:pt x="7" y="1"/>
                    </a:lnTo>
                    <a:lnTo>
                      <a:pt x="12" y="5"/>
                    </a:lnTo>
                    <a:lnTo>
                      <a:pt x="13" y="13"/>
                    </a:lnTo>
                    <a:lnTo>
                      <a:pt x="10" y="20"/>
                    </a:lnTo>
                    <a:lnTo>
                      <a:pt x="0"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77" name=""/>
              <p:cNvSpPr/>
              <p:nvPr/>
            </p:nvSpPr>
            <p:spPr>
              <a:xfrm>
                <a:off x="7095960" y="2852640"/>
                <a:ext cx="11160" cy="11160"/>
              </a:xfrm>
              <a:custGeom>
                <a:avLst/>
                <a:gdLst/>
                <a:ahLst/>
                <a:rect l="l" t="t" r="r" b="b"/>
                <a:pathLst>
                  <a:path w="20" h="21">
                    <a:moveTo>
                      <a:pt x="4" y="21"/>
                    </a:moveTo>
                    <a:lnTo>
                      <a:pt x="0" y="0"/>
                    </a:lnTo>
                    <a:lnTo>
                      <a:pt x="7" y="0"/>
                    </a:lnTo>
                    <a:lnTo>
                      <a:pt x="16" y="3"/>
                    </a:lnTo>
                    <a:lnTo>
                      <a:pt x="20" y="10"/>
                    </a:lnTo>
                    <a:lnTo>
                      <a:pt x="17" y="19"/>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78" name=""/>
              <p:cNvSpPr/>
              <p:nvPr/>
            </p:nvSpPr>
            <p:spPr>
              <a:xfrm>
                <a:off x="7331040" y="2835360"/>
                <a:ext cx="12600" cy="9360"/>
              </a:xfrm>
              <a:custGeom>
                <a:avLst/>
                <a:gdLst/>
                <a:ahLst/>
                <a:rect l="l" t="t" r="r" b="b"/>
                <a:pathLst>
                  <a:path w="24" h="17">
                    <a:moveTo>
                      <a:pt x="1" y="17"/>
                    </a:moveTo>
                    <a:lnTo>
                      <a:pt x="0" y="0"/>
                    </a:lnTo>
                    <a:lnTo>
                      <a:pt x="7" y="0"/>
                    </a:lnTo>
                    <a:lnTo>
                      <a:pt x="14" y="1"/>
                    </a:lnTo>
                    <a:lnTo>
                      <a:pt x="21" y="4"/>
                    </a:lnTo>
                    <a:lnTo>
                      <a:pt x="24" y="10"/>
                    </a:lnTo>
                    <a:lnTo>
                      <a:pt x="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79" name=""/>
              <p:cNvSpPr/>
              <p:nvPr/>
            </p:nvSpPr>
            <p:spPr>
              <a:xfrm>
                <a:off x="8318520" y="2817720"/>
                <a:ext cx="11160" cy="11160"/>
              </a:xfrm>
              <a:custGeom>
                <a:avLst/>
                <a:gdLst/>
                <a:ahLst/>
                <a:rect l="l" t="t" r="r" b="b"/>
                <a:pathLst>
                  <a:path w="19" h="23">
                    <a:moveTo>
                      <a:pt x="7" y="23"/>
                    </a:moveTo>
                    <a:lnTo>
                      <a:pt x="3" y="20"/>
                    </a:lnTo>
                    <a:lnTo>
                      <a:pt x="0" y="13"/>
                    </a:lnTo>
                    <a:lnTo>
                      <a:pt x="0" y="4"/>
                    </a:lnTo>
                    <a:lnTo>
                      <a:pt x="9" y="0"/>
                    </a:lnTo>
                    <a:lnTo>
                      <a:pt x="13" y="4"/>
                    </a:lnTo>
                    <a:lnTo>
                      <a:pt x="19" y="13"/>
                    </a:lnTo>
                    <a:lnTo>
                      <a:pt x="19" y="22"/>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0" name=""/>
              <p:cNvSpPr/>
              <p:nvPr/>
            </p:nvSpPr>
            <p:spPr>
              <a:xfrm>
                <a:off x="8220240" y="2817720"/>
                <a:ext cx="10800" cy="11160"/>
              </a:xfrm>
              <a:custGeom>
                <a:avLst/>
                <a:gdLst/>
                <a:ahLst/>
                <a:rect l="l" t="t" r="r" b="b"/>
                <a:pathLst>
                  <a:path w="22" h="23">
                    <a:moveTo>
                      <a:pt x="13" y="23"/>
                    </a:moveTo>
                    <a:lnTo>
                      <a:pt x="4" y="20"/>
                    </a:lnTo>
                    <a:lnTo>
                      <a:pt x="0" y="11"/>
                    </a:lnTo>
                    <a:lnTo>
                      <a:pt x="3" y="4"/>
                    </a:lnTo>
                    <a:lnTo>
                      <a:pt x="10" y="0"/>
                    </a:lnTo>
                    <a:lnTo>
                      <a:pt x="17" y="3"/>
                    </a:lnTo>
                    <a:lnTo>
                      <a:pt x="22" y="11"/>
                    </a:lnTo>
                    <a:lnTo>
                      <a:pt x="22" y="19"/>
                    </a:lnTo>
                    <a:lnTo>
                      <a:pt x="1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1" name=""/>
              <p:cNvSpPr/>
              <p:nvPr/>
            </p:nvSpPr>
            <p:spPr>
              <a:xfrm>
                <a:off x="7211880" y="2830680"/>
                <a:ext cx="9720" cy="9360"/>
              </a:xfrm>
              <a:custGeom>
                <a:avLst/>
                <a:gdLst/>
                <a:ahLst/>
                <a:rect l="l" t="t" r="r" b="b"/>
                <a:pathLst>
                  <a:path w="18" h="19">
                    <a:moveTo>
                      <a:pt x="2" y="19"/>
                    </a:moveTo>
                    <a:lnTo>
                      <a:pt x="0" y="2"/>
                    </a:lnTo>
                    <a:lnTo>
                      <a:pt x="8" y="0"/>
                    </a:lnTo>
                    <a:lnTo>
                      <a:pt x="14" y="3"/>
                    </a:lnTo>
                    <a:lnTo>
                      <a:pt x="18" y="11"/>
                    </a:lnTo>
                    <a:lnTo>
                      <a:pt x="16" y="19"/>
                    </a:lnTo>
                    <a:lnTo>
                      <a:pt x="2"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82" name=""/>
              <p:cNvSpPr/>
              <p:nvPr/>
            </p:nvSpPr>
            <p:spPr>
              <a:xfrm>
                <a:off x="8416800" y="2808360"/>
                <a:ext cx="9720" cy="15840"/>
              </a:xfrm>
              <a:custGeom>
                <a:avLst/>
                <a:gdLst/>
                <a:ahLst/>
                <a:rect l="l" t="t" r="r" b="b"/>
                <a:pathLst>
                  <a:path w="18" h="32">
                    <a:moveTo>
                      <a:pt x="12" y="32"/>
                    </a:moveTo>
                    <a:lnTo>
                      <a:pt x="0" y="24"/>
                    </a:lnTo>
                    <a:lnTo>
                      <a:pt x="0" y="16"/>
                    </a:lnTo>
                    <a:lnTo>
                      <a:pt x="2" y="11"/>
                    </a:lnTo>
                    <a:lnTo>
                      <a:pt x="6" y="5"/>
                    </a:lnTo>
                    <a:lnTo>
                      <a:pt x="16" y="0"/>
                    </a:lnTo>
                    <a:lnTo>
                      <a:pt x="18" y="8"/>
                    </a:lnTo>
                    <a:lnTo>
                      <a:pt x="18" y="15"/>
                    </a:lnTo>
                    <a:lnTo>
                      <a:pt x="15" y="22"/>
                    </a:lnTo>
                    <a:lnTo>
                      <a:pt x="12" y="32"/>
                    </a:lnTo>
                    <a:close/>
                  </a:path>
                </a:pathLst>
              </a:custGeom>
              <a:solidFill>
                <a:srgbClr val="6619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3" name=""/>
              <p:cNvSpPr/>
              <p:nvPr/>
            </p:nvSpPr>
            <p:spPr>
              <a:xfrm>
                <a:off x="7008840" y="2822400"/>
                <a:ext cx="11160" cy="11160"/>
              </a:xfrm>
              <a:custGeom>
                <a:avLst/>
                <a:gdLst/>
                <a:ahLst/>
                <a:rect l="l" t="t" r="r" b="b"/>
                <a:pathLst>
                  <a:path w="22" h="19">
                    <a:moveTo>
                      <a:pt x="9" y="19"/>
                    </a:moveTo>
                    <a:lnTo>
                      <a:pt x="0" y="5"/>
                    </a:lnTo>
                    <a:lnTo>
                      <a:pt x="9" y="0"/>
                    </a:lnTo>
                    <a:lnTo>
                      <a:pt x="16" y="0"/>
                    </a:lnTo>
                    <a:lnTo>
                      <a:pt x="21" y="6"/>
                    </a:lnTo>
                    <a:lnTo>
                      <a:pt x="22" y="15"/>
                    </a:lnTo>
                    <a:lnTo>
                      <a:pt x="9"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4" name=""/>
              <p:cNvSpPr/>
              <p:nvPr/>
            </p:nvSpPr>
            <p:spPr>
              <a:xfrm>
                <a:off x="7140600" y="1906560"/>
                <a:ext cx="1285920" cy="903240"/>
              </a:xfrm>
              <a:custGeom>
                <a:avLst/>
                <a:gdLst/>
                <a:ahLst/>
                <a:rect l="l" t="t" r="r" b="b"/>
                <a:pathLst>
                  <a:path w="2431" h="1708">
                    <a:moveTo>
                      <a:pt x="2374" y="1708"/>
                    </a:moveTo>
                    <a:lnTo>
                      <a:pt x="2366" y="1698"/>
                    </a:lnTo>
                    <a:lnTo>
                      <a:pt x="2370" y="1688"/>
                    </a:lnTo>
                    <a:lnTo>
                      <a:pt x="2376" y="1679"/>
                    </a:lnTo>
                    <a:lnTo>
                      <a:pt x="2383" y="1670"/>
                    </a:lnTo>
                    <a:lnTo>
                      <a:pt x="2390" y="1662"/>
                    </a:lnTo>
                    <a:lnTo>
                      <a:pt x="2398" y="1651"/>
                    </a:lnTo>
                    <a:lnTo>
                      <a:pt x="2405" y="1643"/>
                    </a:lnTo>
                    <a:lnTo>
                      <a:pt x="2412" y="1633"/>
                    </a:lnTo>
                    <a:lnTo>
                      <a:pt x="2418" y="1621"/>
                    </a:lnTo>
                    <a:lnTo>
                      <a:pt x="2415" y="1612"/>
                    </a:lnTo>
                    <a:lnTo>
                      <a:pt x="2405" y="1607"/>
                    </a:lnTo>
                    <a:lnTo>
                      <a:pt x="2395" y="1612"/>
                    </a:lnTo>
                    <a:lnTo>
                      <a:pt x="2387" y="1620"/>
                    </a:lnTo>
                    <a:lnTo>
                      <a:pt x="2382" y="1628"/>
                    </a:lnTo>
                    <a:lnTo>
                      <a:pt x="2374" y="1637"/>
                    </a:lnTo>
                    <a:lnTo>
                      <a:pt x="2369" y="1647"/>
                    </a:lnTo>
                    <a:lnTo>
                      <a:pt x="2363" y="1657"/>
                    </a:lnTo>
                    <a:lnTo>
                      <a:pt x="2356" y="1666"/>
                    </a:lnTo>
                    <a:lnTo>
                      <a:pt x="2347" y="1675"/>
                    </a:lnTo>
                    <a:lnTo>
                      <a:pt x="2338" y="1683"/>
                    </a:lnTo>
                    <a:lnTo>
                      <a:pt x="2314" y="1667"/>
                    </a:lnTo>
                    <a:lnTo>
                      <a:pt x="2322" y="1657"/>
                    </a:lnTo>
                    <a:lnTo>
                      <a:pt x="2332" y="1647"/>
                    </a:lnTo>
                    <a:lnTo>
                      <a:pt x="2341" y="1637"/>
                    </a:lnTo>
                    <a:lnTo>
                      <a:pt x="2350" y="1625"/>
                    </a:lnTo>
                    <a:lnTo>
                      <a:pt x="2360" y="1614"/>
                    </a:lnTo>
                    <a:lnTo>
                      <a:pt x="2367" y="1602"/>
                    </a:lnTo>
                    <a:lnTo>
                      <a:pt x="2374" y="1591"/>
                    </a:lnTo>
                    <a:lnTo>
                      <a:pt x="2382" y="1578"/>
                    </a:lnTo>
                    <a:lnTo>
                      <a:pt x="2380" y="1565"/>
                    </a:lnTo>
                    <a:lnTo>
                      <a:pt x="2359" y="1563"/>
                    </a:lnTo>
                    <a:lnTo>
                      <a:pt x="2353" y="1575"/>
                    </a:lnTo>
                    <a:lnTo>
                      <a:pt x="2347" y="1585"/>
                    </a:lnTo>
                    <a:lnTo>
                      <a:pt x="2340" y="1595"/>
                    </a:lnTo>
                    <a:lnTo>
                      <a:pt x="2331" y="1604"/>
                    </a:lnTo>
                    <a:lnTo>
                      <a:pt x="2322" y="1615"/>
                    </a:lnTo>
                    <a:lnTo>
                      <a:pt x="2314" y="1625"/>
                    </a:lnTo>
                    <a:lnTo>
                      <a:pt x="2305" y="1637"/>
                    </a:lnTo>
                    <a:lnTo>
                      <a:pt x="2296" y="1650"/>
                    </a:lnTo>
                    <a:lnTo>
                      <a:pt x="2304" y="1662"/>
                    </a:lnTo>
                    <a:lnTo>
                      <a:pt x="2292" y="1657"/>
                    </a:lnTo>
                    <a:lnTo>
                      <a:pt x="2280" y="1651"/>
                    </a:lnTo>
                    <a:lnTo>
                      <a:pt x="2270" y="1646"/>
                    </a:lnTo>
                    <a:lnTo>
                      <a:pt x="2259" y="1640"/>
                    </a:lnTo>
                    <a:lnTo>
                      <a:pt x="2249" y="1634"/>
                    </a:lnTo>
                    <a:lnTo>
                      <a:pt x="2238" y="1627"/>
                    </a:lnTo>
                    <a:lnTo>
                      <a:pt x="2228" y="1618"/>
                    </a:lnTo>
                    <a:lnTo>
                      <a:pt x="2218" y="1610"/>
                    </a:lnTo>
                    <a:lnTo>
                      <a:pt x="2230" y="1599"/>
                    </a:lnTo>
                    <a:lnTo>
                      <a:pt x="2234" y="1589"/>
                    </a:lnTo>
                    <a:lnTo>
                      <a:pt x="2240" y="1584"/>
                    </a:lnTo>
                    <a:lnTo>
                      <a:pt x="2247" y="1576"/>
                    </a:lnTo>
                    <a:lnTo>
                      <a:pt x="2250" y="1566"/>
                    </a:lnTo>
                    <a:lnTo>
                      <a:pt x="2254" y="1555"/>
                    </a:lnTo>
                    <a:lnTo>
                      <a:pt x="2263" y="1542"/>
                    </a:lnTo>
                    <a:lnTo>
                      <a:pt x="2273" y="1529"/>
                    </a:lnTo>
                    <a:lnTo>
                      <a:pt x="2282" y="1513"/>
                    </a:lnTo>
                    <a:lnTo>
                      <a:pt x="2266" y="1501"/>
                    </a:lnTo>
                    <a:lnTo>
                      <a:pt x="2257" y="1511"/>
                    </a:lnTo>
                    <a:lnTo>
                      <a:pt x="2247" y="1521"/>
                    </a:lnTo>
                    <a:lnTo>
                      <a:pt x="2238" y="1533"/>
                    </a:lnTo>
                    <a:lnTo>
                      <a:pt x="2230" y="1543"/>
                    </a:lnTo>
                    <a:lnTo>
                      <a:pt x="2223" y="1556"/>
                    </a:lnTo>
                    <a:lnTo>
                      <a:pt x="2214" y="1568"/>
                    </a:lnTo>
                    <a:lnTo>
                      <a:pt x="2207" y="1581"/>
                    </a:lnTo>
                    <a:lnTo>
                      <a:pt x="2201" y="1595"/>
                    </a:lnTo>
                    <a:lnTo>
                      <a:pt x="2195" y="1599"/>
                    </a:lnTo>
                    <a:lnTo>
                      <a:pt x="2185" y="1597"/>
                    </a:lnTo>
                    <a:lnTo>
                      <a:pt x="2178" y="1594"/>
                    </a:lnTo>
                    <a:lnTo>
                      <a:pt x="2172" y="1588"/>
                    </a:lnTo>
                    <a:lnTo>
                      <a:pt x="2168" y="1579"/>
                    </a:lnTo>
                    <a:lnTo>
                      <a:pt x="2173" y="1566"/>
                    </a:lnTo>
                    <a:lnTo>
                      <a:pt x="2181" y="1555"/>
                    </a:lnTo>
                    <a:lnTo>
                      <a:pt x="2189" y="1543"/>
                    </a:lnTo>
                    <a:lnTo>
                      <a:pt x="2198" y="1532"/>
                    </a:lnTo>
                    <a:lnTo>
                      <a:pt x="2208" y="1521"/>
                    </a:lnTo>
                    <a:lnTo>
                      <a:pt x="2217" y="1510"/>
                    </a:lnTo>
                    <a:lnTo>
                      <a:pt x="2225" y="1497"/>
                    </a:lnTo>
                    <a:lnTo>
                      <a:pt x="2233" y="1484"/>
                    </a:lnTo>
                    <a:lnTo>
                      <a:pt x="2224" y="1475"/>
                    </a:lnTo>
                    <a:lnTo>
                      <a:pt x="2215" y="1475"/>
                    </a:lnTo>
                    <a:lnTo>
                      <a:pt x="2207" y="1485"/>
                    </a:lnTo>
                    <a:lnTo>
                      <a:pt x="2197" y="1497"/>
                    </a:lnTo>
                    <a:lnTo>
                      <a:pt x="2186" y="1507"/>
                    </a:lnTo>
                    <a:lnTo>
                      <a:pt x="2176" y="1519"/>
                    </a:lnTo>
                    <a:lnTo>
                      <a:pt x="2168" y="1530"/>
                    </a:lnTo>
                    <a:lnTo>
                      <a:pt x="2158" y="1542"/>
                    </a:lnTo>
                    <a:lnTo>
                      <a:pt x="2147" y="1553"/>
                    </a:lnTo>
                    <a:lnTo>
                      <a:pt x="2137" y="1566"/>
                    </a:lnTo>
                    <a:lnTo>
                      <a:pt x="2131" y="1563"/>
                    </a:lnTo>
                    <a:lnTo>
                      <a:pt x="2124" y="1560"/>
                    </a:lnTo>
                    <a:lnTo>
                      <a:pt x="2118" y="1556"/>
                    </a:lnTo>
                    <a:lnTo>
                      <a:pt x="2113" y="1549"/>
                    </a:lnTo>
                    <a:lnTo>
                      <a:pt x="2118" y="1542"/>
                    </a:lnTo>
                    <a:lnTo>
                      <a:pt x="2123" y="1533"/>
                    </a:lnTo>
                    <a:lnTo>
                      <a:pt x="2129" y="1526"/>
                    </a:lnTo>
                    <a:lnTo>
                      <a:pt x="2133" y="1517"/>
                    </a:lnTo>
                    <a:lnTo>
                      <a:pt x="2139" y="1508"/>
                    </a:lnTo>
                    <a:lnTo>
                      <a:pt x="2145" y="1500"/>
                    </a:lnTo>
                    <a:lnTo>
                      <a:pt x="2150" y="1493"/>
                    </a:lnTo>
                    <a:lnTo>
                      <a:pt x="2159" y="1484"/>
                    </a:lnTo>
                    <a:lnTo>
                      <a:pt x="2162" y="1478"/>
                    </a:lnTo>
                    <a:lnTo>
                      <a:pt x="2168" y="1471"/>
                    </a:lnTo>
                    <a:lnTo>
                      <a:pt x="2172" y="1464"/>
                    </a:lnTo>
                    <a:lnTo>
                      <a:pt x="2176" y="1454"/>
                    </a:lnTo>
                    <a:lnTo>
                      <a:pt x="2172" y="1442"/>
                    </a:lnTo>
                    <a:lnTo>
                      <a:pt x="2160" y="1442"/>
                    </a:lnTo>
                    <a:lnTo>
                      <a:pt x="2150" y="1452"/>
                    </a:lnTo>
                    <a:lnTo>
                      <a:pt x="2140" y="1464"/>
                    </a:lnTo>
                    <a:lnTo>
                      <a:pt x="2131" y="1475"/>
                    </a:lnTo>
                    <a:lnTo>
                      <a:pt x="2123" y="1487"/>
                    </a:lnTo>
                    <a:lnTo>
                      <a:pt x="2114" y="1498"/>
                    </a:lnTo>
                    <a:lnTo>
                      <a:pt x="2107" y="1510"/>
                    </a:lnTo>
                    <a:lnTo>
                      <a:pt x="2100" y="1521"/>
                    </a:lnTo>
                    <a:lnTo>
                      <a:pt x="2091" y="1533"/>
                    </a:lnTo>
                    <a:lnTo>
                      <a:pt x="2082" y="1532"/>
                    </a:lnTo>
                    <a:lnTo>
                      <a:pt x="2075" y="1529"/>
                    </a:lnTo>
                    <a:lnTo>
                      <a:pt x="2069" y="1523"/>
                    </a:lnTo>
                    <a:lnTo>
                      <a:pt x="2065" y="1513"/>
                    </a:lnTo>
                    <a:lnTo>
                      <a:pt x="2071" y="1503"/>
                    </a:lnTo>
                    <a:lnTo>
                      <a:pt x="2077" y="1493"/>
                    </a:lnTo>
                    <a:lnTo>
                      <a:pt x="2085" y="1484"/>
                    </a:lnTo>
                    <a:lnTo>
                      <a:pt x="2092" y="1474"/>
                    </a:lnTo>
                    <a:lnTo>
                      <a:pt x="2100" y="1464"/>
                    </a:lnTo>
                    <a:lnTo>
                      <a:pt x="2107" y="1452"/>
                    </a:lnTo>
                    <a:lnTo>
                      <a:pt x="2113" y="1441"/>
                    </a:lnTo>
                    <a:lnTo>
                      <a:pt x="2118" y="1428"/>
                    </a:lnTo>
                    <a:lnTo>
                      <a:pt x="2110" y="1419"/>
                    </a:lnTo>
                    <a:lnTo>
                      <a:pt x="2098" y="1426"/>
                    </a:lnTo>
                    <a:lnTo>
                      <a:pt x="2088" y="1436"/>
                    </a:lnTo>
                    <a:lnTo>
                      <a:pt x="2079" y="1446"/>
                    </a:lnTo>
                    <a:lnTo>
                      <a:pt x="2072" y="1458"/>
                    </a:lnTo>
                    <a:lnTo>
                      <a:pt x="2064" y="1471"/>
                    </a:lnTo>
                    <a:lnTo>
                      <a:pt x="2055" y="1482"/>
                    </a:lnTo>
                    <a:lnTo>
                      <a:pt x="2046" y="1494"/>
                    </a:lnTo>
                    <a:lnTo>
                      <a:pt x="2037" y="1506"/>
                    </a:lnTo>
                    <a:lnTo>
                      <a:pt x="2030" y="1504"/>
                    </a:lnTo>
                    <a:lnTo>
                      <a:pt x="2026" y="1498"/>
                    </a:lnTo>
                    <a:lnTo>
                      <a:pt x="2019" y="1491"/>
                    </a:lnTo>
                    <a:lnTo>
                      <a:pt x="2009" y="1488"/>
                    </a:lnTo>
                    <a:lnTo>
                      <a:pt x="2009" y="1478"/>
                    </a:lnTo>
                    <a:lnTo>
                      <a:pt x="2016" y="1468"/>
                    </a:lnTo>
                    <a:lnTo>
                      <a:pt x="2023" y="1459"/>
                    </a:lnTo>
                    <a:lnTo>
                      <a:pt x="2030" y="1449"/>
                    </a:lnTo>
                    <a:lnTo>
                      <a:pt x="2037" y="1439"/>
                    </a:lnTo>
                    <a:lnTo>
                      <a:pt x="2043" y="1429"/>
                    </a:lnTo>
                    <a:lnTo>
                      <a:pt x="2051" y="1419"/>
                    </a:lnTo>
                    <a:lnTo>
                      <a:pt x="2056" y="1407"/>
                    </a:lnTo>
                    <a:lnTo>
                      <a:pt x="2064" y="1394"/>
                    </a:lnTo>
                    <a:lnTo>
                      <a:pt x="2056" y="1384"/>
                    </a:lnTo>
                    <a:lnTo>
                      <a:pt x="2045" y="1389"/>
                    </a:lnTo>
                    <a:lnTo>
                      <a:pt x="2036" y="1397"/>
                    </a:lnTo>
                    <a:lnTo>
                      <a:pt x="2030" y="1407"/>
                    </a:lnTo>
                    <a:lnTo>
                      <a:pt x="2023" y="1416"/>
                    </a:lnTo>
                    <a:lnTo>
                      <a:pt x="2017" y="1426"/>
                    </a:lnTo>
                    <a:lnTo>
                      <a:pt x="2010" y="1438"/>
                    </a:lnTo>
                    <a:lnTo>
                      <a:pt x="2003" y="1448"/>
                    </a:lnTo>
                    <a:lnTo>
                      <a:pt x="1994" y="1459"/>
                    </a:lnTo>
                    <a:lnTo>
                      <a:pt x="1984" y="1469"/>
                    </a:lnTo>
                    <a:lnTo>
                      <a:pt x="1962" y="1455"/>
                    </a:lnTo>
                    <a:lnTo>
                      <a:pt x="1967" y="1445"/>
                    </a:lnTo>
                    <a:lnTo>
                      <a:pt x="1972" y="1436"/>
                    </a:lnTo>
                    <a:lnTo>
                      <a:pt x="1980" y="1428"/>
                    </a:lnTo>
                    <a:lnTo>
                      <a:pt x="1985" y="1419"/>
                    </a:lnTo>
                    <a:lnTo>
                      <a:pt x="1993" y="1410"/>
                    </a:lnTo>
                    <a:lnTo>
                      <a:pt x="2000" y="1402"/>
                    </a:lnTo>
                    <a:lnTo>
                      <a:pt x="2007" y="1393"/>
                    </a:lnTo>
                    <a:lnTo>
                      <a:pt x="2013" y="1383"/>
                    </a:lnTo>
                    <a:lnTo>
                      <a:pt x="2006" y="1364"/>
                    </a:lnTo>
                    <a:lnTo>
                      <a:pt x="1996" y="1371"/>
                    </a:lnTo>
                    <a:lnTo>
                      <a:pt x="1987" y="1378"/>
                    </a:lnTo>
                    <a:lnTo>
                      <a:pt x="1978" y="1389"/>
                    </a:lnTo>
                    <a:lnTo>
                      <a:pt x="1970" y="1399"/>
                    </a:lnTo>
                    <a:lnTo>
                      <a:pt x="1962" y="1410"/>
                    </a:lnTo>
                    <a:lnTo>
                      <a:pt x="1954" y="1420"/>
                    </a:lnTo>
                    <a:lnTo>
                      <a:pt x="1943" y="1430"/>
                    </a:lnTo>
                    <a:lnTo>
                      <a:pt x="1933" y="1439"/>
                    </a:lnTo>
                    <a:lnTo>
                      <a:pt x="1917" y="1420"/>
                    </a:lnTo>
                    <a:lnTo>
                      <a:pt x="1923" y="1410"/>
                    </a:lnTo>
                    <a:lnTo>
                      <a:pt x="1929" y="1402"/>
                    </a:lnTo>
                    <a:lnTo>
                      <a:pt x="1935" y="1393"/>
                    </a:lnTo>
                    <a:lnTo>
                      <a:pt x="1942" y="1384"/>
                    </a:lnTo>
                    <a:lnTo>
                      <a:pt x="1949" y="1374"/>
                    </a:lnTo>
                    <a:lnTo>
                      <a:pt x="1957" y="1364"/>
                    </a:lnTo>
                    <a:lnTo>
                      <a:pt x="1964" y="1354"/>
                    </a:lnTo>
                    <a:lnTo>
                      <a:pt x="1972" y="1341"/>
                    </a:lnTo>
                    <a:lnTo>
                      <a:pt x="1961" y="1329"/>
                    </a:lnTo>
                    <a:lnTo>
                      <a:pt x="1949" y="1332"/>
                    </a:lnTo>
                    <a:lnTo>
                      <a:pt x="1941" y="1341"/>
                    </a:lnTo>
                    <a:lnTo>
                      <a:pt x="1933" y="1350"/>
                    </a:lnTo>
                    <a:lnTo>
                      <a:pt x="1928" y="1360"/>
                    </a:lnTo>
                    <a:lnTo>
                      <a:pt x="1922" y="1370"/>
                    </a:lnTo>
                    <a:lnTo>
                      <a:pt x="1916" y="1380"/>
                    </a:lnTo>
                    <a:lnTo>
                      <a:pt x="1909" y="1389"/>
                    </a:lnTo>
                    <a:lnTo>
                      <a:pt x="1902" y="1399"/>
                    </a:lnTo>
                    <a:lnTo>
                      <a:pt x="1893" y="1409"/>
                    </a:lnTo>
                    <a:lnTo>
                      <a:pt x="1886" y="1404"/>
                    </a:lnTo>
                    <a:lnTo>
                      <a:pt x="1878" y="1399"/>
                    </a:lnTo>
                    <a:lnTo>
                      <a:pt x="1871" y="1394"/>
                    </a:lnTo>
                    <a:lnTo>
                      <a:pt x="1863" y="1387"/>
                    </a:lnTo>
                    <a:lnTo>
                      <a:pt x="1870" y="1380"/>
                    </a:lnTo>
                    <a:lnTo>
                      <a:pt x="1877" y="1373"/>
                    </a:lnTo>
                    <a:lnTo>
                      <a:pt x="1884" y="1364"/>
                    </a:lnTo>
                    <a:lnTo>
                      <a:pt x="1891" y="1357"/>
                    </a:lnTo>
                    <a:lnTo>
                      <a:pt x="1897" y="1348"/>
                    </a:lnTo>
                    <a:lnTo>
                      <a:pt x="1904" y="1339"/>
                    </a:lnTo>
                    <a:lnTo>
                      <a:pt x="1909" y="1332"/>
                    </a:lnTo>
                    <a:lnTo>
                      <a:pt x="1915" y="1323"/>
                    </a:lnTo>
                    <a:lnTo>
                      <a:pt x="1904" y="1306"/>
                    </a:lnTo>
                    <a:lnTo>
                      <a:pt x="1896" y="1312"/>
                    </a:lnTo>
                    <a:lnTo>
                      <a:pt x="1889" y="1319"/>
                    </a:lnTo>
                    <a:lnTo>
                      <a:pt x="1881" y="1328"/>
                    </a:lnTo>
                    <a:lnTo>
                      <a:pt x="1874" y="1336"/>
                    </a:lnTo>
                    <a:lnTo>
                      <a:pt x="1867" y="1345"/>
                    </a:lnTo>
                    <a:lnTo>
                      <a:pt x="1861" y="1355"/>
                    </a:lnTo>
                    <a:lnTo>
                      <a:pt x="1854" y="1365"/>
                    </a:lnTo>
                    <a:lnTo>
                      <a:pt x="1847" y="1374"/>
                    </a:lnTo>
                    <a:lnTo>
                      <a:pt x="1838" y="1371"/>
                    </a:lnTo>
                    <a:lnTo>
                      <a:pt x="1831" y="1367"/>
                    </a:lnTo>
                    <a:lnTo>
                      <a:pt x="1825" y="1363"/>
                    </a:lnTo>
                    <a:lnTo>
                      <a:pt x="1818" y="1354"/>
                    </a:lnTo>
                    <a:lnTo>
                      <a:pt x="1822" y="1345"/>
                    </a:lnTo>
                    <a:lnTo>
                      <a:pt x="1826" y="1338"/>
                    </a:lnTo>
                    <a:lnTo>
                      <a:pt x="1832" y="1331"/>
                    </a:lnTo>
                    <a:lnTo>
                      <a:pt x="1838" y="1323"/>
                    </a:lnTo>
                    <a:lnTo>
                      <a:pt x="1845" y="1318"/>
                    </a:lnTo>
                    <a:lnTo>
                      <a:pt x="1851" y="1309"/>
                    </a:lnTo>
                    <a:lnTo>
                      <a:pt x="1857" y="1302"/>
                    </a:lnTo>
                    <a:lnTo>
                      <a:pt x="1863" y="1293"/>
                    </a:lnTo>
                    <a:lnTo>
                      <a:pt x="1855" y="1282"/>
                    </a:lnTo>
                    <a:lnTo>
                      <a:pt x="1845" y="1282"/>
                    </a:lnTo>
                    <a:lnTo>
                      <a:pt x="1839" y="1286"/>
                    </a:lnTo>
                    <a:lnTo>
                      <a:pt x="1834" y="1293"/>
                    </a:lnTo>
                    <a:lnTo>
                      <a:pt x="1826" y="1300"/>
                    </a:lnTo>
                    <a:lnTo>
                      <a:pt x="1821" y="1308"/>
                    </a:lnTo>
                    <a:lnTo>
                      <a:pt x="1813" y="1316"/>
                    </a:lnTo>
                    <a:lnTo>
                      <a:pt x="1805" y="1325"/>
                    </a:lnTo>
                    <a:lnTo>
                      <a:pt x="1797" y="1332"/>
                    </a:lnTo>
                    <a:lnTo>
                      <a:pt x="1790" y="1339"/>
                    </a:lnTo>
                    <a:lnTo>
                      <a:pt x="1777" y="1335"/>
                    </a:lnTo>
                    <a:lnTo>
                      <a:pt x="1783" y="1328"/>
                    </a:lnTo>
                    <a:lnTo>
                      <a:pt x="1790" y="1321"/>
                    </a:lnTo>
                    <a:lnTo>
                      <a:pt x="1800" y="1315"/>
                    </a:lnTo>
                    <a:lnTo>
                      <a:pt x="1809" y="1306"/>
                    </a:lnTo>
                    <a:lnTo>
                      <a:pt x="1812" y="1299"/>
                    </a:lnTo>
                    <a:lnTo>
                      <a:pt x="1815" y="1292"/>
                    </a:lnTo>
                    <a:lnTo>
                      <a:pt x="1821" y="1284"/>
                    </a:lnTo>
                    <a:lnTo>
                      <a:pt x="1825" y="1273"/>
                    </a:lnTo>
                    <a:lnTo>
                      <a:pt x="1818" y="1257"/>
                    </a:lnTo>
                    <a:lnTo>
                      <a:pt x="1795" y="1266"/>
                    </a:lnTo>
                    <a:lnTo>
                      <a:pt x="1787" y="1277"/>
                    </a:lnTo>
                    <a:lnTo>
                      <a:pt x="1780" y="1290"/>
                    </a:lnTo>
                    <a:lnTo>
                      <a:pt x="1771" y="1305"/>
                    </a:lnTo>
                    <a:lnTo>
                      <a:pt x="1758" y="1318"/>
                    </a:lnTo>
                    <a:lnTo>
                      <a:pt x="1747" y="1316"/>
                    </a:lnTo>
                    <a:lnTo>
                      <a:pt x="1744" y="1306"/>
                    </a:lnTo>
                    <a:lnTo>
                      <a:pt x="1747" y="1295"/>
                    </a:lnTo>
                    <a:lnTo>
                      <a:pt x="1753" y="1284"/>
                    </a:lnTo>
                    <a:lnTo>
                      <a:pt x="1760" y="1274"/>
                    </a:lnTo>
                    <a:lnTo>
                      <a:pt x="1770" y="1263"/>
                    </a:lnTo>
                    <a:lnTo>
                      <a:pt x="1782" y="1253"/>
                    </a:lnTo>
                    <a:lnTo>
                      <a:pt x="1767" y="1237"/>
                    </a:lnTo>
                    <a:lnTo>
                      <a:pt x="1760" y="1241"/>
                    </a:lnTo>
                    <a:lnTo>
                      <a:pt x="1753" y="1245"/>
                    </a:lnTo>
                    <a:lnTo>
                      <a:pt x="1745" y="1253"/>
                    </a:lnTo>
                    <a:lnTo>
                      <a:pt x="1738" y="1260"/>
                    </a:lnTo>
                    <a:lnTo>
                      <a:pt x="1731" y="1267"/>
                    </a:lnTo>
                    <a:lnTo>
                      <a:pt x="1725" y="1276"/>
                    </a:lnTo>
                    <a:lnTo>
                      <a:pt x="1719" y="1283"/>
                    </a:lnTo>
                    <a:lnTo>
                      <a:pt x="1716" y="1290"/>
                    </a:lnTo>
                    <a:lnTo>
                      <a:pt x="1712" y="1283"/>
                    </a:lnTo>
                    <a:lnTo>
                      <a:pt x="1714" y="1276"/>
                    </a:lnTo>
                    <a:lnTo>
                      <a:pt x="1716" y="1270"/>
                    </a:lnTo>
                    <a:lnTo>
                      <a:pt x="1721" y="1263"/>
                    </a:lnTo>
                    <a:lnTo>
                      <a:pt x="1725" y="1253"/>
                    </a:lnTo>
                    <a:lnTo>
                      <a:pt x="1708" y="1240"/>
                    </a:lnTo>
                    <a:lnTo>
                      <a:pt x="1705" y="1248"/>
                    </a:lnTo>
                    <a:lnTo>
                      <a:pt x="1698" y="1253"/>
                    </a:lnTo>
                    <a:lnTo>
                      <a:pt x="1689" y="1258"/>
                    </a:lnTo>
                    <a:lnTo>
                      <a:pt x="1683" y="1267"/>
                    </a:lnTo>
                    <a:lnTo>
                      <a:pt x="1672" y="1271"/>
                    </a:lnTo>
                    <a:lnTo>
                      <a:pt x="1677" y="1258"/>
                    </a:lnTo>
                    <a:lnTo>
                      <a:pt x="1683" y="1245"/>
                    </a:lnTo>
                    <a:lnTo>
                      <a:pt x="1692" y="1232"/>
                    </a:lnTo>
                    <a:lnTo>
                      <a:pt x="1703" y="1219"/>
                    </a:lnTo>
                    <a:lnTo>
                      <a:pt x="1712" y="1221"/>
                    </a:lnTo>
                    <a:lnTo>
                      <a:pt x="1719" y="1221"/>
                    </a:lnTo>
                    <a:lnTo>
                      <a:pt x="1729" y="1224"/>
                    </a:lnTo>
                    <a:lnTo>
                      <a:pt x="1738" y="1225"/>
                    </a:lnTo>
                    <a:lnTo>
                      <a:pt x="1748" y="1227"/>
                    </a:lnTo>
                    <a:lnTo>
                      <a:pt x="1757" y="1230"/>
                    </a:lnTo>
                    <a:lnTo>
                      <a:pt x="1767" y="1231"/>
                    </a:lnTo>
                    <a:lnTo>
                      <a:pt x="1776" y="1234"/>
                    </a:lnTo>
                    <a:lnTo>
                      <a:pt x="1799" y="1227"/>
                    </a:lnTo>
                    <a:lnTo>
                      <a:pt x="1810" y="1224"/>
                    </a:lnTo>
                    <a:lnTo>
                      <a:pt x="1821" y="1219"/>
                    </a:lnTo>
                    <a:lnTo>
                      <a:pt x="1831" y="1212"/>
                    </a:lnTo>
                    <a:lnTo>
                      <a:pt x="1841" y="1204"/>
                    </a:lnTo>
                    <a:lnTo>
                      <a:pt x="1868" y="1166"/>
                    </a:lnTo>
                    <a:lnTo>
                      <a:pt x="1894" y="1127"/>
                    </a:lnTo>
                    <a:lnTo>
                      <a:pt x="1917" y="1088"/>
                    </a:lnTo>
                    <a:lnTo>
                      <a:pt x="1942" y="1048"/>
                    </a:lnTo>
                    <a:lnTo>
                      <a:pt x="1964" y="1006"/>
                    </a:lnTo>
                    <a:lnTo>
                      <a:pt x="1984" y="962"/>
                    </a:lnTo>
                    <a:lnTo>
                      <a:pt x="2003" y="917"/>
                    </a:lnTo>
                    <a:lnTo>
                      <a:pt x="2020" y="868"/>
                    </a:lnTo>
                    <a:lnTo>
                      <a:pt x="2022" y="848"/>
                    </a:lnTo>
                    <a:lnTo>
                      <a:pt x="2017" y="841"/>
                    </a:lnTo>
                    <a:lnTo>
                      <a:pt x="2013" y="835"/>
                    </a:lnTo>
                    <a:lnTo>
                      <a:pt x="2004" y="832"/>
                    </a:lnTo>
                    <a:lnTo>
                      <a:pt x="1993" y="828"/>
                    </a:lnTo>
                    <a:lnTo>
                      <a:pt x="1990" y="821"/>
                    </a:lnTo>
                    <a:lnTo>
                      <a:pt x="1990" y="813"/>
                    </a:lnTo>
                    <a:lnTo>
                      <a:pt x="1993" y="806"/>
                    </a:lnTo>
                    <a:lnTo>
                      <a:pt x="1991" y="799"/>
                    </a:lnTo>
                    <a:lnTo>
                      <a:pt x="1977" y="793"/>
                    </a:lnTo>
                    <a:lnTo>
                      <a:pt x="1964" y="789"/>
                    </a:lnTo>
                    <a:lnTo>
                      <a:pt x="1954" y="783"/>
                    </a:lnTo>
                    <a:lnTo>
                      <a:pt x="1943" y="779"/>
                    </a:lnTo>
                    <a:lnTo>
                      <a:pt x="1933" y="774"/>
                    </a:lnTo>
                    <a:lnTo>
                      <a:pt x="1925" y="770"/>
                    </a:lnTo>
                    <a:lnTo>
                      <a:pt x="1915" y="766"/>
                    </a:lnTo>
                    <a:lnTo>
                      <a:pt x="1904" y="763"/>
                    </a:lnTo>
                    <a:lnTo>
                      <a:pt x="1891" y="763"/>
                    </a:lnTo>
                    <a:lnTo>
                      <a:pt x="1876" y="757"/>
                    </a:lnTo>
                    <a:lnTo>
                      <a:pt x="1858" y="751"/>
                    </a:lnTo>
                    <a:lnTo>
                      <a:pt x="1842" y="746"/>
                    </a:lnTo>
                    <a:lnTo>
                      <a:pt x="1825" y="740"/>
                    </a:lnTo>
                    <a:lnTo>
                      <a:pt x="1808" y="734"/>
                    </a:lnTo>
                    <a:lnTo>
                      <a:pt x="1790" y="728"/>
                    </a:lnTo>
                    <a:lnTo>
                      <a:pt x="1773" y="722"/>
                    </a:lnTo>
                    <a:lnTo>
                      <a:pt x="1756" y="718"/>
                    </a:lnTo>
                    <a:lnTo>
                      <a:pt x="1738" y="712"/>
                    </a:lnTo>
                    <a:lnTo>
                      <a:pt x="1721" y="707"/>
                    </a:lnTo>
                    <a:lnTo>
                      <a:pt x="1703" y="702"/>
                    </a:lnTo>
                    <a:lnTo>
                      <a:pt x="1686" y="696"/>
                    </a:lnTo>
                    <a:lnTo>
                      <a:pt x="1670" y="691"/>
                    </a:lnTo>
                    <a:lnTo>
                      <a:pt x="1653" y="686"/>
                    </a:lnTo>
                    <a:lnTo>
                      <a:pt x="1635" y="681"/>
                    </a:lnTo>
                    <a:lnTo>
                      <a:pt x="1620" y="675"/>
                    </a:lnTo>
                    <a:lnTo>
                      <a:pt x="1608" y="670"/>
                    </a:lnTo>
                    <a:lnTo>
                      <a:pt x="1596" y="666"/>
                    </a:lnTo>
                    <a:lnTo>
                      <a:pt x="1585" y="662"/>
                    </a:lnTo>
                    <a:lnTo>
                      <a:pt x="1573" y="657"/>
                    </a:lnTo>
                    <a:lnTo>
                      <a:pt x="1562" y="653"/>
                    </a:lnTo>
                    <a:lnTo>
                      <a:pt x="1550" y="649"/>
                    </a:lnTo>
                    <a:lnTo>
                      <a:pt x="1537" y="644"/>
                    </a:lnTo>
                    <a:lnTo>
                      <a:pt x="1526" y="640"/>
                    </a:lnTo>
                    <a:lnTo>
                      <a:pt x="1500" y="633"/>
                    </a:lnTo>
                    <a:lnTo>
                      <a:pt x="1474" y="624"/>
                    </a:lnTo>
                    <a:lnTo>
                      <a:pt x="1448" y="616"/>
                    </a:lnTo>
                    <a:lnTo>
                      <a:pt x="1420" y="607"/>
                    </a:lnTo>
                    <a:lnTo>
                      <a:pt x="1394" y="598"/>
                    </a:lnTo>
                    <a:lnTo>
                      <a:pt x="1367" y="591"/>
                    </a:lnTo>
                    <a:lnTo>
                      <a:pt x="1339" y="585"/>
                    </a:lnTo>
                    <a:lnTo>
                      <a:pt x="1313" y="582"/>
                    </a:lnTo>
                    <a:lnTo>
                      <a:pt x="1301" y="584"/>
                    </a:lnTo>
                    <a:lnTo>
                      <a:pt x="1293" y="588"/>
                    </a:lnTo>
                    <a:lnTo>
                      <a:pt x="1284" y="594"/>
                    </a:lnTo>
                    <a:lnTo>
                      <a:pt x="1274" y="600"/>
                    </a:lnTo>
                    <a:lnTo>
                      <a:pt x="1257" y="614"/>
                    </a:lnTo>
                    <a:lnTo>
                      <a:pt x="1242" y="630"/>
                    </a:lnTo>
                    <a:lnTo>
                      <a:pt x="1228" y="646"/>
                    </a:lnTo>
                    <a:lnTo>
                      <a:pt x="1215" y="663"/>
                    </a:lnTo>
                    <a:lnTo>
                      <a:pt x="1202" y="681"/>
                    </a:lnTo>
                    <a:lnTo>
                      <a:pt x="1190" y="698"/>
                    </a:lnTo>
                    <a:lnTo>
                      <a:pt x="1177" y="715"/>
                    </a:lnTo>
                    <a:lnTo>
                      <a:pt x="1164" y="731"/>
                    </a:lnTo>
                    <a:lnTo>
                      <a:pt x="1155" y="747"/>
                    </a:lnTo>
                    <a:lnTo>
                      <a:pt x="1145" y="763"/>
                    </a:lnTo>
                    <a:lnTo>
                      <a:pt x="1135" y="779"/>
                    </a:lnTo>
                    <a:lnTo>
                      <a:pt x="1126" y="796"/>
                    </a:lnTo>
                    <a:lnTo>
                      <a:pt x="1116" y="812"/>
                    </a:lnTo>
                    <a:lnTo>
                      <a:pt x="1106" y="829"/>
                    </a:lnTo>
                    <a:lnTo>
                      <a:pt x="1096" y="847"/>
                    </a:lnTo>
                    <a:lnTo>
                      <a:pt x="1087" y="865"/>
                    </a:lnTo>
                    <a:lnTo>
                      <a:pt x="1087" y="877"/>
                    </a:lnTo>
                    <a:lnTo>
                      <a:pt x="1090" y="886"/>
                    </a:lnTo>
                    <a:lnTo>
                      <a:pt x="1095" y="893"/>
                    </a:lnTo>
                    <a:lnTo>
                      <a:pt x="1100" y="900"/>
                    </a:lnTo>
                    <a:lnTo>
                      <a:pt x="1106" y="907"/>
                    </a:lnTo>
                    <a:lnTo>
                      <a:pt x="1100" y="913"/>
                    </a:lnTo>
                    <a:lnTo>
                      <a:pt x="1095" y="920"/>
                    </a:lnTo>
                    <a:lnTo>
                      <a:pt x="1089" y="928"/>
                    </a:lnTo>
                    <a:lnTo>
                      <a:pt x="1082" y="935"/>
                    </a:lnTo>
                    <a:lnTo>
                      <a:pt x="1074" y="942"/>
                    </a:lnTo>
                    <a:lnTo>
                      <a:pt x="1069" y="949"/>
                    </a:lnTo>
                    <a:lnTo>
                      <a:pt x="1061" y="955"/>
                    </a:lnTo>
                    <a:lnTo>
                      <a:pt x="1054" y="959"/>
                    </a:lnTo>
                    <a:lnTo>
                      <a:pt x="1047" y="959"/>
                    </a:lnTo>
                    <a:lnTo>
                      <a:pt x="1047" y="938"/>
                    </a:lnTo>
                    <a:lnTo>
                      <a:pt x="1056" y="928"/>
                    </a:lnTo>
                    <a:lnTo>
                      <a:pt x="1064" y="916"/>
                    </a:lnTo>
                    <a:lnTo>
                      <a:pt x="1073" y="906"/>
                    </a:lnTo>
                    <a:lnTo>
                      <a:pt x="1082" y="896"/>
                    </a:lnTo>
                    <a:lnTo>
                      <a:pt x="1082" y="884"/>
                    </a:lnTo>
                    <a:lnTo>
                      <a:pt x="1070" y="878"/>
                    </a:lnTo>
                    <a:lnTo>
                      <a:pt x="1061" y="883"/>
                    </a:lnTo>
                    <a:lnTo>
                      <a:pt x="1053" y="890"/>
                    </a:lnTo>
                    <a:lnTo>
                      <a:pt x="1044" y="897"/>
                    </a:lnTo>
                    <a:lnTo>
                      <a:pt x="1037" y="906"/>
                    </a:lnTo>
                    <a:lnTo>
                      <a:pt x="1028" y="915"/>
                    </a:lnTo>
                    <a:lnTo>
                      <a:pt x="1022" y="925"/>
                    </a:lnTo>
                    <a:lnTo>
                      <a:pt x="1015" y="933"/>
                    </a:lnTo>
                    <a:lnTo>
                      <a:pt x="1011" y="942"/>
                    </a:lnTo>
                    <a:lnTo>
                      <a:pt x="1001" y="942"/>
                    </a:lnTo>
                    <a:lnTo>
                      <a:pt x="995" y="932"/>
                    </a:lnTo>
                    <a:lnTo>
                      <a:pt x="1002" y="920"/>
                    </a:lnTo>
                    <a:lnTo>
                      <a:pt x="1011" y="907"/>
                    </a:lnTo>
                    <a:lnTo>
                      <a:pt x="1019" y="893"/>
                    </a:lnTo>
                    <a:lnTo>
                      <a:pt x="1028" y="877"/>
                    </a:lnTo>
                    <a:lnTo>
                      <a:pt x="1017" y="863"/>
                    </a:lnTo>
                    <a:lnTo>
                      <a:pt x="1008" y="867"/>
                    </a:lnTo>
                    <a:lnTo>
                      <a:pt x="999" y="873"/>
                    </a:lnTo>
                    <a:lnTo>
                      <a:pt x="993" y="878"/>
                    </a:lnTo>
                    <a:lnTo>
                      <a:pt x="988" y="887"/>
                    </a:lnTo>
                    <a:lnTo>
                      <a:pt x="983" y="894"/>
                    </a:lnTo>
                    <a:lnTo>
                      <a:pt x="979" y="903"/>
                    </a:lnTo>
                    <a:lnTo>
                      <a:pt x="973" y="912"/>
                    </a:lnTo>
                    <a:lnTo>
                      <a:pt x="967" y="920"/>
                    </a:lnTo>
                    <a:lnTo>
                      <a:pt x="956" y="922"/>
                    </a:lnTo>
                    <a:lnTo>
                      <a:pt x="953" y="916"/>
                    </a:lnTo>
                    <a:lnTo>
                      <a:pt x="962" y="903"/>
                    </a:lnTo>
                    <a:lnTo>
                      <a:pt x="967" y="890"/>
                    </a:lnTo>
                    <a:lnTo>
                      <a:pt x="975" y="877"/>
                    </a:lnTo>
                    <a:lnTo>
                      <a:pt x="982" y="863"/>
                    </a:lnTo>
                    <a:lnTo>
                      <a:pt x="965" y="848"/>
                    </a:lnTo>
                    <a:lnTo>
                      <a:pt x="959" y="855"/>
                    </a:lnTo>
                    <a:lnTo>
                      <a:pt x="954" y="863"/>
                    </a:lnTo>
                    <a:lnTo>
                      <a:pt x="949" y="870"/>
                    </a:lnTo>
                    <a:lnTo>
                      <a:pt x="943" y="877"/>
                    </a:lnTo>
                    <a:lnTo>
                      <a:pt x="936" y="884"/>
                    </a:lnTo>
                    <a:lnTo>
                      <a:pt x="930" y="891"/>
                    </a:lnTo>
                    <a:lnTo>
                      <a:pt x="923" y="899"/>
                    </a:lnTo>
                    <a:lnTo>
                      <a:pt x="917" y="907"/>
                    </a:lnTo>
                    <a:lnTo>
                      <a:pt x="912" y="906"/>
                    </a:lnTo>
                    <a:lnTo>
                      <a:pt x="905" y="904"/>
                    </a:lnTo>
                    <a:lnTo>
                      <a:pt x="899" y="902"/>
                    </a:lnTo>
                    <a:lnTo>
                      <a:pt x="897" y="894"/>
                    </a:lnTo>
                    <a:lnTo>
                      <a:pt x="910" y="874"/>
                    </a:lnTo>
                    <a:lnTo>
                      <a:pt x="914" y="867"/>
                    </a:lnTo>
                    <a:lnTo>
                      <a:pt x="920" y="860"/>
                    </a:lnTo>
                    <a:lnTo>
                      <a:pt x="925" y="851"/>
                    </a:lnTo>
                    <a:lnTo>
                      <a:pt x="930" y="841"/>
                    </a:lnTo>
                    <a:lnTo>
                      <a:pt x="921" y="831"/>
                    </a:lnTo>
                    <a:lnTo>
                      <a:pt x="910" y="832"/>
                    </a:lnTo>
                    <a:lnTo>
                      <a:pt x="904" y="838"/>
                    </a:lnTo>
                    <a:lnTo>
                      <a:pt x="899" y="844"/>
                    </a:lnTo>
                    <a:lnTo>
                      <a:pt x="894" y="851"/>
                    </a:lnTo>
                    <a:lnTo>
                      <a:pt x="888" y="857"/>
                    </a:lnTo>
                    <a:lnTo>
                      <a:pt x="882" y="864"/>
                    </a:lnTo>
                    <a:lnTo>
                      <a:pt x="876" y="870"/>
                    </a:lnTo>
                    <a:lnTo>
                      <a:pt x="871" y="877"/>
                    </a:lnTo>
                    <a:lnTo>
                      <a:pt x="866" y="883"/>
                    </a:lnTo>
                    <a:lnTo>
                      <a:pt x="850" y="874"/>
                    </a:lnTo>
                    <a:lnTo>
                      <a:pt x="862" y="861"/>
                    </a:lnTo>
                    <a:lnTo>
                      <a:pt x="872" y="848"/>
                    </a:lnTo>
                    <a:lnTo>
                      <a:pt x="879" y="835"/>
                    </a:lnTo>
                    <a:lnTo>
                      <a:pt x="888" y="821"/>
                    </a:lnTo>
                    <a:lnTo>
                      <a:pt x="878" y="805"/>
                    </a:lnTo>
                    <a:lnTo>
                      <a:pt x="872" y="809"/>
                    </a:lnTo>
                    <a:lnTo>
                      <a:pt x="865" y="815"/>
                    </a:lnTo>
                    <a:lnTo>
                      <a:pt x="859" y="821"/>
                    </a:lnTo>
                    <a:lnTo>
                      <a:pt x="853" y="828"/>
                    </a:lnTo>
                    <a:lnTo>
                      <a:pt x="846" y="837"/>
                    </a:lnTo>
                    <a:lnTo>
                      <a:pt x="840" y="844"/>
                    </a:lnTo>
                    <a:lnTo>
                      <a:pt x="833" y="851"/>
                    </a:lnTo>
                    <a:lnTo>
                      <a:pt x="827" y="858"/>
                    </a:lnTo>
                    <a:lnTo>
                      <a:pt x="807" y="852"/>
                    </a:lnTo>
                    <a:lnTo>
                      <a:pt x="807" y="848"/>
                    </a:lnTo>
                    <a:lnTo>
                      <a:pt x="814" y="837"/>
                    </a:lnTo>
                    <a:lnTo>
                      <a:pt x="823" y="826"/>
                    </a:lnTo>
                    <a:lnTo>
                      <a:pt x="831" y="816"/>
                    </a:lnTo>
                    <a:lnTo>
                      <a:pt x="840" y="806"/>
                    </a:lnTo>
                    <a:lnTo>
                      <a:pt x="840" y="796"/>
                    </a:lnTo>
                    <a:lnTo>
                      <a:pt x="829" y="787"/>
                    </a:lnTo>
                    <a:lnTo>
                      <a:pt x="821" y="792"/>
                    </a:lnTo>
                    <a:lnTo>
                      <a:pt x="814" y="798"/>
                    </a:lnTo>
                    <a:lnTo>
                      <a:pt x="808" y="803"/>
                    </a:lnTo>
                    <a:lnTo>
                      <a:pt x="803" y="811"/>
                    </a:lnTo>
                    <a:lnTo>
                      <a:pt x="797" y="819"/>
                    </a:lnTo>
                    <a:lnTo>
                      <a:pt x="790" y="825"/>
                    </a:lnTo>
                    <a:lnTo>
                      <a:pt x="782" y="831"/>
                    </a:lnTo>
                    <a:lnTo>
                      <a:pt x="772" y="835"/>
                    </a:lnTo>
                    <a:lnTo>
                      <a:pt x="764" y="829"/>
                    </a:lnTo>
                    <a:lnTo>
                      <a:pt x="765" y="822"/>
                    </a:lnTo>
                    <a:lnTo>
                      <a:pt x="768" y="816"/>
                    </a:lnTo>
                    <a:lnTo>
                      <a:pt x="774" y="809"/>
                    </a:lnTo>
                    <a:lnTo>
                      <a:pt x="779" y="800"/>
                    </a:lnTo>
                    <a:lnTo>
                      <a:pt x="781" y="793"/>
                    </a:lnTo>
                    <a:lnTo>
                      <a:pt x="785" y="787"/>
                    </a:lnTo>
                    <a:lnTo>
                      <a:pt x="791" y="780"/>
                    </a:lnTo>
                    <a:lnTo>
                      <a:pt x="794" y="770"/>
                    </a:lnTo>
                    <a:lnTo>
                      <a:pt x="782" y="763"/>
                    </a:lnTo>
                    <a:lnTo>
                      <a:pt x="775" y="767"/>
                    </a:lnTo>
                    <a:lnTo>
                      <a:pt x="768" y="772"/>
                    </a:lnTo>
                    <a:lnTo>
                      <a:pt x="762" y="779"/>
                    </a:lnTo>
                    <a:lnTo>
                      <a:pt x="758" y="786"/>
                    </a:lnTo>
                    <a:lnTo>
                      <a:pt x="752" y="793"/>
                    </a:lnTo>
                    <a:lnTo>
                      <a:pt x="746" y="800"/>
                    </a:lnTo>
                    <a:lnTo>
                      <a:pt x="739" y="808"/>
                    </a:lnTo>
                    <a:lnTo>
                      <a:pt x="730" y="813"/>
                    </a:lnTo>
                    <a:lnTo>
                      <a:pt x="722" y="809"/>
                    </a:lnTo>
                    <a:lnTo>
                      <a:pt x="727" y="799"/>
                    </a:lnTo>
                    <a:lnTo>
                      <a:pt x="733" y="789"/>
                    </a:lnTo>
                    <a:lnTo>
                      <a:pt x="740" y="777"/>
                    </a:lnTo>
                    <a:lnTo>
                      <a:pt x="748" y="767"/>
                    </a:lnTo>
                    <a:lnTo>
                      <a:pt x="740" y="747"/>
                    </a:lnTo>
                    <a:lnTo>
                      <a:pt x="733" y="751"/>
                    </a:lnTo>
                    <a:lnTo>
                      <a:pt x="727" y="756"/>
                    </a:lnTo>
                    <a:lnTo>
                      <a:pt x="722" y="761"/>
                    </a:lnTo>
                    <a:lnTo>
                      <a:pt x="717" y="769"/>
                    </a:lnTo>
                    <a:lnTo>
                      <a:pt x="711" y="776"/>
                    </a:lnTo>
                    <a:lnTo>
                      <a:pt x="704" y="783"/>
                    </a:lnTo>
                    <a:lnTo>
                      <a:pt x="697" y="790"/>
                    </a:lnTo>
                    <a:lnTo>
                      <a:pt x="688" y="798"/>
                    </a:lnTo>
                    <a:lnTo>
                      <a:pt x="675" y="793"/>
                    </a:lnTo>
                    <a:lnTo>
                      <a:pt x="678" y="785"/>
                    </a:lnTo>
                    <a:lnTo>
                      <a:pt x="683" y="777"/>
                    </a:lnTo>
                    <a:lnTo>
                      <a:pt x="688" y="772"/>
                    </a:lnTo>
                    <a:lnTo>
                      <a:pt x="694" y="763"/>
                    </a:lnTo>
                    <a:lnTo>
                      <a:pt x="694" y="753"/>
                    </a:lnTo>
                    <a:lnTo>
                      <a:pt x="693" y="746"/>
                    </a:lnTo>
                    <a:lnTo>
                      <a:pt x="688" y="741"/>
                    </a:lnTo>
                    <a:lnTo>
                      <a:pt x="678" y="737"/>
                    </a:lnTo>
                    <a:lnTo>
                      <a:pt x="674" y="743"/>
                    </a:lnTo>
                    <a:lnTo>
                      <a:pt x="671" y="751"/>
                    </a:lnTo>
                    <a:lnTo>
                      <a:pt x="668" y="761"/>
                    </a:lnTo>
                    <a:lnTo>
                      <a:pt x="662" y="767"/>
                    </a:lnTo>
                    <a:lnTo>
                      <a:pt x="654" y="772"/>
                    </a:lnTo>
                    <a:lnTo>
                      <a:pt x="646" y="779"/>
                    </a:lnTo>
                    <a:lnTo>
                      <a:pt x="639" y="787"/>
                    </a:lnTo>
                    <a:lnTo>
                      <a:pt x="630" y="793"/>
                    </a:lnTo>
                    <a:lnTo>
                      <a:pt x="619" y="792"/>
                    </a:lnTo>
                    <a:lnTo>
                      <a:pt x="625" y="783"/>
                    </a:lnTo>
                    <a:lnTo>
                      <a:pt x="630" y="774"/>
                    </a:lnTo>
                    <a:lnTo>
                      <a:pt x="636" y="766"/>
                    </a:lnTo>
                    <a:lnTo>
                      <a:pt x="642" y="756"/>
                    </a:lnTo>
                    <a:lnTo>
                      <a:pt x="636" y="734"/>
                    </a:lnTo>
                    <a:lnTo>
                      <a:pt x="626" y="734"/>
                    </a:lnTo>
                    <a:lnTo>
                      <a:pt x="620" y="740"/>
                    </a:lnTo>
                    <a:lnTo>
                      <a:pt x="616" y="748"/>
                    </a:lnTo>
                    <a:lnTo>
                      <a:pt x="610" y="756"/>
                    </a:lnTo>
                    <a:lnTo>
                      <a:pt x="604" y="764"/>
                    </a:lnTo>
                    <a:lnTo>
                      <a:pt x="597" y="773"/>
                    </a:lnTo>
                    <a:lnTo>
                      <a:pt x="591" y="782"/>
                    </a:lnTo>
                    <a:lnTo>
                      <a:pt x="584" y="790"/>
                    </a:lnTo>
                    <a:lnTo>
                      <a:pt x="577" y="799"/>
                    </a:lnTo>
                    <a:lnTo>
                      <a:pt x="564" y="793"/>
                    </a:lnTo>
                    <a:lnTo>
                      <a:pt x="568" y="786"/>
                    </a:lnTo>
                    <a:lnTo>
                      <a:pt x="574" y="776"/>
                    </a:lnTo>
                    <a:lnTo>
                      <a:pt x="578" y="764"/>
                    </a:lnTo>
                    <a:lnTo>
                      <a:pt x="583" y="750"/>
                    </a:lnTo>
                    <a:lnTo>
                      <a:pt x="564" y="741"/>
                    </a:lnTo>
                    <a:lnTo>
                      <a:pt x="558" y="750"/>
                    </a:lnTo>
                    <a:lnTo>
                      <a:pt x="552" y="761"/>
                    </a:lnTo>
                    <a:lnTo>
                      <a:pt x="547" y="773"/>
                    </a:lnTo>
                    <a:lnTo>
                      <a:pt x="539" y="785"/>
                    </a:lnTo>
                    <a:lnTo>
                      <a:pt x="529" y="789"/>
                    </a:lnTo>
                    <a:lnTo>
                      <a:pt x="523" y="796"/>
                    </a:lnTo>
                    <a:lnTo>
                      <a:pt x="518" y="805"/>
                    </a:lnTo>
                    <a:lnTo>
                      <a:pt x="505" y="808"/>
                    </a:lnTo>
                    <a:lnTo>
                      <a:pt x="497" y="805"/>
                    </a:lnTo>
                    <a:lnTo>
                      <a:pt x="503" y="795"/>
                    </a:lnTo>
                    <a:lnTo>
                      <a:pt x="509" y="785"/>
                    </a:lnTo>
                    <a:lnTo>
                      <a:pt x="516" y="774"/>
                    </a:lnTo>
                    <a:lnTo>
                      <a:pt x="525" y="764"/>
                    </a:lnTo>
                    <a:lnTo>
                      <a:pt x="510" y="747"/>
                    </a:lnTo>
                    <a:lnTo>
                      <a:pt x="503" y="754"/>
                    </a:lnTo>
                    <a:lnTo>
                      <a:pt x="497" y="761"/>
                    </a:lnTo>
                    <a:lnTo>
                      <a:pt x="490" y="769"/>
                    </a:lnTo>
                    <a:lnTo>
                      <a:pt x="484" y="776"/>
                    </a:lnTo>
                    <a:lnTo>
                      <a:pt x="479" y="783"/>
                    </a:lnTo>
                    <a:lnTo>
                      <a:pt x="471" y="792"/>
                    </a:lnTo>
                    <a:lnTo>
                      <a:pt x="467" y="800"/>
                    </a:lnTo>
                    <a:lnTo>
                      <a:pt x="461" y="809"/>
                    </a:lnTo>
                    <a:lnTo>
                      <a:pt x="454" y="811"/>
                    </a:lnTo>
                    <a:lnTo>
                      <a:pt x="448" y="811"/>
                    </a:lnTo>
                    <a:lnTo>
                      <a:pt x="441" y="812"/>
                    </a:lnTo>
                    <a:lnTo>
                      <a:pt x="431" y="813"/>
                    </a:lnTo>
                    <a:lnTo>
                      <a:pt x="424" y="812"/>
                    </a:lnTo>
                    <a:lnTo>
                      <a:pt x="432" y="802"/>
                    </a:lnTo>
                    <a:lnTo>
                      <a:pt x="441" y="792"/>
                    </a:lnTo>
                    <a:lnTo>
                      <a:pt x="448" y="780"/>
                    </a:lnTo>
                    <a:lnTo>
                      <a:pt x="456" y="767"/>
                    </a:lnTo>
                    <a:lnTo>
                      <a:pt x="437" y="754"/>
                    </a:lnTo>
                    <a:lnTo>
                      <a:pt x="431" y="760"/>
                    </a:lnTo>
                    <a:lnTo>
                      <a:pt x="427" y="767"/>
                    </a:lnTo>
                    <a:lnTo>
                      <a:pt x="421" y="773"/>
                    </a:lnTo>
                    <a:lnTo>
                      <a:pt x="415" y="780"/>
                    </a:lnTo>
                    <a:lnTo>
                      <a:pt x="409" y="786"/>
                    </a:lnTo>
                    <a:lnTo>
                      <a:pt x="403" y="793"/>
                    </a:lnTo>
                    <a:lnTo>
                      <a:pt x="398" y="799"/>
                    </a:lnTo>
                    <a:lnTo>
                      <a:pt x="392" y="806"/>
                    </a:lnTo>
                    <a:lnTo>
                      <a:pt x="386" y="809"/>
                    </a:lnTo>
                    <a:lnTo>
                      <a:pt x="380" y="811"/>
                    </a:lnTo>
                    <a:lnTo>
                      <a:pt x="372" y="811"/>
                    </a:lnTo>
                    <a:lnTo>
                      <a:pt x="364" y="806"/>
                    </a:lnTo>
                    <a:lnTo>
                      <a:pt x="373" y="802"/>
                    </a:lnTo>
                    <a:lnTo>
                      <a:pt x="380" y="793"/>
                    </a:lnTo>
                    <a:lnTo>
                      <a:pt x="388" y="782"/>
                    </a:lnTo>
                    <a:lnTo>
                      <a:pt x="396" y="769"/>
                    </a:lnTo>
                    <a:lnTo>
                      <a:pt x="385" y="753"/>
                    </a:lnTo>
                    <a:lnTo>
                      <a:pt x="377" y="757"/>
                    </a:lnTo>
                    <a:lnTo>
                      <a:pt x="370" y="763"/>
                    </a:lnTo>
                    <a:lnTo>
                      <a:pt x="363" y="770"/>
                    </a:lnTo>
                    <a:lnTo>
                      <a:pt x="357" y="777"/>
                    </a:lnTo>
                    <a:lnTo>
                      <a:pt x="350" y="786"/>
                    </a:lnTo>
                    <a:lnTo>
                      <a:pt x="343" y="793"/>
                    </a:lnTo>
                    <a:lnTo>
                      <a:pt x="335" y="800"/>
                    </a:lnTo>
                    <a:lnTo>
                      <a:pt x="325" y="806"/>
                    </a:lnTo>
                    <a:lnTo>
                      <a:pt x="317" y="803"/>
                    </a:lnTo>
                    <a:lnTo>
                      <a:pt x="320" y="790"/>
                    </a:lnTo>
                    <a:lnTo>
                      <a:pt x="328" y="780"/>
                    </a:lnTo>
                    <a:lnTo>
                      <a:pt x="337" y="770"/>
                    </a:lnTo>
                    <a:lnTo>
                      <a:pt x="343" y="760"/>
                    </a:lnTo>
                    <a:lnTo>
                      <a:pt x="330" y="743"/>
                    </a:lnTo>
                    <a:lnTo>
                      <a:pt x="324" y="746"/>
                    </a:lnTo>
                    <a:lnTo>
                      <a:pt x="318" y="750"/>
                    </a:lnTo>
                    <a:lnTo>
                      <a:pt x="312" y="756"/>
                    </a:lnTo>
                    <a:lnTo>
                      <a:pt x="307" y="761"/>
                    </a:lnTo>
                    <a:lnTo>
                      <a:pt x="301" y="767"/>
                    </a:lnTo>
                    <a:lnTo>
                      <a:pt x="294" y="773"/>
                    </a:lnTo>
                    <a:lnTo>
                      <a:pt x="288" y="780"/>
                    </a:lnTo>
                    <a:lnTo>
                      <a:pt x="281" y="786"/>
                    </a:lnTo>
                    <a:lnTo>
                      <a:pt x="273" y="780"/>
                    </a:lnTo>
                    <a:lnTo>
                      <a:pt x="282" y="770"/>
                    </a:lnTo>
                    <a:lnTo>
                      <a:pt x="291" y="757"/>
                    </a:lnTo>
                    <a:lnTo>
                      <a:pt x="298" y="746"/>
                    </a:lnTo>
                    <a:lnTo>
                      <a:pt x="307" y="733"/>
                    </a:lnTo>
                    <a:lnTo>
                      <a:pt x="298" y="720"/>
                    </a:lnTo>
                    <a:lnTo>
                      <a:pt x="286" y="720"/>
                    </a:lnTo>
                    <a:lnTo>
                      <a:pt x="279" y="730"/>
                    </a:lnTo>
                    <a:lnTo>
                      <a:pt x="270" y="740"/>
                    </a:lnTo>
                    <a:lnTo>
                      <a:pt x="262" y="751"/>
                    </a:lnTo>
                    <a:lnTo>
                      <a:pt x="250" y="761"/>
                    </a:lnTo>
                    <a:lnTo>
                      <a:pt x="240" y="761"/>
                    </a:lnTo>
                    <a:lnTo>
                      <a:pt x="247" y="744"/>
                    </a:lnTo>
                    <a:lnTo>
                      <a:pt x="256" y="733"/>
                    </a:lnTo>
                    <a:lnTo>
                      <a:pt x="262" y="724"/>
                    </a:lnTo>
                    <a:lnTo>
                      <a:pt x="266" y="712"/>
                    </a:lnTo>
                    <a:lnTo>
                      <a:pt x="259" y="701"/>
                    </a:lnTo>
                    <a:lnTo>
                      <a:pt x="247" y="701"/>
                    </a:lnTo>
                    <a:lnTo>
                      <a:pt x="239" y="709"/>
                    </a:lnTo>
                    <a:lnTo>
                      <a:pt x="233" y="721"/>
                    </a:lnTo>
                    <a:lnTo>
                      <a:pt x="224" y="731"/>
                    </a:lnTo>
                    <a:lnTo>
                      <a:pt x="210" y="737"/>
                    </a:lnTo>
                    <a:lnTo>
                      <a:pt x="205" y="727"/>
                    </a:lnTo>
                    <a:lnTo>
                      <a:pt x="210" y="720"/>
                    </a:lnTo>
                    <a:lnTo>
                      <a:pt x="217" y="712"/>
                    </a:lnTo>
                    <a:lnTo>
                      <a:pt x="226" y="704"/>
                    </a:lnTo>
                    <a:lnTo>
                      <a:pt x="236" y="694"/>
                    </a:lnTo>
                    <a:lnTo>
                      <a:pt x="223" y="676"/>
                    </a:lnTo>
                    <a:lnTo>
                      <a:pt x="214" y="678"/>
                    </a:lnTo>
                    <a:lnTo>
                      <a:pt x="207" y="683"/>
                    </a:lnTo>
                    <a:lnTo>
                      <a:pt x="201" y="689"/>
                    </a:lnTo>
                    <a:lnTo>
                      <a:pt x="194" y="695"/>
                    </a:lnTo>
                    <a:lnTo>
                      <a:pt x="187" y="705"/>
                    </a:lnTo>
                    <a:lnTo>
                      <a:pt x="181" y="702"/>
                    </a:lnTo>
                    <a:lnTo>
                      <a:pt x="185" y="698"/>
                    </a:lnTo>
                    <a:lnTo>
                      <a:pt x="189" y="689"/>
                    </a:lnTo>
                    <a:lnTo>
                      <a:pt x="191" y="679"/>
                    </a:lnTo>
                    <a:lnTo>
                      <a:pt x="192" y="669"/>
                    </a:lnTo>
                    <a:lnTo>
                      <a:pt x="172" y="666"/>
                    </a:lnTo>
                    <a:lnTo>
                      <a:pt x="161" y="688"/>
                    </a:lnTo>
                    <a:lnTo>
                      <a:pt x="149" y="685"/>
                    </a:lnTo>
                    <a:lnTo>
                      <a:pt x="143" y="676"/>
                    </a:lnTo>
                    <a:lnTo>
                      <a:pt x="149" y="669"/>
                    </a:lnTo>
                    <a:lnTo>
                      <a:pt x="155" y="662"/>
                    </a:lnTo>
                    <a:lnTo>
                      <a:pt x="162" y="656"/>
                    </a:lnTo>
                    <a:lnTo>
                      <a:pt x="166" y="647"/>
                    </a:lnTo>
                    <a:lnTo>
                      <a:pt x="159" y="634"/>
                    </a:lnTo>
                    <a:lnTo>
                      <a:pt x="149" y="636"/>
                    </a:lnTo>
                    <a:lnTo>
                      <a:pt x="142" y="640"/>
                    </a:lnTo>
                    <a:lnTo>
                      <a:pt x="134" y="644"/>
                    </a:lnTo>
                    <a:lnTo>
                      <a:pt x="127" y="650"/>
                    </a:lnTo>
                    <a:lnTo>
                      <a:pt x="119" y="657"/>
                    </a:lnTo>
                    <a:lnTo>
                      <a:pt x="107" y="653"/>
                    </a:lnTo>
                    <a:lnTo>
                      <a:pt x="114" y="646"/>
                    </a:lnTo>
                    <a:lnTo>
                      <a:pt x="121" y="640"/>
                    </a:lnTo>
                    <a:lnTo>
                      <a:pt x="129" y="634"/>
                    </a:lnTo>
                    <a:lnTo>
                      <a:pt x="136" y="626"/>
                    </a:lnTo>
                    <a:lnTo>
                      <a:pt x="129" y="614"/>
                    </a:lnTo>
                    <a:lnTo>
                      <a:pt x="119" y="614"/>
                    </a:lnTo>
                    <a:lnTo>
                      <a:pt x="108" y="620"/>
                    </a:lnTo>
                    <a:lnTo>
                      <a:pt x="98" y="627"/>
                    </a:lnTo>
                    <a:lnTo>
                      <a:pt x="88" y="626"/>
                    </a:lnTo>
                    <a:lnTo>
                      <a:pt x="97" y="617"/>
                    </a:lnTo>
                    <a:lnTo>
                      <a:pt x="107" y="608"/>
                    </a:lnTo>
                    <a:lnTo>
                      <a:pt x="114" y="597"/>
                    </a:lnTo>
                    <a:lnTo>
                      <a:pt x="121" y="582"/>
                    </a:lnTo>
                    <a:lnTo>
                      <a:pt x="108" y="574"/>
                    </a:lnTo>
                    <a:lnTo>
                      <a:pt x="100" y="575"/>
                    </a:lnTo>
                    <a:lnTo>
                      <a:pt x="94" y="581"/>
                    </a:lnTo>
                    <a:lnTo>
                      <a:pt x="87" y="588"/>
                    </a:lnTo>
                    <a:lnTo>
                      <a:pt x="78" y="595"/>
                    </a:lnTo>
                    <a:lnTo>
                      <a:pt x="75" y="588"/>
                    </a:lnTo>
                    <a:lnTo>
                      <a:pt x="84" y="579"/>
                    </a:lnTo>
                    <a:lnTo>
                      <a:pt x="93" y="572"/>
                    </a:lnTo>
                    <a:lnTo>
                      <a:pt x="100" y="565"/>
                    </a:lnTo>
                    <a:lnTo>
                      <a:pt x="108" y="555"/>
                    </a:lnTo>
                    <a:lnTo>
                      <a:pt x="94" y="539"/>
                    </a:lnTo>
                    <a:lnTo>
                      <a:pt x="91" y="543"/>
                    </a:lnTo>
                    <a:lnTo>
                      <a:pt x="84" y="546"/>
                    </a:lnTo>
                    <a:lnTo>
                      <a:pt x="74" y="549"/>
                    </a:lnTo>
                    <a:lnTo>
                      <a:pt x="64" y="553"/>
                    </a:lnTo>
                    <a:lnTo>
                      <a:pt x="64" y="532"/>
                    </a:lnTo>
                    <a:lnTo>
                      <a:pt x="67" y="526"/>
                    </a:lnTo>
                    <a:lnTo>
                      <a:pt x="75" y="523"/>
                    </a:lnTo>
                    <a:lnTo>
                      <a:pt x="82" y="519"/>
                    </a:lnTo>
                    <a:lnTo>
                      <a:pt x="85" y="509"/>
                    </a:lnTo>
                    <a:lnTo>
                      <a:pt x="71" y="496"/>
                    </a:lnTo>
                    <a:lnTo>
                      <a:pt x="49" y="509"/>
                    </a:lnTo>
                    <a:lnTo>
                      <a:pt x="52" y="497"/>
                    </a:lnTo>
                    <a:lnTo>
                      <a:pt x="59" y="490"/>
                    </a:lnTo>
                    <a:lnTo>
                      <a:pt x="69" y="484"/>
                    </a:lnTo>
                    <a:lnTo>
                      <a:pt x="78" y="474"/>
                    </a:lnTo>
                    <a:lnTo>
                      <a:pt x="72" y="461"/>
                    </a:lnTo>
                    <a:lnTo>
                      <a:pt x="65" y="459"/>
                    </a:lnTo>
                    <a:lnTo>
                      <a:pt x="58" y="461"/>
                    </a:lnTo>
                    <a:lnTo>
                      <a:pt x="51" y="464"/>
                    </a:lnTo>
                    <a:lnTo>
                      <a:pt x="42" y="467"/>
                    </a:lnTo>
                    <a:lnTo>
                      <a:pt x="45" y="458"/>
                    </a:lnTo>
                    <a:lnTo>
                      <a:pt x="52" y="454"/>
                    </a:lnTo>
                    <a:lnTo>
                      <a:pt x="59" y="448"/>
                    </a:lnTo>
                    <a:lnTo>
                      <a:pt x="62" y="438"/>
                    </a:lnTo>
                    <a:lnTo>
                      <a:pt x="54" y="426"/>
                    </a:lnTo>
                    <a:lnTo>
                      <a:pt x="46" y="428"/>
                    </a:lnTo>
                    <a:lnTo>
                      <a:pt x="39" y="432"/>
                    </a:lnTo>
                    <a:lnTo>
                      <a:pt x="32" y="438"/>
                    </a:lnTo>
                    <a:lnTo>
                      <a:pt x="25" y="439"/>
                    </a:lnTo>
                    <a:lnTo>
                      <a:pt x="32" y="432"/>
                    </a:lnTo>
                    <a:lnTo>
                      <a:pt x="38" y="425"/>
                    </a:lnTo>
                    <a:lnTo>
                      <a:pt x="40" y="418"/>
                    </a:lnTo>
                    <a:lnTo>
                      <a:pt x="35" y="407"/>
                    </a:lnTo>
                    <a:lnTo>
                      <a:pt x="30" y="405"/>
                    </a:lnTo>
                    <a:lnTo>
                      <a:pt x="23" y="406"/>
                    </a:lnTo>
                    <a:lnTo>
                      <a:pt x="16" y="409"/>
                    </a:lnTo>
                    <a:lnTo>
                      <a:pt x="9" y="413"/>
                    </a:lnTo>
                    <a:lnTo>
                      <a:pt x="1" y="407"/>
                    </a:lnTo>
                    <a:lnTo>
                      <a:pt x="0" y="400"/>
                    </a:lnTo>
                    <a:lnTo>
                      <a:pt x="0" y="393"/>
                    </a:lnTo>
                    <a:lnTo>
                      <a:pt x="0" y="386"/>
                    </a:lnTo>
                    <a:lnTo>
                      <a:pt x="3" y="376"/>
                    </a:lnTo>
                    <a:lnTo>
                      <a:pt x="17" y="363"/>
                    </a:lnTo>
                    <a:lnTo>
                      <a:pt x="39" y="363"/>
                    </a:lnTo>
                    <a:lnTo>
                      <a:pt x="56" y="368"/>
                    </a:lnTo>
                    <a:lnTo>
                      <a:pt x="72" y="376"/>
                    </a:lnTo>
                    <a:lnTo>
                      <a:pt x="88" y="384"/>
                    </a:lnTo>
                    <a:lnTo>
                      <a:pt x="104" y="393"/>
                    </a:lnTo>
                    <a:lnTo>
                      <a:pt x="119" y="403"/>
                    </a:lnTo>
                    <a:lnTo>
                      <a:pt x="132" y="415"/>
                    </a:lnTo>
                    <a:lnTo>
                      <a:pt x="146" y="428"/>
                    </a:lnTo>
                    <a:lnTo>
                      <a:pt x="159" y="442"/>
                    </a:lnTo>
                    <a:lnTo>
                      <a:pt x="166" y="455"/>
                    </a:lnTo>
                    <a:lnTo>
                      <a:pt x="175" y="467"/>
                    </a:lnTo>
                    <a:lnTo>
                      <a:pt x="184" y="477"/>
                    </a:lnTo>
                    <a:lnTo>
                      <a:pt x="192" y="487"/>
                    </a:lnTo>
                    <a:lnTo>
                      <a:pt x="201" y="497"/>
                    </a:lnTo>
                    <a:lnTo>
                      <a:pt x="208" y="509"/>
                    </a:lnTo>
                    <a:lnTo>
                      <a:pt x="215" y="522"/>
                    </a:lnTo>
                    <a:lnTo>
                      <a:pt x="221" y="535"/>
                    </a:lnTo>
                    <a:lnTo>
                      <a:pt x="247" y="536"/>
                    </a:lnTo>
                    <a:lnTo>
                      <a:pt x="273" y="535"/>
                    </a:lnTo>
                    <a:lnTo>
                      <a:pt x="301" y="532"/>
                    </a:lnTo>
                    <a:lnTo>
                      <a:pt x="330" y="526"/>
                    </a:lnTo>
                    <a:lnTo>
                      <a:pt x="357" y="519"/>
                    </a:lnTo>
                    <a:lnTo>
                      <a:pt x="385" y="511"/>
                    </a:lnTo>
                    <a:lnTo>
                      <a:pt x="414" y="504"/>
                    </a:lnTo>
                    <a:lnTo>
                      <a:pt x="441" y="498"/>
                    </a:lnTo>
                    <a:lnTo>
                      <a:pt x="445" y="488"/>
                    </a:lnTo>
                    <a:lnTo>
                      <a:pt x="422" y="484"/>
                    </a:lnTo>
                    <a:lnTo>
                      <a:pt x="398" y="484"/>
                    </a:lnTo>
                    <a:lnTo>
                      <a:pt x="372" y="487"/>
                    </a:lnTo>
                    <a:lnTo>
                      <a:pt x="347" y="491"/>
                    </a:lnTo>
                    <a:lnTo>
                      <a:pt x="321" y="497"/>
                    </a:lnTo>
                    <a:lnTo>
                      <a:pt x="295" y="503"/>
                    </a:lnTo>
                    <a:lnTo>
                      <a:pt x="269" y="507"/>
                    </a:lnTo>
                    <a:lnTo>
                      <a:pt x="244" y="509"/>
                    </a:lnTo>
                    <a:lnTo>
                      <a:pt x="228" y="484"/>
                    </a:lnTo>
                    <a:lnTo>
                      <a:pt x="230" y="481"/>
                    </a:lnTo>
                    <a:lnTo>
                      <a:pt x="244" y="483"/>
                    </a:lnTo>
                    <a:lnTo>
                      <a:pt x="260" y="483"/>
                    </a:lnTo>
                    <a:lnTo>
                      <a:pt x="275" y="481"/>
                    </a:lnTo>
                    <a:lnTo>
                      <a:pt x="291" y="480"/>
                    </a:lnTo>
                    <a:lnTo>
                      <a:pt x="305" y="475"/>
                    </a:lnTo>
                    <a:lnTo>
                      <a:pt x="318" y="470"/>
                    </a:lnTo>
                    <a:lnTo>
                      <a:pt x="333" y="462"/>
                    </a:lnTo>
                    <a:lnTo>
                      <a:pt x="346" y="454"/>
                    </a:lnTo>
                    <a:lnTo>
                      <a:pt x="354" y="444"/>
                    </a:lnTo>
                    <a:lnTo>
                      <a:pt x="362" y="433"/>
                    </a:lnTo>
                    <a:lnTo>
                      <a:pt x="367" y="423"/>
                    </a:lnTo>
                    <a:lnTo>
                      <a:pt x="375" y="413"/>
                    </a:lnTo>
                    <a:lnTo>
                      <a:pt x="375" y="405"/>
                    </a:lnTo>
                    <a:lnTo>
                      <a:pt x="375" y="397"/>
                    </a:lnTo>
                    <a:lnTo>
                      <a:pt x="375" y="390"/>
                    </a:lnTo>
                    <a:lnTo>
                      <a:pt x="376" y="381"/>
                    </a:lnTo>
                    <a:lnTo>
                      <a:pt x="386" y="380"/>
                    </a:lnTo>
                    <a:lnTo>
                      <a:pt x="396" y="377"/>
                    </a:lnTo>
                    <a:lnTo>
                      <a:pt x="406" y="374"/>
                    </a:lnTo>
                    <a:lnTo>
                      <a:pt x="418" y="370"/>
                    </a:lnTo>
                    <a:lnTo>
                      <a:pt x="428" y="366"/>
                    </a:lnTo>
                    <a:lnTo>
                      <a:pt x="440" y="357"/>
                    </a:lnTo>
                    <a:lnTo>
                      <a:pt x="450" y="347"/>
                    </a:lnTo>
                    <a:lnTo>
                      <a:pt x="460" y="334"/>
                    </a:lnTo>
                    <a:lnTo>
                      <a:pt x="466" y="312"/>
                    </a:lnTo>
                    <a:lnTo>
                      <a:pt x="469" y="289"/>
                    </a:lnTo>
                    <a:lnTo>
                      <a:pt x="469" y="267"/>
                    </a:lnTo>
                    <a:lnTo>
                      <a:pt x="469" y="243"/>
                    </a:lnTo>
                    <a:lnTo>
                      <a:pt x="474" y="237"/>
                    </a:lnTo>
                    <a:lnTo>
                      <a:pt x="482" y="231"/>
                    </a:lnTo>
                    <a:lnTo>
                      <a:pt x="489" y="227"/>
                    </a:lnTo>
                    <a:lnTo>
                      <a:pt x="500" y="223"/>
                    </a:lnTo>
                    <a:lnTo>
                      <a:pt x="512" y="211"/>
                    </a:lnTo>
                    <a:lnTo>
                      <a:pt x="518" y="196"/>
                    </a:lnTo>
                    <a:lnTo>
                      <a:pt x="523" y="182"/>
                    </a:lnTo>
                    <a:lnTo>
                      <a:pt x="529" y="166"/>
                    </a:lnTo>
                    <a:lnTo>
                      <a:pt x="536" y="147"/>
                    </a:lnTo>
                    <a:lnTo>
                      <a:pt x="536" y="140"/>
                    </a:lnTo>
                    <a:lnTo>
                      <a:pt x="539" y="133"/>
                    </a:lnTo>
                    <a:lnTo>
                      <a:pt x="541" y="127"/>
                    </a:lnTo>
                    <a:lnTo>
                      <a:pt x="541" y="118"/>
                    </a:lnTo>
                    <a:lnTo>
                      <a:pt x="552" y="114"/>
                    </a:lnTo>
                    <a:lnTo>
                      <a:pt x="563" y="108"/>
                    </a:lnTo>
                    <a:lnTo>
                      <a:pt x="571" y="103"/>
                    </a:lnTo>
                    <a:lnTo>
                      <a:pt x="581" y="97"/>
                    </a:lnTo>
                    <a:lnTo>
                      <a:pt x="599" y="77"/>
                    </a:lnTo>
                    <a:lnTo>
                      <a:pt x="602" y="74"/>
                    </a:lnTo>
                    <a:lnTo>
                      <a:pt x="604" y="66"/>
                    </a:lnTo>
                    <a:lnTo>
                      <a:pt x="607" y="56"/>
                    </a:lnTo>
                    <a:lnTo>
                      <a:pt x="613" y="46"/>
                    </a:lnTo>
                    <a:lnTo>
                      <a:pt x="612" y="35"/>
                    </a:lnTo>
                    <a:lnTo>
                      <a:pt x="609" y="25"/>
                    </a:lnTo>
                    <a:lnTo>
                      <a:pt x="609" y="13"/>
                    </a:lnTo>
                    <a:lnTo>
                      <a:pt x="613" y="0"/>
                    </a:lnTo>
                    <a:lnTo>
                      <a:pt x="646" y="22"/>
                    </a:lnTo>
                    <a:lnTo>
                      <a:pt x="678" y="46"/>
                    </a:lnTo>
                    <a:lnTo>
                      <a:pt x="707" y="72"/>
                    </a:lnTo>
                    <a:lnTo>
                      <a:pt x="735" y="100"/>
                    </a:lnTo>
                    <a:lnTo>
                      <a:pt x="761" y="127"/>
                    </a:lnTo>
                    <a:lnTo>
                      <a:pt x="787" y="157"/>
                    </a:lnTo>
                    <a:lnTo>
                      <a:pt x="811" y="188"/>
                    </a:lnTo>
                    <a:lnTo>
                      <a:pt x="834" y="218"/>
                    </a:lnTo>
                    <a:lnTo>
                      <a:pt x="859" y="249"/>
                    </a:lnTo>
                    <a:lnTo>
                      <a:pt x="884" y="277"/>
                    </a:lnTo>
                    <a:lnTo>
                      <a:pt x="908" y="306"/>
                    </a:lnTo>
                    <a:lnTo>
                      <a:pt x="933" y="335"/>
                    </a:lnTo>
                    <a:lnTo>
                      <a:pt x="960" y="361"/>
                    </a:lnTo>
                    <a:lnTo>
                      <a:pt x="989" y="386"/>
                    </a:lnTo>
                    <a:lnTo>
                      <a:pt x="1019" y="409"/>
                    </a:lnTo>
                    <a:lnTo>
                      <a:pt x="1051" y="429"/>
                    </a:lnTo>
                    <a:lnTo>
                      <a:pt x="1080" y="448"/>
                    </a:lnTo>
                    <a:lnTo>
                      <a:pt x="1111" y="465"/>
                    </a:lnTo>
                    <a:lnTo>
                      <a:pt x="1142" y="481"/>
                    </a:lnTo>
                    <a:lnTo>
                      <a:pt x="1176" y="497"/>
                    </a:lnTo>
                    <a:lnTo>
                      <a:pt x="1209" y="511"/>
                    </a:lnTo>
                    <a:lnTo>
                      <a:pt x="1244" y="526"/>
                    </a:lnTo>
                    <a:lnTo>
                      <a:pt x="1280" y="539"/>
                    </a:lnTo>
                    <a:lnTo>
                      <a:pt x="1316" y="552"/>
                    </a:lnTo>
                    <a:lnTo>
                      <a:pt x="1354" y="565"/>
                    </a:lnTo>
                    <a:lnTo>
                      <a:pt x="1391" y="576"/>
                    </a:lnTo>
                    <a:lnTo>
                      <a:pt x="1429" y="588"/>
                    </a:lnTo>
                    <a:lnTo>
                      <a:pt x="1468" y="600"/>
                    </a:lnTo>
                    <a:lnTo>
                      <a:pt x="1505" y="613"/>
                    </a:lnTo>
                    <a:lnTo>
                      <a:pt x="1543" y="624"/>
                    </a:lnTo>
                    <a:lnTo>
                      <a:pt x="1582" y="636"/>
                    </a:lnTo>
                    <a:lnTo>
                      <a:pt x="1620" y="649"/>
                    </a:lnTo>
                    <a:lnTo>
                      <a:pt x="1644" y="655"/>
                    </a:lnTo>
                    <a:lnTo>
                      <a:pt x="1667" y="662"/>
                    </a:lnTo>
                    <a:lnTo>
                      <a:pt x="1689" y="669"/>
                    </a:lnTo>
                    <a:lnTo>
                      <a:pt x="1709" y="676"/>
                    </a:lnTo>
                    <a:lnTo>
                      <a:pt x="1731" y="683"/>
                    </a:lnTo>
                    <a:lnTo>
                      <a:pt x="1751" y="689"/>
                    </a:lnTo>
                    <a:lnTo>
                      <a:pt x="1771" y="695"/>
                    </a:lnTo>
                    <a:lnTo>
                      <a:pt x="1793" y="699"/>
                    </a:lnTo>
                    <a:lnTo>
                      <a:pt x="1834" y="711"/>
                    </a:lnTo>
                    <a:lnTo>
                      <a:pt x="1874" y="722"/>
                    </a:lnTo>
                    <a:lnTo>
                      <a:pt x="1915" y="735"/>
                    </a:lnTo>
                    <a:lnTo>
                      <a:pt x="1955" y="747"/>
                    </a:lnTo>
                    <a:lnTo>
                      <a:pt x="1996" y="760"/>
                    </a:lnTo>
                    <a:lnTo>
                      <a:pt x="2036" y="773"/>
                    </a:lnTo>
                    <a:lnTo>
                      <a:pt x="2075" y="786"/>
                    </a:lnTo>
                    <a:lnTo>
                      <a:pt x="2116" y="799"/>
                    </a:lnTo>
                    <a:lnTo>
                      <a:pt x="2156" y="812"/>
                    </a:lnTo>
                    <a:lnTo>
                      <a:pt x="2195" y="825"/>
                    </a:lnTo>
                    <a:lnTo>
                      <a:pt x="2234" y="838"/>
                    </a:lnTo>
                    <a:lnTo>
                      <a:pt x="2273" y="852"/>
                    </a:lnTo>
                    <a:lnTo>
                      <a:pt x="2312" y="865"/>
                    </a:lnTo>
                    <a:lnTo>
                      <a:pt x="2351" y="880"/>
                    </a:lnTo>
                    <a:lnTo>
                      <a:pt x="2389" y="893"/>
                    </a:lnTo>
                    <a:lnTo>
                      <a:pt x="2426" y="907"/>
                    </a:lnTo>
                    <a:lnTo>
                      <a:pt x="2429" y="1091"/>
                    </a:lnTo>
                    <a:lnTo>
                      <a:pt x="2431" y="1274"/>
                    </a:lnTo>
                    <a:lnTo>
                      <a:pt x="2431" y="1458"/>
                    </a:lnTo>
                    <a:lnTo>
                      <a:pt x="2429" y="1641"/>
                    </a:lnTo>
                    <a:lnTo>
                      <a:pt x="2421" y="1654"/>
                    </a:lnTo>
                    <a:lnTo>
                      <a:pt x="2412" y="1670"/>
                    </a:lnTo>
                    <a:lnTo>
                      <a:pt x="2402" y="1688"/>
                    </a:lnTo>
                    <a:lnTo>
                      <a:pt x="2390" y="1705"/>
                    </a:lnTo>
                    <a:lnTo>
                      <a:pt x="2374" y="1708"/>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7140600" y="2816280"/>
                <a:ext cx="12600" cy="9360"/>
              </a:xfrm>
              <a:custGeom>
                <a:avLst/>
                <a:gdLst/>
                <a:ahLst/>
                <a:rect l="l" t="t" r="r" b="b"/>
                <a:pathLst>
                  <a:path w="26" h="18">
                    <a:moveTo>
                      <a:pt x="10" y="18"/>
                    </a:moveTo>
                    <a:lnTo>
                      <a:pt x="0" y="9"/>
                    </a:lnTo>
                    <a:lnTo>
                      <a:pt x="2" y="2"/>
                    </a:lnTo>
                    <a:lnTo>
                      <a:pt x="11" y="0"/>
                    </a:lnTo>
                    <a:lnTo>
                      <a:pt x="20" y="0"/>
                    </a:lnTo>
                    <a:lnTo>
                      <a:pt x="26" y="5"/>
                    </a:lnTo>
                    <a:lnTo>
                      <a:pt x="10"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86" name=""/>
              <p:cNvSpPr/>
              <p:nvPr/>
            </p:nvSpPr>
            <p:spPr>
              <a:xfrm>
                <a:off x="7958160" y="2795760"/>
                <a:ext cx="9360" cy="10800"/>
              </a:xfrm>
              <a:custGeom>
                <a:avLst/>
                <a:gdLst/>
                <a:ahLst/>
                <a:rect l="l" t="t" r="r" b="b"/>
                <a:pathLst>
                  <a:path w="19" h="23">
                    <a:moveTo>
                      <a:pt x="6" y="23"/>
                    </a:moveTo>
                    <a:lnTo>
                      <a:pt x="0" y="20"/>
                    </a:lnTo>
                    <a:lnTo>
                      <a:pt x="0" y="13"/>
                    </a:lnTo>
                    <a:lnTo>
                      <a:pt x="2" y="4"/>
                    </a:lnTo>
                    <a:lnTo>
                      <a:pt x="6" y="0"/>
                    </a:lnTo>
                    <a:lnTo>
                      <a:pt x="12" y="6"/>
                    </a:lnTo>
                    <a:lnTo>
                      <a:pt x="19" y="13"/>
                    </a:lnTo>
                    <a:lnTo>
                      <a:pt x="19" y="19"/>
                    </a:lnTo>
                    <a:lnTo>
                      <a:pt x="6"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7" name=""/>
              <p:cNvSpPr/>
              <p:nvPr/>
            </p:nvSpPr>
            <p:spPr>
              <a:xfrm>
                <a:off x="8053560" y="2793960"/>
                <a:ext cx="9360" cy="9720"/>
              </a:xfrm>
              <a:custGeom>
                <a:avLst/>
                <a:gdLst/>
                <a:ahLst/>
                <a:rect l="l" t="t" r="r" b="b"/>
                <a:pathLst>
                  <a:path w="18" h="19">
                    <a:moveTo>
                      <a:pt x="4" y="19"/>
                    </a:moveTo>
                    <a:lnTo>
                      <a:pt x="0" y="16"/>
                    </a:lnTo>
                    <a:lnTo>
                      <a:pt x="0" y="7"/>
                    </a:lnTo>
                    <a:lnTo>
                      <a:pt x="3" y="1"/>
                    </a:lnTo>
                    <a:lnTo>
                      <a:pt x="10" y="0"/>
                    </a:lnTo>
                    <a:lnTo>
                      <a:pt x="16" y="4"/>
                    </a:lnTo>
                    <a:lnTo>
                      <a:pt x="18" y="13"/>
                    </a:lnTo>
                    <a:lnTo>
                      <a:pt x="16" y="1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8" name=""/>
              <p:cNvSpPr/>
              <p:nvPr/>
            </p:nvSpPr>
            <p:spPr>
              <a:xfrm>
                <a:off x="8120160" y="2778120"/>
                <a:ext cx="9360" cy="12600"/>
              </a:xfrm>
              <a:custGeom>
                <a:avLst/>
                <a:gdLst/>
                <a:ahLst/>
                <a:rect l="l" t="t" r="r" b="b"/>
                <a:pathLst>
                  <a:path w="19" h="26">
                    <a:moveTo>
                      <a:pt x="9" y="26"/>
                    </a:moveTo>
                    <a:lnTo>
                      <a:pt x="3" y="21"/>
                    </a:lnTo>
                    <a:lnTo>
                      <a:pt x="0" y="14"/>
                    </a:lnTo>
                    <a:lnTo>
                      <a:pt x="0" y="5"/>
                    </a:lnTo>
                    <a:lnTo>
                      <a:pt x="6" y="0"/>
                    </a:lnTo>
                    <a:lnTo>
                      <a:pt x="14" y="3"/>
                    </a:lnTo>
                    <a:lnTo>
                      <a:pt x="19" y="11"/>
                    </a:lnTo>
                    <a:lnTo>
                      <a:pt x="17" y="20"/>
                    </a:lnTo>
                    <a:lnTo>
                      <a:pt x="9"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89" name=""/>
              <p:cNvSpPr/>
              <p:nvPr/>
            </p:nvSpPr>
            <p:spPr>
              <a:xfrm>
                <a:off x="8221680" y="2768760"/>
                <a:ext cx="7920" cy="10800"/>
              </a:xfrm>
              <a:custGeom>
                <a:avLst/>
                <a:gdLst/>
                <a:ahLst/>
                <a:rect l="l" t="t" r="r" b="b"/>
                <a:pathLst>
                  <a:path w="17" h="22">
                    <a:moveTo>
                      <a:pt x="0" y="22"/>
                    </a:moveTo>
                    <a:lnTo>
                      <a:pt x="3" y="0"/>
                    </a:lnTo>
                    <a:lnTo>
                      <a:pt x="17" y="15"/>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90" name=""/>
              <p:cNvSpPr/>
              <p:nvPr/>
            </p:nvSpPr>
            <p:spPr>
              <a:xfrm>
                <a:off x="7089840" y="2776680"/>
                <a:ext cx="11160" cy="10800"/>
              </a:xfrm>
              <a:custGeom>
                <a:avLst/>
                <a:gdLst/>
                <a:ahLst/>
                <a:rect l="l" t="t" r="r" b="b"/>
                <a:pathLst>
                  <a:path w="21" h="23">
                    <a:moveTo>
                      <a:pt x="7" y="23"/>
                    </a:moveTo>
                    <a:lnTo>
                      <a:pt x="0" y="4"/>
                    </a:lnTo>
                    <a:lnTo>
                      <a:pt x="8" y="0"/>
                    </a:lnTo>
                    <a:lnTo>
                      <a:pt x="15" y="3"/>
                    </a:lnTo>
                    <a:lnTo>
                      <a:pt x="20" y="11"/>
                    </a:lnTo>
                    <a:lnTo>
                      <a:pt x="21" y="21"/>
                    </a:lnTo>
                    <a:lnTo>
                      <a:pt x="7"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91" name=""/>
              <p:cNvSpPr/>
              <p:nvPr/>
            </p:nvSpPr>
            <p:spPr>
              <a:xfrm>
                <a:off x="8339040" y="2716200"/>
                <a:ext cx="39960" cy="50760"/>
              </a:xfrm>
              <a:custGeom>
                <a:avLst/>
                <a:gdLst/>
                <a:ahLst/>
                <a:rect l="l" t="t" r="r" b="b"/>
                <a:pathLst>
                  <a:path w="75" h="95">
                    <a:moveTo>
                      <a:pt x="7" y="95"/>
                    </a:moveTo>
                    <a:lnTo>
                      <a:pt x="0" y="77"/>
                    </a:lnTo>
                    <a:lnTo>
                      <a:pt x="9" y="68"/>
                    </a:lnTo>
                    <a:lnTo>
                      <a:pt x="17" y="58"/>
                    </a:lnTo>
                    <a:lnTo>
                      <a:pt x="25" y="49"/>
                    </a:lnTo>
                    <a:lnTo>
                      <a:pt x="32" y="39"/>
                    </a:lnTo>
                    <a:lnTo>
                      <a:pt x="39" y="29"/>
                    </a:lnTo>
                    <a:lnTo>
                      <a:pt x="46" y="19"/>
                    </a:lnTo>
                    <a:lnTo>
                      <a:pt x="53" y="10"/>
                    </a:lnTo>
                    <a:lnTo>
                      <a:pt x="62" y="0"/>
                    </a:lnTo>
                    <a:lnTo>
                      <a:pt x="72" y="2"/>
                    </a:lnTo>
                    <a:lnTo>
                      <a:pt x="75" y="9"/>
                    </a:lnTo>
                    <a:lnTo>
                      <a:pt x="69" y="20"/>
                    </a:lnTo>
                    <a:lnTo>
                      <a:pt x="64" y="32"/>
                    </a:lnTo>
                    <a:lnTo>
                      <a:pt x="56" y="43"/>
                    </a:lnTo>
                    <a:lnTo>
                      <a:pt x="48" y="55"/>
                    </a:lnTo>
                    <a:lnTo>
                      <a:pt x="38" y="65"/>
                    </a:lnTo>
                    <a:lnTo>
                      <a:pt x="27" y="77"/>
                    </a:lnTo>
                    <a:lnTo>
                      <a:pt x="17" y="85"/>
                    </a:lnTo>
                    <a:lnTo>
                      <a:pt x="7"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92" name=""/>
              <p:cNvSpPr/>
              <p:nvPr/>
            </p:nvSpPr>
            <p:spPr>
              <a:xfrm>
                <a:off x="7209000" y="2757600"/>
                <a:ext cx="14040" cy="12600"/>
              </a:xfrm>
              <a:custGeom>
                <a:avLst/>
                <a:gdLst/>
                <a:ahLst/>
                <a:rect l="l" t="t" r="r" b="b"/>
                <a:pathLst>
                  <a:path w="25" h="24">
                    <a:moveTo>
                      <a:pt x="15" y="24"/>
                    </a:moveTo>
                    <a:lnTo>
                      <a:pt x="0" y="5"/>
                    </a:lnTo>
                    <a:lnTo>
                      <a:pt x="7" y="0"/>
                    </a:lnTo>
                    <a:lnTo>
                      <a:pt x="15" y="1"/>
                    </a:lnTo>
                    <a:lnTo>
                      <a:pt x="20" y="8"/>
                    </a:lnTo>
                    <a:lnTo>
                      <a:pt x="25" y="18"/>
                    </a:lnTo>
                    <a:lnTo>
                      <a:pt x="1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3" name=""/>
              <p:cNvSpPr/>
              <p:nvPr/>
            </p:nvSpPr>
            <p:spPr>
              <a:xfrm>
                <a:off x="7402680" y="2751120"/>
                <a:ext cx="10800" cy="14400"/>
              </a:xfrm>
              <a:custGeom>
                <a:avLst/>
                <a:gdLst/>
                <a:ahLst/>
                <a:rect l="l" t="t" r="r" b="b"/>
                <a:pathLst>
                  <a:path w="19" h="26">
                    <a:moveTo>
                      <a:pt x="6" y="26"/>
                    </a:moveTo>
                    <a:lnTo>
                      <a:pt x="0" y="23"/>
                    </a:lnTo>
                    <a:lnTo>
                      <a:pt x="0" y="14"/>
                    </a:lnTo>
                    <a:lnTo>
                      <a:pt x="4" y="5"/>
                    </a:lnTo>
                    <a:lnTo>
                      <a:pt x="13" y="0"/>
                    </a:lnTo>
                    <a:lnTo>
                      <a:pt x="17" y="5"/>
                    </a:lnTo>
                    <a:lnTo>
                      <a:pt x="19" y="14"/>
                    </a:lnTo>
                    <a:lnTo>
                      <a:pt x="16" y="23"/>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4" name=""/>
              <p:cNvSpPr/>
              <p:nvPr/>
            </p:nvSpPr>
            <p:spPr>
              <a:xfrm>
                <a:off x="8013600" y="2744640"/>
                <a:ext cx="12960" cy="12960"/>
              </a:xfrm>
              <a:custGeom>
                <a:avLst/>
                <a:gdLst/>
                <a:ahLst/>
                <a:rect l="l" t="t" r="r" b="b"/>
                <a:pathLst>
                  <a:path w="22" h="22">
                    <a:moveTo>
                      <a:pt x="13" y="22"/>
                    </a:moveTo>
                    <a:lnTo>
                      <a:pt x="0" y="6"/>
                    </a:lnTo>
                    <a:lnTo>
                      <a:pt x="3" y="0"/>
                    </a:lnTo>
                    <a:lnTo>
                      <a:pt x="12" y="0"/>
                    </a:lnTo>
                    <a:lnTo>
                      <a:pt x="19" y="4"/>
                    </a:lnTo>
                    <a:lnTo>
                      <a:pt x="22" y="10"/>
                    </a:lnTo>
                    <a:lnTo>
                      <a:pt x="13"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95" name=""/>
              <p:cNvSpPr/>
              <p:nvPr/>
            </p:nvSpPr>
            <p:spPr>
              <a:xfrm>
                <a:off x="7334280" y="2749680"/>
                <a:ext cx="7920" cy="12600"/>
              </a:xfrm>
              <a:custGeom>
                <a:avLst/>
                <a:gdLst/>
                <a:ahLst/>
                <a:rect l="l" t="t" r="r" b="b"/>
                <a:pathLst>
                  <a:path w="16" h="26">
                    <a:moveTo>
                      <a:pt x="6" y="26"/>
                    </a:moveTo>
                    <a:lnTo>
                      <a:pt x="3" y="22"/>
                    </a:lnTo>
                    <a:lnTo>
                      <a:pt x="0" y="13"/>
                    </a:lnTo>
                    <a:lnTo>
                      <a:pt x="1" y="5"/>
                    </a:lnTo>
                    <a:lnTo>
                      <a:pt x="10" y="0"/>
                    </a:lnTo>
                    <a:lnTo>
                      <a:pt x="13" y="5"/>
                    </a:lnTo>
                    <a:lnTo>
                      <a:pt x="16" y="13"/>
                    </a:lnTo>
                    <a:lnTo>
                      <a:pt x="14" y="23"/>
                    </a:lnTo>
                    <a:lnTo>
                      <a:pt x="6"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6" name=""/>
              <p:cNvSpPr/>
              <p:nvPr/>
            </p:nvSpPr>
            <p:spPr>
              <a:xfrm>
                <a:off x="7020000" y="2752560"/>
                <a:ext cx="9360" cy="1116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7" name=""/>
              <p:cNvSpPr/>
              <p:nvPr/>
            </p:nvSpPr>
            <p:spPr>
              <a:xfrm>
                <a:off x="8140680" y="2733840"/>
                <a:ext cx="9720" cy="10800"/>
              </a:xfrm>
              <a:custGeom>
                <a:avLst/>
                <a:gdLst/>
                <a:ahLst/>
                <a:rect l="l" t="t" r="r" b="b"/>
                <a:pathLst>
                  <a:path w="17" h="22">
                    <a:moveTo>
                      <a:pt x="9" y="22"/>
                    </a:moveTo>
                    <a:lnTo>
                      <a:pt x="0" y="0"/>
                    </a:lnTo>
                    <a:lnTo>
                      <a:pt x="17" y="3"/>
                    </a:lnTo>
                    <a:lnTo>
                      <a:pt x="9"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98" name=""/>
              <p:cNvSpPr/>
              <p:nvPr/>
            </p:nvSpPr>
            <p:spPr>
              <a:xfrm>
                <a:off x="7156440" y="2732040"/>
                <a:ext cx="7920" cy="11160"/>
              </a:xfrm>
              <a:custGeom>
                <a:avLst/>
                <a:gdLst/>
                <a:ahLst/>
                <a:rect l="l" t="t" r="r" b="b"/>
                <a:pathLst>
                  <a:path w="16" h="22">
                    <a:moveTo>
                      <a:pt x="4" y="22"/>
                    </a:moveTo>
                    <a:lnTo>
                      <a:pt x="0" y="0"/>
                    </a:lnTo>
                    <a:lnTo>
                      <a:pt x="7" y="0"/>
                    </a:lnTo>
                    <a:lnTo>
                      <a:pt x="13" y="4"/>
                    </a:lnTo>
                    <a:lnTo>
                      <a:pt x="16" y="12"/>
                    </a:lnTo>
                    <a:lnTo>
                      <a:pt x="13" y="22"/>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9" name=""/>
              <p:cNvSpPr/>
              <p:nvPr/>
            </p:nvSpPr>
            <p:spPr>
              <a:xfrm>
                <a:off x="7962840" y="2717640"/>
                <a:ext cx="11160" cy="11160"/>
              </a:xfrm>
              <a:custGeom>
                <a:avLst/>
                <a:gdLst/>
                <a:ahLst/>
                <a:rect l="l" t="t" r="r" b="b"/>
                <a:pathLst>
                  <a:path w="21" h="21">
                    <a:moveTo>
                      <a:pt x="5" y="21"/>
                    </a:moveTo>
                    <a:lnTo>
                      <a:pt x="0" y="3"/>
                    </a:lnTo>
                    <a:lnTo>
                      <a:pt x="5" y="0"/>
                    </a:lnTo>
                    <a:lnTo>
                      <a:pt x="13" y="2"/>
                    </a:lnTo>
                    <a:lnTo>
                      <a:pt x="18" y="8"/>
                    </a:lnTo>
                    <a:lnTo>
                      <a:pt x="21" y="15"/>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0" name=""/>
              <p:cNvSpPr/>
              <p:nvPr/>
            </p:nvSpPr>
            <p:spPr>
              <a:xfrm>
                <a:off x="8088480" y="2698920"/>
                <a:ext cx="10800" cy="10800"/>
              </a:xfrm>
              <a:custGeom>
                <a:avLst/>
                <a:gdLst/>
                <a:ahLst/>
                <a:rect l="l" t="t" r="r" b="b"/>
                <a:pathLst>
                  <a:path w="21" h="20">
                    <a:moveTo>
                      <a:pt x="11" y="20"/>
                    </a:moveTo>
                    <a:lnTo>
                      <a:pt x="0" y="3"/>
                    </a:lnTo>
                    <a:lnTo>
                      <a:pt x="7" y="0"/>
                    </a:lnTo>
                    <a:lnTo>
                      <a:pt x="14" y="3"/>
                    </a:lnTo>
                    <a:lnTo>
                      <a:pt x="18" y="10"/>
                    </a:lnTo>
                    <a:lnTo>
                      <a:pt x="21" y="19"/>
                    </a:lnTo>
                    <a:lnTo>
                      <a:pt x="11"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01" name=""/>
              <p:cNvSpPr/>
              <p:nvPr/>
            </p:nvSpPr>
            <p:spPr>
              <a:xfrm>
                <a:off x="7269120" y="2700360"/>
                <a:ext cx="11160" cy="11160"/>
              </a:xfrm>
              <a:custGeom>
                <a:avLst/>
                <a:gdLst/>
                <a:ahLst/>
                <a:rect l="l" t="t" r="r" b="b"/>
                <a:pathLst>
                  <a:path w="19" h="21">
                    <a:moveTo>
                      <a:pt x="5" y="21"/>
                    </a:moveTo>
                    <a:lnTo>
                      <a:pt x="0" y="1"/>
                    </a:lnTo>
                    <a:lnTo>
                      <a:pt x="9" y="0"/>
                    </a:lnTo>
                    <a:lnTo>
                      <a:pt x="15" y="3"/>
                    </a:lnTo>
                    <a:lnTo>
                      <a:pt x="19" y="10"/>
                    </a:lnTo>
                    <a:lnTo>
                      <a:pt x="18" y="19"/>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2" name=""/>
              <p:cNvSpPr/>
              <p:nvPr/>
            </p:nvSpPr>
            <p:spPr>
              <a:xfrm>
                <a:off x="6994440" y="2700360"/>
                <a:ext cx="12960" cy="14400"/>
              </a:xfrm>
              <a:custGeom>
                <a:avLst/>
                <a:gdLst/>
                <a:ahLst/>
                <a:rect l="l" t="t" r="r" b="b"/>
                <a:pathLst>
                  <a:path w="24" h="25">
                    <a:moveTo>
                      <a:pt x="7" y="25"/>
                    </a:moveTo>
                    <a:lnTo>
                      <a:pt x="0" y="3"/>
                    </a:lnTo>
                    <a:lnTo>
                      <a:pt x="7" y="0"/>
                    </a:lnTo>
                    <a:lnTo>
                      <a:pt x="13" y="2"/>
                    </a:lnTo>
                    <a:lnTo>
                      <a:pt x="19" y="7"/>
                    </a:lnTo>
                    <a:lnTo>
                      <a:pt x="24" y="13"/>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3" name=""/>
              <p:cNvSpPr/>
              <p:nvPr/>
            </p:nvSpPr>
            <p:spPr>
              <a:xfrm>
                <a:off x="8034480" y="2676600"/>
                <a:ext cx="7920" cy="11160"/>
              </a:xfrm>
              <a:custGeom>
                <a:avLst/>
                <a:gdLst/>
                <a:ahLst/>
                <a:rect l="l" t="t" r="r" b="b"/>
                <a:pathLst>
                  <a:path w="15" h="19">
                    <a:moveTo>
                      <a:pt x="2" y="19"/>
                    </a:moveTo>
                    <a:lnTo>
                      <a:pt x="0" y="0"/>
                    </a:lnTo>
                    <a:lnTo>
                      <a:pt x="5" y="0"/>
                    </a:lnTo>
                    <a:lnTo>
                      <a:pt x="11" y="3"/>
                    </a:lnTo>
                    <a:lnTo>
                      <a:pt x="15" y="9"/>
                    </a:lnTo>
                    <a:lnTo>
                      <a:pt x="13" y="19"/>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4" name=""/>
              <p:cNvSpPr/>
              <p:nvPr/>
            </p:nvSpPr>
            <p:spPr>
              <a:xfrm>
                <a:off x="7094520" y="2679840"/>
                <a:ext cx="9720" cy="14040"/>
              </a:xfrm>
              <a:custGeom>
                <a:avLst/>
                <a:gdLst/>
                <a:ahLst/>
                <a:rect l="l" t="t" r="r" b="b"/>
                <a:pathLst>
                  <a:path w="18" h="26">
                    <a:moveTo>
                      <a:pt x="10" y="26"/>
                    </a:moveTo>
                    <a:lnTo>
                      <a:pt x="3" y="23"/>
                    </a:lnTo>
                    <a:lnTo>
                      <a:pt x="0" y="16"/>
                    </a:lnTo>
                    <a:lnTo>
                      <a:pt x="0" y="7"/>
                    </a:lnTo>
                    <a:lnTo>
                      <a:pt x="6" y="0"/>
                    </a:lnTo>
                    <a:lnTo>
                      <a:pt x="12" y="5"/>
                    </a:lnTo>
                    <a:lnTo>
                      <a:pt x="18" y="13"/>
                    </a:lnTo>
                    <a:lnTo>
                      <a:pt x="18" y="22"/>
                    </a:lnTo>
                    <a:lnTo>
                      <a:pt x="1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5" name=""/>
              <p:cNvSpPr/>
              <p:nvPr/>
            </p:nvSpPr>
            <p:spPr>
              <a:xfrm>
                <a:off x="7439040" y="2662200"/>
                <a:ext cx="9360" cy="14400"/>
              </a:xfrm>
              <a:custGeom>
                <a:avLst/>
                <a:gdLst/>
                <a:ahLst/>
                <a:rect l="l" t="t" r="r" b="b"/>
                <a:pathLst>
                  <a:path w="17" h="25">
                    <a:moveTo>
                      <a:pt x="7" y="25"/>
                    </a:moveTo>
                    <a:lnTo>
                      <a:pt x="0" y="9"/>
                    </a:lnTo>
                    <a:lnTo>
                      <a:pt x="16" y="0"/>
                    </a:lnTo>
                    <a:lnTo>
                      <a:pt x="17" y="6"/>
                    </a:lnTo>
                    <a:lnTo>
                      <a:pt x="17" y="13"/>
                    </a:lnTo>
                    <a:lnTo>
                      <a:pt x="14" y="20"/>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6" name=""/>
              <p:cNvSpPr/>
              <p:nvPr/>
            </p:nvSpPr>
            <p:spPr>
              <a:xfrm>
                <a:off x="7034040" y="2665440"/>
                <a:ext cx="9720" cy="11160"/>
              </a:xfrm>
              <a:custGeom>
                <a:avLst/>
                <a:gdLst/>
                <a:ahLst/>
                <a:rect l="l" t="t" r="r" b="b"/>
                <a:pathLst>
                  <a:path w="18" h="23">
                    <a:moveTo>
                      <a:pt x="3" y="23"/>
                    </a:moveTo>
                    <a:lnTo>
                      <a:pt x="0" y="0"/>
                    </a:lnTo>
                    <a:lnTo>
                      <a:pt x="8" y="0"/>
                    </a:lnTo>
                    <a:lnTo>
                      <a:pt x="15" y="3"/>
                    </a:lnTo>
                    <a:lnTo>
                      <a:pt x="18" y="9"/>
                    </a:lnTo>
                    <a:lnTo>
                      <a:pt x="18" y="16"/>
                    </a:lnTo>
                    <a:lnTo>
                      <a:pt x="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7" name=""/>
              <p:cNvSpPr/>
              <p:nvPr/>
            </p:nvSpPr>
            <p:spPr>
              <a:xfrm>
                <a:off x="7218360" y="2649600"/>
                <a:ext cx="12600" cy="12600"/>
              </a:xfrm>
              <a:custGeom>
                <a:avLst/>
                <a:gdLst/>
                <a:ahLst/>
                <a:rect l="l" t="t" r="r" b="b"/>
                <a:pathLst>
                  <a:path w="26" h="25">
                    <a:moveTo>
                      <a:pt x="10" y="25"/>
                    </a:moveTo>
                    <a:lnTo>
                      <a:pt x="0" y="8"/>
                    </a:lnTo>
                    <a:lnTo>
                      <a:pt x="9" y="0"/>
                    </a:lnTo>
                    <a:lnTo>
                      <a:pt x="26" y="15"/>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8" name=""/>
              <p:cNvSpPr/>
              <p:nvPr/>
            </p:nvSpPr>
            <p:spPr>
              <a:xfrm>
                <a:off x="8051760" y="2630520"/>
                <a:ext cx="7920" cy="11160"/>
              </a:xfrm>
              <a:custGeom>
                <a:avLst/>
                <a:gdLst/>
                <a:ahLst/>
                <a:rect l="l" t="t" r="r" b="b"/>
                <a:pathLst>
                  <a:path w="16" h="22">
                    <a:moveTo>
                      <a:pt x="3" y="22"/>
                    </a:moveTo>
                    <a:lnTo>
                      <a:pt x="0" y="1"/>
                    </a:lnTo>
                    <a:lnTo>
                      <a:pt x="5" y="0"/>
                    </a:lnTo>
                    <a:lnTo>
                      <a:pt x="10" y="3"/>
                    </a:lnTo>
                    <a:lnTo>
                      <a:pt x="15" y="7"/>
                    </a:lnTo>
                    <a:lnTo>
                      <a:pt x="16" y="14"/>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9" name=""/>
              <p:cNvSpPr/>
              <p:nvPr/>
            </p:nvSpPr>
            <p:spPr>
              <a:xfrm>
                <a:off x="7304040" y="2635200"/>
                <a:ext cx="11160" cy="11160"/>
              </a:xfrm>
              <a:custGeom>
                <a:avLst/>
                <a:gdLst/>
                <a:ahLst/>
                <a:rect l="l" t="t" r="r" b="b"/>
                <a:pathLst>
                  <a:path w="23" h="23">
                    <a:moveTo>
                      <a:pt x="4" y="23"/>
                    </a:moveTo>
                    <a:lnTo>
                      <a:pt x="0" y="2"/>
                    </a:lnTo>
                    <a:lnTo>
                      <a:pt x="6" y="0"/>
                    </a:lnTo>
                    <a:lnTo>
                      <a:pt x="13" y="1"/>
                    </a:lnTo>
                    <a:lnTo>
                      <a:pt x="19" y="7"/>
                    </a:lnTo>
                    <a:lnTo>
                      <a:pt x="23" y="15"/>
                    </a:lnTo>
                    <a:lnTo>
                      <a:pt x="4"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0" name=""/>
              <p:cNvSpPr/>
              <p:nvPr/>
            </p:nvSpPr>
            <p:spPr>
              <a:xfrm>
                <a:off x="7373880" y="2635200"/>
                <a:ext cx="9720" cy="11160"/>
              </a:xfrm>
              <a:custGeom>
                <a:avLst/>
                <a:gdLst/>
                <a:ahLst/>
                <a:rect l="l" t="t" r="r" b="b"/>
                <a:pathLst>
                  <a:path w="18" h="21">
                    <a:moveTo>
                      <a:pt x="0" y="21"/>
                    </a:moveTo>
                    <a:lnTo>
                      <a:pt x="0" y="1"/>
                    </a:lnTo>
                    <a:lnTo>
                      <a:pt x="9" y="0"/>
                    </a:lnTo>
                    <a:lnTo>
                      <a:pt x="15" y="2"/>
                    </a:lnTo>
                    <a:lnTo>
                      <a:pt x="18" y="10"/>
                    </a:lnTo>
                    <a:lnTo>
                      <a:pt x="15"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1" name=""/>
              <p:cNvSpPr/>
              <p:nvPr/>
            </p:nvSpPr>
            <p:spPr>
              <a:xfrm>
                <a:off x="7480440" y="2606760"/>
                <a:ext cx="12600" cy="11160"/>
              </a:xfrm>
              <a:custGeom>
                <a:avLst/>
                <a:gdLst/>
                <a:ahLst/>
                <a:rect l="l" t="t" r="r" b="b"/>
                <a:pathLst>
                  <a:path w="23" h="22">
                    <a:moveTo>
                      <a:pt x="15" y="22"/>
                    </a:moveTo>
                    <a:lnTo>
                      <a:pt x="6" y="20"/>
                    </a:lnTo>
                    <a:lnTo>
                      <a:pt x="1" y="14"/>
                    </a:lnTo>
                    <a:lnTo>
                      <a:pt x="0" y="7"/>
                    </a:lnTo>
                    <a:lnTo>
                      <a:pt x="1" y="0"/>
                    </a:lnTo>
                    <a:lnTo>
                      <a:pt x="23" y="3"/>
                    </a:lnTo>
                    <a:lnTo>
                      <a:pt x="15"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2" name=""/>
              <p:cNvSpPr/>
              <p:nvPr/>
            </p:nvSpPr>
            <p:spPr>
              <a:xfrm>
                <a:off x="7104240" y="2606760"/>
                <a:ext cx="10800" cy="11160"/>
              </a:xfrm>
              <a:custGeom>
                <a:avLst/>
                <a:gdLst/>
                <a:ahLst/>
                <a:rect l="l" t="t" r="r" b="b"/>
                <a:pathLst>
                  <a:path w="19" h="21">
                    <a:moveTo>
                      <a:pt x="9" y="21"/>
                    </a:moveTo>
                    <a:lnTo>
                      <a:pt x="0" y="2"/>
                    </a:lnTo>
                    <a:lnTo>
                      <a:pt x="6" y="0"/>
                    </a:lnTo>
                    <a:lnTo>
                      <a:pt x="12" y="2"/>
                    </a:lnTo>
                    <a:lnTo>
                      <a:pt x="17" y="6"/>
                    </a:lnTo>
                    <a:lnTo>
                      <a:pt x="19" y="13"/>
                    </a:lnTo>
                    <a:lnTo>
                      <a:pt x="9"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3" name=""/>
              <p:cNvSpPr/>
              <p:nvPr/>
            </p:nvSpPr>
            <p:spPr>
              <a:xfrm>
                <a:off x="7161120" y="2593800"/>
                <a:ext cx="12960" cy="14400"/>
              </a:xfrm>
              <a:custGeom>
                <a:avLst/>
                <a:gdLst/>
                <a:ahLst/>
                <a:rect l="l" t="t" r="r" b="b"/>
                <a:pathLst>
                  <a:path w="24" h="26">
                    <a:moveTo>
                      <a:pt x="6" y="26"/>
                    </a:moveTo>
                    <a:lnTo>
                      <a:pt x="0" y="22"/>
                    </a:lnTo>
                    <a:lnTo>
                      <a:pt x="0" y="13"/>
                    </a:lnTo>
                    <a:lnTo>
                      <a:pt x="5" y="4"/>
                    </a:lnTo>
                    <a:lnTo>
                      <a:pt x="14" y="0"/>
                    </a:lnTo>
                    <a:lnTo>
                      <a:pt x="24" y="24"/>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4" name=""/>
              <p:cNvSpPr/>
              <p:nvPr/>
            </p:nvSpPr>
            <p:spPr>
              <a:xfrm>
                <a:off x="7257960" y="2583000"/>
                <a:ext cx="11160" cy="9360"/>
              </a:xfrm>
              <a:custGeom>
                <a:avLst/>
                <a:gdLst/>
                <a:ahLst/>
                <a:rect l="l" t="t" r="r" b="b"/>
                <a:pathLst>
                  <a:path w="20" h="18">
                    <a:moveTo>
                      <a:pt x="5" y="18"/>
                    </a:moveTo>
                    <a:lnTo>
                      <a:pt x="0" y="0"/>
                    </a:lnTo>
                    <a:lnTo>
                      <a:pt x="5" y="0"/>
                    </a:lnTo>
                    <a:lnTo>
                      <a:pt x="13" y="3"/>
                    </a:lnTo>
                    <a:lnTo>
                      <a:pt x="17" y="7"/>
                    </a:lnTo>
                    <a:lnTo>
                      <a:pt x="20" y="16"/>
                    </a:lnTo>
                    <a:lnTo>
                      <a:pt x="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5" name=""/>
              <p:cNvSpPr/>
              <p:nvPr/>
            </p:nvSpPr>
            <p:spPr>
              <a:xfrm>
                <a:off x="6991200" y="2571840"/>
                <a:ext cx="7920" cy="11160"/>
              </a:xfrm>
              <a:custGeom>
                <a:avLst/>
                <a:gdLst/>
                <a:ahLst/>
                <a:rect l="l" t="t" r="r" b="b"/>
                <a:pathLst>
                  <a:path w="15" h="21">
                    <a:moveTo>
                      <a:pt x="5" y="21"/>
                    </a:moveTo>
                    <a:lnTo>
                      <a:pt x="0" y="0"/>
                    </a:lnTo>
                    <a:lnTo>
                      <a:pt x="8" y="2"/>
                    </a:lnTo>
                    <a:lnTo>
                      <a:pt x="15" y="10"/>
                    </a:lnTo>
                    <a:lnTo>
                      <a:pt x="15" y="17"/>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6" name=""/>
              <p:cNvSpPr/>
              <p:nvPr/>
            </p:nvSpPr>
            <p:spPr>
              <a:xfrm>
                <a:off x="7332840" y="2563920"/>
                <a:ext cx="10800" cy="12600"/>
              </a:xfrm>
              <a:custGeom>
                <a:avLst/>
                <a:gdLst/>
                <a:ahLst/>
                <a:rect l="l" t="t" r="r" b="b"/>
                <a:pathLst>
                  <a:path w="23" h="23">
                    <a:moveTo>
                      <a:pt x="8" y="23"/>
                    </a:moveTo>
                    <a:lnTo>
                      <a:pt x="0" y="1"/>
                    </a:lnTo>
                    <a:lnTo>
                      <a:pt x="10" y="0"/>
                    </a:lnTo>
                    <a:lnTo>
                      <a:pt x="17" y="1"/>
                    </a:lnTo>
                    <a:lnTo>
                      <a:pt x="23" y="7"/>
                    </a:lnTo>
                    <a:lnTo>
                      <a:pt x="23" y="17"/>
                    </a:lnTo>
                    <a:lnTo>
                      <a:pt x="8"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7" name=""/>
              <p:cNvSpPr/>
              <p:nvPr/>
            </p:nvSpPr>
            <p:spPr>
              <a:xfrm>
                <a:off x="7464600" y="2550960"/>
                <a:ext cx="14040" cy="11160"/>
              </a:xfrm>
              <a:custGeom>
                <a:avLst/>
                <a:gdLst/>
                <a:ahLst/>
                <a:rect l="l" t="t" r="r" b="b"/>
                <a:pathLst>
                  <a:path w="25" h="19">
                    <a:moveTo>
                      <a:pt x="7" y="19"/>
                    </a:moveTo>
                    <a:lnTo>
                      <a:pt x="0" y="3"/>
                    </a:lnTo>
                    <a:lnTo>
                      <a:pt x="7" y="0"/>
                    </a:lnTo>
                    <a:lnTo>
                      <a:pt x="15" y="2"/>
                    </a:lnTo>
                    <a:lnTo>
                      <a:pt x="22" y="8"/>
                    </a:lnTo>
                    <a:lnTo>
                      <a:pt x="25" y="15"/>
                    </a:lnTo>
                    <a:lnTo>
                      <a:pt x="7"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8" name=""/>
              <p:cNvSpPr/>
              <p:nvPr/>
            </p:nvSpPr>
            <p:spPr>
              <a:xfrm>
                <a:off x="7732800" y="2232000"/>
                <a:ext cx="460440" cy="311040"/>
              </a:xfrm>
              <a:custGeom>
                <a:avLst/>
                <a:gdLst/>
                <a:ahLst/>
                <a:rect l="l" t="t" r="r" b="b"/>
                <a:pathLst>
                  <a:path w="869" h="588">
                    <a:moveTo>
                      <a:pt x="663" y="588"/>
                    </a:moveTo>
                    <a:lnTo>
                      <a:pt x="657" y="587"/>
                    </a:lnTo>
                    <a:lnTo>
                      <a:pt x="650" y="585"/>
                    </a:lnTo>
                    <a:lnTo>
                      <a:pt x="642" y="585"/>
                    </a:lnTo>
                    <a:lnTo>
                      <a:pt x="635" y="584"/>
                    </a:lnTo>
                    <a:lnTo>
                      <a:pt x="628" y="584"/>
                    </a:lnTo>
                    <a:lnTo>
                      <a:pt x="621" y="582"/>
                    </a:lnTo>
                    <a:lnTo>
                      <a:pt x="613" y="579"/>
                    </a:lnTo>
                    <a:lnTo>
                      <a:pt x="608" y="575"/>
                    </a:lnTo>
                    <a:lnTo>
                      <a:pt x="618" y="555"/>
                    </a:lnTo>
                    <a:lnTo>
                      <a:pt x="629" y="535"/>
                    </a:lnTo>
                    <a:lnTo>
                      <a:pt x="642" y="514"/>
                    </a:lnTo>
                    <a:lnTo>
                      <a:pt x="654" y="493"/>
                    </a:lnTo>
                    <a:lnTo>
                      <a:pt x="664" y="471"/>
                    </a:lnTo>
                    <a:lnTo>
                      <a:pt x="671" y="448"/>
                    </a:lnTo>
                    <a:lnTo>
                      <a:pt x="677" y="422"/>
                    </a:lnTo>
                    <a:lnTo>
                      <a:pt x="678" y="396"/>
                    </a:lnTo>
                    <a:lnTo>
                      <a:pt x="671" y="383"/>
                    </a:lnTo>
                    <a:lnTo>
                      <a:pt x="663" y="370"/>
                    </a:lnTo>
                    <a:lnTo>
                      <a:pt x="651" y="357"/>
                    </a:lnTo>
                    <a:lnTo>
                      <a:pt x="638" y="345"/>
                    </a:lnTo>
                    <a:lnTo>
                      <a:pt x="628" y="341"/>
                    </a:lnTo>
                    <a:lnTo>
                      <a:pt x="619" y="337"/>
                    </a:lnTo>
                    <a:lnTo>
                      <a:pt x="609" y="334"/>
                    </a:lnTo>
                    <a:lnTo>
                      <a:pt x="597" y="335"/>
                    </a:lnTo>
                    <a:lnTo>
                      <a:pt x="597" y="318"/>
                    </a:lnTo>
                    <a:lnTo>
                      <a:pt x="597" y="301"/>
                    </a:lnTo>
                    <a:lnTo>
                      <a:pt x="597" y="282"/>
                    </a:lnTo>
                    <a:lnTo>
                      <a:pt x="596" y="263"/>
                    </a:lnTo>
                    <a:lnTo>
                      <a:pt x="593" y="256"/>
                    </a:lnTo>
                    <a:lnTo>
                      <a:pt x="590" y="249"/>
                    </a:lnTo>
                    <a:lnTo>
                      <a:pt x="586" y="241"/>
                    </a:lnTo>
                    <a:lnTo>
                      <a:pt x="580" y="234"/>
                    </a:lnTo>
                    <a:lnTo>
                      <a:pt x="560" y="217"/>
                    </a:lnTo>
                    <a:lnTo>
                      <a:pt x="548" y="214"/>
                    </a:lnTo>
                    <a:lnTo>
                      <a:pt x="538" y="211"/>
                    </a:lnTo>
                    <a:lnTo>
                      <a:pt x="527" y="211"/>
                    </a:lnTo>
                    <a:lnTo>
                      <a:pt x="516" y="211"/>
                    </a:lnTo>
                    <a:lnTo>
                      <a:pt x="505" y="212"/>
                    </a:lnTo>
                    <a:lnTo>
                      <a:pt x="495" y="217"/>
                    </a:lnTo>
                    <a:lnTo>
                      <a:pt x="485" y="221"/>
                    </a:lnTo>
                    <a:lnTo>
                      <a:pt x="475" y="227"/>
                    </a:lnTo>
                    <a:lnTo>
                      <a:pt x="472" y="218"/>
                    </a:lnTo>
                    <a:lnTo>
                      <a:pt x="473" y="211"/>
                    </a:lnTo>
                    <a:lnTo>
                      <a:pt x="475" y="202"/>
                    </a:lnTo>
                    <a:lnTo>
                      <a:pt x="475" y="194"/>
                    </a:lnTo>
                    <a:lnTo>
                      <a:pt x="472" y="182"/>
                    </a:lnTo>
                    <a:lnTo>
                      <a:pt x="467" y="172"/>
                    </a:lnTo>
                    <a:lnTo>
                      <a:pt x="460" y="162"/>
                    </a:lnTo>
                    <a:lnTo>
                      <a:pt x="453" y="153"/>
                    </a:lnTo>
                    <a:lnTo>
                      <a:pt x="431" y="136"/>
                    </a:lnTo>
                    <a:lnTo>
                      <a:pt x="424" y="132"/>
                    </a:lnTo>
                    <a:lnTo>
                      <a:pt x="415" y="129"/>
                    </a:lnTo>
                    <a:lnTo>
                      <a:pt x="407" y="127"/>
                    </a:lnTo>
                    <a:lnTo>
                      <a:pt x="398" y="126"/>
                    </a:lnTo>
                    <a:lnTo>
                      <a:pt x="388" y="124"/>
                    </a:lnTo>
                    <a:lnTo>
                      <a:pt x="378" y="124"/>
                    </a:lnTo>
                    <a:lnTo>
                      <a:pt x="369" y="124"/>
                    </a:lnTo>
                    <a:lnTo>
                      <a:pt x="359" y="126"/>
                    </a:lnTo>
                    <a:lnTo>
                      <a:pt x="353" y="127"/>
                    </a:lnTo>
                    <a:lnTo>
                      <a:pt x="347" y="133"/>
                    </a:lnTo>
                    <a:lnTo>
                      <a:pt x="339" y="137"/>
                    </a:lnTo>
                    <a:lnTo>
                      <a:pt x="330" y="140"/>
                    </a:lnTo>
                    <a:lnTo>
                      <a:pt x="330" y="130"/>
                    </a:lnTo>
                    <a:lnTo>
                      <a:pt x="329" y="121"/>
                    </a:lnTo>
                    <a:lnTo>
                      <a:pt x="327" y="113"/>
                    </a:lnTo>
                    <a:lnTo>
                      <a:pt x="323" y="106"/>
                    </a:lnTo>
                    <a:lnTo>
                      <a:pt x="317" y="98"/>
                    </a:lnTo>
                    <a:lnTo>
                      <a:pt x="308" y="95"/>
                    </a:lnTo>
                    <a:lnTo>
                      <a:pt x="301" y="93"/>
                    </a:lnTo>
                    <a:lnTo>
                      <a:pt x="292" y="91"/>
                    </a:lnTo>
                    <a:lnTo>
                      <a:pt x="285" y="90"/>
                    </a:lnTo>
                    <a:lnTo>
                      <a:pt x="278" y="88"/>
                    </a:lnTo>
                    <a:lnTo>
                      <a:pt x="269" y="85"/>
                    </a:lnTo>
                    <a:lnTo>
                      <a:pt x="262" y="82"/>
                    </a:lnTo>
                    <a:lnTo>
                      <a:pt x="253" y="78"/>
                    </a:lnTo>
                    <a:lnTo>
                      <a:pt x="243" y="80"/>
                    </a:lnTo>
                    <a:lnTo>
                      <a:pt x="237" y="81"/>
                    </a:lnTo>
                    <a:lnTo>
                      <a:pt x="232" y="82"/>
                    </a:lnTo>
                    <a:lnTo>
                      <a:pt x="226" y="85"/>
                    </a:lnTo>
                    <a:lnTo>
                      <a:pt x="221" y="88"/>
                    </a:lnTo>
                    <a:lnTo>
                      <a:pt x="217" y="91"/>
                    </a:lnTo>
                    <a:lnTo>
                      <a:pt x="211" y="95"/>
                    </a:lnTo>
                    <a:lnTo>
                      <a:pt x="206" y="100"/>
                    </a:lnTo>
                    <a:lnTo>
                      <a:pt x="200" y="104"/>
                    </a:lnTo>
                    <a:lnTo>
                      <a:pt x="190" y="103"/>
                    </a:lnTo>
                    <a:lnTo>
                      <a:pt x="168" y="121"/>
                    </a:lnTo>
                    <a:lnTo>
                      <a:pt x="146" y="140"/>
                    </a:lnTo>
                    <a:lnTo>
                      <a:pt x="123" y="162"/>
                    </a:lnTo>
                    <a:lnTo>
                      <a:pt x="101" y="184"/>
                    </a:lnTo>
                    <a:lnTo>
                      <a:pt x="78" y="205"/>
                    </a:lnTo>
                    <a:lnTo>
                      <a:pt x="55" y="228"/>
                    </a:lnTo>
                    <a:lnTo>
                      <a:pt x="32" y="251"/>
                    </a:lnTo>
                    <a:lnTo>
                      <a:pt x="9" y="275"/>
                    </a:lnTo>
                    <a:lnTo>
                      <a:pt x="0" y="264"/>
                    </a:lnTo>
                    <a:lnTo>
                      <a:pt x="15" y="230"/>
                    </a:lnTo>
                    <a:lnTo>
                      <a:pt x="29" y="198"/>
                    </a:lnTo>
                    <a:lnTo>
                      <a:pt x="47" y="166"/>
                    </a:lnTo>
                    <a:lnTo>
                      <a:pt x="65" y="137"/>
                    </a:lnTo>
                    <a:lnTo>
                      <a:pt x="84" y="108"/>
                    </a:lnTo>
                    <a:lnTo>
                      <a:pt x="107" y="80"/>
                    </a:lnTo>
                    <a:lnTo>
                      <a:pt x="130" y="51"/>
                    </a:lnTo>
                    <a:lnTo>
                      <a:pt x="156" y="22"/>
                    </a:lnTo>
                    <a:lnTo>
                      <a:pt x="164" y="17"/>
                    </a:lnTo>
                    <a:lnTo>
                      <a:pt x="171" y="12"/>
                    </a:lnTo>
                    <a:lnTo>
                      <a:pt x="178" y="6"/>
                    </a:lnTo>
                    <a:lnTo>
                      <a:pt x="188" y="2"/>
                    </a:lnTo>
                    <a:lnTo>
                      <a:pt x="200" y="0"/>
                    </a:lnTo>
                    <a:lnTo>
                      <a:pt x="211" y="0"/>
                    </a:lnTo>
                    <a:lnTo>
                      <a:pt x="224" y="2"/>
                    </a:lnTo>
                    <a:lnTo>
                      <a:pt x="236" y="3"/>
                    </a:lnTo>
                    <a:lnTo>
                      <a:pt x="248" y="6"/>
                    </a:lnTo>
                    <a:lnTo>
                      <a:pt x="259" y="10"/>
                    </a:lnTo>
                    <a:lnTo>
                      <a:pt x="271" y="13"/>
                    </a:lnTo>
                    <a:lnTo>
                      <a:pt x="282" y="16"/>
                    </a:lnTo>
                    <a:lnTo>
                      <a:pt x="300" y="22"/>
                    </a:lnTo>
                    <a:lnTo>
                      <a:pt x="317" y="28"/>
                    </a:lnTo>
                    <a:lnTo>
                      <a:pt x="336" y="32"/>
                    </a:lnTo>
                    <a:lnTo>
                      <a:pt x="353" y="38"/>
                    </a:lnTo>
                    <a:lnTo>
                      <a:pt x="370" y="43"/>
                    </a:lnTo>
                    <a:lnTo>
                      <a:pt x="389" y="51"/>
                    </a:lnTo>
                    <a:lnTo>
                      <a:pt x="407" y="56"/>
                    </a:lnTo>
                    <a:lnTo>
                      <a:pt x="425" y="62"/>
                    </a:lnTo>
                    <a:lnTo>
                      <a:pt x="444" y="68"/>
                    </a:lnTo>
                    <a:lnTo>
                      <a:pt x="462" y="75"/>
                    </a:lnTo>
                    <a:lnTo>
                      <a:pt x="480" y="81"/>
                    </a:lnTo>
                    <a:lnTo>
                      <a:pt x="498" y="88"/>
                    </a:lnTo>
                    <a:lnTo>
                      <a:pt x="515" y="95"/>
                    </a:lnTo>
                    <a:lnTo>
                      <a:pt x="534" y="103"/>
                    </a:lnTo>
                    <a:lnTo>
                      <a:pt x="551" y="110"/>
                    </a:lnTo>
                    <a:lnTo>
                      <a:pt x="569" y="117"/>
                    </a:lnTo>
                    <a:lnTo>
                      <a:pt x="586" y="120"/>
                    </a:lnTo>
                    <a:lnTo>
                      <a:pt x="603" y="124"/>
                    </a:lnTo>
                    <a:lnTo>
                      <a:pt x="621" y="127"/>
                    </a:lnTo>
                    <a:lnTo>
                      <a:pt x="637" y="132"/>
                    </a:lnTo>
                    <a:lnTo>
                      <a:pt x="652" y="137"/>
                    </a:lnTo>
                    <a:lnTo>
                      <a:pt x="668" y="142"/>
                    </a:lnTo>
                    <a:lnTo>
                      <a:pt x="686" y="147"/>
                    </a:lnTo>
                    <a:lnTo>
                      <a:pt x="702" y="152"/>
                    </a:lnTo>
                    <a:lnTo>
                      <a:pt x="717" y="158"/>
                    </a:lnTo>
                    <a:lnTo>
                      <a:pt x="733" y="163"/>
                    </a:lnTo>
                    <a:lnTo>
                      <a:pt x="749" y="169"/>
                    </a:lnTo>
                    <a:lnTo>
                      <a:pt x="765" y="175"/>
                    </a:lnTo>
                    <a:lnTo>
                      <a:pt x="781" y="182"/>
                    </a:lnTo>
                    <a:lnTo>
                      <a:pt x="797" y="188"/>
                    </a:lnTo>
                    <a:lnTo>
                      <a:pt x="813" y="194"/>
                    </a:lnTo>
                    <a:lnTo>
                      <a:pt x="830" y="199"/>
                    </a:lnTo>
                    <a:lnTo>
                      <a:pt x="838" y="210"/>
                    </a:lnTo>
                    <a:lnTo>
                      <a:pt x="819" y="251"/>
                    </a:lnTo>
                    <a:lnTo>
                      <a:pt x="797" y="290"/>
                    </a:lnTo>
                    <a:lnTo>
                      <a:pt x="772" y="328"/>
                    </a:lnTo>
                    <a:lnTo>
                      <a:pt x="749" y="366"/>
                    </a:lnTo>
                    <a:lnTo>
                      <a:pt x="725" y="405"/>
                    </a:lnTo>
                    <a:lnTo>
                      <a:pt x="703" y="445"/>
                    </a:lnTo>
                    <a:lnTo>
                      <a:pt x="684" y="488"/>
                    </a:lnTo>
                    <a:lnTo>
                      <a:pt x="668" y="538"/>
                    </a:lnTo>
                    <a:lnTo>
                      <a:pt x="687" y="555"/>
                    </a:lnTo>
                    <a:lnTo>
                      <a:pt x="697" y="545"/>
                    </a:lnTo>
                    <a:lnTo>
                      <a:pt x="699" y="523"/>
                    </a:lnTo>
                    <a:lnTo>
                      <a:pt x="710" y="496"/>
                    </a:lnTo>
                    <a:lnTo>
                      <a:pt x="722" y="470"/>
                    </a:lnTo>
                    <a:lnTo>
                      <a:pt x="735" y="444"/>
                    </a:lnTo>
                    <a:lnTo>
                      <a:pt x="749" y="419"/>
                    </a:lnTo>
                    <a:lnTo>
                      <a:pt x="764" y="395"/>
                    </a:lnTo>
                    <a:lnTo>
                      <a:pt x="778" y="371"/>
                    </a:lnTo>
                    <a:lnTo>
                      <a:pt x="793" y="347"/>
                    </a:lnTo>
                    <a:lnTo>
                      <a:pt x="809" y="322"/>
                    </a:lnTo>
                    <a:lnTo>
                      <a:pt x="814" y="312"/>
                    </a:lnTo>
                    <a:lnTo>
                      <a:pt x="819" y="302"/>
                    </a:lnTo>
                    <a:lnTo>
                      <a:pt x="826" y="290"/>
                    </a:lnTo>
                    <a:lnTo>
                      <a:pt x="832" y="280"/>
                    </a:lnTo>
                    <a:lnTo>
                      <a:pt x="839" y="269"/>
                    </a:lnTo>
                    <a:lnTo>
                      <a:pt x="845" y="259"/>
                    </a:lnTo>
                    <a:lnTo>
                      <a:pt x="852" y="247"/>
                    </a:lnTo>
                    <a:lnTo>
                      <a:pt x="859" y="237"/>
                    </a:lnTo>
                    <a:lnTo>
                      <a:pt x="869" y="251"/>
                    </a:lnTo>
                    <a:lnTo>
                      <a:pt x="865" y="272"/>
                    </a:lnTo>
                    <a:lnTo>
                      <a:pt x="858" y="298"/>
                    </a:lnTo>
                    <a:lnTo>
                      <a:pt x="849" y="322"/>
                    </a:lnTo>
                    <a:lnTo>
                      <a:pt x="840" y="344"/>
                    </a:lnTo>
                    <a:lnTo>
                      <a:pt x="830" y="363"/>
                    </a:lnTo>
                    <a:lnTo>
                      <a:pt x="819" y="383"/>
                    </a:lnTo>
                    <a:lnTo>
                      <a:pt x="809" y="402"/>
                    </a:lnTo>
                    <a:lnTo>
                      <a:pt x="798" y="422"/>
                    </a:lnTo>
                    <a:lnTo>
                      <a:pt x="787" y="442"/>
                    </a:lnTo>
                    <a:lnTo>
                      <a:pt x="777" y="462"/>
                    </a:lnTo>
                    <a:lnTo>
                      <a:pt x="767" y="483"/>
                    </a:lnTo>
                    <a:lnTo>
                      <a:pt x="757" y="503"/>
                    </a:lnTo>
                    <a:lnTo>
                      <a:pt x="757" y="514"/>
                    </a:lnTo>
                    <a:lnTo>
                      <a:pt x="749" y="520"/>
                    </a:lnTo>
                    <a:lnTo>
                      <a:pt x="741" y="527"/>
                    </a:lnTo>
                    <a:lnTo>
                      <a:pt x="733" y="535"/>
                    </a:lnTo>
                    <a:lnTo>
                      <a:pt x="726" y="543"/>
                    </a:lnTo>
                    <a:lnTo>
                      <a:pt x="719" y="552"/>
                    </a:lnTo>
                    <a:lnTo>
                      <a:pt x="712" y="561"/>
                    </a:lnTo>
                    <a:lnTo>
                      <a:pt x="704" y="571"/>
                    </a:lnTo>
                    <a:lnTo>
                      <a:pt x="697" y="581"/>
                    </a:lnTo>
                    <a:lnTo>
                      <a:pt x="689" y="582"/>
                    </a:lnTo>
                    <a:lnTo>
                      <a:pt x="680" y="584"/>
                    </a:lnTo>
                    <a:lnTo>
                      <a:pt x="671" y="587"/>
                    </a:lnTo>
                    <a:lnTo>
                      <a:pt x="663" y="5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7056360" y="2535120"/>
                <a:ext cx="11160" cy="11160"/>
              </a:xfrm>
              <a:custGeom>
                <a:avLst/>
                <a:gdLst/>
                <a:ahLst/>
                <a:rect l="l" t="t" r="r" b="b"/>
                <a:pathLst>
                  <a:path w="21" h="21">
                    <a:moveTo>
                      <a:pt x="2" y="21"/>
                    </a:moveTo>
                    <a:lnTo>
                      <a:pt x="0" y="0"/>
                    </a:lnTo>
                    <a:lnTo>
                      <a:pt x="9" y="0"/>
                    </a:lnTo>
                    <a:lnTo>
                      <a:pt x="16" y="1"/>
                    </a:lnTo>
                    <a:lnTo>
                      <a:pt x="21" y="7"/>
                    </a:lnTo>
                    <a:lnTo>
                      <a:pt x="19" y="17"/>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0" name=""/>
              <p:cNvSpPr/>
              <p:nvPr/>
            </p:nvSpPr>
            <p:spPr>
              <a:xfrm>
                <a:off x="7122960" y="2536920"/>
                <a:ext cx="12960" cy="9360"/>
              </a:xfrm>
              <a:custGeom>
                <a:avLst/>
                <a:gdLst/>
                <a:ahLst/>
                <a:rect l="l" t="t" r="r" b="b"/>
                <a:pathLst>
                  <a:path w="23" h="18">
                    <a:moveTo>
                      <a:pt x="9" y="18"/>
                    </a:moveTo>
                    <a:lnTo>
                      <a:pt x="0" y="4"/>
                    </a:lnTo>
                    <a:lnTo>
                      <a:pt x="5" y="0"/>
                    </a:lnTo>
                    <a:lnTo>
                      <a:pt x="12" y="0"/>
                    </a:lnTo>
                    <a:lnTo>
                      <a:pt x="20" y="4"/>
                    </a:lnTo>
                    <a:lnTo>
                      <a:pt x="23" y="10"/>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21" name=""/>
              <p:cNvSpPr/>
              <p:nvPr/>
            </p:nvSpPr>
            <p:spPr>
              <a:xfrm>
                <a:off x="7385040" y="2513160"/>
                <a:ext cx="11160" cy="12600"/>
              </a:xfrm>
              <a:custGeom>
                <a:avLst/>
                <a:gdLst/>
                <a:ahLst/>
                <a:rect l="l" t="t" r="r" b="b"/>
                <a:pathLst>
                  <a:path w="21" h="23">
                    <a:moveTo>
                      <a:pt x="6" y="23"/>
                    </a:moveTo>
                    <a:lnTo>
                      <a:pt x="0" y="0"/>
                    </a:lnTo>
                    <a:lnTo>
                      <a:pt x="21" y="5"/>
                    </a:lnTo>
                    <a:lnTo>
                      <a:pt x="21" y="10"/>
                    </a:lnTo>
                    <a:lnTo>
                      <a:pt x="18" y="16"/>
                    </a:lnTo>
                    <a:lnTo>
                      <a:pt x="13" y="22"/>
                    </a:lnTo>
                    <a:lnTo>
                      <a:pt x="6"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22" name=""/>
              <p:cNvSpPr/>
              <p:nvPr/>
            </p:nvSpPr>
            <p:spPr>
              <a:xfrm>
                <a:off x="7302600" y="2508120"/>
                <a:ext cx="12600" cy="12960"/>
              </a:xfrm>
              <a:custGeom>
                <a:avLst/>
                <a:gdLst/>
                <a:ahLst/>
                <a:rect l="l" t="t" r="r" b="b"/>
                <a:pathLst>
                  <a:path w="26" h="25">
                    <a:moveTo>
                      <a:pt x="7" y="25"/>
                    </a:moveTo>
                    <a:lnTo>
                      <a:pt x="0" y="3"/>
                    </a:lnTo>
                    <a:lnTo>
                      <a:pt x="9" y="0"/>
                    </a:lnTo>
                    <a:lnTo>
                      <a:pt x="16" y="3"/>
                    </a:lnTo>
                    <a:lnTo>
                      <a:pt x="22" y="9"/>
                    </a:lnTo>
                    <a:lnTo>
                      <a:pt x="26" y="17"/>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3" name=""/>
              <p:cNvSpPr/>
              <p:nvPr/>
            </p:nvSpPr>
            <p:spPr>
              <a:xfrm>
                <a:off x="7191360" y="2509920"/>
                <a:ext cx="11160" cy="11160"/>
              </a:xfrm>
              <a:custGeom>
                <a:avLst/>
                <a:gdLst/>
                <a:ahLst/>
                <a:rect l="l" t="t" r="r" b="b"/>
                <a:pathLst>
                  <a:path w="22" h="21">
                    <a:moveTo>
                      <a:pt x="3" y="21"/>
                    </a:moveTo>
                    <a:lnTo>
                      <a:pt x="0" y="0"/>
                    </a:lnTo>
                    <a:lnTo>
                      <a:pt x="22" y="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4" name=""/>
              <p:cNvSpPr/>
              <p:nvPr/>
            </p:nvSpPr>
            <p:spPr>
              <a:xfrm>
                <a:off x="7488360" y="2494080"/>
                <a:ext cx="9360" cy="12600"/>
              </a:xfrm>
              <a:custGeom>
                <a:avLst/>
                <a:gdLst/>
                <a:ahLst/>
                <a:rect l="l" t="t" r="r" b="b"/>
                <a:pathLst>
                  <a:path w="17" h="23">
                    <a:moveTo>
                      <a:pt x="10" y="23"/>
                    </a:moveTo>
                    <a:lnTo>
                      <a:pt x="4" y="20"/>
                    </a:lnTo>
                    <a:lnTo>
                      <a:pt x="0" y="13"/>
                    </a:lnTo>
                    <a:lnTo>
                      <a:pt x="1" y="6"/>
                    </a:lnTo>
                    <a:lnTo>
                      <a:pt x="7" y="0"/>
                    </a:lnTo>
                    <a:lnTo>
                      <a:pt x="14" y="3"/>
                    </a:lnTo>
                    <a:lnTo>
                      <a:pt x="17" y="10"/>
                    </a:lnTo>
                    <a:lnTo>
                      <a:pt x="17" y="17"/>
                    </a:lnTo>
                    <a:lnTo>
                      <a:pt x="1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25" name=""/>
              <p:cNvSpPr/>
              <p:nvPr/>
            </p:nvSpPr>
            <p:spPr>
              <a:xfrm>
                <a:off x="7151760" y="2487600"/>
                <a:ext cx="11160" cy="12600"/>
              </a:xfrm>
              <a:custGeom>
                <a:avLst/>
                <a:gdLst/>
                <a:ahLst/>
                <a:rect l="l" t="t" r="r" b="b"/>
                <a:pathLst>
                  <a:path w="20" h="23">
                    <a:moveTo>
                      <a:pt x="1" y="23"/>
                    </a:moveTo>
                    <a:lnTo>
                      <a:pt x="0" y="0"/>
                    </a:lnTo>
                    <a:lnTo>
                      <a:pt x="20" y="10"/>
                    </a:lnTo>
                    <a:lnTo>
                      <a:pt x="20" y="17"/>
                    </a:lnTo>
                    <a:lnTo>
                      <a:pt x="16" y="20"/>
                    </a:lnTo>
                    <a:lnTo>
                      <a:pt x="10" y="20"/>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26" name=""/>
              <p:cNvSpPr/>
              <p:nvPr/>
            </p:nvSpPr>
            <p:spPr>
              <a:xfrm>
                <a:off x="7537320" y="2473200"/>
                <a:ext cx="14400" cy="12960"/>
              </a:xfrm>
              <a:custGeom>
                <a:avLst/>
                <a:gdLst/>
                <a:ahLst/>
                <a:rect l="l" t="t" r="r" b="b"/>
                <a:pathLst>
                  <a:path w="28" h="22">
                    <a:moveTo>
                      <a:pt x="7" y="22"/>
                    </a:moveTo>
                    <a:lnTo>
                      <a:pt x="0" y="9"/>
                    </a:lnTo>
                    <a:lnTo>
                      <a:pt x="7" y="0"/>
                    </a:lnTo>
                    <a:lnTo>
                      <a:pt x="15" y="0"/>
                    </a:lnTo>
                    <a:lnTo>
                      <a:pt x="22" y="0"/>
                    </a:lnTo>
                    <a:lnTo>
                      <a:pt x="28" y="6"/>
                    </a:lnTo>
                    <a:lnTo>
                      <a:pt x="28" y="15"/>
                    </a:lnTo>
                    <a:lnTo>
                      <a:pt x="7"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7" name=""/>
              <p:cNvSpPr/>
              <p:nvPr/>
            </p:nvSpPr>
            <p:spPr>
              <a:xfrm>
                <a:off x="7080120" y="2471760"/>
                <a:ext cx="11160" cy="12600"/>
              </a:xfrm>
              <a:custGeom>
                <a:avLst/>
                <a:gdLst/>
                <a:ahLst/>
                <a:rect l="l" t="t" r="r" b="b"/>
                <a:pathLst>
                  <a:path w="20" h="22">
                    <a:moveTo>
                      <a:pt x="10" y="22"/>
                    </a:moveTo>
                    <a:lnTo>
                      <a:pt x="0" y="3"/>
                    </a:lnTo>
                    <a:lnTo>
                      <a:pt x="6" y="0"/>
                    </a:lnTo>
                    <a:lnTo>
                      <a:pt x="13" y="2"/>
                    </a:lnTo>
                    <a:lnTo>
                      <a:pt x="19" y="7"/>
                    </a:lnTo>
                    <a:lnTo>
                      <a:pt x="20" y="15"/>
                    </a:lnTo>
                    <a:lnTo>
                      <a:pt x="1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28" name=""/>
              <p:cNvSpPr/>
              <p:nvPr/>
            </p:nvSpPr>
            <p:spPr>
              <a:xfrm>
                <a:off x="7016760" y="2468520"/>
                <a:ext cx="14400" cy="14400"/>
              </a:xfrm>
              <a:custGeom>
                <a:avLst/>
                <a:gdLst/>
                <a:ahLst/>
                <a:rect l="l" t="t" r="r" b="b"/>
                <a:pathLst>
                  <a:path w="25" h="26">
                    <a:moveTo>
                      <a:pt x="10" y="26"/>
                    </a:moveTo>
                    <a:lnTo>
                      <a:pt x="0" y="3"/>
                    </a:lnTo>
                    <a:lnTo>
                      <a:pt x="6" y="0"/>
                    </a:lnTo>
                    <a:lnTo>
                      <a:pt x="15" y="2"/>
                    </a:lnTo>
                    <a:lnTo>
                      <a:pt x="22" y="8"/>
                    </a:lnTo>
                    <a:lnTo>
                      <a:pt x="25" y="13"/>
                    </a:lnTo>
                    <a:lnTo>
                      <a:pt x="1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9" name=""/>
              <p:cNvSpPr/>
              <p:nvPr/>
            </p:nvSpPr>
            <p:spPr>
              <a:xfrm>
                <a:off x="7413480" y="2459160"/>
                <a:ext cx="9720" cy="11160"/>
              </a:xfrm>
              <a:custGeom>
                <a:avLst/>
                <a:gdLst/>
                <a:ahLst/>
                <a:rect l="l" t="t" r="r" b="b"/>
                <a:pathLst>
                  <a:path w="20" h="22">
                    <a:moveTo>
                      <a:pt x="11" y="22"/>
                    </a:moveTo>
                    <a:lnTo>
                      <a:pt x="4" y="19"/>
                    </a:lnTo>
                    <a:lnTo>
                      <a:pt x="0" y="12"/>
                    </a:lnTo>
                    <a:lnTo>
                      <a:pt x="1" y="5"/>
                    </a:lnTo>
                    <a:lnTo>
                      <a:pt x="6" y="0"/>
                    </a:lnTo>
                    <a:lnTo>
                      <a:pt x="11" y="3"/>
                    </a:lnTo>
                    <a:lnTo>
                      <a:pt x="17" y="10"/>
                    </a:lnTo>
                    <a:lnTo>
                      <a:pt x="20" y="19"/>
                    </a:lnTo>
                    <a:lnTo>
                      <a:pt x="1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0" name=""/>
              <p:cNvSpPr/>
              <p:nvPr/>
            </p:nvSpPr>
            <p:spPr>
              <a:xfrm>
                <a:off x="7624800" y="2440080"/>
                <a:ext cx="7920" cy="11160"/>
              </a:xfrm>
              <a:custGeom>
                <a:avLst/>
                <a:gdLst/>
                <a:ahLst/>
                <a:rect l="l" t="t" r="r" b="b"/>
                <a:pathLst>
                  <a:path w="17" h="21">
                    <a:moveTo>
                      <a:pt x="3" y="21"/>
                    </a:moveTo>
                    <a:lnTo>
                      <a:pt x="0" y="0"/>
                    </a:lnTo>
                    <a:lnTo>
                      <a:pt x="9" y="0"/>
                    </a:lnTo>
                    <a:lnTo>
                      <a:pt x="14" y="2"/>
                    </a:lnTo>
                    <a:lnTo>
                      <a:pt x="17" y="8"/>
                    </a:lnTo>
                    <a:lnTo>
                      <a:pt x="17" y="1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1" name=""/>
              <p:cNvSpPr/>
              <p:nvPr/>
            </p:nvSpPr>
            <p:spPr>
              <a:xfrm>
                <a:off x="7340760" y="2435400"/>
                <a:ext cx="10800" cy="12600"/>
              </a:xfrm>
              <a:custGeom>
                <a:avLst/>
                <a:gdLst/>
                <a:ahLst/>
                <a:rect l="l" t="t" r="r" b="b"/>
                <a:pathLst>
                  <a:path w="20" h="22">
                    <a:moveTo>
                      <a:pt x="13" y="22"/>
                    </a:moveTo>
                    <a:lnTo>
                      <a:pt x="4" y="19"/>
                    </a:lnTo>
                    <a:lnTo>
                      <a:pt x="0" y="13"/>
                    </a:lnTo>
                    <a:lnTo>
                      <a:pt x="0" y="6"/>
                    </a:lnTo>
                    <a:lnTo>
                      <a:pt x="4" y="0"/>
                    </a:lnTo>
                    <a:lnTo>
                      <a:pt x="13" y="1"/>
                    </a:lnTo>
                    <a:lnTo>
                      <a:pt x="19" y="7"/>
                    </a:lnTo>
                    <a:lnTo>
                      <a:pt x="20" y="14"/>
                    </a:lnTo>
                    <a:lnTo>
                      <a:pt x="13"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2" name=""/>
              <p:cNvSpPr/>
              <p:nvPr/>
            </p:nvSpPr>
            <p:spPr>
              <a:xfrm>
                <a:off x="7475400" y="2432160"/>
                <a:ext cx="12960" cy="12600"/>
              </a:xfrm>
              <a:custGeom>
                <a:avLst/>
                <a:gdLst/>
                <a:ahLst/>
                <a:rect l="l" t="t" r="r" b="b"/>
                <a:pathLst>
                  <a:path w="25" h="24">
                    <a:moveTo>
                      <a:pt x="9" y="24"/>
                    </a:moveTo>
                    <a:lnTo>
                      <a:pt x="0" y="3"/>
                    </a:lnTo>
                    <a:lnTo>
                      <a:pt x="4" y="0"/>
                    </a:lnTo>
                    <a:lnTo>
                      <a:pt x="11" y="1"/>
                    </a:lnTo>
                    <a:lnTo>
                      <a:pt x="19" y="5"/>
                    </a:lnTo>
                    <a:lnTo>
                      <a:pt x="25" y="14"/>
                    </a:lnTo>
                    <a:lnTo>
                      <a:pt x="9"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3" name=""/>
              <p:cNvSpPr/>
              <p:nvPr/>
            </p:nvSpPr>
            <p:spPr>
              <a:xfrm>
                <a:off x="7191360" y="2432160"/>
                <a:ext cx="11160" cy="9360"/>
              </a:xfrm>
              <a:custGeom>
                <a:avLst/>
                <a:gdLst/>
                <a:ahLst/>
                <a:rect l="l" t="t" r="r" b="b"/>
                <a:pathLst>
                  <a:path w="20" h="17">
                    <a:moveTo>
                      <a:pt x="11" y="17"/>
                    </a:moveTo>
                    <a:lnTo>
                      <a:pt x="0" y="0"/>
                    </a:lnTo>
                    <a:lnTo>
                      <a:pt x="20" y="4"/>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34" name=""/>
              <p:cNvSpPr/>
              <p:nvPr/>
            </p:nvSpPr>
            <p:spPr>
              <a:xfrm>
                <a:off x="7575480" y="2422440"/>
                <a:ext cx="11160" cy="12960"/>
              </a:xfrm>
              <a:custGeom>
                <a:avLst/>
                <a:gdLst/>
                <a:ahLst/>
                <a:rect l="l" t="t" r="r" b="b"/>
                <a:pathLst>
                  <a:path w="21" h="25">
                    <a:moveTo>
                      <a:pt x="7" y="25"/>
                    </a:moveTo>
                    <a:lnTo>
                      <a:pt x="1" y="21"/>
                    </a:lnTo>
                    <a:lnTo>
                      <a:pt x="0" y="12"/>
                    </a:lnTo>
                    <a:lnTo>
                      <a:pt x="4" y="3"/>
                    </a:lnTo>
                    <a:lnTo>
                      <a:pt x="14" y="0"/>
                    </a:lnTo>
                    <a:lnTo>
                      <a:pt x="21" y="5"/>
                    </a:lnTo>
                    <a:lnTo>
                      <a:pt x="21" y="15"/>
                    </a:lnTo>
                    <a:lnTo>
                      <a:pt x="16" y="23"/>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5" name=""/>
              <p:cNvSpPr/>
              <p:nvPr/>
            </p:nvSpPr>
            <p:spPr>
              <a:xfrm>
                <a:off x="7270920" y="2408400"/>
                <a:ext cx="10800" cy="15840"/>
              </a:xfrm>
              <a:custGeom>
                <a:avLst/>
                <a:gdLst/>
                <a:ahLst/>
                <a:rect l="l" t="t" r="r" b="b"/>
                <a:pathLst>
                  <a:path w="20" h="29">
                    <a:moveTo>
                      <a:pt x="13" y="29"/>
                    </a:moveTo>
                    <a:lnTo>
                      <a:pt x="7" y="26"/>
                    </a:lnTo>
                    <a:lnTo>
                      <a:pt x="3" y="19"/>
                    </a:lnTo>
                    <a:lnTo>
                      <a:pt x="0" y="9"/>
                    </a:lnTo>
                    <a:lnTo>
                      <a:pt x="3" y="0"/>
                    </a:lnTo>
                    <a:lnTo>
                      <a:pt x="20" y="12"/>
                    </a:lnTo>
                    <a:lnTo>
                      <a:pt x="1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6" name=""/>
              <p:cNvSpPr/>
              <p:nvPr/>
            </p:nvSpPr>
            <p:spPr>
              <a:xfrm>
                <a:off x="7105680" y="2403360"/>
                <a:ext cx="11160" cy="15840"/>
              </a:xfrm>
              <a:custGeom>
                <a:avLst/>
                <a:gdLst/>
                <a:ahLst/>
                <a:rect l="l" t="t" r="r" b="b"/>
                <a:pathLst>
                  <a:path w="21" h="29">
                    <a:moveTo>
                      <a:pt x="6" y="29"/>
                    </a:moveTo>
                    <a:lnTo>
                      <a:pt x="2" y="23"/>
                    </a:lnTo>
                    <a:lnTo>
                      <a:pt x="0" y="15"/>
                    </a:lnTo>
                    <a:lnTo>
                      <a:pt x="0" y="6"/>
                    </a:lnTo>
                    <a:lnTo>
                      <a:pt x="5" y="0"/>
                    </a:lnTo>
                    <a:lnTo>
                      <a:pt x="13" y="3"/>
                    </a:lnTo>
                    <a:lnTo>
                      <a:pt x="19" y="12"/>
                    </a:lnTo>
                    <a:lnTo>
                      <a:pt x="21" y="20"/>
                    </a:lnTo>
                    <a:lnTo>
                      <a:pt x="13" y="29"/>
                    </a:lnTo>
                    <a:lnTo>
                      <a:pt x="6"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7" name=""/>
              <p:cNvSpPr/>
              <p:nvPr/>
            </p:nvSpPr>
            <p:spPr>
              <a:xfrm>
                <a:off x="7388280" y="2386080"/>
                <a:ext cx="11160" cy="11160"/>
              </a:xfrm>
              <a:custGeom>
                <a:avLst/>
                <a:gdLst/>
                <a:ahLst/>
                <a:rect l="l" t="t" r="r" b="b"/>
                <a:pathLst>
                  <a:path w="20" h="21">
                    <a:moveTo>
                      <a:pt x="1" y="21"/>
                    </a:moveTo>
                    <a:lnTo>
                      <a:pt x="0" y="0"/>
                    </a:lnTo>
                    <a:lnTo>
                      <a:pt x="20" y="3"/>
                    </a:lnTo>
                    <a:lnTo>
                      <a:pt x="20" y="10"/>
                    </a:lnTo>
                    <a:lnTo>
                      <a:pt x="17" y="16"/>
                    </a:lnTo>
                    <a:lnTo>
                      <a:pt x="11" y="19"/>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8" name=""/>
              <p:cNvSpPr/>
              <p:nvPr/>
            </p:nvSpPr>
            <p:spPr>
              <a:xfrm>
                <a:off x="7021440" y="2382840"/>
                <a:ext cx="15840" cy="14400"/>
              </a:xfrm>
              <a:custGeom>
                <a:avLst/>
                <a:gdLst/>
                <a:ahLst/>
                <a:rect l="l" t="t" r="r" b="b"/>
                <a:pathLst>
                  <a:path w="32" h="29">
                    <a:moveTo>
                      <a:pt x="22" y="29"/>
                    </a:moveTo>
                    <a:lnTo>
                      <a:pt x="0" y="21"/>
                    </a:lnTo>
                    <a:lnTo>
                      <a:pt x="3" y="0"/>
                    </a:lnTo>
                    <a:lnTo>
                      <a:pt x="13" y="3"/>
                    </a:lnTo>
                    <a:lnTo>
                      <a:pt x="22" y="7"/>
                    </a:lnTo>
                    <a:lnTo>
                      <a:pt x="28" y="11"/>
                    </a:lnTo>
                    <a:lnTo>
                      <a:pt x="32" y="20"/>
                    </a:lnTo>
                    <a:lnTo>
                      <a:pt x="22"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9" name=""/>
              <p:cNvSpPr/>
              <p:nvPr/>
            </p:nvSpPr>
            <p:spPr>
              <a:xfrm>
                <a:off x="7500960" y="2379600"/>
                <a:ext cx="12600" cy="9720"/>
              </a:xfrm>
              <a:custGeom>
                <a:avLst/>
                <a:gdLst/>
                <a:ahLst/>
                <a:rect l="l" t="t" r="r" b="b"/>
                <a:pathLst>
                  <a:path w="23" h="20">
                    <a:moveTo>
                      <a:pt x="4" y="20"/>
                    </a:moveTo>
                    <a:lnTo>
                      <a:pt x="0" y="0"/>
                    </a:lnTo>
                    <a:lnTo>
                      <a:pt x="22" y="4"/>
                    </a:lnTo>
                    <a:lnTo>
                      <a:pt x="23" y="10"/>
                    </a:lnTo>
                    <a:lnTo>
                      <a:pt x="19" y="16"/>
                    </a:lnTo>
                    <a:lnTo>
                      <a:pt x="13" y="19"/>
                    </a:lnTo>
                    <a:lnTo>
                      <a:pt x="4"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0" name=""/>
              <p:cNvSpPr/>
              <p:nvPr/>
            </p:nvSpPr>
            <p:spPr>
              <a:xfrm>
                <a:off x="7450200" y="2370240"/>
                <a:ext cx="12600" cy="12600"/>
              </a:xfrm>
              <a:custGeom>
                <a:avLst/>
                <a:gdLst/>
                <a:ahLst/>
                <a:rect l="l" t="t" r="r" b="b"/>
                <a:pathLst>
                  <a:path w="26" h="22">
                    <a:moveTo>
                      <a:pt x="9" y="22"/>
                    </a:moveTo>
                    <a:lnTo>
                      <a:pt x="0" y="12"/>
                    </a:lnTo>
                    <a:lnTo>
                      <a:pt x="3" y="4"/>
                    </a:lnTo>
                    <a:lnTo>
                      <a:pt x="12" y="0"/>
                    </a:lnTo>
                    <a:lnTo>
                      <a:pt x="20" y="1"/>
                    </a:lnTo>
                    <a:lnTo>
                      <a:pt x="26" y="7"/>
                    </a:lnTo>
                    <a:lnTo>
                      <a:pt x="9"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1" name=""/>
              <p:cNvSpPr/>
              <p:nvPr/>
            </p:nvSpPr>
            <p:spPr>
              <a:xfrm>
                <a:off x="7172280" y="2371680"/>
                <a:ext cx="11160" cy="9720"/>
              </a:xfrm>
              <a:custGeom>
                <a:avLst/>
                <a:gdLst/>
                <a:ahLst/>
                <a:rect l="l" t="t" r="r" b="b"/>
                <a:pathLst>
                  <a:path w="23" h="18">
                    <a:moveTo>
                      <a:pt x="6" y="18"/>
                    </a:moveTo>
                    <a:lnTo>
                      <a:pt x="0" y="0"/>
                    </a:lnTo>
                    <a:lnTo>
                      <a:pt x="23" y="6"/>
                    </a:lnTo>
                    <a:lnTo>
                      <a:pt x="6"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2" name=""/>
              <p:cNvSpPr/>
              <p:nvPr/>
            </p:nvSpPr>
            <p:spPr>
              <a:xfrm>
                <a:off x="7243920" y="2346480"/>
                <a:ext cx="10800" cy="10800"/>
              </a:xfrm>
              <a:custGeom>
                <a:avLst/>
                <a:gdLst/>
                <a:ahLst/>
                <a:rect l="l" t="t" r="r" b="b"/>
                <a:pathLst>
                  <a:path w="21" h="20">
                    <a:moveTo>
                      <a:pt x="8" y="20"/>
                    </a:moveTo>
                    <a:lnTo>
                      <a:pt x="0" y="3"/>
                    </a:lnTo>
                    <a:lnTo>
                      <a:pt x="7" y="0"/>
                    </a:lnTo>
                    <a:lnTo>
                      <a:pt x="16" y="2"/>
                    </a:lnTo>
                    <a:lnTo>
                      <a:pt x="20" y="7"/>
                    </a:lnTo>
                    <a:lnTo>
                      <a:pt x="21" y="16"/>
                    </a:lnTo>
                    <a:lnTo>
                      <a:pt x="8"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43" name=""/>
              <p:cNvSpPr/>
              <p:nvPr/>
            </p:nvSpPr>
            <p:spPr>
              <a:xfrm>
                <a:off x="6999120" y="2333520"/>
                <a:ext cx="11160" cy="11160"/>
              </a:xfrm>
              <a:custGeom>
                <a:avLst/>
                <a:gdLst/>
                <a:ahLst/>
                <a:rect l="l" t="t" r="r" b="b"/>
                <a:pathLst>
                  <a:path w="19" h="22">
                    <a:moveTo>
                      <a:pt x="4" y="22"/>
                    </a:moveTo>
                    <a:lnTo>
                      <a:pt x="0" y="0"/>
                    </a:lnTo>
                    <a:lnTo>
                      <a:pt x="19" y="7"/>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4" name=""/>
              <p:cNvSpPr/>
              <p:nvPr/>
            </p:nvSpPr>
            <p:spPr>
              <a:xfrm>
                <a:off x="7064280" y="2332080"/>
                <a:ext cx="12960" cy="9360"/>
              </a:xfrm>
              <a:custGeom>
                <a:avLst/>
                <a:gdLst/>
                <a:ahLst/>
                <a:rect l="l" t="t" r="r" b="b"/>
                <a:pathLst>
                  <a:path w="24" h="16">
                    <a:moveTo>
                      <a:pt x="4" y="16"/>
                    </a:moveTo>
                    <a:lnTo>
                      <a:pt x="0" y="7"/>
                    </a:lnTo>
                    <a:lnTo>
                      <a:pt x="4" y="1"/>
                    </a:lnTo>
                    <a:lnTo>
                      <a:pt x="13" y="0"/>
                    </a:lnTo>
                    <a:lnTo>
                      <a:pt x="20" y="3"/>
                    </a:lnTo>
                    <a:lnTo>
                      <a:pt x="24" y="8"/>
                    </a:lnTo>
                    <a:lnTo>
                      <a:pt x="4"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45" name=""/>
              <p:cNvSpPr/>
              <p:nvPr/>
            </p:nvSpPr>
            <p:spPr>
              <a:xfrm>
                <a:off x="7143840" y="2305080"/>
                <a:ext cx="14040" cy="14400"/>
              </a:xfrm>
              <a:custGeom>
                <a:avLst/>
                <a:gdLst/>
                <a:ahLst/>
                <a:rect l="l" t="t" r="r" b="b"/>
                <a:pathLst>
                  <a:path w="25" h="26">
                    <a:moveTo>
                      <a:pt x="7" y="26"/>
                    </a:moveTo>
                    <a:lnTo>
                      <a:pt x="0" y="20"/>
                    </a:lnTo>
                    <a:lnTo>
                      <a:pt x="2" y="12"/>
                    </a:lnTo>
                    <a:lnTo>
                      <a:pt x="6" y="5"/>
                    </a:lnTo>
                    <a:lnTo>
                      <a:pt x="13" y="0"/>
                    </a:lnTo>
                    <a:lnTo>
                      <a:pt x="23" y="5"/>
                    </a:lnTo>
                    <a:lnTo>
                      <a:pt x="25" y="13"/>
                    </a:lnTo>
                    <a:lnTo>
                      <a:pt x="23" y="19"/>
                    </a:lnTo>
                    <a:lnTo>
                      <a:pt x="18" y="23"/>
                    </a:lnTo>
                    <a:lnTo>
                      <a:pt x="7"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6" name=""/>
              <p:cNvSpPr/>
              <p:nvPr/>
            </p:nvSpPr>
            <p:spPr>
              <a:xfrm>
                <a:off x="8317080" y="2271600"/>
                <a:ext cx="9360" cy="11160"/>
              </a:xfrm>
              <a:custGeom>
                <a:avLst/>
                <a:gdLst/>
                <a:ahLst/>
                <a:rect l="l" t="t" r="r" b="b"/>
                <a:pathLst>
                  <a:path w="18" h="21">
                    <a:moveTo>
                      <a:pt x="1" y="21"/>
                    </a:moveTo>
                    <a:lnTo>
                      <a:pt x="0" y="0"/>
                    </a:lnTo>
                    <a:lnTo>
                      <a:pt x="18" y="1"/>
                    </a:lnTo>
                    <a:lnTo>
                      <a:pt x="17" y="8"/>
                    </a:lnTo>
                    <a:lnTo>
                      <a:pt x="14" y="14"/>
                    </a:lnTo>
                    <a:lnTo>
                      <a:pt x="10" y="18"/>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7" name=""/>
              <p:cNvSpPr/>
              <p:nvPr/>
            </p:nvSpPr>
            <p:spPr>
              <a:xfrm>
                <a:off x="8381880" y="2270160"/>
                <a:ext cx="9720" cy="9360"/>
              </a:xfrm>
              <a:custGeom>
                <a:avLst/>
                <a:gdLst/>
                <a:ahLst/>
                <a:rect l="l" t="t" r="r" b="b"/>
                <a:pathLst>
                  <a:path w="17" h="17">
                    <a:moveTo>
                      <a:pt x="5" y="17"/>
                    </a:moveTo>
                    <a:lnTo>
                      <a:pt x="0" y="1"/>
                    </a:lnTo>
                    <a:lnTo>
                      <a:pt x="10" y="0"/>
                    </a:lnTo>
                    <a:lnTo>
                      <a:pt x="17" y="7"/>
                    </a:lnTo>
                    <a:lnTo>
                      <a:pt x="17" y="14"/>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48" name=""/>
              <p:cNvSpPr/>
              <p:nvPr/>
            </p:nvSpPr>
            <p:spPr>
              <a:xfrm>
                <a:off x="7118280" y="2268360"/>
                <a:ext cx="11160" cy="11160"/>
              </a:xfrm>
              <a:custGeom>
                <a:avLst/>
                <a:gdLst/>
                <a:ahLst/>
                <a:rect l="l" t="t" r="r" b="b"/>
                <a:pathLst>
                  <a:path w="23" h="20">
                    <a:moveTo>
                      <a:pt x="4" y="20"/>
                    </a:moveTo>
                    <a:lnTo>
                      <a:pt x="0" y="0"/>
                    </a:lnTo>
                    <a:lnTo>
                      <a:pt x="20" y="3"/>
                    </a:lnTo>
                    <a:lnTo>
                      <a:pt x="23" y="10"/>
                    </a:lnTo>
                    <a:lnTo>
                      <a:pt x="20" y="16"/>
                    </a:lnTo>
                    <a:lnTo>
                      <a:pt x="14"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9" name=""/>
              <p:cNvSpPr/>
              <p:nvPr/>
            </p:nvSpPr>
            <p:spPr>
              <a:xfrm>
                <a:off x="8248680" y="2249640"/>
                <a:ext cx="14400" cy="9360"/>
              </a:xfrm>
              <a:custGeom>
                <a:avLst/>
                <a:gdLst/>
                <a:ahLst/>
                <a:rect l="l" t="t" r="r" b="b"/>
                <a:pathLst>
                  <a:path w="26" h="18">
                    <a:moveTo>
                      <a:pt x="7" y="18"/>
                    </a:moveTo>
                    <a:lnTo>
                      <a:pt x="0" y="8"/>
                    </a:lnTo>
                    <a:lnTo>
                      <a:pt x="4" y="2"/>
                    </a:lnTo>
                    <a:lnTo>
                      <a:pt x="11" y="0"/>
                    </a:lnTo>
                    <a:lnTo>
                      <a:pt x="20" y="3"/>
                    </a:lnTo>
                    <a:lnTo>
                      <a:pt x="26" y="8"/>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0" name=""/>
              <p:cNvSpPr/>
              <p:nvPr/>
            </p:nvSpPr>
            <p:spPr>
              <a:xfrm>
                <a:off x="7056360" y="2257560"/>
                <a:ext cx="11160" cy="12600"/>
              </a:xfrm>
              <a:custGeom>
                <a:avLst/>
                <a:gdLst/>
                <a:ahLst/>
                <a:rect l="l" t="t" r="r" b="b"/>
                <a:pathLst>
                  <a:path w="19" h="24">
                    <a:moveTo>
                      <a:pt x="3" y="24"/>
                    </a:moveTo>
                    <a:lnTo>
                      <a:pt x="0" y="17"/>
                    </a:lnTo>
                    <a:lnTo>
                      <a:pt x="2" y="10"/>
                    </a:lnTo>
                    <a:lnTo>
                      <a:pt x="8" y="3"/>
                    </a:lnTo>
                    <a:lnTo>
                      <a:pt x="13" y="0"/>
                    </a:lnTo>
                    <a:lnTo>
                      <a:pt x="19" y="4"/>
                    </a:lnTo>
                    <a:lnTo>
                      <a:pt x="19" y="13"/>
                    </a:lnTo>
                    <a:lnTo>
                      <a:pt x="13" y="21"/>
                    </a:lnTo>
                    <a:lnTo>
                      <a:pt x="3"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1" name=""/>
              <p:cNvSpPr/>
              <p:nvPr/>
            </p:nvSpPr>
            <p:spPr>
              <a:xfrm>
                <a:off x="7002360" y="2232000"/>
                <a:ext cx="12960" cy="12600"/>
              </a:xfrm>
              <a:custGeom>
                <a:avLst/>
                <a:gdLst/>
                <a:ahLst/>
                <a:rect l="l" t="t" r="r" b="b"/>
                <a:pathLst>
                  <a:path w="26" h="24">
                    <a:moveTo>
                      <a:pt x="5" y="24"/>
                    </a:moveTo>
                    <a:lnTo>
                      <a:pt x="0" y="2"/>
                    </a:lnTo>
                    <a:lnTo>
                      <a:pt x="9" y="0"/>
                    </a:lnTo>
                    <a:lnTo>
                      <a:pt x="16" y="1"/>
                    </a:lnTo>
                    <a:lnTo>
                      <a:pt x="22" y="5"/>
                    </a:lnTo>
                    <a:lnTo>
                      <a:pt x="26" y="14"/>
                    </a:lnTo>
                    <a:lnTo>
                      <a:pt x="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8170920" y="2211480"/>
                <a:ext cx="9360" cy="11160"/>
              </a:xfrm>
              <a:custGeom>
                <a:avLst/>
                <a:gdLst/>
                <a:ahLst/>
                <a:rect l="l" t="t" r="r" b="b"/>
                <a:pathLst>
                  <a:path w="19" h="22">
                    <a:moveTo>
                      <a:pt x="9" y="22"/>
                    </a:moveTo>
                    <a:lnTo>
                      <a:pt x="0" y="15"/>
                    </a:lnTo>
                    <a:lnTo>
                      <a:pt x="15" y="0"/>
                    </a:lnTo>
                    <a:lnTo>
                      <a:pt x="19" y="4"/>
                    </a:lnTo>
                    <a:lnTo>
                      <a:pt x="19" y="13"/>
                    </a:lnTo>
                    <a:lnTo>
                      <a:pt x="16" y="20"/>
                    </a:lnTo>
                    <a:lnTo>
                      <a:pt x="9"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53" name=""/>
              <p:cNvSpPr/>
              <p:nvPr/>
            </p:nvSpPr>
            <p:spPr>
              <a:xfrm>
                <a:off x="8045280" y="2203560"/>
                <a:ext cx="9720" cy="12600"/>
              </a:xfrm>
              <a:custGeom>
                <a:avLst/>
                <a:gdLst/>
                <a:ahLst/>
                <a:rect l="l" t="t" r="r" b="b"/>
                <a:pathLst>
                  <a:path w="19" h="23">
                    <a:moveTo>
                      <a:pt x="2" y="23"/>
                    </a:moveTo>
                    <a:lnTo>
                      <a:pt x="0" y="17"/>
                    </a:lnTo>
                    <a:lnTo>
                      <a:pt x="2" y="10"/>
                    </a:lnTo>
                    <a:lnTo>
                      <a:pt x="6" y="2"/>
                    </a:lnTo>
                    <a:lnTo>
                      <a:pt x="15" y="0"/>
                    </a:lnTo>
                    <a:lnTo>
                      <a:pt x="19" y="4"/>
                    </a:lnTo>
                    <a:lnTo>
                      <a:pt x="18" y="13"/>
                    </a:lnTo>
                    <a:lnTo>
                      <a:pt x="12" y="21"/>
                    </a:lnTo>
                    <a:lnTo>
                      <a:pt x="2"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4" name=""/>
              <p:cNvSpPr/>
              <p:nvPr/>
            </p:nvSpPr>
            <p:spPr>
              <a:xfrm>
                <a:off x="8396280" y="2193840"/>
                <a:ext cx="9360" cy="14400"/>
              </a:xfrm>
              <a:custGeom>
                <a:avLst/>
                <a:gdLst/>
                <a:ahLst/>
                <a:rect l="l" t="t" r="r" b="b"/>
                <a:pathLst>
                  <a:path w="17" h="27">
                    <a:moveTo>
                      <a:pt x="4" y="27"/>
                    </a:moveTo>
                    <a:lnTo>
                      <a:pt x="1" y="21"/>
                    </a:lnTo>
                    <a:lnTo>
                      <a:pt x="0" y="14"/>
                    </a:lnTo>
                    <a:lnTo>
                      <a:pt x="1" y="7"/>
                    </a:lnTo>
                    <a:lnTo>
                      <a:pt x="7" y="0"/>
                    </a:lnTo>
                    <a:lnTo>
                      <a:pt x="14" y="3"/>
                    </a:lnTo>
                    <a:lnTo>
                      <a:pt x="17" y="10"/>
                    </a:lnTo>
                    <a:lnTo>
                      <a:pt x="17" y="19"/>
                    </a:lnTo>
                    <a:lnTo>
                      <a:pt x="14" y="27"/>
                    </a:lnTo>
                    <a:lnTo>
                      <a:pt x="4"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55" name=""/>
              <p:cNvSpPr/>
              <p:nvPr/>
            </p:nvSpPr>
            <p:spPr>
              <a:xfrm>
                <a:off x="7104240" y="2200320"/>
                <a:ext cx="10800" cy="14400"/>
              </a:xfrm>
              <a:custGeom>
                <a:avLst/>
                <a:gdLst/>
                <a:ahLst/>
                <a:rect l="l" t="t" r="r" b="b"/>
                <a:pathLst>
                  <a:path w="21" h="25">
                    <a:moveTo>
                      <a:pt x="7" y="25"/>
                    </a:moveTo>
                    <a:lnTo>
                      <a:pt x="0" y="0"/>
                    </a:lnTo>
                    <a:lnTo>
                      <a:pt x="17" y="0"/>
                    </a:lnTo>
                    <a:lnTo>
                      <a:pt x="21" y="3"/>
                    </a:lnTo>
                    <a:lnTo>
                      <a:pt x="21" y="12"/>
                    </a:lnTo>
                    <a:lnTo>
                      <a:pt x="15" y="22"/>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56" name=""/>
              <p:cNvSpPr/>
              <p:nvPr/>
            </p:nvSpPr>
            <p:spPr>
              <a:xfrm>
                <a:off x="8105760" y="2189160"/>
                <a:ext cx="12600" cy="9360"/>
              </a:xfrm>
              <a:custGeom>
                <a:avLst/>
                <a:gdLst/>
                <a:ahLst/>
                <a:rect l="l" t="t" r="r" b="b"/>
                <a:pathLst>
                  <a:path w="25" h="20">
                    <a:moveTo>
                      <a:pt x="9" y="20"/>
                    </a:moveTo>
                    <a:lnTo>
                      <a:pt x="0" y="9"/>
                    </a:lnTo>
                    <a:lnTo>
                      <a:pt x="3" y="3"/>
                    </a:lnTo>
                    <a:lnTo>
                      <a:pt x="12" y="0"/>
                    </a:lnTo>
                    <a:lnTo>
                      <a:pt x="21" y="2"/>
                    </a:lnTo>
                    <a:lnTo>
                      <a:pt x="25" y="6"/>
                    </a:lnTo>
                    <a:lnTo>
                      <a:pt x="9"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7" name=""/>
              <p:cNvSpPr/>
              <p:nvPr/>
            </p:nvSpPr>
            <p:spPr>
              <a:xfrm>
                <a:off x="8340840" y="2185920"/>
                <a:ext cx="11160" cy="7920"/>
              </a:xfrm>
              <a:custGeom>
                <a:avLst/>
                <a:gdLst/>
                <a:ahLst/>
                <a:rect l="l" t="t" r="r" b="b"/>
                <a:pathLst>
                  <a:path w="19" h="16">
                    <a:moveTo>
                      <a:pt x="3" y="16"/>
                    </a:moveTo>
                    <a:lnTo>
                      <a:pt x="0" y="8"/>
                    </a:lnTo>
                    <a:lnTo>
                      <a:pt x="4" y="2"/>
                    </a:lnTo>
                    <a:lnTo>
                      <a:pt x="11" y="0"/>
                    </a:lnTo>
                    <a:lnTo>
                      <a:pt x="19" y="9"/>
                    </a:lnTo>
                    <a:lnTo>
                      <a:pt x="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58" name=""/>
              <p:cNvSpPr/>
              <p:nvPr/>
            </p:nvSpPr>
            <p:spPr>
              <a:xfrm>
                <a:off x="7931160" y="2181240"/>
                <a:ext cx="15840" cy="12600"/>
              </a:xfrm>
              <a:custGeom>
                <a:avLst/>
                <a:gdLst/>
                <a:ahLst/>
                <a:rect l="l" t="t" r="r" b="b"/>
                <a:pathLst>
                  <a:path w="29" h="22">
                    <a:moveTo>
                      <a:pt x="14" y="22"/>
                    </a:moveTo>
                    <a:lnTo>
                      <a:pt x="0" y="9"/>
                    </a:lnTo>
                    <a:lnTo>
                      <a:pt x="7" y="2"/>
                    </a:lnTo>
                    <a:lnTo>
                      <a:pt x="17" y="0"/>
                    </a:lnTo>
                    <a:lnTo>
                      <a:pt x="24" y="2"/>
                    </a:lnTo>
                    <a:lnTo>
                      <a:pt x="29" y="9"/>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9" name=""/>
              <p:cNvSpPr/>
              <p:nvPr/>
            </p:nvSpPr>
            <p:spPr>
              <a:xfrm>
                <a:off x="7991640" y="2171880"/>
                <a:ext cx="10800" cy="10800"/>
              </a:xfrm>
              <a:custGeom>
                <a:avLst/>
                <a:gdLst/>
                <a:ahLst/>
                <a:rect l="l" t="t" r="r" b="b"/>
                <a:pathLst>
                  <a:path w="22" h="22">
                    <a:moveTo>
                      <a:pt x="6" y="22"/>
                    </a:moveTo>
                    <a:lnTo>
                      <a:pt x="0" y="0"/>
                    </a:lnTo>
                    <a:lnTo>
                      <a:pt x="22" y="3"/>
                    </a:lnTo>
                    <a:lnTo>
                      <a:pt x="6"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0" name=""/>
              <p:cNvSpPr/>
              <p:nvPr/>
            </p:nvSpPr>
            <p:spPr>
              <a:xfrm>
                <a:off x="8263080" y="2163600"/>
                <a:ext cx="10800" cy="12960"/>
              </a:xfrm>
              <a:custGeom>
                <a:avLst/>
                <a:gdLst/>
                <a:ahLst/>
                <a:rect l="l" t="t" r="r" b="b"/>
                <a:pathLst>
                  <a:path w="22" h="25">
                    <a:moveTo>
                      <a:pt x="9" y="25"/>
                    </a:moveTo>
                    <a:lnTo>
                      <a:pt x="0" y="18"/>
                    </a:lnTo>
                    <a:lnTo>
                      <a:pt x="2" y="11"/>
                    </a:lnTo>
                    <a:lnTo>
                      <a:pt x="6" y="5"/>
                    </a:lnTo>
                    <a:lnTo>
                      <a:pt x="12" y="0"/>
                    </a:lnTo>
                    <a:lnTo>
                      <a:pt x="21" y="0"/>
                    </a:lnTo>
                    <a:lnTo>
                      <a:pt x="22" y="8"/>
                    </a:lnTo>
                    <a:lnTo>
                      <a:pt x="21" y="13"/>
                    </a:lnTo>
                    <a:lnTo>
                      <a:pt x="16" y="19"/>
                    </a:lnTo>
                    <a:lnTo>
                      <a:pt x="9"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1" name=""/>
              <p:cNvSpPr/>
              <p:nvPr/>
            </p:nvSpPr>
            <p:spPr>
              <a:xfrm>
                <a:off x="6997680" y="2162160"/>
                <a:ext cx="9720" cy="12600"/>
              </a:xfrm>
              <a:custGeom>
                <a:avLst/>
                <a:gdLst/>
                <a:ahLst/>
                <a:rect l="l" t="t" r="r" b="b"/>
                <a:pathLst>
                  <a:path w="17" h="23">
                    <a:moveTo>
                      <a:pt x="0" y="23"/>
                    </a:moveTo>
                    <a:lnTo>
                      <a:pt x="0" y="1"/>
                    </a:lnTo>
                    <a:lnTo>
                      <a:pt x="17" y="0"/>
                    </a:lnTo>
                    <a:lnTo>
                      <a:pt x="17" y="9"/>
                    </a:lnTo>
                    <a:lnTo>
                      <a:pt x="16" y="16"/>
                    </a:lnTo>
                    <a:lnTo>
                      <a:pt x="10" y="22"/>
                    </a:lnTo>
                    <a:lnTo>
                      <a:pt x="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62" name=""/>
              <p:cNvSpPr/>
              <p:nvPr/>
            </p:nvSpPr>
            <p:spPr>
              <a:xfrm>
                <a:off x="7826400" y="2146320"/>
                <a:ext cx="14400" cy="12600"/>
              </a:xfrm>
              <a:custGeom>
                <a:avLst/>
                <a:gdLst/>
                <a:ahLst/>
                <a:rect l="l" t="t" r="r" b="b"/>
                <a:pathLst>
                  <a:path w="25" h="25">
                    <a:moveTo>
                      <a:pt x="7" y="25"/>
                    </a:moveTo>
                    <a:lnTo>
                      <a:pt x="0" y="18"/>
                    </a:lnTo>
                    <a:lnTo>
                      <a:pt x="0" y="7"/>
                    </a:lnTo>
                    <a:lnTo>
                      <a:pt x="3" y="2"/>
                    </a:lnTo>
                    <a:lnTo>
                      <a:pt x="12" y="0"/>
                    </a:lnTo>
                    <a:lnTo>
                      <a:pt x="20" y="3"/>
                    </a:lnTo>
                    <a:lnTo>
                      <a:pt x="25" y="7"/>
                    </a:lnTo>
                    <a:lnTo>
                      <a:pt x="7"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63" name=""/>
              <p:cNvSpPr/>
              <p:nvPr/>
            </p:nvSpPr>
            <p:spPr>
              <a:xfrm>
                <a:off x="7062840" y="2154240"/>
                <a:ext cx="11160" cy="14400"/>
              </a:xfrm>
              <a:custGeom>
                <a:avLst/>
                <a:gdLst/>
                <a:ahLst/>
                <a:rect l="l" t="t" r="r" b="b"/>
                <a:pathLst>
                  <a:path w="21" h="26">
                    <a:moveTo>
                      <a:pt x="15" y="26"/>
                    </a:moveTo>
                    <a:lnTo>
                      <a:pt x="0" y="9"/>
                    </a:lnTo>
                    <a:lnTo>
                      <a:pt x="17" y="0"/>
                    </a:lnTo>
                    <a:lnTo>
                      <a:pt x="20" y="3"/>
                    </a:lnTo>
                    <a:lnTo>
                      <a:pt x="21" y="10"/>
                    </a:lnTo>
                    <a:lnTo>
                      <a:pt x="20" y="19"/>
                    </a:lnTo>
                    <a:lnTo>
                      <a:pt x="15"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4" name=""/>
              <p:cNvSpPr/>
              <p:nvPr/>
            </p:nvSpPr>
            <p:spPr>
              <a:xfrm>
                <a:off x="8194680" y="2143080"/>
                <a:ext cx="12600" cy="7920"/>
              </a:xfrm>
              <a:custGeom>
                <a:avLst/>
                <a:gdLst/>
                <a:ahLst/>
                <a:rect l="l" t="t" r="r" b="b"/>
                <a:pathLst>
                  <a:path w="24" h="16">
                    <a:moveTo>
                      <a:pt x="7" y="16"/>
                    </a:moveTo>
                    <a:lnTo>
                      <a:pt x="0" y="6"/>
                    </a:lnTo>
                    <a:lnTo>
                      <a:pt x="4" y="0"/>
                    </a:lnTo>
                    <a:lnTo>
                      <a:pt x="11" y="0"/>
                    </a:lnTo>
                    <a:lnTo>
                      <a:pt x="20" y="2"/>
                    </a:lnTo>
                    <a:lnTo>
                      <a:pt x="24" y="6"/>
                    </a:lnTo>
                    <a:lnTo>
                      <a:pt x="7"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5" name=""/>
              <p:cNvSpPr/>
              <p:nvPr/>
            </p:nvSpPr>
            <p:spPr>
              <a:xfrm>
                <a:off x="7435800" y="2062080"/>
                <a:ext cx="68400" cy="95400"/>
              </a:xfrm>
              <a:custGeom>
                <a:avLst/>
                <a:gdLst/>
                <a:ahLst/>
                <a:rect l="l" t="t" r="r" b="b"/>
                <a:pathLst>
                  <a:path w="131" h="182">
                    <a:moveTo>
                      <a:pt x="20" y="182"/>
                    </a:moveTo>
                    <a:lnTo>
                      <a:pt x="0" y="174"/>
                    </a:lnTo>
                    <a:lnTo>
                      <a:pt x="10" y="166"/>
                    </a:lnTo>
                    <a:lnTo>
                      <a:pt x="21" y="159"/>
                    </a:lnTo>
                    <a:lnTo>
                      <a:pt x="34" y="155"/>
                    </a:lnTo>
                    <a:lnTo>
                      <a:pt x="47" y="151"/>
                    </a:lnTo>
                    <a:lnTo>
                      <a:pt x="60" y="148"/>
                    </a:lnTo>
                    <a:lnTo>
                      <a:pt x="75" y="145"/>
                    </a:lnTo>
                    <a:lnTo>
                      <a:pt x="89" y="140"/>
                    </a:lnTo>
                    <a:lnTo>
                      <a:pt x="104" y="138"/>
                    </a:lnTo>
                    <a:lnTo>
                      <a:pt x="101" y="106"/>
                    </a:lnTo>
                    <a:lnTo>
                      <a:pt x="95" y="75"/>
                    </a:lnTo>
                    <a:lnTo>
                      <a:pt x="88" y="44"/>
                    </a:lnTo>
                    <a:lnTo>
                      <a:pt x="85" y="12"/>
                    </a:lnTo>
                    <a:lnTo>
                      <a:pt x="101" y="0"/>
                    </a:lnTo>
                    <a:lnTo>
                      <a:pt x="108" y="35"/>
                    </a:lnTo>
                    <a:lnTo>
                      <a:pt x="115" y="75"/>
                    </a:lnTo>
                    <a:lnTo>
                      <a:pt x="124" y="116"/>
                    </a:lnTo>
                    <a:lnTo>
                      <a:pt x="131" y="156"/>
                    </a:lnTo>
                    <a:lnTo>
                      <a:pt x="124" y="158"/>
                    </a:lnTo>
                    <a:lnTo>
                      <a:pt x="115" y="158"/>
                    </a:lnTo>
                    <a:lnTo>
                      <a:pt x="108" y="159"/>
                    </a:lnTo>
                    <a:lnTo>
                      <a:pt x="101" y="159"/>
                    </a:lnTo>
                    <a:lnTo>
                      <a:pt x="94" y="159"/>
                    </a:lnTo>
                    <a:lnTo>
                      <a:pt x="85" y="161"/>
                    </a:lnTo>
                    <a:lnTo>
                      <a:pt x="78" y="164"/>
                    </a:lnTo>
                    <a:lnTo>
                      <a:pt x="69" y="166"/>
                    </a:lnTo>
                    <a:lnTo>
                      <a:pt x="63" y="168"/>
                    </a:lnTo>
                    <a:lnTo>
                      <a:pt x="58" y="168"/>
                    </a:lnTo>
                    <a:lnTo>
                      <a:pt x="52" y="171"/>
                    </a:lnTo>
                    <a:lnTo>
                      <a:pt x="46" y="172"/>
                    </a:lnTo>
                    <a:lnTo>
                      <a:pt x="40" y="175"/>
                    </a:lnTo>
                    <a:lnTo>
                      <a:pt x="34" y="177"/>
                    </a:lnTo>
                    <a:lnTo>
                      <a:pt x="27" y="179"/>
                    </a:lnTo>
                    <a:lnTo>
                      <a:pt x="2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8055000" y="2138400"/>
                <a:ext cx="7920" cy="11160"/>
              </a:xfrm>
              <a:custGeom>
                <a:avLst/>
                <a:gdLst/>
                <a:ahLst/>
                <a:rect l="l" t="t" r="r" b="b"/>
                <a:pathLst>
                  <a:path w="14" h="21">
                    <a:moveTo>
                      <a:pt x="0" y="21"/>
                    </a:moveTo>
                    <a:lnTo>
                      <a:pt x="3" y="0"/>
                    </a:lnTo>
                    <a:lnTo>
                      <a:pt x="14" y="6"/>
                    </a:lnTo>
                    <a:lnTo>
                      <a:pt x="14" y="11"/>
                    </a:lnTo>
                    <a:lnTo>
                      <a:pt x="12" y="16"/>
                    </a:lnTo>
                    <a:lnTo>
                      <a:pt x="7"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67" name=""/>
              <p:cNvSpPr/>
              <p:nvPr/>
            </p:nvSpPr>
            <p:spPr>
              <a:xfrm>
                <a:off x="7107120" y="1995480"/>
                <a:ext cx="216000" cy="152280"/>
              </a:xfrm>
              <a:custGeom>
                <a:avLst/>
                <a:gdLst/>
                <a:ahLst/>
                <a:rect l="l" t="t" r="r" b="b"/>
                <a:pathLst>
                  <a:path w="410" h="286">
                    <a:moveTo>
                      <a:pt x="326" y="286"/>
                    </a:moveTo>
                    <a:lnTo>
                      <a:pt x="319" y="282"/>
                    </a:lnTo>
                    <a:lnTo>
                      <a:pt x="311" y="282"/>
                    </a:lnTo>
                    <a:lnTo>
                      <a:pt x="304" y="280"/>
                    </a:lnTo>
                    <a:lnTo>
                      <a:pt x="294" y="277"/>
                    </a:lnTo>
                    <a:lnTo>
                      <a:pt x="292" y="254"/>
                    </a:lnTo>
                    <a:lnTo>
                      <a:pt x="282" y="253"/>
                    </a:lnTo>
                    <a:lnTo>
                      <a:pt x="275" y="257"/>
                    </a:lnTo>
                    <a:lnTo>
                      <a:pt x="269" y="263"/>
                    </a:lnTo>
                    <a:lnTo>
                      <a:pt x="258" y="262"/>
                    </a:lnTo>
                    <a:lnTo>
                      <a:pt x="259" y="253"/>
                    </a:lnTo>
                    <a:lnTo>
                      <a:pt x="265" y="244"/>
                    </a:lnTo>
                    <a:lnTo>
                      <a:pt x="269" y="237"/>
                    </a:lnTo>
                    <a:lnTo>
                      <a:pt x="275" y="228"/>
                    </a:lnTo>
                    <a:lnTo>
                      <a:pt x="272" y="218"/>
                    </a:lnTo>
                    <a:lnTo>
                      <a:pt x="252" y="218"/>
                    </a:lnTo>
                    <a:lnTo>
                      <a:pt x="238" y="238"/>
                    </a:lnTo>
                    <a:lnTo>
                      <a:pt x="229" y="233"/>
                    </a:lnTo>
                    <a:lnTo>
                      <a:pt x="235" y="223"/>
                    </a:lnTo>
                    <a:lnTo>
                      <a:pt x="239" y="211"/>
                    </a:lnTo>
                    <a:lnTo>
                      <a:pt x="245" y="201"/>
                    </a:lnTo>
                    <a:lnTo>
                      <a:pt x="251" y="191"/>
                    </a:lnTo>
                    <a:lnTo>
                      <a:pt x="245" y="182"/>
                    </a:lnTo>
                    <a:lnTo>
                      <a:pt x="238" y="181"/>
                    </a:lnTo>
                    <a:lnTo>
                      <a:pt x="227" y="185"/>
                    </a:lnTo>
                    <a:lnTo>
                      <a:pt x="222" y="195"/>
                    </a:lnTo>
                    <a:lnTo>
                      <a:pt x="216" y="207"/>
                    </a:lnTo>
                    <a:lnTo>
                      <a:pt x="206" y="217"/>
                    </a:lnTo>
                    <a:lnTo>
                      <a:pt x="206" y="205"/>
                    </a:lnTo>
                    <a:lnTo>
                      <a:pt x="210" y="195"/>
                    </a:lnTo>
                    <a:lnTo>
                      <a:pt x="214" y="186"/>
                    </a:lnTo>
                    <a:lnTo>
                      <a:pt x="220" y="175"/>
                    </a:lnTo>
                    <a:lnTo>
                      <a:pt x="216" y="153"/>
                    </a:lnTo>
                    <a:lnTo>
                      <a:pt x="204" y="158"/>
                    </a:lnTo>
                    <a:lnTo>
                      <a:pt x="201" y="165"/>
                    </a:lnTo>
                    <a:lnTo>
                      <a:pt x="197" y="172"/>
                    </a:lnTo>
                    <a:lnTo>
                      <a:pt x="191" y="178"/>
                    </a:lnTo>
                    <a:lnTo>
                      <a:pt x="184" y="186"/>
                    </a:lnTo>
                    <a:lnTo>
                      <a:pt x="172" y="192"/>
                    </a:lnTo>
                    <a:lnTo>
                      <a:pt x="174" y="184"/>
                    </a:lnTo>
                    <a:lnTo>
                      <a:pt x="177" y="172"/>
                    </a:lnTo>
                    <a:lnTo>
                      <a:pt x="181" y="160"/>
                    </a:lnTo>
                    <a:lnTo>
                      <a:pt x="185" y="149"/>
                    </a:lnTo>
                    <a:lnTo>
                      <a:pt x="164" y="146"/>
                    </a:lnTo>
                    <a:lnTo>
                      <a:pt x="162" y="155"/>
                    </a:lnTo>
                    <a:lnTo>
                      <a:pt x="159" y="160"/>
                    </a:lnTo>
                    <a:lnTo>
                      <a:pt x="154" y="168"/>
                    </a:lnTo>
                    <a:lnTo>
                      <a:pt x="148" y="175"/>
                    </a:lnTo>
                    <a:lnTo>
                      <a:pt x="142" y="168"/>
                    </a:lnTo>
                    <a:lnTo>
                      <a:pt x="144" y="156"/>
                    </a:lnTo>
                    <a:lnTo>
                      <a:pt x="148" y="146"/>
                    </a:lnTo>
                    <a:lnTo>
                      <a:pt x="149" y="136"/>
                    </a:lnTo>
                    <a:lnTo>
                      <a:pt x="148" y="124"/>
                    </a:lnTo>
                    <a:lnTo>
                      <a:pt x="138" y="124"/>
                    </a:lnTo>
                    <a:lnTo>
                      <a:pt x="128" y="132"/>
                    </a:lnTo>
                    <a:lnTo>
                      <a:pt x="125" y="137"/>
                    </a:lnTo>
                    <a:lnTo>
                      <a:pt x="120" y="146"/>
                    </a:lnTo>
                    <a:lnTo>
                      <a:pt x="119" y="156"/>
                    </a:lnTo>
                    <a:lnTo>
                      <a:pt x="118" y="166"/>
                    </a:lnTo>
                    <a:lnTo>
                      <a:pt x="112" y="158"/>
                    </a:lnTo>
                    <a:lnTo>
                      <a:pt x="112" y="146"/>
                    </a:lnTo>
                    <a:lnTo>
                      <a:pt x="112" y="132"/>
                    </a:lnTo>
                    <a:lnTo>
                      <a:pt x="110" y="117"/>
                    </a:lnTo>
                    <a:lnTo>
                      <a:pt x="89" y="124"/>
                    </a:lnTo>
                    <a:lnTo>
                      <a:pt x="90" y="130"/>
                    </a:lnTo>
                    <a:lnTo>
                      <a:pt x="87" y="137"/>
                    </a:lnTo>
                    <a:lnTo>
                      <a:pt x="86" y="145"/>
                    </a:lnTo>
                    <a:lnTo>
                      <a:pt x="87" y="153"/>
                    </a:lnTo>
                    <a:lnTo>
                      <a:pt x="80" y="153"/>
                    </a:lnTo>
                    <a:lnTo>
                      <a:pt x="78" y="146"/>
                    </a:lnTo>
                    <a:lnTo>
                      <a:pt x="77" y="137"/>
                    </a:lnTo>
                    <a:lnTo>
                      <a:pt x="73" y="130"/>
                    </a:lnTo>
                    <a:lnTo>
                      <a:pt x="68" y="124"/>
                    </a:lnTo>
                    <a:lnTo>
                      <a:pt x="57" y="126"/>
                    </a:lnTo>
                    <a:lnTo>
                      <a:pt x="55" y="134"/>
                    </a:lnTo>
                    <a:lnTo>
                      <a:pt x="54" y="146"/>
                    </a:lnTo>
                    <a:lnTo>
                      <a:pt x="54" y="156"/>
                    </a:lnTo>
                    <a:lnTo>
                      <a:pt x="55" y="168"/>
                    </a:lnTo>
                    <a:lnTo>
                      <a:pt x="51" y="179"/>
                    </a:lnTo>
                    <a:lnTo>
                      <a:pt x="44" y="188"/>
                    </a:lnTo>
                    <a:lnTo>
                      <a:pt x="37" y="198"/>
                    </a:lnTo>
                    <a:lnTo>
                      <a:pt x="32" y="211"/>
                    </a:lnTo>
                    <a:lnTo>
                      <a:pt x="29" y="218"/>
                    </a:lnTo>
                    <a:lnTo>
                      <a:pt x="31" y="227"/>
                    </a:lnTo>
                    <a:lnTo>
                      <a:pt x="31" y="236"/>
                    </a:lnTo>
                    <a:lnTo>
                      <a:pt x="31" y="246"/>
                    </a:lnTo>
                    <a:lnTo>
                      <a:pt x="26" y="236"/>
                    </a:lnTo>
                    <a:lnTo>
                      <a:pt x="22" y="224"/>
                    </a:lnTo>
                    <a:lnTo>
                      <a:pt x="18" y="214"/>
                    </a:lnTo>
                    <a:lnTo>
                      <a:pt x="12" y="204"/>
                    </a:lnTo>
                    <a:lnTo>
                      <a:pt x="0" y="185"/>
                    </a:lnTo>
                    <a:lnTo>
                      <a:pt x="2" y="162"/>
                    </a:lnTo>
                    <a:lnTo>
                      <a:pt x="5" y="139"/>
                    </a:lnTo>
                    <a:lnTo>
                      <a:pt x="9" y="114"/>
                    </a:lnTo>
                    <a:lnTo>
                      <a:pt x="13" y="91"/>
                    </a:lnTo>
                    <a:lnTo>
                      <a:pt x="21" y="67"/>
                    </a:lnTo>
                    <a:lnTo>
                      <a:pt x="28" y="45"/>
                    </a:lnTo>
                    <a:lnTo>
                      <a:pt x="37" y="22"/>
                    </a:lnTo>
                    <a:lnTo>
                      <a:pt x="48" y="1"/>
                    </a:lnTo>
                    <a:lnTo>
                      <a:pt x="74" y="0"/>
                    </a:lnTo>
                    <a:lnTo>
                      <a:pt x="100" y="0"/>
                    </a:lnTo>
                    <a:lnTo>
                      <a:pt x="129" y="3"/>
                    </a:lnTo>
                    <a:lnTo>
                      <a:pt x="157" y="7"/>
                    </a:lnTo>
                    <a:lnTo>
                      <a:pt x="184" y="14"/>
                    </a:lnTo>
                    <a:lnTo>
                      <a:pt x="210" y="22"/>
                    </a:lnTo>
                    <a:lnTo>
                      <a:pt x="236" y="30"/>
                    </a:lnTo>
                    <a:lnTo>
                      <a:pt x="259" y="40"/>
                    </a:lnTo>
                    <a:lnTo>
                      <a:pt x="275" y="61"/>
                    </a:lnTo>
                    <a:lnTo>
                      <a:pt x="292" y="81"/>
                    </a:lnTo>
                    <a:lnTo>
                      <a:pt x="311" y="101"/>
                    </a:lnTo>
                    <a:lnTo>
                      <a:pt x="330" y="121"/>
                    </a:lnTo>
                    <a:lnTo>
                      <a:pt x="349" y="142"/>
                    </a:lnTo>
                    <a:lnTo>
                      <a:pt x="368" y="163"/>
                    </a:lnTo>
                    <a:lnTo>
                      <a:pt x="385" y="184"/>
                    </a:lnTo>
                    <a:lnTo>
                      <a:pt x="402" y="205"/>
                    </a:lnTo>
                    <a:lnTo>
                      <a:pt x="410" y="225"/>
                    </a:lnTo>
                    <a:lnTo>
                      <a:pt x="410" y="237"/>
                    </a:lnTo>
                    <a:lnTo>
                      <a:pt x="395" y="257"/>
                    </a:lnTo>
                    <a:lnTo>
                      <a:pt x="388" y="262"/>
                    </a:lnTo>
                    <a:lnTo>
                      <a:pt x="381" y="266"/>
                    </a:lnTo>
                    <a:lnTo>
                      <a:pt x="372" y="270"/>
                    </a:lnTo>
                    <a:lnTo>
                      <a:pt x="363" y="273"/>
                    </a:lnTo>
                    <a:lnTo>
                      <a:pt x="355" y="276"/>
                    </a:lnTo>
                    <a:lnTo>
                      <a:pt x="345" y="279"/>
                    </a:lnTo>
                    <a:lnTo>
                      <a:pt x="336" y="283"/>
                    </a:lnTo>
                    <a:lnTo>
                      <a:pt x="326" y="286"/>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8362800" y="2114640"/>
                <a:ext cx="11160" cy="12600"/>
              </a:xfrm>
              <a:custGeom>
                <a:avLst/>
                <a:gdLst/>
                <a:ahLst/>
                <a:rect l="l" t="t" r="r" b="b"/>
                <a:pathLst>
                  <a:path w="19" h="25">
                    <a:moveTo>
                      <a:pt x="13" y="25"/>
                    </a:moveTo>
                    <a:lnTo>
                      <a:pt x="0" y="17"/>
                    </a:lnTo>
                    <a:lnTo>
                      <a:pt x="0" y="10"/>
                    </a:lnTo>
                    <a:lnTo>
                      <a:pt x="3" y="3"/>
                    </a:lnTo>
                    <a:lnTo>
                      <a:pt x="8" y="0"/>
                    </a:lnTo>
                    <a:lnTo>
                      <a:pt x="19" y="1"/>
                    </a:lnTo>
                    <a:lnTo>
                      <a:pt x="1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69" name=""/>
              <p:cNvSpPr/>
              <p:nvPr/>
            </p:nvSpPr>
            <p:spPr>
              <a:xfrm>
                <a:off x="7891560" y="2112840"/>
                <a:ext cx="12600" cy="12960"/>
              </a:xfrm>
              <a:custGeom>
                <a:avLst/>
                <a:gdLst/>
                <a:ahLst/>
                <a:rect l="l" t="t" r="r" b="b"/>
                <a:pathLst>
                  <a:path w="22" h="23">
                    <a:moveTo>
                      <a:pt x="16" y="23"/>
                    </a:moveTo>
                    <a:lnTo>
                      <a:pt x="0" y="4"/>
                    </a:lnTo>
                    <a:lnTo>
                      <a:pt x="22" y="0"/>
                    </a:lnTo>
                    <a:lnTo>
                      <a:pt x="16"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0" name=""/>
              <p:cNvSpPr/>
              <p:nvPr/>
            </p:nvSpPr>
            <p:spPr>
              <a:xfrm>
                <a:off x="7742160" y="2092320"/>
                <a:ext cx="14400" cy="15840"/>
              </a:xfrm>
              <a:custGeom>
                <a:avLst/>
                <a:gdLst/>
                <a:ahLst/>
                <a:rect l="l" t="t" r="r" b="b"/>
                <a:pathLst>
                  <a:path w="25" h="30">
                    <a:moveTo>
                      <a:pt x="10" y="30"/>
                    </a:moveTo>
                    <a:lnTo>
                      <a:pt x="0" y="23"/>
                    </a:lnTo>
                    <a:lnTo>
                      <a:pt x="0" y="16"/>
                    </a:lnTo>
                    <a:lnTo>
                      <a:pt x="1" y="8"/>
                    </a:lnTo>
                    <a:lnTo>
                      <a:pt x="6" y="3"/>
                    </a:lnTo>
                    <a:lnTo>
                      <a:pt x="16" y="0"/>
                    </a:lnTo>
                    <a:lnTo>
                      <a:pt x="23" y="7"/>
                    </a:lnTo>
                    <a:lnTo>
                      <a:pt x="25" y="14"/>
                    </a:lnTo>
                    <a:lnTo>
                      <a:pt x="22" y="18"/>
                    </a:lnTo>
                    <a:lnTo>
                      <a:pt x="16" y="24"/>
                    </a:lnTo>
                    <a:lnTo>
                      <a:pt x="1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1" name=""/>
              <p:cNvSpPr/>
              <p:nvPr/>
            </p:nvSpPr>
            <p:spPr>
              <a:xfrm>
                <a:off x="7974000" y="2087640"/>
                <a:ext cx="7920" cy="9360"/>
              </a:xfrm>
              <a:custGeom>
                <a:avLst/>
                <a:gdLst/>
                <a:ahLst/>
                <a:rect l="l" t="t" r="r" b="b"/>
                <a:pathLst>
                  <a:path w="15" h="20">
                    <a:moveTo>
                      <a:pt x="2" y="20"/>
                    </a:moveTo>
                    <a:lnTo>
                      <a:pt x="0" y="0"/>
                    </a:lnTo>
                    <a:lnTo>
                      <a:pt x="12" y="0"/>
                    </a:lnTo>
                    <a:lnTo>
                      <a:pt x="15" y="4"/>
                    </a:lnTo>
                    <a:lnTo>
                      <a:pt x="13" y="13"/>
                    </a:lnTo>
                    <a:lnTo>
                      <a:pt x="9" y="20"/>
                    </a:lnTo>
                    <a:lnTo>
                      <a:pt x="2"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2" name=""/>
              <p:cNvSpPr/>
              <p:nvPr/>
            </p:nvSpPr>
            <p:spPr>
              <a:xfrm>
                <a:off x="8264520" y="2073240"/>
                <a:ext cx="9360" cy="14400"/>
              </a:xfrm>
              <a:custGeom>
                <a:avLst/>
                <a:gdLst/>
                <a:ahLst/>
                <a:rect l="l" t="t" r="r" b="b"/>
                <a:pathLst>
                  <a:path w="19" h="25">
                    <a:moveTo>
                      <a:pt x="3" y="25"/>
                    </a:moveTo>
                    <a:lnTo>
                      <a:pt x="0" y="19"/>
                    </a:lnTo>
                    <a:lnTo>
                      <a:pt x="1" y="11"/>
                    </a:lnTo>
                    <a:lnTo>
                      <a:pt x="7" y="5"/>
                    </a:lnTo>
                    <a:lnTo>
                      <a:pt x="13" y="0"/>
                    </a:lnTo>
                    <a:lnTo>
                      <a:pt x="19" y="6"/>
                    </a:lnTo>
                    <a:lnTo>
                      <a:pt x="17" y="15"/>
                    </a:lnTo>
                    <a:lnTo>
                      <a:pt x="10" y="22"/>
                    </a:lnTo>
                    <a:lnTo>
                      <a:pt x="3"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3" name=""/>
              <p:cNvSpPr/>
              <p:nvPr/>
            </p:nvSpPr>
            <p:spPr>
              <a:xfrm>
                <a:off x="8116920" y="2071800"/>
                <a:ext cx="9360" cy="12600"/>
              </a:xfrm>
              <a:custGeom>
                <a:avLst/>
                <a:gdLst/>
                <a:ahLst/>
                <a:rect l="l" t="t" r="r" b="b"/>
                <a:pathLst>
                  <a:path w="19" h="23">
                    <a:moveTo>
                      <a:pt x="0" y="20"/>
                    </a:moveTo>
                    <a:lnTo>
                      <a:pt x="2" y="13"/>
                    </a:lnTo>
                    <a:lnTo>
                      <a:pt x="3" y="6"/>
                    </a:lnTo>
                    <a:lnTo>
                      <a:pt x="9" y="0"/>
                    </a:lnTo>
                    <a:lnTo>
                      <a:pt x="19" y="0"/>
                    </a:lnTo>
                    <a:lnTo>
                      <a:pt x="19" y="9"/>
                    </a:lnTo>
                    <a:lnTo>
                      <a:pt x="16" y="17"/>
                    </a:lnTo>
                    <a:lnTo>
                      <a:pt x="10" y="23"/>
                    </a:lnTo>
                    <a:lnTo>
                      <a:pt x="0"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4" name=""/>
              <p:cNvSpPr/>
              <p:nvPr/>
            </p:nvSpPr>
            <p:spPr>
              <a:xfrm>
                <a:off x="7169040" y="1932120"/>
                <a:ext cx="204840" cy="160200"/>
              </a:xfrm>
              <a:custGeom>
                <a:avLst/>
                <a:gdLst/>
                <a:ahLst/>
                <a:rect l="l" t="t" r="r" b="b"/>
                <a:pathLst>
                  <a:path w="386" h="301">
                    <a:moveTo>
                      <a:pt x="309" y="301"/>
                    </a:moveTo>
                    <a:lnTo>
                      <a:pt x="311" y="293"/>
                    </a:lnTo>
                    <a:lnTo>
                      <a:pt x="312" y="286"/>
                    </a:lnTo>
                    <a:lnTo>
                      <a:pt x="315" y="279"/>
                    </a:lnTo>
                    <a:lnTo>
                      <a:pt x="318" y="269"/>
                    </a:lnTo>
                    <a:lnTo>
                      <a:pt x="311" y="263"/>
                    </a:lnTo>
                    <a:lnTo>
                      <a:pt x="304" y="265"/>
                    </a:lnTo>
                    <a:lnTo>
                      <a:pt x="298" y="270"/>
                    </a:lnTo>
                    <a:lnTo>
                      <a:pt x="291" y="276"/>
                    </a:lnTo>
                    <a:lnTo>
                      <a:pt x="283" y="273"/>
                    </a:lnTo>
                    <a:lnTo>
                      <a:pt x="282" y="265"/>
                    </a:lnTo>
                    <a:lnTo>
                      <a:pt x="285" y="259"/>
                    </a:lnTo>
                    <a:lnTo>
                      <a:pt x="288" y="252"/>
                    </a:lnTo>
                    <a:lnTo>
                      <a:pt x="289" y="241"/>
                    </a:lnTo>
                    <a:lnTo>
                      <a:pt x="280" y="239"/>
                    </a:lnTo>
                    <a:lnTo>
                      <a:pt x="273" y="239"/>
                    </a:lnTo>
                    <a:lnTo>
                      <a:pt x="266" y="243"/>
                    </a:lnTo>
                    <a:lnTo>
                      <a:pt x="256" y="247"/>
                    </a:lnTo>
                    <a:lnTo>
                      <a:pt x="259" y="237"/>
                    </a:lnTo>
                    <a:lnTo>
                      <a:pt x="262" y="227"/>
                    </a:lnTo>
                    <a:lnTo>
                      <a:pt x="266" y="214"/>
                    </a:lnTo>
                    <a:lnTo>
                      <a:pt x="270" y="202"/>
                    </a:lnTo>
                    <a:lnTo>
                      <a:pt x="260" y="201"/>
                    </a:lnTo>
                    <a:lnTo>
                      <a:pt x="254" y="205"/>
                    </a:lnTo>
                    <a:lnTo>
                      <a:pt x="249" y="211"/>
                    </a:lnTo>
                    <a:lnTo>
                      <a:pt x="240" y="214"/>
                    </a:lnTo>
                    <a:lnTo>
                      <a:pt x="244" y="189"/>
                    </a:lnTo>
                    <a:lnTo>
                      <a:pt x="236" y="187"/>
                    </a:lnTo>
                    <a:lnTo>
                      <a:pt x="230" y="189"/>
                    </a:lnTo>
                    <a:lnTo>
                      <a:pt x="223" y="194"/>
                    </a:lnTo>
                    <a:lnTo>
                      <a:pt x="213" y="198"/>
                    </a:lnTo>
                    <a:lnTo>
                      <a:pt x="211" y="191"/>
                    </a:lnTo>
                    <a:lnTo>
                      <a:pt x="213" y="184"/>
                    </a:lnTo>
                    <a:lnTo>
                      <a:pt x="217" y="176"/>
                    </a:lnTo>
                    <a:lnTo>
                      <a:pt x="221" y="169"/>
                    </a:lnTo>
                    <a:lnTo>
                      <a:pt x="226" y="158"/>
                    </a:lnTo>
                    <a:lnTo>
                      <a:pt x="220" y="152"/>
                    </a:lnTo>
                    <a:lnTo>
                      <a:pt x="213" y="153"/>
                    </a:lnTo>
                    <a:lnTo>
                      <a:pt x="205" y="158"/>
                    </a:lnTo>
                    <a:lnTo>
                      <a:pt x="197" y="159"/>
                    </a:lnTo>
                    <a:lnTo>
                      <a:pt x="204" y="136"/>
                    </a:lnTo>
                    <a:lnTo>
                      <a:pt x="197" y="132"/>
                    </a:lnTo>
                    <a:lnTo>
                      <a:pt x="189" y="136"/>
                    </a:lnTo>
                    <a:lnTo>
                      <a:pt x="182" y="142"/>
                    </a:lnTo>
                    <a:lnTo>
                      <a:pt x="175" y="145"/>
                    </a:lnTo>
                    <a:lnTo>
                      <a:pt x="175" y="132"/>
                    </a:lnTo>
                    <a:lnTo>
                      <a:pt x="179" y="120"/>
                    </a:lnTo>
                    <a:lnTo>
                      <a:pt x="184" y="108"/>
                    </a:lnTo>
                    <a:lnTo>
                      <a:pt x="182" y="93"/>
                    </a:lnTo>
                    <a:lnTo>
                      <a:pt x="172" y="93"/>
                    </a:lnTo>
                    <a:lnTo>
                      <a:pt x="163" y="101"/>
                    </a:lnTo>
                    <a:lnTo>
                      <a:pt x="158" y="108"/>
                    </a:lnTo>
                    <a:lnTo>
                      <a:pt x="153" y="116"/>
                    </a:lnTo>
                    <a:lnTo>
                      <a:pt x="143" y="126"/>
                    </a:lnTo>
                    <a:lnTo>
                      <a:pt x="139" y="119"/>
                    </a:lnTo>
                    <a:lnTo>
                      <a:pt x="139" y="111"/>
                    </a:lnTo>
                    <a:lnTo>
                      <a:pt x="142" y="104"/>
                    </a:lnTo>
                    <a:lnTo>
                      <a:pt x="143" y="95"/>
                    </a:lnTo>
                    <a:lnTo>
                      <a:pt x="147" y="85"/>
                    </a:lnTo>
                    <a:lnTo>
                      <a:pt x="134" y="78"/>
                    </a:lnTo>
                    <a:lnTo>
                      <a:pt x="124" y="85"/>
                    </a:lnTo>
                    <a:lnTo>
                      <a:pt x="121" y="88"/>
                    </a:lnTo>
                    <a:lnTo>
                      <a:pt x="120" y="95"/>
                    </a:lnTo>
                    <a:lnTo>
                      <a:pt x="116" y="104"/>
                    </a:lnTo>
                    <a:lnTo>
                      <a:pt x="108" y="111"/>
                    </a:lnTo>
                    <a:lnTo>
                      <a:pt x="100" y="106"/>
                    </a:lnTo>
                    <a:lnTo>
                      <a:pt x="104" y="95"/>
                    </a:lnTo>
                    <a:lnTo>
                      <a:pt x="104" y="87"/>
                    </a:lnTo>
                    <a:lnTo>
                      <a:pt x="106" y="78"/>
                    </a:lnTo>
                    <a:lnTo>
                      <a:pt x="111" y="72"/>
                    </a:lnTo>
                    <a:lnTo>
                      <a:pt x="100" y="68"/>
                    </a:lnTo>
                    <a:lnTo>
                      <a:pt x="93" y="69"/>
                    </a:lnTo>
                    <a:lnTo>
                      <a:pt x="87" y="75"/>
                    </a:lnTo>
                    <a:lnTo>
                      <a:pt x="84" y="84"/>
                    </a:lnTo>
                    <a:lnTo>
                      <a:pt x="78" y="93"/>
                    </a:lnTo>
                    <a:lnTo>
                      <a:pt x="75" y="82"/>
                    </a:lnTo>
                    <a:lnTo>
                      <a:pt x="78" y="72"/>
                    </a:lnTo>
                    <a:lnTo>
                      <a:pt x="79" y="64"/>
                    </a:lnTo>
                    <a:lnTo>
                      <a:pt x="74" y="56"/>
                    </a:lnTo>
                    <a:lnTo>
                      <a:pt x="68" y="64"/>
                    </a:lnTo>
                    <a:lnTo>
                      <a:pt x="61" y="71"/>
                    </a:lnTo>
                    <a:lnTo>
                      <a:pt x="53" y="80"/>
                    </a:lnTo>
                    <a:lnTo>
                      <a:pt x="48" y="94"/>
                    </a:lnTo>
                    <a:lnTo>
                      <a:pt x="38" y="95"/>
                    </a:lnTo>
                    <a:lnTo>
                      <a:pt x="38" y="88"/>
                    </a:lnTo>
                    <a:lnTo>
                      <a:pt x="38" y="80"/>
                    </a:lnTo>
                    <a:lnTo>
                      <a:pt x="36" y="71"/>
                    </a:lnTo>
                    <a:lnTo>
                      <a:pt x="30" y="64"/>
                    </a:lnTo>
                    <a:lnTo>
                      <a:pt x="20" y="68"/>
                    </a:lnTo>
                    <a:lnTo>
                      <a:pt x="20" y="78"/>
                    </a:lnTo>
                    <a:lnTo>
                      <a:pt x="19" y="88"/>
                    </a:lnTo>
                    <a:lnTo>
                      <a:pt x="9" y="93"/>
                    </a:lnTo>
                    <a:lnTo>
                      <a:pt x="0" y="87"/>
                    </a:lnTo>
                    <a:lnTo>
                      <a:pt x="1" y="69"/>
                    </a:lnTo>
                    <a:lnTo>
                      <a:pt x="4" y="54"/>
                    </a:lnTo>
                    <a:lnTo>
                      <a:pt x="7" y="39"/>
                    </a:lnTo>
                    <a:lnTo>
                      <a:pt x="9" y="22"/>
                    </a:lnTo>
                    <a:lnTo>
                      <a:pt x="14" y="17"/>
                    </a:lnTo>
                    <a:lnTo>
                      <a:pt x="22" y="13"/>
                    </a:lnTo>
                    <a:lnTo>
                      <a:pt x="29" y="7"/>
                    </a:lnTo>
                    <a:lnTo>
                      <a:pt x="38" y="2"/>
                    </a:lnTo>
                    <a:lnTo>
                      <a:pt x="56" y="2"/>
                    </a:lnTo>
                    <a:lnTo>
                      <a:pt x="75" y="0"/>
                    </a:lnTo>
                    <a:lnTo>
                      <a:pt x="94" y="0"/>
                    </a:lnTo>
                    <a:lnTo>
                      <a:pt x="114" y="0"/>
                    </a:lnTo>
                    <a:lnTo>
                      <a:pt x="134" y="0"/>
                    </a:lnTo>
                    <a:lnTo>
                      <a:pt x="155" y="2"/>
                    </a:lnTo>
                    <a:lnTo>
                      <a:pt x="175" y="4"/>
                    </a:lnTo>
                    <a:lnTo>
                      <a:pt x="195" y="9"/>
                    </a:lnTo>
                    <a:lnTo>
                      <a:pt x="200" y="13"/>
                    </a:lnTo>
                    <a:lnTo>
                      <a:pt x="207" y="20"/>
                    </a:lnTo>
                    <a:lnTo>
                      <a:pt x="214" y="26"/>
                    </a:lnTo>
                    <a:lnTo>
                      <a:pt x="223" y="29"/>
                    </a:lnTo>
                    <a:lnTo>
                      <a:pt x="239" y="46"/>
                    </a:lnTo>
                    <a:lnTo>
                      <a:pt x="254" y="62"/>
                    </a:lnTo>
                    <a:lnTo>
                      <a:pt x="272" y="80"/>
                    </a:lnTo>
                    <a:lnTo>
                      <a:pt x="289" y="97"/>
                    </a:lnTo>
                    <a:lnTo>
                      <a:pt x="307" y="114"/>
                    </a:lnTo>
                    <a:lnTo>
                      <a:pt x="324" y="132"/>
                    </a:lnTo>
                    <a:lnTo>
                      <a:pt x="343" y="150"/>
                    </a:lnTo>
                    <a:lnTo>
                      <a:pt x="361" y="171"/>
                    </a:lnTo>
                    <a:lnTo>
                      <a:pt x="369" y="185"/>
                    </a:lnTo>
                    <a:lnTo>
                      <a:pt x="374" y="200"/>
                    </a:lnTo>
                    <a:lnTo>
                      <a:pt x="382" y="215"/>
                    </a:lnTo>
                    <a:lnTo>
                      <a:pt x="386" y="233"/>
                    </a:lnTo>
                    <a:lnTo>
                      <a:pt x="382" y="254"/>
                    </a:lnTo>
                    <a:lnTo>
                      <a:pt x="380" y="263"/>
                    </a:lnTo>
                    <a:lnTo>
                      <a:pt x="377" y="270"/>
                    </a:lnTo>
                    <a:lnTo>
                      <a:pt x="372" y="278"/>
                    </a:lnTo>
                    <a:lnTo>
                      <a:pt x="363" y="285"/>
                    </a:lnTo>
                    <a:lnTo>
                      <a:pt x="356" y="289"/>
                    </a:lnTo>
                    <a:lnTo>
                      <a:pt x="348" y="292"/>
                    </a:lnTo>
                    <a:lnTo>
                      <a:pt x="343" y="293"/>
                    </a:lnTo>
                    <a:lnTo>
                      <a:pt x="337" y="295"/>
                    </a:lnTo>
                    <a:lnTo>
                      <a:pt x="331" y="296"/>
                    </a:lnTo>
                    <a:lnTo>
                      <a:pt x="324" y="296"/>
                    </a:lnTo>
                    <a:lnTo>
                      <a:pt x="317" y="298"/>
                    </a:lnTo>
                    <a:lnTo>
                      <a:pt x="309" y="301"/>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6993000" y="2082960"/>
                <a:ext cx="12600" cy="12600"/>
              </a:xfrm>
              <a:custGeom>
                <a:avLst/>
                <a:gdLst/>
                <a:ahLst/>
                <a:rect l="l" t="t" r="r" b="b"/>
                <a:pathLst>
                  <a:path w="23" h="23">
                    <a:moveTo>
                      <a:pt x="3" y="23"/>
                    </a:moveTo>
                    <a:lnTo>
                      <a:pt x="0" y="0"/>
                    </a:lnTo>
                    <a:lnTo>
                      <a:pt x="23" y="4"/>
                    </a:lnTo>
                    <a:lnTo>
                      <a:pt x="23" y="13"/>
                    </a:lnTo>
                    <a:lnTo>
                      <a:pt x="19" y="19"/>
                    </a:lnTo>
                    <a:lnTo>
                      <a:pt x="13" y="23"/>
                    </a:lnTo>
                    <a:lnTo>
                      <a:pt x="3"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6" name=""/>
              <p:cNvSpPr/>
              <p:nvPr/>
            </p:nvSpPr>
            <p:spPr>
              <a:xfrm>
                <a:off x="7861320" y="2070000"/>
                <a:ext cx="7920" cy="12960"/>
              </a:xfrm>
              <a:custGeom>
                <a:avLst/>
                <a:gdLst/>
                <a:ahLst/>
                <a:rect l="l" t="t" r="r" b="b"/>
                <a:pathLst>
                  <a:path w="16" h="26">
                    <a:moveTo>
                      <a:pt x="7" y="26"/>
                    </a:moveTo>
                    <a:lnTo>
                      <a:pt x="1" y="23"/>
                    </a:lnTo>
                    <a:lnTo>
                      <a:pt x="0" y="14"/>
                    </a:lnTo>
                    <a:lnTo>
                      <a:pt x="3" y="4"/>
                    </a:lnTo>
                    <a:lnTo>
                      <a:pt x="8" y="0"/>
                    </a:lnTo>
                    <a:lnTo>
                      <a:pt x="13" y="3"/>
                    </a:lnTo>
                    <a:lnTo>
                      <a:pt x="14" y="8"/>
                    </a:lnTo>
                    <a:lnTo>
                      <a:pt x="16" y="17"/>
                    </a:lnTo>
                    <a:lnTo>
                      <a:pt x="16" y="26"/>
                    </a:lnTo>
                    <a:lnTo>
                      <a:pt x="7" y="2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7" name=""/>
              <p:cNvSpPr/>
              <p:nvPr/>
            </p:nvSpPr>
            <p:spPr>
              <a:xfrm>
                <a:off x="8055000" y="2063880"/>
                <a:ext cx="14400" cy="9360"/>
              </a:xfrm>
              <a:custGeom>
                <a:avLst/>
                <a:gdLst/>
                <a:ahLst/>
                <a:rect l="l" t="t" r="r" b="b"/>
                <a:pathLst>
                  <a:path w="25" h="18">
                    <a:moveTo>
                      <a:pt x="9" y="18"/>
                    </a:moveTo>
                    <a:lnTo>
                      <a:pt x="0" y="0"/>
                    </a:lnTo>
                    <a:lnTo>
                      <a:pt x="22" y="3"/>
                    </a:lnTo>
                    <a:lnTo>
                      <a:pt x="25" y="9"/>
                    </a:lnTo>
                    <a:lnTo>
                      <a:pt x="22" y="13"/>
                    </a:lnTo>
                    <a:lnTo>
                      <a:pt x="15" y="16"/>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8" name=""/>
              <p:cNvSpPr/>
              <p:nvPr/>
            </p:nvSpPr>
            <p:spPr>
              <a:xfrm>
                <a:off x="8358120" y="2057400"/>
                <a:ext cx="14400" cy="9360"/>
              </a:xfrm>
              <a:custGeom>
                <a:avLst/>
                <a:gdLst/>
                <a:ahLst/>
                <a:rect l="l" t="t" r="r" b="b"/>
                <a:pathLst>
                  <a:path w="26" h="16">
                    <a:moveTo>
                      <a:pt x="9" y="16"/>
                    </a:moveTo>
                    <a:lnTo>
                      <a:pt x="0" y="4"/>
                    </a:lnTo>
                    <a:lnTo>
                      <a:pt x="4" y="0"/>
                    </a:lnTo>
                    <a:lnTo>
                      <a:pt x="13" y="0"/>
                    </a:lnTo>
                    <a:lnTo>
                      <a:pt x="22" y="3"/>
                    </a:lnTo>
                    <a:lnTo>
                      <a:pt x="26" y="10"/>
                    </a:lnTo>
                    <a:lnTo>
                      <a:pt x="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9" name=""/>
              <p:cNvSpPr/>
              <p:nvPr/>
            </p:nvSpPr>
            <p:spPr>
              <a:xfrm>
                <a:off x="7054920" y="2058840"/>
                <a:ext cx="9360" cy="11160"/>
              </a:xfrm>
              <a:custGeom>
                <a:avLst/>
                <a:gdLst/>
                <a:ahLst/>
                <a:rect l="l" t="t" r="r" b="b"/>
                <a:pathLst>
                  <a:path w="20" h="20">
                    <a:moveTo>
                      <a:pt x="4" y="20"/>
                    </a:moveTo>
                    <a:lnTo>
                      <a:pt x="0" y="0"/>
                    </a:lnTo>
                    <a:lnTo>
                      <a:pt x="20" y="0"/>
                    </a:lnTo>
                    <a:lnTo>
                      <a:pt x="20" y="7"/>
                    </a:lnTo>
                    <a:lnTo>
                      <a:pt x="18" y="14"/>
                    </a:lnTo>
                    <a:lnTo>
                      <a:pt x="13"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0" name=""/>
              <p:cNvSpPr/>
              <p:nvPr/>
            </p:nvSpPr>
            <p:spPr>
              <a:xfrm>
                <a:off x="7800840" y="2036880"/>
                <a:ext cx="12960" cy="17280"/>
              </a:xfrm>
              <a:custGeom>
                <a:avLst/>
                <a:gdLst/>
                <a:ahLst/>
                <a:rect l="l" t="t" r="r" b="b"/>
                <a:pathLst>
                  <a:path w="22" h="32">
                    <a:moveTo>
                      <a:pt x="8" y="30"/>
                    </a:moveTo>
                    <a:lnTo>
                      <a:pt x="0" y="25"/>
                    </a:lnTo>
                    <a:lnTo>
                      <a:pt x="6" y="17"/>
                    </a:lnTo>
                    <a:lnTo>
                      <a:pt x="15" y="10"/>
                    </a:lnTo>
                    <a:lnTo>
                      <a:pt x="19" y="0"/>
                    </a:lnTo>
                    <a:lnTo>
                      <a:pt x="21" y="7"/>
                    </a:lnTo>
                    <a:lnTo>
                      <a:pt x="22" y="15"/>
                    </a:lnTo>
                    <a:lnTo>
                      <a:pt x="21" y="22"/>
                    </a:lnTo>
                    <a:lnTo>
                      <a:pt x="19" y="32"/>
                    </a:lnTo>
                    <a:lnTo>
                      <a:pt x="8" y="3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1" name=""/>
              <p:cNvSpPr/>
              <p:nvPr/>
            </p:nvSpPr>
            <p:spPr>
              <a:xfrm>
                <a:off x="7937640" y="2038320"/>
                <a:ext cx="6120" cy="12600"/>
              </a:xfrm>
              <a:custGeom>
                <a:avLst/>
                <a:gdLst/>
                <a:ahLst/>
                <a:rect l="l" t="t" r="r" b="b"/>
                <a:pathLst>
                  <a:path w="13" h="22">
                    <a:moveTo>
                      <a:pt x="0" y="22"/>
                    </a:moveTo>
                    <a:lnTo>
                      <a:pt x="2" y="0"/>
                    </a:lnTo>
                    <a:lnTo>
                      <a:pt x="12" y="0"/>
                    </a:lnTo>
                    <a:lnTo>
                      <a:pt x="13" y="7"/>
                    </a:lnTo>
                    <a:lnTo>
                      <a:pt x="12" y="14"/>
                    </a:lnTo>
                    <a:lnTo>
                      <a:pt x="8" y="20"/>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82" name=""/>
              <p:cNvSpPr/>
              <p:nvPr/>
            </p:nvSpPr>
            <p:spPr>
              <a:xfrm>
                <a:off x="7684920" y="2028960"/>
                <a:ext cx="16200" cy="10800"/>
              </a:xfrm>
              <a:custGeom>
                <a:avLst/>
                <a:gdLst/>
                <a:ahLst/>
                <a:rect l="l" t="t" r="r" b="b"/>
                <a:pathLst>
                  <a:path w="30" h="22">
                    <a:moveTo>
                      <a:pt x="17" y="22"/>
                    </a:moveTo>
                    <a:lnTo>
                      <a:pt x="0" y="5"/>
                    </a:lnTo>
                    <a:lnTo>
                      <a:pt x="5" y="0"/>
                    </a:lnTo>
                    <a:lnTo>
                      <a:pt x="13" y="2"/>
                    </a:lnTo>
                    <a:lnTo>
                      <a:pt x="23" y="5"/>
                    </a:lnTo>
                    <a:lnTo>
                      <a:pt x="30" y="7"/>
                    </a:lnTo>
                    <a:lnTo>
                      <a:pt x="17"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3" name=""/>
              <p:cNvSpPr/>
              <p:nvPr/>
            </p:nvSpPr>
            <p:spPr>
              <a:xfrm>
                <a:off x="8170920" y="2023920"/>
                <a:ext cx="11160" cy="9720"/>
              </a:xfrm>
              <a:custGeom>
                <a:avLst/>
                <a:gdLst/>
                <a:ahLst/>
                <a:rect l="l" t="t" r="r" b="b"/>
                <a:pathLst>
                  <a:path w="19" h="19">
                    <a:moveTo>
                      <a:pt x="4" y="19"/>
                    </a:moveTo>
                    <a:lnTo>
                      <a:pt x="0" y="0"/>
                    </a:lnTo>
                    <a:lnTo>
                      <a:pt x="19" y="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4" name=""/>
              <p:cNvSpPr/>
              <p:nvPr/>
            </p:nvSpPr>
            <p:spPr>
              <a:xfrm>
                <a:off x="7985160" y="2014560"/>
                <a:ext cx="9360" cy="11160"/>
              </a:xfrm>
              <a:custGeom>
                <a:avLst/>
                <a:gdLst/>
                <a:ahLst/>
                <a:rect l="l" t="t" r="r" b="b"/>
                <a:pathLst>
                  <a:path w="19" h="21">
                    <a:moveTo>
                      <a:pt x="6" y="21"/>
                    </a:moveTo>
                    <a:lnTo>
                      <a:pt x="0" y="0"/>
                    </a:lnTo>
                    <a:lnTo>
                      <a:pt x="19" y="3"/>
                    </a:lnTo>
                    <a:lnTo>
                      <a:pt x="19" y="8"/>
                    </a:lnTo>
                    <a:lnTo>
                      <a:pt x="16" y="14"/>
                    </a:lnTo>
                    <a:lnTo>
                      <a:pt x="12" y="20"/>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5" name=""/>
              <p:cNvSpPr/>
              <p:nvPr/>
            </p:nvSpPr>
            <p:spPr>
              <a:xfrm>
                <a:off x="8226360" y="2009880"/>
                <a:ext cx="9720" cy="12600"/>
              </a:xfrm>
              <a:custGeom>
                <a:avLst/>
                <a:gdLst/>
                <a:ahLst/>
                <a:rect l="l" t="t" r="r" b="b"/>
                <a:pathLst>
                  <a:path w="18" h="26">
                    <a:moveTo>
                      <a:pt x="5" y="26"/>
                    </a:moveTo>
                    <a:lnTo>
                      <a:pt x="1" y="23"/>
                    </a:lnTo>
                    <a:lnTo>
                      <a:pt x="0" y="14"/>
                    </a:lnTo>
                    <a:lnTo>
                      <a:pt x="4" y="4"/>
                    </a:lnTo>
                    <a:lnTo>
                      <a:pt x="11" y="0"/>
                    </a:lnTo>
                    <a:lnTo>
                      <a:pt x="18" y="2"/>
                    </a:lnTo>
                    <a:lnTo>
                      <a:pt x="17" y="13"/>
                    </a:lnTo>
                    <a:lnTo>
                      <a:pt x="11" y="21"/>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86" name=""/>
              <p:cNvSpPr/>
              <p:nvPr/>
            </p:nvSpPr>
            <p:spPr>
              <a:xfrm>
                <a:off x="7219800" y="1860480"/>
                <a:ext cx="187560" cy="157320"/>
              </a:xfrm>
              <a:custGeom>
                <a:avLst/>
                <a:gdLst/>
                <a:ahLst/>
                <a:rect l="l" t="t" r="r" b="b"/>
                <a:pathLst>
                  <a:path w="355" h="297">
                    <a:moveTo>
                      <a:pt x="311" y="297"/>
                    </a:moveTo>
                    <a:lnTo>
                      <a:pt x="310" y="290"/>
                    </a:lnTo>
                    <a:lnTo>
                      <a:pt x="308" y="283"/>
                    </a:lnTo>
                    <a:lnTo>
                      <a:pt x="308" y="274"/>
                    </a:lnTo>
                    <a:lnTo>
                      <a:pt x="307" y="264"/>
                    </a:lnTo>
                    <a:lnTo>
                      <a:pt x="301" y="264"/>
                    </a:lnTo>
                    <a:lnTo>
                      <a:pt x="294" y="266"/>
                    </a:lnTo>
                    <a:lnTo>
                      <a:pt x="287" y="270"/>
                    </a:lnTo>
                    <a:lnTo>
                      <a:pt x="278" y="271"/>
                    </a:lnTo>
                    <a:lnTo>
                      <a:pt x="281" y="258"/>
                    </a:lnTo>
                    <a:lnTo>
                      <a:pt x="285" y="248"/>
                    </a:lnTo>
                    <a:lnTo>
                      <a:pt x="288" y="238"/>
                    </a:lnTo>
                    <a:lnTo>
                      <a:pt x="287" y="227"/>
                    </a:lnTo>
                    <a:lnTo>
                      <a:pt x="277" y="224"/>
                    </a:lnTo>
                    <a:lnTo>
                      <a:pt x="268" y="227"/>
                    </a:lnTo>
                    <a:lnTo>
                      <a:pt x="262" y="234"/>
                    </a:lnTo>
                    <a:lnTo>
                      <a:pt x="258" y="243"/>
                    </a:lnTo>
                    <a:lnTo>
                      <a:pt x="249" y="234"/>
                    </a:lnTo>
                    <a:lnTo>
                      <a:pt x="253" y="228"/>
                    </a:lnTo>
                    <a:lnTo>
                      <a:pt x="259" y="221"/>
                    </a:lnTo>
                    <a:lnTo>
                      <a:pt x="264" y="214"/>
                    </a:lnTo>
                    <a:lnTo>
                      <a:pt x="268" y="204"/>
                    </a:lnTo>
                    <a:lnTo>
                      <a:pt x="249" y="195"/>
                    </a:lnTo>
                    <a:lnTo>
                      <a:pt x="233" y="219"/>
                    </a:lnTo>
                    <a:lnTo>
                      <a:pt x="229" y="211"/>
                    </a:lnTo>
                    <a:lnTo>
                      <a:pt x="232" y="202"/>
                    </a:lnTo>
                    <a:lnTo>
                      <a:pt x="236" y="191"/>
                    </a:lnTo>
                    <a:lnTo>
                      <a:pt x="239" y="179"/>
                    </a:lnTo>
                    <a:lnTo>
                      <a:pt x="238" y="167"/>
                    </a:lnTo>
                    <a:lnTo>
                      <a:pt x="214" y="173"/>
                    </a:lnTo>
                    <a:lnTo>
                      <a:pt x="204" y="193"/>
                    </a:lnTo>
                    <a:lnTo>
                      <a:pt x="206" y="186"/>
                    </a:lnTo>
                    <a:lnTo>
                      <a:pt x="207" y="178"/>
                    </a:lnTo>
                    <a:lnTo>
                      <a:pt x="210" y="169"/>
                    </a:lnTo>
                    <a:lnTo>
                      <a:pt x="213" y="159"/>
                    </a:lnTo>
                    <a:lnTo>
                      <a:pt x="210" y="149"/>
                    </a:lnTo>
                    <a:lnTo>
                      <a:pt x="203" y="144"/>
                    </a:lnTo>
                    <a:lnTo>
                      <a:pt x="194" y="147"/>
                    </a:lnTo>
                    <a:lnTo>
                      <a:pt x="190" y="156"/>
                    </a:lnTo>
                    <a:lnTo>
                      <a:pt x="187" y="165"/>
                    </a:lnTo>
                    <a:lnTo>
                      <a:pt x="181" y="172"/>
                    </a:lnTo>
                    <a:lnTo>
                      <a:pt x="174" y="166"/>
                    </a:lnTo>
                    <a:lnTo>
                      <a:pt x="174" y="144"/>
                    </a:lnTo>
                    <a:lnTo>
                      <a:pt x="178" y="140"/>
                    </a:lnTo>
                    <a:lnTo>
                      <a:pt x="181" y="131"/>
                    </a:lnTo>
                    <a:lnTo>
                      <a:pt x="183" y="123"/>
                    </a:lnTo>
                    <a:lnTo>
                      <a:pt x="187" y="114"/>
                    </a:lnTo>
                    <a:lnTo>
                      <a:pt x="165" y="114"/>
                    </a:lnTo>
                    <a:lnTo>
                      <a:pt x="162" y="123"/>
                    </a:lnTo>
                    <a:lnTo>
                      <a:pt x="157" y="127"/>
                    </a:lnTo>
                    <a:lnTo>
                      <a:pt x="149" y="133"/>
                    </a:lnTo>
                    <a:lnTo>
                      <a:pt x="148" y="143"/>
                    </a:lnTo>
                    <a:lnTo>
                      <a:pt x="148" y="130"/>
                    </a:lnTo>
                    <a:lnTo>
                      <a:pt x="149" y="117"/>
                    </a:lnTo>
                    <a:lnTo>
                      <a:pt x="152" y="104"/>
                    </a:lnTo>
                    <a:lnTo>
                      <a:pt x="155" y="91"/>
                    </a:lnTo>
                    <a:lnTo>
                      <a:pt x="146" y="84"/>
                    </a:lnTo>
                    <a:lnTo>
                      <a:pt x="138" y="85"/>
                    </a:lnTo>
                    <a:lnTo>
                      <a:pt x="133" y="89"/>
                    </a:lnTo>
                    <a:lnTo>
                      <a:pt x="131" y="98"/>
                    </a:lnTo>
                    <a:lnTo>
                      <a:pt x="128" y="107"/>
                    </a:lnTo>
                    <a:lnTo>
                      <a:pt x="123" y="115"/>
                    </a:lnTo>
                    <a:lnTo>
                      <a:pt x="116" y="124"/>
                    </a:lnTo>
                    <a:lnTo>
                      <a:pt x="109" y="111"/>
                    </a:lnTo>
                    <a:lnTo>
                      <a:pt x="110" y="101"/>
                    </a:lnTo>
                    <a:lnTo>
                      <a:pt x="113" y="89"/>
                    </a:lnTo>
                    <a:lnTo>
                      <a:pt x="115" y="78"/>
                    </a:lnTo>
                    <a:lnTo>
                      <a:pt x="107" y="71"/>
                    </a:lnTo>
                    <a:lnTo>
                      <a:pt x="97" y="71"/>
                    </a:lnTo>
                    <a:lnTo>
                      <a:pt x="91" y="76"/>
                    </a:lnTo>
                    <a:lnTo>
                      <a:pt x="89" y="87"/>
                    </a:lnTo>
                    <a:lnTo>
                      <a:pt x="84" y="98"/>
                    </a:lnTo>
                    <a:lnTo>
                      <a:pt x="78" y="107"/>
                    </a:lnTo>
                    <a:lnTo>
                      <a:pt x="71" y="100"/>
                    </a:lnTo>
                    <a:lnTo>
                      <a:pt x="73" y="91"/>
                    </a:lnTo>
                    <a:lnTo>
                      <a:pt x="74" y="81"/>
                    </a:lnTo>
                    <a:lnTo>
                      <a:pt x="76" y="69"/>
                    </a:lnTo>
                    <a:lnTo>
                      <a:pt x="78" y="58"/>
                    </a:lnTo>
                    <a:lnTo>
                      <a:pt x="57" y="56"/>
                    </a:lnTo>
                    <a:lnTo>
                      <a:pt x="54" y="65"/>
                    </a:lnTo>
                    <a:lnTo>
                      <a:pt x="52" y="76"/>
                    </a:lnTo>
                    <a:lnTo>
                      <a:pt x="50" y="88"/>
                    </a:lnTo>
                    <a:lnTo>
                      <a:pt x="45" y="100"/>
                    </a:lnTo>
                    <a:lnTo>
                      <a:pt x="38" y="107"/>
                    </a:lnTo>
                    <a:lnTo>
                      <a:pt x="34" y="101"/>
                    </a:lnTo>
                    <a:lnTo>
                      <a:pt x="32" y="94"/>
                    </a:lnTo>
                    <a:lnTo>
                      <a:pt x="32" y="85"/>
                    </a:lnTo>
                    <a:lnTo>
                      <a:pt x="34" y="76"/>
                    </a:lnTo>
                    <a:lnTo>
                      <a:pt x="26" y="59"/>
                    </a:lnTo>
                    <a:lnTo>
                      <a:pt x="15" y="63"/>
                    </a:lnTo>
                    <a:lnTo>
                      <a:pt x="12" y="72"/>
                    </a:lnTo>
                    <a:lnTo>
                      <a:pt x="11" y="84"/>
                    </a:lnTo>
                    <a:lnTo>
                      <a:pt x="9" y="95"/>
                    </a:lnTo>
                    <a:lnTo>
                      <a:pt x="8" y="107"/>
                    </a:lnTo>
                    <a:lnTo>
                      <a:pt x="2" y="91"/>
                    </a:lnTo>
                    <a:lnTo>
                      <a:pt x="0" y="76"/>
                    </a:lnTo>
                    <a:lnTo>
                      <a:pt x="0" y="61"/>
                    </a:lnTo>
                    <a:lnTo>
                      <a:pt x="0" y="43"/>
                    </a:lnTo>
                    <a:lnTo>
                      <a:pt x="15" y="23"/>
                    </a:lnTo>
                    <a:lnTo>
                      <a:pt x="37" y="14"/>
                    </a:lnTo>
                    <a:lnTo>
                      <a:pt x="60" y="7"/>
                    </a:lnTo>
                    <a:lnTo>
                      <a:pt x="84" y="3"/>
                    </a:lnTo>
                    <a:lnTo>
                      <a:pt x="109" y="0"/>
                    </a:lnTo>
                    <a:lnTo>
                      <a:pt x="133" y="0"/>
                    </a:lnTo>
                    <a:lnTo>
                      <a:pt x="159" y="3"/>
                    </a:lnTo>
                    <a:lnTo>
                      <a:pt x="185" y="9"/>
                    </a:lnTo>
                    <a:lnTo>
                      <a:pt x="212" y="17"/>
                    </a:lnTo>
                    <a:lnTo>
                      <a:pt x="233" y="39"/>
                    </a:lnTo>
                    <a:lnTo>
                      <a:pt x="253" y="61"/>
                    </a:lnTo>
                    <a:lnTo>
                      <a:pt x="271" y="82"/>
                    </a:lnTo>
                    <a:lnTo>
                      <a:pt x="288" y="104"/>
                    </a:lnTo>
                    <a:lnTo>
                      <a:pt x="304" y="127"/>
                    </a:lnTo>
                    <a:lnTo>
                      <a:pt x="320" y="150"/>
                    </a:lnTo>
                    <a:lnTo>
                      <a:pt x="334" y="175"/>
                    </a:lnTo>
                    <a:lnTo>
                      <a:pt x="350" y="199"/>
                    </a:lnTo>
                    <a:lnTo>
                      <a:pt x="350" y="208"/>
                    </a:lnTo>
                    <a:lnTo>
                      <a:pt x="353" y="218"/>
                    </a:lnTo>
                    <a:lnTo>
                      <a:pt x="355" y="230"/>
                    </a:lnTo>
                    <a:lnTo>
                      <a:pt x="355" y="241"/>
                    </a:lnTo>
                    <a:lnTo>
                      <a:pt x="350" y="248"/>
                    </a:lnTo>
                    <a:lnTo>
                      <a:pt x="346" y="257"/>
                    </a:lnTo>
                    <a:lnTo>
                      <a:pt x="342" y="267"/>
                    </a:lnTo>
                    <a:lnTo>
                      <a:pt x="336" y="280"/>
                    </a:lnTo>
                    <a:lnTo>
                      <a:pt x="311" y="297"/>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8291520" y="1990800"/>
                <a:ext cx="11160" cy="12600"/>
              </a:xfrm>
              <a:custGeom>
                <a:avLst/>
                <a:gdLst/>
                <a:ahLst/>
                <a:rect l="l" t="t" r="r" b="b"/>
                <a:pathLst>
                  <a:path w="20" h="22">
                    <a:moveTo>
                      <a:pt x="0" y="22"/>
                    </a:moveTo>
                    <a:lnTo>
                      <a:pt x="4" y="0"/>
                    </a:lnTo>
                    <a:lnTo>
                      <a:pt x="20" y="6"/>
                    </a:lnTo>
                    <a:lnTo>
                      <a:pt x="19" y="13"/>
                    </a:lnTo>
                    <a:lnTo>
                      <a:pt x="14" y="18"/>
                    </a:lnTo>
                    <a:lnTo>
                      <a:pt x="7" y="21"/>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88" name=""/>
              <p:cNvSpPr/>
              <p:nvPr/>
            </p:nvSpPr>
            <p:spPr>
              <a:xfrm>
                <a:off x="7912080" y="1995480"/>
                <a:ext cx="12600" cy="9360"/>
              </a:xfrm>
              <a:custGeom>
                <a:avLst/>
                <a:gdLst/>
                <a:ahLst/>
                <a:rect l="l" t="t" r="r" b="b"/>
                <a:pathLst>
                  <a:path w="24" h="17">
                    <a:moveTo>
                      <a:pt x="5" y="17"/>
                    </a:moveTo>
                    <a:lnTo>
                      <a:pt x="0" y="7"/>
                    </a:lnTo>
                    <a:lnTo>
                      <a:pt x="4" y="2"/>
                    </a:lnTo>
                    <a:lnTo>
                      <a:pt x="13" y="0"/>
                    </a:lnTo>
                    <a:lnTo>
                      <a:pt x="21" y="1"/>
                    </a:lnTo>
                    <a:lnTo>
                      <a:pt x="24" y="10"/>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89" name=""/>
              <p:cNvSpPr/>
              <p:nvPr/>
            </p:nvSpPr>
            <p:spPr>
              <a:xfrm>
                <a:off x="7037280" y="1989000"/>
                <a:ext cx="14400" cy="12960"/>
              </a:xfrm>
              <a:custGeom>
                <a:avLst/>
                <a:gdLst/>
                <a:ahLst/>
                <a:rect l="l" t="t" r="r" b="b"/>
                <a:pathLst>
                  <a:path w="26" h="22">
                    <a:moveTo>
                      <a:pt x="6" y="22"/>
                    </a:moveTo>
                    <a:lnTo>
                      <a:pt x="0" y="0"/>
                    </a:lnTo>
                    <a:lnTo>
                      <a:pt x="21" y="0"/>
                    </a:lnTo>
                    <a:lnTo>
                      <a:pt x="26" y="9"/>
                    </a:lnTo>
                    <a:lnTo>
                      <a:pt x="23" y="18"/>
                    </a:lnTo>
                    <a:lnTo>
                      <a:pt x="17" y="22"/>
                    </a:lnTo>
                    <a:lnTo>
                      <a:pt x="6"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90" name=""/>
              <p:cNvSpPr/>
              <p:nvPr/>
            </p:nvSpPr>
            <p:spPr>
              <a:xfrm>
                <a:off x="7642080" y="1982880"/>
                <a:ext cx="7920" cy="11160"/>
              </a:xfrm>
              <a:custGeom>
                <a:avLst/>
                <a:gdLst/>
                <a:ahLst/>
                <a:rect l="l" t="t" r="r" b="b"/>
                <a:pathLst>
                  <a:path w="14" h="22">
                    <a:moveTo>
                      <a:pt x="1" y="22"/>
                    </a:moveTo>
                    <a:lnTo>
                      <a:pt x="0" y="0"/>
                    </a:lnTo>
                    <a:lnTo>
                      <a:pt x="11" y="0"/>
                    </a:lnTo>
                    <a:lnTo>
                      <a:pt x="14" y="6"/>
                    </a:lnTo>
                    <a:lnTo>
                      <a:pt x="13" y="13"/>
                    </a:lnTo>
                    <a:lnTo>
                      <a:pt x="8" y="19"/>
                    </a:lnTo>
                    <a:lnTo>
                      <a:pt x="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1" name=""/>
              <p:cNvSpPr/>
              <p:nvPr/>
            </p:nvSpPr>
            <p:spPr>
              <a:xfrm>
                <a:off x="6993000" y="1987560"/>
                <a:ext cx="11160" cy="12600"/>
              </a:xfrm>
              <a:custGeom>
                <a:avLst/>
                <a:gdLst/>
                <a:ahLst/>
                <a:rect l="l" t="t" r="r" b="b"/>
                <a:pathLst>
                  <a:path w="19" h="25">
                    <a:moveTo>
                      <a:pt x="9" y="25"/>
                    </a:moveTo>
                    <a:lnTo>
                      <a:pt x="2" y="22"/>
                    </a:lnTo>
                    <a:lnTo>
                      <a:pt x="0" y="13"/>
                    </a:lnTo>
                    <a:lnTo>
                      <a:pt x="3" y="4"/>
                    </a:lnTo>
                    <a:lnTo>
                      <a:pt x="8" y="0"/>
                    </a:lnTo>
                    <a:lnTo>
                      <a:pt x="16" y="3"/>
                    </a:lnTo>
                    <a:lnTo>
                      <a:pt x="19" y="10"/>
                    </a:lnTo>
                    <a:lnTo>
                      <a:pt x="15" y="19"/>
                    </a:lnTo>
                    <a:lnTo>
                      <a:pt x="9"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2" name=""/>
              <p:cNvSpPr/>
              <p:nvPr/>
            </p:nvSpPr>
            <p:spPr>
              <a:xfrm>
                <a:off x="7758000" y="1976400"/>
                <a:ext cx="11160" cy="9720"/>
              </a:xfrm>
              <a:custGeom>
                <a:avLst/>
                <a:gdLst/>
                <a:ahLst/>
                <a:rect l="l" t="t" r="r" b="b"/>
                <a:pathLst>
                  <a:path w="22" h="16">
                    <a:moveTo>
                      <a:pt x="9" y="16"/>
                    </a:moveTo>
                    <a:lnTo>
                      <a:pt x="0" y="7"/>
                    </a:lnTo>
                    <a:lnTo>
                      <a:pt x="3" y="1"/>
                    </a:lnTo>
                    <a:lnTo>
                      <a:pt x="9" y="0"/>
                    </a:lnTo>
                    <a:lnTo>
                      <a:pt x="16" y="4"/>
                    </a:lnTo>
                    <a:lnTo>
                      <a:pt x="22" y="11"/>
                    </a:lnTo>
                    <a:lnTo>
                      <a:pt x="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3" name=""/>
              <p:cNvSpPr/>
              <p:nvPr/>
            </p:nvSpPr>
            <p:spPr>
              <a:xfrm>
                <a:off x="7862760" y="1973160"/>
                <a:ext cx="6480" cy="11160"/>
              </a:xfrm>
              <a:custGeom>
                <a:avLst/>
                <a:gdLst/>
                <a:ahLst/>
                <a:rect l="l" t="t" r="r" b="b"/>
                <a:pathLst>
                  <a:path w="13" h="21">
                    <a:moveTo>
                      <a:pt x="3" y="21"/>
                    </a:moveTo>
                    <a:lnTo>
                      <a:pt x="0" y="16"/>
                    </a:lnTo>
                    <a:lnTo>
                      <a:pt x="2" y="7"/>
                    </a:lnTo>
                    <a:lnTo>
                      <a:pt x="4" y="0"/>
                    </a:lnTo>
                    <a:lnTo>
                      <a:pt x="12" y="0"/>
                    </a:lnTo>
                    <a:lnTo>
                      <a:pt x="12" y="5"/>
                    </a:lnTo>
                    <a:lnTo>
                      <a:pt x="13" y="14"/>
                    </a:lnTo>
                    <a:lnTo>
                      <a:pt x="12"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4" name=""/>
              <p:cNvSpPr/>
              <p:nvPr/>
            </p:nvSpPr>
            <p:spPr>
              <a:xfrm>
                <a:off x="8104320" y="1962000"/>
                <a:ext cx="9360" cy="11160"/>
              </a:xfrm>
              <a:custGeom>
                <a:avLst/>
                <a:gdLst/>
                <a:ahLst/>
                <a:rect l="l" t="t" r="r" b="b"/>
                <a:pathLst>
                  <a:path w="17" h="21">
                    <a:moveTo>
                      <a:pt x="3" y="21"/>
                    </a:moveTo>
                    <a:lnTo>
                      <a:pt x="0" y="13"/>
                    </a:lnTo>
                    <a:lnTo>
                      <a:pt x="1" y="6"/>
                    </a:lnTo>
                    <a:lnTo>
                      <a:pt x="9" y="0"/>
                    </a:lnTo>
                    <a:lnTo>
                      <a:pt x="17" y="0"/>
                    </a:lnTo>
                    <a:lnTo>
                      <a:pt x="17" y="8"/>
                    </a:lnTo>
                    <a:lnTo>
                      <a:pt x="14" y="15"/>
                    </a:lnTo>
                    <a:lnTo>
                      <a:pt x="10"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5" name=""/>
              <p:cNvSpPr/>
              <p:nvPr/>
            </p:nvSpPr>
            <p:spPr>
              <a:xfrm>
                <a:off x="8045280" y="1962000"/>
                <a:ext cx="12960" cy="9720"/>
              </a:xfrm>
              <a:custGeom>
                <a:avLst/>
                <a:gdLst/>
                <a:ahLst/>
                <a:rect l="l" t="t" r="r" b="b"/>
                <a:pathLst>
                  <a:path w="25" h="20">
                    <a:moveTo>
                      <a:pt x="12" y="20"/>
                    </a:moveTo>
                    <a:lnTo>
                      <a:pt x="0" y="1"/>
                    </a:lnTo>
                    <a:lnTo>
                      <a:pt x="22" y="0"/>
                    </a:lnTo>
                    <a:lnTo>
                      <a:pt x="25" y="6"/>
                    </a:lnTo>
                    <a:lnTo>
                      <a:pt x="23" y="12"/>
                    </a:lnTo>
                    <a:lnTo>
                      <a:pt x="19" y="16"/>
                    </a:lnTo>
                    <a:lnTo>
                      <a:pt x="12"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6" name=""/>
              <p:cNvSpPr/>
              <p:nvPr/>
            </p:nvSpPr>
            <p:spPr>
              <a:xfrm>
                <a:off x="8244000" y="1954080"/>
                <a:ext cx="11160" cy="12960"/>
              </a:xfrm>
              <a:custGeom>
                <a:avLst/>
                <a:gdLst/>
                <a:ahLst/>
                <a:rect l="l" t="t" r="r" b="b"/>
                <a:pathLst>
                  <a:path w="21" h="23">
                    <a:moveTo>
                      <a:pt x="7" y="23"/>
                    </a:moveTo>
                    <a:lnTo>
                      <a:pt x="0" y="0"/>
                    </a:lnTo>
                    <a:lnTo>
                      <a:pt x="21" y="7"/>
                    </a:lnTo>
                    <a:lnTo>
                      <a:pt x="7"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97" name=""/>
              <p:cNvSpPr/>
              <p:nvPr/>
            </p:nvSpPr>
            <p:spPr>
              <a:xfrm>
                <a:off x="8161200" y="1954080"/>
                <a:ext cx="11160" cy="11160"/>
              </a:xfrm>
              <a:custGeom>
                <a:avLst/>
                <a:gdLst/>
                <a:ahLst/>
                <a:rect l="l" t="t" r="r" b="b"/>
                <a:pathLst>
                  <a:path w="21" h="19">
                    <a:moveTo>
                      <a:pt x="13" y="19"/>
                    </a:moveTo>
                    <a:lnTo>
                      <a:pt x="0" y="7"/>
                    </a:lnTo>
                    <a:lnTo>
                      <a:pt x="21" y="0"/>
                    </a:lnTo>
                    <a:lnTo>
                      <a:pt x="1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8" name=""/>
              <p:cNvSpPr/>
              <p:nvPr/>
            </p:nvSpPr>
            <p:spPr>
              <a:xfrm>
                <a:off x="8366040" y="1951200"/>
                <a:ext cx="7920" cy="10800"/>
              </a:xfrm>
              <a:custGeom>
                <a:avLst/>
                <a:gdLst/>
                <a:ahLst/>
                <a:rect l="l" t="t" r="r" b="b"/>
                <a:pathLst>
                  <a:path w="17" h="19">
                    <a:moveTo>
                      <a:pt x="0" y="19"/>
                    </a:moveTo>
                    <a:lnTo>
                      <a:pt x="0" y="0"/>
                    </a:lnTo>
                    <a:lnTo>
                      <a:pt x="17" y="12"/>
                    </a:lnTo>
                    <a:lnTo>
                      <a:pt x="0" y="1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9" name=""/>
              <p:cNvSpPr/>
              <p:nvPr/>
            </p:nvSpPr>
            <p:spPr>
              <a:xfrm>
                <a:off x="7804080" y="1943280"/>
                <a:ext cx="9720" cy="1080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0" name=""/>
              <p:cNvSpPr/>
              <p:nvPr/>
            </p:nvSpPr>
            <p:spPr>
              <a:xfrm>
                <a:off x="7319880" y="1824120"/>
                <a:ext cx="127080" cy="123840"/>
              </a:xfrm>
              <a:custGeom>
                <a:avLst/>
                <a:gdLst/>
                <a:ahLst/>
                <a:rect l="l" t="t" r="r" b="b"/>
                <a:pathLst>
                  <a:path w="240" h="233">
                    <a:moveTo>
                      <a:pt x="210" y="233"/>
                    </a:moveTo>
                    <a:lnTo>
                      <a:pt x="207" y="224"/>
                    </a:lnTo>
                    <a:lnTo>
                      <a:pt x="199" y="222"/>
                    </a:lnTo>
                    <a:lnTo>
                      <a:pt x="191" y="225"/>
                    </a:lnTo>
                    <a:lnTo>
                      <a:pt x="181" y="227"/>
                    </a:lnTo>
                    <a:lnTo>
                      <a:pt x="178" y="221"/>
                    </a:lnTo>
                    <a:lnTo>
                      <a:pt x="182" y="214"/>
                    </a:lnTo>
                    <a:lnTo>
                      <a:pt x="186" y="207"/>
                    </a:lnTo>
                    <a:lnTo>
                      <a:pt x="192" y="199"/>
                    </a:lnTo>
                    <a:lnTo>
                      <a:pt x="199" y="189"/>
                    </a:lnTo>
                    <a:lnTo>
                      <a:pt x="188" y="182"/>
                    </a:lnTo>
                    <a:lnTo>
                      <a:pt x="181" y="183"/>
                    </a:lnTo>
                    <a:lnTo>
                      <a:pt x="176" y="186"/>
                    </a:lnTo>
                    <a:lnTo>
                      <a:pt x="169" y="191"/>
                    </a:lnTo>
                    <a:lnTo>
                      <a:pt x="159" y="196"/>
                    </a:lnTo>
                    <a:lnTo>
                      <a:pt x="159" y="189"/>
                    </a:lnTo>
                    <a:lnTo>
                      <a:pt x="162" y="179"/>
                    </a:lnTo>
                    <a:lnTo>
                      <a:pt x="168" y="172"/>
                    </a:lnTo>
                    <a:lnTo>
                      <a:pt x="173" y="165"/>
                    </a:lnTo>
                    <a:lnTo>
                      <a:pt x="181" y="155"/>
                    </a:lnTo>
                    <a:lnTo>
                      <a:pt x="173" y="152"/>
                    </a:lnTo>
                    <a:lnTo>
                      <a:pt x="168" y="152"/>
                    </a:lnTo>
                    <a:lnTo>
                      <a:pt x="160" y="155"/>
                    </a:lnTo>
                    <a:lnTo>
                      <a:pt x="150" y="157"/>
                    </a:lnTo>
                    <a:lnTo>
                      <a:pt x="150" y="149"/>
                    </a:lnTo>
                    <a:lnTo>
                      <a:pt x="152" y="142"/>
                    </a:lnTo>
                    <a:lnTo>
                      <a:pt x="155" y="134"/>
                    </a:lnTo>
                    <a:lnTo>
                      <a:pt x="159" y="129"/>
                    </a:lnTo>
                    <a:lnTo>
                      <a:pt x="153" y="120"/>
                    </a:lnTo>
                    <a:lnTo>
                      <a:pt x="147" y="121"/>
                    </a:lnTo>
                    <a:lnTo>
                      <a:pt x="142" y="126"/>
                    </a:lnTo>
                    <a:lnTo>
                      <a:pt x="134" y="124"/>
                    </a:lnTo>
                    <a:lnTo>
                      <a:pt x="134" y="117"/>
                    </a:lnTo>
                    <a:lnTo>
                      <a:pt x="137" y="110"/>
                    </a:lnTo>
                    <a:lnTo>
                      <a:pt x="137" y="103"/>
                    </a:lnTo>
                    <a:lnTo>
                      <a:pt x="131" y="95"/>
                    </a:lnTo>
                    <a:lnTo>
                      <a:pt x="124" y="100"/>
                    </a:lnTo>
                    <a:lnTo>
                      <a:pt x="116" y="105"/>
                    </a:lnTo>
                    <a:lnTo>
                      <a:pt x="107" y="113"/>
                    </a:lnTo>
                    <a:lnTo>
                      <a:pt x="100" y="124"/>
                    </a:lnTo>
                    <a:lnTo>
                      <a:pt x="100" y="111"/>
                    </a:lnTo>
                    <a:lnTo>
                      <a:pt x="102" y="98"/>
                    </a:lnTo>
                    <a:lnTo>
                      <a:pt x="105" y="85"/>
                    </a:lnTo>
                    <a:lnTo>
                      <a:pt x="107" y="69"/>
                    </a:lnTo>
                    <a:lnTo>
                      <a:pt x="98" y="72"/>
                    </a:lnTo>
                    <a:lnTo>
                      <a:pt x="91" y="78"/>
                    </a:lnTo>
                    <a:lnTo>
                      <a:pt x="85" y="84"/>
                    </a:lnTo>
                    <a:lnTo>
                      <a:pt x="76" y="90"/>
                    </a:lnTo>
                    <a:lnTo>
                      <a:pt x="76" y="79"/>
                    </a:lnTo>
                    <a:lnTo>
                      <a:pt x="78" y="68"/>
                    </a:lnTo>
                    <a:lnTo>
                      <a:pt x="81" y="58"/>
                    </a:lnTo>
                    <a:lnTo>
                      <a:pt x="89" y="48"/>
                    </a:lnTo>
                    <a:lnTo>
                      <a:pt x="81" y="42"/>
                    </a:lnTo>
                    <a:lnTo>
                      <a:pt x="71" y="40"/>
                    </a:lnTo>
                    <a:lnTo>
                      <a:pt x="63" y="43"/>
                    </a:lnTo>
                    <a:lnTo>
                      <a:pt x="59" y="49"/>
                    </a:lnTo>
                    <a:lnTo>
                      <a:pt x="55" y="56"/>
                    </a:lnTo>
                    <a:lnTo>
                      <a:pt x="48" y="66"/>
                    </a:lnTo>
                    <a:lnTo>
                      <a:pt x="48" y="58"/>
                    </a:lnTo>
                    <a:lnTo>
                      <a:pt x="50" y="52"/>
                    </a:lnTo>
                    <a:lnTo>
                      <a:pt x="53" y="45"/>
                    </a:lnTo>
                    <a:lnTo>
                      <a:pt x="56" y="33"/>
                    </a:lnTo>
                    <a:lnTo>
                      <a:pt x="48" y="30"/>
                    </a:lnTo>
                    <a:lnTo>
                      <a:pt x="42" y="33"/>
                    </a:lnTo>
                    <a:lnTo>
                      <a:pt x="35" y="40"/>
                    </a:lnTo>
                    <a:lnTo>
                      <a:pt x="27" y="49"/>
                    </a:lnTo>
                    <a:lnTo>
                      <a:pt x="22" y="49"/>
                    </a:lnTo>
                    <a:lnTo>
                      <a:pt x="16" y="48"/>
                    </a:lnTo>
                    <a:lnTo>
                      <a:pt x="9" y="46"/>
                    </a:lnTo>
                    <a:lnTo>
                      <a:pt x="0" y="42"/>
                    </a:lnTo>
                    <a:lnTo>
                      <a:pt x="16" y="33"/>
                    </a:lnTo>
                    <a:lnTo>
                      <a:pt x="32" y="26"/>
                    </a:lnTo>
                    <a:lnTo>
                      <a:pt x="49" y="17"/>
                    </a:lnTo>
                    <a:lnTo>
                      <a:pt x="68" y="10"/>
                    </a:lnTo>
                    <a:lnTo>
                      <a:pt x="87" y="6"/>
                    </a:lnTo>
                    <a:lnTo>
                      <a:pt x="107" y="1"/>
                    </a:lnTo>
                    <a:lnTo>
                      <a:pt x="127" y="0"/>
                    </a:lnTo>
                    <a:lnTo>
                      <a:pt x="149" y="1"/>
                    </a:lnTo>
                    <a:lnTo>
                      <a:pt x="165" y="19"/>
                    </a:lnTo>
                    <a:lnTo>
                      <a:pt x="179" y="39"/>
                    </a:lnTo>
                    <a:lnTo>
                      <a:pt x="192" y="61"/>
                    </a:lnTo>
                    <a:lnTo>
                      <a:pt x="202" y="84"/>
                    </a:lnTo>
                    <a:lnTo>
                      <a:pt x="212" y="110"/>
                    </a:lnTo>
                    <a:lnTo>
                      <a:pt x="221" y="136"/>
                    </a:lnTo>
                    <a:lnTo>
                      <a:pt x="231" y="162"/>
                    </a:lnTo>
                    <a:lnTo>
                      <a:pt x="240" y="189"/>
                    </a:lnTo>
                    <a:lnTo>
                      <a:pt x="238" y="196"/>
                    </a:lnTo>
                    <a:lnTo>
                      <a:pt x="237" y="205"/>
                    </a:lnTo>
                    <a:lnTo>
                      <a:pt x="234" y="212"/>
                    </a:lnTo>
                    <a:lnTo>
                      <a:pt x="227" y="220"/>
                    </a:lnTo>
                    <a:lnTo>
                      <a:pt x="210" y="233"/>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601040" y="1930320"/>
                <a:ext cx="7920" cy="11160"/>
              </a:xfrm>
              <a:custGeom>
                <a:avLst/>
                <a:gdLst/>
                <a:ahLst/>
                <a:rect l="l" t="t" r="r" b="b"/>
                <a:pathLst>
                  <a:path w="13" h="20">
                    <a:moveTo>
                      <a:pt x="0" y="20"/>
                    </a:moveTo>
                    <a:lnTo>
                      <a:pt x="1" y="0"/>
                    </a:lnTo>
                    <a:lnTo>
                      <a:pt x="8" y="3"/>
                    </a:lnTo>
                    <a:lnTo>
                      <a:pt x="13" y="7"/>
                    </a:lnTo>
                    <a:lnTo>
                      <a:pt x="13" y="15"/>
                    </a:lnTo>
                    <a:lnTo>
                      <a:pt x="10"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2" name=""/>
              <p:cNvSpPr/>
              <p:nvPr/>
            </p:nvSpPr>
            <p:spPr>
              <a:xfrm>
                <a:off x="7705800" y="1920960"/>
                <a:ext cx="9360" cy="14040"/>
              </a:xfrm>
              <a:custGeom>
                <a:avLst/>
                <a:gdLst/>
                <a:ahLst/>
                <a:rect l="l" t="t" r="r" b="b"/>
                <a:pathLst>
                  <a:path w="17" h="28">
                    <a:moveTo>
                      <a:pt x="7" y="28"/>
                    </a:moveTo>
                    <a:lnTo>
                      <a:pt x="0" y="25"/>
                    </a:lnTo>
                    <a:lnTo>
                      <a:pt x="1" y="16"/>
                    </a:lnTo>
                    <a:lnTo>
                      <a:pt x="5" y="8"/>
                    </a:lnTo>
                    <a:lnTo>
                      <a:pt x="8" y="0"/>
                    </a:lnTo>
                    <a:lnTo>
                      <a:pt x="16" y="5"/>
                    </a:lnTo>
                    <a:lnTo>
                      <a:pt x="17" y="13"/>
                    </a:lnTo>
                    <a:lnTo>
                      <a:pt x="13" y="24"/>
                    </a:lnTo>
                    <a:lnTo>
                      <a:pt x="7"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03" name=""/>
              <p:cNvSpPr/>
              <p:nvPr/>
            </p:nvSpPr>
            <p:spPr>
              <a:xfrm>
                <a:off x="7991640" y="1909800"/>
                <a:ext cx="7920" cy="11160"/>
              </a:xfrm>
              <a:custGeom>
                <a:avLst/>
                <a:gdLst/>
                <a:ahLst/>
                <a:rect l="l" t="t" r="r" b="b"/>
                <a:pathLst>
                  <a:path w="17" h="20">
                    <a:moveTo>
                      <a:pt x="0" y="20"/>
                    </a:moveTo>
                    <a:lnTo>
                      <a:pt x="2" y="0"/>
                    </a:lnTo>
                    <a:lnTo>
                      <a:pt x="14" y="0"/>
                    </a:lnTo>
                    <a:lnTo>
                      <a:pt x="17" y="9"/>
                    </a:lnTo>
                    <a:lnTo>
                      <a:pt x="15" y="16"/>
                    </a:lnTo>
                    <a:lnTo>
                      <a:pt x="8"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4" name=""/>
              <p:cNvSpPr/>
              <p:nvPr/>
            </p:nvSpPr>
            <p:spPr>
              <a:xfrm>
                <a:off x="7869240" y="1909800"/>
                <a:ext cx="14400" cy="9360"/>
              </a:xfrm>
              <a:custGeom>
                <a:avLst/>
                <a:gdLst/>
                <a:ahLst/>
                <a:rect l="l" t="t" r="r" b="b"/>
                <a:pathLst>
                  <a:path w="27" h="18">
                    <a:moveTo>
                      <a:pt x="3" y="18"/>
                    </a:moveTo>
                    <a:lnTo>
                      <a:pt x="0" y="6"/>
                    </a:lnTo>
                    <a:lnTo>
                      <a:pt x="4" y="2"/>
                    </a:lnTo>
                    <a:lnTo>
                      <a:pt x="10" y="0"/>
                    </a:lnTo>
                    <a:lnTo>
                      <a:pt x="18" y="2"/>
                    </a:lnTo>
                    <a:lnTo>
                      <a:pt x="26" y="5"/>
                    </a:lnTo>
                    <a:lnTo>
                      <a:pt x="27" y="12"/>
                    </a:lnTo>
                    <a:lnTo>
                      <a:pt x="20" y="15"/>
                    </a:lnTo>
                    <a:lnTo>
                      <a:pt x="10" y="16"/>
                    </a:lnTo>
                    <a:lnTo>
                      <a:pt x="3"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5" name=""/>
              <p:cNvSpPr/>
              <p:nvPr/>
            </p:nvSpPr>
            <p:spPr>
              <a:xfrm>
                <a:off x="7062840" y="1913040"/>
                <a:ext cx="9360" cy="11160"/>
              </a:xfrm>
              <a:custGeom>
                <a:avLst/>
                <a:gdLst/>
                <a:ahLst/>
                <a:rect l="l" t="t" r="r" b="b"/>
                <a:pathLst>
                  <a:path w="16" h="21">
                    <a:moveTo>
                      <a:pt x="0" y="21"/>
                    </a:moveTo>
                    <a:lnTo>
                      <a:pt x="0" y="0"/>
                    </a:lnTo>
                    <a:lnTo>
                      <a:pt x="16" y="5"/>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6" name=""/>
              <p:cNvSpPr/>
              <p:nvPr/>
            </p:nvSpPr>
            <p:spPr>
              <a:xfrm>
                <a:off x="7935840" y="1900080"/>
                <a:ext cx="7920" cy="11160"/>
              </a:xfrm>
              <a:custGeom>
                <a:avLst/>
                <a:gdLst/>
                <a:ahLst/>
                <a:rect l="l" t="t" r="r" b="b"/>
                <a:pathLst>
                  <a:path w="16" h="22">
                    <a:moveTo>
                      <a:pt x="3" y="21"/>
                    </a:moveTo>
                    <a:lnTo>
                      <a:pt x="0" y="15"/>
                    </a:lnTo>
                    <a:lnTo>
                      <a:pt x="2" y="8"/>
                    </a:lnTo>
                    <a:lnTo>
                      <a:pt x="6" y="2"/>
                    </a:lnTo>
                    <a:lnTo>
                      <a:pt x="13" y="0"/>
                    </a:lnTo>
                    <a:lnTo>
                      <a:pt x="16" y="6"/>
                    </a:lnTo>
                    <a:lnTo>
                      <a:pt x="15" y="16"/>
                    </a:lnTo>
                    <a:lnTo>
                      <a:pt x="11" y="22"/>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7" name=""/>
              <p:cNvSpPr/>
              <p:nvPr/>
            </p:nvSpPr>
            <p:spPr>
              <a:xfrm>
                <a:off x="8121600" y="1893960"/>
                <a:ext cx="11160" cy="11160"/>
              </a:xfrm>
              <a:custGeom>
                <a:avLst/>
                <a:gdLst/>
                <a:ahLst/>
                <a:rect l="l" t="t" r="r" b="b"/>
                <a:pathLst>
                  <a:path w="22" h="20">
                    <a:moveTo>
                      <a:pt x="6" y="20"/>
                    </a:moveTo>
                    <a:lnTo>
                      <a:pt x="0" y="0"/>
                    </a:lnTo>
                    <a:lnTo>
                      <a:pt x="22" y="4"/>
                    </a:lnTo>
                    <a:lnTo>
                      <a:pt x="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8" name=""/>
              <p:cNvSpPr/>
              <p:nvPr/>
            </p:nvSpPr>
            <p:spPr>
              <a:xfrm>
                <a:off x="8188200" y="1890720"/>
                <a:ext cx="7920" cy="14400"/>
              </a:xfrm>
              <a:custGeom>
                <a:avLst/>
                <a:gdLst/>
                <a:ahLst/>
                <a:rect l="l" t="t" r="r" b="b"/>
                <a:pathLst>
                  <a:path w="16" h="25">
                    <a:moveTo>
                      <a:pt x="4" y="25"/>
                    </a:moveTo>
                    <a:lnTo>
                      <a:pt x="0" y="20"/>
                    </a:lnTo>
                    <a:lnTo>
                      <a:pt x="0" y="12"/>
                    </a:lnTo>
                    <a:lnTo>
                      <a:pt x="3" y="4"/>
                    </a:lnTo>
                    <a:lnTo>
                      <a:pt x="11" y="0"/>
                    </a:lnTo>
                    <a:lnTo>
                      <a:pt x="16" y="6"/>
                    </a:lnTo>
                    <a:lnTo>
                      <a:pt x="16" y="12"/>
                    </a:lnTo>
                    <a:lnTo>
                      <a:pt x="11" y="19"/>
                    </a:lnTo>
                    <a:lnTo>
                      <a:pt x="4"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09" name=""/>
              <p:cNvSpPr/>
              <p:nvPr/>
            </p:nvSpPr>
            <p:spPr>
              <a:xfrm>
                <a:off x="8323200" y="1889280"/>
                <a:ext cx="11160" cy="10800"/>
              </a:xfrm>
              <a:custGeom>
                <a:avLst/>
                <a:gdLst/>
                <a:ahLst/>
                <a:rect l="l" t="t" r="r" b="b"/>
                <a:pathLst>
                  <a:path w="20" h="21">
                    <a:moveTo>
                      <a:pt x="2" y="21"/>
                    </a:moveTo>
                    <a:lnTo>
                      <a:pt x="0" y="0"/>
                    </a:lnTo>
                    <a:lnTo>
                      <a:pt x="20" y="4"/>
                    </a:lnTo>
                    <a:lnTo>
                      <a:pt x="2"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10" name=""/>
              <p:cNvSpPr/>
              <p:nvPr/>
            </p:nvSpPr>
            <p:spPr>
              <a:xfrm>
                <a:off x="6991200" y="1889280"/>
                <a:ext cx="17640" cy="12600"/>
              </a:xfrm>
              <a:custGeom>
                <a:avLst/>
                <a:gdLst/>
                <a:ahLst/>
                <a:rect l="l" t="t" r="r" b="b"/>
                <a:pathLst>
                  <a:path w="34" h="23">
                    <a:moveTo>
                      <a:pt x="5" y="23"/>
                    </a:moveTo>
                    <a:lnTo>
                      <a:pt x="1" y="20"/>
                    </a:lnTo>
                    <a:lnTo>
                      <a:pt x="0" y="13"/>
                    </a:lnTo>
                    <a:lnTo>
                      <a:pt x="2" y="5"/>
                    </a:lnTo>
                    <a:lnTo>
                      <a:pt x="7" y="0"/>
                    </a:lnTo>
                    <a:lnTo>
                      <a:pt x="14" y="2"/>
                    </a:lnTo>
                    <a:lnTo>
                      <a:pt x="21" y="5"/>
                    </a:lnTo>
                    <a:lnTo>
                      <a:pt x="27" y="10"/>
                    </a:lnTo>
                    <a:lnTo>
                      <a:pt x="34" y="16"/>
                    </a:lnTo>
                    <a:lnTo>
                      <a:pt x="31" y="22"/>
                    </a:lnTo>
                    <a:lnTo>
                      <a:pt x="24" y="23"/>
                    </a:lnTo>
                    <a:lnTo>
                      <a:pt x="14" y="22"/>
                    </a:lnTo>
                    <a:lnTo>
                      <a:pt x="5"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7121520" y="1886040"/>
                <a:ext cx="11160" cy="12600"/>
              </a:xfrm>
              <a:custGeom>
                <a:avLst/>
                <a:gdLst/>
                <a:ahLst/>
                <a:rect l="l" t="t" r="r" b="b"/>
                <a:pathLst>
                  <a:path w="22" h="25">
                    <a:moveTo>
                      <a:pt x="3" y="25"/>
                    </a:moveTo>
                    <a:lnTo>
                      <a:pt x="0" y="3"/>
                    </a:lnTo>
                    <a:lnTo>
                      <a:pt x="10" y="0"/>
                    </a:lnTo>
                    <a:lnTo>
                      <a:pt x="22" y="17"/>
                    </a:lnTo>
                    <a:lnTo>
                      <a:pt x="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2" name=""/>
              <p:cNvSpPr/>
              <p:nvPr/>
            </p:nvSpPr>
            <p:spPr>
              <a:xfrm>
                <a:off x="8053560" y="1873080"/>
                <a:ext cx="10800" cy="11160"/>
              </a:xfrm>
              <a:custGeom>
                <a:avLst/>
                <a:gdLst/>
                <a:ahLst/>
                <a:rect l="l" t="t" r="r" b="b"/>
                <a:pathLst>
                  <a:path w="21" h="21">
                    <a:moveTo>
                      <a:pt x="11" y="21"/>
                    </a:moveTo>
                    <a:lnTo>
                      <a:pt x="0" y="13"/>
                    </a:lnTo>
                    <a:lnTo>
                      <a:pt x="14" y="0"/>
                    </a:lnTo>
                    <a:lnTo>
                      <a:pt x="18" y="5"/>
                    </a:lnTo>
                    <a:lnTo>
                      <a:pt x="21" y="12"/>
                    </a:lnTo>
                    <a:lnTo>
                      <a:pt x="18" y="19"/>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3" name=""/>
              <p:cNvSpPr/>
              <p:nvPr/>
            </p:nvSpPr>
            <p:spPr>
              <a:xfrm>
                <a:off x="8367840" y="1862280"/>
                <a:ext cx="12600" cy="10800"/>
              </a:xfrm>
              <a:custGeom>
                <a:avLst/>
                <a:gdLst/>
                <a:ahLst/>
                <a:rect l="l" t="t" r="r" b="b"/>
                <a:pathLst>
                  <a:path w="25" h="21">
                    <a:moveTo>
                      <a:pt x="6" y="21"/>
                    </a:moveTo>
                    <a:lnTo>
                      <a:pt x="0" y="10"/>
                    </a:lnTo>
                    <a:lnTo>
                      <a:pt x="3" y="4"/>
                    </a:lnTo>
                    <a:lnTo>
                      <a:pt x="9" y="1"/>
                    </a:lnTo>
                    <a:lnTo>
                      <a:pt x="16" y="0"/>
                    </a:lnTo>
                    <a:lnTo>
                      <a:pt x="25" y="1"/>
                    </a:lnTo>
                    <a:lnTo>
                      <a:pt x="25" y="7"/>
                    </a:lnTo>
                    <a:lnTo>
                      <a:pt x="22" y="13"/>
                    </a:lnTo>
                    <a:lnTo>
                      <a:pt x="16" y="19"/>
                    </a:lnTo>
                    <a:lnTo>
                      <a:pt x="6"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14" name=""/>
              <p:cNvSpPr/>
              <p:nvPr/>
            </p:nvSpPr>
            <p:spPr>
              <a:xfrm>
                <a:off x="7672320" y="1870200"/>
                <a:ext cx="7920" cy="11160"/>
              </a:xfrm>
              <a:custGeom>
                <a:avLst/>
                <a:gdLst/>
                <a:ahLst/>
                <a:rect l="l" t="t" r="r" b="b"/>
                <a:pathLst>
                  <a:path w="17" h="19">
                    <a:moveTo>
                      <a:pt x="2" y="19"/>
                    </a:moveTo>
                    <a:lnTo>
                      <a:pt x="0" y="0"/>
                    </a:lnTo>
                    <a:lnTo>
                      <a:pt x="17" y="2"/>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8269200" y="1859040"/>
                <a:ext cx="11160" cy="12600"/>
              </a:xfrm>
              <a:custGeom>
                <a:avLst/>
                <a:gdLst/>
                <a:ahLst/>
                <a:rect l="l" t="t" r="r" b="b"/>
                <a:pathLst>
                  <a:path w="19" h="25">
                    <a:moveTo>
                      <a:pt x="6" y="25"/>
                    </a:moveTo>
                    <a:lnTo>
                      <a:pt x="0" y="20"/>
                    </a:lnTo>
                    <a:lnTo>
                      <a:pt x="0" y="12"/>
                    </a:lnTo>
                    <a:lnTo>
                      <a:pt x="3" y="4"/>
                    </a:lnTo>
                    <a:lnTo>
                      <a:pt x="9" y="0"/>
                    </a:lnTo>
                    <a:lnTo>
                      <a:pt x="15" y="4"/>
                    </a:lnTo>
                    <a:lnTo>
                      <a:pt x="19" y="13"/>
                    </a:lnTo>
                    <a:lnTo>
                      <a:pt x="18" y="22"/>
                    </a:lnTo>
                    <a:lnTo>
                      <a:pt x="6"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6" name=""/>
              <p:cNvSpPr/>
              <p:nvPr/>
            </p:nvSpPr>
            <p:spPr>
              <a:xfrm>
                <a:off x="7758000" y="1859040"/>
                <a:ext cx="11160" cy="9360"/>
              </a:xfrm>
              <a:custGeom>
                <a:avLst/>
                <a:gdLst/>
                <a:ahLst/>
                <a:rect l="l" t="t" r="r" b="b"/>
                <a:pathLst>
                  <a:path w="23" h="19">
                    <a:moveTo>
                      <a:pt x="7" y="15"/>
                    </a:moveTo>
                    <a:lnTo>
                      <a:pt x="0" y="8"/>
                    </a:lnTo>
                    <a:lnTo>
                      <a:pt x="20" y="0"/>
                    </a:lnTo>
                    <a:lnTo>
                      <a:pt x="23" y="8"/>
                    </a:lnTo>
                    <a:lnTo>
                      <a:pt x="21" y="15"/>
                    </a:lnTo>
                    <a:lnTo>
                      <a:pt x="15" y="19"/>
                    </a:lnTo>
                    <a:lnTo>
                      <a:pt x="7"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7" name=""/>
              <p:cNvSpPr/>
              <p:nvPr/>
            </p:nvSpPr>
            <p:spPr>
              <a:xfrm>
                <a:off x="7575480" y="1844640"/>
                <a:ext cx="9720" cy="14400"/>
              </a:xfrm>
              <a:custGeom>
                <a:avLst/>
                <a:gdLst/>
                <a:ahLst/>
                <a:rect l="l" t="t" r="r" b="b"/>
                <a:pathLst>
                  <a:path w="17" h="28">
                    <a:moveTo>
                      <a:pt x="6" y="28"/>
                    </a:moveTo>
                    <a:lnTo>
                      <a:pt x="0" y="24"/>
                    </a:lnTo>
                    <a:lnTo>
                      <a:pt x="0" y="17"/>
                    </a:lnTo>
                    <a:lnTo>
                      <a:pt x="4" y="8"/>
                    </a:lnTo>
                    <a:lnTo>
                      <a:pt x="6" y="0"/>
                    </a:lnTo>
                    <a:lnTo>
                      <a:pt x="14" y="0"/>
                    </a:lnTo>
                    <a:lnTo>
                      <a:pt x="17" y="7"/>
                    </a:lnTo>
                    <a:lnTo>
                      <a:pt x="17" y="15"/>
                    </a:lnTo>
                    <a:lnTo>
                      <a:pt x="11" y="24"/>
                    </a:lnTo>
                    <a:lnTo>
                      <a:pt x="6" y="2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8" name=""/>
              <p:cNvSpPr/>
              <p:nvPr/>
            </p:nvSpPr>
            <p:spPr>
              <a:xfrm>
                <a:off x="7904160" y="1844640"/>
                <a:ext cx="6480" cy="9720"/>
              </a:xfrm>
              <a:custGeom>
                <a:avLst/>
                <a:gdLst/>
                <a:ahLst/>
                <a:rect l="l" t="t" r="r" b="b"/>
                <a:pathLst>
                  <a:path w="13" h="18">
                    <a:moveTo>
                      <a:pt x="0" y="18"/>
                    </a:moveTo>
                    <a:lnTo>
                      <a:pt x="1" y="0"/>
                    </a:lnTo>
                    <a:lnTo>
                      <a:pt x="11" y="1"/>
                    </a:lnTo>
                    <a:lnTo>
                      <a:pt x="13" y="7"/>
                    </a:lnTo>
                    <a:lnTo>
                      <a:pt x="8" y="15"/>
                    </a:lnTo>
                    <a:lnTo>
                      <a:pt x="0"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19" name=""/>
              <p:cNvSpPr/>
              <p:nvPr/>
            </p:nvSpPr>
            <p:spPr>
              <a:xfrm>
                <a:off x="7493040" y="1847880"/>
                <a:ext cx="17280" cy="11160"/>
              </a:xfrm>
              <a:custGeom>
                <a:avLst/>
                <a:gdLst/>
                <a:ahLst/>
                <a:rect l="l" t="t" r="r" b="b"/>
                <a:pathLst>
                  <a:path w="33" h="19">
                    <a:moveTo>
                      <a:pt x="10" y="19"/>
                    </a:moveTo>
                    <a:lnTo>
                      <a:pt x="0" y="3"/>
                    </a:lnTo>
                    <a:lnTo>
                      <a:pt x="8" y="0"/>
                    </a:lnTo>
                    <a:lnTo>
                      <a:pt x="17" y="0"/>
                    </a:lnTo>
                    <a:lnTo>
                      <a:pt x="26" y="0"/>
                    </a:lnTo>
                    <a:lnTo>
                      <a:pt x="33" y="3"/>
                    </a:lnTo>
                    <a:lnTo>
                      <a:pt x="10"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0" name=""/>
              <p:cNvSpPr/>
              <p:nvPr/>
            </p:nvSpPr>
            <p:spPr>
              <a:xfrm>
                <a:off x="7840800" y="1843200"/>
                <a:ext cx="7920" cy="11160"/>
              </a:xfrm>
              <a:custGeom>
                <a:avLst/>
                <a:gdLst/>
                <a:ahLst/>
                <a:rect l="l" t="t" r="r" b="b"/>
                <a:pathLst>
                  <a:path w="17" h="21">
                    <a:moveTo>
                      <a:pt x="5" y="21"/>
                    </a:moveTo>
                    <a:lnTo>
                      <a:pt x="0" y="17"/>
                    </a:lnTo>
                    <a:lnTo>
                      <a:pt x="3" y="10"/>
                    </a:lnTo>
                    <a:lnTo>
                      <a:pt x="10" y="4"/>
                    </a:lnTo>
                    <a:lnTo>
                      <a:pt x="17" y="0"/>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1" name=""/>
              <p:cNvSpPr/>
              <p:nvPr/>
            </p:nvSpPr>
            <p:spPr>
              <a:xfrm>
                <a:off x="8031240" y="1832040"/>
                <a:ext cx="11160" cy="14400"/>
              </a:xfrm>
              <a:custGeom>
                <a:avLst/>
                <a:gdLst/>
                <a:ahLst/>
                <a:rect l="l" t="t" r="r" b="b"/>
                <a:pathLst>
                  <a:path w="20" h="26">
                    <a:moveTo>
                      <a:pt x="6" y="26"/>
                    </a:moveTo>
                    <a:lnTo>
                      <a:pt x="0" y="22"/>
                    </a:lnTo>
                    <a:lnTo>
                      <a:pt x="2" y="13"/>
                    </a:lnTo>
                    <a:lnTo>
                      <a:pt x="6" y="4"/>
                    </a:lnTo>
                    <a:lnTo>
                      <a:pt x="12" y="0"/>
                    </a:lnTo>
                    <a:lnTo>
                      <a:pt x="18" y="4"/>
                    </a:lnTo>
                    <a:lnTo>
                      <a:pt x="20" y="13"/>
                    </a:lnTo>
                    <a:lnTo>
                      <a:pt x="16" y="22"/>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2" name=""/>
              <p:cNvSpPr/>
              <p:nvPr/>
            </p:nvSpPr>
            <p:spPr>
              <a:xfrm>
                <a:off x="8172360" y="1828800"/>
                <a:ext cx="11160" cy="11160"/>
              </a:xfrm>
              <a:custGeom>
                <a:avLst/>
                <a:gdLst/>
                <a:ahLst/>
                <a:rect l="l" t="t" r="r" b="b"/>
                <a:pathLst>
                  <a:path w="20" h="21">
                    <a:moveTo>
                      <a:pt x="11" y="21"/>
                    </a:moveTo>
                    <a:lnTo>
                      <a:pt x="0" y="13"/>
                    </a:lnTo>
                    <a:lnTo>
                      <a:pt x="1" y="5"/>
                    </a:lnTo>
                    <a:lnTo>
                      <a:pt x="7" y="1"/>
                    </a:lnTo>
                    <a:lnTo>
                      <a:pt x="14" y="0"/>
                    </a:lnTo>
                    <a:lnTo>
                      <a:pt x="20" y="3"/>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3" name=""/>
              <p:cNvSpPr/>
              <p:nvPr/>
            </p:nvSpPr>
            <p:spPr>
              <a:xfrm>
                <a:off x="7969320" y="1828800"/>
                <a:ext cx="11160" cy="7920"/>
              </a:xfrm>
              <a:custGeom>
                <a:avLst/>
                <a:gdLst/>
                <a:ahLst/>
                <a:rect l="l" t="t" r="r" b="b"/>
                <a:pathLst>
                  <a:path w="23" h="16">
                    <a:moveTo>
                      <a:pt x="13" y="16"/>
                    </a:moveTo>
                    <a:lnTo>
                      <a:pt x="0" y="0"/>
                    </a:lnTo>
                    <a:lnTo>
                      <a:pt x="23" y="0"/>
                    </a:lnTo>
                    <a:lnTo>
                      <a:pt x="1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4" name=""/>
              <p:cNvSpPr/>
              <p:nvPr/>
            </p:nvSpPr>
            <p:spPr>
              <a:xfrm>
                <a:off x="8102520" y="1822320"/>
                <a:ext cx="11160" cy="11160"/>
              </a:xfrm>
              <a:custGeom>
                <a:avLst/>
                <a:gdLst/>
                <a:ahLst/>
                <a:rect l="l" t="t" r="r" b="b"/>
                <a:pathLst>
                  <a:path w="19" h="20">
                    <a:moveTo>
                      <a:pt x="3" y="19"/>
                    </a:moveTo>
                    <a:lnTo>
                      <a:pt x="0" y="12"/>
                    </a:lnTo>
                    <a:lnTo>
                      <a:pt x="2" y="4"/>
                    </a:lnTo>
                    <a:lnTo>
                      <a:pt x="7" y="0"/>
                    </a:lnTo>
                    <a:lnTo>
                      <a:pt x="16" y="0"/>
                    </a:lnTo>
                    <a:lnTo>
                      <a:pt x="19" y="9"/>
                    </a:lnTo>
                    <a:lnTo>
                      <a:pt x="17" y="16"/>
                    </a:lnTo>
                    <a:lnTo>
                      <a:pt x="12" y="20"/>
                    </a:lnTo>
                    <a:lnTo>
                      <a:pt x="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5" name=""/>
              <p:cNvSpPr/>
              <p:nvPr/>
            </p:nvSpPr>
            <p:spPr>
              <a:xfrm>
                <a:off x="7140600" y="1824120"/>
                <a:ext cx="12600" cy="15840"/>
              </a:xfrm>
              <a:custGeom>
                <a:avLst/>
                <a:gdLst/>
                <a:ahLst/>
                <a:rect l="l" t="t" r="r" b="b"/>
                <a:pathLst>
                  <a:path w="26" h="29">
                    <a:moveTo>
                      <a:pt x="7" y="29"/>
                    </a:moveTo>
                    <a:lnTo>
                      <a:pt x="1" y="23"/>
                    </a:lnTo>
                    <a:lnTo>
                      <a:pt x="0" y="16"/>
                    </a:lnTo>
                    <a:lnTo>
                      <a:pt x="2" y="7"/>
                    </a:lnTo>
                    <a:lnTo>
                      <a:pt x="7" y="0"/>
                    </a:lnTo>
                    <a:lnTo>
                      <a:pt x="26" y="12"/>
                    </a:lnTo>
                    <a:lnTo>
                      <a:pt x="7"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6" name=""/>
              <p:cNvSpPr/>
              <p:nvPr/>
            </p:nvSpPr>
            <p:spPr>
              <a:xfrm>
                <a:off x="7716960" y="1798560"/>
                <a:ext cx="11160" cy="11160"/>
              </a:xfrm>
              <a:custGeom>
                <a:avLst/>
                <a:gdLst/>
                <a:ahLst/>
                <a:rect l="l" t="t" r="r" b="b"/>
                <a:pathLst>
                  <a:path w="20" h="23">
                    <a:moveTo>
                      <a:pt x="6" y="23"/>
                    </a:moveTo>
                    <a:lnTo>
                      <a:pt x="0" y="19"/>
                    </a:lnTo>
                    <a:lnTo>
                      <a:pt x="0" y="11"/>
                    </a:lnTo>
                    <a:lnTo>
                      <a:pt x="6" y="3"/>
                    </a:lnTo>
                    <a:lnTo>
                      <a:pt x="14" y="0"/>
                    </a:lnTo>
                    <a:lnTo>
                      <a:pt x="20" y="4"/>
                    </a:lnTo>
                    <a:lnTo>
                      <a:pt x="19" y="11"/>
                    </a:lnTo>
                    <a:lnTo>
                      <a:pt x="11" y="19"/>
                    </a:lnTo>
                    <a:lnTo>
                      <a:pt x="6"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7" name=""/>
              <p:cNvSpPr/>
              <p:nvPr/>
            </p:nvSpPr>
            <p:spPr>
              <a:xfrm>
                <a:off x="7056360" y="1806480"/>
                <a:ext cx="12600" cy="11160"/>
              </a:xfrm>
              <a:custGeom>
                <a:avLst/>
                <a:gdLst/>
                <a:ahLst/>
                <a:rect l="l" t="t" r="r" b="b"/>
                <a:pathLst>
                  <a:path w="23" h="21">
                    <a:moveTo>
                      <a:pt x="6" y="21"/>
                    </a:moveTo>
                    <a:lnTo>
                      <a:pt x="0" y="3"/>
                    </a:lnTo>
                    <a:lnTo>
                      <a:pt x="7" y="0"/>
                    </a:lnTo>
                    <a:lnTo>
                      <a:pt x="14" y="1"/>
                    </a:lnTo>
                    <a:lnTo>
                      <a:pt x="20" y="7"/>
                    </a:lnTo>
                    <a:lnTo>
                      <a:pt x="23" y="14"/>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8" name=""/>
              <p:cNvSpPr/>
              <p:nvPr/>
            </p:nvSpPr>
            <p:spPr>
              <a:xfrm>
                <a:off x="8304120" y="1790640"/>
                <a:ext cx="11160" cy="9720"/>
              </a:xfrm>
              <a:custGeom>
                <a:avLst/>
                <a:gdLst/>
                <a:ahLst/>
                <a:rect l="l" t="t" r="r" b="b"/>
                <a:pathLst>
                  <a:path w="21" h="19">
                    <a:moveTo>
                      <a:pt x="0" y="19"/>
                    </a:moveTo>
                    <a:lnTo>
                      <a:pt x="2" y="0"/>
                    </a:lnTo>
                    <a:lnTo>
                      <a:pt x="21" y="10"/>
                    </a:lnTo>
                    <a:lnTo>
                      <a:pt x="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29" name=""/>
              <p:cNvSpPr/>
              <p:nvPr/>
            </p:nvSpPr>
            <p:spPr>
              <a:xfrm>
                <a:off x="7013520" y="1801800"/>
                <a:ext cx="11160" cy="12600"/>
              </a:xfrm>
              <a:custGeom>
                <a:avLst/>
                <a:gdLst/>
                <a:ahLst/>
                <a:rect l="l" t="t" r="r" b="b"/>
                <a:pathLst>
                  <a:path w="20" h="23">
                    <a:moveTo>
                      <a:pt x="1" y="23"/>
                    </a:moveTo>
                    <a:lnTo>
                      <a:pt x="0" y="16"/>
                    </a:lnTo>
                    <a:lnTo>
                      <a:pt x="1" y="10"/>
                    </a:lnTo>
                    <a:lnTo>
                      <a:pt x="9" y="4"/>
                    </a:lnTo>
                    <a:lnTo>
                      <a:pt x="17" y="0"/>
                    </a:lnTo>
                    <a:lnTo>
                      <a:pt x="20" y="22"/>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30" name=""/>
              <p:cNvSpPr/>
              <p:nvPr/>
            </p:nvSpPr>
            <p:spPr>
              <a:xfrm>
                <a:off x="7864560" y="1793880"/>
                <a:ext cx="11160" cy="7920"/>
              </a:xfrm>
              <a:custGeom>
                <a:avLst/>
                <a:gdLst/>
                <a:ahLst/>
                <a:rect l="l" t="t" r="r" b="b"/>
                <a:pathLst>
                  <a:path w="21" h="14">
                    <a:moveTo>
                      <a:pt x="12" y="14"/>
                    </a:moveTo>
                    <a:lnTo>
                      <a:pt x="0" y="0"/>
                    </a:lnTo>
                    <a:lnTo>
                      <a:pt x="21" y="0"/>
                    </a:lnTo>
                    <a:lnTo>
                      <a:pt x="12"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1" name=""/>
              <p:cNvSpPr/>
              <p:nvPr/>
            </p:nvSpPr>
            <p:spPr>
              <a:xfrm>
                <a:off x="8366040" y="1784520"/>
                <a:ext cx="12960" cy="12600"/>
              </a:xfrm>
              <a:custGeom>
                <a:avLst/>
                <a:gdLst/>
                <a:ahLst/>
                <a:rect l="l" t="t" r="r" b="b"/>
                <a:pathLst>
                  <a:path w="23" h="22">
                    <a:moveTo>
                      <a:pt x="14" y="22"/>
                    </a:moveTo>
                    <a:lnTo>
                      <a:pt x="0" y="9"/>
                    </a:lnTo>
                    <a:lnTo>
                      <a:pt x="4" y="2"/>
                    </a:lnTo>
                    <a:lnTo>
                      <a:pt x="11" y="0"/>
                    </a:lnTo>
                    <a:lnTo>
                      <a:pt x="20" y="5"/>
                    </a:lnTo>
                    <a:lnTo>
                      <a:pt x="23" y="10"/>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32" name=""/>
              <p:cNvSpPr/>
              <p:nvPr/>
            </p:nvSpPr>
            <p:spPr>
              <a:xfrm>
                <a:off x="7202520" y="1798560"/>
                <a:ext cx="9360" cy="12600"/>
              </a:xfrm>
              <a:custGeom>
                <a:avLst/>
                <a:gdLst/>
                <a:ahLst/>
                <a:rect l="l" t="t" r="r" b="b"/>
                <a:pathLst>
                  <a:path w="20" h="23">
                    <a:moveTo>
                      <a:pt x="0" y="22"/>
                    </a:moveTo>
                    <a:lnTo>
                      <a:pt x="1" y="0"/>
                    </a:lnTo>
                    <a:lnTo>
                      <a:pt x="8" y="2"/>
                    </a:lnTo>
                    <a:lnTo>
                      <a:pt x="13" y="6"/>
                    </a:lnTo>
                    <a:lnTo>
                      <a:pt x="17" y="13"/>
                    </a:lnTo>
                    <a:lnTo>
                      <a:pt x="20" y="23"/>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33" name=""/>
              <p:cNvSpPr/>
              <p:nvPr/>
            </p:nvSpPr>
            <p:spPr>
              <a:xfrm>
                <a:off x="8213760" y="1779480"/>
                <a:ext cx="11160" cy="12960"/>
              </a:xfrm>
              <a:custGeom>
                <a:avLst/>
                <a:gdLst/>
                <a:ahLst/>
                <a:rect l="l" t="t" r="r" b="b"/>
                <a:pathLst>
                  <a:path w="21" h="25">
                    <a:moveTo>
                      <a:pt x="5" y="25"/>
                    </a:moveTo>
                    <a:lnTo>
                      <a:pt x="0" y="17"/>
                    </a:lnTo>
                    <a:lnTo>
                      <a:pt x="2" y="10"/>
                    </a:lnTo>
                    <a:lnTo>
                      <a:pt x="8" y="4"/>
                    </a:lnTo>
                    <a:lnTo>
                      <a:pt x="16" y="0"/>
                    </a:lnTo>
                    <a:lnTo>
                      <a:pt x="21" y="19"/>
                    </a:lnTo>
                    <a:lnTo>
                      <a:pt x="5"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34" name=""/>
              <p:cNvSpPr/>
              <p:nvPr/>
            </p:nvSpPr>
            <p:spPr>
              <a:xfrm>
                <a:off x="7624800" y="1785960"/>
                <a:ext cx="11160" cy="9360"/>
              </a:xfrm>
              <a:custGeom>
                <a:avLst/>
                <a:gdLst/>
                <a:ahLst/>
                <a:rect l="l" t="t" r="r" b="b"/>
                <a:pathLst>
                  <a:path w="23" h="17">
                    <a:moveTo>
                      <a:pt x="11" y="17"/>
                    </a:moveTo>
                    <a:lnTo>
                      <a:pt x="0" y="10"/>
                    </a:lnTo>
                    <a:lnTo>
                      <a:pt x="3" y="2"/>
                    </a:lnTo>
                    <a:lnTo>
                      <a:pt x="10" y="0"/>
                    </a:lnTo>
                    <a:lnTo>
                      <a:pt x="17" y="3"/>
                    </a:lnTo>
                    <a:lnTo>
                      <a:pt x="23" y="7"/>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5" name=""/>
              <p:cNvSpPr/>
              <p:nvPr/>
            </p:nvSpPr>
            <p:spPr>
              <a:xfrm>
                <a:off x="7291440" y="1785960"/>
                <a:ext cx="9360" cy="12600"/>
              </a:xfrm>
              <a:custGeom>
                <a:avLst/>
                <a:gdLst/>
                <a:ahLst/>
                <a:rect l="l" t="t" r="r" b="b"/>
                <a:pathLst>
                  <a:path w="17" h="22">
                    <a:moveTo>
                      <a:pt x="1" y="22"/>
                    </a:moveTo>
                    <a:lnTo>
                      <a:pt x="0" y="0"/>
                    </a:lnTo>
                    <a:lnTo>
                      <a:pt x="17" y="4"/>
                    </a:lnTo>
                    <a:lnTo>
                      <a:pt x="17" y="12"/>
                    </a:lnTo>
                    <a:lnTo>
                      <a:pt x="14" y="17"/>
                    </a:lnTo>
                    <a:lnTo>
                      <a:pt x="9" y="20"/>
                    </a:lnTo>
                    <a:lnTo>
                      <a:pt x="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36" name=""/>
              <p:cNvSpPr/>
              <p:nvPr/>
            </p:nvSpPr>
            <p:spPr>
              <a:xfrm>
                <a:off x="8082000" y="1776240"/>
                <a:ext cx="9360" cy="9720"/>
              </a:xfrm>
              <a:custGeom>
                <a:avLst/>
                <a:gdLst/>
                <a:ahLst/>
                <a:rect l="l" t="t" r="r" b="b"/>
                <a:pathLst>
                  <a:path w="18" h="19">
                    <a:moveTo>
                      <a:pt x="10" y="19"/>
                    </a:moveTo>
                    <a:lnTo>
                      <a:pt x="0" y="13"/>
                    </a:lnTo>
                    <a:lnTo>
                      <a:pt x="1" y="6"/>
                    </a:lnTo>
                    <a:lnTo>
                      <a:pt x="7" y="2"/>
                    </a:lnTo>
                    <a:lnTo>
                      <a:pt x="13" y="0"/>
                    </a:lnTo>
                    <a:lnTo>
                      <a:pt x="18" y="3"/>
                    </a:lnTo>
                    <a:lnTo>
                      <a:pt x="1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7" name=""/>
              <p:cNvSpPr/>
              <p:nvPr/>
            </p:nvSpPr>
            <p:spPr>
              <a:xfrm>
                <a:off x="7458120" y="1782720"/>
                <a:ext cx="9360" cy="11160"/>
              </a:xfrm>
              <a:custGeom>
                <a:avLst/>
                <a:gdLst/>
                <a:ahLst/>
                <a:rect l="l" t="t" r="r" b="b"/>
                <a:pathLst>
                  <a:path w="20" h="21">
                    <a:moveTo>
                      <a:pt x="0" y="21"/>
                    </a:moveTo>
                    <a:lnTo>
                      <a:pt x="0" y="0"/>
                    </a:lnTo>
                    <a:lnTo>
                      <a:pt x="20" y="3"/>
                    </a:lnTo>
                    <a:lnTo>
                      <a:pt x="18" y="10"/>
                    </a:lnTo>
                    <a:lnTo>
                      <a:pt x="16" y="16"/>
                    </a:lnTo>
                    <a:lnTo>
                      <a:pt x="8"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8" name=""/>
              <p:cNvSpPr/>
              <p:nvPr/>
            </p:nvSpPr>
            <p:spPr>
              <a:xfrm>
                <a:off x="7932600" y="1776240"/>
                <a:ext cx="12960" cy="9720"/>
              </a:xfrm>
              <a:custGeom>
                <a:avLst/>
                <a:gdLst/>
                <a:ahLst/>
                <a:rect l="l" t="t" r="r" b="b"/>
                <a:pathLst>
                  <a:path w="22" h="19">
                    <a:moveTo>
                      <a:pt x="7" y="19"/>
                    </a:moveTo>
                    <a:lnTo>
                      <a:pt x="0" y="11"/>
                    </a:lnTo>
                    <a:lnTo>
                      <a:pt x="2" y="4"/>
                    </a:lnTo>
                    <a:lnTo>
                      <a:pt x="6" y="0"/>
                    </a:lnTo>
                    <a:lnTo>
                      <a:pt x="13" y="0"/>
                    </a:lnTo>
                    <a:lnTo>
                      <a:pt x="22" y="3"/>
                    </a:lnTo>
                    <a:lnTo>
                      <a:pt x="7"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1039" name=""/>
          <p:cNvGrpSpPr/>
          <p:nvPr/>
        </p:nvGrpSpPr>
        <p:grpSpPr>
          <a:xfrm>
            <a:off x="822240" y="1676520"/>
            <a:ext cx="1027080" cy="1334880"/>
            <a:chOff x="822240" y="1676520"/>
            <a:chExt cx="1027080" cy="1334880"/>
          </a:xfrm>
        </p:grpSpPr>
        <p:sp>
          <p:nvSpPr>
            <p:cNvPr id="1040" name=""/>
            <p:cNvSpPr/>
            <p:nvPr/>
          </p:nvSpPr>
          <p:spPr>
            <a:xfrm>
              <a:off x="873000" y="1676520"/>
              <a:ext cx="976320" cy="1271520"/>
            </a:xfrm>
            <a:custGeom>
              <a:avLst/>
              <a:gdLst/>
              <a:ahLst/>
              <a:rect l="l" t="t" r="r" b="b"/>
              <a:pathLst>
                <a:path w="1846" h="2404">
                  <a:moveTo>
                    <a:pt x="1124" y="0"/>
                  </a:moveTo>
                  <a:lnTo>
                    <a:pt x="1680" y="512"/>
                  </a:lnTo>
                  <a:lnTo>
                    <a:pt x="1846" y="1882"/>
                  </a:lnTo>
                  <a:lnTo>
                    <a:pt x="1664" y="2140"/>
                  </a:lnTo>
                  <a:lnTo>
                    <a:pt x="1132" y="2140"/>
                  </a:lnTo>
                  <a:lnTo>
                    <a:pt x="481" y="2404"/>
                  </a:lnTo>
                  <a:lnTo>
                    <a:pt x="211" y="2354"/>
                  </a:lnTo>
                  <a:lnTo>
                    <a:pt x="0" y="2016"/>
                  </a:lnTo>
                  <a:lnTo>
                    <a:pt x="327" y="1420"/>
                  </a:lnTo>
                  <a:lnTo>
                    <a:pt x="795" y="412"/>
                  </a:lnTo>
                  <a:lnTo>
                    <a:pt x="1124" y="0"/>
                  </a:lnTo>
                  <a:lnTo>
                    <a:pt x="1124"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822240" y="1676520"/>
              <a:ext cx="1027080" cy="1334880"/>
            </a:xfrm>
            <a:custGeom>
              <a:avLst/>
              <a:gdLst/>
              <a:ahLst/>
              <a:rect l="l" t="t" r="r" b="b"/>
              <a:pathLst>
                <a:path w="1941" h="2523">
                  <a:moveTo>
                    <a:pt x="1212" y="0"/>
                  </a:moveTo>
                  <a:lnTo>
                    <a:pt x="1081" y="102"/>
                  </a:lnTo>
                  <a:lnTo>
                    <a:pt x="920" y="264"/>
                  </a:lnTo>
                  <a:lnTo>
                    <a:pt x="795" y="449"/>
                  </a:lnTo>
                  <a:lnTo>
                    <a:pt x="620" y="794"/>
                  </a:lnTo>
                  <a:lnTo>
                    <a:pt x="445" y="1147"/>
                  </a:lnTo>
                  <a:lnTo>
                    <a:pt x="256" y="1464"/>
                  </a:lnTo>
                  <a:lnTo>
                    <a:pt x="87" y="1721"/>
                  </a:lnTo>
                  <a:lnTo>
                    <a:pt x="28" y="1846"/>
                  </a:lnTo>
                  <a:lnTo>
                    <a:pt x="7" y="1957"/>
                  </a:lnTo>
                  <a:lnTo>
                    <a:pt x="0" y="2030"/>
                  </a:lnTo>
                  <a:lnTo>
                    <a:pt x="37" y="2163"/>
                  </a:lnTo>
                  <a:lnTo>
                    <a:pt x="122" y="2296"/>
                  </a:lnTo>
                  <a:lnTo>
                    <a:pt x="233" y="2404"/>
                  </a:lnTo>
                  <a:lnTo>
                    <a:pt x="344" y="2479"/>
                  </a:lnTo>
                  <a:lnTo>
                    <a:pt x="452" y="2517"/>
                  </a:lnTo>
                  <a:lnTo>
                    <a:pt x="540" y="2523"/>
                  </a:lnTo>
                  <a:lnTo>
                    <a:pt x="613" y="2509"/>
                  </a:lnTo>
                  <a:lnTo>
                    <a:pt x="766" y="2429"/>
                  </a:lnTo>
                  <a:lnTo>
                    <a:pt x="947" y="2339"/>
                  </a:lnTo>
                  <a:lnTo>
                    <a:pt x="1182" y="2273"/>
                  </a:lnTo>
                  <a:lnTo>
                    <a:pt x="1401" y="2244"/>
                  </a:lnTo>
                  <a:lnTo>
                    <a:pt x="1634" y="2252"/>
                  </a:lnTo>
                  <a:lnTo>
                    <a:pt x="1759" y="2252"/>
                  </a:lnTo>
                  <a:lnTo>
                    <a:pt x="1853" y="2222"/>
                  </a:lnTo>
                  <a:lnTo>
                    <a:pt x="1905" y="2140"/>
                  </a:lnTo>
                  <a:lnTo>
                    <a:pt x="1934" y="2000"/>
                  </a:lnTo>
                  <a:lnTo>
                    <a:pt x="1941" y="1854"/>
                  </a:lnTo>
                  <a:lnTo>
                    <a:pt x="1905" y="1669"/>
                  </a:lnTo>
                  <a:lnTo>
                    <a:pt x="1833" y="1531"/>
                  </a:lnTo>
                  <a:lnTo>
                    <a:pt x="1722" y="1434"/>
                  </a:lnTo>
                  <a:lnTo>
                    <a:pt x="1577" y="1376"/>
                  </a:lnTo>
                  <a:lnTo>
                    <a:pt x="1453" y="1384"/>
                  </a:lnTo>
                  <a:lnTo>
                    <a:pt x="1350" y="1427"/>
                  </a:lnTo>
                  <a:lnTo>
                    <a:pt x="1284" y="1485"/>
                  </a:lnTo>
                  <a:lnTo>
                    <a:pt x="1227" y="1566"/>
                  </a:lnTo>
                  <a:lnTo>
                    <a:pt x="1189" y="1663"/>
                  </a:lnTo>
                  <a:lnTo>
                    <a:pt x="1204" y="1714"/>
                  </a:lnTo>
                  <a:lnTo>
                    <a:pt x="1241" y="1736"/>
                  </a:lnTo>
                  <a:lnTo>
                    <a:pt x="1307" y="1730"/>
                  </a:lnTo>
                  <a:lnTo>
                    <a:pt x="1350" y="1684"/>
                  </a:lnTo>
                  <a:lnTo>
                    <a:pt x="1415" y="1609"/>
                  </a:lnTo>
                  <a:lnTo>
                    <a:pt x="1496" y="1589"/>
                  </a:lnTo>
                  <a:lnTo>
                    <a:pt x="1577" y="1602"/>
                  </a:lnTo>
                  <a:lnTo>
                    <a:pt x="1664" y="1649"/>
                  </a:lnTo>
                  <a:lnTo>
                    <a:pt x="1729" y="1736"/>
                  </a:lnTo>
                  <a:lnTo>
                    <a:pt x="1752" y="1838"/>
                  </a:lnTo>
                  <a:lnTo>
                    <a:pt x="1738" y="1987"/>
                  </a:lnTo>
                  <a:lnTo>
                    <a:pt x="1715" y="2045"/>
                  </a:lnTo>
                  <a:lnTo>
                    <a:pt x="1679" y="2060"/>
                  </a:lnTo>
                  <a:lnTo>
                    <a:pt x="1314" y="2060"/>
                  </a:lnTo>
                  <a:lnTo>
                    <a:pt x="1081" y="2088"/>
                  </a:lnTo>
                  <a:lnTo>
                    <a:pt x="882" y="2156"/>
                  </a:lnTo>
                  <a:lnTo>
                    <a:pt x="701" y="2259"/>
                  </a:lnTo>
                  <a:lnTo>
                    <a:pt x="597" y="2296"/>
                  </a:lnTo>
                  <a:lnTo>
                    <a:pt x="518" y="2296"/>
                  </a:lnTo>
                  <a:lnTo>
                    <a:pt x="408" y="2252"/>
                  </a:lnTo>
                  <a:lnTo>
                    <a:pt x="321" y="2179"/>
                  </a:lnTo>
                  <a:lnTo>
                    <a:pt x="256" y="2104"/>
                  </a:lnTo>
                  <a:lnTo>
                    <a:pt x="233" y="2053"/>
                  </a:lnTo>
                  <a:lnTo>
                    <a:pt x="219" y="1980"/>
                  </a:lnTo>
                  <a:lnTo>
                    <a:pt x="226" y="1929"/>
                  </a:lnTo>
                  <a:lnTo>
                    <a:pt x="247" y="1854"/>
                  </a:lnTo>
                  <a:lnTo>
                    <a:pt x="402" y="1602"/>
                  </a:lnTo>
                  <a:lnTo>
                    <a:pt x="525" y="1391"/>
                  </a:lnTo>
                  <a:lnTo>
                    <a:pt x="635" y="1170"/>
                  </a:lnTo>
                  <a:lnTo>
                    <a:pt x="744" y="964"/>
                  </a:lnTo>
                  <a:lnTo>
                    <a:pt x="839" y="749"/>
                  </a:lnTo>
                  <a:lnTo>
                    <a:pt x="943" y="566"/>
                  </a:lnTo>
                  <a:lnTo>
                    <a:pt x="1028" y="426"/>
                  </a:lnTo>
                  <a:lnTo>
                    <a:pt x="1139" y="310"/>
                  </a:lnTo>
                  <a:lnTo>
                    <a:pt x="1241" y="206"/>
                  </a:lnTo>
                  <a:lnTo>
                    <a:pt x="1292" y="154"/>
                  </a:lnTo>
                  <a:lnTo>
                    <a:pt x="1300" y="89"/>
                  </a:lnTo>
                  <a:lnTo>
                    <a:pt x="1277" y="44"/>
                  </a:lnTo>
                  <a:lnTo>
                    <a:pt x="1241" y="7"/>
                  </a:lnTo>
                  <a:lnTo>
                    <a:pt x="1212" y="0"/>
                  </a:lnTo>
                  <a:lnTo>
                    <a:pt x="1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2" name=""/>
          <p:cNvGrpSpPr/>
          <p:nvPr/>
        </p:nvGrpSpPr>
        <p:grpSpPr>
          <a:xfrm>
            <a:off x="2643120" y="1644480"/>
            <a:ext cx="1749240" cy="1511640"/>
            <a:chOff x="2643120" y="1644480"/>
            <a:chExt cx="1749240" cy="1511640"/>
          </a:xfrm>
        </p:grpSpPr>
        <p:grpSp>
          <p:nvGrpSpPr>
            <p:cNvPr id="1043" name=""/>
            <p:cNvGrpSpPr/>
            <p:nvPr/>
          </p:nvGrpSpPr>
          <p:grpSpPr>
            <a:xfrm>
              <a:off x="2960640" y="1741680"/>
              <a:ext cx="1431720" cy="1414440"/>
              <a:chOff x="2960640" y="1741680"/>
              <a:chExt cx="1431720" cy="1414440"/>
            </a:xfrm>
          </p:grpSpPr>
          <p:sp>
            <p:nvSpPr>
              <p:cNvPr id="1044" name=""/>
              <p:cNvSpPr/>
              <p:nvPr/>
            </p:nvSpPr>
            <p:spPr>
              <a:xfrm>
                <a:off x="2960640" y="1741680"/>
                <a:ext cx="1428480" cy="1352520"/>
              </a:xfrm>
              <a:custGeom>
                <a:avLst/>
                <a:gdLst/>
                <a:ahLst/>
                <a:rect l="l" t="t" r="r" b="b"/>
                <a:pathLst>
                  <a:path w="1800" h="1704">
                    <a:moveTo>
                      <a:pt x="0" y="1161"/>
                    </a:moveTo>
                    <a:lnTo>
                      <a:pt x="353" y="867"/>
                    </a:lnTo>
                    <a:lnTo>
                      <a:pt x="488" y="709"/>
                    </a:lnTo>
                    <a:lnTo>
                      <a:pt x="810" y="433"/>
                    </a:lnTo>
                    <a:lnTo>
                      <a:pt x="1101" y="288"/>
                    </a:lnTo>
                    <a:lnTo>
                      <a:pt x="1521" y="70"/>
                    </a:lnTo>
                    <a:lnTo>
                      <a:pt x="1800" y="0"/>
                    </a:lnTo>
                    <a:lnTo>
                      <a:pt x="1772" y="94"/>
                    </a:lnTo>
                    <a:lnTo>
                      <a:pt x="1390" y="270"/>
                    </a:lnTo>
                    <a:lnTo>
                      <a:pt x="1260" y="401"/>
                    </a:lnTo>
                    <a:lnTo>
                      <a:pt x="1509" y="410"/>
                    </a:lnTo>
                    <a:lnTo>
                      <a:pt x="1439" y="512"/>
                    </a:lnTo>
                    <a:lnTo>
                      <a:pt x="1460" y="582"/>
                    </a:lnTo>
                    <a:lnTo>
                      <a:pt x="1439" y="652"/>
                    </a:lnTo>
                    <a:lnTo>
                      <a:pt x="1439" y="730"/>
                    </a:lnTo>
                    <a:lnTo>
                      <a:pt x="1380" y="830"/>
                    </a:lnTo>
                    <a:lnTo>
                      <a:pt x="1361" y="974"/>
                    </a:lnTo>
                    <a:lnTo>
                      <a:pt x="1270" y="1061"/>
                    </a:lnTo>
                    <a:lnTo>
                      <a:pt x="1125" y="1131"/>
                    </a:lnTo>
                    <a:lnTo>
                      <a:pt x="976" y="1118"/>
                    </a:lnTo>
                    <a:lnTo>
                      <a:pt x="637" y="1178"/>
                    </a:lnTo>
                    <a:lnTo>
                      <a:pt x="635" y="1180"/>
                    </a:lnTo>
                    <a:lnTo>
                      <a:pt x="631" y="1184"/>
                    </a:lnTo>
                    <a:lnTo>
                      <a:pt x="626" y="1187"/>
                    </a:lnTo>
                    <a:lnTo>
                      <a:pt x="623" y="1192"/>
                    </a:lnTo>
                    <a:lnTo>
                      <a:pt x="619" y="1196"/>
                    </a:lnTo>
                    <a:lnTo>
                      <a:pt x="614" y="1202"/>
                    </a:lnTo>
                    <a:lnTo>
                      <a:pt x="608" y="1207"/>
                    </a:lnTo>
                    <a:lnTo>
                      <a:pt x="601" y="1214"/>
                    </a:lnTo>
                    <a:lnTo>
                      <a:pt x="594" y="1220"/>
                    </a:lnTo>
                    <a:lnTo>
                      <a:pt x="588" y="1229"/>
                    </a:lnTo>
                    <a:lnTo>
                      <a:pt x="579" y="1236"/>
                    </a:lnTo>
                    <a:lnTo>
                      <a:pt x="571" y="1245"/>
                    </a:lnTo>
                    <a:lnTo>
                      <a:pt x="562" y="1254"/>
                    </a:lnTo>
                    <a:lnTo>
                      <a:pt x="555" y="1263"/>
                    </a:lnTo>
                    <a:lnTo>
                      <a:pt x="545" y="1273"/>
                    </a:lnTo>
                    <a:lnTo>
                      <a:pt x="534" y="1282"/>
                    </a:lnTo>
                    <a:lnTo>
                      <a:pt x="524" y="1293"/>
                    </a:lnTo>
                    <a:lnTo>
                      <a:pt x="515" y="1305"/>
                    </a:lnTo>
                    <a:lnTo>
                      <a:pt x="503" y="1315"/>
                    </a:lnTo>
                    <a:lnTo>
                      <a:pt x="493" y="1327"/>
                    </a:lnTo>
                    <a:lnTo>
                      <a:pt x="481" y="1339"/>
                    </a:lnTo>
                    <a:lnTo>
                      <a:pt x="469" y="1351"/>
                    </a:lnTo>
                    <a:lnTo>
                      <a:pt x="459" y="1361"/>
                    </a:lnTo>
                    <a:lnTo>
                      <a:pt x="447" y="1374"/>
                    </a:lnTo>
                    <a:lnTo>
                      <a:pt x="435" y="1386"/>
                    </a:lnTo>
                    <a:lnTo>
                      <a:pt x="423" y="1398"/>
                    </a:lnTo>
                    <a:lnTo>
                      <a:pt x="410" y="1411"/>
                    </a:lnTo>
                    <a:lnTo>
                      <a:pt x="398" y="1425"/>
                    </a:lnTo>
                    <a:lnTo>
                      <a:pt x="386" y="1437"/>
                    </a:lnTo>
                    <a:lnTo>
                      <a:pt x="374" y="1450"/>
                    </a:lnTo>
                    <a:lnTo>
                      <a:pt x="361" y="1462"/>
                    </a:lnTo>
                    <a:lnTo>
                      <a:pt x="349" y="1474"/>
                    </a:lnTo>
                    <a:lnTo>
                      <a:pt x="335" y="1486"/>
                    </a:lnTo>
                    <a:lnTo>
                      <a:pt x="323" y="1499"/>
                    </a:lnTo>
                    <a:lnTo>
                      <a:pt x="312" y="1511"/>
                    </a:lnTo>
                    <a:lnTo>
                      <a:pt x="300" y="1523"/>
                    </a:lnTo>
                    <a:lnTo>
                      <a:pt x="288" y="1535"/>
                    </a:lnTo>
                    <a:lnTo>
                      <a:pt x="277" y="1546"/>
                    </a:lnTo>
                    <a:lnTo>
                      <a:pt x="266" y="1558"/>
                    </a:lnTo>
                    <a:lnTo>
                      <a:pt x="254" y="1569"/>
                    </a:lnTo>
                    <a:lnTo>
                      <a:pt x="243" y="1581"/>
                    </a:lnTo>
                    <a:lnTo>
                      <a:pt x="233" y="1591"/>
                    </a:lnTo>
                    <a:lnTo>
                      <a:pt x="221" y="1601"/>
                    </a:lnTo>
                    <a:lnTo>
                      <a:pt x="212" y="1612"/>
                    </a:lnTo>
                    <a:lnTo>
                      <a:pt x="202" y="1621"/>
                    </a:lnTo>
                    <a:lnTo>
                      <a:pt x="193" y="1631"/>
                    </a:lnTo>
                    <a:lnTo>
                      <a:pt x="184" y="1640"/>
                    </a:lnTo>
                    <a:lnTo>
                      <a:pt x="175" y="1647"/>
                    </a:lnTo>
                    <a:lnTo>
                      <a:pt x="166" y="1655"/>
                    </a:lnTo>
                    <a:lnTo>
                      <a:pt x="159" y="1664"/>
                    </a:lnTo>
                    <a:lnTo>
                      <a:pt x="151" y="1670"/>
                    </a:lnTo>
                    <a:lnTo>
                      <a:pt x="144" y="1677"/>
                    </a:lnTo>
                    <a:lnTo>
                      <a:pt x="138" y="1681"/>
                    </a:lnTo>
                    <a:lnTo>
                      <a:pt x="134" y="1687"/>
                    </a:lnTo>
                    <a:lnTo>
                      <a:pt x="128" y="1692"/>
                    </a:lnTo>
                    <a:lnTo>
                      <a:pt x="123" y="1695"/>
                    </a:lnTo>
                    <a:lnTo>
                      <a:pt x="119" y="1698"/>
                    </a:lnTo>
                    <a:lnTo>
                      <a:pt x="117" y="1701"/>
                    </a:lnTo>
                    <a:lnTo>
                      <a:pt x="113" y="1704"/>
                    </a:lnTo>
                    <a:lnTo>
                      <a:pt x="111" y="1704"/>
                    </a:lnTo>
                    <a:lnTo>
                      <a:pt x="111" y="1701"/>
                    </a:lnTo>
                    <a:lnTo>
                      <a:pt x="111" y="1699"/>
                    </a:lnTo>
                    <a:lnTo>
                      <a:pt x="110" y="1696"/>
                    </a:lnTo>
                    <a:lnTo>
                      <a:pt x="110" y="1693"/>
                    </a:lnTo>
                    <a:lnTo>
                      <a:pt x="108" y="1689"/>
                    </a:lnTo>
                    <a:lnTo>
                      <a:pt x="107" y="1684"/>
                    </a:lnTo>
                    <a:lnTo>
                      <a:pt x="107" y="1678"/>
                    </a:lnTo>
                    <a:lnTo>
                      <a:pt x="105" y="1673"/>
                    </a:lnTo>
                    <a:lnTo>
                      <a:pt x="104" y="1667"/>
                    </a:lnTo>
                    <a:lnTo>
                      <a:pt x="102" y="1659"/>
                    </a:lnTo>
                    <a:lnTo>
                      <a:pt x="101" y="1652"/>
                    </a:lnTo>
                    <a:lnTo>
                      <a:pt x="99" y="1644"/>
                    </a:lnTo>
                    <a:lnTo>
                      <a:pt x="98" y="1635"/>
                    </a:lnTo>
                    <a:lnTo>
                      <a:pt x="96" y="1628"/>
                    </a:lnTo>
                    <a:lnTo>
                      <a:pt x="95" y="1618"/>
                    </a:lnTo>
                    <a:lnTo>
                      <a:pt x="93" y="1609"/>
                    </a:lnTo>
                    <a:lnTo>
                      <a:pt x="91" y="1598"/>
                    </a:lnTo>
                    <a:lnTo>
                      <a:pt x="89" y="1588"/>
                    </a:lnTo>
                    <a:lnTo>
                      <a:pt x="86" y="1578"/>
                    </a:lnTo>
                    <a:lnTo>
                      <a:pt x="85" y="1567"/>
                    </a:lnTo>
                    <a:lnTo>
                      <a:pt x="82" y="1555"/>
                    </a:lnTo>
                    <a:lnTo>
                      <a:pt x="79" y="1545"/>
                    </a:lnTo>
                    <a:lnTo>
                      <a:pt x="77" y="1533"/>
                    </a:lnTo>
                    <a:lnTo>
                      <a:pt x="74" y="1521"/>
                    </a:lnTo>
                    <a:lnTo>
                      <a:pt x="71" y="1509"/>
                    </a:lnTo>
                    <a:lnTo>
                      <a:pt x="70" y="1496"/>
                    </a:lnTo>
                    <a:lnTo>
                      <a:pt x="67" y="1484"/>
                    </a:lnTo>
                    <a:lnTo>
                      <a:pt x="65" y="1472"/>
                    </a:lnTo>
                    <a:lnTo>
                      <a:pt x="62" y="1460"/>
                    </a:lnTo>
                    <a:lnTo>
                      <a:pt x="59" y="1447"/>
                    </a:lnTo>
                    <a:lnTo>
                      <a:pt x="56" y="1435"/>
                    </a:lnTo>
                    <a:lnTo>
                      <a:pt x="55" y="1423"/>
                    </a:lnTo>
                    <a:lnTo>
                      <a:pt x="52" y="1410"/>
                    </a:lnTo>
                    <a:lnTo>
                      <a:pt x="49" y="1398"/>
                    </a:lnTo>
                    <a:lnTo>
                      <a:pt x="46" y="1386"/>
                    </a:lnTo>
                    <a:lnTo>
                      <a:pt x="45" y="1373"/>
                    </a:lnTo>
                    <a:lnTo>
                      <a:pt x="40" y="1361"/>
                    </a:lnTo>
                    <a:lnTo>
                      <a:pt x="39" y="1349"/>
                    </a:lnTo>
                    <a:lnTo>
                      <a:pt x="36" y="1337"/>
                    </a:lnTo>
                    <a:lnTo>
                      <a:pt x="34" y="1325"/>
                    </a:lnTo>
                    <a:lnTo>
                      <a:pt x="31" y="1313"/>
                    </a:lnTo>
                    <a:lnTo>
                      <a:pt x="30" y="1303"/>
                    </a:lnTo>
                    <a:lnTo>
                      <a:pt x="27" y="1291"/>
                    </a:lnTo>
                    <a:lnTo>
                      <a:pt x="25" y="1281"/>
                    </a:lnTo>
                    <a:lnTo>
                      <a:pt x="22" y="1270"/>
                    </a:lnTo>
                    <a:lnTo>
                      <a:pt x="21" y="1260"/>
                    </a:lnTo>
                    <a:lnTo>
                      <a:pt x="18" y="1251"/>
                    </a:lnTo>
                    <a:lnTo>
                      <a:pt x="16" y="1241"/>
                    </a:lnTo>
                    <a:lnTo>
                      <a:pt x="15" y="1232"/>
                    </a:lnTo>
                    <a:lnTo>
                      <a:pt x="12" y="1223"/>
                    </a:lnTo>
                    <a:lnTo>
                      <a:pt x="10" y="1214"/>
                    </a:lnTo>
                    <a:lnTo>
                      <a:pt x="9" y="1207"/>
                    </a:lnTo>
                    <a:lnTo>
                      <a:pt x="7" y="1199"/>
                    </a:lnTo>
                    <a:lnTo>
                      <a:pt x="6" y="1193"/>
                    </a:lnTo>
                    <a:lnTo>
                      <a:pt x="4" y="1187"/>
                    </a:lnTo>
                    <a:lnTo>
                      <a:pt x="3" y="1181"/>
                    </a:lnTo>
                    <a:lnTo>
                      <a:pt x="1" y="1177"/>
                    </a:lnTo>
                    <a:lnTo>
                      <a:pt x="1" y="1172"/>
                    </a:lnTo>
                    <a:lnTo>
                      <a:pt x="0" y="1168"/>
                    </a:lnTo>
                    <a:lnTo>
                      <a:pt x="0" y="1165"/>
                    </a:lnTo>
                    <a:lnTo>
                      <a:pt x="0" y="1161"/>
                    </a:lnTo>
                    <a:lnTo>
                      <a:pt x="0" y="1161"/>
                    </a:lnTo>
                    <a:lnTo>
                      <a:pt x="0" y="1161"/>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2984400" y="1773360"/>
                <a:ext cx="1400040" cy="1380960"/>
              </a:xfrm>
              <a:custGeom>
                <a:avLst/>
                <a:gdLst/>
                <a:ahLst/>
                <a:rect l="l" t="t" r="r" b="b"/>
                <a:pathLst>
                  <a:path w="1764" h="1739">
                    <a:moveTo>
                      <a:pt x="0" y="1276"/>
                    </a:moveTo>
                    <a:lnTo>
                      <a:pt x="0" y="1275"/>
                    </a:lnTo>
                    <a:lnTo>
                      <a:pt x="1" y="1273"/>
                    </a:lnTo>
                    <a:lnTo>
                      <a:pt x="3" y="1270"/>
                    </a:lnTo>
                    <a:lnTo>
                      <a:pt x="7" y="1267"/>
                    </a:lnTo>
                    <a:lnTo>
                      <a:pt x="10" y="1262"/>
                    </a:lnTo>
                    <a:lnTo>
                      <a:pt x="16" y="1257"/>
                    </a:lnTo>
                    <a:lnTo>
                      <a:pt x="17" y="1253"/>
                    </a:lnTo>
                    <a:lnTo>
                      <a:pt x="20" y="1250"/>
                    </a:lnTo>
                    <a:lnTo>
                      <a:pt x="23" y="1245"/>
                    </a:lnTo>
                    <a:lnTo>
                      <a:pt x="28" y="1242"/>
                    </a:lnTo>
                    <a:lnTo>
                      <a:pt x="31" y="1238"/>
                    </a:lnTo>
                    <a:lnTo>
                      <a:pt x="34" y="1235"/>
                    </a:lnTo>
                    <a:lnTo>
                      <a:pt x="37" y="1230"/>
                    </a:lnTo>
                    <a:lnTo>
                      <a:pt x="41" y="1226"/>
                    </a:lnTo>
                    <a:lnTo>
                      <a:pt x="44" y="1220"/>
                    </a:lnTo>
                    <a:lnTo>
                      <a:pt x="49" y="1216"/>
                    </a:lnTo>
                    <a:lnTo>
                      <a:pt x="53" y="1211"/>
                    </a:lnTo>
                    <a:lnTo>
                      <a:pt x="58" y="1205"/>
                    </a:lnTo>
                    <a:lnTo>
                      <a:pt x="62" y="1201"/>
                    </a:lnTo>
                    <a:lnTo>
                      <a:pt x="66" y="1195"/>
                    </a:lnTo>
                    <a:lnTo>
                      <a:pt x="71" y="1189"/>
                    </a:lnTo>
                    <a:lnTo>
                      <a:pt x="77" y="1184"/>
                    </a:lnTo>
                    <a:lnTo>
                      <a:pt x="81" y="1178"/>
                    </a:lnTo>
                    <a:lnTo>
                      <a:pt x="86" y="1173"/>
                    </a:lnTo>
                    <a:lnTo>
                      <a:pt x="92" y="1167"/>
                    </a:lnTo>
                    <a:lnTo>
                      <a:pt x="96" y="1162"/>
                    </a:lnTo>
                    <a:lnTo>
                      <a:pt x="102" y="1155"/>
                    </a:lnTo>
                    <a:lnTo>
                      <a:pt x="107" y="1149"/>
                    </a:lnTo>
                    <a:lnTo>
                      <a:pt x="112" y="1143"/>
                    </a:lnTo>
                    <a:lnTo>
                      <a:pt x="118" y="1137"/>
                    </a:lnTo>
                    <a:lnTo>
                      <a:pt x="123" y="1129"/>
                    </a:lnTo>
                    <a:lnTo>
                      <a:pt x="129" y="1124"/>
                    </a:lnTo>
                    <a:lnTo>
                      <a:pt x="135" y="1118"/>
                    </a:lnTo>
                    <a:lnTo>
                      <a:pt x="141" y="1110"/>
                    </a:lnTo>
                    <a:lnTo>
                      <a:pt x="147" y="1104"/>
                    </a:lnTo>
                    <a:lnTo>
                      <a:pt x="153" y="1098"/>
                    </a:lnTo>
                    <a:lnTo>
                      <a:pt x="157" y="1091"/>
                    </a:lnTo>
                    <a:lnTo>
                      <a:pt x="163" y="1085"/>
                    </a:lnTo>
                    <a:lnTo>
                      <a:pt x="169" y="1078"/>
                    </a:lnTo>
                    <a:lnTo>
                      <a:pt x="175" y="1072"/>
                    </a:lnTo>
                    <a:lnTo>
                      <a:pt x="182" y="1064"/>
                    </a:lnTo>
                    <a:lnTo>
                      <a:pt x="188" y="1060"/>
                    </a:lnTo>
                    <a:lnTo>
                      <a:pt x="193" y="1052"/>
                    </a:lnTo>
                    <a:lnTo>
                      <a:pt x="200" y="1046"/>
                    </a:lnTo>
                    <a:lnTo>
                      <a:pt x="206" y="1039"/>
                    </a:lnTo>
                    <a:lnTo>
                      <a:pt x="212" y="1033"/>
                    </a:lnTo>
                    <a:lnTo>
                      <a:pt x="218" y="1027"/>
                    </a:lnTo>
                    <a:lnTo>
                      <a:pt x="224" y="1021"/>
                    </a:lnTo>
                    <a:lnTo>
                      <a:pt x="230" y="1015"/>
                    </a:lnTo>
                    <a:lnTo>
                      <a:pt x="236" y="1009"/>
                    </a:lnTo>
                    <a:lnTo>
                      <a:pt x="242" y="1003"/>
                    </a:lnTo>
                    <a:lnTo>
                      <a:pt x="247" y="997"/>
                    </a:lnTo>
                    <a:lnTo>
                      <a:pt x="252" y="991"/>
                    </a:lnTo>
                    <a:lnTo>
                      <a:pt x="259" y="986"/>
                    </a:lnTo>
                    <a:lnTo>
                      <a:pt x="264" y="981"/>
                    </a:lnTo>
                    <a:lnTo>
                      <a:pt x="271" y="975"/>
                    </a:lnTo>
                    <a:lnTo>
                      <a:pt x="276" y="971"/>
                    </a:lnTo>
                    <a:lnTo>
                      <a:pt x="282" y="966"/>
                    </a:lnTo>
                    <a:lnTo>
                      <a:pt x="288" y="960"/>
                    </a:lnTo>
                    <a:lnTo>
                      <a:pt x="293" y="956"/>
                    </a:lnTo>
                    <a:lnTo>
                      <a:pt x="298" y="950"/>
                    </a:lnTo>
                    <a:lnTo>
                      <a:pt x="304" y="945"/>
                    </a:lnTo>
                    <a:lnTo>
                      <a:pt x="308" y="941"/>
                    </a:lnTo>
                    <a:lnTo>
                      <a:pt x="313" y="937"/>
                    </a:lnTo>
                    <a:lnTo>
                      <a:pt x="319" y="934"/>
                    </a:lnTo>
                    <a:lnTo>
                      <a:pt x="323" y="929"/>
                    </a:lnTo>
                    <a:lnTo>
                      <a:pt x="328" y="925"/>
                    </a:lnTo>
                    <a:lnTo>
                      <a:pt x="334" y="920"/>
                    </a:lnTo>
                    <a:lnTo>
                      <a:pt x="338" y="917"/>
                    </a:lnTo>
                    <a:lnTo>
                      <a:pt x="342" y="914"/>
                    </a:lnTo>
                    <a:lnTo>
                      <a:pt x="347" y="910"/>
                    </a:lnTo>
                    <a:lnTo>
                      <a:pt x="353" y="907"/>
                    </a:lnTo>
                    <a:lnTo>
                      <a:pt x="357" y="902"/>
                    </a:lnTo>
                    <a:lnTo>
                      <a:pt x="362" y="901"/>
                    </a:lnTo>
                    <a:lnTo>
                      <a:pt x="365" y="897"/>
                    </a:lnTo>
                    <a:lnTo>
                      <a:pt x="369" y="894"/>
                    </a:lnTo>
                    <a:lnTo>
                      <a:pt x="374" y="891"/>
                    </a:lnTo>
                    <a:lnTo>
                      <a:pt x="378" y="889"/>
                    </a:lnTo>
                    <a:lnTo>
                      <a:pt x="383" y="886"/>
                    </a:lnTo>
                    <a:lnTo>
                      <a:pt x="387" y="883"/>
                    </a:lnTo>
                    <a:lnTo>
                      <a:pt x="390" y="880"/>
                    </a:lnTo>
                    <a:lnTo>
                      <a:pt x="394" y="879"/>
                    </a:lnTo>
                    <a:lnTo>
                      <a:pt x="397" y="877"/>
                    </a:lnTo>
                    <a:lnTo>
                      <a:pt x="402" y="874"/>
                    </a:lnTo>
                    <a:lnTo>
                      <a:pt x="405" y="873"/>
                    </a:lnTo>
                    <a:lnTo>
                      <a:pt x="409" y="870"/>
                    </a:lnTo>
                    <a:lnTo>
                      <a:pt x="412" y="868"/>
                    </a:lnTo>
                    <a:lnTo>
                      <a:pt x="415" y="867"/>
                    </a:lnTo>
                    <a:lnTo>
                      <a:pt x="418" y="865"/>
                    </a:lnTo>
                    <a:lnTo>
                      <a:pt x="423" y="864"/>
                    </a:lnTo>
                    <a:lnTo>
                      <a:pt x="429" y="859"/>
                    </a:lnTo>
                    <a:lnTo>
                      <a:pt x="433" y="858"/>
                    </a:lnTo>
                    <a:lnTo>
                      <a:pt x="439" y="855"/>
                    </a:lnTo>
                    <a:lnTo>
                      <a:pt x="443" y="853"/>
                    </a:lnTo>
                    <a:lnTo>
                      <a:pt x="448" y="851"/>
                    </a:lnTo>
                    <a:lnTo>
                      <a:pt x="454" y="849"/>
                    </a:lnTo>
                    <a:lnTo>
                      <a:pt x="457" y="848"/>
                    </a:lnTo>
                    <a:lnTo>
                      <a:pt x="461" y="846"/>
                    </a:lnTo>
                    <a:lnTo>
                      <a:pt x="466" y="845"/>
                    </a:lnTo>
                    <a:lnTo>
                      <a:pt x="472" y="843"/>
                    </a:lnTo>
                    <a:lnTo>
                      <a:pt x="473" y="843"/>
                    </a:lnTo>
                    <a:lnTo>
                      <a:pt x="474" y="843"/>
                    </a:lnTo>
                    <a:lnTo>
                      <a:pt x="474" y="842"/>
                    </a:lnTo>
                    <a:lnTo>
                      <a:pt x="476" y="839"/>
                    </a:lnTo>
                    <a:lnTo>
                      <a:pt x="476" y="836"/>
                    </a:lnTo>
                    <a:lnTo>
                      <a:pt x="476" y="833"/>
                    </a:lnTo>
                    <a:lnTo>
                      <a:pt x="477" y="830"/>
                    </a:lnTo>
                    <a:lnTo>
                      <a:pt x="479" y="827"/>
                    </a:lnTo>
                    <a:lnTo>
                      <a:pt x="479" y="822"/>
                    </a:lnTo>
                    <a:lnTo>
                      <a:pt x="480" y="818"/>
                    </a:lnTo>
                    <a:lnTo>
                      <a:pt x="482" y="813"/>
                    </a:lnTo>
                    <a:lnTo>
                      <a:pt x="485" y="809"/>
                    </a:lnTo>
                    <a:lnTo>
                      <a:pt x="486" y="803"/>
                    </a:lnTo>
                    <a:lnTo>
                      <a:pt x="488" y="797"/>
                    </a:lnTo>
                    <a:lnTo>
                      <a:pt x="491" y="791"/>
                    </a:lnTo>
                    <a:lnTo>
                      <a:pt x="494" y="785"/>
                    </a:lnTo>
                    <a:lnTo>
                      <a:pt x="495" y="782"/>
                    </a:lnTo>
                    <a:lnTo>
                      <a:pt x="495" y="778"/>
                    </a:lnTo>
                    <a:lnTo>
                      <a:pt x="497" y="775"/>
                    </a:lnTo>
                    <a:lnTo>
                      <a:pt x="500" y="772"/>
                    </a:lnTo>
                    <a:lnTo>
                      <a:pt x="500" y="767"/>
                    </a:lnTo>
                    <a:lnTo>
                      <a:pt x="503" y="764"/>
                    </a:lnTo>
                    <a:lnTo>
                      <a:pt x="504" y="760"/>
                    </a:lnTo>
                    <a:lnTo>
                      <a:pt x="506" y="757"/>
                    </a:lnTo>
                    <a:lnTo>
                      <a:pt x="507" y="753"/>
                    </a:lnTo>
                    <a:lnTo>
                      <a:pt x="510" y="750"/>
                    </a:lnTo>
                    <a:lnTo>
                      <a:pt x="512" y="745"/>
                    </a:lnTo>
                    <a:lnTo>
                      <a:pt x="513" y="742"/>
                    </a:lnTo>
                    <a:lnTo>
                      <a:pt x="515" y="738"/>
                    </a:lnTo>
                    <a:lnTo>
                      <a:pt x="518" y="733"/>
                    </a:lnTo>
                    <a:lnTo>
                      <a:pt x="520" y="730"/>
                    </a:lnTo>
                    <a:lnTo>
                      <a:pt x="523" y="726"/>
                    </a:lnTo>
                    <a:lnTo>
                      <a:pt x="525" y="721"/>
                    </a:lnTo>
                    <a:lnTo>
                      <a:pt x="528" y="718"/>
                    </a:lnTo>
                    <a:lnTo>
                      <a:pt x="529" y="714"/>
                    </a:lnTo>
                    <a:lnTo>
                      <a:pt x="534" y="710"/>
                    </a:lnTo>
                    <a:lnTo>
                      <a:pt x="535" y="705"/>
                    </a:lnTo>
                    <a:lnTo>
                      <a:pt x="538" y="702"/>
                    </a:lnTo>
                    <a:lnTo>
                      <a:pt x="541" y="698"/>
                    </a:lnTo>
                    <a:lnTo>
                      <a:pt x="544" y="693"/>
                    </a:lnTo>
                    <a:lnTo>
                      <a:pt x="547" y="689"/>
                    </a:lnTo>
                    <a:lnTo>
                      <a:pt x="550" y="684"/>
                    </a:lnTo>
                    <a:lnTo>
                      <a:pt x="553" y="680"/>
                    </a:lnTo>
                    <a:lnTo>
                      <a:pt x="558" y="677"/>
                    </a:lnTo>
                    <a:lnTo>
                      <a:pt x="561" y="672"/>
                    </a:lnTo>
                    <a:lnTo>
                      <a:pt x="565" y="668"/>
                    </a:lnTo>
                    <a:lnTo>
                      <a:pt x="568" y="664"/>
                    </a:lnTo>
                    <a:lnTo>
                      <a:pt x="572" y="659"/>
                    </a:lnTo>
                    <a:lnTo>
                      <a:pt x="575" y="655"/>
                    </a:lnTo>
                    <a:lnTo>
                      <a:pt x="578" y="650"/>
                    </a:lnTo>
                    <a:lnTo>
                      <a:pt x="583" y="646"/>
                    </a:lnTo>
                    <a:lnTo>
                      <a:pt x="587" y="641"/>
                    </a:lnTo>
                    <a:lnTo>
                      <a:pt x="590" y="637"/>
                    </a:lnTo>
                    <a:lnTo>
                      <a:pt x="595" y="632"/>
                    </a:lnTo>
                    <a:lnTo>
                      <a:pt x="599" y="628"/>
                    </a:lnTo>
                    <a:lnTo>
                      <a:pt x="605" y="623"/>
                    </a:lnTo>
                    <a:lnTo>
                      <a:pt x="608" y="619"/>
                    </a:lnTo>
                    <a:lnTo>
                      <a:pt x="614" y="615"/>
                    </a:lnTo>
                    <a:lnTo>
                      <a:pt x="618" y="610"/>
                    </a:lnTo>
                    <a:lnTo>
                      <a:pt x="623" y="606"/>
                    </a:lnTo>
                    <a:lnTo>
                      <a:pt x="627" y="600"/>
                    </a:lnTo>
                    <a:lnTo>
                      <a:pt x="633" y="595"/>
                    </a:lnTo>
                    <a:lnTo>
                      <a:pt x="638" y="591"/>
                    </a:lnTo>
                    <a:lnTo>
                      <a:pt x="644" y="586"/>
                    </a:lnTo>
                    <a:lnTo>
                      <a:pt x="650" y="582"/>
                    </a:lnTo>
                    <a:lnTo>
                      <a:pt x="654" y="576"/>
                    </a:lnTo>
                    <a:lnTo>
                      <a:pt x="660" y="572"/>
                    </a:lnTo>
                    <a:lnTo>
                      <a:pt x="666" y="567"/>
                    </a:lnTo>
                    <a:lnTo>
                      <a:pt x="672" y="563"/>
                    </a:lnTo>
                    <a:lnTo>
                      <a:pt x="676" y="558"/>
                    </a:lnTo>
                    <a:lnTo>
                      <a:pt x="682" y="552"/>
                    </a:lnTo>
                    <a:lnTo>
                      <a:pt x="688" y="549"/>
                    </a:lnTo>
                    <a:lnTo>
                      <a:pt x="694" y="543"/>
                    </a:lnTo>
                    <a:lnTo>
                      <a:pt x="699" y="539"/>
                    </a:lnTo>
                    <a:lnTo>
                      <a:pt x="704" y="534"/>
                    </a:lnTo>
                    <a:lnTo>
                      <a:pt x="710" y="530"/>
                    </a:lnTo>
                    <a:lnTo>
                      <a:pt x="716" y="526"/>
                    </a:lnTo>
                    <a:lnTo>
                      <a:pt x="722" y="521"/>
                    </a:lnTo>
                    <a:lnTo>
                      <a:pt x="728" y="515"/>
                    </a:lnTo>
                    <a:lnTo>
                      <a:pt x="736" y="511"/>
                    </a:lnTo>
                    <a:lnTo>
                      <a:pt x="740" y="506"/>
                    </a:lnTo>
                    <a:lnTo>
                      <a:pt x="746" y="502"/>
                    </a:lnTo>
                    <a:lnTo>
                      <a:pt x="752" y="497"/>
                    </a:lnTo>
                    <a:lnTo>
                      <a:pt x="758" y="493"/>
                    </a:lnTo>
                    <a:lnTo>
                      <a:pt x="764" y="488"/>
                    </a:lnTo>
                    <a:lnTo>
                      <a:pt x="770" y="484"/>
                    </a:lnTo>
                    <a:lnTo>
                      <a:pt x="776" y="478"/>
                    </a:lnTo>
                    <a:lnTo>
                      <a:pt x="783" y="475"/>
                    </a:lnTo>
                    <a:lnTo>
                      <a:pt x="788" y="469"/>
                    </a:lnTo>
                    <a:lnTo>
                      <a:pt x="795" y="466"/>
                    </a:lnTo>
                    <a:lnTo>
                      <a:pt x="799" y="462"/>
                    </a:lnTo>
                    <a:lnTo>
                      <a:pt x="805" y="457"/>
                    </a:lnTo>
                    <a:lnTo>
                      <a:pt x="811" y="453"/>
                    </a:lnTo>
                    <a:lnTo>
                      <a:pt x="817" y="448"/>
                    </a:lnTo>
                    <a:lnTo>
                      <a:pt x="825" y="444"/>
                    </a:lnTo>
                    <a:lnTo>
                      <a:pt x="831" y="441"/>
                    </a:lnTo>
                    <a:lnTo>
                      <a:pt x="835" y="437"/>
                    </a:lnTo>
                    <a:lnTo>
                      <a:pt x="841" y="432"/>
                    </a:lnTo>
                    <a:lnTo>
                      <a:pt x="847" y="428"/>
                    </a:lnTo>
                    <a:lnTo>
                      <a:pt x="853" y="425"/>
                    </a:lnTo>
                    <a:lnTo>
                      <a:pt x="857" y="420"/>
                    </a:lnTo>
                    <a:lnTo>
                      <a:pt x="863" y="417"/>
                    </a:lnTo>
                    <a:lnTo>
                      <a:pt x="869" y="413"/>
                    </a:lnTo>
                    <a:lnTo>
                      <a:pt x="875" y="410"/>
                    </a:lnTo>
                    <a:lnTo>
                      <a:pt x="881" y="405"/>
                    </a:lnTo>
                    <a:lnTo>
                      <a:pt x="886" y="402"/>
                    </a:lnTo>
                    <a:lnTo>
                      <a:pt x="891" y="398"/>
                    </a:lnTo>
                    <a:lnTo>
                      <a:pt x="896" y="395"/>
                    </a:lnTo>
                    <a:lnTo>
                      <a:pt x="902" y="391"/>
                    </a:lnTo>
                    <a:lnTo>
                      <a:pt x="906" y="388"/>
                    </a:lnTo>
                    <a:lnTo>
                      <a:pt x="911" y="385"/>
                    </a:lnTo>
                    <a:lnTo>
                      <a:pt x="917" y="383"/>
                    </a:lnTo>
                    <a:lnTo>
                      <a:pt x="921" y="379"/>
                    </a:lnTo>
                    <a:lnTo>
                      <a:pt x="926" y="376"/>
                    </a:lnTo>
                    <a:lnTo>
                      <a:pt x="930" y="373"/>
                    </a:lnTo>
                    <a:lnTo>
                      <a:pt x="936" y="368"/>
                    </a:lnTo>
                    <a:lnTo>
                      <a:pt x="940" y="365"/>
                    </a:lnTo>
                    <a:lnTo>
                      <a:pt x="943" y="364"/>
                    </a:lnTo>
                    <a:lnTo>
                      <a:pt x="948" y="361"/>
                    </a:lnTo>
                    <a:lnTo>
                      <a:pt x="954" y="358"/>
                    </a:lnTo>
                    <a:lnTo>
                      <a:pt x="957" y="355"/>
                    </a:lnTo>
                    <a:lnTo>
                      <a:pt x="961" y="352"/>
                    </a:lnTo>
                    <a:lnTo>
                      <a:pt x="966" y="349"/>
                    </a:lnTo>
                    <a:lnTo>
                      <a:pt x="970" y="346"/>
                    </a:lnTo>
                    <a:lnTo>
                      <a:pt x="973" y="345"/>
                    </a:lnTo>
                    <a:lnTo>
                      <a:pt x="978" y="342"/>
                    </a:lnTo>
                    <a:lnTo>
                      <a:pt x="982" y="339"/>
                    </a:lnTo>
                    <a:lnTo>
                      <a:pt x="986" y="337"/>
                    </a:lnTo>
                    <a:lnTo>
                      <a:pt x="991" y="334"/>
                    </a:lnTo>
                    <a:lnTo>
                      <a:pt x="994" y="331"/>
                    </a:lnTo>
                    <a:lnTo>
                      <a:pt x="998" y="330"/>
                    </a:lnTo>
                    <a:lnTo>
                      <a:pt x="1003" y="327"/>
                    </a:lnTo>
                    <a:lnTo>
                      <a:pt x="1006" y="325"/>
                    </a:lnTo>
                    <a:lnTo>
                      <a:pt x="1010" y="322"/>
                    </a:lnTo>
                    <a:lnTo>
                      <a:pt x="1015" y="321"/>
                    </a:lnTo>
                    <a:lnTo>
                      <a:pt x="1019" y="319"/>
                    </a:lnTo>
                    <a:lnTo>
                      <a:pt x="1022" y="316"/>
                    </a:lnTo>
                    <a:lnTo>
                      <a:pt x="1026" y="313"/>
                    </a:lnTo>
                    <a:lnTo>
                      <a:pt x="1029" y="312"/>
                    </a:lnTo>
                    <a:lnTo>
                      <a:pt x="1034" y="309"/>
                    </a:lnTo>
                    <a:lnTo>
                      <a:pt x="1038" y="307"/>
                    </a:lnTo>
                    <a:lnTo>
                      <a:pt x="1043" y="304"/>
                    </a:lnTo>
                    <a:lnTo>
                      <a:pt x="1047" y="303"/>
                    </a:lnTo>
                    <a:lnTo>
                      <a:pt x="1052" y="301"/>
                    </a:lnTo>
                    <a:lnTo>
                      <a:pt x="1055" y="299"/>
                    </a:lnTo>
                    <a:lnTo>
                      <a:pt x="1059" y="297"/>
                    </a:lnTo>
                    <a:lnTo>
                      <a:pt x="1064" y="294"/>
                    </a:lnTo>
                    <a:lnTo>
                      <a:pt x="1067" y="293"/>
                    </a:lnTo>
                    <a:lnTo>
                      <a:pt x="1071" y="290"/>
                    </a:lnTo>
                    <a:lnTo>
                      <a:pt x="1075" y="288"/>
                    </a:lnTo>
                    <a:lnTo>
                      <a:pt x="1080" y="285"/>
                    </a:lnTo>
                    <a:lnTo>
                      <a:pt x="1086" y="284"/>
                    </a:lnTo>
                    <a:lnTo>
                      <a:pt x="1090" y="281"/>
                    </a:lnTo>
                    <a:lnTo>
                      <a:pt x="1095" y="278"/>
                    </a:lnTo>
                    <a:lnTo>
                      <a:pt x="1099" y="276"/>
                    </a:lnTo>
                    <a:lnTo>
                      <a:pt x="1104" y="275"/>
                    </a:lnTo>
                    <a:lnTo>
                      <a:pt x="1108" y="272"/>
                    </a:lnTo>
                    <a:lnTo>
                      <a:pt x="1114" y="269"/>
                    </a:lnTo>
                    <a:lnTo>
                      <a:pt x="1120" y="266"/>
                    </a:lnTo>
                    <a:lnTo>
                      <a:pt x="1124" y="264"/>
                    </a:lnTo>
                    <a:lnTo>
                      <a:pt x="1130" y="261"/>
                    </a:lnTo>
                    <a:lnTo>
                      <a:pt x="1135" y="258"/>
                    </a:lnTo>
                    <a:lnTo>
                      <a:pt x="1141" y="255"/>
                    </a:lnTo>
                    <a:lnTo>
                      <a:pt x="1147" y="254"/>
                    </a:lnTo>
                    <a:lnTo>
                      <a:pt x="1153" y="251"/>
                    </a:lnTo>
                    <a:lnTo>
                      <a:pt x="1157" y="248"/>
                    </a:lnTo>
                    <a:lnTo>
                      <a:pt x="1164" y="245"/>
                    </a:lnTo>
                    <a:lnTo>
                      <a:pt x="1170" y="242"/>
                    </a:lnTo>
                    <a:lnTo>
                      <a:pt x="1176" y="239"/>
                    </a:lnTo>
                    <a:lnTo>
                      <a:pt x="1184" y="236"/>
                    </a:lnTo>
                    <a:lnTo>
                      <a:pt x="1190" y="233"/>
                    </a:lnTo>
                    <a:lnTo>
                      <a:pt x="1197" y="230"/>
                    </a:lnTo>
                    <a:lnTo>
                      <a:pt x="1205" y="226"/>
                    </a:lnTo>
                    <a:lnTo>
                      <a:pt x="1210" y="223"/>
                    </a:lnTo>
                    <a:lnTo>
                      <a:pt x="1218" y="220"/>
                    </a:lnTo>
                    <a:lnTo>
                      <a:pt x="1227" y="217"/>
                    </a:lnTo>
                    <a:lnTo>
                      <a:pt x="1234" y="212"/>
                    </a:lnTo>
                    <a:lnTo>
                      <a:pt x="1242" y="209"/>
                    </a:lnTo>
                    <a:lnTo>
                      <a:pt x="1249" y="205"/>
                    </a:lnTo>
                    <a:lnTo>
                      <a:pt x="1258" y="202"/>
                    </a:lnTo>
                    <a:lnTo>
                      <a:pt x="1265" y="198"/>
                    </a:lnTo>
                    <a:lnTo>
                      <a:pt x="1273" y="193"/>
                    </a:lnTo>
                    <a:lnTo>
                      <a:pt x="1282" y="189"/>
                    </a:lnTo>
                    <a:lnTo>
                      <a:pt x="1292" y="186"/>
                    </a:lnTo>
                    <a:lnTo>
                      <a:pt x="1300" y="181"/>
                    </a:lnTo>
                    <a:lnTo>
                      <a:pt x="1308" y="177"/>
                    </a:lnTo>
                    <a:lnTo>
                      <a:pt x="1317" y="172"/>
                    </a:lnTo>
                    <a:lnTo>
                      <a:pt x="1326" y="168"/>
                    </a:lnTo>
                    <a:lnTo>
                      <a:pt x="1335" y="163"/>
                    </a:lnTo>
                    <a:lnTo>
                      <a:pt x="1344" y="159"/>
                    </a:lnTo>
                    <a:lnTo>
                      <a:pt x="1354" y="155"/>
                    </a:lnTo>
                    <a:lnTo>
                      <a:pt x="1363" y="152"/>
                    </a:lnTo>
                    <a:lnTo>
                      <a:pt x="1374" y="146"/>
                    </a:lnTo>
                    <a:lnTo>
                      <a:pt x="1383" y="143"/>
                    </a:lnTo>
                    <a:lnTo>
                      <a:pt x="1391" y="137"/>
                    </a:lnTo>
                    <a:lnTo>
                      <a:pt x="1400" y="134"/>
                    </a:lnTo>
                    <a:lnTo>
                      <a:pt x="1411" y="128"/>
                    </a:lnTo>
                    <a:lnTo>
                      <a:pt x="1420" y="123"/>
                    </a:lnTo>
                    <a:lnTo>
                      <a:pt x="1430" y="119"/>
                    </a:lnTo>
                    <a:lnTo>
                      <a:pt x="1439" y="116"/>
                    </a:lnTo>
                    <a:lnTo>
                      <a:pt x="1449" y="110"/>
                    </a:lnTo>
                    <a:lnTo>
                      <a:pt x="1458" y="107"/>
                    </a:lnTo>
                    <a:lnTo>
                      <a:pt x="1467" y="101"/>
                    </a:lnTo>
                    <a:lnTo>
                      <a:pt x="1478" y="98"/>
                    </a:lnTo>
                    <a:lnTo>
                      <a:pt x="1486" y="94"/>
                    </a:lnTo>
                    <a:lnTo>
                      <a:pt x="1497" y="89"/>
                    </a:lnTo>
                    <a:lnTo>
                      <a:pt x="1506" y="86"/>
                    </a:lnTo>
                    <a:lnTo>
                      <a:pt x="1516" y="82"/>
                    </a:lnTo>
                    <a:lnTo>
                      <a:pt x="1524" y="77"/>
                    </a:lnTo>
                    <a:lnTo>
                      <a:pt x="1534" y="73"/>
                    </a:lnTo>
                    <a:lnTo>
                      <a:pt x="1541" y="69"/>
                    </a:lnTo>
                    <a:lnTo>
                      <a:pt x="1552" y="66"/>
                    </a:lnTo>
                    <a:lnTo>
                      <a:pt x="1561" y="61"/>
                    </a:lnTo>
                    <a:lnTo>
                      <a:pt x="1568" y="58"/>
                    </a:lnTo>
                    <a:lnTo>
                      <a:pt x="1577" y="54"/>
                    </a:lnTo>
                    <a:lnTo>
                      <a:pt x="1586" y="51"/>
                    </a:lnTo>
                    <a:lnTo>
                      <a:pt x="1593" y="46"/>
                    </a:lnTo>
                    <a:lnTo>
                      <a:pt x="1602" y="43"/>
                    </a:lnTo>
                    <a:lnTo>
                      <a:pt x="1610" y="40"/>
                    </a:lnTo>
                    <a:lnTo>
                      <a:pt x="1619" y="37"/>
                    </a:lnTo>
                    <a:lnTo>
                      <a:pt x="1626" y="33"/>
                    </a:lnTo>
                    <a:lnTo>
                      <a:pt x="1635" y="30"/>
                    </a:lnTo>
                    <a:lnTo>
                      <a:pt x="1642" y="27"/>
                    </a:lnTo>
                    <a:lnTo>
                      <a:pt x="1650" y="25"/>
                    </a:lnTo>
                    <a:lnTo>
                      <a:pt x="1657" y="23"/>
                    </a:lnTo>
                    <a:lnTo>
                      <a:pt x="1663" y="20"/>
                    </a:lnTo>
                    <a:lnTo>
                      <a:pt x="1670" y="18"/>
                    </a:lnTo>
                    <a:lnTo>
                      <a:pt x="1676" y="15"/>
                    </a:lnTo>
                    <a:lnTo>
                      <a:pt x="1684" y="14"/>
                    </a:lnTo>
                    <a:lnTo>
                      <a:pt x="1690" y="11"/>
                    </a:lnTo>
                    <a:lnTo>
                      <a:pt x="1696" y="9"/>
                    </a:lnTo>
                    <a:lnTo>
                      <a:pt x="1702" y="8"/>
                    </a:lnTo>
                    <a:lnTo>
                      <a:pt x="1706" y="6"/>
                    </a:lnTo>
                    <a:lnTo>
                      <a:pt x="1712" y="5"/>
                    </a:lnTo>
                    <a:lnTo>
                      <a:pt x="1718" y="3"/>
                    </a:lnTo>
                    <a:lnTo>
                      <a:pt x="1722" y="3"/>
                    </a:lnTo>
                    <a:lnTo>
                      <a:pt x="1727" y="2"/>
                    </a:lnTo>
                    <a:lnTo>
                      <a:pt x="1731" y="0"/>
                    </a:lnTo>
                    <a:lnTo>
                      <a:pt x="1736" y="0"/>
                    </a:lnTo>
                    <a:lnTo>
                      <a:pt x="1740" y="0"/>
                    </a:lnTo>
                    <a:lnTo>
                      <a:pt x="1745" y="0"/>
                    </a:lnTo>
                    <a:lnTo>
                      <a:pt x="1751" y="0"/>
                    </a:lnTo>
                    <a:lnTo>
                      <a:pt x="1755" y="2"/>
                    </a:lnTo>
                    <a:lnTo>
                      <a:pt x="1759" y="3"/>
                    </a:lnTo>
                    <a:lnTo>
                      <a:pt x="1761" y="6"/>
                    </a:lnTo>
                    <a:lnTo>
                      <a:pt x="1762" y="9"/>
                    </a:lnTo>
                    <a:lnTo>
                      <a:pt x="1764" y="12"/>
                    </a:lnTo>
                    <a:lnTo>
                      <a:pt x="1764" y="17"/>
                    </a:lnTo>
                    <a:lnTo>
                      <a:pt x="1762" y="20"/>
                    </a:lnTo>
                    <a:lnTo>
                      <a:pt x="1762" y="24"/>
                    </a:lnTo>
                    <a:lnTo>
                      <a:pt x="1759" y="28"/>
                    </a:lnTo>
                    <a:lnTo>
                      <a:pt x="1758" y="34"/>
                    </a:lnTo>
                    <a:lnTo>
                      <a:pt x="1755" y="39"/>
                    </a:lnTo>
                    <a:lnTo>
                      <a:pt x="1751" y="45"/>
                    </a:lnTo>
                    <a:lnTo>
                      <a:pt x="1748" y="51"/>
                    </a:lnTo>
                    <a:lnTo>
                      <a:pt x="1745" y="57"/>
                    </a:lnTo>
                    <a:lnTo>
                      <a:pt x="1740" y="61"/>
                    </a:lnTo>
                    <a:lnTo>
                      <a:pt x="1736" y="67"/>
                    </a:lnTo>
                    <a:lnTo>
                      <a:pt x="1731" y="71"/>
                    </a:lnTo>
                    <a:lnTo>
                      <a:pt x="1727" y="77"/>
                    </a:lnTo>
                    <a:lnTo>
                      <a:pt x="1721" y="82"/>
                    </a:lnTo>
                    <a:lnTo>
                      <a:pt x="1718" y="88"/>
                    </a:lnTo>
                    <a:lnTo>
                      <a:pt x="1713" y="92"/>
                    </a:lnTo>
                    <a:lnTo>
                      <a:pt x="1709" y="97"/>
                    </a:lnTo>
                    <a:lnTo>
                      <a:pt x="1706" y="101"/>
                    </a:lnTo>
                    <a:lnTo>
                      <a:pt x="1702" y="104"/>
                    </a:lnTo>
                    <a:lnTo>
                      <a:pt x="1699" y="107"/>
                    </a:lnTo>
                    <a:lnTo>
                      <a:pt x="1697" y="110"/>
                    </a:lnTo>
                    <a:lnTo>
                      <a:pt x="1693" y="115"/>
                    </a:lnTo>
                    <a:lnTo>
                      <a:pt x="1691" y="116"/>
                    </a:lnTo>
                    <a:lnTo>
                      <a:pt x="1430" y="214"/>
                    </a:lnTo>
                    <a:lnTo>
                      <a:pt x="1213" y="385"/>
                    </a:lnTo>
                    <a:lnTo>
                      <a:pt x="958" y="423"/>
                    </a:lnTo>
                    <a:lnTo>
                      <a:pt x="728" y="583"/>
                    </a:lnTo>
                    <a:lnTo>
                      <a:pt x="731" y="582"/>
                    </a:lnTo>
                    <a:lnTo>
                      <a:pt x="734" y="580"/>
                    </a:lnTo>
                    <a:lnTo>
                      <a:pt x="739" y="579"/>
                    </a:lnTo>
                    <a:lnTo>
                      <a:pt x="743" y="577"/>
                    </a:lnTo>
                    <a:lnTo>
                      <a:pt x="749" y="576"/>
                    </a:lnTo>
                    <a:lnTo>
                      <a:pt x="753" y="575"/>
                    </a:lnTo>
                    <a:lnTo>
                      <a:pt x="759" y="572"/>
                    </a:lnTo>
                    <a:lnTo>
                      <a:pt x="762" y="572"/>
                    </a:lnTo>
                    <a:lnTo>
                      <a:pt x="765" y="570"/>
                    </a:lnTo>
                    <a:lnTo>
                      <a:pt x="770" y="569"/>
                    </a:lnTo>
                    <a:lnTo>
                      <a:pt x="773" y="569"/>
                    </a:lnTo>
                    <a:lnTo>
                      <a:pt x="776" y="567"/>
                    </a:lnTo>
                    <a:lnTo>
                      <a:pt x="780" y="566"/>
                    </a:lnTo>
                    <a:lnTo>
                      <a:pt x="783" y="564"/>
                    </a:lnTo>
                    <a:lnTo>
                      <a:pt x="788" y="564"/>
                    </a:lnTo>
                    <a:lnTo>
                      <a:pt x="791" y="561"/>
                    </a:lnTo>
                    <a:lnTo>
                      <a:pt x="795" y="561"/>
                    </a:lnTo>
                    <a:lnTo>
                      <a:pt x="799" y="560"/>
                    </a:lnTo>
                    <a:lnTo>
                      <a:pt x="804" y="558"/>
                    </a:lnTo>
                    <a:lnTo>
                      <a:pt x="808" y="557"/>
                    </a:lnTo>
                    <a:lnTo>
                      <a:pt x="811" y="555"/>
                    </a:lnTo>
                    <a:lnTo>
                      <a:pt x="816" y="554"/>
                    </a:lnTo>
                    <a:lnTo>
                      <a:pt x="820" y="552"/>
                    </a:lnTo>
                    <a:lnTo>
                      <a:pt x="825" y="551"/>
                    </a:lnTo>
                    <a:lnTo>
                      <a:pt x="829" y="549"/>
                    </a:lnTo>
                    <a:lnTo>
                      <a:pt x="834" y="548"/>
                    </a:lnTo>
                    <a:lnTo>
                      <a:pt x="838" y="546"/>
                    </a:lnTo>
                    <a:lnTo>
                      <a:pt x="842" y="545"/>
                    </a:lnTo>
                    <a:lnTo>
                      <a:pt x="847" y="543"/>
                    </a:lnTo>
                    <a:lnTo>
                      <a:pt x="851" y="542"/>
                    </a:lnTo>
                    <a:lnTo>
                      <a:pt x="856" y="540"/>
                    </a:lnTo>
                    <a:lnTo>
                      <a:pt x="860" y="539"/>
                    </a:lnTo>
                    <a:lnTo>
                      <a:pt x="865" y="537"/>
                    </a:lnTo>
                    <a:lnTo>
                      <a:pt x="869" y="536"/>
                    </a:lnTo>
                    <a:lnTo>
                      <a:pt x="874" y="534"/>
                    </a:lnTo>
                    <a:lnTo>
                      <a:pt x="878" y="533"/>
                    </a:lnTo>
                    <a:lnTo>
                      <a:pt x="883" y="531"/>
                    </a:lnTo>
                    <a:lnTo>
                      <a:pt x="887" y="530"/>
                    </a:lnTo>
                    <a:lnTo>
                      <a:pt x="891" y="529"/>
                    </a:lnTo>
                    <a:lnTo>
                      <a:pt x="896" y="526"/>
                    </a:lnTo>
                    <a:lnTo>
                      <a:pt x="900" y="526"/>
                    </a:lnTo>
                    <a:lnTo>
                      <a:pt x="903" y="524"/>
                    </a:lnTo>
                    <a:lnTo>
                      <a:pt x="909" y="523"/>
                    </a:lnTo>
                    <a:lnTo>
                      <a:pt x="912" y="521"/>
                    </a:lnTo>
                    <a:lnTo>
                      <a:pt x="917" y="518"/>
                    </a:lnTo>
                    <a:lnTo>
                      <a:pt x="921" y="518"/>
                    </a:lnTo>
                    <a:lnTo>
                      <a:pt x="926" y="517"/>
                    </a:lnTo>
                    <a:lnTo>
                      <a:pt x="929" y="515"/>
                    </a:lnTo>
                    <a:lnTo>
                      <a:pt x="933" y="514"/>
                    </a:lnTo>
                    <a:lnTo>
                      <a:pt x="936" y="512"/>
                    </a:lnTo>
                    <a:lnTo>
                      <a:pt x="940" y="511"/>
                    </a:lnTo>
                    <a:lnTo>
                      <a:pt x="946" y="508"/>
                    </a:lnTo>
                    <a:lnTo>
                      <a:pt x="954" y="505"/>
                    </a:lnTo>
                    <a:lnTo>
                      <a:pt x="958" y="502"/>
                    </a:lnTo>
                    <a:lnTo>
                      <a:pt x="966" y="499"/>
                    </a:lnTo>
                    <a:lnTo>
                      <a:pt x="970" y="496"/>
                    </a:lnTo>
                    <a:lnTo>
                      <a:pt x="976" y="494"/>
                    </a:lnTo>
                    <a:lnTo>
                      <a:pt x="980" y="491"/>
                    </a:lnTo>
                    <a:lnTo>
                      <a:pt x="986" y="488"/>
                    </a:lnTo>
                    <a:lnTo>
                      <a:pt x="991" y="487"/>
                    </a:lnTo>
                    <a:lnTo>
                      <a:pt x="995" y="484"/>
                    </a:lnTo>
                    <a:lnTo>
                      <a:pt x="1000" y="481"/>
                    </a:lnTo>
                    <a:lnTo>
                      <a:pt x="1004" y="480"/>
                    </a:lnTo>
                    <a:lnTo>
                      <a:pt x="1007" y="477"/>
                    </a:lnTo>
                    <a:lnTo>
                      <a:pt x="1012" y="475"/>
                    </a:lnTo>
                    <a:lnTo>
                      <a:pt x="1016" y="474"/>
                    </a:lnTo>
                    <a:lnTo>
                      <a:pt x="1021" y="472"/>
                    </a:lnTo>
                    <a:lnTo>
                      <a:pt x="1024" y="469"/>
                    </a:lnTo>
                    <a:lnTo>
                      <a:pt x="1026" y="468"/>
                    </a:lnTo>
                    <a:lnTo>
                      <a:pt x="1031" y="466"/>
                    </a:lnTo>
                    <a:lnTo>
                      <a:pt x="1034" y="463"/>
                    </a:lnTo>
                    <a:lnTo>
                      <a:pt x="1038" y="462"/>
                    </a:lnTo>
                    <a:lnTo>
                      <a:pt x="1041" y="460"/>
                    </a:lnTo>
                    <a:lnTo>
                      <a:pt x="1046" y="459"/>
                    </a:lnTo>
                    <a:lnTo>
                      <a:pt x="1050" y="459"/>
                    </a:lnTo>
                    <a:lnTo>
                      <a:pt x="1055" y="456"/>
                    </a:lnTo>
                    <a:lnTo>
                      <a:pt x="1058" y="454"/>
                    </a:lnTo>
                    <a:lnTo>
                      <a:pt x="1062" y="453"/>
                    </a:lnTo>
                    <a:lnTo>
                      <a:pt x="1068" y="451"/>
                    </a:lnTo>
                    <a:lnTo>
                      <a:pt x="1072" y="451"/>
                    </a:lnTo>
                    <a:lnTo>
                      <a:pt x="1077" y="450"/>
                    </a:lnTo>
                    <a:lnTo>
                      <a:pt x="1083" y="448"/>
                    </a:lnTo>
                    <a:lnTo>
                      <a:pt x="1089" y="448"/>
                    </a:lnTo>
                    <a:lnTo>
                      <a:pt x="1095" y="447"/>
                    </a:lnTo>
                    <a:lnTo>
                      <a:pt x="1101" y="447"/>
                    </a:lnTo>
                    <a:lnTo>
                      <a:pt x="1107" y="445"/>
                    </a:lnTo>
                    <a:lnTo>
                      <a:pt x="1113" y="444"/>
                    </a:lnTo>
                    <a:lnTo>
                      <a:pt x="1120" y="444"/>
                    </a:lnTo>
                    <a:lnTo>
                      <a:pt x="1126" y="444"/>
                    </a:lnTo>
                    <a:lnTo>
                      <a:pt x="1129" y="442"/>
                    </a:lnTo>
                    <a:lnTo>
                      <a:pt x="1133" y="442"/>
                    </a:lnTo>
                    <a:lnTo>
                      <a:pt x="1136" y="442"/>
                    </a:lnTo>
                    <a:lnTo>
                      <a:pt x="1141" y="442"/>
                    </a:lnTo>
                    <a:lnTo>
                      <a:pt x="1144" y="442"/>
                    </a:lnTo>
                    <a:lnTo>
                      <a:pt x="1147" y="442"/>
                    </a:lnTo>
                    <a:lnTo>
                      <a:pt x="1150" y="441"/>
                    </a:lnTo>
                    <a:lnTo>
                      <a:pt x="1154" y="441"/>
                    </a:lnTo>
                    <a:lnTo>
                      <a:pt x="1157" y="441"/>
                    </a:lnTo>
                    <a:lnTo>
                      <a:pt x="1162" y="441"/>
                    </a:lnTo>
                    <a:lnTo>
                      <a:pt x="1164" y="441"/>
                    </a:lnTo>
                    <a:lnTo>
                      <a:pt x="1167" y="441"/>
                    </a:lnTo>
                    <a:lnTo>
                      <a:pt x="1170" y="439"/>
                    </a:lnTo>
                    <a:lnTo>
                      <a:pt x="1175" y="439"/>
                    </a:lnTo>
                    <a:lnTo>
                      <a:pt x="1178" y="439"/>
                    </a:lnTo>
                    <a:lnTo>
                      <a:pt x="1181" y="439"/>
                    </a:lnTo>
                    <a:lnTo>
                      <a:pt x="1184" y="439"/>
                    </a:lnTo>
                    <a:lnTo>
                      <a:pt x="1188" y="439"/>
                    </a:lnTo>
                    <a:lnTo>
                      <a:pt x="1191" y="439"/>
                    </a:lnTo>
                    <a:lnTo>
                      <a:pt x="1194" y="439"/>
                    </a:lnTo>
                    <a:lnTo>
                      <a:pt x="1202" y="439"/>
                    </a:lnTo>
                    <a:lnTo>
                      <a:pt x="1208" y="439"/>
                    </a:lnTo>
                    <a:lnTo>
                      <a:pt x="1213" y="439"/>
                    </a:lnTo>
                    <a:lnTo>
                      <a:pt x="1218" y="439"/>
                    </a:lnTo>
                    <a:lnTo>
                      <a:pt x="1224" y="439"/>
                    </a:lnTo>
                    <a:lnTo>
                      <a:pt x="1228" y="439"/>
                    </a:lnTo>
                    <a:lnTo>
                      <a:pt x="1233" y="439"/>
                    </a:lnTo>
                    <a:lnTo>
                      <a:pt x="1239" y="439"/>
                    </a:lnTo>
                    <a:lnTo>
                      <a:pt x="1242" y="439"/>
                    </a:lnTo>
                    <a:lnTo>
                      <a:pt x="1246" y="439"/>
                    </a:lnTo>
                    <a:lnTo>
                      <a:pt x="1248" y="439"/>
                    </a:lnTo>
                    <a:lnTo>
                      <a:pt x="1251" y="439"/>
                    </a:lnTo>
                    <a:lnTo>
                      <a:pt x="1255" y="439"/>
                    </a:lnTo>
                    <a:lnTo>
                      <a:pt x="1256" y="439"/>
                    </a:lnTo>
                    <a:lnTo>
                      <a:pt x="1254" y="441"/>
                    </a:lnTo>
                    <a:lnTo>
                      <a:pt x="1251" y="444"/>
                    </a:lnTo>
                    <a:lnTo>
                      <a:pt x="1245" y="450"/>
                    </a:lnTo>
                    <a:lnTo>
                      <a:pt x="1240" y="456"/>
                    </a:lnTo>
                    <a:lnTo>
                      <a:pt x="1236" y="462"/>
                    </a:lnTo>
                    <a:lnTo>
                      <a:pt x="1236" y="466"/>
                    </a:lnTo>
                    <a:lnTo>
                      <a:pt x="1237" y="469"/>
                    </a:lnTo>
                    <a:lnTo>
                      <a:pt x="1240" y="471"/>
                    </a:lnTo>
                    <a:lnTo>
                      <a:pt x="1242" y="471"/>
                    </a:lnTo>
                    <a:lnTo>
                      <a:pt x="1245" y="472"/>
                    </a:lnTo>
                    <a:lnTo>
                      <a:pt x="1248" y="472"/>
                    </a:lnTo>
                    <a:lnTo>
                      <a:pt x="1251" y="472"/>
                    </a:lnTo>
                    <a:lnTo>
                      <a:pt x="1254" y="472"/>
                    </a:lnTo>
                    <a:lnTo>
                      <a:pt x="1258" y="471"/>
                    </a:lnTo>
                    <a:lnTo>
                      <a:pt x="1261" y="471"/>
                    </a:lnTo>
                    <a:lnTo>
                      <a:pt x="1265" y="469"/>
                    </a:lnTo>
                    <a:lnTo>
                      <a:pt x="1271" y="469"/>
                    </a:lnTo>
                    <a:lnTo>
                      <a:pt x="1276" y="468"/>
                    </a:lnTo>
                    <a:lnTo>
                      <a:pt x="1282" y="466"/>
                    </a:lnTo>
                    <a:lnTo>
                      <a:pt x="1288" y="466"/>
                    </a:lnTo>
                    <a:lnTo>
                      <a:pt x="1294" y="463"/>
                    </a:lnTo>
                    <a:lnTo>
                      <a:pt x="1300" y="462"/>
                    </a:lnTo>
                    <a:lnTo>
                      <a:pt x="1305" y="460"/>
                    </a:lnTo>
                    <a:lnTo>
                      <a:pt x="1311" y="459"/>
                    </a:lnTo>
                    <a:lnTo>
                      <a:pt x="1317" y="457"/>
                    </a:lnTo>
                    <a:lnTo>
                      <a:pt x="1323" y="456"/>
                    </a:lnTo>
                    <a:lnTo>
                      <a:pt x="1329" y="454"/>
                    </a:lnTo>
                    <a:lnTo>
                      <a:pt x="1337" y="453"/>
                    </a:lnTo>
                    <a:lnTo>
                      <a:pt x="1341" y="451"/>
                    </a:lnTo>
                    <a:lnTo>
                      <a:pt x="1347" y="450"/>
                    </a:lnTo>
                    <a:lnTo>
                      <a:pt x="1353" y="447"/>
                    </a:lnTo>
                    <a:lnTo>
                      <a:pt x="1359" y="447"/>
                    </a:lnTo>
                    <a:lnTo>
                      <a:pt x="1363" y="444"/>
                    </a:lnTo>
                    <a:lnTo>
                      <a:pt x="1368" y="444"/>
                    </a:lnTo>
                    <a:lnTo>
                      <a:pt x="1372" y="442"/>
                    </a:lnTo>
                    <a:lnTo>
                      <a:pt x="1378" y="441"/>
                    </a:lnTo>
                    <a:lnTo>
                      <a:pt x="1381" y="439"/>
                    </a:lnTo>
                    <a:lnTo>
                      <a:pt x="1384" y="438"/>
                    </a:lnTo>
                    <a:lnTo>
                      <a:pt x="1387" y="437"/>
                    </a:lnTo>
                    <a:lnTo>
                      <a:pt x="1390" y="437"/>
                    </a:lnTo>
                    <a:lnTo>
                      <a:pt x="1393" y="437"/>
                    </a:lnTo>
                    <a:lnTo>
                      <a:pt x="1396" y="437"/>
                    </a:lnTo>
                    <a:lnTo>
                      <a:pt x="1383" y="497"/>
                    </a:lnTo>
                    <a:lnTo>
                      <a:pt x="1371" y="536"/>
                    </a:lnTo>
                    <a:lnTo>
                      <a:pt x="1371" y="537"/>
                    </a:lnTo>
                    <a:lnTo>
                      <a:pt x="1371" y="540"/>
                    </a:lnTo>
                    <a:lnTo>
                      <a:pt x="1369" y="542"/>
                    </a:lnTo>
                    <a:lnTo>
                      <a:pt x="1368" y="546"/>
                    </a:lnTo>
                    <a:lnTo>
                      <a:pt x="1366" y="551"/>
                    </a:lnTo>
                    <a:lnTo>
                      <a:pt x="1365" y="557"/>
                    </a:lnTo>
                    <a:lnTo>
                      <a:pt x="1363" y="558"/>
                    </a:lnTo>
                    <a:lnTo>
                      <a:pt x="1362" y="561"/>
                    </a:lnTo>
                    <a:lnTo>
                      <a:pt x="1360" y="564"/>
                    </a:lnTo>
                    <a:lnTo>
                      <a:pt x="1359" y="569"/>
                    </a:lnTo>
                    <a:lnTo>
                      <a:pt x="1356" y="572"/>
                    </a:lnTo>
                    <a:lnTo>
                      <a:pt x="1354" y="576"/>
                    </a:lnTo>
                    <a:lnTo>
                      <a:pt x="1351" y="579"/>
                    </a:lnTo>
                    <a:lnTo>
                      <a:pt x="1348" y="583"/>
                    </a:lnTo>
                    <a:lnTo>
                      <a:pt x="1346" y="588"/>
                    </a:lnTo>
                    <a:lnTo>
                      <a:pt x="1343" y="592"/>
                    </a:lnTo>
                    <a:lnTo>
                      <a:pt x="1340" y="598"/>
                    </a:lnTo>
                    <a:lnTo>
                      <a:pt x="1335" y="603"/>
                    </a:lnTo>
                    <a:lnTo>
                      <a:pt x="1331" y="609"/>
                    </a:lnTo>
                    <a:lnTo>
                      <a:pt x="1328" y="615"/>
                    </a:lnTo>
                    <a:lnTo>
                      <a:pt x="1322" y="621"/>
                    </a:lnTo>
                    <a:lnTo>
                      <a:pt x="1319" y="626"/>
                    </a:lnTo>
                    <a:lnTo>
                      <a:pt x="1311" y="632"/>
                    </a:lnTo>
                    <a:lnTo>
                      <a:pt x="1307" y="640"/>
                    </a:lnTo>
                    <a:lnTo>
                      <a:pt x="1302" y="643"/>
                    </a:lnTo>
                    <a:lnTo>
                      <a:pt x="1300" y="646"/>
                    </a:lnTo>
                    <a:lnTo>
                      <a:pt x="1297" y="649"/>
                    </a:lnTo>
                    <a:lnTo>
                      <a:pt x="1294" y="653"/>
                    </a:lnTo>
                    <a:lnTo>
                      <a:pt x="1291" y="656"/>
                    </a:lnTo>
                    <a:lnTo>
                      <a:pt x="1288" y="659"/>
                    </a:lnTo>
                    <a:lnTo>
                      <a:pt x="1283" y="662"/>
                    </a:lnTo>
                    <a:lnTo>
                      <a:pt x="1280" y="667"/>
                    </a:lnTo>
                    <a:lnTo>
                      <a:pt x="1277" y="669"/>
                    </a:lnTo>
                    <a:lnTo>
                      <a:pt x="1273" y="674"/>
                    </a:lnTo>
                    <a:lnTo>
                      <a:pt x="1270" y="677"/>
                    </a:lnTo>
                    <a:lnTo>
                      <a:pt x="1267" y="681"/>
                    </a:lnTo>
                    <a:lnTo>
                      <a:pt x="1264" y="684"/>
                    </a:lnTo>
                    <a:lnTo>
                      <a:pt x="1259" y="689"/>
                    </a:lnTo>
                    <a:lnTo>
                      <a:pt x="1256" y="692"/>
                    </a:lnTo>
                    <a:lnTo>
                      <a:pt x="1254" y="696"/>
                    </a:lnTo>
                    <a:lnTo>
                      <a:pt x="1249" y="699"/>
                    </a:lnTo>
                    <a:lnTo>
                      <a:pt x="1246" y="702"/>
                    </a:lnTo>
                    <a:lnTo>
                      <a:pt x="1242" y="707"/>
                    </a:lnTo>
                    <a:lnTo>
                      <a:pt x="1239" y="710"/>
                    </a:lnTo>
                    <a:lnTo>
                      <a:pt x="1236" y="713"/>
                    </a:lnTo>
                    <a:lnTo>
                      <a:pt x="1231" y="717"/>
                    </a:lnTo>
                    <a:lnTo>
                      <a:pt x="1228" y="720"/>
                    </a:lnTo>
                    <a:lnTo>
                      <a:pt x="1225" y="724"/>
                    </a:lnTo>
                    <a:lnTo>
                      <a:pt x="1221" y="727"/>
                    </a:lnTo>
                    <a:lnTo>
                      <a:pt x="1218" y="730"/>
                    </a:lnTo>
                    <a:lnTo>
                      <a:pt x="1215" y="735"/>
                    </a:lnTo>
                    <a:lnTo>
                      <a:pt x="1212" y="738"/>
                    </a:lnTo>
                    <a:lnTo>
                      <a:pt x="1206" y="745"/>
                    </a:lnTo>
                    <a:lnTo>
                      <a:pt x="1199" y="751"/>
                    </a:lnTo>
                    <a:lnTo>
                      <a:pt x="1193" y="756"/>
                    </a:lnTo>
                    <a:lnTo>
                      <a:pt x="1187" y="763"/>
                    </a:lnTo>
                    <a:lnTo>
                      <a:pt x="1182" y="767"/>
                    </a:lnTo>
                    <a:lnTo>
                      <a:pt x="1176" y="773"/>
                    </a:lnTo>
                    <a:lnTo>
                      <a:pt x="1172" y="778"/>
                    </a:lnTo>
                    <a:lnTo>
                      <a:pt x="1167" y="782"/>
                    </a:lnTo>
                    <a:lnTo>
                      <a:pt x="1163" y="785"/>
                    </a:lnTo>
                    <a:lnTo>
                      <a:pt x="1160" y="790"/>
                    </a:lnTo>
                    <a:lnTo>
                      <a:pt x="1156" y="793"/>
                    </a:lnTo>
                    <a:lnTo>
                      <a:pt x="1154" y="796"/>
                    </a:lnTo>
                    <a:lnTo>
                      <a:pt x="1150" y="799"/>
                    </a:lnTo>
                    <a:lnTo>
                      <a:pt x="1150" y="802"/>
                    </a:lnTo>
                    <a:lnTo>
                      <a:pt x="1381" y="656"/>
                    </a:lnTo>
                    <a:lnTo>
                      <a:pt x="1380" y="658"/>
                    </a:lnTo>
                    <a:lnTo>
                      <a:pt x="1377" y="661"/>
                    </a:lnTo>
                    <a:lnTo>
                      <a:pt x="1374" y="665"/>
                    </a:lnTo>
                    <a:lnTo>
                      <a:pt x="1369" y="669"/>
                    </a:lnTo>
                    <a:lnTo>
                      <a:pt x="1363" y="677"/>
                    </a:lnTo>
                    <a:lnTo>
                      <a:pt x="1360" y="680"/>
                    </a:lnTo>
                    <a:lnTo>
                      <a:pt x="1357" y="683"/>
                    </a:lnTo>
                    <a:lnTo>
                      <a:pt x="1354" y="687"/>
                    </a:lnTo>
                    <a:lnTo>
                      <a:pt x="1351" y="692"/>
                    </a:lnTo>
                    <a:lnTo>
                      <a:pt x="1348" y="695"/>
                    </a:lnTo>
                    <a:lnTo>
                      <a:pt x="1344" y="699"/>
                    </a:lnTo>
                    <a:lnTo>
                      <a:pt x="1341" y="704"/>
                    </a:lnTo>
                    <a:lnTo>
                      <a:pt x="1337" y="708"/>
                    </a:lnTo>
                    <a:lnTo>
                      <a:pt x="1334" y="713"/>
                    </a:lnTo>
                    <a:lnTo>
                      <a:pt x="1329" y="718"/>
                    </a:lnTo>
                    <a:lnTo>
                      <a:pt x="1325" y="723"/>
                    </a:lnTo>
                    <a:lnTo>
                      <a:pt x="1322" y="729"/>
                    </a:lnTo>
                    <a:lnTo>
                      <a:pt x="1316" y="733"/>
                    </a:lnTo>
                    <a:lnTo>
                      <a:pt x="1311" y="739"/>
                    </a:lnTo>
                    <a:lnTo>
                      <a:pt x="1307" y="745"/>
                    </a:lnTo>
                    <a:lnTo>
                      <a:pt x="1302" y="751"/>
                    </a:lnTo>
                    <a:lnTo>
                      <a:pt x="1298" y="756"/>
                    </a:lnTo>
                    <a:lnTo>
                      <a:pt x="1294" y="763"/>
                    </a:lnTo>
                    <a:lnTo>
                      <a:pt x="1289" y="769"/>
                    </a:lnTo>
                    <a:lnTo>
                      <a:pt x="1285" y="775"/>
                    </a:lnTo>
                    <a:lnTo>
                      <a:pt x="1280" y="781"/>
                    </a:lnTo>
                    <a:lnTo>
                      <a:pt x="1276" y="787"/>
                    </a:lnTo>
                    <a:lnTo>
                      <a:pt x="1270" y="793"/>
                    </a:lnTo>
                    <a:lnTo>
                      <a:pt x="1265" y="799"/>
                    </a:lnTo>
                    <a:lnTo>
                      <a:pt x="1261" y="805"/>
                    </a:lnTo>
                    <a:lnTo>
                      <a:pt x="1256" y="810"/>
                    </a:lnTo>
                    <a:lnTo>
                      <a:pt x="1252" y="816"/>
                    </a:lnTo>
                    <a:lnTo>
                      <a:pt x="1248" y="824"/>
                    </a:lnTo>
                    <a:lnTo>
                      <a:pt x="1243" y="828"/>
                    </a:lnTo>
                    <a:lnTo>
                      <a:pt x="1239" y="834"/>
                    </a:lnTo>
                    <a:lnTo>
                      <a:pt x="1234" y="840"/>
                    </a:lnTo>
                    <a:lnTo>
                      <a:pt x="1230" y="846"/>
                    </a:lnTo>
                    <a:lnTo>
                      <a:pt x="1225" y="851"/>
                    </a:lnTo>
                    <a:lnTo>
                      <a:pt x="1222" y="856"/>
                    </a:lnTo>
                    <a:lnTo>
                      <a:pt x="1218" y="861"/>
                    </a:lnTo>
                    <a:lnTo>
                      <a:pt x="1215" y="867"/>
                    </a:lnTo>
                    <a:lnTo>
                      <a:pt x="1212" y="871"/>
                    </a:lnTo>
                    <a:lnTo>
                      <a:pt x="1208" y="876"/>
                    </a:lnTo>
                    <a:lnTo>
                      <a:pt x="1205" y="880"/>
                    </a:lnTo>
                    <a:lnTo>
                      <a:pt x="1202" y="885"/>
                    </a:lnTo>
                    <a:lnTo>
                      <a:pt x="1199" y="888"/>
                    </a:lnTo>
                    <a:lnTo>
                      <a:pt x="1196" y="892"/>
                    </a:lnTo>
                    <a:lnTo>
                      <a:pt x="1193" y="895"/>
                    </a:lnTo>
                    <a:lnTo>
                      <a:pt x="1191" y="899"/>
                    </a:lnTo>
                    <a:lnTo>
                      <a:pt x="1187" y="904"/>
                    </a:lnTo>
                    <a:lnTo>
                      <a:pt x="1184" y="907"/>
                    </a:lnTo>
                    <a:lnTo>
                      <a:pt x="1182" y="910"/>
                    </a:lnTo>
                    <a:lnTo>
                      <a:pt x="1182" y="911"/>
                    </a:lnTo>
                    <a:lnTo>
                      <a:pt x="1285" y="843"/>
                    </a:lnTo>
                    <a:lnTo>
                      <a:pt x="1285" y="845"/>
                    </a:lnTo>
                    <a:lnTo>
                      <a:pt x="1285" y="848"/>
                    </a:lnTo>
                    <a:lnTo>
                      <a:pt x="1286" y="852"/>
                    </a:lnTo>
                    <a:lnTo>
                      <a:pt x="1286" y="856"/>
                    </a:lnTo>
                    <a:lnTo>
                      <a:pt x="1286" y="862"/>
                    </a:lnTo>
                    <a:lnTo>
                      <a:pt x="1285" y="865"/>
                    </a:lnTo>
                    <a:lnTo>
                      <a:pt x="1285" y="868"/>
                    </a:lnTo>
                    <a:lnTo>
                      <a:pt x="1285" y="873"/>
                    </a:lnTo>
                    <a:lnTo>
                      <a:pt x="1285" y="877"/>
                    </a:lnTo>
                    <a:lnTo>
                      <a:pt x="1285" y="880"/>
                    </a:lnTo>
                    <a:lnTo>
                      <a:pt x="1283" y="885"/>
                    </a:lnTo>
                    <a:lnTo>
                      <a:pt x="1282" y="888"/>
                    </a:lnTo>
                    <a:lnTo>
                      <a:pt x="1282" y="892"/>
                    </a:lnTo>
                    <a:lnTo>
                      <a:pt x="1280" y="897"/>
                    </a:lnTo>
                    <a:lnTo>
                      <a:pt x="1279" y="902"/>
                    </a:lnTo>
                    <a:lnTo>
                      <a:pt x="1277" y="907"/>
                    </a:lnTo>
                    <a:lnTo>
                      <a:pt x="1276" y="913"/>
                    </a:lnTo>
                    <a:lnTo>
                      <a:pt x="1273" y="917"/>
                    </a:lnTo>
                    <a:lnTo>
                      <a:pt x="1270" y="922"/>
                    </a:lnTo>
                    <a:lnTo>
                      <a:pt x="1268" y="928"/>
                    </a:lnTo>
                    <a:lnTo>
                      <a:pt x="1265" y="934"/>
                    </a:lnTo>
                    <a:lnTo>
                      <a:pt x="1262" y="940"/>
                    </a:lnTo>
                    <a:lnTo>
                      <a:pt x="1258" y="944"/>
                    </a:lnTo>
                    <a:lnTo>
                      <a:pt x="1255" y="951"/>
                    </a:lnTo>
                    <a:lnTo>
                      <a:pt x="1251" y="957"/>
                    </a:lnTo>
                    <a:lnTo>
                      <a:pt x="1245" y="963"/>
                    </a:lnTo>
                    <a:lnTo>
                      <a:pt x="1240" y="968"/>
                    </a:lnTo>
                    <a:lnTo>
                      <a:pt x="1234" y="974"/>
                    </a:lnTo>
                    <a:lnTo>
                      <a:pt x="1228" y="980"/>
                    </a:lnTo>
                    <a:lnTo>
                      <a:pt x="1222" y="986"/>
                    </a:lnTo>
                    <a:lnTo>
                      <a:pt x="1216" y="990"/>
                    </a:lnTo>
                    <a:lnTo>
                      <a:pt x="1210" y="996"/>
                    </a:lnTo>
                    <a:lnTo>
                      <a:pt x="1205" y="1002"/>
                    </a:lnTo>
                    <a:lnTo>
                      <a:pt x="1200" y="1005"/>
                    </a:lnTo>
                    <a:lnTo>
                      <a:pt x="1197" y="1008"/>
                    </a:lnTo>
                    <a:lnTo>
                      <a:pt x="1193" y="1011"/>
                    </a:lnTo>
                    <a:lnTo>
                      <a:pt x="1190" y="1014"/>
                    </a:lnTo>
                    <a:lnTo>
                      <a:pt x="1184" y="1020"/>
                    </a:lnTo>
                    <a:lnTo>
                      <a:pt x="1176" y="1024"/>
                    </a:lnTo>
                    <a:lnTo>
                      <a:pt x="1173" y="1027"/>
                    </a:lnTo>
                    <a:lnTo>
                      <a:pt x="1169" y="1030"/>
                    </a:lnTo>
                    <a:lnTo>
                      <a:pt x="1166" y="1032"/>
                    </a:lnTo>
                    <a:lnTo>
                      <a:pt x="1163" y="1035"/>
                    </a:lnTo>
                    <a:lnTo>
                      <a:pt x="1157" y="1039"/>
                    </a:lnTo>
                    <a:lnTo>
                      <a:pt x="1151" y="1045"/>
                    </a:lnTo>
                    <a:lnTo>
                      <a:pt x="1144" y="1049"/>
                    </a:lnTo>
                    <a:lnTo>
                      <a:pt x="1138" y="1054"/>
                    </a:lnTo>
                    <a:lnTo>
                      <a:pt x="1132" y="1058"/>
                    </a:lnTo>
                    <a:lnTo>
                      <a:pt x="1126" y="1063"/>
                    </a:lnTo>
                    <a:lnTo>
                      <a:pt x="1120" y="1066"/>
                    </a:lnTo>
                    <a:lnTo>
                      <a:pt x="1116" y="1070"/>
                    </a:lnTo>
                    <a:lnTo>
                      <a:pt x="1111" y="1073"/>
                    </a:lnTo>
                    <a:lnTo>
                      <a:pt x="1107" y="1076"/>
                    </a:lnTo>
                    <a:lnTo>
                      <a:pt x="1102" y="1079"/>
                    </a:lnTo>
                    <a:lnTo>
                      <a:pt x="1099" y="1082"/>
                    </a:lnTo>
                    <a:lnTo>
                      <a:pt x="1095" y="1083"/>
                    </a:lnTo>
                    <a:lnTo>
                      <a:pt x="1093" y="1085"/>
                    </a:lnTo>
                    <a:lnTo>
                      <a:pt x="1090" y="1088"/>
                    </a:lnTo>
                    <a:lnTo>
                      <a:pt x="1089" y="1089"/>
                    </a:lnTo>
                    <a:lnTo>
                      <a:pt x="1026" y="1094"/>
                    </a:lnTo>
                    <a:lnTo>
                      <a:pt x="992" y="1085"/>
                    </a:lnTo>
                    <a:lnTo>
                      <a:pt x="699" y="1153"/>
                    </a:lnTo>
                    <a:lnTo>
                      <a:pt x="581" y="1156"/>
                    </a:lnTo>
                    <a:lnTo>
                      <a:pt x="431" y="1348"/>
                    </a:lnTo>
                    <a:lnTo>
                      <a:pt x="55" y="1739"/>
                    </a:lnTo>
                    <a:lnTo>
                      <a:pt x="0" y="1276"/>
                    </a:lnTo>
                    <a:lnTo>
                      <a:pt x="0" y="127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476520" y="2209680"/>
                <a:ext cx="515880" cy="447840"/>
              </a:xfrm>
              <a:custGeom>
                <a:avLst/>
                <a:gdLst/>
                <a:ahLst/>
                <a:rect l="l" t="t" r="r" b="b"/>
                <a:pathLst>
                  <a:path w="650" h="564">
                    <a:moveTo>
                      <a:pt x="442" y="0"/>
                    </a:moveTo>
                    <a:lnTo>
                      <a:pt x="441" y="1"/>
                    </a:lnTo>
                    <a:lnTo>
                      <a:pt x="439" y="4"/>
                    </a:lnTo>
                    <a:lnTo>
                      <a:pt x="436" y="6"/>
                    </a:lnTo>
                    <a:lnTo>
                      <a:pt x="435" y="9"/>
                    </a:lnTo>
                    <a:lnTo>
                      <a:pt x="432" y="13"/>
                    </a:lnTo>
                    <a:lnTo>
                      <a:pt x="429" y="16"/>
                    </a:lnTo>
                    <a:lnTo>
                      <a:pt x="424" y="19"/>
                    </a:lnTo>
                    <a:lnTo>
                      <a:pt x="420" y="24"/>
                    </a:lnTo>
                    <a:lnTo>
                      <a:pt x="414" y="28"/>
                    </a:lnTo>
                    <a:lnTo>
                      <a:pt x="408" y="32"/>
                    </a:lnTo>
                    <a:lnTo>
                      <a:pt x="405" y="34"/>
                    </a:lnTo>
                    <a:lnTo>
                      <a:pt x="402" y="37"/>
                    </a:lnTo>
                    <a:lnTo>
                      <a:pt x="398" y="40"/>
                    </a:lnTo>
                    <a:lnTo>
                      <a:pt x="395" y="41"/>
                    </a:lnTo>
                    <a:lnTo>
                      <a:pt x="390" y="43"/>
                    </a:lnTo>
                    <a:lnTo>
                      <a:pt x="386" y="46"/>
                    </a:lnTo>
                    <a:lnTo>
                      <a:pt x="381" y="49"/>
                    </a:lnTo>
                    <a:lnTo>
                      <a:pt x="377" y="52"/>
                    </a:lnTo>
                    <a:lnTo>
                      <a:pt x="372" y="53"/>
                    </a:lnTo>
                    <a:lnTo>
                      <a:pt x="366" y="56"/>
                    </a:lnTo>
                    <a:lnTo>
                      <a:pt x="360" y="59"/>
                    </a:lnTo>
                    <a:lnTo>
                      <a:pt x="355" y="61"/>
                    </a:lnTo>
                    <a:lnTo>
                      <a:pt x="349" y="62"/>
                    </a:lnTo>
                    <a:lnTo>
                      <a:pt x="343" y="65"/>
                    </a:lnTo>
                    <a:lnTo>
                      <a:pt x="337" y="68"/>
                    </a:lnTo>
                    <a:lnTo>
                      <a:pt x="331" y="70"/>
                    </a:lnTo>
                    <a:lnTo>
                      <a:pt x="325" y="72"/>
                    </a:lnTo>
                    <a:lnTo>
                      <a:pt x="319" y="74"/>
                    </a:lnTo>
                    <a:lnTo>
                      <a:pt x="313" y="77"/>
                    </a:lnTo>
                    <a:lnTo>
                      <a:pt x="307" y="78"/>
                    </a:lnTo>
                    <a:lnTo>
                      <a:pt x="301" y="81"/>
                    </a:lnTo>
                    <a:lnTo>
                      <a:pt x="295" y="83"/>
                    </a:lnTo>
                    <a:lnTo>
                      <a:pt x="291" y="84"/>
                    </a:lnTo>
                    <a:lnTo>
                      <a:pt x="285" y="87"/>
                    </a:lnTo>
                    <a:lnTo>
                      <a:pt x="279" y="89"/>
                    </a:lnTo>
                    <a:lnTo>
                      <a:pt x="273" y="90"/>
                    </a:lnTo>
                    <a:lnTo>
                      <a:pt x="268" y="92"/>
                    </a:lnTo>
                    <a:lnTo>
                      <a:pt x="264" y="93"/>
                    </a:lnTo>
                    <a:lnTo>
                      <a:pt x="258" y="95"/>
                    </a:lnTo>
                    <a:lnTo>
                      <a:pt x="254" y="96"/>
                    </a:lnTo>
                    <a:lnTo>
                      <a:pt x="251" y="96"/>
                    </a:lnTo>
                    <a:lnTo>
                      <a:pt x="248" y="98"/>
                    </a:lnTo>
                    <a:lnTo>
                      <a:pt x="243" y="99"/>
                    </a:lnTo>
                    <a:lnTo>
                      <a:pt x="240" y="99"/>
                    </a:lnTo>
                    <a:lnTo>
                      <a:pt x="237" y="101"/>
                    </a:lnTo>
                    <a:lnTo>
                      <a:pt x="236" y="101"/>
                    </a:lnTo>
                    <a:lnTo>
                      <a:pt x="233" y="102"/>
                    </a:lnTo>
                    <a:lnTo>
                      <a:pt x="233" y="104"/>
                    </a:lnTo>
                    <a:lnTo>
                      <a:pt x="234" y="104"/>
                    </a:lnTo>
                    <a:lnTo>
                      <a:pt x="239" y="105"/>
                    </a:lnTo>
                    <a:lnTo>
                      <a:pt x="242" y="107"/>
                    </a:lnTo>
                    <a:lnTo>
                      <a:pt x="245" y="108"/>
                    </a:lnTo>
                    <a:lnTo>
                      <a:pt x="249" y="111"/>
                    </a:lnTo>
                    <a:lnTo>
                      <a:pt x="252" y="114"/>
                    </a:lnTo>
                    <a:lnTo>
                      <a:pt x="257" y="116"/>
                    </a:lnTo>
                    <a:lnTo>
                      <a:pt x="260" y="118"/>
                    </a:lnTo>
                    <a:lnTo>
                      <a:pt x="263" y="123"/>
                    </a:lnTo>
                    <a:lnTo>
                      <a:pt x="267" y="127"/>
                    </a:lnTo>
                    <a:lnTo>
                      <a:pt x="268" y="132"/>
                    </a:lnTo>
                    <a:lnTo>
                      <a:pt x="271" y="138"/>
                    </a:lnTo>
                    <a:lnTo>
                      <a:pt x="273" y="142"/>
                    </a:lnTo>
                    <a:lnTo>
                      <a:pt x="274" y="148"/>
                    </a:lnTo>
                    <a:lnTo>
                      <a:pt x="274" y="154"/>
                    </a:lnTo>
                    <a:lnTo>
                      <a:pt x="273" y="162"/>
                    </a:lnTo>
                    <a:lnTo>
                      <a:pt x="271" y="164"/>
                    </a:lnTo>
                    <a:lnTo>
                      <a:pt x="271" y="169"/>
                    </a:lnTo>
                    <a:lnTo>
                      <a:pt x="270" y="172"/>
                    </a:lnTo>
                    <a:lnTo>
                      <a:pt x="268" y="176"/>
                    </a:lnTo>
                    <a:lnTo>
                      <a:pt x="267" y="179"/>
                    </a:lnTo>
                    <a:lnTo>
                      <a:pt x="264" y="184"/>
                    </a:lnTo>
                    <a:lnTo>
                      <a:pt x="263" y="188"/>
                    </a:lnTo>
                    <a:lnTo>
                      <a:pt x="261" y="193"/>
                    </a:lnTo>
                    <a:lnTo>
                      <a:pt x="258" y="197"/>
                    </a:lnTo>
                    <a:lnTo>
                      <a:pt x="255" y="202"/>
                    </a:lnTo>
                    <a:lnTo>
                      <a:pt x="252" y="206"/>
                    </a:lnTo>
                    <a:lnTo>
                      <a:pt x="249" y="210"/>
                    </a:lnTo>
                    <a:lnTo>
                      <a:pt x="246" y="215"/>
                    </a:lnTo>
                    <a:lnTo>
                      <a:pt x="242" y="219"/>
                    </a:lnTo>
                    <a:lnTo>
                      <a:pt x="239" y="224"/>
                    </a:lnTo>
                    <a:lnTo>
                      <a:pt x="234" y="230"/>
                    </a:lnTo>
                    <a:lnTo>
                      <a:pt x="230" y="234"/>
                    </a:lnTo>
                    <a:lnTo>
                      <a:pt x="225" y="239"/>
                    </a:lnTo>
                    <a:lnTo>
                      <a:pt x="221" y="245"/>
                    </a:lnTo>
                    <a:lnTo>
                      <a:pt x="217" y="251"/>
                    </a:lnTo>
                    <a:lnTo>
                      <a:pt x="212" y="255"/>
                    </a:lnTo>
                    <a:lnTo>
                      <a:pt x="206" y="259"/>
                    </a:lnTo>
                    <a:lnTo>
                      <a:pt x="200" y="265"/>
                    </a:lnTo>
                    <a:lnTo>
                      <a:pt x="196" y="271"/>
                    </a:lnTo>
                    <a:lnTo>
                      <a:pt x="190" y="276"/>
                    </a:lnTo>
                    <a:lnTo>
                      <a:pt x="184" y="282"/>
                    </a:lnTo>
                    <a:lnTo>
                      <a:pt x="178" y="288"/>
                    </a:lnTo>
                    <a:lnTo>
                      <a:pt x="172" y="294"/>
                    </a:lnTo>
                    <a:lnTo>
                      <a:pt x="168" y="297"/>
                    </a:lnTo>
                    <a:lnTo>
                      <a:pt x="165" y="300"/>
                    </a:lnTo>
                    <a:lnTo>
                      <a:pt x="162" y="302"/>
                    </a:lnTo>
                    <a:lnTo>
                      <a:pt x="159" y="305"/>
                    </a:lnTo>
                    <a:lnTo>
                      <a:pt x="154" y="307"/>
                    </a:lnTo>
                    <a:lnTo>
                      <a:pt x="151" y="310"/>
                    </a:lnTo>
                    <a:lnTo>
                      <a:pt x="147" y="313"/>
                    </a:lnTo>
                    <a:lnTo>
                      <a:pt x="144" y="316"/>
                    </a:lnTo>
                    <a:lnTo>
                      <a:pt x="141" y="319"/>
                    </a:lnTo>
                    <a:lnTo>
                      <a:pt x="136" y="322"/>
                    </a:lnTo>
                    <a:lnTo>
                      <a:pt x="133" y="325"/>
                    </a:lnTo>
                    <a:lnTo>
                      <a:pt x="130" y="328"/>
                    </a:lnTo>
                    <a:lnTo>
                      <a:pt x="126" y="329"/>
                    </a:lnTo>
                    <a:lnTo>
                      <a:pt x="123" y="334"/>
                    </a:lnTo>
                    <a:lnTo>
                      <a:pt x="119" y="337"/>
                    </a:lnTo>
                    <a:lnTo>
                      <a:pt x="116" y="340"/>
                    </a:lnTo>
                    <a:lnTo>
                      <a:pt x="111" y="341"/>
                    </a:lnTo>
                    <a:lnTo>
                      <a:pt x="108" y="344"/>
                    </a:lnTo>
                    <a:lnTo>
                      <a:pt x="104" y="347"/>
                    </a:lnTo>
                    <a:lnTo>
                      <a:pt x="101" y="350"/>
                    </a:lnTo>
                    <a:lnTo>
                      <a:pt x="96" y="351"/>
                    </a:lnTo>
                    <a:lnTo>
                      <a:pt x="93" y="356"/>
                    </a:lnTo>
                    <a:lnTo>
                      <a:pt x="89" y="357"/>
                    </a:lnTo>
                    <a:lnTo>
                      <a:pt x="86" y="360"/>
                    </a:lnTo>
                    <a:lnTo>
                      <a:pt x="83" y="363"/>
                    </a:lnTo>
                    <a:lnTo>
                      <a:pt x="79" y="366"/>
                    </a:lnTo>
                    <a:lnTo>
                      <a:pt x="76" y="368"/>
                    </a:lnTo>
                    <a:lnTo>
                      <a:pt x="73" y="371"/>
                    </a:lnTo>
                    <a:lnTo>
                      <a:pt x="65" y="377"/>
                    </a:lnTo>
                    <a:lnTo>
                      <a:pt x="59" y="381"/>
                    </a:lnTo>
                    <a:lnTo>
                      <a:pt x="53" y="386"/>
                    </a:lnTo>
                    <a:lnTo>
                      <a:pt x="47" y="390"/>
                    </a:lnTo>
                    <a:lnTo>
                      <a:pt x="40" y="393"/>
                    </a:lnTo>
                    <a:lnTo>
                      <a:pt x="36" y="397"/>
                    </a:lnTo>
                    <a:lnTo>
                      <a:pt x="30" y="400"/>
                    </a:lnTo>
                    <a:lnTo>
                      <a:pt x="25" y="405"/>
                    </a:lnTo>
                    <a:lnTo>
                      <a:pt x="21" y="408"/>
                    </a:lnTo>
                    <a:lnTo>
                      <a:pt x="16" y="412"/>
                    </a:lnTo>
                    <a:lnTo>
                      <a:pt x="12" y="414"/>
                    </a:lnTo>
                    <a:lnTo>
                      <a:pt x="9" y="417"/>
                    </a:lnTo>
                    <a:lnTo>
                      <a:pt x="6" y="418"/>
                    </a:lnTo>
                    <a:lnTo>
                      <a:pt x="4" y="420"/>
                    </a:lnTo>
                    <a:lnTo>
                      <a:pt x="0" y="423"/>
                    </a:lnTo>
                    <a:lnTo>
                      <a:pt x="0" y="424"/>
                    </a:lnTo>
                    <a:lnTo>
                      <a:pt x="0" y="424"/>
                    </a:lnTo>
                    <a:lnTo>
                      <a:pt x="4" y="424"/>
                    </a:lnTo>
                    <a:lnTo>
                      <a:pt x="7" y="424"/>
                    </a:lnTo>
                    <a:lnTo>
                      <a:pt x="10" y="424"/>
                    </a:lnTo>
                    <a:lnTo>
                      <a:pt x="13" y="424"/>
                    </a:lnTo>
                    <a:lnTo>
                      <a:pt x="18" y="424"/>
                    </a:lnTo>
                    <a:lnTo>
                      <a:pt x="22" y="424"/>
                    </a:lnTo>
                    <a:lnTo>
                      <a:pt x="27" y="424"/>
                    </a:lnTo>
                    <a:lnTo>
                      <a:pt x="33" y="424"/>
                    </a:lnTo>
                    <a:lnTo>
                      <a:pt x="38" y="424"/>
                    </a:lnTo>
                    <a:lnTo>
                      <a:pt x="44" y="424"/>
                    </a:lnTo>
                    <a:lnTo>
                      <a:pt x="50" y="426"/>
                    </a:lnTo>
                    <a:lnTo>
                      <a:pt x="53" y="426"/>
                    </a:lnTo>
                    <a:lnTo>
                      <a:pt x="56" y="426"/>
                    </a:lnTo>
                    <a:lnTo>
                      <a:pt x="59" y="427"/>
                    </a:lnTo>
                    <a:lnTo>
                      <a:pt x="64" y="427"/>
                    </a:lnTo>
                    <a:lnTo>
                      <a:pt x="70" y="427"/>
                    </a:lnTo>
                    <a:lnTo>
                      <a:pt x="77" y="429"/>
                    </a:lnTo>
                    <a:lnTo>
                      <a:pt x="80" y="429"/>
                    </a:lnTo>
                    <a:lnTo>
                      <a:pt x="84" y="429"/>
                    </a:lnTo>
                    <a:lnTo>
                      <a:pt x="87" y="430"/>
                    </a:lnTo>
                    <a:lnTo>
                      <a:pt x="92" y="432"/>
                    </a:lnTo>
                    <a:lnTo>
                      <a:pt x="95" y="432"/>
                    </a:lnTo>
                    <a:lnTo>
                      <a:pt x="98" y="432"/>
                    </a:lnTo>
                    <a:lnTo>
                      <a:pt x="102" y="432"/>
                    </a:lnTo>
                    <a:lnTo>
                      <a:pt x="105" y="433"/>
                    </a:lnTo>
                    <a:lnTo>
                      <a:pt x="108" y="433"/>
                    </a:lnTo>
                    <a:lnTo>
                      <a:pt x="113" y="435"/>
                    </a:lnTo>
                    <a:lnTo>
                      <a:pt x="116" y="435"/>
                    </a:lnTo>
                    <a:lnTo>
                      <a:pt x="120" y="436"/>
                    </a:lnTo>
                    <a:lnTo>
                      <a:pt x="123" y="438"/>
                    </a:lnTo>
                    <a:lnTo>
                      <a:pt x="126" y="439"/>
                    </a:lnTo>
                    <a:lnTo>
                      <a:pt x="130" y="439"/>
                    </a:lnTo>
                    <a:lnTo>
                      <a:pt x="133" y="440"/>
                    </a:lnTo>
                    <a:lnTo>
                      <a:pt x="136" y="440"/>
                    </a:lnTo>
                    <a:lnTo>
                      <a:pt x="141" y="442"/>
                    </a:lnTo>
                    <a:lnTo>
                      <a:pt x="144" y="443"/>
                    </a:lnTo>
                    <a:lnTo>
                      <a:pt x="147" y="445"/>
                    </a:lnTo>
                    <a:lnTo>
                      <a:pt x="153" y="446"/>
                    </a:lnTo>
                    <a:lnTo>
                      <a:pt x="160" y="449"/>
                    </a:lnTo>
                    <a:lnTo>
                      <a:pt x="166" y="454"/>
                    </a:lnTo>
                    <a:lnTo>
                      <a:pt x="172" y="457"/>
                    </a:lnTo>
                    <a:lnTo>
                      <a:pt x="176" y="460"/>
                    </a:lnTo>
                    <a:lnTo>
                      <a:pt x="182" y="463"/>
                    </a:lnTo>
                    <a:lnTo>
                      <a:pt x="185" y="467"/>
                    </a:lnTo>
                    <a:lnTo>
                      <a:pt x="191" y="472"/>
                    </a:lnTo>
                    <a:lnTo>
                      <a:pt x="194" y="475"/>
                    </a:lnTo>
                    <a:lnTo>
                      <a:pt x="199" y="479"/>
                    </a:lnTo>
                    <a:lnTo>
                      <a:pt x="203" y="484"/>
                    </a:lnTo>
                    <a:lnTo>
                      <a:pt x="206" y="488"/>
                    </a:lnTo>
                    <a:lnTo>
                      <a:pt x="209" y="491"/>
                    </a:lnTo>
                    <a:lnTo>
                      <a:pt x="212" y="497"/>
                    </a:lnTo>
                    <a:lnTo>
                      <a:pt x="215" y="500"/>
                    </a:lnTo>
                    <a:lnTo>
                      <a:pt x="218" y="506"/>
                    </a:lnTo>
                    <a:lnTo>
                      <a:pt x="220" y="510"/>
                    </a:lnTo>
                    <a:lnTo>
                      <a:pt x="222" y="513"/>
                    </a:lnTo>
                    <a:lnTo>
                      <a:pt x="224" y="518"/>
                    </a:lnTo>
                    <a:lnTo>
                      <a:pt x="227" y="524"/>
                    </a:lnTo>
                    <a:lnTo>
                      <a:pt x="228" y="527"/>
                    </a:lnTo>
                    <a:lnTo>
                      <a:pt x="230" y="531"/>
                    </a:lnTo>
                    <a:lnTo>
                      <a:pt x="230" y="534"/>
                    </a:lnTo>
                    <a:lnTo>
                      <a:pt x="231" y="538"/>
                    </a:lnTo>
                    <a:lnTo>
                      <a:pt x="233" y="541"/>
                    </a:lnTo>
                    <a:lnTo>
                      <a:pt x="234" y="546"/>
                    </a:lnTo>
                    <a:lnTo>
                      <a:pt x="234" y="549"/>
                    </a:lnTo>
                    <a:lnTo>
                      <a:pt x="236" y="552"/>
                    </a:lnTo>
                    <a:lnTo>
                      <a:pt x="236" y="556"/>
                    </a:lnTo>
                    <a:lnTo>
                      <a:pt x="237" y="559"/>
                    </a:lnTo>
                    <a:lnTo>
                      <a:pt x="237" y="562"/>
                    </a:lnTo>
                    <a:lnTo>
                      <a:pt x="237" y="564"/>
                    </a:lnTo>
                    <a:lnTo>
                      <a:pt x="405" y="540"/>
                    </a:lnTo>
                    <a:lnTo>
                      <a:pt x="405" y="537"/>
                    </a:lnTo>
                    <a:lnTo>
                      <a:pt x="405" y="532"/>
                    </a:lnTo>
                    <a:lnTo>
                      <a:pt x="405" y="528"/>
                    </a:lnTo>
                    <a:lnTo>
                      <a:pt x="406" y="525"/>
                    </a:lnTo>
                    <a:lnTo>
                      <a:pt x="406" y="519"/>
                    </a:lnTo>
                    <a:lnTo>
                      <a:pt x="409" y="515"/>
                    </a:lnTo>
                    <a:lnTo>
                      <a:pt x="409" y="510"/>
                    </a:lnTo>
                    <a:lnTo>
                      <a:pt x="412" y="504"/>
                    </a:lnTo>
                    <a:lnTo>
                      <a:pt x="414" y="498"/>
                    </a:lnTo>
                    <a:lnTo>
                      <a:pt x="417" y="494"/>
                    </a:lnTo>
                    <a:lnTo>
                      <a:pt x="420" y="488"/>
                    </a:lnTo>
                    <a:lnTo>
                      <a:pt x="424" y="484"/>
                    </a:lnTo>
                    <a:lnTo>
                      <a:pt x="427" y="479"/>
                    </a:lnTo>
                    <a:lnTo>
                      <a:pt x="432" y="476"/>
                    </a:lnTo>
                    <a:lnTo>
                      <a:pt x="436" y="472"/>
                    </a:lnTo>
                    <a:lnTo>
                      <a:pt x="442" y="469"/>
                    </a:lnTo>
                    <a:lnTo>
                      <a:pt x="447" y="466"/>
                    </a:lnTo>
                    <a:lnTo>
                      <a:pt x="452" y="464"/>
                    </a:lnTo>
                    <a:lnTo>
                      <a:pt x="458" y="461"/>
                    </a:lnTo>
                    <a:lnTo>
                      <a:pt x="464" y="461"/>
                    </a:lnTo>
                    <a:lnTo>
                      <a:pt x="470" y="460"/>
                    </a:lnTo>
                    <a:lnTo>
                      <a:pt x="476" y="460"/>
                    </a:lnTo>
                    <a:lnTo>
                      <a:pt x="481" y="460"/>
                    </a:lnTo>
                    <a:lnTo>
                      <a:pt x="485" y="460"/>
                    </a:lnTo>
                    <a:lnTo>
                      <a:pt x="490" y="460"/>
                    </a:lnTo>
                    <a:lnTo>
                      <a:pt x="494" y="460"/>
                    </a:lnTo>
                    <a:lnTo>
                      <a:pt x="497" y="460"/>
                    </a:lnTo>
                    <a:lnTo>
                      <a:pt x="500" y="460"/>
                    </a:lnTo>
                    <a:lnTo>
                      <a:pt x="500" y="460"/>
                    </a:lnTo>
                    <a:lnTo>
                      <a:pt x="501" y="461"/>
                    </a:lnTo>
                    <a:lnTo>
                      <a:pt x="544" y="383"/>
                    </a:lnTo>
                    <a:lnTo>
                      <a:pt x="381" y="448"/>
                    </a:lnTo>
                    <a:lnTo>
                      <a:pt x="380" y="446"/>
                    </a:lnTo>
                    <a:lnTo>
                      <a:pt x="380" y="445"/>
                    </a:lnTo>
                    <a:lnTo>
                      <a:pt x="378" y="442"/>
                    </a:lnTo>
                    <a:lnTo>
                      <a:pt x="377" y="439"/>
                    </a:lnTo>
                    <a:lnTo>
                      <a:pt x="375" y="433"/>
                    </a:lnTo>
                    <a:lnTo>
                      <a:pt x="375" y="427"/>
                    </a:lnTo>
                    <a:lnTo>
                      <a:pt x="372" y="421"/>
                    </a:lnTo>
                    <a:lnTo>
                      <a:pt x="372" y="415"/>
                    </a:lnTo>
                    <a:lnTo>
                      <a:pt x="372" y="412"/>
                    </a:lnTo>
                    <a:lnTo>
                      <a:pt x="371" y="408"/>
                    </a:lnTo>
                    <a:lnTo>
                      <a:pt x="371" y="405"/>
                    </a:lnTo>
                    <a:lnTo>
                      <a:pt x="371" y="400"/>
                    </a:lnTo>
                    <a:lnTo>
                      <a:pt x="371" y="397"/>
                    </a:lnTo>
                    <a:lnTo>
                      <a:pt x="371" y="393"/>
                    </a:lnTo>
                    <a:lnTo>
                      <a:pt x="371" y="390"/>
                    </a:lnTo>
                    <a:lnTo>
                      <a:pt x="371" y="387"/>
                    </a:lnTo>
                    <a:lnTo>
                      <a:pt x="371" y="384"/>
                    </a:lnTo>
                    <a:lnTo>
                      <a:pt x="372" y="380"/>
                    </a:lnTo>
                    <a:lnTo>
                      <a:pt x="372" y="377"/>
                    </a:lnTo>
                    <a:lnTo>
                      <a:pt x="374" y="374"/>
                    </a:lnTo>
                    <a:lnTo>
                      <a:pt x="377" y="368"/>
                    </a:lnTo>
                    <a:lnTo>
                      <a:pt x="381" y="363"/>
                    </a:lnTo>
                    <a:lnTo>
                      <a:pt x="386" y="359"/>
                    </a:lnTo>
                    <a:lnTo>
                      <a:pt x="392" y="354"/>
                    </a:lnTo>
                    <a:lnTo>
                      <a:pt x="393" y="353"/>
                    </a:lnTo>
                    <a:lnTo>
                      <a:pt x="396" y="351"/>
                    </a:lnTo>
                    <a:lnTo>
                      <a:pt x="401" y="350"/>
                    </a:lnTo>
                    <a:lnTo>
                      <a:pt x="404" y="348"/>
                    </a:lnTo>
                    <a:lnTo>
                      <a:pt x="406" y="348"/>
                    </a:lnTo>
                    <a:lnTo>
                      <a:pt x="411" y="347"/>
                    </a:lnTo>
                    <a:lnTo>
                      <a:pt x="414" y="346"/>
                    </a:lnTo>
                    <a:lnTo>
                      <a:pt x="418" y="346"/>
                    </a:lnTo>
                    <a:lnTo>
                      <a:pt x="421" y="346"/>
                    </a:lnTo>
                    <a:lnTo>
                      <a:pt x="426" y="344"/>
                    </a:lnTo>
                    <a:lnTo>
                      <a:pt x="429" y="344"/>
                    </a:lnTo>
                    <a:lnTo>
                      <a:pt x="433" y="344"/>
                    </a:lnTo>
                    <a:lnTo>
                      <a:pt x="436" y="344"/>
                    </a:lnTo>
                    <a:lnTo>
                      <a:pt x="439" y="344"/>
                    </a:lnTo>
                    <a:lnTo>
                      <a:pt x="442" y="344"/>
                    </a:lnTo>
                    <a:lnTo>
                      <a:pt x="447" y="344"/>
                    </a:lnTo>
                    <a:lnTo>
                      <a:pt x="452" y="344"/>
                    </a:lnTo>
                    <a:lnTo>
                      <a:pt x="458" y="344"/>
                    </a:lnTo>
                    <a:lnTo>
                      <a:pt x="463" y="344"/>
                    </a:lnTo>
                    <a:lnTo>
                      <a:pt x="466" y="344"/>
                    </a:lnTo>
                    <a:lnTo>
                      <a:pt x="467" y="344"/>
                    </a:lnTo>
                    <a:lnTo>
                      <a:pt x="469" y="346"/>
                    </a:lnTo>
                    <a:lnTo>
                      <a:pt x="553" y="252"/>
                    </a:lnTo>
                    <a:lnTo>
                      <a:pt x="381" y="313"/>
                    </a:lnTo>
                    <a:lnTo>
                      <a:pt x="381" y="311"/>
                    </a:lnTo>
                    <a:lnTo>
                      <a:pt x="381" y="308"/>
                    </a:lnTo>
                    <a:lnTo>
                      <a:pt x="381" y="304"/>
                    </a:lnTo>
                    <a:lnTo>
                      <a:pt x="383" y="300"/>
                    </a:lnTo>
                    <a:lnTo>
                      <a:pt x="383" y="295"/>
                    </a:lnTo>
                    <a:lnTo>
                      <a:pt x="383" y="292"/>
                    </a:lnTo>
                    <a:lnTo>
                      <a:pt x="384" y="288"/>
                    </a:lnTo>
                    <a:lnTo>
                      <a:pt x="384" y="285"/>
                    </a:lnTo>
                    <a:lnTo>
                      <a:pt x="386" y="280"/>
                    </a:lnTo>
                    <a:lnTo>
                      <a:pt x="387" y="276"/>
                    </a:lnTo>
                    <a:lnTo>
                      <a:pt x="387" y="273"/>
                    </a:lnTo>
                    <a:lnTo>
                      <a:pt x="389" y="268"/>
                    </a:lnTo>
                    <a:lnTo>
                      <a:pt x="390" y="264"/>
                    </a:lnTo>
                    <a:lnTo>
                      <a:pt x="392" y="259"/>
                    </a:lnTo>
                    <a:lnTo>
                      <a:pt x="392" y="254"/>
                    </a:lnTo>
                    <a:lnTo>
                      <a:pt x="395" y="251"/>
                    </a:lnTo>
                    <a:lnTo>
                      <a:pt x="395" y="245"/>
                    </a:lnTo>
                    <a:lnTo>
                      <a:pt x="398" y="240"/>
                    </a:lnTo>
                    <a:lnTo>
                      <a:pt x="399" y="236"/>
                    </a:lnTo>
                    <a:lnTo>
                      <a:pt x="401" y="233"/>
                    </a:lnTo>
                    <a:lnTo>
                      <a:pt x="402" y="228"/>
                    </a:lnTo>
                    <a:lnTo>
                      <a:pt x="405" y="224"/>
                    </a:lnTo>
                    <a:lnTo>
                      <a:pt x="406" y="219"/>
                    </a:lnTo>
                    <a:lnTo>
                      <a:pt x="409" y="216"/>
                    </a:lnTo>
                    <a:lnTo>
                      <a:pt x="414" y="210"/>
                    </a:lnTo>
                    <a:lnTo>
                      <a:pt x="420" y="206"/>
                    </a:lnTo>
                    <a:lnTo>
                      <a:pt x="424" y="200"/>
                    </a:lnTo>
                    <a:lnTo>
                      <a:pt x="430" y="197"/>
                    </a:lnTo>
                    <a:lnTo>
                      <a:pt x="436" y="194"/>
                    </a:lnTo>
                    <a:lnTo>
                      <a:pt x="444" y="194"/>
                    </a:lnTo>
                    <a:lnTo>
                      <a:pt x="450" y="193"/>
                    </a:lnTo>
                    <a:lnTo>
                      <a:pt x="455" y="193"/>
                    </a:lnTo>
                    <a:lnTo>
                      <a:pt x="463" y="194"/>
                    </a:lnTo>
                    <a:lnTo>
                      <a:pt x="469" y="196"/>
                    </a:lnTo>
                    <a:lnTo>
                      <a:pt x="475" y="196"/>
                    </a:lnTo>
                    <a:lnTo>
                      <a:pt x="481" y="197"/>
                    </a:lnTo>
                    <a:lnTo>
                      <a:pt x="485" y="200"/>
                    </a:lnTo>
                    <a:lnTo>
                      <a:pt x="490" y="202"/>
                    </a:lnTo>
                    <a:lnTo>
                      <a:pt x="493" y="203"/>
                    </a:lnTo>
                    <a:lnTo>
                      <a:pt x="496" y="205"/>
                    </a:lnTo>
                    <a:lnTo>
                      <a:pt x="497" y="205"/>
                    </a:lnTo>
                    <a:lnTo>
                      <a:pt x="498" y="206"/>
                    </a:lnTo>
                    <a:lnTo>
                      <a:pt x="498" y="205"/>
                    </a:lnTo>
                    <a:lnTo>
                      <a:pt x="500" y="203"/>
                    </a:lnTo>
                    <a:lnTo>
                      <a:pt x="501" y="200"/>
                    </a:lnTo>
                    <a:lnTo>
                      <a:pt x="506" y="197"/>
                    </a:lnTo>
                    <a:lnTo>
                      <a:pt x="509" y="193"/>
                    </a:lnTo>
                    <a:lnTo>
                      <a:pt x="513" y="187"/>
                    </a:lnTo>
                    <a:lnTo>
                      <a:pt x="518" y="181"/>
                    </a:lnTo>
                    <a:lnTo>
                      <a:pt x="525" y="175"/>
                    </a:lnTo>
                    <a:lnTo>
                      <a:pt x="527" y="170"/>
                    </a:lnTo>
                    <a:lnTo>
                      <a:pt x="530" y="167"/>
                    </a:lnTo>
                    <a:lnTo>
                      <a:pt x="533" y="163"/>
                    </a:lnTo>
                    <a:lnTo>
                      <a:pt x="537" y="160"/>
                    </a:lnTo>
                    <a:lnTo>
                      <a:pt x="540" y="156"/>
                    </a:lnTo>
                    <a:lnTo>
                      <a:pt x="544" y="151"/>
                    </a:lnTo>
                    <a:lnTo>
                      <a:pt x="547" y="147"/>
                    </a:lnTo>
                    <a:lnTo>
                      <a:pt x="552" y="144"/>
                    </a:lnTo>
                    <a:lnTo>
                      <a:pt x="555" y="138"/>
                    </a:lnTo>
                    <a:lnTo>
                      <a:pt x="559" y="135"/>
                    </a:lnTo>
                    <a:lnTo>
                      <a:pt x="562" y="130"/>
                    </a:lnTo>
                    <a:lnTo>
                      <a:pt x="567" y="126"/>
                    </a:lnTo>
                    <a:lnTo>
                      <a:pt x="570" y="121"/>
                    </a:lnTo>
                    <a:lnTo>
                      <a:pt x="574" y="117"/>
                    </a:lnTo>
                    <a:lnTo>
                      <a:pt x="577" y="113"/>
                    </a:lnTo>
                    <a:lnTo>
                      <a:pt x="582" y="108"/>
                    </a:lnTo>
                    <a:lnTo>
                      <a:pt x="585" y="104"/>
                    </a:lnTo>
                    <a:lnTo>
                      <a:pt x="588" y="99"/>
                    </a:lnTo>
                    <a:lnTo>
                      <a:pt x="590" y="95"/>
                    </a:lnTo>
                    <a:lnTo>
                      <a:pt x="595" y="90"/>
                    </a:lnTo>
                    <a:lnTo>
                      <a:pt x="598" y="84"/>
                    </a:lnTo>
                    <a:lnTo>
                      <a:pt x="601" y="81"/>
                    </a:lnTo>
                    <a:lnTo>
                      <a:pt x="604" y="75"/>
                    </a:lnTo>
                    <a:lnTo>
                      <a:pt x="608" y="72"/>
                    </a:lnTo>
                    <a:lnTo>
                      <a:pt x="610" y="67"/>
                    </a:lnTo>
                    <a:lnTo>
                      <a:pt x="613" y="62"/>
                    </a:lnTo>
                    <a:lnTo>
                      <a:pt x="616" y="59"/>
                    </a:lnTo>
                    <a:lnTo>
                      <a:pt x="620" y="55"/>
                    </a:lnTo>
                    <a:lnTo>
                      <a:pt x="622" y="50"/>
                    </a:lnTo>
                    <a:lnTo>
                      <a:pt x="625" y="47"/>
                    </a:lnTo>
                    <a:lnTo>
                      <a:pt x="628" y="43"/>
                    </a:lnTo>
                    <a:lnTo>
                      <a:pt x="631" y="40"/>
                    </a:lnTo>
                    <a:lnTo>
                      <a:pt x="632" y="37"/>
                    </a:lnTo>
                    <a:lnTo>
                      <a:pt x="634" y="32"/>
                    </a:lnTo>
                    <a:lnTo>
                      <a:pt x="635" y="29"/>
                    </a:lnTo>
                    <a:lnTo>
                      <a:pt x="638" y="28"/>
                    </a:lnTo>
                    <a:lnTo>
                      <a:pt x="641" y="22"/>
                    </a:lnTo>
                    <a:lnTo>
                      <a:pt x="645" y="18"/>
                    </a:lnTo>
                    <a:lnTo>
                      <a:pt x="647" y="13"/>
                    </a:lnTo>
                    <a:lnTo>
                      <a:pt x="648" y="12"/>
                    </a:lnTo>
                    <a:lnTo>
                      <a:pt x="650" y="9"/>
                    </a:lnTo>
                    <a:lnTo>
                      <a:pt x="650" y="9"/>
                    </a:lnTo>
                    <a:lnTo>
                      <a:pt x="442" y="0"/>
                    </a:lnTo>
                    <a:lnTo>
                      <a:pt x="442"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3303360" y="1743120"/>
                <a:ext cx="1089000" cy="614160"/>
              </a:xfrm>
              <a:custGeom>
                <a:avLst/>
                <a:gdLst/>
                <a:ahLst/>
                <a:rect l="l" t="t" r="r" b="b"/>
                <a:pathLst>
                  <a:path w="1372" h="774">
                    <a:moveTo>
                      <a:pt x="0" y="774"/>
                    </a:moveTo>
                    <a:lnTo>
                      <a:pt x="0" y="773"/>
                    </a:lnTo>
                    <a:lnTo>
                      <a:pt x="0" y="771"/>
                    </a:lnTo>
                    <a:lnTo>
                      <a:pt x="1" y="770"/>
                    </a:lnTo>
                    <a:lnTo>
                      <a:pt x="4" y="767"/>
                    </a:lnTo>
                    <a:lnTo>
                      <a:pt x="6" y="762"/>
                    </a:lnTo>
                    <a:lnTo>
                      <a:pt x="10" y="758"/>
                    </a:lnTo>
                    <a:lnTo>
                      <a:pt x="13" y="752"/>
                    </a:lnTo>
                    <a:lnTo>
                      <a:pt x="18" y="746"/>
                    </a:lnTo>
                    <a:lnTo>
                      <a:pt x="19" y="742"/>
                    </a:lnTo>
                    <a:lnTo>
                      <a:pt x="21" y="739"/>
                    </a:lnTo>
                    <a:lnTo>
                      <a:pt x="24" y="734"/>
                    </a:lnTo>
                    <a:lnTo>
                      <a:pt x="27" y="731"/>
                    </a:lnTo>
                    <a:lnTo>
                      <a:pt x="29" y="727"/>
                    </a:lnTo>
                    <a:lnTo>
                      <a:pt x="32" y="722"/>
                    </a:lnTo>
                    <a:lnTo>
                      <a:pt x="35" y="719"/>
                    </a:lnTo>
                    <a:lnTo>
                      <a:pt x="38" y="715"/>
                    </a:lnTo>
                    <a:lnTo>
                      <a:pt x="41" y="709"/>
                    </a:lnTo>
                    <a:lnTo>
                      <a:pt x="44" y="705"/>
                    </a:lnTo>
                    <a:lnTo>
                      <a:pt x="49" y="700"/>
                    </a:lnTo>
                    <a:lnTo>
                      <a:pt x="52" y="696"/>
                    </a:lnTo>
                    <a:lnTo>
                      <a:pt x="56" y="690"/>
                    </a:lnTo>
                    <a:lnTo>
                      <a:pt x="59" y="685"/>
                    </a:lnTo>
                    <a:lnTo>
                      <a:pt x="64" y="681"/>
                    </a:lnTo>
                    <a:lnTo>
                      <a:pt x="68" y="676"/>
                    </a:lnTo>
                    <a:lnTo>
                      <a:pt x="71" y="670"/>
                    </a:lnTo>
                    <a:lnTo>
                      <a:pt x="75" y="664"/>
                    </a:lnTo>
                    <a:lnTo>
                      <a:pt x="80" y="659"/>
                    </a:lnTo>
                    <a:lnTo>
                      <a:pt x="84" y="654"/>
                    </a:lnTo>
                    <a:lnTo>
                      <a:pt x="89" y="648"/>
                    </a:lnTo>
                    <a:lnTo>
                      <a:pt x="93" y="642"/>
                    </a:lnTo>
                    <a:lnTo>
                      <a:pt x="98" y="636"/>
                    </a:lnTo>
                    <a:lnTo>
                      <a:pt x="104" y="630"/>
                    </a:lnTo>
                    <a:lnTo>
                      <a:pt x="108" y="624"/>
                    </a:lnTo>
                    <a:lnTo>
                      <a:pt x="113" y="618"/>
                    </a:lnTo>
                    <a:lnTo>
                      <a:pt x="117" y="613"/>
                    </a:lnTo>
                    <a:lnTo>
                      <a:pt x="123" y="607"/>
                    </a:lnTo>
                    <a:lnTo>
                      <a:pt x="127" y="601"/>
                    </a:lnTo>
                    <a:lnTo>
                      <a:pt x="133" y="595"/>
                    </a:lnTo>
                    <a:lnTo>
                      <a:pt x="139" y="589"/>
                    </a:lnTo>
                    <a:lnTo>
                      <a:pt x="145" y="583"/>
                    </a:lnTo>
                    <a:lnTo>
                      <a:pt x="150" y="577"/>
                    </a:lnTo>
                    <a:lnTo>
                      <a:pt x="156" y="571"/>
                    </a:lnTo>
                    <a:lnTo>
                      <a:pt x="162" y="565"/>
                    </a:lnTo>
                    <a:lnTo>
                      <a:pt x="167" y="559"/>
                    </a:lnTo>
                    <a:lnTo>
                      <a:pt x="172" y="553"/>
                    </a:lnTo>
                    <a:lnTo>
                      <a:pt x="179" y="547"/>
                    </a:lnTo>
                    <a:lnTo>
                      <a:pt x="185" y="541"/>
                    </a:lnTo>
                    <a:lnTo>
                      <a:pt x="191" y="535"/>
                    </a:lnTo>
                    <a:lnTo>
                      <a:pt x="197" y="529"/>
                    </a:lnTo>
                    <a:lnTo>
                      <a:pt x="205" y="523"/>
                    </a:lnTo>
                    <a:lnTo>
                      <a:pt x="210" y="518"/>
                    </a:lnTo>
                    <a:lnTo>
                      <a:pt x="218" y="512"/>
                    </a:lnTo>
                    <a:lnTo>
                      <a:pt x="224" y="506"/>
                    </a:lnTo>
                    <a:lnTo>
                      <a:pt x="230" y="500"/>
                    </a:lnTo>
                    <a:lnTo>
                      <a:pt x="236" y="495"/>
                    </a:lnTo>
                    <a:lnTo>
                      <a:pt x="243" y="489"/>
                    </a:lnTo>
                    <a:lnTo>
                      <a:pt x="251" y="485"/>
                    </a:lnTo>
                    <a:lnTo>
                      <a:pt x="256" y="479"/>
                    </a:lnTo>
                    <a:lnTo>
                      <a:pt x="264" y="473"/>
                    </a:lnTo>
                    <a:lnTo>
                      <a:pt x="271" y="469"/>
                    </a:lnTo>
                    <a:lnTo>
                      <a:pt x="277" y="463"/>
                    </a:lnTo>
                    <a:lnTo>
                      <a:pt x="285" y="458"/>
                    </a:lnTo>
                    <a:lnTo>
                      <a:pt x="292" y="452"/>
                    </a:lnTo>
                    <a:lnTo>
                      <a:pt x="300" y="448"/>
                    </a:lnTo>
                    <a:lnTo>
                      <a:pt x="305" y="443"/>
                    </a:lnTo>
                    <a:lnTo>
                      <a:pt x="313" y="439"/>
                    </a:lnTo>
                    <a:lnTo>
                      <a:pt x="319" y="434"/>
                    </a:lnTo>
                    <a:lnTo>
                      <a:pt x="326" y="430"/>
                    </a:lnTo>
                    <a:lnTo>
                      <a:pt x="334" y="426"/>
                    </a:lnTo>
                    <a:lnTo>
                      <a:pt x="341" y="421"/>
                    </a:lnTo>
                    <a:lnTo>
                      <a:pt x="348" y="417"/>
                    </a:lnTo>
                    <a:lnTo>
                      <a:pt x="356" y="414"/>
                    </a:lnTo>
                    <a:lnTo>
                      <a:pt x="363" y="409"/>
                    </a:lnTo>
                    <a:lnTo>
                      <a:pt x="369" y="405"/>
                    </a:lnTo>
                    <a:lnTo>
                      <a:pt x="377" y="400"/>
                    </a:lnTo>
                    <a:lnTo>
                      <a:pt x="383" y="396"/>
                    </a:lnTo>
                    <a:lnTo>
                      <a:pt x="390" y="393"/>
                    </a:lnTo>
                    <a:lnTo>
                      <a:pt x="396" y="388"/>
                    </a:lnTo>
                    <a:lnTo>
                      <a:pt x="403" y="385"/>
                    </a:lnTo>
                    <a:lnTo>
                      <a:pt x="411" y="383"/>
                    </a:lnTo>
                    <a:lnTo>
                      <a:pt x="417" y="378"/>
                    </a:lnTo>
                    <a:lnTo>
                      <a:pt x="424" y="375"/>
                    </a:lnTo>
                    <a:lnTo>
                      <a:pt x="430" y="371"/>
                    </a:lnTo>
                    <a:lnTo>
                      <a:pt x="438" y="369"/>
                    </a:lnTo>
                    <a:lnTo>
                      <a:pt x="443" y="365"/>
                    </a:lnTo>
                    <a:lnTo>
                      <a:pt x="449" y="362"/>
                    </a:lnTo>
                    <a:lnTo>
                      <a:pt x="455" y="359"/>
                    </a:lnTo>
                    <a:lnTo>
                      <a:pt x="463" y="357"/>
                    </a:lnTo>
                    <a:lnTo>
                      <a:pt x="467" y="353"/>
                    </a:lnTo>
                    <a:lnTo>
                      <a:pt x="473" y="350"/>
                    </a:lnTo>
                    <a:lnTo>
                      <a:pt x="479" y="347"/>
                    </a:lnTo>
                    <a:lnTo>
                      <a:pt x="485" y="345"/>
                    </a:lnTo>
                    <a:lnTo>
                      <a:pt x="489" y="342"/>
                    </a:lnTo>
                    <a:lnTo>
                      <a:pt x="495" y="339"/>
                    </a:lnTo>
                    <a:lnTo>
                      <a:pt x="501" y="338"/>
                    </a:lnTo>
                    <a:lnTo>
                      <a:pt x="507" y="337"/>
                    </a:lnTo>
                    <a:lnTo>
                      <a:pt x="512" y="334"/>
                    </a:lnTo>
                    <a:lnTo>
                      <a:pt x="516" y="331"/>
                    </a:lnTo>
                    <a:lnTo>
                      <a:pt x="521" y="329"/>
                    </a:lnTo>
                    <a:lnTo>
                      <a:pt x="525" y="328"/>
                    </a:lnTo>
                    <a:lnTo>
                      <a:pt x="530" y="326"/>
                    </a:lnTo>
                    <a:lnTo>
                      <a:pt x="534" y="325"/>
                    </a:lnTo>
                    <a:lnTo>
                      <a:pt x="538" y="323"/>
                    </a:lnTo>
                    <a:lnTo>
                      <a:pt x="541" y="322"/>
                    </a:lnTo>
                    <a:lnTo>
                      <a:pt x="546" y="320"/>
                    </a:lnTo>
                    <a:lnTo>
                      <a:pt x="549" y="319"/>
                    </a:lnTo>
                    <a:lnTo>
                      <a:pt x="552" y="317"/>
                    </a:lnTo>
                    <a:lnTo>
                      <a:pt x="555" y="316"/>
                    </a:lnTo>
                    <a:lnTo>
                      <a:pt x="561" y="314"/>
                    </a:lnTo>
                    <a:lnTo>
                      <a:pt x="565" y="313"/>
                    </a:lnTo>
                    <a:lnTo>
                      <a:pt x="568" y="311"/>
                    </a:lnTo>
                    <a:lnTo>
                      <a:pt x="571" y="310"/>
                    </a:lnTo>
                    <a:lnTo>
                      <a:pt x="573" y="310"/>
                    </a:lnTo>
                    <a:lnTo>
                      <a:pt x="574" y="310"/>
                    </a:lnTo>
                    <a:lnTo>
                      <a:pt x="574" y="310"/>
                    </a:lnTo>
                    <a:lnTo>
                      <a:pt x="576" y="308"/>
                    </a:lnTo>
                    <a:lnTo>
                      <a:pt x="577" y="305"/>
                    </a:lnTo>
                    <a:lnTo>
                      <a:pt x="581" y="304"/>
                    </a:lnTo>
                    <a:lnTo>
                      <a:pt x="586" y="299"/>
                    </a:lnTo>
                    <a:lnTo>
                      <a:pt x="592" y="295"/>
                    </a:lnTo>
                    <a:lnTo>
                      <a:pt x="595" y="293"/>
                    </a:lnTo>
                    <a:lnTo>
                      <a:pt x="598" y="291"/>
                    </a:lnTo>
                    <a:lnTo>
                      <a:pt x="602" y="288"/>
                    </a:lnTo>
                    <a:lnTo>
                      <a:pt x="607" y="286"/>
                    </a:lnTo>
                    <a:lnTo>
                      <a:pt x="610" y="282"/>
                    </a:lnTo>
                    <a:lnTo>
                      <a:pt x="614" y="279"/>
                    </a:lnTo>
                    <a:lnTo>
                      <a:pt x="619" y="276"/>
                    </a:lnTo>
                    <a:lnTo>
                      <a:pt x="624" y="273"/>
                    </a:lnTo>
                    <a:lnTo>
                      <a:pt x="627" y="270"/>
                    </a:lnTo>
                    <a:lnTo>
                      <a:pt x="633" y="265"/>
                    </a:lnTo>
                    <a:lnTo>
                      <a:pt x="639" y="262"/>
                    </a:lnTo>
                    <a:lnTo>
                      <a:pt x="645" y="259"/>
                    </a:lnTo>
                    <a:lnTo>
                      <a:pt x="650" y="255"/>
                    </a:lnTo>
                    <a:lnTo>
                      <a:pt x="656" y="250"/>
                    </a:lnTo>
                    <a:lnTo>
                      <a:pt x="662" y="246"/>
                    </a:lnTo>
                    <a:lnTo>
                      <a:pt x="669" y="243"/>
                    </a:lnTo>
                    <a:lnTo>
                      <a:pt x="673" y="239"/>
                    </a:lnTo>
                    <a:lnTo>
                      <a:pt x="681" y="234"/>
                    </a:lnTo>
                    <a:lnTo>
                      <a:pt x="688" y="230"/>
                    </a:lnTo>
                    <a:lnTo>
                      <a:pt x="696" y="225"/>
                    </a:lnTo>
                    <a:lnTo>
                      <a:pt x="702" y="221"/>
                    </a:lnTo>
                    <a:lnTo>
                      <a:pt x="708" y="216"/>
                    </a:lnTo>
                    <a:lnTo>
                      <a:pt x="715" y="212"/>
                    </a:lnTo>
                    <a:lnTo>
                      <a:pt x="722" y="207"/>
                    </a:lnTo>
                    <a:lnTo>
                      <a:pt x="730" y="203"/>
                    </a:lnTo>
                    <a:lnTo>
                      <a:pt x="737" y="199"/>
                    </a:lnTo>
                    <a:lnTo>
                      <a:pt x="746" y="193"/>
                    </a:lnTo>
                    <a:lnTo>
                      <a:pt x="754" y="188"/>
                    </a:lnTo>
                    <a:lnTo>
                      <a:pt x="761" y="184"/>
                    </a:lnTo>
                    <a:lnTo>
                      <a:pt x="770" y="179"/>
                    </a:lnTo>
                    <a:lnTo>
                      <a:pt x="777" y="173"/>
                    </a:lnTo>
                    <a:lnTo>
                      <a:pt x="786" y="169"/>
                    </a:lnTo>
                    <a:lnTo>
                      <a:pt x="795" y="164"/>
                    </a:lnTo>
                    <a:lnTo>
                      <a:pt x="804" y="160"/>
                    </a:lnTo>
                    <a:lnTo>
                      <a:pt x="811" y="155"/>
                    </a:lnTo>
                    <a:lnTo>
                      <a:pt x="820" y="151"/>
                    </a:lnTo>
                    <a:lnTo>
                      <a:pt x="829" y="147"/>
                    </a:lnTo>
                    <a:lnTo>
                      <a:pt x="838" y="142"/>
                    </a:lnTo>
                    <a:lnTo>
                      <a:pt x="846" y="136"/>
                    </a:lnTo>
                    <a:lnTo>
                      <a:pt x="856" y="132"/>
                    </a:lnTo>
                    <a:lnTo>
                      <a:pt x="865" y="127"/>
                    </a:lnTo>
                    <a:lnTo>
                      <a:pt x="874" y="123"/>
                    </a:lnTo>
                    <a:lnTo>
                      <a:pt x="883" y="118"/>
                    </a:lnTo>
                    <a:lnTo>
                      <a:pt x="893" y="114"/>
                    </a:lnTo>
                    <a:lnTo>
                      <a:pt x="902" y="109"/>
                    </a:lnTo>
                    <a:lnTo>
                      <a:pt x="911" y="105"/>
                    </a:lnTo>
                    <a:lnTo>
                      <a:pt x="920" y="102"/>
                    </a:lnTo>
                    <a:lnTo>
                      <a:pt x="930" y="98"/>
                    </a:lnTo>
                    <a:lnTo>
                      <a:pt x="939" y="93"/>
                    </a:lnTo>
                    <a:lnTo>
                      <a:pt x="948" y="90"/>
                    </a:lnTo>
                    <a:lnTo>
                      <a:pt x="957" y="86"/>
                    </a:lnTo>
                    <a:lnTo>
                      <a:pt x="967" y="83"/>
                    </a:lnTo>
                    <a:lnTo>
                      <a:pt x="976" y="80"/>
                    </a:lnTo>
                    <a:lnTo>
                      <a:pt x="987" y="75"/>
                    </a:lnTo>
                    <a:lnTo>
                      <a:pt x="995" y="71"/>
                    </a:lnTo>
                    <a:lnTo>
                      <a:pt x="1004" y="68"/>
                    </a:lnTo>
                    <a:lnTo>
                      <a:pt x="1013" y="65"/>
                    </a:lnTo>
                    <a:lnTo>
                      <a:pt x="1024" y="62"/>
                    </a:lnTo>
                    <a:lnTo>
                      <a:pt x="1033" y="59"/>
                    </a:lnTo>
                    <a:lnTo>
                      <a:pt x="1041" y="56"/>
                    </a:lnTo>
                    <a:lnTo>
                      <a:pt x="1050" y="53"/>
                    </a:lnTo>
                    <a:lnTo>
                      <a:pt x="1059" y="52"/>
                    </a:lnTo>
                    <a:lnTo>
                      <a:pt x="1070" y="49"/>
                    </a:lnTo>
                    <a:lnTo>
                      <a:pt x="1079" y="46"/>
                    </a:lnTo>
                    <a:lnTo>
                      <a:pt x="1087" y="43"/>
                    </a:lnTo>
                    <a:lnTo>
                      <a:pt x="1096" y="41"/>
                    </a:lnTo>
                    <a:lnTo>
                      <a:pt x="1105" y="38"/>
                    </a:lnTo>
                    <a:lnTo>
                      <a:pt x="1114" y="37"/>
                    </a:lnTo>
                    <a:lnTo>
                      <a:pt x="1123" y="34"/>
                    </a:lnTo>
                    <a:lnTo>
                      <a:pt x="1132" y="32"/>
                    </a:lnTo>
                    <a:lnTo>
                      <a:pt x="1139" y="31"/>
                    </a:lnTo>
                    <a:lnTo>
                      <a:pt x="1150" y="29"/>
                    </a:lnTo>
                    <a:lnTo>
                      <a:pt x="1157" y="26"/>
                    </a:lnTo>
                    <a:lnTo>
                      <a:pt x="1166" y="25"/>
                    </a:lnTo>
                    <a:lnTo>
                      <a:pt x="1173" y="23"/>
                    </a:lnTo>
                    <a:lnTo>
                      <a:pt x="1182" y="22"/>
                    </a:lnTo>
                    <a:lnTo>
                      <a:pt x="1190" y="20"/>
                    </a:lnTo>
                    <a:lnTo>
                      <a:pt x="1199" y="19"/>
                    </a:lnTo>
                    <a:lnTo>
                      <a:pt x="1206" y="17"/>
                    </a:lnTo>
                    <a:lnTo>
                      <a:pt x="1215" y="16"/>
                    </a:lnTo>
                    <a:lnTo>
                      <a:pt x="1222" y="15"/>
                    </a:lnTo>
                    <a:lnTo>
                      <a:pt x="1230" y="15"/>
                    </a:lnTo>
                    <a:lnTo>
                      <a:pt x="1237" y="13"/>
                    </a:lnTo>
                    <a:lnTo>
                      <a:pt x="1245" y="13"/>
                    </a:lnTo>
                    <a:lnTo>
                      <a:pt x="1251" y="12"/>
                    </a:lnTo>
                    <a:lnTo>
                      <a:pt x="1258" y="10"/>
                    </a:lnTo>
                    <a:lnTo>
                      <a:pt x="1264" y="9"/>
                    </a:lnTo>
                    <a:lnTo>
                      <a:pt x="1271" y="9"/>
                    </a:lnTo>
                    <a:lnTo>
                      <a:pt x="1277" y="7"/>
                    </a:lnTo>
                    <a:lnTo>
                      <a:pt x="1283" y="7"/>
                    </a:lnTo>
                    <a:lnTo>
                      <a:pt x="1289" y="6"/>
                    </a:lnTo>
                    <a:lnTo>
                      <a:pt x="1297" y="6"/>
                    </a:lnTo>
                    <a:lnTo>
                      <a:pt x="1301" y="4"/>
                    </a:lnTo>
                    <a:lnTo>
                      <a:pt x="1307" y="4"/>
                    </a:lnTo>
                    <a:lnTo>
                      <a:pt x="1313" y="3"/>
                    </a:lnTo>
                    <a:lnTo>
                      <a:pt x="1319" y="3"/>
                    </a:lnTo>
                    <a:lnTo>
                      <a:pt x="1323" y="3"/>
                    </a:lnTo>
                    <a:lnTo>
                      <a:pt x="1328" y="3"/>
                    </a:lnTo>
                    <a:lnTo>
                      <a:pt x="1332" y="3"/>
                    </a:lnTo>
                    <a:lnTo>
                      <a:pt x="1337" y="3"/>
                    </a:lnTo>
                    <a:lnTo>
                      <a:pt x="1341" y="1"/>
                    </a:lnTo>
                    <a:lnTo>
                      <a:pt x="1344" y="1"/>
                    </a:lnTo>
                    <a:lnTo>
                      <a:pt x="1349" y="0"/>
                    </a:lnTo>
                    <a:lnTo>
                      <a:pt x="1352" y="0"/>
                    </a:lnTo>
                    <a:lnTo>
                      <a:pt x="1357" y="0"/>
                    </a:lnTo>
                    <a:lnTo>
                      <a:pt x="1363" y="0"/>
                    </a:lnTo>
                    <a:lnTo>
                      <a:pt x="1366" y="0"/>
                    </a:lnTo>
                    <a:lnTo>
                      <a:pt x="1369" y="0"/>
                    </a:lnTo>
                    <a:lnTo>
                      <a:pt x="1371" y="0"/>
                    </a:lnTo>
                    <a:lnTo>
                      <a:pt x="1372" y="0"/>
                    </a:lnTo>
                    <a:lnTo>
                      <a:pt x="1371" y="0"/>
                    </a:lnTo>
                    <a:lnTo>
                      <a:pt x="1369" y="0"/>
                    </a:lnTo>
                    <a:lnTo>
                      <a:pt x="1366" y="1"/>
                    </a:lnTo>
                    <a:lnTo>
                      <a:pt x="1363" y="3"/>
                    </a:lnTo>
                    <a:lnTo>
                      <a:pt x="1357" y="3"/>
                    </a:lnTo>
                    <a:lnTo>
                      <a:pt x="1353" y="4"/>
                    </a:lnTo>
                    <a:lnTo>
                      <a:pt x="1349" y="4"/>
                    </a:lnTo>
                    <a:lnTo>
                      <a:pt x="1346" y="6"/>
                    </a:lnTo>
                    <a:lnTo>
                      <a:pt x="1343" y="7"/>
                    </a:lnTo>
                    <a:lnTo>
                      <a:pt x="1340" y="7"/>
                    </a:lnTo>
                    <a:lnTo>
                      <a:pt x="1335" y="9"/>
                    </a:lnTo>
                    <a:lnTo>
                      <a:pt x="1331" y="10"/>
                    </a:lnTo>
                    <a:lnTo>
                      <a:pt x="1326" y="10"/>
                    </a:lnTo>
                    <a:lnTo>
                      <a:pt x="1322" y="12"/>
                    </a:lnTo>
                    <a:lnTo>
                      <a:pt x="1316" y="13"/>
                    </a:lnTo>
                    <a:lnTo>
                      <a:pt x="1311" y="15"/>
                    </a:lnTo>
                    <a:lnTo>
                      <a:pt x="1307" y="16"/>
                    </a:lnTo>
                    <a:lnTo>
                      <a:pt x="1301" y="17"/>
                    </a:lnTo>
                    <a:lnTo>
                      <a:pt x="1295" y="19"/>
                    </a:lnTo>
                    <a:lnTo>
                      <a:pt x="1289" y="20"/>
                    </a:lnTo>
                    <a:lnTo>
                      <a:pt x="1283" y="22"/>
                    </a:lnTo>
                    <a:lnTo>
                      <a:pt x="1277" y="23"/>
                    </a:lnTo>
                    <a:lnTo>
                      <a:pt x="1271" y="26"/>
                    </a:lnTo>
                    <a:lnTo>
                      <a:pt x="1265" y="28"/>
                    </a:lnTo>
                    <a:lnTo>
                      <a:pt x="1260" y="29"/>
                    </a:lnTo>
                    <a:lnTo>
                      <a:pt x="1254" y="32"/>
                    </a:lnTo>
                    <a:lnTo>
                      <a:pt x="1246" y="34"/>
                    </a:lnTo>
                    <a:lnTo>
                      <a:pt x="1239" y="35"/>
                    </a:lnTo>
                    <a:lnTo>
                      <a:pt x="1231" y="37"/>
                    </a:lnTo>
                    <a:lnTo>
                      <a:pt x="1225" y="40"/>
                    </a:lnTo>
                    <a:lnTo>
                      <a:pt x="1218" y="41"/>
                    </a:lnTo>
                    <a:lnTo>
                      <a:pt x="1211" y="44"/>
                    </a:lnTo>
                    <a:lnTo>
                      <a:pt x="1203" y="47"/>
                    </a:lnTo>
                    <a:lnTo>
                      <a:pt x="1196" y="49"/>
                    </a:lnTo>
                    <a:lnTo>
                      <a:pt x="1187" y="52"/>
                    </a:lnTo>
                    <a:lnTo>
                      <a:pt x="1179" y="55"/>
                    </a:lnTo>
                    <a:lnTo>
                      <a:pt x="1171" y="56"/>
                    </a:lnTo>
                    <a:lnTo>
                      <a:pt x="1163" y="61"/>
                    </a:lnTo>
                    <a:lnTo>
                      <a:pt x="1156" y="62"/>
                    </a:lnTo>
                    <a:lnTo>
                      <a:pt x="1147" y="65"/>
                    </a:lnTo>
                    <a:lnTo>
                      <a:pt x="1139" y="68"/>
                    </a:lnTo>
                    <a:lnTo>
                      <a:pt x="1132" y="71"/>
                    </a:lnTo>
                    <a:lnTo>
                      <a:pt x="1123" y="74"/>
                    </a:lnTo>
                    <a:lnTo>
                      <a:pt x="1114" y="77"/>
                    </a:lnTo>
                    <a:lnTo>
                      <a:pt x="1105" y="80"/>
                    </a:lnTo>
                    <a:lnTo>
                      <a:pt x="1098" y="84"/>
                    </a:lnTo>
                    <a:lnTo>
                      <a:pt x="1089" y="87"/>
                    </a:lnTo>
                    <a:lnTo>
                      <a:pt x="1080" y="90"/>
                    </a:lnTo>
                    <a:lnTo>
                      <a:pt x="1071" y="95"/>
                    </a:lnTo>
                    <a:lnTo>
                      <a:pt x="1064" y="98"/>
                    </a:lnTo>
                    <a:lnTo>
                      <a:pt x="1055" y="102"/>
                    </a:lnTo>
                    <a:lnTo>
                      <a:pt x="1046" y="105"/>
                    </a:lnTo>
                    <a:lnTo>
                      <a:pt x="1037" y="109"/>
                    </a:lnTo>
                    <a:lnTo>
                      <a:pt x="1028" y="112"/>
                    </a:lnTo>
                    <a:lnTo>
                      <a:pt x="1019" y="117"/>
                    </a:lnTo>
                    <a:lnTo>
                      <a:pt x="1010" y="120"/>
                    </a:lnTo>
                    <a:lnTo>
                      <a:pt x="1001" y="124"/>
                    </a:lnTo>
                    <a:lnTo>
                      <a:pt x="994" y="129"/>
                    </a:lnTo>
                    <a:lnTo>
                      <a:pt x="984" y="132"/>
                    </a:lnTo>
                    <a:lnTo>
                      <a:pt x="975" y="136"/>
                    </a:lnTo>
                    <a:lnTo>
                      <a:pt x="966" y="141"/>
                    </a:lnTo>
                    <a:lnTo>
                      <a:pt x="957" y="145"/>
                    </a:lnTo>
                    <a:lnTo>
                      <a:pt x="948" y="150"/>
                    </a:lnTo>
                    <a:lnTo>
                      <a:pt x="939" y="154"/>
                    </a:lnTo>
                    <a:lnTo>
                      <a:pt x="932" y="158"/>
                    </a:lnTo>
                    <a:lnTo>
                      <a:pt x="923" y="163"/>
                    </a:lnTo>
                    <a:lnTo>
                      <a:pt x="912" y="167"/>
                    </a:lnTo>
                    <a:lnTo>
                      <a:pt x="905" y="172"/>
                    </a:lnTo>
                    <a:lnTo>
                      <a:pt x="896" y="176"/>
                    </a:lnTo>
                    <a:lnTo>
                      <a:pt x="887" y="181"/>
                    </a:lnTo>
                    <a:lnTo>
                      <a:pt x="878" y="185"/>
                    </a:lnTo>
                    <a:lnTo>
                      <a:pt x="871" y="191"/>
                    </a:lnTo>
                    <a:lnTo>
                      <a:pt x="862" y="196"/>
                    </a:lnTo>
                    <a:lnTo>
                      <a:pt x="854" y="200"/>
                    </a:lnTo>
                    <a:lnTo>
                      <a:pt x="846" y="203"/>
                    </a:lnTo>
                    <a:lnTo>
                      <a:pt x="838" y="209"/>
                    </a:lnTo>
                    <a:lnTo>
                      <a:pt x="829" y="213"/>
                    </a:lnTo>
                    <a:lnTo>
                      <a:pt x="822" y="218"/>
                    </a:lnTo>
                    <a:lnTo>
                      <a:pt x="814" y="222"/>
                    </a:lnTo>
                    <a:lnTo>
                      <a:pt x="806" y="227"/>
                    </a:lnTo>
                    <a:lnTo>
                      <a:pt x="798" y="231"/>
                    </a:lnTo>
                    <a:lnTo>
                      <a:pt x="791" y="236"/>
                    </a:lnTo>
                    <a:lnTo>
                      <a:pt x="783" y="240"/>
                    </a:lnTo>
                    <a:lnTo>
                      <a:pt x="776" y="245"/>
                    </a:lnTo>
                    <a:lnTo>
                      <a:pt x="768" y="249"/>
                    </a:lnTo>
                    <a:lnTo>
                      <a:pt x="762" y="253"/>
                    </a:lnTo>
                    <a:lnTo>
                      <a:pt x="755" y="258"/>
                    </a:lnTo>
                    <a:lnTo>
                      <a:pt x="748" y="262"/>
                    </a:lnTo>
                    <a:lnTo>
                      <a:pt x="742" y="267"/>
                    </a:lnTo>
                    <a:lnTo>
                      <a:pt x="736" y="271"/>
                    </a:lnTo>
                    <a:lnTo>
                      <a:pt x="728" y="274"/>
                    </a:lnTo>
                    <a:lnTo>
                      <a:pt x="721" y="279"/>
                    </a:lnTo>
                    <a:lnTo>
                      <a:pt x="715" y="282"/>
                    </a:lnTo>
                    <a:lnTo>
                      <a:pt x="709" y="286"/>
                    </a:lnTo>
                    <a:lnTo>
                      <a:pt x="703" y="291"/>
                    </a:lnTo>
                    <a:lnTo>
                      <a:pt x="697" y="293"/>
                    </a:lnTo>
                    <a:lnTo>
                      <a:pt x="691" y="298"/>
                    </a:lnTo>
                    <a:lnTo>
                      <a:pt x="687" y="301"/>
                    </a:lnTo>
                    <a:lnTo>
                      <a:pt x="681" y="304"/>
                    </a:lnTo>
                    <a:lnTo>
                      <a:pt x="676" y="308"/>
                    </a:lnTo>
                    <a:lnTo>
                      <a:pt x="672" y="311"/>
                    </a:lnTo>
                    <a:lnTo>
                      <a:pt x="668" y="314"/>
                    </a:lnTo>
                    <a:lnTo>
                      <a:pt x="662" y="317"/>
                    </a:lnTo>
                    <a:lnTo>
                      <a:pt x="659" y="320"/>
                    </a:lnTo>
                    <a:lnTo>
                      <a:pt x="654" y="323"/>
                    </a:lnTo>
                    <a:lnTo>
                      <a:pt x="651" y="326"/>
                    </a:lnTo>
                    <a:lnTo>
                      <a:pt x="647" y="328"/>
                    </a:lnTo>
                    <a:lnTo>
                      <a:pt x="642" y="331"/>
                    </a:lnTo>
                    <a:lnTo>
                      <a:pt x="639" y="332"/>
                    </a:lnTo>
                    <a:lnTo>
                      <a:pt x="636" y="335"/>
                    </a:lnTo>
                    <a:lnTo>
                      <a:pt x="632" y="338"/>
                    </a:lnTo>
                    <a:lnTo>
                      <a:pt x="627" y="342"/>
                    </a:lnTo>
                    <a:lnTo>
                      <a:pt x="623" y="344"/>
                    </a:lnTo>
                    <a:lnTo>
                      <a:pt x="622" y="347"/>
                    </a:lnTo>
                    <a:lnTo>
                      <a:pt x="620" y="348"/>
                    </a:lnTo>
                    <a:lnTo>
                      <a:pt x="620" y="348"/>
                    </a:lnTo>
                    <a:lnTo>
                      <a:pt x="619" y="348"/>
                    </a:lnTo>
                    <a:lnTo>
                      <a:pt x="617" y="350"/>
                    </a:lnTo>
                    <a:lnTo>
                      <a:pt x="614" y="350"/>
                    </a:lnTo>
                    <a:lnTo>
                      <a:pt x="611" y="351"/>
                    </a:lnTo>
                    <a:lnTo>
                      <a:pt x="605" y="353"/>
                    </a:lnTo>
                    <a:lnTo>
                      <a:pt x="601" y="356"/>
                    </a:lnTo>
                    <a:lnTo>
                      <a:pt x="598" y="356"/>
                    </a:lnTo>
                    <a:lnTo>
                      <a:pt x="593" y="357"/>
                    </a:lnTo>
                    <a:lnTo>
                      <a:pt x="590" y="359"/>
                    </a:lnTo>
                    <a:lnTo>
                      <a:pt x="587" y="362"/>
                    </a:lnTo>
                    <a:lnTo>
                      <a:pt x="583" y="362"/>
                    </a:lnTo>
                    <a:lnTo>
                      <a:pt x="578" y="365"/>
                    </a:lnTo>
                    <a:lnTo>
                      <a:pt x="576" y="366"/>
                    </a:lnTo>
                    <a:lnTo>
                      <a:pt x="571" y="368"/>
                    </a:lnTo>
                    <a:lnTo>
                      <a:pt x="565" y="369"/>
                    </a:lnTo>
                    <a:lnTo>
                      <a:pt x="561" y="372"/>
                    </a:lnTo>
                    <a:lnTo>
                      <a:pt x="556" y="374"/>
                    </a:lnTo>
                    <a:lnTo>
                      <a:pt x="552" y="377"/>
                    </a:lnTo>
                    <a:lnTo>
                      <a:pt x="546" y="378"/>
                    </a:lnTo>
                    <a:lnTo>
                      <a:pt x="540" y="381"/>
                    </a:lnTo>
                    <a:lnTo>
                      <a:pt x="534" y="384"/>
                    </a:lnTo>
                    <a:lnTo>
                      <a:pt x="530" y="387"/>
                    </a:lnTo>
                    <a:lnTo>
                      <a:pt x="524" y="388"/>
                    </a:lnTo>
                    <a:lnTo>
                      <a:pt x="518" y="391"/>
                    </a:lnTo>
                    <a:lnTo>
                      <a:pt x="512" y="394"/>
                    </a:lnTo>
                    <a:lnTo>
                      <a:pt x="506" y="399"/>
                    </a:lnTo>
                    <a:lnTo>
                      <a:pt x="500" y="400"/>
                    </a:lnTo>
                    <a:lnTo>
                      <a:pt x="494" y="403"/>
                    </a:lnTo>
                    <a:lnTo>
                      <a:pt x="486" y="406"/>
                    </a:lnTo>
                    <a:lnTo>
                      <a:pt x="481" y="411"/>
                    </a:lnTo>
                    <a:lnTo>
                      <a:pt x="473" y="414"/>
                    </a:lnTo>
                    <a:lnTo>
                      <a:pt x="467" y="417"/>
                    </a:lnTo>
                    <a:lnTo>
                      <a:pt x="460" y="421"/>
                    </a:lnTo>
                    <a:lnTo>
                      <a:pt x="452" y="424"/>
                    </a:lnTo>
                    <a:lnTo>
                      <a:pt x="445" y="429"/>
                    </a:lnTo>
                    <a:lnTo>
                      <a:pt x="439" y="431"/>
                    </a:lnTo>
                    <a:lnTo>
                      <a:pt x="432" y="436"/>
                    </a:lnTo>
                    <a:lnTo>
                      <a:pt x="424" y="439"/>
                    </a:lnTo>
                    <a:lnTo>
                      <a:pt x="417" y="443"/>
                    </a:lnTo>
                    <a:lnTo>
                      <a:pt x="409" y="446"/>
                    </a:lnTo>
                    <a:lnTo>
                      <a:pt x="402" y="451"/>
                    </a:lnTo>
                    <a:lnTo>
                      <a:pt x="396" y="455"/>
                    </a:lnTo>
                    <a:lnTo>
                      <a:pt x="389" y="460"/>
                    </a:lnTo>
                    <a:lnTo>
                      <a:pt x="381" y="463"/>
                    </a:lnTo>
                    <a:lnTo>
                      <a:pt x="374" y="467"/>
                    </a:lnTo>
                    <a:lnTo>
                      <a:pt x="366" y="472"/>
                    </a:lnTo>
                    <a:lnTo>
                      <a:pt x="359" y="476"/>
                    </a:lnTo>
                    <a:lnTo>
                      <a:pt x="351" y="480"/>
                    </a:lnTo>
                    <a:lnTo>
                      <a:pt x="344" y="485"/>
                    </a:lnTo>
                    <a:lnTo>
                      <a:pt x="337" y="489"/>
                    </a:lnTo>
                    <a:lnTo>
                      <a:pt x="328" y="494"/>
                    </a:lnTo>
                    <a:lnTo>
                      <a:pt x="320" y="498"/>
                    </a:lnTo>
                    <a:lnTo>
                      <a:pt x="313" y="503"/>
                    </a:lnTo>
                    <a:lnTo>
                      <a:pt x="305" y="507"/>
                    </a:lnTo>
                    <a:lnTo>
                      <a:pt x="298" y="513"/>
                    </a:lnTo>
                    <a:lnTo>
                      <a:pt x="291" y="518"/>
                    </a:lnTo>
                    <a:lnTo>
                      <a:pt x="283" y="522"/>
                    </a:lnTo>
                    <a:lnTo>
                      <a:pt x="277" y="528"/>
                    </a:lnTo>
                    <a:lnTo>
                      <a:pt x="270" y="532"/>
                    </a:lnTo>
                    <a:lnTo>
                      <a:pt x="262" y="538"/>
                    </a:lnTo>
                    <a:lnTo>
                      <a:pt x="255" y="543"/>
                    </a:lnTo>
                    <a:lnTo>
                      <a:pt x="248" y="549"/>
                    </a:lnTo>
                    <a:lnTo>
                      <a:pt x="240" y="553"/>
                    </a:lnTo>
                    <a:lnTo>
                      <a:pt x="233" y="558"/>
                    </a:lnTo>
                    <a:lnTo>
                      <a:pt x="227" y="564"/>
                    </a:lnTo>
                    <a:lnTo>
                      <a:pt x="219" y="569"/>
                    </a:lnTo>
                    <a:lnTo>
                      <a:pt x="212" y="574"/>
                    </a:lnTo>
                    <a:lnTo>
                      <a:pt x="206" y="580"/>
                    </a:lnTo>
                    <a:lnTo>
                      <a:pt x="199" y="584"/>
                    </a:lnTo>
                    <a:lnTo>
                      <a:pt x="193" y="590"/>
                    </a:lnTo>
                    <a:lnTo>
                      <a:pt x="187" y="595"/>
                    </a:lnTo>
                    <a:lnTo>
                      <a:pt x="179" y="601"/>
                    </a:lnTo>
                    <a:lnTo>
                      <a:pt x="173" y="605"/>
                    </a:lnTo>
                    <a:lnTo>
                      <a:pt x="167" y="611"/>
                    </a:lnTo>
                    <a:lnTo>
                      <a:pt x="162" y="617"/>
                    </a:lnTo>
                    <a:lnTo>
                      <a:pt x="154" y="621"/>
                    </a:lnTo>
                    <a:lnTo>
                      <a:pt x="148" y="626"/>
                    </a:lnTo>
                    <a:lnTo>
                      <a:pt x="142" y="632"/>
                    </a:lnTo>
                    <a:lnTo>
                      <a:pt x="138" y="636"/>
                    </a:lnTo>
                    <a:lnTo>
                      <a:pt x="132" y="642"/>
                    </a:lnTo>
                    <a:lnTo>
                      <a:pt x="126" y="647"/>
                    </a:lnTo>
                    <a:lnTo>
                      <a:pt x="120" y="653"/>
                    </a:lnTo>
                    <a:lnTo>
                      <a:pt x="116" y="657"/>
                    </a:lnTo>
                    <a:lnTo>
                      <a:pt x="110" y="663"/>
                    </a:lnTo>
                    <a:lnTo>
                      <a:pt x="105" y="666"/>
                    </a:lnTo>
                    <a:lnTo>
                      <a:pt x="99" y="672"/>
                    </a:lnTo>
                    <a:lnTo>
                      <a:pt x="93" y="676"/>
                    </a:lnTo>
                    <a:lnTo>
                      <a:pt x="90" y="681"/>
                    </a:lnTo>
                    <a:lnTo>
                      <a:pt x="84" y="687"/>
                    </a:lnTo>
                    <a:lnTo>
                      <a:pt x="80" y="691"/>
                    </a:lnTo>
                    <a:lnTo>
                      <a:pt x="75" y="696"/>
                    </a:lnTo>
                    <a:lnTo>
                      <a:pt x="71" y="700"/>
                    </a:lnTo>
                    <a:lnTo>
                      <a:pt x="65" y="705"/>
                    </a:lnTo>
                    <a:lnTo>
                      <a:pt x="62" y="707"/>
                    </a:lnTo>
                    <a:lnTo>
                      <a:pt x="58" y="712"/>
                    </a:lnTo>
                    <a:lnTo>
                      <a:pt x="53" y="716"/>
                    </a:lnTo>
                    <a:lnTo>
                      <a:pt x="50" y="719"/>
                    </a:lnTo>
                    <a:lnTo>
                      <a:pt x="46" y="724"/>
                    </a:lnTo>
                    <a:lnTo>
                      <a:pt x="43" y="727"/>
                    </a:lnTo>
                    <a:lnTo>
                      <a:pt x="38" y="731"/>
                    </a:lnTo>
                    <a:lnTo>
                      <a:pt x="35" y="734"/>
                    </a:lnTo>
                    <a:lnTo>
                      <a:pt x="32" y="737"/>
                    </a:lnTo>
                    <a:lnTo>
                      <a:pt x="27" y="745"/>
                    </a:lnTo>
                    <a:lnTo>
                      <a:pt x="21" y="751"/>
                    </a:lnTo>
                    <a:lnTo>
                      <a:pt x="15" y="755"/>
                    </a:lnTo>
                    <a:lnTo>
                      <a:pt x="12" y="759"/>
                    </a:lnTo>
                    <a:lnTo>
                      <a:pt x="7" y="764"/>
                    </a:lnTo>
                    <a:lnTo>
                      <a:pt x="4" y="768"/>
                    </a:lnTo>
                    <a:lnTo>
                      <a:pt x="1" y="773"/>
                    </a:lnTo>
                    <a:lnTo>
                      <a:pt x="0" y="774"/>
                    </a:lnTo>
                    <a:lnTo>
                      <a:pt x="0" y="77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3948120" y="1757520"/>
                <a:ext cx="444240" cy="307800"/>
              </a:xfrm>
              <a:custGeom>
                <a:avLst/>
                <a:gdLst/>
                <a:ahLst/>
                <a:rect l="l" t="t" r="r" b="b"/>
                <a:pathLst>
                  <a:path w="561" h="387">
                    <a:moveTo>
                      <a:pt x="557" y="0"/>
                    </a:moveTo>
                    <a:lnTo>
                      <a:pt x="555" y="0"/>
                    </a:lnTo>
                    <a:lnTo>
                      <a:pt x="555" y="1"/>
                    </a:lnTo>
                    <a:lnTo>
                      <a:pt x="555" y="3"/>
                    </a:lnTo>
                    <a:lnTo>
                      <a:pt x="554" y="7"/>
                    </a:lnTo>
                    <a:lnTo>
                      <a:pt x="552" y="10"/>
                    </a:lnTo>
                    <a:lnTo>
                      <a:pt x="551" y="16"/>
                    </a:lnTo>
                    <a:lnTo>
                      <a:pt x="549" y="19"/>
                    </a:lnTo>
                    <a:lnTo>
                      <a:pt x="549" y="22"/>
                    </a:lnTo>
                    <a:lnTo>
                      <a:pt x="548" y="27"/>
                    </a:lnTo>
                    <a:lnTo>
                      <a:pt x="546" y="30"/>
                    </a:lnTo>
                    <a:lnTo>
                      <a:pt x="544" y="33"/>
                    </a:lnTo>
                    <a:lnTo>
                      <a:pt x="542" y="36"/>
                    </a:lnTo>
                    <a:lnTo>
                      <a:pt x="541" y="40"/>
                    </a:lnTo>
                    <a:lnTo>
                      <a:pt x="538" y="43"/>
                    </a:lnTo>
                    <a:lnTo>
                      <a:pt x="535" y="47"/>
                    </a:lnTo>
                    <a:lnTo>
                      <a:pt x="533" y="52"/>
                    </a:lnTo>
                    <a:lnTo>
                      <a:pt x="530" y="55"/>
                    </a:lnTo>
                    <a:lnTo>
                      <a:pt x="527" y="59"/>
                    </a:lnTo>
                    <a:lnTo>
                      <a:pt x="523" y="64"/>
                    </a:lnTo>
                    <a:lnTo>
                      <a:pt x="520" y="67"/>
                    </a:lnTo>
                    <a:lnTo>
                      <a:pt x="515" y="71"/>
                    </a:lnTo>
                    <a:lnTo>
                      <a:pt x="512" y="76"/>
                    </a:lnTo>
                    <a:lnTo>
                      <a:pt x="506" y="79"/>
                    </a:lnTo>
                    <a:lnTo>
                      <a:pt x="502" y="83"/>
                    </a:lnTo>
                    <a:lnTo>
                      <a:pt x="496" y="86"/>
                    </a:lnTo>
                    <a:lnTo>
                      <a:pt x="492" y="90"/>
                    </a:lnTo>
                    <a:lnTo>
                      <a:pt x="486" y="93"/>
                    </a:lnTo>
                    <a:lnTo>
                      <a:pt x="478" y="98"/>
                    </a:lnTo>
                    <a:lnTo>
                      <a:pt x="472" y="101"/>
                    </a:lnTo>
                    <a:lnTo>
                      <a:pt x="466" y="105"/>
                    </a:lnTo>
                    <a:lnTo>
                      <a:pt x="462" y="105"/>
                    </a:lnTo>
                    <a:lnTo>
                      <a:pt x="459" y="108"/>
                    </a:lnTo>
                    <a:lnTo>
                      <a:pt x="454" y="108"/>
                    </a:lnTo>
                    <a:lnTo>
                      <a:pt x="452" y="111"/>
                    </a:lnTo>
                    <a:lnTo>
                      <a:pt x="449" y="113"/>
                    </a:lnTo>
                    <a:lnTo>
                      <a:pt x="444" y="114"/>
                    </a:lnTo>
                    <a:lnTo>
                      <a:pt x="441" y="117"/>
                    </a:lnTo>
                    <a:lnTo>
                      <a:pt x="437" y="119"/>
                    </a:lnTo>
                    <a:lnTo>
                      <a:pt x="432" y="120"/>
                    </a:lnTo>
                    <a:lnTo>
                      <a:pt x="428" y="122"/>
                    </a:lnTo>
                    <a:lnTo>
                      <a:pt x="423" y="123"/>
                    </a:lnTo>
                    <a:lnTo>
                      <a:pt x="420" y="125"/>
                    </a:lnTo>
                    <a:lnTo>
                      <a:pt x="416" y="126"/>
                    </a:lnTo>
                    <a:lnTo>
                      <a:pt x="411" y="128"/>
                    </a:lnTo>
                    <a:lnTo>
                      <a:pt x="407" y="129"/>
                    </a:lnTo>
                    <a:lnTo>
                      <a:pt x="404" y="132"/>
                    </a:lnTo>
                    <a:lnTo>
                      <a:pt x="398" y="132"/>
                    </a:lnTo>
                    <a:lnTo>
                      <a:pt x="394" y="135"/>
                    </a:lnTo>
                    <a:lnTo>
                      <a:pt x="389" y="136"/>
                    </a:lnTo>
                    <a:lnTo>
                      <a:pt x="385" y="138"/>
                    </a:lnTo>
                    <a:lnTo>
                      <a:pt x="380" y="139"/>
                    </a:lnTo>
                    <a:lnTo>
                      <a:pt x="376" y="142"/>
                    </a:lnTo>
                    <a:lnTo>
                      <a:pt x="371" y="144"/>
                    </a:lnTo>
                    <a:lnTo>
                      <a:pt x="367" y="145"/>
                    </a:lnTo>
                    <a:lnTo>
                      <a:pt x="362" y="147"/>
                    </a:lnTo>
                    <a:lnTo>
                      <a:pt x="358" y="148"/>
                    </a:lnTo>
                    <a:lnTo>
                      <a:pt x="352" y="150"/>
                    </a:lnTo>
                    <a:lnTo>
                      <a:pt x="348" y="153"/>
                    </a:lnTo>
                    <a:lnTo>
                      <a:pt x="343" y="154"/>
                    </a:lnTo>
                    <a:lnTo>
                      <a:pt x="337" y="156"/>
                    </a:lnTo>
                    <a:lnTo>
                      <a:pt x="333" y="157"/>
                    </a:lnTo>
                    <a:lnTo>
                      <a:pt x="328" y="160"/>
                    </a:lnTo>
                    <a:lnTo>
                      <a:pt x="322" y="162"/>
                    </a:lnTo>
                    <a:lnTo>
                      <a:pt x="318" y="165"/>
                    </a:lnTo>
                    <a:lnTo>
                      <a:pt x="314" y="166"/>
                    </a:lnTo>
                    <a:lnTo>
                      <a:pt x="309" y="169"/>
                    </a:lnTo>
                    <a:lnTo>
                      <a:pt x="303" y="171"/>
                    </a:lnTo>
                    <a:lnTo>
                      <a:pt x="299" y="172"/>
                    </a:lnTo>
                    <a:lnTo>
                      <a:pt x="293" y="175"/>
                    </a:lnTo>
                    <a:lnTo>
                      <a:pt x="288" y="178"/>
                    </a:lnTo>
                    <a:lnTo>
                      <a:pt x="284" y="180"/>
                    </a:lnTo>
                    <a:lnTo>
                      <a:pt x="278" y="181"/>
                    </a:lnTo>
                    <a:lnTo>
                      <a:pt x="273" y="184"/>
                    </a:lnTo>
                    <a:lnTo>
                      <a:pt x="269" y="187"/>
                    </a:lnTo>
                    <a:lnTo>
                      <a:pt x="263" y="188"/>
                    </a:lnTo>
                    <a:lnTo>
                      <a:pt x="259" y="191"/>
                    </a:lnTo>
                    <a:lnTo>
                      <a:pt x="253" y="194"/>
                    </a:lnTo>
                    <a:lnTo>
                      <a:pt x="248" y="197"/>
                    </a:lnTo>
                    <a:lnTo>
                      <a:pt x="242" y="199"/>
                    </a:lnTo>
                    <a:lnTo>
                      <a:pt x="238" y="202"/>
                    </a:lnTo>
                    <a:lnTo>
                      <a:pt x="232" y="205"/>
                    </a:lnTo>
                    <a:lnTo>
                      <a:pt x="227" y="208"/>
                    </a:lnTo>
                    <a:lnTo>
                      <a:pt x="222" y="211"/>
                    </a:lnTo>
                    <a:lnTo>
                      <a:pt x="217" y="214"/>
                    </a:lnTo>
                    <a:lnTo>
                      <a:pt x="213" y="217"/>
                    </a:lnTo>
                    <a:lnTo>
                      <a:pt x="208" y="220"/>
                    </a:lnTo>
                    <a:lnTo>
                      <a:pt x="202" y="223"/>
                    </a:lnTo>
                    <a:lnTo>
                      <a:pt x="198" y="226"/>
                    </a:lnTo>
                    <a:lnTo>
                      <a:pt x="192" y="228"/>
                    </a:lnTo>
                    <a:lnTo>
                      <a:pt x="187" y="231"/>
                    </a:lnTo>
                    <a:lnTo>
                      <a:pt x="181" y="234"/>
                    </a:lnTo>
                    <a:lnTo>
                      <a:pt x="177" y="237"/>
                    </a:lnTo>
                    <a:lnTo>
                      <a:pt x="173" y="240"/>
                    </a:lnTo>
                    <a:lnTo>
                      <a:pt x="168" y="245"/>
                    </a:lnTo>
                    <a:lnTo>
                      <a:pt x="162" y="248"/>
                    </a:lnTo>
                    <a:lnTo>
                      <a:pt x="158" y="252"/>
                    </a:lnTo>
                    <a:lnTo>
                      <a:pt x="152" y="255"/>
                    </a:lnTo>
                    <a:lnTo>
                      <a:pt x="147" y="258"/>
                    </a:lnTo>
                    <a:lnTo>
                      <a:pt x="143" y="261"/>
                    </a:lnTo>
                    <a:lnTo>
                      <a:pt x="138" y="266"/>
                    </a:lnTo>
                    <a:lnTo>
                      <a:pt x="134" y="269"/>
                    </a:lnTo>
                    <a:lnTo>
                      <a:pt x="130" y="273"/>
                    </a:lnTo>
                    <a:lnTo>
                      <a:pt x="124" y="276"/>
                    </a:lnTo>
                    <a:lnTo>
                      <a:pt x="121" y="279"/>
                    </a:lnTo>
                    <a:lnTo>
                      <a:pt x="115" y="282"/>
                    </a:lnTo>
                    <a:lnTo>
                      <a:pt x="110" y="286"/>
                    </a:lnTo>
                    <a:lnTo>
                      <a:pt x="106" y="289"/>
                    </a:lnTo>
                    <a:lnTo>
                      <a:pt x="101" y="294"/>
                    </a:lnTo>
                    <a:lnTo>
                      <a:pt x="97" y="297"/>
                    </a:lnTo>
                    <a:lnTo>
                      <a:pt x="94" y="300"/>
                    </a:lnTo>
                    <a:lnTo>
                      <a:pt x="89" y="303"/>
                    </a:lnTo>
                    <a:lnTo>
                      <a:pt x="85" y="307"/>
                    </a:lnTo>
                    <a:lnTo>
                      <a:pt x="81" y="310"/>
                    </a:lnTo>
                    <a:lnTo>
                      <a:pt x="78" y="313"/>
                    </a:lnTo>
                    <a:lnTo>
                      <a:pt x="73" y="316"/>
                    </a:lnTo>
                    <a:lnTo>
                      <a:pt x="70" y="320"/>
                    </a:lnTo>
                    <a:lnTo>
                      <a:pt x="66" y="323"/>
                    </a:lnTo>
                    <a:lnTo>
                      <a:pt x="63" y="328"/>
                    </a:lnTo>
                    <a:lnTo>
                      <a:pt x="60" y="329"/>
                    </a:lnTo>
                    <a:lnTo>
                      <a:pt x="55" y="332"/>
                    </a:lnTo>
                    <a:lnTo>
                      <a:pt x="52" y="335"/>
                    </a:lnTo>
                    <a:lnTo>
                      <a:pt x="49" y="338"/>
                    </a:lnTo>
                    <a:lnTo>
                      <a:pt x="42" y="344"/>
                    </a:lnTo>
                    <a:lnTo>
                      <a:pt x="38" y="350"/>
                    </a:lnTo>
                    <a:lnTo>
                      <a:pt x="30" y="355"/>
                    </a:lnTo>
                    <a:lnTo>
                      <a:pt x="26" y="361"/>
                    </a:lnTo>
                    <a:lnTo>
                      <a:pt x="21" y="365"/>
                    </a:lnTo>
                    <a:lnTo>
                      <a:pt x="17" y="369"/>
                    </a:lnTo>
                    <a:lnTo>
                      <a:pt x="12" y="372"/>
                    </a:lnTo>
                    <a:lnTo>
                      <a:pt x="9" y="377"/>
                    </a:lnTo>
                    <a:lnTo>
                      <a:pt x="6" y="378"/>
                    </a:lnTo>
                    <a:lnTo>
                      <a:pt x="5" y="381"/>
                    </a:lnTo>
                    <a:lnTo>
                      <a:pt x="0" y="384"/>
                    </a:lnTo>
                    <a:lnTo>
                      <a:pt x="0" y="387"/>
                    </a:lnTo>
                    <a:lnTo>
                      <a:pt x="64" y="387"/>
                    </a:lnTo>
                    <a:lnTo>
                      <a:pt x="66" y="386"/>
                    </a:lnTo>
                    <a:lnTo>
                      <a:pt x="67" y="383"/>
                    </a:lnTo>
                    <a:lnTo>
                      <a:pt x="72" y="377"/>
                    </a:lnTo>
                    <a:lnTo>
                      <a:pt x="78" y="372"/>
                    </a:lnTo>
                    <a:lnTo>
                      <a:pt x="81" y="368"/>
                    </a:lnTo>
                    <a:lnTo>
                      <a:pt x="85" y="364"/>
                    </a:lnTo>
                    <a:lnTo>
                      <a:pt x="88" y="359"/>
                    </a:lnTo>
                    <a:lnTo>
                      <a:pt x="94" y="356"/>
                    </a:lnTo>
                    <a:lnTo>
                      <a:pt x="97" y="350"/>
                    </a:lnTo>
                    <a:lnTo>
                      <a:pt x="103" y="346"/>
                    </a:lnTo>
                    <a:lnTo>
                      <a:pt x="109" y="341"/>
                    </a:lnTo>
                    <a:lnTo>
                      <a:pt x="115" y="335"/>
                    </a:lnTo>
                    <a:lnTo>
                      <a:pt x="121" y="329"/>
                    </a:lnTo>
                    <a:lnTo>
                      <a:pt x="127" y="323"/>
                    </a:lnTo>
                    <a:lnTo>
                      <a:pt x="130" y="320"/>
                    </a:lnTo>
                    <a:lnTo>
                      <a:pt x="133" y="319"/>
                    </a:lnTo>
                    <a:lnTo>
                      <a:pt x="135" y="316"/>
                    </a:lnTo>
                    <a:lnTo>
                      <a:pt x="140" y="313"/>
                    </a:lnTo>
                    <a:lnTo>
                      <a:pt x="143" y="310"/>
                    </a:lnTo>
                    <a:lnTo>
                      <a:pt x="146" y="307"/>
                    </a:lnTo>
                    <a:lnTo>
                      <a:pt x="150" y="304"/>
                    </a:lnTo>
                    <a:lnTo>
                      <a:pt x="153" y="301"/>
                    </a:lnTo>
                    <a:lnTo>
                      <a:pt x="158" y="298"/>
                    </a:lnTo>
                    <a:lnTo>
                      <a:pt x="161" y="295"/>
                    </a:lnTo>
                    <a:lnTo>
                      <a:pt x="165" y="292"/>
                    </a:lnTo>
                    <a:lnTo>
                      <a:pt x="170" y="289"/>
                    </a:lnTo>
                    <a:lnTo>
                      <a:pt x="173" y="285"/>
                    </a:lnTo>
                    <a:lnTo>
                      <a:pt x="177" y="283"/>
                    </a:lnTo>
                    <a:lnTo>
                      <a:pt x="181" y="280"/>
                    </a:lnTo>
                    <a:lnTo>
                      <a:pt x="186" y="277"/>
                    </a:lnTo>
                    <a:lnTo>
                      <a:pt x="189" y="274"/>
                    </a:lnTo>
                    <a:lnTo>
                      <a:pt x="193" y="272"/>
                    </a:lnTo>
                    <a:lnTo>
                      <a:pt x="198" y="269"/>
                    </a:lnTo>
                    <a:lnTo>
                      <a:pt x="202" y="267"/>
                    </a:lnTo>
                    <a:lnTo>
                      <a:pt x="205" y="263"/>
                    </a:lnTo>
                    <a:lnTo>
                      <a:pt x="211" y="261"/>
                    </a:lnTo>
                    <a:lnTo>
                      <a:pt x="216" y="258"/>
                    </a:lnTo>
                    <a:lnTo>
                      <a:pt x="220" y="255"/>
                    </a:lnTo>
                    <a:lnTo>
                      <a:pt x="224" y="252"/>
                    </a:lnTo>
                    <a:lnTo>
                      <a:pt x="229" y="249"/>
                    </a:lnTo>
                    <a:lnTo>
                      <a:pt x="233" y="248"/>
                    </a:lnTo>
                    <a:lnTo>
                      <a:pt x="239" y="245"/>
                    </a:lnTo>
                    <a:lnTo>
                      <a:pt x="244" y="242"/>
                    </a:lnTo>
                    <a:lnTo>
                      <a:pt x="248" y="240"/>
                    </a:lnTo>
                    <a:lnTo>
                      <a:pt x="253" y="237"/>
                    </a:lnTo>
                    <a:lnTo>
                      <a:pt x="257" y="236"/>
                    </a:lnTo>
                    <a:lnTo>
                      <a:pt x="262" y="233"/>
                    </a:lnTo>
                    <a:lnTo>
                      <a:pt x="266" y="230"/>
                    </a:lnTo>
                    <a:lnTo>
                      <a:pt x="272" y="228"/>
                    </a:lnTo>
                    <a:lnTo>
                      <a:pt x="276" y="226"/>
                    </a:lnTo>
                    <a:lnTo>
                      <a:pt x="281" y="224"/>
                    </a:lnTo>
                    <a:lnTo>
                      <a:pt x="287" y="221"/>
                    </a:lnTo>
                    <a:lnTo>
                      <a:pt x="291" y="220"/>
                    </a:lnTo>
                    <a:lnTo>
                      <a:pt x="297" y="218"/>
                    </a:lnTo>
                    <a:lnTo>
                      <a:pt x="302" y="217"/>
                    </a:lnTo>
                    <a:lnTo>
                      <a:pt x="306" y="214"/>
                    </a:lnTo>
                    <a:lnTo>
                      <a:pt x="312" y="212"/>
                    </a:lnTo>
                    <a:lnTo>
                      <a:pt x="318" y="211"/>
                    </a:lnTo>
                    <a:lnTo>
                      <a:pt x="321" y="209"/>
                    </a:lnTo>
                    <a:lnTo>
                      <a:pt x="327" y="206"/>
                    </a:lnTo>
                    <a:lnTo>
                      <a:pt x="331" y="205"/>
                    </a:lnTo>
                    <a:lnTo>
                      <a:pt x="337" y="203"/>
                    </a:lnTo>
                    <a:lnTo>
                      <a:pt x="342" y="202"/>
                    </a:lnTo>
                    <a:lnTo>
                      <a:pt x="346" y="199"/>
                    </a:lnTo>
                    <a:lnTo>
                      <a:pt x="351" y="197"/>
                    </a:lnTo>
                    <a:lnTo>
                      <a:pt x="357" y="196"/>
                    </a:lnTo>
                    <a:lnTo>
                      <a:pt x="362" y="194"/>
                    </a:lnTo>
                    <a:lnTo>
                      <a:pt x="367" y="191"/>
                    </a:lnTo>
                    <a:lnTo>
                      <a:pt x="371" y="190"/>
                    </a:lnTo>
                    <a:lnTo>
                      <a:pt x="377" y="188"/>
                    </a:lnTo>
                    <a:lnTo>
                      <a:pt x="382" y="187"/>
                    </a:lnTo>
                    <a:lnTo>
                      <a:pt x="386" y="185"/>
                    </a:lnTo>
                    <a:lnTo>
                      <a:pt x="392" y="184"/>
                    </a:lnTo>
                    <a:lnTo>
                      <a:pt x="397" y="182"/>
                    </a:lnTo>
                    <a:lnTo>
                      <a:pt x="401" y="181"/>
                    </a:lnTo>
                    <a:lnTo>
                      <a:pt x="406" y="180"/>
                    </a:lnTo>
                    <a:lnTo>
                      <a:pt x="410" y="177"/>
                    </a:lnTo>
                    <a:lnTo>
                      <a:pt x="414" y="177"/>
                    </a:lnTo>
                    <a:lnTo>
                      <a:pt x="419" y="174"/>
                    </a:lnTo>
                    <a:lnTo>
                      <a:pt x="425" y="172"/>
                    </a:lnTo>
                    <a:lnTo>
                      <a:pt x="429" y="171"/>
                    </a:lnTo>
                    <a:lnTo>
                      <a:pt x="434" y="169"/>
                    </a:lnTo>
                    <a:lnTo>
                      <a:pt x="438" y="168"/>
                    </a:lnTo>
                    <a:lnTo>
                      <a:pt x="443" y="165"/>
                    </a:lnTo>
                    <a:lnTo>
                      <a:pt x="447" y="163"/>
                    </a:lnTo>
                    <a:lnTo>
                      <a:pt x="452" y="162"/>
                    </a:lnTo>
                    <a:lnTo>
                      <a:pt x="456" y="160"/>
                    </a:lnTo>
                    <a:lnTo>
                      <a:pt x="459" y="159"/>
                    </a:lnTo>
                    <a:lnTo>
                      <a:pt x="463" y="157"/>
                    </a:lnTo>
                    <a:lnTo>
                      <a:pt x="468" y="156"/>
                    </a:lnTo>
                    <a:lnTo>
                      <a:pt x="472" y="153"/>
                    </a:lnTo>
                    <a:lnTo>
                      <a:pt x="475" y="151"/>
                    </a:lnTo>
                    <a:lnTo>
                      <a:pt x="480" y="150"/>
                    </a:lnTo>
                    <a:lnTo>
                      <a:pt x="483" y="147"/>
                    </a:lnTo>
                    <a:lnTo>
                      <a:pt x="487" y="145"/>
                    </a:lnTo>
                    <a:lnTo>
                      <a:pt x="490" y="144"/>
                    </a:lnTo>
                    <a:lnTo>
                      <a:pt x="495" y="142"/>
                    </a:lnTo>
                    <a:lnTo>
                      <a:pt x="498" y="139"/>
                    </a:lnTo>
                    <a:lnTo>
                      <a:pt x="505" y="135"/>
                    </a:lnTo>
                    <a:lnTo>
                      <a:pt x="511" y="132"/>
                    </a:lnTo>
                    <a:lnTo>
                      <a:pt x="517" y="128"/>
                    </a:lnTo>
                    <a:lnTo>
                      <a:pt x="523" y="123"/>
                    </a:lnTo>
                    <a:lnTo>
                      <a:pt x="527" y="117"/>
                    </a:lnTo>
                    <a:lnTo>
                      <a:pt x="532" y="113"/>
                    </a:lnTo>
                    <a:lnTo>
                      <a:pt x="536" y="107"/>
                    </a:lnTo>
                    <a:lnTo>
                      <a:pt x="541" y="102"/>
                    </a:lnTo>
                    <a:lnTo>
                      <a:pt x="544" y="96"/>
                    </a:lnTo>
                    <a:lnTo>
                      <a:pt x="546" y="92"/>
                    </a:lnTo>
                    <a:lnTo>
                      <a:pt x="549" y="86"/>
                    </a:lnTo>
                    <a:lnTo>
                      <a:pt x="552" y="82"/>
                    </a:lnTo>
                    <a:lnTo>
                      <a:pt x="554" y="76"/>
                    </a:lnTo>
                    <a:lnTo>
                      <a:pt x="555" y="70"/>
                    </a:lnTo>
                    <a:lnTo>
                      <a:pt x="557" y="65"/>
                    </a:lnTo>
                    <a:lnTo>
                      <a:pt x="558" y="61"/>
                    </a:lnTo>
                    <a:lnTo>
                      <a:pt x="560" y="55"/>
                    </a:lnTo>
                    <a:lnTo>
                      <a:pt x="560" y="50"/>
                    </a:lnTo>
                    <a:lnTo>
                      <a:pt x="560" y="44"/>
                    </a:lnTo>
                    <a:lnTo>
                      <a:pt x="561" y="42"/>
                    </a:lnTo>
                    <a:lnTo>
                      <a:pt x="560" y="37"/>
                    </a:lnTo>
                    <a:lnTo>
                      <a:pt x="560" y="33"/>
                    </a:lnTo>
                    <a:lnTo>
                      <a:pt x="560" y="28"/>
                    </a:lnTo>
                    <a:lnTo>
                      <a:pt x="560" y="24"/>
                    </a:lnTo>
                    <a:lnTo>
                      <a:pt x="560" y="21"/>
                    </a:lnTo>
                    <a:lnTo>
                      <a:pt x="560" y="16"/>
                    </a:lnTo>
                    <a:lnTo>
                      <a:pt x="558" y="13"/>
                    </a:lnTo>
                    <a:lnTo>
                      <a:pt x="558" y="10"/>
                    </a:lnTo>
                    <a:lnTo>
                      <a:pt x="557" y="6"/>
                    </a:lnTo>
                    <a:lnTo>
                      <a:pt x="557" y="3"/>
                    </a:lnTo>
                    <a:lnTo>
                      <a:pt x="557" y="0"/>
                    </a:lnTo>
                    <a:lnTo>
                      <a:pt x="557" y="0"/>
                    </a:lnTo>
                    <a:lnTo>
                      <a:pt x="55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3536640" y="2046240"/>
                <a:ext cx="635040" cy="209520"/>
              </a:xfrm>
              <a:custGeom>
                <a:avLst/>
                <a:gdLst/>
                <a:ahLst/>
                <a:rect l="l" t="t" r="r" b="b"/>
                <a:pathLst>
                  <a:path w="799" h="264">
                    <a:moveTo>
                      <a:pt x="244" y="59"/>
                    </a:moveTo>
                    <a:lnTo>
                      <a:pt x="244" y="59"/>
                    </a:lnTo>
                    <a:lnTo>
                      <a:pt x="246" y="58"/>
                    </a:lnTo>
                    <a:lnTo>
                      <a:pt x="247" y="55"/>
                    </a:lnTo>
                    <a:lnTo>
                      <a:pt x="252" y="53"/>
                    </a:lnTo>
                    <a:lnTo>
                      <a:pt x="256" y="50"/>
                    </a:lnTo>
                    <a:lnTo>
                      <a:pt x="262" y="48"/>
                    </a:lnTo>
                    <a:lnTo>
                      <a:pt x="265" y="46"/>
                    </a:lnTo>
                    <a:lnTo>
                      <a:pt x="270" y="45"/>
                    </a:lnTo>
                    <a:lnTo>
                      <a:pt x="273" y="43"/>
                    </a:lnTo>
                    <a:lnTo>
                      <a:pt x="277" y="42"/>
                    </a:lnTo>
                    <a:lnTo>
                      <a:pt x="282" y="40"/>
                    </a:lnTo>
                    <a:lnTo>
                      <a:pt x="286" y="37"/>
                    </a:lnTo>
                    <a:lnTo>
                      <a:pt x="290" y="36"/>
                    </a:lnTo>
                    <a:lnTo>
                      <a:pt x="295" y="34"/>
                    </a:lnTo>
                    <a:lnTo>
                      <a:pt x="299" y="33"/>
                    </a:lnTo>
                    <a:lnTo>
                      <a:pt x="305" y="30"/>
                    </a:lnTo>
                    <a:lnTo>
                      <a:pt x="311" y="28"/>
                    </a:lnTo>
                    <a:lnTo>
                      <a:pt x="317" y="27"/>
                    </a:lnTo>
                    <a:lnTo>
                      <a:pt x="323" y="25"/>
                    </a:lnTo>
                    <a:lnTo>
                      <a:pt x="330" y="22"/>
                    </a:lnTo>
                    <a:lnTo>
                      <a:pt x="333" y="22"/>
                    </a:lnTo>
                    <a:lnTo>
                      <a:pt x="336" y="21"/>
                    </a:lnTo>
                    <a:lnTo>
                      <a:pt x="339" y="19"/>
                    </a:lnTo>
                    <a:lnTo>
                      <a:pt x="344" y="19"/>
                    </a:lnTo>
                    <a:lnTo>
                      <a:pt x="347" y="18"/>
                    </a:lnTo>
                    <a:lnTo>
                      <a:pt x="350" y="18"/>
                    </a:lnTo>
                    <a:lnTo>
                      <a:pt x="354" y="16"/>
                    </a:lnTo>
                    <a:lnTo>
                      <a:pt x="357" y="16"/>
                    </a:lnTo>
                    <a:lnTo>
                      <a:pt x="362" y="15"/>
                    </a:lnTo>
                    <a:lnTo>
                      <a:pt x="365" y="15"/>
                    </a:lnTo>
                    <a:lnTo>
                      <a:pt x="369" y="13"/>
                    </a:lnTo>
                    <a:lnTo>
                      <a:pt x="374" y="13"/>
                    </a:lnTo>
                    <a:lnTo>
                      <a:pt x="376" y="12"/>
                    </a:lnTo>
                    <a:lnTo>
                      <a:pt x="381" y="12"/>
                    </a:lnTo>
                    <a:lnTo>
                      <a:pt x="384" y="10"/>
                    </a:lnTo>
                    <a:lnTo>
                      <a:pt x="388" y="10"/>
                    </a:lnTo>
                    <a:lnTo>
                      <a:pt x="391" y="9"/>
                    </a:lnTo>
                    <a:lnTo>
                      <a:pt x="396" y="9"/>
                    </a:lnTo>
                    <a:lnTo>
                      <a:pt x="400" y="7"/>
                    </a:lnTo>
                    <a:lnTo>
                      <a:pt x="405" y="7"/>
                    </a:lnTo>
                    <a:lnTo>
                      <a:pt x="409" y="7"/>
                    </a:lnTo>
                    <a:lnTo>
                      <a:pt x="412" y="7"/>
                    </a:lnTo>
                    <a:lnTo>
                      <a:pt x="417" y="6"/>
                    </a:lnTo>
                    <a:lnTo>
                      <a:pt x="421" y="6"/>
                    </a:lnTo>
                    <a:lnTo>
                      <a:pt x="425" y="6"/>
                    </a:lnTo>
                    <a:lnTo>
                      <a:pt x="431" y="4"/>
                    </a:lnTo>
                    <a:lnTo>
                      <a:pt x="434" y="4"/>
                    </a:lnTo>
                    <a:lnTo>
                      <a:pt x="440" y="4"/>
                    </a:lnTo>
                    <a:lnTo>
                      <a:pt x="443" y="4"/>
                    </a:lnTo>
                    <a:lnTo>
                      <a:pt x="449" y="3"/>
                    </a:lnTo>
                    <a:lnTo>
                      <a:pt x="454" y="3"/>
                    </a:lnTo>
                    <a:lnTo>
                      <a:pt x="458" y="3"/>
                    </a:lnTo>
                    <a:lnTo>
                      <a:pt x="463" y="3"/>
                    </a:lnTo>
                    <a:lnTo>
                      <a:pt x="467" y="2"/>
                    </a:lnTo>
                    <a:lnTo>
                      <a:pt x="471" y="2"/>
                    </a:lnTo>
                    <a:lnTo>
                      <a:pt x="476" y="2"/>
                    </a:lnTo>
                    <a:lnTo>
                      <a:pt x="480" y="2"/>
                    </a:lnTo>
                    <a:lnTo>
                      <a:pt x="486" y="2"/>
                    </a:lnTo>
                    <a:lnTo>
                      <a:pt x="491" y="0"/>
                    </a:lnTo>
                    <a:lnTo>
                      <a:pt x="495" y="0"/>
                    </a:lnTo>
                    <a:lnTo>
                      <a:pt x="500" y="0"/>
                    </a:lnTo>
                    <a:lnTo>
                      <a:pt x="504" y="0"/>
                    </a:lnTo>
                    <a:lnTo>
                      <a:pt x="509" y="0"/>
                    </a:lnTo>
                    <a:lnTo>
                      <a:pt x="514" y="0"/>
                    </a:lnTo>
                    <a:lnTo>
                      <a:pt x="519" y="0"/>
                    </a:lnTo>
                    <a:lnTo>
                      <a:pt x="523" y="0"/>
                    </a:lnTo>
                    <a:lnTo>
                      <a:pt x="528" y="0"/>
                    </a:lnTo>
                    <a:lnTo>
                      <a:pt x="532" y="0"/>
                    </a:lnTo>
                    <a:lnTo>
                      <a:pt x="537" y="0"/>
                    </a:lnTo>
                    <a:lnTo>
                      <a:pt x="543" y="0"/>
                    </a:lnTo>
                    <a:lnTo>
                      <a:pt x="547" y="0"/>
                    </a:lnTo>
                    <a:lnTo>
                      <a:pt x="552" y="0"/>
                    </a:lnTo>
                    <a:lnTo>
                      <a:pt x="556" y="0"/>
                    </a:lnTo>
                    <a:lnTo>
                      <a:pt x="560" y="0"/>
                    </a:lnTo>
                    <a:lnTo>
                      <a:pt x="565" y="0"/>
                    </a:lnTo>
                    <a:lnTo>
                      <a:pt x="569" y="0"/>
                    </a:lnTo>
                    <a:lnTo>
                      <a:pt x="574" y="0"/>
                    </a:lnTo>
                    <a:lnTo>
                      <a:pt x="580" y="0"/>
                    </a:lnTo>
                    <a:lnTo>
                      <a:pt x="584" y="0"/>
                    </a:lnTo>
                    <a:lnTo>
                      <a:pt x="589" y="0"/>
                    </a:lnTo>
                    <a:lnTo>
                      <a:pt x="593" y="0"/>
                    </a:lnTo>
                    <a:lnTo>
                      <a:pt x="598" y="0"/>
                    </a:lnTo>
                    <a:lnTo>
                      <a:pt x="602" y="0"/>
                    </a:lnTo>
                    <a:lnTo>
                      <a:pt x="606" y="0"/>
                    </a:lnTo>
                    <a:lnTo>
                      <a:pt x="611" y="0"/>
                    </a:lnTo>
                    <a:lnTo>
                      <a:pt x="615" y="0"/>
                    </a:lnTo>
                    <a:lnTo>
                      <a:pt x="620" y="0"/>
                    </a:lnTo>
                    <a:lnTo>
                      <a:pt x="624" y="0"/>
                    </a:lnTo>
                    <a:lnTo>
                      <a:pt x="629" y="0"/>
                    </a:lnTo>
                    <a:lnTo>
                      <a:pt x="633" y="0"/>
                    </a:lnTo>
                    <a:lnTo>
                      <a:pt x="638" y="0"/>
                    </a:lnTo>
                    <a:lnTo>
                      <a:pt x="641" y="0"/>
                    </a:lnTo>
                    <a:lnTo>
                      <a:pt x="645" y="0"/>
                    </a:lnTo>
                    <a:lnTo>
                      <a:pt x="650" y="0"/>
                    </a:lnTo>
                    <a:lnTo>
                      <a:pt x="654" y="0"/>
                    </a:lnTo>
                    <a:lnTo>
                      <a:pt x="658" y="0"/>
                    </a:lnTo>
                    <a:lnTo>
                      <a:pt x="663" y="0"/>
                    </a:lnTo>
                    <a:lnTo>
                      <a:pt x="666" y="0"/>
                    </a:lnTo>
                    <a:lnTo>
                      <a:pt x="670" y="0"/>
                    </a:lnTo>
                    <a:lnTo>
                      <a:pt x="675" y="0"/>
                    </a:lnTo>
                    <a:lnTo>
                      <a:pt x="678" y="0"/>
                    </a:lnTo>
                    <a:lnTo>
                      <a:pt x="682" y="0"/>
                    </a:lnTo>
                    <a:lnTo>
                      <a:pt x="685" y="0"/>
                    </a:lnTo>
                    <a:lnTo>
                      <a:pt x="690" y="0"/>
                    </a:lnTo>
                    <a:lnTo>
                      <a:pt x="693" y="0"/>
                    </a:lnTo>
                    <a:lnTo>
                      <a:pt x="695" y="0"/>
                    </a:lnTo>
                    <a:lnTo>
                      <a:pt x="698" y="0"/>
                    </a:lnTo>
                    <a:lnTo>
                      <a:pt x="703" y="0"/>
                    </a:lnTo>
                    <a:lnTo>
                      <a:pt x="706" y="0"/>
                    </a:lnTo>
                    <a:lnTo>
                      <a:pt x="709" y="0"/>
                    </a:lnTo>
                    <a:lnTo>
                      <a:pt x="712" y="0"/>
                    </a:lnTo>
                    <a:lnTo>
                      <a:pt x="716" y="0"/>
                    </a:lnTo>
                    <a:lnTo>
                      <a:pt x="722" y="0"/>
                    </a:lnTo>
                    <a:lnTo>
                      <a:pt x="728" y="0"/>
                    </a:lnTo>
                    <a:lnTo>
                      <a:pt x="734" y="0"/>
                    </a:lnTo>
                    <a:lnTo>
                      <a:pt x="740" y="0"/>
                    </a:lnTo>
                    <a:lnTo>
                      <a:pt x="744" y="0"/>
                    </a:lnTo>
                    <a:lnTo>
                      <a:pt x="750" y="0"/>
                    </a:lnTo>
                    <a:lnTo>
                      <a:pt x="755" y="0"/>
                    </a:lnTo>
                    <a:lnTo>
                      <a:pt x="761" y="0"/>
                    </a:lnTo>
                    <a:lnTo>
                      <a:pt x="764" y="0"/>
                    </a:lnTo>
                    <a:lnTo>
                      <a:pt x="768" y="0"/>
                    </a:lnTo>
                    <a:lnTo>
                      <a:pt x="771" y="0"/>
                    </a:lnTo>
                    <a:lnTo>
                      <a:pt x="776" y="0"/>
                    </a:lnTo>
                    <a:lnTo>
                      <a:pt x="779" y="0"/>
                    </a:lnTo>
                    <a:lnTo>
                      <a:pt x="782" y="0"/>
                    </a:lnTo>
                    <a:lnTo>
                      <a:pt x="783" y="0"/>
                    </a:lnTo>
                    <a:lnTo>
                      <a:pt x="786" y="0"/>
                    </a:lnTo>
                    <a:lnTo>
                      <a:pt x="790" y="0"/>
                    </a:lnTo>
                    <a:lnTo>
                      <a:pt x="793" y="0"/>
                    </a:lnTo>
                    <a:lnTo>
                      <a:pt x="795" y="0"/>
                    </a:lnTo>
                    <a:lnTo>
                      <a:pt x="796" y="0"/>
                    </a:lnTo>
                    <a:lnTo>
                      <a:pt x="798" y="2"/>
                    </a:lnTo>
                    <a:lnTo>
                      <a:pt x="798" y="4"/>
                    </a:lnTo>
                    <a:lnTo>
                      <a:pt x="799" y="9"/>
                    </a:lnTo>
                    <a:lnTo>
                      <a:pt x="799" y="12"/>
                    </a:lnTo>
                    <a:lnTo>
                      <a:pt x="799" y="15"/>
                    </a:lnTo>
                    <a:lnTo>
                      <a:pt x="799" y="19"/>
                    </a:lnTo>
                    <a:lnTo>
                      <a:pt x="799" y="24"/>
                    </a:lnTo>
                    <a:lnTo>
                      <a:pt x="798" y="30"/>
                    </a:lnTo>
                    <a:lnTo>
                      <a:pt x="798" y="36"/>
                    </a:lnTo>
                    <a:lnTo>
                      <a:pt x="798" y="37"/>
                    </a:lnTo>
                    <a:lnTo>
                      <a:pt x="798" y="42"/>
                    </a:lnTo>
                    <a:lnTo>
                      <a:pt x="796" y="45"/>
                    </a:lnTo>
                    <a:lnTo>
                      <a:pt x="796" y="49"/>
                    </a:lnTo>
                    <a:lnTo>
                      <a:pt x="795" y="52"/>
                    </a:lnTo>
                    <a:lnTo>
                      <a:pt x="793" y="55"/>
                    </a:lnTo>
                    <a:lnTo>
                      <a:pt x="793" y="59"/>
                    </a:lnTo>
                    <a:lnTo>
                      <a:pt x="792" y="65"/>
                    </a:lnTo>
                    <a:lnTo>
                      <a:pt x="789" y="70"/>
                    </a:lnTo>
                    <a:lnTo>
                      <a:pt x="787" y="74"/>
                    </a:lnTo>
                    <a:lnTo>
                      <a:pt x="785" y="80"/>
                    </a:lnTo>
                    <a:lnTo>
                      <a:pt x="783" y="86"/>
                    </a:lnTo>
                    <a:lnTo>
                      <a:pt x="780" y="92"/>
                    </a:lnTo>
                    <a:lnTo>
                      <a:pt x="777" y="98"/>
                    </a:lnTo>
                    <a:lnTo>
                      <a:pt x="774" y="104"/>
                    </a:lnTo>
                    <a:lnTo>
                      <a:pt x="771" y="110"/>
                    </a:lnTo>
                    <a:lnTo>
                      <a:pt x="767" y="116"/>
                    </a:lnTo>
                    <a:lnTo>
                      <a:pt x="762" y="123"/>
                    </a:lnTo>
                    <a:lnTo>
                      <a:pt x="761" y="126"/>
                    </a:lnTo>
                    <a:lnTo>
                      <a:pt x="758" y="131"/>
                    </a:lnTo>
                    <a:lnTo>
                      <a:pt x="756" y="134"/>
                    </a:lnTo>
                    <a:lnTo>
                      <a:pt x="755" y="137"/>
                    </a:lnTo>
                    <a:lnTo>
                      <a:pt x="749" y="142"/>
                    </a:lnTo>
                    <a:lnTo>
                      <a:pt x="744" y="150"/>
                    </a:lnTo>
                    <a:lnTo>
                      <a:pt x="739" y="156"/>
                    </a:lnTo>
                    <a:lnTo>
                      <a:pt x="734" y="162"/>
                    </a:lnTo>
                    <a:lnTo>
                      <a:pt x="728" y="168"/>
                    </a:lnTo>
                    <a:lnTo>
                      <a:pt x="722" y="175"/>
                    </a:lnTo>
                    <a:lnTo>
                      <a:pt x="716" y="180"/>
                    </a:lnTo>
                    <a:lnTo>
                      <a:pt x="710" y="187"/>
                    </a:lnTo>
                    <a:lnTo>
                      <a:pt x="707" y="188"/>
                    </a:lnTo>
                    <a:lnTo>
                      <a:pt x="704" y="191"/>
                    </a:lnTo>
                    <a:lnTo>
                      <a:pt x="700" y="194"/>
                    </a:lnTo>
                    <a:lnTo>
                      <a:pt x="697" y="197"/>
                    </a:lnTo>
                    <a:lnTo>
                      <a:pt x="693" y="199"/>
                    </a:lnTo>
                    <a:lnTo>
                      <a:pt x="690" y="202"/>
                    </a:lnTo>
                    <a:lnTo>
                      <a:pt x="685" y="203"/>
                    </a:lnTo>
                    <a:lnTo>
                      <a:pt x="682" y="206"/>
                    </a:lnTo>
                    <a:lnTo>
                      <a:pt x="679" y="209"/>
                    </a:lnTo>
                    <a:lnTo>
                      <a:pt x="675" y="211"/>
                    </a:lnTo>
                    <a:lnTo>
                      <a:pt x="672" y="214"/>
                    </a:lnTo>
                    <a:lnTo>
                      <a:pt x="667" y="215"/>
                    </a:lnTo>
                    <a:lnTo>
                      <a:pt x="663" y="217"/>
                    </a:lnTo>
                    <a:lnTo>
                      <a:pt x="660" y="220"/>
                    </a:lnTo>
                    <a:lnTo>
                      <a:pt x="655" y="221"/>
                    </a:lnTo>
                    <a:lnTo>
                      <a:pt x="652" y="223"/>
                    </a:lnTo>
                    <a:lnTo>
                      <a:pt x="648" y="224"/>
                    </a:lnTo>
                    <a:lnTo>
                      <a:pt x="644" y="224"/>
                    </a:lnTo>
                    <a:lnTo>
                      <a:pt x="641" y="226"/>
                    </a:lnTo>
                    <a:lnTo>
                      <a:pt x="636" y="227"/>
                    </a:lnTo>
                    <a:lnTo>
                      <a:pt x="632" y="229"/>
                    </a:lnTo>
                    <a:lnTo>
                      <a:pt x="627" y="229"/>
                    </a:lnTo>
                    <a:lnTo>
                      <a:pt x="623" y="230"/>
                    </a:lnTo>
                    <a:lnTo>
                      <a:pt x="618" y="232"/>
                    </a:lnTo>
                    <a:lnTo>
                      <a:pt x="614" y="232"/>
                    </a:lnTo>
                    <a:lnTo>
                      <a:pt x="609" y="233"/>
                    </a:lnTo>
                    <a:lnTo>
                      <a:pt x="604" y="233"/>
                    </a:lnTo>
                    <a:lnTo>
                      <a:pt x="599" y="233"/>
                    </a:lnTo>
                    <a:lnTo>
                      <a:pt x="593" y="234"/>
                    </a:lnTo>
                    <a:lnTo>
                      <a:pt x="589" y="234"/>
                    </a:lnTo>
                    <a:lnTo>
                      <a:pt x="583" y="236"/>
                    </a:lnTo>
                    <a:lnTo>
                      <a:pt x="578" y="236"/>
                    </a:lnTo>
                    <a:lnTo>
                      <a:pt x="572" y="236"/>
                    </a:lnTo>
                    <a:lnTo>
                      <a:pt x="568" y="236"/>
                    </a:lnTo>
                    <a:lnTo>
                      <a:pt x="562" y="236"/>
                    </a:lnTo>
                    <a:lnTo>
                      <a:pt x="558" y="236"/>
                    </a:lnTo>
                    <a:lnTo>
                      <a:pt x="552" y="236"/>
                    </a:lnTo>
                    <a:lnTo>
                      <a:pt x="547" y="236"/>
                    </a:lnTo>
                    <a:lnTo>
                      <a:pt x="541" y="236"/>
                    </a:lnTo>
                    <a:lnTo>
                      <a:pt x="537" y="236"/>
                    </a:lnTo>
                    <a:lnTo>
                      <a:pt x="531" y="236"/>
                    </a:lnTo>
                    <a:lnTo>
                      <a:pt x="526" y="236"/>
                    </a:lnTo>
                    <a:lnTo>
                      <a:pt x="520" y="236"/>
                    </a:lnTo>
                    <a:lnTo>
                      <a:pt x="516" y="236"/>
                    </a:lnTo>
                    <a:lnTo>
                      <a:pt x="510" y="236"/>
                    </a:lnTo>
                    <a:lnTo>
                      <a:pt x="506" y="236"/>
                    </a:lnTo>
                    <a:lnTo>
                      <a:pt x="500" y="236"/>
                    </a:lnTo>
                    <a:lnTo>
                      <a:pt x="495" y="236"/>
                    </a:lnTo>
                    <a:lnTo>
                      <a:pt x="489" y="236"/>
                    </a:lnTo>
                    <a:lnTo>
                      <a:pt x="483" y="236"/>
                    </a:lnTo>
                    <a:lnTo>
                      <a:pt x="479" y="236"/>
                    </a:lnTo>
                    <a:lnTo>
                      <a:pt x="474" y="236"/>
                    </a:lnTo>
                    <a:lnTo>
                      <a:pt x="468" y="234"/>
                    </a:lnTo>
                    <a:lnTo>
                      <a:pt x="464" y="234"/>
                    </a:lnTo>
                    <a:lnTo>
                      <a:pt x="458" y="234"/>
                    </a:lnTo>
                    <a:lnTo>
                      <a:pt x="454" y="234"/>
                    </a:lnTo>
                    <a:lnTo>
                      <a:pt x="448" y="233"/>
                    </a:lnTo>
                    <a:lnTo>
                      <a:pt x="443" y="233"/>
                    </a:lnTo>
                    <a:lnTo>
                      <a:pt x="439" y="233"/>
                    </a:lnTo>
                    <a:lnTo>
                      <a:pt x="434" y="233"/>
                    </a:lnTo>
                    <a:lnTo>
                      <a:pt x="428" y="233"/>
                    </a:lnTo>
                    <a:lnTo>
                      <a:pt x="424" y="232"/>
                    </a:lnTo>
                    <a:lnTo>
                      <a:pt x="420" y="232"/>
                    </a:lnTo>
                    <a:lnTo>
                      <a:pt x="417" y="232"/>
                    </a:lnTo>
                    <a:lnTo>
                      <a:pt x="411" y="232"/>
                    </a:lnTo>
                    <a:lnTo>
                      <a:pt x="406" y="230"/>
                    </a:lnTo>
                    <a:lnTo>
                      <a:pt x="402" y="230"/>
                    </a:lnTo>
                    <a:lnTo>
                      <a:pt x="397" y="230"/>
                    </a:lnTo>
                    <a:lnTo>
                      <a:pt x="394" y="229"/>
                    </a:lnTo>
                    <a:lnTo>
                      <a:pt x="390" y="229"/>
                    </a:lnTo>
                    <a:lnTo>
                      <a:pt x="385" y="229"/>
                    </a:lnTo>
                    <a:lnTo>
                      <a:pt x="382" y="229"/>
                    </a:lnTo>
                    <a:lnTo>
                      <a:pt x="378" y="229"/>
                    </a:lnTo>
                    <a:lnTo>
                      <a:pt x="375" y="227"/>
                    </a:lnTo>
                    <a:lnTo>
                      <a:pt x="371" y="227"/>
                    </a:lnTo>
                    <a:lnTo>
                      <a:pt x="368" y="227"/>
                    </a:lnTo>
                    <a:lnTo>
                      <a:pt x="362" y="226"/>
                    </a:lnTo>
                    <a:lnTo>
                      <a:pt x="356" y="226"/>
                    </a:lnTo>
                    <a:lnTo>
                      <a:pt x="350" y="224"/>
                    </a:lnTo>
                    <a:lnTo>
                      <a:pt x="345" y="224"/>
                    </a:lnTo>
                    <a:lnTo>
                      <a:pt x="341" y="224"/>
                    </a:lnTo>
                    <a:lnTo>
                      <a:pt x="338" y="224"/>
                    </a:lnTo>
                    <a:lnTo>
                      <a:pt x="333" y="223"/>
                    </a:lnTo>
                    <a:lnTo>
                      <a:pt x="332" y="223"/>
                    </a:lnTo>
                    <a:lnTo>
                      <a:pt x="332" y="223"/>
                    </a:lnTo>
                    <a:lnTo>
                      <a:pt x="335" y="223"/>
                    </a:lnTo>
                    <a:lnTo>
                      <a:pt x="338" y="223"/>
                    </a:lnTo>
                    <a:lnTo>
                      <a:pt x="342" y="223"/>
                    </a:lnTo>
                    <a:lnTo>
                      <a:pt x="344" y="221"/>
                    </a:lnTo>
                    <a:lnTo>
                      <a:pt x="347" y="221"/>
                    </a:lnTo>
                    <a:lnTo>
                      <a:pt x="351" y="221"/>
                    </a:lnTo>
                    <a:lnTo>
                      <a:pt x="354" y="221"/>
                    </a:lnTo>
                    <a:lnTo>
                      <a:pt x="357" y="221"/>
                    </a:lnTo>
                    <a:lnTo>
                      <a:pt x="362" y="221"/>
                    </a:lnTo>
                    <a:lnTo>
                      <a:pt x="366" y="221"/>
                    </a:lnTo>
                    <a:lnTo>
                      <a:pt x="371" y="221"/>
                    </a:lnTo>
                    <a:lnTo>
                      <a:pt x="375" y="221"/>
                    </a:lnTo>
                    <a:lnTo>
                      <a:pt x="379" y="220"/>
                    </a:lnTo>
                    <a:lnTo>
                      <a:pt x="384" y="220"/>
                    </a:lnTo>
                    <a:lnTo>
                      <a:pt x="390" y="220"/>
                    </a:lnTo>
                    <a:lnTo>
                      <a:pt x="394" y="218"/>
                    </a:lnTo>
                    <a:lnTo>
                      <a:pt x="400" y="218"/>
                    </a:lnTo>
                    <a:lnTo>
                      <a:pt x="405" y="218"/>
                    </a:lnTo>
                    <a:lnTo>
                      <a:pt x="412" y="218"/>
                    </a:lnTo>
                    <a:lnTo>
                      <a:pt x="417" y="217"/>
                    </a:lnTo>
                    <a:lnTo>
                      <a:pt x="422" y="217"/>
                    </a:lnTo>
                    <a:lnTo>
                      <a:pt x="428" y="217"/>
                    </a:lnTo>
                    <a:lnTo>
                      <a:pt x="434" y="215"/>
                    </a:lnTo>
                    <a:lnTo>
                      <a:pt x="442" y="215"/>
                    </a:lnTo>
                    <a:lnTo>
                      <a:pt x="448" y="214"/>
                    </a:lnTo>
                    <a:lnTo>
                      <a:pt x="454" y="214"/>
                    </a:lnTo>
                    <a:lnTo>
                      <a:pt x="461" y="214"/>
                    </a:lnTo>
                    <a:lnTo>
                      <a:pt x="467" y="212"/>
                    </a:lnTo>
                    <a:lnTo>
                      <a:pt x="474" y="212"/>
                    </a:lnTo>
                    <a:lnTo>
                      <a:pt x="480" y="211"/>
                    </a:lnTo>
                    <a:lnTo>
                      <a:pt x="488" y="209"/>
                    </a:lnTo>
                    <a:lnTo>
                      <a:pt x="494" y="209"/>
                    </a:lnTo>
                    <a:lnTo>
                      <a:pt x="500" y="208"/>
                    </a:lnTo>
                    <a:lnTo>
                      <a:pt x="507" y="206"/>
                    </a:lnTo>
                    <a:lnTo>
                      <a:pt x="513" y="206"/>
                    </a:lnTo>
                    <a:lnTo>
                      <a:pt x="520" y="205"/>
                    </a:lnTo>
                    <a:lnTo>
                      <a:pt x="526" y="203"/>
                    </a:lnTo>
                    <a:lnTo>
                      <a:pt x="534" y="202"/>
                    </a:lnTo>
                    <a:lnTo>
                      <a:pt x="540" y="202"/>
                    </a:lnTo>
                    <a:lnTo>
                      <a:pt x="547" y="200"/>
                    </a:lnTo>
                    <a:lnTo>
                      <a:pt x="553" y="199"/>
                    </a:lnTo>
                    <a:lnTo>
                      <a:pt x="559" y="199"/>
                    </a:lnTo>
                    <a:lnTo>
                      <a:pt x="566" y="197"/>
                    </a:lnTo>
                    <a:lnTo>
                      <a:pt x="572" y="196"/>
                    </a:lnTo>
                    <a:lnTo>
                      <a:pt x="578" y="194"/>
                    </a:lnTo>
                    <a:lnTo>
                      <a:pt x="584" y="193"/>
                    </a:lnTo>
                    <a:lnTo>
                      <a:pt x="590" y="191"/>
                    </a:lnTo>
                    <a:lnTo>
                      <a:pt x="596" y="190"/>
                    </a:lnTo>
                    <a:lnTo>
                      <a:pt x="602" y="188"/>
                    </a:lnTo>
                    <a:lnTo>
                      <a:pt x="606" y="187"/>
                    </a:lnTo>
                    <a:lnTo>
                      <a:pt x="612" y="186"/>
                    </a:lnTo>
                    <a:lnTo>
                      <a:pt x="618" y="184"/>
                    </a:lnTo>
                    <a:lnTo>
                      <a:pt x="623" y="183"/>
                    </a:lnTo>
                    <a:lnTo>
                      <a:pt x="627" y="180"/>
                    </a:lnTo>
                    <a:lnTo>
                      <a:pt x="633" y="178"/>
                    </a:lnTo>
                    <a:lnTo>
                      <a:pt x="638" y="177"/>
                    </a:lnTo>
                    <a:lnTo>
                      <a:pt x="641" y="175"/>
                    </a:lnTo>
                    <a:lnTo>
                      <a:pt x="645" y="172"/>
                    </a:lnTo>
                    <a:lnTo>
                      <a:pt x="650" y="172"/>
                    </a:lnTo>
                    <a:lnTo>
                      <a:pt x="655" y="166"/>
                    </a:lnTo>
                    <a:lnTo>
                      <a:pt x="663" y="162"/>
                    </a:lnTo>
                    <a:lnTo>
                      <a:pt x="669" y="157"/>
                    </a:lnTo>
                    <a:lnTo>
                      <a:pt x="676" y="153"/>
                    </a:lnTo>
                    <a:lnTo>
                      <a:pt x="681" y="147"/>
                    </a:lnTo>
                    <a:lnTo>
                      <a:pt x="687" y="141"/>
                    </a:lnTo>
                    <a:lnTo>
                      <a:pt x="691" y="137"/>
                    </a:lnTo>
                    <a:lnTo>
                      <a:pt x="697" y="132"/>
                    </a:lnTo>
                    <a:lnTo>
                      <a:pt x="700" y="126"/>
                    </a:lnTo>
                    <a:lnTo>
                      <a:pt x="704" y="120"/>
                    </a:lnTo>
                    <a:lnTo>
                      <a:pt x="709" y="116"/>
                    </a:lnTo>
                    <a:lnTo>
                      <a:pt x="713" y="110"/>
                    </a:lnTo>
                    <a:lnTo>
                      <a:pt x="716" y="104"/>
                    </a:lnTo>
                    <a:lnTo>
                      <a:pt x="719" y="98"/>
                    </a:lnTo>
                    <a:lnTo>
                      <a:pt x="722" y="94"/>
                    </a:lnTo>
                    <a:lnTo>
                      <a:pt x="727" y="89"/>
                    </a:lnTo>
                    <a:lnTo>
                      <a:pt x="728" y="83"/>
                    </a:lnTo>
                    <a:lnTo>
                      <a:pt x="730" y="79"/>
                    </a:lnTo>
                    <a:lnTo>
                      <a:pt x="733" y="73"/>
                    </a:lnTo>
                    <a:lnTo>
                      <a:pt x="734" y="70"/>
                    </a:lnTo>
                    <a:lnTo>
                      <a:pt x="736" y="64"/>
                    </a:lnTo>
                    <a:lnTo>
                      <a:pt x="737" y="61"/>
                    </a:lnTo>
                    <a:lnTo>
                      <a:pt x="739" y="56"/>
                    </a:lnTo>
                    <a:lnTo>
                      <a:pt x="741" y="53"/>
                    </a:lnTo>
                    <a:lnTo>
                      <a:pt x="741" y="50"/>
                    </a:lnTo>
                    <a:lnTo>
                      <a:pt x="741" y="48"/>
                    </a:lnTo>
                    <a:lnTo>
                      <a:pt x="743" y="45"/>
                    </a:lnTo>
                    <a:lnTo>
                      <a:pt x="744" y="43"/>
                    </a:lnTo>
                    <a:lnTo>
                      <a:pt x="744" y="40"/>
                    </a:lnTo>
                    <a:lnTo>
                      <a:pt x="744" y="40"/>
                    </a:lnTo>
                    <a:lnTo>
                      <a:pt x="602" y="59"/>
                    </a:lnTo>
                    <a:lnTo>
                      <a:pt x="599" y="59"/>
                    </a:lnTo>
                    <a:lnTo>
                      <a:pt x="595" y="58"/>
                    </a:lnTo>
                    <a:lnTo>
                      <a:pt x="590" y="58"/>
                    </a:lnTo>
                    <a:lnTo>
                      <a:pt x="586" y="58"/>
                    </a:lnTo>
                    <a:lnTo>
                      <a:pt x="580" y="56"/>
                    </a:lnTo>
                    <a:lnTo>
                      <a:pt x="575" y="56"/>
                    </a:lnTo>
                    <a:lnTo>
                      <a:pt x="571" y="56"/>
                    </a:lnTo>
                    <a:lnTo>
                      <a:pt x="568" y="56"/>
                    </a:lnTo>
                    <a:lnTo>
                      <a:pt x="563" y="55"/>
                    </a:lnTo>
                    <a:lnTo>
                      <a:pt x="560" y="55"/>
                    </a:lnTo>
                    <a:lnTo>
                      <a:pt x="556" y="55"/>
                    </a:lnTo>
                    <a:lnTo>
                      <a:pt x="553" y="55"/>
                    </a:lnTo>
                    <a:lnTo>
                      <a:pt x="549" y="55"/>
                    </a:lnTo>
                    <a:lnTo>
                      <a:pt x="546" y="55"/>
                    </a:lnTo>
                    <a:lnTo>
                      <a:pt x="540" y="55"/>
                    </a:lnTo>
                    <a:lnTo>
                      <a:pt x="535" y="55"/>
                    </a:lnTo>
                    <a:lnTo>
                      <a:pt x="532" y="53"/>
                    </a:lnTo>
                    <a:lnTo>
                      <a:pt x="528" y="53"/>
                    </a:lnTo>
                    <a:lnTo>
                      <a:pt x="522" y="53"/>
                    </a:lnTo>
                    <a:lnTo>
                      <a:pt x="517" y="53"/>
                    </a:lnTo>
                    <a:lnTo>
                      <a:pt x="513" y="53"/>
                    </a:lnTo>
                    <a:lnTo>
                      <a:pt x="509" y="53"/>
                    </a:lnTo>
                    <a:lnTo>
                      <a:pt x="503" y="53"/>
                    </a:lnTo>
                    <a:lnTo>
                      <a:pt x="498" y="53"/>
                    </a:lnTo>
                    <a:lnTo>
                      <a:pt x="492" y="53"/>
                    </a:lnTo>
                    <a:lnTo>
                      <a:pt x="488" y="53"/>
                    </a:lnTo>
                    <a:lnTo>
                      <a:pt x="482" y="53"/>
                    </a:lnTo>
                    <a:lnTo>
                      <a:pt x="477" y="53"/>
                    </a:lnTo>
                    <a:lnTo>
                      <a:pt x="473" y="53"/>
                    </a:lnTo>
                    <a:lnTo>
                      <a:pt x="467" y="53"/>
                    </a:lnTo>
                    <a:lnTo>
                      <a:pt x="461" y="53"/>
                    </a:lnTo>
                    <a:lnTo>
                      <a:pt x="457" y="53"/>
                    </a:lnTo>
                    <a:lnTo>
                      <a:pt x="451" y="53"/>
                    </a:lnTo>
                    <a:lnTo>
                      <a:pt x="446" y="53"/>
                    </a:lnTo>
                    <a:lnTo>
                      <a:pt x="440" y="53"/>
                    </a:lnTo>
                    <a:lnTo>
                      <a:pt x="434" y="55"/>
                    </a:lnTo>
                    <a:lnTo>
                      <a:pt x="428" y="55"/>
                    </a:lnTo>
                    <a:lnTo>
                      <a:pt x="424" y="55"/>
                    </a:lnTo>
                    <a:lnTo>
                      <a:pt x="418" y="55"/>
                    </a:lnTo>
                    <a:lnTo>
                      <a:pt x="412" y="55"/>
                    </a:lnTo>
                    <a:lnTo>
                      <a:pt x="408" y="56"/>
                    </a:lnTo>
                    <a:lnTo>
                      <a:pt x="402" y="56"/>
                    </a:lnTo>
                    <a:lnTo>
                      <a:pt x="396" y="56"/>
                    </a:lnTo>
                    <a:lnTo>
                      <a:pt x="391" y="58"/>
                    </a:lnTo>
                    <a:lnTo>
                      <a:pt x="385" y="58"/>
                    </a:lnTo>
                    <a:lnTo>
                      <a:pt x="381" y="59"/>
                    </a:lnTo>
                    <a:lnTo>
                      <a:pt x="375" y="59"/>
                    </a:lnTo>
                    <a:lnTo>
                      <a:pt x="371" y="61"/>
                    </a:lnTo>
                    <a:lnTo>
                      <a:pt x="365" y="61"/>
                    </a:lnTo>
                    <a:lnTo>
                      <a:pt x="360" y="62"/>
                    </a:lnTo>
                    <a:lnTo>
                      <a:pt x="356" y="62"/>
                    </a:lnTo>
                    <a:lnTo>
                      <a:pt x="351" y="64"/>
                    </a:lnTo>
                    <a:lnTo>
                      <a:pt x="345" y="65"/>
                    </a:lnTo>
                    <a:lnTo>
                      <a:pt x="341" y="67"/>
                    </a:lnTo>
                    <a:lnTo>
                      <a:pt x="336" y="67"/>
                    </a:lnTo>
                    <a:lnTo>
                      <a:pt x="332" y="68"/>
                    </a:lnTo>
                    <a:lnTo>
                      <a:pt x="328" y="70"/>
                    </a:lnTo>
                    <a:lnTo>
                      <a:pt x="323" y="71"/>
                    </a:lnTo>
                    <a:lnTo>
                      <a:pt x="319" y="73"/>
                    </a:lnTo>
                    <a:lnTo>
                      <a:pt x="316" y="74"/>
                    </a:lnTo>
                    <a:lnTo>
                      <a:pt x="311" y="74"/>
                    </a:lnTo>
                    <a:lnTo>
                      <a:pt x="308" y="77"/>
                    </a:lnTo>
                    <a:lnTo>
                      <a:pt x="304" y="79"/>
                    </a:lnTo>
                    <a:lnTo>
                      <a:pt x="299" y="79"/>
                    </a:lnTo>
                    <a:lnTo>
                      <a:pt x="296" y="80"/>
                    </a:lnTo>
                    <a:lnTo>
                      <a:pt x="292" y="82"/>
                    </a:lnTo>
                    <a:lnTo>
                      <a:pt x="284" y="86"/>
                    </a:lnTo>
                    <a:lnTo>
                      <a:pt x="279" y="89"/>
                    </a:lnTo>
                    <a:lnTo>
                      <a:pt x="276" y="92"/>
                    </a:lnTo>
                    <a:lnTo>
                      <a:pt x="271" y="94"/>
                    </a:lnTo>
                    <a:lnTo>
                      <a:pt x="268" y="95"/>
                    </a:lnTo>
                    <a:lnTo>
                      <a:pt x="265" y="96"/>
                    </a:lnTo>
                    <a:lnTo>
                      <a:pt x="259" y="101"/>
                    </a:lnTo>
                    <a:lnTo>
                      <a:pt x="253" y="105"/>
                    </a:lnTo>
                    <a:lnTo>
                      <a:pt x="247" y="108"/>
                    </a:lnTo>
                    <a:lnTo>
                      <a:pt x="243" y="113"/>
                    </a:lnTo>
                    <a:lnTo>
                      <a:pt x="237" y="117"/>
                    </a:lnTo>
                    <a:lnTo>
                      <a:pt x="233" y="123"/>
                    </a:lnTo>
                    <a:lnTo>
                      <a:pt x="227" y="126"/>
                    </a:lnTo>
                    <a:lnTo>
                      <a:pt x="221" y="131"/>
                    </a:lnTo>
                    <a:lnTo>
                      <a:pt x="216" y="135"/>
                    </a:lnTo>
                    <a:lnTo>
                      <a:pt x="210" y="141"/>
                    </a:lnTo>
                    <a:lnTo>
                      <a:pt x="206" y="145"/>
                    </a:lnTo>
                    <a:lnTo>
                      <a:pt x="201" y="150"/>
                    </a:lnTo>
                    <a:lnTo>
                      <a:pt x="195" y="154"/>
                    </a:lnTo>
                    <a:lnTo>
                      <a:pt x="191" y="160"/>
                    </a:lnTo>
                    <a:lnTo>
                      <a:pt x="185" y="165"/>
                    </a:lnTo>
                    <a:lnTo>
                      <a:pt x="181" y="169"/>
                    </a:lnTo>
                    <a:lnTo>
                      <a:pt x="176" y="174"/>
                    </a:lnTo>
                    <a:lnTo>
                      <a:pt x="170" y="178"/>
                    </a:lnTo>
                    <a:lnTo>
                      <a:pt x="166" y="183"/>
                    </a:lnTo>
                    <a:lnTo>
                      <a:pt x="160" y="187"/>
                    </a:lnTo>
                    <a:lnTo>
                      <a:pt x="154" y="191"/>
                    </a:lnTo>
                    <a:lnTo>
                      <a:pt x="149" y="197"/>
                    </a:lnTo>
                    <a:lnTo>
                      <a:pt x="142" y="200"/>
                    </a:lnTo>
                    <a:lnTo>
                      <a:pt x="136" y="205"/>
                    </a:lnTo>
                    <a:lnTo>
                      <a:pt x="130" y="208"/>
                    </a:lnTo>
                    <a:lnTo>
                      <a:pt x="124" y="212"/>
                    </a:lnTo>
                    <a:lnTo>
                      <a:pt x="117" y="215"/>
                    </a:lnTo>
                    <a:lnTo>
                      <a:pt x="111" y="220"/>
                    </a:lnTo>
                    <a:lnTo>
                      <a:pt x="105" y="223"/>
                    </a:lnTo>
                    <a:lnTo>
                      <a:pt x="99" y="227"/>
                    </a:lnTo>
                    <a:lnTo>
                      <a:pt x="92" y="229"/>
                    </a:lnTo>
                    <a:lnTo>
                      <a:pt x="86" y="233"/>
                    </a:lnTo>
                    <a:lnTo>
                      <a:pt x="80" y="234"/>
                    </a:lnTo>
                    <a:lnTo>
                      <a:pt x="72" y="237"/>
                    </a:lnTo>
                    <a:lnTo>
                      <a:pt x="66" y="240"/>
                    </a:lnTo>
                    <a:lnTo>
                      <a:pt x="62" y="243"/>
                    </a:lnTo>
                    <a:lnTo>
                      <a:pt x="56" y="245"/>
                    </a:lnTo>
                    <a:lnTo>
                      <a:pt x="50" y="248"/>
                    </a:lnTo>
                    <a:lnTo>
                      <a:pt x="44" y="249"/>
                    </a:lnTo>
                    <a:lnTo>
                      <a:pt x="40" y="251"/>
                    </a:lnTo>
                    <a:lnTo>
                      <a:pt x="34" y="254"/>
                    </a:lnTo>
                    <a:lnTo>
                      <a:pt x="29" y="255"/>
                    </a:lnTo>
                    <a:lnTo>
                      <a:pt x="25" y="257"/>
                    </a:lnTo>
                    <a:lnTo>
                      <a:pt x="20" y="258"/>
                    </a:lnTo>
                    <a:lnTo>
                      <a:pt x="17" y="258"/>
                    </a:lnTo>
                    <a:lnTo>
                      <a:pt x="13" y="261"/>
                    </a:lnTo>
                    <a:lnTo>
                      <a:pt x="10" y="261"/>
                    </a:lnTo>
                    <a:lnTo>
                      <a:pt x="7" y="263"/>
                    </a:lnTo>
                    <a:lnTo>
                      <a:pt x="4" y="263"/>
                    </a:lnTo>
                    <a:lnTo>
                      <a:pt x="3" y="264"/>
                    </a:lnTo>
                    <a:lnTo>
                      <a:pt x="0" y="264"/>
                    </a:lnTo>
                    <a:lnTo>
                      <a:pt x="244" y="59"/>
                    </a:lnTo>
                    <a:lnTo>
                      <a:pt x="244" y="5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3465360" y="2219400"/>
                <a:ext cx="382680" cy="342720"/>
              </a:xfrm>
              <a:custGeom>
                <a:avLst/>
                <a:gdLst/>
                <a:ahLst/>
                <a:rect l="l" t="t" r="r" b="b"/>
                <a:pathLst>
                  <a:path w="484" h="431">
                    <a:moveTo>
                      <a:pt x="444" y="7"/>
                    </a:moveTo>
                    <a:lnTo>
                      <a:pt x="442" y="9"/>
                    </a:lnTo>
                    <a:lnTo>
                      <a:pt x="441" y="13"/>
                    </a:lnTo>
                    <a:lnTo>
                      <a:pt x="439" y="14"/>
                    </a:lnTo>
                    <a:lnTo>
                      <a:pt x="436" y="19"/>
                    </a:lnTo>
                    <a:lnTo>
                      <a:pt x="435" y="23"/>
                    </a:lnTo>
                    <a:lnTo>
                      <a:pt x="433" y="29"/>
                    </a:lnTo>
                    <a:lnTo>
                      <a:pt x="430" y="34"/>
                    </a:lnTo>
                    <a:lnTo>
                      <a:pt x="427" y="40"/>
                    </a:lnTo>
                    <a:lnTo>
                      <a:pt x="424" y="43"/>
                    </a:lnTo>
                    <a:lnTo>
                      <a:pt x="423" y="47"/>
                    </a:lnTo>
                    <a:lnTo>
                      <a:pt x="421" y="50"/>
                    </a:lnTo>
                    <a:lnTo>
                      <a:pt x="420" y="55"/>
                    </a:lnTo>
                    <a:lnTo>
                      <a:pt x="417" y="58"/>
                    </a:lnTo>
                    <a:lnTo>
                      <a:pt x="416" y="62"/>
                    </a:lnTo>
                    <a:lnTo>
                      <a:pt x="414" y="65"/>
                    </a:lnTo>
                    <a:lnTo>
                      <a:pt x="411" y="69"/>
                    </a:lnTo>
                    <a:lnTo>
                      <a:pt x="410" y="74"/>
                    </a:lnTo>
                    <a:lnTo>
                      <a:pt x="407" y="78"/>
                    </a:lnTo>
                    <a:lnTo>
                      <a:pt x="404" y="83"/>
                    </a:lnTo>
                    <a:lnTo>
                      <a:pt x="402" y="89"/>
                    </a:lnTo>
                    <a:lnTo>
                      <a:pt x="399" y="92"/>
                    </a:lnTo>
                    <a:lnTo>
                      <a:pt x="396" y="96"/>
                    </a:lnTo>
                    <a:lnTo>
                      <a:pt x="393" y="101"/>
                    </a:lnTo>
                    <a:lnTo>
                      <a:pt x="390" y="106"/>
                    </a:lnTo>
                    <a:lnTo>
                      <a:pt x="387" y="111"/>
                    </a:lnTo>
                    <a:lnTo>
                      <a:pt x="384" y="115"/>
                    </a:lnTo>
                    <a:lnTo>
                      <a:pt x="380" y="120"/>
                    </a:lnTo>
                    <a:lnTo>
                      <a:pt x="378" y="126"/>
                    </a:lnTo>
                    <a:lnTo>
                      <a:pt x="374" y="129"/>
                    </a:lnTo>
                    <a:lnTo>
                      <a:pt x="371" y="135"/>
                    </a:lnTo>
                    <a:lnTo>
                      <a:pt x="368" y="139"/>
                    </a:lnTo>
                    <a:lnTo>
                      <a:pt x="365" y="145"/>
                    </a:lnTo>
                    <a:lnTo>
                      <a:pt x="361" y="150"/>
                    </a:lnTo>
                    <a:lnTo>
                      <a:pt x="358" y="155"/>
                    </a:lnTo>
                    <a:lnTo>
                      <a:pt x="353" y="160"/>
                    </a:lnTo>
                    <a:lnTo>
                      <a:pt x="350" y="166"/>
                    </a:lnTo>
                    <a:lnTo>
                      <a:pt x="346" y="170"/>
                    </a:lnTo>
                    <a:lnTo>
                      <a:pt x="341" y="176"/>
                    </a:lnTo>
                    <a:lnTo>
                      <a:pt x="337" y="181"/>
                    </a:lnTo>
                    <a:lnTo>
                      <a:pt x="332" y="187"/>
                    </a:lnTo>
                    <a:lnTo>
                      <a:pt x="328" y="191"/>
                    </a:lnTo>
                    <a:lnTo>
                      <a:pt x="324" y="197"/>
                    </a:lnTo>
                    <a:lnTo>
                      <a:pt x="321" y="201"/>
                    </a:lnTo>
                    <a:lnTo>
                      <a:pt x="316" y="207"/>
                    </a:lnTo>
                    <a:lnTo>
                      <a:pt x="312" y="212"/>
                    </a:lnTo>
                    <a:lnTo>
                      <a:pt x="306" y="218"/>
                    </a:lnTo>
                    <a:lnTo>
                      <a:pt x="301" y="222"/>
                    </a:lnTo>
                    <a:lnTo>
                      <a:pt x="297" y="228"/>
                    </a:lnTo>
                    <a:lnTo>
                      <a:pt x="291" y="233"/>
                    </a:lnTo>
                    <a:lnTo>
                      <a:pt x="286" y="239"/>
                    </a:lnTo>
                    <a:lnTo>
                      <a:pt x="282" y="243"/>
                    </a:lnTo>
                    <a:lnTo>
                      <a:pt x="278" y="249"/>
                    </a:lnTo>
                    <a:lnTo>
                      <a:pt x="272" y="253"/>
                    </a:lnTo>
                    <a:lnTo>
                      <a:pt x="266" y="258"/>
                    </a:lnTo>
                    <a:lnTo>
                      <a:pt x="260" y="262"/>
                    </a:lnTo>
                    <a:lnTo>
                      <a:pt x="255" y="268"/>
                    </a:lnTo>
                    <a:lnTo>
                      <a:pt x="249" y="273"/>
                    </a:lnTo>
                    <a:lnTo>
                      <a:pt x="243" y="277"/>
                    </a:lnTo>
                    <a:lnTo>
                      <a:pt x="237" y="282"/>
                    </a:lnTo>
                    <a:lnTo>
                      <a:pt x="233" y="288"/>
                    </a:lnTo>
                    <a:lnTo>
                      <a:pt x="227" y="290"/>
                    </a:lnTo>
                    <a:lnTo>
                      <a:pt x="221" y="295"/>
                    </a:lnTo>
                    <a:lnTo>
                      <a:pt x="215" y="299"/>
                    </a:lnTo>
                    <a:lnTo>
                      <a:pt x="209" y="305"/>
                    </a:lnTo>
                    <a:lnTo>
                      <a:pt x="203" y="308"/>
                    </a:lnTo>
                    <a:lnTo>
                      <a:pt x="197" y="314"/>
                    </a:lnTo>
                    <a:lnTo>
                      <a:pt x="191" y="317"/>
                    </a:lnTo>
                    <a:lnTo>
                      <a:pt x="186" y="322"/>
                    </a:lnTo>
                    <a:lnTo>
                      <a:pt x="180" y="326"/>
                    </a:lnTo>
                    <a:lnTo>
                      <a:pt x="174" y="329"/>
                    </a:lnTo>
                    <a:lnTo>
                      <a:pt x="168" y="334"/>
                    </a:lnTo>
                    <a:lnTo>
                      <a:pt x="162" y="338"/>
                    </a:lnTo>
                    <a:lnTo>
                      <a:pt x="156" y="341"/>
                    </a:lnTo>
                    <a:lnTo>
                      <a:pt x="150" y="345"/>
                    </a:lnTo>
                    <a:lnTo>
                      <a:pt x="145" y="348"/>
                    </a:lnTo>
                    <a:lnTo>
                      <a:pt x="140" y="353"/>
                    </a:lnTo>
                    <a:lnTo>
                      <a:pt x="134" y="356"/>
                    </a:lnTo>
                    <a:lnTo>
                      <a:pt x="128" y="360"/>
                    </a:lnTo>
                    <a:lnTo>
                      <a:pt x="123" y="363"/>
                    </a:lnTo>
                    <a:lnTo>
                      <a:pt x="117" y="366"/>
                    </a:lnTo>
                    <a:lnTo>
                      <a:pt x="111" y="371"/>
                    </a:lnTo>
                    <a:lnTo>
                      <a:pt x="107" y="374"/>
                    </a:lnTo>
                    <a:lnTo>
                      <a:pt x="101" y="377"/>
                    </a:lnTo>
                    <a:lnTo>
                      <a:pt x="97" y="381"/>
                    </a:lnTo>
                    <a:lnTo>
                      <a:pt x="91" y="382"/>
                    </a:lnTo>
                    <a:lnTo>
                      <a:pt x="85" y="385"/>
                    </a:lnTo>
                    <a:lnTo>
                      <a:pt x="80" y="388"/>
                    </a:lnTo>
                    <a:lnTo>
                      <a:pt x="76" y="391"/>
                    </a:lnTo>
                    <a:lnTo>
                      <a:pt x="70" y="394"/>
                    </a:lnTo>
                    <a:lnTo>
                      <a:pt x="67" y="396"/>
                    </a:lnTo>
                    <a:lnTo>
                      <a:pt x="61" y="399"/>
                    </a:lnTo>
                    <a:lnTo>
                      <a:pt x="58" y="402"/>
                    </a:lnTo>
                    <a:lnTo>
                      <a:pt x="52" y="405"/>
                    </a:lnTo>
                    <a:lnTo>
                      <a:pt x="48" y="406"/>
                    </a:lnTo>
                    <a:lnTo>
                      <a:pt x="45" y="408"/>
                    </a:lnTo>
                    <a:lnTo>
                      <a:pt x="40" y="411"/>
                    </a:lnTo>
                    <a:lnTo>
                      <a:pt x="37" y="412"/>
                    </a:lnTo>
                    <a:lnTo>
                      <a:pt x="33" y="415"/>
                    </a:lnTo>
                    <a:lnTo>
                      <a:pt x="30" y="417"/>
                    </a:lnTo>
                    <a:lnTo>
                      <a:pt x="27" y="418"/>
                    </a:lnTo>
                    <a:lnTo>
                      <a:pt x="21" y="421"/>
                    </a:lnTo>
                    <a:lnTo>
                      <a:pt x="15" y="424"/>
                    </a:lnTo>
                    <a:lnTo>
                      <a:pt x="10" y="427"/>
                    </a:lnTo>
                    <a:lnTo>
                      <a:pt x="7" y="428"/>
                    </a:lnTo>
                    <a:lnTo>
                      <a:pt x="2" y="431"/>
                    </a:lnTo>
                    <a:lnTo>
                      <a:pt x="0" y="431"/>
                    </a:lnTo>
                    <a:lnTo>
                      <a:pt x="2" y="431"/>
                    </a:lnTo>
                    <a:lnTo>
                      <a:pt x="3" y="431"/>
                    </a:lnTo>
                    <a:lnTo>
                      <a:pt x="7" y="430"/>
                    </a:lnTo>
                    <a:lnTo>
                      <a:pt x="10" y="430"/>
                    </a:lnTo>
                    <a:lnTo>
                      <a:pt x="16" y="428"/>
                    </a:lnTo>
                    <a:lnTo>
                      <a:pt x="19" y="428"/>
                    </a:lnTo>
                    <a:lnTo>
                      <a:pt x="22" y="427"/>
                    </a:lnTo>
                    <a:lnTo>
                      <a:pt x="25" y="427"/>
                    </a:lnTo>
                    <a:lnTo>
                      <a:pt x="30" y="427"/>
                    </a:lnTo>
                    <a:lnTo>
                      <a:pt x="33" y="426"/>
                    </a:lnTo>
                    <a:lnTo>
                      <a:pt x="37" y="426"/>
                    </a:lnTo>
                    <a:lnTo>
                      <a:pt x="40" y="424"/>
                    </a:lnTo>
                    <a:lnTo>
                      <a:pt x="45" y="423"/>
                    </a:lnTo>
                    <a:lnTo>
                      <a:pt x="49" y="423"/>
                    </a:lnTo>
                    <a:lnTo>
                      <a:pt x="53" y="421"/>
                    </a:lnTo>
                    <a:lnTo>
                      <a:pt x="58" y="420"/>
                    </a:lnTo>
                    <a:lnTo>
                      <a:pt x="62" y="420"/>
                    </a:lnTo>
                    <a:lnTo>
                      <a:pt x="67" y="417"/>
                    </a:lnTo>
                    <a:lnTo>
                      <a:pt x="73" y="415"/>
                    </a:lnTo>
                    <a:lnTo>
                      <a:pt x="77" y="415"/>
                    </a:lnTo>
                    <a:lnTo>
                      <a:pt x="83" y="414"/>
                    </a:lnTo>
                    <a:lnTo>
                      <a:pt x="89" y="412"/>
                    </a:lnTo>
                    <a:lnTo>
                      <a:pt x="94" y="411"/>
                    </a:lnTo>
                    <a:lnTo>
                      <a:pt x="99" y="409"/>
                    </a:lnTo>
                    <a:lnTo>
                      <a:pt x="105" y="408"/>
                    </a:lnTo>
                    <a:lnTo>
                      <a:pt x="111" y="405"/>
                    </a:lnTo>
                    <a:lnTo>
                      <a:pt x="117" y="403"/>
                    </a:lnTo>
                    <a:lnTo>
                      <a:pt x="123" y="402"/>
                    </a:lnTo>
                    <a:lnTo>
                      <a:pt x="129" y="400"/>
                    </a:lnTo>
                    <a:lnTo>
                      <a:pt x="134" y="397"/>
                    </a:lnTo>
                    <a:lnTo>
                      <a:pt x="141" y="396"/>
                    </a:lnTo>
                    <a:lnTo>
                      <a:pt x="147" y="393"/>
                    </a:lnTo>
                    <a:lnTo>
                      <a:pt x="153" y="391"/>
                    </a:lnTo>
                    <a:lnTo>
                      <a:pt x="159" y="388"/>
                    </a:lnTo>
                    <a:lnTo>
                      <a:pt x="166" y="385"/>
                    </a:lnTo>
                    <a:lnTo>
                      <a:pt x="171" y="382"/>
                    </a:lnTo>
                    <a:lnTo>
                      <a:pt x="178" y="380"/>
                    </a:lnTo>
                    <a:lnTo>
                      <a:pt x="184" y="377"/>
                    </a:lnTo>
                    <a:lnTo>
                      <a:pt x="191" y="374"/>
                    </a:lnTo>
                    <a:lnTo>
                      <a:pt x="197" y="371"/>
                    </a:lnTo>
                    <a:lnTo>
                      <a:pt x="205" y="369"/>
                    </a:lnTo>
                    <a:lnTo>
                      <a:pt x="209" y="365"/>
                    </a:lnTo>
                    <a:lnTo>
                      <a:pt x="217" y="362"/>
                    </a:lnTo>
                    <a:lnTo>
                      <a:pt x="223" y="357"/>
                    </a:lnTo>
                    <a:lnTo>
                      <a:pt x="229" y="354"/>
                    </a:lnTo>
                    <a:lnTo>
                      <a:pt x="235" y="351"/>
                    </a:lnTo>
                    <a:lnTo>
                      <a:pt x="242" y="347"/>
                    </a:lnTo>
                    <a:lnTo>
                      <a:pt x="248" y="344"/>
                    </a:lnTo>
                    <a:lnTo>
                      <a:pt x="254" y="339"/>
                    </a:lnTo>
                    <a:lnTo>
                      <a:pt x="260" y="335"/>
                    </a:lnTo>
                    <a:lnTo>
                      <a:pt x="266" y="331"/>
                    </a:lnTo>
                    <a:lnTo>
                      <a:pt x="272" y="326"/>
                    </a:lnTo>
                    <a:lnTo>
                      <a:pt x="279" y="322"/>
                    </a:lnTo>
                    <a:lnTo>
                      <a:pt x="283" y="317"/>
                    </a:lnTo>
                    <a:lnTo>
                      <a:pt x="291" y="313"/>
                    </a:lnTo>
                    <a:lnTo>
                      <a:pt x="297" y="308"/>
                    </a:lnTo>
                    <a:lnTo>
                      <a:pt x="303" y="304"/>
                    </a:lnTo>
                    <a:lnTo>
                      <a:pt x="307" y="298"/>
                    </a:lnTo>
                    <a:lnTo>
                      <a:pt x="313" y="292"/>
                    </a:lnTo>
                    <a:lnTo>
                      <a:pt x="318" y="288"/>
                    </a:lnTo>
                    <a:lnTo>
                      <a:pt x="324" y="282"/>
                    </a:lnTo>
                    <a:lnTo>
                      <a:pt x="328" y="276"/>
                    </a:lnTo>
                    <a:lnTo>
                      <a:pt x="334" y="270"/>
                    </a:lnTo>
                    <a:lnTo>
                      <a:pt x="338" y="264"/>
                    </a:lnTo>
                    <a:lnTo>
                      <a:pt x="344" y="259"/>
                    </a:lnTo>
                    <a:lnTo>
                      <a:pt x="349" y="253"/>
                    </a:lnTo>
                    <a:lnTo>
                      <a:pt x="353" y="246"/>
                    </a:lnTo>
                    <a:lnTo>
                      <a:pt x="358" y="240"/>
                    </a:lnTo>
                    <a:lnTo>
                      <a:pt x="364" y="234"/>
                    </a:lnTo>
                    <a:lnTo>
                      <a:pt x="368" y="228"/>
                    </a:lnTo>
                    <a:lnTo>
                      <a:pt x="373" y="222"/>
                    </a:lnTo>
                    <a:lnTo>
                      <a:pt x="375" y="215"/>
                    </a:lnTo>
                    <a:lnTo>
                      <a:pt x="381" y="210"/>
                    </a:lnTo>
                    <a:lnTo>
                      <a:pt x="384" y="203"/>
                    </a:lnTo>
                    <a:lnTo>
                      <a:pt x="389" y="197"/>
                    </a:lnTo>
                    <a:lnTo>
                      <a:pt x="393" y="190"/>
                    </a:lnTo>
                    <a:lnTo>
                      <a:pt x="398" y="185"/>
                    </a:lnTo>
                    <a:lnTo>
                      <a:pt x="401" y="178"/>
                    </a:lnTo>
                    <a:lnTo>
                      <a:pt x="405" y="172"/>
                    </a:lnTo>
                    <a:lnTo>
                      <a:pt x="408" y="164"/>
                    </a:lnTo>
                    <a:lnTo>
                      <a:pt x="413" y="158"/>
                    </a:lnTo>
                    <a:lnTo>
                      <a:pt x="416" y="152"/>
                    </a:lnTo>
                    <a:lnTo>
                      <a:pt x="419" y="147"/>
                    </a:lnTo>
                    <a:lnTo>
                      <a:pt x="421" y="141"/>
                    </a:lnTo>
                    <a:lnTo>
                      <a:pt x="424" y="135"/>
                    </a:lnTo>
                    <a:lnTo>
                      <a:pt x="429" y="129"/>
                    </a:lnTo>
                    <a:lnTo>
                      <a:pt x="432" y="121"/>
                    </a:lnTo>
                    <a:lnTo>
                      <a:pt x="435" y="117"/>
                    </a:lnTo>
                    <a:lnTo>
                      <a:pt x="438" y="111"/>
                    </a:lnTo>
                    <a:lnTo>
                      <a:pt x="441" y="105"/>
                    </a:lnTo>
                    <a:lnTo>
                      <a:pt x="444" y="99"/>
                    </a:lnTo>
                    <a:lnTo>
                      <a:pt x="445" y="93"/>
                    </a:lnTo>
                    <a:lnTo>
                      <a:pt x="448" y="87"/>
                    </a:lnTo>
                    <a:lnTo>
                      <a:pt x="451" y="81"/>
                    </a:lnTo>
                    <a:lnTo>
                      <a:pt x="453" y="77"/>
                    </a:lnTo>
                    <a:lnTo>
                      <a:pt x="456" y="71"/>
                    </a:lnTo>
                    <a:lnTo>
                      <a:pt x="459" y="66"/>
                    </a:lnTo>
                    <a:lnTo>
                      <a:pt x="460" y="60"/>
                    </a:lnTo>
                    <a:lnTo>
                      <a:pt x="462" y="56"/>
                    </a:lnTo>
                    <a:lnTo>
                      <a:pt x="463" y="52"/>
                    </a:lnTo>
                    <a:lnTo>
                      <a:pt x="466" y="47"/>
                    </a:lnTo>
                    <a:lnTo>
                      <a:pt x="466" y="43"/>
                    </a:lnTo>
                    <a:lnTo>
                      <a:pt x="469" y="38"/>
                    </a:lnTo>
                    <a:lnTo>
                      <a:pt x="470" y="35"/>
                    </a:lnTo>
                    <a:lnTo>
                      <a:pt x="472" y="31"/>
                    </a:lnTo>
                    <a:lnTo>
                      <a:pt x="473" y="28"/>
                    </a:lnTo>
                    <a:lnTo>
                      <a:pt x="473" y="23"/>
                    </a:lnTo>
                    <a:lnTo>
                      <a:pt x="475" y="20"/>
                    </a:lnTo>
                    <a:lnTo>
                      <a:pt x="476" y="17"/>
                    </a:lnTo>
                    <a:lnTo>
                      <a:pt x="478" y="12"/>
                    </a:lnTo>
                    <a:lnTo>
                      <a:pt x="481" y="7"/>
                    </a:lnTo>
                    <a:lnTo>
                      <a:pt x="481" y="3"/>
                    </a:lnTo>
                    <a:lnTo>
                      <a:pt x="482" y="1"/>
                    </a:lnTo>
                    <a:lnTo>
                      <a:pt x="484" y="0"/>
                    </a:lnTo>
                    <a:lnTo>
                      <a:pt x="444" y="7"/>
                    </a:lnTo>
                    <a:lnTo>
                      <a:pt x="444"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733560" y="2141640"/>
                <a:ext cx="397080" cy="330120"/>
              </a:xfrm>
              <a:custGeom>
                <a:avLst/>
                <a:gdLst/>
                <a:ahLst/>
                <a:rect l="l" t="t" r="r" b="b"/>
                <a:pathLst>
                  <a:path w="500" h="417">
                    <a:moveTo>
                      <a:pt x="465" y="14"/>
                    </a:moveTo>
                    <a:lnTo>
                      <a:pt x="465" y="14"/>
                    </a:lnTo>
                    <a:lnTo>
                      <a:pt x="465" y="17"/>
                    </a:lnTo>
                    <a:lnTo>
                      <a:pt x="465" y="20"/>
                    </a:lnTo>
                    <a:lnTo>
                      <a:pt x="466" y="25"/>
                    </a:lnTo>
                    <a:lnTo>
                      <a:pt x="465" y="30"/>
                    </a:lnTo>
                    <a:lnTo>
                      <a:pt x="465" y="33"/>
                    </a:lnTo>
                    <a:lnTo>
                      <a:pt x="465" y="37"/>
                    </a:lnTo>
                    <a:lnTo>
                      <a:pt x="465" y="42"/>
                    </a:lnTo>
                    <a:lnTo>
                      <a:pt x="465" y="46"/>
                    </a:lnTo>
                    <a:lnTo>
                      <a:pt x="465" y="52"/>
                    </a:lnTo>
                    <a:lnTo>
                      <a:pt x="465" y="58"/>
                    </a:lnTo>
                    <a:lnTo>
                      <a:pt x="463" y="64"/>
                    </a:lnTo>
                    <a:lnTo>
                      <a:pt x="462" y="70"/>
                    </a:lnTo>
                    <a:lnTo>
                      <a:pt x="460" y="76"/>
                    </a:lnTo>
                    <a:lnTo>
                      <a:pt x="459" y="82"/>
                    </a:lnTo>
                    <a:lnTo>
                      <a:pt x="457" y="89"/>
                    </a:lnTo>
                    <a:lnTo>
                      <a:pt x="456" y="92"/>
                    </a:lnTo>
                    <a:lnTo>
                      <a:pt x="454" y="95"/>
                    </a:lnTo>
                    <a:lnTo>
                      <a:pt x="453" y="98"/>
                    </a:lnTo>
                    <a:lnTo>
                      <a:pt x="451" y="103"/>
                    </a:lnTo>
                    <a:lnTo>
                      <a:pt x="450" y="106"/>
                    </a:lnTo>
                    <a:lnTo>
                      <a:pt x="448" y="110"/>
                    </a:lnTo>
                    <a:lnTo>
                      <a:pt x="447" y="113"/>
                    </a:lnTo>
                    <a:lnTo>
                      <a:pt x="446" y="117"/>
                    </a:lnTo>
                    <a:lnTo>
                      <a:pt x="444" y="122"/>
                    </a:lnTo>
                    <a:lnTo>
                      <a:pt x="443" y="125"/>
                    </a:lnTo>
                    <a:lnTo>
                      <a:pt x="440" y="129"/>
                    </a:lnTo>
                    <a:lnTo>
                      <a:pt x="438" y="132"/>
                    </a:lnTo>
                    <a:lnTo>
                      <a:pt x="435" y="137"/>
                    </a:lnTo>
                    <a:lnTo>
                      <a:pt x="434" y="141"/>
                    </a:lnTo>
                    <a:lnTo>
                      <a:pt x="431" y="146"/>
                    </a:lnTo>
                    <a:lnTo>
                      <a:pt x="428" y="150"/>
                    </a:lnTo>
                    <a:lnTo>
                      <a:pt x="425" y="153"/>
                    </a:lnTo>
                    <a:lnTo>
                      <a:pt x="422" y="158"/>
                    </a:lnTo>
                    <a:lnTo>
                      <a:pt x="419" y="162"/>
                    </a:lnTo>
                    <a:lnTo>
                      <a:pt x="416" y="166"/>
                    </a:lnTo>
                    <a:lnTo>
                      <a:pt x="413" y="169"/>
                    </a:lnTo>
                    <a:lnTo>
                      <a:pt x="410" y="174"/>
                    </a:lnTo>
                    <a:lnTo>
                      <a:pt x="405" y="178"/>
                    </a:lnTo>
                    <a:lnTo>
                      <a:pt x="403" y="184"/>
                    </a:lnTo>
                    <a:lnTo>
                      <a:pt x="398" y="187"/>
                    </a:lnTo>
                    <a:lnTo>
                      <a:pt x="395" y="192"/>
                    </a:lnTo>
                    <a:lnTo>
                      <a:pt x="391" y="196"/>
                    </a:lnTo>
                    <a:lnTo>
                      <a:pt x="386" y="201"/>
                    </a:lnTo>
                    <a:lnTo>
                      <a:pt x="382" y="204"/>
                    </a:lnTo>
                    <a:lnTo>
                      <a:pt x="377" y="209"/>
                    </a:lnTo>
                    <a:lnTo>
                      <a:pt x="373" y="212"/>
                    </a:lnTo>
                    <a:lnTo>
                      <a:pt x="368" y="218"/>
                    </a:lnTo>
                    <a:lnTo>
                      <a:pt x="364" y="221"/>
                    </a:lnTo>
                    <a:lnTo>
                      <a:pt x="358" y="226"/>
                    </a:lnTo>
                    <a:lnTo>
                      <a:pt x="354" y="230"/>
                    </a:lnTo>
                    <a:lnTo>
                      <a:pt x="349" y="235"/>
                    </a:lnTo>
                    <a:lnTo>
                      <a:pt x="343" y="239"/>
                    </a:lnTo>
                    <a:lnTo>
                      <a:pt x="337" y="244"/>
                    </a:lnTo>
                    <a:lnTo>
                      <a:pt x="333" y="248"/>
                    </a:lnTo>
                    <a:lnTo>
                      <a:pt x="328" y="252"/>
                    </a:lnTo>
                    <a:lnTo>
                      <a:pt x="322" y="255"/>
                    </a:lnTo>
                    <a:lnTo>
                      <a:pt x="316" y="260"/>
                    </a:lnTo>
                    <a:lnTo>
                      <a:pt x="311" y="264"/>
                    </a:lnTo>
                    <a:lnTo>
                      <a:pt x="305" y="269"/>
                    </a:lnTo>
                    <a:lnTo>
                      <a:pt x="300" y="272"/>
                    </a:lnTo>
                    <a:lnTo>
                      <a:pt x="294" y="276"/>
                    </a:lnTo>
                    <a:lnTo>
                      <a:pt x="288" y="281"/>
                    </a:lnTo>
                    <a:lnTo>
                      <a:pt x="282" y="285"/>
                    </a:lnTo>
                    <a:lnTo>
                      <a:pt x="276" y="288"/>
                    </a:lnTo>
                    <a:lnTo>
                      <a:pt x="270" y="293"/>
                    </a:lnTo>
                    <a:lnTo>
                      <a:pt x="265" y="296"/>
                    </a:lnTo>
                    <a:lnTo>
                      <a:pt x="259" y="300"/>
                    </a:lnTo>
                    <a:lnTo>
                      <a:pt x="253" y="304"/>
                    </a:lnTo>
                    <a:lnTo>
                      <a:pt x="248" y="307"/>
                    </a:lnTo>
                    <a:lnTo>
                      <a:pt x="242" y="312"/>
                    </a:lnTo>
                    <a:lnTo>
                      <a:pt x="236" y="315"/>
                    </a:lnTo>
                    <a:lnTo>
                      <a:pt x="230" y="318"/>
                    </a:lnTo>
                    <a:lnTo>
                      <a:pt x="224" y="321"/>
                    </a:lnTo>
                    <a:lnTo>
                      <a:pt x="219" y="324"/>
                    </a:lnTo>
                    <a:lnTo>
                      <a:pt x="213" y="327"/>
                    </a:lnTo>
                    <a:lnTo>
                      <a:pt x="207" y="330"/>
                    </a:lnTo>
                    <a:lnTo>
                      <a:pt x="201" y="334"/>
                    </a:lnTo>
                    <a:lnTo>
                      <a:pt x="195" y="337"/>
                    </a:lnTo>
                    <a:lnTo>
                      <a:pt x="190" y="340"/>
                    </a:lnTo>
                    <a:lnTo>
                      <a:pt x="184" y="342"/>
                    </a:lnTo>
                    <a:lnTo>
                      <a:pt x="178" y="344"/>
                    </a:lnTo>
                    <a:lnTo>
                      <a:pt x="173" y="347"/>
                    </a:lnTo>
                    <a:lnTo>
                      <a:pt x="168" y="350"/>
                    </a:lnTo>
                    <a:lnTo>
                      <a:pt x="162" y="352"/>
                    </a:lnTo>
                    <a:lnTo>
                      <a:pt x="156" y="355"/>
                    </a:lnTo>
                    <a:lnTo>
                      <a:pt x="152" y="356"/>
                    </a:lnTo>
                    <a:lnTo>
                      <a:pt x="147" y="359"/>
                    </a:lnTo>
                    <a:lnTo>
                      <a:pt x="141" y="361"/>
                    </a:lnTo>
                    <a:lnTo>
                      <a:pt x="137" y="362"/>
                    </a:lnTo>
                    <a:lnTo>
                      <a:pt x="131" y="364"/>
                    </a:lnTo>
                    <a:lnTo>
                      <a:pt x="128" y="367"/>
                    </a:lnTo>
                    <a:lnTo>
                      <a:pt x="122" y="368"/>
                    </a:lnTo>
                    <a:lnTo>
                      <a:pt x="118" y="368"/>
                    </a:lnTo>
                    <a:lnTo>
                      <a:pt x="113" y="370"/>
                    </a:lnTo>
                    <a:lnTo>
                      <a:pt x="109" y="371"/>
                    </a:lnTo>
                    <a:lnTo>
                      <a:pt x="106" y="373"/>
                    </a:lnTo>
                    <a:lnTo>
                      <a:pt x="101" y="373"/>
                    </a:lnTo>
                    <a:lnTo>
                      <a:pt x="97" y="373"/>
                    </a:lnTo>
                    <a:lnTo>
                      <a:pt x="94" y="374"/>
                    </a:lnTo>
                    <a:lnTo>
                      <a:pt x="89" y="376"/>
                    </a:lnTo>
                    <a:lnTo>
                      <a:pt x="86" y="376"/>
                    </a:lnTo>
                    <a:lnTo>
                      <a:pt x="83" y="376"/>
                    </a:lnTo>
                    <a:lnTo>
                      <a:pt x="81" y="376"/>
                    </a:lnTo>
                    <a:lnTo>
                      <a:pt x="73" y="376"/>
                    </a:lnTo>
                    <a:lnTo>
                      <a:pt x="69" y="374"/>
                    </a:lnTo>
                    <a:lnTo>
                      <a:pt x="64" y="373"/>
                    </a:lnTo>
                    <a:lnTo>
                      <a:pt x="60" y="371"/>
                    </a:lnTo>
                    <a:lnTo>
                      <a:pt x="57" y="368"/>
                    </a:lnTo>
                    <a:lnTo>
                      <a:pt x="52" y="364"/>
                    </a:lnTo>
                    <a:lnTo>
                      <a:pt x="51" y="361"/>
                    </a:lnTo>
                    <a:lnTo>
                      <a:pt x="49" y="358"/>
                    </a:lnTo>
                    <a:lnTo>
                      <a:pt x="46" y="353"/>
                    </a:lnTo>
                    <a:lnTo>
                      <a:pt x="45" y="349"/>
                    </a:lnTo>
                    <a:lnTo>
                      <a:pt x="45" y="344"/>
                    </a:lnTo>
                    <a:lnTo>
                      <a:pt x="45" y="340"/>
                    </a:lnTo>
                    <a:lnTo>
                      <a:pt x="45" y="336"/>
                    </a:lnTo>
                    <a:lnTo>
                      <a:pt x="45" y="330"/>
                    </a:lnTo>
                    <a:lnTo>
                      <a:pt x="45" y="325"/>
                    </a:lnTo>
                    <a:lnTo>
                      <a:pt x="45" y="321"/>
                    </a:lnTo>
                    <a:lnTo>
                      <a:pt x="45" y="315"/>
                    </a:lnTo>
                    <a:lnTo>
                      <a:pt x="46" y="310"/>
                    </a:lnTo>
                    <a:lnTo>
                      <a:pt x="48" y="306"/>
                    </a:lnTo>
                    <a:lnTo>
                      <a:pt x="49" y="301"/>
                    </a:lnTo>
                    <a:lnTo>
                      <a:pt x="51" y="297"/>
                    </a:lnTo>
                    <a:lnTo>
                      <a:pt x="52" y="293"/>
                    </a:lnTo>
                    <a:lnTo>
                      <a:pt x="52" y="288"/>
                    </a:lnTo>
                    <a:lnTo>
                      <a:pt x="55" y="284"/>
                    </a:lnTo>
                    <a:lnTo>
                      <a:pt x="55" y="281"/>
                    </a:lnTo>
                    <a:lnTo>
                      <a:pt x="57" y="278"/>
                    </a:lnTo>
                    <a:lnTo>
                      <a:pt x="58" y="275"/>
                    </a:lnTo>
                    <a:lnTo>
                      <a:pt x="60" y="272"/>
                    </a:lnTo>
                    <a:lnTo>
                      <a:pt x="61" y="269"/>
                    </a:lnTo>
                    <a:lnTo>
                      <a:pt x="12" y="303"/>
                    </a:lnTo>
                    <a:lnTo>
                      <a:pt x="12" y="304"/>
                    </a:lnTo>
                    <a:lnTo>
                      <a:pt x="11" y="306"/>
                    </a:lnTo>
                    <a:lnTo>
                      <a:pt x="9" y="310"/>
                    </a:lnTo>
                    <a:lnTo>
                      <a:pt x="8" y="316"/>
                    </a:lnTo>
                    <a:lnTo>
                      <a:pt x="6" y="319"/>
                    </a:lnTo>
                    <a:lnTo>
                      <a:pt x="6" y="322"/>
                    </a:lnTo>
                    <a:lnTo>
                      <a:pt x="5" y="327"/>
                    </a:lnTo>
                    <a:lnTo>
                      <a:pt x="5" y="330"/>
                    </a:lnTo>
                    <a:lnTo>
                      <a:pt x="3" y="334"/>
                    </a:lnTo>
                    <a:lnTo>
                      <a:pt x="3" y="339"/>
                    </a:lnTo>
                    <a:lnTo>
                      <a:pt x="2" y="342"/>
                    </a:lnTo>
                    <a:lnTo>
                      <a:pt x="2" y="347"/>
                    </a:lnTo>
                    <a:lnTo>
                      <a:pt x="0" y="350"/>
                    </a:lnTo>
                    <a:lnTo>
                      <a:pt x="0" y="356"/>
                    </a:lnTo>
                    <a:lnTo>
                      <a:pt x="0" y="359"/>
                    </a:lnTo>
                    <a:lnTo>
                      <a:pt x="0" y="364"/>
                    </a:lnTo>
                    <a:lnTo>
                      <a:pt x="0" y="368"/>
                    </a:lnTo>
                    <a:lnTo>
                      <a:pt x="0" y="373"/>
                    </a:lnTo>
                    <a:lnTo>
                      <a:pt x="0" y="377"/>
                    </a:lnTo>
                    <a:lnTo>
                      <a:pt x="0" y="383"/>
                    </a:lnTo>
                    <a:lnTo>
                      <a:pt x="0" y="386"/>
                    </a:lnTo>
                    <a:lnTo>
                      <a:pt x="2" y="390"/>
                    </a:lnTo>
                    <a:lnTo>
                      <a:pt x="2" y="393"/>
                    </a:lnTo>
                    <a:lnTo>
                      <a:pt x="5" y="398"/>
                    </a:lnTo>
                    <a:lnTo>
                      <a:pt x="8" y="404"/>
                    </a:lnTo>
                    <a:lnTo>
                      <a:pt x="12" y="410"/>
                    </a:lnTo>
                    <a:lnTo>
                      <a:pt x="17" y="413"/>
                    </a:lnTo>
                    <a:lnTo>
                      <a:pt x="24" y="416"/>
                    </a:lnTo>
                    <a:lnTo>
                      <a:pt x="27" y="416"/>
                    </a:lnTo>
                    <a:lnTo>
                      <a:pt x="32" y="417"/>
                    </a:lnTo>
                    <a:lnTo>
                      <a:pt x="35" y="417"/>
                    </a:lnTo>
                    <a:lnTo>
                      <a:pt x="39" y="417"/>
                    </a:lnTo>
                    <a:lnTo>
                      <a:pt x="43" y="417"/>
                    </a:lnTo>
                    <a:lnTo>
                      <a:pt x="48" y="417"/>
                    </a:lnTo>
                    <a:lnTo>
                      <a:pt x="52" y="417"/>
                    </a:lnTo>
                    <a:lnTo>
                      <a:pt x="57" y="417"/>
                    </a:lnTo>
                    <a:lnTo>
                      <a:pt x="61" y="416"/>
                    </a:lnTo>
                    <a:lnTo>
                      <a:pt x="66" y="414"/>
                    </a:lnTo>
                    <a:lnTo>
                      <a:pt x="70" y="414"/>
                    </a:lnTo>
                    <a:lnTo>
                      <a:pt x="75" y="414"/>
                    </a:lnTo>
                    <a:lnTo>
                      <a:pt x="79" y="413"/>
                    </a:lnTo>
                    <a:lnTo>
                      <a:pt x="82" y="411"/>
                    </a:lnTo>
                    <a:lnTo>
                      <a:pt x="86" y="410"/>
                    </a:lnTo>
                    <a:lnTo>
                      <a:pt x="91" y="410"/>
                    </a:lnTo>
                    <a:lnTo>
                      <a:pt x="94" y="407"/>
                    </a:lnTo>
                    <a:lnTo>
                      <a:pt x="97" y="407"/>
                    </a:lnTo>
                    <a:lnTo>
                      <a:pt x="100" y="405"/>
                    </a:lnTo>
                    <a:lnTo>
                      <a:pt x="104" y="405"/>
                    </a:lnTo>
                    <a:lnTo>
                      <a:pt x="109" y="402"/>
                    </a:lnTo>
                    <a:lnTo>
                      <a:pt x="113" y="402"/>
                    </a:lnTo>
                    <a:lnTo>
                      <a:pt x="116" y="401"/>
                    </a:lnTo>
                    <a:lnTo>
                      <a:pt x="116" y="401"/>
                    </a:lnTo>
                    <a:lnTo>
                      <a:pt x="116" y="399"/>
                    </a:lnTo>
                    <a:lnTo>
                      <a:pt x="119" y="399"/>
                    </a:lnTo>
                    <a:lnTo>
                      <a:pt x="121" y="398"/>
                    </a:lnTo>
                    <a:lnTo>
                      <a:pt x="125" y="396"/>
                    </a:lnTo>
                    <a:lnTo>
                      <a:pt x="128" y="395"/>
                    </a:lnTo>
                    <a:lnTo>
                      <a:pt x="134" y="393"/>
                    </a:lnTo>
                    <a:lnTo>
                      <a:pt x="137" y="390"/>
                    </a:lnTo>
                    <a:lnTo>
                      <a:pt x="140" y="390"/>
                    </a:lnTo>
                    <a:lnTo>
                      <a:pt x="144" y="389"/>
                    </a:lnTo>
                    <a:lnTo>
                      <a:pt x="147" y="388"/>
                    </a:lnTo>
                    <a:lnTo>
                      <a:pt x="150" y="386"/>
                    </a:lnTo>
                    <a:lnTo>
                      <a:pt x="155" y="385"/>
                    </a:lnTo>
                    <a:lnTo>
                      <a:pt x="159" y="383"/>
                    </a:lnTo>
                    <a:lnTo>
                      <a:pt x="164" y="382"/>
                    </a:lnTo>
                    <a:lnTo>
                      <a:pt x="167" y="380"/>
                    </a:lnTo>
                    <a:lnTo>
                      <a:pt x="173" y="377"/>
                    </a:lnTo>
                    <a:lnTo>
                      <a:pt x="177" y="376"/>
                    </a:lnTo>
                    <a:lnTo>
                      <a:pt x="181" y="374"/>
                    </a:lnTo>
                    <a:lnTo>
                      <a:pt x="186" y="371"/>
                    </a:lnTo>
                    <a:lnTo>
                      <a:pt x="192" y="370"/>
                    </a:lnTo>
                    <a:lnTo>
                      <a:pt x="196" y="367"/>
                    </a:lnTo>
                    <a:lnTo>
                      <a:pt x="202" y="365"/>
                    </a:lnTo>
                    <a:lnTo>
                      <a:pt x="207" y="362"/>
                    </a:lnTo>
                    <a:lnTo>
                      <a:pt x="213" y="361"/>
                    </a:lnTo>
                    <a:lnTo>
                      <a:pt x="219" y="358"/>
                    </a:lnTo>
                    <a:lnTo>
                      <a:pt x="224" y="356"/>
                    </a:lnTo>
                    <a:lnTo>
                      <a:pt x="229" y="353"/>
                    </a:lnTo>
                    <a:lnTo>
                      <a:pt x="235" y="349"/>
                    </a:lnTo>
                    <a:lnTo>
                      <a:pt x="241" y="346"/>
                    </a:lnTo>
                    <a:lnTo>
                      <a:pt x="247" y="344"/>
                    </a:lnTo>
                    <a:lnTo>
                      <a:pt x="251" y="342"/>
                    </a:lnTo>
                    <a:lnTo>
                      <a:pt x="259" y="339"/>
                    </a:lnTo>
                    <a:lnTo>
                      <a:pt x="263" y="336"/>
                    </a:lnTo>
                    <a:lnTo>
                      <a:pt x="270" y="333"/>
                    </a:lnTo>
                    <a:lnTo>
                      <a:pt x="275" y="330"/>
                    </a:lnTo>
                    <a:lnTo>
                      <a:pt x="281" y="327"/>
                    </a:lnTo>
                    <a:lnTo>
                      <a:pt x="287" y="322"/>
                    </a:lnTo>
                    <a:lnTo>
                      <a:pt x="293" y="319"/>
                    </a:lnTo>
                    <a:lnTo>
                      <a:pt x="299" y="316"/>
                    </a:lnTo>
                    <a:lnTo>
                      <a:pt x="305" y="313"/>
                    </a:lnTo>
                    <a:lnTo>
                      <a:pt x="312" y="310"/>
                    </a:lnTo>
                    <a:lnTo>
                      <a:pt x="318" y="307"/>
                    </a:lnTo>
                    <a:lnTo>
                      <a:pt x="322" y="303"/>
                    </a:lnTo>
                    <a:lnTo>
                      <a:pt x="328" y="300"/>
                    </a:lnTo>
                    <a:lnTo>
                      <a:pt x="334" y="296"/>
                    </a:lnTo>
                    <a:lnTo>
                      <a:pt x="340" y="293"/>
                    </a:lnTo>
                    <a:lnTo>
                      <a:pt x="346" y="290"/>
                    </a:lnTo>
                    <a:lnTo>
                      <a:pt x="352" y="285"/>
                    </a:lnTo>
                    <a:lnTo>
                      <a:pt x="357" y="282"/>
                    </a:lnTo>
                    <a:lnTo>
                      <a:pt x="362" y="278"/>
                    </a:lnTo>
                    <a:lnTo>
                      <a:pt x="367" y="275"/>
                    </a:lnTo>
                    <a:lnTo>
                      <a:pt x="373" y="270"/>
                    </a:lnTo>
                    <a:lnTo>
                      <a:pt x="377" y="267"/>
                    </a:lnTo>
                    <a:lnTo>
                      <a:pt x="383" y="263"/>
                    </a:lnTo>
                    <a:lnTo>
                      <a:pt x="388" y="258"/>
                    </a:lnTo>
                    <a:lnTo>
                      <a:pt x="394" y="255"/>
                    </a:lnTo>
                    <a:lnTo>
                      <a:pt x="398" y="251"/>
                    </a:lnTo>
                    <a:lnTo>
                      <a:pt x="403" y="248"/>
                    </a:lnTo>
                    <a:lnTo>
                      <a:pt x="407" y="244"/>
                    </a:lnTo>
                    <a:lnTo>
                      <a:pt x="411" y="239"/>
                    </a:lnTo>
                    <a:lnTo>
                      <a:pt x="416" y="235"/>
                    </a:lnTo>
                    <a:lnTo>
                      <a:pt x="420" y="232"/>
                    </a:lnTo>
                    <a:lnTo>
                      <a:pt x="423" y="227"/>
                    </a:lnTo>
                    <a:lnTo>
                      <a:pt x="428" y="223"/>
                    </a:lnTo>
                    <a:lnTo>
                      <a:pt x="431" y="218"/>
                    </a:lnTo>
                    <a:lnTo>
                      <a:pt x="435" y="215"/>
                    </a:lnTo>
                    <a:lnTo>
                      <a:pt x="438" y="211"/>
                    </a:lnTo>
                    <a:lnTo>
                      <a:pt x="441" y="206"/>
                    </a:lnTo>
                    <a:lnTo>
                      <a:pt x="444" y="204"/>
                    </a:lnTo>
                    <a:lnTo>
                      <a:pt x="447" y="199"/>
                    </a:lnTo>
                    <a:lnTo>
                      <a:pt x="450" y="195"/>
                    </a:lnTo>
                    <a:lnTo>
                      <a:pt x="453" y="190"/>
                    </a:lnTo>
                    <a:lnTo>
                      <a:pt x="456" y="187"/>
                    </a:lnTo>
                    <a:lnTo>
                      <a:pt x="459" y="183"/>
                    </a:lnTo>
                    <a:lnTo>
                      <a:pt x="460" y="178"/>
                    </a:lnTo>
                    <a:lnTo>
                      <a:pt x="463" y="174"/>
                    </a:lnTo>
                    <a:lnTo>
                      <a:pt x="465" y="169"/>
                    </a:lnTo>
                    <a:lnTo>
                      <a:pt x="468" y="166"/>
                    </a:lnTo>
                    <a:lnTo>
                      <a:pt x="469" y="162"/>
                    </a:lnTo>
                    <a:lnTo>
                      <a:pt x="472" y="159"/>
                    </a:lnTo>
                    <a:lnTo>
                      <a:pt x="474" y="155"/>
                    </a:lnTo>
                    <a:lnTo>
                      <a:pt x="475" y="152"/>
                    </a:lnTo>
                    <a:lnTo>
                      <a:pt x="477" y="147"/>
                    </a:lnTo>
                    <a:lnTo>
                      <a:pt x="480" y="144"/>
                    </a:lnTo>
                    <a:lnTo>
                      <a:pt x="480" y="140"/>
                    </a:lnTo>
                    <a:lnTo>
                      <a:pt x="483" y="137"/>
                    </a:lnTo>
                    <a:lnTo>
                      <a:pt x="483" y="132"/>
                    </a:lnTo>
                    <a:lnTo>
                      <a:pt x="484" y="129"/>
                    </a:lnTo>
                    <a:lnTo>
                      <a:pt x="486" y="126"/>
                    </a:lnTo>
                    <a:lnTo>
                      <a:pt x="487" y="123"/>
                    </a:lnTo>
                    <a:lnTo>
                      <a:pt x="489" y="119"/>
                    </a:lnTo>
                    <a:lnTo>
                      <a:pt x="490" y="116"/>
                    </a:lnTo>
                    <a:lnTo>
                      <a:pt x="490" y="113"/>
                    </a:lnTo>
                    <a:lnTo>
                      <a:pt x="492" y="109"/>
                    </a:lnTo>
                    <a:lnTo>
                      <a:pt x="493" y="103"/>
                    </a:lnTo>
                    <a:lnTo>
                      <a:pt x="494" y="97"/>
                    </a:lnTo>
                    <a:lnTo>
                      <a:pt x="494" y="91"/>
                    </a:lnTo>
                    <a:lnTo>
                      <a:pt x="496" y="86"/>
                    </a:lnTo>
                    <a:lnTo>
                      <a:pt x="497" y="82"/>
                    </a:lnTo>
                    <a:lnTo>
                      <a:pt x="497" y="77"/>
                    </a:lnTo>
                    <a:lnTo>
                      <a:pt x="497" y="73"/>
                    </a:lnTo>
                    <a:lnTo>
                      <a:pt x="499" y="70"/>
                    </a:lnTo>
                    <a:lnTo>
                      <a:pt x="499" y="67"/>
                    </a:lnTo>
                    <a:lnTo>
                      <a:pt x="499" y="66"/>
                    </a:lnTo>
                    <a:lnTo>
                      <a:pt x="499" y="61"/>
                    </a:lnTo>
                    <a:lnTo>
                      <a:pt x="500" y="61"/>
                    </a:lnTo>
                    <a:lnTo>
                      <a:pt x="481" y="0"/>
                    </a:lnTo>
                    <a:lnTo>
                      <a:pt x="465" y="14"/>
                    </a:lnTo>
                    <a:lnTo>
                      <a:pt x="465" y="1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3784320" y="2205000"/>
                <a:ext cx="181080" cy="133560"/>
              </a:xfrm>
              <a:custGeom>
                <a:avLst/>
                <a:gdLst/>
                <a:ahLst/>
                <a:rect l="l" t="t" r="r" b="b"/>
                <a:pathLst>
                  <a:path w="227" h="166">
                    <a:moveTo>
                      <a:pt x="160" y="4"/>
                    </a:moveTo>
                    <a:lnTo>
                      <a:pt x="160" y="4"/>
                    </a:lnTo>
                    <a:lnTo>
                      <a:pt x="157" y="7"/>
                    </a:lnTo>
                    <a:lnTo>
                      <a:pt x="154" y="12"/>
                    </a:lnTo>
                    <a:lnTo>
                      <a:pt x="151" y="18"/>
                    </a:lnTo>
                    <a:lnTo>
                      <a:pt x="145" y="24"/>
                    </a:lnTo>
                    <a:lnTo>
                      <a:pt x="142" y="31"/>
                    </a:lnTo>
                    <a:lnTo>
                      <a:pt x="138" y="37"/>
                    </a:lnTo>
                    <a:lnTo>
                      <a:pt x="135" y="43"/>
                    </a:lnTo>
                    <a:lnTo>
                      <a:pt x="132" y="47"/>
                    </a:lnTo>
                    <a:lnTo>
                      <a:pt x="129" y="52"/>
                    </a:lnTo>
                    <a:lnTo>
                      <a:pt x="127" y="55"/>
                    </a:lnTo>
                    <a:lnTo>
                      <a:pt x="126" y="58"/>
                    </a:lnTo>
                    <a:lnTo>
                      <a:pt x="124" y="61"/>
                    </a:lnTo>
                    <a:lnTo>
                      <a:pt x="124" y="64"/>
                    </a:lnTo>
                    <a:lnTo>
                      <a:pt x="123" y="62"/>
                    </a:lnTo>
                    <a:lnTo>
                      <a:pt x="120" y="62"/>
                    </a:lnTo>
                    <a:lnTo>
                      <a:pt x="117" y="62"/>
                    </a:lnTo>
                    <a:lnTo>
                      <a:pt x="111" y="62"/>
                    </a:lnTo>
                    <a:lnTo>
                      <a:pt x="108" y="62"/>
                    </a:lnTo>
                    <a:lnTo>
                      <a:pt x="104" y="64"/>
                    </a:lnTo>
                    <a:lnTo>
                      <a:pt x="101" y="65"/>
                    </a:lnTo>
                    <a:lnTo>
                      <a:pt x="96" y="68"/>
                    </a:lnTo>
                    <a:lnTo>
                      <a:pt x="92" y="70"/>
                    </a:lnTo>
                    <a:lnTo>
                      <a:pt x="87" y="73"/>
                    </a:lnTo>
                    <a:lnTo>
                      <a:pt x="81" y="77"/>
                    </a:lnTo>
                    <a:lnTo>
                      <a:pt x="77" y="81"/>
                    </a:lnTo>
                    <a:lnTo>
                      <a:pt x="69" y="86"/>
                    </a:lnTo>
                    <a:lnTo>
                      <a:pt x="63" y="92"/>
                    </a:lnTo>
                    <a:lnTo>
                      <a:pt x="61" y="95"/>
                    </a:lnTo>
                    <a:lnTo>
                      <a:pt x="58" y="98"/>
                    </a:lnTo>
                    <a:lnTo>
                      <a:pt x="55" y="102"/>
                    </a:lnTo>
                    <a:lnTo>
                      <a:pt x="50" y="105"/>
                    </a:lnTo>
                    <a:lnTo>
                      <a:pt x="47" y="108"/>
                    </a:lnTo>
                    <a:lnTo>
                      <a:pt x="44" y="111"/>
                    </a:lnTo>
                    <a:lnTo>
                      <a:pt x="41" y="116"/>
                    </a:lnTo>
                    <a:lnTo>
                      <a:pt x="38" y="119"/>
                    </a:lnTo>
                    <a:lnTo>
                      <a:pt x="34" y="122"/>
                    </a:lnTo>
                    <a:lnTo>
                      <a:pt x="32" y="126"/>
                    </a:lnTo>
                    <a:lnTo>
                      <a:pt x="28" y="129"/>
                    </a:lnTo>
                    <a:lnTo>
                      <a:pt x="26" y="133"/>
                    </a:lnTo>
                    <a:lnTo>
                      <a:pt x="20" y="139"/>
                    </a:lnTo>
                    <a:lnTo>
                      <a:pt x="15" y="145"/>
                    </a:lnTo>
                    <a:lnTo>
                      <a:pt x="10" y="151"/>
                    </a:lnTo>
                    <a:lnTo>
                      <a:pt x="7" y="156"/>
                    </a:lnTo>
                    <a:lnTo>
                      <a:pt x="3" y="160"/>
                    </a:lnTo>
                    <a:lnTo>
                      <a:pt x="1" y="163"/>
                    </a:lnTo>
                    <a:lnTo>
                      <a:pt x="0" y="165"/>
                    </a:lnTo>
                    <a:lnTo>
                      <a:pt x="0" y="166"/>
                    </a:lnTo>
                    <a:lnTo>
                      <a:pt x="1" y="165"/>
                    </a:lnTo>
                    <a:lnTo>
                      <a:pt x="6" y="160"/>
                    </a:lnTo>
                    <a:lnTo>
                      <a:pt x="9" y="157"/>
                    </a:lnTo>
                    <a:lnTo>
                      <a:pt x="13" y="154"/>
                    </a:lnTo>
                    <a:lnTo>
                      <a:pt x="17" y="151"/>
                    </a:lnTo>
                    <a:lnTo>
                      <a:pt x="22" y="148"/>
                    </a:lnTo>
                    <a:lnTo>
                      <a:pt x="28" y="144"/>
                    </a:lnTo>
                    <a:lnTo>
                      <a:pt x="32" y="139"/>
                    </a:lnTo>
                    <a:lnTo>
                      <a:pt x="38" y="136"/>
                    </a:lnTo>
                    <a:lnTo>
                      <a:pt x="44" y="132"/>
                    </a:lnTo>
                    <a:lnTo>
                      <a:pt x="50" y="129"/>
                    </a:lnTo>
                    <a:lnTo>
                      <a:pt x="56" y="124"/>
                    </a:lnTo>
                    <a:lnTo>
                      <a:pt x="62" y="122"/>
                    </a:lnTo>
                    <a:lnTo>
                      <a:pt x="69" y="119"/>
                    </a:lnTo>
                    <a:lnTo>
                      <a:pt x="74" y="114"/>
                    </a:lnTo>
                    <a:lnTo>
                      <a:pt x="80" y="111"/>
                    </a:lnTo>
                    <a:lnTo>
                      <a:pt x="84" y="108"/>
                    </a:lnTo>
                    <a:lnTo>
                      <a:pt x="90" y="107"/>
                    </a:lnTo>
                    <a:lnTo>
                      <a:pt x="95" y="105"/>
                    </a:lnTo>
                    <a:lnTo>
                      <a:pt x="99" y="102"/>
                    </a:lnTo>
                    <a:lnTo>
                      <a:pt x="104" y="102"/>
                    </a:lnTo>
                    <a:lnTo>
                      <a:pt x="108" y="101"/>
                    </a:lnTo>
                    <a:lnTo>
                      <a:pt x="111" y="99"/>
                    </a:lnTo>
                    <a:lnTo>
                      <a:pt x="114" y="98"/>
                    </a:lnTo>
                    <a:lnTo>
                      <a:pt x="117" y="98"/>
                    </a:lnTo>
                    <a:lnTo>
                      <a:pt x="120" y="98"/>
                    </a:lnTo>
                    <a:lnTo>
                      <a:pt x="123" y="98"/>
                    </a:lnTo>
                    <a:lnTo>
                      <a:pt x="124" y="98"/>
                    </a:lnTo>
                    <a:lnTo>
                      <a:pt x="141" y="144"/>
                    </a:lnTo>
                    <a:lnTo>
                      <a:pt x="141" y="142"/>
                    </a:lnTo>
                    <a:lnTo>
                      <a:pt x="141" y="139"/>
                    </a:lnTo>
                    <a:lnTo>
                      <a:pt x="141" y="136"/>
                    </a:lnTo>
                    <a:lnTo>
                      <a:pt x="141" y="133"/>
                    </a:lnTo>
                    <a:lnTo>
                      <a:pt x="142" y="129"/>
                    </a:lnTo>
                    <a:lnTo>
                      <a:pt x="144" y="126"/>
                    </a:lnTo>
                    <a:lnTo>
                      <a:pt x="144" y="122"/>
                    </a:lnTo>
                    <a:lnTo>
                      <a:pt x="145" y="117"/>
                    </a:lnTo>
                    <a:lnTo>
                      <a:pt x="147" y="111"/>
                    </a:lnTo>
                    <a:lnTo>
                      <a:pt x="150" y="107"/>
                    </a:lnTo>
                    <a:lnTo>
                      <a:pt x="151" y="101"/>
                    </a:lnTo>
                    <a:lnTo>
                      <a:pt x="155" y="95"/>
                    </a:lnTo>
                    <a:lnTo>
                      <a:pt x="158" y="87"/>
                    </a:lnTo>
                    <a:lnTo>
                      <a:pt x="163" y="81"/>
                    </a:lnTo>
                    <a:lnTo>
                      <a:pt x="164" y="78"/>
                    </a:lnTo>
                    <a:lnTo>
                      <a:pt x="166" y="74"/>
                    </a:lnTo>
                    <a:lnTo>
                      <a:pt x="169" y="71"/>
                    </a:lnTo>
                    <a:lnTo>
                      <a:pt x="170" y="68"/>
                    </a:lnTo>
                    <a:lnTo>
                      <a:pt x="173" y="64"/>
                    </a:lnTo>
                    <a:lnTo>
                      <a:pt x="176" y="61"/>
                    </a:lnTo>
                    <a:lnTo>
                      <a:pt x="178" y="56"/>
                    </a:lnTo>
                    <a:lnTo>
                      <a:pt x="182" y="53"/>
                    </a:lnTo>
                    <a:lnTo>
                      <a:pt x="184" y="50"/>
                    </a:lnTo>
                    <a:lnTo>
                      <a:pt x="187" y="46"/>
                    </a:lnTo>
                    <a:lnTo>
                      <a:pt x="190" y="43"/>
                    </a:lnTo>
                    <a:lnTo>
                      <a:pt x="193" y="40"/>
                    </a:lnTo>
                    <a:lnTo>
                      <a:pt x="199" y="34"/>
                    </a:lnTo>
                    <a:lnTo>
                      <a:pt x="204" y="28"/>
                    </a:lnTo>
                    <a:lnTo>
                      <a:pt x="207" y="22"/>
                    </a:lnTo>
                    <a:lnTo>
                      <a:pt x="213" y="16"/>
                    </a:lnTo>
                    <a:lnTo>
                      <a:pt x="216" y="12"/>
                    </a:lnTo>
                    <a:lnTo>
                      <a:pt x="221" y="7"/>
                    </a:lnTo>
                    <a:lnTo>
                      <a:pt x="224" y="4"/>
                    </a:lnTo>
                    <a:lnTo>
                      <a:pt x="227" y="3"/>
                    </a:lnTo>
                    <a:lnTo>
                      <a:pt x="227" y="0"/>
                    </a:lnTo>
                    <a:lnTo>
                      <a:pt x="160" y="4"/>
                    </a:lnTo>
                    <a:lnTo>
                      <a:pt x="160" y="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720960" y="2305080"/>
                <a:ext cx="392040" cy="284040"/>
              </a:xfrm>
              <a:custGeom>
                <a:avLst/>
                <a:gdLst/>
                <a:ahLst/>
                <a:rect l="l" t="t" r="r" b="b"/>
                <a:pathLst>
                  <a:path w="494" h="360">
                    <a:moveTo>
                      <a:pt x="494" y="0"/>
                    </a:moveTo>
                    <a:lnTo>
                      <a:pt x="493" y="0"/>
                    </a:lnTo>
                    <a:lnTo>
                      <a:pt x="490" y="5"/>
                    </a:lnTo>
                    <a:lnTo>
                      <a:pt x="488" y="6"/>
                    </a:lnTo>
                    <a:lnTo>
                      <a:pt x="485" y="9"/>
                    </a:lnTo>
                    <a:lnTo>
                      <a:pt x="484" y="12"/>
                    </a:lnTo>
                    <a:lnTo>
                      <a:pt x="481" y="17"/>
                    </a:lnTo>
                    <a:lnTo>
                      <a:pt x="476" y="20"/>
                    </a:lnTo>
                    <a:lnTo>
                      <a:pt x="473" y="26"/>
                    </a:lnTo>
                    <a:lnTo>
                      <a:pt x="469" y="30"/>
                    </a:lnTo>
                    <a:lnTo>
                      <a:pt x="466" y="36"/>
                    </a:lnTo>
                    <a:lnTo>
                      <a:pt x="460" y="42"/>
                    </a:lnTo>
                    <a:lnTo>
                      <a:pt x="456" y="46"/>
                    </a:lnTo>
                    <a:lnTo>
                      <a:pt x="453" y="49"/>
                    </a:lnTo>
                    <a:lnTo>
                      <a:pt x="450" y="52"/>
                    </a:lnTo>
                    <a:lnTo>
                      <a:pt x="447" y="57"/>
                    </a:lnTo>
                    <a:lnTo>
                      <a:pt x="445" y="61"/>
                    </a:lnTo>
                    <a:lnTo>
                      <a:pt x="438" y="67"/>
                    </a:lnTo>
                    <a:lnTo>
                      <a:pt x="432" y="73"/>
                    </a:lnTo>
                    <a:lnTo>
                      <a:pt x="429" y="78"/>
                    </a:lnTo>
                    <a:lnTo>
                      <a:pt x="424" y="81"/>
                    </a:lnTo>
                    <a:lnTo>
                      <a:pt x="421" y="85"/>
                    </a:lnTo>
                    <a:lnTo>
                      <a:pt x="419" y="88"/>
                    </a:lnTo>
                    <a:lnTo>
                      <a:pt x="414" y="92"/>
                    </a:lnTo>
                    <a:lnTo>
                      <a:pt x="411" y="95"/>
                    </a:lnTo>
                    <a:lnTo>
                      <a:pt x="407" y="100"/>
                    </a:lnTo>
                    <a:lnTo>
                      <a:pt x="404" y="103"/>
                    </a:lnTo>
                    <a:lnTo>
                      <a:pt x="399" y="107"/>
                    </a:lnTo>
                    <a:lnTo>
                      <a:pt x="396" y="110"/>
                    </a:lnTo>
                    <a:lnTo>
                      <a:pt x="392" y="115"/>
                    </a:lnTo>
                    <a:lnTo>
                      <a:pt x="389" y="119"/>
                    </a:lnTo>
                    <a:lnTo>
                      <a:pt x="384" y="122"/>
                    </a:lnTo>
                    <a:lnTo>
                      <a:pt x="380" y="127"/>
                    </a:lnTo>
                    <a:lnTo>
                      <a:pt x="375" y="130"/>
                    </a:lnTo>
                    <a:lnTo>
                      <a:pt x="371" y="134"/>
                    </a:lnTo>
                    <a:lnTo>
                      <a:pt x="367" y="138"/>
                    </a:lnTo>
                    <a:lnTo>
                      <a:pt x="362" y="143"/>
                    </a:lnTo>
                    <a:lnTo>
                      <a:pt x="358" y="146"/>
                    </a:lnTo>
                    <a:lnTo>
                      <a:pt x="353" y="150"/>
                    </a:lnTo>
                    <a:lnTo>
                      <a:pt x="349" y="155"/>
                    </a:lnTo>
                    <a:lnTo>
                      <a:pt x="344" y="158"/>
                    </a:lnTo>
                    <a:lnTo>
                      <a:pt x="340" y="162"/>
                    </a:lnTo>
                    <a:lnTo>
                      <a:pt x="335" y="167"/>
                    </a:lnTo>
                    <a:lnTo>
                      <a:pt x="331" y="170"/>
                    </a:lnTo>
                    <a:lnTo>
                      <a:pt x="325" y="174"/>
                    </a:lnTo>
                    <a:lnTo>
                      <a:pt x="321" y="177"/>
                    </a:lnTo>
                    <a:lnTo>
                      <a:pt x="316" y="182"/>
                    </a:lnTo>
                    <a:lnTo>
                      <a:pt x="310" y="184"/>
                    </a:lnTo>
                    <a:lnTo>
                      <a:pt x="306" y="189"/>
                    </a:lnTo>
                    <a:lnTo>
                      <a:pt x="300" y="192"/>
                    </a:lnTo>
                    <a:lnTo>
                      <a:pt x="295" y="195"/>
                    </a:lnTo>
                    <a:lnTo>
                      <a:pt x="289" y="198"/>
                    </a:lnTo>
                    <a:lnTo>
                      <a:pt x="285" y="202"/>
                    </a:lnTo>
                    <a:lnTo>
                      <a:pt x="279" y="205"/>
                    </a:lnTo>
                    <a:lnTo>
                      <a:pt x="275" y="210"/>
                    </a:lnTo>
                    <a:lnTo>
                      <a:pt x="269" y="213"/>
                    </a:lnTo>
                    <a:lnTo>
                      <a:pt x="264" y="216"/>
                    </a:lnTo>
                    <a:lnTo>
                      <a:pt x="258" y="219"/>
                    </a:lnTo>
                    <a:lnTo>
                      <a:pt x="252" y="223"/>
                    </a:lnTo>
                    <a:lnTo>
                      <a:pt x="248" y="226"/>
                    </a:lnTo>
                    <a:lnTo>
                      <a:pt x="242" y="229"/>
                    </a:lnTo>
                    <a:lnTo>
                      <a:pt x="237" y="232"/>
                    </a:lnTo>
                    <a:lnTo>
                      <a:pt x="233" y="235"/>
                    </a:lnTo>
                    <a:lnTo>
                      <a:pt x="227" y="238"/>
                    </a:lnTo>
                    <a:lnTo>
                      <a:pt x="221" y="241"/>
                    </a:lnTo>
                    <a:lnTo>
                      <a:pt x="215" y="244"/>
                    </a:lnTo>
                    <a:lnTo>
                      <a:pt x="211" y="247"/>
                    </a:lnTo>
                    <a:lnTo>
                      <a:pt x="205" y="250"/>
                    </a:lnTo>
                    <a:lnTo>
                      <a:pt x="200" y="253"/>
                    </a:lnTo>
                    <a:lnTo>
                      <a:pt x="196" y="256"/>
                    </a:lnTo>
                    <a:lnTo>
                      <a:pt x="191" y="259"/>
                    </a:lnTo>
                    <a:lnTo>
                      <a:pt x="186" y="260"/>
                    </a:lnTo>
                    <a:lnTo>
                      <a:pt x="181" y="263"/>
                    </a:lnTo>
                    <a:lnTo>
                      <a:pt x="175" y="266"/>
                    </a:lnTo>
                    <a:lnTo>
                      <a:pt x="171" y="269"/>
                    </a:lnTo>
                    <a:lnTo>
                      <a:pt x="166" y="271"/>
                    </a:lnTo>
                    <a:lnTo>
                      <a:pt x="162" y="274"/>
                    </a:lnTo>
                    <a:lnTo>
                      <a:pt x="157" y="275"/>
                    </a:lnTo>
                    <a:lnTo>
                      <a:pt x="153" y="279"/>
                    </a:lnTo>
                    <a:lnTo>
                      <a:pt x="148" y="281"/>
                    </a:lnTo>
                    <a:lnTo>
                      <a:pt x="144" y="282"/>
                    </a:lnTo>
                    <a:lnTo>
                      <a:pt x="140" y="284"/>
                    </a:lnTo>
                    <a:lnTo>
                      <a:pt x="135" y="287"/>
                    </a:lnTo>
                    <a:lnTo>
                      <a:pt x="131" y="288"/>
                    </a:lnTo>
                    <a:lnTo>
                      <a:pt x="126" y="290"/>
                    </a:lnTo>
                    <a:lnTo>
                      <a:pt x="123" y="293"/>
                    </a:lnTo>
                    <a:lnTo>
                      <a:pt x="119" y="294"/>
                    </a:lnTo>
                    <a:lnTo>
                      <a:pt x="116" y="296"/>
                    </a:lnTo>
                    <a:lnTo>
                      <a:pt x="111" y="297"/>
                    </a:lnTo>
                    <a:lnTo>
                      <a:pt x="108" y="299"/>
                    </a:lnTo>
                    <a:lnTo>
                      <a:pt x="105" y="302"/>
                    </a:lnTo>
                    <a:lnTo>
                      <a:pt x="99" y="303"/>
                    </a:lnTo>
                    <a:lnTo>
                      <a:pt x="94" y="306"/>
                    </a:lnTo>
                    <a:lnTo>
                      <a:pt x="88" y="309"/>
                    </a:lnTo>
                    <a:lnTo>
                      <a:pt x="83" y="311"/>
                    </a:lnTo>
                    <a:lnTo>
                      <a:pt x="79" y="312"/>
                    </a:lnTo>
                    <a:lnTo>
                      <a:pt x="76" y="314"/>
                    </a:lnTo>
                    <a:lnTo>
                      <a:pt x="71" y="317"/>
                    </a:lnTo>
                    <a:lnTo>
                      <a:pt x="70" y="317"/>
                    </a:lnTo>
                    <a:lnTo>
                      <a:pt x="68" y="317"/>
                    </a:lnTo>
                    <a:lnTo>
                      <a:pt x="62" y="314"/>
                    </a:lnTo>
                    <a:lnTo>
                      <a:pt x="59" y="311"/>
                    </a:lnTo>
                    <a:lnTo>
                      <a:pt x="58" y="306"/>
                    </a:lnTo>
                    <a:lnTo>
                      <a:pt x="56" y="302"/>
                    </a:lnTo>
                    <a:lnTo>
                      <a:pt x="55" y="297"/>
                    </a:lnTo>
                    <a:lnTo>
                      <a:pt x="55" y="293"/>
                    </a:lnTo>
                    <a:lnTo>
                      <a:pt x="55" y="288"/>
                    </a:lnTo>
                    <a:lnTo>
                      <a:pt x="55" y="284"/>
                    </a:lnTo>
                    <a:lnTo>
                      <a:pt x="55" y="281"/>
                    </a:lnTo>
                    <a:lnTo>
                      <a:pt x="55" y="278"/>
                    </a:lnTo>
                    <a:lnTo>
                      <a:pt x="55" y="275"/>
                    </a:lnTo>
                    <a:lnTo>
                      <a:pt x="55" y="271"/>
                    </a:lnTo>
                    <a:lnTo>
                      <a:pt x="56" y="268"/>
                    </a:lnTo>
                    <a:lnTo>
                      <a:pt x="56" y="263"/>
                    </a:lnTo>
                    <a:lnTo>
                      <a:pt x="58" y="260"/>
                    </a:lnTo>
                    <a:lnTo>
                      <a:pt x="58" y="256"/>
                    </a:lnTo>
                    <a:lnTo>
                      <a:pt x="58" y="251"/>
                    </a:lnTo>
                    <a:lnTo>
                      <a:pt x="58" y="247"/>
                    </a:lnTo>
                    <a:lnTo>
                      <a:pt x="59" y="244"/>
                    </a:lnTo>
                    <a:lnTo>
                      <a:pt x="61" y="239"/>
                    </a:lnTo>
                    <a:lnTo>
                      <a:pt x="61" y="236"/>
                    </a:lnTo>
                    <a:lnTo>
                      <a:pt x="61" y="232"/>
                    </a:lnTo>
                    <a:lnTo>
                      <a:pt x="62" y="229"/>
                    </a:lnTo>
                    <a:lnTo>
                      <a:pt x="62" y="226"/>
                    </a:lnTo>
                    <a:lnTo>
                      <a:pt x="64" y="222"/>
                    </a:lnTo>
                    <a:lnTo>
                      <a:pt x="64" y="219"/>
                    </a:lnTo>
                    <a:lnTo>
                      <a:pt x="65" y="216"/>
                    </a:lnTo>
                    <a:lnTo>
                      <a:pt x="67" y="210"/>
                    </a:lnTo>
                    <a:lnTo>
                      <a:pt x="68" y="204"/>
                    </a:lnTo>
                    <a:lnTo>
                      <a:pt x="68" y="199"/>
                    </a:lnTo>
                    <a:lnTo>
                      <a:pt x="68" y="196"/>
                    </a:lnTo>
                    <a:lnTo>
                      <a:pt x="70" y="195"/>
                    </a:lnTo>
                    <a:lnTo>
                      <a:pt x="70" y="195"/>
                    </a:lnTo>
                    <a:lnTo>
                      <a:pt x="52" y="195"/>
                    </a:lnTo>
                    <a:lnTo>
                      <a:pt x="51" y="195"/>
                    </a:lnTo>
                    <a:lnTo>
                      <a:pt x="51" y="196"/>
                    </a:lnTo>
                    <a:lnTo>
                      <a:pt x="49" y="199"/>
                    </a:lnTo>
                    <a:lnTo>
                      <a:pt x="48" y="201"/>
                    </a:lnTo>
                    <a:lnTo>
                      <a:pt x="46" y="204"/>
                    </a:lnTo>
                    <a:lnTo>
                      <a:pt x="46" y="208"/>
                    </a:lnTo>
                    <a:lnTo>
                      <a:pt x="43" y="211"/>
                    </a:lnTo>
                    <a:lnTo>
                      <a:pt x="42" y="216"/>
                    </a:lnTo>
                    <a:lnTo>
                      <a:pt x="39" y="220"/>
                    </a:lnTo>
                    <a:lnTo>
                      <a:pt x="37" y="226"/>
                    </a:lnTo>
                    <a:lnTo>
                      <a:pt x="36" y="229"/>
                    </a:lnTo>
                    <a:lnTo>
                      <a:pt x="34" y="232"/>
                    </a:lnTo>
                    <a:lnTo>
                      <a:pt x="33" y="235"/>
                    </a:lnTo>
                    <a:lnTo>
                      <a:pt x="31" y="239"/>
                    </a:lnTo>
                    <a:lnTo>
                      <a:pt x="30" y="242"/>
                    </a:lnTo>
                    <a:lnTo>
                      <a:pt x="28" y="245"/>
                    </a:lnTo>
                    <a:lnTo>
                      <a:pt x="28" y="250"/>
                    </a:lnTo>
                    <a:lnTo>
                      <a:pt x="27" y="254"/>
                    </a:lnTo>
                    <a:lnTo>
                      <a:pt x="24" y="259"/>
                    </a:lnTo>
                    <a:lnTo>
                      <a:pt x="22" y="263"/>
                    </a:lnTo>
                    <a:lnTo>
                      <a:pt x="19" y="266"/>
                    </a:lnTo>
                    <a:lnTo>
                      <a:pt x="18" y="272"/>
                    </a:lnTo>
                    <a:lnTo>
                      <a:pt x="16" y="275"/>
                    </a:lnTo>
                    <a:lnTo>
                      <a:pt x="13" y="281"/>
                    </a:lnTo>
                    <a:lnTo>
                      <a:pt x="12" y="285"/>
                    </a:lnTo>
                    <a:lnTo>
                      <a:pt x="10" y="290"/>
                    </a:lnTo>
                    <a:lnTo>
                      <a:pt x="9" y="294"/>
                    </a:lnTo>
                    <a:lnTo>
                      <a:pt x="6" y="300"/>
                    </a:lnTo>
                    <a:lnTo>
                      <a:pt x="5" y="305"/>
                    </a:lnTo>
                    <a:lnTo>
                      <a:pt x="3" y="309"/>
                    </a:lnTo>
                    <a:lnTo>
                      <a:pt x="2" y="314"/>
                    </a:lnTo>
                    <a:lnTo>
                      <a:pt x="2" y="318"/>
                    </a:lnTo>
                    <a:lnTo>
                      <a:pt x="2" y="322"/>
                    </a:lnTo>
                    <a:lnTo>
                      <a:pt x="2" y="327"/>
                    </a:lnTo>
                    <a:lnTo>
                      <a:pt x="0" y="331"/>
                    </a:lnTo>
                    <a:lnTo>
                      <a:pt x="0" y="334"/>
                    </a:lnTo>
                    <a:lnTo>
                      <a:pt x="0" y="339"/>
                    </a:lnTo>
                    <a:lnTo>
                      <a:pt x="2" y="342"/>
                    </a:lnTo>
                    <a:lnTo>
                      <a:pt x="5" y="348"/>
                    </a:lnTo>
                    <a:lnTo>
                      <a:pt x="9" y="354"/>
                    </a:lnTo>
                    <a:lnTo>
                      <a:pt x="10" y="355"/>
                    </a:lnTo>
                    <a:lnTo>
                      <a:pt x="13" y="357"/>
                    </a:lnTo>
                    <a:lnTo>
                      <a:pt x="18" y="358"/>
                    </a:lnTo>
                    <a:lnTo>
                      <a:pt x="22" y="360"/>
                    </a:lnTo>
                    <a:lnTo>
                      <a:pt x="27" y="360"/>
                    </a:lnTo>
                    <a:lnTo>
                      <a:pt x="31" y="360"/>
                    </a:lnTo>
                    <a:lnTo>
                      <a:pt x="34" y="360"/>
                    </a:lnTo>
                    <a:lnTo>
                      <a:pt x="37" y="360"/>
                    </a:lnTo>
                    <a:lnTo>
                      <a:pt x="42" y="360"/>
                    </a:lnTo>
                    <a:lnTo>
                      <a:pt x="45" y="360"/>
                    </a:lnTo>
                    <a:lnTo>
                      <a:pt x="48" y="358"/>
                    </a:lnTo>
                    <a:lnTo>
                      <a:pt x="51" y="358"/>
                    </a:lnTo>
                    <a:lnTo>
                      <a:pt x="55" y="357"/>
                    </a:lnTo>
                    <a:lnTo>
                      <a:pt x="58" y="355"/>
                    </a:lnTo>
                    <a:lnTo>
                      <a:pt x="62" y="354"/>
                    </a:lnTo>
                    <a:lnTo>
                      <a:pt x="65" y="354"/>
                    </a:lnTo>
                    <a:lnTo>
                      <a:pt x="70" y="352"/>
                    </a:lnTo>
                    <a:lnTo>
                      <a:pt x="76" y="351"/>
                    </a:lnTo>
                    <a:lnTo>
                      <a:pt x="79" y="349"/>
                    </a:lnTo>
                    <a:lnTo>
                      <a:pt x="85" y="348"/>
                    </a:lnTo>
                    <a:lnTo>
                      <a:pt x="88" y="346"/>
                    </a:lnTo>
                    <a:lnTo>
                      <a:pt x="94" y="345"/>
                    </a:lnTo>
                    <a:lnTo>
                      <a:pt x="98" y="343"/>
                    </a:lnTo>
                    <a:lnTo>
                      <a:pt x="102" y="340"/>
                    </a:lnTo>
                    <a:lnTo>
                      <a:pt x="107" y="339"/>
                    </a:lnTo>
                    <a:lnTo>
                      <a:pt x="113" y="337"/>
                    </a:lnTo>
                    <a:lnTo>
                      <a:pt x="117" y="336"/>
                    </a:lnTo>
                    <a:lnTo>
                      <a:pt x="122" y="333"/>
                    </a:lnTo>
                    <a:lnTo>
                      <a:pt x="128" y="331"/>
                    </a:lnTo>
                    <a:lnTo>
                      <a:pt x="132" y="328"/>
                    </a:lnTo>
                    <a:lnTo>
                      <a:pt x="138" y="327"/>
                    </a:lnTo>
                    <a:lnTo>
                      <a:pt x="143" y="324"/>
                    </a:lnTo>
                    <a:lnTo>
                      <a:pt x="147" y="322"/>
                    </a:lnTo>
                    <a:lnTo>
                      <a:pt x="153" y="321"/>
                    </a:lnTo>
                    <a:lnTo>
                      <a:pt x="159" y="318"/>
                    </a:lnTo>
                    <a:lnTo>
                      <a:pt x="163" y="315"/>
                    </a:lnTo>
                    <a:lnTo>
                      <a:pt x="168" y="314"/>
                    </a:lnTo>
                    <a:lnTo>
                      <a:pt x="174" y="311"/>
                    </a:lnTo>
                    <a:lnTo>
                      <a:pt x="178" y="309"/>
                    </a:lnTo>
                    <a:lnTo>
                      <a:pt x="184" y="306"/>
                    </a:lnTo>
                    <a:lnTo>
                      <a:pt x="189" y="305"/>
                    </a:lnTo>
                    <a:lnTo>
                      <a:pt x="194" y="302"/>
                    </a:lnTo>
                    <a:lnTo>
                      <a:pt x="199" y="300"/>
                    </a:lnTo>
                    <a:lnTo>
                      <a:pt x="203" y="297"/>
                    </a:lnTo>
                    <a:lnTo>
                      <a:pt x="208" y="294"/>
                    </a:lnTo>
                    <a:lnTo>
                      <a:pt x="212" y="293"/>
                    </a:lnTo>
                    <a:lnTo>
                      <a:pt x="217" y="290"/>
                    </a:lnTo>
                    <a:lnTo>
                      <a:pt x="221" y="288"/>
                    </a:lnTo>
                    <a:lnTo>
                      <a:pt x="226" y="285"/>
                    </a:lnTo>
                    <a:lnTo>
                      <a:pt x="230" y="284"/>
                    </a:lnTo>
                    <a:lnTo>
                      <a:pt x="235" y="281"/>
                    </a:lnTo>
                    <a:lnTo>
                      <a:pt x="239" y="279"/>
                    </a:lnTo>
                    <a:lnTo>
                      <a:pt x="242" y="278"/>
                    </a:lnTo>
                    <a:lnTo>
                      <a:pt x="246" y="275"/>
                    </a:lnTo>
                    <a:lnTo>
                      <a:pt x="251" y="274"/>
                    </a:lnTo>
                    <a:lnTo>
                      <a:pt x="254" y="272"/>
                    </a:lnTo>
                    <a:lnTo>
                      <a:pt x="258" y="271"/>
                    </a:lnTo>
                    <a:lnTo>
                      <a:pt x="261" y="269"/>
                    </a:lnTo>
                    <a:lnTo>
                      <a:pt x="267" y="265"/>
                    </a:lnTo>
                    <a:lnTo>
                      <a:pt x="273" y="263"/>
                    </a:lnTo>
                    <a:lnTo>
                      <a:pt x="278" y="260"/>
                    </a:lnTo>
                    <a:lnTo>
                      <a:pt x="282" y="259"/>
                    </a:lnTo>
                    <a:lnTo>
                      <a:pt x="285" y="257"/>
                    </a:lnTo>
                    <a:lnTo>
                      <a:pt x="288" y="256"/>
                    </a:lnTo>
                    <a:lnTo>
                      <a:pt x="289" y="254"/>
                    </a:lnTo>
                    <a:lnTo>
                      <a:pt x="289" y="254"/>
                    </a:lnTo>
                    <a:lnTo>
                      <a:pt x="291" y="253"/>
                    </a:lnTo>
                    <a:lnTo>
                      <a:pt x="294" y="250"/>
                    </a:lnTo>
                    <a:lnTo>
                      <a:pt x="297" y="248"/>
                    </a:lnTo>
                    <a:lnTo>
                      <a:pt x="301" y="245"/>
                    </a:lnTo>
                    <a:lnTo>
                      <a:pt x="304" y="242"/>
                    </a:lnTo>
                    <a:lnTo>
                      <a:pt x="309" y="241"/>
                    </a:lnTo>
                    <a:lnTo>
                      <a:pt x="313" y="236"/>
                    </a:lnTo>
                    <a:lnTo>
                      <a:pt x="318" y="233"/>
                    </a:lnTo>
                    <a:lnTo>
                      <a:pt x="324" y="229"/>
                    </a:lnTo>
                    <a:lnTo>
                      <a:pt x="328" y="225"/>
                    </a:lnTo>
                    <a:lnTo>
                      <a:pt x="334" y="220"/>
                    </a:lnTo>
                    <a:lnTo>
                      <a:pt x="340" y="216"/>
                    </a:lnTo>
                    <a:lnTo>
                      <a:pt x="346" y="211"/>
                    </a:lnTo>
                    <a:lnTo>
                      <a:pt x="353" y="207"/>
                    </a:lnTo>
                    <a:lnTo>
                      <a:pt x="359" y="199"/>
                    </a:lnTo>
                    <a:lnTo>
                      <a:pt x="367" y="195"/>
                    </a:lnTo>
                    <a:lnTo>
                      <a:pt x="370" y="192"/>
                    </a:lnTo>
                    <a:lnTo>
                      <a:pt x="373" y="189"/>
                    </a:lnTo>
                    <a:lnTo>
                      <a:pt x="375" y="186"/>
                    </a:lnTo>
                    <a:lnTo>
                      <a:pt x="380" y="183"/>
                    </a:lnTo>
                    <a:lnTo>
                      <a:pt x="386" y="177"/>
                    </a:lnTo>
                    <a:lnTo>
                      <a:pt x="393" y="171"/>
                    </a:lnTo>
                    <a:lnTo>
                      <a:pt x="396" y="168"/>
                    </a:lnTo>
                    <a:lnTo>
                      <a:pt x="399" y="165"/>
                    </a:lnTo>
                    <a:lnTo>
                      <a:pt x="404" y="162"/>
                    </a:lnTo>
                    <a:lnTo>
                      <a:pt x="407" y="159"/>
                    </a:lnTo>
                    <a:lnTo>
                      <a:pt x="414" y="152"/>
                    </a:lnTo>
                    <a:lnTo>
                      <a:pt x="420" y="146"/>
                    </a:lnTo>
                    <a:lnTo>
                      <a:pt x="426" y="140"/>
                    </a:lnTo>
                    <a:lnTo>
                      <a:pt x="433" y="134"/>
                    </a:lnTo>
                    <a:lnTo>
                      <a:pt x="439" y="128"/>
                    </a:lnTo>
                    <a:lnTo>
                      <a:pt x="444" y="121"/>
                    </a:lnTo>
                    <a:lnTo>
                      <a:pt x="450" y="115"/>
                    </a:lnTo>
                    <a:lnTo>
                      <a:pt x="456" y="109"/>
                    </a:lnTo>
                    <a:lnTo>
                      <a:pt x="459" y="103"/>
                    </a:lnTo>
                    <a:lnTo>
                      <a:pt x="463" y="97"/>
                    </a:lnTo>
                    <a:lnTo>
                      <a:pt x="467" y="91"/>
                    </a:lnTo>
                    <a:lnTo>
                      <a:pt x="470" y="87"/>
                    </a:lnTo>
                    <a:lnTo>
                      <a:pt x="473" y="81"/>
                    </a:lnTo>
                    <a:lnTo>
                      <a:pt x="476" y="75"/>
                    </a:lnTo>
                    <a:lnTo>
                      <a:pt x="479" y="70"/>
                    </a:lnTo>
                    <a:lnTo>
                      <a:pt x="482" y="64"/>
                    </a:lnTo>
                    <a:lnTo>
                      <a:pt x="484" y="60"/>
                    </a:lnTo>
                    <a:lnTo>
                      <a:pt x="485" y="55"/>
                    </a:lnTo>
                    <a:lnTo>
                      <a:pt x="487" y="49"/>
                    </a:lnTo>
                    <a:lnTo>
                      <a:pt x="488" y="46"/>
                    </a:lnTo>
                    <a:lnTo>
                      <a:pt x="490" y="42"/>
                    </a:lnTo>
                    <a:lnTo>
                      <a:pt x="491" y="38"/>
                    </a:lnTo>
                    <a:lnTo>
                      <a:pt x="491" y="35"/>
                    </a:lnTo>
                    <a:lnTo>
                      <a:pt x="493" y="30"/>
                    </a:lnTo>
                    <a:lnTo>
                      <a:pt x="493" y="27"/>
                    </a:lnTo>
                    <a:lnTo>
                      <a:pt x="493" y="23"/>
                    </a:lnTo>
                    <a:lnTo>
                      <a:pt x="493" y="20"/>
                    </a:lnTo>
                    <a:lnTo>
                      <a:pt x="494" y="17"/>
                    </a:lnTo>
                    <a:lnTo>
                      <a:pt x="494" y="11"/>
                    </a:lnTo>
                    <a:lnTo>
                      <a:pt x="494" y="8"/>
                    </a:lnTo>
                    <a:lnTo>
                      <a:pt x="494" y="3"/>
                    </a:lnTo>
                    <a:lnTo>
                      <a:pt x="494" y="2"/>
                    </a:lnTo>
                    <a:lnTo>
                      <a:pt x="494" y="0"/>
                    </a:lnTo>
                    <a:lnTo>
                      <a:pt x="49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760560" y="2381400"/>
                <a:ext cx="298440" cy="282600"/>
              </a:xfrm>
              <a:custGeom>
                <a:avLst/>
                <a:gdLst/>
                <a:ahLst/>
                <a:rect l="l" t="t" r="r" b="b"/>
                <a:pathLst>
                  <a:path w="376" h="356">
                    <a:moveTo>
                      <a:pt x="356" y="36"/>
                    </a:moveTo>
                    <a:lnTo>
                      <a:pt x="356" y="36"/>
                    </a:lnTo>
                    <a:lnTo>
                      <a:pt x="356" y="39"/>
                    </a:lnTo>
                    <a:lnTo>
                      <a:pt x="356" y="41"/>
                    </a:lnTo>
                    <a:lnTo>
                      <a:pt x="356" y="47"/>
                    </a:lnTo>
                    <a:lnTo>
                      <a:pt x="354" y="50"/>
                    </a:lnTo>
                    <a:lnTo>
                      <a:pt x="354" y="53"/>
                    </a:lnTo>
                    <a:lnTo>
                      <a:pt x="354" y="58"/>
                    </a:lnTo>
                    <a:lnTo>
                      <a:pt x="354" y="61"/>
                    </a:lnTo>
                    <a:lnTo>
                      <a:pt x="353" y="65"/>
                    </a:lnTo>
                    <a:lnTo>
                      <a:pt x="353" y="70"/>
                    </a:lnTo>
                    <a:lnTo>
                      <a:pt x="351" y="74"/>
                    </a:lnTo>
                    <a:lnTo>
                      <a:pt x="351" y="80"/>
                    </a:lnTo>
                    <a:lnTo>
                      <a:pt x="351" y="85"/>
                    </a:lnTo>
                    <a:lnTo>
                      <a:pt x="350" y="90"/>
                    </a:lnTo>
                    <a:lnTo>
                      <a:pt x="348" y="95"/>
                    </a:lnTo>
                    <a:lnTo>
                      <a:pt x="348" y="101"/>
                    </a:lnTo>
                    <a:lnTo>
                      <a:pt x="345" y="107"/>
                    </a:lnTo>
                    <a:lnTo>
                      <a:pt x="344" y="113"/>
                    </a:lnTo>
                    <a:lnTo>
                      <a:pt x="342" y="119"/>
                    </a:lnTo>
                    <a:lnTo>
                      <a:pt x="341" y="125"/>
                    </a:lnTo>
                    <a:lnTo>
                      <a:pt x="338" y="131"/>
                    </a:lnTo>
                    <a:lnTo>
                      <a:pt x="336" y="136"/>
                    </a:lnTo>
                    <a:lnTo>
                      <a:pt x="332" y="142"/>
                    </a:lnTo>
                    <a:lnTo>
                      <a:pt x="330" y="150"/>
                    </a:lnTo>
                    <a:lnTo>
                      <a:pt x="326" y="156"/>
                    </a:lnTo>
                    <a:lnTo>
                      <a:pt x="323" y="162"/>
                    </a:lnTo>
                    <a:lnTo>
                      <a:pt x="320" y="168"/>
                    </a:lnTo>
                    <a:lnTo>
                      <a:pt x="317" y="175"/>
                    </a:lnTo>
                    <a:lnTo>
                      <a:pt x="311" y="179"/>
                    </a:lnTo>
                    <a:lnTo>
                      <a:pt x="307" y="185"/>
                    </a:lnTo>
                    <a:lnTo>
                      <a:pt x="302" y="191"/>
                    </a:lnTo>
                    <a:lnTo>
                      <a:pt x="299" y="197"/>
                    </a:lnTo>
                    <a:lnTo>
                      <a:pt x="293" y="203"/>
                    </a:lnTo>
                    <a:lnTo>
                      <a:pt x="287" y="209"/>
                    </a:lnTo>
                    <a:lnTo>
                      <a:pt x="281" y="214"/>
                    </a:lnTo>
                    <a:lnTo>
                      <a:pt x="277" y="220"/>
                    </a:lnTo>
                    <a:lnTo>
                      <a:pt x="271" y="224"/>
                    </a:lnTo>
                    <a:lnTo>
                      <a:pt x="265" y="230"/>
                    </a:lnTo>
                    <a:lnTo>
                      <a:pt x="259" y="234"/>
                    </a:lnTo>
                    <a:lnTo>
                      <a:pt x="253" y="240"/>
                    </a:lnTo>
                    <a:lnTo>
                      <a:pt x="246" y="245"/>
                    </a:lnTo>
                    <a:lnTo>
                      <a:pt x="240" y="249"/>
                    </a:lnTo>
                    <a:lnTo>
                      <a:pt x="234" y="254"/>
                    </a:lnTo>
                    <a:lnTo>
                      <a:pt x="228" y="260"/>
                    </a:lnTo>
                    <a:lnTo>
                      <a:pt x="224" y="261"/>
                    </a:lnTo>
                    <a:lnTo>
                      <a:pt x="221" y="263"/>
                    </a:lnTo>
                    <a:lnTo>
                      <a:pt x="218" y="264"/>
                    </a:lnTo>
                    <a:lnTo>
                      <a:pt x="215" y="267"/>
                    </a:lnTo>
                    <a:lnTo>
                      <a:pt x="207" y="271"/>
                    </a:lnTo>
                    <a:lnTo>
                      <a:pt x="201" y="276"/>
                    </a:lnTo>
                    <a:lnTo>
                      <a:pt x="198" y="276"/>
                    </a:lnTo>
                    <a:lnTo>
                      <a:pt x="194" y="279"/>
                    </a:lnTo>
                    <a:lnTo>
                      <a:pt x="191" y="280"/>
                    </a:lnTo>
                    <a:lnTo>
                      <a:pt x="188" y="282"/>
                    </a:lnTo>
                    <a:lnTo>
                      <a:pt x="181" y="286"/>
                    </a:lnTo>
                    <a:lnTo>
                      <a:pt x="175" y="289"/>
                    </a:lnTo>
                    <a:lnTo>
                      <a:pt x="167" y="292"/>
                    </a:lnTo>
                    <a:lnTo>
                      <a:pt x="161" y="295"/>
                    </a:lnTo>
                    <a:lnTo>
                      <a:pt x="155" y="298"/>
                    </a:lnTo>
                    <a:lnTo>
                      <a:pt x="149" y="301"/>
                    </a:lnTo>
                    <a:lnTo>
                      <a:pt x="142" y="303"/>
                    </a:lnTo>
                    <a:lnTo>
                      <a:pt x="138" y="306"/>
                    </a:lnTo>
                    <a:lnTo>
                      <a:pt x="132" y="307"/>
                    </a:lnTo>
                    <a:lnTo>
                      <a:pt x="126" y="310"/>
                    </a:lnTo>
                    <a:lnTo>
                      <a:pt x="120" y="312"/>
                    </a:lnTo>
                    <a:lnTo>
                      <a:pt x="115" y="313"/>
                    </a:lnTo>
                    <a:lnTo>
                      <a:pt x="109" y="313"/>
                    </a:lnTo>
                    <a:lnTo>
                      <a:pt x="105" y="315"/>
                    </a:lnTo>
                    <a:lnTo>
                      <a:pt x="99" y="316"/>
                    </a:lnTo>
                    <a:lnTo>
                      <a:pt x="94" y="316"/>
                    </a:lnTo>
                    <a:lnTo>
                      <a:pt x="90" y="317"/>
                    </a:lnTo>
                    <a:lnTo>
                      <a:pt x="87" y="317"/>
                    </a:lnTo>
                    <a:lnTo>
                      <a:pt x="83" y="317"/>
                    </a:lnTo>
                    <a:lnTo>
                      <a:pt x="78" y="317"/>
                    </a:lnTo>
                    <a:lnTo>
                      <a:pt x="75" y="317"/>
                    </a:lnTo>
                    <a:lnTo>
                      <a:pt x="72" y="319"/>
                    </a:lnTo>
                    <a:lnTo>
                      <a:pt x="65" y="319"/>
                    </a:lnTo>
                    <a:lnTo>
                      <a:pt x="60" y="319"/>
                    </a:lnTo>
                    <a:lnTo>
                      <a:pt x="54" y="317"/>
                    </a:lnTo>
                    <a:lnTo>
                      <a:pt x="51" y="317"/>
                    </a:lnTo>
                    <a:lnTo>
                      <a:pt x="47" y="316"/>
                    </a:lnTo>
                    <a:lnTo>
                      <a:pt x="44" y="316"/>
                    </a:lnTo>
                    <a:lnTo>
                      <a:pt x="41" y="313"/>
                    </a:lnTo>
                    <a:lnTo>
                      <a:pt x="40" y="313"/>
                    </a:lnTo>
                    <a:lnTo>
                      <a:pt x="38" y="313"/>
                    </a:lnTo>
                    <a:lnTo>
                      <a:pt x="37" y="312"/>
                    </a:lnTo>
                    <a:lnTo>
                      <a:pt x="35" y="310"/>
                    </a:lnTo>
                    <a:lnTo>
                      <a:pt x="35" y="306"/>
                    </a:lnTo>
                    <a:lnTo>
                      <a:pt x="35" y="303"/>
                    </a:lnTo>
                    <a:lnTo>
                      <a:pt x="37" y="300"/>
                    </a:lnTo>
                    <a:lnTo>
                      <a:pt x="38" y="297"/>
                    </a:lnTo>
                    <a:lnTo>
                      <a:pt x="40" y="294"/>
                    </a:lnTo>
                    <a:lnTo>
                      <a:pt x="41" y="289"/>
                    </a:lnTo>
                    <a:lnTo>
                      <a:pt x="43" y="285"/>
                    </a:lnTo>
                    <a:lnTo>
                      <a:pt x="44" y="280"/>
                    </a:lnTo>
                    <a:lnTo>
                      <a:pt x="47" y="274"/>
                    </a:lnTo>
                    <a:lnTo>
                      <a:pt x="48" y="269"/>
                    </a:lnTo>
                    <a:lnTo>
                      <a:pt x="51" y="264"/>
                    </a:lnTo>
                    <a:lnTo>
                      <a:pt x="54" y="258"/>
                    </a:lnTo>
                    <a:lnTo>
                      <a:pt x="57" y="254"/>
                    </a:lnTo>
                    <a:lnTo>
                      <a:pt x="59" y="248"/>
                    </a:lnTo>
                    <a:lnTo>
                      <a:pt x="62" y="243"/>
                    </a:lnTo>
                    <a:lnTo>
                      <a:pt x="63" y="239"/>
                    </a:lnTo>
                    <a:lnTo>
                      <a:pt x="66" y="236"/>
                    </a:lnTo>
                    <a:lnTo>
                      <a:pt x="69" y="231"/>
                    </a:lnTo>
                    <a:lnTo>
                      <a:pt x="71" y="230"/>
                    </a:lnTo>
                    <a:lnTo>
                      <a:pt x="37" y="242"/>
                    </a:lnTo>
                    <a:lnTo>
                      <a:pt x="35" y="242"/>
                    </a:lnTo>
                    <a:lnTo>
                      <a:pt x="32" y="245"/>
                    </a:lnTo>
                    <a:lnTo>
                      <a:pt x="28" y="249"/>
                    </a:lnTo>
                    <a:lnTo>
                      <a:pt x="25" y="254"/>
                    </a:lnTo>
                    <a:lnTo>
                      <a:pt x="22" y="257"/>
                    </a:lnTo>
                    <a:lnTo>
                      <a:pt x="19" y="261"/>
                    </a:lnTo>
                    <a:lnTo>
                      <a:pt x="16" y="264"/>
                    </a:lnTo>
                    <a:lnTo>
                      <a:pt x="14" y="269"/>
                    </a:lnTo>
                    <a:lnTo>
                      <a:pt x="11" y="271"/>
                    </a:lnTo>
                    <a:lnTo>
                      <a:pt x="10" y="277"/>
                    </a:lnTo>
                    <a:lnTo>
                      <a:pt x="7" y="282"/>
                    </a:lnTo>
                    <a:lnTo>
                      <a:pt x="7" y="288"/>
                    </a:lnTo>
                    <a:lnTo>
                      <a:pt x="4" y="292"/>
                    </a:lnTo>
                    <a:lnTo>
                      <a:pt x="2" y="298"/>
                    </a:lnTo>
                    <a:lnTo>
                      <a:pt x="2" y="303"/>
                    </a:lnTo>
                    <a:lnTo>
                      <a:pt x="1" y="309"/>
                    </a:lnTo>
                    <a:lnTo>
                      <a:pt x="0" y="313"/>
                    </a:lnTo>
                    <a:lnTo>
                      <a:pt x="0" y="319"/>
                    </a:lnTo>
                    <a:lnTo>
                      <a:pt x="0" y="325"/>
                    </a:lnTo>
                    <a:lnTo>
                      <a:pt x="0" y="329"/>
                    </a:lnTo>
                    <a:lnTo>
                      <a:pt x="0" y="334"/>
                    </a:lnTo>
                    <a:lnTo>
                      <a:pt x="0" y="338"/>
                    </a:lnTo>
                    <a:lnTo>
                      <a:pt x="0" y="341"/>
                    </a:lnTo>
                    <a:lnTo>
                      <a:pt x="0" y="346"/>
                    </a:lnTo>
                    <a:lnTo>
                      <a:pt x="0" y="350"/>
                    </a:lnTo>
                    <a:lnTo>
                      <a:pt x="1" y="352"/>
                    </a:lnTo>
                    <a:lnTo>
                      <a:pt x="2" y="352"/>
                    </a:lnTo>
                    <a:lnTo>
                      <a:pt x="4" y="353"/>
                    </a:lnTo>
                    <a:lnTo>
                      <a:pt x="8" y="353"/>
                    </a:lnTo>
                    <a:lnTo>
                      <a:pt x="11" y="355"/>
                    </a:lnTo>
                    <a:lnTo>
                      <a:pt x="17" y="355"/>
                    </a:lnTo>
                    <a:lnTo>
                      <a:pt x="20" y="355"/>
                    </a:lnTo>
                    <a:lnTo>
                      <a:pt x="23" y="355"/>
                    </a:lnTo>
                    <a:lnTo>
                      <a:pt x="28" y="355"/>
                    </a:lnTo>
                    <a:lnTo>
                      <a:pt x="31" y="356"/>
                    </a:lnTo>
                    <a:lnTo>
                      <a:pt x="35" y="355"/>
                    </a:lnTo>
                    <a:lnTo>
                      <a:pt x="38" y="355"/>
                    </a:lnTo>
                    <a:lnTo>
                      <a:pt x="43" y="355"/>
                    </a:lnTo>
                    <a:lnTo>
                      <a:pt x="47" y="355"/>
                    </a:lnTo>
                    <a:lnTo>
                      <a:pt x="51" y="355"/>
                    </a:lnTo>
                    <a:lnTo>
                      <a:pt x="56" y="355"/>
                    </a:lnTo>
                    <a:lnTo>
                      <a:pt x="62" y="353"/>
                    </a:lnTo>
                    <a:lnTo>
                      <a:pt x="66" y="353"/>
                    </a:lnTo>
                    <a:lnTo>
                      <a:pt x="72" y="352"/>
                    </a:lnTo>
                    <a:lnTo>
                      <a:pt x="78" y="352"/>
                    </a:lnTo>
                    <a:lnTo>
                      <a:pt x="84" y="350"/>
                    </a:lnTo>
                    <a:lnTo>
                      <a:pt x="90" y="349"/>
                    </a:lnTo>
                    <a:lnTo>
                      <a:pt x="96" y="347"/>
                    </a:lnTo>
                    <a:lnTo>
                      <a:pt x="103" y="346"/>
                    </a:lnTo>
                    <a:lnTo>
                      <a:pt x="106" y="344"/>
                    </a:lnTo>
                    <a:lnTo>
                      <a:pt x="109" y="344"/>
                    </a:lnTo>
                    <a:lnTo>
                      <a:pt x="112" y="344"/>
                    </a:lnTo>
                    <a:lnTo>
                      <a:pt x="117" y="343"/>
                    </a:lnTo>
                    <a:lnTo>
                      <a:pt x="120" y="341"/>
                    </a:lnTo>
                    <a:lnTo>
                      <a:pt x="123" y="340"/>
                    </a:lnTo>
                    <a:lnTo>
                      <a:pt x="127" y="338"/>
                    </a:lnTo>
                    <a:lnTo>
                      <a:pt x="130" y="337"/>
                    </a:lnTo>
                    <a:lnTo>
                      <a:pt x="135" y="335"/>
                    </a:lnTo>
                    <a:lnTo>
                      <a:pt x="138" y="334"/>
                    </a:lnTo>
                    <a:lnTo>
                      <a:pt x="142" y="332"/>
                    </a:lnTo>
                    <a:lnTo>
                      <a:pt x="145" y="332"/>
                    </a:lnTo>
                    <a:lnTo>
                      <a:pt x="149" y="329"/>
                    </a:lnTo>
                    <a:lnTo>
                      <a:pt x="152" y="328"/>
                    </a:lnTo>
                    <a:lnTo>
                      <a:pt x="157" y="326"/>
                    </a:lnTo>
                    <a:lnTo>
                      <a:pt x="160" y="325"/>
                    </a:lnTo>
                    <a:lnTo>
                      <a:pt x="164" y="323"/>
                    </a:lnTo>
                    <a:lnTo>
                      <a:pt x="169" y="322"/>
                    </a:lnTo>
                    <a:lnTo>
                      <a:pt x="172" y="320"/>
                    </a:lnTo>
                    <a:lnTo>
                      <a:pt x="176" y="319"/>
                    </a:lnTo>
                    <a:lnTo>
                      <a:pt x="181" y="317"/>
                    </a:lnTo>
                    <a:lnTo>
                      <a:pt x="184" y="315"/>
                    </a:lnTo>
                    <a:lnTo>
                      <a:pt x="188" y="313"/>
                    </a:lnTo>
                    <a:lnTo>
                      <a:pt x="192" y="312"/>
                    </a:lnTo>
                    <a:lnTo>
                      <a:pt x="195" y="310"/>
                    </a:lnTo>
                    <a:lnTo>
                      <a:pt x="200" y="307"/>
                    </a:lnTo>
                    <a:lnTo>
                      <a:pt x="204" y="306"/>
                    </a:lnTo>
                    <a:lnTo>
                      <a:pt x="209" y="304"/>
                    </a:lnTo>
                    <a:lnTo>
                      <a:pt x="212" y="301"/>
                    </a:lnTo>
                    <a:lnTo>
                      <a:pt x="216" y="300"/>
                    </a:lnTo>
                    <a:lnTo>
                      <a:pt x="219" y="297"/>
                    </a:lnTo>
                    <a:lnTo>
                      <a:pt x="224" y="295"/>
                    </a:lnTo>
                    <a:lnTo>
                      <a:pt x="228" y="292"/>
                    </a:lnTo>
                    <a:lnTo>
                      <a:pt x="231" y="291"/>
                    </a:lnTo>
                    <a:lnTo>
                      <a:pt x="235" y="289"/>
                    </a:lnTo>
                    <a:lnTo>
                      <a:pt x="240" y="288"/>
                    </a:lnTo>
                    <a:lnTo>
                      <a:pt x="243" y="285"/>
                    </a:lnTo>
                    <a:lnTo>
                      <a:pt x="247" y="282"/>
                    </a:lnTo>
                    <a:lnTo>
                      <a:pt x="250" y="280"/>
                    </a:lnTo>
                    <a:lnTo>
                      <a:pt x="255" y="277"/>
                    </a:lnTo>
                    <a:lnTo>
                      <a:pt x="258" y="276"/>
                    </a:lnTo>
                    <a:lnTo>
                      <a:pt x="262" y="273"/>
                    </a:lnTo>
                    <a:lnTo>
                      <a:pt x="265" y="270"/>
                    </a:lnTo>
                    <a:lnTo>
                      <a:pt x="270" y="269"/>
                    </a:lnTo>
                    <a:lnTo>
                      <a:pt x="273" y="266"/>
                    </a:lnTo>
                    <a:lnTo>
                      <a:pt x="277" y="263"/>
                    </a:lnTo>
                    <a:lnTo>
                      <a:pt x="280" y="261"/>
                    </a:lnTo>
                    <a:lnTo>
                      <a:pt x="284" y="258"/>
                    </a:lnTo>
                    <a:lnTo>
                      <a:pt x="287" y="255"/>
                    </a:lnTo>
                    <a:lnTo>
                      <a:pt x="290" y="254"/>
                    </a:lnTo>
                    <a:lnTo>
                      <a:pt x="293" y="251"/>
                    </a:lnTo>
                    <a:lnTo>
                      <a:pt x="298" y="249"/>
                    </a:lnTo>
                    <a:lnTo>
                      <a:pt x="304" y="243"/>
                    </a:lnTo>
                    <a:lnTo>
                      <a:pt x="310" y="239"/>
                    </a:lnTo>
                    <a:lnTo>
                      <a:pt x="316" y="233"/>
                    </a:lnTo>
                    <a:lnTo>
                      <a:pt x="322" y="227"/>
                    </a:lnTo>
                    <a:lnTo>
                      <a:pt x="326" y="223"/>
                    </a:lnTo>
                    <a:lnTo>
                      <a:pt x="332" y="217"/>
                    </a:lnTo>
                    <a:lnTo>
                      <a:pt x="336" y="212"/>
                    </a:lnTo>
                    <a:lnTo>
                      <a:pt x="342" y="208"/>
                    </a:lnTo>
                    <a:lnTo>
                      <a:pt x="345" y="202"/>
                    </a:lnTo>
                    <a:lnTo>
                      <a:pt x="350" y="196"/>
                    </a:lnTo>
                    <a:lnTo>
                      <a:pt x="353" y="190"/>
                    </a:lnTo>
                    <a:lnTo>
                      <a:pt x="356" y="185"/>
                    </a:lnTo>
                    <a:lnTo>
                      <a:pt x="359" y="179"/>
                    </a:lnTo>
                    <a:lnTo>
                      <a:pt x="362" y="175"/>
                    </a:lnTo>
                    <a:lnTo>
                      <a:pt x="365" y="171"/>
                    </a:lnTo>
                    <a:lnTo>
                      <a:pt x="366" y="165"/>
                    </a:lnTo>
                    <a:lnTo>
                      <a:pt x="368" y="160"/>
                    </a:lnTo>
                    <a:lnTo>
                      <a:pt x="370" y="156"/>
                    </a:lnTo>
                    <a:lnTo>
                      <a:pt x="370" y="150"/>
                    </a:lnTo>
                    <a:lnTo>
                      <a:pt x="372" y="145"/>
                    </a:lnTo>
                    <a:lnTo>
                      <a:pt x="373" y="141"/>
                    </a:lnTo>
                    <a:lnTo>
                      <a:pt x="373" y="136"/>
                    </a:lnTo>
                    <a:lnTo>
                      <a:pt x="375" y="133"/>
                    </a:lnTo>
                    <a:lnTo>
                      <a:pt x="376" y="129"/>
                    </a:lnTo>
                    <a:lnTo>
                      <a:pt x="376" y="125"/>
                    </a:lnTo>
                    <a:lnTo>
                      <a:pt x="376" y="122"/>
                    </a:lnTo>
                    <a:lnTo>
                      <a:pt x="376" y="117"/>
                    </a:lnTo>
                    <a:lnTo>
                      <a:pt x="376" y="114"/>
                    </a:lnTo>
                    <a:lnTo>
                      <a:pt x="376" y="108"/>
                    </a:lnTo>
                    <a:lnTo>
                      <a:pt x="376" y="102"/>
                    </a:lnTo>
                    <a:lnTo>
                      <a:pt x="375" y="99"/>
                    </a:lnTo>
                    <a:lnTo>
                      <a:pt x="375" y="95"/>
                    </a:lnTo>
                    <a:lnTo>
                      <a:pt x="375" y="93"/>
                    </a:lnTo>
                    <a:lnTo>
                      <a:pt x="375" y="0"/>
                    </a:lnTo>
                    <a:lnTo>
                      <a:pt x="356" y="36"/>
                    </a:lnTo>
                    <a:lnTo>
                      <a:pt x="356" y="3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402000" y="2589120"/>
                <a:ext cx="377640" cy="111240"/>
              </a:xfrm>
              <a:custGeom>
                <a:avLst/>
                <a:gdLst/>
                <a:ahLst/>
                <a:rect l="l" t="t" r="r" b="b"/>
                <a:pathLst>
                  <a:path w="475" h="139">
                    <a:moveTo>
                      <a:pt x="475" y="0"/>
                    </a:moveTo>
                    <a:lnTo>
                      <a:pt x="474" y="0"/>
                    </a:lnTo>
                    <a:lnTo>
                      <a:pt x="474" y="1"/>
                    </a:lnTo>
                    <a:lnTo>
                      <a:pt x="474" y="3"/>
                    </a:lnTo>
                    <a:lnTo>
                      <a:pt x="472" y="7"/>
                    </a:lnTo>
                    <a:lnTo>
                      <a:pt x="469" y="10"/>
                    </a:lnTo>
                    <a:lnTo>
                      <a:pt x="466" y="14"/>
                    </a:lnTo>
                    <a:lnTo>
                      <a:pt x="462" y="20"/>
                    </a:lnTo>
                    <a:lnTo>
                      <a:pt x="456" y="26"/>
                    </a:lnTo>
                    <a:lnTo>
                      <a:pt x="453" y="28"/>
                    </a:lnTo>
                    <a:lnTo>
                      <a:pt x="449" y="32"/>
                    </a:lnTo>
                    <a:lnTo>
                      <a:pt x="444" y="34"/>
                    </a:lnTo>
                    <a:lnTo>
                      <a:pt x="440" y="38"/>
                    </a:lnTo>
                    <a:lnTo>
                      <a:pt x="435" y="41"/>
                    </a:lnTo>
                    <a:lnTo>
                      <a:pt x="429" y="44"/>
                    </a:lnTo>
                    <a:lnTo>
                      <a:pt x="423" y="47"/>
                    </a:lnTo>
                    <a:lnTo>
                      <a:pt x="417" y="50"/>
                    </a:lnTo>
                    <a:lnTo>
                      <a:pt x="414" y="52"/>
                    </a:lnTo>
                    <a:lnTo>
                      <a:pt x="410" y="54"/>
                    </a:lnTo>
                    <a:lnTo>
                      <a:pt x="407" y="54"/>
                    </a:lnTo>
                    <a:lnTo>
                      <a:pt x="404" y="57"/>
                    </a:lnTo>
                    <a:lnTo>
                      <a:pt x="400" y="57"/>
                    </a:lnTo>
                    <a:lnTo>
                      <a:pt x="395" y="60"/>
                    </a:lnTo>
                    <a:lnTo>
                      <a:pt x="392" y="62"/>
                    </a:lnTo>
                    <a:lnTo>
                      <a:pt x="388" y="63"/>
                    </a:lnTo>
                    <a:lnTo>
                      <a:pt x="383" y="65"/>
                    </a:lnTo>
                    <a:lnTo>
                      <a:pt x="379" y="66"/>
                    </a:lnTo>
                    <a:lnTo>
                      <a:pt x="373" y="68"/>
                    </a:lnTo>
                    <a:lnTo>
                      <a:pt x="370" y="69"/>
                    </a:lnTo>
                    <a:lnTo>
                      <a:pt x="364" y="71"/>
                    </a:lnTo>
                    <a:lnTo>
                      <a:pt x="360" y="72"/>
                    </a:lnTo>
                    <a:lnTo>
                      <a:pt x="354" y="74"/>
                    </a:lnTo>
                    <a:lnTo>
                      <a:pt x="349" y="77"/>
                    </a:lnTo>
                    <a:lnTo>
                      <a:pt x="343" y="77"/>
                    </a:lnTo>
                    <a:lnTo>
                      <a:pt x="337" y="78"/>
                    </a:lnTo>
                    <a:lnTo>
                      <a:pt x="331" y="80"/>
                    </a:lnTo>
                    <a:lnTo>
                      <a:pt x="324" y="81"/>
                    </a:lnTo>
                    <a:lnTo>
                      <a:pt x="318" y="81"/>
                    </a:lnTo>
                    <a:lnTo>
                      <a:pt x="312" y="84"/>
                    </a:lnTo>
                    <a:lnTo>
                      <a:pt x="306" y="84"/>
                    </a:lnTo>
                    <a:lnTo>
                      <a:pt x="299" y="86"/>
                    </a:lnTo>
                    <a:lnTo>
                      <a:pt x="293" y="87"/>
                    </a:lnTo>
                    <a:lnTo>
                      <a:pt x="285" y="89"/>
                    </a:lnTo>
                    <a:lnTo>
                      <a:pt x="279" y="89"/>
                    </a:lnTo>
                    <a:lnTo>
                      <a:pt x="272" y="90"/>
                    </a:lnTo>
                    <a:lnTo>
                      <a:pt x="265" y="92"/>
                    </a:lnTo>
                    <a:lnTo>
                      <a:pt x="257" y="92"/>
                    </a:lnTo>
                    <a:lnTo>
                      <a:pt x="251" y="93"/>
                    </a:lnTo>
                    <a:lnTo>
                      <a:pt x="244" y="95"/>
                    </a:lnTo>
                    <a:lnTo>
                      <a:pt x="236" y="96"/>
                    </a:lnTo>
                    <a:lnTo>
                      <a:pt x="229" y="96"/>
                    </a:lnTo>
                    <a:lnTo>
                      <a:pt x="222" y="98"/>
                    </a:lnTo>
                    <a:lnTo>
                      <a:pt x="216" y="99"/>
                    </a:lnTo>
                    <a:lnTo>
                      <a:pt x="208" y="99"/>
                    </a:lnTo>
                    <a:lnTo>
                      <a:pt x="201" y="100"/>
                    </a:lnTo>
                    <a:lnTo>
                      <a:pt x="193" y="100"/>
                    </a:lnTo>
                    <a:lnTo>
                      <a:pt x="186" y="102"/>
                    </a:lnTo>
                    <a:lnTo>
                      <a:pt x="178" y="102"/>
                    </a:lnTo>
                    <a:lnTo>
                      <a:pt x="171" y="103"/>
                    </a:lnTo>
                    <a:lnTo>
                      <a:pt x="164" y="103"/>
                    </a:lnTo>
                    <a:lnTo>
                      <a:pt x="158" y="105"/>
                    </a:lnTo>
                    <a:lnTo>
                      <a:pt x="150" y="105"/>
                    </a:lnTo>
                    <a:lnTo>
                      <a:pt x="143" y="106"/>
                    </a:lnTo>
                    <a:lnTo>
                      <a:pt x="137" y="108"/>
                    </a:lnTo>
                    <a:lnTo>
                      <a:pt x="131" y="108"/>
                    </a:lnTo>
                    <a:lnTo>
                      <a:pt x="124" y="108"/>
                    </a:lnTo>
                    <a:lnTo>
                      <a:pt x="116" y="109"/>
                    </a:lnTo>
                    <a:lnTo>
                      <a:pt x="109" y="109"/>
                    </a:lnTo>
                    <a:lnTo>
                      <a:pt x="103" y="111"/>
                    </a:lnTo>
                    <a:lnTo>
                      <a:pt x="97" y="111"/>
                    </a:lnTo>
                    <a:lnTo>
                      <a:pt x="89" y="111"/>
                    </a:lnTo>
                    <a:lnTo>
                      <a:pt x="85" y="111"/>
                    </a:lnTo>
                    <a:lnTo>
                      <a:pt x="79" y="112"/>
                    </a:lnTo>
                    <a:lnTo>
                      <a:pt x="73" y="112"/>
                    </a:lnTo>
                    <a:lnTo>
                      <a:pt x="67" y="112"/>
                    </a:lnTo>
                    <a:lnTo>
                      <a:pt x="61" y="114"/>
                    </a:lnTo>
                    <a:lnTo>
                      <a:pt x="57" y="114"/>
                    </a:lnTo>
                    <a:lnTo>
                      <a:pt x="51" y="114"/>
                    </a:lnTo>
                    <a:lnTo>
                      <a:pt x="46" y="115"/>
                    </a:lnTo>
                    <a:lnTo>
                      <a:pt x="42" y="115"/>
                    </a:lnTo>
                    <a:lnTo>
                      <a:pt x="38" y="115"/>
                    </a:lnTo>
                    <a:lnTo>
                      <a:pt x="33" y="115"/>
                    </a:lnTo>
                    <a:lnTo>
                      <a:pt x="29" y="115"/>
                    </a:lnTo>
                    <a:lnTo>
                      <a:pt x="26" y="115"/>
                    </a:lnTo>
                    <a:lnTo>
                      <a:pt x="23" y="117"/>
                    </a:lnTo>
                    <a:lnTo>
                      <a:pt x="18" y="117"/>
                    </a:lnTo>
                    <a:lnTo>
                      <a:pt x="15" y="117"/>
                    </a:lnTo>
                    <a:lnTo>
                      <a:pt x="12" y="117"/>
                    </a:lnTo>
                    <a:lnTo>
                      <a:pt x="11" y="117"/>
                    </a:lnTo>
                    <a:lnTo>
                      <a:pt x="5" y="117"/>
                    </a:lnTo>
                    <a:lnTo>
                      <a:pt x="2" y="118"/>
                    </a:lnTo>
                    <a:lnTo>
                      <a:pt x="0" y="118"/>
                    </a:lnTo>
                    <a:lnTo>
                      <a:pt x="0" y="118"/>
                    </a:lnTo>
                    <a:lnTo>
                      <a:pt x="0" y="118"/>
                    </a:lnTo>
                    <a:lnTo>
                      <a:pt x="5" y="120"/>
                    </a:lnTo>
                    <a:lnTo>
                      <a:pt x="6" y="120"/>
                    </a:lnTo>
                    <a:lnTo>
                      <a:pt x="11" y="121"/>
                    </a:lnTo>
                    <a:lnTo>
                      <a:pt x="14" y="121"/>
                    </a:lnTo>
                    <a:lnTo>
                      <a:pt x="18" y="123"/>
                    </a:lnTo>
                    <a:lnTo>
                      <a:pt x="21" y="123"/>
                    </a:lnTo>
                    <a:lnTo>
                      <a:pt x="27" y="124"/>
                    </a:lnTo>
                    <a:lnTo>
                      <a:pt x="32" y="126"/>
                    </a:lnTo>
                    <a:lnTo>
                      <a:pt x="38" y="127"/>
                    </a:lnTo>
                    <a:lnTo>
                      <a:pt x="40" y="127"/>
                    </a:lnTo>
                    <a:lnTo>
                      <a:pt x="43" y="127"/>
                    </a:lnTo>
                    <a:lnTo>
                      <a:pt x="48" y="129"/>
                    </a:lnTo>
                    <a:lnTo>
                      <a:pt x="51" y="129"/>
                    </a:lnTo>
                    <a:lnTo>
                      <a:pt x="54" y="130"/>
                    </a:lnTo>
                    <a:lnTo>
                      <a:pt x="58" y="130"/>
                    </a:lnTo>
                    <a:lnTo>
                      <a:pt x="61" y="130"/>
                    </a:lnTo>
                    <a:lnTo>
                      <a:pt x="66" y="132"/>
                    </a:lnTo>
                    <a:lnTo>
                      <a:pt x="70" y="132"/>
                    </a:lnTo>
                    <a:lnTo>
                      <a:pt x="73" y="133"/>
                    </a:lnTo>
                    <a:lnTo>
                      <a:pt x="78" y="133"/>
                    </a:lnTo>
                    <a:lnTo>
                      <a:pt x="81" y="133"/>
                    </a:lnTo>
                    <a:lnTo>
                      <a:pt x="85" y="133"/>
                    </a:lnTo>
                    <a:lnTo>
                      <a:pt x="89" y="135"/>
                    </a:lnTo>
                    <a:lnTo>
                      <a:pt x="94" y="135"/>
                    </a:lnTo>
                    <a:lnTo>
                      <a:pt x="98" y="136"/>
                    </a:lnTo>
                    <a:lnTo>
                      <a:pt x="101" y="136"/>
                    </a:lnTo>
                    <a:lnTo>
                      <a:pt x="107" y="138"/>
                    </a:lnTo>
                    <a:lnTo>
                      <a:pt x="112" y="138"/>
                    </a:lnTo>
                    <a:lnTo>
                      <a:pt x="116" y="138"/>
                    </a:lnTo>
                    <a:lnTo>
                      <a:pt x="121" y="138"/>
                    </a:lnTo>
                    <a:lnTo>
                      <a:pt x="127" y="138"/>
                    </a:lnTo>
                    <a:lnTo>
                      <a:pt x="131" y="138"/>
                    </a:lnTo>
                    <a:lnTo>
                      <a:pt x="135" y="139"/>
                    </a:lnTo>
                    <a:lnTo>
                      <a:pt x="140" y="139"/>
                    </a:lnTo>
                    <a:lnTo>
                      <a:pt x="146" y="139"/>
                    </a:lnTo>
                    <a:lnTo>
                      <a:pt x="150" y="139"/>
                    </a:lnTo>
                    <a:lnTo>
                      <a:pt x="156" y="139"/>
                    </a:lnTo>
                    <a:lnTo>
                      <a:pt x="161" y="139"/>
                    </a:lnTo>
                    <a:lnTo>
                      <a:pt x="165" y="139"/>
                    </a:lnTo>
                    <a:lnTo>
                      <a:pt x="171" y="139"/>
                    </a:lnTo>
                    <a:lnTo>
                      <a:pt x="176" y="139"/>
                    </a:lnTo>
                    <a:lnTo>
                      <a:pt x="181" y="139"/>
                    </a:lnTo>
                    <a:lnTo>
                      <a:pt x="187" y="139"/>
                    </a:lnTo>
                    <a:lnTo>
                      <a:pt x="192" y="138"/>
                    </a:lnTo>
                    <a:lnTo>
                      <a:pt x="198" y="138"/>
                    </a:lnTo>
                    <a:lnTo>
                      <a:pt x="204" y="138"/>
                    </a:lnTo>
                    <a:lnTo>
                      <a:pt x="210" y="138"/>
                    </a:lnTo>
                    <a:lnTo>
                      <a:pt x="214" y="138"/>
                    </a:lnTo>
                    <a:lnTo>
                      <a:pt x="220" y="138"/>
                    </a:lnTo>
                    <a:lnTo>
                      <a:pt x="224" y="136"/>
                    </a:lnTo>
                    <a:lnTo>
                      <a:pt x="230" y="135"/>
                    </a:lnTo>
                    <a:lnTo>
                      <a:pt x="236" y="133"/>
                    </a:lnTo>
                    <a:lnTo>
                      <a:pt x="242" y="133"/>
                    </a:lnTo>
                    <a:lnTo>
                      <a:pt x="247" y="132"/>
                    </a:lnTo>
                    <a:lnTo>
                      <a:pt x="253" y="132"/>
                    </a:lnTo>
                    <a:lnTo>
                      <a:pt x="259" y="130"/>
                    </a:lnTo>
                    <a:lnTo>
                      <a:pt x="265" y="130"/>
                    </a:lnTo>
                    <a:lnTo>
                      <a:pt x="269" y="127"/>
                    </a:lnTo>
                    <a:lnTo>
                      <a:pt x="275" y="127"/>
                    </a:lnTo>
                    <a:lnTo>
                      <a:pt x="281" y="126"/>
                    </a:lnTo>
                    <a:lnTo>
                      <a:pt x="287" y="124"/>
                    </a:lnTo>
                    <a:lnTo>
                      <a:pt x="291" y="123"/>
                    </a:lnTo>
                    <a:lnTo>
                      <a:pt x="297" y="123"/>
                    </a:lnTo>
                    <a:lnTo>
                      <a:pt x="303" y="120"/>
                    </a:lnTo>
                    <a:lnTo>
                      <a:pt x="309" y="120"/>
                    </a:lnTo>
                    <a:lnTo>
                      <a:pt x="314" y="118"/>
                    </a:lnTo>
                    <a:lnTo>
                      <a:pt x="319" y="117"/>
                    </a:lnTo>
                    <a:lnTo>
                      <a:pt x="324" y="115"/>
                    </a:lnTo>
                    <a:lnTo>
                      <a:pt x="330" y="114"/>
                    </a:lnTo>
                    <a:lnTo>
                      <a:pt x="334" y="111"/>
                    </a:lnTo>
                    <a:lnTo>
                      <a:pt x="340" y="111"/>
                    </a:lnTo>
                    <a:lnTo>
                      <a:pt x="345" y="109"/>
                    </a:lnTo>
                    <a:lnTo>
                      <a:pt x="351" y="108"/>
                    </a:lnTo>
                    <a:lnTo>
                      <a:pt x="355" y="106"/>
                    </a:lnTo>
                    <a:lnTo>
                      <a:pt x="361" y="105"/>
                    </a:lnTo>
                    <a:lnTo>
                      <a:pt x="365" y="103"/>
                    </a:lnTo>
                    <a:lnTo>
                      <a:pt x="370" y="102"/>
                    </a:lnTo>
                    <a:lnTo>
                      <a:pt x="374" y="99"/>
                    </a:lnTo>
                    <a:lnTo>
                      <a:pt x="380" y="99"/>
                    </a:lnTo>
                    <a:lnTo>
                      <a:pt x="385" y="98"/>
                    </a:lnTo>
                    <a:lnTo>
                      <a:pt x="389" y="96"/>
                    </a:lnTo>
                    <a:lnTo>
                      <a:pt x="394" y="95"/>
                    </a:lnTo>
                    <a:lnTo>
                      <a:pt x="398" y="92"/>
                    </a:lnTo>
                    <a:lnTo>
                      <a:pt x="403" y="92"/>
                    </a:lnTo>
                    <a:lnTo>
                      <a:pt x="407" y="90"/>
                    </a:lnTo>
                    <a:lnTo>
                      <a:pt x="410" y="89"/>
                    </a:lnTo>
                    <a:lnTo>
                      <a:pt x="414" y="87"/>
                    </a:lnTo>
                    <a:lnTo>
                      <a:pt x="417" y="86"/>
                    </a:lnTo>
                    <a:lnTo>
                      <a:pt x="422" y="84"/>
                    </a:lnTo>
                    <a:lnTo>
                      <a:pt x="425" y="83"/>
                    </a:lnTo>
                    <a:lnTo>
                      <a:pt x="429" y="81"/>
                    </a:lnTo>
                    <a:lnTo>
                      <a:pt x="432" y="80"/>
                    </a:lnTo>
                    <a:lnTo>
                      <a:pt x="437" y="78"/>
                    </a:lnTo>
                    <a:lnTo>
                      <a:pt x="443" y="77"/>
                    </a:lnTo>
                    <a:lnTo>
                      <a:pt x="449" y="74"/>
                    </a:lnTo>
                    <a:lnTo>
                      <a:pt x="453" y="72"/>
                    </a:lnTo>
                    <a:lnTo>
                      <a:pt x="457" y="69"/>
                    </a:lnTo>
                    <a:lnTo>
                      <a:pt x="462" y="69"/>
                    </a:lnTo>
                    <a:lnTo>
                      <a:pt x="465" y="68"/>
                    </a:lnTo>
                    <a:lnTo>
                      <a:pt x="469" y="65"/>
                    </a:lnTo>
                    <a:lnTo>
                      <a:pt x="471" y="65"/>
                    </a:lnTo>
                    <a:lnTo>
                      <a:pt x="475" y="0"/>
                    </a:lnTo>
                    <a:lnTo>
                      <a:pt x="475"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3031920" y="2695680"/>
                <a:ext cx="424080" cy="460440"/>
              </a:xfrm>
              <a:custGeom>
                <a:avLst/>
                <a:gdLst/>
                <a:ahLst/>
                <a:rect l="l" t="t" r="r" b="b"/>
                <a:pathLst>
                  <a:path w="534" h="580">
                    <a:moveTo>
                      <a:pt x="497" y="0"/>
                    </a:moveTo>
                    <a:lnTo>
                      <a:pt x="496" y="0"/>
                    </a:lnTo>
                    <a:lnTo>
                      <a:pt x="493" y="3"/>
                    </a:lnTo>
                    <a:lnTo>
                      <a:pt x="491" y="5"/>
                    </a:lnTo>
                    <a:lnTo>
                      <a:pt x="490" y="8"/>
                    </a:lnTo>
                    <a:lnTo>
                      <a:pt x="487" y="11"/>
                    </a:lnTo>
                    <a:lnTo>
                      <a:pt x="485" y="15"/>
                    </a:lnTo>
                    <a:lnTo>
                      <a:pt x="482" y="18"/>
                    </a:lnTo>
                    <a:lnTo>
                      <a:pt x="479" y="22"/>
                    </a:lnTo>
                    <a:lnTo>
                      <a:pt x="475" y="25"/>
                    </a:lnTo>
                    <a:lnTo>
                      <a:pt x="472" y="31"/>
                    </a:lnTo>
                    <a:lnTo>
                      <a:pt x="467" y="36"/>
                    </a:lnTo>
                    <a:lnTo>
                      <a:pt x="463" y="42"/>
                    </a:lnTo>
                    <a:lnTo>
                      <a:pt x="457" y="48"/>
                    </a:lnTo>
                    <a:lnTo>
                      <a:pt x="453" y="55"/>
                    </a:lnTo>
                    <a:lnTo>
                      <a:pt x="450" y="58"/>
                    </a:lnTo>
                    <a:lnTo>
                      <a:pt x="447" y="61"/>
                    </a:lnTo>
                    <a:lnTo>
                      <a:pt x="444" y="64"/>
                    </a:lnTo>
                    <a:lnTo>
                      <a:pt x="441" y="68"/>
                    </a:lnTo>
                    <a:lnTo>
                      <a:pt x="438" y="71"/>
                    </a:lnTo>
                    <a:lnTo>
                      <a:pt x="435" y="74"/>
                    </a:lnTo>
                    <a:lnTo>
                      <a:pt x="432" y="79"/>
                    </a:lnTo>
                    <a:lnTo>
                      <a:pt x="429" y="83"/>
                    </a:lnTo>
                    <a:lnTo>
                      <a:pt x="424" y="86"/>
                    </a:lnTo>
                    <a:lnTo>
                      <a:pt x="421" y="91"/>
                    </a:lnTo>
                    <a:lnTo>
                      <a:pt x="417" y="95"/>
                    </a:lnTo>
                    <a:lnTo>
                      <a:pt x="414" y="98"/>
                    </a:lnTo>
                    <a:lnTo>
                      <a:pt x="410" y="103"/>
                    </a:lnTo>
                    <a:lnTo>
                      <a:pt x="407" y="107"/>
                    </a:lnTo>
                    <a:lnTo>
                      <a:pt x="402" y="111"/>
                    </a:lnTo>
                    <a:lnTo>
                      <a:pt x="399" y="116"/>
                    </a:lnTo>
                    <a:lnTo>
                      <a:pt x="393" y="120"/>
                    </a:lnTo>
                    <a:lnTo>
                      <a:pt x="390" y="125"/>
                    </a:lnTo>
                    <a:lnTo>
                      <a:pt x="384" y="129"/>
                    </a:lnTo>
                    <a:lnTo>
                      <a:pt x="381" y="134"/>
                    </a:lnTo>
                    <a:lnTo>
                      <a:pt x="377" y="138"/>
                    </a:lnTo>
                    <a:lnTo>
                      <a:pt x="372" y="144"/>
                    </a:lnTo>
                    <a:lnTo>
                      <a:pt x="368" y="147"/>
                    </a:lnTo>
                    <a:lnTo>
                      <a:pt x="364" y="153"/>
                    </a:lnTo>
                    <a:lnTo>
                      <a:pt x="358" y="157"/>
                    </a:lnTo>
                    <a:lnTo>
                      <a:pt x="353" y="162"/>
                    </a:lnTo>
                    <a:lnTo>
                      <a:pt x="347" y="168"/>
                    </a:lnTo>
                    <a:lnTo>
                      <a:pt x="343" y="174"/>
                    </a:lnTo>
                    <a:lnTo>
                      <a:pt x="337" y="178"/>
                    </a:lnTo>
                    <a:lnTo>
                      <a:pt x="332" y="184"/>
                    </a:lnTo>
                    <a:lnTo>
                      <a:pt x="328" y="189"/>
                    </a:lnTo>
                    <a:lnTo>
                      <a:pt x="322" y="195"/>
                    </a:lnTo>
                    <a:lnTo>
                      <a:pt x="316" y="200"/>
                    </a:lnTo>
                    <a:lnTo>
                      <a:pt x="310" y="205"/>
                    </a:lnTo>
                    <a:lnTo>
                      <a:pt x="304" y="211"/>
                    </a:lnTo>
                    <a:lnTo>
                      <a:pt x="298" y="217"/>
                    </a:lnTo>
                    <a:lnTo>
                      <a:pt x="292" y="223"/>
                    </a:lnTo>
                    <a:lnTo>
                      <a:pt x="286" y="227"/>
                    </a:lnTo>
                    <a:lnTo>
                      <a:pt x="280" y="233"/>
                    </a:lnTo>
                    <a:lnTo>
                      <a:pt x="276" y="239"/>
                    </a:lnTo>
                    <a:lnTo>
                      <a:pt x="269" y="245"/>
                    </a:lnTo>
                    <a:lnTo>
                      <a:pt x="263" y="249"/>
                    </a:lnTo>
                    <a:lnTo>
                      <a:pt x="257" y="255"/>
                    </a:lnTo>
                    <a:lnTo>
                      <a:pt x="251" y="261"/>
                    </a:lnTo>
                    <a:lnTo>
                      <a:pt x="243" y="267"/>
                    </a:lnTo>
                    <a:lnTo>
                      <a:pt x="239" y="273"/>
                    </a:lnTo>
                    <a:lnTo>
                      <a:pt x="232" y="279"/>
                    </a:lnTo>
                    <a:lnTo>
                      <a:pt x="226" y="285"/>
                    </a:lnTo>
                    <a:lnTo>
                      <a:pt x="220" y="289"/>
                    </a:lnTo>
                    <a:lnTo>
                      <a:pt x="212" y="295"/>
                    </a:lnTo>
                    <a:lnTo>
                      <a:pt x="206" y="301"/>
                    </a:lnTo>
                    <a:lnTo>
                      <a:pt x="200" y="306"/>
                    </a:lnTo>
                    <a:lnTo>
                      <a:pt x="194" y="312"/>
                    </a:lnTo>
                    <a:lnTo>
                      <a:pt x="188" y="318"/>
                    </a:lnTo>
                    <a:lnTo>
                      <a:pt x="183" y="324"/>
                    </a:lnTo>
                    <a:lnTo>
                      <a:pt x="177" y="328"/>
                    </a:lnTo>
                    <a:lnTo>
                      <a:pt x="171" y="334"/>
                    </a:lnTo>
                    <a:lnTo>
                      <a:pt x="163" y="340"/>
                    </a:lnTo>
                    <a:lnTo>
                      <a:pt x="157" y="344"/>
                    </a:lnTo>
                    <a:lnTo>
                      <a:pt x="153" y="350"/>
                    </a:lnTo>
                    <a:lnTo>
                      <a:pt x="147" y="355"/>
                    </a:lnTo>
                    <a:lnTo>
                      <a:pt x="141" y="359"/>
                    </a:lnTo>
                    <a:lnTo>
                      <a:pt x="135" y="365"/>
                    </a:lnTo>
                    <a:lnTo>
                      <a:pt x="131" y="370"/>
                    </a:lnTo>
                    <a:lnTo>
                      <a:pt x="125" y="374"/>
                    </a:lnTo>
                    <a:lnTo>
                      <a:pt x="119" y="379"/>
                    </a:lnTo>
                    <a:lnTo>
                      <a:pt x="113" y="383"/>
                    </a:lnTo>
                    <a:lnTo>
                      <a:pt x="108" y="389"/>
                    </a:lnTo>
                    <a:lnTo>
                      <a:pt x="102" y="392"/>
                    </a:lnTo>
                    <a:lnTo>
                      <a:pt x="98" y="396"/>
                    </a:lnTo>
                    <a:lnTo>
                      <a:pt x="94" y="401"/>
                    </a:lnTo>
                    <a:lnTo>
                      <a:pt x="89" y="405"/>
                    </a:lnTo>
                    <a:lnTo>
                      <a:pt x="83" y="410"/>
                    </a:lnTo>
                    <a:lnTo>
                      <a:pt x="79" y="413"/>
                    </a:lnTo>
                    <a:lnTo>
                      <a:pt x="74" y="417"/>
                    </a:lnTo>
                    <a:lnTo>
                      <a:pt x="70" y="420"/>
                    </a:lnTo>
                    <a:lnTo>
                      <a:pt x="67" y="423"/>
                    </a:lnTo>
                    <a:lnTo>
                      <a:pt x="62" y="426"/>
                    </a:lnTo>
                    <a:lnTo>
                      <a:pt x="59" y="429"/>
                    </a:lnTo>
                    <a:lnTo>
                      <a:pt x="55" y="433"/>
                    </a:lnTo>
                    <a:lnTo>
                      <a:pt x="52" y="436"/>
                    </a:lnTo>
                    <a:lnTo>
                      <a:pt x="48" y="438"/>
                    </a:lnTo>
                    <a:lnTo>
                      <a:pt x="45" y="441"/>
                    </a:lnTo>
                    <a:lnTo>
                      <a:pt x="43" y="444"/>
                    </a:lnTo>
                    <a:lnTo>
                      <a:pt x="37" y="448"/>
                    </a:lnTo>
                    <a:lnTo>
                      <a:pt x="33" y="453"/>
                    </a:lnTo>
                    <a:lnTo>
                      <a:pt x="30" y="454"/>
                    </a:lnTo>
                    <a:lnTo>
                      <a:pt x="28" y="457"/>
                    </a:lnTo>
                    <a:lnTo>
                      <a:pt x="25" y="459"/>
                    </a:lnTo>
                    <a:lnTo>
                      <a:pt x="25" y="459"/>
                    </a:lnTo>
                    <a:lnTo>
                      <a:pt x="0" y="580"/>
                    </a:lnTo>
                    <a:lnTo>
                      <a:pt x="2" y="580"/>
                    </a:lnTo>
                    <a:lnTo>
                      <a:pt x="3" y="577"/>
                    </a:lnTo>
                    <a:lnTo>
                      <a:pt x="7" y="574"/>
                    </a:lnTo>
                    <a:lnTo>
                      <a:pt x="10" y="570"/>
                    </a:lnTo>
                    <a:lnTo>
                      <a:pt x="16" y="565"/>
                    </a:lnTo>
                    <a:lnTo>
                      <a:pt x="18" y="563"/>
                    </a:lnTo>
                    <a:lnTo>
                      <a:pt x="22" y="560"/>
                    </a:lnTo>
                    <a:lnTo>
                      <a:pt x="25" y="557"/>
                    </a:lnTo>
                    <a:lnTo>
                      <a:pt x="30" y="554"/>
                    </a:lnTo>
                    <a:lnTo>
                      <a:pt x="33" y="551"/>
                    </a:lnTo>
                    <a:lnTo>
                      <a:pt x="36" y="546"/>
                    </a:lnTo>
                    <a:lnTo>
                      <a:pt x="40" y="543"/>
                    </a:lnTo>
                    <a:lnTo>
                      <a:pt x="43" y="539"/>
                    </a:lnTo>
                    <a:lnTo>
                      <a:pt x="48" y="534"/>
                    </a:lnTo>
                    <a:lnTo>
                      <a:pt x="52" y="531"/>
                    </a:lnTo>
                    <a:lnTo>
                      <a:pt x="56" y="527"/>
                    </a:lnTo>
                    <a:lnTo>
                      <a:pt x="61" y="524"/>
                    </a:lnTo>
                    <a:lnTo>
                      <a:pt x="65" y="518"/>
                    </a:lnTo>
                    <a:lnTo>
                      <a:pt x="70" y="514"/>
                    </a:lnTo>
                    <a:lnTo>
                      <a:pt x="76" y="509"/>
                    </a:lnTo>
                    <a:lnTo>
                      <a:pt x="82" y="505"/>
                    </a:lnTo>
                    <a:lnTo>
                      <a:pt x="86" y="499"/>
                    </a:lnTo>
                    <a:lnTo>
                      <a:pt x="92" y="494"/>
                    </a:lnTo>
                    <a:lnTo>
                      <a:pt x="96" y="490"/>
                    </a:lnTo>
                    <a:lnTo>
                      <a:pt x="104" y="484"/>
                    </a:lnTo>
                    <a:lnTo>
                      <a:pt x="108" y="478"/>
                    </a:lnTo>
                    <a:lnTo>
                      <a:pt x="114" y="472"/>
                    </a:lnTo>
                    <a:lnTo>
                      <a:pt x="120" y="468"/>
                    </a:lnTo>
                    <a:lnTo>
                      <a:pt x="126" y="462"/>
                    </a:lnTo>
                    <a:lnTo>
                      <a:pt x="131" y="456"/>
                    </a:lnTo>
                    <a:lnTo>
                      <a:pt x="138" y="448"/>
                    </a:lnTo>
                    <a:lnTo>
                      <a:pt x="144" y="442"/>
                    </a:lnTo>
                    <a:lnTo>
                      <a:pt x="150" y="438"/>
                    </a:lnTo>
                    <a:lnTo>
                      <a:pt x="156" y="430"/>
                    </a:lnTo>
                    <a:lnTo>
                      <a:pt x="163" y="425"/>
                    </a:lnTo>
                    <a:lnTo>
                      <a:pt x="169" y="419"/>
                    </a:lnTo>
                    <a:lnTo>
                      <a:pt x="175" y="411"/>
                    </a:lnTo>
                    <a:lnTo>
                      <a:pt x="183" y="405"/>
                    </a:lnTo>
                    <a:lnTo>
                      <a:pt x="188" y="399"/>
                    </a:lnTo>
                    <a:lnTo>
                      <a:pt x="194" y="392"/>
                    </a:lnTo>
                    <a:lnTo>
                      <a:pt x="202" y="386"/>
                    </a:lnTo>
                    <a:lnTo>
                      <a:pt x="208" y="379"/>
                    </a:lnTo>
                    <a:lnTo>
                      <a:pt x="215" y="373"/>
                    </a:lnTo>
                    <a:lnTo>
                      <a:pt x="221" y="365"/>
                    </a:lnTo>
                    <a:lnTo>
                      <a:pt x="229" y="359"/>
                    </a:lnTo>
                    <a:lnTo>
                      <a:pt x="234" y="352"/>
                    </a:lnTo>
                    <a:lnTo>
                      <a:pt x="242" y="346"/>
                    </a:lnTo>
                    <a:lnTo>
                      <a:pt x="248" y="338"/>
                    </a:lnTo>
                    <a:lnTo>
                      <a:pt x="254" y="333"/>
                    </a:lnTo>
                    <a:lnTo>
                      <a:pt x="261" y="325"/>
                    </a:lnTo>
                    <a:lnTo>
                      <a:pt x="267" y="319"/>
                    </a:lnTo>
                    <a:lnTo>
                      <a:pt x="273" y="312"/>
                    </a:lnTo>
                    <a:lnTo>
                      <a:pt x="280" y="306"/>
                    </a:lnTo>
                    <a:lnTo>
                      <a:pt x="286" y="298"/>
                    </a:lnTo>
                    <a:lnTo>
                      <a:pt x="294" y="292"/>
                    </a:lnTo>
                    <a:lnTo>
                      <a:pt x="300" y="285"/>
                    </a:lnTo>
                    <a:lnTo>
                      <a:pt x="306" y="279"/>
                    </a:lnTo>
                    <a:lnTo>
                      <a:pt x="312" y="272"/>
                    </a:lnTo>
                    <a:lnTo>
                      <a:pt x="318" y="264"/>
                    </a:lnTo>
                    <a:lnTo>
                      <a:pt x="325" y="258"/>
                    </a:lnTo>
                    <a:lnTo>
                      <a:pt x="331" y="251"/>
                    </a:lnTo>
                    <a:lnTo>
                      <a:pt x="335" y="245"/>
                    </a:lnTo>
                    <a:lnTo>
                      <a:pt x="343" y="238"/>
                    </a:lnTo>
                    <a:lnTo>
                      <a:pt x="347" y="232"/>
                    </a:lnTo>
                    <a:lnTo>
                      <a:pt x="355" y="226"/>
                    </a:lnTo>
                    <a:lnTo>
                      <a:pt x="359" y="218"/>
                    </a:lnTo>
                    <a:lnTo>
                      <a:pt x="365" y="212"/>
                    </a:lnTo>
                    <a:lnTo>
                      <a:pt x="371" y="205"/>
                    </a:lnTo>
                    <a:lnTo>
                      <a:pt x="377" y="199"/>
                    </a:lnTo>
                    <a:lnTo>
                      <a:pt x="381" y="193"/>
                    </a:lnTo>
                    <a:lnTo>
                      <a:pt x="387" y="187"/>
                    </a:lnTo>
                    <a:lnTo>
                      <a:pt x="392" y="181"/>
                    </a:lnTo>
                    <a:lnTo>
                      <a:pt x="398" y="175"/>
                    </a:lnTo>
                    <a:lnTo>
                      <a:pt x="402" y="169"/>
                    </a:lnTo>
                    <a:lnTo>
                      <a:pt x="407" y="162"/>
                    </a:lnTo>
                    <a:lnTo>
                      <a:pt x="413" y="156"/>
                    </a:lnTo>
                    <a:lnTo>
                      <a:pt x="417" y="151"/>
                    </a:lnTo>
                    <a:lnTo>
                      <a:pt x="421" y="146"/>
                    </a:lnTo>
                    <a:lnTo>
                      <a:pt x="426" y="140"/>
                    </a:lnTo>
                    <a:lnTo>
                      <a:pt x="432" y="134"/>
                    </a:lnTo>
                    <a:lnTo>
                      <a:pt x="436" y="129"/>
                    </a:lnTo>
                    <a:lnTo>
                      <a:pt x="441" y="123"/>
                    </a:lnTo>
                    <a:lnTo>
                      <a:pt x="444" y="117"/>
                    </a:lnTo>
                    <a:lnTo>
                      <a:pt x="448" y="113"/>
                    </a:lnTo>
                    <a:lnTo>
                      <a:pt x="453" y="108"/>
                    </a:lnTo>
                    <a:lnTo>
                      <a:pt x="457" y="103"/>
                    </a:lnTo>
                    <a:lnTo>
                      <a:pt x="461" y="98"/>
                    </a:lnTo>
                    <a:lnTo>
                      <a:pt x="466" y="94"/>
                    </a:lnTo>
                    <a:lnTo>
                      <a:pt x="470" y="89"/>
                    </a:lnTo>
                    <a:lnTo>
                      <a:pt x="473" y="83"/>
                    </a:lnTo>
                    <a:lnTo>
                      <a:pt x="476" y="80"/>
                    </a:lnTo>
                    <a:lnTo>
                      <a:pt x="479" y="74"/>
                    </a:lnTo>
                    <a:lnTo>
                      <a:pt x="484" y="71"/>
                    </a:lnTo>
                    <a:lnTo>
                      <a:pt x="487" y="65"/>
                    </a:lnTo>
                    <a:lnTo>
                      <a:pt x="490" y="62"/>
                    </a:lnTo>
                    <a:lnTo>
                      <a:pt x="493" y="58"/>
                    </a:lnTo>
                    <a:lnTo>
                      <a:pt x="497" y="55"/>
                    </a:lnTo>
                    <a:lnTo>
                      <a:pt x="499" y="51"/>
                    </a:lnTo>
                    <a:lnTo>
                      <a:pt x="502" y="48"/>
                    </a:lnTo>
                    <a:lnTo>
                      <a:pt x="505" y="43"/>
                    </a:lnTo>
                    <a:lnTo>
                      <a:pt x="507" y="40"/>
                    </a:lnTo>
                    <a:lnTo>
                      <a:pt x="512" y="34"/>
                    </a:lnTo>
                    <a:lnTo>
                      <a:pt x="516" y="30"/>
                    </a:lnTo>
                    <a:lnTo>
                      <a:pt x="519" y="24"/>
                    </a:lnTo>
                    <a:lnTo>
                      <a:pt x="522" y="19"/>
                    </a:lnTo>
                    <a:lnTo>
                      <a:pt x="527" y="15"/>
                    </a:lnTo>
                    <a:lnTo>
                      <a:pt x="528" y="12"/>
                    </a:lnTo>
                    <a:lnTo>
                      <a:pt x="531" y="9"/>
                    </a:lnTo>
                    <a:lnTo>
                      <a:pt x="534" y="8"/>
                    </a:lnTo>
                    <a:lnTo>
                      <a:pt x="497" y="0"/>
                    </a:lnTo>
                    <a:lnTo>
                      <a:pt x="49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60640" y="2384280"/>
                <a:ext cx="303120" cy="311400"/>
              </a:xfrm>
              <a:custGeom>
                <a:avLst/>
                <a:gdLst/>
                <a:ahLst/>
                <a:rect l="l" t="t" r="r" b="b"/>
                <a:pathLst>
                  <a:path w="383" h="392">
                    <a:moveTo>
                      <a:pt x="383" y="0"/>
                    </a:moveTo>
                    <a:lnTo>
                      <a:pt x="381" y="0"/>
                    </a:lnTo>
                    <a:lnTo>
                      <a:pt x="380" y="2"/>
                    </a:lnTo>
                    <a:lnTo>
                      <a:pt x="375" y="3"/>
                    </a:lnTo>
                    <a:lnTo>
                      <a:pt x="372" y="8"/>
                    </a:lnTo>
                    <a:lnTo>
                      <a:pt x="369" y="9"/>
                    </a:lnTo>
                    <a:lnTo>
                      <a:pt x="367" y="12"/>
                    </a:lnTo>
                    <a:lnTo>
                      <a:pt x="364" y="15"/>
                    </a:lnTo>
                    <a:lnTo>
                      <a:pt x="361" y="18"/>
                    </a:lnTo>
                    <a:lnTo>
                      <a:pt x="356" y="21"/>
                    </a:lnTo>
                    <a:lnTo>
                      <a:pt x="353" y="26"/>
                    </a:lnTo>
                    <a:lnTo>
                      <a:pt x="349" y="29"/>
                    </a:lnTo>
                    <a:lnTo>
                      <a:pt x="344" y="33"/>
                    </a:lnTo>
                    <a:lnTo>
                      <a:pt x="338" y="37"/>
                    </a:lnTo>
                    <a:lnTo>
                      <a:pt x="334" y="42"/>
                    </a:lnTo>
                    <a:lnTo>
                      <a:pt x="328" y="46"/>
                    </a:lnTo>
                    <a:lnTo>
                      <a:pt x="322" y="51"/>
                    </a:lnTo>
                    <a:lnTo>
                      <a:pt x="316" y="55"/>
                    </a:lnTo>
                    <a:lnTo>
                      <a:pt x="310" y="61"/>
                    </a:lnTo>
                    <a:lnTo>
                      <a:pt x="303" y="66"/>
                    </a:lnTo>
                    <a:lnTo>
                      <a:pt x="297" y="73"/>
                    </a:lnTo>
                    <a:lnTo>
                      <a:pt x="294" y="75"/>
                    </a:lnTo>
                    <a:lnTo>
                      <a:pt x="289" y="78"/>
                    </a:lnTo>
                    <a:lnTo>
                      <a:pt x="286" y="81"/>
                    </a:lnTo>
                    <a:lnTo>
                      <a:pt x="282" y="83"/>
                    </a:lnTo>
                    <a:lnTo>
                      <a:pt x="277" y="86"/>
                    </a:lnTo>
                    <a:lnTo>
                      <a:pt x="275" y="89"/>
                    </a:lnTo>
                    <a:lnTo>
                      <a:pt x="270" y="92"/>
                    </a:lnTo>
                    <a:lnTo>
                      <a:pt x="267" y="97"/>
                    </a:lnTo>
                    <a:lnTo>
                      <a:pt x="263" y="100"/>
                    </a:lnTo>
                    <a:lnTo>
                      <a:pt x="258" y="103"/>
                    </a:lnTo>
                    <a:lnTo>
                      <a:pt x="254" y="106"/>
                    </a:lnTo>
                    <a:lnTo>
                      <a:pt x="249" y="110"/>
                    </a:lnTo>
                    <a:lnTo>
                      <a:pt x="245" y="113"/>
                    </a:lnTo>
                    <a:lnTo>
                      <a:pt x="240" y="118"/>
                    </a:lnTo>
                    <a:lnTo>
                      <a:pt x="236" y="121"/>
                    </a:lnTo>
                    <a:lnTo>
                      <a:pt x="231" y="125"/>
                    </a:lnTo>
                    <a:lnTo>
                      <a:pt x="227" y="128"/>
                    </a:lnTo>
                    <a:lnTo>
                      <a:pt x="221" y="131"/>
                    </a:lnTo>
                    <a:lnTo>
                      <a:pt x="217" y="135"/>
                    </a:lnTo>
                    <a:lnTo>
                      <a:pt x="212" y="138"/>
                    </a:lnTo>
                    <a:lnTo>
                      <a:pt x="206" y="143"/>
                    </a:lnTo>
                    <a:lnTo>
                      <a:pt x="202" y="146"/>
                    </a:lnTo>
                    <a:lnTo>
                      <a:pt x="197" y="150"/>
                    </a:lnTo>
                    <a:lnTo>
                      <a:pt x="191" y="155"/>
                    </a:lnTo>
                    <a:lnTo>
                      <a:pt x="185" y="158"/>
                    </a:lnTo>
                    <a:lnTo>
                      <a:pt x="181" y="162"/>
                    </a:lnTo>
                    <a:lnTo>
                      <a:pt x="175" y="167"/>
                    </a:lnTo>
                    <a:lnTo>
                      <a:pt x="171" y="171"/>
                    </a:lnTo>
                    <a:lnTo>
                      <a:pt x="165" y="174"/>
                    </a:lnTo>
                    <a:lnTo>
                      <a:pt x="160" y="178"/>
                    </a:lnTo>
                    <a:lnTo>
                      <a:pt x="156" y="181"/>
                    </a:lnTo>
                    <a:lnTo>
                      <a:pt x="150" y="186"/>
                    </a:lnTo>
                    <a:lnTo>
                      <a:pt x="144" y="190"/>
                    </a:lnTo>
                    <a:lnTo>
                      <a:pt x="139" y="193"/>
                    </a:lnTo>
                    <a:lnTo>
                      <a:pt x="134" y="198"/>
                    </a:lnTo>
                    <a:lnTo>
                      <a:pt x="129" y="202"/>
                    </a:lnTo>
                    <a:lnTo>
                      <a:pt x="123" y="205"/>
                    </a:lnTo>
                    <a:lnTo>
                      <a:pt x="119" y="210"/>
                    </a:lnTo>
                    <a:lnTo>
                      <a:pt x="114" y="213"/>
                    </a:lnTo>
                    <a:lnTo>
                      <a:pt x="110" y="217"/>
                    </a:lnTo>
                    <a:lnTo>
                      <a:pt x="104" y="220"/>
                    </a:lnTo>
                    <a:lnTo>
                      <a:pt x="99" y="224"/>
                    </a:lnTo>
                    <a:lnTo>
                      <a:pt x="93" y="227"/>
                    </a:lnTo>
                    <a:lnTo>
                      <a:pt x="89" y="232"/>
                    </a:lnTo>
                    <a:lnTo>
                      <a:pt x="85" y="235"/>
                    </a:lnTo>
                    <a:lnTo>
                      <a:pt x="80" y="239"/>
                    </a:lnTo>
                    <a:lnTo>
                      <a:pt x="74" y="242"/>
                    </a:lnTo>
                    <a:lnTo>
                      <a:pt x="71" y="247"/>
                    </a:lnTo>
                    <a:lnTo>
                      <a:pt x="67" y="250"/>
                    </a:lnTo>
                    <a:lnTo>
                      <a:pt x="62" y="253"/>
                    </a:lnTo>
                    <a:lnTo>
                      <a:pt x="56" y="256"/>
                    </a:lnTo>
                    <a:lnTo>
                      <a:pt x="52" y="259"/>
                    </a:lnTo>
                    <a:lnTo>
                      <a:pt x="47" y="262"/>
                    </a:lnTo>
                    <a:lnTo>
                      <a:pt x="45" y="265"/>
                    </a:lnTo>
                    <a:lnTo>
                      <a:pt x="40" y="267"/>
                    </a:lnTo>
                    <a:lnTo>
                      <a:pt x="37" y="272"/>
                    </a:lnTo>
                    <a:lnTo>
                      <a:pt x="33" y="273"/>
                    </a:lnTo>
                    <a:lnTo>
                      <a:pt x="30" y="276"/>
                    </a:lnTo>
                    <a:lnTo>
                      <a:pt x="25" y="279"/>
                    </a:lnTo>
                    <a:lnTo>
                      <a:pt x="22" y="282"/>
                    </a:lnTo>
                    <a:lnTo>
                      <a:pt x="18" y="284"/>
                    </a:lnTo>
                    <a:lnTo>
                      <a:pt x="15" y="287"/>
                    </a:lnTo>
                    <a:lnTo>
                      <a:pt x="12" y="290"/>
                    </a:lnTo>
                    <a:lnTo>
                      <a:pt x="10" y="291"/>
                    </a:lnTo>
                    <a:lnTo>
                      <a:pt x="4" y="296"/>
                    </a:lnTo>
                    <a:lnTo>
                      <a:pt x="0" y="299"/>
                    </a:lnTo>
                    <a:lnTo>
                      <a:pt x="0" y="302"/>
                    </a:lnTo>
                    <a:lnTo>
                      <a:pt x="0" y="305"/>
                    </a:lnTo>
                    <a:lnTo>
                      <a:pt x="0" y="308"/>
                    </a:lnTo>
                    <a:lnTo>
                      <a:pt x="0" y="309"/>
                    </a:lnTo>
                    <a:lnTo>
                      <a:pt x="0" y="392"/>
                    </a:lnTo>
                    <a:lnTo>
                      <a:pt x="0" y="391"/>
                    </a:lnTo>
                    <a:lnTo>
                      <a:pt x="0" y="389"/>
                    </a:lnTo>
                    <a:lnTo>
                      <a:pt x="0" y="388"/>
                    </a:lnTo>
                    <a:lnTo>
                      <a:pt x="0" y="385"/>
                    </a:lnTo>
                    <a:lnTo>
                      <a:pt x="3" y="383"/>
                    </a:lnTo>
                    <a:lnTo>
                      <a:pt x="6" y="382"/>
                    </a:lnTo>
                    <a:lnTo>
                      <a:pt x="9" y="379"/>
                    </a:lnTo>
                    <a:lnTo>
                      <a:pt x="13" y="376"/>
                    </a:lnTo>
                    <a:lnTo>
                      <a:pt x="18" y="373"/>
                    </a:lnTo>
                    <a:lnTo>
                      <a:pt x="22" y="370"/>
                    </a:lnTo>
                    <a:lnTo>
                      <a:pt x="27" y="365"/>
                    </a:lnTo>
                    <a:lnTo>
                      <a:pt x="33" y="361"/>
                    </a:lnTo>
                    <a:lnTo>
                      <a:pt x="39" y="357"/>
                    </a:lnTo>
                    <a:lnTo>
                      <a:pt x="45" y="354"/>
                    </a:lnTo>
                    <a:lnTo>
                      <a:pt x="50" y="348"/>
                    </a:lnTo>
                    <a:lnTo>
                      <a:pt x="56" y="343"/>
                    </a:lnTo>
                    <a:lnTo>
                      <a:pt x="59" y="340"/>
                    </a:lnTo>
                    <a:lnTo>
                      <a:pt x="62" y="337"/>
                    </a:lnTo>
                    <a:lnTo>
                      <a:pt x="67" y="334"/>
                    </a:lnTo>
                    <a:lnTo>
                      <a:pt x="70" y="333"/>
                    </a:lnTo>
                    <a:lnTo>
                      <a:pt x="73" y="328"/>
                    </a:lnTo>
                    <a:lnTo>
                      <a:pt x="77" y="325"/>
                    </a:lnTo>
                    <a:lnTo>
                      <a:pt x="80" y="322"/>
                    </a:lnTo>
                    <a:lnTo>
                      <a:pt x="85" y="321"/>
                    </a:lnTo>
                    <a:lnTo>
                      <a:pt x="88" y="316"/>
                    </a:lnTo>
                    <a:lnTo>
                      <a:pt x="92" y="313"/>
                    </a:lnTo>
                    <a:lnTo>
                      <a:pt x="95" y="311"/>
                    </a:lnTo>
                    <a:lnTo>
                      <a:pt x="99" y="309"/>
                    </a:lnTo>
                    <a:lnTo>
                      <a:pt x="104" y="305"/>
                    </a:lnTo>
                    <a:lnTo>
                      <a:pt x="107" y="302"/>
                    </a:lnTo>
                    <a:lnTo>
                      <a:pt x="111" y="299"/>
                    </a:lnTo>
                    <a:lnTo>
                      <a:pt x="114" y="294"/>
                    </a:lnTo>
                    <a:lnTo>
                      <a:pt x="119" y="291"/>
                    </a:lnTo>
                    <a:lnTo>
                      <a:pt x="123" y="287"/>
                    </a:lnTo>
                    <a:lnTo>
                      <a:pt x="128" y="284"/>
                    </a:lnTo>
                    <a:lnTo>
                      <a:pt x="132" y="281"/>
                    </a:lnTo>
                    <a:lnTo>
                      <a:pt x="135" y="276"/>
                    </a:lnTo>
                    <a:lnTo>
                      <a:pt x="139" y="273"/>
                    </a:lnTo>
                    <a:lnTo>
                      <a:pt x="144" y="269"/>
                    </a:lnTo>
                    <a:lnTo>
                      <a:pt x="148" y="266"/>
                    </a:lnTo>
                    <a:lnTo>
                      <a:pt x="151" y="262"/>
                    </a:lnTo>
                    <a:lnTo>
                      <a:pt x="156" y="259"/>
                    </a:lnTo>
                    <a:lnTo>
                      <a:pt x="160" y="254"/>
                    </a:lnTo>
                    <a:lnTo>
                      <a:pt x="166" y="251"/>
                    </a:lnTo>
                    <a:lnTo>
                      <a:pt x="169" y="247"/>
                    </a:lnTo>
                    <a:lnTo>
                      <a:pt x="174" y="242"/>
                    </a:lnTo>
                    <a:lnTo>
                      <a:pt x="178" y="238"/>
                    </a:lnTo>
                    <a:lnTo>
                      <a:pt x="183" y="235"/>
                    </a:lnTo>
                    <a:lnTo>
                      <a:pt x="187" y="230"/>
                    </a:lnTo>
                    <a:lnTo>
                      <a:pt x="191" y="226"/>
                    </a:lnTo>
                    <a:lnTo>
                      <a:pt x="196" y="221"/>
                    </a:lnTo>
                    <a:lnTo>
                      <a:pt x="200" y="219"/>
                    </a:lnTo>
                    <a:lnTo>
                      <a:pt x="205" y="213"/>
                    </a:lnTo>
                    <a:lnTo>
                      <a:pt x="209" y="210"/>
                    </a:lnTo>
                    <a:lnTo>
                      <a:pt x="212" y="205"/>
                    </a:lnTo>
                    <a:lnTo>
                      <a:pt x="218" y="201"/>
                    </a:lnTo>
                    <a:lnTo>
                      <a:pt x="223" y="196"/>
                    </a:lnTo>
                    <a:lnTo>
                      <a:pt x="227" y="192"/>
                    </a:lnTo>
                    <a:lnTo>
                      <a:pt x="230" y="187"/>
                    </a:lnTo>
                    <a:lnTo>
                      <a:pt x="236" y="184"/>
                    </a:lnTo>
                    <a:lnTo>
                      <a:pt x="239" y="180"/>
                    </a:lnTo>
                    <a:lnTo>
                      <a:pt x="243" y="175"/>
                    </a:lnTo>
                    <a:lnTo>
                      <a:pt x="248" y="171"/>
                    </a:lnTo>
                    <a:lnTo>
                      <a:pt x="252" y="167"/>
                    </a:lnTo>
                    <a:lnTo>
                      <a:pt x="255" y="164"/>
                    </a:lnTo>
                    <a:lnTo>
                      <a:pt x="260" y="159"/>
                    </a:lnTo>
                    <a:lnTo>
                      <a:pt x="264" y="155"/>
                    </a:lnTo>
                    <a:lnTo>
                      <a:pt x="269" y="152"/>
                    </a:lnTo>
                    <a:lnTo>
                      <a:pt x="272" y="147"/>
                    </a:lnTo>
                    <a:lnTo>
                      <a:pt x="276" y="143"/>
                    </a:lnTo>
                    <a:lnTo>
                      <a:pt x="279" y="138"/>
                    </a:lnTo>
                    <a:lnTo>
                      <a:pt x="283" y="135"/>
                    </a:lnTo>
                    <a:lnTo>
                      <a:pt x="288" y="131"/>
                    </a:lnTo>
                    <a:lnTo>
                      <a:pt x="291" y="128"/>
                    </a:lnTo>
                    <a:lnTo>
                      <a:pt x="295" y="124"/>
                    </a:lnTo>
                    <a:lnTo>
                      <a:pt x="300" y="121"/>
                    </a:lnTo>
                    <a:lnTo>
                      <a:pt x="303" y="118"/>
                    </a:lnTo>
                    <a:lnTo>
                      <a:pt x="306" y="113"/>
                    </a:lnTo>
                    <a:lnTo>
                      <a:pt x="309" y="110"/>
                    </a:lnTo>
                    <a:lnTo>
                      <a:pt x="312" y="107"/>
                    </a:lnTo>
                    <a:lnTo>
                      <a:pt x="319" y="100"/>
                    </a:lnTo>
                    <a:lnTo>
                      <a:pt x="325" y="94"/>
                    </a:lnTo>
                    <a:lnTo>
                      <a:pt x="331" y="88"/>
                    </a:lnTo>
                    <a:lnTo>
                      <a:pt x="335" y="82"/>
                    </a:lnTo>
                    <a:lnTo>
                      <a:pt x="340" y="76"/>
                    </a:lnTo>
                    <a:lnTo>
                      <a:pt x="346" y="73"/>
                    </a:lnTo>
                    <a:lnTo>
                      <a:pt x="349" y="69"/>
                    </a:lnTo>
                    <a:lnTo>
                      <a:pt x="353" y="66"/>
                    </a:lnTo>
                    <a:lnTo>
                      <a:pt x="356" y="61"/>
                    </a:lnTo>
                    <a:lnTo>
                      <a:pt x="359" y="58"/>
                    </a:lnTo>
                    <a:lnTo>
                      <a:pt x="362" y="55"/>
                    </a:lnTo>
                    <a:lnTo>
                      <a:pt x="364" y="54"/>
                    </a:lnTo>
                    <a:lnTo>
                      <a:pt x="383" y="0"/>
                    </a:lnTo>
                    <a:lnTo>
                      <a:pt x="383"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8" name=""/>
            <p:cNvGrpSpPr/>
            <p:nvPr/>
          </p:nvGrpSpPr>
          <p:grpSpPr>
            <a:xfrm>
              <a:off x="2643120" y="1644480"/>
              <a:ext cx="826920" cy="560520"/>
              <a:chOff x="2643120" y="1644480"/>
              <a:chExt cx="826920" cy="560520"/>
            </a:xfrm>
          </p:grpSpPr>
          <p:sp>
            <p:nvSpPr>
              <p:cNvPr id="1059" name=""/>
              <p:cNvSpPr/>
              <p:nvPr/>
            </p:nvSpPr>
            <p:spPr>
              <a:xfrm>
                <a:off x="2697840" y="1732320"/>
                <a:ext cx="729000" cy="472680"/>
              </a:xfrm>
              <a:custGeom>
                <a:avLst/>
                <a:gdLst/>
                <a:ahLst/>
                <a:rect l="l" t="t" r="r" b="b"/>
                <a:pathLst>
                  <a:path w="797" h="516">
                    <a:moveTo>
                      <a:pt x="398" y="0"/>
                    </a:moveTo>
                    <a:lnTo>
                      <a:pt x="358" y="2"/>
                    </a:lnTo>
                    <a:lnTo>
                      <a:pt x="318" y="6"/>
                    </a:lnTo>
                    <a:lnTo>
                      <a:pt x="280" y="12"/>
                    </a:lnTo>
                    <a:lnTo>
                      <a:pt x="244" y="20"/>
                    </a:lnTo>
                    <a:lnTo>
                      <a:pt x="209" y="31"/>
                    </a:lnTo>
                    <a:lnTo>
                      <a:pt x="176" y="45"/>
                    </a:lnTo>
                    <a:lnTo>
                      <a:pt x="146" y="59"/>
                    </a:lnTo>
                    <a:lnTo>
                      <a:pt x="117" y="75"/>
                    </a:lnTo>
                    <a:lnTo>
                      <a:pt x="91" y="94"/>
                    </a:lnTo>
                    <a:lnTo>
                      <a:pt x="69" y="114"/>
                    </a:lnTo>
                    <a:lnTo>
                      <a:pt x="49" y="134"/>
                    </a:lnTo>
                    <a:lnTo>
                      <a:pt x="31" y="157"/>
                    </a:lnTo>
                    <a:lnTo>
                      <a:pt x="18" y="181"/>
                    </a:lnTo>
                    <a:lnTo>
                      <a:pt x="8" y="205"/>
                    </a:lnTo>
                    <a:lnTo>
                      <a:pt x="3" y="231"/>
                    </a:lnTo>
                    <a:lnTo>
                      <a:pt x="0" y="258"/>
                    </a:lnTo>
                    <a:lnTo>
                      <a:pt x="3" y="284"/>
                    </a:lnTo>
                    <a:lnTo>
                      <a:pt x="8" y="310"/>
                    </a:lnTo>
                    <a:lnTo>
                      <a:pt x="18" y="334"/>
                    </a:lnTo>
                    <a:lnTo>
                      <a:pt x="31" y="358"/>
                    </a:lnTo>
                    <a:lnTo>
                      <a:pt x="49" y="381"/>
                    </a:lnTo>
                    <a:lnTo>
                      <a:pt x="69" y="402"/>
                    </a:lnTo>
                    <a:lnTo>
                      <a:pt x="91" y="422"/>
                    </a:lnTo>
                    <a:lnTo>
                      <a:pt x="117" y="440"/>
                    </a:lnTo>
                    <a:lnTo>
                      <a:pt x="146" y="457"/>
                    </a:lnTo>
                    <a:lnTo>
                      <a:pt x="176" y="472"/>
                    </a:lnTo>
                    <a:lnTo>
                      <a:pt x="209" y="485"/>
                    </a:lnTo>
                    <a:lnTo>
                      <a:pt x="244" y="496"/>
                    </a:lnTo>
                    <a:lnTo>
                      <a:pt x="280" y="504"/>
                    </a:lnTo>
                    <a:lnTo>
                      <a:pt x="318" y="511"/>
                    </a:lnTo>
                    <a:lnTo>
                      <a:pt x="358" y="515"/>
                    </a:lnTo>
                    <a:lnTo>
                      <a:pt x="398" y="516"/>
                    </a:lnTo>
                    <a:lnTo>
                      <a:pt x="438" y="515"/>
                    </a:lnTo>
                    <a:lnTo>
                      <a:pt x="478" y="511"/>
                    </a:lnTo>
                    <a:lnTo>
                      <a:pt x="516" y="504"/>
                    </a:lnTo>
                    <a:lnTo>
                      <a:pt x="553" y="496"/>
                    </a:lnTo>
                    <a:lnTo>
                      <a:pt x="588" y="485"/>
                    </a:lnTo>
                    <a:lnTo>
                      <a:pt x="620" y="472"/>
                    </a:lnTo>
                    <a:lnTo>
                      <a:pt x="651" y="457"/>
                    </a:lnTo>
                    <a:lnTo>
                      <a:pt x="681" y="440"/>
                    </a:lnTo>
                    <a:lnTo>
                      <a:pt x="706" y="422"/>
                    </a:lnTo>
                    <a:lnTo>
                      <a:pt x="729" y="402"/>
                    </a:lnTo>
                    <a:lnTo>
                      <a:pt x="749" y="381"/>
                    </a:lnTo>
                    <a:lnTo>
                      <a:pt x="766" y="358"/>
                    </a:lnTo>
                    <a:lnTo>
                      <a:pt x="780" y="334"/>
                    </a:lnTo>
                    <a:lnTo>
                      <a:pt x="789" y="310"/>
                    </a:lnTo>
                    <a:lnTo>
                      <a:pt x="794" y="284"/>
                    </a:lnTo>
                    <a:lnTo>
                      <a:pt x="797" y="258"/>
                    </a:lnTo>
                    <a:lnTo>
                      <a:pt x="794" y="231"/>
                    </a:lnTo>
                    <a:lnTo>
                      <a:pt x="789" y="205"/>
                    </a:lnTo>
                    <a:lnTo>
                      <a:pt x="780" y="181"/>
                    </a:lnTo>
                    <a:lnTo>
                      <a:pt x="766" y="157"/>
                    </a:lnTo>
                    <a:lnTo>
                      <a:pt x="749" y="134"/>
                    </a:lnTo>
                    <a:lnTo>
                      <a:pt x="729" y="114"/>
                    </a:lnTo>
                    <a:lnTo>
                      <a:pt x="706" y="94"/>
                    </a:lnTo>
                    <a:lnTo>
                      <a:pt x="681" y="75"/>
                    </a:lnTo>
                    <a:lnTo>
                      <a:pt x="651" y="59"/>
                    </a:lnTo>
                    <a:lnTo>
                      <a:pt x="620" y="45"/>
                    </a:lnTo>
                    <a:lnTo>
                      <a:pt x="588" y="31"/>
                    </a:lnTo>
                    <a:lnTo>
                      <a:pt x="553" y="20"/>
                    </a:lnTo>
                    <a:lnTo>
                      <a:pt x="516" y="12"/>
                    </a:lnTo>
                    <a:lnTo>
                      <a:pt x="478" y="6"/>
                    </a:lnTo>
                    <a:lnTo>
                      <a:pt x="438" y="2"/>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2741040" y="1774440"/>
                <a:ext cx="643320" cy="387360"/>
              </a:xfrm>
              <a:custGeom>
                <a:avLst/>
                <a:gdLst/>
                <a:ahLst/>
                <a:rect l="l" t="t" r="r" b="b"/>
                <a:pathLst>
                  <a:path w="703" h="423">
                    <a:moveTo>
                      <a:pt x="0" y="212"/>
                    </a:moveTo>
                    <a:lnTo>
                      <a:pt x="2" y="190"/>
                    </a:lnTo>
                    <a:lnTo>
                      <a:pt x="7" y="169"/>
                    </a:lnTo>
                    <a:lnTo>
                      <a:pt x="16" y="149"/>
                    </a:lnTo>
                    <a:lnTo>
                      <a:pt x="28" y="130"/>
                    </a:lnTo>
                    <a:lnTo>
                      <a:pt x="43" y="111"/>
                    </a:lnTo>
                    <a:lnTo>
                      <a:pt x="61" y="94"/>
                    </a:lnTo>
                    <a:lnTo>
                      <a:pt x="81" y="78"/>
                    </a:lnTo>
                    <a:lnTo>
                      <a:pt x="103" y="62"/>
                    </a:lnTo>
                    <a:lnTo>
                      <a:pt x="129" y="48"/>
                    </a:lnTo>
                    <a:lnTo>
                      <a:pt x="156" y="36"/>
                    </a:lnTo>
                    <a:lnTo>
                      <a:pt x="184" y="25"/>
                    </a:lnTo>
                    <a:lnTo>
                      <a:pt x="214" y="16"/>
                    </a:lnTo>
                    <a:lnTo>
                      <a:pt x="247" y="9"/>
                    </a:lnTo>
                    <a:lnTo>
                      <a:pt x="280" y="4"/>
                    </a:lnTo>
                    <a:lnTo>
                      <a:pt x="315" y="1"/>
                    </a:lnTo>
                    <a:lnTo>
                      <a:pt x="351" y="0"/>
                    </a:lnTo>
                    <a:lnTo>
                      <a:pt x="387" y="1"/>
                    </a:lnTo>
                    <a:lnTo>
                      <a:pt x="422" y="4"/>
                    </a:lnTo>
                    <a:lnTo>
                      <a:pt x="455" y="9"/>
                    </a:lnTo>
                    <a:lnTo>
                      <a:pt x="488" y="16"/>
                    </a:lnTo>
                    <a:lnTo>
                      <a:pt x="518" y="25"/>
                    </a:lnTo>
                    <a:lnTo>
                      <a:pt x="548" y="36"/>
                    </a:lnTo>
                    <a:lnTo>
                      <a:pt x="575" y="48"/>
                    </a:lnTo>
                    <a:lnTo>
                      <a:pt x="600" y="62"/>
                    </a:lnTo>
                    <a:lnTo>
                      <a:pt x="623" y="78"/>
                    </a:lnTo>
                    <a:lnTo>
                      <a:pt x="643" y="94"/>
                    </a:lnTo>
                    <a:lnTo>
                      <a:pt x="660" y="111"/>
                    </a:lnTo>
                    <a:lnTo>
                      <a:pt x="675" y="130"/>
                    </a:lnTo>
                    <a:lnTo>
                      <a:pt x="687" y="149"/>
                    </a:lnTo>
                    <a:lnTo>
                      <a:pt x="696" y="169"/>
                    </a:lnTo>
                    <a:lnTo>
                      <a:pt x="702" y="190"/>
                    </a:lnTo>
                    <a:lnTo>
                      <a:pt x="703" y="212"/>
                    </a:lnTo>
                    <a:lnTo>
                      <a:pt x="702" y="233"/>
                    </a:lnTo>
                    <a:lnTo>
                      <a:pt x="696" y="255"/>
                    </a:lnTo>
                    <a:lnTo>
                      <a:pt x="687" y="275"/>
                    </a:lnTo>
                    <a:lnTo>
                      <a:pt x="675" y="293"/>
                    </a:lnTo>
                    <a:lnTo>
                      <a:pt x="660" y="312"/>
                    </a:lnTo>
                    <a:lnTo>
                      <a:pt x="643" y="330"/>
                    </a:lnTo>
                    <a:lnTo>
                      <a:pt x="623" y="346"/>
                    </a:lnTo>
                    <a:lnTo>
                      <a:pt x="600" y="362"/>
                    </a:lnTo>
                    <a:lnTo>
                      <a:pt x="575" y="375"/>
                    </a:lnTo>
                    <a:lnTo>
                      <a:pt x="548" y="387"/>
                    </a:lnTo>
                    <a:lnTo>
                      <a:pt x="518" y="398"/>
                    </a:lnTo>
                    <a:lnTo>
                      <a:pt x="488" y="407"/>
                    </a:lnTo>
                    <a:lnTo>
                      <a:pt x="455" y="414"/>
                    </a:lnTo>
                    <a:lnTo>
                      <a:pt x="422" y="419"/>
                    </a:lnTo>
                    <a:lnTo>
                      <a:pt x="387" y="422"/>
                    </a:lnTo>
                    <a:lnTo>
                      <a:pt x="351" y="423"/>
                    </a:lnTo>
                    <a:lnTo>
                      <a:pt x="315" y="422"/>
                    </a:lnTo>
                    <a:lnTo>
                      <a:pt x="280" y="419"/>
                    </a:lnTo>
                    <a:lnTo>
                      <a:pt x="247" y="414"/>
                    </a:lnTo>
                    <a:lnTo>
                      <a:pt x="214" y="407"/>
                    </a:lnTo>
                    <a:lnTo>
                      <a:pt x="184" y="398"/>
                    </a:lnTo>
                    <a:lnTo>
                      <a:pt x="156" y="387"/>
                    </a:lnTo>
                    <a:lnTo>
                      <a:pt x="129" y="375"/>
                    </a:lnTo>
                    <a:lnTo>
                      <a:pt x="103" y="362"/>
                    </a:lnTo>
                    <a:lnTo>
                      <a:pt x="81" y="346"/>
                    </a:lnTo>
                    <a:lnTo>
                      <a:pt x="61" y="330"/>
                    </a:lnTo>
                    <a:lnTo>
                      <a:pt x="43" y="312"/>
                    </a:lnTo>
                    <a:lnTo>
                      <a:pt x="28" y="293"/>
                    </a:lnTo>
                    <a:lnTo>
                      <a:pt x="16" y="275"/>
                    </a:lnTo>
                    <a:lnTo>
                      <a:pt x="7" y="255"/>
                    </a:lnTo>
                    <a:lnTo>
                      <a:pt x="2" y="233"/>
                    </a:lnTo>
                    <a:lnTo>
                      <a:pt x="0"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2859120" y="1761480"/>
                <a:ext cx="400680" cy="402840"/>
              </a:xfrm>
              <a:custGeom>
                <a:avLst/>
                <a:gdLst/>
                <a:ahLst/>
                <a:rect l="l" t="t" r="r" b="b"/>
                <a:pathLst>
                  <a:path w="438" h="440">
                    <a:moveTo>
                      <a:pt x="0" y="220"/>
                    </a:moveTo>
                    <a:lnTo>
                      <a:pt x="1" y="243"/>
                    </a:lnTo>
                    <a:lnTo>
                      <a:pt x="4" y="264"/>
                    </a:lnTo>
                    <a:lnTo>
                      <a:pt x="9" y="286"/>
                    </a:lnTo>
                    <a:lnTo>
                      <a:pt x="17" y="306"/>
                    </a:lnTo>
                    <a:lnTo>
                      <a:pt x="27" y="325"/>
                    </a:lnTo>
                    <a:lnTo>
                      <a:pt x="37" y="342"/>
                    </a:lnTo>
                    <a:lnTo>
                      <a:pt x="51" y="360"/>
                    </a:lnTo>
                    <a:lnTo>
                      <a:pt x="64" y="376"/>
                    </a:lnTo>
                    <a:lnTo>
                      <a:pt x="80" y="389"/>
                    </a:lnTo>
                    <a:lnTo>
                      <a:pt x="96" y="403"/>
                    </a:lnTo>
                    <a:lnTo>
                      <a:pt x="115" y="413"/>
                    </a:lnTo>
                    <a:lnTo>
                      <a:pt x="134" y="423"/>
                    </a:lnTo>
                    <a:lnTo>
                      <a:pt x="154" y="431"/>
                    </a:lnTo>
                    <a:lnTo>
                      <a:pt x="174" y="436"/>
                    </a:lnTo>
                    <a:lnTo>
                      <a:pt x="197" y="439"/>
                    </a:lnTo>
                    <a:lnTo>
                      <a:pt x="218" y="440"/>
                    </a:lnTo>
                    <a:lnTo>
                      <a:pt x="241" y="439"/>
                    </a:lnTo>
                    <a:lnTo>
                      <a:pt x="262" y="436"/>
                    </a:lnTo>
                    <a:lnTo>
                      <a:pt x="284" y="431"/>
                    </a:lnTo>
                    <a:lnTo>
                      <a:pt x="304" y="423"/>
                    </a:lnTo>
                    <a:lnTo>
                      <a:pt x="322" y="413"/>
                    </a:lnTo>
                    <a:lnTo>
                      <a:pt x="341" y="403"/>
                    </a:lnTo>
                    <a:lnTo>
                      <a:pt x="357" y="389"/>
                    </a:lnTo>
                    <a:lnTo>
                      <a:pt x="373" y="376"/>
                    </a:lnTo>
                    <a:lnTo>
                      <a:pt x="388" y="360"/>
                    </a:lnTo>
                    <a:lnTo>
                      <a:pt x="400" y="342"/>
                    </a:lnTo>
                    <a:lnTo>
                      <a:pt x="411" y="325"/>
                    </a:lnTo>
                    <a:lnTo>
                      <a:pt x="420" y="306"/>
                    </a:lnTo>
                    <a:lnTo>
                      <a:pt x="428" y="286"/>
                    </a:lnTo>
                    <a:lnTo>
                      <a:pt x="434" y="264"/>
                    </a:lnTo>
                    <a:lnTo>
                      <a:pt x="436" y="243"/>
                    </a:lnTo>
                    <a:lnTo>
                      <a:pt x="438" y="220"/>
                    </a:lnTo>
                    <a:lnTo>
                      <a:pt x="436" y="197"/>
                    </a:lnTo>
                    <a:lnTo>
                      <a:pt x="434" y="176"/>
                    </a:lnTo>
                    <a:lnTo>
                      <a:pt x="428" y="155"/>
                    </a:lnTo>
                    <a:lnTo>
                      <a:pt x="420" y="134"/>
                    </a:lnTo>
                    <a:lnTo>
                      <a:pt x="411" y="116"/>
                    </a:lnTo>
                    <a:lnTo>
                      <a:pt x="400" y="98"/>
                    </a:lnTo>
                    <a:lnTo>
                      <a:pt x="388" y="81"/>
                    </a:lnTo>
                    <a:lnTo>
                      <a:pt x="373" y="65"/>
                    </a:lnTo>
                    <a:lnTo>
                      <a:pt x="357" y="51"/>
                    </a:lnTo>
                    <a:lnTo>
                      <a:pt x="341" y="38"/>
                    </a:lnTo>
                    <a:lnTo>
                      <a:pt x="322" y="27"/>
                    </a:lnTo>
                    <a:lnTo>
                      <a:pt x="304" y="18"/>
                    </a:lnTo>
                    <a:lnTo>
                      <a:pt x="284" y="10"/>
                    </a:lnTo>
                    <a:lnTo>
                      <a:pt x="262" y="4"/>
                    </a:lnTo>
                    <a:lnTo>
                      <a:pt x="241" y="2"/>
                    </a:lnTo>
                    <a:lnTo>
                      <a:pt x="218" y="0"/>
                    </a:lnTo>
                    <a:lnTo>
                      <a:pt x="197" y="2"/>
                    </a:lnTo>
                    <a:lnTo>
                      <a:pt x="174" y="4"/>
                    </a:lnTo>
                    <a:lnTo>
                      <a:pt x="154" y="10"/>
                    </a:lnTo>
                    <a:lnTo>
                      <a:pt x="134" y="18"/>
                    </a:lnTo>
                    <a:lnTo>
                      <a:pt x="115" y="27"/>
                    </a:lnTo>
                    <a:lnTo>
                      <a:pt x="96" y="38"/>
                    </a:lnTo>
                    <a:lnTo>
                      <a:pt x="80" y="51"/>
                    </a:lnTo>
                    <a:lnTo>
                      <a:pt x="64" y="65"/>
                    </a:lnTo>
                    <a:lnTo>
                      <a:pt x="51" y="81"/>
                    </a:lnTo>
                    <a:lnTo>
                      <a:pt x="37" y="98"/>
                    </a:lnTo>
                    <a:lnTo>
                      <a:pt x="27" y="116"/>
                    </a:lnTo>
                    <a:lnTo>
                      <a:pt x="17" y="134"/>
                    </a:lnTo>
                    <a:lnTo>
                      <a:pt x="9" y="155"/>
                    </a:lnTo>
                    <a:lnTo>
                      <a:pt x="4" y="176"/>
                    </a:lnTo>
                    <a:lnTo>
                      <a:pt x="1" y="197"/>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2910240" y="1813680"/>
                <a:ext cx="297360" cy="299520"/>
              </a:xfrm>
              <a:custGeom>
                <a:avLst/>
                <a:gdLst/>
                <a:ahLst/>
                <a:rect l="l" t="t" r="r" b="b"/>
                <a:pathLst>
                  <a:path w="325" h="327">
                    <a:moveTo>
                      <a:pt x="0" y="163"/>
                    </a:moveTo>
                    <a:lnTo>
                      <a:pt x="3" y="131"/>
                    </a:lnTo>
                    <a:lnTo>
                      <a:pt x="12" y="100"/>
                    </a:lnTo>
                    <a:lnTo>
                      <a:pt x="28" y="72"/>
                    </a:lnTo>
                    <a:lnTo>
                      <a:pt x="47" y="48"/>
                    </a:lnTo>
                    <a:lnTo>
                      <a:pt x="71" y="28"/>
                    </a:lnTo>
                    <a:lnTo>
                      <a:pt x="99" y="13"/>
                    </a:lnTo>
                    <a:lnTo>
                      <a:pt x="130" y="2"/>
                    </a:lnTo>
                    <a:lnTo>
                      <a:pt x="162" y="0"/>
                    </a:lnTo>
                    <a:lnTo>
                      <a:pt x="195" y="2"/>
                    </a:lnTo>
                    <a:lnTo>
                      <a:pt x="226" y="13"/>
                    </a:lnTo>
                    <a:lnTo>
                      <a:pt x="253" y="28"/>
                    </a:lnTo>
                    <a:lnTo>
                      <a:pt x="278" y="48"/>
                    </a:lnTo>
                    <a:lnTo>
                      <a:pt x="297" y="72"/>
                    </a:lnTo>
                    <a:lnTo>
                      <a:pt x="313" y="100"/>
                    </a:lnTo>
                    <a:lnTo>
                      <a:pt x="323" y="131"/>
                    </a:lnTo>
                    <a:lnTo>
                      <a:pt x="325" y="163"/>
                    </a:lnTo>
                    <a:lnTo>
                      <a:pt x="323" y="195"/>
                    </a:lnTo>
                    <a:lnTo>
                      <a:pt x="313" y="226"/>
                    </a:lnTo>
                    <a:lnTo>
                      <a:pt x="297" y="254"/>
                    </a:lnTo>
                    <a:lnTo>
                      <a:pt x="278" y="279"/>
                    </a:lnTo>
                    <a:lnTo>
                      <a:pt x="253" y="299"/>
                    </a:lnTo>
                    <a:lnTo>
                      <a:pt x="226" y="313"/>
                    </a:lnTo>
                    <a:lnTo>
                      <a:pt x="195" y="324"/>
                    </a:lnTo>
                    <a:lnTo>
                      <a:pt x="162" y="327"/>
                    </a:lnTo>
                    <a:lnTo>
                      <a:pt x="130" y="324"/>
                    </a:lnTo>
                    <a:lnTo>
                      <a:pt x="99" y="313"/>
                    </a:lnTo>
                    <a:lnTo>
                      <a:pt x="71" y="299"/>
                    </a:lnTo>
                    <a:lnTo>
                      <a:pt x="47" y="279"/>
                    </a:lnTo>
                    <a:lnTo>
                      <a:pt x="28" y="254"/>
                    </a:lnTo>
                    <a:lnTo>
                      <a:pt x="12" y="226"/>
                    </a:lnTo>
                    <a:lnTo>
                      <a:pt x="3" y="195"/>
                    </a:lnTo>
                    <a:lnTo>
                      <a:pt x="0" y="163"/>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2954160" y="1858680"/>
                <a:ext cx="209160" cy="208800"/>
              </a:xfrm>
              <a:custGeom>
                <a:avLst/>
                <a:gdLst/>
                <a:ahLst/>
                <a:rect l="l" t="t" r="r" b="b"/>
                <a:pathLst>
                  <a:path w="229" h="228">
                    <a:moveTo>
                      <a:pt x="0" y="114"/>
                    </a:moveTo>
                    <a:lnTo>
                      <a:pt x="3" y="91"/>
                    </a:lnTo>
                    <a:lnTo>
                      <a:pt x="10" y="69"/>
                    </a:lnTo>
                    <a:lnTo>
                      <a:pt x="20" y="50"/>
                    </a:lnTo>
                    <a:lnTo>
                      <a:pt x="34" y="32"/>
                    </a:lnTo>
                    <a:lnTo>
                      <a:pt x="51" y="19"/>
                    </a:lnTo>
                    <a:lnTo>
                      <a:pt x="70" y="10"/>
                    </a:lnTo>
                    <a:lnTo>
                      <a:pt x="91" y="3"/>
                    </a:lnTo>
                    <a:lnTo>
                      <a:pt x="114" y="0"/>
                    </a:lnTo>
                    <a:lnTo>
                      <a:pt x="137" y="3"/>
                    </a:lnTo>
                    <a:lnTo>
                      <a:pt x="158" y="10"/>
                    </a:lnTo>
                    <a:lnTo>
                      <a:pt x="178" y="19"/>
                    </a:lnTo>
                    <a:lnTo>
                      <a:pt x="196" y="32"/>
                    </a:lnTo>
                    <a:lnTo>
                      <a:pt x="209" y="50"/>
                    </a:lnTo>
                    <a:lnTo>
                      <a:pt x="220" y="69"/>
                    </a:lnTo>
                    <a:lnTo>
                      <a:pt x="226" y="91"/>
                    </a:lnTo>
                    <a:lnTo>
                      <a:pt x="229" y="114"/>
                    </a:lnTo>
                    <a:lnTo>
                      <a:pt x="226" y="137"/>
                    </a:lnTo>
                    <a:lnTo>
                      <a:pt x="220" y="158"/>
                    </a:lnTo>
                    <a:lnTo>
                      <a:pt x="209" y="179"/>
                    </a:lnTo>
                    <a:lnTo>
                      <a:pt x="196" y="195"/>
                    </a:lnTo>
                    <a:lnTo>
                      <a:pt x="178" y="208"/>
                    </a:lnTo>
                    <a:lnTo>
                      <a:pt x="158" y="219"/>
                    </a:lnTo>
                    <a:lnTo>
                      <a:pt x="137" y="225"/>
                    </a:lnTo>
                    <a:lnTo>
                      <a:pt x="114" y="228"/>
                    </a:lnTo>
                    <a:lnTo>
                      <a:pt x="91" y="225"/>
                    </a:lnTo>
                    <a:lnTo>
                      <a:pt x="70" y="219"/>
                    </a:lnTo>
                    <a:lnTo>
                      <a:pt x="51" y="208"/>
                    </a:lnTo>
                    <a:lnTo>
                      <a:pt x="34" y="195"/>
                    </a:lnTo>
                    <a:lnTo>
                      <a:pt x="20" y="179"/>
                    </a:lnTo>
                    <a:lnTo>
                      <a:pt x="10" y="158"/>
                    </a:lnTo>
                    <a:lnTo>
                      <a:pt x="3" y="137"/>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3101760" y="1873440"/>
                <a:ext cx="61920" cy="60120"/>
              </a:xfrm>
              <a:custGeom>
                <a:avLst/>
                <a:gdLst/>
                <a:ahLst/>
                <a:rect l="l" t="t" r="r" b="b"/>
                <a:pathLst>
                  <a:path w="68" h="66">
                    <a:moveTo>
                      <a:pt x="68" y="33"/>
                    </a:moveTo>
                    <a:lnTo>
                      <a:pt x="65" y="46"/>
                    </a:lnTo>
                    <a:lnTo>
                      <a:pt x="59" y="57"/>
                    </a:lnTo>
                    <a:lnTo>
                      <a:pt x="48" y="63"/>
                    </a:lnTo>
                    <a:lnTo>
                      <a:pt x="35" y="66"/>
                    </a:lnTo>
                    <a:lnTo>
                      <a:pt x="35" y="66"/>
                    </a:lnTo>
                    <a:lnTo>
                      <a:pt x="21" y="63"/>
                    </a:lnTo>
                    <a:lnTo>
                      <a:pt x="11" y="57"/>
                    </a:lnTo>
                    <a:lnTo>
                      <a:pt x="3" y="46"/>
                    </a:lnTo>
                    <a:lnTo>
                      <a:pt x="0" y="33"/>
                    </a:lnTo>
                    <a:lnTo>
                      <a:pt x="0" y="33"/>
                    </a:lnTo>
                    <a:lnTo>
                      <a:pt x="3" y="19"/>
                    </a:lnTo>
                    <a:lnTo>
                      <a:pt x="11" y="10"/>
                    </a:lnTo>
                    <a:lnTo>
                      <a:pt x="21" y="3"/>
                    </a:lnTo>
                    <a:lnTo>
                      <a:pt x="35" y="0"/>
                    </a:lnTo>
                    <a:lnTo>
                      <a:pt x="35" y="0"/>
                    </a:lnTo>
                    <a:lnTo>
                      <a:pt x="48" y="3"/>
                    </a:lnTo>
                    <a:lnTo>
                      <a:pt x="59" y="10"/>
                    </a:lnTo>
                    <a:lnTo>
                      <a:pt x="65" y="19"/>
                    </a:lnTo>
                    <a:lnTo>
                      <a:pt x="68" y="33"/>
                    </a:lnTo>
                    <a:lnTo>
                      <a:pt x="68" y="3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65" name=""/>
              <p:cNvSpPr/>
              <p:nvPr/>
            </p:nvSpPr>
            <p:spPr>
              <a:xfrm>
                <a:off x="3037320" y="1644480"/>
                <a:ext cx="327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884680" y="1656000"/>
                <a:ext cx="61200" cy="109080"/>
              </a:xfrm>
              <a:custGeom>
                <a:avLst/>
                <a:gdLst/>
                <a:ahLst/>
                <a:rect l="l" t="t" r="r" b="b"/>
                <a:pathLst>
                  <a:path w="67" h="119">
                    <a:moveTo>
                      <a:pt x="0" y="11"/>
                    </a:moveTo>
                    <a:lnTo>
                      <a:pt x="31" y="119"/>
                    </a:lnTo>
                    <a:lnTo>
                      <a:pt x="67" y="110"/>
                    </a:lnTo>
                    <a:lnTo>
                      <a:pt x="3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2739960" y="1712880"/>
                <a:ext cx="89640" cy="102600"/>
              </a:xfrm>
              <a:custGeom>
                <a:avLst/>
                <a:gdLst/>
                <a:ahLst/>
                <a:rect l="l" t="t" r="r" b="b"/>
                <a:pathLst>
                  <a:path w="98" h="112">
                    <a:moveTo>
                      <a:pt x="0" y="23"/>
                    </a:moveTo>
                    <a:lnTo>
                      <a:pt x="68" y="112"/>
                    </a:lnTo>
                    <a:lnTo>
                      <a:pt x="98" y="90"/>
                    </a:lnTo>
                    <a:lnTo>
                      <a:pt x="29"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643120" y="1825560"/>
                <a:ext cx="103320" cy="88560"/>
              </a:xfrm>
              <a:custGeom>
                <a:avLst/>
                <a:gdLst/>
                <a:ahLst/>
                <a:rect l="l" t="t" r="r" b="b"/>
                <a:pathLst>
                  <a:path w="113" h="97">
                    <a:moveTo>
                      <a:pt x="0" y="31"/>
                    </a:moveTo>
                    <a:lnTo>
                      <a:pt x="91" y="97"/>
                    </a:lnTo>
                    <a:lnTo>
                      <a:pt x="113" y="67"/>
                    </a:lnTo>
                    <a:lnTo>
                      <a:pt x="22" y="0"/>
                    </a:lnTo>
                    <a:lnTo>
                      <a:pt x="0"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69" name=""/>
              <p:cNvSpPr/>
              <p:nvPr/>
            </p:nvSpPr>
            <p:spPr>
              <a:xfrm>
                <a:off x="3168360" y="1656000"/>
                <a:ext cx="60480" cy="109080"/>
              </a:xfrm>
              <a:custGeom>
                <a:avLst/>
                <a:gdLst/>
                <a:ahLst/>
                <a:rect l="l" t="t" r="r" b="b"/>
                <a:pathLst>
                  <a:path w="66" h="119">
                    <a:moveTo>
                      <a:pt x="66" y="11"/>
                    </a:moveTo>
                    <a:lnTo>
                      <a:pt x="35" y="119"/>
                    </a:lnTo>
                    <a:lnTo>
                      <a:pt x="0" y="110"/>
                    </a:lnTo>
                    <a:lnTo>
                      <a:pt x="31" y="0"/>
                    </a:lnTo>
                    <a:lnTo>
                      <a:pt x="6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3283560" y="1712880"/>
                <a:ext cx="89640" cy="102600"/>
              </a:xfrm>
              <a:custGeom>
                <a:avLst/>
                <a:gdLst/>
                <a:ahLst/>
                <a:rect l="l" t="t" r="r" b="b"/>
                <a:pathLst>
                  <a:path w="98" h="112">
                    <a:moveTo>
                      <a:pt x="98" y="23"/>
                    </a:moveTo>
                    <a:lnTo>
                      <a:pt x="30" y="112"/>
                    </a:lnTo>
                    <a:lnTo>
                      <a:pt x="0" y="90"/>
                    </a:lnTo>
                    <a:lnTo>
                      <a:pt x="69" y="0"/>
                    </a:lnTo>
                    <a:lnTo>
                      <a:pt x="9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3366720" y="1825560"/>
                <a:ext cx="103320" cy="88560"/>
              </a:xfrm>
              <a:custGeom>
                <a:avLst/>
                <a:gdLst/>
                <a:ahLst/>
                <a:rect l="l" t="t" r="r" b="b"/>
                <a:pathLst>
                  <a:path w="113" h="97">
                    <a:moveTo>
                      <a:pt x="113" y="31"/>
                    </a:moveTo>
                    <a:lnTo>
                      <a:pt x="23" y="97"/>
                    </a:lnTo>
                    <a:lnTo>
                      <a:pt x="0" y="67"/>
                    </a:lnTo>
                    <a:lnTo>
                      <a:pt x="91" y="0"/>
                    </a:lnTo>
                    <a:lnTo>
                      <a:pt x="113"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sp>
        <p:nvSpPr>
          <p:cNvPr id="10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7.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
          <p:cNvSpPr/>
          <p:nvPr/>
        </p:nvSpPr>
        <p:spPr>
          <a:xfrm flipH="1">
            <a:off x="343080" y="1327320"/>
            <a:ext cx="8348400" cy="5233680"/>
          </a:xfrm>
          <a:custGeom>
            <a:avLst/>
            <a:gdLst/>
            <a:ahLst/>
            <a:rect l="l" t="t" r="r" b="b"/>
            <a:pathLst>
              <a:path w="5184" h="3297">
                <a:moveTo>
                  <a:pt x="0" y="2912"/>
                </a:moveTo>
                <a:lnTo>
                  <a:pt x="0" y="0"/>
                </a:lnTo>
                <a:lnTo>
                  <a:pt x="1325" y="0"/>
                </a:lnTo>
                <a:lnTo>
                  <a:pt x="1325" y="1669"/>
                </a:lnTo>
                <a:lnTo>
                  <a:pt x="5184" y="1669"/>
                </a:lnTo>
                <a:lnTo>
                  <a:pt x="5184" y="3297"/>
                </a:lnTo>
                <a:lnTo>
                  <a:pt x="0" y="3297"/>
                </a:lnTo>
                <a:lnTo>
                  <a:pt x="0" y="2912"/>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PlaceHolder 1"/>
          <p:cNvSpPr>
            <a:spLocks noGrp="1"/>
          </p:cNvSpPr>
          <p:nvPr>
            <p:ph type="title"/>
          </p:nvPr>
        </p:nvSpPr>
        <p:spPr>
          <a:xfrm>
            <a:off x="762120" y="24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Routes of Exposure</a:t>
            </a:r>
            <a:endParaRPr b="0" lang="en-US" sz="4400" spc="-1" strike="noStrike">
              <a:solidFill>
                <a:srgbClr val="000000"/>
              </a:solidFill>
              <a:latin typeface="Times New Roman"/>
            </a:endParaRPr>
          </a:p>
        </p:txBody>
      </p:sp>
      <p:sp>
        <p:nvSpPr>
          <p:cNvPr id="1075" name="PlaceHolder 2"/>
          <p:cNvSpPr>
            <a:spLocks noGrp="1"/>
          </p:cNvSpPr>
          <p:nvPr>
            <p:ph/>
          </p:nvPr>
        </p:nvSpPr>
        <p:spPr>
          <a:xfrm>
            <a:off x="762120" y="4157280"/>
            <a:ext cx="7772400" cy="941400"/>
          </a:xfrm>
          <a:prstGeom prst="rect">
            <a:avLst/>
          </a:prstGeom>
          <a:noFill/>
          <a:ln w="0">
            <a:noFill/>
          </a:ln>
        </p:spPr>
        <p:txBody>
          <a:bodyPr lIns="90000" rIns="90000" tIns="46800" bIns="46800" anchor="t">
            <a:normAutofit fontScale="79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kin is penetrated or punctured by contaminated objects, substances can be circulated in the blood and do damage to organs.</a:t>
            </a:r>
            <a:endParaRPr b="0" lang="en-US" sz="2800" spc="-1" strike="noStrike">
              <a:solidFill>
                <a:srgbClr val="000000"/>
              </a:solidFill>
              <a:latin typeface="Times New Roman"/>
            </a:endParaRPr>
          </a:p>
        </p:txBody>
      </p:sp>
      <p:sp>
        <p:nvSpPr>
          <p:cNvPr id="1076" name=""/>
          <p:cNvSpPr/>
          <p:nvPr/>
        </p:nvSpPr>
        <p:spPr>
          <a:xfrm>
            <a:off x="5570640" y="4430880"/>
            <a:ext cx="90360" cy="2880"/>
          </a:xfrm>
          <a:custGeom>
            <a:avLst/>
            <a:gdLst/>
            <a:ahLst/>
            <a:rect l="l" t="t" r="r" b="b"/>
            <a:pathLst>
              <a:path w="57" h="2">
                <a:moveTo>
                  <a:pt x="0" y="2"/>
                </a:moveTo>
                <a:lnTo>
                  <a:pt x="21" y="2"/>
                </a:lnTo>
                <a:lnTo>
                  <a:pt x="21" y="2"/>
                </a:lnTo>
                <a:lnTo>
                  <a:pt x="21" y="2"/>
                </a:lnTo>
                <a:lnTo>
                  <a:pt x="21" y="2"/>
                </a:lnTo>
                <a:lnTo>
                  <a:pt x="21" y="2"/>
                </a:lnTo>
                <a:lnTo>
                  <a:pt x="21" y="2"/>
                </a:lnTo>
                <a:lnTo>
                  <a:pt x="21" y="2"/>
                </a:lnTo>
                <a:lnTo>
                  <a:pt x="21" y="2"/>
                </a:lnTo>
                <a:lnTo>
                  <a:pt x="21" y="2"/>
                </a:lnTo>
                <a:lnTo>
                  <a:pt x="17" y="2"/>
                </a:lnTo>
                <a:lnTo>
                  <a:pt x="15" y="2"/>
                </a:lnTo>
                <a:lnTo>
                  <a:pt x="13" y="2"/>
                </a:lnTo>
                <a:lnTo>
                  <a:pt x="9" y="2"/>
                </a:lnTo>
                <a:lnTo>
                  <a:pt x="7" y="2"/>
                </a:lnTo>
                <a:lnTo>
                  <a:pt x="5" y="2"/>
                </a:lnTo>
                <a:lnTo>
                  <a:pt x="2" y="2"/>
                </a:lnTo>
                <a:lnTo>
                  <a:pt x="0" y="2"/>
                </a:lnTo>
                <a:close/>
                <a:moveTo>
                  <a:pt x="44" y="0"/>
                </a:moveTo>
                <a:lnTo>
                  <a:pt x="57" y="0"/>
                </a:lnTo>
                <a:lnTo>
                  <a:pt x="55" y="0"/>
                </a:lnTo>
                <a:lnTo>
                  <a:pt x="53" y="0"/>
                </a:lnTo>
                <a:lnTo>
                  <a:pt x="53" y="0"/>
                </a:lnTo>
                <a:lnTo>
                  <a:pt x="51" y="0"/>
                </a:lnTo>
                <a:lnTo>
                  <a:pt x="50" y="0"/>
                </a:lnTo>
                <a:lnTo>
                  <a:pt x="48" y="0"/>
                </a:lnTo>
                <a:lnTo>
                  <a:pt x="48" y="2"/>
                </a:lnTo>
                <a:lnTo>
                  <a:pt x="46" y="2"/>
                </a:lnTo>
                <a:lnTo>
                  <a:pt x="46" y="2"/>
                </a:lnTo>
                <a:lnTo>
                  <a:pt x="46" y="2"/>
                </a:lnTo>
                <a:lnTo>
                  <a:pt x="46" y="0"/>
                </a:lnTo>
                <a:lnTo>
                  <a:pt x="46" y="0"/>
                </a:lnTo>
                <a:lnTo>
                  <a:pt x="46" y="0"/>
                </a:lnTo>
                <a:lnTo>
                  <a:pt x="44" y="0"/>
                </a:lnTo>
                <a:lnTo>
                  <a:pt x="44" y="0"/>
                </a:lnTo>
                <a:lnTo>
                  <a:pt x="44" y="0"/>
                </a:lnTo>
                <a:close/>
              </a:path>
            </a:pathLst>
          </a:custGeom>
          <a:solidFill>
            <a:srgbClr val="83b6b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7" name=""/>
          <p:cNvSpPr/>
          <p:nvPr/>
        </p:nvSpPr>
        <p:spPr>
          <a:xfrm>
            <a:off x="3747960" y="3084480"/>
            <a:ext cx="6480" cy="9720"/>
          </a:xfrm>
          <a:custGeom>
            <a:avLst/>
            <a:gdLst/>
            <a:ahLst/>
            <a:rect l="l" t="t" r="r" b="b"/>
            <a:pathLst>
              <a:path w="4" h="6">
                <a:moveTo>
                  <a:pt x="4" y="0"/>
                </a:moveTo>
                <a:lnTo>
                  <a:pt x="4" y="2"/>
                </a:lnTo>
                <a:lnTo>
                  <a:pt x="4" y="2"/>
                </a:lnTo>
                <a:lnTo>
                  <a:pt x="2" y="2"/>
                </a:lnTo>
                <a:lnTo>
                  <a:pt x="2" y="4"/>
                </a:lnTo>
                <a:lnTo>
                  <a:pt x="2" y="4"/>
                </a:lnTo>
                <a:lnTo>
                  <a:pt x="2" y="4"/>
                </a:lnTo>
                <a:lnTo>
                  <a:pt x="2" y="6"/>
                </a:lnTo>
                <a:lnTo>
                  <a:pt x="0" y="6"/>
                </a:lnTo>
                <a:lnTo>
                  <a:pt x="0" y="6"/>
                </a:lnTo>
                <a:lnTo>
                  <a:pt x="0" y="6"/>
                </a:lnTo>
                <a:lnTo>
                  <a:pt x="0" y="6"/>
                </a:lnTo>
                <a:lnTo>
                  <a:pt x="0" y="6"/>
                </a:lnTo>
                <a:lnTo>
                  <a:pt x="0" y="6"/>
                </a:lnTo>
                <a:lnTo>
                  <a:pt x="0" y="6"/>
                </a:lnTo>
                <a:lnTo>
                  <a:pt x="0" y="6"/>
                </a:lnTo>
                <a:lnTo>
                  <a:pt x="0" y="6"/>
                </a:lnTo>
                <a:lnTo>
                  <a:pt x="0" y="6"/>
                </a:lnTo>
                <a:lnTo>
                  <a:pt x="0" y="4"/>
                </a:lnTo>
                <a:lnTo>
                  <a:pt x="0" y="4"/>
                </a:lnTo>
                <a:lnTo>
                  <a:pt x="0" y="4"/>
                </a:lnTo>
                <a:lnTo>
                  <a:pt x="0" y="4"/>
                </a:lnTo>
                <a:lnTo>
                  <a:pt x="0" y="2"/>
                </a:lnTo>
                <a:lnTo>
                  <a:pt x="0" y="2"/>
                </a:lnTo>
                <a:lnTo>
                  <a:pt x="0" y="2"/>
                </a:lnTo>
                <a:lnTo>
                  <a:pt x="0" y="2"/>
                </a:lnTo>
                <a:lnTo>
                  <a:pt x="2" y="2"/>
                </a:lnTo>
                <a:lnTo>
                  <a:pt x="2" y="2"/>
                </a:lnTo>
                <a:lnTo>
                  <a:pt x="2" y="2"/>
                </a:lnTo>
                <a:lnTo>
                  <a:pt x="2" y="2"/>
                </a:lnTo>
                <a:lnTo>
                  <a:pt x="4" y="2"/>
                </a:lnTo>
                <a:lnTo>
                  <a:pt x="4" y="2"/>
                </a:lnTo>
                <a:lnTo>
                  <a:pt x="4" y="0"/>
                </a:lnTo>
                <a:close/>
              </a:path>
            </a:pathLst>
          </a:custGeom>
          <a:solidFill>
            <a:srgbClr val="e5b2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8" name=""/>
          <p:cNvSpPr/>
          <p:nvPr/>
        </p:nvSpPr>
        <p:spPr>
          <a:xfrm>
            <a:off x="511560" y="3157560"/>
            <a:ext cx="176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halation</a:t>
            </a:r>
            <a:endParaRPr b="0" lang="en-US" sz="2800" spc="-1" strike="noStrike">
              <a:solidFill>
                <a:srgbClr val="000000"/>
              </a:solidFill>
              <a:latin typeface="Arial"/>
            </a:endParaRPr>
          </a:p>
        </p:txBody>
      </p:sp>
      <p:sp>
        <p:nvSpPr>
          <p:cNvPr id="1079" name=""/>
          <p:cNvSpPr/>
          <p:nvPr/>
        </p:nvSpPr>
        <p:spPr>
          <a:xfrm>
            <a:off x="2532240" y="315756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orption</a:t>
            </a:r>
            <a:endParaRPr b="0" lang="en-US" sz="2800" spc="-1" strike="noStrike">
              <a:solidFill>
                <a:srgbClr val="000000"/>
              </a:solidFill>
              <a:latin typeface="Arial"/>
            </a:endParaRPr>
          </a:p>
        </p:txBody>
      </p:sp>
      <p:sp>
        <p:nvSpPr>
          <p:cNvPr id="1080" name=""/>
          <p:cNvSpPr/>
          <p:nvPr/>
        </p:nvSpPr>
        <p:spPr>
          <a:xfrm>
            <a:off x="4786920" y="315756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gestion</a:t>
            </a:r>
            <a:endParaRPr b="0" lang="en-US" sz="2800" spc="-1" strike="noStrike">
              <a:solidFill>
                <a:srgbClr val="000000"/>
              </a:solidFill>
              <a:latin typeface="Arial"/>
            </a:endParaRPr>
          </a:p>
        </p:txBody>
      </p:sp>
      <p:sp>
        <p:nvSpPr>
          <p:cNvPr id="1081" name=""/>
          <p:cNvSpPr/>
          <p:nvPr/>
        </p:nvSpPr>
        <p:spPr>
          <a:xfrm>
            <a:off x="6885000" y="315756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jection</a:t>
            </a:r>
            <a:endParaRPr b="0" lang="en-US" sz="2800" spc="-1" strike="noStrike">
              <a:solidFill>
                <a:srgbClr val="000000"/>
              </a:solidFill>
              <a:latin typeface="Arial"/>
            </a:endParaRPr>
          </a:p>
        </p:txBody>
      </p:sp>
      <p:grpSp>
        <p:nvGrpSpPr>
          <p:cNvPr id="1082" name=""/>
          <p:cNvGrpSpPr/>
          <p:nvPr/>
        </p:nvGrpSpPr>
        <p:grpSpPr>
          <a:xfrm>
            <a:off x="4786200" y="2001240"/>
            <a:ext cx="1581480" cy="913680"/>
            <a:chOff x="4786200" y="2001240"/>
            <a:chExt cx="1581480" cy="913680"/>
          </a:xfrm>
        </p:grpSpPr>
        <p:sp>
          <p:nvSpPr>
            <p:cNvPr id="1083" name=""/>
            <p:cNvSpPr/>
            <p:nvPr/>
          </p:nvSpPr>
          <p:spPr>
            <a:xfrm>
              <a:off x="4834080" y="2049480"/>
              <a:ext cx="1514520" cy="730440"/>
            </a:xfrm>
            <a:custGeom>
              <a:avLst/>
              <a:gdLst/>
              <a:ahLst/>
              <a:rect l="l" t="t" r="r" b="b"/>
              <a:pathLst>
                <a:path w="4262" h="2060">
                  <a:moveTo>
                    <a:pt x="0" y="1035"/>
                  </a:moveTo>
                  <a:lnTo>
                    <a:pt x="522" y="576"/>
                  </a:lnTo>
                  <a:lnTo>
                    <a:pt x="1262" y="91"/>
                  </a:lnTo>
                  <a:lnTo>
                    <a:pt x="1600" y="0"/>
                  </a:lnTo>
                  <a:lnTo>
                    <a:pt x="1848" y="128"/>
                  </a:lnTo>
                  <a:lnTo>
                    <a:pt x="2231" y="274"/>
                  </a:lnTo>
                  <a:lnTo>
                    <a:pt x="2433" y="202"/>
                  </a:lnTo>
                  <a:lnTo>
                    <a:pt x="2688" y="73"/>
                  </a:lnTo>
                  <a:lnTo>
                    <a:pt x="3054" y="82"/>
                  </a:lnTo>
                  <a:lnTo>
                    <a:pt x="3842" y="641"/>
                  </a:lnTo>
                  <a:lnTo>
                    <a:pt x="4262" y="851"/>
                  </a:lnTo>
                  <a:lnTo>
                    <a:pt x="4262" y="1007"/>
                  </a:lnTo>
                  <a:lnTo>
                    <a:pt x="3859" y="1446"/>
                  </a:lnTo>
                  <a:lnTo>
                    <a:pt x="2991" y="2060"/>
                  </a:lnTo>
                  <a:lnTo>
                    <a:pt x="851" y="1986"/>
                  </a:lnTo>
                  <a:lnTo>
                    <a:pt x="128" y="1492"/>
                  </a:lnTo>
                  <a:lnTo>
                    <a:pt x="0" y="1035"/>
                  </a:lnTo>
                  <a:lnTo>
                    <a:pt x="0" y="10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4802040" y="2152440"/>
              <a:ext cx="1556280" cy="591840"/>
            </a:xfrm>
            <a:custGeom>
              <a:avLst/>
              <a:gdLst/>
              <a:ahLst/>
              <a:rect l="l" t="t" r="r" b="b"/>
              <a:pathLst>
                <a:path w="4382" h="1667">
                  <a:moveTo>
                    <a:pt x="55" y="1007"/>
                  </a:moveTo>
                  <a:lnTo>
                    <a:pt x="303" y="1245"/>
                  </a:lnTo>
                  <a:lnTo>
                    <a:pt x="1931" y="1667"/>
                  </a:lnTo>
                  <a:lnTo>
                    <a:pt x="3448" y="1447"/>
                  </a:lnTo>
                  <a:lnTo>
                    <a:pt x="4108" y="1034"/>
                  </a:lnTo>
                  <a:lnTo>
                    <a:pt x="4382" y="668"/>
                  </a:lnTo>
                  <a:lnTo>
                    <a:pt x="4097" y="631"/>
                  </a:lnTo>
                  <a:lnTo>
                    <a:pt x="3751" y="466"/>
                  </a:lnTo>
                  <a:lnTo>
                    <a:pt x="3221" y="151"/>
                  </a:lnTo>
                  <a:lnTo>
                    <a:pt x="2973" y="36"/>
                  </a:lnTo>
                  <a:lnTo>
                    <a:pt x="2826" y="72"/>
                  </a:lnTo>
                  <a:lnTo>
                    <a:pt x="2680" y="127"/>
                  </a:lnTo>
                  <a:lnTo>
                    <a:pt x="2415" y="229"/>
                  </a:lnTo>
                  <a:lnTo>
                    <a:pt x="2251" y="220"/>
                  </a:lnTo>
                  <a:lnTo>
                    <a:pt x="1903" y="31"/>
                  </a:lnTo>
                  <a:lnTo>
                    <a:pt x="1592" y="0"/>
                  </a:lnTo>
                  <a:lnTo>
                    <a:pt x="1345" y="72"/>
                  </a:lnTo>
                  <a:lnTo>
                    <a:pt x="960" y="255"/>
                  </a:lnTo>
                  <a:lnTo>
                    <a:pt x="645" y="512"/>
                  </a:lnTo>
                  <a:lnTo>
                    <a:pt x="211" y="696"/>
                  </a:lnTo>
                  <a:lnTo>
                    <a:pt x="0" y="788"/>
                  </a:lnTo>
                  <a:lnTo>
                    <a:pt x="55" y="1007"/>
                  </a:lnTo>
                  <a:lnTo>
                    <a:pt x="55" y="100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837320" y="2165040"/>
              <a:ext cx="1530360" cy="362880"/>
            </a:xfrm>
            <a:custGeom>
              <a:avLst/>
              <a:gdLst/>
              <a:ahLst/>
              <a:rect l="l" t="t" r="r" b="b"/>
              <a:pathLst>
                <a:path w="4308" h="1022">
                  <a:moveTo>
                    <a:pt x="0" y="861"/>
                  </a:moveTo>
                  <a:lnTo>
                    <a:pt x="26" y="851"/>
                  </a:lnTo>
                  <a:lnTo>
                    <a:pt x="95" y="820"/>
                  </a:lnTo>
                  <a:lnTo>
                    <a:pt x="140" y="797"/>
                  </a:lnTo>
                  <a:lnTo>
                    <a:pt x="190" y="771"/>
                  </a:lnTo>
                  <a:lnTo>
                    <a:pt x="241" y="740"/>
                  </a:lnTo>
                  <a:lnTo>
                    <a:pt x="293" y="706"/>
                  </a:lnTo>
                  <a:lnTo>
                    <a:pt x="343" y="668"/>
                  </a:lnTo>
                  <a:lnTo>
                    <a:pt x="390" y="628"/>
                  </a:lnTo>
                  <a:lnTo>
                    <a:pt x="438" y="588"/>
                  </a:lnTo>
                  <a:lnTo>
                    <a:pt x="482" y="550"/>
                  </a:lnTo>
                  <a:lnTo>
                    <a:pt x="526" y="514"/>
                  </a:lnTo>
                  <a:lnTo>
                    <a:pt x="567" y="483"/>
                  </a:lnTo>
                  <a:lnTo>
                    <a:pt x="609" y="458"/>
                  </a:lnTo>
                  <a:lnTo>
                    <a:pt x="650" y="439"/>
                  </a:lnTo>
                  <a:lnTo>
                    <a:pt x="725" y="429"/>
                  </a:lnTo>
                  <a:lnTo>
                    <a:pt x="792" y="438"/>
                  </a:lnTo>
                  <a:lnTo>
                    <a:pt x="842" y="452"/>
                  </a:lnTo>
                  <a:lnTo>
                    <a:pt x="868" y="458"/>
                  </a:lnTo>
                  <a:lnTo>
                    <a:pt x="864" y="407"/>
                  </a:lnTo>
                  <a:lnTo>
                    <a:pt x="864" y="358"/>
                  </a:lnTo>
                  <a:lnTo>
                    <a:pt x="887" y="302"/>
                  </a:lnTo>
                  <a:lnTo>
                    <a:pt x="912" y="274"/>
                  </a:lnTo>
                  <a:lnTo>
                    <a:pt x="948" y="246"/>
                  </a:lnTo>
                  <a:lnTo>
                    <a:pt x="989" y="218"/>
                  </a:lnTo>
                  <a:lnTo>
                    <a:pt x="1036" y="193"/>
                  </a:lnTo>
                  <a:lnTo>
                    <a:pt x="1086" y="169"/>
                  </a:lnTo>
                  <a:lnTo>
                    <a:pt x="1137" y="149"/>
                  </a:lnTo>
                  <a:lnTo>
                    <a:pt x="1187" y="132"/>
                  </a:lnTo>
                  <a:lnTo>
                    <a:pt x="1234" y="119"/>
                  </a:lnTo>
                  <a:lnTo>
                    <a:pt x="1386" y="103"/>
                  </a:lnTo>
                  <a:lnTo>
                    <a:pt x="1491" y="91"/>
                  </a:lnTo>
                  <a:lnTo>
                    <a:pt x="1535" y="69"/>
                  </a:lnTo>
                  <a:lnTo>
                    <a:pt x="1581" y="39"/>
                  </a:lnTo>
                  <a:lnTo>
                    <a:pt x="1635" y="13"/>
                  </a:lnTo>
                  <a:lnTo>
                    <a:pt x="1701" y="0"/>
                  </a:lnTo>
                  <a:lnTo>
                    <a:pt x="1783" y="8"/>
                  </a:lnTo>
                  <a:lnTo>
                    <a:pt x="1870" y="39"/>
                  </a:lnTo>
                  <a:lnTo>
                    <a:pt x="1909" y="64"/>
                  </a:lnTo>
                  <a:lnTo>
                    <a:pt x="1945" y="95"/>
                  </a:lnTo>
                  <a:lnTo>
                    <a:pt x="1993" y="174"/>
                  </a:lnTo>
                  <a:lnTo>
                    <a:pt x="2007" y="274"/>
                  </a:lnTo>
                  <a:lnTo>
                    <a:pt x="1995" y="376"/>
                  </a:lnTo>
                  <a:lnTo>
                    <a:pt x="1977" y="454"/>
                  </a:lnTo>
                  <a:lnTo>
                    <a:pt x="1967" y="485"/>
                  </a:lnTo>
                  <a:lnTo>
                    <a:pt x="1985" y="461"/>
                  </a:lnTo>
                  <a:lnTo>
                    <a:pt x="2004" y="433"/>
                  </a:lnTo>
                  <a:lnTo>
                    <a:pt x="2029" y="401"/>
                  </a:lnTo>
                  <a:lnTo>
                    <a:pt x="2058" y="365"/>
                  </a:lnTo>
                  <a:lnTo>
                    <a:pt x="2091" y="331"/>
                  </a:lnTo>
                  <a:lnTo>
                    <a:pt x="2125" y="300"/>
                  </a:lnTo>
                  <a:lnTo>
                    <a:pt x="2159" y="275"/>
                  </a:lnTo>
                  <a:lnTo>
                    <a:pt x="2191" y="259"/>
                  </a:lnTo>
                  <a:lnTo>
                    <a:pt x="2222" y="250"/>
                  </a:lnTo>
                  <a:lnTo>
                    <a:pt x="2283" y="247"/>
                  </a:lnTo>
                  <a:lnTo>
                    <a:pt x="2387" y="247"/>
                  </a:lnTo>
                  <a:lnTo>
                    <a:pt x="2434" y="225"/>
                  </a:lnTo>
                  <a:lnTo>
                    <a:pt x="2480" y="197"/>
                  </a:lnTo>
                  <a:lnTo>
                    <a:pt x="2527" y="181"/>
                  </a:lnTo>
                  <a:lnTo>
                    <a:pt x="2579" y="193"/>
                  </a:lnTo>
                  <a:lnTo>
                    <a:pt x="2635" y="244"/>
                  </a:lnTo>
                  <a:lnTo>
                    <a:pt x="2663" y="278"/>
                  </a:lnTo>
                  <a:lnTo>
                    <a:pt x="2690" y="314"/>
                  </a:lnTo>
                  <a:lnTo>
                    <a:pt x="2712" y="348"/>
                  </a:lnTo>
                  <a:lnTo>
                    <a:pt x="2728" y="376"/>
                  </a:lnTo>
                  <a:lnTo>
                    <a:pt x="2744" y="404"/>
                  </a:lnTo>
                  <a:lnTo>
                    <a:pt x="2756" y="290"/>
                  </a:lnTo>
                  <a:lnTo>
                    <a:pt x="2780" y="110"/>
                  </a:lnTo>
                  <a:lnTo>
                    <a:pt x="2797" y="63"/>
                  </a:lnTo>
                  <a:lnTo>
                    <a:pt x="2825" y="45"/>
                  </a:lnTo>
                  <a:lnTo>
                    <a:pt x="2918" y="64"/>
                  </a:lnTo>
                  <a:lnTo>
                    <a:pt x="2986" y="84"/>
                  </a:lnTo>
                  <a:lnTo>
                    <a:pt x="3066" y="107"/>
                  </a:lnTo>
                  <a:lnTo>
                    <a:pt x="3154" y="140"/>
                  </a:lnTo>
                  <a:lnTo>
                    <a:pt x="3200" y="159"/>
                  </a:lnTo>
                  <a:lnTo>
                    <a:pt x="3247" y="184"/>
                  </a:lnTo>
                  <a:lnTo>
                    <a:pt x="3294" y="210"/>
                  </a:lnTo>
                  <a:lnTo>
                    <a:pt x="3341" y="241"/>
                  </a:lnTo>
                  <a:lnTo>
                    <a:pt x="3387" y="274"/>
                  </a:lnTo>
                  <a:lnTo>
                    <a:pt x="3431" y="309"/>
                  </a:lnTo>
                  <a:lnTo>
                    <a:pt x="3471" y="345"/>
                  </a:lnTo>
                  <a:lnTo>
                    <a:pt x="3508" y="380"/>
                  </a:lnTo>
                  <a:lnTo>
                    <a:pt x="3567" y="449"/>
                  </a:lnTo>
                  <a:lnTo>
                    <a:pt x="3617" y="560"/>
                  </a:lnTo>
                  <a:lnTo>
                    <a:pt x="3622" y="604"/>
                  </a:lnTo>
                  <a:lnTo>
                    <a:pt x="3642" y="595"/>
                  </a:lnTo>
                  <a:lnTo>
                    <a:pt x="3690" y="575"/>
                  </a:lnTo>
                  <a:lnTo>
                    <a:pt x="3747" y="554"/>
                  </a:lnTo>
                  <a:lnTo>
                    <a:pt x="3796" y="550"/>
                  </a:lnTo>
                  <a:lnTo>
                    <a:pt x="3830" y="567"/>
                  </a:lnTo>
                  <a:lnTo>
                    <a:pt x="3864" y="600"/>
                  </a:lnTo>
                  <a:lnTo>
                    <a:pt x="3884" y="618"/>
                  </a:lnTo>
                  <a:lnTo>
                    <a:pt x="3911" y="635"/>
                  </a:lnTo>
                  <a:lnTo>
                    <a:pt x="3945" y="650"/>
                  </a:lnTo>
                  <a:lnTo>
                    <a:pt x="3987" y="660"/>
                  </a:lnTo>
                  <a:lnTo>
                    <a:pt x="4213" y="665"/>
                  </a:lnTo>
                  <a:lnTo>
                    <a:pt x="4293" y="671"/>
                  </a:lnTo>
                  <a:lnTo>
                    <a:pt x="4308" y="679"/>
                  </a:lnTo>
                  <a:lnTo>
                    <a:pt x="4299" y="696"/>
                  </a:lnTo>
                  <a:lnTo>
                    <a:pt x="4265" y="721"/>
                  </a:lnTo>
                  <a:lnTo>
                    <a:pt x="4209" y="753"/>
                  </a:lnTo>
                  <a:lnTo>
                    <a:pt x="4173" y="769"/>
                  </a:lnTo>
                  <a:lnTo>
                    <a:pt x="4133" y="789"/>
                  </a:lnTo>
                  <a:lnTo>
                    <a:pt x="4092" y="808"/>
                  </a:lnTo>
                  <a:lnTo>
                    <a:pt x="4049" y="828"/>
                  </a:lnTo>
                  <a:lnTo>
                    <a:pt x="4004" y="848"/>
                  </a:lnTo>
                  <a:lnTo>
                    <a:pt x="3958" y="867"/>
                  </a:lnTo>
                  <a:lnTo>
                    <a:pt x="3912" y="887"/>
                  </a:lnTo>
                  <a:lnTo>
                    <a:pt x="3867" y="907"/>
                  </a:lnTo>
                  <a:lnTo>
                    <a:pt x="3822" y="924"/>
                  </a:lnTo>
                  <a:lnTo>
                    <a:pt x="3781" y="941"/>
                  </a:lnTo>
                  <a:lnTo>
                    <a:pt x="3704" y="971"/>
                  </a:lnTo>
                  <a:lnTo>
                    <a:pt x="3642" y="994"/>
                  </a:lnTo>
                  <a:lnTo>
                    <a:pt x="3594" y="1010"/>
                  </a:lnTo>
                  <a:lnTo>
                    <a:pt x="3523" y="1022"/>
                  </a:lnTo>
                  <a:lnTo>
                    <a:pt x="3464" y="1011"/>
                  </a:lnTo>
                  <a:lnTo>
                    <a:pt x="3393" y="980"/>
                  </a:lnTo>
                  <a:lnTo>
                    <a:pt x="3346" y="958"/>
                  </a:lnTo>
                  <a:lnTo>
                    <a:pt x="3290" y="933"/>
                  </a:lnTo>
                  <a:lnTo>
                    <a:pt x="3226" y="908"/>
                  </a:lnTo>
                  <a:lnTo>
                    <a:pt x="3157" y="884"/>
                  </a:lnTo>
                  <a:lnTo>
                    <a:pt x="3080" y="862"/>
                  </a:lnTo>
                  <a:lnTo>
                    <a:pt x="2999" y="846"/>
                  </a:lnTo>
                  <a:lnTo>
                    <a:pt x="2827" y="833"/>
                  </a:lnTo>
                  <a:lnTo>
                    <a:pt x="2647" y="855"/>
                  </a:lnTo>
                  <a:lnTo>
                    <a:pt x="2485" y="896"/>
                  </a:lnTo>
                  <a:lnTo>
                    <a:pt x="2420" y="917"/>
                  </a:lnTo>
                  <a:lnTo>
                    <a:pt x="2368" y="935"/>
                  </a:lnTo>
                  <a:lnTo>
                    <a:pt x="2322" y="952"/>
                  </a:lnTo>
                  <a:lnTo>
                    <a:pt x="1719" y="787"/>
                  </a:lnTo>
                  <a:lnTo>
                    <a:pt x="696" y="971"/>
                  </a:lnTo>
                  <a:lnTo>
                    <a:pt x="146" y="980"/>
                  </a:lnTo>
                  <a:lnTo>
                    <a:pt x="0" y="861"/>
                  </a:lnTo>
                  <a:lnTo>
                    <a:pt x="0" y="861"/>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4905360" y="2288880"/>
              <a:ext cx="1372680" cy="321480"/>
            </a:xfrm>
            <a:custGeom>
              <a:avLst/>
              <a:gdLst/>
              <a:ahLst/>
              <a:rect l="l" t="t" r="r" b="b"/>
              <a:pathLst>
                <a:path w="3863" h="905">
                  <a:moveTo>
                    <a:pt x="0" y="613"/>
                  </a:moveTo>
                  <a:lnTo>
                    <a:pt x="53" y="631"/>
                  </a:lnTo>
                  <a:lnTo>
                    <a:pt x="109" y="649"/>
                  </a:lnTo>
                  <a:lnTo>
                    <a:pt x="180" y="671"/>
                  </a:lnTo>
                  <a:lnTo>
                    <a:pt x="258" y="694"/>
                  </a:lnTo>
                  <a:lnTo>
                    <a:pt x="338" y="719"/>
                  </a:lnTo>
                  <a:lnTo>
                    <a:pt x="416" y="741"/>
                  </a:lnTo>
                  <a:lnTo>
                    <a:pt x="485" y="761"/>
                  </a:lnTo>
                  <a:lnTo>
                    <a:pt x="590" y="783"/>
                  </a:lnTo>
                  <a:lnTo>
                    <a:pt x="662" y="789"/>
                  </a:lnTo>
                  <a:lnTo>
                    <a:pt x="797" y="778"/>
                  </a:lnTo>
                  <a:lnTo>
                    <a:pt x="1263" y="761"/>
                  </a:lnTo>
                  <a:lnTo>
                    <a:pt x="1446" y="753"/>
                  </a:lnTo>
                  <a:lnTo>
                    <a:pt x="1565" y="761"/>
                  </a:lnTo>
                  <a:lnTo>
                    <a:pt x="1646" y="792"/>
                  </a:lnTo>
                  <a:lnTo>
                    <a:pt x="1683" y="808"/>
                  </a:lnTo>
                  <a:lnTo>
                    <a:pt x="1720" y="815"/>
                  </a:lnTo>
                  <a:lnTo>
                    <a:pt x="1807" y="805"/>
                  </a:lnTo>
                  <a:lnTo>
                    <a:pt x="1885" y="798"/>
                  </a:lnTo>
                  <a:lnTo>
                    <a:pt x="1937" y="830"/>
                  </a:lnTo>
                  <a:lnTo>
                    <a:pt x="1965" y="855"/>
                  </a:lnTo>
                  <a:lnTo>
                    <a:pt x="2005" y="880"/>
                  </a:lnTo>
                  <a:lnTo>
                    <a:pt x="2061" y="896"/>
                  </a:lnTo>
                  <a:lnTo>
                    <a:pt x="2131" y="905"/>
                  </a:lnTo>
                  <a:lnTo>
                    <a:pt x="2305" y="880"/>
                  </a:lnTo>
                  <a:lnTo>
                    <a:pt x="2401" y="843"/>
                  </a:lnTo>
                  <a:lnTo>
                    <a:pt x="2450" y="821"/>
                  </a:lnTo>
                  <a:lnTo>
                    <a:pt x="2499" y="799"/>
                  </a:lnTo>
                  <a:lnTo>
                    <a:pt x="2546" y="778"/>
                  </a:lnTo>
                  <a:lnTo>
                    <a:pt x="2593" y="759"/>
                  </a:lnTo>
                  <a:lnTo>
                    <a:pt x="2681" y="733"/>
                  </a:lnTo>
                  <a:lnTo>
                    <a:pt x="2761" y="730"/>
                  </a:lnTo>
                  <a:lnTo>
                    <a:pt x="2835" y="741"/>
                  </a:lnTo>
                  <a:lnTo>
                    <a:pt x="2910" y="758"/>
                  </a:lnTo>
                  <a:lnTo>
                    <a:pt x="2991" y="769"/>
                  </a:lnTo>
                  <a:lnTo>
                    <a:pt x="3187" y="752"/>
                  </a:lnTo>
                  <a:lnTo>
                    <a:pt x="3296" y="727"/>
                  </a:lnTo>
                  <a:lnTo>
                    <a:pt x="3413" y="696"/>
                  </a:lnTo>
                  <a:lnTo>
                    <a:pt x="3479" y="677"/>
                  </a:lnTo>
                  <a:lnTo>
                    <a:pt x="3555" y="650"/>
                  </a:lnTo>
                  <a:lnTo>
                    <a:pt x="3634" y="619"/>
                  </a:lnTo>
                  <a:lnTo>
                    <a:pt x="3711" y="587"/>
                  </a:lnTo>
                  <a:lnTo>
                    <a:pt x="3779" y="553"/>
                  </a:lnTo>
                  <a:lnTo>
                    <a:pt x="3830" y="520"/>
                  </a:lnTo>
                  <a:lnTo>
                    <a:pt x="3863" y="470"/>
                  </a:lnTo>
                  <a:lnTo>
                    <a:pt x="3838" y="452"/>
                  </a:lnTo>
                  <a:lnTo>
                    <a:pt x="3794" y="441"/>
                  </a:lnTo>
                  <a:lnTo>
                    <a:pt x="3671" y="423"/>
                  </a:lnTo>
                  <a:lnTo>
                    <a:pt x="3422" y="393"/>
                  </a:lnTo>
                  <a:lnTo>
                    <a:pt x="3212" y="367"/>
                  </a:lnTo>
                  <a:lnTo>
                    <a:pt x="3117" y="346"/>
                  </a:lnTo>
                  <a:lnTo>
                    <a:pt x="3056" y="302"/>
                  </a:lnTo>
                  <a:lnTo>
                    <a:pt x="3024" y="234"/>
                  </a:lnTo>
                  <a:lnTo>
                    <a:pt x="2994" y="160"/>
                  </a:lnTo>
                  <a:lnTo>
                    <a:pt x="2959" y="100"/>
                  </a:lnTo>
                  <a:lnTo>
                    <a:pt x="2937" y="81"/>
                  </a:lnTo>
                  <a:lnTo>
                    <a:pt x="2910" y="73"/>
                  </a:lnTo>
                  <a:lnTo>
                    <a:pt x="2853" y="87"/>
                  </a:lnTo>
                  <a:lnTo>
                    <a:pt x="2797" y="122"/>
                  </a:lnTo>
                  <a:lnTo>
                    <a:pt x="2739" y="168"/>
                  </a:lnTo>
                  <a:lnTo>
                    <a:pt x="2711" y="190"/>
                  </a:lnTo>
                  <a:lnTo>
                    <a:pt x="2681" y="211"/>
                  </a:lnTo>
                  <a:lnTo>
                    <a:pt x="2649" y="225"/>
                  </a:lnTo>
                  <a:lnTo>
                    <a:pt x="2617" y="233"/>
                  </a:lnTo>
                  <a:lnTo>
                    <a:pt x="2546" y="230"/>
                  </a:lnTo>
                  <a:lnTo>
                    <a:pt x="2476" y="221"/>
                  </a:lnTo>
                  <a:lnTo>
                    <a:pt x="2416" y="219"/>
                  </a:lnTo>
                  <a:lnTo>
                    <a:pt x="2369" y="249"/>
                  </a:lnTo>
                  <a:lnTo>
                    <a:pt x="2330" y="303"/>
                  </a:lnTo>
                  <a:lnTo>
                    <a:pt x="2311" y="333"/>
                  </a:lnTo>
                  <a:lnTo>
                    <a:pt x="2292" y="361"/>
                  </a:lnTo>
                  <a:lnTo>
                    <a:pt x="2269" y="385"/>
                  </a:lnTo>
                  <a:lnTo>
                    <a:pt x="2242" y="404"/>
                  </a:lnTo>
                  <a:lnTo>
                    <a:pt x="2177" y="424"/>
                  </a:lnTo>
                  <a:lnTo>
                    <a:pt x="2105" y="433"/>
                  </a:lnTo>
                  <a:lnTo>
                    <a:pt x="1968" y="413"/>
                  </a:lnTo>
                  <a:lnTo>
                    <a:pt x="1916" y="377"/>
                  </a:lnTo>
                  <a:lnTo>
                    <a:pt x="1873" y="327"/>
                  </a:lnTo>
                  <a:lnTo>
                    <a:pt x="1829" y="275"/>
                  </a:lnTo>
                  <a:lnTo>
                    <a:pt x="1804" y="255"/>
                  </a:lnTo>
                  <a:lnTo>
                    <a:pt x="1776" y="239"/>
                  </a:lnTo>
                  <a:lnTo>
                    <a:pt x="1704" y="224"/>
                  </a:lnTo>
                  <a:lnTo>
                    <a:pt x="1621" y="221"/>
                  </a:lnTo>
                  <a:lnTo>
                    <a:pt x="1465" y="184"/>
                  </a:lnTo>
                  <a:lnTo>
                    <a:pt x="1406" y="131"/>
                  </a:lnTo>
                  <a:lnTo>
                    <a:pt x="1357" y="73"/>
                  </a:lnTo>
                  <a:lnTo>
                    <a:pt x="1317" y="25"/>
                  </a:lnTo>
                  <a:lnTo>
                    <a:pt x="1298" y="8"/>
                  </a:lnTo>
                  <a:lnTo>
                    <a:pt x="1282" y="0"/>
                  </a:lnTo>
                  <a:lnTo>
                    <a:pt x="1248" y="10"/>
                  </a:lnTo>
                  <a:lnTo>
                    <a:pt x="1217" y="47"/>
                  </a:lnTo>
                  <a:lnTo>
                    <a:pt x="1171" y="137"/>
                  </a:lnTo>
                  <a:lnTo>
                    <a:pt x="1145" y="193"/>
                  </a:lnTo>
                  <a:lnTo>
                    <a:pt x="1080" y="247"/>
                  </a:lnTo>
                  <a:lnTo>
                    <a:pt x="1050" y="270"/>
                  </a:lnTo>
                  <a:lnTo>
                    <a:pt x="1013" y="293"/>
                  </a:lnTo>
                  <a:lnTo>
                    <a:pt x="972" y="318"/>
                  </a:lnTo>
                  <a:lnTo>
                    <a:pt x="925" y="345"/>
                  </a:lnTo>
                  <a:lnTo>
                    <a:pt x="875" y="370"/>
                  </a:lnTo>
                  <a:lnTo>
                    <a:pt x="820" y="392"/>
                  </a:lnTo>
                  <a:lnTo>
                    <a:pt x="764" y="410"/>
                  </a:lnTo>
                  <a:lnTo>
                    <a:pt x="705" y="421"/>
                  </a:lnTo>
                  <a:lnTo>
                    <a:pt x="463" y="424"/>
                  </a:lnTo>
                  <a:lnTo>
                    <a:pt x="239" y="439"/>
                  </a:lnTo>
                  <a:lnTo>
                    <a:pt x="143" y="485"/>
                  </a:lnTo>
                  <a:lnTo>
                    <a:pt x="68" y="542"/>
                  </a:lnTo>
                  <a:lnTo>
                    <a:pt x="19" y="593"/>
                  </a:lnTo>
                  <a:lnTo>
                    <a:pt x="0" y="613"/>
                  </a:lnTo>
                  <a:lnTo>
                    <a:pt x="0" y="613"/>
                  </a:lnTo>
                  <a:close/>
                </a:path>
              </a:pathLst>
            </a:custGeom>
            <a:solidFill>
              <a:srgbClr val="a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821480" y="2457000"/>
              <a:ext cx="1528200" cy="417240"/>
            </a:xfrm>
            <a:custGeom>
              <a:avLst/>
              <a:gdLst/>
              <a:ahLst/>
              <a:rect l="l" t="t" r="r" b="b"/>
              <a:pathLst>
                <a:path w="4302" h="1175">
                  <a:moveTo>
                    <a:pt x="0" y="150"/>
                  </a:moveTo>
                  <a:lnTo>
                    <a:pt x="19" y="314"/>
                  </a:lnTo>
                  <a:lnTo>
                    <a:pt x="47" y="357"/>
                  </a:lnTo>
                  <a:lnTo>
                    <a:pt x="81" y="395"/>
                  </a:lnTo>
                  <a:lnTo>
                    <a:pt x="128" y="434"/>
                  </a:lnTo>
                  <a:lnTo>
                    <a:pt x="187" y="465"/>
                  </a:lnTo>
                  <a:lnTo>
                    <a:pt x="256" y="494"/>
                  </a:lnTo>
                  <a:lnTo>
                    <a:pt x="335" y="532"/>
                  </a:lnTo>
                  <a:lnTo>
                    <a:pt x="376" y="558"/>
                  </a:lnTo>
                  <a:lnTo>
                    <a:pt x="420" y="590"/>
                  </a:lnTo>
                  <a:lnTo>
                    <a:pt x="467" y="628"/>
                  </a:lnTo>
                  <a:lnTo>
                    <a:pt x="517" y="671"/>
                  </a:lnTo>
                  <a:lnTo>
                    <a:pt x="575" y="720"/>
                  </a:lnTo>
                  <a:lnTo>
                    <a:pt x="643" y="770"/>
                  </a:lnTo>
                  <a:lnTo>
                    <a:pt x="681" y="796"/>
                  </a:lnTo>
                  <a:lnTo>
                    <a:pt x="722" y="823"/>
                  </a:lnTo>
                  <a:lnTo>
                    <a:pt x="768" y="850"/>
                  </a:lnTo>
                  <a:lnTo>
                    <a:pt x="817" y="875"/>
                  </a:lnTo>
                  <a:lnTo>
                    <a:pt x="870" y="901"/>
                  </a:lnTo>
                  <a:lnTo>
                    <a:pt x="929" y="926"/>
                  </a:lnTo>
                  <a:lnTo>
                    <a:pt x="992" y="951"/>
                  </a:lnTo>
                  <a:lnTo>
                    <a:pt x="1062" y="975"/>
                  </a:lnTo>
                  <a:lnTo>
                    <a:pt x="1135" y="997"/>
                  </a:lnTo>
                  <a:lnTo>
                    <a:pt x="1214" y="1018"/>
                  </a:lnTo>
                  <a:lnTo>
                    <a:pt x="1296" y="1038"/>
                  </a:lnTo>
                  <a:lnTo>
                    <a:pt x="1379" y="1057"/>
                  </a:lnTo>
                  <a:lnTo>
                    <a:pt x="1463" y="1075"/>
                  </a:lnTo>
                  <a:lnTo>
                    <a:pt x="1547" y="1091"/>
                  </a:lnTo>
                  <a:lnTo>
                    <a:pt x="1708" y="1121"/>
                  </a:lnTo>
                  <a:lnTo>
                    <a:pt x="1849" y="1144"/>
                  </a:lnTo>
                  <a:lnTo>
                    <a:pt x="1964" y="1162"/>
                  </a:lnTo>
                  <a:lnTo>
                    <a:pt x="2068" y="1175"/>
                  </a:lnTo>
                  <a:lnTo>
                    <a:pt x="3247" y="1066"/>
                  </a:lnTo>
                  <a:lnTo>
                    <a:pt x="3851" y="627"/>
                  </a:lnTo>
                  <a:lnTo>
                    <a:pt x="3895" y="578"/>
                  </a:lnTo>
                  <a:lnTo>
                    <a:pt x="3942" y="527"/>
                  </a:lnTo>
                  <a:lnTo>
                    <a:pt x="3969" y="496"/>
                  </a:lnTo>
                  <a:lnTo>
                    <a:pt x="3997" y="463"/>
                  </a:lnTo>
                  <a:lnTo>
                    <a:pt x="4028" y="431"/>
                  </a:lnTo>
                  <a:lnTo>
                    <a:pt x="4057" y="397"/>
                  </a:lnTo>
                  <a:lnTo>
                    <a:pt x="4087" y="363"/>
                  </a:lnTo>
                  <a:lnTo>
                    <a:pt x="4116" y="330"/>
                  </a:lnTo>
                  <a:lnTo>
                    <a:pt x="4143" y="299"/>
                  </a:lnTo>
                  <a:lnTo>
                    <a:pt x="4168" y="270"/>
                  </a:lnTo>
                  <a:lnTo>
                    <a:pt x="4207" y="223"/>
                  </a:lnTo>
                  <a:lnTo>
                    <a:pt x="4237" y="186"/>
                  </a:lnTo>
                  <a:lnTo>
                    <a:pt x="4262" y="152"/>
                  </a:lnTo>
                  <a:lnTo>
                    <a:pt x="4295" y="96"/>
                  </a:lnTo>
                  <a:lnTo>
                    <a:pt x="4302" y="52"/>
                  </a:lnTo>
                  <a:lnTo>
                    <a:pt x="4281" y="22"/>
                  </a:lnTo>
                  <a:lnTo>
                    <a:pt x="4231" y="6"/>
                  </a:lnTo>
                  <a:lnTo>
                    <a:pt x="4162" y="0"/>
                  </a:lnTo>
                  <a:lnTo>
                    <a:pt x="4016" y="22"/>
                  </a:lnTo>
                  <a:lnTo>
                    <a:pt x="3915" y="74"/>
                  </a:lnTo>
                  <a:lnTo>
                    <a:pt x="3876" y="112"/>
                  </a:lnTo>
                  <a:lnTo>
                    <a:pt x="3833" y="159"/>
                  </a:lnTo>
                  <a:lnTo>
                    <a:pt x="3780" y="214"/>
                  </a:lnTo>
                  <a:lnTo>
                    <a:pt x="3747" y="242"/>
                  </a:lnTo>
                  <a:lnTo>
                    <a:pt x="3712" y="271"/>
                  </a:lnTo>
                  <a:lnTo>
                    <a:pt x="3672" y="298"/>
                  </a:lnTo>
                  <a:lnTo>
                    <a:pt x="3628" y="322"/>
                  </a:lnTo>
                  <a:lnTo>
                    <a:pt x="3578" y="344"/>
                  </a:lnTo>
                  <a:lnTo>
                    <a:pt x="3522" y="360"/>
                  </a:lnTo>
                  <a:lnTo>
                    <a:pt x="3395" y="382"/>
                  </a:lnTo>
                  <a:lnTo>
                    <a:pt x="3259" y="397"/>
                  </a:lnTo>
                  <a:lnTo>
                    <a:pt x="3028" y="442"/>
                  </a:lnTo>
                  <a:lnTo>
                    <a:pt x="2960" y="494"/>
                  </a:lnTo>
                  <a:lnTo>
                    <a:pt x="2923" y="555"/>
                  </a:lnTo>
                  <a:lnTo>
                    <a:pt x="2890" y="636"/>
                  </a:lnTo>
                  <a:lnTo>
                    <a:pt x="2849" y="596"/>
                  </a:lnTo>
                  <a:lnTo>
                    <a:pt x="2808" y="553"/>
                  </a:lnTo>
                  <a:lnTo>
                    <a:pt x="2778" y="534"/>
                  </a:lnTo>
                  <a:lnTo>
                    <a:pt x="2744" y="516"/>
                  </a:lnTo>
                  <a:lnTo>
                    <a:pt x="2656" y="497"/>
                  </a:lnTo>
                  <a:lnTo>
                    <a:pt x="2556" y="496"/>
                  </a:lnTo>
                  <a:lnTo>
                    <a:pt x="2454" y="512"/>
                  </a:lnTo>
                  <a:lnTo>
                    <a:pt x="2368" y="544"/>
                  </a:lnTo>
                  <a:lnTo>
                    <a:pt x="2273" y="633"/>
                  </a:lnTo>
                  <a:lnTo>
                    <a:pt x="2252" y="668"/>
                  </a:lnTo>
                  <a:lnTo>
                    <a:pt x="2242" y="681"/>
                  </a:lnTo>
                  <a:lnTo>
                    <a:pt x="2218" y="625"/>
                  </a:lnTo>
                  <a:lnTo>
                    <a:pt x="2193" y="578"/>
                  </a:lnTo>
                  <a:lnTo>
                    <a:pt x="2174" y="555"/>
                  </a:lnTo>
                  <a:lnTo>
                    <a:pt x="2150" y="534"/>
                  </a:lnTo>
                  <a:lnTo>
                    <a:pt x="2119" y="518"/>
                  </a:lnTo>
                  <a:lnTo>
                    <a:pt x="2082" y="506"/>
                  </a:lnTo>
                  <a:lnTo>
                    <a:pt x="1998" y="497"/>
                  </a:lnTo>
                  <a:lnTo>
                    <a:pt x="1908" y="506"/>
                  </a:lnTo>
                  <a:lnTo>
                    <a:pt x="1820" y="534"/>
                  </a:lnTo>
                  <a:lnTo>
                    <a:pt x="1780" y="556"/>
                  </a:lnTo>
                  <a:lnTo>
                    <a:pt x="1745" y="581"/>
                  </a:lnTo>
                  <a:lnTo>
                    <a:pt x="1686" y="631"/>
                  </a:lnTo>
                  <a:lnTo>
                    <a:pt x="1647" y="670"/>
                  </a:lnTo>
                  <a:lnTo>
                    <a:pt x="1637" y="681"/>
                  </a:lnTo>
                  <a:lnTo>
                    <a:pt x="1653" y="653"/>
                  </a:lnTo>
                  <a:lnTo>
                    <a:pt x="1674" y="599"/>
                  </a:lnTo>
                  <a:lnTo>
                    <a:pt x="1678" y="568"/>
                  </a:lnTo>
                  <a:lnTo>
                    <a:pt x="1675" y="535"/>
                  </a:lnTo>
                  <a:lnTo>
                    <a:pt x="1659" y="506"/>
                  </a:lnTo>
                  <a:lnTo>
                    <a:pt x="1628" y="479"/>
                  </a:lnTo>
                  <a:lnTo>
                    <a:pt x="1581" y="460"/>
                  </a:lnTo>
                  <a:lnTo>
                    <a:pt x="1519" y="445"/>
                  </a:lnTo>
                  <a:lnTo>
                    <a:pt x="1367" y="432"/>
                  </a:lnTo>
                  <a:lnTo>
                    <a:pt x="1062" y="442"/>
                  </a:lnTo>
                  <a:lnTo>
                    <a:pt x="891" y="472"/>
                  </a:lnTo>
                  <a:lnTo>
                    <a:pt x="786" y="479"/>
                  </a:lnTo>
                  <a:lnTo>
                    <a:pt x="637" y="438"/>
                  </a:lnTo>
                  <a:lnTo>
                    <a:pt x="588" y="419"/>
                  </a:lnTo>
                  <a:lnTo>
                    <a:pt x="534" y="397"/>
                  </a:lnTo>
                  <a:lnTo>
                    <a:pt x="475" y="370"/>
                  </a:lnTo>
                  <a:lnTo>
                    <a:pt x="411" y="342"/>
                  </a:lnTo>
                  <a:lnTo>
                    <a:pt x="343" y="311"/>
                  </a:lnTo>
                  <a:lnTo>
                    <a:pt x="273" y="279"/>
                  </a:lnTo>
                  <a:lnTo>
                    <a:pt x="203" y="246"/>
                  </a:lnTo>
                  <a:lnTo>
                    <a:pt x="138" y="215"/>
                  </a:lnTo>
                  <a:lnTo>
                    <a:pt x="84" y="190"/>
                  </a:lnTo>
                  <a:lnTo>
                    <a:pt x="40" y="170"/>
                  </a:lnTo>
                  <a:lnTo>
                    <a:pt x="0" y="150"/>
                  </a:lnTo>
                  <a:lnTo>
                    <a:pt x="0" y="15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4869000" y="2601720"/>
              <a:ext cx="1406880" cy="313200"/>
            </a:xfrm>
            <a:custGeom>
              <a:avLst/>
              <a:gdLst/>
              <a:ahLst/>
              <a:rect l="l" t="t" r="r" b="b"/>
              <a:pathLst>
                <a:path w="3960" h="882">
                  <a:moveTo>
                    <a:pt x="65" y="39"/>
                  </a:moveTo>
                  <a:lnTo>
                    <a:pt x="171" y="41"/>
                  </a:lnTo>
                  <a:lnTo>
                    <a:pt x="291" y="63"/>
                  </a:lnTo>
                  <a:lnTo>
                    <a:pt x="419" y="104"/>
                  </a:lnTo>
                  <a:lnTo>
                    <a:pt x="485" y="128"/>
                  </a:lnTo>
                  <a:lnTo>
                    <a:pt x="552" y="156"/>
                  </a:lnTo>
                  <a:lnTo>
                    <a:pt x="618" y="185"/>
                  </a:lnTo>
                  <a:lnTo>
                    <a:pt x="683" y="215"/>
                  </a:lnTo>
                  <a:lnTo>
                    <a:pt x="746" y="246"/>
                  </a:lnTo>
                  <a:lnTo>
                    <a:pt x="808" y="275"/>
                  </a:lnTo>
                  <a:lnTo>
                    <a:pt x="866" y="305"/>
                  </a:lnTo>
                  <a:lnTo>
                    <a:pt x="920" y="333"/>
                  </a:lnTo>
                  <a:lnTo>
                    <a:pt x="972" y="358"/>
                  </a:lnTo>
                  <a:lnTo>
                    <a:pt x="1018" y="382"/>
                  </a:lnTo>
                  <a:lnTo>
                    <a:pt x="1062" y="402"/>
                  </a:lnTo>
                  <a:lnTo>
                    <a:pt x="1105" y="420"/>
                  </a:lnTo>
                  <a:lnTo>
                    <a:pt x="1186" y="452"/>
                  </a:lnTo>
                  <a:lnTo>
                    <a:pt x="1264" y="476"/>
                  </a:lnTo>
                  <a:lnTo>
                    <a:pt x="1339" y="494"/>
                  </a:lnTo>
                  <a:lnTo>
                    <a:pt x="1481" y="514"/>
                  </a:lnTo>
                  <a:lnTo>
                    <a:pt x="1618" y="517"/>
                  </a:lnTo>
                  <a:lnTo>
                    <a:pt x="1897" y="497"/>
                  </a:lnTo>
                  <a:lnTo>
                    <a:pt x="2050" y="485"/>
                  </a:lnTo>
                  <a:lnTo>
                    <a:pt x="2220" y="480"/>
                  </a:lnTo>
                  <a:lnTo>
                    <a:pt x="2708" y="474"/>
                  </a:lnTo>
                  <a:lnTo>
                    <a:pt x="2953" y="445"/>
                  </a:lnTo>
                  <a:lnTo>
                    <a:pt x="3068" y="417"/>
                  </a:lnTo>
                  <a:lnTo>
                    <a:pt x="3172" y="377"/>
                  </a:lnTo>
                  <a:lnTo>
                    <a:pt x="3208" y="359"/>
                  </a:lnTo>
                  <a:lnTo>
                    <a:pt x="3258" y="333"/>
                  </a:lnTo>
                  <a:lnTo>
                    <a:pt x="3320" y="300"/>
                  </a:lnTo>
                  <a:lnTo>
                    <a:pt x="3354" y="281"/>
                  </a:lnTo>
                  <a:lnTo>
                    <a:pt x="3391" y="262"/>
                  </a:lnTo>
                  <a:lnTo>
                    <a:pt x="3428" y="241"/>
                  </a:lnTo>
                  <a:lnTo>
                    <a:pt x="3467" y="219"/>
                  </a:lnTo>
                  <a:lnTo>
                    <a:pt x="3507" y="199"/>
                  </a:lnTo>
                  <a:lnTo>
                    <a:pt x="3547" y="177"/>
                  </a:lnTo>
                  <a:lnTo>
                    <a:pt x="3587" y="156"/>
                  </a:lnTo>
                  <a:lnTo>
                    <a:pt x="3627" y="134"/>
                  </a:lnTo>
                  <a:lnTo>
                    <a:pt x="3666" y="115"/>
                  </a:lnTo>
                  <a:lnTo>
                    <a:pt x="3705" y="95"/>
                  </a:lnTo>
                  <a:lnTo>
                    <a:pt x="3742" y="76"/>
                  </a:lnTo>
                  <a:lnTo>
                    <a:pt x="3777" y="60"/>
                  </a:lnTo>
                  <a:lnTo>
                    <a:pt x="3842" y="31"/>
                  </a:lnTo>
                  <a:lnTo>
                    <a:pt x="3895" y="10"/>
                  </a:lnTo>
                  <a:lnTo>
                    <a:pt x="3935" y="0"/>
                  </a:lnTo>
                  <a:lnTo>
                    <a:pt x="3957" y="1"/>
                  </a:lnTo>
                  <a:lnTo>
                    <a:pt x="3960" y="16"/>
                  </a:lnTo>
                  <a:lnTo>
                    <a:pt x="3941" y="48"/>
                  </a:lnTo>
                  <a:lnTo>
                    <a:pt x="3897" y="97"/>
                  </a:lnTo>
                  <a:lnTo>
                    <a:pt x="3861" y="134"/>
                  </a:lnTo>
                  <a:lnTo>
                    <a:pt x="3827" y="169"/>
                  </a:lnTo>
                  <a:lnTo>
                    <a:pt x="3792" y="208"/>
                  </a:lnTo>
                  <a:lnTo>
                    <a:pt x="3758" y="246"/>
                  </a:lnTo>
                  <a:lnTo>
                    <a:pt x="3724" y="284"/>
                  </a:lnTo>
                  <a:lnTo>
                    <a:pt x="3689" y="321"/>
                  </a:lnTo>
                  <a:lnTo>
                    <a:pt x="3655" y="359"/>
                  </a:lnTo>
                  <a:lnTo>
                    <a:pt x="3619" y="396"/>
                  </a:lnTo>
                  <a:lnTo>
                    <a:pt x="3582" y="433"/>
                  </a:lnTo>
                  <a:lnTo>
                    <a:pt x="3546" y="469"/>
                  </a:lnTo>
                  <a:lnTo>
                    <a:pt x="3509" y="502"/>
                  </a:lnTo>
                  <a:lnTo>
                    <a:pt x="3469" y="533"/>
                  </a:lnTo>
                  <a:lnTo>
                    <a:pt x="3429" y="564"/>
                  </a:lnTo>
                  <a:lnTo>
                    <a:pt x="3388" y="592"/>
                  </a:lnTo>
                  <a:lnTo>
                    <a:pt x="3345" y="618"/>
                  </a:lnTo>
                  <a:lnTo>
                    <a:pt x="3299" y="641"/>
                  </a:lnTo>
                  <a:lnTo>
                    <a:pt x="3245" y="666"/>
                  </a:lnTo>
                  <a:lnTo>
                    <a:pt x="3184" y="690"/>
                  </a:lnTo>
                  <a:lnTo>
                    <a:pt x="3121" y="713"/>
                  </a:lnTo>
                  <a:lnTo>
                    <a:pt x="3053" y="735"/>
                  </a:lnTo>
                  <a:lnTo>
                    <a:pt x="2984" y="755"/>
                  </a:lnTo>
                  <a:lnTo>
                    <a:pt x="2908" y="774"/>
                  </a:lnTo>
                  <a:lnTo>
                    <a:pt x="2833" y="792"/>
                  </a:lnTo>
                  <a:lnTo>
                    <a:pt x="2754" y="808"/>
                  </a:lnTo>
                  <a:lnTo>
                    <a:pt x="2590" y="836"/>
                  </a:lnTo>
                  <a:lnTo>
                    <a:pt x="2420" y="858"/>
                  </a:lnTo>
                  <a:lnTo>
                    <a:pt x="2246" y="873"/>
                  </a:lnTo>
                  <a:lnTo>
                    <a:pt x="2071" y="882"/>
                  </a:lnTo>
                  <a:lnTo>
                    <a:pt x="1723" y="874"/>
                  </a:lnTo>
                  <a:lnTo>
                    <a:pt x="1394" y="834"/>
                  </a:lnTo>
                  <a:lnTo>
                    <a:pt x="1243" y="799"/>
                  </a:lnTo>
                  <a:lnTo>
                    <a:pt x="1173" y="778"/>
                  </a:lnTo>
                  <a:lnTo>
                    <a:pt x="1105" y="756"/>
                  </a:lnTo>
                  <a:lnTo>
                    <a:pt x="1041" y="730"/>
                  </a:lnTo>
                  <a:lnTo>
                    <a:pt x="981" y="702"/>
                  </a:lnTo>
                  <a:lnTo>
                    <a:pt x="925" y="671"/>
                  </a:lnTo>
                  <a:lnTo>
                    <a:pt x="872" y="638"/>
                  </a:lnTo>
                  <a:lnTo>
                    <a:pt x="845" y="618"/>
                  </a:lnTo>
                  <a:lnTo>
                    <a:pt x="817" y="598"/>
                  </a:lnTo>
                  <a:lnTo>
                    <a:pt x="792" y="579"/>
                  </a:lnTo>
                  <a:lnTo>
                    <a:pt x="765" y="560"/>
                  </a:lnTo>
                  <a:lnTo>
                    <a:pt x="740" y="542"/>
                  </a:lnTo>
                  <a:lnTo>
                    <a:pt x="717" y="525"/>
                  </a:lnTo>
                  <a:lnTo>
                    <a:pt x="668" y="488"/>
                  </a:lnTo>
                  <a:lnTo>
                    <a:pt x="621" y="454"/>
                  </a:lnTo>
                  <a:lnTo>
                    <a:pt x="575" y="421"/>
                  </a:lnTo>
                  <a:lnTo>
                    <a:pt x="529" y="389"/>
                  </a:lnTo>
                  <a:lnTo>
                    <a:pt x="484" y="358"/>
                  </a:lnTo>
                  <a:lnTo>
                    <a:pt x="437" y="328"/>
                  </a:lnTo>
                  <a:lnTo>
                    <a:pt x="389" y="300"/>
                  </a:lnTo>
                  <a:lnTo>
                    <a:pt x="341" y="272"/>
                  </a:lnTo>
                  <a:lnTo>
                    <a:pt x="289" y="247"/>
                  </a:lnTo>
                  <a:lnTo>
                    <a:pt x="236" y="222"/>
                  </a:lnTo>
                  <a:lnTo>
                    <a:pt x="178" y="199"/>
                  </a:lnTo>
                  <a:lnTo>
                    <a:pt x="119" y="177"/>
                  </a:lnTo>
                  <a:lnTo>
                    <a:pt x="56" y="157"/>
                  </a:lnTo>
                  <a:lnTo>
                    <a:pt x="13" y="131"/>
                  </a:lnTo>
                  <a:lnTo>
                    <a:pt x="0" y="94"/>
                  </a:lnTo>
                  <a:lnTo>
                    <a:pt x="18" y="59"/>
                  </a:lnTo>
                  <a:lnTo>
                    <a:pt x="38" y="47"/>
                  </a:lnTo>
                  <a:lnTo>
                    <a:pt x="65" y="39"/>
                  </a:lnTo>
                  <a:lnTo>
                    <a:pt x="6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885200" y="2270880"/>
              <a:ext cx="1362240" cy="282960"/>
            </a:xfrm>
            <a:custGeom>
              <a:avLst/>
              <a:gdLst/>
              <a:ahLst/>
              <a:rect l="l" t="t" r="r" b="b"/>
              <a:pathLst>
                <a:path w="3833" h="800">
                  <a:moveTo>
                    <a:pt x="1503" y="61"/>
                  </a:moveTo>
                  <a:lnTo>
                    <a:pt x="1525" y="113"/>
                  </a:lnTo>
                  <a:lnTo>
                    <a:pt x="1546" y="159"/>
                  </a:lnTo>
                  <a:lnTo>
                    <a:pt x="1568" y="200"/>
                  </a:lnTo>
                  <a:lnTo>
                    <a:pt x="1589" y="237"/>
                  </a:lnTo>
                  <a:lnTo>
                    <a:pt x="1612" y="269"/>
                  </a:lnTo>
                  <a:lnTo>
                    <a:pt x="1636" y="300"/>
                  </a:lnTo>
                  <a:lnTo>
                    <a:pt x="1687" y="351"/>
                  </a:lnTo>
                  <a:lnTo>
                    <a:pt x="1752" y="383"/>
                  </a:lnTo>
                  <a:lnTo>
                    <a:pt x="1795" y="410"/>
                  </a:lnTo>
                  <a:lnTo>
                    <a:pt x="1841" y="439"/>
                  </a:lnTo>
                  <a:lnTo>
                    <a:pt x="1888" y="470"/>
                  </a:lnTo>
                  <a:lnTo>
                    <a:pt x="1932" y="498"/>
                  </a:lnTo>
                  <a:lnTo>
                    <a:pt x="1974" y="522"/>
                  </a:lnTo>
                  <a:lnTo>
                    <a:pt x="2007" y="536"/>
                  </a:lnTo>
                  <a:lnTo>
                    <a:pt x="2152" y="544"/>
                  </a:lnTo>
                  <a:lnTo>
                    <a:pt x="2372" y="491"/>
                  </a:lnTo>
                  <a:lnTo>
                    <a:pt x="2388" y="479"/>
                  </a:lnTo>
                  <a:lnTo>
                    <a:pt x="2445" y="445"/>
                  </a:lnTo>
                  <a:lnTo>
                    <a:pt x="2502" y="412"/>
                  </a:lnTo>
                  <a:lnTo>
                    <a:pt x="2556" y="382"/>
                  </a:lnTo>
                  <a:lnTo>
                    <a:pt x="2611" y="349"/>
                  </a:lnTo>
                  <a:lnTo>
                    <a:pt x="2662" y="315"/>
                  </a:lnTo>
                  <a:lnTo>
                    <a:pt x="2712" y="278"/>
                  </a:lnTo>
                  <a:lnTo>
                    <a:pt x="2761" y="234"/>
                  </a:lnTo>
                  <a:lnTo>
                    <a:pt x="2808" y="184"/>
                  </a:lnTo>
                  <a:lnTo>
                    <a:pt x="2855" y="120"/>
                  </a:lnTo>
                  <a:lnTo>
                    <a:pt x="2878" y="90"/>
                  </a:lnTo>
                  <a:lnTo>
                    <a:pt x="2901" y="60"/>
                  </a:lnTo>
                  <a:lnTo>
                    <a:pt x="2922" y="42"/>
                  </a:lnTo>
                  <a:lnTo>
                    <a:pt x="2944" y="33"/>
                  </a:lnTo>
                  <a:lnTo>
                    <a:pt x="2984" y="42"/>
                  </a:lnTo>
                  <a:lnTo>
                    <a:pt x="3006" y="75"/>
                  </a:lnTo>
                  <a:lnTo>
                    <a:pt x="3000" y="123"/>
                  </a:lnTo>
                  <a:lnTo>
                    <a:pt x="2971" y="190"/>
                  </a:lnTo>
                  <a:lnTo>
                    <a:pt x="2942" y="252"/>
                  </a:lnTo>
                  <a:lnTo>
                    <a:pt x="2925" y="281"/>
                  </a:lnTo>
                  <a:lnTo>
                    <a:pt x="2901" y="312"/>
                  </a:lnTo>
                  <a:lnTo>
                    <a:pt x="2872" y="343"/>
                  </a:lnTo>
                  <a:lnTo>
                    <a:pt x="2833" y="376"/>
                  </a:lnTo>
                  <a:lnTo>
                    <a:pt x="2972" y="398"/>
                  </a:lnTo>
                  <a:lnTo>
                    <a:pt x="3031" y="420"/>
                  </a:lnTo>
                  <a:lnTo>
                    <a:pt x="3089" y="443"/>
                  </a:lnTo>
                  <a:lnTo>
                    <a:pt x="3147" y="467"/>
                  </a:lnTo>
                  <a:lnTo>
                    <a:pt x="3211" y="489"/>
                  </a:lnTo>
                  <a:lnTo>
                    <a:pt x="3283" y="504"/>
                  </a:lnTo>
                  <a:lnTo>
                    <a:pt x="3367" y="510"/>
                  </a:lnTo>
                  <a:lnTo>
                    <a:pt x="3673" y="519"/>
                  </a:lnTo>
                  <a:lnTo>
                    <a:pt x="3814" y="551"/>
                  </a:lnTo>
                  <a:lnTo>
                    <a:pt x="3833" y="581"/>
                  </a:lnTo>
                  <a:lnTo>
                    <a:pt x="3823" y="598"/>
                  </a:lnTo>
                  <a:lnTo>
                    <a:pt x="3799" y="620"/>
                  </a:lnTo>
                  <a:lnTo>
                    <a:pt x="3770" y="641"/>
                  </a:lnTo>
                  <a:lnTo>
                    <a:pt x="3742" y="660"/>
                  </a:lnTo>
                  <a:lnTo>
                    <a:pt x="3714" y="679"/>
                  </a:lnTo>
                  <a:lnTo>
                    <a:pt x="3686" y="696"/>
                  </a:lnTo>
                  <a:lnTo>
                    <a:pt x="3633" y="724"/>
                  </a:lnTo>
                  <a:lnTo>
                    <a:pt x="3581" y="749"/>
                  </a:lnTo>
                  <a:lnTo>
                    <a:pt x="3531" y="768"/>
                  </a:lnTo>
                  <a:lnTo>
                    <a:pt x="3482" y="783"/>
                  </a:lnTo>
                  <a:lnTo>
                    <a:pt x="3391" y="800"/>
                  </a:lnTo>
                  <a:lnTo>
                    <a:pt x="3224" y="796"/>
                  </a:lnTo>
                  <a:lnTo>
                    <a:pt x="3075" y="759"/>
                  </a:lnTo>
                  <a:lnTo>
                    <a:pt x="3007" y="733"/>
                  </a:lnTo>
                  <a:lnTo>
                    <a:pt x="2941" y="706"/>
                  </a:lnTo>
                  <a:lnTo>
                    <a:pt x="2876" y="682"/>
                  </a:lnTo>
                  <a:lnTo>
                    <a:pt x="2813" y="662"/>
                  </a:lnTo>
                  <a:lnTo>
                    <a:pt x="2749" y="647"/>
                  </a:lnTo>
                  <a:lnTo>
                    <a:pt x="2686" y="643"/>
                  </a:lnTo>
                  <a:lnTo>
                    <a:pt x="2558" y="672"/>
                  </a:lnTo>
                  <a:lnTo>
                    <a:pt x="2502" y="697"/>
                  </a:lnTo>
                  <a:lnTo>
                    <a:pt x="2450" y="718"/>
                  </a:lnTo>
                  <a:lnTo>
                    <a:pt x="2400" y="735"/>
                  </a:lnTo>
                  <a:lnTo>
                    <a:pt x="2354" y="752"/>
                  </a:lnTo>
                  <a:lnTo>
                    <a:pt x="2271" y="774"/>
                  </a:lnTo>
                  <a:lnTo>
                    <a:pt x="2198" y="787"/>
                  </a:lnTo>
                  <a:lnTo>
                    <a:pt x="2074" y="790"/>
                  </a:lnTo>
                  <a:lnTo>
                    <a:pt x="1971" y="771"/>
                  </a:lnTo>
                  <a:lnTo>
                    <a:pt x="1873" y="738"/>
                  </a:lnTo>
                  <a:lnTo>
                    <a:pt x="1822" y="722"/>
                  </a:lnTo>
                  <a:lnTo>
                    <a:pt x="1769" y="707"/>
                  </a:lnTo>
                  <a:lnTo>
                    <a:pt x="1645" y="685"/>
                  </a:lnTo>
                  <a:lnTo>
                    <a:pt x="1488" y="685"/>
                  </a:lnTo>
                  <a:lnTo>
                    <a:pt x="1134" y="725"/>
                  </a:lnTo>
                  <a:lnTo>
                    <a:pt x="951" y="750"/>
                  </a:lnTo>
                  <a:lnTo>
                    <a:pt x="769" y="772"/>
                  </a:lnTo>
                  <a:lnTo>
                    <a:pt x="586" y="786"/>
                  </a:lnTo>
                  <a:lnTo>
                    <a:pt x="404" y="787"/>
                  </a:lnTo>
                  <a:lnTo>
                    <a:pt x="226" y="772"/>
                  </a:lnTo>
                  <a:lnTo>
                    <a:pt x="50" y="734"/>
                  </a:lnTo>
                  <a:lnTo>
                    <a:pt x="9" y="706"/>
                  </a:lnTo>
                  <a:lnTo>
                    <a:pt x="0" y="668"/>
                  </a:lnTo>
                  <a:lnTo>
                    <a:pt x="21" y="632"/>
                  </a:lnTo>
                  <a:lnTo>
                    <a:pt x="68" y="617"/>
                  </a:lnTo>
                  <a:lnTo>
                    <a:pt x="260" y="612"/>
                  </a:lnTo>
                  <a:lnTo>
                    <a:pt x="437" y="588"/>
                  </a:lnTo>
                  <a:lnTo>
                    <a:pt x="602" y="554"/>
                  </a:lnTo>
                  <a:lnTo>
                    <a:pt x="680" y="533"/>
                  </a:lnTo>
                  <a:lnTo>
                    <a:pt x="758" y="511"/>
                  </a:lnTo>
                  <a:lnTo>
                    <a:pt x="835" y="489"/>
                  </a:lnTo>
                  <a:lnTo>
                    <a:pt x="910" y="466"/>
                  </a:lnTo>
                  <a:lnTo>
                    <a:pt x="985" y="443"/>
                  </a:lnTo>
                  <a:lnTo>
                    <a:pt x="1061" y="421"/>
                  </a:lnTo>
                  <a:lnTo>
                    <a:pt x="1137" y="401"/>
                  </a:lnTo>
                  <a:lnTo>
                    <a:pt x="1215" y="382"/>
                  </a:lnTo>
                  <a:lnTo>
                    <a:pt x="1294" y="365"/>
                  </a:lnTo>
                  <a:lnTo>
                    <a:pt x="1375" y="351"/>
                  </a:lnTo>
                  <a:lnTo>
                    <a:pt x="1344" y="230"/>
                  </a:lnTo>
                  <a:lnTo>
                    <a:pt x="1317" y="123"/>
                  </a:lnTo>
                  <a:lnTo>
                    <a:pt x="1314" y="79"/>
                  </a:lnTo>
                  <a:lnTo>
                    <a:pt x="1325" y="44"/>
                  </a:lnTo>
                  <a:lnTo>
                    <a:pt x="1348" y="16"/>
                  </a:lnTo>
                  <a:lnTo>
                    <a:pt x="1379" y="0"/>
                  </a:lnTo>
                  <a:lnTo>
                    <a:pt x="1448" y="2"/>
                  </a:lnTo>
                  <a:lnTo>
                    <a:pt x="1503" y="61"/>
                  </a:lnTo>
                  <a:lnTo>
                    <a:pt x="150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786200" y="2001240"/>
              <a:ext cx="1572120" cy="444960"/>
            </a:xfrm>
            <a:custGeom>
              <a:avLst/>
              <a:gdLst/>
              <a:ahLst/>
              <a:rect l="l" t="t" r="r" b="b"/>
              <a:pathLst>
                <a:path w="4424" h="1254">
                  <a:moveTo>
                    <a:pt x="2644" y="170"/>
                  </a:moveTo>
                  <a:lnTo>
                    <a:pt x="2712" y="136"/>
                  </a:lnTo>
                  <a:lnTo>
                    <a:pt x="2776" y="108"/>
                  </a:lnTo>
                  <a:lnTo>
                    <a:pt x="2833" y="82"/>
                  </a:lnTo>
                  <a:lnTo>
                    <a:pt x="2888" y="59"/>
                  </a:lnTo>
                  <a:lnTo>
                    <a:pt x="2939" y="42"/>
                  </a:lnTo>
                  <a:lnTo>
                    <a:pt x="2987" y="27"/>
                  </a:lnTo>
                  <a:lnTo>
                    <a:pt x="3071" y="6"/>
                  </a:lnTo>
                  <a:lnTo>
                    <a:pt x="3211" y="3"/>
                  </a:lnTo>
                  <a:lnTo>
                    <a:pt x="3324" y="48"/>
                  </a:lnTo>
                  <a:lnTo>
                    <a:pt x="3379" y="85"/>
                  </a:lnTo>
                  <a:lnTo>
                    <a:pt x="3433" y="130"/>
                  </a:lnTo>
                  <a:lnTo>
                    <a:pt x="3491" y="186"/>
                  </a:lnTo>
                  <a:lnTo>
                    <a:pt x="3522" y="217"/>
                  </a:lnTo>
                  <a:lnTo>
                    <a:pt x="3554" y="250"/>
                  </a:lnTo>
                  <a:lnTo>
                    <a:pt x="3588" y="285"/>
                  </a:lnTo>
                  <a:lnTo>
                    <a:pt x="3625" y="322"/>
                  </a:lnTo>
                  <a:lnTo>
                    <a:pt x="3665" y="360"/>
                  </a:lnTo>
                  <a:lnTo>
                    <a:pt x="3706" y="400"/>
                  </a:lnTo>
                  <a:lnTo>
                    <a:pt x="3750" y="441"/>
                  </a:lnTo>
                  <a:lnTo>
                    <a:pt x="3799" y="484"/>
                  </a:lnTo>
                  <a:lnTo>
                    <a:pt x="3851" y="528"/>
                  </a:lnTo>
                  <a:lnTo>
                    <a:pt x="3907" y="574"/>
                  </a:lnTo>
                  <a:lnTo>
                    <a:pt x="3941" y="596"/>
                  </a:lnTo>
                  <a:lnTo>
                    <a:pt x="3978" y="623"/>
                  </a:lnTo>
                  <a:lnTo>
                    <a:pt x="4025" y="655"/>
                  </a:lnTo>
                  <a:lnTo>
                    <a:pt x="4051" y="673"/>
                  </a:lnTo>
                  <a:lnTo>
                    <a:pt x="4078" y="694"/>
                  </a:lnTo>
                  <a:lnTo>
                    <a:pt x="4107" y="714"/>
                  </a:lnTo>
                  <a:lnTo>
                    <a:pt x="4137" y="735"/>
                  </a:lnTo>
                  <a:lnTo>
                    <a:pt x="4166" y="757"/>
                  </a:lnTo>
                  <a:lnTo>
                    <a:pt x="4196" y="779"/>
                  </a:lnTo>
                  <a:lnTo>
                    <a:pt x="4255" y="825"/>
                  </a:lnTo>
                  <a:lnTo>
                    <a:pt x="4308" y="869"/>
                  </a:lnTo>
                  <a:lnTo>
                    <a:pt x="4357" y="910"/>
                  </a:lnTo>
                  <a:lnTo>
                    <a:pt x="4420" y="980"/>
                  </a:lnTo>
                  <a:lnTo>
                    <a:pt x="4424" y="1018"/>
                  </a:lnTo>
                  <a:lnTo>
                    <a:pt x="4346" y="1015"/>
                  </a:lnTo>
                  <a:lnTo>
                    <a:pt x="4264" y="995"/>
                  </a:lnTo>
                  <a:lnTo>
                    <a:pt x="4186" y="972"/>
                  </a:lnTo>
                  <a:lnTo>
                    <a:pt x="4110" y="946"/>
                  </a:lnTo>
                  <a:lnTo>
                    <a:pt x="4041" y="918"/>
                  </a:lnTo>
                  <a:lnTo>
                    <a:pt x="3973" y="888"/>
                  </a:lnTo>
                  <a:lnTo>
                    <a:pt x="3910" y="857"/>
                  </a:lnTo>
                  <a:lnTo>
                    <a:pt x="3848" y="825"/>
                  </a:lnTo>
                  <a:lnTo>
                    <a:pt x="3790" y="792"/>
                  </a:lnTo>
                  <a:lnTo>
                    <a:pt x="3736" y="759"/>
                  </a:lnTo>
                  <a:lnTo>
                    <a:pt x="3683" y="723"/>
                  </a:lnTo>
                  <a:lnTo>
                    <a:pt x="3632" y="689"/>
                  </a:lnTo>
                  <a:lnTo>
                    <a:pt x="3582" y="655"/>
                  </a:lnTo>
                  <a:lnTo>
                    <a:pt x="3537" y="621"/>
                  </a:lnTo>
                  <a:lnTo>
                    <a:pt x="3491" y="587"/>
                  </a:lnTo>
                  <a:lnTo>
                    <a:pt x="3447" y="555"/>
                  </a:lnTo>
                  <a:lnTo>
                    <a:pt x="3402" y="524"/>
                  </a:lnTo>
                  <a:lnTo>
                    <a:pt x="3360" y="495"/>
                  </a:lnTo>
                  <a:lnTo>
                    <a:pt x="3318" y="468"/>
                  </a:lnTo>
                  <a:lnTo>
                    <a:pt x="3276" y="441"/>
                  </a:lnTo>
                  <a:lnTo>
                    <a:pt x="3234" y="419"/>
                  </a:lnTo>
                  <a:lnTo>
                    <a:pt x="3193" y="399"/>
                  </a:lnTo>
                  <a:lnTo>
                    <a:pt x="3150" y="381"/>
                  </a:lnTo>
                  <a:lnTo>
                    <a:pt x="3063" y="356"/>
                  </a:lnTo>
                  <a:lnTo>
                    <a:pt x="2972" y="346"/>
                  </a:lnTo>
                  <a:lnTo>
                    <a:pt x="2874" y="353"/>
                  </a:lnTo>
                  <a:lnTo>
                    <a:pt x="2768" y="381"/>
                  </a:lnTo>
                  <a:lnTo>
                    <a:pt x="2712" y="402"/>
                  </a:lnTo>
                  <a:lnTo>
                    <a:pt x="2653" y="430"/>
                  </a:lnTo>
                  <a:lnTo>
                    <a:pt x="2636" y="459"/>
                  </a:lnTo>
                  <a:lnTo>
                    <a:pt x="2616" y="484"/>
                  </a:lnTo>
                  <a:lnTo>
                    <a:pt x="2578" y="524"/>
                  </a:lnTo>
                  <a:lnTo>
                    <a:pt x="2537" y="548"/>
                  </a:lnTo>
                  <a:lnTo>
                    <a:pt x="2492" y="561"/>
                  </a:lnTo>
                  <a:lnTo>
                    <a:pt x="2395" y="559"/>
                  </a:lnTo>
                  <a:lnTo>
                    <a:pt x="2283" y="533"/>
                  </a:lnTo>
                  <a:lnTo>
                    <a:pt x="2226" y="509"/>
                  </a:lnTo>
                  <a:lnTo>
                    <a:pt x="2168" y="475"/>
                  </a:lnTo>
                  <a:lnTo>
                    <a:pt x="2140" y="455"/>
                  </a:lnTo>
                  <a:lnTo>
                    <a:pt x="2110" y="434"/>
                  </a:lnTo>
                  <a:lnTo>
                    <a:pt x="2054" y="390"/>
                  </a:lnTo>
                  <a:lnTo>
                    <a:pt x="2025" y="369"/>
                  </a:lnTo>
                  <a:lnTo>
                    <a:pt x="1997" y="349"/>
                  </a:lnTo>
                  <a:lnTo>
                    <a:pt x="1967" y="329"/>
                  </a:lnTo>
                  <a:lnTo>
                    <a:pt x="1939" y="313"/>
                  </a:lnTo>
                  <a:lnTo>
                    <a:pt x="1880" y="288"/>
                  </a:lnTo>
                  <a:lnTo>
                    <a:pt x="1821" y="279"/>
                  </a:lnTo>
                  <a:lnTo>
                    <a:pt x="1715" y="297"/>
                  </a:lnTo>
                  <a:lnTo>
                    <a:pt x="1650" y="316"/>
                  </a:lnTo>
                  <a:lnTo>
                    <a:pt x="1577" y="341"/>
                  </a:lnTo>
                  <a:lnTo>
                    <a:pt x="1498" y="374"/>
                  </a:lnTo>
                  <a:lnTo>
                    <a:pt x="1416" y="409"/>
                  </a:lnTo>
                  <a:lnTo>
                    <a:pt x="1375" y="428"/>
                  </a:lnTo>
                  <a:lnTo>
                    <a:pt x="1332" y="449"/>
                  </a:lnTo>
                  <a:lnTo>
                    <a:pt x="1288" y="469"/>
                  </a:lnTo>
                  <a:lnTo>
                    <a:pt x="1245" y="490"/>
                  </a:lnTo>
                  <a:lnTo>
                    <a:pt x="1202" y="512"/>
                  </a:lnTo>
                  <a:lnTo>
                    <a:pt x="1158" y="534"/>
                  </a:lnTo>
                  <a:lnTo>
                    <a:pt x="1116" y="556"/>
                  </a:lnTo>
                  <a:lnTo>
                    <a:pt x="1074" y="579"/>
                  </a:lnTo>
                  <a:lnTo>
                    <a:pt x="1032" y="602"/>
                  </a:lnTo>
                  <a:lnTo>
                    <a:pt x="993" y="624"/>
                  </a:lnTo>
                  <a:lnTo>
                    <a:pt x="953" y="646"/>
                  </a:lnTo>
                  <a:lnTo>
                    <a:pt x="914" y="669"/>
                  </a:lnTo>
                  <a:lnTo>
                    <a:pt x="878" y="691"/>
                  </a:lnTo>
                  <a:lnTo>
                    <a:pt x="844" y="711"/>
                  </a:lnTo>
                  <a:lnTo>
                    <a:pt x="810" y="732"/>
                  </a:lnTo>
                  <a:lnTo>
                    <a:pt x="779" y="751"/>
                  </a:lnTo>
                  <a:lnTo>
                    <a:pt x="723" y="788"/>
                  </a:lnTo>
                  <a:lnTo>
                    <a:pt x="678" y="820"/>
                  </a:lnTo>
                  <a:lnTo>
                    <a:pt x="612" y="875"/>
                  </a:lnTo>
                  <a:lnTo>
                    <a:pt x="577" y="909"/>
                  </a:lnTo>
                  <a:lnTo>
                    <a:pt x="540" y="944"/>
                  </a:lnTo>
                  <a:lnTo>
                    <a:pt x="503" y="980"/>
                  </a:lnTo>
                  <a:lnTo>
                    <a:pt x="465" y="1018"/>
                  </a:lnTo>
                  <a:lnTo>
                    <a:pt x="425" y="1055"/>
                  </a:lnTo>
                  <a:lnTo>
                    <a:pt x="385" y="1092"/>
                  </a:lnTo>
                  <a:lnTo>
                    <a:pt x="344" y="1127"/>
                  </a:lnTo>
                  <a:lnTo>
                    <a:pt x="302" y="1158"/>
                  </a:lnTo>
                  <a:lnTo>
                    <a:pt x="263" y="1188"/>
                  </a:lnTo>
                  <a:lnTo>
                    <a:pt x="221" y="1213"/>
                  </a:lnTo>
                  <a:lnTo>
                    <a:pt x="180" y="1232"/>
                  </a:lnTo>
                  <a:lnTo>
                    <a:pt x="139" y="1247"/>
                  </a:lnTo>
                  <a:lnTo>
                    <a:pt x="59" y="1254"/>
                  </a:lnTo>
                  <a:lnTo>
                    <a:pt x="15" y="1235"/>
                  </a:lnTo>
                  <a:lnTo>
                    <a:pt x="0" y="1197"/>
                  </a:lnTo>
                  <a:lnTo>
                    <a:pt x="10" y="1155"/>
                  </a:lnTo>
                  <a:lnTo>
                    <a:pt x="28" y="1138"/>
                  </a:lnTo>
                  <a:lnTo>
                    <a:pt x="52" y="1127"/>
                  </a:lnTo>
                  <a:lnTo>
                    <a:pt x="128" y="1093"/>
                  </a:lnTo>
                  <a:lnTo>
                    <a:pt x="168" y="1070"/>
                  </a:lnTo>
                  <a:lnTo>
                    <a:pt x="208" y="1043"/>
                  </a:lnTo>
                  <a:lnTo>
                    <a:pt x="249" y="1012"/>
                  </a:lnTo>
                  <a:lnTo>
                    <a:pt x="291" y="977"/>
                  </a:lnTo>
                  <a:lnTo>
                    <a:pt x="333" y="938"/>
                  </a:lnTo>
                  <a:lnTo>
                    <a:pt x="376" y="899"/>
                  </a:lnTo>
                  <a:lnTo>
                    <a:pt x="420" y="856"/>
                  </a:lnTo>
                  <a:lnTo>
                    <a:pt x="466" y="810"/>
                  </a:lnTo>
                  <a:lnTo>
                    <a:pt x="512" y="764"/>
                  </a:lnTo>
                  <a:lnTo>
                    <a:pt x="559" y="716"/>
                  </a:lnTo>
                  <a:lnTo>
                    <a:pt x="608" y="667"/>
                  </a:lnTo>
                  <a:lnTo>
                    <a:pt x="656" y="617"/>
                  </a:lnTo>
                  <a:lnTo>
                    <a:pt x="708" y="567"/>
                  </a:lnTo>
                  <a:lnTo>
                    <a:pt x="760" y="518"/>
                  </a:lnTo>
                  <a:lnTo>
                    <a:pt x="814" y="468"/>
                  </a:lnTo>
                  <a:lnTo>
                    <a:pt x="869" y="419"/>
                  </a:lnTo>
                  <a:lnTo>
                    <a:pt x="926" y="371"/>
                  </a:lnTo>
                  <a:lnTo>
                    <a:pt x="984" y="325"/>
                  </a:lnTo>
                  <a:lnTo>
                    <a:pt x="1013" y="301"/>
                  </a:lnTo>
                  <a:lnTo>
                    <a:pt x="1043" y="279"/>
                  </a:lnTo>
                  <a:lnTo>
                    <a:pt x="1074" y="259"/>
                  </a:lnTo>
                  <a:lnTo>
                    <a:pt x="1105" y="238"/>
                  </a:lnTo>
                  <a:lnTo>
                    <a:pt x="1136" y="217"/>
                  </a:lnTo>
                  <a:lnTo>
                    <a:pt x="1168" y="197"/>
                  </a:lnTo>
                  <a:lnTo>
                    <a:pt x="1199" y="177"/>
                  </a:lnTo>
                  <a:lnTo>
                    <a:pt x="1233" y="160"/>
                  </a:lnTo>
                  <a:lnTo>
                    <a:pt x="1265" y="142"/>
                  </a:lnTo>
                  <a:lnTo>
                    <a:pt x="1299" y="124"/>
                  </a:lnTo>
                  <a:lnTo>
                    <a:pt x="1367" y="95"/>
                  </a:lnTo>
                  <a:lnTo>
                    <a:pt x="1438" y="67"/>
                  </a:lnTo>
                  <a:lnTo>
                    <a:pt x="1510" y="45"/>
                  </a:lnTo>
                  <a:lnTo>
                    <a:pt x="1585" y="26"/>
                  </a:lnTo>
                  <a:lnTo>
                    <a:pt x="1662" y="12"/>
                  </a:lnTo>
                  <a:lnTo>
                    <a:pt x="1821" y="0"/>
                  </a:lnTo>
                  <a:lnTo>
                    <a:pt x="1911" y="26"/>
                  </a:lnTo>
                  <a:lnTo>
                    <a:pt x="1960" y="52"/>
                  </a:lnTo>
                  <a:lnTo>
                    <a:pt x="2012" y="85"/>
                  </a:lnTo>
                  <a:lnTo>
                    <a:pt x="2038" y="104"/>
                  </a:lnTo>
                  <a:lnTo>
                    <a:pt x="2066" y="123"/>
                  </a:lnTo>
                  <a:lnTo>
                    <a:pt x="2093" y="144"/>
                  </a:lnTo>
                  <a:lnTo>
                    <a:pt x="2119" y="163"/>
                  </a:lnTo>
                  <a:lnTo>
                    <a:pt x="2147" y="183"/>
                  </a:lnTo>
                  <a:lnTo>
                    <a:pt x="2175" y="203"/>
                  </a:lnTo>
                  <a:lnTo>
                    <a:pt x="2203" y="222"/>
                  </a:lnTo>
                  <a:lnTo>
                    <a:pt x="2231" y="239"/>
                  </a:lnTo>
                  <a:lnTo>
                    <a:pt x="2287" y="272"/>
                  </a:lnTo>
                  <a:lnTo>
                    <a:pt x="2344" y="297"/>
                  </a:lnTo>
                  <a:lnTo>
                    <a:pt x="2398" y="313"/>
                  </a:lnTo>
                  <a:lnTo>
                    <a:pt x="2451" y="318"/>
                  </a:lnTo>
                  <a:lnTo>
                    <a:pt x="2553" y="281"/>
                  </a:lnTo>
                  <a:lnTo>
                    <a:pt x="2600" y="236"/>
                  </a:lnTo>
                  <a:lnTo>
                    <a:pt x="2644" y="170"/>
                  </a:lnTo>
                  <a:lnTo>
                    <a:pt x="2644"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1" name=""/>
          <p:cNvGrpSpPr/>
          <p:nvPr/>
        </p:nvGrpSpPr>
        <p:grpSpPr>
          <a:xfrm>
            <a:off x="6927840" y="1719360"/>
            <a:ext cx="1531800" cy="1393560"/>
            <a:chOff x="6927840" y="1719360"/>
            <a:chExt cx="1531800" cy="1393560"/>
          </a:xfrm>
        </p:grpSpPr>
        <p:grpSp>
          <p:nvGrpSpPr>
            <p:cNvPr id="1092" name=""/>
            <p:cNvGrpSpPr/>
            <p:nvPr/>
          </p:nvGrpSpPr>
          <p:grpSpPr>
            <a:xfrm>
              <a:off x="6927840" y="1719360"/>
              <a:ext cx="1531800" cy="1393560"/>
              <a:chOff x="6927840" y="1719360"/>
              <a:chExt cx="1531800" cy="1393560"/>
            </a:xfrm>
          </p:grpSpPr>
          <p:sp>
            <p:nvSpPr>
              <p:cNvPr id="1093" name=""/>
              <p:cNvSpPr/>
              <p:nvPr/>
            </p:nvSpPr>
            <p:spPr>
              <a:xfrm>
                <a:off x="6927840" y="1719360"/>
                <a:ext cx="1531800" cy="139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6948360" y="1736640"/>
                <a:ext cx="1494000" cy="1363680"/>
              </a:xfrm>
              <a:custGeom>
                <a:avLst/>
                <a:gdLst/>
                <a:ahLst/>
                <a:rect l="l" t="t" r="r" b="b"/>
                <a:pathLst>
                  <a:path w="2823" h="2579">
                    <a:moveTo>
                      <a:pt x="2789" y="2560"/>
                    </a:moveTo>
                    <a:lnTo>
                      <a:pt x="2703" y="2560"/>
                    </a:lnTo>
                    <a:lnTo>
                      <a:pt x="2617" y="2560"/>
                    </a:lnTo>
                    <a:lnTo>
                      <a:pt x="2531" y="2560"/>
                    </a:lnTo>
                    <a:lnTo>
                      <a:pt x="2444" y="2560"/>
                    </a:lnTo>
                    <a:lnTo>
                      <a:pt x="2359" y="2562"/>
                    </a:lnTo>
                    <a:lnTo>
                      <a:pt x="2272" y="2562"/>
                    </a:lnTo>
                    <a:lnTo>
                      <a:pt x="2186" y="2562"/>
                    </a:lnTo>
                    <a:lnTo>
                      <a:pt x="2100" y="2562"/>
                    </a:lnTo>
                    <a:lnTo>
                      <a:pt x="2013" y="2562"/>
                    </a:lnTo>
                    <a:lnTo>
                      <a:pt x="1928" y="2562"/>
                    </a:lnTo>
                    <a:lnTo>
                      <a:pt x="1841" y="2562"/>
                    </a:lnTo>
                    <a:lnTo>
                      <a:pt x="1754" y="2563"/>
                    </a:lnTo>
                    <a:lnTo>
                      <a:pt x="1667" y="2563"/>
                    </a:lnTo>
                    <a:lnTo>
                      <a:pt x="1582" y="2563"/>
                    </a:lnTo>
                    <a:lnTo>
                      <a:pt x="1495" y="2563"/>
                    </a:lnTo>
                    <a:lnTo>
                      <a:pt x="1409" y="2564"/>
                    </a:lnTo>
                    <a:lnTo>
                      <a:pt x="1322" y="2564"/>
                    </a:lnTo>
                    <a:lnTo>
                      <a:pt x="1236" y="2564"/>
                    </a:lnTo>
                    <a:lnTo>
                      <a:pt x="1150" y="2566"/>
                    </a:lnTo>
                    <a:lnTo>
                      <a:pt x="1063" y="2566"/>
                    </a:lnTo>
                    <a:lnTo>
                      <a:pt x="976" y="2567"/>
                    </a:lnTo>
                    <a:lnTo>
                      <a:pt x="889" y="2567"/>
                    </a:lnTo>
                    <a:lnTo>
                      <a:pt x="803" y="2569"/>
                    </a:lnTo>
                    <a:lnTo>
                      <a:pt x="716" y="2569"/>
                    </a:lnTo>
                    <a:lnTo>
                      <a:pt x="631" y="2570"/>
                    </a:lnTo>
                    <a:lnTo>
                      <a:pt x="544" y="2572"/>
                    </a:lnTo>
                    <a:lnTo>
                      <a:pt x="457" y="2573"/>
                    </a:lnTo>
                    <a:lnTo>
                      <a:pt x="369" y="2573"/>
                    </a:lnTo>
                    <a:lnTo>
                      <a:pt x="282" y="2575"/>
                    </a:lnTo>
                    <a:lnTo>
                      <a:pt x="195" y="2576"/>
                    </a:lnTo>
                    <a:lnTo>
                      <a:pt x="108" y="2577"/>
                    </a:lnTo>
                    <a:lnTo>
                      <a:pt x="22" y="2579"/>
                    </a:lnTo>
                    <a:lnTo>
                      <a:pt x="13" y="2573"/>
                    </a:lnTo>
                    <a:lnTo>
                      <a:pt x="10" y="2398"/>
                    </a:lnTo>
                    <a:lnTo>
                      <a:pt x="10" y="2223"/>
                    </a:lnTo>
                    <a:lnTo>
                      <a:pt x="10" y="2047"/>
                    </a:lnTo>
                    <a:lnTo>
                      <a:pt x="10" y="1871"/>
                    </a:lnTo>
                    <a:lnTo>
                      <a:pt x="4" y="1407"/>
                    </a:lnTo>
                    <a:lnTo>
                      <a:pt x="3" y="948"/>
                    </a:lnTo>
                    <a:lnTo>
                      <a:pt x="1" y="490"/>
                    </a:lnTo>
                    <a:lnTo>
                      <a:pt x="0" y="32"/>
                    </a:lnTo>
                    <a:lnTo>
                      <a:pt x="28" y="17"/>
                    </a:lnTo>
                    <a:lnTo>
                      <a:pt x="78" y="17"/>
                    </a:lnTo>
                    <a:lnTo>
                      <a:pt x="129" y="16"/>
                    </a:lnTo>
                    <a:lnTo>
                      <a:pt x="179" y="16"/>
                    </a:lnTo>
                    <a:lnTo>
                      <a:pt x="230" y="14"/>
                    </a:lnTo>
                    <a:lnTo>
                      <a:pt x="282" y="14"/>
                    </a:lnTo>
                    <a:lnTo>
                      <a:pt x="333" y="14"/>
                    </a:lnTo>
                    <a:lnTo>
                      <a:pt x="383" y="13"/>
                    </a:lnTo>
                    <a:lnTo>
                      <a:pt x="434" y="13"/>
                    </a:lnTo>
                    <a:lnTo>
                      <a:pt x="484" y="13"/>
                    </a:lnTo>
                    <a:lnTo>
                      <a:pt x="535" y="13"/>
                    </a:lnTo>
                    <a:lnTo>
                      <a:pt x="586" y="11"/>
                    </a:lnTo>
                    <a:lnTo>
                      <a:pt x="636" y="11"/>
                    </a:lnTo>
                    <a:lnTo>
                      <a:pt x="687" y="11"/>
                    </a:lnTo>
                    <a:lnTo>
                      <a:pt x="738" y="11"/>
                    </a:lnTo>
                    <a:lnTo>
                      <a:pt x="788" y="10"/>
                    </a:lnTo>
                    <a:lnTo>
                      <a:pt x="839" y="10"/>
                    </a:lnTo>
                    <a:lnTo>
                      <a:pt x="889" y="10"/>
                    </a:lnTo>
                    <a:lnTo>
                      <a:pt x="940" y="10"/>
                    </a:lnTo>
                    <a:lnTo>
                      <a:pt x="991" y="10"/>
                    </a:lnTo>
                    <a:lnTo>
                      <a:pt x="1041" y="10"/>
                    </a:lnTo>
                    <a:lnTo>
                      <a:pt x="1092" y="8"/>
                    </a:lnTo>
                    <a:lnTo>
                      <a:pt x="1142" y="8"/>
                    </a:lnTo>
                    <a:lnTo>
                      <a:pt x="1194" y="8"/>
                    </a:lnTo>
                    <a:lnTo>
                      <a:pt x="1245" y="8"/>
                    </a:lnTo>
                    <a:lnTo>
                      <a:pt x="1296" y="8"/>
                    </a:lnTo>
                    <a:lnTo>
                      <a:pt x="1346" y="7"/>
                    </a:lnTo>
                    <a:lnTo>
                      <a:pt x="1397" y="7"/>
                    </a:lnTo>
                    <a:lnTo>
                      <a:pt x="1448" y="7"/>
                    </a:lnTo>
                    <a:lnTo>
                      <a:pt x="1498" y="7"/>
                    </a:lnTo>
                    <a:lnTo>
                      <a:pt x="1550" y="7"/>
                    </a:lnTo>
                    <a:lnTo>
                      <a:pt x="1601" y="6"/>
                    </a:lnTo>
                    <a:lnTo>
                      <a:pt x="1651" y="6"/>
                    </a:lnTo>
                    <a:lnTo>
                      <a:pt x="1688" y="6"/>
                    </a:lnTo>
                    <a:lnTo>
                      <a:pt x="1725" y="6"/>
                    </a:lnTo>
                    <a:lnTo>
                      <a:pt x="1761" y="6"/>
                    </a:lnTo>
                    <a:lnTo>
                      <a:pt x="1797" y="6"/>
                    </a:lnTo>
                    <a:lnTo>
                      <a:pt x="1834" y="6"/>
                    </a:lnTo>
                    <a:lnTo>
                      <a:pt x="1871" y="6"/>
                    </a:lnTo>
                    <a:lnTo>
                      <a:pt x="1907" y="6"/>
                    </a:lnTo>
                    <a:lnTo>
                      <a:pt x="1944" y="6"/>
                    </a:lnTo>
                    <a:lnTo>
                      <a:pt x="1980" y="4"/>
                    </a:lnTo>
                    <a:lnTo>
                      <a:pt x="2016" y="4"/>
                    </a:lnTo>
                    <a:lnTo>
                      <a:pt x="2052" y="4"/>
                    </a:lnTo>
                    <a:lnTo>
                      <a:pt x="2088" y="4"/>
                    </a:lnTo>
                    <a:lnTo>
                      <a:pt x="2124" y="3"/>
                    </a:lnTo>
                    <a:lnTo>
                      <a:pt x="2160" y="3"/>
                    </a:lnTo>
                    <a:lnTo>
                      <a:pt x="2195" y="3"/>
                    </a:lnTo>
                    <a:lnTo>
                      <a:pt x="2231" y="3"/>
                    </a:lnTo>
                    <a:lnTo>
                      <a:pt x="2267" y="1"/>
                    </a:lnTo>
                    <a:lnTo>
                      <a:pt x="2304" y="1"/>
                    </a:lnTo>
                    <a:lnTo>
                      <a:pt x="2338" y="1"/>
                    </a:lnTo>
                    <a:lnTo>
                      <a:pt x="2374" y="1"/>
                    </a:lnTo>
                    <a:lnTo>
                      <a:pt x="2411" y="1"/>
                    </a:lnTo>
                    <a:lnTo>
                      <a:pt x="2445" y="1"/>
                    </a:lnTo>
                    <a:lnTo>
                      <a:pt x="2481" y="0"/>
                    </a:lnTo>
                    <a:lnTo>
                      <a:pt x="2516" y="0"/>
                    </a:lnTo>
                    <a:lnTo>
                      <a:pt x="2552" y="1"/>
                    </a:lnTo>
                    <a:lnTo>
                      <a:pt x="2587" y="1"/>
                    </a:lnTo>
                    <a:lnTo>
                      <a:pt x="2623" y="1"/>
                    </a:lnTo>
                    <a:lnTo>
                      <a:pt x="2658" y="1"/>
                    </a:lnTo>
                    <a:lnTo>
                      <a:pt x="2694" y="1"/>
                    </a:lnTo>
                    <a:lnTo>
                      <a:pt x="2729" y="3"/>
                    </a:lnTo>
                    <a:lnTo>
                      <a:pt x="2765" y="3"/>
                    </a:lnTo>
                    <a:lnTo>
                      <a:pt x="2800" y="4"/>
                    </a:lnTo>
                    <a:lnTo>
                      <a:pt x="2811" y="24"/>
                    </a:lnTo>
                    <a:lnTo>
                      <a:pt x="2813" y="605"/>
                    </a:lnTo>
                    <a:lnTo>
                      <a:pt x="2817" y="1187"/>
                    </a:lnTo>
                    <a:lnTo>
                      <a:pt x="2820" y="1770"/>
                    </a:lnTo>
                    <a:lnTo>
                      <a:pt x="2821" y="2351"/>
                    </a:lnTo>
                    <a:lnTo>
                      <a:pt x="2821" y="2405"/>
                    </a:lnTo>
                    <a:lnTo>
                      <a:pt x="2823" y="2459"/>
                    </a:lnTo>
                    <a:lnTo>
                      <a:pt x="2821" y="2510"/>
                    </a:lnTo>
                    <a:lnTo>
                      <a:pt x="2816" y="2556"/>
                    </a:lnTo>
                    <a:lnTo>
                      <a:pt x="2789" y="2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7615080" y="2595600"/>
                <a:ext cx="812880" cy="484200"/>
              </a:xfrm>
              <a:custGeom>
                <a:avLst/>
                <a:gdLst/>
                <a:ahLst/>
                <a:rect l="l" t="t" r="r" b="b"/>
                <a:pathLst>
                  <a:path w="1534" h="916">
                    <a:moveTo>
                      <a:pt x="1394" y="909"/>
                    </a:moveTo>
                    <a:lnTo>
                      <a:pt x="1351" y="909"/>
                    </a:lnTo>
                    <a:lnTo>
                      <a:pt x="1307" y="909"/>
                    </a:lnTo>
                    <a:lnTo>
                      <a:pt x="1264" y="909"/>
                    </a:lnTo>
                    <a:lnTo>
                      <a:pt x="1222" y="910"/>
                    </a:lnTo>
                    <a:lnTo>
                      <a:pt x="1179" y="910"/>
                    </a:lnTo>
                    <a:lnTo>
                      <a:pt x="1135" y="910"/>
                    </a:lnTo>
                    <a:lnTo>
                      <a:pt x="1092" y="910"/>
                    </a:lnTo>
                    <a:lnTo>
                      <a:pt x="1048" y="910"/>
                    </a:lnTo>
                    <a:lnTo>
                      <a:pt x="1005" y="912"/>
                    </a:lnTo>
                    <a:lnTo>
                      <a:pt x="962" y="912"/>
                    </a:lnTo>
                    <a:lnTo>
                      <a:pt x="918" y="912"/>
                    </a:lnTo>
                    <a:lnTo>
                      <a:pt x="875" y="913"/>
                    </a:lnTo>
                    <a:lnTo>
                      <a:pt x="831" y="913"/>
                    </a:lnTo>
                    <a:lnTo>
                      <a:pt x="787" y="913"/>
                    </a:lnTo>
                    <a:lnTo>
                      <a:pt x="743" y="913"/>
                    </a:lnTo>
                    <a:lnTo>
                      <a:pt x="700" y="914"/>
                    </a:lnTo>
                    <a:lnTo>
                      <a:pt x="657" y="914"/>
                    </a:lnTo>
                    <a:lnTo>
                      <a:pt x="613" y="914"/>
                    </a:lnTo>
                    <a:lnTo>
                      <a:pt x="570" y="914"/>
                    </a:lnTo>
                    <a:lnTo>
                      <a:pt x="526" y="916"/>
                    </a:lnTo>
                    <a:lnTo>
                      <a:pt x="482" y="916"/>
                    </a:lnTo>
                    <a:lnTo>
                      <a:pt x="438" y="916"/>
                    </a:lnTo>
                    <a:lnTo>
                      <a:pt x="395" y="916"/>
                    </a:lnTo>
                    <a:lnTo>
                      <a:pt x="351" y="916"/>
                    </a:lnTo>
                    <a:lnTo>
                      <a:pt x="307" y="916"/>
                    </a:lnTo>
                    <a:lnTo>
                      <a:pt x="263" y="916"/>
                    </a:lnTo>
                    <a:lnTo>
                      <a:pt x="220" y="916"/>
                    </a:lnTo>
                    <a:lnTo>
                      <a:pt x="175" y="916"/>
                    </a:lnTo>
                    <a:lnTo>
                      <a:pt x="132" y="916"/>
                    </a:lnTo>
                    <a:lnTo>
                      <a:pt x="88" y="916"/>
                    </a:lnTo>
                    <a:lnTo>
                      <a:pt x="43" y="916"/>
                    </a:lnTo>
                    <a:lnTo>
                      <a:pt x="0" y="916"/>
                    </a:lnTo>
                    <a:lnTo>
                      <a:pt x="0" y="901"/>
                    </a:lnTo>
                    <a:lnTo>
                      <a:pt x="14" y="888"/>
                    </a:lnTo>
                    <a:lnTo>
                      <a:pt x="29" y="875"/>
                    </a:lnTo>
                    <a:lnTo>
                      <a:pt x="42" y="862"/>
                    </a:lnTo>
                    <a:lnTo>
                      <a:pt x="58" y="848"/>
                    </a:lnTo>
                    <a:lnTo>
                      <a:pt x="72" y="834"/>
                    </a:lnTo>
                    <a:lnTo>
                      <a:pt x="87" y="821"/>
                    </a:lnTo>
                    <a:lnTo>
                      <a:pt x="103" y="808"/>
                    </a:lnTo>
                    <a:lnTo>
                      <a:pt x="119" y="795"/>
                    </a:lnTo>
                    <a:lnTo>
                      <a:pt x="168" y="767"/>
                    </a:lnTo>
                    <a:lnTo>
                      <a:pt x="214" y="737"/>
                    </a:lnTo>
                    <a:lnTo>
                      <a:pt x="257" y="702"/>
                    </a:lnTo>
                    <a:lnTo>
                      <a:pt x="296" y="666"/>
                    </a:lnTo>
                    <a:lnTo>
                      <a:pt x="334" y="627"/>
                    </a:lnTo>
                    <a:lnTo>
                      <a:pt x="369" y="586"/>
                    </a:lnTo>
                    <a:lnTo>
                      <a:pt x="402" y="543"/>
                    </a:lnTo>
                    <a:lnTo>
                      <a:pt x="434" y="498"/>
                    </a:lnTo>
                    <a:lnTo>
                      <a:pt x="464" y="454"/>
                    </a:lnTo>
                    <a:lnTo>
                      <a:pt x="493" y="407"/>
                    </a:lnTo>
                    <a:lnTo>
                      <a:pt x="522" y="361"/>
                    </a:lnTo>
                    <a:lnTo>
                      <a:pt x="550" y="315"/>
                    </a:lnTo>
                    <a:lnTo>
                      <a:pt x="578" y="269"/>
                    </a:lnTo>
                    <a:lnTo>
                      <a:pt x="607" y="222"/>
                    </a:lnTo>
                    <a:lnTo>
                      <a:pt x="638" y="178"/>
                    </a:lnTo>
                    <a:lnTo>
                      <a:pt x="668" y="134"/>
                    </a:lnTo>
                    <a:lnTo>
                      <a:pt x="678" y="118"/>
                    </a:lnTo>
                    <a:lnTo>
                      <a:pt x="688" y="104"/>
                    </a:lnTo>
                    <a:lnTo>
                      <a:pt x="698" y="88"/>
                    </a:lnTo>
                    <a:lnTo>
                      <a:pt x="709" y="71"/>
                    </a:lnTo>
                    <a:lnTo>
                      <a:pt x="719" y="55"/>
                    </a:lnTo>
                    <a:lnTo>
                      <a:pt x="730" y="37"/>
                    </a:lnTo>
                    <a:lnTo>
                      <a:pt x="742" y="20"/>
                    </a:lnTo>
                    <a:lnTo>
                      <a:pt x="755" y="1"/>
                    </a:lnTo>
                    <a:lnTo>
                      <a:pt x="766" y="0"/>
                    </a:lnTo>
                    <a:lnTo>
                      <a:pt x="792" y="11"/>
                    </a:lnTo>
                    <a:lnTo>
                      <a:pt x="817" y="24"/>
                    </a:lnTo>
                    <a:lnTo>
                      <a:pt x="840" y="37"/>
                    </a:lnTo>
                    <a:lnTo>
                      <a:pt x="862" y="52"/>
                    </a:lnTo>
                    <a:lnTo>
                      <a:pt x="884" y="66"/>
                    </a:lnTo>
                    <a:lnTo>
                      <a:pt x="907" y="82"/>
                    </a:lnTo>
                    <a:lnTo>
                      <a:pt x="930" y="97"/>
                    </a:lnTo>
                    <a:lnTo>
                      <a:pt x="956" y="110"/>
                    </a:lnTo>
                    <a:lnTo>
                      <a:pt x="989" y="137"/>
                    </a:lnTo>
                    <a:lnTo>
                      <a:pt x="1024" y="163"/>
                    </a:lnTo>
                    <a:lnTo>
                      <a:pt x="1059" y="188"/>
                    </a:lnTo>
                    <a:lnTo>
                      <a:pt x="1095" y="211"/>
                    </a:lnTo>
                    <a:lnTo>
                      <a:pt x="1131" y="234"/>
                    </a:lnTo>
                    <a:lnTo>
                      <a:pt x="1167" y="256"/>
                    </a:lnTo>
                    <a:lnTo>
                      <a:pt x="1205" y="277"/>
                    </a:lnTo>
                    <a:lnTo>
                      <a:pt x="1241" y="297"/>
                    </a:lnTo>
                    <a:lnTo>
                      <a:pt x="1278" y="319"/>
                    </a:lnTo>
                    <a:lnTo>
                      <a:pt x="1316" y="339"/>
                    </a:lnTo>
                    <a:lnTo>
                      <a:pt x="1352" y="361"/>
                    </a:lnTo>
                    <a:lnTo>
                      <a:pt x="1390" y="383"/>
                    </a:lnTo>
                    <a:lnTo>
                      <a:pt x="1426" y="404"/>
                    </a:lnTo>
                    <a:lnTo>
                      <a:pt x="1463" y="428"/>
                    </a:lnTo>
                    <a:lnTo>
                      <a:pt x="1498" y="452"/>
                    </a:lnTo>
                    <a:lnTo>
                      <a:pt x="1534" y="477"/>
                    </a:lnTo>
                    <a:lnTo>
                      <a:pt x="1534" y="553"/>
                    </a:lnTo>
                    <a:lnTo>
                      <a:pt x="1534" y="628"/>
                    </a:lnTo>
                    <a:lnTo>
                      <a:pt x="1534" y="705"/>
                    </a:lnTo>
                    <a:lnTo>
                      <a:pt x="1534" y="781"/>
                    </a:lnTo>
                    <a:lnTo>
                      <a:pt x="1533" y="815"/>
                    </a:lnTo>
                    <a:lnTo>
                      <a:pt x="1533" y="844"/>
                    </a:lnTo>
                    <a:lnTo>
                      <a:pt x="1531" y="868"/>
                    </a:lnTo>
                    <a:lnTo>
                      <a:pt x="1531" y="894"/>
                    </a:lnTo>
                    <a:lnTo>
                      <a:pt x="1505" y="909"/>
                    </a:lnTo>
                    <a:lnTo>
                      <a:pt x="1492" y="909"/>
                    </a:lnTo>
                    <a:lnTo>
                      <a:pt x="1479" y="909"/>
                    </a:lnTo>
                    <a:lnTo>
                      <a:pt x="1466" y="907"/>
                    </a:lnTo>
                    <a:lnTo>
                      <a:pt x="1455" y="907"/>
                    </a:lnTo>
                    <a:lnTo>
                      <a:pt x="1442" y="907"/>
                    </a:lnTo>
                    <a:lnTo>
                      <a:pt x="1429" y="907"/>
                    </a:lnTo>
                    <a:lnTo>
                      <a:pt x="1416" y="906"/>
                    </a:lnTo>
                    <a:lnTo>
                      <a:pt x="1401" y="904"/>
                    </a:lnTo>
                    <a:lnTo>
                      <a:pt x="1394" y="90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7170840" y="2287440"/>
                <a:ext cx="901440" cy="795600"/>
              </a:xfrm>
              <a:custGeom>
                <a:avLst/>
                <a:gdLst/>
                <a:ahLst/>
                <a:rect l="l" t="t" r="r" b="b"/>
                <a:pathLst>
                  <a:path w="1705" h="1504">
                    <a:moveTo>
                      <a:pt x="356" y="1504"/>
                    </a:moveTo>
                    <a:lnTo>
                      <a:pt x="334" y="1502"/>
                    </a:lnTo>
                    <a:lnTo>
                      <a:pt x="313" y="1502"/>
                    </a:lnTo>
                    <a:lnTo>
                      <a:pt x="290" y="1502"/>
                    </a:lnTo>
                    <a:lnTo>
                      <a:pt x="268" y="1502"/>
                    </a:lnTo>
                    <a:lnTo>
                      <a:pt x="246" y="1502"/>
                    </a:lnTo>
                    <a:lnTo>
                      <a:pt x="223" y="1502"/>
                    </a:lnTo>
                    <a:lnTo>
                      <a:pt x="201" y="1502"/>
                    </a:lnTo>
                    <a:lnTo>
                      <a:pt x="178" y="1502"/>
                    </a:lnTo>
                    <a:lnTo>
                      <a:pt x="157" y="1502"/>
                    </a:lnTo>
                    <a:lnTo>
                      <a:pt x="135" y="1502"/>
                    </a:lnTo>
                    <a:lnTo>
                      <a:pt x="112" y="1502"/>
                    </a:lnTo>
                    <a:lnTo>
                      <a:pt x="90" y="1502"/>
                    </a:lnTo>
                    <a:lnTo>
                      <a:pt x="67" y="1502"/>
                    </a:lnTo>
                    <a:lnTo>
                      <a:pt x="45" y="1502"/>
                    </a:lnTo>
                    <a:lnTo>
                      <a:pt x="22" y="1502"/>
                    </a:lnTo>
                    <a:lnTo>
                      <a:pt x="0" y="1501"/>
                    </a:lnTo>
                    <a:lnTo>
                      <a:pt x="25" y="1488"/>
                    </a:lnTo>
                    <a:lnTo>
                      <a:pt x="51" y="1475"/>
                    </a:lnTo>
                    <a:lnTo>
                      <a:pt x="76" y="1460"/>
                    </a:lnTo>
                    <a:lnTo>
                      <a:pt x="100" y="1446"/>
                    </a:lnTo>
                    <a:lnTo>
                      <a:pt x="123" y="1431"/>
                    </a:lnTo>
                    <a:lnTo>
                      <a:pt x="148" y="1417"/>
                    </a:lnTo>
                    <a:lnTo>
                      <a:pt x="171" y="1401"/>
                    </a:lnTo>
                    <a:lnTo>
                      <a:pt x="194" y="1385"/>
                    </a:lnTo>
                    <a:lnTo>
                      <a:pt x="217" y="1368"/>
                    </a:lnTo>
                    <a:lnTo>
                      <a:pt x="240" y="1350"/>
                    </a:lnTo>
                    <a:lnTo>
                      <a:pt x="262" y="1333"/>
                    </a:lnTo>
                    <a:lnTo>
                      <a:pt x="285" y="1314"/>
                    </a:lnTo>
                    <a:lnTo>
                      <a:pt x="307" y="1294"/>
                    </a:lnTo>
                    <a:lnTo>
                      <a:pt x="327" y="1274"/>
                    </a:lnTo>
                    <a:lnTo>
                      <a:pt x="349" y="1254"/>
                    </a:lnTo>
                    <a:lnTo>
                      <a:pt x="369" y="1232"/>
                    </a:lnTo>
                    <a:lnTo>
                      <a:pt x="379" y="1225"/>
                    </a:lnTo>
                    <a:lnTo>
                      <a:pt x="391" y="1218"/>
                    </a:lnTo>
                    <a:lnTo>
                      <a:pt x="401" y="1209"/>
                    </a:lnTo>
                    <a:lnTo>
                      <a:pt x="413" y="1199"/>
                    </a:lnTo>
                    <a:lnTo>
                      <a:pt x="423" y="1187"/>
                    </a:lnTo>
                    <a:lnTo>
                      <a:pt x="433" y="1177"/>
                    </a:lnTo>
                    <a:lnTo>
                      <a:pt x="444" y="1166"/>
                    </a:lnTo>
                    <a:lnTo>
                      <a:pt x="454" y="1154"/>
                    </a:lnTo>
                    <a:lnTo>
                      <a:pt x="469" y="1134"/>
                    </a:lnTo>
                    <a:lnTo>
                      <a:pt x="480" y="1114"/>
                    </a:lnTo>
                    <a:lnTo>
                      <a:pt x="492" y="1092"/>
                    </a:lnTo>
                    <a:lnTo>
                      <a:pt x="502" y="1067"/>
                    </a:lnTo>
                    <a:lnTo>
                      <a:pt x="512" y="1044"/>
                    </a:lnTo>
                    <a:lnTo>
                      <a:pt x="522" y="1020"/>
                    </a:lnTo>
                    <a:lnTo>
                      <a:pt x="534" y="995"/>
                    </a:lnTo>
                    <a:lnTo>
                      <a:pt x="546" y="969"/>
                    </a:lnTo>
                    <a:lnTo>
                      <a:pt x="564" y="892"/>
                    </a:lnTo>
                    <a:lnTo>
                      <a:pt x="589" y="819"/>
                    </a:lnTo>
                    <a:lnTo>
                      <a:pt x="618" y="749"/>
                    </a:lnTo>
                    <a:lnTo>
                      <a:pt x="651" y="684"/>
                    </a:lnTo>
                    <a:lnTo>
                      <a:pt x="687" y="621"/>
                    </a:lnTo>
                    <a:lnTo>
                      <a:pt x="728" y="562"/>
                    </a:lnTo>
                    <a:lnTo>
                      <a:pt x="771" y="502"/>
                    </a:lnTo>
                    <a:lnTo>
                      <a:pt x="819" y="447"/>
                    </a:lnTo>
                    <a:lnTo>
                      <a:pt x="868" y="393"/>
                    </a:lnTo>
                    <a:lnTo>
                      <a:pt x="919" y="339"/>
                    </a:lnTo>
                    <a:lnTo>
                      <a:pt x="972" y="287"/>
                    </a:lnTo>
                    <a:lnTo>
                      <a:pt x="1027" y="235"/>
                    </a:lnTo>
                    <a:lnTo>
                      <a:pt x="1083" y="184"/>
                    </a:lnTo>
                    <a:lnTo>
                      <a:pt x="1140" y="132"/>
                    </a:lnTo>
                    <a:lnTo>
                      <a:pt x="1198" y="80"/>
                    </a:lnTo>
                    <a:lnTo>
                      <a:pt x="1256" y="27"/>
                    </a:lnTo>
                    <a:lnTo>
                      <a:pt x="1261" y="24"/>
                    </a:lnTo>
                    <a:lnTo>
                      <a:pt x="1269" y="21"/>
                    </a:lnTo>
                    <a:lnTo>
                      <a:pt x="1274" y="18"/>
                    </a:lnTo>
                    <a:lnTo>
                      <a:pt x="1282" y="15"/>
                    </a:lnTo>
                    <a:lnTo>
                      <a:pt x="1287" y="11"/>
                    </a:lnTo>
                    <a:lnTo>
                      <a:pt x="1295" y="8"/>
                    </a:lnTo>
                    <a:lnTo>
                      <a:pt x="1302" y="4"/>
                    </a:lnTo>
                    <a:lnTo>
                      <a:pt x="1309" y="0"/>
                    </a:lnTo>
                    <a:lnTo>
                      <a:pt x="1316" y="2"/>
                    </a:lnTo>
                    <a:lnTo>
                      <a:pt x="1322" y="4"/>
                    </a:lnTo>
                    <a:lnTo>
                      <a:pt x="1328" y="4"/>
                    </a:lnTo>
                    <a:lnTo>
                      <a:pt x="1335" y="5"/>
                    </a:lnTo>
                    <a:lnTo>
                      <a:pt x="1341" y="7"/>
                    </a:lnTo>
                    <a:lnTo>
                      <a:pt x="1348" y="8"/>
                    </a:lnTo>
                    <a:lnTo>
                      <a:pt x="1355" y="10"/>
                    </a:lnTo>
                    <a:lnTo>
                      <a:pt x="1363" y="14"/>
                    </a:lnTo>
                    <a:lnTo>
                      <a:pt x="1367" y="20"/>
                    </a:lnTo>
                    <a:lnTo>
                      <a:pt x="1368" y="30"/>
                    </a:lnTo>
                    <a:lnTo>
                      <a:pt x="1368" y="41"/>
                    </a:lnTo>
                    <a:lnTo>
                      <a:pt x="1370" y="54"/>
                    </a:lnTo>
                    <a:lnTo>
                      <a:pt x="1342" y="33"/>
                    </a:lnTo>
                    <a:lnTo>
                      <a:pt x="1328" y="44"/>
                    </a:lnTo>
                    <a:lnTo>
                      <a:pt x="1334" y="50"/>
                    </a:lnTo>
                    <a:lnTo>
                      <a:pt x="1338" y="56"/>
                    </a:lnTo>
                    <a:lnTo>
                      <a:pt x="1344" y="65"/>
                    </a:lnTo>
                    <a:lnTo>
                      <a:pt x="1351" y="72"/>
                    </a:lnTo>
                    <a:lnTo>
                      <a:pt x="1355" y="85"/>
                    </a:lnTo>
                    <a:lnTo>
                      <a:pt x="1344" y="86"/>
                    </a:lnTo>
                    <a:lnTo>
                      <a:pt x="1331" y="67"/>
                    </a:lnTo>
                    <a:lnTo>
                      <a:pt x="1322" y="65"/>
                    </a:lnTo>
                    <a:lnTo>
                      <a:pt x="1315" y="63"/>
                    </a:lnTo>
                    <a:lnTo>
                      <a:pt x="1306" y="66"/>
                    </a:lnTo>
                    <a:lnTo>
                      <a:pt x="1299" y="73"/>
                    </a:lnTo>
                    <a:lnTo>
                      <a:pt x="1302" y="82"/>
                    </a:lnTo>
                    <a:lnTo>
                      <a:pt x="1308" y="86"/>
                    </a:lnTo>
                    <a:lnTo>
                      <a:pt x="1316" y="91"/>
                    </a:lnTo>
                    <a:lnTo>
                      <a:pt x="1325" y="98"/>
                    </a:lnTo>
                    <a:lnTo>
                      <a:pt x="1328" y="115"/>
                    </a:lnTo>
                    <a:lnTo>
                      <a:pt x="1321" y="119"/>
                    </a:lnTo>
                    <a:lnTo>
                      <a:pt x="1311" y="111"/>
                    </a:lnTo>
                    <a:lnTo>
                      <a:pt x="1302" y="102"/>
                    </a:lnTo>
                    <a:lnTo>
                      <a:pt x="1293" y="95"/>
                    </a:lnTo>
                    <a:lnTo>
                      <a:pt x="1283" y="85"/>
                    </a:lnTo>
                    <a:lnTo>
                      <a:pt x="1264" y="102"/>
                    </a:lnTo>
                    <a:lnTo>
                      <a:pt x="1273" y="111"/>
                    </a:lnTo>
                    <a:lnTo>
                      <a:pt x="1279" y="117"/>
                    </a:lnTo>
                    <a:lnTo>
                      <a:pt x="1284" y="124"/>
                    </a:lnTo>
                    <a:lnTo>
                      <a:pt x="1293" y="131"/>
                    </a:lnTo>
                    <a:lnTo>
                      <a:pt x="1292" y="143"/>
                    </a:lnTo>
                    <a:lnTo>
                      <a:pt x="1282" y="141"/>
                    </a:lnTo>
                    <a:lnTo>
                      <a:pt x="1274" y="135"/>
                    </a:lnTo>
                    <a:lnTo>
                      <a:pt x="1269" y="128"/>
                    </a:lnTo>
                    <a:lnTo>
                      <a:pt x="1263" y="121"/>
                    </a:lnTo>
                    <a:lnTo>
                      <a:pt x="1241" y="121"/>
                    </a:lnTo>
                    <a:lnTo>
                      <a:pt x="1238" y="131"/>
                    </a:lnTo>
                    <a:lnTo>
                      <a:pt x="1244" y="138"/>
                    </a:lnTo>
                    <a:lnTo>
                      <a:pt x="1250" y="147"/>
                    </a:lnTo>
                    <a:lnTo>
                      <a:pt x="1258" y="157"/>
                    </a:lnTo>
                    <a:lnTo>
                      <a:pt x="1267" y="169"/>
                    </a:lnTo>
                    <a:lnTo>
                      <a:pt x="1256" y="170"/>
                    </a:lnTo>
                    <a:lnTo>
                      <a:pt x="1248" y="163"/>
                    </a:lnTo>
                    <a:lnTo>
                      <a:pt x="1240" y="154"/>
                    </a:lnTo>
                    <a:lnTo>
                      <a:pt x="1230" y="150"/>
                    </a:lnTo>
                    <a:lnTo>
                      <a:pt x="1214" y="161"/>
                    </a:lnTo>
                    <a:lnTo>
                      <a:pt x="1219" y="171"/>
                    </a:lnTo>
                    <a:lnTo>
                      <a:pt x="1227" y="180"/>
                    </a:lnTo>
                    <a:lnTo>
                      <a:pt x="1234" y="190"/>
                    </a:lnTo>
                    <a:lnTo>
                      <a:pt x="1241" y="203"/>
                    </a:lnTo>
                    <a:lnTo>
                      <a:pt x="1231" y="208"/>
                    </a:lnTo>
                    <a:lnTo>
                      <a:pt x="1224" y="200"/>
                    </a:lnTo>
                    <a:lnTo>
                      <a:pt x="1218" y="196"/>
                    </a:lnTo>
                    <a:lnTo>
                      <a:pt x="1211" y="190"/>
                    </a:lnTo>
                    <a:lnTo>
                      <a:pt x="1199" y="186"/>
                    </a:lnTo>
                    <a:lnTo>
                      <a:pt x="1179" y="197"/>
                    </a:lnTo>
                    <a:lnTo>
                      <a:pt x="1182" y="208"/>
                    </a:lnTo>
                    <a:lnTo>
                      <a:pt x="1189" y="210"/>
                    </a:lnTo>
                    <a:lnTo>
                      <a:pt x="1196" y="218"/>
                    </a:lnTo>
                    <a:lnTo>
                      <a:pt x="1205" y="226"/>
                    </a:lnTo>
                    <a:lnTo>
                      <a:pt x="1215" y="229"/>
                    </a:lnTo>
                    <a:lnTo>
                      <a:pt x="1206" y="244"/>
                    </a:lnTo>
                    <a:lnTo>
                      <a:pt x="1196" y="241"/>
                    </a:lnTo>
                    <a:lnTo>
                      <a:pt x="1189" y="234"/>
                    </a:lnTo>
                    <a:lnTo>
                      <a:pt x="1180" y="226"/>
                    </a:lnTo>
                    <a:lnTo>
                      <a:pt x="1167" y="222"/>
                    </a:lnTo>
                    <a:lnTo>
                      <a:pt x="1147" y="236"/>
                    </a:lnTo>
                    <a:lnTo>
                      <a:pt x="1156" y="242"/>
                    </a:lnTo>
                    <a:lnTo>
                      <a:pt x="1163" y="250"/>
                    </a:lnTo>
                    <a:lnTo>
                      <a:pt x="1170" y="258"/>
                    </a:lnTo>
                    <a:lnTo>
                      <a:pt x="1180" y="264"/>
                    </a:lnTo>
                    <a:lnTo>
                      <a:pt x="1176" y="273"/>
                    </a:lnTo>
                    <a:lnTo>
                      <a:pt x="1166" y="273"/>
                    </a:lnTo>
                    <a:lnTo>
                      <a:pt x="1162" y="265"/>
                    </a:lnTo>
                    <a:lnTo>
                      <a:pt x="1154" y="260"/>
                    </a:lnTo>
                    <a:lnTo>
                      <a:pt x="1146" y="254"/>
                    </a:lnTo>
                    <a:lnTo>
                      <a:pt x="1137" y="247"/>
                    </a:lnTo>
                    <a:lnTo>
                      <a:pt x="1120" y="263"/>
                    </a:lnTo>
                    <a:lnTo>
                      <a:pt x="1125" y="270"/>
                    </a:lnTo>
                    <a:lnTo>
                      <a:pt x="1133" y="278"/>
                    </a:lnTo>
                    <a:lnTo>
                      <a:pt x="1141" y="287"/>
                    </a:lnTo>
                    <a:lnTo>
                      <a:pt x="1149" y="299"/>
                    </a:lnTo>
                    <a:lnTo>
                      <a:pt x="1140" y="299"/>
                    </a:lnTo>
                    <a:lnTo>
                      <a:pt x="1136" y="291"/>
                    </a:lnTo>
                    <a:lnTo>
                      <a:pt x="1127" y="286"/>
                    </a:lnTo>
                    <a:lnTo>
                      <a:pt x="1118" y="278"/>
                    </a:lnTo>
                    <a:lnTo>
                      <a:pt x="1110" y="268"/>
                    </a:lnTo>
                    <a:lnTo>
                      <a:pt x="1099" y="268"/>
                    </a:lnTo>
                    <a:lnTo>
                      <a:pt x="1095" y="289"/>
                    </a:lnTo>
                    <a:lnTo>
                      <a:pt x="1101" y="297"/>
                    </a:lnTo>
                    <a:lnTo>
                      <a:pt x="1107" y="304"/>
                    </a:lnTo>
                    <a:lnTo>
                      <a:pt x="1112" y="312"/>
                    </a:lnTo>
                    <a:lnTo>
                      <a:pt x="1118" y="322"/>
                    </a:lnTo>
                    <a:lnTo>
                      <a:pt x="1114" y="329"/>
                    </a:lnTo>
                    <a:lnTo>
                      <a:pt x="1105" y="323"/>
                    </a:lnTo>
                    <a:lnTo>
                      <a:pt x="1099" y="313"/>
                    </a:lnTo>
                    <a:lnTo>
                      <a:pt x="1091" y="303"/>
                    </a:lnTo>
                    <a:lnTo>
                      <a:pt x="1081" y="297"/>
                    </a:lnTo>
                    <a:lnTo>
                      <a:pt x="1062" y="309"/>
                    </a:lnTo>
                    <a:lnTo>
                      <a:pt x="1068" y="320"/>
                    </a:lnTo>
                    <a:lnTo>
                      <a:pt x="1073" y="329"/>
                    </a:lnTo>
                    <a:lnTo>
                      <a:pt x="1081" y="338"/>
                    </a:lnTo>
                    <a:lnTo>
                      <a:pt x="1088" y="349"/>
                    </a:lnTo>
                    <a:lnTo>
                      <a:pt x="1079" y="349"/>
                    </a:lnTo>
                    <a:lnTo>
                      <a:pt x="1070" y="345"/>
                    </a:lnTo>
                    <a:lnTo>
                      <a:pt x="1063" y="338"/>
                    </a:lnTo>
                    <a:lnTo>
                      <a:pt x="1053" y="332"/>
                    </a:lnTo>
                    <a:lnTo>
                      <a:pt x="1033" y="338"/>
                    </a:lnTo>
                    <a:lnTo>
                      <a:pt x="1036" y="348"/>
                    </a:lnTo>
                    <a:lnTo>
                      <a:pt x="1044" y="355"/>
                    </a:lnTo>
                    <a:lnTo>
                      <a:pt x="1052" y="364"/>
                    </a:lnTo>
                    <a:lnTo>
                      <a:pt x="1053" y="378"/>
                    </a:lnTo>
                    <a:lnTo>
                      <a:pt x="1043" y="375"/>
                    </a:lnTo>
                    <a:lnTo>
                      <a:pt x="1034" y="368"/>
                    </a:lnTo>
                    <a:lnTo>
                      <a:pt x="1027" y="359"/>
                    </a:lnTo>
                    <a:lnTo>
                      <a:pt x="1016" y="356"/>
                    </a:lnTo>
                    <a:lnTo>
                      <a:pt x="997" y="371"/>
                    </a:lnTo>
                    <a:lnTo>
                      <a:pt x="1001" y="378"/>
                    </a:lnTo>
                    <a:lnTo>
                      <a:pt x="1010" y="384"/>
                    </a:lnTo>
                    <a:lnTo>
                      <a:pt x="1017" y="393"/>
                    </a:lnTo>
                    <a:lnTo>
                      <a:pt x="1017" y="403"/>
                    </a:lnTo>
                    <a:lnTo>
                      <a:pt x="1004" y="410"/>
                    </a:lnTo>
                    <a:lnTo>
                      <a:pt x="976" y="419"/>
                    </a:lnTo>
                    <a:lnTo>
                      <a:pt x="976" y="430"/>
                    </a:lnTo>
                    <a:lnTo>
                      <a:pt x="987" y="442"/>
                    </a:lnTo>
                    <a:lnTo>
                      <a:pt x="998" y="442"/>
                    </a:lnTo>
                    <a:lnTo>
                      <a:pt x="1010" y="437"/>
                    </a:lnTo>
                    <a:lnTo>
                      <a:pt x="1021" y="433"/>
                    </a:lnTo>
                    <a:lnTo>
                      <a:pt x="1031" y="427"/>
                    </a:lnTo>
                    <a:lnTo>
                      <a:pt x="1040" y="420"/>
                    </a:lnTo>
                    <a:lnTo>
                      <a:pt x="1049" y="413"/>
                    </a:lnTo>
                    <a:lnTo>
                      <a:pt x="1059" y="407"/>
                    </a:lnTo>
                    <a:lnTo>
                      <a:pt x="1070" y="400"/>
                    </a:lnTo>
                    <a:lnTo>
                      <a:pt x="1082" y="394"/>
                    </a:lnTo>
                    <a:lnTo>
                      <a:pt x="1107" y="377"/>
                    </a:lnTo>
                    <a:lnTo>
                      <a:pt x="1130" y="356"/>
                    </a:lnTo>
                    <a:lnTo>
                      <a:pt x="1151" y="338"/>
                    </a:lnTo>
                    <a:lnTo>
                      <a:pt x="1173" y="316"/>
                    </a:lnTo>
                    <a:lnTo>
                      <a:pt x="1195" y="294"/>
                    </a:lnTo>
                    <a:lnTo>
                      <a:pt x="1215" y="273"/>
                    </a:lnTo>
                    <a:lnTo>
                      <a:pt x="1237" y="250"/>
                    </a:lnTo>
                    <a:lnTo>
                      <a:pt x="1257" y="226"/>
                    </a:lnTo>
                    <a:lnTo>
                      <a:pt x="1277" y="203"/>
                    </a:lnTo>
                    <a:lnTo>
                      <a:pt x="1299" y="180"/>
                    </a:lnTo>
                    <a:lnTo>
                      <a:pt x="1319" y="157"/>
                    </a:lnTo>
                    <a:lnTo>
                      <a:pt x="1341" y="135"/>
                    </a:lnTo>
                    <a:lnTo>
                      <a:pt x="1363" y="112"/>
                    </a:lnTo>
                    <a:lnTo>
                      <a:pt x="1384" y="91"/>
                    </a:lnTo>
                    <a:lnTo>
                      <a:pt x="1407" y="69"/>
                    </a:lnTo>
                    <a:lnTo>
                      <a:pt x="1432" y="49"/>
                    </a:lnTo>
                    <a:lnTo>
                      <a:pt x="1452" y="47"/>
                    </a:lnTo>
                    <a:lnTo>
                      <a:pt x="1474" y="54"/>
                    </a:lnTo>
                    <a:lnTo>
                      <a:pt x="1480" y="56"/>
                    </a:lnTo>
                    <a:lnTo>
                      <a:pt x="1487" y="62"/>
                    </a:lnTo>
                    <a:lnTo>
                      <a:pt x="1494" y="69"/>
                    </a:lnTo>
                    <a:lnTo>
                      <a:pt x="1501" y="78"/>
                    </a:lnTo>
                    <a:lnTo>
                      <a:pt x="1503" y="85"/>
                    </a:lnTo>
                    <a:lnTo>
                      <a:pt x="1506" y="92"/>
                    </a:lnTo>
                    <a:lnTo>
                      <a:pt x="1509" y="99"/>
                    </a:lnTo>
                    <a:lnTo>
                      <a:pt x="1510" y="109"/>
                    </a:lnTo>
                    <a:lnTo>
                      <a:pt x="1504" y="109"/>
                    </a:lnTo>
                    <a:lnTo>
                      <a:pt x="1497" y="109"/>
                    </a:lnTo>
                    <a:lnTo>
                      <a:pt x="1490" y="112"/>
                    </a:lnTo>
                    <a:lnTo>
                      <a:pt x="1480" y="115"/>
                    </a:lnTo>
                    <a:lnTo>
                      <a:pt x="1480" y="122"/>
                    </a:lnTo>
                    <a:lnTo>
                      <a:pt x="1485" y="125"/>
                    </a:lnTo>
                    <a:lnTo>
                      <a:pt x="1493" y="130"/>
                    </a:lnTo>
                    <a:lnTo>
                      <a:pt x="1496" y="138"/>
                    </a:lnTo>
                    <a:lnTo>
                      <a:pt x="1490" y="137"/>
                    </a:lnTo>
                    <a:lnTo>
                      <a:pt x="1483" y="130"/>
                    </a:lnTo>
                    <a:lnTo>
                      <a:pt x="1474" y="124"/>
                    </a:lnTo>
                    <a:lnTo>
                      <a:pt x="1461" y="121"/>
                    </a:lnTo>
                    <a:lnTo>
                      <a:pt x="1449" y="140"/>
                    </a:lnTo>
                    <a:lnTo>
                      <a:pt x="1454" y="148"/>
                    </a:lnTo>
                    <a:lnTo>
                      <a:pt x="1461" y="154"/>
                    </a:lnTo>
                    <a:lnTo>
                      <a:pt x="1468" y="160"/>
                    </a:lnTo>
                    <a:lnTo>
                      <a:pt x="1477" y="171"/>
                    </a:lnTo>
                    <a:lnTo>
                      <a:pt x="1477" y="180"/>
                    </a:lnTo>
                    <a:lnTo>
                      <a:pt x="1471" y="180"/>
                    </a:lnTo>
                    <a:lnTo>
                      <a:pt x="1465" y="179"/>
                    </a:lnTo>
                    <a:lnTo>
                      <a:pt x="1461" y="176"/>
                    </a:lnTo>
                    <a:lnTo>
                      <a:pt x="1457" y="173"/>
                    </a:lnTo>
                    <a:lnTo>
                      <a:pt x="1452" y="169"/>
                    </a:lnTo>
                    <a:lnTo>
                      <a:pt x="1446" y="166"/>
                    </a:lnTo>
                    <a:lnTo>
                      <a:pt x="1441" y="164"/>
                    </a:lnTo>
                    <a:lnTo>
                      <a:pt x="1433" y="163"/>
                    </a:lnTo>
                    <a:lnTo>
                      <a:pt x="1425" y="171"/>
                    </a:lnTo>
                    <a:lnTo>
                      <a:pt x="1426" y="182"/>
                    </a:lnTo>
                    <a:lnTo>
                      <a:pt x="1435" y="189"/>
                    </a:lnTo>
                    <a:lnTo>
                      <a:pt x="1445" y="197"/>
                    </a:lnTo>
                    <a:lnTo>
                      <a:pt x="1449" y="210"/>
                    </a:lnTo>
                    <a:lnTo>
                      <a:pt x="1444" y="210"/>
                    </a:lnTo>
                    <a:lnTo>
                      <a:pt x="1439" y="210"/>
                    </a:lnTo>
                    <a:lnTo>
                      <a:pt x="1433" y="209"/>
                    </a:lnTo>
                    <a:lnTo>
                      <a:pt x="1428" y="206"/>
                    </a:lnTo>
                    <a:lnTo>
                      <a:pt x="1422" y="205"/>
                    </a:lnTo>
                    <a:lnTo>
                      <a:pt x="1416" y="205"/>
                    </a:lnTo>
                    <a:lnTo>
                      <a:pt x="1412" y="205"/>
                    </a:lnTo>
                    <a:lnTo>
                      <a:pt x="1406" y="208"/>
                    </a:lnTo>
                    <a:lnTo>
                      <a:pt x="1403" y="219"/>
                    </a:lnTo>
                    <a:lnTo>
                      <a:pt x="1405" y="226"/>
                    </a:lnTo>
                    <a:lnTo>
                      <a:pt x="1410" y="231"/>
                    </a:lnTo>
                    <a:lnTo>
                      <a:pt x="1418" y="235"/>
                    </a:lnTo>
                    <a:lnTo>
                      <a:pt x="1425" y="244"/>
                    </a:lnTo>
                    <a:lnTo>
                      <a:pt x="1407" y="244"/>
                    </a:lnTo>
                    <a:lnTo>
                      <a:pt x="1397" y="244"/>
                    </a:lnTo>
                    <a:lnTo>
                      <a:pt x="1390" y="247"/>
                    </a:lnTo>
                    <a:lnTo>
                      <a:pt x="1384" y="252"/>
                    </a:lnTo>
                    <a:lnTo>
                      <a:pt x="1380" y="260"/>
                    </a:lnTo>
                    <a:lnTo>
                      <a:pt x="1384" y="264"/>
                    </a:lnTo>
                    <a:lnTo>
                      <a:pt x="1392" y="267"/>
                    </a:lnTo>
                    <a:lnTo>
                      <a:pt x="1399" y="271"/>
                    </a:lnTo>
                    <a:lnTo>
                      <a:pt x="1399" y="280"/>
                    </a:lnTo>
                    <a:lnTo>
                      <a:pt x="1394" y="277"/>
                    </a:lnTo>
                    <a:lnTo>
                      <a:pt x="1387" y="277"/>
                    </a:lnTo>
                    <a:lnTo>
                      <a:pt x="1377" y="277"/>
                    </a:lnTo>
                    <a:lnTo>
                      <a:pt x="1365" y="280"/>
                    </a:lnTo>
                    <a:lnTo>
                      <a:pt x="1363" y="300"/>
                    </a:lnTo>
                    <a:lnTo>
                      <a:pt x="1380" y="309"/>
                    </a:lnTo>
                    <a:lnTo>
                      <a:pt x="1371" y="320"/>
                    </a:lnTo>
                    <a:lnTo>
                      <a:pt x="1361" y="317"/>
                    </a:lnTo>
                    <a:lnTo>
                      <a:pt x="1354" y="312"/>
                    </a:lnTo>
                    <a:lnTo>
                      <a:pt x="1344" y="304"/>
                    </a:lnTo>
                    <a:lnTo>
                      <a:pt x="1331" y="303"/>
                    </a:lnTo>
                    <a:lnTo>
                      <a:pt x="1321" y="315"/>
                    </a:lnTo>
                    <a:lnTo>
                      <a:pt x="1328" y="320"/>
                    </a:lnTo>
                    <a:lnTo>
                      <a:pt x="1334" y="328"/>
                    </a:lnTo>
                    <a:lnTo>
                      <a:pt x="1341" y="335"/>
                    </a:lnTo>
                    <a:lnTo>
                      <a:pt x="1351" y="342"/>
                    </a:lnTo>
                    <a:lnTo>
                      <a:pt x="1348" y="352"/>
                    </a:lnTo>
                    <a:lnTo>
                      <a:pt x="1339" y="351"/>
                    </a:lnTo>
                    <a:lnTo>
                      <a:pt x="1331" y="345"/>
                    </a:lnTo>
                    <a:lnTo>
                      <a:pt x="1321" y="339"/>
                    </a:lnTo>
                    <a:lnTo>
                      <a:pt x="1306" y="341"/>
                    </a:lnTo>
                    <a:lnTo>
                      <a:pt x="1296" y="346"/>
                    </a:lnTo>
                    <a:lnTo>
                      <a:pt x="1299" y="356"/>
                    </a:lnTo>
                    <a:lnTo>
                      <a:pt x="1308" y="362"/>
                    </a:lnTo>
                    <a:lnTo>
                      <a:pt x="1316" y="368"/>
                    </a:lnTo>
                    <a:lnTo>
                      <a:pt x="1322" y="381"/>
                    </a:lnTo>
                    <a:lnTo>
                      <a:pt x="1315" y="391"/>
                    </a:lnTo>
                    <a:lnTo>
                      <a:pt x="1309" y="391"/>
                    </a:lnTo>
                    <a:lnTo>
                      <a:pt x="1303" y="390"/>
                    </a:lnTo>
                    <a:lnTo>
                      <a:pt x="1299" y="385"/>
                    </a:lnTo>
                    <a:lnTo>
                      <a:pt x="1295" y="381"/>
                    </a:lnTo>
                    <a:lnTo>
                      <a:pt x="1290" y="378"/>
                    </a:lnTo>
                    <a:lnTo>
                      <a:pt x="1284" y="374"/>
                    </a:lnTo>
                    <a:lnTo>
                      <a:pt x="1279" y="371"/>
                    </a:lnTo>
                    <a:lnTo>
                      <a:pt x="1271" y="371"/>
                    </a:lnTo>
                    <a:lnTo>
                      <a:pt x="1256" y="384"/>
                    </a:lnTo>
                    <a:lnTo>
                      <a:pt x="1263" y="393"/>
                    </a:lnTo>
                    <a:lnTo>
                      <a:pt x="1270" y="400"/>
                    </a:lnTo>
                    <a:lnTo>
                      <a:pt x="1277" y="407"/>
                    </a:lnTo>
                    <a:lnTo>
                      <a:pt x="1283" y="417"/>
                    </a:lnTo>
                    <a:lnTo>
                      <a:pt x="1273" y="427"/>
                    </a:lnTo>
                    <a:lnTo>
                      <a:pt x="1263" y="424"/>
                    </a:lnTo>
                    <a:lnTo>
                      <a:pt x="1254" y="417"/>
                    </a:lnTo>
                    <a:lnTo>
                      <a:pt x="1244" y="411"/>
                    </a:lnTo>
                    <a:lnTo>
                      <a:pt x="1231" y="407"/>
                    </a:lnTo>
                    <a:lnTo>
                      <a:pt x="1219" y="414"/>
                    </a:lnTo>
                    <a:lnTo>
                      <a:pt x="1219" y="424"/>
                    </a:lnTo>
                    <a:lnTo>
                      <a:pt x="1224" y="432"/>
                    </a:lnTo>
                    <a:lnTo>
                      <a:pt x="1230" y="437"/>
                    </a:lnTo>
                    <a:lnTo>
                      <a:pt x="1237" y="442"/>
                    </a:lnTo>
                    <a:lnTo>
                      <a:pt x="1248" y="446"/>
                    </a:lnTo>
                    <a:lnTo>
                      <a:pt x="1232" y="463"/>
                    </a:lnTo>
                    <a:lnTo>
                      <a:pt x="1227" y="459"/>
                    </a:lnTo>
                    <a:lnTo>
                      <a:pt x="1219" y="453"/>
                    </a:lnTo>
                    <a:lnTo>
                      <a:pt x="1211" y="447"/>
                    </a:lnTo>
                    <a:lnTo>
                      <a:pt x="1202" y="439"/>
                    </a:lnTo>
                    <a:lnTo>
                      <a:pt x="1183" y="456"/>
                    </a:lnTo>
                    <a:lnTo>
                      <a:pt x="1186" y="463"/>
                    </a:lnTo>
                    <a:lnTo>
                      <a:pt x="1193" y="468"/>
                    </a:lnTo>
                    <a:lnTo>
                      <a:pt x="1202" y="473"/>
                    </a:lnTo>
                    <a:lnTo>
                      <a:pt x="1209" y="482"/>
                    </a:lnTo>
                    <a:lnTo>
                      <a:pt x="1204" y="489"/>
                    </a:lnTo>
                    <a:lnTo>
                      <a:pt x="1196" y="486"/>
                    </a:lnTo>
                    <a:lnTo>
                      <a:pt x="1191" y="481"/>
                    </a:lnTo>
                    <a:lnTo>
                      <a:pt x="1183" y="476"/>
                    </a:lnTo>
                    <a:lnTo>
                      <a:pt x="1172" y="476"/>
                    </a:lnTo>
                    <a:lnTo>
                      <a:pt x="1166" y="489"/>
                    </a:lnTo>
                    <a:lnTo>
                      <a:pt x="1167" y="497"/>
                    </a:lnTo>
                    <a:lnTo>
                      <a:pt x="1173" y="504"/>
                    </a:lnTo>
                    <a:lnTo>
                      <a:pt x="1177" y="510"/>
                    </a:lnTo>
                    <a:lnTo>
                      <a:pt x="1183" y="518"/>
                    </a:lnTo>
                    <a:lnTo>
                      <a:pt x="1179" y="524"/>
                    </a:lnTo>
                    <a:lnTo>
                      <a:pt x="1175" y="534"/>
                    </a:lnTo>
                    <a:lnTo>
                      <a:pt x="1175" y="544"/>
                    </a:lnTo>
                    <a:lnTo>
                      <a:pt x="1179" y="551"/>
                    </a:lnTo>
                    <a:lnTo>
                      <a:pt x="1191" y="551"/>
                    </a:lnTo>
                    <a:lnTo>
                      <a:pt x="1215" y="528"/>
                    </a:lnTo>
                    <a:lnTo>
                      <a:pt x="1240" y="504"/>
                    </a:lnTo>
                    <a:lnTo>
                      <a:pt x="1263" y="479"/>
                    </a:lnTo>
                    <a:lnTo>
                      <a:pt x="1286" y="455"/>
                    </a:lnTo>
                    <a:lnTo>
                      <a:pt x="1309" y="430"/>
                    </a:lnTo>
                    <a:lnTo>
                      <a:pt x="1331" y="406"/>
                    </a:lnTo>
                    <a:lnTo>
                      <a:pt x="1352" y="381"/>
                    </a:lnTo>
                    <a:lnTo>
                      <a:pt x="1374" y="355"/>
                    </a:lnTo>
                    <a:lnTo>
                      <a:pt x="1396" y="330"/>
                    </a:lnTo>
                    <a:lnTo>
                      <a:pt x="1416" y="304"/>
                    </a:lnTo>
                    <a:lnTo>
                      <a:pt x="1438" y="278"/>
                    </a:lnTo>
                    <a:lnTo>
                      <a:pt x="1459" y="254"/>
                    </a:lnTo>
                    <a:lnTo>
                      <a:pt x="1480" y="228"/>
                    </a:lnTo>
                    <a:lnTo>
                      <a:pt x="1501" y="202"/>
                    </a:lnTo>
                    <a:lnTo>
                      <a:pt x="1525" y="177"/>
                    </a:lnTo>
                    <a:lnTo>
                      <a:pt x="1546" y="151"/>
                    </a:lnTo>
                    <a:lnTo>
                      <a:pt x="1551" y="148"/>
                    </a:lnTo>
                    <a:lnTo>
                      <a:pt x="1558" y="145"/>
                    </a:lnTo>
                    <a:lnTo>
                      <a:pt x="1564" y="143"/>
                    </a:lnTo>
                    <a:lnTo>
                      <a:pt x="1572" y="140"/>
                    </a:lnTo>
                    <a:lnTo>
                      <a:pt x="1579" y="137"/>
                    </a:lnTo>
                    <a:lnTo>
                      <a:pt x="1588" y="135"/>
                    </a:lnTo>
                    <a:lnTo>
                      <a:pt x="1595" y="134"/>
                    </a:lnTo>
                    <a:lnTo>
                      <a:pt x="1603" y="132"/>
                    </a:lnTo>
                    <a:lnTo>
                      <a:pt x="1621" y="151"/>
                    </a:lnTo>
                    <a:lnTo>
                      <a:pt x="1627" y="173"/>
                    </a:lnTo>
                    <a:lnTo>
                      <a:pt x="1610" y="184"/>
                    </a:lnTo>
                    <a:lnTo>
                      <a:pt x="1613" y="193"/>
                    </a:lnTo>
                    <a:lnTo>
                      <a:pt x="1617" y="202"/>
                    </a:lnTo>
                    <a:lnTo>
                      <a:pt x="1621" y="212"/>
                    </a:lnTo>
                    <a:lnTo>
                      <a:pt x="1620" y="223"/>
                    </a:lnTo>
                    <a:lnTo>
                      <a:pt x="1611" y="222"/>
                    </a:lnTo>
                    <a:lnTo>
                      <a:pt x="1603" y="221"/>
                    </a:lnTo>
                    <a:lnTo>
                      <a:pt x="1595" y="221"/>
                    </a:lnTo>
                    <a:lnTo>
                      <a:pt x="1588" y="226"/>
                    </a:lnTo>
                    <a:lnTo>
                      <a:pt x="1590" y="236"/>
                    </a:lnTo>
                    <a:lnTo>
                      <a:pt x="1594" y="245"/>
                    </a:lnTo>
                    <a:lnTo>
                      <a:pt x="1598" y="255"/>
                    </a:lnTo>
                    <a:lnTo>
                      <a:pt x="1600" y="268"/>
                    </a:lnTo>
                    <a:lnTo>
                      <a:pt x="1594" y="265"/>
                    </a:lnTo>
                    <a:lnTo>
                      <a:pt x="1588" y="258"/>
                    </a:lnTo>
                    <a:lnTo>
                      <a:pt x="1581" y="252"/>
                    </a:lnTo>
                    <a:lnTo>
                      <a:pt x="1571" y="251"/>
                    </a:lnTo>
                    <a:lnTo>
                      <a:pt x="1564" y="261"/>
                    </a:lnTo>
                    <a:lnTo>
                      <a:pt x="1568" y="273"/>
                    </a:lnTo>
                    <a:lnTo>
                      <a:pt x="1575" y="281"/>
                    </a:lnTo>
                    <a:lnTo>
                      <a:pt x="1581" y="291"/>
                    </a:lnTo>
                    <a:lnTo>
                      <a:pt x="1581" y="303"/>
                    </a:lnTo>
                    <a:lnTo>
                      <a:pt x="1571" y="306"/>
                    </a:lnTo>
                    <a:lnTo>
                      <a:pt x="1564" y="300"/>
                    </a:lnTo>
                    <a:lnTo>
                      <a:pt x="1553" y="293"/>
                    </a:lnTo>
                    <a:lnTo>
                      <a:pt x="1540" y="293"/>
                    </a:lnTo>
                    <a:lnTo>
                      <a:pt x="1532" y="304"/>
                    </a:lnTo>
                    <a:lnTo>
                      <a:pt x="1536" y="313"/>
                    </a:lnTo>
                    <a:lnTo>
                      <a:pt x="1542" y="320"/>
                    </a:lnTo>
                    <a:lnTo>
                      <a:pt x="1549" y="328"/>
                    </a:lnTo>
                    <a:lnTo>
                      <a:pt x="1558" y="336"/>
                    </a:lnTo>
                    <a:lnTo>
                      <a:pt x="1548" y="354"/>
                    </a:lnTo>
                    <a:lnTo>
                      <a:pt x="1527" y="338"/>
                    </a:lnTo>
                    <a:lnTo>
                      <a:pt x="1506" y="345"/>
                    </a:lnTo>
                    <a:lnTo>
                      <a:pt x="1509" y="352"/>
                    </a:lnTo>
                    <a:lnTo>
                      <a:pt x="1514" y="359"/>
                    </a:lnTo>
                    <a:lnTo>
                      <a:pt x="1523" y="365"/>
                    </a:lnTo>
                    <a:lnTo>
                      <a:pt x="1532" y="374"/>
                    </a:lnTo>
                    <a:lnTo>
                      <a:pt x="1529" y="381"/>
                    </a:lnTo>
                    <a:lnTo>
                      <a:pt x="1526" y="388"/>
                    </a:lnTo>
                    <a:lnTo>
                      <a:pt x="1520" y="394"/>
                    </a:lnTo>
                    <a:lnTo>
                      <a:pt x="1509" y="398"/>
                    </a:lnTo>
                    <a:lnTo>
                      <a:pt x="1490" y="381"/>
                    </a:lnTo>
                    <a:lnTo>
                      <a:pt x="1480" y="385"/>
                    </a:lnTo>
                    <a:lnTo>
                      <a:pt x="1475" y="397"/>
                    </a:lnTo>
                    <a:lnTo>
                      <a:pt x="1478" y="407"/>
                    </a:lnTo>
                    <a:lnTo>
                      <a:pt x="1485" y="414"/>
                    </a:lnTo>
                    <a:lnTo>
                      <a:pt x="1491" y="421"/>
                    </a:lnTo>
                    <a:lnTo>
                      <a:pt x="1493" y="434"/>
                    </a:lnTo>
                    <a:lnTo>
                      <a:pt x="1483" y="442"/>
                    </a:lnTo>
                    <a:lnTo>
                      <a:pt x="1475" y="439"/>
                    </a:lnTo>
                    <a:lnTo>
                      <a:pt x="1468" y="432"/>
                    </a:lnTo>
                    <a:lnTo>
                      <a:pt x="1461" y="423"/>
                    </a:lnTo>
                    <a:lnTo>
                      <a:pt x="1452" y="417"/>
                    </a:lnTo>
                    <a:lnTo>
                      <a:pt x="1441" y="421"/>
                    </a:lnTo>
                    <a:lnTo>
                      <a:pt x="1436" y="432"/>
                    </a:lnTo>
                    <a:lnTo>
                      <a:pt x="1441" y="439"/>
                    </a:lnTo>
                    <a:lnTo>
                      <a:pt x="1445" y="446"/>
                    </a:lnTo>
                    <a:lnTo>
                      <a:pt x="1451" y="453"/>
                    </a:lnTo>
                    <a:lnTo>
                      <a:pt x="1458" y="460"/>
                    </a:lnTo>
                    <a:lnTo>
                      <a:pt x="1452" y="472"/>
                    </a:lnTo>
                    <a:lnTo>
                      <a:pt x="1441" y="473"/>
                    </a:lnTo>
                    <a:lnTo>
                      <a:pt x="1436" y="462"/>
                    </a:lnTo>
                    <a:lnTo>
                      <a:pt x="1431" y="458"/>
                    </a:lnTo>
                    <a:lnTo>
                      <a:pt x="1425" y="453"/>
                    </a:lnTo>
                    <a:lnTo>
                      <a:pt x="1416" y="449"/>
                    </a:lnTo>
                    <a:lnTo>
                      <a:pt x="1405" y="446"/>
                    </a:lnTo>
                    <a:lnTo>
                      <a:pt x="1400" y="453"/>
                    </a:lnTo>
                    <a:lnTo>
                      <a:pt x="1403" y="463"/>
                    </a:lnTo>
                    <a:lnTo>
                      <a:pt x="1410" y="475"/>
                    </a:lnTo>
                    <a:lnTo>
                      <a:pt x="1418" y="485"/>
                    </a:lnTo>
                    <a:lnTo>
                      <a:pt x="1423" y="497"/>
                    </a:lnTo>
                    <a:lnTo>
                      <a:pt x="1413" y="515"/>
                    </a:lnTo>
                    <a:lnTo>
                      <a:pt x="1406" y="510"/>
                    </a:lnTo>
                    <a:lnTo>
                      <a:pt x="1399" y="499"/>
                    </a:lnTo>
                    <a:lnTo>
                      <a:pt x="1390" y="491"/>
                    </a:lnTo>
                    <a:lnTo>
                      <a:pt x="1376" y="485"/>
                    </a:lnTo>
                    <a:lnTo>
                      <a:pt x="1368" y="495"/>
                    </a:lnTo>
                    <a:lnTo>
                      <a:pt x="1371" y="507"/>
                    </a:lnTo>
                    <a:lnTo>
                      <a:pt x="1377" y="517"/>
                    </a:lnTo>
                    <a:lnTo>
                      <a:pt x="1383" y="527"/>
                    </a:lnTo>
                    <a:lnTo>
                      <a:pt x="1390" y="538"/>
                    </a:lnTo>
                    <a:lnTo>
                      <a:pt x="1371" y="550"/>
                    </a:lnTo>
                    <a:lnTo>
                      <a:pt x="1367" y="544"/>
                    </a:lnTo>
                    <a:lnTo>
                      <a:pt x="1363" y="537"/>
                    </a:lnTo>
                    <a:lnTo>
                      <a:pt x="1357" y="530"/>
                    </a:lnTo>
                    <a:lnTo>
                      <a:pt x="1348" y="524"/>
                    </a:lnTo>
                    <a:lnTo>
                      <a:pt x="1337" y="524"/>
                    </a:lnTo>
                    <a:lnTo>
                      <a:pt x="1334" y="534"/>
                    </a:lnTo>
                    <a:lnTo>
                      <a:pt x="1337" y="546"/>
                    </a:lnTo>
                    <a:lnTo>
                      <a:pt x="1342" y="554"/>
                    </a:lnTo>
                    <a:lnTo>
                      <a:pt x="1350" y="563"/>
                    </a:lnTo>
                    <a:lnTo>
                      <a:pt x="1355" y="576"/>
                    </a:lnTo>
                    <a:lnTo>
                      <a:pt x="1345" y="590"/>
                    </a:lnTo>
                    <a:lnTo>
                      <a:pt x="1342" y="582"/>
                    </a:lnTo>
                    <a:lnTo>
                      <a:pt x="1338" y="575"/>
                    </a:lnTo>
                    <a:lnTo>
                      <a:pt x="1331" y="567"/>
                    </a:lnTo>
                    <a:lnTo>
                      <a:pt x="1324" y="559"/>
                    </a:lnTo>
                    <a:lnTo>
                      <a:pt x="1302" y="569"/>
                    </a:lnTo>
                    <a:lnTo>
                      <a:pt x="1306" y="580"/>
                    </a:lnTo>
                    <a:lnTo>
                      <a:pt x="1312" y="589"/>
                    </a:lnTo>
                    <a:lnTo>
                      <a:pt x="1319" y="598"/>
                    </a:lnTo>
                    <a:lnTo>
                      <a:pt x="1325" y="611"/>
                    </a:lnTo>
                    <a:lnTo>
                      <a:pt x="1332" y="632"/>
                    </a:lnTo>
                    <a:lnTo>
                      <a:pt x="1352" y="628"/>
                    </a:lnTo>
                    <a:lnTo>
                      <a:pt x="1364" y="615"/>
                    </a:lnTo>
                    <a:lnTo>
                      <a:pt x="1374" y="602"/>
                    </a:lnTo>
                    <a:lnTo>
                      <a:pt x="1386" y="589"/>
                    </a:lnTo>
                    <a:lnTo>
                      <a:pt x="1397" y="576"/>
                    </a:lnTo>
                    <a:lnTo>
                      <a:pt x="1409" y="563"/>
                    </a:lnTo>
                    <a:lnTo>
                      <a:pt x="1422" y="549"/>
                    </a:lnTo>
                    <a:lnTo>
                      <a:pt x="1433" y="536"/>
                    </a:lnTo>
                    <a:lnTo>
                      <a:pt x="1445" y="523"/>
                    </a:lnTo>
                    <a:lnTo>
                      <a:pt x="1475" y="491"/>
                    </a:lnTo>
                    <a:lnTo>
                      <a:pt x="1503" y="459"/>
                    </a:lnTo>
                    <a:lnTo>
                      <a:pt x="1529" y="429"/>
                    </a:lnTo>
                    <a:lnTo>
                      <a:pt x="1552" y="398"/>
                    </a:lnTo>
                    <a:lnTo>
                      <a:pt x="1572" y="369"/>
                    </a:lnTo>
                    <a:lnTo>
                      <a:pt x="1593" y="341"/>
                    </a:lnTo>
                    <a:lnTo>
                      <a:pt x="1613" y="312"/>
                    </a:lnTo>
                    <a:lnTo>
                      <a:pt x="1632" y="283"/>
                    </a:lnTo>
                    <a:lnTo>
                      <a:pt x="1639" y="276"/>
                    </a:lnTo>
                    <a:lnTo>
                      <a:pt x="1645" y="270"/>
                    </a:lnTo>
                    <a:lnTo>
                      <a:pt x="1650" y="265"/>
                    </a:lnTo>
                    <a:lnTo>
                      <a:pt x="1660" y="258"/>
                    </a:lnTo>
                    <a:lnTo>
                      <a:pt x="1669" y="263"/>
                    </a:lnTo>
                    <a:lnTo>
                      <a:pt x="1678" y="265"/>
                    </a:lnTo>
                    <a:lnTo>
                      <a:pt x="1686" y="268"/>
                    </a:lnTo>
                    <a:lnTo>
                      <a:pt x="1695" y="274"/>
                    </a:lnTo>
                    <a:lnTo>
                      <a:pt x="1705" y="294"/>
                    </a:lnTo>
                    <a:lnTo>
                      <a:pt x="1684" y="294"/>
                    </a:lnTo>
                    <a:lnTo>
                      <a:pt x="1679" y="306"/>
                    </a:lnTo>
                    <a:lnTo>
                      <a:pt x="1684" y="313"/>
                    </a:lnTo>
                    <a:lnTo>
                      <a:pt x="1689" y="319"/>
                    </a:lnTo>
                    <a:lnTo>
                      <a:pt x="1695" y="326"/>
                    </a:lnTo>
                    <a:lnTo>
                      <a:pt x="1700" y="338"/>
                    </a:lnTo>
                    <a:lnTo>
                      <a:pt x="1691" y="352"/>
                    </a:lnTo>
                    <a:lnTo>
                      <a:pt x="1684" y="345"/>
                    </a:lnTo>
                    <a:lnTo>
                      <a:pt x="1679" y="338"/>
                    </a:lnTo>
                    <a:lnTo>
                      <a:pt x="1672" y="333"/>
                    </a:lnTo>
                    <a:lnTo>
                      <a:pt x="1662" y="336"/>
                    </a:lnTo>
                    <a:lnTo>
                      <a:pt x="1656" y="346"/>
                    </a:lnTo>
                    <a:lnTo>
                      <a:pt x="1662" y="355"/>
                    </a:lnTo>
                    <a:lnTo>
                      <a:pt x="1666" y="367"/>
                    </a:lnTo>
                    <a:lnTo>
                      <a:pt x="1671" y="378"/>
                    </a:lnTo>
                    <a:lnTo>
                      <a:pt x="1679" y="388"/>
                    </a:lnTo>
                    <a:lnTo>
                      <a:pt x="1675" y="400"/>
                    </a:lnTo>
                    <a:lnTo>
                      <a:pt x="1668" y="394"/>
                    </a:lnTo>
                    <a:lnTo>
                      <a:pt x="1663" y="387"/>
                    </a:lnTo>
                    <a:lnTo>
                      <a:pt x="1658" y="381"/>
                    </a:lnTo>
                    <a:lnTo>
                      <a:pt x="1650" y="378"/>
                    </a:lnTo>
                    <a:lnTo>
                      <a:pt x="1639" y="382"/>
                    </a:lnTo>
                    <a:lnTo>
                      <a:pt x="1642" y="398"/>
                    </a:lnTo>
                    <a:lnTo>
                      <a:pt x="1647" y="413"/>
                    </a:lnTo>
                    <a:lnTo>
                      <a:pt x="1650" y="429"/>
                    </a:lnTo>
                    <a:lnTo>
                      <a:pt x="1647" y="447"/>
                    </a:lnTo>
                    <a:lnTo>
                      <a:pt x="1639" y="443"/>
                    </a:lnTo>
                    <a:lnTo>
                      <a:pt x="1633" y="434"/>
                    </a:lnTo>
                    <a:lnTo>
                      <a:pt x="1627" y="424"/>
                    </a:lnTo>
                    <a:lnTo>
                      <a:pt x="1614" y="417"/>
                    </a:lnTo>
                    <a:lnTo>
                      <a:pt x="1606" y="421"/>
                    </a:lnTo>
                    <a:lnTo>
                      <a:pt x="1603" y="433"/>
                    </a:lnTo>
                    <a:lnTo>
                      <a:pt x="1607" y="442"/>
                    </a:lnTo>
                    <a:lnTo>
                      <a:pt x="1611" y="450"/>
                    </a:lnTo>
                    <a:lnTo>
                      <a:pt x="1616" y="460"/>
                    </a:lnTo>
                    <a:lnTo>
                      <a:pt x="1619" y="475"/>
                    </a:lnTo>
                    <a:lnTo>
                      <a:pt x="1619" y="482"/>
                    </a:lnTo>
                    <a:lnTo>
                      <a:pt x="1619" y="488"/>
                    </a:lnTo>
                    <a:lnTo>
                      <a:pt x="1614" y="494"/>
                    </a:lnTo>
                    <a:lnTo>
                      <a:pt x="1607" y="494"/>
                    </a:lnTo>
                    <a:lnTo>
                      <a:pt x="1606" y="486"/>
                    </a:lnTo>
                    <a:lnTo>
                      <a:pt x="1600" y="481"/>
                    </a:lnTo>
                    <a:lnTo>
                      <a:pt x="1594" y="475"/>
                    </a:lnTo>
                    <a:lnTo>
                      <a:pt x="1588" y="466"/>
                    </a:lnTo>
                    <a:lnTo>
                      <a:pt x="1566" y="468"/>
                    </a:lnTo>
                    <a:lnTo>
                      <a:pt x="1569" y="481"/>
                    </a:lnTo>
                    <a:lnTo>
                      <a:pt x="1575" y="497"/>
                    </a:lnTo>
                    <a:lnTo>
                      <a:pt x="1582" y="514"/>
                    </a:lnTo>
                    <a:lnTo>
                      <a:pt x="1591" y="533"/>
                    </a:lnTo>
                    <a:lnTo>
                      <a:pt x="1590" y="538"/>
                    </a:lnTo>
                    <a:lnTo>
                      <a:pt x="1585" y="544"/>
                    </a:lnTo>
                    <a:lnTo>
                      <a:pt x="1578" y="550"/>
                    </a:lnTo>
                    <a:lnTo>
                      <a:pt x="1571" y="557"/>
                    </a:lnTo>
                    <a:lnTo>
                      <a:pt x="1569" y="550"/>
                    </a:lnTo>
                    <a:lnTo>
                      <a:pt x="1568" y="543"/>
                    </a:lnTo>
                    <a:lnTo>
                      <a:pt x="1564" y="536"/>
                    </a:lnTo>
                    <a:lnTo>
                      <a:pt x="1561" y="527"/>
                    </a:lnTo>
                    <a:lnTo>
                      <a:pt x="1556" y="520"/>
                    </a:lnTo>
                    <a:lnTo>
                      <a:pt x="1548" y="515"/>
                    </a:lnTo>
                    <a:lnTo>
                      <a:pt x="1538" y="514"/>
                    </a:lnTo>
                    <a:lnTo>
                      <a:pt x="1529" y="521"/>
                    </a:lnTo>
                    <a:lnTo>
                      <a:pt x="1535" y="536"/>
                    </a:lnTo>
                    <a:lnTo>
                      <a:pt x="1540" y="551"/>
                    </a:lnTo>
                    <a:lnTo>
                      <a:pt x="1545" y="569"/>
                    </a:lnTo>
                    <a:lnTo>
                      <a:pt x="1552" y="583"/>
                    </a:lnTo>
                    <a:lnTo>
                      <a:pt x="1552" y="592"/>
                    </a:lnTo>
                    <a:lnTo>
                      <a:pt x="1551" y="601"/>
                    </a:lnTo>
                    <a:lnTo>
                      <a:pt x="1546" y="608"/>
                    </a:lnTo>
                    <a:lnTo>
                      <a:pt x="1538" y="615"/>
                    </a:lnTo>
                    <a:lnTo>
                      <a:pt x="1536" y="606"/>
                    </a:lnTo>
                    <a:lnTo>
                      <a:pt x="1532" y="601"/>
                    </a:lnTo>
                    <a:lnTo>
                      <a:pt x="1527" y="593"/>
                    </a:lnTo>
                    <a:lnTo>
                      <a:pt x="1523" y="583"/>
                    </a:lnTo>
                    <a:lnTo>
                      <a:pt x="1516" y="576"/>
                    </a:lnTo>
                    <a:lnTo>
                      <a:pt x="1510" y="570"/>
                    </a:lnTo>
                    <a:lnTo>
                      <a:pt x="1503" y="566"/>
                    </a:lnTo>
                    <a:lnTo>
                      <a:pt x="1493" y="570"/>
                    </a:lnTo>
                    <a:lnTo>
                      <a:pt x="1493" y="582"/>
                    </a:lnTo>
                    <a:lnTo>
                      <a:pt x="1499" y="586"/>
                    </a:lnTo>
                    <a:lnTo>
                      <a:pt x="1501" y="595"/>
                    </a:lnTo>
                    <a:lnTo>
                      <a:pt x="1504" y="605"/>
                    </a:lnTo>
                    <a:lnTo>
                      <a:pt x="1509" y="612"/>
                    </a:lnTo>
                    <a:lnTo>
                      <a:pt x="1510" y="625"/>
                    </a:lnTo>
                    <a:lnTo>
                      <a:pt x="1512" y="637"/>
                    </a:lnTo>
                    <a:lnTo>
                      <a:pt x="1513" y="650"/>
                    </a:lnTo>
                    <a:lnTo>
                      <a:pt x="1510" y="663"/>
                    </a:lnTo>
                    <a:lnTo>
                      <a:pt x="1503" y="657"/>
                    </a:lnTo>
                    <a:lnTo>
                      <a:pt x="1499" y="648"/>
                    </a:lnTo>
                    <a:lnTo>
                      <a:pt x="1494" y="640"/>
                    </a:lnTo>
                    <a:lnTo>
                      <a:pt x="1485" y="630"/>
                    </a:lnTo>
                    <a:lnTo>
                      <a:pt x="1480" y="627"/>
                    </a:lnTo>
                    <a:lnTo>
                      <a:pt x="1471" y="622"/>
                    </a:lnTo>
                    <a:lnTo>
                      <a:pt x="1461" y="621"/>
                    </a:lnTo>
                    <a:lnTo>
                      <a:pt x="1455" y="630"/>
                    </a:lnTo>
                    <a:lnTo>
                      <a:pt x="1465" y="644"/>
                    </a:lnTo>
                    <a:lnTo>
                      <a:pt x="1474" y="661"/>
                    </a:lnTo>
                    <a:lnTo>
                      <a:pt x="1480" y="682"/>
                    </a:lnTo>
                    <a:lnTo>
                      <a:pt x="1487" y="703"/>
                    </a:lnTo>
                    <a:lnTo>
                      <a:pt x="1485" y="712"/>
                    </a:lnTo>
                    <a:lnTo>
                      <a:pt x="1481" y="718"/>
                    </a:lnTo>
                    <a:lnTo>
                      <a:pt x="1475" y="725"/>
                    </a:lnTo>
                    <a:lnTo>
                      <a:pt x="1472" y="735"/>
                    </a:lnTo>
                    <a:lnTo>
                      <a:pt x="1465" y="731"/>
                    </a:lnTo>
                    <a:lnTo>
                      <a:pt x="1459" y="715"/>
                    </a:lnTo>
                    <a:lnTo>
                      <a:pt x="1454" y="699"/>
                    </a:lnTo>
                    <a:lnTo>
                      <a:pt x="1446" y="683"/>
                    </a:lnTo>
                    <a:lnTo>
                      <a:pt x="1438" y="670"/>
                    </a:lnTo>
                    <a:lnTo>
                      <a:pt x="1426" y="663"/>
                    </a:lnTo>
                    <a:lnTo>
                      <a:pt x="1415" y="670"/>
                    </a:lnTo>
                    <a:lnTo>
                      <a:pt x="1418" y="683"/>
                    </a:lnTo>
                    <a:lnTo>
                      <a:pt x="1422" y="697"/>
                    </a:lnTo>
                    <a:lnTo>
                      <a:pt x="1429" y="712"/>
                    </a:lnTo>
                    <a:lnTo>
                      <a:pt x="1436" y="726"/>
                    </a:lnTo>
                    <a:lnTo>
                      <a:pt x="1442" y="741"/>
                    </a:lnTo>
                    <a:lnTo>
                      <a:pt x="1446" y="755"/>
                    </a:lnTo>
                    <a:lnTo>
                      <a:pt x="1446" y="771"/>
                    </a:lnTo>
                    <a:lnTo>
                      <a:pt x="1442" y="786"/>
                    </a:lnTo>
                    <a:lnTo>
                      <a:pt x="1435" y="786"/>
                    </a:lnTo>
                    <a:lnTo>
                      <a:pt x="1431" y="767"/>
                    </a:lnTo>
                    <a:lnTo>
                      <a:pt x="1422" y="751"/>
                    </a:lnTo>
                    <a:lnTo>
                      <a:pt x="1412" y="736"/>
                    </a:lnTo>
                    <a:lnTo>
                      <a:pt x="1400" y="721"/>
                    </a:lnTo>
                    <a:lnTo>
                      <a:pt x="1389" y="722"/>
                    </a:lnTo>
                    <a:lnTo>
                      <a:pt x="1381" y="732"/>
                    </a:lnTo>
                    <a:lnTo>
                      <a:pt x="1390" y="751"/>
                    </a:lnTo>
                    <a:lnTo>
                      <a:pt x="1400" y="771"/>
                    </a:lnTo>
                    <a:lnTo>
                      <a:pt x="1409" y="793"/>
                    </a:lnTo>
                    <a:lnTo>
                      <a:pt x="1415" y="817"/>
                    </a:lnTo>
                    <a:lnTo>
                      <a:pt x="1406" y="826"/>
                    </a:lnTo>
                    <a:lnTo>
                      <a:pt x="1403" y="820"/>
                    </a:lnTo>
                    <a:lnTo>
                      <a:pt x="1402" y="813"/>
                    </a:lnTo>
                    <a:lnTo>
                      <a:pt x="1399" y="807"/>
                    </a:lnTo>
                    <a:lnTo>
                      <a:pt x="1393" y="800"/>
                    </a:lnTo>
                    <a:lnTo>
                      <a:pt x="1386" y="791"/>
                    </a:lnTo>
                    <a:lnTo>
                      <a:pt x="1381" y="784"/>
                    </a:lnTo>
                    <a:lnTo>
                      <a:pt x="1374" y="777"/>
                    </a:lnTo>
                    <a:lnTo>
                      <a:pt x="1364" y="768"/>
                    </a:lnTo>
                    <a:lnTo>
                      <a:pt x="1354" y="768"/>
                    </a:lnTo>
                    <a:lnTo>
                      <a:pt x="1351" y="778"/>
                    </a:lnTo>
                    <a:lnTo>
                      <a:pt x="1358" y="796"/>
                    </a:lnTo>
                    <a:lnTo>
                      <a:pt x="1365" y="812"/>
                    </a:lnTo>
                    <a:lnTo>
                      <a:pt x="1374" y="829"/>
                    </a:lnTo>
                    <a:lnTo>
                      <a:pt x="1381" y="851"/>
                    </a:lnTo>
                    <a:lnTo>
                      <a:pt x="1365" y="872"/>
                    </a:lnTo>
                    <a:lnTo>
                      <a:pt x="1358" y="861"/>
                    </a:lnTo>
                    <a:lnTo>
                      <a:pt x="1352" y="848"/>
                    </a:lnTo>
                    <a:lnTo>
                      <a:pt x="1344" y="833"/>
                    </a:lnTo>
                    <a:lnTo>
                      <a:pt x="1335" y="820"/>
                    </a:lnTo>
                    <a:lnTo>
                      <a:pt x="1313" y="823"/>
                    </a:lnTo>
                    <a:lnTo>
                      <a:pt x="1316" y="840"/>
                    </a:lnTo>
                    <a:lnTo>
                      <a:pt x="1326" y="858"/>
                    </a:lnTo>
                    <a:lnTo>
                      <a:pt x="1338" y="877"/>
                    </a:lnTo>
                    <a:lnTo>
                      <a:pt x="1345" y="898"/>
                    </a:lnTo>
                    <a:lnTo>
                      <a:pt x="1347" y="905"/>
                    </a:lnTo>
                    <a:lnTo>
                      <a:pt x="1345" y="911"/>
                    </a:lnTo>
                    <a:lnTo>
                      <a:pt x="1341" y="917"/>
                    </a:lnTo>
                    <a:lnTo>
                      <a:pt x="1332" y="923"/>
                    </a:lnTo>
                    <a:lnTo>
                      <a:pt x="1329" y="917"/>
                    </a:lnTo>
                    <a:lnTo>
                      <a:pt x="1325" y="911"/>
                    </a:lnTo>
                    <a:lnTo>
                      <a:pt x="1321" y="904"/>
                    </a:lnTo>
                    <a:lnTo>
                      <a:pt x="1315" y="897"/>
                    </a:lnTo>
                    <a:lnTo>
                      <a:pt x="1311" y="891"/>
                    </a:lnTo>
                    <a:lnTo>
                      <a:pt x="1303" y="884"/>
                    </a:lnTo>
                    <a:lnTo>
                      <a:pt x="1296" y="878"/>
                    </a:lnTo>
                    <a:lnTo>
                      <a:pt x="1289" y="874"/>
                    </a:lnTo>
                    <a:lnTo>
                      <a:pt x="1279" y="877"/>
                    </a:lnTo>
                    <a:lnTo>
                      <a:pt x="1283" y="897"/>
                    </a:lnTo>
                    <a:lnTo>
                      <a:pt x="1293" y="916"/>
                    </a:lnTo>
                    <a:lnTo>
                      <a:pt x="1305" y="931"/>
                    </a:lnTo>
                    <a:lnTo>
                      <a:pt x="1313" y="950"/>
                    </a:lnTo>
                    <a:lnTo>
                      <a:pt x="1313" y="960"/>
                    </a:lnTo>
                    <a:lnTo>
                      <a:pt x="1313" y="969"/>
                    </a:lnTo>
                    <a:lnTo>
                      <a:pt x="1309" y="976"/>
                    </a:lnTo>
                    <a:lnTo>
                      <a:pt x="1305" y="983"/>
                    </a:lnTo>
                    <a:lnTo>
                      <a:pt x="1299" y="992"/>
                    </a:lnTo>
                    <a:lnTo>
                      <a:pt x="1289" y="997"/>
                    </a:lnTo>
                    <a:lnTo>
                      <a:pt x="1287" y="989"/>
                    </a:lnTo>
                    <a:lnTo>
                      <a:pt x="1284" y="982"/>
                    </a:lnTo>
                    <a:lnTo>
                      <a:pt x="1282" y="975"/>
                    </a:lnTo>
                    <a:lnTo>
                      <a:pt x="1277" y="965"/>
                    </a:lnTo>
                    <a:lnTo>
                      <a:pt x="1271" y="955"/>
                    </a:lnTo>
                    <a:lnTo>
                      <a:pt x="1263" y="943"/>
                    </a:lnTo>
                    <a:lnTo>
                      <a:pt x="1253" y="933"/>
                    </a:lnTo>
                    <a:lnTo>
                      <a:pt x="1241" y="926"/>
                    </a:lnTo>
                    <a:lnTo>
                      <a:pt x="1234" y="937"/>
                    </a:lnTo>
                    <a:lnTo>
                      <a:pt x="1244" y="960"/>
                    </a:lnTo>
                    <a:lnTo>
                      <a:pt x="1254" y="982"/>
                    </a:lnTo>
                    <a:lnTo>
                      <a:pt x="1266" y="1005"/>
                    </a:lnTo>
                    <a:lnTo>
                      <a:pt x="1276" y="1031"/>
                    </a:lnTo>
                    <a:lnTo>
                      <a:pt x="1260" y="1050"/>
                    </a:lnTo>
                    <a:lnTo>
                      <a:pt x="1253" y="1037"/>
                    </a:lnTo>
                    <a:lnTo>
                      <a:pt x="1247" y="1024"/>
                    </a:lnTo>
                    <a:lnTo>
                      <a:pt x="1238" y="1010"/>
                    </a:lnTo>
                    <a:lnTo>
                      <a:pt x="1230" y="995"/>
                    </a:lnTo>
                    <a:lnTo>
                      <a:pt x="1208" y="979"/>
                    </a:lnTo>
                    <a:lnTo>
                      <a:pt x="1201" y="986"/>
                    </a:lnTo>
                    <a:lnTo>
                      <a:pt x="1201" y="997"/>
                    </a:lnTo>
                    <a:lnTo>
                      <a:pt x="1212" y="1017"/>
                    </a:lnTo>
                    <a:lnTo>
                      <a:pt x="1221" y="1036"/>
                    </a:lnTo>
                    <a:lnTo>
                      <a:pt x="1231" y="1057"/>
                    </a:lnTo>
                    <a:lnTo>
                      <a:pt x="1241" y="1080"/>
                    </a:lnTo>
                    <a:lnTo>
                      <a:pt x="1227" y="1102"/>
                    </a:lnTo>
                    <a:lnTo>
                      <a:pt x="1219" y="1093"/>
                    </a:lnTo>
                    <a:lnTo>
                      <a:pt x="1219" y="1082"/>
                    </a:lnTo>
                    <a:lnTo>
                      <a:pt x="1208" y="1062"/>
                    </a:lnTo>
                    <a:lnTo>
                      <a:pt x="1202" y="1051"/>
                    </a:lnTo>
                    <a:lnTo>
                      <a:pt x="1195" y="1041"/>
                    </a:lnTo>
                    <a:lnTo>
                      <a:pt x="1186" y="1033"/>
                    </a:lnTo>
                    <a:lnTo>
                      <a:pt x="1175" y="1024"/>
                    </a:lnTo>
                    <a:lnTo>
                      <a:pt x="1162" y="1017"/>
                    </a:lnTo>
                    <a:lnTo>
                      <a:pt x="1159" y="1037"/>
                    </a:lnTo>
                    <a:lnTo>
                      <a:pt x="1164" y="1047"/>
                    </a:lnTo>
                    <a:lnTo>
                      <a:pt x="1172" y="1057"/>
                    </a:lnTo>
                    <a:lnTo>
                      <a:pt x="1179" y="1069"/>
                    </a:lnTo>
                    <a:lnTo>
                      <a:pt x="1185" y="1080"/>
                    </a:lnTo>
                    <a:lnTo>
                      <a:pt x="1192" y="1092"/>
                    </a:lnTo>
                    <a:lnTo>
                      <a:pt x="1196" y="1105"/>
                    </a:lnTo>
                    <a:lnTo>
                      <a:pt x="1201" y="1118"/>
                    </a:lnTo>
                    <a:lnTo>
                      <a:pt x="1202" y="1132"/>
                    </a:lnTo>
                    <a:lnTo>
                      <a:pt x="1186" y="1154"/>
                    </a:lnTo>
                    <a:lnTo>
                      <a:pt x="1179" y="1145"/>
                    </a:lnTo>
                    <a:lnTo>
                      <a:pt x="1176" y="1135"/>
                    </a:lnTo>
                    <a:lnTo>
                      <a:pt x="1172" y="1125"/>
                    </a:lnTo>
                    <a:lnTo>
                      <a:pt x="1167" y="1116"/>
                    </a:lnTo>
                    <a:lnTo>
                      <a:pt x="1163" y="1108"/>
                    </a:lnTo>
                    <a:lnTo>
                      <a:pt x="1157" y="1099"/>
                    </a:lnTo>
                    <a:lnTo>
                      <a:pt x="1151" y="1090"/>
                    </a:lnTo>
                    <a:lnTo>
                      <a:pt x="1144" y="1082"/>
                    </a:lnTo>
                    <a:lnTo>
                      <a:pt x="1136" y="1073"/>
                    </a:lnTo>
                    <a:lnTo>
                      <a:pt x="1114" y="1075"/>
                    </a:lnTo>
                    <a:lnTo>
                      <a:pt x="1118" y="1095"/>
                    </a:lnTo>
                    <a:lnTo>
                      <a:pt x="1125" y="1101"/>
                    </a:lnTo>
                    <a:lnTo>
                      <a:pt x="1131" y="1109"/>
                    </a:lnTo>
                    <a:lnTo>
                      <a:pt x="1137" y="1118"/>
                    </a:lnTo>
                    <a:lnTo>
                      <a:pt x="1141" y="1128"/>
                    </a:lnTo>
                    <a:lnTo>
                      <a:pt x="1146" y="1138"/>
                    </a:lnTo>
                    <a:lnTo>
                      <a:pt x="1151" y="1148"/>
                    </a:lnTo>
                    <a:lnTo>
                      <a:pt x="1157" y="1158"/>
                    </a:lnTo>
                    <a:lnTo>
                      <a:pt x="1163" y="1167"/>
                    </a:lnTo>
                    <a:lnTo>
                      <a:pt x="1170" y="1171"/>
                    </a:lnTo>
                    <a:lnTo>
                      <a:pt x="1163" y="1177"/>
                    </a:lnTo>
                    <a:lnTo>
                      <a:pt x="1159" y="1184"/>
                    </a:lnTo>
                    <a:lnTo>
                      <a:pt x="1154" y="1193"/>
                    </a:lnTo>
                    <a:lnTo>
                      <a:pt x="1144" y="1199"/>
                    </a:lnTo>
                    <a:lnTo>
                      <a:pt x="1140" y="1189"/>
                    </a:lnTo>
                    <a:lnTo>
                      <a:pt x="1136" y="1180"/>
                    </a:lnTo>
                    <a:lnTo>
                      <a:pt x="1131" y="1171"/>
                    </a:lnTo>
                    <a:lnTo>
                      <a:pt x="1127" y="1163"/>
                    </a:lnTo>
                    <a:lnTo>
                      <a:pt x="1121" y="1154"/>
                    </a:lnTo>
                    <a:lnTo>
                      <a:pt x="1115" y="1145"/>
                    </a:lnTo>
                    <a:lnTo>
                      <a:pt x="1110" y="1137"/>
                    </a:lnTo>
                    <a:lnTo>
                      <a:pt x="1101" y="1128"/>
                    </a:lnTo>
                    <a:lnTo>
                      <a:pt x="1094" y="1127"/>
                    </a:lnTo>
                    <a:lnTo>
                      <a:pt x="1086" y="1124"/>
                    </a:lnTo>
                    <a:lnTo>
                      <a:pt x="1079" y="1124"/>
                    </a:lnTo>
                    <a:lnTo>
                      <a:pt x="1070" y="1129"/>
                    </a:lnTo>
                    <a:lnTo>
                      <a:pt x="1072" y="1138"/>
                    </a:lnTo>
                    <a:lnTo>
                      <a:pt x="1079" y="1144"/>
                    </a:lnTo>
                    <a:lnTo>
                      <a:pt x="1085" y="1150"/>
                    </a:lnTo>
                    <a:lnTo>
                      <a:pt x="1091" y="1158"/>
                    </a:lnTo>
                    <a:lnTo>
                      <a:pt x="1097" y="1167"/>
                    </a:lnTo>
                    <a:lnTo>
                      <a:pt x="1101" y="1176"/>
                    </a:lnTo>
                    <a:lnTo>
                      <a:pt x="1105" y="1186"/>
                    </a:lnTo>
                    <a:lnTo>
                      <a:pt x="1111" y="1197"/>
                    </a:lnTo>
                    <a:lnTo>
                      <a:pt x="1115" y="1207"/>
                    </a:lnTo>
                    <a:lnTo>
                      <a:pt x="1125" y="1218"/>
                    </a:lnTo>
                    <a:lnTo>
                      <a:pt x="1118" y="1223"/>
                    </a:lnTo>
                    <a:lnTo>
                      <a:pt x="1114" y="1231"/>
                    </a:lnTo>
                    <a:lnTo>
                      <a:pt x="1107" y="1236"/>
                    </a:lnTo>
                    <a:lnTo>
                      <a:pt x="1098" y="1239"/>
                    </a:lnTo>
                    <a:lnTo>
                      <a:pt x="1091" y="1232"/>
                    </a:lnTo>
                    <a:lnTo>
                      <a:pt x="1085" y="1223"/>
                    </a:lnTo>
                    <a:lnTo>
                      <a:pt x="1079" y="1213"/>
                    </a:lnTo>
                    <a:lnTo>
                      <a:pt x="1072" y="1205"/>
                    </a:lnTo>
                    <a:lnTo>
                      <a:pt x="1039" y="1168"/>
                    </a:lnTo>
                    <a:lnTo>
                      <a:pt x="1023" y="1183"/>
                    </a:lnTo>
                    <a:lnTo>
                      <a:pt x="1030" y="1192"/>
                    </a:lnTo>
                    <a:lnTo>
                      <a:pt x="1037" y="1200"/>
                    </a:lnTo>
                    <a:lnTo>
                      <a:pt x="1044" y="1209"/>
                    </a:lnTo>
                    <a:lnTo>
                      <a:pt x="1050" y="1220"/>
                    </a:lnTo>
                    <a:lnTo>
                      <a:pt x="1056" y="1231"/>
                    </a:lnTo>
                    <a:lnTo>
                      <a:pt x="1062" y="1244"/>
                    </a:lnTo>
                    <a:lnTo>
                      <a:pt x="1068" y="1255"/>
                    </a:lnTo>
                    <a:lnTo>
                      <a:pt x="1073" y="1268"/>
                    </a:lnTo>
                    <a:lnTo>
                      <a:pt x="1055" y="1280"/>
                    </a:lnTo>
                    <a:lnTo>
                      <a:pt x="1047" y="1274"/>
                    </a:lnTo>
                    <a:lnTo>
                      <a:pt x="1040" y="1268"/>
                    </a:lnTo>
                    <a:lnTo>
                      <a:pt x="1034" y="1259"/>
                    </a:lnTo>
                    <a:lnTo>
                      <a:pt x="1029" y="1249"/>
                    </a:lnTo>
                    <a:lnTo>
                      <a:pt x="1023" y="1241"/>
                    </a:lnTo>
                    <a:lnTo>
                      <a:pt x="1016" y="1231"/>
                    </a:lnTo>
                    <a:lnTo>
                      <a:pt x="1007" y="1220"/>
                    </a:lnTo>
                    <a:lnTo>
                      <a:pt x="997" y="1210"/>
                    </a:lnTo>
                    <a:lnTo>
                      <a:pt x="978" y="1215"/>
                    </a:lnTo>
                    <a:lnTo>
                      <a:pt x="978" y="1225"/>
                    </a:lnTo>
                    <a:lnTo>
                      <a:pt x="991" y="1235"/>
                    </a:lnTo>
                    <a:lnTo>
                      <a:pt x="992" y="1245"/>
                    </a:lnTo>
                    <a:lnTo>
                      <a:pt x="997" y="1251"/>
                    </a:lnTo>
                    <a:lnTo>
                      <a:pt x="1003" y="1258"/>
                    </a:lnTo>
                    <a:lnTo>
                      <a:pt x="1005" y="1268"/>
                    </a:lnTo>
                    <a:lnTo>
                      <a:pt x="1011" y="1275"/>
                    </a:lnTo>
                    <a:lnTo>
                      <a:pt x="1016" y="1283"/>
                    </a:lnTo>
                    <a:lnTo>
                      <a:pt x="1023" y="1290"/>
                    </a:lnTo>
                    <a:lnTo>
                      <a:pt x="1031" y="1298"/>
                    </a:lnTo>
                    <a:lnTo>
                      <a:pt x="1029" y="1306"/>
                    </a:lnTo>
                    <a:lnTo>
                      <a:pt x="1021" y="1310"/>
                    </a:lnTo>
                    <a:lnTo>
                      <a:pt x="1011" y="1314"/>
                    </a:lnTo>
                    <a:lnTo>
                      <a:pt x="1004" y="1320"/>
                    </a:lnTo>
                    <a:lnTo>
                      <a:pt x="995" y="1313"/>
                    </a:lnTo>
                    <a:lnTo>
                      <a:pt x="988" y="1306"/>
                    </a:lnTo>
                    <a:lnTo>
                      <a:pt x="981" y="1298"/>
                    </a:lnTo>
                    <a:lnTo>
                      <a:pt x="975" y="1291"/>
                    </a:lnTo>
                    <a:lnTo>
                      <a:pt x="968" y="1283"/>
                    </a:lnTo>
                    <a:lnTo>
                      <a:pt x="962" y="1275"/>
                    </a:lnTo>
                    <a:lnTo>
                      <a:pt x="955" y="1267"/>
                    </a:lnTo>
                    <a:lnTo>
                      <a:pt x="948" y="1259"/>
                    </a:lnTo>
                    <a:lnTo>
                      <a:pt x="926" y="1258"/>
                    </a:lnTo>
                    <a:lnTo>
                      <a:pt x="926" y="1268"/>
                    </a:lnTo>
                    <a:lnTo>
                      <a:pt x="929" y="1277"/>
                    </a:lnTo>
                    <a:lnTo>
                      <a:pt x="935" y="1285"/>
                    </a:lnTo>
                    <a:lnTo>
                      <a:pt x="940" y="1293"/>
                    </a:lnTo>
                    <a:lnTo>
                      <a:pt x="946" y="1300"/>
                    </a:lnTo>
                    <a:lnTo>
                      <a:pt x="953" y="1307"/>
                    </a:lnTo>
                    <a:lnTo>
                      <a:pt x="959" y="1314"/>
                    </a:lnTo>
                    <a:lnTo>
                      <a:pt x="966" y="1323"/>
                    </a:lnTo>
                    <a:lnTo>
                      <a:pt x="972" y="1332"/>
                    </a:lnTo>
                    <a:lnTo>
                      <a:pt x="974" y="1340"/>
                    </a:lnTo>
                    <a:lnTo>
                      <a:pt x="952" y="1348"/>
                    </a:lnTo>
                    <a:lnTo>
                      <a:pt x="943" y="1343"/>
                    </a:lnTo>
                    <a:lnTo>
                      <a:pt x="935" y="1339"/>
                    </a:lnTo>
                    <a:lnTo>
                      <a:pt x="926" y="1332"/>
                    </a:lnTo>
                    <a:lnTo>
                      <a:pt x="917" y="1323"/>
                    </a:lnTo>
                    <a:lnTo>
                      <a:pt x="909" y="1316"/>
                    </a:lnTo>
                    <a:lnTo>
                      <a:pt x="900" y="1307"/>
                    </a:lnTo>
                    <a:lnTo>
                      <a:pt x="891" y="1300"/>
                    </a:lnTo>
                    <a:lnTo>
                      <a:pt x="882" y="1294"/>
                    </a:lnTo>
                    <a:lnTo>
                      <a:pt x="869" y="1311"/>
                    </a:lnTo>
                    <a:lnTo>
                      <a:pt x="875" y="1319"/>
                    </a:lnTo>
                    <a:lnTo>
                      <a:pt x="881" y="1326"/>
                    </a:lnTo>
                    <a:lnTo>
                      <a:pt x="887" y="1333"/>
                    </a:lnTo>
                    <a:lnTo>
                      <a:pt x="893" y="1342"/>
                    </a:lnTo>
                    <a:lnTo>
                      <a:pt x="900" y="1349"/>
                    </a:lnTo>
                    <a:lnTo>
                      <a:pt x="907" y="1356"/>
                    </a:lnTo>
                    <a:lnTo>
                      <a:pt x="916" y="1362"/>
                    </a:lnTo>
                    <a:lnTo>
                      <a:pt x="924" y="1366"/>
                    </a:lnTo>
                    <a:lnTo>
                      <a:pt x="916" y="1374"/>
                    </a:lnTo>
                    <a:lnTo>
                      <a:pt x="909" y="1381"/>
                    </a:lnTo>
                    <a:lnTo>
                      <a:pt x="901" y="1387"/>
                    </a:lnTo>
                    <a:lnTo>
                      <a:pt x="891" y="1391"/>
                    </a:lnTo>
                    <a:lnTo>
                      <a:pt x="884" y="1384"/>
                    </a:lnTo>
                    <a:lnTo>
                      <a:pt x="877" y="1375"/>
                    </a:lnTo>
                    <a:lnTo>
                      <a:pt x="868" y="1368"/>
                    </a:lnTo>
                    <a:lnTo>
                      <a:pt x="861" y="1359"/>
                    </a:lnTo>
                    <a:lnTo>
                      <a:pt x="852" y="1352"/>
                    </a:lnTo>
                    <a:lnTo>
                      <a:pt x="842" y="1345"/>
                    </a:lnTo>
                    <a:lnTo>
                      <a:pt x="832" y="1337"/>
                    </a:lnTo>
                    <a:lnTo>
                      <a:pt x="822" y="1330"/>
                    </a:lnTo>
                    <a:lnTo>
                      <a:pt x="812" y="1340"/>
                    </a:lnTo>
                    <a:lnTo>
                      <a:pt x="816" y="1350"/>
                    </a:lnTo>
                    <a:lnTo>
                      <a:pt x="822" y="1359"/>
                    </a:lnTo>
                    <a:lnTo>
                      <a:pt x="829" y="1368"/>
                    </a:lnTo>
                    <a:lnTo>
                      <a:pt x="836" y="1377"/>
                    </a:lnTo>
                    <a:lnTo>
                      <a:pt x="845" y="1384"/>
                    </a:lnTo>
                    <a:lnTo>
                      <a:pt x="854" y="1392"/>
                    </a:lnTo>
                    <a:lnTo>
                      <a:pt x="862" y="1401"/>
                    </a:lnTo>
                    <a:lnTo>
                      <a:pt x="872" y="1410"/>
                    </a:lnTo>
                    <a:lnTo>
                      <a:pt x="869" y="1417"/>
                    </a:lnTo>
                    <a:lnTo>
                      <a:pt x="864" y="1424"/>
                    </a:lnTo>
                    <a:lnTo>
                      <a:pt x="856" y="1430"/>
                    </a:lnTo>
                    <a:lnTo>
                      <a:pt x="848" y="1439"/>
                    </a:lnTo>
                    <a:lnTo>
                      <a:pt x="841" y="1439"/>
                    </a:lnTo>
                    <a:lnTo>
                      <a:pt x="832" y="1431"/>
                    </a:lnTo>
                    <a:lnTo>
                      <a:pt x="825" y="1426"/>
                    </a:lnTo>
                    <a:lnTo>
                      <a:pt x="816" y="1420"/>
                    </a:lnTo>
                    <a:lnTo>
                      <a:pt x="810" y="1414"/>
                    </a:lnTo>
                    <a:lnTo>
                      <a:pt x="803" y="1407"/>
                    </a:lnTo>
                    <a:lnTo>
                      <a:pt x="796" y="1400"/>
                    </a:lnTo>
                    <a:lnTo>
                      <a:pt x="788" y="1392"/>
                    </a:lnTo>
                    <a:lnTo>
                      <a:pt x="780" y="1382"/>
                    </a:lnTo>
                    <a:lnTo>
                      <a:pt x="757" y="1394"/>
                    </a:lnTo>
                    <a:lnTo>
                      <a:pt x="761" y="1404"/>
                    </a:lnTo>
                    <a:lnTo>
                      <a:pt x="767" y="1413"/>
                    </a:lnTo>
                    <a:lnTo>
                      <a:pt x="774" y="1421"/>
                    </a:lnTo>
                    <a:lnTo>
                      <a:pt x="783" y="1430"/>
                    </a:lnTo>
                    <a:lnTo>
                      <a:pt x="793" y="1437"/>
                    </a:lnTo>
                    <a:lnTo>
                      <a:pt x="803" y="1446"/>
                    </a:lnTo>
                    <a:lnTo>
                      <a:pt x="813" y="1455"/>
                    </a:lnTo>
                    <a:lnTo>
                      <a:pt x="822" y="1463"/>
                    </a:lnTo>
                    <a:lnTo>
                      <a:pt x="815" y="1469"/>
                    </a:lnTo>
                    <a:lnTo>
                      <a:pt x="810" y="1475"/>
                    </a:lnTo>
                    <a:lnTo>
                      <a:pt x="803" y="1481"/>
                    </a:lnTo>
                    <a:lnTo>
                      <a:pt x="793" y="1485"/>
                    </a:lnTo>
                    <a:lnTo>
                      <a:pt x="784" y="1481"/>
                    </a:lnTo>
                    <a:lnTo>
                      <a:pt x="775" y="1473"/>
                    </a:lnTo>
                    <a:lnTo>
                      <a:pt x="767" y="1468"/>
                    </a:lnTo>
                    <a:lnTo>
                      <a:pt x="760" y="1460"/>
                    </a:lnTo>
                    <a:lnTo>
                      <a:pt x="751" y="1452"/>
                    </a:lnTo>
                    <a:lnTo>
                      <a:pt x="742" y="1444"/>
                    </a:lnTo>
                    <a:lnTo>
                      <a:pt x="734" y="1436"/>
                    </a:lnTo>
                    <a:lnTo>
                      <a:pt x="723" y="1429"/>
                    </a:lnTo>
                    <a:lnTo>
                      <a:pt x="702" y="1442"/>
                    </a:lnTo>
                    <a:lnTo>
                      <a:pt x="705" y="1449"/>
                    </a:lnTo>
                    <a:lnTo>
                      <a:pt x="710" y="1456"/>
                    </a:lnTo>
                    <a:lnTo>
                      <a:pt x="718" y="1462"/>
                    </a:lnTo>
                    <a:lnTo>
                      <a:pt x="723" y="1468"/>
                    </a:lnTo>
                    <a:lnTo>
                      <a:pt x="731" y="1472"/>
                    </a:lnTo>
                    <a:lnTo>
                      <a:pt x="738" y="1476"/>
                    </a:lnTo>
                    <a:lnTo>
                      <a:pt x="744" y="1481"/>
                    </a:lnTo>
                    <a:lnTo>
                      <a:pt x="749" y="1486"/>
                    </a:lnTo>
                    <a:lnTo>
                      <a:pt x="754" y="1494"/>
                    </a:lnTo>
                    <a:lnTo>
                      <a:pt x="747" y="1496"/>
                    </a:lnTo>
                    <a:lnTo>
                      <a:pt x="736" y="1496"/>
                    </a:lnTo>
                    <a:lnTo>
                      <a:pt x="726" y="1496"/>
                    </a:lnTo>
                    <a:lnTo>
                      <a:pt x="716" y="1499"/>
                    </a:lnTo>
                    <a:lnTo>
                      <a:pt x="695" y="1492"/>
                    </a:lnTo>
                    <a:lnTo>
                      <a:pt x="686" y="1488"/>
                    </a:lnTo>
                    <a:lnTo>
                      <a:pt x="679" y="1479"/>
                    </a:lnTo>
                    <a:lnTo>
                      <a:pt x="670" y="1470"/>
                    </a:lnTo>
                    <a:lnTo>
                      <a:pt x="658" y="1465"/>
                    </a:lnTo>
                    <a:lnTo>
                      <a:pt x="650" y="1468"/>
                    </a:lnTo>
                    <a:lnTo>
                      <a:pt x="644" y="1476"/>
                    </a:lnTo>
                    <a:lnTo>
                      <a:pt x="644" y="1485"/>
                    </a:lnTo>
                    <a:lnTo>
                      <a:pt x="650" y="1492"/>
                    </a:lnTo>
                    <a:lnTo>
                      <a:pt x="647" y="1499"/>
                    </a:lnTo>
                    <a:lnTo>
                      <a:pt x="629" y="1499"/>
                    </a:lnTo>
                    <a:lnTo>
                      <a:pt x="612" y="1501"/>
                    </a:lnTo>
                    <a:lnTo>
                      <a:pt x="595" y="1501"/>
                    </a:lnTo>
                    <a:lnTo>
                      <a:pt x="576" y="1501"/>
                    </a:lnTo>
                    <a:lnTo>
                      <a:pt x="559" y="1501"/>
                    </a:lnTo>
                    <a:lnTo>
                      <a:pt x="541" y="1501"/>
                    </a:lnTo>
                    <a:lnTo>
                      <a:pt x="524" y="1501"/>
                    </a:lnTo>
                    <a:lnTo>
                      <a:pt x="507" y="1499"/>
                    </a:lnTo>
                    <a:lnTo>
                      <a:pt x="488" y="1499"/>
                    </a:lnTo>
                    <a:lnTo>
                      <a:pt x="470" y="1499"/>
                    </a:lnTo>
                    <a:lnTo>
                      <a:pt x="453" y="1499"/>
                    </a:lnTo>
                    <a:lnTo>
                      <a:pt x="434" y="1499"/>
                    </a:lnTo>
                    <a:lnTo>
                      <a:pt x="417" y="1499"/>
                    </a:lnTo>
                    <a:lnTo>
                      <a:pt x="398" y="1499"/>
                    </a:lnTo>
                    <a:lnTo>
                      <a:pt x="381" y="1499"/>
                    </a:lnTo>
                    <a:lnTo>
                      <a:pt x="362" y="1499"/>
                    </a:lnTo>
                    <a:lnTo>
                      <a:pt x="356" y="1504"/>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962760" y="1749600"/>
                <a:ext cx="1463760" cy="1334880"/>
              </a:xfrm>
              <a:custGeom>
                <a:avLst/>
                <a:gdLst/>
                <a:ahLst/>
                <a:rect l="l" t="t" r="r" b="b"/>
                <a:pathLst>
                  <a:path w="2766" h="2525">
                    <a:moveTo>
                      <a:pt x="136" y="2525"/>
                    </a:moveTo>
                    <a:lnTo>
                      <a:pt x="123" y="2522"/>
                    </a:lnTo>
                    <a:lnTo>
                      <a:pt x="109" y="2520"/>
                    </a:lnTo>
                    <a:lnTo>
                      <a:pt x="96" y="2520"/>
                    </a:lnTo>
                    <a:lnTo>
                      <a:pt x="81" y="2520"/>
                    </a:lnTo>
                    <a:lnTo>
                      <a:pt x="65" y="2522"/>
                    </a:lnTo>
                    <a:lnTo>
                      <a:pt x="51" y="2522"/>
                    </a:lnTo>
                    <a:lnTo>
                      <a:pt x="35" y="2522"/>
                    </a:lnTo>
                    <a:lnTo>
                      <a:pt x="20" y="2522"/>
                    </a:lnTo>
                    <a:lnTo>
                      <a:pt x="9" y="1902"/>
                    </a:lnTo>
                    <a:lnTo>
                      <a:pt x="4" y="1279"/>
                    </a:lnTo>
                    <a:lnTo>
                      <a:pt x="2" y="656"/>
                    </a:lnTo>
                    <a:lnTo>
                      <a:pt x="0" y="32"/>
                    </a:lnTo>
                    <a:lnTo>
                      <a:pt x="15" y="21"/>
                    </a:lnTo>
                    <a:lnTo>
                      <a:pt x="67" y="19"/>
                    </a:lnTo>
                    <a:lnTo>
                      <a:pt x="120" y="16"/>
                    </a:lnTo>
                    <a:lnTo>
                      <a:pt x="172" y="16"/>
                    </a:lnTo>
                    <a:lnTo>
                      <a:pt x="226" y="15"/>
                    </a:lnTo>
                    <a:lnTo>
                      <a:pt x="278" y="13"/>
                    </a:lnTo>
                    <a:lnTo>
                      <a:pt x="331" y="13"/>
                    </a:lnTo>
                    <a:lnTo>
                      <a:pt x="385" y="13"/>
                    </a:lnTo>
                    <a:lnTo>
                      <a:pt x="438" y="12"/>
                    </a:lnTo>
                    <a:lnTo>
                      <a:pt x="492" y="12"/>
                    </a:lnTo>
                    <a:lnTo>
                      <a:pt x="544" y="12"/>
                    </a:lnTo>
                    <a:lnTo>
                      <a:pt x="597" y="13"/>
                    </a:lnTo>
                    <a:lnTo>
                      <a:pt x="651" y="13"/>
                    </a:lnTo>
                    <a:lnTo>
                      <a:pt x="704" y="13"/>
                    </a:lnTo>
                    <a:lnTo>
                      <a:pt x="758" y="13"/>
                    </a:lnTo>
                    <a:lnTo>
                      <a:pt x="810" y="13"/>
                    </a:lnTo>
                    <a:lnTo>
                      <a:pt x="863" y="13"/>
                    </a:lnTo>
                    <a:lnTo>
                      <a:pt x="923" y="13"/>
                    </a:lnTo>
                    <a:lnTo>
                      <a:pt x="982" y="12"/>
                    </a:lnTo>
                    <a:lnTo>
                      <a:pt x="1043" y="12"/>
                    </a:lnTo>
                    <a:lnTo>
                      <a:pt x="1102" y="10"/>
                    </a:lnTo>
                    <a:lnTo>
                      <a:pt x="1161" y="10"/>
                    </a:lnTo>
                    <a:lnTo>
                      <a:pt x="1221" y="9"/>
                    </a:lnTo>
                    <a:lnTo>
                      <a:pt x="1280" y="9"/>
                    </a:lnTo>
                    <a:lnTo>
                      <a:pt x="1339" y="9"/>
                    </a:lnTo>
                    <a:lnTo>
                      <a:pt x="1398" y="8"/>
                    </a:lnTo>
                    <a:lnTo>
                      <a:pt x="1456" y="8"/>
                    </a:lnTo>
                    <a:lnTo>
                      <a:pt x="1516" y="8"/>
                    </a:lnTo>
                    <a:lnTo>
                      <a:pt x="1575" y="6"/>
                    </a:lnTo>
                    <a:lnTo>
                      <a:pt x="1634" y="6"/>
                    </a:lnTo>
                    <a:lnTo>
                      <a:pt x="1692" y="6"/>
                    </a:lnTo>
                    <a:lnTo>
                      <a:pt x="1751" y="5"/>
                    </a:lnTo>
                    <a:lnTo>
                      <a:pt x="1811" y="5"/>
                    </a:lnTo>
                    <a:lnTo>
                      <a:pt x="1870" y="5"/>
                    </a:lnTo>
                    <a:lnTo>
                      <a:pt x="1928" y="3"/>
                    </a:lnTo>
                    <a:lnTo>
                      <a:pt x="1987" y="3"/>
                    </a:lnTo>
                    <a:lnTo>
                      <a:pt x="2045" y="3"/>
                    </a:lnTo>
                    <a:lnTo>
                      <a:pt x="2104" y="3"/>
                    </a:lnTo>
                    <a:lnTo>
                      <a:pt x="2162" y="3"/>
                    </a:lnTo>
                    <a:lnTo>
                      <a:pt x="2221" y="2"/>
                    </a:lnTo>
                    <a:lnTo>
                      <a:pt x="2279" y="2"/>
                    </a:lnTo>
                    <a:lnTo>
                      <a:pt x="2338" y="2"/>
                    </a:lnTo>
                    <a:lnTo>
                      <a:pt x="2396" y="2"/>
                    </a:lnTo>
                    <a:lnTo>
                      <a:pt x="2455" y="2"/>
                    </a:lnTo>
                    <a:lnTo>
                      <a:pt x="2513" y="0"/>
                    </a:lnTo>
                    <a:lnTo>
                      <a:pt x="2573" y="0"/>
                    </a:lnTo>
                    <a:lnTo>
                      <a:pt x="2630" y="0"/>
                    </a:lnTo>
                    <a:lnTo>
                      <a:pt x="2690" y="0"/>
                    </a:lnTo>
                    <a:lnTo>
                      <a:pt x="2748" y="0"/>
                    </a:lnTo>
                    <a:lnTo>
                      <a:pt x="2761" y="289"/>
                    </a:lnTo>
                    <a:lnTo>
                      <a:pt x="2765" y="580"/>
                    </a:lnTo>
                    <a:lnTo>
                      <a:pt x="2765" y="870"/>
                    </a:lnTo>
                    <a:lnTo>
                      <a:pt x="2766" y="1161"/>
                    </a:lnTo>
                    <a:lnTo>
                      <a:pt x="2752" y="1168"/>
                    </a:lnTo>
                    <a:lnTo>
                      <a:pt x="2740" y="1165"/>
                    </a:lnTo>
                    <a:lnTo>
                      <a:pt x="2729" y="1161"/>
                    </a:lnTo>
                    <a:lnTo>
                      <a:pt x="2719" y="1156"/>
                    </a:lnTo>
                    <a:lnTo>
                      <a:pt x="2709" y="1150"/>
                    </a:lnTo>
                    <a:lnTo>
                      <a:pt x="2697" y="1146"/>
                    </a:lnTo>
                    <a:lnTo>
                      <a:pt x="2685" y="1142"/>
                    </a:lnTo>
                    <a:lnTo>
                      <a:pt x="2672" y="1139"/>
                    </a:lnTo>
                    <a:lnTo>
                      <a:pt x="2659" y="1136"/>
                    </a:lnTo>
                    <a:lnTo>
                      <a:pt x="2639" y="1129"/>
                    </a:lnTo>
                    <a:lnTo>
                      <a:pt x="2620" y="1122"/>
                    </a:lnTo>
                    <a:lnTo>
                      <a:pt x="2599" y="1114"/>
                    </a:lnTo>
                    <a:lnTo>
                      <a:pt x="2578" y="1107"/>
                    </a:lnTo>
                    <a:lnTo>
                      <a:pt x="2557" y="1101"/>
                    </a:lnTo>
                    <a:lnTo>
                      <a:pt x="2536" y="1094"/>
                    </a:lnTo>
                    <a:lnTo>
                      <a:pt x="2515" y="1087"/>
                    </a:lnTo>
                    <a:lnTo>
                      <a:pt x="2493" y="1080"/>
                    </a:lnTo>
                    <a:lnTo>
                      <a:pt x="2470" y="1072"/>
                    </a:lnTo>
                    <a:lnTo>
                      <a:pt x="2448" y="1065"/>
                    </a:lnTo>
                    <a:lnTo>
                      <a:pt x="2427" y="1058"/>
                    </a:lnTo>
                    <a:lnTo>
                      <a:pt x="2405" y="1051"/>
                    </a:lnTo>
                    <a:lnTo>
                      <a:pt x="2383" y="1044"/>
                    </a:lnTo>
                    <a:lnTo>
                      <a:pt x="2363" y="1036"/>
                    </a:lnTo>
                    <a:lnTo>
                      <a:pt x="2341" y="1029"/>
                    </a:lnTo>
                    <a:lnTo>
                      <a:pt x="2321" y="1020"/>
                    </a:lnTo>
                    <a:lnTo>
                      <a:pt x="2285" y="1007"/>
                    </a:lnTo>
                    <a:lnTo>
                      <a:pt x="2249" y="996"/>
                    </a:lnTo>
                    <a:lnTo>
                      <a:pt x="2213" y="984"/>
                    </a:lnTo>
                    <a:lnTo>
                      <a:pt x="2176" y="973"/>
                    </a:lnTo>
                    <a:lnTo>
                      <a:pt x="2140" y="963"/>
                    </a:lnTo>
                    <a:lnTo>
                      <a:pt x="2103" y="951"/>
                    </a:lnTo>
                    <a:lnTo>
                      <a:pt x="2066" y="941"/>
                    </a:lnTo>
                    <a:lnTo>
                      <a:pt x="2029" y="931"/>
                    </a:lnTo>
                    <a:lnTo>
                      <a:pt x="1991" y="922"/>
                    </a:lnTo>
                    <a:lnTo>
                      <a:pt x="1955" y="912"/>
                    </a:lnTo>
                    <a:lnTo>
                      <a:pt x="1919" y="902"/>
                    </a:lnTo>
                    <a:lnTo>
                      <a:pt x="1881" y="892"/>
                    </a:lnTo>
                    <a:lnTo>
                      <a:pt x="1845" y="882"/>
                    </a:lnTo>
                    <a:lnTo>
                      <a:pt x="1809" y="872"/>
                    </a:lnTo>
                    <a:lnTo>
                      <a:pt x="1773" y="860"/>
                    </a:lnTo>
                    <a:lnTo>
                      <a:pt x="1738" y="850"/>
                    </a:lnTo>
                    <a:lnTo>
                      <a:pt x="1704" y="838"/>
                    </a:lnTo>
                    <a:lnTo>
                      <a:pt x="1669" y="827"/>
                    </a:lnTo>
                    <a:lnTo>
                      <a:pt x="1634" y="814"/>
                    </a:lnTo>
                    <a:lnTo>
                      <a:pt x="1601" y="801"/>
                    </a:lnTo>
                    <a:lnTo>
                      <a:pt x="1568" y="786"/>
                    </a:lnTo>
                    <a:lnTo>
                      <a:pt x="1536" y="772"/>
                    </a:lnTo>
                    <a:lnTo>
                      <a:pt x="1504" y="757"/>
                    </a:lnTo>
                    <a:lnTo>
                      <a:pt x="1474" y="740"/>
                    </a:lnTo>
                    <a:lnTo>
                      <a:pt x="1445" y="723"/>
                    </a:lnTo>
                    <a:lnTo>
                      <a:pt x="1416" y="705"/>
                    </a:lnTo>
                    <a:lnTo>
                      <a:pt x="1387" y="685"/>
                    </a:lnTo>
                    <a:lnTo>
                      <a:pt x="1361" y="665"/>
                    </a:lnTo>
                    <a:lnTo>
                      <a:pt x="1333" y="643"/>
                    </a:lnTo>
                    <a:lnTo>
                      <a:pt x="1309" y="620"/>
                    </a:lnTo>
                    <a:lnTo>
                      <a:pt x="1286" y="596"/>
                    </a:lnTo>
                    <a:lnTo>
                      <a:pt x="1262" y="570"/>
                    </a:lnTo>
                    <a:lnTo>
                      <a:pt x="1248" y="547"/>
                    </a:lnTo>
                    <a:lnTo>
                      <a:pt x="1231" y="523"/>
                    </a:lnTo>
                    <a:lnTo>
                      <a:pt x="1213" y="500"/>
                    </a:lnTo>
                    <a:lnTo>
                      <a:pt x="1196" y="479"/>
                    </a:lnTo>
                    <a:lnTo>
                      <a:pt x="1176" y="458"/>
                    </a:lnTo>
                    <a:lnTo>
                      <a:pt x="1155" y="437"/>
                    </a:lnTo>
                    <a:lnTo>
                      <a:pt x="1135" y="416"/>
                    </a:lnTo>
                    <a:lnTo>
                      <a:pt x="1114" y="398"/>
                    </a:lnTo>
                    <a:lnTo>
                      <a:pt x="1092" y="379"/>
                    </a:lnTo>
                    <a:lnTo>
                      <a:pt x="1069" y="359"/>
                    </a:lnTo>
                    <a:lnTo>
                      <a:pt x="1047" y="341"/>
                    </a:lnTo>
                    <a:lnTo>
                      <a:pt x="1024" y="323"/>
                    </a:lnTo>
                    <a:lnTo>
                      <a:pt x="1001" y="304"/>
                    </a:lnTo>
                    <a:lnTo>
                      <a:pt x="978" y="286"/>
                    </a:lnTo>
                    <a:lnTo>
                      <a:pt x="954" y="268"/>
                    </a:lnTo>
                    <a:lnTo>
                      <a:pt x="931" y="250"/>
                    </a:lnTo>
                    <a:lnTo>
                      <a:pt x="926" y="242"/>
                    </a:lnTo>
                    <a:lnTo>
                      <a:pt x="920" y="232"/>
                    </a:lnTo>
                    <a:lnTo>
                      <a:pt x="914" y="221"/>
                    </a:lnTo>
                    <a:lnTo>
                      <a:pt x="908" y="211"/>
                    </a:lnTo>
                    <a:lnTo>
                      <a:pt x="902" y="201"/>
                    </a:lnTo>
                    <a:lnTo>
                      <a:pt x="897" y="190"/>
                    </a:lnTo>
                    <a:lnTo>
                      <a:pt x="891" y="178"/>
                    </a:lnTo>
                    <a:lnTo>
                      <a:pt x="885" y="167"/>
                    </a:lnTo>
                    <a:lnTo>
                      <a:pt x="872" y="145"/>
                    </a:lnTo>
                    <a:lnTo>
                      <a:pt x="866" y="141"/>
                    </a:lnTo>
                    <a:lnTo>
                      <a:pt x="860" y="136"/>
                    </a:lnTo>
                    <a:lnTo>
                      <a:pt x="855" y="132"/>
                    </a:lnTo>
                    <a:lnTo>
                      <a:pt x="849" y="127"/>
                    </a:lnTo>
                    <a:lnTo>
                      <a:pt x="843" y="123"/>
                    </a:lnTo>
                    <a:lnTo>
                      <a:pt x="839" y="119"/>
                    </a:lnTo>
                    <a:lnTo>
                      <a:pt x="833" y="116"/>
                    </a:lnTo>
                    <a:lnTo>
                      <a:pt x="827" y="112"/>
                    </a:lnTo>
                    <a:lnTo>
                      <a:pt x="801" y="112"/>
                    </a:lnTo>
                    <a:lnTo>
                      <a:pt x="774" y="114"/>
                    </a:lnTo>
                    <a:lnTo>
                      <a:pt x="748" y="120"/>
                    </a:lnTo>
                    <a:lnTo>
                      <a:pt x="722" y="127"/>
                    </a:lnTo>
                    <a:lnTo>
                      <a:pt x="696" y="139"/>
                    </a:lnTo>
                    <a:lnTo>
                      <a:pt x="671" y="151"/>
                    </a:lnTo>
                    <a:lnTo>
                      <a:pt x="648" y="165"/>
                    </a:lnTo>
                    <a:lnTo>
                      <a:pt x="628" y="180"/>
                    </a:lnTo>
                    <a:lnTo>
                      <a:pt x="616" y="180"/>
                    </a:lnTo>
                    <a:lnTo>
                      <a:pt x="606" y="181"/>
                    </a:lnTo>
                    <a:lnTo>
                      <a:pt x="594" y="181"/>
                    </a:lnTo>
                    <a:lnTo>
                      <a:pt x="583" y="182"/>
                    </a:lnTo>
                    <a:lnTo>
                      <a:pt x="573" y="184"/>
                    </a:lnTo>
                    <a:lnTo>
                      <a:pt x="561" y="185"/>
                    </a:lnTo>
                    <a:lnTo>
                      <a:pt x="548" y="187"/>
                    </a:lnTo>
                    <a:lnTo>
                      <a:pt x="537" y="188"/>
                    </a:lnTo>
                    <a:lnTo>
                      <a:pt x="529" y="191"/>
                    </a:lnTo>
                    <a:lnTo>
                      <a:pt x="522" y="194"/>
                    </a:lnTo>
                    <a:lnTo>
                      <a:pt x="516" y="197"/>
                    </a:lnTo>
                    <a:lnTo>
                      <a:pt x="511" y="200"/>
                    </a:lnTo>
                    <a:lnTo>
                      <a:pt x="505" y="204"/>
                    </a:lnTo>
                    <a:lnTo>
                      <a:pt x="499" y="208"/>
                    </a:lnTo>
                    <a:lnTo>
                      <a:pt x="492" y="211"/>
                    </a:lnTo>
                    <a:lnTo>
                      <a:pt x="483" y="216"/>
                    </a:lnTo>
                    <a:lnTo>
                      <a:pt x="476" y="221"/>
                    </a:lnTo>
                    <a:lnTo>
                      <a:pt x="470" y="229"/>
                    </a:lnTo>
                    <a:lnTo>
                      <a:pt x="464" y="236"/>
                    </a:lnTo>
                    <a:lnTo>
                      <a:pt x="458" y="245"/>
                    </a:lnTo>
                    <a:lnTo>
                      <a:pt x="457" y="262"/>
                    </a:lnTo>
                    <a:lnTo>
                      <a:pt x="457" y="279"/>
                    </a:lnTo>
                    <a:lnTo>
                      <a:pt x="457" y="298"/>
                    </a:lnTo>
                    <a:lnTo>
                      <a:pt x="457" y="317"/>
                    </a:lnTo>
                    <a:lnTo>
                      <a:pt x="435" y="317"/>
                    </a:lnTo>
                    <a:lnTo>
                      <a:pt x="424" y="318"/>
                    </a:lnTo>
                    <a:lnTo>
                      <a:pt x="414" y="323"/>
                    </a:lnTo>
                    <a:lnTo>
                      <a:pt x="405" y="330"/>
                    </a:lnTo>
                    <a:lnTo>
                      <a:pt x="393" y="337"/>
                    </a:lnTo>
                    <a:lnTo>
                      <a:pt x="388" y="338"/>
                    </a:lnTo>
                    <a:lnTo>
                      <a:pt x="382" y="344"/>
                    </a:lnTo>
                    <a:lnTo>
                      <a:pt x="375" y="351"/>
                    </a:lnTo>
                    <a:lnTo>
                      <a:pt x="369" y="360"/>
                    </a:lnTo>
                    <a:lnTo>
                      <a:pt x="367" y="377"/>
                    </a:lnTo>
                    <a:lnTo>
                      <a:pt x="363" y="396"/>
                    </a:lnTo>
                    <a:lnTo>
                      <a:pt x="360" y="415"/>
                    </a:lnTo>
                    <a:lnTo>
                      <a:pt x="357" y="434"/>
                    </a:lnTo>
                    <a:lnTo>
                      <a:pt x="353" y="434"/>
                    </a:lnTo>
                    <a:lnTo>
                      <a:pt x="347" y="435"/>
                    </a:lnTo>
                    <a:lnTo>
                      <a:pt x="343" y="437"/>
                    </a:lnTo>
                    <a:lnTo>
                      <a:pt x="337" y="438"/>
                    </a:lnTo>
                    <a:lnTo>
                      <a:pt x="331" y="440"/>
                    </a:lnTo>
                    <a:lnTo>
                      <a:pt x="325" y="441"/>
                    </a:lnTo>
                    <a:lnTo>
                      <a:pt x="320" y="442"/>
                    </a:lnTo>
                    <a:lnTo>
                      <a:pt x="314" y="444"/>
                    </a:lnTo>
                    <a:lnTo>
                      <a:pt x="295" y="460"/>
                    </a:lnTo>
                    <a:lnTo>
                      <a:pt x="281" y="481"/>
                    </a:lnTo>
                    <a:lnTo>
                      <a:pt x="269" y="507"/>
                    </a:lnTo>
                    <a:lnTo>
                      <a:pt x="262" y="536"/>
                    </a:lnTo>
                    <a:lnTo>
                      <a:pt x="255" y="567"/>
                    </a:lnTo>
                    <a:lnTo>
                      <a:pt x="250" y="597"/>
                    </a:lnTo>
                    <a:lnTo>
                      <a:pt x="247" y="627"/>
                    </a:lnTo>
                    <a:lnTo>
                      <a:pt x="243" y="656"/>
                    </a:lnTo>
                    <a:lnTo>
                      <a:pt x="247" y="666"/>
                    </a:lnTo>
                    <a:lnTo>
                      <a:pt x="253" y="678"/>
                    </a:lnTo>
                    <a:lnTo>
                      <a:pt x="257" y="688"/>
                    </a:lnTo>
                    <a:lnTo>
                      <a:pt x="263" y="700"/>
                    </a:lnTo>
                    <a:lnTo>
                      <a:pt x="268" y="710"/>
                    </a:lnTo>
                    <a:lnTo>
                      <a:pt x="273" y="721"/>
                    </a:lnTo>
                    <a:lnTo>
                      <a:pt x="279" y="731"/>
                    </a:lnTo>
                    <a:lnTo>
                      <a:pt x="286" y="743"/>
                    </a:lnTo>
                    <a:lnTo>
                      <a:pt x="291" y="756"/>
                    </a:lnTo>
                    <a:lnTo>
                      <a:pt x="297" y="769"/>
                    </a:lnTo>
                    <a:lnTo>
                      <a:pt x="302" y="782"/>
                    </a:lnTo>
                    <a:lnTo>
                      <a:pt x="311" y="794"/>
                    </a:lnTo>
                    <a:lnTo>
                      <a:pt x="320" y="807"/>
                    </a:lnTo>
                    <a:lnTo>
                      <a:pt x="328" y="818"/>
                    </a:lnTo>
                    <a:lnTo>
                      <a:pt x="337" y="833"/>
                    </a:lnTo>
                    <a:lnTo>
                      <a:pt x="346" y="846"/>
                    </a:lnTo>
                    <a:lnTo>
                      <a:pt x="364" y="847"/>
                    </a:lnTo>
                    <a:lnTo>
                      <a:pt x="372" y="864"/>
                    </a:lnTo>
                    <a:lnTo>
                      <a:pt x="376" y="882"/>
                    </a:lnTo>
                    <a:lnTo>
                      <a:pt x="380" y="899"/>
                    </a:lnTo>
                    <a:lnTo>
                      <a:pt x="383" y="916"/>
                    </a:lnTo>
                    <a:lnTo>
                      <a:pt x="392" y="938"/>
                    </a:lnTo>
                    <a:lnTo>
                      <a:pt x="405" y="951"/>
                    </a:lnTo>
                    <a:lnTo>
                      <a:pt x="418" y="963"/>
                    </a:lnTo>
                    <a:lnTo>
                      <a:pt x="431" y="976"/>
                    </a:lnTo>
                    <a:lnTo>
                      <a:pt x="444" y="989"/>
                    </a:lnTo>
                    <a:lnTo>
                      <a:pt x="458" y="1000"/>
                    </a:lnTo>
                    <a:lnTo>
                      <a:pt x="471" y="1013"/>
                    </a:lnTo>
                    <a:lnTo>
                      <a:pt x="486" y="1026"/>
                    </a:lnTo>
                    <a:lnTo>
                      <a:pt x="502" y="1038"/>
                    </a:lnTo>
                    <a:lnTo>
                      <a:pt x="516" y="1051"/>
                    </a:lnTo>
                    <a:lnTo>
                      <a:pt x="532" y="1062"/>
                    </a:lnTo>
                    <a:lnTo>
                      <a:pt x="548" y="1074"/>
                    </a:lnTo>
                    <a:lnTo>
                      <a:pt x="564" y="1085"/>
                    </a:lnTo>
                    <a:lnTo>
                      <a:pt x="580" y="1096"/>
                    </a:lnTo>
                    <a:lnTo>
                      <a:pt x="597" y="1106"/>
                    </a:lnTo>
                    <a:lnTo>
                      <a:pt x="615" y="1116"/>
                    </a:lnTo>
                    <a:lnTo>
                      <a:pt x="632" y="1126"/>
                    </a:lnTo>
                    <a:lnTo>
                      <a:pt x="655" y="1133"/>
                    </a:lnTo>
                    <a:lnTo>
                      <a:pt x="678" y="1137"/>
                    </a:lnTo>
                    <a:lnTo>
                      <a:pt x="701" y="1140"/>
                    </a:lnTo>
                    <a:lnTo>
                      <a:pt x="725" y="1142"/>
                    </a:lnTo>
                    <a:lnTo>
                      <a:pt x="749" y="1143"/>
                    </a:lnTo>
                    <a:lnTo>
                      <a:pt x="772" y="1142"/>
                    </a:lnTo>
                    <a:lnTo>
                      <a:pt x="797" y="1140"/>
                    </a:lnTo>
                    <a:lnTo>
                      <a:pt x="821" y="1139"/>
                    </a:lnTo>
                    <a:lnTo>
                      <a:pt x="846" y="1136"/>
                    </a:lnTo>
                    <a:lnTo>
                      <a:pt x="869" y="1133"/>
                    </a:lnTo>
                    <a:lnTo>
                      <a:pt x="894" y="1130"/>
                    </a:lnTo>
                    <a:lnTo>
                      <a:pt x="918" y="1129"/>
                    </a:lnTo>
                    <a:lnTo>
                      <a:pt x="943" y="1126"/>
                    </a:lnTo>
                    <a:lnTo>
                      <a:pt x="967" y="1124"/>
                    </a:lnTo>
                    <a:lnTo>
                      <a:pt x="992" y="1124"/>
                    </a:lnTo>
                    <a:lnTo>
                      <a:pt x="1017" y="1126"/>
                    </a:lnTo>
                    <a:lnTo>
                      <a:pt x="1028" y="1129"/>
                    </a:lnTo>
                    <a:lnTo>
                      <a:pt x="1037" y="1135"/>
                    </a:lnTo>
                    <a:lnTo>
                      <a:pt x="1046" y="1139"/>
                    </a:lnTo>
                    <a:lnTo>
                      <a:pt x="1054" y="1145"/>
                    </a:lnTo>
                    <a:lnTo>
                      <a:pt x="1063" y="1150"/>
                    </a:lnTo>
                    <a:lnTo>
                      <a:pt x="1073" y="1156"/>
                    </a:lnTo>
                    <a:lnTo>
                      <a:pt x="1085" y="1161"/>
                    </a:lnTo>
                    <a:lnTo>
                      <a:pt x="1098" y="1163"/>
                    </a:lnTo>
                    <a:lnTo>
                      <a:pt x="1114" y="1174"/>
                    </a:lnTo>
                    <a:lnTo>
                      <a:pt x="1129" y="1182"/>
                    </a:lnTo>
                    <a:lnTo>
                      <a:pt x="1145" y="1191"/>
                    </a:lnTo>
                    <a:lnTo>
                      <a:pt x="1161" y="1200"/>
                    </a:lnTo>
                    <a:lnTo>
                      <a:pt x="1179" y="1208"/>
                    </a:lnTo>
                    <a:lnTo>
                      <a:pt x="1195" y="1215"/>
                    </a:lnTo>
                    <a:lnTo>
                      <a:pt x="1212" y="1223"/>
                    </a:lnTo>
                    <a:lnTo>
                      <a:pt x="1228" y="1228"/>
                    </a:lnTo>
                    <a:lnTo>
                      <a:pt x="1244" y="1236"/>
                    </a:lnTo>
                    <a:lnTo>
                      <a:pt x="1261" y="1243"/>
                    </a:lnTo>
                    <a:lnTo>
                      <a:pt x="1277" y="1249"/>
                    </a:lnTo>
                    <a:lnTo>
                      <a:pt x="1294" y="1256"/>
                    </a:lnTo>
                    <a:lnTo>
                      <a:pt x="1310" y="1262"/>
                    </a:lnTo>
                    <a:lnTo>
                      <a:pt x="1326" y="1269"/>
                    </a:lnTo>
                    <a:lnTo>
                      <a:pt x="1342" y="1275"/>
                    </a:lnTo>
                    <a:lnTo>
                      <a:pt x="1358" y="1282"/>
                    </a:lnTo>
                    <a:lnTo>
                      <a:pt x="1345" y="1296"/>
                    </a:lnTo>
                    <a:lnTo>
                      <a:pt x="1330" y="1311"/>
                    </a:lnTo>
                    <a:lnTo>
                      <a:pt x="1315" y="1324"/>
                    </a:lnTo>
                    <a:lnTo>
                      <a:pt x="1299" y="1338"/>
                    </a:lnTo>
                    <a:lnTo>
                      <a:pt x="1280" y="1353"/>
                    </a:lnTo>
                    <a:lnTo>
                      <a:pt x="1262" y="1369"/>
                    </a:lnTo>
                    <a:lnTo>
                      <a:pt x="1242" y="1383"/>
                    </a:lnTo>
                    <a:lnTo>
                      <a:pt x="1223" y="1399"/>
                    </a:lnTo>
                    <a:lnTo>
                      <a:pt x="1208" y="1408"/>
                    </a:lnTo>
                    <a:lnTo>
                      <a:pt x="1193" y="1418"/>
                    </a:lnTo>
                    <a:lnTo>
                      <a:pt x="1179" y="1429"/>
                    </a:lnTo>
                    <a:lnTo>
                      <a:pt x="1166" y="1442"/>
                    </a:lnTo>
                    <a:lnTo>
                      <a:pt x="1153" y="1457"/>
                    </a:lnTo>
                    <a:lnTo>
                      <a:pt x="1141" y="1471"/>
                    </a:lnTo>
                    <a:lnTo>
                      <a:pt x="1129" y="1486"/>
                    </a:lnTo>
                    <a:lnTo>
                      <a:pt x="1118" y="1500"/>
                    </a:lnTo>
                    <a:lnTo>
                      <a:pt x="1106" y="1522"/>
                    </a:lnTo>
                    <a:lnTo>
                      <a:pt x="1101" y="1535"/>
                    </a:lnTo>
                    <a:lnTo>
                      <a:pt x="1095" y="1549"/>
                    </a:lnTo>
                    <a:lnTo>
                      <a:pt x="1089" y="1562"/>
                    </a:lnTo>
                    <a:lnTo>
                      <a:pt x="1083" y="1575"/>
                    </a:lnTo>
                    <a:lnTo>
                      <a:pt x="1079" y="1588"/>
                    </a:lnTo>
                    <a:lnTo>
                      <a:pt x="1072" y="1601"/>
                    </a:lnTo>
                    <a:lnTo>
                      <a:pt x="1064" y="1616"/>
                    </a:lnTo>
                    <a:lnTo>
                      <a:pt x="1056" y="1629"/>
                    </a:lnTo>
                    <a:lnTo>
                      <a:pt x="1041" y="1662"/>
                    </a:lnTo>
                    <a:lnTo>
                      <a:pt x="1027" y="1697"/>
                    </a:lnTo>
                    <a:lnTo>
                      <a:pt x="1011" y="1730"/>
                    </a:lnTo>
                    <a:lnTo>
                      <a:pt x="996" y="1765"/>
                    </a:lnTo>
                    <a:lnTo>
                      <a:pt x="980" y="1799"/>
                    </a:lnTo>
                    <a:lnTo>
                      <a:pt x="965" y="1834"/>
                    </a:lnTo>
                    <a:lnTo>
                      <a:pt x="949" y="1869"/>
                    </a:lnTo>
                    <a:lnTo>
                      <a:pt x="931" y="1903"/>
                    </a:lnTo>
                    <a:lnTo>
                      <a:pt x="921" y="1949"/>
                    </a:lnTo>
                    <a:lnTo>
                      <a:pt x="908" y="1993"/>
                    </a:lnTo>
                    <a:lnTo>
                      <a:pt x="891" y="2035"/>
                    </a:lnTo>
                    <a:lnTo>
                      <a:pt x="872" y="2074"/>
                    </a:lnTo>
                    <a:lnTo>
                      <a:pt x="850" y="2110"/>
                    </a:lnTo>
                    <a:lnTo>
                      <a:pt x="826" y="2146"/>
                    </a:lnTo>
                    <a:lnTo>
                      <a:pt x="798" y="2179"/>
                    </a:lnTo>
                    <a:lnTo>
                      <a:pt x="771" y="2211"/>
                    </a:lnTo>
                    <a:lnTo>
                      <a:pt x="740" y="2241"/>
                    </a:lnTo>
                    <a:lnTo>
                      <a:pt x="709" y="2272"/>
                    </a:lnTo>
                    <a:lnTo>
                      <a:pt x="675" y="2301"/>
                    </a:lnTo>
                    <a:lnTo>
                      <a:pt x="641" y="2328"/>
                    </a:lnTo>
                    <a:lnTo>
                      <a:pt x="606" y="2354"/>
                    </a:lnTo>
                    <a:lnTo>
                      <a:pt x="571" y="2381"/>
                    </a:lnTo>
                    <a:lnTo>
                      <a:pt x="535" y="2408"/>
                    </a:lnTo>
                    <a:lnTo>
                      <a:pt x="499" y="2434"/>
                    </a:lnTo>
                    <a:lnTo>
                      <a:pt x="479" y="2444"/>
                    </a:lnTo>
                    <a:lnTo>
                      <a:pt x="458" y="2452"/>
                    </a:lnTo>
                    <a:lnTo>
                      <a:pt x="437" y="2462"/>
                    </a:lnTo>
                    <a:lnTo>
                      <a:pt x="417" y="2473"/>
                    </a:lnTo>
                    <a:lnTo>
                      <a:pt x="395" y="2484"/>
                    </a:lnTo>
                    <a:lnTo>
                      <a:pt x="373" y="2496"/>
                    </a:lnTo>
                    <a:lnTo>
                      <a:pt x="353" y="2507"/>
                    </a:lnTo>
                    <a:lnTo>
                      <a:pt x="333" y="2520"/>
                    </a:lnTo>
                    <a:lnTo>
                      <a:pt x="310" y="2520"/>
                    </a:lnTo>
                    <a:lnTo>
                      <a:pt x="286" y="2520"/>
                    </a:lnTo>
                    <a:lnTo>
                      <a:pt x="263" y="2522"/>
                    </a:lnTo>
                    <a:lnTo>
                      <a:pt x="240" y="2522"/>
                    </a:lnTo>
                    <a:lnTo>
                      <a:pt x="217" y="2522"/>
                    </a:lnTo>
                    <a:lnTo>
                      <a:pt x="192" y="2522"/>
                    </a:lnTo>
                    <a:lnTo>
                      <a:pt x="168" y="2522"/>
                    </a:lnTo>
                    <a:lnTo>
                      <a:pt x="143" y="2520"/>
                    </a:lnTo>
                    <a:lnTo>
                      <a:pt x="136" y="252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8008920" y="3048120"/>
                <a:ext cx="11160" cy="14040"/>
              </a:xfrm>
              <a:custGeom>
                <a:avLst/>
                <a:gdLst/>
                <a:ahLst/>
                <a:rect l="l" t="t" r="r" b="b"/>
                <a:pathLst>
                  <a:path w="21" h="27">
                    <a:moveTo>
                      <a:pt x="10" y="27"/>
                    </a:moveTo>
                    <a:lnTo>
                      <a:pt x="3" y="23"/>
                    </a:lnTo>
                    <a:lnTo>
                      <a:pt x="0" y="16"/>
                    </a:lnTo>
                    <a:lnTo>
                      <a:pt x="2" y="7"/>
                    </a:lnTo>
                    <a:lnTo>
                      <a:pt x="8" y="0"/>
                    </a:lnTo>
                    <a:lnTo>
                      <a:pt x="18" y="6"/>
                    </a:lnTo>
                    <a:lnTo>
                      <a:pt x="21" y="10"/>
                    </a:lnTo>
                    <a:lnTo>
                      <a:pt x="19" y="16"/>
                    </a:lnTo>
                    <a:lnTo>
                      <a:pt x="16" y="23"/>
                    </a:lnTo>
                    <a:lnTo>
                      <a:pt x="10" y="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99" name=""/>
              <p:cNvSpPr/>
              <p:nvPr/>
            </p:nvSpPr>
            <p:spPr>
              <a:xfrm>
                <a:off x="7800840" y="3046320"/>
                <a:ext cx="9720" cy="12960"/>
              </a:xfrm>
              <a:custGeom>
                <a:avLst/>
                <a:gdLst/>
                <a:ahLst/>
                <a:rect l="l" t="t" r="r" b="b"/>
                <a:pathLst>
                  <a:path w="17" h="25">
                    <a:moveTo>
                      <a:pt x="13" y="25"/>
                    </a:moveTo>
                    <a:lnTo>
                      <a:pt x="4" y="23"/>
                    </a:lnTo>
                    <a:lnTo>
                      <a:pt x="0" y="16"/>
                    </a:lnTo>
                    <a:lnTo>
                      <a:pt x="0" y="8"/>
                    </a:lnTo>
                    <a:lnTo>
                      <a:pt x="7" y="0"/>
                    </a:lnTo>
                    <a:lnTo>
                      <a:pt x="12" y="3"/>
                    </a:lnTo>
                    <a:lnTo>
                      <a:pt x="17" y="12"/>
                    </a:lnTo>
                    <a:lnTo>
                      <a:pt x="17" y="19"/>
                    </a:lnTo>
                    <a:lnTo>
                      <a:pt x="13"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0" name=""/>
              <p:cNvSpPr/>
              <p:nvPr/>
            </p:nvSpPr>
            <p:spPr>
              <a:xfrm>
                <a:off x="8120160" y="3040200"/>
                <a:ext cx="11160" cy="10800"/>
              </a:xfrm>
              <a:custGeom>
                <a:avLst/>
                <a:gdLst/>
                <a:ahLst/>
                <a:rect l="l" t="t" r="r" b="b"/>
                <a:pathLst>
                  <a:path w="21" h="23">
                    <a:moveTo>
                      <a:pt x="5" y="23"/>
                    </a:moveTo>
                    <a:lnTo>
                      <a:pt x="0" y="19"/>
                    </a:lnTo>
                    <a:lnTo>
                      <a:pt x="0" y="12"/>
                    </a:lnTo>
                    <a:lnTo>
                      <a:pt x="2" y="5"/>
                    </a:lnTo>
                    <a:lnTo>
                      <a:pt x="9" y="0"/>
                    </a:lnTo>
                    <a:lnTo>
                      <a:pt x="19" y="6"/>
                    </a:lnTo>
                    <a:lnTo>
                      <a:pt x="21" y="12"/>
                    </a:lnTo>
                    <a:lnTo>
                      <a:pt x="18" y="18"/>
                    </a:lnTo>
                    <a:lnTo>
                      <a:pt x="12" y="22"/>
                    </a:lnTo>
                    <a:lnTo>
                      <a:pt x="5"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1" name=""/>
              <p:cNvSpPr/>
              <p:nvPr/>
            </p:nvSpPr>
            <p:spPr>
              <a:xfrm>
                <a:off x="8226360" y="3027240"/>
                <a:ext cx="9720" cy="11160"/>
              </a:xfrm>
              <a:custGeom>
                <a:avLst/>
                <a:gdLst/>
                <a:ahLst/>
                <a:rect l="l" t="t" r="r" b="b"/>
                <a:pathLst>
                  <a:path w="18" h="23">
                    <a:moveTo>
                      <a:pt x="7" y="23"/>
                    </a:moveTo>
                    <a:lnTo>
                      <a:pt x="0" y="3"/>
                    </a:lnTo>
                    <a:lnTo>
                      <a:pt x="8" y="0"/>
                    </a:lnTo>
                    <a:lnTo>
                      <a:pt x="15" y="3"/>
                    </a:lnTo>
                    <a:lnTo>
                      <a:pt x="18" y="8"/>
                    </a:lnTo>
                    <a:lnTo>
                      <a:pt x="18" y="16"/>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2" name=""/>
              <p:cNvSpPr/>
              <p:nvPr/>
            </p:nvSpPr>
            <p:spPr>
              <a:xfrm>
                <a:off x="8315280" y="3025800"/>
                <a:ext cx="6480" cy="11160"/>
              </a:xfrm>
              <a:custGeom>
                <a:avLst/>
                <a:gdLst/>
                <a:ahLst/>
                <a:rect l="l" t="t" r="r" b="b"/>
                <a:pathLst>
                  <a:path w="13" h="22">
                    <a:moveTo>
                      <a:pt x="0" y="22"/>
                    </a:moveTo>
                    <a:lnTo>
                      <a:pt x="0" y="0"/>
                    </a:lnTo>
                    <a:lnTo>
                      <a:pt x="7" y="2"/>
                    </a:lnTo>
                    <a:lnTo>
                      <a:pt x="11" y="6"/>
                    </a:lnTo>
                    <a:lnTo>
                      <a:pt x="13" y="13"/>
                    </a:lnTo>
                    <a:lnTo>
                      <a:pt x="10" y="22"/>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3" name=""/>
              <p:cNvSpPr/>
              <p:nvPr/>
            </p:nvSpPr>
            <p:spPr>
              <a:xfrm>
                <a:off x="7734240" y="3032280"/>
                <a:ext cx="11160" cy="10800"/>
              </a:xfrm>
              <a:custGeom>
                <a:avLst/>
                <a:gdLst/>
                <a:ahLst/>
                <a:rect l="l" t="t" r="r" b="b"/>
                <a:pathLst>
                  <a:path w="22" h="20">
                    <a:moveTo>
                      <a:pt x="3" y="20"/>
                    </a:moveTo>
                    <a:lnTo>
                      <a:pt x="0" y="16"/>
                    </a:lnTo>
                    <a:lnTo>
                      <a:pt x="2" y="9"/>
                    </a:lnTo>
                    <a:lnTo>
                      <a:pt x="4" y="3"/>
                    </a:lnTo>
                    <a:lnTo>
                      <a:pt x="12" y="0"/>
                    </a:lnTo>
                    <a:lnTo>
                      <a:pt x="22" y="6"/>
                    </a:lnTo>
                    <a:lnTo>
                      <a:pt x="20" y="9"/>
                    </a:lnTo>
                    <a:lnTo>
                      <a:pt x="16" y="14"/>
                    </a:lnTo>
                    <a:lnTo>
                      <a:pt x="10" y="19"/>
                    </a:lnTo>
                    <a:lnTo>
                      <a:pt x="3"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4" name=""/>
              <p:cNvSpPr/>
              <p:nvPr/>
            </p:nvSpPr>
            <p:spPr>
              <a:xfrm>
                <a:off x="7040520" y="3033720"/>
                <a:ext cx="11160" cy="11160"/>
              </a:xfrm>
              <a:custGeom>
                <a:avLst/>
                <a:gdLst/>
                <a:ahLst/>
                <a:rect l="l" t="t" r="r" b="b"/>
                <a:pathLst>
                  <a:path w="20" h="21">
                    <a:moveTo>
                      <a:pt x="13" y="21"/>
                    </a:moveTo>
                    <a:lnTo>
                      <a:pt x="0" y="11"/>
                    </a:lnTo>
                    <a:lnTo>
                      <a:pt x="20" y="0"/>
                    </a:lnTo>
                    <a:lnTo>
                      <a:pt x="20" y="6"/>
                    </a:lnTo>
                    <a:lnTo>
                      <a:pt x="20" y="13"/>
                    </a:lnTo>
                    <a:lnTo>
                      <a:pt x="17" y="20"/>
                    </a:lnTo>
                    <a:lnTo>
                      <a:pt x="1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5" name=""/>
              <p:cNvSpPr/>
              <p:nvPr/>
            </p:nvSpPr>
            <p:spPr>
              <a:xfrm>
                <a:off x="7854840" y="3019320"/>
                <a:ext cx="7920" cy="11160"/>
              </a:xfrm>
              <a:custGeom>
                <a:avLst/>
                <a:gdLst/>
                <a:ahLst/>
                <a:rect l="l" t="t" r="r" b="b"/>
                <a:pathLst>
                  <a:path w="15" h="22">
                    <a:moveTo>
                      <a:pt x="0" y="22"/>
                    </a:moveTo>
                    <a:lnTo>
                      <a:pt x="0" y="0"/>
                    </a:lnTo>
                    <a:lnTo>
                      <a:pt x="7" y="2"/>
                    </a:lnTo>
                    <a:lnTo>
                      <a:pt x="12" y="8"/>
                    </a:lnTo>
                    <a:lnTo>
                      <a:pt x="15" y="15"/>
                    </a:lnTo>
                    <a:lnTo>
                      <a:pt x="15" y="21"/>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6" name=""/>
              <p:cNvSpPr/>
              <p:nvPr/>
            </p:nvSpPr>
            <p:spPr>
              <a:xfrm>
                <a:off x="7161120" y="3027240"/>
                <a:ext cx="11160" cy="7920"/>
              </a:xfrm>
              <a:custGeom>
                <a:avLst/>
                <a:gdLst/>
                <a:ahLst/>
                <a:rect l="l" t="t" r="r" b="b"/>
                <a:pathLst>
                  <a:path w="21" h="16">
                    <a:moveTo>
                      <a:pt x="11" y="16"/>
                    </a:moveTo>
                    <a:lnTo>
                      <a:pt x="0" y="3"/>
                    </a:lnTo>
                    <a:lnTo>
                      <a:pt x="18" y="0"/>
                    </a:lnTo>
                    <a:lnTo>
                      <a:pt x="21" y="4"/>
                    </a:lnTo>
                    <a:lnTo>
                      <a:pt x="21" y="10"/>
                    </a:lnTo>
                    <a:lnTo>
                      <a:pt x="17" y="16"/>
                    </a:lnTo>
                    <a:lnTo>
                      <a:pt x="1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07" name=""/>
              <p:cNvSpPr/>
              <p:nvPr/>
            </p:nvSpPr>
            <p:spPr>
              <a:xfrm>
                <a:off x="8364600" y="2995560"/>
                <a:ext cx="9360" cy="11160"/>
              </a:xfrm>
              <a:custGeom>
                <a:avLst/>
                <a:gdLst/>
                <a:ahLst/>
                <a:rect l="l" t="t" r="r" b="b"/>
                <a:pathLst>
                  <a:path w="19" h="21">
                    <a:moveTo>
                      <a:pt x="0" y="21"/>
                    </a:moveTo>
                    <a:lnTo>
                      <a:pt x="5" y="0"/>
                    </a:lnTo>
                    <a:lnTo>
                      <a:pt x="19" y="13"/>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8" name=""/>
              <p:cNvSpPr/>
              <p:nvPr/>
            </p:nvSpPr>
            <p:spPr>
              <a:xfrm>
                <a:off x="7783560" y="2987640"/>
                <a:ext cx="9360" cy="11160"/>
              </a:xfrm>
              <a:custGeom>
                <a:avLst/>
                <a:gdLst/>
                <a:ahLst/>
                <a:rect l="l" t="t" r="r" b="b"/>
                <a:pathLst>
                  <a:path w="18" h="21">
                    <a:moveTo>
                      <a:pt x="8" y="21"/>
                    </a:moveTo>
                    <a:lnTo>
                      <a:pt x="0" y="4"/>
                    </a:lnTo>
                    <a:lnTo>
                      <a:pt x="8" y="0"/>
                    </a:lnTo>
                    <a:lnTo>
                      <a:pt x="14" y="1"/>
                    </a:lnTo>
                    <a:lnTo>
                      <a:pt x="18" y="8"/>
                    </a:lnTo>
                    <a:lnTo>
                      <a:pt x="18" y="15"/>
                    </a:lnTo>
                    <a:lnTo>
                      <a:pt x="8"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09" name=""/>
              <p:cNvSpPr/>
              <p:nvPr/>
            </p:nvSpPr>
            <p:spPr>
              <a:xfrm>
                <a:off x="8178840" y="2975040"/>
                <a:ext cx="9360" cy="11160"/>
              </a:xfrm>
              <a:custGeom>
                <a:avLst/>
                <a:gdLst/>
                <a:ahLst/>
                <a:rect l="l" t="t" r="r" b="b"/>
                <a:pathLst>
                  <a:path w="19" h="19">
                    <a:moveTo>
                      <a:pt x="5" y="19"/>
                    </a:moveTo>
                    <a:lnTo>
                      <a:pt x="0" y="0"/>
                    </a:lnTo>
                    <a:lnTo>
                      <a:pt x="9" y="0"/>
                    </a:lnTo>
                    <a:lnTo>
                      <a:pt x="15" y="3"/>
                    </a:lnTo>
                    <a:lnTo>
                      <a:pt x="19" y="9"/>
                    </a:lnTo>
                    <a:lnTo>
                      <a:pt x="19" y="19"/>
                    </a:lnTo>
                    <a:lnTo>
                      <a:pt x="5"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0" name=""/>
              <p:cNvSpPr/>
              <p:nvPr/>
            </p:nvSpPr>
            <p:spPr>
              <a:xfrm>
                <a:off x="7227720" y="2979720"/>
                <a:ext cx="16200" cy="12600"/>
              </a:xfrm>
              <a:custGeom>
                <a:avLst/>
                <a:gdLst/>
                <a:ahLst/>
                <a:rect l="l" t="t" r="r" b="b"/>
                <a:pathLst>
                  <a:path w="29" h="26">
                    <a:moveTo>
                      <a:pt x="14" y="26"/>
                    </a:moveTo>
                    <a:lnTo>
                      <a:pt x="0" y="7"/>
                    </a:lnTo>
                    <a:lnTo>
                      <a:pt x="4" y="2"/>
                    </a:lnTo>
                    <a:lnTo>
                      <a:pt x="13" y="0"/>
                    </a:lnTo>
                    <a:lnTo>
                      <a:pt x="22" y="4"/>
                    </a:lnTo>
                    <a:lnTo>
                      <a:pt x="29" y="12"/>
                    </a:lnTo>
                    <a:lnTo>
                      <a:pt x="1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11" name=""/>
              <p:cNvSpPr/>
              <p:nvPr/>
            </p:nvSpPr>
            <p:spPr>
              <a:xfrm>
                <a:off x="8085240" y="2963880"/>
                <a:ext cx="7920" cy="11160"/>
              </a:xfrm>
              <a:custGeom>
                <a:avLst/>
                <a:gdLst/>
                <a:ahLst/>
                <a:rect l="l" t="t" r="r" b="b"/>
                <a:pathLst>
                  <a:path w="16" h="21">
                    <a:moveTo>
                      <a:pt x="3" y="21"/>
                    </a:moveTo>
                    <a:lnTo>
                      <a:pt x="0" y="0"/>
                    </a:lnTo>
                    <a:lnTo>
                      <a:pt x="9" y="1"/>
                    </a:lnTo>
                    <a:lnTo>
                      <a:pt x="15" y="4"/>
                    </a:lnTo>
                    <a:lnTo>
                      <a:pt x="16" y="11"/>
                    </a:lnTo>
                    <a:lnTo>
                      <a:pt x="15"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2" name=""/>
              <p:cNvSpPr/>
              <p:nvPr/>
            </p:nvSpPr>
            <p:spPr>
              <a:xfrm>
                <a:off x="8021520" y="2959200"/>
                <a:ext cx="9720" cy="11160"/>
              </a:xfrm>
              <a:custGeom>
                <a:avLst/>
                <a:gdLst/>
                <a:ahLst/>
                <a:rect l="l" t="t" r="r" b="b"/>
                <a:pathLst>
                  <a:path w="17" h="22">
                    <a:moveTo>
                      <a:pt x="7" y="22"/>
                    </a:moveTo>
                    <a:lnTo>
                      <a:pt x="0" y="4"/>
                    </a:lnTo>
                    <a:lnTo>
                      <a:pt x="9" y="0"/>
                    </a:lnTo>
                    <a:lnTo>
                      <a:pt x="14" y="3"/>
                    </a:lnTo>
                    <a:lnTo>
                      <a:pt x="17" y="10"/>
                    </a:lnTo>
                    <a:lnTo>
                      <a:pt x="16" y="17"/>
                    </a:lnTo>
                    <a:lnTo>
                      <a:pt x="7"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3" name=""/>
              <p:cNvSpPr/>
              <p:nvPr/>
            </p:nvSpPr>
            <p:spPr>
              <a:xfrm>
                <a:off x="7010280" y="2965320"/>
                <a:ext cx="11160" cy="11160"/>
              </a:xfrm>
              <a:custGeom>
                <a:avLst/>
                <a:gdLst/>
                <a:ahLst/>
                <a:rect l="l" t="t" r="r" b="b"/>
                <a:pathLst>
                  <a:path w="23" h="22">
                    <a:moveTo>
                      <a:pt x="14" y="22"/>
                    </a:moveTo>
                    <a:lnTo>
                      <a:pt x="7" y="20"/>
                    </a:lnTo>
                    <a:lnTo>
                      <a:pt x="1" y="16"/>
                    </a:lnTo>
                    <a:lnTo>
                      <a:pt x="0" y="10"/>
                    </a:lnTo>
                    <a:lnTo>
                      <a:pt x="3" y="2"/>
                    </a:lnTo>
                    <a:lnTo>
                      <a:pt x="23" y="0"/>
                    </a:lnTo>
                    <a:lnTo>
                      <a:pt x="1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4" name=""/>
              <p:cNvSpPr/>
              <p:nvPr/>
            </p:nvSpPr>
            <p:spPr>
              <a:xfrm>
                <a:off x="7937640" y="2949480"/>
                <a:ext cx="9360" cy="12960"/>
              </a:xfrm>
              <a:custGeom>
                <a:avLst/>
                <a:gdLst/>
                <a:ahLst/>
                <a:rect l="l" t="t" r="r" b="b"/>
                <a:pathLst>
                  <a:path w="19" h="23">
                    <a:moveTo>
                      <a:pt x="8" y="23"/>
                    </a:moveTo>
                    <a:lnTo>
                      <a:pt x="0" y="3"/>
                    </a:lnTo>
                    <a:lnTo>
                      <a:pt x="9" y="0"/>
                    </a:lnTo>
                    <a:lnTo>
                      <a:pt x="16" y="4"/>
                    </a:lnTo>
                    <a:lnTo>
                      <a:pt x="19" y="11"/>
                    </a:lnTo>
                    <a:lnTo>
                      <a:pt x="15" y="20"/>
                    </a:lnTo>
                    <a:lnTo>
                      <a:pt x="8"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15" name=""/>
              <p:cNvSpPr/>
              <p:nvPr/>
            </p:nvSpPr>
            <p:spPr>
              <a:xfrm>
                <a:off x="7095960" y="2962440"/>
                <a:ext cx="9720" cy="10800"/>
              </a:xfrm>
              <a:custGeom>
                <a:avLst/>
                <a:gdLst/>
                <a:ahLst/>
                <a:rect l="l" t="t" r="r" b="b"/>
                <a:pathLst>
                  <a:path w="17" h="21">
                    <a:moveTo>
                      <a:pt x="0" y="21"/>
                    </a:moveTo>
                    <a:lnTo>
                      <a:pt x="0" y="0"/>
                    </a:lnTo>
                    <a:lnTo>
                      <a:pt x="7" y="0"/>
                    </a:lnTo>
                    <a:lnTo>
                      <a:pt x="13" y="3"/>
                    </a:lnTo>
                    <a:lnTo>
                      <a:pt x="17" y="9"/>
                    </a:lnTo>
                    <a:lnTo>
                      <a:pt x="17" y="18"/>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6" name=""/>
              <p:cNvSpPr/>
              <p:nvPr/>
            </p:nvSpPr>
            <p:spPr>
              <a:xfrm>
                <a:off x="8385120" y="2943360"/>
                <a:ext cx="9720" cy="10800"/>
              </a:xfrm>
              <a:custGeom>
                <a:avLst/>
                <a:gdLst/>
                <a:ahLst/>
                <a:rect l="l" t="t" r="r" b="b"/>
                <a:pathLst>
                  <a:path w="16" h="22">
                    <a:moveTo>
                      <a:pt x="0" y="22"/>
                    </a:moveTo>
                    <a:lnTo>
                      <a:pt x="0" y="0"/>
                    </a:lnTo>
                    <a:lnTo>
                      <a:pt x="16" y="13"/>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7" name=""/>
              <p:cNvSpPr/>
              <p:nvPr/>
            </p:nvSpPr>
            <p:spPr>
              <a:xfrm>
                <a:off x="8282160" y="2941560"/>
                <a:ext cx="7920" cy="12600"/>
              </a:xfrm>
              <a:custGeom>
                <a:avLst/>
                <a:gdLst/>
                <a:ahLst/>
                <a:rect l="l" t="t" r="r" b="b"/>
                <a:pathLst>
                  <a:path w="15" h="24">
                    <a:moveTo>
                      <a:pt x="6" y="24"/>
                    </a:moveTo>
                    <a:lnTo>
                      <a:pt x="3" y="20"/>
                    </a:lnTo>
                    <a:lnTo>
                      <a:pt x="0" y="13"/>
                    </a:lnTo>
                    <a:lnTo>
                      <a:pt x="2" y="4"/>
                    </a:lnTo>
                    <a:lnTo>
                      <a:pt x="9" y="0"/>
                    </a:lnTo>
                    <a:lnTo>
                      <a:pt x="12" y="4"/>
                    </a:lnTo>
                    <a:lnTo>
                      <a:pt x="15" y="11"/>
                    </a:lnTo>
                    <a:lnTo>
                      <a:pt x="15" y="20"/>
                    </a:lnTo>
                    <a:lnTo>
                      <a:pt x="6"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18" name=""/>
              <p:cNvSpPr/>
              <p:nvPr/>
            </p:nvSpPr>
            <p:spPr>
              <a:xfrm>
                <a:off x="7851600" y="2941560"/>
                <a:ext cx="8280" cy="11160"/>
              </a:xfrm>
              <a:custGeom>
                <a:avLst/>
                <a:gdLst/>
                <a:ahLst/>
                <a:rect l="l" t="t" r="r" b="b"/>
                <a:pathLst>
                  <a:path w="14" h="22">
                    <a:moveTo>
                      <a:pt x="3" y="22"/>
                    </a:moveTo>
                    <a:lnTo>
                      <a:pt x="0" y="3"/>
                    </a:lnTo>
                    <a:lnTo>
                      <a:pt x="7" y="0"/>
                    </a:lnTo>
                    <a:lnTo>
                      <a:pt x="13" y="4"/>
                    </a:lnTo>
                    <a:lnTo>
                      <a:pt x="14" y="11"/>
                    </a:lnTo>
                    <a:lnTo>
                      <a:pt x="13" y="20"/>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19" name=""/>
              <p:cNvSpPr/>
              <p:nvPr/>
            </p:nvSpPr>
            <p:spPr>
              <a:xfrm>
                <a:off x="8115480" y="2927520"/>
                <a:ext cx="10800" cy="12600"/>
              </a:xfrm>
              <a:custGeom>
                <a:avLst/>
                <a:gdLst/>
                <a:ahLst/>
                <a:rect l="l" t="t" r="r" b="b"/>
                <a:pathLst>
                  <a:path w="22" h="22">
                    <a:moveTo>
                      <a:pt x="12" y="22"/>
                    </a:moveTo>
                    <a:lnTo>
                      <a:pt x="0" y="0"/>
                    </a:lnTo>
                    <a:lnTo>
                      <a:pt x="22" y="6"/>
                    </a:lnTo>
                    <a:lnTo>
                      <a:pt x="1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0" name=""/>
              <p:cNvSpPr/>
              <p:nvPr/>
            </p:nvSpPr>
            <p:spPr>
              <a:xfrm>
                <a:off x="8191440" y="2914560"/>
                <a:ext cx="9720" cy="11160"/>
              </a:xfrm>
              <a:custGeom>
                <a:avLst/>
                <a:gdLst/>
                <a:ahLst/>
                <a:rect l="l" t="t" r="r" b="b"/>
                <a:pathLst>
                  <a:path w="16" h="21">
                    <a:moveTo>
                      <a:pt x="4" y="21"/>
                    </a:moveTo>
                    <a:lnTo>
                      <a:pt x="0" y="2"/>
                    </a:lnTo>
                    <a:lnTo>
                      <a:pt x="7" y="0"/>
                    </a:lnTo>
                    <a:lnTo>
                      <a:pt x="13" y="5"/>
                    </a:lnTo>
                    <a:lnTo>
                      <a:pt x="16" y="10"/>
                    </a:lnTo>
                    <a:lnTo>
                      <a:pt x="13" y="21"/>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1" name=""/>
              <p:cNvSpPr/>
              <p:nvPr/>
            </p:nvSpPr>
            <p:spPr>
              <a:xfrm>
                <a:off x="7254720" y="2919240"/>
                <a:ext cx="11160" cy="11160"/>
              </a:xfrm>
              <a:custGeom>
                <a:avLst/>
                <a:gdLst/>
                <a:ahLst/>
                <a:rect l="l" t="t" r="r" b="b"/>
                <a:pathLst>
                  <a:path w="22" h="23">
                    <a:moveTo>
                      <a:pt x="12" y="23"/>
                    </a:moveTo>
                    <a:lnTo>
                      <a:pt x="5" y="22"/>
                    </a:lnTo>
                    <a:lnTo>
                      <a:pt x="2" y="16"/>
                    </a:lnTo>
                    <a:lnTo>
                      <a:pt x="2" y="9"/>
                    </a:lnTo>
                    <a:lnTo>
                      <a:pt x="0" y="0"/>
                    </a:lnTo>
                    <a:lnTo>
                      <a:pt x="22" y="6"/>
                    </a:lnTo>
                    <a:lnTo>
                      <a:pt x="12"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2" name=""/>
              <p:cNvSpPr/>
              <p:nvPr/>
            </p:nvSpPr>
            <p:spPr>
              <a:xfrm>
                <a:off x="7170840" y="2911320"/>
                <a:ext cx="12600" cy="12960"/>
              </a:xfrm>
              <a:custGeom>
                <a:avLst/>
                <a:gdLst/>
                <a:ahLst/>
                <a:rect l="l" t="t" r="r" b="b"/>
                <a:pathLst>
                  <a:path w="24" h="22">
                    <a:moveTo>
                      <a:pt x="8" y="22"/>
                    </a:moveTo>
                    <a:lnTo>
                      <a:pt x="0" y="0"/>
                    </a:lnTo>
                    <a:lnTo>
                      <a:pt x="24" y="9"/>
                    </a:lnTo>
                    <a:lnTo>
                      <a:pt x="8"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23" name=""/>
              <p:cNvSpPr/>
              <p:nvPr/>
            </p:nvSpPr>
            <p:spPr>
              <a:xfrm>
                <a:off x="8267760" y="2886120"/>
                <a:ext cx="9360" cy="7920"/>
              </a:xfrm>
              <a:custGeom>
                <a:avLst/>
                <a:gdLst/>
                <a:ahLst/>
                <a:rect l="l" t="t" r="r" b="b"/>
                <a:pathLst>
                  <a:path w="19" h="16">
                    <a:moveTo>
                      <a:pt x="0" y="16"/>
                    </a:moveTo>
                    <a:lnTo>
                      <a:pt x="6" y="0"/>
                    </a:lnTo>
                    <a:lnTo>
                      <a:pt x="19" y="16"/>
                    </a:lnTo>
                    <a:lnTo>
                      <a:pt x="0"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24" name=""/>
              <p:cNvSpPr/>
              <p:nvPr/>
            </p:nvSpPr>
            <p:spPr>
              <a:xfrm>
                <a:off x="7012080" y="2900520"/>
                <a:ext cx="11160" cy="9360"/>
              </a:xfrm>
              <a:custGeom>
                <a:avLst/>
                <a:gdLst/>
                <a:ahLst/>
                <a:rect l="l" t="t" r="r" b="b"/>
                <a:pathLst>
                  <a:path w="22" h="20">
                    <a:moveTo>
                      <a:pt x="3" y="19"/>
                    </a:moveTo>
                    <a:lnTo>
                      <a:pt x="0" y="0"/>
                    </a:lnTo>
                    <a:lnTo>
                      <a:pt x="22" y="1"/>
                    </a:lnTo>
                    <a:lnTo>
                      <a:pt x="22" y="10"/>
                    </a:lnTo>
                    <a:lnTo>
                      <a:pt x="19" y="16"/>
                    </a:lnTo>
                    <a:lnTo>
                      <a:pt x="13" y="20"/>
                    </a:lnTo>
                    <a:lnTo>
                      <a:pt x="3"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25" name=""/>
              <p:cNvSpPr/>
              <p:nvPr/>
            </p:nvSpPr>
            <p:spPr>
              <a:xfrm>
                <a:off x="8331120" y="2876400"/>
                <a:ext cx="9720" cy="16200"/>
              </a:xfrm>
              <a:custGeom>
                <a:avLst/>
                <a:gdLst/>
                <a:ahLst/>
                <a:rect l="l" t="t" r="r" b="b"/>
                <a:pathLst>
                  <a:path w="20" h="28">
                    <a:moveTo>
                      <a:pt x="14" y="28"/>
                    </a:moveTo>
                    <a:lnTo>
                      <a:pt x="4" y="24"/>
                    </a:lnTo>
                    <a:lnTo>
                      <a:pt x="0" y="17"/>
                    </a:lnTo>
                    <a:lnTo>
                      <a:pt x="1" y="10"/>
                    </a:lnTo>
                    <a:lnTo>
                      <a:pt x="5" y="2"/>
                    </a:lnTo>
                    <a:lnTo>
                      <a:pt x="13" y="0"/>
                    </a:lnTo>
                    <a:lnTo>
                      <a:pt x="17" y="5"/>
                    </a:lnTo>
                    <a:lnTo>
                      <a:pt x="20" y="14"/>
                    </a:lnTo>
                    <a:lnTo>
                      <a:pt x="20" y="23"/>
                    </a:lnTo>
                    <a:lnTo>
                      <a:pt x="14" y="2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26" name=""/>
              <p:cNvSpPr/>
              <p:nvPr/>
            </p:nvSpPr>
            <p:spPr>
              <a:xfrm>
                <a:off x="8109000" y="2874960"/>
                <a:ext cx="9360" cy="11160"/>
              </a:xfrm>
              <a:custGeom>
                <a:avLst/>
                <a:gdLst/>
                <a:ahLst/>
                <a:rect l="l" t="t" r="r" b="b"/>
                <a:pathLst>
                  <a:path w="17" h="23">
                    <a:moveTo>
                      <a:pt x="11" y="23"/>
                    </a:moveTo>
                    <a:lnTo>
                      <a:pt x="3" y="20"/>
                    </a:lnTo>
                    <a:lnTo>
                      <a:pt x="0" y="13"/>
                    </a:lnTo>
                    <a:lnTo>
                      <a:pt x="3" y="5"/>
                    </a:lnTo>
                    <a:lnTo>
                      <a:pt x="10" y="0"/>
                    </a:lnTo>
                    <a:lnTo>
                      <a:pt x="14" y="3"/>
                    </a:lnTo>
                    <a:lnTo>
                      <a:pt x="17" y="12"/>
                    </a:lnTo>
                    <a:lnTo>
                      <a:pt x="17" y="19"/>
                    </a:lnTo>
                    <a:lnTo>
                      <a:pt x="11"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7" name=""/>
              <p:cNvSpPr/>
              <p:nvPr/>
            </p:nvSpPr>
            <p:spPr>
              <a:xfrm>
                <a:off x="7956720" y="2873520"/>
                <a:ext cx="7920" cy="10800"/>
              </a:xfrm>
              <a:custGeom>
                <a:avLst/>
                <a:gdLst/>
                <a:ahLst/>
                <a:rect l="l" t="t" r="r" b="b"/>
                <a:pathLst>
                  <a:path w="16" h="23">
                    <a:moveTo>
                      <a:pt x="0" y="23"/>
                    </a:moveTo>
                    <a:lnTo>
                      <a:pt x="0" y="0"/>
                    </a:lnTo>
                    <a:lnTo>
                      <a:pt x="16" y="10"/>
                    </a:lnTo>
                    <a:lnTo>
                      <a:pt x="0"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8" name=""/>
              <p:cNvSpPr/>
              <p:nvPr/>
            </p:nvSpPr>
            <p:spPr>
              <a:xfrm>
                <a:off x="8393040" y="2863800"/>
                <a:ext cx="7920" cy="11160"/>
              </a:xfrm>
              <a:custGeom>
                <a:avLst/>
                <a:gdLst/>
                <a:ahLst/>
                <a:rect l="l" t="t" r="r" b="b"/>
                <a:pathLst>
                  <a:path w="16" h="21">
                    <a:moveTo>
                      <a:pt x="2" y="21"/>
                    </a:moveTo>
                    <a:lnTo>
                      <a:pt x="0" y="2"/>
                    </a:lnTo>
                    <a:lnTo>
                      <a:pt x="7" y="0"/>
                    </a:lnTo>
                    <a:lnTo>
                      <a:pt x="13" y="3"/>
                    </a:lnTo>
                    <a:lnTo>
                      <a:pt x="16" y="11"/>
                    </a:lnTo>
                    <a:lnTo>
                      <a:pt x="16" y="21"/>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29" name=""/>
              <p:cNvSpPr/>
              <p:nvPr/>
            </p:nvSpPr>
            <p:spPr>
              <a:xfrm>
                <a:off x="7877160" y="2867040"/>
                <a:ext cx="7920" cy="11160"/>
              </a:xfrm>
              <a:custGeom>
                <a:avLst/>
                <a:gdLst/>
                <a:ahLst/>
                <a:rect l="l" t="t" r="r" b="b"/>
                <a:pathLst>
                  <a:path w="16" h="21">
                    <a:moveTo>
                      <a:pt x="3" y="21"/>
                    </a:moveTo>
                    <a:lnTo>
                      <a:pt x="0" y="0"/>
                    </a:lnTo>
                    <a:lnTo>
                      <a:pt x="10" y="0"/>
                    </a:lnTo>
                    <a:lnTo>
                      <a:pt x="15" y="4"/>
                    </a:lnTo>
                    <a:lnTo>
                      <a:pt x="16" y="11"/>
                    </a:lnTo>
                    <a:lnTo>
                      <a:pt x="16"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0" name=""/>
              <p:cNvSpPr/>
              <p:nvPr/>
            </p:nvSpPr>
            <p:spPr>
              <a:xfrm>
                <a:off x="8040600" y="2862360"/>
                <a:ext cx="7920" cy="9360"/>
              </a:xfrm>
              <a:custGeom>
                <a:avLst/>
                <a:gdLst/>
                <a:ahLst/>
                <a:rect l="l" t="t" r="r" b="b"/>
                <a:pathLst>
                  <a:path w="13" h="20">
                    <a:moveTo>
                      <a:pt x="0" y="20"/>
                    </a:moveTo>
                    <a:lnTo>
                      <a:pt x="0" y="0"/>
                    </a:lnTo>
                    <a:lnTo>
                      <a:pt x="7" y="1"/>
                    </a:lnTo>
                    <a:lnTo>
                      <a:pt x="12" y="5"/>
                    </a:lnTo>
                    <a:lnTo>
                      <a:pt x="13" y="13"/>
                    </a:lnTo>
                    <a:lnTo>
                      <a:pt x="10" y="20"/>
                    </a:lnTo>
                    <a:lnTo>
                      <a:pt x="0"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31" name=""/>
              <p:cNvSpPr/>
              <p:nvPr/>
            </p:nvSpPr>
            <p:spPr>
              <a:xfrm>
                <a:off x="7095960" y="2852640"/>
                <a:ext cx="11160" cy="11160"/>
              </a:xfrm>
              <a:custGeom>
                <a:avLst/>
                <a:gdLst/>
                <a:ahLst/>
                <a:rect l="l" t="t" r="r" b="b"/>
                <a:pathLst>
                  <a:path w="20" h="21">
                    <a:moveTo>
                      <a:pt x="4" y="21"/>
                    </a:moveTo>
                    <a:lnTo>
                      <a:pt x="0" y="0"/>
                    </a:lnTo>
                    <a:lnTo>
                      <a:pt x="7" y="0"/>
                    </a:lnTo>
                    <a:lnTo>
                      <a:pt x="16" y="3"/>
                    </a:lnTo>
                    <a:lnTo>
                      <a:pt x="20" y="10"/>
                    </a:lnTo>
                    <a:lnTo>
                      <a:pt x="17" y="19"/>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2" name=""/>
              <p:cNvSpPr/>
              <p:nvPr/>
            </p:nvSpPr>
            <p:spPr>
              <a:xfrm>
                <a:off x="7331040" y="2835360"/>
                <a:ext cx="12600" cy="9360"/>
              </a:xfrm>
              <a:custGeom>
                <a:avLst/>
                <a:gdLst/>
                <a:ahLst/>
                <a:rect l="l" t="t" r="r" b="b"/>
                <a:pathLst>
                  <a:path w="24" h="17">
                    <a:moveTo>
                      <a:pt x="1" y="17"/>
                    </a:moveTo>
                    <a:lnTo>
                      <a:pt x="0" y="0"/>
                    </a:lnTo>
                    <a:lnTo>
                      <a:pt x="7" y="0"/>
                    </a:lnTo>
                    <a:lnTo>
                      <a:pt x="14" y="1"/>
                    </a:lnTo>
                    <a:lnTo>
                      <a:pt x="21" y="4"/>
                    </a:lnTo>
                    <a:lnTo>
                      <a:pt x="24" y="10"/>
                    </a:lnTo>
                    <a:lnTo>
                      <a:pt x="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33" name=""/>
              <p:cNvSpPr/>
              <p:nvPr/>
            </p:nvSpPr>
            <p:spPr>
              <a:xfrm>
                <a:off x="8318520" y="2817720"/>
                <a:ext cx="11160" cy="11160"/>
              </a:xfrm>
              <a:custGeom>
                <a:avLst/>
                <a:gdLst/>
                <a:ahLst/>
                <a:rect l="l" t="t" r="r" b="b"/>
                <a:pathLst>
                  <a:path w="19" h="23">
                    <a:moveTo>
                      <a:pt x="7" y="23"/>
                    </a:moveTo>
                    <a:lnTo>
                      <a:pt x="3" y="20"/>
                    </a:lnTo>
                    <a:lnTo>
                      <a:pt x="0" y="13"/>
                    </a:lnTo>
                    <a:lnTo>
                      <a:pt x="0" y="4"/>
                    </a:lnTo>
                    <a:lnTo>
                      <a:pt x="9" y="0"/>
                    </a:lnTo>
                    <a:lnTo>
                      <a:pt x="13" y="4"/>
                    </a:lnTo>
                    <a:lnTo>
                      <a:pt x="19" y="13"/>
                    </a:lnTo>
                    <a:lnTo>
                      <a:pt x="19" y="22"/>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4" name=""/>
              <p:cNvSpPr/>
              <p:nvPr/>
            </p:nvSpPr>
            <p:spPr>
              <a:xfrm>
                <a:off x="8220240" y="2817720"/>
                <a:ext cx="10800" cy="11160"/>
              </a:xfrm>
              <a:custGeom>
                <a:avLst/>
                <a:gdLst/>
                <a:ahLst/>
                <a:rect l="l" t="t" r="r" b="b"/>
                <a:pathLst>
                  <a:path w="22" h="23">
                    <a:moveTo>
                      <a:pt x="13" y="23"/>
                    </a:moveTo>
                    <a:lnTo>
                      <a:pt x="4" y="20"/>
                    </a:lnTo>
                    <a:lnTo>
                      <a:pt x="0" y="11"/>
                    </a:lnTo>
                    <a:lnTo>
                      <a:pt x="3" y="4"/>
                    </a:lnTo>
                    <a:lnTo>
                      <a:pt x="10" y="0"/>
                    </a:lnTo>
                    <a:lnTo>
                      <a:pt x="17" y="3"/>
                    </a:lnTo>
                    <a:lnTo>
                      <a:pt x="22" y="11"/>
                    </a:lnTo>
                    <a:lnTo>
                      <a:pt x="22" y="19"/>
                    </a:lnTo>
                    <a:lnTo>
                      <a:pt x="1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5" name=""/>
              <p:cNvSpPr/>
              <p:nvPr/>
            </p:nvSpPr>
            <p:spPr>
              <a:xfrm>
                <a:off x="7211880" y="2830680"/>
                <a:ext cx="9720" cy="9360"/>
              </a:xfrm>
              <a:custGeom>
                <a:avLst/>
                <a:gdLst/>
                <a:ahLst/>
                <a:rect l="l" t="t" r="r" b="b"/>
                <a:pathLst>
                  <a:path w="18" h="19">
                    <a:moveTo>
                      <a:pt x="2" y="19"/>
                    </a:moveTo>
                    <a:lnTo>
                      <a:pt x="0" y="2"/>
                    </a:lnTo>
                    <a:lnTo>
                      <a:pt x="8" y="0"/>
                    </a:lnTo>
                    <a:lnTo>
                      <a:pt x="14" y="3"/>
                    </a:lnTo>
                    <a:lnTo>
                      <a:pt x="18" y="11"/>
                    </a:lnTo>
                    <a:lnTo>
                      <a:pt x="16" y="19"/>
                    </a:lnTo>
                    <a:lnTo>
                      <a:pt x="2"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36" name=""/>
              <p:cNvSpPr/>
              <p:nvPr/>
            </p:nvSpPr>
            <p:spPr>
              <a:xfrm>
                <a:off x="8416800" y="2808360"/>
                <a:ext cx="9720" cy="15840"/>
              </a:xfrm>
              <a:custGeom>
                <a:avLst/>
                <a:gdLst/>
                <a:ahLst/>
                <a:rect l="l" t="t" r="r" b="b"/>
                <a:pathLst>
                  <a:path w="18" h="32">
                    <a:moveTo>
                      <a:pt x="12" y="32"/>
                    </a:moveTo>
                    <a:lnTo>
                      <a:pt x="0" y="24"/>
                    </a:lnTo>
                    <a:lnTo>
                      <a:pt x="0" y="16"/>
                    </a:lnTo>
                    <a:lnTo>
                      <a:pt x="2" y="11"/>
                    </a:lnTo>
                    <a:lnTo>
                      <a:pt x="6" y="5"/>
                    </a:lnTo>
                    <a:lnTo>
                      <a:pt x="16" y="0"/>
                    </a:lnTo>
                    <a:lnTo>
                      <a:pt x="18" y="8"/>
                    </a:lnTo>
                    <a:lnTo>
                      <a:pt x="18" y="15"/>
                    </a:lnTo>
                    <a:lnTo>
                      <a:pt x="15" y="22"/>
                    </a:lnTo>
                    <a:lnTo>
                      <a:pt x="12" y="32"/>
                    </a:lnTo>
                    <a:close/>
                  </a:path>
                </a:pathLst>
              </a:custGeom>
              <a:solidFill>
                <a:srgbClr val="6619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7" name=""/>
              <p:cNvSpPr/>
              <p:nvPr/>
            </p:nvSpPr>
            <p:spPr>
              <a:xfrm>
                <a:off x="7008840" y="2822400"/>
                <a:ext cx="11160" cy="11160"/>
              </a:xfrm>
              <a:custGeom>
                <a:avLst/>
                <a:gdLst/>
                <a:ahLst/>
                <a:rect l="l" t="t" r="r" b="b"/>
                <a:pathLst>
                  <a:path w="22" h="19">
                    <a:moveTo>
                      <a:pt x="9" y="19"/>
                    </a:moveTo>
                    <a:lnTo>
                      <a:pt x="0" y="5"/>
                    </a:lnTo>
                    <a:lnTo>
                      <a:pt x="9" y="0"/>
                    </a:lnTo>
                    <a:lnTo>
                      <a:pt x="16" y="0"/>
                    </a:lnTo>
                    <a:lnTo>
                      <a:pt x="21" y="6"/>
                    </a:lnTo>
                    <a:lnTo>
                      <a:pt x="22" y="15"/>
                    </a:lnTo>
                    <a:lnTo>
                      <a:pt x="9"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38" name=""/>
              <p:cNvSpPr/>
              <p:nvPr/>
            </p:nvSpPr>
            <p:spPr>
              <a:xfrm>
                <a:off x="7140600" y="1906560"/>
                <a:ext cx="1285920" cy="903240"/>
              </a:xfrm>
              <a:custGeom>
                <a:avLst/>
                <a:gdLst/>
                <a:ahLst/>
                <a:rect l="l" t="t" r="r" b="b"/>
                <a:pathLst>
                  <a:path w="2431" h="1708">
                    <a:moveTo>
                      <a:pt x="2374" y="1708"/>
                    </a:moveTo>
                    <a:lnTo>
                      <a:pt x="2366" y="1698"/>
                    </a:lnTo>
                    <a:lnTo>
                      <a:pt x="2370" y="1688"/>
                    </a:lnTo>
                    <a:lnTo>
                      <a:pt x="2376" y="1679"/>
                    </a:lnTo>
                    <a:lnTo>
                      <a:pt x="2383" y="1670"/>
                    </a:lnTo>
                    <a:lnTo>
                      <a:pt x="2390" y="1662"/>
                    </a:lnTo>
                    <a:lnTo>
                      <a:pt x="2398" y="1651"/>
                    </a:lnTo>
                    <a:lnTo>
                      <a:pt x="2405" y="1643"/>
                    </a:lnTo>
                    <a:lnTo>
                      <a:pt x="2412" y="1633"/>
                    </a:lnTo>
                    <a:lnTo>
                      <a:pt x="2418" y="1621"/>
                    </a:lnTo>
                    <a:lnTo>
                      <a:pt x="2415" y="1612"/>
                    </a:lnTo>
                    <a:lnTo>
                      <a:pt x="2405" y="1607"/>
                    </a:lnTo>
                    <a:lnTo>
                      <a:pt x="2395" y="1612"/>
                    </a:lnTo>
                    <a:lnTo>
                      <a:pt x="2387" y="1620"/>
                    </a:lnTo>
                    <a:lnTo>
                      <a:pt x="2382" y="1628"/>
                    </a:lnTo>
                    <a:lnTo>
                      <a:pt x="2374" y="1637"/>
                    </a:lnTo>
                    <a:lnTo>
                      <a:pt x="2369" y="1647"/>
                    </a:lnTo>
                    <a:lnTo>
                      <a:pt x="2363" y="1657"/>
                    </a:lnTo>
                    <a:lnTo>
                      <a:pt x="2356" y="1666"/>
                    </a:lnTo>
                    <a:lnTo>
                      <a:pt x="2347" y="1675"/>
                    </a:lnTo>
                    <a:lnTo>
                      <a:pt x="2338" y="1683"/>
                    </a:lnTo>
                    <a:lnTo>
                      <a:pt x="2314" y="1667"/>
                    </a:lnTo>
                    <a:lnTo>
                      <a:pt x="2322" y="1657"/>
                    </a:lnTo>
                    <a:lnTo>
                      <a:pt x="2332" y="1647"/>
                    </a:lnTo>
                    <a:lnTo>
                      <a:pt x="2341" y="1637"/>
                    </a:lnTo>
                    <a:lnTo>
                      <a:pt x="2350" y="1625"/>
                    </a:lnTo>
                    <a:lnTo>
                      <a:pt x="2360" y="1614"/>
                    </a:lnTo>
                    <a:lnTo>
                      <a:pt x="2367" y="1602"/>
                    </a:lnTo>
                    <a:lnTo>
                      <a:pt x="2374" y="1591"/>
                    </a:lnTo>
                    <a:lnTo>
                      <a:pt x="2382" y="1578"/>
                    </a:lnTo>
                    <a:lnTo>
                      <a:pt x="2380" y="1565"/>
                    </a:lnTo>
                    <a:lnTo>
                      <a:pt x="2359" y="1563"/>
                    </a:lnTo>
                    <a:lnTo>
                      <a:pt x="2353" y="1575"/>
                    </a:lnTo>
                    <a:lnTo>
                      <a:pt x="2347" y="1585"/>
                    </a:lnTo>
                    <a:lnTo>
                      <a:pt x="2340" y="1595"/>
                    </a:lnTo>
                    <a:lnTo>
                      <a:pt x="2331" y="1604"/>
                    </a:lnTo>
                    <a:lnTo>
                      <a:pt x="2322" y="1615"/>
                    </a:lnTo>
                    <a:lnTo>
                      <a:pt x="2314" y="1625"/>
                    </a:lnTo>
                    <a:lnTo>
                      <a:pt x="2305" y="1637"/>
                    </a:lnTo>
                    <a:lnTo>
                      <a:pt x="2296" y="1650"/>
                    </a:lnTo>
                    <a:lnTo>
                      <a:pt x="2304" y="1662"/>
                    </a:lnTo>
                    <a:lnTo>
                      <a:pt x="2292" y="1657"/>
                    </a:lnTo>
                    <a:lnTo>
                      <a:pt x="2280" y="1651"/>
                    </a:lnTo>
                    <a:lnTo>
                      <a:pt x="2270" y="1646"/>
                    </a:lnTo>
                    <a:lnTo>
                      <a:pt x="2259" y="1640"/>
                    </a:lnTo>
                    <a:lnTo>
                      <a:pt x="2249" y="1634"/>
                    </a:lnTo>
                    <a:lnTo>
                      <a:pt x="2238" y="1627"/>
                    </a:lnTo>
                    <a:lnTo>
                      <a:pt x="2228" y="1618"/>
                    </a:lnTo>
                    <a:lnTo>
                      <a:pt x="2218" y="1610"/>
                    </a:lnTo>
                    <a:lnTo>
                      <a:pt x="2230" y="1599"/>
                    </a:lnTo>
                    <a:lnTo>
                      <a:pt x="2234" y="1589"/>
                    </a:lnTo>
                    <a:lnTo>
                      <a:pt x="2240" y="1584"/>
                    </a:lnTo>
                    <a:lnTo>
                      <a:pt x="2247" y="1576"/>
                    </a:lnTo>
                    <a:lnTo>
                      <a:pt x="2250" y="1566"/>
                    </a:lnTo>
                    <a:lnTo>
                      <a:pt x="2254" y="1555"/>
                    </a:lnTo>
                    <a:lnTo>
                      <a:pt x="2263" y="1542"/>
                    </a:lnTo>
                    <a:lnTo>
                      <a:pt x="2273" y="1529"/>
                    </a:lnTo>
                    <a:lnTo>
                      <a:pt x="2282" y="1513"/>
                    </a:lnTo>
                    <a:lnTo>
                      <a:pt x="2266" y="1501"/>
                    </a:lnTo>
                    <a:lnTo>
                      <a:pt x="2257" y="1511"/>
                    </a:lnTo>
                    <a:lnTo>
                      <a:pt x="2247" y="1521"/>
                    </a:lnTo>
                    <a:lnTo>
                      <a:pt x="2238" y="1533"/>
                    </a:lnTo>
                    <a:lnTo>
                      <a:pt x="2230" y="1543"/>
                    </a:lnTo>
                    <a:lnTo>
                      <a:pt x="2223" y="1556"/>
                    </a:lnTo>
                    <a:lnTo>
                      <a:pt x="2214" y="1568"/>
                    </a:lnTo>
                    <a:lnTo>
                      <a:pt x="2207" y="1581"/>
                    </a:lnTo>
                    <a:lnTo>
                      <a:pt x="2201" y="1595"/>
                    </a:lnTo>
                    <a:lnTo>
                      <a:pt x="2195" y="1599"/>
                    </a:lnTo>
                    <a:lnTo>
                      <a:pt x="2185" y="1597"/>
                    </a:lnTo>
                    <a:lnTo>
                      <a:pt x="2178" y="1594"/>
                    </a:lnTo>
                    <a:lnTo>
                      <a:pt x="2172" y="1588"/>
                    </a:lnTo>
                    <a:lnTo>
                      <a:pt x="2168" y="1579"/>
                    </a:lnTo>
                    <a:lnTo>
                      <a:pt x="2173" y="1566"/>
                    </a:lnTo>
                    <a:lnTo>
                      <a:pt x="2181" y="1555"/>
                    </a:lnTo>
                    <a:lnTo>
                      <a:pt x="2189" y="1543"/>
                    </a:lnTo>
                    <a:lnTo>
                      <a:pt x="2198" y="1532"/>
                    </a:lnTo>
                    <a:lnTo>
                      <a:pt x="2208" y="1521"/>
                    </a:lnTo>
                    <a:lnTo>
                      <a:pt x="2217" y="1510"/>
                    </a:lnTo>
                    <a:lnTo>
                      <a:pt x="2225" y="1497"/>
                    </a:lnTo>
                    <a:lnTo>
                      <a:pt x="2233" y="1484"/>
                    </a:lnTo>
                    <a:lnTo>
                      <a:pt x="2224" y="1475"/>
                    </a:lnTo>
                    <a:lnTo>
                      <a:pt x="2215" y="1475"/>
                    </a:lnTo>
                    <a:lnTo>
                      <a:pt x="2207" y="1485"/>
                    </a:lnTo>
                    <a:lnTo>
                      <a:pt x="2197" y="1497"/>
                    </a:lnTo>
                    <a:lnTo>
                      <a:pt x="2186" y="1507"/>
                    </a:lnTo>
                    <a:lnTo>
                      <a:pt x="2176" y="1519"/>
                    </a:lnTo>
                    <a:lnTo>
                      <a:pt x="2168" y="1530"/>
                    </a:lnTo>
                    <a:lnTo>
                      <a:pt x="2158" y="1542"/>
                    </a:lnTo>
                    <a:lnTo>
                      <a:pt x="2147" y="1553"/>
                    </a:lnTo>
                    <a:lnTo>
                      <a:pt x="2137" y="1566"/>
                    </a:lnTo>
                    <a:lnTo>
                      <a:pt x="2131" y="1563"/>
                    </a:lnTo>
                    <a:lnTo>
                      <a:pt x="2124" y="1560"/>
                    </a:lnTo>
                    <a:lnTo>
                      <a:pt x="2118" y="1556"/>
                    </a:lnTo>
                    <a:lnTo>
                      <a:pt x="2113" y="1549"/>
                    </a:lnTo>
                    <a:lnTo>
                      <a:pt x="2118" y="1542"/>
                    </a:lnTo>
                    <a:lnTo>
                      <a:pt x="2123" y="1533"/>
                    </a:lnTo>
                    <a:lnTo>
                      <a:pt x="2129" y="1526"/>
                    </a:lnTo>
                    <a:lnTo>
                      <a:pt x="2133" y="1517"/>
                    </a:lnTo>
                    <a:lnTo>
                      <a:pt x="2139" y="1508"/>
                    </a:lnTo>
                    <a:lnTo>
                      <a:pt x="2145" y="1500"/>
                    </a:lnTo>
                    <a:lnTo>
                      <a:pt x="2150" y="1493"/>
                    </a:lnTo>
                    <a:lnTo>
                      <a:pt x="2159" y="1484"/>
                    </a:lnTo>
                    <a:lnTo>
                      <a:pt x="2162" y="1478"/>
                    </a:lnTo>
                    <a:lnTo>
                      <a:pt x="2168" y="1471"/>
                    </a:lnTo>
                    <a:lnTo>
                      <a:pt x="2172" y="1464"/>
                    </a:lnTo>
                    <a:lnTo>
                      <a:pt x="2176" y="1454"/>
                    </a:lnTo>
                    <a:lnTo>
                      <a:pt x="2172" y="1442"/>
                    </a:lnTo>
                    <a:lnTo>
                      <a:pt x="2160" y="1442"/>
                    </a:lnTo>
                    <a:lnTo>
                      <a:pt x="2150" y="1452"/>
                    </a:lnTo>
                    <a:lnTo>
                      <a:pt x="2140" y="1464"/>
                    </a:lnTo>
                    <a:lnTo>
                      <a:pt x="2131" y="1475"/>
                    </a:lnTo>
                    <a:lnTo>
                      <a:pt x="2123" y="1487"/>
                    </a:lnTo>
                    <a:lnTo>
                      <a:pt x="2114" y="1498"/>
                    </a:lnTo>
                    <a:lnTo>
                      <a:pt x="2107" y="1510"/>
                    </a:lnTo>
                    <a:lnTo>
                      <a:pt x="2100" y="1521"/>
                    </a:lnTo>
                    <a:lnTo>
                      <a:pt x="2091" y="1533"/>
                    </a:lnTo>
                    <a:lnTo>
                      <a:pt x="2082" y="1532"/>
                    </a:lnTo>
                    <a:lnTo>
                      <a:pt x="2075" y="1529"/>
                    </a:lnTo>
                    <a:lnTo>
                      <a:pt x="2069" y="1523"/>
                    </a:lnTo>
                    <a:lnTo>
                      <a:pt x="2065" y="1513"/>
                    </a:lnTo>
                    <a:lnTo>
                      <a:pt x="2071" y="1503"/>
                    </a:lnTo>
                    <a:lnTo>
                      <a:pt x="2077" y="1493"/>
                    </a:lnTo>
                    <a:lnTo>
                      <a:pt x="2085" y="1484"/>
                    </a:lnTo>
                    <a:lnTo>
                      <a:pt x="2092" y="1474"/>
                    </a:lnTo>
                    <a:lnTo>
                      <a:pt x="2100" y="1464"/>
                    </a:lnTo>
                    <a:lnTo>
                      <a:pt x="2107" y="1452"/>
                    </a:lnTo>
                    <a:lnTo>
                      <a:pt x="2113" y="1441"/>
                    </a:lnTo>
                    <a:lnTo>
                      <a:pt x="2118" y="1428"/>
                    </a:lnTo>
                    <a:lnTo>
                      <a:pt x="2110" y="1419"/>
                    </a:lnTo>
                    <a:lnTo>
                      <a:pt x="2098" y="1426"/>
                    </a:lnTo>
                    <a:lnTo>
                      <a:pt x="2088" y="1436"/>
                    </a:lnTo>
                    <a:lnTo>
                      <a:pt x="2079" y="1446"/>
                    </a:lnTo>
                    <a:lnTo>
                      <a:pt x="2072" y="1458"/>
                    </a:lnTo>
                    <a:lnTo>
                      <a:pt x="2064" y="1471"/>
                    </a:lnTo>
                    <a:lnTo>
                      <a:pt x="2055" y="1482"/>
                    </a:lnTo>
                    <a:lnTo>
                      <a:pt x="2046" y="1494"/>
                    </a:lnTo>
                    <a:lnTo>
                      <a:pt x="2037" y="1506"/>
                    </a:lnTo>
                    <a:lnTo>
                      <a:pt x="2030" y="1504"/>
                    </a:lnTo>
                    <a:lnTo>
                      <a:pt x="2026" y="1498"/>
                    </a:lnTo>
                    <a:lnTo>
                      <a:pt x="2019" y="1491"/>
                    </a:lnTo>
                    <a:lnTo>
                      <a:pt x="2009" y="1488"/>
                    </a:lnTo>
                    <a:lnTo>
                      <a:pt x="2009" y="1478"/>
                    </a:lnTo>
                    <a:lnTo>
                      <a:pt x="2016" y="1468"/>
                    </a:lnTo>
                    <a:lnTo>
                      <a:pt x="2023" y="1459"/>
                    </a:lnTo>
                    <a:lnTo>
                      <a:pt x="2030" y="1449"/>
                    </a:lnTo>
                    <a:lnTo>
                      <a:pt x="2037" y="1439"/>
                    </a:lnTo>
                    <a:lnTo>
                      <a:pt x="2043" y="1429"/>
                    </a:lnTo>
                    <a:lnTo>
                      <a:pt x="2051" y="1419"/>
                    </a:lnTo>
                    <a:lnTo>
                      <a:pt x="2056" y="1407"/>
                    </a:lnTo>
                    <a:lnTo>
                      <a:pt x="2064" y="1394"/>
                    </a:lnTo>
                    <a:lnTo>
                      <a:pt x="2056" y="1384"/>
                    </a:lnTo>
                    <a:lnTo>
                      <a:pt x="2045" y="1389"/>
                    </a:lnTo>
                    <a:lnTo>
                      <a:pt x="2036" y="1397"/>
                    </a:lnTo>
                    <a:lnTo>
                      <a:pt x="2030" y="1407"/>
                    </a:lnTo>
                    <a:lnTo>
                      <a:pt x="2023" y="1416"/>
                    </a:lnTo>
                    <a:lnTo>
                      <a:pt x="2017" y="1426"/>
                    </a:lnTo>
                    <a:lnTo>
                      <a:pt x="2010" y="1438"/>
                    </a:lnTo>
                    <a:lnTo>
                      <a:pt x="2003" y="1448"/>
                    </a:lnTo>
                    <a:lnTo>
                      <a:pt x="1994" y="1459"/>
                    </a:lnTo>
                    <a:lnTo>
                      <a:pt x="1984" y="1469"/>
                    </a:lnTo>
                    <a:lnTo>
                      <a:pt x="1962" y="1455"/>
                    </a:lnTo>
                    <a:lnTo>
                      <a:pt x="1967" y="1445"/>
                    </a:lnTo>
                    <a:lnTo>
                      <a:pt x="1972" y="1436"/>
                    </a:lnTo>
                    <a:lnTo>
                      <a:pt x="1980" y="1428"/>
                    </a:lnTo>
                    <a:lnTo>
                      <a:pt x="1985" y="1419"/>
                    </a:lnTo>
                    <a:lnTo>
                      <a:pt x="1993" y="1410"/>
                    </a:lnTo>
                    <a:lnTo>
                      <a:pt x="2000" y="1402"/>
                    </a:lnTo>
                    <a:lnTo>
                      <a:pt x="2007" y="1393"/>
                    </a:lnTo>
                    <a:lnTo>
                      <a:pt x="2013" y="1383"/>
                    </a:lnTo>
                    <a:lnTo>
                      <a:pt x="2006" y="1364"/>
                    </a:lnTo>
                    <a:lnTo>
                      <a:pt x="1996" y="1371"/>
                    </a:lnTo>
                    <a:lnTo>
                      <a:pt x="1987" y="1378"/>
                    </a:lnTo>
                    <a:lnTo>
                      <a:pt x="1978" y="1389"/>
                    </a:lnTo>
                    <a:lnTo>
                      <a:pt x="1970" y="1399"/>
                    </a:lnTo>
                    <a:lnTo>
                      <a:pt x="1962" y="1410"/>
                    </a:lnTo>
                    <a:lnTo>
                      <a:pt x="1954" y="1420"/>
                    </a:lnTo>
                    <a:lnTo>
                      <a:pt x="1943" y="1430"/>
                    </a:lnTo>
                    <a:lnTo>
                      <a:pt x="1933" y="1439"/>
                    </a:lnTo>
                    <a:lnTo>
                      <a:pt x="1917" y="1420"/>
                    </a:lnTo>
                    <a:lnTo>
                      <a:pt x="1923" y="1410"/>
                    </a:lnTo>
                    <a:lnTo>
                      <a:pt x="1929" y="1402"/>
                    </a:lnTo>
                    <a:lnTo>
                      <a:pt x="1935" y="1393"/>
                    </a:lnTo>
                    <a:lnTo>
                      <a:pt x="1942" y="1384"/>
                    </a:lnTo>
                    <a:lnTo>
                      <a:pt x="1949" y="1374"/>
                    </a:lnTo>
                    <a:lnTo>
                      <a:pt x="1957" y="1364"/>
                    </a:lnTo>
                    <a:lnTo>
                      <a:pt x="1964" y="1354"/>
                    </a:lnTo>
                    <a:lnTo>
                      <a:pt x="1972" y="1341"/>
                    </a:lnTo>
                    <a:lnTo>
                      <a:pt x="1961" y="1329"/>
                    </a:lnTo>
                    <a:lnTo>
                      <a:pt x="1949" y="1332"/>
                    </a:lnTo>
                    <a:lnTo>
                      <a:pt x="1941" y="1341"/>
                    </a:lnTo>
                    <a:lnTo>
                      <a:pt x="1933" y="1350"/>
                    </a:lnTo>
                    <a:lnTo>
                      <a:pt x="1928" y="1360"/>
                    </a:lnTo>
                    <a:lnTo>
                      <a:pt x="1922" y="1370"/>
                    </a:lnTo>
                    <a:lnTo>
                      <a:pt x="1916" y="1380"/>
                    </a:lnTo>
                    <a:lnTo>
                      <a:pt x="1909" y="1389"/>
                    </a:lnTo>
                    <a:lnTo>
                      <a:pt x="1902" y="1399"/>
                    </a:lnTo>
                    <a:lnTo>
                      <a:pt x="1893" y="1409"/>
                    </a:lnTo>
                    <a:lnTo>
                      <a:pt x="1886" y="1404"/>
                    </a:lnTo>
                    <a:lnTo>
                      <a:pt x="1878" y="1399"/>
                    </a:lnTo>
                    <a:lnTo>
                      <a:pt x="1871" y="1394"/>
                    </a:lnTo>
                    <a:lnTo>
                      <a:pt x="1863" y="1387"/>
                    </a:lnTo>
                    <a:lnTo>
                      <a:pt x="1870" y="1380"/>
                    </a:lnTo>
                    <a:lnTo>
                      <a:pt x="1877" y="1373"/>
                    </a:lnTo>
                    <a:lnTo>
                      <a:pt x="1884" y="1364"/>
                    </a:lnTo>
                    <a:lnTo>
                      <a:pt x="1891" y="1357"/>
                    </a:lnTo>
                    <a:lnTo>
                      <a:pt x="1897" y="1348"/>
                    </a:lnTo>
                    <a:lnTo>
                      <a:pt x="1904" y="1339"/>
                    </a:lnTo>
                    <a:lnTo>
                      <a:pt x="1909" y="1332"/>
                    </a:lnTo>
                    <a:lnTo>
                      <a:pt x="1915" y="1323"/>
                    </a:lnTo>
                    <a:lnTo>
                      <a:pt x="1904" y="1306"/>
                    </a:lnTo>
                    <a:lnTo>
                      <a:pt x="1896" y="1312"/>
                    </a:lnTo>
                    <a:lnTo>
                      <a:pt x="1889" y="1319"/>
                    </a:lnTo>
                    <a:lnTo>
                      <a:pt x="1881" y="1328"/>
                    </a:lnTo>
                    <a:lnTo>
                      <a:pt x="1874" y="1336"/>
                    </a:lnTo>
                    <a:lnTo>
                      <a:pt x="1867" y="1345"/>
                    </a:lnTo>
                    <a:lnTo>
                      <a:pt x="1861" y="1355"/>
                    </a:lnTo>
                    <a:lnTo>
                      <a:pt x="1854" y="1365"/>
                    </a:lnTo>
                    <a:lnTo>
                      <a:pt x="1847" y="1374"/>
                    </a:lnTo>
                    <a:lnTo>
                      <a:pt x="1838" y="1371"/>
                    </a:lnTo>
                    <a:lnTo>
                      <a:pt x="1831" y="1367"/>
                    </a:lnTo>
                    <a:lnTo>
                      <a:pt x="1825" y="1363"/>
                    </a:lnTo>
                    <a:lnTo>
                      <a:pt x="1818" y="1354"/>
                    </a:lnTo>
                    <a:lnTo>
                      <a:pt x="1822" y="1345"/>
                    </a:lnTo>
                    <a:lnTo>
                      <a:pt x="1826" y="1338"/>
                    </a:lnTo>
                    <a:lnTo>
                      <a:pt x="1832" y="1331"/>
                    </a:lnTo>
                    <a:lnTo>
                      <a:pt x="1838" y="1323"/>
                    </a:lnTo>
                    <a:lnTo>
                      <a:pt x="1845" y="1318"/>
                    </a:lnTo>
                    <a:lnTo>
                      <a:pt x="1851" y="1309"/>
                    </a:lnTo>
                    <a:lnTo>
                      <a:pt x="1857" y="1302"/>
                    </a:lnTo>
                    <a:lnTo>
                      <a:pt x="1863" y="1293"/>
                    </a:lnTo>
                    <a:lnTo>
                      <a:pt x="1855" y="1282"/>
                    </a:lnTo>
                    <a:lnTo>
                      <a:pt x="1845" y="1282"/>
                    </a:lnTo>
                    <a:lnTo>
                      <a:pt x="1839" y="1286"/>
                    </a:lnTo>
                    <a:lnTo>
                      <a:pt x="1834" y="1293"/>
                    </a:lnTo>
                    <a:lnTo>
                      <a:pt x="1826" y="1300"/>
                    </a:lnTo>
                    <a:lnTo>
                      <a:pt x="1821" y="1308"/>
                    </a:lnTo>
                    <a:lnTo>
                      <a:pt x="1813" y="1316"/>
                    </a:lnTo>
                    <a:lnTo>
                      <a:pt x="1805" y="1325"/>
                    </a:lnTo>
                    <a:lnTo>
                      <a:pt x="1797" y="1332"/>
                    </a:lnTo>
                    <a:lnTo>
                      <a:pt x="1790" y="1339"/>
                    </a:lnTo>
                    <a:lnTo>
                      <a:pt x="1777" y="1335"/>
                    </a:lnTo>
                    <a:lnTo>
                      <a:pt x="1783" y="1328"/>
                    </a:lnTo>
                    <a:lnTo>
                      <a:pt x="1790" y="1321"/>
                    </a:lnTo>
                    <a:lnTo>
                      <a:pt x="1800" y="1315"/>
                    </a:lnTo>
                    <a:lnTo>
                      <a:pt x="1809" y="1306"/>
                    </a:lnTo>
                    <a:lnTo>
                      <a:pt x="1812" y="1299"/>
                    </a:lnTo>
                    <a:lnTo>
                      <a:pt x="1815" y="1292"/>
                    </a:lnTo>
                    <a:lnTo>
                      <a:pt x="1821" y="1284"/>
                    </a:lnTo>
                    <a:lnTo>
                      <a:pt x="1825" y="1273"/>
                    </a:lnTo>
                    <a:lnTo>
                      <a:pt x="1818" y="1257"/>
                    </a:lnTo>
                    <a:lnTo>
                      <a:pt x="1795" y="1266"/>
                    </a:lnTo>
                    <a:lnTo>
                      <a:pt x="1787" y="1277"/>
                    </a:lnTo>
                    <a:lnTo>
                      <a:pt x="1780" y="1290"/>
                    </a:lnTo>
                    <a:lnTo>
                      <a:pt x="1771" y="1305"/>
                    </a:lnTo>
                    <a:lnTo>
                      <a:pt x="1758" y="1318"/>
                    </a:lnTo>
                    <a:lnTo>
                      <a:pt x="1747" y="1316"/>
                    </a:lnTo>
                    <a:lnTo>
                      <a:pt x="1744" y="1306"/>
                    </a:lnTo>
                    <a:lnTo>
                      <a:pt x="1747" y="1295"/>
                    </a:lnTo>
                    <a:lnTo>
                      <a:pt x="1753" y="1284"/>
                    </a:lnTo>
                    <a:lnTo>
                      <a:pt x="1760" y="1274"/>
                    </a:lnTo>
                    <a:lnTo>
                      <a:pt x="1770" y="1263"/>
                    </a:lnTo>
                    <a:lnTo>
                      <a:pt x="1782" y="1253"/>
                    </a:lnTo>
                    <a:lnTo>
                      <a:pt x="1767" y="1237"/>
                    </a:lnTo>
                    <a:lnTo>
                      <a:pt x="1760" y="1241"/>
                    </a:lnTo>
                    <a:lnTo>
                      <a:pt x="1753" y="1245"/>
                    </a:lnTo>
                    <a:lnTo>
                      <a:pt x="1745" y="1253"/>
                    </a:lnTo>
                    <a:lnTo>
                      <a:pt x="1738" y="1260"/>
                    </a:lnTo>
                    <a:lnTo>
                      <a:pt x="1731" y="1267"/>
                    </a:lnTo>
                    <a:lnTo>
                      <a:pt x="1725" y="1276"/>
                    </a:lnTo>
                    <a:lnTo>
                      <a:pt x="1719" y="1283"/>
                    </a:lnTo>
                    <a:lnTo>
                      <a:pt x="1716" y="1290"/>
                    </a:lnTo>
                    <a:lnTo>
                      <a:pt x="1712" y="1283"/>
                    </a:lnTo>
                    <a:lnTo>
                      <a:pt x="1714" y="1276"/>
                    </a:lnTo>
                    <a:lnTo>
                      <a:pt x="1716" y="1270"/>
                    </a:lnTo>
                    <a:lnTo>
                      <a:pt x="1721" y="1263"/>
                    </a:lnTo>
                    <a:lnTo>
                      <a:pt x="1725" y="1253"/>
                    </a:lnTo>
                    <a:lnTo>
                      <a:pt x="1708" y="1240"/>
                    </a:lnTo>
                    <a:lnTo>
                      <a:pt x="1705" y="1248"/>
                    </a:lnTo>
                    <a:lnTo>
                      <a:pt x="1698" y="1253"/>
                    </a:lnTo>
                    <a:lnTo>
                      <a:pt x="1689" y="1258"/>
                    </a:lnTo>
                    <a:lnTo>
                      <a:pt x="1683" y="1267"/>
                    </a:lnTo>
                    <a:lnTo>
                      <a:pt x="1672" y="1271"/>
                    </a:lnTo>
                    <a:lnTo>
                      <a:pt x="1677" y="1258"/>
                    </a:lnTo>
                    <a:lnTo>
                      <a:pt x="1683" y="1245"/>
                    </a:lnTo>
                    <a:lnTo>
                      <a:pt x="1692" y="1232"/>
                    </a:lnTo>
                    <a:lnTo>
                      <a:pt x="1703" y="1219"/>
                    </a:lnTo>
                    <a:lnTo>
                      <a:pt x="1712" y="1221"/>
                    </a:lnTo>
                    <a:lnTo>
                      <a:pt x="1719" y="1221"/>
                    </a:lnTo>
                    <a:lnTo>
                      <a:pt x="1729" y="1224"/>
                    </a:lnTo>
                    <a:lnTo>
                      <a:pt x="1738" y="1225"/>
                    </a:lnTo>
                    <a:lnTo>
                      <a:pt x="1748" y="1227"/>
                    </a:lnTo>
                    <a:lnTo>
                      <a:pt x="1757" y="1230"/>
                    </a:lnTo>
                    <a:lnTo>
                      <a:pt x="1767" y="1231"/>
                    </a:lnTo>
                    <a:lnTo>
                      <a:pt x="1776" y="1234"/>
                    </a:lnTo>
                    <a:lnTo>
                      <a:pt x="1799" y="1227"/>
                    </a:lnTo>
                    <a:lnTo>
                      <a:pt x="1810" y="1224"/>
                    </a:lnTo>
                    <a:lnTo>
                      <a:pt x="1821" y="1219"/>
                    </a:lnTo>
                    <a:lnTo>
                      <a:pt x="1831" y="1212"/>
                    </a:lnTo>
                    <a:lnTo>
                      <a:pt x="1841" y="1204"/>
                    </a:lnTo>
                    <a:lnTo>
                      <a:pt x="1868" y="1166"/>
                    </a:lnTo>
                    <a:lnTo>
                      <a:pt x="1894" y="1127"/>
                    </a:lnTo>
                    <a:lnTo>
                      <a:pt x="1917" y="1088"/>
                    </a:lnTo>
                    <a:lnTo>
                      <a:pt x="1942" y="1048"/>
                    </a:lnTo>
                    <a:lnTo>
                      <a:pt x="1964" y="1006"/>
                    </a:lnTo>
                    <a:lnTo>
                      <a:pt x="1984" y="962"/>
                    </a:lnTo>
                    <a:lnTo>
                      <a:pt x="2003" y="917"/>
                    </a:lnTo>
                    <a:lnTo>
                      <a:pt x="2020" y="868"/>
                    </a:lnTo>
                    <a:lnTo>
                      <a:pt x="2022" y="848"/>
                    </a:lnTo>
                    <a:lnTo>
                      <a:pt x="2017" y="841"/>
                    </a:lnTo>
                    <a:lnTo>
                      <a:pt x="2013" y="835"/>
                    </a:lnTo>
                    <a:lnTo>
                      <a:pt x="2004" y="832"/>
                    </a:lnTo>
                    <a:lnTo>
                      <a:pt x="1993" y="828"/>
                    </a:lnTo>
                    <a:lnTo>
                      <a:pt x="1990" y="821"/>
                    </a:lnTo>
                    <a:lnTo>
                      <a:pt x="1990" y="813"/>
                    </a:lnTo>
                    <a:lnTo>
                      <a:pt x="1993" y="806"/>
                    </a:lnTo>
                    <a:lnTo>
                      <a:pt x="1991" y="799"/>
                    </a:lnTo>
                    <a:lnTo>
                      <a:pt x="1977" y="793"/>
                    </a:lnTo>
                    <a:lnTo>
                      <a:pt x="1964" y="789"/>
                    </a:lnTo>
                    <a:lnTo>
                      <a:pt x="1954" y="783"/>
                    </a:lnTo>
                    <a:lnTo>
                      <a:pt x="1943" y="779"/>
                    </a:lnTo>
                    <a:lnTo>
                      <a:pt x="1933" y="774"/>
                    </a:lnTo>
                    <a:lnTo>
                      <a:pt x="1925" y="770"/>
                    </a:lnTo>
                    <a:lnTo>
                      <a:pt x="1915" y="766"/>
                    </a:lnTo>
                    <a:lnTo>
                      <a:pt x="1904" y="763"/>
                    </a:lnTo>
                    <a:lnTo>
                      <a:pt x="1891" y="763"/>
                    </a:lnTo>
                    <a:lnTo>
                      <a:pt x="1876" y="757"/>
                    </a:lnTo>
                    <a:lnTo>
                      <a:pt x="1858" y="751"/>
                    </a:lnTo>
                    <a:lnTo>
                      <a:pt x="1842" y="746"/>
                    </a:lnTo>
                    <a:lnTo>
                      <a:pt x="1825" y="740"/>
                    </a:lnTo>
                    <a:lnTo>
                      <a:pt x="1808" y="734"/>
                    </a:lnTo>
                    <a:lnTo>
                      <a:pt x="1790" y="728"/>
                    </a:lnTo>
                    <a:lnTo>
                      <a:pt x="1773" y="722"/>
                    </a:lnTo>
                    <a:lnTo>
                      <a:pt x="1756" y="718"/>
                    </a:lnTo>
                    <a:lnTo>
                      <a:pt x="1738" y="712"/>
                    </a:lnTo>
                    <a:lnTo>
                      <a:pt x="1721" y="707"/>
                    </a:lnTo>
                    <a:lnTo>
                      <a:pt x="1703" y="702"/>
                    </a:lnTo>
                    <a:lnTo>
                      <a:pt x="1686" y="696"/>
                    </a:lnTo>
                    <a:lnTo>
                      <a:pt x="1670" y="691"/>
                    </a:lnTo>
                    <a:lnTo>
                      <a:pt x="1653" y="686"/>
                    </a:lnTo>
                    <a:lnTo>
                      <a:pt x="1635" y="681"/>
                    </a:lnTo>
                    <a:lnTo>
                      <a:pt x="1620" y="675"/>
                    </a:lnTo>
                    <a:lnTo>
                      <a:pt x="1608" y="670"/>
                    </a:lnTo>
                    <a:lnTo>
                      <a:pt x="1596" y="666"/>
                    </a:lnTo>
                    <a:lnTo>
                      <a:pt x="1585" y="662"/>
                    </a:lnTo>
                    <a:lnTo>
                      <a:pt x="1573" y="657"/>
                    </a:lnTo>
                    <a:lnTo>
                      <a:pt x="1562" y="653"/>
                    </a:lnTo>
                    <a:lnTo>
                      <a:pt x="1550" y="649"/>
                    </a:lnTo>
                    <a:lnTo>
                      <a:pt x="1537" y="644"/>
                    </a:lnTo>
                    <a:lnTo>
                      <a:pt x="1526" y="640"/>
                    </a:lnTo>
                    <a:lnTo>
                      <a:pt x="1500" y="633"/>
                    </a:lnTo>
                    <a:lnTo>
                      <a:pt x="1474" y="624"/>
                    </a:lnTo>
                    <a:lnTo>
                      <a:pt x="1448" y="616"/>
                    </a:lnTo>
                    <a:lnTo>
                      <a:pt x="1420" y="607"/>
                    </a:lnTo>
                    <a:lnTo>
                      <a:pt x="1394" y="598"/>
                    </a:lnTo>
                    <a:lnTo>
                      <a:pt x="1367" y="591"/>
                    </a:lnTo>
                    <a:lnTo>
                      <a:pt x="1339" y="585"/>
                    </a:lnTo>
                    <a:lnTo>
                      <a:pt x="1313" y="582"/>
                    </a:lnTo>
                    <a:lnTo>
                      <a:pt x="1301" y="584"/>
                    </a:lnTo>
                    <a:lnTo>
                      <a:pt x="1293" y="588"/>
                    </a:lnTo>
                    <a:lnTo>
                      <a:pt x="1284" y="594"/>
                    </a:lnTo>
                    <a:lnTo>
                      <a:pt x="1274" y="600"/>
                    </a:lnTo>
                    <a:lnTo>
                      <a:pt x="1257" y="614"/>
                    </a:lnTo>
                    <a:lnTo>
                      <a:pt x="1242" y="630"/>
                    </a:lnTo>
                    <a:lnTo>
                      <a:pt x="1228" y="646"/>
                    </a:lnTo>
                    <a:lnTo>
                      <a:pt x="1215" y="663"/>
                    </a:lnTo>
                    <a:lnTo>
                      <a:pt x="1202" y="681"/>
                    </a:lnTo>
                    <a:lnTo>
                      <a:pt x="1190" y="698"/>
                    </a:lnTo>
                    <a:lnTo>
                      <a:pt x="1177" y="715"/>
                    </a:lnTo>
                    <a:lnTo>
                      <a:pt x="1164" y="731"/>
                    </a:lnTo>
                    <a:lnTo>
                      <a:pt x="1155" y="747"/>
                    </a:lnTo>
                    <a:lnTo>
                      <a:pt x="1145" y="763"/>
                    </a:lnTo>
                    <a:lnTo>
                      <a:pt x="1135" y="779"/>
                    </a:lnTo>
                    <a:lnTo>
                      <a:pt x="1126" y="796"/>
                    </a:lnTo>
                    <a:lnTo>
                      <a:pt x="1116" y="812"/>
                    </a:lnTo>
                    <a:lnTo>
                      <a:pt x="1106" y="829"/>
                    </a:lnTo>
                    <a:lnTo>
                      <a:pt x="1096" y="847"/>
                    </a:lnTo>
                    <a:lnTo>
                      <a:pt x="1087" y="865"/>
                    </a:lnTo>
                    <a:lnTo>
                      <a:pt x="1087" y="877"/>
                    </a:lnTo>
                    <a:lnTo>
                      <a:pt x="1090" y="886"/>
                    </a:lnTo>
                    <a:lnTo>
                      <a:pt x="1095" y="893"/>
                    </a:lnTo>
                    <a:lnTo>
                      <a:pt x="1100" y="900"/>
                    </a:lnTo>
                    <a:lnTo>
                      <a:pt x="1106" y="907"/>
                    </a:lnTo>
                    <a:lnTo>
                      <a:pt x="1100" y="913"/>
                    </a:lnTo>
                    <a:lnTo>
                      <a:pt x="1095" y="920"/>
                    </a:lnTo>
                    <a:lnTo>
                      <a:pt x="1089" y="928"/>
                    </a:lnTo>
                    <a:lnTo>
                      <a:pt x="1082" y="935"/>
                    </a:lnTo>
                    <a:lnTo>
                      <a:pt x="1074" y="942"/>
                    </a:lnTo>
                    <a:lnTo>
                      <a:pt x="1069" y="949"/>
                    </a:lnTo>
                    <a:lnTo>
                      <a:pt x="1061" y="955"/>
                    </a:lnTo>
                    <a:lnTo>
                      <a:pt x="1054" y="959"/>
                    </a:lnTo>
                    <a:lnTo>
                      <a:pt x="1047" y="959"/>
                    </a:lnTo>
                    <a:lnTo>
                      <a:pt x="1047" y="938"/>
                    </a:lnTo>
                    <a:lnTo>
                      <a:pt x="1056" y="928"/>
                    </a:lnTo>
                    <a:lnTo>
                      <a:pt x="1064" y="916"/>
                    </a:lnTo>
                    <a:lnTo>
                      <a:pt x="1073" y="906"/>
                    </a:lnTo>
                    <a:lnTo>
                      <a:pt x="1082" y="896"/>
                    </a:lnTo>
                    <a:lnTo>
                      <a:pt x="1082" y="884"/>
                    </a:lnTo>
                    <a:lnTo>
                      <a:pt x="1070" y="878"/>
                    </a:lnTo>
                    <a:lnTo>
                      <a:pt x="1061" y="883"/>
                    </a:lnTo>
                    <a:lnTo>
                      <a:pt x="1053" y="890"/>
                    </a:lnTo>
                    <a:lnTo>
                      <a:pt x="1044" y="897"/>
                    </a:lnTo>
                    <a:lnTo>
                      <a:pt x="1037" y="906"/>
                    </a:lnTo>
                    <a:lnTo>
                      <a:pt x="1028" y="915"/>
                    </a:lnTo>
                    <a:lnTo>
                      <a:pt x="1022" y="925"/>
                    </a:lnTo>
                    <a:lnTo>
                      <a:pt x="1015" y="933"/>
                    </a:lnTo>
                    <a:lnTo>
                      <a:pt x="1011" y="942"/>
                    </a:lnTo>
                    <a:lnTo>
                      <a:pt x="1001" y="942"/>
                    </a:lnTo>
                    <a:lnTo>
                      <a:pt x="995" y="932"/>
                    </a:lnTo>
                    <a:lnTo>
                      <a:pt x="1002" y="920"/>
                    </a:lnTo>
                    <a:lnTo>
                      <a:pt x="1011" y="907"/>
                    </a:lnTo>
                    <a:lnTo>
                      <a:pt x="1019" y="893"/>
                    </a:lnTo>
                    <a:lnTo>
                      <a:pt x="1028" y="877"/>
                    </a:lnTo>
                    <a:lnTo>
                      <a:pt x="1017" y="863"/>
                    </a:lnTo>
                    <a:lnTo>
                      <a:pt x="1008" y="867"/>
                    </a:lnTo>
                    <a:lnTo>
                      <a:pt x="999" y="873"/>
                    </a:lnTo>
                    <a:lnTo>
                      <a:pt x="993" y="878"/>
                    </a:lnTo>
                    <a:lnTo>
                      <a:pt x="988" y="887"/>
                    </a:lnTo>
                    <a:lnTo>
                      <a:pt x="983" y="894"/>
                    </a:lnTo>
                    <a:lnTo>
                      <a:pt x="979" y="903"/>
                    </a:lnTo>
                    <a:lnTo>
                      <a:pt x="973" y="912"/>
                    </a:lnTo>
                    <a:lnTo>
                      <a:pt x="967" y="920"/>
                    </a:lnTo>
                    <a:lnTo>
                      <a:pt x="956" y="922"/>
                    </a:lnTo>
                    <a:lnTo>
                      <a:pt x="953" y="916"/>
                    </a:lnTo>
                    <a:lnTo>
                      <a:pt x="962" y="903"/>
                    </a:lnTo>
                    <a:lnTo>
                      <a:pt x="967" y="890"/>
                    </a:lnTo>
                    <a:lnTo>
                      <a:pt x="975" y="877"/>
                    </a:lnTo>
                    <a:lnTo>
                      <a:pt x="982" y="863"/>
                    </a:lnTo>
                    <a:lnTo>
                      <a:pt x="965" y="848"/>
                    </a:lnTo>
                    <a:lnTo>
                      <a:pt x="959" y="855"/>
                    </a:lnTo>
                    <a:lnTo>
                      <a:pt x="954" y="863"/>
                    </a:lnTo>
                    <a:lnTo>
                      <a:pt x="949" y="870"/>
                    </a:lnTo>
                    <a:lnTo>
                      <a:pt x="943" y="877"/>
                    </a:lnTo>
                    <a:lnTo>
                      <a:pt x="936" y="884"/>
                    </a:lnTo>
                    <a:lnTo>
                      <a:pt x="930" y="891"/>
                    </a:lnTo>
                    <a:lnTo>
                      <a:pt x="923" y="899"/>
                    </a:lnTo>
                    <a:lnTo>
                      <a:pt x="917" y="907"/>
                    </a:lnTo>
                    <a:lnTo>
                      <a:pt x="912" y="906"/>
                    </a:lnTo>
                    <a:lnTo>
                      <a:pt x="905" y="904"/>
                    </a:lnTo>
                    <a:lnTo>
                      <a:pt x="899" y="902"/>
                    </a:lnTo>
                    <a:lnTo>
                      <a:pt x="897" y="894"/>
                    </a:lnTo>
                    <a:lnTo>
                      <a:pt x="910" y="874"/>
                    </a:lnTo>
                    <a:lnTo>
                      <a:pt x="914" y="867"/>
                    </a:lnTo>
                    <a:lnTo>
                      <a:pt x="920" y="860"/>
                    </a:lnTo>
                    <a:lnTo>
                      <a:pt x="925" y="851"/>
                    </a:lnTo>
                    <a:lnTo>
                      <a:pt x="930" y="841"/>
                    </a:lnTo>
                    <a:lnTo>
                      <a:pt x="921" y="831"/>
                    </a:lnTo>
                    <a:lnTo>
                      <a:pt x="910" y="832"/>
                    </a:lnTo>
                    <a:lnTo>
                      <a:pt x="904" y="838"/>
                    </a:lnTo>
                    <a:lnTo>
                      <a:pt x="899" y="844"/>
                    </a:lnTo>
                    <a:lnTo>
                      <a:pt x="894" y="851"/>
                    </a:lnTo>
                    <a:lnTo>
                      <a:pt x="888" y="857"/>
                    </a:lnTo>
                    <a:lnTo>
                      <a:pt x="882" y="864"/>
                    </a:lnTo>
                    <a:lnTo>
                      <a:pt x="876" y="870"/>
                    </a:lnTo>
                    <a:lnTo>
                      <a:pt x="871" y="877"/>
                    </a:lnTo>
                    <a:lnTo>
                      <a:pt x="866" y="883"/>
                    </a:lnTo>
                    <a:lnTo>
                      <a:pt x="850" y="874"/>
                    </a:lnTo>
                    <a:lnTo>
                      <a:pt x="862" y="861"/>
                    </a:lnTo>
                    <a:lnTo>
                      <a:pt x="872" y="848"/>
                    </a:lnTo>
                    <a:lnTo>
                      <a:pt x="879" y="835"/>
                    </a:lnTo>
                    <a:lnTo>
                      <a:pt x="888" y="821"/>
                    </a:lnTo>
                    <a:lnTo>
                      <a:pt x="878" y="805"/>
                    </a:lnTo>
                    <a:lnTo>
                      <a:pt x="872" y="809"/>
                    </a:lnTo>
                    <a:lnTo>
                      <a:pt x="865" y="815"/>
                    </a:lnTo>
                    <a:lnTo>
                      <a:pt x="859" y="821"/>
                    </a:lnTo>
                    <a:lnTo>
                      <a:pt x="853" y="828"/>
                    </a:lnTo>
                    <a:lnTo>
                      <a:pt x="846" y="837"/>
                    </a:lnTo>
                    <a:lnTo>
                      <a:pt x="840" y="844"/>
                    </a:lnTo>
                    <a:lnTo>
                      <a:pt x="833" y="851"/>
                    </a:lnTo>
                    <a:lnTo>
                      <a:pt x="827" y="858"/>
                    </a:lnTo>
                    <a:lnTo>
                      <a:pt x="807" y="852"/>
                    </a:lnTo>
                    <a:lnTo>
                      <a:pt x="807" y="848"/>
                    </a:lnTo>
                    <a:lnTo>
                      <a:pt x="814" y="837"/>
                    </a:lnTo>
                    <a:lnTo>
                      <a:pt x="823" y="826"/>
                    </a:lnTo>
                    <a:lnTo>
                      <a:pt x="831" y="816"/>
                    </a:lnTo>
                    <a:lnTo>
                      <a:pt x="840" y="806"/>
                    </a:lnTo>
                    <a:lnTo>
                      <a:pt x="840" y="796"/>
                    </a:lnTo>
                    <a:lnTo>
                      <a:pt x="829" y="787"/>
                    </a:lnTo>
                    <a:lnTo>
                      <a:pt x="821" y="792"/>
                    </a:lnTo>
                    <a:lnTo>
                      <a:pt x="814" y="798"/>
                    </a:lnTo>
                    <a:lnTo>
                      <a:pt x="808" y="803"/>
                    </a:lnTo>
                    <a:lnTo>
                      <a:pt x="803" y="811"/>
                    </a:lnTo>
                    <a:lnTo>
                      <a:pt x="797" y="819"/>
                    </a:lnTo>
                    <a:lnTo>
                      <a:pt x="790" y="825"/>
                    </a:lnTo>
                    <a:lnTo>
                      <a:pt x="782" y="831"/>
                    </a:lnTo>
                    <a:lnTo>
                      <a:pt x="772" y="835"/>
                    </a:lnTo>
                    <a:lnTo>
                      <a:pt x="764" y="829"/>
                    </a:lnTo>
                    <a:lnTo>
                      <a:pt x="765" y="822"/>
                    </a:lnTo>
                    <a:lnTo>
                      <a:pt x="768" y="816"/>
                    </a:lnTo>
                    <a:lnTo>
                      <a:pt x="774" y="809"/>
                    </a:lnTo>
                    <a:lnTo>
                      <a:pt x="779" y="800"/>
                    </a:lnTo>
                    <a:lnTo>
                      <a:pt x="781" y="793"/>
                    </a:lnTo>
                    <a:lnTo>
                      <a:pt x="785" y="787"/>
                    </a:lnTo>
                    <a:lnTo>
                      <a:pt x="791" y="780"/>
                    </a:lnTo>
                    <a:lnTo>
                      <a:pt x="794" y="770"/>
                    </a:lnTo>
                    <a:lnTo>
                      <a:pt x="782" y="763"/>
                    </a:lnTo>
                    <a:lnTo>
                      <a:pt x="775" y="767"/>
                    </a:lnTo>
                    <a:lnTo>
                      <a:pt x="768" y="772"/>
                    </a:lnTo>
                    <a:lnTo>
                      <a:pt x="762" y="779"/>
                    </a:lnTo>
                    <a:lnTo>
                      <a:pt x="758" y="786"/>
                    </a:lnTo>
                    <a:lnTo>
                      <a:pt x="752" y="793"/>
                    </a:lnTo>
                    <a:lnTo>
                      <a:pt x="746" y="800"/>
                    </a:lnTo>
                    <a:lnTo>
                      <a:pt x="739" y="808"/>
                    </a:lnTo>
                    <a:lnTo>
                      <a:pt x="730" y="813"/>
                    </a:lnTo>
                    <a:lnTo>
                      <a:pt x="722" y="809"/>
                    </a:lnTo>
                    <a:lnTo>
                      <a:pt x="727" y="799"/>
                    </a:lnTo>
                    <a:lnTo>
                      <a:pt x="733" y="789"/>
                    </a:lnTo>
                    <a:lnTo>
                      <a:pt x="740" y="777"/>
                    </a:lnTo>
                    <a:lnTo>
                      <a:pt x="748" y="767"/>
                    </a:lnTo>
                    <a:lnTo>
                      <a:pt x="740" y="747"/>
                    </a:lnTo>
                    <a:lnTo>
                      <a:pt x="733" y="751"/>
                    </a:lnTo>
                    <a:lnTo>
                      <a:pt x="727" y="756"/>
                    </a:lnTo>
                    <a:lnTo>
                      <a:pt x="722" y="761"/>
                    </a:lnTo>
                    <a:lnTo>
                      <a:pt x="717" y="769"/>
                    </a:lnTo>
                    <a:lnTo>
                      <a:pt x="711" y="776"/>
                    </a:lnTo>
                    <a:lnTo>
                      <a:pt x="704" y="783"/>
                    </a:lnTo>
                    <a:lnTo>
                      <a:pt x="697" y="790"/>
                    </a:lnTo>
                    <a:lnTo>
                      <a:pt x="688" y="798"/>
                    </a:lnTo>
                    <a:lnTo>
                      <a:pt x="675" y="793"/>
                    </a:lnTo>
                    <a:lnTo>
                      <a:pt x="678" y="785"/>
                    </a:lnTo>
                    <a:lnTo>
                      <a:pt x="683" y="777"/>
                    </a:lnTo>
                    <a:lnTo>
                      <a:pt x="688" y="772"/>
                    </a:lnTo>
                    <a:lnTo>
                      <a:pt x="694" y="763"/>
                    </a:lnTo>
                    <a:lnTo>
                      <a:pt x="694" y="753"/>
                    </a:lnTo>
                    <a:lnTo>
                      <a:pt x="693" y="746"/>
                    </a:lnTo>
                    <a:lnTo>
                      <a:pt x="688" y="741"/>
                    </a:lnTo>
                    <a:lnTo>
                      <a:pt x="678" y="737"/>
                    </a:lnTo>
                    <a:lnTo>
                      <a:pt x="674" y="743"/>
                    </a:lnTo>
                    <a:lnTo>
                      <a:pt x="671" y="751"/>
                    </a:lnTo>
                    <a:lnTo>
                      <a:pt x="668" y="761"/>
                    </a:lnTo>
                    <a:lnTo>
                      <a:pt x="662" y="767"/>
                    </a:lnTo>
                    <a:lnTo>
                      <a:pt x="654" y="772"/>
                    </a:lnTo>
                    <a:lnTo>
                      <a:pt x="646" y="779"/>
                    </a:lnTo>
                    <a:lnTo>
                      <a:pt x="639" y="787"/>
                    </a:lnTo>
                    <a:lnTo>
                      <a:pt x="630" y="793"/>
                    </a:lnTo>
                    <a:lnTo>
                      <a:pt x="619" y="792"/>
                    </a:lnTo>
                    <a:lnTo>
                      <a:pt x="625" y="783"/>
                    </a:lnTo>
                    <a:lnTo>
                      <a:pt x="630" y="774"/>
                    </a:lnTo>
                    <a:lnTo>
                      <a:pt x="636" y="766"/>
                    </a:lnTo>
                    <a:lnTo>
                      <a:pt x="642" y="756"/>
                    </a:lnTo>
                    <a:lnTo>
                      <a:pt x="636" y="734"/>
                    </a:lnTo>
                    <a:lnTo>
                      <a:pt x="626" y="734"/>
                    </a:lnTo>
                    <a:lnTo>
                      <a:pt x="620" y="740"/>
                    </a:lnTo>
                    <a:lnTo>
                      <a:pt x="616" y="748"/>
                    </a:lnTo>
                    <a:lnTo>
                      <a:pt x="610" y="756"/>
                    </a:lnTo>
                    <a:lnTo>
                      <a:pt x="604" y="764"/>
                    </a:lnTo>
                    <a:lnTo>
                      <a:pt x="597" y="773"/>
                    </a:lnTo>
                    <a:lnTo>
                      <a:pt x="591" y="782"/>
                    </a:lnTo>
                    <a:lnTo>
                      <a:pt x="584" y="790"/>
                    </a:lnTo>
                    <a:lnTo>
                      <a:pt x="577" y="799"/>
                    </a:lnTo>
                    <a:lnTo>
                      <a:pt x="564" y="793"/>
                    </a:lnTo>
                    <a:lnTo>
                      <a:pt x="568" y="786"/>
                    </a:lnTo>
                    <a:lnTo>
                      <a:pt x="574" y="776"/>
                    </a:lnTo>
                    <a:lnTo>
                      <a:pt x="578" y="764"/>
                    </a:lnTo>
                    <a:lnTo>
                      <a:pt x="583" y="750"/>
                    </a:lnTo>
                    <a:lnTo>
                      <a:pt x="564" y="741"/>
                    </a:lnTo>
                    <a:lnTo>
                      <a:pt x="558" y="750"/>
                    </a:lnTo>
                    <a:lnTo>
                      <a:pt x="552" y="761"/>
                    </a:lnTo>
                    <a:lnTo>
                      <a:pt x="547" y="773"/>
                    </a:lnTo>
                    <a:lnTo>
                      <a:pt x="539" y="785"/>
                    </a:lnTo>
                    <a:lnTo>
                      <a:pt x="529" y="789"/>
                    </a:lnTo>
                    <a:lnTo>
                      <a:pt x="523" y="796"/>
                    </a:lnTo>
                    <a:lnTo>
                      <a:pt x="518" y="805"/>
                    </a:lnTo>
                    <a:lnTo>
                      <a:pt x="505" y="808"/>
                    </a:lnTo>
                    <a:lnTo>
                      <a:pt x="497" y="805"/>
                    </a:lnTo>
                    <a:lnTo>
                      <a:pt x="503" y="795"/>
                    </a:lnTo>
                    <a:lnTo>
                      <a:pt x="509" y="785"/>
                    </a:lnTo>
                    <a:lnTo>
                      <a:pt x="516" y="774"/>
                    </a:lnTo>
                    <a:lnTo>
                      <a:pt x="525" y="764"/>
                    </a:lnTo>
                    <a:lnTo>
                      <a:pt x="510" y="747"/>
                    </a:lnTo>
                    <a:lnTo>
                      <a:pt x="503" y="754"/>
                    </a:lnTo>
                    <a:lnTo>
                      <a:pt x="497" y="761"/>
                    </a:lnTo>
                    <a:lnTo>
                      <a:pt x="490" y="769"/>
                    </a:lnTo>
                    <a:lnTo>
                      <a:pt x="484" y="776"/>
                    </a:lnTo>
                    <a:lnTo>
                      <a:pt x="479" y="783"/>
                    </a:lnTo>
                    <a:lnTo>
                      <a:pt x="471" y="792"/>
                    </a:lnTo>
                    <a:lnTo>
                      <a:pt x="467" y="800"/>
                    </a:lnTo>
                    <a:lnTo>
                      <a:pt x="461" y="809"/>
                    </a:lnTo>
                    <a:lnTo>
                      <a:pt x="454" y="811"/>
                    </a:lnTo>
                    <a:lnTo>
                      <a:pt x="448" y="811"/>
                    </a:lnTo>
                    <a:lnTo>
                      <a:pt x="441" y="812"/>
                    </a:lnTo>
                    <a:lnTo>
                      <a:pt x="431" y="813"/>
                    </a:lnTo>
                    <a:lnTo>
                      <a:pt x="424" y="812"/>
                    </a:lnTo>
                    <a:lnTo>
                      <a:pt x="432" y="802"/>
                    </a:lnTo>
                    <a:lnTo>
                      <a:pt x="441" y="792"/>
                    </a:lnTo>
                    <a:lnTo>
                      <a:pt x="448" y="780"/>
                    </a:lnTo>
                    <a:lnTo>
                      <a:pt x="456" y="767"/>
                    </a:lnTo>
                    <a:lnTo>
                      <a:pt x="437" y="754"/>
                    </a:lnTo>
                    <a:lnTo>
                      <a:pt x="431" y="760"/>
                    </a:lnTo>
                    <a:lnTo>
                      <a:pt x="427" y="767"/>
                    </a:lnTo>
                    <a:lnTo>
                      <a:pt x="421" y="773"/>
                    </a:lnTo>
                    <a:lnTo>
                      <a:pt x="415" y="780"/>
                    </a:lnTo>
                    <a:lnTo>
                      <a:pt x="409" y="786"/>
                    </a:lnTo>
                    <a:lnTo>
                      <a:pt x="403" y="793"/>
                    </a:lnTo>
                    <a:lnTo>
                      <a:pt x="398" y="799"/>
                    </a:lnTo>
                    <a:lnTo>
                      <a:pt x="392" y="806"/>
                    </a:lnTo>
                    <a:lnTo>
                      <a:pt x="386" y="809"/>
                    </a:lnTo>
                    <a:lnTo>
                      <a:pt x="380" y="811"/>
                    </a:lnTo>
                    <a:lnTo>
                      <a:pt x="372" y="811"/>
                    </a:lnTo>
                    <a:lnTo>
                      <a:pt x="364" y="806"/>
                    </a:lnTo>
                    <a:lnTo>
                      <a:pt x="373" y="802"/>
                    </a:lnTo>
                    <a:lnTo>
                      <a:pt x="380" y="793"/>
                    </a:lnTo>
                    <a:lnTo>
                      <a:pt x="388" y="782"/>
                    </a:lnTo>
                    <a:lnTo>
                      <a:pt x="396" y="769"/>
                    </a:lnTo>
                    <a:lnTo>
                      <a:pt x="385" y="753"/>
                    </a:lnTo>
                    <a:lnTo>
                      <a:pt x="377" y="757"/>
                    </a:lnTo>
                    <a:lnTo>
                      <a:pt x="370" y="763"/>
                    </a:lnTo>
                    <a:lnTo>
                      <a:pt x="363" y="770"/>
                    </a:lnTo>
                    <a:lnTo>
                      <a:pt x="357" y="777"/>
                    </a:lnTo>
                    <a:lnTo>
                      <a:pt x="350" y="786"/>
                    </a:lnTo>
                    <a:lnTo>
                      <a:pt x="343" y="793"/>
                    </a:lnTo>
                    <a:lnTo>
                      <a:pt x="335" y="800"/>
                    </a:lnTo>
                    <a:lnTo>
                      <a:pt x="325" y="806"/>
                    </a:lnTo>
                    <a:lnTo>
                      <a:pt x="317" y="803"/>
                    </a:lnTo>
                    <a:lnTo>
                      <a:pt x="320" y="790"/>
                    </a:lnTo>
                    <a:lnTo>
                      <a:pt x="328" y="780"/>
                    </a:lnTo>
                    <a:lnTo>
                      <a:pt x="337" y="770"/>
                    </a:lnTo>
                    <a:lnTo>
                      <a:pt x="343" y="760"/>
                    </a:lnTo>
                    <a:lnTo>
                      <a:pt x="330" y="743"/>
                    </a:lnTo>
                    <a:lnTo>
                      <a:pt x="324" y="746"/>
                    </a:lnTo>
                    <a:lnTo>
                      <a:pt x="318" y="750"/>
                    </a:lnTo>
                    <a:lnTo>
                      <a:pt x="312" y="756"/>
                    </a:lnTo>
                    <a:lnTo>
                      <a:pt x="307" y="761"/>
                    </a:lnTo>
                    <a:lnTo>
                      <a:pt x="301" y="767"/>
                    </a:lnTo>
                    <a:lnTo>
                      <a:pt x="294" y="773"/>
                    </a:lnTo>
                    <a:lnTo>
                      <a:pt x="288" y="780"/>
                    </a:lnTo>
                    <a:lnTo>
                      <a:pt x="281" y="786"/>
                    </a:lnTo>
                    <a:lnTo>
                      <a:pt x="273" y="780"/>
                    </a:lnTo>
                    <a:lnTo>
                      <a:pt x="282" y="770"/>
                    </a:lnTo>
                    <a:lnTo>
                      <a:pt x="291" y="757"/>
                    </a:lnTo>
                    <a:lnTo>
                      <a:pt x="298" y="746"/>
                    </a:lnTo>
                    <a:lnTo>
                      <a:pt x="307" y="733"/>
                    </a:lnTo>
                    <a:lnTo>
                      <a:pt x="298" y="720"/>
                    </a:lnTo>
                    <a:lnTo>
                      <a:pt x="286" y="720"/>
                    </a:lnTo>
                    <a:lnTo>
                      <a:pt x="279" y="730"/>
                    </a:lnTo>
                    <a:lnTo>
                      <a:pt x="270" y="740"/>
                    </a:lnTo>
                    <a:lnTo>
                      <a:pt x="262" y="751"/>
                    </a:lnTo>
                    <a:lnTo>
                      <a:pt x="250" y="761"/>
                    </a:lnTo>
                    <a:lnTo>
                      <a:pt x="240" y="761"/>
                    </a:lnTo>
                    <a:lnTo>
                      <a:pt x="247" y="744"/>
                    </a:lnTo>
                    <a:lnTo>
                      <a:pt x="256" y="733"/>
                    </a:lnTo>
                    <a:lnTo>
                      <a:pt x="262" y="724"/>
                    </a:lnTo>
                    <a:lnTo>
                      <a:pt x="266" y="712"/>
                    </a:lnTo>
                    <a:lnTo>
                      <a:pt x="259" y="701"/>
                    </a:lnTo>
                    <a:lnTo>
                      <a:pt x="247" y="701"/>
                    </a:lnTo>
                    <a:lnTo>
                      <a:pt x="239" y="709"/>
                    </a:lnTo>
                    <a:lnTo>
                      <a:pt x="233" y="721"/>
                    </a:lnTo>
                    <a:lnTo>
                      <a:pt x="224" y="731"/>
                    </a:lnTo>
                    <a:lnTo>
                      <a:pt x="210" y="737"/>
                    </a:lnTo>
                    <a:lnTo>
                      <a:pt x="205" y="727"/>
                    </a:lnTo>
                    <a:lnTo>
                      <a:pt x="210" y="720"/>
                    </a:lnTo>
                    <a:lnTo>
                      <a:pt x="217" y="712"/>
                    </a:lnTo>
                    <a:lnTo>
                      <a:pt x="226" y="704"/>
                    </a:lnTo>
                    <a:lnTo>
                      <a:pt x="236" y="694"/>
                    </a:lnTo>
                    <a:lnTo>
                      <a:pt x="223" y="676"/>
                    </a:lnTo>
                    <a:lnTo>
                      <a:pt x="214" y="678"/>
                    </a:lnTo>
                    <a:lnTo>
                      <a:pt x="207" y="683"/>
                    </a:lnTo>
                    <a:lnTo>
                      <a:pt x="201" y="689"/>
                    </a:lnTo>
                    <a:lnTo>
                      <a:pt x="194" y="695"/>
                    </a:lnTo>
                    <a:lnTo>
                      <a:pt x="187" y="705"/>
                    </a:lnTo>
                    <a:lnTo>
                      <a:pt x="181" y="702"/>
                    </a:lnTo>
                    <a:lnTo>
                      <a:pt x="185" y="698"/>
                    </a:lnTo>
                    <a:lnTo>
                      <a:pt x="189" y="689"/>
                    </a:lnTo>
                    <a:lnTo>
                      <a:pt x="191" y="679"/>
                    </a:lnTo>
                    <a:lnTo>
                      <a:pt x="192" y="669"/>
                    </a:lnTo>
                    <a:lnTo>
                      <a:pt x="172" y="666"/>
                    </a:lnTo>
                    <a:lnTo>
                      <a:pt x="161" y="688"/>
                    </a:lnTo>
                    <a:lnTo>
                      <a:pt x="149" y="685"/>
                    </a:lnTo>
                    <a:lnTo>
                      <a:pt x="143" y="676"/>
                    </a:lnTo>
                    <a:lnTo>
                      <a:pt x="149" y="669"/>
                    </a:lnTo>
                    <a:lnTo>
                      <a:pt x="155" y="662"/>
                    </a:lnTo>
                    <a:lnTo>
                      <a:pt x="162" y="656"/>
                    </a:lnTo>
                    <a:lnTo>
                      <a:pt x="166" y="647"/>
                    </a:lnTo>
                    <a:lnTo>
                      <a:pt x="159" y="634"/>
                    </a:lnTo>
                    <a:lnTo>
                      <a:pt x="149" y="636"/>
                    </a:lnTo>
                    <a:lnTo>
                      <a:pt x="142" y="640"/>
                    </a:lnTo>
                    <a:lnTo>
                      <a:pt x="134" y="644"/>
                    </a:lnTo>
                    <a:lnTo>
                      <a:pt x="127" y="650"/>
                    </a:lnTo>
                    <a:lnTo>
                      <a:pt x="119" y="657"/>
                    </a:lnTo>
                    <a:lnTo>
                      <a:pt x="107" y="653"/>
                    </a:lnTo>
                    <a:lnTo>
                      <a:pt x="114" y="646"/>
                    </a:lnTo>
                    <a:lnTo>
                      <a:pt x="121" y="640"/>
                    </a:lnTo>
                    <a:lnTo>
                      <a:pt x="129" y="634"/>
                    </a:lnTo>
                    <a:lnTo>
                      <a:pt x="136" y="626"/>
                    </a:lnTo>
                    <a:lnTo>
                      <a:pt x="129" y="614"/>
                    </a:lnTo>
                    <a:lnTo>
                      <a:pt x="119" y="614"/>
                    </a:lnTo>
                    <a:lnTo>
                      <a:pt x="108" y="620"/>
                    </a:lnTo>
                    <a:lnTo>
                      <a:pt x="98" y="627"/>
                    </a:lnTo>
                    <a:lnTo>
                      <a:pt x="88" y="626"/>
                    </a:lnTo>
                    <a:lnTo>
                      <a:pt x="97" y="617"/>
                    </a:lnTo>
                    <a:lnTo>
                      <a:pt x="107" y="608"/>
                    </a:lnTo>
                    <a:lnTo>
                      <a:pt x="114" y="597"/>
                    </a:lnTo>
                    <a:lnTo>
                      <a:pt x="121" y="582"/>
                    </a:lnTo>
                    <a:lnTo>
                      <a:pt x="108" y="574"/>
                    </a:lnTo>
                    <a:lnTo>
                      <a:pt x="100" y="575"/>
                    </a:lnTo>
                    <a:lnTo>
                      <a:pt x="94" y="581"/>
                    </a:lnTo>
                    <a:lnTo>
                      <a:pt x="87" y="588"/>
                    </a:lnTo>
                    <a:lnTo>
                      <a:pt x="78" y="595"/>
                    </a:lnTo>
                    <a:lnTo>
                      <a:pt x="75" y="588"/>
                    </a:lnTo>
                    <a:lnTo>
                      <a:pt x="84" y="579"/>
                    </a:lnTo>
                    <a:lnTo>
                      <a:pt x="93" y="572"/>
                    </a:lnTo>
                    <a:lnTo>
                      <a:pt x="100" y="565"/>
                    </a:lnTo>
                    <a:lnTo>
                      <a:pt x="108" y="555"/>
                    </a:lnTo>
                    <a:lnTo>
                      <a:pt x="94" y="539"/>
                    </a:lnTo>
                    <a:lnTo>
                      <a:pt x="91" y="543"/>
                    </a:lnTo>
                    <a:lnTo>
                      <a:pt x="84" y="546"/>
                    </a:lnTo>
                    <a:lnTo>
                      <a:pt x="74" y="549"/>
                    </a:lnTo>
                    <a:lnTo>
                      <a:pt x="64" y="553"/>
                    </a:lnTo>
                    <a:lnTo>
                      <a:pt x="64" y="532"/>
                    </a:lnTo>
                    <a:lnTo>
                      <a:pt x="67" y="526"/>
                    </a:lnTo>
                    <a:lnTo>
                      <a:pt x="75" y="523"/>
                    </a:lnTo>
                    <a:lnTo>
                      <a:pt x="82" y="519"/>
                    </a:lnTo>
                    <a:lnTo>
                      <a:pt x="85" y="509"/>
                    </a:lnTo>
                    <a:lnTo>
                      <a:pt x="71" y="496"/>
                    </a:lnTo>
                    <a:lnTo>
                      <a:pt x="49" y="509"/>
                    </a:lnTo>
                    <a:lnTo>
                      <a:pt x="52" y="497"/>
                    </a:lnTo>
                    <a:lnTo>
                      <a:pt x="59" y="490"/>
                    </a:lnTo>
                    <a:lnTo>
                      <a:pt x="69" y="484"/>
                    </a:lnTo>
                    <a:lnTo>
                      <a:pt x="78" y="474"/>
                    </a:lnTo>
                    <a:lnTo>
                      <a:pt x="72" y="461"/>
                    </a:lnTo>
                    <a:lnTo>
                      <a:pt x="65" y="459"/>
                    </a:lnTo>
                    <a:lnTo>
                      <a:pt x="58" y="461"/>
                    </a:lnTo>
                    <a:lnTo>
                      <a:pt x="51" y="464"/>
                    </a:lnTo>
                    <a:lnTo>
                      <a:pt x="42" y="467"/>
                    </a:lnTo>
                    <a:lnTo>
                      <a:pt x="45" y="458"/>
                    </a:lnTo>
                    <a:lnTo>
                      <a:pt x="52" y="454"/>
                    </a:lnTo>
                    <a:lnTo>
                      <a:pt x="59" y="448"/>
                    </a:lnTo>
                    <a:lnTo>
                      <a:pt x="62" y="438"/>
                    </a:lnTo>
                    <a:lnTo>
                      <a:pt x="54" y="426"/>
                    </a:lnTo>
                    <a:lnTo>
                      <a:pt x="46" y="428"/>
                    </a:lnTo>
                    <a:lnTo>
                      <a:pt x="39" y="432"/>
                    </a:lnTo>
                    <a:lnTo>
                      <a:pt x="32" y="438"/>
                    </a:lnTo>
                    <a:lnTo>
                      <a:pt x="25" y="439"/>
                    </a:lnTo>
                    <a:lnTo>
                      <a:pt x="32" y="432"/>
                    </a:lnTo>
                    <a:lnTo>
                      <a:pt x="38" y="425"/>
                    </a:lnTo>
                    <a:lnTo>
                      <a:pt x="40" y="418"/>
                    </a:lnTo>
                    <a:lnTo>
                      <a:pt x="35" y="407"/>
                    </a:lnTo>
                    <a:lnTo>
                      <a:pt x="30" y="405"/>
                    </a:lnTo>
                    <a:lnTo>
                      <a:pt x="23" y="406"/>
                    </a:lnTo>
                    <a:lnTo>
                      <a:pt x="16" y="409"/>
                    </a:lnTo>
                    <a:lnTo>
                      <a:pt x="9" y="413"/>
                    </a:lnTo>
                    <a:lnTo>
                      <a:pt x="1" y="407"/>
                    </a:lnTo>
                    <a:lnTo>
                      <a:pt x="0" y="400"/>
                    </a:lnTo>
                    <a:lnTo>
                      <a:pt x="0" y="393"/>
                    </a:lnTo>
                    <a:lnTo>
                      <a:pt x="0" y="386"/>
                    </a:lnTo>
                    <a:lnTo>
                      <a:pt x="3" y="376"/>
                    </a:lnTo>
                    <a:lnTo>
                      <a:pt x="17" y="363"/>
                    </a:lnTo>
                    <a:lnTo>
                      <a:pt x="39" y="363"/>
                    </a:lnTo>
                    <a:lnTo>
                      <a:pt x="56" y="368"/>
                    </a:lnTo>
                    <a:lnTo>
                      <a:pt x="72" y="376"/>
                    </a:lnTo>
                    <a:lnTo>
                      <a:pt x="88" y="384"/>
                    </a:lnTo>
                    <a:lnTo>
                      <a:pt x="104" y="393"/>
                    </a:lnTo>
                    <a:lnTo>
                      <a:pt x="119" y="403"/>
                    </a:lnTo>
                    <a:lnTo>
                      <a:pt x="132" y="415"/>
                    </a:lnTo>
                    <a:lnTo>
                      <a:pt x="146" y="428"/>
                    </a:lnTo>
                    <a:lnTo>
                      <a:pt x="159" y="442"/>
                    </a:lnTo>
                    <a:lnTo>
                      <a:pt x="166" y="455"/>
                    </a:lnTo>
                    <a:lnTo>
                      <a:pt x="175" y="467"/>
                    </a:lnTo>
                    <a:lnTo>
                      <a:pt x="184" y="477"/>
                    </a:lnTo>
                    <a:lnTo>
                      <a:pt x="192" y="487"/>
                    </a:lnTo>
                    <a:lnTo>
                      <a:pt x="201" y="497"/>
                    </a:lnTo>
                    <a:lnTo>
                      <a:pt x="208" y="509"/>
                    </a:lnTo>
                    <a:lnTo>
                      <a:pt x="215" y="522"/>
                    </a:lnTo>
                    <a:lnTo>
                      <a:pt x="221" y="535"/>
                    </a:lnTo>
                    <a:lnTo>
                      <a:pt x="247" y="536"/>
                    </a:lnTo>
                    <a:lnTo>
                      <a:pt x="273" y="535"/>
                    </a:lnTo>
                    <a:lnTo>
                      <a:pt x="301" y="532"/>
                    </a:lnTo>
                    <a:lnTo>
                      <a:pt x="330" y="526"/>
                    </a:lnTo>
                    <a:lnTo>
                      <a:pt x="357" y="519"/>
                    </a:lnTo>
                    <a:lnTo>
                      <a:pt x="385" y="511"/>
                    </a:lnTo>
                    <a:lnTo>
                      <a:pt x="414" y="504"/>
                    </a:lnTo>
                    <a:lnTo>
                      <a:pt x="441" y="498"/>
                    </a:lnTo>
                    <a:lnTo>
                      <a:pt x="445" y="488"/>
                    </a:lnTo>
                    <a:lnTo>
                      <a:pt x="422" y="484"/>
                    </a:lnTo>
                    <a:lnTo>
                      <a:pt x="398" y="484"/>
                    </a:lnTo>
                    <a:lnTo>
                      <a:pt x="372" y="487"/>
                    </a:lnTo>
                    <a:lnTo>
                      <a:pt x="347" y="491"/>
                    </a:lnTo>
                    <a:lnTo>
                      <a:pt x="321" y="497"/>
                    </a:lnTo>
                    <a:lnTo>
                      <a:pt x="295" y="503"/>
                    </a:lnTo>
                    <a:lnTo>
                      <a:pt x="269" y="507"/>
                    </a:lnTo>
                    <a:lnTo>
                      <a:pt x="244" y="509"/>
                    </a:lnTo>
                    <a:lnTo>
                      <a:pt x="228" y="484"/>
                    </a:lnTo>
                    <a:lnTo>
                      <a:pt x="230" y="481"/>
                    </a:lnTo>
                    <a:lnTo>
                      <a:pt x="244" y="483"/>
                    </a:lnTo>
                    <a:lnTo>
                      <a:pt x="260" y="483"/>
                    </a:lnTo>
                    <a:lnTo>
                      <a:pt x="275" y="481"/>
                    </a:lnTo>
                    <a:lnTo>
                      <a:pt x="291" y="480"/>
                    </a:lnTo>
                    <a:lnTo>
                      <a:pt x="305" y="475"/>
                    </a:lnTo>
                    <a:lnTo>
                      <a:pt x="318" y="470"/>
                    </a:lnTo>
                    <a:lnTo>
                      <a:pt x="333" y="462"/>
                    </a:lnTo>
                    <a:lnTo>
                      <a:pt x="346" y="454"/>
                    </a:lnTo>
                    <a:lnTo>
                      <a:pt x="354" y="444"/>
                    </a:lnTo>
                    <a:lnTo>
                      <a:pt x="362" y="433"/>
                    </a:lnTo>
                    <a:lnTo>
                      <a:pt x="367" y="423"/>
                    </a:lnTo>
                    <a:lnTo>
                      <a:pt x="375" y="413"/>
                    </a:lnTo>
                    <a:lnTo>
                      <a:pt x="375" y="405"/>
                    </a:lnTo>
                    <a:lnTo>
                      <a:pt x="375" y="397"/>
                    </a:lnTo>
                    <a:lnTo>
                      <a:pt x="375" y="390"/>
                    </a:lnTo>
                    <a:lnTo>
                      <a:pt x="376" y="381"/>
                    </a:lnTo>
                    <a:lnTo>
                      <a:pt x="386" y="380"/>
                    </a:lnTo>
                    <a:lnTo>
                      <a:pt x="396" y="377"/>
                    </a:lnTo>
                    <a:lnTo>
                      <a:pt x="406" y="374"/>
                    </a:lnTo>
                    <a:lnTo>
                      <a:pt x="418" y="370"/>
                    </a:lnTo>
                    <a:lnTo>
                      <a:pt x="428" y="366"/>
                    </a:lnTo>
                    <a:lnTo>
                      <a:pt x="440" y="357"/>
                    </a:lnTo>
                    <a:lnTo>
                      <a:pt x="450" y="347"/>
                    </a:lnTo>
                    <a:lnTo>
                      <a:pt x="460" y="334"/>
                    </a:lnTo>
                    <a:lnTo>
                      <a:pt x="466" y="312"/>
                    </a:lnTo>
                    <a:lnTo>
                      <a:pt x="469" y="289"/>
                    </a:lnTo>
                    <a:lnTo>
                      <a:pt x="469" y="267"/>
                    </a:lnTo>
                    <a:lnTo>
                      <a:pt x="469" y="243"/>
                    </a:lnTo>
                    <a:lnTo>
                      <a:pt x="474" y="237"/>
                    </a:lnTo>
                    <a:lnTo>
                      <a:pt x="482" y="231"/>
                    </a:lnTo>
                    <a:lnTo>
                      <a:pt x="489" y="227"/>
                    </a:lnTo>
                    <a:lnTo>
                      <a:pt x="500" y="223"/>
                    </a:lnTo>
                    <a:lnTo>
                      <a:pt x="512" y="211"/>
                    </a:lnTo>
                    <a:lnTo>
                      <a:pt x="518" y="196"/>
                    </a:lnTo>
                    <a:lnTo>
                      <a:pt x="523" y="182"/>
                    </a:lnTo>
                    <a:lnTo>
                      <a:pt x="529" y="166"/>
                    </a:lnTo>
                    <a:lnTo>
                      <a:pt x="536" y="147"/>
                    </a:lnTo>
                    <a:lnTo>
                      <a:pt x="536" y="140"/>
                    </a:lnTo>
                    <a:lnTo>
                      <a:pt x="539" y="133"/>
                    </a:lnTo>
                    <a:lnTo>
                      <a:pt x="541" y="127"/>
                    </a:lnTo>
                    <a:lnTo>
                      <a:pt x="541" y="118"/>
                    </a:lnTo>
                    <a:lnTo>
                      <a:pt x="552" y="114"/>
                    </a:lnTo>
                    <a:lnTo>
                      <a:pt x="563" y="108"/>
                    </a:lnTo>
                    <a:lnTo>
                      <a:pt x="571" y="103"/>
                    </a:lnTo>
                    <a:lnTo>
                      <a:pt x="581" y="97"/>
                    </a:lnTo>
                    <a:lnTo>
                      <a:pt x="599" y="77"/>
                    </a:lnTo>
                    <a:lnTo>
                      <a:pt x="602" y="74"/>
                    </a:lnTo>
                    <a:lnTo>
                      <a:pt x="604" y="66"/>
                    </a:lnTo>
                    <a:lnTo>
                      <a:pt x="607" y="56"/>
                    </a:lnTo>
                    <a:lnTo>
                      <a:pt x="613" y="46"/>
                    </a:lnTo>
                    <a:lnTo>
                      <a:pt x="612" y="35"/>
                    </a:lnTo>
                    <a:lnTo>
                      <a:pt x="609" y="25"/>
                    </a:lnTo>
                    <a:lnTo>
                      <a:pt x="609" y="13"/>
                    </a:lnTo>
                    <a:lnTo>
                      <a:pt x="613" y="0"/>
                    </a:lnTo>
                    <a:lnTo>
                      <a:pt x="646" y="22"/>
                    </a:lnTo>
                    <a:lnTo>
                      <a:pt x="678" y="46"/>
                    </a:lnTo>
                    <a:lnTo>
                      <a:pt x="707" y="72"/>
                    </a:lnTo>
                    <a:lnTo>
                      <a:pt x="735" y="100"/>
                    </a:lnTo>
                    <a:lnTo>
                      <a:pt x="761" y="127"/>
                    </a:lnTo>
                    <a:lnTo>
                      <a:pt x="787" y="157"/>
                    </a:lnTo>
                    <a:lnTo>
                      <a:pt x="811" y="188"/>
                    </a:lnTo>
                    <a:lnTo>
                      <a:pt x="834" y="218"/>
                    </a:lnTo>
                    <a:lnTo>
                      <a:pt x="859" y="249"/>
                    </a:lnTo>
                    <a:lnTo>
                      <a:pt x="884" y="277"/>
                    </a:lnTo>
                    <a:lnTo>
                      <a:pt x="908" y="306"/>
                    </a:lnTo>
                    <a:lnTo>
                      <a:pt x="933" y="335"/>
                    </a:lnTo>
                    <a:lnTo>
                      <a:pt x="960" y="361"/>
                    </a:lnTo>
                    <a:lnTo>
                      <a:pt x="989" y="386"/>
                    </a:lnTo>
                    <a:lnTo>
                      <a:pt x="1019" y="409"/>
                    </a:lnTo>
                    <a:lnTo>
                      <a:pt x="1051" y="429"/>
                    </a:lnTo>
                    <a:lnTo>
                      <a:pt x="1080" y="448"/>
                    </a:lnTo>
                    <a:lnTo>
                      <a:pt x="1111" y="465"/>
                    </a:lnTo>
                    <a:lnTo>
                      <a:pt x="1142" y="481"/>
                    </a:lnTo>
                    <a:lnTo>
                      <a:pt x="1176" y="497"/>
                    </a:lnTo>
                    <a:lnTo>
                      <a:pt x="1209" y="511"/>
                    </a:lnTo>
                    <a:lnTo>
                      <a:pt x="1244" y="526"/>
                    </a:lnTo>
                    <a:lnTo>
                      <a:pt x="1280" y="539"/>
                    </a:lnTo>
                    <a:lnTo>
                      <a:pt x="1316" y="552"/>
                    </a:lnTo>
                    <a:lnTo>
                      <a:pt x="1354" y="565"/>
                    </a:lnTo>
                    <a:lnTo>
                      <a:pt x="1391" y="576"/>
                    </a:lnTo>
                    <a:lnTo>
                      <a:pt x="1429" y="588"/>
                    </a:lnTo>
                    <a:lnTo>
                      <a:pt x="1468" y="600"/>
                    </a:lnTo>
                    <a:lnTo>
                      <a:pt x="1505" y="613"/>
                    </a:lnTo>
                    <a:lnTo>
                      <a:pt x="1543" y="624"/>
                    </a:lnTo>
                    <a:lnTo>
                      <a:pt x="1582" y="636"/>
                    </a:lnTo>
                    <a:lnTo>
                      <a:pt x="1620" y="649"/>
                    </a:lnTo>
                    <a:lnTo>
                      <a:pt x="1644" y="655"/>
                    </a:lnTo>
                    <a:lnTo>
                      <a:pt x="1667" y="662"/>
                    </a:lnTo>
                    <a:lnTo>
                      <a:pt x="1689" y="669"/>
                    </a:lnTo>
                    <a:lnTo>
                      <a:pt x="1709" y="676"/>
                    </a:lnTo>
                    <a:lnTo>
                      <a:pt x="1731" y="683"/>
                    </a:lnTo>
                    <a:lnTo>
                      <a:pt x="1751" y="689"/>
                    </a:lnTo>
                    <a:lnTo>
                      <a:pt x="1771" y="695"/>
                    </a:lnTo>
                    <a:lnTo>
                      <a:pt x="1793" y="699"/>
                    </a:lnTo>
                    <a:lnTo>
                      <a:pt x="1834" y="711"/>
                    </a:lnTo>
                    <a:lnTo>
                      <a:pt x="1874" y="722"/>
                    </a:lnTo>
                    <a:lnTo>
                      <a:pt x="1915" y="735"/>
                    </a:lnTo>
                    <a:lnTo>
                      <a:pt x="1955" y="747"/>
                    </a:lnTo>
                    <a:lnTo>
                      <a:pt x="1996" y="760"/>
                    </a:lnTo>
                    <a:lnTo>
                      <a:pt x="2036" y="773"/>
                    </a:lnTo>
                    <a:lnTo>
                      <a:pt x="2075" y="786"/>
                    </a:lnTo>
                    <a:lnTo>
                      <a:pt x="2116" y="799"/>
                    </a:lnTo>
                    <a:lnTo>
                      <a:pt x="2156" y="812"/>
                    </a:lnTo>
                    <a:lnTo>
                      <a:pt x="2195" y="825"/>
                    </a:lnTo>
                    <a:lnTo>
                      <a:pt x="2234" y="838"/>
                    </a:lnTo>
                    <a:lnTo>
                      <a:pt x="2273" y="852"/>
                    </a:lnTo>
                    <a:lnTo>
                      <a:pt x="2312" y="865"/>
                    </a:lnTo>
                    <a:lnTo>
                      <a:pt x="2351" y="880"/>
                    </a:lnTo>
                    <a:lnTo>
                      <a:pt x="2389" y="893"/>
                    </a:lnTo>
                    <a:lnTo>
                      <a:pt x="2426" y="907"/>
                    </a:lnTo>
                    <a:lnTo>
                      <a:pt x="2429" y="1091"/>
                    </a:lnTo>
                    <a:lnTo>
                      <a:pt x="2431" y="1274"/>
                    </a:lnTo>
                    <a:lnTo>
                      <a:pt x="2431" y="1458"/>
                    </a:lnTo>
                    <a:lnTo>
                      <a:pt x="2429" y="1641"/>
                    </a:lnTo>
                    <a:lnTo>
                      <a:pt x="2421" y="1654"/>
                    </a:lnTo>
                    <a:lnTo>
                      <a:pt x="2412" y="1670"/>
                    </a:lnTo>
                    <a:lnTo>
                      <a:pt x="2402" y="1688"/>
                    </a:lnTo>
                    <a:lnTo>
                      <a:pt x="2390" y="1705"/>
                    </a:lnTo>
                    <a:lnTo>
                      <a:pt x="2374" y="1708"/>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140600" y="2816280"/>
                <a:ext cx="12600" cy="9360"/>
              </a:xfrm>
              <a:custGeom>
                <a:avLst/>
                <a:gdLst/>
                <a:ahLst/>
                <a:rect l="l" t="t" r="r" b="b"/>
                <a:pathLst>
                  <a:path w="26" h="18">
                    <a:moveTo>
                      <a:pt x="10" y="18"/>
                    </a:moveTo>
                    <a:lnTo>
                      <a:pt x="0" y="9"/>
                    </a:lnTo>
                    <a:lnTo>
                      <a:pt x="2" y="2"/>
                    </a:lnTo>
                    <a:lnTo>
                      <a:pt x="11" y="0"/>
                    </a:lnTo>
                    <a:lnTo>
                      <a:pt x="20" y="0"/>
                    </a:lnTo>
                    <a:lnTo>
                      <a:pt x="26" y="5"/>
                    </a:lnTo>
                    <a:lnTo>
                      <a:pt x="10"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40" name=""/>
              <p:cNvSpPr/>
              <p:nvPr/>
            </p:nvSpPr>
            <p:spPr>
              <a:xfrm>
                <a:off x="7958160" y="2795760"/>
                <a:ext cx="9360" cy="10800"/>
              </a:xfrm>
              <a:custGeom>
                <a:avLst/>
                <a:gdLst/>
                <a:ahLst/>
                <a:rect l="l" t="t" r="r" b="b"/>
                <a:pathLst>
                  <a:path w="19" h="23">
                    <a:moveTo>
                      <a:pt x="6" y="23"/>
                    </a:moveTo>
                    <a:lnTo>
                      <a:pt x="0" y="20"/>
                    </a:lnTo>
                    <a:lnTo>
                      <a:pt x="0" y="13"/>
                    </a:lnTo>
                    <a:lnTo>
                      <a:pt x="2" y="4"/>
                    </a:lnTo>
                    <a:lnTo>
                      <a:pt x="6" y="0"/>
                    </a:lnTo>
                    <a:lnTo>
                      <a:pt x="12" y="6"/>
                    </a:lnTo>
                    <a:lnTo>
                      <a:pt x="19" y="13"/>
                    </a:lnTo>
                    <a:lnTo>
                      <a:pt x="19" y="19"/>
                    </a:lnTo>
                    <a:lnTo>
                      <a:pt x="6"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1" name=""/>
              <p:cNvSpPr/>
              <p:nvPr/>
            </p:nvSpPr>
            <p:spPr>
              <a:xfrm>
                <a:off x="8053560" y="2793960"/>
                <a:ext cx="9360" cy="9720"/>
              </a:xfrm>
              <a:custGeom>
                <a:avLst/>
                <a:gdLst/>
                <a:ahLst/>
                <a:rect l="l" t="t" r="r" b="b"/>
                <a:pathLst>
                  <a:path w="18" h="19">
                    <a:moveTo>
                      <a:pt x="4" y="19"/>
                    </a:moveTo>
                    <a:lnTo>
                      <a:pt x="0" y="16"/>
                    </a:lnTo>
                    <a:lnTo>
                      <a:pt x="0" y="7"/>
                    </a:lnTo>
                    <a:lnTo>
                      <a:pt x="3" y="1"/>
                    </a:lnTo>
                    <a:lnTo>
                      <a:pt x="10" y="0"/>
                    </a:lnTo>
                    <a:lnTo>
                      <a:pt x="16" y="4"/>
                    </a:lnTo>
                    <a:lnTo>
                      <a:pt x="18" y="13"/>
                    </a:lnTo>
                    <a:lnTo>
                      <a:pt x="16" y="1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2" name=""/>
              <p:cNvSpPr/>
              <p:nvPr/>
            </p:nvSpPr>
            <p:spPr>
              <a:xfrm>
                <a:off x="8120160" y="2778120"/>
                <a:ext cx="9360" cy="12600"/>
              </a:xfrm>
              <a:custGeom>
                <a:avLst/>
                <a:gdLst/>
                <a:ahLst/>
                <a:rect l="l" t="t" r="r" b="b"/>
                <a:pathLst>
                  <a:path w="19" h="26">
                    <a:moveTo>
                      <a:pt x="9" y="26"/>
                    </a:moveTo>
                    <a:lnTo>
                      <a:pt x="3" y="21"/>
                    </a:lnTo>
                    <a:lnTo>
                      <a:pt x="0" y="14"/>
                    </a:lnTo>
                    <a:lnTo>
                      <a:pt x="0" y="5"/>
                    </a:lnTo>
                    <a:lnTo>
                      <a:pt x="6" y="0"/>
                    </a:lnTo>
                    <a:lnTo>
                      <a:pt x="14" y="3"/>
                    </a:lnTo>
                    <a:lnTo>
                      <a:pt x="19" y="11"/>
                    </a:lnTo>
                    <a:lnTo>
                      <a:pt x="17" y="20"/>
                    </a:lnTo>
                    <a:lnTo>
                      <a:pt x="9"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3" name=""/>
              <p:cNvSpPr/>
              <p:nvPr/>
            </p:nvSpPr>
            <p:spPr>
              <a:xfrm>
                <a:off x="8221680" y="2768760"/>
                <a:ext cx="7920" cy="10800"/>
              </a:xfrm>
              <a:custGeom>
                <a:avLst/>
                <a:gdLst/>
                <a:ahLst/>
                <a:rect l="l" t="t" r="r" b="b"/>
                <a:pathLst>
                  <a:path w="17" h="22">
                    <a:moveTo>
                      <a:pt x="0" y="22"/>
                    </a:moveTo>
                    <a:lnTo>
                      <a:pt x="3" y="0"/>
                    </a:lnTo>
                    <a:lnTo>
                      <a:pt x="17" y="15"/>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7089840" y="2776680"/>
                <a:ext cx="11160" cy="10800"/>
              </a:xfrm>
              <a:custGeom>
                <a:avLst/>
                <a:gdLst/>
                <a:ahLst/>
                <a:rect l="l" t="t" r="r" b="b"/>
                <a:pathLst>
                  <a:path w="21" h="23">
                    <a:moveTo>
                      <a:pt x="7" y="23"/>
                    </a:moveTo>
                    <a:lnTo>
                      <a:pt x="0" y="4"/>
                    </a:lnTo>
                    <a:lnTo>
                      <a:pt x="8" y="0"/>
                    </a:lnTo>
                    <a:lnTo>
                      <a:pt x="15" y="3"/>
                    </a:lnTo>
                    <a:lnTo>
                      <a:pt x="20" y="11"/>
                    </a:lnTo>
                    <a:lnTo>
                      <a:pt x="21" y="21"/>
                    </a:lnTo>
                    <a:lnTo>
                      <a:pt x="7"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5" name=""/>
              <p:cNvSpPr/>
              <p:nvPr/>
            </p:nvSpPr>
            <p:spPr>
              <a:xfrm>
                <a:off x="8339040" y="2716200"/>
                <a:ext cx="39960" cy="50760"/>
              </a:xfrm>
              <a:custGeom>
                <a:avLst/>
                <a:gdLst/>
                <a:ahLst/>
                <a:rect l="l" t="t" r="r" b="b"/>
                <a:pathLst>
                  <a:path w="75" h="95">
                    <a:moveTo>
                      <a:pt x="7" y="95"/>
                    </a:moveTo>
                    <a:lnTo>
                      <a:pt x="0" y="77"/>
                    </a:lnTo>
                    <a:lnTo>
                      <a:pt x="9" y="68"/>
                    </a:lnTo>
                    <a:lnTo>
                      <a:pt x="17" y="58"/>
                    </a:lnTo>
                    <a:lnTo>
                      <a:pt x="25" y="49"/>
                    </a:lnTo>
                    <a:lnTo>
                      <a:pt x="32" y="39"/>
                    </a:lnTo>
                    <a:lnTo>
                      <a:pt x="39" y="29"/>
                    </a:lnTo>
                    <a:lnTo>
                      <a:pt x="46" y="19"/>
                    </a:lnTo>
                    <a:lnTo>
                      <a:pt x="53" y="10"/>
                    </a:lnTo>
                    <a:lnTo>
                      <a:pt x="62" y="0"/>
                    </a:lnTo>
                    <a:lnTo>
                      <a:pt x="72" y="2"/>
                    </a:lnTo>
                    <a:lnTo>
                      <a:pt x="75" y="9"/>
                    </a:lnTo>
                    <a:lnTo>
                      <a:pt x="69" y="20"/>
                    </a:lnTo>
                    <a:lnTo>
                      <a:pt x="64" y="32"/>
                    </a:lnTo>
                    <a:lnTo>
                      <a:pt x="56" y="43"/>
                    </a:lnTo>
                    <a:lnTo>
                      <a:pt x="48" y="55"/>
                    </a:lnTo>
                    <a:lnTo>
                      <a:pt x="38" y="65"/>
                    </a:lnTo>
                    <a:lnTo>
                      <a:pt x="27" y="77"/>
                    </a:lnTo>
                    <a:lnTo>
                      <a:pt x="17" y="85"/>
                    </a:lnTo>
                    <a:lnTo>
                      <a:pt x="7"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6" name=""/>
              <p:cNvSpPr/>
              <p:nvPr/>
            </p:nvSpPr>
            <p:spPr>
              <a:xfrm>
                <a:off x="7209000" y="2757600"/>
                <a:ext cx="14040" cy="12600"/>
              </a:xfrm>
              <a:custGeom>
                <a:avLst/>
                <a:gdLst/>
                <a:ahLst/>
                <a:rect l="l" t="t" r="r" b="b"/>
                <a:pathLst>
                  <a:path w="25" h="24">
                    <a:moveTo>
                      <a:pt x="15" y="24"/>
                    </a:moveTo>
                    <a:lnTo>
                      <a:pt x="0" y="5"/>
                    </a:lnTo>
                    <a:lnTo>
                      <a:pt x="7" y="0"/>
                    </a:lnTo>
                    <a:lnTo>
                      <a:pt x="15" y="1"/>
                    </a:lnTo>
                    <a:lnTo>
                      <a:pt x="20" y="8"/>
                    </a:lnTo>
                    <a:lnTo>
                      <a:pt x="25" y="18"/>
                    </a:lnTo>
                    <a:lnTo>
                      <a:pt x="1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7" name=""/>
              <p:cNvSpPr/>
              <p:nvPr/>
            </p:nvSpPr>
            <p:spPr>
              <a:xfrm>
                <a:off x="7402680" y="2751120"/>
                <a:ext cx="10800" cy="14400"/>
              </a:xfrm>
              <a:custGeom>
                <a:avLst/>
                <a:gdLst/>
                <a:ahLst/>
                <a:rect l="l" t="t" r="r" b="b"/>
                <a:pathLst>
                  <a:path w="19" h="26">
                    <a:moveTo>
                      <a:pt x="6" y="26"/>
                    </a:moveTo>
                    <a:lnTo>
                      <a:pt x="0" y="23"/>
                    </a:lnTo>
                    <a:lnTo>
                      <a:pt x="0" y="14"/>
                    </a:lnTo>
                    <a:lnTo>
                      <a:pt x="4" y="5"/>
                    </a:lnTo>
                    <a:lnTo>
                      <a:pt x="13" y="0"/>
                    </a:lnTo>
                    <a:lnTo>
                      <a:pt x="17" y="5"/>
                    </a:lnTo>
                    <a:lnTo>
                      <a:pt x="19" y="14"/>
                    </a:lnTo>
                    <a:lnTo>
                      <a:pt x="16" y="23"/>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48" name=""/>
              <p:cNvSpPr/>
              <p:nvPr/>
            </p:nvSpPr>
            <p:spPr>
              <a:xfrm>
                <a:off x="8013600" y="2744640"/>
                <a:ext cx="12960" cy="12960"/>
              </a:xfrm>
              <a:custGeom>
                <a:avLst/>
                <a:gdLst/>
                <a:ahLst/>
                <a:rect l="l" t="t" r="r" b="b"/>
                <a:pathLst>
                  <a:path w="22" h="22">
                    <a:moveTo>
                      <a:pt x="13" y="22"/>
                    </a:moveTo>
                    <a:lnTo>
                      <a:pt x="0" y="6"/>
                    </a:lnTo>
                    <a:lnTo>
                      <a:pt x="3" y="0"/>
                    </a:lnTo>
                    <a:lnTo>
                      <a:pt x="12" y="0"/>
                    </a:lnTo>
                    <a:lnTo>
                      <a:pt x="19" y="4"/>
                    </a:lnTo>
                    <a:lnTo>
                      <a:pt x="22" y="10"/>
                    </a:lnTo>
                    <a:lnTo>
                      <a:pt x="13"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9" name=""/>
              <p:cNvSpPr/>
              <p:nvPr/>
            </p:nvSpPr>
            <p:spPr>
              <a:xfrm>
                <a:off x="7334280" y="2749680"/>
                <a:ext cx="7920" cy="12600"/>
              </a:xfrm>
              <a:custGeom>
                <a:avLst/>
                <a:gdLst/>
                <a:ahLst/>
                <a:rect l="l" t="t" r="r" b="b"/>
                <a:pathLst>
                  <a:path w="16" h="26">
                    <a:moveTo>
                      <a:pt x="6" y="26"/>
                    </a:moveTo>
                    <a:lnTo>
                      <a:pt x="3" y="22"/>
                    </a:lnTo>
                    <a:lnTo>
                      <a:pt x="0" y="13"/>
                    </a:lnTo>
                    <a:lnTo>
                      <a:pt x="1" y="5"/>
                    </a:lnTo>
                    <a:lnTo>
                      <a:pt x="10" y="0"/>
                    </a:lnTo>
                    <a:lnTo>
                      <a:pt x="13" y="5"/>
                    </a:lnTo>
                    <a:lnTo>
                      <a:pt x="16" y="13"/>
                    </a:lnTo>
                    <a:lnTo>
                      <a:pt x="14" y="23"/>
                    </a:lnTo>
                    <a:lnTo>
                      <a:pt x="6"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0" name=""/>
              <p:cNvSpPr/>
              <p:nvPr/>
            </p:nvSpPr>
            <p:spPr>
              <a:xfrm>
                <a:off x="7020000" y="2752560"/>
                <a:ext cx="9360" cy="1116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1" name=""/>
              <p:cNvSpPr/>
              <p:nvPr/>
            </p:nvSpPr>
            <p:spPr>
              <a:xfrm>
                <a:off x="8140680" y="2733840"/>
                <a:ext cx="9720" cy="10800"/>
              </a:xfrm>
              <a:custGeom>
                <a:avLst/>
                <a:gdLst/>
                <a:ahLst/>
                <a:rect l="l" t="t" r="r" b="b"/>
                <a:pathLst>
                  <a:path w="17" h="22">
                    <a:moveTo>
                      <a:pt x="9" y="22"/>
                    </a:moveTo>
                    <a:lnTo>
                      <a:pt x="0" y="0"/>
                    </a:lnTo>
                    <a:lnTo>
                      <a:pt x="17" y="3"/>
                    </a:lnTo>
                    <a:lnTo>
                      <a:pt x="9"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2" name=""/>
              <p:cNvSpPr/>
              <p:nvPr/>
            </p:nvSpPr>
            <p:spPr>
              <a:xfrm>
                <a:off x="7156440" y="2732040"/>
                <a:ext cx="7920" cy="11160"/>
              </a:xfrm>
              <a:custGeom>
                <a:avLst/>
                <a:gdLst/>
                <a:ahLst/>
                <a:rect l="l" t="t" r="r" b="b"/>
                <a:pathLst>
                  <a:path w="16" h="22">
                    <a:moveTo>
                      <a:pt x="4" y="22"/>
                    </a:moveTo>
                    <a:lnTo>
                      <a:pt x="0" y="0"/>
                    </a:lnTo>
                    <a:lnTo>
                      <a:pt x="7" y="0"/>
                    </a:lnTo>
                    <a:lnTo>
                      <a:pt x="13" y="4"/>
                    </a:lnTo>
                    <a:lnTo>
                      <a:pt x="16" y="12"/>
                    </a:lnTo>
                    <a:lnTo>
                      <a:pt x="13" y="22"/>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3" name=""/>
              <p:cNvSpPr/>
              <p:nvPr/>
            </p:nvSpPr>
            <p:spPr>
              <a:xfrm>
                <a:off x="7962840" y="2717640"/>
                <a:ext cx="11160" cy="11160"/>
              </a:xfrm>
              <a:custGeom>
                <a:avLst/>
                <a:gdLst/>
                <a:ahLst/>
                <a:rect l="l" t="t" r="r" b="b"/>
                <a:pathLst>
                  <a:path w="21" h="21">
                    <a:moveTo>
                      <a:pt x="5" y="21"/>
                    </a:moveTo>
                    <a:lnTo>
                      <a:pt x="0" y="3"/>
                    </a:lnTo>
                    <a:lnTo>
                      <a:pt x="5" y="0"/>
                    </a:lnTo>
                    <a:lnTo>
                      <a:pt x="13" y="2"/>
                    </a:lnTo>
                    <a:lnTo>
                      <a:pt x="18" y="8"/>
                    </a:lnTo>
                    <a:lnTo>
                      <a:pt x="21" y="15"/>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4" name=""/>
              <p:cNvSpPr/>
              <p:nvPr/>
            </p:nvSpPr>
            <p:spPr>
              <a:xfrm>
                <a:off x="8088480" y="2698920"/>
                <a:ext cx="10800" cy="10800"/>
              </a:xfrm>
              <a:custGeom>
                <a:avLst/>
                <a:gdLst/>
                <a:ahLst/>
                <a:rect l="l" t="t" r="r" b="b"/>
                <a:pathLst>
                  <a:path w="21" h="20">
                    <a:moveTo>
                      <a:pt x="11" y="20"/>
                    </a:moveTo>
                    <a:lnTo>
                      <a:pt x="0" y="3"/>
                    </a:lnTo>
                    <a:lnTo>
                      <a:pt x="7" y="0"/>
                    </a:lnTo>
                    <a:lnTo>
                      <a:pt x="14" y="3"/>
                    </a:lnTo>
                    <a:lnTo>
                      <a:pt x="18" y="10"/>
                    </a:lnTo>
                    <a:lnTo>
                      <a:pt x="21" y="19"/>
                    </a:lnTo>
                    <a:lnTo>
                      <a:pt x="11"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5" name=""/>
              <p:cNvSpPr/>
              <p:nvPr/>
            </p:nvSpPr>
            <p:spPr>
              <a:xfrm>
                <a:off x="7269120" y="2700360"/>
                <a:ext cx="11160" cy="11160"/>
              </a:xfrm>
              <a:custGeom>
                <a:avLst/>
                <a:gdLst/>
                <a:ahLst/>
                <a:rect l="l" t="t" r="r" b="b"/>
                <a:pathLst>
                  <a:path w="19" h="21">
                    <a:moveTo>
                      <a:pt x="5" y="21"/>
                    </a:moveTo>
                    <a:lnTo>
                      <a:pt x="0" y="1"/>
                    </a:lnTo>
                    <a:lnTo>
                      <a:pt x="9" y="0"/>
                    </a:lnTo>
                    <a:lnTo>
                      <a:pt x="15" y="3"/>
                    </a:lnTo>
                    <a:lnTo>
                      <a:pt x="19" y="10"/>
                    </a:lnTo>
                    <a:lnTo>
                      <a:pt x="18" y="19"/>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6" name=""/>
              <p:cNvSpPr/>
              <p:nvPr/>
            </p:nvSpPr>
            <p:spPr>
              <a:xfrm>
                <a:off x="6994440" y="2700360"/>
                <a:ext cx="12960" cy="14400"/>
              </a:xfrm>
              <a:custGeom>
                <a:avLst/>
                <a:gdLst/>
                <a:ahLst/>
                <a:rect l="l" t="t" r="r" b="b"/>
                <a:pathLst>
                  <a:path w="24" h="25">
                    <a:moveTo>
                      <a:pt x="7" y="25"/>
                    </a:moveTo>
                    <a:lnTo>
                      <a:pt x="0" y="3"/>
                    </a:lnTo>
                    <a:lnTo>
                      <a:pt x="7" y="0"/>
                    </a:lnTo>
                    <a:lnTo>
                      <a:pt x="13" y="2"/>
                    </a:lnTo>
                    <a:lnTo>
                      <a:pt x="19" y="7"/>
                    </a:lnTo>
                    <a:lnTo>
                      <a:pt x="24" y="13"/>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7" name=""/>
              <p:cNvSpPr/>
              <p:nvPr/>
            </p:nvSpPr>
            <p:spPr>
              <a:xfrm>
                <a:off x="8034480" y="2676600"/>
                <a:ext cx="7920" cy="11160"/>
              </a:xfrm>
              <a:custGeom>
                <a:avLst/>
                <a:gdLst/>
                <a:ahLst/>
                <a:rect l="l" t="t" r="r" b="b"/>
                <a:pathLst>
                  <a:path w="15" h="19">
                    <a:moveTo>
                      <a:pt x="2" y="19"/>
                    </a:moveTo>
                    <a:lnTo>
                      <a:pt x="0" y="0"/>
                    </a:lnTo>
                    <a:lnTo>
                      <a:pt x="5" y="0"/>
                    </a:lnTo>
                    <a:lnTo>
                      <a:pt x="11" y="3"/>
                    </a:lnTo>
                    <a:lnTo>
                      <a:pt x="15" y="9"/>
                    </a:lnTo>
                    <a:lnTo>
                      <a:pt x="13" y="19"/>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8" name=""/>
              <p:cNvSpPr/>
              <p:nvPr/>
            </p:nvSpPr>
            <p:spPr>
              <a:xfrm>
                <a:off x="7094520" y="2679840"/>
                <a:ext cx="9720" cy="14040"/>
              </a:xfrm>
              <a:custGeom>
                <a:avLst/>
                <a:gdLst/>
                <a:ahLst/>
                <a:rect l="l" t="t" r="r" b="b"/>
                <a:pathLst>
                  <a:path w="18" h="26">
                    <a:moveTo>
                      <a:pt x="10" y="26"/>
                    </a:moveTo>
                    <a:lnTo>
                      <a:pt x="3" y="23"/>
                    </a:lnTo>
                    <a:lnTo>
                      <a:pt x="0" y="16"/>
                    </a:lnTo>
                    <a:lnTo>
                      <a:pt x="0" y="7"/>
                    </a:lnTo>
                    <a:lnTo>
                      <a:pt x="6" y="0"/>
                    </a:lnTo>
                    <a:lnTo>
                      <a:pt x="12" y="5"/>
                    </a:lnTo>
                    <a:lnTo>
                      <a:pt x="18" y="13"/>
                    </a:lnTo>
                    <a:lnTo>
                      <a:pt x="18" y="22"/>
                    </a:lnTo>
                    <a:lnTo>
                      <a:pt x="1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59" name=""/>
              <p:cNvSpPr/>
              <p:nvPr/>
            </p:nvSpPr>
            <p:spPr>
              <a:xfrm>
                <a:off x="7439040" y="2662200"/>
                <a:ext cx="9360" cy="14400"/>
              </a:xfrm>
              <a:custGeom>
                <a:avLst/>
                <a:gdLst/>
                <a:ahLst/>
                <a:rect l="l" t="t" r="r" b="b"/>
                <a:pathLst>
                  <a:path w="17" h="25">
                    <a:moveTo>
                      <a:pt x="7" y="25"/>
                    </a:moveTo>
                    <a:lnTo>
                      <a:pt x="0" y="9"/>
                    </a:lnTo>
                    <a:lnTo>
                      <a:pt x="16" y="0"/>
                    </a:lnTo>
                    <a:lnTo>
                      <a:pt x="17" y="6"/>
                    </a:lnTo>
                    <a:lnTo>
                      <a:pt x="17" y="13"/>
                    </a:lnTo>
                    <a:lnTo>
                      <a:pt x="14" y="20"/>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0" name=""/>
              <p:cNvSpPr/>
              <p:nvPr/>
            </p:nvSpPr>
            <p:spPr>
              <a:xfrm>
                <a:off x="7034040" y="2665440"/>
                <a:ext cx="9720" cy="11160"/>
              </a:xfrm>
              <a:custGeom>
                <a:avLst/>
                <a:gdLst/>
                <a:ahLst/>
                <a:rect l="l" t="t" r="r" b="b"/>
                <a:pathLst>
                  <a:path w="18" h="23">
                    <a:moveTo>
                      <a:pt x="3" y="23"/>
                    </a:moveTo>
                    <a:lnTo>
                      <a:pt x="0" y="0"/>
                    </a:lnTo>
                    <a:lnTo>
                      <a:pt x="8" y="0"/>
                    </a:lnTo>
                    <a:lnTo>
                      <a:pt x="15" y="3"/>
                    </a:lnTo>
                    <a:lnTo>
                      <a:pt x="18" y="9"/>
                    </a:lnTo>
                    <a:lnTo>
                      <a:pt x="18" y="16"/>
                    </a:lnTo>
                    <a:lnTo>
                      <a:pt x="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a:off x="7218360" y="2649600"/>
                <a:ext cx="12600" cy="12600"/>
              </a:xfrm>
              <a:custGeom>
                <a:avLst/>
                <a:gdLst/>
                <a:ahLst/>
                <a:rect l="l" t="t" r="r" b="b"/>
                <a:pathLst>
                  <a:path w="26" h="25">
                    <a:moveTo>
                      <a:pt x="10" y="25"/>
                    </a:moveTo>
                    <a:lnTo>
                      <a:pt x="0" y="8"/>
                    </a:lnTo>
                    <a:lnTo>
                      <a:pt x="9" y="0"/>
                    </a:lnTo>
                    <a:lnTo>
                      <a:pt x="26" y="15"/>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a:off x="8051760" y="2630520"/>
                <a:ext cx="7920" cy="11160"/>
              </a:xfrm>
              <a:custGeom>
                <a:avLst/>
                <a:gdLst/>
                <a:ahLst/>
                <a:rect l="l" t="t" r="r" b="b"/>
                <a:pathLst>
                  <a:path w="16" h="22">
                    <a:moveTo>
                      <a:pt x="3" y="22"/>
                    </a:moveTo>
                    <a:lnTo>
                      <a:pt x="0" y="1"/>
                    </a:lnTo>
                    <a:lnTo>
                      <a:pt x="5" y="0"/>
                    </a:lnTo>
                    <a:lnTo>
                      <a:pt x="10" y="3"/>
                    </a:lnTo>
                    <a:lnTo>
                      <a:pt x="15" y="7"/>
                    </a:lnTo>
                    <a:lnTo>
                      <a:pt x="16" y="14"/>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3" name=""/>
              <p:cNvSpPr/>
              <p:nvPr/>
            </p:nvSpPr>
            <p:spPr>
              <a:xfrm>
                <a:off x="7304040" y="2635200"/>
                <a:ext cx="11160" cy="11160"/>
              </a:xfrm>
              <a:custGeom>
                <a:avLst/>
                <a:gdLst/>
                <a:ahLst/>
                <a:rect l="l" t="t" r="r" b="b"/>
                <a:pathLst>
                  <a:path w="23" h="23">
                    <a:moveTo>
                      <a:pt x="4" y="23"/>
                    </a:moveTo>
                    <a:lnTo>
                      <a:pt x="0" y="2"/>
                    </a:lnTo>
                    <a:lnTo>
                      <a:pt x="6" y="0"/>
                    </a:lnTo>
                    <a:lnTo>
                      <a:pt x="13" y="1"/>
                    </a:lnTo>
                    <a:lnTo>
                      <a:pt x="19" y="7"/>
                    </a:lnTo>
                    <a:lnTo>
                      <a:pt x="23" y="15"/>
                    </a:lnTo>
                    <a:lnTo>
                      <a:pt x="4"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4" name=""/>
              <p:cNvSpPr/>
              <p:nvPr/>
            </p:nvSpPr>
            <p:spPr>
              <a:xfrm>
                <a:off x="7373880" y="2635200"/>
                <a:ext cx="9720" cy="11160"/>
              </a:xfrm>
              <a:custGeom>
                <a:avLst/>
                <a:gdLst/>
                <a:ahLst/>
                <a:rect l="l" t="t" r="r" b="b"/>
                <a:pathLst>
                  <a:path w="18" h="21">
                    <a:moveTo>
                      <a:pt x="0" y="21"/>
                    </a:moveTo>
                    <a:lnTo>
                      <a:pt x="0" y="1"/>
                    </a:lnTo>
                    <a:lnTo>
                      <a:pt x="9" y="0"/>
                    </a:lnTo>
                    <a:lnTo>
                      <a:pt x="15" y="2"/>
                    </a:lnTo>
                    <a:lnTo>
                      <a:pt x="18" y="10"/>
                    </a:lnTo>
                    <a:lnTo>
                      <a:pt x="15"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5" name=""/>
              <p:cNvSpPr/>
              <p:nvPr/>
            </p:nvSpPr>
            <p:spPr>
              <a:xfrm>
                <a:off x="7480440" y="2606760"/>
                <a:ext cx="12600" cy="11160"/>
              </a:xfrm>
              <a:custGeom>
                <a:avLst/>
                <a:gdLst/>
                <a:ahLst/>
                <a:rect l="l" t="t" r="r" b="b"/>
                <a:pathLst>
                  <a:path w="23" h="22">
                    <a:moveTo>
                      <a:pt x="15" y="22"/>
                    </a:moveTo>
                    <a:lnTo>
                      <a:pt x="6" y="20"/>
                    </a:lnTo>
                    <a:lnTo>
                      <a:pt x="1" y="14"/>
                    </a:lnTo>
                    <a:lnTo>
                      <a:pt x="0" y="7"/>
                    </a:lnTo>
                    <a:lnTo>
                      <a:pt x="1" y="0"/>
                    </a:lnTo>
                    <a:lnTo>
                      <a:pt x="23" y="3"/>
                    </a:lnTo>
                    <a:lnTo>
                      <a:pt x="15"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6" name=""/>
              <p:cNvSpPr/>
              <p:nvPr/>
            </p:nvSpPr>
            <p:spPr>
              <a:xfrm>
                <a:off x="7104240" y="2606760"/>
                <a:ext cx="10800" cy="11160"/>
              </a:xfrm>
              <a:custGeom>
                <a:avLst/>
                <a:gdLst/>
                <a:ahLst/>
                <a:rect l="l" t="t" r="r" b="b"/>
                <a:pathLst>
                  <a:path w="19" h="21">
                    <a:moveTo>
                      <a:pt x="9" y="21"/>
                    </a:moveTo>
                    <a:lnTo>
                      <a:pt x="0" y="2"/>
                    </a:lnTo>
                    <a:lnTo>
                      <a:pt x="6" y="0"/>
                    </a:lnTo>
                    <a:lnTo>
                      <a:pt x="12" y="2"/>
                    </a:lnTo>
                    <a:lnTo>
                      <a:pt x="17" y="6"/>
                    </a:lnTo>
                    <a:lnTo>
                      <a:pt x="19" y="13"/>
                    </a:lnTo>
                    <a:lnTo>
                      <a:pt x="9"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7" name=""/>
              <p:cNvSpPr/>
              <p:nvPr/>
            </p:nvSpPr>
            <p:spPr>
              <a:xfrm>
                <a:off x="7161120" y="2593800"/>
                <a:ext cx="12960" cy="14400"/>
              </a:xfrm>
              <a:custGeom>
                <a:avLst/>
                <a:gdLst/>
                <a:ahLst/>
                <a:rect l="l" t="t" r="r" b="b"/>
                <a:pathLst>
                  <a:path w="24" h="26">
                    <a:moveTo>
                      <a:pt x="6" y="26"/>
                    </a:moveTo>
                    <a:lnTo>
                      <a:pt x="0" y="22"/>
                    </a:lnTo>
                    <a:lnTo>
                      <a:pt x="0" y="13"/>
                    </a:lnTo>
                    <a:lnTo>
                      <a:pt x="5" y="4"/>
                    </a:lnTo>
                    <a:lnTo>
                      <a:pt x="14" y="0"/>
                    </a:lnTo>
                    <a:lnTo>
                      <a:pt x="24" y="24"/>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8" name=""/>
              <p:cNvSpPr/>
              <p:nvPr/>
            </p:nvSpPr>
            <p:spPr>
              <a:xfrm>
                <a:off x="7257960" y="2583000"/>
                <a:ext cx="11160" cy="9360"/>
              </a:xfrm>
              <a:custGeom>
                <a:avLst/>
                <a:gdLst/>
                <a:ahLst/>
                <a:rect l="l" t="t" r="r" b="b"/>
                <a:pathLst>
                  <a:path w="20" h="18">
                    <a:moveTo>
                      <a:pt x="5" y="18"/>
                    </a:moveTo>
                    <a:lnTo>
                      <a:pt x="0" y="0"/>
                    </a:lnTo>
                    <a:lnTo>
                      <a:pt x="5" y="0"/>
                    </a:lnTo>
                    <a:lnTo>
                      <a:pt x="13" y="3"/>
                    </a:lnTo>
                    <a:lnTo>
                      <a:pt x="17" y="7"/>
                    </a:lnTo>
                    <a:lnTo>
                      <a:pt x="20" y="16"/>
                    </a:lnTo>
                    <a:lnTo>
                      <a:pt x="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9" name=""/>
              <p:cNvSpPr/>
              <p:nvPr/>
            </p:nvSpPr>
            <p:spPr>
              <a:xfrm>
                <a:off x="6991200" y="2571840"/>
                <a:ext cx="7920" cy="11160"/>
              </a:xfrm>
              <a:custGeom>
                <a:avLst/>
                <a:gdLst/>
                <a:ahLst/>
                <a:rect l="l" t="t" r="r" b="b"/>
                <a:pathLst>
                  <a:path w="15" h="21">
                    <a:moveTo>
                      <a:pt x="5" y="21"/>
                    </a:moveTo>
                    <a:lnTo>
                      <a:pt x="0" y="0"/>
                    </a:lnTo>
                    <a:lnTo>
                      <a:pt x="8" y="2"/>
                    </a:lnTo>
                    <a:lnTo>
                      <a:pt x="15" y="10"/>
                    </a:lnTo>
                    <a:lnTo>
                      <a:pt x="15" y="17"/>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0" name=""/>
              <p:cNvSpPr/>
              <p:nvPr/>
            </p:nvSpPr>
            <p:spPr>
              <a:xfrm>
                <a:off x="7332840" y="2563920"/>
                <a:ext cx="10800" cy="12600"/>
              </a:xfrm>
              <a:custGeom>
                <a:avLst/>
                <a:gdLst/>
                <a:ahLst/>
                <a:rect l="l" t="t" r="r" b="b"/>
                <a:pathLst>
                  <a:path w="23" h="23">
                    <a:moveTo>
                      <a:pt x="8" y="23"/>
                    </a:moveTo>
                    <a:lnTo>
                      <a:pt x="0" y="1"/>
                    </a:lnTo>
                    <a:lnTo>
                      <a:pt x="10" y="0"/>
                    </a:lnTo>
                    <a:lnTo>
                      <a:pt x="17" y="1"/>
                    </a:lnTo>
                    <a:lnTo>
                      <a:pt x="23" y="7"/>
                    </a:lnTo>
                    <a:lnTo>
                      <a:pt x="23" y="17"/>
                    </a:lnTo>
                    <a:lnTo>
                      <a:pt x="8"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1" name=""/>
              <p:cNvSpPr/>
              <p:nvPr/>
            </p:nvSpPr>
            <p:spPr>
              <a:xfrm>
                <a:off x="7464600" y="2550960"/>
                <a:ext cx="14040" cy="11160"/>
              </a:xfrm>
              <a:custGeom>
                <a:avLst/>
                <a:gdLst/>
                <a:ahLst/>
                <a:rect l="l" t="t" r="r" b="b"/>
                <a:pathLst>
                  <a:path w="25" h="19">
                    <a:moveTo>
                      <a:pt x="7" y="19"/>
                    </a:moveTo>
                    <a:lnTo>
                      <a:pt x="0" y="3"/>
                    </a:lnTo>
                    <a:lnTo>
                      <a:pt x="7" y="0"/>
                    </a:lnTo>
                    <a:lnTo>
                      <a:pt x="15" y="2"/>
                    </a:lnTo>
                    <a:lnTo>
                      <a:pt x="22" y="8"/>
                    </a:lnTo>
                    <a:lnTo>
                      <a:pt x="25" y="15"/>
                    </a:lnTo>
                    <a:lnTo>
                      <a:pt x="7"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2" name=""/>
              <p:cNvSpPr/>
              <p:nvPr/>
            </p:nvSpPr>
            <p:spPr>
              <a:xfrm>
                <a:off x="7732800" y="2232000"/>
                <a:ext cx="460440" cy="311040"/>
              </a:xfrm>
              <a:custGeom>
                <a:avLst/>
                <a:gdLst/>
                <a:ahLst/>
                <a:rect l="l" t="t" r="r" b="b"/>
                <a:pathLst>
                  <a:path w="869" h="588">
                    <a:moveTo>
                      <a:pt x="663" y="588"/>
                    </a:moveTo>
                    <a:lnTo>
                      <a:pt x="657" y="587"/>
                    </a:lnTo>
                    <a:lnTo>
                      <a:pt x="650" y="585"/>
                    </a:lnTo>
                    <a:lnTo>
                      <a:pt x="642" y="585"/>
                    </a:lnTo>
                    <a:lnTo>
                      <a:pt x="635" y="584"/>
                    </a:lnTo>
                    <a:lnTo>
                      <a:pt x="628" y="584"/>
                    </a:lnTo>
                    <a:lnTo>
                      <a:pt x="621" y="582"/>
                    </a:lnTo>
                    <a:lnTo>
                      <a:pt x="613" y="579"/>
                    </a:lnTo>
                    <a:lnTo>
                      <a:pt x="608" y="575"/>
                    </a:lnTo>
                    <a:lnTo>
                      <a:pt x="618" y="555"/>
                    </a:lnTo>
                    <a:lnTo>
                      <a:pt x="629" y="535"/>
                    </a:lnTo>
                    <a:lnTo>
                      <a:pt x="642" y="514"/>
                    </a:lnTo>
                    <a:lnTo>
                      <a:pt x="654" y="493"/>
                    </a:lnTo>
                    <a:lnTo>
                      <a:pt x="664" y="471"/>
                    </a:lnTo>
                    <a:lnTo>
                      <a:pt x="671" y="448"/>
                    </a:lnTo>
                    <a:lnTo>
                      <a:pt x="677" y="422"/>
                    </a:lnTo>
                    <a:lnTo>
                      <a:pt x="678" y="396"/>
                    </a:lnTo>
                    <a:lnTo>
                      <a:pt x="671" y="383"/>
                    </a:lnTo>
                    <a:lnTo>
                      <a:pt x="663" y="370"/>
                    </a:lnTo>
                    <a:lnTo>
                      <a:pt x="651" y="357"/>
                    </a:lnTo>
                    <a:lnTo>
                      <a:pt x="638" y="345"/>
                    </a:lnTo>
                    <a:lnTo>
                      <a:pt x="628" y="341"/>
                    </a:lnTo>
                    <a:lnTo>
                      <a:pt x="619" y="337"/>
                    </a:lnTo>
                    <a:lnTo>
                      <a:pt x="609" y="334"/>
                    </a:lnTo>
                    <a:lnTo>
                      <a:pt x="597" y="335"/>
                    </a:lnTo>
                    <a:lnTo>
                      <a:pt x="597" y="318"/>
                    </a:lnTo>
                    <a:lnTo>
                      <a:pt x="597" y="301"/>
                    </a:lnTo>
                    <a:lnTo>
                      <a:pt x="597" y="282"/>
                    </a:lnTo>
                    <a:lnTo>
                      <a:pt x="596" y="263"/>
                    </a:lnTo>
                    <a:lnTo>
                      <a:pt x="593" y="256"/>
                    </a:lnTo>
                    <a:lnTo>
                      <a:pt x="590" y="249"/>
                    </a:lnTo>
                    <a:lnTo>
                      <a:pt x="586" y="241"/>
                    </a:lnTo>
                    <a:lnTo>
                      <a:pt x="580" y="234"/>
                    </a:lnTo>
                    <a:lnTo>
                      <a:pt x="560" y="217"/>
                    </a:lnTo>
                    <a:lnTo>
                      <a:pt x="548" y="214"/>
                    </a:lnTo>
                    <a:lnTo>
                      <a:pt x="538" y="211"/>
                    </a:lnTo>
                    <a:lnTo>
                      <a:pt x="527" y="211"/>
                    </a:lnTo>
                    <a:lnTo>
                      <a:pt x="516" y="211"/>
                    </a:lnTo>
                    <a:lnTo>
                      <a:pt x="505" y="212"/>
                    </a:lnTo>
                    <a:lnTo>
                      <a:pt x="495" y="217"/>
                    </a:lnTo>
                    <a:lnTo>
                      <a:pt x="485" y="221"/>
                    </a:lnTo>
                    <a:lnTo>
                      <a:pt x="475" y="227"/>
                    </a:lnTo>
                    <a:lnTo>
                      <a:pt x="472" y="218"/>
                    </a:lnTo>
                    <a:lnTo>
                      <a:pt x="473" y="211"/>
                    </a:lnTo>
                    <a:lnTo>
                      <a:pt x="475" y="202"/>
                    </a:lnTo>
                    <a:lnTo>
                      <a:pt x="475" y="194"/>
                    </a:lnTo>
                    <a:lnTo>
                      <a:pt x="472" y="182"/>
                    </a:lnTo>
                    <a:lnTo>
                      <a:pt x="467" y="172"/>
                    </a:lnTo>
                    <a:lnTo>
                      <a:pt x="460" y="162"/>
                    </a:lnTo>
                    <a:lnTo>
                      <a:pt x="453" y="153"/>
                    </a:lnTo>
                    <a:lnTo>
                      <a:pt x="431" y="136"/>
                    </a:lnTo>
                    <a:lnTo>
                      <a:pt x="424" y="132"/>
                    </a:lnTo>
                    <a:lnTo>
                      <a:pt x="415" y="129"/>
                    </a:lnTo>
                    <a:lnTo>
                      <a:pt x="407" y="127"/>
                    </a:lnTo>
                    <a:lnTo>
                      <a:pt x="398" y="126"/>
                    </a:lnTo>
                    <a:lnTo>
                      <a:pt x="388" y="124"/>
                    </a:lnTo>
                    <a:lnTo>
                      <a:pt x="378" y="124"/>
                    </a:lnTo>
                    <a:lnTo>
                      <a:pt x="369" y="124"/>
                    </a:lnTo>
                    <a:lnTo>
                      <a:pt x="359" y="126"/>
                    </a:lnTo>
                    <a:lnTo>
                      <a:pt x="353" y="127"/>
                    </a:lnTo>
                    <a:lnTo>
                      <a:pt x="347" y="133"/>
                    </a:lnTo>
                    <a:lnTo>
                      <a:pt x="339" y="137"/>
                    </a:lnTo>
                    <a:lnTo>
                      <a:pt x="330" y="140"/>
                    </a:lnTo>
                    <a:lnTo>
                      <a:pt x="330" y="130"/>
                    </a:lnTo>
                    <a:lnTo>
                      <a:pt x="329" y="121"/>
                    </a:lnTo>
                    <a:lnTo>
                      <a:pt x="327" y="113"/>
                    </a:lnTo>
                    <a:lnTo>
                      <a:pt x="323" y="106"/>
                    </a:lnTo>
                    <a:lnTo>
                      <a:pt x="317" y="98"/>
                    </a:lnTo>
                    <a:lnTo>
                      <a:pt x="308" y="95"/>
                    </a:lnTo>
                    <a:lnTo>
                      <a:pt x="301" y="93"/>
                    </a:lnTo>
                    <a:lnTo>
                      <a:pt x="292" y="91"/>
                    </a:lnTo>
                    <a:lnTo>
                      <a:pt x="285" y="90"/>
                    </a:lnTo>
                    <a:lnTo>
                      <a:pt x="278" y="88"/>
                    </a:lnTo>
                    <a:lnTo>
                      <a:pt x="269" y="85"/>
                    </a:lnTo>
                    <a:lnTo>
                      <a:pt x="262" y="82"/>
                    </a:lnTo>
                    <a:lnTo>
                      <a:pt x="253" y="78"/>
                    </a:lnTo>
                    <a:lnTo>
                      <a:pt x="243" y="80"/>
                    </a:lnTo>
                    <a:lnTo>
                      <a:pt x="237" y="81"/>
                    </a:lnTo>
                    <a:lnTo>
                      <a:pt x="232" y="82"/>
                    </a:lnTo>
                    <a:lnTo>
                      <a:pt x="226" y="85"/>
                    </a:lnTo>
                    <a:lnTo>
                      <a:pt x="221" y="88"/>
                    </a:lnTo>
                    <a:lnTo>
                      <a:pt x="217" y="91"/>
                    </a:lnTo>
                    <a:lnTo>
                      <a:pt x="211" y="95"/>
                    </a:lnTo>
                    <a:lnTo>
                      <a:pt x="206" y="100"/>
                    </a:lnTo>
                    <a:lnTo>
                      <a:pt x="200" y="104"/>
                    </a:lnTo>
                    <a:lnTo>
                      <a:pt x="190" y="103"/>
                    </a:lnTo>
                    <a:lnTo>
                      <a:pt x="168" y="121"/>
                    </a:lnTo>
                    <a:lnTo>
                      <a:pt x="146" y="140"/>
                    </a:lnTo>
                    <a:lnTo>
                      <a:pt x="123" y="162"/>
                    </a:lnTo>
                    <a:lnTo>
                      <a:pt x="101" y="184"/>
                    </a:lnTo>
                    <a:lnTo>
                      <a:pt x="78" y="205"/>
                    </a:lnTo>
                    <a:lnTo>
                      <a:pt x="55" y="228"/>
                    </a:lnTo>
                    <a:lnTo>
                      <a:pt x="32" y="251"/>
                    </a:lnTo>
                    <a:lnTo>
                      <a:pt x="9" y="275"/>
                    </a:lnTo>
                    <a:lnTo>
                      <a:pt x="0" y="264"/>
                    </a:lnTo>
                    <a:lnTo>
                      <a:pt x="15" y="230"/>
                    </a:lnTo>
                    <a:lnTo>
                      <a:pt x="29" y="198"/>
                    </a:lnTo>
                    <a:lnTo>
                      <a:pt x="47" y="166"/>
                    </a:lnTo>
                    <a:lnTo>
                      <a:pt x="65" y="137"/>
                    </a:lnTo>
                    <a:lnTo>
                      <a:pt x="84" y="108"/>
                    </a:lnTo>
                    <a:lnTo>
                      <a:pt x="107" y="80"/>
                    </a:lnTo>
                    <a:lnTo>
                      <a:pt x="130" y="51"/>
                    </a:lnTo>
                    <a:lnTo>
                      <a:pt x="156" y="22"/>
                    </a:lnTo>
                    <a:lnTo>
                      <a:pt x="164" y="17"/>
                    </a:lnTo>
                    <a:lnTo>
                      <a:pt x="171" y="12"/>
                    </a:lnTo>
                    <a:lnTo>
                      <a:pt x="178" y="6"/>
                    </a:lnTo>
                    <a:lnTo>
                      <a:pt x="188" y="2"/>
                    </a:lnTo>
                    <a:lnTo>
                      <a:pt x="200" y="0"/>
                    </a:lnTo>
                    <a:lnTo>
                      <a:pt x="211" y="0"/>
                    </a:lnTo>
                    <a:lnTo>
                      <a:pt x="224" y="2"/>
                    </a:lnTo>
                    <a:lnTo>
                      <a:pt x="236" y="3"/>
                    </a:lnTo>
                    <a:lnTo>
                      <a:pt x="248" y="6"/>
                    </a:lnTo>
                    <a:lnTo>
                      <a:pt x="259" y="10"/>
                    </a:lnTo>
                    <a:lnTo>
                      <a:pt x="271" y="13"/>
                    </a:lnTo>
                    <a:lnTo>
                      <a:pt x="282" y="16"/>
                    </a:lnTo>
                    <a:lnTo>
                      <a:pt x="300" y="22"/>
                    </a:lnTo>
                    <a:lnTo>
                      <a:pt x="317" y="28"/>
                    </a:lnTo>
                    <a:lnTo>
                      <a:pt x="336" y="32"/>
                    </a:lnTo>
                    <a:lnTo>
                      <a:pt x="353" y="38"/>
                    </a:lnTo>
                    <a:lnTo>
                      <a:pt x="370" y="43"/>
                    </a:lnTo>
                    <a:lnTo>
                      <a:pt x="389" y="51"/>
                    </a:lnTo>
                    <a:lnTo>
                      <a:pt x="407" y="56"/>
                    </a:lnTo>
                    <a:lnTo>
                      <a:pt x="425" y="62"/>
                    </a:lnTo>
                    <a:lnTo>
                      <a:pt x="444" y="68"/>
                    </a:lnTo>
                    <a:lnTo>
                      <a:pt x="462" y="75"/>
                    </a:lnTo>
                    <a:lnTo>
                      <a:pt x="480" y="81"/>
                    </a:lnTo>
                    <a:lnTo>
                      <a:pt x="498" y="88"/>
                    </a:lnTo>
                    <a:lnTo>
                      <a:pt x="515" y="95"/>
                    </a:lnTo>
                    <a:lnTo>
                      <a:pt x="534" y="103"/>
                    </a:lnTo>
                    <a:lnTo>
                      <a:pt x="551" y="110"/>
                    </a:lnTo>
                    <a:lnTo>
                      <a:pt x="569" y="117"/>
                    </a:lnTo>
                    <a:lnTo>
                      <a:pt x="586" y="120"/>
                    </a:lnTo>
                    <a:lnTo>
                      <a:pt x="603" y="124"/>
                    </a:lnTo>
                    <a:lnTo>
                      <a:pt x="621" y="127"/>
                    </a:lnTo>
                    <a:lnTo>
                      <a:pt x="637" y="132"/>
                    </a:lnTo>
                    <a:lnTo>
                      <a:pt x="652" y="137"/>
                    </a:lnTo>
                    <a:lnTo>
                      <a:pt x="668" y="142"/>
                    </a:lnTo>
                    <a:lnTo>
                      <a:pt x="686" y="147"/>
                    </a:lnTo>
                    <a:lnTo>
                      <a:pt x="702" y="152"/>
                    </a:lnTo>
                    <a:lnTo>
                      <a:pt x="717" y="158"/>
                    </a:lnTo>
                    <a:lnTo>
                      <a:pt x="733" y="163"/>
                    </a:lnTo>
                    <a:lnTo>
                      <a:pt x="749" y="169"/>
                    </a:lnTo>
                    <a:lnTo>
                      <a:pt x="765" y="175"/>
                    </a:lnTo>
                    <a:lnTo>
                      <a:pt x="781" y="182"/>
                    </a:lnTo>
                    <a:lnTo>
                      <a:pt x="797" y="188"/>
                    </a:lnTo>
                    <a:lnTo>
                      <a:pt x="813" y="194"/>
                    </a:lnTo>
                    <a:lnTo>
                      <a:pt x="830" y="199"/>
                    </a:lnTo>
                    <a:lnTo>
                      <a:pt x="838" y="210"/>
                    </a:lnTo>
                    <a:lnTo>
                      <a:pt x="819" y="251"/>
                    </a:lnTo>
                    <a:lnTo>
                      <a:pt x="797" y="290"/>
                    </a:lnTo>
                    <a:lnTo>
                      <a:pt x="772" y="328"/>
                    </a:lnTo>
                    <a:lnTo>
                      <a:pt x="749" y="366"/>
                    </a:lnTo>
                    <a:lnTo>
                      <a:pt x="725" y="405"/>
                    </a:lnTo>
                    <a:lnTo>
                      <a:pt x="703" y="445"/>
                    </a:lnTo>
                    <a:lnTo>
                      <a:pt x="684" y="488"/>
                    </a:lnTo>
                    <a:lnTo>
                      <a:pt x="668" y="538"/>
                    </a:lnTo>
                    <a:lnTo>
                      <a:pt x="687" y="555"/>
                    </a:lnTo>
                    <a:lnTo>
                      <a:pt x="697" y="545"/>
                    </a:lnTo>
                    <a:lnTo>
                      <a:pt x="699" y="523"/>
                    </a:lnTo>
                    <a:lnTo>
                      <a:pt x="710" y="496"/>
                    </a:lnTo>
                    <a:lnTo>
                      <a:pt x="722" y="470"/>
                    </a:lnTo>
                    <a:lnTo>
                      <a:pt x="735" y="444"/>
                    </a:lnTo>
                    <a:lnTo>
                      <a:pt x="749" y="419"/>
                    </a:lnTo>
                    <a:lnTo>
                      <a:pt x="764" y="395"/>
                    </a:lnTo>
                    <a:lnTo>
                      <a:pt x="778" y="371"/>
                    </a:lnTo>
                    <a:lnTo>
                      <a:pt x="793" y="347"/>
                    </a:lnTo>
                    <a:lnTo>
                      <a:pt x="809" y="322"/>
                    </a:lnTo>
                    <a:lnTo>
                      <a:pt x="814" y="312"/>
                    </a:lnTo>
                    <a:lnTo>
                      <a:pt x="819" y="302"/>
                    </a:lnTo>
                    <a:lnTo>
                      <a:pt x="826" y="290"/>
                    </a:lnTo>
                    <a:lnTo>
                      <a:pt x="832" y="280"/>
                    </a:lnTo>
                    <a:lnTo>
                      <a:pt x="839" y="269"/>
                    </a:lnTo>
                    <a:lnTo>
                      <a:pt x="845" y="259"/>
                    </a:lnTo>
                    <a:lnTo>
                      <a:pt x="852" y="247"/>
                    </a:lnTo>
                    <a:lnTo>
                      <a:pt x="859" y="237"/>
                    </a:lnTo>
                    <a:lnTo>
                      <a:pt x="869" y="251"/>
                    </a:lnTo>
                    <a:lnTo>
                      <a:pt x="865" y="272"/>
                    </a:lnTo>
                    <a:lnTo>
                      <a:pt x="858" y="298"/>
                    </a:lnTo>
                    <a:lnTo>
                      <a:pt x="849" y="322"/>
                    </a:lnTo>
                    <a:lnTo>
                      <a:pt x="840" y="344"/>
                    </a:lnTo>
                    <a:lnTo>
                      <a:pt x="830" y="363"/>
                    </a:lnTo>
                    <a:lnTo>
                      <a:pt x="819" y="383"/>
                    </a:lnTo>
                    <a:lnTo>
                      <a:pt x="809" y="402"/>
                    </a:lnTo>
                    <a:lnTo>
                      <a:pt x="798" y="422"/>
                    </a:lnTo>
                    <a:lnTo>
                      <a:pt x="787" y="442"/>
                    </a:lnTo>
                    <a:lnTo>
                      <a:pt x="777" y="462"/>
                    </a:lnTo>
                    <a:lnTo>
                      <a:pt x="767" y="483"/>
                    </a:lnTo>
                    <a:lnTo>
                      <a:pt x="757" y="503"/>
                    </a:lnTo>
                    <a:lnTo>
                      <a:pt x="757" y="514"/>
                    </a:lnTo>
                    <a:lnTo>
                      <a:pt x="749" y="520"/>
                    </a:lnTo>
                    <a:lnTo>
                      <a:pt x="741" y="527"/>
                    </a:lnTo>
                    <a:lnTo>
                      <a:pt x="733" y="535"/>
                    </a:lnTo>
                    <a:lnTo>
                      <a:pt x="726" y="543"/>
                    </a:lnTo>
                    <a:lnTo>
                      <a:pt x="719" y="552"/>
                    </a:lnTo>
                    <a:lnTo>
                      <a:pt x="712" y="561"/>
                    </a:lnTo>
                    <a:lnTo>
                      <a:pt x="704" y="571"/>
                    </a:lnTo>
                    <a:lnTo>
                      <a:pt x="697" y="581"/>
                    </a:lnTo>
                    <a:lnTo>
                      <a:pt x="689" y="582"/>
                    </a:lnTo>
                    <a:lnTo>
                      <a:pt x="680" y="584"/>
                    </a:lnTo>
                    <a:lnTo>
                      <a:pt x="671" y="587"/>
                    </a:lnTo>
                    <a:lnTo>
                      <a:pt x="663" y="5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7056360" y="2535120"/>
                <a:ext cx="11160" cy="11160"/>
              </a:xfrm>
              <a:custGeom>
                <a:avLst/>
                <a:gdLst/>
                <a:ahLst/>
                <a:rect l="l" t="t" r="r" b="b"/>
                <a:pathLst>
                  <a:path w="21" h="21">
                    <a:moveTo>
                      <a:pt x="2" y="21"/>
                    </a:moveTo>
                    <a:lnTo>
                      <a:pt x="0" y="0"/>
                    </a:lnTo>
                    <a:lnTo>
                      <a:pt x="9" y="0"/>
                    </a:lnTo>
                    <a:lnTo>
                      <a:pt x="16" y="1"/>
                    </a:lnTo>
                    <a:lnTo>
                      <a:pt x="21" y="7"/>
                    </a:lnTo>
                    <a:lnTo>
                      <a:pt x="19" y="17"/>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4" name=""/>
              <p:cNvSpPr/>
              <p:nvPr/>
            </p:nvSpPr>
            <p:spPr>
              <a:xfrm>
                <a:off x="7122960" y="2536920"/>
                <a:ext cx="12960" cy="9360"/>
              </a:xfrm>
              <a:custGeom>
                <a:avLst/>
                <a:gdLst/>
                <a:ahLst/>
                <a:rect l="l" t="t" r="r" b="b"/>
                <a:pathLst>
                  <a:path w="23" h="18">
                    <a:moveTo>
                      <a:pt x="9" y="18"/>
                    </a:moveTo>
                    <a:lnTo>
                      <a:pt x="0" y="4"/>
                    </a:lnTo>
                    <a:lnTo>
                      <a:pt x="5" y="0"/>
                    </a:lnTo>
                    <a:lnTo>
                      <a:pt x="12" y="0"/>
                    </a:lnTo>
                    <a:lnTo>
                      <a:pt x="20" y="4"/>
                    </a:lnTo>
                    <a:lnTo>
                      <a:pt x="23" y="10"/>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75" name=""/>
              <p:cNvSpPr/>
              <p:nvPr/>
            </p:nvSpPr>
            <p:spPr>
              <a:xfrm>
                <a:off x="7385040" y="2513160"/>
                <a:ext cx="11160" cy="12600"/>
              </a:xfrm>
              <a:custGeom>
                <a:avLst/>
                <a:gdLst/>
                <a:ahLst/>
                <a:rect l="l" t="t" r="r" b="b"/>
                <a:pathLst>
                  <a:path w="21" h="23">
                    <a:moveTo>
                      <a:pt x="6" y="23"/>
                    </a:moveTo>
                    <a:lnTo>
                      <a:pt x="0" y="0"/>
                    </a:lnTo>
                    <a:lnTo>
                      <a:pt x="21" y="5"/>
                    </a:lnTo>
                    <a:lnTo>
                      <a:pt x="21" y="10"/>
                    </a:lnTo>
                    <a:lnTo>
                      <a:pt x="18" y="16"/>
                    </a:lnTo>
                    <a:lnTo>
                      <a:pt x="13" y="22"/>
                    </a:lnTo>
                    <a:lnTo>
                      <a:pt x="6"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6" name=""/>
              <p:cNvSpPr/>
              <p:nvPr/>
            </p:nvSpPr>
            <p:spPr>
              <a:xfrm>
                <a:off x="7302600" y="2508120"/>
                <a:ext cx="12600" cy="12960"/>
              </a:xfrm>
              <a:custGeom>
                <a:avLst/>
                <a:gdLst/>
                <a:ahLst/>
                <a:rect l="l" t="t" r="r" b="b"/>
                <a:pathLst>
                  <a:path w="26" h="25">
                    <a:moveTo>
                      <a:pt x="7" y="25"/>
                    </a:moveTo>
                    <a:lnTo>
                      <a:pt x="0" y="3"/>
                    </a:lnTo>
                    <a:lnTo>
                      <a:pt x="9" y="0"/>
                    </a:lnTo>
                    <a:lnTo>
                      <a:pt x="16" y="3"/>
                    </a:lnTo>
                    <a:lnTo>
                      <a:pt x="22" y="9"/>
                    </a:lnTo>
                    <a:lnTo>
                      <a:pt x="26" y="17"/>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7" name=""/>
              <p:cNvSpPr/>
              <p:nvPr/>
            </p:nvSpPr>
            <p:spPr>
              <a:xfrm>
                <a:off x="7191360" y="2509920"/>
                <a:ext cx="11160" cy="11160"/>
              </a:xfrm>
              <a:custGeom>
                <a:avLst/>
                <a:gdLst/>
                <a:ahLst/>
                <a:rect l="l" t="t" r="r" b="b"/>
                <a:pathLst>
                  <a:path w="22" h="21">
                    <a:moveTo>
                      <a:pt x="3" y="21"/>
                    </a:moveTo>
                    <a:lnTo>
                      <a:pt x="0" y="0"/>
                    </a:lnTo>
                    <a:lnTo>
                      <a:pt x="22" y="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a:off x="7488360" y="2494080"/>
                <a:ext cx="9360" cy="12600"/>
              </a:xfrm>
              <a:custGeom>
                <a:avLst/>
                <a:gdLst/>
                <a:ahLst/>
                <a:rect l="l" t="t" r="r" b="b"/>
                <a:pathLst>
                  <a:path w="17" h="23">
                    <a:moveTo>
                      <a:pt x="10" y="23"/>
                    </a:moveTo>
                    <a:lnTo>
                      <a:pt x="4" y="20"/>
                    </a:lnTo>
                    <a:lnTo>
                      <a:pt x="0" y="13"/>
                    </a:lnTo>
                    <a:lnTo>
                      <a:pt x="1" y="6"/>
                    </a:lnTo>
                    <a:lnTo>
                      <a:pt x="7" y="0"/>
                    </a:lnTo>
                    <a:lnTo>
                      <a:pt x="14" y="3"/>
                    </a:lnTo>
                    <a:lnTo>
                      <a:pt x="17" y="10"/>
                    </a:lnTo>
                    <a:lnTo>
                      <a:pt x="17" y="17"/>
                    </a:lnTo>
                    <a:lnTo>
                      <a:pt x="1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9" name=""/>
              <p:cNvSpPr/>
              <p:nvPr/>
            </p:nvSpPr>
            <p:spPr>
              <a:xfrm>
                <a:off x="7151760" y="2487600"/>
                <a:ext cx="11160" cy="12600"/>
              </a:xfrm>
              <a:custGeom>
                <a:avLst/>
                <a:gdLst/>
                <a:ahLst/>
                <a:rect l="l" t="t" r="r" b="b"/>
                <a:pathLst>
                  <a:path w="20" h="23">
                    <a:moveTo>
                      <a:pt x="1" y="23"/>
                    </a:moveTo>
                    <a:lnTo>
                      <a:pt x="0" y="0"/>
                    </a:lnTo>
                    <a:lnTo>
                      <a:pt x="20" y="10"/>
                    </a:lnTo>
                    <a:lnTo>
                      <a:pt x="20" y="17"/>
                    </a:lnTo>
                    <a:lnTo>
                      <a:pt x="16" y="20"/>
                    </a:lnTo>
                    <a:lnTo>
                      <a:pt x="10" y="20"/>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7537320" y="2473200"/>
                <a:ext cx="14400" cy="12960"/>
              </a:xfrm>
              <a:custGeom>
                <a:avLst/>
                <a:gdLst/>
                <a:ahLst/>
                <a:rect l="l" t="t" r="r" b="b"/>
                <a:pathLst>
                  <a:path w="28" h="22">
                    <a:moveTo>
                      <a:pt x="7" y="22"/>
                    </a:moveTo>
                    <a:lnTo>
                      <a:pt x="0" y="9"/>
                    </a:lnTo>
                    <a:lnTo>
                      <a:pt x="7" y="0"/>
                    </a:lnTo>
                    <a:lnTo>
                      <a:pt x="15" y="0"/>
                    </a:lnTo>
                    <a:lnTo>
                      <a:pt x="22" y="0"/>
                    </a:lnTo>
                    <a:lnTo>
                      <a:pt x="28" y="6"/>
                    </a:lnTo>
                    <a:lnTo>
                      <a:pt x="28" y="15"/>
                    </a:lnTo>
                    <a:lnTo>
                      <a:pt x="7"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81" name=""/>
              <p:cNvSpPr/>
              <p:nvPr/>
            </p:nvSpPr>
            <p:spPr>
              <a:xfrm>
                <a:off x="7080120" y="2471760"/>
                <a:ext cx="11160" cy="12600"/>
              </a:xfrm>
              <a:custGeom>
                <a:avLst/>
                <a:gdLst/>
                <a:ahLst/>
                <a:rect l="l" t="t" r="r" b="b"/>
                <a:pathLst>
                  <a:path w="20" h="22">
                    <a:moveTo>
                      <a:pt x="10" y="22"/>
                    </a:moveTo>
                    <a:lnTo>
                      <a:pt x="0" y="3"/>
                    </a:lnTo>
                    <a:lnTo>
                      <a:pt x="6" y="0"/>
                    </a:lnTo>
                    <a:lnTo>
                      <a:pt x="13" y="2"/>
                    </a:lnTo>
                    <a:lnTo>
                      <a:pt x="19" y="7"/>
                    </a:lnTo>
                    <a:lnTo>
                      <a:pt x="20" y="15"/>
                    </a:lnTo>
                    <a:lnTo>
                      <a:pt x="1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2" name=""/>
              <p:cNvSpPr/>
              <p:nvPr/>
            </p:nvSpPr>
            <p:spPr>
              <a:xfrm>
                <a:off x="7016760" y="2468520"/>
                <a:ext cx="14400" cy="14400"/>
              </a:xfrm>
              <a:custGeom>
                <a:avLst/>
                <a:gdLst/>
                <a:ahLst/>
                <a:rect l="l" t="t" r="r" b="b"/>
                <a:pathLst>
                  <a:path w="25" h="26">
                    <a:moveTo>
                      <a:pt x="10" y="26"/>
                    </a:moveTo>
                    <a:lnTo>
                      <a:pt x="0" y="3"/>
                    </a:lnTo>
                    <a:lnTo>
                      <a:pt x="6" y="0"/>
                    </a:lnTo>
                    <a:lnTo>
                      <a:pt x="15" y="2"/>
                    </a:lnTo>
                    <a:lnTo>
                      <a:pt x="22" y="8"/>
                    </a:lnTo>
                    <a:lnTo>
                      <a:pt x="25" y="13"/>
                    </a:lnTo>
                    <a:lnTo>
                      <a:pt x="1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3" name=""/>
              <p:cNvSpPr/>
              <p:nvPr/>
            </p:nvSpPr>
            <p:spPr>
              <a:xfrm>
                <a:off x="7413480" y="2459160"/>
                <a:ext cx="9720" cy="11160"/>
              </a:xfrm>
              <a:custGeom>
                <a:avLst/>
                <a:gdLst/>
                <a:ahLst/>
                <a:rect l="l" t="t" r="r" b="b"/>
                <a:pathLst>
                  <a:path w="20" h="22">
                    <a:moveTo>
                      <a:pt x="11" y="22"/>
                    </a:moveTo>
                    <a:lnTo>
                      <a:pt x="4" y="19"/>
                    </a:lnTo>
                    <a:lnTo>
                      <a:pt x="0" y="12"/>
                    </a:lnTo>
                    <a:lnTo>
                      <a:pt x="1" y="5"/>
                    </a:lnTo>
                    <a:lnTo>
                      <a:pt x="6" y="0"/>
                    </a:lnTo>
                    <a:lnTo>
                      <a:pt x="11" y="3"/>
                    </a:lnTo>
                    <a:lnTo>
                      <a:pt x="17" y="10"/>
                    </a:lnTo>
                    <a:lnTo>
                      <a:pt x="20" y="19"/>
                    </a:lnTo>
                    <a:lnTo>
                      <a:pt x="1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4" name=""/>
              <p:cNvSpPr/>
              <p:nvPr/>
            </p:nvSpPr>
            <p:spPr>
              <a:xfrm>
                <a:off x="7624800" y="2440080"/>
                <a:ext cx="7920" cy="11160"/>
              </a:xfrm>
              <a:custGeom>
                <a:avLst/>
                <a:gdLst/>
                <a:ahLst/>
                <a:rect l="l" t="t" r="r" b="b"/>
                <a:pathLst>
                  <a:path w="17" h="21">
                    <a:moveTo>
                      <a:pt x="3" y="21"/>
                    </a:moveTo>
                    <a:lnTo>
                      <a:pt x="0" y="0"/>
                    </a:lnTo>
                    <a:lnTo>
                      <a:pt x="9" y="0"/>
                    </a:lnTo>
                    <a:lnTo>
                      <a:pt x="14" y="2"/>
                    </a:lnTo>
                    <a:lnTo>
                      <a:pt x="17" y="8"/>
                    </a:lnTo>
                    <a:lnTo>
                      <a:pt x="17" y="1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5" name=""/>
              <p:cNvSpPr/>
              <p:nvPr/>
            </p:nvSpPr>
            <p:spPr>
              <a:xfrm>
                <a:off x="7340760" y="2435400"/>
                <a:ext cx="10800" cy="12600"/>
              </a:xfrm>
              <a:custGeom>
                <a:avLst/>
                <a:gdLst/>
                <a:ahLst/>
                <a:rect l="l" t="t" r="r" b="b"/>
                <a:pathLst>
                  <a:path w="20" h="22">
                    <a:moveTo>
                      <a:pt x="13" y="22"/>
                    </a:moveTo>
                    <a:lnTo>
                      <a:pt x="4" y="19"/>
                    </a:lnTo>
                    <a:lnTo>
                      <a:pt x="0" y="13"/>
                    </a:lnTo>
                    <a:lnTo>
                      <a:pt x="0" y="6"/>
                    </a:lnTo>
                    <a:lnTo>
                      <a:pt x="4" y="0"/>
                    </a:lnTo>
                    <a:lnTo>
                      <a:pt x="13" y="1"/>
                    </a:lnTo>
                    <a:lnTo>
                      <a:pt x="19" y="7"/>
                    </a:lnTo>
                    <a:lnTo>
                      <a:pt x="20" y="14"/>
                    </a:lnTo>
                    <a:lnTo>
                      <a:pt x="13"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a:off x="7475400" y="2432160"/>
                <a:ext cx="12960" cy="12600"/>
              </a:xfrm>
              <a:custGeom>
                <a:avLst/>
                <a:gdLst/>
                <a:ahLst/>
                <a:rect l="l" t="t" r="r" b="b"/>
                <a:pathLst>
                  <a:path w="25" h="24">
                    <a:moveTo>
                      <a:pt x="9" y="24"/>
                    </a:moveTo>
                    <a:lnTo>
                      <a:pt x="0" y="3"/>
                    </a:lnTo>
                    <a:lnTo>
                      <a:pt x="4" y="0"/>
                    </a:lnTo>
                    <a:lnTo>
                      <a:pt x="11" y="1"/>
                    </a:lnTo>
                    <a:lnTo>
                      <a:pt x="19" y="5"/>
                    </a:lnTo>
                    <a:lnTo>
                      <a:pt x="25" y="14"/>
                    </a:lnTo>
                    <a:lnTo>
                      <a:pt x="9"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7" name=""/>
              <p:cNvSpPr/>
              <p:nvPr/>
            </p:nvSpPr>
            <p:spPr>
              <a:xfrm>
                <a:off x="7191360" y="2432160"/>
                <a:ext cx="11160" cy="9360"/>
              </a:xfrm>
              <a:custGeom>
                <a:avLst/>
                <a:gdLst/>
                <a:ahLst/>
                <a:rect l="l" t="t" r="r" b="b"/>
                <a:pathLst>
                  <a:path w="20" h="17">
                    <a:moveTo>
                      <a:pt x="11" y="17"/>
                    </a:moveTo>
                    <a:lnTo>
                      <a:pt x="0" y="0"/>
                    </a:lnTo>
                    <a:lnTo>
                      <a:pt x="20" y="4"/>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8" name=""/>
              <p:cNvSpPr/>
              <p:nvPr/>
            </p:nvSpPr>
            <p:spPr>
              <a:xfrm>
                <a:off x="7575480" y="2422440"/>
                <a:ext cx="11160" cy="12960"/>
              </a:xfrm>
              <a:custGeom>
                <a:avLst/>
                <a:gdLst/>
                <a:ahLst/>
                <a:rect l="l" t="t" r="r" b="b"/>
                <a:pathLst>
                  <a:path w="21" h="25">
                    <a:moveTo>
                      <a:pt x="7" y="25"/>
                    </a:moveTo>
                    <a:lnTo>
                      <a:pt x="1" y="21"/>
                    </a:lnTo>
                    <a:lnTo>
                      <a:pt x="0" y="12"/>
                    </a:lnTo>
                    <a:lnTo>
                      <a:pt x="4" y="3"/>
                    </a:lnTo>
                    <a:lnTo>
                      <a:pt x="14" y="0"/>
                    </a:lnTo>
                    <a:lnTo>
                      <a:pt x="21" y="5"/>
                    </a:lnTo>
                    <a:lnTo>
                      <a:pt x="21" y="15"/>
                    </a:lnTo>
                    <a:lnTo>
                      <a:pt x="16" y="23"/>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89" name=""/>
              <p:cNvSpPr/>
              <p:nvPr/>
            </p:nvSpPr>
            <p:spPr>
              <a:xfrm>
                <a:off x="7270920" y="2408400"/>
                <a:ext cx="10800" cy="15840"/>
              </a:xfrm>
              <a:custGeom>
                <a:avLst/>
                <a:gdLst/>
                <a:ahLst/>
                <a:rect l="l" t="t" r="r" b="b"/>
                <a:pathLst>
                  <a:path w="20" h="29">
                    <a:moveTo>
                      <a:pt x="13" y="29"/>
                    </a:moveTo>
                    <a:lnTo>
                      <a:pt x="7" y="26"/>
                    </a:lnTo>
                    <a:lnTo>
                      <a:pt x="3" y="19"/>
                    </a:lnTo>
                    <a:lnTo>
                      <a:pt x="0" y="9"/>
                    </a:lnTo>
                    <a:lnTo>
                      <a:pt x="3" y="0"/>
                    </a:lnTo>
                    <a:lnTo>
                      <a:pt x="20" y="12"/>
                    </a:lnTo>
                    <a:lnTo>
                      <a:pt x="1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0" name=""/>
              <p:cNvSpPr/>
              <p:nvPr/>
            </p:nvSpPr>
            <p:spPr>
              <a:xfrm>
                <a:off x="7105680" y="2403360"/>
                <a:ext cx="11160" cy="15840"/>
              </a:xfrm>
              <a:custGeom>
                <a:avLst/>
                <a:gdLst/>
                <a:ahLst/>
                <a:rect l="l" t="t" r="r" b="b"/>
                <a:pathLst>
                  <a:path w="21" h="29">
                    <a:moveTo>
                      <a:pt x="6" y="29"/>
                    </a:moveTo>
                    <a:lnTo>
                      <a:pt x="2" y="23"/>
                    </a:lnTo>
                    <a:lnTo>
                      <a:pt x="0" y="15"/>
                    </a:lnTo>
                    <a:lnTo>
                      <a:pt x="0" y="6"/>
                    </a:lnTo>
                    <a:lnTo>
                      <a:pt x="5" y="0"/>
                    </a:lnTo>
                    <a:lnTo>
                      <a:pt x="13" y="3"/>
                    </a:lnTo>
                    <a:lnTo>
                      <a:pt x="19" y="12"/>
                    </a:lnTo>
                    <a:lnTo>
                      <a:pt x="21" y="20"/>
                    </a:lnTo>
                    <a:lnTo>
                      <a:pt x="13" y="29"/>
                    </a:lnTo>
                    <a:lnTo>
                      <a:pt x="6"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1" name=""/>
              <p:cNvSpPr/>
              <p:nvPr/>
            </p:nvSpPr>
            <p:spPr>
              <a:xfrm>
                <a:off x="7388280" y="2386080"/>
                <a:ext cx="11160" cy="11160"/>
              </a:xfrm>
              <a:custGeom>
                <a:avLst/>
                <a:gdLst/>
                <a:ahLst/>
                <a:rect l="l" t="t" r="r" b="b"/>
                <a:pathLst>
                  <a:path w="20" h="21">
                    <a:moveTo>
                      <a:pt x="1" y="21"/>
                    </a:moveTo>
                    <a:lnTo>
                      <a:pt x="0" y="0"/>
                    </a:lnTo>
                    <a:lnTo>
                      <a:pt x="20" y="3"/>
                    </a:lnTo>
                    <a:lnTo>
                      <a:pt x="20" y="10"/>
                    </a:lnTo>
                    <a:lnTo>
                      <a:pt x="17" y="16"/>
                    </a:lnTo>
                    <a:lnTo>
                      <a:pt x="11" y="19"/>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2" name=""/>
              <p:cNvSpPr/>
              <p:nvPr/>
            </p:nvSpPr>
            <p:spPr>
              <a:xfrm>
                <a:off x="7021440" y="2382840"/>
                <a:ext cx="15840" cy="14400"/>
              </a:xfrm>
              <a:custGeom>
                <a:avLst/>
                <a:gdLst/>
                <a:ahLst/>
                <a:rect l="l" t="t" r="r" b="b"/>
                <a:pathLst>
                  <a:path w="32" h="29">
                    <a:moveTo>
                      <a:pt x="22" y="29"/>
                    </a:moveTo>
                    <a:lnTo>
                      <a:pt x="0" y="21"/>
                    </a:lnTo>
                    <a:lnTo>
                      <a:pt x="3" y="0"/>
                    </a:lnTo>
                    <a:lnTo>
                      <a:pt x="13" y="3"/>
                    </a:lnTo>
                    <a:lnTo>
                      <a:pt x="22" y="7"/>
                    </a:lnTo>
                    <a:lnTo>
                      <a:pt x="28" y="11"/>
                    </a:lnTo>
                    <a:lnTo>
                      <a:pt x="32" y="20"/>
                    </a:lnTo>
                    <a:lnTo>
                      <a:pt x="22"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3" name=""/>
              <p:cNvSpPr/>
              <p:nvPr/>
            </p:nvSpPr>
            <p:spPr>
              <a:xfrm>
                <a:off x="7500960" y="2379600"/>
                <a:ext cx="12600" cy="9720"/>
              </a:xfrm>
              <a:custGeom>
                <a:avLst/>
                <a:gdLst/>
                <a:ahLst/>
                <a:rect l="l" t="t" r="r" b="b"/>
                <a:pathLst>
                  <a:path w="23" h="20">
                    <a:moveTo>
                      <a:pt x="4" y="20"/>
                    </a:moveTo>
                    <a:lnTo>
                      <a:pt x="0" y="0"/>
                    </a:lnTo>
                    <a:lnTo>
                      <a:pt x="22" y="4"/>
                    </a:lnTo>
                    <a:lnTo>
                      <a:pt x="23" y="10"/>
                    </a:lnTo>
                    <a:lnTo>
                      <a:pt x="19" y="16"/>
                    </a:lnTo>
                    <a:lnTo>
                      <a:pt x="13" y="19"/>
                    </a:lnTo>
                    <a:lnTo>
                      <a:pt x="4"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a:off x="7450200" y="2370240"/>
                <a:ext cx="12600" cy="12600"/>
              </a:xfrm>
              <a:custGeom>
                <a:avLst/>
                <a:gdLst/>
                <a:ahLst/>
                <a:rect l="l" t="t" r="r" b="b"/>
                <a:pathLst>
                  <a:path w="26" h="22">
                    <a:moveTo>
                      <a:pt x="9" y="22"/>
                    </a:moveTo>
                    <a:lnTo>
                      <a:pt x="0" y="12"/>
                    </a:lnTo>
                    <a:lnTo>
                      <a:pt x="3" y="4"/>
                    </a:lnTo>
                    <a:lnTo>
                      <a:pt x="12" y="0"/>
                    </a:lnTo>
                    <a:lnTo>
                      <a:pt x="20" y="1"/>
                    </a:lnTo>
                    <a:lnTo>
                      <a:pt x="26" y="7"/>
                    </a:lnTo>
                    <a:lnTo>
                      <a:pt x="9"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5" name=""/>
              <p:cNvSpPr/>
              <p:nvPr/>
            </p:nvSpPr>
            <p:spPr>
              <a:xfrm>
                <a:off x="7172280" y="2371680"/>
                <a:ext cx="11160" cy="9720"/>
              </a:xfrm>
              <a:custGeom>
                <a:avLst/>
                <a:gdLst/>
                <a:ahLst/>
                <a:rect l="l" t="t" r="r" b="b"/>
                <a:pathLst>
                  <a:path w="23" h="18">
                    <a:moveTo>
                      <a:pt x="6" y="18"/>
                    </a:moveTo>
                    <a:lnTo>
                      <a:pt x="0" y="0"/>
                    </a:lnTo>
                    <a:lnTo>
                      <a:pt x="23" y="6"/>
                    </a:lnTo>
                    <a:lnTo>
                      <a:pt x="6"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6" name=""/>
              <p:cNvSpPr/>
              <p:nvPr/>
            </p:nvSpPr>
            <p:spPr>
              <a:xfrm>
                <a:off x="7243920" y="2346480"/>
                <a:ext cx="10800" cy="10800"/>
              </a:xfrm>
              <a:custGeom>
                <a:avLst/>
                <a:gdLst/>
                <a:ahLst/>
                <a:rect l="l" t="t" r="r" b="b"/>
                <a:pathLst>
                  <a:path w="21" h="20">
                    <a:moveTo>
                      <a:pt x="8" y="20"/>
                    </a:moveTo>
                    <a:lnTo>
                      <a:pt x="0" y="3"/>
                    </a:lnTo>
                    <a:lnTo>
                      <a:pt x="7" y="0"/>
                    </a:lnTo>
                    <a:lnTo>
                      <a:pt x="16" y="2"/>
                    </a:lnTo>
                    <a:lnTo>
                      <a:pt x="20" y="7"/>
                    </a:lnTo>
                    <a:lnTo>
                      <a:pt x="21" y="16"/>
                    </a:lnTo>
                    <a:lnTo>
                      <a:pt x="8"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97" name=""/>
              <p:cNvSpPr/>
              <p:nvPr/>
            </p:nvSpPr>
            <p:spPr>
              <a:xfrm>
                <a:off x="6999120" y="2333520"/>
                <a:ext cx="11160" cy="11160"/>
              </a:xfrm>
              <a:custGeom>
                <a:avLst/>
                <a:gdLst/>
                <a:ahLst/>
                <a:rect l="l" t="t" r="r" b="b"/>
                <a:pathLst>
                  <a:path w="19" h="22">
                    <a:moveTo>
                      <a:pt x="4" y="22"/>
                    </a:moveTo>
                    <a:lnTo>
                      <a:pt x="0" y="0"/>
                    </a:lnTo>
                    <a:lnTo>
                      <a:pt x="19" y="7"/>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8" name=""/>
              <p:cNvSpPr/>
              <p:nvPr/>
            </p:nvSpPr>
            <p:spPr>
              <a:xfrm>
                <a:off x="7064280" y="2332080"/>
                <a:ext cx="12960" cy="9360"/>
              </a:xfrm>
              <a:custGeom>
                <a:avLst/>
                <a:gdLst/>
                <a:ahLst/>
                <a:rect l="l" t="t" r="r" b="b"/>
                <a:pathLst>
                  <a:path w="24" h="16">
                    <a:moveTo>
                      <a:pt x="4" y="16"/>
                    </a:moveTo>
                    <a:lnTo>
                      <a:pt x="0" y="7"/>
                    </a:lnTo>
                    <a:lnTo>
                      <a:pt x="4" y="1"/>
                    </a:lnTo>
                    <a:lnTo>
                      <a:pt x="13" y="0"/>
                    </a:lnTo>
                    <a:lnTo>
                      <a:pt x="20" y="3"/>
                    </a:lnTo>
                    <a:lnTo>
                      <a:pt x="24" y="8"/>
                    </a:lnTo>
                    <a:lnTo>
                      <a:pt x="4"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9" name=""/>
              <p:cNvSpPr/>
              <p:nvPr/>
            </p:nvSpPr>
            <p:spPr>
              <a:xfrm>
                <a:off x="7143840" y="2305080"/>
                <a:ext cx="14040" cy="14400"/>
              </a:xfrm>
              <a:custGeom>
                <a:avLst/>
                <a:gdLst/>
                <a:ahLst/>
                <a:rect l="l" t="t" r="r" b="b"/>
                <a:pathLst>
                  <a:path w="25" h="26">
                    <a:moveTo>
                      <a:pt x="7" y="26"/>
                    </a:moveTo>
                    <a:lnTo>
                      <a:pt x="0" y="20"/>
                    </a:lnTo>
                    <a:lnTo>
                      <a:pt x="2" y="12"/>
                    </a:lnTo>
                    <a:lnTo>
                      <a:pt x="6" y="5"/>
                    </a:lnTo>
                    <a:lnTo>
                      <a:pt x="13" y="0"/>
                    </a:lnTo>
                    <a:lnTo>
                      <a:pt x="23" y="5"/>
                    </a:lnTo>
                    <a:lnTo>
                      <a:pt x="25" y="13"/>
                    </a:lnTo>
                    <a:lnTo>
                      <a:pt x="23" y="19"/>
                    </a:lnTo>
                    <a:lnTo>
                      <a:pt x="18" y="23"/>
                    </a:lnTo>
                    <a:lnTo>
                      <a:pt x="7"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0" name=""/>
              <p:cNvSpPr/>
              <p:nvPr/>
            </p:nvSpPr>
            <p:spPr>
              <a:xfrm>
                <a:off x="8317080" y="2271600"/>
                <a:ext cx="9360" cy="11160"/>
              </a:xfrm>
              <a:custGeom>
                <a:avLst/>
                <a:gdLst/>
                <a:ahLst/>
                <a:rect l="l" t="t" r="r" b="b"/>
                <a:pathLst>
                  <a:path w="18" h="21">
                    <a:moveTo>
                      <a:pt x="1" y="21"/>
                    </a:moveTo>
                    <a:lnTo>
                      <a:pt x="0" y="0"/>
                    </a:lnTo>
                    <a:lnTo>
                      <a:pt x="18" y="1"/>
                    </a:lnTo>
                    <a:lnTo>
                      <a:pt x="17" y="8"/>
                    </a:lnTo>
                    <a:lnTo>
                      <a:pt x="14" y="14"/>
                    </a:lnTo>
                    <a:lnTo>
                      <a:pt x="10" y="18"/>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1" name=""/>
              <p:cNvSpPr/>
              <p:nvPr/>
            </p:nvSpPr>
            <p:spPr>
              <a:xfrm>
                <a:off x="8381880" y="2270160"/>
                <a:ext cx="9720" cy="9360"/>
              </a:xfrm>
              <a:custGeom>
                <a:avLst/>
                <a:gdLst/>
                <a:ahLst/>
                <a:rect l="l" t="t" r="r" b="b"/>
                <a:pathLst>
                  <a:path w="17" h="17">
                    <a:moveTo>
                      <a:pt x="5" y="17"/>
                    </a:moveTo>
                    <a:lnTo>
                      <a:pt x="0" y="1"/>
                    </a:lnTo>
                    <a:lnTo>
                      <a:pt x="10" y="0"/>
                    </a:lnTo>
                    <a:lnTo>
                      <a:pt x="17" y="7"/>
                    </a:lnTo>
                    <a:lnTo>
                      <a:pt x="17" y="14"/>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2" name=""/>
              <p:cNvSpPr/>
              <p:nvPr/>
            </p:nvSpPr>
            <p:spPr>
              <a:xfrm>
                <a:off x="7118280" y="2268360"/>
                <a:ext cx="11160" cy="11160"/>
              </a:xfrm>
              <a:custGeom>
                <a:avLst/>
                <a:gdLst/>
                <a:ahLst/>
                <a:rect l="l" t="t" r="r" b="b"/>
                <a:pathLst>
                  <a:path w="23" h="20">
                    <a:moveTo>
                      <a:pt x="4" y="20"/>
                    </a:moveTo>
                    <a:lnTo>
                      <a:pt x="0" y="0"/>
                    </a:lnTo>
                    <a:lnTo>
                      <a:pt x="20" y="3"/>
                    </a:lnTo>
                    <a:lnTo>
                      <a:pt x="23" y="10"/>
                    </a:lnTo>
                    <a:lnTo>
                      <a:pt x="20" y="16"/>
                    </a:lnTo>
                    <a:lnTo>
                      <a:pt x="14"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3" name=""/>
              <p:cNvSpPr/>
              <p:nvPr/>
            </p:nvSpPr>
            <p:spPr>
              <a:xfrm>
                <a:off x="8248680" y="2249640"/>
                <a:ext cx="14400" cy="9360"/>
              </a:xfrm>
              <a:custGeom>
                <a:avLst/>
                <a:gdLst/>
                <a:ahLst/>
                <a:rect l="l" t="t" r="r" b="b"/>
                <a:pathLst>
                  <a:path w="26" h="18">
                    <a:moveTo>
                      <a:pt x="7" y="18"/>
                    </a:moveTo>
                    <a:lnTo>
                      <a:pt x="0" y="8"/>
                    </a:lnTo>
                    <a:lnTo>
                      <a:pt x="4" y="2"/>
                    </a:lnTo>
                    <a:lnTo>
                      <a:pt x="11" y="0"/>
                    </a:lnTo>
                    <a:lnTo>
                      <a:pt x="20" y="3"/>
                    </a:lnTo>
                    <a:lnTo>
                      <a:pt x="26" y="8"/>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4" name=""/>
              <p:cNvSpPr/>
              <p:nvPr/>
            </p:nvSpPr>
            <p:spPr>
              <a:xfrm>
                <a:off x="7056360" y="2257560"/>
                <a:ext cx="11160" cy="12600"/>
              </a:xfrm>
              <a:custGeom>
                <a:avLst/>
                <a:gdLst/>
                <a:ahLst/>
                <a:rect l="l" t="t" r="r" b="b"/>
                <a:pathLst>
                  <a:path w="19" h="24">
                    <a:moveTo>
                      <a:pt x="3" y="24"/>
                    </a:moveTo>
                    <a:lnTo>
                      <a:pt x="0" y="17"/>
                    </a:lnTo>
                    <a:lnTo>
                      <a:pt x="2" y="10"/>
                    </a:lnTo>
                    <a:lnTo>
                      <a:pt x="8" y="3"/>
                    </a:lnTo>
                    <a:lnTo>
                      <a:pt x="13" y="0"/>
                    </a:lnTo>
                    <a:lnTo>
                      <a:pt x="19" y="4"/>
                    </a:lnTo>
                    <a:lnTo>
                      <a:pt x="19" y="13"/>
                    </a:lnTo>
                    <a:lnTo>
                      <a:pt x="13" y="21"/>
                    </a:lnTo>
                    <a:lnTo>
                      <a:pt x="3"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5" name=""/>
              <p:cNvSpPr/>
              <p:nvPr/>
            </p:nvSpPr>
            <p:spPr>
              <a:xfrm>
                <a:off x="7002360" y="2232000"/>
                <a:ext cx="12960" cy="12600"/>
              </a:xfrm>
              <a:custGeom>
                <a:avLst/>
                <a:gdLst/>
                <a:ahLst/>
                <a:rect l="l" t="t" r="r" b="b"/>
                <a:pathLst>
                  <a:path w="26" h="24">
                    <a:moveTo>
                      <a:pt x="5" y="24"/>
                    </a:moveTo>
                    <a:lnTo>
                      <a:pt x="0" y="2"/>
                    </a:lnTo>
                    <a:lnTo>
                      <a:pt x="9" y="0"/>
                    </a:lnTo>
                    <a:lnTo>
                      <a:pt x="16" y="1"/>
                    </a:lnTo>
                    <a:lnTo>
                      <a:pt x="22" y="5"/>
                    </a:lnTo>
                    <a:lnTo>
                      <a:pt x="26" y="14"/>
                    </a:lnTo>
                    <a:lnTo>
                      <a:pt x="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6" name=""/>
              <p:cNvSpPr/>
              <p:nvPr/>
            </p:nvSpPr>
            <p:spPr>
              <a:xfrm>
                <a:off x="8170920" y="2211480"/>
                <a:ext cx="9360" cy="11160"/>
              </a:xfrm>
              <a:custGeom>
                <a:avLst/>
                <a:gdLst/>
                <a:ahLst/>
                <a:rect l="l" t="t" r="r" b="b"/>
                <a:pathLst>
                  <a:path w="19" h="22">
                    <a:moveTo>
                      <a:pt x="9" y="22"/>
                    </a:moveTo>
                    <a:lnTo>
                      <a:pt x="0" y="15"/>
                    </a:lnTo>
                    <a:lnTo>
                      <a:pt x="15" y="0"/>
                    </a:lnTo>
                    <a:lnTo>
                      <a:pt x="19" y="4"/>
                    </a:lnTo>
                    <a:lnTo>
                      <a:pt x="19" y="13"/>
                    </a:lnTo>
                    <a:lnTo>
                      <a:pt x="16" y="20"/>
                    </a:lnTo>
                    <a:lnTo>
                      <a:pt x="9"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07" name=""/>
              <p:cNvSpPr/>
              <p:nvPr/>
            </p:nvSpPr>
            <p:spPr>
              <a:xfrm>
                <a:off x="8045280" y="2203560"/>
                <a:ext cx="9720" cy="12600"/>
              </a:xfrm>
              <a:custGeom>
                <a:avLst/>
                <a:gdLst/>
                <a:ahLst/>
                <a:rect l="l" t="t" r="r" b="b"/>
                <a:pathLst>
                  <a:path w="19" h="23">
                    <a:moveTo>
                      <a:pt x="2" y="23"/>
                    </a:moveTo>
                    <a:lnTo>
                      <a:pt x="0" y="17"/>
                    </a:lnTo>
                    <a:lnTo>
                      <a:pt x="2" y="10"/>
                    </a:lnTo>
                    <a:lnTo>
                      <a:pt x="6" y="2"/>
                    </a:lnTo>
                    <a:lnTo>
                      <a:pt x="15" y="0"/>
                    </a:lnTo>
                    <a:lnTo>
                      <a:pt x="19" y="4"/>
                    </a:lnTo>
                    <a:lnTo>
                      <a:pt x="18" y="13"/>
                    </a:lnTo>
                    <a:lnTo>
                      <a:pt x="12" y="21"/>
                    </a:lnTo>
                    <a:lnTo>
                      <a:pt x="2"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8" name=""/>
              <p:cNvSpPr/>
              <p:nvPr/>
            </p:nvSpPr>
            <p:spPr>
              <a:xfrm>
                <a:off x="8396280" y="2193840"/>
                <a:ext cx="9360" cy="14400"/>
              </a:xfrm>
              <a:custGeom>
                <a:avLst/>
                <a:gdLst/>
                <a:ahLst/>
                <a:rect l="l" t="t" r="r" b="b"/>
                <a:pathLst>
                  <a:path w="17" h="27">
                    <a:moveTo>
                      <a:pt x="4" y="27"/>
                    </a:moveTo>
                    <a:lnTo>
                      <a:pt x="1" y="21"/>
                    </a:lnTo>
                    <a:lnTo>
                      <a:pt x="0" y="14"/>
                    </a:lnTo>
                    <a:lnTo>
                      <a:pt x="1" y="7"/>
                    </a:lnTo>
                    <a:lnTo>
                      <a:pt x="7" y="0"/>
                    </a:lnTo>
                    <a:lnTo>
                      <a:pt x="14" y="3"/>
                    </a:lnTo>
                    <a:lnTo>
                      <a:pt x="17" y="10"/>
                    </a:lnTo>
                    <a:lnTo>
                      <a:pt x="17" y="19"/>
                    </a:lnTo>
                    <a:lnTo>
                      <a:pt x="14" y="27"/>
                    </a:lnTo>
                    <a:lnTo>
                      <a:pt x="4"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9" name=""/>
              <p:cNvSpPr/>
              <p:nvPr/>
            </p:nvSpPr>
            <p:spPr>
              <a:xfrm>
                <a:off x="7104240" y="2200320"/>
                <a:ext cx="10800" cy="14400"/>
              </a:xfrm>
              <a:custGeom>
                <a:avLst/>
                <a:gdLst/>
                <a:ahLst/>
                <a:rect l="l" t="t" r="r" b="b"/>
                <a:pathLst>
                  <a:path w="21" h="25">
                    <a:moveTo>
                      <a:pt x="7" y="25"/>
                    </a:moveTo>
                    <a:lnTo>
                      <a:pt x="0" y="0"/>
                    </a:lnTo>
                    <a:lnTo>
                      <a:pt x="17" y="0"/>
                    </a:lnTo>
                    <a:lnTo>
                      <a:pt x="21" y="3"/>
                    </a:lnTo>
                    <a:lnTo>
                      <a:pt x="21" y="12"/>
                    </a:lnTo>
                    <a:lnTo>
                      <a:pt x="15" y="22"/>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10" name=""/>
              <p:cNvSpPr/>
              <p:nvPr/>
            </p:nvSpPr>
            <p:spPr>
              <a:xfrm>
                <a:off x="8105760" y="2189160"/>
                <a:ext cx="12600" cy="9360"/>
              </a:xfrm>
              <a:custGeom>
                <a:avLst/>
                <a:gdLst/>
                <a:ahLst/>
                <a:rect l="l" t="t" r="r" b="b"/>
                <a:pathLst>
                  <a:path w="25" h="20">
                    <a:moveTo>
                      <a:pt x="9" y="20"/>
                    </a:moveTo>
                    <a:lnTo>
                      <a:pt x="0" y="9"/>
                    </a:lnTo>
                    <a:lnTo>
                      <a:pt x="3" y="3"/>
                    </a:lnTo>
                    <a:lnTo>
                      <a:pt x="12" y="0"/>
                    </a:lnTo>
                    <a:lnTo>
                      <a:pt x="21" y="2"/>
                    </a:lnTo>
                    <a:lnTo>
                      <a:pt x="25" y="6"/>
                    </a:lnTo>
                    <a:lnTo>
                      <a:pt x="9"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1" name=""/>
              <p:cNvSpPr/>
              <p:nvPr/>
            </p:nvSpPr>
            <p:spPr>
              <a:xfrm>
                <a:off x="8340840" y="2185920"/>
                <a:ext cx="11160" cy="7920"/>
              </a:xfrm>
              <a:custGeom>
                <a:avLst/>
                <a:gdLst/>
                <a:ahLst/>
                <a:rect l="l" t="t" r="r" b="b"/>
                <a:pathLst>
                  <a:path w="19" h="16">
                    <a:moveTo>
                      <a:pt x="3" y="16"/>
                    </a:moveTo>
                    <a:lnTo>
                      <a:pt x="0" y="8"/>
                    </a:lnTo>
                    <a:lnTo>
                      <a:pt x="4" y="2"/>
                    </a:lnTo>
                    <a:lnTo>
                      <a:pt x="11" y="0"/>
                    </a:lnTo>
                    <a:lnTo>
                      <a:pt x="19" y="9"/>
                    </a:lnTo>
                    <a:lnTo>
                      <a:pt x="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12" name=""/>
              <p:cNvSpPr/>
              <p:nvPr/>
            </p:nvSpPr>
            <p:spPr>
              <a:xfrm>
                <a:off x="7931160" y="2181240"/>
                <a:ext cx="15840" cy="12600"/>
              </a:xfrm>
              <a:custGeom>
                <a:avLst/>
                <a:gdLst/>
                <a:ahLst/>
                <a:rect l="l" t="t" r="r" b="b"/>
                <a:pathLst>
                  <a:path w="29" h="22">
                    <a:moveTo>
                      <a:pt x="14" y="22"/>
                    </a:moveTo>
                    <a:lnTo>
                      <a:pt x="0" y="9"/>
                    </a:lnTo>
                    <a:lnTo>
                      <a:pt x="7" y="2"/>
                    </a:lnTo>
                    <a:lnTo>
                      <a:pt x="17" y="0"/>
                    </a:lnTo>
                    <a:lnTo>
                      <a:pt x="24" y="2"/>
                    </a:lnTo>
                    <a:lnTo>
                      <a:pt x="29" y="9"/>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3" name=""/>
              <p:cNvSpPr/>
              <p:nvPr/>
            </p:nvSpPr>
            <p:spPr>
              <a:xfrm>
                <a:off x="7991640" y="2171880"/>
                <a:ext cx="10800" cy="10800"/>
              </a:xfrm>
              <a:custGeom>
                <a:avLst/>
                <a:gdLst/>
                <a:ahLst/>
                <a:rect l="l" t="t" r="r" b="b"/>
                <a:pathLst>
                  <a:path w="22" h="22">
                    <a:moveTo>
                      <a:pt x="6" y="22"/>
                    </a:moveTo>
                    <a:lnTo>
                      <a:pt x="0" y="0"/>
                    </a:lnTo>
                    <a:lnTo>
                      <a:pt x="22" y="3"/>
                    </a:lnTo>
                    <a:lnTo>
                      <a:pt x="6"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14" name=""/>
              <p:cNvSpPr/>
              <p:nvPr/>
            </p:nvSpPr>
            <p:spPr>
              <a:xfrm>
                <a:off x="8263080" y="2163600"/>
                <a:ext cx="10800" cy="12960"/>
              </a:xfrm>
              <a:custGeom>
                <a:avLst/>
                <a:gdLst/>
                <a:ahLst/>
                <a:rect l="l" t="t" r="r" b="b"/>
                <a:pathLst>
                  <a:path w="22" h="25">
                    <a:moveTo>
                      <a:pt x="9" y="25"/>
                    </a:moveTo>
                    <a:lnTo>
                      <a:pt x="0" y="18"/>
                    </a:lnTo>
                    <a:lnTo>
                      <a:pt x="2" y="11"/>
                    </a:lnTo>
                    <a:lnTo>
                      <a:pt x="6" y="5"/>
                    </a:lnTo>
                    <a:lnTo>
                      <a:pt x="12" y="0"/>
                    </a:lnTo>
                    <a:lnTo>
                      <a:pt x="21" y="0"/>
                    </a:lnTo>
                    <a:lnTo>
                      <a:pt x="22" y="8"/>
                    </a:lnTo>
                    <a:lnTo>
                      <a:pt x="21" y="13"/>
                    </a:lnTo>
                    <a:lnTo>
                      <a:pt x="16" y="19"/>
                    </a:lnTo>
                    <a:lnTo>
                      <a:pt x="9"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15" name=""/>
              <p:cNvSpPr/>
              <p:nvPr/>
            </p:nvSpPr>
            <p:spPr>
              <a:xfrm>
                <a:off x="6997680" y="2162160"/>
                <a:ext cx="9720" cy="12600"/>
              </a:xfrm>
              <a:custGeom>
                <a:avLst/>
                <a:gdLst/>
                <a:ahLst/>
                <a:rect l="l" t="t" r="r" b="b"/>
                <a:pathLst>
                  <a:path w="17" h="23">
                    <a:moveTo>
                      <a:pt x="0" y="23"/>
                    </a:moveTo>
                    <a:lnTo>
                      <a:pt x="0" y="1"/>
                    </a:lnTo>
                    <a:lnTo>
                      <a:pt x="17" y="0"/>
                    </a:lnTo>
                    <a:lnTo>
                      <a:pt x="17" y="9"/>
                    </a:lnTo>
                    <a:lnTo>
                      <a:pt x="16" y="16"/>
                    </a:lnTo>
                    <a:lnTo>
                      <a:pt x="10" y="22"/>
                    </a:lnTo>
                    <a:lnTo>
                      <a:pt x="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6" name=""/>
              <p:cNvSpPr/>
              <p:nvPr/>
            </p:nvSpPr>
            <p:spPr>
              <a:xfrm>
                <a:off x="7826400" y="2146320"/>
                <a:ext cx="14400" cy="12600"/>
              </a:xfrm>
              <a:custGeom>
                <a:avLst/>
                <a:gdLst/>
                <a:ahLst/>
                <a:rect l="l" t="t" r="r" b="b"/>
                <a:pathLst>
                  <a:path w="25" h="25">
                    <a:moveTo>
                      <a:pt x="7" y="25"/>
                    </a:moveTo>
                    <a:lnTo>
                      <a:pt x="0" y="18"/>
                    </a:lnTo>
                    <a:lnTo>
                      <a:pt x="0" y="7"/>
                    </a:lnTo>
                    <a:lnTo>
                      <a:pt x="3" y="2"/>
                    </a:lnTo>
                    <a:lnTo>
                      <a:pt x="12" y="0"/>
                    </a:lnTo>
                    <a:lnTo>
                      <a:pt x="20" y="3"/>
                    </a:lnTo>
                    <a:lnTo>
                      <a:pt x="25" y="7"/>
                    </a:lnTo>
                    <a:lnTo>
                      <a:pt x="7"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7" name=""/>
              <p:cNvSpPr/>
              <p:nvPr/>
            </p:nvSpPr>
            <p:spPr>
              <a:xfrm>
                <a:off x="7062840" y="2154240"/>
                <a:ext cx="11160" cy="14400"/>
              </a:xfrm>
              <a:custGeom>
                <a:avLst/>
                <a:gdLst/>
                <a:ahLst/>
                <a:rect l="l" t="t" r="r" b="b"/>
                <a:pathLst>
                  <a:path w="21" h="26">
                    <a:moveTo>
                      <a:pt x="15" y="26"/>
                    </a:moveTo>
                    <a:lnTo>
                      <a:pt x="0" y="9"/>
                    </a:lnTo>
                    <a:lnTo>
                      <a:pt x="17" y="0"/>
                    </a:lnTo>
                    <a:lnTo>
                      <a:pt x="20" y="3"/>
                    </a:lnTo>
                    <a:lnTo>
                      <a:pt x="21" y="10"/>
                    </a:lnTo>
                    <a:lnTo>
                      <a:pt x="20" y="19"/>
                    </a:lnTo>
                    <a:lnTo>
                      <a:pt x="15"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18" name=""/>
              <p:cNvSpPr/>
              <p:nvPr/>
            </p:nvSpPr>
            <p:spPr>
              <a:xfrm>
                <a:off x="8194680" y="2143080"/>
                <a:ext cx="12600" cy="7920"/>
              </a:xfrm>
              <a:custGeom>
                <a:avLst/>
                <a:gdLst/>
                <a:ahLst/>
                <a:rect l="l" t="t" r="r" b="b"/>
                <a:pathLst>
                  <a:path w="24" h="16">
                    <a:moveTo>
                      <a:pt x="7" y="16"/>
                    </a:moveTo>
                    <a:lnTo>
                      <a:pt x="0" y="6"/>
                    </a:lnTo>
                    <a:lnTo>
                      <a:pt x="4" y="0"/>
                    </a:lnTo>
                    <a:lnTo>
                      <a:pt x="11" y="0"/>
                    </a:lnTo>
                    <a:lnTo>
                      <a:pt x="20" y="2"/>
                    </a:lnTo>
                    <a:lnTo>
                      <a:pt x="24" y="6"/>
                    </a:lnTo>
                    <a:lnTo>
                      <a:pt x="7"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19" name=""/>
              <p:cNvSpPr/>
              <p:nvPr/>
            </p:nvSpPr>
            <p:spPr>
              <a:xfrm>
                <a:off x="7435800" y="2062080"/>
                <a:ext cx="68400" cy="95400"/>
              </a:xfrm>
              <a:custGeom>
                <a:avLst/>
                <a:gdLst/>
                <a:ahLst/>
                <a:rect l="l" t="t" r="r" b="b"/>
                <a:pathLst>
                  <a:path w="131" h="182">
                    <a:moveTo>
                      <a:pt x="20" y="182"/>
                    </a:moveTo>
                    <a:lnTo>
                      <a:pt x="0" y="174"/>
                    </a:lnTo>
                    <a:lnTo>
                      <a:pt x="10" y="166"/>
                    </a:lnTo>
                    <a:lnTo>
                      <a:pt x="21" y="159"/>
                    </a:lnTo>
                    <a:lnTo>
                      <a:pt x="34" y="155"/>
                    </a:lnTo>
                    <a:lnTo>
                      <a:pt x="47" y="151"/>
                    </a:lnTo>
                    <a:lnTo>
                      <a:pt x="60" y="148"/>
                    </a:lnTo>
                    <a:lnTo>
                      <a:pt x="75" y="145"/>
                    </a:lnTo>
                    <a:lnTo>
                      <a:pt x="89" y="140"/>
                    </a:lnTo>
                    <a:lnTo>
                      <a:pt x="104" y="138"/>
                    </a:lnTo>
                    <a:lnTo>
                      <a:pt x="101" y="106"/>
                    </a:lnTo>
                    <a:lnTo>
                      <a:pt x="95" y="75"/>
                    </a:lnTo>
                    <a:lnTo>
                      <a:pt x="88" y="44"/>
                    </a:lnTo>
                    <a:lnTo>
                      <a:pt x="85" y="12"/>
                    </a:lnTo>
                    <a:lnTo>
                      <a:pt x="101" y="0"/>
                    </a:lnTo>
                    <a:lnTo>
                      <a:pt x="108" y="35"/>
                    </a:lnTo>
                    <a:lnTo>
                      <a:pt x="115" y="75"/>
                    </a:lnTo>
                    <a:lnTo>
                      <a:pt x="124" y="116"/>
                    </a:lnTo>
                    <a:lnTo>
                      <a:pt x="131" y="156"/>
                    </a:lnTo>
                    <a:lnTo>
                      <a:pt x="124" y="158"/>
                    </a:lnTo>
                    <a:lnTo>
                      <a:pt x="115" y="158"/>
                    </a:lnTo>
                    <a:lnTo>
                      <a:pt x="108" y="159"/>
                    </a:lnTo>
                    <a:lnTo>
                      <a:pt x="101" y="159"/>
                    </a:lnTo>
                    <a:lnTo>
                      <a:pt x="94" y="159"/>
                    </a:lnTo>
                    <a:lnTo>
                      <a:pt x="85" y="161"/>
                    </a:lnTo>
                    <a:lnTo>
                      <a:pt x="78" y="164"/>
                    </a:lnTo>
                    <a:lnTo>
                      <a:pt x="69" y="166"/>
                    </a:lnTo>
                    <a:lnTo>
                      <a:pt x="63" y="168"/>
                    </a:lnTo>
                    <a:lnTo>
                      <a:pt x="58" y="168"/>
                    </a:lnTo>
                    <a:lnTo>
                      <a:pt x="52" y="171"/>
                    </a:lnTo>
                    <a:lnTo>
                      <a:pt x="46" y="172"/>
                    </a:lnTo>
                    <a:lnTo>
                      <a:pt x="40" y="175"/>
                    </a:lnTo>
                    <a:lnTo>
                      <a:pt x="34" y="177"/>
                    </a:lnTo>
                    <a:lnTo>
                      <a:pt x="27" y="179"/>
                    </a:lnTo>
                    <a:lnTo>
                      <a:pt x="2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8055000" y="2138400"/>
                <a:ext cx="7920" cy="11160"/>
              </a:xfrm>
              <a:custGeom>
                <a:avLst/>
                <a:gdLst/>
                <a:ahLst/>
                <a:rect l="l" t="t" r="r" b="b"/>
                <a:pathLst>
                  <a:path w="14" h="21">
                    <a:moveTo>
                      <a:pt x="0" y="21"/>
                    </a:moveTo>
                    <a:lnTo>
                      <a:pt x="3" y="0"/>
                    </a:lnTo>
                    <a:lnTo>
                      <a:pt x="14" y="6"/>
                    </a:lnTo>
                    <a:lnTo>
                      <a:pt x="14" y="11"/>
                    </a:lnTo>
                    <a:lnTo>
                      <a:pt x="12" y="16"/>
                    </a:lnTo>
                    <a:lnTo>
                      <a:pt x="7"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1" name=""/>
              <p:cNvSpPr/>
              <p:nvPr/>
            </p:nvSpPr>
            <p:spPr>
              <a:xfrm>
                <a:off x="7107120" y="1995480"/>
                <a:ext cx="216000" cy="152280"/>
              </a:xfrm>
              <a:custGeom>
                <a:avLst/>
                <a:gdLst/>
                <a:ahLst/>
                <a:rect l="l" t="t" r="r" b="b"/>
                <a:pathLst>
                  <a:path w="410" h="286">
                    <a:moveTo>
                      <a:pt x="326" y="286"/>
                    </a:moveTo>
                    <a:lnTo>
                      <a:pt x="319" y="282"/>
                    </a:lnTo>
                    <a:lnTo>
                      <a:pt x="311" y="282"/>
                    </a:lnTo>
                    <a:lnTo>
                      <a:pt x="304" y="280"/>
                    </a:lnTo>
                    <a:lnTo>
                      <a:pt x="294" y="277"/>
                    </a:lnTo>
                    <a:lnTo>
                      <a:pt x="292" y="254"/>
                    </a:lnTo>
                    <a:lnTo>
                      <a:pt x="282" y="253"/>
                    </a:lnTo>
                    <a:lnTo>
                      <a:pt x="275" y="257"/>
                    </a:lnTo>
                    <a:lnTo>
                      <a:pt x="269" y="263"/>
                    </a:lnTo>
                    <a:lnTo>
                      <a:pt x="258" y="262"/>
                    </a:lnTo>
                    <a:lnTo>
                      <a:pt x="259" y="253"/>
                    </a:lnTo>
                    <a:lnTo>
                      <a:pt x="265" y="244"/>
                    </a:lnTo>
                    <a:lnTo>
                      <a:pt x="269" y="237"/>
                    </a:lnTo>
                    <a:lnTo>
                      <a:pt x="275" y="228"/>
                    </a:lnTo>
                    <a:lnTo>
                      <a:pt x="272" y="218"/>
                    </a:lnTo>
                    <a:lnTo>
                      <a:pt x="252" y="218"/>
                    </a:lnTo>
                    <a:lnTo>
                      <a:pt x="238" y="238"/>
                    </a:lnTo>
                    <a:lnTo>
                      <a:pt x="229" y="233"/>
                    </a:lnTo>
                    <a:lnTo>
                      <a:pt x="235" y="223"/>
                    </a:lnTo>
                    <a:lnTo>
                      <a:pt x="239" y="211"/>
                    </a:lnTo>
                    <a:lnTo>
                      <a:pt x="245" y="201"/>
                    </a:lnTo>
                    <a:lnTo>
                      <a:pt x="251" y="191"/>
                    </a:lnTo>
                    <a:lnTo>
                      <a:pt x="245" y="182"/>
                    </a:lnTo>
                    <a:lnTo>
                      <a:pt x="238" y="181"/>
                    </a:lnTo>
                    <a:lnTo>
                      <a:pt x="227" y="185"/>
                    </a:lnTo>
                    <a:lnTo>
                      <a:pt x="222" y="195"/>
                    </a:lnTo>
                    <a:lnTo>
                      <a:pt x="216" y="207"/>
                    </a:lnTo>
                    <a:lnTo>
                      <a:pt x="206" y="217"/>
                    </a:lnTo>
                    <a:lnTo>
                      <a:pt x="206" y="205"/>
                    </a:lnTo>
                    <a:lnTo>
                      <a:pt x="210" y="195"/>
                    </a:lnTo>
                    <a:lnTo>
                      <a:pt x="214" y="186"/>
                    </a:lnTo>
                    <a:lnTo>
                      <a:pt x="220" y="175"/>
                    </a:lnTo>
                    <a:lnTo>
                      <a:pt x="216" y="153"/>
                    </a:lnTo>
                    <a:lnTo>
                      <a:pt x="204" y="158"/>
                    </a:lnTo>
                    <a:lnTo>
                      <a:pt x="201" y="165"/>
                    </a:lnTo>
                    <a:lnTo>
                      <a:pt x="197" y="172"/>
                    </a:lnTo>
                    <a:lnTo>
                      <a:pt x="191" y="178"/>
                    </a:lnTo>
                    <a:lnTo>
                      <a:pt x="184" y="186"/>
                    </a:lnTo>
                    <a:lnTo>
                      <a:pt x="172" y="192"/>
                    </a:lnTo>
                    <a:lnTo>
                      <a:pt x="174" y="184"/>
                    </a:lnTo>
                    <a:lnTo>
                      <a:pt x="177" y="172"/>
                    </a:lnTo>
                    <a:lnTo>
                      <a:pt x="181" y="160"/>
                    </a:lnTo>
                    <a:lnTo>
                      <a:pt x="185" y="149"/>
                    </a:lnTo>
                    <a:lnTo>
                      <a:pt x="164" y="146"/>
                    </a:lnTo>
                    <a:lnTo>
                      <a:pt x="162" y="155"/>
                    </a:lnTo>
                    <a:lnTo>
                      <a:pt x="159" y="160"/>
                    </a:lnTo>
                    <a:lnTo>
                      <a:pt x="154" y="168"/>
                    </a:lnTo>
                    <a:lnTo>
                      <a:pt x="148" y="175"/>
                    </a:lnTo>
                    <a:lnTo>
                      <a:pt x="142" y="168"/>
                    </a:lnTo>
                    <a:lnTo>
                      <a:pt x="144" y="156"/>
                    </a:lnTo>
                    <a:lnTo>
                      <a:pt x="148" y="146"/>
                    </a:lnTo>
                    <a:lnTo>
                      <a:pt x="149" y="136"/>
                    </a:lnTo>
                    <a:lnTo>
                      <a:pt x="148" y="124"/>
                    </a:lnTo>
                    <a:lnTo>
                      <a:pt x="138" y="124"/>
                    </a:lnTo>
                    <a:lnTo>
                      <a:pt x="128" y="132"/>
                    </a:lnTo>
                    <a:lnTo>
                      <a:pt x="125" y="137"/>
                    </a:lnTo>
                    <a:lnTo>
                      <a:pt x="120" y="146"/>
                    </a:lnTo>
                    <a:lnTo>
                      <a:pt x="119" y="156"/>
                    </a:lnTo>
                    <a:lnTo>
                      <a:pt x="118" y="166"/>
                    </a:lnTo>
                    <a:lnTo>
                      <a:pt x="112" y="158"/>
                    </a:lnTo>
                    <a:lnTo>
                      <a:pt x="112" y="146"/>
                    </a:lnTo>
                    <a:lnTo>
                      <a:pt x="112" y="132"/>
                    </a:lnTo>
                    <a:lnTo>
                      <a:pt x="110" y="117"/>
                    </a:lnTo>
                    <a:lnTo>
                      <a:pt x="89" y="124"/>
                    </a:lnTo>
                    <a:lnTo>
                      <a:pt x="90" y="130"/>
                    </a:lnTo>
                    <a:lnTo>
                      <a:pt x="87" y="137"/>
                    </a:lnTo>
                    <a:lnTo>
                      <a:pt x="86" y="145"/>
                    </a:lnTo>
                    <a:lnTo>
                      <a:pt x="87" y="153"/>
                    </a:lnTo>
                    <a:lnTo>
                      <a:pt x="80" y="153"/>
                    </a:lnTo>
                    <a:lnTo>
                      <a:pt x="78" y="146"/>
                    </a:lnTo>
                    <a:lnTo>
                      <a:pt x="77" y="137"/>
                    </a:lnTo>
                    <a:lnTo>
                      <a:pt x="73" y="130"/>
                    </a:lnTo>
                    <a:lnTo>
                      <a:pt x="68" y="124"/>
                    </a:lnTo>
                    <a:lnTo>
                      <a:pt x="57" y="126"/>
                    </a:lnTo>
                    <a:lnTo>
                      <a:pt x="55" y="134"/>
                    </a:lnTo>
                    <a:lnTo>
                      <a:pt x="54" y="146"/>
                    </a:lnTo>
                    <a:lnTo>
                      <a:pt x="54" y="156"/>
                    </a:lnTo>
                    <a:lnTo>
                      <a:pt x="55" y="168"/>
                    </a:lnTo>
                    <a:lnTo>
                      <a:pt x="51" y="179"/>
                    </a:lnTo>
                    <a:lnTo>
                      <a:pt x="44" y="188"/>
                    </a:lnTo>
                    <a:lnTo>
                      <a:pt x="37" y="198"/>
                    </a:lnTo>
                    <a:lnTo>
                      <a:pt x="32" y="211"/>
                    </a:lnTo>
                    <a:lnTo>
                      <a:pt x="29" y="218"/>
                    </a:lnTo>
                    <a:lnTo>
                      <a:pt x="31" y="227"/>
                    </a:lnTo>
                    <a:lnTo>
                      <a:pt x="31" y="236"/>
                    </a:lnTo>
                    <a:lnTo>
                      <a:pt x="31" y="246"/>
                    </a:lnTo>
                    <a:lnTo>
                      <a:pt x="26" y="236"/>
                    </a:lnTo>
                    <a:lnTo>
                      <a:pt x="22" y="224"/>
                    </a:lnTo>
                    <a:lnTo>
                      <a:pt x="18" y="214"/>
                    </a:lnTo>
                    <a:lnTo>
                      <a:pt x="12" y="204"/>
                    </a:lnTo>
                    <a:lnTo>
                      <a:pt x="0" y="185"/>
                    </a:lnTo>
                    <a:lnTo>
                      <a:pt x="2" y="162"/>
                    </a:lnTo>
                    <a:lnTo>
                      <a:pt x="5" y="139"/>
                    </a:lnTo>
                    <a:lnTo>
                      <a:pt x="9" y="114"/>
                    </a:lnTo>
                    <a:lnTo>
                      <a:pt x="13" y="91"/>
                    </a:lnTo>
                    <a:lnTo>
                      <a:pt x="21" y="67"/>
                    </a:lnTo>
                    <a:lnTo>
                      <a:pt x="28" y="45"/>
                    </a:lnTo>
                    <a:lnTo>
                      <a:pt x="37" y="22"/>
                    </a:lnTo>
                    <a:lnTo>
                      <a:pt x="48" y="1"/>
                    </a:lnTo>
                    <a:lnTo>
                      <a:pt x="74" y="0"/>
                    </a:lnTo>
                    <a:lnTo>
                      <a:pt x="100" y="0"/>
                    </a:lnTo>
                    <a:lnTo>
                      <a:pt x="129" y="3"/>
                    </a:lnTo>
                    <a:lnTo>
                      <a:pt x="157" y="7"/>
                    </a:lnTo>
                    <a:lnTo>
                      <a:pt x="184" y="14"/>
                    </a:lnTo>
                    <a:lnTo>
                      <a:pt x="210" y="22"/>
                    </a:lnTo>
                    <a:lnTo>
                      <a:pt x="236" y="30"/>
                    </a:lnTo>
                    <a:lnTo>
                      <a:pt x="259" y="40"/>
                    </a:lnTo>
                    <a:lnTo>
                      <a:pt x="275" y="61"/>
                    </a:lnTo>
                    <a:lnTo>
                      <a:pt x="292" y="81"/>
                    </a:lnTo>
                    <a:lnTo>
                      <a:pt x="311" y="101"/>
                    </a:lnTo>
                    <a:lnTo>
                      <a:pt x="330" y="121"/>
                    </a:lnTo>
                    <a:lnTo>
                      <a:pt x="349" y="142"/>
                    </a:lnTo>
                    <a:lnTo>
                      <a:pt x="368" y="163"/>
                    </a:lnTo>
                    <a:lnTo>
                      <a:pt x="385" y="184"/>
                    </a:lnTo>
                    <a:lnTo>
                      <a:pt x="402" y="205"/>
                    </a:lnTo>
                    <a:lnTo>
                      <a:pt x="410" y="225"/>
                    </a:lnTo>
                    <a:lnTo>
                      <a:pt x="410" y="237"/>
                    </a:lnTo>
                    <a:lnTo>
                      <a:pt x="395" y="257"/>
                    </a:lnTo>
                    <a:lnTo>
                      <a:pt x="388" y="262"/>
                    </a:lnTo>
                    <a:lnTo>
                      <a:pt x="381" y="266"/>
                    </a:lnTo>
                    <a:lnTo>
                      <a:pt x="372" y="270"/>
                    </a:lnTo>
                    <a:lnTo>
                      <a:pt x="363" y="273"/>
                    </a:lnTo>
                    <a:lnTo>
                      <a:pt x="355" y="276"/>
                    </a:lnTo>
                    <a:lnTo>
                      <a:pt x="345" y="279"/>
                    </a:lnTo>
                    <a:lnTo>
                      <a:pt x="336" y="283"/>
                    </a:lnTo>
                    <a:lnTo>
                      <a:pt x="326" y="286"/>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8362800" y="2114640"/>
                <a:ext cx="11160" cy="12600"/>
              </a:xfrm>
              <a:custGeom>
                <a:avLst/>
                <a:gdLst/>
                <a:ahLst/>
                <a:rect l="l" t="t" r="r" b="b"/>
                <a:pathLst>
                  <a:path w="19" h="25">
                    <a:moveTo>
                      <a:pt x="13" y="25"/>
                    </a:moveTo>
                    <a:lnTo>
                      <a:pt x="0" y="17"/>
                    </a:lnTo>
                    <a:lnTo>
                      <a:pt x="0" y="10"/>
                    </a:lnTo>
                    <a:lnTo>
                      <a:pt x="3" y="3"/>
                    </a:lnTo>
                    <a:lnTo>
                      <a:pt x="8" y="0"/>
                    </a:lnTo>
                    <a:lnTo>
                      <a:pt x="19" y="1"/>
                    </a:lnTo>
                    <a:lnTo>
                      <a:pt x="1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3" name=""/>
              <p:cNvSpPr/>
              <p:nvPr/>
            </p:nvSpPr>
            <p:spPr>
              <a:xfrm>
                <a:off x="7891560" y="2112840"/>
                <a:ext cx="12600" cy="12960"/>
              </a:xfrm>
              <a:custGeom>
                <a:avLst/>
                <a:gdLst/>
                <a:ahLst/>
                <a:rect l="l" t="t" r="r" b="b"/>
                <a:pathLst>
                  <a:path w="22" h="23">
                    <a:moveTo>
                      <a:pt x="16" y="23"/>
                    </a:moveTo>
                    <a:lnTo>
                      <a:pt x="0" y="4"/>
                    </a:lnTo>
                    <a:lnTo>
                      <a:pt x="22" y="0"/>
                    </a:lnTo>
                    <a:lnTo>
                      <a:pt x="16"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24" name=""/>
              <p:cNvSpPr/>
              <p:nvPr/>
            </p:nvSpPr>
            <p:spPr>
              <a:xfrm>
                <a:off x="7742160" y="2092320"/>
                <a:ext cx="14400" cy="15840"/>
              </a:xfrm>
              <a:custGeom>
                <a:avLst/>
                <a:gdLst/>
                <a:ahLst/>
                <a:rect l="l" t="t" r="r" b="b"/>
                <a:pathLst>
                  <a:path w="25" h="30">
                    <a:moveTo>
                      <a:pt x="10" y="30"/>
                    </a:moveTo>
                    <a:lnTo>
                      <a:pt x="0" y="23"/>
                    </a:lnTo>
                    <a:lnTo>
                      <a:pt x="0" y="16"/>
                    </a:lnTo>
                    <a:lnTo>
                      <a:pt x="1" y="8"/>
                    </a:lnTo>
                    <a:lnTo>
                      <a:pt x="6" y="3"/>
                    </a:lnTo>
                    <a:lnTo>
                      <a:pt x="16" y="0"/>
                    </a:lnTo>
                    <a:lnTo>
                      <a:pt x="23" y="7"/>
                    </a:lnTo>
                    <a:lnTo>
                      <a:pt x="25" y="14"/>
                    </a:lnTo>
                    <a:lnTo>
                      <a:pt x="22" y="18"/>
                    </a:lnTo>
                    <a:lnTo>
                      <a:pt x="16" y="24"/>
                    </a:lnTo>
                    <a:lnTo>
                      <a:pt x="1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5" name=""/>
              <p:cNvSpPr/>
              <p:nvPr/>
            </p:nvSpPr>
            <p:spPr>
              <a:xfrm>
                <a:off x="7974000" y="2087640"/>
                <a:ext cx="7920" cy="9360"/>
              </a:xfrm>
              <a:custGeom>
                <a:avLst/>
                <a:gdLst/>
                <a:ahLst/>
                <a:rect l="l" t="t" r="r" b="b"/>
                <a:pathLst>
                  <a:path w="15" h="20">
                    <a:moveTo>
                      <a:pt x="2" y="20"/>
                    </a:moveTo>
                    <a:lnTo>
                      <a:pt x="0" y="0"/>
                    </a:lnTo>
                    <a:lnTo>
                      <a:pt x="12" y="0"/>
                    </a:lnTo>
                    <a:lnTo>
                      <a:pt x="15" y="4"/>
                    </a:lnTo>
                    <a:lnTo>
                      <a:pt x="13" y="13"/>
                    </a:lnTo>
                    <a:lnTo>
                      <a:pt x="9" y="20"/>
                    </a:lnTo>
                    <a:lnTo>
                      <a:pt x="2"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6" name=""/>
              <p:cNvSpPr/>
              <p:nvPr/>
            </p:nvSpPr>
            <p:spPr>
              <a:xfrm>
                <a:off x="8264520" y="2073240"/>
                <a:ext cx="9360" cy="14400"/>
              </a:xfrm>
              <a:custGeom>
                <a:avLst/>
                <a:gdLst/>
                <a:ahLst/>
                <a:rect l="l" t="t" r="r" b="b"/>
                <a:pathLst>
                  <a:path w="19" h="25">
                    <a:moveTo>
                      <a:pt x="3" y="25"/>
                    </a:moveTo>
                    <a:lnTo>
                      <a:pt x="0" y="19"/>
                    </a:lnTo>
                    <a:lnTo>
                      <a:pt x="1" y="11"/>
                    </a:lnTo>
                    <a:lnTo>
                      <a:pt x="7" y="5"/>
                    </a:lnTo>
                    <a:lnTo>
                      <a:pt x="13" y="0"/>
                    </a:lnTo>
                    <a:lnTo>
                      <a:pt x="19" y="6"/>
                    </a:lnTo>
                    <a:lnTo>
                      <a:pt x="17" y="15"/>
                    </a:lnTo>
                    <a:lnTo>
                      <a:pt x="10" y="22"/>
                    </a:lnTo>
                    <a:lnTo>
                      <a:pt x="3"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27" name=""/>
              <p:cNvSpPr/>
              <p:nvPr/>
            </p:nvSpPr>
            <p:spPr>
              <a:xfrm>
                <a:off x="8116920" y="2071800"/>
                <a:ext cx="9360" cy="12600"/>
              </a:xfrm>
              <a:custGeom>
                <a:avLst/>
                <a:gdLst/>
                <a:ahLst/>
                <a:rect l="l" t="t" r="r" b="b"/>
                <a:pathLst>
                  <a:path w="19" h="23">
                    <a:moveTo>
                      <a:pt x="0" y="20"/>
                    </a:moveTo>
                    <a:lnTo>
                      <a:pt x="2" y="13"/>
                    </a:lnTo>
                    <a:lnTo>
                      <a:pt x="3" y="6"/>
                    </a:lnTo>
                    <a:lnTo>
                      <a:pt x="9" y="0"/>
                    </a:lnTo>
                    <a:lnTo>
                      <a:pt x="19" y="0"/>
                    </a:lnTo>
                    <a:lnTo>
                      <a:pt x="19" y="9"/>
                    </a:lnTo>
                    <a:lnTo>
                      <a:pt x="16" y="17"/>
                    </a:lnTo>
                    <a:lnTo>
                      <a:pt x="10" y="23"/>
                    </a:lnTo>
                    <a:lnTo>
                      <a:pt x="0"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8" name=""/>
              <p:cNvSpPr/>
              <p:nvPr/>
            </p:nvSpPr>
            <p:spPr>
              <a:xfrm>
                <a:off x="7169040" y="1932120"/>
                <a:ext cx="204840" cy="160200"/>
              </a:xfrm>
              <a:custGeom>
                <a:avLst/>
                <a:gdLst/>
                <a:ahLst/>
                <a:rect l="l" t="t" r="r" b="b"/>
                <a:pathLst>
                  <a:path w="386" h="301">
                    <a:moveTo>
                      <a:pt x="309" y="301"/>
                    </a:moveTo>
                    <a:lnTo>
                      <a:pt x="311" y="293"/>
                    </a:lnTo>
                    <a:lnTo>
                      <a:pt x="312" y="286"/>
                    </a:lnTo>
                    <a:lnTo>
                      <a:pt x="315" y="279"/>
                    </a:lnTo>
                    <a:lnTo>
                      <a:pt x="318" y="269"/>
                    </a:lnTo>
                    <a:lnTo>
                      <a:pt x="311" y="263"/>
                    </a:lnTo>
                    <a:lnTo>
                      <a:pt x="304" y="265"/>
                    </a:lnTo>
                    <a:lnTo>
                      <a:pt x="298" y="270"/>
                    </a:lnTo>
                    <a:lnTo>
                      <a:pt x="291" y="276"/>
                    </a:lnTo>
                    <a:lnTo>
                      <a:pt x="283" y="273"/>
                    </a:lnTo>
                    <a:lnTo>
                      <a:pt x="282" y="265"/>
                    </a:lnTo>
                    <a:lnTo>
                      <a:pt x="285" y="259"/>
                    </a:lnTo>
                    <a:lnTo>
                      <a:pt x="288" y="252"/>
                    </a:lnTo>
                    <a:lnTo>
                      <a:pt x="289" y="241"/>
                    </a:lnTo>
                    <a:lnTo>
                      <a:pt x="280" y="239"/>
                    </a:lnTo>
                    <a:lnTo>
                      <a:pt x="273" y="239"/>
                    </a:lnTo>
                    <a:lnTo>
                      <a:pt x="266" y="243"/>
                    </a:lnTo>
                    <a:lnTo>
                      <a:pt x="256" y="247"/>
                    </a:lnTo>
                    <a:lnTo>
                      <a:pt x="259" y="237"/>
                    </a:lnTo>
                    <a:lnTo>
                      <a:pt x="262" y="227"/>
                    </a:lnTo>
                    <a:lnTo>
                      <a:pt x="266" y="214"/>
                    </a:lnTo>
                    <a:lnTo>
                      <a:pt x="270" y="202"/>
                    </a:lnTo>
                    <a:lnTo>
                      <a:pt x="260" y="201"/>
                    </a:lnTo>
                    <a:lnTo>
                      <a:pt x="254" y="205"/>
                    </a:lnTo>
                    <a:lnTo>
                      <a:pt x="249" y="211"/>
                    </a:lnTo>
                    <a:lnTo>
                      <a:pt x="240" y="214"/>
                    </a:lnTo>
                    <a:lnTo>
                      <a:pt x="244" y="189"/>
                    </a:lnTo>
                    <a:lnTo>
                      <a:pt x="236" y="187"/>
                    </a:lnTo>
                    <a:lnTo>
                      <a:pt x="230" y="189"/>
                    </a:lnTo>
                    <a:lnTo>
                      <a:pt x="223" y="194"/>
                    </a:lnTo>
                    <a:lnTo>
                      <a:pt x="213" y="198"/>
                    </a:lnTo>
                    <a:lnTo>
                      <a:pt x="211" y="191"/>
                    </a:lnTo>
                    <a:lnTo>
                      <a:pt x="213" y="184"/>
                    </a:lnTo>
                    <a:lnTo>
                      <a:pt x="217" y="176"/>
                    </a:lnTo>
                    <a:lnTo>
                      <a:pt x="221" y="169"/>
                    </a:lnTo>
                    <a:lnTo>
                      <a:pt x="226" y="158"/>
                    </a:lnTo>
                    <a:lnTo>
                      <a:pt x="220" y="152"/>
                    </a:lnTo>
                    <a:lnTo>
                      <a:pt x="213" y="153"/>
                    </a:lnTo>
                    <a:lnTo>
                      <a:pt x="205" y="158"/>
                    </a:lnTo>
                    <a:lnTo>
                      <a:pt x="197" y="159"/>
                    </a:lnTo>
                    <a:lnTo>
                      <a:pt x="204" y="136"/>
                    </a:lnTo>
                    <a:lnTo>
                      <a:pt x="197" y="132"/>
                    </a:lnTo>
                    <a:lnTo>
                      <a:pt x="189" y="136"/>
                    </a:lnTo>
                    <a:lnTo>
                      <a:pt x="182" y="142"/>
                    </a:lnTo>
                    <a:lnTo>
                      <a:pt x="175" y="145"/>
                    </a:lnTo>
                    <a:lnTo>
                      <a:pt x="175" y="132"/>
                    </a:lnTo>
                    <a:lnTo>
                      <a:pt x="179" y="120"/>
                    </a:lnTo>
                    <a:lnTo>
                      <a:pt x="184" y="108"/>
                    </a:lnTo>
                    <a:lnTo>
                      <a:pt x="182" y="93"/>
                    </a:lnTo>
                    <a:lnTo>
                      <a:pt x="172" y="93"/>
                    </a:lnTo>
                    <a:lnTo>
                      <a:pt x="163" y="101"/>
                    </a:lnTo>
                    <a:lnTo>
                      <a:pt x="158" y="108"/>
                    </a:lnTo>
                    <a:lnTo>
                      <a:pt x="153" y="116"/>
                    </a:lnTo>
                    <a:lnTo>
                      <a:pt x="143" y="126"/>
                    </a:lnTo>
                    <a:lnTo>
                      <a:pt x="139" y="119"/>
                    </a:lnTo>
                    <a:lnTo>
                      <a:pt x="139" y="111"/>
                    </a:lnTo>
                    <a:lnTo>
                      <a:pt x="142" y="104"/>
                    </a:lnTo>
                    <a:lnTo>
                      <a:pt x="143" y="95"/>
                    </a:lnTo>
                    <a:lnTo>
                      <a:pt x="147" y="85"/>
                    </a:lnTo>
                    <a:lnTo>
                      <a:pt x="134" y="78"/>
                    </a:lnTo>
                    <a:lnTo>
                      <a:pt x="124" y="85"/>
                    </a:lnTo>
                    <a:lnTo>
                      <a:pt x="121" y="88"/>
                    </a:lnTo>
                    <a:lnTo>
                      <a:pt x="120" y="95"/>
                    </a:lnTo>
                    <a:lnTo>
                      <a:pt x="116" y="104"/>
                    </a:lnTo>
                    <a:lnTo>
                      <a:pt x="108" y="111"/>
                    </a:lnTo>
                    <a:lnTo>
                      <a:pt x="100" y="106"/>
                    </a:lnTo>
                    <a:lnTo>
                      <a:pt x="104" y="95"/>
                    </a:lnTo>
                    <a:lnTo>
                      <a:pt x="104" y="87"/>
                    </a:lnTo>
                    <a:lnTo>
                      <a:pt x="106" y="78"/>
                    </a:lnTo>
                    <a:lnTo>
                      <a:pt x="111" y="72"/>
                    </a:lnTo>
                    <a:lnTo>
                      <a:pt x="100" y="68"/>
                    </a:lnTo>
                    <a:lnTo>
                      <a:pt x="93" y="69"/>
                    </a:lnTo>
                    <a:lnTo>
                      <a:pt x="87" y="75"/>
                    </a:lnTo>
                    <a:lnTo>
                      <a:pt x="84" y="84"/>
                    </a:lnTo>
                    <a:lnTo>
                      <a:pt x="78" y="93"/>
                    </a:lnTo>
                    <a:lnTo>
                      <a:pt x="75" y="82"/>
                    </a:lnTo>
                    <a:lnTo>
                      <a:pt x="78" y="72"/>
                    </a:lnTo>
                    <a:lnTo>
                      <a:pt x="79" y="64"/>
                    </a:lnTo>
                    <a:lnTo>
                      <a:pt x="74" y="56"/>
                    </a:lnTo>
                    <a:lnTo>
                      <a:pt x="68" y="64"/>
                    </a:lnTo>
                    <a:lnTo>
                      <a:pt x="61" y="71"/>
                    </a:lnTo>
                    <a:lnTo>
                      <a:pt x="53" y="80"/>
                    </a:lnTo>
                    <a:lnTo>
                      <a:pt x="48" y="94"/>
                    </a:lnTo>
                    <a:lnTo>
                      <a:pt x="38" y="95"/>
                    </a:lnTo>
                    <a:lnTo>
                      <a:pt x="38" y="88"/>
                    </a:lnTo>
                    <a:lnTo>
                      <a:pt x="38" y="80"/>
                    </a:lnTo>
                    <a:lnTo>
                      <a:pt x="36" y="71"/>
                    </a:lnTo>
                    <a:lnTo>
                      <a:pt x="30" y="64"/>
                    </a:lnTo>
                    <a:lnTo>
                      <a:pt x="20" y="68"/>
                    </a:lnTo>
                    <a:lnTo>
                      <a:pt x="20" y="78"/>
                    </a:lnTo>
                    <a:lnTo>
                      <a:pt x="19" y="88"/>
                    </a:lnTo>
                    <a:lnTo>
                      <a:pt x="9" y="93"/>
                    </a:lnTo>
                    <a:lnTo>
                      <a:pt x="0" y="87"/>
                    </a:lnTo>
                    <a:lnTo>
                      <a:pt x="1" y="69"/>
                    </a:lnTo>
                    <a:lnTo>
                      <a:pt x="4" y="54"/>
                    </a:lnTo>
                    <a:lnTo>
                      <a:pt x="7" y="39"/>
                    </a:lnTo>
                    <a:lnTo>
                      <a:pt x="9" y="22"/>
                    </a:lnTo>
                    <a:lnTo>
                      <a:pt x="14" y="17"/>
                    </a:lnTo>
                    <a:lnTo>
                      <a:pt x="22" y="13"/>
                    </a:lnTo>
                    <a:lnTo>
                      <a:pt x="29" y="7"/>
                    </a:lnTo>
                    <a:lnTo>
                      <a:pt x="38" y="2"/>
                    </a:lnTo>
                    <a:lnTo>
                      <a:pt x="56" y="2"/>
                    </a:lnTo>
                    <a:lnTo>
                      <a:pt x="75" y="0"/>
                    </a:lnTo>
                    <a:lnTo>
                      <a:pt x="94" y="0"/>
                    </a:lnTo>
                    <a:lnTo>
                      <a:pt x="114" y="0"/>
                    </a:lnTo>
                    <a:lnTo>
                      <a:pt x="134" y="0"/>
                    </a:lnTo>
                    <a:lnTo>
                      <a:pt x="155" y="2"/>
                    </a:lnTo>
                    <a:lnTo>
                      <a:pt x="175" y="4"/>
                    </a:lnTo>
                    <a:lnTo>
                      <a:pt x="195" y="9"/>
                    </a:lnTo>
                    <a:lnTo>
                      <a:pt x="200" y="13"/>
                    </a:lnTo>
                    <a:lnTo>
                      <a:pt x="207" y="20"/>
                    </a:lnTo>
                    <a:lnTo>
                      <a:pt x="214" y="26"/>
                    </a:lnTo>
                    <a:lnTo>
                      <a:pt x="223" y="29"/>
                    </a:lnTo>
                    <a:lnTo>
                      <a:pt x="239" y="46"/>
                    </a:lnTo>
                    <a:lnTo>
                      <a:pt x="254" y="62"/>
                    </a:lnTo>
                    <a:lnTo>
                      <a:pt x="272" y="80"/>
                    </a:lnTo>
                    <a:lnTo>
                      <a:pt x="289" y="97"/>
                    </a:lnTo>
                    <a:lnTo>
                      <a:pt x="307" y="114"/>
                    </a:lnTo>
                    <a:lnTo>
                      <a:pt x="324" y="132"/>
                    </a:lnTo>
                    <a:lnTo>
                      <a:pt x="343" y="150"/>
                    </a:lnTo>
                    <a:lnTo>
                      <a:pt x="361" y="171"/>
                    </a:lnTo>
                    <a:lnTo>
                      <a:pt x="369" y="185"/>
                    </a:lnTo>
                    <a:lnTo>
                      <a:pt x="374" y="200"/>
                    </a:lnTo>
                    <a:lnTo>
                      <a:pt x="382" y="215"/>
                    </a:lnTo>
                    <a:lnTo>
                      <a:pt x="386" y="233"/>
                    </a:lnTo>
                    <a:lnTo>
                      <a:pt x="382" y="254"/>
                    </a:lnTo>
                    <a:lnTo>
                      <a:pt x="380" y="263"/>
                    </a:lnTo>
                    <a:lnTo>
                      <a:pt x="377" y="270"/>
                    </a:lnTo>
                    <a:lnTo>
                      <a:pt x="372" y="278"/>
                    </a:lnTo>
                    <a:lnTo>
                      <a:pt x="363" y="285"/>
                    </a:lnTo>
                    <a:lnTo>
                      <a:pt x="356" y="289"/>
                    </a:lnTo>
                    <a:lnTo>
                      <a:pt x="348" y="292"/>
                    </a:lnTo>
                    <a:lnTo>
                      <a:pt x="343" y="293"/>
                    </a:lnTo>
                    <a:lnTo>
                      <a:pt x="337" y="295"/>
                    </a:lnTo>
                    <a:lnTo>
                      <a:pt x="331" y="296"/>
                    </a:lnTo>
                    <a:lnTo>
                      <a:pt x="324" y="296"/>
                    </a:lnTo>
                    <a:lnTo>
                      <a:pt x="317" y="298"/>
                    </a:lnTo>
                    <a:lnTo>
                      <a:pt x="309" y="301"/>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3000" y="2082960"/>
                <a:ext cx="12600" cy="12600"/>
              </a:xfrm>
              <a:custGeom>
                <a:avLst/>
                <a:gdLst/>
                <a:ahLst/>
                <a:rect l="l" t="t" r="r" b="b"/>
                <a:pathLst>
                  <a:path w="23" h="23">
                    <a:moveTo>
                      <a:pt x="3" y="23"/>
                    </a:moveTo>
                    <a:lnTo>
                      <a:pt x="0" y="0"/>
                    </a:lnTo>
                    <a:lnTo>
                      <a:pt x="23" y="4"/>
                    </a:lnTo>
                    <a:lnTo>
                      <a:pt x="23" y="13"/>
                    </a:lnTo>
                    <a:lnTo>
                      <a:pt x="19" y="19"/>
                    </a:lnTo>
                    <a:lnTo>
                      <a:pt x="13" y="23"/>
                    </a:lnTo>
                    <a:lnTo>
                      <a:pt x="3"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0" name=""/>
              <p:cNvSpPr/>
              <p:nvPr/>
            </p:nvSpPr>
            <p:spPr>
              <a:xfrm>
                <a:off x="7861320" y="2070000"/>
                <a:ext cx="7920" cy="12960"/>
              </a:xfrm>
              <a:custGeom>
                <a:avLst/>
                <a:gdLst/>
                <a:ahLst/>
                <a:rect l="l" t="t" r="r" b="b"/>
                <a:pathLst>
                  <a:path w="16" h="26">
                    <a:moveTo>
                      <a:pt x="7" y="26"/>
                    </a:moveTo>
                    <a:lnTo>
                      <a:pt x="1" y="23"/>
                    </a:lnTo>
                    <a:lnTo>
                      <a:pt x="0" y="14"/>
                    </a:lnTo>
                    <a:lnTo>
                      <a:pt x="3" y="4"/>
                    </a:lnTo>
                    <a:lnTo>
                      <a:pt x="8" y="0"/>
                    </a:lnTo>
                    <a:lnTo>
                      <a:pt x="13" y="3"/>
                    </a:lnTo>
                    <a:lnTo>
                      <a:pt x="14" y="8"/>
                    </a:lnTo>
                    <a:lnTo>
                      <a:pt x="16" y="17"/>
                    </a:lnTo>
                    <a:lnTo>
                      <a:pt x="16" y="26"/>
                    </a:lnTo>
                    <a:lnTo>
                      <a:pt x="7" y="2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31" name=""/>
              <p:cNvSpPr/>
              <p:nvPr/>
            </p:nvSpPr>
            <p:spPr>
              <a:xfrm>
                <a:off x="8055000" y="2063880"/>
                <a:ext cx="14400" cy="9360"/>
              </a:xfrm>
              <a:custGeom>
                <a:avLst/>
                <a:gdLst/>
                <a:ahLst/>
                <a:rect l="l" t="t" r="r" b="b"/>
                <a:pathLst>
                  <a:path w="25" h="18">
                    <a:moveTo>
                      <a:pt x="9" y="18"/>
                    </a:moveTo>
                    <a:lnTo>
                      <a:pt x="0" y="0"/>
                    </a:lnTo>
                    <a:lnTo>
                      <a:pt x="22" y="3"/>
                    </a:lnTo>
                    <a:lnTo>
                      <a:pt x="25" y="9"/>
                    </a:lnTo>
                    <a:lnTo>
                      <a:pt x="22" y="13"/>
                    </a:lnTo>
                    <a:lnTo>
                      <a:pt x="15" y="16"/>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32" name=""/>
              <p:cNvSpPr/>
              <p:nvPr/>
            </p:nvSpPr>
            <p:spPr>
              <a:xfrm>
                <a:off x="8358120" y="2057400"/>
                <a:ext cx="14400" cy="9360"/>
              </a:xfrm>
              <a:custGeom>
                <a:avLst/>
                <a:gdLst/>
                <a:ahLst/>
                <a:rect l="l" t="t" r="r" b="b"/>
                <a:pathLst>
                  <a:path w="26" h="16">
                    <a:moveTo>
                      <a:pt x="9" y="16"/>
                    </a:moveTo>
                    <a:lnTo>
                      <a:pt x="0" y="4"/>
                    </a:lnTo>
                    <a:lnTo>
                      <a:pt x="4" y="0"/>
                    </a:lnTo>
                    <a:lnTo>
                      <a:pt x="13" y="0"/>
                    </a:lnTo>
                    <a:lnTo>
                      <a:pt x="22" y="3"/>
                    </a:lnTo>
                    <a:lnTo>
                      <a:pt x="26" y="10"/>
                    </a:lnTo>
                    <a:lnTo>
                      <a:pt x="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33" name=""/>
              <p:cNvSpPr/>
              <p:nvPr/>
            </p:nvSpPr>
            <p:spPr>
              <a:xfrm>
                <a:off x="7054920" y="2058840"/>
                <a:ext cx="9360" cy="11160"/>
              </a:xfrm>
              <a:custGeom>
                <a:avLst/>
                <a:gdLst/>
                <a:ahLst/>
                <a:rect l="l" t="t" r="r" b="b"/>
                <a:pathLst>
                  <a:path w="20" h="20">
                    <a:moveTo>
                      <a:pt x="4" y="20"/>
                    </a:moveTo>
                    <a:lnTo>
                      <a:pt x="0" y="0"/>
                    </a:lnTo>
                    <a:lnTo>
                      <a:pt x="20" y="0"/>
                    </a:lnTo>
                    <a:lnTo>
                      <a:pt x="20" y="7"/>
                    </a:lnTo>
                    <a:lnTo>
                      <a:pt x="18" y="14"/>
                    </a:lnTo>
                    <a:lnTo>
                      <a:pt x="13"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34" name=""/>
              <p:cNvSpPr/>
              <p:nvPr/>
            </p:nvSpPr>
            <p:spPr>
              <a:xfrm>
                <a:off x="7800840" y="2036880"/>
                <a:ext cx="12960" cy="17280"/>
              </a:xfrm>
              <a:custGeom>
                <a:avLst/>
                <a:gdLst/>
                <a:ahLst/>
                <a:rect l="l" t="t" r="r" b="b"/>
                <a:pathLst>
                  <a:path w="22" h="32">
                    <a:moveTo>
                      <a:pt x="8" y="30"/>
                    </a:moveTo>
                    <a:lnTo>
                      <a:pt x="0" y="25"/>
                    </a:lnTo>
                    <a:lnTo>
                      <a:pt x="6" y="17"/>
                    </a:lnTo>
                    <a:lnTo>
                      <a:pt x="15" y="10"/>
                    </a:lnTo>
                    <a:lnTo>
                      <a:pt x="19" y="0"/>
                    </a:lnTo>
                    <a:lnTo>
                      <a:pt x="21" y="7"/>
                    </a:lnTo>
                    <a:lnTo>
                      <a:pt x="22" y="15"/>
                    </a:lnTo>
                    <a:lnTo>
                      <a:pt x="21" y="22"/>
                    </a:lnTo>
                    <a:lnTo>
                      <a:pt x="19" y="32"/>
                    </a:lnTo>
                    <a:lnTo>
                      <a:pt x="8" y="3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5" name=""/>
              <p:cNvSpPr/>
              <p:nvPr/>
            </p:nvSpPr>
            <p:spPr>
              <a:xfrm>
                <a:off x="7937640" y="2038320"/>
                <a:ext cx="6120" cy="12600"/>
              </a:xfrm>
              <a:custGeom>
                <a:avLst/>
                <a:gdLst/>
                <a:ahLst/>
                <a:rect l="l" t="t" r="r" b="b"/>
                <a:pathLst>
                  <a:path w="13" h="22">
                    <a:moveTo>
                      <a:pt x="0" y="22"/>
                    </a:moveTo>
                    <a:lnTo>
                      <a:pt x="2" y="0"/>
                    </a:lnTo>
                    <a:lnTo>
                      <a:pt x="12" y="0"/>
                    </a:lnTo>
                    <a:lnTo>
                      <a:pt x="13" y="7"/>
                    </a:lnTo>
                    <a:lnTo>
                      <a:pt x="12" y="14"/>
                    </a:lnTo>
                    <a:lnTo>
                      <a:pt x="8" y="20"/>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6" name=""/>
              <p:cNvSpPr/>
              <p:nvPr/>
            </p:nvSpPr>
            <p:spPr>
              <a:xfrm>
                <a:off x="7684920" y="2028960"/>
                <a:ext cx="16200" cy="10800"/>
              </a:xfrm>
              <a:custGeom>
                <a:avLst/>
                <a:gdLst/>
                <a:ahLst/>
                <a:rect l="l" t="t" r="r" b="b"/>
                <a:pathLst>
                  <a:path w="30" h="22">
                    <a:moveTo>
                      <a:pt x="17" y="22"/>
                    </a:moveTo>
                    <a:lnTo>
                      <a:pt x="0" y="5"/>
                    </a:lnTo>
                    <a:lnTo>
                      <a:pt x="5" y="0"/>
                    </a:lnTo>
                    <a:lnTo>
                      <a:pt x="13" y="2"/>
                    </a:lnTo>
                    <a:lnTo>
                      <a:pt x="23" y="5"/>
                    </a:lnTo>
                    <a:lnTo>
                      <a:pt x="30" y="7"/>
                    </a:lnTo>
                    <a:lnTo>
                      <a:pt x="17"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37" name=""/>
              <p:cNvSpPr/>
              <p:nvPr/>
            </p:nvSpPr>
            <p:spPr>
              <a:xfrm>
                <a:off x="8170920" y="2023920"/>
                <a:ext cx="11160" cy="9720"/>
              </a:xfrm>
              <a:custGeom>
                <a:avLst/>
                <a:gdLst/>
                <a:ahLst/>
                <a:rect l="l" t="t" r="r" b="b"/>
                <a:pathLst>
                  <a:path w="19" h="19">
                    <a:moveTo>
                      <a:pt x="4" y="19"/>
                    </a:moveTo>
                    <a:lnTo>
                      <a:pt x="0" y="0"/>
                    </a:lnTo>
                    <a:lnTo>
                      <a:pt x="19" y="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8" name=""/>
              <p:cNvSpPr/>
              <p:nvPr/>
            </p:nvSpPr>
            <p:spPr>
              <a:xfrm>
                <a:off x="7985160" y="2014560"/>
                <a:ext cx="9360" cy="11160"/>
              </a:xfrm>
              <a:custGeom>
                <a:avLst/>
                <a:gdLst/>
                <a:ahLst/>
                <a:rect l="l" t="t" r="r" b="b"/>
                <a:pathLst>
                  <a:path w="19" h="21">
                    <a:moveTo>
                      <a:pt x="6" y="21"/>
                    </a:moveTo>
                    <a:lnTo>
                      <a:pt x="0" y="0"/>
                    </a:lnTo>
                    <a:lnTo>
                      <a:pt x="19" y="3"/>
                    </a:lnTo>
                    <a:lnTo>
                      <a:pt x="19" y="8"/>
                    </a:lnTo>
                    <a:lnTo>
                      <a:pt x="16" y="14"/>
                    </a:lnTo>
                    <a:lnTo>
                      <a:pt x="12" y="20"/>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39" name=""/>
              <p:cNvSpPr/>
              <p:nvPr/>
            </p:nvSpPr>
            <p:spPr>
              <a:xfrm>
                <a:off x="8226360" y="2009880"/>
                <a:ext cx="9720" cy="12600"/>
              </a:xfrm>
              <a:custGeom>
                <a:avLst/>
                <a:gdLst/>
                <a:ahLst/>
                <a:rect l="l" t="t" r="r" b="b"/>
                <a:pathLst>
                  <a:path w="18" h="26">
                    <a:moveTo>
                      <a:pt x="5" y="26"/>
                    </a:moveTo>
                    <a:lnTo>
                      <a:pt x="1" y="23"/>
                    </a:lnTo>
                    <a:lnTo>
                      <a:pt x="0" y="14"/>
                    </a:lnTo>
                    <a:lnTo>
                      <a:pt x="4" y="4"/>
                    </a:lnTo>
                    <a:lnTo>
                      <a:pt x="11" y="0"/>
                    </a:lnTo>
                    <a:lnTo>
                      <a:pt x="18" y="2"/>
                    </a:lnTo>
                    <a:lnTo>
                      <a:pt x="17" y="13"/>
                    </a:lnTo>
                    <a:lnTo>
                      <a:pt x="11" y="21"/>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0" name=""/>
              <p:cNvSpPr/>
              <p:nvPr/>
            </p:nvSpPr>
            <p:spPr>
              <a:xfrm>
                <a:off x="7219800" y="1860480"/>
                <a:ext cx="187560" cy="157320"/>
              </a:xfrm>
              <a:custGeom>
                <a:avLst/>
                <a:gdLst/>
                <a:ahLst/>
                <a:rect l="l" t="t" r="r" b="b"/>
                <a:pathLst>
                  <a:path w="355" h="297">
                    <a:moveTo>
                      <a:pt x="311" y="297"/>
                    </a:moveTo>
                    <a:lnTo>
                      <a:pt x="310" y="290"/>
                    </a:lnTo>
                    <a:lnTo>
                      <a:pt x="308" y="283"/>
                    </a:lnTo>
                    <a:lnTo>
                      <a:pt x="308" y="274"/>
                    </a:lnTo>
                    <a:lnTo>
                      <a:pt x="307" y="264"/>
                    </a:lnTo>
                    <a:lnTo>
                      <a:pt x="301" y="264"/>
                    </a:lnTo>
                    <a:lnTo>
                      <a:pt x="294" y="266"/>
                    </a:lnTo>
                    <a:lnTo>
                      <a:pt x="287" y="270"/>
                    </a:lnTo>
                    <a:lnTo>
                      <a:pt x="278" y="271"/>
                    </a:lnTo>
                    <a:lnTo>
                      <a:pt x="281" y="258"/>
                    </a:lnTo>
                    <a:lnTo>
                      <a:pt x="285" y="248"/>
                    </a:lnTo>
                    <a:lnTo>
                      <a:pt x="288" y="238"/>
                    </a:lnTo>
                    <a:lnTo>
                      <a:pt x="287" y="227"/>
                    </a:lnTo>
                    <a:lnTo>
                      <a:pt x="277" y="224"/>
                    </a:lnTo>
                    <a:lnTo>
                      <a:pt x="268" y="227"/>
                    </a:lnTo>
                    <a:lnTo>
                      <a:pt x="262" y="234"/>
                    </a:lnTo>
                    <a:lnTo>
                      <a:pt x="258" y="243"/>
                    </a:lnTo>
                    <a:lnTo>
                      <a:pt x="249" y="234"/>
                    </a:lnTo>
                    <a:lnTo>
                      <a:pt x="253" y="228"/>
                    </a:lnTo>
                    <a:lnTo>
                      <a:pt x="259" y="221"/>
                    </a:lnTo>
                    <a:lnTo>
                      <a:pt x="264" y="214"/>
                    </a:lnTo>
                    <a:lnTo>
                      <a:pt x="268" y="204"/>
                    </a:lnTo>
                    <a:lnTo>
                      <a:pt x="249" y="195"/>
                    </a:lnTo>
                    <a:lnTo>
                      <a:pt x="233" y="219"/>
                    </a:lnTo>
                    <a:lnTo>
                      <a:pt x="229" y="211"/>
                    </a:lnTo>
                    <a:lnTo>
                      <a:pt x="232" y="202"/>
                    </a:lnTo>
                    <a:lnTo>
                      <a:pt x="236" y="191"/>
                    </a:lnTo>
                    <a:lnTo>
                      <a:pt x="239" y="179"/>
                    </a:lnTo>
                    <a:lnTo>
                      <a:pt x="238" y="167"/>
                    </a:lnTo>
                    <a:lnTo>
                      <a:pt x="214" y="173"/>
                    </a:lnTo>
                    <a:lnTo>
                      <a:pt x="204" y="193"/>
                    </a:lnTo>
                    <a:lnTo>
                      <a:pt x="206" y="186"/>
                    </a:lnTo>
                    <a:lnTo>
                      <a:pt x="207" y="178"/>
                    </a:lnTo>
                    <a:lnTo>
                      <a:pt x="210" y="169"/>
                    </a:lnTo>
                    <a:lnTo>
                      <a:pt x="213" y="159"/>
                    </a:lnTo>
                    <a:lnTo>
                      <a:pt x="210" y="149"/>
                    </a:lnTo>
                    <a:lnTo>
                      <a:pt x="203" y="144"/>
                    </a:lnTo>
                    <a:lnTo>
                      <a:pt x="194" y="147"/>
                    </a:lnTo>
                    <a:lnTo>
                      <a:pt x="190" y="156"/>
                    </a:lnTo>
                    <a:lnTo>
                      <a:pt x="187" y="165"/>
                    </a:lnTo>
                    <a:lnTo>
                      <a:pt x="181" y="172"/>
                    </a:lnTo>
                    <a:lnTo>
                      <a:pt x="174" y="166"/>
                    </a:lnTo>
                    <a:lnTo>
                      <a:pt x="174" y="144"/>
                    </a:lnTo>
                    <a:lnTo>
                      <a:pt x="178" y="140"/>
                    </a:lnTo>
                    <a:lnTo>
                      <a:pt x="181" y="131"/>
                    </a:lnTo>
                    <a:lnTo>
                      <a:pt x="183" y="123"/>
                    </a:lnTo>
                    <a:lnTo>
                      <a:pt x="187" y="114"/>
                    </a:lnTo>
                    <a:lnTo>
                      <a:pt x="165" y="114"/>
                    </a:lnTo>
                    <a:lnTo>
                      <a:pt x="162" y="123"/>
                    </a:lnTo>
                    <a:lnTo>
                      <a:pt x="157" y="127"/>
                    </a:lnTo>
                    <a:lnTo>
                      <a:pt x="149" y="133"/>
                    </a:lnTo>
                    <a:lnTo>
                      <a:pt x="148" y="143"/>
                    </a:lnTo>
                    <a:lnTo>
                      <a:pt x="148" y="130"/>
                    </a:lnTo>
                    <a:lnTo>
                      <a:pt x="149" y="117"/>
                    </a:lnTo>
                    <a:lnTo>
                      <a:pt x="152" y="104"/>
                    </a:lnTo>
                    <a:lnTo>
                      <a:pt x="155" y="91"/>
                    </a:lnTo>
                    <a:lnTo>
                      <a:pt x="146" y="84"/>
                    </a:lnTo>
                    <a:lnTo>
                      <a:pt x="138" y="85"/>
                    </a:lnTo>
                    <a:lnTo>
                      <a:pt x="133" y="89"/>
                    </a:lnTo>
                    <a:lnTo>
                      <a:pt x="131" y="98"/>
                    </a:lnTo>
                    <a:lnTo>
                      <a:pt x="128" y="107"/>
                    </a:lnTo>
                    <a:lnTo>
                      <a:pt x="123" y="115"/>
                    </a:lnTo>
                    <a:lnTo>
                      <a:pt x="116" y="124"/>
                    </a:lnTo>
                    <a:lnTo>
                      <a:pt x="109" y="111"/>
                    </a:lnTo>
                    <a:lnTo>
                      <a:pt x="110" y="101"/>
                    </a:lnTo>
                    <a:lnTo>
                      <a:pt x="113" y="89"/>
                    </a:lnTo>
                    <a:lnTo>
                      <a:pt x="115" y="78"/>
                    </a:lnTo>
                    <a:lnTo>
                      <a:pt x="107" y="71"/>
                    </a:lnTo>
                    <a:lnTo>
                      <a:pt x="97" y="71"/>
                    </a:lnTo>
                    <a:lnTo>
                      <a:pt x="91" y="76"/>
                    </a:lnTo>
                    <a:lnTo>
                      <a:pt x="89" y="87"/>
                    </a:lnTo>
                    <a:lnTo>
                      <a:pt x="84" y="98"/>
                    </a:lnTo>
                    <a:lnTo>
                      <a:pt x="78" y="107"/>
                    </a:lnTo>
                    <a:lnTo>
                      <a:pt x="71" y="100"/>
                    </a:lnTo>
                    <a:lnTo>
                      <a:pt x="73" y="91"/>
                    </a:lnTo>
                    <a:lnTo>
                      <a:pt x="74" y="81"/>
                    </a:lnTo>
                    <a:lnTo>
                      <a:pt x="76" y="69"/>
                    </a:lnTo>
                    <a:lnTo>
                      <a:pt x="78" y="58"/>
                    </a:lnTo>
                    <a:lnTo>
                      <a:pt x="57" y="56"/>
                    </a:lnTo>
                    <a:lnTo>
                      <a:pt x="54" y="65"/>
                    </a:lnTo>
                    <a:lnTo>
                      <a:pt x="52" y="76"/>
                    </a:lnTo>
                    <a:lnTo>
                      <a:pt x="50" y="88"/>
                    </a:lnTo>
                    <a:lnTo>
                      <a:pt x="45" y="100"/>
                    </a:lnTo>
                    <a:lnTo>
                      <a:pt x="38" y="107"/>
                    </a:lnTo>
                    <a:lnTo>
                      <a:pt x="34" y="101"/>
                    </a:lnTo>
                    <a:lnTo>
                      <a:pt x="32" y="94"/>
                    </a:lnTo>
                    <a:lnTo>
                      <a:pt x="32" y="85"/>
                    </a:lnTo>
                    <a:lnTo>
                      <a:pt x="34" y="76"/>
                    </a:lnTo>
                    <a:lnTo>
                      <a:pt x="26" y="59"/>
                    </a:lnTo>
                    <a:lnTo>
                      <a:pt x="15" y="63"/>
                    </a:lnTo>
                    <a:lnTo>
                      <a:pt x="12" y="72"/>
                    </a:lnTo>
                    <a:lnTo>
                      <a:pt x="11" y="84"/>
                    </a:lnTo>
                    <a:lnTo>
                      <a:pt x="9" y="95"/>
                    </a:lnTo>
                    <a:lnTo>
                      <a:pt x="8" y="107"/>
                    </a:lnTo>
                    <a:lnTo>
                      <a:pt x="2" y="91"/>
                    </a:lnTo>
                    <a:lnTo>
                      <a:pt x="0" y="76"/>
                    </a:lnTo>
                    <a:lnTo>
                      <a:pt x="0" y="61"/>
                    </a:lnTo>
                    <a:lnTo>
                      <a:pt x="0" y="43"/>
                    </a:lnTo>
                    <a:lnTo>
                      <a:pt x="15" y="23"/>
                    </a:lnTo>
                    <a:lnTo>
                      <a:pt x="37" y="14"/>
                    </a:lnTo>
                    <a:lnTo>
                      <a:pt x="60" y="7"/>
                    </a:lnTo>
                    <a:lnTo>
                      <a:pt x="84" y="3"/>
                    </a:lnTo>
                    <a:lnTo>
                      <a:pt x="109" y="0"/>
                    </a:lnTo>
                    <a:lnTo>
                      <a:pt x="133" y="0"/>
                    </a:lnTo>
                    <a:lnTo>
                      <a:pt x="159" y="3"/>
                    </a:lnTo>
                    <a:lnTo>
                      <a:pt x="185" y="9"/>
                    </a:lnTo>
                    <a:lnTo>
                      <a:pt x="212" y="17"/>
                    </a:lnTo>
                    <a:lnTo>
                      <a:pt x="233" y="39"/>
                    </a:lnTo>
                    <a:lnTo>
                      <a:pt x="253" y="61"/>
                    </a:lnTo>
                    <a:lnTo>
                      <a:pt x="271" y="82"/>
                    </a:lnTo>
                    <a:lnTo>
                      <a:pt x="288" y="104"/>
                    </a:lnTo>
                    <a:lnTo>
                      <a:pt x="304" y="127"/>
                    </a:lnTo>
                    <a:lnTo>
                      <a:pt x="320" y="150"/>
                    </a:lnTo>
                    <a:lnTo>
                      <a:pt x="334" y="175"/>
                    </a:lnTo>
                    <a:lnTo>
                      <a:pt x="350" y="199"/>
                    </a:lnTo>
                    <a:lnTo>
                      <a:pt x="350" y="208"/>
                    </a:lnTo>
                    <a:lnTo>
                      <a:pt x="353" y="218"/>
                    </a:lnTo>
                    <a:lnTo>
                      <a:pt x="355" y="230"/>
                    </a:lnTo>
                    <a:lnTo>
                      <a:pt x="355" y="241"/>
                    </a:lnTo>
                    <a:lnTo>
                      <a:pt x="350" y="248"/>
                    </a:lnTo>
                    <a:lnTo>
                      <a:pt x="346" y="257"/>
                    </a:lnTo>
                    <a:lnTo>
                      <a:pt x="342" y="267"/>
                    </a:lnTo>
                    <a:lnTo>
                      <a:pt x="336" y="280"/>
                    </a:lnTo>
                    <a:lnTo>
                      <a:pt x="311" y="297"/>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8291520" y="1990800"/>
                <a:ext cx="11160" cy="12600"/>
              </a:xfrm>
              <a:custGeom>
                <a:avLst/>
                <a:gdLst/>
                <a:ahLst/>
                <a:rect l="l" t="t" r="r" b="b"/>
                <a:pathLst>
                  <a:path w="20" h="22">
                    <a:moveTo>
                      <a:pt x="0" y="22"/>
                    </a:moveTo>
                    <a:lnTo>
                      <a:pt x="4" y="0"/>
                    </a:lnTo>
                    <a:lnTo>
                      <a:pt x="20" y="6"/>
                    </a:lnTo>
                    <a:lnTo>
                      <a:pt x="19" y="13"/>
                    </a:lnTo>
                    <a:lnTo>
                      <a:pt x="14" y="18"/>
                    </a:lnTo>
                    <a:lnTo>
                      <a:pt x="7" y="21"/>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2" name=""/>
              <p:cNvSpPr/>
              <p:nvPr/>
            </p:nvSpPr>
            <p:spPr>
              <a:xfrm>
                <a:off x="7912080" y="1995480"/>
                <a:ext cx="12600" cy="9360"/>
              </a:xfrm>
              <a:custGeom>
                <a:avLst/>
                <a:gdLst/>
                <a:ahLst/>
                <a:rect l="l" t="t" r="r" b="b"/>
                <a:pathLst>
                  <a:path w="24" h="17">
                    <a:moveTo>
                      <a:pt x="5" y="17"/>
                    </a:moveTo>
                    <a:lnTo>
                      <a:pt x="0" y="7"/>
                    </a:lnTo>
                    <a:lnTo>
                      <a:pt x="4" y="2"/>
                    </a:lnTo>
                    <a:lnTo>
                      <a:pt x="13" y="0"/>
                    </a:lnTo>
                    <a:lnTo>
                      <a:pt x="21" y="1"/>
                    </a:lnTo>
                    <a:lnTo>
                      <a:pt x="24" y="10"/>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43" name=""/>
              <p:cNvSpPr/>
              <p:nvPr/>
            </p:nvSpPr>
            <p:spPr>
              <a:xfrm>
                <a:off x="7037280" y="1989000"/>
                <a:ext cx="14400" cy="12960"/>
              </a:xfrm>
              <a:custGeom>
                <a:avLst/>
                <a:gdLst/>
                <a:ahLst/>
                <a:rect l="l" t="t" r="r" b="b"/>
                <a:pathLst>
                  <a:path w="26" h="22">
                    <a:moveTo>
                      <a:pt x="6" y="22"/>
                    </a:moveTo>
                    <a:lnTo>
                      <a:pt x="0" y="0"/>
                    </a:lnTo>
                    <a:lnTo>
                      <a:pt x="21" y="0"/>
                    </a:lnTo>
                    <a:lnTo>
                      <a:pt x="26" y="9"/>
                    </a:lnTo>
                    <a:lnTo>
                      <a:pt x="23" y="18"/>
                    </a:lnTo>
                    <a:lnTo>
                      <a:pt x="17" y="22"/>
                    </a:lnTo>
                    <a:lnTo>
                      <a:pt x="6"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44" name=""/>
              <p:cNvSpPr/>
              <p:nvPr/>
            </p:nvSpPr>
            <p:spPr>
              <a:xfrm>
                <a:off x="7642080" y="1982880"/>
                <a:ext cx="7920" cy="11160"/>
              </a:xfrm>
              <a:custGeom>
                <a:avLst/>
                <a:gdLst/>
                <a:ahLst/>
                <a:rect l="l" t="t" r="r" b="b"/>
                <a:pathLst>
                  <a:path w="14" h="22">
                    <a:moveTo>
                      <a:pt x="1" y="22"/>
                    </a:moveTo>
                    <a:lnTo>
                      <a:pt x="0" y="0"/>
                    </a:lnTo>
                    <a:lnTo>
                      <a:pt x="11" y="0"/>
                    </a:lnTo>
                    <a:lnTo>
                      <a:pt x="14" y="6"/>
                    </a:lnTo>
                    <a:lnTo>
                      <a:pt x="13" y="13"/>
                    </a:lnTo>
                    <a:lnTo>
                      <a:pt x="8" y="19"/>
                    </a:lnTo>
                    <a:lnTo>
                      <a:pt x="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5" name=""/>
              <p:cNvSpPr/>
              <p:nvPr/>
            </p:nvSpPr>
            <p:spPr>
              <a:xfrm>
                <a:off x="6993000" y="1987560"/>
                <a:ext cx="11160" cy="12600"/>
              </a:xfrm>
              <a:custGeom>
                <a:avLst/>
                <a:gdLst/>
                <a:ahLst/>
                <a:rect l="l" t="t" r="r" b="b"/>
                <a:pathLst>
                  <a:path w="19" h="25">
                    <a:moveTo>
                      <a:pt x="9" y="25"/>
                    </a:moveTo>
                    <a:lnTo>
                      <a:pt x="2" y="22"/>
                    </a:lnTo>
                    <a:lnTo>
                      <a:pt x="0" y="13"/>
                    </a:lnTo>
                    <a:lnTo>
                      <a:pt x="3" y="4"/>
                    </a:lnTo>
                    <a:lnTo>
                      <a:pt x="8" y="0"/>
                    </a:lnTo>
                    <a:lnTo>
                      <a:pt x="16" y="3"/>
                    </a:lnTo>
                    <a:lnTo>
                      <a:pt x="19" y="10"/>
                    </a:lnTo>
                    <a:lnTo>
                      <a:pt x="15" y="19"/>
                    </a:lnTo>
                    <a:lnTo>
                      <a:pt x="9"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6" name=""/>
              <p:cNvSpPr/>
              <p:nvPr/>
            </p:nvSpPr>
            <p:spPr>
              <a:xfrm>
                <a:off x="7758000" y="1976400"/>
                <a:ext cx="11160" cy="9720"/>
              </a:xfrm>
              <a:custGeom>
                <a:avLst/>
                <a:gdLst/>
                <a:ahLst/>
                <a:rect l="l" t="t" r="r" b="b"/>
                <a:pathLst>
                  <a:path w="22" h="16">
                    <a:moveTo>
                      <a:pt x="9" y="16"/>
                    </a:moveTo>
                    <a:lnTo>
                      <a:pt x="0" y="7"/>
                    </a:lnTo>
                    <a:lnTo>
                      <a:pt x="3" y="1"/>
                    </a:lnTo>
                    <a:lnTo>
                      <a:pt x="9" y="0"/>
                    </a:lnTo>
                    <a:lnTo>
                      <a:pt x="16" y="4"/>
                    </a:lnTo>
                    <a:lnTo>
                      <a:pt x="22" y="11"/>
                    </a:lnTo>
                    <a:lnTo>
                      <a:pt x="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47" name=""/>
              <p:cNvSpPr/>
              <p:nvPr/>
            </p:nvSpPr>
            <p:spPr>
              <a:xfrm>
                <a:off x="7862760" y="1973160"/>
                <a:ext cx="6480" cy="11160"/>
              </a:xfrm>
              <a:custGeom>
                <a:avLst/>
                <a:gdLst/>
                <a:ahLst/>
                <a:rect l="l" t="t" r="r" b="b"/>
                <a:pathLst>
                  <a:path w="13" h="21">
                    <a:moveTo>
                      <a:pt x="3" y="21"/>
                    </a:moveTo>
                    <a:lnTo>
                      <a:pt x="0" y="16"/>
                    </a:lnTo>
                    <a:lnTo>
                      <a:pt x="2" y="7"/>
                    </a:lnTo>
                    <a:lnTo>
                      <a:pt x="4" y="0"/>
                    </a:lnTo>
                    <a:lnTo>
                      <a:pt x="12" y="0"/>
                    </a:lnTo>
                    <a:lnTo>
                      <a:pt x="12" y="5"/>
                    </a:lnTo>
                    <a:lnTo>
                      <a:pt x="13" y="14"/>
                    </a:lnTo>
                    <a:lnTo>
                      <a:pt x="12"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8" name=""/>
              <p:cNvSpPr/>
              <p:nvPr/>
            </p:nvSpPr>
            <p:spPr>
              <a:xfrm>
                <a:off x="8104320" y="1962000"/>
                <a:ext cx="9360" cy="11160"/>
              </a:xfrm>
              <a:custGeom>
                <a:avLst/>
                <a:gdLst/>
                <a:ahLst/>
                <a:rect l="l" t="t" r="r" b="b"/>
                <a:pathLst>
                  <a:path w="17" h="21">
                    <a:moveTo>
                      <a:pt x="3" y="21"/>
                    </a:moveTo>
                    <a:lnTo>
                      <a:pt x="0" y="13"/>
                    </a:lnTo>
                    <a:lnTo>
                      <a:pt x="1" y="6"/>
                    </a:lnTo>
                    <a:lnTo>
                      <a:pt x="9" y="0"/>
                    </a:lnTo>
                    <a:lnTo>
                      <a:pt x="17" y="0"/>
                    </a:lnTo>
                    <a:lnTo>
                      <a:pt x="17" y="8"/>
                    </a:lnTo>
                    <a:lnTo>
                      <a:pt x="14" y="15"/>
                    </a:lnTo>
                    <a:lnTo>
                      <a:pt x="10"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9" name=""/>
              <p:cNvSpPr/>
              <p:nvPr/>
            </p:nvSpPr>
            <p:spPr>
              <a:xfrm>
                <a:off x="8045280" y="1962000"/>
                <a:ext cx="12960" cy="9720"/>
              </a:xfrm>
              <a:custGeom>
                <a:avLst/>
                <a:gdLst/>
                <a:ahLst/>
                <a:rect l="l" t="t" r="r" b="b"/>
                <a:pathLst>
                  <a:path w="25" h="20">
                    <a:moveTo>
                      <a:pt x="12" y="20"/>
                    </a:moveTo>
                    <a:lnTo>
                      <a:pt x="0" y="1"/>
                    </a:lnTo>
                    <a:lnTo>
                      <a:pt x="22" y="0"/>
                    </a:lnTo>
                    <a:lnTo>
                      <a:pt x="25" y="6"/>
                    </a:lnTo>
                    <a:lnTo>
                      <a:pt x="23" y="12"/>
                    </a:lnTo>
                    <a:lnTo>
                      <a:pt x="19" y="16"/>
                    </a:lnTo>
                    <a:lnTo>
                      <a:pt x="12"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0" name=""/>
              <p:cNvSpPr/>
              <p:nvPr/>
            </p:nvSpPr>
            <p:spPr>
              <a:xfrm>
                <a:off x="8244000" y="1954080"/>
                <a:ext cx="11160" cy="12960"/>
              </a:xfrm>
              <a:custGeom>
                <a:avLst/>
                <a:gdLst/>
                <a:ahLst/>
                <a:rect l="l" t="t" r="r" b="b"/>
                <a:pathLst>
                  <a:path w="21" h="23">
                    <a:moveTo>
                      <a:pt x="7" y="23"/>
                    </a:moveTo>
                    <a:lnTo>
                      <a:pt x="0" y="0"/>
                    </a:lnTo>
                    <a:lnTo>
                      <a:pt x="21" y="7"/>
                    </a:lnTo>
                    <a:lnTo>
                      <a:pt x="7"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1" name=""/>
              <p:cNvSpPr/>
              <p:nvPr/>
            </p:nvSpPr>
            <p:spPr>
              <a:xfrm>
                <a:off x="8161200" y="1954080"/>
                <a:ext cx="11160" cy="11160"/>
              </a:xfrm>
              <a:custGeom>
                <a:avLst/>
                <a:gdLst/>
                <a:ahLst/>
                <a:rect l="l" t="t" r="r" b="b"/>
                <a:pathLst>
                  <a:path w="21" h="19">
                    <a:moveTo>
                      <a:pt x="13" y="19"/>
                    </a:moveTo>
                    <a:lnTo>
                      <a:pt x="0" y="7"/>
                    </a:lnTo>
                    <a:lnTo>
                      <a:pt x="21" y="0"/>
                    </a:lnTo>
                    <a:lnTo>
                      <a:pt x="1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2" name=""/>
              <p:cNvSpPr/>
              <p:nvPr/>
            </p:nvSpPr>
            <p:spPr>
              <a:xfrm>
                <a:off x="8366040" y="1951200"/>
                <a:ext cx="7920" cy="10800"/>
              </a:xfrm>
              <a:custGeom>
                <a:avLst/>
                <a:gdLst/>
                <a:ahLst/>
                <a:rect l="l" t="t" r="r" b="b"/>
                <a:pathLst>
                  <a:path w="17" h="19">
                    <a:moveTo>
                      <a:pt x="0" y="19"/>
                    </a:moveTo>
                    <a:lnTo>
                      <a:pt x="0" y="0"/>
                    </a:lnTo>
                    <a:lnTo>
                      <a:pt x="17" y="12"/>
                    </a:lnTo>
                    <a:lnTo>
                      <a:pt x="0" y="1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53" name=""/>
              <p:cNvSpPr/>
              <p:nvPr/>
            </p:nvSpPr>
            <p:spPr>
              <a:xfrm>
                <a:off x="7804080" y="1943280"/>
                <a:ext cx="9720" cy="1080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54" name=""/>
              <p:cNvSpPr/>
              <p:nvPr/>
            </p:nvSpPr>
            <p:spPr>
              <a:xfrm>
                <a:off x="7319880" y="1824120"/>
                <a:ext cx="127080" cy="123840"/>
              </a:xfrm>
              <a:custGeom>
                <a:avLst/>
                <a:gdLst/>
                <a:ahLst/>
                <a:rect l="l" t="t" r="r" b="b"/>
                <a:pathLst>
                  <a:path w="240" h="233">
                    <a:moveTo>
                      <a:pt x="210" y="233"/>
                    </a:moveTo>
                    <a:lnTo>
                      <a:pt x="207" y="224"/>
                    </a:lnTo>
                    <a:lnTo>
                      <a:pt x="199" y="222"/>
                    </a:lnTo>
                    <a:lnTo>
                      <a:pt x="191" y="225"/>
                    </a:lnTo>
                    <a:lnTo>
                      <a:pt x="181" y="227"/>
                    </a:lnTo>
                    <a:lnTo>
                      <a:pt x="178" y="221"/>
                    </a:lnTo>
                    <a:lnTo>
                      <a:pt x="182" y="214"/>
                    </a:lnTo>
                    <a:lnTo>
                      <a:pt x="186" y="207"/>
                    </a:lnTo>
                    <a:lnTo>
                      <a:pt x="192" y="199"/>
                    </a:lnTo>
                    <a:lnTo>
                      <a:pt x="199" y="189"/>
                    </a:lnTo>
                    <a:lnTo>
                      <a:pt x="188" y="182"/>
                    </a:lnTo>
                    <a:lnTo>
                      <a:pt x="181" y="183"/>
                    </a:lnTo>
                    <a:lnTo>
                      <a:pt x="176" y="186"/>
                    </a:lnTo>
                    <a:lnTo>
                      <a:pt x="169" y="191"/>
                    </a:lnTo>
                    <a:lnTo>
                      <a:pt x="159" y="196"/>
                    </a:lnTo>
                    <a:lnTo>
                      <a:pt x="159" y="189"/>
                    </a:lnTo>
                    <a:lnTo>
                      <a:pt x="162" y="179"/>
                    </a:lnTo>
                    <a:lnTo>
                      <a:pt x="168" y="172"/>
                    </a:lnTo>
                    <a:lnTo>
                      <a:pt x="173" y="165"/>
                    </a:lnTo>
                    <a:lnTo>
                      <a:pt x="181" y="155"/>
                    </a:lnTo>
                    <a:lnTo>
                      <a:pt x="173" y="152"/>
                    </a:lnTo>
                    <a:lnTo>
                      <a:pt x="168" y="152"/>
                    </a:lnTo>
                    <a:lnTo>
                      <a:pt x="160" y="155"/>
                    </a:lnTo>
                    <a:lnTo>
                      <a:pt x="150" y="157"/>
                    </a:lnTo>
                    <a:lnTo>
                      <a:pt x="150" y="149"/>
                    </a:lnTo>
                    <a:lnTo>
                      <a:pt x="152" y="142"/>
                    </a:lnTo>
                    <a:lnTo>
                      <a:pt x="155" y="134"/>
                    </a:lnTo>
                    <a:lnTo>
                      <a:pt x="159" y="129"/>
                    </a:lnTo>
                    <a:lnTo>
                      <a:pt x="153" y="120"/>
                    </a:lnTo>
                    <a:lnTo>
                      <a:pt x="147" y="121"/>
                    </a:lnTo>
                    <a:lnTo>
                      <a:pt x="142" y="126"/>
                    </a:lnTo>
                    <a:lnTo>
                      <a:pt x="134" y="124"/>
                    </a:lnTo>
                    <a:lnTo>
                      <a:pt x="134" y="117"/>
                    </a:lnTo>
                    <a:lnTo>
                      <a:pt x="137" y="110"/>
                    </a:lnTo>
                    <a:lnTo>
                      <a:pt x="137" y="103"/>
                    </a:lnTo>
                    <a:lnTo>
                      <a:pt x="131" y="95"/>
                    </a:lnTo>
                    <a:lnTo>
                      <a:pt x="124" y="100"/>
                    </a:lnTo>
                    <a:lnTo>
                      <a:pt x="116" y="105"/>
                    </a:lnTo>
                    <a:lnTo>
                      <a:pt x="107" y="113"/>
                    </a:lnTo>
                    <a:lnTo>
                      <a:pt x="100" y="124"/>
                    </a:lnTo>
                    <a:lnTo>
                      <a:pt x="100" y="111"/>
                    </a:lnTo>
                    <a:lnTo>
                      <a:pt x="102" y="98"/>
                    </a:lnTo>
                    <a:lnTo>
                      <a:pt x="105" y="85"/>
                    </a:lnTo>
                    <a:lnTo>
                      <a:pt x="107" y="69"/>
                    </a:lnTo>
                    <a:lnTo>
                      <a:pt x="98" y="72"/>
                    </a:lnTo>
                    <a:lnTo>
                      <a:pt x="91" y="78"/>
                    </a:lnTo>
                    <a:lnTo>
                      <a:pt x="85" y="84"/>
                    </a:lnTo>
                    <a:lnTo>
                      <a:pt x="76" y="90"/>
                    </a:lnTo>
                    <a:lnTo>
                      <a:pt x="76" y="79"/>
                    </a:lnTo>
                    <a:lnTo>
                      <a:pt x="78" y="68"/>
                    </a:lnTo>
                    <a:lnTo>
                      <a:pt x="81" y="58"/>
                    </a:lnTo>
                    <a:lnTo>
                      <a:pt x="89" y="48"/>
                    </a:lnTo>
                    <a:lnTo>
                      <a:pt x="81" y="42"/>
                    </a:lnTo>
                    <a:lnTo>
                      <a:pt x="71" y="40"/>
                    </a:lnTo>
                    <a:lnTo>
                      <a:pt x="63" y="43"/>
                    </a:lnTo>
                    <a:lnTo>
                      <a:pt x="59" y="49"/>
                    </a:lnTo>
                    <a:lnTo>
                      <a:pt x="55" y="56"/>
                    </a:lnTo>
                    <a:lnTo>
                      <a:pt x="48" y="66"/>
                    </a:lnTo>
                    <a:lnTo>
                      <a:pt x="48" y="58"/>
                    </a:lnTo>
                    <a:lnTo>
                      <a:pt x="50" y="52"/>
                    </a:lnTo>
                    <a:lnTo>
                      <a:pt x="53" y="45"/>
                    </a:lnTo>
                    <a:lnTo>
                      <a:pt x="56" y="33"/>
                    </a:lnTo>
                    <a:lnTo>
                      <a:pt x="48" y="30"/>
                    </a:lnTo>
                    <a:lnTo>
                      <a:pt x="42" y="33"/>
                    </a:lnTo>
                    <a:lnTo>
                      <a:pt x="35" y="40"/>
                    </a:lnTo>
                    <a:lnTo>
                      <a:pt x="27" y="49"/>
                    </a:lnTo>
                    <a:lnTo>
                      <a:pt x="22" y="49"/>
                    </a:lnTo>
                    <a:lnTo>
                      <a:pt x="16" y="48"/>
                    </a:lnTo>
                    <a:lnTo>
                      <a:pt x="9" y="46"/>
                    </a:lnTo>
                    <a:lnTo>
                      <a:pt x="0" y="42"/>
                    </a:lnTo>
                    <a:lnTo>
                      <a:pt x="16" y="33"/>
                    </a:lnTo>
                    <a:lnTo>
                      <a:pt x="32" y="26"/>
                    </a:lnTo>
                    <a:lnTo>
                      <a:pt x="49" y="17"/>
                    </a:lnTo>
                    <a:lnTo>
                      <a:pt x="68" y="10"/>
                    </a:lnTo>
                    <a:lnTo>
                      <a:pt x="87" y="6"/>
                    </a:lnTo>
                    <a:lnTo>
                      <a:pt x="107" y="1"/>
                    </a:lnTo>
                    <a:lnTo>
                      <a:pt x="127" y="0"/>
                    </a:lnTo>
                    <a:lnTo>
                      <a:pt x="149" y="1"/>
                    </a:lnTo>
                    <a:lnTo>
                      <a:pt x="165" y="19"/>
                    </a:lnTo>
                    <a:lnTo>
                      <a:pt x="179" y="39"/>
                    </a:lnTo>
                    <a:lnTo>
                      <a:pt x="192" y="61"/>
                    </a:lnTo>
                    <a:lnTo>
                      <a:pt x="202" y="84"/>
                    </a:lnTo>
                    <a:lnTo>
                      <a:pt x="212" y="110"/>
                    </a:lnTo>
                    <a:lnTo>
                      <a:pt x="221" y="136"/>
                    </a:lnTo>
                    <a:lnTo>
                      <a:pt x="231" y="162"/>
                    </a:lnTo>
                    <a:lnTo>
                      <a:pt x="240" y="189"/>
                    </a:lnTo>
                    <a:lnTo>
                      <a:pt x="238" y="196"/>
                    </a:lnTo>
                    <a:lnTo>
                      <a:pt x="237" y="205"/>
                    </a:lnTo>
                    <a:lnTo>
                      <a:pt x="234" y="212"/>
                    </a:lnTo>
                    <a:lnTo>
                      <a:pt x="227" y="220"/>
                    </a:lnTo>
                    <a:lnTo>
                      <a:pt x="210" y="233"/>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601040" y="1930320"/>
                <a:ext cx="7920" cy="11160"/>
              </a:xfrm>
              <a:custGeom>
                <a:avLst/>
                <a:gdLst/>
                <a:ahLst/>
                <a:rect l="l" t="t" r="r" b="b"/>
                <a:pathLst>
                  <a:path w="13" h="20">
                    <a:moveTo>
                      <a:pt x="0" y="20"/>
                    </a:moveTo>
                    <a:lnTo>
                      <a:pt x="1" y="0"/>
                    </a:lnTo>
                    <a:lnTo>
                      <a:pt x="8" y="3"/>
                    </a:lnTo>
                    <a:lnTo>
                      <a:pt x="13" y="7"/>
                    </a:lnTo>
                    <a:lnTo>
                      <a:pt x="13" y="15"/>
                    </a:lnTo>
                    <a:lnTo>
                      <a:pt x="10"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6" name=""/>
              <p:cNvSpPr/>
              <p:nvPr/>
            </p:nvSpPr>
            <p:spPr>
              <a:xfrm>
                <a:off x="7705800" y="1920960"/>
                <a:ext cx="9360" cy="14040"/>
              </a:xfrm>
              <a:custGeom>
                <a:avLst/>
                <a:gdLst/>
                <a:ahLst/>
                <a:rect l="l" t="t" r="r" b="b"/>
                <a:pathLst>
                  <a:path w="17" h="28">
                    <a:moveTo>
                      <a:pt x="7" y="28"/>
                    </a:moveTo>
                    <a:lnTo>
                      <a:pt x="0" y="25"/>
                    </a:lnTo>
                    <a:lnTo>
                      <a:pt x="1" y="16"/>
                    </a:lnTo>
                    <a:lnTo>
                      <a:pt x="5" y="8"/>
                    </a:lnTo>
                    <a:lnTo>
                      <a:pt x="8" y="0"/>
                    </a:lnTo>
                    <a:lnTo>
                      <a:pt x="16" y="5"/>
                    </a:lnTo>
                    <a:lnTo>
                      <a:pt x="17" y="13"/>
                    </a:lnTo>
                    <a:lnTo>
                      <a:pt x="13" y="24"/>
                    </a:lnTo>
                    <a:lnTo>
                      <a:pt x="7"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57" name=""/>
              <p:cNvSpPr/>
              <p:nvPr/>
            </p:nvSpPr>
            <p:spPr>
              <a:xfrm>
                <a:off x="7991640" y="1909800"/>
                <a:ext cx="7920" cy="11160"/>
              </a:xfrm>
              <a:custGeom>
                <a:avLst/>
                <a:gdLst/>
                <a:ahLst/>
                <a:rect l="l" t="t" r="r" b="b"/>
                <a:pathLst>
                  <a:path w="17" h="20">
                    <a:moveTo>
                      <a:pt x="0" y="20"/>
                    </a:moveTo>
                    <a:lnTo>
                      <a:pt x="2" y="0"/>
                    </a:lnTo>
                    <a:lnTo>
                      <a:pt x="14" y="0"/>
                    </a:lnTo>
                    <a:lnTo>
                      <a:pt x="17" y="9"/>
                    </a:lnTo>
                    <a:lnTo>
                      <a:pt x="15" y="16"/>
                    </a:lnTo>
                    <a:lnTo>
                      <a:pt x="8"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8" name=""/>
              <p:cNvSpPr/>
              <p:nvPr/>
            </p:nvSpPr>
            <p:spPr>
              <a:xfrm>
                <a:off x="7869240" y="1909800"/>
                <a:ext cx="14400" cy="9360"/>
              </a:xfrm>
              <a:custGeom>
                <a:avLst/>
                <a:gdLst/>
                <a:ahLst/>
                <a:rect l="l" t="t" r="r" b="b"/>
                <a:pathLst>
                  <a:path w="27" h="18">
                    <a:moveTo>
                      <a:pt x="3" y="18"/>
                    </a:moveTo>
                    <a:lnTo>
                      <a:pt x="0" y="6"/>
                    </a:lnTo>
                    <a:lnTo>
                      <a:pt x="4" y="2"/>
                    </a:lnTo>
                    <a:lnTo>
                      <a:pt x="10" y="0"/>
                    </a:lnTo>
                    <a:lnTo>
                      <a:pt x="18" y="2"/>
                    </a:lnTo>
                    <a:lnTo>
                      <a:pt x="26" y="5"/>
                    </a:lnTo>
                    <a:lnTo>
                      <a:pt x="27" y="12"/>
                    </a:lnTo>
                    <a:lnTo>
                      <a:pt x="20" y="15"/>
                    </a:lnTo>
                    <a:lnTo>
                      <a:pt x="10" y="16"/>
                    </a:lnTo>
                    <a:lnTo>
                      <a:pt x="3"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59" name=""/>
              <p:cNvSpPr/>
              <p:nvPr/>
            </p:nvSpPr>
            <p:spPr>
              <a:xfrm>
                <a:off x="7062840" y="1913040"/>
                <a:ext cx="9360" cy="11160"/>
              </a:xfrm>
              <a:custGeom>
                <a:avLst/>
                <a:gdLst/>
                <a:ahLst/>
                <a:rect l="l" t="t" r="r" b="b"/>
                <a:pathLst>
                  <a:path w="16" h="21">
                    <a:moveTo>
                      <a:pt x="0" y="21"/>
                    </a:moveTo>
                    <a:lnTo>
                      <a:pt x="0" y="0"/>
                    </a:lnTo>
                    <a:lnTo>
                      <a:pt x="16" y="5"/>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0" name=""/>
              <p:cNvSpPr/>
              <p:nvPr/>
            </p:nvSpPr>
            <p:spPr>
              <a:xfrm>
                <a:off x="7935840" y="1900080"/>
                <a:ext cx="7920" cy="11160"/>
              </a:xfrm>
              <a:custGeom>
                <a:avLst/>
                <a:gdLst/>
                <a:ahLst/>
                <a:rect l="l" t="t" r="r" b="b"/>
                <a:pathLst>
                  <a:path w="16" h="22">
                    <a:moveTo>
                      <a:pt x="3" y="21"/>
                    </a:moveTo>
                    <a:lnTo>
                      <a:pt x="0" y="15"/>
                    </a:lnTo>
                    <a:lnTo>
                      <a:pt x="2" y="8"/>
                    </a:lnTo>
                    <a:lnTo>
                      <a:pt x="6" y="2"/>
                    </a:lnTo>
                    <a:lnTo>
                      <a:pt x="13" y="0"/>
                    </a:lnTo>
                    <a:lnTo>
                      <a:pt x="16" y="6"/>
                    </a:lnTo>
                    <a:lnTo>
                      <a:pt x="15" y="16"/>
                    </a:lnTo>
                    <a:lnTo>
                      <a:pt x="11" y="22"/>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1" name=""/>
              <p:cNvSpPr/>
              <p:nvPr/>
            </p:nvSpPr>
            <p:spPr>
              <a:xfrm>
                <a:off x="8121600" y="1893960"/>
                <a:ext cx="11160" cy="11160"/>
              </a:xfrm>
              <a:custGeom>
                <a:avLst/>
                <a:gdLst/>
                <a:ahLst/>
                <a:rect l="l" t="t" r="r" b="b"/>
                <a:pathLst>
                  <a:path w="22" h="20">
                    <a:moveTo>
                      <a:pt x="6" y="20"/>
                    </a:moveTo>
                    <a:lnTo>
                      <a:pt x="0" y="0"/>
                    </a:lnTo>
                    <a:lnTo>
                      <a:pt x="22" y="4"/>
                    </a:lnTo>
                    <a:lnTo>
                      <a:pt x="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2" name=""/>
              <p:cNvSpPr/>
              <p:nvPr/>
            </p:nvSpPr>
            <p:spPr>
              <a:xfrm>
                <a:off x="8188200" y="1890720"/>
                <a:ext cx="7920" cy="14400"/>
              </a:xfrm>
              <a:custGeom>
                <a:avLst/>
                <a:gdLst/>
                <a:ahLst/>
                <a:rect l="l" t="t" r="r" b="b"/>
                <a:pathLst>
                  <a:path w="16" h="25">
                    <a:moveTo>
                      <a:pt x="4" y="25"/>
                    </a:moveTo>
                    <a:lnTo>
                      <a:pt x="0" y="20"/>
                    </a:lnTo>
                    <a:lnTo>
                      <a:pt x="0" y="12"/>
                    </a:lnTo>
                    <a:lnTo>
                      <a:pt x="3" y="4"/>
                    </a:lnTo>
                    <a:lnTo>
                      <a:pt x="11" y="0"/>
                    </a:lnTo>
                    <a:lnTo>
                      <a:pt x="16" y="6"/>
                    </a:lnTo>
                    <a:lnTo>
                      <a:pt x="16" y="12"/>
                    </a:lnTo>
                    <a:lnTo>
                      <a:pt x="11" y="19"/>
                    </a:lnTo>
                    <a:lnTo>
                      <a:pt x="4"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63" name=""/>
              <p:cNvSpPr/>
              <p:nvPr/>
            </p:nvSpPr>
            <p:spPr>
              <a:xfrm>
                <a:off x="8323200" y="1889280"/>
                <a:ext cx="11160" cy="10800"/>
              </a:xfrm>
              <a:custGeom>
                <a:avLst/>
                <a:gdLst/>
                <a:ahLst/>
                <a:rect l="l" t="t" r="r" b="b"/>
                <a:pathLst>
                  <a:path w="20" h="21">
                    <a:moveTo>
                      <a:pt x="2" y="21"/>
                    </a:moveTo>
                    <a:lnTo>
                      <a:pt x="0" y="0"/>
                    </a:lnTo>
                    <a:lnTo>
                      <a:pt x="20" y="4"/>
                    </a:lnTo>
                    <a:lnTo>
                      <a:pt x="2"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64" name=""/>
              <p:cNvSpPr/>
              <p:nvPr/>
            </p:nvSpPr>
            <p:spPr>
              <a:xfrm>
                <a:off x="6991200" y="1889280"/>
                <a:ext cx="17640" cy="12600"/>
              </a:xfrm>
              <a:custGeom>
                <a:avLst/>
                <a:gdLst/>
                <a:ahLst/>
                <a:rect l="l" t="t" r="r" b="b"/>
                <a:pathLst>
                  <a:path w="34" h="23">
                    <a:moveTo>
                      <a:pt x="5" y="23"/>
                    </a:moveTo>
                    <a:lnTo>
                      <a:pt x="1" y="20"/>
                    </a:lnTo>
                    <a:lnTo>
                      <a:pt x="0" y="13"/>
                    </a:lnTo>
                    <a:lnTo>
                      <a:pt x="2" y="5"/>
                    </a:lnTo>
                    <a:lnTo>
                      <a:pt x="7" y="0"/>
                    </a:lnTo>
                    <a:lnTo>
                      <a:pt x="14" y="2"/>
                    </a:lnTo>
                    <a:lnTo>
                      <a:pt x="21" y="5"/>
                    </a:lnTo>
                    <a:lnTo>
                      <a:pt x="27" y="10"/>
                    </a:lnTo>
                    <a:lnTo>
                      <a:pt x="34" y="16"/>
                    </a:lnTo>
                    <a:lnTo>
                      <a:pt x="31" y="22"/>
                    </a:lnTo>
                    <a:lnTo>
                      <a:pt x="24" y="23"/>
                    </a:lnTo>
                    <a:lnTo>
                      <a:pt x="14" y="22"/>
                    </a:lnTo>
                    <a:lnTo>
                      <a:pt x="5"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5" name=""/>
              <p:cNvSpPr/>
              <p:nvPr/>
            </p:nvSpPr>
            <p:spPr>
              <a:xfrm>
                <a:off x="7121520" y="1886040"/>
                <a:ext cx="11160" cy="12600"/>
              </a:xfrm>
              <a:custGeom>
                <a:avLst/>
                <a:gdLst/>
                <a:ahLst/>
                <a:rect l="l" t="t" r="r" b="b"/>
                <a:pathLst>
                  <a:path w="22" h="25">
                    <a:moveTo>
                      <a:pt x="3" y="25"/>
                    </a:moveTo>
                    <a:lnTo>
                      <a:pt x="0" y="3"/>
                    </a:lnTo>
                    <a:lnTo>
                      <a:pt x="10" y="0"/>
                    </a:lnTo>
                    <a:lnTo>
                      <a:pt x="22" y="17"/>
                    </a:lnTo>
                    <a:lnTo>
                      <a:pt x="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6" name=""/>
              <p:cNvSpPr/>
              <p:nvPr/>
            </p:nvSpPr>
            <p:spPr>
              <a:xfrm>
                <a:off x="8053560" y="1873080"/>
                <a:ext cx="10800" cy="11160"/>
              </a:xfrm>
              <a:custGeom>
                <a:avLst/>
                <a:gdLst/>
                <a:ahLst/>
                <a:rect l="l" t="t" r="r" b="b"/>
                <a:pathLst>
                  <a:path w="21" h="21">
                    <a:moveTo>
                      <a:pt x="11" y="21"/>
                    </a:moveTo>
                    <a:lnTo>
                      <a:pt x="0" y="13"/>
                    </a:lnTo>
                    <a:lnTo>
                      <a:pt x="14" y="0"/>
                    </a:lnTo>
                    <a:lnTo>
                      <a:pt x="18" y="5"/>
                    </a:lnTo>
                    <a:lnTo>
                      <a:pt x="21" y="12"/>
                    </a:lnTo>
                    <a:lnTo>
                      <a:pt x="18" y="19"/>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7" name=""/>
              <p:cNvSpPr/>
              <p:nvPr/>
            </p:nvSpPr>
            <p:spPr>
              <a:xfrm>
                <a:off x="8367840" y="1862280"/>
                <a:ext cx="12600" cy="10800"/>
              </a:xfrm>
              <a:custGeom>
                <a:avLst/>
                <a:gdLst/>
                <a:ahLst/>
                <a:rect l="l" t="t" r="r" b="b"/>
                <a:pathLst>
                  <a:path w="25" h="21">
                    <a:moveTo>
                      <a:pt x="6" y="21"/>
                    </a:moveTo>
                    <a:lnTo>
                      <a:pt x="0" y="10"/>
                    </a:lnTo>
                    <a:lnTo>
                      <a:pt x="3" y="4"/>
                    </a:lnTo>
                    <a:lnTo>
                      <a:pt x="9" y="1"/>
                    </a:lnTo>
                    <a:lnTo>
                      <a:pt x="16" y="0"/>
                    </a:lnTo>
                    <a:lnTo>
                      <a:pt x="25" y="1"/>
                    </a:lnTo>
                    <a:lnTo>
                      <a:pt x="25" y="7"/>
                    </a:lnTo>
                    <a:lnTo>
                      <a:pt x="22" y="13"/>
                    </a:lnTo>
                    <a:lnTo>
                      <a:pt x="16" y="19"/>
                    </a:lnTo>
                    <a:lnTo>
                      <a:pt x="6"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68" name=""/>
              <p:cNvSpPr/>
              <p:nvPr/>
            </p:nvSpPr>
            <p:spPr>
              <a:xfrm>
                <a:off x="7672320" y="1870200"/>
                <a:ext cx="7920" cy="11160"/>
              </a:xfrm>
              <a:custGeom>
                <a:avLst/>
                <a:gdLst/>
                <a:ahLst/>
                <a:rect l="l" t="t" r="r" b="b"/>
                <a:pathLst>
                  <a:path w="17" h="19">
                    <a:moveTo>
                      <a:pt x="2" y="19"/>
                    </a:moveTo>
                    <a:lnTo>
                      <a:pt x="0" y="0"/>
                    </a:lnTo>
                    <a:lnTo>
                      <a:pt x="17" y="2"/>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69" name=""/>
              <p:cNvSpPr/>
              <p:nvPr/>
            </p:nvSpPr>
            <p:spPr>
              <a:xfrm>
                <a:off x="8269200" y="1859040"/>
                <a:ext cx="11160" cy="12600"/>
              </a:xfrm>
              <a:custGeom>
                <a:avLst/>
                <a:gdLst/>
                <a:ahLst/>
                <a:rect l="l" t="t" r="r" b="b"/>
                <a:pathLst>
                  <a:path w="19" h="25">
                    <a:moveTo>
                      <a:pt x="6" y="25"/>
                    </a:moveTo>
                    <a:lnTo>
                      <a:pt x="0" y="20"/>
                    </a:lnTo>
                    <a:lnTo>
                      <a:pt x="0" y="12"/>
                    </a:lnTo>
                    <a:lnTo>
                      <a:pt x="3" y="4"/>
                    </a:lnTo>
                    <a:lnTo>
                      <a:pt x="9" y="0"/>
                    </a:lnTo>
                    <a:lnTo>
                      <a:pt x="15" y="4"/>
                    </a:lnTo>
                    <a:lnTo>
                      <a:pt x="19" y="13"/>
                    </a:lnTo>
                    <a:lnTo>
                      <a:pt x="18" y="22"/>
                    </a:lnTo>
                    <a:lnTo>
                      <a:pt x="6"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0" name=""/>
              <p:cNvSpPr/>
              <p:nvPr/>
            </p:nvSpPr>
            <p:spPr>
              <a:xfrm>
                <a:off x="7758000" y="1859040"/>
                <a:ext cx="11160" cy="9360"/>
              </a:xfrm>
              <a:custGeom>
                <a:avLst/>
                <a:gdLst/>
                <a:ahLst/>
                <a:rect l="l" t="t" r="r" b="b"/>
                <a:pathLst>
                  <a:path w="23" h="19">
                    <a:moveTo>
                      <a:pt x="7" y="15"/>
                    </a:moveTo>
                    <a:lnTo>
                      <a:pt x="0" y="8"/>
                    </a:lnTo>
                    <a:lnTo>
                      <a:pt x="20" y="0"/>
                    </a:lnTo>
                    <a:lnTo>
                      <a:pt x="23" y="8"/>
                    </a:lnTo>
                    <a:lnTo>
                      <a:pt x="21" y="15"/>
                    </a:lnTo>
                    <a:lnTo>
                      <a:pt x="15" y="19"/>
                    </a:lnTo>
                    <a:lnTo>
                      <a:pt x="7"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71" name=""/>
              <p:cNvSpPr/>
              <p:nvPr/>
            </p:nvSpPr>
            <p:spPr>
              <a:xfrm>
                <a:off x="7575480" y="1844640"/>
                <a:ext cx="9720" cy="14400"/>
              </a:xfrm>
              <a:custGeom>
                <a:avLst/>
                <a:gdLst/>
                <a:ahLst/>
                <a:rect l="l" t="t" r="r" b="b"/>
                <a:pathLst>
                  <a:path w="17" h="28">
                    <a:moveTo>
                      <a:pt x="6" y="28"/>
                    </a:moveTo>
                    <a:lnTo>
                      <a:pt x="0" y="24"/>
                    </a:lnTo>
                    <a:lnTo>
                      <a:pt x="0" y="17"/>
                    </a:lnTo>
                    <a:lnTo>
                      <a:pt x="4" y="8"/>
                    </a:lnTo>
                    <a:lnTo>
                      <a:pt x="6" y="0"/>
                    </a:lnTo>
                    <a:lnTo>
                      <a:pt x="14" y="0"/>
                    </a:lnTo>
                    <a:lnTo>
                      <a:pt x="17" y="7"/>
                    </a:lnTo>
                    <a:lnTo>
                      <a:pt x="17" y="15"/>
                    </a:lnTo>
                    <a:lnTo>
                      <a:pt x="11" y="24"/>
                    </a:lnTo>
                    <a:lnTo>
                      <a:pt x="6" y="2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2" name=""/>
              <p:cNvSpPr/>
              <p:nvPr/>
            </p:nvSpPr>
            <p:spPr>
              <a:xfrm>
                <a:off x="7904160" y="1844640"/>
                <a:ext cx="6480" cy="9720"/>
              </a:xfrm>
              <a:custGeom>
                <a:avLst/>
                <a:gdLst/>
                <a:ahLst/>
                <a:rect l="l" t="t" r="r" b="b"/>
                <a:pathLst>
                  <a:path w="13" h="18">
                    <a:moveTo>
                      <a:pt x="0" y="18"/>
                    </a:moveTo>
                    <a:lnTo>
                      <a:pt x="1" y="0"/>
                    </a:lnTo>
                    <a:lnTo>
                      <a:pt x="11" y="1"/>
                    </a:lnTo>
                    <a:lnTo>
                      <a:pt x="13" y="7"/>
                    </a:lnTo>
                    <a:lnTo>
                      <a:pt x="8" y="15"/>
                    </a:lnTo>
                    <a:lnTo>
                      <a:pt x="0"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73" name=""/>
              <p:cNvSpPr/>
              <p:nvPr/>
            </p:nvSpPr>
            <p:spPr>
              <a:xfrm>
                <a:off x="7493040" y="1847880"/>
                <a:ext cx="17280" cy="11160"/>
              </a:xfrm>
              <a:custGeom>
                <a:avLst/>
                <a:gdLst/>
                <a:ahLst/>
                <a:rect l="l" t="t" r="r" b="b"/>
                <a:pathLst>
                  <a:path w="33" h="19">
                    <a:moveTo>
                      <a:pt x="10" y="19"/>
                    </a:moveTo>
                    <a:lnTo>
                      <a:pt x="0" y="3"/>
                    </a:lnTo>
                    <a:lnTo>
                      <a:pt x="8" y="0"/>
                    </a:lnTo>
                    <a:lnTo>
                      <a:pt x="17" y="0"/>
                    </a:lnTo>
                    <a:lnTo>
                      <a:pt x="26" y="0"/>
                    </a:lnTo>
                    <a:lnTo>
                      <a:pt x="33" y="3"/>
                    </a:lnTo>
                    <a:lnTo>
                      <a:pt x="10"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4" name=""/>
              <p:cNvSpPr/>
              <p:nvPr/>
            </p:nvSpPr>
            <p:spPr>
              <a:xfrm>
                <a:off x="7840800" y="1843200"/>
                <a:ext cx="7920" cy="11160"/>
              </a:xfrm>
              <a:custGeom>
                <a:avLst/>
                <a:gdLst/>
                <a:ahLst/>
                <a:rect l="l" t="t" r="r" b="b"/>
                <a:pathLst>
                  <a:path w="17" h="21">
                    <a:moveTo>
                      <a:pt x="5" y="21"/>
                    </a:moveTo>
                    <a:lnTo>
                      <a:pt x="0" y="17"/>
                    </a:lnTo>
                    <a:lnTo>
                      <a:pt x="3" y="10"/>
                    </a:lnTo>
                    <a:lnTo>
                      <a:pt x="10" y="4"/>
                    </a:lnTo>
                    <a:lnTo>
                      <a:pt x="17" y="0"/>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031240" y="1832040"/>
                <a:ext cx="11160" cy="14400"/>
              </a:xfrm>
              <a:custGeom>
                <a:avLst/>
                <a:gdLst/>
                <a:ahLst/>
                <a:rect l="l" t="t" r="r" b="b"/>
                <a:pathLst>
                  <a:path w="20" h="26">
                    <a:moveTo>
                      <a:pt x="6" y="26"/>
                    </a:moveTo>
                    <a:lnTo>
                      <a:pt x="0" y="22"/>
                    </a:lnTo>
                    <a:lnTo>
                      <a:pt x="2" y="13"/>
                    </a:lnTo>
                    <a:lnTo>
                      <a:pt x="6" y="4"/>
                    </a:lnTo>
                    <a:lnTo>
                      <a:pt x="12" y="0"/>
                    </a:lnTo>
                    <a:lnTo>
                      <a:pt x="18" y="4"/>
                    </a:lnTo>
                    <a:lnTo>
                      <a:pt x="20" y="13"/>
                    </a:lnTo>
                    <a:lnTo>
                      <a:pt x="16" y="22"/>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76" name=""/>
              <p:cNvSpPr/>
              <p:nvPr/>
            </p:nvSpPr>
            <p:spPr>
              <a:xfrm>
                <a:off x="8172360" y="1828800"/>
                <a:ext cx="11160" cy="11160"/>
              </a:xfrm>
              <a:custGeom>
                <a:avLst/>
                <a:gdLst/>
                <a:ahLst/>
                <a:rect l="l" t="t" r="r" b="b"/>
                <a:pathLst>
                  <a:path w="20" h="21">
                    <a:moveTo>
                      <a:pt x="11" y="21"/>
                    </a:moveTo>
                    <a:lnTo>
                      <a:pt x="0" y="13"/>
                    </a:lnTo>
                    <a:lnTo>
                      <a:pt x="1" y="5"/>
                    </a:lnTo>
                    <a:lnTo>
                      <a:pt x="7" y="1"/>
                    </a:lnTo>
                    <a:lnTo>
                      <a:pt x="14" y="0"/>
                    </a:lnTo>
                    <a:lnTo>
                      <a:pt x="20" y="3"/>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7" name=""/>
              <p:cNvSpPr/>
              <p:nvPr/>
            </p:nvSpPr>
            <p:spPr>
              <a:xfrm>
                <a:off x="7969320" y="1828800"/>
                <a:ext cx="11160" cy="7920"/>
              </a:xfrm>
              <a:custGeom>
                <a:avLst/>
                <a:gdLst/>
                <a:ahLst/>
                <a:rect l="l" t="t" r="r" b="b"/>
                <a:pathLst>
                  <a:path w="23" h="16">
                    <a:moveTo>
                      <a:pt x="13" y="16"/>
                    </a:moveTo>
                    <a:lnTo>
                      <a:pt x="0" y="0"/>
                    </a:lnTo>
                    <a:lnTo>
                      <a:pt x="23" y="0"/>
                    </a:lnTo>
                    <a:lnTo>
                      <a:pt x="1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8" name=""/>
              <p:cNvSpPr/>
              <p:nvPr/>
            </p:nvSpPr>
            <p:spPr>
              <a:xfrm>
                <a:off x="8102520" y="1822320"/>
                <a:ext cx="11160" cy="11160"/>
              </a:xfrm>
              <a:custGeom>
                <a:avLst/>
                <a:gdLst/>
                <a:ahLst/>
                <a:rect l="l" t="t" r="r" b="b"/>
                <a:pathLst>
                  <a:path w="19" h="20">
                    <a:moveTo>
                      <a:pt x="3" y="19"/>
                    </a:moveTo>
                    <a:lnTo>
                      <a:pt x="0" y="12"/>
                    </a:lnTo>
                    <a:lnTo>
                      <a:pt x="2" y="4"/>
                    </a:lnTo>
                    <a:lnTo>
                      <a:pt x="7" y="0"/>
                    </a:lnTo>
                    <a:lnTo>
                      <a:pt x="16" y="0"/>
                    </a:lnTo>
                    <a:lnTo>
                      <a:pt x="19" y="9"/>
                    </a:lnTo>
                    <a:lnTo>
                      <a:pt x="17" y="16"/>
                    </a:lnTo>
                    <a:lnTo>
                      <a:pt x="12" y="20"/>
                    </a:lnTo>
                    <a:lnTo>
                      <a:pt x="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9" name=""/>
              <p:cNvSpPr/>
              <p:nvPr/>
            </p:nvSpPr>
            <p:spPr>
              <a:xfrm>
                <a:off x="7140600" y="1824120"/>
                <a:ext cx="12600" cy="15840"/>
              </a:xfrm>
              <a:custGeom>
                <a:avLst/>
                <a:gdLst/>
                <a:ahLst/>
                <a:rect l="l" t="t" r="r" b="b"/>
                <a:pathLst>
                  <a:path w="26" h="29">
                    <a:moveTo>
                      <a:pt x="7" y="29"/>
                    </a:moveTo>
                    <a:lnTo>
                      <a:pt x="1" y="23"/>
                    </a:lnTo>
                    <a:lnTo>
                      <a:pt x="0" y="16"/>
                    </a:lnTo>
                    <a:lnTo>
                      <a:pt x="2" y="7"/>
                    </a:lnTo>
                    <a:lnTo>
                      <a:pt x="7" y="0"/>
                    </a:lnTo>
                    <a:lnTo>
                      <a:pt x="26" y="12"/>
                    </a:lnTo>
                    <a:lnTo>
                      <a:pt x="7"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0" name=""/>
              <p:cNvSpPr/>
              <p:nvPr/>
            </p:nvSpPr>
            <p:spPr>
              <a:xfrm>
                <a:off x="7716960" y="1798560"/>
                <a:ext cx="11160" cy="11160"/>
              </a:xfrm>
              <a:custGeom>
                <a:avLst/>
                <a:gdLst/>
                <a:ahLst/>
                <a:rect l="l" t="t" r="r" b="b"/>
                <a:pathLst>
                  <a:path w="20" h="23">
                    <a:moveTo>
                      <a:pt x="6" y="23"/>
                    </a:moveTo>
                    <a:lnTo>
                      <a:pt x="0" y="19"/>
                    </a:lnTo>
                    <a:lnTo>
                      <a:pt x="0" y="11"/>
                    </a:lnTo>
                    <a:lnTo>
                      <a:pt x="6" y="3"/>
                    </a:lnTo>
                    <a:lnTo>
                      <a:pt x="14" y="0"/>
                    </a:lnTo>
                    <a:lnTo>
                      <a:pt x="20" y="4"/>
                    </a:lnTo>
                    <a:lnTo>
                      <a:pt x="19" y="11"/>
                    </a:lnTo>
                    <a:lnTo>
                      <a:pt x="11" y="19"/>
                    </a:lnTo>
                    <a:lnTo>
                      <a:pt x="6"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81" name=""/>
              <p:cNvSpPr/>
              <p:nvPr/>
            </p:nvSpPr>
            <p:spPr>
              <a:xfrm>
                <a:off x="7056360" y="1806480"/>
                <a:ext cx="12600" cy="11160"/>
              </a:xfrm>
              <a:custGeom>
                <a:avLst/>
                <a:gdLst/>
                <a:ahLst/>
                <a:rect l="l" t="t" r="r" b="b"/>
                <a:pathLst>
                  <a:path w="23" h="21">
                    <a:moveTo>
                      <a:pt x="6" y="21"/>
                    </a:moveTo>
                    <a:lnTo>
                      <a:pt x="0" y="3"/>
                    </a:lnTo>
                    <a:lnTo>
                      <a:pt x="7" y="0"/>
                    </a:lnTo>
                    <a:lnTo>
                      <a:pt x="14" y="1"/>
                    </a:lnTo>
                    <a:lnTo>
                      <a:pt x="20" y="7"/>
                    </a:lnTo>
                    <a:lnTo>
                      <a:pt x="23" y="14"/>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82" name=""/>
              <p:cNvSpPr/>
              <p:nvPr/>
            </p:nvSpPr>
            <p:spPr>
              <a:xfrm>
                <a:off x="8304120" y="1790640"/>
                <a:ext cx="11160" cy="9720"/>
              </a:xfrm>
              <a:custGeom>
                <a:avLst/>
                <a:gdLst/>
                <a:ahLst/>
                <a:rect l="l" t="t" r="r" b="b"/>
                <a:pathLst>
                  <a:path w="21" h="19">
                    <a:moveTo>
                      <a:pt x="0" y="19"/>
                    </a:moveTo>
                    <a:lnTo>
                      <a:pt x="2" y="0"/>
                    </a:lnTo>
                    <a:lnTo>
                      <a:pt x="21" y="10"/>
                    </a:lnTo>
                    <a:lnTo>
                      <a:pt x="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3" name=""/>
              <p:cNvSpPr/>
              <p:nvPr/>
            </p:nvSpPr>
            <p:spPr>
              <a:xfrm>
                <a:off x="7013520" y="1801800"/>
                <a:ext cx="11160" cy="12600"/>
              </a:xfrm>
              <a:custGeom>
                <a:avLst/>
                <a:gdLst/>
                <a:ahLst/>
                <a:rect l="l" t="t" r="r" b="b"/>
                <a:pathLst>
                  <a:path w="20" h="23">
                    <a:moveTo>
                      <a:pt x="1" y="23"/>
                    </a:moveTo>
                    <a:lnTo>
                      <a:pt x="0" y="16"/>
                    </a:lnTo>
                    <a:lnTo>
                      <a:pt x="1" y="10"/>
                    </a:lnTo>
                    <a:lnTo>
                      <a:pt x="9" y="4"/>
                    </a:lnTo>
                    <a:lnTo>
                      <a:pt x="17" y="0"/>
                    </a:lnTo>
                    <a:lnTo>
                      <a:pt x="20" y="22"/>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4" name=""/>
              <p:cNvSpPr/>
              <p:nvPr/>
            </p:nvSpPr>
            <p:spPr>
              <a:xfrm>
                <a:off x="7864560" y="1793880"/>
                <a:ext cx="11160" cy="7920"/>
              </a:xfrm>
              <a:custGeom>
                <a:avLst/>
                <a:gdLst/>
                <a:ahLst/>
                <a:rect l="l" t="t" r="r" b="b"/>
                <a:pathLst>
                  <a:path w="21" h="14">
                    <a:moveTo>
                      <a:pt x="12" y="14"/>
                    </a:moveTo>
                    <a:lnTo>
                      <a:pt x="0" y="0"/>
                    </a:lnTo>
                    <a:lnTo>
                      <a:pt x="21" y="0"/>
                    </a:lnTo>
                    <a:lnTo>
                      <a:pt x="12"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85" name=""/>
              <p:cNvSpPr/>
              <p:nvPr/>
            </p:nvSpPr>
            <p:spPr>
              <a:xfrm>
                <a:off x="8366040" y="1784520"/>
                <a:ext cx="12960" cy="12600"/>
              </a:xfrm>
              <a:custGeom>
                <a:avLst/>
                <a:gdLst/>
                <a:ahLst/>
                <a:rect l="l" t="t" r="r" b="b"/>
                <a:pathLst>
                  <a:path w="23" h="22">
                    <a:moveTo>
                      <a:pt x="14" y="22"/>
                    </a:moveTo>
                    <a:lnTo>
                      <a:pt x="0" y="9"/>
                    </a:lnTo>
                    <a:lnTo>
                      <a:pt x="4" y="2"/>
                    </a:lnTo>
                    <a:lnTo>
                      <a:pt x="11" y="0"/>
                    </a:lnTo>
                    <a:lnTo>
                      <a:pt x="20" y="5"/>
                    </a:lnTo>
                    <a:lnTo>
                      <a:pt x="23" y="10"/>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6" name=""/>
              <p:cNvSpPr/>
              <p:nvPr/>
            </p:nvSpPr>
            <p:spPr>
              <a:xfrm>
                <a:off x="7202520" y="1798560"/>
                <a:ext cx="9360" cy="12600"/>
              </a:xfrm>
              <a:custGeom>
                <a:avLst/>
                <a:gdLst/>
                <a:ahLst/>
                <a:rect l="l" t="t" r="r" b="b"/>
                <a:pathLst>
                  <a:path w="20" h="23">
                    <a:moveTo>
                      <a:pt x="0" y="22"/>
                    </a:moveTo>
                    <a:lnTo>
                      <a:pt x="1" y="0"/>
                    </a:lnTo>
                    <a:lnTo>
                      <a:pt x="8" y="2"/>
                    </a:lnTo>
                    <a:lnTo>
                      <a:pt x="13" y="6"/>
                    </a:lnTo>
                    <a:lnTo>
                      <a:pt x="17" y="13"/>
                    </a:lnTo>
                    <a:lnTo>
                      <a:pt x="20" y="23"/>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7" name=""/>
              <p:cNvSpPr/>
              <p:nvPr/>
            </p:nvSpPr>
            <p:spPr>
              <a:xfrm>
                <a:off x="8213760" y="1779480"/>
                <a:ext cx="11160" cy="12960"/>
              </a:xfrm>
              <a:custGeom>
                <a:avLst/>
                <a:gdLst/>
                <a:ahLst/>
                <a:rect l="l" t="t" r="r" b="b"/>
                <a:pathLst>
                  <a:path w="21" h="25">
                    <a:moveTo>
                      <a:pt x="5" y="25"/>
                    </a:moveTo>
                    <a:lnTo>
                      <a:pt x="0" y="17"/>
                    </a:lnTo>
                    <a:lnTo>
                      <a:pt x="2" y="10"/>
                    </a:lnTo>
                    <a:lnTo>
                      <a:pt x="8" y="4"/>
                    </a:lnTo>
                    <a:lnTo>
                      <a:pt x="16" y="0"/>
                    </a:lnTo>
                    <a:lnTo>
                      <a:pt x="21" y="19"/>
                    </a:lnTo>
                    <a:lnTo>
                      <a:pt x="5"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88" name=""/>
              <p:cNvSpPr/>
              <p:nvPr/>
            </p:nvSpPr>
            <p:spPr>
              <a:xfrm>
                <a:off x="7624800" y="1785960"/>
                <a:ext cx="11160" cy="9360"/>
              </a:xfrm>
              <a:custGeom>
                <a:avLst/>
                <a:gdLst/>
                <a:ahLst/>
                <a:rect l="l" t="t" r="r" b="b"/>
                <a:pathLst>
                  <a:path w="23" h="17">
                    <a:moveTo>
                      <a:pt x="11" y="17"/>
                    </a:moveTo>
                    <a:lnTo>
                      <a:pt x="0" y="10"/>
                    </a:lnTo>
                    <a:lnTo>
                      <a:pt x="3" y="2"/>
                    </a:lnTo>
                    <a:lnTo>
                      <a:pt x="10" y="0"/>
                    </a:lnTo>
                    <a:lnTo>
                      <a:pt x="17" y="3"/>
                    </a:lnTo>
                    <a:lnTo>
                      <a:pt x="23" y="7"/>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89" name=""/>
              <p:cNvSpPr/>
              <p:nvPr/>
            </p:nvSpPr>
            <p:spPr>
              <a:xfrm>
                <a:off x="7291440" y="1785960"/>
                <a:ext cx="9360" cy="12600"/>
              </a:xfrm>
              <a:custGeom>
                <a:avLst/>
                <a:gdLst/>
                <a:ahLst/>
                <a:rect l="l" t="t" r="r" b="b"/>
                <a:pathLst>
                  <a:path w="17" h="22">
                    <a:moveTo>
                      <a:pt x="1" y="22"/>
                    </a:moveTo>
                    <a:lnTo>
                      <a:pt x="0" y="0"/>
                    </a:lnTo>
                    <a:lnTo>
                      <a:pt x="17" y="4"/>
                    </a:lnTo>
                    <a:lnTo>
                      <a:pt x="17" y="12"/>
                    </a:lnTo>
                    <a:lnTo>
                      <a:pt x="14" y="17"/>
                    </a:lnTo>
                    <a:lnTo>
                      <a:pt x="9" y="20"/>
                    </a:lnTo>
                    <a:lnTo>
                      <a:pt x="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0" name=""/>
              <p:cNvSpPr/>
              <p:nvPr/>
            </p:nvSpPr>
            <p:spPr>
              <a:xfrm>
                <a:off x="8082000" y="1776240"/>
                <a:ext cx="9360" cy="9720"/>
              </a:xfrm>
              <a:custGeom>
                <a:avLst/>
                <a:gdLst/>
                <a:ahLst/>
                <a:rect l="l" t="t" r="r" b="b"/>
                <a:pathLst>
                  <a:path w="18" h="19">
                    <a:moveTo>
                      <a:pt x="10" y="19"/>
                    </a:moveTo>
                    <a:lnTo>
                      <a:pt x="0" y="13"/>
                    </a:lnTo>
                    <a:lnTo>
                      <a:pt x="1" y="6"/>
                    </a:lnTo>
                    <a:lnTo>
                      <a:pt x="7" y="2"/>
                    </a:lnTo>
                    <a:lnTo>
                      <a:pt x="13" y="0"/>
                    </a:lnTo>
                    <a:lnTo>
                      <a:pt x="18" y="3"/>
                    </a:lnTo>
                    <a:lnTo>
                      <a:pt x="1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1" name=""/>
              <p:cNvSpPr/>
              <p:nvPr/>
            </p:nvSpPr>
            <p:spPr>
              <a:xfrm>
                <a:off x="7458120" y="1782720"/>
                <a:ext cx="9360" cy="11160"/>
              </a:xfrm>
              <a:custGeom>
                <a:avLst/>
                <a:gdLst/>
                <a:ahLst/>
                <a:rect l="l" t="t" r="r" b="b"/>
                <a:pathLst>
                  <a:path w="20" h="21">
                    <a:moveTo>
                      <a:pt x="0" y="21"/>
                    </a:moveTo>
                    <a:lnTo>
                      <a:pt x="0" y="0"/>
                    </a:lnTo>
                    <a:lnTo>
                      <a:pt x="20" y="3"/>
                    </a:lnTo>
                    <a:lnTo>
                      <a:pt x="18" y="10"/>
                    </a:lnTo>
                    <a:lnTo>
                      <a:pt x="16" y="16"/>
                    </a:lnTo>
                    <a:lnTo>
                      <a:pt x="8"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92" name=""/>
              <p:cNvSpPr/>
              <p:nvPr/>
            </p:nvSpPr>
            <p:spPr>
              <a:xfrm>
                <a:off x="7932600" y="1776240"/>
                <a:ext cx="12960" cy="9720"/>
              </a:xfrm>
              <a:custGeom>
                <a:avLst/>
                <a:gdLst/>
                <a:ahLst/>
                <a:rect l="l" t="t" r="r" b="b"/>
                <a:pathLst>
                  <a:path w="22" h="19">
                    <a:moveTo>
                      <a:pt x="7" y="19"/>
                    </a:moveTo>
                    <a:lnTo>
                      <a:pt x="0" y="11"/>
                    </a:lnTo>
                    <a:lnTo>
                      <a:pt x="2" y="4"/>
                    </a:lnTo>
                    <a:lnTo>
                      <a:pt x="6" y="0"/>
                    </a:lnTo>
                    <a:lnTo>
                      <a:pt x="13" y="0"/>
                    </a:lnTo>
                    <a:lnTo>
                      <a:pt x="22" y="3"/>
                    </a:lnTo>
                    <a:lnTo>
                      <a:pt x="7"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1293" name=""/>
          <p:cNvGrpSpPr/>
          <p:nvPr/>
        </p:nvGrpSpPr>
        <p:grpSpPr>
          <a:xfrm>
            <a:off x="822240" y="1676520"/>
            <a:ext cx="1027080" cy="1334880"/>
            <a:chOff x="822240" y="1676520"/>
            <a:chExt cx="1027080" cy="1334880"/>
          </a:xfrm>
        </p:grpSpPr>
        <p:sp>
          <p:nvSpPr>
            <p:cNvPr id="1294" name=""/>
            <p:cNvSpPr/>
            <p:nvPr/>
          </p:nvSpPr>
          <p:spPr>
            <a:xfrm>
              <a:off x="873000" y="1676520"/>
              <a:ext cx="976320" cy="1271520"/>
            </a:xfrm>
            <a:custGeom>
              <a:avLst/>
              <a:gdLst/>
              <a:ahLst/>
              <a:rect l="l" t="t" r="r" b="b"/>
              <a:pathLst>
                <a:path w="1846" h="2404">
                  <a:moveTo>
                    <a:pt x="1124" y="0"/>
                  </a:moveTo>
                  <a:lnTo>
                    <a:pt x="1680" y="512"/>
                  </a:lnTo>
                  <a:lnTo>
                    <a:pt x="1846" y="1882"/>
                  </a:lnTo>
                  <a:lnTo>
                    <a:pt x="1664" y="2140"/>
                  </a:lnTo>
                  <a:lnTo>
                    <a:pt x="1132" y="2140"/>
                  </a:lnTo>
                  <a:lnTo>
                    <a:pt x="481" y="2404"/>
                  </a:lnTo>
                  <a:lnTo>
                    <a:pt x="211" y="2354"/>
                  </a:lnTo>
                  <a:lnTo>
                    <a:pt x="0" y="2016"/>
                  </a:lnTo>
                  <a:lnTo>
                    <a:pt x="327" y="1420"/>
                  </a:lnTo>
                  <a:lnTo>
                    <a:pt x="795" y="412"/>
                  </a:lnTo>
                  <a:lnTo>
                    <a:pt x="1124" y="0"/>
                  </a:lnTo>
                  <a:lnTo>
                    <a:pt x="1124"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822240" y="1676520"/>
              <a:ext cx="1027080" cy="1334880"/>
            </a:xfrm>
            <a:custGeom>
              <a:avLst/>
              <a:gdLst/>
              <a:ahLst/>
              <a:rect l="l" t="t" r="r" b="b"/>
              <a:pathLst>
                <a:path w="1941" h="2523">
                  <a:moveTo>
                    <a:pt x="1212" y="0"/>
                  </a:moveTo>
                  <a:lnTo>
                    <a:pt x="1081" y="102"/>
                  </a:lnTo>
                  <a:lnTo>
                    <a:pt x="920" y="264"/>
                  </a:lnTo>
                  <a:lnTo>
                    <a:pt x="795" y="449"/>
                  </a:lnTo>
                  <a:lnTo>
                    <a:pt x="620" y="794"/>
                  </a:lnTo>
                  <a:lnTo>
                    <a:pt x="445" y="1147"/>
                  </a:lnTo>
                  <a:lnTo>
                    <a:pt x="256" y="1464"/>
                  </a:lnTo>
                  <a:lnTo>
                    <a:pt x="87" y="1721"/>
                  </a:lnTo>
                  <a:lnTo>
                    <a:pt x="28" y="1846"/>
                  </a:lnTo>
                  <a:lnTo>
                    <a:pt x="7" y="1957"/>
                  </a:lnTo>
                  <a:lnTo>
                    <a:pt x="0" y="2030"/>
                  </a:lnTo>
                  <a:lnTo>
                    <a:pt x="37" y="2163"/>
                  </a:lnTo>
                  <a:lnTo>
                    <a:pt x="122" y="2296"/>
                  </a:lnTo>
                  <a:lnTo>
                    <a:pt x="233" y="2404"/>
                  </a:lnTo>
                  <a:lnTo>
                    <a:pt x="344" y="2479"/>
                  </a:lnTo>
                  <a:lnTo>
                    <a:pt x="452" y="2517"/>
                  </a:lnTo>
                  <a:lnTo>
                    <a:pt x="540" y="2523"/>
                  </a:lnTo>
                  <a:lnTo>
                    <a:pt x="613" y="2509"/>
                  </a:lnTo>
                  <a:lnTo>
                    <a:pt x="766" y="2429"/>
                  </a:lnTo>
                  <a:lnTo>
                    <a:pt x="947" y="2339"/>
                  </a:lnTo>
                  <a:lnTo>
                    <a:pt x="1182" y="2273"/>
                  </a:lnTo>
                  <a:lnTo>
                    <a:pt x="1401" y="2244"/>
                  </a:lnTo>
                  <a:lnTo>
                    <a:pt x="1634" y="2252"/>
                  </a:lnTo>
                  <a:lnTo>
                    <a:pt x="1759" y="2252"/>
                  </a:lnTo>
                  <a:lnTo>
                    <a:pt x="1853" y="2222"/>
                  </a:lnTo>
                  <a:lnTo>
                    <a:pt x="1905" y="2140"/>
                  </a:lnTo>
                  <a:lnTo>
                    <a:pt x="1934" y="2000"/>
                  </a:lnTo>
                  <a:lnTo>
                    <a:pt x="1941" y="1854"/>
                  </a:lnTo>
                  <a:lnTo>
                    <a:pt x="1905" y="1669"/>
                  </a:lnTo>
                  <a:lnTo>
                    <a:pt x="1833" y="1531"/>
                  </a:lnTo>
                  <a:lnTo>
                    <a:pt x="1722" y="1434"/>
                  </a:lnTo>
                  <a:lnTo>
                    <a:pt x="1577" y="1376"/>
                  </a:lnTo>
                  <a:lnTo>
                    <a:pt x="1453" y="1384"/>
                  </a:lnTo>
                  <a:lnTo>
                    <a:pt x="1350" y="1427"/>
                  </a:lnTo>
                  <a:lnTo>
                    <a:pt x="1284" y="1485"/>
                  </a:lnTo>
                  <a:lnTo>
                    <a:pt x="1227" y="1566"/>
                  </a:lnTo>
                  <a:lnTo>
                    <a:pt x="1189" y="1663"/>
                  </a:lnTo>
                  <a:lnTo>
                    <a:pt x="1204" y="1714"/>
                  </a:lnTo>
                  <a:lnTo>
                    <a:pt x="1241" y="1736"/>
                  </a:lnTo>
                  <a:lnTo>
                    <a:pt x="1307" y="1730"/>
                  </a:lnTo>
                  <a:lnTo>
                    <a:pt x="1350" y="1684"/>
                  </a:lnTo>
                  <a:lnTo>
                    <a:pt x="1415" y="1609"/>
                  </a:lnTo>
                  <a:lnTo>
                    <a:pt x="1496" y="1589"/>
                  </a:lnTo>
                  <a:lnTo>
                    <a:pt x="1577" y="1602"/>
                  </a:lnTo>
                  <a:lnTo>
                    <a:pt x="1664" y="1649"/>
                  </a:lnTo>
                  <a:lnTo>
                    <a:pt x="1729" y="1736"/>
                  </a:lnTo>
                  <a:lnTo>
                    <a:pt x="1752" y="1838"/>
                  </a:lnTo>
                  <a:lnTo>
                    <a:pt x="1738" y="1987"/>
                  </a:lnTo>
                  <a:lnTo>
                    <a:pt x="1715" y="2045"/>
                  </a:lnTo>
                  <a:lnTo>
                    <a:pt x="1679" y="2060"/>
                  </a:lnTo>
                  <a:lnTo>
                    <a:pt x="1314" y="2060"/>
                  </a:lnTo>
                  <a:lnTo>
                    <a:pt x="1081" y="2088"/>
                  </a:lnTo>
                  <a:lnTo>
                    <a:pt x="882" y="2156"/>
                  </a:lnTo>
                  <a:lnTo>
                    <a:pt x="701" y="2259"/>
                  </a:lnTo>
                  <a:lnTo>
                    <a:pt x="597" y="2296"/>
                  </a:lnTo>
                  <a:lnTo>
                    <a:pt x="518" y="2296"/>
                  </a:lnTo>
                  <a:lnTo>
                    <a:pt x="408" y="2252"/>
                  </a:lnTo>
                  <a:lnTo>
                    <a:pt x="321" y="2179"/>
                  </a:lnTo>
                  <a:lnTo>
                    <a:pt x="256" y="2104"/>
                  </a:lnTo>
                  <a:lnTo>
                    <a:pt x="233" y="2053"/>
                  </a:lnTo>
                  <a:lnTo>
                    <a:pt x="219" y="1980"/>
                  </a:lnTo>
                  <a:lnTo>
                    <a:pt x="226" y="1929"/>
                  </a:lnTo>
                  <a:lnTo>
                    <a:pt x="247" y="1854"/>
                  </a:lnTo>
                  <a:lnTo>
                    <a:pt x="402" y="1602"/>
                  </a:lnTo>
                  <a:lnTo>
                    <a:pt x="525" y="1391"/>
                  </a:lnTo>
                  <a:lnTo>
                    <a:pt x="635" y="1170"/>
                  </a:lnTo>
                  <a:lnTo>
                    <a:pt x="744" y="964"/>
                  </a:lnTo>
                  <a:lnTo>
                    <a:pt x="839" y="749"/>
                  </a:lnTo>
                  <a:lnTo>
                    <a:pt x="943" y="566"/>
                  </a:lnTo>
                  <a:lnTo>
                    <a:pt x="1028" y="426"/>
                  </a:lnTo>
                  <a:lnTo>
                    <a:pt x="1139" y="310"/>
                  </a:lnTo>
                  <a:lnTo>
                    <a:pt x="1241" y="206"/>
                  </a:lnTo>
                  <a:lnTo>
                    <a:pt x="1292" y="154"/>
                  </a:lnTo>
                  <a:lnTo>
                    <a:pt x="1300" y="89"/>
                  </a:lnTo>
                  <a:lnTo>
                    <a:pt x="1277" y="44"/>
                  </a:lnTo>
                  <a:lnTo>
                    <a:pt x="1241" y="7"/>
                  </a:lnTo>
                  <a:lnTo>
                    <a:pt x="1212" y="0"/>
                  </a:lnTo>
                  <a:lnTo>
                    <a:pt x="1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6" name=""/>
          <p:cNvGrpSpPr/>
          <p:nvPr/>
        </p:nvGrpSpPr>
        <p:grpSpPr>
          <a:xfrm>
            <a:off x="2643120" y="1644480"/>
            <a:ext cx="1749240" cy="1511640"/>
            <a:chOff x="2643120" y="1644480"/>
            <a:chExt cx="1749240" cy="1511640"/>
          </a:xfrm>
        </p:grpSpPr>
        <p:grpSp>
          <p:nvGrpSpPr>
            <p:cNvPr id="1297" name=""/>
            <p:cNvGrpSpPr/>
            <p:nvPr/>
          </p:nvGrpSpPr>
          <p:grpSpPr>
            <a:xfrm>
              <a:off x="2960640" y="1741680"/>
              <a:ext cx="1431720" cy="1414440"/>
              <a:chOff x="2960640" y="1741680"/>
              <a:chExt cx="1431720" cy="1414440"/>
            </a:xfrm>
          </p:grpSpPr>
          <p:sp>
            <p:nvSpPr>
              <p:cNvPr id="1298" name=""/>
              <p:cNvSpPr/>
              <p:nvPr/>
            </p:nvSpPr>
            <p:spPr>
              <a:xfrm>
                <a:off x="2960640" y="1741680"/>
                <a:ext cx="1428480" cy="1352520"/>
              </a:xfrm>
              <a:custGeom>
                <a:avLst/>
                <a:gdLst/>
                <a:ahLst/>
                <a:rect l="l" t="t" r="r" b="b"/>
                <a:pathLst>
                  <a:path w="1800" h="1704">
                    <a:moveTo>
                      <a:pt x="0" y="1161"/>
                    </a:moveTo>
                    <a:lnTo>
                      <a:pt x="353" y="867"/>
                    </a:lnTo>
                    <a:lnTo>
                      <a:pt x="488" y="709"/>
                    </a:lnTo>
                    <a:lnTo>
                      <a:pt x="810" y="433"/>
                    </a:lnTo>
                    <a:lnTo>
                      <a:pt x="1101" y="288"/>
                    </a:lnTo>
                    <a:lnTo>
                      <a:pt x="1521" y="70"/>
                    </a:lnTo>
                    <a:lnTo>
                      <a:pt x="1800" y="0"/>
                    </a:lnTo>
                    <a:lnTo>
                      <a:pt x="1772" y="94"/>
                    </a:lnTo>
                    <a:lnTo>
                      <a:pt x="1390" y="270"/>
                    </a:lnTo>
                    <a:lnTo>
                      <a:pt x="1260" y="401"/>
                    </a:lnTo>
                    <a:lnTo>
                      <a:pt x="1509" y="410"/>
                    </a:lnTo>
                    <a:lnTo>
                      <a:pt x="1439" y="512"/>
                    </a:lnTo>
                    <a:lnTo>
                      <a:pt x="1460" y="582"/>
                    </a:lnTo>
                    <a:lnTo>
                      <a:pt x="1439" y="652"/>
                    </a:lnTo>
                    <a:lnTo>
                      <a:pt x="1439" y="730"/>
                    </a:lnTo>
                    <a:lnTo>
                      <a:pt x="1380" y="830"/>
                    </a:lnTo>
                    <a:lnTo>
                      <a:pt x="1361" y="974"/>
                    </a:lnTo>
                    <a:lnTo>
                      <a:pt x="1270" y="1061"/>
                    </a:lnTo>
                    <a:lnTo>
                      <a:pt x="1125" y="1131"/>
                    </a:lnTo>
                    <a:lnTo>
                      <a:pt x="976" y="1118"/>
                    </a:lnTo>
                    <a:lnTo>
                      <a:pt x="637" y="1178"/>
                    </a:lnTo>
                    <a:lnTo>
                      <a:pt x="635" y="1180"/>
                    </a:lnTo>
                    <a:lnTo>
                      <a:pt x="631" y="1184"/>
                    </a:lnTo>
                    <a:lnTo>
                      <a:pt x="626" y="1187"/>
                    </a:lnTo>
                    <a:lnTo>
                      <a:pt x="623" y="1192"/>
                    </a:lnTo>
                    <a:lnTo>
                      <a:pt x="619" y="1196"/>
                    </a:lnTo>
                    <a:lnTo>
                      <a:pt x="614" y="1202"/>
                    </a:lnTo>
                    <a:lnTo>
                      <a:pt x="608" y="1207"/>
                    </a:lnTo>
                    <a:lnTo>
                      <a:pt x="601" y="1214"/>
                    </a:lnTo>
                    <a:lnTo>
                      <a:pt x="594" y="1220"/>
                    </a:lnTo>
                    <a:lnTo>
                      <a:pt x="588" y="1229"/>
                    </a:lnTo>
                    <a:lnTo>
                      <a:pt x="579" y="1236"/>
                    </a:lnTo>
                    <a:lnTo>
                      <a:pt x="571" y="1245"/>
                    </a:lnTo>
                    <a:lnTo>
                      <a:pt x="562" y="1254"/>
                    </a:lnTo>
                    <a:lnTo>
                      <a:pt x="555" y="1263"/>
                    </a:lnTo>
                    <a:lnTo>
                      <a:pt x="545" y="1273"/>
                    </a:lnTo>
                    <a:lnTo>
                      <a:pt x="534" y="1282"/>
                    </a:lnTo>
                    <a:lnTo>
                      <a:pt x="524" y="1293"/>
                    </a:lnTo>
                    <a:lnTo>
                      <a:pt x="515" y="1305"/>
                    </a:lnTo>
                    <a:lnTo>
                      <a:pt x="503" y="1315"/>
                    </a:lnTo>
                    <a:lnTo>
                      <a:pt x="493" y="1327"/>
                    </a:lnTo>
                    <a:lnTo>
                      <a:pt x="481" y="1339"/>
                    </a:lnTo>
                    <a:lnTo>
                      <a:pt x="469" y="1351"/>
                    </a:lnTo>
                    <a:lnTo>
                      <a:pt x="459" y="1361"/>
                    </a:lnTo>
                    <a:lnTo>
                      <a:pt x="447" y="1374"/>
                    </a:lnTo>
                    <a:lnTo>
                      <a:pt x="435" y="1386"/>
                    </a:lnTo>
                    <a:lnTo>
                      <a:pt x="423" y="1398"/>
                    </a:lnTo>
                    <a:lnTo>
                      <a:pt x="410" y="1411"/>
                    </a:lnTo>
                    <a:lnTo>
                      <a:pt x="398" y="1425"/>
                    </a:lnTo>
                    <a:lnTo>
                      <a:pt x="386" y="1437"/>
                    </a:lnTo>
                    <a:lnTo>
                      <a:pt x="374" y="1450"/>
                    </a:lnTo>
                    <a:lnTo>
                      <a:pt x="361" y="1462"/>
                    </a:lnTo>
                    <a:lnTo>
                      <a:pt x="349" y="1474"/>
                    </a:lnTo>
                    <a:lnTo>
                      <a:pt x="335" y="1486"/>
                    </a:lnTo>
                    <a:lnTo>
                      <a:pt x="323" y="1499"/>
                    </a:lnTo>
                    <a:lnTo>
                      <a:pt x="312" y="1511"/>
                    </a:lnTo>
                    <a:lnTo>
                      <a:pt x="300" y="1523"/>
                    </a:lnTo>
                    <a:lnTo>
                      <a:pt x="288" y="1535"/>
                    </a:lnTo>
                    <a:lnTo>
                      <a:pt x="277" y="1546"/>
                    </a:lnTo>
                    <a:lnTo>
                      <a:pt x="266" y="1558"/>
                    </a:lnTo>
                    <a:lnTo>
                      <a:pt x="254" y="1569"/>
                    </a:lnTo>
                    <a:lnTo>
                      <a:pt x="243" y="1581"/>
                    </a:lnTo>
                    <a:lnTo>
                      <a:pt x="233" y="1591"/>
                    </a:lnTo>
                    <a:lnTo>
                      <a:pt x="221" y="1601"/>
                    </a:lnTo>
                    <a:lnTo>
                      <a:pt x="212" y="1612"/>
                    </a:lnTo>
                    <a:lnTo>
                      <a:pt x="202" y="1621"/>
                    </a:lnTo>
                    <a:lnTo>
                      <a:pt x="193" y="1631"/>
                    </a:lnTo>
                    <a:lnTo>
                      <a:pt x="184" y="1640"/>
                    </a:lnTo>
                    <a:lnTo>
                      <a:pt x="175" y="1647"/>
                    </a:lnTo>
                    <a:lnTo>
                      <a:pt x="166" y="1655"/>
                    </a:lnTo>
                    <a:lnTo>
                      <a:pt x="159" y="1664"/>
                    </a:lnTo>
                    <a:lnTo>
                      <a:pt x="151" y="1670"/>
                    </a:lnTo>
                    <a:lnTo>
                      <a:pt x="144" y="1677"/>
                    </a:lnTo>
                    <a:lnTo>
                      <a:pt x="138" y="1681"/>
                    </a:lnTo>
                    <a:lnTo>
                      <a:pt x="134" y="1687"/>
                    </a:lnTo>
                    <a:lnTo>
                      <a:pt x="128" y="1692"/>
                    </a:lnTo>
                    <a:lnTo>
                      <a:pt x="123" y="1695"/>
                    </a:lnTo>
                    <a:lnTo>
                      <a:pt x="119" y="1698"/>
                    </a:lnTo>
                    <a:lnTo>
                      <a:pt x="117" y="1701"/>
                    </a:lnTo>
                    <a:lnTo>
                      <a:pt x="113" y="1704"/>
                    </a:lnTo>
                    <a:lnTo>
                      <a:pt x="111" y="1704"/>
                    </a:lnTo>
                    <a:lnTo>
                      <a:pt x="111" y="1701"/>
                    </a:lnTo>
                    <a:lnTo>
                      <a:pt x="111" y="1699"/>
                    </a:lnTo>
                    <a:lnTo>
                      <a:pt x="110" y="1696"/>
                    </a:lnTo>
                    <a:lnTo>
                      <a:pt x="110" y="1693"/>
                    </a:lnTo>
                    <a:lnTo>
                      <a:pt x="108" y="1689"/>
                    </a:lnTo>
                    <a:lnTo>
                      <a:pt x="107" y="1684"/>
                    </a:lnTo>
                    <a:lnTo>
                      <a:pt x="107" y="1678"/>
                    </a:lnTo>
                    <a:lnTo>
                      <a:pt x="105" y="1673"/>
                    </a:lnTo>
                    <a:lnTo>
                      <a:pt x="104" y="1667"/>
                    </a:lnTo>
                    <a:lnTo>
                      <a:pt x="102" y="1659"/>
                    </a:lnTo>
                    <a:lnTo>
                      <a:pt x="101" y="1652"/>
                    </a:lnTo>
                    <a:lnTo>
                      <a:pt x="99" y="1644"/>
                    </a:lnTo>
                    <a:lnTo>
                      <a:pt x="98" y="1635"/>
                    </a:lnTo>
                    <a:lnTo>
                      <a:pt x="96" y="1628"/>
                    </a:lnTo>
                    <a:lnTo>
                      <a:pt x="95" y="1618"/>
                    </a:lnTo>
                    <a:lnTo>
                      <a:pt x="93" y="1609"/>
                    </a:lnTo>
                    <a:lnTo>
                      <a:pt x="91" y="1598"/>
                    </a:lnTo>
                    <a:lnTo>
                      <a:pt x="89" y="1588"/>
                    </a:lnTo>
                    <a:lnTo>
                      <a:pt x="86" y="1578"/>
                    </a:lnTo>
                    <a:lnTo>
                      <a:pt x="85" y="1567"/>
                    </a:lnTo>
                    <a:lnTo>
                      <a:pt x="82" y="1555"/>
                    </a:lnTo>
                    <a:lnTo>
                      <a:pt x="79" y="1545"/>
                    </a:lnTo>
                    <a:lnTo>
                      <a:pt x="77" y="1533"/>
                    </a:lnTo>
                    <a:lnTo>
                      <a:pt x="74" y="1521"/>
                    </a:lnTo>
                    <a:lnTo>
                      <a:pt x="71" y="1509"/>
                    </a:lnTo>
                    <a:lnTo>
                      <a:pt x="70" y="1496"/>
                    </a:lnTo>
                    <a:lnTo>
                      <a:pt x="67" y="1484"/>
                    </a:lnTo>
                    <a:lnTo>
                      <a:pt x="65" y="1472"/>
                    </a:lnTo>
                    <a:lnTo>
                      <a:pt x="62" y="1460"/>
                    </a:lnTo>
                    <a:lnTo>
                      <a:pt x="59" y="1447"/>
                    </a:lnTo>
                    <a:lnTo>
                      <a:pt x="56" y="1435"/>
                    </a:lnTo>
                    <a:lnTo>
                      <a:pt x="55" y="1423"/>
                    </a:lnTo>
                    <a:lnTo>
                      <a:pt x="52" y="1410"/>
                    </a:lnTo>
                    <a:lnTo>
                      <a:pt x="49" y="1398"/>
                    </a:lnTo>
                    <a:lnTo>
                      <a:pt x="46" y="1386"/>
                    </a:lnTo>
                    <a:lnTo>
                      <a:pt x="45" y="1373"/>
                    </a:lnTo>
                    <a:lnTo>
                      <a:pt x="40" y="1361"/>
                    </a:lnTo>
                    <a:lnTo>
                      <a:pt x="39" y="1349"/>
                    </a:lnTo>
                    <a:lnTo>
                      <a:pt x="36" y="1337"/>
                    </a:lnTo>
                    <a:lnTo>
                      <a:pt x="34" y="1325"/>
                    </a:lnTo>
                    <a:lnTo>
                      <a:pt x="31" y="1313"/>
                    </a:lnTo>
                    <a:lnTo>
                      <a:pt x="30" y="1303"/>
                    </a:lnTo>
                    <a:lnTo>
                      <a:pt x="27" y="1291"/>
                    </a:lnTo>
                    <a:lnTo>
                      <a:pt x="25" y="1281"/>
                    </a:lnTo>
                    <a:lnTo>
                      <a:pt x="22" y="1270"/>
                    </a:lnTo>
                    <a:lnTo>
                      <a:pt x="21" y="1260"/>
                    </a:lnTo>
                    <a:lnTo>
                      <a:pt x="18" y="1251"/>
                    </a:lnTo>
                    <a:lnTo>
                      <a:pt x="16" y="1241"/>
                    </a:lnTo>
                    <a:lnTo>
                      <a:pt x="15" y="1232"/>
                    </a:lnTo>
                    <a:lnTo>
                      <a:pt x="12" y="1223"/>
                    </a:lnTo>
                    <a:lnTo>
                      <a:pt x="10" y="1214"/>
                    </a:lnTo>
                    <a:lnTo>
                      <a:pt x="9" y="1207"/>
                    </a:lnTo>
                    <a:lnTo>
                      <a:pt x="7" y="1199"/>
                    </a:lnTo>
                    <a:lnTo>
                      <a:pt x="6" y="1193"/>
                    </a:lnTo>
                    <a:lnTo>
                      <a:pt x="4" y="1187"/>
                    </a:lnTo>
                    <a:lnTo>
                      <a:pt x="3" y="1181"/>
                    </a:lnTo>
                    <a:lnTo>
                      <a:pt x="1" y="1177"/>
                    </a:lnTo>
                    <a:lnTo>
                      <a:pt x="1" y="1172"/>
                    </a:lnTo>
                    <a:lnTo>
                      <a:pt x="0" y="1168"/>
                    </a:lnTo>
                    <a:lnTo>
                      <a:pt x="0" y="1165"/>
                    </a:lnTo>
                    <a:lnTo>
                      <a:pt x="0" y="1161"/>
                    </a:lnTo>
                    <a:lnTo>
                      <a:pt x="0" y="1161"/>
                    </a:lnTo>
                    <a:lnTo>
                      <a:pt x="0" y="1161"/>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984400" y="1773360"/>
                <a:ext cx="1400040" cy="1380960"/>
              </a:xfrm>
              <a:custGeom>
                <a:avLst/>
                <a:gdLst/>
                <a:ahLst/>
                <a:rect l="l" t="t" r="r" b="b"/>
                <a:pathLst>
                  <a:path w="1764" h="1739">
                    <a:moveTo>
                      <a:pt x="0" y="1276"/>
                    </a:moveTo>
                    <a:lnTo>
                      <a:pt x="0" y="1275"/>
                    </a:lnTo>
                    <a:lnTo>
                      <a:pt x="1" y="1273"/>
                    </a:lnTo>
                    <a:lnTo>
                      <a:pt x="3" y="1270"/>
                    </a:lnTo>
                    <a:lnTo>
                      <a:pt x="7" y="1267"/>
                    </a:lnTo>
                    <a:lnTo>
                      <a:pt x="10" y="1262"/>
                    </a:lnTo>
                    <a:lnTo>
                      <a:pt x="16" y="1257"/>
                    </a:lnTo>
                    <a:lnTo>
                      <a:pt x="17" y="1253"/>
                    </a:lnTo>
                    <a:lnTo>
                      <a:pt x="20" y="1250"/>
                    </a:lnTo>
                    <a:lnTo>
                      <a:pt x="23" y="1245"/>
                    </a:lnTo>
                    <a:lnTo>
                      <a:pt x="28" y="1242"/>
                    </a:lnTo>
                    <a:lnTo>
                      <a:pt x="31" y="1238"/>
                    </a:lnTo>
                    <a:lnTo>
                      <a:pt x="34" y="1235"/>
                    </a:lnTo>
                    <a:lnTo>
                      <a:pt x="37" y="1230"/>
                    </a:lnTo>
                    <a:lnTo>
                      <a:pt x="41" y="1226"/>
                    </a:lnTo>
                    <a:lnTo>
                      <a:pt x="44" y="1220"/>
                    </a:lnTo>
                    <a:lnTo>
                      <a:pt x="49" y="1216"/>
                    </a:lnTo>
                    <a:lnTo>
                      <a:pt x="53" y="1211"/>
                    </a:lnTo>
                    <a:lnTo>
                      <a:pt x="58" y="1205"/>
                    </a:lnTo>
                    <a:lnTo>
                      <a:pt x="62" y="1201"/>
                    </a:lnTo>
                    <a:lnTo>
                      <a:pt x="66" y="1195"/>
                    </a:lnTo>
                    <a:lnTo>
                      <a:pt x="71" y="1189"/>
                    </a:lnTo>
                    <a:lnTo>
                      <a:pt x="77" y="1184"/>
                    </a:lnTo>
                    <a:lnTo>
                      <a:pt x="81" y="1178"/>
                    </a:lnTo>
                    <a:lnTo>
                      <a:pt x="86" y="1173"/>
                    </a:lnTo>
                    <a:lnTo>
                      <a:pt x="92" y="1167"/>
                    </a:lnTo>
                    <a:lnTo>
                      <a:pt x="96" y="1162"/>
                    </a:lnTo>
                    <a:lnTo>
                      <a:pt x="102" y="1155"/>
                    </a:lnTo>
                    <a:lnTo>
                      <a:pt x="107" y="1149"/>
                    </a:lnTo>
                    <a:lnTo>
                      <a:pt x="112" y="1143"/>
                    </a:lnTo>
                    <a:lnTo>
                      <a:pt x="118" y="1137"/>
                    </a:lnTo>
                    <a:lnTo>
                      <a:pt x="123" y="1129"/>
                    </a:lnTo>
                    <a:lnTo>
                      <a:pt x="129" y="1124"/>
                    </a:lnTo>
                    <a:lnTo>
                      <a:pt x="135" y="1118"/>
                    </a:lnTo>
                    <a:lnTo>
                      <a:pt x="141" y="1110"/>
                    </a:lnTo>
                    <a:lnTo>
                      <a:pt x="147" y="1104"/>
                    </a:lnTo>
                    <a:lnTo>
                      <a:pt x="153" y="1098"/>
                    </a:lnTo>
                    <a:lnTo>
                      <a:pt x="157" y="1091"/>
                    </a:lnTo>
                    <a:lnTo>
                      <a:pt x="163" y="1085"/>
                    </a:lnTo>
                    <a:lnTo>
                      <a:pt x="169" y="1078"/>
                    </a:lnTo>
                    <a:lnTo>
                      <a:pt x="175" y="1072"/>
                    </a:lnTo>
                    <a:lnTo>
                      <a:pt x="182" y="1064"/>
                    </a:lnTo>
                    <a:lnTo>
                      <a:pt x="188" y="1060"/>
                    </a:lnTo>
                    <a:lnTo>
                      <a:pt x="193" y="1052"/>
                    </a:lnTo>
                    <a:lnTo>
                      <a:pt x="200" y="1046"/>
                    </a:lnTo>
                    <a:lnTo>
                      <a:pt x="206" y="1039"/>
                    </a:lnTo>
                    <a:lnTo>
                      <a:pt x="212" y="1033"/>
                    </a:lnTo>
                    <a:lnTo>
                      <a:pt x="218" y="1027"/>
                    </a:lnTo>
                    <a:lnTo>
                      <a:pt x="224" y="1021"/>
                    </a:lnTo>
                    <a:lnTo>
                      <a:pt x="230" y="1015"/>
                    </a:lnTo>
                    <a:lnTo>
                      <a:pt x="236" y="1009"/>
                    </a:lnTo>
                    <a:lnTo>
                      <a:pt x="242" y="1003"/>
                    </a:lnTo>
                    <a:lnTo>
                      <a:pt x="247" y="997"/>
                    </a:lnTo>
                    <a:lnTo>
                      <a:pt x="252" y="991"/>
                    </a:lnTo>
                    <a:lnTo>
                      <a:pt x="259" y="986"/>
                    </a:lnTo>
                    <a:lnTo>
                      <a:pt x="264" y="981"/>
                    </a:lnTo>
                    <a:lnTo>
                      <a:pt x="271" y="975"/>
                    </a:lnTo>
                    <a:lnTo>
                      <a:pt x="276" y="971"/>
                    </a:lnTo>
                    <a:lnTo>
                      <a:pt x="282" y="966"/>
                    </a:lnTo>
                    <a:lnTo>
                      <a:pt x="288" y="960"/>
                    </a:lnTo>
                    <a:lnTo>
                      <a:pt x="293" y="956"/>
                    </a:lnTo>
                    <a:lnTo>
                      <a:pt x="298" y="950"/>
                    </a:lnTo>
                    <a:lnTo>
                      <a:pt x="304" y="945"/>
                    </a:lnTo>
                    <a:lnTo>
                      <a:pt x="308" y="941"/>
                    </a:lnTo>
                    <a:lnTo>
                      <a:pt x="313" y="937"/>
                    </a:lnTo>
                    <a:lnTo>
                      <a:pt x="319" y="934"/>
                    </a:lnTo>
                    <a:lnTo>
                      <a:pt x="323" y="929"/>
                    </a:lnTo>
                    <a:lnTo>
                      <a:pt x="328" y="925"/>
                    </a:lnTo>
                    <a:lnTo>
                      <a:pt x="334" y="920"/>
                    </a:lnTo>
                    <a:lnTo>
                      <a:pt x="338" y="917"/>
                    </a:lnTo>
                    <a:lnTo>
                      <a:pt x="342" y="914"/>
                    </a:lnTo>
                    <a:lnTo>
                      <a:pt x="347" y="910"/>
                    </a:lnTo>
                    <a:lnTo>
                      <a:pt x="353" y="907"/>
                    </a:lnTo>
                    <a:lnTo>
                      <a:pt x="357" y="902"/>
                    </a:lnTo>
                    <a:lnTo>
                      <a:pt x="362" y="901"/>
                    </a:lnTo>
                    <a:lnTo>
                      <a:pt x="365" y="897"/>
                    </a:lnTo>
                    <a:lnTo>
                      <a:pt x="369" y="894"/>
                    </a:lnTo>
                    <a:lnTo>
                      <a:pt x="374" y="891"/>
                    </a:lnTo>
                    <a:lnTo>
                      <a:pt x="378" y="889"/>
                    </a:lnTo>
                    <a:lnTo>
                      <a:pt x="383" y="886"/>
                    </a:lnTo>
                    <a:lnTo>
                      <a:pt x="387" y="883"/>
                    </a:lnTo>
                    <a:lnTo>
                      <a:pt x="390" y="880"/>
                    </a:lnTo>
                    <a:lnTo>
                      <a:pt x="394" y="879"/>
                    </a:lnTo>
                    <a:lnTo>
                      <a:pt x="397" y="877"/>
                    </a:lnTo>
                    <a:lnTo>
                      <a:pt x="402" y="874"/>
                    </a:lnTo>
                    <a:lnTo>
                      <a:pt x="405" y="873"/>
                    </a:lnTo>
                    <a:lnTo>
                      <a:pt x="409" y="870"/>
                    </a:lnTo>
                    <a:lnTo>
                      <a:pt x="412" y="868"/>
                    </a:lnTo>
                    <a:lnTo>
                      <a:pt x="415" y="867"/>
                    </a:lnTo>
                    <a:lnTo>
                      <a:pt x="418" y="865"/>
                    </a:lnTo>
                    <a:lnTo>
                      <a:pt x="423" y="864"/>
                    </a:lnTo>
                    <a:lnTo>
                      <a:pt x="429" y="859"/>
                    </a:lnTo>
                    <a:lnTo>
                      <a:pt x="433" y="858"/>
                    </a:lnTo>
                    <a:lnTo>
                      <a:pt x="439" y="855"/>
                    </a:lnTo>
                    <a:lnTo>
                      <a:pt x="443" y="853"/>
                    </a:lnTo>
                    <a:lnTo>
                      <a:pt x="448" y="851"/>
                    </a:lnTo>
                    <a:lnTo>
                      <a:pt x="454" y="849"/>
                    </a:lnTo>
                    <a:lnTo>
                      <a:pt x="457" y="848"/>
                    </a:lnTo>
                    <a:lnTo>
                      <a:pt x="461" y="846"/>
                    </a:lnTo>
                    <a:lnTo>
                      <a:pt x="466" y="845"/>
                    </a:lnTo>
                    <a:lnTo>
                      <a:pt x="472" y="843"/>
                    </a:lnTo>
                    <a:lnTo>
                      <a:pt x="473" y="843"/>
                    </a:lnTo>
                    <a:lnTo>
                      <a:pt x="474" y="843"/>
                    </a:lnTo>
                    <a:lnTo>
                      <a:pt x="474" y="842"/>
                    </a:lnTo>
                    <a:lnTo>
                      <a:pt x="476" y="839"/>
                    </a:lnTo>
                    <a:lnTo>
                      <a:pt x="476" y="836"/>
                    </a:lnTo>
                    <a:lnTo>
                      <a:pt x="476" y="833"/>
                    </a:lnTo>
                    <a:lnTo>
                      <a:pt x="477" y="830"/>
                    </a:lnTo>
                    <a:lnTo>
                      <a:pt x="479" y="827"/>
                    </a:lnTo>
                    <a:lnTo>
                      <a:pt x="479" y="822"/>
                    </a:lnTo>
                    <a:lnTo>
                      <a:pt x="480" y="818"/>
                    </a:lnTo>
                    <a:lnTo>
                      <a:pt x="482" y="813"/>
                    </a:lnTo>
                    <a:lnTo>
                      <a:pt x="485" y="809"/>
                    </a:lnTo>
                    <a:lnTo>
                      <a:pt x="486" y="803"/>
                    </a:lnTo>
                    <a:lnTo>
                      <a:pt x="488" y="797"/>
                    </a:lnTo>
                    <a:lnTo>
                      <a:pt x="491" y="791"/>
                    </a:lnTo>
                    <a:lnTo>
                      <a:pt x="494" y="785"/>
                    </a:lnTo>
                    <a:lnTo>
                      <a:pt x="495" y="782"/>
                    </a:lnTo>
                    <a:lnTo>
                      <a:pt x="495" y="778"/>
                    </a:lnTo>
                    <a:lnTo>
                      <a:pt x="497" y="775"/>
                    </a:lnTo>
                    <a:lnTo>
                      <a:pt x="500" y="772"/>
                    </a:lnTo>
                    <a:lnTo>
                      <a:pt x="500" y="767"/>
                    </a:lnTo>
                    <a:lnTo>
                      <a:pt x="503" y="764"/>
                    </a:lnTo>
                    <a:lnTo>
                      <a:pt x="504" y="760"/>
                    </a:lnTo>
                    <a:lnTo>
                      <a:pt x="506" y="757"/>
                    </a:lnTo>
                    <a:lnTo>
                      <a:pt x="507" y="753"/>
                    </a:lnTo>
                    <a:lnTo>
                      <a:pt x="510" y="750"/>
                    </a:lnTo>
                    <a:lnTo>
                      <a:pt x="512" y="745"/>
                    </a:lnTo>
                    <a:lnTo>
                      <a:pt x="513" y="742"/>
                    </a:lnTo>
                    <a:lnTo>
                      <a:pt x="515" y="738"/>
                    </a:lnTo>
                    <a:lnTo>
                      <a:pt x="518" y="733"/>
                    </a:lnTo>
                    <a:lnTo>
                      <a:pt x="520" y="730"/>
                    </a:lnTo>
                    <a:lnTo>
                      <a:pt x="523" y="726"/>
                    </a:lnTo>
                    <a:lnTo>
                      <a:pt x="525" y="721"/>
                    </a:lnTo>
                    <a:lnTo>
                      <a:pt x="528" y="718"/>
                    </a:lnTo>
                    <a:lnTo>
                      <a:pt x="529" y="714"/>
                    </a:lnTo>
                    <a:lnTo>
                      <a:pt x="534" y="710"/>
                    </a:lnTo>
                    <a:lnTo>
                      <a:pt x="535" y="705"/>
                    </a:lnTo>
                    <a:lnTo>
                      <a:pt x="538" y="702"/>
                    </a:lnTo>
                    <a:lnTo>
                      <a:pt x="541" y="698"/>
                    </a:lnTo>
                    <a:lnTo>
                      <a:pt x="544" y="693"/>
                    </a:lnTo>
                    <a:lnTo>
                      <a:pt x="547" y="689"/>
                    </a:lnTo>
                    <a:lnTo>
                      <a:pt x="550" y="684"/>
                    </a:lnTo>
                    <a:lnTo>
                      <a:pt x="553" y="680"/>
                    </a:lnTo>
                    <a:lnTo>
                      <a:pt x="558" y="677"/>
                    </a:lnTo>
                    <a:lnTo>
                      <a:pt x="561" y="672"/>
                    </a:lnTo>
                    <a:lnTo>
                      <a:pt x="565" y="668"/>
                    </a:lnTo>
                    <a:lnTo>
                      <a:pt x="568" y="664"/>
                    </a:lnTo>
                    <a:lnTo>
                      <a:pt x="572" y="659"/>
                    </a:lnTo>
                    <a:lnTo>
                      <a:pt x="575" y="655"/>
                    </a:lnTo>
                    <a:lnTo>
                      <a:pt x="578" y="650"/>
                    </a:lnTo>
                    <a:lnTo>
                      <a:pt x="583" y="646"/>
                    </a:lnTo>
                    <a:lnTo>
                      <a:pt x="587" y="641"/>
                    </a:lnTo>
                    <a:lnTo>
                      <a:pt x="590" y="637"/>
                    </a:lnTo>
                    <a:lnTo>
                      <a:pt x="595" y="632"/>
                    </a:lnTo>
                    <a:lnTo>
                      <a:pt x="599" y="628"/>
                    </a:lnTo>
                    <a:lnTo>
                      <a:pt x="605" y="623"/>
                    </a:lnTo>
                    <a:lnTo>
                      <a:pt x="608" y="619"/>
                    </a:lnTo>
                    <a:lnTo>
                      <a:pt x="614" y="615"/>
                    </a:lnTo>
                    <a:lnTo>
                      <a:pt x="618" y="610"/>
                    </a:lnTo>
                    <a:lnTo>
                      <a:pt x="623" y="606"/>
                    </a:lnTo>
                    <a:lnTo>
                      <a:pt x="627" y="600"/>
                    </a:lnTo>
                    <a:lnTo>
                      <a:pt x="633" y="595"/>
                    </a:lnTo>
                    <a:lnTo>
                      <a:pt x="638" y="591"/>
                    </a:lnTo>
                    <a:lnTo>
                      <a:pt x="644" y="586"/>
                    </a:lnTo>
                    <a:lnTo>
                      <a:pt x="650" y="582"/>
                    </a:lnTo>
                    <a:lnTo>
                      <a:pt x="654" y="576"/>
                    </a:lnTo>
                    <a:lnTo>
                      <a:pt x="660" y="572"/>
                    </a:lnTo>
                    <a:lnTo>
                      <a:pt x="666" y="567"/>
                    </a:lnTo>
                    <a:lnTo>
                      <a:pt x="672" y="563"/>
                    </a:lnTo>
                    <a:lnTo>
                      <a:pt x="676" y="558"/>
                    </a:lnTo>
                    <a:lnTo>
                      <a:pt x="682" y="552"/>
                    </a:lnTo>
                    <a:lnTo>
                      <a:pt x="688" y="549"/>
                    </a:lnTo>
                    <a:lnTo>
                      <a:pt x="694" y="543"/>
                    </a:lnTo>
                    <a:lnTo>
                      <a:pt x="699" y="539"/>
                    </a:lnTo>
                    <a:lnTo>
                      <a:pt x="704" y="534"/>
                    </a:lnTo>
                    <a:lnTo>
                      <a:pt x="710" y="530"/>
                    </a:lnTo>
                    <a:lnTo>
                      <a:pt x="716" y="526"/>
                    </a:lnTo>
                    <a:lnTo>
                      <a:pt x="722" y="521"/>
                    </a:lnTo>
                    <a:lnTo>
                      <a:pt x="728" y="515"/>
                    </a:lnTo>
                    <a:lnTo>
                      <a:pt x="736" y="511"/>
                    </a:lnTo>
                    <a:lnTo>
                      <a:pt x="740" y="506"/>
                    </a:lnTo>
                    <a:lnTo>
                      <a:pt x="746" y="502"/>
                    </a:lnTo>
                    <a:lnTo>
                      <a:pt x="752" y="497"/>
                    </a:lnTo>
                    <a:lnTo>
                      <a:pt x="758" y="493"/>
                    </a:lnTo>
                    <a:lnTo>
                      <a:pt x="764" y="488"/>
                    </a:lnTo>
                    <a:lnTo>
                      <a:pt x="770" y="484"/>
                    </a:lnTo>
                    <a:lnTo>
                      <a:pt x="776" y="478"/>
                    </a:lnTo>
                    <a:lnTo>
                      <a:pt x="783" y="475"/>
                    </a:lnTo>
                    <a:lnTo>
                      <a:pt x="788" y="469"/>
                    </a:lnTo>
                    <a:lnTo>
                      <a:pt x="795" y="466"/>
                    </a:lnTo>
                    <a:lnTo>
                      <a:pt x="799" y="462"/>
                    </a:lnTo>
                    <a:lnTo>
                      <a:pt x="805" y="457"/>
                    </a:lnTo>
                    <a:lnTo>
                      <a:pt x="811" y="453"/>
                    </a:lnTo>
                    <a:lnTo>
                      <a:pt x="817" y="448"/>
                    </a:lnTo>
                    <a:lnTo>
                      <a:pt x="825" y="444"/>
                    </a:lnTo>
                    <a:lnTo>
                      <a:pt x="831" y="441"/>
                    </a:lnTo>
                    <a:lnTo>
                      <a:pt x="835" y="437"/>
                    </a:lnTo>
                    <a:lnTo>
                      <a:pt x="841" y="432"/>
                    </a:lnTo>
                    <a:lnTo>
                      <a:pt x="847" y="428"/>
                    </a:lnTo>
                    <a:lnTo>
                      <a:pt x="853" y="425"/>
                    </a:lnTo>
                    <a:lnTo>
                      <a:pt x="857" y="420"/>
                    </a:lnTo>
                    <a:lnTo>
                      <a:pt x="863" y="417"/>
                    </a:lnTo>
                    <a:lnTo>
                      <a:pt x="869" y="413"/>
                    </a:lnTo>
                    <a:lnTo>
                      <a:pt x="875" y="410"/>
                    </a:lnTo>
                    <a:lnTo>
                      <a:pt x="881" y="405"/>
                    </a:lnTo>
                    <a:lnTo>
                      <a:pt x="886" y="402"/>
                    </a:lnTo>
                    <a:lnTo>
                      <a:pt x="891" y="398"/>
                    </a:lnTo>
                    <a:lnTo>
                      <a:pt x="896" y="395"/>
                    </a:lnTo>
                    <a:lnTo>
                      <a:pt x="902" y="391"/>
                    </a:lnTo>
                    <a:lnTo>
                      <a:pt x="906" y="388"/>
                    </a:lnTo>
                    <a:lnTo>
                      <a:pt x="911" y="385"/>
                    </a:lnTo>
                    <a:lnTo>
                      <a:pt x="917" y="383"/>
                    </a:lnTo>
                    <a:lnTo>
                      <a:pt x="921" y="379"/>
                    </a:lnTo>
                    <a:lnTo>
                      <a:pt x="926" y="376"/>
                    </a:lnTo>
                    <a:lnTo>
                      <a:pt x="930" y="373"/>
                    </a:lnTo>
                    <a:lnTo>
                      <a:pt x="936" y="368"/>
                    </a:lnTo>
                    <a:lnTo>
                      <a:pt x="940" y="365"/>
                    </a:lnTo>
                    <a:lnTo>
                      <a:pt x="943" y="364"/>
                    </a:lnTo>
                    <a:lnTo>
                      <a:pt x="948" y="361"/>
                    </a:lnTo>
                    <a:lnTo>
                      <a:pt x="954" y="358"/>
                    </a:lnTo>
                    <a:lnTo>
                      <a:pt x="957" y="355"/>
                    </a:lnTo>
                    <a:lnTo>
                      <a:pt x="961" y="352"/>
                    </a:lnTo>
                    <a:lnTo>
                      <a:pt x="966" y="349"/>
                    </a:lnTo>
                    <a:lnTo>
                      <a:pt x="970" y="346"/>
                    </a:lnTo>
                    <a:lnTo>
                      <a:pt x="973" y="345"/>
                    </a:lnTo>
                    <a:lnTo>
                      <a:pt x="978" y="342"/>
                    </a:lnTo>
                    <a:lnTo>
                      <a:pt x="982" y="339"/>
                    </a:lnTo>
                    <a:lnTo>
                      <a:pt x="986" y="337"/>
                    </a:lnTo>
                    <a:lnTo>
                      <a:pt x="991" y="334"/>
                    </a:lnTo>
                    <a:lnTo>
                      <a:pt x="994" y="331"/>
                    </a:lnTo>
                    <a:lnTo>
                      <a:pt x="998" y="330"/>
                    </a:lnTo>
                    <a:lnTo>
                      <a:pt x="1003" y="327"/>
                    </a:lnTo>
                    <a:lnTo>
                      <a:pt x="1006" y="325"/>
                    </a:lnTo>
                    <a:lnTo>
                      <a:pt x="1010" y="322"/>
                    </a:lnTo>
                    <a:lnTo>
                      <a:pt x="1015" y="321"/>
                    </a:lnTo>
                    <a:lnTo>
                      <a:pt x="1019" y="319"/>
                    </a:lnTo>
                    <a:lnTo>
                      <a:pt x="1022" y="316"/>
                    </a:lnTo>
                    <a:lnTo>
                      <a:pt x="1026" y="313"/>
                    </a:lnTo>
                    <a:lnTo>
                      <a:pt x="1029" y="312"/>
                    </a:lnTo>
                    <a:lnTo>
                      <a:pt x="1034" y="309"/>
                    </a:lnTo>
                    <a:lnTo>
                      <a:pt x="1038" y="307"/>
                    </a:lnTo>
                    <a:lnTo>
                      <a:pt x="1043" y="304"/>
                    </a:lnTo>
                    <a:lnTo>
                      <a:pt x="1047" y="303"/>
                    </a:lnTo>
                    <a:lnTo>
                      <a:pt x="1052" y="301"/>
                    </a:lnTo>
                    <a:lnTo>
                      <a:pt x="1055" y="299"/>
                    </a:lnTo>
                    <a:lnTo>
                      <a:pt x="1059" y="297"/>
                    </a:lnTo>
                    <a:lnTo>
                      <a:pt x="1064" y="294"/>
                    </a:lnTo>
                    <a:lnTo>
                      <a:pt x="1067" y="293"/>
                    </a:lnTo>
                    <a:lnTo>
                      <a:pt x="1071" y="290"/>
                    </a:lnTo>
                    <a:lnTo>
                      <a:pt x="1075" y="288"/>
                    </a:lnTo>
                    <a:lnTo>
                      <a:pt x="1080" y="285"/>
                    </a:lnTo>
                    <a:lnTo>
                      <a:pt x="1086" y="284"/>
                    </a:lnTo>
                    <a:lnTo>
                      <a:pt x="1090" y="281"/>
                    </a:lnTo>
                    <a:lnTo>
                      <a:pt x="1095" y="278"/>
                    </a:lnTo>
                    <a:lnTo>
                      <a:pt x="1099" y="276"/>
                    </a:lnTo>
                    <a:lnTo>
                      <a:pt x="1104" y="275"/>
                    </a:lnTo>
                    <a:lnTo>
                      <a:pt x="1108" y="272"/>
                    </a:lnTo>
                    <a:lnTo>
                      <a:pt x="1114" y="269"/>
                    </a:lnTo>
                    <a:lnTo>
                      <a:pt x="1120" y="266"/>
                    </a:lnTo>
                    <a:lnTo>
                      <a:pt x="1124" y="264"/>
                    </a:lnTo>
                    <a:lnTo>
                      <a:pt x="1130" y="261"/>
                    </a:lnTo>
                    <a:lnTo>
                      <a:pt x="1135" y="258"/>
                    </a:lnTo>
                    <a:lnTo>
                      <a:pt x="1141" y="255"/>
                    </a:lnTo>
                    <a:lnTo>
                      <a:pt x="1147" y="254"/>
                    </a:lnTo>
                    <a:lnTo>
                      <a:pt x="1153" y="251"/>
                    </a:lnTo>
                    <a:lnTo>
                      <a:pt x="1157" y="248"/>
                    </a:lnTo>
                    <a:lnTo>
                      <a:pt x="1164" y="245"/>
                    </a:lnTo>
                    <a:lnTo>
                      <a:pt x="1170" y="242"/>
                    </a:lnTo>
                    <a:lnTo>
                      <a:pt x="1176" y="239"/>
                    </a:lnTo>
                    <a:lnTo>
                      <a:pt x="1184" y="236"/>
                    </a:lnTo>
                    <a:lnTo>
                      <a:pt x="1190" y="233"/>
                    </a:lnTo>
                    <a:lnTo>
                      <a:pt x="1197" y="230"/>
                    </a:lnTo>
                    <a:lnTo>
                      <a:pt x="1205" y="226"/>
                    </a:lnTo>
                    <a:lnTo>
                      <a:pt x="1210" y="223"/>
                    </a:lnTo>
                    <a:lnTo>
                      <a:pt x="1218" y="220"/>
                    </a:lnTo>
                    <a:lnTo>
                      <a:pt x="1227" y="217"/>
                    </a:lnTo>
                    <a:lnTo>
                      <a:pt x="1234" y="212"/>
                    </a:lnTo>
                    <a:lnTo>
                      <a:pt x="1242" y="209"/>
                    </a:lnTo>
                    <a:lnTo>
                      <a:pt x="1249" y="205"/>
                    </a:lnTo>
                    <a:lnTo>
                      <a:pt x="1258" y="202"/>
                    </a:lnTo>
                    <a:lnTo>
                      <a:pt x="1265" y="198"/>
                    </a:lnTo>
                    <a:lnTo>
                      <a:pt x="1273" y="193"/>
                    </a:lnTo>
                    <a:lnTo>
                      <a:pt x="1282" y="189"/>
                    </a:lnTo>
                    <a:lnTo>
                      <a:pt x="1292" y="186"/>
                    </a:lnTo>
                    <a:lnTo>
                      <a:pt x="1300" y="181"/>
                    </a:lnTo>
                    <a:lnTo>
                      <a:pt x="1308" y="177"/>
                    </a:lnTo>
                    <a:lnTo>
                      <a:pt x="1317" y="172"/>
                    </a:lnTo>
                    <a:lnTo>
                      <a:pt x="1326" y="168"/>
                    </a:lnTo>
                    <a:lnTo>
                      <a:pt x="1335" y="163"/>
                    </a:lnTo>
                    <a:lnTo>
                      <a:pt x="1344" y="159"/>
                    </a:lnTo>
                    <a:lnTo>
                      <a:pt x="1354" y="155"/>
                    </a:lnTo>
                    <a:lnTo>
                      <a:pt x="1363" y="152"/>
                    </a:lnTo>
                    <a:lnTo>
                      <a:pt x="1374" y="146"/>
                    </a:lnTo>
                    <a:lnTo>
                      <a:pt x="1383" y="143"/>
                    </a:lnTo>
                    <a:lnTo>
                      <a:pt x="1391" y="137"/>
                    </a:lnTo>
                    <a:lnTo>
                      <a:pt x="1400" y="134"/>
                    </a:lnTo>
                    <a:lnTo>
                      <a:pt x="1411" y="128"/>
                    </a:lnTo>
                    <a:lnTo>
                      <a:pt x="1420" y="123"/>
                    </a:lnTo>
                    <a:lnTo>
                      <a:pt x="1430" y="119"/>
                    </a:lnTo>
                    <a:lnTo>
                      <a:pt x="1439" y="116"/>
                    </a:lnTo>
                    <a:lnTo>
                      <a:pt x="1449" y="110"/>
                    </a:lnTo>
                    <a:lnTo>
                      <a:pt x="1458" y="107"/>
                    </a:lnTo>
                    <a:lnTo>
                      <a:pt x="1467" y="101"/>
                    </a:lnTo>
                    <a:lnTo>
                      <a:pt x="1478" y="98"/>
                    </a:lnTo>
                    <a:lnTo>
                      <a:pt x="1486" y="94"/>
                    </a:lnTo>
                    <a:lnTo>
                      <a:pt x="1497" y="89"/>
                    </a:lnTo>
                    <a:lnTo>
                      <a:pt x="1506" y="86"/>
                    </a:lnTo>
                    <a:lnTo>
                      <a:pt x="1516" y="82"/>
                    </a:lnTo>
                    <a:lnTo>
                      <a:pt x="1524" y="77"/>
                    </a:lnTo>
                    <a:lnTo>
                      <a:pt x="1534" y="73"/>
                    </a:lnTo>
                    <a:lnTo>
                      <a:pt x="1541" y="69"/>
                    </a:lnTo>
                    <a:lnTo>
                      <a:pt x="1552" y="66"/>
                    </a:lnTo>
                    <a:lnTo>
                      <a:pt x="1561" y="61"/>
                    </a:lnTo>
                    <a:lnTo>
                      <a:pt x="1568" y="58"/>
                    </a:lnTo>
                    <a:lnTo>
                      <a:pt x="1577" y="54"/>
                    </a:lnTo>
                    <a:lnTo>
                      <a:pt x="1586" y="51"/>
                    </a:lnTo>
                    <a:lnTo>
                      <a:pt x="1593" y="46"/>
                    </a:lnTo>
                    <a:lnTo>
                      <a:pt x="1602" y="43"/>
                    </a:lnTo>
                    <a:lnTo>
                      <a:pt x="1610" y="40"/>
                    </a:lnTo>
                    <a:lnTo>
                      <a:pt x="1619" y="37"/>
                    </a:lnTo>
                    <a:lnTo>
                      <a:pt x="1626" y="33"/>
                    </a:lnTo>
                    <a:lnTo>
                      <a:pt x="1635" y="30"/>
                    </a:lnTo>
                    <a:lnTo>
                      <a:pt x="1642" y="27"/>
                    </a:lnTo>
                    <a:lnTo>
                      <a:pt x="1650" y="25"/>
                    </a:lnTo>
                    <a:lnTo>
                      <a:pt x="1657" y="23"/>
                    </a:lnTo>
                    <a:lnTo>
                      <a:pt x="1663" y="20"/>
                    </a:lnTo>
                    <a:lnTo>
                      <a:pt x="1670" y="18"/>
                    </a:lnTo>
                    <a:lnTo>
                      <a:pt x="1676" y="15"/>
                    </a:lnTo>
                    <a:lnTo>
                      <a:pt x="1684" y="14"/>
                    </a:lnTo>
                    <a:lnTo>
                      <a:pt x="1690" y="11"/>
                    </a:lnTo>
                    <a:lnTo>
                      <a:pt x="1696" y="9"/>
                    </a:lnTo>
                    <a:lnTo>
                      <a:pt x="1702" y="8"/>
                    </a:lnTo>
                    <a:lnTo>
                      <a:pt x="1706" y="6"/>
                    </a:lnTo>
                    <a:lnTo>
                      <a:pt x="1712" y="5"/>
                    </a:lnTo>
                    <a:lnTo>
                      <a:pt x="1718" y="3"/>
                    </a:lnTo>
                    <a:lnTo>
                      <a:pt x="1722" y="3"/>
                    </a:lnTo>
                    <a:lnTo>
                      <a:pt x="1727" y="2"/>
                    </a:lnTo>
                    <a:lnTo>
                      <a:pt x="1731" y="0"/>
                    </a:lnTo>
                    <a:lnTo>
                      <a:pt x="1736" y="0"/>
                    </a:lnTo>
                    <a:lnTo>
                      <a:pt x="1740" y="0"/>
                    </a:lnTo>
                    <a:lnTo>
                      <a:pt x="1745" y="0"/>
                    </a:lnTo>
                    <a:lnTo>
                      <a:pt x="1751" y="0"/>
                    </a:lnTo>
                    <a:lnTo>
                      <a:pt x="1755" y="2"/>
                    </a:lnTo>
                    <a:lnTo>
                      <a:pt x="1759" y="3"/>
                    </a:lnTo>
                    <a:lnTo>
                      <a:pt x="1761" y="6"/>
                    </a:lnTo>
                    <a:lnTo>
                      <a:pt x="1762" y="9"/>
                    </a:lnTo>
                    <a:lnTo>
                      <a:pt x="1764" y="12"/>
                    </a:lnTo>
                    <a:lnTo>
                      <a:pt x="1764" y="17"/>
                    </a:lnTo>
                    <a:lnTo>
                      <a:pt x="1762" y="20"/>
                    </a:lnTo>
                    <a:lnTo>
                      <a:pt x="1762" y="24"/>
                    </a:lnTo>
                    <a:lnTo>
                      <a:pt x="1759" y="28"/>
                    </a:lnTo>
                    <a:lnTo>
                      <a:pt x="1758" y="34"/>
                    </a:lnTo>
                    <a:lnTo>
                      <a:pt x="1755" y="39"/>
                    </a:lnTo>
                    <a:lnTo>
                      <a:pt x="1751" y="45"/>
                    </a:lnTo>
                    <a:lnTo>
                      <a:pt x="1748" y="51"/>
                    </a:lnTo>
                    <a:lnTo>
                      <a:pt x="1745" y="57"/>
                    </a:lnTo>
                    <a:lnTo>
                      <a:pt x="1740" y="61"/>
                    </a:lnTo>
                    <a:lnTo>
                      <a:pt x="1736" y="67"/>
                    </a:lnTo>
                    <a:lnTo>
                      <a:pt x="1731" y="71"/>
                    </a:lnTo>
                    <a:lnTo>
                      <a:pt x="1727" y="77"/>
                    </a:lnTo>
                    <a:lnTo>
                      <a:pt x="1721" y="82"/>
                    </a:lnTo>
                    <a:lnTo>
                      <a:pt x="1718" y="88"/>
                    </a:lnTo>
                    <a:lnTo>
                      <a:pt x="1713" y="92"/>
                    </a:lnTo>
                    <a:lnTo>
                      <a:pt x="1709" y="97"/>
                    </a:lnTo>
                    <a:lnTo>
                      <a:pt x="1706" y="101"/>
                    </a:lnTo>
                    <a:lnTo>
                      <a:pt x="1702" y="104"/>
                    </a:lnTo>
                    <a:lnTo>
                      <a:pt x="1699" y="107"/>
                    </a:lnTo>
                    <a:lnTo>
                      <a:pt x="1697" y="110"/>
                    </a:lnTo>
                    <a:lnTo>
                      <a:pt x="1693" y="115"/>
                    </a:lnTo>
                    <a:lnTo>
                      <a:pt x="1691" y="116"/>
                    </a:lnTo>
                    <a:lnTo>
                      <a:pt x="1430" y="214"/>
                    </a:lnTo>
                    <a:lnTo>
                      <a:pt x="1213" y="385"/>
                    </a:lnTo>
                    <a:lnTo>
                      <a:pt x="958" y="423"/>
                    </a:lnTo>
                    <a:lnTo>
                      <a:pt x="728" y="583"/>
                    </a:lnTo>
                    <a:lnTo>
                      <a:pt x="731" y="582"/>
                    </a:lnTo>
                    <a:lnTo>
                      <a:pt x="734" y="580"/>
                    </a:lnTo>
                    <a:lnTo>
                      <a:pt x="739" y="579"/>
                    </a:lnTo>
                    <a:lnTo>
                      <a:pt x="743" y="577"/>
                    </a:lnTo>
                    <a:lnTo>
                      <a:pt x="749" y="576"/>
                    </a:lnTo>
                    <a:lnTo>
                      <a:pt x="753" y="575"/>
                    </a:lnTo>
                    <a:lnTo>
                      <a:pt x="759" y="572"/>
                    </a:lnTo>
                    <a:lnTo>
                      <a:pt x="762" y="572"/>
                    </a:lnTo>
                    <a:lnTo>
                      <a:pt x="765" y="570"/>
                    </a:lnTo>
                    <a:lnTo>
                      <a:pt x="770" y="569"/>
                    </a:lnTo>
                    <a:lnTo>
                      <a:pt x="773" y="569"/>
                    </a:lnTo>
                    <a:lnTo>
                      <a:pt x="776" y="567"/>
                    </a:lnTo>
                    <a:lnTo>
                      <a:pt x="780" y="566"/>
                    </a:lnTo>
                    <a:lnTo>
                      <a:pt x="783" y="564"/>
                    </a:lnTo>
                    <a:lnTo>
                      <a:pt x="788" y="564"/>
                    </a:lnTo>
                    <a:lnTo>
                      <a:pt x="791" y="561"/>
                    </a:lnTo>
                    <a:lnTo>
                      <a:pt x="795" y="561"/>
                    </a:lnTo>
                    <a:lnTo>
                      <a:pt x="799" y="560"/>
                    </a:lnTo>
                    <a:lnTo>
                      <a:pt x="804" y="558"/>
                    </a:lnTo>
                    <a:lnTo>
                      <a:pt x="808" y="557"/>
                    </a:lnTo>
                    <a:lnTo>
                      <a:pt x="811" y="555"/>
                    </a:lnTo>
                    <a:lnTo>
                      <a:pt x="816" y="554"/>
                    </a:lnTo>
                    <a:lnTo>
                      <a:pt x="820" y="552"/>
                    </a:lnTo>
                    <a:lnTo>
                      <a:pt x="825" y="551"/>
                    </a:lnTo>
                    <a:lnTo>
                      <a:pt x="829" y="549"/>
                    </a:lnTo>
                    <a:lnTo>
                      <a:pt x="834" y="548"/>
                    </a:lnTo>
                    <a:lnTo>
                      <a:pt x="838" y="546"/>
                    </a:lnTo>
                    <a:lnTo>
                      <a:pt x="842" y="545"/>
                    </a:lnTo>
                    <a:lnTo>
                      <a:pt x="847" y="543"/>
                    </a:lnTo>
                    <a:lnTo>
                      <a:pt x="851" y="542"/>
                    </a:lnTo>
                    <a:lnTo>
                      <a:pt x="856" y="540"/>
                    </a:lnTo>
                    <a:lnTo>
                      <a:pt x="860" y="539"/>
                    </a:lnTo>
                    <a:lnTo>
                      <a:pt x="865" y="537"/>
                    </a:lnTo>
                    <a:lnTo>
                      <a:pt x="869" y="536"/>
                    </a:lnTo>
                    <a:lnTo>
                      <a:pt x="874" y="534"/>
                    </a:lnTo>
                    <a:lnTo>
                      <a:pt x="878" y="533"/>
                    </a:lnTo>
                    <a:lnTo>
                      <a:pt x="883" y="531"/>
                    </a:lnTo>
                    <a:lnTo>
                      <a:pt x="887" y="530"/>
                    </a:lnTo>
                    <a:lnTo>
                      <a:pt x="891" y="529"/>
                    </a:lnTo>
                    <a:lnTo>
                      <a:pt x="896" y="526"/>
                    </a:lnTo>
                    <a:lnTo>
                      <a:pt x="900" y="526"/>
                    </a:lnTo>
                    <a:lnTo>
                      <a:pt x="903" y="524"/>
                    </a:lnTo>
                    <a:lnTo>
                      <a:pt x="909" y="523"/>
                    </a:lnTo>
                    <a:lnTo>
                      <a:pt x="912" y="521"/>
                    </a:lnTo>
                    <a:lnTo>
                      <a:pt x="917" y="518"/>
                    </a:lnTo>
                    <a:lnTo>
                      <a:pt x="921" y="518"/>
                    </a:lnTo>
                    <a:lnTo>
                      <a:pt x="926" y="517"/>
                    </a:lnTo>
                    <a:lnTo>
                      <a:pt x="929" y="515"/>
                    </a:lnTo>
                    <a:lnTo>
                      <a:pt x="933" y="514"/>
                    </a:lnTo>
                    <a:lnTo>
                      <a:pt x="936" y="512"/>
                    </a:lnTo>
                    <a:lnTo>
                      <a:pt x="940" y="511"/>
                    </a:lnTo>
                    <a:lnTo>
                      <a:pt x="946" y="508"/>
                    </a:lnTo>
                    <a:lnTo>
                      <a:pt x="954" y="505"/>
                    </a:lnTo>
                    <a:lnTo>
                      <a:pt x="958" y="502"/>
                    </a:lnTo>
                    <a:lnTo>
                      <a:pt x="966" y="499"/>
                    </a:lnTo>
                    <a:lnTo>
                      <a:pt x="970" y="496"/>
                    </a:lnTo>
                    <a:lnTo>
                      <a:pt x="976" y="494"/>
                    </a:lnTo>
                    <a:lnTo>
                      <a:pt x="980" y="491"/>
                    </a:lnTo>
                    <a:lnTo>
                      <a:pt x="986" y="488"/>
                    </a:lnTo>
                    <a:lnTo>
                      <a:pt x="991" y="487"/>
                    </a:lnTo>
                    <a:lnTo>
                      <a:pt x="995" y="484"/>
                    </a:lnTo>
                    <a:lnTo>
                      <a:pt x="1000" y="481"/>
                    </a:lnTo>
                    <a:lnTo>
                      <a:pt x="1004" y="480"/>
                    </a:lnTo>
                    <a:lnTo>
                      <a:pt x="1007" y="477"/>
                    </a:lnTo>
                    <a:lnTo>
                      <a:pt x="1012" y="475"/>
                    </a:lnTo>
                    <a:lnTo>
                      <a:pt x="1016" y="474"/>
                    </a:lnTo>
                    <a:lnTo>
                      <a:pt x="1021" y="472"/>
                    </a:lnTo>
                    <a:lnTo>
                      <a:pt x="1024" y="469"/>
                    </a:lnTo>
                    <a:lnTo>
                      <a:pt x="1026" y="468"/>
                    </a:lnTo>
                    <a:lnTo>
                      <a:pt x="1031" y="466"/>
                    </a:lnTo>
                    <a:lnTo>
                      <a:pt x="1034" y="463"/>
                    </a:lnTo>
                    <a:lnTo>
                      <a:pt x="1038" y="462"/>
                    </a:lnTo>
                    <a:lnTo>
                      <a:pt x="1041" y="460"/>
                    </a:lnTo>
                    <a:lnTo>
                      <a:pt x="1046" y="459"/>
                    </a:lnTo>
                    <a:lnTo>
                      <a:pt x="1050" y="459"/>
                    </a:lnTo>
                    <a:lnTo>
                      <a:pt x="1055" y="456"/>
                    </a:lnTo>
                    <a:lnTo>
                      <a:pt x="1058" y="454"/>
                    </a:lnTo>
                    <a:lnTo>
                      <a:pt x="1062" y="453"/>
                    </a:lnTo>
                    <a:lnTo>
                      <a:pt x="1068" y="451"/>
                    </a:lnTo>
                    <a:lnTo>
                      <a:pt x="1072" y="451"/>
                    </a:lnTo>
                    <a:lnTo>
                      <a:pt x="1077" y="450"/>
                    </a:lnTo>
                    <a:lnTo>
                      <a:pt x="1083" y="448"/>
                    </a:lnTo>
                    <a:lnTo>
                      <a:pt x="1089" y="448"/>
                    </a:lnTo>
                    <a:lnTo>
                      <a:pt x="1095" y="447"/>
                    </a:lnTo>
                    <a:lnTo>
                      <a:pt x="1101" y="447"/>
                    </a:lnTo>
                    <a:lnTo>
                      <a:pt x="1107" y="445"/>
                    </a:lnTo>
                    <a:lnTo>
                      <a:pt x="1113" y="444"/>
                    </a:lnTo>
                    <a:lnTo>
                      <a:pt x="1120" y="444"/>
                    </a:lnTo>
                    <a:lnTo>
                      <a:pt x="1126" y="444"/>
                    </a:lnTo>
                    <a:lnTo>
                      <a:pt x="1129" y="442"/>
                    </a:lnTo>
                    <a:lnTo>
                      <a:pt x="1133" y="442"/>
                    </a:lnTo>
                    <a:lnTo>
                      <a:pt x="1136" y="442"/>
                    </a:lnTo>
                    <a:lnTo>
                      <a:pt x="1141" y="442"/>
                    </a:lnTo>
                    <a:lnTo>
                      <a:pt x="1144" y="442"/>
                    </a:lnTo>
                    <a:lnTo>
                      <a:pt x="1147" y="442"/>
                    </a:lnTo>
                    <a:lnTo>
                      <a:pt x="1150" y="441"/>
                    </a:lnTo>
                    <a:lnTo>
                      <a:pt x="1154" y="441"/>
                    </a:lnTo>
                    <a:lnTo>
                      <a:pt x="1157" y="441"/>
                    </a:lnTo>
                    <a:lnTo>
                      <a:pt x="1162" y="441"/>
                    </a:lnTo>
                    <a:lnTo>
                      <a:pt x="1164" y="441"/>
                    </a:lnTo>
                    <a:lnTo>
                      <a:pt x="1167" y="441"/>
                    </a:lnTo>
                    <a:lnTo>
                      <a:pt x="1170" y="439"/>
                    </a:lnTo>
                    <a:lnTo>
                      <a:pt x="1175" y="439"/>
                    </a:lnTo>
                    <a:lnTo>
                      <a:pt x="1178" y="439"/>
                    </a:lnTo>
                    <a:lnTo>
                      <a:pt x="1181" y="439"/>
                    </a:lnTo>
                    <a:lnTo>
                      <a:pt x="1184" y="439"/>
                    </a:lnTo>
                    <a:lnTo>
                      <a:pt x="1188" y="439"/>
                    </a:lnTo>
                    <a:lnTo>
                      <a:pt x="1191" y="439"/>
                    </a:lnTo>
                    <a:lnTo>
                      <a:pt x="1194" y="439"/>
                    </a:lnTo>
                    <a:lnTo>
                      <a:pt x="1202" y="439"/>
                    </a:lnTo>
                    <a:lnTo>
                      <a:pt x="1208" y="439"/>
                    </a:lnTo>
                    <a:lnTo>
                      <a:pt x="1213" y="439"/>
                    </a:lnTo>
                    <a:lnTo>
                      <a:pt x="1218" y="439"/>
                    </a:lnTo>
                    <a:lnTo>
                      <a:pt x="1224" y="439"/>
                    </a:lnTo>
                    <a:lnTo>
                      <a:pt x="1228" y="439"/>
                    </a:lnTo>
                    <a:lnTo>
                      <a:pt x="1233" y="439"/>
                    </a:lnTo>
                    <a:lnTo>
                      <a:pt x="1239" y="439"/>
                    </a:lnTo>
                    <a:lnTo>
                      <a:pt x="1242" y="439"/>
                    </a:lnTo>
                    <a:lnTo>
                      <a:pt x="1246" y="439"/>
                    </a:lnTo>
                    <a:lnTo>
                      <a:pt x="1248" y="439"/>
                    </a:lnTo>
                    <a:lnTo>
                      <a:pt x="1251" y="439"/>
                    </a:lnTo>
                    <a:lnTo>
                      <a:pt x="1255" y="439"/>
                    </a:lnTo>
                    <a:lnTo>
                      <a:pt x="1256" y="439"/>
                    </a:lnTo>
                    <a:lnTo>
                      <a:pt x="1254" y="441"/>
                    </a:lnTo>
                    <a:lnTo>
                      <a:pt x="1251" y="444"/>
                    </a:lnTo>
                    <a:lnTo>
                      <a:pt x="1245" y="450"/>
                    </a:lnTo>
                    <a:lnTo>
                      <a:pt x="1240" y="456"/>
                    </a:lnTo>
                    <a:lnTo>
                      <a:pt x="1236" y="462"/>
                    </a:lnTo>
                    <a:lnTo>
                      <a:pt x="1236" y="466"/>
                    </a:lnTo>
                    <a:lnTo>
                      <a:pt x="1237" y="469"/>
                    </a:lnTo>
                    <a:lnTo>
                      <a:pt x="1240" y="471"/>
                    </a:lnTo>
                    <a:lnTo>
                      <a:pt x="1242" y="471"/>
                    </a:lnTo>
                    <a:lnTo>
                      <a:pt x="1245" y="472"/>
                    </a:lnTo>
                    <a:lnTo>
                      <a:pt x="1248" y="472"/>
                    </a:lnTo>
                    <a:lnTo>
                      <a:pt x="1251" y="472"/>
                    </a:lnTo>
                    <a:lnTo>
                      <a:pt x="1254" y="472"/>
                    </a:lnTo>
                    <a:lnTo>
                      <a:pt x="1258" y="471"/>
                    </a:lnTo>
                    <a:lnTo>
                      <a:pt x="1261" y="471"/>
                    </a:lnTo>
                    <a:lnTo>
                      <a:pt x="1265" y="469"/>
                    </a:lnTo>
                    <a:lnTo>
                      <a:pt x="1271" y="469"/>
                    </a:lnTo>
                    <a:lnTo>
                      <a:pt x="1276" y="468"/>
                    </a:lnTo>
                    <a:lnTo>
                      <a:pt x="1282" y="466"/>
                    </a:lnTo>
                    <a:lnTo>
                      <a:pt x="1288" y="466"/>
                    </a:lnTo>
                    <a:lnTo>
                      <a:pt x="1294" y="463"/>
                    </a:lnTo>
                    <a:lnTo>
                      <a:pt x="1300" y="462"/>
                    </a:lnTo>
                    <a:lnTo>
                      <a:pt x="1305" y="460"/>
                    </a:lnTo>
                    <a:lnTo>
                      <a:pt x="1311" y="459"/>
                    </a:lnTo>
                    <a:lnTo>
                      <a:pt x="1317" y="457"/>
                    </a:lnTo>
                    <a:lnTo>
                      <a:pt x="1323" y="456"/>
                    </a:lnTo>
                    <a:lnTo>
                      <a:pt x="1329" y="454"/>
                    </a:lnTo>
                    <a:lnTo>
                      <a:pt x="1337" y="453"/>
                    </a:lnTo>
                    <a:lnTo>
                      <a:pt x="1341" y="451"/>
                    </a:lnTo>
                    <a:lnTo>
                      <a:pt x="1347" y="450"/>
                    </a:lnTo>
                    <a:lnTo>
                      <a:pt x="1353" y="447"/>
                    </a:lnTo>
                    <a:lnTo>
                      <a:pt x="1359" y="447"/>
                    </a:lnTo>
                    <a:lnTo>
                      <a:pt x="1363" y="444"/>
                    </a:lnTo>
                    <a:lnTo>
                      <a:pt x="1368" y="444"/>
                    </a:lnTo>
                    <a:lnTo>
                      <a:pt x="1372" y="442"/>
                    </a:lnTo>
                    <a:lnTo>
                      <a:pt x="1378" y="441"/>
                    </a:lnTo>
                    <a:lnTo>
                      <a:pt x="1381" y="439"/>
                    </a:lnTo>
                    <a:lnTo>
                      <a:pt x="1384" y="438"/>
                    </a:lnTo>
                    <a:lnTo>
                      <a:pt x="1387" y="437"/>
                    </a:lnTo>
                    <a:lnTo>
                      <a:pt x="1390" y="437"/>
                    </a:lnTo>
                    <a:lnTo>
                      <a:pt x="1393" y="437"/>
                    </a:lnTo>
                    <a:lnTo>
                      <a:pt x="1396" y="437"/>
                    </a:lnTo>
                    <a:lnTo>
                      <a:pt x="1383" y="497"/>
                    </a:lnTo>
                    <a:lnTo>
                      <a:pt x="1371" y="536"/>
                    </a:lnTo>
                    <a:lnTo>
                      <a:pt x="1371" y="537"/>
                    </a:lnTo>
                    <a:lnTo>
                      <a:pt x="1371" y="540"/>
                    </a:lnTo>
                    <a:lnTo>
                      <a:pt x="1369" y="542"/>
                    </a:lnTo>
                    <a:lnTo>
                      <a:pt x="1368" y="546"/>
                    </a:lnTo>
                    <a:lnTo>
                      <a:pt x="1366" y="551"/>
                    </a:lnTo>
                    <a:lnTo>
                      <a:pt x="1365" y="557"/>
                    </a:lnTo>
                    <a:lnTo>
                      <a:pt x="1363" y="558"/>
                    </a:lnTo>
                    <a:lnTo>
                      <a:pt x="1362" y="561"/>
                    </a:lnTo>
                    <a:lnTo>
                      <a:pt x="1360" y="564"/>
                    </a:lnTo>
                    <a:lnTo>
                      <a:pt x="1359" y="569"/>
                    </a:lnTo>
                    <a:lnTo>
                      <a:pt x="1356" y="572"/>
                    </a:lnTo>
                    <a:lnTo>
                      <a:pt x="1354" y="576"/>
                    </a:lnTo>
                    <a:lnTo>
                      <a:pt x="1351" y="579"/>
                    </a:lnTo>
                    <a:lnTo>
                      <a:pt x="1348" y="583"/>
                    </a:lnTo>
                    <a:lnTo>
                      <a:pt x="1346" y="588"/>
                    </a:lnTo>
                    <a:lnTo>
                      <a:pt x="1343" y="592"/>
                    </a:lnTo>
                    <a:lnTo>
                      <a:pt x="1340" y="598"/>
                    </a:lnTo>
                    <a:lnTo>
                      <a:pt x="1335" y="603"/>
                    </a:lnTo>
                    <a:lnTo>
                      <a:pt x="1331" y="609"/>
                    </a:lnTo>
                    <a:lnTo>
                      <a:pt x="1328" y="615"/>
                    </a:lnTo>
                    <a:lnTo>
                      <a:pt x="1322" y="621"/>
                    </a:lnTo>
                    <a:lnTo>
                      <a:pt x="1319" y="626"/>
                    </a:lnTo>
                    <a:lnTo>
                      <a:pt x="1311" y="632"/>
                    </a:lnTo>
                    <a:lnTo>
                      <a:pt x="1307" y="640"/>
                    </a:lnTo>
                    <a:lnTo>
                      <a:pt x="1302" y="643"/>
                    </a:lnTo>
                    <a:lnTo>
                      <a:pt x="1300" y="646"/>
                    </a:lnTo>
                    <a:lnTo>
                      <a:pt x="1297" y="649"/>
                    </a:lnTo>
                    <a:lnTo>
                      <a:pt x="1294" y="653"/>
                    </a:lnTo>
                    <a:lnTo>
                      <a:pt x="1291" y="656"/>
                    </a:lnTo>
                    <a:lnTo>
                      <a:pt x="1288" y="659"/>
                    </a:lnTo>
                    <a:lnTo>
                      <a:pt x="1283" y="662"/>
                    </a:lnTo>
                    <a:lnTo>
                      <a:pt x="1280" y="667"/>
                    </a:lnTo>
                    <a:lnTo>
                      <a:pt x="1277" y="669"/>
                    </a:lnTo>
                    <a:lnTo>
                      <a:pt x="1273" y="674"/>
                    </a:lnTo>
                    <a:lnTo>
                      <a:pt x="1270" y="677"/>
                    </a:lnTo>
                    <a:lnTo>
                      <a:pt x="1267" y="681"/>
                    </a:lnTo>
                    <a:lnTo>
                      <a:pt x="1264" y="684"/>
                    </a:lnTo>
                    <a:lnTo>
                      <a:pt x="1259" y="689"/>
                    </a:lnTo>
                    <a:lnTo>
                      <a:pt x="1256" y="692"/>
                    </a:lnTo>
                    <a:lnTo>
                      <a:pt x="1254" y="696"/>
                    </a:lnTo>
                    <a:lnTo>
                      <a:pt x="1249" y="699"/>
                    </a:lnTo>
                    <a:lnTo>
                      <a:pt x="1246" y="702"/>
                    </a:lnTo>
                    <a:lnTo>
                      <a:pt x="1242" y="707"/>
                    </a:lnTo>
                    <a:lnTo>
                      <a:pt x="1239" y="710"/>
                    </a:lnTo>
                    <a:lnTo>
                      <a:pt x="1236" y="713"/>
                    </a:lnTo>
                    <a:lnTo>
                      <a:pt x="1231" y="717"/>
                    </a:lnTo>
                    <a:lnTo>
                      <a:pt x="1228" y="720"/>
                    </a:lnTo>
                    <a:lnTo>
                      <a:pt x="1225" y="724"/>
                    </a:lnTo>
                    <a:lnTo>
                      <a:pt x="1221" y="727"/>
                    </a:lnTo>
                    <a:lnTo>
                      <a:pt x="1218" y="730"/>
                    </a:lnTo>
                    <a:lnTo>
                      <a:pt x="1215" y="735"/>
                    </a:lnTo>
                    <a:lnTo>
                      <a:pt x="1212" y="738"/>
                    </a:lnTo>
                    <a:lnTo>
                      <a:pt x="1206" y="745"/>
                    </a:lnTo>
                    <a:lnTo>
                      <a:pt x="1199" y="751"/>
                    </a:lnTo>
                    <a:lnTo>
                      <a:pt x="1193" y="756"/>
                    </a:lnTo>
                    <a:lnTo>
                      <a:pt x="1187" y="763"/>
                    </a:lnTo>
                    <a:lnTo>
                      <a:pt x="1182" y="767"/>
                    </a:lnTo>
                    <a:lnTo>
                      <a:pt x="1176" y="773"/>
                    </a:lnTo>
                    <a:lnTo>
                      <a:pt x="1172" y="778"/>
                    </a:lnTo>
                    <a:lnTo>
                      <a:pt x="1167" y="782"/>
                    </a:lnTo>
                    <a:lnTo>
                      <a:pt x="1163" y="785"/>
                    </a:lnTo>
                    <a:lnTo>
                      <a:pt x="1160" y="790"/>
                    </a:lnTo>
                    <a:lnTo>
                      <a:pt x="1156" y="793"/>
                    </a:lnTo>
                    <a:lnTo>
                      <a:pt x="1154" y="796"/>
                    </a:lnTo>
                    <a:lnTo>
                      <a:pt x="1150" y="799"/>
                    </a:lnTo>
                    <a:lnTo>
                      <a:pt x="1150" y="802"/>
                    </a:lnTo>
                    <a:lnTo>
                      <a:pt x="1381" y="656"/>
                    </a:lnTo>
                    <a:lnTo>
                      <a:pt x="1380" y="658"/>
                    </a:lnTo>
                    <a:lnTo>
                      <a:pt x="1377" y="661"/>
                    </a:lnTo>
                    <a:lnTo>
                      <a:pt x="1374" y="665"/>
                    </a:lnTo>
                    <a:lnTo>
                      <a:pt x="1369" y="669"/>
                    </a:lnTo>
                    <a:lnTo>
                      <a:pt x="1363" y="677"/>
                    </a:lnTo>
                    <a:lnTo>
                      <a:pt x="1360" y="680"/>
                    </a:lnTo>
                    <a:lnTo>
                      <a:pt x="1357" y="683"/>
                    </a:lnTo>
                    <a:lnTo>
                      <a:pt x="1354" y="687"/>
                    </a:lnTo>
                    <a:lnTo>
                      <a:pt x="1351" y="692"/>
                    </a:lnTo>
                    <a:lnTo>
                      <a:pt x="1348" y="695"/>
                    </a:lnTo>
                    <a:lnTo>
                      <a:pt x="1344" y="699"/>
                    </a:lnTo>
                    <a:lnTo>
                      <a:pt x="1341" y="704"/>
                    </a:lnTo>
                    <a:lnTo>
                      <a:pt x="1337" y="708"/>
                    </a:lnTo>
                    <a:lnTo>
                      <a:pt x="1334" y="713"/>
                    </a:lnTo>
                    <a:lnTo>
                      <a:pt x="1329" y="718"/>
                    </a:lnTo>
                    <a:lnTo>
                      <a:pt x="1325" y="723"/>
                    </a:lnTo>
                    <a:lnTo>
                      <a:pt x="1322" y="729"/>
                    </a:lnTo>
                    <a:lnTo>
                      <a:pt x="1316" y="733"/>
                    </a:lnTo>
                    <a:lnTo>
                      <a:pt x="1311" y="739"/>
                    </a:lnTo>
                    <a:lnTo>
                      <a:pt x="1307" y="745"/>
                    </a:lnTo>
                    <a:lnTo>
                      <a:pt x="1302" y="751"/>
                    </a:lnTo>
                    <a:lnTo>
                      <a:pt x="1298" y="756"/>
                    </a:lnTo>
                    <a:lnTo>
                      <a:pt x="1294" y="763"/>
                    </a:lnTo>
                    <a:lnTo>
                      <a:pt x="1289" y="769"/>
                    </a:lnTo>
                    <a:lnTo>
                      <a:pt x="1285" y="775"/>
                    </a:lnTo>
                    <a:lnTo>
                      <a:pt x="1280" y="781"/>
                    </a:lnTo>
                    <a:lnTo>
                      <a:pt x="1276" y="787"/>
                    </a:lnTo>
                    <a:lnTo>
                      <a:pt x="1270" y="793"/>
                    </a:lnTo>
                    <a:lnTo>
                      <a:pt x="1265" y="799"/>
                    </a:lnTo>
                    <a:lnTo>
                      <a:pt x="1261" y="805"/>
                    </a:lnTo>
                    <a:lnTo>
                      <a:pt x="1256" y="810"/>
                    </a:lnTo>
                    <a:lnTo>
                      <a:pt x="1252" y="816"/>
                    </a:lnTo>
                    <a:lnTo>
                      <a:pt x="1248" y="824"/>
                    </a:lnTo>
                    <a:lnTo>
                      <a:pt x="1243" y="828"/>
                    </a:lnTo>
                    <a:lnTo>
                      <a:pt x="1239" y="834"/>
                    </a:lnTo>
                    <a:lnTo>
                      <a:pt x="1234" y="840"/>
                    </a:lnTo>
                    <a:lnTo>
                      <a:pt x="1230" y="846"/>
                    </a:lnTo>
                    <a:lnTo>
                      <a:pt x="1225" y="851"/>
                    </a:lnTo>
                    <a:lnTo>
                      <a:pt x="1222" y="856"/>
                    </a:lnTo>
                    <a:lnTo>
                      <a:pt x="1218" y="861"/>
                    </a:lnTo>
                    <a:lnTo>
                      <a:pt x="1215" y="867"/>
                    </a:lnTo>
                    <a:lnTo>
                      <a:pt x="1212" y="871"/>
                    </a:lnTo>
                    <a:lnTo>
                      <a:pt x="1208" y="876"/>
                    </a:lnTo>
                    <a:lnTo>
                      <a:pt x="1205" y="880"/>
                    </a:lnTo>
                    <a:lnTo>
                      <a:pt x="1202" y="885"/>
                    </a:lnTo>
                    <a:lnTo>
                      <a:pt x="1199" y="888"/>
                    </a:lnTo>
                    <a:lnTo>
                      <a:pt x="1196" y="892"/>
                    </a:lnTo>
                    <a:lnTo>
                      <a:pt x="1193" y="895"/>
                    </a:lnTo>
                    <a:lnTo>
                      <a:pt x="1191" y="899"/>
                    </a:lnTo>
                    <a:lnTo>
                      <a:pt x="1187" y="904"/>
                    </a:lnTo>
                    <a:lnTo>
                      <a:pt x="1184" y="907"/>
                    </a:lnTo>
                    <a:lnTo>
                      <a:pt x="1182" y="910"/>
                    </a:lnTo>
                    <a:lnTo>
                      <a:pt x="1182" y="911"/>
                    </a:lnTo>
                    <a:lnTo>
                      <a:pt x="1285" y="843"/>
                    </a:lnTo>
                    <a:lnTo>
                      <a:pt x="1285" y="845"/>
                    </a:lnTo>
                    <a:lnTo>
                      <a:pt x="1285" y="848"/>
                    </a:lnTo>
                    <a:lnTo>
                      <a:pt x="1286" y="852"/>
                    </a:lnTo>
                    <a:lnTo>
                      <a:pt x="1286" y="856"/>
                    </a:lnTo>
                    <a:lnTo>
                      <a:pt x="1286" y="862"/>
                    </a:lnTo>
                    <a:lnTo>
                      <a:pt x="1285" y="865"/>
                    </a:lnTo>
                    <a:lnTo>
                      <a:pt x="1285" y="868"/>
                    </a:lnTo>
                    <a:lnTo>
                      <a:pt x="1285" y="873"/>
                    </a:lnTo>
                    <a:lnTo>
                      <a:pt x="1285" y="877"/>
                    </a:lnTo>
                    <a:lnTo>
                      <a:pt x="1285" y="880"/>
                    </a:lnTo>
                    <a:lnTo>
                      <a:pt x="1283" y="885"/>
                    </a:lnTo>
                    <a:lnTo>
                      <a:pt x="1282" y="888"/>
                    </a:lnTo>
                    <a:lnTo>
                      <a:pt x="1282" y="892"/>
                    </a:lnTo>
                    <a:lnTo>
                      <a:pt x="1280" y="897"/>
                    </a:lnTo>
                    <a:lnTo>
                      <a:pt x="1279" y="902"/>
                    </a:lnTo>
                    <a:lnTo>
                      <a:pt x="1277" y="907"/>
                    </a:lnTo>
                    <a:lnTo>
                      <a:pt x="1276" y="913"/>
                    </a:lnTo>
                    <a:lnTo>
                      <a:pt x="1273" y="917"/>
                    </a:lnTo>
                    <a:lnTo>
                      <a:pt x="1270" y="922"/>
                    </a:lnTo>
                    <a:lnTo>
                      <a:pt x="1268" y="928"/>
                    </a:lnTo>
                    <a:lnTo>
                      <a:pt x="1265" y="934"/>
                    </a:lnTo>
                    <a:lnTo>
                      <a:pt x="1262" y="940"/>
                    </a:lnTo>
                    <a:lnTo>
                      <a:pt x="1258" y="944"/>
                    </a:lnTo>
                    <a:lnTo>
                      <a:pt x="1255" y="951"/>
                    </a:lnTo>
                    <a:lnTo>
                      <a:pt x="1251" y="957"/>
                    </a:lnTo>
                    <a:lnTo>
                      <a:pt x="1245" y="963"/>
                    </a:lnTo>
                    <a:lnTo>
                      <a:pt x="1240" y="968"/>
                    </a:lnTo>
                    <a:lnTo>
                      <a:pt x="1234" y="974"/>
                    </a:lnTo>
                    <a:lnTo>
                      <a:pt x="1228" y="980"/>
                    </a:lnTo>
                    <a:lnTo>
                      <a:pt x="1222" y="986"/>
                    </a:lnTo>
                    <a:lnTo>
                      <a:pt x="1216" y="990"/>
                    </a:lnTo>
                    <a:lnTo>
                      <a:pt x="1210" y="996"/>
                    </a:lnTo>
                    <a:lnTo>
                      <a:pt x="1205" y="1002"/>
                    </a:lnTo>
                    <a:lnTo>
                      <a:pt x="1200" y="1005"/>
                    </a:lnTo>
                    <a:lnTo>
                      <a:pt x="1197" y="1008"/>
                    </a:lnTo>
                    <a:lnTo>
                      <a:pt x="1193" y="1011"/>
                    </a:lnTo>
                    <a:lnTo>
                      <a:pt x="1190" y="1014"/>
                    </a:lnTo>
                    <a:lnTo>
                      <a:pt x="1184" y="1020"/>
                    </a:lnTo>
                    <a:lnTo>
                      <a:pt x="1176" y="1024"/>
                    </a:lnTo>
                    <a:lnTo>
                      <a:pt x="1173" y="1027"/>
                    </a:lnTo>
                    <a:lnTo>
                      <a:pt x="1169" y="1030"/>
                    </a:lnTo>
                    <a:lnTo>
                      <a:pt x="1166" y="1032"/>
                    </a:lnTo>
                    <a:lnTo>
                      <a:pt x="1163" y="1035"/>
                    </a:lnTo>
                    <a:lnTo>
                      <a:pt x="1157" y="1039"/>
                    </a:lnTo>
                    <a:lnTo>
                      <a:pt x="1151" y="1045"/>
                    </a:lnTo>
                    <a:lnTo>
                      <a:pt x="1144" y="1049"/>
                    </a:lnTo>
                    <a:lnTo>
                      <a:pt x="1138" y="1054"/>
                    </a:lnTo>
                    <a:lnTo>
                      <a:pt x="1132" y="1058"/>
                    </a:lnTo>
                    <a:lnTo>
                      <a:pt x="1126" y="1063"/>
                    </a:lnTo>
                    <a:lnTo>
                      <a:pt x="1120" y="1066"/>
                    </a:lnTo>
                    <a:lnTo>
                      <a:pt x="1116" y="1070"/>
                    </a:lnTo>
                    <a:lnTo>
                      <a:pt x="1111" y="1073"/>
                    </a:lnTo>
                    <a:lnTo>
                      <a:pt x="1107" y="1076"/>
                    </a:lnTo>
                    <a:lnTo>
                      <a:pt x="1102" y="1079"/>
                    </a:lnTo>
                    <a:lnTo>
                      <a:pt x="1099" y="1082"/>
                    </a:lnTo>
                    <a:lnTo>
                      <a:pt x="1095" y="1083"/>
                    </a:lnTo>
                    <a:lnTo>
                      <a:pt x="1093" y="1085"/>
                    </a:lnTo>
                    <a:lnTo>
                      <a:pt x="1090" y="1088"/>
                    </a:lnTo>
                    <a:lnTo>
                      <a:pt x="1089" y="1089"/>
                    </a:lnTo>
                    <a:lnTo>
                      <a:pt x="1026" y="1094"/>
                    </a:lnTo>
                    <a:lnTo>
                      <a:pt x="992" y="1085"/>
                    </a:lnTo>
                    <a:lnTo>
                      <a:pt x="699" y="1153"/>
                    </a:lnTo>
                    <a:lnTo>
                      <a:pt x="581" y="1156"/>
                    </a:lnTo>
                    <a:lnTo>
                      <a:pt x="431" y="1348"/>
                    </a:lnTo>
                    <a:lnTo>
                      <a:pt x="55" y="1739"/>
                    </a:lnTo>
                    <a:lnTo>
                      <a:pt x="0" y="1276"/>
                    </a:lnTo>
                    <a:lnTo>
                      <a:pt x="0" y="127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3476520" y="2209680"/>
                <a:ext cx="515880" cy="447840"/>
              </a:xfrm>
              <a:custGeom>
                <a:avLst/>
                <a:gdLst/>
                <a:ahLst/>
                <a:rect l="l" t="t" r="r" b="b"/>
                <a:pathLst>
                  <a:path w="650" h="564">
                    <a:moveTo>
                      <a:pt x="442" y="0"/>
                    </a:moveTo>
                    <a:lnTo>
                      <a:pt x="441" y="1"/>
                    </a:lnTo>
                    <a:lnTo>
                      <a:pt x="439" y="4"/>
                    </a:lnTo>
                    <a:lnTo>
                      <a:pt x="436" y="6"/>
                    </a:lnTo>
                    <a:lnTo>
                      <a:pt x="435" y="9"/>
                    </a:lnTo>
                    <a:lnTo>
                      <a:pt x="432" y="13"/>
                    </a:lnTo>
                    <a:lnTo>
                      <a:pt x="429" y="16"/>
                    </a:lnTo>
                    <a:lnTo>
                      <a:pt x="424" y="19"/>
                    </a:lnTo>
                    <a:lnTo>
                      <a:pt x="420" y="24"/>
                    </a:lnTo>
                    <a:lnTo>
                      <a:pt x="414" y="28"/>
                    </a:lnTo>
                    <a:lnTo>
                      <a:pt x="408" y="32"/>
                    </a:lnTo>
                    <a:lnTo>
                      <a:pt x="405" y="34"/>
                    </a:lnTo>
                    <a:lnTo>
                      <a:pt x="402" y="37"/>
                    </a:lnTo>
                    <a:lnTo>
                      <a:pt x="398" y="40"/>
                    </a:lnTo>
                    <a:lnTo>
                      <a:pt x="395" y="41"/>
                    </a:lnTo>
                    <a:lnTo>
                      <a:pt x="390" y="43"/>
                    </a:lnTo>
                    <a:lnTo>
                      <a:pt x="386" y="46"/>
                    </a:lnTo>
                    <a:lnTo>
                      <a:pt x="381" y="49"/>
                    </a:lnTo>
                    <a:lnTo>
                      <a:pt x="377" y="52"/>
                    </a:lnTo>
                    <a:lnTo>
                      <a:pt x="372" y="53"/>
                    </a:lnTo>
                    <a:lnTo>
                      <a:pt x="366" y="56"/>
                    </a:lnTo>
                    <a:lnTo>
                      <a:pt x="360" y="59"/>
                    </a:lnTo>
                    <a:lnTo>
                      <a:pt x="355" y="61"/>
                    </a:lnTo>
                    <a:lnTo>
                      <a:pt x="349" y="62"/>
                    </a:lnTo>
                    <a:lnTo>
                      <a:pt x="343" y="65"/>
                    </a:lnTo>
                    <a:lnTo>
                      <a:pt x="337" y="68"/>
                    </a:lnTo>
                    <a:lnTo>
                      <a:pt x="331" y="70"/>
                    </a:lnTo>
                    <a:lnTo>
                      <a:pt x="325" y="72"/>
                    </a:lnTo>
                    <a:lnTo>
                      <a:pt x="319" y="74"/>
                    </a:lnTo>
                    <a:lnTo>
                      <a:pt x="313" y="77"/>
                    </a:lnTo>
                    <a:lnTo>
                      <a:pt x="307" y="78"/>
                    </a:lnTo>
                    <a:lnTo>
                      <a:pt x="301" y="81"/>
                    </a:lnTo>
                    <a:lnTo>
                      <a:pt x="295" y="83"/>
                    </a:lnTo>
                    <a:lnTo>
                      <a:pt x="291" y="84"/>
                    </a:lnTo>
                    <a:lnTo>
                      <a:pt x="285" y="87"/>
                    </a:lnTo>
                    <a:lnTo>
                      <a:pt x="279" y="89"/>
                    </a:lnTo>
                    <a:lnTo>
                      <a:pt x="273" y="90"/>
                    </a:lnTo>
                    <a:lnTo>
                      <a:pt x="268" y="92"/>
                    </a:lnTo>
                    <a:lnTo>
                      <a:pt x="264" y="93"/>
                    </a:lnTo>
                    <a:lnTo>
                      <a:pt x="258" y="95"/>
                    </a:lnTo>
                    <a:lnTo>
                      <a:pt x="254" y="96"/>
                    </a:lnTo>
                    <a:lnTo>
                      <a:pt x="251" y="96"/>
                    </a:lnTo>
                    <a:lnTo>
                      <a:pt x="248" y="98"/>
                    </a:lnTo>
                    <a:lnTo>
                      <a:pt x="243" y="99"/>
                    </a:lnTo>
                    <a:lnTo>
                      <a:pt x="240" y="99"/>
                    </a:lnTo>
                    <a:lnTo>
                      <a:pt x="237" y="101"/>
                    </a:lnTo>
                    <a:lnTo>
                      <a:pt x="236" y="101"/>
                    </a:lnTo>
                    <a:lnTo>
                      <a:pt x="233" y="102"/>
                    </a:lnTo>
                    <a:lnTo>
                      <a:pt x="233" y="104"/>
                    </a:lnTo>
                    <a:lnTo>
                      <a:pt x="234" y="104"/>
                    </a:lnTo>
                    <a:lnTo>
                      <a:pt x="239" y="105"/>
                    </a:lnTo>
                    <a:lnTo>
                      <a:pt x="242" y="107"/>
                    </a:lnTo>
                    <a:lnTo>
                      <a:pt x="245" y="108"/>
                    </a:lnTo>
                    <a:lnTo>
                      <a:pt x="249" y="111"/>
                    </a:lnTo>
                    <a:lnTo>
                      <a:pt x="252" y="114"/>
                    </a:lnTo>
                    <a:lnTo>
                      <a:pt x="257" y="116"/>
                    </a:lnTo>
                    <a:lnTo>
                      <a:pt x="260" y="118"/>
                    </a:lnTo>
                    <a:lnTo>
                      <a:pt x="263" y="123"/>
                    </a:lnTo>
                    <a:lnTo>
                      <a:pt x="267" y="127"/>
                    </a:lnTo>
                    <a:lnTo>
                      <a:pt x="268" y="132"/>
                    </a:lnTo>
                    <a:lnTo>
                      <a:pt x="271" y="138"/>
                    </a:lnTo>
                    <a:lnTo>
                      <a:pt x="273" y="142"/>
                    </a:lnTo>
                    <a:lnTo>
                      <a:pt x="274" y="148"/>
                    </a:lnTo>
                    <a:lnTo>
                      <a:pt x="274" y="154"/>
                    </a:lnTo>
                    <a:lnTo>
                      <a:pt x="273" y="162"/>
                    </a:lnTo>
                    <a:lnTo>
                      <a:pt x="271" y="164"/>
                    </a:lnTo>
                    <a:lnTo>
                      <a:pt x="271" y="169"/>
                    </a:lnTo>
                    <a:lnTo>
                      <a:pt x="270" y="172"/>
                    </a:lnTo>
                    <a:lnTo>
                      <a:pt x="268" y="176"/>
                    </a:lnTo>
                    <a:lnTo>
                      <a:pt x="267" y="179"/>
                    </a:lnTo>
                    <a:lnTo>
                      <a:pt x="264" y="184"/>
                    </a:lnTo>
                    <a:lnTo>
                      <a:pt x="263" y="188"/>
                    </a:lnTo>
                    <a:lnTo>
                      <a:pt x="261" y="193"/>
                    </a:lnTo>
                    <a:lnTo>
                      <a:pt x="258" y="197"/>
                    </a:lnTo>
                    <a:lnTo>
                      <a:pt x="255" y="202"/>
                    </a:lnTo>
                    <a:lnTo>
                      <a:pt x="252" y="206"/>
                    </a:lnTo>
                    <a:lnTo>
                      <a:pt x="249" y="210"/>
                    </a:lnTo>
                    <a:lnTo>
                      <a:pt x="246" y="215"/>
                    </a:lnTo>
                    <a:lnTo>
                      <a:pt x="242" y="219"/>
                    </a:lnTo>
                    <a:lnTo>
                      <a:pt x="239" y="224"/>
                    </a:lnTo>
                    <a:lnTo>
                      <a:pt x="234" y="230"/>
                    </a:lnTo>
                    <a:lnTo>
                      <a:pt x="230" y="234"/>
                    </a:lnTo>
                    <a:lnTo>
                      <a:pt x="225" y="239"/>
                    </a:lnTo>
                    <a:lnTo>
                      <a:pt x="221" y="245"/>
                    </a:lnTo>
                    <a:lnTo>
                      <a:pt x="217" y="251"/>
                    </a:lnTo>
                    <a:lnTo>
                      <a:pt x="212" y="255"/>
                    </a:lnTo>
                    <a:lnTo>
                      <a:pt x="206" y="259"/>
                    </a:lnTo>
                    <a:lnTo>
                      <a:pt x="200" y="265"/>
                    </a:lnTo>
                    <a:lnTo>
                      <a:pt x="196" y="271"/>
                    </a:lnTo>
                    <a:lnTo>
                      <a:pt x="190" y="276"/>
                    </a:lnTo>
                    <a:lnTo>
                      <a:pt x="184" y="282"/>
                    </a:lnTo>
                    <a:lnTo>
                      <a:pt x="178" y="288"/>
                    </a:lnTo>
                    <a:lnTo>
                      <a:pt x="172" y="294"/>
                    </a:lnTo>
                    <a:lnTo>
                      <a:pt x="168" y="297"/>
                    </a:lnTo>
                    <a:lnTo>
                      <a:pt x="165" y="300"/>
                    </a:lnTo>
                    <a:lnTo>
                      <a:pt x="162" y="302"/>
                    </a:lnTo>
                    <a:lnTo>
                      <a:pt x="159" y="305"/>
                    </a:lnTo>
                    <a:lnTo>
                      <a:pt x="154" y="307"/>
                    </a:lnTo>
                    <a:lnTo>
                      <a:pt x="151" y="310"/>
                    </a:lnTo>
                    <a:lnTo>
                      <a:pt x="147" y="313"/>
                    </a:lnTo>
                    <a:lnTo>
                      <a:pt x="144" y="316"/>
                    </a:lnTo>
                    <a:lnTo>
                      <a:pt x="141" y="319"/>
                    </a:lnTo>
                    <a:lnTo>
                      <a:pt x="136" y="322"/>
                    </a:lnTo>
                    <a:lnTo>
                      <a:pt x="133" y="325"/>
                    </a:lnTo>
                    <a:lnTo>
                      <a:pt x="130" y="328"/>
                    </a:lnTo>
                    <a:lnTo>
                      <a:pt x="126" y="329"/>
                    </a:lnTo>
                    <a:lnTo>
                      <a:pt x="123" y="334"/>
                    </a:lnTo>
                    <a:lnTo>
                      <a:pt x="119" y="337"/>
                    </a:lnTo>
                    <a:lnTo>
                      <a:pt x="116" y="340"/>
                    </a:lnTo>
                    <a:lnTo>
                      <a:pt x="111" y="341"/>
                    </a:lnTo>
                    <a:lnTo>
                      <a:pt x="108" y="344"/>
                    </a:lnTo>
                    <a:lnTo>
                      <a:pt x="104" y="347"/>
                    </a:lnTo>
                    <a:lnTo>
                      <a:pt x="101" y="350"/>
                    </a:lnTo>
                    <a:lnTo>
                      <a:pt x="96" y="351"/>
                    </a:lnTo>
                    <a:lnTo>
                      <a:pt x="93" y="356"/>
                    </a:lnTo>
                    <a:lnTo>
                      <a:pt x="89" y="357"/>
                    </a:lnTo>
                    <a:lnTo>
                      <a:pt x="86" y="360"/>
                    </a:lnTo>
                    <a:lnTo>
                      <a:pt x="83" y="363"/>
                    </a:lnTo>
                    <a:lnTo>
                      <a:pt x="79" y="366"/>
                    </a:lnTo>
                    <a:lnTo>
                      <a:pt x="76" y="368"/>
                    </a:lnTo>
                    <a:lnTo>
                      <a:pt x="73" y="371"/>
                    </a:lnTo>
                    <a:lnTo>
                      <a:pt x="65" y="377"/>
                    </a:lnTo>
                    <a:lnTo>
                      <a:pt x="59" y="381"/>
                    </a:lnTo>
                    <a:lnTo>
                      <a:pt x="53" y="386"/>
                    </a:lnTo>
                    <a:lnTo>
                      <a:pt x="47" y="390"/>
                    </a:lnTo>
                    <a:lnTo>
                      <a:pt x="40" y="393"/>
                    </a:lnTo>
                    <a:lnTo>
                      <a:pt x="36" y="397"/>
                    </a:lnTo>
                    <a:lnTo>
                      <a:pt x="30" y="400"/>
                    </a:lnTo>
                    <a:lnTo>
                      <a:pt x="25" y="405"/>
                    </a:lnTo>
                    <a:lnTo>
                      <a:pt x="21" y="408"/>
                    </a:lnTo>
                    <a:lnTo>
                      <a:pt x="16" y="412"/>
                    </a:lnTo>
                    <a:lnTo>
                      <a:pt x="12" y="414"/>
                    </a:lnTo>
                    <a:lnTo>
                      <a:pt x="9" y="417"/>
                    </a:lnTo>
                    <a:lnTo>
                      <a:pt x="6" y="418"/>
                    </a:lnTo>
                    <a:lnTo>
                      <a:pt x="4" y="420"/>
                    </a:lnTo>
                    <a:lnTo>
                      <a:pt x="0" y="423"/>
                    </a:lnTo>
                    <a:lnTo>
                      <a:pt x="0" y="424"/>
                    </a:lnTo>
                    <a:lnTo>
                      <a:pt x="0" y="424"/>
                    </a:lnTo>
                    <a:lnTo>
                      <a:pt x="4" y="424"/>
                    </a:lnTo>
                    <a:lnTo>
                      <a:pt x="7" y="424"/>
                    </a:lnTo>
                    <a:lnTo>
                      <a:pt x="10" y="424"/>
                    </a:lnTo>
                    <a:lnTo>
                      <a:pt x="13" y="424"/>
                    </a:lnTo>
                    <a:lnTo>
                      <a:pt x="18" y="424"/>
                    </a:lnTo>
                    <a:lnTo>
                      <a:pt x="22" y="424"/>
                    </a:lnTo>
                    <a:lnTo>
                      <a:pt x="27" y="424"/>
                    </a:lnTo>
                    <a:lnTo>
                      <a:pt x="33" y="424"/>
                    </a:lnTo>
                    <a:lnTo>
                      <a:pt x="38" y="424"/>
                    </a:lnTo>
                    <a:lnTo>
                      <a:pt x="44" y="424"/>
                    </a:lnTo>
                    <a:lnTo>
                      <a:pt x="50" y="426"/>
                    </a:lnTo>
                    <a:lnTo>
                      <a:pt x="53" y="426"/>
                    </a:lnTo>
                    <a:lnTo>
                      <a:pt x="56" y="426"/>
                    </a:lnTo>
                    <a:lnTo>
                      <a:pt x="59" y="427"/>
                    </a:lnTo>
                    <a:lnTo>
                      <a:pt x="64" y="427"/>
                    </a:lnTo>
                    <a:lnTo>
                      <a:pt x="70" y="427"/>
                    </a:lnTo>
                    <a:lnTo>
                      <a:pt x="77" y="429"/>
                    </a:lnTo>
                    <a:lnTo>
                      <a:pt x="80" y="429"/>
                    </a:lnTo>
                    <a:lnTo>
                      <a:pt x="84" y="429"/>
                    </a:lnTo>
                    <a:lnTo>
                      <a:pt x="87" y="430"/>
                    </a:lnTo>
                    <a:lnTo>
                      <a:pt x="92" y="432"/>
                    </a:lnTo>
                    <a:lnTo>
                      <a:pt x="95" y="432"/>
                    </a:lnTo>
                    <a:lnTo>
                      <a:pt x="98" y="432"/>
                    </a:lnTo>
                    <a:lnTo>
                      <a:pt x="102" y="432"/>
                    </a:lnTo>
                    <a:lnTo>
                      <a:pt x="105" y="433"/>
                    </a:lnTo>
                    <a:lnTo>
                      <a:pt x="108" y="433"/>
                    </a:lnTo>
                    <a:lnTo>
                      <a:pt x="113" y="435"/>
                    </a:lnTo>
                    <a:lnTo>
                      <a:pt x="116" y="435"/>
                    </a:lnTo>
                    <a:lnTo>
                      <a:pt x="120" y="436"/>
                    </a:lnTo>
                    <a:lnTo>
                      <a:pt x="123" y="438"/>
                    </a:lnTo>
                    <a:lnTo>
                      <a:pt x="126" y="439"/>
                    </a:lnTo>
                    <a:lnTo>
                      <a:pt x="130" y="439"/>
                    </a:lnTo>
                    <a:lnTo>
                      <a:pt x="133" y="440"/>
                    </a:lnTo>
                    <a:lnTo>
                      <a:pt x="136" y="440"/>
                    </a:lnTo>
                    <a:lnTo>
                      <a:pt x="141" y="442"/>
                    </a:lnTo>
                    <a:lnTo>
                      <a:pt x="144" y="443"/>
                    </a:lnTo>
                    <a:lnTo>
                      <a:pt x="147" y="445"/>
                    </a:lnTo>
                    <a:lnTo>
                      <a:pt x="153" y="446"/>
                    </a:lnTo>
                    <a:lnTo>
                      <a:pt x="160" y="449"/>
                    </a:lnTo>
                    <a:lnTo>
                      <a:pt x="166" y="454"/>
                    </a:lnTo>
                    <a:lnTo>
                      <a:pt x="172" y="457"/>
                    </a:lnTo>
                    <a:lnTo>
                      <a:pt x="176" y="460"/>
                    </a:lnTo>
                    <a:lnTo>
                      <a:pt x="182" y="463"/>
                    </a:lnTo>
                    <a:lnTo>
                      <a:pt x="185" y="467"/>
                    </a:lnTo>
                    <a:lnTo>
                      <a:pt x="191" y="472"/>
                    </a:lnTo>
                    <a:lnTo>
                      <a:pt x="194" y="475"/>
                    </a:lnTo>
                    <a:lnTo>
                      <a:pt x="199" y="479"/>
                    </a:lnTo>
                    <a:lnTo>
                      <a:pt x="203" y="484"/>
                    </a:lnTo>
                    <a:lnTo>
                      <a:pt x="206" y="488"/>
                    </a:lnTo>
                    <a:lnTo>
                      <a:pt x="209" y="491"/>
                    </a:lnTo>
                    <a:lnTo>
                      <a:pt x="212" y="497"/>
                    </a:lnTo>
                    <a:lnTo>
                      <a:pt x="215" y="500"/>
                    </a:lnTo>
                    <a:lnTo>
                      <a:pt x="218" y="506"/>
                    </a:lnTo>
                    <a:lnTo>
                      <a:pt x="220" y="510"/>
                    </a:lnTo>
                    <a:lnTo>
                      <a:pt x="222" y="513"/>
                    </a:lnTo>
                    <a:lnTo>
                      <a:pt x="224" y="518"/>
                    </a:lnTo>
                    <a:lnTo>
                      <a:pt x="227" y="524"/>
                    </a:lnTo>
                    <a:lnTo>
                      <a:pt x="228" y="527"/>
                    </a:lnTo>
                    <a:lnTo>
                      <a:pt x="230" y="531"/>
                    </a:lnTo>
                    <a:lnTo>
                      <a:pt x="230" y="534"/>
                    </a:lnTo>
                    <a:lnTo>
                      <a:pt x="231" y="538"/>
                    </a:lnTo>
                    <a:lnTo>
                      <a:pt x="233" y="541"/>
                    </a:lnTo>
                    <a:lnTo>
                      <a:pt x="234" y="546"/>
                    </a:lnTo>
                    <a:lnTo>
                      <a:pt x="234" y="549"/>
                    </a:lnTo>
                    <a:lnTo>
                      <a:pt x="236" y="552"/>
                    </a:lnTo>
                    <a:lnTo>
                      <a:pt x="236" y="556"/>
                    </a:lnTo>
                    <a:lnTo>
                      <a:pt x="237" y="559"/>
                    </a:lnTo>
                    <a:lnTo>
                      <a:pt x="237" y="562"/>
                    </a:lnTo>
                    <a:lnTo>
                      <a:pt x="237" y="564"/>
                    </a:lnTo>
                    <a:lnTo>
                      <a:pt x="405" y="540"/>
                    </a:lnTo>
                    <a:lnTo>
                      <a:pt x="405" y="537"/>
                    </a:lnTo>
                    <a:lnTo>
                      <a:pt x="405" y="532"/>
                    </a:lnTo>
                    <a:lnTo>
                      <a:pt x="405" y="528"/>
                    </a:lnTo>
                    <a:lnTo>
                      <a:pt x="406" y="525"/>
                    </a:lnTo>
                    <a:lnTo>
                      <a:pt x="406" y="519"/>
                    </a:lnTo>
                    <a:lnTo>
                      <a:pt x="409" y="515"/>
                    </a:lnTo>
                    <a:lnTo>
                      <a:pt x="409" y="510"/>
                    </a:lnTo>
                    <a:lnTo>
                      <a:pt x="412" y="504"/>
                    </a:lnTo>
                    <a:lnTo>
                      <a:pt x="414" y="498"/>
                    </a:lnTo>
                    <a:lnTo>
                      <a:pt x="417" y="494"/>
                    </a:lnTo>
                    <a:lnTo>
                      <a:pt x="420" y="488"/>
                    </a:lnTo>
                    <a:lnTo>
                      <a:pt x="424" y="484"/>
                    </a:lnTo>
                    <a:lnTo>
                      <a:pt x="427" y="479"/>
                    </a:lnTo>
                    <a:lnTo>
                      <a:pt x="432" y="476"/>
                    </a:lnTo>
                    <a:lnTo>
                      <a:pt x="436" y="472"/>
                    </a:lnTo>
                    <a:lnTo>
                      <a:pt x="442" y="469"/>
                    </a:lnTo>
                    <a:lnTo>
                      <a:pt x="447" y="466"/>
                    </a:lnTo>
                    <a:lnTo>
                      <a:pt x="452" y="464"/>
                    </a:lnTo>
                    <a:lnTo>
                      <a:pt x="458" y="461"/>
                    </a:lnTo>
                    <a:lnTo>
                      <a:pt x="464" y="461"/>
                    </a:lnTo>
                    <a:lnTo>
                      <a:pt x="470" y="460"/>
                    </a:lnTo>
                    <a:lnTo>
                      <a:pt x="476" y="460"/>
                    </a:lnTo>
                    <a:lnTo>
                      <a:pt x="481" y="460"/>
                    </a:lnTo>
                    <a:lnTo>
                      <a:pt x="485" y="460"/>
                    </a:lnTo>
                    <a:lnTo>
                      <a:pt x="490" y="460"/>
                    </a:lnTo>
                    <a:lnTo>
                      <a:pt x="494" y="460"/>
                    </a:lnTo>
                    <a:lnTo>
                      <a:pt x="497" y="460"/>
                    </a:lnTo>
                    <a:lnTo>
                      <a:pt x="500" y="460"/>
                    </a:lnTo>
                    <a:lnTo>
                      <a:pt x="500" y="460"/>
                    </a:lnTo>
                    <a:lnTo>
                      <a:pt x="501" y="461"/>
                    </a:lnTo>
                    <a:lnTo>
                      <a:pt x="544" y="383"/>
                    </a:lnTo>
                    <a:lnTo>
                      <a:pt x="381" y="448"/>
                    </a:lnTo>
                    <a:lnTo>
                      <a:pt x="380" y="446"/>
                    </a:lnTo>
                    <a:lnTo>
                      <a:pt x="380" y="445"/>
                    </a:lnTo>
                    <a:lnTo>
                      <a:pt x="378" y="442"/>
                    </a:lnTo>
                    <a:lnTo>
                      <a:pt x="377" y="439"/>
                    </a:lnTo>
                    <a:lnTo>
                      <a:pt x="375" y="433"/>
                    </a:lnTo>
                    <a:lnTo>
                      <a:pt x="375" y="427"/>
                    </a:lnTo>
                    <a:lnTo>
                      <a:pt x="372" y="421"/>
                    </a:lnTo>
                    <a:lnTo>
                      <a:pt x="372" y="415"/>
                    </a:lnTo>
                    <a:lnTo>
                      <a:pt x="372" y="412"/>
                    </a:lnTo>
                    <a:lnTo>
                      <a:pt x="371" y="408"/>
                    </a:lnTo>
                    <a:lnTo>
                      <a:pt x="371" y="405"/>
                    </a:lnTo>
                    <a:lnTo>
                      <a:pt x="371" y="400"/>
                    </a:lnTo>
                    <a:lnTo>
                      <a:pt x="371" y="397"/>
                    </a:lnTo>
                    <a:lnTo>
                      <a:pt x="371" y="393"/>
                    </a:lnTo>
                    <a:lnTo>
                      <a:pt x="371" y="390"/>
                    </a:lnTo>
                    <a:lnTo>
                      <a:pt x="371" y="387"/>
                    </a:lnTo>
                    <a:lnTo>
                      <a:pt x="371" y="384"/>
                    </a:lnTo>
                    <a:lnTo>
                      <a:pt x="372" y="380"/>
                    </a:lnTo>
                    <a:lnTo>
                      <a:pt x="372" y="377"/>
                    </a:lnTo>
                    <a:lnTo>
                      <a:pt x="374" y="374"/>
                    </a:lnTo>
                    <a:lnTo>
                      <a:pt x="377" y="368"/>
                    </a:lnTo>
                    <a:lnTo>
                      <a:pt x="381" y="363"/>
                    </a:lnTo>
                    <a:lnTo>
                      <a:pt x="386" y="359"/>
                    </a:lnTo>
                    <a:lnTo>
                      <a:pt x="392" y="354"/>
                    </a:lnTo>
                    <a:lnTo>
                      <a:pt x="393" y="353"/>
                    </a:lnTo>
                    <a:lnTo>
                      <a:pt x="396" y="351"/>
                    </a:lnTo>
                    <a:lnTo>
                      <a:pt x="401" y="350"/>
                    </a:lnTo>
                    <a:lnTo>
                      <a:pt x="404" y="348"/>
                    </a:lnTo>
                    <a:lnTo>
                      <a:pt x="406" y="348"/>
                    </a:lnTo>
                    <a:lnTo>
                      <a:pt x="411" y="347"/>
                    </a:lnTo>
                    <a:lnTo>
                      <a:pt x="414" y="346"/>
                    </a:lnTo>
                    <a:lnTo>
                      <a:pt x="418" y="346"/>
                    </a:lnTo>
                    <a:lnTo>
                      <a:pt x="421" y="346"/>
                    </a:lnTo>
                    <a:lnTo>
                      <a:pt x="426" y="344"/>
                    </a:lnTo>
                    <a:lnTo>
                      <a:pt x="429" y="344"/>
                    </a:lnTo>
                    <a:lnTo>
                      <a:pt x="433" y="344"/>
                    </a:lnTo>
                    <a:lnTo>
                      <a:pt x="436" y="344"/>
                    </a:lnTo>
                    <a:lnTo>
                      <a:pt x="439" y="344"/>
                    </a:lnTo>
                    <a:lnTo>
                      <a:pt x="442" y="344"/>
                    </a:lnTo>
                    <a:lnTo>
                      <a:pt x="447" y="344"/>
                    </a:lnTo>
                    <a:lnTo>
                      <a:pt x="452" y="344"/>
                    </a:lnTo>
                    <a:lnTo>
                      <a:pt x="458" y="344"/>
                    </a:lnTo>
                    <a:lnTo>
                      <a:pt x="463" y="344"/>
                    </a:lnTo>
                    <a:lnTo>
                      <a:pt x="466" y="344"/>
                    </a:lnTo>
                    <a:lnTo>
                      <a:pt x="467" y="344"/>
                    </a:lnTo>
                    <a:lnTo>
                      <a:pt x="469" y="346"/>
                    </a:lnTo>
                    <a:lnTo>
                      <a:pt x="553" y="252"/>
                    </a:lnTo>
                    <a:lnTo>
                      <a:pt x="381" y="313"/>
                    </a:lnTo>
                    <a:lnTo>
                      <a:pt x="381" y="311"/>
                    </a:lnTo>
                    <a:lnTo>
                      <a:pt x="381" y="308"/>
                    </a:lnTo>
                    <a:lnTo>
                      <a:pt x="381" y="304"/>
                    </a:lnTo>
                    <a:lnTo>
                      <a:pt x="383" y="300"/>
                    </a:lnTo>
                    <a:lnTo>
                      <a:pt x="383" y="295"/>
                    </a:lnTo>
                    <a:lnTo>
                      <a:pt x="383" y="292"/>
                    </a:lnTo>
                    <a:lnTo>
                      <a:pt x="384" y="288"/>
                    </a:lnTo>
                    <a:lnTo>
                      <a:pt x="384" y="285"/>
                    </a:lnTo>
                    <a:lnTo>
                      <a:pt x="386" y="280"/>
                    </a:lnTo>
                    <a:lnTo>
                      <a:pt x="387" y="276"/>
                    </a:lnTo>
                    <a:lnTo>
                      <a:pt x="387" y="273"/>
                    </a:lnTo>
                    <a:lnTo>
                      <a:pt x="389" y="268"/>
                    </a:lnTo>
                    <a:lnTo>
                      <a:pt x="390" y="264"/>
                    </a:lnTo>
                    <a:lnTo>
                      <a:pt x="392" y="259"/>
                    </a:lnTo>
                    <a:lnTo>
                      <a:pt x="392" y="254"/>
                    </a:lnTo>
                    <a:lnTo>
                      <a:pt x="395" y="251"/>
                    </a:lnTo>
                    <a:lnTo>
                      <a:pt x="395" y="245"/>
                    </a:lnTo>
                    <a:lnTo>
                      <a:pt x="398" y="240"/>
                    </a:lnTo>
                    <a:lnTo>
                      <a:pt x="399" y="236"/>
                    </a:lnTo>
                    <a:lnTo>
                      <a:pt x="401" y="233"/>
                    </a:lnTo>
                    <a:lnTo>
                      <a:pt x="402" y="228"/>
                    </a:lnTo>
                    <a:lnTo>
                      <a:pt x="405" y="224"/>
                    </a:lnTo>
                    <a:lnTo>
                      <a:pt x="406" y="219"/>
                    </a:lnTo>
                    <a:lnTo>
                      <a:pt x="409" y="216"/>
                    </a:lnTo>
                    <a:lnTo>
                      <a:pt x="414" y="210"/>
                    </a:lnTo>
                    <a:lnTo>
                      <a:pt x="420" y="206"/>
                    </a:lnTo>
                    <a:lnTo>
                      <a:pt x="424" y="200"/>
                    </a:lnTo>
                    <a:lnTo>
                      <a:pt x="430" y="197"/>
                    </a:lnTo>
                    <a:lnTo>
                      <a:pt x="436" y="194"/>
                    </a:lnTo>
                    <a:lnTo>
                      <a:pt x="444" y="194"/>
                    </a:lnTo>
                    <a:lnTo>
                      <a:pt x="450" y="193"/>
                    </a:lnTo>
                    <a:lnTo>
                      <a:pt x="455" y="193"/>
                    </a:lnTo>
                    <a:lnTo>
                      <a:pt x="463" y="194"/>
                    </a:lnTo>
                    <a:lnTo>
                      <a:pt x="469" y="196"/>
                    </a:lnTo>
                    <a:lnTo>
                      <a:pt x="475" y="196"/>
                    </a:lnTo>
                    <a:lnTo>
                      <a:pt x="481" y="197"/>
                    </a:lnTo>
                    <a:lnTo>
                      <a:pt x="485" y="200"/>
                    </a:lnTo>
                    <a:lnTo>
                      <a:pt x="490" y="202"/>
                    </a:lnTo>
                    <a:lnTo>
                      <a:pt x="493" y="203"/>
                    </a:lnTo>
                    <a:lnTo>
                      <a:pt x="496" y="205"/>
                    </a:lnTo>
                    <a:lnTo>
                      <a:pt x="497" y="205"/>
                    </a:lnTo>
                    <a:lnTo>
                      <a:pt x="498" y="206"/>
                    </a:lnTo>
                    <a:lnTo>
                      <a:pt x="498" y="205"/>
                    </a:lnTo>
                    <a:lnTo>
                      <a:pt x="500" y="203"/>
                    </a:lnTo>
                    <a:lnTo>
                      <a:pt x="501" y="200"/>
                    </a:lnTo>
                    <a:lnTo>
                      <a:pt x="506" y="197"/>
                    </a:lnTo>
                    <a:lnTo>
                      <a:pt x="509" y="193"/>
                    </a:lnTo>
                    <a:lnTo>
                      <a:pt x="513" y="187"/>
                    </a:lnTo>
                    <a:lnTo>
                      <a:pt x="518" y="181"/>
                    </a:lnTo>
                    <a:lnTo>
                      <a:pt x="525" y="175"/>
                    </a:lnTo>
                    <a:lnTo>
                      <a:pt x="527" y="170"/>
                    </a:lnTo>
                    <a:lnTo>
                      <a:pt x="530" y="167"/>
                    </a:lnTo>
                    <a:lnTo>
                      <a:pt x="533" y="163"/>
                    </a:lnTo>
                    <a:lnTo>
                      <a:pt x="537" y="160"/>
                    </a:lnTo>
                    <a:lnTo>
                      <a:pt x="540" y="156"/>
                    </a:lnTo>
                    <a:lnTo>
                      <a:pt x="544" y="151"/>
                    </a:lnTo>
                    <a:lnTo>
                      <a:pt x="547" y="147"/>
                    </a:lnTo>
                    <a:lnTo>
                      <a:pt x="552" y="144"/>
                    </a:lnTo>
                    <a:lnTo>
                      <a:pt x="555" y="138"/>
                    </a:lnTo>
                    <a:lnTo>
                      <a:pt x="559" y="135"/>
                    </a:lnTo>
                    <a:lnTo>
                      <a:pt x="562" y="130"/>
                    </a:lnTo>
                    <a:lnTo>
                      <a:pt x="567" y="126"/>
                    </a:lnTo>
                    <a:lnTo>
                      <a:pt x="570" y="121"/>
                    </a:lnTo>
                    <a:lnTo>
                      <a:pt x="574" y="117"/>
                    </a:lnTo>
                    <a:lnTo>
                      <a:pt x="577" y="113"/>
                    </a:lnTo>
                    <a:lnTo>
                      <a:pt x="582" y="108"/>
                    </a:lnTo>
                    <a:lnTo>
                      <a:pt x="585" y="104"/>
                    </a:lnTo>
                    <a:lnTo>
                      <a:pt x="588" y="99"/>
                    </a:lnTo>
                    <a:lnTo>
                      <a:pt x="590" y="95"/>
                    </a:lnTo>
                    <a:lnTo>
                      <a:pt x="595" y="90"/>
                    </a:lnTo>
                    <a:lnTo>
                      <a:pt x="598" y="84"/>
                    </a:lnTo>
                    <a:lnTo>
                      <a:pt x="601" y="81"/>
                    </a:lnTo>
                    <a:lnTo>
                      <a:pt x="604" y="75"/>
                    </a:lnTo>
                    <a:lnTo>
                      <a:pt x="608" y="72"/>
                    </a:lnTo>
                    <a:lnTo>
                      <a:pt x="610" y="67"/>
                    </a:lnTo>
                    <a:lnTo>
                      <a:pt x="613" y="62"/>
                    </a:lnTo>
                    <a:lnTo>
                      <a:pt x="616" y="59"/>
                    </a:lnTo>
                    <a:lnTo>
                      <a:pt x="620" y="55"/>
                    </a:lnTo>
                    <a:lnTo>
                      <a:pt x="622" y="50"/>
                    </a:lnTo>
                    <a:lnTo>
                      <a:pt x="625" y="47"/>
                    </a:lnTo>
                    <a:lnTo>
                      <a:pt x="628" y="43"/>
                    </a:lnTo>
                    <a:lnTo>
                      <a:pt x="631" y="40"/>
                    </a:lnTo>
                    <a:lnTo>
                      <a:pt x="632" y="37"/>
                    </a:lnTo>
                    <a:lnTo>
                      <a:pt x="634" y="32"/>
                    </a:lnTo>
                    <a:lnTo>
                      <a:pt x="635" y="29"/>
                    </a:lnTo>
                    <a:lnTo>
                      <a:pt x="638" y="28"/>
                    </a:lnTo>
                    <a:lnTo>
                      <a:pt x="641" y="22"/>
                    </a:lnTo>
                    <a:lnTo>
                      <a:pt x="645" y="18"/>
                    </a:lnTo>
                    <a:lnTo>
                      <a:pt x="647" y="13"/>
                    </a:lnTo>
                    <a:lnTo>
                      <a:pt x="648" y="12"/>
                    </a:lnTo>
                    <a:lnTo>
                      <a:pt x="650" y="9"/>
                    </a:lnTo>
                    <a:lnTo>
                      <a:pt x="650" y="9"/>
                    </a:lnTo>
                    <a:lnTo>
                      <a:pt x="442" y="0"/>
                    </a:lnTo>
                    <a:lnTo>
                      <a:pt x="442"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3303360" y="1743120"/>
                <a:ext cx="1089000" cy="614160"/>
              </a:xfrm>
              <a:custGeom>
                <a:avLst/>
                <a:gdLst/>
                <a:ahLst/>
                <a:rect l="l" t="t" r="r" b="b"/>
                <a:pathLst>
                  <a:path w="1372" h="774">
                    <a:moveTo>
                      <a:pt x="0" y="774"/>
                    </a:moveTo>
                    <a:lnTo>
                      <a:pt x="0" y="773"/>
                    </a:lnTo>
                    <a:lnTo>
                      <a:pt x="0" y="771"/>
                    </a:lnTo>
                    <a:lnTo>
                      <a:pt x="1" y="770"/>
                    </a:lnTo>
                    <a:lnTo>
                      <a:pt x="4" y="767"/>
                    </a:lnTo>
                    <a:lnTo>
                      <a:pt x="6" y="762"/>
                    </a:lnTo>
                    <a:lnTo>
                      <a:pt x="10" y="758"/>
                    </a:lnTo>
                    <a:lnTo>
                      <a:pt x="13" y="752"/>
                    </a:lnTo>
                    <a:lnTo>
                      <a:pt x="18" y="746"/>
                    </a:lnTo>
                    <a:lnTo>
                      <a:pt x="19" y="742"/>
                    </a:lnTo>
                    <a:lnTo>
                      <a:pt x="21" y="739"/>
                    </a:lnTo>
                    <a:lnTo>
                      <a:pt x="24" y="734"/>
                    </a:lnTo>
                    <a:lnTo>
                      <a:pt x="27" y="731"/>
                    </a:lnTo>
                    <a:lnTo>
                      <a:pt x="29" y="727"/>
                    </a:lnTo>
                    <a:lnTo>
                      <a:pt x="32" y="722"/>
                    </a:lnTo>
                    <a:lnTo>
                      <a:pt x="35" y="719"/>
                    </a:lnTo>
                    <a:lnTo>
                      <a:pt x="38" y="715"/>
                    </a:lnTo>
                    <a:lnTo>
                      <a:pt x="41" y="709"/>
                    </a:lnTo>
                    <a:lnTo>
                      <a:pt x="44" y="705"/>
                    </a:lnTo>
                    <a:lnTo>
                      <a:pt x="49" y="700"/>
                    </a:lnTo>
                    <a:lnTo>
                      <a:pt x="52" y="696"/>
                    </a:lnTo>
                    <a:lnTo>
                      <a:pt x="56" y="690"/>
                    </a:lnTo>
                    <a:lnTo>
                      <a:pt x="59" y="685"/>
                    </a:lnTo>
                    <a:lnTo>
                      <a:pt x="64" y="681"/>
                    </a:lnTo>
                    <a:lnTo>
                      <a:pt x="68" y="676"/>
                    </a:lnTo>
                    <a:lnTo>
                      <a:pt x="71" y="670"/>
                    </a:lnTo>
                    <a:lnTo>
                      <a:pt x="75" y="664"/>
                    </a:lnTo>
                    <a:lnTo>
                      <a:pt x="80" y="659"/>
                    </a:lnTo>
                    <a:lnTo>
                      <a:pt x="84" y="654"/>
                    </a:lnTo>
                    <a:lnTo>
                      <a:pt x="89" y="648"/>
                    </a:lnTo>
                    <a:lnTo>
                      <a:pt x="93" y="642"/>
                    </a:lnTo>
                    <a:lnTo>
                      <a:pt x="98" y="636"/>
                    </a:lnTo>
                    <a:lnTo>
                      <a:pt x="104" y="630"/>
                    </a:lnTo>
                    <a:lnTo>
                      <a:pt x="108" y="624"/>
                    </a:lnTo>
                    <a:lnTo>
                      <a:pt x="113" y="618"/>
                    </a:lnTo>
                    <a:lnTo>
                      <a:pt x="117" y="613"/>
                    </a:lnTo>
                    <a:lnTo>
                      <a:pt x="123" y="607"/>
                    </a:lnTo>
                    <a:lnTo>
                      <a:pt x="127" y="601"/>
                    </a:lnTo>
                    <a:lnTo>
                      <a:pt x="133" y="595"/>
                    </a:lnTo>
                    <a:lnTo>
                      <a:pt x="139" y="589"/>
                    </a:lnTo>
                    <a:lnTo>
                      <a:pt x="145" y="583"/>
                    </a:lnTo>
                    <a:lnTo>
                      <a:pt x="150" y="577"/>
                    </a:lnTo>
                    <a:lnTo>
                      <a:pt x="156" y="571"/>
                    </a:lnTo>
                    <a:lnTo>
                      <a:pt x="162" y="565"/>
                    </a:lnTo>
                    <a:lnTo>
                      <a:pt x="167" y="559"/>
                    </a:lnTo>
                    <a:lnTo>
                      <a:pt x="172" y="553"/>
                    </a:lnTo>
                    <a:lnTo>
                      <a:pt x="179" y="547"/>
                    </a:lnTo>
                    <a:lnTo>
                      <a:pt x="185" y="541"/>
                    </a:lnTo>
                    <a:lnTo>
                      <a:pt x="191" y="535"/>
                    </a:lnTo>
                    <a:lnTo>
                      <a:pt x="197" y="529"/>
                    </a:lnTo>
                    <a:lnTo>
                      <a:pt x="205" y="523"/>
                    </a:lnTo>
                    <a:lnTo>
                      <a:pt x="210" y="518"/>
                    </a:lnTo>
                    <a:lnTo>
                      <a:pt x="218" y="512"/>
                    </a:lnTo>
                    <a:lnTo>
                      <a:pt x="224" y="506"/>
                    </a:lnTo>
                    <a:lnTo>
                      <a:pt x="230" y="500"/>
                    </a:lnTo>
                    <a:lnTo>
                      <a:pt x="236" y="495"/>
                    </a:lnTo>
                    <a:lnTo>
                      <a:pt x="243" y="489"/>
                    </a:lnTo>
                    <a:lnTo>
                      <a:pt x="251" y="485"/>
                    </a:lnTo>
                    <a:lnTo>
                      <a:pt x="256" y="479"/>
                    </a:lnTo>
                    <a:lnTo>
                      <a:pt x="264" y="473"/>
                    </a:lnTo>
                    <a:lnTo>
                      <a:pt x="271" y="469"/>
                    </a:lnTo>
                    <a:lnTo>
                      <a:pt x="277" y="463"/>
                    </a:lnTo>
                    <a:lnTo>
                      <a:pt x="285" y="458"/>
                    </a:lnTo>
                    <a:lnTo>
                      <a:pt x="292" y="452"/>
                    </a:lnTo>
                    <a:lnTo>
                      <a:pt x="300" y="448"/>
                    </a:lnTo>
                    <a:lnTo>
                      <a:pt x="305" y="443"/>
                    </a:lnTo>
                    <a:lnTo>
                      <a:pt x="313" y="439"/>
                    </a:lnTo>
                    <a:lnTo>
                      <a:pt x="319" y="434"/>
                    </a:lnTo>
                    <a:lnTo>
                      <a:pt x="326" y="430"/>
                    </a:lnTo>
                    <a:lnTo>
                      <a:pt x="334" y="426"/>
                    </a:lnTo>
                    <a:lnTo>
                      <a:pt x="341" y="421"/>
                    </a:lnTo>
                    <a:lnTo>
                      <a:pt x="348" y="417"/>
                    </a:lnTo>
                    <a:lnTo>
                      <a:pt x="356" y="414"/>
                    </a:lnTo>
                    <a:lnTo>
                      <a:pt x="363" y="409"/>
                    </a:lnTo>
                    <a:lnTo>
                      <a:pt x="369" y="405"/>
                    </a:lnTo>
                    <a:lnTo>
                      <a:pt x="377" y="400"/>
                    </a:lnTo>
                    <a:lnTo>
                      <a:pt x="383" y="396"/>
                    </a:lnTo>
                    <a:lnTo>
                      <a:pt x="390" y="393"/>
                    </a:lnTo>
                    <a:lnTo>
                      <a:pt x="396" y="388"/>
                    </a:lnTo>
                    <a:lnTo>
                      <a:pt x="403" y="385"/>
                    </a:lnTo>
                    <a:lnTo>
                      <a:pt x="411" y="383"/>
                    </a:lnTo>
                    <a:lnTo>
                      <a:pt x="417" y="378"/>
                    </a:lnTo>
                    <a:lnTo>
                      <a:pt x="424" y="375"/>
                    </a:lnTo>
                    <a:lnTo>
                      <a:pt x="430" y="371"/>
                    </a:lnTo>
                    <a:lnTo>
                      <a:pt x="438" y="369"/>
                    </a:lnTo>
                    <a:lnTo>
                      <a:pt x="443" y="365"/>
                    </a:lnTo>
                    <a:lnTo>
                      <a:pt x="449" y="362"/>
                    </a:lnTo>
                    <a:lnTo>
                      <a:pt x="455" y="359"/>
                    </a:lnTo>
                    <a:lnTo>
                      <a:pt x="463" y="357"/>
                    </a:lnTo>
                    <a:lnTo>
                      <a:pt x="467" y="353"/>
                    </a:lnTo>
                    <a:lnTo>
                      <a:pt x="473" y="350"/>
                    </a:lnTo>
                    <a:lnTo>
                      <a:pt x="479" y="347"/>
                    </a:lnTo>
                    <a:lnTo>
                      <a:pt x="485" y="345"/>
                    </a:lnTo>
                    <a:lnTo>
                      <a:pt x="489" y="342"/>
                    </a:lnTo>
                    <a:lnTo>
                      <a:pt x="495" y="339"/>
                    </a:lnTo>
                    <a:lnTo>
                      <a:pt x="501" y="338"/>
                    </a:lnTo>
                    <a:lnTo>
                      <a:pt x="507" y="337"/>
                    </a:lnTo>
                    <a:lnTo>
                      <a:pt x="512" y="334"/>
                    </a:lnTo>
                    <a:lnTo>
                      <a:pt x="516" y="331"/>
                    </a:lnTo>
                    <a:lnTo>
                      <a:pt x="521" y="329"/>
                    </a:lnTo>
                    <a:lnTo>
                      <a:pt x="525" y="328"/>
                    </a:lnTo>
                    <a:lnTo>
                      <a:pt x="530" y="326"/>
                    </a:lnTo>
                    <a:lnTo>
                      <a:pt x="534" y="325"/>
                    </a:lnTo>
                    <a:lnTo>
                      <a:pt x="538" y="323"/>
                    </a:lnTo>
                    <a:lnTo>
                      <a:pt x="541" y="322"/>
                    </a:lnTo>
                    <a:lnTo>
                      <a:pt x="546" y="320"/>
                    </a:lnTo>
                    <a:lnTo>
                      <a:pt x="549" y="319"/>
                    </a:lnTo>
                    <a:lnTo>
                      <a:pt x="552" y="317"/>
                    </a:lnTo>
                    <a:lnTo>
                      <a:pt x="555" y="316"/>
                    </a:lnTo>
                    <a:lnTo>
                      <a:pt x="561" y="314"/>
                    </a:lnTo>
                    <a:lnTo>
                      <a:pt x="565" y="313"/>
                    </a:lnTo>
                    <a:lnTo>
                      <a:pt x="568" y="311"/>
                    </a:lnTo>
                    <a:lnTo>
                      <a:pt x="571" y="310"/>
                    </a:lnTo>
                    <a:lnTo>
                      <a:pt x="573" y="310"/>
                    </a:lnTo>
                    <a:lnTo>
                      <a:pt x="574" y="310"/>
                    </a:lnTo>
                    <a:lnTo>
                      <a:pt x="574" y="310"/>
                    </a:lnTo>
                    <a:lnTo>
                      <a:pt x="576" y="308"/>
                    </a:lnTo>
                    <a:lnTo>
                      <a:pt x="577" y="305"/>
                    </a:lnTo>
                    <a:lnTo>
                      <a:pt x="581" y="304"/>
                    </a:lnTo>
                    <a:lnTo>
                      <a:pt x="586" y="299"/>
                    </a:lnTo>
                    <a:lnTo>
                      <a:pt x="592" y="295"/>
                    </a:lnTo>
                    <a:lnTo>
                      <a:pt x="595" y="293"/>
                    </a:lnTo>
                    <a:lnTo>
                      <a:pt x="598" y="291"/>
                    </a:lnTo>
                    <a:lnTo>
                      <a:pt x="602" y="288"/>
                    </a:lnTo>
                    <a:lnTo>
                      <a:pt x="607" y="286"/>
                    </a:lnTo>
                    <a:lnTo>
                      <a:pt x="610" y="282"/>
                    </a:lnTo>
                    <a:lnTo>
                      <a:pt x="614" y="279"/>
                    </a:lnTo>
                    <a:lnTo>
                      <a:pt x="619" y="276"/>
                    </a:lnTo>
                    <a:lnTo>
                      <a:pt x="624" y="273"/>
                    </a:lnTo>
                    <a:lnTo>
                      <a:pt x="627" y="270"/>
                    </a:lnTo>
                    <a:lnTo>
                      <a:pt x="633" y="265"/>
                    </a:lnTo>
                    <a:lnTo>
                      <a:pt x="639" y="262"/>
                    </a:lnTo>
                    <a:lnTo>
                      <a:pt x="645" y="259"/>
                    </a:lnTo>
                    <a:lnTo>
                      <a:pt x="650" y="255"/>
                    </a:lnTo>
                    <a:lnTo>
                      <a:pt x="656" y="250"/>
                    </a:lnTo>
                    <a:lnTo>
                      <a:pt x="662" y="246"/>
                    </a:lnTo>
                    <a:lnTo>
                      <a:pt x="669" y="243"/>
                    </a:lnTo>
                    <a:lnTo>
                      <a:pt x="673" y="239"/>
                    </a:lnTo>
                    <a:lnTo>
                      <a:pt x="681" y="234"/>
                    </a:lnTo>
                    <a:lnTo>
                      <a:pt x="688" y="230"/>
                    </a:lnTo>
                    <a:lnTo>
                      <a:pt x="696" y="225"/>
                    </a:lnTo>
                    <a:lnTo>
                      <a:pt x="702" y="221"/>
                    </a:lnTo>
                    <a:lnTo>
                      <a:pt x="708" y="216"/>
                    </a:lnTo>
                    <a:lnTo>
                      <a:pt x="715" y="212"/>
                    </a:lnTo>
                    <a:lnTo>
                      <a:pt x="722" y="207"/>
                    </a:lnTo>
                    <a:lnTo>
                      <a:pt x="730" y="203"/>
                    </a:lnTo>
                    <a:lnTo>
                      <a:pt x="737" y="199"/>
                    </a:lnTo>
                    <a:lnTo>
                      <a:pt x="746" y="193"/>
                    </a:lnTo>
                    <a:lnTo>
                      <a:pt x="754" y="188"/>
                    </a:lnTo>
                    <a:lnTo>
                      <a:pt x="761" y="184"/>
                    </a:lnTo>
                    <a:lnTo>
                      <a:pt x="770" y="179"/>
                    </a:lnTo>
                    <a:lnTo>
                      <a:pt x="777" y="173"/>
                    </a:lnTo>
                    <a:lnTo>
                      <a:pt x="786" y="169"/>
                    </a:lnTo>
                    <a:lnTo>
                      <a:pt x="795" y="164"/>
                    </a:lnTo>
                    <a:lnTo>
                      <a:pt x="804" y="160"/>
                    </a:lnTo>
                    <a:lnTo>
                      <a:pt x="811" y="155"/>
                    </a:lnTo>
                    <a:lnTo>
                      <a:pt x="820" y="151"/>
                    </a:lnTo>
                    <a:lnTo>
                      <a:pt x="829" y="147"/>
                    </a:lnTo>
                    <a:lnTo>
                      <a:pt x="838" y="142"/>
                    </a:lnTo>
                    <a:lnTo>
                      <a:pt x="846" y="136"/>
                    </a:lnTo>
                    <a:lnTo>
                      <a:pt x="856" y="132"/>
                    </a:lnTo>
                    <a:lnTo>
                      <a:pt x="865" y="127"/>
                    </a:lnTo>
                    <a:lnTo>
                      <a:pt x="874" y="123"/>
                    </a:lnTo>
                    <a:lnTo>
                      <a:pt x="883" y="118"/>
                    </a:lnTo>
                    <a:lnTo>
                      <a:pt x="893" y="114"/>
                    </a:lnTo>
                    <a:lnTo>
                      <a:pt x="902" y="109"/>
                    </a:lnTo>
                    <a:lnTo>
                      <a:pt x="911" y="105"/>
                    </a:lnTo>
                    <a:lnTo>
                      <a:pt x="920" y="102"/>
                    </a:lnTo>
                    <a:lnTo>
                      <a:pt x="930" y="98"/>
                    </a:lnTo>
                    <a:lnTo>
                      <a:pt x="939" y="93"/>
                    </a:lnTo>
                    <a:lnTo>
                      <a:pt x="948" y="90"/>
                    </a:lnTo>
                    <a:lnTo>
                      <a:pt x="957" y="86"/>
                    </a:lnTo>
                    <a:lnTo>
                      <a:pt x="967" y="83"/>
                    </a:lnTo>
                    <a:lnTo>
                      <a:pt x="976" y="80"/>
                    </a:lnTo>
                    <a:lnTo>
                      <a:pt x="987" y="75"/>
                    </a:lnTo>
                    <a:lnTo>
                      <a:pt x="995" y="71"/>
                    </a:lnTo>
                    <a:lnTo>
                      <a:pt x="1004" y="68"/>
                    </a:lnTo>
                    <a:lnTo>
                      <a:pt x="1013" y="65"/>
                    </a:lnTo>
                    <a:lnTo>
                      <a:pt x="1024" y="62"/>
                    </a:lnTo>
                    <a:lnTo>
                      <a:pt x="1033" y="59"/>
                    </a:lnTo>
                    <a:lnTo>
                      <a:pt x="1041" y="56"/>
                    </a:lnTo>
                    <a:lnTo>
                      <a:pt x="1050" y="53"/>
                    </a:lnTo>
                    <a:lnTo>
                      <a:pt x="1059" y="52"/>
                    </a:lnTo>
                    <a:lnTo>
                      <a:pt x="1070" y="49"/>
                    </a:lnTo>
                    <a:lnTo>
                      <a:pt x="1079" y="46"/>
                    </a:lnTo>
                    <a:lnTo>
                      <a:pt x="1087" y="43"/>
                    </a:lnTo>
                    <a:lnTo>
                      <a:pt x="1096" y="41"/>
                    </a:lnTo>
                    <a:lnTo>
                      <a:pt x="1105" y="38"/>
                    </a:lnTo>
                    <a:lnTo>
                      <a:pt x="1114" y="37"/>
                    </a:lnTo>
                    <a:lnTo>
                      <a:pt x="1123" y="34"/>
                    </a:lnTo>
                    <a:lnTo>
                      <a:pt x="1132" y="32"/>
                    </a:lnTo>
                    <a:lnTo>
                      <a:pt x="1139" y="31"/>
                    </a:lnTo>
                    <a:lnTo>
                      <a:pt x="1150" y="29"/>
                    </a:lnTo>
                    <a:lnTo>
                      <a:pt x="1157" y="26"/>
                    </a:lnTo>
                    <a:lnTo>
                      <a:pt x="1166" y="25"/>
                    </a:lnTo>
                    <a:lnTo>
                      <a:pt x="1173" y="23"/>
                    </a:lnTo>
                    <a:lnTo>
                      <a:pt x="1182" y="22"/>
                    </a:lnTo>
                    <a:lnTo>
                      <a:pt x="1190" y="20"/>
                    </a:lnTo>
                    <a:lnTo>
                      <a:pt x="1199" y="19"/>
                    </a:lnTo>
                    <a:lnTo>
                      <a:pt x="1206" y="17"/>
                    </a:lnTo>
                    <a:lnTo>
                      <a:pt x="1215" y="16"/>
                    </a:lnTo>
                    <a:lnTo>
                      <a:pt x="1222" y="15"/>
                    </a:lnTo>
                    <a:lnTo>
                      <a:pt x="1230" y="15"/>
                    </a:lnTo>
                    <a:lnTo>
                      <a:pt x="1237" y="13"/>
                    </a:lnTo>
                    <a:lnTo>
                      <a:pt x="1245" y="13"/>
                    </a:lnTo>
                    <a:lnTo>
                      <a:pt x="1251" y="12"/>
                    </a:lnTo>
                    <a:lnTo>
                      <a:pt x="1258" y="10"/>
                    </a:lnTo>
                    <a:lnTo>
                      <a:pt x="1264" y="9"/>
                    </a:lnTo>
                    <a:lnTo>
                      <a:pt x="1271" y="9"/>
                    </a:lnTo>
                    <a:lnTo>
                      <a:pt x="1277" y="7"/>
                    </a:lnTo>
                    <a:lnTo>
                      <a:pt x="1283" y="7"/>
                    </a:lnTo>
                    <a:lnTo>
                      <a:pt x="1289" y="6"/>
                    </a:lnTo>
                    <a:lnTo>
                      <a:pt x="1297" y="6"/>
                    </a:lnTo>
                    <a:lnTo>
                      <a:pt x="1301" y="4"/>
                    </a:lnTo>
                    <a:lnTo>
                      <a:pt x="1307" y="4"/>
                    </a:lnTo>
                    <a:lnTo>
                      <a:pt x="1313" y="3"/>
                    </a:lnTo>
                    <a:lnTo>
                      <a:pt x="1319" y="3"/>
                    </a:lnTo>
                    <a:lnTo>
                      <a:pt x="1323" y="3"/>
                    </a:lnTo>
                    <a:lnTo>
                      <a:pt x="1328" y="3"/>
                    </a:lnTo>
                    <a:lnTo>
                      <a:pt x="1332" y="3"/>
                    </a:lnTo>
                    <a:lnTo>
                      <a:pt x="1337" y="3"/>
                    </a:lnTo>
                    <a:lnTo>
                      <a:pt x="1341" y="1"/>
                    </a:lnTo>
                    <a:lnTo>
                      <a:pt x="1344" y="1"/>
                    </a:lnTo>
                    <a:lnTo>
                      <a:pt x="1349" y="0"/>
                    </a:lnTo>
                    <a:lnTo>
                      <a:pt x="1352" y="0"/>
                    </a:lnTo>
                    <a:lnTo>
                      <a:pt x="1357" y="0"/>
                    </a:lnTo>
                    <a:lnTo>
                      <a:pt x="1363" y="0"/>
                    </a:lnTo>
                    <a:lnTo>
                      <a:pt x="1366" y="0"/>
                    </a:lnTo>
                    <a:lnTo>
                      <a:pt x="1369" y="0"/>
                    </a:lnTo>
                    <a:lnTo>
                      <a:pt x="1371" y="0"/>
                    </a:lnTo>
                    <a:lnTo>
                      <a:pt x="1372" y="0"/>
                    </a:lnTo>
                    <a:lnTo>
                      <a:pt x="1371" y="0"/>
                    </a:lnTo>
                    <a:lnTo>
                      <a:pt x="1369" y="0"/>
                    </a:lnTo>
                    <a:lnTo>
                      <a:pt x="1366" y="1"/>
                    </a:lnTo>
                    <a:lnTo>
                      <a:pt x="1363" y="3"/>
                    </a:lnTo>
                    <a:lnTo>
                      <a:pt x="1357" y="3"/>
                    </a:lnTo>
                    <a:lnTo>
                      <a:pt x="1353" y="4"/>
                    </a:lnTo>
                    <a:lnTo>
                      <a:pt x="1349" y="4"/>
                    </a:lnTo>
                    <a:lnTo>
                      <a:pt x="1346" y="6"/>
                    </a:lnTo>
                    <a:lnTo>
                      <a:pt x="1343" y="7"/>
                    </a:lnTo>
                    <a:lnTo>
                      <a:pt x="1340" y="7"/>
                    </a:lnTo>
                    <a:lnTo>
                      <a:pt x="1335" y="9"/>
                    </a:lnTo>
                    <a:lnTo>
                      <a:pt x="1331" y="10"/>
                    </a:lnTo>
                    <a:lnTo>
                      <a:pt x="1326" y="10"/>
                    </a:lnTo>
                    <a:lnTo>
                      <a:pt x="1322" y="12"/>
                    </a:lnTo>
                    <a:lnTo>
                      <a:pt x="1316" y="13"/>
                    </a:lnTo>
                    <a:lnTo>
                      <a:pt x="1311" y="15"/>
                    </a:lnTo>
                    <a:lnTo>
                      <a:pt x="1307" y="16"/>
                    </a:lnTo>
                    <a:lnTo>
                      <a:pt x="1301" y="17"/>
                    </a:lnTo>
                    <a:lnTo>
                      <a:pt x="1295" y="19"/>
                    </a:lnTo>
                    <a:lnTo>
                      <a:pt x="1289" y="20"/>
                    </a:lnTo>
                    <a:lnTo>
                      <a:pt x="1283" y="22"/>
                    </a:lnTo>
                    <a:lnTo>
                      <a:pt x="1277" y="23"/>
                    </a:lnTo>
                    <a:lnTo>
                      <a:pt x="1271" y="26"/>
                    </a:lnTo>
                    <a:lnTo>
                      <a:pt x="1265" y="28"/>
                    </a:lnTo>
                    <a:lnTo>
                      <a:pt x="1260" y="29"/>
                    </a:lnTo>
                    <a:lnTo>
                      <a:pt x="1254" y="32"/>
                    </a:lnTo>
                    <a:lnTo>
                      <a:pt x="1246" y="34"/>
                    </a:lnTo>
                    <a:lnTo>
                      <a:pt x="1239" y="35"/>
                    </a:lnTo>
                    <a:lnTo>
                      <a:pt x="1231" y="37"/>
                    </a:lnTo>
                    <a:lnTo>
                      <a:pt x="1225" y="40"/>
                    </a:lnTo>
                    <a:lnTo>
                      <a:pt x="1218" y="41"/>
                    </a:lnTo>
                    <a:lnTo>
                      <a:pt x="1211" y="44"/>
                    </a:lnTo>
                    <a:lnTo>
                      <a:pt x="1203" y="47"/>
                    </a:lnTo>
                    <a:lnTo>
                      <a:pt x="1196" y="49"/>
                    </a:lnTo>
                    <a:lnTo>
                      <a:pt x="1187" y="52"/>
                    </a:lnTo>
                    <a:lnTo>
                      <a:pt x="1179" y="55"/>
                    </a:lnTo>
                    <a:lnTo>
                      <a:pt x="1171" y="56"/>
                    </a:lnTo>
                    <a:lnTo>
                      <a:pt x="1163" y="61"/>
                    </a:lnTo>
                    <a:lnTo>
                      <a:pt x="1156" y="62"/>
                    </a:lnTo>
                    <a:lnTo>
                      <a:pt x="1147" y="65"/>
                    </a:lnTo>
                    <a:lnTo>
                      <a:pt x="1139" y="68"/>
                    </a:lnTo>
                    <a:lnTo>
                      <a:pt x="1132" y="71"/>
                    </a:lnTo>
                    <a:lnTo>
                      <a:pt x="1123" y="74"/>
                    </a:lnTo>
                    <a:lnTo>
                      <a:pt x="1114" y="77"/>
                    </a:lnTo>
                    <a:lnTo>
                      <a:pt x="1105" y="80"/>
                    </a:lnTo>
                    <a:lnTo>
                      <a:pt x="1098" y="84"/>
                    </a:lnTo>
                    <a:lnTo>
                      <a:pt x="1089" y="87"/>
                    </a:lnTo>
                    <a:lnTo>
                      <a:pt x="1080" y="90"/>
                    </a:lnTo>
                    <a:lnTo>
                      <a:pt x="1071" y="95"/>
                    </a:lnTo>
                    <a:lnTo>
                      <a:pt x="1064" y="98"/>
                    </a:lnTo>
                    <a:lnTo>
                      <a:pt x="1055" y="102"/>
                    </a:lnTo>
                    <a:lnTo>
                      <a:pt x="1046" y="105"/>
                    </a:lnTo>
                    <a:lnTo>
                      <a:pt x="1037" y="109"/>
                    </a:lnTo>
                    <a:lnTo>
                      <a:pt x="1028" y="112"/>
                    </a:lnTo>
                    <a:lnTo>
                      <a:pt x="1019" y="117"/>
                    </a:lnTo>
                    <a:lnTo>
                      <a:pt x="1010" y="120"/>
                    </a:lnTo>
                    <a:lnTo>
                      <a:pt x="1001" y="124"/>
                    </a:lnTo>
                    <a:lnTo>
                      <a:pt x="994" y="129"/>
                    </a:lnTo>
                    <a:lnTo>
                      <a:pt x="984" y="132"/>
                    </a:lnTo>
                    <a:lnTo>
                      <a:pt x="975" y="136"/>
                    </a:lnTo>
                    <a:lnTo>
                      <a:pt x="966" y="141"/>
                    </a:lnTo>
                    <a:lnTo>
                      <a:pt x="957" y="145"/>
                    </a:lnTo>
                    <a:lnTo>
                      <a:pt x="948" y="150"/>
                    </a:lnTo>
                    <a:lnTo>
                      <a:pt x="939" y="154"/>
                    </a:lnTo>
                    <a:lnTo>
                      <a:pt x="932" y="158"/>
                    </a:lnTo>
                    <a:lnTo>
                      <a:pt x="923" y="163"/>
                    </a:lnTo>
                    <a:lnTo>
                      <a:pt x="912" y="167"/>
                    </a:lnTo>
                    <a:lnTo>
                      <a:pt x="905" y="172"/>
                    </a:lnTo>
                    <a:lnTo>
                      <a:pt x="896" y="176"/>
                    </a:lnTo>
                    <a:lnTo>
                      <a:pt x="887" y="181"/>
                    </a:lnTo>
                    <a:lnTo>
                      <a:pt x="878" y="185"/>
                    </a:lnTo>
                    <a:lnTo>
                      <a:pt x="871" y="191"/>
                    </a:lnTo>
                    <a:lnTo>
                      <a:pt x="862" y="196"/>
                    </a:lnTo>
                    <a:lnTo>
                      <a:pt x="854" y="200"/>
                    </a:lnTo>
                    <a:lnTo>
                      <a:pt x="846" y="203"/>
                    </a:lnTo>
                    <a:lnTo>
                      <a:pt x="838" y="209"/>
                    </a:lnTo>
                    <a:lnTo>
                      <a:pt x="829" y="213"/>
                    </a:lnTo>
                    <a:lnTo>
                      <a:pt x="822" y="218"/>
                    </a:lnTo>
                    <a:lnTo>
                      <a:pt x="814" y="222"/>
                    </a:lnTo>
                    <a:lnTo>
                      <a:pt x="806" y="227"/>
                    </a:lnTo>
                    <a:lnTo>
                      <a:pt x="798" y="231"/>
                    </a:lnTo>
                    <a:lnTo>
                      <a:pt x="791" y="236"/>
                    </a:lnTo>
                    <a:lnTo>
                      <a:pt x="783" y="240"/>
                    </a:lnTo>
                    <a:lnTo>
                      <a:pt x="776" y="245"/>
                    </a:lnTo>
                    <a:lnTo>
                      <a:pt x="768" y="249"/>
                    </a:lnTo>
                    <a:lnTo>
                      <a:pt x="762" y="253"/>
                    </a:lnTo>
                    <a:lnTo>
                      <a:pt x="755" y="258"/>
                    </a:lnTo>
                    <a:lnTo>
                      <a:pt x="748" y="262"/>
                    </a:lnTo>
                    <a:lnTo>
                      <a:pt x="742" y="267"/>
                    </a:lnTo>
                    <a:lnTo>
                      <a:pt x="736" y="271"/>
                    </a:lnTo>
                    <a:lnTo>
                      <a:pt x="728" y="274"/>
                    </a:lnTo>
                    <a:lnTo>
                      <a:pt x="721" y="279"/>
                    </a:lnTo>
                    <a:lnTo>
                      <a:pt x="715" y="282"/>
                    </a:lnTo>
                    <a:lnTo>
                      <a:pt x="709" y="286"/>
                    </a:lnTo>
                    <a:lnTo>
                      <a:pt x="703" y="291"/>
                    </a:lnTo>
                    <a:lnTo>
                      <a:pt x="697" y="293"/>
                    </a:lnTo>
                    <a:lnTo>
                      <a:pt x="691" y="298"/>
                    </a:lnTo>
                    <a:lnTo>
                      <a:pt x="687" y="301"/>
                    </a:lnTo>
                    <a:lnTo>
                      <a:pt x="681" y="304"/>
                    </a:lnTo>
                    <a:lnTo>
                      <a:pt x="676" y="308"/>
                    </a:lnTo>
                    <a:lnTo>
                      <a:pt x="672" y="311"/>
                    </a:lnTo>
                    <a:lnTo>
                      <a:pt x="668" y="314"/>
                    </a:lnTo>
                    <a:lnTo>
                      <a:pt x="662" y="317"/>
                    </a:lnTo>
                    <a:lnTo>
                      <a:pt x="659" y="320"/>
                    </a:lnTo>
                    <a:lnTo>
                      <a:pt x="654" y="323"/>
                    </a:lnTo>
                    <a:lnTo>
                      <a:pt x="651" y="326"/>
                    </a:lnTo>
                    <a:lnTo>
                      <a:pt x="647" y="328"/>
                    </a:lnTo>
                    <a:lnTo>
                      <a:pt x="642" y="331"/>
                    </a:lnTo>
                    <a:lnTo>
                      <a:pt x="639" y="332"/>
                    </a:lnTo>
                    <a:lnTo>
                      <a:pt x="636" y="335"/>
                    </a:lnTo>
                    <a:lnTo>
                      <a:pt x="632" y="338"/>
                    </a:lnTo>
                    <a:lnTo>
                      <a:pt x="627" y="342"/>
                    </a:lnTo>
                    <a:lnTo>
                      <a:pt x="623" y="344"/>
                    </a:lnTo>
                    <a:lnTo>
                      <a:pt x="622" y="347"/>
                    </a:lnTo>
                    <a:lnTo>
                      <a:pt x="620" y="348"/>
                    </a:lnTo>
                    <a:lnTo>
                      <a:pt x="620" y="348"/>
                    </a:lnTo>
                    <a:lnTo>
                      <a:pt x="619" y="348"/>
                    </a:lnTo>
                    <a:lnTo>
                      <a:pt x="617" y="350"/>
                    </a:lnTo>
                    <a:lnTo>
                      <a:pt x="614" y="350"/>
                    </a:lnTo>
                    <a:lnTo>
                      <a:pt x="611" y="351"/>
                    </a:lnTo>
                    <a:lnTo>
                      <a:pt x="605" y="353"/>
                    </a:lnTo>
                    <a:lnTo>
                      <a:pt x="601" y="356"/>
                    </a:lnTo>
                    <a:lnTo>
                      <a:pt x="598" y="356"/>
                    </a:lnTo>
                    <a:lnTo>
                      <a:pt x="593" y="357"/>
                    </a:lnTo>
                    <a:lnTo>
                      <a:pt x="590" y="359"/>
                    </a:lnTo>
                    <a:lnTo>
                      <a:pt x="587" y="362"/>
                    </a:lnTo>
                    <a:lnTo>
                      <a:pt x="583" y="362"/>
                    </a:lnTo>
                    <a:lnTo>
                      <a:pt x="578" y="365"/>
                    </a:lnTo>
                    <a:lnTo>
                      <a:pt x="576" y="366"/>
                    </a:lnTo>
                    <a:lnTo>
                      <a:pt x="571" y="368"/>
                    </a:lnTo>
                    <a:lnTo>
                      <a:pt x="565" y="369"/>
                    </a:lnTo>
                    <a:lnTo>
                      <a:pt x="561" y="372"/>
                    </a:lnTo>
                    <a:lnTo>
                      <a:pt x="556" y="374"/>
                    </a:lnTo>
                    <a:lnTo>
                      <a:pt x="552" y="377"/>
                    </a:lnTo>
                    <a:lnTo>
                      <a:pt x="546" y="378"/>
                    </a:lnTo>
                    <a:lnTo>
                      <a:pt x="540" y="381"/>
                    </a:lnTo>
                    <a:lnTo>
                      <a:pt x="534" y="384"/>
                    </a:lnTo>
                    <a:lnTo>
                      <a:pt x="530" y="387"/>
                    </a:lnTo>
                    <a:lnTo>
                      <a:pt x="524" y="388"/>
                    </a:lnTo>
                    <a:lnTo>
                      <a:pt x="518" y="391"/>
                    </a:lnTo>
                    <a:lnTo>
                      <a:pt x="512" y="394"/>
                    </a:lnTo>
                    <a:lnTo>
                      <a:pt x="506" y="399"/>
                    </a:lnTo>
                    <a:lnTo>
                      <a:pt x="500" y="400"/>
                    </a:lnTo>
                    <a:lnTo>
                      <a:pt x="494" y="403"/>
                    </a:lnTo>
                    <a:lnTo>
                      <a:pt x="486" y="406"/>
                    </a:lnTo>
                    <a:lnTo>
                      <a:pt x="481" y="411"/>
                    </a:lnTo>
                    <a:lnTo>
                      <a:pt x="473" y="414"/>
                    </a:lnTo>
                    <a:lnTo>
                      <a:pt x="467" y="417"/>
                    </a:lnTo>
                    <a:lnTo>
                      <a:pt x="460" y="421"/>
                    </a:lnTo>
                    <a:lnTo>
                      <a:pt x="452" y="424"/>
                    </a:lnTo>
                    <a:lnTo>
                      <a:pt x="445" y="429"/>
                    </a:lnTo>
                    <a:lnTo>
                      <a:pt x="439" y="431"/>
                    </a:lnTo>
                    <a:lnTo>
                      <a:pt x="432" y="436"/>
                    </a:lnTo>
                    <a:lnTo>
                      <a:pt x="424" y="439"/>
                    </a:lnTo>
                    <a:lnTo>
                      <a:pt x="417" y="443"/>
                    </a:lnTo>
                    <a:lnTo>
                      <a:pt x="409" y="446"/>
                    </a:lnTo>
                    <a:lnTo>
                      <a:pt x="402" y="451"/>
                    </a:lnTo>
                    <a:lnTo>
                      <a:pt x="396" y="455"/>
                    </a:lnTo>
                    <a:lnTo>
                      <a:pt x="389" y="460"/>
                    </a:lnTo>
                    <a:lnTo>
                      <a:pt x="381" y="463"/>
                    </a:lnTo>
                    <a:lnTo>
                      <a:pt x="374" y="467"/>
                    </a:lnTo>
                    <a:lnTo>
                      <a:pt x="366" y="472"/>
                    </a:lnTo>
                    <a:lnTo>
                      <a:pt x="359" y="476"/>
                    </a:lnTo>
                    <a:lnTo>
                      <a:pt x="351" y="480"/>
                    </a:lnTo>
                    <a:lnTo>
                      <a:pt x="344" y="485"/>
                    </a:lnTo>
                    <a:lnTo>
                      <a:pt x="337" y="489"/>
                    </a:lnTo>
                    <a:lnTo>
                      <a:pt x="328" y="494"/>
                    </a:lnTo>
                    <a:lnTo>
                      <a:pt x="320" y="498"/>
                    </a:lnTo>
                    <a:lnTo>
                      <a:pt x="313" y="503"/>
                    </a:lnTo>
                    <a:lnTo>
                      <a:pt x="305" y="507"/>
                    </a:lnTo>
                    <a:lnTo>
                      <a:pt x="298" y="513"/>
                    </a:lnTo>
                    <a:lnTo>
                      <a:pt x="291" y="518"/>
                    </a:lnTo>
                    <a:lnTo>
                      <a:pt x="283" y="522"/>
                    </a:lnTo>
                    <a:lnTo>
                      <a:pt x="277" y="528"/>
                    </a:lnTo>
                    <a:lnTo>
                      <a:pt x="270" y="532"/>
                    </a:lnTo>
                    <a:lnTo>
                      <a:pt x="262" y="538"/>
                    </a:lnTo>
                    <a:lnTo>
                      <a:pt x="255" y="543"/>
                    </a:lnTo>
                    <a:lnTo>
                      <a:pt x="248" y="549"/>
                    </a:lnTo>
                    <a:lnTo>
                      <a:pt x="240" y="553"/>
                    </a:lnTo>
                    <a:lnTo>
                      <a:pt x="233" y="558"/>
                    </a:lnTo>
                    <a:lnTo>
                      <a:pt x="227" y="564"/>
                    </a:lnTo>
                    <a:lnTo>
                      <a:pt x="219" y="569"/>
                    </a:lnTo>
                    <a:lnTo>
                      <a:pt x="212" y="574"/>
                    </a:lnTo>
                    <a:lnTo>
                      <a:pt x="206" y="580"/>
                    </a:lnTo>
                    <a:lnTo>
                      <a:pt x="199" y="584"/>
                    </a:lnTo>
                    <a:lnTo>
                      <a:pt x="193" y="590"/>
                    </a:lnTo>
                    <a:lnTo>
                      <a:pt x="187" y="595"/>
                    </a:lnTo>
                    <a:lnTo>
                      <a:pt x="179" y="601"/>
                    </a:lnTo>
                    <a:lnTo>
                      <a:pt x="173" y="605"/>
                    </a:lnTo>
                    <a:lnTo>
                      <a:pt x="167" y="611"/>
                    </a:lnTo>
                    <a:lnTo>
                      <a:pt x="162" y="617"/>
                    </a:lnTo>
                    <a:lnTo>
                      <a:pt x="154" y="621"/>
                    </a:lnTo>
                    <a:lnTo>
                      <a:pt x="148" y="626"/>
                    </a:lnTo>
                    <a:lnTo>
                      <a:pt x="142" y="632"/>
                    </a:lnTo>
                    <a:lnTo>
                      <a:pt x="138" y="636"/>
                    </a:lnTo>
                    <a:lnTo>
                      <a:pt x="132" y="642"/>
                    </a:lnTo>
                    <a:lnTo>
                      <a:pt x="126" y="647"/>
                    </a:lnTo>
                    <a:lnTo>
                      <a:pt x="120" y="653"/>
                    </a:lnTo>
                    <a:lnTo>
                      <a:pt x="116" y="657"/>
                    </a:lnTo>
                    <a:lnTo>
                      <a:pt x="110" y="663"/>
                    </a:lnTo>
                    <a:lnTo>
                      <a:pt x="105" y="666"/>
                    </a:lnTo>
                    <a:lnTo>
                      <a:pt x="99" y="672"/>
                    </a:lnTo>
                    <a:lnTo>
                      <a:pt x="93" y="676"/>
                    </a:lnTo>
                    <a:lnTo>
                      <a:pt x="90" y="681"/>
                    </a:lnTo>
                    <a:lnTo>
                      <a:pt x="84" y="687"/>
                    </a:lnTo>
                    <a:lnTo>
                      <a:pt x="80" y="691"/>
                    </a:lnTo>
                    <a:lnTo>
                      <a:pt x="75" y="696"/>
                    </a:lnTo>
                    <a:lnTo>
                      <a:pt x="71" y="700"/>
                    </a:lnTo>
                    <a:lnTo>
                      <a:pt x="65" y="705"/>
                    </a:lnTo>
                    <a:lnTo>
                      <a:pt x="62" y="707"/>
                    </a:lnTo>
                    <a:lnTo>
                      <a:pt x="58" y="712"/>
                    </a:lnTo>
                    <a:lnTo>
                      <a:pt x="53" y="716"/>
                    </a:lnTo>
                    <a:lnTo>
                      <a:pt x="50" y="719"/>
                    </a:lnTo>
                    <a:lnTo>
                      <a:pt x="46" y="724"/>
                    </a:lnTo>
                    <a:lnTo>
                      <a:pt x="43" y="727"/>
                    </a:lnTo>
                    <a:lnTo>
                      <a:pt x="38" y="731"/>
                    </a:lnTo>
                    <a:lnTo>
                      <a:pt x="35" y="734"/>
                    </a:lnTo>
                    <a:lnTo>
                      <a:pt x="32" y="737"/>
                    </a:lnTo>
                    <a:lnTo>
                      <a:pt x="27" y="745"/>
                    </a:lnTo>
                    <a:lnTo>
                      <a:pt x="21" y="751"/>
                    </a:lnTo>
                    <a:lnTo>
                      <a:pt x="15" y="755"/>
                    </a:lnTo>
                    <a:lnTo>
                      <a:pt x="12" y="759"/>
                    </a:lnTo>
                    <a:lnTo>
                      <a:pt x="7" y="764"/>
                    </a:lnTo>
                    <a:lnTo>
                      <a:pt x="4" y="768"/>
                    </a:lnTo>
                    <a:lnTo>
                      <a:pt x="1" y="773"/>
                    </a:lnTo>
                    <a:lnTo>
                      <a:pt x="0" y="774"/>
                    </a:lnTo>
                    <a:lnTo>
                      <a:pt x="0" y="77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3948120" y="1757520"/>
                <a:ext cx="444240" cy="307800"/>
              </a:xfrm>
              <a:custGeom>
                <a:avLst/>
                <a:gdLst/>
                <a:ahLst/>
                <a:rect l="l" t="t" r="r" b="b"/>
                <a:pathLst>
                  <a:path w="561" h="387">
                    <a:moveTo>
                      <a:pt x="557" y="0"/>
                    </a:moveTo>
                    <a:lnTo>
                      <a:pt x="555" y="0"/>
                    </a:lnTo>
                    <a:lnTo>
                      <a:pt x="555" y="1"/>
                    </a:lnTo>
                    <a:lnTo>
                      <a:pt x="555" y="3"/>
                    </a:lnTo>
                    <a:lnTo>
                      <a:pt x="554" y="7"/>
                    </a:lnTo>
                    <a:lnTo>
                      <a:pt x="552" y="10"/>
                    </a:lnTo>
                    <a:lnTo>
                      <a:pt x="551" y="16"/>
                    </a:lnTo>
                    <a:lnTo>
                      <a:pt x="549" y="19"/>
                    </a:lnTo>
                    <a:lnTo>
                      <a:pt x="549" y="22"/>
                    </a:lnTo>
                    <a:lnTo>
                      <a:pt x="548" y="27"/>
                    </a:lnTo>
                    <a:lnTo>
                      <a:pt x="546" y="30"/>
                    </a:lnTo>
                    <a:lnTo>
                      <a:pt x="544" y="33"/>
                    </a:lnTo>
                    <a:lnTo>
                      <a:pt x="542" y="36"/>
                    </a:lnTo>
                    <a:lnTo>
                      <a:pt x="541" y="40"/>
                    </a:lnTo>
                    <a:lnTo>
                      <a:pt x="538" y="43"/>
                    </a:lnTo>
                    <a:lnTo>
                      <a:pt x="535" y="47"/>
                    </a:lnTo>
                    <a:lnTo>
                      <a:pt x="533" y="52"/>
                    </a:lnTo>
                    <a:lnTo>
                      <a:pt x="530" y="55"/>
                    </a:lnTo>
                    <a:lnTo>
                      <a:pt x="527" y="59"/>
                    </a:lnTo>
                    <a:lnTo>
                      <a:pt x="523" y="64"/>
                    </a:lnTo>
                    <a:lnTo>
                      <a:pt x="520" y="67"/>
                    </a:lnTo>
                    <a:lnTo>
                      <a:pt x="515" y="71"/>
                    </a:lnTo>
                    <a:lnTo>
                      <a:pt x="512" y="76"/>
                    </a:lnTo>
                    <a:lnTo>
                      <a:pt x="506" y="79"/>
                    </a:lnTo>
                    <a:lnTo>
                      <a:pt x="502" y="83"/>
                    </a:lnTo>
                    <a:lnTo>
                      <a:pt x="496" y="86"/>
                    </a:lnTo>
                    <a:lnTo>
                      <a:pt x="492" y="90"/>
                    </a:lnTo>
                    <a:lnTo>
                      <a:pt x="486" y="93"/>
                    </a:lnTo>
                    <a:lnTo>
                      <a:pt x="478" y="98"/>
                    </a:lnTo>
                    <a:lnTo>
                      <a:pt x="472" y="101"/>
                    </a:lnTo>
                    <a:lnTo>
                      <a:pt x="466" y="105"/>
                    </a:lnTo>
                    <a:lnTo>
                      <a:pt x="462" y="105"/>
                    </a:lnTo>
                    <a:lnTo>
                      <a:pt x="459" y="108"/>
                    </a:lnTo>
                    <a:lnTo>
                      <a:pt x="454" y="108"/>
                    </a:lnTo>
                    <a:lnTo>
                      <a:pt x="452" y="111"/>
                    </a:lnTo>
                    <a:lnTo>
                      <a:pt x="449" y="113"/>
                    </a:lnTo>
                    <a:lnTo>
                      <a:pt x="444" y="114"/>
                    </a:lnTo>
                    <a:lnTo>
                      <a:pt x="441" y="117"/>
                    </a:lnTo>
                    <a:lnTo>
                      <a:pt x="437" y="119"/>
                    </a:lnTo>
                    <a:lnTo>
                      <a:pt x="432" y="120"/>
                    </a:lnTo>
                    <a:lnTo>
                      <a:pt x="428" y="122"/>
                    </a:lnTo>
                    <a:lnTo>
                      <a:pt x="423" y="123"/>
                    </a:lnTo>
                    <a:lnTo>
                      <a:pt x="420" y="125"/>
                    </a:lnTo>
                    <a:lnTo>
                      <a:pt x="416" y="126"/>
                    </a:lnTo>
                    <a:lnTo>
                      <a:pt x="411" y="128"/>
                    </a:lnTo>
                    <a:lnTo>
                      <a:pt x="407" y="129"/>
                    </a:lnTo>
                    <a:lnTo>
                      <a:pt x="404" y="132"/>
                    </a:lnTo>
                    <a:lnTo>
                      <a:pt x="398" y="132"/>
                    </a:lnTo>
                    <a:lnTo>
                      <a:pt x="394" y="135"/>
                    </a:lnTo>
                    <a:lnTo>
                      <a:pt x="389" y="136"/>
                    </a:lnTo>
                    <a:lnTo>
                      <a:pt x="385" y="138"/>
                    </a:lnTo>
                    <a:lnTo>
                      <a:pt x="380" y="139"/>
                    </a:lnTo>
                    <a:lnTo>
                      <a:pt x="376" y="142"/>
                    </a:lnTo>
                    <a:lnTo>
                      <a:pt x="371" y="144"/>
                    </a:lnTo>
                    <a:lnTo>
                      <a:pt x="367" y="145"/>
                    </a:lnTo>
                    <a:lnTo>
                      <a:pt x="362" y="147"/>
                    </a:lnTo>
                    <a:lnTo>
                      <a:pt x="358" y="148"/>
                    </a:lnTo>
                    <a:lnTo>
                      <a:pt x="352" y="150"/>
                    </a:lnTo>
                    <a:lnTo>
                      <a:pt x="348" y="153"/>
                    </a:lnTo>
                    <a:lnTo>
                      <a:pt x="343" y="154"/>
                    </a:lnTo>
                    <a:lnTo>
                      <a:pt x="337" y="156"/>
                    </a:lnTo>
                    <a:lnTo>
                      <a:pt x="333" y="157"/>
                    </a:lnTo>
                    <a:lnTo>
                      <a:pt x="328" y="160"/>
                    </a:lnTo>
                    <a:lnTo>
                      <a:pt x="322" y="162"/>
                    </a:lnTo>
                    <a:lnTo>
                      <a:pt x="318" y="165"/>
                    </a:lnTo>
                    <a:lnTo>
                      <a:pt x="314" y="166"/>
                    </a:lnTo>
                    <a:lnTo>
                      <a:pt x="309" y="169"/>
                    </a:lnTo>
                    <a:lnTo>
                      <a:pt x="303" y="171"/>
                    </a:lnTo>
                    <a:lnTo>
                      <a:pt x="299" y="172"/>
                    </a:lnTo>
                    <a:lnTo>
                      <a:pt x="293" y="175"/>
                    </a:lnTo>
                    <a:lnTo>
                      <a:pt x="288" y="178"/>
                    </a:lnTo>
                    <a:lnTo>
                      <a:pt x="284" y="180"/>
                    </a:lnTo>
                    <a:lnTo>
                      <a:pt x="278" y="181"/>
                    </a:lnTo>
                    <a:lnTo>
                      <a:pt x="273" y="184"/>
                    </a:lnTo>
                    <a:lnTo>
                      <a:pt x="269" y="187"/>
                    </a:lnTo>
                    <a:lnTo>
                      <a:pt x="263" y="188"/>
                    </a:lnTo>
                    <a:lnTo>
                      <a:pt x="259" y="191"/>
                    </a:lnTo>
                    <a:lnTo>
                      <a:pt x="253" y="194"/>
                    </a:lnTo>
                    <a:lnTo>
                      <a:pt x="248" y="197"/>
                    </a:lnTo>
                    <a:lnTo>
                      <a:pt x="242" y="199"/>
                    </a:lnTo>
                    <a:lnTo>
                      <a:pt x="238" y="202"/>
                    </a:lnTo>
                    <a:lnTo>
                      <a:pt x="232" y="205"/>
                    </a:lnTo>
                    <a:lnTo>
                      <a:pt x="227" y="208"/>
                    </a:lnTo>
                    <a:lnTo>
                      <a:pt x="222" y="211"/>
                    </a:lnTo>
                    <a:lnTo>
                      <a:pt x="217" y="214"/>
                    </a:lnTo>
                    <a:lnTo>
                      <a:pt x="213" y="217"/>
                    </a:lnTo>
                    <a:lnTo>
                      <a:pt x="208" y="220"/>
                    </a:lnTo>
                    <a:lnTo>
                      <a:pt x="202" y="223"/>
                    </a:lnTo>
                    <a:lnTo>
                      <a:pt x="198" y="226"/>
                    </a:lnTo>
                    <a:lnTo>
                      <a:pt x="192" y="228"/>
                    </a:lnTo>
                    <a:lnTo>
                      <a:pt x="187" y="231"/>
                    </a:lnTo>
                    <a:lnTo>
                      <a:pt x="181" y="234"/>
                    </a:lnTo>
                    <a:lnTo>
                      <a:pt x="177" y="237"/>
                    </a:lnTo>
                    <a:lnTo>
                      <a:pt x="173" y="240"/>
                    </a:lnTo>
                    <a:lnTo>
                      <a:pt x="168" y="245"/>
                    </a:lnTo>
                    <a:lnTo>
                      <a:pt x="162" y="248"/>
                    </a:lnTo>
                    <a:lnTo>
                      <a:pt x="158" y="252"/>
                    </a:lnTo>
                    <a:lnTo>
                      <a:pt x="152" y="255"/>
                    </a:lnTo>
                    <a:lnTo>
                      <a:pt x="147" y="258"/>
                    </a:lnTo>
                    <a:lnTo>
                      <a:pt x="143" y="261"/>
                    </a:lnTo>
                    <a:lnTo>
                      <a:pt x="138" y="266"/>
                    </a:lnTo>
                    <a:lnTo>
                      <a:pt x="134" y="269"/>
                    </a:lnTo>
                    <a:lnTo>
                      <a:pt x="130" y="273"/>
                    </a:lnTo>
                    <a:lnTo>
                      <a:pt x="124" y="276"/>
                    </a:lnTo>
                    <a:lnTo>
                      <a:pt x="121" y="279"/>
                    </a:lnTo>
                    <a:lnTo>
                      <a:pt x="115" y="282"/>
                    </a:lnTo>
                    <a:lnTo>
                      <a:pt x="110" y="286"/>
                    </a:lnTo>
                    <a:lnTo>
                      <a:pt x="106" y="289"/>
                    </a:lnTo>
                    <a:lnTo>
                      <a:pt x="101" y="294"/>
                    </a:lnTo>
                    <a:lnTo>
                      <a:pt x="97" y="297"/>
                    </a:lnTo>
                    <a:lnTo>
                      <a:pt x="94" y="300"/>
                    </a:lnTo>
                    <a:lnTo>
                      <a:pt x="89" y="303"/>
                    </a:lnTo>
                    <a:lnTo>
                      <a:pt x="85" y="307"/>
                    </a:lnTo>
                    <a:lnTo>
                      <a:pt x="81" y="310"/>
                    </a:lnTo>
                    <a:lnTo>
                      <a:pt x="78" y="313"/>
                    </a:lnTo>
                    <a:lnTo>
                      <a:pt x="73" y="316"/>
                    </a:lnTo>
                    <a:lnTo>
                      <a:pt x="70" y="320"/>
                    </a:lnTo>
                    <a:lnTo>
                      <a:pt x="66" y="323"/>
                    </a:lnTo>
                    <a:lnTo>
                      <a:pt x="63" y="328"/>
                    </a:lnTo>
                    <a:lnTo>
                      <a:pt x="60" y="329"/>
                    </a:lnTo>
                    <a:lnTo>
                      <a:pt x="55" y="332"/>
                    </a:lnTo>
                    <a:lnTo>
                      <a:pt x="52" y="335"/>
                    </a:lnTo>
                    <a:lnTo>
                      <a:pt x="49" y="338"/>
                    </a:lnTo>
                    <a:lnTo>
                      <a:pt x="42" y="344"/>
                    </a:lnTo>
                    <a:lnTo>
                      <a:pt x="38" y="350"/>
                    </a:lnTo>
                    <a:lnTo>
                      <a:pt x="30" y="355"/>
                    </a:lnTo>
                    <a:lnTo>
                      <a:pt x="26" y="361"/>
                    </a:lnTo>
                    <a:lnTo>
                      <a:pt x="21" y="365"/>
                    </a:lnTo>
                    <a:lnTo>
                      <a:pt x="17" y="369"/>
                    </a:lnTo>
                    <a:lnTo>
                      <a:pt x="12" y="372"/>
                    </a:lnTo>
                    <a:lnTo>
                      <a:pt x="9" y="377"/>
                    </a:lnTo>
                    <a:lnTo>
                      <a:pt x="6" y="378"/>
                    </a:lnTo>
                    <a:lnTo>
                      <a:pt x="5" y="381"/>
                    </a:lnTo>
                    <a:lnTo>
                      <a:pt x="0" y="384"/>
                    </a:lnTo>
                    <a:lnTo>
                      <a:pt x="0" y="387"/>
                    </a:lnTo>
                    <a:lnTo>
                      <a:pt x="64" y="387"/>
                    </a:lnTo>
                    <a:lnTo>
                      <a:pt x="66" y="386"/>
                    </a:lnTo>
                    <a:lnTo>
                      <a:pt x="67" y="383"/>
                    </a:lnTo>
                    <a:lnTo>
                      <a:pt x="72" y="377"/>
                    </a:lnTo>
                    <a:lnTo>
                      <a:pt x="78" y="372"/>
                    </a:lnTo>
                    <a:lnTo>
                      <a:pt x="81" y="368"/>
                    </a:lnTo>
                    <a:lnTo>
                      <a:pt x="85" y="364"/>
                    </a:lnTo>
                    <a:lnTo>
                      <a:pt x="88" y="359"/>
                    </a:lnTo>
                    <a:lnTo>
                      <a:pt x="94" y="356"/>
                    </a:lnTo>
                    <a:lnTo>
                      <a:pt x="97" y="350"/>
                    </a:lnTo>
                    <a:lnTo>
                      <a:pt x="103" y="346"/>
                    </a:lnTo>
                    <a:lnTo>
                      <a:pt x="109" y="341"/>
                    </a:lnTo>
                    <a:lnTo>
                      <a:pt x="115" y="335"/>
                    </a:lnTo>
                    <a:lnTo>
                      <a:pt x="121" y="329"/>
                    </a:lnTo>
                    <a:lnTo>
                      <a:pt x="127" y="323"/>
                    </a:lnTo>
                    <a:lnTo>
                      <a:pt x="130" y="320"/>
                    </a:lnTo>
                    <a:lnTo>
                      <a:pt x="133" y="319"/>
                    </a:lnTo>
                    <a:lnTo>
                      <a:pt x="135" y="316"/>
                    </a:lnTo>
                    <a:lnTo>
                      <a:pt x="140" y="313"/>
                    </a:lnTo>
                    <a:lnTo>
                      <a:pt x="143" y="310"/>
                    </a:lnTo>
                    <a:lnTo>
                      <a:pt x="146" y="307"/>
                    </a:lnTo>
                    <a:lnTo>
                      <a:pt x="150" y="304"/>
                    </a:lnTo>
                    <a:lnTo>
                      <a:pt x="153" y="301"/>
                    </a:lnTo>
                    <a:lnTo>
                      <a:pt x="158" y="298"/>
                    </a:lnTo>
                    <a:lnTo>
                      <a:pt x="161" y="295"/>
                    </a:lnTo>
                    <a:lnTo>
                      <a:pt x="165" y="292"/>
                    </a:lnTo>
                    <a:lnTo>
                      <a:pt x="170" y="289"/>
                    </a:lnTo>
                    <a:lnTo>
                      <a:pt x="173" y="285"/>
                    </a:lnTo>
                    <a:lnTo>
                      <a:pt x="177" y="283"/>
                    </a:lnTo>
                    <a:lnTo>
                      <a:pt x="181" y="280"/>
                    </a:lnTo>
                    <a:lnTo>
                      <a:pt x="186" y="277"/>
                    </a:lnTo>
                    <a:lnTo>
                      <a:pt x="189" y="274"/>
                    </a:lnTo>
                    <a:lnTo>
                      <a:pt x="193" y="272"/>
                    </a:lnTo>
                    <a:lnTo>
                      <a:pt x="198" y="269"/>
                    </a:lnTo>
                    <a:lnTo>
                      <a:pt x="202" y="267"/>
                    </a:lnTo>
                    <a:lnTo>
                      <a:pt x="205" y="263"/>
                    </a:lnTo>
                    <a:lnTo>
                      <a:pt x="211" y="261"/>
                    </a:lnTo>
                    <a:lnTo>
                      <a:pt x="216" y="258"/>
                    </a:lnTo>
                    <a:lnTo>
                      <a:pt x="220" y="255"/>
                    </a:lnTo>
                    <a:lnTo>
                      <a:pt x="224" y="252"/>
                    </a:lnTo>
                    <a:lnTo>
                      <a:pt x="229" y="249"/>
                    </a:lnTo>
                    <a:lnTo>
                      <a:pt x="233" y="248"/>
                    </a:lnTo>
                    <a:lnTo>
                      <a:pt x="239" y="245"/>
                    </a:lnTo>
                    <a:lnTo>
                      <a:pt x="244" y="242"/>
                    </a:lnTo>
                    <a:lnTo>
                      <a:pt x="248" y="240"/>
                    </a:lnTo>
                    <a:lnTo>
                      <a:pt x="253" y="237"/>
                    </a:lnTo>
                    <a:lnTo>
                      <a:pt x="257" y="236"/>
                    </a:lnTo>
                    <a:lnTo>
                      <a:pt x="262" y="233"/>
                    </a:lnTo>
                    <a:lnTo>
                      <a:pt x="266" y="230"/>
                    </a:lnTo>
                    <a:lnTo>
                      <a:pt x="272" y="228"/>
                    </a:lnTo>
                    <a:lnTo>
                      <a:pt x="276" y="226"/>
                    </a:lnTo>
                    <a:lnTo>
                      <a:pt x="281" y="224"/>
                    </a:lnTo>
                    <a:lnTo>
                      <a:pt x="287" y="221"/>
                    </a:lnTo>
                    <a:lnTo>
                      <a:pt x="291" y="220"/>
                    </a:lnTo>
                    <a:lnTo>
                      <a:pt x="297" y="218"/>
                    </a:lnTo>
                    <a:lnTo>
                      <a:pt x="302" y="217"/>
                    </a:lnTo>
                    <a:lnTo>
                      <a:pt x="306" y="214"/>
                    </a:lnTo>
                    <a:lnTo>
                      <a:pt x="312" y="212"/>
                    </a:lnTo>
                    <a:lnTo>
                      <a:pt x="318" y="211"/>
                    </a:lnTo>
                    <a:lnTo>
                      <a:pt x="321" y="209"/>
                    </a:lnTo>
                    <a:lnTo>
                      <a:pt x="327" y="206"/>
                    </a:lnTo>
                    <a:lnTo>
                      <a:pt x="331" y="205"/>
                    </a:lnTo>
                    <a:lnTo>
                      <a:pt x="337" y="203"/>
                    </a:lnTo>
                    <a:lnTo>
                      <a:pt x="342" y="202"/>
                    </a:lnTo>
                    <a:lnTo>
                      <a:pt x="346" y="199"/>
                    </a:lnTo>
                    <a:lnTo>
                      <a:pt x="351" y="197"/>
                    </a:lnTo>
                    <a:lnTo>
                      <a:pt x="357" y="196"/>
                    </a:lnTo>
                    <a:lnTo>
                      <a:pt x="362" y="194"/>
                    </a:lnTo>
                    <a:lnTo>
                      <a:pt x="367" y="191"/>
                    </a:lnTo>
                    <a:lnTo>
                      <a:pt x="371" y="190"/>
                    </a:lnTo>
                    <a:lnTo>
                      <a:pt x="377" y="188"/>
                    </a:lnTo>
                    <a:lnTo>
                      <a:pt x="382" y="187"/>
                    </a:lnTo>
                    <a:lnTo>
                      <a:pt x="386" y="185"/>
                    </a:lnTo>
                    <a:lnTo>
                      <a:pt x="392" y="184"/>
                    </a:lnTo>
                    <a:lnTo>
                      <a:pt x="397" y="182"/>
                    </a:lnTo>
                    <a:lnTo>
                      <a:pt x="401" y="181"/>
                    </a:lnTo>
                    <a:lnTo>
                      <a:pt x="406" y="180"/>
                    </a:lnTo>
                    <a:lnTo>
                      <a:pt x="410" y="177"/>
                    </a:lnTo>
                    <a:lnTo>
                      <a:pt x="414" y="177"/>
                    </a:lnTo>
                    <a:lnTo>
                      <a:pt x="419" y="174"/>
                    </a:lnTo>
                    <a:lnTo>
                      <a:pt x="425" y="172"/>
                    </a:lnTo>
                    <a:lnTo>
                      <a:pt x="429" y="171"/>
                    </a:lnTo>
                    <a:lnTo>
                      <a:pt x="434" y="169"/>
                    </a:lnTo>
                    <a:lnTo>
                      <a:pt x="438" y="168"/>
                    </a:lnTo>
                    <a:lnTo>
                      <a:pt x="443" y="165"/>
                    </a:lnTo>
                    <a:lnTo>
                      <a:pt x="447" y="163"/>
                    </a:lnTo>
                    <a:lnTo>
                      <a:pt x="452" y="162"/>
                    </a:lnTo>
                    <a:lnTo>
                      <a:pt x="456" y="160"/>
                    </a:lnTo>
                    <a:lnTo>
                      <a:pt x="459" y="159"/>
                    </a:lnTo>
                    <a:lnTo>
                      <a:pt x="463" y="157"/>
                    </a:lnTo>
                    <a:lnTo>
                      <a:pt x="468" y="156"/>
                    </a:lnTo>
                    <a:lnTo>
                      <a:pt x="472" y="153"/>
                    </a:lnTo>
                    <a:lnTo>
                      <a:pt x="475" y="151"/>
                    </a:lnTo>
                    <a:lnTo>
                      <a:pt x="480" y="150"/>
                    </a:lnTo>
                    <a:lnTo>
                      <a:pt x="483" y="147"/>
                    </a:lnTo>
                    <a:lnTo>
                      <a:pt x="487" y="145"/>
                    </a:lnTo>
                    <a:lnTo>
                      <a:pt x="490" y="144"/>
                    </a:lnTo>
                    <a:lnTo>
                      <a:pt x="495" y="142"/>
                    </a:lnTo>
                    <a:lnTo>
                      <a:pt x="498" y="139"/>
                    </a:lnTo>
                    <a:lnTo>
                      <a:pt x="505" y="135"/>
                    </a:lnTo>
                    <a:lnTo>
                      <a:pt x="511" y="132"/>
                    </a:lnTo>
                    <a:lnTo>
                      <a:pt x="517" y="128"/>
                    </a:lnTo>
                    <a:lnTo>
                      <a:pt x="523" y="123"/>
                    </a:lnTo>
                    <a:lnTo>
                      <a:pt x="527" y="117"/>
                    </a:lnTo>
                    <a:lnTo>
                      <a:pt x="532" y="113"/>
                    </a:lnTo>
                    <a:lnTo>
                      <a:pt x="536" y="107"/>
                    </a:lnTo>
                    <a:lnTo>
                      <a:pt x="541" y="102"/>
                    </a:lnTo>
                    <a:lnTo>
                      <a:pt x="544" y="96"/>
                    </a:lnTo>
                    <a:lnTo>
                      <a:pt x="546" y="92"/>
                    </a:lnTo>
                    <a:lnTo>
                      <a:pt x="549" y="86"/>
                    </a:lnTo>
                    <a:lnTo>
                      <a:pt x="552" y="82"/>
                    </a:lnTo>
                    <a:lnTo>
                      <a:pt x="554" y="76"/>
                    </a:lnTo>
                    <a:lnTo>
                      <a:pt x="555" y="70"/>
                    </a:lnTo>
                    <a:lnTo>
                      <a:pt x="557" y="65"/>
                    </a:lnTo>
                    <a:lnTo>
                      <a:pt x="558" y="61"/>
                    </a:lnTo>
                    <a:lnTo>
                      <a:pt x="560" y="55"/>
                    </a:lnTo>
                    <a:lnTo>
                      <a:pt x="560" y="50"/>
                    </a:lnTo>
                    <a:lnTo>
                      <a:pt x="560" y="44"/>
                    </a:lnTo>
                    <a:lnTo>
                      <a:pt x="561" y="42"/>
                    </a:lnTo>
                    <a:lnTo>
                      <a:pt x="560" y="37"/>
                    </a:lnTo>
                    <a:lnTo>
                      <a:pt x="560" y="33"/>
                    </a:lnTo>
                    <a:lnTo>
                      <a:pt x="560" y="28"/>
                    </a:lnTo>
                    <a:lnTo>
                      <a:pt x="560" y="24"/>
                    </a:lnTo>
                    <a:lnTo>
                      <a:pt x="560" y="21"/>
                    </a:lnTo>
                    <a:lnTo>
                      <a:pt x="560" y="16"/>
                    </a:lnTo>
                    <a:lnTo>
                      <a:pt x="558" y="13"/>
                    </a:lnTo>
                    <a:lnTo>
                      <a:pt x="558" y="10"/>
                    </a:lnTo>
                    <a:lnTo>
                      <a:pt x="557" y="6"/>
                    </a:lnTo>
                    <a:lnTo>
                      <a:pt x="557" y="3"/>
                    </a:lnTo>
                    <a:lnTo>
                      <a:pt x="557" y="0"/>
                    </a:lnTo>
                    <a:lnTo>
                      <a:pt x="557" y="0"/>
                    </a:lnTo>
                    <a:lnTo>
                      <a:pt x="55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3536640" y="2046240"/>
                <a:ext cx="635040" cy="209520"/>
              </a:xfrm>
              <a:custGeom>
                <a:avLst/>
                <a:gdLst/>
                <a:ahLst/>
                <a:rect l="l" t="t" r="r" b="b"/>
                <a:pathLst>
                  <a:path w="799" h="264">
                    <a:moveTo>
                      <a:pt x="244" y="59"/>
                    </a:moveTo>
                    <a:lnTo>
                      <a:pt x="244" y="59"/>
                    </a:lnTo>
                    <a:lnTo>
                      <a:pt x="246" y="58"/>
                    </a:lnTo>
                    <a:lnTo>
                      <a:pt x="247" y="55"/>
                    </a:lnTo>
                    <a:lnTo>
                      <a:pt x="252" y="53"/>
                    </a:lnTo>
                    <a:lnTo>
                      <a:pt x="256" y="50"/>
                    </a:lnTo>
                    <a:lnTo>
                      <a:pt x="262" y="48"/>
                    </a:lnTo>
                    <a:lnTo>
                      <a:pt x="265" y="46"/>
                    </a:lnTo>
                    <a:lnTo>
                      <a:pt x="270" y="45"/>
                    </a:lnTo>
                    <a:lnTo>
                      <a:pt x="273" y="43"/>
                    </a:lnTo>
                    <a:lnTo>
                      <a:pt x="277" y="42"/>
                    </a:lnTo>
                    <a:lnTo>
                      <a:pt x="282" y="40"/>
                    </a:lnTo>
                    <a:lnTo>
                      <a:pt x="286" y="37"/>
                    </a:lnTo>
                    <a:lnTo>
                      <a:pt x="290" y="36"/>
                    </a:lnTo>
                    <a:lnTo>
                      <a:pt x="295" y="34"/>
                    </a:lnTo>
                    <a:lnTo>
                      <a:pt x="299" y="33"/>
                    </a:lnTo>
                    <a:lnTo>
                      <a:pt x="305" y="30"/>
                    </a:lnTo>
                    <a:lnTo>
                      <a:pt x="311" y="28"/>
                    </a:lnTo>
                    <a:lnTo>
                      <a:pt x="317" y="27"/>
                    </a:lnTo>
                    <a:lnTo>
                      <a:pt x="323" y="25"/>
                    </a:lnTo>
                    <a:lnTo>
                      <a:pt x="330" y="22"/>
                    </a:lnTo>
                    <a:lnTo>
                      <a:pt x="333" y="22"/>
                    </a:lnTo>
                    <a:lnTo>
                      <a:pt x="336" y="21"/>
                    </a:lnTo>
                    <a:lnTo>
                      <a:pt x="339" y="19"/>
                    </a:lnTo>
                    <a:lnTo>
                      <a:pt x="344" y="19"/>
                    </a:lnTo>
                    <a:lnTo>
                      <a:pt x="347" y="18"/>
                    </a:lnTo>
                    <a:lnTo>
                      <a:pt x="350" y="18"/>
                    </a:lnTo>
                    <a:lnTo>
                      <a:pt x="354" y="16"/>
                    </a:lnTo>
                    <a:lnTo>
                      <a:pt x="357" y="16"/>
                    </a:lnTo>
                    <a:lnTo>
                      <a:pt x="362" y="15"/>
                    </a:lnTo>
                    <a:lnTo>
                      <a:pt x="365" y="15"/>
                    </a:lnTo>
                    <a:lnTo>
                      <a:pt x="369" y="13"/>
                    </a:lnTo>
                    <a:lnTo>
                      <a:pt x="374" y="13"/>
                    </a:lnTo>
                    <a:lnTo>
                      <a:pt x="376" y="12"/>
                    </a:lnTo>
                    <a:lnTo>
                      <a:pt x="381" y="12"/>
                    </a:lnTo>
                    <a:lnTo>
                      <a:pt x="384" y="10"/>
                    </a:lnTo>
                    <a:lnTo>
                      <a:pt x="388" y="10"/>
                    </a:lnTo>
                    <a:lnTo>
                      <a:pt x="391" y="9"/>
                    </a:lnTo>
                    <a:lnTo>
                      <a:pt x="396" y="9"/>
                    </a:lnTo>
                    <a:lnTo>
                      <a:pt x="400" y="7"/>
                    </a:lnTo>
                    <a:lnTo>
                      <a:pt x="405" y="7"/>
                    </a:lnTo>
                    <a:lnTo>
                      <a:pt x="409" y="7"/>
                    </a:lnTo>
                    <a:lnTo>
                      <a:pt x="412" y="7"/>
                    </a:lnTo>
                    <a:lnTo>
                      <a:pt x="417" y="6"/>
                    </a:lnTo>
                    <a:lnTo>
                      <a:pt x="421" y="6"/>
                    </a:lnTo>
                    <a:lnTo>
                      <a:pt x="425" y="6"/>
                    </a:lnTo>
                    <a:lnTo>
                      <a:pt x="431" y="4"/>
                    </a:lnTo>
                    <a:lnTo>
                      <a:pt x="434" y="4"/>
                    </a:lnTo>
                    <a:lnTo>
                      <a:pt x="440" y="4"/>
                    </a:lnTo>
                    <a:lnTo>
                      <a:pt x="443" y="4"/>
                    </a:lnTo>
                    <a:lnTo>
                      <a:pt x="449" y="3"/>
                    </a:lnTo>
                    <a:lnTo>
                      <a:pt x="454" y="3"/>
                    </a:lnTo>
                    <a:lnTo>
                      <a:pt x="458" y="3"/>
                    </a:lnTo>
                    <a:lnTo>
                      <a:pt x="463" y="3"/>
                    </a:lnTo>
                    <a:lnTo>
                      <a:pt x="467" y="2"/>
                    </a:lnTo>
                    <a:lnTo>
                      <a:pt x="471" y="2"/>
                    </a:lnTo>
                    <a:lnTo>
                      <a:pt x="476" y="2"/>
                    </a:lnTo>
                    <a:lnTo>
                      <a:pt x="480" y="2"/>
                    </a:lnTo>
                    <a:lnTo>
                      <a:pt x="486" y="2"/>
                    </a:lnTo>
                    <a:lnTo>
                      <a:pt x="491" y="0"/>
                    </a:lnTo>
                    <a:lnTo>
                      <a:pt x="495" y="0"/>
                    </a:lnTo>
                    <a:lnTo>
                      <a:pt x="500" y="0"/>
                    </a:lnTo>
                    <a:lnTo>
                      <a:pt x="504" y="0"/>
                    </a:lnTo>
                    <a:lnTo>
                      <a:pt x="509" y="0"/>
                    </a:lnTo>
                    <a:lnTo>
                      <a:pt x="514" y="0"/>
                    </a:lnTo>
                    <a:lnTo>
                      <a:pt x="519" y="0"/>
                    </a:lnTo>
                    <a:lnTo>
                      <a:pt x="523" y="0"/>
                    </a:lnTo>
                    <a:lnTo>
                      <a:pt x="528" y="0"/>
                    </a:lnTo>
                    <a:lnTo>
                      <a:pt x="532" y="0"/>
                    </a:lnTo>
                    <a:lnTo>
                      <a:pt x="537" y="0"/>
                    </a:lnTo>
                    <a:lnTo>
                      <a:pt x="543" y="0"/>
                    </a:lnTo>
                    <a:lnTo>
                      <a:pt x="547" y="0"/>
                    </a:lnTo>
                    <a:lnTo>
                      <a:pt x="552" y="0"/>
                    </a:lnTo>
                    <a:lnTo>
                      <a:pt x="556" y="0"/>
                    </a:lnTo>
                    <a:lnTo>
                      <a:pt x="560" y="0"/>
                    </a:lnTo>
                    <a:lnTo>
                      <a:pt x="565" y="0"/>
                    </a:lnTo>
                    <a:lnTo>
                      <a:pt x="569" y="0"/>
                    </a:lnTo>
                    <a:lnTo>
                      <a:pt x="574" y="0"/>
                    </a:lnTo>
                    <a:lnTo>
                      <a:pt x="580" y="0"/>
                    </a:lnTo>
                    <a:lnTo>
                      <a:pt x="584" y="0"/>
                    </a:lnTo>
                    <a:lnTo>
                      <a:pt x="589" y="0"/>
                    </a:lnTo>
                    <a:lnTo>
                      <a:pt x="593" y="0"/>
                    </a:lnTo>
                    <a:lnTo>
                      <a:pt x="598" y="0"/>
                    </a:lnTo>
                    <a:lnTo>
                      <a:pt x="602" y="0"/>
                    </a:lnTo>
                    <a:lnTo>
                      <a:pt x="606" y="0"/>
                    </a:lnTo>
                    <a:lnTo>
                      <a:pt x="611" y="0"/>
                    </a:lnTo>
                    <a:lnTo>
                      <a:pt x="615" y="0"/>
                    </a:lnTo>
                    <a:lnTo>
                      <a:pt x="620" y="0"/>
                    </a:lnTo>
                    <a:lnTo>
                      <a:pt x="624" y="0"/>
                    </a:lnTo>
                    <a:lnTo>
                      <a:pt x="629" y="0"/>
                    </a:lnTo>
                    <a:lnTo>
                      <a:pt x="633" y="0"/>
                    </a:lnTo>
                    <a:lnTo>
                      <a:pt x="638" y="0"/>
                    </a:lnTo>
                    <a:lnTo>
                      <a:pt x="641" y="0"/>
                    </a:lnTo>
                    <a:lnTo>
                      <a:pt x="645" y="0"/>
                    </a:lnTo>
                    <a:lnTo>
                      <a:pt x="650" y="0"/>
                    </a:lnTo>
                    <a:lnTo>
                      <a:pt x="654" y="0"/>
                    </a:lnTo>
                    <a:lnTo>
                      <a:pt x="658" y="0"/>
                    </a:lnTo>
                    <a:lnTo>
                      <a:pt x="663" y="0"/>
                    </a:lnTo>
                    <a:lnTo>
                      <a:pt x="666" y="0"/>
                    </a:lnTo>
                    <a:lnTo>
                      <a:pt x="670" y="0"/>
                    </a:lnTo>
                    <a:lnTo>
                      <a:pt x="675" y="0"/>
                    </a:lnTo>
                    <a:lnTo>
                      <a:pt x="678" y="0"/>
                    </a:lnTo>
                    <a:lnTo>
                      <a:pt x="682" y="0"/>
                    </a:lnTo>
                    <a:lnTo>
                      <a:pt x="685" y="0"/>
                    </a:lnTo>
                    <a:lnTo>
                      <a:pt x="690" y="0"/>
                    </a:lnTo>
                    <a:lnTo>
                      <a:pt x="693" y="0"/>
                    </a:lnTo>
                    <a:lnTo>
                      <a:pt x="695" y="0"/>
                    </a:lnTo>
                    <a:lnTo>
                      <a:pt x="698" y="0"/>
                    </a:lnTo>
                    <a:lnTo>
                      <a:pt x="703" y="0"/>
                    </a:lnTo>
                    <a:lnTo>
                      <a:pt x="706" y="0"/>
                    </a:lnTo>
                    <a:lnTo>
                      <a:pt x="709" y="0"/>
                    </a:lnTo>
                    <a:lnTo>
                      <a:pt x="712" y="0"/>
                    </a:lnTo>
                    <a:lnTo>
                      <a:pt x="716" y="0"/>
                    </a:lnTo>
                    <a:lnTo>
                      <a:pt x="722" y="0"/>
                    </a:lnTo>
                    <a:lnTo>
                      <a:pt x="728" y="0"/>
                    </a:lnTo>
                    <a:lnTo>
                      <a:pt x="734" y="0"/>
                    </a:lnTo>
                    <a:lnTo>
                      <a:pt x="740" y="0"/>
                    </a:lnTo>
                    <a:lnTo>
                      <a:pt x="744" y="0"/>
                    </a:lnTo>
                    <a:lnTo>
                      <a:pt x="750" y="0"/>
                    </a:lnTo>
                    <a:lnTo>
                      <a:pt x="755" y="0"/>
                    </a:lnTo>
                    <a:lnTo>
                      <a:pt x="761" y="0"/>
                    </a:lnTo>
                    <a:lnTo>
                      <a:pt x="764" y="0"/>
                    </a:lnTo>
                    <a:lnTo>
                      <a:pt x="768" y="0"/>
                    </a:lnTo>
                    <a:lnTo>
                      <a:pt x="771" y="0"/>
                    </a:lnTo>
                    <a:lnTo>
                      <a:pt x="776" y="0"/>
                    </a:lnTo>
                    <a:lnTo>
                      <a:pt x="779" y="0"/>
                    </a:lnTo>
                    <a:lnTo>
                      <a:pt x="782" y="0"/>
                    </a:lnTo>
                    <a:lnTo>
                      <a:pt x="783" y="0"/>
                    </a:lnTo>
                    <a:lnTo>
                      <a:pt x="786" y="0"/>
                    </a:lnTo>
                    <a:lnTo>
                      <a:pt x="790" y="0"/>
                    </a:lnTo>
                    <a:lnTo>
                      <a:pt x="793" y="0"/>
                    </a:lnTo>
                    <a:lnTo>
                      <a:pt x="795" y="0"/>
                    </a:lnTo>
                    <a:lnTo>
                      <a:pt x="796" y="0"/>
                    </a:lnTo>
                    <a:lnTo>
                      <a:pt x="798" y="2"/>
                    </a:lnTo>
                    <a:lnTo>
                      <a:pt x="798" y="4"/>
                    </a:lnTo>
                    <a:lnTo>
                      <a:pt x="799" y="9"/>
                    </a:lnTo>
                    <a:lnTo>
                      <a:pt x="799" y="12"/>
                    </a:lnTo>
                    <a:lnTo>
                      <a:pt x="799" y="15"/>
                    </a:lnTo>
                    <a:lnTo>
                      <a:pt x="799" y="19"/>
                    </a:lnTo>
                    <a:lnTo>
                      <a:pt x="799" y="24"/>
                    </a:lnTo>
                    <a:lnTo>
                      <a:pt x="798" y="30"/>
                    </a:lnTo>
                    <a:lnTo>
                      <a:pt x="798" y="36"/>
                    </a:lnTo>
                    <a:lnTo>
                      <a:pt x="798" y="37"/>
                    </a:lnTo>
                    <a:lnTo>
                      <a:pt x="798" y="42"/>
                    </a:lnTo>
                    <a:lnTo>
                      <a:pt x="796" y="45"/>
                    </a:lnTo>
                    <a:lnTo>
                      <a:pt x="796" y="49"/>
                    </a:lnTo>
                    <a:lnTo>
                      <a:pt x="795" y="52"/>
                    </a:lnTo>
                    <a:lnTo>
                      <a:pt x="793" y="55"/>
                    </a:lnTo>
                    <a:lnTo>
                      <a:pt x="793" y="59"/>
                    </a:lnTo>
                    <a:lnTo>
                      <a:pt x="792" y="65"/>
                    </a:lnTo>
                    <a:lnTo>
                      <a:pt x="789" y="70"/>
                    </a:lnTo>
                    <a:lnTo>
                      <a:pt x="787" y="74"/>
                    </a:lnTo>
                    <a:lnTo>
                      <a:pt x="785" y="80"/>
                    </a:lnTo>
                    <a:lnTo>
                      <a:pt x="783" y="86"/>
                    </a:lnTo>
                    <a:lnTo>
                      <a:pt x="780" y="92"/>
                    </a:lnTo>
                    <a:lnTo>
                      <a:pt x="777" y="98"/>
                    </a:lnTo>
                    <a:lnTo>
                      <a:pt x="774" y="104"/>
                    </a:lnTo>
                    <a:lnTo>
                      <a:pt x="771" y="110"/>
                    </a:lnTo>
                    <a:lnTo>
                      <a:pt x="767" y="116"/>
                    </a:lnTo>
                    <a:lnTo>
                      <a:pt x="762" y="123"/>
                    </a:lnTo>
                    <a:lnTo>
                      <a:pt x="761" y="126"/>
                    </a:lnTo>
                    <a:lnTo>
                      <a:pt x="758" y="131"/>
                    </a:lnTo>
                    <a:lnTo>
                      <a:pt x="756" y="134"/>
                    </a:lnTo>
                    <a:lnTo>
                      <a:pt x="755" y="137"/>
                    </a:lnTo>
                    <a:lnTo>
                      <a:pt x="749" y="142"/>
                    </a:lnTo>
                    <a:lnTo>
                      <a:pt x="744" y="150"/>
                    </a:lnTo>
                    <a:lnTo>
                      <a:pt x="739" y="156"/>
                    </a:lnTo>
                    <a:lnTo>
                      <a:pt x="734" y="162"/>
                    </a:lnTo>
                    <a:lnTo>
                      <a:pt x="728" y="168"/>
                    </a:lnTo>
                    <a:lnTo>
                      <a:pt x="722" y="175"/>
                    </a:lnTo>
                    <a:lnTo>
                      <a:pt x="716" y="180"/>
                    </a:lnTo>
                    <a:lnTo>
                      <a:pt x="710" y="187"/>
                    </a:lnTo>
                    <a:lnTo>
                      <a:pt x="707" y="188"/>
                    </a:lnTo>
                    <a:lnTo>
                      <a:pt x="704" y="191"/>
                    </a:lnTo>
                    <a:lnTo>
                      <a:pt x="700" y="194"/>
                    </a:lnTo>
                    <a:lnTo>
                      <a:pt x="697" y="197"/>
                    </a:lnTo>
                    <a:lnTo>
                      <a:pt x="693" y="199"/>
                    </a:lnTo>
                    <a:lnTo>
                      <a:pt x="690" y="202"/>
                    </a:lnTo>
                    <a:lnTo>
                      <a:pt x="685" y="203"/>
                    </a:lnTo>
                    <a:lnTo>
                      <a:pt x="682" y="206"/>
                    </a:lnTo>
                    <a:lnTo>
                      <a:pt x="679" y="209"/>
                    </a:lnTo>
                    <a:lnTo>
                      <a:pt x="675" y="211"/>
                    </a:lnTo>
                    <a:lnTo>
                      <a:pt x="672" y="214"/>
                    </a:lnTo>
                    <a:lnTo>
                      <a:pt x="667" y="215"/>
                    </a:lnTo>
                    <a:lnTo>
                      <a:pt x="663" y="217"/>
                    </a:lnTo>
                    <a:lnTo>
                      <a:pt x="660" y="220"/>
                    </a:lnTo>
                    <a:lnTo>
                      <a:pt x="655" y="221"/>
                    </a:lnTo>
                    <a:lnTo>
                      <a:pt x="652" y="223"/>
                    </a:lnTo>
                    <a:lnTo>
                      <a:pt x="648" y="224"/>
                    </a:lnTo>
                    <a:lnTo>
                      <a:pt x="644" y="224"/>
                    </a:lnTo>
                    <a:lnTo>
                      <a:pt x="641" y="226"/>
                    </a:lnTo>
                    <a:lnTo>
                      <a:pt x="636" y="227"/>
                    </a:lnTo>
                    <a:lnTo>
                      <a:pt x="632" y="229"/>
                    </a:lnTo>
                    <a:lnTo>
                      <a:pt x="627" y="229"/>
                    </a:lnTo>
                    <a:lnTo>
                      <a:pt x="623" y="230"/>
                    </a:lnTo>
                    <a:lnTo>
                      <a:pt x="618" y="232"/>
                    </a:lnTo>
                    <a:lnTo>
                      <a:pt x="614" y="232"/>
                    </a:lnTo>
                    <a:lnTo>
                      <a:pt x="609" y="233"/>
                    </a:lnTo>
                    <a:lnTo>
                      <a:pt x="604" y="233"/>
                    </a:lnTo>
                    <a:lnTo>
                      <a:pt x="599" y="233"/>
                    </a:lnTo>
                    <a:lnTo>
                      <a:pt x="593" y="234"/>
                    </a:lnTo>
                    <a:lnTo>
                      <a:pt x="589" y="234"/>
                    </a:lnTo>
                    <a:lnTo>
                      <a:pt x="583" y="236"/>
                    </a:lnTo>
                    <a:lnTo>
                      <a:pt x="578" y="236"/>
                    </a:lnTo>
                    <a:lnTo>
                      <a:pt x="572" y="236"/>
                    </a:lnTo>
                    <a:lnTo>
                      <a:pt x="568" y="236"/>
                    </a:lnTo>
                    <a:lnTo>
                      <a:pt x="562" y="236"/>
                    </a:lnTo>
                    <a:lnTo>
                      <a:pt x="558" y="236"/>
                    </a:lnTo>
                    <a:lnTo>
                      <a:pt x="552" y="236"/>
                    </a:lnTo>
                    <a:lnTo>
                      <a:pt x="547" y="236"/>
                    </a:lnTo>
                    <a:lnTo>
                      <a:pt x="541" y="236"/>
                    </a:lnTo>
                    <a:lnTo>
                      <a:pt x="537" y="236"/>
                    </a:lnTo>
                    <a:lnTo>
                      <a:pt x="531" y="236"/>
                    </a:lnTo>
                    <a:lnTo>
                      <a:pt x="526" y="236"/>
                    </a:lnTo>
                    <a:lnTo>
                      <a:pt x="520" y="236"/>
                    </a:lnTo>
                    <a:lnTo>
                      <a:pt x="516" y="236"/>
                    </a:lnTo>
                    <a:lnTo>
                      <a:pt x="510" y="236"/>
                    </a:lnTo>
                    <a:lnTo>
                      <a:pt x="506" y="236"/>
                    </a:lnTo>
                    <a:lnTo>
                      <a:pt x="500" y="236"/>
                    </a:lnTo>
                    <a:lnTo>
                      <a:pt x="495" y="236"/>
                    </a:lnTo>
                    <a:lnTo>
                      <a:pt x="489" y="236"/>
                    </a:lnTo>
                    <a:lnTo>
                      <a:pt x="483" y="236"/>
                    </a:lnTo>
                    <a:lnTo>
                      <a:pt x="479" y="236"/>
                    </a:lnTo>
                    <a:lnTo>
                      <a:pt x="474" y="236"/>
                    </a:lnTo>
                    <a:lnTo>
                      <a:pt x="468" y="234"/>
                    </a:lnTo>
                    <a:lnTo>
                      <a:pt x="464" y="234"/>
                    </a:lnTo>
                    <a:lnTo>
                      <a:pt x="458" y="234"/>
                    </a:lnTo>
                    <a:lnTo>
                      <a:pt x="454" y="234"/>
                    </a:lnTo>
                    <a:lnTo>
                      <a:pt x="448" y="233"/>
                    </a:lnTo>
                    <a:lnTo>
                      <a:pt x="443" y="233"/>
                    </a:lnTo>
                    <a:lnTo>
                      <a:pt x="439" y="233"/>
                    </a:lnTo>
                    <a:lnTo>
                      <a:pt x="434" y="233"/>
                    </a:lnTo>
                    <a:lnTo>
                      <a:pt x="428" y="233"/>
                    </a:lnTo>
                    <a:lnTo>
                      <a:pt x="424" y="232"/>
                    </a:lnTo>
                    <a:lnTo>
                      <a:pt x="420" y="232"/>
                    </a:lnTo>
                    <a:lnTo>
                      <a:pt x="417" y="232"/>
                    </a:lnTo>
                    <a:lnTo>
                      <a:pt x="411" y="232"/>
                    </a:lnTo>
                    <a:lnTo>
                      <a:pt x="406" y="230"/>
                    </a:lnTo>
                    <a:lnTo>
                      <a:pt x="402" y="230"/>
                    </a:lnTo>
                    <a:lnTo>
                      <a:pt x="397" y="230"/>
                    </a:lnTo>
                    <a:lnTo>
                      <a:pt x="394" y="229"/>
                    </a:lnTo>
                    <a:lnTo>
                      <a:pt x="390" y="229"/>
                    </a:lnTo>
                    <a:lnTo>
                      <a:pt x="385" y="229"/>
                    </a:lnTo>
                    <a:lnTo>
                      <a:pt x="382" y="229"/>
                    </a:lnTo>
                    <a:lnTo>
                      <a:pt x="378" y="229"/>
                    </a:lnTo>
                    <a:lnTo>
                      <a:pt x="375" y="227"/>
                    </a:lnTo>
                    <a:lnTo>
                      <a:pt x="371" y="227"/>
                    </a:lnTo>
                    <a:lnTo>
                      <a:pt x="368" y="227"/>
                    </a:lnTo>
                    <a:lnTo>
                      <a:pt x="362" y="226"/>
                    </a:lnTo>
                    <a:lnTo>
                      <a:pt x="356" y="226"/>
                    </a:lnTo>
                    <a:lnTo>
                      <a:pt x="350" y="224"/>
                    </a:lnTo>
                    <a:lnTo>
                      <a:pt x="345" y="224"/>
                    </a:lnTo>
                    <a:lnTo>
                      <a:pt x="341" y="224"/>
                    </a:lnTo>
                    <a:lnTo>
                      <a:pt x="338" y="224"/>
                    </a:lnTo>
                    <a:lnTo>
                      <a:pt x="333" y="223"/>
                    </a:lnTo>
                    <a:lnTo>
                      <a:pt x="332" y="223"/>
                    </a:lnTo>
                    <a:lnTo>
                      <a:pt x="332" y="223"/>
                    </a:lnTo>
                    <a:lnTo>
                      <a:pt x="335" y="223"/>
                    </a:lnTo>
                    <a:lnTo>
                      <a:pt x="338" y="223"/>
                    </a:lnTo>
                    <a:lnTo>
                      <a:pt x="342" y="223"/>
                    </a:lnTo>
                    <a:lnTo>
                      <a:pt x="344" y="221"/>
                    </a:lnTo>
                    <a:lnTo>
                      <a:pt x="347" y="221"/>
                    </a:lnTo>
                    <a:lnTo>
                      <a:pt x="351" y="221"/>
                    </a:lnTo>
                    <a:lnTo>
                      <a:pt x="354" y="221"/>
                    </a:lnTo>
                    <a:lnTo>
                      <a:pt x="357" y="221"/>
                    </a:lnTo>
                    <a:lnTo>
                      <a:pt x="362" y="221"/>
                    </a:lnTo>
                    <a:lnTo>
                      <a:pt x="366" y="221"/>
                    </a:lnTo>
                    <a:lnTo>
                      <a:pt x="371" y="221"/>
                    </a:lnTo>
                    <a:lnTo>
                      <a:pt x="375" y="221"/>
                    </a:lnTo>
                    <a:lnTo>
                      <a:pt x="379" y="220"/>
                    </a:lnTo>
                    <a:lnTo>
                      <a:pt x="384" y="220"/>
                    </a:lnTo>
                    <a:lnTo>
                      <a:pt x="390" y="220"/>
                    </a:lnTo>
                    <a:lnTo>
                      <a:pt x="394" y="218"/>
                    </a:lnTo>
                    <a:lnTo>
                      <a:pt x="400" y="218"/>
                    </a:lnTo>
                    <a:lnTo>
                      <a:pt x="405" y="218"/>
                    </a:lnTo>
                    <a:lnTo>
                      <a:pt x="412" y="218"/>
                    </a:lnTo>
                    <a:lnTo>
                      <a:pt x="417" y="217"/>
                    </a:lnTo>
                    <a:lnTo>
                      <a:pt x="422" y="217"/>
                    </a:lnTo>
                    <a:lnTo>
                      <a:pt x="428" y="217"/>
                    </a:lnTo>
                    <a:lnTo>
                      <a:pt x="434" y="215"/>
                    </a:lnTo>
                    <a:lnTo>
                      <a:pt x="442" y="215"/>
                    </a:lnTo>
                    <a:lnTo>
                      <a:pt x="448" y="214"/>
                    </a:lnTo>
                    <a:lnTo>
                      <a:pt x="454" y="214"/>
                    </a:lnTo>
                    <a:lnTo>
                      <a:pt x="461" y="214"/>
                    </a:lnTo>
                    <a:lnTo>
                      <a:pt x="467" y="212"/>
                    </a:lnTo>
                    <a:lnTo>
                      <a:pt x="474" y="212"/>
                    </a:lnTo>
                    <a:lnTo>
                      <a:pt x="480" y="211"/>
                    </a:lnTo>
                    <a:lnTo>
                      <a:pt x="488" y="209"/>
                    </a:lnTo>
                    <a:lnTo>
                      <a:pt x="494" y="209"/>
                    </a:lnTo>
                    <a:lnTo>
                      <a:pt x="500" y="208"/>
                    </a:lnTo>
                    <a:lnTo>
                      <a:pt x="507" y="206"/>
                    </a:lnTo>
                    <a:lnTo>
                      <a:pt x="513" y="206"/>
                    </a:lnTo>
                    <a:lnTo>
                      <a:pt x="520" y="205"/>
                    </a:lnTo>
                    <a:lnTo>
                      <a:pt x="526" y="203"/>
                    </a:lnTo>
                    <a:lnTo>
                      <a:pt x="534" y="202"/>
                    </a:lnTo>
                    <a:lnTo>
                      <a:pt x="540" y="202"/>
                    </a:lnTo>
                    <a:lnTo>
                      <a:pt x="547" y="200"/>
                    </a:lnTo>
                    <a:lnTo>
                      <a:pt x="553" y="199"/>
                    </a:lnTo>
                    <a:lnTo>
                      <a:pt x="559" y="199"/>
                    </a:lnTo>
                    <a:lnTo>
                      <a:pt x="566" y="197"/>
                    </a:lnTo>
                    <a:lnTo>
                      <a:pt x="572" y="196"/>
                    </a:lnTo>
                    <a:lnTo>
                      <a:pt x="578" y="194"/>
                    </a:lnTo>
                    <a:lnTo>
                      <a:pt x="584" y="193"/>
                    </a:lnTo>
                    <a:lnTo>
                      <a:pt x="590" y="191"/>
                    </a:lnTo>
                    <a:lnTo>
                      <a:pt x="596" y="190"/>
                    </a:lnTo>
                    <a:lnTo>
                      <a:pt x="602" y="188"/>
                    </a:lnTo>
                    <a:lnTo>
                      <a:pt x="606" y="187"/>
                    </a:lnTo>
                    <a:lnTo>
                      <a:pt x="612" y="186"/>
                    </a:lnTo>
                    <a:lnTo>
                      <a:pt x="618" y="184"/>
                    </a:lnTo>
                    <a:lnTo>
                      <a:pt x="623" y="183"/>
                    </a:lnTo>
                    <a:lnTo>
                      <a:pt x="627" y="180"/>
                    </a:lnTo>
                    <a:lnTo>
                      <a:pt x="633" y="178"/>
                    </a:lnTo>
                    <a:lnTo>
                      <a:pt x="638" y="177"/>
                    </a:lnTo>
                    <a:lnTo>
                      <a:pt x="641" y="175"/>
                    </a:lnTo>
                    <a:lnTo>
                      <a:pt x="645" y="172"/>
                    </a:lnTo>
                    <a:lnTo>
                      <a:pt x="650" y="172"/>
                    </a:lnTo>
                    <a:lnTo>
                      <a:pt x="655" y="166"/>
                    </a:lnTo>
                    <a:lnTo>
                      <a:pt x="663" y="162"/>
                    </a:lnTo>
                    <a:lnTo>
                      <a:pt x="669" y="157"/>
                    </a:lnTo>
                    <a:lnTo>
                      <a:pt x="676" y="153"/>
                    </a:lnTo>
                    <a:lnTo>
                      <a:pt x="681" y="147"/>
                    </a:lnTo>
                    <a:lnTo>
                      <a:pt x="687" y="141"/>
                    </a:lnTo>
                    <a:lnTo>
                      <a:pt x="691" y="137"/>
                    </a:lnTo>
                    <a:lnTo>
                      <a:pt x="697" y="132"/>
                    </a:lnTo>
                    <a:lnTo>
                      <a:pt x="700" y="126"/>
                    </a:lnTo>
                    <a:lnTo>
                      <a:pt x="704" y="120"/>
                    </a:lnTo>
                    <a:lnTo>
                      <a:pt x="709" y="116"/>
                    </a:lnTo>
                    <a:lnTo>
                      <a:pt x="713" y="110"/>
                    </a:lnTo>
                    <a:lnTo>
                      <a:pt x="716" y="104"/>
                    </a:lnTo>
                    <a:lnTo>
                      <a:pt x="719" y="98"/>
                    </a:lnTo>
                    <a:lnTo>
                      <a:pt x="722" y="94"/>
                    </a:lnTo>
                    <a:lnTo>
                      <a:pt x="727" y="89"/>
                    </a:lnTo>
                    <a:lnTo>
                      <a:pt x="728" y="83"/>
                    </a:lnTo>
                    <a:lnTo>
                      <a:pt x="730" y="79"/>
                    </a:lnTo>
                    <a:lnTo>
                      <a:pt x="733" y="73"/>
                    </a:lnTo>
                    <a:lnTo>
                      <a:pt x="734" y="70"/>
                    </a:lnTo>
                    <a:lnTo>
                      <a:pt x="736" y="64"/>
                    </a:lnTo>
                    <a:lnTo>
                      <a:pt x="737" y="61"/>
                    </a:lnTo>
                    <a:lnTo>
                      <a:pt x="739" y="56"/>
                    </a:lnTo>
                    <a:lnTo>
                      <a:pt x="741" y="53"/>
                    </a:lnTo>
                    <a:lnTo>
                      <a:pt x="741" y="50"/>
                    </a:lnTo>
                    <a:lnTo>
                      <a:pt x="741" y="48"/>
                    </a:lnTo>
                    <a:lnTo>
                      <a:pt x="743" y="45"/>
                    </a:lnTo>
                    <a:lnTo>
                      <a:pt x="744" y="43"/>
                    </a:lnTo>
                    <a:lnTo>
                      <a:pt x="744" y="40"/>
                    </a:lnTo>
                    <a:lnTo>
                      <a:pt x="744" y="40"/>
                    </a:lnTo>
                    <a:lnTo>
                      <a:pt x="602" y="59"/>
                    </a:lnTo>
                    <a:lnTo>
                      <a:pt x="599" y="59"/>
                    </a:lnTo>
                    <a:lnTo>
                      <a:pt x="595" y="58"/>
                    </a:lnTo>
                    <a:lnTo>
                      <a:pt x="590" y="58"/>
                    </a:lnTo>
                    <a:lnTo>
                      <a:pt x="586" y="58"/>
                    </a:lnTo>
                    <a:lnTo>
                      <a:pt x="580" y="56"/>
                    </a:lnTo>
                    <a:lnTo>
                      <a:pt x="575" y="56"/>
                    </a:lnTo>
                    <a:lnTo>
                      <a:pt x="571" y="56"/>
                    </a:lnTo>
                    <a:lnTo>
                      <a:pt x="568" y="56"/>
                    </a:lnTo>
                    <a:lnTo>
                      <a:pt x="563" y="55"/>
                    </a:lnTo>
                    <a:lnTo>
                      <a:pt x="560" y="55"/>
                    </a:lnTo>
                    <a:lnTo>
                      <a:pt x="556" y="55"/>
                    </a:lnTo>
                    <a:lnTo>
                      <a:pt x="553" y="55"/>
                    </a:lnTo>
                    <a:lnTo>
                      <a:pt x="549" y="55"/>
                    </a:lnTo>
                    <a:lnTo>
                      <a:pt x="546" y="55"/>
                    </a:lnTo>
                    <a:lnTo>
                      <a:pt x="540" y="55"/>
                    </a:lnTo>
                    <a:lnTo>
                      <a:pt x="535" y="55"/>
                    </a:lnTo>
                    <a:lnTo>
                      <a:pt x="532" y="53"/>
                    </a:lnTo>
                    <a:lnTo>
                      <a:pt x="528" y="53"/>
                    </a:lnTo>
                    <a:lnTo>
                      <a:pt x="522" y="53"/>
                    </a:lnTo>
                    <a:lnTo>
                      <a:pt x="517" y="53"/>
                    </a:lnTo>
                    <a:lnTo>
                      <a:pt x="513" y="53"/>
                    </a:lnTo>
                    <a:lnTo>
                      <a:pt x="509" y="53"/>
                    </a:lnTo>
                    <a:lnTo>
                      <a:pt x="503" y="53"/>
                    </a:lnTo>
                    <a:lnTo>
                      <a:pt x="498" y="53"/>
                    </a:lnTo>
                    <a:lnTo>
                      <a:pt x="492" y="53"/>
                    </a:lnTo>
                    <a:lnTo>
                      <a:pt x="488" y="53"/>
                    </a:lnTo>
                    <a:lnTo>
                      <a:pt x="482" y="53"/>
                    </a:lnTo>
                    <a:lnTo>
                      <a:pt x="477" y="53"/>
                    </a:lnTo>
                    <a:lnTo>
                      <a:pt x="473" y="53"/>
                    </a:lnTo>
                    <a:lnTo>
                      <a:pt x="467" y="53"/>
                    </a:lnTo>
                    <a:lnTo>
                      <a:pt x="461" y="53"/>
                    </a:lnTo>
                    <a:lnTo>
                      <a:pt x="457" y="53"/>
                    </a:lnTo>
                    <a:lnTo>
                      <a:pt x="451" y="53"/>
                    </a:lnTo>
                    <a:lnTo>
                      <a:pt x="446" y="53"/>
                    </a:lnTo>
                    <a:lnTo>
                      <a:pt x="440" y="53"/>
                    </a:lnTo>
                    <a:lnTo>
                      <a:pt x="434" y="55"/>
                    </a:lnTo>
                    <a:lnTo>
                      <a:pt x="428" y="55"/>
                    </a:lnTo>
                    <a:lnTo>
                      <a:pt x="424" y="55"/>
                    </a:lnTo>
                    <a:lnTo>
                      <a:pt x="418" y="55"/>
                    </a:lnTo>
                    <a:lnTo>
                      <a:pt x="412" y="55"/>
                    </a:lnTo>
                    <a:lnTo>
                      <a:pt x="408" y="56"/>
                    </a:lnTo>
                    <a:lnTo>
                      <a:pt x="402" y="56"/>
                    </a:lnTo>
                    <a:lnTo>
                      <a:pt x="396" y="56"/>
                    </a:lnTo>
                    <a:lnTo>
                      <a:pt x="391" y="58"/>
                    </a:lnTo>
                    <a:lnTo>
                      <a:pt x="385" y="58"/>
                    </a:lnTo>
                    <a:lnTo>
                      <a:pt x="381" y="59"/>
                    </a:lnTo>
                    <a:lnTo>
                      <a:pt x="375" y="59"/>
                    </a:lnTo>
                    <a:lnTo>
                      <a:pt x="371" y="61"/>
                    </a:lnTo>
                    <a:lnTo>
                      <a:pt x="365" y="61"/>
                    </a:lnTo>
                    <a:lnTo>
                      <a:pt x="360" y="62"/>
                    </a:lnTo>
                    <a:lnTo>
                      <a:pt x="356" y="62"/>
                    </a:lnTo>
                    <a:lnTo>
                      <a:pt x="351" y="64"/>
                    </a:lnTo>
                    <a:lnTo>
                      <a:pt x="345" y="65"/>
                    </a:lnTo>
                    <a:lnTo>
                      <a:pt x="341" y="67"/>
                    </a:lnTo>
                    <a:lnTo>
                      <a:pt x="336" y="67"/>
                    </a:lnTo>
                    <a:lnTo>
                      <a:pt x="332" y="68"/>
                    </a:lnTo>
                    <a:lnTo>
                      <a:pt x="328" y="70"/>
                    </a:lnTo>
                    <a:lnTo>
                      <a:pt x="323" y="71"/>
                    </a:lnTo>
                    <a:lnTo>
                      <a:pt x="319" y="73"/>
                    </a:lnTo>
                    <a:lnTo>
                      <a:pt x="316" y="74"/>
                    </a:lnTo>
                    <a:lnTo>
                      <a:pt x="311" y="74"/>
                    </a:lnTo>
                    <a:lnTo>
                      <a:pt x="308" y="77"/>
                    </a:lnTo>
                    <a:lnTo>
                      <a:pt x="304" y="79"/>
                    </a:lnTo>
                    <a:lnTo>
                      <a:pt x="299" y="79"/>
                    </a:lnTo>
                    <a:lnTo>
                      <a:pt x="296" y="80"/>
                    </a:lnTo>
                    <a:lnTo>
                      <a:pt x="292" y="82"/>
                    </a:lnTo>
                    <a:lnTo>
                      <a:pt x="284" y="86"/>
                    </a:lnTo>
                    <a:lnTo>
                      <a:pt x="279" y="89"/>
                    </a:lnTo>
                    <a:lnTo>
                      <a:pt x="276" y="92"/>
                    </a:lnTo>
                    <a:lnTo>
                      <a:pt x="271" y="94"/>
                    </a:lnTo>
                    <a:lnTo>
                      <a:pt x="268" y="95"/>
                    </a:lnTo>
                    <a:lnTo>
                      <a:pt x="265" y="96"/>
                    </a:lnTo>
                    <a:lnTo>
                      <a:pt x="259" y="101"/>
                    </a:lnTo>
                    <a:lnTo>
                      <a:pt x="253" y="105"/>
                    </a:lnTo>
                    <a:lnTo>
                      <a:pt x="247" y="108"/>
                    </a:lnTo>
                    <a:lnTo>
                      <a:pt x="243" y="113"/>
                    </a:lnTo>
                    <a:lnTo>
                      <a:pt x="237" y="117"/>
                    </a:lnTo>
                    <a:lnTo>
                      <a:pt x="233" y="123"/>
                    </a:lnTo>
                    <a:lnTo>
                      <a:pt x="227" y="126"/>
                    </a:lnTo>
                    <a:lnTo>
                      <a:pt x="221" y="131"/>
                    </a:lnTo>
                    <a:lnTo>
                      <a:pt x="216" y="135"/>
                    </a:lnTo>
                    <a:lnTo>
                      <a:pt x="210" y="141"/>
                    </a:lnTo>
                    <a:lnTo>
                      <a:pt x="206" y="145"/>
                    </a:lnTo>
                    <a:lnTo>
                      <a:pt x="201" y="150"/>
                    </a:lnTo>
                    <a:lnTo>
                      <a:pt x="195" y="154"/>
                    </a:lnTo>
                    <a:lnTo>
                      <a:pt x="191" y="160"/>
                    </a:lnTo>
                    <a:lnTo>
                      <a:pt x="185" y="165"/>
                    </a:lnTo>
                    <a:lnTo>
                      <a:pt x="181" y="169"/>
                    </a:lnTo>
                    <a:lnTo>
                      <a:pt x="176" y="174"/>
                    </a:lnTo>
                    <a:lnTo>
                      <a:pt x="170" y="178"/>
                    </a:lnTo>
                    <a:lnTo>
                      <a:pt x="166" y="183"/>
                    </a:lnTo>
                    <a:lnTo>
                      <a:pt x="160" y="187"/>
                    </a:lnTo>
                    <a:lnTo>
                      <a:pt x="154" y="191"/>
                    </a:lnTo>
                    <a:lnTo>
                      <a:pt x="149" y="197"/>
                    </a:lnTo>
                    <a:lnTo>
                      <a:pt x="142" y="200"/>
                    </a:lnTo>
                    <a:lnTo>
                      <a:pt x="136" y="205"/>
                    </a:lnTo>
                    <a:lnTo>
                      <a:pt x="130" y="208"/>
                    </a:lnTo>
                    <a:lnTo>
                      <a:pt x="124" y="212"/>
                    </a:lnTo>
                    <a:lnTo>
                      <a:pt x="117" y="215"/>
                    </a:lnTo>
                    <a:lnTo>
                      <a:pt x="111" y="220"/>
                    </a:lnTo>
                    <a:lnTo>
                      <a:pt x="105" y="223"/>
                    </a:lnTo>
                    <a:lnTo>
                      <a:pt x="99" y="227"/>
                    </a:lnTo>
                    <a:lnTo>
                      <a:pt x="92" y="229"/>
                    </a:lnTo>
                    <a:lnTo>
                      <a:pt x="86" y="233"/>
                    </a:lnTo>
                    <a:lnTo>
                      <a:pt x="80" y="234"/>
                    </a:lnTo>
                    <a:lnTo>
                      <a:pt x="72" y="237"/>
                    </a:lnTo>
                    <a:lnTo>
                      <a:pt x="66" y="240"/>
                    </a:lnTo>
                    <a:lnTo>
                      <a:pt x="62" y="243"/>
                    </a:lnTo>
                    <a:lnTo>
                      <a:pt x="56" y="245"/>
                    </a:lnTo>
                    <a:lnTo>
                      <a:pt x="50" y="248"/>
                    </a:lnTo>
                    <a:lnTo>
                      <a:pt x="44" y="249"/>
                    </a:lnTo>
                    <a:lnTo>
                      <a:pt x="40" y="251"/>
                    </a:lnTo>
                    <a:lnTo>
                      <a:pt x="34" y="254"/>
                    </a:lnTo>
                    <a:lnTo>
                      <a:pt x="29" y="255"/>
                    </a:lnTo>
                    <a:lnTo>
                      <a:pt x="25" y="257"/>
                    </a:lnTo>
                    <a:lnTo>
                      <a:pt x="20" y="258"/>
                    </a:lnTo>
                    <a:lnTo>
                      <a:pt x="17" y="258"/>
                    </a:lnTo>
                    <a:lnTo>
                      <a:pt x="13" y="261"/>
                    </a:lnTo>
                    <a:lnTo>
                      <a:pt x="10" y="261"/>
                    </a:lnTo>
                    <a:lnTo>
                      <a:pt x="7" y="263"/>
                    </a:lnTo>
                    <a:lnTo>
                      <a:pt x="4" y="263"/>
                    </a:lnTo>
                    <a:lnTo>
                      <a:pt x="3" y="264"/>
                    </a:lnTo>
                    <a:lnTo>
                      <a:pt x="0" y="264"/>
                    </a:lnTo>
                    <a:lnTo>
                      <a:pt x="244" y="59"/>
                    </a:lnTo>
                    <a:lnTo>
                      <a:pt x="244" y="5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3465360" y="2219400"/>
                <a:ext cx="382680" cy="342720"/>
              </a:xfrm>
              <a:custGeom>
                <a:avLst/>
                <a:gdLst/>
                <a:ahLst/>
                <a:rect l="l" t="t" r="r" b="b"/>
                <a:pathLst>
                  <a:path w="484" h="431">
                    <a:moveTo>
                      <a:pt x="444" y="7"/>
                    </a:moveTo>
                    <a:lnTo>
                      <a:pt x="442" y="9"/>
                    </a:lnTo>
                    <a:lnTo>
                      <a:pt x="441" y="13"/>
                    </a:lnTo>
                    <a:lnTo>
                      <a:pt x="439" y="14"/>
                    </a:lnTo>
                    <a:lnTo>
                      <a:pt x="436" y="19"/>
                    </a:lnTo>
                    <a:lnTo>
                      <a:pt x="435" y="23"/>
                    </a:lnTo>
                    <a:lnTo>
                      <a:pt x="433" y="29"/>
                    </a:lnTo>
                    <a:lnTo>
                      <a:pt x="430" y="34"/>
                    </a:lnTo>
                    <a:lnTo>
                      <a:pt x="427" y="40"/>
                    </a:lnTo>
                    <a:lnTo>
                      <a:pt x="424" y="43"/>
                    </a:lnTo>
                    <a:lnTo>
                      <a:pt x="423" y="47"/>
                    </a:lnTo>
                    <a:lnTo>
                      <a:pt x="421" y="50"/>
                    </a:lnTo>
                    <a:lnTo>
                      <a:pt x="420" y="55"/>
                    </a:lnTo>
                    <a:lnTo>
                      <a:pt x="417" y="58"/>
                    </a:lnTo>
                    <a:lnTo>
                      <a:pt x="416" y="62"/>
                    </a:lnTo>
                    <a:lnTo>
                      <a:pt x="414" y="65"/>
                    </a:lnTo>
                    <a:lnTo>
                      <a:pt x="411" y="69"/>
                    </a:lnTo>
                    <a:lnTo>
                      <a:pt x="410" y="74"/>
                    </a:lnTo>
                    <a:lnTo>
                      <a:pt x="407" y="78"/>
                    </a:lnTo>
                    <a:lnTo>
                      <a:pt x="404" y="83"/>
                    </a:lnTo>
                    <a:lnTo>
                      <a:pt x="402" y="89"/>
                    </a:lnTo>
                    <a:lnTo>
                      <a:pt x="399" y="92"/>
                    </a:lnTo>
                    <a:lnTo>
                      <a:pt x="396" y="96"/>
                    </a:lnTo>
                    <a:lnTo>
                      <a:pt x="393" y="101"/>
                    </a:lnTo>
                    <a:lnTo>
                      <a:pt x="390" y="106"/>
                    </a:lnTo>
                    <a:lnTo>
                      <a:pt x="387" y="111"/>
                    </a:lnTo>
                    <a:lnTo>
                      <a:pt x="384" y="115"/>
                    </a:lnTo>
                    <a:lnTo>
                      <a:pt x="380" y="120"/>
                    </a:lnTo>
                    <a:lnTo>
                      <a:pt x="378" y="126"/>
                    </a:lnTo>
                    <a:lnTo>
                      <a:pt x="374" y="129"/>
                    </a:lnTo>
                    <a:lnTo>
                      <a:pt x="371" y="135"/>
                    </a:lnTo>
                    <a:lnTo>
                      <a:pt x="368" y="139"/>
                    </a:lnTo>
                    <a:lnTo>
                      <a:pt x="365" y="145"/>
                    </a:lnTo>
                    <a:lnTo>
                      <a:pt x="361" y="150"/>
                    </a:lnTo>
                    <a:lnTo>
                      <a:pt x="358" y="155"/>
                    </a:lnTo>
                    <a:lnTo>
                      <a:pt x="353" y="160"/>
                    </a:lnTo>
                    <a:lnTo>
                      <a:pt x="350" y="166"/>
                    </a:lnTo>
                    <a:lnTo>
                      <a:pt x="346" y="170"/>
                    </a:lnTo>
                    <a:lnTo>
                      <a:pt x="341" y="176"/>
                    </a:lnTo>
                    <a:lnTo>
                      <a:pt x="337" y="181"/>
                    </a:lnTo>
                    <a:lnTo>
                      <a:pt x="332" y="187"/>
                    </a:lnTo>
                    <a:lnTo>
                      <a:pt x="328" y="191"/>
                    </a:lnTo>
                    <a:lnTo>
                      <a:pt x="324" y="197"/>
                    </a:lnTo>
                    <a:lnTo>
                      <a:pt x="321" y="201"/>
                    </a:lnTo>
                    <a:lnTo>
                      <a:pt x="316" y="207"/>
                    </a:lnTo>
                    <a:lnTo>
                      <a:pt x="312" y="212"/>
                    </a:lnTo>
                    <a:lnTo>
                      <a:pt x="306" y="218"/>
                    </a:lnTo>
                    <a:lnTo>
                      <a:pt x="301" y="222"/>
                    </a:lnTo>
                    <a:lnTo>
                      <a:pt x="297" y="228"/>
                    </a:lnTo>
                    <a:lnTo>
                      <a:pt x="291" y="233"/>
                    </a:lnTo>
                    <a:lnTo>
                      <a:pt x="286" y="239"/>
                    </a:lnTo>
                    <a:lnTo>
                      <a:pt x="282" y="243"/>
                    </a:lnTo>
                    <a:lnTo>
                      <a:pt x="278" y="249"/>
                    </a:lnTo>
                    <a:lnTo>
                      <a:pt x="272" y="253"/>
                    </a:lnTo>
                    <a:lnTo>
                      <a:pt x="266" y="258"/>
                    </a:lnTo>
                    <a:lnTo>
                      <a:pt x="260" y="262"/>
                    </a:lnTo>
                    <a:lnTo>
                      <a:pt x="255" y="268"/>
                    </a:lnTo>
                    <a:lnTo>
                      <a:pt x="249" y="273"/>
                    </a:lnTo>
                    <a:lnTo>
                      <a:pt x="243" y="277"/>
                    </a:lnTo>
                    <a:lnTo>
                      <a:pt x="237" y="282"/>
                    </a:lnTo>
                    <a:lnTo>
                      <a:pt x="233" y="288"/>
                    </a:lnTo>
                    <a:lnTo>
                      <a:pt x="227" y="290"/>
                    </a:lnTo>
                    <a:lnTo>
                      <a:pt x="221" y="295"/>
                    </a:lnTo>
                    <a:lnTo>
                      <a:pt x="215" y="299"/>
                    </a:lnTo>
                    <a:lnTo>
                      <a:pt x="209" y="305"/>
                    </a:lnTo>
                    <a:lnTo>
                      <a:pt x="203" y="308"/>
                    </a:lnTo>
                    <a:lnTo>
                      <a:pt x="197" y="314"/>
                    </a:lnTo>
                    <a:lnTo>
                      <a:pt x="191" y="317"/>
                    </a:lnTo>
                    <a:lnTo>
                      <a:pt x="186" y="322"/>
                    </a:lnTo>
                    <a:lnTo>
                      <a:pt x="180" y="326"/>
                    </a:lnTo>
                    <a:lnTo>
                      <a:pt x="174" y="329"/>
                    </a:lnTo>
                    <a:lnTo>
                      <a:pt x="168" y="334"/>
                    </a:lnTo>
                    <a:lnTo>
                      <a:pt x="162" y="338"/>
                    </a:lnTo>
                    <a:lnTo>
                      <a:pt x="156" y="341"/>
                    </a:lnTo>
                    <a:lnTo>
                      <a:pt x="150" y="345"/>
                    </a:lnTo>
                    <a:lnTo>
                      <a:pt x="145" y="348"/>
                    </a:lnTo>
                    <a:lnTo>
                      <a:pt x="140" y="353"/>
                    </a:lnTo>
                    <a:lnTo>
                      <a:pt x="134" y="356"/>
                    </a:lnTo>
                    <a:lnTo>
                      <a:pt x="128" y="360"/>
                    </a:lnTo>
                    <a:lnTo>
                      <a:pt x="123" y="363"/>
                    </a:lnTo>
                    <a:lnTo>
                      <a:pt x="117" y="366"/>
                    </a:lnTo>
                    <a:lnTo>
                      <a:pt x="111" y="371"/>
                    </a:lnTo>
                    <a:lnTo>
                      <a:pt x="107" y="374"/>
                    </a:lnTo>
                    <a:lnTo>
                      <a:pt x="101" y="377"/>
                    </a:lnTo>
                    <a:lnTo>
                      <a:pt x="97" y="381"/>
                    </a:lnTo>
                    <a:lnTo>
                      <a:pt x="91" y="382"/>
                    </a:lnTo>
                    <a:lnTo>
                      <a:pt x="85" y="385"/>
                    </a:lnTo>
                    <a:lnTo>
                      <a:pt x="80" y="388"/>
                    </a:lnTo>
                    <a:lnTo>
                      <a:pt x="76" y="391"/>
                    </a:lnTo>
                    <a:lnTo>
                      <a:pt x="70" y="394"/>
                    </a:lnTo>
                    <a:lnTo>
                      <a:pt x="67" y="396"/>
                    </a:lnTo>
                    <a:lnTo>
                      <a:pt x="61" y="399"/>
                    </a:lnTo>
                    <a:lnTo>
                      <a:pt x="58" y="402"/>
                    </a:lnTo>
                    <a:lnTo>
                      <a:pt x="52" y="405"/>
                    </a:lnTo>
                    <a:lnTo>
                      <a:pt x="48" y="406"/>
                    </a:lnTo>
                    <a:lnTo>
                      <a:pt x="45" y="408"/>
                    </a:lnTo>
                    <a:lnTo>
                      <a:pt x="40" y="411"/>
                    </a:lnTo>
                    <a:lnTo>
                      <a:pt x="37" y="412"/>
                    </a:lnTo>
                    <a:lnTo>
                      <a:pt x="33" y="415"/>
                    </a:lnTo>
                    <a:lnTo>
                      <a:pt x="30" y="417"/>
                    </a:lnTo>
                    <a:lnTo>
                      <a:pt x="27" y="418"/>
                    </a:lnTo>
                    <a:lnTo>
                      <a:pt x="21" y="421"/>
                    </a:lnTo>
                    <a:lnTo>
                      <a:pt x="15" y="424"/>
                    </a:lnTo>
                    <a:lnTo>
                      <a:pt x="10" y="427"/>
                    </a:lnTo>
                    <a:lnTo>
                      <a:pt x="7" y="428"/>
                    </a:lnTo>
                    <a:lnTo>
                      <a:pt x="2" y="431"/>
                    </a:lnTo>
                    <a:lnTo>
                      <a:pt x="0" y="431"/>
                    </a:lnTo>
                    <a:lnTo>
                      <a:pt x="2" y="431"/>
                    </a:lnTo>
                    <a:lnTo>
                      <a:pt x="3" y="431"/>
                    </a:lnTo>
                    <a:lnTo>
                      <a:pt x="7" y="430"/>
                    </a:lnTo>
                    <a:lnTo>
                      <a:pt x="10" y="430"/>
                    </a:lnTo>
                    <a:lnTo>
                      <a:pt x="16" y="428"/>
                    </a:lnTo>
                    <a:lnTo>
                      <a:pt x="19" y="428"/>
                    </a:lnTo>
                    <a:lnTo>
                      <a:pt x="22" y="427"/>
                    </a:lnTo>
                    <a:lnTo>
                      <a:pt x="25" y="427"/>
                    </a:lnTo>
                    <a:lnTo>
                      <a:pt x="30" y="427"/>
                    </a:lnTo>
                    <a:lnTo>
                      <a:pt x="33" y="426"/>
                    </a:lnTo>
                    <a:lnTo>
                      <a:pt x="37" y="426"/>
                    </a:lnTo>
                    <a:lnTo>
                      <a:pt x="40" y="424"/>
                    </a:lnTo>
                    <a:lnTo>
                      <a:pt x="45" y="423"/>
                    </a:lnTo>
                    <a:lnTo>
                      <a:pt x="49" y="423"/>
                    </a:lnTo>
                    <a:lnTo>
                      <a:pt x="53" y="421"/>
                    </a:lnTo>
                    <a:lnTo>
                      <a:pt x="58" y="420"/>
                    </a:lnTo>
                    <a:lnTo>
                      <a:pt x="62" y="420"/>
                    </a:lnTo>
                    <a:lnTo>
                      <a:pt x="67" y="417"/>
                    </a:lnTo>
                    <a:lnTo>
                      <a:pt x="73" y="415"/>
                    </a:lnTo>
                    <a:lnTo>
                      <a:pt x="77" y="415"/>
                    </a:lnTo>
                    <a:lnTo>
                      <a:pt x="83" y="414"/>
                    </a:lnTo>
                    <a:lnTo>
                      <a:pt x="89" y="412"/>
                    </a:lnTo>
                    <a:lnTo>
                      <a:pt x="94" y="411"/>
                    </a:lnTo>
                    <a:lnTo>
                      <a:pt x="99" y="409"/>
                    </a:lnTo>
                    <a:lnTo>
                      <a:pt x="105" y="408"/>
                    </a:lnTo>
                    <a:lnTo>
                      <a:pt x="111" y="405"/>
                    </a:lnTo>
                    <a:lnTo>
                      <a:pt x="117" y="403"/>
                    </a:lnTo>
                    <a:lnTo>
                      <a:pt x="123" y="402"/>
                    </a:lnTo>
                    <a:lnTo>
                      <a:pt x="129" y="400"/>
                    </a:lnTo>
                    <a:lnTo>
                      <a:pt x="134" y="397"/>
                    </a:lnTo>
                    <a:lnTo>
                      <a:pt x="141" y="396"/>
                    </a:lnTo>
                    <a:lnTo>
                      <a:pt x="147" y="393"/>
                    </a:lnTo>
                    <a:lnTo>
                      <a:pt x="153" y="391"/>
                    </a:lnTo>
                    <a:lnTo>
                      <a:pt x="159" y="388"/>
                    </a:lnTo>
                    <a:lnTo>
                      <a:pt x="166" y="385"/>
                    </a:lnTo>
                    <a:lnTo>
                      <a:pt x="171" y="382"/>
                    </a:lnTo>
                    <a:lnTo>
                      <a:pt x="178" y="380"/>
                    </a:lnTo>
                    <a:lnTo>
                      <a:pt x="184" y="377"/>
                    </a:lnTo>
                    <a:lnTo>
                      <a:pt x="191" y="374"/>
                    </a:lnTo>
                    <a:lnTo>
                      <a:pt x="197" y="371"/>
                    </a:lnTo>
                    <a:lnTo>
                      <a:pt x="205" y="369"/>
                    </a:lnTo>
                    <a:lnTo>
                      <a:pt x="209" y="365"/>
                    </a:lnTo>
                    <a:lnTo>
                      <a:pt x="217" y="362"/>
                    </a:lnTo>
                    <a:lnTo>
                      <a:pt x="223" y="357"/>
                    </a:lnTo>
                    <a:lnTo>
                      <a:pt x="229" y="354"/>
                    </a:lnTo>
                    <a:lnTo>
                      <a:pt x="235" y="351"/>
                    </a:lnTo>
                    <a:lnTo>
                      <a:pt x="242" y="347"/>
                    </a:lnTo>
                    <a:lnTo>
                      <a:pt x="248" y="344"/>
                    </a:lnTo>
                    <a:lnTo>
                      <a:pt x="254" y="339"/>
                    </a:lnTo>
                    <a:lnTo>
                      <a:pt x="260" y="335"/>
                    </a:lnTo>
                    <a:lnTo>
                      <a:pt x="266" y="331"/>
                    </a:lnTo>
                    <a:lnTo>
                      <a:pt x="272" y="326"/>
                    </a:lnTo>
                    <a:lnTo>
                      <a:pt x="279" y="322"/>
                    </a:lnTo>
                    <a:lnTo>
                      <a:pt x="283" y="317"/>
                    </a:lnTo>
                    <a:lnTo>
                      <a:pt x="291" y="313"/>
                    </a:lnTo>
                    <a:lnTo>
                      <a:pt x="297" y="308"/>
                    </a:lnTo>
                    <a:lnTo>
                      <a:pt x="303" y="304"/>
                    </a:lnTo>
                    <a:lnTo>
                      <a:pt x="307" y="298"/>
                    </a:lnTo>
                    <a:lnTo>
                      <a:pt x="313" y="292"/>
                    </a:lnTo>
                    <a:lnTo>
                      <a:pt x="318" y="288"/>
                    </a:lnTo>
                    <a:lnTo>
                      <a:pt x="324" y="282"/>
                    </a:lnTo>
                    <a:lnTo>
                      <a:pt x="328" y="276"/>
                    </a:lnTo>
                    <a:lnTo>
                      <a:pt x="334" y="270"/>
                    </a:lnTo>
                    <a:lnTo>
                      <a:pt x="338" y="264"/>
                    </a:lnTo>
                    <a:lnTo>
                      <a:pt x="344" y="259"/>
                    </a:lnTo>
                    <a:lnTo>
                      <a:pt x="349" y="253"/>
                    </a:lnTo>
                    <a:lnTo>
                      <a:pt x="353" y="246"/>
                    </a:lnTo>
                    <a:lnTo>
                      <a:pt x="358" y="240"/>
                    </a:lnTo>
                    <a:lnTo>
                      <a:pt x="364" y="234"/>
                    </a:lnTo>
                    <a:lnTo>
                      <a:pt x="368" y="228"/>
                    </a:lnTo>
                    <a:lnTo>
                      <a:pt x="373" y="222"/>
                    </a:lnTo>
                    <a:lnTo>
                      <a:pt x="375" y="215"/>
                    </a:lnTo>
                    <a:lnTo>
                      <a:pt x="381" y="210"/>
                    </a:lnTo>
                    <a:lnTo>
                      <a:pt x="384" y="203"/>
                    </a:lnTo>
                    <a:lnTo>
                      <a:pt x="389" y="197"/>
                    </a:lnTo>
                    <a:lnTo>
                      <a:pt x="393" y="190"/>
                    </a:lnTo>
                    <a:lnTo>
                      <a:pt x="398" y="185"/>
                    </a:lnTo>
                    <a:lnTo>
                      <a:pt x="401" y="178"/>
                    </a:lnTo>
                    <a:lnTo>
                      <a:pt x="405" y="172"/>
                    </a:lnTo>
                    <a:lnTo>
                      <a:pt x="408" y="164"/>
                    </a:lnTo>
                    <a:lnTo>
                      <a:pt x="413" y="158"/>
                    </a:lnTo>
                    <a:lnTo>
                      <a:pt x="416" y="152"/>
                    </a:lnTo>
                    <a:lnTo>
                      <a:pt x="419" y="147"/>
                    </a:lnTo>
                    <a:lnTo>
                      <a:pt x="421" y="141"/>
                    </a:lnTo>
                    <a:lnTo>
                      <a:pt x="424" y="135"/>
                    </a:lnTo>
                    <a:lnTo>
                      <a:pt x="429" y="129"/>
                    </a:lnTo>
                    <a:lnTo>
                      <a:pt x="432" y="121"/>
                    </a:lnTo>
                    <a:lnTo>
                      <a:pt x="435" y="117"/>
                    </a:lnTo>
                    <a:lnTo>
                      <a:pt x="438" y="111"/>
                    </a:lnTo>
                    <a:lnTo>
                      <a:pt x="441" y="105"/>
                    </a:lnTo>
                    <a:lnTo>
                      <a:pt x="444" y="99"/>
                    </a:lnTo>
                    <a:lnTo>
                      <a:pt x="445" y="93"/>
                    </a:lnTo>
                    <a:lnTo>
                      <a:pt x="448" y="87"/>
                    </a:lnTo>
                    <a:lnTo>
                      <a:pt x="451" y="81"/>
                    </a:lnTo>
                    <a:lnTo>
                      <a:pt x="453" y="77"/>
                    </a:lnTo>
                    <a:lnTo>
                      <a:pt x="456" y="71"/>
                    </a:lnTo>
                    <a:lnTo>
                      <a:pt x="459" y="66"/>
                    </a:lnTo>
                    <a:lnTo>
                      <a:pt x="460" y="60"/>
                    </a:lnTo>
                    <a:lnTo>
                      <a:pt x="462" y="56"/>
                    </a:lnTo>
                    <a:lnTo>
                      <a:pt x="463" y="52"/>
                    </a:lnTo>
                    <a:lnTo>
                      <a:pt x="466" y="47"/>
                    </a:lnTo>
                    <a:lnTo>
                      <a:pt x="466" y="43"/>
                    </a:lnTo>
                    <a:lnTo>
                      <a:pt x="469" y="38"/>
                    </a:lnTo>
                    <a:lnTo>
                      <a:pt x="470" y="35"/>
                    </a:lnTo>
                    <a:lnTo>
                      <a:pt x="472" y="31"/>
                    </a:lnTo>
                    <a:lnTo>
                      <a:pt x="473" y="28"/>
                    </a:lnTo>
                    <a:lnTo>
                      <a:pt x="473" y="23"/>
                    </a:lnTo>
                    <a:lnTo>
                      <a:pt x="475" y="20"/>
                    </a:lnTo>
                    <a:lnTo>
                      <a:pt x="476" y="17"/>
                    </a:lnTo>
                    <a:lnTo>
                      <a:pt x="478" y="12"/>
                    </a:lnTo>
                    <a:lnTo>
                      <a:pt x="481" y="7"/>
                    </a:lnTo>
                    <a:lnTo>
                      <a:pt x="481" y="3"/>
                    </a:lnTo>
                    <a:lnTo>
                      <a:pt x="482" y="1"/>
                    </a:lnTo>
                    <a:lnTo>
                      <a:pt x="484" y="0"/>
                    </a:lnTo>
                    <a:lnTo>
                      <a:pt x="444" y="7"/>
                    </a:lnTo>
                    <a:lnTo>
                      <a:pt x="444"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3733560" y="2141640"/>
                <a:ext cx="397080" cy="330120"/>
              </a:xfrm>
              <a:custGeom>
                <a:avLst/>
                <a:gdLst/>
                <a:ahLst/>
                <a:rect l="l" t="t" r="r" b="b"/>
                <a:pathLst>
                  <a:path w="500" h="417">
                    <a:moveTo>
                      <a:pt x="465" y="14"/>
                    </a:moveTo>
                    <a:lnTo>
                      <a:pt x="465" y="14"/>
                    </a:lnTo>
                    <a:lnTo>
                      <a:pt x="465" y="17"/>
                    </a:lnTo>
                    <a:lnTo>
                      <a:pt x="465" y="20"/>
                    </a:lnTo>
                    <a:lnTo>
                      <a:pt x="466" y="25"/>
                    </a:lnTo>
                    <a:lnTo>
                      <a:pt x="465" y="30"/>
                    </a:lnTo>
                    <a:lnTo>
                      <a:pt x="465" y="33"/>
                    </a:lnTo>
                    <a:lnTo>
                      <a:pt x="465" y="37"/>
                    </a:lnTo>
                    <a:lnTo>
                      <a:pt x="465" y="42"/>
                    </a:lnTo>
                    <a:lnTo>
                      <a:pt x="465" y="46"/>
                    </a:lnTo>
                    <a:lnTo>
                      <a:pt x="465" y="52"/>
                    </a:lnTo>
                    <a:lnTo>
                      <a:pt x="465" y="58"/>
                    </a:lnTo>
                    <a:lnTo>
                      <a:pt x="463" y="64"/>
                    </a:lnTo>
                    <a:lnTo>
                      <a:pt x="462" y="70"/>
                    </a:lnTo>
                    <a:lnTo>
                      <a:pt x="460" y="76"/>
                    </a:lnTo>
                    <a:lnTo>
                      <a:pt x="459" y="82"/>
                    </a:lnTo>
                    <a:lnTo>
                      <a:pt x="457" y="89"/>
                    </a:lnTo>
                    <a:lnTo>
                      <a:pt x="456" y="92"/>
                    </a:lnTo>
                    <a:lnTo>
                      <a:pt x="454" y="95"/>
                    </a:lnTo>
                    <a:lnTo>
                      <a:pt x="453" y="98"/>
                    </a:lnTo>
                    <a:lnTo>
                      <a:pt x="451" y="103"/>
                    </a:lnTo>
                    <a:lnTo>
                      <a:pt x="450" y="106"/>
                    </a:lnTo>
                    <a:lnTo>
                      <a:pt x="448" y="110"/>
                    </a:lnTo>
                    <a:lnTo>
                      <a:pt x="447" y="113"/>
                    </a:lnTo>
                    <a:lnTo>
                      <a:pt x="446" y="117"/>
                    </a:lnTo>
                    <a:lnTo>
                      <a:pt x="444" y="122"/>
                    </a:lnTo>
                    <a:lnTo>
                      <a:pt x="443" y="125"/>
                    </a:lnTo>
                    <a:lnTo>
                      <a:pt x="440" y="129"/>
                    </a:lnTo>
                    <a:lnTo>
                      <a:pt x="438" y="132"/>
                    </a:lnTo>
                    <a:lnTo>
                      <a:pt x="435" y="137"/>
                    </a:lnTo>
                    <a:lnTo>
                      <a:pt x="434" y="141"/>
                    </a:lnTo>
                    <a:lnTo>
                      <a:pt x="431" y="146"/>
                    </a:lnTo>
                    <a:lnTo>
                      <a:pt x="428" y="150"/>
                    </a:lnTo>
                    <a:lnTo>
                      <a:pt x="425" y="153"/>
                    </a:lnTo>
                    <a:lnTo>
                      <a:pt x="422" y="158"/>
                    </a:lnTo>
                    <a:lnTo>
                      <a:pt x="419" y="162"/>
                    </a:lnTo>
                    <a:lnTo>
                      <a:pt x="416" y="166"/>
                    </a:lnTo>
                    <a:lnTo>
                      <a:pt x="413" y="169"/>
                    </a:lnTo>
                    <a:lnTo>
                      <a:pt x="410" y="174"/>
                    </a:lnTo>
                    <a:lnTo>
                      <a:pt x="405" y="178"/>
                    </a:lnTo>
                    <a:lnTo>
                      <a:pt x="403" y="184"/>
                    </a:lnTo>
                    <a:lnTo>
                      <a:pt x="398" y="187"/>
                    </a:lnTo>
                    <a:lnTo>
                      <a:pt x="395" y="192"/>
                    </a:lnTo>
                    <a:lnTo>
                      <a:pt x="391" y="196"/>
                    </a:lnTo>
                    <a:lnTo>
                      <a:pt x="386" y="201"/>
                    </a:lnTo>
                    <a:lnTo>
                      <a:pt x="382" y="204"/>
                    </a:lnTo>
                    <a:lnTo>
                      <a:pt x="377" y="209"/>
                    </a:lnTo>
                    <a:lnTo>
                      <a:pt x="373" y="212"/>
                    </a:lnTo>
                    <a:lnTo>
                      <a:pt x="368" y="218"/>
                    </a:lnTo>
                    <a:lnTo>
                      <a:pt x="364" y="221"/>
                    </a:lnTo>
                    <a:lnTo>
                      <a:pt x="358" y="226"/>
                    </a:lnTo>
                    <a:lnTo>
                      <a:pt x="354" y="230"/>
                    </a:lnTo>
                    <a:lnTo>
                      <a:pt x="349" y="235"/>
                    </a:lnTo>
                    <a:lnTo>
                      <a:pt x="343" y="239"/>
                    </a:lnTo>
                    <a:lnTo>
                      <a:pt x="337" y="244"/>
                    </a:lnTo>
                    <a:lnTo>
                      <a:pt x="333" y="248"/>
                    </a:lnTo>
                    <a:lnTo>
                      <a:pt x="328" y="252"/>
                    </a:lnTo>
                    <a:lnTo>
                      <a:pt x="322" y="255"/>
                    </a:lnTo>
                    <a:lnTo>
                      <a:pt x="316" y="260"/>
                    </a:lnTo>
                    <a:lnTo>
                      <a:pt x="311" y="264"/>
                    </a:lnTo>
                    <a:lnTo>
                      <a:pt x="305" y="269"/>
                    </a:lnTo>
                    <a:lnTo>
                      <a:pt x="300" y="272"/>
                    </a:lnTo>
                    <a:lnTo>
                      <a:pt x="294" y="276"/>
                    </a:lnTo>
                    <a:lnTo>
                      <a:pt x="288" y="281"/>
                    </a:lnTo>
                    <a:lnTo>
                      <a:pt x="282" y="285"/>
                    </a:lnTo>
                    <a:lnTo>
                      <a:pt x="276" y="288"/>
                    </a:lnTo>
                    <a:lnTo>
                      <a:pt x="270" y="293"/>
                    </a:lnTo>
                    <a:lnTo>
                      <a:pt x="265" y="296"/>
                    </a:lnTo>
                    <a:lnTo>
                      <a:pt x="259" y="300"/>
                    </a:lnTo>
                    <a:lnTo>
                      <a:pt x="253" y="304"/>
                    </a:lnTo>
                    <a:lnTo>
                      <a:pt x="248" y="307"/>
                    </a:lnTo>
                    <a:lnTo>
                      <a:pt x="242" y="312"/>
                    </a:lnTo>
                    <a:lnTo>
                      <a:pt x="236" y="315"/>
                    </a:lnTo>
                    <a:lnTo>
                      <a:pt x="230" y="318"/>
                    </a:lnTo>
                    <a:lnTo>
                      <a:pt x="224" y="321"/>
                    </a:lnTo>
                    <a:lnTo>
                      <a:pt x="219" y="324"/>
                    </a:lnTo>
                    <a:lnTo>
                      <a:pt x="213" y="327"/>
                    </a:lnTo>
                    <a:lnTo>
                      <a:pt x="207" y="330"/>
                    </a:lnTo>
                    <a:lnTo>
                      <a:pt x="201" y="334"/>
                    </a:lnTo>
                    <a:lnTo>
                      <a:pt x="195" y="337"/>
                    </a:lnTo>
                    <a:lnTo>
                      <a:pt x="190" y="340"/>
                    </a:lnTo>
                    <a:lnTo>
                      <a:pt x="184" y="342"/>
                    </a:lnTo>
                    <a:lnTo>
                      <a:pt x="178" y="344"/>
                    </a:lnTo>
                    <a:lnTo>
                      <a:pt x="173" y="347"/>
                    </a:lnTo>
                    <a:lnTo>
                      <a:pt x="168" y="350"/>
                    </a:lnTo>
                    <a:lnTo>
                      <a:pt x="162" y="352"/>
                    </a:lnTo>
                    <a:lnTo>
                      <a:pt x="156" y="355"/>
                    </a:lnTo>
                    <a:lnTo>
                      <a:pt x="152" y="356"/>
                    </a:lnTo>
                    <a:lnTo>
                      <a:pt x="147" y="359"/>
                    </a:lnTo>
                    <a:lnTo>
                      <a:pt x="141" y="361"/>
                    </a:lnTo>
                    <a:lnTo>
                      <a:pt x="137" y="362"/>
                    </a:lnTo>
                    <a:lnTo>
                      <a:pt x="131" y="364"/>
                    </a:lnTo>
                    <a:lnTo>
                      <a:pt x="128" y="367"/>
                    </a:lnTo>
                    <a:lnTo>
                      <a:pt x="122" y="368"/>
                    </a:lnTo>
                    <a:lnTo>
                      <a:pt x="118" y="368"/>
                    </a:lnTo>
                    <a:lnTo>
                      <a:pt x="113" y="370"/>
                    </a:lnTo>
                    <a:lnTo>
                      <a:pt x="109" y="371"/>
                    </a:lnTo>
                    <a:lnTo>
                      <a:pt x="106" y="373"/>
                    </a:lnTo>
                    <a:lnTo>
                      <a:pt x="101" y="373"/>
                    </a:lnTo>
                    <a:lnTo>
                      <a:pt x="97" y="373"/>
                    </a:lnTo>
                    <a:lnTo>
                      <a:pt x="94" y="374"/>
                    </a:lnTo>
                    <a:lnTo>
                      <a:pt x="89" y="376"/>
                    </a:lnTo>
                    <a:lnTo>
                      <a:pt x="86" y="376"/>
                    </a:lnTo>
                    <a:lnTo>
                      <a:pt x="83" y="376"/>
                    </a:lnTo>
                    <a:lnTo>
                      <a:pt x="81" y="376"/>
                    </a:lnTo>
                    <a:lnTo>
                      <a:pt x="73" y="376"/>
                    </a:lnTo>
                    <a:lnTo>
                      <a:pt x="69" y="374"/>
                    </a:lnTo>
                    <a:lnTo>
                      <a:pt x="64" y="373"/>
                    </a:lnTo>
                    <a:lnTo>
                      <a:pt x="60" y="371"/>
                    </a:lnTo>
                    <a:lnTo>
                      <a:pt x="57" y="368"/>
                    </a:lnTo>
                    <a:lnTo>
                      <a:pt x="52" y="364"/>
                    </a:lnTo>
                    <a:lnTo>
                      <a:pt x="51" y="361"/>
                    </a:lnTo>
                    <a:lnTo>
                      <a:pt x="49" y="358"/>
                    </a:lnTo>
                    <a:lnTo>
                      <a:pt x="46" y="353"/>
                    </a:lnTo>
                    <a:lnTo>
                      <a:pt x="45" y="349"/>
                    </a:lnTo>
                    <a:lnTo>
                      <a:pt x="45" y="344"/>
                    </a:lnTo>
                    <a:lnTo>
                      <a:pt x="45" y="340"/>
                    </a:lnTo>
                    <a:lnTo>
                      <a:pt x="45" y="336"/>
                    </a:lnTo>
                    <a:lnTo>
                      <a:pt x="45" y="330"/>
                    </a:lnTo>
                    <a:lnTo>
                      <a:pt x="45" y="325"/>
                    </a:lnTo>
                    <a:lnTo>
                      <a:pt x="45" y="321"/>
                    </a:lnTo>
                    <a:lnTo>
                      <a:pt x="45" y="315"/>
                    </a:lnTo>
                    <a:lnTo>
                      <a:pt x="46" y="310"/>
                    </a:lnTo>
                    <a:lnTo>
                      <a:pt x="48" y="306"/>
                    </a:lnTo>
                    <a:lnTo>
                      <a:pt x="49" y="301"/>
                    </a:lnTo>
                    <a:lnTo>
                      <a:pt x="51" y="297"/>
                    </a:lnTo>
                    <a:lnTo>
                      <a:pt x="52" y="293"/>
                    </a:lnTo>
                    <a:lnTo>
                      <a:pt x="52" y="288"/>
                    </a:lnTo>
                    <a:lnTo>
                      <a:pt x="55" y="284"/>
                    </a:lnTo>
                    <a:lnTo>
                      <a:pt x="55" y="281"/>
                    </a:lnTo>
                    <a:lnTo>
                      <a:pt x="57" y="278"/>
                    </a:lnTo>
                    <a:lnTo>
                      <a:pt x="58" y="275"/>
                    </a:lnTo>
                    <a:lnTo>
                      <a:pt x="60" y="272"/>
                    </a:lnTo>
                    <a:lnTo>
                      <a:pt x="61" y="269"/>
                    </a:lnTo>
                    <a:lnTo>
                      <a:pt x="12" y="303"/>
                    </a:lnTo>
                    <a:lnTo>
                      <a:pt x="12" y="304"/>
                    </a:lnTo>
                    <a:lnTo>
                      <a:pt x="11" y="306"/>
                    </a:lnTo>
                    <a:lnTo>
                      <a:pt x="9" y="310"/>
                    </a:lnTo>
                    <a:lnTo>
                      <a:pt x="8" y="316"/>
                    </a:lnTo>
                    <a:lnTo>
                      <a:pt x="6" y="319"/>
                    </a:lnTo>
                    <a:lnTo>
                      <a:pt x="6" y="322"/>
                    </a:lnTo>
                    <a:lnTo>
                      <a:pt x="5" y="327"/>
                    </a:lnTo>
                    <a:lnTo>
                      <a:pt x="5" y="330"/>
                    </a:lnTo>
                    <a:lnTo>
                      <a:pt x="3" y="334"/>
                    </a:lnTo>
                    <a:lnTo>
                      <a:pt x="3" y="339"/>
                    </a:lnTo>
                    <a:lnTo>
                      <a:pt x="2" y="342"/>
                    </a:lnTo>
                    <a:lnTo>
                      <a:pt x="2" y="347"/>
                    </a:lnTo>
                    <a:lnTo>
                      <a:pt x="0" y="350"/>
                    </a:lnTo>
                    <a:lnTo>
                      <a:pt x="0" y="356"/>
                    </a:lnTo>
                    <a:lnTo>
                      <a:pt x="0" y="359"/>
                    </a:lnTo>
                    <a:lnTo>
                      <a:pt x="0" y="364"/>
                    </a:lnTo>
                    <a:lnTo>
                      <a:pt x="0" y="368"/>
                    </a:lnTo>
                    <a:lnTo>
                      <a:pt x="0" y="373"/>
                    </a:lnTo>
                    <a:lnTo>
                      <a:pt x="0" y="377"/>
                    </a:lnTo>
                    <a:lnTo>
                      <a:pt x="0" y="383"/>
                    </a:lnTo>
                    <a:lnTo>
                      <a:pt x="0" y="386"/>
                    </a:lnTo>
                    <a:lnTo>
                      <a:pt x="2" y="390"/>
                    </a:lnTo>
                    <a:lnTo>
                      <a:pt x="2" y="393"/>
                    </a:lnTo>
                    <a:lnTo>
                      <a:pt x="5" y="398"/>
                    </a:lnTo>
                    <a:lnTo>
                      <a:pt x="8" y="404"/>
                    </a:lnTo>
                    <a:lnTo>
                      <a:pt x="12" y="410"/>
                    </a:lnTo>
                    <a:lnTo>
                      <a:pt x="17" y="413"/>
                    </a:lnTo>
                    <a:lnTo>
                      <a:pt x="24" y="416"/>
                    </a:lnTo>
                    <a:lnTo>
                      <a:pt x="27" y="416"/>
                    </a:lnTo>
                    <a:lnTo>
                      <a:pt x="32" y="417"/>
                    </a:lnTo>
                    <a:lnTo>
                      <a:pt x="35" y="417"/>
                    </a:lnTo>
                    <a:lnTo>
                      <a:pt x="39" y="417"/>
                    </a:lnTo>
                    <a:lnTo>
                      <a:pt x="43" y="417"/>
                    </a:lnTo>
                    <a:lnTo>
                      <a:pt x="48" y="417"/>
                    </a:lnTo>
                    <a:lnTo>
                      <a:pt x="52" y="417"/>
                    </a:lnTo>
                    <a:lnTo>
                      <a:pt x="57" y="417"/>
                    </a:lnTo>
                    <a:lnTo>
                      <a:pt x="61" y="416"/>
                    </a:lnTo>
                    <a:lnTo>
                      <a:pt x="66" y="414"/>
                    </a:lnTo>
                    <a:lnTo>
                      <a:pt x="70" y="414"/>
                    </a:lnTo>
                    <a:lnTo>
                      <a:pt x="75" y="414"/>
                    </a:lnTo>
                    <a:lnTo>
                      <a:pt x="79" y="413"/>
                    </a:lnTo>
                    <a:lnTo>
                      <a:pt x="82" y="411"/>
                    </a:lnTo>
                    <a:lnTo>
                      <a:pt x="86" y="410"/>
                    </a:lnTo>
                    <a:lnTo>
                      <a:pt x="91" y="410"/>
                    </a:lnTo>
                    <a:lnTo>
                      <a:pt x="94" y="407"/>
                    </a:lnTo>
                    <a:lnTo>
                      <a:pt x="97" y="407"/>
                    </a:lnTo>
                    <a:lnTo>
                      <a:pt x="100" y="405"/>
                    </a:lnTo>
                    <a:lnTo>
                      <a:pt x="104" y="405"/>
                    </a:lnTo>
                    <a:lnTo>
                      <a:pt x="109" y="402"/>
                    </a:lnTo>
                    <a:lnTo>
                      <a:pt x="113" y="402"/>
                    </a:lnTo>
                    <a:lnTo>
                      <a:pt x="116" y="401"/>
                    </a:lnTo>
                    <a:lnTo>
                      <a:pt x="116" y="401"/>
                    </a:lnTo>
                    <a:lnTo>
                      <a:pt x="116" y="399"/>
                    </a:lnTo>
                    <a:lnTo>
                      <a:pt x="119" y="399"/>
                    </a:lnTo>
                    <a:lnTo>
                      <a:pt x="121" y="398"/>
                    </a:lnTo>
                    <a:lnTo>
                      <a:pt x="125" y="396"/>
                    </a:lnTo>
                    <a:lnTo>
                      <a:pt x="128" y="395"/>
                    </a:lnTo>
                    <a:lnTo>
                      <a:pt x="134" y="393"/>
                    </a:lnTo>
                    <a:lnTo>
                      <a:pt x="137" y="390"/>
                    </a:lnTo>
                    <a:lnTo>
                      <a:pt x="140" y="390"/>
                    </a:lnTo>
                    <a:lnTo>
                      <a:pt x="144" y="389"/>
                    </a:lnTo>
                    <a:lnTo>
                      <a:pt x="147" y="388"/>
                    </a:lnTo>
                    <a:lnTo>
                      <a:pt x="150" y="386"/>
                    </a:lnTo>
                    <a:lnTo>
                      <a:pt x="155" y="385"/>
                    </a:lnTo>
                    <a:lnTo>
                      <a:pt x="159" y="383"/>
                    </a:lnTo>
                    <a:lnTo>
                      <a:pt x="164" y="382"/>
                    </a:lnTo>
                    <a:lnTo>
                      <a:pt x="167" y="380"/>
                    </a:lnTo>
                    <a:lnTo>
                      <a:pt x="173" y="377"/>
                    </a:lnTo>
                    <a:lnTo>
                      <a:pt x="177" y="376"/>
                    </a:lnTo>
                    <a:lnTo>
                      <a:pt x="181" y="374"/>
                    </a:lnTo>
                    <a:lnTo>
                      <a:pt x="186" y="371"/>
                    </a:lnTo>
                    <a:lnTo>
                      <a:pt x="192" y="370"/>
                    </a:lnTo>
                    <a:lnTo>
                      <a:pt x="196" y="367"/>
                    </a:lnTo>
                    <a:lnTo>
                      <a:pt x="202" y="365"/>
                    </a:lnTo>
                    <a:lnTo>
                      <a:pt x="207" y="362"/>
                    </a:lnTo>
                    <a:lnTo>
                      <a:pt x="213" y="361"/>
                    </a:lnTo>
                    <a:lnTo>
                      <a:pt x="219" y="358"/>
                    </a:lnTo>
                    <a:lnTo>
                      <a:pt x="224" y="356"/>
                    </a:lnTo>
                    <a:lnTo>
                      <a:pt x="229" y="353"/>
                    </a:lnTo>
                    <a:lnTo>
                      <a:pt x="235" y="349"/>
                    </a:lnTo>
                    <a:lnTo>
                      <a:pt x="241" y="346"/>
                    </a:lnTo>
                    <a:lnTo>
                      <a:pt x="247" y="344"/>
                    </a:lnTo>
                    <a:lnTo>
                      <a:pt x="251" y="342"/>
                    </a:lnTo>
                    <a:lnTo>
                      <a:pt x="259" y="339"/>
                    </a:lnTo>
                    <a:lnTo>
                      <a:pt x="263" y="336"/>
                    </a:lnTo>
                    <a:lnTo>
                      <a:pt x="270" y="333"/>
                    </a:lnTo>
                    <a:lnTo>
                      <a:pt x="275" y="330"/>
                    </a:lnTo>
                    <a:lnTo>
                      <a:pt x="281" y="327"/>
                    </a:lnTo>
                    <a:lnTo>
                      <a:pt x="287" y="322"/>
                    </a:lnTo>
                    <a:lnTo>
                      <a:pt x="293" y="319"/>
                    </a:lnTo>
                    <a:lnTo>
                      <a:pt x="299" y="316"/>
                    </a:lnTo>
                    <a:lnTo>
                      <a:pt x="305" y="313"/>
                    </a:lnTo>
                    <a:lnTo>
                      <a:pt x="312" y="310"/>
                    </a:lnTo>
                    <a:lnTo>
                      <a:pt x="318" y="307"/>
                    </a:lnTo>
                    <a:lnTo>
                      <a:pt x="322" y="303"/>
                    </a:lnTo>
                    <a:lnTo>
                      <a:pt x="328" y="300"/>
                    </a:lnTo>
                    <a:lnTo>
                      <a:pt x="334" y="296"/>
                    </a:lnTo>
                    <a:lnTo>
                      <a:pt x="340" y="293"/>
                    </a:lnTo>
                    <a:lnTo>
                      <a:pt x="346" y="290"/>
                    </a:lnTo>
                    <a:lnTo>
                      <a:pt x="352" y="285"/>
                    </a:lnTo>
                    <a:lnTo>
                      <a:pt x="357" y="282"/>
                    </a:lnTo>
                    <a:lnTo>
                      <a:pt x="362" y="278"/>
                    </a:lnTo>
                    <a:lnTo>
                      <a:pt x="367" y="275"/>
                    </a:lnTo>
                    <a:lnTo>
                      <a:pt x="373" y="270"/>
                    </a:lnTo>
                    <a:lnTo>
                      <a:pt x="377" y="267"/>
                    </a:lnTo>
                    <a:lnTo>
                      <a:pt x="383" y="263"/>
                    </a:lnTo>
                    <a:lnTo>
                      <a:pt x="388" y="258"/>
                    </a:lnTo>
                    <a:lnTo>
                      <a:pt x="394" y="255"/>
                    </a:lnTo>
                    <a:lnTo>
                      <a:pt x="398" y="251"/>
                    </a:lnTo>
                    <a:lnTo>
                      <a:pt x="403" y="248"/>
                    </a:lnTo>
                    <a:lnTo>
                      <a:pt x="407" y="244"/>
                    </a:lnTo>
                    <a:lnTo>
                      <a:pt x="411" y="239"/>
                    </a:lnTo>
                    <a:lnTo>
                      <a:pt x="416" y="235"/>
                    </a:lnTo>
                    <a:lnTo>
                      <a:pt x="420" y="232"/>
                    </a:lnTo>
                    <a:lnTo>
                      <a:pt x="423" y="227"/>
                    </a:lnTo>
                    <a:lnTo>
                      <a:pt x="428" y="223"/>
                    </a:lnTo>
                    <a:lnTo>
                      <a:pt x="431" y="218"/>
                    </a:lnTo>
                    <a:lnTo>
                      <a:pt x="435" y="215"/>
                    </a:lnTo>
                    <a:lnTo>
                      <a:pt x="438" y="211"/>
                    </a:lnTo>
                    <a:lnTo>
                      <a:pt x="441" y="206"/>
                    </a:lnTo>
                    <a:lnTo>
                      <a:pt x="444" y="204"/>
                    </a:lnTo>
                    <a:lnTo>
                      <a:pt x="447" y="199"/>
                    </a:lnTo>
                    <a:lnTo>
                      <a:pt x="450" y="195"/>
                    </a:lnTo>
                    <a:lnTo>
                      <a:pt x="453" y="190"/>
                    </a:lnTo>
                    <a:lnTo>
                      <a:pt x="456" y="187"/>
                    </a:lnTo>
                    <a:lnTo>
                      <a:pt x="459" y="183"/>
                    </a:lnTo>
                    <a:lnTo>
                      <a:pt x="460" y="178"/>
                    </a:lnTo>
                    <a:lnTo>
                      <a:pt x="463" y="174"/>
                    </a:lnTo>
                    <a:lnTo>
                      <a:pt x="465" y="169"/>
                    </a:lnTo>
                    <a:lnTo>
                      <a:pt x="468" y="166"/>
                    </a:lnTo>
                    <a:lnTo>
                      <a:pt x="469" y="162"/>
                    </a:lnTo>
                    <a:lnTo>
                      <a:pt x="472" y="159"/>
                    </a:lnTo>
                    <a:lnTo>
                      <a:pt x="474" y="155"/>
                    </a:lnTo>
                    <a:lnTo>
                      <a:pt x="475" y="152"/>
                    </a:lnTo>
                    <a:lnTo>
                      <a:pt x="477" y="147"/>
                    </a:lnTo>
                    <a:lnTo>
                      <a:pt x="480" y="144"/>
                    </a:lnTo>
                    <a:lnTo>
                      <a:pt x="480" y="140"/>
                    </a:lnTo>
                    <a:lnTo>
                      <a:pt x="483" y="137"/>
                    </a:lnTo>
                    <a:lnTo>
                      <a:pt x="483" y="132"/>
                    </a:lnTo>
                    <a:lnTo>
                      <a:pt x="484" y="129"/>
                    </a:lnTo>
                    <a:lnTo>
                      <a:pt x="486" y="126"/>
                    </a:lnTo>
                    <a:lnTo>
                      <a:pt x="487" y="123"/>
                    </a:lnTo>
                    <a:lnTo>
                      <a:pt x="489" y="119"/>
                    </a:lnTo>
                    <a:lnTo>
                      <a:pt x="490" y="116"/>
                    </a:lnTo>
                    <a:lnTo>
                      <a:pt x="490" y="113"/>
                    </a:lnTo>
                    <a:lnTo>
                      <a:pt x="492" y="109"/>
                    </a:lnTo>
                    <a:lnTo>
                      <a:pt x="493" y="103"/>
                    </a:lnTo>
                    <a:lnTo>
                      <a:pt x="494" y="97"/>
                    </a:lnTo>
                    <a:lnTo>
                      <a:pt x="494" y="91"/>
                    </a:lnTo>
                    <a:lnTo>
                      <a:pt x="496" y="86"/>
                    </a:lnTo>
                    <a:lnTo>
                      <a:pt x="497" y="82"/>
                    </a:lnTo>
                    <a:lnTo>
                      <a:pt x="497" y="77"/>
                    </a:lnTo>
                    <a:lnTo>
                      <a:pt x="497" y="73"/>
                    </a:lnTo>
                    <a:lnTo>
                      <a:pt x="499" y="70"/>
                    </a:lnTo>
                    <a:lnTo>
                      <a:pt x="499" y="67"/>
                    </a:lnTo>
                    <a:lnTo>
                      <a:pt x="499" y="66"/>
                    </a:lnTo>
                    <a:lnTo>
                      <a:pt x="499" y="61"/>
                    </a:lnTo>
                    <a:lnTo>
                      <a:pt x="500" y="61"/>
                    </a:lnTo>
                    <a:lnTo>
                      <a:pt x="481" y="0"/>
                    </a:lnTo>
                    <a:lnTo>
                      <a:pt x="465" y="14"/>
                    </a:lnTo>
                    <a:lnTo>
                      <a:pt x="465" y="1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3784320" y="2205000"/>
                <a:ext cx="181080" cy="133560"/>
              </a:xfrm>
              <a:custGeom>
                <a:avLst/>
                <a:gdLst/>
                <a:ahLst/>
                <a:rect l="l" t="t" r="r" b="b"/>
                <a:pathLst>
                  <a:path w="227" h="166">
                    <a:moveTo>
                      <a:pt x="160" y="4"/>
                    </a:moveTo>
                    <a:lnTo>
                      <a:pt x="160" y="4"/>
                    </a:lnTo>
                    <a:lnTo>
                      <a:pt x="157" y="7"/>
                    </a:lnTo>
                    <a:lnTo>
                      <a:pt x="154" y="12"/>
                    </a:lnTo>
                    <a:lnTo>
                      <a:pt x="151" y="18"/>
                    </a:lnTo>
                    <a:lnTo>
                      <a:pt x="145" y="24"/>
                    </a:lnTo>
                    <a:lnTo>
                      <a:pt x="142" y="31"/>
                    </a:lnTo>
                    <a:lnTo>
                      <a:pt x="138" y="37"/>
                    </a:lnTo>
                    <a:lnTo>
                      <a:pt x="135" y="43"/>
                    </a:lnTo>
                    <a:lnTo>
                      <a:pt x="132" y="47"/>
                    </a:lnTo>
                    <a:lnTo>
                      <a:pt x="129" y="52"/>
                    </a:lnTo>
                    <a:lnTo>
                      <a:pt x="127" y="55"/>
                    </a:lnTo>
                    <a:lnTo>
                      <a:pt x="126" y="58"/>
                    </a:lnTo>
                    <a:lnTo>
                      <a:pt x="124" y="61"/>
                    </a:lnTo>
                    <a:lnTo>
                      <a:pt x="124" y="64"/>
                    </a:lnTo>
                    <a:lnTo>
                      <a:pt x="123" y="62"/>
                    </a:lnTo>
                    <a:lnTo>
                      <a:pt x="120" y="62"/>
                    </a:lnTo>
                    <a:lnTo>
                      <a:pt x="117" y="62"/>
                    </a:lnTo>
                    <a:lnTo>
                      <a:pt x="111" y="62"/>
                    </a:lnTo>
                    <a:lnTo>
                      <a:pt x="108" y="62"/>
                    </a:lnTo>
                    <a:lnTo>
                      <a:pt x="104" y="64"/>
                    </a:lnTo>
                    <a:lnTo>
                      <a:pt x="101" y="65"/>
                    </a:lnTo>
                    <a:lnTo>
                      <a:pt x="96" y="68"/>
                    </a:lnTo>
                    <a:lnTo>
                      <a:pt x="92" y="70"/>
                    </a:lnTo>
                    <a:lnTo>
                      <a:pt x="87" y="73"/>
                    </a:lnTo>
                    <a:lnTo>
                      <a:pt x="81" y="77"/>
                    </a:lnTo>
                    <a:lnTo>
                      <a:pt x="77" y="81"/>
                    </a:lnTo>
                    <a:lnTo>
                      <a:pt x="69" y="86"/>
                    </a:lnTo>
                    <a:lnTo>
                      <a:pt x="63" y="92"/>
                    </a:lnTo>
                    <a:lnTo>
                      <a:pt x="61" y="95"/>
                    </a:lnTo>
                    <a:lnTo>
                      <a:pt x="58" y="98"/>
                    </a:lnTo>
                    <a:lnTo>
                      <a:pt x="55" y="102"/>
                    </a:lnTo>
                    <a:lnTo>
                      <a:pt x="50" y="105"/>
                    </a:lnTo>
                    <a:lnTo>
                      <a:pt x="47" y="108"/>
                    </a:lnTo>
                    <a:lnTo>
                      <a:pt x="44" y="111"/>
                    </a:lnTo>
                    <a:lnTo>
                      <a:pt x="41" y="116"/>
                    </a:lnTo>
                    <a:lnTo>
                      <a:pt x="38" y="119"/>
                    </a:lnTo>
                    <a:lnTo>
                      <a:pt x="34" y="122"/>
                    </a:lnTo>
                    <a:lnTo>
                      <a:pt x="32" y="126"/>
                    </a:lnTo>
                    <a:lnTo>
                      <a:pt x="28" y="129"/>
                    </a:lnTo>
                    <a:lnTo>
                      <a:pt x="26" y="133"/>
                    </a:lnTo>
                    <a:lnTo>
                      <a:pt x="20" y="139"/>
                    </a:lnTo>
                    <a:lnTo>
                      <a:pt x="15" y="145"/>
                    </a:lnTo>
                    <a:lnTo>
                      <a:pt x="10" y="151"/>
                    </a:lnTo>
                    <a:lnTo>
                      <a:pt x="7" y="156"/>
                    </a:lnTo>
                    <a:lnTo>
                      <a:pt x="3" y="160"/>
                    </a:lnTo>
                    <a:lnTo>
                      <a:pt x="1" y="163"/>
                    </a:lnTo>
                    <a:lnTo>
                      <a:pt x="0" y="165"/>
                    </a:lnTo>
                    <a:lnTo>
                      <a:pt x="0" y="166"/>
                    </a:lnTo>
                    <a:lnTo>
                      <a:pt x="1" y="165"/>
                    </a:lnTo>
                    <a:lnTo>
                      <a:pt x="6" y="160"/>
                    </a:lnTo>
                    <a:lnTo>
                      <a:pt x="9" y="157"/>
                    </a:lnTo>
                    <a:lnTo>
                      <a:pt x="13" y="154"/>
                    </a:lnTo>
                    <a:lnTo>
                      <a:pt x="17" y="151"/>
                    </a:lnTo>
                    <a:lnTo>
                      <a:pt x="22" y="148"/>
                    </a:lnTo>
                    <a:lnTo>
                      <a:pt x="28" y="144"/>
                    </a:lnTo>
                    <a:lnTo>
                      <a:pt x="32" y="139"/>
                    </a:lnTo>
                    <a:lnTo>
                      <a:pt x="38" y="136"/>
                    </a:lnTo>
                    <a:lnTo>
                      <a:pt x="44" y="132"/>
                    </a:lnTo>
                    <a:lnTo>
                      <a:pt x="50" y="129"/>
                    </a:lnTo>
                    <a:lnTo>
                      <a:pt x="56" y="124"/>
                    </a:lnTo>
                    <a:lnTo>
                      <a:pt x="62" y="122"/>
                    </a:lnTo>
                    <a:lnTo>
                      <a:pt x="69" y="119"/>
                    </a:lnTo>
                    <a:lnTo>
                      <a:pt x="74" y="114"/>
                    </a:lnTo>
                    <a:lnTo>
                      <a:pt x="80" y="111"/>
                    </a:lnTo>
                    <a:lnTo>
                      <a:pt x="84" y="108"/>
                    </a:lnTo>
                    <a:lnTo>
                      <a:pt x="90" y="107"/>
                    </a:lnTo>
                    <a:lnTo>
                      <a:pt x="95" y="105"/>
                    </a:lnTo>
                    <a:lnTo>
                      <a:pt x="99" y="102"/>
                    </a:lnTo>
                    <a:lnTo>
                      <a:pt x="104" y="102"/>
                    </a:lnTo>
                    <a:lnTo>
                      <a:pt x="108" y="101"/>
                    </a:lnTo>
                    <a:lnTo>
                      <a:pt x="111" y="99"/>
                    </a:lnTo>
                    <a:lnTo>
                      <a:pt x="114" y="98"/>
                    </a:lnTo>
                    <a:lnTo>
                      <a:pt x="117" y="98"/>
                    </a:lnTo>
                    <a:lnTo>
                      <a:pt x="120" y="98"/>
                    </a:lnTo>
                    <a:lnTo>
                      <a:pt x="123" y="98"/>
                    </a:lnTo>
                    <a:lnTo>
                      <a:pt x="124" y="98"/>
                    </a:lnTo>
                    <a:lnTo>
                      <a:pt x="141" y="144"/>
                    </a:lnTo>
                    <a:lnTo>
                      <a:pt x="141" y="142"/>
                    </a:lnTo>
                    <a:lnTo>
                      <a:pt x="141" y="139"/>
                    </a:lnTo>
                    <a:lnTo>
                      <a:pt x="141" y="136"/>
                    </a:lnTo>
                    <a:lnTo>
                      <a:pt x="141" y="133"/>
                    </a:lnTo>
                    <a:lnTo>
                      <a:pt x="142" y="129"/>
                    </a:lnTo>
                    <a:lnTo>
                      <a:pt x="144" y="126"/>
                    </a:lnTo>
                    <a:lnTo>
                      <a:pt x="144" y="122"/>
                    </a:lnTo>
                    <a:lnTo>
                      <a:pt x="145" y="117"/>
                    </a:lnTo>
                    <a:lnTo>
                      <a:pt x="147" y="111"/>
                    </a:lnTo>
                    <a:lnTo>
                      <a:pt x="150" y="107"/>
                    </a:lnTo>
                    <a:lnTo>
                      <a:pt x="151" y="101"/>
                    </a:lnTo>
                    <a:lnTo>
                      <a:pt x="155" y="95"/>
                    </a:lnTo>
                    <a:lnTo>
                      <a:pt x="158" y="87"/>
                    </a:lnTo>
                    <a:lnTo>
                      <a:pt x="163" y="81"/>
                    </a:lnTo>
                    <a:lnTo>
                      <a:pt x="164" y="78"/>
                    </a:lnTo>
                    <a:lnTo>
                      <a:pt x="166" y="74"/>
                    </a:lnTo>
                    <a:lnTo>
                      <a:pt x="169" y="71"/>
                    </a:lnTo>
                    <a:lnTo>
                      <a:pt x="170" y="68"/>
                    </a:lnTo>
                    <a:lnTo>
                      <a:pt x="173" y="64"/>
                    </a:lnTo>
                    <a:lnTo>
                      <a:pt x="176" y="61"/>
                    </a:lnTo>
                    <a:lnTo>
                      <a:pt x="178" y="56"/>
                    </a:lnTo>
                    <a:lnTo>
                      <a:pt x="182" y="53"/>
                    </a:lnTo>
                    <a:lnTo>
                      <a:pt x="184" y="50"/>
                    </a:lnTo>
                    <a:lnTo>
                      <a:pt x="187" y="46"/>
                    </a:lnTo>
                    <a:lnTo>
                      <a:pt x="190" y="43"/>
                    </a:lnTo>
                    <a:lnTo>
                      <a:pt x="193" y="40"/>
                    </a:lnTo>
                    <a:lnTo>
                      <a:pt x="199" y="34"/>
                    </a:lnTo>
                    <a:lnTo>
                      <a:pt x="204" y="28"/>
                    </a:lnTo>
                    <a:lnTo>
                      <a:pt x="207" y="22"/>
                    </a:lnTo>
                    <a:lnTo>
                      <a:pt x="213" y="16"/>
                    </a:lnTo>
                    <a:lnTo>
                      <a:pt x="216" y="12"/>
                    </a:lnTo>
                    <a:lnTo>
                      <a:pt x="221" y="7"/>
                    </a:lnTo>
                    <a:lnTo>
                      <a:pt x="224" y="4"/>
                    </a:lnTo>
                    <a:lnTo>
                      <a:pt x="227" y="3"/>
                    </a:lnTo>
                    <a:lnTo>
                      <a:pt x="227" y="0"/>
                    </a:lnTo>
                    <a:lnTo>
                      <a:pt x="160" y="4"/>
                    </a:lnTo>
                    <a:lnTo>
                      <a:pt x="160" y="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3720960" y="2305080"/>
                <a:ext cx="392040" cy="284040"/>
              </a:xfrm>
              <a:custGeom>
                <a:avLst/>
                <a:gdLst/>
                <a:ahLst/>
                <a:rect l="l" t="t" r="r" b="b"/>
                <a:pathLst>
                  <a:path w="494" h="360">
                    <a:moveTo>
                      <a:pt x="494" y="0"/>
                    </a:moveTo>
                    <a:lnTo>
                      <a:pt x="493" y="0"/>
                    </a:lnTo>
                    <a:lnTo>
                      <a:pt x="490" y="5"/>
                    </a:lnTo>
                    <a:lnTo>
                      <a:pt x="488" y="6"/>
                    </a:lnTo>
                    <a:lnTo>
                      <a:pt x="485" y="9"/>
                    </a:lnTo>
                    <a:lnTo>
                      <a:pt x="484" y="12"/>
                    </a:lnTo>
                    <a:lnTo>
                      <a:pt x="481" y="17"/>
                    </a:lnTo>
                    <a:lnTo>
                      <a:pt x="476" y="20"/>
                    </a:lnTo>
                    <a:lnTo>
                      <a:pt x="473" y="26"/>
                    </a:lnTo>
                    <a:lnTo>
                      <a:pt x="469" y="30"/>
                    </a:lnTo>
                    <a:lnTo>
                      <a:pt x="466" y="36"/>
                    </a:lnTo>
                    <a:lnTo>
                      <a:pt x="460" y="42"/>
                    </a:lnTo>
                    <a:lnTo>
                      <a:pt x="456" y="46"/>
                    </a:lnTo>
                    <a:lnTo>
                      <a:pt x="453" y="49"/>
                    </a:lnTo>
                    <a:lnTo>
                      <a:pt x="450" y="52"/>
                    </a:lnTo>
                    <a:lnTo>
                      <a:pt x="447" y="57"/>
                    </a:lnTo>
                    <a:lnTo>
                      <a:pt x="445" y="61"/>
                    </a:lnTo>
                    <a:lnTo>
                      <a:pt x="438" y="67"/>
                    </a:lnTo>
                    <a:lnTo>
                      <a:pt x="432" y="73"/>
                    </a:lnTo>
                    <a:lnTo>
                      <a:pt x="429" y="78"/>
                    </a:lnTo>
                    <a:lnTo>
                      <a:pt x="424" y="81"/>
                    </a:lnTo>
                    <a:lnTo>
                      <a:pt x="421" y="85"/>
                    </a:lnTo>
                    <a:lnTo>
                      <a:pt x="419" y="88"/>
                    </a:lnTo>
                    <a:lnTo>
                      <a:pt x="414" y="92"/>
                    </a:lnTo>
                    <a:lnTo>
                      <a:pt x="411" y="95"/>
                    </a:lnTo>
                    <a:lnTo>
                      <a:pt x="407" y="100"/>
                    </a:lnTo>
                    <a:lnTo>
                      <a:pt x="404" y="103"/>
                    </a:lnTo>
                    <a:lnTo>
                      <a:pt x="399" y="107"/>
                    </a:lnTo>
                    <a:lnTo>
                      <a:pt x="396" y="110"/>
                    </a:lnTo>
                    <a:lnTo>
                      <a:pt x="392" y="115"/>
                    </a:lnTo>
                    <a:lnTo>
                      <a:pt x="389" y="119"/>
                    </a:lnTo>
                    <a:lnTo>
                      <a:pt x="384" y="122"/>
                    </a:lnTo>
                    <a:lnTo>
                      <a:pt x="380" y="127"/>
                    </a:lnTo>
                    <a:lnTo>
                      <a:pt x="375" y="130"/>
                    </a:lnTo>
                    <a:lnTo>
                      <a:pt x="371" y="134"/>
                    </a:lnTo>
                    <a:lnTo>
                      <a:pt x="367" y="138"/>
                    </a:lnTo>
                    <a:lnTo>
                      <a:pt x="362" y="143"/>
                    </a:lnTo>
                    <a:lnTo>
                      <a:pt x="358" y="146"/>
                    </a:lnTo>
                    <a:lnTo>
                      <a:pt x="353" y="150"/>
                    </a:lnTo>
                    <a:lnTo>
                      <a:pt x="349" y="155"/>
                    </a:lnTo>
                    <a:lnTo>
                      <a:pt x="344" y="158"/>
                    </a:lnTo>
                    <a:lnTo>
                      <a:pt x="340" y="162"/>
                    </a:lnTo>
                    <a:lnTo>
                      <a:pt x="335" y="167"/>
                    </a:lnTo>
                    <a:lnTo>
                      <a:pt x="331" y="170"/>
                    </a:lnTo>
                    <a:lnTo>
                      <a:pt x="325" y="174"/>
                    </a:lnTo>
                    <a:lnTo>
                      <a:pt x="321" y="177"/>
                    </a:lnTo>
                    <a:lnTo>
                      <a:pt x="316" y="182"/>
                    </a:lnTo>
                    <a:lnTo>
                      <a:pt x="310" y="184"/>
                    </a:lnTo>
                    <a:lnTo>
                      <a:pt x="306" y="189"/>
                    </a:lnTo>
                    <a:lnTo>
                      <a:pt x="300" y="192"/>
                    </a:lnTo>
                    <a:lnTo>
                      <a:pt x="295" y="195"/>
                    </a:lnTo>
                    <a:lnTo>
                      <a:pt x="289" y="198"/>
                    </a:lnTo>
                    <a:lnTo>
                      <a:pt x="285" y="202"/>
                    </a:lnTo>
                    <a:lnTo>
                      <a:pt x="279" y="205"/>
                    </a:lnTo>
                    <a:lnTo>
                      <a:pt x="275" y="210"/>
                    </a:lnTo>
                    <a:lnTo>
                      <a:pt x="269" y="213"/>
                    </a:lnTo>
                    <a:lnTo>
                      <a:pt x="264" y="216"/>
                    </a:lnTo>
                    <a:lnTo>
                      <a:pt x="258" y="219"/>
                    </a:lnTo>
                    <a:lnTo>
                      <a:pt x="252" y="223"/>
                    </a:lnTo>
                    <a:lnTo>
                      <a:pt x="248" y="226"/>
                    </a:lnTo>
                    <a:lnTo>
                      <a:pt x="242" y="229"/>
                    </a:lnTo>
                    <a:lnTo>
                      <a:pt x="237" y="232"/>
                    </a:lnTo>
                    <a:lnTo>
                      <a:pt x="233" y="235"/>
                    </a:lnTo>
                    <a:lnTo>
                      <a:pt x="227" y="238"/>
                    </a:lnTo>
                    <a:lnTo>
                      <a:pt x="221" y="241"/>
                    </a:lnTo>
                    <a:lnTo>
                      <a:pt x="215" y="244"/>
                    </a:lnTo>
                    <a:lnTo>
                      <a:pt x="211" y="247"/>
                    </a:lnTo>
                    <a:lnTo>
                      <a:pt x="205" y="250"/>
                    </a:lnTo>
                    <a:lnTo>
                      <a:pt x="200" y="253"/>
                    </a:lnTo>
                    <a:lnTo>
                      <a:pt x="196" y="256"/>
                    </a:lnTo>
                    <a:lnTo>
                      <a:pt x="191" y="259"/>
                    </a:lnTo>
                    <a:lnTo>
                      <a:pt x="186" y="260"/>
                    </a:lnTo>
                    <a:lnTo>
                      <a:pt x="181" y="263"/>
                    </a:lnTo>
                    <a:lnTo>
                      <a:pt x="175" y="266"/>
                    </a:lnTo>
                    <a:lnTo>
                      <a:pt x="171" y="269"/>
                    </a:lnTo>
                    <a:lnTo>
                      <a:pt x="166" y="271"/>
                    </a:lnTo>
                    <a:lnTo>
                      <a:pt x="162" y="274"/>
                    </a:lnTo>
                    <a:lnTo>
                      <a:pt x="157" y="275"/>
                    </a:lnTo>
                    <a:lnTo>
                      <a:pt x="153" y="279"/>
                    </a:lnTo>
                    <a:lnTo>
                      <a:pt x="148" y="281"/>
                    </a:lnTo>
                    <a:lnTo>
                      <a:pt x="144" y="282"/>
                    </a:lnTo>
                    <a:lnTo>
                      <a:pt x="140" y="284"/>
                    </a:lnTo>
                    <a:lnTo>
                      <a:pt x="135" y="287"/>
                    </a:lnTo>
                    <a:lnTo>
                      <a:pt x="131" y="288"/>
                    </a:lnTo>
                    <a:lnTo>
                      <a:pt x="126" y="290"/>
                    </a:lnTo>
                    <a:lnTo>
                      <a:pt x="123" y="293"/>
                    </a:lnTo>
                    <a:lnTo>
                      <a:pt x="119" y="294"/>
                    </a:lnTo>
                    <a:lnTo>
                      <a:pt x="116" y="296"/>
                    </a:lnTo>
                    <a:lnTo>
                      <a:pt x="111" y="297"/>
                    </a:lnTo>
                    <a:lnTo>
                      <a:pt x="108" y="299"/>
                    </a:lnTo>
                    <a:lnTo>
                      <a:pt x="105" y="302"/>
                    </a:lnTo>
                    <a:lnTo>
                      <a:pt x="99" y="303"/>
                    </a:lnTo>
                    <a:lnTo>
                      <a:pt x="94" y="306"/>
                    </a:lnTo>
                    <a:lnTo>
                      <a:pt x="88" y="309"/>
                    </a:lnTo>
                    <a:lnTo>
                      <a:pt x="83" y="311"/>
                    </a:lnTo>
                    <a:lnTo>
                      <a:pt x="79" y="312"/>
                    </a:lnTo>
                    <a:lnTo>
                      <a:pt x="76" y="314"/>
                    </a:lnTo>
                    <a:lnTo>
                      <a:pt x="71" y="317"/>
                    </a:lnTo>
                    <a:lnTo>
                      <a:pt x="70" y="317"/>
                    </a:lnTo>
                    <a:lnTo>
                      <a:pt x="68" y="317"/>
                    </a:lnTo>
                    <a:lnTo>
                      <a:pt x="62" y="314"/>
                    </a:lnTo>
                    <a:lnTo>
                      <a:pt x="59" y="311"/>
                    </a:lnTo>
                    <a:lnTo>
                      <a:pt x="58" y="306"/>
                    </a:lnTo>
                    <a:lnTo>
                      <a:pt x="56" y="302"/>
                    </a:lnTo>
                    <a:lnTo>
                      <a:pt x="55" y="297"/>
                    </a:lnTo>
                    <a:lnTo>
                      <a:pt x="55" y="293"/>
                    </a:lnTo>
                    <a:lnTo>
                      <a:pt x="55" y="288"/>
                    </a:lnTo>
                    <a:lnTo>
                      <a:pt x="55" y="284"/>
                    </a:lnTo>
                    <a:lnTo>
                      <a:pt x="55" y="281"/>
                    </a:lnTo>
                    <a:lnTo>
                      <a:pt x="55" y="278"/>
                    </a:lnTo>
                    <a:lnTo>
                      <a:pt x="55" y="275"/>
                    </a:lnTo>
                    <a:lnTo>
                      <a:pt x="55" y="271"/>
                    </a:lnTo>
                    <a:lnTo>
                      <a:pt x="56" y="268"/>
                    </a:lnTo>
                    <a:lnTo>
                      <a:pt x="56" y="263"/>
                    </a:lnTo>
                    <a:lnTo>
                      <a:pt x="58" y="260"/>
                    </a:lnTo>
                    <a:lnTo>
                      <a:pt x="58" y="256"/>
                    </a:lnTo>
                    <a:lnTo>
                      <a:pt x="58" y="251"/>
                    </a:lnTo>
                    <a:lnTo>
                      <a:pt x="58" y="247"/>
                    </a:lnTo>
                    <a:lnTo>
                      <a:pt x="59" y="244"/>
                    </a:lnTo>
                    <a:lnTo>
                      <a:pt x="61" y="239"/>
                    </a:lnTo>
                    <a:lnTo>
                      <a:pt x="61" y="236"/>
                    </a:lnTo>
                    <a:lnTo>
                      <a:pt x="61" y="232"/>
                    </a:lnTo>
                    <a:lnTo>
                      <a:pt x="62" y="229"/>
                    </a:lnTo>
                    <a:lnTo>
                      <a:pt x="62" y="226"/>
                    </a:lnTo>
                    <a:lnTo>
                      <a:pt x="64" y="222"/>
                    </a:lnTo>
                    <a:lnTo>
                      <a:pt x="64" y="219"/>
                    </a:lnTo>
                    <a:lnTo>
                      <a:pt x="65" y="216"/>
                    </a:lnTo>
                    <a:lnTo>
                      <a:pt x="67" y="210"/>
                    </a:lnTo>
                    <a:lnTo>
                      <a:pt x="68" y="204"/>
                    </a:lnTo>
                    <a:lnTo>
                      <a:pt x="68" y="199"/>
                    </a:lnTo>
                    <a:lnTo>
                      <a:pt x="68" y="196"/>
                    </a:lnTo>
                    <a:lnTo>
                      <a:pt x="70" y="195"/>
                    </a:lnTo>
                    <a:lnTo>
                      <a:pt x="70" y="195"/>
                    </a:lnTo>
                    <a:lnTo>
                      <a:pt x="52" y="195"/>
                    </a:lnTo>
                    <a:lnTo>
                      <a:pt x="51" y="195"/>
                    </a:lnTo>
                    <a:lnTo>
                      <a:pt x="51" y="196"/>
                    </a:lnTo>
                    <a:lnTo>
                      <a:pt x="49" y="199"/>
                    </a:lnTo>
                    <a:lnTo>
                      <a:pt x="48" y="201"/>
                    </a:lnTo>
                    <a:lnTo>
                      <a:pt x="46" y="204"/>
                    </a:lnTo>
                    <a:lnTo>
                      <a:pt x="46" y="208"/>
                    </a:lnTo>
                    <a:lnTo>
                      <a:pt x="43" y="211"/>
                    </a:lnTo>
                    <a:lnTo>
                      <a:pt x="42" y="216"/>
                    </a:lnTo>
                    <a:lnTo>
                      <a:pt x="39" y="220"/>
                    </a:lnTo>
                    <a:lnTo>
                      <a:pt x="37" y="226"/>
                    </a:lnTo>
                    <a:lnTo>
                      <a:pt x="36" y="229"/>
                    </a:lnTo>
                    <a:lnTo>
                      <a:pt x="34" y="232"/>
                    </a:lnTo>
                    <a:lnTo>
                      <a:pt x="33" y="235"/>
                    </a:lnTo>
                    <a:lnTo>
                      <a:pt x="31" y="239"/>
                    </a:lnTo>
                    <a:lnTo>
                      <a:pt x="30" y="242"/>
                    </a:lnTo>
                    <a:lnTo>
                      <a:pt x="28" y="245"/>
                    </a:lnTo>
                    <a:lnTo>
                      <a:pt x="28" y="250"/>
                    </a:lnTo>
                    <a:lnTo>
                      <a:pt x="27" y="254"/>
                    </a:lnTo>
                    <a:lnTo>
                      <a:pt x="24" y="259"/>
                    </a:lnTo>
                    <a:lnTo>
                      <a:pt x="22" y="263"/>
                    </a:lnTo>
                    <a:lnTo>
                      <a:pt x="19" y="266"/>
                    </a:lnTo>
                    <a:lnTo>
                      <a:pt x="18" y="272"/>
                    </a:lnTo>
                    <a:lnTo>
                      <a:pt x="16" y="275"/>
                    </a:lnTo>
                    <a:lnTo>
                      <a:pt x="13" y="281"/>
                    </a:lnTo>
                    <a:lnTo>
                      <a:pt x="12" y="285"/>
                    </a:lnTo>
                    <a:lnTo>
                      <a:pt x="10" y="290"/>
                    </a:lnTo>
                    <a:lnTo>
                      <a:pt x="9" y="294"/>
                    </a:lnTo>
                    <a:lnTo>
                      <a:pt x="6" y="300"/>
                    </a:lnTo>
                    <a:lnTo>
                      <a:pt x="5" y="305"/>
                    </a:lnTo>
                    <a:lnTo>
                      <a:pt x="3" y="309"/>
                    </a:lnTo>
                    <a:lnTo>
                      <a:pt x="2" y="314"/>
                    </a:lnTo>
                    <a:lnTo>
                      <a:pt x="2" y="318"/>
                    </a:lnTo>
                    <a:lnTo>
                      <a:pt x="2" y="322"/>
                    </a:lnTo>
                    <a:lnTo>
                      <a:pt x="2" y="327"/>
                    </a:lnTo>
                    <a:lnTo>
                      <a:pt x="0" y="331"/>
                    </a:lnTo>
                    <a:lnTo>
                      <a:pt x="0" y="334"/>
                    </a:lnTo>
                    <a:lnTo>
                      <a:pt x="0" y="339"/>
                    </a:lnTo>
                    <a:lnTo>
                      <a:pt x="2" y="342"/>
                    </a:lnTo>
                    <a:lnTo>
                      <a:pt x="5" y="348"/>
                    </a:lnTo>
                    <a:lnTo>
                      <a:pt x="9" y="354"/>
                    </a:lnTo>
                    <a:lnTo>
                      <a:pt x="10" y="355"/>
                    </a:lnTo>
                    <a:lnTo>
                      <a:pt x="13" y="357"/>
                    </a:lnTo>
                    <a:lnTo>
                      <a:pt x="18" y="358"/>
                    </a:lnTo>
                    <a:lnTo>
                      <a:pt x="22" y="360"/>
                    </a:lnTo>
                    <a:lnTo>
                      <a:pt x="27" y="360"/>
                    </a:lnTo>
                    <a:lnTo>
                      <a:pt x="31" y="360"/>
                    </a:lnTo>
                    <a:lnTo>
                      <a:pt x="34" y="360"/>
                    </a:lnTo>
                    <a:lnTo>
                      <a:pt x="37" y="360"/>
                    </a:lnTo>
                    <a:lnTo>
                      <a:pt x="42" y="360"/>
                    </a:lnTo>
                    <a:lnTo>
                      <a:pt x="45" y="360"/>
                    </a:lnTo>
                    <a:lnTo>
                      <a:pt x="48" y="358"/>
                    </a:lnTo>
                    <a:lnTo>
                      <a:pt x="51" y="358"/>
                    </a:lnTo>
                    <a:lnTo>
                      <a:pt x="55" y="357"/>
                    </a:lnTo>
                    <a:lnTo>
                      <a:pt x="58" y="355"/>
                    </a:lnTo>
                    <a:lnTo>
                      <a:pt x="62" y="354"/>
                    </a:lnTo>
                    <a:lnTo>
                      <a:pt x="65" y="354"/>
                    </a:lnTo>
                    <a:lnTo>
                      <a:pt x="70" y="352"/>
                    </a:lnTo>
                    <a:lnTo>
                      <a:pt x="76" y="351"/>
                    </a:lnTo>
                    <a:lnTo>
                      <a:pt x="79" y="349"/>
                    </a:lnTo>
                    <a:lnTo>
                      <a:pt x="85" y="348"/>
                    </a:lnTo>
                    <a:lnTo>
                      <a:pt x="88" y="346"/>
                    </a:lnTo>
                    <a:lnTo>
                      <a:pt x="94" y="345"/>
                    </a:lnTo>
                    <a:lnTo>
                      <a:pt x="98" y="343"/>
                    </a:lnTo>
                    <a:lnTo>
                      <a:pt x="102" y="340"/>
                    </a:lnTo>
                    <a:lnTo>
                      <a:pt x="107" y="339"/>
                    </a:lnTo>
                    <a:lnTo>
                      <a:pt x="113" y="337"/>
                    </a:lnTo>
                    <a:lnTo>
                      <a:pt x="117" y="336"/>
                    </a:lnTo>
                    <a:lnTo>
                      <a:pt x="122" y="333"/>
                    </a:lnTo>
                    <a:lnTo>
                      <a:pt x="128" y="331"/>
                    </a:lnTo>
                    <a:lnTo>
                      <a:pt x="132" y="328"/>
                    </a:lnTo>
                    <a:lnTo>
                      <a:pt x="138" y="327"/>
                    </a:lnTo>
                    <a:lnTo>
                      <a:pt x="143" y="324"/>
                    </a:lnTo>
                    <a:lnTo>
                      <a:pt x="147" y="322"/>
                    </a:lnTo>
                    <a:lnTo>
                      <a:pt x="153" y="321"/>
                    </a:lnTo>
                    <a:lnTo>
                      <a:pt x="159" y="318"/>
                    </a:lnTo>
                    <a:lnTo>
                      <a:pt x="163" y="315"/>
                    </a:lnTo>
                    <a:lnTo>
                      <a:pt x="168" y="314"/>
                    </a:lnTo>
                    <a:lnTo>
                      <a:pt x="174" y="311"/>
                    </a:lnTo>
                    <a:lnTo>
                      <a:pt x="178" y="309"/>
                    </a:lnTo>
                    <a:lnTo>
                      <a:pt x="184" y="306"/>
                    </a:lnTo>
                    <a:lnTo>
                      <a:pt x="189" y="305"/>
                    </a:lnTo>
                    <a:lnTo>
                      <a:pt x="194" y="302"/>
                    </a:lnTo>
                    <a:lnTo>
                      <a:pt x="199" y="300"/>
                    </a:lnTo>
                    <a:lnTo>
                      <a:pt x="203" y="297"/>
                    </a:lnTo>
                    <a:lnTo>
                      <a:pt x="208" y="294"/>
                    </a:lnTo>
                    <a:lnTo>
                      <a:pt x="212" y="293"/>
                    </a:lnTo>
                    <a:lnTo>
                      <a:pt x="217" y="290"/>
                    </a:lnTo>
                    <a:lnTo>
                      <a:pt x="221" y="288"/>
                    </a:lnTo>
                    <a:lnTo>
                      <a:pt x="226" y="285"/>
                    </a:lnTo>
                    <a:lnTo>
                      <a:pt x="230" y="284"/>
                    </a:lnTo>
                    <a:lnTo>
                      <a:pt x="235" y="281"/>
                    </a:lnTo>
                    <a:lnTo>
                      <a:pt x="239" y="279"/>
                    </a:lnTo>
                    <a:lnTo>
                      <a:pt x="242" y="278"/>
                    </a:lnTo>
                    <a:lnTo>
                      <a:pt x="246" y="275"/>
                    </a:lnTo>
                    <a:lnTo>
                      <a:pt x="251" y="274"/>
                    </a:lnTo>
                    <a:lnTo>
                      <a:pt x="254" y="272"/>
                    </a:lnTo>
                    <a:lnTo>
                      <a:pt x="258" y="271"/>
                    </a:lnTo>
                    <a:lnTo>
                      <a:pt x="261" y="269"/>
                    </a:lnTo>
                    <a:lnTo>
                      <a:pt x="267" y="265"/>
                    </a:lnTo>
                    <a:lnTo>
                      <a:pt x="273" y="263"/>
                    </a:lnTo>
                    <a:lnTo>
                      <a:pt x="278" y="260"/>
                    </a:lnTo>
                    <a:lnTo>
                      <a:pt x="282" y="259"/>
                    </a:lnTo>
                    <a:lnTo>
                      <a:pt x="285" y="257"/>
                    </a:lnTo>
                    <a:lnTo>
                      <a:pt x="288" y="256"/>
                    </a:lnTo>
                    <a:lnTo>
                      <a:pt x="289" y="254"/>
                    </a:lnTo>
                    <a:lnTo>
                      <a:pt x="289" y="254"/>
                    </a:lnTo>
                    <a:lnTo>
                      <a:pt x="291" y="253"/>
                    </a:lnTo>
                    <a:lnTo>
                      <a:pt x="294" y="250"/>
                    </a:lnTo>
                    <a:lnTo>
                      <a:pt x="297" y="248"/>
                    </a:lnTo>
                    <a:lnTo>
                      <a:pt x="301" y="245"/>
                    </a:lnTo>
                    <a:lnTo>
                      <a:pt x="304" y="242"/>
                    </a:lnTo>
                    <a:lnTo>
                      <a:pt x="309" y="241"/>
                    </a:lnTo>
                    <a:lnTo>
                      <a:pt x="313" y="236"/>
                    </a:lnTo>
                    <a:lnTo>
                      <a:pt x="318" y="233"/>
                    </a:lnTo>
                    <a:lnTo>
                      <a:pt x="324" y="229"/>
                    </a:lnTo>
                    <a:lnTo>
                      <a:pt x="328" y="225"/>
                    </a:lnTo>
                    <a:lnTo>
                      <a:pt x="334" y="220"/>
                    </a:lnTo>
                    <a:lnTo>
                      <a:pt x="340" y="216"/>
                    </a:lnTo>
                    <a:lnTo>
                      <a:pt x="346" y="211"/>
                    </a:lnTo>
                    <a:lnTo>
                      <a:pt x="353" y="207"/>
                    </a:lnTo>
                    <a:lnTo>
                      <a:pt x="359" y="199"/>
                    </a:lnTo>
                    <a:lnTo>
                      <a:pt x="367" y="195"/>
                    </a:lnTo>
                    <a:lnTo>
                      <a:pt x="370" y="192"/>
                    </a:lnTo>
                    <a:lnTo>
                      <a:pt x="373" y="189"/>
                    </a:lnTo>
                    <a:lnTo>
                      <a:pt x="375" y="186"/>
                    </a:lnTo>
                    <a:lnTo>
                      <a:pt x="380" y="183"/>
                    </a:lnTo>
                    <a:lnTo>
                      <a:pt x="386" y="177"/>
                    </a:lnTo>
                    <a:lnTo>
                      <a:pt x="393" y="171"/>
                    </a:lnTo>
                    <a:lnTo>
                      <a:pt x="396" y="168"/>
                    </a:lnTo>
                    <a:lnTo>
                      <a:pt x="399" y="165"/>
                    </a:lnTo>
                    <a:lnTo>
                      <a:pt x="404" y="162"/>
                    </a:lnTo>
                    <a:lnTo>
                      <a:pt x="407" y="159"/>
                    </a:lnTo>
                    <a:lnTo>
                      <a:pt x="414" y="152"/>
                    </a:lnTo>
                    <a:lnTo>
                      <a:pt x="420" y="146"/>
                    </a:lnTo>
                    <a:lnTo>
                      <a:pt x="426" y="140"/>
                    </a:lnTo>
                    <a:lnTo>
                      <a:pt x="433" y="134"/>
                    </a:lnTo>
                    <a:lnTo>
                      <a:pt x="439" y="128"/>
                    </a:lnTo>
                    <a:lnTo>
                      <a:pt x="444" y="121"/>
                    </a:lnTo>
                    <a:lnTo>
                      <a:pt x="450" y="115"/>
                    </a:lnTo>
                    <a:lnTo>
                      <a:pt x="456" y="109"/>
                    </a:lnTo>
                    <a:lnTo>
                      <a:pt x="459" y="103"/>
                    </a:lnTo>
                    <a:lnTo>
                      <a:pt x="463" y="97"/>
                    </a:lnTo>
                    <a:lnTo>
                      <a:pt x="467" y="91"/>
                    </a:lnTo>
                    <a:lnTo>
                      <a:pt x="470" y="87"/>
                    </a:lnTo>
                    <a:lnTo>
                      <a:pt x="473" y="81"/>
                    </a:lnTo>
                    <a:lnTo>
                      <a:pt x="476" y="75"/>
                    </a:lnTo>
                    <a:lnTo>
                      <a:pt x="479" y="70"/>
                    </a:lnTo>
                    <a:lnTo>
                      <a:pt x="482" y="64"/>
                    </a:lnTo>
                    <a:lnTo>
                      <a:pt x="484" y="60"/>
                    </a:lnTo>
                    <a:lnTo>
                      <a:pt x="485" y="55"/>
                    </a:lnTo>
                    <a:lnTo>
                      <a:pt x="487" y="49"/>
                    </a:lnTo>
                    <a:lnTo>
                      <a:pt x="488" y="46"/>
                    </a:lnTo>
                    <a:lnTo>
                      <a:pt x="490" y="42"/>
                    </a:lnTo>
                    <a:lnTo>
                      <a:pt x="491" y="38"/>
                    </a:lnTo>
                    <a:lnTo>
                      <a:pt x="491" y="35"/>
                    </a:lnTo>
                    <a:lnTo>
                      <a:pt x="493" y="30"/>
                    </a:lnTo>
                    <a:lnTo>
                      <a:pt x="493" y="27"/>
                    </a:lnTo>
                    <a:lnTo>
                      <a:pt x="493" y="23"/>
                    </a:lnTo>
                    <a:lnTo>
                      <a:pt x="493" y="20"/>
                    </a:lnTo>
                    <a:lnTo>
                      <a:pt x="494" y="17"/>
                    </a:lnTo>
                    <a:lnTo>
                      <a:pt x="494" y="11"/>
                    </a:lnTo>
                    <a:lnTo>
                      <a:pt x="494" y="8"/>
                    </a:lnTo>
                    <a:lnTo>
                      <a:pt x="494" y="3"/>
                    </a:lnTo>
                    <a:lnTo>
                      <a:pt x="494" y="2"/>
                    </a:lnTo>
                    <a:lnTo>
                      <a:pt x="494" y="0"/>
                    </a:lnTo>
                    <a:lnTo>
                      <a:pt x="49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3760560" y="2381400"/>
                <a:ext cx="298440" cy="282600"/>
              </a:xfrm>
              <a:custGeom>
                <a:avLst/>
                <a:gdLst/>
                <a:ahLst/>
                <a:rect l="l" t="t" r="r" b="b"/>
                <a:pathLst>
                  <a:path w="376" h="356">
                    <a:moveTo>
                      <a:pt x="356" y="36"/>
                    </a:moveTo>
                    <a:lnTo>
                      <a:pt x="356" y="36"/>
                    </a:lnTo>
                    <a:lnTo>
                      <a:pt x="356" y="39"/>
                    </a:lnTo>
                    <a:lnTo>
                      <a:pt x="356" y="41"/>
                    </a:lnTo>
                    <a:lnTo>
                      <a:pt x="356" y="47"/>
                    </a:lnTo>
                    <a:lnTo>
                      <a:pt x="354" y="50"/>
                    </a:lnTo>
                    <a:lnTo>
                      <a:pt x="354" y="53"/>
                    </a:lnTo>
                    <a:lnTo>
                      <a:pt x="354" y="58"/>
                    </a:lnTo>
                    <a:lnTo>
                      <a:pt x="354" y="61"/>
                    </a:lnTo>
                    <a:lnTo>
                      <a:pt x="353" y="65"/>
                    </a:lnTo>
                    <a:lnTo>
                      <a:pt x="353" y="70"/>
                    </a:lnTo>
                    <a:lnTo>
                      <a:pt x="351" y="74"/>
                    </a:lnTo>
                    <a:lnTo>
                      <a:pt x="351" y="80"/>
                    </a:lnTo>
                    <a:lnTo>
                      <a:pt x="351" y="85"/>
                    </a:lnTo>
                    <a:lnTo>
                      <a:pt x="350" y="90"/>
                    </a:lnTo>
                    <a:lnTo>
                      <a:pt x="348" y="95"/>
                    </a:lnTo>
                    <a:lnTo>
                      <a:pt x="348" y="101"/>
                    </a:lnTo>
                    <a:lnTo>
                      <a:pt x="345" y="107"/>
                    </a:lnTo>
                    <a:lnTo>
                      <a:pt x="344" y="113"/>
                    </a:lnTo>
                    <a:lnTo>
                      <a:pt x="342" y="119"/>
                    </a:lnTo>
                    <a:lnTo>
                      <a:pt x="341" y="125"/>
                    </a:lnTo>
                    <a:lnTo>
                      <a:pt x="338" y="131"/>
                    </a:lnTo>
                    <a:lnTo>
                      <a:pt x="336" y="136"/>
                    </a:lnTo>
                    <a:lnTo>
                      <a:pt x="332" y="142"/>
                    </a:lnTo>
                    <a:lnTo>
                      <a:pt x="330" y="150"/>
                    </a:lnTo>
                    <a:lnTo>
                      <a:pt x="326" y="156"/>
                    </a:lnTo>
                    <a:lnTo>
                      <a:pt x="323" y="162"/>
                    </a:lnTo>
                    <a:lnTo>
                      <a:pt x="320" y="168"/>
                    </a:lnTo>
                    <a:lnTo>
                      <a:pt x="317" y="175"/>
                    </a:lnTo>
                    <a:lnTo>
                      <a:pt x="311" y="179"/>
                    </a:lnTo>
                    <a:lnTo>
                      <a:pt x="307" y="185"/>
                    </a:lnTo>
                    <a:lnTo>
                      <a:pt x="302" y="191"/>
                    </a:lnTo>
                    <a:lnTo>
                      <a:pt x="299" y="197"/>
                    </a:lnTo>
                    <a:lnTo>
                      <a:pt x="293" y="203"/>
                    </a:lnTo>
                    <a:lnTo>
                      <a:pt x="287" y="209"/>
                    </a:lnTo>
                    <a:lnTo>
                      <a:pt x="281" y="214"/>
                    </a:lnTo>
                    <a:lnTo>
                      <a:pt x="277" y="220"/>
                    </a:lnTo>
                    <a:lnTo>
                      <a:pt x="271" y="224"/>
                    </a:lnTo>
                    <a:lnTo>
                      <a:pt x="265" y="230"/>
                    </a:lnTo>
                    <a:lnTo>
                      <a:pt x="259" y="234"/>
                    </a:lnTo>
                    <a:lnTo>
                      <a:pt x="253" y="240"/>
                    </a:lnTo>
                    <a:lnTo>
                      <a:pt x="246" y="245"/>
                    </a:lnTo>
                    <a:lnTo>
                      <a:pt x="240" y="249"/>
                    </a:lnTo>
                    <a:lnTo>
                      <a:pt x="234" y="254"/>
                    </a:lnTo>
                    <a:lnTo>
                      <a:pt x="228" y="260"/>
                    </a:lnTo>
                    <a:lnTo>
                      <a:pt x="224" y="261"/>
                    </a:lnTo>
                    <a:lnTo>
                      <a:pt x="221" y="263"/>
                    </a:lnTo>
                    <a:lnTo>
                      <a:pt x="218" y="264"/>
                    </a:lnTo>
                    <a:lnTo>
                      <a:pt x="215" y="267"/>
                    </a:lnTo>
                    <a:lnTo>
                      <a:pt x="207" y="271"/>
                    </a:lnTo>
                    <a:lnTo>
                      <a:pt x="201" y="276"/>
                    </a:lnTo>
                    <a:lnTo>
                      <a:pt x="198" y="276"/>
                    </a:lnTo>
                    <a:lnTo>
                      <a:pt x="194" y="279"/>
                    </a:lnTo>
                    <a:lnTo>
                      <a:pt x="191" y="280"/>
                    </a:lnTo>
                    <a:lnTo>
                      <a:pt x="188" y="282"/>
                    </a:lnTo>
                    <a:lnTo>
                      <a:pt x="181" y="286"/>
                    </a:lnTo>
                    <a:lnTo>
                      <a:pt x="175" y="289"/>
                    </a:lnTo>
                    <a:lnTo>
                      <a:pt x="167" y="292"/>
                    </a:lnTo>
                    <a:lnTo>
                      <a:pt x="161" y="295"/>
                    </a:lnTo>
                    <a:lnTo>
                      <a:pt x="155" y="298"/>
                    </a:lnTo>
                    <a:lnTo>
                      <a:pt x="149" y="301"/>
                    </a:lnTo>
                    <a:lnTo>
                      <a:pt x="142" y="303"/>
                    </a:lnTo>
                    <a:lnTo>
                      <a:pt x="138" y="306"/>
                    </a:lnTo>
                    <a:lnTo>
                      <a:pt x="132" y="307"/>
                    </a:lnTo>
                    <a:lnTo>
                      <a:pt x="126" y="310"/>
                    </a:lnTo>
                    <a:lnTo>
                      <a:pt x="120" y="312"/>
                    </a:lnTo>
                    <a:lnTo>
                      <a:pt x="115" y="313"/>
                    </a:lnTo>
                    <a:lnTo>
                      <a:pt x="109" y="313"/>
                    </a:lnTo>
                    <a:lnTo>
                      <a:pt x="105" y="315"/>
                    </a:lnTo>
                    <a:lnTo>
                      <a:pt x="99" y="316"/>
                    </a:lnTo>
                    <a:lnTo>
                      <a:pt x="94" y="316"/>
                    </a:lnTo>
                    <a:lnTo>
                      <a:pt x="90" y="317"/>
                    </a:lnTo>
                    <a:lnTo>
                      <a:pt x="87" y="317"/>
                    </a:lnTo>
                    <a:lnTo>
                      <a:pt x="83" y="317"/>
                    </a:lnTo>
                    <a:lnTo>
                      <a:pt x="78" y="317"/>
                    </a:lnTo>
                    <a:lnTo>
                      <a:pt x="75" y="317"/>
                    </a:lnTo>
                    <a:lnTo>
                      <a:pt x="72" y="319"/>
                    </a:lnTo>
                    <a:lnTo>
                      <a:pt x="65" y="319"/>
                    </a:lnTo>
                    <a:lnTo>
                      <a:pt x="60" y="319"/>
                    </a:lnTo>
                    <a:lnTo>
                      <a:pt x="54" y="317"/>
                    </a:lnTo>
                    <a:lnTo>
                      <a:pt x="51" y="317"/>
                    </a:lnTo>
                    <a:lnTo>
                      <a:pt x="47" y="316"/>
                    </a:lnTo>
                    <a:lnTo>
                      <a:pt x="44" y="316"/>
                    </a:lnTo>
                    <a:lnTo>
                      <a:pt x="41" y="313"/>
                    </a:lnTo>
                    <a:lnTo>
                      <a:pt x="40" y="313"/>
                    </a:lnTo>
                    <a:lnTo>
                      <a:pt x="38" y="313"/>
                    </a:lnTo>
                    <a:lnTo>
                      <a:pt x="37" y="312"/>
                    </a:lnTo>
                    <a:lnTo>
                      <a:pt x="35" y="310"/>
                    </a:lnTo>
                    <a:lnTo>
                      <a:pt x="35" y="306"/>
                    </a:lnTo>
                    <a:lnTo>
                      <a:pt x="35" y="303"/>
                    </a:lnTo>
                    <a:lnTo>
                      <a:pt x="37" y="300"/>
                    </a:lnTo>
                    <a:lnTo>
                      <a:pt x="38" y="297"/>
                    </a:lnTo>
                    <a:lnTo>
                      <a:pt x="40" y="294"/>
                    </a:lnTo>
                    <a:lnTo>
                      <a:pt x="41" y="289"/>
                    </a:lnTo>
                    <a:lnTo>
                      <a:pt x="43" y="285"/>
                    </a:lnTo>
                    <a:lnTo>
                      <a:pt x="44" y="280"/>
                    </a:lnTo>
                    <a:lnTo>
                      <a:pt x="47" y="274"/>
                    </a:lnTo>
                    <a:lnTo>
                      <a:pt x="48" y="269"/>
                    </a:lnTo>
                    <a:lnTo>
                      <a:pt x="51" y="264"/>
                    </a:lnTo>
                    <a:lnTo>
                      <a:pt x="54" y="258"/>
                    </a:lnTo>
                    <a:lnTo>
                      <a:pt x="57" y="254"/>
                    </a:lnTo>
                    <a:lnTo>
                      <a:pt x="59" y="248"/>
                    </a:lnTo>
                    <a:lnTo>
                      <a:pt x="62" y="243"/>
                    </a:lnTo>
                    <a:lnTo>
                      <a:pt x="63" y="239"/>
                    </a:lnTo>
                    <a:lnTo>
                      <a:pt x="66" y="236"/>
                    </a:lnTo>
                    <a:lnTo>
                      <a:pt x="69" y="231"/>
                    </a:lnTo>
                    <a:lnTo>
                      <a:pt x="71" y="230"/>
                    </a:lnTo>
                    <a:lnTo>
                      <a:pt x="37" y="242"/>
                    </a:lnTo>
                    <a:lnTo>
                      <a:pt x="35" y="242"/>
                    </a:lnTo>
                    <a:lnTo>
                      <a:pt x="32" y="245"/>
                    </a:lnTo>
                    <a:lnTo>
                      <a:pt x="28" y="249"/>
                    </a:lnTo>
                    <a:lnTo>
                      <a:pt x="25" y="254"/>
                    </a:lnTo>
                    <a:lnTo>
                      <a:pt x="22" y="257"/>
                    </a:lnTo>
                    <a:lnTo>
                      <a:pt x="19" y="261"/>
                    </a:lnTo>
                    <a:lnTo>
                      <a:pt x="16" y="264"/>
                    </a:lnTo>
                    <a:lnTo>
                      <a:pt x="14" y="269"/>
                    </a:lnTo>
                    <a:lnTo>
                      <a:pt x="11" y="271"/>
                    </a:lnTo>
                    <a:lnTo>
                      <a:pt x="10" y="277"/>
                    </a:lnTo>
                    <a:lnTo>
                      <a:pt x="7" y="282"/>
                    </a:lnTo>
                    <a:lnTo>
                      <a:pt x="7" y="288"/>
                    </a:lnTo>
                    <a:lnTo>
                      <a:pt x="4" y="292"/>
                    </a:lnTo>
                    <a:lnTo>
                      <a:pt x="2" y="298"/>
                    </a:lnTo>
                    <a:lnTo>
                      <a:pt x="2" y="303"/>
                    </a:lnTo>
                    <a:lnTo>
                      <a:pt x="1" y="309"/>
                    </a:lnTo>
                    <a:lnTo>
                      <a:pt x="0" y="313"/>
                    </a:lnTo>
                    <a:lnTo>
                      <a:pt x="0" y="319"/>
                    </a:lnTo>
                    <a:lnTo>
                      <a:pt x="0" y="325"/>
                    </a:lnTo>
                    <a:lnTo>
                      <a:pt x="0" y="329"/>
                    </a:lnTo>
                    <a:lnTo>
                      <a:pt x="0" y="334"/>
                    </a:lnTo>
                    <a:lnTo>
                      <a:pt x="0" y="338"/>
                    </a:lnTo>
                    <a:lnTo>
                      <a:pt x="0" y="341"/>
                    </a:lnTo>
                    <a:lnTo>
                      <a:pt x="0" y="346"/>
                    </a:lnTo>
                    <a:lnTo>
                      <a:pt x="0" y="350"/>
                    </a:lnTo>
                    <a:lnTo>
                      <a:pt x="1" y="352"/>
                    </a:lnTo>
                    <a:lnTo>
                      <a:pt x="2" y="352"/>
                    </a:lnTo>
                    <a:lnTo>
                      <a:pt x="4" y="353"/>
                    </a:lnTo>
                    <a:lnTo>
                      <a:pt x="8" y="353"/>
                    </a:lnTo>
                    <a:lnTo>
                      <a:pt x="11" y="355"/>
                    </a:lnTo>
                    <a:lnTo>
                      <a:pt x="17" y="355"/>
                    </a:lnTo>
                    <a:lnTo>
                      <a:pt x="20" y="355"/>
                    </a:lnTo>
                    <a:lnTo>
                      <a:pt x="23" y="355"/>
                    </a:lnTo>
                    <a:lnTo>
                      <a:pt x="28" y="355"/>
                    </a:lnTo>
                    <a:lnTo>
                      <a:pt x="31" y="356"/>
                    </a:lnTo>
                    <a:lnTo>
                      <a:pt x="35" y="355"/>
                    </a:lnTo>
                    <a:lnTo>
                      <a:pt x="38" y="355"/>
                    </a:lnTo>
                    <a:lnTo>
                      <a:pt x="43" y="355"/>
                    </a:lnTo>
                    <a:lnTo>
                      <a:pt x="47" y="355"/>
                    </a:lnTo>
                    <a:lnTo>
                      <a:pt x="51" y="355"/>
                    </a:lnTo>
                    <a:lnTo>
                      <a:pt x="56" y="355"/>
                    </a:lnTo>
                    <a:lnTo>
                      <a:pt x="62" y="353"/>
                    </a:lnTo>
                    <a:lnTo>
                      <a:pt x="66" y="353"/>
                    </a:lnTo>
                    <a:lnTo>
                      <a:pt x="72" y="352"/>
                    </a:lnTo>
                    <a:lnTo>
                      <a:pt x="78" y="352"/>
                    </a:lnTo>
                    <a:lnTo>
                      <a:pt x="84" y="350"/>
                    </a:lnTo>
                    <a:lnTo>
                      <a:pt x="90" y="349"/>
                    </a:lnTo>
                    <a:lnTo>
                      <a:pt x="96" y="347"/>
                    </a:lnTo>
                    <a:lnTo>
                      <a:pt x="103" y="346"/>
                    </a:lnTo>
                    <a:lnTo>
                      <a:pt x="106" y="344"/>
                    </a:lnTo>
                    <a:lnTo>
                      <a:pt x="109" y="344"/>
                    </a:lnTo>
                    <a:lnTo>
                      <a:pt x="112" y="344"/>
                    </a:lnTo>
                    <a:lnTo>
                      <a:pt x="117" y="343"/>
                    </a:lnTo>
                    <a:lnTo>
                      <a:pt x="120" y="341"/>
                    </a:lnTo>
                    <a:lnTo>
                      <a:pt x="123" y="340"/>
                    </a:lnTo>
                    <a:lnTo>
                      <a:pt x="127" y="338"/>
                    </a:lnTo>
                    <a:lnTo>
                      <a:pt x="130" y="337"/>
                    </a:lnTo>
                    <a:lnTo>
                      <a:pt x="135" y="335"/>
                    </a:lnTo>
                    <a:lnTo>
                      <a:pt x="138" y="334"/>
                    </a:lnTo>
                    <a:lnTo>
                      <a:pt x="142" y="332"/>
                    </a:lnTo>
                    <a:lnTo>
                      <a:pt x="145" y="332"/>
                    </a:lnTo>
                    <a:lnTo>
                      <a:pt x="149" y="329"/>
                    </a:lnTo>
                    <a:lnTo>
                      <a:pt x="152" y="328"/>
                    </a:lnTo>
                    <a:lnTo>
                      <a:pt x="157" y="326"/>
                    </a:lnTo>
                    <a:lnTo>
                      <a:pt x="160" y="325"/>
                    </a:lnTo>
                    <a:lnTo>
                      <a:pt x="164" y="323"/>
                    </a:lnTo>
                    <a:lnTo>
                      <a:pt x="169" y="322"/>
                    </a:lnTo>
                    <a:lnTo>
                      <a:pt x="172" y="320"/>
                    </a:lnTo>
                    <a:lnTo>
                      <a:pt x="176" y="319"/>
                    </a:lnTo>
                    <a:lnTo>
                      <a:pt x="181" y="317"/>
                    </a:lnTo>
                    <a:lnTo>
                      <a:pt x="184" y="315"/>
                    </a:lnTo>
                    <a:lnTo>
                      <a:pt x="188" y="313"/>
                    </a:lnTo>
                    <a:lnTo>
                      <a:pt x="192" y="312"/>
                    </a:lnTo>
                    <a:lnTo>
                      <a:pt x="195" y="310"/>
                    </a:lnTo>
                    <a:lnTo>
                      <a:pt x="200" y="307"/>
                    </a:lnTo>
                    <a:lnTo>
                      <a:pt x="204" y="306"/>
                    </a:lnTo>
                    <a:lnTo>
                      <a:pt x="209" y="304"/>
                    </a:lnTo>
                    <a:lnTo>
                      <a:pt x="212" y="301"/>
                    </a:lnTo>
                    <a:lnTo>
                      <a:pt x="216" y="300"/>
                    </a:lnTo>
                    <a:lnTo>
                      <a:pt x="219" y="297"/>
                    </a:lnTo>
                    <a:lnTo>
                      <a:pt x="224" y="295"/>
                    </a:lnTo>
                    <a:lnTo>
                      <a:pt x="228" y="292"/>
                    </a:lnTo>
                    <a:lnTo>
                      <a:pt x="231" y="291"/>
                    </a:lnTo>
                    <a:lnTo>
                      <a:pt x="235" y="289"/>
                    </a:lnTo>
                    <a:lnTo>
                      <a:pt x="240" y="288"/>
                    </a:lnTo>
                    <a:lnTo>
                      <a:pt x="243" y="285"/>
                    </a:lnTo>
                    <a:lnTo>
                      <a:pt x="247" y="282"/>
                    </a:lnTo>
                    <a:lnTo>
                      <a:pt x="250" y="280"/>
                    </a:lnTo>
                    <a:lnTo>
                      <a:pt x="255" y="277"/>
                    </a:lnTo>
                    <a:lnTo>
                      <a:pt x="258" y="276"/>
                    </a:lnTo>
                    <a:lnTo>
                      <a:pt x="262" y="273"/>
                    </a:lnTo>
                    <a:lnTo>
                      <a:pt x="265" y="270"/>
                    </a:lnTo>
                    <a:lnTo>
                      <a:pt x="270" y="269"/>
                    </a:lnTo>
                    <a:lnTo>
                      <a:pt x="273" y="266"/>
                    </a:lnTo>
                    <a:lnTo>
                      <a:pt x="277" y="263"/>
                    </a:lnTo>
                    <a:lnTo>
                      <a:pt x="280" y="261"/>
                    </a:lnTo>
                    <a:lnTo>
                      <a:pt x="284" y="258"/>
                    </a:lnTo>
                    <a:lnTo>
                      <a:pt x="287" y="255"/>
                    </a:lnTo>
                    <a:lnTo>
                      <a:pt x="290" y="254"/>
                    </a:lnTo>
                    <a:lnTo>
                      <a:pt x="293" y="251"/>
                    </a:lnTo>
                    <a:lnTo>
                      <a:pt x="298" y="249"/>
                    </a:lnTo>
                    <a:lnTo>
                      <a:pt x="304" y="243"/>
                    </a:lnTo>
                    <a:lnTo>
                      <a:pt x="310" y="239"/>
                    </a:lnTo>
                    <a:lnTo>
                      <a:pt x="316" y="233"/>
                    </a:lnTo>
                    <a:lnTo>
                      <a:pt x="322" y="227"/>
                    </a:lnTo>
                    <a:lnTo>
                      <a:pt x="326" y="223"/>
                    </a:lnTo>
                    <a:lnTo>
                      <a:pt x="332" y="217"/>
                    </a:lnTo>
                    <a:lnTo>
                      <a:pt x="336" y="212"/>
                    </a:lnTo>
                    <a:lnTo>
                      <a:pt x="342" y="208"/>
                    </a:lnTo>
                    <a:lnTo>
                      <a:pt x="345" y="202"/>
                    </a:lnTo>
                    <a:lnTo>
                      <a:pt x="350" y="196"/>
                    </a:lnTo>
                    <a:lnTo>
                      <a:pt x="353" y="190"/>
                    </a:lnTo>
                    <a:lnTo>
                      <a:pt x="356" y="185"/>
                    </a:lnTo>
                    <a:lnTo>
                      <a:pt x="359" y="179"/>
                    </a:lnTo>
                    <a:lnTo>
                      <a:pt x="362" y="175"/>
                    </a:lnTo>
                    <a:lnTo>
                      <a:pt x="365" y="171"/>
                    </a:lnTo>
                    <a:lnTo>
                      <a:pt x="366" y="165"/>
                    </a:lnTo>
                    <a:lnTo>
                      <a:pt x="368" y="160"/>
                    </a:lnTo>
                    <a:lnTo>
                      <a:pt x="370" y="156"/>
                    </a:lnTo>
                    <a:lnTo>
                      <a:pt x="370" y="150"/>
                    </a:lnTo>
                    <a:lnTo>
                      <a:pt x="372" y="145"/>
                    </a:lnTo>
                    <a:lnTo>
                      <a:pt x="373" y="141"/>
                    </a:lnTo>
                    <a:lnTo>
                      <a:pt x="373" y="136"/>
                    </a:lnTo>
                    <a:lnTo>
                      <a:pt x="375" y="133"/>
                    </a:lnTo>
                    <a:lnTo>
                      <a:pt x="376" y="129"/>
                    </a:lnTo>
                    <a:lnTo>
                      <a:pt x="376" y="125"/>
                    </a:lnTo>
                    <a:lnTo>
                      <a:pt x="376" y="122"/>
                    </a:lnTo>
                    <a:lnTo>
                      <a:pt x="376" y="117"/>
                    </a:lnTo>
                    <a:lnTo>
                      <a:pt x="376" y="114"/>
                    </a:lnTo>
                    <a:lnTo>
                      <a:pt x="376" y="108"/>
                    </a:lnTo>
                    <a:lnTo>
                      <a:pt x="376" y="102"/>
                    </a:lnTo>
                    <a:lnTo>
                      <a:pt x="375" y="99"/>
                    </a:lnTo>
                    <a:lnTo>
                      <a:pt x="375" y="95"/>
                    </a:lnTo>
                    <a:lnTo>
                      <a:pt x="375" y="93"/>
                    </a:lnTo>
                    <a:lnTo>
                      <a:pt x="375" y="0"/>
                    </a:lnTo>
                    <a:lnTo>
                      <a:pt x="356" y="36"/>
                    </a:lnTo>
                    <a:lnTo>
                      <a:pt x="356" y="3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402000" y="2589120"/>
                <a:ext cx="377640" cy="111240"/>
              </a:xfrm>
              <a:custGeom>
                <a:avLst/>
                <a:gdLst/>
                <a:ahLst/>
                <a:rect l="l" t="t" r="r" b="b"/>
                <a:pathLst>
                  <a:path w="475" h="139">
                    <a:moveTo>
                      <a:pt x="475" y="0"/>
                    </a:moveTo>
                    <a:lnTo>
                      <a:pt x="474" y="0"/>
                    </a:lnTo>
                    <a:lnTo>
                      <a:pt x="474" y="1"/>
                    </a:lnTo>
                    <a:lnTo>
                      <a:pt x="474" y="3"/>
                    </a:lnTo>
                    <a:lnTo>
                      <a:pt x="472" y="7"/>
                    </a:lnTo>
                    <a:lnTo>
                      <a:pt x="469" y="10"/>
                    </a:lnTo>
                    <a:lnTo>
                      <a:pt x="466" y="14"/>
                    </a:lnTo>
                    <a:lnTo>
                      <a:pt x="462" y="20"/>
                    </a:lnTo>
                    <a:lnTo>
                      <a:pt x="456" y="26"/>
                    </a:lnTo>
                    <a:lnTo>
                      <a:pt x="453" y="28"/>
                    </a:lnTo>
                    <a:lnTo>
                      <a:pt x="449" y="32"/>
                    </a:lnTo>
                    <a:lnTo>
                      <a:pt x="444" y="34"/>
                    </a:lnTo>
                    <a:lnTo>
                      <a:pt x="440" y="38"/>
                    </a:lnTo>
                    <a:lnTo>
                      <a:pt x="435" y="41"/>
                    </a:lnTo>
                    <a:lnTo>
                      <a:pt x="429" y="44"/>
                    </a:lnTo>
                    <a:lnTo>
                      <a:pt x="423" y="47"/>
                    </a:lnTo>
                    <a:lnTo>
                      <a:pt x="417" y="50"/>
                    </a:lnTo>
                    <a:lnTo>
                      <a:pt x="414" y="52"/>
                    </a:lnTo>
                    <a:lnTo>
                      <a:pt x="410" y="54"/>
                    </a:lnTo>
                    <a:lnTo>
                      <a:pt x="407" y="54"/>
                    </a:lnTo>
                    <a:lnTo>
                      <a:pt x="404" y="57"/>
                    </a:lnTo>
                    <a:lnTo>
                      <a:pt x="400" y="57"/>
                    </a:lnTo>
                    <a:lnTo>
                      <a:pt x="395" y="60"/>
                    </a:lnTo>
                    <a:lnTo>
                      <a:pt x="392" y="62"/>
                    </a:lnTo>
                    <a:lnTo>
                      <a:pt x="388" y="63"/>
                    </a:lnTo>
                    <a:lnTo>
                      <a:pt x="383" y="65"/>
                    </a:lnTo>
                    <a:lnTo>
                      <a:pt x="379" y="66"/>
                    </a:lnTo>
                    <a:lnTo>
                      <a:pt x="373" y="68"/>
                    </a:lnTo>
                    <a:lnTo>
                      <a:pt x="370" y="69"/>
                    </a:lnTo>
                    <a:lnTo>
                      <a:pt x="364" y="71"/>
                    </a:lnTo>
                    <a:lnTo>
                      <a:pt x="360" y="72"/>
                    </a:lnTo>
                    <a:lnTo>
                      <a:pt x="354" y="74"/>
                    </a:lnTo>
                    <a:lnTo>
                      <a:pt x="349" y="77"/>
                    </a:lnTo>
                    <a:lnTo>
                      <a:pt x="343" y="77"/>
                    </a:lnTo>
                    <a:lnTo>
                      <a:pt x="337" y="78"/>
                    </a:lnTo>
                    <a:lnTo>
                      <a:pt x="331" y="80"/>
                    </a:lnTo>
                    <a:lnTo>
                      <a:pt x="324" y="81"/>
                    </a:lnTo>
                    <a:lnTo>
                      <a:pt x="318" y="81"/>
                    </a:lnTo>
                    <a:lnTo>
                      <a:pt x="312" y="84"/>
                    </a:lnTo>
                    <a:lnTo>
                      <a:pt x="306" y="84"/>
                    </a:lnTo>
                    <a:lnTo>
                      <a:pt x="299" y="86"/>
                    </a:lnTo>
                    <a:lnTo>
                      <a:pt x="293" y="87"/>
                    </a:lnTo>
                    <a:lnTo>
                      <a:pt x="285" y="89"/>
                    </a:lnTo>
                    <a:lnTo>
                      <a:pt x="279" y="89"/>
                    </a:lnTo>
                    <a:lnTo>
                      <a:pt x="272" y="90"/>
                    </a:lnTo>
                    <a:lnTo>
                      <a:pt x="265" y="92"/>
                    </a:lnTo>
                    <a:lnTo>
                      <a:pt x="257" y="92"/>
                    </a:lnTo>
                    <a:lnTo>
                      <a:pt x="251" y="93"/>
                    </a:lnTo>
                    <a:lnTo>
                      <a:pt x="244" y="95"/>
                    </a:lnTo>
                    <a:lnTo>
                      <a:pt x="236" y="96"/>
                    </a:lnTo>
                    <a:lnTo>
                      <a:pt x="229" y="96"/>
                    </a:lnTo>
                    <a:lnTo>
                      <a:pt x="222" y="98"/>
                    </a:lnTo>
                    <a:lnTo>
                      <a:pt x="216" y="99"/>
                    </a:lnTo>
                    <a:lnTo>
                      <a:pt x="208" y="99"/>
                    </a:lnTo>
                    <a:lnTo>
                      <a:pt x="201" y="100"/>
                    </a:lnTo>
                    <a:lnTo>
                      <a:pt x="193" y="100"/>
                    </a:lnTo>
                    <a:lnTo>
                      <a:pt x="186" y="102"/>
                    </a:lnTo>
                    <a:lnTo>
                      <a:pt x="178" y="102"/>
                    </a:lnTo>
                    <a:lnTo>
                      <a:pt x="171" y="103"/>
                    </a:lnTo>
                    <a:lnTo>
                      <a:pt x="164" y="103"/>
                    </a:lnTo>
                    <a:lnTo>
                      <a:pt x="158" y="105"/>
                    </a:lnTo>
                    <a:lnTo>
                      <a:pt x="150" y="105"/>
                    </a:lnTo>
                    <a:lnTo>
                      <a:pt x="143" y="106"/>
                    </a:lnTo>
                    <a:lnTo>
                      <a:pt x="137" y="108"/>
                    </a:lnTo>
                    <a:lnTo>
                      <a:pt x="131" y="108"/>
                    </a:lnTo>
                    <a:lnTo>
                      <a:pt x="124" y="108"/>
                    </a:lnTo>
                    <a:lnTo>
                      <a:pt x="116" y="109"/>
                    </a:lnTo>
                    <a:lnTo>
                      <a:pt x="109" y="109"/>
                    </a:lnTo>
                    <a:lnTo>
                      <a:pt x="103" y="111"/>
                    </a:lnTo>
                    <a:lnTo>
                      <a:pt x="97" y="111"/>
                    </a:lnTo>
                    <a:lnTo>
                      <a:pt x="89" y="111"/>
                    </a:lnTo>
                    <a:lnTo>
                      <a:pt x="85" y="111"/>
                    </a:lnTo>
                    <a:lnTo>
                      <a:pt x="79" y="112"/>
                    </a:lnTo>
                    <a:lnTo>
                      <a:pt x="73" y="112"/>
                    </a:lnTo>
                    <a:lnTo>
                      <a:pt x="67" y="112"/>
                    </a:lnTo>
                    <a:lnTo>
                      <a:pt x="61" y="114"/>
                    </a:lnTo>
                    <a:lnTo>
                      <a:pt x="57" y="114"/>
                    </a:lnTo>
                    <a:lnTo>
                      <a:pt x="51" y="114"/>
                    </a:lnTo>
                    <a:lnTo>
                      <a:pt x="46" y="115"/>
                    </a:lnTo>
                    <a:lnTo>
                      <a:pt x="42" y="115"/>
                    </a:lnTo>
                    <a:lnTo>
                      <a:pt x="38" y="115"/>
                    </a:lnTo>
                    <a:lnTo>
                      <a:pt x="33" y="115"/>
                    </a:lnTo>
                    <a:lnTo>
                      <a:pt x="29" y="115"/>
                    </a:lnTo>
                    <a:lnTo>
                      <a:pt x="26" y="115"/>
                    </a:lnTo>
                    <a:lnTo>
                      <a:pt x="23" y="117"/>
                    </a:lnTo>
                    <a:lnTo>
                      <a:pt x="18" y="117"/>
                    </a:lnTo>
                    <a:lnTo>
                      <a:pt x="15" y="117"/>
                    </a:lnTo>
                    <a:lnTo>
                      <a:pt x="12" y="117"/>
                    </a:lnTo>
                    <a:lnTo>
                      <a:pt x="11" y="117"/>
                    </a:lnTo>
                    <a:lnTo>
                      <a:pt x="5" y="117"/>
                    </a:lnTo>
                    <a:lnTo>
                      <a:pt x="2" y="118"/>
                    </a:lnTo>
                    <a:lnTo>
                      <a:pt x="0" y="118"/>
                    </a:lnTo>
                    <a:lnTo>
                      <a:pt x="0" y="118"/>
                    </a:lnTo>
                    <a:lnTo>
                      <a:pt x="0" y="118"/>
                    </a:lnTo>
                    <a:lnTo>
                      <a:pt x="5" y="120"/>
                    </a:lnTo>
                    <a:lnTo>
                      <a:pt x="6" y="120"/>
                    </a:lnTo>
                    <a:lnTo>
                      <a:pt x="11" y="121"/>
                    </a:lnTo>
                    <a:lnTo>
                      <a:pt x="14" y="121"/>
                    </a:lnTo>
                    <a:lnTo>
                      <a:pt x="18" y="123"/>
                    </a:lnTo>
                    <a:lnTo>
                      <a:pt x="21" y="123"/>
                    </a:lnTo>
                    <a:lnTo>
                      <a:pt x="27" y="124"/>
                    </a:lnTo>
                    <a:lnTo>
                      <a:pt x="32" y="126"/>
                    </a:lnTo>
                    <a:lnTo>
                      <a:pt x="38" y="127"/>
                    </a:lnTo>
                    <a:lnTo>
                      <a:pt x="40" y="127"/>
                    </a:lnTo>
                    <a:lnTo>
                      <a:pt x="43" y="127"/>
                    </a:lnTo>
                    <a:lnTo>
                      <a:pt x="48" y="129"/>
                    </a:lnTo>
                    <a:lnTo>
                      <a:pt x="51" y="129"/>
                    </a:lnTo>
                    <a:lnTo>
                      <a:pt x="54" y="130"/>
                    </a:lnTo>
                    <a:lnTo>
                      <a:pt x="58" y="130"/>
                    </a:lnTo>
                    <a:lnTo>
                      <a:pt x="61" y="130"/>
                    </a:lnTo>
                    <a:lnTo>
                      <a:pt x="66" y="132"/>
                    </a:lnTo>
                    <a:lnTo>
                      <a:pt x="70" y="132"/>
                    </a:lnTo>
                    <a:lnTo>
                      <a:pt x="73" y="133"/>
                    </a:lnTo>
                    <a:lnTo>
                      <a:pt x="78" y="133"/>
                    </a:lnTo>
                    <a:lnTo>
                      <a:pt x="81" y="133"/>
                    </a:lnTo>
                    <a:lnTo>
                      <a:pt x="85" y="133"/>
                    </a:lnTo>
                    <a:lnTo>
                      <a:pt x="89" y="135"/>
                    </a:lnTo>
                    <a:lnTo>
                      <a:pt x="94" y="135"/>
                    </a:lnTo>
                    <a:lnTo>
                      <a:pt x="98" y="136"/>
                    </a:lnTo>
                    <a:lnTo>
                      <a:pt x="101" y="136"/>
                    </a:lnTo>
                    <a:lnTo>
                      <a:pt x="107" y="138"/>
                    </a:lnTo>
                    <a:lnTo>
                      <a:pt x="112" y="138"/>
                    </a:lnTo>
                    <a:lnTo>
                      <a:pt x="116" y="138"/>
                    </a:lnTo>
                    <a:lnTo>
                      <a:pt x="121" y="138"/>
                    </a:lnTo>
                    <a:lnTo>
                      <a:pt x="127" y="138"/>
                    </a:lnTo>
                    <a:lnTo>
                      <a:pt x="131" y="138"/>
                    </a:lnTo>
                    <a:lnTo>
                      <a:pt x="135" y="139"/>
                    </a:lnTo>
                    <a:lnTo>
                      <a:pt x="140" y="139"/>
                    </a:lnTo>
                    <a:lnTo>
                      <a:pt x="146" y="139"/>
                    </a:lnTo>
                    <a:lnTo>
                      <a:pt x="150" y="139"/>
                    </a:lnTo>
                    <a:lnTo>
                      <a:pt x="156" y="139"/>
                    </a:lnTo>
                    <a:lnTo>
                      <a:pt x="161" y="139"/>
                    </a:lnTo>
                    <a:lnTo>
                      <a:pt x="165" y="139"/>
                    </a:lnTo>
                    <a:lnTo>
                      <a:pt x="171" y="139"/>
                    </a:lnTo>
                    <a:lnTo>
                      <a:pt x="176" y="139"/>
                    </a:lnTo>
                    <a:lnTo>
                      <a:pt x="181" y="139"/>
                    </a:lnTo>
                    <a:lnTo>
                      <a:pt x="187" y="139"/>
                    </a:lnTo>
                    <a:lnTo>
                      <a:pt x="192" y="138"/>
                    </a:lnTo>
                    <a:lnTo>
                      <a:pt x="198" y="138"/>
                    </a:lnTo>
                    <a:lnTo>
                      <a:pt x="204" y="138"/>
                    </a:lnTo>
                    <a:lnTo>
                      <a:pt x="210" y="138"/>
                    </a:lnTo>
                    <a:lnTo>
                      <a:pt x="214" y="138"/>
                    </a:lnTo>
                    <a:lnTo>
                      <a:pt x="220" y="138"/>
                    </a:lnTo>
                    <a:lnTo>
                      <a:pt x="224" y="136"/>
                    </a:lnTo>
                    <a:lnTo>
                      <a:pt x="230" y="135"/>
                    </a:lnTo>
                    <a:lnTo>
                      <a:pt x="236" y="133"/>
                    </a:lnTo>
                    <a:lnTo>
                      <a:pt x="242" y="133"/>
                    </a:lnTo>
                    <a:lnTo>
                      <a:pt x="247" y="132"/>
                    </a:lnTo>
                    <a:lnTo>
                      <a:pt x="253" y="132"/>
                    </a:lnTo>
                    <a:lnTo>
                      <a:pt x="259" y="130"/>
                    </a:lnTo>
                    <a:lnTo>
                      <a:pt x="265" y="130"/>
                    </a:lnTo>
                    <a:lnTo>
                      <a:pt x="269" y="127"/>
                    </a:lnTo>
                    <a:lnTo>
                      <a:pt x="275" y="127"/>
                    </a:lnTo>
                    <a:lnTo>
                      <a:pt x="281" y="126"/>
                    </a:lnTo>
                    <a:lnTo>
                      <a:pt x="287" y="124"/>
                    </a:lnTo>
                    <a:lnTo>
                      <a:pt x="291" y="123"/>
                    </a:lnTo>
                    <a:lnTo>
                      <a:pt x="297" y="123"/>
                    </a:lnTo>
                    <a:lnTo>
                      <a:pt x="303" y="120"/>
                    </a:lnTo>
                    <a:lnTo>
                      <a:pt x="309" y="120"/>
                    </a:lnTo>
                    <a:lnTo>
                      <a:pt x="314" y="118"/>
                    </a:lnTo>
                    <a:lnTo>
                      <a:pt x="319" y="117"/>
                    </a:lnTo>
                    <a:lnTo>
                      <a:pt x="324" y="115"/>
                    </a:lnTo>
                    <a:lnTo>
                      <a:pt x="330" y="114"/>
                    </a:lnTo>
                    <a:lnTo>
                      <a:pt x="334" y="111"/>
                    </a:lnTo>
                    <a:lnTo>
                      <a:pt x="340" y="111"/>
                    </a:lnTo>
                    <a:lnTo>
                      <a:pt x="345" y="109"/>
                    </a:lnTo>
                    <a:lnTo>
                      <a:pt x="351" y="108"/>
                    </a:lnTo>
                    <a:lnTo>
                      <a:pt x="355" y="106"/>
                    </a:lnTo>
                    <a:lnTo>
                      <a:pt x="361" y="105"/>
                    </a:lnTo>
                    <a:lnTo>
                      <a:pt x="365" y="103"/>
                    </a:lnTo>
                    <a:lnTo>
                      <a:pt x="370" y="102"/>
                    </a:lnTo>
                    <a:lnTo>
                      <a:pt x="374" y="99"/>
                    </a:lnTo>
                    <a:lnTo>
                      <a:pt x="380" y="99"/>
                    </a:lnTo>
                    <a:lnTo>
                      <a:pt x="385" y="98"/>
                    </a:lnTo>
                    <a:lnTo>
                      <a:pt x="389" y="96"/>
                    </a:lnTo>
                    <a:lnTo>
                      <a:pt x="394" y="95"/>
                    </a:lnTo>
                    <a:lnTo>
                      <a:pt x="398" y="92"/>
                    </a:lnTo>
                    <a:lnTo>
                      <a:pt x="403" y="92"/>
                    </a:lnTo>
                    <a:lnTo>
                      <a:pt x="407" y="90"/>
                    </a:lnTo>
                    <a:lnTo>
                      <a:pt x="410" y="89"/>
                    </a:lnTo>
                    <a:lnTo>
                      <a:pt x="414" y="87"/>
                    </a:lnTo>
                    <a:lnTo>
                      <a:pt x="417" y="86"/>
                    </a:lnTo>
                    <a:lnTo>
                      <a:pt x="422" y="84"/>
                    </a:lnTo>
                    <a:lnTo>
                      <a:pt x="425" y="83"/>
                    </a:lnTo>
                    <a:lnTo>
                      <a:pt x="429" y="81"/>
                    </a:lnTo>
                    <a:lnTo>
                      <a:pt x="432" y="80"/>
                    </a:lnTo>
                    <a:lnTo>
                      <a:pt x="437" y="78"/>
                    </a:lnTo>
                    <a:lnTo>
                      <a:pt x="443" y="77"/>
                    </a:lnTo>
                    <a:lnTo>
                      <a:pt x="449" y="74"/>
                    </a:lnTo>
                    <a:lnTo>
                      <a:pt x="453" y="72"/>
                    </a:lnTo>
                    <a:lnTo>
                      <a:pt x="457" y="69"/>
                    </a:lnTo>
                    <a:lnTo>
                      <a:pt x="462" y="69"/>
                    </a:lnTo>
                    <a:lnTo>
                      <a:pt x="465" y="68"/>
                    </a:lnTo>
                    <a:lnTo>
                      <a:pt x="469" y="65"/>
                    </a:lnTo>
                    <a:lnTo>
                      <a:pt x="471" y="65"/>
                    </a:lnTo>
                    <a:lnTo>
                      <a:pt x="475" y="0"/>
                    </a:lnTo>
                    <a:lnTo>
                      <a:pt x="475"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031920" y="2695680"/>
                <a:ext cx="424080" cy="460440"/>
              </a:xfrm>
              <a:custGeom>
                <a:avLst/>
                <a:gdLst/>
                <a:ahLst/>
                <a:rect l="l" t="t" r="r" b="b"/>
                <a:pathLst>
                  <a:path w="534" h="580">
                    <a:moveTo>
                      <a:pt x="497" y="0"/>
                    </a:moveTo>
                    <a:lnTo>
                      <a:pt x="496" y="0"/>
                    </a:lnTo>
                    <a:lnTo>
                      <a:pt x="493" y="3"/>
                    </a:lnTo>
                    <a:lnTo>
                      <a:pt x="491" y="5"/>
                    </a:lnTo>
                    <a:lnTo>
                      <a:pt x="490" y="8"/>
                    </a:lnTo>
                    <a:lnTo>
                      <a:pt x="487" y="11"/>
                    </a:lnTo>
                    <a:lnTo>
                      <a:pt x="485" y="15"/>
                    </a:lnTo>
                    <a:lnTo>
                      <a:pt x="482" y="18"/>
                    </a:lnTo>
                    <a:lnTo>
                      <a:pt x="479" y="22"/>
                    </a:lnTo>
                    <a:lnTo>
                      <a:pt x="475" y="25"/>
                    </a:lnTo>
                    <a:lnTo>
                      <a:pt x="472" y="31"/>
                    </a:lnTo>
                    <a:lnTo>
                      <a:pt x="467" y="36"/>
                    </a:lnTo>
                    <a:lnTo>
                      <a:pt x="463" y="42"/>
                    </a:lnTo>
                    <a:lnTo>
                      <a:pt x="457" y="48"/>
                    </a:lnTo>
                    <a:lnTo>
                      <a:pt x="453" y="55"/>
                    </a:lnTo>
                    <a:lnTo>
                      <a:pt x="450" y="58"/>
                    </a:lnTo>
                    <a:lnTo>
                      <a:pt x="447" y="61"/>
                    </a:lnTo>
                    <a:lnTo>
                      <a:pt x="444" y="64"/>
                    </a:lnTo>
                    <a:lnTo>
                      <a:pt x="441" y="68"/>
                    </a:lnTo>
                    <a:lnTo>
                      <a:pt x="438" y="71"/>
                    </a:lnTo>
                    <a:lnTo>
                      <a:pt x="435" y="74"/>
                    </a:lnTo>
                    <a:lnTo>
                      <a:pt x="432" y="79"/>
                    </a:lnTo>
                    <a:lnTo>
                      <a:pt x="429" y="83"/>
                    </a:lnTo>
                    <a:lnTo>
                      <a:pt x="424" y="86"/>
                    </a:lnTo>
                    <a:lnTo>
                      <a:pt x="421" y="91"/>
                    </a:lnTo>
                    <a:lnTo>
                      <a:pt x="417" y="95"/>
                    </a:lnTo>
                    <a:lnTo>
                      <a:pt x="414" y="98"/>
                    </a:lnTo>
                    <a:lnTo>
                      <a:pt x="410" y="103"/>
                    </a:lnTo>
                    <a:lnTo>
                      <a:pt x="407" y="107"/>
                    </a:lnTo>
                    <a:lnTo>
                      <a:pt x="402" y="111"/>
                    </a:lnTo>
                    <a:lnTo>
                      <a:pt x="399" y="116"/>
                    </a:lnTo>
                    <a:lnTo>
                      <a:pt x="393" y="120"/>
                    </a:lnTo>
                    <a:lnTo>
                      <a:pt x="390" y="125"/>
                    </a:lnTo>
                    <a:lnTo>
                      <a:pt x="384" y="129"/>
                    </a:lnTo>
                    <a:lnTo>
                      <a:pt x="381" y="134"/>
                    </a:lnTo>
                    <a:lnTo>
                      <a:pt x="377" y="138"/>
                    </a:lnTo>
                    <a:lnTo>
                      <a:pt x="372" y="144"/>
                    </a:lnTo>
                    <a:lnTo>
                      <a:pt x="368" y="147"/>
                    </a:lnTo>
                    <a:lnTo>
                      <a:pt x="364" y="153"/>
                    </a:lnTo>
                    <a:lnTo>
                      <a:pt x="358" y="157"/>
                    </a:lnTo>
                    <a:lnTo>
                      <a:pt x="353" y="162"/>
                    </a:lnTo>
                    <a:lnTo>
                      <a:pt x="347" y="168"/>
                    </a:lnTo>
                    <a:lnTo>
                      <a:pt x="343" y="174"/>
                    </a:lnTo>
                    <a:lnTo>
                      <a:pt x="337" y="178"/>
                    </a:lnTo>
                    <a:lnTo>
                      <a:pt x="332" y="184"/>
                    </a:lnTo>
                    <a:lnTo>
                      <a:pt x="328" y="189"/>
                    </a:lnTo>
                    <a:lnTo>
                      <a:pt x="322" y="195"/>
                    </a:lnTo>
                    <a:lnTo>
                      <a:pt x="316" y="200"/>
                    </a:lnTo>
                    <a:lnTo>
                      <a:pt x="310" y="205"/>
                    </a:lnTo>
                    <a:lnTo>
                      <a:pt x="304" y="211"/>
                    </a:lnTo>
                    <a:lnTo>
                      <a:pt x="298" y="217"/>
                    </a:lnTo>
                    <a:lnTo>
                      <a:pt x="292" y="223"/>
                    </a:lnTo>
                    <a:lnTo>
                      <a:pt x="286" y="227"/>
                    </a:lnTo>
                    <a:lnTo>
                      <a:pt x="280" y="233"/>
                    </a:lnTo>
                    <a:lnTo>
                      <a:pt x="276" y="239"/>
                    </a:lnTo>
                    <a:lnTo>
                      <a:pt x="269" y="245"/>
                    </a:lnTo>
                    <a:lnTo>
                      <a:pt x="263" y="249"/>
                    </a:lnTo>
                    <a:lnTo>
                      <a:pt x="257" y="255"/>
                    </a:lnTo>
                    <a:lnTo>
                      <a:pt x="251" y="261"/>
                    </a:lnTo>
                    <a:lnTo>
                      <a:pt x="243" y="267"/>
                    </a:lnTo>
                    <a:lnTo>
                      <a:pt x="239" y="273"/>
                    </a:lnTo>
                    <a:lnTo>
                      <a:pt x="232" y="279"/>
                    </a:lnTo>
                    <a:lnTo>
                      <a:pt x="226" y="285"/>
                    </a:lnTo>
                    <a:lnTo>
                      <a:pt x="220" y="289"/>
                    </a:lnTo>
                    <a:lnTo>
                      <a:pt x="212" y="295"/>
                    </a:lnTo>
                    <a:lnTo>
                      <a:pt x="206" y="301"/>
                    </a:lnTo>
                    <a:lnTo>
                      <a:pt x="200" y="306"/>
                    </a:lnTo>
                    <a:lnTo>
                      <a:pt x="194" y="312"/>
                    </a:lnTo>
                    <a:lnTo>
                      <a:pt x="188" y="318"/>
                    </a:lnTo>
                    <a:lnTo>
                      <a:pt x="183" y="324"/>
                    </a:lnTo>
                    <a:lnTo>
                      <a:pt x="177" y="328"/>
                    </a:lnTo>
                    <a:lnTo>
                      <a:pt x="171" y="334"/>
                    </a:lnTo>
                    <a:lnTo>
                      <a:pt x="163" y="340"/>
                    </a:lnTo>
                    <a:lnTo>
                      <a:pt x="157" y="344"/>
                    </a:lnTo>
                    <a:lnTo>
                      <a:pt x="153" y="350"/>
                    </a:lnTo>
                    <a:lnTo>
                      <a:pt x="147" y="355"/>
                    </a:lnTo>
                    <a:lnTo>
                      <a:pt x="141" y="359"/>
                    </a:lnTo>
                    <a:lnTo>
                      <a:pt x="135" y="365"/>
                    </a:lnTo>
                    <a:lnTo>
                      <a:pt x="131" y="370"/>
                    </a:lnTo>
                    <a:lnTo>
                      <a:pt x="125" y="374"/>
                    </a:lnTo>
                    <a:lnTo>
                      <a:pt x="119" y="379"/>
                    </a:lnTo>
                    <a:lnTo>
                      <a:pt x="113" y="383"/>
                    </a:lnTo>
                    <a:lnTo>
                      <a:pt x="108" y="389"/>
                    </a:lnTo>
                    <a:lnTo>
                      <a:pt x="102" y="392"/>
                    </a:lnTo>
                    <a:lnTo>
                      <a:pt x="98" y="396"/>
                    </a:lnTo>
                    <a:lnTo>
                      <a:pt x="94" y="401"/>
                    </a:lnTo>
                    <a:lnTo>
                      <a:pt x="89" y="405"/>
                    </a:lnTo>
                    <a:lnTo>
                      <a:pt x="83" y="410"/>
                    </a:lnTo>
                    <a:lnTo>
                      <a:pt x="79" y="413"/>
                    </a:lnTo>
                    <a:lnTo>
                      <a:pt x="74" y="417"/>
                    </a:lnTo>
                    <a:lnTo>
                      <a:pt x="70" y="420"/>
                    </a:lnTo>
                    <a:lnTo>
                      <a:pt x="67" y="423"/>
                    </a:lnTo>
                    <a:lnTo>
                      <a:pt x="62" y="426"/>
                    </a:lnTo>
                    <a:lnTo>
                      <a:pt x="59" y="429"/>
                    </a:lnTo>
                    <a:lnTo>
                      <a:pt x="55" y="433"/>
                    </a:lnTo>
                    <a:lnTo>
                      <a:pt x="52" y="436"/>
                    </a:lnTo>
                    <a:lnTo>
                      <a:pt x="48" y="438"/>
                    </a:lnTo>
                    <a:lnTo>
                      <a:pt x="45" y="441"/>
                    </a:lnTo>
                    <a:lnTo>
                      <a:pt x="43" y="444"/>
                    </a:lnTo>
                    <a:lnTo>
                      <a:pt x="37" y="448"/>
                    </a:lnTo>
                    <a:lnTo>
                      <a:pt x="33" y="453"/>
                    </a:lnTo>
                    <a:lnTo>
                      <a:pt x="30" y="454"/>
                    </a:lnTo>
                    <a:lnTo>
                      <a:pt x="28" y="457"/>
                    </a:lnTo>
                    <a:lnTo>
                      <a:pt x="25" y="459"/>
                    </a:lnTo>
                    <a:lnTo>
                      <a:pt x="25" y="459"/>
                    </a:lnTo>
                    <a:lnTo>
                      <a:pt x="0" y="580"/>
                    </a:lnTo>
                    <a:lnTo>
                      <a:pt x="2" y="580"/>
                    </a:lnTo>
                    <a:lnTo>
                      <a:pt x="3" y="577"/>
                    </a:lnTo>
                    <a:lnTo>
                      <a:pt x="7" y="574"/>
                    </a:lnTo>
                    <a:lnTo>
                      <a:pt x="10" y="570"/>
                    </a:lnTo>
                    <a:lnTo>
                      <a:pt x="16" y="565"/>
                    </a:lnTo>
                    <a:lnTo>
                      <a:pt x="18" y="563"/>
                    </a:lnTo>
                    <a:lnTo>
                      <a:pt x="22" y="560"/>
                    </a:lnTo>
                    <a:lnTo>
                      <a:pt x="25" y="557"/>
                    </a:lnTo>
                    <a:lnTo>
                      <a:pt x="30" y="554"/>
                    </a:lnTo>
                    <a:lnTo>
                      <a:pt x="33" y="551"/>
                    </a:lnTo>
                    <a:lnTo>
                      <a:pt x="36" y="546"/>
                    </a:lnTo>
                    <a:lnTo>
                      <a:pt x="40" y="543"/>
                    </a:lnTo>
                    <a:lnTo>
                      <a:pt x="43" y="539"/>
                    </a:lnTo>
                    <a:lnTo>
                      <a:pt x="48" y="534"/>
                    </a:lnTo>
                    <a:lnTo>
                      <a:pt x="52" y="531"/>
                    </a:lnTo>
                    <a:lnTo>
                      <a:pt x="56" y="527"/>
                    </a:lnTo>
                    <a:lnTo>
                      <a:pt x="61" y="524"/>
                    </a:lnTo>
                    <a:lnTo>
                      <a:pt x="65" y="518"/>
                    </a:lnTo>
                    <a:lnTo>
                      <a:pt x="70" y="514"/>
                    </a:lnTo>
                    <a:lnTo>
                      <a:pt x="76" y="509"/>
                    </a:lnTo>
                    <a:lnTo>
                      <a:pt x="82" y="505"/>
                    </a:lnTo>
                    <a:lnTo>
                      <a:pt x="86" y="499"/>
                    </a:lnTo>
                    <a:lnTo>
                      <a:pt x="92" y="494"/>
                    </a:lnTo>
                    <a:lnTo>
                      <a:pt x="96" y="490"/>
                    </a:lnTo>
                    <a:lnTo>
                      <a:pt x="104" y="484"/>
                    </a:lnTo>
                    <a:lnTo>
                      <a:pt x="108" y="478"/>
                    </a:lnTo>
                    <a:lnTo>
                      <a:pt x="114" y="472"/>
                    </a:lnTo>
                    <a:lnTo>
                      <a:pt x="120" y="468"/>
                    </a:lnTo>
                    <a:lnTo>
                      <a:pt x="126" y="462"/>
                    </a:lnTo>
                    <a:lnTo>
                      <a:pt x="131" y="456"/>
                    </a:lnTo>
                    <a:lnTo>
                      <a:pt x="138" y="448"/>
                    </a:lnTo>
                    <a:lnTo>
                      <a:pt x="144" y="442"/>
                    </a:lnTo>
                    <a:lnTo>
                      <a:pt x="150" y="438"/>
                    </a:lnTo>
                    <a:lnTo>
                      <a:pt x="156" y="430"/>
                    </a:lnTo>
                    <a:lnTo>
                      <a:pt x="163" y="425"/>
                    </a:lnTo>
                    <a:lnTo>
                      <a:pt x="169" y="419"/>
                    </a:lnTo>
                    <a:lnTo>
                      <a:pt x="175" y="411"/>
                    </a:lnTo>
                    <a:lnTo>
                      <a:pt x="183" y="405"/>
                    </a:lnTo>
                    <a:lnTo>
                      <a:pt x="188" y="399"/>
                    </a:lnTo>
                    <a:lnTo>
                      <a:pt x="194" y="392"/>
                    </a:lnTo>
                    <a:lnTo>
                      <a:pt x="202" y="386"/>
                    </a:lnTo>
                    <a:lnTo>
                      <a:pt x="208" y="379"/>
                    </a:lnTo>
                    <a:lnTo>
                      <a:pt x="215" y="373"/>
                    </a:lnTo>
                    <a:lnTo>
                      <a:pt x="221" y="365"/>
                    </a:lnTo>
                    <a:lnTo>
                      <a:pt x="229" y="359"/>
                    </a:lnTo>
                    <a:lnTo>
                      <a:pt x="234" y="352"/>
                    </a:lnTo>
                    <a:lnTo>
                      <a:pt x="242" y="346"/>
                    </a:lnTo>
                    <a:lnTo>
                      <a:pt x="248" y="338"/>
                    </a:lnTo>
                    <a:lnTo>
                      <a:pt x="254" y="333"/>
                    </a:lnTo>
                    <a:lnTo>
                      <a:pt x="261" y="325"/>
                    </a:lnTo>
                    <a:lnTo>
                      <a:pt x="267" y="319"/>
                    </a:lnTo>
                    <a:lnTo>
                      <a:pt x="273" y="312"/>
                    </a:lnTo>
                    <a:lnTo>
                      <a:pt x="280" y="306"/>
                    </a:lnTo>
                    <a:lnTo>
                      <a:pt x="286" y="298"/>
                    </a:lnTo>
                    <a:lnTo>
                      <a:pt x="294" y="292"/>
                    </a:lnTo>
                    <a:lnTo>
                      <a:pt x="300" y="285"/>
                    </a:lnTo>
                    <a:lnTo>
                      <a:pt x="306" y="279"/>
                    </a:lnTo>
                    <a:lnTo>
                      <a:pt x="312" y="272"/>
                    </a:lnTo>
                    <a:lnTo>
                      <a:pt x="318" y="264"/>
                    </a:lnTo>
                    <a:lnTo>
                      <a:pt x="325" y="258"/>
                    </a:lnTo>
                    <a:lnTo>
                      <a:pt x="331" y="251"/>
                    </a:lnTo>
                    <a:lnTo>
                      <a:pt x="335" y="245"/>
                    </a:lnTo>
                    <a:lnTo>
                      <a:pt x="343" y="238"/>
                    </a:lnTo>
                    <a:lnTo>
                      <a:pt x="347" y="232"/>
                    </a:lnTo>
                    <a:lnTo>
                      <a:pt x="355" y="226"/>
                    </a:lnTo>
                    <a:lnTo>
                      <a:pt x="359" y="218"/>
                    </a:lnTo>
                    <a:lnTo>
                      <a:pt x="365" y="212"/>
                    </a:lnTo>
                    <a:lnTo>
                      <a:pt x="371" y="205"/>
                    </a:lnTo>
                    <a:lnTo>
                      <a:pt x="377" y="199"/>
                    </a:lnTo>
                    <a:lnTo>
                      <a:pt x="381" y="193"/>
                    </a:lnTo>
                    <a:lnTo>
                      <a:pt x="387" y="187"/>
                    </a:lnTo>
                    <a:lnTo>
                      <a:pt x="392" y="181"/>
                    </a:lnTo>
                    <a:lnTo>
                      <a:pt x="398" y="175"/>
                    </a:lnTo>
                    <a:lnTo>
                      <a:pt x="402" y="169"/>
                    </a:lnTo>
                    <a:lnTo>
                      <a:pt x="407" y="162"/>
                    </a:lnTo>
                    <a:lnTo>
                      <a:pt x="413" y="156"/>
                    </a:lnTo>
                    <a:lnTo>
                      <a:pt x="417" y="151"/>
                    </a:lnTo>
                    <a:lnTo>
                      <a:pt x="421" y="146"/>
                    </a:lnTo>
                    <a:lnTo>
                      <a:pt x="426" y="140"/>
                    </a:lnTo>
                    <a:lnTo>
                      <a:pt x="432" y="134"/>
                    </a:lnTo>
                    <a:lnTo>
                      <a:pt x="436" y="129"/>
                    </a:lnTo>
                    <a:lnTo>
                      <a:pt x="441" y="123"/>
                    </a:lnTo>
                    <a:lnTo>
                      <a:pt x="444" y="117"/>
                    </a:lnTo>
                    <a:lnTo>
                      <a:pt x="448" y="113"/>
                    </a:lnTo>
                    <a:lnTo>
                      <a:pt x="453" y="108"/>
                    </a:lnTo>
                    <a:lnTo>
                      <a:pt x="457" y="103"/>
                    </a:lnTo>
                    <a:lnTo>
                      <a:pt x="461" y="98"/>
                    </a:lnTo>
                    <a:lnTo>
                      <a:pt x="466" y="94"/>
                    </a:lnTo>
                    <a:lnTo>
                      <a:pt x="470" y="89"/>
                    </a:lnTo>
                    <a:lnTo>
                      <a:pt x="473" y="83"/>
                    </a:lnTo>
                    <a:lnTo>
                      <a:pt x="476" y="80"/>
                    </a:lnTo>
                    <a:lnTo>
                      <a:pt x="479" y="74"/>
                    </a:lnTo>
                    <a:lnTo>
                      <a:pt x="484" y="71"/>
                    </a:lnTo>
                    <a:lnTo>
                      <a:pt x="487" y="65"/>
                    </a:lnTo>
                    <a:lnTo>
                      <a:pt x="490" y="62"/>
                    </a:lnTo>
                    <a:lnTo>
                      <a:pt x="493" y="58"/>
                    </a:lnTo>
                    <a:lnTo>
                      <a:pt x="497" y="55"/>
                    </a:lnTo>
                    <a:lnTo>
                      <a:pt x="499" y="51"/>
                    </a:lnTo>
                    <a:lnTo>
                      <a:pt x="502" y="48"/>
                    </a:lnTo>
                    <a:lnTo>
                      <a:pt x="505" y="43"/>
                    </a:lnTo>
                    <a:lnTo>
                      <a:pt x="507" y="40"/>
                    </a:lnTo>
                    <a:lnTo>
                      <a:pt x="512" y="34"/>
                    </a:lnTo>
                    <a:lnTo>
                      <a:pt x="516" y="30"/>
                    </a:lnTo>
                    <a:lnTo>
                      <a:pt x="519" y="24"/>
                    </a:lnTo>
                    <a:lnTo>
                      <a:pt x="522" y="19"/>
                    </a:lnTo>
                    <a:lnTo>
                      <a:pt x="527" y="15"/>
                    </a:lnTo>
                    <a:lnTo>
                      <a:pt x="528" y="12"/>
                    </a:lnTo>
                    <a:lnTo>
                      <a:pt x="531" y="9"/>
                    </a:lnTo>
                    <a:lnTo>
                      <a:pt x="534" y="8"/>
                    </a:lnTo>
                    <a:lnTo>
                      <a:pt x="497" y="0"/>
                    </a:lnTo>
                    <a:lnTo>
                      <a:pt x="49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2960640" y="2384280"/>
                <a:ext cx="303120" cy="311400"/>
              </a:xfrm>
              <a:custGeom>
                <a:avLst/>
                <a:gdLst/>
                <a:ahLst/>
                <a:rect l="l" t="t" r="r" b="b"/>
                <a:pathLst>
                  <a:path w="383" h="392">
                    <a:moveTo>
                      <a:pt x="383" y="0"/>
                    </a:moveTo>
                    <a:lnTo>
                      <a:pt x="381" y="0"/>
                    </a:lnTo>
                    <a:lnTo>
                      <a:pt x="380" y="2"/>
                    </a:lnTo>
                    <a:lnTo>
                      <a:pt x="375" y="3"/>
                    </a:lnTo>
                    <a:lnTo>
                      <a:pt x="372" y="8"/>
                    </a:lnTo>
                    <a:lnTo>
                      <a:pt x="369" y="9"/>
                    </a:lnTo>
                    <a:lnTo>
                      <a:pt x="367" y="12"/>
                    </a:lnTo>
                    <a:lnTo>
                      <a:pt x="364" y="15"/>
                    </a:lnTo>
                    <a:lnTo>
                      <a:pt x="361" y="18"/>
                    </a:lnTo>
                    <a:lnTo>
                      <a:pt x="356" y="21"/>
                    </a:lnTo>
                    <a:lnTo>
                      <a:pt x="353" y="26"/>
                    </a:lnTo>
                    <a:lnTo>
                      <a:pt x="349" y="29"/>
                    </a:lnTo>
                    <a:lnTo>
                      <a:pt x="344" y="33"/>
                    </a:lnTo>
                    <a:lnTo>
                      <a:pt x="338" y="37"/>
                    </a:lnTo>
                    <a:lnTo>
                      <a:pt x="334" y="42"/>
                    </a:lnTo>
                    <a:lnTo>
                      <a:pt x="328" y="46"/>
                    </a:lnTo>
                    <a:lnTo>
                      <a:pt x="322" y="51"/>
                    </a:lnTo>
                    <a:lnTo>
                      <a:pt x="316" y="55"/>
                    </a:lnTo>
                    <a:lnTo>
                      <a:pt x="310" y="61"/>
                    </a:lnTo>
                    <a:lnTo>
                      <a:pt x="303" y="66"/>
                    </a:lnTo>
                    <a:lnTo>
                      <a:pt x="297" y="73"/>
                    </a:lnTo>
                    <a:lnTo>
                      <a:pt x="294" y="75"/>
                    </a:lnTo>
                    <a:lnTo>
                      <a:pt x="289" y="78"/>
                    </a:lnTo>
                    <a:lnTo>
                      <a:pt x="286" y="81"/>
                    </a:lnTo>
                    <a:lnTo>
                      <a:pt x="282" y="83"/>
                    </a:lnTo>
                    <a:lnTo>
                      <a:pt x="277" y="86"/>
                    </a:lnTo>
                    <a:lnTo>
                      <a:pt x="275" y="89"/>
                    </a:lnTo>
                    <a:lnTo>
                      <a:pt x="270" y="92"/>
                    </a:lnTo>
                    <a:lnTo>
                      <a:pt x="267" y="97"/>
                    </a:lnTo>
                    <a:lnTo>
                      <a:pt x="263" y="100"/>
                    </a:lnTo>
                    <a:lnTo>
                      <a:pt x="258" y="103"/>
                    </a:lnTo>
                    <a:lnTo>
                      <a:pt x="254" y="106"/>
                    </a:lnTo>
                    <a:lnTo>
                      <a:pt x="249" y="110"/>
                    </a:lnTo>
                    <a:lnTo>
                      <a:pt x="245" y="113"/>
                    </a:lnTo>
                    <a:lnTo>
                      <a:pt x="240" y="118"/>
                    </a:lnTo>
                    <a:lnTo>
                      <a:pt x="236" y="121"/>
                    </a:lnTo>
                    <a:lnTo>
                      <a:pt x="231" y="125"/>
                    </a:lnTo>
                    <a:lnTo>
                      <a:pt x="227" y="128"/>
                    </a:lnTo>
                    <a:lnTo>
                      <a:pt x="221" y="131"/>
                    </a:lnTo>
                    <a:lnTo>
                      <a:pt x="217" y="135"/>
                    </a:lnTo>
                    <a:lnTo>
                      <a:pt x="212" y="138"/>
                    </a:lnTo>
                    <a:lnTo>
                      <a:pt x="206" y="143"/>
                    </a:lnTo>
                    <a:lnTo>
                      <a:pt x="202" y="146"/>
                    </a:lnTo>
                    <a:lnTo>
                      <a:pt x="197" y="150"/>
                    </a:lnTo>
                    <a:lnTo>
                      <a:pt x="191" y="155"/>
                    </a:lnTo>
                    <a:lnTo>
                      <a:pt x="185" y="158"/>
                    </a:lnTo>
                    <a:lnTo>
                      <a:pt x="181" y="162"/>
                    </a:lnTo>
                    <a:lnTo>
                      <a:pt x="175" y="167"/>
                    </a:lnTo>
                    <a:lnTo>
                      <a:pt x="171" y="171"/>
                    </a:lnTo>
                    <a:lnTo>
                      <a:pt x="165" y="174"/>
                    </a:lnTo>
                    <a:lnTo>
                      <a:pt x="160" y="178"/>
                    </a:lnTo>
                    <a:lnTo>
                      <a:pt x="156" y="181"/>
                    </a:lnTo>
                    <a:lnTo>
                      <a:pt x="150" y="186"/>
                    </a:lnTo>
                    <a:lnTo>
                      <a:pt x="144" y="190"/>
                    </a:lnTo>
                    <a:lnTo>
                      <a:pt x="139" y="193"/>
                    </a:lnTo>
                    <a:lnTo>
                      <a:pt x="134" y="198"/>
                    </a:lnTo>
                    <a:lnTo>
                      <a:pt x="129" y="202"/>
                    </a:lnTo>
                    <a:lnTo>
                      <a:pt x="123" y="205"/>
                    </a:lnTo>
                    <a:lnTo>
                      <a:pt x="119" y="210"/>
                    </a:lnTo>
                    <a:lnTo>
                      <a:pt x="114" y="213"/>
                    </a:lnTo>
                    <a:lnTo>
                      <a:pt x="110" y="217"/>
                    </a:lnTo>
                    <a:lnTo>
                      <a:pt x="104" y="220"/>
                    </a:lnTo>
                    <a:lnTo>
                      <a:pt x="99" y="224"/>
                    </a:lnTo>
                    <a:lnTo>
                      <a:pt x="93" y="227"/>
                    </a:lnTo>
                    <a:lnTo>
                      <a:pt x="89" y="232"/>
                    </a:lnTo>
                    <a:lnTo>
                      <a:pt x="85" y="235"/>
                    </a:lnTo>
                    <a:lnTo>
                      <a:pt x="80" y="239"/>
                    </a:lnTo>
                    <a:lnTo>
                      <a:pt x="74" y="242"/>
                    </a:lnTo>
                    <a:lnTo>
                      <a:pt x="71" y="247"/>
                    </a:lnTo>
                    <a:lnTo>
                      <a:pt x="67" y="250"/>
                    </a:lnTo>
                    <a:lnTo>
                      <a:pt x="62" y="253"/>
                    </a:lnTo>
                    <a:lnTo>
                      <a:pt x="56" y="256"/>
                    </a:lnTo>
                    <a:lnTo>
                      <a:pt x="52" y="259"/>
                    </a:lnTo>
                    <a:lnTo>
                      <a:pt x="47" y="262"/>
                    </a:lnTo>
                    <a:lnTo>
                      <a:pt x="45" y="265"/>
                    </a:lnTo>
                    <a:lnTo>
                      <a:pt x="40" y="267"/>
                    </a:lnTo>
                    <a:lnTo>
                      <a:pt x="37" y="272"/>
                    </a:lnTo>
                    <a:lnTo>
                      <a:pt x="33" y="273"/>
                    </a:lnTo>
                    <a:lnTo>
                      <a:pt x="30" y="276"/>
                    </a:lnTo>
                    <a:lnTo>
                      <a:pt x="25" y="279"/>
                    </a:lnTo>
                    <a:lnTo>
                      <a:pt x="22" y="282"/>
                    </a:lnTo>
                    <a:lnTo>
                      <a:pt x="18" y="284"/>
                    </a:lnTo>
                    <a:lnTo>
                      <a:pt x="15" y="287"/>
                    </a:lnTo>
                    <a:lnTo>
                      <a:pt x="12" y="290"/>
                    </a:lnTo>
                    <a:lnTo>
                      <a:pt x="10" y="291"/>
                    </a:lnTo>
                    <a:lnTo>
                      <a:pt x="4" y="296"/>
                    </a:lnTo>
                    <a:lnTo>
                      <a:pt x="0" y="299"/>
                    </a:lnTo>
                    <a:lnTo>
                      <a:pt x="0" y="302"/>
                    </a:lnTo>
                    <a:lnTo>
                      <a:pt x="0" y="305"/>
                    </a:lnTo>
                    <a:lnTo>
                      <a:pt x="0" y="308"/>
                    </a:lnTo>
                    <a:lnTo>
                      <a:pt x="0" y="309"/>
                    </a:lnTo>
                    <a:lnTo>
                      <a:pt x="0" y="392"/>
                    </a:lnTo>
                    <a:lnTo>
                      <a:pt x="0" y="391"/>
                    </a:lnTo>
                    <a:lnTo>
                      <a:pt x="0" y="389"/>
                    </a:lnTo>
                    <a:lnTo>
                      <a:pt x="0" y="388"/>
                    </a:lnTo>
                    <a:lnTo>
                      <a:pt x="0" y="385"/>
                    </a:lnTo>
                    <a:lnTo>
                      <a:pt x="3" y="383"/>
                    </a:lnTo>
                    <a:lnTo>
                      <a:pt x="6" y="382"/>
                    </a:lnTo>
                    <a:lnTo>
                      <a:pt x="9" y="379"/>
                    </a:lnTo>
                    <a:lnTo>
                      <a:pt x="13" y="376"/>
                    </a:lnTo>
                    <a:lnTo>
                      <a:pt x="18" y="373"/>
                    </a:lnTo>
                    <a:lnTo>
                      <a:pt x="22" y="370"/>
                    </a:lnTo>
                    <a:lnTo>
                      <a:pt x="27" y="365"/>
                    </a:lnTo>
                    <a:lnTo>
                      <a:pt x="33" y="361"/>
                    </a:lnTo>
                    <a:lnTo>
                      <a:pt x="39" y="357"/>
                    </a:lnTo>
                    <a:lnTo>
                      <a:pt x="45" y="354"/>
                    </a:lnTo>
                    <a:lnTo>
                      <a:pt x="50" y="348"/>
                    </a:lnTo>
                    <a:lnTo>
                      <a:pt x="56" y="343"/>
                    </a:lnTo>
                    <a:lnTo>
                      <a:pt x="59" y="340"/>
                    </a:lnTo>
                    <a:lnTo>
                      <a:pt x="62" y="337"/>
                    </a:lnTo>
                    <a:lnTo>
                      <a:pt x="67" y="334"/>
                    </a:lnTo>
                    <a:lnTo>
                      <a:pt x="70" y="333"/>
                    </a:lnTo>
                    <a:lnTo>
                      <a:pt x="73" y="328"/>
                    </a:lnTo>
                    <a:lnTo>
                      <a:pt x="77" y="325"/>
                    </a:lnTo>
                    <a:lnTo>
                      <a:pt x="80" y="322"/>
                    </a:lnTo>
                    <a:lnTo>
                      <a:pt x="85" y="321"/>
                    </a:lnTo>
                    <a:lnTo>
                      <a:pt x="88" y="316"/>
                    </a:lnTo>
                    <a:lnTo>
                      <a:pt x="92" y="313"/>
                    </a:lnTo>
                    <a:lnTo>
                      <a:pt x="95" y="311"/>
                    </a:lnTo>
                    <a:lnTo>
                      <a:pt x="99" y="309"/>
                    </a:lnTo>
                    <a:lnTo>
                      <a:pt x="104" y="305"/>
                    </a:lnTo>
                    <a:lnTo>
                      <a:pt x="107" y="302"/>
                    </a:lnTo>
                    <a:lnTo>
                      <a:pt x="111" y="299"/>
                    </a:lnTo>
                    <a:lnTo>
                      <a:pt x="114" y="294"/>
                    </a:lnTo>
                    <a:lnTo>
                      <a:pt x="119" y="291"/>
                    </a:lnTo>
                    <a:lnTo>
                      <a:pt x="123" y="287"/>
                    </a:lnTo>
                    <a:lnTo>
                      <a:pt x="128" y="284"/>
                    </a:lnTo>
                    <a:lnTo>
                      <a:pt x="132" y="281"/>
                    </a:lnTo>
                    <a:lnTo>
                      <a:pt x="135" y="276"/>
                    </a:lnTo>
                    <a:lnTo>
                      <a:pt x="139" y="273"/>
                    </a:lnTo>
                    <a:lnTo>
                      <a:pt x="144" y="269"/>
                    </a:lnTo>
                    <a:lnTo>
                      <a:pt x="148" y="266"/>
                    </a:lnTo>
                    <a:lnTo>
                      <a:pt x="151" y="262"/>
                    </a:lnTo>
                    <a:lnTo>
                      <a:pt x="156" y="259"/>
                    </a:lnTo>
                    <a:lnTo>
                      <a:pt x="160" y="254"/>
                    </a:lnTo>
                    <a:lnTo>
                      <a:pt x="166" y="251"/>
                    </a:lnTo>
                    <a:lnTo>
                      <a:pt x="169" y="247"/>
                    </a:lnTo>
                    <a:lnTo>
                      <a:pt x="174" y="242"/>
                    </a:lnTo>
                    <a:lnTo>
                      <a:pt x="178" y="238"/>
                    </a:lnTo>
                    <a:lnTo>
                      <a:pt x="183" y="235"/>
                    </a:lnTo>
                    <a:lnTo>
                      <a:pt x="187" y="230"/>
                    </a:lnTo>
                    <a:lnTo>
                      <a:pt x="191" y="226"/>
                    </a:lnTo>
                    <a:lnTo>
                      <a:pt x="196" y="221"/>
                    </a:lnTo>
                    <a:lnTo>
                      <a:pt x="200" y="219"/>
                    </a:lnTo>
                    <a:lnTo>
                      <a:pt x="205" y="213"/>
                    </a:lnTo>
                    <a:lnTo>
                      <a:pt x="209" y="210"/>
                    </a:lnTo>
                    <a:lnTo>
                      <a:pt x="212" y="205"/>
                    </a:lnTo>
                    <a:lnTo>
                      <a:pt x="218" y="201"/>
                    </a:lnTo>
                    <a:lnTo>
                      <a:pt x="223" y="196"/>
                    </a:lnTo>
                    <a:lnTo>
                      <a:pt x="227" y="192"/>
                    </a:lnTo>
                    <a:lnTo>
                      <a:pt x="230" y="187"/>
                    </a:lnTo>
                    <a:lnTo>
                      <a:pt x="236" y="184"/>
                    </a:lnTo>
                    <a:lnTo>
                      <a:pt x="239" y="180"/>
                    </a:lnTo>
                    <a:lnTo>
                      <a:pt x="243" y="175"/>
                    </a:lnTo>
                    <a:lnTo>
                      <a:pt x="248" y="171"/>
                    </a:lnTo>
                    <a:lnTo>
                      <a:pt x="252" y="167"/>
                    </a:lnTo>
                    <a:lnTo>
                      <a:pt x="255" y="164"/>
                    </a:lnTo>
                    <a:lnTo>
                      <a:pt x="260" y="159"/>
                    </a:lnTo>
                    <a:lnTo>
                      <a:pt x="264" y="155"/>
                    </a:lnTo>
                    <a:lnTo>
                      <a:pt x="269" y="152"/>
                    </a:lnTo>
                    <a:lnTo>
                      <a:pt x="272" y="147"/>
                    </a:lnTo>
                    <a:lnTo>
                      <a:pt x="276" y="143"/>
                    </a:lnTo>
                    <a:lnTo>
                      <a:pt x="279" y="138"/>
                    </a:lnTo>
                    <a:lnTo>
                      <a:pt x="283" y="135"/>
                    </a:lnTo>
                    <a:lnTo>
                      <a:pt x="288" y="131"/>
                    </a:lnTo>
                    <a:lnTo>
                      <a:pt x="291" y="128"/>
                    </a:lnTo>
                    <a:lnTo>
                      <a:pt x="295" y="124"/>
                    </a:lnTo>
                    <a:lnTo>
                      <a:pt x="300" y="121"/>
                    </a:lnTo>
                    <a:lnTo>
                      <a:pt x="303" y="118"/>
                    </a:lnTo>
                    <a:lnTo>
                      <a:pt x="306" y="113"/>
                    </a:lnTo>
                    <a:lnTo>
                      <a:pt x="309" y="110"/>
                    </a:lnTo>
                    <a:lnTo>
                      <a:pt x="312" y="107"/>
                    </a:lnTo>
                    <a:lnTo>
                      <a:pt x="319" y="100"/>
                    </a:lnTo>
                    <a:lnTo>
                      <a:pt x="325" y="94"/>
                    </a:lnTo>
                    <a:lnTo>
                      <a:pt x="331" y="88"/>
                    </a:lnTo>
                    <a:lnTo>
                      <a:pt x="335" y="82"/>
                    </a:lnTo>
                    <a:lnTo>
                      <a:pt x="340" y="76"/>
                    </a:lnTo>
                    <a:lnTo>
                      <a:pt x="346" y="73"/>
                    </a:lnTo>
                    <a:lnTo>
                      <a:pt x="349" y="69"/>
                    </a:lnTo>
                    <a:lnTo>
                      <a:pt x="353" y="66"/>
                    </a:lnTo>
                    <a:lnTo>
                      <a:pt x="356" y="61"/>
                    </a:lnTo>
                    <a:lnTo>
                      <a:pt x="359" y="58"/>
                    </a:lnTo>
                    <a:lnTo>
                      <a:pt x="362" y="55"/>
                    </a:lnTo>
                    <a:lnTo>
                      <a:pt x="364" y="54"/>
                    </a:lnTo>
                    <a:lnTo>
                      <a:pt x="383" y="0"/>
                    </a:lnTo>
                    <a:lnTo>
                      <a:pt x="383"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
            <p:cNvGrpSpPr/>
            <p:nvPr/>
          </p:nvGrpSpPr>
          <p:grpSpPr>
            <a:xfrm>
              <a:off x="2643120" y="1644480"/>
              <a:ext cx="826920" cy="560520"/>
              <a:chOff x="2643120" y="1644480"/>
              <a:chExt cx="826920" cy="560520"/>
            </a:xfrm>
          </p:grpSpPr>
          <p:sp>
            <p:nvSpPr>
              <p:cNvPr id="1313" name=""/>
              <p:cNvSpPr/>
              <p:nvPr/>
            </p:nvSpPr>
            <p:spPr>
              <a:xfrm>
                <a:off x="2697840" y="1732320"/>
                <a:ext cx="729000" cy="472680"/>
              </a:xfrm>
              <a:custGeom>
                <a:avLst/>
                <a:gdLst/>
                <a:ahLst/>
                <a:rect l="l" t="t" r="r" b="b"/>
                <a:pathLst>
                  <a:path w="797" h="516">
                    <a:moveTo>
                      <a:pt x="398" y="0"/>
                    </a:moveTo>
                    <a:lnTo>
                      <a:pt x="358" y="2"/>
                    </a:lnTo>
                    <a:lnTo>
                      <a:pt x="318" y="6"/>
                    </a:lnTo>
                    <a:lnTo>
                      <a:pt x="280" y="12"/>
                    </a:lnTo>
                    <a:lnTo>
                      <a:pt x="244" y="20"/>
                    </a:lnTo>
                    <a:lnTo>
                      <a:pt x="209" y="31"/>
                    </a:lnTo>
                    <a:lnTo>
                      <a:pt x="176" y="45"/>
                    </a:lnTo>
                    <a:lnTo>
                      <a:pt x="146" y="59"/>
                    </a:lnTo>
                    <a:lnTo>
                      <a:pt x="117" y="75"/>
                    </a:lnTo>
                    <a:lnTo>
                      <a:pt x="91" y="94"/>
                    </a:lnTo>
                    <a:lnTo>
                      <a:pt x="69" y="114"/>
                    </a:lnTo>
                    <a:lnTo>
                      <a:pt x="49" y="134"/>
                    </a:lnTo>
                    <a:lnTo>
                      <a:pt x="31" y="157"/>
                    </a:lnTo>
                    <a:lnTo>
                      <a:pt x="18" y="181"/>
                    </a:lnTo>
                    <a:lnTo>
                      <a:pt x="8" y="205"/>
                    </a:lnTo>
                    <a:lnTo>
                      <a:pt x="3" y="231"/>
                    </a:lnTo>
                    <a:lnTo>
                      <a:pt x="0" y="258"/>
                    </a:lnTo>
                    <a:lnTo>
                      <a:pt x="3" y="284"/>
                    </a:lnTo>
                    <a:lnTo>
                      <a:pt x="8" y="310"/>
                    </a:lnTo>
                    <a:lnTo>
                      <a:pt x="18" y="334"/>
                    </a:lnTo>
                    <a:lnTo>
                      <a:pt x="31" y="358"/>
                    </a:lnTo>
                    <a:lnTo>
                      <a:pt x="49" y="381"/>
                    </a:lnTo>
                    <a:lnTo>
                      <a:pt x="69" y="402"/>
                    </a:lnTo>
                    <a:lnTo>
                      <a:pt x="91" y="422"/>
                    </a:lnTo>
                    <a:lnTo>
                      <a:pt x="117" y="440"/>
                    </a:lnTo>
                    <a:lnTo>
                      <a:pt x="146" y="457"/>
                    </a:lnTo>
                    <a:lnTo>
                      <a:pt x="176" y="472"/>
                    </a:lnTo>
                    <a:lnTo>
                      <a:pt x="209" y="485"/>
                    </a:lnTo>
                    <a:lnTo>
                      <a:pt x="244" y="496"/>
                    </a:lnTo>
                    <a:lnTo>
                      <a:pt x="280" y="504"/>
                    </a:lnTo>
                    <a:lnTo>
                      <a:pt x="318" y="511"/>
                    </a:lnTo>
                    <a:lnTo>
                      <a:pt x="358" y="515"/>
                    </a:lnTo>
                    <a:lnTo>
                      <a:pt x="398" y="516"/>
                    </a:lnTo>
                    <a:lnTo>
                      <a:pt x="438" y="515"/>
                    </a:lnTo>
                    <a:lnTo>
                      <a:pt x="478" y="511"/>
                    </a:lnTo>
                    <a:lnTo>
                      <a:pt x="516" y="504"/>
                    </a:lnTo>
                    <a:lnTo>
                      <a:pt x="553" y="496"/>
                    </a:lnTo>
                    <a:lnTo>
                      <a:pt x="588" y="485"/>
                    </a:lnTo>
                    <a:lnTo>
                      <a:pt x="620" y="472"/>
                    </a:lnTo>
                    <a:lnTo>
                      <a:pt x="651" y="457"/>
                    </a:lnTo>
                    <a:lnTo>
                      <a:pt x="681" y="440"/>
                    </a:lnTo>
                    <a:lnTo>
                      <a:pt x="706" y="422"/>
                    </a:lnTo>
                    <a:lnTo>
                      <a:pt x="729" y="402"/>
                    </a:lnTo>
                    <a:lnTo>
                      <a:pt x="749" y="381"/>
                    </a:lnTo>
                    <a:lnTo>
                      <a:pt x="766" y="358"/>
                    </a:lnTo>
                    <a:lnTo>
                      <a:pt x="780" y="334"/>
                    </a:lnTo>
                    <a:lnTo>
                      <a:pt x="789" y="310"/>
                    </a:lnTo>
                    <a:lnTo>
                      <a:pt x="794" y="284"/>
                    </a:lnTo>
                    <a:lnTo>
                      <a:pt x="797" y="258"/>
                    </a:lnTo>
                    <a:lnTo>
                      <a:pt x="794" y="231"/>
                    </a:lnTo>
                    <a:lnTo>
                      <a:pt x="789" y="205"/>
                    </a:lnTo>
                    <a:lnTo>
                      <a:pt x="780" y="181"/>
                    </a:lnTo>
                    <a:lnTo>
                      <a:pt x="766" y="157"/>
                    </a:lnTo>
                    <a:lnTo>
                      <a:pt x="749" y="134"/>
                    </a:lnTo>
                    <a:lnTo>
                      <a:pt x="729" y="114"/>
                    </a:lnTo>
                    <a:lnTo>
                      <a:pt x="706" y="94"/>
                    </a:lnTo>
                    <a:lnTo>
                      <a:pt x="681" y="75"/>
                    </a:lnTo>
                    <a:lnTo>
                      <a:pt x="651" y="59"/>
                    </a:lnTo>
                    <a:lnTo>
                      <a:pt x="620" y="45"/>
                    </a:lnTo>
                    <a:lnTo>
                      <a:pt x="588" y="31"/>
                    </a:lnTo>
                    <a:lnTo>
                      <a:pt x="553" y="20"/>
                    </a:lnTo>
                    <a:lnTo>
                      <a:pt x="516" y="12"/>
                    </a:lnTo>
                    <a:lnTo>
                      <a:pt x="478" y="6"/>
                    </a:lnTo>
                    <a:lnTo>
                      <a:pt x="438" y="2"/>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2741040" y="1774440"/>
                <a:ext cx="643320" cy="387360"/>
              </a:xfrm>
              <a:custGeom>
                <a:avLst/>
                <a:gdLst/>
                <a:ahLst/>
                <a:rect l="l" t="t" r="r" b="b"/>
                <a:pathLst>
                  <a:path w="703" h="423">
                    <a:moveTo>
                      <a:pt x="0" y="212"/>
                    </a:moveTo>
                    <a:lnTo>
                      <a:pt x="2" y="190"/>
                    </a:lnTo>
                    <a:lnTo>
                      <a:pt x="7" y="169"/>
                    </a:lnTo>
                    <a:lnTo>
                      <a:pt x="16" y="149"/>
                    </a:lnTo>
                    <a:lnTo>
                      <a:pt x="28" y="130"/>
                    </a:lnTo>
                    <a:lnTo>
                      <a:pt x="43" y="111"/>
                    </a:lnTo>
                    <a:lnTo>
                      <a:pt x="61" y="94"/>
                    </a:lnTo>
                    <a:lnTo>
                      <a:pt x="81" y="78"/>
                    </a:lnTo>
                    <a:lnTo>
                      <a:pt x="103" y="62"/>
                    </a:lnTo>
                    <a:lnTo>
                      <a:pt x="129" y="48"/>
                    </a:lnTo>
                    <a:lnTo>
                      <a:pt x="156" y="36"/>
                    </a:lnTo>
                    <a:lnTo>
                      <a:pt x="184" y="25"/>
                    </a:lnTo>
                    <a:lnTo>
                      <a:pt x="214" y="16"/>
                    </a:lnTo>
                    <a:lnTo>
                      <a:pt x="247" y="9"/>
                    </a:lnTo>
                    <a:lnTo>
                      <a:pt x="280" y="4"/>
                    </a:lnTo>
                    <a:lnTo>
                      <a:pt x="315" y="1"/>
                    </a:lnTo>
                    <a:lnTo>
                      <a:pt x="351" y="0"/>
                    </a:lnTo>
                    <a:lnTo>
                      <a:pt x="387" y="1"/>
                    </a:lnTo>
                    <a:lnTo>
                      <a:pt x="422" y="4"/>
                    </a:lnTo>
                    <a:lnTo>
                      <a:pt x="455" y="9"/>
                    </a:lnTo>
                    <a:lnTo>
                      <a:pt x="488" y="16"/>
                    </a:lnTo>
                    <a:lnTo>
                      <a:pt x="518" y="25"/>
                    </a:lnTo>
                    <a:lnTo>
                      <a:pt x="548" y="36"/>
                    </a:lnTo>
                    <a:lnTo>
                      <a:pt x="575" y="48"/>
                    </a:lnTo>
                    <a:lnTo>
                      <a:pt x="600" y="62"/>
                    </a:lnTo>
                    <a:lnTo>
                      <a:pt x="623" y="78"/>
                    </a:lnTo>
                    <a:lnTo>
                      <a:pt x="643" y="94"/>
                    </a:lnTo>
                    <a:lnTo>
                      <a:pt x="660" y="111"/>
                    </a:lnTo>
                    <a:lnTo>
                      <a:pt x="675" y="130"/>
                    </a:lnTo>
                    <a:lnTo>
                      <a:pt x="687" y="149"/>
                    </a:lnTo>
                    <a:lnTo>
                      <a:pt x="696" y="169"/>
                    </a:lnTo>
                    <a:lnTo>
                      <a:pt x="702" y="190"/>
                    </a:lnTo>
                    <a:lnTo>
                      <a:pt x="703" y="212"/>
                    </a:lnTo>
                    <a:lnTo>
                      <a:pt x="702" y="233"/>
                    </a:lnTo>
                    <a:lnTo>
                      <a:pt x="696" y="255"/>
                    </a:lnTo>
                    <a:lnTo>
                      <a:pt x="687" y="275"/>
                    </a:lnTo>
                    <a:lnTo>
                      <a:pt x="675" y="293"/>
                    </a:lnTo>
                    <a:lnTo>
                      <a:pt x="660" y="312"/>
                    </a:lnTo>
                    <a:lnTo>
                      <a:pt x="643" y="330"/>
                    </a:lnTo>
                    <a:lnTo>
                      <a:pt x="623" y="346"/>
                    </a:lnTo>
                    <a:lnTo>
                      <a:pt x="600" y="362"/>
                    </a:lnTo>
                    <a:lnTo>
                      <a:pt x="575" y="375"/>
                    </a:lnTo>
                    <a:lnTo>
                      <a:pt x="548" y="387"/>
                    </a:lnTo>
                    <a:lnTo>
                      <a:pt x="518" y="398"/>
                    </a:lnTo>
                    <a:lnTo>
                      <a:pt x="488" y="407"/>
                    </a:lnTo>
                    <a:lnTo>
                      <a:pt x="455" y="414"/>
                    </a:lnTo>
                    <a:lnTo>
                      <a:pt x="422" y="419"/>
                    </a:lnTo>
                    <a:lnTo>
                      <a:pt x="387" y="422"/>
                    </a:lnTo>
                    <a:lnTo>
                      <a:pt x="351" y="423"/>
                    </a:lnTo>
                    <a:lnTo>
                      <a:pt x="315" y="422"/>
                    </a:lnTo>
                    <a:lnTo>
                      <a:pt x="280" y="419"/>
                    </a:lnTo>
                    <a:lnTo>
                      <a:pt x="247" y="414"/>
                    </a:lnTo>
                    <a:lnTo>
                      <a:pt x="214" y="407"/>
                    </a:lnTo>
                    <a:lnTo>
                      <a:pt x="184" y="398"/>
                    </a:lnTo>
                    <a:lnTo>
                      <a:pt x="156" y="387"/>
                    </a:lnTo>
                    <a:lnTo>
                      <a:pt x="129" y="375"/>
                    </a:lnTo>
                    <a:lnTo>
                      <a:pt x="103" y="362"/>
                    </a:lnTo>
                    <a:lnTo>
                      <a:pt x="81" y="346"/>
                    </a:lnTo>
                    <a:lnTo>
                      <a:pt x="61" y="330"/>
                    </a:lnTo>
                    <a:lnTo>
                      <a:pt x="43" y="312"/>
                    </a:lnTo>
                    <a:lnTo>
                      <a:pt x="28" y="293"/>
                    </a:lnTo>
                    <a:lnTo>
                      <a:pt x="16" y="275"/>
                    </a:lnTo>
                    <a:lnTo>
                      <a:pt x="7" y="255"/>
                    </a:lnTo>
                    <a:lnTo>
                      <a:pt x="2" y="233"/>
                    </a:lnTo>
                    <a:lnTo>
                      <a:pt x="0"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859120" y="1761480"/>
                <a:ext cx="400680" cy="402840"/>
              </a:xfrm>
              <a:custGeom>
                <a:avLst/>
                <a:gdLst/>
                <a:ahLst/>
                <a:rect l="l" t="t" r="r" b="b"/>
                <a:pathLst>
                  <a:path w="438" h="440">
                    <a:moveTo>
                      <a:pt x="0" y="220"/>
                    </a:moveTo>
                    <a:lnTo>
                      <a:pt x="1" y="243"/>
                    </a:lnTo>
                    <a:lnTo>
                      <a:pt x="4" y="264"/>
                    </a:lnTo>
                    <a:lnTo>
                      <a:pt x="9" y="286"/>
                    </a:lnTo>
                    <a:lnTo>
                      <a:pt x="17" y="306"/>
                    </a:lnTo>
                    <a:lnTo>
                      <a:pt x="27" y="325"/>
                    </a:lnTo>
                    <a:lnTo>
                      <a:pt x="37" y="342"/>
                    </a:lnTo>
                    <a:lnTo>
                      <a:pt x="51" y="360"/>
                    </a:lnTo>
                    <a:lnTo>
                      <a:pt x="64" y="376"/>
                    </a:lnTo>
                    <a:lnTo>
                      <a:pt x="80" y="389"/>
                    </a:lnTo>
                    <a:lnTo>
                      <a:pt x="96" y="403"/>
                    </a:lnTo>
                    <a:lnTo>
                      <a:pt x="115" y="413"/>
                    </a:lnTo>
                    <a:lnTo>
                      <a:pt x="134" y="423"/>
                    </a:lnTo>
                    <a:lnTo>
                      <a:pt x="154" y="431"/>
                    </a:lnTo>
                    <a:lnTo>
                      <a:pt x="174" y="436"/>
                    </a:lnTo>
                    <a:lnTo>
                      <a:pt x="197" y="439"/>
                    </a:lnTo>
                    <a:lnTo>
                      <a:pt x="218" y="440"/>
                    </a:lnTo>
                    <a:lnTo>
                      <a:pt x="241" y="439"/>
                    </a:lnTo>
                    <a:lnTo>
                      <a:pt x="262" y="436"/>
                    </a:lnTo>
                    <a:lnTo>
                      <a:pt x="284" y="431"/>
                    </a:lnTo>
                    <a:lnTo>
                      <a:pt x="304" y="423"/>
                    </a:lnTo>
                    <a:lnTo>
                      <a:pt x="322" y="413"/>
                    </a:lnTo>
                    <a:lnTo>
                      <a:pt x="341" y="403"/>
                    </a:lnTo>
                    <a:lnTo>
                      <a:pt x="357" y="389"/>
                    </a:lnTo>
                    <a:lnTo>
                      <a:pt x="373" y="376"/>
                    </a:lnTo>
                    <a:lnTo>
                      <a:pt x="388" y="360"/>
                    </a:lnTo>
                    <a:lnTo>
                      <a:pt x="400" y="342"/>
                    </a:lnTo>
                    <a:lnTo>
                      <a:pt x="411" y="325"/>
                    </a:lnTo>
                    <a:lnTo>
                      <a:pt x="420" y="306"/>
                    </a:lnTo>
                    <a:lnTo>
                      <a:pt x="428" y="286"/>
                    </a:lnTo>
                    <a:lnTo>
                      <a:pt x="434" y="264"/>
                    </a:lnTo>
                    <a:lnTo>
                      <a:pt x="436" y="243"/>
                    </a:lnTo>
                    <a:lnTo>
                      <a:pt x="438" y="220"/>
                    </a:lnTo>
                    <a:lnTo>
                      <a:pt x="436" y="197"/>
                    </a:lnTo>
                    <a:lnTo>
                      <a:pt x="434" y="176"/>
                    </a:lnTo>
                    <a:lnTo>
                      <a:pt x="428" y="155"/>
                    </a:lnTo>
                    <a:lnTo>
                      <a:pt x="420" y="134"/>
                    </a:lnTo>
                    <a:lnTo>
                      <a:pt x="411" y="116"/>
                    </a:lnTo>
                    <a:lnTo>
                      <a:pt x="400" y="98"/>
                    </a:lnTo>
                    <a:lnTo>
                      <a:pt x="388" y="81"/>
                    </a:lnTo>
                    <a:lnTo>
                      <a:pt x="373" y="65"/>
                    </a:lnTo>
                    <a:lnTo>
                      <a:pt x="357" y="51"/>
                    </a:lnTo>
                    <a:lnTo>
                      <a:pt x="341" y="38"/>
                    </a:lnTo>
                    <a:lnTo>
                      <a:pt x="322" y="27"/>
                    </a:lnTo>
                    <a:lnTo>
                      <a:pt x="304" y="18"/>
                    </a:lnTo>
                    <a:lnTo>
                      <a:pt x="284" y="10"/>
                    </a:lnTo>
                    <a:lnTo>
                      <a:pt x="262" y="4"/>
                    </a:lnTo>
                    <a:lnTo>
                      <a:pt x="241" y="2"/>
                    </a:lnTo>
                    <a:lnTo>
                      <a:pt x="218" y="0"/>
                    </a:lnTo>
                    <a:lnTo>
                      <a:pt x="197" y="2"/>
                    </a:lnTo>
                    <a:lnTo>
                      <a:pt x="174" y="4"/>
                    </a:lnTo>
                    <a:lnTo>
                      <a:pt x="154" y="10"/>
                    </a:lnTo>
                    <a:lnTo>
                      <a:pt x="134" y="18"/>
                    </a:lnTo>
                    <a:lnTo>
                      <a:pt x="115" y="27"/>
                    </a:lnTo>
                    <a:lnTo>
                      <a:pt x="96" y="38"/>
                    </a:lnTo>
                    <a:lnTo>
                      <a:pt x="80" y="51"/>
                    </a:lnTo>
                    <a:lnTo>
                      <a:pt x="64" y="65"/>
                    </a:lnTo>
                    <a:lnTo>
                      <a:pt x="51" y="81"/>
                    </a:lnTo>
                    <a:lnTo>
                      <a:pt x="37" y="98"/>
                    </a:lnTo>
                    <a:lnTo>
                      <a:pt x="27" y="116"/>
                    </a:lnTo>
                    <a:lnTo>
                      <a:pt x="17" y="134"/>
                    </a:lnTo>
                    <a:lnTo>
                      <a:pt x="9" y="155"/>
                    </a:lnTo>
                    <a:lnTo>
                      <a:pt x="4" y="176"/>
                    </a:lnTo>
                    <a:lnTo>
                      <a:pt x="1" y="197"/>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2910240" y="1813680"/>
                <a:ext cx="297360" cy="299520"/>
              </a:xfrm>
              <a:custGeom>
                <a:avLst/>
                <a:gdLst/>
                <a:ahLst/>
                <a:rect l="l" t="t" r="r" b="b"/>
                <a:pathLst>
                  <a:path w="325" h="327">
                    <a:moveTo>
                      <a:pt x="0" y="163"/>
                    </a:moveTo>
                    <a:lnTo>
                      <a:pt x="3" y="131"/>
                    </a:lnTo>
                    <a:lnTo>
                      <a:pt x="12" y="100"/>
                    </a:lnTo>
                    <a:lnTo>
                      <a:pt x="28" y="72"/>
                    </a:lnTo>
                    <a:lnTo>
                      <a:pt x="47" y="48"/>
                    </a:lnTo>
                    <a:lnTo>
                      <a:pt x="71" y="28"/>
                    </a:lnTo>
                    <a:lnTo>
                      <a:pt x="99" y="13"/>
                    </a:lnTo>
                    <a:lnTo>
                      <a:pt x="130" y="2"/>
                    </a:lnTo>
                    <a:lnTo>
                      <a:pt x="162" y="0"/>
                    </a:lnTo>
                    <a:lnTo>
                      <a:pt x="195" y="2"/>
                    </a:lnTo>
                    <a:lnTo>
                      <a:pt x="226" y="13"/>
                    </a:lnTo>
                    <a:lnTo>
                      <a:pt x="253" y="28"/>
                    </a:lnTo>
                    <a:lnTo>
                      <a:pt x="278" y="48"/>
                    </a:lnTo>
                    <a:lnTo>
                      <a:pt x="297" y="72"/>
                    </a:lnTo>
                    <a:lnTo>
                      <a:pt x="313" y="100"/>
                    </a:lnTo>
                    <a:lnTo>
                      <a:pt x="323" y="131"/>
                    </a:lnTo>
                    <a:lnTo>
                      <a:pt x="325" y="163"/>
                    </a:lnTo>
                    <a:lnTo>
                      <a:pt x="323" y="195"/>
                    </a:lnTo>
                    <a:lnTo>
                      <a:pt x="313" y="226"/>
                    </a:lnTo>
                    <a:lnTo>
                      <a:pt x="297" y="254"/>
                    </a:lnTo>
                    <a:lnTo>
                      <a:pt x="278" y="279"/>
                    </a:lnTo>
                    <a:lnTo>
                      <a:pt x="253" y="299"/>
                    </a:lnTo>
                    <a:lnTo>
                      <a:pt x="226" y="313"/>
                    </a:lnTo>
                    <a:lnTo>
                      <a:pt x="195" y="324"/>
                    </a:lnTo>
                    <a:lnTo>
                      <a:pt x="162" y="327"/>
                    </a:lnTo>
                    <a:lnTo>
                      <a:pt x="130" y="324"/>
                    </a:lnTo>
                    <a:lnTo>
                      <a:pt x="99" y="313"/>
                    </a:lnTo>
                    <a:lnTo>
                      <a:pt x="71" y="299"/>
                    </a:lnTo>
                    <a:lnTo>
                      <a:pt x="47" y="279"/>
                    </a:lnTo>
                    <a:lnTo>
                      <a:pt x="28" y="254"/>
                    </a:lnTo>
                    <a:lnTo>
                      <a:pt x="12" y="226"/>
                    </a:lnTo>
                    <a:lnTo>
                      <a:pt x="3" y="195"/>
                    </a:lnTo>
                    <a:lnTo>
                      <a:pt x="0" y="163"/>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2954160" y="1858680"/>
                <a:ext cx="209160" cy="208800"/>
              </a:xfrm>
              <a:custGeom>
                <a:avLst/>
                <a:gdLst/>
                <a:ahLst/>
                <a:rect l="l" t="t" r="r" b="b"/>
                <a:pathLst>
                  <a:path w="229" h="228">
                    <a:moveTo>
                      <a:pt x="0" y="114"/>
                    </a:moveTo>
                    <a:lnTo>
                      <a:pt x="3" y="91"/>
                    </a:lnTo>
                    <a:lnTo>
                      <a:pt x="10" y="69"/>
                    </a:lnTo>
                    <a:lnTo>
                      <a:pt x="20" y="50"/>
                    </a:lnTo>
                    <a:lnTo>
                      <a:pt x="34" y="32"/>
                    </a:lnTo>
                    <a:lnTo>
                      <a:pt x="51" y="19"/>
                    </a:lnTo>
                    <a:lnTo>
                      <a:pt x="70" y="10"/>
                    </a:lnTo>
                    <a:lnTo>
                      <a:pt x="91" y="3"/>
                    </a:lnTo>
                    <a:lnTo>
                      <a:pt x="114" y="0"/>
                    </a:lnTo>
                    <a:lnTo>
                      <a:pt x="137" y="3"/>
                    </a:lnTo>
                    <a:lnTo>
                      <a:pt x="158" y="10"/>
                    </a:lnTo>
                    <a:lnTo>
                      <a:pt x="178" y="19"/>
                    </a:lnTo>
                    <a:lnTo>
                      <a:pt x="196" y="32"/>
                    </a:lnTo>
                    <a:lnTo>
                      <a:pt x="209" y="50"/>
                    </a:lnTo>
                    <a:lnTo>
                      <a:pt x="220" y="69"/>
                    </a:lnTo>
                    <a:lnTo>
                      <a:pt x="226" y="91"/>
                    </a:lnTo>
                    <a:lnTo>
                      <a:pt x="229" y="114"/>
                    </a:lnTo>
                    <a:lnTo>
                      <a:pt x="226" y="137"/>
                    </a:lnTo>
                    <a:lnTo>
                      <a:pt x="220" y="158"/>
                    </a:lnTo>
                    <a:lnTo>
                      <a:pt x="209" y="179"/>
                    </a:lnTo>
                    <a:lnTo>
                      <a:pt x="196" y="195"/>
                    </a:lnTo>
                    <a:lnTo>
                      <a:pt x="178" y="208"/>
                    </a:lnTo>
                    <a:lnTo>
                      <a:pt x="158" y="219"/>
                    </a:lnTo>
                    <a:lnTo>
                      <a:pt x="137" y="225"/>
                    </a:lnTo>
                    <a:lnTo>
                      <a:pt x="114" y="228"/>
                    </a:lnTo>
                    <a:lnTo>
                      <a:pt x="91" y="225"/>
                    </a:lnTo>
                    <a:lnTo>
                      <a:pt x="70" y="219"/>
                    </a:lnTo>
                    <a:lnTo>
                      <a:pt x="51" y="208"/>
                    </a:lnTo>
                    <a:lnTo>
                      <a:pt x="34" y="195"/>
                    </a:lnTo>
                    <a:lnTo>
                      <a:pt x="20" y="179"/>
                    </a:lnTo>
                    <a:lnTo>
                      <a:pt x="10" y="158"/>
                    </a:lnTo>
                    <a:lnTo>
                      <a:pt x="3" y="137"/>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3101760" y="1873440"/>
                <a:ext cx="61920" cy="60120"/>
              </a:xfrm>
              <a:custGeom>
                <a:avLst/>
                <a:gdLst/>
                <a:ahLst/>
                <a:rect l="l" t="t" r="r" b="b"/>
                <a:pathLst>
                  <a:path w="68" h="66">
                    <a:moveTo>
                      <a:pt x="68" y="33"/>
                    </a:moveTo>
                    <a:lnTo>
                      <a:pt x="65" y="46"/>
                    </a:lnTo>
                    <a:lnTo>
                      <a:pt x="59" y="57"/>
                    </a:lnTo>
                    <a:lnTo>
                      <a:pt x="48" y="63"/>
                    </a:lnTo>
                    <a:lnTo>
                      <a:pt x="35" y="66"/>
                    </a:lnTo>
                    <a:lnTo>
                      <a:pt x="35" y="66"/>
                    </a:lnTo>
                    <a:lnTo>
                      <a:pt x="21" y="63"/>
                    </a:lnTo>
                    <a:lnTo>
                      <a:pt x="11" y="57"/>
                    </a:lnTo>
                    <a:lnTo>
                      <a:pt x="3" y="46"/>
                    </a:lnTo>
                    <a:lnTo>
                      <a:pt x="0" y="33"/>
                    </a:lnTo>
                    <a:lnTo>
                      <a:pt x="0" y="33"/>
                    </a:lnTo>
                    <a:lnTo>
                      <a:pt x="3" y="19"/>
                    </a:lnTo>
                    <a:lnTo>
                      <a:pt x="11" y="10"/>
                    </a:lnTo>
                    <a:lnTo>
                      <a:pt x="21" y="3"/>
                    </a:lnTo>
                    <a:lnTo>
                      <a:pt x="35" y="0"/>
                    </a:lnTo>
                    <a:lnTo>
                      <a:pt x="35" y="0"/>
                    </a:lnTo>
                    <a:lnTo>
                      <a:pt x="48" y="3"/>
                    </a:lnTo>
                    <a:lnTo>
                      <a:pt x="59" y="10"/>
                    </a:lnTo>
                    <a:lnTo>
                      <a:pt x="65" y="19"/>
                    </a:lnTo>
                    <a:lnTo>
                      <a:pt x="68" y="33"/>
                    </a:lnTo>
                    <a:lnTo>
                      <a:pt x="68" y="3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19" name=""/>
              <p:cNvSpPr/>
              <p:nvPr/>
            </p:nvSpPr>
            <p:spPr>
              <a:xfrm>
                <a:off x="3037320" y="1644480"/>
                <a:ext cx="327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2884680" y="1656000"/>
                <a:ext cx="61200" cy="109080"/>
              </a:xfrm>
              <a:custGeom>
                <a:avLst/>
                <a:gdLst/>
                <a:ahLst/>
                <a:rect l="l" t="t" r="r" b="b"/>
                <a:pathLst>
                  <a:path w="67" h="119">
                    <a:moveTo>
                      <a:pt x="0" y="11"/>
                    </a:moveTo>
                    <a:lnTo>
                      <a:pt x="31" y="119"/>
                    </a:lnTo>
                    <a:lnTo>
                      <a:pt x="67" y="110"/>
                    </a:lnTo>
                    <a:lnTo>
                      <a:pt x="3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2739960" y="1712880"/>
                <a:ext cx="89640" cy="102600"/>
              </a:xfrm>
              <a:custGeom>
                <a:avLst/>
                <a:gdLst/>
                <a:ahLst/>
                <a:rect l="l" t="t" r="r" b="b"/>
                <a:pathLst>
                  <a:path w="98" h="112">
                    <a:moveTo>
                      <a:pt x="0" y="23"/>
                    </a:moveTo>
                    <a:lnTo>
                      <a:pt x="68" y="112"/>
                    </a:lnTo>
                    <a:lnTo>
                      <a:pt x="98" y="90"/>
                    </a:lnTo>
                    <a:lnTo>
                      <a:pt x="29"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2643120" y="1825560"/>
                <a:ext cx="103320" cy="88560"/>
              </a:xfrm>
              <a:custGeom>
                <a:avLst/>
                <a:gdLst/>
                <a:ahLst/>
                <a:rect l="l" t="t" r="r" b="b"/>
                <a:pathLst>
                  <a:path w="113" h="97">
                    <a:moveTo>
                      <a:pt x="0" y="31"/>
                    </a:moveTo>
                    <a:lnTo>
                      <a:pt x="91" y="97"/>
                    </a:lnTo>
                    <a:lnTo>
                      <a:pt x="113" y="67"/>
                    </a:lnTo>
                    <a:lnTo>
                      <a:pt x="22" y="0"/>
                    </a:lnTo>
                    <a:lnTo>
                      <a:pt x="0"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3" name=""/>
              <p:cNvSpPr/>
              <p:nvPr/>
            </p:nvSpPr>
            <p:spPr>
              <a:xfrm>
                <a:off x="3168360" y="1656000"/>
                <a:ext cx="60480" cy="109080"/>
              </a:xfrm>
              <a:custGeom>
                <a:avLst/>
                <a:gdLst/>
                <a:ahLst/>
                <a:rect l="l" t="t" r="r" b="b"/>
                <a:pathLst>
                  <a:path w="66" h="119">
                    <a:moveTo>
                      <a:pt x="66" y="11"/>
                    </a:moveTo>
                    <a:lnTo>
                      <a:pt x="35" y="119"/>
                    </a:lnTo>
                    <a:lnTo>
                      <a:pt x="0" y="110"/>
                    </a:lnTo>
                    <a:lnTo>
                      <a:pt x="31" y="0"/>
                    </a:lnTo>
                    <a:lnTo>
                      <a:pt x="6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3283560" y="1712880"/>
                <a:ext cx="89640" cy="102600"/>
              </a:xfrm>
              <a:custGeom>
                <a:avLst/>
                <a:gdLst/>
                <a:ahLst/>
                <a:rect l="l" t="t" r="r" b="b"/>
                <a:pathLst>
                  <a:path w="98" h="112">
                    <a:moveTo>
                      <a:pt x="98" y="23"/>
                    </a:moveTo>
                    <a:lnTo>
                      <a:pt x="30" y="112"/>
                    </a:lnTo>
                    <a:lnTo>
                      <a:pt x="0" y="90"/>
                    </a:lnTo>
                    <a:lnTo>
                      <a:pt x="69" y="0"/>
                    </a:lnTo>
                    <a:lnTo>
                      <a:pt x="9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3366720" y="1825560"/>
                <a:ext cx="103320" cy="88560"/>
              </a:xfrm>
              <a:custGeom>
                <a:avLst/>
                <a:gdLst/>
                <a:ahLst/>
                <a:rect l="l" t="t" r="r" b="b"/>
                <a:pathLst>
                  <a:path w="113" h="97">
                    <a:moveTo>
                      <a:pt x="113" y="31"/>
                    </a:moveTo>
                    <a:lnTo>
                      <a:pt x="23" y="97"/>
                    </a:lnTo>
                    <a:lnTo>
                      <a:pt x="0" y="67"/>
                    </a:lnTo>
                    <a:lnTo>
                      <a:pt x="91" y="0"/>
                    </a:lnTo>
                    <a:lnTo>
                      <a:pt x="113"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sp>
        <p:nvSpPr>
          <p:cNvPr id="13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27.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491760" y="706320"/>
            <a:ext cx="818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could these metals get inside the body to make print shop workers sick?</a:t>
            </a:r>
            <a:endParaRPr b="0" lang="en-US" sz="4000" spc="-1" strike="noStrike">
              <a:solidFill>
                <a:srgbClr val="000000"/>
              </a:solidFill>
              <a:latin typeface="Times New Roman"/>
            </a:endParaRPr>
          </a:p>
        </p:txBody>
      </p:sp>
      <p:sp>
        <p:nvSpPr>
          <p:cNvPr id="1328" name=""/>
          <p:cNvSpPr/>
          <p:nvPr/>
        </p:nvSpPr>
        <p:spPr>
          <a:xfrm>
            <a:off x="3772080" y="4057560"/>
            <a:ext cx="6120" cy="9720"/>
          </a:xfrm>
          <a:custGeom>
            <a:avLst/>
            <a:gdLst/>
            <a:ahLst/>
            <a:rect l="l" t="t" r="r" b="b"/>
            <a:pathLst>
              <a:path w="4" h="6">
                <a:moveTo>
                  <a:pt x="4" y="0"/>
                </a:moveTo>
                <a:lnTo>
                  <a:pt x="4" y="2"/>
                </a:lnTo>
                <a:lnTo>
                  <a:pt x="4" y="2"/>
                </a:lnTo>
                <a:lnTo>
                  <a:pt x="2" y="2"/>
                </a:lnTo>
                <a:lnTo>
                  <a:pt x="2" y="4"/>
                </a:lnTo>
                <a:lnTo>
                  <a:pt x="2" y="4"/>
                </a:lnTo>
                <a:lnTo>
                  <a:pt x="2" y="4"/>
                </a:lnTo>
                <a:lnTo>
                  <a:pt x="2" y="6"/>
                </a:lnTo>
                <a:lnTo>
                  <a:pt x="0" y="6"/>
                </a:lnTo>
                <a:lnTo>
                  <a:pt x="0" y="6"/>
                </a:lnTo>
                <a:lnTo>
                  <a:pt x="0" y="6"/>
                </a:lnTo>
                <a:lnTo>
                  <a:pt x="0" y="6"/>
                </a:lnTo>
                <a:lnTo>
                  <a:pt x="0" y="6"/>
                </a:lnTo>
                <a:lnTo>
                  <a:pt x="0" y="6"/>
                </a:lnTo>
                <a:lnTo>
                  <a:pt x="0" y="6"/>
                </a:lnTo>
                <a:lnTo>
                  <a:pt x="0" y="6"/>
                </a:lnTo>
                <a:lnTo>
                  <a:pt x="0" y="6"/>
                </a:lnTo>
                <a:lnTo>
                  <a:pt x="0" y="6"/>
                </a:lnTo>
                <a:lnTo>
                  <a:pt x="0" y="4"/>
                </a:lnTo>
                <a:lnTo>
                  <a:pt x="0" y="4"/>
                </a:lnTo>
                <a:lnTo>
                  <a:pt x="0" y="4"/>
                </a:lnTo>
                <a:lnTo>
                  <a:pt x="0" y="4"/>
                </a:lnTo>
                <a:lnTo>
                  <a:pt x="0" y="2"/>
                </a:lnTo>
                <a:lnTo>
                  <a:pt x="0" y="2"/>
                </a:lnTo>
                <a:lnTo>
                  <a:pt x="0" y="2"/>
                </a:lnTo>
                <a:lnTo>
                  <a:pt x="0" y="2"/>
                </a:lnTo>
                <a:lnTo>
                  <a:pt x="2" y="2"/>
                </a:lnTo>
                <a:lnTo>
                  <a:pt x="2" y="2"/>
                </a:lnTo>
                <a:lnTo>
                  <a:pt x="2" y="2"/>
                </a:lnTo>
                <a:lnTo>
                  <a:pt x="2" y="2"/>
                </a:lnTo>
                <a:lnTo>
                  <a:pt x="4" y="2"/>
                </a:lnTo>
                <a:lnTo>
                  <a:pt x="4" y="2"/>
                </a:lnTo>
                <a:lnTo>
                  <a:pt x="4" y="0"/>
                </a:lnTo>
                <a:close/>
              </a:path>
            </a:pathLst>
          </a:custGeom>
          <a:solidFill>
            <a:srgbClr val="e5b2b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29" name=""/>
          <p:cNvSpPr/>
          <p:nvPr/>
        </p:nvSpPr>
        <p:spPr>
          <a:xfrm>
            <a:off x="535320" y="4130640"/>
            <a:ext cx="176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halation</a:t>
            </a:r>
            <a:endParaRPr b="0" lang="en-US" sz="2800" spc="-1" strike="noStrike">
              <a:solidFill>
                <a:srgbClr val="000000"/>
              </a:solidFill>
              <a:latin typeface="Arial"/>
            </a:endParaRPr>
          </a:p>
        </p:txBody>
      </p:sp>
      <p:sp>
        <p:nvSpPr>
          <p:cNvPr id="1330" name=""/>
          <p:cNvSpPr/>
          <p:nvPr/>
        </p:nvSpPr>
        <p:spPr>
          <a:xfrm>
            <a:off x="2556000" y="4130640"/>
            <a:ext cx="190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orption</a:t>
            </a:r>
            <a:endParaRPr b="0" lang="en-US" sz="2800" spc="-1" strike="noStrike">
              <a:solidFill>
                <a:srgbClr val="000000"/>
              </a:solidFill>
              <a:latin typeface="Arial"/>
            </a:endParaRPr>
          </a:p>
        </p:txBody>
      </p:sp>
      <p:sp>
        <p:nvSpPr>
          <p:cNvPr id="1331" name=""/>
          <p:cNvSpPr/>
          <p:nvPr/>
        </p:nvSpPr>
        <p:spPr>
          <a:xfrm>
            <a:off x="4810680" y="413064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gestion</a:t>
            </a:r>
            <a:endParaRPr b="0" lang="en-US" sz="2800" spc="-1" strike="noStrike">
              <a:solidFill>
                <a:srgbClr val="000000"/>
              </a:solidFill>
              <a:latin typeface="Arial"/>
            </a:endParaRPr>
          </a:p>
        </p:txBody>
      </p:sp>
      <p:sp>
        <p:nvSpPr>
          <p:cNvPr id="1332" name=""/>
          <p:cNvSpPr/>
          <p:nvPr/>
        </p:nvSpPr>
        <p:spPr>
          <a:xfrm>
            <a:off x="6908760" y="4130640"/>
            <a:ext cx="154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jection</a:t>
            </a:r>
            <a:endParaRPr b="0" lang="en-US" sz="2800" spc="-1" strike="noStrike">
              <a:solidFill>
                <a:srgbClr val="000000"/>
              </a:solidFill>
              <a:latin typeface="Arial"/>
            </a:endParaRPr>
          </a:p>
        </p:txBody>
      </p:sp>
      <p:grpSp>
        <p:nvGrpSpPr>
          <p:cNvPr id="1333" name=""/>
          <p:cNvGrpSpPr/>
          <p:nvPr/>
        </p:nvGrpSpPr>
        <p:grpSpPr>
          <a:xfrm>
            <a:off x="4809960" y="2974320"/>
            <a:ext cx="1581480" cy="913680"/>
            <a:chOff x="4809960" y="2974320"/>
            <a:chExt cx="1581480" cy="913680"/>
          </a:xfrm>
        </p:grpSpPr>
        <p:sp>
          <p:nvSpPr>
            <p:cNvPr id="1334" name=""/>
            <p:cNvSpPr/>
            <p:nvPr/>
          </p:nvSpPr>
          <p:spPr>
            <a:xfrm>
              <a:off x="4857840" y="3022560"/>
              <a:ext cx="1514520" cy="730440"/>
            </a:xfrm>
            <a:custGeom>
              <a:avLst/>
              <a:gdLst/>
              <a:ahLst/>
              <a:rect l="l" t="t" r="r" b="b"/>
              <a:pathLst>
                <a:path w="4262" h="2060">
                  <a:moveTo>
                    <a:pt x="0" y="1035"/>
                  </a:moveTo>
                  <a:lnTo>
                    <a:pt x="522" y="576"/>
                  </a:lnTo>
                  <a:lnTo>
                    <a:pt x="1262" y="91"/>
                  </a:lnTo>
                  <a:lnTo>
                    <a:pt x="1600" y="0"/>
                  </a:lnTo>
                  <a:lnTo>
                    <a:pt x="1848" y="128"/>
                  </a:lnTo>
                  <a:lnTo>
                    <a:pt x="2231" y="274"/>
                  </a:lnTo>
                  <a:lnTo>
                    <a:pt x="2433" y="202"/>
                  </a:lnTo>
                  <a:lnTo>
                    <a:pt x="2688" y="73"/>
                  </a:lnTo>
                  <a:lnTo>
                    <a:pt x="3054" y="82"/>
                  </a:lnTo>
                  <a:lnTo>
                    <a:pt x="3842" y="641"/>
                  </a:lnTo>
                  <a:lnTo>
                    <a:pt x="4262" y="851"/>
                  </a:lnTo>
                  <a:lnTo>
                    <a:pt x="4262" y="1007"/>
                  </a:lnTo>
                  <a:lnTo>
                    <a:pt x="3859" y="1446"/>
                  </a:lnTo>
                  <a:lnTo>
                    <a:pt x="2991" y="2060"/>
                  </a:lnTo>
                  <a:lnTo>
                    <a:pt x="851" y="1986"/>
                  </a:lnTo>
                  <a:lnTo>
                    <a:pt x="128" y="1492"/>
                  </a:lnTo>
                  <a:lnTo>
                    <a:pt x="0" y="1035"/>
                  </a:lnTo>
                  <a:lnTo>
                    <a:pt x="0" y="10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4825800" y="3125520"/>
              <a:ext cx="1556280" cy="591840"/>
            </a:xfrm>
            <a:custGeom>
              <a:avLst/>
              <a:gdLst/>
              <a:ahLst/>
              <a:rect l="l" t="t" r="r" b="b"/>
              <a:pathLst>
                <a:path w="4382" h="1667">
                  <a:moveTo>
                    <a:pt x="55" y="1007"/>
                  </a:moveTo>
                  <a:lnTo>
                    <a:pt x="303" y="1245"/>
                  </a:lnTo>
                  <a:lnTo>
                    <a:pt x="1931" y="1667"/>
                  </a:lnTo>
                  <a:lnTo>
                    <a:pt x="3448" y="1447"/>
                  </a:lnTo>
                  <a:lnTo>
                    <a:pt x="4108" y="1034"/>
                  </a:lnTo>
                  <a:lnTo>
                    <a:pt x="4382" y="668"/>
                  </a:lnTo>
                  <a:lnTo>
                    <a:pt x="4097" y="631"/>
                  </a:lnTo>
                  <a:lnTo>
                    <a:pt x="3751" y="466"/>
                  </a:lnTo>
                  <a:lnTo>
                    <a:pt x="3221" y="151"/>
                  </a:lnTo>
                  <a:lnTo>
                    <a:pt x="2973" y="36"/>
                  </a:lnTo>
                  <a:lnTo>
                    <a:pt x="2826" y="72"/>
                  </a:lnTo>
                  <a:lnTo>
                    <a:pt x="2680" y="127"/>
                  </a:lnTo>
                  <a:lnTo>
                    <a:pt x="2415" y="229"/>
                  </a:lnTo>
                  <a:lnTo>
                    <a:pt x="2251" y="220"/>
                  </a:lnTo>
                  <a:lnTo>
                    <a:pt x="1903" y="31"/>
                  </a:lnTo>
                  <a:lnTo>
                    <a:pt x="1592" y="0"/>
                  </a:lnTo>
                  <a:lnTo>
                    <a:pt x="1345" y="72"/>
                  </a:lnTo>
                  <a:lnTo>
                    <a:pt x="960" y="255"/>
                  </a:lnTo>
                  <a:lnTo>
                    <a:pt x="645" y="512"/>
                  </a:lnTo>
                  <a:lnTo>
                    <a:pt x="211" y="696"/>
                  </a:lnTo>
                  <a:lnTo>
                    <a:pt x="0" y="788"/>
                  </a:lnTo>
                  <a:lnTo>
                    <a:pt x="55" y="1007"/>
                  </a:lnTo>
                  <a:lnTo>
                    <a:pt x="55" y="1007"/>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4861080" y="3138120"/>
              <a:ext cx="1530360" cy="362880"/>
            </a:xfrm>
            <a:custGeom>
              <a:avLst/>
              <a:gdLst/>
              <a:ahLst/>
              <a:rect l="l" t="t" r="r" b="b"/>
              <a:pathLst>
                <a:path w="4308" h="1022">
                  <a:moveTo>
                    <a:pt x="0" y="861"/>
                  </a:moveTo>
                  <a:lnTo>
                    <a:pt x="26" y="851"/>
                  </a:lnTo>
                  <a:lnTo>
                    <a:pt x="95" y="820"/>
                  </a:lnTo>
                  <a:lnTo>
                    <a:pt x="140" y="797"/>
                  </a:lnTo>
                  <a:lnTo>
                    <a:pt x="190" y="771"/>
                  </a:lnTo>
                  <a:lnTo>
                    <a:pt x="241" y="740"/>
                  </a:lnTo>
                  <a:lnTo>
                    <a:pt x="293" y="706"/>
                  </a:lnTo>
                  <a:lnTo>
                    <a:pt x="343" y="668"/>
                  </a:lnTo>
                  <a:lnTo>
                    <a:pt x="390" y="628"/>
                  </a:lnTo>
                  <a:lnTo>
                    <a:pt x="438" y="588"/>
                  </a:lnTo>
                  <a:lnTo>
                    <a:pt x="482" y="550"/>
                  </a:lnTo>
                  <a:lnTo>
                    <a:pt x="526" y="514"/>
                  </a:lnTo>
                  <a:lnTo>
                    <a:pt x="567" y="483"/>
                  </a:lnTo>
                  <a:lnTo>
                    <a:pt x="609" y="458"/>
                  </a:lnTo>
                  <a:lnTo>
                    <a:pt x="650" y="439"/>
                  </a:lnTo>
                  <a:lnTo>
                    <a:pt x="725" y="429"/>
                  </a:lnTo>
                  <a:lnTo>
                    <a:pt x="792" y="438"/>
                  </a:lnTo>
                  <a:lnTo>
                    <a:pt x="842" y="452"/>
                  </a:lnTo>
                  <a:lnTo>
                    <a:pt x="868" y="458"/>
                  </a:lnTo>
                  <a:lnTo>
                    <a:pt x="864" y="407"/>
                  </a:lnTo>
                  <a:lnTo>
                    <a:pt x="864" y="358"/>
                  </a:lnTo>
                  <a:lnTo>
                    <a:pt x="887" y="302"/>
                  </a:lnTo>
                  <a:lnTo>
                    <a:pt x="912" y="274"/>
                  </a:lnTo>
                  <a:lnTo>
                    <a:pt x="948" y="246"/>
                  </a:lnTo>
                  <a:lnTo>
                    <a:pt x="989" y="218"/>
                  </a:lnTo>
                  <a:lnTo>
                    <a:pt x="1036" y="193"/>
                  </a:lnTo>
                  <a:lnTo>
                    <a:pt x="1086" y="169"/>
                  </a:lnTo>
                  <a:lnTo>
                    <a:pt x="1137" y="149"/>
                  </a:lnTo>
                  <a:lnTo>
                    <a:pt x="1187" y="132"/>
                  </a:lnTo>
                  <a:lnTo>
                    <a:pt x="1234" y="119"/>
                  </a:lnTo>
                  <a:lnTo>
                    <a:pt x="1386" y="103"/>
                  </a:lnTo>
                  <a:lnTo>
                    <a:pt x="1491" y="91"/>
                  </a:lnTo>
                  <a:lnTo>
                    <a:pt x="1535" y="69"/>
                  </a:lnTo>
                  <a:lnTo>
                    <a:pt x="1581" y="39"/>
                  </a:lnTo>
                  <a:lnTo>
                    <a:pt x="1635" y="13"/>
                  </a:lnTo>
                  <a:lnTo>
                    <a:pt x="1701" y="0"/>
                  </a:lnTo>
                  <a:lnTo>
                    <a:pt x="1783" y="8"/>
                  </a:lnTo>
                  <a:lnTo>
                    <a:pt x="1870" y="39"/>
                  </a:lnTo>
                  <a:lnTo>
                    <a:pt x="1909" y="64"/>
                  </a:lnTo>
                  <a:lnTo>
                    <a:pt x="1945" y="95"/>
                  </a:lnTo>
                  <a:lnTo>
                    <a:pt x="1993" y="174"/>
                  </a:lnTo>
                  <a:lnTo>
                    <a:pt x="2007" y="274"/>
                  </a:lnTo>
                  <a:lnTo>
                    <a:pt x="1995" y="376"/>
                  </a:lnTo>
                  <a:lnTo>
                    <a:pt x="1977" y="454"/>
                  </a:lnTo>
                  <a:lnTo>
                    <a:pt x="1967" y="485"/>
                  </a:lnTo>
                  <a:lnTo>
                    <a:pt x="1985" y="461"/>
                  </a:lnTo>
                  <a:lnTo>
                    <a:pt x="2004" y="433"/>
                  </a:lnTo>
                  <a:lnTo>
                    <a:pt x="2029" y="401"/>
                  </a:lnTo>
                  <a:lnTo>
                    <a:pt x="2058" y="365"/>
                  </a:lnTo>
                  <a:lnTo>
                    <a:pt x="2091" y="331"/>
                  </a:lnTo>
                  <a:lnTo>
                    <a:pt x="2125" y="300"/>
                  </a:lnTo>
                  <a:lnTo>
                    <a:pt x="2159" y="275"/>
                  </a:lnTo>
                  <a:lnTo>
                    <a:pt x="2191" y="259"/>
                  </a:lnTo>
                  <a:lnTo>
                    <a:pt x="2222" y="250"/>
                  </a:lnTo>
                  <a:lnTo>
                    <a:pt x="2283" y="247"/>
                  </a:lnTo>
                  <a:lnTo>
                    <a:pt x="2387" y="247"/>
                  </a:lnTo>
                  <a:lnTo>
                    <a:pt x="2434" y="225"/>
                  </a:lnTo>
                  <a:lnTo>
                    <a:pt x="2480" y="197"/>
                  </a:lnTo>
                  <a:lnTo>
                    <a:pt x="2527" y="181"/>
                  </a:lnTo>
                  <a:lnTo>
                    <a:pt x="2579" y="193"/>
                  </a:lnTo>
                  <a:lnTo>
                    <a:pt x="2635" y="244"/>
                  </a:lnTo>
                  <a:lnTo>
                    <a:pt x="2663" y="278"/>
                  </a:lnTo>
                  <a:lnTo>
                    <a:pt x="2690" y="314"/>
                  </a:lnTo>
                  <a:lnTo>
                    <a:pt x="2712" y="348"/>
                  </a:lnTo>
                  <a:lnTo>
                    <a:pt x="2728" y="376"/>
                  </a:lnTo>
                  <a:lnTo>
                    <a:pt x="2744" y="404"/>
                  </a:lnTo>
                  <a:lnTo>
                    <a:pt x="2756" y="290"/>
                  </a:lnTo>
                  <a:lnTo>
                    <a:pt x="2780" y="110"/>
                  </a:lnTo>
                  <a:lnTo>
                    <a:pt x="2797" y="63"/>
                  </a:lnTo>
                  <a:lnTo>
                    <a:pt x="2825" y="45"/>
                  </a:lnTo>
                  <a:lnTo>
                    <a:pt x="2918" y="64"/>
                  </a:lnTo>
                  <a:lnTo>
                    <a:pt x="2986" y="84"/>
                  </a:lnTo>
                  <a:lnTo>
                    <a:pt x="3066" y="107"/>
                  </a:lnTo>
                  <a:lnTo>
                    <a:pt x="3154" y="140"/>
                  </a:lnTo>
                  <a:lnTo>
                    <a:pt x="3200" y="159"/>
                  </a:lnTo>
                  <a:lnTo>
                    <a:pt x="3247" y="184"/>
                  </a:lnTo>
                  <a:lnTo>
                    <a:pt x="3294" y="210"/>
                  </a:lnTo>
                  <a:lnTo>
                    <a:pt x="3341" y="241"/>
                  </a:lnTo>
                  <a:lnTo>
                    <a:pt x="3387" y="274"/>
                  </a:lnTo>
                  <a:lnTo>
                    <a:pt x="3431" y="309"/>
                  </a:lnTo>
                  <a:lnTo>
                    <a:pt x="3471" y="345"/>
                  </a:lnTo>
                  <a:lnTo>
                    <a:pt x="3508" y="380"/>
                  </a:lnTo>
                  <a:lnTo>
                    <a:pt x="3567" y="449"/>
                  </a:lnTo>
                  <a:lnTo>
                    <a:pt x="3617" y="560"/>
                  </a:lnTo>
                  <a:lnTo>
                    <a:pt x="3622" y="604"/>
                  </a:lnTo>
                  <a:lnTo>
                    <a:pt x="3642" y="595"/>
                  </a:lnTo>
                  <a:lnTo>
                    <a:pt x="3690" y="575"/>
                  </a:lnTo>
                  <a:lnTo>
                    <a:pt x="3747" y="554"/>
                  </a:lnTo>
                  <a:lnTo>
                    <a:pt x="3796" y="550"/>
                  </a:lnTo>
                  <a:lnTo>
                    <a:pt x="3830" y="567"/>
                  </a:lnTo>
                  <a:lnTo>
                    <a:pt x="3864" y="600"/>
                  </a:lnTo>
                  <a:lnTo>
                    <a:pt x="3884" y="618"/>
                  </a:lnTo>
                  <a:lnTo>
                    <a:pt x="3911" y="635"/>
                  </a:lnTo>
                  <a:lnTo>
                    <a:pt x="3945" y="650"/>
                  </a:lnTo>
                  <a:lnTo>
                    <a:pt x="3987" y="660"/>
                  </a:lnTo>
                  <a:lnTo>
                    <a:pt x="4213" y="665"/>
                  </a:lnTo>
                  <a:lnTo>
                    <a:pt x="4293" y="671"/>
                  </a:lnTo>
                  <a:lnTo>
                    <a:pt x="4308" y="679"/>
                  </a:lnTo>
                  <a:lnTo>
                    <a:pt x="4299" y="696"/>
                  </a:lnTo>
                  <a:lnTo>
                    <a:pt x="4265" y="721"/>
                  </a:lnTo>
                  <a:lnTo>
                    <a:pt x="4209" y="753"/>
                  </a:lnTo>
                  <a:lnTo>
                    <a:pt x="4173" y="769"/>
                  </a:lnTo>
                  <a:lnTo>
                    <a:pt x="4133" y="789"/>
                  </a:lnTo>
                  <a:lnTo>
                    <a:pt x="4092" y="808"/>
                  </a:lnTo>
                  <a:lnTo>
                    <a:pt x="4049" y="828"/>
                  </a:lnTo>
                  <a:lnTo>
                    <a:pt x="4004" y="848"/>
                  </a:lnTo>
                  <a:lnTo>
                    <a:pt x="3958" y="867"/>
                  </a:lnTo>
                  <a:lnTo>
                    <a:pt x="3912" y="887"/>
                  </a:lnTo>
                  <a:lnTo>
                    <a:pt x="3867" y="907"/>
                  </a:lnTo>
                  <a:lnTo>
                    <a:pt x="3822" y="924"/>
                  </a:lnTo>
                  <a:lnTo>
                    <a:pt x="3781" y="941"/>
                  </a:lnTo>
                  <a:lnTo>
                    <a:pt x="3704" y="971"/>
                  </a:lnTo>
                  <a:lnTo>
                    <a:pt x="3642" y="994"/>
                  </a:lnTo>
                  <a:lnTo>
                    <a:pt x="3594" y="1010"/>
                  </a:lnTo>
                  <a:lnTo>
                    <a:pt x="3523" y="1022"/>
                  </a:lnTo>
                  <a:lnTo>
                    <a:pt x="3464" y="1011"/>
                  </a:lnTo>
                  <a:lnTo>
                    <a:pt x="3393" y="980"/>
                  </a:lnTo>
                  <a:lnTo>
                    <a:pt x="3346" y="958"/>
                  </a:lnTo>
                  <a:lnTo>
                    <a:pt x="3290" y="933"/>
                  </a:lnTo>
                  <a:lnTo>
                    <a:pt x="3226" y="908"/>
                  </a:lnTo>
                  <a:lnTo>
                    <a:pt x="3157" y="884"/>
                  </a:lnTo>
                  <a:lnTo>
                    <a:pt x="3080" y="862"/>
                  </a:lnTo>
                  <a:lnTo>
                    <a:pt x="2999" y="846"/>
                  </a:lnTo>
                  <a:lnTo>
                    <a:pt x="2827" y="833"/>
                  </a:lnTo>
                  <a:lnTo>
                    <a:pt x="2647" y="855"/>
                  </a:lnTo>
                  <a:lnTo>
                    <a:pt x="2485" y="896"/>
                  </a:lnTo>
                  <a:lnTo>
                    <a:pt x="2420" y="917"/>
                  </a:lnTo>
                  <a:lnTo>
                    <a:pt x="2368" y="935"/>
                  </a:lnTo>
                  <a:lnTo>
                    <a:pt x="2322" y="952"/>
                  </a:lnTo>
                  <a:lnTo>
                    <a:pt x="1719" y="787"/>
                  </a:lnTo>
                  <a:lnTo>
                    <a:pt x="696" y="971"/>
                  </a:lnTo>
                  <a:lnTo>
                    <a:pt x="146" y="980"/>
                  </a:lnTo>
                  <a:lnTo>
                    <a:pt x="0" y="861"/>
                  </a:lnTo>
                  <a:lnTo>
                    <a:pt x="0" y="861"/>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4929120" y="3261960"/>
              <a:ext cx="1372680" cy="321480"/>
            </a:xfrm>
            <a:custGeom>
              <a:avLst/>
              <a:gdLst/>
              <a:ahLst/>
              <a:rect l="l" t="t" r="r" b="b"/>
              <a:pathLst>
                <a:path w="3863" h="905">
                  <a:moveTo>
                    <a:pt x="0" y="613"/>
                  </a:moveTo>
                  <a:lnTo>
                    <a:pt x="53" y="631"/>
                  </a:lnTo>
                  <a:lnTo>
                    <a:pt x="109" y="649"/>
                  </a:lnTo>
                  <a:lnTo>
                    <a:pt x="180" y="671"/>
                  </a:lnTo>
                  <a:lnTo>
                    <a:pt x="258" y="694"/>
                  </a:lnTo>
                  <a:lnTo>
                    <a:pt x="338" y="719"/>
                  </a:lnTo>
                  <a:lnTo>
                    <a:pt x="416" y="741"/>
                  </a:lnTo>
                  <a:lnTo>
                    <a:pt x="485" y="761"/>
                  </a:lnTo>
                  <a:lnTo>
                    <a:pt x="590" y="783"/>
                  </a:lnTo>
                  <a:lnTo>
                    <a:pt x="662" y="789"/>
                  </a:lnTo>
                  <a:lnTo>
                    <a:pt x="797" y="778"/>
                  </a:lnTo>
                  <a:lnTo>
                    <a:pt x="1263" y="761"/>
                  </a:lnTo>
                  <a:lnTo>
                    <a:pt x="1446" y="753"/>
                  </a:lnTo>
                  <a:lnTo>
                    <a:pt x="1565" y="761"/>
                  </a:lnTo>
                  <a:lnTo>
                    <a:pt x="1646" y="792"/>
                  </a:lnTo>
                  <a:lnTo>
                    <a:pt x="1683" y="808"/>
                  </a:lnTo>
                  <a:lnTo>
                    <a:pt x="1720" y="815"/>
                  </a:lnTo>
                  <a:lnTo>
                    <a:pt x="1807" y="805"/>
                  </a:lnTo>
                  <a:lnTo>
                    <a:pt x="1885" y="798"/>
                  </a:lnTo>
                  <a:lnTo>
                    <a:pt x="1937" y="830"/>
                  </a:lnTo>
                  <a:lnTo>
                    <a:pt x="1965" y="855"/>
                  </a:lnTo>
                  <a:lnTo>
                    <a:pt x="2005" y="880"/>
                  </a:lnTo>
                  <a:lnTo>
                    <a:pt x="2061" y="896"/>
                  </a:lnTo>
                  <a:lnTo>
                    <a:pt x="2131" y="905"/>
                  </a:lnTo>
                  <a:lnTo>
                    <a:pt x="2305" y="880"/>
                  </a:lnTo>
                  <a:lnTo>
                    <a:pt x="2401" y="843"/>
                  </a:lnTo>
                  <a:lnTo>
                    <a:pt x="2450" y="821"/>
                  </a:lnTo>
                  <a:lnTo>
                    <a:pt x="2499" y="799"/>
                  </a:lnTo>
                  <a:lnTo>
                    <a:pt x="2546" y="778"/>
                  </a:lnTo>
                  <a:lnTo>
                    <a:pt x="2593" y="759"/>
                  </a:lnTo>
                  <a:lnTo>
                    <a:pt x="2681" y="733"/>
                  </a:lnTo>
                  <a:lnTo>
                    <a:pt x="2761" y="730"/>
                  </a:lnTo>
                  <a:lnTo>
                    <a:pt x="2835" y="741"/>
                  </a:lnTo>
                  <a:lnTo>
                    <a:pt x="2910" y="758"/>
                  </a:lnTo>
                  <a:lnTo>
                    <a:pt x="2991" y="769"/>
                  </a:lnTo>
                  <a:lnTo>
                    <a:pt x="3187" y="752"/>
                  </a:lnTo>
                  <a:lnTo>
                    <a:pt x="3296" y="727"/>
                  </a:lnTo>
                  <a:lnTo>
                    <a:pt x="3413" y="696"/>
                  </a:lnTo>
                  <a:lnTo>
                    <a:pt x="3479" y="677"/>
                  </a:lnTo>
                  <a:lnTo>
                    <a:pt x="3555" y="650"/>
                  </a:lnTo>
                  <a:lnTo>
                    <a:pt x="3634" y="619"/>
                  </a:lnTo>
                  <a:lnTo>
                    <a:pt x="3711" y="587"/>
                  </a:lnTo>
                  <a:lnTo>
                    <a:pt x="3779" y="553"/>
                  </a:lnTo>
                  <a:lnTo>
                    <a:pt x="3830" y="520"/>
                  </a:lnTo>
                  <a:lnTo>
                    <a:pt x="3863" y="470"/>
                  </a:lnTo>
                  <a:lnTo>
                    <a:pt x="3838" y="452"/>
                  </a:lnTo>
                  <a:lnTo>
                    <a:pt x="3794" y="441"/>
                  </a:lnTo>
                  <a:lnTo>
                    <a:pt x="3671" y="423"/>
                  </a:lnTo>
                  <a:lnTo>
                    <a:pt x="3422" y="393"/>
                  </a:lnTo>
                  <a:lnTo>
                    <a:pt x="3212" y="367"/>
                  </a:lnTo>
                  <a:lnTo>
                    <a:pt x="3117" y="346"/>
                  </a:lnTo>
                  <a:lnTo>
                    <a:pt x="3056" y="302"/>
                  </a:lnTo>
                  <a:lnTo>
                    <a:pt x="3024" y="234"/>
                  </a:lnTo>
                  <a:lnTo>
                    <a:pt x="2994" y="160"/>
                  </a:lnTo>
                  <a:lnTo>
                    <a:pt x="2959" y="100"/>
                  </a:lnTo>
                  <a:lnTo>
                    <a:pt x="2937" y="81"/>
                  </a:lnTo>
                  <a:lnTo>
                    <a:pt x="2910" y="73"/>
                  </a:lnTo>
                  <a:lnTo>
                    <a:pt x="2853" y="87"/>
                  </a:lnTo>
                  <a:lnTo>
                    <a:pt x="2797" y="122"/>
                  </a:lnTo>
                  <a:lnTo>
                    <a:pt x="2739" y="168"/>
                  </a:lnTo>
                  <a:lnTo>
                    <a:pt x="2711" y="190"/>
                  </a:lnTo>
                  <a:lnTo>
                    <a:pt x="2681" y="211"/>
                  </a:lnTo>
                  <a:lnTo>
                    <a:pt x="2649" y="225"/>
                  </a:lnTo>
                  <a:lnTo>
                    <a:pt x="2617" y="233"/>
                  </a:lnTo>
                  <a:lnTo>
                    <a:pt x="2546" y="230"/>
                  </a:lnTo>
                  <a:lnTo>
                    <a:pt x="2476" y="221"/>
                  </a:lnTo>
                  <a:lnTo>
                    <a:pt x="2416" y="219"/>
                  </a:lnTo>
                  <a:lnTo>
                    <a:pt x="2369" y="249"/>
                  </a:lnTo>
                  <a:lnTo>
                    <a:pt x="2330" y="303"/>
                  </a:lnTo>
                  <a:lnTo>
                    <a:pt x="2311" y="333"/>
                  </a:lnTo>
                  <a:lnTo>
                    <a:pt x="2292" y="361"/>
                  </a:lnTo>
                  <a:lnTo>
                    <a:pt x="2269" y="385"/>
                  </a:lnTo>
                  <a:lnTo>
                    <a:pt x="2242" y="404"/>
                  </a:lnTo>
                  <a:lnTo>
                    <a:pt x="2177" y="424"/>
                  </a:lnTo>
                  <a:lnTo>
                    <a:pt x="2105" y="433"/>
                  </a:lnTo>
                  <a:lnTo>
                    <a:pt x="1968" y="413"/>
                  </a:lnTo>
                  <a:lnTo>
                    <a:pt x="1916" y="377"/>
                  </a:lnTo>
                  <a:lnTo>
                    <a:pt x="1873" y="327"/>
                  </a:lnTo>
                  <a:lnTo>
                    <a:pt x="1829" y="275"/>
                  </a:lnTo>
                  <a:lnTo>
                    <a:pt x="1804" y="255"/>
                  </a:lnTo>
                  <a:lnTo>
                    <a:pt x="1776" y="239"/>
                  </a:lnTo>
                  <a:lnTo>
                    <a:pt x="1704" y="224"/>
                  </a:lnTo>
                  <a:lnTo>
                    <a:pt x="1621" y="221"/>
                  </a:lnTo>
                  <a:lnTo>
                    <a:pt x="1465" y="184"/>
                  </a:lnTo>
                  <a:lnTo>
                    <a:pt x="1406" y="131"/>
                  </a:lnTo>
                  <a:lnTo>
                    <a:pt x="1357" y="73"/>
                  </a:lnTo>
                  <a:lnTo>
                    <a:pt x="1317" y="25"/>
                  </a:lnTo>
                  <a:lnTo>
                    <a:pt x="1298" y="8"/>
                  </a:lnTo>
                  <a:lnTo>
                    <a:pt x="1282" y="0"/>
                  </a:lnTo>
                  <a:lnTo>
                    <a:pt x="1248" y="10"/>
                  </a:lnTo>
                  <a:lnTo>
                    <a:pt x="1217" y="47"/>
                  </a:lnTo>
                  <a:lnTo>
                    <a:pt x="1171" y="137"/>
                  </a:lnTo>
                  <a:lnTo>
                    <a:pt x="1145" y="193"/>
                  </a:lnTo>
                  <a:lnTo>
                    <a:pt x="1080" y="247"/>
                  </a:lnTo>
                  <a:lnTo>
                    <a:pt x="1050" y="270"/>
                  </a:lnTo>
                  <a:lnTo>
                    <a:pt x="1013" y="293"/>
                  </a:lnTo>
                  <a:lnTo>
                    <a:pt x="972" y="318"/>
                  </a:lnTo>
                  <a:lnTo>
                    <a:pt x="925" y="345"/>
                  </a:lnTo>
                  <a:lnTo>
                    <a:pt x="875" y="370"/>
                  </a:lnTo>
                  <a:lnTo>
                    <a:pt x="820" y="392"/>
                  </a:lnTo>
                  <a:lnTo>
                    <a:pt x="764" y="410"/>
                  </a:lnTo>
                  <a:lnTo>
                    <a:pt x="705" y="421"/>
                  </a:lnTo>
                  <a:lnTo>
                    <a:pt x="463" y="424"/>
                  </a:lnTo>
                  <a:lnTo>
                    <a:pt x="239" y="439"/>
                  </a:lnTo>
                  <a:lnTo>
                    <a:pt x="143" y="485"/>
                  </a:lnTo>
                  <a:lnTo>
                    <a:pt x="68" y="542"/>
                  </a:lnTo>
                  <a:lnTo>
                    <a:pt x="19" y="593"/>
                  </a:lnTo>
                  <a:lnTo>
                    <a:pt x="0" y="613"/>
                  </a:lnTo>
                  <a:lnTo>
                    <a:pt x="0" y="613"/>
                  </a:lnTo>
                  <a:close/>
                </a:path>
              </a:pathLst>
            </a:custGeom>
            <a:solidFill>
              <a:srgbClr val="a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4845240" y="3430080"/>
              <a:ext cx="1528200" cy="417240"/>
            </a:xfrm>
            <a:custGeom>
              <a:avLst/>
              <a:gdLst/>
              <a:ahLst/>
              <a:rect l="l" t="t" r="r" b="b"/>
              <a:pathLst>
                <a:path w="4302" h="1175">
                  <a:moveTo>
                    <a:pt x="0" y="150"/>
                  </a:moveTo>
                  <a:lnTo>
                    <a:pt x="19" y="314"/>
                  </a:lnTo>
                  <a:lnTo>
                    <a:pt x="47" y="357"/>
                  </a:lnTo>
                  <a:lnTo>
                    <a:pt x="81" y="395"/>
                  </a:lnTo>
                  <a:lnTo>
                    <a:pt x="128" y="434"/>
                  </a:lnTo>
                  <a:lnTo>
                    <a:pt x="187" y="465"/>
                  </a:lnTo>
                  <a:lnTo>
                    <a:pt x="256" y="494"/>
                  </a:lnTo>
                  <a:lnTo>
                    <a:pt x="335" y="532"/>
                  </a:lnTo>
                  <a:lnTo>
                    <a:pt x="376" y="558"/>
                  </a:lnTo>
                  <a:lnTo>
                    <a:pt x="420" y="590"/>
                  </a:lnTo>
                  <a:lnTo>
                    <a:pt x="467" y="628"/>
                  </a:lnTo>
                  <a:lnTo>
                    <a:pt x="517" y="671"/>
                  </a:lnTo>
                  <a:lnTo>
                    <a:pt x="575" y="720"/>
                  </a:lnTo>
                  <a:lnTo>
                    <a:pt x="643" y="770"/>
                  </a:lnTo>
                  <a:lnTo>
                    <a:pt x="681" y="796"/>
                  </a:lnTo>
                  <a:lnTo>
                    <a:pt x="722" y="823"/>
                  </a:lnTo>
                  <a:lnTo>
                    <a:pt x="768" y="850"/>
                  </a:lnTo>
                  <a:lnTo>
                    <a:pt x="817" y="875"/>
                  </a:lnTo>
                  <a:lnTo>
                    <a:pt x="870" y="901"/>
                  </a:lnTo>
                  <a:lnTo>
                    <a:pt x="929" y="926"/>
                  </a:lnTo>
                  <a:lnTo>
                    <a:pt x="992" y="951"/>
                  </a:lnTo>
                  <a:lnTo>
                    <a:pt x="1062" y="975"/>
                  </a:lnTo>
                  <a:lnTo>
                    <a:pt x="1135" y="997"/>
                  </a:lnTo>
                  <a:lnTo>
                    <a:pt x="1214" y="1018"/>
                  </a:lnTo>
                  <a:lnTo>
                    <a:pt x="1296" y="1038"/>
                  </a:lnTo>
                  <a:lnTo>
                    <a:pt x="1379" y="1057"/>
                  </a:lnTo>
                  <a:lnTo>
                    <a:pt x="1463" y="1075"/>
                  </a:lnTo>
                  <a:lnTo>
                    <a:pt x="1547" y="1091"/>
                  </a:lnTo>
                  <a:lnTo>
                    <a:pt x="1708" y="1121"/>
                  </a:lnTo>
                  <a:lnTo>
                    <a:pt x="1849" y="1144"/>
                  </a:lnTo>
                  <a:lnTo>
                    <a:pt x="1964" y="1162"/>
                  </a:lnTo>
                  <a:lnTo>
                    <a:pt x="2068" y="1175"/>
                  </a:lnTo>
                  <a:lnTo>
                    <a:pt x="3247" y="1066"/>
                  </a:lnTo>
                  <a:lnTo>
                    <a:pt x="3851" y="627"/>
                  </a:lnTo>
                  <a:lnTo>
                    <a:pt x="3895" y="578"/>
                  </a:lnTo>
                  <a:lnTo>
                    <a:pt x="3942" y="527"/>
                  </a:lnTo>
                  <a:lnTo>
                    <a:pt x="3969" y="496"/>
                  </a:lnTo>
                  <a:lnTo>
                    <a:pt x="3997" y="463"/>
                  </a:lnTo>
                  <a:lnTo>
                    <a:pt x="4028" y="431"/>
                  </a:lnTo>
                  <a:lnTo>
                    <a:pt x="4057" y="397"/>
                  </a:lnTo>
                  <a:lnTo>
                    <a:pt x="4087" y="363"/>
                  </a:lnTo>
                  <a:lnTo>
                    <a:pt x="4116" y="330"/>
                  </a:lnTo>
                  <a:lnTo>
                    <a:pt x="4143" y="299"/>
                  </a:lnTo>
                  <a:lnTo>
                    <a:pt x="4168" y="270"/>
                  </a:lnTo>
                  <a:lnTo>
                    <a:pt x="4207" y="223"/>
                  </a:lnTo>
                  <a:lnTo>
                    <a:pt x="4237" y="186"/>
                  </a:lnTo>
                  <a:lnTo>
                    <a:pt x="4262" y="152"/>
                  </a:lnTo>
                  <a:lnTo>
                    <a:pt x="4295" y="96"/>
                  </a:lnTo>
                  <a:lnTo>
                    <a:pt x="4302" y="52"/>
                  </a:lnTo>
                  <a:lnTo>
                    <a:pt x="4281" y="22"/>
                  </a:lnTo>
                  <a:lnTo>
                    <a:pt x="4231" y="6"/>
                  </a:lnTo>
                  <a:lnTo>
                    <a:pt x="4162" y="0"/>
                  </a:lnTo>
                  <a:lnTo>
                    <a:pt x="4016" y="22"/>
                  </a:lnTo>
                  <a:lnTo>
                    <a:pt x="3915" y="74"/>
                  </a:lnTo>
                  <a:lnTo>
                    <a:pt x="3876" y="112"/>
                  </a:lnTo>
                  <a:lnTo>
                    <a:pt x="3833" y="159"/>
                  </a:lnTo>
                  <a:lnTo>
                    <a:pt x="3780" y="214"/>
                  </a:lnTo>
                  <a:lnTo>
                    <a:pt x="3747" y="242"/>
                  </a:lnTo>
                  <a:lnTo>
                    <a:pt x="3712" y="271"/>
                  </a:lnTo>
                  <a:lnTo>
                    <a:pt x="3672" y="298"/>
                  </a:lnTo>
                  <a:lnTo>
                    <a:pt x="3628" y="322"/>
                  </a:lnTo>
                  <a:lnTo>
                    <a:pt x="3578" y="344"/>
                  </a:lnTo>
                  <a:lnTo>
                    <a:pt x="3522" y="360"/>
                  </a:lnTo>
                  <a:lnTo>
                    <a:pt x="3395" y="382"/>
                  </a:lnTo>
                  <a:lnTo>
                    <a:pt x="3259" y="397"/>
                  </a:lnTo>
                  <a:lnTo>
                    <a:pt x="3028" y="442"/>
                  </a:lnTo>
                  <a:lnTo>
                    <a:pt x="2960" y="494"/>
                  </a:lnTo>
                  <a:lnTo>
                    <a:pt x="2923" y="555"/>
                  </a:lnTo>
                  <a:lnTo>
                    <a:pt x="2890" y="636"/>
                  </a:lnTo>
                  <a:lnTo>
                    <a:pt x="2849" y="596"/>
                  </a:lnTo>
                  <a:lnTo>
                    <a:pt x="2808" y="553"/>
                  </a:lnTo>
                  <a:lnTo>
                    <a:pt x="2778" y="534"/>
                  </a:lnTo>
                  <a:lnTo>
                    <a:pt x="2744" y="516"/>
                  </a:lnTo>
                  <a:lnTo>
                    <a:pt x="2656" y="497"/>
                  </a:lnTo>
                  <a:lnTo>
                    <a:pt x="2556" y="496"/>
                  </a:lnTo>
                  <a:lnTo>
                    <a:pt x="2454" y="512"/>
                  </a:lnTo>
                  <a:lnTo>
                    <a:pt x="2368" y="544"/>
                  </a:lnTo>
                  <a:lnTo>
                    <a:pt x="2273" y="633"/>
                  </a:lnTo>
                  <a:lnTo>
                    <a:pt x="2252" y="668"/>
                  </a:lnTo>
                  <a:lnTo>
                    <a:pt x="2242" y="681"/>
                  </a:lnTo>
                  <a:lnTo>
                    <a:pt x="2218" y="625"/>
                  </a:lnTo>
                  <a:lnTo>
                    <a:pt x="2193" y="578"/>
                  </a:lnTo>
                  <a:lnTo>
                    <a:pt x="2174" y="555"/>
                  </a:lnTo>
                  <a:lnTo>
                    <a:pt x="2150" y="534"/>
                  </a:lnTo>
                  <a:lnTo>
                    <a:pt x="2119" y="518"/>
                  </a:lnTo>
                  <a:lnTo>
                    <a:pt x="2082" y="506"/>
                  </a:lnTo>
                  <a:lnTo>
                    <a:pt x="1998" y="497"/>
                  </a:lnTo>
                  <a:lnTo>
                    <a:pt x="1908" y="506"/>
                  </a:lnTo>
                  <a:lnTo>
                    <a:pt x="1820" y="534"/>
                  </a:lnTo>
                  <a:lnTo>
                    <a:pt x="1780" y="556"/>
                  </a:lnTo>
                  <a:lnTo>
                    <a:pt x="1745" y="581"/>
                  </a:lnTo>
                  <a:lnTo>
                    <a:pt x="1686" y="631"/>
                  </a:lnTo>
                  <a:lnTo>
                    <a:pt x="1647" y="670"/>
                  </a:lnTo>
                  <a:lnTo>
                    <a:pt x="1637" y="681"/>
                  </a:lnTo>
                  <a:lnTo>
                    <a:pt x="1653" y="653"/>
                  </a:lnTo>
                  <a:lnTo>
                    <a:pt x="1674" y="599"/>
                  </a:lnTo>
                  <a:lnTo>
                    <a:pt x="1678" y="568"/>
                  </a:lnTo>
                  <a:lnTo>
                    <a:pt x="1675" y="535"/>
                  </a:lnTo>
                  <a:lnTo>
                    <a:pt x="1659" y="506"/>
                  </a:lnTo>
                  <a:lnTo>
                    <a:pt x="1628" y="479"/>
                  </a:lnTo>
                  <a:lnTo>
                    <a:pt x="1581" y="460"/>
                  </a:lnTo>
                  <a:lnTo>
                    <a:pt x="1519" y="445"/>
                  </a:lnTo>
                  <a:lnTo>
                    <a:pt x="1367" y="432"/>
                  </a:lnTo>
                  <a:lnTo>
                    <a:pt x="1062" y="442"/>
                  </a:lnTo>
                  <a:lnTo>
                    <a:pt x="891" y="472"/>
                  </a:lnTo>
                  <a:lnTo>
                    <a:pt x="786" y="479"/>
                  </a:lnTo>
                  <a:lnTo>
                    <a:pt x="637" y="438"/>
                  </a:lnTo>
                  <a:lnTo>
                    <a:pt x="588" y="419"/>
                  </a:lnTo>
                  <a:lnTo>
                    <a:pt x="534" y="397"/>
                  </a:lnTo>
                  <a:lnTo>
                    <a:pt x="475" y="370"/>
                  </a:lnTo>
                  <a:lnTo>
                    <a:pt x="411" y="342"/>
                  </a:lnTo>
                  <a:lnTo>
                    <a:pt x="343" y="311"/>
                  </a:lnTo>
                  <a:lnTo>
                    <a:pt x="273" y="279"/>
                  </a:lnTo>
                  <a:lnTo>
                    <a:pt x="203" y="246"/>
                  </a:lnTo>
                  <a:lnTo>
                    <a:pt x="138" y="215"/>
                  </a:lnTo>
                  <a:lnTo>
                    <a:pt x="84" y="190"/>
                  </a:lnTo>
                  <a:lnTo>
                    <a:pt x="40" y="170"/>
                  </a:lnTo>
                  <a:lnTo>
                    <a:pt x="0" y="150"/>
                  </a:lnTo>
                  <a:lnTo>
                    <a:pt x="0" y="15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4892760" y="3574800"/>
              <a:ext cx="1406880" cy="313200"/>
            </a:xfrm>
            <a:custGeom>
              <a:avLst/>
              <a:gdLst/>
              <a:ahLst/>
              <a:rect l="l" t="t" r="r" b="b"/>
              <a:pathLst>
                <a:path w="3960" h="882">
                  <a:moveTo>
                    <a:pt x="65" y="39"/>
                  </a:moveTo>
                  <a:lnTo>
                    <a:pt x="171" y="41"/>
                  </a:lnTo>
                  <a:lnTo>
                    <a:pt x="291" y="63"/>
                  </a:lnTo>
                  <a:lnTo>
                    <a:pt x="419" y="104"/>
                  </a:lnTo>
                  <a:lnTo>
                    <a:pt x="485" y="128"/>
                  </a:lnTo>
                  <a:lnTo>
                    <a:pt x="552" y="156"/>
                  </a:lnTo>
                  <a:lnTo>
                    <a:pt x="618" y="185"/>
                  </a:lnTo>
                  <a:lnTo>
                    <a:pt x="683" y="215"/>
                  </a:lnTo>
                  <a:lnTo>
                    <a:pt x="746" y="246"/>
                  </a:lnTo>
                  <a:lnTo>
                    <a:pt x="808" y="275"/>
                  </a:lnTo>
                  <a:lnTo>
                    <a:pt x="866" y="305"/>
                  </a:lnTo>
                  <a:lnTo>
                    <a:pt x="920" y="333"/>
                  </a:lnTo>
                  <a:lnTo>
                    <a:pt x="972" y="358"/>
                  </a:lnTo>
                  <a:lnTo>
                    <a:pt x="1018" y="382"/>
                  </a:lnTo>
                  <a:lnTo>
                    <a:pt x="1062" y="402"/>
                  </a:lnTo>
                  <a:lnTo>
                    <a:pt x="1105" y="420"/>
                  </a:lnTo>
                  <a:lnTo>
                    <a:pt x="1186" y="452"/>
                  </a:lnTo>
                  <a:lnTo>
                    <a:pt x="1264" y="476"/>
                  </a:lnTo>
                  <a:lnTo>
                    <a:pt x="1339" y="494"/>
                  </a:lnTo>
                  <a:lnTo>
                    <a:pt x="1481" y="514"/>
                  </a:lnTo>
                  <a:lnTo>
                    <a:pt x="1618" y="517"/>
                  </a:lnTo>
                  <a:lnTo>
                    <a:pt x="1897" y="497"/>
                  </a:lnTo>
                  <a:lnTo>
                    <a:pt x="2050" y="485"/>
                  </a:lnTo>
                  <a:lnTo>
                    <a:pt x="2220" y="480"/>
                  </a:lnTo>
                  <a:lnTo>
                    <a:pt x="2708" y="474"/>
                  </a:lnTo>
                  <a:lnTo>
                    <a:pt x="2953" y="445"/>
                  </a:lnTo>
                  <a:lnTo>
                    <a:pt x="3068" y="417"/>
                  </a:lnTo>
                  <a:lnTo>
                    <a:pt x="3172" y="377"/>
                  </a:lnTo>
                  <a:lnTo>
                    <a:pt x="3208" y="359"/>
                  </a:lnTo>
                  <a:lnTo>
                    <a:pt x="3258" y="333"/>
                  </a:lnTo>
                  <a:lnTo>
                    <a:pt x="3320" y="300"/>
                  </a:lnTo>
                  <a:lnTo>
                    <a:pt x="3354" y="281"/>
                  </a:lnTo>
                  <a:lnTo>
                    <a:pt x="3391" y="262"/>
                  </a:lnTo>
                  <a:lnTo>
                    <a:pt x="3428" y="241"/>
                  </a:lnTo>
                  <a:lnTo>
                    <a:pt x="3467" y="219"/>
                  </a:lnTo>
                  <a:lnTo>
                    <a:pt x="3507" y="199"/>
                  </a:lnTo>
                  <a:lnTo>
                    <a:pt x="3547" y="177"/>
                  </a:lnTo>
                  <a:lnTo>
                    <a:pt x="3587" y="156"/>
                  </a:lnTo>
                  <a:lnTo>
                    <a:pt x="3627" y="134"/>
                  </a:lnTo>
                  <a:lnTo>
                    <a:pt x="3666" y="115"/>
                  </a:lnTo>
                  <a:lnTo>
                    <a:pt x="3705" y="95"/>
                  </a:lnTo>
                  <a:lnTo>
                    <a:pt x="3742" y="76"/>
                  </a:lnTo>
                  <a:lnTo>
                    <a:pt x="3777" y="60"/>
                  </a:lnTo>
                  <a:lnTo>
                    <a:pt x="3842" y="31"/>
                  </a:lnTo>
                  <a:lnTo>
                    <a:pt x="3895" y="10"/>
                  </a:lnTo>
                  <a:lnTo>
                    <a:pt x="3935" y="0"/>
                  </a:lnTo>
                  <a:lnTo>
                    <a:pt x="3957" y="1"/>
                  </a:lnTo>
                  <a:lnTo>
                    <a:pt x="3960" y="16"/>
                  </a:lnTo>
                  <a:lnTo>
                    <a:pt x="3941" y="48"/>
                  </a:lnTo>
                  <a:lnTo>
                    <a:pt x="3897" y="97"/>
                  </a:lnTo>
                  <a:lnTo>
                    <a:pt x="3861" y="134"/>
                  </a:lnTo>
                  <a:lnTo>
                    <a:pt x="3827" y="169"/>
                  </a:lnTo>
                  <a:lnTo>
                    <a:pt x="3792" y="208"/>
                  </a:lnTo>
                  <a:lnTo>
                    <a:pt x="3758" y="246"/>
                  </a:lnTo>
                  <a:lnTo>
                    <a:pt x="3724" y="284"/>
                  </a:lnTo>
                  <a:lnTo>
                    <a:pt x="3689" y="321"/>
                  </a:lnTo>
                  <a:lnTo>
                    <a:pt x="3655" y="359"/>
                  </a:lnTo>
                  <a:lnTo>
                    <a:pt x="3619" y="396"/>
                  </a:lnTo>
                  <a:lnTo>
                    <a:pt x="3582" y="433"/>
                  </a:lnTo>
                  <a:lnTo>
                    <a:pt x="3546" y="469"/>
                  </a:lnTo>
                  <a:lnTo>
                    <a:pt x="3509" y="502"/>
                  </a:lnTo>
                  <a:lnTo>
                    <a:pt x="3469" y="533"/>
                  </a:lnTo>
                  <a:lnTo>
                    <a:pt x="3429" y="564"/>
                  </a:lnTo>
                  <a:lnTo>
                    <a:pt x="3388" y="592"/>
                  </a:lnTo>
                  <a:lnTo>
                    <a:pt x="3345" y="618"/>
                  </a:lnTo>
                  <a:lnTo>
                    <a:pt x="3299" y="641"/>
                  </a:lnTo>
                  <a:lnTo>
                    <a:pt x="3245" y="666"/>
                  </a:lnTo>
                  <a:lnTo>
                    <a:pt x="3184" y="690"/>
                  </a:lnTo>
                  <a:lnTo>
                    <a:pt x="3121" y="713"/>
                  </a:lnTo>
                  <a:lnTo>
                    <a:pt x="3053" y="735"/>
                  </a:lnTo>
                  <a:lnTo>
                    <a:pt x="2984" y="755"/>
                  </a:lnTo>
                  <a:lnTo>
                    <a:pt x="2908" y="774"/>
                  </a:lnTo>
                  <a:lnTo>
                    <a:pt x="2833" y="792"/>
                  </a:lnTo>
                  <a:lnTo>
                    <a:pt x="2754" y="808"/>
                  </a:lnTo>
                  <a:lnTo>
                    <a:pt x="2590" y="836"/>
                  </a:lnTo>
                  <a:lnTo>
                    <a:pt x="2420" y="858"/>
                  </a:lnTo>
                  <a:lnTo>
                    <a:pt x="2246" y="873"/>
                  </a:lnTo>
                  <a:lnTo>
                    <a:pt x="2071" y="882"/>
                  </a:lnTo>
                  <a:lnTo>
                    <a:pt x="1723" y="874"/>
                  </a:lnTo>
                  <a:lnTo>
                    <a:pt x="1394" y="834"/>
                  </a:lnTo>
                  <a:lnTo>
                    <a:pt x="1243" y="799"/>
                  </a:lnTo>
                  <a:lnTo>
                    <a:pt x="1173" y="778"/>
                  </a:lnTo>
                  <a:lnTo>
                    <a:pt x="1105" y="756"/>
                  </a:lnTo>
                  <a:lnTo>
                    <a:pt x="1041" y="730"/>
                  </a:lnTo>
                  <a:lnTo>
                    <a:pt x="981" y="702"/>
                  </a:lnTo>
                  <a:lnTo>
                    <a:pt x="925" y="671"/>
                  </a:lnTo>
                  <a:lnTo>
                    <a:pt x="872" y="638"/>
                  </a:lnTo>
                  <a:lnTo>
                    <a:pt x="845" y="618"/>
                  </a:lnTo>
                  <a:lnTo>
                    <a:pt x="817" y="598"/>
                  </a:lnTo>
                  <a:lnTo>
                    <a:pt x="792" y="579"/>
                  </a:lnTo>
                  <a:lnTo>
                    <a:pt x="765" y="560"/>
                  </a:lnTo>
                  <a:lnTo>
                    <a:pt x="740" y="542"/>
                  </a:lnTo>
                  <a:lnTo>
                    <a:pt x="717" y="525"/>
                  </a:lnTo>
                  <a:lnTo>
                    <a:pt x="668" y="488"/>
                  </a:lnTo>
                  <a:lnTo>
                    <a:pt x="621" y="454"/>
                  </a:lnTo>
                  <a:lnTo>
                    <a:pt x="575" y="421"/>
                  </a:lnTo>
                  <a:lnTo>
                    <a:pt x="529" y="389"/>
                  </a:lnTo>
                  <a:lnTo>
                    <a:pt x="484" y="358"/>
                  </a:lnTo>
                  <a:lnTo>
                    <a:pt x="437" y="328"/>
                  </a:lnTo>
                  <a:lnTo>
                    <a:pt x="389" y="300"/>
                  </a:lnTo>
                  <a:lnTo>
                    <a:pt x="341" y="272"/>
                  </a:lnTo>
                  <a:lnTo>
                    <a:pt x="289" y="247"/>
                  </a:lnTo>
                  <a:lnTo>
                    <a:pt x="236" y="222"/>
                  </a:lnTo>
                  <a:lnTo>
                    <a:pt x="178" y="199"/>
                  </a:lnTo>
                  <a:lnTo>
                    <a:pt x="119" y="177"/>
                  </a:lnTo>
                  <a:lnTo>
                    <a:pt x="56" y="157"/>
                  </a:lnTo>
                  <a:lnTo>
                    <a:pt x="13" y="131"/>
                  </a:lnTo>
                  <a:lnTo>
                    <a:pt x="0" y="94"/>
                  </a:lnTo>
                  <a:lnTo>
                    <a:pt x="18" y="59"/>
                  </a:lnTo>
                  <a:lnTo>
                    <a:pt x="38" y="47"/>
                  </a:lnTo>
                  <a:lnTo>
                    <a:pt x="65" y="39"/>
                  </a:lnTo>
                  <a:lnTo>
                    <a:pt x="6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4908960" y="3243960"/>
              <a:ext cx="1362240" cy="282960"/>
            </a:xfrm>
            <a:custGeom>
              <a:avLst/>
              <a:gdLst/>
              <a:ahLst/>
              <a:rect l="l" t="t" r="r" b="b"/>
              <a:pathLst>
                <a:path w="3833" h="800">
                  <a:moveTo>
                    <a:pt x="1503" y="61"/>
                  </a:moveTo>
                  <a:lnTo>
                    <a:pt x="1525" y="113"/>
                  </a:lnTo>
                  <a:lnTo>
                    <a:pt x="1546" y="159"/>
                  </a:lnTo>
                  <a:lnTo>
                    <a:pt x="1568" y="200"/>
                  </a:lnTo>
                  <a:lnTo>
                    <a:pt x="1589" y="237"/>
                  </a:lnTo>
                  <a:lnTo>
                    <a:pt x="1612" y="269"/>
                  </a:lnTo>
                  <a:lnTo>
                    <a:pt x="1636" y="300"/>
                  </a:lnTo>
                  <a:lnTo>
                    <a:pt x="1687" y="351"/>
                  </a:lnTo>
                  <a:lnTo>
                    <a:pt x="1752" y="383"/>
                  </a:lnTo>
                  <a:lnTo>
                    <a:pt x="1795" y="410"/>
                  </a:lnTo>
                  <a:lnTo>
                    <a:pt x="1841" y="439"/>
                  </a:lnTo>
                  <a:lnTo>
                    <a:pt x="1888" y="470"/>
                  </a:lnTo>
                  <a:lnTo>
                    <a:pt x="1932" y="498"/>
                  </a:lnTo>
                  <a:lnTo>
                    <a:pt x="1974" y="522"/>
                  </a:lnTo>
                  <a:lnTo>
                    <a:pt x="2007" y="536"/>
                  </a:lnTo>
                  <a:lnTo>
                    <a:pt x="2152" y="544"/>
                  </a:lnTo>
                  <a:lnTo>
                    <a:pt x="2372" y="491"/>
                  </a:lnTo>
                  <a:lnTo>
                    <a:pt x="2388" y="479"/>
                  </a:lnTo>
                  <a:lnTo>
                    <a:pt x="2445" y="445"/>
                  </a:lnTo>
                  <a:lnTo>
                    <a:pt x="2502" y="412"/>
                  </a:lnTo>
                  <a:lnTo>
                    <a:pt x="2556" y="382"/>
                  </a:lnTo>
                  <a:lnTo>
                    <a:pt x="2611" y="349"/>
                  </a:lnTo>
                  <a:lnTo>
                    <a:pt x="2662" y="315"/>
                  </a:lnTo>
                  <a:lnTo>
                    <a:pt x="2712" y="278"/>
                  </a:lnTo>
                  <a:lnTo>
                    <a:pt x="2761" y="234"/>
                  </a:lnTo>
                  <a:lnTo>
                    <a:pt x="2808" y="184"/>
                  </a:lnTo>
                  <a:lnTo>
                    <a:pt x="2855" y="120"/>
                  </a:lnTo>
                  <a:lnTo>
                    <a:pt x="2878" y="90"/>
                  </a:lnTo>
                  <a:lnTo>
                    <a:pt x="2901" y="60"/>
                  </a:lnTo>
                  <a:lnTo>
                    <a:pt x="2922" y="42"/>
                  </a:lnTo>
                  <a:lnTo>
                    <a:pt x="2944" y="33"/>
                  </a:lnTo>
                  <a:lnTo>
                    <a:pt x="2984" y="42"/>
                  </a:lnTo>
                  <a:lnTo>
                    <a:pt x="3006" y="75"/>
                  </a:lnTo>
                  <a:lnTo>
                    <a:pt x="3000" y="123"/>
                  </a:lnTo>
                  <a:lnTo>
                    <a:pt x="2971" y="190"/>
                  </a:lnTo>
                  <a:lnTo>
                    <a:pt x="2942" y="252"/>
                  </a:lnTo>
                  <a:lnTo>
                    <a:pt x="2925" y="281"/>
                  </a:lnTo>
                  <a:lnTo>
                    <a:pt x="2901" y="312"/>
                  </a:lnTo>
                  <a:lnTo>
                    <a:pt x="2872" y="343"/>
                  </a:lnTo>
                  <a:lnTo>
                    <a:pt x="2833" y="376"/>
                  </a:lnTo>
                  <a:lnTo>
                    <a:pt x="2972" y="398"/>
                  </a:lnTo>
                  <a:lnTo>
                    <a:pt x="3031" y="420"/>
                  </a:lnTo>
                  <a:lnTo>
                    <a:pt x="3089" y="443"/>
                  </a:lnTo>
                  <a:lnTo>
                    <a:pt x="3147" y="467"/>
                  </a:lnTo>
                  <a:lnTo>
                    <a:pt x="3211" y="489"/>
                  </a:lnTo>
                  <a:lnTo>
                    <a:pt x="3283" y="504"/>
                  </a:lnTo>
                  <a:lnTo>
                    <a:pt x="3367" y="510"/>
                  </a:lnTo>
                  <a:lnTo>
                    <a:pt x="3673" y="519"/>
                  </a:lnTo>
                  <a:lnTo>
                    <a:pt x="3814" y="551"/>
                  </a:lnTo>
                  <a:lnTo>
                    <a:pt x="3833" y="581"/>
                  </a:lnTo>
                  <a:lnTo>
                    <a:pt x="3823" y="598"/>
                  </a:lnTo>
                  <a:lnTo>
                    <a:pt x="3799" y="620"/>
                  </a:lnTo>
                  <a:lnTo>
                    <a:pt x="3770" y="641"/>
                  </a:lnTo>
                  <a:lnTo>
                    <a:pt x="3742" y="660"/>
                  </a:lnTo>
                  <a:lnTo>
                    <a:pt x="3714" y="679"/>
                  </a:lnTo>
                  <a:lnTo>
                    <a:pt x="3686" y="696"/>
                  </a:lnTo>
                  <a:lnTo>
                    <a:pt x="3633" y="724"/>
                  </a:lnTo>
                  <a:lnTo>
                    <a:pt x="3581" y="749"/>
                  </a:lnTo>
                  <a:lnTo>
                    <a:pt x="3531" y="768"/>
                  </a:lnTo>
                  <a:lnTo>
                    <a:pt x="3482" y="783"/>
                  </a:lnTo>
                  <a:lnTo>
                    <a:pt x="3391" y="800"/>
                  </a:lnTo>
                  <a:lnTo>
                    <a:pt x="3224" y="796"/>
                  </a:lnTo>
                  <a:lnTo>
                    <a:pt x="3075" y="759"/>
                  </a:lnTo>
                  <a:lnTo>
                    <a:pt x="3007" y="733"/>
                  </a:lnTo>
                  <a:lnTo>
                    <a:pt x="2941" y="706"/>
                  </a:lnTo>
                  <a:lnTo>
                    <a:pt x="2876" y="682"/>
                  </a:lnTo>
                  <a:lnTo>
                    <a:pt x="2813" y="662"/>
                  </a:lnTo>
                  <a:lnTo>
                    <a:pt x="2749" y="647"/>
                  </a:lnTo>
                  <a:lnTo>
                    <a:pt x="2686" y="643"/>
                  </a:lnTo>
                  <a:lnTo>
                    <a:pt x="2558" y="672"/>
                  </a:lnTo>
                  <a:lnTo>
                    <a:pt x="2502" y="697"/>
                  </a:lnTo>
                  <a:lnTo>
                    <a:pt x="2450" y="718"/>
                  </a:lnTo>
                  <a:lnTo>
                    <a:pt x="2400" y="735"/>
                  </a:lnTo>
                  <a:lnTo>
                    <a:pt x="2354" y="752"/>
                  </a:lnTo>
                  <a:lnTo>
                    <a:pt x="2271" y="774"/>
                  </a:lnTo>
                  <a:lnTo>
                    <a:pt x="2198" y="787"/>
                  </a:lnTo>
                  <a:lnTo>
                    <a:pt x="2074" y="790"/>
                  </a:lnTo>
                  <a:lnTo>
                    <a:pt x="1971" y="771"/>
                  </a:lnTo>
                  <a:lnTo>
                    <a:pt x="1873" y="738"/>
                  </a:lnTo>
                  <a:lnTo>
                    <a:pt x="1822" y="722"/>
                  </a:lnTo>
                  <a:lnTo>
                    <a:pt x="1769" y="707"/>
                  </a:lnTo>
                  <a:lnTo>
                    <a:pt x="1645" y="685"/>
                  </a:lnTo>
                  <a:lnTo>
                    <a:pt x="1488" y="685"/>
                  </a:lnTo>
                  <a:lnTo>
                    <a:pt x="1134" y="725"/>
                  </a:lnTo>
                  <a:lnTo>
                    <a:pt x="951" y="750"/>
                  </a:lnTo>
                  <a:lnTo>
                    <a:pt x="769" y="772"/>
                  </a:lnTo>
                  <a:lnTo>
                    <a:pt x="586" y="786"/>
                  </a:lnTo>
                  <a:lnTo>
                    <a:pt x="404" y="787"/>
                  </a:lnTo>
                  <a:lnTo>
                    <a:pt x="226" y="772"/>
                  </a:lnTo>
                  <a:lnTo>
                    <a:pt x="50" y="734"/>
                  </a:lnTo>
                  <a:lnTo>
                    <a:pt x="9" y="706"/>
                  </a:lnTo>
                  <a:lnTo>
                    <a:pt x="0" y="668"/>
                  </a:lnTo>
                  <a:lnTo>
                    <a:pt x="21" y="632"/>
                  </a:lnTo>
                  <a:lnTo>
                    <a:pt x="68" y="617"/>
                  </a:lnTo>
                  <a:lnTo>
                    <a:pt x="260" y="612"/>
                  </a:lnTo>
                  <a:lnTo>
                    <a:pt x="437" y="588"/>
                  </a:lnTo>
                  <a:lnTo>
                    <a:pt x="602" y="554"/>
                  </a:lnTo>
                  <a:lnTo>
                    <a:pt x="680" y="533"/>
                  </a:lnTo>
                  <a:lnTo>
                    <a:pt x="758" y="511"/>
                  </a:lnTo>
                  <a:lnTo>
                    <a:pt x="835" y="489"/>
                  </a:lnTo>
                  <a:lnTo>
                    <a:pt x="910" y="466"/>
                  </a:lnTo>
                  <a:lnTo>
                    <a:pt x="985" y="443"/>
                  </a:lnTo>
                  <a:lnTo>
                    <a:pt x="1061" y="421"/>
                  </a:lnTo>
                  <a:lnTo>
                    <a:pt x="1137" y="401"/>
                  </a:lnTo>
                  <a:lnTo>
                    <a:pt x="1215" y="382"/>
                  </a:lnTo>
                  <a:lnTo>
                    <a:pt x="1294" y="365"/>
                  </a:lnTo>
                  <a:lnTo>
                    <a:pt x="1375" y="351"/>
                  </a:lnTo>
                  <a:lnTo>
                    <a:pt x="1344" y="230"/>
                  </a:lnTo>
                  <a:lnTo>
                    <a:pt x="1317" y="123"/>
                  </a:lnTo>
                  <a:lnTo>
                    <a:pt x="1314" y="79"/>
                  </a:lnTo>
                  <a:lnTo>
                    <a:pt x="1325" y="44"/>
                  </a:lnTo>
                  <a:lnTo>
                    <a:pt x="1348" y="16"/>
                  </a:lnTo>
                  <a:lnTo>
                    <a:pt x="1379" y="0"/>
                  </a:lnTo>
                  <a:lnTo>
                    <a:pt x="1448" y="2"/>
                  </a:lnTo>
                  <a:lnTo>
                    <a:pt x="1503" y="61"/>
                  </a:lnTo>
                  <a:lnTo>
                    <a:pt x="150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4809960" y="2974320"/>
              <a:ext cx="1572120" cy="444960"/>
            </a:xfrm>
            <a:custGeom>
              <a:avLst/>
              <a:gdLst/>
              <a:ahLst/>
              <a:rect l="l" t="t" r="r" b="b"/>
              <a:pathLst>
                <a:path w="4424" h="1254">
                  <a:moveTo>
                    <a:pt x="2644" y="170"/>
                  </a:moveTo>
                  <a:lnTo>
                    <a:pt x="2712" y="136"/>
                  </a:lnTo>
                  <a:lnTo>
                    <a:pt x="2776" y="108"/>
                  </a:lnTo>
                  <a:lnTo>
                    <a:pt x="2833" y="82"/>
                  </a:lnTo>
                  <a:lnTo>
                    <a:pt x="2888" y="59"/>
                  </a:lnTo>
                  <a:lnTo>
                    <a:pt x="2939" y="42"/>
                  </a:lnTo>
                  <a:lnTo>
                    <a:pt x="2987" y="27"/>
                  </a:lnTo>
                  <a:lnTo>
                    <a:pt x="3071" y="6"/>
                  </a:lnTo>
                  <a:lnTo>
                    <a:pt x="3211" y="3"/>
                  </a:lnTo>
                  <a:lnTo>
                    <a:pt x="3324" y="48"/>
                  </a:lnTo>
                  <a:lnTo>
                    <a:pt x="3379" y="85"/>
                  </a:lnTo>
                  <a:lnTo>
                    <a:pt x="3433" y="130"/>
                  </a:lnTo>
                  <a:lnTo>
                    <a:pt x="3491" y="186"/>
                  </a:lnTo>
                  <a:lnTo>
                    <a:pt x="3522" y="217"/>
                  </a:lnTo>
                  <a:lnTo>
                    <a:pt x="3554" y="250"/>
                  </a:lnTo>
                  <a:lnTo>
                    <a:pt x="3588" y="285"/>
                  </a:lnTo>
                  <a:lnTo>
                    <a:pt x="3625" y="322"/>
                  </a:lnTo>
                  <a:lnTo>
                    <a:pt x="3665" y="360"/>
                  </a:lnTo>
                  <a:lnTo>
                    <a:pt x="3706" y="400"/>
                  </a:lnTo>
                  <a:lnTo>
                    <a:pt x="3750" y="441"/>
                  </a:lnTo>
                  <a:lnTo>
                    <a:pt x="3799" y="484"/>
                  </a:lnTo>
                  <a:lnTo>
                    <a:pt x="3851" y="528"/>
                  </a:lnTo>
                  <a:lnTo>
                    <a:pt x="3907" y="574"/>
                  </a:lnTo>
                  <a:lnTo>
                    <a:pt x="3941" y="596"/>
                  </a:lnTo>
                  <a:lnTo>
                    <a:pt x="3978" y="623"/>
                  </a:lnTo>
                  <a:lnTo>
                    <a:pt x="4025" y="655"/>
                  </a:lnTo>
                  <a:lnTo>
                    <a:pt x="4051" y="673"/>
                  </a:lnTo>
                  <a:lnTo>
                    <a:pt x="4078" y="694"/>
                  </a:lnTo>
                  <a:lnTo>
                    <a:pt x="4107" y="714"/>
                  </a:lnTo>
                  <a:lnTo>
                    <a:pt x="4137" y="735"/>
                  </a:lnTo>
                  <a:lnTo>
                    <a:pt x="4166" y="757"/>
                  </a:lnTo>
                  <a:lnTo>
                    <a:pt x="4196" y="779"/>
                  </a:lnTo>
                  <a:lnTo>
                    <a:pt x="4255" y="825"/>
                  </a:lnTo>
                  <a:lnTo>
                    <a:pt x="4308" y="869"/>
                  </a:lnTo>
                  <a:lnTo>
                    <a:pt x="4357" y="910"/>
                  </a:lnTo>
                  <a:lnTo>
                    <a:pt x="4420" y="980"/>
                  </a:lnTo>
                  <a:lnTo>
                    <a:pt x="4424" y="1018"/>
                  </a:lnTo>
                  <a:lnTo>
                    <a:pt x="4346" y="1015"/>
                  </a:lnTo>
                  <a:lnTo>
                    <a:pt x="4264" y="995"/>
                  </a:lnTo>
                  <a:lnTo>
                    <a:pt x="4186" y="972"/>
                  </a:lnTo>
                  <a:lnTo>
                    <a:pt x="4110" y="946"/>
                  </a:lnTo>
                  <a:lnTo>
                    <a:pt x="4041" y="918"/>
                  </a:lnTo>
                  <a:lnTo>
                    <a:pt x="3973" y="888"/>
                  </a:lnTo>
                  <a:lnTo>
                    <a:pt x="3910" y="857"/>
                  </a:lnTo>
                  <a:lnTo>
                    <a:pt x="3848" y="825"/>
                  </a:lnTo>
                  <a:lnTo>
                    <a:pt x="3790" y="792"/>
                  </a:lnTo>
                  <a:lnTo>
                    <a:pt x="3736" y="759"/>
                  </a:lnTo>
                  <a:lnTo>
                    <a:pt x="3683" y="723"/>
                  </a:lnTo>
                  <a:lnTo>
                    <a:pt x="3632" y="689"/>
                  </a:lnTo>
                  <a:lnTo>
                    <a:pt x="3582" y="655"/>
                  </a:lnTo>
                  <a:lnTo>
                    <a:pt x="3537" y="621"/>
                  </a:lnTo>
                  <a:lnTo>
                    <a:pt x="3491" y="587"/>
                  </a:lnTo>
                  <a:lnTo>
                    <a:pt x="3447" y="555"/>
                  </a:lnTo>
                  <a:lnTo>
                    <a:pt x="3402" y="524"/>
                  </a:lnTo>
                  <a:lnTo>
                    <a:pt x="3360" y="495"/>
                  </a:lnTo>
                  <a:lnTo>
                    <a:pt x="3318" y="468"/>
                  </a:lnTo>
                  <a:lnTo>
                    <a:pt x="3276" y="441"/>
                  </a:lnTo>
                  <a:lnTo>
                    <a:pt x="3234" y="419"/>
                  </a:lnTo>
                  <a:lnTo>
                    <a:pt x="3193" y="399"/>
                  </a:lnTo>
                  <a:lnTo>
                    <a:pt x="3150" y="381"/>
                  </a:lnTo>
                  <a:lnTo>
                    <a:pt x="3063" y="356"/>
                  </a:lnTo>
                  <a:lnTo>
                    <a:pt x="2972" y="346"/>
                  </a:lnTo>
                  <a:lnTo>
                    <a:pt x="2874" y="353"/>
                  </a:lnTo>
                  <a:lnTo>
                    <a:pt x="2768" y="381"/>
                  </a:lnTo>
                  <a:lnTo>
                    <a:pt x="2712" y="402"/>
                  </a:lnTo>
                  <a:lnTo>
                    <a:pt x="2653" y="430"/>
                  </a:lnTo>
                  <a:lnTo>
                    <a:pt x="2636" y="459"/>
                  </a:lnTo>
                  <a:lnTo>
                    <a:pt x="2616" y="484"/>
                  </a:lnTo>
                  <a:lnTo>
                    <a:pt x="2578" y="524"/>
                  </a:lnTo>
                  <a:lnTo>
                    <a:pt x="2537" y="548"/>
                  </a:lnTo>
                  <a:lnTo>
                    <a:pt x="2492" y="561"/>
                  </a:lnTo>
                  <a:lnTo>
                    <a:pt x="2395" y="559"/>
                  </a:lnTo>
                  <a:lnTo>
                    <a:pt x="2283" y="533"/>
                  </a:lnTo>
                  <a:lnTo>
                    <a:pt x="2226" y="509"/>
                  </a:lnTo>
                  <a:lnTo>
                    <a:pt x="2168" y="475"/>
                  </a:lnTo>
                  <a:lnTo>
                    <a:pt x="2140" y="455"/>
                  </a:lnTo>
                  <a:lnTo>
                    <a:pt x="2110" y="434"/>
                  </a:lnTo>
                  <a:lnTo>
                    <a:pt x="2054" y="390"/>
                  </a:lnTo>
                  <a:lnTo>
                    <a:pt x="2025" y="369"/>
                  </a:lnTo>
                  <a:lnTo>
                    <a:pt x="1997" y="349"/>
                  </a:lnTo>
                  <a:lnTo>
                    <a:pt x="1967" y="329"/>
                  </a:lnTo>
                  <a:lnTo>
                    <a:pt x="1939" y="313"/>
                  </a:lnTo>
                  <a:lnTo>
                    <a:pt x="1880" y="288"/>
                  </a:lnTo>
                  <a:lnTo>
                    <a:pt x="1821" y="279"/>
                  </a:lnTo>
                  <a:lnTo>
                    <a:pt x="1715" y="297"/>
                  </a:lnTo>
                  <a:lnTo>
                    <a:pt x="1650" y="316"/>
                  </a:lnTo>
                  <a:lnTo>
                    <a:pt x="1577" y="341"/>
                  </a:lnTo>
                  <a:lnTo>
                    <a:pt x="1498" y="374"/>
                  </a:lnTo>
                  <a:lnTo>
                    <a:pt x="1416" y="409"/>
                  </a:lnTo>
                  <a:lnTo>
                    <a:pt x="1375" y="428"/>
                  </a:lnTo>
                  <a:lnTo>
                    <a:pt x="1332" y="449"/>
                  </a:lnTo>
                  <a:lnTo>
                    <a:pt x="1288" y="469"/>
                  </a:lnTo>
                  <a:lnTo>
                    <a:pt x="1245" y="490"/>
                  </a:lnTo>
                  <a:lnTo>
                    <a:pt x="1202" y="512"/>
                  </a:lnTo>
                  <a:lnTo>
                    <a:pt x="1158" y="534"/>
                  </a:lnTo>
                  <a:lnTo>
                    <a:pt x="1116" y="556"/>
                  </a:lnTo>
                  <a:lnTo>
                    <a:pt x="1074" y="579"/>
                  </a:lnTo>
                  <a:lnTo>
                    <a:pt x="1032" y="602"/>
                  </a:lnTo>
                  <a:lnTo>
                    <a:pt x="993" y="624"/>
                  </a:lnTo>
                  <a:lnTo>
                    <a:pt x="953" y="646"/>
                  </a:lnTo>
                  <a:lnTo>
                    <a:pt x="914" y="669"/>
                  </a:lnTo>
                  <a:lnTo>
                    <a:pt x="878" y="691"/>
                  </a:lnTo>
                  <a:lnTo>
                    <a:pt x="844" y="711"/>
                  </a:lnTo>
                  <a:lnTo>
                    <a:pt x="810" y="732"/>
                  </a:lnTo>
                  <a:lnTo>
                    <a:pt x="779" y="751"/>
                  </a:lnTo>
                  <a:lnTo>
                    <a:pt x="723" y="788"/>
                  </a:lnTo>
                  <a:lnTo>
                    <a:pt x="678" y="820"/>
                  </a:lnTo>
                  <a:lnTo>
                    <a:pt x="612" y="875"/>
                  </a:lnTo>
                  <a:lnTo>
                    <a:pt x="577" y="909"/>
                  </a:lnTo>
                  <a:lnTo>
                    <a:pt x="540" y="944"/>
                  </a:lnTo>
                  <a:lnTo>
                    <a:pt x="503" y="980"/>
                  </a:lnTo>
                  <a:lnTo>
                    <a:pt x="465" y="1018"/>
                  </a:lnTo>
                  <a:lnTo>
                    <a:pt x="425" y="1055"/>
                  </a:lnTo>
                  <a:lnTo>
                    <a:pt x="385" y="1092"/>
                  </a:lnTo>
                  <a:lnTo>
                    <a:pt x="344" y="1127"/>
                  </a:lnTo>
                  <a:lnTo>
                    <a:pt x="302" y="1158"/>
                  </a:lnTo>
                  <a:lnTo>
                    <a:pt x="263" y="1188"/>
                  </a:lnTo>
                  <a:lnTo>
                    <a:pt x="221" y="1213"/>
                  </a:lnTo>
                  <a:lnTo>
                    <a:pt x="180" y="1232"/>
                  </a:lnTo>
                  <a:lnTo>
                    <a:pt x="139" y="1247"/>
                  </a:lnTo>
                  <a:lnTo>
                    <a:pt x="59" y="1254"/>
                  </a:lnTo>
                  <a:lnTo>
                    <a:pt x="15" y="1235"/>
                  </a:lnTo>
                  <a:lnTo>
                    <a:pt x="0" y="1197"/>
                  </a:lnTo>
                  <a:lnTo>
                    <a:pt x="10" y="1155"/>
                  </a:lnTo>
                  <a:lnTo>
                    <a:pt x="28" y="1138"/>
                  </a:lnTo>
                  <a:lnTo>
                    <a:pt x="52" y="1127"/>
                  </a:lnTo>
                  <a:lnTo>
                    <a:pt x="128" y="1093"/>
                  </a:lnTo>
                  <a:lnTo>
                    <a:pt x="168" y="1070"/>
                  </a:lnTo>
                  <a:lnTo>
                    <a:pt x="208" y="1043"/>
                  </a:lnTo>
                  <a:lnTo>
                    <a:pt x="249" y="1012"/>
                  </a:lnTo>
                  <a:lnTo>
                    <a:pt x="291" y="977"/>
                  </a:lnTo>
                  <a:lnTo>
                    <a:pt x="333" y="938"/>
                  </a:lnTo>
                  <a:lnTo>
                    <a:pt x="376" y="899"/>
                  </a:lnTo>
                  <a:lnTo>
                    <a:pt x="420" y="856"/>
                  </a:lnTo>
                  <a:lnTo>
                    <a:pt x="466" y="810"/>
                  </a:lnTo>
                  <a:lnTo>
                    <a:pt x="512" y="764"/>
                  </a:lnTo>
                  <a:lnTo>
                    <a:pt x="559" y="716"/>
                  </a:lnTo>
                  <a:lnTo>
                    <a:pt x="608" y="667"/>
                  </a:lnTo>
                  <a:lnTo>
                    <a:pt x="656" y="617"/>
                  </a:lnTo>
                  <a:lnTo>
                    <a:pt x="708" y="567"/>
                  </a:lnTo>
                  <a:lnTo>
                    <a:pt x="760" y="518"/>
                  </a:lnTo>
                  <a:lnTo>
                    <a:pt x="814" y="468"/>
                  </a:lnTo>
                  <a:lnTo>
                    <a:pt x="869" y="419"/>
                  </a:lnTo>
                  <a:lnTo>
                    <a:pt x="926" y="371"/>
                  </a:lnTo>
                  <a:lnTo>
                    <a:pt x="984" y="325"/>
                  </a:lnTo>
                  <a:lnTo>
                    <a:pt x="1013" y="301"/>
                  </a:lnTo>
                  <a:lnTo>
                    <a:pt x="1043" y="279"/>
                  </a:lnTo>
                  <a:lnTo>
                    <a:pt x="1074" y="259"/>
                  </a:lnTo>
                  <a:lnTo>
                    <a:pt x="1105" y="238"/>
                  </a:lnTo>
                  <a:lnTo>
                    <a:pt x="1136" y="217"/>
                  </a:lnTo>
                  <a:lnTo>
                    <a:pt x="1168" y="197"/>
                  </a:lnTo>
                  <a:lnTo>
                    <a:pt x="1199" y="177"/>
                  </a:lnTo>
                  <a:lnTo>
                    <a:pt x="1233" y="160"/>
                  </a:lnTo>
                  <a:lnTo>
                    <a:pt x="1265" y="142"/>
                  </a:lnTo>
                  <a:lnTo>
                    <a:pt x="1299" y="124"/>
                  </a:lnTo>
                  <a:lnTo>
                    <a:pt x="1367" y="95"/>
                  </a:lnTo>
                  <a:lnTo>
                    <a:pt x="1438" y="67"/>
                  </a:lnTo>
                  <a:lnTo>
                    <a:pt x="1510" y="45"/>
                  </a:lnTo>
                  <a:lnTo>
                    <a:pt x="1585" y="26"/>
                  </a:lnTo>
                  <a:lnTo>
                    <a:pt x="1662" y="12"/>
                  </a:lnTo>
                  <a:lnTo>
                    <a:pt x="1821" y="0"/>
                  </a:lnTo>
                  <a:lnTo>
                    <a:pt x="1911" y="26"/>
                  </a:lnTo>
                  <a:lnTo>
                    <a:pt x="1960" y="52"/>
                  </a:lnTo>
                  <a:lnTo>
                    <a:pt x="2012" y="85"/>
                  </a:lnTo>
                  <a:lnTo>
                    <a:pt x="2038" y="104"/>
                  </a:lnTo>
                  <a:lnTo>
                    <a:pt x="2066" y="123"/>
                  </a:lnTo>
                  <a:lnTo>
                    <a:pt x="2093" y="144"/>
                  </a:lnTo>
                  <a:lnTo>
                    <a:pt x="2119" y="163"/>
                  </a:lnTo>
                  <a:lnTo>
                    <a:pt x="2147" y="183"/>
                  </a:lnTo>
                  <a:lnTo>
                    <a:pt x="2175" y="203"/>
                  </a:lnTo>
                  <a:lnTo>
                    <a:pt x="2203" y="222"/>
                  </a:lnTo>
                  <a:lnTo>
                    <a:pt x="2231" y="239"/>
                  </a:lnTo>
                  <a:lnTo>
                    <a:pt x="2287" y="272"/>
                  </a:lnTo>
                  <a:lnTo>
                    <a:pt x="2344" y="297"/>
                  </a:lnTo>
                  <a:lnTo>
                    <a:pt x="2398" y="313"/>
                  </a:lnTo>
                  <a:lnTo>
                    <a:pt x="2451" y="318"/>
                  </a:lnTo>
                  <a:lnTo>
                    <a:pt x="2553" y="281"/>
                  </a:lnTo>
                  <a:lnTo>
                    <a:pt x="2600" y="236"/>
                  </a:lnTo>
                  <a:lnTo>
                    <a:pt x="2644" y="170"/>
                  </a:lnTo>
                  <a:lnTo>
                    <a:pt x="2644"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2" name=""/>
          <p:cNvGrpSpPr/>
          <p:nvPr/>
        </p:nvGrpSpPr>
        <p:grpSpPr>
          <a:xfrm>
            <a:off x="6951600" y="2692440"/>
            <a:ext cx="1531800" cy="1393560"/>
            <a:chOff x="6951600" y="2692440"/>
            <a:chExt cx="1531800" cy="1393560"/>
          </a:xfrm>
        </p:grpSpPr>
        <p:grpSp>
          <p:nvGrpSpPr>
            <p:cNvPr id="1343" name=""/>
            <p:cNvGrpSpPr/>
            <p:nvPr/>
          </p:nvGrpSpPr>
          <p:grpSpPr>
            <a:xfrm>
              <a:off x="6951600" y="2692440"/>
              <a:ext cx="1531800" cy="1393560"/>
              <a:chOff x="6951600" y="2692440"/>
              <a:chExt cx="1531800" cy="1393560"/>
            </a:xfrm>
          </p:grpSpPr>
          <p:sp>
            <p:nvSpPr>
              <p:cNvPr id="1344" name=""/>
              <p:cNvSpPr/>
              <p:nvPr/>
            </p:nvSpPr>
            <p:spPr>
              <a:xfrm>
                <a:off x="6951600" y="2692440"/>
                <a:ext cx="1531800" cy="139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6972120" y="2709720"/>
                <a:ext cx="1494000" cy="1363680"/>
              </a:xfrm>
              <a:custGeom>
                <a:avLst/>
                <a:gdLst/>
                <a:ahLst/>
                <a:rect l="l" t="t" r="r" b="b"/>
                <a:pathLst>
                  <a:path w="2823" h="2579">
                    <a:moveTo>
                      <a:pt x="2789" y="2560"/>
                    </a:moveTo>
                    <a:lnTo>
                      <a:pt x="2703" y="2560"/>
                    </a:lnTo>
                    <a:lnTo>
                      <a:pt x="2617" y="2560"/>
                    </a:lnTo>
                    <a:lnTo>
                      <a:pt x="2531" y="2560"/>
                    </a:lnTo>
                    <a:lnTo>
                      <a:pt x="2444" y="2560"/>
                    </a:lnTo>
                    <a:lnTo>
                      <a:pt x="2359" y="2562"/>
                    </a:lnTo>
                    <a:lnTo>
                      <a:pt x="2272" y="2562"/>
                    </a:lnTo>
                    <a:lnTo>
                      <a:pt x="2186" y="2562"/>
                    </a:lnTo>
                    <a:lnTo>
                      <a:pt x="2100" y="2562"/>
                    </a:lnTo>
                    <a:lnTo>
                      <a:pt x="2013" y="2562"/>
                    </a:lnTo>
                    <a:lnTo>
                      <a:pt x="1928" y="2562"/>
                    </a:lnTo>
                    <a:lnTo>
                      <a:pt x="1841" y="2562"/>
                    </a:lnTo>
                    <a:lnTo>
                      <a:pt x="1754" y="2563"/>
                    </a:lnTo>
                    <a:lnTo>
                      <a:pt x="1667" y="2563"/>
                    </a:lnTo>
                    <a:lnTo>
                      <a:pt x="1582" y="2563"/>
                    </a:lnTo>
                    <a:lnTo>
                      <a:pt x="1495" y="2563"/>
                    </a:lnTo>
                    <a:lnTo>
                      <a:pt x="1409" y="2564"/>
                    </a:lnTo>
                    <a:lnTo>
                      <a:pt x="1322" y="2564"/>
                    </a:lnTo>
                    <a:lnTo>
                      <a:pt x="1236" y="2564"/>
                    </a:lnTo>
                    <a:lnTo>
                      <a:pt x="1150" y="2566"/>
                    </a:lnTo>
                    <a:lnTo>
                      <a:pt x="1063" y="2566"/>
                    </a:lnTo>
                    <a:lnTo>
                      <a:pt x="976" y="2567"/>
                    </a:lnTo>
                    <a:lnTo>
                      <a:pt x="889" y="2567"/>
                    </a:lnTo>
                    <a:lnTo>
                      <a:pt x="803" y="2569"/>
                    </a:lnTo>
                    <a:lnTo>
                      <a:pt x="716" y="2569"/>
                    </a:lnTo>
                    <a:lnTo>
                      <a:pt x="631" y="2570"/>
                    </a:lnTo>
                    <a:lnTo>
                      <a:pt x="544" y="2572"/>
                    </a:lnTo>
                    <a:lnTo>
                      <a:pt x="457" y="2573"/>
                    </a:lnTo>
                    <a:lnTo>
                      <a:pt x="369" y="2573"/>
                    </a:lnTo>
                    <a:lnTo>
                      <a:pt x="282" y="2575"/>
                    </a:lnTo>
                    <a:lnTo>
                      <a:pt x="195" y="2576"/>
                    </a:lnTo>
                    <a:lnTo>
                      <a:pt x="108" y="2577"/>
                    </a:lnTo>
                    <a:lnTo>
                      <a:pt x="22" y="2579"/>
                    </a:lnTo>
                    <a:lnTo>
                      <a:pt x="13" y="2573"/>
                    </a:lnTo>
                    <a:lnTo>
                      <a:pt x="10" y="2398"/>
                    </a:lnTo>
                    <a:lnTo>
                      <a:pt x="10" y="2223"/>
                    </a:lnTo>
                    <a:lnTo>
                      <a:pt x="10" y="2047"/>
                    </a:lnTo>
                    <a:lnTo>
                      <a:pt x="10" y="1871"/>
                    </a:lnTo>
                    <a:lnTo>
                      <a:pt x="4" y="1407"/>
                    </a:lnTo>
                    <a:lnTo>
                      <a:pt x="3" y="948"/>
                    </a:lnTo>
                    <a:lnTo>
                      <a:pt x="1" y="490"/>
                    </a:lnTo>
                    <a:lnTo>
                      <a:pt x="0" y="32"/>
                    </a:lnTo>
                    <a:lnTo>
                      <a:pt x="28" y="17"/>
                    </a:lnTo>
                    <a:lnTo>
                      <a:pt x="78" y="17"/>
                    </a:lnTo>
                    <a:lnTo>
                      <a:pt x="129" y="16"/>
                    </a:lnTo>
                    <a:lnTo>
                      <a:pt x="179" y="16"/>
                    </a:lnTo>
                    <a:lnTo>
                      <a:pt x="230" y="14"/>
                    </a:lnTo>
                    <a:lnTo>
                      <a:pt x="282" y="14"/>
                    </a:lnTo>
                    <a:lnTo>
                      <a:pt x="333" y="14"/>
                    </a:lnTo>
                    <a:lnTo>
                      <a:pt x="383" y="13"/>
                    </a:lnTo>
                    <a:lnTo>
                      <a:pt x="434" y="13"/>
                    </a:lnTo>
                    <a:lnTo>
                      <a:pt x="484" y="13"/>
                    </a:lnTo>
                    <a:lnTo>
                      <a:pt x="535" y="13"/>
                    </a:lnTo>
                    <a:lnTo>
                      <a:pt x="586" y="11"/>
                    </a:lnTo>
                    <a:lnTo>
                      <a:pt x="636" y="11"/>
                    </a:lnTo>
                    <a:lnTo>
                      <a:pt x="687" y="11"/>
                    </a:lnTo>
                    <a:lnTo>
                      <a:pt x="738" y="11"/>
                    </a:lnTo>
                    <a:lnTo>
                      <a:pt x="788" y="10"/>
                    </a:lnTo>
                    <a:lnTo>
                      <a:pt x="839" y="10"/>
                    </a:lnTo>
                    <a:lnTo>
                      <a:pt x="889" y="10"/>
                    </a:lnTo>
                    <a:lnTo>
                      <a:pt x="940" y="10"/>
                    </a:lnTo>
                    <a:lnTo>
                      <a:pt x="991" y="10"/>
                    </a:lnTo>
                    <a:lnTo>
                      <a:pt x="1041" y="10"/>
                    </a:lnTo>
                    <a:lnTo>
                      <a:pt x="1092" y="8"/>
                    </a:lnTo>
                    <a:lnTo>
                      <a:pt x="1142" y="8"/>
                    </a:lnTo>
                    <a:lnTo>
                      <a:pt x="1194" y="8"/>
                    </a:lnTo>
                    <a:lnTo>
                      <a:pt x="1245" y="8"/>
                    </a:lnTo>
                    <a:lnTo>
                      <a:pt x="1296" y="8"/>
                    </a:lnTo>
                    <a:lnTo>
                      <a:pt x="1346" y="7"/>
                    </a:lnTo>
                    <a:lnTo>
                      <a:pt x="1397" y="7"/>
                    </a:lnTo>
                    <a:lnTo>
                      <a:pt x="1448" y="7"/>
                    </a:lnTo>
                    <a:lnTo>
                      <a:pt x="1498" y="7"/>
                    </a:lnTo>
                    <a:lnTo>
                      <a:pt x="1550" y="7"/>
                    </a:lnTo>
                    <a:lnTo>
                      <a:pt x="1601" y="6"/>
                    </a:lnTo>
                    <a:lnTo>
                      <a:pt x="1651" y="6"/>
                    </a:lnTo>
                    <a:lnTo>
                      <a:pt x="1688" y="6"/>
                    </a:lnTo>
                    <a:lnTo>
                      <a:pt x="1725" y="6"/>
                    </a:lnTo>
                    <a:lnTo>
                      <a:pt x="1761" y="6"/>
                    </a:lnTo>
                    <a:lnTo>
                      <a:pt x="1797" y="6"/>
                    </a:lnTo>
                    <a:lnTo>
                      <a:pt x="1834" y="6"/>
                    </a:lnTo>
                    <a:lnTo>
                      <a:pt x="1871" y="6"/>
                    </a:lnTo>
                    <a:lnTo>
                      <a:pt x="1907" y="6"/>
                    </a:lnTo>
                    <a:lnTo>
                      <a:pt x="1944" y="6"/>
                    </a:lnTo>
                    <a:lnTo>
                      <a:pt x="1980" y="4"/>
                    </a:lnTo>
                    <a:lnTo>
                      <a:pt x="2016" y="4"/>
                    </a:lnTo>
                    <a:lnTo>
                      <a:pt x="2052" y="4"/>
                    </a:lnTo>
                    <a:lnTo>
                      <a:pt x="2088" y="4"/>
                    </a:lnTo>
                    <a:lnTo>
                      <a:pt x="2124" y="3"/>
                    </a:lnTo>
                    <a:lnTo>
                      <a:pt x="2160" y="3"/>
                    </a:lnTo>
                    <a:lnTo>
                      <a:pt x="2195" y="3"/>
                    </a:lnTo>
                    <a:lnTo>
                      <a:pt x="2231" y="3"/>
                    </a:lnTo>
                    <a:lnTo>
                      <a:pt x="2267" y="1"/>
                    </a:lnTo>
                    <a:lnTo>
                      <a:pt x="2304" y="1"/>
                    </a:lnTo>
                    <a:lnTo>
                      <a:pt x="2338" y="1"/>
                    </a:lnTo>
                    <a:lnTo>
                      <a:pt x="2374" y="1"/>
                    </a:lnTo>
                    <a:lnTo>
                      <a:pt x="2411" y="1"/>
                    </a:lnTo>
                    <a:lnTo>
                      <a:pt x="2445" y="1"/>
                    </a:lnTo>
                    <a:lnTo>
                      <a:pt x="2481" y="0"/>
                    </a:lnTo>
                    <a:lnTo>
                      <a:pt x="2516" y="0"/>
                    </a:lnTo>
                    <a:lnTo>
                      <a:pt x="2552" y="1"/>
                    </a:lnTo>
                    <a:lnTo>
                      <a:pt x="2587" y="1"/>
                    </a:lnTo>
                    <a:lnTo>
                      <a:pt x="2623" y="1"/>
                    </a:lnTo>
                    <a:lnTo>
                      <a:pt x="2658" y="1"/>
                    </a:lnTo>
                    <a:lnTo>
                      <a:pt x="2694" y="1"/>
                    </a:lnTo>
                    <a:lnTo>
                      <a:pt x="2729" y="3"/>
                    </a:lnTo>
                    <a:lnTo>
                      <a:pt x="2765" y="3"/>
                    </a:lnTo>
                    <a:lnTo>
                      <a:pt x="2800" y="4"/>
                    </a:lnTo>
                    <a:lnTo>
                      <a:pt x="2811" y="24"/>
                    </a:lnTo>
                    <a:lnTo>
                      <a:pt x="2813" y="605"/>
                    </a:lnTo>
                    <a:lnTo>
                      <a:pt x="2817" y="1187"/>
                    </a:lnTo>
                    <a:lnTo>
                      <a:pt x="2820" y="1770"/>
                    </a:lnTo>
                    <a:lnTo>
                      <a:pt x="2821" y="2351"/>
                    </a:lnTo>
                    <a:lnTo>
                      <a:pt x="2821" y="2405"/>
                    </a:lnTo>
                    <a:lnTo>
                      <a:pt x="2823" y="2459"/>
                    </a:lnTo>
                    <a:lnTo>
                      <a:pt x="2821" y="2510"/>
                    </a:lnTo>
                    <a:lnTo>
                      <a:pt x="2816" y="2556"/>
                    </a:lnTo>
                    <a:lnTo>
                      <a:pt x="2789" y="2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7638840" y="3568680"/>
                <a:ext cx="812880" cy="484200"/>
              </a:xfrm>
              <a:custGeom>
                <a:avLst/>
                <a:gdLst/>
                <a:ahLst/>
                <a:rect l="l" t="t" r="r" b="b"/>
                <a:pathLst>
                  <a:path w="1534" h="916">
                    <a:moveTo>
                      <a:pt x="1394" y="909"/>
                    </a:moveTo>
                    <a:lnTo>
                      <a:pt x="1351" y="909"/>
                    </a:lnTo>
                    <a:lnTo>
                      <a:pt x="1307" y="909"/>
                    </a:lnTo>
                    <a:lnTo>
                      <a:pt x="1264" y="909"/>
                    </a:lnTo>
                    <a:lnTo>
                      <a:pt x="1222" y="910"/>
                    </a:lnTo>
                    <a:lnTo>
                      <a:pt x="1179" y="910"/>
                    </a:lnTo>
                    <a:lnTo>
                      <a:pt x="1135" y="910"/>
                    </a:lnTo>
                    <a:lnTo>
                      <a:pt x="1092" y="910"/>
                    </a:lnTo>
                    <a:lnTo>
                      <a:pt x="1048" y="910"/>
                    </a:lnTo>
                    <a:lnTo>
                      <a:pt x="1005" y="912"/>
                    </a:lnTo>
                    <a:lnTo>
                      <a:pt x="962" y="912"/>
                    </a:lnTo>
                    <a:lnTo>
                      <a:pt x="918" y="912"/>
                    </a:lnTo>
                    <a:lnTo>
                      <a:pt x="875" y="913"/>
                    </a:lnTo>
                    <a:lnTo>
                      <a:pt x="831" y="913"/>
                    </a:lnTo>
                    <a:lnTo>
                      <a:pt x="787" y="913"/>
                    </a:lnTo>
                    <a:lnTo>
                      <a:pt x="743" y="913"/>
                    </a:lnTo>
                    <a:lnTo>
                      <a:pt x="700" y="914"/>
                    </a:lnTo>
                    <a:lnTo>
                      <a:pt x="657" y="914"/>
                    </a:lnTo>
                    <a:lnTo>
                      <a:pt x="613" y="914"/>
                    </a:lnTo>
                    <a:lnTo>
                      <a:pt x="570" y="914"/>
                    </a:lnTo>
                    <a:lnTo>
                      <a:pt x="526" y="916"/>
                    </a:lnTo>
                    <a:lnTo>
                      <a:pt x="482" y="916"/>
                    </a:lnTo>
                    <a:lnTo>
                      <a:pt x="438" y="916"/>
                    </a:lnTo>
                    <a:lnTo>
                      <a:pt x="395" y="916"/>
                    </a:lnTo>
                    <a:lnTo>
                      <a:pt x="351" y="916"/>
                    </a:lnTo>
                    <a:lnTo>
                      <a:pt x="307" y="916"/>
                    </a:lnTo>
                    <a:lnTo>
                      <a:pt x="263" y="916"/>
                    </a:lnTo>
                    <a:lnTo>
                      <a:pt x="220" y="916"/>
                    </a:lnTo>
                    <a:lnTo>
                      <a:pt x="175" y="916"/>
                    </a:lnTo>
                    <a:lnTo>
                      <a:pt x="132" y="916"/>
                    </a:lnTo>
                    <a:lnTo>
                      <a:pt x="88" y="916"/>
                    </a:lnTo>
                    <a:lnTo>
                      <a:pt x="43" y="916"/>
                    </a:lnTo>
                    <a:lnTo>
                      <a:pt x="0" y="916"/>
                    </a:lnTo>
                    <a:lnTo>
                      <a:pt x="0" y="901"/>
                    </a:lnTo>
                    <a:lnTo>
                      <a:pt x="14" y="888"/>
                    </a:lnTo>
                    <a:lnTo>
                      <a:pt x="29" y="875"/>
                    </a:lnTo>
                    <a:lnTo>
                      <a:pt x="42" y="862"/>
                    </a:lnTo>
                    <a:lnTo>
                      <a:pt x="58" y="848"/>
                    </a:lnTo>
                    <a:lnTo>
                      <a:pt x="72" y="834"/>
                    </a:lnTo>
                    <a:lnTo>
                      <a:pt x="87" y="821"/>
                    </a:lnTo>
                    <a:lnTo>
                      <a:pt x="103" y="808"/>
                    </a:lnTo>
                    <a:lnTo>
                      <a:pt x="119" y="795"/>
                    </a:lnTo>
                    <a:lnTo>
                      <a:pt x="168" y="767"/>
                    </a:lnTo>
                    <a:lnTo>
                      <a:pt x="214" y="737"/>
                    </a:lnTo>
                    <a:lnTo>
                      <a:pt x="257" y="702"/>
                    </a:lnTo>
                    <a:lnTo>
                      <a:pt x="296" y="666"/>
                    </a:lnTo>
                    <a:lnTo>
                      <a:pt x="334" y="627"/>
                    </a:lnTo>
                    <a:lnTo>
                      <a:pt x="369" y="586"/>
                    </a:lnTo>
                    <a:lnTo>
                      <a:pt x="402" y="543"/>
                    </a:lnTo>
                    <a:lnTo>
                      <a:pt x="434" y="498"/>
                    </a:lnTo>
                    <a:lnTo>
                      <a:pt x="464" y="454"/>
                    </a:lnTo>
                    <a:lnTo>
                      <a:pt x="493" y="407"/>
                    </a:lnTo>
                    <a:lnTo>
                      <a:pt x="522" y="361"/>
                    </a:lnTo>
                    <a:lnTo>
                      <a:pt x="550" y="315"/>
                    </a:lnTo>
                    <a:lnTo>
                      <a:pt x="578" y="269"/>
                    </a:lnTo>
                    <a:lnTo>
                      <a:pt x="607" y="222"/>
                    </a:lnTo>
                    <a:lnTo>
                      <a:pt x="638" y="178"/>
                    </a:lnTo>
                    <a:lnTo>
                      <a:pt x="668" y="134"/>
                    </a:lnTo>
                    <a:lnTo>
                      <a:pt x="678" y="118"/>
                    </a:lnTo>
                    <a:lnTo>
                      <a:pt x="688" y="104"/>
                    </a:lnTo>
                    <a:lnTo>
                      <a:pt x="698" y="88"/>
                    </a:lnTo>
                    <a:lnTo>
                      <a:pt x="709" y="71"/>
                    </a:lnTo>
                    <a:lnTo>
                      <a:pt x="719" y="55"/>
                    </a:lnTo>
                    <a:lnTo>
                      <a:pt x="730" y="37"/>
                    </a:lnTo>
                    <a:lnTo>
                      <a:pt x="742" y="20"/>
                    </a:lnTo>
                    <a:lnTo>
                      <a:pt x="755" y="1"/>
                    </a:lnTo>
                    <a:lnTo>
                      <a:pt x="766" y="0"/>
                    </a:lnTo>
                    <a:lnTo>
                      <a:pt x="792" y="11"/>
                    </a:lnTo>
                    <a:lnTo>
                      <a:pt x="817" y="24"/>
                    </a:lnTo>
                    <a:lnTo>
                      <a:pt x="840" y="37"/>
                    </a:lnTo>
                    <a:lnTo>
                      <a:pt x="862" y="52"/>
                    </a:lnTo>
                    <a:lnTo>
                      <a:pt x="884" y="66"/>
                    </a:lnTo>
                    <a:lnTo>
                      <a:pt x="907" y="82"/>
                    </a:lnTo>
                    <a:lnTo>
                      <a:pt x="930" y="97"/>
                    </a:lnTo>
                    <a:lnTo>
                      <a:pt x="956" y="110"/>
                    </a:lnTo>
                    <a:lnTo>
                      <a:pt x="989" y="137"/>
                    </a:lnTo>
                    <a:lnTo>
                      <a:pt x="1024" y="163"/>
                    </a:lnTo>
                    <a:lnTo>
                      <a:pt x="1059" y="188"/>
                    </a:lnTo>
                    <a:lnTo>
                      <a:pt x="1095" y="211"/>
                    </a:lnTo>
                    <a:lnTo>
                      <a:pt x="1131" y="234"/>
                    </a:lnTo>
                    <a:lnTo>
                      <a:pt x="1167" y="256"/>
                    </a:lnTo>
                    <a:lnTo>
                      <a:pt x="1205" y="277"/>
                    </a:lnTo>
                    <a:lnTo>
                      <a:pt x="1241" y="297"/>
                    </a:lnTo>
                    <a:lnTo>
                      <a:pt x="1278" y="319"/>
                    </a:lnTo>
                    <a:lnTo>
                      <a:pt x="1316" y="339"/>
                    </a:lnTo>
                    <a:lnTo>
                      <a:pt x="1352" y="361"/>
                    </a:lnTo>
                    <a:lnTo>
                      <a:pt x="1390" y="383"/>
                    </a:lnTo>
                    <a:lnTo>
                      <a:pt x="1426" y="404"/>
                    </a:lnTo>
                    <a:lnTo>
                      <a:pt x="1463" y="428"/>
                    </a:lnTo>
                    <a:lnTo>
                      <a:pt x="1498" y="452"/>
                    </a:lnTo>
                    <a:lnTo>
                      <a:pt x="1534" y="477"/>
                    </a:lnTo>
                    <a:lnTo>
                      <a:pt x="1534" y="553"/>
                    </a:lnTo>
                    <a:lnTo>
                      <a:pt x="1534" y="628"/>
                    </a:lnTo>
                    <a:lnTo>
                      <a:pt x="1534" y="705"/>
                    </a:lnTo>
                    <a:lnTo>
                      <a:pt x="1534" y="781"/>
                    </a:lnTo>
                    <a:lnTo>
                      <a:pt x="1533" y="815"/>
                    </a:lnTo>
                    <a:lnTo>
                      <a:pt x="1533" y="844"/>
                    </a:lnTo>
                    <a:lnTo>
                      <a:pt x="1531" y="868"/>
                    </a:lnTo>
                    <a:lnTo>
                      <a:pt x="1531" y="894"/>
                    </a:lnTo>
                    <a:lnTo>
                      <a:pt x="1505" y="909"/>
                    </a:lnTo>
                    <a:lnTo>
                      <a:pt x="1492" y="909"/>
                    </a:lnTo>
                    <a:lnTo>
                      <a:pt x="1479" y="909"/>
                    </a:lnTo>
                    <a:lnTo>
                      <a:pt x="1466" y="907"/>
                    </a:lnTo>
                    <a:lnTo>
                      <a:pt x="1455" y="907"/>
                    </a:lnTo>
                    <a:lnTo>
                      <a:pt x="1442" y="907"/>
                    </a:lnTo>
                    <a:lnTo>
                      <a:pt x="1429" y="907"/>
                    </a:lnTo>
                    <a:lnTo>
                      <a:pt x="1416" y="906"/>
                    </a:lnTo>
                    <a:lnTo>
                      <a:pt x="1401" y="904"/>
                    </a:lnTo>
                    <a:lnTo>
                      <a:pt x="1394" y="90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7194600" y="3260520"/>
                <a:ext cx="901440" cy="795600"/>
              </a:xfrm>
              <a:custGeom>
                <a:avLst/>
                <a:gdLst/>
                <a:ahLst/>
                <a:rect l="l" t="t" r="r" b="b"/>
                <a:pathLst>
                  <a:path w="1705" h="1504">
                    <a:moveTo>
                      <a:pt x="356" y="1504"/>
                    </a:moveTo>
                    <a:lnTo>
                      <a:pt x="334" y="1502"/>
                    </a:lnTo>
                    <a:lnTo>
                      <a:pt x="313" y="1502"/>
                    </a:lnTo>
                    <a:lnTo>
                      <a:pt x="290" y="1502"/>
                    </a:lnTo>
                    <a:lnTo>
                      <a:pt x="268" y="1502"/>
                    </a:lnTo>
                    <a:lnTo>
                      <a:pt x="246" y="1502"/>
                    </a:lnTo>
                    <a:lnTo>
                      <a:pt x="223" y="1502"/>
                    </a:lnTo>
                    <a:lnTo>
                      <a:pt x="201" y="1502"/>
                    </a:lnTo>
                    <a:lnTo>
                      <a:pt x="178" y="1502"/>
                    </a:lnTo>
                    <a:lnTo>
                      <a:pt x="157" y="1502"/>
                    </a:lnTo>
                    <a:lnTo>
                      <a:pt x="135" y="1502"/>
                    </a:lnTo>
                    <a:lnTo>
                      <a:pt x="112" y="1502"/>
                    </a:lnTo>
                    <a:lnTo>
                      <a:pt x="90" y="1502"/>
                    </a:lnTo>
                    <a:lnTo>
                      <a:pt x="67" y="1502"/>
                    </a:lnTo>
                    <a:lnTo>
                      <a:pt x="45" y="1502"/>
                    </a:lnTo>
                    <a:lnTo>
                      <a:pt x="22" y="1502"/>
                    </a:lnTo>
                    <a:lnTo>
                      <a:pt x="0" y="1501"/>
                    </a:lnTo>
                    <a:lnTo>
                      <a:pt x="25" y="1488"/>
                    </a:lnTo>
                    <a:lnTo>
                      <a:pt x="51" y="1475"/>
                    </a:lnTo>
                    <a:lnTo>
                      <a:pt x="76" y="1460"/>
                    </a:lnTo>
                    <a:lnTo>
                      <a:pt x="100" y="1446"/>
                    </a:lnTo>
                    <a:lnTo>
                      <a:pt x="123" y="1431"/>
                    </a:lnTo>
                    <a:lnTo>
                      <a:pt x="148" y="1417"/>
                    </a:lnTo>
                    <a:lnTo>
                      <a:pt x="171" y="1401"/>
                    </a:lnTo>
                    <a:lnTo>
                      <a:pt x="194" y="1385"/>
                    </a:lnTo>
                    <a:lnTo>
                      <a:pt x="217" y="1368"/>
                    </a:lnTo>
                    <a:lnTo>
                      <a:pt x="240" y="1350"/>
                    </a:lnTo>
                    <a:lnTo>
                      <a:pt x="262" y="1333"/>
                    </a:lnTo>
                    <a:lnTo>
                      <a:pt x="285" y="1314"/>
                    </a:lnTo>
                    <a:lnTo>
                      <a:pt x="307" y="1294"/>
                    </a:lnTo>
                    <a:lnTo>
                      <a:pt x="327" y="1274"/>
                    </a:lnTo>
                    <a:lnTo>
                      <a:pt x="349" y="1254"/>
                    </a:lnTo>
                    <a:lnTo>
                      <a:pt x="369" y="1232"/>
                    </a:lnTo>
                    <a:lnTo>
                      <a:pt x="379" y="1225"/>
                    </a:lnTo>
                    <a:lnTo>
                      <a:pt x="391" y="1218"/>
                    </a:lnTo>
                    <a:lnTo>
                      <a:pt x="401" y="1209"/>
                    </a:lnTo>
                    <a:lnTo>
                      <a:pt x="413" y="1199"/>
                    </a:lnTo>
                    <a:lnTo>
                      <a:pt x="423" y="1187"/>
                    </a:lnTo>
                    <a:lnTo>
                      <a:pt x="433" y="1177"/>
                    </a:lnTo>
                    <a:lnTo>
                      <a:pt x="444" y="1166"/>
                    </a:lnTo>
                    <a:lnTo>
                      <a:pt x="454" y="1154"/>
                    </a:lnTo>
                    <a:lnTo>
                      <a:pt x="469" y="1134"/>
                    </a:lnTo>
                    <a:lnTo>
                      <a:pt x="480" y="1114"/>
                    </a:lnTo>
                    <a:lnTo>
                      <a:pt x="492" y="1092"/>
                    </a:lnTo>
                    <a:lnTo>
                      <a:pt x="502" y="1067"/>
                    </a:lnTo>
                    <a:lnTo>
                      <a:pt x="512" y="1044"/>
                    </a:lnTo>
                    <a:lnTo>
                      <a:pt x="522" y="1020"/>
                    </a:lnTo>
                    <a:lnTo>
                      <a:pt x="534" y="995"/>
                    </a:lnTo>
                    <a:lnTo>
                      <a:pt x="546" y="969"/>
                    </a:lnTo>
                    <a:lnTo>
                      <a:pt x="564" y="892"/>
                    </a:lnTo>
                    <a:lnTo>
                      <a:pt x="589" y="819"/>
                    </a:lnTo>
                    <a:lnTo>
                      <a:pt x="618" y="749"/>
                    </a:lnTo>
                    <a:lnTo>
                      <a:pt x="651" y="684"/>
                    </a:lnTo>
                    <a:lnTo>
                      <a:pt x="687" y="621"/>
                    </a:lnTo>
                    <a:lnTo>
                      <a:pt x="728" y="562"/>
                    </a:lnTo>
                    <a:lnTo>
                      <a:pt x="771" y="502"/>
                    </a:lnTo>
                    <a:lnTo>
                      <a:pt x="819" y="447"/>
                    </a:lnTo>
                    <a:lnTo>
                      <a:pt x="868" y="393"/>
                    </a:lnTo>
                    <a:lnTo>
                      <a:pt x="919" y="339"/>
                    </a:lnTo>
                    <a:lnTo>
                      <a:pt x="972" y="287"/>
                    </a:lnTo>
                    <a:lnTo>
                      <a:pt x="1027" y="235"/>
                    </a:lnTo>
                    <a:lnTo>
                      <a:pt x="1083" y="184"/>
                    </a:lnTo>
                    <a:lnTo>
                      <a:pt x="1140" y="132"/>
                    </a:lnTo>
                    <a:lnTo>
                      <a:pt x="1198" y="80"/>
                    </a:lnTo>
                    <a:lnTo>
                      <a:pt x="1256" y="27"/>
                    </a:lnTo>
                    <a:lnTo>
                      <a:pt x="1261" y="24"/>
                    </a:lnTo>
                    <a:lnTo>
                      <a:pt x="1269" y="21"/>
                    </a:lnTo>
                    <a:lnTo>
                      <a:pt x="1274" y="18"/>
                    </a:lnTo>
                    <a:lnTo>
                      <a:pt x="1282" y="15"/>
                    </a:lnTo>
                    <a:lnTo>
                      <a:pt x="1287" y="11"/>
                    </a:lnTo>
                    <a:lnTo>
                      <a:pt x="1295" y="8"/>
                    </a:lnTo>
                    <a:lnTo>
                      <a:pt x="1302" y="4"/>
                    </a:lnTo>
                    <a:lnTo>
                      <a:pt x="1309" y="0"/>
                    </a:lnTo>
                    <a:lnTo>
                      <a:pt x="1316" y="2"/>
                    </a:lnTo>
                    <a:lnTo>
                      <a:pt x="1322" y="4"/>
                    </a:lnTo>
                    <a:lnTo>
                      <a:pt x="1328" y="4"/>
                    </a:lnTo>
                    <a:lnTo>
                      <a:pt x="1335" y="5"/>
                    </a:lnTo>
                    <a:lnTo>
                      <a:pt x="1341" y="7"/>
                    </a:lnTo>
                    <a:lnTo>
                      <a:pt x="1348" y="8"/>
                    </a:lnTo>
                    <a:lnTo>
                      <a:pt x="1355" y="10"/>
                    </a:lnTo>
                    <a:lnTo>
                      <a:pt x="1363" y="14"/>
                    </a:lnTo>
                    <a:lnTo>
                      <a:pt x="1367" y="20"/>
                    </a:lnTo>
                    <a:lnTo>
                      <a:pt x="1368" y="30"/>
                    </a:lnTo>
                    <a:lnTo>
                      <a:pt x="1368" y="41"/>
                    </a:lnTo>
                    <a:lnTo>
                      <a:pt x="1370" y="54"/>
                    </a:lnTo>
                    <a:lnTo>
                      <a:pt x="1342" y="33"/>
                    </a:lnTo>
                    <a:lnTo>
                      <a:pt x="1328" y="44"/>
                    </a:lnTo>
                    <a:lnTo>
                      <a:pt x="1334" y="50"/>
                    </a:lnTo>
                    <a:lnTo>
                      <a:pt x="1338" y="56"/>
                    </a:lnTo>
                    <a:lnTo>
                      <a:pt x="1344" y="65"/>
                    </a:lnTo>
                    <a:lnTo>
                      <a:pt x="1351" y="72"/>
                    </a:lnTo>
                    <a:lnTo>
                      <a:pt x="1355" y="85"/>
                    </a:lnTo>
                    <a:lnTo>
                      <a:pt x="1344" y="86"/>
                    </a:lnTo>
                    <a:lnTo>
                      <a:pt x="1331" y="67"/>
                    </a:lnTo>
                    <a:lnTo>
                      <a:pt x="1322" y="65"/>
                    </a:lnTo>
                    <a:lnTo>
                      <a:pt x="1315" y="63"/>
                    </a:lnTo>
                    <a:lnTo>
                      <a:pt x="1306" y="66"/>
                    </a:lnTo>
                    <a:lnTo>
                      <a:pt x="1299" y="73"/>
                    </a:lnTo>
                    <a:lnTo>
                      <a:pt x="1302" y="82"/>
                    </a:lnTo>
                    <a:lnTo>
                      <a:pt x="1308" y="86"/>
                    </a:lnTo>
                    <a:lnTo>
                      <a:pt x="1316" y="91"/>
                    </a:lnTo>
                    <a:lnTo>
                      <a:pt x="1325" y="98"/>
                    </a:lnTo>
                    <a:lnTo>
                      <a:pt x="1328" y="115"/>
                    </a:lnTo>
                    <a:lnTo>
                      <a:pt x="1321" y="119"/>
                    </a:lnTo>
                    <a:lnTo>
                      <a:pt x="1311" y="111"/>
                    </a:lnTo>
                    <a:lnTo>
                      <a:pt x="1302" y="102"/>
                    </a:lnTo>
                    <a:lnTo>
                      <a:pt x="1293" y="95"/>
                    </a:lnTo>
                    <a:lnTo>
                      <a:pt x="1283" y="85"/>
                    </a:lnTo>
                    <a:lnTo>
                      <a:pt x="1264" y="102"/>
                    </a:lnTo>
                    <a:lnTo>
                      <a:pt x="1273" y="111"/>
                    </a:lnTo>
                    <a:lnTo>
                      <a:pt x="1279" y="117"/>
                    </a:lnTo>
                    <a:lnTo>
                      <a:pt x="1284" y="124"/>
                    </a:lnTo>
                    <a:lnTo>
                      <a:pt x="1293" y="131"/>
                    </a:lnTo>
                    <a:lnTo>
                      <a:pt x="1292" y="143"/>
                    </a:lnTo>
                    <a:lnTo>
                      <a:pt x="1282" y="141"/>
                    </a:lnTo>
                    <a:lnTo>
                      <a:pt x="1274" y="135"/>
                    </a:lnTo>
                    <a:lnTo>
                      <a:pt x="1269" y="128"/>
                    </a:lnTo>
                    <a:lnTo>
                      <a:pt x="1263" y="121"/>
                    </a:lnTo>
                    <a:lnTo>
                      <a:pt x="1241" y="121"/>
                    </a:lnTo>
                    <a:lnTo>
                      <a:pt x="1238" y="131"/>
                    </a:lnTo>
                    <a:lnTo>
                      <a:pt x="1244" y="138"/>
                    </a:lnTo>
                    <a:lnTo>
                      <a:pt x="1250" y="147"/>
                    </a:lnTo>
                    <a:lnTo>
                      <a:pt x="1258" y="157"/>
                    </a:lnTo>
                    <a:lnTo>
                      <a:pt x="1267" y="169"/>
                    </a:lnTo>
                    <a:lnTo>
                      <a:pt x="1256" y="170"/>
                    </a:lnTo>
                    <a:lnTo>
                      <a:pt x="1248" y="163"/>
                    </a:lnTo>
                    <a:lnTo>
                      <a:pt x="1240" y="154"/>
                    </a:lnTo>
                    <a:lnTo>
                      <a:pt x="1230" y="150"/>
                    </a:lnTo>
                    <a:lnTo>
                      <a:pt x="1214" y="161"/>
                    </a:lnTo>
                    <a:lnTo>
                      <a:pt x="1219" y="171"/>
                    </a:lnTo>
                    <a:lnTo>
                      <a:pt x="1227" y="180"/>
                    </a:lnTo>
                    <a:lnTo>
                      <a:pt x="1234" y="190"/>
                    </a:lnTo>
                    <a:lnTo>
                      <a:pt x="1241" y="203"/>
                    </a:lnTo>
                    <a:lnTo>
                      <a:pt x="1231" y="208"/>
                    </a:lnTo>
                    <a:lnTo>
                      <a:pt x="1224" y="200"/>
                    </a:lnTo>
                    <a:lnTo>
                      <a:pt x="1218" y="196"/>
                    </a:lnTo>
                    <a:lnTo>
                      <a:pt x="1211" y="190"/>
                    </a:lnTo>
                    <a:lnTo>
                      <a:pt x="1199" y="186"/>
                    </a:lnTo>
                    <a:lnTo>
                      <a:pt x="1179" y="197"/>
                    </a:lnTo>
                    <a:lnTo>
                      <a:pt x="1182" y="208"/>
                    </a:lnTo>
                    <a:lnTo>
                      <a:pt x="1189" y="210"/>
                    </a:lnTo>
                    <a:lnTo>
                      <a:pt x="1196" y="218"/>
                    </a:lnTo>
                    <a:lnTo>
                      <a:pt x="1205" y="226"/>
                    </a:lnTo>
                    <a:lnTo>
                      <a:pt x="1215" y="229"/>
                    </a:lnTo>
                    <a:lnTo>
                      <a:pt x="1206" y="244"/>
                    </a:lnTo>
                    <a:lnTo>
                      <a:pt x="1196" y="241"/>
                    </a:lnTo>
                    <a:lnTo>
                      <a:pt x="1189" y="234"/>
                    </a:lnTo>
                    <a:lnTo>
                      <a:pt x="1180" y="226"/>
                    </a:lnTo>
                    <a:lnTo>
                      <a:pt x="1167" y="222"/>
                    </a:lnTo>
                    <a:lnTo>
                      <a:pt x="1147" y="236"/>
                    </a:lnTo>
                    <a:lnTo>
                      <a:pt x="1156" y="242"/>
                    </a:lnTo>
                    <a:lnTo>
                      <a:pt x="1163" y="250"/>
                    </a:lnTo>
                    <a:lnTo>
                      <a:pt x="1170" y="258"/>
                    </a:lnTo>
                    <a:lnTo>
                      <a:pt x="1180" y="264"/>
                    </a:lnTo>
                    <a:lnTo>
                      <a:pt x="1176" y="273"/>
                    </a:lnTo>
                    <a:lnTo>
                      <a:pt x="1166" y="273"/>
                    </a:lnTo>
                    <a:lnTo>
                      <a:pt x="1162" y="265"/>
                    </a:lnTo>
                    <a:lnTo>
                      <a:pt x="1154" y="260"/>
                    </a:lnTo>
                    <a:lnTo>
                      <a:pt x="1146" y="254"/>
                    </a:lnTo>
                    <a:lnTo>
                      <a:pt x="1137" y="247"/>
                    </a:lnTo>
                    <a:lnTo>
                      <a:pt x="1120" y="263"/>
                    </a:lnTo>
                    <a:lnTo>
                      <a:pt x="1125" y="270"/>
                    </a:lnTo>
                    <a:lnTo>
                      <a:pt x="1133" y="278"/>
                    </a:lnTo>
                    <a:lnTo>
                      <a:pt x="1141" y="287"/>
                    </a:lnTo>
                    <a:lnTo>
                      <a:pt x="1149" y="299"/>
                    </a:lnTo>
                    <a:lnTo>
                      <a:pt x="1140" y="299"/>
                    </a:lnTo>
                    <a:lnTo>
                      <a:pt x="1136" y="291"/>
                    </a:lnTo>
                    <a:lnTo>
                      <a:pt x="1127" y="286"/>
                    </a:lnTo>
                    <a:lnTo>
                      <a:pt x="1118" y="278"/>
                    </a:lnTo>
                    <a:lnTo>
                      <a:pt x="1110" y="268"/>
                    </a:lnTo>
                    <a:lnTo>
                      <a:pt x="1099" y="268"/>
                    </a:lnTo>
                    <a:lnTo>
                      <a:pt x="1095" y="289"/>
                    </a:lnTo>
                    <a:lnTo>
                      <a:pt x="1101" y="297"/>
                    </a:lnTo>
                    <a:lnTo>
                      <a:pt x="1107" y="304"/>
                    </a:lnTo>
                    <a:lnTo>
                      <a:pt x="1112" y="312"/>
                    </a:lnTo>
                    <a:lnTo>
                      <a:pt x="1118" y="322"/>
                    </a:lnTo>
                    <a:lnTo>
                      <a:pt x="1114" y="329"/>
                    </a:lnTo>
                    <a:lnTo>
                      <a:pt x="1105" y="323"/>
                    </a:lnTo>
                    <a:lnTo>
                      <a:pt x="1099" y="313"/>
                    </a:lnTo>
                    <a:lnTo>
                      <a:pt x="1091" y="303"/>
                    </a:lnTo>
                    <a:lnTo>
                      <a:pt x="1081" y="297"/>
                    </a:lnTo>
                    <a:lnTo>
                      <a:pt x="1062" y="309"/>
                    </a:lnTo>
                    <a:lnTo>
                      <a:pt x="1068" y="320"/>
                    </a:lnTo>
                    <a:lnTo>
                      <a:pt x="1073" y="329"/>
                    </a:lnTo>
                    <a:lnTo>
                      <a:pt x="1081" y="338"/>
                    </a:lnTo>
                    <a:lnTo>
                      <a:pt x="1088" y="349"/>
                    </a:lnTo>
                    <a:lnTo>
                      <a:pt x="1079" y="349"/>
                    </a:lnTo>
                    <a:lnTo>
                      <a:pt x="1070" y="345"/>
                    </a:lnTo>
                    <a:lnTo>
                      <a:pt x="1063" y="338"/>
                    </a:lnTo>
                    <a:lnTo>
                      <a:pt x="1053" y="332"/>
                    </a:lnTo>
                    <a:lnTo>
                      <a:pt x="1033" y="338"/>
                    </a:lnTo>
                    <a:lnTo>
                      <a:pt x="1036" y="348"/>
                    </a:lnTo>
                    <a:lnTo>
                      <a:pt x="1044" y="355"/>
                    </a:lnTo>
                    <a:lnTo>
                      <a:pt x="1052" y="364"/>
                    </a:lnTo>
                    <a:lnTo>
                      <a:pt x="1053" y="378"/>
                    </a:lnTo>
                    <a:lnTo>
                      <a:pt x="1043" y="375"/>
                    </a:lnTo>
                    <a:lnTo>
                      <a:pt x="1034" y="368"/>
                    </a:lnTo>
                    <a:lnTo>
                      <a:pt x="1027" y="359"/>
                    </a:lnTo>
                    <a:lnTo>
                      <a:pt x="1016" y="356"/>
                    </a:lnTo>
                    <a:lnTo>
                      <a:pt x="997" y="371"/>
                    </a:lnTo>
                    <a:lnTo>
                      <a:pt x="1001" y="378"/>
                    </a:lnTo>
                    <a:lnTo>
                      <a:pt x="1010" y="384"/>
                    </a:lnTo>
                    <a:lnTo>
                      <a:pt x="1017" y="393"/>
                    </a:lnTo>
                    <a:lnTo>
                      <a:pt x="1017" y="403"/>
                    </a:lnTo>
                    <a:lnTo>
                      <a:pt x="1004" y="410"/>
                    </a:lnTo>
                    <a:lnTo>
                      <a:pt x="976" y="419"/>
                    </a:lnTo>
                    <a:lnTo>
                      <a:pt x="976" y="430"/>
                    </a:lnTo>
                    <a:lnTo>
                      <a:pt x="987" y="442"/>
                    </a:lnTo>
                    <a:lnTo>
                      <a:pt x="998" y="442"/>
                    </a:lnTo>
                    <a:lnTo>
                      <a:pt x="1010" y="437"/>
                    </a:lnTo>
                    <a:lnTo>
                      <a:pt x="1021" y="433"/>
                    </a:lnTo>
                    <a:lnTo>
                      <a:pt x="1031" y="427"/>
                    </a:lnTo>
                    <a:lnTo>
                      <a:pt x="1040" y="420"/>
                    </a:lnTo>
                    <a:lnTo>
                      <a:pt x="1049" y="413"/>
                    </a:lnTo>
                    <a:lnTo>
                      <a:pt x="1059" y="407"/>
                    </a:lnTo>
                    <a:lnTo>
                      <a:pt x="1070" y="400"/>
                    </a:lnTo>
                    <a:lnTo>
                      <a:pt x="1082" y="394"/>
                    </a:lnTo>
                    <a:lnTo>
                      <a:pt x="1107" y="377"/>
                    </a:lnTo>
                    <a:lnTo>
                      <a:pt x="1130" y="356"/>
                    </a:lnTo>
                    <a:lnTo>
                      <a:pt x="1151" y="338"/>
                    </a:lnTo>
                    <a:lnTo>
                      <a:pt x="1173" y="316"/>
                    </a:lnTo>
                    <a:lnTo>
                      <a:pt x="1195" y="294"/>
                    </a:lnTo>
                    <a:lnTo>
                      <a:pt x="1215" y="273"/>
                    </a:lnTo>
                    <a:lnTo>
                      <a:pt x="1237" y="250"/>
                    </a:lnTo>
                    <a:lnTo>
                      <a:pt x="1257" y="226"/>
                    </a:lnTo>
                    <a:lnTo>
                      <a:pt x="1277" y="203"/>
                    </a:lnTo>
                    <a:lnTo>
                      <a:pt x="1299" y="180"/>
                    </a:lnTo>
                    <a:lnTo>
                      <a:pt x="1319" y="157"/>
                    </a:lnTo>
                    <a:lnTo>
                      <a:pt x="1341" y="135"/>
                    </a:lnTo>
                    <a:lnTo>
                      <a:pt x="1363" y="112"/>
                    </a:lnTo>
                    <a:lnTo>
                      <a:pt x="1384" y="91"/>
                    </a:lnTo>
                    <a:lnTo>
                      <a:pt x="1407" y="69"/>
                    </a:lnTo>
                    <a:lnTo>
                      <a:pt x="1432" y="49"/>
                    </a:lnTo>
                    <a:lnTo>
                      <a:pt x="1452" y="47"/>
                    </a:lnTo>
                    <a:lnTo>
                      <a:pt x="1474" y="54"/>
                    </a:lnTo>
                    <a:lnTo>
                      <a:pt x="1480" y="56"/>
                    </a:lnTo>
                    <a:lnTo>
                      <a:pt x="1487" y="62"/>
                    </a:lnTo>
                    <a:lnTo>
                      <a:pt x="1494" y="69"/>
                    </a:lnTo>
                    <a:lnTo>
                      <a:pt x="1501" y="78"/>
                    </a:lnTo>
                    <a:lnTo>
                      <a:pt x="1503" y="85"/>
                    </a:lnTo>
                    <a:lnTo>
                      <a:pt x="1506" y="92"/>
                    </a:lnTo>
                    <a:lnTo>
                      <a:pt x="1509" y="99"/>
                    </a:lnTo>
                    <a:lnTo>
                      <a:pt x="1510" y="109"/>
                    </a:lnTo>
                    <a:lnTo>
                      <a:pt x="1504" y="109"/>
                    </a:lnTo>
                    <a:lnTo>
                      <a:pt x="1497" y="109"/>
                    </a:lnTo>
                    <a:lnTo>
                      <a:pt x="1490" y="112"/>
                    </a:lnTo>
                    <a:lnTo>
                      <a:pt x="1480" y="115"/>
                    </a:lnTo>
                    <a:lnTo>
                      <a:pt x="1480" y="122"/>
                    </a:lnTo>
                    <a:lnTo>
                      <a:pt x="1485" y="125"/>
                    </a:lnTo>
                    <a:lnTo>
                      <a:pt x="1493" y="130"/>
                    </a:lnTo>
                    <a:lnTo>
                      <a:pt x="1496" y="138"/>
                    </a:lnTo>
                    <a:lnTo>
                      <a:pt x="1490" y="137"/>
                    </a:lnTo>
                    <a:lnTo>
                      <a:pt x="1483" y="130"/>
                    </a:lnTo>
                    <a:lnTo>
                      <a:pt x="1474" y="124"/>
                    </a:lnTo>
                    <a:lnTo>
                      <a:pt x="1461" y="121"/>
                    </a:lnTo>
                    <a:lnTo>
                      <a:pt x="1449" y="140"/>
                    </a:lnTo>
                    <a:lnTo>
                      <a:pt x="1454" y="148"/>
                    </a:lnTo>
                    <a:lnTo>
                      <a:pt x="1461" y="154"/>
                    </a:lnTo>
                    <a:lnTo>
                      <a:pt x="1468" y="160"/>
                    </a:lnTo>
                    <a:lnTo>
                      <a:pt x="1477" y="171"/>
                    </a:lnTo>
                    <a:lnTo>
                      <a:pt x="1477" y="180"/>
                    </a:lnTo>
                    <a:lnTo>
                      <a:pt x="1471" y="180"/>
                    </a:lnTo>
                    <a:lnTo>
                      <a:pt x="1465" y="179"/>
                    </a:lnTo>
                    <a:lnTo>
                      <a:pt x="1461" y="176"/>
                    </a:lnTo>
                    <a:lnTo>
                      <a:pt x="1457" y="173"/>
                    </a:lnTo>
                    <a:lnTo>
                      <a:pt x="1452" y="169"/>
                    </a:lnTo>
                    <a:lnTo>
                      <a:pt x="1446" y="166"/>
                    </a:lnTo>
                    <a:lnTo>
                      <a:pt x="1441" y="164"/>
                    </a:lnTo>
                    <a:lnTo>
                      <a:pt x="1433" y="163"/>
                    </a:lnTo>
                    <a:lnTo>
                      <a:pt x="1425" y="171"/>
                    </a:lnTo>
                    <a:lnTo>
                      <a:pt x="1426" y="182"/>
                    </a:lnTo>
                    <a:lnTo>
                      <a:pt x="1435" y="189"/>
                    </a:lnTo>
                    <a:lnTo>
                      <a:pt x="1445" y="197"/>
                    </a:lnTo>
                    <a:lnTo>
                      <a:pt x="1449" y="210"/>
                    </a:lnTo>
                    <a:lnTo>
                      <a:pt x="1444" y="210"/>
                    </a:lnTo>
                    <a:lnTo>
                      <a:pt x="1439" y="210"/>
                    </a:lnTo>
                    <a:lnTo>
                      <a:pt x="1433" y="209"/>
                    </a:lnTo>
                    <a:lnTo>
                      <a:pt x="1428" y="206"/>
                    </a:lnTo>
                    <a:lnTo>
                      <a:pt x="1422" y="205"/>
                    </a:lnTo>
                    <a:lnTo>
                      <a:pt x="1416" y="205"/>
                    </a:lnTo>
                    <a:lnTo>
                      <a:pt x="1412" y="205"/>
                    </a:lnTo>
                    <a:lnTo>
                      <a:pt x="1406" y="208"/>
                    </a:lnTo>
                    <a:lnTo>
                      <a:pt x="1403" y="219"/>
                    </a:lnTo>
                    <a:lnTo>
                      <a:pt x="1405" y="226"/>
                    </a:lnTo>
                    <a:lnTo>
                      <a:pt x="1410" y="231"/>
                    </a:lnTo>
                    <a:lnTo>
                      <a:pt x="1418" y="235"/>
                    </a:lnTo>
                    <a:lnTo>
                      <a:pt x="1425" y="244"/>
                    </a:lnTo>
                    <a:lnTo>
                      <a:pt x="1407" y="244"/>
                    </a:lnTo>
                    <a:lnTo>
                      <a:pt x="1397" y="244"/>
                    </a:lnTo>
                    <a:lnTo>
                      <a:pt x="1390" y="247"/>
                    </a:lnTo>
                    <a:lnTo>
                      <a:pt x="1384" y="252"/>
                    </a:lnTo>
                    <a:lnTo>
                      <a:pt x="1380" y="260"/>
                    </a:lnTo>
                    <a:lnTo>
                      <a:pt x="1384" y="264"/>
                    </a:lnTo>
                    <a:lnTo>
                      <a:pt x="1392" y="267"/>
                    </a:lnTo>
                    <a:lnTo>
                      <a:pt x="1399" y="271"/>
                    </a:lnTo>
                    <a:lnTo>
                      <a:pt x="1399" y="280"/>
                    </a:lnTo>
                    <a:lnTo>
                      <a:pt x="1394" y="277"/>
                    </a:lnTo>
                    <a:lnTo>
                      <a:pt x="1387" y="277"/>
                    </a:lnTo>
                    <a:lnTo>
                      <a:pt x="1377" y="277"/>
                    </a:lnTo>
                    <a:lnTo>
                      <a:pt x="1365" y="280"/>
                    </a:lnTo>
                    <a:lnTo>
                      <a:pt x="1363" y="300"/>
                    </a:lnTo>
                    <a:lnTo>
                      <a:pt x="1380" y="309"/>
                    </a:lnTo>
                    <a:lnTo>
                      <a:pt x="1371" y="320"/>
                    </a:lnTo>
                    <a:lnTo>
                      <a:pt x="1361" y="317"/>
                    </a:lnTo>
                    <a:lnTo>
                      <a:pt x="1354" y="312"/>
                    </a:lnTo>
                    <a:lnTo>
                      <a:pt x="1344" y="304"/>
                    </a:lnTo>
                    <a:lnTo>
                      <a:pt x="1331" y="303"/>
                    </a:lnTo>
                    <a:lnTo>
                      <a:pt x="1321" y="315"/>
                    </a:lnTo>
                    <a:lnTo>
                      <a:pt x="1328" y="320"/>
                    </a:lnTo>
                    <a:lnTo>
                      <a:pt x="1334" y="328"/>
                    </a:lnTo>
                    <a:lnTo>
                      <a:pt x="1341" y="335"/>
                    </a:lnTo>
                    <a:lnTo>
                      <a:pt x="1351" y="342"/>
                    </a:lnTo>
                    <a:lnTo>
                      <a:pt x="1348" y="352"/>
                    </a:lnTo>
                    <a:lnTo>
                      <a:pt x="1339" y="351"/>
                    </a:lnTo>
                    <a:lnTo>
                      <a:pt x="1331" y="345"/>
                    </a:lnTo>
                    <a:lnTo>
                      <a:pt x="1321" y="339"/>
                    </a:lnTo>
                    <a:lnTo>
                      <a:pt x="1306" y="341"/>
                    </a:lnTo>
                    <a:lnTo>
                      <a:pt x="1296" y="346"/>
                    </a:lnTo>
                    <a:lnTo>
                      <a:pt x="1299" y="356"/>
                    </a:lnTo>
                    <a:lnTo>
                      <a:pt x="1308" y="362"/>
                    </a:lnTo>
                    <a:lnTo>
                      <a:pt x="1316" y="368"/>
                    </a:lnTo>
                    <a:lnTo>
                      <a:pt x="1322" y="381"/>
                    </a:lnTo>
                    <a:lnTo>
                      <a:pt x="1315" y="391"/>
                    </a:lnTo>
                    <a:lnTo>
                      <a:pt x="1309" y="391"/>
                    </a:lnTo>
                    <a:lnTo>
                      <a:pt x="1303" y="390"/>
                    </a:lnTo>
                    <a:lnTo>
                      <a:pt x="1299" y="385"/>
                    </a:lnTo>
                    <a:lnTo>
                      <a:pt x="1295" y="381"/>
                    </a:lnTo>
                    <a:lnTo>
                      <a:pt x="1290" y="378"/>
                    </a:lnTo>
                    <a:lnTo>
                      <a:pt x="1284" y="374"/>
                    </a:lnTo>
                    <a:lnTo>
                      <a:pt x="1279" y="371"/>
                    </a:lnTo>
                    <a:lnTo>
                      <a:pt x="1271" y="371"/>
                    </a:lnTo>
                    <a:lnTo>
                      <a:pt x="1256" y="384"/>
                    </a:lnTo>
                    <a:lnTo>
                      <a:pt x="1263" y="393"/>
                    </a:lnTo>
                    <a:lnTo>
                      <a:pt x="1270" y="400"/>
                    </a:lnTo>
                    <a:lnTo>
                      <a:pt x="1277" y="407"/>
                    </a:lnTo>
                    <a:lnTo>
                      <a:pt x="1283" y="417"/>
                    </a:lnTo>
                    <a:lnTo>
                      <a:pt x="1273" y="427"/>
                    </a:lnTo>
                    <a:lnTo>
                      <a:pt x="1263" y="424"/>
                    </a:lnTo>
                    <a:lnTo>
                      <a:pt x="1254" y="417"/>
                    </a:lnTo>
                    <a:lnTo>
                      <a:pt x="1244" y="411"/>
                    </a:lnTo>
                    <a:lnTo>
                      <a:pt x="1231" y="407"/>
                    </a:lnTo>
                    <a:lnTo>
                      <a:pt x="1219" y="414"/>
                    </a:lnTo>
                    <a:lnTo>
                      <a:pt x="1219" y="424"/>
                    </a:lnTo>
                    <a:lnTo>
                      <a:pt x="1224" y="432"/>
                    </a:lnTo>
                    <a:lnTo>
                      <a:pt x="1230" y="437"/>
                    </a:lnTo>
                    <a:lnTo>
                      <a:pt x="1237" y="442"/>
                    </a:lnTo>
                    <a:lnTo>
                      <a:pt x="1248" y="446"/>
                    </a:lnTo>
                    <a:lnTo>
                      <a:pt x="1232" y="463"/>
                    </a:lnTo>
                    <a:lnTo>
                      <a:pt x="1227" y="459"/>
                    </a:lnTo>
                    <a:lnTo>
                      <a:pt x="1219" y="453"/>
                    </a:lnTo>
                    <a:lnTo>
                      <a:pt x="1211" y="447"/>
                    </a:lnTo>
                    <a:lnTo>
                      <a:pt x="1202" y="439"/>
                    </a:lnTo>
                    <a:lnTo>
                      <a:pt x="1183" y="456"/>
                    </a:lnTo>
                    <a:lnTo>
                      <a:pt x="1186" y="463"/>
                    </a:lnTo>
                    <a:lnTo>
                      <a:pt x="1193" y="468"/>
                    </a:lnTo>
                    <a:lnTo>
                      <a:pt x="1202" y="473"/>
                    </a:lnTo>
                    <a:lnTo>
                      <a:pt x="1209" y="482"/>
                    </a:lnTo>
                    <a:lnTo>
                      <a:pt x="1204" y="489"/>
                    </a:lnTo>
                    <a:lnTo>
                      <a:pt x="1196" y="486"/>
                    </a:lnTo>
                    <a:lnTo>
                      <a:pt x="1191" y="481"/>
                    </a:lnTo>
                    <a:lnTo>
                      <a:pt x="1183" y="476"/>
                    </a:lnTo>
                    <a:lnTo>
                      <a:pt x="1172" y="476"/>
                    </a:lnTo>
                    <a:lnTo>
                      <a:pt x="1166" y="489"/>
                    </a:lnTo>
                    <a:lnTo>
                      <a:pt x="1167" y="497"/>
                    </a:lnTo>
                    <a:lnTo>
                      <a:pt x="1173" y="504"/>
                    </a:lnTo>
                    <a:lnTo>
                      <a:pt x="1177" y="510"/>
                    </a:lnTo>
                    <a:lnTo>
                      <a:pt x="1183" y="518"/>
                    </a:lnTo>
                    <a:lnTo>
                      <a:pt x="1179" y="524"/>
                    </a:lnTo>
                    <a:lnTo>
                      <a:pt x="1175" y="534"/>
                    </a:lnTo>
                    <a:lnTo>
                      <a:pt x="1175" y="544"/>
                    </a:lnTo>
                    <a:lnTo>
                      <a:pt x="1179" y="551"/>
                    </a:lnTo>
                    <a:lnTo>
                      <a:pt x="1191" y="551"/>
                    </a:lnTo>
                    <a:lnTo>
                      <a:pt x="1215" y="528"/>
                    </a:lnTo>
                    <a:lnTo>
                      <a:pt x="1240" y="504"/>
                    </a:lnTo>
                    <a:lnTo>
                      <a:pt x="1263" y="479"/>
                    </a:lnTo>
                    <a:lnTo>
                      <a:pt x="1286" y="455"/>
                    </a:lnTo>
                    <a:lnTo>
                      <a:pt x="1309" y="430"/>
                    </a:lnTo>
                    <a:lnTo>
                      <a:pt x="1331" y="406"/>
                    </a:lnTo>
                    <a:lnTo>
                      <a:pt x="1352" y="381"/>
                    </a:lnTo>
                    <a:lnTo>
                      <a:pt x="1374" y="355"/>
                    </a:lnTo>
                    <a:lnTo>
                      <a:pt x="1396" y="330"/>
                    </a:lnTo>
                    <a:lnTo>
                      <a:pt x="1416" y="304"/>
                    </a:lnTo>
                    <a:lnTo>
                      <a:pt x="1438" y="278"/>
                    </a:lnTo>
                    <a:lnTo>
                      <a:pt x="1459" y="254"/>
                    </a:lnTo>
                    <a:lnTo>
                      <a:pt x="1480" y="228"/>
                    </a:lnTo>
                    <a:lnTo>
                      <a:pt x="1501" y="202"/>
                    </a:lnTo>
                    <a:lnTo>
                      <a:pt x="1525" y="177"/>
                    </a:lnTo>
                    <a:lnTo>
                      <a:pt x="1546" y="151"/>
                    </a:lnTo>
                    <a:lnTo>
                      <a:pt x="1551" y="148"/>
                    </a:lnTo>
                    <a:lnTo>
                      <a:pt x="1558" y="145"/>
                    </a:lnTo>
                    <a:lnTo>
                      <a:pt x="1564" y="143"/>
                    </a:lnTo>
                    <a:lnTo>
                      <a:pt x="1572" y="140"/>
                    </a:lnTo>
                    <a:lnTo>
                      <a:pt x="1579" y="137"/>
                    </a:lnTo>
                    <a:lnTo>
                      <a:pt x="1588" y="135"/>
                    </a:lnTo>
                    <a:lnTo>
                      <a:pt x="1595" y="134"/>
                    </a:lnTo>
                    <a:lnTo>
                      <a:pt x="1603" y="132"/>
                    </a:lnTo>
                    <a:lnTo>
                      <a:pt x="1621" y="151"/>
                    </a:lnTo>
                    <a:lnTo>
                      <a:pt x="1627" y="173"/>
                    </a:lnTo>
                    <a:lnTo>
                      <a:pt x="1610" y="184"/>
                    </a:lnTo>
                    <a:lnTo>
                      <a:pt x="1613" y="193"/>
                    </a:lnTo>
                    <a:lnTo>
                      <a:pt x="1617" y="202"/>
                    </a:lnTo>
                    <a:lnTo>
                      <a:pt x="1621" y="212"/>
                    </a:lnTo>
                    <a:lnTo>
                      <a:pt x="1620" y="223"/>
                    </a:lnTo>
                    <a:lnTo>
                      <a:pt x="1611" y="222"/>
                    </a:lnTo>
                    <a:lnTo>
                      <a:pt x="1603" y="221"/>
                    </a:lnTo>
                    <a:lnTo>
                      <a:pt x="1595" y="221"/>
                    </a:lnTo>
                    <a:lnTo>
                      <a:pt x="1588" y="226"/>
                    </a:lnTo>
                    <a:lnTo>
                      <a:pt x="1590" y="236"/>
                    </a:lnTo>
                    <a:lnTo>
                      <a:pt x="1594" y="245"/>
                    </a:lnTo>
                    <a:lnTo>
                      <a:pt x="1598" y="255"/>
                    </a:lnTo>
                    <a:lnTo>
                      <a:pt x="1600" y="268"/>
                    </a:lnTo>
                    <a:lnTo>
                      <a:pt x="1594" y="265"/>
                    </a:lnTo>
                    <a:lnTo>
                      <a:pt x="1588" y="258"/>
                    </a:lnTo>
                    <a:lnTo>
                      <a:pt x="1581" y="252"/>
                    </a:lnTo>
                    <a:lnTo>
                      <a:pt x="1571" y="251"/>
                    </a:lnTo>
                    <a:lnTo>
                      <a:pt x="1564" y="261"/>
                    </a:lnTo>
                    <a:lnTo>
                      <a:pt x="1568" y="273"/>
                    </a:lnTo>
                    <a:lnTo>
                      <a:pt x="1575" y="281"/>
                    </a:lnTo>
                    <a:lnTo>
                      <a:pt x="1581" y="291"/>
                    </a:lnTo>
                    <a:lnTo>
                      <a:pt x="1581" y="303"/>
                    </a:lnTo>
                    <a:lnTo>
                      <a:pt x="1571" y="306"/>
                    </a:lnTo>
                    <a:lnTo>
                      <a:pt x="1564" y="300"/>
                    </a:lnTo>
                    <a:lnTo>
                      <a:pt x="1553" y="293"/>
                    </a:lnTo>
                    <a:lnTo>
                      <a:pt x="1540" y="293"/>
                    </a:lnTo>
                    <a:lnTo>
                      <a:pt x="1532" y="304"/>
                    </a:lnTo>
                    <a:lnTo>
                      <a:pt x="1536" y="313"/>
                    </a:lnTo>
                    <a:lnTo>
                      <a:pt x="1542" y="320"/>
                    </a:lnTo>
                    <a:lnTo>
                      <a:pt x="1549" y="328"/>
                    </a:lnTo>
                    <a:lnTo>
                      <a:pt x="1558" y="336"/>
                    </a:lnTo>
                    <a:lnTo>
                      <a:pt x="1548" y="354"/>
                    </a:lnTo>
                    <a:lnTo>
                      <a:pt x="1527" y="338"/>
                    </a:lnTo>
                    <a:lnTo>
                      <a:pt x="1506" y="345"/>
                    </a:lnTo>
                    <a:lnTo>
                      <a:pt x="1509" y="352"/>
                    </a:lnTo>
                    <a:lnTo>
                      <a:pt x="1514" y="359"/>
                    </a:lnTo>
                    <a:lnTo>
                      <a:pt x="1523" y="365"/>
                    </a:lnTo>
                    <a:lnTo>
                      <a:pt x="1532" y="374"/>
                    </a:lnTo>
                    <a:lnTo>
                      <a:pt x="1529" y="381"/>
                    </a:lnTo>
                    <a:lnTo>
                      <a:pt x="1526" y="388"/>
                    </a:lnTo>
                    <a:lnTo>
                      <a:pt x="1520" y="394"/>
                    </a:lnTo>
                    <a:lnTo>
                      <a:pt x="1509" y="398"/>
                    </a:lnTo>
                    <a:lnTo>
                      <a:pt x="1490" y="381"/>
                    </a:lnTo>
                    <a:lnTo>
                      <a:pt x="1480" y="385"/>
                    </a:lnTo>
                    <a:lnTo>
                      <a:pt x="1475" y="397"/>
                    </a:lnTo>
                    <a:lnTo>
                      <a:pt x="1478" y="407"/>
                    </a:lnTo>
                    <a:lnTo>
                      <a:pt x="1485" y="414"/>
                    </a:lnTo>
                    <a:lnTo>
                      <a:pt x="1491" y="421"/>
                    </a:lnTo>
                    <a:lnTo>
                      <a:pt x="1493" y="434"/>
                    </a:lnTo>
                    <a:lnTo>
                      <a:pt x="1483" y="442"/>
                    </a:lnTo>
                    <a:lnTo>
                      <a:pt x="1475" y="439"/>
                    </a:lnTo>
                    <a:lnTo>
                      <a:pt x="1468" y="432"/>
                    </a:lnTo>
                    <a:lnTo>
                      <a:pt x="1461" y="423"/>
                    </a:lnTo>
                    <a:lnTo>
                      <a:pt x="1452" y="417"/>
                    </a:lnTo>
                    <a:lnTo>
                      <a:pt x="1441" y="421"/>
                    </a:lnTo>
                    <a:lnTo>
                      <a:pt x="1436" y="432"/>
                    </a:lnTo>
                    <a:lnTo>
                      <a:pt x="1441" y="439"/>
                    </a:lnTo>
                    <a:lnTo>
                      <a:pt x="1445" y="446"/>
                    </a:lnTo>
                    <a:lnTo>
                      <a:pt x="1451" y="453"/>
                    </a:lnTo>
                    <a:lnTo>
                      <a:pt x="1458" y="460"/>
                    </a:lnTo>
                    <a:lnTo>
                      <a:pt x="1452" y="472"/>
                    </a:lnTo>
                    <a:lnTo>
                      <a:pt x="1441" y="473"/>
                    </a:lnTo>
                    <a:lnTo>
                      <a:pt x="1436" y="462"/>
                    </a:lnTo>
                    <a:lnTo>
                      <a:pt x="1431" y="458"/>
                    </a:lnTo>
                    <a:lnTo>
                      <a:pt x="1425" y="453"/>
                    </a:lnTo>
                    <a:lnTo>
                      <a:pt x="1416" y="449"/>
                    </a:lnTo>
                    <a:lnTo>
                      <a:pt x="1405" y="446"/>
                    </a:lnTo>
                    <a:lnTo>
                      <a:pt x="1400" y="453"/>
                    </a:lnTo>
                    <a:lnTo>
                      <a:pt x="1403" y="463"/>
                    </a:lnTo>
                    <a:lnTo>
                      <a:pt x="1410" y="475"/>
                    </a:lnTo>
                    <a:lnTo>
                      <a:pt x="1418" y="485"/>
                    </a:lnTo>
                    <a:lnTo>
                      <a:pt x="1423" y="497"/>
                    </a:lnTo>
                    <a:lnTo>
                      <a:pt x="1413" y="515"/>
                    </a:lnTo>
                    <a:lnTo>
                      <a:pt x="1406" y="510"/>
                    </a:lnTo>
                    <a:lnTo>
                      <a:pt x="1399" y="499"/>
                    </a:lnTo>
                    <a:lnTo>
                      <a:pt x="1390" y="491"/>
                    </a:lnTo>
                    <a:lnTo>
                      <a:pt x="1376" y="485"/>
                    </a:lnTo>
                    <a:lnTo>
                      <a:pt x="1368" y="495"/>
                    </a:lnTo>
                    <a:lnTo>
                      <a:pt x="1371" y="507"/>
                    </a:lnTo>
                    <a:lnTo>
                      <a:pt x="1377" y="517"/>
                    </a:lnTo>
                    <a:lnTo>
                      <a:pt x="1383" y="527"/>
                    </a:lnTo>
                    <a:lnTo>
                      <a:pt x="1390" y="538"/>
                    </a:lnTo>
                    <a:lnTo>
                      <a:pt x="1371" y="550"/>
                    </a:lnTo>
                    <a:lnTo>
                      <a:pt x="1367" y="544"/>
                    </a:lnTo>
                    <a:lnTo>
                      <a:pt x="1363" y="537"/>
                    </a:lnTo>
                    <a:lnTo>
                      <a:pt x="1357" y="530"/>
                    </a:lnTo>
                    <a:lnTo>
                      <a:pt x="1348" y="524"/>
                    </a:lnTo>
                    <a:lnTo>
                      <a:pt x="1337" y="524"/>
                    </a:lnTo>
                    <a:lnTo>
                      <a:pt x="1334" y="534"/>
                    </a:lnTo>
                    <a:lnTo>
                      <a:pt x="1337" y="546"/>
                    </a:lnTo>
                    <a:lnTo>
                      <a:pt x="1342" y="554"/>
                    </a:lnTo>
                    <a:lnTo>
                      <a:pt x="1350" y="563"/>
                    </a:lnTo>
                    <a:lnTo>
                      <a:pt x="1355" y="576"/>
                    </a:lnTo>
                    <a:lnTo>
                      <a:pt x="1345" y="590"/>
                    </a:lnTo>
                    <a:lnTo>
                      <a:pt x="1342" y="582"/>
                    </a:lnTo>
                    <a:lnTo>
                      <a:pt x="1338" y="575"/>
                    </a:lnTo>
                    <a:lnTo>
                      <a:pt x="1331" y="567"/>
                    </a:lnTo>
                    <a:lnTo>
                      <a:pt x="1324" y="559"/>
                    </a:lnTo>
                    <a:lnTo>
                      <a:pt x="1302" y="569"/>
                    </a:lnTo>
                    <a:lnTo>
                      <a:pt x="1306" y="580"/>
                    </a:lnTo>
                    <a:lnTo>
                      <a:pt x="1312" y="589"/>
                    </a:lnTo>
                    <a:lnTo>
                      <a:pt x="1319" y="598"/>
                    </a:lnTo>
                    <a:lnTo>
                      <a:pt x="1325" y="611"/>
                    </a:lnTo>
                    <a:lnTo>
                      <a:pt x="1332" y="632"/>
                    </a:lnTo>
                    <a:lnTo>
                      <a:pt x="1352" y="628"/>
                    </a:lnTo>
                    <a:lnTo>
                      <a:pt x="1364" y="615"/>
                    </a:lnTo>
                    <a:lnTo>
                      <a:pt x="1374" y="602"/>
                    </a:lnTo>
                    <a:lnTo>
                      <a:pt x="1386" y="589"/>
                    </a:lnTo>
                    <a:lnTo>
                      <a:pt x="1397" y="576"/>
                    </a:lnTo>
                    <a:lnTo>
                      <a:pt x="1409" y="563"/>
                    </a:lnTo>
                    <a:lnTo>
                      <a:pt x="1422" y="549"/>
                    </a:lnTo>
                    <a:lnTo>
                      <a:pt x="1433" y="536"/>
                    </a:lnTo>
                    <a:lnTo>
                      <a:pt x="1445" y="523"/>
                    </a:lnTo>
                    <a:lnTo>
                      <a:pt x="1475" y="491"/>
                    </a:lnTo>
                    <a:lnTo>
                      <a:pt x="1503" y="459"/>
                    </a:lnTo>
                    <a:lnTo>
                      <a:pt x="1529" y="429"/>
                    </a:lnTo>
                    <a:lnTo>
                      <a:pt x="1552" y="398"/>
                    </a:lnTo>
                    <a:lnTo>
                      <a:pt x="1572" y="369"/>
                    </a:lnTo>
                    <a:lnTo>
                      <a:pt x="1593" y="341"/>
                    </a:lnTo>
                    <a:lnTo>
                      <a:pt x="1613" y="312"/>
                    </a:lnTo>
                    <a:lnTo>
                      <a:pt x="1632" y="283"/>
                    </a:lnTo>
                    <a:lnTo>
                      <a:pt x="1639" y="276"/>
                    </a:lnTo>
                    <a:lnTo>
                      <a:pt x="1645" y="270"/>
                    </a:lnTo>
                    <a:lnTo>
                      <a:pt x="1650" y="265"/>
                    </a:lnTo>
                    <a:lnTo>
                      <a:pt x="1660" y="258"/>
                    </a:lnTo>
                    <a:lnTo>
                      <a:pt x="1669" y="263"/>
                    </a:lnTo>
                    <a:lnTo>
                      <a:pt x="1678" y="265"/>
                    </a:lnTo>
                    <a:lnTo>
                      <a:pt x="1686" y="268"/>
                    </a:lnTo>
                    <a:lnTo>
                      <a:pt x="1695" y="274"/>
                    </a:lnTo>
                    <a:lnTo>
                      <a:pt x="1705" y="294"/>
                    </a:lnTo>
                    <a:lnTo>
                      <a:pt x="1684" y="294"/>
                    </a:lnTo>
                    <a:lnTo>
                      <a:pt x="1679" y="306"/>
                    </a:lnTo>
                    <a:lnTo>
                      <a:pt x="1684" y="313"/>
                    </a:lnTo>
                    <a:lnTo>
                      <a:pt x="1689" y="319"/>
                    </a:lnTo>
                    <a:lnTo>
                      <a:pt x="1695" y="326"/>
                    </a:lnTo>
                    <a:lnTo>
                      <a:pt x="1700" y="338"/>
                    </a:lnTo>
                    <a:lnTo>
                      <a:pt x="1691" y="352"/>
                    </a:lnTo>
                    <a:lnTo>
                      <a:pt x="1684" y="345"/>
                    </a:lnTo>
                    <a:lnTo>
                      <a:pt x="1679" y="338"/>
                    </a:lnTo>
                    <a:lnTo>
                      <a:pt x="1672" y="333"/>
                    </a:lnTo>
                    <a:lnTo>
                      <a:pt x="1662" y="336"/>
                    </a:lnTo>
                    <a:lnTo>
                      <a:pt x="1656" y="346"/>
                    </a:lnTo>
                    <a:lnTo>
                      <a:pt x="1662" y="355"/>
                    </a:lnTo>
                    <a:lnTo>
                      <a:pt x="1666" y="367"/>
                    </a:lnTo>
                    <a:lnTo>
                      <a:pt x="1671" y="378"/>
                    </a:lnTo>
                    <a:lnTo>
                      <a:pt x="1679" y="388"/>
                    </a:lnTo>
                    <a:lnTo>
                      <a:pt x="1675" y="400"/>
                    </a:lnTo>
                    <a:lnTo>
                      <a:pt x="1668" y="394"/>
                    </a:lnTo>
                    <a:lnTo>
                      <a:pt x="1663" y="387"/>
                    </a:lnTo>
                    <a:lnTo>
                      <a:pt x="1658" y="381"/>
                    </a:lnTo>
                    <a:lnTo>
                      <a:pt x="1650" y="378"/>
                    </a:lnTo>
                    <a:lnTo>
                      <a:pt x="1639" y="382"/>
                    </a:lnTo>
                    <a:lnTo>
                      <a:pt x="1642" y="398"/>
                    </a:lnTo>
                    <a:lnTo>
                      <a:pt x="1647" y="413"/>
                    </a:lnTo>
                    <a:lnTo>
                      <a:pt x="1650" y="429"/>
                    </a:lnTo>
                    <a:lnTo>
                      <a:pt x="1647" y="447"/>
                    </a:lnTo>
                    <a:lnTo>
                      <a:pt x="1639" y="443"/>
                    </a:lnTo>
                    <a:lnTo>
                      <a:pt x="1633" y="434"/>
                    </a:lnTo>
                    <a:lnTo>
                      <a:pt x="1627" y="424"/>
                    </a:lnTo>
                    <a:lnTo>
                      <a:pt x="1614" y="417"/>
                    </a:lnTo>
                    <a:lnTo>
                      <a:pt x="1606" y="421"/>
                    </a:lnTo>
                    <a:lnTo>
                      <a:pt x="1603" y="433"/>
                    </a:lnTo>
                    <a:lnTo>
                      <a:pt x="1607" y="442"/>
                    </a:lnTo>
                    <a:lnTo>
                      <a:pt x="1611" y="450"/>
                    </a:lnTo>
                    <a:lnTo>
                      <a:pt x="1616" y="460"/>
                    </a:lnTo>
                    <a:lnTo>
                      <a:pt x="1619" y="475"/>
                    </a:lnTo>
                    <a:lnTo>
                      <a:pt x="1619" y="482"/>
                    </a:lnTo>
                    <a:lnTo>
                      <a:pt x="1619" y="488"/>
                    </a:lnTo>
                    <a:lnTo>
                      <a:pt x="1614" y="494"/>
                    </a:lnTo>
                    <a:lnTo>
                      <a:pt x="1607" y="494"/>
                    </a:lnTo>
                    <a:lnTo>
                      <a:pt x="1606" y="486"/>
                    </a:lnTo>
                    <a:lnTo>
                      <a:pt x="1600" y="481"/>
                    </a:lnTo>
                    <a:lnTo>
                      <a:pt x="1594" y="475"/>
                    </a:lnTo>
                    <a:lnTo>
                      <a:pt x="1588" y="466"/>
                    </a:lnTo>
                    <a:lnTo>
                      <a:pt x="1566" y="468"/>
                    </a:lnTo>
                    <a:lnTo>
                      <a:pt x="1569" y="481"/>
                    </a:lnTo>
                    <a:lnTo>
                      <a:pt x="1575" y="497"/>
                    </a:lnTo>
                    <a:lnTo>
                      <a:pt x="1582" y="514"/>
                    </a:lnTo>
                    <a:lnTo>
                      <a:pt x="1591" y="533"/>
                    </a:lnTo>
                    <a:lnTo>
                      <a:pt x="1590" y="538"/>
                    </a:lnTo>
                    <a:lnTo>
                      <a:pt x="1585" y="544"/>
                    </a:lnTo>
                    <a:lnTo>
                      <a:pt x="1578" y="550"/>
                    </a:lnTo>
                    <a:lnTo>
                      <a:pt x="1571" y="557"/>
                    </a:lnTo>
                    <a:lnTo>
                      <a:pt x="1569" y="550"/>
                    </a:lnTo>
                    <a:lnTo>
                      <a:pt x="1568" y="543"/>
                    </a:lnTo>
                    <a:lnTo>
                      <a:pt x="1564" y="536"/>
                    </a:lnTo>
                    <a:lnTo>
                      <a:pt x="1561" y="527"/>
                    </a:lnTo>
                    <a:lnTo>
                      <a:pt x="1556" y="520"/>
                    </a:lnTo>
                    <a:lnTo>
                      <a:pt x="1548" y="515"/>
                    </a:lnTo>
                    <a:lnTo>
                      <a:pt x="1538" y="514"/>
                    </a:lnTo>
                    <a:lnTo>
                      <a:pt x="1529" y="521"/>
                    </a:lnTo>
                    <a:lnTo>
                      <a:pt x="1535" y="536"/>
                    </a:lnTo>
                    <a:lnTo>
                      <a:pt x="1540" y="551"/>
                    </a:lnTo>
                    <a:lnTo>
                      <a:pt x="1545" y="569"/>
                    </a:lnTo>
                    <a:lnTo>
                      <a:pt x="1552" y="583"/>
                    </a:lnTo>
                    <a:lnTo>
                      <a:pt x="1552" y="592"/>
                    </a:lnTo>
                    <a:lnTo>
                      <a:pt x="1551" y="601"/>
                    </a:lnTo>
                    <a:lnTo>
                      <a:pt x="1546" y="608"/>
                    </a:lnTo>
                    <a:lnTo>
                      <a:pt x="1538" y="615"/>
                    </a:lnTo>
                    <a:lnTo>
                      <a:pt x="1536" y="606"/>
                    </a:lnTo>
                    <a:lnTo>
                      <a:pt x="1532" y="601"/>
                    </a:lnTo>
                    <a:lnTo>
                      <a:pt x="1527" y="593"/>
                    </a:lnTo>
                    <a:lnTo>
                      <a:pt x="1523" y="583"/>
                    </a:lnTo>
                    <a:lnTo>
                      <a:pt x="1516" y="576"/>
                    </a:lnTo>
                    <a:lnTo>
                      <a:pt x="1510" y="570"/>
                    </a:lnTo>
                    <a:lnTo>
                      <a:pt x="1503" y="566"/>
                    </a:lnTo>
                    <a:lnTo>
                      <a:pt x="1493" y="570"/>
                    </a:lnTo>
                    <a:lnTo>
                      <a:pt x="1493" y="582"/>
                    </a:lnTo>
                    <a:lnTo>
                      <a:pt x="1499" y="586"/>
                    </a:lnTo>
                    <a:lnTo>
                      <a:pt x="1501" y="595"/>
                    </a:lnTo>
                    <a:lnTo>
                      <a:pt x="1504" y="605"/>
                    </a:lnTo>
                    <a:lnTo>
                      <a:pt x="1509" y="612"/>
                    </a:lnTo>
                    <a:lnTo>
                      <a:pt x="1510" y="625"/>
                    </a:lnTo>
                    <a:lnTo>
                      <a:pt x="1512" y="637"/>
                    </a:lnTo>
                    <a:lnTo>
                      <a:pt x="1513" y="650"/>
                    </a:lnTo>
                    <a:lnTo>
                      <a:pt x="1510" y="663"/>
                    </a:lnTo>
                    <a:lnTo>
                      <a:pt x="1503" y="657"/>
                    </a:lnTo>
                    <a:lnTo>
                      <a:pt x="1499" y="648"/>
                    </a:lnTo>
                    <a:lnTo>
                      <a:pt x="1494" y="640"/>
                    </a:lnTo>
                    <a:lnTo>
                      <a:pt x="1485" y="630"/>
                    </a:lnTo>
                    <a:lnTo>
                      <a:pt x="1480" y="627"/>
                    </a:lnTo>
                    <a:lnTo>
                      <a:pt x="1471" y="622"/>
                    </a:lnTo>
                    <a:lnTo>
                      <a:pt x="1461" y="621"/>
                    </a:lnTo>
                    <a:lnTo>
                      <a:pt x="1455" y="630"/>
                    </a:lnTo>
                    <a:lnTo>
                      <a:pt x="1465" y="644"/>
                    </a:lnTo>
                    <a:lnTo>
                      <a:pt x="1474" y="661"/>
                    </a:lnTo>
                    <a:lnTo>
                      <a:pt x="1480" y="682"/>
                    </a:lnTo>
                    <a:lnTo>
                      <a:pt x="1487" y="703"/>
                    </a:lnTo>
                    <a:lnTo>
                      <a:pt x="1485" y="712"/>
                    </a:lnTo>
                    <a:lnTo>
                      <a:pt x="1481" y="718"/>
                    </a:lnTo>
                    <a:lnTo>
                      <a:pt x="1475" y="725"/>
                    </a:lnTo>
                    <a:lnTo>
                      <a:pt x="1472" y="735"/>
                    </a:lnTo>
                    <a:lnTo>
                      <a:pt x="1465" y="731"/>
                    </a:lnTo>
                    <a:lnTo>
                      <a:pt x="1459" y="715"/>
                    </a:lnTo>
                    <a:lnTo>
                      <a:pt x="1454" y="699"/>
                    </a:lnTo>
                    <a:lnTo>
                      <a:pt x="1446" y="683"/>
                    </a:lnTo>
                    <a:lnTo>
                      <a:pt x="1438" y="670"/>
                    </a:lnTo>
                    <a:lnTo>
                      <a:pt x="1426" y="663"/>
                    </a:lnTo>
                    <a:lnTo>
                      <a:pt x="1415" y="670"/>
                    </a:lnTo>
                    <a:lnTo>
                      <a:pt x="1418" y="683"/>
                    </a:lnTo>
                    <a:lnTo>
                      <a:pt x="1422" y="697"/>
                    </a:lnTo>
                    <a:lnTo>
                      <a:pt x="1429" y="712"/>
                    </a:lnTo>
                    <a:lnTo>
                      <a:pt x="1436" y="726"/>
                    </a:lnTo>
                    <a:lnTo>
                      <a:pt x="1442" y="741"/>
                    </a:lnTo>
                    <a:lnTo>
                      <a:pt x="1446" y="755"/>
                    </a:lnTo>
                    <a:lnTo>
                      <a:pt x="1446" y="771"/>
                    </a:lnTo>
                    <a:lnTo>
                      <a:pt x="1442" y="786"/>
                    </a:lnTo>
                    <a:lnTo>
                      <a:pt x="1435" y="786"/>
                    </a:lnTo>
                    <a:lnTo>
                      <a:pt x="1431" y="767"/>
                    </a:lnTo>
                    <a:lnTo>
                      <a:pt x="1422" y="751"/>
                    </a:lnTo>
                    <a:lnTo>
                      <a:pt x="1412" y="736"/>
                    </a:lnTo>
                    <a:lnTo>
                      <a:pt x="1400" y="721"/>
                    </a:lnTo>
                    <a:lnTo>
                      <a:pt x="1389" y="722"/>
                    </a:lnTo>
                    <a:lnTo>
                      <a:pt x="1381" y="732"/>
                    </a:lnTo>
                    <a:lnTo>
                      <a:pt x="1390" y="751"/>
                    </a:lnTo>
                    <a:lnTo>
                      <a:pt x="1400" y="771"/>
                    </a:lnTo>
                    <a:lnTo>
                      <a:pt x="1409" y="793"/>
                    </a:lnTo>
                    <a:lnTo>
                      <a:pt x="1415" y="817"/>
                    </a:lnTo>
                    <a:lnTo>
                      <a:pt x="1406" y="826"/>
                    </a:lnTo>
                    <a:lnTo>
                      <a:pt x="1403" y="820"/>
                    </a:lnTo>
                    <a:lnTo>
                      <a:pt x="1402" y="813"/>
                    </a:lnTo>
                    <a:lnTo>
                      <a:pt x="1399" y="807"/>
                    </a:lnTo>
                    <a:lnTo>
                      <a:pt x="1393" y="800"/>
                    </a:lnTo>
                    <a:lnTo>
                      <a:pt x="1386" y="791"/>
                    </a:lnTo>
                    <a:lnTo>
                      <a:pt x="1381" y="784"/>
                    </a:lnTo>
                    <a:lnTo>
                      <a:pt x="1374" y="777"/>
                    </a:lnTo>
                    <a:lnTo>
                      <a:pt x="1364" y="768"/>
                    </a:lnTo>
                    <a:lnTo>
                      <a:pt x="1354" y="768"/>
                    </a:lnTo>
                    <a:lnTo>
                      <a:pt x="1351" y="778"/>
                    </a:lnTo>
                    <a:lnTo>
                      <a:pt x="1358" y="796"/>
                    </a:lnTo>
                    <a:lnTo>
                      <a:pt x="1365" y="812"/>
                    </a:lnTo>
                    <a:lnTo>
                      <a:pt x="1374" y="829"/>
                    </a:lnTo>
                    <a:lnTo>
                      <a:pt x="1381" y="851"/>
                    </a:lnTo>
                    <a:lnTo>
                      <a:pt x="1365" y="872"/>
                    </a:lnTo>
                    <a:lnTo>
                      <a:pt x="1358" y="861"/>
                    </a:lnTo>
                    <a:lnTo>
                      <a:pt x="1352" y="848"/>
                    </a:lnTo>
                    <a:lnTo>
                      <a:pt x="1344" y="833"/>
                    </a:lnTo>
                    <a:lnTo>
                      <a:pt x="1335" y="820"/>
                    </a:lnTo>
                    <a:lnTo>
                      <a:pt x="1313" y="823"/>
                    </a:lnTo>
                    <a:lnTo>
                      <a:pt x="1316" y="840"/>
                    </a:lnTo>
                    <a:lnTo>
                      <a:pt x="1326" y="858"/>
                    </a:lnTo>
                    <a:lnTo>
                      <a:pt x="1338" y="877"/>
                    </a:lnTo>
                    <a:lnTo>
                      <a:pt x="1345" y="898"/>
                    </a:lnTo>
                    <a:lnTo>
                      <a:pt x="1347" y="905"/>
                    </a:lnTo>
                    <a:lnTo>
                      <a:pt x="1345" y="911"/>
                    </a:lnTo>
                    <a:lnTo>
                      <a:pt x="1341" y="917"/>
                    </a:lnTo>
                    <a:lnTo>
                      <a:pt x="1332" y="923"/>
                    </a:lnTo>
                    <a:lnTo>
                      <a:pt x="1329" y="917"/>
                    </a:lnTo>
                    <a:lnTo>
                      <a:pt x="1325" y="911"/>
                    </a:lnTo>
                    <a:lnTo>
                      <a:pt x="1321" y="904"/>
                    </a:lnTo>
                    <a:lnTo>
                      <a:pt x="1315" y="897"/>
                    </a:lnTo>
                    <a:lnTo>
                      <a:pt x="1311" y="891"/>
                    </a:lnTo>
                    <a:lnTo>
                      <a:pt x="1303" y="884"/>
                    </a:lnTo>
                    <a:lnTo>
                      <a:pt x="1296" y="878"/>
                    </a:lnTo>
                    <a:lnTo>
                      <a:pt x="1289" y="874"/>
                    </a:lnTo>
                    <a:lnTo>
                      <a:pt x="1279" y="877"/>
                    </a:lnTo>
                    <a:lnTo>
                      <a:pt x="1283" y="897"/>
                    </a:lnTo>
                    <a:lnTo>
                      <a:pt x="1293" y="916"/>
                    </a:lnTo>
                    <a:lnTo>
                      <a:pt x="1305" y="931"/>
                    </a:lnTo>
                    <a:lnTo>
                      <a:pt x="1313" y="950"/>
                    </a:lnTo>
                    <a:lnTo>
                      <a:pt x="1313" y="960"/>
                    </a:lnTo>
                    <a:lnTo>
                      <a:pt x="1313" y="969"/>
                    </a:lnTo>
                    <a:lnTo>
                      <a:pt x="1309" y="976"/>
                    </a:lnTo>
                    <a:lnTo>
                      <a:pt x="1305" y="983"/>
                    </a:lnTo>
                    <a:lnTo>
                      <a:pt x="1299" y="992"/>
                    </a:lnTo>
                    <a:lnTo>
                      <a:pt x="1289" y="997"/>
                    </a:lnTo>
                    <a:lnTo>
                      <a:pt x="1287" y="989"/>
                    </a:lnTo>
                    <a:lnTo>
                      <a:pt x="1284" y="982"/>
                    </a:lnTo>
                    <a:lnTo>
                      <a:pt x="1282" y="975"/>
                    </a:lnTo>
                    <a:lnTo>
                      <a:pt x="1277" y="965"/>
                    </a:lnTo>
                    <a:lnTo>
                      <a:pt x="1271" y="955"/>
                    </a:lnTo>
                    <a:lnTo>
                      <a:pt x="1263" y="943"/>
                    </a:lnTo>
                    <a:lnTo>
                      <a:pt x="1253" y="933"/>
                    </a:lnTo>
                    <a:lnTo>
                      <a:pt x="1241" y="926"/>
                    </a:lnTo>
                    <a:lnTo>
                      <a:pt x="1234" y="937"/>
                    </a:lnTo>
                    <a:lnTo>
                      <a:pt x="1244" y="960"/>
                    </a:lnTo>
                    <a:lnTo>
                      <a:pt x="1254" y="982"/>
                    </a:lnTo>
                    <a:lnTo>
                      <a:pt x="1266" y="1005"/>
                    </a:lnTo>
                    <a:lnTo>
                      <a:pt x="1276" y="1031"/>
                    </a:lnTo>
                    <a:lnTo>
                      <a:pt x="1260" y="1050"/>
                    </a:lnTo>
                    <a:lnTo>
                      <a:pt x="1253" y="1037"/>
                    </a:lnTo>
                    <a:lnTo>
                      <a:pt x="1247" y="1024"/>
                    </a:lnTo>
                    <a:lnTo>
                      <a:pt x="1238" y="1010"/>
                    </a:lnTo>
                    <a:lnTo>
                      <a:pt x="1230" y="995"/>
                    </a:lnTo>
                    <a:lnTo>
                      <a:pt x="1208" y="979"/>
                    </a:lnTo>
                    <a:lnTo>
                      <a:pt x="1201" y="986"/>
                    </a:lnTo>
                    <a:lnTo>
                      <a:pt x="1201" y="997"/>
                    </a:lnTo>
                    <a:lnTo>
                      <a:pt x="1212" y="1017"/>
                    </a:lnTo>
                    <a:lnTo>
                      <a:pt x="1221" y="1036"/>
                    </a:lnTo>
                    <a:lnTo>
                      <a:pt x="1231" y="1057"/>
                    </a:lnTo>
                    <a:lnTo>
                      <a:pt x="1241" y="1080"/>
                    </a:lnTo>
                    <a:lnTo>
                      <a:pt x="1227" y="1102"/>
                    </a:lnTo>
                    <a:lnTo>
                      <a:pt x="1219" y="1093"/>
                    </a:lnTo>
                    <a:lnTo>
                      <a:pt x="1219" y="1082"/>
                    </a:lnTo>
                    <a:lnTo>
                      <a:pt x="1208" y="1062"/>
                    </a:lnTo>
                    <a:lnTo>
                      <a:pt x="1202" y="1051"/>
                    </a:lnTo>
                    <a:lnTo>
                      <a:pt x="1195" y="1041"/>
                    </a:lnTo>
                    <a:lnTo>
                      <a:pt x="1186" y="1033"/>
                    </a:lnTo>
                    <a:lnTo>
                      <a:pt x="1175" y="1024"/>
                    </a:lnTo>
                    <a:lnTo>
                      <a:pt x="1162" y="1017"/>
                    </a:lnTo>
                    <a:lnTo>
                      <a:pt x="1159" y="1037"/>
                    </a:lnTo>
                    <a:lnTo>
                      <a:pt x="1164" y="1047"/>
                    </a:lnTo>
                    <a:lnTo>
                      <a:pt x="1172" y="1057"/>
                    </a:lnTo>
                    <a:lnTo>
                      <a:pt x="1179" y="1069"/>
                    </a:lnTo>
                    <a:lnTo>
                      <a:pt x="1185" y="1080"/>
                    </a:lnTo>
                    <a:lnTo>
                      <a:pt x="1192" y="1092"/>
                    </a:lnTo>
                    <a:lnTo>
                      <a:pt x="1196" y="1105"/>
                    </a:lnTo>
                    <a:lnTo>
                      <a:pt x="1201" y="1118"/>
                    </a:lnTo>
                    <a:lnTo>
                      <a:pt x="1202" y="1132"/>
                    </a:lnTo>
                    <a:lnTo>
                      <a:pt x="1186" y="1154"/>
                    </a:lnTo>
                    <a:lnTo>
                      <a:pt x="1179" y="1145"/>
                    </a:lnTo>
                    <a:lnTo>
                      <a:pt x="1176" y="1135"/>
                    </a:lnTo>
                    <a:lnTo>
                      <a:pt x="1172" y="1125"/>
                    </a:lnTo>
                    <a:lnTo>
                      <a:pt x="1167" y="1116"/>
                    </a:lnTo>
                    <a:lnTo>
                      <a:pt x="1163" y="1108"/>
                    </a:lnTo>
                    <a:lnTo>
                      <a:pt x="1157" y="1099"/>
                    </a:lnTo>
                    <a:lnTo>
                      <a:pt x="1151" y="1090"/>
                    </a:lnTo>
                    <a:lnTo>
                      <a:pt x="1144" y="1082"/>
                    </a:lnTo>
                    <a:lnTo>
                      <a:pt x="1136" y="1073"/>
                    </a:lnTo>
                    <a:lnTo>
                      <a:pt x="1114" y="1075"/>
                    </a:lnTo>
                    <a:lnTo>
                      <a:pt x="1118" y="1095"/>
                    </a:lnTo>
                    <a:lnTo>
                      <a:pt x="1125" y="1101"/>
                    </a:lnTo>
                    <a:lnTo>
                      <a:pt x="1131" y="1109"/>
                    </a:lnTo>
                    <a:lnTo>
                      <a:pt x="1137" y="1118"/>
                    </a:lnTo>
                    <a:lnTo>
                      <a:pt x="1141" y="1128"/>
                    </a:lnTo>
                    <a:lnTo>
                      <a:pt x="1146" y="1138"/>
                    </a:lnTo>
                    <a:lnTo>
                      <a:pt x="1151" y="1148"/>
                    </a:lnTo>
                    <a:lnTo>
                      <a:pt x="1157" y="1158"/>
                    </a:lnTo>
                    <a:lnTo>
                      <a:pt x="1163" y="1167"/>
                    </a:lnTo>
                    <a:lnTo>
                      <a:pt x="1170" y="1171"/>
                    </a:lnTo>
                    <a:lnTo>
                      <a:pt x="1163" y="1177"/>
                    </a:lnTo>
                    <a:lnTo>
                      <a:pt x="1159" y="1184"/>
                    </a:lnTo>
                    <a:lnTo>
                      <a:pt x="1154" y="1193"/>
                    </a:lnTo>
                    <a:lnTo>
                      <a:pt x="1144" y="1199"/>
                    </a:lnTo>
                    <a:lnTo>
                      <a:pt x="1140" y="1189"/>
                    </a:lnTo>
                    <a:lnTo>
                      <a:pt x="1136" y="1180"/>
                    </a:lnTo>
                    <a:lnTo>
                      <a:pt x="1131" y="1171"/>
                    </a:lnTo>
                    <a:lnTo>
                      <a:pt x="1127" y="1163"/>
                    </a:lnTo>
                    <a:lnTo>
                      <a:pt x="1121" y="1154"/>
                    </a:lnTo>
                    <a:lnTo>
                      <a:pt x="1115" y="1145"/>
                    </a:lnTo>
                    <a:lnTo>
                      <a:pt x="1110" y="1137"/>
                    </a:lnTo>
                    <a:lnTo>
                      <a:pt x="1101" y="1128"/>
                    </a:lnTo>
                    <a:lnTo>
                      <a:pt x="1094" y="1127"/>
                    </a:lnTo>
                    <a:lnTo>
                      <a:pt x="1086" y="1124"/>
                    </a:lnTo>
                    <a:lnTo>
                      <a:pt x="1079" y="1124"/>
                    </a:lnTo>
                    <a:lnTo>
                      <a:pt x="1070" y="1129"/>
                    </a:lnTo>
                    <a:lnTo>
                      <a:pt x="1072" y="1138"/>
                    </a:lnTo>
                    <a:lnTo>
                      <a:pt x="1079" y="1144"/>
                    </a:lnTo>
                    <a:lnTo>
                      <a:pt x="1085" y="1150"/>
                    </a:lnTo>
                    <a:lnTo>
                      <a:pt x="1091" y="1158"/>
                    </a:lnTo>
                    <a:lnTo>
                      <a:pt x="1097" y="1167"/>
                    </a:lnTo>
                    <a:lnTo>
                      <a:pt x="1101" y="1176"/>
                    </a:lnTo>
                    <a:lnTo>
                      <a:pt x="1105" y="1186"/>
                    </a:lnTo>
                    <a:lnTo>
                      <a:pt x="1111" y="1197"/>
                    </a:lnTo>
                    <a:lnTo>
                      <a:pt x="1115" y="1207"/>
                    </a:lnTo>
                    <a:lnTo>
                      <a:pt x="1125" y="1218"/>
                    </a:lnTo>
                    <a:lnTo>
                      <a:pt x="1118" y="1223"/>
                    </a:lnTo>
                    <a:lnTo>
                      <a:pt x="1114" y="1231"/>
                    </a:lnTo>
                    <a:lnTo>
                      <a:pt x="1107" y="1236"/>
                    </a:lnTo>
                    <a:lnTo>
                      <a:pt x="1098" y="1239"/>
                    </a:lnTo>
                    <a:lnTo>
                      <a:pt x="1091" y="1232"/>
                    </a:lnTo>
                    <a:lnTo>
                      <a:pt x="1085" y="1223"/>
                    </a:lnTo>
                    <a:lnTo>
                      <a:pt x="1079" y="1213"/>
                    </a:lnTo>
                    <a:lnTo>
                      <a:pt x="1072" y="1205"/>
                    </a:lnTo>
                    <a:lnTo>
                      <a:pt x="1039" y="1168"/>
                    </a:lnTo>
                    <a:lnTo>
                      <a:pt x="1023" y="1183"/>
                    </a:lnTo>
                    <a:lnTo>
                      <a:pt x="1030" y="1192"/>
                    </a:lnTo>
                    <a:lnTo>
                      <a:pt x="1037" y="1200"/>
                    </a:lnTo>
                    <a:lnTo>
                      <a:pt x="1044" y="1209"/>
                    </a:lnTo>
                    <a:lnTo>
                      <a:pt x="1050" y="1220"/>
                    </a:lnTo>
                    <a:lnTo>
                      <a:pt x="1056" y="1231"/>
                    </a:lnTo>
                    <a:lnTo>
                      <a:pt x="1062" y="1244"/>
                    </a:lnTo>
                    <a:lnTo>
                      <a:pt x="1068" y="1255"/>
                    </a:lnTo>
                    <a:lnTo>
                      <a:pt x="1073" y="1268"/>
                    </a:lnTo>
                    <a:lnTo>
                      <a:pt x="1055" y="1280"/>
                    </a:lnTo>
                    <a:lnTo>
                      <a:pt x="1047" y="1274"/>
                    </a:lnTo>
                    <a:lnTo>
                      <a:pt x="1040" y="1268"/>
                    </a:lnTo>
                    <a:lnTo>
                      <a:pt x="1034" y="1259"/>
                    </a:lnTo>
                    <a:lnTo>
                      <a:pt x="1029" y="1249"/>
                    </a:lnTo>
                    <a:lnTo>
                      <a:pt x="1023" y="1241"/>
                    </a:lnTo>
                    <a:lnTo>
                      <a:pt x="1016" y="1231"/>
                    </a:lnTo>
                    <a:lnTo>
                      <a:pt x="1007" y="1220"/>
                    </a:lnTo>
                    <a:lnTo>
                      <a:pt x="997" y="1210"/>
                    </a:lnTo>
                    <a:lnTo>
                      <a:pt x="978" y="1215"/>
                    </a:lnTo>
                    <a:lnTo>
                      <a:pt x="978" y="1225"/>
                    </a:lnTo>
                    <a:lnTo>
                      <a:pt x="991" y="1235"/>
                    </a:lnTo>
                    <a:lnTo>
                      <a:pt x="992" y="1245"/>
                    </a:lnTo>
                    <a:lnTo>
                      <a:pt x="997" y="1251"/>
                    </a:lnTo>
                    <a:lnTo>
                      <a:pt x="1003" y="1258"/>
                    </a:lnTo>
                    <a:lnTo>
                      <a:pt x="1005" y="1268"/>
                    </a:lnTo>
                    <a:lnTo>
                      <a:pt x="1011" y="1275"/>
                    </a:lnTo>
                    <a:lnTo>
                      <a:pt x="1016" y="1283"/>
                    </a:lnTo>
                    <a:lnTo>
                      <a:pt x="1023" y="1290"/>
                    </a:lnTo>
                    <a:lnTo>
                      <a:pt x="1031" y="1298"/>
                    </a:lnTo>
                    <a:lnTo>
                      <a:pt x="1029" y="1306"/>
                    </a:lnTo>
                    <a:lnTo>
                      <a:pt x="1021" y="1310"/>
                    </a:lnTo>
                    <a:lnTo>
                      <a:pt x="1011" y="1314"/>
                    </a:lnTo>
                    <a:lnTo>
                      <a:pt x="1004" y="1320"/>
                    </a:lnTo>
                    <a:lnTo>
                      <a:pt x="995" y="1313"/>
                    </a:lnTo>
                    <a:lnTo>
                      <a:pt x="988" y="1306"/>
                    </a:lnTo>
                    <a:lnTo>
                      <a:pt x="981" y="1298"/>
                    </a:lnTo>
                    <a:lnTo>
                      <a:pt x="975" y="1291"/>
                    </a:lnTo>
                    <a:lnTo>
                      <a:pt x="968" y="1283"/>
                    </a:lnTo>
                    <a:lnTo>
                      <a:pt x="962" y="1275"/>
                    </a:lnTo>
                    <a:lnTo>
                      <a:pt x="955" y="1267"/>
                    </a:lnTo>
                    <a:lnTo>
                      <a:pt x="948" y="1259"/>
                    </a:lnTo>
                    <a:lnTo>
                      <a:pt x="926" y="1258"/>
                    </a:lnTo>
                    <a:lnTo>
                      <a:pt x="926" y="1268"/>
                    </a:lnTo>
                    <a:lnTo>
                      <a:pt x="929" y="1277"/>
                    </a:lnTo>
                    <a:lnTo>
                      <a:pt x="935" y="1285"/>
                    </a:lnTo>
                    <a:lnTo>
                      <a:pt x="940" y="1293"/>
                    </a:lnTo>
                    <a:lnTo>
                      <a:pt x="946" y="1300"/>
                    </a:lnTo>
                    <a:lnTo>
                      <a:pt x="953" y="1307"/>
                    </a:lnTo>
                    <a:lnTo>
                      <a:pt x="959" y="1314"/>
                    </a:lnTo>
                    <a:lnTo>
                      <a:pt x="966" y="1323"/>
                    </a:lnTo>
                    <a:lnTo>
                      <a:pt x="972" y="1332"/>
                    </a:lnTo>
                    <a:lnTo>
                      <a:pt x="974" y="1340"/>
                    </a:lnTo>
                    <a:lnTo>
                      <a:pt x="952" y="1348"/>
                    </a:lnTo>
                    <a:lnTo>
                      <a:pt x="943" y="1343"/>
                    </a:lnTo>
                    <a:lnTo>
                      <a:pt x="935" y="1339"/>
                    </a:lnTo>
                    <a:lnTo>
                      <a:pt x="926" y="1332"/>
                    </a:lnTo>
                    <a:lnTo>
                      <a:pt x="917" y="1323"/>
                    </a:lnTo>
                    <a:lnTo>
                      <a:pt x="909" y="1316"/>
                    </a:lnTo>
                    <a:lnTo>
                      <a:pt x="900" y="1307"/>
                    </a:lnTo>
                    <a:lnTo>
                      <a:pt x="891" y="1300"/>
                    </a:lnTo>
                    <a:lnTo>
                      <a:pt x="882" y="1294"/>
                    </a:lnTo>
                    <a:lnTo>
                      <a:pt x="869" y="1311"/>
                    </a:lnTo>
                    <a:lnTo>
                      <a:pt x="875" y="1319"/>
                    </a:lnTo>
                    <a:lnTo>
                      <a:pt x="881" y="1326"/>
                    </a:lnTo>
                    <a:lnTo>
                      <a:pt x="887" y="1333"/>
                    </a:lnTo>
                    <a:lnTo>
                      <a:pt x="893" y="1342"/>
                    </a:lnTo>
                    <a:lnTo>
                      <a:pt x="900" y="1349"/>
                    </a:lnTo>
                    <a:lnTo>
                      <a:pt x="907" y="1356"/>
                    </a:lnTo>
                    <a:lnTo>
                      <a:pt x="916" y="1362"/>
                    </a:lnTo>
                    <a:lnTo>
                      <a:pt x="924" y="1366"/>
                    </a:lnTo>
                    <a:lnTo>
                      <a:pt x="916" y="1374"/>
                    </a:lnTo>
                    <a:lnTo>
                      <a:pt x="909" y="1381"/>
                    </a:lnTo>
                    <a:lnTo>
                      <a:pt x="901" y="1387"/>
                    </a:lnTo>
                    <a:lnTo>
                      <a:pt x="891" y="1391"/>
                    </a:lnTo>
                    <a:lnTo>
                      <a:pt x="884" y="1384"/>
                    </a:lnTo>
                    <a:lnTo>
                      <a:pt x="877" y="1375"/>
                    </a:lnTo>
                    <a:lnTo>
                      <a:pt x="868" y="1368"/>
                    </a:lnTo>
                    <a:lnTo>
                      <a:pt x="861" y="1359"/>
                    </a:lnTo>
                    <a:lnTo>
                      <a:pt x="852" y="1352"/>
                    </a:lnTo>
                    <a:lnTo>
                      <a:pt x="842" y="1345"/>
                    </a:lnTo>
                    <a:lnTo>
                      <a:pt x="832" y="1337"/>
                    </a:lnTo>
                    <a:lnTo>
                      <a:pt x="822" y="1330"/>
                    </a:lnTo>
                    <a:lnTo>
                      <a:pt x="812" y="1340"/>
                    </a:lnTo>
                    <a:lnTo>
                      <a:pt x="816" y="1350"/>
                    </a:lnTo>
                    <a:lnTo>
                      <a:pt x="822" y="1359"/>
                    </a:lnTo>
                    <a:lnTo>
                      <a:pt x="829" y="1368"/>
                    </a:lnTo>
                    <a:lnTo>
                      <a:pt x="836" y="1377"/>
                    </a:lnTo>
                    <a:lnTo>
                      <a:pt x="845" y="1384"/>
                    </a:lnTo>
                    <a:lnTo>
                      <a:pt x="854" y="1392"/>
                    </a:lnTo>
                    <a:lnTo>
                      <a:pt x="862" y="1401"/>
                    </a:lnTo>
                    <a:lnTo>
                      <a:pt x="872" y="1410"/>
                    </a:lnTo>
                    <a:lnTo>
                      <a:pt x="869" y="1417"/>
                    </a:lnTo>
                    <a:lnTo>
                      <a:pt x="864" y="1424"/>
                    </a:lnTo>
                    <a:lnTo>
                      <a:pt x="856" y="1430"/>
                    </a:lnTo>
                    <a:lnTo>
                      <a:pt x="848" y="1439"/>
                    </a:lnTo>
                    <a:lnTo>
                      <a:pt x="841" y="1439"/>
                    </a:lnTo>
                    <a:lnTo>
                      <a:pt x="832" y="1431"/>
                    </a:lnTo>
                    <a:lnTo>
                      <a:pt x="825" y="1426"/>
                    </a:lnTo>
                    <a:lnTo>
                      <a:pt x="816" y="1420"/>
                    </a:lnTo>
                    <a:lnTo>
                      <a:pt x="810" y="1414"/>
                    </a:lnTo>
                    <a:lnTo>
                      <a:pt x="803" y="1407"/>
                    </a:lnTo>
                    <a:lnTo>
                      <a:pt x="796" y="1400"/>
                    </a:lnTo>
                    <a:lnTo>
                      <a:pt x="788" y="1392"/>
                    </a:lnTo>
                    <a:lnTo>
                      <a:pt x="780" y="1382"/>
                    </a:lnTo>
                    <a:lnTo>
                      <a:pt x="757" y="1394"/>
                    </a:lnTo>
                    <a:lnTo>
                      <a:pt x="761" y="1404"/>
                    </a:lnTo>
                    <a:lnTo>
                      <a:pt x="767" y="1413"/>
                    </a:lnTo>
                    <a:lnTo>
                      <a:pt x="774" y="1421"/>
                    </a:lnTo>
                    <a:lnTo>
                      <a:pt x="783" y="1430"/>
                    </a:lnTo>
                    <a:lnTo>
                      <a:pt x="793" y="1437"/>
                    </a:lnTo>
                    <a:lnTo>
                      <a:pt x="803" y="1446"/>
                    </a:lnTo>
                    <a:lnTo>
                      <a:pt x="813" y="1455"/>
                    </a:lnTo>
                    <a:lnTo>
                      <a:pt x="822" y="1463"/>
                    </a:lnTo>
                    <a:lnTo>
                      <a:pt x="815" y="1469"/>
                    </a:lnTo>
                    <a:lnTo>
                      <a:pt x="810" y="1475"/>
                    </a:lnTo>
                    <a:lnTo>
                      <a:pt x="803" y="1481"/>
                    </a:lnTo>
                    <a:lnTo>
                      <a:pt x="793" y="1485"/>
                    </a:lnTo>
                    <a:lnTo>
                      <a:pt x="784" y="1481"/>
                    </a:lnTo>
                    <a:lnTo>
                      <a:pt x="775" y="1473"/>
                    </a:lnTo>
                    <a:lnTo>
                      <a:pt x="767" y="1468"/>
                    </a:lnTo>
                    <a:lnTo>
                      <a:pt x="760" y="1460"/>
                    </a:lnTo>
                    <a:lnTo>
                      <a:pt x="751" y="1452"/>
                    </a:lnTo>
                    <a:lnTo>
                      <a:pt x="742" y="1444"/>
                    </a:lnTo>
                    <a:lnTo>
                      <a:pt x="734" y="1436"/>
                    </a:lnTo>
                    <a:lnTo>
                      <a:pt x="723" y="1429"/>
                    </a:lnTo>
                    <a:lnTo>
                      <a:pt x="702" y="1442"/>
                    </a:lnTo>
                    <a:lnTo>
                      <a:pt x="705" y="1449"/>
                    </a:lnTo>
                    <a:lnTo>
                      <a:pt x="710" y="1456"/>
                    </a:lnTo>
                    <a:lnTo>
                      <a:pt x="718" y="1462"/>
                    </a:lnTo>
                    <a:lnTo>
                      <a:pt x="723" y="1468"/>
                    </a:lnTo>
                    <a:lnTo>
                      <a:pt x="731" y="1472"/>
                    </a:lnTo>
                    <a:lnTo>
                      <a:pt x="738" y="1476"/>
                    </a:lnTo>
                    <a:lnTo>
                      <a:pt x="744" y="1481"/>
                    </a:lnTo>
                    <a:lnTo>
                      <a:pt x="749" y="1486"/>
                    </a:lnTo>
                    <a:lnTo>
                      <a:pt x="754" y="1494"/>
                    </a:lnTo>
                    <a:lnTo>
                      <a:pt x="747" y="1496"/>
                    </a:lnTo>
                    <a:lnTo>
                      <a:pt x="736" y="1496"/>
                    </a:lnTo>
                    <a:lnTo>
                      <a:pt x="726" y="1496"/>
                    </a:lnTo>
                    <a:lnTo>
                      <a:pt x="716" y="1499"/>
                    </a:lnTo>
                    <a:lnTo>
                      <a:pt x="695" y="1492"/>
                    </a:lnTo>
                    <a:lnTo>
                      <a:pt x="686" y="1488"/>
                    </a:lnTo>
                    <a:lnTo>
                      <a:pt x="679" y="1479"/>
                    </a:lnTo>
                    <a:lnTo>
                      <a:pt x="670" y="1470"/>
                    </a:lnTo>
                    <a:lnTo>
                      <a:pt x="658" y="1465"/>
                    </a:lnTo>
                    <a:lnTo>
                      <a:pt x="650" y="1468"/>
                    </a:lnTo>
                    <a:lnTo>
                      <a:pt x="644" y="1476"/>
                    </a:lnTo>
                    <a:lnTo>
                      <a:pt x="644" y="1485"/>
                    </a:lnTo>
                    <a:lnTo>
                      <a:pt x="650" y="1492"/>
                    </a:lnTo>
                    <a:lnTo>
                      <a:pt x="647" y="1499"/>
                    </a:lnTo>
                    <a:lnTo>
                      <a:pt x="629" y="1499"/>
                    </a:lnTo>
                    <a:lnTo>
                      <a:pt x="612" y="1501"/>
                    </a:lnTo>
                    <a:lnTo>
                      <a:pt x="595" y="1501"/>
                    </a:lnTo>
                    <a:lnTo>
                      <a:pt x="576" y="1501"/>
                    </a:lnTo>
                    <a:lnTo>
                      <a:pt x="559" y="1501"/>
                    </a:lnTo>
                    <a:lnTo>
                      <a:pt x="541" y="1501"/>
                    </a:lnTo>
                    <a:lnTo>
                      <a:pt x="524" y="1501"/>
                    </a:lnTo>
                    <a:lnTo>
                      <a:pt x="507" y="1499"/>
                    </a:lnTo>
                    <a:lnTo>
                      <a:pt x="488" y="1499"/>
                    </a:lnTo>
                    <a:lnTo>
                      <a:pt x="470" y="1499"/>
                    </a:lnTo>
                    <a:lnTo>
                      <a:pt x="453" y="1499"/>
                    </a:lnTo>
                    <a:lnTo>
                      <a:pt x="434" y="1499"/>
                    </a:lnTo>
                    <a:lnTo>
                      <a:pt x="417" y="1499"/>
                    </a:lnTo>
                    <a:lnTo>
                      <a:pt x="398" y="1499"/>
                    </a:lnTo>
                    <a:lnTo>
                      <a:pt x="381" y="1499"/>
                    </a:lnTo>
                    <a:lnTo>
                      <a:pt x="362" y="1499"/>
                    </a:lnTo>
                    <a:lnTo>
                      <a:pt x="356" y="1504"/>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6986520" y="2722680"/>
                <a:ext cx="1463760" cy="1334880"/>
              </a:xfrm>
              <a:custGeom>
                <a:avLst/>
                <a:gdLst/>
                <a:ahLst/>
                <a:rect l="l" t="t" r="r" b="b"/>
                <a:pathLst>
                  <a:path w="2766" h="2525">
                    <a:moveTo>
                      <a:pt x="136" y="2525"/>
                    </a:moveTo>
                    <a:lnTo>
                      <a:pt x="123" y="2522"/>
                    </a:lnTo>
                    <a:lnTo>
                      <a:pt x="109" y="2520"/>
                    </a:lnTo>
                    <a:lnTo>
                      <a:pt x="96" y="2520"/>
                    </a:lnTo>
                    <a:lnTo>
                      <a:pt x="81" y="2520"/>
                    </a:lnTo>
                    <a:lnTo>
                      <a:pt x="65" y="2522"/>
                    </a:lnTo>
                    <a:lnTo>
                      <a:pt x="51" y="2522"/>
                    </a:lnTo>
                    <a:lnTo>
                      <a:pt x="35" y="2522"/>
                    </a:lnTo>
                    <a:lnTo>
                      <a:pt x="20" y="2522"/>
                    </a:lnTo>
                    <a:lnTo>
                      <a:pt x="9" y="1902"/>
                    </a:lnTo>
                    <a:lnTo>
                      <a:pt x="4" y="1279"/>
                    </a:lnTo>
                    <a:lnTo>
                      <a:pt x="2" y="656"/>
                    </a:lnTo>
                    <a:lnTo>
                      <a:pt x="0" y="32"/>
                    </a:lnTo>
                    <a:lnTo>
                      <a:pt x="15" y="21"/>
                    </a:lnTo>
                    <a:lnTo>
                      <a:pt x="67" y="19"/>
                    </a:lnTo>
                    <a:lnTo>
                      <a:pt x="120" y="16"/>
                    </a:lnTo>
                    <a:lnTo>
                      <a:pt x="172" y="16"/>
                    </a:lnTo>
                    <a:lnTo>
                      <a:pt x="226" y="15"/>
                    </a:lnTo>
                    <a:lnTo>
                      <a:pt x="278" y="13"/>
                    </a:lnTo>
                    <a:lnTo>
                      <a:pt x="331" y="13"/>
                    </a:lnTo>
                    <a:lnTo>
                      <a:pt x="385" y="13"/>
                    </a:lnTo>
                    <a:lnTo>
                      <a:pt x="438" y="12"/>
                    </a:lnTo>
                    <a:lnTo>
                      <a:pt x="492" y="12"/>
                    </a:lnTo>
                    <a:lnTo>
                      <a:pt x="544" y="12"/>
                    </a:lnTo>
                    <a:lnTo>
                      <a:pt x="597" y="13"/>
                    </a:lnTo>
                    <a:lnTo>
                      <a:pt x="651" y="13"/>
                    </a:lnTo>
                    <a:lnTo>
                      <a:pt x="704" y="13"/>
                    </a:lnTo>
                    <a:lnTo>
                      <a:pt x="758" y="13"/>
                    </a:lnTo>
                    <a:lnTo>
                      <a:pt x="810" y="13"/>
                    </a:lnTo>
                    <a:lnTo>
                      <a:pt x="863" y="13"/>
                    </a:lnTo>
                    <a:lnTo>
                      <a:pt x="923" y="13"/>
                    </a:lnTo>
                    <a:lnTo>
                      <a:pt x="982" y="12"/>
                    </a:lnTo>
                    <a:lnTo>
                      <a:pt x="1043" y="12"/>
                    </a:lnTo>
                    <a:lnTo>
                      <a:pt x="1102" y="10"/>
                    </a:lnTo>
                    <a:lnTo>
                      <a:pt x="1161" y="10"/>
                    </a:lnTo>
                    <a:lnTo>
                      <a:pt x="1221" y="9"/>
                    </a:lnTo>
                    <a:lnTo>
                      <a:pt x="1280" y="9"/>
                    </a:lnTo>
                    <a:lnTo>
                      <a:pt x="1339" y="9"/>
                    </a:lnTo>
                    <a:lnTo>
                      <a:pt x="1398" y="8"/>
                    </a:lnTo>
                    <a:lnTo>
                      <a:pt x="1456" y="8"/>
                    </a:lnTo>
                    <a:lnTo>
                      <a:pt x="1516" y="8"/>
                    </a:lnTo>
                    <a:lnTo>
                      <a:pt x="1575" y="6"/>
                    </a:lnTo>
                    <a:lnTo>
                      <a:pt x="1634" y="6"/>
                    </a:lnTo>
                    <a:lnTo>
                      <a:pt x="1692" y="6"/>
                    </a:lnTo>
                    <a:lnTo>
                      <a:pt x="1751" y="5"/>
                    </a:lnTo>
                    <a:lnTo>
                      <a:pt x="1811" y="5"/>
                    </a:lnTo>
                    <a:lnTo>
                      <a:pt x="1870" y="5"/>
                    </a:lnTo>
                    <a:lnTo>
                      <a:pt x="1928" y="3"/>
                    </a:lnTo>
                    <a:lnTo>
                      <a:pt x="1987" y="3"/>
                    </a:lnTo>
                    <a:lnTo>
                      <a:pt x="2045" y="3"/>
                    </a:lnTo>
                    <a:lnTo>
                      <a:pt x="2104" y="3"/>
                    </a:lnTo>
                    <a:lnTo>
                      <a:pt x="2162" y="3"/>
                    </a:lnTo>
                    <a:lnTo>
                      <a:pt x="2221" y="2"/>
                    </a:lnTo>
                    <a:lnTo>
                      <a:pt x="2279" y="2"/>
                    </a:lnTo>
                    <a:lnTo>
                      <a:pt x="2338" y="2"/>
                    </a:lnTo>
                    <a:lnTo>
                      <a:pt x="2396" y="2"/>
                    </a:lnTo>
                    <a:lnTo>
                      <a:pt x="2455" y="2"/>
                    </a:lnTo>
                    <a:lnTo>
                      <a:pt x="2513" y="0"/>
                    </a:lnTo>
                    <a:lnTo>
                      <a:pt x="2573" y="0"/>
                    </a:lnTo>
                    <a:lnTo>
                      <a:pt x="2630" y="0"/>
                    </a:lnTo>
                    <a:lnTo>
                      <a:pt x="2690" y="0"/>
                    </a:lnTo>
                    <a:lnTo>
                      <a:pt x="2748" y="0"/>
                    </a:lnTo>
                    <a:lnTo>
                      <a:pt x="2761" y="289"/>
                    </a:lnTo>
                    <a:lnTo>
                      <a:pt x="2765" y="580"/>
                    </a:lnTo>
                    <a:lnTo>
                      <a:pt x="2765" y="870"/>
                    </a:lnTo>
                    <a:lnTo>
                      <a:pt x="2766" y="1161"/>
                    </a:lnTo>
                    <a:lnTo>
                      <a:pt x="2752" y="1168"/>
                    </a:lnTo>
                    <a:lnTo>
                      <a:pt x="2740" y="1165"/>
                    </a:lnTo>
                    <a:lnTo>
                      <a:pt x="2729" y="1161"/>
                    </a:lnTo>
                    <a:lnTo>
                      <a:pt x="2719" y="1156"/>
                    </a:lnTo>
                    <a:lnTo>
                      <a:pt x="2709" y="1150"/>
                    </a:lnTo>
                    <a:lnTo>
                      <a:pt x="2697" y="1146"/>
                    </a:lnTo>
                    <a:lnTo>
                      <a:pt x="2685" y="1142"/>
                    </a:lnTo>
                    <a:lnTo>
                      <a:pt x="2672" y="1139"/>
                    </a:lnTo>
                    <a:lnTo>
                      <a:pt x="2659" y="1136"/>
                    </a:lnTo>
                    <a:lnTo>
                      <a:pt x="2639" y="1129"/>
                    </a:lnTo>
                    <a:lnTo>
                      <a:pt x="2620" y="1122"/>
                    </a:lnTo>
                    <a:lnTo>
                      <a:pt x="2599" y="1114"/>
                    </a:lnTo>
                    <a:lnTo>
                      <a:pt x="2578" y="1107"/>
                    </a:lnTo>
                    <a:lnTo>
                      <a:pt x="2557" y="1101"/>
                    </a:lnTo>
                    <a:lnTo>
                      <a:pt x="2536" y="1094"/>
                    </a:lnTo>
                    <a:lnTo>
                      <a:pt x="2515" y="1087"/>
                    </a:lnTo>
                    <a:lnTo>
                      <a:pt x="2493" y="1080"/>
                    </a:lnTo>
                    <a:lnTo>
                      <a:pt x="2470" y="1072"/>
                    </a:lnTo>
                    <a:lnTo>
                      <a:pt x="2448" y="1065"/>
                    </a:lnTo>
                    <a:lnTo>
                      <a:pt x="2427" y="1058"/>
                    </a:lnTo>
                    <a:lnTo>
                      <a:pt x="2405" y="1051"/>
                    </a:lnTo>
                    <a:lnTo>
                      <a:pt x="2383" y="1044"/>
                    </a:lnTo>
                    <a:lnTo>
                      <a:pt x="2363" y="1036"/>
                    </a:lnTo>
                    <a:lnTo>
                      <a:pt x="2341" y="1029"/>
                    </a:lnTo>
                    <a:lnTo>
                      <a:pt x="2321" y="1020"/>
                    </a:lnTo>
                    <a:lnTo>
                      <a:pt x="2285" y="1007"/>
                    </a:lnTo>
                    <a:lnTo>
                      <a:pt x="2249" y="996"/>
                    </a:lnTo>
                    <a:lnTo>
                      <a:pt x="2213" y="984"/>
                    </a:lnTo>
                    <a:lnTo>
                      <a:pt x="2176" y="973"/>
                    </a:lnTo>
                    <a:lnTo>
                      <a:pt x="2140" y="963"/>
                    </a:lnTo>
                    <a:lnTo>
                      <a:pt x="2103" y="951"/>
                    </a:lnTo>
                    <a:lnTo>
                      <a:pt x="2066" y="941"/>
                    </a:lnTo>
                    <a:lnTo>
                      <a:pt x="2029" y="931"/>
                    </a:lnTo>
                    <a:lnTo>
                      <a:pt x="1991" y="922"/>
                    </a:lnTo>
                    <a:lnTo>
                      <a:pt x="1955" y="912"/>
                    </a:lnTo>
                    <a:lnTo>
                      <a:pt x="1919" y="902"/>
                    </a:lnTo>
                    <a:lnTo>
                      <a:pt x="1881" y="892"/>
                    </a:lnTo>
                    <a:lnTo>
                      <a:pt x="1845" y="882"/>
                    </a:lnTo>
                    <a:lnTo>
                      <a:pt x="1809" y="872"/>
                    </a:lnTo>
                    <a:lnTo>
                      <a:pt x="1773" y="860"/>
                    </a:lnTo>
                    <a:lnTo>
                      <a:pt x="1738" y="850"/>
                    </a:lnTo>
                    <a:lnTo>
                      <a:pt x="1704" y="838"/>
                    </a:lnTo>
                    <a:lnTo>
                      <a:pt x="1669" y="827"/>
                    </a:lnTo>
                    <a:lnTo>
                      <a:pt x="1634" y="814"/>
                    </a:lnTo>
                    <a:lnTo>
                      <a:pt x="1601" y="801"/>
                    </a:lnTo>
                    <a:lnTo>
                      <a:pt x="1568" y="786"/>
                    </a:lnTo>
                    <a:lnTo>
                      <a:pt x="1536" y="772"/>
                    </a:lnTo>
                    <a:lnTo>
                      <a:pt x="1504" y="757"/>
                    </a:lnTo>
                    <a:lnTo>
                      <a:pt x="1474" y="740"/>
                    </a:lnTo>
                    <a:lnTo>
                      <a:pt x="1445" y="723"/>
                    </a:lnTo>
                    <a:lnTo>
                      <a:pt x="1416" y="705"/>
                    </a:lnTo>
                    <a:lnTo>
                      <a:pt x="1387" y="685"/>
                    </a:lnTo>
                    <a:lnTo>
                      <a:pt x="1361" y="665"/>
                    </a:lnTo>
                    <a:lnTo>
                      <a:pt x="1333" y="643"/>
                    </a:lnTo>
                    <a:lnTo>
                      <a:pt x="1309" y="620"/>
                    </a:lnTo>
                    <a:lnTo>
                      <a:pt x="1286" y="596"/>
                    </a:lnTo>
                    <a:lnTo>
                      <a:pt x="1262" y="570"/>
                    </a:lnTo>
                    <a:lnTo>
                      <a:pt x="1248" y="547"/>
                    </a:lnTo>
                    <a:lnTo>
                      <a:pt x="1231" y="523"/>
                    </a:lnTo>
                    <a:lnTo>
                      <a:pt x="1213" y="500"/>
                    </a:lnTo>
                    <a:lnTo>
                      <a:pt x="1196" y="479"/>
                    </a:lnTo>
                    <a:lnTo>
                      <a:pt x="1176" y="458"/>
                    </a:lnTo>
                    <a:lnTo>
                      <a:pt x="1155" y="437"/>
                    </a:lnTo>
                    <a:lnTo>
                      <a:pt x="1135" y="416"/>
                    </a:lnTo>
                    <a:lnTo>
                      <a:pt x="1114" y="398"/>
                    </a:lnTo>
                    <a:lnTo>
                      <a:pt x="1092" y="379"/>
                    </a:lnTo>
                    <a:lnTo>
                      <a:pt x="1069" y="359"/>
                    </a:lnTo>
                    <a:lnTo>
                      <a:pt x="1047" y="341"/>
                    </a:lnTo>
                    <a:lnTo>
                      <a:pt x="1024" y="323"/>
                    </a:lnTo>
                    <a:lnTo>
                      <a:pt x="1001" y="304"/>
                    </a:lnTo>
                    <a:lnTo>
                      <a:pt x="978" y="286"/>
                    </a:lnTo>
                    <a:lnTo>
                      <a:pt x="954" y="268"/>
                    </a:lnTo>
                    <a:lnTo>
                      <a:pt x="931" y="250"/>
                    </a:lnTo>
                    <a:lnTo>
                      <a:pt x="926" y="242"/>
                    </a:lnTo>
                    <a:lnTo>
                      <a:pt x="920" y="232"/>
                    </a:lnTo>
                    <a:lnTo>
                      <a:pt x="914" y="221"/>
                    </a:lnTo>
                    <a:lnTo>
                      <a:pt x="908" y="211"/>
                    </a:lnTo>
                    <a:lnTo>
                      <a:pt x="902" y="201"/>
                    </a:lnTo>
                    <a:lnTo>
                      <a:pt x="897" y="190"/>
                    </a:lnTo>
                    <a:lnTo>
                      <a:pt x="891" y="178"/>
                    </a:lnTo>
                    <a:lnTo>
                      <a:pt x="885" y="167"/>
                    </a:lnTo>
                    <a:lnTo>
                      <a:pt x="872" y="145"/>
                    </a:lnTo>
                    <a:lnTo>
                      <a:pt x="866" y="141"/>
                    </a:lnTo>
                    <a:lnTo>
                      <a:pt x="860" y="136"/>
                    </a:lnTo>
                    <a:lnTo>
                      <a:pt x="855" y="132"/>
                    </a:lnTo>
                    <a:lnTo>
                      <a:pt x="849" y="127"/>
                    </a:lnTo>
                    <a:lnTo>
                      <a:pt x="843" y="123"/>
                    </a:lnTo>
                    <a:lnTo>
                      <a:pt x="839" y="119"/>
                    </a:lnTo>
                    <a:lnTo>
                      <a:pt x="833" y="116"/>
                    </a:lnTo>
                    <a:lnTo>
                      <a:pt x="827" y="112"/>
                    </a:lnTo>
                    <a:lnTo>
                      <a:pt x="801" y="112"/>
                    </a:lnTo>
                    <a:lnTo>
                      <a:pt x="774" y="114"/>
                    </a:lnTo>
                    <a:lnTo>
                      <a:pt x="748" y="120"/>
                    </a:lnTo>
                    <a:lnTo>
                      <a:pt x="722" y="127"/>
                    </a:lnTo>
                    <a:lnTo>
                      <a:pt x="696" y="139"/>
                    </a:lnTo>
                    <a:lnTo>
                      <a:pt x="671" y="151"/>
                    </a:lnTo>
                    <a:lnTo>
                      <a:pt x="648" y="165"/>
                    </a:lnTo>
                    <a:lnTo>
                      <a:pt x="628" y="180"/>
                    </a:lnTo>
                    <a:lnTo>
                      <a:pt x="616" y="180"/>
                    </a:lnTo>
                    <a:lnTo>
                      <a:pt x="606" y="181"/>
                    </a:lnTo>
                    <a:lnTo>
                      <a:pt x="594" y="181"/>
                    </a:lnTo>
                    <a:lnTo>
                      <a:pt x="583" y="182"/>
                    </a:lnTo>
                    <a:lnTo>
                      <a:pt x="573" y="184"/>
                    </a:lnTo>
                    <a:lnTo>
                      <a:pt x="561" y="185"/>
                    </a:lnTo>
                    <a:lnTo>
                      <a:pt x="548" y="187"/>
                    </a:lnTo>
                    <a:lnTo>
                      <a:pt x="537" y="188"/>
                    </a:lnTo>
                    <a:lnTo>
                      <a:pt x="529" y="191"/>
                    </a:lnTo>
                    <a:lnTo>
                      <a:pt x="522" y="194"/>
                    </a:lnTo>
                    <a:lnTo>
                      <a:pt x="516" y="197"/>
                    </a:lnTo>
                    <a:lnTo>
                      <a:pt x="511" y="200"/>
                    </a:lnTo>
                    <a:lnTo>
                      <a:pt x="505" y="204"/>
                    </a:lnTo>
                    <a:lnTo>
                      <a:pt x="499" y="208"/>
                    </a:lnTo>
                    <a:lnTo>
                      <a:pt x="492" y="211"/>
                    </a:lnTo>
                    <a:lnTo>
                      <a:pt x="483" y="216"/>
                    </a:lnTo>
                    <a:lnTo>
                      <a:pt x="476" y="221"/>
                    </a:lnTo>
                    <a:lnTo>
                      <a:pt x="470" y="229"/>
                    </a:lnTo>
                    <a:lnTo>
                      <a:pt x="464" y="236"/>
                    </a:lnTo>
                    <a:lnTo>
                      <a:pt x="458" y="245"/>
                    </a:lnTo>
                    <a:lnTo>
                      <a:pt x="457" y="262"/>
                    </a:lnTo>
                    <a:lnTo>
                      <a:pt x="457" y="279"/>
                    </a:lnTo>
                    <a:lnTo>
                      <a:pt x="457" y="298"/>
                    </a:lnTo>
                    <a:lnTo>
                      <a:pt x="457" y="317"/>
                    </a:lnTo>
                    <a:lnTo>
                      <a:pt x="435" y="317"/>
                    </a:lnTo>
                    <a:lnTo>
                      <a:pt x="424" y="318"/>
                    </a:lnTo>
                    <a:lnTo>
                      <a:pt x="414" y="323"/>
                    </a:lnTo>
                    <a:lnTo>
                      <a:pt x="405" y="330"/>
                    </a:lnTo>
                    <a:lnTo>
                      <a:pt x="393" y="337"/>
                    </a:lnTo>
                    <a:lnTo>
                      <a:pt x="388" y="338"/>
                    </a:lnTo>
                    <a:lnTo>
                      <a:pt x="382" y="344"/>
                    </a:lnTo>
                    <a:lnTo>
                      <a:pt x="375" y="351"/>
                    </a:lnTo>
                    <a:lnTo>
                      <a:pt x="369" y="360"/>
                    </a:lnTo>
                    <a:lnTo>
                      <a:pt x="367" y="377"/>
                    </a:lnTo>
                    <a:lnTo>
                      <a:pt x="363" y="396"/>
                    </a:lnTo>
                    <a:lnTo>
                      <a:pt x="360" y="415"/>
                    </a:lnTo>
                    <a:lnTo>
                      <a:pt x="357" y="434"/>
                    </a:lnTo>
                    <a:lnTo>
                      <a:pt x="353" y="434"/>
                    </a:lnTo>
                    <a:lnTo>
                      <a:pt x="347" y="435"/>
                    </a:lnTo>
                    <a:lnTo>
                      <a:pt x="343" y="437"/>
                    </a:lnTo>
                    <a:lnTo>
                      <a:pt x="337" y="438"/>
                    </a:lnTo>
                    <a:lnTo>
                      <a:pt x="331" y="440"/>
                    </a:lnTo>
                    <a:lnTo>
                      <a:pt x="325" y="441"/>
                    </a:lnTo>
                    <a:lnTo>
                      <a:pt x="320" y="442"/>
                    </a:lnTo>
                    <a:lnTo>
                      <a:pt x="314" y="444"/>
                    </a:lnTo>
                    <a:lnTo>
                      <a:pt x="295" y="460"/>
                    </a:lnTo>
                    <a:lnTo>
                      <a:pt x="281" y="481"/>
                    </a:lnTo>
                    <a:lnTo>
                      <a:pt x="269" y="507"/>
                    </a:lnTo>
                    <a:lnTo>
                      <a:pt x="262" y="536"/>
                    </a:lnTo>
                    <a:lnTo>
                      <a:pt x="255" y="567"/>
                    </a:lnTo>
                    <a:lnTo>
                      <a:pt x="250" y="597"/>
                    </a:lnTo>
                    <a:lnTo>
                      <a:pt x="247" y="627"/>
                    </a:lnTo>
                    <a:lnTo>
                      <a:pt x="243" y="656"/>
                    </a:lnTo>
                    <a:lnTo>
                      <a:pt x="247" y="666"/>
                    </a:lnTo>
                    <a:lnTo>
                      <a:pt x="253" y="678"/>
                    </a:lnTo>
                    <a:lnTo>
                      <a:pt x="257" y="688"/>
                    </a:lnTo>
                    <a:lnTo>
                      <a:pt x="263" y="700"/>
                    </a:lnTo>
                    <a:lnTo>
                      <a:pt x="268" y="710"/>
                    </a:lnTo>
                    <a:lnTo>
                      <a:pt x="273" y="721"/>
                    </a:lnTo>
                    <a:lnTo>
                      <a:pt x="279" y="731"/>
                    </a:lnTo>
                    <a:lnTo>
                      <a:pt x="286" y="743"/>
                    </a:lnTo>
                    <a:lnTo>
                      <a:pt x="291" y="756"/>
                    </a:lnTo>
                    <a:lnTo>
                      <a:pt x="297" y="769"/>
                    </a:lnTo>
                    <a:lnTo>
                      <a:pt x="302" y="782"/>
                    </a:lnTo>
                    <a:lnTo>
                      <a:pt x="311" y="794"/>
                    </a:lnTo>
                    <a:lnTo>
                      <a:pt x="320" y="807"/>
                    </a:lnTo>
                    <a:lnTo>
                      <a:pt x="328" y="818"/>
                    </a:lnTo>
                    <a:lnTo>
                      <a:pt x="337" y="833"/>
                    </a:lnTo>
                    <a:lnTo>
                      <a:pt x="346" y="846"/>
                    </a:lnTo>
                    <a:lnTo>
                      <a:pt x="364" y="847"/>
                    </a:lnTo>
                    <a:lnTo>
                      <a:pt x="372" y="864"/>
                    </a:lnTo>
                    <a:lnTo>
                      <a:pt x="376" y="882"/>
                    </a:lnTo>
                    <a:lnTo>
                      <a:pt x="380" y="899"/>
                    </a:lnTo>
                    <a:lnTo>
                      <a:pt x="383" y="916"/>
                    </a:lnTo>
                    <a:lnTo>
                      <a:pt x="392" y="938"/>
                    </a:lnTo>
                    <a:lnTo>
                      <a:pt x="405" y="951"/>
                    </a:lnTo>
                    <a:lnTo>
                      <a:pt x="418" y="963"/>
                    </a:lnTo>
                    <a:lnTo>
                      <a:pt x="431" y="976"/>
                    </a:lnTo>
                    <a:lnTo>
                      <a:pt x="444" y="989"/>
                    </a:lnTo>
                    <a:lnTo>
                      <a:pt x="458" y="1000"/>
                    </a:lnTo>
                    <a:lnTo>
                      <a:pt x="471" y="1013"/>
                    </a:lnTo>
                    <a:lnTo>
                      <a:pt x="486" y="1026"/>
                    </a:lnTo>
                    <a:lnTo>
                      <a:pt x="502" y="1038"/>
                    </a:lnTo>
                    <a:lnTo>
                      <a:pt x="516" y="1051"/>
                    </a:lnTo>
                    <a:lnTo>
                      <a:pt x="532" y="1062"/>
                    </a:lnTo>
                    <a:lnTo>
                      <a:pt x="548" y="1074"/>
                    </a:lnTo>
                    <a:lnTo>
                      <a:pt x="564" y="1085"/>
                    </a:lnTo>
                    <a:lnTo>
                      <a:pt x="580" y="1096"/>
                    </a:lnTo>
                    <a:lnTo>
                      <a:pt x="597" y="1106"/>
                    </a:lnTo>
                    <a:lnTo>
                      <a:pt x="615" y="1116"/>
                    </a:lnTo>
                    <a:lnTo>
                      <a:pt x="632" y="1126"/>
                    </a:lnTo>
                    <a:lnTo>
                      <a:pt x="655" y="1133"/>
                    </a:lnTo>
                    <a:lnTo>
                      <a:pt x="678" y="1137"/>
                    </a:lnTo>
                    <a:lnTo>
                      <a:pt x="701" y="1140"/>
                    </a:lnTo>
                    <a:lnTo>
                      <a:pt x="725" y="1142"/>
                    </a:lnTo>
                    <a:lnTo>
                      <a:pt x="749" y="1143"/>
                    </a:lnTo>
                    <a:lnTo>
                      <a:pt x="772" y="1142"/>
                    </a:lnTo>
                    <a:lnTo>
                      <a:pt x="797" y="1140"/>
                    </a:lnTo>
                    <a:lnTo>
                      <a:pt x="821" y="1139"/>
                    </a:lnTo>
                    <a:lnTo>
                      <a:pt x="846" y="1136"/>
                    </a:lnTo>
                    <a:lnTo>
                      <a:pt x="869" y="1133"/>
                    </a:lnTo>
                    <a:lnTo>
                      <a:pt x="894" y="1130"/>
                    </a:lnTo>
                    <a:lnTo>
                      <a:pt x="918" y="1129"/>
                    </a:lnTo>
                    <a:lnTo>
                      <a:pt x="943" y="1126"/>
                    </a:lnTo>
                    <a:lnTo>
                      <a:pt x="967" y="1124"/>
                    </a:lnTo>
                    <a:lnTo>
                      <a:pt x="992" y="1124"/>
                    </a:lnTo>
                    <a:lnTo>
                      <a:pt x="1017" y="1126"/>
                    </a:lnTo>
                    <a:lnTo>
                      <a:pt x="1028" y="1129"/>
                    </a:lnTo>
                    <a:lnTo>
                      <a:pt x="1037" y="1135"/>
                    </a:lnTo>
                    <a:lnTo>
                      <a:pt x="1046" y="1139"/>
                    </a:lnTo>
                    <a:lnTo>
                      <a:pt x="1054" y="1145"/>
                    </a:lnTo>
                    <a:lnTo>
                      <a:pt x="1063" y="1150"/>
                    </a:lnTo>
                    <a:lnTo>
                      <a:pt x="1073" y="1156"/>
                    </a:lnTo>
                    <a:lnTo>
                      <a:pt x="1085" y="1161"/>
                    </a:lnTo>
                    <a:lnTo>
                      <a:pt x="1098" y="1163"/>
                    </a:lnTo>
                    <a:lnTo>
                      <a:pt x="1114" y="1174"/>
                    </a:lnTo>
                    <a:lnTo>
                      <a:pt x="1129" y="1182"/>
                    </a:lnTo>
                    <a:lnTo>
                      <a:pt x="1145" y="1191"/>
                    </a:lnTo>
                    <a:lnTo>
                      <a:pt x="1161" y="1200"/>
                    </a:lnTo>
                    <a:lnTo>
                      <a:pt x="1179" y="1208"/>
                    </a:lnTo>
                    <a:lnTo>
                      <a:pt x="1195" y="1215"/>
                    </a:lnTo>
                    <a:lnTo>
                      <a:pt x="1212" y="1223"/>
                    </a:lnTo>
                    <a:lnTo>
                      <a:pt x="1228" y="1228"/>
                    </a:lnTo>
                    <a:lnTo>
                      <a:pt x="1244" y="1236"/>
                    </a:lnTo>
                    <a:lnTo>
                      <a:pt x="1261" y="1243"/>
                    </a:lnTo>
                    <a:lnTo>
                      <a:pt x="1277" y="1249"/>
                    </a:lnTo>
                    <a:lnTo>
                      <a:pt x="1294" y="1256"/>
                    </a:lnTo>
                    <a:lnTo>
                      <a:pt x="1310" y="1262"/>
                    </a:lnTo>
                    <a:lnTo>
                      <a:pt x="1326" y="1269"/>
                    </a:lnTo>
                    <a:lnTo>
                      <a:pt x="1342" y="1275"/>
                    </a:lnTo>
                    <a:lnTo>
                      <a:pt x="1358" y="1282"/>
                    </a:lnTo>
                    <a:lnTo>
                      <a:pt x="1345" y="1296"/>
                    </a:lnTo>
                    <a:lnTo>
                      <a:pt x="1330" y="1311"/>
                    </a:lnTo>
                    <a:lnTo>
                      <a:pt x="1315" y="1324"/>
                    </a:lnTo>
                    <a:lnTo>
                      <a:pt x="1299" y="1338"/>
                    </a:lnTo>
                    <a:lnTo>
                      <a:pt x="1280" y="1353"/>
                    </a:lnTo>
                    <a:lnTo>
                      <a:pt x="1262" y="1369"/>
                    </a:lnTo>
                    <a:lnTo>
                      <a:pt x="1242" y="1383"/>
                    </a:lnTo>
                    <a:lnTo>
                      <a:pt x="1223" y="1399"/>
                    </a:lnTo>
                    <a:lnTo>
                      <a:pt x="1208" y="1408"/>
                    </a:lnTo>
                    <a:lnTo>
                      <a:pt x="1193" y="1418"/>
                    </a:lnTo>
                    <a:lnTo>
                      <a:pt x="1179" y="1429"/>
                    </a:lnTo>
                    <a:lnTo>
                      <a:pt x="1166" y="1442"/>
                    </a:lnTo>
                    <a:lnTo>
                      <a:pt x="1153" y="1457"/>
                    </a:lnTo>
                    <a:lnTo>
                      <a:pt x="1141" y="1471"/>
                    </a:lnTo>
                    <a:lnTo>
                      <a:pt x="1129" y="1486"/>
                    </a:lnTo>
                    <a:lnTo>
                      <a:pt x="1118" y="1500"/>
                    </a:lnTo>
                    <a:lnTo>
                      <a:pt x="1106" y="1522"/>
                    </a:lnTo>
                    <a:lnTo>
                      <a:pt x="1101" y="1535"/>
                    </a:lnTo>
                    <a:lnTo>
                      <a:pt x="1095" y="1549"/>
                    </a:lnTo>
                    <a:lnTo>
                      <a:pt x="1089" y="1562"/>
                    </a:lnTo>
                    <a:lnTo>
                      <a:pt x="1083" y="1575"/>
                    </a:lnTo>
                    <a:lnTo>
                      <a:pt x="1079" y="1588"/>
                    </a:lnTo>
                    <a:lnTo>
                      <a:pt x="1072" y="1601"/>
                    </a:lnTo>
                    <a:lnTo>
                      <a:pt x="1064" y="1616"/>
                    </a:lnTo>
                    <a:lnTo>
                      <a:pt x="1056" y="1629"/>
                    </a:lnTo>
                    <a:lnTo>
                      <a:pt x="1041" y="1662"/>
                    </a:lnTo>
                    <a:lnTo>
                      <a:pt x="1027" y="1697"/>
                    </a:lnTo>
                    <a:lnTo>
                      <a:pt x="1011" y="1730"/>
                    </a:lnTo>
                    <a:lnTo>
                      <a:pt x="996" y="1765"/>
                    </a:lnTo>
                    <a:lnTo>
                      <a:pt x="980" y="1799"/>
                    </a:lnTo>
                    <a:lnTo>
                      <a:pt x="965" y="1834"/>
                    </a:lnTo>
                    <a:lnTo>
                      <a:pt x="949" y="1869"/>
                    </a:lnTo>
                    <a:lnTo>
                      <a:pt x="931" y="1903"/>
                    </a:lnTo>
                    <a:lnTo>
                      <a:pt x="921" y="1949"/>
                    </a:lnTo>
                    <a:lnTo>
                      <a:pt x="908" y="1993"/>
                    </a:lnTo>
                    <a:lnTo>
                      <a:pt x="891" y="2035"/>
                    </a:lnTo>
                    <a:lnTo>
                      <a:pt x="872" y="2074"/>
                    </a:lnTo>
                    <a:lnTo>
                      <a:pt x="850" y="2110"/>
                    </a:lnTo>
                    <a:lnTo>
                      <a:pt x="826" y="2146"/>
                    </a:lnTo>
                    <a:lnTo>
                      <a:pt x="798" y="2179"/>
                    </a:lnTo>
                    <a:lnTo>
                      <a:pt x="771" y="2211"/>
                    </a:lnTo>
                    <a:lnTo>
                      <a:pt x="740" y="2241"/>
                    </a:lnTo>
                    <a:lnTo>
                      <a:pt x="709" y="2272"/>
                    </a:lnTo>
                    <a:lnTo>
                      <a:pt x="675" y="2301"/>
                    </a:lnTo>
                    <a:lnTo>
                      <a:pt x="641" y="2328"/>
                    </a:lnTo>
                    <a:lnTo>
                      <a:pt x="606" y="2354"/>
                    </a:lnTo>
                    <a:lnTo>
                      <a:pt x="571" y="2381"/>
                    </a:lnTo>
                    <a:lnTo>
                      <a:pt x="535" y="2408"/>
                    </a:lnTo>
                    <a:lnTo>
                      <a:pt x="499" y="2434"/>
                    </a:lnTo>
                    <a:lnTo>
                      <a:pt x="479" y="2444"/>
                    </a:lnTo>
                    <a:lnTo>
                      <a:pt x="458" y="2452"/>
                    </a:lnTo>
                    <a:lnTo>
                      <a:pt x="437" y="2462"/>
                    </a:lnTo>
                    <a:lnTo>
                      <a:pt x="417" y="2473"/>
                    </a:lnTo>
                    <a:lnTo>
                      <a:pt x="395" y="2484"/>
                    </a:lnTo>
                    <a:lnTo>
                      <a:pt x="373" y="2496"/>
                    </a:lnTo>
                    <a:lnTo>
                      <a:pt x="353" y="2507"/>
                    </a:lnTo>
                    <a:lnTo>
                      <a:pt x="333" y="2520"/>
                    </a:lnTo>
                    <a:lnTo>
                      <a:pt x="310" y="2520"/>
                    </a:lnTo>
                    <a:lnTo>
                      <a:pt x="286" y="2520"/>
                    </a:lnTo>
                    <a:lnTo>
                      <a:pt x="263" y="2522"/>
                    </a:lnTo>
                    <a:lnTo>
                      <a:pt x="240" y="2522"/>
                    </a:lnTo>
                    <a:lnTo>
                      <a:pt x="217" y="2522"/>
                    </a:lnTo>
                    <a:lnTo>
                      <a:pt x="192" y="2522"/>
                    </a:lnTo>
                    <a:lnTo>
                      <a:pt x="168" y="2522"/>
                    </a:lnTo>
                    <a:lnTo>
                      <a:pt x="143" y="2520"/>
                    </a:lnTo>
                    <a:lnTo>
                      <a:pt x="136" y="252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8032680" y="4021200"/>
                <a:ext cx="11160" cy="14040"/>
              </a:xfrm>
              <a:custGeom>
                <a:avLst/>
                <a:gdLst/>
                <a:ahLst/>
                <a:rect l="l" t="t" r="r" b="b"/>
                <a:pathLst>
                  <a:path w="21" h="27">
                    <a:moveTo>
                      <a:pt x="10" y="27"/>
                    </a:moveTo>
                    <a:lnTo>
                      <a:pt x="3" y="23"/>
                    </a:lnTo>
                    <a:lnTo>
                      <a:pt x="0" y="16"/>
                    </a:lnTo>
                    <a:lnTo>
                      <a:pt x="2" y="7"/>
                    </a:lnTo>
                    <a:lnTo>
                      <a:pt x="8" y="0"/>
                    </a:lnTo>
                    <a:lnTo>
                      <a:pt x="18" y="6"/>
                    </a:lnTo>
                    <a:lnTo>
                      <a:pt x="21" y="10"/>
                    </a:lnTo>
                    <a:lnTo>
                      <a:pt x="19" y="16"/>
                    </a:lnTo>
                    <a:lnTo>
                      <a:pt x="16" y="23"/>
                    </a:lnTo>
                    <a:lnTo>
                      <a:pt x="10" y="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50" name=""/>
              <p:cNvSpPr/>
              <p:nvPr/>
            </p:nvSpPr>
            <p:spPr>
              <a:xfrm>
                <a:off x="7824600" y="4019400"/>
                <a:ext cx="9720" cy="12960"/>
              </a:xfrm>
              <a:custGeom>
                <a:avLst/>
                <a:gdLst/>
                <a:ahLst/>
                <a:rect l="l" t="t" r="r" b="b"/>
                <a:pathLst>
                  <a:path w="17" h="25">
                    <a:moveTo>
                      <a:pt x="13" y="25"/>
                    </a:moveTo>
                    <a:lnTo>
                      <a:pt x="4" y="23"/>
                    </a:lnTo>
                    <a:lnTo>
                      <a:pt x="0" y="16"/>
                    </a:lnTo>
                    <a:lnTo>
                      <a:pt x="0" y="8"/>
                    </a:lnTo>
                    <a:lnTo>
                      <a:pt x="7" y="0"/>
                    </a:lnTo>
                    <a:lnTo>
                      <a:pt x="12" y="3"/>
                    </a:lnTo>
                    <a:lnTo>
                      <a:pt x="17" y="12"/>
                    </a:lnTo>
                    <a:lnTo>
                      <a:pt x="17" y="19"/>
                    </a:lnTo>
                    <a:lnTo>
                      <a:pt x="13"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1" name=""/>
              <p:cNvSpPr/>
              <p:nvPr/>
            </p:nvSpPr>
            <p:spPr>
              <a:xfrm>
                <a:off x="8143920" y="4013280"/>
                <a:ext cx="11160" cy="10800"/>
              </a:xfrm>
              <a:custGeom>
                <a:avLst/>
                <a:gdLst/>
                <a:ahLst/>
                <a:rect l="l" t="t" r="r" b="b"/>
                <a:pathLst>
                  <a:path w="21" h="23">
                    <a:moveTo>
                      <a:pt x="5" y="23"/>
                    </a:moveTo>
                    <a:lnTo>
                      <a:pt x="0" y="19"/>
                    </a:lnTo>
                    <a:lnTo>
                      <a:pt x="0" y="12"/>
                    </a:lnTo>
                    <a:lnTo>
                      <a:pt x="2" y="5"/>
                    </a:lnTo>
                    <a:lnTo>
                      <a:pt x="9" y="0"/>
                    </a:lnTo>
                    <a:lnTo>
                      <a:pt x="19" y="6"/>
                    </a:lnTo>
                    <a:lnTo>
                      <a:pt x="21" y="12"/>
                    </a:lnTo>
                    <a:lnTo>
                      <a:pt x="18" y="18"/>
                    </a:lnTo>
                    <a:lnTo>
                      <a:pt x="12" y="22"/>
                    </a:lnTo>
                    <a:lnTo>
                      <a:pt x="5"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52" name=""/>
              <p:cNvSpPr/>
              <p:nvPr/>
            </p:nvSpPr>
            <p:spPr>
              <a:xfrm>
                <a:off x="8250120" y="4000320"/>
                <a:ext cx="9720" cy="11160"/>
              </a:xfrm>
              <a:custGeom>
                <a:avLst/>
                <a:gdLst/>
                <a:ahLst/>
                <a:rect l="l" t="t" r="r" b="b"/>
                <a:pathLst>
                  <a:path w="18" h="23">
                    <a:moveTo>
                      <a:pt x="7" y="23"/>
                    </a:moveTo>
                    <a:lnTo>
                      <a:pt x="0" y="3"/>
                    </a:lnTo>
                    <a:lnTo>
                      <a:pt x="8" y="0"/>
                    </a:lnTo>
                    <a:lnTo>
                      <a:pt x="15" y="3"/>
                    </a:lnTo>
                    <a:lnTo>
                      <a:pt x="18" y="8"/>
                    </a:lnTo>
                    <a:lnTo>
                      <a:pt x="18" y="16"/>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3" name=""/>
              <p:cNvSpPr/>
              <p:nvPr/>
            </p:nvSpPr>
            <p:spPr>
              <a:xfrm>
                <a:off x="8339040" y="3998880"/>
                <a:ext cx="6480" cy="11160"/>
              </a:xfrm>
              <a:custGeom>
                <a:avLst/>
                <a:gdLst/>
                <a:ahLst/>
                <a:rect l="l" t="t" r="r" b="b"/>
                <a:pathLst>
                  <a:path w="13" h="22">
                    <a:moveTo>
                      <a:pt x="0" y="22"/>
                    </a:moveTo>
                    <a:lnTo>
                      <a:pt x="0" y="0"/>
                    </a:lnTo>
                    <a:lnTo>
                      <a:pt x="7" y="2"/>
                    </a:lnTo>
                    <a:lnTo>
                      <a:pt x="11" y="6"/>
                    </a:lnTo>
                    <a:lnTo>
                      <a:pt x="13" y="13"/>
                    </a:lnTo>
                    <a:lnTo>
                      <a:pt x="10" y="22"/>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4" name=""/>
              <p:cNvSpPr/>
              <p:nvPr/>
            </p:nvSpPr>
            <p:spPr>
              <a:xfrm>
                <a:off x="7758000" y="4005360"/>
                <a:ext cx="11160" cy="10800"/>
              </a:xfrm>
              <a:custGeom>
                <a:avLst/>
                <a:gdLst/>
                <a:ahLst/>
                <a:rect l="l" t="t" r="r" b="b"/>
                <a:pathLst>
                  <a:path w="22" h="20">
                    <a:moveTo>
                      <a:pt x="3" y="20"/>
                    </a:moveTo>
                    <a:lnTo>
                      <a:pt x="0" y="16"/>
                    </a:lnTo>
                    <a:lnTo>
                      <a:pt x="2" y="9"/>
                    </a:lnTo>
                    <a:lnTo>
                      <a:pt x="4" y="3"/>
                    </a:lnTo>
                    <a:lnTo>
                      <a:pt x="12" y="0"/>
                    </a:lnTo>
                    <a:lnTo>
                      <a:pt x="22" y="6"/>
                    </a:lnTo>
                    <a:lnTo>
                      <a:pt x="20" y="9"/>
                    </a:lnTo>
                    <a:lnTo>
                      <a:pt x="16" y="14"/>
                    </a:lnTo>
                    <a:lnTo>
                      <a:pt x="10" y="19"/>
                    </a:lnTo>
                    <a:lnTo>
                      <a:pt x="3"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55" name=""/>
              <p:cNvSpPr/>
              <p:nvPr/>
            </p:nvSpPr>
            <p:spPr>
              <a:xfrm>
                <a:off x="7064280" y="4006800"/>
                <a:ext cx="11160" cy="11160"/>
              </a:xfrm>
              <a:custGeom>
                <a:avLst/>
                <a:gdLst/>
                <a:ahLst/>
                <a:rect l="l" t="t" r="r" b="b"/>
                <a:pathLst>
                  <a:path w="20" h="21">
                    <a:moveTo>
                      <a:pt x="13" y="21"/>
                    </a:moveTo>
                    <a:lnTo>
                      <a:pt x="0" y="11"/>
                    </a:lnTo>
                    <a:lnTo>
                      <a:pt x="20" y="0"/>
                    </a:lnTo>
                    <a:lnTo>
                      <a:pt x="20" y="6"/>
                    </a:lnTo>
                    <a:lnTo>
                      <a:pt x="20" y="13"/>
                    </a:lnTo>
                    <a:lnTo>
                      <a:pt x="17" y="20"/>
                    </a:lnTo>
                    <a:lnTo>
                      <a:pt x="1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
              <p:cNvSpPr/>
              <p:nvPr/>
            </p:nvSpPr>
            <p:spPr>
              <a:xfrm>
                <a:off x="7878600" y="3992400"/>
                <a:ext cx="7920" cy="11160"/>
              </a:xfrm>
              <a:custGeom>
                <a:avLst/>
                <a:gdLst/>
                <a:ahLst/>
                <a:rect l="l" t="t" r="r" b="b"/>
                <a:pathLst>
                  <a:path w="15" h="22">
                    <a:moveTo>
                      <a:pt x="0" y="22"/>
                    </a:moveTo>
                    <a:lnTo>
                      <a:pt x="0" y="0"/>
                    </a:lnTo>
                    <a:lnTo>
                      <a:pt x="7" y="2"/>
                    </a:lnTo>
                    <a:lnTo>
                      <a:pt x="12" y="8"/>
                    </a:lnTo>
                    <a:lnTo>
                      <a:pt x="15" y="15"/>
                    </a:lnTo>
                    <a:lnTo>
                      <a:pt x="15" y="21"/>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7" name=""/>
              <p:cNvSpPr/>
              <p:nvPr/>
            </p:nvSpPr>
            <p:spPr>
              <a:xfrm>
                <a:off x="7184880" y="4000320"/>
                <a:ext cx="11160" cy="7920"/>
              </a:xfrm>
              <a:custGeom>
                <a:avLst/>
                <a:gdLst/>
                <a:ahLst/>
                <a:rect l="l" t="t" r="r" b="b"/>
                <a:pathLst>
                  <a:path w="21" h="16">
                    <a:moveTo>
                      <a:pt x="11" y="16"/>
                    </a:moveTo>
                    <a:lnTo>
                      <a:pt x="0" y="3"/>
                    </a:lnTo>
                    <a:lnTo>
                      <a:pt x="18" y="0"/>
                    </a:lnTo>
                    <a:lnTo>
                      <a:pt x="21" y="4"/>
                    </a:lnTo>
                    <a:lnTo>
                      <a:pt x="21" y="10"/>
                    </a:lnTo>
                    <a:lnTo>
                      <a:pt x="17" y="16"/>
                    </a:lnTo>
                    <a:lnTo>
                      <a:pt x="1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8" name=""/>
              <p:cNvSpPr/>
              <p:nvPr/>
            </p:nvSpPr>
            <p:spPr>
              <a:xfrm>
                <a:off x="8388360" y="3968640"/>
                <a:ext cx="9360" cy="11160"/>
              </a:xfrm>
              <a:custGeom>
                <a:avLst/>
                <a:gdLst/>
                <a:ahLst/>
                <a:rect l="l" t="t" r="r" b="b"/>
                <a:pathLst>
                  <a:path w="19" h="21">
                    <a:moveTo>
                      <a:pt x="0" y="21"/>
                    </a:moveTo>
                    <a:lnTo>
                      <a:pt x="5" y="0"/>
                    </a:lnTo>
                    <a:lnTo>
                      <a:pt x="19" y="13"/>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9" name=""/>
              <p:cNvSpPr/>
              <p:nvPr/>
            </p:nvSpPr>
            <p:spPr>
              <a:xfrm>
                <a:off x="7807320" y="3960720"/>
                <a:ext cx="9360" cy="11160"/>
              </a:xfrm>
              <a:custGeom>
                <a:avLst/>
                <a:gdLst/>
                <a:ahLst/>
                <a:rect l="l" t="t" r="r" b="b"/>
                <a:pathLst>
                  <a:path w="18" h="21">
                    <a:moveTo>
                      <a:pt x="8" y="21"/>
                    </a:moveTo>
                    <a:lnTo>
                      <a:pt x="0" y="4"/>
                    </a:lnTo>
                    <a:lnTo>
                      <a:pt x="8" y="0"/>
                    </a:lnTo>
                    <a:lnTo>
                      <a:pt x="14" y="1"/>
                    </a:lnTo>
                    <a:lnTo>
                      <a:pt x="18" y="8"/>
                    </a:lnTo>
                    <a:lnTo>
                      <a:pt x="18" y="15"/>
                    </a:lnTo>
                    <a:lnTo>
                      <a:pt x="8"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0" name=""/>
              <p:cNvSpPr/>
              <p:nvPr/>
            </p:nvSpPr>
            <p:spPr>
              <a:xfrm>
                <a:off x="8202600" y="3948120"/>
                <a:ext cx="9360" cy="11160"/>
              </a:xfrm>
              <a:custGeom>
                <a:avLst/>
                <a:gdLst/>
                <a:ahLst/>
                <a:rect l="l" t="t" r="r" b="b"/>
                <a:pathLst>
                  <a:path w="19" h="19">
                    <a:moveTo>
                      <a:pt x="5" y="19"/>
                    </a:moveTo>
                    <a:lnTo>
                      <a:pt x="0" y="0"/>
                    </a:lnTo>
                    <a:lnTo>
                      <a:pt x="9" y="0"/>
                    </a:lnTo>
                    <a:lnTo>
                      <a:pt x="15" y="3"/>
                    </a:lnTo>
                    <a:lnTo>
                      <a:pt x="19" y="9"/>
                    </a:lnTo>
                    <a:lnTo>
                      <a:pt x="19" y="19"/>
                    </a:lnTo>
                    <a:lnTo>
                      <a:pt x="5"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7251480" y="3952800"/>
                <a:ext cx="16200" cy="12600"/>
              </a:xfrm>
              <a:custGeom>
                <a:avLst/>
                <a:gdLst/>
                <a:ahLst/>
                <a:rect l="l" t="t" r="r" b="b"/>
                <a:pathLst>
                  <a:path w="29" h="26">
                    <a:moveTo>
                      <a:pt x="14" y="26"/>
                    </a:moveTo>
                    <a:lnTo>
                      <a:pt x="0" y="7"/>
                    </a:lnTo>
                    <a:lnTo>
                      <a:pt x="4" y="2"/>
                    </a:lnTo>
                    <a:lnTo>
                      <a:pt x="13" y="0"/>
                    </a:lnTo>
                    <a:lnTo>
                      <a:pt x="22" y="4"/>
                    </a:lnTo>
                    <a:lnTo>
                      <a:pt x="29" y="12"/>
                    </a:lnTo>
                    <a:lnTo>
                      <a:pt x="14"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62" name=""/>
              <p:cNvSpPr/>
              <p:nvPr/>
            </p:nvSpPr>
            <p:spPr>
              <a:xfrm>
                <a:off x="8109000" y="3936960"/>
                <a:ext cx="7920" cy="11160"/>
              </a:xfrm>
              <a:custGeom>
                <a:avLst/>
                <a:gdLst/>
                <a:ahLst/>
                <a:rect l="l" t="t" r="r" b="b"/>
                <a:pathLst>
                  <a:path w="16" h="21">
                    <a:moveTo>
                      <a:pt x="3" y="21"/>
                    </a:moveTo>
                    <a:lnTo>
                      <a:pt x="0" y="0"/>
                    </a:lnTo>
                    <a:lnTo>
                      <a:pt x="9" y="1"/>
                    </a:lnTo>
                    <a:lnTo>
                      <a:pt x="15" y="4"/>
                    </a:lnTo>
                    <a:lnTo>
                      <a:pt x="16" y="11"/>
                    </a:lnTo>
                    <a:lnTo>
                      <a:pt x="15"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
              <p:cNvSpPr/>
              <p:nvPr/>
            </p:nvSpPr>
            <p:spPr>
              <a:xfrm>
                <a:off x="8045280" y="3932280"/>
                <a:ext cx="9720" cy="11160"/>
              </a:xfrm>
              <a:custGeom>
                <a:avLst/>
                <a:gdLst/>
                <a:ahLst/>
                <a:rect l="l" t="t" r="r" b="b"/>
                <a:pathLst>
                  <a:path w="17" h="22">
                    <a:moveTo>
                      <a:pt x="7" y="22"/>
                    </a:moveTo>
                    <a:lnTo>
                      <a:pt x="0" y="4"/>
                    </a:lnTo>
                    <a:lnTo>
                      <a:pt x="9" y="0"/>
                    </a:lnTo>
                    <a:lnTo>
                      <a:pt x="14" y="3"/>
                    </a:lnTo>
                    <a:lnTo>
                      <a:pt x="17" y="10"/>
                    </a:lnTo>
                    <a:lnTo>
                      <a:pt x="16" y="17"/>
                    </a:lnTo>
                    <a:lnTo>
                      <a:pt x="7"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4" name=""/>
              <p:cNvSpPr/>
              <p:nvPr/>
            </p:nvSpPr>
            <p:spPr>
              <a:xfrm>
                <a:off x="7034040" y="3938400"/>
                <a:ext cx="11160" cy="11160"/>
              </a:xfrm>
              <a:custGeom>
                <a:avLst/>
                <a:gdLst/>
                <a:ahLst/>
                <a:rect l="l" t="t" r="r" b="b"/>
                <a:pathLst>
                  <a:path w="23" h="22">
                    <a:moveTo>
                      <a:pt x="14" y="22"/>
                    </a:moveTo>
                    <a:lnTo>
                      <a:pt x="7" y="20"/>
                    </a:lnTo>
                    <a:lnTo>
                      <a:pt x="1" y="16"/>
                    </a:lnTo>
                    <a:lnTo>
                      <a:pt x="0" y="10"/>
                    </a:lnTo>
                    <a:lnTo>
                      <a:pt x="3" y="2"/>
                    </a:lnTo>
                    <a:lnTo>
                      <a:pt x="23" y="0"/>
                    </a:lnTo>
                    <a:lnTo>
                      <a:pt x="1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5" name=""/>
              <p:cNvSpPr/>
              <p:nvPr/>
            </p:nvSpPr>
            <p:spPr>
              <a:xfrm>
                <a:off x="7961400" y="3922560"/>
                <a:ext cx="9360" cy="12960"/>
              </a:xfrm>
              <a:custGeom>
                <a:avLst/>
                <a:gdLst/>
                <a:ahLst/>
                <a:rect l="l" t="t" r="r" b="b"/>
                <a:pathLst>
                  <a:path w="19" h="23">
                    <a:moveTo>
                      <a:pt x="8" y="23"/>
                    </a:moveTo>
                    <a:lnTo>
                      <a:pt x="0" y="3"/>
                    </a:lnTo>
                    <a:lnTo>
                      <a:pt x="9" y="0"/>
                    </a:lnTo>
                    <a:lnTo>
                      <a:pt x="16" y="4"/>
                    </a:lnTo>
                    <a:lnTo>
                      <a:pt x="19" y="11"/>
                    </a:lnTo>
                    <a:lnTo>
                      <a:pt x="15" y="20"/>
                    </a:lnTo>
                    <a:lnTo>
                      <a:pt x="8"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66" name=""/>
              <p:cNvSpPr/>
              <p:nvPr/>
            </p:nvSpPr>
            <p:spPr>
              <a:xfrm>
                <a:off x="7119720" y="3935520"/>
                <a:ext cx="9720" cy="10800"/>
              </a:xfrm>
              <a:custGeom>
                <a:avLst/>
                <a:gdLst/>
                <a:ahLst/>
                <a:rect l="l" t="t" r="r" b="b"/>
                <a:pathLst>
                  <a:path w="17" h="21">
                    <a:moveTo>
                      <a:pt x="0" y="21"/>
                    </a:moveTo>
                    <a:lnTo>
                      <a:pt x="0" y="0"/>
                    </a:lnTo>
                    <a:lnTo>
                      <a:pt x="7" y="0"/>
                    </a:lnTo>
                    <a:lnTo>
                      <a:pt x="13" y="3"/>
                    </a:lnTo>
                    <a:lnTo>
                      <a:pt x="17" y="9"/>
                    </a:lnTo>
                    <a:lnTo>
                      <a:pt x="17" y="18"/>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7" name=""/>
              <p:cNvSpPr/>
              <p:nvPr/>
            </p:nvSpPr>
            <p:spPr>
              <a:xfrm>
                <a:off x="8408880" y="3916440"/>
                <a:ext cx="9720" cy="10800"/>
              </a:xfrm>
              <a:custGeom>
                <a:avLst/>
                <a:gdLst/>
                <a:ahLst/>
                <a:rect l="l" t="t" r="r" b="b"/>
                <a:pathLst>
                  <a:path w="16" h="22">
                    <a:moveTo>
                      <a:pt x="0" y="22"/>
                    </a:moveTo>
                    <a:lnTo>
                      <a:pt x="0" y="0"/>
                    </a:lnTo>
                    <a:lnTo>
                      <a:pt x="16" y="13"/>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8" name=""/>
              <p:cNvSpPr/>
              <p:nvPr/>
            </p:nvSpPr>
            <p:spPr>
              <a:xfrm>
                <a:off x="8305920" y="3914640"/>
                <a:ext cx="7920" cy="12600"/>
              </a:xfrm>
              <a:custGeom>
                <a:avLst/>
                <a:gdLst/>
                <a:ahLst/>
                <a:rect l="l" t="t" r="r" b="b"/>
                <a:pathLst>
                  <a:path w="15" h="24">
                    <a:moveTo>
                      <a:pt x="6" y="24"/>
                    </a:moveTo>
                    <a:lnTo>
                      <a:pt x="3" y="20"/>
                    </a:lnTo>
                    <a:lnTo>
                      <a:pt x="0" y="13"/>
                    </a:lnTo>
                    <a:lnTo>
                      <a:pt x="2" y="4"/>
                    </a:lnTo>
                    <a:lnTo>
                      <a:pt x="9" y="0"/>
                    </a:lnTo>
                    <a:lnTo>
                      <a:pt x="12" y="4"/>
                    </a:lnTo>
                    <a:lnTo>
                      <a:pt x="15" y="11"/>
                    </a:lnTo>
                    <a:lnTo>
                      <a:pt x="15" y="20"/>
                    </a:lnTo>
                    <a:lnTo>
                      <a:pt x="6"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69" name=""/>
              <p:cNvSpPr/>
              <p:nvPr/>
            </p:nvSpPr>
            <p:spPr>
              <a:xfrm>
                <a:off x="7875360" y="3914640"/>
                <a:ext cx="8280" cy="11160"/>
              </a:xfrm>
              <a:custGeom>
                <a:avLst/>
                <a:gdLst/>
                <a:ahLst/>
                <a:rect l="l" t="t" r="r" b="b"/>
                <a:pathLst>
                  <a:path w="14" h="22">
                    <a:moveTo>
                      <a:pt x="3" y="22"/>
                    </a:moveTo>
                    <a:lnTo>
                      <a:pt x="0" y="3"/>
                    </a:lnTo>
                    <a:lnTo>
                      <a:pt x="7" y="0"/>
                    </a:lnTo>
                    <a:lnTo>
                      <a:pt x="13" y="4"/>
                    </a:lnTo>
                    <a:lnTo>
                      <a:pt x="14" y="11"/>
                    </a:lnTo>
                    <a:lnTo>
                      <a:pt x="13" y="20"/>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0" name=""/>
              <p:cNvSpPr/>
              <p:nvPr/>
            </p:nvSpPr>
            <p:spPr>
              <a:xfrm>
                <a:off x="8139240" y="3900600"/>
                <a:ext cx="10800" cy="12600"/>
              </a:xfrm>
              <a:custGeom>
                <a:avLst/>
                <a:gdLst/>
                <a:ahLst/>
                <a:rect l="l" t="t" r="r" b="b"/>
                <a:pathLst>
                  <a:path w="22" h="22">
                    <a:moveTo>
                      <a:pt x="12" y="22"/>
                    </a:moveTo>
                    <a:lnTo>
                      <a:pt x="0" y="0"/>
                    </a:lnTo>
                    <a:lnTo>
                      <a:pt x="22" y="6"/>
                    </a:lnTo>
                    <a:lnTo>
                      <a:pt x="12"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71" name=""/>
              <p:cNvSpPr/>
              <p:nvPr/>
            </p:nvSpPr>
            <p:spPr>
              <a:xfrm>
                <a:off x="8215200" y="3887640"/>
                <a:ext cx="9720" cy="11160"/>
              </a:xfrm>
              <a:custGeom>
                <a:avLst/>
                <a:gdLst/>
                <a:ahLst/>
                <a:rect l="l" t="t" r="r" b="b"/>
                <a:pathLst>
                  <a:path w="16" h="21">
                    <a:moveTo>
                      <a:pt x="4" y="21"/>
                    </a:moveTo>
                    <a:lnTo>
                      <a:pt x="0" y="2"/>
                    </a:lnTo>
                    <a:lnTo>
                      <a:pt x="7" y="0"/>
                    </a:lnTo>
                    <a:lnTo>
                      <a:pt x="13" y="5"/>
                    </a:lnTo>
                    <a:lnTo>
                      <a:pt x="16" y="10"/>
                    </a:lnTo>
                    <a:lnTo>
                      <a:pt x="13" y="21"/>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2" name=""/>
              <p:cNvSpPr/>
              <p:nvPr/>
            </p:nvSpPr>
            <p:spPr>
              <a:xfrm>
                <a:off x="7278480" y="3892320"/>
                <a:ext cx="11160" cy="11160"/>
              </a:xfrm>
              <a:custGeom>
                <a:avLst/>
                <a:gdLst/>
                <a:ahLst/>
                <a:rect l="l" t="t" r="r" b="b"/>
                <a:pathLst>
                  <a:path w="22" h="23">
                    <a:moveTo>
                      <a:pt x="12" y="23"/>
                    </a:moveTo>
                    <a:lnTo>
                      <a:pt x="5" y="22"/>
                    </a:lnTo>
                    <a:lnTo>
                      <a:pt x="2" y="16"/>
                    </a:lnTo>
                    <a:lnTo>
                      <a:pt x="2" y="9"/>
                    </a:lnTo>
                    <a:lnTo>
                      <a:pt x="0" y="0"/>
                    </a:lnTo>
                    <a:lnTo>
                      <a:pt x="22" y="6"/>
                    </a:lnTo>
                    <a:lnTo>
                      <a:pt x="12"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3" name=""/>
              <p:cNvSpPr/>
              <p:nvPr/>
            </p:nvSpPr>
            <p:spPr>
              <a:xfrm>
                <a:off x="7194600" y="3884400"/>
                <a:ext cx="12600" cy="12960"/>
              </a:xfrm>
              <a:custGeom>
                <a:avLst/>
                <a:gdLst/>
                <a:ahLst/>
                <a:rect l="l" t="t" r="r" b="b"/>
                <a:pathLst>
                  <a:path w="24" h="22">
                    <a:moveTo>
                      <a:pt x="8" y="22"/>
                    </a:moveTo>
                    <a:lnTo>
                      <a:pt x="0" y="0"/>
                    </a:lnTo>
                    <a:lnTo>
                      <a:pt x="24" y="9"/>
                    </a:lnTo>
                    <a:lnTo>
                      <a:pt x="8"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74" name=""/>
              <p:cNvSpPr/>
              <p:nvPr/>
            </p:nvSpPr>
            <p:spPr>
              <a:xfrm>
                <a:off x="8291520" y="3859200"/>
                <a:ext cx="9360" cy="7920"/>
              </a:xfrm>
              <a:custGeom>
                <a:avLst/>
                <a:gdLst/>
                <a:ahLst/>
                <a:rect l="l" t="t" r="r" b="b"/>
                <a:pathLst>
                  <a:path w="19" h="16">
                    <a:moveTo>
                      <a:pt x="0" y="16"/>
                    </a:moveTo>
                    <a:lnTo>
                      <a:pt x="6" y="0"/>
                    </a:lnTo>
                    <a:lnTo>
                      <a:pt x="19" y="16"/>
                    </a:lnTo>
                    <a:lnTo>
                      <a:pt x="0"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5" name=""/>
              <p:cNvSpPr/>
              <p:nvPr/>
            </p:nvSpPr>
            <p:spPr>
              <a:xfrm>
                <a:off x="7035840" y="3873600"/>
                <a:ext cx="11160" cy="9360"/>
              </a:xfrm>
              <a:custGeom>
                <a:avLst/>
                <a:gdLst/>
                <a:ahLst/>
                <a:rect l="l" t="t" r="r" b="b"/>
                <a:pathLst>
                  <a:path w="22" h="20">
                    <a:moveTo>
                      <a:pt x="3" y="19"/>
                    </a:moveTo>
                    <a:lnTo>
                      <a:pt x="0" y="0"/>
                    </a:lnTo>
                    <a:lnTo>
                      <a:pt x="22" y="1"/>
                    </a:lnTo>
                    <a:lnTo>
                      <a:pt x="22" y="10"/>
                    </a:lnTo>
                    <a:lnTo>
                      <a:pt x="19" y="16"/>
                    </a:lnTo>
                    <a:lnTo>
                      <a:pt x="13" y="20"/>
                    </a:lnTo>
                    <a:lnTo>
                      <a:pt x="3"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6" name=""/>
              <p:cNvSpPr/>
              <p:nvPr/>
            </p:nvSpPr>
            <p:spPr>
              <a:xfrm>
                <a:off x="8354880" y="3849480"/>
                <a:ext cx="9720" cy="16200"/>
              </a:xfrm>
              <a:custGeom>
                <a:avLst/>
                <a:gdLst/>
                <a:ahLst/>
                <a:rect l="l" t="t" r="r" b="b"/>
                <a:pathLst>
                  <a:path w="20" h="28">
                    <a:moveTo>
                      <a:pt x="14" y="28"/>
                    </a:moveTo>
                    <a:lnTo>
                      <a:pt x="4" y="24"/>
                    </a:lnTo>
                    <a:lnTo>
                      <a:pt x="0" y="17"/>
                    </a:lnTo>
                    <a:lnTo>
                      <a:pt x="1" y="10"/>
                    </a:lnTo>
                    <a:lnTo>
                      <a:pt x="5" y="2"/>
                    </a:lnTo>
                    <a:lnTo>
                      <a:pt x="13" y="0"/>
                    </a:lnTo>
                    <a:lnTo>
                      <a:pt x="17" y="5"/>
                    </a:lnTo>
                    <a:lnTo>
                      <a:pt x="20" y="14"/>
                    </a:lnTo>
                    <a:lnTo>
                      <a:pt x="20" y="23"/>
                    </a:lnTo>
                    <a:lnTo>
                      <a:pt x="14" y="2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77" name=""/>
              <p:cNvSpPr/>
              <p:nvPr/>
            </p:nvSpPr>
            <p:spPr>
              <a:xfrm>
                <a:off x="8132760" y="3848040"/>
                <a:ext cx="9360" cy="11160"/>
              </a:xfrm>
              <a:custGeom>
                <a:avLst/>
                <a:gdLst/>
                <a:ahLst/>
                <a:rect l="l" t="t" r="r" b="b"/>
                <a:pathLst>
                  <a:path w="17" h="23">
                    <a:moveTo>
                      <a:pt x="11" y="23"/>
                    </a:moveTo>
                    <a:lnTo>
                      <a:pt x="3" y="20"/>
                    </a:lnTo>
                    <a:lnTo>
                      <a:pt x="0" y="13"/>
                    </a:lnTo>
                    <a:lnTo>
                      <a:pt x="3" y="5"/>
                    </a:lnTo>
                    <a:lnTo>
                      <a:pt x="10" y="0"/>
                    </a:lnTo>
                    <a:lnTo>
                      <a:pt x="14" y="3"/>
                    </a:lnTo>
                    <a:lnTo>
                      <a:pt x="17" y="12"/>
                    </a:lnTo>
                    <a:lnTo>
                      <a:pt x="17" y="19"/>
                    </a:lnTo>
                    <a:lnTo>
                      <a:pt x="11"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8" name=""/>
              <p:cNvSpPr/>
              <p:nvPr/>
            </p:nvSpPr>
            <p:spPr>
              <a:xfrm>
                <a:off x="7980480" y="3846600"/>
                <a:ext cx="7920" cy="10800"/>
              </a:xfrm>
              <a:custGeom>
                <a:avLst/>
                <a:gdLst/>
                <a:ahLst/>
                <a:rect l="l" t="t" r="r" b="b"/>
                <a:pathLst>
                  <a:path w="16" h="23">
                    <a:moveTo>
                      <a:pt x="0" y="23"/>
                    </a:moveTo>
                    <a:lnTo>
                      <a:pt x="0" y="0"/>
                    </a:lnTo>
                    <a:lnTo>
                      <a:pt x="16" y="10"/>
                    </a:lnTo>
                    <a:lnTo>
                      <a:pt x="0"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79" name=""/>
              <p:cNvSpPr/>
              <p:nvPr/>
            </p:nvSpPr>
            <p:spPr>
              <a:xfrm>
                <a:off x="8416800" y="3836880"/>
                <a:ext cx="7920" cy="11160"/>
              </a:xfrm>
              <a:custGeom>
                <a:avLst/>
                <a:gdLst/>
                <a:ahLst/>
                <a:rect l="l" t="t" r="r" b="b"/>
                <a:pathLst>
                  <a:path w="16" h="21">
                    <a:moveTo>
                      <a:pt x="2" y="21"/>
                    </a:moveTo>
                    <a:lnTo>
                      <a:pt x="0" y="2"/>
                    </a:lnTo>
                    <a:lnTo>
                      <a:pt x="7" y="0"/>
                    </a:lnTo>
                    <a:lnTo>
                      <a:pt x="13" y="3"/>
                    </a:lnTo>
                    <a:lnTo>
                      <a:pt x="16" y="11"/>
                    </a:lnTo>
                    <a:lnTo>
                      <a:pt x="16" y="21"/>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0" name=""/>
              <p:cNvSpPr/>
              <p:nvPr/>
            </p:nvSpPr>
            <p:spPr>
              <a:xfrm>
                <a:off x="7900920" y="3840120"/>
                <a:ext cx="7920" cy="11160"/>
              </a:xfrm>
              <a:custGeom>
                <a:avLst/>
                <a:gdLst/>
                <a:ahLst/>
                <a:rect l="l" t="t" r="r" b="b"/>
                <a:pathLst>
                  <a:path w="16" h="21">
                    <a:moveTo>
                      <a:pt x="3" y="21"/>
                    </a:moveTo>
                    <a:lnTo>
                      <a:pt x="0" y="0"/>
                    </a:lnTo>
                    <a:lnTo>
                      <a:pt x="10" y="0"/>
                    </a:lnTo>
                    <a:lnTo>
                      <a:pt x="15" y="4"/>
                    </a:lnTo>
                    <a:lnTo>
                      <a:pt x="16" y="11"/>
                    </a:lnTo>
                    <a:lnTo>
                      <a:pt x="16"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1" name=""/>
              <p:cNvSpPr/>
              <p:nvPr/>
            </p:nvSpPr>
            <p:spPr>
              <a:xfrm>
                <a:off x="8064360" y="3835440"/>
                <a:ext cx="7920" cy="9360"/>
              </a:xfrm>
              <a:custGeom>
                <a:avLst/>
                <a:gdLst/>
                <a:ahLst/>
                <a:rect l="l" t="t" r="r" b="b"/>
                <a:pathLst>
                  <a:path w="13" h="20">
                    <a:moveTo>
                      <a:pt x="0" y="20"/>
                    </a:moveTo>
                    <a:lnTo>
                      <a:pt x="0" y="0"/>
                    </a:lnTo>
                    <a:lnTo>
                      <a:pt x="7" y="1"/>
                    </a:lnTo>
                    <a:lnTo>
                      <a:pt x="12" y="5"/>
                    </a:lnTo>
                    <a:lnTo>
                      <a:pt x="13" y="13"/>
                    </a:lnTo>
                    <a:lnTo>
                      <a:pt x="10" y="20"/>
                    </a:lnTo>
                    <a:lnTo>
                      <a:pt x="0"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2" name=""/>
              <p:cNvSpPr/>
              <p:nvPr/>
            </p:nvSpPr>
            <p:spPr>
              <a:xfrm>
                <a:off x="7119720" y="3825720"/>
                <a:ext cx="11160" cy="11160"/>
              </a:xfrm>
              <a:custGeom>
                <a:avLst/>
                <a:gdLst/>
                <a:ahLst/>
                <a:rect l="l" t="t" r="r" b="b"/>
                <a:pathLst>
                  <a:path w="20" h="21">
                    <a:moveTo>
                      <a:pt x="4" y="21"/>
                    </a:moveTo>
                    <a:lnTo>
                      <a:pt x="0" y="0"/>
                    </a:lnTo>
                    <a:lnTo>
                      <a:pt x="7" y="0"/>
                    </a:lnTo>
                    <a:lnTo>
                      <a:pt x="16" y="3"/>
                    </a:lnTo>
                    <a:lnTo>
                      <a:pt x="20" y="10"/>
                    </a:lnTo>
                    <a:lnTo>
                      <a:pt x="17" y="19"/>
                    </a:lnTo>
                    <a:lnTo>
                      <a:pt x="4"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3" name=""/>
              <p:cNvSpPr/>
              <p:nvPr/>
            </p:nvSpPr>
            <p:spPr>
              <a:xfrm>
                <a:off x="7354800" y="3808440"/>
                <a:ext cx="12600" cy="9360"/>
              </a:xfrm>
              <a:custGeom>
                <a:avLst/>
                <a:gdLst/>
                <a:ahLst/>
                <a:rect l="l" t="t" r="r" b="b"/>
                <a:pathLst>
                  <a:path w="24" h="17">
                    <a:moveTo>
                      <a:pt x="1" y="17"/>
                    </a:moveTo>
                    <a:lnTo>
                      <a:pt x="0" y="0"/>
                    </a:lnTo>
                    <a:lnTo>
                      <a:pt x="7" y="0"/>
                    </a:lnTo>
                    <a:lnTo>
                      <a:pt x="14" y="1"/>
                    </a:lnTo>
                    <a:lnTo>
                      <a:pt x="21" y="4"/>
                    </a:lnTo>
                    <a:lnTo>
                      <a:pt x="24" y="10"/>
                    </a:lnTo>
                    <a:lnTo>
                      <a:pt x="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4" name=""/>
              <p:cNvSpPr/>
              <p:nvPr/>
            </p:nvSpPr>
            <p:spPr>
              <a:xfrm>
                <a:off x="8342280" y="3790800"/>
                <a:ext cx="11160" cy="11160"/>
              </a:xfrm>
              <a:custGeom>
                <a:avLst/>
                <a:gdLst/>
                <a:ahLst/>
                <a:rect l="l" t="t" r="r" b="b"/>
                <a:pathLst>
                  <a:path w="19" h="23">
                    <a:moveTo>
                      <a:pt x="7" y="23"/>
                    </a:moveTo>
                    <a:lnTo>
                      <a:pt x="3" y="20"/>
                    </a:lnTo>
                    <a:lnTo>
                      <a:pt x="0" y="13"/>
                    </a:lnTo>
                    <a:lnTo>
                      <a:pt x="0" y="4"/>
                    </a:lnTo>
                    <a:lnTo>
                      <a:pt x="9" y="0"/>
                    </a:lnTo>
                    <a:lnTo>
                      <a:pt x="13" y="4"/>
                    </a:lnTo>
                    <a:lnTo>
                      <a:pt x="19" y="13"/>
                    </a:lnTo>
                    <a:lnTo>
                      <a:pt x="19" y="22"/>
                    </a:lnTo>
                    <a:lnTo>
                      <a:pt x="7"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5" name=""/>
              <p:cNvSpPr/>
              <p:nvPr/>
            </p:nvSpPr>
            <p:spPr>
              <a:xfrm>
                <a:off x="8244000" y="3790800"/>
                <a:ext cx="10800" cy="11160"/>
              </a:xfrm>
              <a:custGeom>
                <a:avLst/>
                <a:gdLst/>
                <a:ahLst/>
                <a:rect l="l" t="t" r="r" b="b"/>
                <a:pathLst>
                  <a:path w="22" h="23">
                    <a:moveTo>
                      <a:pt x="13" y="23"/>
                    </a:moveTo>
                    <a:lnTo>
                      <a:pt x="4" y="20"/>
                    </a:lnTo>
                    <a:lnTo>
                      <a:pt x="0" y="11"/>
                    </a:lnTo>
                    <a:lnTo>
                      <a:pt x="3" y="4"/>
                    </a:lnTo>
                    <a:lnTo>
                      <a:pt x="10" y="0"/>
                    </a:lnTo>
                    <a:lnTo>
                      <a:pt x="17" y="3"/>
                    </a:lnTo>
                    <a:lnTo>
                      <a:pt x="22" y="11"/>
                    </a:lnTo>
                    <a:lnTo>
                      <a:pt x="22" y="19"/>
                    </a:lnTo>
                    <a:lnTo>
                      <a:pt x="1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6" name=""/>
              <p:cNvSpPr/>
              <p:nvPr/>
            </p:nvSpPr>
            <p:spPr>
              <a:xfrm>
                <a:off x="7235640" y="3803760"/>
                <a:ext cx="9720" cy="9360"/>
              </a:xfrm>
              <a:custGeom>
                <a:avLst/>
                <a:gdLst/>
                <a:ahLst/>
                <a:rect l="l" t="t" r="r" b="b"/>
                <a:pathLst>
                  <a:path w="18" h="19">
                    <a:moveTo>
                      <a:pt x="2" y="19"/>
                    </a:moveTo>
                    <a:lnTo>
                      <a:pt x="0" y="2"/>
                    </a:lnTo>
                    <a:lnTo>
                      <a:pt x="8" y="0"/>
                    </a:lnTo>
                    <a:lnTo>
                      <a:pt x="14" y="3"/>
                    </a:lnTo>
                    <a:lnTo>
                      <a:pt x="18" y="11"/>
                    </a:lnTo>
                    <a:lnTo>
                      <a:pt x="16" y="19"/>
                    </a:lnTo>
                    <a:lnTo>
                      <a:pt x="2"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7" name=""/>
              <p:cNvSpPr/>
              <p:nvPr/>
            </p:nvSpPr>
            <p:spPr>
              <a:xfrm>
                <a:off x="8440560" y="3781440"/>
                <a:ext cx="9720" cy="15840"/>
              </a:xfrm>
              <a:custGeom>
                <a:avLst/>
                <a:gdLst/>
                <a:ahLst/>
                <a:rect l="l" t="t" r="r" b="b"/>
                <a:pathLst>
                  <a:path w="18" h="32">
                    <a:moveTo>
                      <a:pt x="12" y="32"/>
                    </a:moveTo>
                    <a:lnTo>
                      <a:pt x="0" y="24"/>
                    </a:lnTo>
                    <a:lnTo>
                      <a:pt x="0" y="16"/>
                    </a:lnTo>
                    <a:lnTo>
                      <a:pt x="2" y="11"/>
                    </a:lnTo>
                    <a:lnTo>
                      <a:pt x="6" y="5"/>
                    </a:lnTo>
                    <a:lnTo>
                      <a:pt x="16" y="0"/>
                    </a:lnTo>
                    <a:lnTo>
                      <a:pt x="18" y="8"/>
                    </a:lnTo>
                    <a:lnTo>
                      <a:pt x="18" y="15"/>
                    </a:lnTo>
                    <a:lnTo>
                      <a:pt x="15" y="22"/>
                    </a:lnTo>
                    <a:lnTo>
                      <a:pt x="12" y="32"/>
                    </a:lnTo>
                    <a:close/>
                  </a:path>
                </a:pathLst>
              </a:custGeom>
              <a:solidFill>
                <a:srgbClr val="6619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88" name=""/>
              <p:cNvSpPr/>
              <p:nvPr/>
            </p:nvSpPr>
            <p:spPr>
              <a:xfrm>
                <a:off x="7032600" y="3795480"/>
                <a:ext cx="11160" cy="11160"/>
              </a:xfrm>
              <a:custGeom>
                <a:avLst/>
                <a:gdLst/>
                <a:ahLst/>
                <a:rect l="l" t="t" r="r" b="b"/>
                <a:pathLst>
                  <a:path w="22" h="19">
                    <a:moveTo>
                      <a:pt x="9" y="19"/>
                    </a:moveTo>
                    <a:lnTo>
                      <a:pt x="0" y="5"/>
                    </a:lnTo>
                    <a:lnTo>
                      <a:pt x="9" y="0"/>
                    </a:lnTo>
                    <a:lnTo>
                      <a:pt x="16" y="0"/>
                    </a:lnTo>
                    <a:lnTo>
                      <a:pt x="21" y="6"/>
                    </a:lnTo>
                    <a:lnTo>
                      <a:pt x="22" y="15"/>
                    </a:lnTo>
                    <a:lnTo>
                      <a:pt x="9"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9" name=""/>
              <p:cNvSpPr/>
              <p:nvPr/>
            </p:nvSpPr>
            <p:spPr>
              <a:xfrm>
                <a:off x="7164360" y="2879640"/>
                <a:ext cx="1285920" cy="903240"/>
              </a:xfrm>
              <a:custGeom>
                <a:avLst/>
                <a:gdLst/>
                <a:ahLst/>
                <a:rect l="l" t="t" r="r" b="b"/>
                <a:pathLst>
                  <a:path w="2431" h="1708">
                    <a:moveTo>
                      <a:pt x="2374" y="1708"/>
                    </a:moveTo>
                    <a:lnTo>
                      <a:pt x="2366" y="1698"/>
                    </a:lnTo>
                    <a:lnTo>
                      <a:pt x="2370" y="1688"/>
                    </a:lnTo>
                    <a:lnTo>
                      <a:pt x="2376" y="1679"/>
                    </a:lnTo>
                    <a:lnTo>
                      <a:pt x="2383" y="1670"/>
                    </a:lnTo>
                    <a:lnTo>
                      <a:pt x="2390" y="1662"/>
                    </a:lnTo>
                    <a:lnTo>
                      <a:pt x="2398" y="1651"/>
                    </a:lnTo>
                    <a:lnTo>
                      <a:pt x="2405" y="1643"/>
                    </a:lnTo>
                    <a:lnTo>
                      <a:pt x="2412" y="1633"/>
                    </a:lnTo>
                    <a:lnTo>
                      <a:pt x="2418" y="1621"/>
                    </a:lnTo>
                    <a:lnTo>
                      <a:pt x="2415" y="1612"/>
                    </a:lnTo>
                    <a:lnTo>
                      <a:pt x="2405" y="1607"/>
                    </a:lnTo>
                    <a:lnTo>
                      <a:pt x="2395" y="1612"/>
                    </a:lnTo>
                    <a:lnTo>
                      <a:pt x="2387" y="1620"/>
                    </a:lnTo>
                    <a:lnTo>
                      <a:pt x="2382" y="1628"/>
                    </a:lnTo>
                    <a:lnTo>
                      <a:pt x="2374" y="1637"/>
                    </a:lnTo>
                    <a:lnTo>
                      <a:pt x="2369" y="1647"/>
                    </a:lnTo>
                    <a:lnTo>
                      <a:pt x="2363" y="1657"/>
                    </a:lnTo>
                    <a:lnTo>
                      <a:pt x="2356" y="1666"/>
                    </a:lnTo>
                    <a:lnTo>
                      <a:pt x="2347" y="1675"/>
                    </a:lnTo>
                    <a:lnTo>
                      <a:pt x="2338" y="1683"/>
                    </a:lnTo>
                    <a:lnTo>
                      <a:pt x="2314" y="1667"/>
                    </a:lnTo>
                    <a:lnTo>
                      <a:pt x="2322" y="1657"/>
                    </a:lnTo>
                    <a:lnTo>
                      <a:pt x="2332" y="1647"/>
                    </a:lnTo>
                    <a:lnTo>
                      <a:pt x="2341" y="1637"/>
                    </a:lnTo>
                    <a:lnTo>
                      <a:pt x="2350" y="1625"/>
                    </a:lnTo>
                    <a:lnTo>
                      <a:pt x="2360" y="1614"/>
                    </a:lnTo>
                    <a:lnTo>
                      <a:pt x="2367" y="1602"/>
                    </a:lnTo>
                    <a:lnTo>
                      <a:pt x="2374" y="1591"/>
                    </a:lnTo>
                    <a:lnTo>
                      <a:pt x="2382" y="1578"/>
                    </a:lnTo>
                    <a:lnTo>
                      <a:pt x="2380" y="1565"/>
                    </a:lnTo>
                    <a:lnTo>
                      <a:pt x="2359" y="1563"/>
                    </a:lnTo>
                    <a:lnTo>
                      <a:pt x="2353" y="1575"/>
                    </a:lnTo>
                    <a:lnTo>
                      <a:pt x="2347" y="1585"/>
                    </a:lnTo>
                    <a:lnTo>
                      <a:pt x="2340" y="1595"/>
                    </a:lnTo>
                    <a:lnTo>
                      <a:pt x="2331" y="1604"/>
                    </a:lnTo>
                    <a:lnTo>
                      <a:pt x="2322" y="1615"/>
                    </a:lnTo>
                    <a:lnTo>
                      <a:pt x="2314" y="1625"/>
                    </a:lnTo>
                    <a:lnTo>
                      <a:pt x="2305" y="1637"/>
                    </a:lnTo>
                    <a:lnTo>
                      <a:pt x="2296" y="1650"/>
                    </a:lnTo>
                    <a:lnTo>
                      <a:pt x="2304" y="1662"/>
                    </a:lnTo>
                    <a:lnTo>
                      <a:pt x="2292" y="1657"/>
                    </a:lnTo>
                    <a:lnTo>
                      <a:pt x="2280" y="1651"/>
                    </a:lnTo>
                    <a:lnTo>
                      <a:pt x="2270" y="1646"/>
                    </a:lnTo>
                    <a:lnTo>
                      <a:pt x="2259" y="1640"/>
                    </a:lnTo>
                    <a:lnTo>
                      <a:pt x="2249" y="1634"/>
                    </a:lnTo>
                    <a:lnTo>
                      <a:pt x="2238" y="1627"/>
                    </a:lnTo>
                    <a:lnTo>
                      <a:pt x="2228" y="1618"/>
                    </a:lnTo>
                    <a:lnTo>
                      <a:pt x="2218" y="1610"/>
                    </a:lnTo>
                    <a:lnTo>
                      <a:pt x="2230" y="1599"/>
                    </a:lnTo>
                    <a:lnTo>
                      <a:pt x="2234" y="1589"/>
                    </a:lnTo>
                    <a:lnTo>
                      <a:pt x="2240" y="1584"/>
                    </a:lnTo>
                    <a:lnTo>
                      <a:pt x="2247" y="1576"/>
                    </a:lnTo>
                    <a:lnTo>
                      <a:pt x="2250" y="1566"/>
                    </a:lnTo>
                    <a:lnTo>
                      <a:pt x="2254" y="1555"/>
                    </a:lnTo>
                    <a:lnTo>
                      <a:pt x="2263" y="1542"/>
                    </a:lnTo>
                    <a:lnTo>
                      <a:pt x="2273" y="1529"/>
                    </a:lnTo>
                    <a:lnTo>
                      <a:pt x="2282" y="1513"/>
                    </a:lnTo>
                    <a:lnTo>
                      <a:pt x="2266" y="1501"/>
                    </a:lnTo>
                    <a:lnTo>
                      <a:pt x="2257" y="1511"/>
                    </a:lnTo>
                    <a:lnTo>
                      <a:pt x="2247" y="1521"/>
                    </a:lnTo>
                    <a:lnTo>
                      <a:pt x="2238" y="1533"/>
                    </a:lnTo>
                    <a:lnTo>
                      <a:pt x="2230" y="1543"/>
                    </a:lnTo>
                    <a:lnTo>
                      <a:pt x="2223" y="1556"/>
                    </a:lnTo>
                    <a:lnTo>
                      <a:pt x="2214" y="1568"/>
                    </a:lnTo>
                    <a:lnTo>
                      <a:pt x="2207" y="1581"/>
                    </a:lnTo>
                    <a:lnTo>
                      <a:pt x="2201" y="1595"/>
                    </a:lnTo>
                    <a:lnTo>
                      <a:pt x="2195" y="1599"/>
                    </a:lnTo>
                    <a:lnTo>
                      <a:pt x="2185" y="1597"/>
                    </a:lnTo>
                    <a:lnTo>
                      <a:pt x="2178" y="1594"/>
                    </a:lnTo>
                    <a:lnTo>
                      <a:pt x="2172" y="1588"/>
                    </a:lnTo>
                    <a:lnTo>
                      <a:pt x="2168" y="1579"/>
                    </a:lnTo>
                    <a:lnTo>
                      <a:pt x="2173" y="1566"/>
                    </a:lnTo>
                    <a:lnTo>
                      <a:pt x="2181" y="1555"/>
                    </a:lnTo>
                    <a:lnTo>
                      <a:pt x="2189" y="1543"/>
                    </a:lnTo>
                    <a:lnTo>
                      <a:pt x="2198" y="1532"/>
                    </a:lnTo>
                    <a:lnTo>
                      <a:pt x="2208" y="1521"/>
                    </a:lnTo>
                    <a:lnTo>
                      <a:pt x="2217" y="1510"/>
                    </a:lnTo>
                    <a:lnTo>
                      <a:pt x="2225" y="1497"/>
                    </a:lnTo>
                    <a:lnTo>
                      <a:pt x="2233" y="1484"/>
                    </a:lnTo>
                    <a:lnTo>
                      <a:pt x="2224" y="1475"/>
                    </a:lnTo>
                    <a:lnTo>
                      <a:pt x="2215" y="1475"/>
                    </a:lnTo>
                    <a:lnTo>
                      <a:pt x="2207" y="1485"/>
                    </a:lnTo>
                    <a:lnTo>
                      <a:pt x="2197" y="1497"/>
                    </a:lnTo>
                    <a:lnTo>
                      <a:pt x="2186" y="1507"/>
                    </a:lnTo>
                    <a:lnTo>
                      <a:pt x="2176" y="1519"/>
                    </a:lnTo>
                    <a:lnTo>
                      <a:pt x="2168" y="1530"/>
                    </a:lnTo>
                    <a:lnTo>
                      <a:pt x="2158" y="1542"/>
                    </a:lnTo>
                    <a:lnTo>
                      <a:pt x="2147" y="1553"/>
                    </a:lnTo>
                    <a:lnTo>
                      <a:pt x="2137" y="1566"/>
                    </a:lnTo>
                    <a:lnTo>
                      <a:pt x="2131" y="1563"/>
                    </a:lnTo>
                    <a:lnTo>
                      <a:pt x="2124" y="1560"/>
                    </a:lnTo>
                    <a:lnTo>
                      <a:pt x="2118" y="1556"/>
                    </a:lnTo>
                    <a:lnTo>
                      <a:pt x="2113" y="1549"/>
                    </a:lnTo>
                    <a:lnTo>
                      <a:pt x="2118" y="1542"/>
                    </a:lnTo>
                    <a:lnTo>
                      <a:pt x="2123" y="1533"/>
                    </a:lnTo>
                    <a:lnTo>
                      <a:pt x="2129" y="1526"/>
                    </a:lnTo>
                    <a:lnTo>
                      <a:pt x="2133" y="1517"/>
                    </a:lnTo>
                    <a:lnTo>
                      <a:pt x="2139" y="1508"/>
                    </a:lnTo>
                    <a:lnTo>
                      <a:pt x="2145" y="1500"/>
                    </a:lnTo>
                    <a:lnTo>
                      <a:pt x="2150" y="1493"/>
                    </a:lnTo>
                    <a:lnTo>
                      <a:pt x="2159" y="1484"/>
                    </a:lnTo>
                    <a:lnTo>
                      <a:pt x="2162" y="1478"/>
                    </a:lnTo>
                    <a:lnTo>
                      <a:pt x="2168" y="1471"/>
                    </a:lnTo>
                    <a:lnTo>
                      <a:pt x="2172" y="1464"/>
                    </a:lnTo>
                    <a:lnTo>
                      <a:pt x="2176" y="1454"/>
                    </a:lnTo>
                    <a:lnTo>
                      <a:pt x="2172" y="1442"/>
                    </a:lnTo>
                    <a:lnTo>
                      <a:pt x="2160" y="1442"/>
                    </a:lnTo>
                    <a:lnTo>
                      <a:pt x="2150" y="1452"/>
                    </a:lnTo>
                    <a:lnTo>
                      <a:pt x="2140" y="1464"/>
                    </a:lnTo>
                    <a:lnTo>
                      <a:pt x="2131" y="1475"/>
                    </a:lnTo>
                    <a:lnTo>
                      <a:pt x="2123" y="1487"/>
                    </a:lnTo>
                    <a:lnTo>
                      <a:pt x="2114" y="1498"/>
                    </a:lnTo>
                    <a:lnTo>
                      <a:pt x="2107" y="1510"/>
                    </a:lnTo>
                    <a:lnTo>
                      <a:pt x="2100" y="1521"/>
                    </a:lnTo>
                    <a:lnTo>
                      <a:pt x="2091" y="1533"/>
                    </a:lnTo>
                    <a:lnTo>
                      <a:pt x="2082" y="1532"/>
                    </a:lnTo>
                    <a:lnTo>
                      <a:pt x="2075" y="1529"/>
                    </a:lnTo>
                    <a:lnTo>
                      <a:pt x="2069" y="1523"/>
                    </a:lnTo>
                    <a:lnTo>
                      <a:pt x="2065" y="1513"/>
                    </a:lnTo>
                    <a:lnTo>
                      <a:pt x="2071" y="1503"/>
                    </a:lnTo>
                    <a:lnTo>
                      <a:pt x="2077" y="1493"/>
                    </a:lnTo>
                    <a:lnTo>
                      <a:pt x="2085" y="1484"/>
                    </a:lnTo>
                    <a:lnTo>
                      <a:pt x="2092" y="1474"/>
                    </a:lnTo>
                    <a:lnTo>
                      <a:pt x="2100" y="1464"/>
                    </a:lnTo>
                    <a:lnTo>
                      <a:pt x="2107" y="1452"/>
                    </a:lnTo>
                    <a:lnTo>
                      <a:pt x="2113" y="1441"/>
                    </a:lnTo>
                    <a:lnTo>
                      <a:pt x="2118" y="1428"/>
                    </a:lnTo>
                    <a:lnTo>
                      <a:pt x="2110" y="1419"/>
                    </a:lnTo>
                    <a:lnTo>
                      <a:pt x="2098" y="1426"/>
                    </a:lnTo>
                    <a:lnTo>
                      <a:pt x="2088" y="1436"/>
                    </a:lnTo>
                    <a:lnTo>
                      <a:pt x="2079" y="1446"/>
                    </a:lnTo>
                    <a:lnTo>
                      <a:pt x="2072" y="1458"/>
                    </a:lnTo>
                    <a:lnTo>
                      <a:pt x="2064" y="1471"/>
                    </a:lnTo>
                    <a:lnTo>
                      <a:pt x="2055" y="1482"/>
                    </a:lnTo>
                    <a:lnTo>
                      <a:pt x="2046" y="1494"/>
                    </a:lnTo>
                    <a:lnTo>
                      <a:pt x="2037" y="1506"/>
                    </a:lnTo>
                    <a:lnTo>
                      <a:pt x="2030" y="1504"/>
                    </a:lnTo>
                    <a:lnTo>
                      <a:pt x="2026" y="1498"/>
                    </a:lnTo>
                    <a:lnTo>
                      <a:pt x="2019" y="1491"/>
                    </a:lnTo>
                    <a:lnTo>
                      <a:pt x="2009" y="1488"/>
                    </a:lnTo>
                    <a:lnTo>
                      <a:pt x="2009" y="1478"/>
                    </a:lnTo>
                    <a:lnTo>
                      <a:pt x="2016" y="1468"/>
                    </a:lnTo>
                    <a:lnTo>
                      <a:pt x="2023" y="1459"/>
                    </a:lnTo>
                    <a:lnTo>
                      <a:pt x="2030" y="1449"/>
                    </a:lnTo>
                    <a:lnTo>
                      <a:pt x="2037" y="1439"/>
                    </a:lnTo>
                    <a:lnTo>
                      <a:pt x="2043" y="1429"/>
                    </a:lnTo>
                    <a:lnTo>
                      <a:pt x="2051" y="1419"/>
                    </a:lnTo>
                    <a:lnTo>
                      <a:pt x="2056" y="1407"/>
                    </a:lnTo>
                    <a:lnTo>
                      <a:pt x="2064" y="1394"/>
                    </a:lnTo>
                    <a:lnTo>
                      <a:pt x="2056" y="1384"/>
                    </a:lnTo>
                    <a:lnTo>
                      <a:pt x="2045" y="1389"/>
                    </a:lnTo>
                    <a:lnTo>
                      <a:pt x="2036" y="1397"/>
                    </a:lnTo>
                    <a:lnTo>
                      <a:pt x="2030" y="1407"/>
                    </a:lnTo>
                    <a:lnTo>
                      <a:pt x="2023" y="1416"/>
                    </a:lnTo>
                    <a:lnTo>
                      <a:pt x="2017" y="1426"/>
                    </a:lnTo>
                    <a:lnTo>
                      <a:pt x="2010" y="1438"/>
                    </a:lnTo>
                    <a:lnTo>
                      <a:pt x="2003" y="1448"/>
                    </a:lnTo>
                    <a:lnTo>
                      <a:pt x="1994" y="1459"/>
                    </a:lnTo>
                    <a:lnTo>
                      <a:pt x="1984" y="1469"/>
                    </a:lnTo>
                    <a:lnTo>
                      <a:pt x="1962" y="1455"/>
                    </a:lnTo>
                    <a:lnTo>
                      <a:pt x="1967" y="1445"/>
                    </a:lnTo>
                    <a:lnTo>
                      <a:pt x="1972" y="1436"/>
                    </a:lnTo>
                    <a:lnTo>
                      <a:pt x="1980" y="1428"/>
                    </a:lnTo>
                    <a:lnTo>
                      <a:pt x="1985" y="1419"/>
                    </a:lnTo>
                    <a:lnTo>
                      <a:pt x="1993" y="1410"/>
                    </a:lnTo>
                    <a:lnTo>
                      <a:pt x="2000" y="1402"/>
                    </a:lnTo>
                    <a:lnTo>
                      <a:pt x="2007" y="1393"/>
                    </a:lnTo>
                    <a:lnTo>
                      <a:pt x="2013" y="1383"/>
                    </a:lnTo>
                    <a:lnTo>
                      <a:pt x="2006" y="1364"/>
                    </a:lnTo>
                    <a:lnTo>
                      <a:pt x="1996" y="1371"/>
                    </a:lnTo>
                    <a:lnTo>
                      <a:pt x="1987" y="1378"/>
                    </a:lnTo>
                    <a:lnTo>
                      <a:pt x="1978" y="1389"/>
                    </a:lnTo>
                    <a:lnTo>
                      <a:pt x="1970" y="1399"/>
                    </a:lnTo>
                    <a:lnTo>
                      <a:pt x="1962" y="1410"/>
                    </a:lnTo>
                    <a:lnTo>
                      <a:pt x="1954" y="1420"/>
                    </a:lnTo>
                    <a:lnTo>
                      <a:pt x="1943" y="1430"/>
                    </a:lnTo>
                    <a:lnTo>
                      <a:pt x="1933" y="1439"/>
                    </a:lnTo>
                    <a:lnTo>
                      <a:pt x="1917" y="1420"/>
                    </a:lnTo>
                    <a:lnTo>
                      <a:pt x="1923" y="1410"/>
                    </a:lnTo>
                    <a:lnTo>
                      <a:pt x="1929" y="1402"/>
                    </a:lnTo>
                    <a:lnTo>
                      <a:pt x="1935" y="1393"/>
                    </a:lnTo>
                    <a:lnTo>
                      <a:pt x="1942" y="1384"/>
                    </a:lnTo>
                    <a:lnTo>
                      <a:pt x="1949" y="1374"/>
                    </a:lnTo>
                    <a:lnTo>
                      <a:pt x="1957" y="1364"/>
                    </a:lnTo>
                    <a:lnTo>
                      <a:pt x="1964" y="1354"/>
                    </a:lnTo>
                    <a:lnTo>
                      <a:pt x="1972" y="1341"/>
                    </a:lnTo>
                    <a:lnTo>
                      <a:pt x="1961" y="1329"/>
                    </a:lnTo>
                    <a:lnTo>
                      <a:pt x="1949" y="1332"/>
                    </a:lnTo>
                    <a:lnTo>
                      <a:pt x="1941" y="1341"/>
                    </a:lnTo>
                    <a:lnTo>
                      <a:pt x="1933" y="1350"/>
                    </a:lnTo>
                    <a:lnTo>
                      <a:pt x="1928" y="1360"/>
                    </a:lnTo>
                    <a:lnTo>
                      <a:pt x="1922" y="1370"/>
                    </a:lnTo>
                    <a:lnTo>
                      <a:pt x="1916" y="1380"/>
                    </a:lnTo>
                    <a:lnTo>
                      <a:pt x="1909" y="1389"/>
                    </a:lnTo>
                    <a:lnTo>
                      <a:pt x="1902" y="1399"/>
                    </a:lnTo>
                    <a:lnTo>
                      <a:pt x="1893" y="1409"/>
                    </a:lnTo>
                    <a:lnTo>
                      <a:pt x="1886" y="1404"/>
                    </a:lnTo>
                    <a:lnTo>
                      <a:pt x="1878" y="1399"/>
                    </a:lnTo>
                    <a:lnTo>
                      <a:pt x="1871" y="1394"/>
                    </a:lnTo>
                    <a:lnTo>
                      <a:pt x="1863" y="1387"/>
                    </a:lnTo>
                    <a:lnTo>
                      <a:pt x="1870" y="1380"/>
                    </a:lnTo>
                    <a:lnTo>
                      <a:pt x="1877" y="1373"/>
                    </a:lnTo>
                    <a:lnTo>
                      <a:pt x="1884" y="1364"/>
                    </a:lnTo>
                    <a:lnTo>
                      <a:pt x="1891" y="1357"/>
                    </a:lnTo>
                    <a:lnTo>
                      <a:pt x="1897" y="1348"/>
                    </a:lnTo>
                    <a:lnTo>
                      <a:pt x="1904" y="1339"/>
                    </a:lnTo>
                    <a:lnTo>
                      <a:pt x="1909" y="1332"/>
                    </a:lnTo>
                    <a:lnTo>
                      <a:pt x="1915" y="1323"/>
                    </a:lnTo>
                    <a:lnTo>
                      <a:pt x="1904" y="1306"/>
                    </a:lnTo>
                    <a:lnTo>
                      <a:pt x="1896" y="1312"/>
                    </a:lnTo>
                    <a:lnTo>
                      <a:pt x="1889" y="1319"/>
                    </a:lnTo>
                    <a:lnTo>
                      <a:pt x="1881" y="1328"/>
                    </a:lnTo>
                    <a:lnTo>
                      <a:pt x="1874" y="1336"/>
                    </a:lnTo>
                    <a:lnTo>
                      <a:pt x="1867" y="1345"/>
                    </a:lnTo>
                    <a:lnTo>
                      <a:pt x="1861" y="1355"/>
                    </a:lnTo>
                    <a:lnTo>
                      <a:pt x="1854" y="1365"/>
                    </a:lnTo>
                    <a:lnTo>
                      <a:pt x="1847" y="1374"/>
                    </a:lnTo>
                    <a:lnTo>
                      <a:pt x="1838" y="1371"/>
                    </a:lnTo>
                    <a:lnTo>
                      <a:pt x="1831" y="1367"/>
                    </a:lnTo>
                    <a:lnTo>
                      <a:pt x="1825" y="1363"/>
                    </a:lnTo>
                    <a:lnTo>
                      <a:pt x="1818" y="1354"/>
                    </a:lnTo>
                    <a:lnTo>
                      <a:pt x="1822" y="1345"/>
                    </a:lnTo>
                    <a:lnTo>
                      <a:pt x="1826" y="1338"/>
                    </a:lnTo>
                    <a:lnTo>
                      <a:pt x="1832" y="1331"/>
                    </a:lnTo>
                    <a:lnTo>
                      <a:pt x="1838" y="1323"/>
                    </a:lnTo>
                    <a:lnTo>
                      <a:pt x="1845" y="1318"/>
                    </a:lnTo>
                    <a:lnTo>
                      <a:pt x="1851" y="1309"/>
                    </a:lnTo>
                    <a:lnTo>
                      <a:pt x="1857" y="1302"/>
                    </a:lnTo>
                    <a:lnTo>
                      <a:pt x="1863" y="1293"/>
                    </a:lnTo>
                    <a:lnTo>
                      <a:pt x="1855" y="1282"/>
                    </a:lnTo>
                    <a:lnTo>
                      <a:pt x="1845" y="1282"/>
                    </a:lnTo>
                    <a:lnTo>
                      <a:pt x="1839" y="1286"/>
                    </a:lnTo>
                    <a:lnTo>
                      <a:pt x="1834" y="1293"/>
                    </a:lnTo>
                    <a:lnTo>
                      <a:pt x="1826" y="1300"/>
                    </a:lnTo>
                    <a:lnTo>
                      <a:pt x="1821" y="1308"/>
                    </a:lnTo>
                    <a:lnTo>
                      <a:pt x="1813" y="1316"/>
                    </a:lnTo>
                    <a:lnTo>
                      <a:pt x="1805" y="1325"/>
                    </a:lnTo>
                    <a:lnTo>
                      <a:pt x="1797" y="1332"/>
                    </a:lnTo>
                    <a:lnTo>
                      <a:pt x="1790" y="1339"/>
                    </a:lnTo>
                    <a:lnTo>
                      <a:pt x="1777" y="1335"/>
                    </a:lnTo>
                    <a:lnTo>
                      <a:pt x="1783" y="1328"/>
                    </a:lnTo>
                    <a:lnTo>
                      <a:pt x="1790" y="1321"/>
                    </a:lnTo>
                    <a:lnTo>
                      <a:pt x="1800" y="1315"/>
                    </a:lnTo>
                    <a:lnTo>
                      <a:pt x="1809" y="1306"/>
                    </a:lnTo>
                    <a:lnTo>
                      <a:pt x="1812" y="1299"/>
                    </a:lnTo>
                    <a:lnTo>
                      <a:pt x="1815" y="1292"/>
                    </a:lnTo>
                    <a:lnTo>
                      <a:pt x="1821" y="1284"/>
                    </a:lnTo>
                    <a:lnTo>
                      <a:pt x="1825" y="1273"/>
                    </a:lnTo>
                    <a:lnTo>
                      <a:pt x="1818" y="1257"/>
                    </a:lnTo>
                    <a:lnTo>
                      <a:pt x="1795" y="1266"/>
                    </a:lnTo>
                    <a:lnTo>
                      <a:pt x="1787" y="1277"/>
                    </a:lnTo>
                    <a:lnTo>
                      <a:pt x="1780" y="1290"/>
                    </a:lnTo>
                    <a:lnTo>
                      <a:pt x="1771" y="1305"/>
                    </a:lnTo>
                    <a:lnTo>
                      <a:pt x="1758" y="1318"/>
                    </a:lnTo>
                    <a:lnTo>
                      <a:pt x="1747" y="1316"/>
                    </a:lnTo>
                    <a:lnTo>
                      <a:pt x="1744" y="1306"/>
                    </a:lnTo>
                    <a:lnTo>
                      <a:pt x="1747" y="1295"/>
                    </a:lnTo>
                    <a:lnTo>
                      <a:pt x="1753" y="1284"/>
                    </a:lnTo>
                    <a:lnTo>
                      <a:pt x="1760" y="1274"/>
                    </a:lnTo>
                    <a:lnTo>
                      <a:pt x="1770" y="1263"/>
                    </a:lnTo>
                    <a:lnTo>
                      <a:pt x="1782" y="1253"/>
                    </a:lnTo>
                    <a:lnTo>
                      <a:pt x="1767" y="1237"/>
                    </a:lnTo>
                    <a:lnTo>
                      <a:pt x="1760" y="1241"/>
                    </a:lnTo>
                    <a:lnTo>
                      <a:pt x="1753" y="1245"/>
                    </a:lnTo>
                    <a:lnTo>
                      <a:pt x="1745" y="1253"/>
                    </a:lnTo>
                    <a:lnTo>
                      <a:pt x="1738" y="1260"/>
                    </a:lnTo>
                    <a:lnTo>
                      <a:pt x="1731" y="1267"/>
                    </a:lnTo>
                    <a:lnTo>
                      <a:pt x="1725" y="1276"/>
                    </a:lnTo>
                    <a:lnTo>
                      <a:pt x="1719" y="1283"/>
                    </a:lnTo>
                    <a:lnTo>
                      <a:pt x="1716" y="1290"/>
                    </a:lnTo>
                    <a:lnTo>
                      <a:pt x="1712" y="1283"/>
                    </a:lnTo>
                    <a:lnTo>
                      <a:pt x="1714" y="1276"/>
                    </a:lnTo>
                    <a:lnTo>
                      <a:pt x="1716" y="1270"/>
                    </a:lnTo>
                    <a:lnTo>
                      <a:pt x="1721" y="1263"/>
                    </a:lnTo>
                    <a:lnTo>
                      <a:pt x="1725" y="1253"/>
                    </a:lnTo>
                    <a:lnTo>
                      <a:pt x="1708" y="1240"/>
                    </a:lnTo>
                    <a:lnTo>
                      <a:pt x="1705" y="1248"/>
                    </a:lnTo>
                    <a:lnTo>
                      <a:pt x="1698" y="1253"/>
                    </a:lnTo>
                    <a:lnTo>
                      <a:pt x="1689" y="1258"/>
                    </a:lnTo>
                    <a:lnTo>
                      <a:pt x="1683" y="1267"/>
                    </a:lnTo>
                    <a:lnTo>
                      <a:pt x="1672" y="1271"/>
                    </a:lnTo>
                    <a:lnTo>
                      <a:pt x="1677" y="1258"/>
                    </a:lnTo>
                    <a:lnTo>
                      <a:pt x="1683" y="1245"/>
                    </a:lnTo>
                    <a:lnTo>
                      <a:pt x="1692" y="1232"/>
                    </a:lnTo>
                    <a:lnTo>
                      <a:pt x="1703" y="1219"/>
                    </a:lnTo>
                    <a:lnTo>
                      <a:pt x="1712" y="1221"/>
                    </a:lnTo>
                    <a:lnTo>
                      <a:pt x="1719" y="1221"/>
                    </a:lnTo>
                    <a:lnTo>
                      <a:pt x="1729" y="1224"/>
                    </a:lnTo>
                    <a:lnTo>
                      <a:pt x="1738" y="1225"/>
                    </a:lnTo>
                    <a:lnTo>
                      <a:pt x="1748" y="1227"/>
                    </a:lnTo>
                    <a:lnTo>
                      <a:pt x="1757" y="1230"/>
                    </a:lnTo>
                    <a:lnTo>
                      <a:pt x="1767" y="1231"/>
                    </a:lnTo>
                    <a:lnTo>
                      <a:pt x="1776" y="1234"/>
                    </a:lnTo>
                    <a:lnTo>
                      <a:pt x="1799" y="1227"/>
                    </a:lnTo>
                    <a:lnTo>
                      <a:pt x="1810" y="1224"/>
                    </a:lnTo>
                    <a:lnTo>
                      <a:pt x="1821" y="1219"/>
                    </a:lnTo>
                    <a:lnTo>
                      <a:pt x="1831" y="1212"/>
                    </a:lnTo>
                    <a:lnTo>
                      <a:pt x="1841" y="1204"/>
                    </a:lnTo>
                    <a:lnTo>
                      <a:pt x="1868" y="1166"/>
                    </a:lnTo>
                    <a:lnTo>
                      <a:pt x="1894" y="1127"/>
                    </a:lnTo>
                    <a:lnTo>
                      <a:pt x="1917" y="1088"/>
                    </a:lnTo>
                    <a:lnTo>
                      <a:pt x="1942" y="1048"/>
                    </a:lnTo>
                    <a:lnTo>
                      <a:pt x="1964" y="1006"/>
                    </a:lnTo>
                    <a:lnTo>
                      <a:pt x="1984" y="962"/>
                    </a:lnTo>
                    <a:lnTo>
                      <a:pt x="2003" y="917"/>
                    </a:lnTo>
                    <a:lnTo>
                      <a:pt x="2020" y="868"/>
                    </a:lnTo>
                    <a:lnTo>
                      <a:pt x="2022" y="848"/>
                    </a:lnTo>
                    <a:lnTo>
                      <a:pt x="2017" y="841"/>
                    </a:lnTo>
                    <a:lnTo>
                      <a:pt x="2013" y="835"/>
                    </a:lnTo>
                    <a:lnTo>
                      <a:pt x="2004" y="832"/>
                    </a:lnTo>
                    <a:lnTo>
                      <a:pt x="1993" y="828"/>
                    </a:lnTo>
                    <a:lnTo>
                      <a:pt x="1990" y="821"/>
                    </a:lnTo>
                    <a:lnTo>
                      <a:pt x="1990" y="813"/>
                    </a:lnTo>
                    <a:lnTo>
                      <a:pt x="1993" y="806"/>
                    </a:lnTo>
                    <a:lnTo>
                      <a:pt x="1991" y="799"/>
                    </a:lnTo>
                    <a:lnTo>
                      <a:pt x="1977" y="793"/>
                    </a:lnTo>
                    <a:lnTo>
                      <a:pt x="1964" y="789"/>
                    </a:lnTo>
                    <a:lnTo>
                      <a:pt x="1954" y="783"/>
                    </a:lnTo>
                    <a:lnTo>
                      <a:pt x="1943" y="779"/>
                    </a:lnTo>
                    <a:lnTo>
                      <a:pt x="1933" y="774"/>
                    </a:lnTo>
                    <a:lnTo>
                      <a:pt x="1925" y="770"/>
                    </a:lnTo>
                    <a:lnTo>
                      <a:pt x="1915" y="766"/>
                    </a:lnTo>
                    <a:lnTo>
                      <a:pt x="1904" y="763"/>
                    </a:lnTo>
                    <a:lnTo>
                      <a:pt x="1891" y="763"/>
                    </a:lnTo>
                    <a:lnTo>
                      <a:pt x="1876" y="757"/>
                    </a:lnTo>
                    <a:lnTo>
                      <a:pt x="1858" y="751"/>
                    </a:lnTo>
                    <a:lnTo>
                      <a:pt x="1842" y="746"/>
                    </a:lnTo>
                    <a:lnTo>
                      <a:pt x="1825" y="740"/>
                    </a:lnTo>
                    <a:lnTo>
                      <a:pt x="1808" y="734"/>
                    </a:lnTo>
                    <a:lnTo>
                      <a:pt x="1790" y="728"/>
                    </a:lnTo>
                    <a:lnTo>
                      <a:pt x="1773" y="722"/>
                    </a:lnTo>
                    <a:lnTo>
                      <a:pt x="1756" y="718"/>
                    </a:lnTo>
                    <a:lnTo>
                      <a:pt x="1738" y="712"/>
                    </a:lnTo>
                    <a:lnTo>
                      <a:pt x="1721" y="707"/>
                    </a:lnTo>
                    <a:lnTo>
                      <a:pt x="1703" y="702"/>
                    </a:lnTo>
                    <a:lnTo>
                      <a:pt x="1686" y="696"/>
                    </a:lnTo>
                    <a:lnTo>
                      <a:pt x="1670" y="691"/>
                    </a:lnTo>
                    <a:lnTo>
                      <a:pt x="1653" y="686"/>
                    </a:lnTo>
                    <a:lnTo>
                      <a:pt x="1635" y="681"/>
                    </a:lnTo>
                    <a:lnTo>
                      <a:pt x="1620" y="675"/>
                    </a:lnTo>
                    <a:lnTo>
                      <a:pt x="1608" y="670"/>
                    </a:lnTo>
                    <a:lnTo>
                      <a:pt x="1596" y="666"/>
                    </a:lnTo>
                    <a:lnTo>
                      <a:pt x="1585" y="662"/>
                    </a:lnTo>
                    <a:lnTo>
                      <a:pt x="1573" y="657"/>
                    </a:lnTo>
                    <a:lnTo>
                      <a:pt x="1562" y="653"/>
                    </a:lnTo>
                    <a:lnTo>
                      <a:pt x="1550" y="649"/>
                    </a:lnTo>
                    <a:lnTo>
                      <a:pt x="1537" y="644"/>
                    </a:lnTo>
                    <a:lnTo>
                      <a:pt x="1526" y="640"/>
                    </a:lnTo>
                    <a:lnTo>
                      <a:pt x="1500" y="633"/>
                    </a:lnTo>
                    <a:lnTo>
                      <a:pt x="1474" y="624"/>
                    </a:lnTo>
                    <a:lnTo>
                      <a:pt x="1448" y="616"/>
                    </a:lnTo>
                    <a:lnTo>
                      <a:pt x="1420" y="607"/>
                    </a:lnTo>
                    <a:lnTo>
                      <a:pt x="1394" y="598"/>
                    </a:lnTo>
                    <a:lnTo>
                      <a:pt x="1367" y="591"/>
                    </a:lnTo>
                    <a:lnTo>
                      <a:pt x="1339" y="585"/>
                    </a:lnTo>
                    <a:lnTo>
                      <a:pt x="1313" y="582"/>
                    </a:lnTo>
                    <a:lnTo>
                      <a:pt x="1301" y="584"/>
                    </a:lnTo>
                    <a:lnTo>
                      <a:pt x="1293" y="588"/>
                    </a:lnTo>
                    <a:lnTo>
                      <a:pt x="1284" y="594"/>
                    </a:lnTo>
                    <a:lnTo>
                      <a:pt x="1274" y="600"/>
                    </a:lnTo>
                    <a:lnTo>
                      <a:pt x="1257" y="614"/>
                    </a:lnTo>
                    <a:lnTo>
                      <a:pt x="1242" y="630"/>
                    </a:lnTo>
                    <a:lnTo>
                      <a:pt x="1228" y="646"/>
                    </a:lnTo>
                    <a:lnTo>
                      <a:pt x="1215" y="663"/>
                    </a:lnTo>
                    <a:lnTo>
                      <a:pt x="1202" y="681"/>
                    </a:lnTo>
                    <a:lnTo>
                      <a:pt x="1190" y="698"/>
                    </a:lnTo>
                    <a:lnTo>
                      <a:pt x="1177" y="715"/>
                    </a:lnTo>
                    <a:lnTo>
                      <a:pt x="1164" y="731"/>
                    </a:lnTo>
                    <a:lnTo>
                      <a:pt x="1155" y="747"/>
                    </a:lnTo>
                    <a:lnTo>
                      <a:pt x="1145" y="763"/>
                    </a:lnTo>
                    <a:lnTo>
                      <a:pt x="1135" y="779"/>
                    </a:lnTo>
                    <a:lnTo>
                      <a:pt x="1126" y="796"/>
                    </a:lnTo>
                    <a:lnTo>
                      <a:pt x="1116" y="812"/>
                    </a:lnTo>
                    <a:lnTo>
                      <a:pt x="1106" y="829"/>
                    </a:lnTo>
                    <a:lnTo>
                      <a:pt x="1096" y="847"/>
                    </a:lnTo>
                    <a:lnTo>
                      <a:pt x="1087" y="865"/>
                    </a:lnTo>
                    <a:lnTo>
                      <a:pt x="1087" y="877"/>
                    </a:lnTo>
                    <a:lnTo>
                      <a:pt x="1090" y="886"/>
                    </a:lnTo>
                    <a:lnTo>
                      <a:pt x="1095" y="893"/>
                    </a:lnTo>
                    <a:lnTo>
                      <a:pt x="1100" y="900"/>
                    </a:lnTo>
                    <a:lnTo>
                      <a:pt x="1106" y="907"/>
                    </a:lnTo>
                    <a:lnTo>
                      <a:pt x="1100" y="913"/>
                    </a:lnTo>
                    <a:lnTo>
                      <a:pt x="1095" y="920"/>
                    </a:lnTo>
                    <a:lnTo>
                      <a:pt x="1089" y="928"/>
                    </a:lnTo>
                    <a:lnTo>
                      <a:pt x="1082" y="935"/>
                    </a:lnTo>
                    <a:lnTo>
                      <a:pt x="1074" y="942"/>
                    </a:lnTo>
                    <a:lnTo>
                      <a:pt x="1069" y="949"/>
                    </a:lnTo>
                    <a:lnTo>
                      <a:pt x="1061" y="955"/>
                    </a:lnTo>
                    <a:lnTo>
                      <a:pt x="1054" y="959"/>
                    </a:lnTo>
                    <a:lnTo>
                      <a:pt x="1047" y="959"/>
                    </a:lnTo>
                    <a:lnTo>
                      <a:pt x="1047" y="938"/>
                    </a:lnTo>
                    <a:lnTo>
                      <a:pt x="1056" y="928"/>
                    </a:lnTo>
                    <a:lnTo>
                      <a:pt x="1064" y="916"/>
                    </a:lnTo>
                    <a:lnTo>
                      <a:pt x="1073" y="906"/>
                    </a:lnTo>
                    <a:lnTo>
                      <a:pt x="1082" y="896"/>
                    </a:lnTo>
                    <a:lnTo>
                      <a:pt x="1082" y="884"/>
                    </a:lnTo>
                    <a:lnTo>
                      <a:pt x="1070" y="878"/>
                    </a:lnTo>
                    <a:lnTo>
                      <a:pt x="1061" y="883"/>
                    </a:lnTo>
                    <a:lnTo>
                      <a:pt x="1053" y="890"/>
                    </a:lnTo>
                    <a:lnTo>
                      <a:pt x="1044" y="897"/>
                    </a:lnTo>
                    <a:lnTo>
                      <a:pt x="1037" y="906"/>
                    </a:lnTo>
                    <a:lnTo>
                      <a:pt x="1028" y="915"/>
                    </a:lnTo>
                    <a:lnTo>
                      <a:pt x="1022" y="925"/>
                    </a:lnTo>
                    <a:lnTo>
                      <a:pt x="1015" y="933"/>
                    </a:lnTo>
                    <a:lnTo>
                      <a:pt x="1011" y="942"/>
                    </a:lnTo>
                    <a:lnTo>
                      <a:pt x="1001" y="942"/>
                    </a:lnTo>
                    <a:lnTo>
                      <a:pt x="995" y="932"/>
                    </a:lnTo>
                    <a:lnTo>
                      <a:pt x="1002" y="920"/>
                    </a:lnTo>
                    <a:lnTo>
                      <a:pt x="1011" y="907"/>
                    </a:lnTo>
                    <a:lnTo>
                      <a:pt x="1019" y="893"/>
                    </a:lnTo>
                    <a:lnTo>
                      <a:pt x="1028" y="877"/>
                    </a:lnTo>
                    <a:lnTo>
                      <a:pt x="1017" y="863"/>
                    </a:lnTo>
                    <a:lnTo>
                      <a:pt x="1008" y="867"/>
                    </a:lnTo>
                    <a:lnTo>
                      <a:pt x="999" y="873"/>
                    </a:lnTo>
                    <a:lnTo>
                      <a:pt x="993" y="878"/>
                    </a:lnTo>
                    <a:lnTo>
                      <a:pt x="988" y="887"/>
                    </a:lnTo>
                    <a:lnTo>
                      <a:pt x="983" y="894"/>
                    </a:lnTo>
                    <a:lnTo>
                      <a:pt x="979" y="903"/>
                    </a:lnTo>
                    <a:lnTo>
                      <a:pt x="973" y="912"/>
                    </a:lnTo>
                    <a:lnTo>
                      <a:pt x="967" y="920"/>
                    </a:lnTo>
                    <a:lnTo>
                      <a:pt x="956" y="922"/>
                    </a:lnTo>
                    <a:lnTo>
                      <a:pt x="953" y="916"/>
                    </a:lnTo>
                    <a:lnTo>
                      <a:pt x="962" y="903"/>
                    </a:lnTo>
                    <a:lnTo>
                      <a:pt x="967" y="890"/>
                    </a:lnTo>
                    <a:lnTo>
                      <a:pt x="975" y="877"/>
                    </a:lnTo>
                    <a:lnTo>
                      <a:pt x="982" y="863"/>
                    </a:lnTo>
                    <a:lnTo>
                      <a:pt x="965" y="848"/>
                    </a:lnTo>
                    <a:lnTo>
                      <a:pt x="959" y="855"/>
                    </a:lnTo>
                    <a:lnTo>
                      <a:pt x="954" y="863"/>
                    </a:lnTo>
                    <a:lnTo>
                      <a:pt x="949" y="870"/>
                    </a:lnTo>
                    <a:lnTo>
                      <a:pt x="943" y="877"/>
                    </a:lnTo>
                    <a:lnTo>
                      <a:pt x="936" y="884"/>
                    </a:lnTo>
                    <a:lnTo>
                      <a:pt x="930" y="891"/>
                    </a:lnTo>
                    <a:lnTo>
                      <a:pt x="923" y="899"/>
                    </a:lnTo>
                    <a:lnTo>
                      <a:pt x="917" y="907"/>
                    </a:lnTo>
                    <a:lnTo>
                      <a:pt x="912" y="906"/>
                    </a:lnTo>
                    <a:lnTo>
                      <a:pt x="905" y="904"/>
                    </a:lnTo>
                    <a:lnTo>
                      <a:pt x="899" y="902"/>
                    </a:lnTo>
                    <a:lnTo>
                      <a:pt x="897" y="894"/>
                    </a:lnTo>
                    <a:lnTo>
                      <a:pt x="910" y="874"/>
                    </a:lnTo>
                    <a:lnTo>
                      <a:pt x="914" y="867"/>
                    </a:lnTo>
                    <a:lnTo>
                      <a:pt x="920" y="860"/>
                    </a:lnTo>
                    <a:lnTo>
                      <a:pt x="925" y="851"/>
                    </a:lnTo>
                    <a:lnTo>
                      <a:pt x="930" y="841"/>
                    </a:lnTo>
                    <a:lnTo>
                      <a:pt x="921" y="831"/>
                    </a:lnTo>
                    <a:lnTo>
                      <a:pt x="910" y="832"/>
                    </a:lnTo>
                    <a:lnTo>
                      <a:pt x="904" y="838"/>
                    </a:lnTo>
                    <a:lnTo>
                      <a:pt x="899" y="844"/>
                    </a:lnTo>
                    <a:lnTo>
                      <a:pt x="894" y="851"/>
                    </a:lnTo>
                    <a:lnTo>
                      <a:pt x="888" y="857"/>
                    </a:lnTo>
                    <a:lnTo>
                      <a:pt x="882" y="864"/>
                    </a:lnTo>
                    <a:lnTo>
                      <a:pt x="876" y="870"/>
                    </a:lnTo>
                    <a:lnTo>
                      <a:pt x="871" y="877"/>
                    </a:lnTo>
                    <a:lnTo>
                      <a:pt x="866" y="883"/>
                    </a:lnTo>
                    <a:lnTo>
                      <a:pt x="850" y="874"/>
                    </a:lnTo>
                    <a:lnTo>
                      <a:pt x="862" y="861"/>
                    </a:lnTo>
                    <a:lnTo>
                      <a:pt x="872" y="848"/>
                    </a:lnTo>
                    <a:lnTo>
                      <a:pt x="879" y="835"/>
                    </a:lnTo>
                    <a:lnTo>
                      <a:pt x="888" y="821"/>
                    </a:lnTo>
                    <a:lnTo>
                      <a:pt x="878" y="805"/>
                    </a:lnTo>
                    <a:lnTo>
                      <a:pt x="872" y="809"/>
                    </a:lnTo>
                    <a:lnTo>
                      <a:pt x="865" y="815"/>
                    </a:lnTo>
                    <a:lnTo>
                      <a:pt x="859" y="821"/>
                    </a:lnTo>
                    <a:lnTo>
                      <a:pt x="853" y="828"/>
                    </a:lnTo>
                    <a:lnTo>
                      <a:pt x="846" y="837"/>
                    </a:lnTo>
                    <a:lnTo>
                      <a:pt x="840" y="844"/>
                    </a:lnTo>
                    <a:lnTo>
                      <a:pt x="833" y="851"/>
                    </a:lnTo>
                    <a:lnTo>
                      <a:pt x="827" y="858"/>
                    </a:lnTo>
                    <a:lnTo>
                      <a:pt x="807" y="852"/>
                    </a:lnTo>
                    <a:lnTo>
                      <a:pt x="807" y="848"/>
                    </a:lnTo>
                    <a:lnTo>
                      <a:pt x="814" y="837"/>
                    </a:lnTo>
                    <a:lnTo>
                      <a:pt x="823" y="826"/>
                    </a:lnTo>
                    <a:lnTo>
                      <a:pt x="831" y="816"/>
                    </a:lnTo>
                    <a:lnTo>
                      <a:pt x="840" y="806"/>
                    </a:lnTo>
                    <a:lnTo>
                      <a:pt x="840" y="796"/>
                    </a:lnTo>
                    <a:lnTo>
                      <a:pt x="829" y="787"/>
                    </a:lnTo>
                    <a:lnTo>
                      <a:pt x="821" y="792"/>
                    </a:lnTo>
                    <a:lnTo>
                      <a:pt x="814" y="798"/>
                    </a:lnTo>
                    <a:lnTo>
                      <a:pt x="808" y="803"/>
                    </a:lnTo>
                    <a:lnTo>
                      <a:pt x="803" y="811"/>
                    </a:lnTo>
                    <a:lnTo>
                      <a:pt x="797" y="819"/>
                    </a:lnTo>
                    <a:lnTo>
                      <a:pt x="790" y="825"/>
                    </a:lnTo>
                    <a:lnTo>
                      <a:pt x="782" y="831"/>
                    </a:lnTo>
                    <a:lnTo>
                      <a:pt x="772" y="835"/>
                    </a:lnTo>
                    <a:lnTo>
                      <a:pt x="764" y="829"/>
                    </a:lnTo>
                    <a:lnTo>
                      <a:pt x="765" y="822"/>
                    </a:lnTo>
                    <a:lnTo>
                      <a:pt x="768" y="816"/>
                    </a:lnTo>
                    <a:lnTo>
                      <a:pt x="774" y="809"/>
                    </a:lnTo>
                    <a:lnTo>
                      <a:pt x="779" y="800"/>
                    </a:lnTo>
                    <a:lnTo>
                      <a:pt x="781" y="793"/>
                    </a:lnTo>
                    <a:lnTo>
                      <a:pt x="785" y="787"/>
                    </a:lnTo>
                    <a:lnTo>
                      <a:pt x="791" y="780"/>
                    </a:lnTo>
                    <a:lnTo>
                      <a:pt x="794" y="770"/>
                    </a:lnTo>
                    <a:lnTo>
                      <a:pt x="782" y="763"/>
                    </a:lnTo>
                    <a:lnTo>
                      <a:pt x="775" y="767"/>
                    </a:lnTo>
                    <a:lnTo>
                      <a:pt x="768" y="772"/>
                    </a:lnTo>
                    <a:lnTo>
                      <a:pt x="762" y="779"/>
                    </a:lnTo>
                    <a:lnTo>
                      <a:pt x="758" y="786"/>
                    </a:lnTo>
                    <a:lnTo>
                      <a:pt x="752" y="793"/>
                    </a:lnTo>
                    <a:lnTo>
                      <a:pt x="746" y="800"/>
                    </a:lnTo>
                    <a:lnTo>
                      <a:pt x="739" y="808"/>
                    </a:lnTo>
                    <a:lnTo>
                      <a:pt x="730" y="813"/>
                    </a:lnTo>
                    <a:lnTo>
                      <a:pt x="722" y="809"/>
                    </a:lnTo>
                    <a:lnTo>
                      <a:pt x="727" y="799"/>
                    </a:lnTo>
                    <a:lnTo>
                      <a:pt x="733" y="789"/>
                    </a:lnTo>
                    <a:lnTo>
                      <a:pt x="740" y="777"/>
                    </a:lnTo>
                    <a:lnTo>
                      <a:pt x="748" y="767"/>
                    </a:lnTo>
                    <a:lnTo>
                      <a:pt x="740" y="747"/>
                    </a:lnTo>
                    <a:lnTo>
                      <a:pt x="733" y="751"/>
                    </a:lnTo>
                    <a:lnTo>
                      <a:pt x="727" y="756"/>
                    </a:lnTo>
                    <a:lnTo>
                      <a:pt x="722" y="761"/>
                    </a:lnTo>
                    <a:lnTo>
                      <a:pt x="717" y="769"/>
                    </a:lnTo>
                    <a:lnTo>
                      <a:pt x="711" y="776"/>
                    </a:lnTo>
                    <a:lnTo>
                      <a:pt x="704" y="783"/>
                    </a:lnTo>
                    <a:lnTo>
                      <a:pt x="697" y="790"/>
                    </a:lnTo>
                    <a:lnTo>
                      <a:pt x="688" y="798"/>
                    </a:lnTo>
                    <a:lnTo>
                      <a:pt x="675" y="793"/>
                    </a:lnTo>
                    <a:lnTo>
                      <a:pt x="678" y="785"/>
                    </a:lnTo>
                    <a:lnTo>
                      <a:pt x="683" y="777"/>
                    </a:lnTo>
                    <a:lnTo>
                      <a:pt x="688" y="772"/>
                    </a:lnTo>
                    <a:lnTo>
                      <a:pt x="694" y="763"/>
                    </a:lnTo>
                    <a:lnTo>
                      <a:pt x="694" y="753"/>
                    </a:lnTo>
                    <a:lnTo>
                      <a:pt x="693" y="746"/>
                    </a:lnTo>
                    <a:lnTo>
                      <a:pt x="688" y="741"/>
                    </a:lnTo>
                    <a:lnTo>
                      <a:pt x="678" y="737"/>
                    </a:lnTo>
                    <a:lnTo>
                      <a:pt x="674" y="743"/>
                    </a:lnTo>
                    <a:lnTo>
                      <a:pt x="671" y="751"/>
                    </a:lnTo>
                    <a:lnTo>
                      <a:pt x="668" y="761"/>
                    </a:lnTo>
                    <a:lnTo>
                      <a:pt x="662" y="767"/>
                    </a:lnTo>
                    <a:lnTo>
                      <a:pt x="654" y="772"/>
                    </a:lnTo>
                    <a:lnTo>
                      <a:pt x="646" y="779"/>
                    </a:lnTo>
                    <a:lnTo>
                      <a:pt x="639" y="787"/>
                    </a:lnTo>
                    <a:lnTo>
                      <a:pt x="630" y="793"/>
                    </a:lnTo>
                    <a:lnTo>
                      <a:pt x="619" y="792"/>
                    </a:lnTo>
                    <a:lnTo>
                      <a:pt x="625" y="783"/>
                    </a:lnTo>
                    <a:lnTo>
                      <a:pt x="630" y="774"/>
                    </a:lnTo>
                    <a:lnTo>
                      <a:pt x="636" y="766"/>
                    </a:lnTo>
                    <a:lnTo>
                      <a:pt x="642" y="756"/>
                    </a:lnTo>
                    <a:lnTo>
                      <a:pt x="636" y="734"/>
                    </a:lnTo>
                    <a:lnTo>
                      <a:pt x="626" y="734"/>
                    </a:lnTo>
                    <a:lnTo>
                      <a:pt x="620" y="740"/>
                    </a:lnTo>
                    <a:lnTo>
                      <a:pt x="616" y="748"/>
                    </a:lnTo>
                    <a:lnTo>
                      <a:pt x="610" y="756"/>
                    </a:lnTo>
                    <a:lnTo>
                      <a:pt x="604" y="764"/>
                    </a:lnTo>
                    <a:lnTo>
                      <a:pt x="597" y="773"/>
                    </a:lnTo>
                    <a:lnTo>
                      <a:pt x="591" y="782"/>
                    </a:lnTo>
                    <a:lnTo>
                      <a:pt x="584" y="790"/>
                    </a:lnTo>
                    <a:lnTo>
                      <a:pt x="577" y="799"/>
                    </a:lnTo>
                    <a:lnTo>
                      <a:pt x="564" y="793"/>
                    </a:lnTo>
                    <a:lnTo>
                      <a:pt x="568" y="786"/>
                    </a:lnTo>
                    <a:lnTo>
                      <a:pt x="574" y="776"/>
                    </a:lnTo>
                    <a:lnTo>
                      <a:pt x="578" y="764"/>
                    </a:lnTo>
                    <a:lnTo>
                      <a:pt x="583" y="750"/>
                    </a:lnTo>
                    <a:lnTo>
                      <a:pt x="564" y="741"/>
                    </a:lnTo>
                    <a:lnTo>
                      <a:pt x="558" y="750"/>
                    </a:lnTo>
                    <a:lnTo>
                      <a:pt x="552" y="761"/>
                    </a:lnTo>
                    <a:lnTo>
                      <a:pt x="547" y="773"/>
                    </a:lnTo>
                    <a:lnTo>
                      <a:pt x="539" y="785"/>
                    </a:lnTo>
                    <a:lnTo>
                      <a:pt x="529" y="789"/>
                    </a:lnTo>
                    <a:lnTo>
                      <a:pt x="523" y="796"/>
                    </a:lnTo>
                    <a:lnTo>
                      <a:pt x="518" y="805"/>
                    </a:lnTo>
                    <a:lnTo>
                      <a:pt x="505" y="808"/>
                    </a:lnTo>
                    <a:lnTo>
                      <a:pt x="497" y="805"/>
                    </a:lnTo>
                    <a:lnTo>
                      <a:pt x="503" y="795"/>
                    </a:lnTo>
                    <a:lnTo>
                      <a:pt x="509" y="785"/>
                    </a:lnTo>
                    <a:lnTo>
                      <a:pt x="516" y="774"/>
                    </a:lnTo>
                    <a:lnTo>
                      <a:pt x="525" y="764"/>
                    </a:lnTo>
                    <a:lnTo>
                      <a:pt x="510" y="747"/>
                    </a:lnTo>
                    <a:lnTo>
                      <a:pt x="503" y="754"/>
                    </a:lnTo>
                    <a:lnTo>
                      <a:pt x="497" y="761"/>
                    </a:lnTo>
                    <a:lnTo>
                      <a:pt x="490" y="769"/>
                    </a:lnTo>
                    <a:lnTo>
                      <a:pt x="484" y="776"/>
                    </a:lnTo>
                    <a:lnTo>
                      <a:pt x="479" y="783"/>
                    </a:lnTo>
                    <a:lnTo>
                      <a:pt x="471" y="792"/>
                    </a:lnTo>
                    <a:lnTo>
                      <a:pt x="467" y="800"/>
                    </a:lnTo>
                    <a:lnTo>
                      <a:pt x="461" y="809"/>
                    </a:lnTo>
                    <a:lnTo>
                      <a:pt x="454" y="811"/>
                    </a:lnTo>
                    <a:lnTo>
                      <a:pt x="448" y="811"/>
                    </a:lnTo>
                    <a:lnTo>
                      <a:pt x="441" y="812"/>
                    </a:lnTo>
                    <a:lnTo>
                      <a:pt x="431" y="813"/>
                    </a:lnTo>
                    <a:lnTo>
                      <a:pt x="424" y="812"/>
                    </a:lnTo>
                    <a:lnTo>
                      <a:pt x="432" y="802"/>
                    </a:lnTo>
                    <a:lnTo>
                      <a:pt x="441" y="792"/>
                    </a:lnTo>
                    <a:lnTo>
                      <a:pt x="448" y="780"/>
                    </a:lnTo>
                    <a:lnTo>
                      <a:pt x="456" y="767"/>
                    </a:lnTo>
                    <a:lnTo>
                      <a:pt x="437" y="754"/>
                    </a:lnTo>
                    <a:lnTo>
                      <a:pt x="431" y="760"/>
                    </a:lnTo>
                    <a:lnTo>
                      <a:pt x="427" y="767"/>
                    </a:lnTo>
                    <a:lnTo>
                      <a:pt x="421" y="773"/>
                    </a:lnTo>
                    <a:lnTo>
                      <a:pt x="415" y="780"/>
                    </a:lnTo>
                    <a:lnTo>
                      <a:pt x="409" y="786"/>
                    </a:lnTo>
                    <a:lnTo>
                      <a:pt x="403" y="793"/>
                    </a:lnTo>
                    <a:lnTo>
                      <a:pt x="398" y="799"/>
                    </a:lnTo>
                    <a:lnTo>
                      <a:pt x="392" y="806"/>
                    </a:lnTo>
                    <a:lnTo>
                      <a:pt x="386" y="809"/>
                    </a:lnTo>
                    <a:lnTo>
                      <a:pt x="380" y="811"/>
                    </a:lnTo>
                    <a:lnTo>
                      <a:pt x="372" y="811"/>
                    </a:lnTo>
                    <a:lnTo>
                      <a:pt x="364" y="806"/>
                    </a:lnTo>
                    <a:lnTo>
                      <a:pt x="373" y="802"/>
                    </a:lnTo>
                    <a:lnTo>
                      <a:pt x="380" y="793"/>
                    </a:lnTo>
                    <a:lnTo>
                      <a:pt x="388" y="782"/>
                    </a:lnTo>
                    <a:lnTo>
                      <a:pt x="396" y="769"/>
                    </a:lnTo>
                    <a:lnTo>
                      <a:pt x="385" y="753"/>
                    </a:lnTo>
                    <a:lnTo>
                      <a:pt x="377" y="757"/>
                    </a:lnTo>
                    <a:lnTo>
                      <a:pt x="370" y="763"/>
                    </a:lnTo>
                    <a:lnTo>
                      <a:pt x="363" y="770"/>
                    </a:lnTo>
                    <a:lnTo>
                      <a:pt x="357" y="777"/>
                    </a:lnTo>
                    <a:lnTo>
                      <a:pt x="350" y="786"/>
                    </a:lnTo>
                    <a:lnTo>
                      <a:pt x="343" y="793"/>
                    </a:lnTo>
                    <a:lnTo>
                      <a:pt x="335" y="800"/>
                    </a:lnTo>
                    <a:lnTo>
                      <a:pt x="325" y="806"/>
                    </a:lnTo>
                    <a:lnTo>
                      <a:pt x="317" y="803"/>
                    </a:lnTo>
                    <a:lnTo>
                      <a:pt x="320" y="790"/>
                    </a:lnTo>
                    <a:lnTo>
                      <a:pt x="328" y="780"/>
                    </a:lnTo>
                    <a:lnTo>
                      <a:pt x="337" y="770"/>
                    </a:lnTo>
                    <a:lnTo>
                      <a:pt x="343" y="760"/>
                    </a:lnTo>
                    <a:lnTo>
                      <a:pt x="330" y="743"/>
                    </a:lnTo>
                    <a:lnTo>
                      <a:pt x="324" y="746"/>
                    </a:lnTo>
                    <a:lnTo>
                      <a:pt x="318" y="750"/>
                    </a:lnTo>
                    <a:lnTo>
                      <a:pt x="312" y="756"/>
                    </a:lnTo>
                    <a:lnTo>
                      <a:pt x="307" y="761"/>
                    </a:lnTo>
                    <a:lnTo>
                      <a:pt x="301" y="767"/>
                    </a:lnTo>
                    <a:lnTo>
                      <a:pt x="294" y="773"/>
                    </a:lnTo>
                    <a:lnTo>
                      <a:pt x="288" y="780"/>
                    </a:lnTo>
                    <a:lnTo>
                      <a:pt x="281" y="786"/>
                    </a:lnTo>
                    <a:lnTo>
                      <a:pt x="273" y="780"/>
                    </a:lnTo>
                    <a:lnTo>
                      <a:pt x="282" y="770"/>
                    </a:lnTo>
                    <a:lnTo>
                      <a:pt x="291" y="757"/>
                    </a:lnTo>
                    <a:lnTo>
                      <a:pt x="298" y="746"/>
                    </a:lnTo>
                    <a:lnTo>
                      <a:pt x="307" y="733"/>
                    </a:lnTo>
                    <a:lnTo>
                      <a:pt x="298" y="720"/>
                    </a:lnTo>
                    <a:lnTo>
                      <a:pt x="286" y="720"/>
                    </a:lnTo>
                    <a:lnTo>
                      <a:pt x="279" y="730"/>
                    </a:lnTo>
                    <a:lnTo>
                      <a:pt x="270" y="740"/>
                    </a:lnTo>
                    <a:lnTo>
                      <a:pt x="262" y="751"/>
                    </a:lnTo>
                    <a:lnTo>
                      <a:pt x="250" y="761"/>
                    </a:lnTo>
                    <a:lnTo>
                      <a:pt x="240" y="761"/>
                    </a:lnTo>
                    <a:lnTo>
                      <a:pt x="247" y="744"/>
                    </a:lnTo>
                    <a:lnTo>
                      <a:pt x="256" y="733"/>
                    </a:lnTo>
                    <a:lnTo>
                      <a:pt x="262" y="724"/>
                    </a:lnTo>
                    <a:lnTo>
                      <a:pt x="266" y="712"/>
                    </a:lnTo>
                    <a:lnTo>
                      <a:pt x="259" y="701"/>
                    </a:lnTo>
                    <a:lnTo>
                      <a:pt x="247" y="701"/>
                    </a:lnTo>
                    <a:lnTo>
                      <a:pt x="239" y="709"/>
                    </a:lnTo>
                    <a:lnTo>
                      <a:pt x="233" y="721"/>
                    </a:lnTo>
                    <a:lnTo>
                      <a:pt x="224" y="731"/>
                    </a:lnTo>
                    <a:lnTo>
                      <a:pt x="210" y="737"/>
                    </a:lnTo>
                    <a:lnTo>
                      <a:pt x="205" y="727"/>
                    </a:lnTo>
                    <a:lnTo>
                      <a:pt x="210" y="720"/>
                    </a:lnTo>
                    <a:lnTo>
                      <a:pt x="217" y="712"/>
                    </a:lnTo>
                    <a:lnTo>
                      <a:pt x="226" y="704"/>
                    </a:lnTo>
                    <a:lnTo>
                      <a:pt x="236" y="694"/>
                    </a:lnTo>
                    <a:lnTo>
                      <a:pt x="223" y="676"/>
                    </a:lnTo>
                    <a:lnTo>
                      <a:pt x="214" y="678"/>
                    </a:lnTo>
                    <a:lnTo>
                      <a:pt x="207" y="683"/>
                    </a:lnTo>
                    <a:lnTo>
                      <a:pt x="201" y="689"/>
                    </a:lnTo>
                    <a:lnTo>
                      <a:pt x="194" y="695"/>
                    </a:lnTo>
                    <a:lnTo>
                      <a:pt x="187" y="705"/>
                    </a:lnTo>
                    <a:lnTo>
                      <a:pt x="181" y="702"/>
                    </a:lnTo>
                    <a:lnTo>
                      <a:pt x="185" y="698"/>
                    </a:lnTo>
                    <a:lnTo>
                      <a:pt x="189" y="689"/>
                    </a:lnTo>
                    <a:lnTo>
                      <a:pt x="191" y="679"/>
                    </a:lnTo>
                    <a:lnTo>
                      <a:pt x="192" y="669"/>
                    </a:lnTo>
                    <a:lnTo>
                      <a:pt x="172" y="666"/>
                    </a:lnTo>
                    <a:lnTo>
                      <a:pt x="161" y="688"/>
                    </a:lnTo>
                    <a:lnTo>
                      <a:pt x="149" y="685"/>
                    </a:lnTo>
                    <a:lnTo>
                      <a:pt x="143" y="676"/>
                    </a:lnTo>
                    <a:lnTo>
                      <a:pt x="149" y="669"/>
                    </a:lnTo>
                    <a:lnTo>
                      <a:pt x="155" y="662"/>
                    </a:lnTo>
                    <a:lnTo>
                      <a:pt x="162" y="656"/>
                    </a:lnTo>
                    <a:lnTo>
                      <a:pt x="166" y="647"/>
                    </a:lnTo>
                    <a:lnTo>
                      <a:pt x="159" y="634"/>
                    </a:lnTo>
                    <a:lnTo>
                      <a:pt x="149" y="636"/>
                    </a:lnTo>
                    <a:lnTo>
                      <a:pt x="142" y="640"/>
                    </a:lnTo>
                    <a:lnTo>
                      <a:pt x="134" y="644"/>
                    </a:lnTo>
                    <a:lnTo>
                      <a:pt x="127" y="650"/>
                    </a:lnTo>
                    <a:lnTo>
                      <a:pt x="119" y="657"/>
                    </a:lnTo>
                    <a:lnTo>
                      <a:pt x="107" y="653"/>
                    </a:lnTo>
                    <a:lnTo>
                      <a:pt x="114" y="646"/>
                    </a:lnTo>
                    <a:lnTo>
                      <a:pt x="121" y="640"/>
                    </a:lnTo>
                    <a:lnTo>
                      <a:pt x="129" y="634"/>
                    </a:lnTo>
                    <a:lnTo>
                      <a:pt x="136" y="626"/>
                    </a:lnTo>
                    <a:lnTo>
                      <a:pt x="129" y="614"/>
                    </a:lnTo>
                    <a:lnTo>
                      <a:pt x="119" y="614"/>
                    </a:lnTo>
                    <a:lnTo>
                      <a:pt x="108" y="620"/>
                    </a:lnTo>
                    <a:lnTo>
                      <a:pt x="98" y="627"/>
                    </a:lnTo>
                    <a:lnTo>
                      <a:pt x="88" y="626"/>
                    </a:lnTo>
                    <a:lnTo>
                      <a:pt x="97" y="617"/>
                    </a:lnTo>
                    <a:lnTo>
                      <a:pt x="107" y="608"/>
                    </a:lnTo>
                    <a:lnTo>
                      <a:pt x="114" y="597"/>
                    </a:lnTo>
                    <a:lnTo>
                      <a:pt x="121" y="582"/>
                    </a:lnTo>
                    <a:lnTo>
                      <a:pt x="108" y="574"/>
                    </a:lnTo>
                    <a:lnTo>
                      <a:pt x="100" y="575"/>
                    </a:lnTo>
                    <a:lnTo>
                      <a:pt x="94" y="581"/>
                    </a:lnTo>
                    <a:lnTo>
                      <a:pt x="87" y="588"/>
                    </a:lnTo>
                    <a:lnTo>
                      <a:pt x="78" y="595"/>
                    </a:lnTo>
                    <a:lnTo>
                      <a:pt x="75" y="588"/>
                    </a:lnTo>
                    <a:lnTo>
                      <a:pt x="84" y="579"/>
                    </a:lnTo>
                    <a:lnTo>
                      <a:pt x="93" y="572"/>
                    </a:lnTo>
                    <a:lnTo>
                      <a:pt x="100" y="565"/>
                    </a:lnTo>
                    <a:lnTo>
                      <a:pt x="108" y="555"/>
                    </a:lnTo>
                    <a:lnTo>
                      <a:pt x="94" y="539"/>
                    </a:lnTo>
                    <a:lnTo>
                      <a:pt x="91" y="543"/>
                    </a:lnTo>
                    <a:lnTo>
                      <a:pt x="84" y="546"/>
                    </a:lnTo>
                    <a:lnTo>
                      <a:pt x="74" y="549"/>
                    </a:lnTo>
                    <a:lnTo>
                      <a:pt x="64" y="553"/>
                    </a:lnTo>
                    <a:lnTo>
                      <a:pt x="64" y="532"/>
                    </a:lnTo>
                    <a:lnTo>
                      <a:pt x="67" y="526"/>
                    </a:lnTo>
                    <a:lnTo>
                      <a:pt x="75" y="523"/>
                    </a:lnTo>
                    <a:lnTo>
                      <a:pt x="82" y="519"/>
                    </a:lnTo>
                    <a:lnTo>
                      <a:pt x="85" y="509"/>
                    </a:lnTo>
                    <a:lnTo>
                      <a:pt x="71" y="496"/>
                    </a:lnTo>
                    <a:lnTo>
                      <a:pt x="49" y="509"/>
                    </a:lnTo>
                    <a:lnTo>
                      <a:pt x="52" y="497"/>
                    </a:lnTo>
                    <a:lnTo>
                      <a:pt x="59" y="490"/>
                    </a:lnTo>
                    <a:lnTo>
                      <a:pt x="69" y="484"/>
                    </a:lnTo>
                    <a:lnTo>
                      <a:pt x="78" y="474"/>
                    </a:lnTo>
                    <a:lnTo>
                      <a:pt x="72" y="461"/>
                    </a:lnTo>
                    <a:lnTo>
                      <a:pt x="65" y="459"/>
                    </a:lnTo>
                    <a:lnTo>
                      <a:pt x="58" y="461"/>
                    </a:lnTo>
                    <a:lnTo>
                      <a:pt x="51" y="464"/>
                    </a:lnTo>
                    <a:lnTo>
                      <a:pt x="42" y="467"/>
                    </a:lnTo>
                    <a:lnTo>
                      <a:pt x="45" y="458"/>
                    </a:lnTo>
                    <a:lnTo>
                      <a:pt x="52" y="454"/>
                    </a:lnTo>
                    <a:lnTo>
                      <a:pt x="59" y="448"/>
                    </a:lnTo>
                    <a:lnTo>
                      <a:pt x="62" y="438"/>
                    </a:lnTo>
                    <a:lnTo>
                      <a:pt x="54" y="426"/>
                    </a:lnTo>
                    <a:lnTo>
                      <a:pt x="46" y="428"/>
                    </a:lnTo>
                    <a:lnTo>
                      <a:pt x="39" y="432"/>
                    </a:lnTo>
                    <a:lnTo>
                      <a:pt x="32" y="438"/>
                    </a:lnTo>
                    <a:lnTo>
                      <a:pt x="25" y="439"/>
                    </a:lnTo>
                    <a:lnTo>
                      <a:pt x="32" y="432"/>
                    </a:lnTo>
                    <a:lnTo>
                      <a:pt x="38" y="425"/>
                    </a:lnTo>
                    <a:lnTo>
                      <a:pt x="40" y="418"/>
                    </a:lnTo>
                    <a:lnTo>
                      <a:pt x="35" y="407"/>
                    </a:lnTo>
                    <a:lnTo>
                      <a:pt x="30" y="405"/>
                    </a:lnTo>
                    <a:lnTo>
                      <a:pt x="23" y="406"/>
                    </a:lnTo>
                    <a:lnTo>
                      <a:pt x="16" y="409"/>
                    </a:lnTo>
                    <a:lnTo>
                      <a:pt x="9" y="413"/>
                    </a:lnTo>
                    <a:lnTo>
                      <a:pt x="1" y="407"/>
                    </a:lnTo>
                    <a:lnTo>
                      <a:pt x="0" y="400"/>
                    </a:lnTo>
                    <a:lnTo>
                      <a:pt x="0" y="393"/>
                    </a:lnTo>
                    <a:lnTo>
                      <a:pt x="0" y="386"/>
                    </a:lnTo>
                    <a:lnTo>
                      <a:pt x="3" y="376"/>
                    </a:lnTo>
                    <a:lnTo>
                      <a:pt x="17" y="363"/>
                    </a:lnTo>
                    <a:lnTo>
                      <a:pt x="39" y="363"/>
                    </a:lnTo>
                    <a:lnTo>
                      <a:pt x="56" y="368"/>
                    </a:lnTo>
                    <a:lnTo>
                      <a:pt x="72" y="376"/>
                    </a:lnTo>
                    <a:lnTo>
                      <a:pt x="88" y="384"/>
                    </a:lnTo>
                    <a:lnTo>
                      <a:pt x="104" y="393"/>
                    </a:lnTo>
                    <a:lnTo>
                      <a:pt x="119" y="403"/>
                    </a:lnTo>
                    <a:lnTo>
                      <a:pt x="132" y="415"/>
                    </a:lnTo>
                    <a:lnTo>
                      <a:pt x="146" y="428"/>
                    </a:lnTo>
                    <a:lnTo>
                      <a:pt x="159" y="442"/>
                    </a:lnTo>
                    <a:lnTo>
                      <a:pt x="166" y="455"/>
                    </a:lnTo>
                    <a:lnTo>
                      <a:pt x="175" y="467"/>
                    </a:lnTo>
                    <a:lnTo>
                      <a:pt x="184" y="477"/>
                    </a:lnTo>
                    <a:lnTo>
                      <a:pt x="192" y="487"/>
                    </a:lnTo>
                    <a:lnTo>
                      <a:pt x="201" y="497"/>
                    </a:lnTo>
                    <a:lnTo>
                      <a:pt x="208" y="509"/>
                    </a:lnTo>
                    <a:lnTo>
                      <a:pt x="215" y="522"/>
                    </a:lnTo>
                    <a:lnTo>
                      <a:pt x="221" y="535"/>
                    </a:lnTo>
                    <a:lnTo>
                      <a:pt x="247" y="536"/>
                    </a:lnTo>
                    <a:lnTo>
                      <a:pt x="273" y="535"/>
                    </a:lnTo>
                    <a:lnTo>
                      <a:pt x="301" y="532"/>
                    </a:lnTo>
                    <a:lnTo>
                      <a:pt x="330" y="526"/>
                    </a:lnTo>
                    <a:lnTo>
                      <a:pt x="357" y="519"/>
                    </a:lnTo>
                    <a:lnTo>
                      <a:pt x="385" y="511"/>
                    </a:lnTo>
                    <a:lnTo>
                      <a:pt x="414" y="504"/>
                    </a:lnTo>
                    <a:lnTo>
                      <a:pt x="441" y="498"/>
                    </a:lnTo>
                    <a:lnTo>
                      <a:pt x="445" y="488"/>
                    </a:lnTo>
                    <a:lnTo>
                      <a:pt x="422" y="484"/>
                    </a:lnTo>
                    <a:lnTo>
                      <a:pt x="398" y="484"/>
                    </a:lnTo>
                    <a:lnTo>
                      <a:pt x="372" y="487"/>
                    </a:lnTo>
                    <a:lnTo>
                      <a:pt x="347" y="491"/>
                    </a:lnTo>
                    <a:lnTo>
                      <a:pt x="321" y="497"/>
                    </a:lnTo>
                    <a:lnTo>
                      <a:pt x="295" y="503"/>
                    </a:lnTo>
                    <a:lnTo>
                      <a:pt x="269" y="507"/>
                    </a:lnTo>
                    <a:lnTo>
                      <a:pt x="244" y="509"/>
                    </a:lnTo>
                    <a:lnTo>
                      <a:pt x="228" y="484"/>
                    </a:lnTo>
                    <a:lnTo>
                      <a:pt x="230" y="481"/>
                    </a:lnTo>
                    <a:lnTo>
                      <a:pt x="244" y="483"/>
                    </a:lnTo>
                    <a:lnTo>
                      <a:pt x="260" y="483"/>
                    </a:lnTo>
                    <a:lnTo>
                      <a:pt x="275" y="481"/>
                    </a:lnTo>
                    <a:lnTo>
                      <a:pt x="291" y="480"/>
                    </a:lnTo>
                    <a:lnTo>
                      <a:pt x="305" y="475"/>
                    </a:lnTo>
                    <a:lnTo>
                      <a:pt x="318" y="470"/>
                    </a:lnTo>
                    <a:lnTo>
                      <a:pt x="333" y="462"/>
                    </a:lnTo>
                    <a:lnTo>
                      <a:pt x="346" y="454"/>
                    </a:lnTo>
                    <a:lnTo>
                      <a:pt x="354" y="444"/>
                    </a:lnTo>
                    <a:lnTo>
                      <a:pt x="362" y="433"/>
                    </a:lnTo>
                    <a:lnTo>
                      <a:pt x="367" y="423"/>
                    </a:lnTo>
                    <a:lnTo>
                      <a:pt x="375" y="413"/>
                    </a:lnTo>
                    <a:lnTo>
                      <a:pt x="375" y="405"/>
                    </a:lnTo>
                    <a:lnTo>
                      <a:pt x="375" y="397"/>
                    </a:lnTo>
                    <a:lnTo>
                      <a:pt x="375" y="390"/>
                    </a:lnTo>
                    <a:lnTo>
                      <a:pt x="376" y="381"/>
                    </a:lnTo>
                    <a:lnTo>
                      <a:pt x="386" y="380"/>
                    </a:lnTo>
                    <a:lnTo>
                      <a:pt x="396" y="377"/>
                    </a:lnTo>
                    <a:lnTo>
                      <a:pt x="406" y="374"/>
                    </a:lnTo>
                    <a:lnTo>
                      <a:pt x="418" y="370"/>
                    </a:lnTo>
                    <a:lnTo>
                      <a:pt x="428" y="366"/>
                    </a:lnTo>
                    <a:lnTo>
                      <a:pt x="440" y="357"/>
                    </a:lnTo>
                    <a:lnTo>
                      <a:pt x="450" y="347"/>
                    </a:lnTo>
                    <a:lnTo>
                      <a:pt x="460" y="334"/>
                    </a:lnTo>
                    <a:lnTo>
                      <a:pt x="466" y="312"/>
                    </a:lnTo>
                    <a:lnTo>
                      <a:pt x="469" y="289"/>
                    </a:lnTo>
                    <a:lnTo>
                      <a:pt x="469" y="267"/>
                    </a:lnTo>
                    <a:lnTo>
                      <a:pt x="469" y="243"/>
                    </a:lnTo>
                    <a:lnTo>
                      <a:pt x="474" y="237"/>
                    </a:lnTo>
                    <a:lnTo>
                      <a:pt x="482" y="231"/>
                    </a:lnTo>
                    <a:lnTo>
                      <a:pt x="489" y="227"/>
                    </a:lnTo>
                    <a:lnTo>
                      <a:pt x="500" y="223"/>
                    </a:lnTo>
                    <a:lnTo>
                      <a:pt x="512" y="211"/>
                    </a:lnTo>
                    <a:lnTo>
                      <a:pt x="518" y="196"/>
                    </a:lnTo>
                    <a:lnTo>
                      <a:pt x="523" y="182"/>
                    </a:lnTo>
                    <a:lnTo>
                      <a:pt x="529" y="166"/>
                    </a:lnTo>
                    <a:lnTo>
                      <a:pt x="536" y="147"/>
                    </a:lnTo>
                    <a:lnTo>
                      <a:pt x="536" y="140"/>
                    </a:lnTo>
                    <a:lnTo>
                      <a:pt x="539" y="133"/>
                    </a:lnTo>
                    <a:lnTo>
                      <a:pt x="541" y="127"/>
                    </a:lnTo>
                    <a:lnTo>
                      <a:pt x="541" y="118"/>
                    </a:lnTo>
                    <a:lnTo>
                      <a:pt x="552" y="114"/>
                    </a:lnTo>
                    <a:lnTo>
                      <a:pt x="563" y="108"/>
                    </a:lnTo>
                    <a:lnTo>
                      <a:pt x="571" y="103"/>
                    </a:lnTo>
                    <a:lnTo>
                      <a:pt x="581" y="97"/>
                    </a:lnTo>
                    <a:lnTo>
                      <a:pt x="599" y="77"/>
                    </a:lnTo>
                    <a:lnTo>
                      <a:pt x="602" y="74"/>
                    </a:lnTo>
                    <a:lnTo>
                      <a:pt x="604" y="66"/>
                    </a:lnTo>
                    <a:lnTo>
                      <a:pt x="607" y="56"/>
                    </a:lnTo>
                    <a:lnTo>
                      <a:pt x="613" y="46"/>
                    </a:lnTo>
                    <a:lnTo>
                      <a:pt x="612" y="35"/>
                    </a:lnTo>
                    <a:lnTo>
                      <a:pt x="609" y="25"/>
                    </a:lnTo>
                    <a:lnTo>
                      <a:pt x="609" y="13"/>
                    </a:lnTo>
                    <a:lnTo>
                      <a:pt x="613" y="0"/>
                    </a:lnTo>
                    <a:lnTo>
                      <a:pt x="646" y="22"/>
                    </a:lnTo>
                    <a:lnTo>
                      <a:pt x="678" y="46"/>
                    </a:lnTo>
                    <a:lnTo>
                      <a:pt x="707" y="72"/>
                    </a:lnTo>
                    <a:lnTo>
                      <a:pt x="735" y="100"/>
                    </a:lnTo>
                    <a:lnTo>
                      <a:pt x="761" y="127"/>
                    </a:lnTo>
                    <a:lnTo>
                      <a:pt x="787" y="157"/>
                    </a:lnTo>
                    <a:lnTo>
                      <a:pt x="811" y="188"/>
                    </a:lnTo>
                    <a:lnTo>
                      <a:pt x="834" y="218"/>
                    </a:lnTo>
                    <a:lnTo>
                      <a:pt x="859" y="249"/>
                    </a:lnTo>
                    <a:lnTo>
                      <a:pt x="884" y="277"/>
                    </a:lnTo>
                    <a:lnTo>
                      <a:pt x="908" y="306"/>
                    </a:lnTo>
                    <a:lnTo>
                      <a:pt x="933" y="335"/>
                    </a:lnTo>
                    <a:lnTo>
                      <a:pt x="960" y="361"/>
                    </a:lnTo>
                    <a:lnTo>
                      <a:pt x="989" y="386"/>
                    </a:lnTo>
                    <a:lnTo>
                      <a:pt x="1019" y="409"/>
                    </a:lnTo>
                    <a:lnTo>
                      <a:pt x="1051" y="429"/>
                    </a:lnTo>
                    <a:lnTo>
                      <a:pt x="1080" y="448"/>
                    </a:lnTo>
                    <a:lnTo>
                      <a:pt x="1111" y="465"/>
                    </a:lnTo>
                    <a:lnTo>
                      <a:pt x="1142" y="481"/>
                    </a:lnTo>
                    <a:lnTo>
                      <a:pt x="1176" y="497"/>
                    </a:lnTo>
                    <a:lnTo>
                      <a:pt x="1209" y="511"/>
                    </a:lnTo>
                    <a:lnTo>
                      <a:pt x="1244" y="526"/>
                    </a:lnTo>
                    <a:lnTo>
                      <a:pt x="1280" y="539"/>
                    </a:lnTo>
                    <a:lnTo>
                      <a:pt x="1316" y="552"/>
                    </a:lnTo>
                    <a:lnTo>
                      <a:pt x="1354" y="565"/>
                    </a:lnTo>
                    <a:lnTo>
                      <a:pt x="1391" y="576"/>
                    </a:lnTo>
                    <a:lnTo>
                      <a:pt x="1429" y="588"/>
                    </a:lnTo>
                    <a:lnTo>
                      <a:pt x="1468" y="600"/>
                    </a:lnTo>
                    <a:lnTo>
                      <a:pt x="1505" y="613"/>
                    </a:lnTo>
                    <a:lnTo>
                      <a:pt x="1543" y="624"/>
                    </a:lnTo>
                    <a:lnTo>
                      <a:pt x="1582" y="636"/>
                    </a:lnTo>
                    <a:lnTo>
                      <a:pt x="1620" y="649"/>
                    </a:lnTo>
                    <a:lnTo>
                      <a:pt x="1644" y="655"/>
                    </a:lnTo>
                    <a:lnTo>
                      <a:pt x="1667" y="662"/>
                    </a:lnTo>
                    <a:lnTo>
                      <a:pt x="1689" y="669"/>
                    </a:lnTo>
                    <a:lnTo>
                      <a:pt x="1709" y="676"/>
                    </a:lnTo>
                    <a:lnTo>
                      <a:pt x="1731" y="683"/>
                    </a:lnTo>
                    <a:lnTo>
                      <a:pt x="1751" y="689"/>
                    </a:lnTo>
                    <a:lnTo>
                      <a:pt x="1771" y="695"/>
                    </a:lnTo>
                    <a:lnTo>
                      <a:pt x="1793" y="699"/>
                    </a:lnTo>
                    <a:lnTo>
                      <a:pt x="1834" y="711"/>
                    </a:lnTo>
                    <a:lnTo>
                      <a:pt x="1874" y="722"/>
                    </a:lnTo>
                    <a:lnTo>
                      <a:pt x="1915" y="735"/>
                    </a:lnTo>
                    <a:lnTo>
                      <a:pt x="1955" y="747"/>
                    </a:lnTo>
                    <a:lnTo>
                      <a:pt x="1996" y="760"/>
                    </a:lnTo>
                    <a:lnTo>
                      <a:pt x="2036" y="773"/>
                    </a:lnTo>
                    <a:lnTo>
                      <a:pt x="2075" y="786"/>
                    </a:lnTo>
                    <a:lnTo>
                      <a:pt x="2116" y="799"/>
                    </a:lnTo>
                    <a:lnTo>
                      <a:pt x="2156" y="812"/>
                    </a:lnTo>
                    <a:lnTo>
                      <a:pt x="2195" y="825"/>
                    </a:lnTo>
                    <a:lnTo>
                      <a:pt x="2234" y="838"/>
                    </a:lnTo>
                    <a:lnTo>
                      <a:pt x="2273" y="852"/>
                    </a:lnTo>
                    <a:lnTo>
                      <a:pt x="2312" y="865"/>
                    </a:lnTo>
                    <a:lnTo>
                      <a:pt x="2351" y="880"/>
                    </a:lnTo>
                    <a:lnTo>
                      <a:pt x="2389" y="893"/>
                    </a:lnTo>
                    <a:lnTo>
                      <a:pt x="2426" y="907"/>
                    </a:lnTo>
                    <a:lnTo>
                      <a:pt x="2429" y="1091"/>
                    </a:lnTo>
                    <a:lnTo>
                      <a:pt x="2431" y="1274"/>
                    </a:lnTo>
                    <a:lnTo>
                      <a:pt x="2431" y="1458"/>
                    </a:lnTo>
                    <a:lnTo>
                      <a:pt x="2429" y="1641"/>
                    </a:lnTo>
                    <a:lnTo>
                      <a:pt x="2421" y="1654"/>
                    </a:lnTo>
                    <a:lnTo>
                      <a:pt x="2412" y="1670"/>
                    </a:lnTo>
                    <a:lnTo>
                      <a:pt x="2402" y="1688"/>
                    </a:lnTo>
                    <a:lnTo>
                      <a:pt x="2390" y="1705"/>
                    </a:lnTo>
                    <a:lnTo>
                      <a:pt x="2374" y="1708"/>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7164360" y="3789360"/>
                <a:ext cx="12600" cy="9360"/>
              </a:xfrm>
              <a:custGeom>
                <a:avLst/>
                <a:gdLst/>
                <a:ahLst/>
                <a:rect l="l" t="t" r="r" b="b"/>
                <a:pathLst>
                  <a:path w="26" h="18">
                    <a:moveTo>
                      <a:pt x="10" y="18"/>
                    </a:moveTo>
                    <a:lnTo>
                      <a:pt x="0" y="9"/>
                    </a:lnTo>
                    <a:lnTo>
                      <a:pt x="2" y="2"/>
                    </a:lnTo>
                    <a:lnTo>
                      <a:pt x="11" y="0"/>
                    </a:lnTo>
                    <a:lnTo>
                      <a:pt x="20" y="0"/>
                    </a:lnTo>
                    <a:lnTo>
                      <a:pt x="26" y="5"/>
                    </a:lnTo>
                    <a:lnTo>
                      <a:pt x="10"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1" name=""/>
              <p:cNvSpPr/>
              <p:nvPr/>
            </p:nvSpPr>
            <p:spPr>
              <a:xfrm>
                <a:off x="7981920" y="3768840"/>
                <a:ext cx="9360" cy="10800"/>
              </a:xfrm>
              <a:custGeom>
                <a:avLst/>
                <a:gdLst/>
                <a:ahLst/>
                <a:rect l="l" t="t" r="r" b="b"/>
                <a:pathLst>
                  <a:path w="19" h="23">
                    <a:moveTo>
                      <a:pt x="6" y="23"/>
                    </a:moveTo>
                    <a:lnTo>
                      <a:pt x="0" y="20"/>
                    </a:lnTo>
                    <a:lnTo>
                      <a:pt x="0" y="13"/>
                    </a:lnTo>
                    <a:lnTo>
                      <a:pt x="2" y="4"/>
                    </a:lnTo>
                    <a:lnTo>
                      <a:pt x="6" y="0"/>
                    </a:lnTo>
                    <a:lnTo>
                      <a:pt x="12" y="6"/>
                    </a:lnTo>
                    <a:lnTo>
                      <a:pt x="19" y="13"/>
                    </a:lnTo>
                    <a:lnTo>
                      <a:pt x="19" y="19"/>
                    </a:lnTo>
                    <a:lnTo>
                      <a:pt x="6"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92" name=""/>
              <p:cNvSpPr/>
              <p:nvPr/>
            </p:nvSpPr>
            <p:spPr>
              <a:xfrm>
                <a:off x="8077320" y="3767040"/>
                <a:ext cx="9360" cy="9720"/>
              </a:xfrm>
              <a:custGeom>
                <a:avLst/>
                <a:gdLst/>
                <a:ahLst/>
                <a:rect l="l" t="t" r="r" b="b"/>
                <a:pathLst>
                  <a:path w="18" h="19">
                    <a:moveTo>
                      <a:pt x="4" y="19"/>
                    </a:moveTo>
                    <a:lnTo>
                      <a:pt x="0" y="16"/>
                    </a:lnTo>
                    <a:lnTo>
                      <a:pt x="0" y="7"/>
                    </a:lnTo>
                    <a:lnTo>
                      <a:pt x="3" y="1"/>
                    </a:lnTo>
                    <a:lnTo>
                      <a:pt x="10" y="0"/>
                    </a:lnTo>
                    <a:lnTo>
                      <a:pt x="16" y="4"/>
                    </a:lnTo>
                    <a:lnTo>
                      <a:pt x="18" y="13"/>
                    </a:lnTo>
                    <a:lnTo>
                      <a:pt x="16" y="1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93" name=""/>
              <p:cNvSpPr/>
              <p:nvPr/>
            </p:nvSpPr>
            <p:spPr>
              <a:xfrm>
                <a:off x="8143920" y="3751200"/>
                <a:ext cx="9360" cy="12600"/>
              </a:xfrm>
              <a:custGeom>
                <a:avLst/>
                <a:gdLst/>
                <a:ahLst/>
                <a:rect l="l" t="t" r="r" b="b"/>
                <a:pathLst>
                  <a:path w="19" h="26">
                    <a:moveTo>
                      <a:pt x="9" y="26"/>
                    </a:moveTo>
                    <a:lnTo>
                      <a:pt x="3" y="21"/>
                    </a:lnTo>
                    <a:lnTo>
                      <a:pt x="0" y="14"/>
                    </a:lnTo>
                    <a:lnTo>
                      <a:pt x="0" y="5"/>
                    </a:lnTo>
                    <a:lnTo>
                      <a:pt x="6" y="0"/>
                    </a:lnTo>
                    <a:lnTo>
                      <a:pt x="14" y="3"/>
                    </a:lnTo>
                    <a:lnTo>
                      <a:pt x="19" y="11"/>
                    </a:lnTo>
                    <a:lnTo>
                      <a:pt x="17" y="20"/>
                    </a:lnTo>
                    <a:lnTo>
                      <a:pt x="9"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94" name=""/>
              <p:cNvSpPr/>
              <p:nvPr/>
            </p:nvSpPr>
            <p:spPr>
              <a:xfrm>
                <a:off x="8245440" y="3741840"/>
                <a:ext cx="7920" cy="10800"/>
              </a:xfrm>
              <a:custGeom>
                <a:avLst/>
                <a:gdLst/>
                <a:ahLst/>
                <a:rect l="l" t="t" r="r" b="b"/>
                <a:pathLst>
                  <a:path w="17" h="22">
                    <a:moveTo>
                      <a:pt x="0" y="22"/>
                    </a:moveTo>
                    <a:lnTo>
                      <a:pt x="3" y="0"/>
                    </a:lnTo>
                    <a:lnTo>
                      <a:pt x="17" y="15"/>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95" name=""/>
              <p:cNvSpPr/>
              <p:nvPr/>
            </p:nvSpPr>
            <p:spPr>
              <a:xfrm>
                <a:off x="7113600" y="3749760"/>
                <a:ext cx="11160" cy="10800"/>
              </a:xfrm>
              <a:custGeom>
                <a:avLst/>
                <a:gdLst/>
                <a:ahLst/>
                <a:rect l="l" t="t" r="r" b="b"/>
                <a:pathLst>
                  <a:path w="21" h="23">
                    <a:moveTo>
                      <a:pt x="7" y="23"/>
                    </a:moveTo>
                    <a:lnTo>
                      <a:pt x="0" y="4"/>
                    </a:lnTo>
                    <a:lnTo>
                      <a:pt x="8" y="0"/>
                    </a:lnTo>
                    <a:lnTo>
                      <a:pt x="15" y="3"/>
                    </a:lnTo>
                    <a:lnTo>
                      <a:pt x="20" y="11"/>
                    </a:lnTo>
                    <a:lnTo>
                      <a:pt x="21" y="21"/>
                    </a:lnTo>
                    <a:lnTo>
                      <a:pt x="7"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96" name=""/>
              <p:cNvSpPr/>
              <p:nvPr/>
            </p:nvSpPr>
            <p:spPr>
              <a:xfrm>
                <a:off x="8362800" y="3689280"/>
                <a:ext cx="39960" cy="50760"/>
              </a:xfrm>
              <a:custGeom>
                <a:avLst/>
                <a:gdLst/>
                <a:ahLst/>
                <a:rect l="l" t="t" r="r" b="b"/>
                <a:pathLst>
                  <a:path w="75" h="95">
                    <a:moveTo>
                      <a:pt x="7" y="95"/>
                    </a:moveTo>
                    <a:lnTo>
                      <a:pt x="0" y="77"/>
                    </a:lnTo>
                    <a:lnTo>
                      <a:pt x="9" y="68"/>
                    </a:lnTo>
                    <a:lnTo>
                      <a:pt x="17" y="58"/>
                    </a:lnTo>
                    <a:lnTo>
                      <a:pt x="25" y="49"/>
                    </a:lnTo>
                    <a:lnTo>
                      <a:pt x="32" y="39"/>
                    </a:lnTo>
                    <a:lnTo>
                      <a:pt x="39" y="29"/>
                    </a:lnTo>
                    <a:lnTo>
                      <a:pt x="46" y="19"/>
                    </a:lnTo>
                    <a:lnTo>
                      <a:pt x="53" y="10"/>
                    </a:lnTo>
                    <a:lnTo>
                      <a:pt x="62" y="0"/>
                    </a:lnTo>
                    <a:lnTo>
                      <a:pt x="72" y="2"/>
                    </a:lnTo>
                    <a:lnTo>
                      <a:pt x="75" y="9"/>
                    </a:lnTo>
                    <a:lnTo>
                      <a:pt x="69" y="20"/>
                    </a:lnTo>
                    <a:lnTo>
                      <a:pt x="64" y="32"/>
                    </a:lnTo>
                    <a:lnTo>
                      <a:pt x="56" y="43"/>
                    </a:lnTo>
                    <a:lnTo>
                      <a:pt x="48" y="55"/>
                    </a:lnTo>
                    <a:lnTo>
                      <a:pt x="38" y="65"/>
                    </a:lnTo>
                    <a:lnTo>
                      <a:pt x="27" y="77"/>
                    </a:lnTo>
                    <a:lnTo>
                      <a:pt x="17" y="85"/>
                    </a:lnTo>
                    <a:lnTo>
                      <a:pt x="7"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7" name=""/>
              <p:cNvSpPr/>
              <p:nvPr/>
            </p:nvSpPr>
            <p:spPr>
              <a:xfrm>
                <a:off x="7232760" y="3730680"/>
                <a:ext cx="14040" cy="12600"/>
              </a:xfrm>
              <a:custGeom>
                <a:avLst/>
                <a:gdLst/>
                <a:ahLst/>
                <a:rect l="l" t="t" r="r" b="b"/>
                <a:pathLst>
                  <a:path w="25" h="24">
                    <a:moveTo>
                      <a:pt x="15" y="24"/>
                    </a:moveTo>
                    <a:lnTo>
                      <a:pt x="0" y="5"/>
                    </a:lnTo>
                    <a:lnTo>
                      <a:pt x="7" y="0"/>
                    </a:lnTo>
                    <a:lnTo>
                      <a:pt x="15" y="1"/>
                    </a:lnTo>
                    <a:lnTo>
                      <a:pt x="20" y="8"/>
                    </a:lnTo>
                    <a:lnTo>
                      <a:pt x="25" y="18"/>
                    </a:lnTo>
                    <a:lnTo>
                      <a:pt x="1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98" name=""/>
              <p:cNvSpPr/>
              <p:nvPr/>
            </p:nvSpPr>
            <p:spPr>
              <a:xfrm>
                <a:off x="7426440" y="3724200"/>
                <a:ext cx="10800" cy="14400"/>
              </a:xfrm>
              <a:custGeom>
                <a:avLst/>
                <a:gdLst/>
                <a:ahLst/>
                <a:rect l="l" t="t" r="r" b="b"/>
                <a:pathLst>
                  <a:path w="19" h="26">
                    <a:moveTo>
                      <a:pt x="6" y="26"/>
                    </a:moveTo>
                    <a:lnTo>
                      <a:pt x="0" y="23"/>
                    </a:lnTo>
                    <a:lnTo>
                      <a:pt x="0" y="14"/>
                    </a:lnTo>
                    <a:lnTo>
                      <a:pt x="4" y="5"/>
                    </a:lnTo>
                    <a:lnTo>
                      <a:pt x="13" y="0"/>
                    </a:lnTo>
                    <a:lnTo>
                      <a:pt x="17" y="5"/>
                    </a:lnTo>
                    <a:lnTo>
                      <a:pt x="19" y="14"/>
                    </a:lnTo>
                    <a:lnTo>
                      <a:pt x="16" y="23"/>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99" name=""/>
              <p:cNvSpPr/>
              <p:nvPr/>
            </p:nvSpPr>
            <p:spPr>
              <a:xfrm>
                <a:off x="8037360" y="3717720"/>
                <a:ext cx="12960" cy="12960"/>
              </a:xfrm>
              <a:custGeom>
                <a:avLst/>
                <a:gdLst/>
                <a:ahLst/>
                <a:rect l="l" t="t" r="r" b="b"/>
                <a:pathLst>
                  <a:path w="22" h="22">
                    <a:moveTo>
                      <a:pt x="13" y="22"/>
                    </a:moveTo>
                    <a:lnTo>
                      <a:pt x="0" y="6"/>
                    </a:lnTo>
                    <a:lnTo>
                      <a:pt x="3" y="0"/>
                    </a:lnTo>
                    <a:lnTo>
                      <a:pt x="12" y="0"/>
                    </a:lnTo>
                    <a:lnTo>
                      <a:pt x="19" y="4"/>
                    </a:lnTo>
                    <a:lnTo>
                      <a:pt x="22" y="10"/>
                    </a:lnTo>
                    <a:lnTo>
                      <a:pt x="13"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00" name=""/>
              <p:cNvSpPr/>
              <p:nvPr/>
            </p:nvSpPr>
            <p:spPr>
              <a:xfrm>
                <a:off x="7358040" y="3722760"/>
                <a:ext cx="7920" cy="12600"/>
              </a:xfrm>
              <a:custGeom>
                <a:avLst/>
                <a:gdLst/>
                <a:ahLst/>
                <a:rect l="l" t="t" r="r" b="b"/>
                <a:pathLst>
                  <a:path w="16" h="26">
                    <a:moveTo>
                      <a:pt x="6" y="26"/>
                    </a:moveTo>
                    <a:lnTo>
                      <a:pt x="3" y="22"/>
                    </a:lnTo>
                    <a:lnTo>
                      <a:pt x="0" y="13"/>
                    </a:lnTo>
                    <a:lnTo>
                      <a:pt x="1" y="5"/>
                    </a:lnTo>
                    <a:lnTo>
                      <a:pt x="10" y="0"/>
                    </a:lnTo>
                    <a:lnTo>
                      <a:pt x="13" y="5"/>
                    </a:lnTo>
                    <a:lnTo>
                      <a:pt x="16" y="13"/>
                    </a:lnTo>
                    <a:lnTo>
                      <a:pt x="14" y="23"/>
                    </a:lnTo>
                    <a:lnTo>
                      <a:pt x="6"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01" name=""/>
              <p:cNvSpPr/>
              <p:nvPr/>
            </p:nvSpPr>
            <p:spPr>
              <a:xfrm>
                <a:off x="7043760" y="3725640"/>
                <a:ext cx="9360" cy="1116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2" name=""/>
              <p:cNvSpPr/>
              <p:nvPr/>
            </p:nvSpPr>
            <p:spPr>
              <a:xfrm>
                <a:off x="8164440" y="3706920"/>
                <a:ext cx="9720" cy="10800"/>
              </a:xfrm>
              <a:custGeom>
                <a:avLst/>
                <a:gdLst/>
                <a:ahLst/>
                <a:rect l="l" t="t" r="r" b="b"/>
                <a:pathLst>
                  <a:path w="17" h="22">
                    <a:moveTo>
                      <a:pt x="9" y="22"/>
                    </a:moveTo>
                    <a:lnTo>
                      <a:pt x="0" y="0"/>
                    </a:lnTo>
                    <a:lnTo>
                      <a:pt x="17" y="3"/>
                    </a:lnTo>
                    <a:lnTo>
                      <a:pt x="9"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03" name=""/>
              <p:cNvSpPr/>
              <p:nvPr/>
            </p:nvSpPr>
            <p:spPr>
              <a:xfrm>
                <a:off x="7180200" y="3705120"/>
                <a:ext cx="7920" cy="11160"/>
              </a:xfrm>
              <a:custGeom>
                <a:avLst/>
                <a:gdLst/>
                <a:ahLst/>
                <a:rect l="l" t="t" r="r" b="b"/>
                <a:pathLst>
                  <a:path w="16" h="22">
                    <a:moveTo>
                      <a:pt x="4" y="22"/>
                    </a:moveTo>
                    <a:lnTo>
                      <a:pt x="0" y="0"/>
                    </a:lnTo>
                    <a:lnTo>
                      <a:pt x="7" y="0"/>
                    </a:lnTo>
                    <a:lnTo>
                      <a:pt x="13" y="4"/>
                    </a:lnTo>
                    <a:lnTo>
                      <a:pt x="16" y="12"/>
                    </a:lnTo>
                    <a:lnTo>
                      <a:pt x="13" y="22"/>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4" name=""/>
              <p:cNvSpPr/>
              <p:nvPr/>
            </p:nvSpPr>
            <p:spPr>
              <a:xfrm>
                <a:off x="7986600" y="3690720"/>
                <a:ext cx="11160" cy="11160"/>
              </a:xfrm>
              <a:custGeom>
                <a:avLst/>
                <a:gdLst/>
                <a:ahLst/>
                <a:rect l="l" t="t" r="r" b="b"/>
                <a:pathLst>
                  <a:path w="21" h="21">
                    <a:moveTo>
                      <a:pt x="5" y="21"/>
                    </a:moveTo>
                    <a:lnTo>
                      <a:pt x="0" y="3"/>
                    </a:lnTo>
                    <a:lnTo>
                      <a:pt x="5" y="0"/>
                    </a:lnTo>
                    <a:lnTo>
                      <a:pt x="13" y="2"/>
                    </a:lnTo>
                    <a:lnTo>
                      <a:pt x="18" y="8"/>
                    </a:lnTo>
                    <a:lnTo>
                      <a:pt x="21" y="15"/>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5" name=""/>
              <p:cNvSpPr/>
              <p:nvPr/>
            </p:nvSpPr>
            <p:spPr>
              <a:xfrm>
                <a:off x="8112240" y="3672000"/>
                <a:ext cx="10800" cy="10800"/>
              </a:xfrm>
              <a:custGeom>
                <a:avLst/>
                <a:gdLst/>
                <a:ahLst/>
                <a:rect l="l" t="t" r="r" b="b"/>
                <a:pathLst>
                  <a:path w="21" h="20">
                    <a:moveTo>
                      <a:pt x="11" y="20"/>
                    </a:moveTo>
                    <a:lnTo>
                      <a:pt x="0" y="3"/>
                    </a:lnTo>
                    <a:lnTo>
                      <a:pt x="7" y="0"/>
                    </a:lnTo>
                    <a:lnTo>
                      <a:pt x="14" y="3"/>
                    </a:lnTo>
                    <a:lnTo>
                      <a:pt x="18" y="10"/>
                    </a:lnTo>
                    <a:lnTo>
                      <a:pt x="21" y="19"/>
                    </a:lnTo>
                    <a:lnTo>
                      <a:pt x="11"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06" name=""/>
              <p:cNvSpPr/>
              <p:nvPr/>
            </p:nvSpPr>
            <p:spPr>
              <a:xfrm>
                <a:off x="7292880" y="3673440"/>
                <a:ext cx="11160" cy="11160"/>
              </a:xfrm>
              <a:custGeom>
                <a:avLst/>
                <a:gdLst/>
                <a:ahLst/>
                <a:rect l="l" t="t" r="r" b="b"/>
                <a:pathLst>
                  <a:path w="19" h="21">
                    <a:moveTo>
                      <a:pt x="5" y="21"/>
                    </a:moveTo>
                    <a:lnTo>
                      <a:pt x="0" y="1"/>
                    </a:lnTo>
                    <a:lnTo>
                      <a:pt x="9" y="0"/>
                    </a:lnTo>
                    <a:lnTo>
                      <a:pt x="15" y="3"/>
                    </a:lnTo>
                    <a:lnTo>
                      <a:pt x="19" y="10"/>
                    </a:lnTo>
                    <a:lnTo>
                      <a:pt x="18" y="19"/>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7" name=""/>
              <p:cNvSpPr/>
              <p:nvPr/>
            </p:nvSpPr>
            <p:spPr>
              <a:xfrm>
                <a:off x="7018200" y="3673440"/>
                <a:ext cx="12960" cy="14400"/>
              </a:xfrm>
              <a:custGeom>
                <a:avLst/>
                <a:gdLst/>
                <a:ahLst/>
                <a:rect l="l" t="t" r="r" b="b"/>
                <a:pathLst>
                  <a:path w="24" h="25">
                    <a:moveTo>
                      <a:pt x="7" y="25"/>
                    </a:moveTo>
                    <a:lnTo>
                      <a:pt x="0" y="3"/>
                    </a:lnTo>
                    <a:lnTo>
                      <a:pt x="7" y="0"/>
                    </a:lnTo>
                    <a:lnTo>
                      <a:pt x="13" y="2"/>
                    </a:lnTo>
                    <a:lnTo>
                      <a:pt x="19" y="7"/>
                    </a:lnTo>
                    <a:lnTo>
                      <a:pt x="24" y="13"/>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8" name=""/>
              <p:cNvSpPr/>
              <p:nvPr/>
            </p:nvSpPr>
            <p:spPr>
              <a:xfrm>
                <a:off x="8058240" y="3649680"/>
                <a:ext cx="7920" cy="11160"/>
              </a:xfrm>
              <a:custGeom>
                <a:avLst/>
                <a:gdLst/>
                <a:ahLst/>
                <a:rect l="l" t="t" r="r" b="b"/>
                <a:pathLst>
                  <a:path w="15" h="19">
                    <a:moveTo>
                      <a:pt x="2" y="19"/>
                    </a:moveTo>
                    <a:lnTo>
                      <a:pt x="0" y="0"/>
                    </a:lnTo>
                    <a:lnTo>
                      <a:pt x="5" y="0"/>
                    </a:lnTo>
                    <a:lnTo>
                      <a:pt x="11" y="3"/>
                    </a:lnTo>
                    <a:lnTo>
                      <a:pt x="15" y="9"/>
                    </a:lnTo>
                    <a:lnTo>
                      <a:pt x="13" y="19"/>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09" name=""/>
              <p:cNvSpPr/>
              <p:nvPr/>
            </p:nvSpPr>
            <p:spPr>
              <a:xfrm>
                <a:off x="7118280" y="3652920"/>
                <a:ext cx="9720" cy="14040"/>
              </a:xfrm>
              <a:custGeom>
                <a:avLst/>
                <a:gdLst/>
                <a:ahLst/>
                <a:rect l="l" t="t" r="r" b="b"/>
                <a:pathLst>
                  <a:path w="18" h="26">
                    <a:moveTo>
                      <a:pt x="10" y="26"/>
                    </a:moveTo>
                    <a:lnTo>
                      <a:pt x="3" y="23"/>
                    </a:lnTo>
                    <a:lnTo>
                      <a:pt x="0" y="16"/>
                    </a:lnTo>
                    <a:lnTo>
                      <a:pt x="0" y="7"/>
                    </a:lnTo>
                    <a:lnTo>
                      <a:pt x="6" y="0"/>
                    </a:lnTo>
                    <a:lnTo>
                      <a:pt x="12" y="5"/>
                    </a:lnTo>
                    <a:lnTo>
                      <a:pt x="18" y="13"/>
                    </a:lnTo>
                    <a:lnTo>
                      <a:pt x="18" y="22"/>
                    </a:lnTo>
                    <a:lnTo>
                      <a:pt x="10" y="2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10" name=""/>
              <p:cNvSpPr/>
              <p:nvPr/>
            </p:nvSpPr>
            <p:spPr>
              <a:xfrm>
                <a:off x="7462800" y="3635280"/>
                <a:ext cx="9360" cy="14400"/>
              </a:xfrm>
              <a:custGeom>
                <a:avLst/>
                <a:gdLst/>
                <a:ahLst/>
                <a:rect l="l" t="t" r="r" b="b"/>
                <a:pathLst>
                  <a:path w="17" h="25">
                    <a:moveTo>
                      <a:pt x="7" y="25"/>
                    </a:moveTo>
                    <a:lnTo>
                      <a:pt x="0" y="9"/>
                    </a:lnTo>
                    <a:lnTo>
                      <a:pt x="16" y="0"/>
                    </a:lnTo>
                    <a:lnTo>
                      <a:pt x="17" y="6"/>
                    </a:lnTo>
                    <a:lnTo>
                      <a:pt x="17" y="13"/>
                    </a:lnTo>
                    <a:lnTo>
                      <a:pt x="14" y="20"/>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11" name=""/>
              <p:cNvSpPr/>
              <p:nvPr/>
            </p:nvSpPr>
            <p:spPr>
              <a:xfrm>
                <a:off x="7057800" y="3638520"/>
                <a:ext cx="9720" cy="11160"/>
              </a:xfrm>
              <a:custGeom>
                <a:avLst/>
                <a:gdLst/>
                <a:ahLst/>
                <a:rect l="l" t="t" r="r" b="b"/>
                <a:pathLst>
                  <a:path w="18" h="23">
                    <a:moveTo>
                      <a:pt x="3" y="23"/>
                    </a:moveTo>
                    <a:lnTo>
                      <a:pt x="0" y="0"/>
                    </a:lnTo>
                    <a:lnTo>
                      <a:pt x="8" y="0"/>
                    </a:lnTo>
                    <a:lnTo>
                      <a:pt x="15" y="3"/>
                    </a:lnTo>
                    <a:lnTo>
                      <a:pt x="18" y="9"/>
                    </a:lnTo>
                    <a:lnTo>
                      <a:pt x="18" y="16"/>
                    </a:lnTo>
                    <a:lnTo>
                      <a:pt x="3"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2" name=""/>
              <p:cNvSpPr/>
              <p:nvPr/>
            </p:nvSpPr>
            <p:spPr>
              <a:xfrm>
                <a:off x="7242120" y="3622680"/>
                <a:ext cx="12600" cy="12600"/>
              </a:xfrm>
              <a:custGeom>
                <a:avLst/>
                <a:gdLst/>
                <a:ahLst/>
                <a:rect l="l" t="t" r="r" b="b"/>
                <a:pathLst>
                  <a:path w="26" h="25">
                    <a:moveTo>
                      <a:pt x="10" y="25"/>
                    </a:moveTo>
                    <a:lnTo>
                      <a:pt x="0" y="8"/>
                    </a:lnTo>
                    <a:lnTo>
                      <a:pt x="9" y="0"/>
                    </a:lnTo>
                    <a:lnTo>
                      <a:pt x="26" y="15"/>
                    </a:lnTo>
                    <a:lnTo>
                      <a:pt x="1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3" name=""/>
              <p:cNvSpPr/>
              <p:nvPr/>
            </p:nvSpPr>
            <p:spPr>
              <a:xfrm>
                <a:off x="8075520" y="3603600"/>
                <a:ext cx="7920" cy="11160"/>
              </a:xfrm>
              <a:custGeom>
                <a:avLst/>
                <a:gdLst/>
                <a:ahLst/>
                <a:rect l="l" t="t" r="r" b="b"/>
                <a:pathLst>
                  <a:path w="16" h="22">
                    <a:moveTo>
                      <a:pt x="3" y="22"/>
                    </a:moveTo>
                    <a:lnTo>
                      <a:pt x="0" y="1"/>
                    </a:lnTo>
                    <a:lnTo>
                      <a:pt x="5" y="0"/>
                    </a:lnTo>
                    <a:lnTo>
                      <a:pt x="10" y="3"/>
                    </a:lnTo>
                    <a:lnTo>
                      <a:pt x="15" y="7"/>
                    </a:lnTo>
                    <a:lnTo>
                      <a:pt x="16" y="14"/>
                    </a:lnTo>
                    <a:lnTo>
                      <a:pt x="3"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4" name=""/>
              <p:cNvSpPr/>
              <p:nvPr/>
            </p:nvSpPr>
            <p:spPr>
              <a:xfrm>
                <a:off x="7327800" y="3608280"/>
                <a:ext cx="11160" cy="11160"/>
              </a:xfrm>
              <a:custGeom>
                <a:avLst/>
                <a:gdLst/>
                <a:ahLst/>
                <a:rect l="l" t="t" r="r" b="b"/>
                <a:pathLst>
                  <a:path w="23" h="23">
                    <a:moveTo>
                      <a:pt x="4" y="23"/>
                    </a:moveTo>
                    <a:lnTo>
                      <a:pt x="0" y="2"/>
                    </a:lnTo>
                    <a:lnTo>
                      <a:pt x="6" y="0"/>
                    </a:lnTo>
                    <a:lnTo>
                      <a:pt x="13" y="1"/>
                    </a:lnTo>
                    <a:lnTo>
                      <a:pt x="19" y="7"/>
                    </a:lnTo>
                    <a:lnTo>
                      <a:pt x="23" y="15"/>
                    </a:lnTo>
                    <a:lnTo>
                      <a:pt x="4"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5" name=""/>
              <p:cNvSpPr/>
              <p:nvPr/>
            </p:nvSpPr>
            <p:spPr>
              <a:xfrm>
                <a:off x="7397640" y="3608280"/>
                <a:ext cx="9720" cy="11160"/>
              </a:xfrm>
              <a:custGeom>
                <a:avLst/>
                <a:gdLst/>
                <a:ahLst/>
                <a:rect l="l" t="t" r="r" b="b"/>
                <a:pathLst>
                  <a:path w="18" h="21">
                    <a:moveTo>
                      <a:pt x="0" y="21"/>
                    </a:moveTo>
                    <a:lnTo>
                      <a:pt x="0" y="1"/>
                    </a:lnTo>
                    <a:lnTo>
                      <a:pt x="9" y="0"/>
                    </a:lnTo>
                    <a:lnTo>
                      <a:pt x="15" y="2"/>
                    </a:lnTo>
                    <a:lnTo>
                      <a:pt x="18" y="10"/>
                    </a:lnTo>
                    <a:lnTo>
                      <a:pt x="15"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6" name=""/>
              <p:cNvSpPr/>
              <p:nvPr/>
            </p:nvSpPr>
            <p:spPr>
              <a:xfrm>
                <a:off x="7504200" y="3579840"/>
                <a:ext cx="12600" cy="11160"/>
              </a:xfrm>
              <a:custGeom>
                <a:avLst/>
                <a:gdLst/>
                <a:ahLst/>
                <a:rect l="l" t="t" r="r" b="b"/>
                <a:pathLst>
                  <a:path w="23" h="22">
                    <a:moveTo>
                      <a:pt x="15" y="22"/>
                    </a:moveTo>
                    <a:lnTo>
                      <a:pt x="6" y="20"/>
                    </a:lnTo>
                    <a:lnTo>
                      <a:pt x="1" y="14"/>
                    </a:lnTo>
                    <a:lnTo>
                      <a:pt x="0" y="7"/>
                    </a:lnTo>
                    <a:lnTo>
                      <a:pt x="1" y="0"/>
                    </a:lnTo>
                    <a:lnTo>
                      <a:pt x="23" y="3"/>
                    </a:lnTo>
                    <a:lnTo>
                      <a:pt x="15"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7" name=""/>
              <p:cNvSpPr/>
              <p:nvPr/>
            </p:nvSpPr>
            <p:spPr>
              <a:xfrm>
                <a:off x="7128000" y="3579840"/>
                <a:ext cx="10800" cy="11160"/>
              </a:xfrm>
              <a:custGeom>
                <a:avLst/>
                <a:gdLst/>
                <a:ahLst/>
                <a:rect l="l" t="t" r="r" b="b"/>
                <a:pathLst>
                  <a:path w="19" h="21">
                    <a:moveTo>
                      <a:pt x="9" y="21"/>
                    </a:moveTo>
                    <a:lnTo>
                      <a:pt x="0" y="2"/>
                    </a:lnTo>
                    <a:lnTo>
                      <a:pt x="6" y="0"/>
                    </a:lnTo>
                    <a:lnTo>
                      <a:pt x="12" y="2"/>
                    </a:lnTo>
                    <a:lnTo>
                      <a:pt x="17" y="6"/>
                    </a:lnTo>
                    <a:lnTo>
                      <a:pt x="19" y="13"/>
                    </a:lnTo>
                    <a:lnTo>
                      <a:pt x="9"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18" name=""/>
              <p:cNvSpPr/>
              <p:nvPr/>
            </p:nvSpPr>
            <p:spPr>
              <a:xfrm>
                <a:off x="7184880" y="3566880"/>
                <a:ext cx="12960" cy="14400"/>
              </a:xfrm>
              <a:custGeom>
                <a:avLst/>
                <a:gdLst/>
                <a:ahLst/>
                <a:rect l="l" t="t" r="r" b="b"/>
                <a:pathLst>
                  <a:path w="24" h="26">
                    <a:moveTo>
                      <a:pt x="6" y="26"/>
                    </a:moveTo>
                    <a:lnTo>
                      <a:pt x="0" y="22"/>
                    </a:lnTo>
                    <a:lnTo>
                      <a:pt x="0" y="13"/>
                    </a:lnTo>
                    <a:lnTo>
                      <a:pt x="5" y="4"/>
                    </a:lnTo>
                    <a:lnTo>
                      <a:pt x="14" y="0"/>
                    </a:lnTo>
                    <a:lnTo>
                      <a:pt x="24" y="24"/>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19" name=""/>
              <p:cNvSpPr/>
              <p:nvPr/>
            </p:nvSpPr>
            <p:spPr>
              <a:xfrm>
                <a:off x="7281720" y="3556080"/>
                <a:ext cx="11160" cy="9360"/>
              </a:xfrm>
              <a:custGeom>
                <a:avLst/>
                <a:gdLst/>
                <a:ahLst/>
                <a:rect l="l" t="t" r="r" b="b"/>
                <a:pathLst>
                  <a:path w="20" h="18">
                    <a:moveTo>
                      <a:pt x="5" y="18"/>
                    </a:moveTo>
                    <a:lnTo>
                      <a:pt x="0" y="0"/>
                    </a:lnTo>
                    <a:lnTo>
                      <a:pt x="5" y="0"/>
                    </a:lnTo>
                    <a:lnTo>
                      <a:pt x="13" y="3"/>
                    </a:lnTo>
                    <a:lnTo>
                      <a:pt x="17" y="7"/>
                    </a:lnTo>
                    <a:lnTo>
                      <a:pt x="20" y="16"/>
                    </a:lnTo>
                    <a:lnTo>
                      <a:pt x="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20" name=""/>
              <p:cNvSpPr/>
              <p:nvPr/>
            </p:nvSpPr>
            <p:spPr>
              <a:xfrm>
                <a:off x="7014960" y="3544920"/>
                <a:ext cx="7920" cy="11160"/>
              </a:xfrm>
              <a:custGeom>
                <a:avLst/>
                <a:gdLst/>
                <a:ahLst/>
                <a:rect l="l" t="t" r="r" b="b"/>
                <a:pathLst>
                  <a:path w="15" h="21">
                    <a:moveTo>
                      <a:pt x="5" y="21"/>
                    </a:moveTo>
                    <a:lnTo>
                      <a:pt x="0" y="0"/>
                    </a:lnTo>
                    <a:lnTo>
                      <a:pt x="8" y="2"/>
                    </a:lnTo>
                    <a:lnTo>
                      <a:pt x="15" y="10"/>
                    </a:lnTo>
                    <a:lnTo>
                      <a:pt x="15" y="17"/>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
              <p:cNvSpPr/>
              <p:nvPr/>
            </p:nvSpPr>
            <p:spPr>
              <a:xfrm>
                <a:off x="7356600" y="3537000"/>
                <a:ext cx="10800" cy="12600"/>
              </a:xfrm>
              <a:custGeom>
                <a:avLst/>
                <a:gdLst/>
                <a:ahLst/>
                <a:rect l="l" t="t" r="r" b="b"/>
                <a:pathLst>
                  <a:path w="23" h="23">
                    <a:moveTo>
                      <a:pt x="8" y="23"/>
                    </a:moveTo>
                    <a:lnTo>
                      <a:pt x="0" y="1"/>
                    </a:lnTo>
                    <a:lnTo>
                      <a:pt x="10" y="0"/>
                    </a:lnTo>
                    <a:lnTo>
                      <a:pt x="17" y="1"/>
                    </a:lnTo>
                    <a:lnTo>
                      <a:pt x="23" y="7"/>
                    </a:lnTo>
                    <a:lnTo>
                      <a:pt x="23" y="17"/>
                    </a:lnTo>
                    <a:lnTo>
                      <a:pt x="8"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22" name=""/>
              <p:cNvSpPr/>
              <p:nvPr/>
            </p:nvSpPr>
            <p:spPr>
              <a:xfrm>
                <a:off x="7488360" y="3524040"/>
                <a:ext cx="14040" cy="11160"/>
              </a:xfrm>
              <a:custGeom>
                <a:avLst/>
                <a:gdLst/>
                <a:ahLst/>
                <a:rect l="l" t="t" r="r" b="b"/>
                <a:pathLst>
                  <a:path w="25" h="19">
                    <a:moveTo>
                      <a:pt x="7" y="19"/>
                    </a:moveTo>
                    <a:lnTo>
                      <a:pt x="0" y="3"/>
                    </a:lnTo>
                    <a:lnTo>
                      <a:pt x="7" y="0"/>
                    </a:lnTo>
                    <a:lnTo>
                      <a:pt x="15" y="2"/>
                    </a:lnTo>
                    <a:lnTo>
                      <a:pt x="22" y="8"/>
                    </a:lnTo>
                    <a:lnTo>
                      <a:pt x="25" y="15"/>
                    </a:lnTo>
                    <a:lnTo>
                      <a:pt x="7"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3" name=""/>
              <p:cNvSpPr/>
              <p:nvPr/>
            </p:nvSpPr>
            <p:spPr>
              <a:xfrm>
                <a:off x="7756560" y="3205080"/>
                <a:ext cx="460440" cy="311040"/>
              </a:xfrm>
              <a:custGeom>
                <a:avLst/>
                <a:gdLst/>
                <a:ahLst/>
                <a:rect l="l" t="t" r="r" b="b"/>
                <a:pathLst>
                  <a:path w="869" h="588">
                    <a:moveTo>
                      <a:pt x="663" y="588"/>
                    </a:moveTo>
                    <a:lnTo>
                      <a:pt x="657" y="587"/>
                    </a:lnTo>
                    <a:lnTo>
                      <a:pt x="650" y="585"/>
                    </a:lnTo>
                    <a:lnTo>
                      <a:pt x="642" y="585"/>
                    </a:lnTo>
                    <a:lnTo>
                      <a:pt x="635" y="584"/>
                    </a:lnTo>
                    <a:lnTo>
                      <a:pt x="628" y="584"/>
                    </a:lnTo>
                    <a:lnTo>
                      <a:pt x="621" y="582"/>
                    </a:lnTo>
                    <a:lnTo>
                      <a:pt x="613" y="579"/>
                    </a:lnTo>
                    <a:lnTo>
                      <a:pt x="608" y="575"/>
                    </a:lnTo>
                    <a:lnTo>
                      <a:pt x="618" y="555"/>
                    </a:lnTo>
                    <a:lnTo>
                      <a:pt x="629" y="535"/>
                    </a:lnTo>
                    <a:lnTo>
                      <a:pt x="642" y="514"/>
                    </a:lnTo>
                    <a:lnTo>
                      <a:pt x="654" y="493"/>
                    </a:lnTo>
                    <a:lnTo>
                      <a:pt x="664" y="471"/>
                    </a:lnTo>
                    <a:lnTo>
                      <a:pt x="671" y="448"/>
                    </a:lnTo>
                    <a:lnTo>
                      <a:pt x="677" y="422"/>
                    </a:lnTo>
                    <a:lnTo>
                      <a:pt x="678" y="396"/>
                    </a:lnTo>
                    <a:lnTo>
                      <a:pt x="671" y="383"/>
                    </a:lnTo>
                    <a:lnTo>
                      <a:pt x="663" y="370"/>
                    </a:lnTo>
                    <a:lnTo>
                      <a:pt x="651" y="357"/>
                    </a:lnTo>
                    <a:lnTo>
                      <a:pt x="638" y="345"/>
                    </a:lnTo>
                    <a:lnTo>
                      <a:pt x="628" y="341"/>
                    </a:lnTo>
                    <a:lnTo>
                      <a:pt x="619" y="337"/>
                    </a:lnTo>
                    <a:lnTo>
                      <a:pt x="609" y="334"/>
                    </a:lnTo>
                    <a:lnTo>
                      <a:pt x="597" y="335"/>
                    </a:lnTo>
                    <a:lnTo>
                      <a:pt x="597" y="318"/>
                    </a:lnTo>
                    <a:lnTo>
                      <a:pt x="597" y="301"/>
                    </a:lnTo>
                    <a:lnTo>
                      <a:pt x="597" y="282"/>
                    </a:lnTo>
                    <a:lnTo>
                      <a:pt x="596" y="263"/>
                    </a:lnTo>
                    <a:lnTo>
                      <a:pt x="593" y="256"/>
                    </a:lnTo>
                    <a:lnTo>
                      <a:pt x="590" y="249"/>
                    </a:lnTo>
                    <a:lnTo>
                      <a:pt x="586" y="241"/>
                    </a:lnTo>
                    <a:lnTo>
                      <a:pt x="580" y="234"/>
                    </a:lnTo>
                    <a:lnTo>
                      <a:pt x="560" y="217"/>
                    </a:lnTo>
                    <a:lnTo>
                      <a:pt x="548" y="214"/>
                    </a:lnTo>
                    <a:lnTo>
                      <a:pt x="538" y="211"/>
                    </a:lnTo>
                    <a:lnTo>
                      <a:pt x="527" y="211"/>
                    </a:lnTo>
                    <a:lnTo>
                      <a:pt x="516" y="211"/>
                    </a:lnTo>
                    <a:lnTo>
                      <a:pt x="505" y="212"/>
                    </a:lnTo>
                    <a:lnTo>
                      <a:pt x="495" y="217"/>
                    </a:lnTo>
                    <a:lnTo>
                      <a:pt x="485" y="221"/>
                    </a:lnTo>
                    <a:lnTo>
                      <a:pt x="475" y="227"/>
                    </a:lnTo>
                    <a:lnTo>
                      <a:pt x="472" y="218"/>
                    </a:lnTo>
                    <a:lnTo>
                      <a:pt x="473" y="211"/>
                    </a:lnTo>
                    <a:lnTo>
                      <a:pt x="475" y="202"/>
                    </a:lnTo>
                    <a:lnTo>
                      <a:pt x="475" y="194"/>
                    </a:lnTo>
                    <a:lnTo>
                      <a:pt x="472" y="182"/>
                    </a:lnTo>
                    <a:lnTo>
                      <a:pt x="467" y="172"/>
                    </a:lnTo>
                    <a:lnTo>
                      <a:pt x="460" y="162"/>
                    </a:lnTo>
                    <a:lnTo>
                      <a:pt x="453" y="153"/>
                    </a:lnTo>
                    <a:lnTo>
                      <a:pt x="431" y="136"/>
                    </a:lnTo>
                    <a:lnTo>
                      <a:pt x="424" y="132"/>
                    </a:lnTo>
                    <a:lnTo>
                      <a:pt x="415" y="129"/>
                    </a:lnTo>
                    <a:lnTo>
                      <a:pt x="407" y="127"/>
                    </a:lnTo>
                    <a:lnTo>
                      <a:pt x="398" y="126"/>
                    </a:lnTo>
                    <a:lnTo>
                      <a:pt x="388" y="124"/>
                    </a:lnTo>
                    <a:lnTo>
                      <a:pt x="378" y="124"/>
                    </a:lnTo>
                    <a:lnTo>
                      <a:pt x="369" y="124"/>
                    </a:lnTo>
                    <a:lnTo>
                      <a:pt x="359" y="126"/>
                    </a:lnTo>
                    <a:lnTo>
                      <a:pt x="353" y="127"/>
                    </a:lnTo>
                    <a:lnTo>
                      <a:pt x="347" y="133"/>
                    </a:lnTo>
                    <a:lnTo>
                      <a:pt x="339" y="137"/>
                    </a:lnTo>
                    <a:lnTo>
                      <a:pt x="330" y="140"/>
                    </a:lnTo>
                    <a:lnTo>
                      <a:pt x="330" y="130"/>
                    </a:lnTo>
                    <a:lnTo>
                      <a:pt x="329" y="121"/>
                    </a:lnTo>
                    <a:lnTo>
                      <a:pt x="327" y="113"/>
                    </a:lnTo>
                    <a:lnTo>
                      <a:pt x="323" y="106"/>
                    </a:lnTo>
                    <a:lnTo>
                      <a:pt x="317" y="98"/>
                    </a:lnTo>
                    <a:lnTo>
                      <a:pt x="308" y="95"/>
                    </a:lnTo>
                    <a:lnTo>
                      <a:pt x="301" y="93"/>
                    </a:lnTo>
                    <a:lnTo>
                      <a:pt x="292" y="91"/>
                    </a:lnTo>
                    <a:lnTo>
                      <a:pt x="285" y="90"/>
                    </a:lnTo>
                    <a:lnTo>
                      <a:pt x="278" y="88"/>
                    </a:lnTo>
                    <a:lnTo>
                      <a:pt x="269" y="85"/>
                    </a:lnTo>
                    <a:lnTo>
                      <a:pt x="262" y="82"/>
                    </a:lnTo>
                    <a:lnTo>
                      <a:pt x="253" y="78"/>
                    </a:lnTo>
                    <a:lnTo>
                      <a:pt x="243" y="80"/>
                    </a:lnTo>
                    <a:lnTo>
                      <a:pt x="237" y="81"/>
                    </a:lnTo>
                    <a:lnTo>
                      <a:pt x="232" y="82"/>
                    </a:lnTo>
                    <a:lnTo>
                      <a:pt x="226" y="85"/>
                    </a:lnTo>
                    <a:lnTo>
                      <a:pt x="221" y="88"/>
                    </a:lnTo>
                    <a:lnTo>
                      <a:pt x="217" y="91"/>
                    </a:lnTo>
                    <a:lnTo>
                      <a:pt x="211" y="95"/>
                    </a:lnTo>
                    <a:lnTo>
                      <a:pt x="206" y="100"/>
                    </a:lnTo>
                    <a:lnTo>
                      <a:pt x="200" y="104"/>
                    </a:lnTo>
                    <a:lnTo>
                      <a:pt x="190" y="103"/>
                    </a:lnTo>
                    <a:lnTo>
                      <a:pt x="168" y="121"/>
                    </a:lnTo>
                    <a:lnTo>
                      <a:pt x="146" y="140"/>
                    </a:lnTo>
                    <a:lnTo>
                      <a:pt x="123" y="162"/>
                    </a:lnTo>
                    <a:lnTo>
                      <a:pt x="101" y="184"/>
                    </a:lnTo>
                    <a:lnTo>
                      <a:pt x="78" y="205"/>
                    </a:lnTo>
                    <a:lnTo>
                      <a:pt x="55" y="228"/>
                    </a:lnTo>
                    <a:lnTo>
                      <a:pt x="32" y="251"/>
                    </a:lnTo>
                    <a:lnTo>
                      <a:pt x="9" y="275"/>
                    </a:lnTo>
                    <a:lnTo>
                      <a:pt x="0" y="264"/>
                    </a:lnTo>
                    <a:lnTo>
                      <a:pt x="15" y="230"/>
                    </a:lnTo>
                    <a:lnTo>
                      <a:pt x="29" y="198"/>
                    </a:lnTo>
                    <a:lnTo>
                      <a:pt x="47" y="166"/>
                    </a:lnTo>
                    <a:lnTo>
                      <a:pt x="65" y="137"/>
                    </a:lnTo>
                    <a:lnTo>
                      <a:pt x="84" y="108"/>
                    </a:lnTo>
                    <a:lnTo>
                      <a:pt x="107" y="80"/>
                    </a:lnTo>
                    <a:lnTo>
                      <a:pt x="130" y="51"/>
                    </a:lnTo>
                    <a:lnTo>
                      <a:pt x="156" y="22"/>
                    </a:lnTo>
                    <a:lnTo>
                      <a:pt x="164" y="17"/>
                    </a:lnTo>
                    <a:lnTo>
                      <a:pt x="171" y="12"/>
                    </a:lnTo>
                    <a:lnTo>
                      <a:pt x="178" y="6"/>
                    </a:lnTo>
                    <a:lnTo>
                      <a:pt x="188" y="2"/>
                    </a:lnTo>
                    <a:lnTo>
                      <a:pt x="200" y="0"/>
                    </a:lnTo>
                    <a:lnTo>
                      <a:pt x="211" y="0"/>
                    </a:lnTo>
                    <a:lnTo>
                      <a:pt x="224" y="2"/>
                    </a:lnTo>
                    <a:lnTo>
                      <a:pt x="236" y="3"/>
                    </a:lnTo>
                    <a:lnTo>
                      <a:pt x="248" y="6"/>
                    </a:lnTo>
                    <a:lnTo>
                      <a:pt x="259" y="10"/>
                    </a:lnTo>
                    <a:lnTo>
                      <a:pt x="271" y="13"/>
                    </a:lnTo>
                    <a:lnTo>
                      <a:pt x="282" y="16"/>
                    </a:lnTo>
                    <a:lnTo>
                      <a:pt x="300" y="22"/>
                    </a:lnTo>
                    <a:lnTo>
                      <a:pt x="317" y="28"/>
                    </a:lnTo>
                    <a:lnTo>
                      <a:pt x="336" y="32"/>
                    </a:lnTo>
                    <a:lnTo>
                      <a:pt x="353" y="38"/>
                    </a:lnTo>
                    <a:lnTo>
                      <a:pt x="370" y="43"/>
                    </a:lnTo>
                    <a:lnTo>
                      <a:pt x="389" y="51"/>
                    </a:lnTo>
                    <a:lnTo>
                      <a:pt x="407" y="56"/>
                    </a:lnTo>
                    <a:lnTo>
                      <a:pt x="425" y="62"/>
                    </a:lnTo>
                    <a:lnTo>
                      <a:pt x="444" y="68"/>
                    </a:lnTo>
                    <a:lnTo>
                      <a:pt x="462" y="75"/>
                    </a:lnTo>
                    <a:lnTo>
                      <a:pt x="480" y="81"/>
                    </a:lnTo>
                    <a:lnTo>
                      <a:pt x="498" y="88"/>
                    </a:lnTo>
                    <a:lnTo>
                      <a:pt x="515" y="95"/>
                    </a:lnTo>
                    <a:lnTo>
                      <a:pt x="534" y="103"/>
                    </a:lnTo>
                    <a:lnTo>
                      <a:pt x="551" y="110"/>
                    </a:lnTo>
                    <a:lnTo>
                      <a:pt x="569" y="117"/>
                    </a:lnTo>
                    <a:lnTo>
                      <a:pt x="586" y="120"/>
                    </a:lnTo>
                    <a:lnTo>
                      <a:pt x="603" y="124"/>
                    </a:lnTo>
                    <a:lnTo>
                      <a:pt x="621" y="127"/>
                    </a:lnTo>
                    <a:lnTo>
                      <a:pt x="637" y="132"/>
                    </a:lnTo>
                    <a:lnTo>
                      <a:pt x="652" y="137"/>
                    </a:lnTo>
                    <a:lnTo>
                      <a:pt x="668" y="142"/>
                    </a:lnTo>
                    <a:lnTo>
                      <a:pt x="686" y="147"/>
                    </a:lnTo>
                    <a:lnTo>
                      <a:pt x="702" y="152"/>
                    </a:lnTo>
                    <a:lnTo>
                      <a:pt x="717" y="158"/>
                    </a:lnTo>
                    <a:lnTo>
                      <a:pt x="733" y="163"/>
                    </a:lnTo>
                    <a:lnTo>
                      <a:pt x="749" y="169"/>
                    </a:lnTo>
                    <a:lnTo>
                      <a:pt x="765" y="175"/>
                    </a:lnTo>
                    <a:lnTo>
                      <a:pt x="781" y="182"/>
                    </a:lnTo>
                    <a:lnTo>
                      <a:pt x="797" y="188"/>
                    </a:lnTo>
                    <a:lnTo>
                      <a:pt x="813" y="194"/>
                    </a:lnTo>
                    <a:lnTo>
                      <a:pt x="830" y="199"/>
                    </a:lnTo>
                    <a:lnTo>
                      <a:pt x="838" y="210"/>
                    </a:lnTo>
                    <a:lnTo>
                      <a:pt x="819" y="251"/>
                    </a:lnTo>
                    <a:lnTo>
                      <a:pt x="797" y="290"/>
                    </a:lnTo>
                    <a:lnTo>
                      <a:pt x="772" y="328"/>
                    </a:lnTo>
                    <a:lnTo>
                      <a:pt x="749" y="366"/>
                    </a:lnTo>
                    <a:lnTo>
                      <a:pt x="725" y="405"/>
                    </a:lnTo>
                    <a:lnTo>
                      <a:pt x="703" y="445"/>
                    </a:lnTo>
                    <a:lnTo>
                      <a:pt x="684" y="488"/>
                    </a:lnTo>
                    <a:lnTo>
                      <a:pt x="668" y="538"/>
                    </a:lnTo>
                    <a:lnTo>
                      <a:pt x="687" y="555"/>
                    </a:lnTo>
                    <a:lnTo>
                      <a:pt x="697" y="545"/>
                    </a:lnTo>
                    <a:lnTo>
                      <a:pt x="699" y="523"/>
                    </a:lnTo>
                    <a:lnTo>
                      <a:pt x="710" y="496"/>
                    </a:lnTo>
                    <a:lnTo>
                      <a:pt x="722" y="470"/>
                    </a:lnTo>
                    <a:lnTo>
                      <a:pt x="735" y="444"/>
                    </a:lnTo>
                    <a:lnTo>
                      <a:pt x="749" y="419"/>
                    </a:lnTo>
                    <a:lnTo>
                      <a:pt x="764" y="395"/>
                    </a:lnTo>
                    <a:lnTo>
                      <a:pt x="778" y="371"/>
                    </a:lnTo>
                    <a:lnTo>
                      <a:pt x="793" y="347"/>
                    </a:lnTo>
                    <a:lnTo>
                      <a:pt x="809" y="322"/>
                    </a:lnTo>
                    <a:lnTo>
                      <a:pt x="814" y="312"/>
                    </a:lnTo>
                    <a:lnTo>
                      <a:pt x="819" y="302"/>
                    </a:lnTo>
                    <a:lnTo>
                      <a:pt x="826" y="290"/>
                    </a:lnTo>
                    <a:lnTo>
                      <a:pt x="832" y="280"/>
                    </a:lnTo>
                    <a:lnTo>
                      <a:pt x="839" y="269"/>
                    </a:lnTo>
                    <a:lnTo>
                      <a:pt x="845" y="259"/>
                    </a:lnTo>
                    <a:lnTo>
                      <a:pt x="852" y="247"/>
                    </a:lnTo>
                    <a:lnTo>
                      <a:pt x="859" y="237"/>
                    </a:lnTo>
                    <a:lnTo>
                      <a:pt x="869" y="251"/>
                    </a:lnTo>
                    <a:lnTo>
                      <a:pt x="865" y="272"/>
                    </a:lnTo>
                    <a:lnTo>
                      <a:pt x="858" y="298"/>
                    </a:lnTo>
                    <a:lnTo>
                      <a:pt x="849" y="322"/>
                    </a:lnTo>
                    <a:lnTo>
                      <a:pt x="840" y="344"/>
                    </a:lnTo>
                    <a:lnTo>
                      <a:pt x="830" y="363"/>
                    </a:lnTo>
                    <a:lnTo>
                      <a:pt x="819" y="383"/>
                    </a:lnTo>
                    <a:lnTo>
                      <a:pt x="809" y="402"/>
                    </a:lnTo>
                    <a:lnTo>
                      <a:pt x="798" y="422"/>
                    </a:lnTo>
                    <a:lnTo>
                      <a:pt x="787" y="442"/>
                    </a:lnTo>
                    <a:lnTo>
                      <a:pt x="777" y="462"/>
                    </a:lnTo>
                    <a:lnTo>
                      <a:pt x="767" y="483"/>
                    </a:lnTo>
                    <a:lnTo>
                      <a:pt x="757" y="503"/>
                    </a:lnTo>
                    <a:lnTo>
                      <a:pt x="757" y="514"/>
                    </a:lnTo>
                    <a:lnTo>
                      <a:pt x="749" y="520"/>
                    </a:lnTo>
                    <a:lnTo>
                      <a:pt x="741" y="527"/>
                    </a:lnTo>
                    <a:lnTo>
                      <a:pt x="733" y="535"/>
                    </a:lnTo>
                    <a:lnTo>
                      <a:pt x="726" y="543"/>
                    </a:lnTo>
                    <a:lnTo>
                      <a:pt x="719" y="552"/>
                    </a:lnTo>
                    <a:lnTo>
                      <a:pt x="712" y="561"/>
                    </a:lnTo>
                    <a:lnTo>
                      <a:pt x="704" y="571"/>
                    </a:lnTo>
                    <a:lnTo>
                      <a:pt x="697" y="581"/>
                    </a:lnTo>
                    <a:lnTo>
                      <a:pt x="689" y="582"/>
                    </a:lnTo>
                    <a:lnTo>
                      <a:pt x="680" y="584"/>
                    </a:lnTo>
                    <a:lnTo>
                      <a:pt x="671" y="587"/>
                    </a:lnTo>
                    <a:lnTo>
                      <a:pt x="663" y="5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7080120" y="3508200"/>
                <a:ext cx="11160" cy="11160"/>
              </a:xfrm>
              <a:custGeom>
                <a:avLst/>
                <a:gdLst/>
                <a:ahLst/>
                <a:rect l="l" t="t" r="r" b="b"/>
                <a:pathLst>
                  <a:path w="21" h="21">
                    <a:moveTo>
                      <a:pt x="2" y="21"/>
                    </a:moveTo>
                    <a:lnTo>
                      <a:pt x="0" y="0"/>
                    </a:lnTo>
                    <a:lnTo>
                      <a:pt x="9" y="0"/>
                    </a:lnTo>
                    <a:lnTo>
                      <a:pt x="16" y="1"/>
                    </a:lnTo>
                    <a:lnTo>
                      <a:pt x="21" y="7"/>
                    </a:lnTo>
                    <a:lnTo>
                      <a:pt x="19" y="17"/>
                    </a:lnTo>
                    <a:lnTo>
                      <a:pt x="2"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5" name=""/>
              <p:cNvSpPr/>
              <p:nvPr/>
            </p:nvSpPr>
            <p:spPr>
              <a:xfrm>
                <a:off x="7146720" y="3510000"/>
                <a:ext cx="12960" cy="9360"/>
              </a:xfrm>
              <a:custGeom>
                <a:avLst/>
                <a:gdLst/>
                <a:ahLst/>
                <a:rect l="l" t="t" r="r" b="b"/>
                <a:pathLst>
                  <a:path w="23" h="18">
                    <a:moveTo>
                      <a:pt x="9" y="18"/>
                    </a:moveTo>
                    <a:lnTo>
                      <a:pt x="0" y="4"/>
                    </a:lnTo>
                    <a:lnTo>
                      <a:pt x="5" y="0"/>
                    </a:lnTo>
                    <a:lnTo>
                      <a:pt x="12" y="0"/>
                    </a:lnTo>
                    <a:lnTo>
                      <a:pt x="20" y="4"/>
                    </a:lnTo>
                    <a:lnTo>
                      <a:pt x="23" y="10"/>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26" name=""/>
              <p:cNvSpPr/>
              <p:nvPr/>
            </p:nvSpPr>
            <p:spPr>
              <a:xfrm>
                <a:off x="7408800" y="3486240"/>
                <a:ext cx="11160" cy="12600"/>
              </a:xfrm>
              <a:custGeom>
                <a:avLst/>
                <a:gdLst/>
                <a:ahLst/>
                <a:rect l="l" t="t" r="r" b="b"/>
                <a:pathLst>
                  <a:path w="21" h="23">
                    <a:moveTo>
                      <a:pt x="6" y="23"/>
                    </a:moveTo>
                    <a:lnTo>
                      <a:pt x="0" y="0"/>
                    </a:lnTo>
                    <a:lnTo>
                      <a:pt x="21" y="5"/>
                    </a:lnTo>
                    <a:lnTo>
                      <a:pt x="21" y="10"/>
                    </a:lnTo>
                    <a:lnTo>
                      <a:pt x="18" y="16"/>
                    </a:lnTo>
                    <a:lnTo>
                      <a:pt x="13" y="22"/>
                    </a:lnTo>
                    <a:lnTo>
                      <a:pt x="6"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27" name=""/>
              <p:cNvSpPr/>
              <p:nvPr/>
            </p:nvSpPr>
            <p:spPr>
              <a:xfrm>
                <a:off x="7326360" y="3481200"/>
                <a:ext cx="12600" cy="12960"/>
              </a:xfrm>
              <a:custGeom>
                <a:avLst/>
                <a:gdLst/>
                <a:ahLst/>
                <a:rect l="l" t="t" r="r" b="b"/>
                <a:pathLst>
                  <a:path w="26" h="25">
                    <a:moveTo>
                      <a:pt x="7" y="25"/>
                    </a:moveTo>
                    <a:lnTo>
                      <a:pt x="0" y="3"/>
                    </a:lnTo>
                    <a:lnTo>
                      <a:pt x="9" y="0"/>
                    </a:lnTo>
                    <a:lnTo>
                      <a:pt x="16" y="3"/>
                    </a:lnTo>
                    <a:lnTo>
                      <a:pt x="22" y="9"/>
                    </a:lnTo>
                    <a:lnTo>
                      <a:pt x="26" y="17"/>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28" name=""/>
              <p:cNvSpPr/>
              <p:nvPr/>
            </p:nvSpPr>
            <p:spPr>
              <a:xfrm>
                <a:off x="7215120" y="3483000"/>
                <a:ext cx="11160" cy="11160"/>
              </a:xfrm>
              <a:custGeom>
                <a:avLst/>
                <a:gdLst/>
                <a:ahLst/>
                <a:rect l="l" t="t" r="r" b="b"/>
                <a:pathLst>
                  <a:path w="22" h="21">
                    <a:moveTo>
                      <a:pt x="3" y="21"/>
                    </a:moveTo>
                    <a:lnTo>
                      <a:pt x="0" y="0"/>
                    </a:lnTo>
                    <a:lnTo>
                      <a:pt x="22" y="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9" name=""/>
              <p:cNvSpPr/>
              <p:nvPr/>
            </p:nvSpPr>
            <p:spPr>
              <a:xfrm>
                <a:off x="7512120" y="3467160"/>
                <a:ext cx="9360" cy="12600"/>
              </a:xfrm>
              <a:custGeom>
                <a:avLst/>
                <a:gdLst/>
                <a:ahLst/>
                <a:rect l="l" t="t" r="r" b="b"/>
                <a:pathLst>
                  <a:path w="17" h="23">
                    <a:moveTo>
                      <a:pt x="10" y="23"/>
                    </a:moveTo>
                    <a:lnTo>
                      <a:pt x="4" y="20"/>
                    </a:lnTo>
                    <a:lnTo>
                      <a:pt x="0" y="13"/>
                    </a:lnTo>
                    <a:lnTo>
                      <a:pt x="1" y="6"/>
                    </a:lnTo>
                    <a:lnTo>
                      <a:pt x="7" y="0"/>
                    </a:lnTo>
                    <a:lnTo>
                      <a:pt x="14" y="3"/>
                    </a:lnTo>
                    <a:lnTo>
                      <a:pt x="17" y="10"/>
                    </a:lnTo>
                    <a:lnTo>
                      <a:pt x="17" y="17"/>
                    </a:lnTo>
                    <a:lnTo>
                      <a:pt x="1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0" name=""/>
              <p:cNvSpPr/>
              <p:nvPr/>
            </p:nvSpPr>
            <p:spPr>
              <a:xfrm>
                <a:off x="7175520" y="3460680"/>
                <a:ext cx="11160" cy="12600"/>
              </a:xfrm>
              <a:custGeom>
                <a:avLst/>
                <a:gdLst/>
                <a:ahLst/>
                <a:rect l="l" t="t" r="r" b="b"/>
                <a:pathLst>
                  <a:path w="20" h="23">
                    <a:moveTo>
                      <a:pt x="1" y="23"/>
                    </a:moveTo>
                    <a:lnTo>
                      <a:pt x="0" y="0"/>
                    </a:lnTo>
                    <a:lnTo>
                      <a:pt x="20" y="10"/>
                    </a:lnTo>
                    <a:lnTo>
                      <a:pt x="20" y="17"/>
                    </a:lnTo>
                    <a:lnTo>
                      <a:pt x="16" y="20"/>
                    </a:lnTo>
                    <a:lnTo>
                      <a:pt x="10" y="20"/>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1" name=""/>
              <p:cNvSpPr/>
              <p:nvPr/>
            </p:nvSpPr>
            <p:spPr>
              <a:xfrm>
                <a:off x="7561080" y="3446280"/>
                <a:ext cx="14400" cy="12960"/>
              </a:xfrm>
              <a:custGeom>
                <a:avLst/>
                <a:gdLst/>
                <a:ahLst/>
                <a:rect l="l" t="t" r="r" b="b"/>
                <a:pathLst>
                  <a:path w="28" h="22">
                    <a:moveTo>
                      <a:pt x="7" y="22"/>
                    </a:moveTo>
                    <a:lnTo>
                      <a:pt x="0" y="9"/>
                    </a:lnTo>
                    <a:lnTo>
                      <a:pt x="7" y="0"/>
                    </a:lnTo>
                    <a:lnTo>
                      <a:pt x="15" y="0"/>
                    </a:lnTo>
                    <a:lnTo>
                      <a:pt x="22" y="0"/>
                    </a:lnTo>
                    <a:lnTo>
                      <a:pt x="28" y="6"/>
                    </a:lnTo>
                    <a:lnTo>
                      <a:pt x="28" y="15"/>
                    </a:lnTo>
                    <a:lnTo>
                      <a:pt x="7"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2" name=""/>
              <p:cNvSpPr/>
              <p:nvPr/>
            </p:nvSpPr>
            <p:spPr>
              <a:xfrm>
                <a:off x="7103880" y="3444840"/>
                <a:ext cx="11160" cy="12600"/>
              </a:xfrm>
              <a:custGeom>
                <a:avLst/>
                <a:gdLst/>
                <a:ahLst/>
                <a:rect l="l" t="t" r="r" b="b"/>
                <a:pathLst>
                  <a:path w="20" h="22">
                    <a:moveTo>
                      <a:pt x="10" y="22"/>
                    </a:moveTo>
                    <a:lnTo>
                      <a:pt x="0" y="3"/>
                    </a:lnTo>
                    <a:lnTo>
                      <a:pt x="6" y="0"/>
                    </a:lnTo>
                    <a:lnTo>
                      <a:pt x="13" y="2"/>
                    </a:lnTo>
                    <a:lnTo>
                      <a:pt x="19" y="7"/>
                    </a:lnTo>
                    <a:lnTo>
                      <a:pt x="20" y="15"/>
                    </a:lnTo>
                    <a:lnTo>
                      <a:pt x="1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3" name=""/>
              <p:cNvSpPr/>
              <p:nvPr/>
            </p:nvSpPr>
            <p:spPr>
              <a:xfrm>
                <a:off x="7040520" y="3441600"/>
                <a:ext cx="14400" cy="14400"/>
              </a:xfrm>
              <a:custGeom>
                <a:avLst/>
                <a:gdLst/>
                <a:ahLst/>
                <a:rect l="l" t="t" r="r" b="b"/>
                <a:pathLst>
                  <a:path w="25" h="26">
                    <a:moveTo>
                      <a:pt x="10" y="26"/>
                    </a:moveTo>
                    <a:lnTo>
                      <a:pt x="0" y="3"/>
                    </a:lnTo>
                    <a:lnTo>
                      <a:pt x="6" y="0"/>
                    </a:lnTo>
                    <a:lnTo>
                      <a:pt x="15" y="2"/>
                    </a:lnTo>
                    <a:lnTo>
                      <a:pt x="22" y="8"/>
                    </a:lnTo>
                    <a:lnTo>
                      <a:pt x="25" y="13"/>
                    </a:lnTo>
                    <a:lnTo>
                      <a:pt x="1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34" name=""/>
              <p:cNvSpPr/>
              <p:nvPr/>
            </p:nvSpPr>
            <p:spPr>
              <a:xfrm>
                <a:off x="7437240" y="3432240"/>
                <a:ext cx="9720" cy="11160"/>
              </a:xfrm>
              <a:custGeom>
                <a:avLst/>
                <a:gdLst/>
                <a:ahLst/>
                <a:rect l="l" t="t" r="r" b="b"/>
                <a:pathLst>
                  <a:path w="20" h="22">
                    <a:moveTo>
                      <a:pt x="11" y="22"/>
                    </a:moveTo>
                    <a:lnTo>
                      <a:pt x="4" y="19"/>
                    </a:lnTo>
                    <a:lnTo>
                      <a:pt x="0" y="12"/>
                    </a:lnTo>
                    <a:lnTo>
                      <a:pt x="1" y="5"/>
                    </a:lnTo>
                    <a:lnTo>
                      <a:pt x="6" y="0"/>
                    </a:lnTo>
                    <a:lnTo>
                      <a:pt x="11" y="3"/>
                    </a:lnTo>
                    <a:lnTo>
                      <a:pt x="17" y="10"/>
                    </a:lnTo>
                    <a:lnTo>
                      <a:pt x="20" y="19"/>
                    </a:lnTo>
                    <a:lnTo>
                      <a:pt x="1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5" name=""/>
              <p:cNvSpPr/>
              <p:nvPr/>
            </p:nvSpPr>
            <p:spPr>
              <a:xfrm>
                <a:off x="7648560" y="3413160"/>
                <a:ext cx="7920" cy="11160"/>
              </a:xfrm>
              <a:custGeom>
                <a:avLst/>
                <a:gdLst/>
                <a:ahLst/>
                <a:rect l="l" t="t" r="r" b="b"/>
                <a:pathLst>
                  <a:path w="17" h="21">
                    <a:moveTo>
                      <a:pt x="3" y="21"/>
                    </a:moveTo>
                    <a:lnTo>
                      <a:pt x="0" y="0"/>
                    </a:lnTo>
                    <a:lnTo>
                      <a:pt x="9" y="0"/>
                    </a:lnTo>
                    <a:lnTo>
                      <a:pt x="14" y="2"/>
                    </a:lnTo>
                    <a:lnTo>
                      <a:pt x="17" y="8"/>
                    </a:lnTo>
                    <a:lnTo>
                      <a:pt x="17" y="17"/>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6" name=""/>
              <p:cNvSpPr/>
              <p:nvPr/>
            </p:nvSpPr>
            <p:spPr>
              <a:xfrm>
                <a:off x="7364520" y="3408480"/>
                <a:ext cx="10800" cy="12600"/>
              </a:xfrm>
              <a:custGeom>
                <a:avLst/>
                <a:gdLst/>
                <a:ahLst/>
                <a:rect l="l" t="t" r="r" b="b"/>
                <a:pathLst>
                  <a:path w="20" h="22">
                    <a:moveTo>
                      <a:pt x="13" y="22"/>
                    </a:moveTo>
                    <a:lnTo>
                      <a:pt x="4" y="19"/>
                    </a:lnTo>
                    <a:lnTo>
                      <a:pt x="0" y="13"/>
                    </a:lnTo>
                    <a:lnTo>
                      <a:pt x="0" y="6"/>
                    </a:lnTo>
                    <a:lnTo>
                      <a:pt x="4" y="0"/>
                    </a:lnTo>
                    <a:lnTo>
                      <a:pt x="13" y="1"/>
                    </a:lnTo>
                    <a:lnTo>
                      <a:pt x="19" y="7"/>
                    </a:lnTo>
                    <a:lnTo>
                      <a:pt x="20" y="14"/>
                    </a:lnTo>
                    <a:lnTo>
                      <a:pt x="13"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7" name=""/>
              <p:cNvSpPr/>
              <p:nvPr/>
            </p:nvSpPr>
            <p:spPr>
              <a:xfrm>
                <a:off x="7499160" y="3405240"/>
                <a:ext cx="12960" cy="12600"/>
              </a:xfrm>
              <a:custGeom>
                <a:avLst/>
                <a:gdLst/>
                <a:ahLst/>
                <a:rect l="l" t="t" r="r" b="b"/>
                <a:pathLst>
                  <a:path w="25" h="24">
                    <a:moveTo>
                      <a:pt x="9" y="24"/>
                    </a:moveTo>
                    <a:lnTo>
                      <a:pt x="0" y="3"/>
                    </a:lnTo>
                    <a:lnTo>
                      <a:pt x="4" y="0"/>
                    </a:lnTo>
                    <a:lnTo>
                      <a:pt x="11" y="1"/>
                    </a:lnTo>
                    <a:lnTo>
                      <a:pt x="19" y="5"/>
                    </a:lnTo>
                    <a:lnTo>
                      <a:pt x="25" y="14"/>
                    </a:lnTo>
                    <a:lnTo>
                      <a:pt x="9"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8" name=""/>
              <p:cNvSpPr/>
              <p:nvPr/>
            </p:nvSpPr>
            <p:spPr>
              <a:xfrm>
                <a:off x="7215120" y="3405240"/>
                <a:ext cx="11160" cy="9360"/>
              </a:xfrm>
              <a:custGeom>
                <a:avLst/>
                <a:gdLst/>
                <a:ahLst/>
                <a:rect l="l" t="t" r="r" b="b"/>
                <a:pathLst>
                  <a:path w="20" h="17">
                    <a:moveTo>
                      <a:pt x="11" y="17"/>
                    </a:moveTo>
                    <a:lnTo>
                      <a:pt x="0" y="0"/>
                    </a:lnTo>
                    <a:lnTo>
                      <a:pt x="20" y="4"/>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39" name=""/>
              <p:cNvSpPr/>
              <p:nvPr/>
            </p:nvSpPr>
            <p:spPr>
              <a:xfrm>
                <a:off x="7599240" y="3395520"/>
                <a:ext cx="11160" cy="12960"/>
              </a:xfrm>
              <a:custGeom>
                <a:avLst/>
                <a:gdLst/>
                <a:ahLst/>
                <a:rect l="l" t="t" r="r" b="b"/>
                <a:pathLst>
                  <a:path w="21" h="25">
                    <a:moveTo>
                      <a:pt x="7" y="25"/>
                    </a:moveTo>
                    <a:lnTo>
                      <a:pt x="1" y="21"/>
                    </a:lnTo>
                    <a:lnTo>
                      <a:pt x="0" y="12"/>
                    </a:lnTo>
                    <a:lnTo>
                      <a:pt x="4" y="3"/>
                    </a:lnTo>
                    <a:lnTo>
                      <a:pt x="14" y="0"/>
                    </a:lnTo>
                    <a:lnTo>
                      <a:pt x="21" y="5"/>
                    </a:lnTo>
                    <a:lnTo>
                      <a:pt x="21" y="15"/>
                    </a:lnTo>
                    <a:lnTo>
                      <a:pt x="16" y="23"/>
                    </a:lnTo>
                    <a:lnTo>
                      <a:pt x="7"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0" name=""/>
              <p:cNvSpPr/>
              <p:nvPr/>
            </p:nvSpPr>
            <p:spPr>
              <a:xfrm>
                <a:off x="7294680" y="3381480"/>
                <a:ext cx="10800" cy="15840"/>
              </a:xfrm>
              <a:custGeom>
                <a:avLst/>
                <a:gdLst/>
                <a:ahLst/>
                <a:rect l="l" t="t" r="r" b="b"/>
                <a:pathLst>
                  <a:path w="20" h="29">
                    <a:moveTo>
                      <a:pt x="13" y="29"/>
                    </a:moveTo>
                    <a:lnTo>
                      <a:pt x="7" y="26"/>
                    </a:lnTo>
                    <a:lnTo>
                      <a:pt x="3" y="19"/>
                    </a:lnTo>
                    <a:lnTo>
                      <a:pt x="0" y="9"/>
                    </a:lnTo>
                    <a:lnTo>
                      <a:pt x="3" y="0"/>
                    </a:lnTo>
                    <a:lnTo>
                      <a:pt x="20" y="12"/>
                    </a:lnTo>
                    <a:lnTo>
                      <a:pt x="13"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1" name=""/>
              <p:cNvSpPr/>
              <p:nvPr/>
            </p:nvSpPr>
            <p:spPr>
              <a:xfrm>
                <a:off x="7129440" y="3376440"/>
                <a:ext cx="11160" cy="15840"/>
              </a:xfrm>
              <a:custGeom>
                <a:avLst/>
                <a:gdLst/>
                <a:ahLst/>
                <a:rect l="l" t="t" r="r" b="b"/>
                <a:pathLst>
                  <a:path w="21" h="29">
                    <a:moveTo>
                      <a:pt x="6" y="29"/>
                    </a:moveTo>
                    <a:lnTo>
                      <a:pt x="2" y="23"/>
                    </a:lnTo>
                    <a:lnTo>
                      <a:pt x="0" y="15"/>
                    </a:lnTo>
                    <a:lnTo>
                      <a:pt x="0" y="6"/>
                    </a:lnTo>
                    <a:lnTo>
                      <a:pt x="5" y="0"/>
                    </a:lnTo>
                    <a:lnTo>
                      <a:pt x="13" y="3"/>
                    </a:lnTo>
                    <a:lnTo>
                      <a:pt x="19" y="12"/>
                    </a:lnTo>
                    <a:lnTo>
                      <a:pt x="21" y="20"/>
                    </a:lnTo>
                    <a:lnTo>
                      <a:pt x="13" y="29"/>
                    </a:lnTo>
                    <a:lnTo>
                      <a:pt x="6"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2" name=""/>
              <p:cNvSpPr/>
              <p:nvPr/>
            </p:nvSpPr>
            <p:spPr>
              <a:xfrm>
                <a:off x="7412040" y="3359160"/>
                <a:ext cx="11160" cy="11160"/>
              </a:xfrm>
              <a:custGeom>
                <a:avLst/>
                <a:gdLst/>
                <a:ahLst/>
                <a:rect l="l" t="t" r="r" b="b"/>
                <a:pathLst>
                  <a:path w="20" h="21">
                    <a:moveTo>
                      <a:pt x="1" y="21"/>
                    </a:moveTo>
                    <a:lnTo>
                      <a:pt x="0" y="0"/>
                    </a:lnTo>
                    <a:lnTo>
                      <a:pt x="20" y="3"/>
                    </a:lnTo>
                    <a:lnTo>
                      <a:pt x="20" y="10"/>
                    </a:lnTo>
                    <a:lnTo>
                      <a:pt x="17" y="16"/>
                    </a:lnTo>
                    <a:lnTo>
                      <a:pt x="11" y="19"/>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3" name=""/>
              <p:cNvSpPr/>
              <p:nvPr/>
            </p:nvSpPr>
            <p:spPr>
              <a:xfrm>
                <a:off x="7045200" y="3355920"/>
                <a:ext cx="15840" cy="14400"/>
              </a:xfrm>
              <a:custGeom>
                <a:avLst/>
                <a:gdLst/>
                <a:ahLst/>
                <a:rect l="l" t="t" r="r" b="b"/>
                <a:pathLst>
                  <a:path w="32" h="29">
                    <a:moveTo>
                      <a:pt x="22" y="29"/>
                    </a:moveTo>
                    <a:lnTo>
                      <a:pt x="0" y="21"/>
                    </a:lnTo>
                    <a:lnTo>
                      <a:pt x="3" y="0"/>
                    </a:lnTo>
                    <a:lnTo>
                      <a:pt x="13" y="3"/>
                    </a:lnTo>
                    <a:lnTo>
                      <a:pt x="22" y="7"/>
                    </a:lnTo>
                    <a:lnTo>
                      <a:pt x="28" y="11"/>
                    </a:lnTo>
                    <a:lnTo>
                      <a:pt x="32" y="20"/>
                    </a:lnTo>
                    <a:lnTo>
                      <a:pt x="22"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44" name=""/>
              <p:cNvSpPr/>
              <p:nvPr/>
            </p:nvSpPr>
            <p:spPr>
              <a:xfrm>
                <a:off x="7524720" y="3352680"/>
                <a:ext cx="12600" cy="9720"/>
              </a:xfrm>
              <a:custGeom>
                <a:avLst/>
                <a:gdLst/>
                <a:ahLst/>
                <a:rect l="l" t="t" r="r" b="b"/>
                <a:pathLst>
                  <a:path w="23" h="20">
                    <a:moveTo>
                      <a:pt x="4" y="20"/>
                    </a:moveTo>
                    <a:lnTo>
                      <a:pt x="0" y="0"/>
                    </a:lnTo>
                    <a:lnTo>
                      <a:pt x="22" y="4"/>
                    </a:lnTo>
                    <a:lnTo>
                      <a:pt x="23" y="10"/>
                    </a:lnTo>
                    <a:lnTo>
                      <a:pt x="19" y="16"/>
                    </a:lnTo>
                    <a:lnTo>
                      <a:pt x="13" y="19"/>
                    </a:lnTo>
                    <a:lnTo>
                      <a:pt x="4"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45" name=""/>
              <p:cNvSpPr/>
              <p:nvPr/>
            </p:nvSpPr>
            <p:spPr>
              <a:xfrm>
                <a:off x="7473960" y="3343320"/>
                <a:ext cx="12600" cy="12600"/>
              </a:xfrm>
              <a:custGeom>
                <a:avLst/>
                <a:gdLst/>
                <a:ahLst/>
                <a:rect l="l" t="t" r="r" b="b"/>
                <a:pathLst>
                  <a:path w="26" h="22">
                    <a:moveTo>
                      <a:pt x="9" y="22"/>
                    </a:moveTo>
                    <a:lnTo>
                      <a:pt x="0" y="12"/>
                    </a:lnTo>
                    <a:lnTo>
                      <a:pt x="3" y="4"/>
                    </a:lnTo>
                    <a:lnTo>
                      <a:pt x="12" y="0"/>
                    </a:lnTo>
                    <a:lnTo>
                      <a:pt x="20" y="1"/>
                    </a:lnTo>
                    <a:lnTo>
                      <a:pt x="26" y="7"/>
                    </a:lnTo>
                    <a:lnTo>
                      <a:pt x="9"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46" name=""/>
              <p:cNvSpPr/>
              <p:nvPr/>
            </p:nvSpPr>
            <p:spPr>
              <a:xfrm>
                <a:off x="7196040" y="3344760"/>
                <a:ext cx="11160" cy="9720"/>
              </a:xfrm>
              <a:custGeom>
                <a:avLst/>
                <a:gdLst/>
                <a:ahLst/>
                <a:rect l="l" t="t" r="r" b="b"/>
                <a:pathLst>
                  <a:path w="23" h="18">
                    <a:moveTo>
                      <a:pt x="6" y="18"/>
                    </a:moveTo>
                    <a:lnTo>
                      <a:pt x="0" y="0"/>
                    </a:lnTo>
                    <a:lnTo>
                      <a:pt x="23" y="6"/>
                    </a:lnTo>
                    <a:lnTo>
                      <a:pt x="6"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47" name=""/>
              <p:cNvSpPr/>
              <p:nvPr/>
            </p:nvSpPr>
            <p:spPr>
              <a:xfrm>
                <a:off x="7267680" y="3319560"/>
                <a:ext cx="10800" cy="10800"/>
              </a:xfrm>
              <a:custGeom>
                <a:avLst/>
                <a:gdLst/>
                <a:ahLst/>
                <a:rect l="l" t="t" r="r" b="b"/>
                <a:pathLst>
                  <a:path w="21" h="20">
                    <a:moveTo>
                      <a:pt x="8" y="20"/>
                    </a:moveTo>
                    <a:lnTo>
                      <a:pt x="0" y="3"/>
                    </a:lnTo>
                    <a:lnTo>
                      <a:pt x="7" y="0"/>
                    </a:lnTo>
                    <a:lnTo>
                      <a:pt x="16" y="2"/>
                    </a:lnTo>
                    <a:lnTo>
                      <a:pt x="20" y="7"/>
                    </a:lnTo>
                    <a:lnTo>
                      <a:pt x="21" y="16"/>
                    </a:lnTo>
                    <a:lnTo>
                      <a:pt x="8"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48" name=""/>
              <p:cNvSpPr/>
              <p:nvPr/>
            </p:nvSpPr>
            <p:spPr>
              <a:xfrm>
                <a:off x="7022880" y="3306600"/>
                <a:ext cx="11160" cy="11160"/>
              </a:xfrm>
              <a:custGeom>
                <a:avLst/>
                <a:gdLst/>
                <a:ahLst/>
                <a:rect l="l" t="t" r="r" b="b"/>
                <a:pathLst>
                  <a:path w="19" h="22">
                    <a:moveTo>
                      <a:pt x="4" y="22"/>
                    </a:moveTo>
                    <a:lnTo>
                      <a:pt x="0" y="0"/>
                    </a:lnTo>
                    <a:lnTo>
                      <a:pt x="19" y="7"/>
                    </a:lnTo>
                    <a:lnTo>
                      <a:pt x="4"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9" name=""/>
              <p:cNvSpPr/>
              <p:nvPr/>
            </p:nvSpPr>
            <p:spPr>
              <a:xfrm>
                <a:off x="7088040" y="3305160"/>
                <a:ext cx="12960" cy="9360"/>
              </a:xfrm>
              <a:custGeom>
                <a:avLst/>
                <a:gdLst/>
                <a:ahLst/>
                <a:rect l="l" t="t" r="r" b="b"/>
                <a:pathLst>
                  <a:path w="24" h="16">
                    <a:moveTo>
                      <a:pt x="4" y="16"/>
                    </a:moveTo>
                    <a:lnTo>
                      <a:pt x="0" y="7"/>
                    </a:lnTo>
                    <a:lnTo>
                      <a:pt x="4" y="1"/>
                    </a:lnTo>
                    <a:lnTo>
                      <a:pt x="13" y="0"/>
                    </a:lnTo>
                    <a:lnTo>
                      <a:pt x="20" y="3"/>
                    </a:lnTo>
                    <a:lnTo>
                      <a:pt x="24" y="8"/>
                    </a:lnTo>
                    <a:lnTo>
                      <a:pt x="4"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50" name=""/>
              <p:cNvSpPr/>
              <p:nvPr/>
            </p:nvSpPr>
            <p:spPr>
              <a:xfrm>
                <a:off x="7167600" y="3278160"/>
                <a:ext cx="14040" cy="14400"/>
              </a:xfrm>
              <a:custGeom>
                <a:avLst/>
                <a:gdLst/>
                <a:ahLst/>
                <a:rect l="l" t="t" r="r" b="b"/>
                <a:pathLst>
                  <a:path w="25" h="26">
                    <a:moveTo>
                      <a:pt x="7" y="26"/>
                    </a:moveTo>
                    <a:lnTo>
                      <a:pt x="0" y="20"/>
                    </a:lnTo>
                    <a:lnTo>
                      <a:pt x="2" y="12"/>
                    </a:lnTo>
                    <a:lnTo>
                      <a:pt x="6" y="5"/>
                    </a:lnTo>
                    <a:lnTo>
                      <a:pt x="13" y="0"/>
                    </a:lnTo>
                    <a:lnTo>
                      <a:pt x="23" y="5"/>
                    </a:lnTo>
                    <a:lnTo>
                      <a:pt x="25" y="13"/>
                    </a:lnTo>
                    <a:lnTo>
                      <a:pt x="23" y="19"/>
                    </a:lnTo>
                    <a:lnTo>
                      <a:pt x="18" y="23"/>
                    </a:lnTo>
                    <a:lnTo>
                      <a:pt x="7"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51" name=""/>
              <p:cNvSpPr/>
              <p:nvPr/>
            </p:nvSpPr>
            <p:spPr>
              <a:xfrm>
                <a:off x="8340840" y="3244680"/>
                <a:ext cx="9360" cy="11160"/>
              </a:xfrm>
              <a:custGeom>
                <a:avLst/>
                <a:gdLst/>
                <a:ahLst/>
                <a:rect l="l" t="t" r="r" b="b"/>
                <a:pathLst>
                  <a:path w="18" h="21">
                    <a:moveTo>
                      <a:pt x="1" y="21"/>
                    </a:moveTo>
                    <a:lnTo>
                      <a:pt x="0" y="0"/>
                    </a:lnTo>
                    <a:lnTo>
                      <a:pt x="18" y="1"/>
                    </a:lnTo>
                    <a:lnTo>
                      <a:pt x="17" y="8"/>
                    </a:lnTo>
                    <a:lnTo>
                      <a:pt x="14" y="14"/>
                    </a:lnTo>
                    <a:lnTo>
                      <a:pt x="10" y="18"/>
                    </a:lnTo>
                    <a:lnTo>
                      <a:pt x="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2" name=""/>
              <p:cNvSpPr/>
              <p:nvPr/>
            </p:nvSpPr>
            <p:spPr>
              <a:xfrm>
                <a:off x="8405640" y="3243240"/>
                <a:ext cx="9720" cy="9360"/>
              </a:xfrm>
              <a:custGeom>
                <a:avLst/>
                <a:gdLst/>
                <a:ahLst/>
                <a:rect l="l" t="t" r="r" b="b"/>
                <a:pathLst>
                  <a:path w="17" h="17">
                    <a:moveTo>
                      <a:pt x="5" y="17"/>
                    </a:moveTo>
                    <a:lnTo>
                      <a:pt x="0" y="1"/>
                    </a:lnTo>
                    <a:lnTo>
                      <a:pt x="10" y="0"/>
                    </a:lnTo>
                    <a:lnTo>
                      <a:pt x="17" y="7"/>
                    </a:lnTo>
                    <a:lnTo>
                      <a:pt x="17" y="14"/>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53" name=""/>
              <p:cNvSpPr/>
              <p:nvPr/>
            </p:nvSpPr>
            <p:spPr>
              <a:xfrm>
                <a:off x="7142040" y="3241440"/>
                <a:ext cx="11160" cy="11160"/>
              </a:xfrm>
              <a:custGeom>
                <a:avLst/>
                <a:gdLst/>
                <a:ahLst/>
                <a:rect l="l" t="t" r="r" b="b"/>
                <a:pathLst>
                  <a:path w="23" h="20">
                    <a:moveTo>
                      <a:pt x="4" y="20"/>
                    </a:moveTo>
                    <a:lnTo>
                      <a:pt x="0" y="0"/>
                    </a:lnTo>
                    <a:lnTo>
                      <a:pt x="20" y="3"/>
                    </a:lnTo>
                    <a:lnTo>
                      <a:pt x="23" y="10"/>
                    </a:lnTo>
                    <a:lnTo>
                      <a:pt x="20" y="16"/>
                    </a:lnTo>
                    <a:lnTo>
                      <a:pt x="14"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4" name=""/>
              <p:cNvSpPr/>
              <p:nvPr/>
            </p:nvSpPr>
            <p:spPr>
              <a:xfrm>
                <a:off x="8272440" y="3222720"/>
                <a:ext cx="14400" cy="9360"/>
              </a:xfrm>
              <a:custGeom>
                <a:avLst/>
                <a:gdLst/>
                <a:ahLst/>
                <a:rect l="l" t="t" r="r" b="b"/>
                <a:pathLst>
                  <a:path w="26" h="18">
                    <a:moveTo>
                      <a:pt x="7" y="18"/>
                    </a:moveTo>
                    <a:lnTo>
                      <a:pt x="0" y="8"/>
                    </a:lnTo>
                    <a:lnTo>
                      <a:pt x="4" y="2"/>
                    </a:lnTo>
                    <a:lnTo>
                      <a:pt x="11" y="0"/>
                    </a:lnTo>
                    <a:lnTo>
                      <a:pt x="20" y="3"/>
                    </a:lnTo>
                    <a:lnTo>
                      <a:pt x="26" y="8"/>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55" name=""/>
              <p:cNvSpPr/>
              <p:nvPr/>
            </p:nvSpPr>
            <p:spPr>
              <a:xfrm>
                <a:off x="7080120" y="3230640"/>
                <a:ext cx="11160" cy="12600"/>
              </a:xfrm>
              <a:custGeom>
                <a:avLst/>
                <a:gdLst/>
                <a:ahLst/>
                <a:rect l="l" t="t" r="r" b="b"/>
                <a:pathLst>
                  <a:path w="19" h="24">
                    <a:moveTo>
                      <a:pt x="3" y="24"/>
                    </a:moveTo>
                    <a:lnTo>
                      <a:pt x="0" y="17"/>
                    </a:lnTo>
                    <a:lnTo>
                      <a:pt x="2" y="10"/>
                    </a:lnTo>
                    <a:lnTo>
                      <a:pt x="8" y="3"/>
                    </a:lnTo>
                    <a:lnTo>
                      <a:pt x="13" y="0"/>
                    </a:lnTo>
                    <a:lnTo>
                      <a:pt x="19" y="4"/>
                    </a:lnTo>
                    <a:lnTo>
                      <a:pt x="19" y="13"/>
                    </a:lnTo>
                    <a:lnTo>
                      <a:pt x="13" y="21"/>
                    </a:lnTo>
                    <a:lnTo>
                      <a:pt x="3"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56" name=""/>
              <p:cNvSpPr/>
              <p:nvPr/>
            </p:nvSpPr>
            <p:spPr>
              <a:xfrm>
                <a:off x="7026120" y="3205080"/>
                <a:ext cx="12960" cy="12600"/>
              </a:xfrm>
              <a:custGeom>
                <a:avLst/>
                <a:gdLst/>
                <a:ahLst/>
                <a:rect l="l" t="t" r="r" b="b"/>
                <a:pathLst>
                  <a:path w="26" h="24">
                    <a:moveTo>
                      <a:pt x="5" y="24"/>
                    </a:moveTo>
                    <a:lnTo>
                      <a:pt x="0" y="2"/>
                    </a:lnTo>
                    <a:lnTo>
                      <a:pt x="9" y="0"/>
                    </a:lnTo>
                    <a:lnTo>
                      <a:pt x="16" y="1"/>
                    </a:lnTo>
                    <a:lnTo>
                      <a:pt x="22" y="5"/>
                    </a:lnTo>
                    <a:lnTo>
                      <a:pt x="26" y="14"/>
                    </a:lnTo>
                    <a:lnTo>
                      <a:pt x="5"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57" name=""/>
              <p:cNvSpPr/>
              <p:nvPr/>
            </p:nvSpPr>
            <p:spPr>
              <a:xfrm>
                <a:off x="8194680" y="3184560"/>
                <a:ext cx="9360" cy="11160"/>
              </a:xfrm>
              <a:custGeom>
                <a:avLst/>
                <a:gdLst/>
                <a:ahLst/>
                <a:rect l="l" t="t" r="r" b="b"/>
                <a:pathLst>
                  <a:path w="19" h="22">
                    <a:moveTo>
                      <a:pt x="9" y="22"/>
                    </a:moveTo>
                    <a:lnTo>
                      <a:pt x="0" y="15"/>
                    </a:lnTo>
                    <a:lnTo>
                      <a:pt x="15" y="0"/>
                    </a:lnTo>
                    <a:lnTo>
                      <a:pt x="19" y="4"/>
                    </a:lnTo>
                    <a:lnTo>
                      <a:pt x="19" y="13"/>
                    </a:lnTo>
                    <a:lnTo>
                      <a:pt x="16" y="20"/>
                    </a:lnTo>
                    <a:lnTo>
                      <a:pt x="9"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8" name=""/>
              <p:cNvSpPr/>
              <p:nvPr/>
            </p:nvSpPr>
            <p:spPr>
              <a:xfrm>
                <a:off x="8069040" y="3176640"/>
                <a:ext cx="9720" cy="12600"/>
              </a:xfrm>
              <a:custGeom>
                <a:avLst/>
                <a:gdLst/>
                <a:ahLst/>
                <a:rect l="l" t="t" r="r" b="b"/>
                <a:pathLst>
                  <a:path w="19" h="23">
                    <a:moveTo>
                      <a:pt x="2" y="23"/>
                    </a:moveTo>
                    <a:lnTo>
                      <a:pt x="0" y="17"/>
                    </a:lnTo>
                    <a:lnTo>
                      <a:pt x="2" y="10"/>
                    </a:lnTo>
                    <a:lnTo>
                      <a:pt x="6" y="2"/>
                    </a:lnTo>
                    <a:lnTo>
                      <a:pt x="15" y="0"/>
                    </a:lnTo>
                    <a:lnTo>
                      <a:pt x="19" y="4"/>
                    </a:lnTo>
                    <a:lnTo>
                      <a:pt x="18" y="13"/>
                    </a:lnTo>
                    <a:lnTo>
                      <a:pt x="12" y="21"/>
                    </a:lnTo>
                    <a:lnTo>
                      <a:pt x="2"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59" name=""/>
              <p:cNvSpPr/>
              <p:nvPr/>
            </p:nvSpPr>
            <p:spPr>
              <a:xfrm>
                <a:off x="8420040" y="3166920"/>
                <a:ext cx="9360" cy="14400"/>
              </a:xfrm>
              <a:custGeom>
                <a:avLst/>
                <a:gdLst/>
                <a:ahLst/>
                <a:rect l="l" t="t" r="r" b="b"/>
                <a:pathLst>
                  <a:path w="17" h="27">
                    <a:moveTo>
                      <a:pt x="4" y="27"/>
                    </a:moveTo>
                    <a:lnTo>
                      <a:pt x="1" y="21"/>
                    </a:lnTo>
                    <a:lnTo>
                      <a:pt x="0" y="14"/>
                    </a:lnTo>
                    <a:lnTo>
                      <a:pt x="1" y="7"/>
                    </a:lnTo>
                    <a:lnTo>
                      <a:pt x="7" y="0"/>
                    </a:lnTo>
                    <a:lnTo>
                      <a:pt x="14" y="3"/>
                    </a:lnTo>
                    <a:lnTo>
                      <a:pt x="17" y="10"/>
                    </a:lnTo>
                    <a:lnTo>
                      <a:pt x="17" y="19"/>
                    </a:lnTo>
                    <a:lnTo>
                      <a:pt x="14" y="27"/>
                    </a:lnTo>
                    <a:lnTo>
                      <a:pt x="4" y="2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60" name=""/>
              <p:cNvSpPr/>
              <p:nvPr/>
            </p:nvSpPr>
            <p:spPr>
              <a:xfrm>
                <a:off x="7128000" y="3173400"/>
                <a:ext cx="10800" cy="14400"/>
              </a:xfrm>
              <a:custGeom>
                <a:avLst/>
                <a:gdLst/>
                <a:ahLst/>
                <a:rect l="l" t="t" r="r" b="b"/>
                <a:pathLst>
                  <a:path w="21" h="25">
                    <a:moveTo>
                      <a:pt x="7" y="25"/>
                    </a:moveTo>
                    <a:lnTo>
                      <a:pt x="0" y="0"/>
                    </a:lnTo>
                    <a:lnTo>
                      <a:pt x="17" y="0"/>
                    </a:lnTo>
                    <a:lnTo>
                      <a:pt x="21" y="3"/>
                    </a:lnTo>
                    <a:lnTo>
                      <a:pt x="21" y="12"/>
                    </a:lnTo>
                    <a:lnTo>
                      <a:pt x="15" y="22"/>
                    </a:lnTo>
                    <a:lnTo>
                      <a:pt x="7"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61" name=""/>
              <p:cNvSpPr/>
              <p:nvPr/>
            </p:nvSpPr>
            <p:spPr>
              <a:xfrm>
                <a:off x="8129520" y="3162240"/>
                <a:ext cx="12600" cy="9360"/>
              </a:xfrm>
              <a:custGeom>
                <a:avLst/>
                <a:gdLst/>
                <a:ahLst/>
                <a:rect l="l" t="t" r="r" b="b"/>
                <a:pathLst>
                  <a:path w="25" h="20">
                    <a:moveTo>
                      <a:pt x="9" y="20"/>
                    </a:moveTo>
                    <a:lnTo>
                      <a:pt x="0" y="9"/>
                    </a:lnTo>
                    <a:lnTo>
                      <a:pt x="3" y="3"/>
                    </a:lnTo>
                    <a:lnTo>
                      <a:pt x="12" y="0"/>
                    </a:lnTo>
                    <a:lnTo>
                      <a:pt x="21" y="2"/>
                    </a:lnTo>
                    <a:lnTo>
                      <a:pt x="25" y="6"/>
                    </a:lnTo>
                    <a:lnTo>
                      <a:pt x="9"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62" name=""/>
              <p:cNvSpPr/>
              <p:nvPr/>
            </p:nvSpPr>
            <p:spPr>
              <a:xfrm>
                <a:off x="8364600" y="3159000"/>
                <a:ext cx="11160" cy="7920"/>
              </a:xfrm>
              <a:custGeom>
                <a:avLst/>
                <a:gdLst/>
                <a:ahLst/>
                <a:rect l="l" t="t" r="r" b="b"/>
                <a:pathLst>
                  <a:path w="19" h="16">
                    <a:moveTo>
                      <a:pt x="3" y="16"/>
                    </a:moveTo>
                    <a:lnTo>
                      <a:pt x="0" y="8"/>
                    </a:lnTo>
                    <a:lnTo>
                      <a:pt x="4" y="2"/>
                    </a:lnTo>
                    <a:lnTo>
                      <a:pt x="11" y="0"/>
                    </a:lnTo>
                    <a:lnTo>
                      <a:pt x="19" y="9"/>
                    </a:lnTo>
                    <a:lnTo>
                      <a:pt x="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3" name=""/>
              <p:cNvSpPr/>
              <p:nvPr/>
            </p:nvSpPr>
            <p:spPr>
              <a:xfrm>
                <a:off x="7954920" y="3154320"/>
                <a:ext cx="15840" cy="12600"/>
              </a:xfrm>
              <a:custGeom>
                <a:avLst/>
                <a:gdLst/>
                <a:ahLst/>
                <a:rect l="l" t="t" r="r" b="b"/>
                <a:pathLst>
                  <a:path w="29" h="22">
                    <a:moveTo>
                      <a:pt x="14" y="22"/>
                    </a:moveTo>
                    <a:lnTo>
                      <a:pt x="0" y="9"/>
                    </a:lnTo>
                    <a:lnTo>
                      <a:pt x="7" y="2"/>
                    </a:lnTo>
                    <a:lnTo>
                      <a:pt x="17" y="0"/>
                    </a:lnTo>
                    <a:lnTo>
                      <a:pt x="24" y="2"/>
                    </a:lnTo>
                    <a:lnTo>
                      <a:pt x="29" y="9"/>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4" name=""/>
              <p:cNvSpPr/>
              <p:nvPr/>
            </p:nvSpPr>
            <p:spPr>
              <a:xfrm>
                <a:off x="8015400" y="3144960"/>
                <a:ext cx="10800" cy="10800"/>
              </a:xfrm>
              <a:custGeom>
                <a:avLst/>
                <a:gdLst/>
                <a:ahLst/>
                <a:rect l="l" t="t" r="r" b="b"/>
                <a:pathLst>
                  <a:path w="22" h="22">
                    <a:moveTo>
                      <a:pt x="6" y="22"/>
                    </a:moveTo>
                    <a:lnTo>
                      <a:pt x="0" y="0"/>
                    </a:lnTo>
                    <a:lnTo>
                      <a:pt x="22" y="3"/>
                    </a:lnTo>
                    <a:lnTo>
                      <a:pt x="6"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65" name=""/>
              <p:cNvSpPr/>
              <p:nvPr/>
            </p:nvSpPr>
            <p:spPr>
              <a:xfrm>
                <a:off x="8286840" y="3136680"/>
                <a:ext cx="10800" cy="12960"/>
              </a:xfrm>
              <a:custGeom>
                <a:avLst/>
                <a:gdLst/>
                <a:ahLst/>
                <a:rect l="l" t="t" r="r" b="b"/>
                <a:pathLst>
                  <a:path w="22" h="25">
                    <a:moveTo>
                      <a:pt x="9" y="25"/>
                    </a:moveTo>
                    <a:lnTo>
                      <a:pt x="0" y="18"/>
                    </a:lnTo>
                    <a:lnTo>
                      <a:pt x="2" y="11"/>
                    </a:lnTo>
                    <a:lnTo>
                      <a:pt x="6" y="5"/>
                    </a:lnTo>
                    <a:lnTo>
                      <a:pt x="12" y="0"/>
                    </a:lnTo>
                    <a:lnTo>
                      <a:pt x="21" y="0"/>
                    </a:lnTo>
                    <a:lnTo>
                      <a:pt x="22" y="8"/>
                    </a:lnTo>
                    <a:lnTo>
                      <a:pt x="21" y="13"/>
                    </a:lnTo>
                    <a:lnTo>
                      <a:pt x="16" y="19"/>
                    </a:lnTo>
                    <a:lnTo>
                      <a:pt x="9"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66" name=""/>
              <p:cNvSpPr/>
              <p:nvPr/>
            </p:nvSpPr>
            <p:spPr>
              <a:xfrm>
                <a:off x="7021440" y="3135240"/>
                <a:ext cx="9720" cy="12600"/>
              </a:xfrm>
              <a:custGeom>
                <a:avLst/>
                <a:gdLst/>
                <a:ahLst/>
                <a:rect l="l" t="t" r="r" b="b"/>
                <a:pathLst>
                  <a:path w="17" h="23">
                    <a:moveTo>
                      <a:pt x="0" y="23"/>
                    </a:moveTo>
                    <a:lnTo>
                      <a:pt x="0" y="1"/>
                    </a:lnTo>
                    <a:lnTo>
                      <a:pt x="17" y="0"/>
                    </a:lnTo>
                    <a:lnTo>
                      <a:pt x="17" y="9"/>
                    </a:lnTo>
                    <a:lnTo>
                      <a:pt x="16" y="16"/>
                    </a:lnTo>
                    <a:lnTo>
                      <a:pt x="10" y="22"/>
                    </a:lnTo>
                    <a:lnTo>
                      <a:pt x="0"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7" name=""/>
              <p:cNvSpPr/>
              <p:nvPr/>
            </p:nvSpPr>
            <p:spPr>
              <a:xfrm>
                <a:off x="7850160" y="3119400"/>
                <a:ext cx="14400" cy="12600"/>
              </a:xfrm>
              <a:custGeom>
                <a:avLst/>
                <a:gdLst/>
                <a:ahLst/>
                <a:rect l="l" t="t" r="r" b="b"/>
                <a:pathLst>
                  <a:path w="25" h="25">
                    <a:moveTo>
                      <a:pt x="7" y="25"/>
                    </a:moveTo>
                    <a:lnTo>
                      <a:pt x="0" y="18"/>
                    </a:lnTo>
                    <a:lnTo>
                      <a:pt x="0" y="7"/>
                    </a:lnTo>
                    <a:lnTo>
                      <a:pt x="3" y="2"/>
                    </a:lnTo>
                    <a:lnTo>
                      <a:pt x="12" y="0"/>
                    </a:lnTo>
                    <a:lnTo>
                      <a:pt x="20" y="3"/>
                    </a:lnTo>
                    <a:lnTo>
                      <a:pt x="25" y="7"/>
                    </a:lnTo>
                    <a:lnTo>
                      <a:pt x="7"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8" name=""/>
              <p:cNvSpPr/>
              <p:nvPr/>
            </p:nvSpPr>
            <p:spPr>
              <a:xfrm>
                <a:off x="7086600" y="3127320"/>
                <a:ext cx="11160" cy="14400"/>
              </a:xfrm>
              <a:custGeom>
                <a:avLst/>
                <a:gdLst/>
                <a:ahLst/>
                <a:rect l="l" t="t" r="r" b="b"/>
                <a:pathLst>
                  <a:path w="21" h="26">
                    <a:moveTo>
                      <a:pt x="15" y="26"/>
                    </a:moveTo>
                    <a:lnTo>
                      <a:pt x="0" y="9"/>
                    </a:lnTo>
                    <a:lnTo>
                      <a:pt x="17" y="0"/>
                    </a:lnTo>
                    <a:lnTo>
                      <a:pt x="20" y="3"/>
                    </a:lnTo>
                    <a:lnTo>
                      <a:pt x="21" y="10"/>
                    </a:lnTo>
                    <a:lnTo>
                      <a:pt x="20" y="19"/>
                    </a:lnTo>
                    <a:lnTo>
                      <a:pt x="15"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69" name=""/>
              <p:cNvSpPr/>
              <p:nvPr/>
            </p:nvSpPr>
            <p:spPr>
              <a:xfrm>
                <a:off x="8218440" y="3116160"/>
                <a:ext cx="12600" cy="7920"/>
              </a:xfrm>
              <a:custGeom>
                <a:avLst/>
                <a:gdLst/>
                <a:ahLst/>
                <a:rect l="l" t="t" r="r" b="b"/>
                <a:pathLst>
                  <a:path w="24" h="16">
                    <a:moveTo>
                      <a:pt x="7" y="16"/>
                    </a:moveTo>
                    <a:lnTo>
                      <a:pt x="0" y="6"/>
                    </a:lnTo>
                    <a:lnTo>
                      <a:pt x="4" y="0"/>
                    </a:lnTo>
                    <a:lnTo>
                      <a:pt x="11" y="0"/>
                    </a:lnTo>
                    <a:lnTo>
                      <a:pt x="20" y="2"/>
                    </a:lnTo>
                    <a:lnTo>
                      <a:pt x="24" y="6"/>
                    </a:lnTo>
                    <a:lnTo>
                      <a:pt x="7"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0" name=""/>
              <p:cNvSpPr/>
              <p:nvPr/>
            </p:nvSpPr>
            <p:spPr>
              <a:xfrm>
                <a:off x="7459560" y="3035160"/>
                <a:ext cx="68400" cy="95400"/>
              </a:xfrm>
              <a:custGeom>
                <a:avLst/>
                <a:gdLst/>
                <a:ahLst/>
                <a:rect l="l" t="t" r="r" b="b"/>
                <a:pathLst>
                  <a:path w="131" h="182">
                    <a:moveTo>
                      <a:pt x="20" y="182"/>
                    </a:moveTo>
                    <a:lnTo>
                      <a:pt x="0" y="174"/>
                    </a:lnTo>
                    <a:lnTo>
                      <a:pt x="10" y="166"/>
                    </a:lnTo>
                    <a:lnTo>
                      <a:pt x="21" y="159"/>
                    </a:lnTo>
                    <a:lnTo>
                      <a:pt x="34" y="155"/>
                    </a:lnTo>
                    <a:lnTo>
                      <a:pt x="47" y="151"/>
                    </a:lnTo>
                    <a:lnTo>
                      <a:pt x="60" y="148"/>
                    </a:lnTo>
                    <a:lnTo>
                      <a:pt x="75" y="145"/>
                    </a:lnTo>
                    <a:lnTo>
                      <a:pt x="89" y="140"/>
                    </a:lnTo>
                    <a:lnTo>
                      <a:pt x="104" y="138"/>
                    </a:lnTo>
                    <a:lnTo>
                      <a:pt x="101" y="106"/>
                    </a:lnTo>
                    <a:lnTo>
                      <a:pt x="95" y="75"/>
                    </a:lnTo>
                    <a:lnTo>
                      <a:pt x="88" y="44"/>
                    </a:lnTo>
                    <a:lnTo>
                      <a:pt x="85" y="12"/>
                    </a:lnTo>
                    <a:lnTo>
                      <a:pt x="101" y="0"/>
                    </a:lnTo>
                    <a:lnTo>
                      <a:pt x="108" y="35"/>
                    </a:lnTo>
                    <a:lnTo>
                      <a:pt x="115" y="75"/>
                    </a:lnTo>
                    <a:lnTo>
                      <a:pt x="124" y="116"/>
                    </a:lnTo>
                    <a:lnTo>
                      <a:pt x="131" y="156"/>
                    </a:lnTo>
                    <a:lnTo>
                      <a:pt x="124" y="158"/>
                    </a:lnTo>
                    <a:lnTo>
                      <a:pt x="115" y="158"/>
                    </a:lnTo>
                    <a:lnTo>
                      <a:pt x="108" y="159"/>
                    </a:lnTo>
                    <a:lnTo>
                      <a:pt x="101" y="159"/>
                    </a:lnTo>
                    <a:lnTo>
                      <a:pt x="94" y="159"/>
                    </a:lnTo>
                    <a:lnTo>
                      <a:pt x="85" y="161"/>
                    </a:lnTo>
                    <a:lnTo>
                      <a:pt x="78" y="164"/>
                    </a:lnTo>
                    <a:lnTo>
                      <a:pt x="69" y="166"/>
                    </a:lnTo>
                    <a:lnTo>
                      <a:pt x="63" y="168"/>
                    </a:lnTo>
                    <a:lnTo>
                      <a:pt x="58" y="168"/>
                    </a:lnTo>
                    <a:lnTo>
                      <a:pt x="52" y="171"/>
                    </a:lnTo>
                    <a:lnTo>
                      <a:pt x="46" y="172"/>
                    </a:lnTo>
                    <a:lnTo>
                      <a:pt x="40" y="175"/>
                    </a:lnTo>
                    <a:lnTo>
                      <a:pt x="34" y="177"/>
                    </a:lnTo>
                    <a:lnTo>
                      <a:pt x="27" y="179"/>
                    </a:lnTo>
                    <a:lnTo>
                      <a:pt x="2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8078760" y="3111480"/>
                <a:ext cx="7920" cy="11160"/>
              </a:xfrm>
              <a:custGeom>
                <a:avLst/>
                <a:gdLst/>
                <a:ahLst/>
                <a:rect l="l" t="t" r="r" b="b"/>
                <a:pathLst>
                  <a:path w="14" h="21">
                    <a:moveTo>
                      <a:pt x="0" y="21"/>
                    </a:moveTo>
                    <a:lnTo>
                      <a:pt x="3" y="0"/>
                    </a:lnTo>
                    <a:lnTo>
                      <a:pt x="14" y="6"/>
                    </a:lnTo>
                    <a:lnTo>
                      <a:pt x="14" y="11"/>
                    </a:lnTo>
                    <a:lnTo>
                      <a:pt x="12" y="16"/>
                    </a:lnTo>
                    <a:lnTo>
                      <a:pt x="7" y="20"/>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2" name=""/>
              <p:cNvSpPr/>
              <p:nvPr/>
            </p:nvSpPr>
            <p:spPr>
              <a:xfrm>
                <a:off x="7130880" y="2968560"/>
                <a:ext cx="216000" cy="152280"/>
              </a:xfrm>
              <a:custGeom>
                <a:avLst/>
                <a:gdLst/>
                <a:ahLst/>
                <a:rect l="l" t="t" r="r" b="b"/>
                <a:pathLst>
                  <a:path w="410" h="286">
                    <a:moveTo>
                      <a:pt x="326" y="286"/>
                    </a:moveTo>
                    <a:lnTo>
                      <a:pt x="319" y="282"/>
                    </a:lnTo>
                    <a:lnTo>
                      <a:pt x="311" y="282"/>
                    </a:lnTo>
                    <a:lnTo>
                      <a:pt x="304" y="280"/>
                    </a:lnTo>
                    <a:lnTo>
                      <a:pt x="294" y="277"/>
                    </a:lnTo>
                    <a:lnTo>
                      <a:pt x="292" y="254"/>
                    </a:lnTo>
                    <a:lnTo>
                      <a:pt x="282" y="253"/>
                    </a:lnTo>
                    <a:lnTo>
                      <a:pt x="275" y="257"/>
                    </a:lnTo>
                    <a:lnTo>
                      <a:pt x="269" y="263"/>
                    </a:lnTo>
                    <a:lnTo>
                      <a:pt x="258" y="262"/>
                    </a:lnTo>
                    <a:lnTo>
                      <a:pt x="259" y="253"/>
                    </a:lnTo>
                    <a:lnTo>
                      <a:pt x="265" y="244"/>
                    </a:lnTo>
                    <a:lnTo>
                      <a:pt x="269" y="237"/>
                    </a:lnTo>
                    <a:lnTo>
                      <a:pt x="275" y="228"/>
                    </a:lnTo>
                    <a:lnTo>
                      <a:pt x="272" y="218"/>
                    </a:lnTo>
                    <a:lnTo>
                      <a:pt x="252" y="218"/>
                    </a:lnTo>
                    <a:lnTo>
                      <a:pt x="238" y="238"/>
                    </a:lnTo>
                    <a:lnTo>
                      <a:pt x="229" y="233"/>
                    </a:lnTo>
                    <a:lnTo>
                      <a:pt x="235" y="223"/>
                    </a:lnTo>
                    <a:lnTo>
                      <a:pt x="239" y="211"/>
                    </a:lnTo>
                    <a:lnTo>
                      <a:pt x="245" y="201"/>
                    </a:lnTo>
                    <a:lnTo>
                      <a:pt x="251" y="191"/>
                    </a:lnTo>
                    <a:lnTo>
                      <a:pt x="245" y="182"/>
                    </a:lnTo>
                    <a:lnTo>
                      <a:pt x="238" y="181"/>
                    </a:lnTo>
                    <a:lnTo>
                      <a:pt x="227" y="185"/>
                    </a:lnTo>
                    <a:lnTo>
                      <a:pt x="222" y="195"/>
                    </a:lnTo>
                    <a:lnTo>
                      <a:pt x="216" y="207"/>
                    </a:lnTo>
                    <a:lnTo>
                      <a:pt x="206" y="217"/>
                    </a:lnTo>
                    <a:lnTo>
                      <a:pt x="206" y="205"/>
                    </a:lnTo>
                    <a:lnTo>
                      <a:pt x="210" y="195"/>
                    </a:lnTo>
                    <a:lnTo>
                      <a:pt x="214" y="186"/>
                    </a:lnTo>
                    <a:lnTo>
                      <a:pt x="220" y="175"/>
                    </a:lnTo>
                    <a:lnTo>
                      <a:pt x="216" y="153"/>
                    </a:lnTo>
                    <a:lnTo>
                      <a:pt x="204" y="158"/>
                    </a:lnTo>
                    <a:lnTo>
                      <a:pt x="201" y="165"/>
                    </a:lnTo>
                    <a:lnTo>
                      <a:pt x="197" y="172"/>
                    </a:lnTo>
                    <a:lnTo>
                      <a:pt x="191" y="178"/>
                    </a:lnTo>
                    <a:lnTo>
                      <a:pt x="184" y="186"/>
                    </a:lnTo>
                    <a:lnTo>
                      <a:pt x="172" y="192"/>
                    </a:lnTo>
                    <a:lnTo>
                      <a:pt x="174" y="184"/>
                    </a:lnTo>
                    <a:lnTo>
                      <a:pt x="177" y="172"/>
                    </a:lnTo>
                    <a:lnTo>
                      <a:pt x="181" y="160"/>
                    </a:lnTo>
                    <a:lnTo>
                      <a:pt x="185" y="149"/>
                    </a:lnTo>
                    <a:lnTo>
                      <a:pt x="164" y="146"/>
                    </a:lnTo>
                    <a:lnTo>
                      <a:pt x="162" y="155"/>
                    </a:lnTo>
                    <a:lnTo>
                      <a:pt x="159" y="160"/>
                    </a:lnTo>
                    <a:lnTo>
                      <a:pt x="154" y="168"/>
                    </a:lnTo>
                    <a:lnTo>
                      <a:pt x="148" y="175"/>
                    </a:lnTo>
                    <a:lnTo>
                      <a:pt x="142" y="168"/>
                    </a:lnTo>
                    <a:lnTo>
                      <a:pt x="144" y="156"/>
                    </a:lnTo>
                    <a:lnTo>
                      <a:pt x="148" y="146"/>
                    </a:lnTo>
                    <a:lnTo>
                      <a:pt x="149" y="136"/>
                    </a:lnTo>
                    <a:lnTo>
                      <a:pt x="148" y="124"/>
                    </a:lnTo>
                    <a:lnTo>
                      <a:pt x="138" y="124"/>
                    </a:lnTo>
                    <a:lnTo>
                      <a:pt x="128" y="132"/>
                    </a:lnTo>
                    <a:lnTo>
                      <a:pt x="125" y="137"/>
                    </a:lnTo>
                    <a:lnTo>
                      <a:pt x="120" y="146"/>
                    </a:lnTo>
                    <a:lnTo>
                      <a:pt x="119" y="156"/>
                    </a:lnTo>
                    <a:lnTo>
                      <a:pt x="118" y="166"/>
                    </a:lnTo>
                    <a:lnTo>
                      <a:pt x="112" y="158"/>
                    </a:lnTo>
                    <a:lnTo>
                      <a:pt x="112" y="146"/>
                    </a:lnTo>
                    <a:lnTo>
                      <a:pt x="112" y="132"/>
                    </a:lnTo>
                    <a:lnTo>
                      <a:pt x="110" y="117"/>
                    </a:lnTo>
                    <a:lnTo>
                      <a:pt x="89" y="124"/>
                    </a:lnTo>
                    <a:lnTo>
                      <a:pt x="90" y="130"/>
                    </a:lnTo>
                    <a:lnTo>
                      <a:pt x="87" y="137"/>
                    </a:lnTo>
                    <a:lnTo>
                      <a:pt x="86" y="145"/>
                    </a:lnTo>
                    <a:lnTo>
                      <a:pt x="87" y="153"/>
                    </a:lnTo>
                    <a:lnTo>
                      <a:pt x="80" y="153"/>
                    </a:lnTo>
                    <a:lnTo>
                      <a:pt x="78" y="146"/>
                    </a:lnTo>
                    <a:lnTo>
                      <a:pt x="77" y="137"/>
                    </a:lnTo>
                    <a:lnTo>
                      <a:pt x="73" y="130"/>
                    </a:lnTo>
                    <a:lnTo>
                      <a:pt x="68" y="124"/>
                    </a:lnTo>
                    <a:lnTo>
                      <a:pt x="57" y="126"/>
                    </a:lnTo>
                    <a:lnTo>
                      <a:pt x="55" y="134"/>
                    </a:lnTo>
                    <a:lnTo>
                      <a:pt x="54" y="146"/>
                    </a:lnTo>
                    <a:lnTo>
                      <a:pt x="54" y="156"/>
                    </a:lnTo>
                    <a:lnTo>
                      <a:pt x="55" y="168"/>
                    </a:lnTo>
                    <a:lnTo>
                      <a:pt x="51" y="179"/>
                    </a:lnTo>
                    <a:lnTo>
                      <a:pt x="44" y="188"/>
                    </a:lnTo>
                    <a:lnTo>
                      <a:pt x="37" y="198"/>
                    </a:lnTo>
                    <a:lnTo>
                      <a:pt x="32" y="211"/>
                    </a:lnTo>
                    <a:lnTo>
                      <a:pt x="29" y="218"/>
                    </a:lnTo>
                    <a:lnTo>
                      <a:pt x="31" y="227"/>
                    </a:lnTo>
                    <a:lnTo>
                      <a:pt x="31" y="236"/>
                    </a:lnTo>
                    <a:lnTo>
                      <a:pt x="31" y="246"/>
                    </a:lnTo>
                    <a:lnTo>
                      <a:pt x="26" y="236"/>
                    </a:lnTo>
                    <a:lnTo>
                      <a:pt x="22" y="224"/>
                    </a:lnTo>
                    <a:lnTo>
                      <a:pt x="18" y="214"/>
                    </a:lnTo>
                    <a:lnTo>
                      <a:pt x="12" y="204"/>
                    </a:lnTo>
                    <a:lnTo>
                      <a:pt x="0" y="185"/>
                    </a:lnTo>
                    <a:lnTo>
                      <a:pt x="2" y="162"/>
                    </a:lnTo>
                    <a:lnTo>
                      <a:pt x="5" y="139"/>
                    </a:lnTo>
                    <a:lnTo>
                      <a:pt x="9" y="114"/>
                    </a:lnTo>
                    <a:lnTo>
                      <a:pt x="13" y="91"/>
                    </a:lnTo>
                    <a:lnTo>
                      <a:pt x="21" y="67"/>
                    </a:lnTo>
                    <a:lnTo>
                      <a:pt x="28" y="45"/>
                    </a:lnTo>
                    <a:lnTo>
                      <a:pt x="37" y="22"/>
                    </a:lnTo>
                    <a:lnTo>
                      <a:pt x="48" y="1"/>
                    </a:lnTo>
                    <a:lnTo>
                      <a:pt x="74" y="0"/>
                    </a:lnTo>
                    <a:lnTo>
                      <a:pt x="100" y="0"/>
                    </a:lnTo>
                    <a:lnTo>
                      <a:pt x="129" y="3"/>
                    </a:lnTo>
                    <a:lnTo>
                      <a:pt x="157" y="7"/>
                    </a:lnTo>
                    <a:lnTo>
                      <a:pt x="184" y="14"/>
                    </a:lnTo>
                    <a:lnTo>
                      <a:pt x="210" y="22"/>
                    </a:lnTo>
                    <a:lnTo>
                      <a:pt x="236" y="30"/>
                    </a:lnTo>
                    <a:lnTo>
                      <a:pt x="259" y="40"/>
                    </a:lnTo>
                    <a:lnTo>
                      <a:pt x="275" y="61"/>
                    </a:lnTo>
                    <a:lnTo>
                      <a:pt x="292" y="81"/>
                    </a:lnTo>
                    <a:lnTo>
                      <a:pt x="311" y="101"/>
                    </a:lnTo>
                    <a:lnTo>
                      <a:pt x="330" y="121"/>
                    </a:lnTo>
                    <a:lnTo>
                      <a:pt x="349" y="142"/>
                    </a:lnTo>
                    <a:lnTo>
                      <a:pt x="368" y="163"/>
                    </a:lnTo>
                    <a:lnTo>
                      <a:pt x="385" y="184"/>
                    </a:lnTo>
                    <a:lnTo>
                      <a:pt x="402" y="205"/>
                    </a:lnTo>
                    <a:lnTo>
                      <a:pt x="410" y="225"/>
                    </a:lnTo>
                    <a:lnTo>
                      <a:pt x="410" y="237"/>
                    </a:lnTo>
                    <a:lnTo>
                      <a:pt x="395" y="257"/>
                    </a:lnTo>
                    <a:lnTo>
                      <a:pt x="388" y="262"/>
                    </a:lnTo>
                    <a:lnTo>
                      <a:pt x="381" y="266"/>
                    </a:lnTo>
                    <a:lnTo>
                      <a:pt x="372" y="270"/>
                    </a:lnTo>
                    <a:lnTo>
                      <a:pt x="363" y="273"/>
                    </a:lnTo>
                    <a:lnTo>
                      <a:pt x="355" y="276"/>
                    </a:lnTo>
                    <a:lnTo>
                      <a:pt x="345" y="279"/>
                    </a:lnTo>
                    <a:lnTo>
                      <a:pt x="336" y="283"/>
                    </a:lnTo>
                    <a:lnTo>
                      <a:pt x="326" y="286"/>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8386560" y="3087720"/>
                <a:ext cx="11160" cy="12600"/>
              </a:xfrm>
              <a:custGeom>
                <a:avLst/>
                <a:gdLst/>
                <a:ahLst/>
                <a:rect l="l" t="t" r="r" b="b"/>
                <a:pathLst>
                  <a:path w="19" h="25">
                    <a:moveTo>
                      <a:pt x="13" y="25"/>
                    </a:moveTo>
                    <a:lnTo>
                      <a:pt x="0" y="17"/>
                    </a:lnTo>
                    <a:lnTo>
                      <a:pt x="0" y="10"/>
                    </a:lnTo>
                    <a:lnTo>
                      <a:pt x="3" y="3"/>
                    </a:lnTo>
                    <a:lnTo>
                      <a:pt x="8" y="0"/>
                    </a:lnTo>
                    <a:lnTo>
                      <a:pt x="19" y="1"/>
                    </a:lnTo>
                    <a:lnTo>
                      <a:pt x="1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74" name=""/>
              <p:cNvSpPr/>
              <p:nvPr/>
            </p:nvSpPr>
            <p:spPr>
              <a:xfrm>
                <a:off x="7915320" y="3085920"/>
                <a:ext cx="12600" cy="12960"/>
              </a:xfrm>
              <a:custGeom>
                <a:avLst/>
                <a:gdLst/>
                <a:ahLst/>
                <a:rect l="l" t="t" r="r" b="b"/>
                <a:pathLst>
                  <a:path w="22" h="23">
                    <a:moveTo>
                      <a:pt x="16" y="23"/>
                    </a:moveTo>
                    <a:lnTo>
                      <a:pt x="0" y="4"/>
                    </a:lnTo>
                    <a:lnTo>
                      <a:pt x="22" y="0"/>
                    </a:lnTo>
                    <a:lnTo>
                      <a:pt x="16"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75" name=""/>
              <p:cNvSpPr/>
              <p:nvPr/>
            </p:nvSpPr>
            <p:spPr>
              <a:xfrm>
                <a:off x="7765920" y="3065400"/>
                <a:ext cx="14400" cy="15840"/>
              </a:xfrm>
              <a:custGeom>
                <a:avLst/>
                <a:gdLst/>
                <a:ahLst/>
                <a:rect l="l" t="t" r="r" b="b"/>
                <a:pathLst>
                  <a:path w="25" h="30">
                    <a:moveTo>
                      <a:pt x="10" y="30"/>
                    </a:moveTo>
                    <a:lnTo>
                      <a:pt x="0" y="23"/>
                    </a:lnTo>
                    <a:lnTo>
                      <a:pt x="0" y="16"/>
                    </a:lnTo>
                    <a:lnTo>
                      <a:pt x="1" y="8"/>
                    </a:lnTo>
                    <a:lnTo>
                      <a:pt x="6" y="3"/>
                    </a:lnTo>
                    <a:lnTo>
                      <a:pt x="16" y="0"/>
                    </a:lnTo>
                    <a:lnTo>
                      <a:pt x="23" y="7"/>
                    </a:lnTo>
                    <a:lnTo>
                      <a:pt x="25" y="14"/>
                    </a:lnTo>
                    <a:lnTo>
                      <a:pt x="22" y="18"/>
                    </a:lnTo>
                    <a:lnTo>
                      <a:pt x="16" y="24"/>
                    </a:lnTo>
                    <a:lnTo>
                      <a:pt x="1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76" name=""/>
              <p:cNvSpPr/>
              <p:nvPr/>
            </p:nvSpPr>
            <p:spPr>
              <a:xfrm>
                <a:off x="7997760" y="3060720"/>
                <a:ext cx="7920" cy="9360"/>
              </a:xfrm>
              <a:custGeom>
                <a:avLst/>
                <a:gdLst/>
                <a:ahLst/>
                <a:rect l="l" t="t" r="r" b="b"/>
                <a:pathLst>
                  <a:path w="15" h="20">
                    <a:moveTo>
                      <a:pt x="2" y="20"/>
                    </a:moveTo>
                    <a:lnTo>
                      <a:pt x="0" y="0"/>
                    </a:lnTo>
                    <a:lnTo>
                      <a:pt x="12" y="0"/>
                    </a:lnTo>
                    <a:lnTo>
                      <a:pt x="15" y="4"/>
                    </a:lnTo>
                    <a:lnTo>
                      <a:pt x="13" y="13"/>
                    </a:lnTo>
                    <a:lnTo>
                      <a:pt x="9" y="20"/>
                    </a:lnTo>
                    <a:lnTo>
                      <a:pt x="2"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7" name=""/>
              <p:cNvSpPr/>
              <p:nvPr/>
            </p:nvSpPr>
            <p:spPr>
              <a:xfrm>
                <a:off x="8288280" y="3046320"/>
                <a:ext cx="9360" cy="14400"/>
              </a:xfrm>
              <a:custGeom>
                <a:avLst/>
                <a:gdLst/>
                <a:ahLst/>
                <a:rect l="l" t="t" r="r" b="b"/>
                <a:pathLst>
                  <a:path w="19" h="25">
                    <a:moveTo>
                      <a:pt x="3" y="25"/>
                    </a:moveTo>
                    <a:lnTo>
                      <a:pt x="0" y="19"/>
                    </a:lnTo>
                    <a:lnTo>
                      <a:pt x="1" y="11"/>
                    </a:lnTo>
                    <a:lnTo>
                      <a:pt x="7" y="5"/>
                    </a:lnTo>
                    <a:lnTo>
                      <a:pt x="13" y="0"/>
                    </a:lnTo>
                    <a:lnTo>
                      <a:pt x="19" y="6"/>
                    </a:lnTo>
                    <a:lnTo>
                      <a:pt x="17" y="15"/>
                    </a:lnTo>
                    <a:lnTo>
                      <a:pt x="10" y="22"/>
                    </a:lnTo>
                    <a:lnTo>
                      <a:pt x="3"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78" name=""/>
              <p:cNvSpPr/>
              <p:nvPr/>
            </p:nvSpPr>
            <p:spPr>
              <a:xfrm>
                <a:off x="8140680" y="3044880"/>
                <a:ext cx="9360" cy="12600"/>
              </a:xfrm>
              <a:custGeom>
                <a:avLst/>
                <a:gdLst/>
                <a:ahLst/>
                <a:rect l="l" t="t" r="r" b="b"/>
                <a:pathLst>
                  <a:path w="19" h="23">
                    <a:moveTo>
                      <a:pt x="0" y="20"/>
                    </a:moveTo>
                    <a:lnTo>
                      <a:pt x="2" y="13"/>
                    </a:lnTo>
                    <a:lnTo>
                      <a:pt x="3" y="6"/>
                    </a:lnTo>
                    <a:lnTo>
                      <a:pt x="9" y="0"/>
                    </a:lnTo>
                    <a:lnTo>
                      <a:pt x="19" y="0"/>
                    </a:lnTo>
                    <a:lnTo>
                      <a:pt x="19" y="9"/>
                    </a:lnTo>
                    <a:lnTo>
                      <a:pt x="16" y="17"/>
                    </a:lnTo>
                    <a:lnTo>
                      <a:pt x="10" y="23"/>
                    </a:lnTo>
                    <a:lnTo>
                      <a:pt x="0"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79" name=""/>
              <p:cNvSpPr/>
              <p:nvPr/>
            </p:nvSpPr>
            <p:spPr>
              <a:xfrm>
                <a:off x="7192800" y="2905200"/>
                <a:ext cx="204840" cy="160200"/>
              </a:xfrm>
              <a:custGeom>
                <a:avLst/>
                <a:gdLst/>
                <a:ahLst/>
                <a:rect l="l" t="t" r="r" b="b"/>
                <a:pathLst>
                  <a:path w="386" h="301">
                    <a:moveTo>
                      <a:pt x="309" y="301"/>
                    </a:moveTo>
                    <a:lnTo>
                      <a:pt x="311" y="293"/>
                    </a:lnTo>
                    <a:lnTo>
                      <a:pt x="312" y="286"/>
                    </a:lnTo>
                    <a:lnTo>
                      <a:pt x="315" y="279"/>
                    </a:lnTo>
                    <a:lnTo>
                      <a:pt x="318" y="269"/>
                    </a:lnTo>
                    <a:lnTo>
                      <a:pt x="311" y="263"/>
                    </a:lnTo>
                    <a:lnTo>
                      <a:pt x="304" y="265"/>
                    </a:lnTo>
                    <a:lnTo>
                      <a:pt x="298" y="270"/>
                    </a:lnTo>
                    <a:lnTo>
                      <a:pt x="291" y="276"/>
                    </a:lnTo>
                    <a:lnTo>
                      <a:pt x="283" y="273"/>
                    </a:lnTo>
                    <a:lnTo>
                      <a:pt x="282" y="265"/>
                    </a:lnTo>
                    <a:lnTo>
                      <a:pt x="285" y="259"/>
                    </a:lnTo>
                    <a:lnTo>
                      <a:pt x="288" y="252"/>
                    </a:lnTo>
                    <a:lnTo>
                      <a:pt x="289" y="241"/>
                    </a:lnTo>
                    <a:lnTo>
                      <a:pt x="280" y="239"/>
                    </a:lnTo>
                    <a:lnTo>
                      <a:pt x="273" y="239"/>
                    </a:lnTo>
                    <a:lnTo>
                      <a:pt x="266" y="243"/>
                    </a:lnTo>
                    <a:lnTo>
                      <a:pt x="256" y="247"/>
                    </a:lnTo>
                    <a:lnTo>
                      <a:pt x="259" y="237"/>
                    </a:lnTo>
                    <a:lnTo>
                      <a:pt x="262" y="227"/>
                    </a:lnTo>
                    <a:lnTo>
                      <a:pt x="266" y="214"/>
                    </a:lnTo>
                    <a:lnTo>
                      <a:pt x="270" y="202"/>
                    </a:lnTo>
                    <a:lnTo>
                      <a:pt x="260" y="201"/>
                    </a:lnTo>
                    <a:lnTo>
                      <a:pt x="254" y="205"/>
                    </a:lnTo>
                    <a:lnTo>
                      <a:pt x="249" y="211"/>
                    </a:lnTo>
                    <a:lnTo>
                      <a:pt x="240" y="214"/>
                    </a:lnTo>
                    <a:lnTo>
                      <a:pt x="244" y="189"/>
                    </a:lnTo>
                    <a:lnTo>
                      <a:pt x="236" y="187"/>
                    </a:lnTo>
                    <a:lnTo>
                      <a:pt x="230" y="189"/>
                    </a:lnTo>
                    <a:lnTo>
                      <a:pt x="223" y="194"/>
                    </a:lnTo>
                    <a:lnTo>
                      <a:pt x="213" y="198"/>
                    </a:lnTo>
                    <a:lnTo>
                      <a:pt x="211" y="191"/>
                    </a:lnTo>
                    <a:lnTo>
                      <a:pt x="213" y="184"/>
                    </a:lnTo>
                    <a:lnTo>
                      <a:pt x="217" y="176"/>
                    </a:lnTo>
                    <a:lnTo>
                      <a:pt x="221" y="169"/>
                    </a:lnTo>
                    <a:lnTo>
                      <a:pt x="226" y="158"/>
                    </a:lnTo>
                    <a:lnTo>
                      <a:pt x="220" y="152"/>
                    </a:lnTo>
                    <a:lnTo>
                      <a:pt x="213" y="153"/>
                    </a:lnTo>
                    <a:lnTo>
                      <a:pt x="205" y="158"/>
                    </a:lnTo>
                    <a:lnTo>
                      <a:pt x="197" y="159"/>
                    </a:lnTo>
                    <a:lnTo>
                      <a:pt x="204" y="136"/>
                    </a:lnTo>
                    <a:lnTo>
                      <a:pt x="197" y="132"/>
                    </a:lnTo>
                    <a:lnTo>
                      <a:pt x="189" y="136"/>
                    </a:lnTo>
                    <a:lnTo>
                      <a:pt x="182" y="142"/>
                    </a:lnTo>
                    <a:lnTo>
                      <a:pt x="175" y="145"/>
                    </a:lnTo>
                    <a:lnTo>
                      <a:pt x="175" y="132"/>
                    </a:lnTo>
                    <a:lnTo>
                      <a:pt x="179" y="120"/>
                    </a:lnTo>
                    <a:lnTo>
                      <a:pt x="184" y="108"/>
                    </a:lnTo>
                    <a:lnTo>
                      <a:pt x="182" y="93"/>
                    </a:lnTo>
                    <a:lnTo>
                      <a:pt x="172" y="93"/>
                    </a:lnTo>
                    <a:lnTo>
                      <a:pt x="163" y="101"/>
                    </a:lnTo>
                    <a:lnTo>
                      <a:pt x="158" y="108"/>
                    </a:lnTo>
                    <a:lnTo>
                      <a:pt x="153" y="116"/>
                    </a:lnTo>
                    <a:lnTo>
                      <a:pt x="143" y="126"/>
                    </a:lnTo>
                    <a:lnTo>
                      <a:pt x="139" y="119"/>
                    </a:lnTo>
                    <a:lnTo>
                      <a:pt x="139" y="111"/>
                    </a:lnTo>
                    <a:lnTo>
                      <a:pt x="142" y="104"/>
                    </a:lnTo>
                    <a:lnTo>
                      <a:pt x="143" y="95"/>
                    </a:lnTo>
                    <a:lnTo>
                      <a:pt x="147" y="85"/>
                    </a:lnTo>
                    <a:lnTo>
                      <a:pt x="134" y="78"/>
                    </a:lnTo>
                    <a:lnTo>
                      <a:pt x="124" y="85"/>
                    </a:lnTo>
                    <a:lnTo>
                      <a:pt x="121" y="88"/>
                    </a:lnTo>
                    <a:lnTo>
                      <a:pt x="120" y="95"/>
                    </a:lnTo>
                    <a:lnTo>
                      <a:pt x="116" y="104"/>
                    </a:lnTo>
                    <a:lnTo>
                      <a:pt x="108" y="111"/>
                    </a:lnTo>
                    <a:lnTo>
                      <a:pt x="100" y="106"/>
                    </a:lnTo>
                    <a:lnTo>
                      <a:pt x="104" y="95"/>
                    </a:lnTo>
                    <a:lnTo>
                      <a:pt x="104" y="87"/>
                    </a:lnTo>
                    <a:lnTo>
                      <a:pt x="106" y="78"/>
                    </a:lnTo>
                    <a:lnTo>
                      <a:pt x="111" y="72"/>
                    </a:lnTo>
                    <a:lnTo>
                      <a:pt x="100" y="68"/>
                    </a:lnTo>
                    <a:lnTo>
                      <a:pt x="93" y="69"/>
                    </a:lnTo>
                    <a:lnTo>
                      <a:pt x="87" y="75"/>
                    </a:lnTo>
                    <a:lnTo>
                      <a:pt x="84" y="84"/>
                    </a:lnTo>
                    <a:lnTo>
                      <a:pt x="78" y="93"/>
                    </a:lnTo>
                    <a:lnTo>
                      <a:pt x="75" y="82"/>
                    </a:lnTo>
                    <a:lnTo>
                      <a:pt x="78" y="72"/>
                    </a:lnTo>
                    <a:lnTo>
                      <a:pt x="79" y="64"/>
                    </a:lnTo>
                    <a:lnTo>
                      <a:pt x="74" y="56"/>
                    </a:lnTo>
                    <a:lnTo>
                      <a:pt x="68" y="64"/>
                    </a:lnTo>
                    <a:lnTo>
                      <a:pt x="61" y="71"/>
                    </a:lnTo>
                    <a:lnTo>
                      <a:pt x="53" y="80"/>
                    </a:lnTo>
                    <a:lnTo>
                      <a:pt x="48" y="94"/>
                    </a:lnTo>
                    <a:lnTo>
                      <a:pt x="38" y="95"/>
                    </a:lnTo>
                    <a:lnTo>
                      <a:pt x="38" y="88"/>
                    </a:lnTo>
                    <a:lnTo>
                      <a:pt x="38" y="80"/>
                    </a:lnTo>
                    <a:lnTo>
                      <a:pt x="36" y="71"/>
                    </a:lnTo>
                    <a:lnTo>
                      <a:pt x="30" y="64"/>
                    </a:lnTo>
                    <a:lnTo>
                      <a:pt x="20" y="68"/>
                    </a:lnTo>
                    <a:lnTo>
                      <a:pt x="20" y="78"/>
                    </a:lnTo>
                    <a:lnTo>
                      <a:pt x="19" y="88"/>
                    </a:lnTo>
                    <a:lnTo>
                      <a:pt x="9" y="93"/>
                    </a:lnTo>
                    <a:lnTo>
                      <a:pt x="0" y="87"/>
                    </a:lnTo>
                    <a:lnTo>
                      <a:pt x="1" y="69"/>
                    </a:lnTo>
                    <a:lnTo>
                      <a:pt x="4" y="54"/>
                    </a:lnTo>
                    <a:lnTo>
                      <a:pt x="7" y="39"/>
                    </a:lnTo>
                    <a:lnTo>
                      <a:pt x="9" y="22"/>
                    </a:lnTo>
                    <a:lnTo>
                      <a:pt x="14" y="17"/>
                    </a:lnTo>
                    <a:lnTo>
                      <a:pt x="22" y="13"/>
                    </a:lnTo>
                    <a:lnTo>
                      <a:pt x="29" y="7"/>
                    </a:lnTo>
                    <a:lnTo>
                      <a:pt x="38" y="2"/>
                    </a:lnTo>
                    <a:lnTo>
                      <a:pt x="56" y="2"/>
                    </a:lnTo>
                    <a:lnTo>
                      <a:pt x="75" y="0"/>
                    </a:lnTo>
                    <a:lnTo>
                      <a:pt x="94" y="0"/>
                    </a:lnTo>
                    <a:lnTo>
                      <a:pt x="114" y="0"/>
                    </a:lnTo>
                    <a:lnTo>
                      <a:pt x="134" y="0"/>
                    </a:lnTo>
                    <a:lnTo>
                      <a:pt x="155" y="2"/>
                    </a:lnTo>
                    <a:lnTo>
                      <a:pt x="175" y="4"/>
                    </a:lnTo>
                    <a:lnTo>
                      <a:pt x="195" y="9"/>
                    </a:lnTo>
                    <a:lnTo>
                      <a:pt x="200" y="13"/>
                    </a:lnTo>
                    <a:lnTo>
                      <a:pt x="207" y="20"/>
                    </a:lnTo>
                    <a:lnTo>
                      <a:pt x="214" y="26"/>
                    </a:lnTo>
                    <a:lnTo>
                      <a:pt x="223" y="29"/>
                    </a:lnTo>
                    <a:lnTo>
                      <a:pt x="239" y="46"/>
                    </a:lnTo>
                    <a:lnTo>
                      <a:pt x="254" y="62"/>
                    </a:lnTo>
                    <a:lnTo>
                      <a:pt x="272" y="80"/>
                    </a:lnTo>
                    <a:lnTo>
                      <a:pt x="289" y="97"/>
                    </a:lnTo>
                    <a:lnTo>
                      <a:pt x="307" y="114"/>
                    </a:lnTo>
                    <a:lnTo>
                      <a:pt x="324" y="132"/>
                    </a:lnTo>
                    <a:lnTo>
                      <a:pt x="343" y="150"/>
                    </a:lnTo>
                    <a:lnTo>
                      <a:pt x="361" y="171"/>
                    </a:lnTo>
                    <a:lnTo>
                      <a:pt x="369" y="185"/>
                    </a:lnTo>
                    <a:lnTo>
                      <a:pt x="374" y="200"/>
                    </a:lnTo>
                    <a:lnTo>
                      <a:pt x="382" y="215"/>
                    </a:lnTo>
                    <a:lnTo>
                      <a:pt x="386" y="233"/>
                    </a:lnTo>
                    <a:lnTo>
                      <a:pt x="382" y="254"/>
                    </a:lnTo>
                    <a:lnTo>
                      <a:pt x="380" y="263"/>
                    </a:lnTo>
                    <a:lnTo>
                      <a:pt x="377" y="270"/>
                    </a:lnTo>
                    <a:lnTo>
                      <a:pt x="372" y="278"/>
                    </a:lnTo>
                    <a:lnTo>
                      <a:pt x="363" y="285"/>
                    </a:lnTo>
                    <a:lnTo>
                      <a:pt x="356" y="289"/>
                    </a:lnTo>
                    <a:lnTo>
                      <a:pt x="348" y="292"/>
                    </a:lnTo>
                    <a:lnTo>
                      <a:pt x="343" y="293"/>
                    </a:lnTo>
                    <a:lnTo>
                      <a:pt x="337" y="295"/>
                    </a:lnTo>
                    <a:lnTo>
                      <a:pt x="331" y="296"/>
                    </a:lnTo>
                    <a:lnTo>
                      <a:pt x="324" y="296"/>
                    </a:lnTo>
                    <a:lnTo>
                      <a:pt x="317" y="298"/>
                    </a:lnTo>
                    <a:lnTo>
                      <a:pt x="309" y="301"/>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7016760" y="3056040"/>
                <a:ext cx="12600" cy="12600"/>
              </a:xfrm>
              <a:custGeom>
                <a:avLst/>
                <a:gdLst/>
                <a:ahLst/>
                <a:rect l="l" t="t" r="r" b="b"/>
                <a:pathLst>
                  <a:path w="23" h="23">
                    <a:moveTo>
                      <a:pt x="3" y="23"/>
                    </a:moveTo>
                    <a:lnTo>
                      <a:pt x="0" y="0"/>
                    </a:lnTo>
                    <a:lnTo>
                      <a:pt x="23" y="4"/>
                    </a:lnTo>
                    <a:lnTo>
                      <a:pt x="23" y="13"/>
                    </a:lnTo>
                    <a:lnTo>
                      <a:pt x="19" y="19"/>
                    </a:lnTo>
                    <a:lnTo>
                      <a:pt x="13" y="23"/>
                    </a:lnTo>
                    <a:lnTo>
                      <a:pt x="3"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81" name=""/>
              <p:cNvSpPr/>
              <p:nvPr/>
            </p:nvSpPr>
            <p:spPr>
              <a:xfrm>
                <a:off x="7885080" y="3043080"/>
                <a:ext cx="7920" cy="12960"/>
              </a:xfrm>
              <a:custGeom>
                <a:avLst/>
                <a:gdLst/>
                <a:ahLst/>
                <a:rect l="l" t="t" r="r" b="b"/>
                <a:pathLst>
                  <a:path w="16" h="26">
                    <a:moveTo>
                      <a:pt x="7" y="26"/>
                    </a:moveTo>
                    <a:lnTo>
                      <a:pt x="1" y="23"/>
                    </a:lnTo>
                    <a:lnTo>
                      <a:pt x="0" y="14"/>
                    </a:lnTo>
                    <a:lnTo>
                      <a:pt x="3" y="4"/>
                    </a:lnTo>
                    <a:lnTo>
                      <a:pt x="8" y="0"/>
                    </a:lnTo>
                    <a:lnTo>
                      <a:pt x="13" y="3"/>
                    </a:lnTo>
                    <a:lnTo>
                      <a:pt x="14" y="8"/>
                    </a:lnTo>
                    <a:lnTo>
                      <a:pt x="16" y="17"/>
                    </a:lnTo>
                    <a:lnTo>
                      <a:pt x="16" y="26"/>
                    </a:lnTo>
                    <a:lnTo>
                      <a:pt x="7" y="2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82" name=""/>
              <p:cNvSpPr/>
              <p:nvPr/>
            </p:nvSpPr>
            <p:spPr>
              <a:xfrm>
                <a:off x="8078760" y="3036960"/>
                <a:ext cx="14400" cy="9360"/>
              </a:xfrm>
              <a:custGeom>
                <a:avLst/>
                <a:gdLst/>
                <a:ahLst/>
                <a:rect l="l" t="t" r="r" b="b"/>
                <a:pathLst>
                  <a:path w="25" h="18">
                    <a:moveTo>
                      <a:pt x="9" y="18"/>
                    </a:moveTo>
                    <a:lnTo>
                      <a:pt x="0" y="0"/>
                    </a:lnTo>
                    <a:lnTo>
                      <a:pt x="22" y="3"/>
                    </a:lnTo>
                    <a:lnTo>
                      <a:pt x="25" y="9"/>
                    </a:lnTo>
                    <a:lnTo>
                      <a:pt x="22" y="13"/>
                    </a:lnTo>
                    <a:lnTo>
                      <a:pt x="15" y="16"/>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3" name=""/>
              <p:cNvSpPr/>
              <p:nvPr/>
            </p:nvSpPr>
            <p:spPr>
              <a:xfrm>
                <a:off x="8381880" y="3030480"/>
                <a:ext cx="14400" cy="9360"/>
              </a:xfrm>
              <a:custGeom>
                <a:avLst/>
                <a:gdLst/>
                <a:ahLst/>
                <a:rect l="l" t="t" r="r" b="b"/>
                <a:pathLst>
                  <a:path w="26" h="16">
                    <a:moveTo>
                      <a:pt x="9" y="16"/>
                    </a:moveTo>
                    <a:lnTo>
                      <a:pt x="0" y="4"/>
                    </a:lnTo>
                    <a:lnTo>
                      <a:pt x="4" y="0"/>
                    </a:lnTo>
                    <a:lnTo>
                      <a:pt x="13" y="0"/>
                    </a:lnTo>
                    <a:lnTo>
                      <a:pt x="22" y="3"/>
                    </a:lnTo>
                    <a:lnTo>
                      <a:pt x="26" y="10"/>
                    </a:lnTo>
                    <a:lnTo>
                      <a:pt x="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4" name=""/>
              <p:cNvSpPr/>
              <p:nvPr/>
            </p:nvSpPr>
            <p:spPr>
              <a:xfrm>
                <a:off x="7078680" y="3031920"/>
                <a:ext cx="9360" cy="11160"/>
              </a:xfrm>
              <a:custGeom>
                <a:avLst/>
                <a:gdLst/>
                <a:ahLst/>
                <a:rect l="l" t="t" r="r" b="b"/>
                <a:pathLst>
                  <a:path w="20" h="20">
                    <a:moveTo>
                      <a:pt x="4" y="20"/>
                    </a:moveTo>
                    <a:lnTo>
                      <a:pt x="0" y="0"/>
                    </a:lnTo>
                    <a:lnTo>
                      <a:pt x="20" y="0"/>
                    </a:lnTo>
                    <a:lnTo>
                      <a:pt x="20" y="7"/>
                    </a:lnTo>
                    <a:lnTo>
                      <a:pt x="18" y="14"/>
                    </a:lnTo>
                    <a:lnTo>
                      <a:pt x="13" y="20"/>
                    </a:lnTo>
                    <a:lnTo>
                      <a:pt x="4"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85" name=""/>
              <p:cNvSpPr/>
              <p:nvPr/>
            </p:nvSpPr>
            <p:spPr>
              <a:xfrm>
                <a:off x="7824600" y="3009960"/>
                <a:ext cx="12960" cy="17280"/>
              </a:xfrm>
              <a:custGeom>
                <a:avLst/>
                <a:gdLst/>
                <a:ahLst/>
                <a:rect l="l" t="t" r="r" b="b"/>
                <a:pathLst>
                  <a:path w="22" h="32">
                    <a:moveTo>
                      <a:pt x="8" y="30"/>
                    </a:moveTo>
                    <a:lnTo>
                      <a:pt x="0" y="25"/>
                    </a:lnTo>
                    <a:lnTo>
                      <a:pt x="6" y="17"/>
                    </a:lnTo>
                    <a:lnTo>
                      <a:pt x="15" y="10"/>
                    </a:lnTo>
                    <a:lnTo>
                      <a:pt x="19" y="0"/>
                    </a:lnTo>
                    <a:lnTo>
                      <a:pt x="21" y="7"/>
                    </a:lnTo>
                    <a:lnTo>
                      <a:pt x="22" y="15"/>
                    </a:lnTo>
                    <a:lnTo>
                      <a:pt x="21" y="22"/>
                    </a:lnTo>
                    <a:lnTo>
                      <a:pt x="19" y="32"/>
                    </a:lnTo>
                    <a:lnTo>
                      <a:pt x="8" y="3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6" name=""/>
              <p:cNvSpPr/>
              <p:nvPr/>
            </p:nvSpPr>
            <p:spPr>
              <a:xfrm>
                <a:off x="7961400" y="3011400"/>
                <a:ext cx="6120" cy="12600"/>
              </a:xfrm>
              <a:custGeom>
                <a:avLst/>
                <a:gdLst/>
                <a:ahLst/>
                <a:rect l="l" t="t" r="r" b="b"/>
                <a:pathLst>
                  <a:path w="13" h="22">
                    <a:moveTo>
                      <a:pt x="0" y="22"/>
                    </a:moveTo>
                    <a:lnTo>
                      <a:pt x="2" y="0"/>
                    </a:lnTo>
                    <a:lnTo>
                      <a:pt x="12" y="0"/>
                    </a:lnTo>
                    <a:lnTo>
                      <a:pt x="13" y="7"/>
                    </a:lnTo>
                    <a:lnTo>
                      <a:pt x="12" y="14"/>
                    </a:lnTo>
                    <a:lnTo>
                      <a:pt x="8" y="20"/>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87" name=""/>
              <p:cNvSpPr/>
              <p:nvPr/>
            </p:nvSpPr>
            <p:spPr>
              <a:xfrm>
                <a:off x="7708680" y="3002040"/>
                <a:ext cx="16200" cy="10800"/>
              </a:xfrm>
              <a:custGeom>
                <a:avLst/>
                <a:gdLst/>
                <a:ahLst/>
                <a:rect l="l" t="t" r="r" b="b"/>
                <a:pathLst>
                  <a:path w="30" h="22">
                    <a:moveTo>
                      <a:pt x="17" y="22"/>
                    </a:moveTo>
                    <a:lnTo>
                      <a:pt x="0" y="5"/>
                    </a:lnTo>
                    <a:lnTo>
                      <a:pt x="5" y="0"/>
                    </a:lnTo>
                    <a:lnTo>
                      <a:pt x="13" y="2"/>
                    </a:lnTo>
                    <a:lnTo>
                      <a:pt x="23" y="5"/>
                    </a:lnTo>
                    <a:lnTo>
                      <a:pt x="30" y="7"/>
                    </a:lnTo>
                    <a:lnTo>
                      <a:pt x="17"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88" name=""/>
              <p:cNvSpPr/>
              <p:nvPr/>
            </p:nvSpPr>
            <p:spPr>
              <a:xfrm>
                <a:off x="8194680" y="2997000"/>
                <a:ext cx="11160" cy="9720"/>
              </a:xfrm>
              <a:custGeom>
                <a:avLst/>
                <a:gdLst/>
                <a:ahLst/>
                <a:rect l="l" t="t" r="r" b="b"/>
                <a:pathLst>
                  <a:path w="19" h="19">
                    <a:moveTo>
                      <a:pt x="4" y="19"/>
                    </a:moveTo>
                    <a:lnTo>
                      <a:pt x="0" y="0"/>
                    </a:lnTo>
                    <a:lnTo>
                      <a:pt x="19" y="9"/>
                    </a:lnTo>
                    <a:lnTo>
                      <a:pt x="4"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89" name=""/>
              <p:cNvSpPr/>
              <p:nvPr/>
            </p:nvSpPr>
            <p:spPr>
              <a:xfrm>
                <a:off x="8008920" y="2987640"/>
                <a:ext cx="9360" cy="11160"/>
              </a:xfrm>
              <a:custGeom>
                <a:avLst/>
                <a:gdLst/>
                <a:ahLst/>
                <a:rect l="l" t="t" r="r" b="b"/>
                <a:pathLst>
                  <a:path w="19" h="21">
                    <a:moveTo>
                      <a:pt x="6" y="21"/>
                    </a:moveTo>
                    <a:lnTo>
                      <a:pt x="0" y="0"/>
                    </a:lnTo>
                    <a:lnTo>
                      <a:pt x="19" y="3"/>
                    </a:lnTo>
                    <a:lnTo>
                      <a:pt x="19" y="8"/>
                    </a:lnTo>
                    <a:lnTo>
                      <a:pt x="16" y="14"/>
                    </a:lnTo>
                    <a:lnTo>
                      <a:pt x="12" y="20"/>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0" name=""/>
              <p:cNvSpPr/>
              <p:nvPr/>
            </p:nvSpPr>
            <p:spPr>
              <a:xfrm>
                <a:off x="8250120" y="2982960"/>
                <a:ext cx="9720" cy="12600"/>
              </a:xfrm>
              <a:custGeom>
                <a:avLst/>
                <a:gdLst/>
                <a:ahLst/>
                <a:rect l="l" t="t" r="r" b="b"/>
                <a:pathLst>
                  <a:path w="18" h="26">
                    <a:moveTo>
                      <a:pt x="5" y="26"/>
                    </a:moveTo>
                    <a:lnTo>
                      <a:pt x="1" y="23"/>
                    </a:lnTo>
                    <a:lnTo>
                      <a:pt x="0" y="14"/>
                    </a:lnTo>
                    <a:lnTo>
                      <a:pt x="4" y="4"/>
                    </a:lnTo>
                    <a:lnTo>
                      <a:pt x="11" y="0"/>
                    </a:lnTo>
                    <a:lnTo>
                      <a:pt x="18" y="2"/>
                    </a:lnTo>
                    <a:lnTo>
                      <a:pt x="17" y="13"/>
                    </a:lnTo>
                    <a:lnTo>
                      <a:pt x="11" y="21"/>
                    </a:lnTo>
                    <a:lnTo>
                      <a:pt x="5" y="2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1" name=""/>
              <p:cNvSpPr/>
              <p:nvPr/>
            </p:nvSpPr>
            <p:spPr>
              <a:xfrm>
                <a:off x="7243560" y="2833560"/>
                <a:ext cx="187560" cy="157320"/>
              </a:xfrm>
              <a:custGeom>
                <a:avLst/>
                <a:gdLst/>
                <a:ahLst/>
                <a:rect l="l" t="t" r="r" b="b"/>
                <a:pathLst>
                  <a:path w="355" h="297">
                    <a:moveTo>
                      <a:pt x="311" y="297"/>
                    </a:moveTo>
                    <a:lnTo>
                      <a:pt x="310" y="290"/>
                    </a:lnTo>
                    <a:lnTo>
                      <a:pt x="308" y="283"/>
                    </a:lnTo>
                    <a:lnTo>
                      <a:pt x="308" y="274"/>
                    </a:lnTo>
                    <a:lnTo>
                      <a:pt x="307" y="264"/>
                    </a:lnTo>
                    <a:lnTo>
                      <a:pt x="301" y="264"/>
                    </a:lnTo>
                    <a:lnTo>
                      <a:pt x="294" y="266"/>
                    </a:lnTo>
                    <a:lnTo>
                      <a:pt x="287" y="270"/>
                    </a:lnTo>
                    <a:lnTo>
                      <a:pt x="278" y="271"/>
                    </a:lnTo>
                    <a:lnTo>
                      <a:pt x="281" y="258"/>
                    </a:lnTo>
                    <a:lnTo>
                      <a:pt x="285" y="248"/>
                    </a:lnTo>
                    <a:lnTo>
                      <a:pt x="288" y="238"/>
                    </a:lnTo>
                    <a:lnTo>
                      <a:pt x="287" y="227"/>
                    </a:lnTo>
                    <a:lnTo>
                      <a:pt x="277" y="224"/>
                    </a:lnTo>
                    <a:lnTo>
                      <a:pt x="268" y="227"/>
                    </a:lnTo>
                    <a:lnTo>
                      <a:pt x="262" y="234"/>
                    </a:lnTo>
                    <a:lnTo>
                      <a:pt x="258" y="243"/>
                    </a:lnTo>
                    <a:lnTo>
                      <a:pt x="249" y="234"/>
                    </a:lnTo>
                    <a:lnTo>
                      <a:pt x="253" y="228"/>
                    </a:lnTo>
                    <a:lnTo>
                      <a:pt x="259" y="221"/>
                    </a:lnTo>
                    <a:lnTo>
                      <a:pt x="264" y="214"/>
                    </a:lnTo>
                    <a:lnTo>
                      <a:pt x="268" y="204"/>
                    </a:lnTo>
                    <a:lnTo>
                      <a:pt x="249" y="195"/>
                    </a:lnTo>
                    <a:lnTo>
                      <a:pt x="233" y="219"/>
                    </a:lnTo>
                    <a:lnTo>
                      <a:pt x="229" y="211"/>
                    </a:lnTo>
                    <a:lnTo>
                      <a:pt x="232" y="202"/>
                    </a:lnTo>
                    <a:lnTo>
                      <a:pt x="236" y="191"/>
                    </a:lnTo>
                    <a:lnTo>
                      <a:pt x="239" y="179"/>
                    </a:lnTo>
                    <a:lnTo>
                      <a:pt x="238" y="167"/>
                    </a:lnTo>
                    <a:lnTo>
                      <a:pt x="214" y="173"/>
                    </a:lnTo>
                    <a:lnTo>
                      <a:pt x="204" y="193"/>
                    </a:lnTo>
                    <a:lnTo>
                      <a:pt x="206" y="186"/>
                    </a:lnTo>
                    <a:lnTo>
                      <a:pt x="207" y="178"/>
                    </a:lnTo>
                    <a:lnTo>
                      <a:pt x="210" y="169"/>
                    </a:lnTo>
                    <a:lnTo>
                      <a:pt x="213" y="159"/>
                    </a:lnTo>
                    <a:lnTo>
                      <a:pt x="210" y="149"/>
                    </a:lnTo>
                    <a:lnTo>
                      <a:pt x="203" y="144"/>
                    </a:lnTo>
                    <a:lnTo>
                      <a:pt x="194" y="147"/>
                    </a:lnTo>
                    <a:lnTo>
                      <a:pt x="190" y="156"/>
                    </a:lnTo>
                    <a:lnTo>
                      <a:pt x="187" y="165"/>
                    </a:lnTo>
                    <a:lnTo>
                      <a:pt x="181" y="172"/>
                    </a:lnTo>
                    <a:lnTo>
                      <a:pt x="174" y="166"/>
                    </a:lnTo>
                    <a:lnTo>
                      <a:pt x="174" y="144"/>
                    </a:lnTo>
                    <a:lnTo>
                      <a:pt x="178" y="140"/>
                    </a:lnTo>
                    <a:lnTo>
                      <a:pt x="181" y="131"/>
                    </a:lnTo>
                    <a:lnTo>
                      <a:pt x="183" y="123"/>
                    </a:lnTo>
                    <a:lnTo>
                      <a:pt x="187" y="114"/>
                    </a:lnTo>
                    <a:lnTo>
                      <a:pt x="165" y="114"/>
                    </a:lnTo>
                    <a:lnTo>
                      <a:pt x="162" y="123"/>
                    </a:lnTo>
                    <a:lnTo>
                      <a:pt x="157" y="127"/>
                    </a:lnTo>
                    <a:lnTo>
                      <a:pt x="149" y="133"/>
                    </a:lnTo>
                    <a:lnTo>
                      <a:pt x="148" y="143"/>
                    </a:lnTo>
                    <a:lnTo>
                      <a:pt x="148" y="130"/>
                    </a:lnTo>
                    <a:lnTo>
                      <a:pt x="149" y="117"/>
                    </a:lnTo>
                    <a:lnTo>
                      <a:pt x="152" y="104"/>
                    </a:lnTo>
                    <a:lnTo>
                      <a:pt x="155" y="91"/>
                    </a:lnTo>
                    <a:lnTo>
                      <a:pt x="146" y="84"/>
                    </a:lnTo>
                    <a:lnTo>
                      <a:pt x="138" y="85"/>
                    </a:lnTo>
                    <a:lnTo>
                      <a:pt x="133" y="89"/>
                    </a:lnTo>
                    <a:lnTo>
                      <a:pt x="131" y="98"/>
                    </a:lnTo>
                    <a:lnTo>
                      <a:pt x="128" y="107"/>
                    </a:lnTo>
                    <a:lnTo>
                      <a:pt x="123" y="115"/>
                    </a:lnTo>
                    <a:lnTo>
                      <a:pt x="116" y="124"/>
                    </a:lnTo>
                    <a:lnTo>
                      <a:pt x="109" y="111"/>
                    </a:lnTo>
                    <a:lnTo>
                      <a:pt x="110" y="101"/>
                    </a:lnTo>
                    <a:lnTo>
                      <a:pt x="113" y="89"/>
                    </a:lnTo>
                    <a:lnTo>
                      <a:pt x="115" y="78"/>
                    </a:lnTo>
                    <a:lnTo>
                      <a:pt x="107" y="71"/>
                    </a:lnTo>
                    <a:lnTo>
                      <a:pt x="97" y="71"/>
                    </a:lnTo>
                    <a:lnTo>
                      <a:pt x="91" y="76"/>
                    </a:lnTo>
                    <a:lnTo>
                      <a:pt x="89" y="87"/>
                    </a:lnTo>
                    <a:lnTo>
                      <a:pt x="84" y="98"/>
                    </a:lnTo>
                    <a:lnTo>
                      <a:pt x="78" y="107"/>
                    </a:lnTo>
                    <a:lnTo>
                      <a:pt x="71" y="100"/>
                    </a:lnTo>
                    <a:lnTo>
                      <a:pt x="73" y="91"/>
                    </a:lnTo>
                    <a:lnTo>
                      <a:pt x="74" y="81"/>
                    </a:lnTo>
                    <a:lnTo>
                      <a:pt x="76" y="69"/>
                    </a:lnTo>
                    <a:lnTo>
                      <a:pt x="78" y="58"/>
                    </a:lnTo>
                    <a:lnTo>
                      <a:pt x="57" y="56"/>
                    </a:lnTo>
                    <a:lnTo>
                      <a:pt x="54" y="65"/>
                    </a:lnTo>
                    <a:lnTo>
                      <a:pt x="52" y="76"/>
                    </a:lnTo>
                    <a:lnTo>
                      <a:pt x="50" y="88"/>
                    </a:lnTo>
                    <a:lnTo>
                      <a:pt x="45" y="100"/>
                    </a:lnTo>
                    <a:lnTo>
                      <a:pt x="38" y="107"/>
                    </a:lnTo>
                    <a:lnTo>
                      <a:pt x="34" y="101"/>
                    </a:lnTo>
                    <a:lnTo>
                      <a:pt x="32" y="94"/>
                    </a:lnTo>
                    <a:lnTo>
                      <a:pt x="32" y="85"/>
                    </a:lnTo>
                    <a:lnTo>
                      <a:pt x="34" y="76"/>
                    </a:lnTo>
                    <a:lnTo>
                      <a:pt x="26" y="59"/>
                    </a:lnTo>
                    <a:lnTo>
                      <a:pt x="15" y="63"/>
                    </a:lnTo>
                    <a:lnTo>
                      <a:pt x="12" y="72"/>
                    </a:lnTo>
                    <a:lnTo>
                      <a:pt x="11" y="84"/>
                    </a:lnTo>
                    <a:lnTo>
                      <a:pt x="9" y="95"/>
                    </a:lnTo>
                    <a:lnTo>
                      <a:pt x="8" y="107"/>
                    </a:lnTo>
                    <a:lnTo>
                      <a:pt x="2" y="91"/>
                    </a:lnTo>
                    <a:lnTo>
                      <a:pt x="0" y="76"/>
                    </a:lnTo>
                    <a:lnTo>
                      <a:pt x="0" y="61"/>
                    </a:lnTo>
                    <a:lnTo>
                      <a:pt x="0" y="43"/>
                    </a:lnTo>
                    <a:lnTo>
                      <a:pt x="15" y="23"/>
                    </a:lnTo>
                    <a:lnTo>
                      <a:pt x="37" y="14"/>
                    </a:lnTo>
                    <a:lnTo>
                      <a:pt x="60" y="7"/>
                    </a:lnTo>
                    <a:lnTo>
                      <a:pt x="84" y="3"/>
                    </a:lnTo>
                    <a:lnTo>
                      <a:pt x="109" y="0"/>
                    </a:lnTo>
                    <a:lnTo>
                      <a:pt x="133" y="0"/>
                    </a:lnTo>
                    <a:lnTo>
                      <a:pt x="159" y="3"/>
                    </a:lnTo>
                    <a:lnTo>
                      <a:pt x="185" y="9"/>
                    </a:lnTo>
                    <a:lnTo>
                      <a:pt x="212" y="17"/>
                    </a:lnTo>
                    <a:lnTo>
                      <a:pt x="233" y="39"/>
                    </a:lnTo>
                    <a:lnTo>
                      <a:pt x="253" y="61"/>
                    </a:lnTo>
                    <a:lnTo>
                      <a:pt x="271" y="82"/>
                    </a:lnTo>
                    <a:lnTo>
                      <a:pt x="288" y="104"/>
                    </a:lnTo>
                    <a:lnTo>
                      <a:pt x="304" y="127"/>
                    </a:lnTo>
                    <a:lnTo>
                      <a:pt x="320" y="150"/>
                    </a:lnTo>
                    <a:lnTo>
                      <a:pt x="334" y="175"/>
                    </a:lnTo>
                    <a:lnTo>
                      <a:pt x="350" y="199"/>
                    </a:lnTo>
                    <a:lnTo>
                      <a:pt x="350" y="208"/>
                    </a:lnTo>
                    <a:lnTo>
                      <a:pt x="353" y="218"/>
                    </a:lnTo>
                    <a:lnTo>
                      <a:pt x="355" y="230"/>
                    </a:lnTo>
                    <a:lnTo>
                      <a:pt x="355" y="241"/>
                    </a:lnTo>
                    <a:lnTo>
                      <a:pt x="350" y="248"/>
                    </a:lnTo>
                    <a:lnTo>
                      <a:pt x="346" y="257"/>
                    </a:lnTo>
                    <a:lnTo>
                      <a:pt x="342" y="267"/>
                    </a:lnTo>
                    <a:lnTo>
                      <a:pt x="336" y="280"/>
                    </a:lnTo>
                    <a:lnTo>
                      <a:pt x="311" y="297"/>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8315280" y="2963880"/>
                <a:ext cx="11160" cy="12600"/>
              </a:xfrm>
              <a:custGeom>
                <a:avLst/>
                <a:gdLst/>
                <a:ahLst/>
                <a:rect l="l" t="t" r="r" b="b"/>
                <a:pathLst>
                  <a:path w="20" h="22">
                    <a:moveTo>
                      <a:pt x="0" y="22"/>
                    </a:moveTo>
                    <a:lnTo>
                      <a:pt x="4" y="0"/>
                    </a:lnTo>
                    <a:lnTo>
                      <a:pt x="20" y="6"/>
                    </a:lnTo>
                    <a:lnTo>
                      <a:pt x="19" y="13"/>
                    </a:lnTo>
                    <a:lnTo>
                      <a:pt x="14" y="18"/>
                    </a:lnTo>
                    <a:lnTo>
                      <a:pt x="7" y="21"/>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3" name=""/>
              <p:cNvSpPr/>
              <p:nvPr/>
            </p:nvSpPr>
            <p:spPr>
              <a:xfrm>
                <a:off x="7935840" y="2968560"/>
                <a:ext cx="12600" cy="9360"/>
              </a:xfrm>
              <a:custGeom>
                <a:avLst/>
                <a:gdLst/>
                <a:ahLst/>
                <a:rect l="l" t="t" r="r" b="b"/>
                <a:pathLst>
                  <a:path w="24" h="17">
                    <a:moveTo>
                      <a:pt x="5" y="17"/>
                    </a:moveTo>
                    <a:lnTo>
                      <a:pt x="0" y="7"/>
                    </a:lnTo>
                    <a:lnTo>
                      <a:pt x="4" y="2"/>
                    </a:lnTo>
                    <a:lnTo>
                      <a:pt x="13" y="0"/>
                    </a:lnTo>
                    <a:lnTo>
                      <a:pt x="21" y="1"/>
                    </a:lnTo>
                    <a:lnTo>
                      <a:pt x="24" y="10"/>
                    </a:lnTo>
                    <a:lnTo>
                      <a:pt x="5"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94" name=""/>
              <p:cNvSpPr/>
              <p:nvPr/>
            </p:nvSpPr>
            <p:spPr>
              <a:xfrm>
                <a:off x="7061040" y="2962080"/>
                <a:ext cx="14400" cy="12960"/>
              </a:xfrm>
              <a:custGeom>
                <a:avLst/>
                <a:gdLst/>
                <a:ahLst/>
                <a:rect l="l" t="t" r="r" b="b"/>
                <a:pathLst>
                  <a:path w="26" h="22">
                    <a:moveTo>
                      <a:pt x="6" y="22"/>
                    </a:moveTo>
                    <a:lnTo>
                      <a:pt x="0" y="0"/>
                    </a:lnTo>
                    <a:lnTo>
                      <a:pt x="21" y="0"/>
                    </a:lnTo>
                    <a:lnTo>
                      <a:pt x="26" y="9"/>
                    </a:lnTo>
                    <a:lnTo>
                      <a:pt x="23" y="18"/>
                    </a:lnTo>
                    <a:lnTo>
                      <a:pt x="17" y="22"/>
                    </a:lnTo>
                    <a:lnTo>
                      <a:pt x="6"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95" name=""/>
              <p:cNvSpPr/>
              <p:nvPr/>
            </p:nvSpPr>
            <p:spPr>
              <a:xfrm>
                <a:off x="7665840" y="2955960"/>
                <a:ext cx="7920" cy="11160"/>
              </a:xfrm>
              <a:custGeom>
                <a:avLst/>
                <a:gdLst/>
                <a:ahLst/>
                <a:rect l="l" t="t" r="r" b="b"/>
                <a:pathLst>
                  <a:path w="14" h="22">
                    <a:moveTo>
                      <a:pt x="1" y="22"/>
                    </a:moveTo>
                    <a:lnTo>
                      <a:pt x="0" y="0"/>
                    </a:lnTo>
                    <a:lnTo>
                      <a:pt x="11" y="0"/>
                    </a:lnTo>
                    <a:lnTo>
                      <a:pt x="14" y="6"/>
                    </a:lnTo>
                    <a:lnTo>
                      <a:pt x="13" y="13"/>
                    </a:lnTo>
                    <a:lnTo>
                      <a:pt x="8" y="19"/>
                    </a:lnTo>
                    <a:lnTo>
                      <a:pt x="1"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6" name=""/>
              <p:cNvSpPr/>
              <p:nvPr/>
            </p:nvSpPr>
            <p:spPr>
              <a:xfrm>
                <a:off x="7016760" y="2960640"/>
                <a:ext cx="11160" cy="12600"/>
              </a:xfrm>
              <a:custGeom>
                <a:avLst/>
                <a:gdLst/>
                <a:ahLst/>
                <a:rect l="l" t="t" r="r" b="b"/>
                <a:pathLst>
                  <a:path w="19" h="25">
                    <a:moveTo>
                      <a:pt x="9" y="25"/>
                    </a:moveTo>
                    <a:lnTo>
                      <a:pt x="2" y="22"/>
                    </a:lnTo>
                    <a:lnTo>
                      <a:pt x="0" y="13"/>
                    </a:lnTo>
                    <a:lnTo>
                      <a:pt x="3" y="4"/>
                    </a:lnTo>
                    <a:lnTo>
                      <a:pt x="8" y="0"/>
                    </a:lnTo>
                    <a:lnTo>
                      <a:pt x="16" y="3"/>
                    </a:lnTo>
                    <a:lnTo>
                      <a:pt x="19" y="10"/>
                    </a:lnTo>
                    <a:lnTo>
                      <a:pt x="15" y="19"/>
                    </a:lnTo>
                    <a:lnTo>
                      <a:pt x="9"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97" name=""/>
              <p:cNvSpPr/>
              <p:nvPr/>
            </p:nvSpPr>
            <p:spPr>
              <a:xfrm>
                <a:off x="7781760" y="2949480"/>
                <a:ext cx="11160" cy="9720"/>
              </a:xfrm>
              <a:custGeom>
                <a:avLst/>
                <a:gdLst/>
                <a:ahLst/>
                <a:rect l="l" t="t" r="r" b="b"/>
                <a:pathLst>
                  <a:path w="22" h="16">
                    <a:moveTo>
                      <a:pt x="9" y="16"/>
                    </a:moveTo>
                    <a:lnTo>
                      <a:pt x="0" y="7"/>
                    </a:lnTo>
                    <a:lnTo>
                      <a:pt x="3" y="1"/>
                    </a:lnTo>
                    <a:lnTo>
                      <a:pt x="9" y="0"/>
                    </a:lnTo>
                    <a:lnTo>
                      <a:pt x="16" y="4"/>
                    </a:lnTo>
                    <a:lnTo>
                      <a:pt x="22" y="11"/>
                    </a:lnTo>
                    <a:lnTo>
                      <a:pt x="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98" name=""/>
              <p:cNvSpPr/>
              <p:nvPr/>
            </p:nvSpPr>
            <p:spPr>
              <a:xfrm>
                <a:off x="7886520" y="2946240"/>
                <a:ext cx="6480" cy="11160"/>
              </a:xfrm>
              <a:custGeom>
                <a:avLst/>
                <a:gdLst/>
                <a:ahLst/>
                <a:rect l="l" t="t" r="r" b="b"/>
                <a:pathLst>
                  <a:path w="13" h="21">
                    <a:moveTo>
                      <a:pt x="3" y="21"/>
                    </a:moveTo>
                    <a:lnTo>
                      <a:pt x="0" y="16"/>
                    </a:lnTo>
                    <a:lnTo>
                      <a:pt x="2" y="7"/>
                    </a:lnTo>
                    <a:lnTo>
                      <a:pt x="4" y="0"/>
                    </a:lnTo>
                    <a:lnTo>
                      <a:pt x="12" y="0"/>
                    </a:lnTo>
                    <a:lnTo>
                      <a:pt x="12" y="5"/>
                    </a:lnTo>
                    <a:lnTo>
                      <a:pt x="13" y="14"/>
                    </a:lnTo>
                    <a:lnTo>
                      <a:pt x="12"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9" name=""/>
              <p:cNvSpPr/>
              <p:nvPr/>
            </p:nvSpPr>
            <p:spPr>
              <a:xfrm>
                <a:off x="8128080" y="2935080"/>
                <a:ext cx="9360" cy="11160"/>
              </a:xfrm>
              <a:custGeom>
                <a:avLst/>
                <a:gdLst/>
                <a:ahLst/>
                <a:rect l="l" t="t" r="r" b="b"/>
                <a:pathLst>
                  <a:path w="17" h="21">
                    <a:moveTo>
                      <a:pt x="3" y="21"/>
                    </a:moveTo>
                    <a:lnTo>
                      <a:pt x="0" y="13"/>
                    </a:lnTo>
                    <a:lnTo>
                      <a:pt x="1" y="6"/>
                    </a:lnTo>
                    <a:lnTo>
                      <a:pt x="9" y="0"/>
                    </a:lnTo>
                    <a:lnTo>
                      <a:pt x="17" y="0"/>
                    </a:lnTo>
                    <a:lnTo>
                      <a:pt x="17" y="8"/>
                    </a:lnTo>
                    <a:lnTo>
                      <a:pt x="14" y="15"/>
                    </a:lnTo>
                    <a:lnTo>
                      <a:pt x="10" y="21"/>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0" name=""/>
              <p:cNvSpPr/>
              <p:nvPr/>
            </p:nvSpPr>
            <p:spPr>
              <a:xfrm>
                <a:off x="8069040" y="2935080"/>
                <a:ext cx="12960" cy="9720"/>
              </a:xfrm>
              <a:custGeom>
                <a:avLst/>
                <a:gdLst/>
                <a:ahLst/>
                <a:rect l="l" t="t" r="r" b="b"/>
                <a:pathLst>
                  <a:path w="25" h="20">
                    <a:moveTo>
                      <a:pt x="12" y="20"/>
                    </a:moveTo>
                    <a:lnTo>
                      <a:pt x="0" y="1"/>
                    </a:lnTo>
                    <a:lnTo>
                      <a:pt x="22" y="0"/>
                    </a:lnTo>
                    <a:lnTo>
                      <a:pt x="25" y="6"/>
                    </a:lnTo>
                    <a:lnTo>
                      <a:pt x="23" y="12"/>
                    </a:lnTo>
                    <a:lnTo>
                      <a:pt x="19" y="16"/>
                    </a:lnTo>
                    <a:lnTo>
                      <a:pt x="12" y="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01" name=""/>
              <p:cNvSpPr/>
              <p:nvPr/>
            </p:nvSpPr>
            <p:spPr>
              <a:xfrm>
                <a:off x="8267760" y="2927160"/>
                <a:ext cx="11160" cy="12960"/>
              </a:xfrm>
              <a:custGeom>
                <a:avLst/>
                <a:gdLst/>
                <a:ahLst/>
                <a:rect l="l" t="t" r="r" b="b"/>
                <a:pathLst>
                  <a:path w="21" h="23">
                    <a:moveTo>
                      <a:pt x="7" y="23"/>
                    </a:moveTo>
                    <a:lnTo>
                      <a:pt x="0" y="0"/>
                    </a:lnTo>
                    <a:lnTo>
                      <a:pt x="21" y="7"/>
                    </a:lnTo>
                    <a:lnTo>
                      <a:pt x="7" y="2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02" name=""/>
              <p:cNvSpPr/>
              <p:nvPr/>
            </p:nvSpPr>
            <p:spPr>
              <a:xfrm>
                <a:off x="8184960" y="2927160"/>
                <a:ext cx="11160" cy="11160"/>
              </a:xfrm>
              <a:custGeom>
                <a:avLst/>
                <a:gdLst/>
                <a:ahLst/>
                <a:rect l="l" t="t" r="r" b="b"/>
                <a:pathLst>
                  <a:path w="21" h="19">
                    <a:moveTo>
                      <a:pt x="13" y="19"/>
                    </a:moveTo>
                    <a:lnTo>
                      <a:pt x="0" y="7"/>
                    </a:lnTo>
                    <a:lnTo>
                      <a:pt x="21" y="0"/>
                    </a:lnTo>
                    <a:lnTo>
                      <a:pt x="1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3" name=""/>
              <p:cNvSpPr/>
              <p:nvPr/>
            </p:nvSpPr>
            <p:spPr>
              <a:xfrm>
                <a:off x="8389800" y="2924280"/>
                <a:ext cx="7920" cy="10800"/>
              </a:xfrm>
              <a:custGeom>
                <a:avLst/>
                <a:gdLst/>
                <a:ahLst/>
                <a:rect l="l" t="t" r="r" b="b"/>
                <a:pathLst>
                  <a:path w="17" h="19">
                    <a:moveTo>
                      <a:pt x="0" y="19"/>
                    </a:moveTo>
                    <a:lnTo>
                      <a:pt x="0" y="0"/>
                    </a:lnTo>
                    <a:lnTo>
                      <a:pt x="17" y="12"/>
                    </a:lnTo>
                    <a:lnTo>
                      <a:pt x="0" y="1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04" name=""/>
              <p:cNvSpPr/>
              <p:nvPr/>
            </p:nvSpPr>
            <p:spPr>
              <a:xfrm>
                <a:off x="7827840" y="2916360"/>
                <a:ext cx="9720" cy="10800"/>
              </a:xfrm>
              <a:custGeom>
                <a:avLst/>
                <a:gdLst/>
                <a:ahLst/>
                <a:rect l="l" t="t" r="r" b="b"/>
                <a:pathLst>
                  <a:path w="18" h="22">
                    <a:moveTo>
                      <a:pt x="2" y="22"/>
                    </a:moveTo>
                    <a:lnTo>
                      <a:pt x="0" y="0"/>
                    </a:lnTo>
                    <a:lnTo>
                      <a:pt x="18" y="9"/>
                    </a:lnTo>
                    <a:lnTo>
                      <a:pt x="2"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05" name=""/>
              <p:cNvSpPr/>
              <p:nvPr/>
            </p:nvSpPr>
            <p:spPr>
              <a:xfrm>
                <a:off x="7343640" y="2797200"/>
                <a:ext cx="127080" cy="123840"/>
              </a:xfrm>
              <a:custGeom>
                <a:avLst/>
                <a:gdLst/>
                <a:ahLst/>
                <a:rect l="l" t="t" r="r" b="b"/>
                <a:pathLst>
                  <a:path w="240" h="233">
                    <a:moveTo>
                      <a:pt x="210" y="233"/>
                    </a:moveTo>
                    <a:lnTo>
                      <a:pt x="207" y="224"/>
                    </a:lnTo>
                    <a:lnTo>
                      <a:pt x="199" y="222"/>
                    </a:lnTo>
                    <a:lnTo>
                      <a:pt x="191" y="225"/>
                    </a:lnTo>
                    <a:lnTo>
                      <a:pt x="181" y="227"/>
                    </a:lnTo>
                    <a:lnTo>
                      <a:pt x="178" y="221"/>
                    </a:lnTo>
                    <a:lnTo>
                      <a:pt x="182" y="214"/>
                    </a:lnTo>
                    <a:lnTo>
                      <a:pt x="186" y="207"/>
                    </a:lnTo>
                    <a:lnTo>
                      <a:pt x="192" y="199"/>
                    </a:lnTo>
                    <a:lnTo>
                      <a:pt x="199" y="189"/>
                    </a:lnTo>
                    <a:lnTo>
                      <a:pt x="188" y="182"/>
                    </a:lnTo>
                    <a:lnTo>
                      <a:pt x="181" y="183"/>
                    </a:lnTo>
                    <a:lnTo>
                      <a:pt x="176" y="186"/>
                    </a:lnTo>
                    <a:lnTo>
                      <a:pt x="169" y="191"/>
                    </a:lnTo>
                    <a:lnTo>
                      <a:pt x="159" y="196"/>
                    </a:lnTo>
                    <a:lnTo>
                      <a:pt x="159" y="189"/>
                    </a:lnTo>
                    <a:lnTo>
                      <a:pt x="162" y="179"/>
                    </a:lnTo>
                    <a:lnTo>
                      <a:pt x="168" y="172"/>
                    </a:lnTo>
                    <a:lnTo>
                      <a:pt x="173" y="165"/>
                    </a:lnTo>
                    <a:lnTo>
                      <a:pt x="181" y="155"/>
                    </a:lnTo>
                    <a:lnTo>
                      <a:pt x="173" y="152"/>
                    </a:lnTo>
                    <a:lnTo>
                      <a:pt x="168" y="152"/>
                    </a:lnTo>
                    <a:lnTo>
                      <a:pt x="160" y="155"/>
                    </a:lnTo>
                    <a:lnTo>
                      <a:pt x="150" y="157"/>
                    </a:lnTo>
                    <a:lnTo>
                      <a:pt x="150" y="149"/>
                    </a:lnTo>
                    <a:lnTo>
                      <a:pt x="152" y="142"/>
                    </a:lnTo>
                    <a:lnTo>
                      <a:pt x="155" y="134"/>
                    </a:lnTo>
                    <a:lnTo>
                      <a:pt x="159" y="129"/>
                    </a:lnTo>
                    <a:lnTo>
                      <a:pt x="153" y="120"/>
                    </a:lnTo>
                    <a:lnTo>
                      <a:pt x="147" y="121"/>
                    </a:lnTo>
                    <a:lnTo>
                      <a:pt x="142" y="126"/>
                    </a:lnTo>
                    <a:lnTo>
                      <a:pt x="134" y="124"/>
                    </a:lnTo>
                    <a:lnTo>
                      <a:pt x="134" y="117"/>
                    </a:lnTo>
                    <a:lnTo>
                      <a:pt x="137" y="110"/>
                    </a:lnTo>
                    <a:lnTo>
                      <a:pt x="137" y="103"/>
                    </a:lnTo>
                    <a:lnTo>
                      <a:pt x="131" y="95"/>
                    </a:lnTo>
                    <a:lnTo>
                      <a:pt x="124" y="100"/>
                    </a:lnTo>
                    <a:lnTo>
                      <a:pt x="116" y="105"/>
                    </a:lnTo>
                    <a:lnTo>
                      <a:pt x="107" y="113"/>
                    </a:lnTo>
                    <a:lnTo>
                      <a:pt x="100" y="124"/>
                    </a:lnTo>
                    <a:lnTo>
                      <a:pt x="100" y="111"/>
                    </a:lnTo>
                    <a:lnTo>
                      <a:pt x="102" y="98"/>
                    </a:lnTo>
                    <a:lnTo>
                      <a:pt x="105" y="85"/>
                    </a:lnTo>
                    <a:lnTo>
                      <a:pt x="107" y="69"/>
                    </a:lnTo>
                    <a:lnTo>
                      <a:pt x="98" y="72"/>
                    </a:lnTo>
                    <a:lnTo>
                      <a:pt x="91" y="78"/>
                    </a:lnTo>
                    <a:lnTo>
                      <a:pt x="85" y="84"/>
                    </a:lnTo>
                    <a:lnTo>
                      <a:pt x="76" y="90"/>
                    </a:lnTo>
                    <a:lnTo>
                      <a:pt x="76" y="79"/>
                    </a:lnTo>
                    <a:lnTo>
                      <a:pt x="78" y="68"/>
                    </a:lnTo>
                    <a:lnTo>
                      <a:pt x="81" y="58"/>
                    </a:lnTo>
                    <a:lnTo>
                      <a:pt x="89" y="48"/>
                    </a:lnTo>
                    <a:lnTo>
                      <a:pt x="81" y="42"/>
                    </a:lnTo>
                    <a:lnTo>
                      <a:pt x="71" y="40"/>
                    </a:lnTo>
                    <a:lnTo>
                      <a:pt x="63" y="43"/>
                    </a:lnTo>
                    <a:lnTo>
                      <a:pt x="59" y="49"/>
                    </a:lnTo>
                    <a:lnTo>
                      <a:pt x="55" y="56"/>
                    </a:lnTo>
                    <a:lnTo>
                      <a:pt x="48" y="66"/>
                    </a:lnTo>
                    <a:lnTo>
                      <a:pt x="48" y="58"/>
                    </a:lnTo>
                    <a:lnTo>
                      <a:pt x="50" y="52"/>
                    </a:lnTo>
                    <a:lnTo>
                      <a:pt x="53" y="45"/>
                    </a:lnTo>
                    <a:lnTo>
                      <a:pt x="56" y="33"/>
                    </a:lnTo>
                    <a:lnTo>
                      <a:pt x="48" y="30"/>
                    </a:lnTo>
                    <a:lnTo>
                      <a:pt x="42" y="33"/>
                    </a:lnTo>
                    <a:lnTo>
                      <a:pt x="35" y="40"/>
                    </a:lnTo>
                    <a:lnTo>
                      <a:pt x="27" y="49"/>
                    </a:lnTo>
                    <a:lnTo>
                      <a:pt x="22" y="49"/>
                    </a:lnTo>
                    <a:lnTo>
                      <a:pt x="16" y="48"/>
                    </a:lnTo>
                    <a:lnTo>
                      <a:pt x="9" y="46"/>
                    </a:lnTo>
                    <a:lnTo>
                      <a:pt x="0" y="42"/>
                    </a:lnTo>
                    <a:lnTo>
                      <a:pt x="16" y="33"/>
                    </a:lnTo>
                    <a:lnTo>
                      <a:pt x="32" y="26"/>
                    </a:lnTo>
                    <a:lnTo>
                      <a:pt x="49" y="17"/>
                    </a:lnTo>
                    <a:lnTo>
                      <a:pt x="68" y="10"/>
                    </a:lnTo>
                    <a:lnTo>
                      <a:pt x="87" y="6"/>
                    </a:lnTo>
                    <a:lnTo>
                      <a:pt x="107" y="1"/>
                    </a:lnTo>
                    <a:lnTo>
                      <a:pt x="127" y="0"/>
                    </a:lnTo>
                    <a:lnTo>
                      <a:pt x="149" y="1"/>
                    </a:lnTo>
                    <a:lnTo>
                      <a:pt x="165" y="19"/>
                    </a:lnTo>
                    <a:lnTo>
                      <a:pt x="179" y="39"/>
                    </a:lnTo>
                    <a:lnTo>
                      <a:pt x="192" y="61"/>
                    </a:lnTo>
                    <a:lnTo>
                      <a:pt x="202" y="84"/>
                    </a:lnTo>
                    <a:lnTo>
                      <a:pt x="212" y="110"/>
                    </a:lnTo>
                    <a:lnTo>
                      <a:pt x="221" y="136"/>
                    </a:lnTo>
                    <a:lnTo>
                      <a:pt x="231" y="162"/>
                    </a:lnTo>
                    <a:lnTo>
                      <a:pt x="240" y="189"/>
                    </a:lnTo>
                    <a:lnTo>
                      <a:pt x="238" y="196"/>
                    </a:lnTo>
                    <a:lnTo>
                      <a:pt x="237" y="205"/>
                    </a:lnTo>
                    <a:lnTo>
                      <a:pt x="234" y="212"/>
                    </a:lnTo>
                    <a:lnTo>
                      <a:pt x="227" y="220"/>
                    </a:lnTo>
                    <a:lnTo>
                      <a:pt x="210" y="233"/>
                    </a:lnTo>
                    <a:close/>
                  </a:path>
                </a:pathLst>
              </a:custGeom>
              <a:solidFill>
                <a:srgbClr val="66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7624800" y="2903400"/>
                <a:ext cx="7920" cy="11160"/>
              </a:xfrm>
              <a:custGeom>
                <a:avLst/>
                <a:gdLst/>
                <a:ahLst/>
                <a:rect l="l" t="t" r="r" b="b"/>
                <a:pathLst>
                  <a:path w="13" h="20">
                    <a:moveTo>
                      <a:pt x="0" y="20"/>
                    </a:moveTo>
                    <a:lnTo>
                      <a:pt x="1" y="0"/>
                    </a:lnTo>
                    <a:lnTo>
                      <a:pt x="8" y="3"/>
                    </a:lnTo>
                    <a:lnTo>
                      <a:pt x="13" y="7"/>
                    </a:lnTo>
                    <a:lnTo>
                      <a:pt x="13" y="15"/>
                    </a:lnTo>
                    <a:lnTo>
                      <a:pt x="10"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7" name=""/>
              <p:cNvSpPr/>
              <p:nvPr/>
            </p:nvSpPr>
            <p:spPr>
              <a:xfrm>
                <a:off x="7729560" y="2894040"/>
                <a:ext cx="9360" cy="14040"/>
              </a:xfrm>
              <a:custGeom>
                <a:avLst/>
                <a:gdLst/>
                <a:ahLst/>
                <a:rect l="l" t="t" r="r" b="b"/>
                <a:pathLst>
                  <a:path w="17" h="28">
                    <a:moveTo>
                      <a:pt x="7" y="28"/>
                    </a:moveTo>
                    <a:lnTo>
                      <a:pt x="0" y="25"/>
                    </a:lnTo>
                    <a:lnTo>
                      <a:pt x="1" y="16"/>
                    </a:lnTo>
                    <a:lnTo>
                      <a:pt x="5" y="8"/>
                    </a:lnTo>
                    <a:lnTo>
                      <a:pt x="8" y="0"/>
                    </a:lnTo>
                    <a:lnTo>
                      <a:pt x="16" y="5"/>
                    </a:lnTo>
                    <a:lnTo>
                      <a:pt x="17" y="13"/>
                    </a:lnTo>
                    <a:lnTo>
                      <a:pt x="13" y="24"/>
                    </a:lnTo>
                    <a:lnTo>
                      <a:pt x="7" y="2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08" name=""/>
              <p:cNvSpPr/>
              <p:nvPr/>
            </p:nvSpPr>
            <p:spPr>
              <a:xfrm>
                <a:off x="8015400" y="2882880"/>
                <a:ext cx="7920" cy="11160"/>
              </a:xfrm>
              <a:custGeom>
                <a:avLst/>
                <a:gdLst/>
                <a:ahLst/>
                <a:rect l="l" t="t" r="r" b="b"/>
                <a:pathLst>
                  <a:path w="17" h="20">
                    <a:moveTo>
                      <a:pt x="0" y="20"/>
                    </a:moveTo>
                    <a:lnTo>
                      <a:pt x="2" y="0"/>
                    </a:lnTo>
                    <a:lnTo>
                      <a:pt x="14" y="0"/>
                    </a:lnTo>
                    <a:lnTo>
                      <a:pt x="17" y="9"/>
                    </a:lnTo>
                    <a:lnTo>
                      <a:pt x="15" y="16"/>
                    </a:lnTo>
                    <a:lnTo>
                      <a:pt x="8"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9" name=""/>
              <p:cNvSpPr/>
              <p:nvPr/>
            </p:nvSpPr>
            <p:spPr>
              <a:xfrm>
                <a:off x="7893000" y="2882880"/>
                <a:ext cx="14400" cy="9360"/>
              </a:xfrm>
              <a:custGeom>
                <a:avLst/>
                <a:gdLst/>
                <a:ahLst/>
                <a:rect l="l" t="t" r="r" b="b"/>
                <a:pathLst>
                  <a:path w="27" h="18">
                    <a:moveTo>
                      <a:pt x="3" y="18"/>
                    </a:moveTo>
                    <a:lnTo>
                      <a:pt x="0" y="6"/>
                    </a:lnTo>
                    <a:lnTo>
                      <a:pt x="4" y="2"/>
                    </a:lnTo>
                    <a:lnTo>
                      <a:pt x="10" y="0"/>
                    </a:lnTo>
                    <a:lnTo>
                      <a:pt x="18" y="2"/>
                    </a:lnTo>
                    <a:lnTo>
                      <a:pt x="26" y="5"/>
                    </a:lnTo>
                    <a:lnTo>
                      <a:pt x="27" y="12"/>
                    </a:lnTo>
                    <a:lnTo>
                      <a:pt x="20" y="15"/>
                    </a:lnTo>
                    <a:lnTo>
                      <a:pt x="10" y="16"/>
                    </a:lnTo>
                    <a:lnTo>
                      <a:pt x="3"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10" name=""/>
              <p:cNvSpPr/>
              <p:nvPr/>
            </p:nvSpPr>
            <p:spPr>
              <a:xfrm>
                <a:off x="7086600" y="2886120"/>
                <a:ext cx="9360" cy="11160"/>
              </a:xfrm>
              <a:custGeom>
                <a:avLst/>
                <a:gdLst/>
                <a:ahLst/>
                <a:rect l="l" t="t" r="r" b="b"/>
                <a:pathLst>
                  <a:path w="16" h="21">
                    <a:moveTo>
                      <a:pt x="0" y="21"/>
                    </a:moveTo>
                    <a:lnTo>
                      <a:pt x="0" y="0"/>
                    </a:lnTo>
                    <a:lnTo>
                      <a:pt x="16" y="5"/>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1" name=""/>
              <p:cNvSpPr/>
              <p:nvPr/>
            </p:nvSpPr>
            <p:spPr>
              <a:xfrm>
                <a:off x="7959600" y="2873160"/>
                <a:ext cx="7920" cy="11160"/>
              </a:xfrm>
              <a:custGeom>
                <a:avLst/>
                <a:gdLst/>
                <a:ahLst/>
                <a:rect l="l" t="t" r="r" b="b"/>
                <a:pathLst>
                  <a:path w="16" h="22">
                    <a:moveTo>
                      <a:pt x="3" y="21"/>
                    </a:moveTo>
                    <a:lnTo>
                      <a:pt x="0" y="15"/>
                    </a:lnTo>
                    <a:lnTo>
                      <a:pt x="2" y="8"/>
                    </a:lnTo>
                    <a:lnTo>
                      <a:pt x="6" y="2"/>
                    </a:lnTo>
                    <a:lnTo>
                      <a:pt x="13" y="0"/>
                    </a:lnTo>
                    <a:lnTo>
                      <a:pt x="16" y="6"/>
                    </a:lnTo>
                    <a:lnTo>
                      <a:pt x="15" y="16"/>
                    </a:lnTo>
                    <a:lnTo>
                      <a:pt x="11" y="22"/>
                    </a:lnTo>
                    <a:lnTo>
                      <a:pt x="3"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2" name=""/>
              <p:cNvSpPr/>
              <p:nvPr/>
            </p:nvSpPr>
            <p:spPr>
              <a:xfrm>
                <a:off x="8145360" y="2867040"/>
                <a:ext cx="11160" cy="11160"/>
              </a:xfrm>
              <a:custGeom>
                <a:avLst/>
                <a:gdLst/>
                <a:ahLst/>
                <a:rect l="l" t="t" r="r" b="b"/>
                <a:pathLst>
                  <a:path w="22" h="20">
                    <a:moveTo>
                      <a:pt x="6" y="20"/>
                    </a:moveTo>
                    <a:lnTo>
                      <a:pt x="0" y="0"/>
                    </a:lnTo>
                    <a:lnTo>
                      <a:pt x="22" y="4"/>
                    </a:lnTo>
                    <a:lnTo>
                      <a:pt x="6"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3" name=""/>
              <p:cNvSpPr/>
              <p:nvPr/>
            </p:nvSpPr>
            <p:spPr>
              <a:xfrm>
                <a:off x="8211960" y="2863800"/>
                <a:ext cx="7920" cy="14400"/>
              </a:xfrm>
              <a:custGeom>
                <a:avLst/>
                <a:gdLst/>
                <a:ahLst/>
                <a:rect l="l" t="t" r="r" b="b"/>
                <a:pathLst>
                  <a:path w="16" h="25">
                    <a:moveTo>
                      <a:pt x="4" y="25"/>
                    </a:moveTo>
                    <a:lnTo>
                      <a:pt x="0" y="20"/>
                    </a:lnTo>
                    <a:lnTo>
                      <a:pt x="0" y="12"/>
                    </a:lnTo>
                    <a:lnTo>
                      <a:pt x="3" y="4"/>
                    </a:lnTo>
                    <a:lnTo>
                      <a:pt x="11" y="0"/>
                    </a:lnTo>
                    <a:lnTo>
                      <a:pt x="16" y="6"/>
                    </a:lnTo>
                    <a:lnTo>
                      <a:pt x="16" y="12"/>
                    </a:lnTo>
                    <a:lnTo>
                      <a:pt x="11" y="19"/>
                    </a:lnTo>
                    <a:lnTo>
                      <a:pt x="4" y="2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14" name=""/>
              <p:cNvSpPr/>
              <p:nvPr/>
            </p:nvSpPr>
            <p:spPr>
              <a:xfrm>
                <a:off x="8346960" y="2862360"/>
                <a:ext cx="11160" cy="10800"/>
              </a:xfrm>
              <a:custGeom>
                <a:avLst/>
                <a:gdLst/>
                <a:ahLst/>
                <a:rect l="l" t="t" r="r" b="b"/>
                <a:pathLst>
                  <a:path w="20" h="21">
                    <a:moveTo>
                      <a:pt x="2" y="21"/>
                    </a:moveTo>
                    <a:lnTo>
                      <a:pt x="0" y="0"/>
                    </a:lnTo>
                    <a:lnTo>
                      <a:pt x="20" y="4"/>
                    </a:lnTo>
                    <a:lnTo>
                      <a:pt x="2"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15" name=""/>
              <p:cNvSpPr/>
              <p:nvPr/>
            </p:nvSpPr>
            <p:spPr>
              <a:xfrm>
                <a:off x="7014960" y="2862360"/>
                <a:ext cx="17640" cy="12600"/>
              </a:xfrm>
              <a:custGeom>
                <a:avLst/>
                <a:gdLst/>
                <a:ahLst/>
                <a:rect l="l" t="t" r="r" b="b"/>
                <a:pathLst>
                  <a:path w="34" h="23">
                    <a:moveTo>
                      <a:pt x="5" y="23"/>
                    </a:moveTo>
                    <a:lnTo>
                      <a:pt x="1" y="20"/>
                    </a:lnTo>
                    <a:lnTo>
                      <a:pt x="0" y="13"/>
                    </a:lnTo>
                    <a:lnTo>
                      <a:pt x="2" y="5"/>
                    </a:lnTo>
                    <a:lnTo>
                      <a:pt x="7" y="0"/>
                    </a:lnTo>
                    <a:lnTo>
                      <a:pt x="14" y="2"/>
                    </a:lnTo>
                    <a:lnTo>
                      <a:pt x="21" y="5"/>
                    </a:lnTo>
                    <a:lnTo>
                      <a:pt x="27" y="10"/>
                    </a:lnTo>
                    <a:lnTo>
                      <a:pt x="34" y="16"/>
                    </a:lnTo>
                    <a:lnTo>
                      <a:pt x="31" y="22"/>
                    </a:lnTo>
                    <a:lnTo>
                      <a:pt x="24" y="23"/>
                    </a:lnTo>
                    <a:lnTo>
                      <a:pt x="14" y="22"/>
                    </a:lnTo>
                    <a:lnTo>
                      <a:pt x="5"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16" name=""/>
              <p:cNvSpPr/>
              <p:nvPr/>
            </p:nvSpPr>
            <p:spPr>
              <a:xfrm>
                <a:off x="7145280" y="2859120"/>
                <a:ext cx="11160" cy="12600"/>
              </a:xfrm>
              <a:custGeom>
                <a:avLst/>
                <a:gdLst/>
                <a:ahLst/>
                <a:rect l="l" t="t" r="r" b="b"/>
                <a:pathLst>
                  <a:path w="22" h="25">
                    <a:moveTo>
                      <a:pt x="3" y="25"/>
                    </a:moveTo>
                    <a:lnTo>
                      <a:pt x="0" y="3"/>
                    </a:lnTo>
                    <a:lnTo>
                      <a:pt x="10" y="0"/>
                    </a:lnTo>
                    <a:lnTo>
                      <a:pt x="22" y="17"/>
                    </a:lnTo>
                    <a:lnTo>
                      <a:pt x="3"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17" name=""/>
              <p:cNvSpPr/>
              <p:nvPr/>
            </p:nvSpPr>
            <p:spPr>
              <a:xfrm>
                <a:off x="8077320" y="2846160"/>
                <a:ext cx="10800" cy="11160"/>
              </a:xfrm>
              <a:custGeom>
                <a:avLst/>
                <a:gdLst/>
                <a:ahLst/>
                <a:rect l="l" t="t" r="r" b="b"/>
                <a:pathLst>
                  <a:path w="21" h="21">
                    <a:moveTo>
                      <a:pt x="11" y="21"/>
                    </a:moveTo>
                    <a:lnTo>
                      <a:pt x="0" y="13"/>
                    </a:lnTo>
                    <a:lnTo>
                      <a:pt x="14" y="0"/>
                    </a:lnTo>
                    <a:lnTo>
                      <a:pt x="18" y="5"/>
                    </a:lnTo>
                    <a:lnTo>
                      <a:pt x="21" y="12"/>
                    </a:lnTo>
                    <a:lnTo>
                      <a:pt x="18" y="19"/>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8" name=""/>
              <p:cNvSpPr/>
              <p:nvPr/>
            </p:nvSpPr>
            <p:spPr>
              <a:xfrm>
                <a:off x="8391600" y="2835360"/>
                <a:ext cx="12600" cy="10800"/>
              </a:xfrm>
              <a:custGeom>
                <a:avLst/>
                <a:gdLst/>
                <a:ahLst/>
                <a:rect l="l" t="t" r="r" b="b"/>
                <a:pathLst>
                  <a:path w="25" h="21">
                    <a:moveTo>
                      <a:pt x="6" y="21"/>
                    </a:moveTo>
                    <a:lnTo>
                      <a:pt x="0" y="10"/>
                    </a:lnTo>
                    <a:lnTo>
                      <a:pt x="3" y="4"/>
                    </a:lnTo>
                    <a:lnTo>
                      <a:pt x="9" y="1"/>
                    </a:lnTo>
                    <a:lnTo>
                      <a:pt x="16" y="0"/>
                    </a:lnTo>
                    <a:lnTo>
                      <a:pt x="25" y="1"/>
                    </a:lnTo>
                    <a:lnTo>
                      <a:pt x="25" y="7"/>
                    </a:lnTo>
                    <a:lnTo>
                      <a:pt x="22" y="13"/>
                    </a:lnTo>
                    <a:lnTo>
                      <a:pt x="16" y="19"/>
                    </a:lnTo>
                    <a:lnTo>
                      <a:pt x="6"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19" name=""/>
              <p:cNvSpPr/>
              <p:nvPr/>
            </p:nvSpPr>
            <p:spPr>
              <a:xfrm>
                <a:off x="7696080" y="2843280"/>
                <a:ext cx="7920" cy="11160"/>
              </a:xfrm>
              <a:custGeom>
                <a:avLst/>
                <a:gdLst/>
                <a:ahLst/>
                <a:rect l="l" t="t" r="r" b="b"/>
                <a:pathLst>
                  <a:path w="17" h="19">
                    <a:moveTo>
                      <a:pt x="2" y="19"/>
                    </a:moveTo>
                    <a:lnTo>
                      <a:pt x="0" y="0"/>
                    </a:lnTo>
                    <a:lnTo>
                      <a:pt x="17" y="2"/>
                    </a:lnTo>
                    <a:lnTo>
                      <a:pt x="2"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0" name=""/>
              <p:cNvSpPr/>
              <p:nvPr/>
            </p:nvSpPr>
            <p:spPr>
              <a:xfrm>
                <a:off x="8292960" y="2832120"/>
                <a:ext cx="11160" cy="12600"/>
              </a:xfrm>
              <a:custGeom>
                <a:avLst/>
                <a:gdLst/>
                <a:ahLst/>
                <a:rect l="l" t="t" r="r" b="b"/>
                <a:pathLst>
                  <a:path w="19" h="25">
                    <a:moveTo>
                      <a:pt x="6" y="25"/>
                    </a:moveTo>
                    <a:lnTo>
                      <a:pt x="0" y="20"/>
                    </a:lnTo>
                    <a:lnTo>
                      <a:pt x="0" y="12"/>
                    </a:lnTo>
                    <a:lnTo>
                      <a:pt x="3" y="4"/>
                    </a:lnTo>
                    <a:lnTo>
                      <a:pt x="9" y="0"/>
                    </a:lnTo>
                    <a:lnTo>
                      <a:pt x="15" y="4"/>
                    </a:lnTo>
                    <a:lnTo>
                      <a:pt x="19" y="13"/>
                    </a:lnTo>
                    <a:lnTo>
                      <a:pt x="18" y="22"/>
                    </a:lnTo>
                    <a:lnTo>
                      <a:pt x="6"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21" name=""/>
              <p:cNvSpPr/>
              <p:nvPr/>
            </p:nvSpPr>
            <p:spPr>
              <a:xfrm>
                <a:off x="7781760" y="2832120"/>
                <a:ext cx="11160" cy="9360"/>
              </a:xfrm>
              <a:custGeom>
                <a:avLst/>
                <a:gdLst/>
                <a:ahLst/>
                <a:rect l="l" t="t" r="r" b="b"/>
                <a:pathLst>
                  <a:path w="23" h="19">
                    <a:moveTo>
                      <a:pt x="7" y="15"/>
                    </a:moveTo>
                    <a:lnTo>
                      <a:pt x="0" y="8"/>
                    </a:lnTo>
                    <a:lnTo>
                      <a:pt x="20" y="0"/>
                    </a:lnTo>
                    <a:lnTo>
                      <a:pt x="23" y="8"/>
                    </a:lnTo>
                    <a:lnTo>
                      <a:pt x="21" y="15"/>
                    </a:lnTo>
                    <a:lnTo>
                      <a:pt x="15" y="19"/>
                    </a:lnTo>
                    <a:lnTo>
                      <a:pt x="7"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22" name=""/>
              <p:cNvSpPr/>
              <p:nvPr/>
            </p:nvSpPr>
            <p:spPr>
              <a:xfrm>
                <a:off x="7599240" y="2817720"/>
                <a:ext cx="9720" cy="14400"/>
              </a:xfrm>
              <a:custGeom>
                <a:avLst/>
                <a:gdLst/>
                <a:ahLst/>
                <a:rect l="l" t="t" r="r" b="b"/>
                <a:pathLst>
                  <a:path w="17" h="28">
                    <a:moveTo>
                      <a:pt x="6" y="28"/>
                    </a:moveTo>
                    <a:lnTo>
                      <a:pt x="0" y="24"/>
                    </a:lnTo>
                    <a:lnTo>
                      <a:pt x="0" y="17"/>
                    </a:lnTo>
                    <a:lnTo>
                      <a:pt x="4" y="8"/>
                    </a:lnTo>
                    <a:lnTo>
                      <a:pt x="6" y="0"/>
                    </a:lnTo>
                    <a:lnTo>
                      <a:pt x="14" y="0"/>
                    </a:lnTo>
                    <a:lnTo>
                      <a:pt x="17" y="7"/>
                    </a:lnTo>
                    <a:lnTo>
                      <a:pt x="17" y="15"/>
                    </a:lnTo>
                    <a:lnTo>
                      <a:pt x="11" y="24"/>
                    </a:lnTo>
                    <a:lnTo>
                      <a:pt x="6" y="2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3" name=""/>
              <p:cNvSpPr/>
              <p:nvPr/>
            </p:nvSpPr>
            <p:spPr>
              <a:xfrm>
                <a:off x="7927920" y="2817720"/>
                <a:ext cx="6480" cy="9720"/>
              </a:xfrm>
              <a:custGeom>
                <a:avLst/>
                <a:gdLst/>
                <a:ahLst/>
                <a:rect l="l" t="t" r="r" b="b"/>
                <a:pathLst>
                  <a:path w="13" h="18">
                    <a:moveTo>
                      <a:pt x="0" y="18"/>
                    </a:moveTo>
                    <a:lnTo>
                      <a:pt x="1" y="0"/>
                    </a:lnTo>
                    <a:lnTo>
                      <a:pt x="11" y="1"/>
                    </a:lnTo>
                    <a:lnTo>
                      <a:pt x="13" y="7"/>
                    </a:lnTo>
                    <a:lnTo>
                      <a:pt x="8" y="15"/>
                    </a:lnTo>
                    <a:lnTo>
                      <a:pt x="0"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24" name=""/>
              <p:cNvSpPr/>
              <p:nvPr/>
            </p:nvSpPr>
            <p:spPr>
              <a:xfrm>
                <a:off x="7516800" y="2820960"/>
                <a:ext cx="17280" cy="11160"/>
              </a:xfrm>
              <a:custGeom>
                <a:avLst/>
                <a:gdLst/>
                <a:ahLst/>
                <a:rect l="l" t="t" r="r" b="b"/>
                <a:pathLst>
                  <a:path w="33" h="19">
                    <a:moveTo>
                      <a:pt x="10" y="19"/>
                    </a:moveTo>
                    <a:lnTo>
                      <a:pt x="0" y="3"/>
                    </a:lnTo>
                    <a:lnTo>
                      <a:pt x="8" y="0"/>
                    </a:lnTo>
                    <a:lnTo>
                      <a:pt x="17" y="0"/>
                    </a:lnTo>
                    <a:lnTo>
                      <a:pt x="26" y="0"/>
                    </a:lnTo>
                    <a:lnTo>
                      <a:pt x="33" y="3"/>
                    </a:lnTo>
                    <a:lnTo>
                      <a:pt x="10"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5" name=""/>
              <p:cNvSpPr/>
              <p:nvPr/>
            </p:nvSpPr>
            <p:spPr>
              <a:xfrm>
                <a:off x="7864560" y="2816280"/>
                <a:ext cx="7920" cy="11160"/>
              </a:xfrm>
              <a:custGeom>
                <a:avLst/>
                <a:gdLst/>
                <a:ahLst/>
                <a:rect l="l" t="t" r="r" b="b"/>
                <a:pathLst>
                  <a:path w="17" h="21">
                    <a:moveTo>
                      <a:pt x="5" y="21"/>
                    </a:moveTo>
                    <a:lnTo>
                      <a:pt x="0" y="17"/>
                    </a:lnTo>
                    <a:lnTo>
                      <a:pt x="3" y="10"/>
                    </a:lnTo>
                    <a:lnTo>
                      <a:pt x="10" y="4"/>
                    </a:lnTo>
                    <a:lnTo>
                      <a:pt x="17" y="0"/>
                    </a:lnTo>
                    <a:lnTo>
                      <a:pt x="5"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6" name=""/>
              <p:cNvSpPr/>
              <p:nvPr/>
            </p:nvSpPr>
            <p:spPr>
              <a:xfrm>
                <a:off x="8055000" y="2805120"/>
                <a:ext cx="11160" cy="14400"/>
              </a:xfrm>
              <a:custGeom>
                <a:avLst/>
                <a:gdLst/>
                <a:ahLst/>
                <a:rect l="l" t="t" r="r" b="b"/>
                <a:pathLst>
                  <a:path w="20" h="26">
                    <a:moveTo>
                      <a:pt x="6" y="26"/>
                    </a:moveTo>
                    <a:lnTo>
                      <a:pt x="0" y="22"/>
                    </a:lnTo>
                    <a:lnTo>
                      <a:pt x="2" y="13"/>
                    </a:lnTo>
                    <a:lnTo>
                      <a:pt x="6" y="4"/>
                    </a:lnTo>
                    <a:lnTo>
                      <a:pt x="12" y="0"/>
                    </a:lnTo>
                    <a:lnTo>
                      <a:pt x="18" y="4"/>
                    </a:lnTo>
                    <a:lnTo>
                      <a:pt x="20" y="13"/>
                    </a:lnTo>
                    <a:lnTo>
                      <a:pt x="16" y="22"/>
                    </a:lnTo>
                    <a:lnTo>
                      <a:pt x="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7" name=""/>
              <p:cNvSpPr/>
              <p:nvPr/>
            </p:nvSpPr>
            <p:spPr>
              <a:xfrm>
                <a:off x="8196120" y="2801880"/>
                <a:ext cx="11160" cy="11160"/>
              </a:xfrm>
              <a:custGeom>
                <a:avLst/>
                <a:gdLst/>
                <a:ahLst/>
                <a:rect l="l" t="t" r="r" b="b"/>
                <a:pathLst>
                  <a:path w="20" h="21">
                    <a:moveTo>
                      <a:pt x="11" y="21"/>
                    </a:moveTo>
                    <a:lnTo>
                      <a:pt x="0" y="13"/>
                    </a:lnTo>
                    <a:lnTo>
                      <a:pt x="1" y="5"/>
                    </a:lnTo>
                    <a:lnTo>
                      <a:pt x="7" y="1"/>
                    </a:lnTo>
                    <a:lnTo>
                      <a:pt x="14" y="0"/>
                    </a:lnTo>
                    <a:lnTo>
                      <a:pt x="20" y="3"/>
                    </a:lnTo>
                    <a:lnTo>
                      <a:pt x="11"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8" name=""/>
              <p:cNvSpPr/>
              <p:nvPr/>
            </p:nvSpPr>
            <p:spPr>
              <a:xfrm>
                <a:off x="7993080" y="2801880"/>
                <a:ext cx="11160" cy="7920"/>
              </a:xfrm>
              <a:custGeom>
                <a:avLst/>
                <a:gdLst/>
                <a:ahLst/>
                <a:rect l="l" t="t" r="r" b="b"/>
                <a:pathLst>
                  <a:path w="23" h="16">
                    <a:moveTo>
                      <a:pt x="13" y="16"/>
                    </a:moveTo>
                    <a:lnTo>
                      <a:pt x="0" y="0"/>
                    </a:lnTo>
                    <a:lnTo>
                      <a:pt x="23" y="0"/>
                    </a:lnTo>
                    <a:lnTo>
                      <a:pt x="13"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9" name=""/>
              <p:cNvSpPr/>
              <p:nvPr/>
            </p:nvSpPr>
            <p:spPr>
              <a:xfrm>
                <a:off x="8126280" y="2795400"/>
                <a:ext cx="11160" cy="11160"/>
              </a:xfrm>
              <a:custGeom>
                <a:avLst/>
                <a:gdLst/>
                <a:ahLst/>
                <a:rect l="l" t="t" r="r" b="b"/>
                <a:pathLst>
                  <a:path w="19" h="20">
                    <a:moveTo>
                      <a:pt x="3" y="19"/>
                    </a:moveTo>
                    <a:lnTo>
                      <a:pt x="0" y="12"/>
                    </a:lnTo>
                    <a:lnTo>
                      <a:pt x="2" y="4"/>
                    </a:lnTo>
                    <a:lnTo>
                      <a:pt x="7" y="0"/>
                    </a:lnTo>
                    <a:lnTo>
                      <a:pt x="16" y="0"/>
                    </a:lnTo>
                    <a:lnTo>
                      <a:pt x="19" y="9"/>
                    </a:lnTo>
                    <a:lnTo>
                      <a:pt x="17" y="16"/>
                    </a:lnTo>
                    <a:lnTo>
                      <a:pt x="12" y="20"/>
                    </a:lnTo>
                    <a:lnTo>
                      <a:pt x="3" y="1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0" name=""/>
              <p:cNvSpPr/>
              <p:nvPr/>
            </p:nvSpPr>
            <p:spPr>
              <a:xfrm>
                <a:off x="7164360" y="2797200"/>
                <a:ext cx="12600" cy="15840"/>
              </a:xfrm>
              <a:custGeom>
                <a:avLst/>
                <a:gdLst/>
                <a:ahLst/>
                <a:rect l="l" t="t" r="r" b="b"/>
                <a:pathLst>
                  <a:path w="26" h="29">
                    <a:moveTo>
                      <a:pt x="7" y="29"/>
                    </a:moveTo>
                    <a:lnTo>
                      <a:pt x="1" y="23"/>
                    </a:lnTo>
                    <a:lnTo>
                      <a:pt x="0" y="16"/>
                    </a:lnTo>
                    <a:lnTo>
                      <a:pt x="2" y="7"/>
                    </a:lnTo>
                    <a:lnTo>
                      <a:pt x="7" y="0"/>
                    </a:lnTo>
                    <a:lnTo>
                      <a:pt x="26" y="12"/>
                    </a:lnTo>
                    <a:lnTo>
                      <a:pt x="7"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31" name=""/>
              <p:cNvSpPr/>
              <p:nvPr/>
            </p:nvSpPr>
            <p:spPr>
              <a:xfrm>
                <a:off x="7740720" y="2771640"/>
                <a:ext cx="11160" cy="11160"/>
              </a:xfrm>
              <a:custGeom>
                <a:avLst/>
                <a:gdLst/>
                <a:ahLst/>
                <a:rect l="l" t="t" r="r" b="b"/>
                <a:pathLst>
                  <a:path w="20" h="23">
                    <a:moveTo>
                      <a:pt x="6" y="23"/>
                    </a:moveTo>
                    <a:lnTo>
                      <a:pt x="0" y="19"/>
                    </a:lnTo>
                    <a:lnTo>
                      <a:pt x="0" y="11"/>
                    </a:lnTo>
                    <a:lnTo>
                      <a:pt x="6" y="3"/>
                    </a:lnTo>
                    <a:lnTo>
                      <a:pt x="14" y="0"/>
                    </a:lnTo>
                    <a:lnTo>
                      <a:pt x="20" y="4"/>
                    </a:lnTo>
                    <a:lnTo>
                      <a:pt x="19" y="11"/>
                    </a:lnTo>
                    <a:lnTo>
                      <a:pt x="11" y="19"/>
                    </a:lnTo>
                    <a:lnTo>
                      <a:pt x="6" y="2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2" name=""/>
              <p:cNvSpPr/>
              <p:nvPr/>
            </p:nvSpPr>
            <p:spPr>
              <a:xfrm>
                <a:off x="7080120" y="2779560"/>
                <a:ext cx="12600" cy="11160"/>
              </a:xfrm>
              <a:custGeom>
                <a:avLst/>
                <a:gdLst/>
                <a:ahLst/>
                <a:rect l="l" t="t" r="r" b="b"/>
                <a:pathLst>
                  <a:path w="23" h="21">
                    <a:moveTo>
                      <a:pt x="6" y="21"/>
                    </a:moveTo>
                    <a:lnTo>
                      <a:pt x="0" y="3"/>
                    </a:lnTo>
                    <a:lnTo>
                      <a:pt x="7" y="0"/>
                    </a:lnTo>
                    <a:lnTo>
                      <a:pt x="14" y="1"/>
                    </a:lnTo>
                    <a:lnTo>
                      <a:pt x="20" y="7"/>
                    </a:lnTo>
                    <a:lnTo>
                      <a:pt x="23" y="14"/>
                    </a:lnTo>
                    <a:lnTo>
                      <a:pt x="6"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3" name=""/>
              <p:cNvSpPr/>
              <p:nvPr/>
            </p:nvSpPr>
            <p:spPr>
              <a:xfrm>
                <a:off x="8327880" y="2763720"/>
                <a:ext cx="11160" cy="9720"/>
              </a:xfrm>
              <a:custGeom>
                <a:avLst/>
                <a:gdLst/>
                <a:ahLst/>
                <a:rect l="l" t="t" r="r" b="b"/>
                <a:pathLst>
                  <a:path w="21" h="19">
                    <a:moveTo>
                      <a:pt x="0" y="19"/>
                    </a:moveTo>
                    <a:lnTo>
                      <a:pt x="2" y="0"/>
                    </a:lnTo>
                    <a:lnTo>
                      <a:pt x="21" y="10"/>
                    </a:lnTo>
                    <a:lnTo>
                      <a:pt x="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34" name=""/>
              <p:cNvSpPr/>
              <p:nvPr/>
            </p:nvSpPr>
            <p:spPr>
              <a:xfrm>
                <a:off x="7037280" y="2774880"/>
                <a:ext cx="11160" cy="12600"/>
              </a:xfrm>
              <a:custGeom>
                <a:avLst/>
                <a:gdLst/>
                <a:ahLst/>
                <a:rect l="l" t="t" r="r" b="b"/>
                <a:pathLst>
                  <a:path w="20" h="23">
                    <a:moveTo>
                      <a:pt x="1" y="23"/>
                    </a:moveTo>
                    <a:lnTo>
                      <a:pt x="0" y="16"/>
                    </a:lnTo>
                    <a:lnTo>
                      <a:pt x="1" y="10"/>
                    </a:lnTo>
                    <a:lnTo>
                      <a:pt x="9" y="4"/>
                    </a:lnTo>
                    <a:lnTo>
                      <a:pt x="17" y="0"/>
                    </a:lnTo>
                    <a:lnTo>
                      <a:pt x="20" y="22"/>
                    </a:lnTo>
                    <a:lnTo>
                      <a:pt x="1" y="2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5" name=""/>
              <p:cNvSpPr/>
              <p:nvPr/>
            </p:nvSpPr>
            <p:spPr>
              <a:xfrm>
                <a:off x="7888320" y="2766960"/>
                <a:ext cx="11160" cy="7920"/>
              </a:xfrm>
              <a:custGeom>
                <a:avLst/>
                <a:gdLst/>
                <a:ahLst/>
                <a:rect l="l" t="t" r="r" b="b"/>
                <a:pathLst>
                  <a:path w="21" h="14">
                    <a:moveTo>
                      <a:pt x="12" y="14"/>
                    </a:moveTo>
                    <a:lnTo>
                      <a:pt x="0" y="0"/>
                    </a:lnTo>
                    <a:lnTo>
                      <a:pt x="21" y="0"/>
                    </a:lnTo>
                    <a:lnTo>
                      <a:pt x="12"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36" name=""/>
              <p:cNvSpPr/>
              <p:nvPr/>
            </p:nvSpPr>
            <p:spPr>
              <a:xfrm>
                <a:off x="8389800" y="2757600"/>
                <a:ext cx="12960" cy="12600"/>
              </a:xfrm>
              <a:custGeom>
                <a:avLst/>
                <a:gdLst/>
                <a:ahLst/>
                <a:rect l="l" t="t" r="r" b="b"/>
                <a:pathLst>
                  <a:path w="23" h="22">
                    <a:moveTo>
                      <a:pt x="14" y="22"/>
                    </a:moveTo>
                    <a:lnTo>
                      <a:pt x="0" y="9"/>
                    </a:lnTo>
                    <a:lnTo>
                      <a:pt x="4" y="2"/>
                    </a:lnTo>
                    <a:lnTo>
                      <a:pt x="11" y="0"/>
                    </a:lnTo>
                    <a:lnTo>
                      <a:pt x="20" y="5"/>
                    </a:lnTo>
                    <a:lnTo>
                      <a:pt x="23" y="10"/>
                    </a:lnTo>
                    <a:lnTo>
                      <a:pt x="14"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7" name=""/>
              <p:cNvSpPr/>
              <p:nvPr/>
            </p:nvSpPr>
            <p:spPr>
              <a:xfrm>
                <a:off x="7226280" y="2771640"/>
                <a:ext cx="9360" cy="12600"/>
              </a:xfrm>
              <a:custGeom>
                <a:avLst/>
                <a:gdLst/>
                <a:ahLst/>
                <a:rect l="l" t="t" r="r" b="b"/>
                <a:pathLst>
                  <a:path w="20" h="23">
                    <a:moveTo>
                      <a:pt x="0" y="22"/>
                    </a:moveTo>
                    <a:lnTo>
                      <a:pt x="1" y="0"/>
                    </a:lnTo>
                    <a:lnTo>
                      <a:pt x="8" y="2"/>
                    </a:lnTo>
                    <a:lnTo>
                      <a:pt x="13" y="6"/>
                    </a:lnTo>
                    <a:lnTo>
                      <a:pt x="17" y="13"/>
                    </a:lnTo>
                    <a:lnTo>
                      <a:pt x="20" y="23"/>
                    </a:lnTo>
                    <a:lnTo>
                      <a:pt x="0"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8" name=""/>
              <p:cNvSpPr/>
              <p:nvPr/>
            </p:nvSpPr>
            <p:spPr>
              <a:xfrm>
                <a:off x="8237520" y="2752560"/>
                <a:ext cx="11160" cy="12960"/>
              </a:xfrm>
              <a:custGeom>
                <a:avLst/>
                <a:gdLst/>
                <a:ahLst/>
                <a:rect l="l" t="t" r="r" b="b"/>
                <a:pathLst>
                  <a:path w="21" h="25">
                    <a:moveTo>
                      <a:pt x="5" y="25"/>
                    </a:moveTo>
                    <a:lnTo>
                      <a:pt x="0" y="17"/>
                    </a:lnTo>
                    <a:lnTo>
                      <a:pt x="2" y="10"/>
                    </a:lnTo>
                    <a:lnTo>
                      <a:pt x="8" y="4"/>
                    </a:lnTo>
                    <a:lnTo>
                      <a:pt x="16" y="0"/>
                    </a:lnTo>
                    <a:lnTo>
                      <a:pt x="21" y="19"/>
                    </a:lnTo>
                    <a:lnTo>
                      <a:pt x="5" y="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39" name=""/>
              <p:cNvSpPr/>
              <p:nvPr/>
            </p:nvSpPr>
            <p:spPr>
              <a:xfrm>
                <a:off x="7648560" y="2759040"/>
                <a:ext cx="11160" cy="9360"/>
              </a:xfrm>
              <a:custGeom>
                <a:avLst/>
                <a:gdLst/>
                <a:ahLst/>
                <a:rect l="l" t="t" r="r" b="b"/>
                <a:pathLst>
                  <a:path w="23" h="17">
                    <a:moveTo>
                      <a:pt x="11" y="17"/>
                    </a:moveTo>
                    <a:lnTo>
                      <a:pt x="0" y="10"/>
                    </a:lnTo>
                    <a:lnTo>
                      <a:pt x="3" y="2"/>
                    </a:lnTo>
                    <a:lnTo>
                      <a:pt x="10" y="0"/>
                    </a:lnTo>
                    <a:lnTo>
                      <a:pt x="17" y="3"/>
                    </a:lnTo>
                    <a:lnTo>
                      <a:pt x="23" y="7"/>
                    </a:lnTo>
                    <a:lnTo>
                      <a:pt x="11"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40" name=""/>
              <p:cNvSpPr/>
              <p:nvPr/>
            </p:nvSpPr>
            <p:spPr>
              <a:xfrm>
                <a:off x="7315200" y="2759040"/>
                <a:ext cx="9360" cy="12600"/>
              </a:xfrm>
              <a:custGeom>
                <a:avLst/>
                <a:gdLst/>
                <a:ahLst/>
                <a:rect l="l" t="t" r="r" b="b"/>
                <a:pathLst>
                  <a:path w="17" h="22">
                    <a:moveTo>
                      <a:pt x="1" y="22"/>
                    </a:moveTo>
                    <a:lnTo>
                      <a:pt x="0" y="0"/>
                    </a:lnTo>
                    <a:lnTo>
                      <a:pt x="17" y="4"/>
                    </a:lnTo>
                    <a:lnTo>
                      <a:pt x="17" y="12"/>
                    </a:lnTo>
                    <a:lnTo>
                      <a:pt x="14" y="17"/>
                    </a:lnTo>
                    <a:lnTo>
                      <a:pt x="9" y="20"/>
                    </a:lnTo>
                    <a:lnTo>
                      <a:pt x="1" y="2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41" name=""/>
              <p:cNvSpPr/>
              <p:nvPr/>
            </p:nvSpPr>
            <p:spPr>
              <a:xfrm>
                <a:off x="8105760" y="2749320"/>
                <a:ext cx="9360" cy="9720"/>
              </a:xfrm>
              <a:custGeom>
                <a:avLst/>
                <a:gdLst/>
                <a:ahLst/>
                <a:rect l="l" t="t" r="r" b="b"/>
                <a:pathLst>
                  <a:path w="18" h="19">
                    <a:moveTo>
                      <a:pt x="10" y="19"/>
                    </a:moveTo>
                    <a:lnTo>
                      <a:pt x="0" y="13"/>
                    </a:lnTo>
                    <a:lnTo>
                      <a:pt x="1" y="6"/>
                    </a:lnTo>
                    <a:lnTo>
                      <a:pt x="7" y="2"/>
                    </a:lnTo>
                    <a:lnTo>
                      <a:pt x="13" y="0"/>
                    </a:lnTo>
                    <a:lnTo>
                      <a:pt x="18" y="3"/>
                    </a:lnTo>
                    <a:lnTo>
                      <a:pt x="10"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42" name=""/>
              <p:cNvSpPr/>
              <p:nvPr/>
            </p:nvSpPr>
            <p:spPr>
              <a:xfrm>
                <a:off x="7481880" y="2755800"/>
                <a:ext cx="9360" cy="11160"/>
              </a:xfrm>
              <a:custGeom>
                <a:avLst/>
                <a:gdLst/>
                <a:ahLst/>
                <a:rect l="l" t="t" r="r" b="b"/>
                <a:pathLst>
                  <a:path w="20" h="21">
                    <a:moveTo>
                      <a:pt x="0" y="21"/>
                    </a:moveTo>
                    <a:lnTo>
                      <a:pt x="0" y="0"/>
                    </a:lnTo>
                    <a:lnTo>
                      <a:pt x="20" y="3"/>
                    </a:lnTo>
                    <a:lnTo>
                      <a:pt x="18" y="10"/>
                    </a:lnTo>
                    <a:lnTo>
                      <a:pt x="16" y="16"/>
                    </a:lnTo>
                    <a:lnTo>
                      <a:pt x="8" y="21"/>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3" name=""/>
              <p:cNvSpPr/>
              <p:nvPr/>
            </p:nvSpPr>
            <p:spPr>
              <a:xfrm>
                <a:off x="7956360" y="2749320"/>
                <a:ext cx="12960" cy="9720"/>
              </a:xfrm>
              <a:custGeom>
                <a:avLst/>
                <a:gdLst/>
                <a:ahLst/>
                <a:rect l="l" t="t" r="r" b="b"/>
                <a:pathLst>
                  <a:path w="22" h="19">
                    <a:moveTo>
                      <a:pt x="7" y="19"/>
                    </a:moveTo>
                    <a:lnTo>
                      <a:pt x="0" y="11"/>
                    </a:lnTo>
                    <a:lnTo>
                      <a:pt x="2" y="4"/>
                    </a:lnTo>
                    <a:lnTo>
                      <a:pt x="6" y="0"/>
                    </a:lnTo>
                    <a:lnTo>
                      <a:pt x="13" y="0"/>
                    </a:lnTo>
                    <a:lnTo>
                      <a:pt x="22" y="3"/>
                    </a:lnTo>
                    <a:lnTo>
                      <a:pt x="7" y="1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1544" name=""/>
          <p:cNvGrpSpPr/>
          <p:nvPr/>
        </p:nvGrpSpPr>
        <p:grpSpPr>
          <a:xfrm>
            <a:off x="846000" y="2649600"/>
            <a:ext cx="1027080" cy="1334520"/>
            <a:chOff x="846000" y="2649600"/>
            <a:chExt cx="1027080" cy="1334520"/>
          </a:xfrm>
        </p:grpSpPr>
        <p:sp>
          <p:nvSpPr>
            <p:cNvPr id="1545" name=""/>
            <p:cNvSpPr/>
            <p:nvPr/>
          </p:nvSpPr>
          <p:spPr>
            <a:xfrm>
              <a:off x="896760" y="2649600"/>
              <a:ext cx="976320" cy="1271160"/>
            </a:xfrm>
            <a:custGeom>
              <a:avLst/>
              <a:gdLst/>
              <a:ahLst/>
              <a:rect l="l" t="t" r="r" b="b"/>
              <a:pathLst>
                <a:path w="1846" h="2404">
                  <a:moveTo>
                    <a:pt x="1124" y="0"/>
                  </a:moveTo>
                  <a:lnTo>
                    <a:pt x="1680" y="512"/>
                  </a:lnTo>
                  <a:lnTo>
                    <a:pt x="1846" y="1882"/>
                  </a:lnTo>
                  <a:lnTo>
                    <a:pt x="1664" y="2140"/>
                  </a:lnTo>
                  <a:lnTo>
                    <a:pt x="1132" y="2140"/>
                  </a:lnTo>
                  <a:lnTo>
                    <a:pt x="481" y="2404"/>
                  </a:lnTo>
                  <a:lnTo>
                    <a:pt x="211" y="2354"/>
                  </a:lnTo>
                  <a:lnTo>
                    <a:pt x="0" y="2016"/>
                  </a:lnTo>
                  <a:lnTo>
                    <a:pt x="327" y="1420"/>
                  </a:lnTo>
                  <a:lnTo>
                    <a:pt x="795" y="412"/>
                  </a:lnTo>
                  <a:lnTo>
                    <a:pt x="1124" y="0"/>
                  </a:lnTo>
                  <a:lnTo>
                    <a:pt x="1124" y="0"/>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846000" y="2649600"/>
              <a:ext cx="1027080" cy="1334520"/>
            </a:xfrm>
            <a:custGeom>
              <a:avLst/>
              <a:gdLst/>
              <a:ahLst/>
              <a:rect l="l" t="t" r="r" b="b"/>
              <a:pathLst>
                <a:path w="1941" h="2523">
                  <a:moveTo>
                    <a:pt x="1212" y="0"/>
                  </a:moveTo>
                  <a:lnTo>
                    <a:pt x="1081" y="102"/>
                  </a:lnTo>
                  <a:lnTo>
                    <a:pt x="920" y="264"/>
                  </a:lnTo>
                  <a:lnTo>
                    <a:pt x="795" y="449"/>
                  </a:lnTo>
                  <a:lnTo>
                    <a:pt x="620" y="794"/>
                  </a:lnTo>
                  <a:lnTo>
                    <a:pt x="445" y="1147"/>
                  </a:lnTo>
                  <a:lnTo>
                    <a:pt x="256" y="1464"/>
                  </a:lnTo>
                  <a:lnTo>
                    <a:pt x="87" y="1721"/>
                  </a:lnTo>
                  <a:lnTo>
                    <a:pt x="28" y="1846"/>
                  </a:lnTo>
                  <a:lnTo>
                    <a:pt x="7" y="1957"/>
                  </a:lnTo>
                  <a:lnTo>
                    <a:pt x="0" y="2030"/>
                  </a:lnTo>
                  <a:lnTo>
                    <a:pt x="37" y="2163"/>
                  </a:lnTo>
                  <a:lnTo>
                    <a:pt x="122" y="2296"/>
                  </a:lnTo>
                  <a:lnTo>
                    <a:pt x="233" y="2404"/>
                  </a:lnTo>
                  <a:lnTo>
                    <a:pt x="344" y="2479"/>
                  </a:lnTo>
                  <a:lnTo>
                    <a:pt x="452" y="2517"/>
                  </a:lnTo>
                  <a:lnTo>
                    <a:pt x="540" y="2523"/>
                  </a:lnTo>
                  <a:lnTo>
                    <a:pt x="613" y="2509"/>
                  </a:lnTo>
                  <a:lnTo>
                    <a:pt x="766" y="2429"/>
                  </a:lnTo>
                  <a:lnTo>
                    <a:pt x="947" y="2339"/>
                  </a:lnTo>
                  <a:lnTo>
                    <a:pt x="1182" y="2273"/>
                  </a:lnTo>
                  <a:lnTo>
                    <a:pt x="1401" y="2244"/>
                  </a:lnTo>
                  <a:lnTo>
                    <a:pt x="1634" y="2252"/>
                  </a:lnTo>
                  <a:lnTo>
                    <a:pt x="1759" y="2252"/>
                  </a:lnTo>
                  <a:lnTo>
                    <a:pt x="1853" y="2222"/>
                  </a:lnTo>
                  <a:lnTo>
                    <a:pt x="1905" y="2140"/>
                  </a:lnTo>
                  <a:lnTo>
                    <a:pt x="1934" y="2000"/>
                  </a:lnTo>
                  <a:lnTo>
                    <a:pt x="1941" y="1854"/>
                  </a:lnTo>
                  <a:lnTo>
                    <a:pt x="1905" y="1669"/>
                  </a:lnTo>
                  <a:lnTo>
                    <a:pt x="1833" y="1531"/>
                  </a:lnTo>
                  <a:lnTo>
                    <a:pt x="1722" y="1434"/>
                  </a:lnTo>
                  <a:lnTo>
                    <a:pt x="1577" y="1376"/>
                  </a:lnTo>
                  <a:lnTo>
                    <a:pt x="1453" y="1384"/>
                  </a:lnTo>
                  <a:lnTo>
                    <a:pt x="1350" y="1427"/>
                  </a:lnTo>
                  <a:lnTo>
                    <a:pt x="1284" y="1485"/>
                  </a:lnTo>
                  <a:lnTo>
                    <a:pt x="1227" y="1566"/>
                  </a:lnTo>
                  <a:lnTo>
                    <a:pt x="1189" y="1663"/>
                  </a:lnTo>
                  <a:lnTo>
                    <a:pt x="1204" y="1714"/>
                  </a:lnTo>
                  <a:lnTo>
                    <a:pt x="1241" y="1736"/>
                  </a:lnTo>
                  <a:lnTo>
                    <a:pt x="1307" y="1730"/>
                  </a:lnTo>
                  <a:lnTo>
                    <a:pt x="1350" y="1684"/>
                  </a:lnTo>
                  <a:lnTo>
                    <a:pt x="1415" y="1609"/>
                  </a:lnTo>
                  <a:lnTo>
                    <a:pt x="1496" y="1589"/>
                  </a:lnTo>
                  <a:lnTo>
                    <a:pt x="1577" y="1602"/>
                  </a:lnTo>
                  <a:lnTo>
                    <a:pt x="1664" y="1649"/>
                  </a:lnTo>
                  <a:lnTo>
                    <a:pt x="1729" y="1736"/>
                  </a:lnTo>
                  <a:lnTo>
                    <a:pt x="1752" y="1838"/>
                  </a:lnTo>
                  <a:lnTo>
                    <a:pt x="1738" y="1987"/>
                  </a:lnTo>
                  <a:lnTo>
                    <a:pt x="1715" y="2045"/>
                  </a:lnTo>
                  <a:lnTo>
                    <a:pt x="1679" y="2060"/>
                  </a:lnTo>
                  <a:lnTo>
                    <a:pt x="1314" y="2060"/>
                  </a:lnTo>
                  <a:lnTo>
                    <a:pt x="1081" y="2088"/>
                  </a:lnTo>
                  <a:lnTo>
                    <a:pt x="882" y="2156"/>
                  </a:lnTo>
                  <a:lnTo>
                    <a:pt x="701" y="2259"/>
                  </a:lnTo>
                  <a:lnTo>
                    <a:pt x="597" y="2296"/>
                  </a:lnTo>
                  <a:lnTo>
                    <a:pt x="518" y="2296"/>
                  </a:lnTo>
                  <a:lnTo>
                    <a:pt x="408" y="2252"/>
                  </a:lnTo>
                  <a:lnTo>
                    <a:pt x="321" y="2179"/>
                  </a:lnTo>
                  <a:lnTo>
                    <a:pt x="256" y="2104"/>
                  </a:lnTo>
                  <a:lnTo>
                    <a:pt x="233" y="2053"/>
                  </a:lnTo>
                  <a:lnTo>
                    <a:pt x="219" y="1980"/>
                  </a:lnTo>
                  <a:lnTo>
                    <a:pt x="226" y="1929"/>
                  </a:lnTo>
                  <a:lnTo>
                    <a:pt x="247" y="1854"/>
                  </a:lnTo>
                  <a:lnTo>
                    <a:pt x="402" y="1602"/>
                  </a:lnTo>
                  <a:lnTo>
                    <a:pt x="525" y="1391"/>
                  </a:lnTo>
                  <a:lnTo>
                    <a:pt x="635" y="1170"/>
                  </a:lnTo>
                  <a:lnTo>
                    <a:pt x="744" y="964"/>
                  </a:lnTo>
                  <a:lnTo>
                    <a:pt x="839" y="749"/>
                  </a:lnTo>
                  <a:lnTo>
                    <a:pt x="943" y="566"/>
                  </a:lnTo>
                  <a:lnTo>
                    <a:pt x="1028" y="426"/>
                  </a:lnTo>
                  <a:lnTo>
                    <a:pt x="1139" y="310"/>
                  </a:lnTo>
                  <a:lnTo>
                    <a:pt x="1241" y="206"/>
                  </a:lnTo>
                  <a:lnTo>
                    <a:pt x="1292" y="154"/>
                  </a:lnTo>
                  <a:lnTo>
                    <a:pt x="1300" y="89"/>
                  </a:lnTo>
                  <a:lnTo>
                    <a:pt x="1277" y="44"/>
                  </a:lnTo>
                  <a:lnTo>
                    <a:pt x="1241" y="7"/>
                  </a:lnTo>
                  <a:lnTo>
                    <a:pt x="1212" y="0"/>
                  </a:lnTo>
                  <a:lnTo>
                    <a:pt x="1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7" name=""/>
          <p:cNvGrpSpPr/>
          <p:nvPr/>
        </p:nvGrpSpPr>
        <p:grpSpPr>
          <a:xfrm>
            <a:off x="2666880" y="2617920"/>
            <a:ext cx="1749240" cy="1510560"/>
            <a:chOff x="2666880" y="2617920"/>
            <a:chExt cx="1749240" cy="1510560"/>
          </a:xfrm>
        </p:grpSpPr>
        <p:grpSp>
          <p:nvGrpSpPr>
            <p:cNvPr id="1548" name=""/>
            <p:cNvGrpSpPr/>
            <p:nvPr/>
          </p:nvGrpSpPr>
          <p:grpSpPr>
            <a:xfrm>
              <a:off x="2984400" y="2714400"/>
              <a:ext cx="1431720" cy="1414080"/>
              <a:chOff x="2984400" y="2714400"/>
              <a:chExt cx="1431720" cy="1414080"/>
            </a:xfrm>
          </p:grpSpPr>
          <p:sp>
            <p:nvSpPr>
              <p:cNvPr id="1549" name=""/>
              <p:cNvSpPr/>
              <p:nvPr/>
            </p:nvSpPr>
            <p:spPr>
              <a:xfrm>
                <a:off x="2984400" y="2714400"/>
                <a:ext cx="1428480" cy="1352160"/>
              </a:xfrm>
              <a:custGeom>
                <a:avLst/>
                <a:gdLst/>
                <a:ahLst/>
                <a:rect l="l" t="t" r="r" b="b"/>
                <a:pathLst>
                  <a:path w="1800" h="1704">
                    <a:moveTo>
                      <a:pt x="0" y="1161"/>
                    </a:moveTo>
                    <a:lnTo>
                      <a:pt x="353" y="867"/>
                    </a:lnTo>
                    <a:lnTo>
                      <a:pt x="488" y="709"/>
                    </a:lnTo>
                    <a:lnTo>
                      <a:pt x="810" y="433"/>
                    </a:lnTo>
                    <a:lnTo>
                      <a:pt x="1101" y="288"/>
                    </a:lnTo>
                    <a:lnTo>
                      <a:pt x="1521" y="70"/>
                    </a:lnTo>
                    <a:lnTo>
                      <a:pt x="1800" y="0"/>
                    </a:lnTo>
                    <a:lnTo>
                      <a:pt x="1772" y="94"/>
                    </a:lnTo>
                    <a:lnTo>
                      <a:pt x="1390" y="270"/>
                    </a:lnTo>
                    <a:lnTo>
                      <a:pt x="1260" y="401"/>
                    </a:lnTo>
                    <a:lnTo>
                      <a:pt x="1509" y="410"/>
                    </a:lnTo>
                    <a:lnTo>
                      <a:pt x="1439" y="512"/>
                    </a:lnTo>
                    <a:lnTo>
                      <a:pt x="1460" y="582"/>
                    </a:lnTo>
                    <a:lnTo>
                      <a:pt x="1439" y="652"/>
                    </a:lnTo>
                    <a:lnTo>
                      <a:pt x="1439" y="730"/>
                    </a:lnTo>
                    <a:lnTo>
                      <a:pt x="1380" y="830"/>
                    </a:lnTo>
                    <a:lnTo>
                      <a:pt x="1361" y="974"/>
                    </a:lnTo>
                    <a:lnTo>
                      <a:pt x="1270" y="1061"/>
                    </a:lnTo>
                    <a:lnTo>
                      <a:pt x="1125" y="1131"/>
                    </a:lnTo>
                    <a:lnTo>
                      <a:pt x="976" y="1118"/>
                    </a:lnTo>
                    <a:lnTo>
                      <a:pt x="637" y="1178"/>
                    </a:lnTo>
                    <a:lnTo>
                      <a:pt x="635" y="1180"/>
                    </a:lnTo>
                    <a:lnTo>
                      <a:pt x="631" y="1184"/>
                    </a:lnTo>
                    <a:lnTo>
                      <a:pt x="626" y="1187"/>
                    </a:lnTo>
                    <a:lnTo>
                      <a:pt x="623" y="1192"/>
                    </a:lnTo>
                    <a:lnTo>
                      <a:pt x="619" y="1196"/>
                    </a:lnTo>
                    <a:lnTo>
                      <a:pt x="614" y="1202"/>
                    </a:lnTo>
                    <a:lnTo>
                      <a:pt x="608" y="1207"/>
                    </a:lnTo>
                    <a:lnTo>
                      <a:pt x="601" y="1214"/>
                    </a:lnTo>
                    <a:lnTo>
                      <a:pt x="594" y="1220"/>
                    </a:lnTo>
                    <a:lnTo>
                      <a:pt x="588" y="1229"/>
                    </a:lnTo>
                    <a:lnTo>
                      <a:pt x="579" y="1236"/>
                    </a:lnTo>
                    <a:lnTo>
                      <a:pt x="571" y="1245"/>
                    </a:lnTo>
                    <a:lnTo>
                      <a:pt x="562" y="1254"/>
                    </a:lnTo>
                    <a:lnTo>
                      <a:pt x="555" y="1263"/>
                    </a:lnTo>
                    <a:lnTo>
                      <a:pt x="545" y="1273"/>
                    </a:lnTo>
                    <a:lnTo>
                      <a:pt x="534" y="1282"/>
                    </a:lnTo>
                    <a:lnTo>
                      <a:pt x="524" y="1293"/>
                    </a:lnTo>
                    <a:lnTo>
                      <a:pt x="515" y="1305"/>
                    </a:lnTo>
                    <a:lnTo>
                      <a:pt x="503" y="1315"/>
                    </a:lnTo>
                    <a:lnTo>
                      <a:pt x="493" y="1327"/>
                    </a:lnTo>
                    <a:lnTo>
                      <a:pt x="481" y="1339"/>
                    </a:lnTo>
                    <a:lnTo>
                      <a:pt x="469" y="1351"/>
                    </a:lnTo>
                    <a:lnTo>
                      <a:pt x="459" y="1361"/>
                    </a:lnTo>
                    <a:lnTo>
                      <a:pt x="447" y="1374"/>
                    </a:lnTo>
                    <a:lnTo>
                      <a:pt x="435" y="1386"/>
                    </a:lnTo>
                    <a:lnTo>
                      <a:pt x="423" y="1398"/>
                    </a:lnTo>
                    <a:lnTo>
                      <a:pt x="410" y="1411"/>
                    </a:lnTo>
                    <a:lnTo>
                      <a:pt x="398" y="1425"/>
                    </a:lnTo>
                    <a:lnTo>
                      <a:pt x="386" y="1437"/>
                    </a:lnTo>
                    <a:lnTo>
                      <a:pt x="374" y="1450"/>
                    </a:lnTo>
                    <a:lnTo>
                      <a:pt x="361" y="1462"/>
                    </a:lnTo>
                    <a:lnTo>
                      <a:pt x="349" y="1474"/>
                    </a:lnTo>
                    <a:lnTo>
                      <a:pt x="335" y="1486"/>
                    </a:lnTo>
                    <a:lnTo>
                      <a:pt x="323" y="1499"/>
                    </a:lnTo>
                    <a:lnTo>
                      <a:pt x="312" y="1511"/>
                    </a:lnTo>
                    <a:lnTo>
                      <a:pt x="300" y="1523"/>
                    </a:lnTo>
                    <a:lnTo>
                      <a:pt x="288" y="1535"/>
                    </a:lnTo>
                    <a:lnTo>
                      <a:pt x="277" y="1546"/>
                    </a:lnTo>
                    <a:lnTo>
                      <a:pt x="266" y="1558"/>
                    </a:lnTo>
                    <a:lnTo>
                      <a:pt x="254" y="1569"/>
                    </a:lnTo>
                    <a:lnTo>
                      <a:pt x="243" y="1581"/>
                    </a:lnTo>
                    <a:lnTo>
                      <a:pt x="233" y="1591"/>
                    </a:lnTo>
                    <a:lnTo>
                      <a:pt x="221" y="1601"/>
                    </a:lnTo>
                    <a:lnTo>
                      <a:pt x="212" y="1612"/>
                    </a:lnTo>
                    <a:lnTo>
                      <a:pt x="202" y="1621"/>
                    </a:lnTo>
                    <a:lnTo>
                      <a:pt x="193" y="1631"/>
                    </a:lnTo>
                    <a:lnTo>
                      <a:pt x="184" y="1640"/>
                    </a:lnTo>
                    <a:lnTo>
                      <a:pt x="175" y="1647"/>
                    </a:lnTo>
                    <a:lnTo>
                      <a:pt x="166" y="1655"/>
                    </a:lnTo>
                    <a:lnTo>
                      <a:pt x="159" y="1664"/>
                    </a:lnTo>
                    <a:lnTo>
                      <a:pt x="151" y="1670"/>
                    </a:lnTo>
                    <a:lnTo>
                      <a:pt x="144" y="1677"/>
                    </a:lnTo>
                    <a:lnTo>
                      <a:pt x="138" y="1681"/>
                    </a:lnTo>
                    <a:lnTo>
                      <a:pt x="134" y="1687"/>
                    </a:lnTo>
                    <a:lnTo>
                      <a:pt x="128" y="1692"/>
                    </a:lnTo>
                    <a:lnTo>
                      <a:pt x="123" y="1695"/>
                    </a:lnTo>
                    <a:lnTo>
                      <a:pt x="119" y="1698"/>
                    </a:lnTo>
                    <a:lnTo>
                      <a:pt x="117" y="1701"/>
                    </a:lnTo>
                    <a:lnTo>
                      <a:pt x="113" y="1704"/>
                    </a:lnTo>
                    <a:lnTo>
                      <a:pt x="111" y="1704"/>
                    </a:lnTo>
                    <a:lnTo>
                      <a:pt x="111" y="1701"/>
                    </a:lnTo>
                    <a:lnTo>
                      <a:pt x="111" y="1699"/>
                    </a:lnTo>
                    <a:lnTo>
                      <a:pt x="110" y="1696"/>
                    </a:lnTo>
                    <a:lnTo>
                      <a:pt x="110" y="1693"/>
                    </a:lnTo>
                    <a:lnTo>
                      <a:pt x="108" y="1689"/>
                    </a:lnTo>
                    <a:lnTo>
                      <a:pt x="107" y="1684"/>
                    </a:lnTo>
                    <a:lnTo>
                      <a:pt x="107" y="1678"/>
                    </a:lnTo>
                    <a:lnTo>
                      <a:pt x="105" y="1673"/>
                    </a:lnTo>
                    <a:lnTo>
                      <a:pt x="104" y="1667"/>
                    </a:lnTo>
                    <a:lnTo>
                      <a:pt x="102" y="1659"/>
                    </a:lnTo>
                    <a:lnTo>
                      <a:pt x="101" y="1652"/>
                    </a:lnTo>
                    <a:lnTo>
                      <a:pt x="99" y="1644"/>
                    </a:lnTo>
                    <a:lnTo>
                      <a:pt x="98" y="1635"/>
                    </a:lnTo>
                    <a:lnTo>
                      <a:pt x="96" y="1628"/>
                    </a:lnTo>
                    <a:lnTo>
                      <a:pt x="95" y="1618"/>
                    </a:lnTo>
                    <a:lnTo>
                      <a:pt x="93" y="1609"/>
                    </a:lnTo>
                    <a:lnTo>
                      <a:pt x="91" y="1598"/>
                    </a:lnTo>
                    <a:lnTo>
                      <a:pt x="89" y="1588"/>
                    </a:lnTo>
                    <a:lnTo>
                      <a:pt x="86" y="1578"/>
                    </a:lnTo>
                    <a:lnTo>
                      <a:pt x="85" y="1567"/>
                    </a:lnTo>
                    <a:lnTo>
                      <a:pt x="82" y="1555"/>
                    </a:lnTo>
                    <a:lnTo>
                      <a:pt x="79" y="1545"/>
                    </a:lnTo>
                    <a:lnTo>
                      <a:pt x="77" y="1533"/>
                    </a:lnTo>
                    <a:lnTo>
                      <a:pt x="74" y="1521"/>
                    </a:lnTo>
                    <a:lnTo>
                      <a:pt x="71" y="1509"/>
                    </a:lnTo>
                    <a:lnTo>
                      <a:pt x="70" y="1496"/>
                    </a:lnTo>
                    <a:lnTo>
                      <a:pt x="67" y="1484"/>
                    </a:lnTo>
                    <a:lnTo>
                      <a:pt x="65" y="1472"/>
                    </a:lnTo>
                    <a:lnTo>
                      <a:pt x="62" y="1460"/>
                    </a:lnTo>
                    <a:lnTo>
                      <a:pt x="59" y="1447"/>
                    </a:lnTo>
                    <a:lnTo>
                      <a:pt x="56" y="1435"/>
                    </a:lnTo>
                    <a:lnTo>
                      <a:pt x="55" y="1423"/>
                    </a:lnTo>
                    <a:lnTo>
                      <a:pt x="52" y="1410"/>
                    </a:lnTo>
                    <a:lnTo>
                      <a:pt x="49" y="1398"/>
                    </a:lnTo>
                    <a:lnTo>
                      <a:pt x="46" y="1386"/>
                    </a:lnTo>
                    <a:lnTo>
                      <a:pt x="45" y="1373"/>
                    </a:lnTo>
                    <a:lnTo>
                      <a:pt x="40" y="1361"/>
                    </a:lnTo>
                    <a:lnTo>
                      <a:pt x="39" y="1349"/>
                    </a:lnTo>
                    <a:lnTo>
                      <a:pt x="36" y="1337"/>
                    </a:lnTo>
                    <a:lnTo>
                      <a:pt x="34" y="1325"/>
                    </a:lnTo>
                    <a:lnTo>
                      <a:pt x="31" y="1313"/>
                    </a:lnTo>
                    <a:lnTo>
                      <a:pt x="30" y="1303"/>
                    </a:lnTo>
                    <a:lnTo>
                      <a:pt x="27" y="1291"/>
                    </a:lnTo>
                    <a:lnTo>
                      <a:pt x="25" y="1281"/>
                    </a:lnTo>
                    <a:lnTo>
                      <a:pt x="22" y="1270"/>
                    </a:lnTo>
                    <a:lnTo>
                      <a:pt x="21" y="1260"/>
                    </a:lnTo>
                    <a:lnTo>
                      <a:pt x="18" y="1251"/>
                    </a:lnTo>
                    <a:lnTo>
                      <a:pt x="16" y="1241"/>
                    </a:lnTo>
                    <a:lnTo>
                      <a:pt x="15" y="1232"/>
                    </a:lnTo>
                    <a:lnTo>
                      <a:pt x="12" y="1223"/>
                    </a:lnTo>
                    <a:lnTo>
                      <a:pt x="10" y="1214"/>
                    </a:lnTo>
                    <a:lnTo>
                      <a:pt x="9" y="1207"/>
                    </a:lnTo>
                    <a:lnTo>
                      <a:pt x="7" y="1199"/>
                    </a:lnTo>
                    <a:lnTo>
                      <a:pt x="6" y="1193"/>
                    </a:lnTo>
                    <a:lnTo>
                      <a:pt x="4" y="1187"/>
                    </a:lnTo>
                    <a:lnTo>
                      <a:pt x="3" y="1181"/>
                    </a:lnTo>
                    <a:lnTo>
                      <a:pt x="1" y="1177"/>
                    </a:lnTo>
                    <a:lnTo>
                      <a:pt x="1" y="1172"/>
                    </a:lnTo>
                    <a:lnTo>
                      <a:pt x="0" y="1168"/>
                    </a:lnTo>
                    <a:lnTo>
                      <a:pt x="0" y="1165"/>
                    </a:lnTo>
                    <a:lnTo>
                      <a:pt x="0" y="1161"/>
                    </a:lnTo>
                    <a:lnTo>
                      <a:pt x="0" y="1161"/>
                    </a:lnTo>
                    <a:lnTo>
                      <a:pt x="0" y="1161"/>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3008160" y="2746080"/>
                <a:ext cx="1400040" cy="1380600"/>
              </a:xfrm>
              <a:custGeom>
                <a:avLst/>
                <a:gdLst/>
                <a:ahLst/>
                <a:rect l="l" t="t" r="r" b="b"/>
                <a:pathLst>
                  <a:path w="1764" h="1739">
                    <a:moveTo>
                      <a:pt x="0" y="1276"/>
                    </a:moveTo>
                    <a:lnTo>
                      <a:pt x="0" y="1275"/>
                    </a:lnTo>
                    <a:lnTo>
                      <a:pt x="1" y="1273"/>
                    </a:lnTo>
                    <a:lnTo>
                      <a:pt x="3" y="1270"/>
                    </a:lnTo>
                    <a:lnTo>
                      <a:pt x="7" y="1267"/>
                    </a:lnTo>
                    <a:lnTo>
                      <a:pt x="10" y="1262"/>
                    </a:lnTo>
                    <a:lnTo>
                      <a:pt x="16" y="1257"/>
                    </a:lnTo>
                    <a:lnTo>
                      <a:pt x="17" y="1253"/>
                    </a:lnTo>
                    <a:lnTo>
                      <a:pt x="20" y="1250"/>
                    </a:lnTo>
                    <a:lnTo>
                      <a:pt x="23" y="1245"/>
                    </a:lnTo>
                    <a:lnTo>
                      <a:pt x="28" y="1242"/>
                    </a:lnTo>
                    <a:lnTo>
                      <a:pt x="31" y="1238"/>
                    </a:lnTo>
                    <a:lnTo>
                      <a:pt x="34" y="1235"/>
                    </a:lnTo>
                    <a:lnTo>
                      <a:pt x="37" y="1230"/>
                    </a:lnTo>
                    <a:lnTo>
                      <a:pt x="41" y="1226"/>
                    </a:lnTo>
                    <a:lnTo>
                      <a:pt x="44" y="1220"/>
                    </a:lnTo>
                    <a:lnTo>
                      <a:pt x="49" y="1216"/>
                    </a:lnTo>
                    <a:lnTo>
                      <a:pt x="53" y="1211"/>
                    </a:lnTo>
                    <a:lnTo>
                      <a:pt x="58" y="1205"/>
                    </a:lnTo>
                    <a:lnTo>
                      <a:pt x="62" y="1201"/>
                    </a:lnTo>
                    <a:lnTo>
                      <a:pt x="66" y="1195"/>
                    </a:lnTo>
                    <a:lnTo>
                      <a:pt x="71" y="1189"/>
                    </a:lnTo>
                    <a:lnTo>
                      <a:pt x="77" y="1184"/>
                    </a:lnTo>
                    <a:lnTo>
                      <a:pt x="81" y="1178"/>
                    </a:lnTo>
                    <a:lnTo>
                      <a:pt x="86" y="1173"/>
                    </a:lnTo>
                    <a:lnTo>
                      <a:pt x="92" y="1167"/>
                    </a:lnTo>
                    <a:lnTo>
                      <a:pt x="96" y="1162"/>
                    </a:lnTo>
                    <a:lnTo>
                      <a:pt x="102" y="1155"/>
                    </a:lnTo>
                    <a:lnTo>
                      <a:pt x="107" y="1149"/>
                    </a:lnTo>
                    <a:lnTo>
                      <a:pt x="112" y="1143"/>
                    </a:lnTo>
                    <a:lnTo>
                      <a:pt x="118" y="1137"/>
                    </a:lnTo>
                    <a:lnTo>
                      <a:pt x="123" y="1129"/>
                    </a:lnTo>
                    <a:lnTo>
                      <a:pt x="129" y="1124"/>
                    </a:lnTo>
                    <a:lnTo>
                      <a:pt x="135" y="1118"/>
                    </a:lnTo>
                    <a:lnTo>
                      <a:pt x="141" y="1110"/>
                    </a:lnTo>
                    <a:lnTo>
                      <a:pt x="147" y="1104"/>
                    </a:lnTo>
                    <a:lnTo>
                      <a:pt x="153" y="1098"/>
                    </a:lnTo>
                    <a:lnTo>
                      <a:pt x="157" y="1091"/>
                    </a:lnTo>
                    <a:lnTo>
                      <a:pt x="163" y="1085"/>
                    </a:lnTo>
                    <a:lnTo>
                      <a:pt x="169" y="1078"/>
                    </a:lnTo>
                    <a:lnTo>
                      <a:pt x="175" y="1072"/>
                    </a:lnTo>
                    <a:lnTo>
                      <a:pt x="182" y="1064"/>
                    </a:lnTo>
                    <a:lnTo>
                      <a:pt x="188" y="1060"/>
                    </a:lnTo>
                    <a:lnTo>
                      <a:pt x="193" y="1052"/>
                    </a:lnTo>
                    <a:lnTo>
                      <a:pt x="200" y="1046"/>
                    </a:lnTo>
                    <a:lnTo>
                      <a:pt x="206" y="1039"/>
                    </a:lnTo>
                    <a:lnTo>
                      <a:pt x="212" y="1033"/>
                    </a:lnTo>
                    <a:lnTo>
                      <a:pt x="218" y="1027"/>
                    </a:lnTo>
                    <a:lnTo>
                      <a:pt x="224" y="1021"/>
                    </a:lnTo>
                    <a:lnTo>
                      <a:pt x="230" y="1015"/>
                    </a:lnTo>
                    <a:lnTo>
                      <a:pt x="236" y="1009"/>
                    </a:lnTo>
                    <a:lnTo>
                      <a:pt x="242" y="1003"/>
                    </a:lnTo>
                    <a:lnTo>
                      <a:pt x="247" y="997"/>
                    </a:lnTo>
                    <a:lnTo>
                      <a:pt x="252" y="991"/>
                    </a:lnTo>
                    <a:lnTo>
                      <a:pt x="259" y="986"/>
                    </a:lnTo>
                    <a:lnTo>
                      <a:pt x="264" y="981"/>
                    </a:lnTo>
                    <a:lnTo>
                      <a:pt x="271" y="975"/>
                    </a:lnTo>
                    <a:lnTo>
                      <a:pt x="276" y="971"/>
                    </a:lnTo>
                    <a:lnTo>
                      <a:pt x="282" y="966"/>
                    </a:lnTo>
                    <a:lnTo>
                      <a:pt x="288" y="960"/>
                    </a:lnTo>
                    <a:lnTo>
                      <a:pt x="293" y="956"/>
                    </a:lnTo>
                    <a:lnTo>
                      <a:pt x="298" y="950"/>
                    </a:lnTo>
                    <a:lnTo>
                      <a:pt x="304" y="945"/>
                    </a:lnTo>
                    <a:lnTo>
                      <a:pt x="308" y="941"/>
                    </a:lnTo>
                    <a:lnTo>
                      <a:pt x="313" y="937"/>
                    </a:lnTo>
                    <a:lnTo>
                      <a:pt x="319" y="934"/>
                    </a:lnTo>
                    <a:lnTo>
                      <a:pt x="323" y="929"/>
                    </a:lnTo>
                    <a:lnTo>
                      <a:pt x="328" y="925"/>
                    </a:lnTo>
                    <a:lnTo>
                      <a:pt x="334" y="920"/>
                    </a:lnTo>
                    <a:lnTo>
                      <a:pt x="338" y="917"/>
                    </a:lnTo>
                    <a:lnTo>
                      <a:pt x="342" y="914"/>
                    </a:lnTo>
                    <a:lnTo>
                      <a:pt x="347" y="910"/>
                    </a:lnTo>
                    <a:lnTo>
                      <a:pt x="353" y="907"/>
                    </a:lnTo>
                    <a:lnTo>
                      <a:pt x="357" y="902"/>
                    </a:lnTo>
                    <a:lnTo>
                      <a:pt x="362" y="901"/>
                    </a:lnTo>
                    <a:lnTo>
                      <a:pt x="365" y="897"/>
                    </a:lnTo>
                    <a:lnTo>
                      <a:pt x="369" y="894"/>
                    </a:lnTo>
                    <a:lnTo>
                      <a:pt x="374" y="891"/>
                    </a:lnTo>
                    <a:lnTo>
                      <a:pt x="378" y="889"/>
                    </a:lnTo>
                    <a:lnTo>
                      <a:pt x="383" y="886"/>
                    </a:lnTo>
                    <a:lnTo>
                      <a:pt x="387" y="883"/>
                    </a:lnTo>
                    <a:lnTo>
                      <a:pt x="390" y="880"/>
                    </a:lnTo>
                    <a:lnTo>
                      <a:pt x="394" y="879"/>
                    </a:lnTo>
                    <a:lnTo>
                      <a:pt x="397" y="877"/>
                    </a:lnTo>
                    <a:lnTo>
                      <a:pt x="402" y="874"/>
                    </a:lnTo>
                    <a:lnTo>
                      <a:pt x="405" y="873"/>
                    </a:lnTo>
                    <a:lnTo>
                      <a:pt x="409" y="870"/>
                    </a:lnTo>
                    <a:lnTo>
                      <a:pt x="412" y="868"/>
                    </a:lnTo>
                    <a:lnTo>
                      <a:pt x="415" y="867"/>
                    </a:lnTo>
                    <a:lnTo>
                      <a:pt x="418" y="865"/>
                    </a:lnTo>
                    <a:lnTo>
                      <a:pt x="423" y="864"/>
                    </a:lnTo>
                    <a:lnTo>
                      <a:pt x="429" y="859"/>
                    </a:lnTo>
                    <a:lnTo>
                      <a:pt x="433" y="858"/>
                    </a:lnTo>
                    <a:lnTo>
                      <a:pt x="439" y="855"/>
                    </a:lnTo>
                    <a:lnTo>
                      <a:pt x="443" y="853"/>
                    </a:lnTo>
                    <a:lnTo>
                      <a:pt x="448" y="851"/>
                    </a:lnTo>
                    <a:lnTo>
                      <a:pt x="454" y="849"/>
                    </a:lnTo>
                    <a:lnTo>
                      <a:pt x="457" y="848"/>
                    </a:lnTo>
                    <a:lnTo>
                      <a:pt x="461" y="846"/>
                    </a:lnTo>
                    <a:lnTo>
                      <a:pt x="466" y="845"/>
                    </a:lnTo>
                    <a:lnTo>
                      <a:pt x="472" y="843"/>
                    </a:lnTo>
                    <a:lnTo>
                      <a:pt x="473" y="843"/>
                    </a:lnTo>
                    <a:lnTo>
                      <a:pt x="474" y="843"/>
                    </a:lnTo>
                    <a:lnTo>
                      <a:pt x="474" y="842"/>
                    </a:lnTo>
                    <a:lnTo>
                      <a:pt x="476" y="839"/>
                    </a:lnTo>
                    <a:lnTo>
                      <a:pt x="476" y="836"/>
                    </a:lnTo>
                    <a:lnTo>
                      <a:pt x="476" y="833"/>
                    </a:lnTo>
                    <a:lnTo>
                      <a:pt x="477" y="830"/>
                    </a:lnTo>
                    <a:lnTo>
                      <a:pt x="479" y="827"/>
                    </a:lnTo>
                    <a:lnTo>
                      <a:pt x="479" y="822"/>
                    </a:lnTo>
                    <a:lnTo>
                      <a:pt x="480" y="818"/>
                    </a:lnTo>
                    <a:lnTo>
                      <a:pt x="482" y="813"/>
                    </a:lnTo>
                    <a:lnTo>
                      <a:pt x="485" y="809"/>
                    </a:lnTo>
                    <a:lnTo>
                      <a:pt x="486" y="803"/>
                    </a:lnTo>
                    <a:lnTo>
                      <a:pt x="488" y="797"/>
                    </a:lnTo>
                    <a:lnTo>
                      <a:pt x="491" y="791"/>
                    </a:lnTo>
                    <a:lnTo>
                      <a:pt x="494" y="785"/>
                    </a:lnTo>
                    <a:lnTo>
                      <a:pt x="495" y="782"/>
                    </a:lnTo>
                    <a:lnTo>
                      <a:pt x="495" y="778"/>
                    </a:lnTo>
                    <a:lnTo>
                      <a:pt x="497" y="775"/>
                    </a:lnTo>
                    <a:lnTo>
                      <a:pt x="500" y="772"/>
                    </a:lnTo>
                    <a:lnTo>
                      <a:pt x="500" y="767"/>
                    </a:lnTo>
                    <a:lnTo>
                      <a:pt x="503" y="764"/>
                    </a:lnTo>
                    <a:lnTo>
                      <a:pt x="504" y="760"/>
                    </a:lnTo>
                    <a:lnTo>
                      <a:pt x="506" y="757"/>
                    </a:lnTo>
                    <a:lnTo>
                      <a:pt x="507" y="753"/>
                    </a:lnTo>
                    <a:lnTo>
                      <a:pt x="510" y="750"/>
                    </a:lnTo>
                    <a:lnTo>
                      <a:pt x="512" y="745"/>
                    </a:lnTo>
                    <a:lnTo>
                      <a:pt x="513" y="742"/>
                    </a:lnTo>
                    <a:lnTo>
                      <a:pt x="515" y="738"/>
                    </a:lnTo>
                    <a:lnTo>
                      <a:pt x="518" y="733"/>
                    </a:lnTo>
                    <a:lnTo>
                      <a:pt x="520" y="730"/>
                    </a:lnTo>
                    <a:lnTo>
                      <a:pt x="523" y="726"/>
                    </a:lnTo>
                    <a:lnTo>
                      <a:pt x="525" y="721"/>
                    </a:lnTo>
                    <a:lnTo>
                      <a:pt x="528" y="718"/>
                    </a:lnTo>
                    <a:lnTo>
                      <a:pt x="529" y="714"/>
                    </a:lnTo>
                    <a:lnTo>
                      <a:pt x="534" y="710"/>
                    </a:lnTo>
                    <a:lnTo>
                      <a:pt x="535" y="705"/>
                    </a:lnTo>
                    <a:lnTo>
                      <a:pt x="538" y="702"/>
                    </a:lnTo>
                    <a:lnTo>
                      <a:pt x="541" y="698"/>
                    </a:lnTo>
                    <a:lnTo>
                      <a:pt x="544" y="693"/>
                    </a:lnTo>
                    <a:lnTo>
                      <a:pt x="547" y="689"/>
                    </a:lnTo>
                    <a:lnTo>
                      <a:pt x="550" y="684"/>
                    </a:lnTo>
                    <a:lnTo>
                      <a:pt x="553" y="680"/>
                    </a:lnTo>
                    <a:lnTo>
                      <a:pt x="558" y="677"/>
                    </a:lnTo>
                    <a:lnTo>
                      <a:pt x="561" y="672"/>
                    </a:lnTo>
                    <a:lnTo>
                      <a:pt x="565" y="668"/>
                    </a:lnTo>
                    <a:lnTo>
                      <a:pt x="568" y="664"/>
                    </a:lnTo>
                    <a:lnTo>
                      <a:pt x="572" y="659"/>
                    </a:lnTo>
                    <a:lnTo>
                      <a:pt x="575" y="655"/>
                    </a:lnTo>
                    <a:lnTo>
                      <a:pt x="578" y="650"/>
                    </a:lnTo>
                    <a:lnTo>
                      <a:pt x="583" y="646"/>
                    </a:lnTo>
                    <a:lnTo>
                      <a:pt x="587" y="641"/>
                    </a:lnTo>
                    <a:lnTo>
                      <a:pt x="590" y="637"/>
                    </a:lnTo>
                    <a:lnTo>
                      <a:pt x="595" y="632"/>
                    </a:lnTo>
                    <a:lnTo>
                      <a:pt x="599" y="628"/>
                    </a:lnTo>
                    <a:lnTo>
                      <a:pt x="605" y="623"/>
                    </a:lnTo>
                    <a:lnTo>
                      <a:pt x="608" y="619"/>
                    </a:lnTo>
                    <a:lnTo>
                      <a:pt x="614" y="615"/>
                    </a:lnTo>
                    <a:lnTo>
                      <a:pt x="618" y="610"/>
                    </a:lnTo>
                    <a:lnTo>
                      <a:pt x="623" y="606"/>
                    </a:lnTo>
                    <a:lnTo>
                      <a:pt x="627" y="600"/>
                    </a:lnTo>
                    <a:lnTo>
                      <a:pt x="633" y="595"/>
                    </a:lnTo>
                    <a:lnTo>
                      <a:pt x="638" y="591"/>
                    </a:lnTo>
                    <a:lnTo>
                      <a:pt x="644" y="586"/>
                    </a:lnTo>
                    <a:lnTo>
                      <a:pt x="650" y="582"/>
                    </a:lnTo>
                    <a:lnTo>
                      <a:pt x="654" y="576"/>
                    </a:lnTo>
                    <a:lnTo>
                      <a:pt x="660" y="572"/>
                    </a:lnTo>
                    <a:lnTo>
                      <a:pt x="666" y="567"/>
                    </a:lnTo>
                    <a:lnTo>
                      <a:pt x="672" y="563"/>
                    </a:lnTo>
                    <a:lnTo>
                      <a:pt x="676" y="558"/>
                    </a:lnTo>
                    <a:lnTo>
                      <a:pt x="682" y="552"/>
                    </a:lnTo>
                    <a:lnTo>
                      <a:pt x="688" y="549"/>
                    </a:lnTo>
                    <a:lnTo>
                      <a:pt x="694" y="543"/>
                    </a:lnTo>
                    <a:lnTo>
                      <a:pt x="699" y="539"/>
                    </a:lnTo>
                    <a:lnTo>
                      <a:pt x="704" y="534"/>
                    </a:lnTo>
                    <a:lnTo>
                      <a:pt x="710" y="530"/>
                    </a:lnTo>
                    <a:lnTo>
                      <a:pt x="716" y="526"/>
                    </a:lnTo>
                    <a:lnTo>
                      <a:pt x="722" y="521"/>
                    </a:lnTo>
                    <a:lnTo>
                      <a:pt x="728" y="515"/>
                    </a:lnTo>
                    <a:lnTo>
                      <a:pt x="736" y="511"/>
                    </a:lnTo>
                    <a:lnTo>
                      <a:pt x="740" y="506"/>
                    </a:lnTo>
                    <a:lnTo>
                      <a:pt x="746" y="502"/>
                    </a:lnTo>
                    <a:lnTo>
                      <a:pt x="752" y="497"/>
                    </a:lnTo>
                    <a:lnTo>
                      <a:pt x="758" y="493"/>
                    </a:lnTo>
                    <a:lnTo>
                      <a:pt x="764" y="488"/>
                    </a:lnTo>
                    <a:lnTo>
                      <a:pt x="770" y="484"/>
                    </a:lnTo>
                    <a:lnTo>
                      <a:pt x="776" y="478"/>
                    </a:lnTo>
                    <a:lnTo>
                      <a:pt x="783" y="475"/>
                    </a:lnTo>
                    <a:lnTo>
                      <a:pt x="788" y="469"/>
                    </a:lnTo>
                    <a:lnTo>
                      <a:pt x="795" y="466"/>
                    </a:lnTo>
                    <a:lnTo>
                      <a:pt x="799" y="462"/>
                    </a:lnTo>
                    <a:lnTo>
                      <a:pt x="805" y="457"/>
                    </a:lnTo>
                    <a:lnTo>
                      <a:pt x="811" y="453"/>
                    </a:lnTo>
                    <a:lnTo>
                      <a:pt x="817" y="448"/>
                    </a:lnTo>
                    <a:lnTo>
                      <a:pt x="825" y="444"/>
                    </a:lnTo>
                    <a:lnTo>
                      <a:pt x="831" y="441"/>
                    </a:lnTo>
                    <a:lnTo>
                      <a:pt x="835" y="437"/>
                    </a:lnTo>
                    <a:lnTo>
                      <a:pt x="841" y="432"/>
                    </a:lnTo>
                    <a:lnTo>
                      <a:pt x="847" y="428"/>
                    </a:lnTo>
                    <a:lnTo>
                      <a:pt x="853" y="425"/>
                    </a:lnTo>
                    <a:lnTo>
                      <a:pt x="857" y="420"/>
                    </a:lnTo>
                    <a:lnTo>
                      <a:pt x="863" y="417"/>
                    </a:lnTo>
                    <a:lnTo>
                      <a:pt x="869" y="413"/>
                    </a:lnTo>
                    <a:lnTo>
                      <a:pt x="875" y="410"/>
                    </a:lnTo>
                    <a:lnTo>
                      <a:pt x="881" y="405"/>
                    </a:lnTo>
                    <a:lnTo>
                      <a:pt x="886" y="402"/>
                    </a:lnTo>
                    <a:lnTo>
                      <a:pt x="891" y="398"/>
                    </a:lnTo>
                    <a:lnTo>
                      <a:pt x="896" y="395"/>
                    </a:lnTo>
                    <a:lnTo>
                      <a:pt x="902" y="391"/>
                    </a:lnTo>
                    <a:lnTo>
                      <a:pt x="906" y="388"/>
                    </a:lnTo>
                    <a:lnTo>
                      <a:pt x="911" y="385"/>
                    </a:lnTo>
                    <a:lnTo>
                      <a:pt x="917" y="383"/>
                    </a:lnTo>
                    <a:lnTo>
                      <a:pt x="921" y="379"/>
                    </a:lnTo>
                    <a:lnTo>
                      <a:pt x="926" y="376"/>
                    </a:lnTo>
                    <a:lnTo>
                      <a:pt x="930" y="373"/>
                    </a:lnTo>
                    <a:lnTo>
                      <a:pt x="936" y="368"/>
                    </a:lnTo>
                    <a:lnTo>
                      <a:pt x="940" y="365"/>
                    </a:lnTo>
                    <a:lnTo>
                      <a:pt x="943" y="364"/>
                    </a:lnTo>
                    <a:lnTo>
                      <a:pt x="948" y="361"/>
                    </a:lnTo>
                    <a:lnTo>
                      <a:pt x="954" y="358"/>
                    </a:lnTo>
                    <a:lnTo>
                      <a:pt x="957" y="355"/>
                    </a:lnTo>
                    <a:lnTo>
                      <a:pt x="961" y="352"/>
                    </a:lnTo>
                    <a:lnTo>
                      <a:pt x="966" y="349"/>
                    </a:lnTo>
                    <a:lnTo>
                      <a:pt x="970" y="346"/>
                    </a:lnTo>
                    <a:lnTo>
                      <a:pt x="973" y="345"/>
                    </a:lnTo>
                    <a:lnTo>
                      <a:pt x="978" y="342"/>
                    </a:lnTo>
                    <a:lnTo>
                      <a:pt x="982" y="339"/>
                    </a:lnTo>
                    <a:lnTo>
                      <a:pt x="986" y="337"/>
                    </a:lnTo>
                    <a:lnTo>
                      <a:pt x="991" y="334"/>
                    </a:lnTo>
                    <a:lnTo>
                      <a:pt x="994" y="331"/>
                    </a:lnTo>
                    <a:lnTo>
                      <a:pt x="998" y="330"/>
                    </a:lnTo>
                    <a:lnTo>
                      <a:pt x="1003" y="327"/>
                    </a:lnTo>
                    <a:lnTo>
                      <a:pt x="1006" y="325"/>
                    </a:lnTo>
                    <a:lnTo>
                      <a:pt x="1010" y="322"/>
                    </a:lnTo>
                    <a:lnTo>
                      <a:pt x="1015" y="321"/>
                    </a:lnTo>
                    <a:lnTo>
                      <a:pt x="1019" y="319"/>
                    </a:lnTo>
                    <a:lnTo>
                      <a:pt x="1022" y="316"/>
                    </a:lnTo>
                    <a:lnTo>
                      <a:pt x="1026" y="313"/>
                    </a:lnTo>
                    <a:lnTo>
                      <a:pt x="1029" y="312"/>
                    </a:lnTo>
                    <a:lnTo>
                      <a:pt x="1034" y="309"/>
                    </a:lnTo>
                    <a:lnTo>
                      <a:pt x="1038" y="307"/>
                    </a:lnTo>
                    <a:lnTo>
                      <a:pt x="1043" y="304"/>
                    </a:lnTo>
                    <a:lnTo>
                      <a:pt x="1047" y="303"/>
                    </a:lnTo>
                    <a:lnTo>
                      <a:pt x="1052" y="301"/>
                    </a:lnTo>
                    <a:lnTo>
                      <a:pt x="1055" y="299"/>
                    </a:lnTo>
                    <a:lnTo>
                      <a:pt x="1059" y="297"/>
                    </a:lnTo>
                    <a:lnTo>
                      <a:pt x="1064" y="294"/>
                    </a:lnTo>
                    <a:lnTo>
                      <a:pt x="1067" y="293"/>
                    </a:lnTo>
                    <a:lnTo>
                      <a:pt x="1071" y="290"/>
                    </a:lnTo>
                    <a:lnTo>
                      <a:pt x="1075" y="288"/>
                    </a:lnTo>
                    <a:lnTo>
                      <a:pt x="1080" y="285"/>
                    </a:lnTo>
                    <a:lnTo>
                      <a:pt x="1086" y="284"/>
                    </a:lnTo>
                    <a:lnTo>
                      <a:pt x="1090" y="281"/>
                    </a:lnTo>
                    <a:lnTo>
                      <a:pt x="1095" y="278"/>
                    </a:lnTo>
                    <a:lnTo>
                      <a:pt x="1099" y="276"/>
                    </a:lnTo>
                    <a:lnTo>
                      <a:pt x="1104" y="275"/>
                    </a:lnTo>
                    <a:lnTo>
                      <a:pt x="1108" y="272"/>
                    </a:lnTo>
                    <a:lnTo>
                      <a:pt x="1114" y="269"/>
                    </a:lnTo>
                    <a:lnTo>
                      <a:pt x="1120" y="266"/>
                    </a:lnTo>
                    <a:lnTo>
                      <a:pt x="1124" y="264"/>
                    </a:lnTo>
                    <a:lnTo>
                      <a:pt x="1130" y="261"/>
                    </a:lnTo>
                    <a:lnTo>
                      <a:pt x="1135" y="258"/>
                    </a:lnTo>
                    <a:lnTo>
                      <a:pt x="1141" y="255"/>
                    </a:lnTo>
                    <a:lnTo>
                      <a:pt x="1147" y="254"/>
                    </a:lnTo>
                    <a:lnTo>
                      <a:pt x="1153" y="251"/>
                    </a:lnTo>
                    <a:lnTo>
                      <a:pt x="1157" y="248"/>
                    </a:lnTo>
                    <a:lnTo>
                      <a:pt x="1164" y="245"/>
                    </a:lnTo>
                    <a:lnTo>
                      <a:pt x="1170" y="242"/>
                    </a:lnTo>
                    <a:lnTo>
                      <a:pt x="1176" y="239"/>
                    </a:lnTo>
                    <a:lnTo>
                      <a:pt x="1184" y="236"/>
                    </a:lnTo>
                    <a:lnTo>
                      <a:pt x="1190" y="233"/>
                    </a:lnTo>
                    <a:lnTo>
                      <a:pt x="1197" y="230"/>
                    </a:lnTo>
                    <a:lnTo>
                      <a:pt x="1205" y="226"/>
                    </a:lnTo>
                    <a:lnTo>
                      <a:pt x="1210" y="223"/>
                    </a:lnTo>
                    <a:lnTo>
                      <a:pt x="1218" y="220"/>
                    </a:lnTo>
                    <a:lnTo>
                      <a:pt x="1227" y="217"/>
                    </a:lnTo>
                    <a:lnTo>
                      <a:pt x="1234" y="212"/>
                    </a:lnTo>
                    <a:lnTo>
                      <a:pt x="1242" y="209"/>
                    </a:lnTo>
                    <a:lnTo>
                      <a:pt x="1249" y="205"/>
                    </a:lnTo>
                    <a:lnTo>
                      <a:pt x="1258" y="202"/>
                    </a:lnTo>
                    <a:lnTo>
                      <a:pt x="1265" y="198"/>
                    </a:lnTo>
                    <a:lnTo>
                      <a:pt x="1273" y="193"/>
                    </a:lnTo>
                    <a:lnTo>
                      <a:pt x="1282" y="189"/>
                    </a:lnTo>
                    <a:lnTo>
                      <a:pt x="1292" y="186"/>
                    </a:lnTo>
                    <a:lnTo>
                      <a:pt x="1300" y="181"/>
                    </a:lnTo>
                    <a:lnTo>
                      <a:pt x="1308" y="177"/>
                    </a:lnTo>
                    <a:lnTo>
                      <a:pt x="1317" y="172"/>
                    </a:lnTo>
                    <a:lnTo>
                      <a:pt x="1326" y="168"/>
                    </a:lnTo>
                    <a:lnTo>
                      <a:pt x="1335" y="163"/>
                    </a:lnTo>
                    <a:lnTo>
                      <a:pt x="1344" y="159"/>
                    </a:lnTo>
                    <a:lnTo>
                      <a:pt x="1354" y="155"/>
                    </a:lnTo>
                    <a:lnTo>
                      <a:pt x="1363" y="152"/>
                    </a:lnTo>
                    <a:lnTo>
                      <a:pt x="1374" y="146"/>
                    </a:lnTo>
                    <a:lnTo>
                      <a:pt x="1383" y="143"/>
                    </a:lnTo>
                    <a:lnTo>
                      <a:pt x="1391" y="137"/>
                    </a:lnTo>
                    <a:lnTo>
                      <a:pt x="1400" y="134"/>
                    </a:lnTo>
                    <a:lnTo>
                      <a:pt x="1411" y="128"/>
                    </a:lnTo>
                    <a:lnTo>
                      <a:pt x="1420" y="123"/>
                    </a:lnTo>
                    <a:lnTo>
                      <a:pt x="1430" y="119"/>
                    </a:lnTo>
                    <a:lnTo>
                      <a:pt x="1439" y="116"/>
                    </a:lnTo>
                    <a:lnTo>
                      <a:pt x="1449" y="110"/>
                    </a:lnTo>
                    <a:lnTo>
                      <a:pt x="1458" y="107"/>
                    </a:lnTo>
                    <a:lnTo>
                      <a:pt x="1467" y="101"/>
                    </a:lnTo>
                    <a:lnTo>
                      <a:pt x="1478" y="98"/>
                    </a:lnTo>
                    <a:lnTo>
                      <a:pt x="1486" y="94"/>
                    </a:lnTo>
                    <a:lnTo>
                      <a:pt x="1497" y="89"/>
                    </a:lnTo>
                    <a:lnTo>
                      <a:pt x="1506" y="86"/>
                    </a:lnTo>
                    <a:lnTo>
                      <a:pt x="1516" y="82"/>
                    </a:lnTo>
                    <a:lnTo>
                      <a:pt x="1524" y="77"/>
                    </a:lnTo>
                    <a:lnTo>
                      <a:pt x="1534" y="73"/>
                    </a:lnTo>
                    <a:lnTo>
                      <a:pt x="1541" y="69"/>
                    </a:lnTo>
                    <a:lnTo>
                      <a:pt x="1552" y="66"/>
                    </a:lnTo>
                    <a:lnTo>
                      <a:pt x="1561" y="61"/>
                    </a:lnTo>
                    <a:lnTo>
                      <a:pt x="1568" y="58"/>
                    </a:lnTo>
                    <a:lnTo>
                      <a:pt x="1577" y="54"/>
                    </a:lnTo>
                    <a:lnTo>
                      <a:pt x="1586" y="51"/>
                    </a:lnTo>
                    <a:lnTo>
                      <a:pt x="1593" y="46"/>
                    </a:lnTo>
                    <a:lnTo>
                      <a:pt x="1602" y="43"/>
                    </a:lnTo>
                    <a:lnTo>
                      <a:pt x="1610" y="40"/>
                    </a:lnTo>
                    <a:lnTo>
                      <a:pt x="1619" y="37"/>
                    </a:lnTo>
                    <a:lnTo>
                      <a:pt x="1626" y="33"/>
                    </a:lnTo>
                    <a:lnTo>
                      <a:pt x="1635" y="30"/>
                    </a:lnTo>
                    <a:lnTo>
                      <a:pt x="1642" y="27"/>
                    </a:lnTo>
                    <a:lnTo>
                      <a:pt x="1650" y="25"/>
                    </a:lnTo>
                    <a:lnTo>
                      <a:pt x="1657" y="23"/>
                    </a:lnTo>
                    <a:lnTo>
                      <a:pt x="1663" y="20"/>
                    </a:lnTo>
                    <a:lnTo>
                      <a:pt x="1670" y="18"/>
                    </a:lnTo>
                    <a:lnTo>
                      <a:pt x="1676" y="15"/>
                    </a:lnTo>
                    <a:lnTo>
                      <a:pt x="1684" y="14"/>
                    </a:lnTo>
                    <a:lnTo>
                      <a:pt x="1690" y="11"/>
                    </a:lnTo>
                    <a:lnTo>
                      <a:pt x="1696" y="9"/>
                    </a:lnTo>
                    <a:lnTo>
                      <a:pt x="1702" y="8"/>
                    </a:lnTo>
                    <a:lnTo>
                      <a:pt x="1706" y="6"/>
                    </a:lnTo>
                    <a:lnTo>
                      <a:pt x="1712" y="5"/>
                    </a:lnTo>
                    <a:lnTo>
                      <a:pt x="1718" y="3"/>
                    </a:lnTo>
                    <a:lnTo>
                      <a:pt x="1722" y="3"/>
                    </a:lnTo>
                    <a:lnTo>
                      <a:pt x="1727" y="2"/>
                    </a:lnTo>
                    <a:lnTo>
                      <a:pt x="1731" y="0"/>
                    </a:lnTo>
                    <a:lnTo>
                      <a:pt x="1736" y="0"/>
                    </a:lnTo>
                    <a:lnTo>
                      <a:pt x="1740" y="0"/>
                    </a:lnTo>
                    <a:lnTo>
                      <a:pt x="1745" y="0"/>
                    </a:lnTo>
                    <a:lnTo>
                      <a:pt x="1751" y="0"/>
                    </a:lnTo>
                    <a:lnTo>
                      <a:pt x="1755" y="2"/>
                    </a:lnTo>
                    <a:lnTo>
                      <a:pt x="1759" y="3"/>
                    </a:lnTo>
                    <a:lnTo>
                      <a:pt x="1761" y="6"/>
                    </a:lnTo>
                    <a:lnTo>
                      <a:pt x="1762" y="9"/>
                    </a:lnTo>
                    <a:lnTo>
                      <a:pt x="1764" y="12"/>
                    </a:lnTo>
                    <a:lnTo>
                      <a:pt x="1764" y="17"/>
                    </a:lnTo>
                    <a:lnTo>
                      <a:pt x="1762" y="20"/>
                    </a:lnTo>
                    <a:lnTo>
                      <a:pt x="1762" y="24"/>
                    </a:lnTo>
                    <a:lnTo>
                      <a:pt x="1759" y="28"/>
                    </a:lnTo>
                    <a:lnTo>
                      <a:pt x="1758" y="34"/>
                    </a:lnTo>
                    <a:lnTo>
                      <a:pt x="1755" y="39"/>
                    </a:lnTo>
                    <a:lnTo>
                      <a:pt x="1751" y="45"/>
                    </a:lnTo>
                    <a:lnTo>
                      <a:pt x="1748" y="51"/>
                    </a:lnTo>
                    <a:lnTo>
                      <a:pt x="1745" y="57"/>
                    </a:lnTo>
                    <a:lnTo>
                      <a:pt x="1740" y="61"/>
                    </a:lnTo>
                    <a:lnTo>
                      <a:pt x="1736" y="67"/>
                    </a:lnTo>
                    <a:lnTo>
                      <a:pt x="1731" y="71"/>
                    </a:lnTo>
                    <a:lnTo>
                      <a:pt x="1727" y="77"/>
                    </a:lnTo>
                    <a:lnTo>
                      <a:pt x="1721" y="82"/>
                    </a:lnTo>
                    <a:lnTo>
                      <a:pt x="1718" y="88"/>
                    </a:lnTo>
                    <a:lnTo>
                      <a:pt x="1713" y="92"/>
                    </a:lnTo>
                    <a:lnTo>
                      <a:pt x="1709" y="97"/>
                    </a:lnTo>
                    <a:lnTo>
                      <a:pt x="1706" y="101"/>
                    </a:lnTo>
                    <a:lnTo>
                      <a:pt x="1702" y="104"/>
                    </a:lnTo>
                    <a:lnTo>
                      <a:pt x="1699" y="107"/>
                    </a:lnTo>
                    <a:lnTo>
                      <a:pt x="1697" y="110"/>
                    </a:lnTo>
                    <a:lnTo>
                      <a:pt x="1693" y="115"/>
                    </a:lnTo>
                    <a:lnTo>
                      <a:pt x="1691" y="116"/>
                    </a:lnTo>
                    <a:lnTo>
                      <a:pt x="1430" y="214"/>
                    </a:lnTo>
                    <a:lnTo>
                      <a:pt x="1213" y="385"/>
                    </a:lnTo>
                    <a:lnTo>
                      <a:pt x="958" y="423"/>
                    </a:lnTo>
                    <a:lnTo>
                      <a:pt x="728" y="583"/>
                    </a:lnTo>
                    <a:lnTo>
                      <a:pt x="731" y="582"/>
                    </a:lnTo>
                    <a:lnTo>
                      <a:pt x="734" y="580"/>
                    </a:lnTo>
                    <a:lnTo>
                      <a:pt x="739" y="579"/>
                    </a:lnTo>
                    <a:lnTo>
                      <a:pt x="743" y="577"/>
                    </a:lnTo>
                    <a:lnTo>
                      <a:pt x="749" y="576"/>
                    </a:lnTo>
                    <a:lnTo>
                      <a:pt x="753" y="575"/>
                    </a:lnTo>
                    <a:lnTo>
                      <a:pt x="759" y="572"/>
                    </a:lnTo>
                    <a:lnTo>
                      <a:pt x="762" y="572"/>
                    </a:lnTo>
                    <a:lnTo>
                      <a:pt x="765" y="570"/>
                    </a:lnTo>
                    <a:lnTo>
                      <a:pt x="770" y="569"/>
                    </a:lnTo>
                    <a:lnTo>
                      <a:pt x="773" y="569"/>
                    </a:lnTo>
                    <a:lnTo>
                      <a:pt x="776" y="567"/>
                    </a:lnTo>
                    <a:lnTo>
                      <a:pt x="780" y="566"/>
                    </a:lnTo>
                    <a:lnTo>
                      <a:pt x="783" y="564"/>
                    </a:lnTo>
                    <a:lnTo>
                      <a:pt x="788" y="564"/>
                    </a:lnTo>
                    <a:lnTo>
                      <a:pt x="791" y="561"/>
                    </a:lnTo>
                    <a:lnTo>
                      <a:pt x="795" y="561"/>
                    </a:lnTo>
                    <a:lnTo>
                      <a:pt x="799" y="560"/>
                    </a:lnTo>
                    <a:lnTo>
                      <a:pt x="804" y="558"/>
                    </a:lnTo>
                    <a:lnTo>
                      <a:pt x="808" y="557"/>
                    </a:lnTo>
                    <a:lnTo>
                      <a:pt x="811" y="555"/>
                    </a:lnTo>
                    <a:lnTo>
                      <a:pt x="816" y="554"/>
                    </a:lnTo>
                    <a:lnTo>
                      <a:pt x="820" y="552"/>
                    </a:lnTo>
                    <a:lnTo>
                      <a:pt x="825" y="551"/>
                    </a:lnTo>
                    <a:lnTo>
                      <a:pt x="829" y="549"/>
                    </a:lnTo>
                    <a:lnTo>
                      <a:pt x="834" y="548"/>
                    </a:lnTo>
                    <a:lnTo>
                      <a:pt x="838" y="546"/>
                    </a:lnTo>
                    <a:lnTo>
                      <a:pt x="842" y="545"/>
                    </a:lnTo>
                    <a:lnTo>
                      <a:pt x="847" y="543"/>
                    </a:lnTo>
                    <a:lnTo>
                      <a:pt x="851" y="542"/>
                    </a:lnTo>
                    <a:lnTo>
                      <a:pt x="856" y="540"/>
                    </a:lnTo>
                    <a:lnTo>
                      <a:pt x="860" y="539"/>
                    </a:lnTo>
                    <a:lnTo>
                      <a:pt x="865" y="537"/>
                    </a:lnTo>
                    <a:lnTo>
                      <a:pt x="869" y="536"/>
                    </a:lnTo>
                    <a:lnTo>
                      <a:pt x="874" y="534"/>
                    </a:lnTo>
                    <a:lnTo>
                      <a:pt x="878" y="533"/>
                    </a:lnTo>
                    <a:lnTo>
                      <a:pt x="883" y="531"/>
                    </a:lnTo>
                    <a:lnTo>
                      <a:pt x="887" y="530"/>
                    </a:lnTo>
                    <a:lnTo>
                      <a:pt x="891" y="529"/>
                    </a:lnTo>
                    <a:lnTo>
                      <a:pt x="896" y="526"/>
                    </a:lnTo>
                    <a:lnTo>
                      <a:pt x="900" y="526"/>
                    </a:lnTo>
                    <a:lnTo>
                      <a:pt x="903" y="524"/>
                    </a:lnTo>
                    <a:lnTo>
                      <a:pt x="909" y="523"/>
                    </a:lnTo>
                    <a:lnTo>
                      <a:pt x="912" y="521"/>
                    </a:lnTo>
                    <a:lnTo>
                      <a:pt x="917" y="518"/>
                    </a:lnTo>
                    <a:lnTo>
                      <a:pt x="921" y="518"/>
                    </a:lnTo>
                    <a:lnTo>
                      <a:pt x="926" y="517"/>
                    </a:lnTo>
                    <a:lnTo>
                      <a:pt x="929" y="515"/>
                    </a:lnTo>
                    <a:lnTo>
                      <a:pt x="933" y="514"/>
                    </a:lnTo>
                    <a:lnTo>
                      <a:pt x="936" y="512"/>
                    </a:lnTo>
                    <a:lnTo>
                      <a:pt x="940" y="511"/>
                    </a:lnTo>
                    <a:lnTo>
                      <a:pt x="946" y="508"/>
                    </a:lnTo>
                    <a:lnTo>
                      <a:pt x="954" y="505"/>
                    </a:lnTo>
                    <a:lnTo>
                      <a:pt x="958" y="502"/>
                    </a:lnTo>
                    <a:lnTo>
                      <a:pt x="966" y="499"/>
                    </a:lnTo>
                    <a:lnTo>
                      <a:pt x="970" y="496"/>
                    </a:lnTo>
                    <a:lnTo>
                      <a:pt x="976" y="494"/>
                    </a:lnTo>
                    <a:lnTo>
                      <a:pt x="980" y="491"/>
                    </a:lnTo>
                    <a:lnTo>
                      <a:pt x="986" y="488"/>
                    </a:lnTo>
                    <a:lnTo>
                      <a:pt x="991" y="487"/>
                    </a:lnTo>
                    <a:lnTo>
                      <a:pt x="995" y="484"/>
                    </a:lnTo>
                    <a:lnTo>
                      <a:pt x="1000" y="481"/>
                    </a:lnTo>
                    <a:lnTo>
                      <a:pt x="1004" y="480"/>
                    </a:lnTo>
                    <a:lnTo>
                      <a:pt x="1007" y="477"/>
                    </a:lnTo>
                    <a:lnTo>
                      <a:pt x="1012" y="475"/>
                    </a:lnTo>
                    <a:lnTo>
                      <a:pt x="1016" y="474"/>
                    </a:lnTo>
                    <a:lnTo>
                      <a:pt x="1021" y="472"/>
                    </a:lnTo>
                    <a:lnTo>
                      <a:pt x="1024" y="469"/>
                    </a:lnTo>
                    <a:lnTo>
                      <a:pt x="1026" y="468"/>
                    </a:lnTo>
                    <a:lnTo>
                      <a:pt x="1031" y="466"/>
                    </a:lnTo>
                    <a:lnTo>
                      <a:pt x="1034" y="463"/>
                    </a:lnTo>
                    <a:lnTo>
                      <a:pt x="1038" y="462"/>
                    </a:lnTo>
                    <a:lnTo>
                      <a:pt x="1041" y="460"/>
                    </a:lnTo>
                    <a:lnTo>
                      <a:pt x="1046" y="459"/>
                    </a:lnTo>
                    <a:lnTo>
                      <a:pt x="1050" y="459"/>
                    </a:lnTo>
                    <a:lnTo>
                      <a:pt x="1055" y="456"/>
                    </a:lnTo>
                    <a:lnTo>
                      <a:pt x="1058" y="454"/>
                    </a:lnTo>
                    <a:lnTo>
                      <a:pt x="1062" y="453"/>
                    </a:lnTo>
                    <a:lnTo>
                      <a:pt x="1068" y="451"/>
                    </a:lnTo>
                    <a:lnTo>
                      <a:pt x="1072" y="451"/>
                    </a:lnTo>
                    <a:lnTo>
                      <a:pt x="1077" y="450"/>
                    </a:lnTo>
                    <a:lnTo>
                      <a:pt x="1083" y="448"/>
                    </a:lnTo>
                    <a:lnTo>
                      <a:pt x="1089" y="448"/>
                    </a:lnTo>
                    <a:lnTo>
                      <a:pt x="1095" y="447"/>
                    </a:lnTo>
                    <a:lnTo>
                      <a:pt x="1101" y="447"/>
                    </a:lnTo>
                    <a:lnTo>
                      <a:pt x="1107" y="445"/>
                    </a:lnTo>
                    <a:lnTo>
                      <a:pt x="1113" y="444"/>
                    </a:lnTo>
                    <a:lnTo>
                      <a:pt x="1120" y="444"/>
                    </a:lnTo>
                    <a:lnTo>
                      <a:pt x="1126" y="444"/>
                    </a:lnTo>
                    <a:lnTo>
                      <a:pt x="1129" y="442"/>
                    </a:lnTo>
                    <a:lnTo>
                      <a:pt x="1133" y="442"/>
                    </a:lnTo>
                    <a:lnTo>
                      <a:pt x="1136" y="442"/>
                    </a:lnTo>
                    <a:lnTo>
                      <a:pt x="1141" y="442"/>
                    </a:lnTo>
                    <a:lnTo>
                      <a:pt x="1144" y="442"/>
                    </a:lnTo>
                    <a:lnTo>
                      <a:pt x="1147" y="442"/>
                    </a:lnTo>
                    <a:lnTo>
                      <a:pt x="1150" y="441"/>
                    </a:lnTo>
                    <a:lnTo>
                      <a:pt x="1154" y="441"/>
                    </a:lnTo>
                    <a:lnTo>
                      <a:pt x="1157" y="441"/>
                    </a:lnTo>
                    <a:lnTo>
                      <a:pt x="1162" y="441"/>
                    </a:lnTo>
                    <a:lnTo>
                      <a:pt x="1164" y="441"/>
                    </a:lnTo>
                    <a:lnTo>
                      <a:pt x="1167" y="441"/>
                    </a:lnTo>
                    <a:lnTo>
                      <a:pt x="1170" y="439"/>
                    </a:lnTo>
                    <a:lnTo>
                      <a:pt x="1175" y="439"/>
                    </a:lnTo>
                    <a:lnTo>
                      <a:pt x="1178" y="439"/>
                    </a:lnTo>
                    <a:lnTo>
                      <a:pt x="1181" y="439"/>
                    </a:lnTo>
                    <a:lnTo>
                      <a:pt x="1184" y="439"/>
                    </a:lnTo>
                    <a:lnTo>
                      <a:pt x="1188" y="439"/>
                    </a:lnTo>
                    <a:lnTo>
                      <a:pt x="1191" y="439"/>
                    </a:lnTo>
                    <a:lnTo>
                      <a:pt x="1194" y="439"/>
                    </a:lnTo>
                    <a:lnTo>
                      <a:pt x="1202" y="439"/>
                    </a:lnTo>
                    <a:lnTo>
                      <a:pt x="1208" y="439"/>
                    </a:lnTo>
                    <a:lnTo>
                      <a:pt x="1213" y="439"/>
                    </a:lnTo>
                    <a:lnTo>
                      <a:pt x="1218" y="439"/>
                    </a:lnTo>
                    <a:lnTo>
                      <a:pt x="1224" y="439"/>
                    </a:lnTo>
                    <a:lnTo>
                      <a:pt x="1228" y="439"/>
                    </a:lnTo>
                    <a:lnTo>
                      <a:pt x="1233" y="439"/>
                    </a:lnTo>
                    <a:lnTo>
                      <a:pt x="1239" y="439"/>
                    </a:lnTo>
                    <a:lnTo>
                      <a:pt x="1242" y="439"/>
                    </a:lnTo>
                    <a:lnTo>
                      <a:pt x="1246" y="439"/>
                    </a:lnTo>
                    <a:lnTo>
                      <a:pt x="1248" y="439"/>
                    </a:lnTo>
                    <a:lnTo>
                      <a:pt x="1251" y="439"/>
                    </a:lnTo>
                    <a:lnTo>
                      <a:pt x="1255" y="439"/>
                    </a:lnTo>
                    <a:lnTo>
                      <a:pt x="1256" y="439"/>
                    </a:lnTo>
                    <a:lnTo>
                      <a:pt x="1254" y="441"/>
                    </a:lnTo>
                    <a:lnTo>
                      <a:pt x="1251" y="444"/>
                    </a:lnTo>
                    <a:lnTo>
                      <a:pt x="1245" y="450"/>
                    </a:lnTo>
                    <a:lnTo>
                      <a:pt x="1240" y="456"/>
                    </a:lnTo>
                    <a:lnTo>
                      <a:pt x="1236" y="462"/>
                    </a:lnTo>
                    <a:lnTo>
                      <a:pt x="1236" y="466"/>
                    </a:lnTo>
                    <a:lnTo>
                      <a:pt x="1237" y="469"/>
                    </a:lnTo>
                    <a:lnTo>
                      <a:pt x="1240" y="471"/>
                    </a:lnTo>
                    <a:lnTo>
                      <a:pt x="1242" y="471"/>
                    </a:lnTo>
                    <a:lnTo>
                      <a:pt x="1245" y="472"/>
                    </a:lnTo>
                    <a:lnTo>
                      <a:pt x="1248" y="472"/>
                    </a:lnTo>
                    <a:lnTo>
                      <a:pt x="1251" y="472"/>
                    </a:lnTo>
                    <a:lnTo>
                      <a:pt x="1254" y="472"/>
                    </a:lnTo>
                    <a:lnTo>
                      <a:pt x="1258" y="471"/>
                    </a:lnTo>
                    <a:lnTo>
                      <a:pt x="1261" y="471"/>
                    </a:lnTo>
                    <a:lnTo>
                      <a:pt x="1265" y="469"/>
                    </a:lnTo>
                    <a:lnTo>
                      <a:pt x="1271" y="469"/>
                    </a:lnTo>
                    <a:lnTo>
                      <a:pt x="1276" y="468"/>
                    </a:lnTo>
                    <a:lnTo>
                      <a:pt x="1282" y="466"/>
                    </a:lnTo>
                    <a:lnTo>
                      <a:pt x="1288" y="466"/>
                    </a:lnTo>
                    <a:lnTo>
                      <a:pt x="1294" y="463"/>
                    </a:lnTo>
                    <a:lnTo>
                      <a:pt x="1300" y="462"/>
                    </a:lnTo>
                    <a:lnTo>
                      <a:pt x="1305" y="460"/>
                    </a:lnTo>
                    <a:lnTo>
                      <a:pt x="1311" y="459"/>
                    </a:lnTo>
                    <a:lnTo>
                      <a:pt x="1317" y="457"/>
                    </a:lnTo>
                    <a:lnTo>
                      <a:pt x="1323" y="456"/>
                    </a:lnTo>
                    <a:lnTo>
                      <a:pt x="1329" y="454"/>
                    </a:lnTo>
                    <a:lnTo>
                      <a:pt x="1337" y="453"/>
                    </a:lnTo>
                    <a:lnTo>
                      <a:pt x="1341" y="451"/>
                    </a:lnTo>
                    <a:lnTo>
                      <a:pt x="1347" y="450"/>
                    </a:lnTo>
                    <a:lnTo>
                      <a:pt x="1353" y="447"/>
                    </a:lnTo>
                    <a:lnTo>
                      <a:pt x="1359" y="447"/>
                    </a:lnTo>
                    <a:lnTo>
                      <a:pt x="1363" y="444"/>
                    </a:lnTo>
                    <a:lnTo>
                      <a:pt x="1368" y="444"/>
                    </a:lnTo>
                    <a:lnTo>
                      <a:pt x="1372" y="442"/>
                    </a:lnTo>
                    <a:lnTo>
                      <a:pt x="1378" y="441"/>
                    </a:lnTo>
                    <a:lnTo>
                      <a:pt x="1381" y="439"/>
                    </a:lnTo>
                    <a:lnTo>
                      <a:pt x="1384" y="438"/>
                    </a:lnTo>
                    <a:lnTo>
                      <a:pt x="1387" y="437"/>
                    </a:lnTo>
                    <a:lnTo>
                      <a:pt x="1390" y="437"/>
                    </a:lnTo>
                    <a:lnTo>
                      <a:pt x="1393" y="437"/>
                    </a:lnTo>
                    <a:lnTo>
                      <a:pt x="1396" y="437"/>
                    </a:lnTo>
                    <a:lnTo>
                      <a:pt x="1383" y="497"/>
                    </a:lnTo>
                    <a:lnTo>
                      <a:pt x="1371" y="536"/>
                    </a:lnTo>
                    <a:lnTo>
                      <a:pt x="1371" y="537"/>
                    </a:lnTo>
                    <a:lnTo>
                      <a:pt x="1371" y="540"/>
                    </a:lnTo>
                    <a:lnTo>
                      <a:pt x="1369" y="542"/>
                    </a:lnTo>
                    <a:lnTo>
                      <a:pt x="1368" y="546"/>
                    </a:lnTo>
                    <a:lnTo>
                      <a:pt x="1366" y="551"/>
                    </a:lnTo>
                    <a:lnTo>
                      <a:pt x="1365" y="557"/>
                    </a:lnTo>
                    <a:lnTo>
                      <a:pt x="1363" y="558"/>
                    </a:lnTo>
                    <a:lnTo>
                      <a:pt x="1362" y="561"/>
                    </a:lnTo>
                    <a:lnTo>
                      <a:pt x="1360" y="564"/>
                    </a:lnTo>
                    <a:lnTo>
                      <a:pt x="1359" y="569"/>
                    </a:lnTo>
                    <a:lnTo>
                      <a:pt x="1356" y="572"/>
                    </a:lnTo>
                    <a:lnTo>
                      <a:pt x="1354" y="576"/>
                    </a:lnTo>
                    <a:lnTo>
                      <a:pt x="1351" y="579"/>
                    </a:lnTo>
                    <a:lnTo>
                      <a:pt x="1348" y="583"/>
                    </a:lnTo>
                    <a:lnTo>
                      <a:pt x="1346" y="588"/>
                    </a:lnTo>
                    <a:lnTo>
                      <a:pt x="1343" y="592"/>
                    </a:lnTo>
                    <a:lnTo>
                      <a:pt x="1340" y="598"/>
                    </a:lnTo>
                    <a:lnTo>
                      <a:pt x="1335" y="603"/>
                    </a:lnTo>
                    <a:lnTo>
                      <a:pt x="1331" y="609"/>
                    </a:lnTo>
                    <a:lnTo>
                      <a:pt x="1328" y="615"/>
                    </a:lnTo>
                    <a:lnTo>
                      <a:pt x="1322" y="621"/>
                    </a:lnTo>
                    <a:lnTo>
                      <a:pt x="1319" y="626"/>
                    </a:lnTo>
                    <a:lnTo>
                      <a:pt x="1311" y="632"/>
                    </a:lnTo>
                    <a:lnTo>
                      <a:pt x="1307" y="640"/>
                    </a:lnTo>
                    <a:lnTo>
                      <a:pt x="1302" y="643"/>
                    </a:lnTo>
                    <a:lnTo>
                      <a:pt x="1300" y="646"/>
                    </a:lnTo>
                    <a:lnTo>
                      <a:pt x="1297" y="649"/>
                    </a:lnTo>
                    <a:lnTo>
                      <a:pt x="1294" y="653"/>
                    </a:lnTo>
                    <a:lnTo>
                      <a:pt x="1291" y="656"/>
                    </a:lnTo>
                    <a:lnTo>
                      <a:pt x="1288" y="659"/>
                    </a:lnTo>
                    <a:lnTo>
                      <a:pt x="1283" y="662"/>
                    </a:lnTo>
                    <a:lnTo>
                      <a:pt x="1280" y="667"/>
                    </a:lnTo>
                    <a:lnTo>
                      <a:pt x="1277" y="669"/>
                    </a:lnTo>
                    <a:lnTo>
                      <a:pt x="1273" y="674"/>
                    </a:lnTo>
                    <a:lnTo>
                      <a:pt x="1270" y="677"/>
                    </a:lnTo>
                    <a:lnTo>
                      <a:pt x="1267" y="681"/>
                    </a:lnTo>
                    <a:lnTo>
                      <a:pt x="1264" y="684"/>
                    </a:lnTo>
                    <a:lnTo>
                      <a:pt x="1259" y="689"/>
                    </a:lnTo>
                    <a:lnTo>
                      <a:pt x="1256" y="692"/>
                    </a:lnTo>
                    <a:lnTo>
                      <a:pt x="1254" y="696"/>
                    </a:lnTo>
                    <a:lnTo>
                      <a:pt x="1249" y="699"/>
                    </a:lnTo>
                    <a:lnTo>
                      <a:pt x="1246" y="702"/>
                    </a:lnTo>
                    <a:lnTo>
                      <a:pt x="1242" y="707"/>
                    </a:lnTo>
                    <a:lnTo>
                      <a:pt x="1239" y="710"/>
                    </a:lnTo>
                    <a:lnTo>
                      <a:pt x="1236" y="713"/>
                    </a:lnTo>
                    <a:lnTo>
                      <a:pt x="1231" y="717"/>
                    </a:lnTo>
                    <a:lnTo>
                      <a:pt x="1228" y="720"/>
                    </a:lnTo>
                    <a:lnTo>
                      <a:pt x="1225" y="724"/>
                    </a:lnTo>
                    <a:lnTo>
                      <a:pt x="1221" y="727"/>
                    </a:lnTo>
                    <a:lnTo>
                      <a:pt x="1218" y="730"/>
                    </a:lnTo>
                    <a:lnTo>
                      <a:pt x="1215" y="735"/>
                    </a:lnTo>
                    <a:lnTo>
                      <a:pt x="1212" y="738"/>
                    </a:lnTo>
                    <a:lnTo>
                      <a:pt x="1206" y="745"/>
                    </a:lnTo>
                    <a:lnTo>
                      <a:pt x="1199" y="751"/>
                    </a:lnTo>
                    <a:lnTo>
                      <a:pt x="1193" y="756"/>
                    </a:lnTo>
                    <a:lnTo>
                      <a:pt x="1187" y="763"/>
                    </a:lnTo>
                    <a:lnTo>
                      <a:pt x="1182" y="767"/>
                    </a:lnTo>
                    <a:lnTo>
                      <a:pt x="1176" y="773"/>
                    </a:lnTo>
                    <a:lnTo>
                      <a:pt x="1172" y="778"/>
                    </a:lnTo>
                    <a:lnTo>
                      <a:pt x="1167" y="782"/>
                    </a:lnTo>
                    <a:lnTo>
                      <a:pt x="1163" y="785"/>
                    </a:lnTo>
                    <a:lnTo>
                      <a:pt x="1160" y="790"/>
                    </a:lnTo>
                    <a:lnTo>
                      <a:pt x="1156" y="793"/>
                    </a:lnTo>
                    <a:lnTo>
                      <a:pt x="1154" y="796"/>
                    </a:lnTo>
                    <a:lnTo>
                      <a:pt x="1150" y="799"/>
                    </a:lnTo>
                    <a:lnTo>
                      <a:pt x="1150" y="802"/>
                    </a:lnTo>
                    <a:lnTo>
                      <a:pt x="1381" y="656"/>
                    </a:lnTo>
                    <a:lnTo>
                      <a:pt x="1380" y="658"/>
                    </a:lnTo>
                    <a:lnTo>
                      <a:pt x="1377" y="661"/>
                    </a:lnTo>
                    <a:lnTo>
                      <a:pt x="1374" y="665"/>
                    </a:lnTo>
                    <a:lnTo>
                      <a:pt x="1369" y="669"/>
                    </a:lnTo>
                    <a:lnTo>
                      <a:pt x="1363" y="677"/>
                    </a:lnTo>
                    <a:lnTo>
                      <a:pt x="1360" y="680"/>
                    </a:lnTo>
                    <a:lnTo>
                      <a:pt x="1357" y="683"/>
                    </a:lnTo>
                    <a:lnTo>
                      <a:pt x="1354" y="687"/>
                    </a:lnTo>
                    <a:lnTo>
                      <a:pt x="1351" y="692"/>
                    </a:lnTo>
                    <a:lnTo>
                      <a:pt x="1348" y="695"/>
                    </a:lnTo>
                    <a:lnTo>
                      <a:pt x="1344" y="699"/>
                    </a:lnTo>
                    <a:lnTo>
                      <a:pt x="1341" y="704"/>
                    </a:lnTo>
                    <a:lnTo>
                      <a:pt x="1337" y="708"/>
                    </a:lnTo>
                    <a:lnTo>
                      <a:pt x="1334" y="713"/>
                    </a:lnTo>
                    <a:lnTo>
                      <a:pt x="1329" y="718"/>
                    </a:lnTo>
                    <a:lnTo>
                      <a:pt x="1325" y="723"/>
                    </a:lnTo>
                    <a:lnTo>
                      <a:pt x="1322" y="729"/>
                    </a:lnTo>
                    <a:lnTo>
                      <a:pt x="1316" y="733"/>
                    </a:lnTo>
                    <a:lnTo>
                      <a:pt x="1311" y="739"/>
                    </a:lnTo>
                    <a:lnTo>
                      <a:pt x="1307" y="745"/>
                    </a:lnTo>
                    <a:lnTo>
                      <a:pt x="1302" y="751"/>
                    </a:lnTo>
                    <a:lnTo>
                      <a:pt x="1298" y="756"/>
                    </a:lnTo>
                    <a:lnTo>
                      <a:pt x="1294" y="763"/>
                    </a:lnTo>
                    <a:lnTo>
                      <a:pt x="1289" y="769"/>
                    </a:lnTo>
                    <a:lnTo>
                      <a:pt x="1285" y="775"/>
                    </a:lnTo>
                    <a:lnTo>
                      <a:pt x="1280" y="781"/>
                    </a:lnTo>
                    <a:lnTo>
                      <a:pt x="1276" y="787"/>
                    </a:lnTo>
                    <a:lnTo>
                      <a:pt x="1270" y="793"/>
                    </a:lnTo>
                    <a:lnTo>
                      <a:pt x="1265" y="799"/>
                    </a:lnTo>
                    <a:lnTo>
                      <a:pt x="1261" y="805"/>
                    </a:lnTo>
                    <a:lnTo>
                      <a:pt x="1256" y="810"/>
                    </a:lnTo>
                    <a:lnTo>
                      <a:pt x="1252" y="816"/>
                    </a:lnTo>
                    <a:lnTo>
                      <a:pt x="1248" y="824"/>
                    </a:lnTo>
                    <a:lnTo>
                      <a:pt x="1243" y="828"/>
                    </a:lnTo>
                    <a:lnTo>
                      <a:pt x="1239" y="834"/>
                    </a:lnTo>
                    <a:lnTo>
                      <a:pt x="1234" y="840"/>
                    </a:lnTo>
                    <a:lnTo>
                      <a:pt x="1230" y="846"/>
                    </a:lnTo>
                    <a:lnTo>
                      <a:pt x="1225" y="851"/>
                    </a:lnTo>
                    <a:lnTo>
                      <a:pt x="1222" y="856"/>
                    </a:lnTo>
                    <a:lnTo>
                      <a:pt x="1218" y="861"/>
                    </a:lnTo>
                    <a:lnTo>
                      <a:pt x="1215" y="867"/>
                    </a:lnTo>
                    <a:lnTo>
                      <a:pt x="1212" y="871"/>
                    </a:lnTo>
                    <a:lnTo>
                      <a:pt x="1208" y="876"/>
                    </a:lnTo>
                    <a:lnTo>
                      <a:pt x="1205" y="880"/>
                    </a:lnTo>
                    <a:lnTo>
                      <a:pt x="1202" y="885"/>
                    </a:lnTo>
                    <a:lnTo>
                      <a:pt x="1199" y="888"/>
                    </a:lnTo>
                    <a:lnTo>
                      <a:pt x="1196" y="892"/>
                    </a:lnTo>
                    <a:lnTo>
                      <a:pt x="1193" y="895"/>
                    </a:lnTo>
                    <a:lnTo>
                      <a:pt x="1191" y="899"/>
                    </a:lnTo>
                    <a:lnTo>
                      <a:pt x="1187" y="904"/>
                    </a:lnTo>
                    <a:lnTo>
                      <a:pt x="1184" y="907"/>
                    </a:lnTo>
                    <a:lnTo>
                      <a:pt x="1182" y="910"/>
                    </a:lnTo>
                    <a:lnTo>
                      <a:pt x="1182" y="911"/>
                    </a:lnTo>
                    <a:lnTo>
                      <a:pt x="1285" y="843"/>
                    </a:lnTo>
                    <a:lnTo>
                      <a:pt x="1285" y="845"/>
                    </a:lnTo>
                    <a:lnTo>
                      <a:pt x="1285" y="848"/>
                    </a:lnTo>
                    <a:lnTo>
                      <a:pt x="1286" y="852"/>
                    </a:lnTo>
                    <a:lnTo>
                      <a:pt x="1286" y="856"/>
                    </a:lnTo>
                    <a:lnTo>
                      <a:pt x="1286" y="862"/>
                    </a:lnTo>
                    <a:lnTo>
                      <a:pt x="1285" y="865"/>
                    </a:lnTo>
                    <a:lnTo>
                      <a:pt x="1285" y="868"/>
                    </a:lnTo>
                    <a:lnTo>
                      <a:pt x="1285" y="873"/>
                    </a:lnTo>
                    <a:lnTo>
                      <a:pt x="1285" y="877"/>
                    </a:lnTo>
                    <a:lnTo>
                      <a:pt x="1285" y="880"/>
                    </a:lnTo>
                    <a:lnTo>
                      <a:pt x="1283" y="885"/>
                    </a:lnTo>
                    <a:lnTo>
                      <a:pt x="1282" y="888"/>
                    </a:lnTo>
                    <a:lnTo>
                      <a:pt x="1282" y="892"/>
                    </a:lnTo>
                    <a:lnTo>
                      <a:pt x="1280" y="897"/>
                    </a:lnTo>
                    <a:lnTo>
                      <a:pt x="1279" y="902"/>
                    </a:lnTo>
                    <a:lnTo>
                      <a:pt x="1277" y="907"/>
                    </a:lnTo>
                    <a:lnTo>
                      <a:pt x="1276" y="913"/>
                    </a:lnTo>
                    <a:lnTo>
                      <a:pt x="1273" y="917"/>
                    </a:lnTo>
                    <a:lnTo>
                      <a:pt x="1270" y="922"/>
                    </a:lnTo>
                    <a:lnTo>
                      <a:pt x="1268" y="928"/>
                    </a:lnTo>
                    <a:lnTo>
                      <a:pt x="1265" y="934"/>
                    </a:lnTo>
                    <a:lnTo>
                      <a:pt x="1262" y="940"/>
                    </a:lnTo>
                    <a:lnTo>
                      <a:pt x="1258" y="944"/>
                    </a:lnTo>
                    <a:lnTo>
                      <a:pt x="1255" y="951"/>
                    </a:lnTo>
                    <a:lnTo>
                      <a:pt x="1251" y="957"/>
                    </a:lnTo>
                    <a:lnTo>
                      <a:pt x="1245" y="963"/>
                    </a:lnTo>
                    <a:lnTo>
                      <a:pt x="1240" y="968"/>
                    </a:lnTo>
                    <a:lnTo>
                      <a:pt x="1234" y="974"/>
                    </a:lnTo>
                    <a:lnTo>
                      <a:pt x="1228" y="980"/>
                    </a:lnTo>
                    <a:lnTo>
                      <a:pt x="1222" y="986"/>
                    </a:lnTo>
                    <a:lnTo>
                      <a:pt x="1216" y="990"/>
                    </a:lnTo>
                    <a:lnTo>
                      <a:pt x="1210" y="996"/>
                    </a:lnTo>
                    <a:lnTo>
                      <a:pt x="1205" y="1002"/>
                    </a:lnTo>
                    <a:lnTo>
                      <a:pt x="1200" y="1005"/>
                    </a:lnTo>
                    <a:lnTo>
                      <a:pt x="1197" y="1008"/>
                    </a:lnTo>
                    <a:lnTo>
                      <a:pt x="1193" y="1011"/>
                    </a:lnTo>
                    <a:lnTo>
                      <a:pt x="1190" y="1014"/>
                    </a:lnTo>
                    <a:lnTo>
                      <a:pt x="1184" y="1020"/>
                    </a:lnTo>
                    <a:lnTo>
                      <a:pt x="1176" y="1024"/>
                    </a:lnTo>
                    <a:lnTo>
                      <a:pt x="1173" y="1027"/>
                    </a:lnTo>
                    <a:lnTo>
                      <a:pt x="1169" y="1030"/>
                    </a:lnTo>
                    <a:lnTo>
                      <a:pt x="1166" y="1032"/>
                    </a:lnTo>
                    <a:lnTo>
                      <a:pt x="1163" y="1035"/>
                    </a:lnTo>
                    <a:lnTo>
                      <a:pt x="1157" y="1039"/>
                    </a:lnTo>
                    <a:lnTo>
                      <a:pt x="1151" y="1045"/>
                    </a:lnTo>
                    <a:lnTo>
                      <a:pt x="1144" y="1049"/>
                    </a:lnTo>
                    <a:lnTo>
                      <a:pt x="1138" y="1054"/>
                    </a:lnTo>
                    <a:lnTo>
                      <a:pt x="1132" y="1058"/>
                    </a:lnTo>
                    <a:lnTo>
                      <a:pt x="1126" y="1063"/>
                    </a:lnTo>
                    <a:lnTo>
                      <a:pt x="1120" y="1066"/>
                    </a:lnTo>
                    <a:lnTo>
                      <a:pt x="1116" y="1070"/>
                    </a:lnTo>
                    <a:lnTo>
                      <a:pt x="1111" y="1073"/>
                    </a:lnTo>
                    <a:lnTo>
                      <a:pt x="1107" y="1076"/>
                    </a:lnTo>
                    <a:lnTo>
                      <a:pt x="1102" y="1079"/>
                    </a:lnTo>
                    <a:lnTo>
                      <a:pt x="1099" y="1082"/>
                    </a:lnTo>
                    <a:lnTo>
                      <a:pt x="1095" y="1083"/>
                    </a:lnTo>
                    <a:lnTo>
                      <a:pt x="1093" y="1085"/>
                    </a:lnTo>
                    <a:lnTo>
                      <a:pt x="1090" y="1088"/>
                    </a:lnTo>
                    <a:lnTo>
                      <a:pt x="1089" y="1089"/>
                    </a:lnTo>
                    <a:lnTo>
                      <a:pt x="1026" y="1094"/>
                    </a:lnTo>
                    <a:lnTo>
                      <a:pt x="992" y="1085"/>
                    </a:lnTo>
                    <a:lnTo>
                      <a:pt x="699" y="1153"/>
                    </a:lnTo>
                    <a:lnTo>
                      <a:pt x="581" y="1156"/>
                    </a:lnTo>
                    <a:lnTo>
                      <a:pt x="431" y="1348"/>
                    </a:lnTo>
                    <a:lnTo>
                      <a:pt x="55" y="1739"/>
                    </a:lnTo>
                    <a:lnTo>
                      <a:pt x="0" y="1276"/>
                    </a:lnTo>
                    <a:lnTo>
                      <a:pt x="0" y="127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3500280" y="3182400"/>
                <a:ext cx="515880" cy="447480"/>
              </a:xfrm>
              <a:custGeom>
                <a:avLst/>
                <a:gdLst/>
                <a:ahLst/>
                <a:rect l="l" t="t" r="r" b="b"/>
                <a:pathLst>
                  <a:path w="650" h="564">
                    <a:moveTo>
                      <a:pt x="442" y="0"/>
                    </a:moveTo>
                    <a:lnTo>
                      <a:pt x="441" y="1"/>
                    </a:lnTo>
                    <a:lnTo>
                      <a:pt x="439" y="4"/>
                    </a:lnTo>
                    <a:lnTo>
                      <a:pt x="436" y="6"/>
                    </a:lnTo>
                    <a:lnTo>
                      <a:pt x="435" y="9"/>
                    </a:lnTo>
                    <a:lnTo>
                      <a:pt x="432" y="13"/>
                    </a:lnTo>
                    <a:lnTo>
                      <a:pt x="429" y="16"/>
                    </a:lnTo>
                    <a:lnTo>
                      <a:pt x="424" y="19"/>
                    </a:lnTo>
                    <a:lnTo>
                      <a:pt x="420" y="24"/>
                    </a:lnTo>
                    <a:lnTo>
                      <a:pt x="414" y="28"/>
                    </a:lnTo>
                    <a:lnTo>
                      <a:pt x="408" y="32"/>
                    </a:lnTo>
                    <a:lnTo>
                      <a:pt x="405" y="34"/>
                    </a:lnTo>
                    <a:lnTo>
                      <a:pt x="402" y="37"/>
                    </a:lnTo>
                    <a:lnTo>
                      <a:pt x="398" y="40"/>
                    </a:lnTo>
                    <a:lnTo>
                      <a:pt x="395" y="41"/>
                    </a:lnTo>
                    <a:lnTo>
                      <a:pt x="390" y="43"/>
                    </a:lnTo>
                    <a:lnTo>
                      <a:pt x="386" y="46"/>
                    </a:lnTo>
                    <a:lnTo>
                      <a:pt x="381" y="49"/>
                    </a:lnTo>
                    <a:lnTo>
                      <a:pt x="377" y="52"/>
                    </a:lnTo>
                    <a:lnTo>
                      <a:pt x="372" y="53"/>
                    </a:lnTo>
                    <a:lnTo>
                      <a:pt x="366" y="56"/>
                    </a:lnTo>
                    <a:lnTo>
                      <a:pt x="360" y="59"/>
                    </a:lnTo>
                    <a:lnTo>
                      <a:pt x="355" y="61"/>
                    </a:lnTo>
                    <a:lnTo>
                      <a:pt x="349" y="62"/>
                    </a:lnTo>
                    <a:lnTo>
                      <a:pt x="343" y="65"/>
                    </a:lnTo>
                    <a:lnTo>
                      <a:pt x="337" y="68"/>
                    </a:lnTo>
                    <a:lnTo>
                      <a:pt x="331" y="70"/>
                    </a:lnTo>
                    <a:lnTo>
                      <a:pt x="325" y="72"/>
                    </a:lnTo>
                    <a:lnTo>
                      <a:pt x="319" y="74"/>
                    </a:lnTo>
                    <a:lnTo>
                      <a:pt x="313" y="77"/>
                    </a:lnTo>
                    <a:lnTo>
                      <a:pt x="307" y="78"/>
                    </a:lnTo>
                    <a:lnTo>
                      <a:pt x="301" y="81"/>
                    </a:lnTo>
                    <a:lnTo>
                      <a:pt x="295" y="83"/>
                    </a:lnTo>
                    <a:lnTo>
                      <a:pt x="291" y="84"/>
                    </a:lnTo>
                    <a:lnTo>
                      <a:pt x="285" y="87"/>
                    </a:lnTo>
                    <a:lnTo>
                      <a:pt x="279" y="89"/>
                    </a:lnTo>
                    <a:lnTo>
                      <a:pt x="273" y="90"/>
                    </a:lnTo>
                    <a:lnTo>
                      <a:pt x="268" y="92"/>
                    </a:lnTo>
                    <a:lnTo>
                      <a:pt x="264" y="93"/>
                    </a:lnTo>
                    <a:lnTo>
                      <a:pt x="258" y="95"/>
                    </a:lnTo>
                    <a:lnTo>
                      <a:pt x="254" y="96"/>
                    </a:lnTo>
                    <a:lnTo>
                      <a:pt x="251" y="96"/>
                    </a:lnTo>
                    <a:lnTo>
                      <a:pt x="248" y="98"/>
                    </a:lnTo>
                    <a:lnTo>
                      <a:pt x="243" y="99"/>
                    </a:lnTo>
                    <a:lnTo>
                      <a:pt x="240" y="99"/>
                    </a:lnTo>
                    <a:lnTo>
                      <a:pt x="237" y="101"/>
                    </a:lnTo>
                    <a:lnTo>
                      <a:pt x="236" y="101"/>
                    </a:lnTo>
                    <a:lnTo>
                      <a:pt x="233" y="102"/>
                    </a:lnTo>
                    <a:lnTo>
                      <a:pt x="233" y="104"/>
                    </a:lnTo>
                    <a:lnTo>
                      <a:pt x="234" y="104"/>
                    </a:lnTo>
                    <a:lnTo>
                      <a:pt x="239" y="105"/>
                    </a:lnTo>
                    <a:lnTo>
                      <a:pt x="242" y="107"/>
                    </a:lnTo>
                    <a:lnTo>
                      <a:pt x="245" y="108"/>
                    </a:lnTo>
                    <a:lnTo>
                      <a:pt x="249" y="111"/>
                    </a:lnTo>
                    <a:lnTo>
                      <a:pt x="252" y="114"/>
                    </a:lnTo>
                    <a:lnTo>
                      <a:pt x="257" y="116"/>
                    </a:lnTo>
                    <a:lnTo>
                      <a:pt x="260" y="118"/>
                    </a:lnTo>
                    <a:lnTo>
                      <a:pt x="263" y="123"/>
                    </a:lnTo>
                    <a:lnTo>
                      <a:pt x="267" y="127"/>
                    </a:lnTo>
                    <a:lnTo>
                      <a:pt x="268" y="132"/>
                    </a:lnTo>
                    <a:lnTo>
                      <a:pt x="271" y="138"/>
                    </a:lnTo>
                    <a:lnTo>
                      <a:pt x="273" y="142"/>
                    </a:lnTo>
                    <a:lnTo>
                      <a:pt x="274" y="148"/>
                    </a:lnTo>
                    <a:lnTo>
                      <a:pt x="274" y="154"/>
                    </a:lnTo>
                    <a:lnTo>
                      <a:pt x="273" y="162"/>
                    </a:lnTo>
                    <a:lnTo>
                      <a:pt x="271" y="164"/>
                    </a:lnTo>
                    <a:lnTo>
                      <a:pt x="271" y="169"/>
                    </a:lnTo>
                    <a:lnTo>
                      <a:pt x="270" y="172"/>
                    </a:lnTo>
                    <a:lnTo>
                      <a:pt x="268" y="176"/>
                    </a:lnTo>
                    <a:lnTo>
                      <a:pt x="267" y="179"/>
                    </a:lnTo>
                    <a:lnTo>
                      <a:pt x="264" y="184"/>
                    </a:lnTo>
                    <a:lnTo>
                      <a:pt x="263" y="188"/>
                    </a:lnTo>
                    <a:lnTo>
                      <a:pt x="261" y="193"/>
                    </a:lnTo>
                    <a:lnTo>
                      <a:pt x="258" y="197"/>
                    </a:lnTo>
                    <a:lnTo>
                      <a:pt x="255" y="202"/>
                    </a:lnTo>
                    <a:lnTo>
                      <a:pt x="252" y="206"/>
                    </a:lnTo>
                    <a:lnTo>
                      <a:pt x="249" y="210"/>
                    </a:lnTo>
                    <a:lnTo>
                      <a:pt x="246" y="215"/>
                    </a:lnTo>
                    <a:lnTo>
                      <a:pt x="242" y="219"/>
                    </a:lnTo>
                    <a:lnTo>
                      <a:pt x="239" y="224"/>
                    </a:lnTo>
                    <a:lnTo>
                      <a:pt x="234" y="230"/>
                    </a:lnTo>
                    <a:lnTo>
                      <a:pt x="230" y="234"/>
                    </a:lnTo>
                    <a:lnTo>
                      <a:pt x="225" y="239"/>
                    </a:lnTo>
                    <a:lnTo>
                      <a:pt x="221" y="245"/>
                    </a:lnTo>
                    <a:lnTo>
                      <a:pt x="217" y="251"/>
                    </a:lnTo>
                    <a:lnTo>
                      <a:pt x="212" y="255"/>
                    </a:lnTo>
                    <a:lnTo>
                      <a:pt x="206" y="259"/>
                    </a:lnTo>
                    <a:lnTo>
                      <a:pt x="200" y="265"/>
                    </a:lnTo>
                    <a:lnTo>
                      <a:pt x="196" y="271"/>
                    </a:lnTo>
                    <a:lnTo>
                      <a:pt x="190" y="276"/>
                    </a:lnTo>
                    <a:lnTo>
                      <a:pt x="184" y="282"/>
                    </a:lnTo>
                    <a:lnTo>
                      <a:pt x="178" y="288"/>
                    </a:lnTo>
                    <a:lnTo>
                      <a:pt x="172" y="294"/>
                    </a:lnTo>
                    <a:lnTo>
                      <a:pt x="168" y="297"/>
                    </a:lnTo>
                    <a:lnTo>
                      <a:pt x="165" y="300"/>
                    </a:lnTo>
                    <a:lnTo>
                      <a:pt x="162" y="302"/>
                    </a:lnTo>
                    <a:lnTo>
                      <a:pt x="159" y="305"/>
                    </a:lnTo>
                    <a:lnTo>
                      <a:pt x="154" y="307"/>
                    </a:lnTo>
                    <a:lnTo>
                      <a:pt x="151" y="310"/>
                    </a:lnTo>
                    <a:lnTo>
                      <a:pt x="147" y="313"/>
                    </a:lnTo>
                    <a:lnTo>
                      <a:pt x="144" y="316"/>
                    </a:lnTo>
                    <a:lnTo>
                      <a:pt x="141" y="319"/>
                    </a:lnTo>
                    <a:lnTo>
                      <a:pt x="136" y="322"/>
                    </a:lnTo>
                    <a:lnTo>
                      <a:pt x="133" y="325"/>
                    </a:lnTo>
                    <a:lnTo>
                      <a:pt x="130" y="328"/>
                    </a:lnTo>
                    <a:lnTo>
                      <a:pt x="126" y="329"/>
                    </a:lnTo>
                    <a:lnTo>
                      <a:pt x="123" y="334"/>
                    </a:lnTo>
                    <a:lnTo>
                      <a:pt x="119" y="337"/>
                    </a:lnTo>
                    <a:lnTo>
                      <a:pt x="116" y="340"/>
                    </a:lnTo>
                    <a:lnTo>
                      <a:pt x="111" y="341"/>
                    </a:lnTo>
                    <a:lnTo>
                      <a:pt x="108" y="344"/>
                    </a:lnTo>
                    <a:lnTo>
                      <a:pt x="104" y="347"/>
                    </a:lnTo>
                    <a:lnTo>
                      <a:pt x="101" y="350"/>
                    </a:lnTo>
                    <a:lnTo>
                      <a:pt x="96" y="351"/>
                    </a:lnTo>
                    <a:lnTo>
                      <a:pt x="93" y="356"/>
                    </a:lnTo>
                    <a:lnTo>
                      <a:pt x="89" y="357"/>
                    </a:lnTo>
                    <a:lnTo>
                      <a:pt x="86" y="360"/>
                    </a:lnTo>
                    <a:lnTo>
                      <a:pt x="83" y="363"/>
                    </a:lnTo>
                    <a:lnTo>
                      <a:pt x="79" y="366"/>
                    </a:lnTo>
                    <a:lnTo>
                      <a:pt x="76" y="368"/>
                    </a:lnTo>
                    <a:lnTo>
                      <a:pt x="73" y="371"/>
                    </a:lnTo>
                    <a:lnTo>
                      <a:pt x="65" y="377"/>
                    </a:lnTo>
                    <a:lnTo>
                      <a:pt x="59" y="381"/>
                    </a:lnTo>
                    <a:lnTo>
                      <a:pt x="53" y="386"/>
                    </a:lnTo>
                    <a:lnTo>
                      <a:pt x="47" y="390"/>
                    </a:lnTo>
                    <a:lnTo>
                      <a:pt x="40" y="393"/>
                    </a:lnTo>
                    <a:lnTo>
                      <a:pt x="36" y="397"/>
                    </a:lnTo>
                    <a:lnTo>
                      <a:pt x="30" y="400"/>
                    </a:lnTo>
                    <a:lnTo>
                      <a:pt x="25" y="405"/>
                    </a:lnTo>
                    <a:lnTo>
                      <a:pt x="21" y="408"/>
                    </a:lnTo>
                    <a:lnTo>
                      <a:pt x="16" y="412"/>
                    </a:lnTo>
                    <a:lnTo>
                      <a:pt x="12" y="414"/>
                    </a:lnTo>
                    <a:lnTo>
                      <a:pt x="9" y="417"/>
                    </a:lnTo>
                    <a:lnTo>
                      <a:pt x="6" y="418"/>
                    </a:lnTo>
                    <a:lnTo>
                      <a:pt x="4" y="420"/>
                    </a:lnTo>
                    <a:lnTo>
                      <a:pt x="0" y="423"/>
                    </a:lnTo>
                    <a:lnTo>
                      <a:pt x="0" y="424"/>
                    </a:lnTo>
                    <a:lnTo>
                      <a:pt x="0" y="424"/>
                    </a:lnTo>
                    <a:lnTo>
                      <a:pt x="4" y="424"/>
                    </a:lnTo>
                    <a:lnTo>
                      <a:pt x="7" y="424"/>
                    </a:lnTo>
                    <a:lnTo>
                      <a:pt x="10" y="424"/>
                    </a:lnTo>
                    <a:lnTo>
                      <a:pt x="13" y="424"/>
                    </a:lnTo>
                    <a:lnTo>
                      <a:pt x="18" y="424"/>
                    </a:lnTo>
                    <a:lnTo>
                      <a:pt x="22" y="424"/>
                    </a:lnTo>
                    <a:lnTo>
                      <a:pt x="27" y="424"/>
                    </a:lnTo>
                    <a:lnTo>
                      <a:pt x="33" y="424"/>
                    </a:lnTo>
                    <a:lnTo>
                      <a:pt x="38" y="424"/>
                    </a:lnTo>
                    <a:lnTo>
                      <a:pt x="44" y="424"/>
                    </a:lnTo>
                    <a:lnTo>
                      <a:pt x="50" y="426"/>
                    </a:lnTo>
                    <a:lnTo>
                      <a:pt x="53" y="426"/>
                    </a:lnTo>
                    <a:lnTo>
                      <a:pt x="56" y="426"/>
                    </a:lnTo>
                    <a:lnTo>
                      <a:pt x="59" y="427"/>
                    </a:lnTo>
                    <a:lnTo>
                      <a:pt x="64" y="427"/>
                    </a:lnTo>
                    <a:lnTo>
                      <a:pt x="70" y="427"/>
                    </a:lnTo>
                    <a:lnTo>
                      <a:pt x="77" y="429"/>
                    </a:lnTo>
                    <a:lnTo>
                      <a:pt x="80" y="429"/>
                    </a:lnTo>
                    <a:lnTo>
                      <a:pt x="84" y="429"/>
                    </a:lnTo>
                    <a:lnTo>
                      <a:pt x="87" y="430"/>
                    </a:lnTo>
                    <a:lnTo>
                      <a:pt x="92" y="432"/>
                    </a:lnTo>
                    <a:lnTo>
                      <a:pt x="95" y="432"/>
                    </a:lnTo>
                    <a:lnTo>
                      <a:pt x="98" y="432"/>
                    </a:lnTo>
                    <a:lnTo>
                      <a:pt x="102" y="432"/>
                    </a:lnTo>
                    <a:lnTo>
                      <a:pt x="105" y="433"/>
                    </a:lnTo>
                    <a:lnTo>
                      <a:pt x="108" y="433"/>
                    </a:lnTo>
                    <a:lnTo>
                      <a:pt x="113" y="435"/>
                    </a:lnTo>
                    <a:lnTo>
                      <a:pt x="116" y="435"/>
                    </a:lnTo>
                    <a:lnTo>
                      <a:pt x="120" y="436"/>
                    </a:lnTo>
                    <a:lnTo>
                      <a:pt x="123" y="438"/>
                    </a:lnTo>
                    <a:lnTo>
                      <a:pt x="126" y="439"/>
                    </a:lnTo>
                    <a:lnTo>
                      <a:pt x="130" y="439"/>
                    </a:lnTo>
                    <a:lnTo>
                      <a:pt x="133" y="440"/>
                    </a:lnTo>
                    <a:lnTo>
                      <a:pt x="136" y="440"/>
                    </a:lnTo>
                    <a:lnTo>
                      <a:pt x="141" y="442"/>
                    </a:lnTo>
                    <a:lnTo>
                      <a:pt x="144" y="443"/>
                    </a:lnTo>
                    <a:lnTo>
                      <a:pt x="147" y="445"/>
                    </a:lnTo>
                    <a:lnTo>
                      <a:pt x="153" y="446"/>
                    </a:lnTo>
                    <a:lnTo>
                      <a:pt x="160" y="449"/>
                    </a:lnTo>
                    <a:lnTo>
                      <a:pt x="166" y="454"/>
                    </a:lnTo>
                    <a:lnTo>
                      <a:pt x="172" y="457"/>
                    </a:lnTo>
                    <a:lnTo>
                      <a:pt x="176" y="460"/>
                    </a:lnTo>
                    <a:lnTo>
                      <a:pt x="182" y="463"/>
                    </a:lnTo>
                    <a:lnTo>
                      <a:pt x="185" y="467"/>
                    </a:lnTo>
                    <a:lnTo>
                      <a:pt x="191" y="472"/>
                    </a:lnTo>
                    <a:lnTo>
                      <a:pt x="194" y="475"/>
                    </a:lnTo>
                    <a:lnTo>
                      <a:pt x="199" y="479"/>
                    </a:lnTo>
                    <a:lnTo>
                      <a:pt x="203" y="484"/>
                    </a:lnTo>
                    <a:lnTo>
                      <a:pt x="206" y="488"/>
                    </a:lnTo>
                    <a:lnTo>
                      <a:pt x="209" y="491"/>
                    </a:lnTo>
                    <a:lnTo>
                      <a:pt x="212" y="497"/>
                    </a:lnTo>
                    <a:lnTo>
                      <a:pt x="215" y="500"/>
                    </a:lnTo>
                    <a:lnTo>
                      <a:pt x="218" y="506"/>
                    </a:lnTo>
                    <a:lnTo>
                      <a:pt x="220" y="510"/>
                    </a:lnTo>
                    <a:lnTo>
                      <a:pt x="222" y="513"/>
                    </a:lnTo>
                    <a:lnTo>
                      <a:pt x="224" y="518"/>
                    </a:lnTo>
                    <a:lnTo>
                      <a:pt x="227" y="524"/>
                    </a:lnTo>
                    <a:lnTo>
                      <a:pt x="228" y="527"/>
                    </a:lnTo>
                    <a:lnTo>
                      <a:pt x="230" y="531"/>
                    </a:lnTo>
                    <a:lnTo>
                      <a:pt x="230" y="534"/>
                    </a:lnTo>
                    <a:lnTo>
                      <a:pt x="231" y="538"/>
                    </a:lnTo>
                    <a:lnTo>
                      <a:pt x="233" y="541"/>
                    </a:lnTo>
                    <a:lnTo>
                      <a:pt x="234" y="546"/>
                    </a:lnTo>
                    <a:lnTo>
                      <a:pt x="234" y="549"/>
                    </a:lnTo>
                    <a:lnTo>
                      <a:pt x="236" y="552"/>
                    </a:lnTo>
                    <a:lnTo>
                      <a:pt x="236" y="556"/>
                    </a:lnTo>
                    <a:lnTo>
                      <a:pt x="237" y="559"/>
                    </a:lnTo>
                    <a:lnTo>
                      <a:pt x="237" y="562"/>
                    </a:lnTo>
                    <a:lnTo>
                      <a:pt x="237" y="564"/>
                    </a:lnTo>
                    <a:lnTo>
                      <a:pt x="405" y="540"/>
                    </a:lnTo>
                    <a:lnTo>
                      <a:pt x="405" y="537"/>
                    </a:lnTo>
                    <a:lnTo>
                      <a:pt x="405" y="532"/>
                    </a:lnTo>
                    <a:lnTo>
                      <a:pt x="405" y="528"/>
                    </a:lnTo>
                    <a:lnTo>
                      <a:pt x="406" y="525"/>
                    </a:lnTo>
                    <a:lnTo>
                      <a:pt x="406" y="519"/>
                    </a:lnTo>
                    <a:lnTo>
                      <a:pt x="409" y="515"/>
                    </a:lnTo>
                    <a:lnTo>
                      <a:pt x="409" y="510"/>
                    </a:lnTo>
                    <a:lnTo>
                      <a:pt x="412" y="504"/>
                    </a:lnTo>
                    <a:lnTo>
                      <a:pt x="414" y="498"/>
                    </a:lnTo>
                    <a:lnTo>
                      <a:pt x="417" y="494"/>
                    </a:lnTo>
                    <a:lnTo>
                      <a:pt x="420" y="488"/>
                    </a:lnTo>
                    <a:lnTo>
                      <a:pt x="424" y="484"/>
                    </a:lnTo>
                    <a:lnTo>
                      <a:pt x="427" y="479"/>
                    </a:lnTo>
                    <a:lnTo>
                      <a:pt x="432" y="476"/>
                    </a:lnTo>
                    <a:lnTo>
                      <a:pt x="436" y="472"/>
                    </a:lnTo>
                    <a:lnTo>
                      <a:pt x="442" y="469"/>
                    </a:lnTo>
                    <a:lnTo>
                      <a:pt x="447" y="466"/>
                    </a:lnTo>
                    <a:lnTo>
                      <a:pt x="452" y="464"/>
                    </a:lnTo>
                    <a:lnTo>
                      <a:pt x="458" y="461"/>
                    </a:lnTo>
                    <a:lnTo>
                      <a:pt x="464" y="461"/>
                    </a:lnTo>
                    <a:lnTo>
                      <a:pt x="470" y="460"/>
                    </a:lnTo>
                    <a:lnTo>
                      <a:pt x="476" y="460"/>
                    </a:lnTo>
                    <a:lnTo>
                      <a:pt x="481" y="460"/>
                    </a:lnTo>
                    <a:lnTo>
                      <a:pt x="485" y="460"/>
                    </a:lnTo>
                    <a:lnTo>
                      <a:pt x="490" y="460"/>
                    </a:lnTo>
                    <a:lnTo>
                      <a:pt x="494" y="460"/>
                    </a:lnTo>
                    <a:lnTo>
                      <a:pt x="497" y="460"/>
                    </a:lnTo>
                    <a:lnTo>
                      <a:pt x="500" y="460"/>
                    </a:lnTo>
                    <a:lnTo>
                      <a:pt x="500" y="460"/>
                    </a:lnTo>
                    <a:lnTo>
                      <a:pt x="501" y="461"/>
                    </a:lnTo>
                    <a:lnTo>
                      <a:pt x="544" y="383"/>
                    </a:lnTo>
                    <a:lnTo>
                      <a:pt x="381" y="448"/>
                    </a:lnTo>
                    <a:lnTo>
                      <a:pt x="380" y="446"/>
                    </a:lnTo>
                    <a:lnTo>
                      <a:pt x="380" y="445"/>
                    </a:lnTo>
                    <a:lnTo>
                      <a:pt x="378" y="442"/>
                    </a:lnTo>
                    <a:lnTo>
                      <a:pt x="377" y="439"/>
                    </a:lnTo>
                    <a:lnTo>
                      <a:pt x="375" y="433"/>
                    </a:lnTo>
                    <a:lnTo>
                      <a:pt x="375" y="427"/>
                    </a:lnTo>
                    <a:lnTo>
                      <a:pt x="372" y="421"/>
                    </a:lnTo>
                    <a:lnTo>
                      <a:pt x="372" y="415"/>
                    </a:lnTo>
                    <a:lnTo>
                      <a:pt x="372" y="412"/>
                    </a:lnTo>
                    <a:lnTo>
                      <a:pt x="371" y="408"/>
                    </a:lnTo>
                    <a:lnTo>
                      <a:pt x="371" y="405"/>
                    </a:lnTo>
                    <a:lnTo>
                      <a:pt x="371" y="400"/>
                    </a:lnTo>
                    <a:lnTo>
                      <a:pt x="371" y="397"/>
                    </a:lnTo>
                    <a:lnTo>
                      <a:pt x="371" y="393"/>
                    </a:lnTo>
                    <a:lnTo>
                      <a:pt x="371" y="390"/>
                    </a:lnTo>
                    <a:lnTo>
                      <a:pt x="371" y="387"/>
                    </a:lnTo>
                    <a:lnTo>
                      <a:pt x="371" y="384"/>
                    </a:lnTo>
                    <a:lnTo>
                      <a:pt x="372" y="380"/>
                    </a:lnTo>
                    <a:lnTo>
                      <a:pt x="372" y="377"/>
                    </a:lnTo>
                    <a:lnTo>
                      <a:pt x="374" y="374"/>
                    </a:lnTo>
                    <a:lnTo>
                      <a:pt x="377" y="368"/>
                    </a:lnTo>
                    <a:lnTo>
                      <a:pt x="381" y="363"/>
                    </a:lnTo>
                    <a:lnTo>
                      <a:pt x="386" y="359"/>
                    </a:lnTo>
                    <a:lnTo>
                      <a:pt x="392" y="354"/>
                    </a:lnTo>
                    <a:lnTo>
                      <a:pt x="393" y="353"/>
                    </a:lnTo>
                    <a:lnTo>
                      <a:pt x="396" y="351"/>
                    </a:lnTo>
                    <a:lnTo>
                      <a:pt x="401" y="350"/>
                    </a:lnTo>
                    <a:lnTo>
                      <a:pt x="404" y="348"/>
                    </a:lnTo>
                    <a:lnTo>
                      <a:pt x="406" y="348"/>
                    </a:lnTo>
                    <a:lnTo>
                      <a:pt x="411" y="347"/>
                    </a:lnTo>
                    <a:lnTo>
                      <a:pt x="414" y="346"/>
                    </a:lnTo>
                    <a:lnTo>
                      <a:pt x="418" y="346"/>
                    </a:lnTo>
                    <a:lnTo>
                      <a:pt x="421" y="346"/>
                    </a:lnTo>
                    <a:lnTo>
                      <a:pt x="426" y="344"/>
                    </a:lnTo>
                    <a:lnTo>
                      <a:pt x="429" y="344"/>
                    </a:lnTo>
                    <a:lnTo>
                      <a:pt x="433" y="344"/>
                    </a:lnTo>
                    <a:lnTo>
                      <a:pt x="436" y="344"/>
                    </a:lnTo>
                    <a:lnTo>
                      <a:pt x="439" y="344"/>
                    </a:lnTo>
                    <a:lnTo>
                      <a:pt x="442" y="344"/>
                    </a:lnTo>
                    <a:lnTo>
                      <a:pt x="447" y="344"/>
                    </a:lnTo>
                    <a:lnTo>
                      <a:pt x="452" y="344"/>
                    </a:lnTo>
                    <a:lnTo>
                      <a:pt x="458" y="344"/>
                    </a:lnTo>
                    <a:lnTo>
                      <a:pt x="463" y="344"/>
                    </a:lnTo>
                    <a:lnTo>
                      <a:pt x="466" y="344"/>
                    </a:lnTo>
                    <a:lnTo>
                      <a:pt x="467" y="344"/>
                    </a:lnTo>
                    <a:lnTo>
                      <a:pt x="469" y="346"/>
                    </a:lnTo>
                    <a:lnTo>
                      <a:pt x="553" y="252"/>
                    </a:lnTo>
                    <a:lnTo>
                      <a:pt x="381" y="313"/>
                    </a:lnTo>
                    <a:lnTo>
                      <a:pt x="381" y="311"/>
                    </a:lnTo>
                    <a:lnTo>
                      <a:pt x="381" y="308"/>
                    </a:lnTo>
                    <a:lnTo>
                      <a:pt x="381" y="304"/>
                    </a:lnTo>
                    <a:lnTo>
                      <a:pt x="383" y="300"/>
                    </a:lnTo>
                    <a:lnTo>
                      <a:pt x="383" y="295"/>
                    </a:lnTo>
                    <a:lnTo>
                      <a:pt x="383" y="292"/>
                    </a:lnTo>
                    <a:lnTo>
                      <a:pt x="384" y="288"/>
                    </a:lnTo>
                    <a:lnTo>
                      <a:pt x="384" y="285"/>
                    </a:lnTo>
                    <a:lnTo>
                      <a:pt x="386" y="280"/>
                    </a:lnTo>
                    <a:lnTo>
                      <a:pt x="387" y="276"/>
                    </a:lnTo>
                    <a:lnTo>
                      <a:pt x="387" y="273"/>
                    </a:lnTo>
                    <a:lnTo>
                      <a:pt x="389" y="268"/>
                    </a:lnTo>
                    <a:lnTo>
                      <a:pt x="390" y="264"/>
                    </a:lnTo>
                    <a:lnTo>
                      <a:pt x="392" y="259"/>
                    </a:lnTo>
                    <a:lnTo>
                      <a:pt x="392" y="254"/>
                    </a:lnTo>
                    <a:lnTo>
                      <a:pt x="395" y="251"/>
                    </a:lnTo>
                    <a:lnTo>
                      <a:pt x="395" y="245"/>
                    </a:lnTo>
                    <a:lnTo>
                      <a:pt x="398" y="240"/>
                    </a:lnTo>
                    <a:lnTo>
                      <a:pt x="399" y="236"/>
                    </a:lnTo>
                    <a:lnTo>
                      <a:pt x="401" y="233"/>
                    </a:lnTo>
                    <a:lnTo>
                      <a:pt x="402" y="228"/>
                    </a:lnTo>
                    <a:lnTo>
                      <a:pt x="405" y="224"/>
                    </a:lnTo>
                    <a:lnTo>
                      <a:pt x="406" y="219"/>
                    </a:lnTo>
                    <a:lnTo>
                      <a:pt x="409" y="216"/>
                    </a:lnTo>
                    <a:lnTo>
                      <a:pt x="414" y="210"/>
                    </a:lnTo>
                    <a:lnTo>
                      <a:pt x="420" y="206"/>
                    </a:lnTo>
                    <a:lnTo>
                      <a:pt x="424" y="200"/>
                    </a:lnTo>
                    <a:lnTo>
                      <a:pt x="430" y="197"/>
                    </a:lnTo>
                    <a:lnTo>
                      <a:pt x="436" y="194"/>
                    </a:lnTo>
                    <a:lnTo>
                      <a:pt x="444" y="194"/>
                    </a:lnTo>
                    <a:lnTo>
                      <a:pt x="450" y="193"/>
                    </a:lnTo>
                    <a:lnTo>
                      <a:pt x="455" y="193"/>
                    </a:lnTo>
                    <a:lnTo>
                      <a:pt x="463" y="194"/>
                    </a:lnTo>
                    <a:lnTo>
                      <a:pt x="469" y="196"/>
                    </a:lnTo>
                    <a:lnTo>
                      <a:pt x="475" y="196"/>
                    </a:lnTo>
                    <a:lnTo>
                      <a:pt x="481" y="197"/>
                    </a:lnTo>
                    <a:lnTo>
                      <a:pt x="485" y="200"/>
                    </a:lnTo>
                    <a:lnTo>
                      <a:pt x="490" y="202"/>
                    </a:lnTo>
                    <a:lnTo>
                      <a:pt x="493" y="203"/>
                    </a:lnTo>
                    <a:lnTo>
                      <a:pt x="496" y="205"/>
                    </a:lnTo>
                    <a:lnTo>
                      <a:pt x="497" y="205"/>
                    </a:lnTo>
                    <a:lnTo>
                      <a:pt x="498" y="206"/>
                    </a:lnTo>
                    <a:lnTo>
                      <a:pt x="498" y="205"/>
                    </a:lnTo>
                    <a:lnTo>
                      <a:pt x="500" y="203"/>
                    </a:lnTo>
                    <a:lnTo>
                      <a:pt x="501" y="200"/>
                    </a:lnTo>
                    <a:lnTo>
                      <a:pt x="506" y="197"/>
                    </a:lnTo>
                    <a:lnTo>
                      <a:pt x="509" y="193"/>
                    </a:lnTo>
                    <a:lnTo>
                      <a:pt x="513" y="187"/>
                    </a:lnTo>
                    <a:lnTo>
                      <a:pt x="518" y="181"/>
                    </a:lnTo>
                    <a:lnTo>
                      <a:pt x="525" y="175"/>
                    </a:lnTo>
                    <a:lnTo>
                      <a:pt x="527" y="170"/>
                    </a:lnTo>
                    <a:lnTo>
                      <a:pt x="530" y="167"/>
                    </a:lnTo>
                    <a:lnTo>
                      <a:pt x="533" y="163"/>
                    </a:lnTo>
                    <a:lnTo>
                      <a:pt x="537" y="160"/>
                    </a:lnTo>
                    <a:lnTo>
                      <a:pt x="540" y="156"/>
                    </a:lnTo>
                    <a:lnTo>
                      <a:pt x="544" y="151"/>
                    </a:lnTo>
                    <a:lnTo>
                      <a:pt x="547" y="147"/>
                    </a:lnTo>
                    <a:lnTo>
                      <a:pt x="552" y="144"/>
                    </a:lnTo>
                    <a:lnTo>
                      <a:pt x="555" y="138"/>
                    </a:lnTo>
                    <a:lnTo>
                      <a:pt x="559" y="135"/>
                    </a:lnTo>
                    <a:lnTo>
                      <a:pt x="562" y="130"/>
                    </a:lnTo>
                    <a:lnTo>
                      <a:pt x="567" y="126"/>
                    </a:lnTo>
                    <a:lnTo>
                      <a:pt x="570" y="121"/>
                    </a:lnTo>
                    <a:lnTo>
                      <a:pt x="574" y="117"/>
                    </a:lnTo>
                    <a:lnTo>
                      <a:pt x="577" y="113"/>
                    </a:lnTo>
                    <a:lnTo>
                      <a:pt x="582" y="108"/>
                    </a:lnTo>
                    <a:lnTo>
                      <a:pt x="585" y="104"/>
                    </a:lnTo>
                    <a:lnTo>
                      <a:pt x="588" y="99"/>
                    </a:lnTo>
                    <a:lnTo>
                      <a:pt x="590" y="95"/>
                    </a:lnTo>
                    <a:lnTo>
                      <a:pt x="595" y="90"/>
                    </a:lnTo>
                    <a:lnTo>
                      <a:pt x="598" y="84"/>
                    </a:lnTo>
                    <a:lnTo>
                      <a:pt x="601" y="81"/>
                    </a:lnTo>
                    <a:lnTo>
                      <a:pt x="604" y="75"/>
                    </a:lnTo>
                    <a:lnTo>
                      <a:pt x="608" y="72"/>
                    </a:lnTo>
                    <a:lnTo>
                      <a:pt x="610" y="67"/>
                    </a:lnTo>
                    <a:lnTo>
                      <a:pt x="613" y="62"/>
                    </a:lnTo>
                    <a:lnTo>
                      <a:pt x="616" y="59"/>
                    </a:lnTo>
                    <a:lnTo>
                      <a:pt x="620" y="55"/>
                    </a:lnTo>
                    <a:lnTo>
                      <a:pt x="622" y="50"/>
                    </a:lnTo>
                    <a:lnTo>
                      <a:pt x="625" y="47"/>
                    </a:lnTo>
                    <a:lnTo>
                      <a:pt x="628" y="43"/>
                    </a:lnTo>
                    <a:lnTo>
                      <a:pt x="631" y="40"/>
                    </a:lnTo>
                    <a:lnTo>
                      <a:pt x="632" y="37"/>
                    </a:lnTo>
                    <a:lnTo>
                      <a:pt x="634" y="32"/>
                    </a:lnTo>
                    <a:lnTo>
                      <a:pt x="635" y="29"/>
                    </a:lnTo>
                    <a:lnTo>
                      <a:pt x="638" y="28"/>
                    </a:lnTo>
                    <a:lnTo>
                      <a:pt x="641" y="22"/>
                    </a:lnTo>
                    <a:lnTo>
                      <a:pt x="645" y="18"/>
                    </a:lnTo>
                    <a:lnTo>
                      <a:pt x="647" y="13"/>
                    </a:lnTo>
                    <a:lnTo>
                      <a:pt x="648" y="12"/>
                    </a:lnTo>
                    <a:lnTo>
                      <a:pt x="650" y="9"/>
                    </a:lnTo>
                    <a:lnTo>
                      <a:pt x="650" y="9"/>
                    </a:lnTo>
                    <a:lnTo>
                      <a:pt x="442" y="0"/>
                    </a:lnTo>
                    <a:lnTo>
                      <a:pt x="442"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3327120" y="2715840"/>
                <a:ext cx="1089000" cy="613800"/>
              </a:xfrm>
              <a:custGeom>
                <a:avLst/>
                <a:gdLst/>
                <a:ahLst/>
                <a:rect l="l" t="t" r="r" b="b"/>
                <a:pathLst>
                  <a:path w="1372" h="774">
                    <a:moveTo>
                      <a:pt x="0" y="774"/>
                    </a:moveTo>
                    <a:lnTo>
                      <a:pt x="0" y="773"/>
                    </a:lnTo>
                    <a:lnTo>
                      <a:pt x="0" y="771"/>
                    </a:lnTo>
                    <a:lnTo>
                      <a:pt x="1" y="770"/>
                    </a:lnTo>
                    <a:lnTo>
                      <a:pt x="4" y="767"/>
                    </a:lnTo>
                    <a:lnTo>
                      <a:pt x="6" y="762"/>
                    </a:lnTo>
                    <a:lnTo>
                      <a:pt x="10" y="758"/>
                    </a:lnTo>
                    <a:lnTo>
                      <a:pt x="13" y="752"/>
                    </a:lnTo>
                    <a:lnTo>
                      <a:pt x="18" y="746"/>
                    </a:lnTo>
                    <a:lnTo>
                      <a:pt x="19" y="742"/>
                    </a:lnTo>
                    <a:lnTo>
                      <a:pt x="21" y="739"/>
                    </a:lnTo>
                    <a:lnTo>
                      <a:pt x="24" y="734"/>
                    </a:lnTo>
                    <a:lnTo>
                      <a:pt x="27" y="731"/>
                    </a:lnTo>
                    <a:lnTo>
                      <a:pt x="29" y="727"/>
                    </a:lnTo>
                    <a:lnTo>
                      <a:pt x="32" y="722"/>
                    </a:lnTo>
                    <a:lnTo>
                      <a:pt x="35" y="719"/>
                    </a:lnTo>
                    <a:lnTo>
                      <a:pt x="38" y="715"/>
                    </a:lnTo>
                    <a:lnTo>
                      <a:pt x="41" y="709"/>
                    </a:lnTo>
                    <a:lnTo>
                      <a:pt x="44" y="705"/>
                    </a:lnTo>
                    <a:lnTo>
                      <a:pt x="49" y="700"/>
                    </a:lnTo>
                    <a:lnTo>
                      <a:pt x="52" y="696"/>
                    </a:lnTo>
                    <a:lnTo>
                      <a:pt x="56" y="690"/>
                    </a:lnTo>
                    <a:lnTo>
                      <a:pt x="59" y="685"/>
                    </a:lnTo>
                    <a:lnTo>
                      <a:pt x="64" y="681"/>
                    </a:lnTo>
                    <a:lnTo>
                      <a:pt x="68" y="676"/>
                    </a:lnTo>
                    <a:lnTo>
                      <a:pt x="71" y="670"/>
                    </a:lnTo>
                    <a:lnTo>
                      <a:pt x="75" y="664"/>
                    </a:lnTo>
                    <a:lnTo>
                      <a:pt x="80" y="659"/>
                    </a:lnTo>
                    <a:lnTo>
                      <a:pt x="84" y="654"/>
                    </a:lnTo>
                    <a:lnTo>
                      <a:pt x="89" y="648"/>
                    </a:lnTo>
                    <a:lnTo>
                      <a:pt x="93" y="642"/>
                    </a:lnTo>
                    <a:lnTo>
                      <a:pt x="98" y="636"/>
                    </a:lnTo>
                    <a:lnTo>
                      <a:pt x="104" y="630"/>
                    </a:lnTo>
                    <a:lnTo>
                      <a:pt x="108" y="624"/>
                    </a:lnTo>
                    <a:lnTo>
                      <a:pt x="113" y="618"/>
                    </a:lnTo>
                    <a:lnTo>
                      <a:pt x="117" y="613"/>
                    </a:lnTo>
                    <a:lnTo>
                      <a:pt x="123" y="607"/>
                    </a:lnTo>
                    <a:lnTo>
                      <a:pt x="127" y="601"/>
                    </a:lnTo>
                    <a:lnTo>
                      <a:pt x="133" y="595"/>
                    </a:lnTo>
                    <a:lnTo>
                      <a:pt x="139" y="589"/>
                    </a:lnTo>
                    <a:lnTo>
                      <a:pt x="145" y="583"/>
                    </a:lnTo>
                    <a:lnTo>
                      <a:pt x="150" y="577"/>
                    </a:lnTo>
                    <a:lnTo>
                      <a:pt x="156" y="571"/>
                    </a:lnTo>
                    <a:lnTo>
                      <a:pt x="162" y="565"/>
                    </a:lnTo>
                    <a:lnTo>
                      <a:pt x="167" y="559"/>
                    </a:lnTo>
                    <a:lnTo>
                      <a:pt x="172" y="553"/>
                    </a:lnTo>
                    <a:lnTo>
                      <a:pt x="179" y="547"/>
                    </a:lnTo>
                    <a:lnTo>
                      <a:pt x="185" y="541"/>
                    </a:lnTo>
                    <a:lnTo>
                      <a:pt x="191" y="535"/>
                    </a:lnTo>
                    <a:lnTo>
                      <a:pt x="197" y="529"/>
                    </a:lnTo>
                    <a:lnTo>
                      <a:pt x="205" y="523"/>
                    </a:lnTo>
                    <a:lnTo>
                      <a:pt x="210" y="518"/>
                    </a:lnTo>
                    <a:lnTo>
                      <a:pt x="218" y="512"/>
                    </a:lnTo>
                    <a:lnTo>
                      <a:pt x="224" y="506"/>
                    </a:lnTo>
                    <a:lnTo>
                      <a:pt x="230" y="500"/>
                    </a:lnTo>
                    <a:lnTo>
                      <a:pt x="236" y="495"/>
                    </a:lnTo>
                    <a:lnTo>
                      <a:pt x="243" y="489"/>
                    </a:lnTo>
                    <a:lnTo>
                      <a:pt x="251" y="485"/>
                    </a:lnTo>
                    <a:lnTo>
                      <a:pt x="256" y="479"/>
                    </a:lnTo>
                    <a:lnTo>
                      <a:pt x="264" y="473"/>
                    </a:lnTo>
                    <a:lnTo>
                      <a:pt x="271" y="469"/>
                    </a:lnTo>
                    <a:lnTo>
                      <a:pt x="277" y="463"/>
                    </a:lnTo>
                    <a:lnTo>
                      <a:pt x="285" y="458"/>
                    </a:lnTo>
                    <a:lnTo>
                      <a:pt x="292" y="452"/>
                    </a:lnTo>
                    <a:lnTo>
                      <a:pt x="300" y="448"/>
                    </a:lnTo>
                    <a:lnTo>
                      <a:pt x="305" y="443"/>
                    </a:lnTo>
                    <a:lnTo>
                      <a:pt x="313" y="439"/>
                    </a:lnTo>
                    <a:lnTo>
                      <a:pt x="319" y="434"/>
                    </a:lnTo>
                    <a:lnTo>
                      <a:pt x="326" y="430"/>
                    </a:lnTo>
                    <a:lnTo>
                      <a:pt x="334" y="426"/>
                    </a:lnTo>
                    <a:lnTo>
                      <a:pt x="341" y="421"/>
                    </a:lnTo>
                    <a:lnTo>
                      <a:pt x="348" y="417"/>
                    </a:lnTo>
                    <a:lnTo>
                      <a:pt x="356" y="414"/>
                    </a:lnTo>
                    <a:lnTo>
                      <a:pt x="363" y="409"/>
                    </a:lnTo>
                    <a:lnTo>
                      <a:pt x="369" y="405"/>
                    </a:lnTo>
                    <a:lnTo>
                      <a:pt x="377" y="400"/>
                    </a:lnTo>
                    <a:lnTo>
                      <a:pt x="383" y="396"/>
                    </a:lnTo>
                    <a:lnTo>
                      <a:pt x="390" y="393"/>
                    </a:lnTo>
                    <a:lnTo>
                      <a:pt x="396" y="388"/>
                    </a:lnTo>
                    <a:lnTo>
                      <a:pt x="403" y="385"/>
                    </a:lnTo>
                    <a:lnTo>
                      <a:pt x="411" y="383"/>
                    </a:lnTo>
                    <a:lnTo>
                      <a:pt x="417" y="378"/>
                    </a:lnTo>
                    <a:lnTo>
                      <a:pt x="424" y="375"/>
                    </a:lnTo>
                    <a:lnTo>
                      <a:pt x="430" y="371"/>
                    </a:lnTo>
                    <a:lnTo>
                      <a:pt x="438" y="369"/>
                    </a:lnTo>
                    <a:lnTo>
                      <a:pt x="443" y="365"/>
                    </a:lnTo>
                    <a:lnTo>
                      <a:pt x="449" y="362"/>
                    </a:lnTo>
                    <a:lnTo>
                      <a:pt x="455" y="359"/>
                    </a:lnTo>
                    <a:lnTo>
                      <a:pt x="463" y="357"/>
                    </a:lnTo>
                    <a:lnTo>
                      <a:pt x="467" y="353"/>
                    </a:lnTo>
                    <a:lnTo>
                      <a:pt x="473" y="350"/>
                    </a:lnTo>
                    <a:lnTo>
                      <a:pt x="479" y="347"/>
                    </a:lnTo>
                    <a:lnTo>
                      <a:pt x="485" y="345"/>
                    </a:lnTo>
                    <a:lnTo>
                      <a:pt x="489" y="342"/>
                    </a:lnTo>
                    <a:lnTo>
                      <a:pt x="495" y="339"/>
                    </a:lnTo>
                    <a:lnTo>
                      <a:pt x="501" y="338"/>
                    </a:lnTo>
                    <a:lnTo>
                      <a:pt x="507" y="337"/>
                    </a:lnTo>
                    <a:lnTo>
                      <a:pt x="512" y="334"/>
                    </a:lnTo>
                    <a:lnTo>
                      <a:pt x="516" y="331"/>
                    </a:lnTo>
                    <a:lnTo>
                      <a:pt x="521" y="329"/>
                    </a:lnTo>
                    <a:lnTo>
                      <a:pt x="525" y="328"/>
                    </a:lnTo>
                    <a:lnTo>
                      <a:pt x="530" y="326"/>
                    </a:lnTo>
                    <a:lnTo>
                      <a:pt x="534" y="325"/>
                    </a:lnTo>
                    <a:lnTo>
                      <a:pt x="538" y="323"/>
                    </a:lnTo>
                    <a:lnTo>
                      <a:pt x="541" y="322"/>
                    </a:lnTo>
                    <a:lnTo>
                      <a:pt x="546" y="320"/>
                    </a:lnTo>
                    <a:lnTo>
                      <a:pt x="549" y="319"/>
                    </a:lnTo>
                    <a:lnTo>
                      <a:pt x="552" y="317"/>
                    </a:lnTo>
                    <a:lnTo>
                      <a:pt x="555" y="316"/>
                    </a:lnTo>
                    <a:lnTo>
                      <a:pt x="561" y="314"/>
                    </a:lnTo>
                    <a:lnTo>
                      <a:pt x="565" y="313"/>
                    </a:lnTo>
                    <a:lnTo>
                      <a:pt x="568" y="311"/>
                    </a:lnTo>
                    <a:lnTo>
                      <a:pt x="571" y="310"/>
                    </a:lnTo>
                    <a:lnTo>
                      <a:pt x="573" y="310"/>
                    </a:lnTo>
                    <a:lnTo>
                      <a:pt x="574" y="310"/>
                    </a:lnTo>
                    <a:lnTo>
                      <a:pt x="574" y="310"/>
                    </a:lnTo>
                    <a:lnTo>
                      <a:pt x="576" y="308"/>
                    </a:lnTo>
                    <a:lnTo>
                      <a:pt x="577" y="305"/>
                    </a:lnTo>
                    <a:lnTo>
                      <a:pt x="581" y="304"/>
                    </a:lnTo>
                    <a:lnTo>
                      <a:pt x="586" y="299"/>
                    </a:lnTo>
                    <a:lnTo>
                      <a:pt x="592" y="295"/>
                    </a:lnTo>
                    <a:lnTo>
                      <a:pt x="595" y="293"/>
                    </a:lnTo>
                    <a:lnTo>
                      <a:pt x="598" y="291"/>
                    </a:lnTo>
                    <a:lnTo>
                      <a:pt x="602" y="288"/>
                    </a:lnTo>
                    <a:lnTo>
                      <a:pt x="607" y="286"/>
                    </a:lnTo>
                    <a:lnTo>
                      <a:pt x="610" y="282"/>
                    </a:lnTo>
                    <a:lnTo>
                      <a:pt x="614" y="279"/>
                    </a:lnTo>
                    <a:lnTo>
                      <a:pt x="619" y="276"/>
                    </a:lnTo>
                    <a:lnTo>
                      <a:pt x="624" y="273"/>
                    </a:lnTo>
                    <a:lnTo>
                      <a:pt x="627" y="270"/>
                    </a:lnTo>
                    <a:lnTo>
                      <a:pt x="633" y="265"/>
                    </a:lnTo>
                    <a:lnTo>
                      <a:pt x="639" y="262"/>
                    </a:lnTo>
                    <a:lnTo>
                      <a:pt x="645" y="259"/>
                    </a:lnTo>
                    <a:lnTo>
                      <a:pt x="650" y="255"/>
                    </a:lnTo>
                    <a:lnTo>
                      <a:pt x="656" y="250"/>
                    </a:lnTo>
                    <a:lnTo>
                      <a:pt x="662" y="246"/>
                    </a:lnTo>
                    <a:lnTo>
                      <a:pt x="669" y="243"/>
                    </a:lnTo>
                    <a:lnTo>
                      <a:pt x="673" y="239"/>
                    </a:lnTo>
                    <a:lnTo>
                      <a:pt x="681" y="234"/>
                    </a:lnTo>
                    <a:lnTo>
                      <a:pt x="688" y="230"/>
                    </a:lnTo>
                    <a:lnTo>
                      <a:pt x="696" y="225"/>
                    </a:lnTo>
                    <a:lnTo>
                      <a:pt x="702" y="221"/>
                    </a:lnTo>
                    <a:lnTo>
                      <a:pt x="708" y="216"/>
                    </a:lnTo>
                    <a:lnTo>
                      <a:pt x="715" y="212"/>
                    </a:lnTo>
                    <a:lnTo>
                      <a:pt x="722" y="207"/>
                    </a:lnTo>
                    <a:lnTo>
                      <a:pt x="730" y="203"/>
                    </a:lnTo>
                    <a:lnTo>
                      <a:pt x="737" y="199"/>
                    </a:lnTo>
                    <a:lnTo>
                      <a:pt x="746" y="193"/>
                    </a:lnTo>
                    <a:lnTo>
                      <a:pt x="754" y="188"/>
                    </a:lnTo>
                    <a:lnTo>
                      <a:pt x="761" y="184"/>
                    </a:lnTo>
                    <a:lnTo>
                      <a:pt x="770" y="179"/>
                    </a:lnTo>
                    <a:lnTo>
                      <a:pt x="777" y="173"/>
                    </a:lnTo>
                    <a:lnTo>
                      <a:pt x="786" y="169"/>
                    </a:lnTo>
                    <a:lnTo>
                      <a:pt x="795" y="164"/>
                    </a:lnTo>
                    <a:lnTo>
                      <a:pt x="804" y="160"/>
                    </a:lnTo>
                    <a:lnTo>
                      <a:pt x="811" y="155"/>
                    </a:lnTo>
                    <a:lnTo>
                      <a:pt x="820" y="151"/>
                    </a:lnTo>
                    <a:lnTo>
                      <a:pt x="829" y="147"/>
                    </a:lnTo>
                    <a:lnTo>
                      <a:pt x="838" y="142"/>
                    </a:lnTo>
                    <a:lnTo>
                      <a:pt x="846" y="136"/>
                    </a:lnTo>
                    <a:lnTo>
                      <a:pt x="856" y="132"/>
                    </a:lnTo>
                    <a:lnTo>
                      <a:pt x="865" y="127"/>
                    </a:lnTo>
                    <a:lnTo>
                      <a:pt x="874" y="123"/>
                    </a:lnTo>
                    <a:lnTo>
                      <a:pt x="883" y="118"/>
                    </a:lnTo>
                    <a:lnTo>
                      <a:pt x="893" y="114"/>
                    </a:lnTo>
                    <a:lnTo>
                      <a:pt x="902" y="109"/>
                    </a:lnTo>
                    <a:lnTo>
                      <a:pt x="911" y="105"/>
                    </a:lnTo>
                    <a:lnTo>
                      <a:pt x="920" y="102"/>
                    </a:lnTo>
                    <a:lnTo>
                      <a:pt x="930" y="98"/>
                    </a:lnTo>
                    <a:lnTo>
                      <a:pt x="939" y="93"/>
                    </a:lnTo>
                    <a:lnTo>
                      <a:pt x="948" y="90"/>
                    </a:lnTo>
                    <a:lnTo>
                      <a:pt x="957" y="86"/>
                    </a:lnTo>
                    <a:lnTo>
                      <a:pt x="967" y="83"/>
                    </a:lnTo>
                    <a:lnTo>
                      <a:pt x="976" y="80"/>
                    </a:lnTo>
                    <a:lnTo>
                      <a:pt x="987" y="75"/>
                    </a:lnTo>
                    <a:lnTo>
                      <a:pt x="995" y="71"/>
                    </a:lnTo>
                    <a:lnTo>
                      <a:pt x="1004" y="68"/>
                    </a:lnTo>
                    <a:lnTo>
                      <a:pt x="1013" y="65"/>
                    </a:lnTo>
                    <a:lnTo>
                      <a:pt x="1024" y="62"/>
                    </a:lnTo>
                    <a:lnTo>
                      <a:pt x="1033" y="59"/>
                    </a:lnTo>
                    <a:lnTo>
                      <a:pt x="1041" y="56"/>
                    </a:lnTo>
                    <a:lnTo>
                      <a:pt x="1050" y="53"/>
                    </a:lnTo>
                    <a:lnTo>
                      <a:pt x="1059" y="52"/>
                    </a:lnTo>
                    <a:lnTo>
                      <a:pt x="1070" y="49"/>
                    </a:lnTo>
                    <a:lnTo>
                      <a:pt x="1079" y="46"/>
                    </a:lnTo>
                    <a:lnTo>
                      <a:pt x="1087" y="43"/>
                    </a:lnTo>
                    <a:lnTo>
                      <a:pt x="1096" y="41"/>
                    </a:lnTo>
                    <a:lnTo>
                      <a:pt x="1105" y="38"/>
                    </a:lnTo>
                    <a:lnTo>
                      <a:pt x="1114" y="37"/>
                    </a:lnTo>
                    <a:lnTo>
                      <a:pt x="1123" y="34"/>
                    </a:lnTo>
                    <a:lnTo>
                      <a:pt x="1132" y="32"/>
                    </a:lnTo>
                    <a:lnTo>
                      <a:pt x="1139" y="31"/>
                    </a:lnTo>
                    <a:lnTo>
                      <a:pt x="1150" y="29"/>
                    </a:lnTo>
                    <a:lnTo>
                      <a:pt x="1157" y="26"/>
                    </a:lnTo>
                    <a:lnTo>
                      <a:pt x="1166" y="25"/>
                    </a:lnTo>
                    <a:lnTo>
                      <a:pt x="1173" y="23"/>
                    </a:lnTo>
                    <a:lnTo>
                      <a:pt x="1182" y="22"/>
                    </a:lnTo>
                    <a:lnTo>
                      <a:pt x="1190" y="20"/>
                    </a:lnTo>
                    <a:lnTo>
                      <a:pt x="1199" y="19"/>
                    </a:lnTo>
                    <a:lnTo>
                      <a:pt x="1206" y="17"/>
                    </a:lnTo>
                    <a:lnTo>
                      <a:pt x="1215" y="16"/>
                    </a:lnTo>
                    <a:lnTo>
                      <a:pt x="1222" y="15"/>
                    </a:lnTo>
                    <a:lnTo>
                      <a:pt x="1230" y="15"/>
                    </a:lnTo>
                    <a:lnTo>
                      <a:pt x="1237" y="13"/>
                    </a:lnTo>
                    <a:lnTo>
                      <a:pt x="1245" y="13"/>
                    </a:lnTo>
                    <a:lnTo>
                      <a:pt x="1251" y="12"/>
                    </a:lnTo>
                    <a:lnTo>
                      <a:pt x="1258" y="10"/>
                    </a:lnTo>
                    <a:lnTo>
                      <a:pt x="1264" y="9"/>
                    </a:lnTo>
                    <a:lnTo>
                      <a:pt x="1271" y="9"/>
                    </a:lnTo>
                    <a:lnTo>
                      <a:pt x="1277" y="7"/>
                    </a:lnTo>
                    <a:lnTo>
                      <a:pt x="1283" y="7"/>
                    </a:lnTo>
                    <a:lnTo>
                      <a:pt x="1289" y="6"/>
                    </a:lnTo>
                    <a:lnTo>
                      <a:pt x="1297" y="6"/>
                    </a:lnTo>
                    <a:lnTo>
                      <a:pt x="1301" y="4"/>
                    </a:lnTo>
                    <a:lnTo>
                      <a:pt x="1307" y="4"/>
                    </a:lnTo>
                    <a:lnTo>
                      <a:pt x="1313" y="3"/>
                    </a:lnTo>
                    <a:lnTo>
                      <a:pt x="1319" y="3"/>
                    </a:lnTo>
                    <a:lnTo>
                      <a:pt x="1323" y="3"/>
                    </a:lnTo>
                    <a:lnTo>
                      <a:pt x="1328" y="3"/>
                    </a:lnTo>
                    <a:lnTo>
                      <a:pt x="1332" y="3"/>
                    </a:lnTo>
                    <a:lnTo>
                      <a:pt x="1337" y="3"/>
                    </a:lnTo>
                    <a:lnTo>
                      <a:pt x="1341" y="1"/>
                    </a:lnTo>
                    <a:lnTo>
                      <a:pt x="1344" y="1"/>
                    </a:lnTo>
                    <a:lnTo>
                      <a:pt x="1349" y="0"/>
                    </a:lnTo>
                    <a:lnTo>
                      <a:pt x="1352" y="0"/>
                    </a:lnTo>
                    <a:lnTo>
                      <a:pt x="1357" y="0"/>
                    </a:lnTo>
                    <a:lnTo>
                      <a:pt x="1363" y="0"/>
                    </a:lnTo>
                    <a:lnTo>
                      <a:pt x="1366" y="0"/>
                    </a:lnTo>
                    <a:lnTo>
                      <a:pt x="1369" y="0"/>
                    </a:lnTo>
                    <a:lnTo>
                      <a:pt x="1371" y="0"/>
                    </a:lnTo>
                    <a:lnTo>
                      <a:pt x="1372" y="0"/>
                    </a:lnTo>
                    <a:lnTo>
                      <a:pt x="1371" y="0"/>
                    </a:lnTo>
                    <a:lnTo>
                      <a:pt x="1369" y="0"/>
                    </a:lnTo>
                    <a:lnTo>
                      <a:pt x="1366" y="1"/>
                    </a:lnTo>
                    <a:lnTo>
                      <a:pt x="1363" y="3"/>
                    </a:lnTo>
                    <a:lnTo>
                      <a:pt x="1357" y="3"/>
                    </a:lnTo>
                    <a:lnTo>
                      <a:pt x="1353" y="4"/>
                    </a:lnTo>
                    <a:lnTo>
                      <a:pt x="1349" y="4"/>
                    </a:lnTo>
                    <a:lnTo>
                      <a:pt x="1346" y="6"/>
                    </a:lnTo>
                    <a:lnTo>
                      <a:pt x="1343" y="7"/>
                    </a:lnTo>
                    <a:lnTo>
                      <a:pt x="1340" y="7"/>
                    </a:lnTo>
                    <a:lnTo>
                      <a:pt x="1335" y="9"/>
                    </a:lnTo>
                    <a:lnTo>
                      <a:pt x="1331" y="10"/>
                    </a:lnTo>
                    <a:lnTo>
                      <a:pt x="1326" y="10"/>
                    </a:lnTo>
                    <a:lnTo>
                      <a:pt x="1322" y="12"/>
                    </a:lnTo>
                    <a:lnTo>
                      <a:pt x="1316" y="13"/>
                    </a:lnTo>
                    <a:lnTo>
                      <a:pt x="1311" y="15"/>
                    </a:lnTo>
                    <a:lnTo>
                      <a:pt x="1307" y="16"/>
                    </a:lnTo>
                    <a:lnTo>
                      <a:pt x="1301" y="17"/>
                    </a:lnTo>
                    <a:lnTo>
                      <a:pt x="1295" y="19"/>
                    </a:lnTo>
                    <a:lnTo>
                      <a:pt x="1289" y="20"/>
                    </a:lnTo>
                    <a:lnTo>
                      <a:pt x="1283" y="22"/>
                    </a:lnTo>
                    <a:lnTo>
                      <a:pt x="1277" y="23"/>
                    </a:lnTo>
                    <a:lnTo>
                      <a:pt x="1271" y="26"/>
                    </a:lnTo>
                    <a:lnTo>
                      <a:pt x="1265" y="28"/>
                    </a:lnTo>
                    <a:lnTo>
                      <a:pt x="1260" y="29"/>
                    </a:lnTo>
                    <a:lnTo>
                      <a:pt x="1254" y="32"/>
                    </a:lnTo>
                    <a:lnTo>
                      <a:pt x="1246" y="34"/>
                    </a:lnTo>
                    <a:lnTo>
                      <a:pt x="1239" y="35"/>
                    </a:lnTo>
                    <a:lnTo>
                      <a:pt x="1231" y="37"/>
                    </a:lnTo>
                    <a:lnTo>
                      <a:pt x="1225" y="40"/>
                    </a:lnTo>
                    <a:lnTo>
                      <a:pt x="1218" y="41"/>
                    </a:lnTo>
                    <a:lnTo>
                      <a:pt x="1211" y="44"/>
                    </a:lnTo>
                    <a:lnTo>
                      <a:pt x="1203" y="47"/>
                    </a:lnTo>
                    <a:lnTo>
                      <a:pt x="1196" y="49"/>
                    </a:lnTo>
                    <a:lnTo>
                      <a:pt x="1187" y="52"/>
                    </a:lnTo>
                    <a:lnTo>
                      <a:pt x="1179" y="55"/>
                    </a:lnTo>
                    <a:lnTo>
                      <a:pt x="1171" y="56"/>
                    </a:lnTo>
                    <a:lnTo>
                      <a:pt x="1163" y="61"/>
                    </a:lnTo>
                    <a:lnTo>
                      <a:pt x="1156" y="62"/>
                    </a:lnTo>
                    <a:lnTo>
                      <a:pt x="1147" y="65"/>
                    </a:lnTo>
                    <a:lnTo>
                      <a:pt x="1139" y="68"/>
                    </a:lnTo>
                    <a:lnTo>
                      <a:pt x="1132" y="71"/>
                    </a:lnTo>
                    <a:lnTo>
                      <a:pt x="1123" y="74"/>
                    </a:lnTo>
                    <a:lnTo>
                      <a:pt x="1114" y="77"/>
                    </a:lnTo>
                    <a:lnTo>
                      <a:pt x="1105" y="80"/>
                    </a:lnTo>
                    <a:lnTo>
                      <a:pt x="1098" y="84"/>
                    </a:lnTo>
                    <a:lnTo>
                      <a:pt x="1089" y="87"/>
                    </a:lnTo>
                    <a:lnTo>
                      <a:pt x="1080" y="90"/>
                    </a:lnTo>
                    <a:lnTo>
                      <a:pt x="1071" y="95"/>
                    </a:lnTo>
                    <a:lnTo>
                      <a:pt x="1064" y="98"/>
                    </a:lnTo>
                    <a:lnTo>
                      <a:pt x="1055" y="102"/>
                    </a:lnTo>
                    <a:lnTo>
                      <a:pt x="1046" y="105"/>
                    </a:lnTo>
                    <a:lnTo>
                      <a:pt x="1037" y="109"/>
                    </a:lnTo>
                    <a:lnTo>
                      <a:pt x="1028" y="112"/>
                    </a:lnTo>
                    <a:lnTo>
                      <a:pt x="1019" y="117"/>
                    </a:lnTo>
                    <a:lnTo>
                      <a:pt x="1010" y="120"/>
                    </a:lnTo>
                    <a:lnTo>
                      <a:pt x="1001" y="124"/>
                    </a:lnTo>
                    <a:lnTo>
                      <a:pt x="994" y="129"/>
                    </a:lnTo>
                    <a:lnTo>
                      <a:pt x="984" y="132"/>
                    </a:lnTo>
                    <a:lnTo>
                      <a:pt x="975" y="136"/>
                    </a:lnTo>
                    <a:lnTo>
                      <a:pt x="966" y="141"/>
                    </a:lnTo>
                    <a:lnTo>
                      <a:pt x="957" y="145"/>
                    </a:lnTo>
                    <a:lnTo>
                      <a:pt x="948" y="150"/>
                    </a:lnTo>
                    <a:lnTo>
                      <a:pt x="939" y="154"/>
                    </a:lnTo>
                    <a:lnTo>
                      <a:pt x="932" y="158"/>
                    </a:lnTo>
                    <a:lnTo>
                      <a:pt x="923" y="163"/>
                    </a:lnTo>
                    <a:lnTo>
                      <a:pt x="912" y="167"/>
                    </a:lnTo>
                    <a:lnTo>
                      <a:pt x="905" y="172"/>
                    </a:lnTo>
                    <a:lnTo>
                      <a:pt x="896" y="176"/>
                    </a:lnTo>
                    <a:lnTo>
                      <a:pt x="887" y="181"/>
                    </a:lnTo>
                    <a:lnTo>
                      <a:pt x="878" y="185"/>
                    </a:lnTo>
                    <a:lnTo>
                      <a:pt x="871" y="191"/>
                    </a:lnTo>
                    <a:lnTo>
                      <a:pt x="862" y="196"/>
                    </a:lnTo>
                    <a:lnTo>
                      <a:pt x="854" y="200"/>
                    </a:lnTo>
                    <a:lnTo>
                      <a:pt x="846" y="203"/>
                    </a:lnTo>
                    <a:lnTo>
                      <a:pt x="838" y="209"/>
                    </a:lnTo>
                    <a:lnTo>
                      <a:pt x="829" y="213"/>
                    </a:lnTo>
                    <a:lnTo>
                      <a:pt x="822" y="218"/>
                    </a:lnTo>
                    <a:lnTo>
                      <a:pt x="814" y="222"/>
                    </a:lnTo>
                    <a:lnTo>
                      <a:pt x="806" y="227"/>
                    </a:lnTo>
                    <a:lnTo>
                      <a:pt x="798" y="231"/>
                    </a:lnTo>
                    <a:lnTo>
                      <a:pt x="791" y="236"/>
                    </a:lnTo>
                    <a:lnTo>
                      <a:pt x="783" y="240"/>
                    </a:lnTo>
                    <a:lnTo>
                      <a:pt x="776" y="245"/>
                    </a:lnTo>
                    <a:lnTo>
                      <a:pt x="768" y="249"/>
                    </a:lnTo>
                    <a:lnTo>
                      <a:pt x="762" y="253"/>
                    </a:lnTo>
                    <a:lnTo>
                      <a:pt x="755" y="258"/>
                    </a:lnTo>
                    <a:lnTo>
                      <a:pt x="748" y="262"/>
                    </a:lnTo>
                    <a:lnTo>
                      <a:pt x="742" y="267"/>
                    </a:lnTo>
                    <a:lnTo>
                      <a:pt x="736" y="271"/>
                    </a:lnTo>
                    <a:lnTo>
                      <a:pt x="728" y="274"/>
                    </a:lnTo>
                    <a:lnTo>
                      <a:pt x="721" y="279"/>
                    </a:lnTo>
                    <a:lnTo>
                      <a:pt x="715" y="282"/>
                    </a:lnTo>
                    <a:lnTo>
                      <a:pt x="709" y="286"/>
                    </a:lnTo>
                    <a:lnTo>
                      <a:pt x="703" y="291"/>
                    </a:lnTo>
                    <a:lnTo>
                      <a:pt x="697" y="293"/>
                    </a:lnTo>
                    <a:lnTo>
                      <a:pt x="691" y="298"/>
                    </a:lnTo>
                    <a:lnTo>
                      <a:pt x="687" y="301"/>
                    </a:lnTo>
                    <a:lnTo>
                      <a:pt x="681" y="304"/>
                    </a:lnTo>
                    <a:lnTo>
                      <a:pt x="676" y="308"/>
                    </a:lnTo>
                    <a:lnTo>
                      <a:pt x="672" y="311"/>
                    </a:lnTo>
                    <a:lnTo>
                      <a:pt x="668" y="314"/>
                    </a:lnTo>
                    <a:lnTo>
                      <a:pt x="662" y="317"/>
                    </a:lnTo>
                    <a:lnTo>
                      <a:pt x="659" y="320"/>
                    </a:lnTo>
                    <a:lnTo>
                      <a:pt x="654" y="323"/>
                    </a:lnTo>
                    <a:lnTo>
                      <a:pt x="651" y="326"/>
                    </a:lnTo>
                    <a:lnTo>
                      <a:pt x="647" y="328"/>
                    </a:lnTo>
                    <a:lnTo>
                      <a:pt x="642" y="331"/>
                    </a:lnTo>
                    <a:lnTo>
                      <a:pt x="639" y="332"/>
                    </a:lnTo>
                    <a:lnTo>
                      <a:pt x="636" y="335"/>
                    </a:lnTo>
                    <a:lnTo>
                      <a:pt x="632" y="338"/>
                    </a:lnTo>
                    <a:lnTo>
                      <a:pt x="627" y="342"/>
                    </a:lnTo>
                    <a:lnTo>
                      <a:pt x="623" y="344"/>
                    </a:lnTo>
                    <a:lnTo>
                      <a:pt x="622" y="347"/>
                    </a:lnTo>
                    <a:lnTo>
                      <a:pt x="620" y="348"/>
                    </a:lnTo>
                    <a:lnTo>
                      <a:pt x="620" y="348"/>
                    </a:lnTo>
                    <a:lnTo>
                      <a:pt x="619" y="348"/>
                    </a:lnTo>
                    <a:lnTo>
                      <a:pt x="617" y="350"/>
                    </a:lnTo>
                    <a:lnTo>
                      <a:pt x="614" y="350"/>
                    </a:lnTo>
                    <a:lnTo>
                      <a:pt x="611" y="351"/>
                    </a:lnTo>
                    <a:lnTo>
                      <a:pt x="605" y="353"/>
                    </a:lnTo>
                    <a:lnTo>
                      <a:pt x="601" y="356"/>
                    </a:lnTo>
                    <a:lnTo>
                      <a:pt x="598" y="356"/>
                    </a:lnTo>
                    <a:lnTo>
                      <a:pt x="593" y="357"/>
                    </a:lnTo>
                    <a:lnTo>
                      <a:pt x="590" y="359"/>
                    </a:lnTo>
                    <a:lnTo>
                      <a:pt x="587" y="362"/>
                    </a:lnTo>
                    <a:lnTo>
                      <a:pt x="583" y="362"/>
                    </a:lnTo>
                    <a:lnTo>
                      <a:pt x="578" y="365"/>
                    </a:lnTo>
                    <a:lnTo>
                      <a:pt x="576" y="366"/>
                    </a:lnTo>
                    <a:lnTo>
                      <a:pt x="571" y="368"/>
                    </a:lnTo>
                    <a:lnTo>
                      <a:pt x="565" y="369"/>
                    </a:lnTo>
                    <a:lnTo>
                      <a:pt x="561" y="372"/>
                    </a:lnTo>
                    <a:lnTo>
                      <a:pt x="556" y="374"/>
                    </a:lnTo>
                    <a:lnTo>
                      <a:pt x="552" y="377"/>
                    </a:lnTo>
                    <a:lnTo>
                      <a:pt x="546" y="378"/>
                    </a:lnTo>
                    <a:lnTo>
                      <a:pt x="540" y="381"/>
                    </a:lnTo>
                    <a:lnTo>
                      <a:pt x="534" y="384"/>
                    </a:lnTo>
                    <a:lnTo>
                      <a:pt x="530" y="387"/>
                    </a:lnTo>
                    <a:lnTo>
                      <a:pt x="524" y="388"/>
                    </a:lnTo>
                    <a:lnTo>
                      <a:pt x="518" y="391"/>
                    </a:lnTo>
                    <a:lnTo>
                      <a:pt x="512" y="394"/>
                    </a:lnTo>
                    <a:lnTo>
                      <a:pt x="506" y="399"/>
                    </a:lnTo>
                    <a:lnTo>
                      <a:pt x="500" y="400"/>
                    </a:lnTo>
                    <a:lnTo>
                      <a:pt x="494" y="403"/>
                    </a:lnTo>
                    <a:lnTo>
                      <a:pt x="486" y="406"/>
                    </a:lnTo>
                    <a:lnTo>
                      <a:pt x="481" y="411"/>
                    </a:lnTo>
                    <a:lnTo>
                      <a:pt x="473" y="414"/>
                    </a:lnTo>
                    <a:lnTo>
                      <a:pt x="467" y="417"/>
                    </a:lnTo>
                    <a:lnTo>
                      <a:pt x="460" y="421"/>
                    </a:lnTo>
                    <a:lnTo>
                      <a:pt x="452" y="424"/>
                    </a:lnTo>
                    <a:lnTo>
                      <a:pt x="445" y="429"/>
                    </a:lnTo>
                    <a:lnTo>
                      <a:pt x="439" y="431"/>
                    </a:lnTo>
                    <a:lnTo>
                      <a:pt x="432" y="436"/>
                    </a:lnTo>
                    <a:lnTo>
                      <a:pt x="424" y="439"/>
                    </a:lnTo>
                    <a:lnTo>
                      <a:pt x="417" y="443"/>
                    </a:lnTo>
                    <a:lnTo>
                      <a:pt x="409" y="446"/>
                    </a:lnTo>
                    <a:lnTo>
                      <a:pt x="402" y="451"/>
                    </a:lnTo>
                    <a:lnTo>
                      <a:pt x="396" y="455"/>
                    </a:lnTo>
                    <a:lnTo>
                      <a:pt x="389" y="460"/>
                    </a:lnTo>
                    <a:lnTo>
                      <a:pt x="381" y="463"/>
                    </a:lnTo>
                    <a:lnTo>
                      <a:pt x="374" y="467"/>
                    </a:lnTo>
                    <a:lnTo>
                      <a:pt x="366" y="472"/>
                    </a:lnTo>
                    <a:lnTo>
                      <a:pt x="359" y="476"/>
                    </a:lnTo>
                    <a:lnTo>
                      <a:pt x="351" y="480"/>
                    </a:lnTo>
                    <a:lnTo>
                      <a:pt x="344" y="485"/>
                    </a:lnTo>
                    <a:lnTo>
                      <a:pt x="337" y="489"/>
                    </a:lnTo>
                    <a:lnTo>
                      <a:pt x="328" y="494"/>
                    </a:lnTo>
                    <a:lnTo>
                      <a:pt x="320" y="498"/>
                    </a:lnTo>
                    <a:lnTo>
                      <a:pt x="313" y="503"/>
                    </a:lnTo>
                    <a:lnTo>
                      <a:pt x="305" y="507"/>
                    </a:lnTo>
                    <a:lnTo>
                      <a:pt x="298" y="513"/>
                    </a:lnTo>
                    <a:lnTo>
                      <a:pt x="291" y="518"/>
                    </a:lnTo>
                    <a:lnTo>
                      <a:pt x="283" y="522"/>
                    </a:lnTo>
                    <a:lnTo>
                      <a:pt x="277" y="528"/>
                    </a:lnTo>
                    <a:lnTo>
                      <a:pt x="270" y="532"/>
                    </a:lnTo>
                    <a:lnTo>
                      <a:pt x="262" y="538"/>
                    </a:lnTo>
                    <a:lnTo>
                      <a:pt x="255" y="543"/>
                    </a:lnTo>
                    <a:lnTo>
                      <a:pt x="248" y="549"/>
                    </a:lnTo>
                    <a:lnTo>
                      <a:pt x="240" y="553"/>
                    </a:lnTo>
                    <a:lnTo>
                      <a:pt x="233" y="558"/>
                    </a:lnTo>
                    <a:lnTo>
                      <a:pt x="227" y="564"/>
                    </a:lnTo>
                    <a:lnTo>
                      <a:pt x="219" y="569"/>
                    </a:lnTo>
                    <a:lnTo>
                      <a:pt x="212" y="574"/>
                    </a:lnTo>
                    <a:lnTo>
                      <a:pt x="206" y="580"/>
                    </a:lnTo>
                    <a:lnTo>
                      <a:pt x="199" y="584"/>
                    </a:lnTo>
                    <a:lnTo>
                      <a:pt x="193" y="590"/>
                    </a:lnTo>
                    <a:lnTo>
                      <a:pt x="187" y="595"/>
                    </a:lnTo>
                    <a:lnTo>
                      <a:pt x="179" y="601"/>
                    </a:lnTo>
                    <a:lnTo>
                      <a:pt x="173" y="605"/>
                    </a:lnTo>
                    <a:lnTo>
                      <a:pt x="167" y="611"/>
                    </a:lnTo>
                    <a:lnTo>
                      <a:pt x="162" y="617"/>
                    </a:lnTo>
                    <a:lnTo>
                      <a:pt x="154" y="621"/>
                    </a:lnTo>
                    <a:lnTo>
                      <a:pt x="148" y="626"/>
                    </a:lnTo>
                    <a:lnTo>
                      <a:pt x="142" y="632"/>
                    </a:lnTo>
                    <a:lnTo>
                      <a:pt x="138" y="636"/>
                    </a:lnTo>
                    <a:lnTo>
                      <a:pt x="132" y="642"/>
                    </a:lnTo>
                    <a:lnTo>
                      <a:pt x="126" y="647"/>
                    </a:lnTo>
                    <a:lnTo>
                      <a:pt x="120" y="653"/>
                    </a:lnTo>
                    <a:lnTo>
                      <a:pt x="116" y="657"/>
                    </a:lnTo>
                    <a:lnTo>
                      <a:pt x="110" y="663"/>
                    </a:lnTo>
                    <a:lnTo>
                      <a:pt x="105" y="666"/>
                    </a:lnTo>
                    <a:lnTo>
                      <a:pt x="99" y="672"/>
                    </a:lnTo>
                    <a:lnTo>
                      <a:pt x="93" y="676"/>
                    </a:lnTo>
                    <a:lnTo>
                      <a:pt x="90" y="681"/>
                    </a:lnTo>
                    <a:lnTo>
                      <a:pt x="84" y="687"/>
                    </a:lnTo>
                    <a:lnTo>
                      <a:pt x="80" y="691"/>
                    </a:lnTo>
                    <a:lnTo>
                      <a:pt x="75" y="696"/>
                    </a:lnTo>
                    <a:lnTo>
                      <a:pt x="71" y="700"/>
                    </a:lnTo>
                    <a:lnTo>
                      <a:pt x="65" y="705"/>
                    </a:lnTo>
                    <a:lnTo>
                      <a:pt x="62" y="707"/>
                    </a:lnTo>
                    <a:lnTo>
                      <a:pt x="58" y="712"/>
                    </a:lnTo>
                    <a:lnTo>
                      <a:pt x="53" y="716"/>
                    </a:lnTo>
                    <a:lnTo>
                      <a:pt x="50" y="719"/>
                    </a:lnTo>
                    <a:lnTo>
                      <a:pt x="46" y="724"/>
                    </a:lnTo>
                    <a:lnTo>
                      <a:pt x="43" y="727"/>
                    </a:lnTo>
                    <a:lnTo>
                      <a:pt x="38" y="731"/>
                    </a:lnTo>
                    <a:lnTo>
                      <a:pt x="35" y="734"/>
                    </a:lnTo>
                    <a:lnTo>
                      <a:pt x="32" y="737"/>
                    </a:lnTo>
                    <a:lnTo>
                      <a:pt x="27" y="745"/>
                    </a:lnTo>
                    <a:lnTo>
                      <a:pt x="21" y="751"/>
                    </a:lnTo>
                    <a:lnTo>
                      <a:pt x="15" y="755"/>
                    </a:lnTo>
                    <a:lnTo>
                      <a:pt x="12" y="759"/>
                    </a:lnTo>
                    <a:lnTo>
                      <a:pt x="7" y="764"/>
                    </a:lnTo>
                    <a:lnTo>
                      <a:pt x="4" y="768"/>
                    </a:lnTo>
                    <a:lnTo>
                      <a:pt x="1" y="773"/>
                    </a:lnTo>
                    <a:lnTo>
                      <a:pt x="0" y="774"/>
                    </a:lnTo>
                    <a:lnTo>
                      <a:pt x="0" y="77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3971880" y="2730240"/>
                <a:ext cx="444240" cy="307440"/>
              </a:xfrm>
              <a:custGeom>
                <a:avLst/>
                <a:gdLst/>
                <a:ahLst/>
                <a:rect l="l" t="t" r="r" b="b"/>
                <a:pathLst>
                  <a:path w="561" h="387">
                    <a:moveTo>
                      <a:pt x="557" y="0"/>
                    </a:moveTo>
                    <a:lnTo>
                      <a:pt x="555" y="0"/>
                    </a:lnTo>
                    <a:lnTo>
                      <a:pt x="555" y="1"/>
                    </a:lnTo>
                    <a:lnTo>
                      <a:pt x="555" y="3"/>
                    </a:lnTo>
                    <a:lnTo>
                      <a:pt x="554" y="7"/>
                    </a:lnTo>
                    <a:lnTo>
                      <a:pt x="552" y="10"/>
                    </a:lnTo>
                    <a:lnTo>
                      <a:pt x="551" y="16"/>
                    </a:lnTo>
                    <a:lnTo>
                      <a:pt x="549" y="19"/>
                    </a:lnTo>
                    <a:lnTo>
                      <a:pt x="549" y="22"/>
                    </a:lnTo>
                    <a:lnTo>
                      <a:pt x="548" y="27"/>
                    </a:lnTo>
                    <a:lnTo>
                      <a:pt x="546" y="30"/>
                    </a:lnTo>
                    <a:lnTo>
                      <a:pt x="544" y="33"/>
                    </a:lnTo>
                    <a:lnTo>
                      <a:pt x="542" y="36"/>
                    </a:lnTo>
                    <a:lnTo>
                      <a:pt x="541" y="40"/>
                    </a:lnTo>
                    <a:lnTo>
                      <a:pt x="538" y="43"/>
                    </a:lnTo>
                    <a:lnTo>
                      <a:pt x="535" y="47"/>
                    </a:lnTo>
                    <a:lnTo>
                      <a:pt x="533" y="52"/>
                    </a:lnTo>
                    <a:lnTo>
                      <a:pt x="530" y="55"/>
                    </a:lnTo>
                    <a:lnTo>
                      <a:pt x="527" y="59"/>
                    </a:lnTo>
                    <a:lnTo>
                      <a:pt x="523" y="64"/>
                    </a:lnTo>
                    <a:lnTo>
                      <a:pt x="520" y="67"/>
                    </a:lnTo>
                    <a:lnTo>
                      <a:pt x="515" y="71"/>
                    </a:lnTo>
                    <a:lnTo>
                      <a:pt x="512" y="76"/>
                    </a:lnTo>
                    <a:lnTo>
                      <a:pt x="506" y="79"/>
                    </a:lnTo>
                    <a:lnTo>
                      <a:pt x="502" y="83"/>
                    </a:lnTo>
                    <a:lnTo>
                      <a:pt x="496" y="86"/>
                    </a:lnTo>
                    <a:lnTo>
                      <a:pt x="492" y="90"/>
                    </a:lnTo>
                    <a:lnTo>
                      <a:pt x="486" y="93"/>
                    </a:lnTo>
                    <a:lnTo>
                      <a:pt x="478" y="98"/>
                    </a:lnTo>
                    <a:lnTo>
                      <a:pt x="472" y="101"/>
                    </a:lnTo>
                    <a:lnTo>
                      <a:pt x="466" y="105"/>
                    </a:lnTo>
                    <a:lnTo>
                      <a:pt x="462" y="105"/>
                    </a:lnTo>
                    <a:lnTo>
                      <a:pt x="459" y="108"/>
                    </a:lnTo>
                    <a:lnTo>
                      <a:pt x="454" y="108"/>
                    </a:lnTo>
                    <a:lnTo>
                      <a:pt x="452" y="111"/>
                    </a:lnTo>
                    <a:lnTo>
                      <a:pt x="449" y="113"/>
                    </a:lnTo>
                    <a:lnTo>
                      <a:pt x="444" y="114"/>
                    </a:lnTo>
                    <a:lnTo>
                      <a:pt x="441" y="117"/>
                    </a:lnTo>
                    <a:lnTo>
                      <a:pt x="437" y="119"/>
                    </a:lnTo>
                    <a:lnTo>
                      <a:pt x="432" y="120"/>
                    </a:lnTo>
                    <a:lnTo>
                      <a:pt x="428" y="122"/>
                    </a:lnTo>
                    <a:lnTo>
                      <a:pt x="423" y="123"/>
                    </a:lnTo>
                    <a:lnTo>
                      <a:pt x="420" y="125"/>
                    </a:lnTo>
                    <a:lnTo>
                      <a:pt x="416" y="126"/>
                    </a:lnTo>
                    <a:lnTo>
                      <a:pt x="411" y="128"/>
                    </a:lnTo>
                    <a:lnTo>
                      <a:pt x="407" y="129"/>
                    </a:lnTo>
                    <a:lnTo>
                      <a:pt x="404" y="132"/>
                    </a:lnTo>
                    <a:lnTo>
                      <a:pt x="398" y="132"/>
                    </a:lnTo>
                    <a:lnTo>
                      <a:pt x="394" y="135"/>
                    </a:lnTo>
                    <a:lnTo>
                      <a:pt x="389" y="136"/>
                    </a:lnTo>
                    <a:lnTo>
                      <a:pt x="385" y="138"/>
                    </a:lnTo>
                    <a:lnTo>
                      <a:pt x="380" y="139"/>
                    </a:lnTo>
                    <a:lnTo>
                      <a:pt x="376" y="142"/>
                    </a:lnTo>
                    <a:lnTo>
                      <a:pt x="371" y="144"/>
                    </a:lnTo>
                    <a:lnTo>
                      <a:pt x="367" y="145"/>
                    </a:lnTo>
                    <a:lnTo>
                      <a:pt x="362" y="147"/>
                    </a:lnTo>
                    <a:lnTo>
                      <a:pt x="358" y="148"/>
                    </a:lnTo>
                    <a:lnTo>
                      <a:pt x="352" y="150"/>
                    </a:lnTo>
                    <a:lnTo>
                      <a:pt x="348" y="153"/>
                    </a:lnTo>
                    <a:lnTo>
                      <a:pt x="343" y="154"/>
                    </a:lnTo>
                    <a:lnTo>
                      <a:pt x="337" y="156"/>
                    </a:lnTo>
                    <a:lnTo>
                      <a:pt x="333" y="157"/>
                    </a:lnTo>
                    <a:lnTo>
                      <a:pt x="328" y="160"/>
                    </a:lnTo>
                    <a:lnTo>
                      <a:pt x="322" y="162"/>
                    </a:lnTo>
                    <a:lnTo>
                      <a:pt x="318" y="165"/>
                    </a:lnTo>
                    <a:lnTo>
                      <a:pt x="314" y="166"/>
                    </a:lnTo>
                    <a:lnTo>
                      <a:pt x="309" y="169"/>
                    </a:lnTo>
                    <a:lnTo>
                      <a:pt x="303" y="171"/>
                    </a:lnTo>
                    <a:lnTo>
                      <a:pt x="299" y="172"/>
                    </a:lnTo>
                    <a:lnTo>
                      <a:pt x="293" y="175"/>
                    </a:lnTo>
                    <a:lnTo>
                      <a:pt x="288" y="178"/>
                    </a:lnTo>
                    <a:lnTo>
                      <a:pt x="284" y="180"/>
                    </a:lnTo>
                    <a:lnTo>
                      <a:pt x="278" y="181"/>
                    </a:lnTo>
                    <a:lnTo>
                      <a:pt x="273" y="184"/>
                    </a:lnTo>
                    <a:lnTo>
                      <a:pt x="269" y="187"/>
                    </a:lnTo>
                    <a:lnTo>
                      <a:pt x="263" y="188"/>
                    </a:lnTo>
                    <a:lnTo>
                      <a:pt x="259" y="191"/>
                    </a:lnTo>
                    <a:lnTo>
                      <a:pt x="253" y="194"/>
                    </a:lnTo>
                    <a:lnTo>
                      <a:pt x="248" y="197"/>
                    </a:lnTo>
                    <a:lnTo>
                      <a:pt x="242" y="199"/>
                    </a:lnTo>
                    <a:lnTo>
                      <a:pt x="238" y="202"/>
                    </a:lnTo>
                    <a:lnTo>
                      <a:pt x="232" y="205"/>
                    </a:lnTo>
                    <a:lnTo>
                      <a:pt x="227" y="208"/>
                    </a:lnTo>
                    <a:lnTo>
                      <a:pt x="222" y="211"/>
                    </a:lnTo>
                    <a:lnTo>
                      <a:pt x="217" y="214"/>
                    </a:lnTo>
                    <a:lnTo>
                      <a:pt x="213" y="217"/>
                    </a:lnTo>
                    <a:lnTo>
                      <a:pt x="208" y="220"/>
                    </a:lnTo>
                    <a:lnTo>
                      <a:pt x="202" y="223"/>
                    </a:lnTo>
                    <a:lnTo>
                      <a:pt x="198" y="226"/>
                    </a:lnTo>
                    <a:lnTo>
                      <a:pt x="192" y="228"/>
                    </a:lnTo>
                    <a:lnTo>
                      <a:pt x="187" y="231"/>
                    </a:lnTo>
                    <a:lnTo>
                      <a:pt x="181" y="234"/>
                    </a:lnTo>
                    <a:lnTo>
                      <a:pt x="177" y="237"/>
                    </a:lnTo>
                    <a:lnTo>
                      <a:pt x="173" y="240"/>
                    </a:lnTo>
                    <a:lnTo>
                      <a:pt x="168" y="245"/>
                    </a:lnTo>
                    <a:lnTo>
                      <a:pt x="162" y="248"/>
                    </a:lnTo>
                    <a:lnTo>
                      <a:pt x="158" y="252"/>
                    </a:lnTo>
                    <a:lnTo>
                      <a:pt x="152" y="255"/>
                    </a:lnTo>
                    <a:lnTo>
                      <a:pt x="147" y="258"/>
                    </a:lnTo>
                    <a:lnTo>
                      <a:pt x="143" y="261"/>
                    </a:lnTo>
                    <a:lnTo>
                      <a:pt x="138" y="266"/>
                    </a:lnTo>
                    <a:lnTo>
                      <a:pt x="134" y="269"/>
                    </a:lnTo>
                    <a:lnTo>
                      <a:pt x="130" y="273"/>
                    </a:lnTo>
                    <a:lnTo>
                      <a:pt x="124" y="276"/>
                    </a:lnTo>
                    <a:lnTo>
                      <a:pt x="121" y="279"/>
                    </a:lnTo>
                    <a:lnTo>
                      <a:pt x="115" y="282"/>
                    </a:lnTo>
                    <a:lnTo>
                      <a:pt x="110" y="286"/>
                    </a:lnTo>
                    <a:lnTo>
                      <a:pt x="106" y="289"/>
                    </a:lnTo>
                    <a:lnTo>
                      <a:pt x="101" y="294"/>
                    </a:lnTo>
                    <a:lnTo>
                      <a:pt x="97" y="297"/>
                    </a:lnTo>
                    <a:lnTo>
                      <a:pt x="94" y="300"/>
                    </a:lnTo>
                    <a:lnTo>
                      <a:pt x="89" y="303"/>
                    </a:lnTo>
                    <a:lnTo>
                      <a:pt x="85" y="307"/>
                    </a:lnTo>
                    <a:lnTo>
                      <a:pt x="81" y="310"/>
                    </a:lnTo>
                    <a:lnTo>
                      <a:pt x="78" y="313"/>
                    </a:lnTo>
                    <a:lnTo>
                      <a:pt x="73" y="316"/>
                    </a:lnTo>
                    <a:lnTo>
                      <a:pt x="70" y="320"/>
                    </a:lnTo>
                    <a:lnTo>
                      <a:pt x="66" y="323"/>
                    </a:lnTo>
                    <a:lnTo>
                      <a:pt x="63" y="328"/>
                    </a:lnTo>
                    <a:lnTo>
                      <a:pt x="60" y="329"/>
                    </a:lnTo>
                    <a:lnTo>
                      <a:pt x="55" y="332"/>
                    </a:lnTo>
                    <a:lnTo>
                      <a:pt x="52" y="335"/>
                    </a:lnTo>
                    <a:lnTo>
                      <a:pt x="49" y="338"/>
                    </a:lnTo>
                    <a:lnTo>
                      <a:pt x="42" y="344"/>
                    </a:lnTo>
                    <a:lnTo>
                      <a:pt x="38" y="350"/>
                    </a:lnTo>
                    <a:lnTo>
                      <a:pt x="30" y="355"/>
                    </a:lnTo>
                    <a:lnTo>
                      <a:pt x="26" y="361"/>
                    </a:lnTo>
                    <a:lnTo>
                      <a:pt x="21" y="365"/>
                    </a:lnTo>
                    <a:lnTo>
                      <a:pt x="17" y="369"/>
                    </a:lnTo>
                    <a:lnTo>
                      <a:pt x="12" y="372"/>
                    </a:lnTo>
                    <a:lnTo>
                      <a:pt x="9" y="377"/>
                    </a:lnTo>
                    <a:lnTo>
                      <a:pt x="6" y="378"/>
                    </a:lnTo>
                    <a:lnTo>
                      <a:pt x="5" y="381"/>
                    </a:lnTo>
                    <a:lnTo>
                      <a:pt x="0" y="384"/>
                    </a:lnTo>
                    <a:lnTo>
                      <a:pt x="0" y="387"/>
                    </a:lnTo>
                    <a:lnTo>
                      <a:pt x="64" y="387"/>
                    </a:lnTo>
                    <a:lnTo>
                      <a:pt x="66" y="386"/>
                    </a:lnTo>
                    <a:lnTo>
                      <a:pt x="67" y="383"/>
                    </a:lnTo>
                    <a:lnTo>
                      <a:pt x="72" y="377"/>
                    </a:lnTo>
                    <a:lnTo>
                      <a:pt x="78" y="372"/>
                    </a:lnTo>
                    <a:lnTo>
                      <a:pt x="81" y="368"/>
                    </a:lnTo>
                    <a:lnTo>
                      <a:pt x="85" y="364"/>
                    </a:lnTo>
                    <a:lnTo>
                      <a:pt x="88" y="359"/>
                    </a:lnTo>
                    <a:lnTo>
                      <a:pt x="94" y="356"/>
                    </a:lnTo>
                    <a:lnTo>
                      <a:pt x="97" y="350"/>
                    </a:lnTo>
                    <a:lnTo>
                      <a:pt x="103" y="346"/>
                    </a:lnTo>
                    <a:lnTo>
                      <a:pt x="109" y="341"/>
                    </a:lnTo>
                    <a:lnTo>
                      <a:pt x="115" y="335"/>
                    </a:lnTo>
                    <a:lnTo>
                      <a:pt x="121" y="329"/>
                    </a:lnTo>
                    <a:lnTo>
                      <a:pt x="127" y="323"/>
                    </a:lnTo>
                    <a:lnTo>
                      <a:pt x="130" y="320"/>
                    </a:lnTo>
                    <a:lnTo>
                      <a:pt x="133" y="319"/>
                    </a:lnTo>
                    <a:lnTo>
                      <a:pt x="135" y="316"/>
                    </a:lnTo>
                    <a:lnTo>
                      <a:pt x="140" y="313"/>
                    </a:lnTo>
                    <a:lnTo>
                      <a:pt x="143" y="310"/>
                    </a:lnTo>
                    <a:lnTo>
                      <a:pt x="146" y="307"/>
                    </a:lnTo>
                    <a:lnTo>
                      <a:pt x="150" y="304"/>
                    </a:lnTo>
                    <a:lnTo>
                      <a:pt x="153" y="301"/>
                    </a:lnTo>
                    <a:lnTo>
                      <a:pt x="158" y="298"/>
                    </a:lnTo>
                    <a:lnTo>
                      <a:pt x="161" y="295"/>
                    </a:lnTo>
                    <a:lnTo>
                      <a:pt x="165" y="292"/>
                    </a:lnTo>
                    <a:lnTo>
                      <a:pt x="170" y="289"/>
                    </a:lnTo>
                    <a:lnTo>
                      <a:pt x="173" y="285"/>
                    </a:lnTo>
                    <a:lnTo>
                      <a:pt x="177" y="283"/>
                    </a:lnTo>
                    <a:lnTo>
                      <a:pt x="181" y="280"/>
                    </a:lnTo>
                    <a:lnTo>
                      <a:pt x="186" y="277"/>
                    </a:lnTo>
                    <a:lnTo>
                      <a:pt x="189" y="274"/>
                    </a:lnTo>
                    <a:lnTo>
                      <a:pt x="193" y="272"/>
                    </a:lnTo>
                    <a:lnTo>
                      <a:pt x="198" y="269"/>
                    </a:lnTo>
                    <a:lnTo>
                      <a:pt x="202" y="267"/>
                    </a:lnTo>
                    <a:lnTo>
                      <a:pt x="205" y="263"/>
                    </a:lnTo>
                    <a:lnTo>
                      <a:pt x="211" y="261"/>
                    </a:lnTo>
                    <a:lnTo>
                      <a:pt x="216" y="258"/>
                    </a:lnTo>
                    <a:lnTo>
                      <a:pt x="220" y="255"/>
                    </a:lnTo>
                    <a:lnTo>
                      <a:pt x="224" y="252"/>
                    </a:lnTo>
                    <a:lnTo>
                      <a:pt x="229" y="249"/>
                    </a:lnTo>
                    <a:lnTo>
                      <a:pt x="233" y="248"/>
                    </a:lnTo>
                    <a:lnTo>
                      <a:pt x="239" y="245"/>
                    </a:lnTo>
                    <a:lnTo>
                      <a:pt x="244" y="242"/>
                    </a:lnTo>
                    <a:lnTo>
                      <a:pt x="248" y="240"/>
                    </a:lnTo>
                    <a:lnTo>
                      <a:pt x="253" y="237"/>
                    </a:lnTo>
                    <a:lnTo>
                      <a:pt x="257" y="236"/>
                    </a:lnTo>
                    <a:lnTo>
                      <a:pt x="262" y="233"/>
                    </a:lnTo>
                    <a:lnTo>
                      <a:pt x="266" y="230"/>
                    </a:lnTo>
                    <a:lnTo>
                      <a:pt x="272" y="228"/>
                    </a:lnTo>
                    <a:lnTo>
                      <a:pt x="276" y="226"/>
                    </a:lnTo>
                    <a:lnTo>
                      <a:pt x="281" y="224"/>
                    </a:lnTo>
                    <a:lnTo>
                      <a:pt x="287" y="221"/>
                    </a:lnTo>
                    <a:lnTo>
                      <a:pt x="291" y="220"/>
                    </a:lnTo>
                    <a:lnTo>
                      <a:pt x="297" y="218"/>
                    </a:lnTo>
                    <a:lnTo>
                      <a:pt x="302" y="217"/>
                    </a:lnTo>
                    <a:lnTo>
                      <a:pt x="306" y="214"/>
                    </a:lnTo>
                    <a:lnTo>
                      <a:pt x="312" y="212"/>
                    </a:lnTo>
                    <a:lnTo>
                      <a:pt x="318" y="211"/>
                    </a:lnTo>
                    <a:lnTo>
                      <a:pt x="321" y="209"/>
                    </a:lnTo>
                    <a:lnTo>
                      <a:pt x="327" y="206"/>
                    </a:lnTo>
                    <a:lnTo>
                      <a:pt x="331" y="205"/>
                    </a:lnTo>
                    <a:lnTo>
                      <a:pt x="337" y="203"/>
                    </a:lnTo>
                    <a:lnTo>
                      <a:pt x="342" y="202"/>
                    </a:lnTo>
                    <a:lnTo>
                      <a:pt x="346" y="199"/>
                    </a:lnTo>
                    <a:lnTo>
                      <a:pt x="351" y="197"/>
                    </a:lnTo>
                    <a:lnTo>
                      <a:pt x="357" y="196"/>
                    </a:lnTo>
                    <a:lnTo>
                      <a:pt x="362" y="194"/>
                    </a:lnTo>
                    <a:lnTo>
                      <a:pt x="367" y="191"/>
                    </a:lnTo>
                    <a:lnTo>
                      <a:pt x="371" y="190"/>
                    </a:lnTo>
                    <a:lnTo>
                      <a:pt x="377" y="188"/>
                    </a:lnTo>
                    <a:lnTo>
                      <a:pt x="382" y="187"/>
                    </a:lnTo>
                    <a:lnTo>
                      <a:pt x="386" y="185"/>
                    </a:lnTo>
                    <a:lnTo>
                      <a:pt x="392" y="184"/>
                    </a:lnTo>
                    <a:lnTo>
                      <a:pt x="397" y="182"/>
                    </a:lnTo>
                    <a:lnTo>
                      <a:pt x="401" y="181"/>
                    </a:lnTo>
                    <a:lnTo>
                      <a:pt x="406" y="180"/>
                    </a:lnTo>
                    <a:lnTo>
                      <a:pt x="410" y="177"/>
                    </a:lnTo>
                    <a:lnTo>
                      <a:pt x="414" y="177"/>
                    </a:lnTo>
                    <a:lnTo>
                      <a:pt x="419" y="174"/>
                    </a:lnTo>
                    <a:lnTo>
                      <a:pt x="425" y="172"/>
                    </a:lnTo>
                    <a:lnTo>
                      <a:pt x="429" y="171"/>
                    </a:lnTo>
                    <a:lnTo>
                      <a:pt x="434" y="169"/>
                    </a:lnTo>
                    <a:lnTo>
                      <a:pt x="438" y="168"/>
                    </a:lnTo>
                    <a:lnTo>
                      <a:pt x="443" y="165"/>
                    </a:lnTo>
                    <a:lnTo>
                      <a:pt x="447" y="163"/>
                    </a:lnTo>
                    <a:lnTo>
                      <a:pt x="452" y="162"/>
                    </a:lnTo>
                    <a:lnTo>
                      <a:pt x="456" y="160"/>
                    </a:lnTo>
                    <a:lnTo>
                      <a:pt x="459" y="159"/>
                    </a:lnTo>
                    <a:lnTo>
                      <a:pt x="463" y="157"/>
                    </a:lnTo>
                    <a:lnTo>
                      <a:pt x="468" y="156"/>
                    </a:lnTo>
                    <a:lnTo>
                      <a:pt x="472" y="153"/>
                    </a:lnTo>
                    <a:lnTo>
                      <a:pt x="475" y="151"/>
                    </a:lnTo>
                    <a:lnTo>
                      <a:pt x="480" y="150"/>
                    </a:lnTo>
                    <a:lnTo>
                      <a:pt x="483" y="147"/>
                    </a:lnTo>
                    <a:lnTo>
                      <a:pt x="487" y="145"/>
                    </a:lnTo>
                    <a:lnTo>
                      <a:pt x="490" y="144"/>
                    </a:lnTo>
                    <a:lnTo>
                      <a:pt x="495" y="142"/>
                    </a:lnTo>
                    <a:lnTo>
                      <a:pt x="498" y="139"/>
                    </a:lnTo>
                    <a:lnTo>
                      <a:pt x="505" y="135"/>
                    </a:lnTo>
                    <a:lnTo>
                      <a:pt x="511" y="132"/>
                    </a:lnTo>
                    <a:lnTo>
                      <a:pt x="517" y="128"/>
                    </a:lnTo>
                    <a:lnTo>
                      <a:pt x="523" y="123"/>
                    </a:lnTo>
                    <a:lnTo>
                      <a:pt x="527" y="117"/>
                    </a:lnTo>
                    <a:lnTo>
                      <a:pt x="532" y="113"/>
                    </a:lnTo>
                    <a:lnTo>
                      <a:pt x="536" y="107"/>
                    </a:lnTo>
                    <a:lnTo>
                      <a:pt x="541" y="102"/>
                    </a:lnTo>
                    <a:lnTo>
                      <a:pt x="544" y="96"/>
                    </a:lnTo>
                    <a:lnTo>
                      <a:pt x="546" y="92"/>
                    </a:lnTo>
                    <a:lnTo>
                      <a:pt x="549" y="86"/>
                    </a:lnTo>
                    <a:lnTo>
                      <a:pt x="552" y="82"/>
                    </a:lnTo>
                    <a:lnTo>
                      <a:pt x="554" y="76"/>
                    </a:lnTo>
                    <a:lnTo>
                      <a:pt x="555" y="70"/>
                    </a:lnTo>
                    <a:lnTo>
                      <a:pt x="557" y="65"/>
                    </a:lnTo>
                    <a:lnTo>
                      <a:pt x="558" y="61"/>
                    </a:lnTo>
                    <a:lnTo>
                      <a:pt x="560" y="55"/>
                    </a:lnTo>
                    <a:lnTo>
                      <a:pt x="560" y="50"/>
                    </a:lnTo>
                    <a:lnTo>
                      <a:pt x="560" y="44"/>
                    </a:lnTo>
                    <a:lnTo>
                      <a:pt x="561" y="42"/>
                    </a:lnTo>
                    <a:lnTo>
                      <a:pt x="560" y="37"/>
                    </a:lnTo>
                    <a:lnTo>
                      <a:pt x="560" y="33"/>
                    </a:lnTo>
                    <a:lnTo>
                      <a:pt x="560" y="28"/>
                    </a:lnTo>
                    <a:lnTo>
                      <a:pt x="560" y="24"/>
                    </a:lnTo>
                    <a:lnTo>
                      <a:pt x="560" y="21"/>
                    </a:lnTo>
                    <a:lnTo>
                      <a:pt x="560" y="16"/>
                    </a:lnTo>
                    <a:lnTo>
                      <a:pt x="558" y="13"/>
                    </a:lnTo>
                    <a:lnTo>
                      <a:pt x="558" y="10"/>
                    </a:lnTo>
                    <a:lnTo>
                      <a:pt x="557" y="6"/>
                    </a:lnTo>
                    <a:lnTo>
                      <a:pt x="557" y="3"/>
                    </a:lnTo>
                    <a:lnTo>
                      <a:pt x="557" y="0"/>
                    </a:lnTo>
                    <a:lnTo>
                      <a:pt x="557" y="0"/>
                    </a:lnTo>
                    <a:lnTo>
                      <a:pt x="55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3560400" y="3018960"/>
                <a:ext cx="635040" cy="209160"/>
              </a:xfrm>
              <a:custGeom>
                <a:avLst/>
                <a:gdLst/>
                <a:ahLst/>
                <a:rect l="l" t="t" r="r" b="b"/>
                <a:pathLst>
                  <a:path w="799" h="264">
                    <a:moveTo>
                      <a:pt x="244" y="59"/>
                    </a:moveTo>
                    <a:lnTo>
                      <a:pt x="244" y="59"/>
                    </a:lnTo>
                    <a:lnTo>
                      <a:pt x="246" y="58"/>
                    </a:lnTo>
                    <a:lnTo>
                      <a:pt x="247" y="55"/>
                    </a:lnTo>
                    <a:lnTo>
                      <a:pt x="252" y="53"/>
                    </a:lnTo>
                    <a:lnTo>
                      <a:pt x="256" y="50"/>
                    </a:lnTo>
                    <a:lnTo>
                      <a:pt x="262" y="48"/>
                    </a:lnTo>
                    <a:lnTo>
                      <a:pt x="265" y="46"/>
                    </a:lnTo>
                    <a:lnTo>
                      <a:pt x="270" y="45"/>
                    </a:lnTo>
                    <a:lnTo>
                      <a:pt x="273" y="43"/>
                    </a:lnTo>
                    <a:lnTo>
                      <a:pt x="277" y="42"/>
                    </a:lnTo>
                    <a:lnTo>
                      <a:pt x="282" y="40"/>
                    </a:lnTo>
                    <a:lnTo>
                      <a:pt x="286" y="37"/>
                    </a:lnTo>
                    <a:lnTo>
                      <a:pt x="290" y="36"/>
                    </a:lnTo>
                    <a:lnTo>
                      <a:pt x="295" y="34"/>
                    </a:lnTo>
                    <a:lnTo>
                      <a:pt x="299" y="33"/>
                    </a:lnTo>
                    <a:lnTo>
                      <a:pt x="305" y="30"/>
                    </a:lnTo>
                    <a:lnTo>
                      <a:pt x="311" y="28"/>
                    </a:lnTo>
                    <a:lnTo>
                      <a:pt x="317" y="27"/>
                    </a:lnTo>
                    <a:lnTo>
                      <a:pt x="323" y="25"/>
                    </a:lnTo>
                    <a:lnTo>
                      <a:pt x="330" y="22"/>
                    </a:lnTo>
                    <a:lnTo>
                      <a:pt x="333" y="22"/>
                    </a:lnTo>
                    <a:lnTo>
                      <a:pt x="336" y="21"/>
                    </a:lnTo>
                    <a:lnTo>
                      <a:pt x="339" y="19"/>
                    </a:lnTo>
                    <a:lnTo>
                      <a:pt x="344" y="19"/>
                    </a:lnTo>
                    <a:lnTo>
                      <a:pt x="347" y="18"/>
                    </a:lnTo>
                    <a:lnTo>
                      <a:pt x="350" y="18"/>
                    </a:lnTo>
                    <a:lnTo>
                      <a:pt x="354" y="16"/>
                    </a:lnTo>
                    <a:lnTo>
                      <a:pt x="357" y="16"/>
                    </a:lnTo>
                    <a:lnTo>
                      <a:pt x="362" y="15"/>
                    </a:lnTo>
                    <a:lnTo>
                      <a:pt x="365" y="15"/>
                    </a:lnTo>
                    <a:lnTo>
                      <a:pt x="369" y="13"/>
                    </a:lnTo>
                    <a:lnTo>
                      <a:pt x="374" y="13"/>
                    </a:lnTo>
                    <a:lnTo>
                      <a:pt x="376" y="12"/>
                    </a:lnTo>
                    <a:lnTo>
                      <a:pt x="381" y="12"/>
                    </a:lnTo>
                    <a:lnTo>
                      <a:pt x="384" y="10"/>
                    </a:lnTo>
                    <a:lnTo>
                      <a:pt x="388" y="10"/>
                    </a:lnTo>
                    <a:lnTo>
                      <a:pt x="391" y="9"/>
                    </a:lnTo>
                    <a:lnTo>
                      <a:pt x="396" y="9"/>
                    </a:lnTo>
                    <a:lnTo>
                      <a:pt x="400" y="7"/>
                    </a:lnTo>
                    <a:lnTo>
                      <a:pt x="405" y="7"/>
                    </a:lnTo>
                    <a:lnTo>
                      <a:pt x="409" y="7"/>
                    </a:lnTo>
                    <a:lnTo>
                      <a:pt x="412" y="7"/>
                    </a:lnTo>
                    <a:lnTo>
                      <a:pt x="417" y="6"/>
                    </a:lnTo>
                    <a:lnTo>
                      <a:pt x="421" y="6"/>
                    </a:lnTo>
                    <a:lnTo>
                      <a:pt x="425" y="6"/>
                    </a:lnTo>
                    <a:lnTo>
                      <a:pt x="431" y="4"/>
                    </a:lnTo>
                    <a:lnTo>
                      <a:pt x="434" y="4"/>
                    </a:lnTo>
                    <a:lnTo>
                      <a:pt x="440" y="4"/>
                    </a:lnTo>
                    <a:lnTo>
                      <a:pt x="443" y="4"/>
                    </a:lnTo>
                    <a:lnTo>
                      <a:pt x="449" y="3"/>
                    </a:lnTo>
                    <a:lnTo>
                      <a:pt x="454" y="3"/>
                    </a:lnTo>
                    <a:lnTo>
                      <a:pt x="458" y="3"/>
                    </a:lnTo>
                    <a:lnTo>
                      <a:pt x="463" y="3"/>
                    </a:lnTo>
                    <a:lnTo>
                      <a:pt x="467" y="2"/>
                    </a:lnTo>
                    <a:lnTo>
                      <a:pt x="471" y="2"/>
                    </a:lnTo>
                    <a:lnTo>
                      <a:pt x="476" y="2"/>
                    </a:lnTo>
                    <a:lnTo>
                      <a:pt x="480" y="2"/>
                    </a:lnTo>
                    <a:lnTo>
                      <a:pt x="486" y="2"/>
                    </a:lnTo>
                    <a:lnTo>
                      <a:pt x="491" y="0"/>
                    </a:lnTo>
                    <a:lnTo>
                      <a:pt x="495" y="0"/>
                    </a:lnTo>
                    <a:lnTo>
                      <a:pt x="500" y="0"/>
                    </a:lnTo>
                    <a:lnTo>
                      <a:pt x="504" y="0"/>
                    </a:lnTo>
                    <a:lnTo>
                      <a:pt x="509" y="0"/>
                    </a:lnTo>
                    <a:lnTo>
                      <a:pt x="514" y="0"/>
                    </a:lnTo>
                    <a:lnTo>
                      <a:pt x="519" y="0"/>
                    </a:lnTo>
                    <a:lnTo>
                      <a:pt x="523" y="0"/>
                    </a:lnTo>
                    <a:lnTo>
                      <a:pt x="528" y="0"/>
                    </a:lnTo>
                    <a:lnTo>
                      <a:pt x="532" y="0"/>
                    </a:lnTo>
                    <a:lnTo>
                      <a:pt x="537" y="0"/>
                    </a:lnTo>
                    <a:lnTo>
                      <a:pt x="543" y="0"/>
                    </a:lnTo>
                    <a:lnTo>
                      <a:pt x="547" y="0"/>
                    </a:lnTo>
                    <a:lnTo>
                      <a:pt x="552" y="0"/>
                    </a:lnTo>
                    <a:lnTo>
                      <a:pt x="556" y="0"/>
                    </a:lnTo>
                    <a:lnTo>
                      <a:pt x="560" y="0"/>
                    </a:lnTo>
                    <a:lnTo>
                      <a:pt x="565" y="0"/>
                    </a:lnTo>
                    <a:lnTo>
                      <a:pt x="569" y="0"/>
                    </a:lnTo>
                    <a:lnTo>
                      <a:pt x="574" y="0"/>
                    </a:lnTo>
                    <a:lnTo>
                      <a:pt x="580" y="0"/>
                    </a:lnTo>
                    <a:lnTo>
                      <a:pt x="584" y="0"/>
                    </a:lnTo>
                    <a:lnTo>
                      <a:pt x="589" y="0"/>
                    </a:lnTo>
                    <a:lnTo>
                      <a:pt x="593" y="0"/>
                    </a:lnTo>
                    <a:lnTo>
                      <a:pt x="598" y="0"/>
                    </a:lnTo>
                    <a:lnTo>
                      <a:pt x="602" y="0"/>
                    </a:lnTo>
                    <a:lnTo>
                      <a:pt x="606" y="0"/>
                    </a:lnTo>
                    <a:lnTo>
                      <a:pt x="611" y="0"/>
                    </a:lnTo>
                    <a:lnTo>
                      <a:pt x="615" y="0"/>
                    </a:lnTo>
                    <a:lnTo>
                      <a:pt x="620" y="0"/>
                    </a:lnTo>
                    <a:lnTo>
                      <a:pt x="624" y="0"/>
                    </a:lnTo>
                    <a:lnTo>
                      <a:pt x="629" y="0"/>
                    </a:lnTo>
                    <a:lnTo>
                      <a:pt x="633" y="0"/>
                    </a:lnTo>
                    <a:lnTo>
                      <a:pt x="638" y="0"/>
                    </a:lnTo>
                    <a:lnTo>
                      <a:pt x="641" y="0"/>
                    </a:lnTo>
                    <a:lnTo>
                      <a:pt x="645" y="0"/>
                    </a:lnTo>
                    <a:lnTo>
                      <a:pt x="650" y="0"/>
                    </a:lnTo>
                    <a:lnTo>
                      <a:pt x="654" y="0"/>
                    </a:lnTo>
                    <a:lnTo>
                      <a:pt x="658" y="0"/>
                    </a:lnTo>
                    <a:lnTo>
                      <a:pt x="663" y="0"/>
                    </a:lnTo>
                    <a:lnTo>
                      <a:pt x="666" y="0"/>
                    </a:lnTo>
                    <a:lnTo>
                      <a:pt x="670" y="0"/>
                    </a:lnTo>
                    <a:lnTo>
                      <a:pt x="675" y="0"/>
                    </a:lnTo>
                    <a:lnTo>
                      <a:pt x="678" y="0"/>
                    </a:lnTo>
                    <a:lnTo>
                      <a:pt x="682" y="0"/>
                    </a:lnTo>
                    <a:lnTo>
                      <a:pt x="685" y="0"/>
                    </a:lnTo>
                    <a:lnTo>
                      <a:pt x="690" y="0"/>
                    </a:lnTo>
                    <a:lnTo>
                      <a:pt x="693" y="0"/>
                    </a:lnTo>
                    <a:lnTo>
                      <a:pt x="695" y="0"/>
                    </a:lnTo>
                    <a:lnTo>
                      <a:pt x="698" y="0"/>
                    </a:lnTo>
                    <a:lnTo>
                      <a:pt x="703" y="0"/>
                    </a:lnTo>
                    <a:lnTo>
                      <a:pt x="706" y="0"/>
                    </a:lnTo>
                    <a:lnTo>
                      <a:pt x="709" y="0"/>
                    </a:lnTo>
                    <a:lnTo>
                      <a:pt x="712" y="0"/>
                    </a:lnTo>
                    <a:lnTo>
                      <a:pt x="716" y="0"/>
                    </a:lnTo>
                    <a:lnTo>
                      <a:pt x="722" y="0"/>
                    </a:lnTo>
                    <a:lnTo>
                      <a:pt x="728" y="0"/>
                    </a:lnTo>
                    <a:lnTo>
                      <a:pt x="734" y="0"/>
                    </a:lnTo>
                    <a:lnTo>
                      <a:pt x="740" y="0"/>
                    </a:lnTo>
                    <a:lnTo>
                      <a:pt x="744" y="0"/>
                    </a:lnTo>
                    <a:lnTo>
                      <a:pt x="750" y="0"/>
                    </a:lnTo>
                    <a:lnTo>
                      <a:pt x="755" y="0"/>
                    </a:lnTo>
                    <a:lnTo>
                      <a:pt x="761" y="0"/>
                    </a:lnTo>
                    <a:lnTo>
                      <a:pt x="764" y="0"/>
                    </a:lnTo>
                    <a:lnTo>
                      <a:pt x="768" y="0"/>
                    </a:lnTo>
                    <a:lnTo>
                      <a:pt x="771" y="0"/>
                    </a:lnTo>
                    <a:lnTo>
                      <a:pt x="776" y="0"/>
                    </a:lnTo>
                    <a:lnTo>
                      <a:pt x="779" y="0"/>
                    </a:lnTo>
                    <a:lnTo>
                      <a:pt x="782" y="0"/>
                    </a:lnTo>
                    <a:lnTo>
                      <a:pt x="783" y="0"/>
                    </a:lnTo>
                    <a:lnTo>
                      <a:pt x="786" y="0"/>
                    </a:lnTo>
                    <a:lnTo>
                      <a:pt x="790" y="0"/>
                    </a:lnTo>
                    <a:lnTo>
                      <a:pt x="793" y="0"/>
                    </a:lnTo>
                    <a:lnTo>
                      <a:pt x="795" y="0"/>
                    </a:lnTo>
                    <a:lnTo>
                      <a:pt x="796" y="0"/>
                    </a:lnTo>
                    <a:lnTo>
                      <a:pt x="798" y="2"/>
                    </a:lnTo>
                    <a:lnTo>
                      <a:pt x="798" y="4"/>
                    </a:lnTo>
                    <a:lnTo>
                      <a:pt x="799" y="9"/>
                    </a:lnTo>
                    <a:lnTo>
                      <a:pt x="799" y="12"/>
                    </a:lnTo>
                    <a:lnTo>
                      <a:pt x="799" y="15"/>
                    </a:lnTo>
                    <a:lnTo>
                      <a:pt x="799" y="19"/>
                    </a:lnTo>
                    <a:lnTo>
                      <a:pt x="799" y="24"/>
                    </a:lnTo>
                    <a:lnTo>
                      <a:pt x="798" y="30"/>
                    </a:lnTo>
                    <a:lnTo>
                      <a:pt x="798" y="36"/>
                    </a:lnTo>
                    <a:lnTo>
                      <a:pt x="798" y="37"/>
                    </a:lnTo>
                    <a:lnTo>
                      <a:pt x="798" y="42"/>
                    </a:lnTo>
                    <a:lnTo>
                      <a:pt x="796" y="45"/>
                    </a:lnTo>
                    <a:lnTo>
                      <a:pt x="796" y="49"/>
                    </a:lnTo>
                    <a:lnTo>
                      <a:pt x="795" y="52"/>
                    </a:lnTo>
                    <a:lnTo>
                      <a:pt x="793" y="55"/>
                    </a:lnTo>
                    <a:lnTo>
                      <a:pt x="793" y="59"/>
                    </a:lnTo>
                    <a:lnTo>
                      <a:pt x="792" y="65"/>
                    </a:lnTo>
                    <a:lnTo>
                      <a:pt x="789" y="70"/>
                    </a:lnTo>
                    <a:lnTo>
                      <a:pt x="787" y="74"/>
                    </a:lnTo>
                    <a:lnTo>
                      <a:pt x="785" y="80"/>
                    </a:lnTo>
                    <a:lnTo>
                      <a:pt x="783" y="86"/>
                    </a:lnTo>
                    <a:lnTo>
                      <a:pt x="780" y="92"/>
                    </a:lnTo>
                    <a:lnTo>
                      <a:pt x="777" y="98"/>
                    </a:lnTo>
                    <a:lnTo>
                      <a:pt x="774" y="104"/>
                    </a:lnTo>
                    <a:lnTo>
                      <a:pt x="771" y="110"/>
                    </a:lnTo>
                    <a:lnTo>
                      <a:pt x="767" y="116"/>
                    </a:lnTo>
                    <a:lnTo>
                      <a:pt x="762" y="123"/>
                    </a:lnTo>
                    <a:lnTo>
                      <a:pt x="761" y="126"/>
                    </a:lnTo>
                    <a:lnTo>
                      <a:pt x="758" y="131"/>
                    </a:lnTo>
                    <a:lnTo>
                      <a:pt x="756" y="134"/>
                    </a:lnTo>
                    <a:lnTo>
                      <a:pt x="755" y="137"/>
                    </a:lnTo>
                    <a:lnTo>
                      <a:pt x="749" y="142"/>
                    </a:lnTo>
                    <a:lnTo>
                      <a:pt x="744" y="150"/>
                    </a:lnTo>
                    <a:lnTo>
                      <a:pt x="739" y="156"/>
                    </a:lnTo>
                    <a:lnTo>
                      <a:pt x="734" y="162"/>
                    </a:lnTo>
                    <a:lnTo>
                      <a:pt x="728" y="168"/>
                    </a:lnTo>
                    <a:lnTo>
                      <a:pt x="722" y="175"/>
                    </a:lnTo>
                    <a:lnTo>
                      <a:pt x="716" y="180"/>
                    </a:lnTo>
                    <a:lnTo>
                      <a:pt x="710" y="187"/>
                    </a:lnTo>
                    <a:lnTo>
                      <a:pt x="707" y="188"/>
                    </a:lnTo>
                    <a:lnTo>
                      <a:pt x="704" y="191"/>
                    </a:lnTo>
                    <a:lnTo>
                      <a:pt x="700" y="194"/>
                    </a:lnTo>
                    <a:lnTo>
                      <a:pt x="697" y="197"/>
                    </a:lnTo>
                    <a:lnTo>
                      <a:pt x="693" y="199"/>
                    </a:lnTo>
                    <a:lnTo>
                      <a:pt x="690" y="202"/>
                    </a:lnTo>
                    <a:lnTo>
                      <a:pt x="685" y="203"/>
                    </a:lnTo>
                    <a:lnTo>
                      <a:pt x="682" y="206"/>
                    </a:lnTo>
                    <a:lnTo>
                      <a:pt x="679" y="209"/>
                    </a:lnTo>
                    <a:lnTo>
                      <a:pt x="675" y="211"/>
                    </a:lnTo>
                    <a:lnTo>
                      <a:pt x="672" y="214"/>
                    </a:lnTo>
                    <a:lnTo>
                      <a:pt x="667" y="215"/>
                    </a:lnTo>
                    <a:lnTo>
                      <a:pt x="663" y="217"/>
                    </a:lnTo>
                    <a:lnTo>
                      <a:pt x="660" y="220"/>
                    </a:lnTo>
                    <a:lnTo>
                      <a:pt x="655" y="221"/>
                    </a:lnTo>
                    <a:lnTo>
                      <a:pt x="652" y="223"/>
                    </a:lnTo>
                    <a:lnTo>
                      <a:pt x="648" y="224"/>
                    </a:lnTo>
                    <a:lnTo>
                      <a:pt x="644" y="224"/>
                    </a:lnTo>
                    <a:lnTo>
                      <a:pt x="641" y="226"/>
                    </a:lnTo>
                    <a:lnTo>
                      <a:pt x="636" y="227"/>
                    </a:lnTo>
                    <a:lnTo>
                      <a:pt x="632" y="229"/>
                    </a:lnTo>
                    <a:lnTo>
                      <a:pt x="627" y="229"/>
                    </a:lnTo>
                    <a:lnTo>
                      <a:pt x="623" y="230"/>
                    </a:lnTo>
                    <a:lnTo>
                      <a:pt x="618" y="232"/>
                    </a:lnTo>
                    <a:lnTo>
                      <a:pt x="614" y="232"/>
                    </a:lnTo>
                    <a:lnTo>
                      <a:pt x="609" y="233"/>
                    </a:lnTo>
                    <a:lnTo>
                      <a:pt x="604" y="233"/>
                    </a:lnTo>
                    <a:lnTo>
                      <a:pt x="599" y="233"/>
                    </a:lnTo>
                    <a:lnTo>
                      <a:pt x="593" y="234"/>
                    </a:lnTo>
                    <a:lnTo>
                      <a:pt x="589" y="234"/>
                    </a:lnTo>
                    <a:lnTo>
                      <a:pt x="583" y="236"/>
                    </a:lnTo>
                    <a:lnTo>
                      <a:pt x="578" y="236"/>
                    </a:lnTo>
                    <a:lnTo>
                      <a:pt x="572" y="236"/>
                    </a:lnTo>
                    <a:lnTo>
                      <a:pt x="568" y="236"/>
                    </a:lnTo>
                    <a:lnTo>
                      <a:pt x="562" y="236"/>
                    </a:lnTo>
                    <a:lnTo>
                      <a:pt x="558" y="236"/>
                    </a:lnTo>
                    <a:lnTo>
                      <a:pt x="552" y="236"/>
                    </a:lnTo>
                    <a:lnTo>
                      <a:pt x="547" y="236"/>
                    </a:lnTo>
                    <a:lnTo>
                      <a:pt x="541" y="236"/>
                    </a:lnTo>
                    <a:lnTo>
                      <a:pt x="537" y="236"/>
                    </a:lnTo>
                    <a:lnTo>
                      <a:pt x="531" y="236"/>
                    </a:lnTo>
                    <a:lnTo>
                      <a:pt x="526" y="236"/>
                    </a:lnTo>
                    <a:lnTo>
                      <a:pt x="520" y="236"/>
                    </a:lnTo>
                    <a:lnTo>
                      <a:pt x="516" y="236"/>
                    </a:lnTo>
                    <a:lnTo>
                      <a:pt x="510" y="236"/>
                    </a:lnTo>
                    <a:lnTo>
                      <a:pt x="506" y="236"/>
                    </a:lnTo>
                    <a:lnTo>
                      <a:pt x="500" y="236"/>
                    </a:lnTo>
                    <a:lnTo>
                      <a:pt x="495" y="236"/>
                    </a:lnTo>
                    <a:lnTo>
                      <a:pt x="489" y="236"/>
                    </a:lnTo>
                    <a:lnTo>
                      <a:pt x="483" y="236"/>
                    </a:lnTo>
                    <a:lnTo>
                      <a:pt x="479" y="236"/>
                    </a:lnTo>
                    <a:lnTo>
                      <a:pt x="474" y="236"/>
                    </a:lnTo>
                    <a:lnTo>
                      <a:pt x="468" y="234"/>
                    </a:lnTo>
                    <a:lnTo>
                      <a:pt x="464" y="234"/>
                    </a:lnTo>
                    <a:lnTo>
                      <a:pt x="458" y="234"/>
                    </a:lnTo>
                    <a:lnTo>
                      <a:pt x="454" y="234"/>
                    </a:lnTo>
                    <a:lnTo>
                      <a:pt x="448" y="233"/>
                    </a:lnTo>
                    <a:lnTo>
                      <a:pt x="443" y="233"/>
                    </a:lnTo>
                    <a:lnTo>
                      <a:pt x="439" y="233"/>
                    </a:lnTo>
                    <a:lnTo>
                      <a:pt x="434" y="233"/>
                    </a:lnTo>
                    <a:lnTo>
                      <a:pt x="428" y="233"/>
                    </a:lnTo>
                    <a:lnTo>
                      <a:pt x="424" y="232"/>
                    </a:lnTo>
                    <a:lnTo>
                      <a:pt x="420" y="232"/>
                    </a:lnTo>
                    <a:lnTo>
                      <a:pt x="417" y="232"/>
                    </a:lnTo>
                    <a:lnTo>
                      <a:pt x="411" y="232"/>
                    </a:lnTo>
                    <a:lnTo>
                      <a:pt x="406" y="230"/>
                    </a:lnTo>
                    <a:lnTo>
                      <a:pt x="402" y="230"/>
                    </a:lnTo>
                    <a:lnTo>
                      <a:pt x="397" y="230"/>
                    </a:lnTo>
                    <a:lnTo>
                      <a:pt x="394" y="229"/>
                    </a:lnTo>
                    <a:lnTo>
                      <a:pt x="390" y="229"/>
                    </a:lnTo>
                    <a:lnTo>
                      <a:pt x="385" y="229"/>
                    </a:lnTo>
                    <a:lnTo>
                      <a:pt x="382" y="229"/>
                    </a:lnTo>
                    <a:lnTo>
                      <a:pt x="378" y="229"/>
                    </a:lnTo>
                    <a:lnTo>
                      <a:pt x="375" y="227"/>
                    </a:lnTo>
                    <a:lnTo>
                      <a:pt x="371" y="227"/>
                    </a:lnTo>
                    <a:lnTo>
                      <a:pt x="368" y="227"/>
                    </a:lnTo>
                    <a:lnTo>
                      <a:pt x="362" y="226"/>
                    </a:lnTo>
                    <a:lnTo>
                      <a:pt x="356" y="226"/>
                    </a:lnTo>
                    <a:lnTo>
                      <a:pt x="350" y="224"/>
                    </a:lnTo>
                    <a:lnTo>
                      <a:pt x="345" y="224"/>
                    </a:lnTo>
                    <a:lnTo>
                      <a:pt x="341" y="224"/>
                    </a:lnTo>
                    <a:lnTo>
                      <a:pt x="338" y="224"/>
                    </a:lnTo>
                    <a:lnTo>
                      <a:pt x="333" y="223"/>
                    </a:lnTo>
                    <a:lnTo>
                      <a:pt x="332" y="223"/>
                    </a:lnTo>
                    <a:lnTo>
                      <a:pt x="332" y="223"/>
                    </a:lnTo>
                    <a:lnTo>
                      <a:pt x="335" y="223"/>
                    </a:lnTo>
                    <a:lnTo>
                      <a:pt x="338" y="223"/>
                    </a:lnTo>
                    <a:lnTo>
                      <a:pt x="342" y="223"/>
                    </a:lnTo>
                    <a:lnTo>
                      <a:pt x="344" y="221"/>
                    </a:lnTo>
                    <a:lnTo>
                      <a:pt x="347" y="221"/>
                    </a:lnTo>
                    <a:lnTo>
                      <a:pt x="351" y="221"/>
                    </a:lnTo>
                    <a:lnTo>
                      <a:pt x="354" y="221"/>
                    </a:lnTo>
                    <a:lnTo>
                      <a:pt x="357" y="221"/>
                    </a:lnTo>
                    <a:lnTo>
                      <a:pt x="362" y="221"/>
                    </a:lnTo>
                    <a:lnTo>
                      <a:pt x="366" y="221"/>
                    </a:lnTo>
                    <a:lnTo>
                      <a:pt x="371" y="221"/>
                    </a:lnTo>
                    <a:lnTo>
                      <a:pt x="375" y="221"/>
                    </a:lnTo>
                    <a:lnTo>
                      <a:pt x="379" y="220"/>
                    </a:lnTo>
                    <a:lnTo>
                      <a:pt x="384" y="220"/>
                    </a:lnTo>
                    <a:lnTo>
                      <a:pt x="390" y="220"/>
                    </a:lnTo>
                    <a:lnTo>
                      <a:pt x="394" y="218"/>
                    </a:lnTo>
                    <a:lnTo>
                      <a:pt x="400" y="218"/>
                    </a:lnTo>
                    <a:lnTo>
                      <a:pt x="405" y="218"/>
                    </a:lnTo>
                    <a:lnTo>
                      <a:pt x="412" y="218"/>
                    </a:lnTo>
                    <a:lnTo>
                      <a:pt x="417" y="217"/>
                    </a:lnTo>
                    <a:lnTo>
                      <a:pt x="422" y="217"/>
                    </a:lnTo>
                    <a:lnTo>
                      <a:pt x="428" y="217"/>
                    </a:lnTo>
                    <a:lnTo>
                      <a:pt x="434" y="215"/>
                    </a:lnTo>
                    <a:lnTo>
                      <a:pt x="442" y="215"/>
                    </a:lnTo>
                    <a:lnTo>
                      <a:pt x="448" y="214"/>
                    </a:lnTo>
                    <a:lnTo>
                      <a:pt x="454" y="214"/>
                    </a:lnTo>
                    <a:lnTo>
                      <a:pt x="461" y="214"/>
                    </a:lnTo>
                    <a:lnTo>
                      <a:pt x="467" y="212"/>
                    </a:lnTo>
                    <a:lnTo>
                      <a:pt x="474" y="212"/>
                    </a:lnTo>
                    <a:lnTo>
                      <a:pt x="480" y="211"/>
                    </a:lnTo>
                    <a:lnTo>
                      <a:pt x="488" y="209"/>
                    </a:lnTo>
                    <a:lnTo>
                      <a:pt x="494" y="209"/>
                    </a:lnTo>
                    <a:lnTo>
                      <a:pt x="500" y="208"/>
                    </a:lnTo>
                    <a:lnTo>
                      <a:pt x="507" y="206"/>
                    </a:lnTo>
                    <a:lnTo>
                      <a:pt x="513" y="206"/>
                    </a:lnTo>
                    <a:lnTo>
                      <a:pt x="520" y="205"/>
                    </a:lnTo>
                    <a:lnTo>
                      <a:pt x="526" y="203"/>
                    </a:lnTo>
                    <a:lnTo>
                      <a:pt x="534" y="202"/>
                    </a:lnTo>
                    <a:lnTo>
                      <a:pt x="540" y="202"/>
                    </a:lnTo>
                    <a:lnTo>
                      <a:pt x="547" y="200"/>
                    </a:lnTo>
                    <a:lnTo>
                      <a:pt x="553" y="199"/>
                    </a:lnTo>
                    <a:lnTo>
                      <a:pt x="559" y="199"/>
                    </a:lnTo>
                    <a:lnTo>
                      <a:pt x="566" y="197"/>
                    </a:lnTo>
                    <a:lnTo>
                      <a:pt x="572" y="196"/>
                    </a:lnTo>
                    <a:lnTo>
                      <a:pt x="578" y="194"/>
                    </a:lnTo>
                    <a:lnTo>
                      <a:pt x="584" y="193"/>
                    </a:lnTo>
                    <a:lnTo>
                      <a:pt x="590" y="191"/>
                    </a:lnTo>
                    <a:lnTo>
                      <a:pt x="596" y="190"/>
                    </a:lnTo>
                    <a:lnTo>
                      <a:pt x="602" y="188"/>
                    </a:lnTo>
                    <a:lnTo>
                      <a:pt x="606" y="187"/>
                    </a:lnTo>
                    <a:lnTo>
                      <a:pt x="612" y="186"/>
                    </a:lnTo>
                    <a:lnTo>
                      <a:pt x="618" y="184"/>
                    </a:lnTo>
                    <a:lnTo>
                      <a:pt x="623" y="183"/>
                    </a:lnTo>
                    <a:lnTo>
                      <a:pt x="627" y="180"/>
                    </a:lnTo>
                    <a:lnTo>
                      <a:pt x="633" y="178"/>
                    </a:lnTo>
                    <a:lnTo>
                      <a:pt x="638" y="177"/>
                    </a:lnTo>
                    <a:lnTo>
                      <a:pt x="641" y="175"/>
                    </a:lnTo>
                    <a:lnTo>
                      <a:pt x="645" y="172"/>
                    </a:lnTo>
                    <a:lnTo>
                      <a:pt x="650" y="172"/>
                    </a:lnTo>
                    <a:lnTo>
                      <a:pt x="655" y="166"/>
                    </a:lnTo>
                    <a:lnTo>
                      <a:pt x="663" y="162"/>
                    </a:lnTo>
                    <a:lnTo>
                      <a:pt x="669" y="157"/>
                    </a:lnTo>
                    <a:lnTo>
                      <a:pt x="676" y="153"/>
                    </a:lnTo>
                    <a:lnTo>
                      <a:pt x="681" y="147"/>
                    </a:lnTo>
                    <a:lnTo>
                      <a:pt x="687" y="141"/>
                    </a:lnTo>
                    <a:lnTo>
                      <a:pt x="691" y="137"/>
                    </a:lnTo>
                    <a:lnTo>
                      <a:pt x="697" y="132"/>
                    </a:lnTo>
                    <a:lnTo>
                      <a:pt x="700" y="126"/>
                    </a:lnTo>
                    <a:lnTo>
                      <a:pt x="704" y="120"/>
                    </a:lnTo>
                    <a:lnTo>
                      <a:pt x="709" y="116"/>
                    </a:lnTo>
                    <a:lnTo>
                      <a:pt x="713" y="110"/>
                    </a:lnTo>
                    <a:lnTo>
                      <a:pt x="716" y="104"/>
                    </a:lnTo>
                    <a:lnTo>
                      <a:pt x="719" y="98"/>
                    </a:lnTo>
                    <a:lnTo>
                      <a:pt x="722" y="94"/>
                    </a:lnTo>
                    <a:lnTo>
                      <a:pt x="727" y="89"/>
                    </a:lnTo>
                    <a:lnTo>
                      <a:pt x="728" y="83"/>
                    </a:lnTo>
                    <a:lnTo>
                      <a:pt x="730" y="79"/>
                    </a:lnTo>
                    <a:lnTo>
                      <a:pt x="733" y="73"/>
                    </a:lnTo>
                    <a:lnTo>
                      <a:pt x="734" y="70"/>
                    </a:lnTo>
                    <a:lnTo>
                      <a:pt x="736" y="64"/>
                    </a:lnTo>
                    <a:lnTo>
                      <a:pt x="737" y="61"/>
                    </a:lnTo>
                    <a:lnTo>
                      <a:pt x="739" y="56"/>
                    </a:lnTo>
                    <a:lnTo>
                      <a:pt x="741" y="53"/>
                    </a:lnTo>
                    <a:lnTo>
                      <a:pt x="741" y="50"/>
                    </a:lnTo>
                    <a:lnTo>
                      <a:pt x="741" y="48"/>
                    </a:lnTo>
                    <a:lnTo>
                      <a:pt x="743" y="45"/>
                    </a:lnTo>
                    <a:lnTo>
                      <a:pt x="744" y="43"/>
                    </a:lnTo>
                    <a:lnTo>
                      <a:pt x="744" y="40"/>
                    </a:lnTo>
                    <a:lnTo>
                      <a:pt x="744" y="40"/>
                    </a:lnTo>
                    <a:lnTo>
                      <a:pt x="602" y="59"/>
                    </a:lnTo>
                    <a:lnTo>
                      <a:pt x="599" y="59"/>
                    </a:lnTo>
                    <a:lnTo>
                      <a:pt x="595" y="58"/>
                    </a:lnTo>
                    <a:lnTo>
                      <a:pt x="590" y="58"/>
                    </a:lnTo>
                    <a:lnTo>
                      <a:pt x="586" y="58"/>
                    </a:lnTo>
                    <a:lnTo>
                      <a:pt x="580" y="56"/>
                    </a:lnTo>
                    <a:lnTo>
                      <a:pt x="575" y="56"/>
                    </a:lnTo>
                    <a:lnTo>
                      <a:pt x="571" y="56"/>
                    </a:lnTo>
                    <a:lnTo>
                      <a:pt x="568" y="56"/>
                    </a:lnTo>
                    <a:lnTo>
                      <a:pt x="563" y="55"/>
                    </a:lnTo>
                    <a:lnTo>
                      <a:pt x="560" y="55"/>
                    </a:lnTo>
                    <a:lnTo>
                      <a:pt x="556" y="55"/>
                    </a:lnTo>
                    <a:lnTo>
                      <a:pt x="553" y="55"/>
                    </a:lnTo>
                    <a:lnTo>
                      <a:pt x="549" y="55"/>
                    </a:lnTo>
                    <a:lnTo>
                      <a:pt x="546" y="55"/>
                    </a:lnTo>
                    <a:lnTo>
                      <a:pt x="540" y="55"/>
                    </a:lnTo>
                    <a:lnTo>
                      <a:pt x="535" y="55"/>
                    </a:lnTo>
                    <a:lnTo>
                      <a:pt x="532" y="53"/>
                    </a:lnTo>
                    <a:lnTo>
                      <a:pt x="528" y="53"/>
                    </a:lnTo>
                    <a:lnTo>
                      <a:pt x="522" y="53"/>
                    </a:lnTo>
                    <a:lnTo>
                      <a:pt x="517" y="53"/>
                    </a:lnTo>
                    <a:lnTo>
                      <a:pt x="513" y="53"/>
                    </a:lnTo>
                    <a:lnTo>
                      <a:pt x="509" y="53"/>
                    </a:lnTo>
                    <a:lnTo>
                      <a:pt x="503" y="53"/>
                    </a:lnTo>
                    <a:lnTo>
                      <a:pt x="498" y="53"/>
                    </a:lnTo>
                    <a:lnTo>
                      <a:pt x="492" y="53"/>
                    </a:lnTo>
                    <a:lnTo>
                      <a:pt x="488" y="53"/>
                    </a:lnTo>
                    <a:lnTo>
                      <a:pt x="482" y="53"/>
                    </a:lnTo>
                    <a:lnTo>
                      <a:pt x="477" y="53"/>
                    </a:lnTo>
                    <a:lnTo>
                      <a:pt x="473" y="53"/>
                    </a:lnTo>
                    <a:lnTo>
                      <a:pt x="467" y="53"/>
                    </a:lnTo>
                    <a:lnTo>
                      <a:pt x="461" y="53"/>
                    </a:lnTo>
                    <a:lnTo>
                      <a:pt x="457" y="53"/>
                    </a:lnTo>
                    <a:lnTo>
                      <a:pt x="451" y="53"/>
                    </a:lnTo>
                    <a:lnTo>
                      <a:pt x="446" y="53"/>
                    </a:lnTo>
                    <a:lnTo>
                      <a:pt x="440" y="53"/>
                    </a:lnTo>
                    <a:lnTo>
                      <a:pt x="434" y="55"/>
                    </a:lnTo>
                    <a:lnTo>
                      <a:pt x="428" y="55"/>
                    </a:lnTo>
                    <a:lnTo>
                      <a:pt x="424" y="55"/>
                    </a:lnTo>
                    <a:lnTo>
                      <a:pt x="418" y="55"/>
                    </a:lnTo>
                    <a:lnTo>
                      <a:pt x="412" y="55"/>
                    </a:lnTo>
                    <a:lnTo>
                      <a:pt x="408" y="56"/>
                    </a:lnTo>
                    <a:lnTo>
                      <a:pt x="402" y="56"/>
                    </a:lnTo>
                    <a:lnTo>
                      <a:pt x="396" y="56"/>
                    </a:lnTo>
                    <a:lnTo>
                      <a:pt x="391" y="58"/>
                    </a:lnTo>
                    <a:lnTo>
                      <a:pt x="385" y="58"/>
                    </a:lnTo>
                    <a:lnTo>
                      <a:pt x="381" y="59"/>
                    </a:lnTo>
                    <a:lnTo>
                      <a:pt x="375" y="59"/>
                    </a:lnTo>
                    <a:lnTo>
                      <a:pt x="371" y="61"/>
                    </a:lnTo>
                    <a:lnTo>
                      <a:pt x="365" y="61"/>
                    </a:lnTo>
                    <a:lnTo>
                      <a:pt x="360" y="62"/>
                    </a:lnTo>
                    <a:lnTo>
                      <a:pt x="356" y="62"/>
                    </a:lnTo>
                    <a:lnTo>
                      <a:pt x="351" y="64"/>
                    </a:lnTo>
                    <a:lnTo>
                      <a:pt x="345" y="65"/>
                    </a:lnTo>
                    <a:lnTo>
                      <a:pt x="341" y="67"/>
                    </a:lnTo>
                    <a:lnTo>
                      <a:pt x="336" y="67"/>
                    </a:lnTo>
                    <a:lnTo>
                      <a:pt x="332" y="68"/>
                    </a:lnTo>
                    <a:lnTo>
                      <a:pt x="328" y="70"/>
                    </a:lnTo>
                    <a:lnTo>
                      <a:pt x="323" y="71"/>
                    </a:lnTo>
                    <a:lnTo>
                      <a:pt x="319" y="73"/>
                    </a:lnTo>
                    <a:lnTo>
                      <a:pt x="316" y="74"/>
                    </a:lnTo>
                    <a:lnTo>
                      <a:pt x="311" y="74"/>
                    </a:lnTo>
                    <a:lnTo>
                      <a:pt x="308" y="77"/>
                    </a:lnTo>
                    <a:lnTo>
                      <a:pt x="304" y="79"/>
                    </a:lnTo>
                    <a:lnTo>
                      <a:pt x="299" y="79"/>
                    </a:lnTo>
                    <a:lnTo>
                      <a:pt x="296" y="80"/>
                    </a:lnTo>
                    <a:lnTo>
                      <a:pt x="292" y="82"/>
                    </a:lnTo>
                    <a:lnTo>
                      <a:pt x="284" y="86"/>
                    </a:lnTo>
                    <a:lnTo>
                      <a:pt x="279" y="89"/>
                    </a:lnTo>
                    <a:lnTo>
                      <a:pt x="276" y="92"/>
                    </a:lnTo>
                    <a:lnTo>
                      <a:pt x="271" y="94"/>
                    </a:lnTo>
                    <a:lnTo>
                      <a:pt x="268" y="95"/>
                    </a:lnTo>
                    <a:lnTo>
                      <a:pt x="265" y="96"/>
                    </a:lnTo>
                    <a:lnTo>
                      <a:pt x="259" y="101"/>
                    </a:lnTo>
                    <a:lnTo>
                      <a:pt x="253" y="105"/>
                    </a:lnTo>
                    <a:lnTo>
                      <a:pt x="247" y="108"/>
                    </a:lnTo>
                    <a:lnTo>
                      <a:pt x="243" y="113"/>
                    </a:lnTo>
                    <a:lnTo>
                      <a:pt x="237" y="117"/>
                    </a:lnTo>
                    <a:lnTo>
                      <a:pt x="233" y="123"/>
                    </a:lnTo>
                    <a:lnTo>
                      <a:pt x="227" y="126"/>
                    </a:lnTo>
                    <a:lnTo>
                      <a:pt x="221" y="131"/>
                    </a:lnTo>
                    <a:lnTo>
                      <a:pt x="216" y="135"/>
                    </a:lnTo>
                    <a:lnTo>
                      <a:pt x="210" y="141"/>
                    </a:lnTo>
                    <a:lnTo>
                      <a:pt x="206" y="145"/>
                    </a:lnTo>
                    <a:lnTo>
                      <a:pt x="201" y="150"/>
                    </a:lnTo>
                    <a:lnTo>
                      <a:pt x="195" y="154"/>
                    </a:lnTo>
                    <a:lnTo>
                      <a:pt x="191" y="160"/>
                    </a:lnTo>
                    <a:lnTo>
                      <a:pt x="185" y="165"/>
                    </a:lnTo>
                    <a:lnTo>
                      <a:pt x="181" y="169"/>
                    </a:lnTo>
                    <a:lnTo>
                      <a:pt x="176" y="174"/>
                    </a:lnTo>
                    <a:lnTo>
                      <a:pt x="170" y="178"/>
                    </a:lnTo>
                    <a:lnTo>
                      <a:pt x="166" y="183"/>
                    </a:lnTo>
                    <a:lnTo>
                      <a:pt x="160" y="187"/>
                    </a:lnTo>
                    <a:lnTo>
                      <a:pt x="154" y="191"/>
                    </a:lnTo>
                    <a:lnTo>
                      <a:pt x="149" y="197"/>
                    </a:lnTo>
                    <a:lnTo>
                      <a:pt x="142" y="200"/>
                    </a:lnTo>
                    <a:lnTo>
                      <a:pt x="136" y="205"/>
                    </a:lnTo>
                    <a:lnTo>
                      <a:pt x="130" y="208"/>
                    </a:lnTo>
                    <a:lnTo>
                      <a:pt x="124" y="212"/>
                    </a:lnTo>
                    <a:lnTo>
                      <a:pt x="117" y="215"/>
                    </a:lnTo>
                    <a:lnTo>
                      <a:pt x="111" y="220"/>
                    </a:lnTo>
                    <a:lnTo>
                      <a:pt x="105" y="223"/>
                    </a:lnTo>
                    <a:lnTo>
                      <a:pt x="99" y="227"/>
                    </a:lnTo>
                    <a:lnTo>
                      <a:pt x="92" y="229"/>
                    </a:lnTo>
                    <a:lnTo>
                      <a:pt x="86" y="233"/>
                    </a:lnTo>
                    <a:lnTo>
                      <a:pt x="80" y="234"/>
                    </a:lnTo>
                    <a:lnTo>
                      <a:pt x="72" y="237"/>
                    </a:lnTo>
                    <a:lnTo>
                      <a:pt x="66" y="240"/>
                    </a:lnTo>
                    <a:lnTo>
                      <a:pt x="62" y="243"/>
                    </a:lnTo>
                    <a:lnTo>
                      <a:pt x="56" y="245"/>
                    </a:lnTo>
                    <a:lnTo>
                      <a:pt x="50" y="248"/>
                    </a:lnTo>
                    <a:lnTo>
                      <a:pt x="44" y="249"/>
                    </a:lnTo>
                    <a:lnTo>
                      <a:pt x="40" y="251"/>
                    </a:lnTo>
                    <a:lnTo>
                      <a:pt x="34" y="254"/>
                    </a:lnTo>
                    <a:lnTo>
                      <a:pt x="29" y="255"/>
                    </a:lnTo>
                    <a:lnTo>
                      <a:pt x="25" y="257"/>
                    </a:lnTo>
                    <a:lnTo>
                      <a:pt x="20" y="258"/>
                    </a:lnTo>
                    <a:lnTo>
                      <a:pt x="17" y="258"/>
                    </a:lnTo>
                    <a:lnTo>
                      <a:pt x="13" y="261"/>
                    </a:lnTo>
                    <a:lnTo>
                      <a:pt x="10" y="261"/>
                    </a:lnTo>
                    <a:lnTo>
                      <a:pt x="7" y="263"/>
                    </a:lnTo>
                    <a:lnTo>
                      <a:pt x="4" y="263"/>
                    </a:lnTo>
                    <a:lnTo>
                      <a:pt x="3" y="264"/>
                    </a:lnTo>
                    <a:lnTo>
                      <a:pt x="0" y="264"/>
                    </a:lnTo>
                    <a:lnTo>
                      <a:pt x="244" y="59"/>
                    </a:lnTo>
                    <a:lnTo>
                      <a:pt x="244" y="59"/>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489120" y="3192120"/>
                <a:ext cx="382680" cy="342360"/>
              </a:xfrm>
              <a:custGeom>
                <a:avLst/>
                <a:gdLst/>
                <a:ahLst/>
                <a:rect l="l" t="t" r="r" b="b"/>
                <a:pathLst>
                  <a:path w="484" h="431">
                    <a:moveTo>
                      <a:pt x="444" y="7"/>
                    </a:moveTo>
                    <a:lnTo>
                      <a:pt x="442" y="9"/>
                    </a:lnTo>
                    <a:lnTo>
                      <a:pt x="441" y="13"/>
                    </a:lnTo>
                    <a:lnTo>
                      <a:pt x="439" y="14"/>
                    </a:lnTo>
                    <a:lnTo>
                      <a:pt x="436" y="19"/>
                    </a:lnTo>
                    <a:lnTo>
                      <a:pt x="435" y="23"/>
                    </a:lnTo>
                    <a:lnTo>
                      <a:pt x="433" y="29"/>
                    </a:lnTo>
                    <a:lnTo>
                      <a:pt x="430" y="34"/>
                    </a:lnTo>
                    <a:lnTo>
                      <a:pt x="427" y="40"/>
                    </a:lnTo>
                    <a:lnTo>
                      <a:pt x="424" y="43"/>
                    </a:lnTo>
                    <a:lnTo>
                      <a:pt x="423" y="47"/>
                    </a:lnTo>
                    <a:lnTo>
                      <a:pt x="421" y="50"/>
                    </a:lnTo>
                    <a:lnTo>
                      <a:pt x="420" y="55"/>
                    </a:lnTo>
                    <a:lnTo>
                      <a:pt x="417" y="58"/>
                    </a:lnTo>
                    <a:lnTo>
                      <a:pt x="416" y="62"/>
                    </a:lnTo>
                    <a:lnTo>
                      <a:pt x="414" y="65"/>
                    </a:lnTo>
                    <a:lnTo>
                      <a:pt x="411" y="69"/>
                    </a:lnTo>
                    <a:lnTo>
                      <a:pt x="410" y="74"/>
                    </a:lnTo>
                    <a:lnTo>
                      <a:pt x="407" y="78"/>
                    </a:lnTo>
                    <a:lnTo>
                      <a:pt x="404" y="83"/>
                    </a:lnTo>
                    <a:lnTo>
                      <a:pt x="402" y="89"/>
                    </a:lnTo>
                    <a:lnTo>
                      <a:pt x="399" y="92"/>
                    </a:lnTo>
                    <a:lnTo>
                      <a:pt x="396" y="96"/>
                    </a:lnTo>
                    <a:lnTo>
                      <a:pt x="393" y="101"/>
                    </a:lnTo>
                    <a:lnTo>
                      <a:pt x="390" y="106"/>
                    </a:lnTo>
                    <a:lnTo>
                      <a:pt x="387" y="111"/>
                    </a:lnTo>
                    <a:lnTo>
                      <a:pt x="384" y="115"/>
                    </a:lnTo>
                    <a:lnTo>
                      <a:pt x="380" y="120"/>
                    </a:lnTo>
                    <a:lnTo>
                      <a:pt x="378" y="126"/>
                    </a:lnTo>
                    <a:lnTo>
                      <a:pt x="374" y="129"/>
                    </a:lnTo>
                    <a:lnTo>
                      <a:pt x="371" y="135"/>
                    </a:lnTo>
                    <a:lnTo>
                      <a:pt x="368" y="139"/>
                    </a:lnTo>
                    <a:lnTo>
                      <a:pt x="365" y="145"/>
                    </a:lnTo>
                    <a:lnTo>
                      <a:pt x="361" y="150"/>
                    </a:lnTo>
                    <a:lnTo>
                      <a:pt x="358" y="155"/>
                    </a:lnTo>
                    <a:lnTo>
                      <a:pt x="353" y="160"/>
                    </a:lnTo>
                    <a:lnTo>
                      <a:pt x="350" y="166"/>
                    </a:lnTo>
                    <a:lnTo>
                      <a:pt x="346" y="170"/>
                    </a:lnTo>
                    <a:lnTo>
                      <a:pt x="341" y="176"/>
                    </a:lnTo>
                    <a:lnTo>
                      <a:pt x="337" y="181"/>
                    </a:lnTo>
                    <a:lnTo>
                      <a:pt x="332" y="187"/>
                    </a:lnTo>
                    <a:lnTo>
                      <a:pt x="328" y="191"/>
                    </a:lnTo>
                    <a:lnTo>
                      <a:pt x="324" y="197"/>
                    </a:lnTo>
                    <a:lnTo>
                      <a:pt x="321" y="201"/>
                    </a:lnTo>
                    <a:lnTo>
                      <a:pt x="316" y="207"/>
                    </a:lnTo>
                    <a:lnTo>
                      <a:pt x="312" y="212"/>
                    </a:lnTo>
                    <a:lnTo>
                      <a:pt x="306" y="218"/>
                    </a:lnTo>
                    <a:lnTo>
                      <a:pt x="301" y="222"/>
                    </a:lnTo>
                    <a:lnTo>
                      <a:pt x="297" y="228"/>
                    </a:lnTo>
                    <a:lnTo>
                      <a:pt x="291" y="233"/>
                    </a:lnTo>
                    <a:lnTo>
                      <a:pt x="286" y="239"/>
                    </a:lnTo>
                    <a:lnTo>
                      <a:pt x="282" y="243"/>
                    </a:lnTo>
                    <a:lnTo>
                      <a:pt x="278" y="249"/>
                    </a:lnTo>
                    <a:lnTo>
                      <a:pt x="272" y="253"/>
                    </a:lnTo>
                    <a:lnTo>
                      <a:pt x="266" y="258"/>
                    </a:lnTo>
                    <a:lnTo>
                      <a:pt x="260" y="262"/>
                    </a:lnTo>
                    <a:lnTo>
                      <a:pt x="255" y="268"/>
                    </a:lnTo>
                    <a:lnTo>
                      <a:pt x="249" y="273"/>
                    </a:lnTo>
                    <a:lnTo>
                      <a:pt x="243" y="277"/>
                    </a:lnTo>
                    <a:lnTo>
                      <a:pt x="237" y="282"/>
                    </a:lnTo>
                    <a:lnTo>
                      <a:pt x="233" y="288"/>
                    </a:lnTo>
                    <a:lnTo>
                      <a:pt x="227" y="290"/>
                    </a:lnTo>
                    <a:lnTo>
                      <a:pt x="221" y="295"/>
                    </a:lnTo>
                    <a:lnTo>
                      <a:pt x="215" y="299"/>
                    </a:lnTo>
                    <a:lnTo>
                      <a:pt x="209" y="305"/>
                    </a:lnTo>
                    <a:lnTo>
                      <a:pt x="203" y="308"/>
                    </a:lnTo>
                    <a:lnTo>
                      <a:pt x="197" y="314"/>
                    </a:lnTo>
                    <a:lnTo>
                      <a:pt x="191" y="317"/>
                    </a:lnTo>
                    <a:lnTo>
                      <a:pt x="186" y="322"/>
                    </a:lnTo>
                    <a:lnTo>
                      <a:pt x="180" y="326"/>
                    </a:lnTo>
                    <a:lnTo>
                      <a:pt x="174" y="329"/>
                    </a:lnTo>
                    <a:lnTo>
                      <a:pt x="168" y="334"/>
                    </a:lnTo>
                    <a:lnTo>
                      <a:pt x="162" y="338"/>
                    </a:lnTo>
                    <a:lnTo>
                      <a:pt x="156" y="341"/>
                    </a:lnTo>
                    <a:lnTo>
                      <a:pt x="150" y="345"/>
                    </a:lnTo>
                    <a:lnTo>
                      <a:pt x="145" y="348"/>
                    </a:lnTo>
                    <a:lnTo>
                      <a:pt x="140" y="353"/>
                    </a:lnTo>
                    <a:lnTo>
                      <a:pt x="134" y="356"/>
                    </a:lnTo>
                    <a:lnTo>
                      <a:pt x="128" y="360"/>
                    </a:lnTo>
                    <a:lnTo>
                      <a:pt x="123" y="363"/>
                    </a:lnTo>
                    <a:lnTo>
                      <a:pt x="117" y="366"/>
                    </a:lnTo>
                    <a:lnTo>
                      <a:pt x="111" y="371"/>
                    </a:lnTo>
                    <a:lnTo>
                      <a:pt x="107" y="374"/>
                    </a:lnTo>
                    <a:lnTo>
                      <a:pt x="101" y="377"/>
                    </a:lnTo>
                    <a:lnTo>
                      <a:pt x="97" y="381"/>
                    </a:lnTo>
                    <a:lnTo>
                      <a:pt x="91" y="382"/>
                    </a:lnTo>
                    <a:lnTo>
                      <a:pt x="85" y="385"/>
                    </a:lnTo>
                    <a:lnTo>
                      <a:pt x="80" y="388"/>
                    </a:lnTo>
                    <a:lnTo>
                      <a:pt x="76" y="391"/>
                    </a:lnTo>
                    <a:lnTo>
                      <a:pt x="70" y="394"/>
                    </a:lnTo>
                    <a:lnTo>
                      <a:pt x="67" y="396"/>
                    </a:lnTo>
                    <a:lnTo>
                      <a:pt x="61" y="399"/>
                    </a:lnTo>
                    <a:lnTo>
                      <a:pt x="58" y="402"/>
                    </a:lnTo>
                    <a:lnTo>
                      <a:pt x="52" y="405"/>
                    </a:lnTo>
                    <a:lnTo>
                      <a:pt x="48" y="406"/>
                    </a:lnTo>
                    <a:lnTo>
                      <a:pt x="45" y="408"/>
                    </a:lnTo>
                    <a:lnTo>
                      <a:pt x="40" y="411"/>
                    </a:lnTo>
                    <a:lnTo>
                      <a:pt x="37" y="412"/>
                    </a:lnTo>
                    <a:lnTo>
                      <a:pt x="33" y="415"/>
                    </a:lnTo>
                    <a:lnTo>
                      <a:pt x="30" y="417"/>
                    </a:lnTo>
                    <a:lnTo>
                      <a:pt x="27" y="418"/>
                    </a:lnTo>
                    <a:lnTo>
                      <a:pt x="21" y="421"/>
                    </a:lnTo>
                    <a:lnTo>
                      <a:pt x="15" y="424"/>
                    </a:lnTo>
                    <a:lnTo>
                      <a:pt x="10" y="427"/>
                    </a:lnTo>
                    <a:lnTo>
                      <a:pt x="7" y="428"/>
                    </a:lnTo>
                    <a:lnTo>
                      <a:pt x="2" y="431"/>
                    </a:lnTo>
                    <a:lnTo>
                      <a:pt x="0" y="431"/>
                    </a:lnTo>
                    <a:lnTo>
                      <a:pt x="2" y="431"/>
                    </a:lnTo>
                    <a:lnTo>
                      <a:pt x="3" y="431"/>
                    </a:lnTo>
                    <a:lnTo>
                      <a:pt x="7" y="430"/>
                    </a:lnTo>
                    <a:lnTo>
                      <a:pt x="10" y="430"/>
                    </a:lnTo>
                    <a:lnTo>
                      <a:pt x="16" y="428"/>
                    </a:lnTo>
                    <a:lnTo>
                      <a:pt x="19" y="428"/>
                    </a:lnTo>
                    <a:lnTo>
                      <a:pt x="22" y="427"/>
                    </a:lnTo>
                    <a:lnTo>
                      <a:pt x="25" y="427"/>
                    </a:lnTo>
                    <a:lnTo>
                      <a:pt x="30" y="427"/>
                    </a:lnTo>
                    <a:lnTo>
                      <a:pt x="33" y="426"/>
                    </a:lnTo>
                    <a:lnTo>
                      <a:pt x="37" y="426"/>
                    </a:lnTo>
                    <a:lnTo>
                      <a:pt x="40" y="424"/>
                    </a:lnTo>
                    <a:lnTo>
                      <a:pt x="45" y="423"/>
                    </a:lnTo>
                    <a:lnTo>
                      <a:pt x="49" y="423"/>
                    </a:lnTo>
                    <a:lnTo>
                      <a:pt x="53" y="421"/>
                    </a:lnTo>
                    <a:lnTo>
                      <a:pt x="58" y="420"/>
                    </a:lnTo>
                    <a:lnTo>
                      <a:pt x="62" y="420"/>
                    </a:lnTo>
                    <a:lnTo>
                      <a:pt x="67" y="417"/>
                    </a:lnTo>
                    <a:lnTo>
                      <a:pt x="73" y="415"/>
                    </a:lnTo>
                    <a:lnTo>
                      <a:pt x="77" y="415"/>
                    </a:lnTo>
                    <a:lnTo>
                      <a:pt x="83" y="414"/>
                    </a:lnTo>
                    <a:lnTo>
                      <a:pt x="89" y="412"/>
                    </a:lnTo>
                    <a:lnTo>
                      <a:pt x="94" y="411"/>
                    </a:lnTo>
                    <a:lnTo>
                      <a:pt x="99" y="409"/>
                    </a:lnTo>
                    <a:lnTo>
                      <a:pt x="105" y="408"/>
                    </a:lnTo>
                    <a:lnTo>
                      <a:pt x="111" y="405"/>
                    </a:lnTo>
                    <a:lnTo>
                      <a:pt x="117" y="403"/>
                    </a:lnTo>
                    <a:lnTo>
                      <a:pt x="123" y="402"/>
                    </a:lnTo>
                    <a:lnTo>
                      <a:pt x="129" y="400"/>
                    </a:lnTo>
                    <a:lnTo>
                      <a:pt x="134" y="397"/>
                    </a:lnTo>
                    <a:lnTo>
                      <a:pt x="141" y="396"/>
                    </a:lnTo>
                    <a:lnTo>
                      <a:pt x="147" y="393"/>
                    </a:lnTo>
                    <a:lnTo>
                      <a:pt x="153" y="391"/>
                    </a:lnTo>
                    <a:lnTo>
                      <a:pt x="159" y="388"/>
                    </a:lnTo>
                    <a:lnTo>
                      <a:pt x="166" y="385"/>
                    </a:lnTo>
                    <a:lnTo>
                      <a:pt x="171" y="382"/>
                    </a:lnTo>
                    <a:lnTo>
                      <a:pt x="178" y="380"/>
                    </a:lnTo>
                    <a:lnTo>
                      <a:pt x="184" y="377"/>
                    </a:lnTo>
                    <a:lnTo>
                      <a:pt x="191" y="374"/>
                    </a:lnTo>
                    <a:lnTo>
                      <a:pt x="197" y="371"/>
                    </a:lnTo>
                    <a:lnTo>
                      <a:pt x="205" y="369"/>
                    </a:lnTo>
                    <a:lnTo>
                      <a:pt x="209" y="365"/>
                    </a:lnTo>
                    <a:lnTo>
                      <a:pt x="217" y="362"/>
                    </a:lnTo>
                    <a:lnTo>
                      <a:pt x="223" y="357"/>
                    </a:lnTo>
                    <a:lnTo>
                      <a:pt x="229" y="354"/>
                    </a:lnTo>
                    <a:lnTo>
                      <a:pt x="235" y="351"/>
                    </a:lnTo>
                    <a:lnTo>
                      <a:pt x="242" y="347"/>
                    </a:lnTo>
                    <a:lnTo>
                      <a:pt x="248" y="344"/>
                    </a:lnTo>
                    <a:lnTo>
                      <a:pt x="254" y="339"/>
                    </a:lnTo>
                    <a:lnTo>
                      <a:pt x="260" y="335"/>
                    </a:lnTo>
                    <a:lnTo>
                      <a:pt x="266" y="331"/>
                    </a:lnTo>
                    <a:lnTo>
                      <a:pt x="272" y="326"/>
                    </a:lnTo>
                    <a:lnTo>
                      <a:pt x="279" y="322"/>
                    </a:lnTo>
                    <a:lnTo>
                      <a:pt x="283" y="317"/>
                    </a:lnTo>
                    <a:lnTo>
                      <a:pt x="291" y="313"/>
                    </a:lnTo>
                    <a:lnTo>
                      <a:pt x="297" y="308"/>
                    </a:lnTo>
                    <a:lnTo>
                      <a:pt x="303" y="304"/>
                    </a:lnTo>
                    <a:lnTo>
                      <a:pt x="307" y="298"/>
                    </a:lnTo>
                    <a:lnTo>
                      <a:pt x="313" y="292"/>
                    </a:lnTo>
                    <a:lnTo>
                      <a:pt x="318" y="288"/>
                    </a:lnTo>
                    <a:lnTo>
                      <a:pt x="324" y="282"/>
                    </a:lnTo>
                    <a:lnTo>
                      <a:pt x="328" y="276"/>
                    </a:lnTo>
                    <a:lnTo>
                      <a:pt x="334" y="270"/>
                    </a:lnTo>
                    <a:lnTo>
                      <a:pt x="338" y="264"/>
                    </a:lnTo>
                    <a:lnTo>
                      <a:pt x="344" y="259"/>
                    </a:lnTo>
                    <a:lnTo>
                      <a:pt x="349" y="253"/>
                    </a:lnTo>
                    <a:lnTo>
                      <a:pt x="353" y="246"/>
                    </a:lnTo>
                    <a:lnTo>
                      <a:pt x="358" y="240"/>
                    </a:lnTo>
                    <a:lnTo>
                      <a:pt x="364" y="234"/>
                    </a:lnTo>
                    <a:lnTo>
                      <a:pt x="368" y="228"/>
                    </a:lnTo>
                    <a:lnTo>
                      <a:pt x="373" y="222"/>
                    </a:lnTo>
                    <a:lnTo>
                      <a:pt x="375" y="215"/>
                    </a:lnTo>
                    <a:lnTo>
                      <a:pt x="381" y="210"/>
                    </a:lnTo>
                    <a:lnTo>
                      <a:pt x="384" y="203"/>
                    </a:lnTo>
                    <a:lnTo>
                      <a:pt x="389" y="197"/>
                    </a:lnTo>
                    <a:lnTo>
                      <a:pt x="393" y="190"/>
                    </a:lnTo>
                    <a:lnTo>
                      <a:pt x="398" y="185"/>
                    </a:lnTo>
                    <a:lnTo>
                      <a:pt x="401" y="178"/>
                    </a:lnTo>
                    <a:lnTo>
                      <a:pt x="405" y="172"/>
                    </a:lnTo>
                    <a:lnTo>
                      <a:pt x="408" y="164"/>
                    </a:lnTo>
                    <a:lnTo>
                      <a:pt x="413" y="158"/>
                    </a:lnTo>
                    <a:lnTo>
                      <a:pt x="416" y="152"/>
                    </a:lnTo>
                    <a:lnTo>
                      <a:pt x="419" y="147"/>
                    </a:lnTo>
                    <a:lnTo>
                      <a:pt x="421" y="141"/>
                    </a:lnTo>
                    <a:lnTo>
                      <a:pt x="424" y="135"/>
                    </a:lnTo>
                    <a:lnTo>
                      <a:pt x="429" y="129"/>
                    </a:lnTo>
                    <a:lnTo>
                      <a:pt x="432" y="121"/>
                    </a:lnTo>
                    <a:lnTo>
                      <a:pt x="435" y="117"/>
                    </a:lnTo>
                    <a:lnTo>
                      <a:pt x="438" y="111"/>
                    </a:lnTo>
                    <a:lnTo>
                      <a:pt x="441" y="105"/>
                    </a:lnTo>
                    <a:lnTo>
                      <a:pt x="444" y="99"/>
                    </a:lnTo>
                    <a:lnTo>
                      <a:pt x="445" y="93"/>
                    </a:lnTo>
                    <a:lnTo>
                      <a:pt x="448" y="87"/>
                    </a:lnTo>
                    <a:lnTo>
                      <a:pt x="451" y="81"/>
                    </a:lnTo>
                    <a:lnTo>
                      <a:pt x="453" y="77"/>
                    </a:lnTo>
                    <a:lnTo>
                      <a:pt x="456" y="71"/>
                    </a:lnTo>
                    <a:lnTo>
                      <a:pt x="459" y="66"/>
                    </a:lnTo>
                    <a:lnTo>
                      <a:pt x="460" y="60"/>
                    </a:lnTo>
                    <a:lnTo>
                      <a:pt x="462" y="56"/>
                    </a:lnTo>
                    <a:lnTo>
                      <a:pt x="463" y="52"/>
                    </a:lnTo>
                    <a:lnTo>
                      <a:pt x="466" y="47"/>
                    </a:lnTo>
                    <a:lnTo>
                      <a:pt x="466" y="43"/>
                    </a:lnTo>
                    <a:lnTo>
                      <a:pt x="469" y="38"/>
                    </a:lnTo>
                    <a:lnTo>
                      <a:pt x="470" y="35"/>
                    </a:lnTo>
                    <a:lnTo>
                      <a:pt x="472" y="31"/>
                    </a:lnTo>
                    <a:lnTo>
                      <a:pt x="473" y="28"/>
                    </a:lnTo>
                    <a:lnTo>
                      <a:pt x="473" y="23"/>
                    </a:lnTo>
                    <a:lnTo>
                      <a:pt x="475" y="20"/>
                    </a:lnTo>
                    <a:lnTo>
                      <a:pt x="476" y="17"/>
                    </a:lnTo>
                    <a:lnTo>
                      <a:pt x="478" y="12"/>
                    </a:lnTo>
                    <a:lnTo>
                      <a:pt x="481" y="7"/>
                    </a:lnTo>
                    <a:lnTo>
                      <a:pt x="481" y="3"/>
                    </a:lnTo>
                    <a:lnTo>
                      <a:pt x="482" y="1"/>
                    </a:lnTo>
                    <a:lnTo>
                      <a:pt x="484" y="0"/>
                    </a:lnTo>
                    <a:lnTo>
                      <a:pt x="444" y="7"/>
                    </a:lnTo>
                    <a:lnTo>
                      <a:pt x="444" y="7"/>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757320" y="3114360"/>
                <a:ext cx="397080" cy="329760"/>
              </a:xfrm>
              <a:custGeom>
                <a:avLst/>
                <a:gdLst/>
                <a:ahLst/>
                <a:rect l="l" t="t" r="r" b="b"/>
                <a:pathLst>
                  <a:path w="500" h="417">
                    <a:moveTo>
                      <a:pt x="465" y="14"/>
                    </a:moveTo>
                    <a:lnTo>
                      <a:pt x="465" y="14"/>
                    </a:lnTo>
                    <a:lnTo>
                      <a:pt x="465" y="17"/>
                    </a:lnTo>
                    <a:lnTo>
                      <a:pt x="465" y="20"/>
                    </a:lnTo>
                    <a:lnTo>
                      <a:pt x="466" y="25"/>
                    </a:lnTo>
                    <a:lnTo>
                      <a:pt x="465" y="30"/>
                    </a:lnTo>
                    <a:lnTo>
                      <a:pt x="465" y="33"/>
                    </a:lnTo>
                    <a:lnTo>
                      <a:pt x="465" y="37"/>
                    </a:lnTo>
                    <a:lnTo>
                      <a:pt x="465" y="42"/>
                    </a:lnTo>
                    <a:lnTo>
                      <a:pt x="465" y="46"/>
                    </a:lnTo>
                    <a:lnTo>
                      <a:pt x="465" y="52"/>
                    </a:lnTo>
                    <a:lnTo>
                      <a:pt x="465" y="58"/>
                    </a:lnTo>
                    <a:lnTo>
                      <a:pt x="463" y="64"/>
                    </a:lnTo>
                    <a:lnTo>
                      <a:pt x="462" y="70"/>
                    </a:lnTo>
                    <a:lnTo>
                      <a:pt x="460" y="76"/>
                    </a:lnTo>
                    <a:lnTo>
                      <a:pt x="459" y="82"/>
                    </a:lnTo>
                    <a:lnTo>
                      <a:pt x="457" y="89"/>
                    </a:lnTo>
                    <a:lnTo>
                      <a:pt x="456" y="92"/>
                    </a:lnTo>
                    <a:lnTo>
                      <a:pt x="454" y="95"/>
                    </a:lnTo>
                    <a:lnTo>
                      <a:pt x="453" y="98"/>
                    </a:lnTo>
                    <a:lnTo>
                      <a:pt x="451" y="103"/>
                    </a:lnTo>
                    <a:lnTo>
                      <a:pt x="450" y="106"/>
                    </a:lnTo>
                    <a:lnTo>
                      <a:pt x="448" y="110"/>
                    </a:lnTo>
                    <a:lnTo>
                      <a:pt x="447" y="113"/>
                    </a:lnTo>
                    <a:lnTo>
                      <a:pt x="446" y="117"/>
                    </a:lnTo>
                    <a:lnTo>
                      <a:pt x="444" y="122"/>
                    </a:lnTo>
                    <a:lnTo>
                      <a:pt x="443" y="125"/>
                    </a:lnTo>
                    <a:lnTo>
                      <a:pt x="440" y="129"/>
                    </a:lnTo>
                    <a:lnTo>
                      <a:pt x="438" y="132"/>
                    </a:lnTo>
                    <a:lnTo>
                      <a:pt x="435" y="137"/>
                    </a:lnTo>
                    <a:lnTo>
                      <a:pt x="434" y="141"/>
                    </a:lnTo>
                    <a:lnTo>
                      <a:pt x="431" y="146"/>
                    </a:lnTo>
                    <a:lnTo>
                      <a:pt x="428" y="150"/>
                    </a:lnTo>
                    <a:lnTo>
                      <a:pt x="425" y="153"/>
                    </a:lnTo>
                    <a:lnTo>
                      <a:pt x="422" y="158"/>
                    </a:lnTo>
                    <a:lnTo>
                      <a:pt x="419" y="162"/>
                    </a:lnTo>
                    <a:lnTo>
                      <a:pt x="416" y="166"/>
                    </a:lnTo>
                    <a:lnTo>
                      <a:pt x="413" y="169"/>
                    </a:lnTo>
                    <a:lnTo>
                      <a:pt x="410" y="174"/>
                    </a:lnTo>
                    <a:lnTo>
                      <a:pt x="405" y="178"/>
                    </a:lnTo>
                    <a:lnTo>
                      <a:pt x="403" y="184"/>
                    </a:lnTo>
                    <a:lnTo>
                      <a:pt x="398" y="187"/>
                    </a:lnTo>
                    <a:lnTo>
                      <a:pt x="395" y="192"/>
                    </a:lnTo>
                    <a:lnTo>
                      <a:pt x="391" y="196"/>
                    </a:lnTo>
                    <a:lnTo>
                      <a:pt x="386" y="201"/>
                    </a:lnTo>
                    <a:lnTo>
                      <a:pt x="382" y="204"/>
                    </a:lnTo>
                    <a:lnTo>
                      <a:pt x="377" y="209"/>
                    </a:lnTo>
                    <a:lnTo>
                      <a:pt x="373" y="212"/>
                    </a:lnTo>
                    <a:lnTo>
                      <a:pt x="368" y="218"/>
                    </a:lnTo>
                    <a:lnTo>
                      <a:pt x="364" y="221"/>
                    </a:lnTo>
                    <a:lnTo>
                      <a:pt x="358" y="226"/>
                    </a:lnTo>
                    <a:lnTo>
                      <a:pt x="354" y="230"/>
                    </a:lnTo>
                    <a:lnTo>
                      <a:pt x="349" y="235"/>
                    </a:lnTo>
                    <a:lnTo>
                      <a:pt x="343" y="239"/>
                    </a:lnTo>
                    <a:lnTo>
                      <a:pt x="337" y="244"/>
                    </a:lnTo>
                    <a:lnTo>
                      <a:pt x="333" y="248"/>
                    </a:lnTo>
                    <a:lnTo>
                      <a:pt x="328" y="252"/>
                    </a:lnTo>
                    <a:lnTo>
                      <a:pt x="322" y="255"/>
                    </a:lnTo>
                    <a:lnTo>
                      <a:pt x="316" y="260"/>
                    </a:lnTo>
                    <a:lnTo>
                      <a:pt x="311" y="264"/>
                    </a:lnTo>
                    <a:lnTo>
                      <a:pt x="305" y="269"/>
                    </a:lnTo>
                    <a:lnTo>
                      <a:pt x="300" y="272"/>
                    </a:lnTo>
                    <a:lnTo>
                      <a:pt x="294" y="276"/>
                    </a:lnTo>
                    <a:lnTo>
                      <a:pt x="288" y="281"/>
                    </a:lnTo>
                    <a:lnTo>
                      <a:pt x="282" y="285"/>
                    </a:lnTo>
                    <a:lnTo>
                      <a:pt x="276" y="288"/>
                    </a:lnTo>
                    <a:lnTo>
                      <a:pt x="270" y="293"/>
                    </a:lnTo>
                    <a:lnTo>
                      <a:pt x="265" y="296"/>
                    </a:lnTo>
                    <a:lnTo>
                      <a:pt x="259" y="300"/>
                    </a:lnTo>
                    <a:lnTo>
                      <a:pt x="253" y="304"/>
                    </a:lnTo>
                    <a:lnTo>
                      <a:pt x="248" y="307"/>
                    </a:lnTo>
                    <a:lnTo>
                      <a:pt x="242" y="312"/>
                    </a:lnTo>
                    <a:lnTo>
                      <a:pt x="236" y="315"/>
                    </a:lnTo>
                    <a:lnTo>
                      <a:pt x="230" y="318"/>
                    </a:lnTo>
                    <a:lnTo>
                      <a:pt x="224" y="321"/>
                    </a:lnTo>
                    <a:lnTo>
                      <a:pt x="219" y="324"/>
                    </a:lnTo>
                    <a:lnTo>
                      <a:pt x="213" y="327"/>
                    </a:lnTo>
                    <a:lnTo>
                      <a:pt x="207" y="330"/>
                    </a:lnTo>
                    <a:lnTo>
                      <a:pt x="201" y="334"/>
                    </a:lnTo>
                    <a:lnTo>
                      <a:pt x="195" y="337"/>
                    </a:lnTo>
                    <a:lnTo>
                      <a:pt x="190" y="340"/>
                    </a:lnTo>
                    <a:lnTo>
                      <a:pt x="184" y="342"/>
                    </a:lnTo>
                    <a:lnTo>
                      <a:pt x="178" y="344"/>
                    </a:lnTo>
                    <a:lnTo>
                      <a:pt x="173" y="347"/>
                    </a:lnTo>
                    <a:lnTo>
                      <a:pt x="168" y="350"/>
                    </a:lnTo>
                    <a:lnTo>
                      <a:pt x="162" y="352"/>
                    </a:lnTo>
                    <a:lnTo>
                      <a:pt x="156" y="355"/>
                    </a:lnTo>
                    <a:lnTo>
                      <a:pt x="152" y="356"/>
                    </a:lnTo>
                    <a:lnTo>
                      <a:pt x="147" y="359"/>
                    </a:lnTo>
                    <a:lnTo>
                      <a:pt x="141" y="361"/>
                    </a:lnTo>
                    <a:lnTo>
                      <a:pt x="137" y="362"/>
                    </a:lnTo>
                    <a:lnTo>
                      <a:pt x="131" y="364"/>
                    </a:lnTo>
                    <a:lnTo>
                      <a:pt x="128" y="367"/>
                    </a:lnTo>
                    <a:lnTo>
                      <a:pt x="122" y="368"/>
                    </a:lnTo>
                    <a:lnTo>
                      <a:pt x="118" y="368"/>
                    </a:lnTo>
                    <a:lnTo>
                      <a:pt x="113" y="370"/>
                    </a:lnTo>
                    <a:lnTo>
                      <a:pt x="109" y="371"/>
                    </a:lnTo>
                    <a:lnTo>
                      <a:pt x="106" y="373"/>
                    </a:lnTo>
                    <a:lnTo>
                      <a:pt x="101" y="373"/>
                    </a:lnTo>
                    <a:lnTo>
                      <a:pt x="97" y="373"/>
                    </a:lnTo>
                    <a:lnTo>
                      <a:pt x="94" y="374"/>
                    </a:lnTo>
                    <a:lnTo>
                      <a:pt x="89" y="376"/>
                    </a:lnTo>
                    <a:lnTo>
                      <a:pt x="86" y="376"/>
                    </a:lnTo>
                    <a:lnTo>
                      <a:pt x="83" y="376"/>
                    </a:lnTo>
                    <a:lnTo>
                      <a:pt x="81" y="376"/>
                    </a:lnTo>
                    <a:lnTo>
                      <a:pt x="73" y="376"/>
                    </a:lnTo>
                    <a:lnTo>
                      <a:pt x="69" y="374"/>
                    </a:lnTo>
                    <a:lnTo>
                      <a:pt x="64" y="373"/>
                    </a:lnTo>
                    <a:lnTo>
                      <a:pt x="60" y="371"/>
                    </a:lnTo>
                    <a:lnTo>
                      <a:pt x="57" y="368"/>
                    </a:lnTo>
                    <a:lnTo>
                      <a:pt x="52" y="364"/>
                    </a:lnTo>
                    <a:lnTo>
                      <a:pt x="51" y="361"/>
                    </a:lnTo>
                    <a:lnTo>
                      <a:pt x="49" y="358"/>
                    </a:lnTo>
                    <a:lnTo>
                      <a:pt x="46" y="353"/>
                    </a:lnTo>
                    <a:lnTo>
                      <a:pt x="45" y="349"/>
                    </a:lnTo>
                    <a:lnTo>
                      <a:pt x="45" y="344"/>
                    </a:lnTo>
                    <a:lnTo>
                      <a:pt x="45" y="340"/>
                    </a:lnTo>
                    <a:lnTo>
                      <a:pt x="45" y="336"/>
                    </a:lnTo>
                    <a:lnTo>
                      <a:pt x="45" y="330"/>
                    </a:lnTo>
                    <a:lnTo>
                      <a:pt x="45" y="325"/>
                    </a:lnTo>
                    <a:lnTo>
                      <a:pt x="45" y="321"/>
                    </a:lnTo>
                    <a:lnTo>
                      <a:pt x="45" y="315"/>
                    </a:lnTo>
                    <a:lnTo>
                      <a:pt x="46" y="310"/>
                    </a:lnTo>
                    <a:lnTo>
                      <a:pt x="48" y="306"/>
                    </a:lnTo>
                    <a:lnTo>
                      <a:pt x="49" y="301"/>
                    </a:lnTo>
                    <a:lnTo>
                      <a:pt x="51" y="297"/>
                    </a:lnTo>
                    <a:lnTo>
                      <a:pt x="52" y="293"/>
                    </a:lnTo>
                    <a:lnTo>
                      <a:pt x="52" y="288"/>
                    </a:lnTo>
                    <a:lnTo>
                      <a:pt x="55" y="284"/>
                    </a:lnTo>
                    <a:lnTo>
                      <a:pt x="55" y="281"/>
                    </a:lnTo>
                    <a:lnTo>
                      <a:pt x="57" y="278"/>
                    </a:lnTo>
                    <a:lnTo>
                      <a:pt x="58" y="275"/>
                    </a:lnTo>
                    <a:lnTo>
                      <a:pt x="60" y="272"/>
                    </a:lnTo>
                    <a:lnTo>
                      <a:pt x="61" y="269"/>
                    </a:lnTo>
                    <a:lnTo>
                      <a:pt x="12" y="303"/>
                    </a:lnTo>
                    <a:lnTo>
                      <a:pt x="12" y="304"/>
                    </a:lnTo>
                    <a:lnTo>
                      <a:pt x="11" y="306"/>
                    </a:lnTo>
                    <a:lnTo>
                      <a:pt x="9" y="310"/>
                    </a:lnTo>
                    <a:lnTo>
                      <a:pt x="8" y="316"/>
                    </a:lnTo>
                    <a:lnTo>
                      <a:pt x="6" y="319"/>
                    </a:lnTo>
                    <a:lnTo>
                      <a:pt x="6" y="322"/>
                    </a:lnTo>
                    <a:lnTo>
                      <a:pt x="5" y="327"/>
                    </a:lnTo>
                    <a:lnTo>
                      <a:pt x="5" y="330"/>
                    </a:lnTo>
                    <a:lnTo>
                      <a:pt x="3" y="334"/>
                    </a:lnTo>
                    <a:lnTo>
                      <a:pt x="3" y="339"/>
                    </a:lnTo>
                    <a:lnTo>
                      <a:pt x="2" y="342"/>
                    </a:lnTo>
                    <a:lnTo>
                      <a:pt x="2" y="347"/>
                    </a:lnTo>
                    <a:lnTo>
                      <a:pt x="0" y="350"/>
                    </a:lnTo>
                    <a:lnTo>
                      <a:pt x="0" y="356"/>
                    </a:lnTo>
                    <a:lnTo>
                      <a:pt x="0" y="359"/>
                    </a:lnTo>
                    <a:lnTo>
                      <a:pt x="0" y="364"/>
                    </a:lnTo>
                    <a:lnTo>
                      <a:pt x="0" y="368"/>
                    </a:lnTo>
                    <a:lnTo>
                      <a:pt x="0" y="373"/>
                    </a:lnTo>
                    <a:lnTo>
                      <a:pt x="0" y="377"/>
                    </a:lnTo>
                    <a:lnTo>
                      <a:pt x="0" y="383"/>
                    </a:lnTo>
                    <a:lnTo>
                      <a:pt x="0" y="386"/>
                    </a:lnTo>
                    <a:lnTo>
                      <a:pt x="2" y="390"/>
                    </a:lnTo>
                    <a:lnTo>
                      <a:pt x="2" y="393"/>
                    </a:lnTo>
                    <a:lnTo>
                      <a:pt x="5" y="398"/>
                    </a:lnTo>
                    <a:lnTo>
                      <a:pt x="8" y="404"/>
                    </a:lnTo>
                    <a:lnTo>
                      <a:pt x="12" y="410"/>
                    </a:lnTo>
                    <a:lnTo>
                      <a:pt x="17" y="413"/>
                    </a:lnTo>
                    <a:lnTo>
                      <a:pt x="24" y="416"/>
                    </a:lnTo>
                    <a:lnTo>
                      <a:pt x="27" y="416"/>
                    </a:lnTo>
                    <a:lnTo>
                      <a:pt x="32" y="417"/>
                    </a:lnTo>
                    <a:lnTo>
                      <a:pt x="35" y="417"/>
                    </a:lnTo>
                    <a:lnTo>
                      <a:pt x="39" y="417"/>
                    </a:lnTo>
                    <a:lnTo>
                      <a:pt x="43" y="417"/>
                    </a:lnTo>
                    <a:lnTo>
                      <a:pt x="48" y="417"/>
                    </a:lnTo>
                    <a:lnTo>
                      <a:pt x="52" y="417"/>
                    </a:lnTo>
                    <a:lnTo>
                      <a:pt x="57" y="417"/>
                    </a:lnTo>
                    <a:lnTo>
                      <a:pt x="61" y="416"/>
                    </a:lnTo>
                    <a:lnTo>
                      <a:pt x="66" y="414"/>
                    </a:lnTo>
                    <a:lnTo>
                      <a:pt x="70" y="414"/>
                    </a:lnTo>
                    <a:lnTo>
                      <a:pt x="75" y="414"/>
                    </a:lnTo>
                    <a:lnTo>
                      <a:pt x="79" y="413"/>
                    </a:lnTo>
                    <a:lnTo>
                      <a:pt x="82" y="411"/>
                    </a:lnTo>
                    <a:lnTo>
                      <a:pt x="86" y="410"/>
                    </a:lnTo>
                    <a:lnTo>
                      <a:pt x="91" y="410"/>
                    </a:lnTo>
                    <a:lnTo>
                      <a:pt x="94" y="407"/>
                    </a:lnTo>
                    <a:lnTo>
                      <a:pt x="97" y="407"/>
                    </a:lnTo>
                    <a:lnTo>
                      <a:pt x="100" y="405"/>
                    </a:lnTo>
                    <a:lnTo>
                      <a:pt x="104" y="405"/>
                    </a:lnTo>
                    <a:lnTo>
                      <a:pt x="109" y="402"/>
                    </a:lnTo>
                    <a:lnTo>
                      <a:pt x="113" y="402"/>
                    </a:lnTo>
                    <a:lnTo>
                      <a:pt x="116" y="401"/>
                    </a:lnTo>
                    <a:lnTo>
                      <a:pt x="116" y="401"/>
                    </a:lnTo>
                    <a:lnTo>
                      <a:pt x="116" y="399"/>
                    </a:lnTo>
                    <a:lnTo>
                      <a:pt x="119" y="399"/>
                    </a:lnTo>
                    <a:lnTo>
                      <a:pt x="121" y="398"/>
                    </a:lnTo>
                    <a:lnTo>
                      <a:pt x="125" y="396"/>
                    </a:lnTo>
                    <a:lnTo>
                      <a:pt x="128" y="395"/>
                    </a:lnTo>
                    <a:lnTo>
                      <a:pt x="134" y="393"/>
                    </a:lnTo>
                    <a:lnTo>
                      <a:pt x="137" y="390"/>
                    </a:lnTo>
                    <a:lnTo>
                      <a:pt x="140" y="390"/>
                    </a:lnTo>
                    <a:lnTo>
                      <a:pt x="144" y="389"/>
                    </a:lnTo>
                    <a:lnTo>
                      <a:pt x="147" y="388"/>
                    </a:lnTo>
                    <a:lnTo>
                      <a:pt x="150" y="386"/>
                    </a:lnTo>
                    <a:lnTo>
                      <a:pt x="155" y="385"/>
                    </a:lnTo>
                    <a:lnTo>
                      <a:pt x="159" y="383"/>
                    </a:lnTo>
                    <a:lnTo>
                      <a:pt x="164" y="382"/>
                    </a:lnTo>
                    <a:lnTo>
                      <a:pt x="167" y="380"/>
                    </a:lnTo>
                    <a:lnTo>
                      <a:pt x="173" y="377"/>
                    </a:lnTo>
                    <a:lnTo>
                      <a:pt x="177" y="376"/>
                    </a:lnTo>
                    <a:lnTo>
                      <a:pt x="181" y="374"/>
                    </a:lnTo>
                    <a:lnTo>
                      <a:pt x="186" y="371"/>
                    </a:lnTo>
                    <a:lnTo>
                      <a:pt x="192" y="370"/>
                    </a:lnTo>
                    <a:lnTo>
                      <a:pt x="196" y="367"/>
                    </a:lnTo>
                    <a:lnTo>
                      <a:pt x="202" y="365"/>
                    </a:lnTo>
                    <a:lnTo>
                      <a:pt x="207" y="362"/>
                    </a:lnTo>
                    <a:lnTo>
                      <a:pt x="213" y="361"/>
                    </a:lnTo>
                    <a:lnTo>
                      <a:pt x="219" y="358"/>
                    </a:lnTo>
                    <a:lnTo>
                      <a:pt x="224" y="356"/>
                    </a:lnTo>
                    <a:lnTo>
                      <a:pt x="229" y="353"/>
                    </a:lnTo>
                    <a:lnTo>
                      <a:pt x="235" y="349"/>
                    </a:lnTo>
                    <a:lnTo>
                      <a:pt x="241" y="346"/>
                    </a:lnTo>
                    <a:lnTo>
                      <a:pt x="247" y="344"/>
                    </a:lnTo>
                    <a:lnTo>
                      <a:pt x="251" y="342"/>
                    </a:lnTo>
                    <a:lnTo>
                      <a:pt x="259" y="339"/>
                    </a:lnTo>
                    <a:lnTo>
                      <a:pt x="263" y="336"/>
                    </a:lnTo>
                    <a:lnTo>
                      <a:pt x="270" y="333"/>
                    </a:lnTo>
                    <a:lnTo>
                      <a:pt x="275" y="330"/>
                    </a:lnTo>
                    <a:lnTo>
                      <a:pt x="281" y="327"/>
                    </a:lnTo>
                    <a:lnTo>
                      <a:pt x="287" y="322"/>
                    </a:lnTo>
                    <a:lnTo>
                      <a:pt x="293" y="319"/>
                    </a:lnTo>
                    <a:lnTo>
                      <a:pt x="299" y="316"/>
                    </a:lnTo>
                    <a:lnTo>
                      <a:pt x="305" y="313"/>
                    </a:lnTo>
                    <a:lnTo>
                      <a:pt x="312" y="310"/>
                    </a:lnTo>
                    <a:lnTo>
                      <a:pt x="318" y="307"/>
                    </a:lnTo>
                    <a:lnTo>
                      <a:pt x="322" y="303"/>
                    </a:lnTo>
                    <a:lnTo>
                      <a:pt x="328" y="300"/>
                    </a:lnTo>
                    <a:lnTo>
                      <a:pt x="334" y="296"/>
                    </a:lnTo>
                    <a:lnTo>
                      <a:pt x="340" y="293"/>
                    </a:lnTo>
                    <a:lnTo>
                      <a:pt x="346" y="290"/>
                    </a:lnTo>
                    <a:lnTo>
                      <a:pt x="352" y="285"/>
                    </a:lnTo>
                    <a:lnTo>
                      <a:pt x="357" y="282"/>
                    </a:lnTo>
                    <a:lnTo>
                      <a:pt x="362" y="278"/>
                    </a:lnTo>
                    <a:lnTo>
                      <a:pt x="367" y="275"/>
                    </a:lnTo>
                    <a:lnTo>
                      <a:pt x="373" y="270"/>
                    </a:lnTo>
                    <a:lnTo>
                      <a:pt x="377" y="267"/>
                    </a:lnTo>
                    <a:lnTo>
                      <a:pt x="383" y="263"/>
                    </a:lnTo>
                    <a:lnTo>
                      <a:pt x="388" y="258"/>
                    </a:lnTo>
                    <a:lnTo>
                      <a:pt x="394" y="255"/>
                    </a:lnTo>
                    <a:lnTo>
                      <a:pt x="398" y="251"/>
                    </a:lnTo>
                    <a:lnTo>
                      <a:pt x="403" y="248"/>
                    </a:lnTo>
                    <a:lnTo>
                      <a:pt x="407" y="244"/>
                    </a:lnTo>
                    <a:lnTo>
                      <a:pt x="411" y="239"/>
                    </a:lnTo>
                    <a:lnTo>
                      <a:pt x="416" y="235"/>
                    </a:lnTo>
                    <a:lnTo>
                      <a:pt x="420" y="232"/>
                    </a:lnTo>
                    <a:lnTo>
                      <a:pt x="423" y="227"/>
                    </a:lnTo>
                    <a:lnTo>
                      <a:pt x="428" y="223"/>
                    </a:lnTo>
                    <a:lnTo>
                      <a:pt x="431" y="218"/>
                    </a:lnTo>
                    <a:lnTo>
                      <a:pt x="435" y="215"/>
                    </a:lnTo>
                    <a:lnTo>
                      <a:pt x="438" y="211"/>
                    </a:lnTo>
                    <a:lnTo>
                      <a:pt x="441" y="206"/>
                    </a:lnTo>
                    <a:lnTo>
                      <a:pt x="444" y="204"/>
                    </a:lnTo>
                    <a:lnTo>
                      <a:pt x="447" y="199"/>
                    </a:lnTo>
                    <a:lnTo>
                      <a:pt x="450" y="195"/>
                    </a:lnTo>
                    <a:lnTo>
                      <a:pt x="453" y="190"/>
                    </a:lnTo>
                    <a:lnTo>
                      <a:pt x="456" y="187"/>
                    </a:lnTo>
                    <a:lnTo>
                      <a:pt x="459" y="183"/>
                    </a:lnTo>
                    <a:lnTo>
                      <a:pt x="460" y="178"/>
                    </a:lnTo>
                    <a:lnTo>
                      <a:pt x="463" y="174"/>
                    </a:lnTo>
                    <a:lnTo>
                      <a:pt x="465" y="169"/>
                    </a:lnTo>
                    <a:lnTo>
                      <a:pt x="468" y="166"/>
                    </a:lnTo>
                    <a:lnTo>
                      <a:pt x="469" y="162"/>
                    </a:lnTo>
                    <a:lnTo>
                      <a:pt x="472" y="159"/>
                    </a:lnTo>
                    <a:lnTo>
                      <a:pt x="474" y="155"/>
                    </a:lnTo>
                    <a:lnTo>
                      <a:pt x="475" y="152"/>
                    </a:lnTo>
                    <a:lnTo>
                      <a:pt x="477" y="147"/>
                    </a:lnTo>
                    <a:lnTo>
                      <a:pt x="480" y="144"/>
                    </a:lnTo>
                    <a:lnTo>
                      <a:pt x="480" y="140"/>
                    </a:lnTo>
                    <a:lnTo>
                      <a:pt x="483" y="137"/>
                    </a:lnTo>
                    <a:lnTo>
                      <a:pt x="483" y="132"/>
                    </a:lnTo>
                    <a:lnTo>
                      <a:pt x="484" y="129"/>
                    </a:lnTo>
                    <a:lnTo>
                      <a:pt x="486" y="126"/>
                    </a:lnTo>
                    <a:lnTo>
                      <a:pt x="487" y="123"/>
                    </a:lnTo>
                    <a:lnTo>
                      <a:pt x="489" y="119"/>
                    </a:lnTo>
                    <a:lnTo>
                      <a:pt x="490" y="116"/>
                    </a:lnTo>
                    <a:lnTo>
                      <a:pt x="490" y="113"/>
                    </a:lnTo>
                    <a:lnTo>
                      <a:pt x="492" y="109"/>
                    </a:lnTo>
                    <a:lnTo>
                      <a:pt x="493" y="103"/>
                    </a:lnTo>
                    <a:lnTo>
                      <a:pt x="494" y="97"/>
                    </a:lnTo>
                    <a:lnTo>
                      <a:pt x="494" y="91"/>
                    </a:lnTo>
                    <a:lnTo>
                      <a:pt x="496" y="86"/>
                    </a:lnTo>
                    <a:lnTo>
                      <a:pt x="497" y="82"/>
                    </a:lnTo>
                    <a:lnTo>
                      <a:pt x="497" y="77"/>
                    </a:lnTo>
                    <a:lnTo>
                      <a:pt x="497" y="73"/>
                    </a:lnTo>
                    <a:lnTo>
                      <a:pt x="499" y="70"/>
                    </a:lnTo>
                    <a:lnTo>
                      <a:pt x="499" y="67"/>
                    </a:lnTo>
                    <a:lnTo>
                      <a:pt x="499" y="66"/>
                    </a:lnTo>
                    <a:lnTo>
                      <a:pt x="499" y="61"/>
                    </a:lnTo>
                    <a:lnTo>
                      <a:pt x="500" y="61"/>
                    </a:lnTo>
                    <a:lnTo>
                      <a:pt x="481" y="0"/>
                    </a:lnTo>
                    <a:lnTo>
                      <a:pt x="465" y="14"/>
                    </a:lnTo>
                    <a:lnTo>
                      <a:pt x="465" y="1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3808080" y="3177720"/>
                <a:ext cx="181080" cy="133200"/>
              </a:xfrm>
              <a:custGeom>
                <a:avLst/>
                <a:gdLst/>
                <a:ahLst/>
                <a:rect l="l" t="t" r="r" b="b"/>
                <a:pathLst>
                  <a:path w="227" h="166">
                    <a:moveTo>
                      <a:pt x="160" y="4"/>
                    </a:moveTo>
                    <a:lnTo>
                      <a:pt x="160" y="4"/>
                    </a:lnTo>
                    <a:lnTo>
                      <a:pt x="157" y="7"/>
                    </a:lnTo>
                    <a:lnTo>
                      <a:pt x="154" y="12"/>
                    </a:lnTo>
                    <a:lnTo>
                      <a:pt x="151" y="18"/>
                    </a:lnTo>
                    <a:lnTo>
                      <a:pt x="145" y="24"/>
                    </a:lnTo>
                    <a:lnTo>
                      <a:pt x="142" y="31"/>
                    </a:lnTo>
                    <a:lnTo>
                      <a:pt x="138" y="37"/>
                    </a:lnTo>
                    <a:lnTo>
                      <a:pt x="135" y="43"/>
                    </a:lnTo>
                    <a:lnTo>
                      <a:pt x="132" y="47"/>
                    </a:lnTo>
                    <a:lnTo>
                      <a:pt x="129" y="52"/>
                    </a:lnTo>
                    <a:lnTo>
                      <a:pt x="127" y="55"/>
                    </a:lnTo>
                    <a:lnTo>
                      <a:pt x="126" y="58"/>
                    </a:lnTo>
                    <a:lnTo>
                      <a:pt x="124" y="61"/>
                    </a:lnTo>
                    <a:lnTo>
                      <a:pt x="124" y="64"/>
                    </a:lnTo>
                    <a:lnTo>
                      <a:pt x="123" y="62"/>
                    </a:lnTo>
                    <a:lnTo>
                      <a:pt x="120" y="62"/>
                    </a:lnTo>
                    <a:lnTo>
                      <a:pt x="117" y="62"/>
                    </a:lnTo>
                    <a:lnTo>
                      <a:pt x="111" y="62"/>
                    </a:lnTo>
                    <a:lnTo>
                      <a:pt x="108" y="62"/>
                    </a:lnTo>
                    <a:lnTo>
                      <a:pt x="104" y="64"/>
                    </a:lnTo>
                    <a:lnTo>
                      <a:pt x="101" y="65"/>
                    </a:lnTo>
                    <a:lnTo>
                      <a:pt x="96" y="68"/>
                    </a:lnTo>
                    <a:lnTo>
                      <a:pt x="92" y="70"/>
                    </a:lnTo>
                    <a:lnTo>
                      <a:pt x="87" y="73"/>
                    </a:lnTo>
                    <a:lnTo>
                      <a:pt x="81" y="77"/>
                    </a:lnTo>
                    <a:lnTo>
                      <a:pt x="77" y="81"/>
                    </a:lnTo>
                    <a:lnTo>
                      <a:pt x="69" y="86"/>
                    </a:lnTo>
                    <a:lnTo>
                      <a:pt x="63" y="92"/>
                    </a:lnTo>
                    <a:lnTo>
                      <a:pt x="61" y="95"/>
                    </a:lnTo>
                    <a:lnTo>
                      <a:pt x="58" y="98"/>
                    </a:lnTo>
                    <a:lnTo>
                      <a:pt x="55" y="102"/>
                    </a:lnTo>
                    <a:lnTo>
                      <a:pt x="50" y="105"/>
                    </a:lnTo>
                    <a:lnTo>
                      <a:pt x="47" y="108"/>
                    </a:lnTo>
                    <a:lnTo>
                      <a:pt x="44" y="111"/>
                    </a:lnTo>
                    <a:lnTo>
                      <a:pt x="41" y="116"/>
                    </a:lnTo>
                    <a:lnTo>
                      <a:pt x="38" y="119"/>
                    </a:lnTo>
                    <a:lnTo>
                      <a:pt x="34" y="122"/>
                    </a:lnTo>
                    <a:lnTo>
                      <a:pt x="32" y="126"/>
                    </a:lnTo>
                    <a:lnTo>
                      <a:pt x="28" y="129"/>
                    </a:lnTo>
                    <a:lnTo>
                      <a:pt x="26" y="133"/>
                    </a:lnTo>
                    <a:lnTo>
                      <a:pt x="20" y="139"/>
                    </a:lnTo>
                    <a:lnTo>
                      <a:pt x="15" y="145"/>
                    </a:lnTo>
                    <a:lnTo>
                      <a:pt x="10" y="151"/>
                    </a:lnTo>
                    <a:lnTo>
                      <a:pt x="7" y="156"/>
                    </a:lnTo>
                    <a:lnTo>
                      <a:pt x="3" y="160"/>
                    </a:lnTo>
                    <a:lnTo>
                      <a:pt x="1" y="163"/>
                    </a:lnTo>
                    <a:lnTo>
                      <a:pt x="0" y="165"/>
                    </a:lnTo>
                    <a:lnTo>
                      <a:pt x="0" y="166"/>
                    </a:lnTo>
                    <a:lnTo>
                      <a:pt x="1" y="165"/>
                    </a:lnTo>
                    <a:lnTo>
                      <a:pt x="6" y="160"/>
                    </a:lnTo>
                    <a:lnTo>
                      <a:pt x="9" y="157"/>
                    </a:lnTo>
                    <a:lnTo>
                      <a:pt x="13" y="154"/>
                    </a:lnTo>
                    <a:lnTo>
                      <a:pt x="17" y="151"/>
                    </a:lnTo>
                    <a:lnTo>
                      <a:pt x="22" y="148"/>
                    </a:lnTo>
                    <a:lnTo>
                      <a:pt x="28" y="144"/>
                    </a:lnTo>
                    <a:lnTo>
                      <a:pt x="32" y="139"/>
                    </a:lnTo>
                    <a:lnTo>
                      <a:pt x="38" y="136"/>
                    </a:lnTo>
                    <a:lnTo>
                      <a:pt x="44" y="132"/>
                    </a:lnTo>
                    <a:lnTo>
                      <a:pt x="50" y="129"/>
                    </a:lnTo>
                    <a:lnTo>
                      <a:pt x="56" y="124"/>
                    </a:lnTo>
                    <a:lnTo>
                      <a:pt x="62" y="122"/>
                    </a:lnTo>
                    <a:lnTo>
                      <a:pt x="69" y="119"/>
                    </a:lnTo>
                    <a:lnTo>
                      <a:pt x="74" y="114"/>
                    </a:lnTo>
                    <a:lnTo>
                      <a:pt x="80" y="111"/>
                    </a:lnTo>
                    <a:lnTo>
                      <a:pt x="84" y="108"/>
                    </a:lnTo>
                    <a:lnTo>
                      <a:pt x="90" y="107"/>
                    </a:lnTo>
                    <a:lnTo>
                      <a:pt x="95" y="105"/>
                    </a:lnTo>
                    <a:lnTo>
                      <a:pt x="99" y="102"/>
                    </a:lnTo>
                    <a:lnTo>
                      <a:pt x="104" y="102"/>
                    </a:lnTo>
                    <a:lnTo>
                      <a:pt x="108" y="101"/>
                    </a:lnTo>
                    <a:lnTo>
                      <a:pt x="111" y="99"/>
                    </a:lnTo>
                    <a:lnTo>
                      <a:pt x="114" y="98"/>
                    </a:lnTo>
                    <a:lnTo>
                      <a:pt x="117" y="98"/>
                    </a:lnTo>
                    <a:lnTo>
                      <a:pt x="120" y="98"/>
                    </a:lnTo>
                    <a:lnTo>
                      <a:pt x="123" y="98"/>
                    </a:lnTo>
                    <a:lnTo>
                      <a:pt x="124" y="98"/>
                    </a:lnTo>
                    <a:lnTo>
                      <a:pt x="141" y="144"/>
                    </a:lnTo>
                    <a:lnTo>
                      <a:pt x="141" y="142"/>
                    </a:lnTo>
                    <a:lnTo>
                      <a:pt x="141" y="139"/>
                    </a:lnTo>
                    <a:lnTo>
                      <a:pt x="141" y="136"/>
                    </a:lnTo>
                    <a:lnTo>
                      <a:pt x="141" y="133"/>
                    </a:lnTo>
                    <a:lnTo>
                      <a:pt x="142" y="129"/>
                    </a:lnTo>
                    <a:lnTo>
                      <a:pt x="144" y="126"/>
                    </a:lnTo>
                    <a:lnTo>
                      <a:pt x="144" y="122"/>
                    </a:lnTo>
                    <a:lnTo>
                      <a:pt x="145" y="117"/>
                    </a:lnTo>
                    <a:lnTo>
                      <a:pt x="147" y="111"/>
                    </a:lnTo>
                    <a:lnTo>
                      <a:pt x="150" y="107"/>
                    </a:lnTo>
                    <a:lnTo>
                      <a:pt x="151" y="101"/>
                    </a:lnTo>
                    <a:lnTo>
                      <a:pt x="155" y="95"/>
                    </a:lnTo>
                    <a:lnTo>
                      <a:pt x="158" y="87"/>
                    </a:lnTo>
                    <a:lnTo>
                      <a:pt x="163" y="81"/>
                    </a:lnTo>
                    <a:lnTo>
                      <a:pt x="164" y="78"/>
                    </a:lnTo>
                    <a:lnTo>
                      <a:pt x="166" y="74"/>
                    </a:lnTo>
                    <a:lnTo>
                      <a:pt x="169" y="71"/>
                    </a:lnTo>
                    <a:lnTo>
                      <a:pt x="170" y="68"/>
                    </a:lnTo>
                    <a:lnTo>
                      <a:pt x="173" y="64"/>
                    </a:lnTo>
                    <a:lnTo>
                      <a:pt x="176" y="61"/>
                    </a:lnTo>
                    <a:lnTo>
                      <a:pt x="178" y="56"/>
                    </a:lnTo>
                    <a:lnTo>
                      <a:pt x="182" y="53"/>
                    </a:lnTo>
                    <a:lnTo>
                      <a:pt x="184" y="50"/>
                    </a:lnTo>
                    <a:lnTo>
                      <a:pt x="187" y="46"/>
                    </a:lnTo>
                    <a:lnTo>
                      <a:pt x="190" y="43"/>
                    </a:lnTo>
                    <a:lnTo>
                      <a:pt x="193" y="40"/>
                    </a:lnTo>
                    <a:lnTo>
                      <a:pt x="199" y="34"/>
                    </a:lnTo>
                    <a:lnTo>
                      <a:pt x="204" y="28"/>
                    </a:lnTo>
                    <a:lnTo>
                      <a:pt x="207" y="22"/>
                    </a:lnTo>
                    <a:lnTo>
                      <a:pt x="213" y="16"/>
                    </a:lnTo>
                    <a:lnTo>
                      <a:pt x="216" y="12"/>
                    </a:lnTo>
                    <a:lnTo>
                      <a:pt x="221" y="7"/>
                    </a:lnTo>
                    <a:lnTo>
                      <a:pt x="224" y="4"/>
                    </a:lnTo>
                    <a:lnTo>
                      <a:pt x="227" y="3"/>
                    </a:lnTo>
                    <a:lnTo>
                      <a:pt x="227" y="0"/>
                    </a:lnTo>
                    <a:lnTo>
                      <a:pt x="160" y="4"/>
                    </a:lnTo>
                    <a:lnTo>
                      <a:pt x="160" y="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3744720" y="3277800"/>
                <a:ext cx="392040" cy="283680"/>
              </a:xfrm>
              <a:custGeom>
                <a:avLst/>
                <a:gdLst/>
                <a:ahLst/>
                <a:rect l="l" t="t" r="r" b="b"/>
                <a:pathLst>
                  <a:path w="494" h="360">
                    <a:moveTo>
                      <a:pt x="494" y="0"/>
                    </a:moveTo>
                    <a:lnTo>
                      <a:pt x="493" y="0"/>
                    </a:lnTo>
                    <a:lnTo>
                      <a:pt x="490" y="5"/>
                    </a:lnTo>
                    <a:lnTo>
                      <a:pt x="488" y="6"/>
                    </a:lnTo>
                    <a:lnTo>
                      <a:pt x="485" y="9"/>
                    </a:lnTo>
                    <a:lnTo>
                      <a:pt x="484" y="12"/>
                    </a:lnTo>
                    <a:lnTo>
                      <a:pt x="481" y="17"/>
                    </a:lnTo>
                    <a:lnTo>
                      <a:pt x="476" y="20"/>
                    </a:lnTo>
                    <a:lnTo>
                      <a:pt x="473" y="26"/>
                    </a:lnTo>
                    <a:lnTo>
                      <a:pt x="469" y="30"/>
                    </a:lnTo>
                    <a:lnTo>
                      <a:pt x="466" y="36"/>
                    </a:lnTo>
                    <a:lnTo>
                      <a:pt x="460" y="42"/>
                    </a:lnTo>
                    <a:lnTo>
                      <a:pt x="456" y="46"/>
                    </a:lnTo>
                    <a:lnTo>
                      <a:pt x="453" y="49"/>
                    </a:lnTo>
                    <a:lnTo>
                      <a:pt x="450" y="52"/>
                    </a:lnTo>
                    <a:lnTo>
                      <a:pt x="447" y="57"/>
                    </a:lnTo>
                    <a:lnTo>
                      <a:pt x="445" y="61"/>
                    </a:lnTo>
                    <a:lnTo>
                      <a:pt x="438" y="67"/>
                    </a:lnTo>
                    <a:lnTo>
                      <a:pt x="432" y="73"/>
                    </a:lnTo>
                    <a:lnTo>
                      <a:pt x="429" y="78"/>
                    </a:lnTo>
                    <a:lnTo>
                      <a:pt x="424" y="81"/>
                    </a:lnTo>
                    <a:lnTo>
                      <a:pt x="421" y="85"/>
                    </a:lnTo>
                    <a:lnTo>
                      <a:pt x="419" y="88"/>
                    </a:lnTo>
                    <a:lnTo>
                      <a:pt x="414" y="92"/>
                    </a:lnTo>
                    <a:lnTo>
                      <a:pt x="411" y="95"/>
                    </a:lnTo>
                    <a:lnTo>
                      <a:pt x="407" y="100"/>
                    </a:lnTo>
                    <a:lnTo>
                      <a:pt x="404" y="103"/>
                    </a:lnTo>
                    <a:lnTo>
                      <a:pt x="399" y="107"/>
                    </a:lnTo>
                    <a:lnTo>
                      <a:pt x="396" y="110"/>
                    </a:lnTo>
                    <a:lnTo>
                      <a:pt x="392" y="115"/>
                    </a:lnTo>
                    <a:lnTo>
                      <a:pt x="389" y="119"/>
                    </a:lnTo>
                    <a:lnTo>
                      <a:pt x="384" y="122"/>
                    </a:lnTo>
                    <a:lnTo>
                      <a:pt x="380" y="127"/>
                    </a:lnTo>
                    <a:lnTo>
                      <a:pt x="375" y="130"/>
                    </a:lnTo>
                    <a:lnTo>
                      <a:pt x="371" y="134"/>
                    </a:lnTo>
                    <a:lnTo>
                      <a:pt x="367" y="138"/>
                    </a:lnTo>
                    <a:lnTo>
                      <a:pt x="362" y="143"/>
                    </a:lnTo>
                    <a:lnTo>
                      <a:pt x="358" y="146"/>
                    </a:lnTo>
                    <a:lnTo>
                      <a:pt x="353" y="150"/>
                    </a:lnTo>
                    <a:lnTo>
                      <a:pt x="349" y="155"/>
                    </a:lnTo>
                    <a:lnTo>
                      <a:pt x="344" y="158"/>
                    </a:lnTo>
                    <a:lnTo>
                      <a:pt x="340" y="162"/>
                    </a:lnTo>
                    <a:lnTo>
                      <a:pt x="335" y="167"/>
                    </a:lnTo>
                    <a:lnTo>
                      <a:pt x="331" y="170"/>
                    </a:lnTo>
                    <a:lnTo>
                      <a:pt x="325" y="174"/>
                    </a:lnTo>
                    <a:lnTo>
                      <a:pt x="321" y="177"/>
                    </a:lnTo>
                    <a:lnTo>
                      <a:pt x="316" y="182"/>
                    </a:lnTo>
                    <a:lnTo>
                      <a:pt x="310" y="184"/>
                    </a:lnTo>
                    <a:lnTo>
                      <a:pt x="306" y="189"/>
                    </a:lnTo>
                    <a:lnTo>
                      <a:pt x="300" y="192"/>
                    </a:lnTo>
                    <a:lnTo>
                      <a:pt x="295" y="195"/>
                    </a:lnTo>
                    <a:lnTo>
                      <a:pt x="289" y="198"/>
                    </a:lnTo>
                    <a:lnTo>
                      <a:pt x="285" y="202"/>
                    </a:lnTo>
                    <a:lnTo>
                      <a:pt x="279" y="205"/>
                    </a:lnTo>
                    <a:lnTo>
                      <a:pt x="275" y="210"/>
                    </a:lnTo>
                    <a:lnTo>
                      <a:pt x="269" y="213"/>
                    </a:lnTo>
                    <a:lnTo>
                      <a:pt x="264" y="216"/>
                    </a:lnTo>
                    <a:lnTo>
                      <a:pt x="258" y="219"/>
                    </a:lnTo>
                    <a:lnTo>
                      <a:pt x="252" y="223"/>
                    </a:lnTo>
                    <a:lnTo>
                      <a:pt x="248" y="226"/>
                    </a:lnTo>
                    <a:lnTo>
                      <a:pt x="242" y="229"/>
                    </a:lnTo>
                    <a:lnTo>
                      <a:pt x="237" y="232"/>
                    </a:lnTo>
                    <a:lnTo>
                      <a:pt x="233" y="235"/>
                    </a:lnTo>
                    <a:lnTo>
                      <a:pt x="227" y="238"/>
                    </a:lnTo>
                    <a:lnTo>
                      <a:pt x="221" y="241"/>
                    </a:lnTo>
                    <a:lnTo>
                      <a:pt x="215" y="244"/>
                    </a:lnTo>
                    <a:lnTo>
                      <a:pt x="211" y="247"/>
                    </a:lnTo>
                    <a:lnTo>
                      <a:pt x="205" y="250"/>
                    </a:lnTo>
                    <a:lnTo>
                      <a:pt x="200" y="253"/>
                    </a:lnTo>
                    <a:lnTo>
                      <a:pt x="196" y="256"/>
                    </a:lnTo>
                    <a:lnTo>
                      <a:pt x="191" y="259"/>
                    </a:lnTo>
                    <a:lnTo>
                      <a:pt x="186" y="260"/>
                    </a:lnTo>
                    <a:lnTo>
                      <a:pt x="181" y="263"/>
                    </a:lnTo>
                    <a:lnTo>
                      <a:pt x="175" y="266"/>
                    </a:lnTo>
                    <a:lnTo>
                      <a:pt x="171" y="269"/>
                    </a:lnTo>
                    <a:lnTo>
                      <a:pt x="166" y="271"/>
                    </a:lnTo>
                    <a:lnTo>
                      <a:pt x="162" y="274"/>
                    </a:lnTo>
                    <a:lnTo>
                      <a:pt x="157" y="275"/>
                    </a:lnTo>
                    <a:lnTo>
                      <a:pt x="153" y="279"/>
                    </a:lnTo>
                    <a:lnTo>
                      <a:pt x="148" y="281"/>
                    </a:lnTo>
                    <a:lnTo>
                      <a:pt x="144" y="282"/>
                    </a:lnTo>
                    <a:lnTo>
                      <a:pt x="140" y="284"/>
                    </a:lnTo>
                    <a:lnTo>
                      <a:pt x="135" y="287"/>
                    </a:lnTo>
                    <a:lnTo>
                      <a:pt x="131" y="288"/>
                    </a:lnTo>
                    <a:lnTo>
                      <a:pt x="126" y="290"/>
                    </a:lnTo>
                    <a:lnTo>
                      <a:pt x="123" y="293"/>
                    </a:lnTo>
                    <a:lnTo>
                      <a:pt x="119" y="294"/>
                    </a:lnTo>
                    <a:lnTo>
                      <a:pt x="116" y="296"/>
                    </a:lnTo>
                    <a:lnTo>
                      <a:pt x="111" y="297"/>
                    </a:lnTo>
                    <a:lnTo>
                      <a:pt x="108" y="299"/>
                    </a:lnTo>
                    <a:lnTo>
                      <a:pt x="105" y="302"/>
                    </a:lnTo>
                    <a:lnTo>
                      <a:pt x="99" y="303"/>
                    </a:lnTo>
                    <a:lnTo>
                      <a:pt x="94" y="306"/>
                    </a:lnTo>
                    <a:lnTo>
                      <a:pt x="88" y="309"/>
                    </a:lnTo>
                    <a:lnTo>
                      <a:pt x="83" y="311"/>
                    </a:lnTo>
                    <a:lnTo>
                      <a:pt x="79" y="312"/>
                    </a:lnTo>
                    <a:lnTo>
                      <a:pt x="76" y="314"/>
                    </a:lnTo>
                    <a:lnTo>
                      <a:pt x="71" y="317"/>
                    </a:lnTo>
                    <a:lnTo>
                      <a:pt x="70" y="317"/>
                    </a:lnTo>
                    <a:lnTo>
                      <a:pt x="68" y="317"/>
                    </a:lnTo>
                    <a:lnTo>
                      <a:pt x="62" y="314"/>
                    </a:lnTo>
                    <a:lnTo>
                      <a:pt x="59" y="311"/>
                    </a:lnTo>
                    <a:lnTo>
                      <a:pt x="58" y="306"/>
                    </a:lnTo>
                    <a:lnTo>
                      <a:pt x="56" y="302"/>
                    </a:lnTo>
                    <a:lnTo>
                      <a:pt x="55" y="297"/>
                    </a:lnTo>
                    <a:lnTo>
                      <a:pt x="55" y="293"/>
                    </a:lnTo>
                    <a:lnTo>
                      <a:pt x="55" y="288"/>
                    </a:lnTo>
                    <a:lnTo>
                      <a:pt x="55" y="284"/>
                    </a:lnTo>
                    <a:lnTo>
                      <a:pt x="55" y="281"/>
                    </a:lnTo>
                    <a:lnTo>
                      <a:pt x="55" y="278"/>
                    </a:lnTo>
                    <a:lnTo>
                      <a:pt x="55" y="275"/>
                    </a:lnTo>
                    <a:lnTo>
                      <a:pt x="55" y="271"/>
                    </a:lnTo>
                    <a:lnTo>
                      <a:pt x="56" y="268"/>
                    </a:lnTo>
                    <a:lnTo>
                      <a:pt x="56" y="263"/>
                    </a:lnTo>
                    <a:lnTo>
                      <a:pt x="58" y="260"/>
                    </a:lnTo>
                    <a:lnTo>
                      <a:pt x="58" y="256"/>
                    </a:lnTo>
                    <a:lnTo>
                      <a:pt x="58" y="251"/>
                    </a:lnTo>
                    <a:lnTo>
                      <a:pt x="58" y="247"/>
                    </a:lnTo>
                    <a:lnTo>
                      <a:pt x="59" y="244"/>
                    </a:lnTo>
                    <a:lnTo>
                      <a:pt x="61" y="239"/>
                    </a:lnTo>
                    <a:lnTo>
                      <a:pt x="61" y="236"/>
                    </a:lnTo>
                    <a:lnTo>
                      <a:pt x="61" y="232"/>
                    </a:lnTo>
                    <a:lnTo>
                      <a:pt x="62" y="229"/>
                    </a:lnTo>
                    <a:lnTo>
                      <a:pt x="62" y="226"/>
                    </a:lnTo>
                    <a:lnTo>
                      <a:pt x="64" y="222"/>
                    </a:lnTo>
                    <a:lnTo>
                      <a:pt x="64" y="219"/>
                    </a:lnTo>
                    <a:lnTo>
                      <a:pt x="65" y="216"/>
                    </a:lnTo>
                    <a:lnTo>
                      <a:pt x="67" y="210"/>
                    </a:lnTo>
                    <a:lnTo>
                      <a:pt x="68" y="204"/>
                    </a:lnTo>
                    <a:lnTo>
                      <a:pt x="68" y="199"/>
                    </a:lnTo>
                    <a:lnTo>
                      <a:pt x="68" y="196"/>
                    </a:lnTo>
                    <a:lnTo>
                      <a:pt x="70" y="195"/>
                    </a:lnTo>
                    <a:lnTo>
                      <a:pt x="70" y="195"/>
                    </a:lnTo>
                    <a:lnTo>
                      <a:pt x="52" y="195"/>
                    </a:lnTo>
                    <a:lnTo>
                      <a:pt x="51" y="195"/>
                    </a:lnTo>
                    <a:lnTo>
                      <a:pt x="51" y="196"/>
                    </a:lnTo>
                    <a:lnTo>
                      <a:pt x="49" y="199"/>
                    </a:lnTo>
                    <a:lnTo>
                      <a:pt x="48" y="201"/>
                    </a:lnTo>
                    <a:lnTo>
                      <a:pt x="46" y="204"/>
                    </a:lnTo>
                    <a:lnTo>
                      <a:pt x="46" y="208"/>
                    </a:lnTo>
                    <a:lnTo>
                      <a:pt x="43" y="211"/>
                    </a:lnTo>
                    <a:lnTo>
                      <a:pt x="42" y="216"/>
                    </a:lnTo>
                    <a:lnTo>
                      <a:pt x="39" y="220"/>
                    </a:lnTo>
                    <a:lnTo>
                      <a:pt x="37" y="226"/>
                    </a:lnTo>
                    <a:lnTo>
                      <a:pt x="36" y="229"/>
                    </a:lnTo>
                    <a:lnTo>
                      <a:pt x="34" y="232"/>
                    </a:lnTo>
                    <a:lnTo>
                      <a:pt x="33" y="235"/>
                    </a:lnTo>
                    <a:lnTo>
                      <a:pt x="31" y="239"/>
                    </a:lnTo>
                    <a:lnTo>
                      <a:pt x="30" y="242"/>
                    </a:lnTo>
                    <a:lnTo>
                      <a:pt x="28" y="245"/>
                    </a:lnTo>
                    <a:lnTo>
                      <a:pt x="28" y="250"/>
                    </a:lnTo>
                    <a:lnTo>
                      <a:pt x="27" y="254"/>
                    </a:lnTo>
                    <a:lnTo>
                      <a:pt x="24" y="259"/>
                    </a:lnTo>
                    <a:lnTo>
                      <a:pt x="22" y="263"/>
                    </a:lnTo>
                    <a:lnTo>
                      <a:pt x="19" y="266"/>
                    </a:lnTo>
                    <a:lnTo>
                      <a:pt x="18" y="272"/>
                    </a:lnTo>
                    <a:lnTo>
                      <a:pt x="16" y="275"/>
                    </a:lnTo>
                    <a:lnTo>
                      <a:pt x="13" y="281"/>
                    </a:lnTo>
                    <a:lnTo>
                      <a:pt x="12" y="285"/>
                    </a:lnTo>
                    <a:lnTo>
                      <a:pt x="10" y="290"/>
                    </a:lnTo>
                    <a:lnTo>
                      <a:pt x="9" y="294"/>
                    </a:lnTo>
                    <a:lnTo>
                      <a:pt x="6" y="300"/>
                    </a:lnTo>
                    <a:lnTo>
                      <a:pt x="5" y="305"/>
                    </a:lnTo>
                    <a:lnTo>
                      <a:pt x="3" y="309"/>
                    </a:lnTo>
                    <a:lnTo>
                      <a:pt x="2" y="314"/>
                    </a:lnTo>
                    <a:lnTo>
                      <a:pt x="2" y="318"/>
                    </a:lnTo>
                    <a:lnTo>
                      <a:pt x="2" y="322"/>
                    </a:lnTo>
                    <a:lnTo>
                      <a:pt x="2" y="327"/>
                    </a:lnTo>
                    <a:lnTo>
                      <a:pt x="0" y="331"/>
                    </a:lnTo>
                    <a:lnTo>
                      <a:pt x="0" y="334"/>
                    </a:lnTo>
                    <a:lnTo>
                      <a:pt x="0" y="339"/>
                    </a:lnTo>
                    <a:lnTo>
                      <a:pt x="2" y="342"/>
                    </a:lnTo>
                    <a:lnTo>
                      <a:pt x="5" y="348"/>
                    </a:lnTo>
                    <a:lnTo>
                      <a:pt x="9" y="354"/>
                    </a:lnTo>
                    <a:lnTo>
                      <a:pt x="10" y="355"/>
                    </a:lnTo>
                    <a:lnTo>
                      <a:pt x="13" y="357"/>
                    </a:lnTo>
                    <a:lnTo>
                      <a:pt x="18" y="358"/>
                    </a:lnTo>
                    <a:lnTo>
                      <a:pt x="22" y="360"/>
                    </a:lnTo>
                    <a:lnTo>
                      <a:pt x="27" y="360"/>
                    </a:lnTo>
                    <a:lnTo>
                      <a:pt x="31" y="360"/>
                    </a:lnTo>
                    <a:lnTo>
                      <a:pt x="34" y="360"/>
                    </a:lnTo>
                    <a:lnTo>
                      <a:pt x="37" y="360"/>
                    </a:lnTo>
                    <a:lnTo>
                      <a:pt x="42" y="360"/>
                    </a:lnTo>
                    <a:lnTo>
                      <a:pt x="45" y="360"/>
                    </a:lnTo>
                    <a:lnTo>
                      <a:pt x="48" y="358"/>
                    </a:lnTo>
                    <a:lnTo>
                      <a:pt x="51" y="358"/>
                    </a:lnTo>
                    <a:lnTo>
                      <a:pt x="55" y="357"/>
                    </a:lnTo>
                    <a:lnTo>
                      <a:pt x="58" y="355"/>
                    </a:lnTo>
                    <a:lnTo>
                      <a:pt x="62" y="354"/>
                    </a:lnTo>
                    <a:lnTo>
                      <a:pt x="65" y="354"/>
                    </a:lnTo>
                    <a:lnTo>
                      <a:pt x="70" y="352"/>
                    </a:lnTo>
                    <a:lnTo>
                      <a:pt x="76" y="351"/>
                    </a:lnTo>
                    <a:lnTo>
                      <a:pt x="79" y="349"/>
                    </a:lnTo>
                    <a:lnTo>
                      <a:pt x="85" y="348"/>
                    </a:lnTo>
                    <a:lnTo>
                      <a:pt x="88" y="346"/>
                    </a:lnTo>
                    <a:lnTo>
                      <a:pt x="94" y="345"/>
                    </a:lnTo>
                    <a:lnTo>
                      <a:pt x="98" y="343"/>
                    </a:lnTo>
                    <a:lnTo>
                      <a:pt x="102" y="340"/>
                    </a:lnTo>
                    <a:lnTo>
                      <a:pt x="107" y="339"/>
                    </a:lnTo>
                    <a:lnTo>
                      <a:pt x="113" y="337"/>
                    </a:lnTo>
                    <a:lnTo>
                      <a:pt x="117" y="336"/>
                    </a:lnTo>
                    <a:lnTo>
                      <a:pt x="122" y="333"/>
                    </a:lnTo>
                    <a:lnTo>
                      <a:pt x="128" y="331"/>
                    </a:lnTo>
                    <a:lnTo>
                      <a:pt x="132" y="328"/>
                    </a:lnTo>
                    <a:lnTo>
                      <a:pt x="138" y="327"/>
                    </a:lnTo>
                    <a:lnTo>
                      <a:pt x="143" y="324"/>
                    </a:lnTo>
                    <a:lnTo>
                      <a:pt x="147" y="322"/>
                    </a:lnTo>
                    <a:lnTo>
                      <a:pt x="153" y="321"/>
                    </a:lnTo>
                    <a:lnTo>
                      <a:pt x="159" y="318"/>
                    </a:lnTo>
                    <a:lnTo>
                      <a:pt x="163" y="315"/>
                    </a:lnTo>
                    <a:lnTo>
                      <a:pt x="168" y="314"/>
                    </a:lnTo>
                    <a:lnTo>
                      <a:pt x="174" y="311"/>
                    </a:lnTo>
                    <a:lnTo>
                      <a:pt x="178" y="309"/>
                    </a:lnTo>
                    <a:lnTo>
                      <a:pt x="184" y="306"/>
                    </a:lnTo>
                    <a:lnTo>
                      <a:pt x="189" y="305"/>
                    </a:lnTo>
                    <a:lnTo>
                      <a:pt x="194" y="302"/>
                    </a:lnTo>
                    <a:lnTo>
                      <a:pt x="199" y="300"/>
                    </a:lnTo>
                    <a:lnTo>
                      <a:pt x="203" y="297"/>
                    </a:lnTo>
                    <a:lnTo>
                      <a:pt x="208" y="294"/>
                    </a:lnTo>
                    <a:lnTo>
                      <a:pt x="212" y="293"/>
                    </a:lnTo>
                    <a:lnTo>
                      <a:pt x="217" y="290"/>
                    </a:lnTo>
                    <a:lnTo>
                      <a:pt x="221" y="288"/>
                    </a:lnTo>
                    <a:lnTo>
                      <a:pt x="226" y="285"/>
                    </a:lnTo>
                    <a:lnTo>
                      <a:pt x="230" y="284"/>
                    </a:lnTo>
                    <a:lnTo>
                      <a:pt x="235" y="281"/>
                    </a:lnTo>
                    <a:lnTo>
                      <a:pt x="239" y="279"/>
                    </a:lnTo>
                    <a:lnTo>
                      <a:pt x="242" y="278"/>
                    </a:lnTo>
                    <a:lnTo>
                      <a:pt x="246" y="275"/>
                    </a:lnTo>
                    <a:lnTo>
                      <a:pt x="251" y="274"/>
                    </a:lnTo>
                    <a:lnTo>
                      <a:pt x="254" y="272"/>
                    </a:lnTo>
                    <a:lnTo>
                      <a:pt x="258" y="271"/>
                    </a:lnTo>
                    <a:lnTo>
                      <a:pt x="261" y="269"/>
                    </a:lnTo>
                    <a:lnTo>
                      <a:pt x="267" y="265"/>
                    </a:lnTo>
                    <a:lnTo>
                      <a:pt x="273" y="263"/>
                    </a:lnTo>
                    <a:lnTo>
                      <a:pt x="278" y="260"/>
                    </a:lnTo>
                    <a:lnTo>
                      <a:pt x="282" y="259"/>
                    </a:lnTo>
                    <a:lnTo>
                      <a:pt x="285" y="257"/>
                    </a:lnTo>
                    <a:lnTo>
                      <a:pt x="288" y="256"/>
                    </a:lnTo>
                    <a:lnTo>
                      <a:pt x="289" y="254"/>
                    </a:lnTo>
                    <a:lnTo>
                      <a:pt x="289" y="254"/>
                    </a:lnTo>
                    <a:lnTo>
                      <a:pt x="291" y="253"/>
                    </a:lnTo>
                    <a:lnTo>
                      <a:pt x="294" y="250"/>
                    </a:lnTo>
                    <a:lnTo>
                      <a:pt x="297" y="248"/>
                    </a:lnTo>
                    <a:lnTo>
                      <a:pt x="301" y="245"/>
                    </a:lnTo>
                    <a:lnTo>
                      <a:pt x="304" y="242"/>
                    </a:lnTo>
                    <a:lnTo>
                      <a:pt x="309" y="241"/>
                    </a:lnTo>
                    <a:lnTo>
                      <a:pt x="313" y="236"/>
                    </a:lnTo>
                    <a:lnTo>
                      <a:pt x="318" y="233"/>
                    </a:lnTo>
                    <a:lnTo>
                      <a:pt x="324" y="229"/>
                    </a:lnTo>
                    <a:lnTo>
                      <a:pt x="328" y="225"/>
                    </a:lnTo>
                    <a:lnTo>
                      <a:pt x="334" y="220"/>
                    </a:lnTo>
                    <a:lnTo>
                      <a:pt x="340" y="216"/>
                    </a:lnTo>
                    <a:lnTo>
                      <a:pt x="346" y="211"/>
                    </a:lnTo>
                    <a:lnTo>
                      <a:pt x="353" y="207"/>
                    </a:lnTo>
                    <a:lnTo>
                      <a:pt x="359" y="199"/>
                    </a:lnTo>
                    <a:lnTo>
                      <a:pt x="367" y="195"/>
                    </a:lnTo>
                    <a:lnTo>
                      <a:pt x="370" y="192"/>
                    </a:lnTo>
                    <a:lnTo>
                      <a:pt x="373" y="189"/>
                    </a:lnTo>
                    <a:lnTo>
                      <a:pt x="375" y="186"/>
                    </a:lnTo>
                    <a:lnTo>
                      <a:pt x="380" y="183"/>
                    </a:lnTo>
                    <a:lnTo>
                      <a:pt x="386" y="177"/>
                    </a:lnTo>
                    <a:lnTo>
                      <a:pt x="393" y="171"/>
                    </a:lnTo>
                    <a:lnTo>
                      <a:pt x="396" y="168"/>
                    </a:lnTo>
                    <a:lnTo>
                      <a:pt x="399" y="165"/>
                    </a:lnTo>
                    <a:lnTo>
                      <a:pt x="404" y="162"/>
                    </a:lnTo>
                    <a:lnTo>
                      <a:pt x="407" y="159"/>
                    </a:lnTo>
                    <a:lnTo>
                      <a:pt x="414" y="152"/>
                    </a:lnTo>
                    <a:lnTo>
                      <a:pt x="420" y="146"/>
                    </a:lnTo>
                    <a:lnTo>
                      <a:pt x="426" y="140"/>
                    </a:lnTo>
                    <a:lnTo>
                      <a:pt x="433" y="134"/>
                    </a:lnTo>
                    <a:lnTo>
                      <a:pt x="439" y="128"/>
                    </a:lnTo>
                    <a:lnTo>
                      <a:pt x="444" y="121"/>
                    </a:lnTo>
                    <a:lnTo>
                      <a:pt x="450" y="115"/>
                    </a:lnTo>
                    <a:lnTo>
                      <a:pt x="456" y="109"/>
                    </a:lnTo>
                    <a:lnTo>
                      <a:pt x="459" y="103"/>
                    </a:lnTo>
                    <a:lnTo>
                      <a:pt x="463" y="97"/>
                    </a:lnTo>
                    <a:lnTo>
                      <a:pt x="467" y="91"/>
                    </a:lnTo>
                    <a:lnTo>
                      <a:pt x="470" y="87"/>
                    </a:lnTo>
                    <a:lnTo>
                      <a:pt x="473" y="81"/>
                    </a:lnTo>
                    <a:lnTo>
                      <a:pt x="476" y="75"/>
                    </a:lnTo>
                    <a:lnTo>
                      <a:pt x="479" y="70"/>
                    </a:lnTo>
                    <a:lnTo>
                      <a:pt x="482" y="64"/>
                    </a:lnTo>
                    <a:lnTo>
                      <a:pt x="484" y="60"/>
                    </a:lnTo>
                    <a:lnTo>
                      <a:pt x="485" y="55"/>
                    </a:lnTo>
                    <a:lnTo>
                      <a:pt x="487" y="49"/>
                    </a:lnTo>
                    <a:lnTo>
                      <a:pt x="488" y="46"/>
                    </a:lnTo>
                    <a:lnTo>
                      <a:pt x="490" y="42"/>
                    </a:lnTo>
                    <a:lnTo>
                      <a:pt x="491" y="38"/>
                    </a:lnTo>
                    <a:lnTo>
                      <a:pt x="491" y="35"/>
                    </a:lnTo>
                    <a:lnTo>
                      <a:pt x="493" y="30"/>
                    </a:lnTo>
                    <a:lnTo>
                      <a:pt x="493" y="27"/>
                    </a:lnTo>
                    <a:lnTo>
                      <a:pt x="493" y="23"/>
                    </a:lnTo>
                    <a:lnTo>
                      <a:pt x="493" y="20"/>
                    </a:lnTo>
                    <a:lnTo>
                      <a:pt x="494" y="17"/>
                    </a:lnTo>
                    <a:lnTo>
                      <a:pt x="494" y="11"/>
                    </a:lnTo>
                    <a:lnTo>
                      <a:pt x="494" y="8"/>
                    </a:lnTo>
                    <a:lnTo>
                      <a:pt x="494" y="3"/>
                    </a:lnTo>
                    <a:lnTo>
                      <a:pt x="494" y="2"/>
                    </a:lnTo>
                    <a:lnTo>
                      <a:pt x="494" y="0"/>
                    </a:lnTo>
                    <a:lnTo>
                      <a:pt x="49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3784320" y="3354120"/>
                <a:ext cx="298440" cy="282240"/>
              </a:xfrm>
              <a:custGeom>
                <a:avLst/>
                <a:gdLst/>
                <a:ahLst/>
                <a:rect l="l" t="t" r="r" b="b"/>
                <a:pathLst>
                  <a:path w="376" h="356">
                    <a:moveTo>
                      <a:pt x="356" y="36"/>
                    </a:moveTo>
                    <a:lnTo>
                      <a:pt x="356" y="36"/>
                    </a:lnTo>
                    <a:lnTo>
                      <a:pt x="356" y="39"/>
                    </a:lnTo>
                    <a:lnTo>
                      <a:pt x="356" y="41"/>
                    </a:lnTo>
                    <a:lnTo>
                      <a:pt x="356" y="47"/>
                    </a:lnTo>
                    <a:lnTo>
                      <a:pt x="354" y="50"/>
                    </a:lnTo>
                    <a:lnTo>
                      <a:pt x="354" y="53"/>
                    </a:lnTo>
                    <a:lnTo>
                      <a:pt x="354" y="58"/>
                    </a:lnTo>
                    <a:lnTo>
                      <a:pt x="354" y="61"/>
                    </a:lnTo>
                    <a:lnTo>
                      <a:pt x="353" y="65"/>
                    </a:lnTo>
                    <a:lnTo>
                      <a:pt x="353" y="70"/>
                    </a:lnTo>
                    <a:lnTo>
                      <a:pt x="351" y="74"/>
                    </a:lnTo>
                    <a:lnTo>
                      <a:pt x="351" y="80"/>
                    </a:lnTo>
                    <a:lnTo>
                      <a:pt x="351" y="85"/>
                    </a:lnTo>
                    <a:lnTo>
                      <a:pt x="350" y="90"/>
                    </a:lnTo>
                    <a:lnTo>
                      <a:pt x="348" y="95"/>
                    </a:lnTo>
                    <a:lnTo>
                      <a:pt x="348" y="101"/>
                    </a:lnTo>
                    <a:lnTo>
                      <a:pt x="345" y="107"/>
                    </a:lnTo>
                    <a:lnTo>
                      <a:pt x="344" y="113"/>
                    </a:lnTo>
                    <a:lnTo>
                      <a:pt x="342" y="119"/>
                    </a:lnTo>
                    <a:lnTo>
                      <a:pt x="341" y="125"/>
                    </a:lnTo>
                    <a:lnTo>
                      <a:pt x="338" y="131"/>
                    </a:lnTo>
                    <a:lnTo>
                      <a:pt x="336" y="136"/>
                    </a:lnTo>
                    <a:lnTo>
                      <a:pt x="332" y="142"/>
                    </a:lnTo>
                    <a:lnTo>
                      <a:pt x="330" y="150"/>
                    </a:lnTo>
                    <a:lnTo>
                      <a:pt x="326" y="156"/>
                    </a:lnTo>
                    <a:lnTo>
                      <a:pt x="323" y="162"/>
                    </a:lnTo>
                    <a:lnTo>
                      <a:pt x="320" y="168"/>
                    </a:lnTo>
                    <a:lnTo>
                      <a:pt x="317" y="175"/>
                    </a:lnTo>
                    <a:lnTo>
                      <a:pt x="311" y="179"/>
                    </a:lnTo>
                    <a:lnTo>
                      <a:pt x="307" y="185"/>
                    </a:lnTo>
                    <a:lnTo>
                      <a:pt x="302" y="191"/>
                    </a:lnTo>
                    <a:lnTo>
                      <a:pt x="299" y="197"/>
                    </a:lnTo>
                    <a:lnTo>
                      <a:pt x="293" y="203"/>
                    </a:lnTo>
                    <a:lnTo>
                      <a:pt x="287" y="209"/>
                    </a:lnTo>
                    <a:lnTo>
                      <a:pt x="281" y="214"/>
                    </a:lnTo>
                    <a:lnTo>
                      <a:pt x="277" y="220"/>
                    </a:lnTo>
                    <a:lnTo>
                      <a:pt x="271" y="224"/>
                    </a:lnTo>
                    <a:lnTo>
                      <a:pt x="265" y="230"/>
                    </a:lnTo>
                    <a:lnTo>
                      <a:pt x="259" y="234"/>
                    </a:lnTo>
                    <a:lnTo>
                      <a:pt x="253" y="240"/>
                    </a:lnTo>
                    <a:lnTo>
                      <a:pt x="246" y="245"/>
                    </a:lnTo>
                    <a:lnTo>
                      <a:pt x="240" y="249"/>
                    </a:lnTo>
                    <a:lnTo>
                      <a:pt x="234" y="254"/>
                    </a:lnTo>
                    <a:lnTo>
                      <a:pt x="228" y="260"/>
                    </a:lnTo>
                    <a:lnTo>
                      <a:pt x="224" y="261"/>
                    </a:lnTo>
                    <a:lnTo>
                      <a:pt x="221" y="263"/>
                    </a:lnTo>
                    <a:lnTo>
                      <a:pt x="218" y="264"/>
                    </a:lnTo>
                    <a:lnTo>
                      <a:pt x="215" y="267"/>
                    </a:lnTo>
                    <a:lnTo>
                      <a:pt x="207" y="271"/>
                    </a:lnTo>
                    <a:lnTo>
                      <a:pt x="201" y="276"/>
                    </a:lnTo>
                    <a:lnTo>
                      <a:pt x="198" y="276"/>
                    </a:lnTo>
                    <a:lnTo>
                      <a:pt x="194" y="279"/>
                    </a:lnTo>
                    <a:lnTo>
                      <a:pt x="191" y="280"/>
                    </a:lnTo>
                    <a:lnTo>
                      <a:pt x="188" y="282"/>
                    </a:lnTo>
                    <a:lnTo>
                      <a:pt x="181" y="286"/>
                    </a:lnTo>
                    <a:lnTo>
                      <a:pt x="175" y="289"/>
                    </a:lnTo>
                    <a:lnTo>
                      <a:pt x="167" y="292"/>
                    </a:lnTo>
                    <a:lnTo>
                      <a:pt x="161" y="295"/>
                    </a:lnTo>
                    <a:lnTo>
                      <a:pt x="155" y="298"/>
                    </a:lnTo>
                    <a:lnTo>
                      <a:pt x="149" y="301"/>
                    </a:lnTo>
                    <a:lnTo>
                      <a:pt x="142" y="303"/>
                    </a:lnTo>
                    <a:lnTo>
                      <a:pt x="138" y="306"/>
                    </a:lnTo>
                    <a:lnTo>
                      <a:pt x="132" y="307"/>
                    </a:lnTo>
                    <a:lnTo>
                      <a:pt x="126" y="310"/>
                    </a:lnTo>
                    <a:lnTo>
                      <a:pt x="120" y="312"/>
                    </a:lnTo>
                    <a:lnTo>
                      <a:pt x="115" y="313"/>
                    </a:lnTo>
                    <a:lnTo>
                      <a:pt x="109" y="313"/>
                    </a:lnTo>
                    <a:lnTo>
                      <a:pt x="105" y="315"/>
                    </a:lnTo>
                    <a:lnTo>
                      <a:pt x="99" y="316"/>
                    </a:lnTo>
                    <a:lnTo>
                      <a:pt x="94" y="316"/>
                    </a:lnTo>
                    <a:lnTo>
                      <a:pt x="90" y="317"/>
                    </a:lnTo>
                    <a:lnTo>
                      <a:pt x="87" y="317"/>
                    </a:lnTo>
                    <a:lnTo>
                      <a:pt x="83" y="317"/>
                    </a:lnTo>
                    <a:lnTo>
                      <a:pt x="78" y="317"/>
                    </a:lnTo>
                    <a:lnTo>
                      <a:pt x="75" y="317"/>
                    </a:lnTo>
                    <a:lnTo>
                      <a:pt x="72" y="319"/>
                    </a:lnTo>
                    <a:lnTo>
                      <a:pt x="65" y="319"/>
                    </a:lnTo>
                    <a:lnTo>
                      <a:pt x="60" y="319"/>
                    </a:lnTo>
                    <a:lnTo>
                      <a:pt x="54" y="317"/>
                    </a:lnTo>
                    <a:lnTo>
                      <a:pt x="51" y="317"/>
                    </a:lnTo>
                    <a:lnTo>
                      <a:pt x="47" y="316"/>
                    </a:lnTo>
                    <a:lnTo>
                      <a:pt x="44" y="316"/>
                    </a:lnTo>
                    <a:lnTo>
                      <a:pt x="41" y="313"/>
                    </a:lnTo>
                    <a:lnTo>
                      <a:pt x="40" y="313"/>
                    </a:lnTo>
                    <a:lnTo>
                      <a:pt x="38" y="313"/>
                    </a:lnTo>
                    <a:lnTo>
                      <a:pt x="37" y="312"/>
                    </a:lnTo>
                    <a:lnTo>
                      <a:pt x="35" y="310"/>
                    </a:lnTo>
                    <a:lnTo>
                      <a:pt x="35" y="306"/>
                    </a:lnTo>
                    <a:lnTo>
                      <a:pt x="35" y="303"/>
                    </a:lnTo>
                    <a:lnTo>
                      <a:pt x="37" y="300"/>
                    </a:lnTo>
                    <a:lnTo>
                      <a:pt x="38" y="297"/>
                    </a:lnTo>
                    <a:lnTo>
                      <a:pt x="40" y="294"/>
                    </a:lnTo>
                    <a:lnTo>
                      <a:pt x="41" y="289"/>
                    </a:lnTo>
                    <a:lnTo>
                      <a:pt x="43" y="285"/>
                    </a:lnTo>
                    <a:lnTo>
                      <a:pt x="44" y="280"/>
                    </a:lnTo>
                    <a:lnTo>
                      <a:pt x="47" y="274"/>
                    </a:lnTo>
                    <a:lnTo>
                      <a:pt x="48" y="269"/>
                    </a:lnTo>
                    <a:lnTo>
                      <a:pt x="51" y="264"/>
                    </a:lnTo>
                    <a:lnTo>
                      <a:pt x="54" y="258"/>
                    </a:lnTo>
                    <a:lnTo>
                      <a:pt x="57" y="254"/>
                    </a:lnTo>
                    <a:lnTo>
                      <a:pt x="59" y="248"/>
                    </a:lnTo>
                    <a:lnTo>
                      <a:pt x="62" y="243"/>
                    </a:lnTo>
                    <a:lnTo>
                      <a:pt x="63" y="239"/>
                    </a:lnTo>
                    <a:lnTo>
                      <a:pt x="66" y="236"/>
                    </a:lnTo>
                    <a:lnTo>
                      <a:pt x="69" y="231"/>
                    </a:lnTo>
                    <a:lnTo>
                      <a:pt x="71" y="230"/>
                    </a:lnTo>
                    <a:lnTo>
                      <a:pt x="37" y="242"/>
                    </a:lnTo>
                    <a:lnTo>
                      <a:pt x="35" y="242"/>
                    </a:lnTo>
                    <a:lnTo>
                      <a:pt x="32" y="245"/>
                    </a:lnTo>
                    <a:lnTo>
                      <a:pt x="28" y="249"/>
                    </a:lnTo>
                    <a:lnTo>
                      <a:pt x="25" y="254"/>
                    </a:lnTo>
                    <a:lnTo>
                      <a:pt x="22" y="257"/>
                    </a:lnTo>
                    <a:lnTo>
                      <a:pt x="19" y="261"/>
                    </a:lnTo>
                    <a:lnTo>
                      <a:pt x="16" y="264"/>
                    </a:lnTo>
                    <a:lnTo>
                      <a:pt x="14" y="269"/>
                    </a:lnTo>
                    <a:lnTo>
                      <a:pt x="11" y="271"/>
                    </a:lnTo>
                    <a:lnTo>
                      <a:pt x="10" y="277"/>
                    </a:lnTo>
                    <a:lnTo>
                      <a:pt x="7" y="282"/>
                    </a:lnTo>
                    <a:lnTo>
                      <a:pt x="7" y="288"/>
                    </a:lnTo>
                    <a:lnTo>
                      <a:pt x="4" y="292"/>
                    </a:lnTo>
                    <a:lnTo>
                      <a:pt x="2" y="298"/>
                    </a:lnTo>
                    <a:lnTo>
                      <a:pt x="2" y="303"/>
                    </a:lnTo>
                    <a:lnTo>
                      <a:pt x="1" y="309"/>
                    </a:lnTo>
                    <a:lnTo>
                      <a:pt x="0" y="313"/>
                    </a:lnTo>
                    <a:lnTo>
                      <a:pt x="0" y="319"/>
                    </a:lnTo>
                    <a:lnTo>
                      <a:pt x="0" y="325"/>
                    </a:lnTo>
                    <a:lnTo>
                      <a:pt x="0" y="329"/>
                    </a:lnTo>
                    <a:lnTo>
                      <a:pt x="0" y="334"/>
                    </a:lnTo>
                    <a:lnTo>
                      <a:pt x="0" y="338"/>
                    </a:lnTo>
                    <a:lnTo>
                      <a:pt x="0" y="341"/>
                    </a:lnTo>
                    <a:lnTo>
                      <a:pt x="0" y="346"/>
                    </a:lnTo>
                    <a:lnTo>
                      <a:pt x="0" y="350"/>
                    </a:lnTo>
                    <a:lnTo>
                      <a:pt x="1" y="352"/>
                    </a:lnTo>
                    <a:lnTo>
                      <a:pt x="2" y="352"/>
                    </a:lnTo>
                    <a:lnTo>
                      <a:pt x="4" y="353"/>
                    </a:lnTo>
                    <a:lnTo>
                      <a:pt x="8" y="353"/>
                    </a:lnTo>
                    <a:lnTo>
                      <a:pt x="11" y="355"/>
                    </a:lnTo>
                    <a:lnTo>
                      <a:pt x="17" y="355"/>
                    </a:lnTo>
                    <a:lnTo>
                      <a:pt x="20" y="355"/>
                    </a:lnTo>
                    <a:lnTo>
                      <a:pt x="23" y="355"/>
                    </a:lnTo>
                    <a:lnTo>
                      <a:pt x="28" y="355"/>
                    </a:lnTo>
                    <a:lnTo>
                      <a:pt x="31" y="356"/>
                    </a:lnTo>
                    <a:lnTo>
                      <a:pt x="35" y="355"/>
                    </a:lnTo>
                    <a:lnTo>
                      <a:pt x="38" y="355"/>
                    </a:lnTo>
                    <a:lnTo>
                      <a:pt x="43" y="355"/>
                    </a:lnTo>
                    <a:lnTo>
                      <a:pt x="47" y="355"/>
                    </a:lnTo>
                    <a:lnTo>
                      <a:pt x="51" y="355"/>
                    </a:lnTo>
                    <a:lnTo>
                      <a:pt x="56" y="355"/>
                    </a:lnTo>
                    <a:lnTo>
                      <a:pt x="62" y="353"/>
                    </a:lnTo>
                    <a:lnTo>
                      <a:pt x="66" y="353"/>
                    </a:lnTo>
                    <a:lnTo>
                      <a:pt x="72" y="352"/>
                    </a:lnTo>
                    <a:lnTo>
                      <a:pt x="78" y="352"/>
                    </a:lnTo>
                    <a:lnTo>
                      <a:pt x="84" y="350"/>
                    </a:lnTo>
                    <a:lnTo>
                      <a:pt x="90" y="349"/>
                    </a:lnTo>
                    <a:lnTo>
                      <a:pt x="96" y="347"/>
                    </a:lnTo>
                    <a:lnTo>
                      <a:pt x="103" y="346"/>
                    </a:lnTo>
                    <a:lnTo>
                      <a:pt x="106" y="344"/>
                    </a:lnTo>
                    <a:lnTo>
                      <a:pt x="109" y="344"/>
                    </a:lnTo>
                    <a:lnTo>
                      <a:pt x="112" y="344"/>
                    </a:lnTo>
                    <a:lnTo>
                      <a:pt x="117" y="343"/>
                    </a:lnTo>
                    <a:lnTo>
                      <a:pt x="120" y="341"/>
                    </a:lnTo>
                    <a:lnTo>
                      <a:pt x="123" y="340"/>
                    </a:lnTo>
                    <a:lnTo>
                      <a:pt x="127" y="338"/>
                    </a:lnTo>
                    <a:lnTo>
                      <a:pt x="130" y="337"/>
                    </a:lnTo>
                    <a:lnTo>
                      <a:pt x="135" y="335"/>
                    </a:lnTo>
                    <a:lnTo>
                      <a:pt x="138" y="334"/>
                    </a:lnTo>
                    <a:lnTo>
                      <a:pt x="142" y="332"/>
                    </a:lnTo>
                    <a:lnTo>
                      <a:pt x="145" y="332"/>
                    </a:lnTo>
                    <a:lnTo>
                      <a:pt x="149" y="329"/>
                    </a:lnTo>
                    <a:lnTo>
                      <a:pt x="152" y="328"/>
                    </a:lnTo>
                    <a:lnTo>
                      <a:pt x="157" y="326"/>
                    </a:lnTo>
                    <a:lnTo>
                      <a:pt x="160" y="325"/>
                    </a:lnTo>
                    <a:lnTo>
                      <a:pt x="164" y="323"/>
                    </a:lnTo>
                    <a:lnTo>
                      <a:pt x="169" y="322"/>
                    </a:lnTo>
                    <a:lnTo>
                      <a:pt x="172" y="320"/>
                    </a:lnTo>
                    <a:lnTo>
                      <a:pt x="176" y="319"/>
                    </a:lnTo>
                    <a:lnTo>
                      <a:pt x="181" y="317"/>
                    </a:lnTo>
                    <a:lnTo>
                      <a:pt x="184" y="315"/>
                    </a:lnTo>
                    <a:lnTo>
                      <a:pt x="188" y="313"/>
                    </a:lnTo>
                    <a:lnTo>
                      <a:pt x="192" y="312"/>
                    </a:lnTo>
                    <a:lnTo>
                      <a:pt x="195" y="310"/>
                    </a:lnTo>
                    <a:lnTo>
                      <a:pt x="200" y="307"/>
                    </a:lnTo>
                    <a:lnTo>
                      <a:pt x="204" y="306"/>
                    </a:lnTo>
                    <a:lnTo>
                      <a:pt x="209" y="304"/>
                    </a:lnTo>
                    <a:lnTo>
                      <a:pt x="212" y="301"/>
                    </a:lnTo>
                    <a:lnTo>
                      <a:pt x="216" y="300"/>
                    </a:lnTo>
                    <a:lnTo>
                      <a:pt x="219" y="297"/>
                    </a:lnTo>
                    <a:lnTo>
                      <a:pt x="224" y="295"/>
                    </a:lnTo>
                    <a:lnTo>
                      <a:pt x="228" y="292"/>
                    </a:lnTo>
                    <a:lnTo>
                      <a:pt x="231" y="291"/>
                    </a:lnTo>
                    <a:lnTo>
                      <a:pt x="235" y="289"/>
                    </a:lnTo>
                    <a:lnTo>
                      <a:pt x="240" y="288"/>
                    </a:lnTo>
                    <a:lnTo>
                      <a:pt x="243" y="285"/>
                    </a:lnTo>
                    <a:lnTo>
                      <a:pt x="247" y="282"/>
                    </a:lnTo>
                    <a:lnTo>
                      <a:pt x="250" y="280"/>
                    </a:lnTo>
                    <a:lnTo>
                      <a:pt x="255" y="277"/>
                    </a:lnTo>
                    <a:lnTo>
                      <a:pt x="258" y="276"/>
                    </a:lnTo>
                    <a:lnTo>
                      <a:pt x="262" y="273"/>
                    </a:lnTo>
                    <a:lnTo>
                      <a:pt x="265" y="270"/>
                    </a:lnTo>
                    <a:lnTo>
                      <a:pt x="270" y="269"/>
                    </a:lnTo>
                    <a:lnTo>
                      <a:pt x="273" y="266"/>
                    </a:lnTo>
                    <a:lnTo>
                      <a:pt x="277" y="263"/>
                    </a:lnTo>
                    <a:lnTo>
                      <a:pt x="280" y="261"/>
                    </a:lnTo>
                    <a:lnTo>
                      <a:pt x="284" y="258"/>
                    </a:lnTo>
                    <a:lnTo>
                      <a:pt x="287" y="255"/>
                    </a:lnTo>
                    <a:lnTo>
                      <a:pt x="290" y="254"/>
                    </a:lnTo>
                    <a:lnTo>
                      <a:pt x="293" y="251"/>
                    </a:lnTo>
                    <a:lnTo>
                      <a:pt x="298" y="249"/>
                    </a:lnTo>
                    <a:lnTo>
                      <a:pt x="304" y="243"/>
                    </a:lnTo>
                    <a:lnTo>
                      <a:pt x="310" y="239"/>
                    </a:lnTo>
                    <a:lnTo>
                      <a:pt x="316" y="233"/>
                    </a:lnTo>
                    <a:lnTo>
                      <a:pt x="322" y="227"/>
                    </a:lnTo>
                    <a:lnTo>
                      <a:pt x="326" y="223"/>
                    </a:lnTo>
                    <a:lnTo>
                      <a:pt x="332" y="217"/>
                    </a:lnTo>
                    <a:lnTo>
                      <a:pt x="336" y="212"/>
                    </a:lnTo>
                    <a:lnTo>
                      <a:pt x="342" y="208"/>
                    </a:lnTo>
                    <a:lnTo>
                      <a:pt x="345" y="202"/>
                    </a:lnTo>
                    <a:lnTo>
                      <a:pt x="350" y="196"/>
                    </a:lnTo>
                    <a:lnTo>
                      <a:pt x="353" y="190"/>
                    </a:lnTo>
                    <a:lnTo>
                      <a:pt x="356" y="185"/>
                    </a:lnTo>
                    <a:lnTo>
                      <a:pt x="359" y="179"/>
                    </a:lnTo>
                    <a:lnTo>
                      <a:pt x="362" y="175"/>
                    </a:lnTo>
                    <a:lnTo>
                      <a:pt x="365" y="171"/>
                    </a:lnTo>
                    <a:lnTo>
                      <a:pt x="366" y="165"/>
                    </a:lnTo>
                    <a:lnTo>
                      <a:pt x="368" y="160"/>
                    </a:lnTo>
                    <a:lnTo>
                      <a:pt x="370" y="156"/>
                    </a:lnTo>
                    <a:lnTo>
                      <a:pt x="370" y="150"/>
                    </a:lnTo>
                    <a:lnTo>
                      <a:pt x="372" y="145"/>
                    </a:lnTo>
                    <a:lnTo>
                      <a:pt x="373" y="141"/>
                    </a:lnTo>
                    <a:lnTo>
                      <a:pt x="373" y="136"/>
                    </a:lnTo>
                    <a:lnTo>
                      <a:pt x="375" y="133"/>
                    </a:lnTo>
                    <a:lnTo>
                      <a:pt x="376" y="129"/>
                    </a:lnTo>
                    <a:lnTo>
                      <a:pt x="376" y="125"/>
                    </a:lnTo>
                    <a:lnTo>
                      <a:pt x="376" y="122"/>
                    </a:lnTo>
                    <a:lnTo>
                      <a:pt x="376" y="117"/>
                    </a:lnTo>
                    <a:lnTo>
                      <a:pt x="376" y="114"/>
                    </a:lnTo>
                    <a:lnTo>
                      <a:pt x="376" y="108"/>
                    </a:lnTo>
                    <a:lnTo>
                      <a:pt x="376" y="102"/>
                    </a:lnTo>
                    <a:lnTo>
                      <a:pt x="375" y="99"/>
                    </a:lnTo>
                    <a:lnTo>
                      <a:pt x="375" y="95"/>
                    </a:lnTo>
                    <a:lnTo>
                      <a:pt x="375" y="93"/>
                    </a:lnTo>
                    <a:lnTo>
                      <a:pt x="375" y="0"/>
                    </a:lnTo>
                    <a:lnTo>
                      <a:pt x="356" y="36"/>
                    </a:lnTo>
                    <a:lnTo>
                      <a:pt x="356" y="3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3425760" y="3561840"/>
                <a:ext cx="377640" cy="110880"/>
              </a:xfrm>
              <a:custGeom>
                <a:avLst/>
                <a:gdLst/>
                <a:ahLst/>
                <a:rect l="l" t="t" r="r" b="b"/>
                <a:pathLst>
                  <a:path w="475" h="139">
                    <a:moveTo>
                      <a:pt x="475" y="0"/>
                    </a:moveTo>
                    <a:lnTo>
                      <a:pt x="474" y="0"/>
                    </a:lnTo>
                    <a:lnTo>
                      <a:pt x="474" y="1"/>
                    </a:lnTo>
                    <a:lnTo>
                      <a:pt x="474" y="3"/>
                    </a:lnTo>
                    <a:lnTo>
                      <a:pt x="472" y="7"/>
                    </a:lnTo>
                    <a:lnTo>
                      <a:pt x="469" y="10"/>
                    </a:lnTo>
                    <a:lnTo>
                      <a:pt x="466" y="14"/>
                    </a:lnTo>
                    <a:lnTo>
                      <a:pt x="462" y="20"/>
                    </a:lnTo>
                    <a:lnTo>
                      <a:pt x="456" y="26"/>
                    </a:lnTo>
                    <a:lnTo>
                      <a:pt x="453" y="28"/>
                    </a:lnTo>
                    <a:lnTo>
                      <a:pt x="449" y="32"/>
                    </a:lnTo>
                    <a:lnTo>
                      <a:pt x="444" y="34"/>
                    </a:lnTo>
                    <a:lnTo>
                      <a:pt x="440" y="38"/>
                    </a:lnTo>
                    <a:lnTo>
                      <a:pt x="435" y="41"/>
                    </a:lnTo>
                    <a:lnTo>
                      <a:pt x="429" y="44"/>
                    </a:lnTo>
                    <a:lnTo>
                      <a:pt x="423" y="47"/>
                    </a:lnTo>
                    <a:lnTo>
                      <a:pt x="417" y="50"/>
                    </a:lnTo>
                    <a:lnTo>
                      <a:pt x="414" y="52"/>
                    </a:lnTo>
                    <a:lnTo>
                      <a:pt x="410" y="54"/>
                    </a:lnTo>
                    <a:lnTo>
                      <a:pt x="407" y="54"/>
                    </a:lnTo>
                    <a:lnTo>
                      <a:pt x="404" y="57"/>
                    </a:lnTo>
                    <a:lnTo>
                      <a:pt x="400" y="57"/>
                    </a:lnTo>
                    <a:lnTo>
                      <a:pt x="395" y="60"/>
                    </a:lnTo>
                    <a:lnTo>
                      <a:pt x="392" y="62"/>
                    </a:lnTo>
                    <a:lnTo>
                      <a:pt x="388" y="63"/>
                    </a:lnTo>
                    <a:lnTo>
                      <a:pt x="383" y="65"/>
                    </a:lnTo>
                    <a:lnTo>
                      <a:pt x="379" y="66"/>
                    </a:lnTo>
                    <a:lnTo>
                      <a:pt x="373" y="68"/>
                    </a:lnTo>
                    <a:lnTo>
                      <a:pt x="370" y="69"/>
                    </a:lnTo>
                    <a:lnTo>
                      <a:pt x="364" y="71"/>
                    </a:lnTo>
                    <a:lnTo>
                      <a:pt x="360" y="72"/>
                    </a:lnTo>
                    <a:lnTo>
                      <a:pt x="354" y="74"/>
                    </a:lnTo>
                    <a:lnTo>
                      <a:pt x="349" y="77"/>
                    </a:lnTo>
                    <a:lnTo>
                      <a:pt x="343" y="77"/>
                    </a:lnTo>
                    <a:lnTo>
                      <a:pt x="337" y="78"/>
                    </a:lnTo>
                    <a:lnTo>
                      <a:pt x="331" y="80"/>
                    </a:lnTo>
                    <a:lnTo>
                      <a:pt x="324" y="81"/>
                    </a:lnTo>
                    <a:lnTo>
                      <a:pt x="318" y="81"/>
                    </a:lnTo>
                    <a:lnTo>
                      <a:pt x="312" y="84"/>
                    </a:lnTo>
                    <a:lnTo>
                      <a:pt x="306" y="84"/>
                    </a:lnTo>
                    <a:lnTo>
                      <a:pt x="299" y="86"/>
                    </a:lnTo>
                    <a:lnTo>
                      <a:pt x="293" y="87"/>
                    </a:lnTo>
                    <a:lnTo>
                      <a:pt x="285" y="89"/>
                    </a:lnTo>
                    <a:lnTo>
                      <a:pt x="279" y="89"/>
                    </a:lnTo>
                    <a:lnTo>
                      <a:pt x="272" y="90"/>
                    </a:lnTo>
                    <a:lnTo>
                      <a:pt x="265" y="92"/>
                    </a:lnTo>
                    <a:lnTo>
                      <a:pt x="257" y="92"/>
                    </a:lnTo>
                    <a:lnTo>
                      <a:pt x="251" y="93"/>
                    </a:lnTo>
                    <a:lnTo>
                      <a:pt x="244" y="95"/>
                    </a:lnTo>
                    <a:lnTo>
                      <a:pt x="236" y="96"/>
                    </a:lnTo>
                    <a:lnTo>
                      <a:pt x="229" y="96"/>
                    </a:lnTo>
                    <a:lnTo>
                      <a:pt x="222" y="98"/>
                    </a:lnTo>
                    <a:lnTo>
                      <a:pt x="216" y="99"/>
                    </a:lnTo>
                    <a:lnTo>
                      <a:pt x="208" y="99"/>
                    </a:lnTo>
                    <a:lnTo>
                      <a:pt x="201" y="100"/>
                    </a:lnTo>
                    <a:lnTo>
                      <a:pt x="193" y="100"/>
                    </a:lnTo>
                    <a:lnTo>
                      <a:pt x="186" y="102"/>
                    </a:lnTo>
                    <a:lnTo>
                      <a:pt x="178" y="102"/>
                    </a:lnTo>
                    <a:lnTo>
                      <a:pt x="171" y="103"/>
                    </a:lnTo>
                    <a:lnTo>
                      <a:pt x="164" y="103"/>
                    </a:lnTo>
                    <a:lnTo>
                      <a:pt x="158" y="105"/>
                    </a:lnTo>
                    <a:lnTo>
                      <a:pt x="150" y="105"/>
                    </a:lnTo>
                    <a:lnTo>
                      <a:pt x="143" y="106"/>
                    </a:lnTo>
                    <a:lnTo>
                      <a:pt x="137" y="108"/>
                    </a:lnTo>
                    <a:lnTo>
                      <a:pt x="131" y="108"/>
                    </a:lnTo>
                    <a:lnTo>
                      <a:pt x="124" y="108"/>
                    </a:lnTo>
                    <a:lnTo>
                      <a:pt x="116" y="109"/>
                    </a:lnTo>
                    <a:lnTo>
                      <a:pt x="109" y="109"/>
                    </a:lnTo>
                    <a:lnTo>
                      <a:pt x="103" y="111"/>
                    </a:lnTo>
                    <a:lnTo>
                      <a:pt x="97" y="111"/>
                    </a:lnTo>
                    <a:lnTo>
                      <a:pt x="89" y="111"/>
                    </a:lnTo>
                    <a:lnTo>
                      <a:pt x="85" y="111"/>
                    </a:lnTo>
                    <a:lnTo>
                      <a:pt x="79" y="112"/>
                    </a:lnTo>
                    <a:lnTo>
                      <a:pt x="73" y="112"/>
                    </a:lnTo>
                    <a:lnTo>
                      <a:pt x="67" y="112"/>
                    </a:lnTo>
                    <a:lnTo>
                      <a:pt x="61" y="114"/>
                    </a:lnTo>
                    <a:lnTo>
                      <a:pt x="57" y="114"/>
                    </a:lnTo>
                    <a:lnTo>
                      <a:pt x="51" y="114"/>
                    </a:lnTo>
                    <a:lnTo>
                      <a:pt x="46" y="115"/>
                    </a:lnTo>
                    <a:lnTo>
                      <a:pt x="42" y="115"/>
                    </a:lnTo>
                    <a:lnTo>
                      <a:pt x="38" y="115"/>
                    </a:lnTo>
                    <a:lnTo>
                      <a:pt x="33" y="115"/>
                    </a:lnTo>
                    <a:lnTo>
                      <a:pt x="29" y="115"/>
                    </a:lnTo>
                    <a:lnTo>
                      <a:pt x="26" y="115"/>
                    </a:lnTo>
                    <a:lnTo>
                      <a:pt x="23" y="117"/>
                    </a:lnTo>
                    <a:lnTo>
                      <a:pt x="18" y="117"/>
                    </a:lnTo>
                    <a:lnTo>
                      <a:pt x="15" y="117"/>
                    </a:lnTo>
                    <a:lnTo>
                      <a:pt x="12" y="117"/>
                    </a:lnTo>
                    <a:lnTo>
                      <a:pt x="11" y="117"/>
                    </a:lnTo>
                    <a:lnTo>
                      <a:pt x="5" y="117"/>
                    </a:lnTo>
                    <a:lnTo>
                      <a:pt x="2" y="118"/>
                    </a:lnTo>
                    <a:lnTo>
                      <a:pt x="0" y="118"/>
                    </a:lnTo>
                    <a:lnTo>
                      <a:pt x="0" y="118"/>
                    </a:lnTo>
                    <a:lnTo>
                      <a:pt x="0" y="118"/>
                    </a:lnTo>
                    <a:lnTo>
                      <a:pt x="5" y="120"/>
                    </a:lnTo>
                    <a:lnTo>
                      <a:pt x="6" y="120"/>
                    </a:lnTo>
                    <a:lnTo>
                      <a:pt x="11" y="121"/>
                    </a:lnTo>
                    <a:lnTo>
                      <a:pt x="14" y="121"/>
                    </a:lnTo>
                    <a:lnTo>
                      <a:pt x="18" y="123"/>
                    </a:lnTo>
                    <a:lnTo>
                      <a:pt x="21" y="123"/>
                    </a:lnTo>
                    <a:lnTo>
                      <a:pt x="27" y="124"/>
                    </a:lnTo>
                    <a:lnTo>
                      <a:pt x="32" y="126"/>
                    </a:lnTo>
                    <a:lnTo>
                      <a:pt x="38" y="127"/>
                    </a:lnTo>
                    <a:lnTo>
                      <a:pt x="40" y="127"/>
                    </a:lnTo>
                    <a:lnTo>
                      <a:pt x="43" y="127"/>
                    </a:lnTo>
                    <a:lnTo>
                      <a:pt x="48" y="129"/>
                    </a:lnTo>
                    <a:lnTo>
                      <a:pt x="51" y="129"/>
                    </a:lnTo>
                    <a:lnTo>
                      <a:pt x="54" y="130"/>
                    </a:lnTo>
                    <a:lnTo>
                      <a:pt x="58" y="130"/>
                    </a:lnTo>
                    <a:lnTo>
                      <a:pt x="61" y="130"/>
                    </a:lnTo>
                    <a:lnTo>
                      <a:pt x="66" y="132"/>
                    </a:lnTo>
                    <a:lnTo>
                      <a:pt x="70" y="132"/>
                    </a:lnTo>
                    <a:lnTo>
                      <a:pt x="73" y="133"/>
                    </a:lnTo>
                    <a:lnTo>
                      <a:pt x="78" y="133"/>
                    </a:lnTo>
                    <a:lnTo>
                      <a:pt x="81" y="133"/>
                    </a:lnTo>
                    <a:lnTo>
                      <a:pt x="85" y="133"/>
                    </a:lnTo>
                    <a:lnTo>
                      <a:pt x="89" y="135"/>
                    </a:lnTo>
                    <a:lnTo>
                      <a:pt x="94" y="135"/>
                    </a:lnTo>
                    <a:lnTo>
                      <a:pt x="98" y="136"/>
                    </a:lnTo>
                    <a:lnTo>
                      <a:pt x="101" y="136"/>
                    </a:lnTo>
                    <a:lnTo>
                      <a:pt x="107" y="138"/>
                    </a:lnTo>
                    <a:lnTo>
                      <a:pt x="112" y="138"/>
                    </a:lnTo>
                    <a:lnTo>
                      <a:pt x="116" y="138"/>
                    </a:lnTo>
                    <a:lnTo>
                      <a:pt x="121" y="138"/>
                    </a:lnTo>
                    <a:lnTo>
                      <a:pt x="127" y="138"/>
                    </a:lnTo>
                    <a:lnTo>
                      <a:pt x="131" y="138"/>
                    </a:lnTo>
                    <a:lnTo>
                      <a:pt x="135" y="139"/>
                    </a:lnTo>
                    <a:lnTo>
                      <a:pt x="140" y="139"/>
                    </a:lnTo>
                    <a:lnTo>
                      <a:pt x="146" y="139"/>
                    </a:lnTo>
                    <a:lnTo>
                      <a:pt x="150" y="139"/>
                    </a:lnTo>
                    <a:lnTo>
                      <a:pt x="156" y="139"/>
                    </a:lnTo>
                    <a:lnTo>
                      <a:pt x="161" y="139"/>
                    </a:lnTo>
                    <a:lnTo>
                      <a:pt x="165" y="139"/>
                    </a:lnTo>
                    <a:lnTo>
                      <a:pt x="171" y="139"/>
                    </a:lnTo>
                    <a:lnTo>
                      <a:pt x="176" y="139"/>
                    </a:lnTo>
                    <a:lnTo>
                      <a:pt x="181" y="139"/>
                    </a:lnTo>
                    <a:lnTo>
                      <a:pt x="187" y="139"/>
                    </a:lnTo>
                    <a:lnTo>
                      <a:pt x="192" y="138"/>
                    </a:lnTo>
                    <a:lnTo>
                      <a:pt x="198" y="138"/>
                    </a:lnTo>
                    <a:lnTo>
                      <a:pt x="204" y="138"/>
                    </a:lnTo>
                    <a:lnTo>
                      <a:pt x="210" y="138"/>
                    </a:lnTo>
                    <a:lnTo>
                      <a:pt x="214" y="138"/>
                    </a:lnTo>
                    <a:lnTo>
                      <a:pt x="220" y="138"/>
                    </a:lnTo>
                    <a:lnTo>
                      <a:pt x="224" y="136"/>
                    </a:lnTo>
                    <a:lnTo>
                      <a:pt x="230" y="135"/>
                    </a:lnTo>
                    <a:lnTo>
                      <a:pt x="236" y="133"/>
                    </a:lnTo>
                    <a:lnTo>
                      <a:pt x="242" y="133"/>
                    </a:lnTo>
                    <a:lnTo>
                      <a:pt x="247" y="132"/>
                    </a:lnTo>
                    <a:lnTo>
                      <a:pt x="253" y="132"/>
                    </a:lnTo>
                    <a:lnTo>
                      <a:pt x="259" y="130"/>
                    </a:lnTo>
                    <a:lnTo>
                      <a:pt x="265" y="130"/>
                    </a:lnTo>
                    <a:lnTo>
                      <a:pt x="269" y="127"/>
                    </a:lnTo>
                    <a:lnTo>
                      <a:pt x="275" y="127"/>
                    </a:lnTo>
                    <a:lnTo>
                      <a:pt x="281" y="126"/>
                    </a:lnTo>
                    <a:lnTo>
                      <a:pt x="287" y="124"/>
                    </a:lnTo>
                    <a:lnTo>
                      <a:pt x="291" y="123"/>
                    </a:lnTo>
                    <a:lnTo>
                      <a:pt x="297" y="123"/>
                    </a:lnTo>
                    <a:lnTo>
                      <a:pt x="303" y="120"/>
                    </a:lnTo>
                    <a:lnTo>
                      <a:pt x="309" y="120"/>
                    </a:lnTo>
                    <a:lnTo>
                      <a:pt x="314" y="118"/>
                    </a:lnTo>
                    <a:lnTo>
                      <a:pt x="319" y="117"/>
                    </a:lnTo>
                    <a:lnTo>
                      <a:pt x="324" y="115"/>
                    </a:lnTo>
                    <a:lnTo>
                      <a:pt x="330" y="114"/>
                    </a:lnTo>
                    <a:lnTo>
                      <a:pt x="334" y="111"/>
                    </a:lnTo>
                    <a:lnTo>
                      <a:pt x="340" y="111"/>
                    </a:lnTo>
                    <a:lnTo>
                      <a:pt x="345" y="109"/>
                    </a:lnTo>
                    <a:lnTo>
                      <a:pt x="351" y="108"/>
                    </a:lnTo>
                    <a:lnTo>
                      <a:pt x="355" y="106"/>
                    </a:lnTo>
                    <a:lnTo>
                      <a:pt x="361" y="105"/>
                    </a:lnTo>
                    <a:lnTo>
                      <a:pt x="365" y="103"/>
                    </a:lnTo>
                    <a:lnTo>
                      <a:pt x="370" y="102"/>
                    </a:lnTo>
                    <a:lnTo>
                      <a:pt x="374" y="99"/>
                    </a:lnTo>
                    <a:lnTo>
                      <a:pt x="380" y="99"/>
                    </a:lnTo>
                    <a:lnTo>
                      <a:pt x="385" y="98"/>
                    </a:lnTo>
                    <a:lnTo>
                      <a:pt x="389" y="96"/>
                    </a:lnTo>
                    <a:lnTo>
                      <a:pt x="394" y="95"/>
                    </a:lnTo>
                    <a:lnTo>
                      <a:pt x="398" y="92"/>
                    </a:lnTo>
                    <a:lnTo>
                      <a:pt x="403" y="92"/>
                    </a:lnTo>
                    <a:lnTo>
                      <a:pt x="407" y="90"/>
                    </a:lnTo>
                    <a:lnTo>
                      <a:pt x="410" y="89"/>
                    </a:lnTo>
                    <a:lnTo>
                      <a:pt x="414" y="87"/>
                    </a:lnTo>
                    <a:lnTo>
                      <a:pt x="417" y="86"/>
                    </a:lnTo>
                    <a:lnTo>
                      <a:pt x="422" y="84"/>
                    </a:lnTo>
                    <a:lnTo>
                      <a:pt x="425" y="83"/>
                    </a:lnTo>
                    <a:lnTo>
                      <a:pt x="429" y="81"/>
                    </a:lnTo>
                    <a:lnTo>
                      <a:pt x="432" y="80"/>
                    </a:lnTo>
                    <a:lnTo>
                      <a:pt x="437" y="78"/>
                    </a:lnTo>
                    <a:lnTo>
                      <a:pt x="443" y="77"/>
                    </a:lnTo>
                    <a:lnTo>
                      <a:pt x="449" y="74"/>
                    </a:lnTo>
                    <a:lnTo>
                      <a:pt x="453" y="72"/>
                    </a:lnTo>
                    <a:lnTo>
                      <a:pt x="457" y="69"/>
                    </a:lnTo>
                    <a:lnTo>
                      <a:pt x="462" y="69"/>
                    </a:lnTo>
                    <a:lnTo>
                      <a:pt x="465" y="68"/>
                    </a:lnTo>
                    <a:lnTo>
                      <a:pt x="469" y="65"/>
                    </a:lnTo>
                    <a:lnTo>
                      <a:pt x="471" y="65"/>
                    </a:lnTo>
                    <a:lnTo>
                      <a:pt x="475" y="0"/>
                    </a:lnTo>
                    <a:lnTo>
                      <a:pt x="475"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3055680" y="3668400"/>
                <a:ext cx="424080" cy="460080"/>
              </a:xfrm>
              <a:custGeom>
                <a:avLst/>
                <a:gdLst/>
                <a:ahLst/>
                <a:rect l="l" t="t" r="r" b="b"/>
                <a:pathLst>
                  <a:path w="534" h="580">
                    <a:moveTo>
                      <a:pt x="497" y="0"/>
                    </a:moveTo>
                    <a:lnTo>
                      <a:pt x="496" y="0"/>
                    </a:lnTo>
                    <a:lnTo>
                      <a:pt x="493" y="3"/>
                    </a:lnTo>
                    <a:lnTo>
                      <a:pt x="491" y="5"/>
                    </a:lnTo>
                    <a:lnTo>
                      <a:pt x="490" y="8"/>
                    </a:lnTo>
                    <a:lnTo>
                      <a:pt x="487" y="11"/>
                    </a:lnTo>
                    <a:lnTo>
                      <a:pt x="485" y="15"/>
                    </a:lnTo>
                    <a:lnTo>
                      <a:pt x="482" y="18"/>
                    </a:lnTo>
                    <a:lnTo>
                      <a:pt x="479" y="22"/>
                    </a:lnTo>
                    <a:lnTo>
                      <a:pt x="475" y="25"/>
                    </a:lnTo>
                    <a:lnTo>
                      <a:pt x="472" y="31"/>
                    </a:lnTo>
                    <a:lnTo>
                      <a:pt x="467" y="36"/>
                    </a:lnTo>
                    <a:lnTo>
                      <a:pt x="463" y="42"/>
                    </a:lnTo>
                    <a:lnTo>
                      <a:pt x="457" y="48"/>
                    </a:lnTo>
                    <a:lnTo>
                      <a:pt x="453" y="55"/>
                    </a:lnTo>
                    <a:lnTo>
                      <a:pt x="450" y="58"/>
                    </a:lnTo>
                    <a:lnTo>
                      <a:pt x="447" y="61"/>
                    </a:lnTo>
                    <a:lnTo>
                      <a:pt x="444" y="64"/>
                    </a:lnTo>
                    <a:lnTo>
                      <a:pt x="441" y="68"/>
                    </a:lnTo>
                    <a:lnTo>
                      <a:pt x="438" y="71"/>
                    </a:lnTo>
                    <a:lnTo>
                      <a:pt x="435" y="74"/>
                    </a:lnTo>
                    <a:lnTo>
                      <a:pt x="432" y="79"/>
                    </a:lnTo>
                    <a:lnTo>
                      <a:pt x="429" y="83"/>
                    </a:lnTo>
                    <a:lnTo>
                      <a:pt x="424" y="86"/>
                    </a:lnTo>
                    <a:lnTo>
                      <a:pt x="421" y="91"/>
                    </a:lnTo>
                    <a:lnTo>
                      <a:pt x="417" y="95"/>
                    </a:lnTo>
                    <a:lnTo>
                      <a:pt x="414" y="98"/>
                    </a:lnTo>
                    <a:lnTo>
                      <a:pt x="410" y="103"/>
                    </a:lnTo>
                    <a:lnTo>
                      <a:pt x="407" y="107"/>
                    </a:lnTo>
                    <a:lnTo>
                      <a:pt x="402" y="111"/>
                    </a:lnTo>
                    <a:lnTo>
                      <a:pt x="399" y="116"/>
                    </a:lnTo>
                    <a:lnTo>
                      <a:pt x="393" y="120"/>
                    </a:lnTo>
                    <a:lnTo>
                      <a:pt x="390" y="125"/>
                    </a:lnTo>
                    <a:lnTo>
                      <a:pt x="384" y="129"/>
                    </a:lnTo>
                    <a:lnTo>
                      <a:pt x="381" y="134"/>
                    </a:lnTo>
                    <a:lnTo>
                      <a:pt x="377" y="138"/>
                    </a:lnTo>
                    <a:lnTo>
                      <a:pt x="372" y="144"/>
                    </a:lnTo>
                    <a:lnTo>
                      <a:pt x="368" y="147"/>
                    </a:lnTo>
                    <a:lnTo>
                      <a:pt x="364" y="153"/>
                    </a:lnTo>
                    <a:lnTo>
                      <a:pt x="358" y="157"/>
                    </a:lnTo>
                    <a:lnTo>
                      <a:pt x="353" y="162"/>
                    </a:lnTo>
                    <a:lnTo>
                      <a:pt x="347" y="168"/>
                    </a:lnTo>
                    <a:lnTo>
                      <a:pt x="343" y="174"/>
                    </a:lnTo>
                    <a:lnTo>
                      <a:pt x="337" y="178"/>
                    </a:lnTo>
                    <a:lnTo>
                      <a:pt x="332" y="184"/>
                    </a:lnTo>
                    <a:lnTo>
                      <a:pt x="328" y="189"/>
                    </a:lnTo>
                    <a:lnTo>
                      <a:pt x="322" y="195"/>
                    </a:lnTo>
                    <a:lnTo>
                      <a:pt x="316" y="200"/>
                    </a:lnTo>
                    <a:lnTo>
                      <a:pt x="310" y="205"/>
                    </a:lnTo>
                    <a:lnTo>
                      <a:pt x="304" y="211"/>
                    </a:lnTo>
                    <a:lnTo>
                      <a:pt x="298" y="217"/>
                    </a:lnTo>
                    <a:lnTo>
                      <a:pt x="292" y="223"/>
                    </a:lnTo>
                    <a:lnTo>
                      <a:pt x="286" y="227"/>
                    </a:lnTo>
                    <a:lnTo>
                      <a:pt x="280" y="233"/>
                    </a:lnTo>
                    <a:lnTo>
                      <a:pt x="276" y="239"/>
                    </a:lnTo>
                    <a:lnTo>
                      <a:pt x="269" y="245"/>
                    </a:lnTo>
                    <a:lnTo>
                      <a:pt x="263" y="249"/>
                    </a:lnTo>
                    <a:lnTo>
                      <a:pt x="257" y="255"/>
                    </a:lnTo>
                    <a:lnTo>
                      <a:pt x="251" y="261"/>
                    </a:lnTo>
                    <a:lnTo>
                      <a:pt x="243" y="267"/>
                    </a:lnTo>
                    <a:lnTo>
                      <a:pt x="239" y="273"/>
                    </a:lnTo>
                    <a:lnTo>
                      <a:pt x="232" y="279"/>
                    </a:lnTo>
                    <a:lnTo>
                      <a:pt x="226" y="285"/>
                    </a:lnTo>
                    <a:lnTo>
                      <a:pt x="220" y="289"/>
                    </a:lnTo>
                    <a:lnTo>
                      <a:pt x="212" y="295"/>
                    </a:lnTo>
                    <a:lnTo>
                      <a:pt x="206" y="301"/>
                    </a:lnTo>
                    <a:lnTo>
                      <a:pt x="200" y="306"/>
                    </a:lnTo>
                    <a:lnTo>
                      <a:pt x="194" y="312"/>
                    </a:lnTo>
                    <a:lnTo>
                      <a:pt x="188" y="318"/>
                    </a:lnTo>
                    <a:lnTo>
                      <a:pt x="183" y="324"/>
                    </a:lnTo>
                    <a:lnTo>
                      <a:pt x="177" y="328"/>
                    </a:lnTo>
                    <a:lnTo>
                      <a:pt x="171" y="334"/>
                    </a:lnTo>
                    <a:lnTo>
                      <a:pt x="163" y="340"/>
                    </a:lnTo>
                    <a:lnTo>
                      <a:pt x="157" y="344"/>
                    </a:lnTo>
                    <a:lnTo>
                      <a:pt x="153" y="350"/>
                    </a:lnTo>
                    <a:lnTo>
                      <a:pt x="147" y="355"/>
                    </a:lnTo>
                    <a:lnTo>
                      <a:pt x="141" y="359"/>
                    </a:lnTo>
                    <a:lnTo>
                      <a:pt x="135" y="365"/>
                    </a:lnTo>
                    <a:lnTo>
                      <a:pt x="131" y="370"/>
                    </a:lnTo>
                    <a:lnTo>
                      <a:pt x="125" y="374"/>
                    </a:lnTo>
                    <a:lnTo>
                      <a:pt x="119" y="379"/>
                    </a:lnTo>
                    <a:lnTo>
                      <a:pt x="113" y="383"/>
                    </a:lnTo>
                    <a:lnTo>
                      <a:pt x="108" y="389"/>
                    </a:lnTo>
                    <a:lnTo>
                      <a:pt x="102" y="392"/>
                    </a:lnTo>
                    <a:lnTo>
                      <a:pt x="98" y="396"/>
                    </a:lnTo>
                    <a:lnTo>
                      <a:pt x="94" y="401"/>
                    </a:lnTo>
                    <a:lnTo>
                      <a:pt x="89" y="405"/>
                    </a:lnTo>
                    <a:lnTo>
                      <a:pt x="83" y="410"/>
                    </a:lnTo>
                    <a:lnTo>
                      <a:pt x="79" y="413"/>
                    </a:lnTo>
                    <a:lnTo>
                      <a:pt x="74" y="417"/>
                    </a:lnTo>
                    <a:lnTo>
                      <a:pt x="70" y="420"/>
                    </a:lnTo>
                    <a:lnTo>
                      <a:pt x="67" y="423"/>
                    </a:lnTo>
                    <a:lnTo>
                      <a:pt x="62" y="426"/>
                    </a:lnTo>
                    <a:lnTo>
                      <a:pt x="59" y="429"/>
                    </a:lnTo>
                    <a:lnTo>
                      <a:pt x="55" y="433"/>
                    </a:lnTo>
                    <a:lnTo>
                      <a:pt x="52" y="436"/>
                    </a:lnTo>
                    <a:lnTo>
                      <a:pt x="48" y="438"/>
                    </a:lnTo>
                    <a:lnTo>
                      <a:pt x="45" y="441"/>
                    </a:lnTo>
                    <a:lnTo>
                      <a:pt x="43" y="444"/>
                    </a:lnTo>
                    <a:lnTo>
                      <a:pt x="37" y="448"/>
                    </a:lnTo>
                    <a:lnTo>
                      <a:pt x="33" y="453"/>
                    </a:lnTo>
                    <a:lnTo>
                      <a:pt x="30" y="454"/>
                    </a:lnTo>
                    <a:lnTo>
                      <a:pt x="28" y="457"/>
                    </a:lnTo>
                    <a:lnTo>
                      <a:pt x="25" y="459"/>
                    </a:lnTo>
                    <a:lnTo>
                      <a:pt x="25" y="459"/>
                    </a:lnTo>
                    <a:lnTo>
                      <a:pt x="0" y="580"/>
                    </a:lnTo>
                    <a:lnTo>
                      <a:pt x="2" y="580"/>
                    </a:lnTo>
                    <a:lnTo>
                      <a:pt x="3" y="577"/>
                    </a:lnTo>
                    <a:lnTo>
                      <a:pt x="7" y="574"/>
                    </a:lnTo>
                    <a:lnTo>
                      <a:pt x="10" y="570"/>
                    </a:lnTo>
                    <a:lnTo>
                      <a:pt x="16" y="565"/>
                    </a:lnTo>
                    <a:lnTo>
                      <a:pt x="18" y="563"/>
                    </a:lnTo>
                    <a:lnTo>
                      <a:pt x="22" y="560"/>
                    </a:lnTo>
                    <a:lnTo>
                      <a:pt x="25" y="557"/>
                    </a:lnTo>
                    <a:lnTo>
                      <a:pt x="30" y="554"/>
                    </a:lnTo>
                    <a:lnTo>
                      <a:pt x="33" y="551"/>
                    </a:lnTo>
                    <a:lnTo>
                      <a:pt x="36" y="546"/>
                    </a:lnTo>
                    <a:lnTo>
                      <a:pt x="40" y="543"/>
                    </a:lnTo>
                    <a:lnTo>
                      <a:pt x="43" y="539"/>
                    </a:lnTo>
                    <a:lnTo>
                      <a:pt x="48" y="534"/>
                    </a:lnTo>
                    <a:lnTo>
                      <a:pt x="52" y="531"/>
                    </a:lnTo>
                    <a:lnTo>
                      <a:pt x="56" y="527"/>
                    </a:lnTo>
                    <a:lnTo>
                      <a:pt x="61" y="524"/>
                    </a:lnTo>
                    <a:lnTo>
                      <a:pt x="65" y="518"/>
                    </a:lnTo>
                    <a:lnTo>
                      <a:pt x="70" y="514"/>
                    </a:lnTo>
                    <a:lnTo>
                      <a:pt x="76" y="509"/>
                    </a:lnTo>
                    <a:lnTo>
                      <a:pt x="82" y="505"/>
                    </a:lnTo>
                    <a:lnTo>
                      <a:pt x="86" y="499"/>
                    </a:lnTo>
                    <a:lnTo>
                      <a:pt x="92" y="494"/>
                    </a:lnTo>
                    <a:lnTo>
                      <a:pt x="96" y="490"/>
                    </a:lnTo>
                    <a:lnTo>
                      <a:pt x="104" y="484"/>
                    </a:lnTo>
                    <a:lnTo>
                      <a:pt x="108" y="478"/>
                    </a:lnTo>
                    <a:lnTo>
                      <a:pt x="114" y="472"/>
                    </a:lnTo>
                    <a:lnTo>
                      <a:pt x="120" y="468"/>
                    </a:lnTo>
                    <a:lnTo>
                      <a:pt x="126" y="462"/>
                    </a:lnTo>
                    <a:lnTo>
                      <a:pt x="131" y="456"/>
                    </a:lnTo>
                    <a:lnTo>
                      <a:pt x="138" y="448"/>
                    </a:lnTo>
                    <a:lnTo>
                      <a:pt x="144" y="442"/>
                    </a:lnTo>
                    <a:lnTo>
                      <a:pt x="150" y="438"/>
                    </a:lnTo>
                    <a:lnTo>
                      <a:pt x="156" y="430"/>
                    </a:lnTo>
                    <a:lnTo>
                      <a:pt x="163" y="425"/>
                    </a:lnTo>
                    <a:lnTo>
                      <a:pt x="169" y="419"/>
                    </a:lnTo>
                    <a:lnTo>
                      <a:pt x="175" y="411"/>
                    </a:lnTo>
                    <a:lnTo>
                      <a:pt x="183" y="405"/>
                    </a:lnTo>
                    <a:lnTo>
                      <a:pt x="188" y="399"/>
                    </a:lnTo>
                    <a:lnTo>
                      <a:pt x="194" y="392"/>
                    </a:lnTo>
                    <a:lnTo>
                      <a:pt x="202" y="386"/>
                    </a:lnTo>
                    <a:lnTo>
                      <a:pt x="208" y="379"/>
                    </a:lnTo>
                    <a:lnTo>
                      <a:pt x="215" y="373"/>
                    </a:lnTo>
                    <a:lnTo>
                      <a:pt x="221" y="365"/>
                    </a:lnTo>
                    <a:lnTo>
                      <a:pt x="229" y="359"/>
                    </a:lnTo>
                    <a:lnTo>
                      <a:pt x="234" y="352"/>
                    </a:lnTo>
                    <a:lnTo>
                      <a:pt x="242" y="346"/>
                    </a:lnTo>
                    <a:lnTo>
                      <a:pt x="248" y="338"/>
                    </a:lnTo>
                    <a:lnTo>
                      <a:pt x="254" y="333"/>
                    </a:lnTo>
                    <a:lnTo>
                      <a:pt x="261" y="325"/>
                    </a:lnTo>
                    <a:lnTo>
                      <a:pt x="267" y="319"/>
                    </a:lnTo>
                    <a:lnTo>
                      <a:pt x="273" y="312"/>
                    </a:lnTo>
                    <a:lnTo>
                      <a:pt x="280" y="306"/>
                    </a:lnTo>
                    <a:lnTo>
                      <a:pt x="286" y="298"/>
                    </a:lnTo>
                    <a:lnTo>
                      <a:pt x="294" y="292"/>
                    </a:lnTo>
                    <a:lnTo>
                      <a:pt x="300" y="285"/>
                    </a:lnTo>
                    <a:lnTo>
                      <a:pt x="306" y="279"/>
                    </a:lnTo>
                    <a:lnTo>
                      <a:pt x="312" y="272"/>
                    </a:lnTo>
                    <a:lnTo>
                      <a:pt x="318" y="264"/>
                    </a:lnTo>
                    <a:lnTo>
                      <a:pt x="325" y="258"/>
                    </a:lnTo>
                    <a:lnTo>
                      <a:pt x="331" y="251"/>
                    </a:lnTo>
                    <a:lnTo>
                      <a:pt x="335" y="245"/>
                    </a:lnTo>
                    <a:lnTo>
                      <a:pt x="343" y="238"/>
                    </a:lnTo>
                    <a:lnTo>
                      <a:pt x="347" y="232"/>
                    </a:lnTo>
                    <a:lnTo>
                      <a:pt x="355" y="226"/>
                    </a:lnTo>
                    <a:lnTo>
                      <a:pt x="359" y="218"/>
                    </a:lnTo>
                    <a:lnTo>
                      <a:pt x="365" y="212"/>
                    </a:lnTo>
                    <a:lnTo>
                      <a:pt x="371" y="205"/>
                    </a:lnTo>
                    <a:lnTo>
                      <a:pt x="377" y="199"/>
                    </a:lnTo>
                    <a:lnTo>
                      <a:pt x="381" y="193"/>
                    </a:lnTo>
                    <a:lnTo>
                      <a:pt x="387" y="187"/>
                    </a:lnTo>
                    <a:lnTo>
                      <a:pt x="392" y="181"/>
                    </a:lnTo>
                    <a:lnTo>
                      <a:pt x="398" y="175"/>
                    </a:lnTo>
                    <a:lnTo>
                      <a:pt x="402" y="169"/>
                    </a:lnTo>
                    <a:lnTo>
                      <a:pt x="407" y="162"/>
                    </a:lnTo>
                    <a:lnTo>
                      <a:pt x="413" y="156"/>
                    </a:lnTo>
                    <a:lnTo>
                      <a:pt x="417" y="151"/>
                    </a:lnTo>
                    <a:lnTo>
                      <a:pt x="421" y="146"/>
                    </a:lnTo>
                    <a:lnTo>
                      <a:pt x="426" y="140"/>
                    </a:lnTo>
                    <a:lnTo>
                      <a:pt x="432" y="134"/>
                    </a:lnTo>
                    <a:lnTo>
                      <a:pt x="436" y="129"/>
                    </a:lnTo>
                    <a:lnTo>
                      <a:pt x="441" y="123"/>
                    </a:lnTo>
                    <a:lnTo>
                      <a:pt x="444" y="117"/>
                    </a:lnTo>
                    <a:lnTo>
                      <a:pt x="448" y="113"/>
                    </a:lnTo>
                    <a:lnTo>
                      <a:pt x="453" y="108"/>
                    </a:lnTo>
                    <a:lnTo>
                      <a:pt x="457" y="103"/>
                    </a:lnTo>
                    <a:lnTo>
                      <a:pt x="461" y="98"/>
                    </a:lnTo>
                    <a:lnTo>
                      <a:pt x="466" y="94"/>
                    </a:lnTo>
                    <a:lnTo>
                      <a:pt x="470" y="89"/>
                    </a:lnTo>
                    <a:lnTo>
                      <a:pt x="473" y="83"/>
                    </a:lnTo>
                    <a:lnTo>
                      <a:pt x="476" y="80"/>
                    </a:lnTo>
                    <a:lnTo>
                      <a:pt x="479" y="74"/>
                    </a:lnTo>
                    <a:lnTo>
                      <a:pt x="484" y="71"/>
                    </a:lnTo>
                    <a:lnTo>
                      <a:pt x="487" y="65"/>
                    </a:lnTo>
                    <a:lnTo>
                      <a:pt x="490" y="62"/>
                    </a:lnTo>
                    <a:lnTo>
                      <a:pt x="493" y="58"/>
                    </a:lnTo>
                    <a:lnTo>
                      <a:pt x="497" y="55"/>
                    </a:lnTo>
                    <a:lnTo>
                      <a:pt x="499" y="51"/>
                    </a:lnTo>
                    <a:lnTo>
                      <a:pt x="502" y="48"/>
                    </a:lnTo>
                    <a:lnTo>
                      <a:pt x="505" y="43"/>
                    </a:lnTo>
                    <a:lnTo>
                      <a:pt x="507" y="40"/>
                    </a:lnTo>
                    <a:lnTo>
                      <a:pt x="512" y="34"/>
                    </a:lnTo>
                    <a:lnTo>
                      <a:pt x="516" y="30"/>
                    </a:lnTo>
                    <a:lnTo>
                      <a:pt x="519" y="24"/>
                    </a:lnTo>
                    <a:lnTo>
                      <a:pt x="522" y="19"/>
                    </a:lnTo>
                    <a:lnTo>
                      <a:pt x="527" y="15"/>
                    </a:lnTo>
                    <a:lnTo>
                      <a:pt x="528" y="12"/>
                    </a:lnTo>
                    <a:lnTo>
                      <a:pt x="531" y="9"/>
                    </a:lnTo>
                    <a:lnTo>
                      <a:pt x="534" y="8"/>
                    </a:lnTo>
                    <a:lnTo>
                      <a:pt x="497" y="0"/>
                    </a:lnTo>
                    <a:lnTo>
                      <a:pt x="497"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2984400" y="3357000"/>
                <a:ext cx="303120" cy="311040"/>
              </a:xfrm>
              <a:custGeom>
                <a:avLst/>
                <a:gdLst/>
                <a:ahLst/>
                <a:rect l="l" t="t" r="r" b="b"/>
                <a:pathLst>
                  <a:path w="383" h="392">
                    <a:moveTo>
                      <a:pt x="383" y="0"/>
                    </a:moveTo>
                    <a:lnTo>
                      <a:pt x="381" y="0"/>
                    </a:lnTo>
                    <a:lnTo>
                      <a:pt x="380" y="2"/>
                    </a:lnTo>
                    <a:lnTo>
                      <a:pt x="375" y="3"/>
                    </a:lnTo>
                    <a:lnTo>
                      <a:pt x="372" y="8"/>
                    </a:lnTo>
                    <a:lnTo>
                      <a:pt x="369" y="9"/>
                    </a:lnTo>
                    <a:lnTo>
                      <a:pt x="367" y="12"/>
                    </a:lnTo>
                    <a:lnTo>
                      <a:pt x="364" y="15"/>
                    </a:lnTo>
                    <a:lnTo>
                      <a:pt x="361" y="18"/>
                    </a:lnTo>
                    <a:lnTo>
                      <a:pt x="356" y="21"/>
                    </a:lnTo>
                    <a:lnTo>
                      <a:pt x="353" y="26"/>
                    </a:lnTo>
                    <a:lnTo>
                      <a:pt x="349" y="29"/>
                    </a:lnTo>
                    <a:lnTo>
                      <a:pt x="344" y="33"/>
                    </a:lnTo>
                    <a:lnTo>
                      <a:pt x="338" y="37"/>
                    </a:lnTo>
                    <a:lnTo>
                      <a:pt x="334" y="42"/>
                    </a:lnTo>
                    <a:lnTo>
                      <a:pt x="328" y="46"/>
                    </a:lnTo>
                    <a:lnTo>
                      <a:pt x="322" y="51"/>
                    </a:lnTo>
                    <a:lnTo>
                      <a:pt x="316" y="55"/>
                    </a:lnTo>
                    <a:lnTo>
                      <a:pt x="310" y="61"/>
                    </a:lnTo>
                    <a:lnTo>
                      <a:pt x="303" y="66"/>
                    </a:lnTo>
                    <a:lnTo>
                      <a:pt x="297" y="73"/>
                    </a:lnTo>
                    <a:lnTo>
                      <a:pt x="294" y="75"/>
                    </a:lnTo>
                    <a:lnTo>
                      <a:pt x="289" y="78"/>
                    </a:lnTo>
                    <a:lnTo>
                      <a:pt x="286" y="81"/>
                    </a:lnTo>
                    <a:lnTo>
                      <a:pt x="282" y="83"/>
                    </a:lnTo>
                    <a:lnTo>
                      <a:pt x="277" y="86"/>
                    </a:lnTo>
                    <a:lnTo>
                      <a:pt x="275" y="89"/>
                    </a:lnTo>
                    <a:lnTo>
                      <a:pt x="270" y="92"/>
                    </a:lnTo>
                    <a:lnTo>
                      <a:pt x="267" y="97"/>
                    </a:lnTo>
                    <a:lnTo>
                      <a:pt x="263" y="100"/>
                    </a:lnTo>
                    <a:lnTo>
                      <a:pt x="258" y="103"/>
                    </a:lnTo>
                    <a:lnTo>
                      <a:pt x="254" y="106"/>
                    </a:lnTo>
                    <a:lnTo>
                      <a:pt x="249" y="110"/>
                    </a:lnTo>
                    <a:lnTo>
                      <a:pt x="245" y="113"/>
                    </a:lnTo>
                    <a:lnTo>
                      <a:pt x="240" y="118"/>
                    </a:lnTo>
                    <a:lnTo>
                      <a:pt x="236" y="121"/>
                    </a:lnTo>
                    <a:lnTo>
                      <a:pt x="231" y="125"/>
                    </a:lnTo>
                    <a:lnTo>
                      <a:pt x="227" y="128"/>
                    </a:lnTo>
                    <a:lnTo>
                      <a:pt x="221" y="131"/>
                    </a:lnTo>
                    <a:lnTo>
                      <a:pt x="217" y="135"/>
                    </a:lnTo>
                    <a:lnTo>
                      <a:pt x="212" y="138"/>
                    </a:lnTo>
                    <a:lnTo>
                      <a:pt x="206" y="143"/>
                    </a:lnTo>
                    <a:lnTo>
                      <a:pt x="202" y="146"/>
                    </a:lnTo>
                    <a:lnTo>
                      <a:pt x="197" y="150"/>
                    </a:lnTo>
                    <a:lnTo>
                      <a:pt x="191" y="155"/>
                    </a:lnTo>
                    <a:lnTo>
                      <a:pt x="185" y="158"/>
                    </a:lnTo>
                    <a:lnTo>
                      <a:pt x="181" y="162"/>
                    </a:lnTo>
                    <a:lnTo>
                      <a:pt x="175" y="167"/>
                    </a:lnTo>
                    <a:lnTo>
                      <a:pt x="171" y="171"/>
                    </a:lnTo>
                    <a:lnTo>
                      <a:pt x="165" y="174"/>
                    </a:lnTo>
                    <a:lnTo>
                      <a:pt x="160" y="178"/>
                    </a:lnTo>
                    <a:lnTo>
                      <a:pt x="156" y="181"/>
                    </a:lnTo>
                    <a:lnTo>
                      <a:pt x="150" y="186"/>
                    </a:lnTo>
                    <a:lnTo>
                      <a:pt x="144" y="190"/>
                    </a:lnTo>
                    <a:lnTo>
                      <a:pt x="139" y="193"/>
                    </a:lnTo>
                    <a:lnTo>
                      <a:pt x="134" y="198"/>
                    </a:lnTo>
                    <a:lnTo>
                      <a:pt x="129" y="202"/>
                    </a:lnTo>
                    <a:lnTo>
                      <a:pt x="123" y="205"/>
                    </a:lnTo>
                    <a:lnTo>
                      <a:pt x="119" y="210"/>
                    </a:lnTo>
                    <a:lnTo>
                      <a:pt x="114" y="213"/>
                    </a:lnTo>
                    <a:lnTo>
                      <a:pt x="110" y="217"/>
                    </a:lnTo>
                    <a:lnTo>
                      <a:pt x="104" y="220"/>
                    </a:lnTo>
                    <a:lnTo>
                      <a:pt x="99" y="224"/>
                    </a:lnTo>
                    <a:lnTo>
                      <a:pt x="93" y="227"/>
                    </a:lnTo>
                    <a:lnTo>
                      <a:pt x="89" y="232"/>
                    </a:lnTo>
                    <a:lnTo>
                      <a:pt x="85" y="235"/>
                    </a:lnTo>
                    <a:lnTo>
                      <a:pt x="80" y="239"/>
                    </a:lnTo>
                    <a:lnTo>
                      <a:pt x="74" y="242"/>
                    </a:lnTo>
                    <a:lnTo>
                      <a:pt x="71" y="247"/>
                    </a:lnTo>
                    <a:lnTo>
                      <a:pt x="67" y="250"/>
                    </a:lnTo>
                    <a:lnTo>
                      <a:pt x="62" y="253"/>
                    </a:lnTo>
                    <a:lnTo>
                      <a:pt x="56" y="256"/>
                    </a:lnTo>
                    <a:lnTo>
                      <a:pt x="52" y="259"/>
                    </a:lnTo>
                    <a:lnTo>
                      <a:pt x="47" y="262"/>
                    </a:lnTo>
                    <a:lnTo>
                      <a:pt x="45" y="265"/>
                    </a:lnTo>
                    <a:lnTo>
                      <a:pt x="40" y="267"/>
                    </a:lnTo>
                    <a:lnTo>
                      <a:pt x="37" y="272"/>
                    </a:lnTo>
                    <a:lnTo>
                      <a:pt x="33" y="273"/>
                    </a:lnTo>
                    <a:lnTo>
                      <a:pt x="30" y="276"/>
                    </a:lnTo>
                    <a:lnTo>
                      <a:pt x="25" y="279"/>
                    </a:lnTo>
                    <a:lnTo>
                      <a:pt x="22" y="282"/>
                    </a:lnTo>
                    <a:lnTo>
                      <a:pt x="18" y="284"/>
                    </a:lnTo>
                    <a:lnTo>
                      <a:pt x="15" y="287"/>
                    </a:lnTo>
                    <a:lnTo>
                      <a:pt x="12" y="290"/>
                    </a:lnTo>
                    <a:lnTo>
                      <a:pt x="10" y="291"/>
                    </a:lnTo>
                    <a:lnTo>
                      <a:pt x="4" y="296"/>
                    </a:lnTo>
                    <a:lnTo>
                      <a:pt x="0" y="299"/>
                    </a:lnTo>
                    <a:lnTo>
                      <a:pt x="0" y="302"/>
                    </a:lnTo>
                    <a:lnTo>
                      <a:pt x="0" y="305"/>
                    </a:lnTo>
                    <a:lnTo>
                      <a:pt x="0" y="308"/>
                    </a:lnTo>
                    <a:lnTo>
                      <a:pt x="0" y="309"/>
                    </a:lnTo>
                    <a:lnTo>
                      <a:pt x="0" y="392"/>
                    </a:lnTo>
                    <a:lnTo>
                      <a:pt x="0" y="391"/>
                    </a:lnTo>
                    <a:lnTo>
                      <a:pt x="0" y="389"/>
                    </a:lnTo>
                    <a:lnTo>
                      <a:pt x="0" y="388"/>
                    </a:lnTo>
                    <a:lnTo>
                      <a:pt x="0" y="385"/>
                    </a:lnTo>
                    <a:lnTo>
                      <a:pt x="3" y="383"/>
                    </a:lnTo>
                    <a:lnTo>
                      <a:pt x="6" y="382"/>
                    </a:lnTo>
                    <a:lnTo>
                      <a:pt x="9" y="379"/>
                    </a:lnTo>
                    <a:lnTo>
                      <a:pt x="13" y="376"/>
                    </a:lnTo>
                    <a:lnTo>
                      <a:pt x="18" y="373"/>
                    </a:lnTo>
                    <a:lnTo>
                      <a:pt x="22" y="370"/>
                    </a:lnTo>
                    <a:lnTo>
                      <a:pt x="27" y="365"/>
                    </a:lnTo>
                    <a:lnTo>
                      <a:pt x="33" y="361"/>
                    </a:lnTo>
                    <a:lnTo>
                      <a:pt x="39" y="357"/>
                    </a:lnTo>
                    <a:lnTo>
                      <a:pt x="45" y="354"/>
                    </a:lnTo>
                    <a:lnTo>
                      <a:pt x="50" y="348"/>
                    </a:lnTo>
                    <a:lnTo>
                      <a:pt x="56" y="343"/>
                    </a:lnTo>
                    <a:lnTo>
                      <a:pt x="59" y="340"/>
                    </a:lnTo>
                    <a:lnTo>
                      <a:pt x="62" y="337"/>
                    </a:lnTo>
                    <a:lnTo>
                      <a:pt x="67" y="334"/>
                    </a:lnTo>
                    <a:lnTo>
                      <a:pt x="70" y="333"/>
                    </a:lnTo>
                    <a:lnTo>
                      <a:pt x="73" y="328"/>
                    </a:lnTo>
                    <a:lnTo>
                      <a:pt x="77" y="325"/>
                    </a:lnTo>
                    <a:lnTo>
                      <a:pt x="80" y="322"/>
                    </a:lnTo>
                    <a:lnTo>
                      <a:pt x="85" y="321"/>
                    </a:lnTo>
                    <a:lnTo>
                      <a:pt x="88" y="316"/>
                    </a:lnTo>
                    <a:lnTo>
                      <a:pt x="92" y="313"/>
                    </a:lnTo>
                    <a:lnTo>
                      <a:pt x="95" y="311"/>
                    </a:lnTo>
                    <a:lnTo>
                      <a:pt x="99" y="309"/>
                    </a:lnTo>
                    <a:lnTo>
                      <a:pt x="104" y="305"/>
                    </a:lnTo>
                    <a:lnTo>
                      <a:pt x="107" y="302"/>
                    </a:lnTo>
                    <a:lnTo>
                      <a:pt x="111" y="299"/>
                    </a:lnTo>
                    <a:lnTo>
                      <a:pt x="114" y="294"/>
                    </a:lnTo>
                    <a:lnTo>
                      <a:pt x="119" y="291"/>
                    </a:lnTo>
                    <a:lnTo>
                      <a:pt x="123" y="287"/>
                    </a:lnTo>
                    <a:lnTo>
                      <a:pt x="128" y="284"/>
                    </a:lnTo>
                    <a:lnTo>
                      <a:pt x="132" y="281"/>
                    </a:lnTo>
                    <a:lnTo>
                      <a:pt x="135" y="276"/>
                    </a:lnTo>
                    <a:lnTo>
                      <a:pt x="139" y="273"/>
                    </a:lnTo>
                    <a:lnTo>
                      <a:pt x="144" y="269"/>
                    </a:lnTo>
                    <a:lnTo>
                      <a:pt x="148" y="266"/>
                    </a:lnTo>
                    <a:lnTo>
                      <a:pt x="151" y="262"/>
                    </a:lnTo>
                    <a:lnTo>
                      <a:pt x="156" y="259"/>
                    </a:lnTo>
                    <a:lnTo>
                      <a:pt x="160" y="254"/>
                    </a:lnTo>
                    <a:lnTo>
                      <a:pt x="166" y="251"/>
                    </a:lnTo>
                    <a:lnTo>
                      <a:pt x="169" y="247"/>
                    </a:lnTo>
                    <a:lnTo>
                      <a:pt x="174" y="242"/>
                    </a:lnTo>
                    <a:lnTo>
                      <a:pt x="178" y="238"/>
                    </a:lnTo>
                    <a:lnTo>
                      <a:pt x="183" y="235"/>
                    </a:lnTo>
                    <a:lnTo>
                      <a:pt x="187" y="230"/>
                    </a:lnTo>
                    <a:lnTo>
                      <a:pt x="191" y="226"/>
                    </a:lnTo>
                    <a:lnTo>
                      <a:pt x="196" y="221"/>
                    </a:lnTo>
                    <a:lnTo>
                      <a:pt x="200" y="219"/>
                    </a:lnTo>
                    <a:lnTo>
                      <a:pt x="205" y="213"/>
                    </a:lnTo>
                    <a:lnTo>
                      <a:pt x="209" y="210"/>
                    </a:lnTo>
                    <a:lnTo>
                      <a:pt x="212" y="205"/>
                    </a:lnTo>
                    <a:lnTo>
                      <a:pt x="218" y="201"/>
                    </a:lnTo>
                    <a:lnTo>
                      <a:pt x="223" y="196"/>
                    </a:lnTo>
                    <a:lnTo>
                      <a:pt x="227" y="192"/>
                    </a:lnTo>
                    <a:lnTo>
                      <a:pt x="230" y="187"/>
                    </a:lnTo>
                    <a:lnTo>
                      <a:pt x="236" y="184"/>
                    </a:lnTo>
                    <a:lnTo>
                      <a:pt x="239" y="180"/>
                    </a:lnTo>
                    <a:lnTo>
                      <a:pt x="243" y="175"/>
                    </a:lnTo>
                    <a:lnTo>
                      <a:pt x="248" y="171"/>
                    </a:lnTo>
                    <a:lnTo>
                      <a:pt x="252" y="167"/>
                    </a:lnTo>
                    <a:lnTo>
                      <a:pt x="255" y="164"/>
                    </a:lnTo>
                    <a:lnTo>
                      <a:pt x="260" y="159"/>
                    </a:lnTo>
                    <a:lnTo>
                      <a:pt x="264" y="155"/>
                    </a:lnTo>
                    <a:lnTo>
                      <a:pt x="269" y="152"/>
                    </a:lnTo>
                    <a:lnTo>
                      <a:pt x="272" y="147"/>
                    </a:lnTo>
                    <a:lnTo>
                      <a:pt x="276" y="143"/>
                    </a:lnTo>
                    <a:lnTo>
                      <a:pt x="279" y="138"/>
                    </a:lnTo>
                    <a:lnTo>
                      <a:pt x="283" y="135"/>
                    </a:lnTo>
                    <a:lnTo>
                      <a:pt x="288" y="131"/>
                    </a:lnTo>
                    <a:lnTo>
                      <a:pt x="291" y="128"/>
                    </a:lnTo>
                    <a:lnTo>
                      <a:pt x="295" y="124"/>
                    </a:lnTo>
                    <a:lnTo>
                      <a:pt x="300" y="121"/>
                    </a:lnTo>
                    <a:lnTo>
                      <a:pt x="303" y="118"/>
                    </a:lnTo>
                    <a:lnTo>
                      <a:pt x="306" y="113"/>
                    </a:lnTo>
                    <a:lnTo>
                      <a:pt x="309" y="110"/>
                    </a:lnTo>
                    <a:lnTo>
                      <a:pt x="312" y="107"/>
                    </a:lnTo>
                    <a:lnTo>
                      <a:pt x="319" y="100"/>
                    </a:lnTo>
                    <a:lnTo>
                      <a:pt x="325" y="94"/>
                    </a:lnTo>
                    <a:lnTo>
                      <a:pt x="331" y="88"/>
                    </a:lnTo>
                    <a:lnTo>
                      <a:pt x="335" y="82"/>
                    </a:lnTo>
                    <a:lnTo>
                      <a:pt x="340" y="76"/>
                    </a:lnTo>
                    <a:lnTo>
                      <a:pt x="346" y="73"/>
                    </a:lnTo>
                    <a:lnTo>
                      <a:pt x="349" y="69"/>
                    </a:lnTo>
                    <a:lnTo>
                      <a:pt x="353" y="66"/>
                    </a:lnTo>
                    <a:lnTo>
                      <a:pt x="356" y="61"/>
                    </a:lnTo>
                    <a:lnTo>
                      <a:pt x="359" y="58"/>
                    </a:lnTo>
                    <a:lnTo>
                      <a:pt x="362" y="55"/>
                    </a:lnTo>
                    <a:lnTo>
                      <a:pt x="364" y="54"/>
                    </a:lnTo>
                    <a:lnTo>
                      <a:pt x="383" y="0"/>
                    </a:lnTo>
                    <a:lnTo>
                      <a:pt x="383"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3" name=""/>
            <p:cNvGrpSpPr/>
            <p:nvPr/>
          </p:nvGrpSpPr>
          <p:grpSpPr>
            <a:xfrm>
              <a:off x="2666880" y="2617920"/>
              <a:ext cx="826920" cy="560160"/>
              <a:chOff x="2666880" y="2617920"/>
              <a:chExt cx="826920" cy="560160"/>
            </a:xfrm>
          </p:grpSpPr>
          <p:sp>
            <p:nvSpPr>
              <p:cNvPr id="1564" name=""/>
              <p:cNvSpPr/>
              <p:nvPr/>
            </p:nvSpPr>
            <p:spPr>
              <a:xfrm>
                <a:off x="2721600" y="2705760"/>
                <a:ext cx="729000" cy="472320"/>
              </a:xfrm>
              <a:custGeom>
                <a:avLst/>
                <a:gdLst/>
                <a:ahLst/>
                <a:rect l="l" t="t" r="r" b="b"/>
                <a:pathLst>
                  <a:path w="797" h="516">
                    <a:moveTo>
                      <a:pt x="398" y="0"/>
                    </a:moveTo>
                    <a:lnTo>
                      <a:pt x="358" y="2"/>
                    </a:lnTo>
                    <a:lnTo>
                      <a:pt x="318" y="6"/>
                    </a:lnTo>
                    <a:lnTo>
                      <a:pt x="280" y="12"/>
                    </a:lnTo>
                    <a:lnTo>
                      <a:pt x="244" y="20"/>
                    </a:lnTo>
                    <a:lnTo>
                      <a:pt x="209" y="31"/>
                    </a:lnTo>
                    <a:lnTo>
                      <a:pt x="176" y="45"/>
                    </a:lnTo>
                    <a:lnTo>
                      <a:pt x="146" y="59"/>
                    </a:lnTo>
                    <a:lnTo>
                      <a:pt x="117" y="75"/>
                    </a:lnTo>
                    <a:lnTo>
                      <a:pt x="91" y="94"/>
                    </a:lnTo>
                    <a:lnTo>
                      <a:pt x="69" y="114"/>
                    </a:lnTo>
                    <a:lnTo>
                      <a:pt x="49" y="134"/>
                    </a:lnTo>
                    <a:lnTo>
                      <a:pt x="31" y="157"/>
                    </a:lnTo>
                    <a:lnTo>
                      <a:pt x="18" y="181"/>
                    </a:lnTo>
                    <a:lnTo>
                      <a:pt x="8" y="205"/>
                    </a:lnTo>
                    <a:lnTo>
                      <a:pt x="3" y="231"/>
                    </a:lnTo>
                    <a:lnTo>
                      <a:pt x="0" y="258"/>
                    </a:lnTo>
                    <a:lnTo>
                      <a:pt x="3" y="284"/>
                    </a:lnTo>
                    <a:lnTo>
                      <a:pt x="8" y="310"/>
                    </a:lnTo>
                    <a:lnTo>
                      <a:pt x="18" y="334"/>
                    </a:lnTo>
                    <a:lnTo>
                      <a:pt x="31" y="358"/>
                    </a:lnTo>
                    <a:lnTo>
                      <a:pt x="49" y="381"/>
                    </a:lnTo>
                    <a:lnTo>
                      <a:pt x="69" y="402"/>
                    </a:lnTo>
                    <a:lnTo>
                      <a:pt x="91" y="422"/>
                    </a:lnTo>
                    <a:lnTo>
                      <a:pt x="117" y="440"/>
                    </a:lnTo>
                    <a:lnTo>
                      <a:pt x="146" y="457"/>
                    </a:lnTo>
                    <a:lnTo>
                      <a:pt x="176" y="472"/>
                    </a:lnTo>
                    <a:lnTo>
                      <a:pt x="209" y="485"/>
                    </a:lnTo>
                    <a:lnTo>
                      <a:pt x="244" y="496"/>
                    </a:lnTo>
                    <a:lnTo>
                      <a:pt x="280" y="504"/>
                    </a:lnTo>
                    <a:lnTo>
                      <a:pt x="318" y="511"/>
                    </a:lnTo>
                    <a:lnTo>
                      <a:pt x="358" y="515"/>
                    </a:lnTo>
                    <a:lnTo>
                      <a:pt x="398" y="516"/>
                    </a:lnTo>
                    <a:lnTo>
                      <a:pt x="438" y="515"/>
                    </a:lnTo>
                    <a:lnTo>
                      <a:pt x="478" y="511"/>
                    </a:lnTo>
                    <a:lnTo>
                      <a:pt x="516" y="504"/>
                    </a:lnTo>
                    <a:lnTo>
                      <a:pt x="553" y="496"/>
                    </a:lnTo>
                    <a:lnTo>
                      <a:pt x="588" y="485"/>
                    </a:lnTo>
                    <a:lnTo>
                      <a:pt x="620" y="472"/>
                    </a:lnTo>
                    <a:lnTo>
                      <a:pt x="651" y="457"/>
                    </a:lnTo>
                    <a:lnTo>
                      <a:pt x="681" y="440"/>
                    </a:lnTo>
                    <a:lnTo>
                      <a:pt x="706" y="422"/>
                    </a:lnTo>
                    <a:lnTo>
                      <a:pt x="729" y="402"/>
                    </a:lnTo>
                    <a:lnTo>
                      <a:pt x="749" y="381"/>
                    </a:lnTo>
                    <a:lnTo>
                      <a:pt x="766" y="358"/>
                    </a:lnTo>
                    <a:lnTo>
                      <a:pt x="780" y="334"/>
                    </a:lnTo>
                    <a:lnTo>
                      <a:pt x="789" y="310"/>
                    </a:lnTo>
                    <a:lnTo>
                      <a:pt x="794" y="284"/>
                    </a:lnTo>
                    <a:lnTo>
                      <a:pt x="797" y="258"/>
                    </a:lnTo>
                    <a:lnTo>
                      <a:pt x="794" y="231"/>
                    </a:lnTo>
                    <a:lnTo>
                      <a:pt x="789" y="205"/>
                    </a:lnTo>
                    <a:lnTo>
                      <a:pt x="780" y="181"/>
                    </a:lnTo>
                    <a:lnTo>
                      <a:pt x="766" y="157"/>
                    </a:lnTo>
                    <a:lnTo>
                      <a:pt x="749" y="134"/>
                    </a:lnTo>
                    <a:lnTo>
                      <a:pt x="729" y="114"/>
                    </a:lnTo>
                    <a:lnTo>
                      <a:pt x="706" y="94"/>
                    </a:lnTo>
                    <a:lnTo>
                      <a:pt x="681" y="75"/>
                    </a:lnTo>
                    <a:lnTo>
                      <a:pt x="651" y="59"/>
                    </a:lnTo>
                    <a:lnTo>
                      <a:pt x="620" y="45"/>
                    </a:lnTo>
                    <a:lnTo>
                      <a:pt x="588" y="31"/>
                    </a:lnTo>
                    <a:lnTo>
                      <a:pt x="553" y="20"/>
                    </a:lnTo>
                    <a:lnTo>
                      <a:pt x="516" y="12"/>
                    </a:lnTo>
                    <a:lnTo>
                      <a:pt x="478" y="6"/>
                    </a:lnTo>
                    <a:lnTo>
                      <a:pt x="438" y="2"/>
                    </a:lnTo>
                    <a:lnTo>
                      <a:pt x="3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2764800" y="2747880"/>
                <a:ext cx="643320" cy="387000"/>
              </a:xfrm>
              <a:custGeom>
                <a:avLst/>
                <a:gdLst/>
                <a:ahLst/>
                <a:rect l="l" t="t" r="r" b="b"/>
                <a:pathLst>
                  <a:path w="703" h="423">
                    <a:moveTo>
                      <a:pt x="0" y="212"/>
                    </a:moveTo>
                    <a:lnTo>
                      <a:pt x="2" y="190"/>
                    </a:lnTo>
                    <a:lnTo>
                      <a:pt x="7" y="169"/>
                    </a:lnTo>
                    <a:lnTo>
                      <a:pt x="16" y="149"/>
                    </a:lnTo>
                    <a:lnTo>
                      <a:pt x="28" y="130"/>
                    </a:lnTo>
                    <a:lnTo>
                      <a:pt x="43" y="111"/>
                    </a:lnTo>
                    <a:lnTo>
                      <a:pt x="61" y="94"/>
                    </a:lnTo>
                    <a:lnTo>
                      <a:pt x="81" y="78"/>
                    </a:lnTo>
                    <a:lnTo>
                      <a:pt x="103" y="62"/>
                    </a:lnTo>
                    <a:lnTo>
                      <a:pt x="129" y="48"/>
                    </a:lnTo>
                    <a:lnTo>
                      <a:pt x="156" y="36"/>
                    </a:lnTo>
                    <a:lnTo>
                      <a:pt x="184" y="25"/>
                    </a:lnTo>
                    <a:lnTo>
                      <a:pt x="214" y="16"/>
                    </a:lnTo>
                    <a:lnTo>
                      <a:pt x="247" y="9"/>
                    </a:lnTo>
                    <a:lnTo>
                      <a:pt x="280" y="4"/>
                    </a:lnTo>
                    <a:lnTo>
                      <a:pt x="315" y="1"/>
                    </a:lnTo>
                    <a:lnTo>
                      <a:pt x="351" y="0"/>
                    </a:lnTo>
                    <a:lnTo>
                      <a:pt x="387" y="1"/>
                    </a:lnTo>
                    <a:lnTo>
                      <a:pt x="422" y="4"/>
                    </a:lnTo>
                    <a:lnTo>
                      <a:pt x="455" y="9"/>
                    </a:lnTo>
                    <a:lnTo>
                      <a:pt x="488" y="16"/>
                    </a:lnTo>
                    <a:lnTo>
                      <a:pt x="518" y="25"/>
                    </a:lnTo>
                    <a:lnTo>
                      <a:pt x="548" y="36"/>
                    </a:lnTo>
                    <a:lnTo>
                      <a:pt x="575" y="48"/>
                    </a:lnTo>
                    <a:lnTo>
                      <a:pt x="600" y="62"/>
                    </a:lnTo>
                    <a:lnTo>
                      <a:pt x="623" y="78"/>
                    </a:lnTo>
                    <a:lnTo>
                      <a:pt x="643" y="94"/>
                    </a:lnTo>
                    <a:lnTo>
                      <a:pt x="660" y="111"/>
                    </a:lnTo>
                    <a:lnTo>
                      <a:pt x="675" y="130"/>
                    </a:lnTo>
                    <a:lnTo>
                      <a:pt x="687" y="149"/>
                    </a:lnTo>
                    <a:lnTo>
                      <a:pt x="696" y="169"/>
                    </a:lnTo>
                    <a:lnTo>
                      <a:pt x="702" y="190"/>
                    </a:lnTo>
                    <a:lnTo>
                      <a:pt x="703" y="212"/>
                    </a:lnTo>
                    <a:lnTo>
                      <a:pt x="702" y="233"/>
                    </a:lnTo>
                    <a:lnTo>
                      <a:pt x="696" y="255"/>
                    </a:lnTo>
                    <a:lnTo>
                      <a:pt x="687" y="275"/>
                    </a:lnTo>
                    <a:lnTo>
                      <a:pt x="675" y="293"/>
                    </a:lnTo>
                    <a:lnTo>
                      <a:pt x="660" y="312"/>
                    </a:lnTo>
                    <a:lnTo>
                      <a:pt x="643" y="330"/>
                    </a:lnTo>
                    <a:lnTo>
                      <a:pt x="623" y="346"/>
                    </a:lnTo>
                    <a:lnTo>
                      <a:pt x="600" y="362"/>
                    </a:lnTo>
                    <a:lnTo>
                      <a:pt x="575" y="375"/>
                    </a:lnTo>
                    <a:lnTo>
                      <a:pt x="548" y="387"/>
                    </a:lnTo>
                    <a:lnTo>
                      <a:pt x="518" y="398"/>
                    </a:lnTo>
                    <a:lnTo>
                      <a:pt x="488" y="407"/>
                    </a:lnTo>
                    <a:lnTo>
                      <a:pt x="455" y="414"/>
                    </a:lnTo>
                    <a:lnTo>
                      <a:pt x="422" y="419"/>
                    </a:lnTo>
                    <a:lnTo>
                      <a:pt x="387" y="422"/>
                    </a:lnTo>
                    <a:lnTo>
                      <a:pt x="351" y="423"/>
                    </a:lnTo>
                    <a:lnTo>
                      <a:pt x="315" y="422"/>
                    </a:lnTo>
                    <a:lnTo>
                      <a:pt x="280" y="419"/>
                    </a:lnTo>
                    <a:lnTo>
                      <a:pt x="247" y="414"/>
                    </a:lnTo>
                    <a:lnTo>
                      <a:pt x="214" y="407"/>
                    </a:lnTo>
                    <a:lnTo>
                      <a:pt x="184" y="398"/>
                    </a:lnTo>
                    <a:lnTo>
                      <a:pt x="156" y="387"/>
                    </a:lnTo>
                    <a:lnTo>
                      <a:pt x="129" y="375"/>
                    </a:lnTo>
                    <a:lnTo>
                      <a:pt x="103" y="362"/>
                    </a:lnTo>
                    <a:lnTo>
                      <a:pt x="81" y="346"/>
                    </a:lnTo>
                    <a:lnTo>
                      <a:pt x="61" y="330"/>
                    </a:lnTo>
                    <a:lnTo>
                      <a:pt x="43" y="312"/>
                    </a:lnTo>
                    <a:lnTo>
                      <a:pt x="28" y="293"/>
                    </a:lnTo>
                    <a:lnTo>
                      <a:pt x="16" y="275"/>
                    </a:lnTo>
                    <a:lnTo>
                      <a:pt x="7" y="255"/>
                    </a:lnTo>
                    <a:lnTo>
                      <a:pt x="2" y="233"/>
                    </a:lnTo>
                    <a:lnTo>
                      <a:pt x="0"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2882880" y="2734920"/>
                <a:ext cx="400680" cy="402840"/>
              </a:xfrm>
              <a:custGeom>
                <a:avLst/>
                <a:gdLst/>
                <a:ahLst/>
                <a:rect l="l" t="t" r="r" b="b"/>
                <a:pathLst>
                  <a:path w="438" h="440">
                    <a:moveTo>
                      <a:pt x="0" y="220"/>
                    </a:moveTo>
                    <a:lnTo>
                      <a:pt x="1" y="243"/>
                    </a:lnTo>
                    <a:lnTo>
                      <a:pt x="4" y="264"/>
                    </a:lnTo>
                    <a:lnTo>
                      <a:pt x="9" y="286"/>
                    </a:lnTo>
                    <a:lnTo>
                      <a:pt x="17" y="306"/>
                    </a:lnTo>
                    <a:lnTo>
                      <a:pt x="27" y="325"/>
                    </a:lnTo>
                    <a:lnTo>
                      <a:pt x="37" y="342"/>
                    </a:lnTo>
                    <a:lnTo>
                      <a:pt x="51" y="360"/>
                    </a:lnTo>
                    <a:lnTo>
                      <a:pt x="64" y="376"/>
                    </a:lnTo>
                    <a:lnTo>
                      <a:pt x="80" y="389"/>
                    </a:lnTo>
                    <a:lnTo>
                      <a:pt x="96" y="403"/>
                    </a:lnTo>
                    <a:lnTo>
                      <a:pt x="115" y="413"/>
                    </a:lnTo>
                    <a:lnTo>
                      <a:pt x="134" y="423"/>
                    </a:lnTo>
                    <a:lnTo>
                      <a:pt x="154" y="431"/>
                    </a:lnTo>
                    <a:lnTo>
                      <a:pt x="174" y="436"/>
                    </a:lnTo>
                    <a:lnTo>
                      <a:pt x="197" y="439"/>
                    </a:lnTo>
                    <a:lnTo>
                      <a:pt x="218" y="440"/>
                    </a:lnTo>
                    <a:lnTo>
                      <a:pt x="241" y="439"/>
                    </a:lnTo>
                    <a:lnTo>
                      <a:pt x="262" y="436"/>
                    </a:lnTo>
                    <a:lnTo>
                      <a:pt x="284" y="431"/>
                    </a:lnTo>
                    <a:lnTo>
                      <a:pt x="304" y="423"/>
                    </a:lnTo>
                    <a:lnTo>
                      <a:pt x="322" y="413"/>
                    </a:lnTo>
                    <a:lnTo>
                      <a:pt x="341" y="403"/>
                    </a:lnTo>
                    <a:lnTo>
                      <a:pt x="357" y="389"/>
                    </a:lnTo>
                    <a:lnTo>
                      <a:pt x="373" y="376"/>
                    </a:lnTo>
                    <a:lnTo>
                      <a:pt x="388" y="360"/>
                    </a:lnTo>
                    <a:lnTo>
                      <a:pt x="400" y="342"/>
                    </a:lnTo>
                    <a:lnTo>
                      <a:pt x="411" y="325"/>
                    </a:lnTo>
                    <a:lnTo>
                      <a:pt x="420" y="306"/>
                    </a:lnTo>
                    <a:lnTo>
                      <a:pt x="428" y="286"/>
                    </a:lnTo>
                    <a:lnTo>
                      <a:pt x="434" y="264"/>
                    </a:lnTo>
                    <a:lnTo>
                      <a:pt x="436" y="243"/>
                    </a:lnTo>
                    <a:lnTo>
                      <a:pt x="438" y="220"/>
                    </a:lnTo>
                    <a:lnTo>
                      <a:pt x="436" y="197"/>
                    </a:lnTo>
                    <a:lnTo>
                      <a:pt x="434" y="176"/>
                    </a:lnTo>
                    <a:lnTo>
                      <a:pt x="428" y="155"/>
                    </a:lnTo>
                    <a:lnTo>
                      <a:pt x="420" y="134"/>
                    </a:lnTo>
                    <a:lnTo>
                      <a:pt x="411" y="116"/>
                    </a:lnTo>
                    <a:lnTo>
                      <a:pt x="400" y="98"/>
                    </a:lnTo>
                    <a:lnTo>
                      <a:pt x="388" y="81"/>
                    </a:lnTo>
                    <a:lnTo>
                      <a:pt x="373" y="65"/>
                    </a:lnTo>
                    <a:lnTo>
                      <a:pt x="357" y="51"/>
                    </a:lnTo>
                    <a:lnTo>
                      <a:pt x="341" y="38"/>
                    </a:lnTo>
                    <a:lnTo>
                      <a:pt x="322" y="27"/>
                    </a:lnTo>
                    <a:lnTo>
                      <a:pt x="304" y="18"/>
                    </a:lnTo>
                    <a:lnTo>
                      <a:pt x="284" y="10"/>
                    </a:lnTo>
                    <a:lnTo>
                      <a:pt x="262" y="4"/>
                    </a:lnTo>
                    <a:lnTo>
                      <a:pt x="241" y="2"/>
                    </a:lnTo>
                    <a:lnTo>
                      <a:pt x="218" y="0"/>
                    </a:lnTo>
                    <a:lnTo>
                      <a:pt x="197" y="2"/>
                    </a:lnTo>
                    <a:lnTo>
                      <a:pt x="174" y="4"/>
                    </a:lnTo>
                    <a:lnTo>
                      <a:pt x="154" y="10"/>
                    </a:lnTo>
                    <a:lnTo>
                      <a:pt x="134" y="18"/>
                    </a:lnTo>
                    <a:lnTo>
                      <a:pt x="115" y="27"/>
                    </a:lnTo>
                    <a:lnTo>
                      <a:pt x="96" y="38"/>
                    </a:lnTo>
                    <a:lnTo>
                      <a:pt x="80" y="51"/>
                    </a:lnTo>
                    <a:lnTo>
                      <a:pt x="64" y="65"/>
                    </a:lnTo>
                    <a:lnTo>
                      <a:pt x="51" y="81"/>
                    </a:lnTo>
                    <a:lnTo>
                      <a:pt x="37" y="98"/>
                    </a:lnTo>
                    <a:lnTo>
                      <a:pt x="27" y="116"/>
                    </a:lnTo>
                    <a:lnTo>
                      <a:pt x="17" y="134"/>
                    </a:lnTo>
                    <a:lnTo>
                      <a:pt x="9" y="155"/>
                    </a:lnTo>
                    <a:lnTo>
                      <a:pt x="4" y="176"/>
                    </a:lnTo>
                    <a:lnTo>
                      <a:pt x="1" y="197"/>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2934000" y="2787120"/>
                <a:ext cx="297360" cy="299160"/>
              </a:xfrm>
              <a:custGeom>
                <a:avLst/>
                <a:gdLst/>
                <a:ahLst/>
                <a:rect l="l" t="t" r="r" b="b"/>
                <a:pathLst>
                  <a:path w="325" h="327">
                    <a:moveTo>
                      <a:pt x="0" y="163"/>
                    </a:moveTo>
                    <a:lnTo>
                      <a:pt x="3" y="131"/>
                    </a:lnTo>
                    <a:lnTo>
                      <a:pt x="12" y="100"/>
                    </a:lnTo>
                    <a:lnTo>
                      <a:pt x="28" y="72"/>
                    </a:lnTo>
                    <a:lnTo>
                      <a:pt x="47" y="48"/>
                    </a:lnTo>
                    <a:lnTo>
                      <a:pt x="71" y="28"/>
                    </a:lnTo>
                    <a:lnTo>
                      <a:pt x="99" y="13"/>
                    </a:lnTo>
                    <a:lnTo>
                      <a:pt x="130" y="2"/>
                    </a:lnTo>
                    <a:lnTo>
                      <a:pt x="162" y="0"/>
                    </a:lnTo>
                    <a:lnTo>
                      <a:pt x="195" y="2"/>
                    </a:lnTo>
                    <a:lnTo>
                      <a:pt x="226" y="13"/>
                    </a:lnTo>
                    <a:lnTo>
                      <a:pt x="253" y="28"/>
                    </a:lnTo>
                    <a:lnTo>
                      <a:pt x="278" y="48"/>
                    </a:lnTo>
                    <a:lnTo>
                      <a:pt x="297" y="72"/>
                    </a:lnTo>
                    <a:lnTo>
                      <a:pt x="313" y="100"/>
                    </a:lnTo>
                    <a:lnTo>
                      <a:pt x="323" y="131"/>
                    </a:lnTo>
                    <a:lnTo>
                      <a:pt x="325" y="163"/>
                    </a:lnTo>
                    <a:lnTo>
                      <a:pt x="323" y="195"/>
                    </a:lnTo>
                    <a:lnTo>
                      <a:pt x="313" y="226"/>
                    </a:lnTo>
                    <a:lnTo>
                      <a:pt x="297" y="254"/>
                    </a:lnTo>
                    <a:lnTo>
                      <a:pt x="278" y="279"/>
                    </a:lnTo>
                    <a:lnTo>
                      <a:pt x="253" y="299"/>
                    </a:lnTo>
                    <a:lnTo>
                      <a:pt x="226" y="313"/>
                    </a:lnTo>
                    <a:lnTo>
                      <a:pt x="195" y="324"/>
                    </a:lnTo>
                    <a:lnTo>
                      <a:pt x="162" y="327"/>
                    </a:lnTo>
                    <a:lnTo>
                      <a:pt x="130" y="324"/>
                    </a:lnTo>
                    <a:lnTo>
                      <a:pt x="99" y="313"/>
                    </a:lnTo>
                    <a:lnTo>
                      <a:pt x="71" y="299"/>
                    </a:lnTo>
                    <a:lnTo>
                      <a:pt x="47" y="279"/>
                    </a:lnTo>
                    <a:lnTo>
                      <a:pt x="28" y="254"/>
                    </a:lnTo>
                    <a:lnTo>
                      <a:pt x="12" y="226"/>
                    </a:lnTo>
                    <a:lnTo>
                      <a:pt x="3" y="195"/>
                    </a:lnTo>
                    <a:lnTo>
                      <a:pt x="0" y="163"/>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2977920" y="2831760"/>
                <a:ext cx="209160" cy="208800"/>
              </a:xfrm>
              <a:custGeom>
                <a:avLst/>
                <a:gdLst/>
                <a:ahLst/>
                <a:rect l="l" t="t" r="r" b="b"/>
                <a:pathLst>
                  <a:path w="229" h="228">
                    <a:moveTo>
                      <a:pt x="0" y="114"/>
                    </a:moveTo>
                    <a:lnTo>
                      <a:pt x="3" y="91"/>
                    </a:lnTo>
                    <a:lnTo>
                      <a:pt x="10" y="69"/>
                    </a:lnTo>
                    <a:lnTo>
                      <a:pt x="20" y="50"/>
                    </a:lnTo>
                    <a:lnTo>
                      <a:pt x="34" y="32"/>
                    </a:lnTo>
                    <a:lnTo>
                      <a:pt x="51" y="19"/>
                    </a:lnTo>
                    <a:lnTo>
                      <a:pt x="70" y="10"/>
                    </a:lnTo>
                    <a:lnTo>
                      <a:pt x="91" y="3"/>
                    </a:lnTo>
                    <a:lnTo>
                      <a:pt x="114" y="0"/>
                    </a:lnTo>
                    <a:lnTo>
                      <a:pt x="137" y="3"/>
                    </a:lnTo>
                    <a:lnTo>
                      <a:pt x="158" y="10"/>
                    </a:lnTo>
                    <a:lnTo>
                      <a:pt x="178" y="19"/>
                    </a:lnTo>
                    <a:lnTo>
                      <a:pt x="196" y="32"/>
                    </a:lnTo>
                    <a:lnTo>
                      <a:pt x="209" y="50"/>
                    </a:lnTo>
                    <a:lnTo>
                      <a:pt x="220" y="69"/>
                    </a:lnTo>
                    <a:lnTo>
                      <a:pt x="226" y="91"/>
                    </a:lnTo>
                    <a:lnTo>
                      <a:pt x="229" y="114"/>
                    </a:lnTo>
                    <a:lnTo>
                      <a:pt x="226" y="137"/>
                    </a:lnTo>
                    <a:lnTo>
                      <a:pt x="220" y="158"/>
                    </a:lnTo>
                    <a:lnTo>
                      <a:pt x="209" y="179"/>
                    </a:lnTo>
                    <a:lnTo>
                      <a:pt x="196" y="195"/>
                    </a:lnTo>
                    <a:lnTo>
                      <a:pt x="178" y="208"/>
                    </a:lnTo>
                    <a:lnTo>
                      <a:pt x="158" y="219"/>
                    </a:lnTo>
                    <a:lnTo>
                      <a:pt x="137" y="225"/>
                    </a:lnTo>
                    <a:lnTo>
                      <a:pt x="114" y="228"/>
                    </a:lnTo>
                    <a:lnTo>
                      <a:pt x="91" y="225"/>
                    </a:lnTo>
                    <a:lnTo>
                      <a:pt x="70" y="219"/>
                    </a:lnTo>
                    <a:lnTo>
                      <a:pt x="51" y="208"/>
                    </a:lnTo>
                    <a:lnTo>
                      <a:pt x="34" y="195"/>
                    </a:lnTo>
                    <a:lnTo>
                      <a:pt x="20" y="179"/>
                    </a:lnTo>
                    <a:lnTo>
                      <a:pt x="10" y="158"/>
                    </a:lnTo>
                    <a:lnTo>
                      <a:pt x="3" y="137"/>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3125520" y="2846520"/>
                <a:ext cx="61920" cy="60120"/>
              </a:xfrm>
              <a:custGeom>
                <a:avLst/>
                <a:gdLst/>
                <a:ahLst/>
                <a:rect l="l" t="t" r="r" b="b"/>
                <a:pathLst>
                  <a:path w="68" h="66">
                    <a:moveTo>
                      <a:pt x="68" y="33"/>
                    </a:moveTo>
                    <a:lnTo>
                      <a:pt x="65" y="46"/>
                    </a:lnTo>
                    <a:lnTo>
                      <a:pt x="59" y="57"/>
                    </a:lnTo>
                    <a:lnTo>
                      <a:pt x="48" y="63"/>
                    </a:lnTo>
                    <a:lnTo>
                      <a:pt x="35" y="66"/>
                    </a:lnTo>
                    <a:lnTo>
                      <a:pt x="35" y="66"/>
                    </a:lnTo>
                    <a:lnTo>
                      <a:pt x="21" y="63"/>
                    </a:lnTo>
                    <a:lnTo>
                      <a:pt x="11" y="57"/>
                    </a:lnTo>
                    <a:lnTo>
                      <a:pt x="3" y="46"/>
                    </a:lnTo>
                    <a:lnTo>
                      <a:pt x="0" y="33"/>
                    </a:lnTo>
                    <a:lnTo>
                      <a:pt x="0" y="33"/>
                    </a:lnTo>
                    <a:lnTo>
                      <a:pt x="3" y="19"/>
                    </a:lnTo>
                    <a:lnTo>
                      <a:pt x="11" y="10"/>
                    </a:lnTo>
                    <a:lnTo>
                      <a:pt x="21" y="3"/>
                    </a:lnTo>
                    <a:lnTo>
                      <a:pt x="35" y="0"/>
                    </a:lnTo>
                    <a:lnTo>
                      <a:pt x="35" y="0"/>
                    </a:lnTo>
                    <a:lnTo>
                      <a:pt x="48" y="3"/>
                    </a:lnTo>
                    <a:lnTo>
                      <a:pt x="59" y="10"/>
                    </a:lnTo>
                    <a:lnTo>
                      <a:pt x="65" y="19"/>
                    </a:lnTo>
                    <a:lnTo>
                      <a:pt x="68" y="33"/>
                    </a:lnTo>
                    <a:lnTo>
                      <a:pt x="68" y="3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70" name=""/>
              <p:cNvSpPr/>
              <p:nvPr/>
            </p:nvSpPr>
            <p:spPr>
              <a:xfrm>
                <a:off x="3061080" y="2617920"/>
                <a:ext cx="32760" cy="10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2908440" y="2629440"/>
                <a:ext cx="61200" cy="108720"/>
              </a:xfrm>
              <a:custGeom>
                <a:avLst/>
                <a:gdLst/>
                <a:ahLst/>
                <a:rect l="l" t="t" r="r" b="b"/>
                <a:pathLst>
                  <a:path w="67" h="119">
                    <a:moveTo>
                      <a:pt x="0" y="11"/>
                    </a:moveTo>
                    <a:lnTo>
                      <a:pt x="31" y="119"/>
                    </a:lnTo>
                    <a:lnTo>
                      <a:pt x="67" y="110"/>
                    </a:lnTo>
                    <a:lnTo>
                      <a:pt x="3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2763720" y="2686320"/>
                <a:ext cx="89640" cy="102240"/>
              </a:xfrm>
              <a:custGeom>
                <a:avLst/>
                <a:gdLst/>
                <a:ahLst/>
                <a:rect l="l" t="t" r="r" b="b"/>
                <a:pathLst>
                  <a:path w="98" h="112">
                    <a:moveTo>
                      <a:pt x="0" y="23"/>
                    </a:moveTo>
                    <a:lnTo>
                      <a:pt x="68" y="112"/>
                    </a:lnTo>
                    <a:lnTo>
                      <a:pt x="98" y="90"/>
                    </a:lnTo>
                    <a:lnTo>
                      <a:pt x="29"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2666880" y="2799000"/>
                <a:ext cx="103320" cy="88560"/>
              </a:xfrm>
              <a:custGeom>
                <a:avLst/>
                <a:gdLst/>
                <a:ahLst/>
                <a:rect l="l" t="t" r="r" b="b"/>
                <a:pathLst>
                  <a:path w="113" h="97">
                    <a:moveTo>
                      <a:pt x="0" y="31"/>
                    </a:moveTo>
                    <a:lnTo>
                      <a:pt x="91" y="97"/>
                    </a:lnTo>
                    <a:lnTo>
                      <a:pt x="113" y="67"/>
                    </a:lnTo>
                    <a:lnTo>
                      <a:pt x="22" y="0"/>
                    </a:lnTo>
                    <a:lnTo>
                      <a:pt x="0"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74" name=""/>
              <p:cNvSpPr/>
              <p:nvPr/>
            </p:nvSpPr>
            <p:spPr>
              <a:xfrm>
                <a:off x="3192120" y="2629440"/>
                <a:ext cx="60480" cy="108720"/>
              </a:xfrm>
              <a:custGeom>
                <a:avLst/>
                <a:gdLst/>
                <a:ahLst/>
                <a:rect l="l" t="t" r="r" b="b"/>
                <a:pathLst>
                  <a:path w="66" h="119">
                    <a:moveTo>
                      <a:pt x="66" y="11"/>
                    </a:moveTo>
                    <a:lnTo>
                      <a:pt x="35" y="119"/>
                    </a:lnTo>
                    <a:lnTo>
                      <a:pt x="0" y="110"/>
                    </a:lnTo>
                    <a:lnTo>
                      <a:pt x="31" y="0"/>
                    </a:lnTo>
                    <a:lnTo>
                      <a:pt x="6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3307320" y="2686320"/>
                <a:ext cx="89640" cy="102240"/>
              </a:xfrm>
              <a:custGeom>
                <a:avLst/>
                <a:gdLst/>
                <a:ahLst/>
                <a:rect l="l" t="t" r="r" b="b"/>
                <a:pathLst>
                  <a:path w="98" h="112">
                    <a:moveTo>
                      <a:pt x="98" y="23"/>
                    </a:moveTo>
                    <a:lnTo>
                      <a:pt x="30" y="112"/>
                    </a:lnTo>
                    <a:lnTo>
                      <a:pt x="0" y="90"/>
                    </a:lnTo>
                    <a:lnTo>
                      <a:pt x="69" y="0"/>
                    </a:lnTo>
                    <a:lnTo>
                      <a:pt x="9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3390480" y="2799000"/>
                <a:ext cx="103320" cy="88560"/>
              </a:xfrm>
              <a:custGeom>
                <a:avLst/>
                <a:gdLst/>
                <a:ahLst/>
                <a:rect l="l" t="t" r="r" b="b"/>
                <a:pathLst>
                  <a:path w="113" h="97">
                    <a:moveTo>
                      <a:pt x="113" y="31"/>
                    </a:moveTo>
                    <a:lnTo>
                      <a:pt x="23" y="97"/>
                    </a:lnTo>
                    <a:lnTo>
                      <a:pt x="0" y="67"/>
                    </a:lnTo>
                    <a:lnTo>
                      <a:pt x="91" y="0"/>
                    </a:lnTo>
                    <a:lnTo>
                      <a:pt x="113" y="3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sp>
        <p:nvSpPr>
          <p:cNvPr id="15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20:11:40Z</dcterms:created>
  <dc:creator>Texas A&amp;M Veterinary Medicine</dc:creator>
  <dc:description/>
  <dc:language>en-US</dc:language>
  <cp:lastModifiedBy>Vince Hardy</cp:lastModifiedBy>
  <dcterms:modified xsi:type="dcterms:W3CDTF">2008-05-06T02:00:08Z</dcterms:modified>
  <cp:revision>217</cp:revision>
  <dc:subject/>
  <dc:title>Growing Pains for a Young Country</dc:title>
</cp:coreProperties>
</file>