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140B7-4558-4390-8814-68C8E62D47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C2AC-DC2E-4AC9-92CF-FD13662C6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D221-23AE-407C-9E53-26E0A4B36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1FAC-1877-4D12-8FAF-6758BD432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8813-28A6-4357-9932-E6AC2632D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D126-F854-4173-96AA-59388BC20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B774-7B4F-4470-863E-ED61DB3E7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EA63-ABE4-4FA1-B6F0-F3DC298DC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AFDC-8972-475B-BB9D-ED6880142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9F58-7078-4126-B773-E95FDCB6D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DFE0-EC8D-4AD0-988E-DF59AF39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DE54-7E38-4F5F-890C-59E2D9F07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C30B-8DCE-4EC7-96C4-99F8A640D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327C3-7BC2-4D18-9E32-3E6A50BA9F81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0" t="0" r="53" b="101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Vince Hardy</cp:lastModifiedBy>
  <dcterms:modified xsi:type="dcterms:W3CDTF">2007-01-12T21:47:12Z</dcterms:modified>
  <cp:revision>29</cp:revision>
  <dc:subject/>
  <dc:title>Descriptive Writing</dc:title>
</cp:coreProperties>
</file>