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3AD73-136A-481F-9D9B-DE4D997CD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rystal can also act an a transducer to convert mechanical energy into electrical energy. Molecules of the crystal align themselves with the direction of a mechanical force, forming an electric dipole. If the crystal is connected to a conductive metal, a current will run through the met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insulators like plastic, cloth, and dry air do not like to lose electrons. But if they do give up electrons, they will have a positive charge. If a conductor such as metal is present, then the negative charges (electrons) move toward the positive charges, forming electrical curr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ology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2 (c)(12) The student identifies the factors that influence the evolution of manufacturing, construction, communication, energy, power, transportation, and bio-related technolo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uman hair is 70 microns in diam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 (c)(5) The student describes quality and how it is measured in computer technolo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ers use film resistors that have carbon or metal film deposited on a thin ceramic ro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sistive coating, such as epoxy or silicone, is then spiraled onto the rod.  The amount of spiraling applied depends on the amount of resistance 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stors are labeled with colors that represent properties of the resistor. For more information, visit http://www.doctronics.co.uk/resistor.htm#colo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843C-74A7-4141-B649-91BD57537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1E16-0C30-4586-ACB0-266496071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5ED7-C2FC-498C-8A1A-E5FE846DE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FA86-F507-445B-B05F-EFF3AC5D1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2920-7DC3-483C-A788-8856CE43A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3B6C-0BC8-48C0-A9CD-0F4966AC2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17DA-6D05-47AB-9D6E-D2AD14311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285D-E628-4869-94A4-DF0403AE8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FD3F-C520-493F-B323-F3AED4223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4363-6A37-4D5C-BDF1-D5AC1932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CAA0-8170-4B2E-A4B6-736FA77D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2DE0-0635-420B-8533-8AA8D728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7983B-8E09-493C-B318-56F4D71AD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hyperlink" Target="http://www.sciencemadesimple.com/static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omputer.howstuffworks.com/inkjet-printer3.htm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We Print Today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me Compu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kjet Pri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erjet Pri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67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wo Main Types of Inkjet Prin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4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2:  Piezoelectric or “vibrating crystal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chanism of 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ystals are at the back of the ink reservoir of each nozz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he crystal receives an electrical charge, it will vibrate, pushing a small amount of ink out of the nozzle onto the pap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889280" y="3097080"/>
            <a:ext cx="2933640" cy="3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iezoelectric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046320" y="1828800"/>
            <a:ext cx="575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ezoelectric refers to a type of crystal that becomes electrically charged when it is acted on by a mechanical for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pposite occurs when a charge is put into the crystal. The crystal converts the electrical energy into mechanical energy and vibr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228600" y="363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does piezoelectric mea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rcRect l="0" t="0" r="80" b="-16"/>
          <a:stretch/>
        </p:blipFill>
        <p:spPr>
          <a:xfrm>
            <a:off x="709560" y="1963800"/>
            <a:ext cx="2103480" cy="217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614520" y="4248000"/>
            <a:ext cx="25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rtz is an example of piezoelectric cryst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530440" y="185112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ser Prin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Laser Printers 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360" y="156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er printers utilize the principle of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ain component of laser printers is a revolving drum made of electrically charged, light-sensitive materi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27000" y="2293920"/>
            <a:ext cx="33958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tatic electricit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3600" y="1557000"/>
            <a:ext cx="3754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c electricity is when a charge, positive or negative, builds up on an isolated obje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s with opposite electric charges will pull towards each o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979880" y="1616040"/>
            <a:ext cx="3505320" cy="2120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static electricity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75360" y="3932280"/>
            <a:ext cx="29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lick here to learn how to create static electri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ser Prin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chanism of ac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rum has a positive electric char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the drum revolves, the printer shines a laser across the surface to reverse the charge wherever material is to be prin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rum is then coated with a positive toner, a fine powder that sticks only to the negative parts of the dr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ser Prin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m, continu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the drum is coated with a positive toner, a piece of paper is given a negative charg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rum then rolls over the paper. The charge of the paper is stronger than the drum, so the paper pulls the toner from the drum to itself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ser Prin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S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aper is then passed through the fuser, a pair of heated roll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chanism of ac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attracting the toner, the paper is heated while the drum is discharg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heated paper causes the toner powder to melt and fuse with the fibers of the paper. The paper is kept from burning by the speed of the roller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mmary of Dif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3047760" y="167652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kjet             Las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33520" y="2316240"/>
          <a:ext cx="8229600" cy="2768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3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of prin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expen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en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esp. for colo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nt Qual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cell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nt Spe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s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s of Home Prin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kjet and Laserjet printers are the most common types of printers used with home comput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printers are only a fraction of the size of commercial presses and work very different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inkjet and laserjet technologies work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0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kjet Prin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516040" y="2095560"/>
            <a:ext cx="4083120" cy="3184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0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kjet printers place small droplets of ink onto paper to create an im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inters became available in the 1980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mitation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k can smear before it’s d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k can be expen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ting is s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kjet Prin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 rot="20055000">
            <a:off x="4866840" y="2312640"/>
            <a:ext cx="4006800" cy="2475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58800" y="2392200"/>
            <a:ext cx="391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mall droplets of ink are 50-60 microns in diameter. That’s smaller than a human hai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013360" y="1724040"/>
            <a:ext cx="3521160" cy="27669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kjet Prin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1400" y="36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kjet Printer Compon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T HEAD: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contains nozzles that are used to spray drops of ink of various colors to create a photo im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K CARTRIDGE: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hold the different colored ink in separate cartrid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T HEAD STEPPER MOTOR: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motor moves the print head assembly (print head + ink cartridges) back and forth across the pap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440" y="253836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T:                 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elt attaches the print head to the print head stepper mot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921200" y="2111400"/>
            <a:ext cx="3352680" cy="3352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671400" y="36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kjet Printer Compon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7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wo Main Types of Inkjet Prin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18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1:  Thermal bubble or “Bubble Jet”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chanism of 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 heat, allowing the ink to vaporiz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creates a bubble that pushes ink out of the nozzle onto the pap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905120" y="3164040"/>
            <a:ext cx="26668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Resistors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66600" y="5484960"/>
            <a:ext cx="7605720" cy="13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see an animation of Bubble Jet technology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lick here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5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Resistor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57280" y="1600200"/>
            <a:ext cx="439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resistor is an electrical component designed to limit the flow of current in an electric circuit.  This keeps high currents from damaging electronics or ligh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istors limit the flow by converting the current’s energy into he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172120" y="1676520"/>
            <a:ext cx="3362400" cy="18237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4:11:21Z</dcterms:created>
  <dc:creator>Texas A&amp;M Veterinary Medicine</dc:creator>
  <dc:description/>
  <dc:language>en-US</dc:language>
  <cp:lastModifiedBy>Vince Hardy</cp:lastModifiedBy>
  <dcterms:modified xsi:type="dcterms:W3CDTF">2008-05-06T03:56:31Z</dcterms:modified>
  <cp:revision>64</cp:revision>
  <dc:subject/>
  <dc:title>Slide 1</dc:title>
</cp:coreProperties>
</file>