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C1C8-6623-4B75-93B7-CD84769B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1E7-F5E8-4CAC-9AA3-C581BFFB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118-8D58-48AB-ADEC-8BCFC894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25B-3409-4583-9C73-29AD4691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C37-3FFA-4AD6-98B5-4C633E39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5A2-5A51-489F-9A27-873E4FA4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6F2-CE90-40ED-9C6A-58497489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D631-A51D-43DE-AAEA-79D35CF9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52A-35EC-44B0-960E-BA3C1DCA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A10-DC75-4BF9-9E49-4EC49C2F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91F-3974-420B-ACC3-AED3799F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E12-524F-4BF6-BC64-C746E124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D4E7-D620-44C1-BE94-BDCAAD101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1665360"/>
            <a:ext cx="5029200" cy="4125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2100240"/>
            <a:ext cx="2514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ing hot type was a dirty and dangerous occupation where lead poisoning was all too comm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038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ype case became as familiar as a typewriter to an experienced types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95320" y="1676520"/>
            <a:ext cx="7353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"stick" into which type would be set. Note each line had to be set backw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4720" y="1981080"/>
            <a:ext cx="81345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14:36Z</dcterms:created>
  <dc:creator>Texas A&amp;M Veterinary Medicine</dc:creator>
  <dc:description/>
  <dc:language>en-US</dc:language>
  <cp:lastModifiedBy>Vince Hardy</cp:lastModifiedBy>
  <dcterms:modified xsi:type="dcterms:W3CDTF">2008-05-05T15:36:04Z</dcterms:modified>
  <cp:revision>90</cp:revision>
  <dc:subject/>
  <dc:title>Slide 1</dc:title>
</cp:coreProperties>
</file>