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7911-5310-4A39-9EFD-892C10860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A2FC-50E1-4981-8C90-B76DB986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0B5-5454-4958-9496-70103349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BA55-ED88-4702-99D1-E4BC4D7E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D09-F404-4D2F-BCCD-8916E4A9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8F89-64E5-4C6D-A59A-89116BC4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81CC-201E-4742-BD0D-4F18B0E1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3F11-C98D-42B8-A84B-A8EE0B34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DA34-9231-45C3-A603-F51736FA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6F52-5D6E-44CE-A093-1598AD87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951-EBCD-4881-8ECE-0B20EE8E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739-8CC3-4BEF-A471-489F743D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2CC-95F3-4877-A946-24CA4801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D8B7-97CE-421B-8C28-9DE7F7037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600200"/>
            <a:ext cx="809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Lydia leaves the room after speaking with Watt and Elias, which of the following best describes her emo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09720" y="314640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t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and Watt met in Elias’s storage room early in the morning. Why is this import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16200" y="2727360"/>
            <a:ext cx="628020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are planning Watt’s move to Virgi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anyone to overhear their conver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to wake anyone in the main 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the only place they can meet with Lyd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97080" y="521640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298520" y="3414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1300320" y="438624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162240" y="2768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076640" y="45086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was on vacation with his dad to celebrate a family member’s birthday. Whose birthday was being celebrated, and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16200" y="3149640"/>
            <a:ext cx="733428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, because he was turning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father’s, because he was turning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gs up a box with the name Eduardo M. Castillo inscribed on the side. Who was Castil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16200" y="2732040"/>
            <a:ext cx="6829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ranch where Roman’s family 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state of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elative of Roman who lived long 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riend of Roman’s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298520" y="33130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scovers a hidden treasure in the candlestick his great-grandfather shows him. He later discovers that it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16200" y="3149640"/>
            <a:ext cx="688824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and-written copy of the Bill of R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copy of the U.S. Constit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ontract between New Spain and the city of Philadelph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page of a new book that had just been printed on a new printing p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303200" y="53499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300320" y="444348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hat time in American history does Roman tra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09720" y="2728800"/>
            <a:ext cx="667692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beginning of the Revolutionary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election of George Washington as the first U.S.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before North Carolina ratifies the Bill of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Declaration of Independence was 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97080" y="496872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98520" y="34336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300320" y="4259160"/>
            <a:ext cx="382320" cy="47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t currently lives in Philadelphia. Where has he decided he would like to mo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16200" y="273204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 Car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598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ord best describes Roman’s reaction upon discovering what Elias had concealed in the candlesti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9440" y="315108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westru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rtbr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y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oes not know where he is until he listens to Elias and Watt talk for a while. Where does he finally realize his computer has taken h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16200" y="314964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phia, Pennsylv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D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lphia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600200"/>
            <a:ext cx="80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has an “affinity for foreign diplomats.” What does this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16200" y="2727360"/>
            <a:ext cx="682776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like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thinks foreign diplomats are very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has a natural liking for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understand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1:49:52Z</dcterms:modified>
  <cp:revision>109</cp:revision>
  <dc:subject/>
  <dc:title>PowerPoint Presentation</dc:title>
</cp:coreProperties>
</file>