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9ED6-02F0-4E75-B603-11096E78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Know how events affected the growth of representativ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6 (A) Identify influential ideas from historic documents on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6 (B) Summarize strengths and weaknesses of the Articles of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Describe characteristics of limited and unlimited gover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Identify reasons for limiting the power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C) Explain the significance of 1607, 1776, 1787, 1803, 1861-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A) Explain the reasons for the growth of representativ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Know how events affected the growth of representativ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4 (D) Analyze the issues of the Philadelphia Convention of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D) identify points of view from the historical context surrounding an event and the frame of reference that influenced the particip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E) Identify the frame of reference that influenced people in an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new powers given to the government were the ability to collect taxes, regulate commerce, and adjudicate disputes between the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C) Explain the significance of 1607, 1776, 1787, 1803, 1861-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A) Explain the reasons for the growth of representativ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Know how events affected the growth of representativ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4 (D) Analyze the issues of the Philadelphia Convention of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Describe characteristics of limited and unlimited gover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Identify reasons for limiting the power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B99-B4ED-45CB-B8DF-38957A58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BFB-1CF6-47D9-A0BF-79229A05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6CC-0102-4BCB-83B8-671A9E6F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3B1-E358-4A61-8FED-CAFF2FE7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CA2-109C-4AF9-914D-3351F5E9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E9D-362D-4488-B865-61363234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465-7CA6-4B87-BF7A-89391552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CB3-07BA-4A15-BBBC-A11400FB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7A7-E98F-49A3-B4BD-CE45DCC5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0A7-1C19-4539-87EA-CA248E43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6EB-F84E-4D19-BEA2-107EC20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53F-2CE5-4D76-8185-A310A9B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169-5DF7-4487-A419-AEB9ACF1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5249880"/>
            <a:ext cx="6654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Middle School Curriculu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nership for Environmental Education and Rural Heal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as A&amp;M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eer.ta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and contrast the Unitary, Federal and Confederal systems of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development of and changes to the Articles of Confed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mperfect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9000" y="259056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ress had no power to gather taxes or to force the state representatives to attend legislative sessions. Representatives often did not show u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act, the treaty to end the war with England was not approved by the United States for several months because not enough representatives attended the legislative s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4720" y="2387520"/>
            <a:ext cx="2220840" cy="358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08040" y="597996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61722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4600" y="59054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page of the Articles of Con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447920"/>
            <a:ext cx="8076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cles of Confederation, which were ratified in 1781, created a powerless central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T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stitutional 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181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sponse to the problems with the Articles of Confederation, a convention was called in 1787 to discuss possible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legates secretly decided to scrap the Articles of Confederation and develop a completely new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liberations of the convention were kept secret in order to avoid controver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308124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7280" y="56008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pendence Hall, where the Constitutional Convention was h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T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Constit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43400" y="2874960"/>
            <a:ext cx="457200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constitution gave the central government greater p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provided for representative democracy, but with limits placed on the power of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960" y="2870280"/>
            <a:ext cx="3581280" cy="25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9080" y="5295960"/>
            <a:ext cx="376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ene at the Signing of the Constitution of the United St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Howard Chandler Chri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040" y="152388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360" y="30481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523880"/>
            <a:ext cx="8610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people expected the convention to emerge with a revised Articles of Confederation; instead, they had created a completely new constit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T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04920" y="304920"/>
            <a:ext cx="8670960" cy="6037200"/>
            <a:chOff x="304920" y="304920"/>
            <a:chExt cx="8670960" cy="603720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380880" y="19098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380880" y="343368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380880" y="495792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4724280" y="345132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4724280" y="49705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4643280" y="1928880"/>
              <a:ext cx="1546560" cy="1371600"/>
              <a:chOff x="4643280" y="1928880"/>
              <a:chExt cx="1546560" cy="1371600"/>
            </a:xfrm>
          </p:grpSpPr>
          <p:sp>
            <p:nvSpPr>
              <p:cNvPr id="79" name=""/>
              <p:cNvSpPr/>
              <p:nvPr/>
            </p:nvSpPr>
            <p:spPr>
              <a:xfrm>
                <a:off x="4724280" y="19288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0" name=""/>
              <p:cNvGraphicFramePr/>
              <p:nvPr/>
            </p:nvGraphicFramePr>
            <p:xfrm>
              <a:off x="4643280" y="2117880"/>
              <a:ext cx="1546560" cy="1012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643280" y="21178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2" name=""/>
            <p:cNvSpPr/>
            <p:nvPr/>
          </p:nvSpPr>
          <p:spPr>
            <a:xfrm>
              <a:off x="304920" y="990720"/>
              <a:ext cx="8534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s product is available through the cooperation of the following: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920" y="304920"/>
              <a:ext cx="84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achers, please click on this link to complete a short survey concerning this module: </a:t>
              </a:r>
              <a:r>
                <a:rPr b="0" lang="en-US" sz="2000" spc="-1" strike="noStrike" u="sng">
                  <a:solidFill>
                    <a:srgbClr val="0000ff"/>
                  </a:solidFill>
                  <a:uFillTx/>
                  <a:latin typeface="Times New Roman"/>
                  <a:hlinkClick r:id="rId9"/>
                </a:rPr>
                <a:t>http://</a:t>
              </a:r>
              <a:r>
                <a:rPr b="0" lang="en-US" sz="2000" spc="-1" strike="noStrike" u="sng">
                  <a:solidFill>
                    <a:srgbClr val="0000ff"/>
                  </a:solidFill>
                  <a:uFillTx/>
                  <a:latin typeface="Times New Roman"/>
                  <a:hlinkClick r:id="rId10"/>
                </a:rPr>
                <a:t>peer.tamu.edu/forms/Curricula_Survey.shtm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16280" y="2168640"/>
              <a:ext cx="267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33560" y="5321160"/>
              <a:ext cx="267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16280" y="3556080"/>
              <a:ext cx="26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9960" y="2178000"/>
              <a:ext cx="271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59680" y="3687840"/>
              <a:ext cx="271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59680" y="5159520"/>
              <a:ext cx="271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0:11:40Z</dcterms:created>
  <dc:creator>Texas A&amp;M Veterinary Medicine</dc:creator>
  <dc:description/>
  <dc:language>en-US</dc:language>
  <cp:lastModifiedBy>Vince Hardy</cp:lastModifiedBy>
  <dcterms:modified xsi:type="dcterms:W3CDTF">2008-05-06T04:05:26Z</dcterms:modified>
  <cp:revision>219</cp:revision>
  <dc:subject/>
  <dc:title>Growing Pains for a Young Country</dc:title>
</cp:coreProperties>
</file>