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AAD8-20DC-423E-9A30-2835C23EA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CF5-759A-4A84-AE59-99708521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264-4DC3-4C7E-BCF9-9FFA2A2C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2E9-706B-418E-ADA9-E0565803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530-3310-47EB-B1BF-662F2E7E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D76-45B2-4B27-A67F-3A0D29DD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16B-668A-41FC-B4AF-978F46F1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A44C-29CD-4077-AAF2-D896E2D4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088-6766-48D3-9C72-4A1A11A0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298-9426-4BA5-BE70-F5731E7F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069-781D-40BE-A631-ECA72DA6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2EC-08B0-483D-85CB-AA6B0379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1E0-6AF7-4104-AC20-248F3E97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17A0-41EF-4D0A-9830-A362C75F6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75440" y="0"/>
            <a:ext cx="1168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813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‘Well said, my friend, but you still speak from the vantage point of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ewtersmith,’ Walt mus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s to do his job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completed an apprenticeship in a trad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s how to do many different types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s journeys to earn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5560" y="5730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376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3760" y="424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3760" y="514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You said he was the most ambitiou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ou had ever known and that Philadelphia would not hold him for lo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in a fac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lot of money in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have to work to earn a li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s a business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5560" y="5354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376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3760" y="4170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3760" y="4770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91040" y="43322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…the cold front had whisked away the earthy, left-over summer smells of dry grass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soi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aking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grown with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ly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ly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0520" y="537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556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556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5560" y="4781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ardy mesquite swayed in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dancing in the north wind.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, small gul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90520" y="49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95560" y="3197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95560" y="379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195560" y="43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had been a toug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could train the wildest hors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anish ran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wboy of Spanish/Native Americ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9556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9376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9376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93760" y="43797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Now, he was a leather-skinned, bow-legg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stood a foot shorter than Rom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noun that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isible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emely short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rson with dark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orse tr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5560" y="496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376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3760" y="3797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3760" y="4384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Whatever medication he had missed this morning, it wasn’t for his heart, Roman thought, as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kept up a brisk p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omeone w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lived in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very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grated from a foreign country as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t least 100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97000" y="53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9556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5560" y="4172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95560" y="4765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suddenly felt totally isolated. But then he remembered the animals: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the feral hogs, the coyotes and the rattl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 animal that is similar 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b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9556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93760" y="357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93760" y="41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93760" y="4768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Roman looked around and all he could se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mesquite, cholla and prickley pea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rub with fragrant yellow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cac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flowerless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376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2320" y="3200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2320" y="3797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2320" y="4378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stood silently, a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ok masking whatever was going through his mi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nony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ster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5560" y="496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728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8728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87280" y="43736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2:00Z</dcterms:created>
  <dc:creator>Jeremiah McNichols</dc:creator>
  <dc:description/>
  <dc:language>en-US</dc:language>
  <cp:lastModifiedBy>Vince Hardy</cp:lastModifiedBy>
  <dcterms:modified xsi:type="dcterms:W3CDTF">2007-05-08T03:00:41Z</dcterms:modified>
  <cp:revision>15</cp:revision>
  <dc:subject/>
  <dc:title>Vocabulary Challenge Quiz</dc:title>
</cp:coreProperties>
</file>