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B3A-6E30-4484-B630-E3DD4102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42A-8C84-4AF8-A1C8-9E5F99DE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B51-1F43-4673-B1B0-BF88667E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8C8-958C-4081-B779-F6B22B71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D43-76E1-40E7-A7B7-5B779477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933-1F79-4A11-9048-07A02E1E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C87-977A-43D8-8E93-45AF87C2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60F-B5D7-4B99-B2B4-5A8C2E9D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5DB-1C10-4EA8-A280-F9668548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E00-B4F2-4134-B1E0-A60710EE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A8C-7534-4541-8D38-46C0372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3C53-C478-4C86-BE6E-DB43A5FA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5F80-38B3-440B-9C6F-A4C65817A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1665360"/>
            <a:ext cx="5029200" cy="412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2100240"/>
            <a:ext cx="251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ing hot type was a dirty and dangerous occupation where lead poisoning was all too comm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038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case became as familiar as a typewriter to an experienced types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5320" y="1676520"/>
            <a:ext cx="7353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"stick" into which type would be set. Note each line had to be set backw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4720" y="1981080"/>
            <a:ext cx="8134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14:36Z</dcterms:created>
  <dc:creator>Texas A&amp;M Veterinary Medicine</dc:creator>
  <dc:description/>
  <dc:language>en-US</dc:language>
  <cp:lastModifiedBy>Vince Hardy</cp:lastModifiedBy>
  <dcterms:modified xsi:type="dcterms:W3CDTF">2008-05-05T15:36:04Z</dcterms:modified>
  <cp:revision>90</cp:revision>
  <dc:subject/>
  <dc:title>Slide 1</dc:title>
</cp:coreProperties>
</file>