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BFDD-8DD7-4637-8970-E9C0D9B34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ystal can also act an a transducer to convert mechanical energy into electrical energy. Molecules of the crystal align themselves with the direction of a mechanical force, forming an electric dipole. If the crystal is connected to a conductive metal, a current will run through the 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insulators like plastic, cloth, and dry air do not like to lose electrons. But if they do give up electrons, they will have a positive charge. If a conductor such as metal is present, then the negative charges (electrons) move toward the positive charges, forming electrical cur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y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2 (c)(12) The student identifies the factors that influence the evolution of manufacturing, construction, communication, energy, power, transportation, and bio-related techn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uman hair is 70 microns in dia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 (c)(5) The student describes quality and how it is measured in computer techn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ers use film resistors that have carbon or metal film deposited on a thin ceramic r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istive coating, such as epoxy or silicone, is then spiraled onto the rod.  The amount of spiraling applied depends on the amount of resistance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ors are labeled with colors that represent properties of the resistor. For more information, visit http://www.doctronics.co.uk/resistor.htm#col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411F-0E1F-415D-A01A-03C8D5F40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6FE1-A263-4043-9D85-C7DAF90E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DC81-7BEC-4C9C-9611-DF6C8750D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56DC-3657-443F-9AD9-CCA42B718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8107-1DDC-4C43-B3DA-1A7086DD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7B8C-B0C0-4C4F-A497-CA2D7AEC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912D-8DEE-434D-869D-E6AD962B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3F32-B0C9-4C93-8544-64B33D2C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4B12-3668-48CD-994F-FCFA27D4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72CA-BDC4-4D58-B97F-B40069E3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3E8B-F2D2-4846-BC51-1CCD8488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F368-C935-4465-BD9E-7A69624A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375E-6F67-4E5D-B298-E5334399A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www.sciencemadesimple.com/static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omputer.howstuffworks.com/inkjet-printer3.htm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We Print Today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me Compu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kjet 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erjet 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67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Main Types of 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2:  Piezoelectric or “vibrating crysta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 of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ystals are at the back of the ink reservoir of each nozz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crystal receives an electrical charge, it will vibrate, pushing a small amount of ink out of the nozzle onto the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889280" y="3097080"/>
            <a:ext cx="2933640" cy="3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iezoelectric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46320" y="1828800"/>
            <a:ext cx="575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ezoelectric refers to a type of crystal that becomes electrically charged when it is acted on by a mechanical for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pposite occurs when a charge is put into the crystal. The crystal converts the electrical energy into mechanical energy and vib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28600" y="363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does piezoelectric mea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0" t="0" r="80" b="-16"/>
          <a:stretch/>
        </p:blipFill>
        <p:spPr>
          <a:xfrm>
            <a:off x="709560" y="1963800"/>
            <a:ext cx="2103480" cy="217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614520" y="4248000"/>
            <a:ext cx="25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rtz is an example of piezoelectric cryst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30440" y="185112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Laser Printers 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360" y="156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er printers utilize the principle of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in component of laser printers is a revolving drum made of electrically charged, light-sensitive mater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27000" y="2293920"/>
            <a:ext cx="33958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atic electricit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3600" y="1557000"/>
            <a:ext cx="3754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c electricity is when a charge, positive or negative, builds up on an isolated ob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s with opposite electric charges will pull towards each 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979880" y="1616040"/>
            <a:ext cx="3505320" cy="2120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static electricit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75360" y="3932280"/>
            <a:ext cx="29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ick here to learn how to create static electri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hanism of a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rum has a positive electric char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he drum revolves, the printer shines a laser across the surface to reverse the charge wherever material is to be prin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rum is then coated with a positive toner, a fine powder that sticks only to the negative parts of the dr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m, continu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the drum is coated with a positive toner, a piece of paper is given a negative charg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rum then rolls over the paper. The charge of the paper is stronger than the drum, so the paper pulls the toner from the drum to itsel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S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aper is then passed through the fuser, a pair of heated roll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 of a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attracting the toner, the paper is heated while the drum is discharg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eated paper causes the toner powder to melt and fuse with the fibers of the paper. The paper is kept from burning by the speed of the roller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 of Dif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047760" y="167652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kjet             La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3520" y="2316240"/>
          <a:ext cx="8229600" cy="2768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3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of pri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expen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en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esp. for col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t Qua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cel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t Spe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Home Prin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kjet and Laserjet printers are the most common types of printers used with home compu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printers are only a fraction of the size of commercial presses and work very different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inkjet and laserjet technologies wor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0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16040" y="2095560"/>
            <a:ext cx="4083120" cy="3184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0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jet printers place small droplets of ink onto paper to create an im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inters became available in the 1980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ation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 can smear before it’s d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 can be exp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ing is s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 rot="20055000">
            <a:off x="4866840" y="2312640"/>
            <a:ext cx="4006800" cy="2475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58800" y="2392200"/>
            <a:ext cx="391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mall droplets of ink are 50-60 microns in diameter. That’s smaller than a human hai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13360" y="1724040"/>
            <a:ext cx="3521160" cy="2766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400" y="36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 Compon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 HEAD: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ontains nozzles that are used to spray drops of ink of various colors to create a photo im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 CARTRIDGE: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hold the different colored ink in separate cartrid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 HEAD STEPPER MOTOR: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otor moves the print head assembly (print head + ink cartridges) back and forth across the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440" y="253836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T:                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lt attaches the print head to the print head stepper mo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921200" y="2111400"/>
            <a:ext cx="3352680" cy="335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671400" y="36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 Compon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7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Main Types of 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18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1:  Thermal bubble or “Bubble Jet”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 of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heat, allowing the ink to vaporiz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reates a bubble that pushes ink out of the nozzle onto the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905120" y="3164040"/>
            <a:ext cx="2666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Resistor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66600" y="5484960"/>
            <a:ext cx="760572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ee an animation of Bubble Jet technolog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Resisto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57280" y="1600200"/>
            <a:ext cx="439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esistor is an electrical component designed to limit the flow of current in an electric circuit.  This keeps high currents from damaging electronics or ligh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stors limit the flow by converting the current’s energy into he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172120" y="1676520"/>
            <a:ext cx="3362400" cy="1823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8-05-06T03:56:31Z</dcterms:modified>
  <cp:revision>64</cp:revision>
  <dc:subject/>
  <dc:title>Slide 1</dc:title>
</cp:coreProperties>
</file>