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BFD5-66BA-4B56-9767-97119046B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stal can also act an a transducer to convert mechanical energy into electrical energy. Molecules of the crystal align themselves with the direction of a mechanical force, forming an electric dipole. If the crystal is connected to a conductive metal, a current will run through th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insulators like plastic, cloth, and dry air do not like to lose electrons. But if they do give up electrons, they will have a positive charge. If a conductor such as metal is present, then the negative charges (electrons) move toward the positive charges, forming electrical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2 (c)(12) The student identifies the factors that influence the evolution of manufacturing, construction, communication, energy, power, transportation, and bio-related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uman hair is 70 microns in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 (c)(5) The student describes quality and how it is measured in computer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s use film resistors that have carbon or metal film deposited on a thin ceramic r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istive coating, such as epoxy or silicone, is then spiraled onto the rod.  The amount of spiraling applied depends on the amount of resistanc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s are labeled with colors that represent properties of the resistor. For more information, visit http://www.doctronics.co.uk/resistor.htm#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1A2-6C74-47C5-8A5B-579154F6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6F1-5D05-4C11-8ACF-81C40C44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102-CE75-4B82-B586-F75E9867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CDF-9E12-4146-AA10-E92712F7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42B-BEB7-4ADA-B9AE-43A50140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9C7-63A1-4EA0-BCB0-C44D6C72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9CF-A798-48E4-8A43-BA61834F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B85-725C-4F5B-BF12-60027E47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640B-DA46-457B-AADB-F104F51E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79D-0D73-4BF2-80F6-7F201A33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BA8-9472-40A2-AD56-6630D8C5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942-BFEA-4D71-BDC0-725F6C33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D766-3E0F-428C-9990-F68B0A77D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sciencemadesimple.com/sta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puter.howstuffworks.com/inkjet-printer3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 Print Toda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 Comp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2:  Piezoelectric or “vibrating cryst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s are at the back of the ink reservoir of each no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ystal receives an electrical charge, it will vibrate, pushing a small amount of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89280" y="3097080"/>
            <a:ext cx="29336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ezoelectri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6320" y="1828800"/>
            <a:ext cx="575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zoelectric refers to a type of crystal that becomes electrically charged when it is acted on by a mechanical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posite occurs when a charge is put into the crystal. The crystal converts the electrical energy into mechanical energy and vib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363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piezoelectric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80" b="-16"/>
          <a:stretch/>
        </p:blipFill>
        <p:spPr>
          <a:xfrm>
            <a:off x="709560" y="1963800"/>
            <a:ext cx="210348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520" y="4248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tz is an example of piezoelectric crys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30440" y="1851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aser Printer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s utilize the principle of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component of laser printers is a revolving drum made of electrically charged, light-sensitive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7000" y="2293920"/>
            <a:ext cx="3395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atic electric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3600" y="1557000"/>
            <a:ext cx="3754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electricity is when a charge, positive or negative, builds up on an isolated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with opposite electric charges will pull towards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79880" y="1616040"/>
            <a:ext cx="3505320" cy="21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tatic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5360" y="393228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to learn how to create static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has a positive electric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rum revolves, the printer shines a laser across the surface to reverse the charge wherever material is to be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is then coated with a positive toner, a fine powder that sticks only to the negative parts of the dr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, continu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drum is coated with a positive toner, a piece of paper is given a nega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then rolls over the paper. The charge of the paper is stronger than the drum, so the paper pulls the toner from the drum to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per is then passed through the fuser, a pair of heated rol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ttracting the toner, the paper is heated while the drum is discha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ted paper causes the toner powder to melt and fuse with the fibers of the paper. The paper is kept from burning by the speed of the roll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Dif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7760" y="1676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            L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2316240"/>
          <a:ext cx="8229600" cy="2768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p. for col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Home Pri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and Laserjet printers are the most common types of printers used with home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inters are only a fraction of the size of commercial presses and work very differ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nkjet and laserjet technologi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6040" y="2095560"/>
            <a:ext cx="4083120" cy="31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jet printers place small droplets of ink onto paper to create an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inters became available in the 198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smear before it’s 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b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 is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20055000">
            <a:off x="4866840" y="2312640"/>
            <a:ext cx="4006800" cy="247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58800" y="239220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 droplets of ink are 50-60 microns in diameter. That’s smaller than a human hai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13360" y="1724040"/>
            <a:ext cx="3521160" cy="276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tains nozzles that are used to spray drops of ink of various colors to create a photo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RTRIDGE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hold the different colored ink in separate cartrid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 STEPPER MOTOR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tor moves the print head assembly (print head + ink cartridges) back and forth across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253836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T: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lt attaches the print head to the print head stepper mo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21200" y="2111400"/>
            <a:ext cx="335268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18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1:  Thermal bubble or “Bubble Jet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heat, allowing the ink to vapori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reates a bubble that pushes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16404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isto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6600" y="5484960"/>
            <a:ext cx="7605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n animation of Bubble Jet technolog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ist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39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istor is an electrical component designed to limit the flow of current in an electric circuit.  This keeps high currents from damaging electronics or l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ors limit the flow by converting the current’s energy into h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72120" y="1676520"/>
            <a:ext cx="3362400" cy="18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06T03:56:31Z</dcterms:modified>
  <cp:revision>64</cp:revision>
  <dc:subject/>
  <dc:title>Slide 1</dc:title>
</cp:coreProperties>
</file>