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22.jpeg" ContentType="image/jpeg"/>
  <Override PartName="/ppt/media/image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FB2F-058A-486C-9B76-9DB969672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D95-65A7-49A4-A422-4F9FB659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D25-1991-469C-9122-6282F4CF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AD6-F2E7-4211-BC92-AE79AF18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3B8-15D8-4412-BE52-F5FC3421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104-9B15-4D74-A8F3-881982E9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76D-3DDC-4A5F-8BBE-F3D5EFB6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1132-8F9E-4F89-B0B6-8AF73D49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26E-7197-41AA-BF63-09F9F04D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DB7-A62C-4C3A-9223-E429CDE3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CF7-B89E-4215-8498-171114BE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BE14-255E-4E7E-ACDB-B86B019C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5A5-F0C4-43C5-BDC0-A9F6CC23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A608-2866-4526-90B4-0C2C34807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webelements.com/webelements/elements/text/Cr/key.html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97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309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41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43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61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70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8259840" y="6124680"/>
            <a:ext cx="709560" cy="506160"/>
            <a:chOff x="8259840" y="6124680"/>
            <a:chExt cx="709560" cy="506160"/>
          </a:xfrm>
        </p:grpSpPr>
        <p:sp>
          <p:nvSpPr>
            <p:cNvPr id="405" name=""/>
            <p:cNvSpPr/>
            <p:nvPr/>
          </p:nvSpPr>
          <p:spPr>
            <a:xfrm>
              <a:off x="8259840" y="6124680"/>
              <a:ext cx="709560" cy="506160"/>
            </a:xfrm>
            <a:prstGeom prst="rightArrow">
              <a:avLst>
                <a:gd name="adj1" fmla="val 50000"/>
                <a:gd name="adj2" fmla="val 35046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90080" y="6224760"/>
              <a:ext cx="5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3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0080" y="4919760"/>
            <a:ext cx="1351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45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46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245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here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513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62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2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98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08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2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1" name="" descr="photograph"/>
          <p:cNvPicPr/>
          <p:nvPr/>
        </p:nvPicPr>
        <p:blipFill>
          <a:blip r:embed="rId4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" descr=""/>
            <p:cNvPicPr/>
            <p:nvPr/>
          </p:nvPicPr>
          <p:blipFill>
            <a:blip r:embed="rId2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62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’s 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14640" y="2576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048120" y="1741320"/>
            <a:ext cx="1765080" cy="1821960"/>
            <a:chOff x="3048120" y="1741320"/>
            <a:chExt cx="1765080" cy="18219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3048120" y="17892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343320" y="21700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66960" y="17413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19480" y="31035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 flipV="1">
            <a:off x="4148280" y="2238480"/>
            <a:ext cx="482400" cy="15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7316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4752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95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24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52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16T23:29:50Z</dcterms:modified>
  <cp:revision>84</cp:revision>
  <dc:subject/>
  <dc:title>Slide 1</dc:title>
</cp:coreProperties>
</file>