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4ADE-A7B9-4442-935B-07BF7DAFA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0859-1A26-4B9C-9B8D-894FCFB3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8CA-34F1-4A04-9862-21A1D35E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0D5-1884-4BE2-9210-71E9AE97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6AAA-E062-40D0-952A-A5DC9093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5AFF-B7E0-4A99-B876-6E27432C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45C-FA19-4F85-83C5-339FDA44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7A14-987B-4FE7-BBC7-219EC45B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77E7-CD1F-4220-B8FD-284DF600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E18-77F1-4915-9E67-FD354B39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423-1E3E-421D-958C-6C7F7EA6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6A2-4FB9-4C9C-BF15-23A422C3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02A9-3320-4020-940B-37822033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CC66-C7FA-4753-8E1A-2066DD7ED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600200"/>
            <a:ext cx="809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Lydia leaves the room after speaking with Watt and Elias, which of the following best describes her emo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09720" y="314640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and Watt met in Elias’s storage room early in the morning. Why is this import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16200" y="2727360"/>
            <a:ext cx="628020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are planning Watt’s move to Virgi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anyone to overhear their conver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to wake anyone in the main 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the only place they can meet with Ly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97080" y="521640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298520" y="3414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1300320" y="438624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162240" y="2768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076640" y="45086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was on vacation with his dad to celebrate a family member’s birthday. Whose birthday was being celebrated, and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16200" y="3149640"/>
            <a:ext cx="733428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, because he was turning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father’s, because he was turning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gs up a box with the name Eduardo M. Castillo inscribed on the side. Who was Castil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16200" y="2732040"/>
            <a:ext cx="6829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ranch where Roman’s family 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state of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lative of Roman who lived long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riend of Roman’s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298520" y="33130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scovers a hidden treasure in the candlestick his great-grandfather shows him. He later discovers that it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16200" y="3149640"/>
            <a:ext cx="688824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and-written copy of the Bill of R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copy of the U.S. Constit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ontract between New Spain and the city of Philadelph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page of a new book that had just been printed on a new printing p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303200" y="53499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300320" y="444348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hat time in American history does Roman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09720" y="2728800"/>
            <a:ext cx="667692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beginning of the Revolutionary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election of George Washington as the first U.S.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before North Carolina ratifies the Bill of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Declaration of Independence was 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97080" y="496872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98520" y="34336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300320" y="4259160"/>
            <a:ext cx="382320" cy="47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t currently lives in Philadelphia. Where has he decided he would like to mo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6200" y="273204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 Car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59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ord best describes Roman’s reaction upon discovering what Elias had concealed in the candlesti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9440" y="315108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westru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rtbr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oes not know where he is until he listens to Elias and Watt talk for a while. Where does he finally realize his computer has taken h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6200" y="314964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phia, Pennsyl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D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lphia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600200"/>
            <a:ext cx="80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has an “affinity for foreign diplomats.” What does this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16200" y="2727360"/>
            <a:ext cx="682776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like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thinks foreign diplomats are very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has a natural liking for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understand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1:49:52Z</dcterms:modified>
  <cp:revision>109</cp:revision>
  <dc:subject/>
  <dc:title>PowerPoint Presentation</dc:title>
</cp:coreProperties>
</file>