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5C7-2A38-414F-BFBB-2A32FA4D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355-EA66-4DAC-BB61-DC777782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14F-CDDF-4A68-A6E8-6C95FAA4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7F1-F6E8-4322-B29B-1206DD40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242-DE39-461E-A5D2-C978B55A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8A6-D1FF-4B01-9158-F9E0700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D60-F604-46AC-AADE-AF4B2547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A95-EF3C-4A98-A98C-66867D76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0F1-3054-4AA6-A4F2-8F2C474F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762-F7DC-46E9-B96A-3FDE03F4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F5E-5F10-49BC-B146-2BB0248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CAC-D605-4D6E-A264-8406891B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B791-4C4A-4072-9EB1-4011ABD0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Elephant"/>
              </a:rPr>
              <a:t>Carg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$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"/>
              </a:rPr>
              <a:t>Ammuni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Brush Script MT"/>
              </a:rPr>
              <a:t>Food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Magneto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$1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Franklin Gothic Heavy"/>
              </a:rPr>
              <a:t>Supplie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1:02:40Z</dcterms:created>
  <dc:creator>Texas A&amp;M Veterinary Medicine</dc:creator>
  <dc:description/>
  <dc:language>en-US</dc:language>
  <cp:lastModifiedBy>Texas A&amp;M Veterinary Medicine</cp:lastModifiedBy>
  <dcterms:modified xsi:type="dcterms:W3CDTF">2006-10-12T21:43:28Z</dcterms:modified>
  <cp:revision>3</cp:revision>
  <dc:subject/>
  <dc:title>Slide 1</dc:title>
</cp:coreProperties>
</file>