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243F9-C8CE-4B25-BAF2-9AAB01367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28F36-43CB-4334-8F7B-263070A8C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520F9-B3A1-4328-9C95-EAE7926EB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772A8-33E5-47D2-88EE-50BF66730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E3EB5-4ECC-435B-955E-7BC7BD88B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BBBF3-8C67-4808-ACFF-9A72A04D2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23055-83E1-4D4A-819C-B07D318B3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95946-5E0C-4B79-BE9F-1B983BA76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BF2D6-1097-4EF6-97E6-442DDE01F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D086D-A9B0-4019-BE58-90B0D9534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260A0-C5C1-4B59-AB42-4D70363A3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0913A-D944-4F06-9EBC-06A93DBE4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5BDF-DFCA-4DA3-BC2B-2C21663BA8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French Script MT"/>
              </a:rPr>
              <a:t>New Orleans</a:t>
            </a:r>
            <a:br>
              <a:rPr sz="14400"/>
            </a:br>
            <a:r>
              <a:rPr b="0" lang="en-US" sz="14400" spc="-1" strike="noStrike">
                <a:solidFill>
                  <a:srgbClr val="000000"/>
                </a:solidFill>
                <a:latin typeface="French Script MT"/>
              </a:rPr>
              <a:t>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panish customs official tells you that Americans like you aren’t supposed to be rafting down the Mississippi. He informs you, however, that he likes Americans, so he’ll let you go about your business if you’ll give him $10. Otherwise, you lose $30 worth of cargo, or, if you have $10 or $20 worth of cargo, you lose that cargo. If you do not have any cargo, ignore this c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been a hard year for wheat farmers, so the supply is very low. As a result, the prices New Orleans merchants are paying for wheat floated down the Mississippi are unusually high. You gain $20 worth of carg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French Script MT"/>
              </a:rPr>
              <a:t>New Orleans</a:t>
            </a:r>
            <a:br>
              <a:rPr sz="14400"/>
            </a:br>
            <a:r>
              <a:rPr b="0" lang="en-US" sz="14400" spc="-1" strike="noStrike">
                <a:solidFill>
                  <a:srgbClr val="000000"/>
                </a:solidFill>
                <a:latin typeface="French Script MT"/>
              </a:rPr>
              <a:t>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French Script MT"/>
              </a:rPr>
              <a:t>New Orleans</a:t>
            </a:r>
            <a:br>
              <a:rPr sz="14400"/>
            </a:br>
            <a:r>
              <a:rPr b="0" lang="en-US" sz="14400" spc="-1" strike="noStrike">
                <a:solidFill>
                  <a:srgbClr val="000000"/>
                </a:solidFill>
                <a:latin typeface="French Script MT"/>
              </a:rPr>
              <a:t>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French Script MT"/>
              </a:rPr>
              <a:t>New Orleans</a:t>
            </a:r>
            <a:br>
              <a:rPr sz="14400"/>
            </a:br>
            <a:r>
              <a:rPr b="0" lang="en-US" sz="14400" spc="-1" strike="noStrike">
                <a:solidFill>
                  <a:srgbClr val="000000"/>
                </a:solidFill>
                <a:latin typeface="French Script MT"/>
              </a:rPr>
              <a:t>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French Script MT"/>
              </a:rPr>
              <a:t>New Orleans</a:t>
            </a:r>
            <a:br>
              <a:rPr sz="14400"/>
            </a:br>
            <a:r>
              <a:rPr b="0" lang="en-US" sz="14400" spc="-1" strike="noStrike">
                <a:solidFill>
                  <a:srgbClr val="000000"/>
                </a:solidFill>
                <a:latin typeface="French Script MT"/>
              </a:rPr>
              <a:t>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French Script MT"/>
              </a:rPr>
              <a:t>New Orleans</a:t>
            </a:r>
            <a:br>
              <a:rPr sz="14400"/>
            </a:br>
            <a:r>
              <a:rPr b="0" lang="en-US" sz="14400" spc="-1" strike="noStrike">
                <a:solidFill>
                  <a:srgbClr val="000000"/>
                </a:solidFill>
                <a:latin typeface="French Script MT"/>
              </a:rPr>
              <a:t>Cards</a:t>
            </a:r>
            <a:endParaRPr b="0" lang="en-US" sz="1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Orleans cards “back” start on the next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find out that you can sell the logs on your raft for profit in New Orleans. You trade them for $10 of corn. You gain $10 worth of carg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1795 and Pinckney’s Treaty has just been signed! Spain has granted the U.S. free passage on the Mississippi as well as disputed territory north of Florida. Instead of having to bribe a Spanish customs official, you are able to buy more cargo. You gain $10 worth of car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20:03:29Z</dcterms:created>
  <dc:creator>Texas A&amp;M Veterinary Medicine</dc:creator>
  <dc:description/>
  <dc:language>en-US</dc:language>
  <cp:lastModifiedBy>Texas A&amp;M Veterinary Medicine</cp:lastModifiedBy>
  <dcterms:modified xsi:type="dcterms:W3CDTF">2007-04-02T18:26:23Z</dcterms:modified>
  <cp:revision>9</cp:revision>
  <dc:subject/>
  <dc:title>River Cards</dc:title>
</cp:coreProperties>
</file>