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E1BE-A09F-4888-81A9-C349DFD26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8A49-3395-42D9-B2F9-7CBC553D8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A106-4290-4FA1-8B46-3C4A12C9E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CB1C-412D-4681-B3A3-AE9B47D1A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F5CB-CDCE-45D5-9022-B7986F67E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89E1-757E-4651-A986-FB4259009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F8CE-A671-4C15-BA5B-7609898D6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C1B3-E07E-43AF-8FE5-17BF78B7E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3315-3436-4DBF-96D3-5362AA1C9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9C1F-EAD8-43A1-9B3C-85A2CB7D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F39C-156A-422D-B388-F862BBFF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A6DB-AB46-4063-8F0A-FB3015E7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A4882-8A26-4B48-807D-978F655CEF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setting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6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05120" y="6369120"/>
            <a:ext cx="708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source: http://www.radford.edu/~wkovarik/class/history/mediatech/type.htm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14400" y="1665360"/>
            <a:ext cx="5029200" cy="41259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248520" y="2100240"/>
            <a:ext cx="2514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tting hot type was a dirty and dangerous occupation where lead poisoning was all too comm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setting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6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6369120"/>
            <a:ext cx="708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source: http://www.radford.edu/~wkovarik/class/history/mediatech/type.htm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503856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ype case became as familiar as a typewriter to an experienced typeset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95320" y="1676520"/>
            <a:ext cx="735336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setting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6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05120" y="6369120"/>
            <a:ext cx="708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source: http://www.radford.edu/~wkovarik/class/history/mediatech/type.htm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48769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is the "stick" into which type would be set. Note each line had to be set backward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04720" y="1981080"/>
            <a:ext cx="813456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18:14:36Z</dcterms:created>
  <dc:creator>Texas A&amp;M Veterinary Medicine</dc:creator>
  <dc:description/>
  <dc:language>en-US</dc:language>
  <cp:lastModifiedBy>Vince Hardy</cp:lastModifiedBy>
  <dcterms:modified xsi:type="dcterms:W3CDTF">2008-05-05T15:36:04Z</dcterms:modified>
  <cp:revision>90</cp:revision>
  <dc:subject/>
  <dc:title>Slide 1</dc:title>
</cp:coreProperties>
</file>