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10D0C-5242-4060-8279-DB8DBCE62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A7BD1-2DFD-47D6-A58E-B566CC056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1EA86-6201-4668-B10A-6EC1F2368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05DAC-A311-4EC9-998F-DA75601A4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65B7D-0DCD-4118-9922-DA59554A1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6D287-B119-47DC-9F8E-B94548F58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07276-F29E-411D-B7EA-AAC1B7101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91549-8F7B-4084-9CBB-3C678637B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85183-0909-4868-9EC6-34DC166B2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EB33E-0EA1-4CA2-90D3-B890C2CDC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120C3-CD9C-41BD-8BC3-844F1B4AF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70C8B-6A9A-4E9F-AB55-36A03D864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88A95-7521-49FA-AC71-BD8864572A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ver cards “Back” start on the next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its attack your raft to steal your cargo.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mmunition, roll the die to determine the outcome of the battle. You must roll a 4, 5, or 6 to survive the battle. Every roll costs $10 of ammunition. If you fail to roll a 4, 5, or 6 before you run out of ammunition, you lose half your cargo, according to the rules given above.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no ammunition you lose half of your cargo. If half your cargo is an odd amount (for example if you have $70 worth of cargo, half of your cargo is $35 worth of cargo), then round up to the nearest factor of 10 to know what you lose ($40 in this cas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no cargo, and you lose the battle, you lose all your supplies.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ad storm forces you to stop journey for the night and take cover. Lose one tur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poor navigation skills come back to haunt you and your raft hits a rock. You can spend $10 worth of supplies to fix your raft and continue on at normal speeds, or subtract one from each roll of the die (i.e. if you roll a 4 on your turn, you may only advance 3 spaces) until you are able to buy $10 worth of supplies to fix your raft. Whenever you choose to repair your craft, you lose $10 worth of suppl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opes connecting the logs of your raft together are wearing out. You can spend $10 worth of supplies to fix your raft and continue on at normal speeds, or subtract one from each roll of the die (i.e. if you roll a 4 on your turn, you may only advance 3 spaces) until you are able to buy $10 worth of supplies to fix your raft. Whenever you choose to repair your craft, you lose $10 worth of suppl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fail to follow to the deepest course of the river and ground your raft on a small sandbar. Lose one tur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f your corn gets wet without your knowledge and spoils. You lose $20 worth of cargo. If you do not have any cargo, ignore this card. If you have only $10 worth of cargo, you lose that $10 worth of carg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lishly, you purchased some unsalted meat that has recently spoiled. You lose $10 worth of food. If you have at least $10 worth of food left after losing this food, you may continue. Otherwise, you must reach the nearest town in one turn and buy more food. If you do not reach the next town in one turn, you must lose one turn to go hunt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side of the river you pick up another merchant rafter who has been robbed of all his cargo. He agrees to help you if you pay him $10 ($10 money; you cannot pay him with $10 worth of any of your commodities). If you accept his offer, return $10 to the bank and advance 10 spac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at managed to make it onto to your raft a little way back and has since been gorging himself in a barrel of your corn. You lose $10 worth of cargo. If you do not have any cargo, ignore this car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gluttonous eating habits have finally caught up with you. You have consumed $10 worth of molasses in one day. Besides now feeling sick, you lose $10 worth of food. If you have at least $10 worth of food left after losing this food, you may continue. Otherwise, you must reach the nearest town in one turn and buy more food. If you do not reach the next town in one turn, you must lose one turn to go hun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rains have increased the speed of the river. Advance 6 spac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tretch out one night to look at the stars and accidentally kick a box of ammunition for you Pennsylvania/Kentucky long rifle (the most accurate gun of the time, one which was used with great success by American troops in the Revolutionary War) into the river. You lose $10 worth of ammunition. If you do not have $10 worth of ammunition, ignore this c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tion of rapids damages your raft. You realize that you wouldn’t have had this problem if you owned a keelboat, a larger craft that was more sturdy and could go both downstream and upstream. But hindsight is 20/20, as they say. You can spend $10 worth of supplies to fix your raft and continue on at normal speeds, or subtract one from each roll of the die (i.e. if you roll a four on your turn, you may only advance 3 spaces) until you are able to buy $10 worth of supplies to fix your raft. Whenever you choose to repair your craft, you lose $10 worth of suppl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smoking your pipe one night to relax (tobacco was the chief cash crop of the Southern United States in the 18</a:t>
            </a:r>
            <a:r>
              <a:rPr b="0" lang="en-US" sz="2800" spc="-1" strike="noStrike" baseline="30000">
                <a:solidFill>
                  <a:srgbClr val="000000"/>
                </a:solidFill>
                <a:latin typeface="Arial"/>
              </a:rPr>
              <a:t>th</a:t>
            </a:r>
            <a:r>
              <a:rPr b="0" lang="en-US" sz="2800" spc="-1" strike="noStrike">
                <a:solidFill>
                  <a:srgbClr val="000000"/>
                </a:solidFill>
                <a:latin typeface="Arial"/>
              </a:rPr>
              <a:t> Century), you catch your raft on fire. You remember that your doctor said smoking was bad for you, but you’re pretty sure this isn’t what he was talking about. You can spend $10 worth of supplies to fix your raft and continue on at normal speeds, or subtract one from each roll of the die (i.e. if you roll a four on your turn, you may only advance 3 spaces) until you are able to buy $10 worth of supplies to fix your raft. Whenever you choose to repair your craft, you lose $10 worth of suppl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cary noise in the night causes you to jump up and fire several shots into the darkness. You drive away whatever evil monster was pursuing you, but you lose $10 worth of ammunition and are unable to sleep the rest of the night. If you do not have any ammunition, ignore this c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e not sure what that turkey was eating before you killed and ate it, but whatever it was, it seems to have increased your energy significantly. Advance 5 sp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cent drought has lowered the level of the river, meaning that a certain shallow part is navigable. You lose one turn while you wait for the river to ri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amily of raccoons swims out to your raft and eats some of your cargo in the night. You lose $10 worth of cargo. If you do not have any cargo, ignore this c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don’t realize until its too late that the salted pork you purchased hadn’t been salted at all. It has gone bad, and you lose $10 worth of food. You lose $10 worth of food. If you have at least $10 worth of food left after losing this food, you may continue. Otherwise, you must reach the next town in one turn and buy more food. If you fail to reach the town on your next roll, you will lose one turn to go hun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orm caused you to stay on the shore last night. Unfortunately, when you packed up this morning you forgot to pack up your corn and oat meal, and now it’s too late to go back and get it. You lose $10 worth of food. If you have at least $10 worth of food left after losing this food, you may continue. Otherwise, you must reach the next town in one turn and buy more food. If you fail to reach the town on your next roll, you will lose one turn to go hun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journey a little too close to the bank and your raft gets snagged by an underwater root. Lose one tur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your lucky day! You notice what looks like an abandoned campground and pull over to check it out. You find $10 that you can spend on anything once you reach the next tow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some time to kill on the raft one day, so you decide to finally read your copy of Descartes’ </a:t>
            </a:r>
            <a:r>
              <a:rPr b="0" i="1" lang="en-US" sz="2800" spc="-1" strike="noStrike">
                <a:solidFill>
                  <a:srgbClr val="000000"/>
                </a:solidFill>
                <a:latin typeface="Arial"/>
              </a:rPr>
              <a:t>Meditations on First Philosophy</a:t>
            </a:r>
            <a:r>
              <a:rPr b="0" lang="en-US" sz="2800" spc="-1" strike="noStrike">
                <a:solidFill>
                  <a:srgbClr val="000000"/>
                </a:solidFill>
                <a:latin typeface="Arial"/>
              </a:rPr>
              <a:t>. As a result, you begin to doubt that there is a difference between the real world and the dream world. In what you thought was a dream, you fire several rounds of ammunition into an innocent tree. Unfortunately, you did this in real life, and as a result you lose $10 worth of ammunition. If you do not have any ammunition, ignore this c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remember that your mother always said “don’t throw the baby out with the bathwater.” You’re not sure what that means, but you do know that a lot of your cargo has mysteriously disappeared. You lose $10 worth of cargo. If you do not have any cargo, ignore this c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never were a very good student. Because you didn’t pay attention in 8th grade math, the person you purchased supplies from back at the start was able to swindle you out of $10 worth of supplies. You lose $10 worth of supplies. If you do not have any supplies, ignore this c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 aspects of life never cease to amaze you. Like the fact that you can’t drink every bit of cider you purchased for a long trip in the first two days. You lose $10 worth of food. If you have at least $10 worth of food left after losing this food, you may continue. Otherwise, you must reach the next town in one turn and buy more food. If you fail to reach the town on your next roll, you will lose one turn to go hun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ee what looks like a crocodile and steer your craft frantically toward the other side of the river. In your hurry you crash your raft into the river bank. You wish you had remembered that alligators, NOT crocodiles, are native to North America. You lose one tur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ay not have always gotten along with your mom, but you know she’ll always be there for you. This time she packed some potatoes for you that you didn’t realize you had until just now. You gain $10 worth of foo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forgot you had $10 stored in your sock. You may spend the $10 on whatever you choo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increases the speed of the river. Advance 4 sp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armer on the bank motion you over and informs you that he has a surplus of corn. He offers you $30 worth of corn for $10. If you choose to accept this offer, return $10 to the bank and take $30 worth of carg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ied with weapons by the Spanish and angry over American land policies, a group of Native Americans attack you from the shore. If you have no ammunition you lose half of your cargo. If half your cargo is an odd amount (for example if you have $70 worth of cargo, half of your cargo is $35 worth of cargo), then round up to the nearest factor of 10 to know what you lose (If half your cargo is $35, then rounding up to the nearest factor of 10 means you lose $40 worth of cargo). If you have ammunition, roll the die to determine the outcome of the battle. You must roll a 4, 5, or 6 to survive the battle. Every roll costs $10 of ammunition. If you fail to roll a 4, 5, or 6 before you run out of ammunition, you lose half your cargo, according to the rules given abo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Ravie"/>
              </a:rPr>
              <a:t>River 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20:03:29Z</dcterms:created>
  <dc:creator>Texas A&amp;M Veterinary Medicine</dc:creator>
  <dc:description/>
  <dc:language>en-US</dc:language>
  <cp:lastModifiedBy>Texas A&amp;M Veterinary Medicine</cp:lastModifiedBy>
  <dcterms:modified xsi:type="dcterms:W3CDTF">2007-04-02T18:25:22Z</dcterms:modified>
  <cp:revision>4</cp:revision>
  <dc:subject/>
  <dc:title>River Cards</dc:title>
</cp:coreProperties>
</file>