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B5C4-A832-483E-9F24-539AE29E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1D3-3451-43DD-85FA-6D388134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B8C-FBE6-4B3F-873C-75DCBC3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F5F-0C38-411B-8D31-5085FF67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24B-DB1A-401C-A6A6-AE09428C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C79-2733-489C-A340-F1DDDA4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6E7-3540-4CB5-9133-3BCFA9D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CA1-F202-442A-B575-C7231BD5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6D7-90F0-4F6E-880A-B45869A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886-1214-48F9-BBFB-F1297643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B50-2253-42A1-868E-BFA61A1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691-0C08-4AAF-9E4F-AFFB732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656-A61D-4C58-982D-2D969B3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E3DB-18E6-479B-8A7B-AB211B1A3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 describe the environment of the long, concrete passage way Jace was transported to through the BP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m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560" y="504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0680" y="3486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6800" y="4003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88880" y="4514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’ mood towards Jace went from _____ in the beginning of the story, to _____ at the end of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yed;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ful; play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etic;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ing;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560" y="507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0680" y="3514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968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720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8440" y="4772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hy was Jace staying with Summer and Travis’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kicked hi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died in a plane crash several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were out of the country on va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Summer had to work on a school assignmen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560" y="47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0680" y="2933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6800" y="345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8888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What was strange about the afternoon Jace and Travis went hun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unusually wi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no squirrels in 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irrel Creek was completely d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ak trees all seemed to be dy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5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0680" y="3019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680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880" y="40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Why was Travis anxious to get off of the embankment once he felt a storm was com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afraid of being struck by light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to slip and fall in the m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about  getting caught trespassing on private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anyone on the oncoming train to see hi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560" y="509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6800" y="363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88880" y="41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ise Travis thought was a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in approaching from the south was actually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tle 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or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tr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all of the de-railed train cars have in comm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number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 marked with a letter code: STN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fan-shaped symb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carrying medical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560" y="50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8880" y="4143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the symbol on the train cars and the debri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live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radioactive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een banned by the U.S.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imported from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560" y="46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0680" y="305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6800" y="360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“listing precariously” over the rail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ning unsteadi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ing foolish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skillful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ing quick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88880" y="41241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Travis’s Grandpa feel responsible for Travis and Jace getting caught in the st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out for groceries that afternoo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 them to go fishing in the creek to catch someth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“hunting” for squirrels to relieve their bored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ccidentally locked the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560" y="544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0680" y="312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6800" y="36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1:48:27Z</dcterms:created>
  <dc:creator>Ljlab</dc:creator>
  <dc:description/>
  <dc:language>en-US</dc:language>
  <cp:lastModifiedBy>Texas A&amp;M Veterinary Medicine</cp:lastModifiedBy>
  <dcterms:modified xsi:type="dcterms:W3CDTF">2007-04-10T18:16:30Z</dcterms:modified>
  <cp:revision>26</cp:revision>
  <dc:subject/>
  <dc:title>Investigator’s Challenge Quiz</dc:title>
</cp:coreProperties>
</file>