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2.wmf" ContentType="image/x-wmf"/>
  <Override PartName="/ppt/media/image3.wmf" ContentType="image/x-wmf"/>
  <Override PartName="/ppt/media/image4.png" ContentType="image/png"/>
  <Override PartName="/ppt/media/image10.jpeg" ContentType="image/jpeg"/>
  <Override PartName="/ppt/media/image8.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782D-51C4-40F8-B036-20EC14845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A757B-3F6B-4D65-AC10-9828DE583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205C-EE5B-43F2-84B6-E57BE0B01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95477-36DC-4AB3-A508-581FF5731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2A80F-AE63-44F5-956D-8C6B582B5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FAB94-2FD4-4B2C-A042-6C1BD7D3C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2B442-3E6F-409B-8AE9-6B16C38A2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70D02-5334-4794-9DF3-E6A1FBF83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344ED-7EB1-4389-BD18-A3EAF13F1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2D2A1-8B33-49DF-A981-7DC3BC97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67953-54A5-4F3E-9A15-E51F48628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1D520-EA9D-4383-AFCC-5A8D442C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F4AEB-1CF0-430A-8916-6F0EA4D7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00C8-0C8A-4519-92EB-2CFEA06B5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75A5-4CFE-46AD-9A46-B70C8F603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32428-2EEB-40B5-8DD4-4CBC5C1A9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3B11-95D8-433B-BA93-7BEA14F82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76648-3C7B-4AEA-B720-BDE28D3BB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6F61-5E12-4A2A-BB9E-9428775C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58B0-B071-427B-AB8F-8241C297D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FA081-5DDC-4596-BC8F-8640CE907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7E64-19CF-4D7B-8935-E0E87B22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0576-C9A7-4646-8F04-9A62C3E6E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B0200-091C-4B3E-ACB7-E2A4421F2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AF37-8A32-4A93-B857-3F3206FEE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3DF4-E8DB-453E-BECE-174FD5796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A808-98E9-4080-8856-BEF834A3F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28073" t="0" r="643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4260" t="0" r="4260"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4260" t="0" r="4260"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2500" t="0" r="26250"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4260" t="0" r="4260"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2500" t="0" r="26250"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28073" t="0" r="643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4260" t="0" r="4260"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31824" t="5191" r="39545" b="37735"/>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72522" t="39642" r="1757" b="8110"/>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72522" t="39642" r="1757" b="8110"/>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