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0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449F-97B6-4471-B390-643C20567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12 inches in a foot and the waste would be located 1,000 feet underground.  Therefore, rainwater would take 24,000 years to reach the depositor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bout 24,0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m is about 1,000 ft, which is why this and the previous math problem are so simi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871-9999-44AD-AAA5-557BB07B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084-0CEC-463D-8EFC-1C119F5E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5E1-38A4-4370-B905-7F14DA74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C77-2319-4560-AAE9-F68561C8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6FF-229A-4568-B813-6EB2D7A3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527-9FEE-418C-84C0-A9801C4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3D8-F75D-4CB8-A61A-0AF8F947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130-A318-4FB7-A7F4-BE33594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525-B83B-49E4-8650-D660D99C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DDC-B04F-4466-AB77-1AC8E8D7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6AA-93FB-443D-93DE-B55D5C6E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559-4AD5-4E22-A58C-158444D1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949D-0354-487E-945A-8029CAD21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400" y="1020240"/>
            <a:ext cx="79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ucca Mountain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Storage Si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Nuclear 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48160" y="28414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6160" y="3106800"/>
            <a:ext cx="40338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tricted A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Force strictly controls the airways around Yucca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lso no important natural resources in the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, the waste could be kept safe from terrorists or sabo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35640" y="1692360"/>
            <a:ext cx="296856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It All SAF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untain itself adds a lot of protection, but federal requirements are also in place to keep the radioactive waste in its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tective barriers include emplacement tunnels, drip shields, waste packages, and tunnel inve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18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acement Tunn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1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fifty steel enforced tunnels will be dug one thousand feet below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unnels will be over two thousand feet lo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1001" t="16666" r="32127" b="39588"/>
          <a:stretch/>
        </p:blipFill>
        <p:spPr>
          <a:xfrm>
            <a:off x="4745160" y="1828800"/>
            <a:ext cx="4043160" cy="2828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81560" y="45957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7760" y="1579680"/>
            <a:ext cx="370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dioactive waste will be held in waste packages (tubes) that are made of thick, corrosive-resistant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p shields will protect the container from fallen rocks o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5782" t="16666" r="28126" b="4375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591920"/>
            <a:ext cx="36673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ts support the waste packages and are made of volcanic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olcanic rock would slow the movement of any particles if they leaked from the contai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25782" t="16666" r="28126" b="4375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y Reid, a senator from Nevada, is trying to cancel the Yucca Mountain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torage facility has been plan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while, waste piles up around the country in poorly secured stor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7343" t="18753" r="28126" b="41670"/>
          <a:stretch/>
        </p:blipFill>
        <p:spPr>
          <a:xfrm>
            <a:off x="220680" y="108000"/>
            <a:ext cx="8737560" cy="660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4640" y="11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Yucca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Op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82440" y="2519280"/>
            <a:ext cx="30985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0686" t="0" r="5063" b="0"/>
          <a:stretch/>
        </p:blipFill>
        <p:spPr>
          <a:xfrm>
            <a:off x="1346040" y="1343160"/>
            <a:ext cx="6270840" cy="484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81640" y="4759200"/>
            <a:ext cx="1301760" cy="540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66920" y="6237360"/>
            <a:ext cx="62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http://www.yuccamountain.org/mapnv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ote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on the edge of an old nuclear weapons test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rrounding area has been set aside for wildlife refuge and weapons operations. There are over 5,470 square miles of uninhabited land surrounding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arest population is 15 miles away and the entire site is surrounded by a U.S. Air Force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ble Ge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78040" y="1600200"/>
            <a:ext cx="4243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ucca Mountain is composed of volcanic rock that rarely shif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act, the area has changed very little over the last m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waste will be located 1,000 ft below the surface and 1,000 ft above a water table, earthquakes will not impact the depos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Photo of precariously balanced rocks. These untoppled rock formations near Yucca Mountain suggest little ground movement in the area for many millennia."/>
          <p:cNvPicPr/>
          <p:nvPr/>
        </p:nvPicPr>
        <p:blipFill>
          <a:blip r:embed="rId2"/>
          <a:stretch/>
        </p:blipFill>
        <p:spPr>
          <a:xfrm>
            <a:off x="519120" y="1633680"/>
            <a:ext cx="3767040" cy="4095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20040" y="573408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600" y="1366560"/>
            <a:ext cx="5072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water is the primary way that radioactive waste could enter the environment, a dry climate is crit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in a desert and receives less than 8 inches of rain a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water runs off the mountain. Only 5% of the rain would reach depository dep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7760" y="614196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14065" t="12502" r="60940" b="39583"/>
          <a:stretch/>
        </p:blipFill>
        <p:spPr>
          <a:xfrm>
            <a:off x="5491080" y="1492200"/>
            <a:ext cx="3232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verage, water only moves ½ inch per year.  How long will it take for rain water to reach the depository 1,000 feet d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71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568920" y="3576600"/>
            <a:ext cx="2297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12,000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33920" y="2984400"/>
            <a:ext cx="4555080" cy="1106640"/>
            <a:chOff x="1033920" y="2984400"/>
            <a:chExt cx="4555080" cy="1106640"/>
          </a:xfrm>
        </p:grpSpPr>
        <p:sp>
          <p:nvSpPr>
            <p:cNvPr id="76" name=""/>
            <p:cNvSpPr/>
            <p:nvPr/>
          </p:nvSpPr>
          <p:spPr>
            <a:xfrm>
              <a:off x="1033920" y="3381120"/>
              <a:ext cx="455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00 ft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12,000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046960" y="2984400"/>
              <a:ext cx="2124360" cy="1106640"/>
              <a:chOff x="2046960" y="2984400"/>
              <a:chExt cx="2124360" cy="1106640"/>
            </a:xfrm>
          </p:grpSpPr>
          <p:sp>
            <p:nvSpPr>
              <p:cNvPr id="78" name=""/>
              <p:cNvSpPr/>
              <p:nvPr/>
            </p:nvSpPr>
            <p:spPr>
              <a:xfrm>
                <a:off x="2046960" y="2984400"/>
                <a:ext cx="2124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Arial"/>
                  </a:rPr>
                  <a:t>(   )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28480" y="3189240"/>
                <a:ext cx="1526760" cy="90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2 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27360" y="3628800"/>
                <a:ext cx="757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4664160"/>
            <a:ext cx="435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,000 in / (0.5 in/ ye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,0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8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1541160"/>
            <a:ext cx="4496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adiation did leak into the water table, it would flow to the Death Valley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populated areas, such as Las Vegas, would not be af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The water table at Yucca Mountain is about 2,000 feet below the mountain's surface."/>
          <p:cNvPicPr/>
          <p:nvPr/>
        </p:nvPicPr>
        <p:blipFill>
          <a:blip r:embed="rId2"/>
          <a:stretch/>
        </p:blipFill>
        <p:spPr>
          <a:xfrm>
            <a:off x="5334120" y="1614600"/>
            <a:ext cx="3105000" cy="426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5910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rain water reached the depository, how long would it take to reach the water t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90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929280" y="3822840"/>
            <a:ext cx="1879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984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32920" y="2746440"/>
            <a:ext cx="5204520" cy="1195200"/>
            <a:chOff x="1132920" y="2746440"/>
            <a:chExt cx="5204520" cy="1195200"/>
          </a:xfrm>
        </p:grpSpPr>
        <p:sp>
          <p:nvSpPr>
            <p:cNvPr id="95" name=""/>
            <p:cNvSpPr/>
            <p:nvPr/>
          </p:nvSpPr>
          <p:spPr>
            <a:xfrm>
              <a:off x="2263680" y="274644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27560" y="276876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2920" y="3200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00 m x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44840" y="2925720"/>
              <a:ext cx="12999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.28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52920" y="2914560"/>
              <a:ext cx="982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12880" y="3429000"/>
              <a:ext cx="1140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3280" y="3429000"/>
              <a:ext cx="835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535120" y="40514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7320" y="4873680"/>
            <a:ext cx="43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,812 in / (0.5 in / ye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1680" y="5378400"/>
            <a:ext cx="30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3,62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14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8:57:01Z</dcterms:created>
  <dc:creator>Texas A&amp;M Veterinary Medicine</dc:creator>
  <dc:description/>
  <dc:language>en-US</dc:language>
  <cp:lastModifiedBy>ljlab</cp:lastModifiedBy>
  <dcterms:modified xsi:type="dcterms:W3CDTF">2007-06-26T15:46:18Z</dcterms:modified>
  <cp:revision>29</cp:revision>
  <dc:subject/>
  <dc:title>Hazmat Teams</dc:title>
</cp:coreProperties>
</file>