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52C1-75E1-4E11-8B45-33A28A516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475F-DDD2-46EB-BDD5-5D6454F7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7B39-CCF6-4722-B629-65F779B1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E74C-234B-4200-8F49-AA107C8C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CA25-464E-49EE-A81B-AE6B8925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D946-5CAF-47A9-AD82-4F0D9CAF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7A0B-A53A-48F0-9631-D8B30AA7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C40B-3179-4559-A3B2-47A418CD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5FEA-63F0-4D12-95F1-6073B8BC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434D-CAC7-4F84-B26E-852DF66F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6103-A442-4434-9D02-10E652DE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66A0-0249-4F3A-A013-EB8C0F5C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BA9B-4B87-4260-BAC1-0C48CC4F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ADB4-63DA-4C52-BE26-5D987DB3BF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would you describe the environment of the long, concrete passage way Jace was transported to through the BP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lco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c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min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93560" y="5040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90680" y="3486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96800" y="4003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88880" y="4514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’ mood towards Jace went from _____ in the beginning of the story, to _____ at the end of the s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oyed; frien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rtful; play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pathetic; arrog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ving; m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93560" y="5078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90680" y="35146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9680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88880" y="455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159000" y="2797200"/>
            <a:ext cx="2791080" cy="1257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078440" y="47721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Why was Jace staying with Summer and Travis’ famil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parents kicked him out of the ho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parents died in a plane crash several years a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parents were out of the country on va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Summer had to work on a school assignment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3560" y="4735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90680" y="2933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96800" y="345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88880" y="42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What was strange about the afternoon Jace and Travis went hunt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unusually win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ere no squirrels in s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quirrel Creek was completely d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ak trees all seemed to be dy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-936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356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90680" y="3019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9680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88880" y="407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Why was Travis anxious to get off of the embankment once he felt a storm was com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afraid of being struck by light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dn’t want to slip and fall in the mu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worried about  getting caught trespassing on private proper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dn’t want anyone on the oncoming train to see hi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36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93560" y="509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90680" y="3095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96800" y="3632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88880" y="4172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oise Travis thought was a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in approaching from the south was actually 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attle he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orn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tru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plo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93560" y="4659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90680" y="3105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96800" y="36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488880" y="413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did all of the de-railed train cars have in comm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ll were marked with the same number co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ll were  marked with a letter code: STN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ll were marked with the same fan-shaped symb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ll were carrying medical suppl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3560" y="502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90680" y="3105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96800" y="36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488880" y="4143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does the symbol on the train cars and the debris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ontain live animal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ontain radioactive mater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have been banned by the U.S. gover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imported from Mex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93560" y="4668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90680" y="3057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96800" y="360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88880" y="413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does “listing precariously” over the rails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ning unsteadil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mping foolishl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ying skillfull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ving quickl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93560" y="4659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90680" y="3095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96800" y="36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88880" y="41241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id Travis’s Grandpa feel responsible for Travis and Jace getting caught in the stor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ent them out for groceries that afternoon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sked them to go fishing in the creek to catch something for din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ent them “hunting” for squirrels to relieve their bored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ccidentally locked them out of the ho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93560" y="5440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90680" y="31240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96800" y="3641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88880" y="455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21:48:27Z</dcterms:created>
  <dc:creator>Ljlab</dc:creator>
  <dc:description/>
  <dc:language>en-US</dc:language>
  <cp:lastModifiedBy>Texas A&amp;M Veterinary Medicine</cp:lastModifiedBy>
  <dcterms:modified xsi:type="dcterms:W3CDTF">2007-04-10T18:16:30Z</dcterms:modified>
  <cp:revision>26</cp:revision>
  <dc:subject/>
  <dc:title>Investigator’s Challenge Quiz</dc:title>
</cp:coreProperties>
</file>