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0.jpeg" ContentType="image/jpe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DCDE-5FD3-4555-B4B3-BC2F0C3AB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12 inches in a foot and the waste would be located 1,000 feet underground.  Therefore, rainwater would take 24,000 years to reach the depositor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bout 24,0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m is about 1,000 ft, which is why this and the previous math problem are so simi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74F-CAFD-4139-A549-4E474E4D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C76-E5FE-48E0-A10C-02587B71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8D12-0381-4585-8BFC-CBD79AB2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447-523B-4A64-88FE-5B0D7488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C2B-9355-4EBD-AC29-03182F1C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2B2-58D6-4715-B949-89D6F266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36E-415D-4EF5-ABF2-D4CC40CA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44B-53C4-4187-9513-BB48F9A9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1A8-0E84-4175-920C-6C6C83B7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860-1302-41DA-8116-9B356D22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C0F9-38BE-44AA-8E74-6441B317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156-524C-4F36-92D0-F56352BE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0102-5BF8-4285-B08A-A972EB1E4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400" y="1020240"/>
            <a:ext cx="790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ucca Mountain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ional Storage Sit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Nuclear Wa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48160" y="284148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76160" y="3106800"/>
            <a:ext cx="40338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tricted Ac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ir Force strictly controls the airways around Yucca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lso no important natural resources in the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us, the waste could be kept safe from terrorists or sabo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35640" y="1692360"/>
            <a:ext cx="296856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ing It All SAFE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untain itself adds a lot of protection, but federal requirements are also in place to keep the radioactive waste in its 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tective barriers include emplacement tunnels, drip shields, waste packages, and tunnel inve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184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mplacement Tunne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1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fifty steel enforced tunnels will be dug one thousand feet below the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tunnels will be over two thousand feet lo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21001" t="16666" r="32127" b="39588"/>
          <a:stretch/>
        </p:blipFill>
        <p:spPr>
          <a:xfrm>
            <a:off x="4745160" y="1828800"/>
            <a:ext cx="4043160" cy="2828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81560" y="459576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7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ineered Desig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7760" y="1579680"/>
            <a:ext cx="3708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adioactive waste will be held in waste packages (tubes) that are made of thick, corrosive-resistant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p shields will protect the container from fallen rocks or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25782" t="16666" r="28126" b="43752"/>
          <a:stretch/>
        </p:blipFill>
        <p:spPr>
          <a:xfrm>
            <a:off x="4286160" y="1701720"/>
            <a:ext cx="4419720" cy="2847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178600" y="461016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7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ineered Desig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7760" y="1591920"/>
            <a:ext cx="36673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ts support the waste packages and are made of volcanic ro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olcanic rock would slow the movement of any particles if they leaked from the contain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25782" t="16666" r="28126" b="43752"/>
          <a:stretch/>
        </p:blipFill>
        <p:spPr>
          <a:xfrm>
            <a:off x="4286160" y="1701720"/>
            <a:ext cx="4419720" cy="2847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78600" y="461016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ry Reid, a senator from Nevada, is trying to cancel the Yucca Mountain pro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ther storage facility has been plan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while, waste piles up around the country in poorly secured storag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27343" t="18753" r="28126" b="41670"/>
          <a:stretch/>
        </p:blipFill>
        <p:spPr>
          <a:xfrm>
            <a:off x="220680" y="108000"/>
            <a:ext cx="8737560" cy="6607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44640" y="118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Yucca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st Op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-82440" y="2519280"/>
            <a:ext cx="309852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10686" t="0" r="5063" b="0"/>
          <a:stretch/>
        </p:blipFill>
        <p:spPr>
          <a:xfrm>
            <a:off x="1346040" y="1343160"/>
            <a:ext cx="6270840" cy="484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81640" y="4759200"/>
            <a:ext cx="1301760" cy="5400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66920" y="6237360"/>
            <a:ext cx="62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http://www.yuccamountain.org/mapnv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mote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ucca Mountain is located on the edge of an old nuclear weapons test 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rrounding area has been set aside for wildlife refuge and weapons operations. There are over 5,470 square miles of uninhabited land surrounding the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arest population is 15 miles away and the entire site is surrounded by a U.S. Air Force b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ble Ge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78040" y="1600200"/>
            <a:ext cx="4243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ucca Mountain is composed of volcanic rock that rarely shif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fact, the area has changed very little over the last m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 waste will be located 1,000 ft below the surface and 1,000 ft above a water table, earthquakes will not impact the depos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Photo of precariously balanced rocks. These untoppled rock formations near Yucca Mountain suggest little ground movement in the area for many millennia."/>
          <p:cNvPicPr/>
          <p:nvPr/>
        </p:nvPicPr>
        <p:blipFill>
          <a:blip r:embed="rId2"/>
          <a:stretch/>
        </p:blipFill>
        <p:spPr>
          <a:xfrm>
            <a:off x="519120" y="1633680"/>
            <a:ext cx="3767040" cy="4095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20040" y="5734080"/>
            <a:ext cx="24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y Clim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600" y="1366560"/>
            <a:ext cx="5072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water is the primary way that radioactive waste could enter the environment, a dry climate is critic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ucca Mountain is located in a desert and receives less than 8 inches of rain a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 water runs off the mountain. Only 5% of the rain would reach depository dep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7760" y="614196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14065" t="12502" r="60940" b="39583"/>
          <a:stretch/>
        </p:blipFill>
        <p:spPr>
          <a:xfrm>
            <a:off x="5491080" y="1492200"/>
            <a:ext cx="32320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y Clim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verage, water only moves ½ inch per year.  How long will it take for rain water to reach the depository 1,000 feet dow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531120" y="3083040"/>
            <a:ext cx="367920" cy="3279600"/>
            <a:chOff x="6531120" y="3083040"/>
            <a:chExt cx="367920" cy="3279600"/>
          </a:xfrm>
        </p:grpSpPr>
        <p:sp>
          <p:nvSpPr>
            <p:cNvPr id="71" name=""/>
            <p:cNvSpPr/>
            <p:nvPr/>
          </p:nvSpPr>
          <p:spPr>
            <a:xfrm flipV="1">
              <a:off x="6712200" y="3093840"/>
              <a:ext cx="0" cy="32619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40480" y="30830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31120" y="63626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568920" y="3576600"/>
            <a:ext cx="2297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12,000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033920" y="2984400"/>
            <a:ext cx="4555080" cy="1106640"/>
            <a:chOff x="1033920" y="2984400"/>
            <a:chExt cx="4555080" cy="1106640"/>
          </a:xfrm>
        </p:grpSpPr>
        <p:sp>
          <p:nvSpPr>
            <p:cNvPr id="76" name=""/>
            <p:cNvSpPr/>
            <p:nvPr/>
          </p:nvSpPr>
          <p:spPr>
            <a:xfrm>
              <a:off x="1033920" y="3381120"/>
              <a:ext cx="455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00 ft x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12,000 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046960" y="2984400"/>
              <a:ext cx="2124360" cy="1106640"/>
              <a:chOff x="2046960" y="2984400"/>
              <a:chExt cx="2124360" cy="1106640"/>
            </a:xfrm>
          </p:grpSpPr>
          <p:sp>
            <p:nvSpPr>
              <p:cNvPr id="78" name=""/>
              <p:cNvSpPr/>
              <p:nvPr/>
            </p:nvSpPr>
            <p:spPr>
              <a:xfrm>
                <a:off x="2046960" y="2984400"/>
                <a:ext cx="2124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ffffff"/>
                    </a:solidFill>
                    <a:latin typeface="Arial"/>
                  </a:rPr>
                  <a:t>(   )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28480" y="3189240"/>
                <a:ext cx="1526760" cy="90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2 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 f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27360" y="3628800"/>
                <a:ext cx="757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"/>
          <p:cNvSpPr/>
          <p:nvPr/>
        </p:nvSpPr>
        <p:spPr>
          <a:xfrm rot="19380600">
            <a:off x="6094080" y="2898360"/>
            <a:ext cx="345960" cy="352440"/>
          </a:xfrm>
          <a:custGeom>
            <a:avLst/>
            <a:gdLst/>
            <a:ahLst/>
            <a:rect l="l" t="t" r="r" b="b"/>
            <a:pathLst>
              <a:path w="82" h="113">
                <a:moveTo>
                  <a:pt x="77" y="92"/>
                </a:moveTo>
                <a:lnTo>
                  <a:pt x="79" y="86"/>
                </a:lnTo>
                <a:lnTo>
                  <a:pt x="82" y="80"/>
                </a:lnTo>
                <a:lnTo>
                  <a:pt x="82" y="73"/>
                </a:lnTo>
                <a:lnTo>
                  <a:pt x="82" y="67"/>
                </a:lnTo>
                <a:lnTo>
                  <a:pt x="82" y="0"/>
                </a:lnTo>
                <a:lnTo>
                  <a:pt x="23" y="35"/>
                </a:lnTo>
                <a:lnTo>
                  <a:pt x="18" y="39"/>
                </a:lnTo>
                <a:lnTo>
                  <a:pt x="14" y="43"/>
                </a:lnTo>
                <a:lnTo>
                  <a:pt x="9" y="47"/>
                </a:lnTo>
                <a:lnTo>
                  <a:pt x="5" y="53"/>
                </a:lnTo>
                <a:lnTo>
                  <a:pt x="0" y="69"/>
                </a:lnTo>
                <a:lnTo>
                  <a:pt x="2" y="85"/>
                </a:lnTo>
                <a:lnTo>
                  <a:pt x="9" y="98"/>
                </a:lnTo>
                <a:lnTo>
                  <a:pt x="22" y="108"/>
                </a:lnTo>
                <a:lnTo>
                  <a:pt x="29" y="112"/>
                </a:lnTo>
                <a:lnTo>
                  <a:pt x="37" y="113"/>
                </a:lnTo>
                <a:lnTo>
                  <a:pt x="45" y="113"/>
                </a:lnTo>
                <a:lnTo>
                  <a:pt x="53" y="112"/>
                </a:lnTo>
                <a:lnTo>
                  <a:pt x="60" y="108"/>
                </a:lnTo>
                <a:lnTo>
                  <a:pt x="66" y="105"/>
                </a:lnTo>
                <a:lnTo>
                  <a:pt x="72" y="99"/>
                </a:lnTo>
                <a:lnTo>
                  <a:pt x="77" y="92"/>
                </a:lnTo>
                <a:close/>
              </a:path>
            </a:pathLst>
          </a:custGeom>
          <a:solidFill>
            <a:srgbClr val="003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87280" y="4664160"/>
            <a:ext cx="435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,000 in / (0.5 in/ ye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,00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47595 L 3.33333E-006 -4.84736E-006 E">
                                      <p:cBhvr>
                                        <p:cTn id="8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ep Water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5440" y="1541160"/>
            <a:ext cx="4496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radiation did leak into the water table, it would flow to the Death Valley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populated areas, such as Las Vegas, would not be af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The water table at Yucca Mountain is about 2,000 feet below the mountain's surface."/>
          <p:cNvPicPr/>
          <p:nvPr/>
        </p:nvPicPr>
        <p:blipFill>
          <a:blip r:embed="rId2"/>
          <a:stretch/>
        </p:blipFill>
        <p:spPr>
          <a:xfrm>
            <a:off x="5334120" y="1614600"/>
            <a:ext cx="3105000" cy="426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257800" y="5910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ep Water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rain water reached the depository, how long would it take to reach the water ta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531120" y="3083040"/>
            <a:ext cx="367920" cy="3279600"/>
            <a:chOff x="6531120" y="3083040"/>
            <a:chExt cx="367920" cy="3279600"/>
          </a:xfrm>
        </p:grpSpPr>
        <p:sp>
          <p:nvSpPr>
            <p:cNvPr id="90" name=""/>
            <p:cNvSpPr/>
            <p:nvPr/>
          </p:nvSpPr>
          <p:spPr>
            <a:xfrm flipV="1">
              <a:off x="6712200" y="3093840"/>
              <a:ext cx="0" cy="32619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40480" y="30830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31120" y="63626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929280" y="3822840"/>
            <a:ext cx="18799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984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11,812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132920" y="2746440"/>
            <a:ext cx="5204520" cy="1195200"/>
            <a:chOff x="1132920" y="2746440"/>
            <a:chExt cx="5204520" cy="1195200"/>
          </a:xfrm>
        </p:grpSpPr>
        <p:sp>
          <p:nvSpPr>
            <p:cNvPr id="95" name=""/>
            <p:cNvSpPr/>
            <p:nvPr/>
          </p:nvSpPr>
          <p:spPr>
            <a:xfrm>
              <a:off x="2263680" y="2746440"/>
              <a:ext cx="2009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(     )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27560" y="2768760"/>
              <a:ext cx="2009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(   )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32920" y="320040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00 m x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x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44840" y="2925720"/>
              <a:ext cx="12999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.281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52920" y="2914560"/>
              <a:ext cx="982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 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12880" y="3429000"/>
              <a:ext cx="1140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43280" y="3429000"/>
              <a:ext cx="835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535120" y="405144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11,812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97320" y="4873680"/>
            <a:ext cx="43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,812 in / (0.5 in / year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1680" y="5378400"/>
            <a:ext cx="30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23,62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9380600">
            <a:off x="6094080" y="2898360"/>
            <a:ext cx="345960" cy="352440"/>
          </a:xfrm>
          <a:custGeom>
            <a:avLst/>
            <a:gdLst/>
            <a:ahLst/>
            <a:rect l="l" t="t" r="r" b="b"/>
            <a:pathLst>
              <a:path w="82" h="113">
                <a:moveTo>
                  <a:pt x="77" y="92"/>
                </a:moveTo>
                <a:lnTo>
                  <a:pt x="79" y="86"/>
                </a:lnTo>
                <a:lnTo>
                  <a:pt x="82" y="80"/>
                </a:lnTo>
                <a:lnTo>
                  <a:pt x="82" y="73"/>
                </a:lnTo>
                <a:lnTo>
                  <a:pt x="82" y="67"/>
                </a:lnTo>
                <a:lnTo>
                  <a:pt x="82" y="0"/>
                </a:lnTo>
                <a:lnTo>
                  <a:pt x="23" y="35"/>
                </a:lnTo>
                <a:lnTo>
                  <a:pt x="18" y="39"/>
                </a:lnTo>
                <a:lnTo>
                  <a:pt x="14" y="43"/>
                </a:lnTo>
                <a:lnTo>
                  <a:pt x="9" y="47"/>
                </a:lnTo>
                <a:lnTo>
                  <a:pt x="5" y="53"/>
                </a:lnTo>
                <a:lnTo>
                  <a:pt x="0" y="69"/>
                </a:lnTo>
                <a:lnTo>
                  <a:pt x="2" y="85"/>
                </a:lnTo>
                <a:lnTo>
                  <a:pt x="9" y="98"/>
                </a:lnTo>
                <a:lnTo>
                  <a:pt x="22" y="108"/>
                </a:lnTo>
                <a:lnTo>
                  <a:pt x="29" y="112"/>
                </a:lnTo>
                <a:lnTo>
                  <a:pt x="37" y="113"/>
                </a:lnTo>
                <a:lnTo>
                  <a:pt x="45" y="113"/>
                </a:lnTo>
                <a:lnTo>
                  <a:pt x="53" y="112"/>
                </a:lnTo>
                <a:lnTo>
                  <a:pt x="60" y="108"/>
                </a:lnTo>
                <a:lnTo>
                  <a:pt x="66" y="105"/>
                </a:lnTo>
                <a:lnTo>
                  <a:pt x="72" y="99"/>
                </a:lnTo>
                <a:lnTo>
                  <a:pt x="77" y="92"/>
                </a:lnTo>
                <a:close/>
              </a:path>
            </a:pathLst>
          </a:custGeom>
          <a:solidFill>
            <a:srgbClr val="003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47595 L 3.33333E-006 -4.84736E-006 E">
                                      <p:cBhvr>
                                        <p:cTn id="14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8:57:01Z</dcterms:created>
  <dc:creator>Texas A&amp;M Veterinary Medicine</dc:creator>
  <dc:description/>
  <dc:language>en-US</dc:language>
  <cp:lastModifiedBy>ljlab</cp:lastModifiedBy>
  <dcterms:modified xsi:type="dcterms:W3CDTF">2007-06-26T15:46:18Z</dcterms:modified>
  <cp:revision>29</cp:revision>
  <dc:subject/>
  <dc:title>Hazmat Teams</dc:title>
</cp:coreProperties>
</file>