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2.wmf" ContentType="image/x-wmf"/>
  <Override PartName="/ppt/media/image3.wmf" ContentType="image/x-wmf"/>
  <Override PartName="/ppt/media/image4.png" ContentType="image/png"/>
  <Override PartName="/ppt/media/image10.jpeg" ContentType="image/jpeg"/>
  <Override PartName="/ppt/media/image8.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46F7-FCA7-446E-815D-AB7C820D2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F432B-BB1A-4D89-9607-D27337E65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3D0C-82D9-467D-9A40-FE220447D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B769D-CB1B-4EE7-B57E-DDF1F713C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39FFF-3AC8-4C4C-81D1-39056E137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5DBC8-EE4D-4671-AD57-4A38A724F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21C19-4167-4CFB-B81D-23E6A9A15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8413A-4BA0-4FA6-AACB-FDD2AA03E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32AC1-96C0-4104-A58C-42949851F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B93DF-4F02-4E2D-AAF3-EE40AC445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52F45-C2E3-4003-A852-9AA8BB0A7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59A30-7E37-406E-A553-7CD9EA57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5149D-82BF-41C3-B7D4-5EDBC73AA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BB975-AFDE-4034-8784-2A7BE29E1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99FA9-F840-4DB7-A803-D6FC6999C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4461E-F7CE-4D38-8C13-3157F3428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E4C39-7FE4-49F1-ADCC-6646ACBDE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4F31C-F144-4DE4-86B3-D02F519E9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ECEA-60FC-4A45-818F-421B7903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5FFA-2B36-468F-A3A5-4F854566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F155-2135-4A43-95E8-D40A82DB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8A1E-08AF-4508-A53F-B925531E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9A60-9569-4145-AEC6-C3779F238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BE5C-8419-4AE8-BB74-0F8BD0E9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B449-EAFE-4A93-83DA-E164C87EE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EC73-0ED7-44A3-AB4F-2BBED0851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7ABE-CB17-4855-9241-2826ADEBD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28073" t="0" r="643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4260" t="0" r="4260"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4260" t="0" r="4260"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2500" t="0" r="26250"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4260" t="0" r="4260"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2500" t="0" r="26250"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28073" t="0" r="643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4260" t="0" r="4260"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31824" t="5191" r="39545" b="37735"/>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72522" t="39642" r="1757" b="8110"/>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72522" t="39642" r="1757" b="8110"/>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