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EF2-A895-47E0-9B72-CB8C9EA6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: DC 1,116.0-13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udies: DC 2.0-4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: DC 47.0-8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: DC 85.0-1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D) Evaluate research’s impact on scientific thought, society,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(A) Collect, analyze, and record information to explain a phenom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D) Evaluate research’s impact on scientific thought, society,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(A) Collect, analyze, and record information to explain a phenom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D) Evaluate research’s impact on scientific thought, society,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(A) Collect, analyze, and record information to explain a phenom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D) Evaluate research’s impact on scientific thought, society,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(A) Collect, analyze, and record information to explain a phenom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graph is not from a uranium mine but from from Chuquicamata, the largest open pit copper mine in the world. Image © Reinhard Jahn via a Creative Commons Attribution Share-Alike 2.0 lic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(D) Evaluate research’s impact on scientific thought, society,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(A) Collect, analyze, and record information to explain a phenom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795-D2E0-4D01-842A-71FABC8C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47E-4CB3-4092-819B-F2BD8D33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280-6AA6-447D-82AC-1F99E546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5A3-C3A2-4B73-995C-8A889FB2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3AC3-3443-423F-9167-3CD7A5DE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4DF-862A-467F-97C4-88B4F57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52D5-CEF5-412A-89FF-E4CB5A1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CC0-384B-4CEE-9889-D3D3ACA7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FFC-D2F5-4062-9482-2224858F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686F-07F0-4DCD-96F8-DF5A7FE4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9D8-203D-42F3-9C95-7BAD834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A7E-6539-4D19-B6A2-C6417F3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7C36-FD39-41B5-9D91-8FE5A6D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710-BD03-414E-AE28-E65B401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C5D-288E-41C8-9909-5084A5AD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9B5-74E7-45F8-BD6B-026F04FC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90F-EF51-4739-9660-E8F755A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E42-9888-4795-AE0C-5DBE236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7DE-5FBC-4DF6-A50B-17BF6FE6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CBE-97B3-4021-8C55-8477B444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C1A-9081-4F1E-B3B3-4356FC0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C00-F39C-4A38-8CBF-92BA9E0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09-366D-4AFB-8F0E-0F2F94E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A0B-6633-4AAA-A745-5A991A9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8596-599C-49BF-83F4-65855C22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48E2-F42A-4599-809A-2B0075FF1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44800" y="6184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eer.tamu.ed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5514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79400" y="1938240"/>
            <a:ext cx="7724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 4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much nuclear waste there is in need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about the reprocessing of spent fuel rods in nuclear power pla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9360" y="0"/>
            <a:ext cx="9920160" cy="692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9040" y="4503600"/>
            <a:ext cx="44280" cy="1344600"/>
          </a:xfrm>
          <a:custGeom>
            <a:avLst/>
            <a:gdLst/>
            <a:ahLst/>
            <a:rect l="l" t="t" r="r" b="b"/>
            <a:pathLst>
              <a:path w="28" h="847">
                <a:moveTo>
                  <a:pt x="0" y="808"/>
                </a:moveTo>
                <a:lnTo>
                  <a:pt x="4" y="0"/>
                </a:lnTo>
                <a:lnTo>
                  <a:pt x="28" y="25"/>
                </a:lnTo>
                <a:lnTo>
                  <a:pt x="24" y="847"/>
                </a:lnTo>
                <a:lnTo>
                  <a:pt x="0" y="8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-66600"/>
            <a:ext cx="1150920" cy="4543200"/>
          </a:xfrm>
          <a:custGeom>
            <a:avLst/>
            <a:gdLst/>
            <a:ahLst/>
            <a:rect l="l" t="t" r="r" b="b"/>
            <a:pathLst>
              <a:path w="662" h="2862">
                <a:moveTo>
                  <a:pt x="660" y="2765"/>
                </a:moveTo>
                <a:lnTo>
                  <a:pt x="6" y="2862"/>
                </a:lnTo>
                <a:lnTo>
                  <a:pt x="0" y="0"/>
                </a:lnTo>
                <a:lnTo>
                  <a:pt x="662" y="30"/>
                </a:lnTo>
                <a:lnTo>
                  <a:pt x="660" y="2765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6400" y="5772240"/>
            <a:ext cx="1143000" cy="1095120"/>
          </a:xfrm>
          <a:custGeom>
            <a:avLst/>
            <a:gdLst/>
            <a:ahLst/>
            <a:rect l="l" t="t" r="r" b="b"/>
            <a:pathLst>
              <a:path w="720" h="690">
                <a:moveTo>
                  <a:pt x="720" y="690"/>
                </a:moveTo>
                <a:lnTo>
                  <a:pt x="0" y="108"/>
                </a:lnTo>
                <a:lnTo>
                  <a:pt x="48" y="0"/>
                </a:lnTo>
                <a:lnTo>
                  <a:pt x="708" y="436"/>
                </a:lnTo>
                <a:lnTo>
                  <a:pt x="720" y="69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3819600"/>
            <a:ext cx="191880" cy="2200320"/>
          </a:xfrm>
          <a:custGeom>
            <a:avLst/>
            <a:gdLst/>
            <a:ahLst/>
            <a:rect l="l" t="t" r="r" b="b"/>
            <a:pathLst>
              <a:path w="60" h="1386">
                <a:moveTo>
                  <a:pt x="0" y="1332"/>
                </a:moveTo>
                <a:lnTo>
                  <a:pt x="0" y="0"/>
                </a:lnTo>
                <a:lnTo>
                  <a:pt x="60" y="0"/>
                </a:lnTo>
                <a:lnTo>
                  <a:pt x="60" y="1386"/>
                </a:lnTo>
                <a:lnTo>
                  <a:pt x="0" y="1332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8280" y="0"/>
            <a:ext cx="16146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0" y="11160"/>
            <a:ext cx="16700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9360" y="5934240"/>
            <a:ext cx="4019400" cy="952200"/>
          </a:xfrm>
          <a:custGeom>
            <a:avLst/>
            <a:gdLst/>
            <a:ahLst/>
            <a:rect l="l" t="t" r="r" b="b"/>
            <a:pathLst>
              <a:path w="2532" h="600">
                <a:moveTo>
                  <a:pt x="2532" y="582"/>
                </a:moveTo>
                <a:lnTo>
                  <a:pt x="1815" y="1"/>
                </a:lnTo>
                <a:lnTo>
                  <a:pt x="0" y="0"/>
                </a:lnTo>
                <a:lnTo>
                  <a:pt x="0" y="600"/>
                </a:lnTo>
                <a:lnTo>
                  <a:pt x="2532" y="582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05120" y="3838680"/>
            <a:ext cx="333360" cy="3009960"/>
          </a:xfrm>
          <a:custGeom>
            <a:avLst/>
            <a:gdLst/>
            <a:ahLst/>
            <a:rect l="l" t="t" r="r" b="b"/>
            <a:pathLst>
              <a:path w="180" h="1896">
                <a:moveTo>
                  <a:pt x="174" y="1896"/>
                </a:moveTo>
                <a:lnTo>
                  <a:pt x="0" y="1734"/>
                </a:lnTo>
                <a:lnTo>
                  <a:pt x="0" y="0"/>
                </a:lnTo>
                <a:lnTo>
                  <a:pt x="180" y="0"/>
                </a:lnTo>
                <a:lnTo>
                  <a:pt x="174" y="189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4200" y="0"/>
            <a:ext cx="8078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-3016080"/>
            <a:ext cx="433080" cy="10323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0323360"/>
              <a:gd name="textAreaBottom" fmla="*/ 10302480 h 10323360"/>
            </a:gdLst>
            <a:ahLst/>
            <a:rect l="textAreaLeft" t="textAreaTop" r="textAreaRight" b="textAreaBottom"/>
            <a:pathLst>
              <a:path w="21600" h="514471">
                <a:moveTo>
                  <a:pt x="3600" y="0"/>
                </a:moveTo>
                <a:arcTo wR="3600" hR="3600" stAng="16200000" swAng="-5400000"/>
                <a:lnTo>
                  <a:pt x="0" y="510871"/>
                </a:lnTo>
                <a:arcTo wR="3600" hR="3600" stAng="10800000" swAng="-5400000"/>
                <a:lnTo>
                  <a:pt x="18000" y="514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03720" y="-2741760"/>
            <a:ext cx="290520" cy="993168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9931680"/>
              <a:gd name="textAreaBottom" fmla="*/ 9917640 h 9931680"/>
            </a:gdLst>
            <a:ahLst/>
            <a:rect l="textAreaLeft" t="textAreaTop" r="textAreaRight" b="textAreaBottom"/>
            <a:pathLst>
              <a:path w="21600" h="737528">
                <a:moveTo>
                  <a:pt x="3600" y="0"/>
                </a:moveTo>
                <a:arcTo wR="3600" hR="3600" stAng="16200000" swAng="-5400000"/>
                <a:lnTo>
                  <a:pt x="0" y="733928"/>
                </a:lnTo>
                <a:arcTo wR="3600" hR="3600" stAng="10800000" swAng="-5400000"/>
                <a:lnTo>
                  <a:pt x="18000" y="737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2040" y="0"/>
            <a:ext cx="5108760" cy="4849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3440" y="4805280"/>
            <a:ext cx="2727360" cy="205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6513480"/>
            <a:ext cx="3380040" cy="34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2040" y="4811760"/>
            <a:ext cx="2381400" cy="172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2880" y="2819520"/>
            <a:ext cx="1098720" cy="2047680"/>
          </a:xfrm>
          <a:custGeom>
            <a:avLst/>
            <a:gdLst/>
            <a:ahLst/>
            <a:rect l="l" t="t" r="r" b="b"/>
            <a:pathLst>
              <a:path w="648" h="1290">
                <a:moveTo>
                  <a:pt x="0" y="1044"/>
                </a:moveTo>
                <a:lnTo>
                  <a:pt x="648" y="1290"/>
                </a:lnTo>
                <a:lnTo>
                  <a:pt x="648" y="0"/>
                </a:lnTo>
                <a:lnTo>
                  <a:pt x="0" y="104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2040" y="1547640"/>
            <a:ext cx="414828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spent fuel rods are reprocessed to recover usable radioactive materials before they are stored as nuclear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29040" y="4503600"/>
            <a:ext cx="698400" cy="1844640"/>
          </a:xfrm>
          <a:custGeom>
            <a:avLst/>
            <a:gdLst/>
            <a:ahLst/>
            <a:rect l="l" t="t" r="r" b="b"/>
            <a:pathLst>
              <a:path w="440" h="1162">
                <a:moveTo>
                  <a:pt x="4" y="847"/>
                </a:moveTo>
                <a:lnTo>
                  <a:pt x="440" y="1162"/>
                </a:lnTo>
                <a:lnTo>
                  <a:pt x="440" y="146"/>
                </a:lnTo>
                <a:lnTo>
                  <a:pt x="4" y="0"/>
                </a:lnTo>
                <a:lnTo>
                  <a:pt x="12" y="53"/>
                </a:lnTo>
                <a:lnTo>
                  <a:pt x="390" y="187"/>
                </a:lnTo>
                <a:lnTo>
                  <a:pt x="390" y="1069"/>
                </a:lnTo>
                <a:lnTo>
                  <a:pt x="0" y="805"/>
                </a:lnTo>
                <a:lnTo>
                  <a:pt x="4" y="8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42000" y="357120"/>
            <a:ext cx="384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16800" y="-3003480"/>
            <a:ext cx="4218840" cy="9509040"/>
            <a:chOff x="316800" y="-3003480"/>
            <a:chExt cx="4218840" cy="9509040"/>
          </a:xfrm>
        </p:grpSpPr>
        <p:sp>
          <p:nvSpPr>
            <p:cNvPr id="157" name=""/>
            <p:cNvSpPr/>
            <p:nvPr/>
          </p:nvSpPr>
          <p:spPr>
            <a:xfrm>
              <a:off x="1231920" y="1360440"/>
              <a:ext cx="754200" cy="5145120"/>
            </a:xfrm>
            <a:prstGeom prst="can">
              <a:avLst>
                <a:gd name="adj" fmla="val 351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16800" y="-3003480"/>
              <a:ext cx="4218840" cy="4631400"/>
              <a:chOff x="316800" y="-3003480"/>
              <a:chExt cx="4218840" cy="4631400"/>
            </a:xfrm>
          </p:grpSpPr>
          <p:sp>
            <p:nvSpPr>
              <p:cNvPr id="159" name=""/>
              <p:cNvSpPr/>
              <p:nvPr/>
            </p:nvSpPr>
            <p:spPr>
              <a:xfrm rot="9900000">
                <a:off x="2622240" y="-2749320"/>
                <a:ext cx="1727280" cy="322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17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7712000">
                <a:off x="1002960" y="-1456920"/>
                <a:ext cx="2185920" cy="38592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928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20895000">
                <a:off x="1768320" y="-469440"/>
                <a:ext cx="94788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705000">
                <a:off x="512640" y="-469440"/>
                <a:ext cx="94788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31920" y="-655560"/>
                <a:ext cx="754200" cy="7538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17680" y="-469800"/>
                <a:ext cx="385560" cy="385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9760" y="-2608200"/>
                <a:ext cx="571680" cy="5713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63840" y="-2454120"/>
                <a:ext cx="291960" cy="291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156200" y="-3003480"/>
                <a:ext cx="37944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53040" y="-2909880"/>
                <a:ext cx="193680" cy="1936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9360" y="0"/>
            <a:ext cx="9920160" cy="692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-66600"/>
            <a:ext cx="1150920" cy="4543200"/>
          </a:xfrm>
          <a:custGeom>
            <a:avLst/>
            <a:gdLst/>
            <a:ahLst/>
            <a:rect l="l" t="t" r="r" b="b"/>
            <a:pathLst>
              <a:path w="662" h="2862">
                <a:moveTo>
                  <a:pt x="660" y="2765"/>
                </a:moveTo>
                <a:lnTo>
                  <a:pt x="6" y="2862"/>
                </a:lnTo>
                <a:lnTo>
                  <a:pt x="0" y="0"/>
                </a:lnTo>
                <a:lnTo>
                  <a:pt x="662" y="30"/>
                </a:lnTo>
                <a:lnTo>
                  <a:pt x="660" y="2765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29040" y="4503600"/>
            <a:ext cx="44280" cy="1344600"/>
          </a:xfrm>
          <a:custGeom>
            <a:avLst/>
            <a:gdLst/>
            <a:ahLst/>
            <a:rect l="l" t="t" r="r" b="b"/>
            <a:pathLst>
              <a:path w="28" h="847">
                <a:moveTo>
                  <a:pt x="0" y="808"/>
                </a:moveTo>
                <a:lnTo>
                  <a:pt x="4" y="0"/>
                </a:lnTo>
                <a:lnTo>
                  <a:pt x="28" y="25"/>
                </a:lnTo>
                <a:lnTo>
                  <a:pt x="24" y="847"/>
                </a:lnTo>
                <a:lnTo>
                  <a:pt x="0" y="8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819600"/>
            <a:ext cx="191880" cy="2200320"/>
          </a:xfrm>
          <a:custGeom>
            <a:avLst/>
            <a:gdLst/>
            <a:ahLst/>
            <a:rect l="l" t="t" r="r" b="b"/>
            <a:pathLst>
              <a:path w="60" h="1386">
                <a:moveTo>
                  <a:pt x="0" y="1332"/>
                </a:moveTo>
                <a:lnTo>
                  <a:pt x="0" y="0"/>
                </a:lnTo>
                <a:lnTo>
                  <a:pt x="60" y="0"/>
                </a:lnTo>
                <a:lnTo>
                  <a:pt x="60" y="1386"/>
                </a:lnTo>
                <a:lnTo>
                  <a:pt x="0" y="1332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8280" y="0"/>
            <a:ext cx="161460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9360" y="5934240"/>
            <a:ext cx="4019400" cy="952200"/>
          </a:xfrm>
          <a:custGeom>
            <a:avLst/>
            <a:gdLst/>
            <a:ahLst/>
            <a:rect l="l" t="t" r="r" b="b"/>
            <a:pathLst>
              <a:path w="2532" h="600">
                <a:moveTo>
                  <a:pt x="2532" y="582"/>
                </a:moveTo>
                <a:lnTo>
                  <a:pt x="1815" y="1"/>
                </a:lnTo>
                <a:lnTo>
                  <a:pt x="0" y="0"/>
                </a:lnTo>
                <a:lnTo>
                  <a:pt x="0" y="600"/>
                </a:lnTo>
                <a:lnTo>
                  <a:pt x="2532" y="582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570640" y="4924440"/>
            <a:ext cx="1074240" cy="847440"/>
            <a:chOff x="5570640" y="4924440"/>
            <a:chExt cx="1074240" cy="847440"/>
          </a:xfrm>
        </p:grpSpPr>
        <p:sp>
          <p:nvSpPr>
            <p:cNvPr id="176" name=""/>
            <p:cNvSpPr/>
            <p:nvPr/>
          </p:nvSpPr>
          <p:spPr>
            <a:xfrm>
              <a:off x="5570640" y="4924440"/>
              <a:ext cx="35784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86680" y="5348160"/>
              <a:ext cx="35820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0640" y="5348160"/>
              <a:ext cx="35784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28480" y="4924440"/>
              <a:ext cx="35820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876400" y="5772240"/>
            <a:ext cx="1143000" cy="1095120"/>
          </a:xfrm>
          <a:custGeom>
            <a:avLst/>
            <a:gdLst/>
            <a:ahLst/>
            <a:rect l="l" t="t" r="r" b="b"/>
            <a:pathLst>
              <a:path w="720" h="690">
                <a:moveTo>
                  <a:pt x="720" y="690"/>
                </a:moveTo>
                <a:lnTo>
                  <a:pt x="0" y="108"/>
                </a:lnTo>
                <a:lnTo>
                  <a:pt x="48" y="0"/>
                </a:lnTo>
                <a:lnTo>
                  <a:pt x="708" y="436"/>
                </a:lnTo>
                <a:lnTo>
                  <a:pt x="720" y="69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0" y="11160"/>
            <a:ext cx="16700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5120" y="3838680"/>
            <a:ext cx="333360" cy="3009960"/>
          </a:xfrm>
          <a:custGeom>
            <a:avLst/>
            <a:gdLst/>
            <a:ahLst/>
            <a:rect l="l" t="t" r="r" b="b"/>
            <a:pathLst>
              <a:path w="180" h="1896">
                <a:moveTo>
                  <a:pt x="174" y="1896"/>
                </a:moveTo>
                <a:lnTo>
                  <a:pt x="0" y="1734"/>
                </a:lnTo>
                <a:lnTo>
                  <a:pt x="0" y="0"/>
                </a:lnTo>
                <a:lnTo>
                  <a:pt x="180" y="0"/>
                </a:lnTo>
                <a:lnTo>
                  <a:pt x="174" y="189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94200" y="0"/>
            <a:ext cx="8078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-3016080"/>
            <a:ext cx="433080" cy="1020888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0208880"/>
              <a:gd name="textAreaBottom" fmla="*/ 10188000 h 10208880"/>
            </a:gdLst>
            <a:ahLst/>
            <a:rect l="textAreaLeft" t="textAreaTop" r="textAreaRight" b="textAreaBottom"/>
            <a:pathLst>
              <a:path w="21600" h="508766">
                <a:moveTo>
                  <a:pt x="3600" y="0"/>
                </a:moveTo>
                <a:arcTo wR="3600" hR="3600" stAng="16200000" swAng="-5400000"/>
                <a:lnTo>
                  <a:pt x="0" y="505166"/>
                </a:lnTo>
                <a:arcTo wR="3600" hR="3600" stAng="10800000" swAng="-5400000"/>
                <a:lnTo>
                  <a:pt x="18000" y="508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03720" y="-2741760"/>
            <a:ext cx="290520" cy="982188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9821880"/>
              <a:gd name="textAreaBottom" fmla="*/ 9807840 h 9821880"/>
            </a:gdLst>
            <a:ahLst/>
            <a:rect l="textAreaLeft" t="textAreaTop" r="textAreaRight" b="textAreaBottom"/>
            <a:pathLst>
              <a:path w="21600" h="729374">
                <a:moveTo>
                  <a:pt x="3600" y="0"/>
                </a:moveTo>
                <a:arcTo wR="3600" hR="3600" stAng="16200000" swAng="-5400000"/>
                <a:lnTo>
                  <a:pt x="0" y="725774"/>
                </a:lnTo>
                <a:arcTo wR="3600" hR="3600" stAng="10800000" swAng="-5400000"/>
                <a:lnTo>
                  <a:pt x="18000" y="7293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2040" y="0"/>
            <a:ext cx="5108760" cy="4849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83440" y="4805280"/>
            <a:ext cx="2727360" cy="205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2040" y="6513480"/>
            <a:ext cx="3380040" cy="34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2040" y="4811760"/>
            <a:ext cx="2381400" cy="172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2880" y="2819520"/>
            <a:ext cx="1098720" cy="2047680"/>
          </a:xfrm>
          <a:custGeom>
            <a:avLst/>
            <a:gdLst/>
            <a:ahLst/>
            <a:rect l="l" t="t" r="r" b="b"/>
            <a:pathLst>
              <a:path w="648" h="1290">
                <a:moveTo>
                  <a:pt x="0" y="1044"/>
                </a:moveTo>
                <a:lnTo>
                  <a:pt x="648" y="1290"/>
                </a:lnTo>
                <a:lnTo>
                  <a:pt x="648" y="0"/>
                </a:lnTo>
                <a:lnTo>
                  <a:pt x="0" y="104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6800" y="-3003480"/>
            <a:ext cx="4218840" cy="9509040"/>
            <a:chOff x="316800" y="-3003480"/>
            <a:chExt cx="4218840" cy="9509040"/>
          </a:xfrm>
        </p:grpSpPr>
        <p:sp>
          <p:nvSpPr>
            <p:cNvPr id="192" name=""/>
            <p:cNvSpPr/>
            <p:nvPr/>
          </p:nvSpPr>
          <p:spPr>
            <a:xfrm>
              <a:off x="1231920" y="1360440"/>
              <a:ext cx="754200" cy="5145120"/>
            </a:xfrm>
            <a:prstGeom prst="can">
              <a:avLst>
                <a:gd name="adj" fmla="val 351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16800" y="-3003480"/>
              <a:ext cx="4218840" cy="4631400"/>
              <a:chOff x="316800" y="-3003480"/>
              <a:chExt cx="4218840" cy="4631400"/>
            </a:xfrm>
          </p:grpSpPr>
          <p:sp>
            <p:nvSpPr>
              <p:cNvPr id="194" name=""/>
              <p:cNvSpPr/>
              <p:nvPr/>
            </p:nvSpPr>
            <p:spPr>
              <a:xfrm rot="9900000">
                <a:off x="2622240" y="-2749320"/>
                <a:ext cx="1727280" cy="322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17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712000">
                <a:off x="1002960" y="-1456920"/>
                <a:ext cx="2185920" cy="38592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928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20895000">
                <a:off x="1768320" y="-469440"/>
                <a:ext cx="94788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705000">
                <a:off x="512640" y="-469440"/>
                <a:ext cx="94788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31920" y="-655560"/>
                <a:ext cx="754200" cy="7538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17680" y="-469800"/>
                <a:ext cx="385560" cy="385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09760" y="-2608200"/>
                <a:ext cx="571680" cy="5713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63840" y="-2454120"/>
                <a:ext cx="291960" cy="291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56200" y="-3003480"/>
                <a:ext cx="37944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53040" y="-2909880"/>
                <a:ext cx="193680" cy="1936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4802040" y="1547640"/>
            <a:ext cx="414828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tonium and uranium-235 used in the fuel rods can be recovered using a chemical process that separates the othe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9040" y="4503600"/>
            <a:ext cx="698400" cy="1844640"/>
          </a:xfrm>
          <a:custGeom>
            <a:avLst/>
            <a:gdLst/>
            <a:ahLst/>
            <a:rect l="l" t="t" r="r" b="b"/>
            <a:pathLst>
              <a:path w="440" h="1162">
                <a:moveTo>
                  <a:pt x="4" y="847"/>
                </a:moveTo>
                <a:lnTo>
                  <a:pt x="440" y="1162"/>
                </a:lnTo>
                <a:lnTo>
                  <a:pt x="440" y="146"/>
                </a:lnTo>
                <a:lnTo>
                  <a:pt x="4" y="0"/>
                </a:lnTo>
                <a:lnTo>
                  <a:pt x="12" y="53"/>
                </a:lnTo>
                <a:lnTo>
                  <a:pt x="390" y="187"/>
                </a:lnTo>
                <a:lnTo>
                  <a:pt x="390" y="1069"/>
                </a:lnTo>
                <a:lnTo>
                  <a:pt x="0" y="805"/>
                </a:lnTo>
                <a:lnTo>
                  <a:pt x="4" y="8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42000" y="357120"/>
            <a:ext cx="384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-9360" y="0"/>
            <a:ext cx="9920160" cy="692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68880" y="4618080"/>
            <a:ext cx="44640" cy="1344600"/>
          </a:xfrm>
          <a:custGeom>
            <a:avLst/>
            <a:gdLst/>
            <a:ahLst/>
            <a:rect l="l" t="t" r="r" b="b"/>
            <a:pathLst>
              <a:path w="28" h="847">
                <a:moveTo>
                  <a:pt x="0" y="808"/>
                </a:moveTo>
                <a:lnTo>
                  <a:pt x="4" y="0"/>
                </a:lnTo>
                <a:lnTo>
                  <a:pt x="28" y="25"/>
                </a:lnTo>
                <a:lnTo>
                  <a:pt x="24" y="847"/>
                </a:lnTo>
                <a:lnTo>
                  <a:pt x="0" y="8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107040" y="4005360"/>
            <a:ext cx="192240" cy="2200320"/>
          </a:xfrm>
          <a:custGeom>
            <a:avLst/>
            <a:gdLst/>
            <a:ahLst/>
            <a:rect l="l" t="t" r="r" b="b"/>
            <a:pathLst>
              <a:path w="60" h="1386">
                <a:moveTo>
                  <a:pt x="0" y="1332"/>
                </a:moveTo>
                <a:lnTo>
                  <a:pt x="0" y="0"/>
                </a:lnTo>
                <a:lnTo>
                  <a:pt x="60" y="0"/>
                </a:lnTo>
                <a:lnTo>
                  <a:pt x="60" y="1386"/>
                </a:lnTo>
                <a:lnTo>
                  <a:pt x="0" y="1332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279480" y="11160"/>
            <a:ext cx="16700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107680" y="5827680"/>
            <a:ext cx="1143000" cy="1095480"/>
          </a:xfrm>
          <a:custGeom>
            <a:avLst/>
            <a:gdLst/>
            <a:ahLst/>
            <a:rect l="l" t="t" r="r" b="b"/>
            <a:pathLst>
              <a:path w="720" h="690">
                <a:moveTo>
                  <a:pt x="720" y="690"/>
                </a:moveTo>
                <a:lnTo>
                  <a:pt x="0" y="108"/>
                </a:lnTo>
                <a:lnTo>
                  <a:pt x="48" y="0"/>
                </a:lnTo>
                <a:lnTo>
                  <a:pt x="708" y="436"/>
                </a:lnTo>
                <a:lnTo>
                  <a:pt x="720" y="69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562720" y="4915080"/>
            <a:ext cx="1074240" cy="847440"/>
            <a:chOff x="5562720" y="4915080"/>
            <a:chExt cx="1074240" cy="847440"/>
          </a:xfrm>
        </p:grpSpPr>
        <p:sp>
          <p:nvSpPr>
            <p:cNvPr id="213" name=""/>
            <p:cNvSpPr/>
            <p:nvPr/>
          </p:nvSpPr>
          <p:spPr>
            <a:xfrm>
              <a:off x="5562720" y="4915080"/>
              <a:ext cx="35784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78760" y="5338800"/>
              <a:ext cx="35820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5338800"/>
              <a:ext cx="35784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20560" y="4915080"/>
              <a:ext cx="358200" cy="423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097600" y="2878200"/>
            <a:ext cx="1189080" cy="2052720"/>
          </a:xfrm>
          <a:custGeom>
            <a:avLst/>
            <a:gdLst/>
            <a:ahLst/>
            <a:rect l="l" t="t" r="r" b="b"/>
            <a:pathLst>
              <a:path w="749" h="1293">
                <a:moveTo>
                  <a:pt x="749" y="1044"/>
                </a:moveTo>
                <a:lnTo>
                  <a:pt x="0" y="1293"/>
                </a:lnTo>
                <a:lnTo>
                  <a:pt x="8" y="0"/>
                </a:lnTo>
                <a:lnTo>
                  <a:pt x="749" y="104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15120" y="4581360"/>
            <a:ext cx="698400" cy="1845000"/>
          </a:xfrm>
          <a:custGeom>
            <a:avLst/>
            <a:gdLst/>
            <a:ahLst/>
            <a:rect l="l" t="t" r="r" b="b"/>
            <a:pathLst>
              <a:path w="440" h="1162">
                <a:moveTo>
                  <a:pt x="4" y="847"/>
                </a:moveTo>
                <a:lnTo>
                  <a:pt x="440" y="1162"/>
                </a:lnTo>
                <a:lnTo>
                  <a:pt x="440" y="146"/>
                </a:lnTo>
                <a:lnTo>
                  <a:pt x="4" y="0"/>
                </a:lnTo>
                <a:lnTo>
                  <a:pt x="12" y="53"/>
                </a:lnTo>
                <a:lnTo>
                  <a:pt x="390" y="187"/>
                </a:lnTo>
                <a:lnTo>
                  <a:pt x="390" y="1069"/>
                </a:lnTo>
                <a:lnTo>
                  <a:pt x="0" y="805"/>
                </a:lnTo>
                <a:lnTo>
                  <a:pt x="4" y="8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234200" y="-27000"/>
            <a:ext cx="23306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-9360" y="-3016080"/>
            <a:ext cx="9920160" cy="10285200"/>
            <a:chOff x="-9360" y="-3016080"/>
            <a:chExt cx="9920160" cy="10285200"/>
          </a:xfrm>
        </p:grpSpPr>
        <p:grpSp>
          <p:nvGrpSpPr>
            <p:cNvPr id="221" name=""/>
            <p:cNvGrpSpPr/>
            <p:nvPr/>
          </p:nvGrpSpPr>
          <p:grpSpPr>
            <a:xfrm>
              <a:off x="-9360" y="-3003480"/>
              <a:ext cx="9920160" cy="9889920"/>
              <a:chOff x="-9360" y="-3003480"/>
              <a:chExt cx="9920160" cy="9889920"/>
            </a:xfrm>
          </p:grpSpPr>
          <p:sp>
            <p:nvSpPr>
              <p:cNvPr id="222" name=""/>
              <p:cNvSpPr/>
              <p:nvPr/>
            </p:nvSpPr>
            <p:spPr>
              <a:xfrm>
                <a:off x="3029040" y="4503600"/>
                <a:ext cx="44280" cy="1344600"/>
              </a:xfrm>
              <a:custGeom>
                <a:avLst/>
                <a:gdLst/>
                <a:ahLst/>
                <a:rect l="l" t="t" r="r" b="b"/>
                <a:pathLst>
                  <a:path w="28" h="847">
                    <a:moveTo>
                      <a:pt x="0" y="808"/>
                    </a:moveTo>
                    <a:lnTo>
                      <a:pt x="4" y="0"/>
                    </a:lnTo>
                    <a:lnTo>
                      <a:pt x="28" y="25"/>
                    </a:lnTo>
                    <a:lnTo>
                      <a:pt x="24" y="847"/>
                    </a:lnTo>
                    <a:lnTo>
                      <a:pt x="0" y="80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43280" y="-66600"/>
                <a:ext cx="1150920" cy="4543200"/>
              </a:xfrm>
              <a:custGeom>
                <a:avLst/>
                <a:gdLst/>
                <a:ahLst/>
                <a:rect l="l" t="t" r="r" b="b"/>
                <a:pathLst>
                  <a:path w="662" h="2862">
                    <a:moveTo>
                      <a:pt x="660" y="2765"/>
                    </a:moveTo>
                    <a:lnTo>
                      <a:pt x="6" y="2862"/>
                    </a:lnTo>
                    <a:lnTo>
                      <a:pt x="0" y="0"/>
                    </a:lnTo>
                    <a:lnTo>
                      <a:pt x="662" y="30"/>
                    </a:lnTo>
                    <a:lnTo>
                      <a:pt x="660" y="276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76400" y="5772240"/>
                <a:ext cx="1143000" cy="1095120"/>
              </a:xfrm>
              <a:custGeom>
                <a:avLst/>
                <a:gdLst/>
                <a:ahLst/>
                <a:rect l="l" t="t" r="r" b="b"/>
                <a:pathLst>
                  <a:path w="720" h="690">
                    <a:moveTo>
                      <a:pt x="720" y="690"/>
                    </a:moveTo>
                    <a:lnTo>
                      <a:pt x="0" y="108"/>
                    </a:lnTo>
                    <a:lnTo>
                      <a:pt x="48" y="0"/>
                    </a:lnTo>
                    <a:lnTo>
                      <a:pt x="708" y="436"/>
                    </a:lnTo>
                    <a:lnTo>
                      <a:pt x="720" y="69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43280" y="3819600"/>
                <a:ext cx="191880" cy="2200320"/>
              </a:xfrm>
              <a:custGeom>
                <a:avLst/>
                <a:gdLst/>
                <a:ahLst/>
                <a:rect l="l" t="t" r="r" b="b"/>
                <a:pathLst>
                  <a:path w="60" h="1386">
                    <a:moveTo>
                      <a:pt x="0" y="1332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1386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68280" y="0"/>
                <a:ext cx="161460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40" y="11160"/>
                <a:ext cx="167004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-9360" y="5934240"/>
                <a:ext cx="4019400" cy="952200"/>
              </a:xfrm>
              <a:custGeom>
                <a:avLst/>
                <a:gdLst/>
                <a:ahLst/>
                <a:rect l="l" t="t" r="r" b="b"/>
                <a:pathLst>
                  <a:path w="2532" h="600">
                    <a:moveTo>
                      <a:pt x="2532" y="582"/>
                    </a:moveTo>
                    <a:lnTo>
                      <a:pt x="1815" y="1"/>
                    </a:lnTo>
                    <a:lnTo>
                      <a:pt x="0" y="0"/>
                    </a:lnTo>
                    <a:lnTo>
                      <a:pt x="0" y="600"/>
                    </a:lnTo>
                    <a:lnTo>
                      <a:pt x="2532" y="58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05120" y="3838680"/>
                <a:ext cx="333360" cy="3009960"/>
              </a:xfrm>
              <a:custGeom>
                <a:avLst/>
                <a:gdLst/>
                <a:ahLst/>
                <a:rect l="l" t="t" r="r" b="b"/>
                <a:pathLst>
                  <a:path w="180" h="1896">
                    <a:moveTo>
                      <a:pt x="174" y="1896"/>
                    </a:moveTo>
                    <a:lnTo>
                      <a:pt x="0" y="1734"/>
                    </a:lnTo>
                    <a:lnTo>
                      <a:pt x="0" y="0"/>
                    </a:lnTo>
                    <a:lnTo>
                      <a:pt x="180" y="0"/>
                    </a:lnTo>
                    <a:lnTo>
                      <a:pt x="174" y="189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94200" y="0"/>
                <a:ext cx="807840" cy="6858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02040" y="0"/>
                <a:ext cx="5108760" cy="4849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83440" y="4805280"/>
                <a:ext cx="2727360" cy="2052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02040" y="6513480"/>
                <a:ext cx="3380040" cy="34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02040" y="4811760"/>
                <a:ext cx="2381400" cy="1728720"/>
              </a:xfrm>
              <a:prstGeom prst="rect">
                <a:avLst/>
              </a:pr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82880" y="2819520"/>
                <a:ext cx="1098720" cy="2047680"/>
              </a:xfrm>
              <a:custGeom>
                <a:avLst/>
                <a:gdLst/>
                <a:ahLst/>
                <a:rect l="l" t="t" r="r" b="b"/>
                <a:pathLst>
                  <a:path w="648" h="1290">
                    <a:moveTo>
                      <a:pt x="0" y="1044"/>
                    </a:moveTo>
                    <a:lnTo>
                      <a:pt x="648" y="1290"/>
                    </a:lnTo>
                    <a:lnTo>
                      <a:pt x="648" y="0"/>
                    </a:lnTo>
                    <a:lnTo>
                      <a:pt x="0" y="10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16800" y="-3003480"/>
                <a:ext cx="4218840" cy="9509040"/>
                <a:chOff x="316800" y="-3003480"/>
                <a:chExt cx="4218840" cy="9509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31920" y="1360440"/>
                  <a:ext cx="754200" cy="5145120"/>
                </a:xfrm>
                <a:prstGeom prst="can">
                  <a:avLst>
                    <a:gd name="adj" fmla="val 3518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316800" y="-3003480"/>
                  <a:ext cx="4218840" cy="4631400"/>
                  <a:chOff x="316800" y="-3003480"/>
                  <a:chExt cx="4218840" cy="4631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9900000">
                    <a:off x="2622240" y="-2749320"/>
                    <a:ext cx="1727280" cy="322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d4d4d"/>
                      </a:gs>
                      <a:gs pos="50000">
                        <a:srgbClr val="808080"/>
                      </a:gs>
                      <a:gs pos="100000">
                        <a:srgbClr val="4d4d4d"/>
                      </a:gs>
                    </a:gsLst>
                    <a:lin ang="17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7712000">
                    <a:off x="1002960" y="-1456920"/>
                    <a:ext cx="2185920" cy="38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d4d4d"/>
                      </a:gs>
                      <a:gs pos="50000">
                        <a:srgbClr val="808080"/>
                      </a:gs>
                      <a:gs pos="100000">
                        <a:srgbClr val="4d4d4d"/>
                      </a:gs>
                    </a:gsLst>
                    <a:lin ang="9288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0895000">
                    <a:off x="1768320" y="-469440"/>
                    <a:ext cx="947880" cy="20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6666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705000">
                    <a:off x="512640" y="-469440"/>
                    <a:ext cx="947880" cy="20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6666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231920" y="-655560"/>
                    <a:ext cx="754200" cy="7538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417680" y="-469800"/>
                    <a:ext cx="385560" cy="38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a6a6a6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309760" y="-2608200"/>
                    <a:ext cx="571680" cy="5713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463840" y="-2454120"/>
                    <a:ext cx="291960" cy="291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a6a6a6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156200" y="-3003480"/>
                    <a:ext cx="379440" cy="379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253040" y="-2909880"/>
                    <a:ext cx="193680" cy="1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a6a6a6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4802040" y="1547640"/>
                <a:ext cx="4148280" cy="29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29040" y="4503600"/>
                <a:ext cx="698400" cy="1844640"/>
              </a:xfrm>
              <a:custGeom>
                <a:avLst/>
                <a:gdLst/>
                <a:ahLst/>
                <a:rect l="l" t="t" r="r" b="b"/>
                <a:pathLst>
                  <a:path w="440" h="1162">
                    <a:moveTo>
                      <a:pt x="4" y="847"/>
                    </a:moveTo>
                    <a:lnTo>
                      <a:pt x="440" y="1162"/>
                    </a:lnTo>
                    <a:lnTo>
                      <a:pt x="440" y="146"/>
                    </a:lnTo>
                    <a:lnTo>
                      <a:pt x="4" y="0"/>
                    </a:lnTo>
                    <a:lnTo>
                      <a:pt x="12" y="53"/>
                    </a:lnTo>
                    <a:lnTo>
                      <a:pt x="390" y="187"/>
                    </a:lnTo>
                    <a:lnTo>
                      <a:pt x="390" y="1069"/>
                    </a:lnTo>
                    <a:lnTo>
                      <a:pt x="0" y="805"/>
                    </a:lnTo>
                    <a:lnTo>
                      <a:pt x="4" y="84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42000" y="357120"/>
                <a:ext cx="38401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Reprocessing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140360" y="-3016080"/>
              <a:ext cx="433080" cy="10285200"/>
            </a:xfrm>
            <a:custGeom>
              <a:avLst/>
              <a:gdLst>
                <a:gd name="textAreaLeft" fmla="*/ 20880 w 433080"/>
                <a:gd name="textAreaRight" fmla="*/ 412200 w 433080"/>
                <a:gd name="textAreaTop" fmla="*/ 20880 h 10285200"/>
                <a:gd name="textAreaBottom" fmla="*/ 10264320 h 10285200"/>
              </a:gdLst>
              <a:ahLst/>
              <a:rect l="textAreaLeft" t="textAreaTop" r="textAreaRight" b="textAreaBottom"/>
              <a:pathLst>
                <a:path w="21600" h="512569">
                  <a:moveTo>
                    <a:pt x="3600" y="0"/>
                  </a:moveTo>
                  <a:arcTo wR="3600" hR="3600" stAng="16200000" swAng="-5400000"/>
                  <a:lnTo>
                    <a:pt x="0" y="508969"/>
                  </a:lnTo>
                  <a:arcTo wR="3600" hR="3600" stAng="10800000" swAng="-5400000"/>
                  <a:lnTo>
                    <a:pt x="18000" y="512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03720" y="-2741760"/>
              <a:ext cx="290520" cy="989496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9894960"/>
                <a:gd name="textAreaBottom" fmla="*/ 9880920 h 9894960"/>
              </a:gdLst>
              <a:ahLst/>
              <a:rect l="textAreaLeft" t="textAreaTop" r="textAreaRight" b="textAreaBottom"/>
              <a:pathLst>
                <a:path w="21600" h="734801">
                  <a:moveTo>
                    <a:pt x="3600" y="0"/>
                  </a:moveTo>
                  <a:arcTo wR="3600" hR="3600" stAng="16200000" swAng="-5400000"/>
                  <a:lnTo>
                    <a:pt x="0" y="731201"/>
                  </a:lnTo>
                  <a:arcTo wR="3600" hR="3600" stAng="10800000" swAng="-5400000"/>
                  <a:lnTo>
                    <a:pt x="18000" y="73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456080" y="-3022560"/>
            <a:ext cx="433440" cy="102916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291680"/>
              <a:gd name="textAreaBottom" fmla="*/ 10270800 h 10291680"/>
            </a:gdLst>
            <a:ahLst/>
            <a:rect l="textAreaLeft" t="textAreaTop" r="textAreaRight" b="textAreaBottom"/>
            <a:pathLst>
              <a:path w="21600" h="512467">
                <a:moveTo>
                  <a:pt x="3600" y="0"/>
                </a:moveTo>
                <a:arcTo wR="3600" hR="3600" stAng="16200000" swAng="-5400000"/>
                <a:lnTo>
                  <a:pt x="0" y="508867"/>
                </a:lnTo>
                <a:arcTo wR="3600" hR="3600" stAng="10800000" swAng="-5400000"/>
                <a:lnTo>
                  <a:pt x="18000" y="512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9440" y="-2747880"/>
            <a:ext cx="290520" cy="990108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9901080"/>
              <a:gd name="textAreaBottom" fmla="*/ 9887040 h 9901080"/>
            </a:gdLst>
            <a:ahLst/>
            <a:rect l="textAreaLeft" t="textAreaTop" r="textAreaRight" b="textAreaBottom"/>
            <a:pathLst>
              <a:path w="21600" h="735255">
                <a:moveTo>
                  <a:pt x="3600" y="0"/>
                </a:moveTo>
                <a:arcTo wR="3600" hR="3600" stAng="16200000" swAng="-5400000"/>
                <a:lnTo>
                  <a:pt x="0" y="731655"/>
                </a:lnTo>
                <a:arcTo wR="3600" hR="3600" stAng="10800000" swAng="-5400000"/>
                <a:lnTo>
                  <a:pt x="18000" y="7352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2040" y="5932440"/>
            <a:ext cx="4108320" cy="992160"/>
          </a:xfrm>
          <a:custGeom>
            <a:avLst/>
            <a:gdLst/>
            <a:ahLst/>
            <a:rect l="l" t="t" r="r" b="b"/>
            <a:pathLst>
              <a:path w="2588" h="625">
                <a:moveTo>
                  <a:pt x="0" y="606"/>
                </a:moveTo>
                <a:lnTo>
                  <a:pt x="745" y="12"/>
                </a:lnTo>
                <a:lnTo>
                  <a:pt x="2588" y="0"/>
                </a:lnTo>
                <a:lnTo>
                  <a:pt x="2588" y="625"/>
                </a:lnTo>
                <a:lnTo>
                  <a:pt x="0" y="6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985360" y="-2651040"/>
            <a:ext cx="4218120" cy="9509040"/>
            <a:chOff x="5985360" y="-2651040"/>
            <a:chExt cx="4218120" cy="9509040"/>
          </a:xfrm>
        </p:grpSpPr>
        <p:sp>
          <p:nvSpPr>
            <p:cNvPr id="258" name=""/>
            <p:cNvSpPr/>
            <p:nvPr/>
          </p:nvSpPr>
          <p:spPr>
            <a:xfrm flipH="1">
              <a:off x="8534880" y="1712880"/>
              <a:ext cx="753840" cy="5145120"/>
            </a:xfrm>
            <a:prstGeom prst="can">
              <a:avLst>
                <a:gd name="adj" fmla="val 3518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985360" y="-2651040"/>
              <a:ext cx="4218120" cy="4631400"/>
              <a:chOff x="5985360" y="-2651040"/>
              <a:chExt cx="4218120" cy="4631400"/>
            </a:xfrm>
          </p:grpSpPr>
          <p:sp>
            <p:nvSpPr>
              <p:cNvPr id="260" name=""/>
              <p:cNvSpPr/>
              <p:nvPr/>
            </p:nvSpPr>
            <p:spPr>
              <a:xfrm flipH="1" rot="11700000">
                <a:off x="6170760" y="-2396880"/>
                <a:ext cx="1727280" cy="322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17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3888000">
                <a:off x="7332120" y="-1104120"/>
                <a:ext cx="2185920" cy="385560"/>
              </a:xfrm>
              <a:prstGeom prst="rect">
                <a:avLst/>
              </a:prstGeom>
              <a:gradFill rotWithShape="0">
                <a:gsLst>
                  <a:gs pos="0">
                    <a:srgbClr val="4d4d4d"/>
                  </a:gs>
                  <a:gs pos="50000">
                    <a:srgbClr val="808080"/>
                  </a:gs>
                  <a:gs pos="100000">
                    <a:srgbClr val="4d4d4d"/>
                  </a:gs>
                </a:gsLst>
                <a:lin ang="928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705000">
                <a:off x="7804800" y="-117000"/>
                <a:ext cx="94752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895000">
                <a:off x="9059400" y="-117000"/>
                <a:ext cx="947520" cy="202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8534880" y="-303120"/>
                <a:ext cx="753840" cy="7538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8717760" y="-117360"/>
                <a:ext cx="385200" cy="385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639200" y="-2255760"/>
                <a:ext cx="571320" cy="5713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765200" y="-2101680"/>
                <a:ext cx="291600" cy="291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985000" y="-2651040"/>
                <a:ext cx="379080" cy="3794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6073920" y="-2557440"/>
                <a:ext cx="193320" cy="1936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a6a6a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4791240" y="1560600"/>
            <a:ext cx="4147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ghly radioactive residue can then be packaged into new ceramic pellets and re-used in new fuel r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path" presetID="35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-4.16185E-006 L -0.49739 -4.16185E-006 E">
                                      <p:cBhvr>
                                        <p:cTn id="3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4.62428E-006 L -0.50747 4.62428E-006 E">
                                      <p:cBhvr>
                                        <p:cTn id="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66667E-006 1.32948E-006 L -0.525 1.32948E-006 E">
                                      <p:cBhvr>
                                        <p:cTn id="3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-9360" y="0"/>
            <a:ext cx="9920160" cy="692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6320" y="4962600"/>
            <a:ext cx="357480" cy="42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79480" y="11160"/>
            <a:ext cx="16700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107680" y="5789520"/>
            <a:ext cx="1143000" cy="1095480"/>
          </a:xfrm>
          <a:custGeom>
            <a:avLst/>
            <a:gdLst/>
            <a:ahLst/>
            <a:rect l="l" t="t" r="r" b="b"/>
            <a:pathLst>
              <a:path w="720" h="690">
                <a:moveTo>
                  <a:pt x="720" y="690"/>
                </a:moveTo>
                <a:lnTo>
                  <a:pt x="0" y="108"/>
                </a:lnTo>
                <a:lnTo>
                  <a:pt x="48" y="0"/>
                </a:lnTo>
                <a:lnTo>
                  <a:pt x="708" y="436"/>
                </a:lnTo>
                <a:lnTo>
                  <a:pt x="720" y="69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68880" y="4579920"/>
            <a:ext cx="44640" cy="1344600"/>
          </a:xfrm>
          <a:custGeom>
            <a:avLst/>
            <a:gdLst/>
            <a:ahLst/>
            <a:rect l="l" t="t" r="r" b="b"/>
            <a:pathLst>
              <a:path w="28" h="847">
                <a:moveTo>
                  <a:pt x="0" y="808"/>
                </a:moveTo>
                <a:lnTo>
                  <a:pt x="4" y="0"/>
                </a:lnTo>
                <a:lnTo>
                  <a:pt x="28" y="25"/>
                </a:lnTo>
                <a:lnTo>
                  <a:pt x="24" y="847"/>
                </a:lnTo>
                <a:lnTo>
                  <a:pt x="0" y="80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107040" y="3967200"/>
            <a:ext cx="192240" cy="2200320"/>
          </a:xfrm>
          <a:custGeom>
            <a:avLst/>
            <a:gdLst/>
            <a:ahLst/>
            <a:rect l="l" t="t" r="r" b="b"/>
            <a:pathLst>
              <a:path w="60" h="1386">
                <a:moveTo>
                  <a:pt x="0" y="1332"/>
                </a:moveTo>
                <a:lnTo>
                  <a:pt x="0" y="0"/>
                </a:lnTo>
                <a:lnTo>
                  <a:pt x="60" y="0"/>
                </a:lnTo>
                <a:lnTo>
                  <a:pt x="60" y="1386"/>
                </a:lnTo>
                <a:lnTo>
                  <a:pt x="0" y="1332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7760" y="4962600"/>
            <a:ext cx="358560" cy="42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3800" y="5386320"/>
            <a:ext cx="358560" cy="42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7760" y="5386320"/>
            <a:ext cx="358560" cy="42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654120" y="12600"/>
            <a:ext cx="8082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4080" y="12600"/>
            <a:ext cx="5108400" cy="4849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35120" y="4818240"/>
            <a:ext cx="2727360" cy="205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4080" y="6526080"/>
            <a:ext cx="3379680" cy="34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4080" y="4824360"/>
            <a:ext cx="2381040" cy="172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4080" y="1560600"/>
            <a:ext cx="4147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tonium and uranium can also be separated, and the plutonium used to make nuclear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3680" y="369720"/>
            <a:ext cx="384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069880" y="-104760"/>
            <a:ext cx="1228680" cy="4602240"/>
          </a:xfrm>
          <a:custGeom>
            <a:avLst/>
            <a:gdLst/>
            <a:ahLst/>
            <a:rect l="l" t="t" r="r" b="b"/>
            <a:pathLst>
              <a:path w="662" h="2862">
                <a:moveTo>
                  <a:pt x="660" y="2765"/>
                </a:moveTo>
                <a:lnTo>
                  <a:pt x="6" y="2862"/>
                </a:lnTo>
                <a:lnTo>
                  <a:pt x="0" y="0"/>
                </a:lnTo>
                <a:lnTo>
                  <a:pt x="662" y="30"/>
                </a:lnTo>
                <a:lnTo>
                  <a:pt x="660" y="2765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70600" y="5932440"/>
            <a:ext cx="4108320" cy="992160"/>
          </a:xfrm>
          <a:custGeom>
            <a:avLst/>
            <a:gdLst/>
            <a:ahLst/>
            <a:rect l="l" t="t" r="r" b="b"/>
            <a:pathLst>
              <a:path w="2588" h="625">
                <a:moveTo>
                  <a:pt x="0" y="606"/>
                </a:moveTo>
                <a:lnTo>
                  <a:pt x="745" y="12"/>
                </a:lnTo>
                <a:lnTo>
                  <a:pt x="2588" y="0"/>
                </a:lnTo>
                <a:lnTo>
                  <a:pt x="2588" y="625"/>
                </a:lnTo>
                <a:lnTo>
                  <a:pt x="0" y="6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069880" y="3875040"/>
            <a:ext cx="344520" cy="3009960"/>
          </a:xfrm>
          <a:custGeom>
            <a:avLst/>
            <a:gdLst/>
            <a:ahLst/>
            <a:rect l="l" t="t" r="r" b="b"/>
            <a:pathLst>
              <a:path w="180" h="1896">
                <a:moveTo>
                  <a:pt x="174" y="1896"/>
                </a:moveTo>
                <a:lnTo>
                  <a:pt x="0" y="1734"/>
                </a:lnTo>
                <a:lnTo>
                  <a:pt x="0" y="0"/>
                </a:lnTo>
                <a:lnTo>
                  <a:pt x="180" y="0"/>
                </a:lnTo>
                <a:lnTo>
                  <a:pt x="174" y="189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97600" y="2840040"/>
            <a:ext cx="1189080" cy="2052720"/>
          </a:xfrm>
          <a:custGeom>
            <a:avLst/>
            <a:gdLst/>
            <a:ahLst/>
            <a:rect l="l" t="t" r="r" b="b"/>
            <a:pathLst>
              <a:path w="749" h="1293">
                <a:moveTo>
                  <a:pt x="749" y="1044"/>
                </a:moveTo>
                <a:lnTo>
                  <a:pt x="0" y="1293"/>
                </a:lnTo>
                <a:lnTo>
                  <a:pt x="8" y="0"/>
                </a:lnTo>
                <a:lnTo>
                  <a:pt x="749" y="104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15120" y="4543560"/>
            <a:ext cx="698400" cy="1844640"/>
          </a:xfrm>
          <a:custGeom>
            <a:avLst/>
            <a:gdLst/>
            <a:ahLst/>
            <a:rect l="l" t="t" r="r" b="b"/>
            <a:pathLst>
              <a:path w="440" h="1162">
                <a:moveTo>
                  <a:pt x="4" y="847"/>
                </a:moveTo>
                <a:lnTo>
                  <a:pt x="440" y="1162"/>
                </a:lnTo>
                <a:lnTo>
                  <a:pt x="440" y="146"/>
                </a:lnTo>
                <a:lnTo>
                  <a:pt x="4" y="0"/>
                </a:lnTo>
                <a:lnTo>
                  <a:pt x="12" y="53"/>
                </a:lnTo>
                <a:lnTo>
                  <a:pt x="390" y="187"/>
                </a:lnTo>
                <a:lnTo>
                  <a:pt x="390" y="1069"/>
                </a:lnTo>
                <a:lnTo>
                  <a:pt x="0" y="805"/>
                </a:lnTo>
                <a:lnTo>
                  <a:pt x="4" y="8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234200" y="-27000"/>
            <a:ext cx="233064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56080" y="-3022560"/>
            <a:ext cx="433440" cy="1029168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291680"/>
              <a:gd name="textAreaBottom" fmla="*/ 10270800 h 10291680"/>
            </a:gdLst>
            <a:ahLst/>
            <a:rect l="textAreaLeft" t="textAreaTop" r="textAreaRight" b="textAreaBottom"/>
            <a:pathLst>
              <a:path w="21600" h="512467">
                <a:moveTo>
                  <a:pt x="3600" y="0"/>
                </a:moveTo>
                <a:arcTo wR="3600" hR="3600" stAng="16200000" swAng="-5400000"/>
                <a:lnTo>
                  <a:pt x="0" y="508867"/>
                </a:lnTo>
                <a:arcTo wR="3600" hR="3600" stAng="10800000" swAng="-5400000"/>
                <a:lnTo>
                  <a:pt x="18000" y="512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19440" y="-2747880"/>
            <a:ext cx="290520" cy="990108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9901080"/>
              <a:gd name="textAreaBottom" fmla="*/ 9887040 h 9901080"/>
            </a:gdLst>
            <a:ahLst/>
            <a:rect l="textAreaLeft" t="textAreaTop" r="textAreaRight" b="textAreaBottom"/>
            <a:pathLst>
              <a:path w="21600" h="735255">
                <a:moveTo>
                  <a:pt x="3600" y="0"/>
                </a:moveTo>
                <a:arcTo wR="3600" hR="3600" stAng="16200000" swAng="-5400000"/>
                <a:lnTo>
                  <a:pt x="0" y="731655"/>
                </a:lnTo>
                <a:arcTo wR="3600" hR="3600" stAng="10800000" swAng="-5400000"/>
                <a:lnTo>
                  <a:pt x="18000" y="7352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45680" y="1992600"/>
            <a:ext cx="5494320" cy="5493600"/>
            <a:chOff x="4945680" y="1992600"/>
            <a:chExt cx="5494320" cy="5493600"/>
          </a:xfrm>
        </p:grpSpPr>
        <p:sp>
          <p:nvSpPr>
            <p:cNvPr id="296" name=""/>
            <p:cNvSpPr/>
            <p:nvPr/>
          </p:nvSpPr>
          <p:spPr>
            <a:xfrm flipH="1" rot="2800800">
              <a:off x="6183720" y="2998440"/>
              <a:ext cx="3500640" cy="2949480"/>
            </a:xfrm>
            <a:custGeom>
              <a:avLst/>
              <a:gdLst/>
              <a:ahLst/>
              <a:rect l="l" t="t" r="r" b="b"/>
              <a:pathLst>
                <a:path w="1401" h="1181">
                  <a:moveTo>
                    <a:pt x="20" y="983"/>
                  </a:moveTo>
                  <a:lnTo>
                    <a:pt x="269" y="774"/>
                  </a:lnTo>
                  <a:lnTo>
                    <a:pt x="348" y="764"/>
                  </a:lnTo>
                  <a:lnTo>
                    <a:pt x="517" y="456"/>
                  </a:lnTo>
                  <a:lnTo>
                    <a:pt x="864" y="158"/>
                  </a:lnTo>
                  <a:lnTo>
                    <a:pt x="1321" y="0"/>
                  </a:lnTo>
                  <a:lnTo>
                    <a:pt x="1391" y="9"/>
                  </a:lnTo>
                  <a:lnTo>
                    <a:pt x="1401" y="208"/>
                  </a:lnTo>
                  <a:lnTo>
                    <a:pt x="1172" y="605"/>
                  </a:lnTo>
                  <a:lnTo>
                    <a:pt x="606" y="1022"/>
                  </a:lnTo>
                  <a:lnTo>
                    <a:pt x="259" y="1181"/>
                  </a:lnTo>
                  <a:lnTo>
                    <a:pt x="179" y="1171"/>
                  </a:lnTo>
                  <a:lnTo>
                    <a:pt x="179" y="1052"/>
                  </a:lnTo>
                  <a:lnTo>
                    <a:pt x="0" y="1052"/>
                  </a:lnTo>
                  <a:lnTo>
                    <a:pt x="20" y="98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2800800">
              <a:off x="5753880" y="2791800"/>
              <a:ext cx="3877920" cy="3895200"/>
            </a:xfrm>
            <a:custGeom>
              <a:avLst/>
              <a:gdLst/>
              <a:ahLst/>
              <a:rect l="l" t="t" r="r" b="b"/>
              <a:pathLst>
                <a:path w="1552" h="1560">
                  <a:moveTo>
                    <a:pt x="1552" y="49"/>
                  </a:moveTo>
                  <a:lnTo>
                    <a:pt x="1551" y="39"/>
                  </a:lnTo>
                  <a:lnTo>
                    <a:pt x="1547" y="29"/>
                  </a:lnTo>
                  <a:lnTo>
                    <a:pt x="1542" y="21"/>
                  </a:lnTo>
                  <a:lnTo>
                    <a:pt x="1538" y="15"/>
                  </a:lnTo>
                  <a:lnTo>
                    <a:pt x="1530" y="8"/>
                  </a:lnTo>
                  <a:lnTo>
                    <a:pt x="1522" y="3"/>
                  </a:lnTo>
                  <a:lnTo>
                    <a:pt x="1513" y="2"/>
                  </a:lnTo>
                  <a:lnTo>
                    <a:pt x="1504" y="0"/>
                  </a:lnTo>
                  <a:lnTo>
                    <a:pt x="1451" y="2"/>
                  </a:lnTo>
                  <a:lnTo>
                    <a:pt x="1397" y="7"/>
                  </a:lnTo>
                  <a:lnTo>
                    <a:pt x="1344" y="15"/>
                  </a:lnTo>
                  <a:lnTo>
                    <a:pt x="1289" y="26"/>
                  </a:lnTo>
                  <a:lnTo>
                    <a:pt x="1234" y="42"/>
                  </a:lnTo>
                  <a:lnTo>
                    <a:pt x="1178" y="60"/>
                  </a:lnTo>
                  <a:lnTo>
                    <a:pt x="1123" y="82"/>
                  </a:lnTo>
                  <a:lnTo>
                    <a:pt x="1068" y="107"/>
                  </a:lnTo>
                  <a:lnTo>
                    <a:pt x="1013" y="136"/>
                  </a:lnTo>
                  <a:lnTo>
                    <a:pt x="957" y="166"/>
                  </a:lnTo>
                  <a:lnTo>
                    <a:pt x="904" y="200"/>
                  </a:lnTo>
                  <a:lnTo>
                    <a:pt x="849" y="237"/>
                  </a:lnTo>
                  <a:lnTo>
                    <a:pt x="797" y="277"/>
                  </a:lnTo>
                  <a:lnTo>
                    <a:pt x="744" y="319"/>
                  </a:lnTo>
                  <a:lnTo>
                    <a:pt x="694" y="364"/>
                  </a:lnTo>
                  <a:lnTo>
                    <a:pt x="644" y="411"/>
                  </a:lnTo>
                  <a:lnTo>
                    <a:pt x="620" y="435"/>
                  </a:lnTo>
                  <a:lnTo>
                    <a:pt x="597" y="460"/>
                  </a:lnTo>
                  <a:lnTo>
                    <a:pt x="575" y="485"/>
                  </a:lnTo>
                  <a:lnTo>
                    <a:pt x="554" y="509"/>
                  </a:lnTo>
                  <a:lnTo>
                    <a:pt x="531" y="535"/>
                  </a:lnTo>
                  <a:lnTo>
                    <a:pt x="512" y="561"/>
                  </a:lnTo>
                  <a:lnTo>
                    <a:pt x="491" y="588"/>
                  </a:lnTo>
                  <a:lnTo>
                    <a:pt x="471" y="614"/>
                  </a:lnTo>
                  <a:lnTo>
                    <a:pt x="596" y="614"/>
                  </a:lnTo>
                  <a:lnTo>
                    <a:pt x="608" y="596"/>
                  </a:lnTo>
                  <a:lnTo>
                    <a:pt x="623" y="580"/>
                  </a:lnTo>
                  <a:lnTo>
                    <a:pt x="637" y="563"/>
                  </a:lnTo>
                  <a:lnTo>
                    <a:pt x="652" y="547"/>
                  </a:lnTo>
                  <a:lnTo>
                    <a:pt x="666" y="530"/>
                  </a:lnTo>
                  <a:lnTo>
                    <a:pt x="683" y="514"/>
                  </a:lnTo>
                  <a:lnTo>
                    <a:pt x="697" y="498"/>
                  </a:lnTo>
                  <a:lnTo>
                    <a:pt x="713" y="482"/>
                  </a:lnTo>
                  <a:lnTo>
                    <a:pt x="757" y="440"/>
                  </a:lnTo>
                  <a:lnTo>
                    <a:pt x="800" y="401"/>
                  </a:lnTo>
                  <a:lnTo>
                    <a:pt x="846" y="364"/>
                  </a:lnTo>
                  <a:lnTo>
                    <a:pt x="891" y="329"/>
                  </a:lnTo>
                  <a:lnTo>
                    <a:pt x="938" y="295"/>
                  </a:lnTo>
                  <a:lnTo>
                    <a:pt x="984" y="265"/>
                  </a:lnTo>
                  <a:lnTo>
                    <a:pt x="1031" y="237"/>
                  </a:lnTo>
                  <a:lnTo>
                    <a:pt x="1078" y="211"/>
                  </a:lnTo>
                  <a:lnTo>
                    <a:pt x="1125" y="189"/>
                  </a:lnTo>
                  <a:lnTo>
                    <a:pt x="1173" y="168"/>
                  </a:lnTo>
                  <a:lnTo>
                    <a:pt x="1220" y="150"/>
                  </a:lnTo>
                  <a:lnTo>
                    <a:pt x="1267" y="134"/>
                  </a:lnTo>
                  <a:lnTo>
                    <a:pt x="1313" y="121"/>
                  </a:lnTo>
                  <a:lnTo>
                    <a:pt x="1360" y="111"/>
                  </a:lnTo>
                  <a:lnTo>
                    <a:pt x="1407" y="105"/>
                  </a:lnTo>
                  <a:lnTo>
                    <a:pt x="1452" y="100"/>
                  </a:lnTo>
                  <a:lnTo>
                    <a:pt x="1451" y="118"/>
                  </a:lnTo>
                  <a:lnTo>
                    <a:pt x="1444" y="139"/>
                  </a:lnTo>
                  <a:lnTo>
                    <a:pt x="1438" y="165"/>
                  </a:lnTo>
                  <a:lnTo>
                    <a:pt x="1426" y="195"/>
                  </a:lnTo>
                  <a:lnTo>
                    <a:pt x="1413" y="227"/>
                  </a:lnTo>
                  <a:lnTo>
                    <a:pt x="1399" y="263"/>
                  </a:lnTo>
                  <a:lnTo>
                    <a:pt x="1381" y="300"/>
                  </a:lnTo>
                  <a:lnTo>
                    <a:pt x="1362" y="339"/>
                  </a:lnTo>
                  <a:lnTo>
                    <a:pt x="1341" y="377"/>
                  </a:lnTo>
                  <a:lnTo>
                    <a:pt x="1317" y="418"/>
                  </a:lnTo>
                  <a:lnTo>
                    <a:pt x="1292" y="460"/>
                  </a:lnTo>
                  <a:lnTo>
                    <a:pt x="1265" y="498"/>
                  </a:lnTo>
                  <a:lnTo>
                    <a:pt x="1236" y="538"/>
                  </a:lnTo>
                  <a:lnTo>
                    <a:pt x="1205" y="576"/>
                  </a:lnTo>
                  <a:lnTo>
                    <a:pt x="1175" y="611"/>
                  </a:lnTo>
                  <a:lnTo>
                    <a:pt x="1141" y="645"/>
                  </a:lnTo>
                  <a:lnTo>
                    <a:pt x="1086" y="695"/>
                  </a:lnTo>
                  <a:lnTo>
                    <a:pt x="1031" y="743"/>
                  </a:lnTo>
                  <a:lnTo>
                    <a:pt x="976" y="790"/>
                  </a:lnTo>
                  <a:lnTo>
                    <a:pt x="921" y="833"/>
                  </a:lnTo>
                  <a:lnTo>
                    <a:pt x="868" y="875"/>
                  </a:lnTo>
                  <a:lnTo>
                    <a:pt x="815" y="914"/>
                  </a:lnTo>
                  <a:lnTo>
                    <a:pt x="762" y="951"/>
                  </a:lnTo>
                  <a:lnTo>
                    <a:pt x="710" y="985"/>
                  </a:lnTo>
                  <a:lnTo>
                    <a:pt x="658" y="1015"/>
                  </a:lnTo>
                  <a:lnTo>
                    <a:pt x="610" y="1044"/>
                  </a:lnTo>
                  <a:lnTo>
                    <a:pt x="562" y="1069"/>
                  </a:lnTo>
                  <a:lnTo>
                    <a:pt x="513" y="1091"/>
                  </a:lnTo>
                  <a:lnTo>
                    <a:pt x="468" y="1109"/>
                  </a:lnTo>
                  <a:lnTo>
                    <a:pt x="425" y="1123"/>
                  </a:lnTo>
                  <a:lnTo>
                    <a:pt x="383" y="1135"/>
                  </a:lnTo>
                  <a:lnTo>
                    <a:pt x="342" y="1143"/>
                  </a:lnTo>
                  <a:lnTo>
                    <a:pt x="344" y="1136"/>
                  </a:lnTo>
                  <a:lnTo>
                    <a:pt x="345" y="1128"/>
                  </a:lnTo>
                  <a:lnTo>
                    <a:pt x="345" y="1122"/>
                  </a:lnTo>
                  <a:lnTo>
                    <a:pt x="347" y="1115"/>
                  </a:lnTo>
                  <a:lnTo>
                    <a:pt x="349" y="1106"/>
                  </a:lnTo>
                  <a:lnTo>
                    <a:pt x="347" y="1094"/>
                  </a:lnTo>
                  <a:lnTo>
                    <a:pt x="342" y="1085"/>
                  </a:lnTo>
                  <a:lnTo>
                    <a:pt x="337" y="1075"/>
                  </a:lnTo>
                  <a:lnTo>
                    <a:pt x="329" y="1067"/>
                  </a:lnTo>
                  <a:lnTo>
                    <a:pt x="321" y="1062"/>
                  </a:lnTo>
                  <a:lnTo>
                    <a:pt x="312" y="1059"/>
                  </a:lnTo>
                  <a:lnTo>
                    <a:pt x="300" y="1057"/>
                  </a:lnTo>
                  <a:lnTo>
                    <a:pt x="166" y="1054"/>
                  </a:lnTo>
                  <a:lnTo>
                    <a:pt x="368" y="853"/>
                  </a:lnTo>
                  <a:lnTo>
                    <a:pt x="399" y="858"/>
                  </a:lnTo>
                  <a:lnTo>
                    <a:pt x="407" y="858"/>
                  </a:lnTo>
                  <a:lnTo>
                    <a:pt x="415" y="858"/>
                  </a:lnTo>
                  <a:lnTo>
                    <a:pt x="421" y="856"/>
                  </a:lnTo>
                  <a:lnTo>
                    <a:pt x="429" y="853"/>
                  </a:lnTo>
                  <a:lnTo>
                    <a:pt x="436" y="849"/>
                  </a:lnTo>
                  <a:lnTo>
                    <a:pt x="441" y="845"/>
                  </a:lnTo>
                  <a:lnTo>
                    <a:pt x="445" y="840"/>
                  </a:lnTo>
                  <a:lnTo>
                    <a:pt x="450" y="833"/>
                  </a:lnTo>
                  <a:lnTo>
                    <a:pt x="465" y="806"/>
                  </a:lnTo>
                  <a:lnTo>
                    <a:pt x="481" y="779"/>
                  </a:lnTo>
                  <a:lnTo>
                    <a:pt x="499" y="750"/>
                  </a:lnTo>
                  <a:lnTo>
                    <a:pt x="516" y="722"/>
                  </a:lnTo>
                  <a:lnTo>
                    <a:pt x="536" y="693"/>
                  </a:lnTo>
                  <a:lnTo>
                    <a:pt x="555" y="666"/>
                  </a:lnTo>
                  <a:lnTo>
                    <a:pt x="576" y="640"/>
                  </a:lnTo>
                  <a:lnTo>
                    <a:pt x="596" y="614"/>
                  </a:lnTo>
                  <a:lnTo>
                    <a:pt x="471" y="614"/>
                  </a:lnTo>
                  <a:lnTo>
                    <a:pt x="460" y="630"/>
                  </a:lnTo>
                  <a:lnTo>
                    <a:pt x="449" y="648"/>
                  </a:lnTo>
                  <a:lnTo>
                    <a:pt x="436" y="666"/>
                  </a:lnTo>
                  <a:lnTo>
                    <a:pt x="425" y="685"/>
                  </a:lnTo>
                  <a:lnTo>
                    <a:pt x="412" y="703"/>
                  </a:lnTo>
                  <a:lnTo>
                    <a:pt x="400" y="722"/>
                  </a:lnTo>
                  <a:lnTo>
                    <a:pt x="389" y="740"/>
                  </a:lnTo>
                  <a:lnTo>
                    <a:pt x="379" y="756"/>
                  </a:lnTo>
                  <a:lnTo>
                    <a:pt x="358" y="753"/>
                  </a:lnTo>
                  <a:lnTo>
                    <a:pt x="347" y="753"/>
                  </a:lnTo>
                  <a:lnTo>
                    <a:pt x="336" y="754"/>
                  </a:lnTo>
                  <a:lnTo>
                    <a:pt x="324" y="759"/>
                  </a:lnTo>
                  <a:lnTo>
                    <a:pt x="316" y="767"/>
                  </a:lnTo>
                  <a:lnTo>
                    <a:pt x="15" y="1065"/>
                  </a:lnTo>
                  <a:lnTo>
                    <a:pt x="7" y="1077"/>
                  </a:lnTo>
                  <a:lnTo>
                    <a:pt x="2" y="1091"/>
                  </a:lnTo>
                  <a:lnTo>
                    <a:pt x="0" y="1104"/>
                  </a:lnTo>
                  <a:lnTo>
                    <a:pt x="3" y="1119"/>
                  </a:lnTo>
                  <a:lnTo>
                    <a:pt x="12" y="1132"/>
                  </a:lnTo>
                  <a:lnTo>
                    <a:pt x="21" y="1141"/>
                  </a:lnTo>
                  <a:lnTo>
                    <a:pt x="34" y="1148"/>
                  </a:lnTo>
                  <a:lnTo>
                    <a:pt x="49" y="1149"/>
                  </a:lnTo>
                  <a:lnTo>
                    <a:pt x="241" y="1154"/>
                  </a:lnTo>
                  <a:lnTo>
                    <a:pt x="237" y="1185"/>
                  </a:lnTo>
                  <a:lnTo>
                    <a:pt x="236" y="1214"/>
                  </a:lnTo>
                  <a:lnTo>
                    <a:pt x="234" y="1243"/>
                  </a:lnTo>
                  <a:lnTo>
                    <a:pt x="234" y="1270"/>
                  </a:lnTo>
                  <a:lnTo>
                    <a:pt x="236" y="1280"/>
                  </a:lnTo>
                  <a:lnTo>
                    <a:pt x="237" y="1289"/>
                  </a:lnTo>
                  <a:lnTo>
                    <a:pt x="242" y="1297"/>
                  </a:lnTo>
                  <a:lnTo>
                    <a:pt x="249" y="1304"/>
                  </a:lnTo>
                  <a:lnTo>
                    <a:pt x="255" y="1310"/>
                  </a:lnTo>
                  <a:lnTo>
                    <a:pt x="263" y="1315"/>
                  </a:lnTo>
                  <a:lnTo>
                    <a:pt x="273" y="1317"/>
                  </a:lnTo>
                  <a:lnTo>
                    <a:pt x="283" y="1318"/>
                  </a:lnTo>
                  <a:lnTo>
                    <a:pt x="297" y="1318"/>
                  </a:lnTo>
                  <a:lnTo>
                    <a:pt x="312" y="1318"/>
                  </a:lnTo>
                  <a:lnTo>
                    <a:pt x="328" y="1317"/>
                  </a:lnTo>
                  <a:lnTo>
                    <a:pt x="342" y="1315"/>
                  </a:lnTo>
                  <a:lnTo>
                    <a:pt x="358" y="1315"/>
                  </a:lnTo>
                  <a:lnTo>
                    <a:pt x="374" y="1314"/>
                  </a:lnTo>
                  <a:lnTo>
                    <a:pt x="391" y="1310"/>
                  </a:lnTo>
                  <a:lnTo>
                    <a:pt x="407" y="1309"/>
                  </a:lnTo>
                  <a:lnTo>
                    <a:pt x="412" y="1512"/>
                  </a:lnTo>
                  <a:lnTo>
                    <a:pt x="413" y="1526"/>
                  </a:lnTo>
                  <a:lnTo>
                    <a:pt x="420" y="1539"/>
                  </a:lnTo>
                  <a:lnTo>
                    <a:pt x="429" y="1550"/>
                  </a:lnTo>
                  <a:lnTo>
                    <a:pt x="442" y="1557"/>
                  </a:lnTo>
                  <a:lnTo>
                    <a:pt x="450" y="1560"/>
                  </a:lnTo>
                  <a:lnTo>
                    <a:pt x="457" y="1560"/>
                  </a:lnTo>
                  <a:lnTo>
                    <a:pt x="465" y="1560"/>
                  </a:lnTo>
                  <a:lnTo>
                    <a:pt x="471" y="1560"/>
                  </a:lnTo>
                  <a:lnTo>
                    <a:pt x="478" y="1557"/>
                  </a:lnTo>
                  <a:lnTo>
                    <a:pt x="484" y="1555"/>
                  </a:lnTo>
                  <a:lnTo>
                    <a:pt x="491" y="1550"/>
                  </a:lnTo>
                  <a:lnTo>
                    <a:pt x="495" y="1546"/>
                  </a:lnTo>
                  <a:lnTo>
                    <a:pt x="797" y="1246"/>
                  </a:lnTo>
                  <a:lnTo>
                    <a:pt x="804" y="1236"/>
                  </a:lnTo>
                  <a:lnTo>
                    <a:pt x="808" y="1227"/>
                  </a:lnTo>
                  <a:lnTo>
                    <a:pt x="810" y="1215"/>
                  </a:lnTo>
                  <a:lnTo>
                    <a:pt x="810" y="1204"/>
                  </a:lnTo>
                  <a:lnTo>
                    <a:pt x="805" y="1165"/>
                  </a:lnTo>
                  <a:lnTo>
                    <a:pt x="828" y="1152"/>
                  </a:lnTo>
                  <a:lnTo>
                    <a:pt x="850" y="1140"/>
                  </a:lnTo>
                  <a:lnTo>
                    <a:pt x="871" y="1125"/>
                  </a:lnTo>
                  <a:lnTo>
                    <a:pt x="894" y="1111"/>
                  </a:lnTo>
                  <a:lnTo>
                    <a:pt x="915" y="1096"/>
                  </a:lnTo>
                  <a:lnTo>
                    <a:pt x="936" y="1082"/>
                  </a:lnTo>
                  <a:lnTo>
                    <a:pt x="958" y="1065"/>
                  </a:lnTo>
                  <a:lnTo>
                    <a:pt x="979" y="1049"/>
                  </a:lnTo>
                  <a:lnTo>
                    <a:pt x="1000" y="1033"/>
                  </a:lnTo>
                  <a:lnTo>
                    <a:pt x="1021" y="1017"/>
                  </a:lnTo>
                  <a:lnTo>
                    <a:pt x="1041" y="999"/>
                  </a:lnTo>
                  <a:lnTo>
                    <a:pt x="1062" y="982"/>
                  </a:lnTo>
                  <a:lnTo>
                    <a:pt x="1081" y="964"/>
                  </a:lnTo>
                  <a:lnTo>
                    <a:pt x="1102" y="946"/>
                  </a:lnTo>
                  <a:lnTo>
                    <a:pt x="1121" y="927"/>
                  </a:lnTo>
                  <a:lnTo>
                    <a:pt x="1141" y="908"/>
                  </a:lnTo>
                  <a:lnTo>
                    <a:pt x="1189" y="858"/>
                  </a:lnTo>
                  <a:lnTo>
                    <a:pt x="1234" y="808"/>
                  </a:lnTo>
                  <a:lnTo>
                    <a:pt x="1276" y="756"/>
                  </a:lnTo>
                  <a:lnTo>
                    <a:pt x="1317" y="703"/>
                  </a:lnTo>
                  <a:lnTo>
                    <a:pt x="1354" y="650"/>
                  </a:lnTo>
                  <a:lnTo>
                    <a:pt x="1388" y="595"/>
                  </a:lnTo>
                  <a:lnTo>
                    <a:pt x="1418" y="540"/>
                  </a:lnTo>
                  <a:lnTo>
                    <a:pt x="1447" y="485"/>
                  </a:lnTo>
                  <a:lnTo>
                    <a:pt x="1471" y="429"/>
                  </a:lnTo>
                  <a:lnTo>
                    <a:pt x="1494" y="374"/>
                  </a:lnTo>
                  <a:lnTo>
                    <a:pt x="1512" y="318"/>
                  </a:lnTo>
                  <a:lnTo>
                    <a:pt x="1526" y="263"/>
                  </a:lnTo>
                  <a:lnTo>
                    <a:pt x="1539" y="208"/>
                  </a:lnTo>
                  <a:lnTo>
                    <a:pt x="1547" y="155"/>
                  </a:lnTo>
                  <a:lnTo>
                    <a:pt x="1551" y="102"/>
                  </a:lnTo>
                  <a:lnTo>
                    <a:pt x="155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510680" y="4078440"/>
              <a:ext cx="659880" cy="659880"/>
              <a:chOff x="7510680" y="4078440"/>
              <a:chExt cx="659880" cy="659880"/>
            </a:xfrm>
          </p:grpSpPr>
          <p:sp>
            <p:nvSpPr>
              <p:cNvPr id="299" name=""/>
              <p:cNvSpPr/>
              <p:nvPr/>
            </p:nvSpPr>
            <p:spPr>
              <a:xfrm flipH="1" rot="21545400">
                <a:off x="7515360" y="4083480"/>
                <a:ext cx="649440" cy="649440"/>
              </a:xfrm>
              <a:custGeom>
                <a:avLst/>
                <a:gdLst/>
                <a:ahLst/>
                <a:rect l="l" t="t" r="r" b="b"/>
                <a:pathLst>
                  <a:path w="2061" h="2061">
                    <a:moveTo>
                      <a:pt x="1032" y="2061"/>
                    </a:moveTo>
                    <a:lnTo>
                      <a:pt x="1085" y="2060"/>
                    </a:lnTo>
                    <a:lnTo>
                      <a:pt x="1137" y="2056"/>
                    </a:lnTo>
                    <a:lnTo>
                      <a:pt x="1188" y="2049"/>
                    </a:lnTo>
                    <a:lnTo>
                      <a:pt x="1239" y="2040"/>
                    </a:lnTo>
                    <a:lnTo>
                      <a:pt x="1288" y="2029"/>
                    </a:lnTo>
                    <a:lnTo>
                      <a:pt x="1337" y="2015"/>
                    </a:lnTo>
                    <a:lnTo>
                      <a:pt x="1385" y="1998"/>
                    </a:lnTo>
                    <a:lnTo>
                      <a:pt x="1432" y="1980"/>
                    </a:lnTo>
                    <a:lnTo>
                      <a:pt x="1478" y="1960"/>
                    </a:lnTo>
                    <a:lnTo>
                      <a:pt x="1522" y="1936"/>
                    </a:lnTo>
                    <a:lnTo>
                      <a:pt x="1565" y="1912"/>
                    </a:lnTo>
                    <a:lnTo>
                      <a:pt x="1607" y="1885"/>
                    </a:lnTo>
                    <a:lnTo>
                      <a:pt x="1648" y="1856"/>
                    </a:lnTo>
                    <a:lnTo>
                      <a:pt x="1686" y="1825"/>
                    </a:lnTo>
                    <a:lnTo>
                      <a:pt x="1723" y="1794"/>
                    </a:lnTo>
                    <a:lnTo>
                      <a:pt x="1759" y="1759"/>
                    </a:lnTo>
                    <a:lnTo>
                      <a:pt x="1794" y="1723"/>
                    </a:lnTo>
                    <a:lnTo>
                      <a:pt x="1825" y="1686"/>
                    </a:lnTo>
                    <a:lnTo>
                      <a:pt x="1856" y="1648"/>
                    </a:lnTo>
                    <a:lnTo>
                      <a:pt x="1885" y="1607"/>
                    </a:lnTo>
                    <a:lnTo>
                      <a:pt x="1912" y="1565"/>
                    </a:lnTo>
                    <a:lnTo>
                      <a:pt x="1936" y="1522"/>
                    </a:lnTo>
                    <a:lnTo>
                      <a:pt x="1960" y="1478"/>
                    </a:lnTo>
                    <a:lnTo>
                      <a:pt x="1980" y="1432"/>
                    </a:lnTo>
                    <a:lnTo>
                      <a:pt x="1998" y="1385"/>
                    </a:lnTo>
                    <a:lnTo>
                      <a:pt x="2015" y="1337"/>
                    </a:lnTo>
                    <a:lnTo>
                      <a:pt x="2029" y="1288"/>
                    </a:lnTo>
                    <a:lnTo>
                      <a:pt x="2040" y="1239"/>
                    </a:lnTo>
                    <a:lnTo>
                      <a:pt x="2049" y="1188"/>
                    </a:lnTo>
                    <a:lnTo>
                      <a:pt x="2056" y="1137"/>
                    </a:lnTo>
                    <a:lnTo>
                      <a:pt x="2060" y="1085"/>
                    </a:lnTo>
                    <a:lnTo>
                      <a:pt x="2061" y="1032"/>
                    </a:lnTo>
                    <a:lnTo>
                      <a:pt x="2060" y="978"/>
                    </a:lnTo>
                    <a:lnTo>
                      <a:pt x="2056" y="926"/>
                    </a:lnTo>
                    <a:lnTo>
                      <a:pt x="2049" y="874"/>
                    </a:lnTo>
                    <a:lnTo>
                      <a:pt x="2040" y="824"/>
                    </a:lnTo>
                    <a:lnTo>
                      <a:pt x="2029" y="774"/>
                    </a:lnTo>
                    <a:lnTo>
                      <a:pt x="2015" y="725"/>
                    </a:lnTo>
                    <a:lnTo>
                      <a:pt x="1998" y="677"/>
                    </a:lnTo>
                    <a:lnTo>
                      <a:pt x="1980" y="630"/>
                    </a:lnTo>
                    <a:lnTo>
                      <a:pt x="1960" y="584"/>
                    </a:lnTo>
                    <a:lnTo>
                      <a:pt x="1936" y="539"/>
                    </a:lnTo>
                    <a:lnTo>
                      <a:pt x="1912" y="497"/>
                    </a:lnTo>
                    <a:lnTo>
                      <a:pt x="1885" y="455"/>
                    </a:lnTo>
                    <a:lnTo>
                      <a:pt x="1856" y="415"/>
                    </a:lnTo>
                    <a:lnTo>
                      <a:pt x="1825" y="375"/>
                    </a:lnTo>
                    <a:lnTo>
                      <a:pt x="1794" y="338"/>
                    </a:lnTo>
                    <a:lnTo>
                      <a:pt x="1759" y="302"/>
                    </a:lnTo>
                    <a:lnTo>
                      <a:pt x="1723" y="267"/>
                    </a:lnTo>
                    <a:lnTo>
                      <a:pt x="1686" y="236"/>
                    </a:lnTo>
                    <a:lnTo>
                      <a:pt x="1648" y="205"/>
                    </a:lnTo>
                    <a:lnTo>
                      <a:pt x="1607" y="176"/>
                    </a:lnTo>
                    <a:lnTo>
                      <a:pt x="1565" y="149"/>
                    </a:lnTo>
                    <a:lnTo>
                      <a:pt x="1522" y="125"/>
                    </a:lnTo>
                    <a:lnTo>
                      <a:pt x="1478" y="101"/>
                    </a:lnTo>
                    <a:lnTo>
                      <a:pt x="1432" y="81"/>
                    </a:lnTo>
                    <a:lnTo>
                      <a:pt x="1385" y="63"/>
                    </a:lnTo>
                    <a:lnTo>
                      <a:pt x="1337" y="46"/>
                    </a:lnTo>
                    <a:lnTo>
                      <a:pt x="1288" y="32"/>
                    </a:lnTo>
                    <a:lnTo>
                      <a:pt x="1239" y="21"/>
                    </a:lnTo>
                    <a:lnTo>
                      <a:pt x="1188" y="12"/>
                    </a:lnTo>
                    <a:lnTo>
                      <a:pt x="1137" y="5"/>
                    </a:lnTo>
                    <a:lnTo>
                      <a:pt x="1085" y="1"/>
                    </a:lnTo>
                    <a:lnTo>
                      <a:pt x="1032" y="0"/>
                    </a:lnTo>
                    <a:lnTo>
                      <a:pt x="978" y="1"/>
                    </a:lnTo>
                    <a:lnTo>
                      <a:pt x="926" y="5"/>
                    </a:lnTo>
                    <a:lnTo>
                      <a:pt x="874" y="12"/>
                    </a:lnTo>
                    <a:lnTo>
                      <a:pt x="824" y="21"/>
                    </a:lnTo>
                    <a:lnTo>
                      <a:pt x="774" y="32"/>
                    </a:lnTo>
                    <a:lnTo>
                      <a:pt x="725" y="46"/>
                    </a:lnTo>
                    <a:lnTo>
                      <a:pt x="677" y="63"/>
                    </a:lnTo>
                    <a:lnTo>
                      <a:pt x="630" y="81"/>
                    </a:lnTo>
                    <a:lnTo>
                      <a:pt x="584" y="101"/>
                    </a:lnTo>
                    <a:lnTo>
                      <a:pt x="539" y="125"/>
                    </a:lnTo>
                    <a:lnTo>
                      <a:pt x="497" y="149"/>
                    </a:lnTo>
                    <a:lnTo>
                      <a:pt x="455" y="176"/>
                    </a:lnTo>
                    <a:lnTo>
                      <a:pt x="415" y="205"/>
                    </a:lnTo>
                    <a:lnTo>
                      <a:pt x="375" y="236"/>
                    </a:lnTo>
                    <a:lnTo>
                      <a:pt x="338" y="267"/>
                    </a:lnTo>
                    <a:lnTo>
                      <a:pt x="302" y="302"/>
                    </a:lnTo>
                    <a:lnTo>
                      <a:pt x="267" y="338"/>
                    </a:lnTo>
                    <a:lnTo>
                      <a:pt x="236" y="375"/>
                    </a:lnTo>
                    <a:lnTo>
                      <a:pt x="205" y="415"/>
                    </a:lnTo>
                    <a:lnTo>
                      <a:pt x="176" y="455"/>
                    </a:lnTo>
                    <a:lnTo>
                      <a:pt x="149" y="497"/>
                    </a:lnTo>
                    <a:lnTo>
                      <a:pt x="125" y="539"/>
                    </a:lnTo>
                    <a:lnTo>
                      <a:pt x="101" y="584"/>
                    </a:lnTo>
                    <a:lnTo>
                      <a:pt x="81" y="630"/>
                    </a:lnTo>
                    <a:lnTo>
                      <a:pt x="63" y="677"/>
                    </a:lnTo>
                    <a:lnTo>
                      <a:pt x="46" y="725"/>
                    </a:lnTo>
                    <a:lnTo>
                      <a:pt x="32" y="774"/>
                    </a:lnTo>
                    <a:lnTo>
                      <a:pt x="21" y="824"/>
                    </a:lnTo>
                    <a:lnTo>
                      <a:pt x="12" y="874"/>
                    </a:lnTo>
                    <a:lnTo>
                      <a:pt x="5" y="926"/>
                    </a:lnTo>
                    <a:lnTo>
                      <a:pt x="1" y="978"/>
                    </a:lnTo>
                    <a:lnTo>
                      <a:pt x="0" y="1032"/>
                    </a:lnTo>
                    <a:lnTo>
                      <a:pt x="1" y="1085"/>
                    </a:lnTo>
                    <a:lnTo>
                      <a:pt x="5" y="1137"/>
                    </a:lnTo>
                    <a:lnTo>
                      <a:pt x="12" y="1188"/>
                    </a:lnTo>
                    <a:lnTo>
                      <a:pt x="21" y="1239"/>
                    </a:lnTo>
                    <a:lnTo>
                      <a:pt x="32" y="1288"/>
                    </a:lnTo>
                    <a:lnTo>
                      <a:pt x="46" y="1337"/>
                    </a:lnTo>
                    <a:lnTo>
                      <a:pt x="63" y="1385"/>
                    </a:lnTo>
                    <a:lnTo>
                      <a:pt x="81" y="1432"/>
                    </a:lnTo>
                    <a:lnTo>
                      <a:pt x="101" y="1478"/>
                    </a:lnTo>
                    <a:lnTo>
                      <a:pt x="125" y="1522"/>
                    </a:lnTo>
                    <a:lnTo>
                      <a:pt x="149" y="1565"/>
                    </a:lnTo>
                    <a:lnTo>
                      <a:pt x="176" y="1607"/>
                    </a:lnTo>
                    <a:lnTo>
                      <a:pt x="205" y="1648"/>
                    </a:lnTo>
                    <a:lnTo>
                      <a:pt x="236" y="1686"/>
                    </a:lnTo>
                    <a:lnTo>
                      <a:pt x="267" y="1723"/>
                    </a:lnTo>
                    <a:lnTo>
                      <a:pt x="302" y="1759"/>
                    </a:lnTo>
                    <a:lnTo>
                      <a:pt x="338" y="1794"/>
                    </a:lnTo>
                    <a:lnTo>
                      <a:pt x="375" y="1825"/>
                    </a:lnTo>
                    <a:lnTo>
                      <a:pt x="415" y="1856"/>
                    </a:lnTo>
                    <a:lnTo>
                      <a:pt x="455" y="1885"/>
                    </a:lnTo>
                    <a:lnTo>
                      <a:pt x="497" y="1912"/>
                    </a:lnTo>
                    <a:lnTo>
                      <a:pt x="539" y="1936"/>
                    </a:lnTo>
                    <a:lnTo>
                      <a:pt x="584" y="1960"/>
                    </a:lnTo>
                    <a:lnTo>
                      <a:pt x="630" y="1980"/>
                    </a:lnTo>
                    <a:lnTo>
                      <a:pt x="677" y="1998"/>
                    </a:lnTo>
                    <a:lnTo>
                      <a:pt x="725" y="2015"/>
                    </a:lnTo>
                    <a:lnTo>
                      <a:pt x="774" y="2029"/>
                    </a:lnTo>
                    <a:lnTo>
                      <a:pt x="824" y="2040"/>
                    </a:lnTo>
                    <a:lnTo>
                      <a:pt x="874" y="2049"/>
                    </a:lnTo>
                    <a:lnTo>
                      <a:pt x="926" y="2056"/>
                    </a:lnTo>
                    <a:lnTo>
                      <a:pt x="978" y="2060"/>
                    </a:lnTo>
                    <a:lnTo>
                      <a:pt x="1032" y="20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21545400">
                <a:off x="7800480" y="4369320"/>
                <a:ext cx="78120" cy="78120"/>
              </a:xfrm>
              <a:custGeom>
                <a:avLst/>
                <a:gdLst/>
                <a:ahLst/>
                <a:rect l="l" t="t" r="r" b="b"/>
                <a:pathLst>
                  <a:path w="250" h="248">
                    <a:moveTo>
                      <a:pt x="126" y="0"/>
                    </a:moveTo>
                    <a:lnTo>
                      <a:pt x="151" y="2"/>
                    </a:lnTo>
                    <a:lnTo>
                      <a:pt x="175" y="9"/>
                    </a:lnTo>
                    <a:lnTo>
                      <a:pt x="196" y="21"/>
                    </a:lnTo>
                    <a:lnTo>
                      <a:pt x="214" y="36"/>
                    </a:lnTo>
                    <a:lnTo>
                      <a:pt x="229" y="54"/>
                    </a:lnTo>
                    <a:lnTo>
                      <a:pt x="241" y="76"/>
                    </a:lnTo>
                    <a:lnTo>
                      <a:pt x="248" y="99"/>
                    </a:lnTo>
                    <a:lnTo>
                      <a:pt x="250" y="125"/>
                    </a:lnTo>
                    <a:lnTo>
                      <a:pt x="248" y="150"/>
                    </a:lnTo>
                    <a:lnTo>
                      <a:pt x="241" y="174"/>
                    </a:lnTo>
                    <a:lnTo>
                      <a:pt x="229" y="194"/>
                    </a:lnTo>
                    <a:lnTo>
                      <a:pt x="214" y="212"/>
                    </a:lnTo>
                    <a:lnTo>
                      <a:pt x="196" y="227"/>
                    </a:lnTo>
                    <a:lnTo>
                      <a:pt x="175" y="239"/>
                    </a:lnTo>
                    <a:lnTo>
                      <a:pt x="151" y="246"/>
                    </a:lnTo>
                    <a:lnTo>
                      <a:pt x="126" y="248"/>
                    </a:lnTo>
                    <a:lnTo>
                      <a:pt x="100" y="246"/>
                    </a:lnTo>
                    <a:lnTo>
                      <a:pt x="77" y="239"/>
                    </a:lnTo>
                    <a:lnTo>
                      <a:pt x="55" y="227"/>
                    </a:lnTo>
                    <a:lnTo>
                      <a:pt x="36" y="212"/>
                    </a:lnTo>
                    <a:lnTo>
                      <a:pt x="21" y="194"/>
                    </a:lnTo>
                    <a:lnTo>
                      <a:pt x="10" y="174"/>
                    </a:lnTo>
                    <a:lnTo>
                      <a:pt x="2" y="150"/>
                    </a:lnTo>
                    <a:lnTo>
                      <a:pt x="0" y="125"/>
                    </a:lnTo>
                    <a:lnTo>
                      <a:pt x="2" y="99"/>
                    </a:lnTo>
                    <a:lnTo>
                      <a:pt x="10" y="76"/>
                    </a:lnTo>
                    <a:lnTo>
                      <a:pt x="21" y="54"/>
                    </a:lnTo>
                    <a:lnTo>
                      <a:pt x="36" y="36"/>
                    </a:lnTo>
                    <a:lnTo>
                      <a:pt x="55" y="21"/>
                    </a:lnTo>
                    <a:lnTo>
                      <a:pt x="77" y="9"/>
                    </a:lnTo>
                    <a:lnTo>
                      <a:pt x="100" y="2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d3c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21545400">
                <a:off x="7590960" y="4414320"/>
                <a:ext cx="207000" cy="216360"/>
              </a:xfrm>
              <a:custGeom>
                <a:avLst/>
                <a:gdLst/>
                <a:ahLst/>
                <a:rect l="l" t="t" r="r" b="b"/>
                <a:pathLst>
                  <a:path w="662" h="690">
                    <a:moveTo>
                      <a:pt x="659" y="0"/>
                    </a:moveTo>
                    <a:lnTo>
                      <a:pt x="662" y="53"/>
                    </a:lnTo>
                    <a:lnTo>
                      <a:pt x="661" y="107"/>
                    </a:lnTo>
                    <a:lnTo>
                      <a:pt x="656" y="158"/>
                    </a:lnTo>
                    <a:lnTo>
                      <a:pt x="648" y="208"/>
                    </a:lnTo>
                    <a:lnTo>
                      <a:pt x="637" y="258"/>
                    </a:lnTo>
                    <a:lnTo>
                      <a:pt x="621" y="306"/>
                    </a:lnTo>
                    <a:lnTo>
                      <a:pt x="602" y="354"/>
                    </a:lnTo>
                    <a:lnTo>
                      <a:pt x="580" y="401"/>
                    </a:lnTo>
                    <a:lnTo>
                      <a:pt x="567" y="423"/>
                    </a:lnTo>
                    <a:lnTo>
                      <a:pt x="554" y="446"/>
                    </a:lnTo>
                    <a:lnTo>
                      <a:pt x="540" y="466"/>
                    </a:lnTo>
                    <a:lnTo>
                      <a:pt x="525" y="487"/>
                    </a:lnTo>
                    <a:lnTo>
                      <a:pt x="510" y="506"/>
                    </a:lnTo>
                    <a:lnTo>
                      <a:pt x="495" y="527"/>
                    </a:lnTo>
                    <a:lnTo>
                      <a:pt x="477" y="545"/>
                    </a:lnTo>
                    <a:lnTo>
                      <a:pt x="460" y="563"/>
                    </a:lnTo>
                    <a:lnTo>
                      <a:pt x="441" y="581"/>
                    </a:lnTo>
                    <a:lnTo>
                      <a:pt x="423" y="598"/>
                    </a:lnTo>
                    <a:lnTo>
                      <a:pt x="403" y="615"/>
                    </a:lnTo>
                    <a:lnTo>
                      <a:pt x="383" y="631"/>
                    </a:lnTo>
                    <a:lnTo>
                      <a:pt x="361" y="646"/>
                    </a:lnTo>
                    <a:lnTo>
                      <a:pt x="339" y="661"/>
                    </a:lnTo>
                    <a:lnTo>
                      <a:pt x="317" y="676"/>
                    </a:lnTo>
                    <a:lnTo>
                      <a:pt x="293" y="690"/>
                    </a:lnTo>
                    <a:lnTo>
                      <a:pt x="0" y="219"/>
                    </a:lnTo>
                    <a:lnTo>
                      <a:pt x="14" y="209"/>
                    </a:lnTo>
                    <a:lnTo>
                      <a:pt x="28" y="199"/>
                    </a:lnTo>
                    <a:lnTo>
                      <a:pt x="39" y="191"/>
                    </a:lnTo>
                    <a:lnTo>
                      <a:pt x="51" y="182"/>
                    </a:lnTo>
                    <a:lnTo>
                      <a:pt x="61" y="173"/>
                    </a:lnTo>
                    <a:lnTo>
                      <a:pt x="70" y="162"/>
                    </a:lnTo>
                    <a:lnTo>
                      <a:pt x="79" y="150"/>
                    </a:lnTo>
                    <a:lnTo>
                      <a:pt x="86" y="136"/>
                    </a:lnTo>
                    <a:lnTo>
                      <a:pt x="99" y="107"/>
                    </a:lnTo>
                    <a:lnTo>
                      <a:pt x="108" y="73"/>
                    </a:lnTo>
                    <a:lnTo>
                      <a:pt x="114" y="37"/>
                    </a:lnTo>
                    <a:lnTo>
                      <a:pt x="117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d3c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21545400">
                <a:off x="7885800" y="4409640"/>
                <a:ext cx="208440" cy="216360"/>
              </a:xfrm>
              <a:custGeom>
                <a:avLst/>
                <a:gdLst/>
                <a:ahLst/>
                <a:rect l="l" t="t" r="r" b="b"/>
                <a:pathLst>
                  <a:path w="663" h="690">
                    <a:moveTo>
                      <a:pt x="545" y="0"/>
                    </a:moveTo>
                    <a:lnTo>
                      <a:pt x="548" y="37"/>
                    </a:lnTo>
                    <a:lnTo>
                      <a:pt x="554" y="73"/>
                    </a:lnTo>
                    <a:lnTo>
                      <a:pt x="563" y="107"/>
                    </a:lnTo>
                    <a:lnTo>
                      <a:pt x="576" y="136"/>
                    </a:lnTo>
                    <a:lnTo>
                      <a:pt x="583" y="150"/>
                    </a:lnTo>
                    <a:lnTo>
                      <a:pt x="592" y="162"/>
                    </a:lnTo>
                    <a:lnTo>
                      <a:pt x="601" y="173"/>
                    </a:lnTo>
                    <a:lnTo>
                      <a:pt x="612" y="182"/>
                    </a:lnTo>
                    <a:lnTo>
                      <a:pt x="623" y="191"/>
                    </a:lnTo>
                    <a:lnTo>
                      <a:pt x="635" y="199"/>
                    </a:lnTo>
                    <a:lnTo>
                      <a:pt x="648" y="209"/>
                    </a:lnTo>
                    <a:lnTo>
                      <a:pt x="663" y="219"/>
                    </a:lnTo>
                    <a:lnTo>
                      <a:pt x="369" y="690"/>
                    </a:lnTo>
                    <a:lnTo>
                      <a:pt x="345" y="676"/>
                    </a:lnTo>
                    <a:lnTo>
                      <a:pt x="323" y="661"/>
                    </a:lnTo>
                    <a:lnTo>
                      <a:pt x="301" y="646"/>
                    </a:lnTo>
                    <a:lnTo>
                      <a:pt x="279" y="631"/>
                    </a:lnTo>
                    <a:lnTo>
                      <a:pt x="259" y="615"/>
                    </a:lnTo>
                    <a:lnTo>
                      <a:pt x="239" y="598"/>
                    </a:lnTo>
                    <a:lnTo>
                      <a:pt x="221" y="581"/>
                    </a:lnTo>
                    <a:lnTo>
                      <a:pt x="202" y="563"/>
                    </a:lnTo>
                    <a:lnTo>
                      <a:pt x="185" y="545"/>
                    </a:lnTo>
                    <a:lnTo>
                      <a:pt x="167" y="527"/>
                    </a:lnTo>
                    <a:lnTo>
                      <a:pt x="152" y="506"/>
                    </a:lnTo>
                    <a:lnTo>
                      <a:pt x="137" y="487"/>
                    </a:lnTo>
                    <a:lnTo>
                      <a:pt x="122" y="466"/>
                    </a:lnTo>
                    <a:lnTo>
                      <a:pt x="108" y="446"/>
                    </a:lnTo>
                    <a:lnTo>
                      <a:pt x="95" y="423"/>
                    </a:lnTo>
                    <a:lnTo>
                      <a:pt x="82" y="401"/>
                    </a:lnTo>
                    <a:lnTo>
                      <a:pt x="60" y="354"/>
                    </a:lnTo>
                    <a:lnTo>
                      <a:pt x="41" y="306"/>
                    </a:lnTo>
                    <a:lnTo>
                      <a:pt x="25" y="258"/>
                    </a:lnTo>
                    <a:lnTo>
                      <a:pt x="14" y="208"/>
                    </a:lnTo>
                    <a:lnTo>
                      <a:pt x="6" y="158"/>
                    </a:lnTo>
                    <a:lnTo>
                      <a:pt x="1" y="107"/>
                    </a:lnTo>
                    <a:lnTo>
                      <a:pt x="0" y="53"/>
                    </a:lnTo>
                    <a:lnTo>
                      <a:pt x="3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d3c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21545400">
                <a:off x="7717320" y="4148640"/>
                <a:ext cx="246600" cy="187560"/>
              </a:xfrm>
              <a:custGeom>
                <a:avLst/>
                <a:gdLst/>
                <a:ahLst/>
                <a:rect l="l" t="t" r="r" b="b"/>
                <a:pathLst>
                  <a:path w="781" h="597">
                    <a:moveTo>
                      <a:pt x="526" y="597"/>
                    </a:moveTo>
                    <a:lnTo>
                      <a:pt x="509" y="588"/>
                    </a:lnTo>
                    <a:lnTo>
                      <a:pt x="492" y="582"/>
                    </a:lnTo>
                    <a:lnTo>
                      <a:pt x="475" y="574"/>
                    </a:lnTo>
                    <a:lnTo>
                      <a:pt x="457" y="569"/>
                    </a:lnTo>
                    <a:lnTo>
                      <a:pt x="440" y="565"/>
                    </a:lnTo>
                    <a:lnTo>
                      <a:pt x="423" y="561"/>
                    </a:lnTo>
                    <a:lnTo>
                      <a:pt x="407" y="559"/>
                    </a:lnTo>
                    <a:lnTo>
                      <a:pt x="391" y="558"/>
                    </a:lnTo>
                    <a:lnTo>
                      <a:pt x="376" y="559"/>
                    </a:lnTo>
                    <a:lnTo>
                      <a:pt x="362" y="561"/>
                    </a:lnTo>
                    <a:lnTo>
                      <a:pt x="348" y="565"/>
                    </a:lnTo>
                    <a:lnTo>
                      <a:pt x="335" y="569"/>
                    </a:lnTo>
                    <a:lnTo>
                      <a:pt x="323" y="574"/>
                    </a:lnTo>
                    <a:lnTo>
                      <a:pt x="309" y="582"/>
                    </a:lnTo>
                    <a:lnTo>
                      <a:pt x="294" y="588"/>
                    </a:lnTo>
                    <a:lnTo>
                      <a:pt x="278" y="597"/>
                    </a:lnTo>
                    <a:lnTo>
                      <a:pt x="0" y="118"/>
                    </a:lnTo>
                    <a:lnTo>
                      <a:pt x="23" y="104"/>
                    </a:lnTo>
                    <a:lnTo>
                      <a:pt x="47" y="90"/>
                    </a:lnTo>
                    <a:lnTo>
                      <a:pt x="70" y="79"/>
                    </a:lnTo>
                    <a:lnTo>
                      <a:pt x="95" y="67"/>
                    </a:lnTo>
                    <a:lnTo>
                      <a:pt x="118" y="56"/>
                    </a:lnTo>
                    <a:lnTo>
                      <a:pt x="143" y="47"/>
                    </a:lnTo>
                    <a:lnTo>
                      <a:pt x="166" y="38"/>
                    </a:lnTo>
                    <a:lnTo>
                      <a:pt x="190" y="30"/>
                    </a:lnTo>
                    <a:lnTo>
                      <a:pt x="215" y="23"/>
                    </a:lnTo>
                    <a:lnTo>
                      <a:pt x="240" y="17"/>
                    </a:lnTo>
                    <a:lnTo>
                      <a:pt x="264" y="11"/>
                    </a:lnTo>
                    <a:lnTo>
                      <a:pt x="290" y="7"/>
                    </a:lnTo>
                    <a:lnTo>
                      <a:pt x="314" y="4"/>
                    </a:lnTo>
                    <a:lnTo>
                      <a:pt x="340" y="2"/>
                    </a:lnTo>
                    <a:lnTo>
                      <a:pt x="365" y="0"/>
                    </a:lnTo>
                    <a:lnTo>
                      <a:pt x="391" y="0"/>
                    </a:lnTo>
                    <a:lnTo>
                      <a:pt x="416" y="0"/>
                    </a:lnTo>
                    <a:lnTo>
                      <a:pt x="442" y="2"/>
                    </a:lnTo>
                    <a:lnTo>
                      <a:pt x="468" y="4"/>
                    </a:lnTo>
                    <a:lnTo>
                      <a:pt x="492" y="7"/>
                    </a:lnTo>
                    <a:lnTo>
                      <a:pt x="518" y="11"/>
                    </a:lnTo>
                    <a:lnTo>
                      <a:pt x="542" y="17"/>
                    </a:lnTo>
                    <a:lnTo>
                      <a:pt x="567" y="23"/>
                    </a:lnTo>
                    <a:lnTo>
                      <a:pt x="591" y="30"/>
                    </a:lnTo>
                    <a:lnTo>
                      <a:pt x="616" y="38"/>
                    </a:lnTo>
                    <a:lnTo>
                      <a:pt x="639" y="47"/>
                    </a:lnTo>
                    <a:lnTo>
                      <a:pt x="664" y="56"/>
                    </a:lnTo>
                    <a:lnTo>
                      <a:pt x="687" y="67"/>
                    </a:lnTo>
                    <a:lnTo>
                      <a:pt x="711" y="79"/>
                    </a:lnTo>
                    <a:lnTo>
                      <a:pt x="734" y="90"/>
                    </a:lnTo>
                    <a:lnTo>
                      <a:pt x="757" y="104"/>
                    </a:lnTo>
                    <a:lnTo>
                      <a:pt x="781" y="118"/>
                    </a:lnTo>
                    <a:lnTo>
                      <a:pt x="526" y="597"/>
                    </a:lnTo>
                    <a:close/>
                  </a:path>
                </a:pathLst>
              </a:custGeom>
              <a:solidFill>
                <a:srgbClr val="d3c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4834440" y="-2178000"/>
            <a:ext cx="4218120" cy="4631400"/>
            <a:chOff x="4834440" y="-2178000"/>
            <a:chExt cx="4218120" cy="4631400"/>
          </a:xfrm>
        </p:grpSpPr>
        <p:sp>
          <p:nvSpPr>
            <p:cNvPr id="305" name=""/>
            <p:cNvSpPr/>
            <p:nvPr/>
          </p:nvSpPr>
          <p:spPr>
            <a:xfrm flipH="1" rot="11700000">
              <a:off x="5019840" y="-1923840"/>
              <a:ext cx="1727280" cy="32256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50000">
                  <a:srgbClr val="808080"/>
                </a:gs>
                <a:gs pos="100000">
                  <a:srgbClr val="4d4d4d"/>
                </a:gs>
              </a:gsLst>
              <a:lin ang="17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rot="3888000">
              <a:off x="6181200" y="-631080"/>
              <a:ext cx="2185920" cy="38556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50000">
                  <a:srgbClr val="808080"/>
                </a:gs>
                <a:gs pos="100000">
                  <a:srgbClr val="4d4d4d"/>
                </a:gs>
              </a:gsLst>
              <a:lin ang="928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705000">
              <a:off x="6653880" y="355680"/>
              <a:ext cx="947520" cy="202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20895000">
              <a:off x="7908480" y="355680"/>
              <a:ext cx="947520" cy="202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383960" y="169920"/>
              <a:ext cx="753840" cy="753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566840" y="355680"/>
              <a:ext cx="385200" cy="3855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488280" y="-1782720"/>
              <a:ext cx="571320" cy="5713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614280" y="-1628640"/>
              <a:ext cx="291600" cy="2919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834080" y="-2178000"/>
              <a:ext cx="379080" cy="3794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923000" y="-2084400"/>
              <a:ext cx="193320" cy="193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-12600" y="-138240"/>
            <a:ext cx="9156600" cy="2935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89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01400" y="3056040"/>
            <a:ext cx="563868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cessed waste can take up less than 10% of the space taken up by non-reprocessed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cessing also reduces the pressure on uranium mining, which, like other forms of mining, can have negative environmental con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processing, the remaining radioactive waste is immobilized by combining it with Pyrex glass and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5040" y="1071720"/>
            <a:ext cx="731880" cy="1267920"/>
            <a:chOff x="365040" y="1071720"/>
            <a:chExt cx="731880" cy="1267920"/>
          </a:xfrm>
        </p:grpSpPr>
        <p:sp>
          <p:nvSpPr>
            <p:cNvPr id="319" name=""/>
            <p:cNvSpPr/>
            <p:nvPr/>
          </p:nvSpPr>
          <p:spPr>
            <a:xfrm>
              <a:off x="365040" y="145584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0800" y="107172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0800" y="198612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4880" y="151668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9680" y="151416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2960" y="174636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320" y="166608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08160" y="1071720"/>
            <a:ext cx="731880" cy="1267920"/>
            <a:chOff x="1208160" y="1071720"/>
            <a:chExt cx="731880" cy="1267920"/>
          </a:xfrm>
        </p:grpSpPr>
        <p:sp>
          <p:nvSpPr>
            <p:cNvPr id="327" name=""/>
            <p:cNvSpPr/>
            <p:nvPr/>
          </p:nvSpPr>
          <p:spPr>
            <a:xfrm>
              <a:off x="1208160" y="145584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3920" y="107172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3920" y="198612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68000" y="151668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12800" y="151416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6080" y="174636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9440" y="166608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050920" y="1062000"/>
            <a:ext cx="731880" cy="1267920"/>
            <a:chOff x="2050920" y="1062000"/>
            <a:chExt cx="731880" cy="1267920"/>
          </a:xfrm>
        </p:grpSpPr>
        <p:sp>
          <p:nvSpPr>
            <p:cNvPr id="335" name=""/>
            <p:cNvSpPr/>
            <p:nvPr/>
          </p:nvSpPr>
          <p:spPr>
            <a:xfrm>
              <a:off x="2050920" y="144612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56680" y="106200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56680" y="197640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10760" y="150696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55560" y="150444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28840" y="173664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92200" y="165636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894040" y="1052640"/>
            <a:ext cx="731880" cy="1267920"/>
            <a:chOff x="2894040" y="1052640"/>
            <a:chExt cx="731880" cy="1267920"/>
          </a:xfrm>
        </p:grpSpPr>
        <p:sp>
          <p:nvSpPr>
            <p:cNvPr id="343" name=""/>
            <p:cNvSpPr/>
            <p:nvPr/>
          </p:nvSpPr>
          <p:spPr>
            <a:xfrm>
              <a:off x="2894040" y="143676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9800" y="105264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99800" y="196704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53880" y="149760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98680" y="149508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71960" y="172728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35320" y="164700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36800" y="1046160"/>
            <a:ext cx="731880" cy="1267920"/>
            <a:chOff x="3736800" y="1046160"/>
            <a:chExt cx="731880" cy="1267920"/>
          </a:xfrm>
        </p:grpSpPr>
        <p:sp>
          <p:nvSpPr>
            <p:cNvPr id="351" name=""/>
            <p:cNvSpPr/>
            <p:nvPr/>
          </p:nvSpPr>
          <p:spPr>
            <a:xfrm>
              <a:off x="3736800" y="143028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42560" y="104616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42560" y="196056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96640" y="149112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41440" y="148860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14720" y="172080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78080" y="164052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79920" y="1036800"/>
            <a:ext cx="731880" cy="1267920"/>
            <a:chOff x="4579920" y="1036800"/>
            <a:chExt cx="731880" cy="1267920"/>
          </a:xfrm>
        </p:grpSpPr>
        <p:sp>
          <p:nvSpPr>
            <p:cNvPr id="359" name=""/>
            <p:cNvSpPr/>
            <p:nvPr/>
          </p:nvSpPr>
          <p:spPr>
            <a:xfrm>
              <a:off x="4579920" y="142092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85680" y="103680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85680" y="195120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39760" y="148176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84560" y="147924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57840" y="171144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21200" y="163116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424480" y="1035000"/>
            <a:ext cx="731880" cy="1268640"/>
            <a:chOff x="5424480" y="1035000"/>
            <a:chExt cx="731880" cy="1268640"/>
          </a:xfrm>
        </p:grpSpPr>
        <p:sp>
          <p:nvSpPr>
            <p:cNvPr id="367" name=""/>
            <p:cNvSpPr/>
            <p:nvPr/>
          </p:nvSpPr>
          <p:spPr>
            <a:xfrm>
              <a:off x="5424480" y="141912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0240" y="1035000"/>
              <a:ext cx="72576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0240" y="1949760"/>
              <a:ext cx="72576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84320" y="147996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9120" y="147744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2400" y="171000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65760" y="162972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267600" y="1035000"/>
            <a:ext cx="731520" cy="1268640"/>
            <a:chOff x="6267600" y="1035000"/>
            <a:chExt cx="731520" cy="1268640"/>
          </a:xfrm>
        </p:grpSpPr>
        <p:sp>
          <p:nvSpPr>
            <p:cNvPr id="375" name=""/>
            <p:cNvSpPr/>
            <p:nvPr/>
          </p:nvSpPr>
          <p:spPr>
            <a:xfrm>
              <a:off x="6267600" y="1419120"/>
              <a:ext cx="73152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73360" y="1035000"/>
              <a:ext cx="72540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73360" y="1949760"/>
              <a:ext cx="72540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27080" y="147996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72240" y="147744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45520" y="171000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08880" y="162972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110360" y="1025640"/>
            <a:ext cx="731880" cy="1267920"/>
            <a:chOff x="7110360" y="1025640"/>
            <a:chExt cx="731880" cy="1267920"/>
          </a:xfrm>
        </p:grpSpPr>
        <p:sp>
          <p:nvSpPr>
            <p:cNvPr id="383" name=""/>
            <p:cNvSpPr/>
            <p:nvPr/>
          </p:nvSpPr>
          <p:spPr>
            <a:xfrm>
              <a:off x="7110360" y="140976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6120" y="102564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6120" y="1940040"/>
              <a:ext cx="725760" cy="35352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70200" y="147060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5000" y="146808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8280" y="170028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51640" y="162000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7953480" y="1015920"/>
            <a:ext cx="731880" cy="1268640"/>
            <a:chOff x="7953480" y="1015920"/>
            <a:chExt cx="731880" cy="1268640"/>
          </a:xfrm>
        </p:grpSpPr>
        <p:sp>
          <p:nvSpPr>
            <p:cNvPr id="391" name=""/>
            <p:cNvSpPr/>
            <p:nvPr/>
          </p:nvSpPr>
          <p:spPr>
            <a:xfrm>
              <a:off x="7953480" y="1400040"/>
              <a:ext cx="731880" cy="50652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59240" y="1015920"/>
              <a:ext cx="72576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9240" y="1930680"/>
              <a:ext cx="725760" cy="35388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13320" y="1460880"/>
              <a:ext cx="171360" cy="17388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58120" y="1458360"/>
              <a:ext cx="170640" cy="17712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31400" y="1690920"/>
              <a:ext cx="181440" cy="17208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94760" y="1610640"/>
              <a:ext cx="52920" cy="540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66840" y="1025640"/>
            <a:ext cx="8319960" cy="1323360"/>
            <a:chOff x="366840" y="1025640"/>
            <a:chExt cx="8319960" cy="1323360"/>
          </a:xfrm>
        </p:grpSpPr>
        <p:grpSp>
          <p:nvGrpSpPr>
            <p:cNvPr id="399" name=""/>
            <p:cNvGrpSpPr/>
            <p:nvPr/>
          </p:nvGrpSpPr>
          <p:grpSpPr>
            <a:xfrm>
              <a:off x="366840" y="1081080"/>
              <a:ext cx="731880" cy="1267920"/>
              <a:chOff x="366840" y="1081080"/>
              <a:chExt cx="731880" cy="1267920"/>
            </a:xfrm>
          </p:grpSpPr>
          <p:sp>
            <p:nvSpPr>
              <p:cNvPr id="400" name=""/>
              <p:cNvSpPr/>
              <p:nvPr/>
            </p:nvSpPr>
            <p:spPr>
              <a:xfrm>
                <a:off x="366840" y="146520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2600" y="108108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2600" y="199548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26680" y="152604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1480" y="152352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4760" y="175572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8120" y="167544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209600" y="1081080"/>
              <a:ext cx="731880" cy="1267920"/>
              <a:chOff x="1209600" y="1081080"/>
              <a:chExt cx="731880" cy="1267920"/>
            </a:xfrm>
          </p:grpSpPr>
          <p:sp>
            <p:nvSpPr>
              <p:cNvPr id="408" name=""/>
              <p:cNvSpPr/>
              <p:nvPr/>
            </p:nvSpPr>
            <p:spPr>
              <a:xfrm>
                <a:off x="1209600" y="146520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15360" y="108108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15360" y="199548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69440" y="152604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14240" y="152352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87520" y="175572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50880" y="167544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052720" y="1071720"/>
              <a:ext cx="731880" cy="1267920"/>
              <a:chOff x="2052720" y="1071720"/>
              <a:chExt cx="731880" cy="1267920"/>
            </a:xfrm>
          </p:grpSpPr>
          <p:sp>
            <p:nvSpPr>
              <p:cNvPr id="416" name=""/>
              <p:cNvSpPr/>
              <p:nvPr/>
            </p:nvSpPr>
            <p:spPr>
              <a:xfrm>
                <a:off x="2052720" y="145584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058480" y="107172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058480" y="198612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12560" y="151668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57360" y="151416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30640" y="174636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94000" y="166608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895480" y="1062000"/>
              <a:ext cx="731880" cy="1267920"/>
              <a:chOff x="2895480" y="1062000"/>
              <a:chExt cx="731880" cy="1267920"/>
            </a:xfrm>
          </p:grpSpPr>
          <p:sp>
            <p:nvSpPr>
              <p:cNvPr id="424" name=""/>
              <p:cNvSpPr/>
              <p:nvPr/>
            </p:nvSpPr>
            <p:spPr>
              <a:xfrm>
                <a:off x="2895480" y="144612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01240" y="106200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01240" y="197640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55320" y="150696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00120" y="150444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73400" y="173664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236760" y="165636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738600" y="1055520"/>
              <a:ext cx="731880" cy="1268640"/>
              <a:chOff x="3738600" y="1055520"/>
              <a:chExt cx="731880" cy="1268640"/>
            </a:xfrm>
          </p:grpSpPr>
          <p:sp>
            <p:nvSpPr>
              <p:cNvPr id="432" name=""/>
              <p:cNvSpPr/>
              <p:nvPr/>
            </p:nvSpPr>
            <p:spPr>
              <a:xfrm>
                <a:off x="3738600" y="143964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44360" y="1055520"/>
                <a:ext cx="725760" cy="35388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44360" y="1970280"/>
                <a:ext cx="725760" cy="35388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98440" y="150048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43240" y="149796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016520" y="173052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79880" y="165024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581720" y="1046160"/>
              <a:ext cx="731520" cy="1267920"/>
              <a:chOff x="4581720" y="1046160"/>
              <a:chExt cx="731520" cy="1267920"/>
            </a:xfrm>
          </p:grpSpPr>
          <p:sp>
            <p:nvSpPr>
              <p:cNvPr id="440" name=""/>
              <p:cNvSpPr/>
              <p:nvPr/>
            </p:nvSpPr>
            <p:spPr>
              <a:xfrm>
                <a:off x="4581720" y="1430280"/>
                <a:ext cx="73152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587480" y="1046160"/>
                <a:ext cx="72540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587480" y="1960560"/>
                <a:ext cx="72540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1200" y="149112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86360" y="148860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59640" y="172080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923000" y="164052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426280" y="1044720"/>
              <a:ext cx="731520" cy="1267920"/>
              <a:chOff x="5426280" y="1044720"/>
              <a:chExt cx="731520" cy="1267920"/>
            </a:xfrm>
          </p:grpSpPr>
          <p:sp>
            <p:nvSpPr>
              <p:cNvPr id="448" name=""/>
              <p:cNvSpPr/>
              <p:nvPr/>
            </p:nvSpPr>
            <p:spPr>
              <a:xfrm>
                <a:off x="5426280" y="1428840"/>
                <a:ext cx="73152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32040" y="1044720"/>
                <a:ext cx="72540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32040" y="1959120"/>
                <a:ext cx="72540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5760" y="148968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30920" y="148716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04200" y="171936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67560" y="163908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69040" y="1044720"/>
              <a:ext cx="731880" cy="1267920"/>
              <a:chOff x="6269040" y="1044720"/>
              <a:chExt cx="731880" cy="1267920"/>
            </a:xfrm>
          </p:grpSpPr>
          <p:sp>
            <p:nvSpPr>
              <p:cNvPr id="456" name=""/>
              <p:cNvSpPr/>
              <p:nvPr/>
            </p:nvSpPr>
            <p:spPr>
              <a:xfrm>
                <a:off x="6269040" y="142884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74800" y="104472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74800" y="195912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28880" y="148968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673680" y="148716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46960" y="171936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10320" y="163908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112160" y="1035000"/>
              <a:ext cx="731880" cy="1267920"/>
              <a:chOff x="7112160" y="1035000"/>
              <a:chExt cx="731880" cy="1267920"/>
            </a:xfrm>
          </p:grpSpPr>
          <p:sp>
            <p:nvSpPr>
              <p:cNvPr id="464" name=""/>
              <p:cNvSpPr/>
              <p:nvPr/>
            </p:nvSpPr>
            <p:spPr>
              <a:xfrm>
                <a:off x="7112160" y="141912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17920" y="103500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17920" y="194940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72000" y="147996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16800" y="147744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90080" y="170964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453440" y="162936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7954920" y="1025640"/>
              <a:ext cx="731880" cy="1267920"/>
              <a:chOff x="7954920" y="1025640"/>
              <a:chExt cx="731880" cy="1267920"/>
            </a:xfrm>
          </p:grpSpPr>
          <p:sp>
            <p:nvSpPr>
              <p:cNvPr id="472" name=""/>
              <p:cNvSpPr/>
              <p:nvPr/>
            </p:nvSpPr>
            <p:spPr>
              <a:xfrm>
                <a:off x="7954920" y="1409760"/>
                <a:ext cx="731880" cy="506520"/>
              </a:xfrm>
              <a:custGeom>
                <a:avLst/>
                <a:gdLst/>
                <a:ahLst/>
                <a:rect l="l" t="t" r="r" b="b"/>
                <a:pathLst>
                  <a:path w="866" h="600">
                    <a:moveTo>
                      <a:pt x="866" y="600"/>
                    </a:moveTo>
                    <a:lnTo>
                      <a:pt x="839" y="544"/>
                    </a:lnTo>
                    <a:lnTo>
                      <a:pt x="839" y="52"/>
                    </a:lnTo>
                    <a:lnTo>
                      <a:pt x="859" y="0"/>
                    </a:lnTo>
                    <a:lnTo>
                      <a:pt x="0" y="0"/>
                    </a:lnTo>
                    <a:lnTo>
                      <a:pt x="33" y="58"/>
                    </a:lnTo>
                    <a:lnTo>
                      <a:pt x="33" y="551"/>
                    </a:lnTo>
                    <a:lnTo>
                      <a:pt x="13" y="600"/>
                    </a:lnTo>
                    <a:lnTo>
                      <a:pt x="866" y="60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960680" y="102564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5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960680" y="1940040"/>
                <a:ext cx="725760" cy="353520"/>
              </a:xfrm>
              <a:custGeom>
                <a:avLst/>
                <a:gdLst/>
                <a:ahLst/>
                <a:rect l="l" t="t" r="r" b="b"/>
                <a:pathLst>
                  <a:path w="859" h="419">
                    <a:moveTo>
                      <a:pt x="859" y="419"/>
                    </a:moveTo>
                    <a:lnTo>
                      <a:pt x="832" y="353"/>
                    </a:lnTo>
                    <a:lnTo>
                      <a:pt x="832" y="59"/>
                    </a:lnTo>
                    <a:lnTo>
                      <a:pt x="852" y="0"/>
                    </a:lnTo>
                    <a:lnTo>
                      <a:pt x="0" y="0"/>
                    </a:lnTo>
                    <a:lnTo>
                      <a:pt x="26" y="46"/>
                    </a:lnTo>
                    <a:lnTo>
                      <a:pt x="26" y="353"/>
                    </a:lnTo>
                    <a:lnTo>
                      <a:pt x="0" y="419"/>
                    </a:lnTo>
                    <a:lnTo>
                      <a:pt x="859" y="419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14760" y="1470600"/>
                <a:ext cx="171360" cy="173880"/>
              </a:xfrm>
              <a:custGeom>
                <a:avLst/>
                <a:gdLst/>
                <a:ahLst/>
                <a:rect l="l" t="t" r="r" b="b"/>
                <a:pathLst>
                  <a:path w="203" h="206">
                    <a:moveTo>
                      <a:pt x="203" y="157"/>
                    </a:moveTo>
                    <a:lnTo>
                      <a:pt x="109" y="0"/>
                    </a:lnTo>
                    <a:lnTo>
                      <a:pt x="85" y="18"/>
                    </a:lnTo>
                    <a:lnTo>
                      <a:pt x="65" y="40"/>
                    </a:lnTo>
                    <a:lnTo>
                      <a:pt x="46" y="62"/>
                    </a:lnTo>
                    <a:lnTo>
                      <a:pt x="31" y="88"/>
                    </a:lnTo>
                    <a:lnTo>
                      <a:pt x="17" y="115"/>
                    </a:lnTo>
                    <a:lnTo>
                      <a:pt x="8" y="145"/>
                    </a:lnTo>
                    <a:lnTo>
                      <a:pt x="3" y="174"/>
                    </a:lnTo>
                    <a:lnTo>
                      <a:pt x="0" y="206"/>
                    </a:lnTo>
                    <a:lnTo>
                      <a:pt x="179" y="206"/>
                    </a:lnTo>
                    <a:lnTo>
                      <a:pt x="181" y="191"/>
                    </a:lnTo>
                    <a:lnTo>
                      <a:pt x="186" y="178"/>
                    </a:lnTo>
                    <a:lnTo>
                      <a:pt x="194" y="166"/>
                    </a:lnTo>
                    <a:lnTo>
                      <a:pt x="203" y="15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59560" y="1468080"/>
                <a:ext cx="170640" cy="177120"/>
              </a:xfrm>
              <a:custGeom>
                <a:avLst/>
                <a:gdLst/>
                <a:ahLst/>
                <a:rect l="l" t="t" r="r" b="b"/>
                <a:pathLst>
                  <a:path w="202" h="210">
                    <a:moveTo>
                      <a:pt x="26" y="209"/>
                    </a:moveTo>
                    <a:lnTo>
                      <a:pt x="202" y="210"/>
                    </a:lnTo>
                    <a:lnTo>
                      <a:pt x="199" y="178"/>
                    </a:lnTo>
                    <a:lnTo>
                      <a:pt x="194" y="149"/>
                    </a:lnTo>
                    <a:lnTo>
                      <a:pt x="184" y="120"/>
                    </a:lnTo>
                    <a:lnTo>
                      <a:pt x="173" y="92"/>
                    </a:lnTo>
                    <a:lnTo>
                      <a:pt x="158" y="65"/>
                    </a:lnTo>
                    <a:lnTo>
                      <a:pt x="141" y="41"/>
                    </a:lnTo>
                    <a:lnTo>
                      <a:pt x="121" y="20"/>
                    </a:lnTo>
                    <a:lnTo>
                      <a:pt x="98" y="0"/>
                    </a:lnTo>
                    <a:lnTo>
                      <a:pt x="0" y="156"/>
                    </a:lnTo>
                    <a:lnTo>
                      <a:pt x="10" y="166"/>
                    </a:lnTo>
                    <a:lnTo>
                      <a:pt x="18" y="180"/>
                    </a:lnTo>
                    <a:lnTo>
                      <a:pt x="24" y="193"/>
                    </a:lnTo>
                    <a:lnTo>
                      <a:pt x="26" y="20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32840" y="1700280"/>
                <a:ext cx="181440" cy="172080"/>
              </a:xfrm>
              <a:custGeom>
                <a:avLst/>
                <a:gdLst/>
                <a:ahLst/>
                <a:rect l="l" t="t" r="r" b="b"/>
                <a:pathLst>
                  <a:path w="215" h="204">
                    <a:moveTo>
                      <a:pt x="105" y="7"/>
                    </a:moveTo>
                    <a:lnTo>
                      <a:pt x="97" y="7"/>
                    </a:lnTo>
                    <a:lnTo>
                      <a:pt x="89" y="6"/>
                    </a:lnTo>
                    <a:lnTo>
                      <a:pt x="81" y="3"/>
                    </a:lnTo>
                    <a:lnTo>
                      <a:pt x="74" y="0"/>
                    </a:lnTo>
                    <a:lnTo>
                      <a:pt x="0" y="187"/>
                    </a:lnTo>
                    <a:lnTo>
                      <a:pt x="15" y="193"/>
                    </a:lnTo>
                    <a:lnTo>
                      <a:pt x="69" y="204"/>
                    </a:lnTo>
                    <a:lnTo>
                      <a:pt x="71" y="204"/>
                    </a:lnTo>
                    <a:lnTo>
                      <a:pt x="67" y="203"/>
                    </a:lnTo>
                    <a:lnTo>
                      <a:pt x="63" y="201"/>
                    </a:lnTo>
                    <a:lnTo>
                      <a:pt x="58" y="201"/>
                    </a:lnTo>
                    <a:lnTo>
                      <a:pt x="54" y="200"/>
                    </a:lnTo>
                    <a:lnTo>
                      <a:pt x="61" y="201"/>
                    </a:lnTo>
                    <a:lnTo>
                      <a:pt x="67" y="201"/>
                    </a:lnTo>
                    <a:lnTo>
                      <a:pt x="73" y="201"/>
                    </a:lnTo>
                    <a:lnTo>
                      <a:pt x="79" y="201"/>
                    </a:lnTo>
                    <a:lnTo>
                      <a:pt x="98" y="201"/>
                    </a:lnTo>
                    <a:lnTo>
                      <a:pt x="115" y="199"/>
                    </a:lnTo>
                    <a:lnTo>
                      <a:pt x="134" y="196"/>
                    </a:lnTo>
                    <a:lnTo>
                      <a:pt x="151" y="192"/>
                    </a:lnTo>
                    <a:lnTo>
                      <a:pt x="167" y="187"/>
                    </a:lnTo>
                    <a:lnTo>
                      <a:pt x="184" y="180"/>
                    </a:lnTo>
                    <a:lnTo>
                      <a:pt x="200" y="172"/>
                    </a:lnTo>
                    <a:lnTo>
                      <a:pt x="215" y="163"/>
                    </a:lnTo>
                    <a:lnTo>
                      <a:pt x="132" y="2"/>
                    </a:lnTo>
                    <a:lnTo>
                      <a:pt x="126" y="4"/>
                    </a:lnTo>
                    <a:lnTo>
                      <a:pt x="119" y="6"/>
                    </a:lnTo>
                    <a:lnTo>
                      <a:pt x="111" y="7"/>
                    </a:lnTo>
                    <a:lnTo>
                      <a:pt x="105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96200" y="1620000"/>
                <a:ext cx="52920" cy="54000"/>
              </a:xfrm>
              <a:custGeom>
                <a:avLst/>
                <a:gdLst/>
                <a:ahLst/>
                <a:rect l="l" t="t" r="r" b="b"/>
                <a:pathLst>
                  <a:path w="63" h="64">
                    <a:moveTo>
                      <a:pt x="63" y="29"/>
                    </a:moveTo>
                    <a:lnTo>
                      <a:pt x="60" y="17"/>
                    </a:lnTo>
                    <a:lnTo>
                      <a:pt x="53" y="8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20" y="2"/>
                    </a:lnTo>
                    <a:lnTo>
                      <a:pt x="10" y="9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10" y="54"/>
                    </a:lnTo>
                    <a:lnTo>
                      <a:pt x="20" y="61"/>
                    </a:lnTo>
                    <a:lnTo>
                      <a:pt x="32" y="64"/>
                    </a:lnTo>
                    <a:lnTo>
                      <a:pt x="36" y="64"/>
                    </a:lnTo>
                    <a:lnTo>
                      <a:pt x="40" y="62"/>
                    </a:lnTo>
                    <a:lnTo>
                      <a:pt x="44" y="62"/>
                    </a:lnTo>
                    <a:lnTo>
                      <a:pt x="47" y="61"/>
                    </a:lnTo>
                    <a:lnTo>
                      <a:pt x="53" y="54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>
            <a:off x="-474840" y="2301840"/>
            <a:ext cx="9141120" cy="106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-12600" y="2416320"/>
            <a:ext cx="247680" cy="245880"/>
            <a:chOff x="-12600" y="2416320"/>
            <a:chExt cx="247680" cy="245880"/>
          </a:xfrm>
        </p:grpSpPr>
        <p:sp>
          <p:nvSpPr>
            <p:cNvPr id="481" name=""/>
            <p:cNvSpPr/>
            <p:nvPr/>
          </p:nvSpPr>
          <p:spPr>
            <a:xfrm>
              <a:off x="-12600" y="2416320"/>
              <a:ext cx="24768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60" y="2454120"/>
              <a:ext cx="149400" cy="15048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54160" y="2416320"/>
            <a:ext cx="244440" cy="245880"/>
            <a:chOff x="254160" y="2416320"/>
            <a:chExt cx="244440" cy="245880"/>
          </a:xfrm>
        </p:grpSpPr>
        <p:sp>
          <p:nvSpPr>
            <p:cNvPr id="484" name=""/>
            <p:cNvSpPr/>
            <p:nvPr/>
          </p:nvSpPr>
          <p:spPr>
            <a:xfrm>
              <a:off x="254160" y="2416320"/>
              <a:ext cx="24444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9880" y="2473200"/>
              <a:ext cx="152280" cy="15048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1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1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15880" y="2416320"/>
            <a:ext cx="247680" cy="245880"/>
            <a:chOff x="515880" y="2416320"/>
            <a:chExt cx="247680" cy="245880"/>
          </a:xfrm>
        </p:grpSpPr>
        <p:sp>
          <p:nvSpPr>
            <p:cNvPr id="487" name=""/>
            <p:cNvSpPr/>
            <p:nvPr/>
          </p:nvSpPr>
          <p:spPr>
            <a:xfrm>
              <a:off x="515880" y="2416320"/>
              <a:ext cx="247680" cy="24588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9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2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8" y="127"/>
                  </a:lnTo>
                  <a:lnTo>
                    <a:pt x="139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5200" y="2454120"/>
              <a:ext cx="149040" cy="15048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8"/>
                  </a:moveTo>
                  <a:lnTo>
                    <a:pt x="58" y="97"/>
                  </a:lnTo>
                  <a:lnTo>
                    <a:pt x="67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89" y="76"/>
                  </a:lnTo>
                  <a:lnTo>
                    <a:pt x="94" y="68"/>
                  </a:lnTo>
                  <a:lnTo>
                    <a:pt x="96" y="59"/>
                  </a:lnTo>
                  <a:lnTo>
                    <a:pt x="97" y="48"/>
                  </a:lnTo>
                  <a:lnTo>
                    <a:pt x="96" y="39"/>
                  </a:lnTo>
                  <a:lnTo>
                    <a:pt x="94" y="30"/>
                  </a:lnTo>
                  <a:lnTo>
                    <a:pt x="89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7" y="3"/>
                  </a:lnTo>
                  <a:lnTo>
                    <a:pt x="58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3"/>
                  </a:lnTo>
                  <a:lnTo>
                    <a:pt x="21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29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82640" y="2416320"/>
            <a:ext cx="244440" cy="245880"/>
            <a:chOff x="782640" y="2416320"/>
            <a:chExt cx="244440" cy="245880"/>
          </a:xfrm>
        </p:grpSpPr>
        <p:sp>
          <p:nvSpPr>
            <p:cNvPr id="490" name=""/>
            <p:cNvSpPr/>
            <p:nvPr/>
          </p:nvSpPr>
          <p:spPr>
            <a:xfrm>
              <a:off x="782640" y="2416320"/>
              <a:ext cx="24444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0160" y="2473200"/>
              <a:ext cx="150840" cy="1504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044720" y="2416320"/>
            <a:ext cx="247320" cy="245880"/>
            <a:chOff x="1044720" y="2416320"/>
            <a:chExt cx="247320" cy="245880"/>
          </a:xfrm>
        </p:grpSpPr>
        <p:sp>
          <p:nvSpPr>
            <p:cNvPr id="493" name=""/>
            <p:cNvSpPr/>
            <p:nvPr/>
          </p:nvSpPr>
          <p:spPr>
            <a:xfrm>
              <a:off x="1044720" y="2416320"/>
              <a:ext cx="24732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93680" y="2454120"/>
              <a:ext cx="149400" cy="1504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308240" y="2416320"/>
            <a:ext cx="247320" cy="245880"/>
            <a:chOff x="1308240" y="2416320"/>
            <a:chExt cx="247320" cy="245880"/>
          </a:xfrm>
        </p:grpSpPr>
        <p:sp>
          <p:nvSpPr>
            <p:cNvPr id="496" name=""/>
            <p:cNvSpPr/>
            <p:nvPr/>
          </p:nvSpPr>
          <p:spPr>
            <a:xfrm>
              <a:off x="1308240" y="2416320"/>
              <a:ext cx="24732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55760" y="2473200"/>
              <a:ext cx="150840" cy="1504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4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4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573200" y="2416320"/>
            <a:ext cx="244440" cy="245880"/>
            <a:chOff x="1573200" y="2416320"/>
            <a:chExt cx="244440" cy="245880"/>
          </a:xfrm>
        </p:grpSpPr>
        <p:sp>
          <p:nvSpPr>
            <p:cNvPr id="499" name=""/>
            <p:cNvSpPr/>
            <p:nvPr/>
          </p:nvSpPr>
          <p:spPr>
            <a:xfrm>
              <a:off x="1573200" y="2416320"/>
              <a:ext cx="244440" cy="245880"/>
            </a:xfrm>
            <a:custGeom>
              <a:avLst/>
              <a:gdLst/>
              <a:ahLst/>
              <a:rect l="l" t="t" r="r" b="b"/>
              <a:pathLst>
                <a:path w="160" h="162">
                  <a:moveTo>
                    <a:pt x="0" y="80"/>
                  </a:moveTo>
                  <a:lnTo>
                    <a:pt x="2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7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59" y="65"/>
                  </a:lnTo>
                  <a:lnTo>
                    <a:pt x="160" y="80"/>
                  </a:lnTo>
                  <a:lnTo>
                    <a:pt x="159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7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5" y="161"/>
                  </a:lnTo>
                  <a:lnTo>
                    <a:pt x="57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2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22520" y="2454120"/>
              <a:ext cx="145800" cy="15048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47" y="98"/>
                  </a:moveTo>
                  <a:lnTo>
                    <a:pt x="57" y="97"/>
                  </a:lnTo>
                  <a:lnTo>
                    <a:pt x="66" y="95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88" y="76"/>
                  </a:lnTo>
                  <a:lnTo>
                    <a:pt x="93" y="68"/>
                  </a:lnTo>
                  <a:lnTo>
                    <a:pt x="95" y="59"/>
                  </a:lnTo>
                  <a:lnTo>
                    <a:pt x="96" y="48"/>
                  </a:lnTo>
                  <a:lnTo>
                    <a:pt x="95" y="39"/>
                  </a:lnTo>
                  <a:lnTo>
                    <a:pt x="93" y="30"/>
                  </a:lnTo>
                  <a:lnTo>
                    <a:pt x="88" y="22"/>
                  </a:lnTo>
                  <a:lnTo>
                    <a:pt x="83" y="14"/>
                  </a:lnTo>
                  <a:lnTo>
                    <a:pt x="75" y="8"/>
                  </a:lnTo>
                  <a:lnTo>
                    <a:pt x="66" y="3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20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0" y="90"/>
                  </a:lnTo>
                  <a:lnTo>
                    <a:pt x="28" y="95"/>
                  </a:lnTo>
                  <a:lnTo>
                    <a:pt x="38" y="97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836720" y="2416320"/>
            <a:ext cx="244440" cy="245880"/>
            <a:chOff x="1836720" y="2416320"/>
            <a:chExt cx="244440" cy="245880"/>
          </a:xfrm>
        </p:grpSpPr>
        <p:sp>
          <p:nvSpPr>
            <p:cNvPr id="502" name=""/>
            <p:cNvSpPr/>
            <p:nvPr/>
          </p:nvSpPr>
          <p:spPr>
            <a:xfrm>
              <a:off x="1836720" y="2416320"/>
              <a:ext cx="244440" cy="2458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84240" y="2473200"/>
              <a:ext cx="150840" cy="1504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040600" y="2292480"/>
            <a:ext cx="836640" cy="504720"/>
          </a:xfrm>
          <a:custGeom>
            <a:avLst/>
            <a:gdLst/>
            <a:ahLst/>
            <a:rect l="l" t="t" r="r" b="b"/>
            <a:pathLst>
              <a:path w="527" h="318">
                <a:moveTo>
                  <a:pt x="307" y="15"/>
                </a:moveTo>
                <a:cubicBezTo>
                  <a:pt x="334" y="9"/>
                  <a:pt x="376" y="0"/>
                  <a:pt x="401" y="2"/>
                </a:cubicBezTo>
                <a:cubicBezTo>
                  <a:pt x="426" y="4"/>
                  <a:pt x="438" y="12"/>
                  <a:pt x="457" y="27"/>
                </a:cubicBezTo>
                <a:cubicBezTo>
                  <a:pt x="475" y="43"/>
                  <a:pt x="501" y="72"/>
                  <a:pt x="512" y="96"/>
                </a:cubicBezTo>
                <a:cubicBezTo>
                  <a:pt x="522" y="121"/>
                  <a:pt x="527" y="146"/>
                  <a:pt x="520" y="177"/>
                </a:cubicBezTo>
                <a:cubicBezTo>
                  <a:pt x="513" y="208"/>
                  <a:pt x="499" y="261"/>
                  <a:pt x="467" y="284"/>
                </a:cubicBezTo>
                <a:cubicBezTo>
                  <a:pt x="435" y="307"/>
                  <a:pt x="362" y="310"/>
                  <a:pt x="329" y="314"/>
                </a:cubicBezTo>
                <a:cubicBezTo>
                  <a:pt x="296" y="318"/>
                  <a:pt x="317" y="311"/>
                  <a:pt x="267" y="308"/>
                </a:cubicBezTo>
                <a:cubicBezTo>
                  <a:pt x="217" y="305"/>
                  <a:pt x="61" y="300"/>
                  <a:pt x="30" y="296"/>
                </a:cubicBezTo>
                <a:cubicBezTo>
                  <a:pt x="0" y="291"/>
                  <a:pt x="51" y="284"/>
                  <a:pt x="86" y="276"/>
                </a:cubicBezTo>
                <a:cubicBezTo>
                  <a:pt x="121" y="268"/>
                  <a:pt x="196" y="252"/>
                  <a:pt x="239" y="248"/>
                </a:cubicBezTo>
                <a:cubicBezTo>
                  <a:pt x="282" y="244"/>
                  <a:pt x="315" y="257"/>
                  <a:pt x="346" y="252"/>
                </a:cubicBezTo>
                <a:cubicBezTo>
                  <a:pt x="377" y="247"/>
                  <a:pt x="407" y="238"/>
                  <a:pt x="425" y="220"/>
                </a:cubicBezTo>
                <a:cubicBezTo>
                  <a:pt x="443" y="204"/>
                  <a:pt x="457" y="175"/>
                  <a:pt x="457" y="152"/>
                </a:cubicBezTo>
                <a:cubicBezTo>
                  <a:pt x="457" y="130"/>
                  <a:pt x="455" y="99"/>
                  <a:pt x="425" y="83"/>
                </a:cubicBezTo>
                <a:cubicBezTo>
                  <a:pt x="395" y="68"/>
                  <a:pt x="307" y="67"/>
                  <a:pt x="275" y="58"/>
                </a:cubicBezTo>
                <a:cubicBezTo>
                  <a:pt x="243" y="50"/>
                  <a:pt x="230" y="41"/>
                  <a:pt x="236" y="33"/>
                </a:cubicBezTo>
                <a:cubicBezTo>
                  <a:pt x="241" y="27"/>
                  <a:pt x="280" y="17"/>
                  <a:pt x="307" y="1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103480" y="2417760"/>
            <a:ext cx="247680" cy="246240"/>
            <a:chOff x="2103480" y="2417760"/>
            <a:chExt cx="247680" cy="246240"/>
          </a:xfrm>
        </p:grpSpPr>
        <p:sp>
          <p:nvSpPr>
            <p:cNvPr id="506" name=""/>
            <p:cNvSpPr/>
            <p:nvPr/>
          </p:nvSpPr>
          <p:spPr>
            <a:xfrm>
              <a:off x="210348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5244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370240" y="2417760"/>
            <a:ext cx="244440" cy="246240"/>
            <a:chOff x="2370240" y="2417760"/>
            <a:chExt cx="244440" cy="246240"/>
          </a:xfrm>
        </p:grpSpPr>
        <p:sp>
          <p:nvSpPr>
            <p:cNvPr id="509" name=""/>
            <p:cNvSpPr/>
            <p:nvPr/>
          </p:nvSpPr>
          <p:spPr>
            <a:xfrm>
              <a:off x="237024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15960" y="2475000"/>
              <a:ext cx="15228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1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1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631960" y="2417760"/>
            <a:ext cx="247680" cy="246240"/>
            <a:chOff x="2631960" y="2417760"/>
            <a:chExt cx="247680" cy="246240"/>
          </a:xfrm>
        </p:grpSpPr>
        <p:sp>
          <p:nvSpPr>
            <p:cNvPr id="512" name=""/>
            <p:cNvSpPr/>
            <p:nvPr/>
          </p:nvSpPr>
          <p:spPr>
            <a:xfrm>
              <a:off x="263196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9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2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8" y="127"/>
                  </a:lnTo>
                  <a:lnTo>
                    <a:pt x="139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81280" y="2455920"/>
              <a:ext cx="149040" cy="15084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8"/>
                  </a:moveTo>
                  <a:lnTo>
                    <a:pt x="58" y="97"/>
                  </a:lnTo>
                  <a:lnTo>
                    <a:pt x="67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89" y="76"/>
                  </a:lnTo>
                  <a:lnTo>
                    <a:pt x="94" y="68"/>
                  </a:lnTo>
                  <a:lnTo>
                    <a:pt x="96" y="59"/>
                  </a:lnTo>
                  <a:lnTo>
                    <a:pt x="97" y="48"/>
                  </a:lnTo>
                  <a:lnTo>
                    <a:pt x="96" y="39"/>
                  </a:lnTo>
                  <a:lnTo>
                    <a:pt x="94" y="30"/>
                  </a:lnTo>
                  <a:lnTo>
                    <a:pt x="89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7" y="3"/>
                  </a:lnTo>
                  <a:lnTo>
                    <a:pt x="58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3"/>
                  </a:lnTo>
                  <a:lnTo>
                    <a:pt x="21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29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898720" y="2417760"/>
            <a:ext cx="244440" cy="246240"/>
            <a:chOff x="2898720" y="2417760"/>
            <a:chExt cx="244440" cy="246240"/>
          </a:xfrm>
        </p:grpSpPr>
        <p:sp>
          <p:nvSpPr>
            <p:cNvPr id="515" name=""/>
            <p:cNvSpPr/>
            <p:nvPr/>
          </p:nvSpPr>
          <p:spPr>
            <a:xfrm>
              <a:off x="289872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4624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160800" y="2417760"/>
            <a:ext cx="247320" cy="246240"/>
            <a:chOff x="3160800" y="2417760"/>
            <a:chExt cx="247320" cy="246240"/>
          </a:xfrm>
        </p:grpSpPr>
        <p:sp>
          <p:nvSpPr>
            <p:cNvPr id="518" name=""/>
            <p:cNvSpPr/>
            <p:nvPr/>
          </p:nvSpPr>
          <p:spPr>
            <a:xfrm>
              <a:off x="316080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0976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424320" y="2417760"/>
            <a:ext cx="247320" cy="246240"/>
            <a:chOff x="3424320" y="2417760"/>
            <a:chExt cx="247320" cy="246240"/>
          </a:xfrm>
        </p:grpSpPr>
        <p:sp>
          <p:nvSpPr>
            <p:cNvPr id="521" name=""/>
            <p:cNvSpPr/>
            <p:nvPr/>
          </p:nvSpPr>
          <p:spPr>
            <a:xfrm>
              <a:off x="342432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7184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4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4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689280" y="2417760"/>
            <a:ext cx="244440" cy="246240"/>
            <a:chOff x="3689280" y="2417760"/>
            <a:chExt cx="244440" cy="246240"/>
          </a:xfrm>
        </p:grpSpPr>
        <p:sp>
          <p:nvSpPr>
            <p:cNvPr id="524" name=""/>
            <p:cNvSpPr/>
            <p:nvPr/>
          </p:nvSpPr>
          <p:spPr>
            <a:xfrm>
              <a:off x="368928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0" h="162">
                  <a:moveTo>
                    <a:pt x="0" y="80"/>
                  </a:moveTo>
                  <a:lnTo>
                    <a:pt x="2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7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59" y="65"/>
                  </a:lnTo>
                  <a:lnTo>
                    <a:pt x="160" y="80"/>
                  </a:lnTo>
                  <a:lnTo>
                    <a:pt x="159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7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5" y="161"/>
                  </a:lnTo>
                  <a:lnTo>
                    <a:pt x="57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2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38600" y="2455920"/>
              <a:ext cx="145800" cy="1508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47" y="98"/>
                  </a:moveTo>
                  <a:lnTo>
                    <a:pt x="57" y="97"/>
                  </a:lnTo>
                  <a:lnTo>
                    <a:pt x="66" y="95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88" y="76"/>
                  </a:lnTo>
                  <a:lnTo>
                    <a:pt x="93" y="68"/>
                  </a:lnTo>
                  <a:lnTo>
                    <a:pt x="95" y="59"/>
                  </a:lnTo>
                  <a:lnTo>
                    <a:pt x="96" y="48"/>
                  </a:lnTo>
                  <a:lnTo>
                    <a:pt x="95" y="39"/>
                  </a:lnTo>
                  <a:lnTo>
                    <a:pt x="93" y="30"/>
                  </a:lnTo>
                  <a:lnTo>
                    <a:pt x="88" y="22"/>
                  </a:lnTo>
                  <a:lnTo>
                    <a:pt x="83" y="14"/>
                  </a:lnTo>
                  <a:lnTo>
                    <a:pt x="75" y="8"/>
                  </a:lnTo>
                  <a:lnTo>
                    <a:pt x="66" y="3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20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0" y="90"/>
                  </a:lnTo>
                  <a:lnTo>
                    <a:pt x="28" y="95"/>
                  </a:lnTo>
                  <a:lnTo>
                    <a:pt x="38" y="97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52800" y="2417760"/>
            <a:ext cx="244440" cy="246240"/>
            <a:chOff x="3952800" y="2417760"/>
            <a:chExt cx="244440" cy="246240"/>
          </a:xfrm>
        </p:grpSpPr>
        <p:sp>
          <p:nvSpPr>
            <p:cNvPr id="527" name=""/>
            <p:cNvSpPr/>
            <p:nvPr/>
          </p:nvSpPr>
          <p:spPr>
            <a:xfrm>
              <a:off x="395280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0032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218120" y="2417760"/>
            <a:ext cx="247680" cy="246240"/>
            <a:chOff x="4218120" y="2417760"/>
            <a:chExt cx="247680" cy="246240"/>
          </a:xfrm>
        </p:grpSpPr>
        <p:sp>
          <p:nvSpPr>
            <p:cNvPr id="530" name=""/>
            <p:cNvSpPr/>
            <p:nvPr/>
          </p:nvSpPr>
          <p:spPr>
            <a:xfrm>
              <a:off x="421812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6708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484520" y="2417760"/>
            <a:ext cx="244800" cy="246240"/>
            <a:chOff x="4484520" y="2417760"/>
            <a:chExt cx="244800" cy="246240"/>
          </a:xfrm>
        </p:grpSpPr>
        <p:sp>
          <p:nvSpPr>
            <p:cNvPr id="533" name=""/>
            <p:cNvSpPr/>
            <p:nvPr/>
          </p:nvSpPr>
          <p:spPr>
            <a:xfrm>
              <a:off x="4484520" y="2417760"/>
              <a:ext cx="24480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30600" y="2475000"/>
              <a:ext cx="15264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1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1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746600" y="2417760"/>
            <a:ext cx="247680" cy="246240"/>
            <a:chOff x="4746600" y="2417760"/>
            <a:chExt cx="247680" cy="246240"/>
          </a:xfrm>
        </p:grpSpPr>
        <p:sp>
          <p:nvSpPr>
            <p:cNvPr id="536" name=""/>
            <p:cNvSpPr/>
            <p:nvPr/>
          </p:nvSpPr>
          <p:spPr>
            <a:xfrm>
              <a:off x="474660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9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2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8" y="127"/>
                  </a:lnTo>
                  <a:lnTo>
                    <a:pt x="139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95920" y="2455920"/>
              <a:ext cx="149040" cy="15084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8"/>
                  </a:moveTo>
                  <a:lnTo>
                    <a:pt x="58" y="97"/>
                  </a:lnTo>
                  <a:lnTo>
                    <a:pt x="67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89" y="76"/>
                  </a:lnTo>
                  <a:lnTo>
                    <a:pt x="94" y="68"/>
                  </a:lnTo>
                  <a:lnTo>
                    <a:pt x="96" y="59"/>
                  </a:lnTo>
                  <a:lnTo>
                    <a:pt x="97" y="48"/>
                  </a:lnTo>
                  <a:lnTo>
                    <a:pt x="96" y="39"/>
                  </a:lnTo>
                  <a:lnTo>
                    <a:pt x="94" y="30"/>
                  </a:lnTo>
                  <a:lnTo>
                    <a:pt x="89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7" y="3"/>
                  </a:lnTo>
                  <a:lnTo>
                    <a:pt x="58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3"/>
                  </a:lnTo>
                  <a:lnTo>
                    <a:pt x="21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29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013360" y="2417760"/>
            <a:ext cx="244440" cy="246240"/>
            <a:chOff x="5013360" y="2417760"/>
            <a:chExt cx="244440" cy="246240"/>
          </a:xfrm>
        </p:grpSpPr>
        <p:sp>
          <p:nvSpPr>
            <p:cNvPr id="539" name=""/>
            <p:cNvSpPr/>
            <p:nvPr/>
          </p:nvSpPr>
          <p:spPr>
            <a:xfrm>
              <a:off x="501336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6088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275440" y="2417760"/>
            <a:ext cx="247320" cy="246240"/>
            <a:chOff x="5275440" y="2417760"/>
            <a:chExt cx="247320" cy="246240"/>
          </a:xfrm>
        </p:grpSpPr>
        <p:sp>
          <p:nvSpPr>
            <p:cNvPr id="542" name=""/>
            <p:cNvSpPr/>
            <p:nvPr/>
          </p:nvSpPr>
          <p:spPr>
            <a:xfrm>
              <a:off x="527544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2440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538960" y="2417760"/>
            <a:ext cx="247320" cy="246240"/>
            <a:chOff x="5538960" y="2417760"/>
            <a:chExt cx="247320" cy="246240"/>
          </a:xfrm>
        </p:grpSpPr>
        <p:sp>
          <p:nvSpPr>
            <p:cNvPr id="545" name=""/>
            <p:cNvSpPr/>
            <p:nvPr/>
          </p:nvSpPr>
          <p:spPr>
            <a:xfrm>
              <a:off x="553896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8648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4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4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803920" y="2417760"/>
            <a:ext cx="244440" cy="246240"/>
            <a:chOff x="5803920" y="2417760"/>
            <a:chExt cx="244440" cy="246240"/>
          </a:xfrm>
        </p:grpSpPr>
        <p:sp>
          <p:nvSpPr>
            <p:cNvPr id="548" name=""/>
            <p:cNvSpPr/>
            <p:nvPr/>
          </p:nvSpPr>
          <p:spPr>
            <a:xfrm>
              <a:off x="580392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0" h="162">
                  <a:moveTo>
                    <a:pt x="0" y="80"/>
                  </a:moveTo>
                  <a:lnTo>
                    <a:pt x="2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7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59" y="65"/>
                  </a:lnTo>
                  <a:lnTo>
                    <a:pt x="160" y="80"/>
                  </a:lnTo>
                  <a:lnTo>
                    <a:pt x="159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7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5" y="161"/>
                  </a:lnTo>
                  <a:lnTo>
                    <a:pt x="57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2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53240" y="2455920"/>
              <a:ext cx="145800" cy="1508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47" y="98"/>
                  </a:moveTo>
                  <a:lnTo>
                    <a:pt x="57" y="97"/>
                  </a:lnTo>
                  <a:lnTo>
                    <a:pt x="66" y="95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88" y="76"/>
                  </a:lnTo>
                  <a:lnTo>
                    <a:pt x="93" y="68"/>
                  </a:lnTo>
                  <a:lnTo>
                    <a:pt x="95" y="59"/>
                  </a:lnTo>
                  <a:lnTo>
                    <a:pt x="96" y="48"/>
                  </a:lnTo>
                  <a:lnTo>
                    <a:pt x="95" y="39"/>
                  </a:lnTo>
                  <a:lnTo>
                    <a:pt x="93" y="30"/>
                  </a:lnTo>
                  <a:lnTo>
                    <a:pt x="88" y="22"/>
                  </a:lnTo>
                  <a:lnTo>
                    <a:pt x="83" y="14"/>
                  </a:lnTo>
                  <a:lnTo>
                    <a:pt x="75" y="8"/>
                  </a:lnTo>
                  <a:lnTo>
                    <a:pt x="66" y="3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20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0" y="90"/>
                  </a:lnTo>
                  <a:lnTo>
                    <a:pt x="28" y="95"/>
                  </a:lnTo>
                  <a:lnTo>
                    <a:pt x="38" y="97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067440" y="2417760"/>
            <a:ext cx="244440" cy="246240"/>
            <a:chOff x="6067440" y="2417760"/>
            <a:chExt cx="244440" cy="246240"/>
          </a:xfrm>
        </p:grpSpPr>
        <p:sp>
          <p:nvSpPr>
            <p:cNvPr id="551" name=""/>
            <p:cNvSpPr/>
            <p:nvPr/>
          </p:nvSpPr>
          <p:spPr>
            <a:xfrm>
              <a:off x="606744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1496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332400" y="2417760"/>
            <a:ext cx="247680" cy="246240"/>
            <a:chOff x="6332400" y="2417760"/>
            <a:chExt cx="247680" cy="246240"/>
          </a:xfrm>
        </p:grpSpPr>
        <p:sp>
          <p:nvSpPr>
            <p:cNvPr id="554" name=""/>
            <p:cNvSpPr/>
            <p:nvPr/>
          </p:nvSpPr>
          <p:spPr>
            <a:xfrm>
              <a:off x="633240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8136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599160" y="2417760"/>
            <a:ext cx="244440" cy="246240"/>
            <a:chOff x="6599160" y="2417760"/>
            <a:chExt cx="244440" cy="246240"/>
          </a:xfrm>
        </p:grpSpPr>
        <p:sp>
          <p:nvSpPr>
            <p:cNvPr id="557" name=""/>
            <p:cNvSpPr/>
            <p:nvPr/>
          </p:nvSpPr>
          <p:spPr>
            <a:xfrm>
              <a:off x="659916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44880" y="2475000"/>
              <a:ext cx="15228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1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1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861240" y="2417760"/>
            <a:ext cx="247680" cy="246240"/>
            <a:chOff x="6861240" y="2417760"/>
            <a:chExt cx="247680" cy="246240"/>
          </a:xfrm>
        </p:grpSpPr>
        <p:sp>
          <p:nvSpPr>
            <p:cNvPr id="560" name=""/>
            <p:cNvSpPr/>
            <p:nvPr/>
          </p:nvSpPr>
          <p:spPr>
            <a:xfrm>
              <a:off x="6861240" y="2417760"/>
              <a:ext cx="247680" cy="2462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9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2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8" y="127"/>
                  </a:lnTo>
                  <a:lnTo>
                    <a:pt x="139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10560" y="2455920"/>
              <a:ext cx="149040" cy="15084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8"/>
                  </a:moveTo>
                  <a:lnTo>
                    <a:pt x="58" y="97"/>
                  </a:lnTo>
                  <a:lnTo>
                    <a:pt x="67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89" y="76"/>
                  </a:lnTo>
                  <a:lnTo>
                    <a:pt x="94" y="68"/>
                  </a:lnTo>
                  <a:lnTo>
                    <a:pt x="96" y="59"/>
                  </a:lnTo>
                  <a:lnTo>
                    <a:pt x="97" y="48"/>
                  </a:lnTo>
                  <a:lnTo>
                    <a:pt x="96" y="39"/>
                  </a:lnTo>
                  <a:lnTo>
                    <a:pt x="94" y="30"/>
                  </a:lnTo>
                  <a:lnTo>
                    <a:pt x="89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7" y="3"/>
                  </a:lnTo>
                  <a:lnTo>
                    <a:pt x="58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3"/>
                  </a:lnTo>
                  <a:lnTo>
                    <a:pt x="21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29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7128000" y="2417760"/>
            <a:ext cx="244440" cy="246240"/>
            <a:chOff x="7128000" y="2417760"/>
            <a:chExt cx="244440" cy="246240"/>
          </a:xfrm>
        </p:grpSpPr>
        <p:sp>
          <p:nvSpPr>
            <p:cNvPr id="563" name=""/>
            <p:cNvSpPr/>
            <p:nvPr/>
          </p:nvSpPr>
          <p:spPr>
            <a:xfrm>
              <a:off x="712800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3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7552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389720" y="2417760"/>
            <a:ext cx="247320" cy="246240"/>
            <a:chOff x="7389720" y="2417760"/>
            <a:chExt cx="247320" cy="246240"/>
          </a:xfrm>
        </p:grpSpPr>
        <p:sp>
          <p:nvSpPr>
            <p:cNvPr id="566" name=""/>
            <p:cNvSpPr/>
            <p:nvPr/>
          </p:nvSpPr>
          <p:spPr>
            <a:xfrm>
              <a:off x="738972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38680" y="2455920"/>
              <a:ext cx="14940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653240" y="2417760"/>
            <a:ext cx="247320" cy="246240"/>
            <a:chOff x="7653240" y="2417760"/>
            <a:chExt cx="247320" cy="246240"/>
          </a:xfrm>
        </p:grpSpPr>
        <p:sp>
          <p:nvSpPr>
            <p:cNvPr id="569" name=""/>
            <p:cNvSpPr/>
            <p:nvPr/>
          </p:nvSpPr>
          <p:spPr>
            <a:xfrm>
              <a:off x="7653240" y="241776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8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0076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8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4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4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8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918560" y="2417760"/>
            <a:ext cx="244440" cy="246240"/>
            <a:chOff x="7918560" y="2417760"/>
            <a:chExt cx="244440" cy="246240"/>
          </a:xfrm>
        </p:grpSpPr>
        <p:sp>
          <p:nvSpPr>
            <p:cNvPr id="572" name=""/>
            <p:cNvSpPr/>
            <p:nvPr/>
          </p:nvSpPr>
          <p:spPr>
            <a:xfrm>
              <a:off x="791856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0" h="162">
                  <a:moveTo>
                    <a:pt x="0" y="80"/>
                  </a:moveTo>
                  <a:lnTo>
                    <a:pt x="2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7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59" y="65"/>
                  </a:lnTo>
                  <a:lnTo>
                    <a:pt x="160" y="80"/>
                  </a:lnTo>
                  <a:lnTo>
                    <a:pt x="159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7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5" y="161"/>
                  </a:lnTo>
                  <a:lnTo>
                    <a:pt x="57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2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67880" y="2455920"/>
              <a:ext cx="145800" cy="1508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47" y="98"/>
                  </a:moveTo>
                  <a:lnTo>
                    <a:pt x="57" y="97"/>
                  </a:lnTo>
                  <a:lnTo>
                    <a:pt x="66" y="95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88" y="76"/>
                  </a:lnTo>
                  <a:lnTo>
                    <a:pt x="93" y="68"/>
                  </a:lnTo>
                  <a:lnTo>
                    <a:pt x="95" y="59"/>
                  </a:lnTo>
                  <a:lnTo>
                    <a:pt x="96" y="48"/>
                  </a:lnTo>
                  <a:lnTo>
                    <a:pt x="95" y="39"/>
                  </a:lnTo>
                  <a:lnTo>
                    <a:pt x="93" y="30"/>
                  </a:lnTo>
                  <a:lnTo>
                    <a:pt x="88" y="22"/>
                  </a:lnTo>
                  <a:lnTo>
                    <a:pt x="83" y="14"/>
                  </a:lnTo>
                  <a:lnTo>
                    <a:pt x="75" y="8"/>
                  </a:lnTo>
                  <a:lnTo>
                    <a:pt x="66" y="3"/>
                  </a:lnTo>
                  <a:lnTo>
                    <a:pt x="57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20" y="8"/>
                  </a:lnTo>
                  <a:lnTo>
                    <a:pt x="13" y="14"/>
                  </a:lnTo>
                  <a:lnTo>
                    <a:pt x="8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8" y="76"/>
                  </a:lnTo>
                  <a:lnTo>
                    <a:pt x="13" y="83"/>
                  </a:lnTo>
                  <a:lnTo>
                    <a:pt x="20" y="90"/>
                  </a:lnTo>
                  <a:lnTo>
                    <a:pt x="28" y="95"/>
                  </a:lnTo>
                  <a:lnTo>
                    <a:pt x="38" y="97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8182080" y="2417760"/>
            <a:ext cx="244440" cy="246240"/>
            <a:chOff x="8182080" y="2417760"/>
            <a:chExt cx="244440" cy="246240"/>
          </a:xfrm>
        </p:grpSpPr>
        <p:sp>
          <p:nvSpPr>
            <p:cNvPr id="575" name=""/>
            <p:cNvSpPr/>
            <p:nvPr/>
          </p:nvSpPr>
          <p:spPr>
            <a:xfrm>
              <a:off x="8182080" y="2417760"/>
              <a:ext cx="24444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6" y="14"/>
                  </a:lnTo>
                  <a:lnTo>
                    <a:pt x="43" y="9"/>
                  </a:lnTo>
                  <a:lnTo>
                    <a:pt x="50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6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9" y="37"/>
                  </a:lnTo>
                  <a:lnTo>
                    <a:pt x="156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6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6" y="148"/>
                  </a:lnTo>
                  <a:lnTo>
                    <a:pt x="112" y="155"/>
                  </a:lnTo>
                  <a:lnTo>
                    <a:pt x="97" y="161"/>
                  </a:lnTo>
                  <a:lnTo>
                    <a:pt x="81" y="162"/>
                  </a:lnTo>
                  <a:lnTo>
                    <a:pt x="73" y="162"/>
                  </a:lnTo>
                  <a:lnTo>
                    <a:pt x="65" y="161"/>
                  </a:lnTo>
                  <a:lnTo>
                    <a:pt x="58" y="159"/>
                  </a:lnTo>
                  <a:lnTo>
                    <a:pt x="50" y="155"/>
                  </a:lnTo>
                  <a:lnTo>
                    <a:pt x="43" y="152"/>
                  </a:lnTo>
                  <a:lnTo>
                    <a:pt x="36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3" y="125"/>
                  </a:lnTo>
                  <a:lnTo>
                    <a:pt x="6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29600" y="2475000"/>
              <a:ext cx="150840" cy="15084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98"/>
                  </a:moveTo>
                  <a:lnTo>
                    <a:pt x="59" y="97"/>
                  </a:lnTo>
                  <a:lnTo>
                    <a:pt x="68" y="95"/>
                  </a:lnTo>
                  <a:lnTo>
                    <a:pt x="76" y="90"/>
                  </a:lnTo>
                  <a:lnTo>
                    <a:pt x="84" y="83"/>
                  </a:lnTo>
                  <a:lnTo>
                    <a:pt x="90" y="76"/>
                  </a:lnTo>
                  <a:lnTo>
                    <a:pt x="95" y="68"/>
                  </a:lnTo>
                  <a:lnTo>
                    <a:pt x="97" y="59"/>
                  </a:lnTo>
                  <a:lnTo>
                    <a:pt x="98" y="48"/>
                  </a:lnTo>
                  <a:lnTo>
                    <a:pt x="97" y="39"/>
                  </a:lnTo>
                  <a:lnTo>
                    <a:pt x="95" y="30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8"/>
                  </a:lnTo>
                  <a:lnTo>
                    <a:pt x="8" y="76"/>
                  </a:lnTo>
                  <a:lnTo>
                    <a:pt x="14" y="83"/>
                  </a:lnTo>
                  <a:lnTo>
                    <a:pt x="22" y="90"/>
                  </a:lnTo>
                  <a:lnTo>
                    <a:pt x="30" y="95"/>
                  </a:lnTo>
                  <a:lnTo>
                    <a:pt x="39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448840" y="2419200"/>
            <a:ext cx="247320" cy="246240"/>
            <a:chOff x="8448840" y="2419200"/>
            <a:chExt cx="247320" cy="246240"/>
          </a:xfrm>
        </p:grpSpPr>
        <p:sp>
          <p:nvSpPr>
            <p:cNvPr id="578" name=""/>
            <p:cNvSpPr/>
            <p:nvPr/>
          </p:nvSpPr>
          <p:spPr>
            <a:xfrm>
              <a:off x="8448840" y="2419200"/>
              <a:ext cx="247320" cy="2462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80"/>
                  </a:moveTo>
                  <a:lnTo>
                    <a:pt x="1" y="65"/>
                  </a:lnTo>
                  <a:lnTo>
                    <a:pt x="5" y="50"/>
                  </a:lnTo>
                  <a:lnTo>
                    <a:pt x="12" y="37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35" y="14"/>
                  </a:lnTo>
                  <a:lnTo>
                    <a:pt x="42" y="9"/>
                  </a:lnTo>
                  <a:lnTo>
                    <a:pt x="49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1" y="6"/>
                  </a:lnTo>
                  <a:lnTo>
                    <a:pt x="118" y="9"/>
                  </a:lnTo>
                  <a:lnTo>
                    <a:pt x="125" y="14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8" y="37"/>
                  </a:lnTo>
                  <a:lnTo>
                    <a:pt x="155" y="50"/>
                  </a:lnTo>
                  <a:lnTo>
                    <a:pt x="160" y="65"/>
                  </a:lnTo>
                  <a:lnTo>
                    <a:pt x="161" y="80"/>
                  </a:lnTo>
                  <a:lnTo>
                    <a:pt x="160" y="97"/>
                  </a:lnTo>
                  <a:lnTo>
                    <a:pt x="155" y="113"/>
                  </a:lnTo>
                  <a:lnTo>
                    <a:pt x="147" y="127"/>
                  </a:lnTo>
                  <a:lnTo>
                    <a:pt x="138" y="138"/>
                  </a:lnTo>
                  <a:lnTo>
                    <a:pt x="125" y="148"/>
                  </a:lnTo>
                  <a:lnTo>
                    <a:pt x="111" y="155"/>
                  </a:lnTo>
                  <a:lnTo>
                    <a:pt x="96" y="161"/>
                  </a:lnTo>
                  <a:lnTo>
                    <a:pt x="80" y="162"/>
                  </a:lnTo>
                  <a:lnTo>
                    <a:pt x="72" y="162"/>
                  </a:lnTo>
                  <a:lnTo>
                    <a:pt x="64" y="161"/>
                  </a:lnTo>
                  <a:lnTo>
                    <a:pt x="57" y="159"/>
                  </a:lnTo>
                  <a:lnTo>
                    <a:pt x="49" y="155"/>
                  </a:lnTo>
                  <a:lnTo>
                    <a:pt x="42" y="152"/>
                  </a:lnTo>
                  <a:lnTo>
                    <a:pt x="35" y="148"/>
                  </a:lnTo>
                  <a:lnTo>
                    <a:pt x="29" y="144"/>
                  </a:lnTo>
                  <a:lnTo>
                    <a:pt x="23" y="138"/>
                  </a:lnTo>
                  <a:lnTo>
                    <a:pt x="12" y="125"/>
                  </a:lnTo>
                  <a:lnTo>
                    <a:pt x="5" y="112"/>
                  </a:lnTo>
                  <a:lnTo>
                    <a:pt x="1" y="9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497440" y="2457360"/>
              <a:ext cx="149040" cy="1508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49" y="98"/>
                  </a:moveTo>
                  <a:lnTo>
                    <a:pt x="60" y="97"/>
                  </a:lnTo>
                  <a:lnTo>
                    <a:pt x="69" y="95"/>
                  </a:lnTo>
                  <a:lnTo>
                    <a:pt x="77" y="90"/>
                  </a:lnTo>
                  <a:lnTo>
                    <a:pt x="85" y="83"/>
                  </a:lnTo>
                  <a:lnTo>
                    <a:pt x="91" y="76"/>
                  </a:lnTo>
                  <a:lnTo>
                    <a:pt x="95" y="68"/>
                  </a:lnTo>
                  <a:lnTo>
                    <a:pt x="98" y="59"/>
                  </a:lnTo>
                  <a:lnTo>
                    <a:pt x="99" y="48"/>
                  </a:lnTo>
                  <a:lnTo>
                    <a:pt x="98" y="39"/>
                  </a:lnTo>
                  <a:lnTo>
                    <a:pt x="95" y="30"/>
                  </a:lnTo>
                  <a:lnTo>
                    <a:pt x="91" y="22"/>
                  </a:lnTo>
                  <a:lnTo>
                    <a:pt x="85" y="14"/>
                  </a:lnTo>
                  <a:lnTo>
                    <a:pt x="77" y="8"/>
                  </a:lnTo>
                  <a:lnTo>
                    <a:pt x="69" y="3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90"/>
                  </a:lnTo>
                  <a:lnTo>
                    <a:pt x="31" y="95"/>
                  </a:lnTo>
                  <a:lnTo>
                    <a:pt x="40" y="97"/>
                  </a:lnTo>
                  <a:lnTo>
                    <a:pt x="49" y="9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-482760" y="2690640"/>
            <a:ext cx="9141120" cy="106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6129360" y="3159000"/>
            <a:ext cx="2647800" cy="17049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6276960" y="48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07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09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11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13" dur="3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15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17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19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21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2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25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27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29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31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33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35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37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39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41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43" dur="3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45" dur="3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47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49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5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53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55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57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59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61" dur="3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63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65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67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69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171" dur="3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800"/>
                            </p:stCondLst>
                            <p:childTnLst>
                              <p:par>
                                <p:cTn id="210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100"/>
                            </p:stCondLst>
                            <p:childTnLst>
                              <p:par>
                                <p:cTn id="213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400"/>
                            </p:stCondLst>
                            <p:childTnLst>
                              <p:par>
                                <p:cTn id="216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indefinite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700"/>
                            </p:stCondLst>
                            <p:childTnLst>
                              <p:par>
                                <p:cTn id="219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indefinite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300"/>
                            </p:stCondLst>
                            <p:childTnLst>
                              <p:par>
                                <p:cTn id="225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600"/>
                            </p:stCondLst>
                            <p:childTnLst>
                              <p:par>
                                <p:cTn id="228" nodeType="afterEffect" fill="remove" presetClass="emph" presetID="9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ite the obvious advantages of reprocessing, it is not utilized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reasons why the United States does not reprocess its nuclear 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cessed waste can be used in nuclear weapons unlike waste that is not repro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processing phase is expensive and since it is not necessary for the fuel cycle it is economical to take that step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ite these disadvantages reprocessing does occur in countries like France, Japan, Russia and In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92200" y="781200"/>
            <a:ext cx="541440" cy="793440"/>
            <a:chOff x="592200" y="781200"/>
            <a:chExt cx="541440" cy="793440"/>
          </a:xfrm>
        </p:grpSpPr>
        <p:sp>
          <p:nvSpPr>
            <p:cNvPr id="586" name=""/>
            <p:cNvSpPr/>
            <p:nvPr/>
          </p:nvSpPr>
          <p:spPr>
            <a:xfrm>
              <a:off x="592200" y="1021320"/>
              <a:ext cx="541440" cy="31680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520" y="78120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6520" y="13532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0280" y="105948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91720" y="105804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760" y="120312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44920" y="115308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444680" y="784080"/>
            <a:ext cx="541440" cy="793800"/>
            <a:chOff x="1444680" y="784080"/>
            <a:chExt cx="541440" cy="793800"/>
          </a:xfrm>
        </p:grpSpPr>
        <p:sp>
          <p:nvSpPr>
            <p:cNvPr id="594" name=""/>
            <p:cNvSpPr/>
            <p:nvPr/>
          </p:nvSpPr>
          <p:spPr>
            <a:xfrm>
              <a:off x="1444680" y="1024560"/>
              <a:ext cx="541440" cy="31716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9000" y="78408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9000" y="135648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62760" y="106236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44200" y="106092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50240" y="120636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97400" y="115596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298600" y="782640"/>
            <a:ext cx="541440" cy="793800"/>
            <a:chOff x="2298600" y="782640"/>
            <a:chExt cx="541440" cy="793800"/>
          </a:xfrm>
        </p:grpSpPr>
        <p:sp>
          <p:nvSpPr>
            <p:cNvPr id="602" name=""/>
            <p:cNvSpPr/>
            <p:nvPr/>
          </p:nvSpPr>
          <p:spPr>
            <a:xfrm>
              <a:off x="2298600" y="1023120"/>
              <a:ext cx="541440" cy="31716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02920" y="7826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02920" y="13550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16680" y="106092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98120" y="105948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04160" y="120492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51320" y="115452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303960" y="781200"/>
            <a:ext cx="541440" cy="793440"/>
            <a:chOff x="6303960" y="781200"/>
            <a:chExt cx="541440" cy="793440"/>
          </a:xfrm>
        </p:grpSpPr>
        <p:sp>
          <p:nvSpPr>
            <p:cNvPr id="610" name=""/>
            <p:cNvSpPr/>
            <p:nvPr/>
          </p:nvSpPr>
          <p:spPr>
            <a:xfrm>
              <a:off x="6303960" y="1021320"/>
              <a:ext cx="541440" cy="31680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08280" y="78120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08280" y="13532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22040" y="105948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3480" y="105804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09520" y="120312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56680" y="115308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156440" y="784080"/>
            <a:ext cx="541440" cy="793800"/>
            <a:chOff x="7156440" y="784080"/>
            <a:chExt cx="541440" cy="793800"/>
          </a:xfrm>
        </p:grpSpPr>
        <p:sp>
          <p:nvSpPr>
            <p:cNvPr id="618" name=""/>
            <p:cNvSpPr/>
            <p:nvPr/>
          </p:nvSpPr>
          <p:spPr>
            <a:xfrm>
              <a:off x="7156440" y="1024560"/>
              <a:ext cx="541440" cy="31716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60760" y="78408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60760" y="135648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74520" y="106236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55960" y="106092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62000" y="120636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09160" y="115596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8010360" y="782640"/>
            <a:ext cx="541440" cy="793800"/>
            <a:chOff x="8010360" y="782640"/>
            <a:chExt cx="541440" cy="793800"/>
          </a:xfrm>
        </p:grpSpPr>
        <p:sp>
          <p:nvSpPr>
            <p:cNvPr id="626" name=""/>
            <p:cNvSpPr/>
            <p:nvPr/>
          </p:nvSpPr>
          <p:spPr>
            <a:xfrm>
              <a:off x="8010360" y="1023120"/>
              <a:ext cx="541440" cy="317160"/>
            </a:xfrm>
            <a:custGeom>
              <a:avLst/>
              <a:gdLst/>
              <a:ahLst/>
              <a:rect l="l" t="t" r="r" b="b"/>
              <a:pathLst>
                <a:path w="866" h="600">
                  <a:moveTo>
                    <a:pt x="866" y="600"/>
                  </a:moveTo>
                  <a:lnTo>
                    <a:pt x="839" y="544"/>
                  </a:lnTo>
                  <a:lnTo>
                    <a:pt x="839" y="52"/>
                  </a:lnTo>
                  <a:lnTo>
                    <a:pt x="859" y="0"/>
                  </a:lnTo>
                  <a:lnTo>
                    <a:pt x="0" y="0"/>
                  </a:lnTo>
                  <a:lnTo>
                    <a:pt x="33" y="58"/>
                  </a:lnTo>
                  <a:lnTo>
                    <a:pt x="33" y="551"/>
                  </a:lnTo>
                  <a:lnTo>
                    <a:pt x="13" y="600"/>
                  </a:lnTo>
                  <a:lnTo>
                    <a:pt x="866" y="6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14680" y="7826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5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14680" y="1355040"/>
              <a:ext cx="537120" cy="221400"/>
            </a:xfrm>
            <a:custGeom>
              <a:avLst/>
              <a:gdLst/>
              <a:ahLst/>
              <a:rect l="l" t="t" r="r" b="b"/>
              <a:pathLst>
                <a:path w="859" h="419">
                  <a:moveTo>
                    <a:pt x="859" y="419"/>
                  </a:moveTo>
                  <a:lnTo>
                    <a:pt x="832" y="353"/>
                  </a:lnTo>
                  <a:lnTo>
                    <a:pt x="832" y="59"/>
                  </a:lnTo>
                  <a:lnTo>
                    <a:pt x="852" y="0"/>
                  </a:lnTo>
                  <a:lnTo>
                    <a:pt x="0" y="0"/>
                  </a:lnTo>
                  <a:lnTo>
                    <a:pt x="26" y="46"/>
                  </a:lnTo>
                  <a:lnTo>
                    <a:pt x="26" y="353"/>
                  </a:lnTo>
                  <a:lnTo>
                    <a:pt x="0" y="419"/>
                  </a:lnTo>
                  <a:lnTo>
                    <a:pt x="859" y="41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28440" y="1060920"/>
              <a:ext cx="126720" cy="108720"/>
            </a:xfrm>
            <a:custGeom>
              <a:avLst/>
              <a:gdLst/>
              <a:ahLst/>
              <a:rect l="l" t="t" r="r" b="b"/>
              <a:pathLst>
                <a:path w="203" h="206">
                  <a:moveTo>
                    <a:pt x="203" y="157"/>
                  </a:moveTo>
                  <a:lnTo>
                    <a:pt x="109" y="0"/>
                  </a:lnTo>
                  <a:lnTo>
                    <a:pt x="85" y="18"/>
                  </a:lnTo>
                  <a:lnTo>
                    <a:pt x="65" y="40"/>
                  </a:lnTo>
                  <a:lnTo>
                    <a:pt x="46" y="62"/>
                  </a:lnTo>
                  <a:lnTo>
                    <a:pt x="31" y="88"/>
                  </a:lnTo>
                  <a:lnTo>
                    <a:pt x="17" y="115"/>
                  </a:lnTo>
                  <a:lnTo>
                    <a:pt x="8" y="145"/>
                  </a:lnTo>
                  <a:lnTo>
                    <a:pt x="3" y="174"/>
                  </a:lnTo>
                  <a:lnTo>
                    <a:pt x="0" y="206"/>
                  </a:lnTo>
                  <a:lnTo>
                    <a:pt x="179" y="206"/>
                  </a:lnTo>
                  <a:lnTo>
                    <a:pt x="181" y="191"/>
                  </a:lnTo>
                  <a:lnTo>
                    <a:pt x="186" y="178"/>
                  </a:lnTo>
                  <a:lnTo>
                    <a:pt x="194" y="166"/>
                  </a:lnTo>
                  <a:lnTo>
                    <a:pt x="203" y="1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09880" y="1059480"/>
              <a:ext cx="126360" cy="11088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26" y="209"/>
                  </a:moveTo>
                  <a:lnTo>
                    <a:pt x="202" y="210"/>
                  </a:lnTo>
                  <a:lnTo>
                    <a:pt x="199" y="178"/>
                  </a:lnTo>
                  <a:lnTo>
                    <a:pt x="194" y="149"/>
                  </a:lnTo>
                  <a:lnTo>
                    <a:pt x="184" y="120"/>
                  </a:lnTo>
                  <a:lnTo>
                    <a:pt x="173" y="92"/>
                  </a:lnTo>
                  <a:lnTo>
                    <a:pt x="158" y="65"/>
                  </a:lnTo>
                  <a:lnTo>
                    <a:pt x="141" y="41"/>
                  </a:lnTo>
                  <a:lnTo>
                    <a:pt x="121" y="20"/>
                  </a:lnTo>
                  <a:lnTo>
                    <a:pt x="98" y="0"/>
                  </a:lnTo>
                  <a:lnTo>
                    <a:pt x="0" y="156"/>
                  </a:lnTo>
                  <a:lnTo>
                    <a:pt x="10" y="166"/>
                  </a:lnTo>
                  <a:lnTo>
                    <a:pt x="18" y="180"/>
                  </a:lnTo>
                  <a:lnTo>
                    <a:pt x="24" y="193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15920" y="1204920"/>
              <a:ext cx="134280" cy="10764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105" y="7"/>
                  </a:moveTo>
                  <a:lnTo>
                    <a:pt x="97" y="7"/>
                  </a:lnTo>
                  <a:lnTo>
                    <a:pt x="89" y="6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0" y="187"/>
                  </a:lnTo>
                  <a:lnTo>
                    <a:pt x="15" y="193"/>
                  </a:lnTo>
                  <a:lnTo>
                    <a:pt x="69" y="204"/>
                  </a:lnTo>
                  <a:lnTo>
                    <a:pt x="71" y="204"/>
                  </a:lnTo>
                  <a:lnTo>
                    <a:pt x="67" y="203"/>
                  </a:lnTo>
                  <a:lnTo>
                    <a:pt x="63" y="201"/>
                  </a:lnTo>
                  <a:lnTo>
                    <a:pt x="58" y="201"/>
                  </a:lnTo>
                  <a:lnTo>
                    <a:pt x="54" y="200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73" y="201"/>
                  </a:lnTo>
                  <a:lnTo>
                    <a:pt x="79" y="201"/>
                  </a:lnTo>
                  <a:lnTo>
                    <a:pt x="98" y="201"/>
                  </a:lnTo>
                  <a:lnTo>
                    <a:pt x="115" y="199"/>
                  </a:lnTo>
                  <a:lnTo>
                    <a:pt x="134" y="196"/>
                  </a:lnTo>
                  <a:lnTo>
                    <a:pt x="151" y="192"/>
                  </a:lnTo>
                  <a:lnTo>
                    <a:pt x="167" y="187"/>
                  </a:lnTo>
                  <a:lnTo>
                    <a:pt x="184" y="180"/>
                  </a:lnTo>
                  <a:lnTo>
                    <a:pt x="200" y="172"/>
                  </a:lnTo>
                  <a:lnTo>
                    <a:pt x="215" y="163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19" y="6"/>
                  </a:lnTo>
                  <a:lnTo>
                    <a:pt x="111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63080" y="1154520"/>
              <a:ext cx="3924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29"/>
                  </a:moveTo>
                  <a:lnTo>
                    <a:pt x="60" y="17"/>
                  </a:lnTo>
                  <a:lnTo>
                    <a:pt x="53" y="8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10" y="9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10" y="54"/>
                  </a:lnTo>
                  <a:lnTo>
                    <a:pt x="20" y="61"/>
                  </a:lnTo>
                  <a:lnTo>
                    <a:pt x="32" y="64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7" y="61"/>
                  </a:lnTo>
                  <a:lnTo>
                    <a:pt x="53" y="54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3" y="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64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9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Texas A&amp;M Veterinary Medicine</cp:lastModifiedBy>
  <dcterms:modified xsi:type="dcterms:W3CDTF">2007-10-01T18:08:24Z</dcterms:modified>
  <cp:revision>68</cp:revision>
  <dc:subject/>
  <dc:title>Slide 1</dc:title>
</cp:coreProperties>
</file>