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2.png" ContentType="image/png"/>
  <Override PartName="/ppt/media/image4.wmf" ContentType="image/x-wmf"/>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85CC-BDC2-42ED-9023-84FD7215A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A9572-725B-4FCC-9953-3D726D60B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430B-4737-4E03-9D72-5533028A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E32BB-9F5C-4AB0-91B4-B8F737FF6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599D7-1E2C-4DEB-B47A-B4478F6E6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C84F-C6F3-4A1A-9A7B-DF9C9DE8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C1A0B-A0FC-4DE5-B423-C0BB0F528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C0963-6875-4DD8-A763-9F786FDF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E542-A373-41E5-AA10-A6DC74FBB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4B73C-CCE4-49B7-8193-4CCB104F1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1C5C7-7B1A-4664-A7C4-BE527495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A255-A5ED-4466-BB6B-1E900582D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1430-ED72-4A30-9D37-9291F23D4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FC85-9870-40CB-AAF1-9AF744F76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rcRect l="0" t="17585" r="0" b="10551"/>
          <a:stretch/>
        </p:blipFill>
        <p:spPr>
          <a:xfrm>
            <a:off x="7034040" y="3890880"/>
            <a:ext cx="1494000" cy="716040"/>
          </a:xfrm>
          <a:prstGeom prst="rect">
            <a:avLst/>
          </a:prstGeom>
          <a:ln w="0">
            <a:noFill/>
          </a:ln>
        </p:spPr>
      </p:pic>
      <p:pic>
        <p:nvPicPr>
          <p:cNvPr id="678" name="" descr=""/>
          <p:cNvPicPr/>
          <p:nvPr/>
        </p:nvPicPr>
        <p:blipFill>
          <a:blip r:embed="rId3"/>
          <a:srcRect l="0" t="6516" r="0" b="6516"/>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