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D4F03-FB9B-4189-A7D0-C4E006478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501E-74EF-4912-AE46-AA06BEC2B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8326-E995-4010-8112-A5124CC1C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6565-9932-403B-94DE-9FEEAF5AC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C789-A34D-491B-A8BA-A8BFB04A4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63B1-49B8-4DA5-AFE9-101C90396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32F4-B043-408D-8408-7BBA3133F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BDDA-9E26-4D4E-BC5F-D9D39D285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A110-7A82-4E1F-809E-A5B6B3A4B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49F3-5C48-49A1-B793-18FEC46F9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1C10-7D74-41CF-BF2E-C87D1E84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FA31-1E73-482E-9D43-70DD32F9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8D3C-B9CE-486D-85B1-70EB86790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BC6EF-B636-43B5-993E-A4E6C8C51EF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NW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NW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NW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NW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NW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NW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NW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would you describe the environment of the long, concrete passage way Jace was transported to through the BP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lcom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acefu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ct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mino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93560" y="5040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490680" y="34862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496800" y="40035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88880" y="4514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vis’ mood towards Jace went from _____ in the beginning of the story, to _____ at the end of the sto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noyed; friend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urtful; playfu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mpathetic; arrog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ving; m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93560" y="5078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490680" y="35146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496800" y="4032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488880" y="4552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159000" y="2797200"/>
            <a:ext cx="2791080" cy="12571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4078440" y="477216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 Why was Jace staying with Summer and Travis’ famil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25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25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’s parents kicked him out of the hou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25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’s parents died in a plane crash several years ag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25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’s parents were out of the country on vac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25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Summer had to work on a school assignment toget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93560" y="4735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490680" y="29336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496800" y="3451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488880" y="42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 What was strange about the afternoon Jace and Travis went hunt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was unusually wind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were no squirrels in sigh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quirrel Creek was completely d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oak trees all seemed to be dying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-936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93560" y="4621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90680" y="30193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496800" y="3556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488880" y="4076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9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 Why was Travis anxious to get off of the embankment once he felt a storm was com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9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9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was afraid of being struck by lightn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9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didn’t want to slip and fall in the mu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9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was worried about  getting caught trespassing on private proper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9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didn’t want anyone on the oncoming train to see him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9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9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9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9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9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936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93560" y="5097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90680" y="30956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496800" y="3632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488880" y="4172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noise Travis thought was a 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rain approaching from the south was actually _______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attle he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orn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rge tru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explo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93560" y="4659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490680" y="31050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496800" y="3622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488880" y="4133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did all of the de-railed train cars have in comm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ll were marked with the same number co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ll were  marked with a letter code: STN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ll were marked with the same fan-shaped symbo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ll were carrying medical suppl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93560" y="5021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490680" y="31050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496800" y="3622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488880" y="4143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does the symbol on the train cars and the debris mea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contain live animal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contain radioactive materi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have been banned by the U.S. govern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re imported from Mexic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93560" y="4668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490680" y="3057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496800" y="3603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488880" y="4133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does “listing precariously” over the rails mea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ning unsteadily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umping foolishly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lying skillfully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iving quickly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93560" y="4659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490680" y="30956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496800" y="3622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488880" y="412416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y did Travis’s Grandpa feel responsible for Travis and Jace getting caught in the stor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sent them out for groceries that afternoon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asked them to go fishing in the creek to catch something for dinn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sent them “hunting” for squirrels to relieve their boredo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accidentally locked them out of the hou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93560" y="5440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90680" y="31240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496800" y="3641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488880" y="4552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5T21:48:27Z</dcterms:created>
  <dc:creator>Ljlab</dc:creator>
  <dc:description/>
  <dc:language>en-US</dc:language>
  <cp:lastModifiedBy>Texas A&amp;M Veterinary Medicine</cp:lastModifiedBy>
  <dcterms:modified xsi:type="dcterms:W3CDTF">2007-04-10T18:16:30Z</dcterms:modified>
  <cp:revision>26</cp:revision>
  <dc:subject/>
  <dc:title>Investigator’s Challenge Quiz</dc:title>
</cp:coreProperties>
</file>