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CF33-6FFA-42B2-A520-C2CBFF0B7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4F8-F310-4942-9ADF-CCC839A6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46A-B344-4D9F-A74C-A6BD7D74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17B-5C4E-43FD-8E64-68DA256A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5BF-2F2C-4949-A88A-9213C6136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2D9-9D46-4612-AF98-0DA5CBF6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913-2D6B-4932-A890-D0D1A7E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74F-E1D2-49D8-8F70-D4E6520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016-C617-4B0A-9778-8BC6DEA0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CB1-814A-4F3B-BC11-7411AC0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EB5-2F0D-4278-990E-A985805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E06-ABF7-4C5A-AA3F-7582796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014-D914-4732-879B-94B00AAB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1585-FBF7-445B-A21D-96DAB7E8E0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NW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ould you describe the environment of the long, concrete passage way Jace was transported to through the BP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co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c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min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560" y="504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90680" y="34862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6800" y="4003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88880" y="4514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’ mood towards Jace went from _____ in the beginning of the story, to _____ at the end of the 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oyed; friend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ful; play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etic; arrog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ving; m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3560" y="5078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90680" y="35146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968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159000" y="2797200"/>
            <a:ext cx="2791080" cy="1257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078440" y="4772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Why was Jace staying with Summer and Travis’ fami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kicked hi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died in a plane crash several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parents were out of the country on va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Summer had to work on a school assignmen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560" y="47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90680" y="2933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6800" y="345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8888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What was strange about the afternoon Jace and Travis went hunt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unusually win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ere no squirrels in 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irrel Creek was completely d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ak trees all seemed to be dy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5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90680" y="3019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49680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88880" y="40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Why was Travis anxious to get off of the embankment once he felt a storm was com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afraid of being struck by light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to slip and fall in the m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worried about  getting caught trespassing on private proper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didn’t want anyone on the oncoming train to see hi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3560" y="509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96800" y="363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88880" y="4172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ise Travis thought was a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in approaching from the south was actually _______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tle h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or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tru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plo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id all of the de-railed train cars have in comm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number c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 marked with a letter code: STN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marked with the same fan-shaped symb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l were carrying medical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3560" y="502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3105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488880" y="4143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the symbol on the train cars and the debri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live animal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contain radioactive 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have been banned by the U.S.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imported from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93560" y="4668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90680" y="3057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96800" y="360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8880" y="413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does “listing precariously” over the rails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ning unsteadi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ing foolish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ying skillful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ing quickl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3560" y="465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0680" y="3095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96800" y="36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88880" y="41241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Travis’s Grandpa feel responsible for Travis and Jace getting caught in the stor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out for groceries that afternoon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sked them to go fishing in the creek to catch someth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sent them “hunting” for squirrels to relieve their bored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ccidentally locked them out of the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560" y="544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0680" y="31240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96800" y="36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88880" y="4552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1:48:27Z</dcterms:created>
  <dc:creator>Ljlab</dc:creator>
  <dc:description/>
  <dc:language>en-US</dc:language>
  <cp:lastModifiedBy>Texas A&amp;M Veterinary Medicine</cp:lastModifiedBy>
  <dcterms:modified xsi:type="dcterms:W3CDTF">2007-04-10T18:16:30Z</dcterms:modified>
  <cp:revision>26</cp:revision>
  <dc:subject/>
  <dc:title>Investigator’s Challenge Quiz</dc:title>
</cp:coreProperties>
</file>