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43B-947E-42DA-B4B0-F9961D50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D79-D6FB-4A07-BEE7-968DD928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575-A3E0-47F7-8F8D-E2ACA932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2D0-CEDC-4700-859F-2F7E892F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E33-3704-4CE9-A6AB-93022663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B65-4548-44ED-A780-9CFF34C1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971-75FE-4763-88AF-3B71CD9D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2C6-6D47-41EA-898D-C58D9B04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5E6-3F7F-4F6E-9057-E4EEB57F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96D-2DC0-4CCC-B0E2-6C4416B0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666-C441-436F-9B90-5ED3270C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22C-4CE5-4AD1-967C-20486DD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A543-C7C4-4BB0-9BDC-825CF6C8030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ljlab</cp:lastModifiedBy>
  <dcterms:modified xsi:type="dcterms:W3CDTF">2007-08-02T18:51:10Z</dcterms:modified>
  <cp:revision>62</cp:revision>
  <dc:subject/>
  <dc:title>Locating Places</dc:title>
</cp:coreProperties>
</file>