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A8944-E278-428E-B919-F99A93AFA7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952560" y="0"/>
            <a:ext cx="5010120" cy="375912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0" y="3860640"/>
            <a:ext cx="6858000" cy="52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85392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953BC-AFD4-4EDE-9FCA-B4402481A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0300A-5077-4796-AD76-EA03AE903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B4C6C-2FA6-4CB8-91F8-4687052FC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12380-ACD8-4352-9E29-D5CACA6A9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A0357-04B9-4CB2-8564-E6E9A9506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9C947-B89D-4CB9-9D5E-DB39A5237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216EA-3AB3-4CAD-826A-9799377E5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5F567-0C39-497B-ABAF-4567C1239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5DAAF-C98C-4EA7-BE5B-7AA7C4B1A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BB10C-982A-4A68-B84C-05EB45F5A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E58F1-A712-4CF4-ACE7-689BD28D2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D4D7D-E6DD-41AE-91F8-406F2502B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2C02D-C55A-4923-9DE3-7780637A5CD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304920"/>
            <a:ext cx="77709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7240" y="1904760"/>
            <a:ext cx="7770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2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Times New Roman"/>
              </a:rPr>
              <a:t>Climate is the average condition of the atmosphere (like temperature and precipitation) over a long period of time.  It is the average of weather conditions in a place.</a:t>
            </a: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26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For example, over the past 40 years, New Jersey has had an average temperature of 32 º Fahrenheit and an average precipitation of 2.8 inches during the month of February.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Weather is the state of the atmosphere at a </a:t>
            </a:r>
            <a:r>
              <a:rPr b="0" lang="en-US" sz="2900" spc="-1" strike="noStrike" u="sng">
                <a:solidFill>
                  <a:srgbClr val="ffffff"/>
                </a:solidFill>
                <a:uFillTx/>
                <a:latin typeface="Times New Roman"/>
              </a:rPr>
              <a:t>given place and time</a:t>
            </a: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en-US" sz="29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24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For example, the temperature right now in New Jersey is 56º F and it is snowing.  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Just as weather differs from day to day, climate differs from place to place.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5T14:23:11Z</dcterms:created>
  <dc:creator>Charles C. Farnsworth, Ph.D. - Instructional Design</dc:creator>
  <dc:description/>
  <dc:language>en-US</dc:language>
  <cp:lastModifiedBy>Vince Hardy</cp:lastModifiedBy>
  <dcterms:modified xsi:type="dcterms:W3CDTF">2007-01-12T21:51:09Z</dcterms:modified>
  <cp:revision>19</cp:revision>
  <dc:subject/>
  <dc:title>What’s the difference between weather and climate?</dc:title>
</cp:coreProperties>
</file>