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49BB-6234-4383-8F23-3F586149AD6F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6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ize and punctuate correctly to clarify and enhance mea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9BD-DF0B-405E-9AD6-7821B4D3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C4B3-BCCF-41D6-8D0B-3CB1737C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C3D1-DBE6-47D6-833C-D6E02472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A3B-68DD-4E59-BACA-C81126DE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0D6-F7EC-4BF1-9482-A5C788F1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35CB-30BF-45FD-9A80-E2E6E7A9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CA3-E40F-40B5-A43D-07586575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CE77-CF87-490F-A6C3-0167ED6F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5DC-3636-4BE2-BE1B-1B6355CC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A8E-1810-43A2-B107-18A9622E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C0F-8ADA-4E1B-B7A7-2CB4CBB9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6995-B9A5-4DC7-A3C3-63757426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CF4A-8650-416E-AAE0-FA1C14797D0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752480" y="685800"/>
            <a:ext cx="5562360" cy="5486400"/>
            <a:chOff x="1752480" y="685800"/>
            <a:chExt cx="5562360" cy="5486400"/>
          </a:xfrm>
        </p:grpSpPr>
        <p:sp>
          <p:nvSpPr>
            <p:cNvPr id="52" name=""/>
            <p:cNvSpPr/>
            <p:nvPr/>
          </p:nvSpPr>
          <p:spPr>
            <a:xfrm>
              <a:off x="1752480" y="685800"/>
              <a:ext cx="55623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6560" y="930240"/>
              <a:ext cx="5253480" cy="50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bebeb"/>
                  </a:solidFill>
                  <a:latin typeface="Monotype Corsiva"/>
                </a:rPr>
                <a:t>	</a:t>
              </a:r>
              <a:r>
                <a:rPr b="0" lang="en-US" sz="2400" spc="-1" strike="noStrike">
                  <a:solidFill>
                    <a:srgbClr val="ebebeb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123 Sunset Lan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Bryan, TX 78572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July 20, 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3000 University D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College Station, TX 785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Dear Sir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This is an example of a business lett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Sincerely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Joh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172200" y="411480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362320"/>
            <a:ext cx="2286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3429000"/>
            <a:ext cx="144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1066680"/>
            <a:ext cx="26668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360" y="1141200"/>
            <a:ext cx="289548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</a:t>
            </a:r>
            <a:br>
              <a:rPr sz="2400"/>
            </a:b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4952880"/>
            <a:ext cx="152388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4875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523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343400" y="2666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97144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486400" y="43434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257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33512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9610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22845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ljlab</cp:lastModifiedBy>
  <dcterms:modified xsi:type="dcterms:W3CDTF">2007-08-02T18:49:10Z</dcterms:modified>
  <cp:revision>17</cp:revision>
  <dc:subject/>
  <dc:title>Writing a Business Letter</dc:title>
</cp:coreProperties>
</file>