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C913F-4879-4A55-8612-86F52DABBA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24F28-44D6-4A87-8126-C4BDAEBB06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98597-8173-489A-8B66-351BA50C62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90CC5-2616-4896-89B8-70E92A46D7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D11CF-C62D-48DE-B9A2-94E851325B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A1CF1-F26A-42ED-8F1E-7E88BD5761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5FBC3-EFC4-488F-A3C5-C416F43AE4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0A34B-4C16-408B-BE41-9B4E57BDE9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FF6CD-C919-47D7-AC5A-AA089A5840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019FF-384E-414D-ADB5-8A52BD724A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35745-C875-4368-9C57-E80C99EB5B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4C33A-7519-4C59-AACC-06213687D9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02158-3CF3-4652-AEE3-A6AD3FEDB7C7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5/100  = 0.25  = a quarte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percentage of a dollar is a dim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en cents = 0.10 = 0.10 x 100 = 10%  of one dolla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3278F-1539-41F9-8110-0A63431C515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Example: What coins would you use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o represent 17% of a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7/100 = 0.17 = 0.10 + 0.05 + 0.02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a dime, nickel, and 2 pennies!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e how you can always CA$H in on percentage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C0963-6B3F-440E-A08D-A67A128F672D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41Z</dcterms:modified>
  <cp:revision>211</cp:revision>
  <dc:subject/>
  <dc:title>VTPP 423 - PHYSIOLOGY</dc:title>
</cp:coreProperties>
</file>