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C043-9704-45E4-988F-F33153737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01D-D63A-4FEF-9CE3-AEEDE0A0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3A99-2C53-4559-961E-D88ADEA5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98B-C57E-42E1-8935-15A9023B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7B3-4418-4D49-A269-8E0398A1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B0D-8BCF-4D2B-82F9-55015F32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BDB-0853-4D77-A4C8-7676FA44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87C-282B-46CA-A1F4-EB4D713E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56B-C8A8-4446-8071-7E837EA5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791-7793-414C-94AD-0A5ED0B5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62E-89BB-4FB2-B4F5-C26A0975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05F-8F9D-426B-B0A1-14933810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A1C-F8F0-4A4A-80DD-8253326D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8933-99E6-4577-AFED-349AF0303ED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 story map lists  important details to be included in the summary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7-08-02T17:12:53Z</dcterms:modified>
  <cp:revision>25</cp:revision>
  <dc:subject/>
  <dc:title>To Sum It All Up…</dc:title>
</cp:coreProperties>
</file>