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432B9-22A3-4F74-9EA9-3EC37EC526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ACF5-7184-453A-9755-016110BAD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14B7-5D09-4DCB-B092-C6C3D52E2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8A05-371D-4417-B57A-73DAA2820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AEE8-AB0F-46B4-A85D-5A63D85C9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1242-75EE-4DAF-9546-EE43B032B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B383-AB0A-4108-87C7-6EF86A0CB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B655-AA5E-4716-88B7-3982A59B5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6F2F-DAAB-4CA6-98FF-4A254FC2D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1444-5C01-4BE2-BDFE-E0CCB208B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17E2-8039-4C43-832B-46DDE3AB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ECB2-1A78-46FC-9127-6BE902F4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854F-4947-4639-8A55-5AA1CCEF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AC7DC-55BE-4EB8-9ECB-85E1012333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ljlab</cp:lastModifiedBy>
  <cp:lastPrinted>2002-01-04T15:57:18Z</cp:lastPrinted>
  <dcterms:modified xsi:type="dcterms:W3CDTF">2007-08-02T19:11:24Z</dcterms:modified>
  <cp:revision>30</cp:revision>
  <dc:subject/>
  <dc:title>Sensory Details </dc:title>
</cp:coreProperties>
</file>