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94DB-01E8-4E3D-A8E2-89B163328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(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4E25-EAF5-40A8-A3EE-95F574E9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DF8-C7EF-4B58-BCA7-4681C3BD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2EF-886D-4D0C-8890-D1A501F7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F93-DB84-406C-83DE-48CCC378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B08-3265-4253-8E19-5B095583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79C-A110-4559-B552-4FF084A3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1515-DD16-4100-ACD2-E11BCA02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75B-CE07-448F-89A9-278AEE98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767-CEA3-481E-B50C-6B04DCAC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D2B-D7D6-4415-8E35-A89A44A4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6FD-0338-49DC-BA4C-3F056C9D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BCEA-616B-42A3-9565-DE3B066C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502F-5EF2-4F3F-8AFF-BB33AFF78C3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530000"/>
            <a:ext cx="49687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6840" y="1614600"/>
            <a:ext cx="2722320" cy="28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ljlab</cp:lastModifiedBy>
  <dcterms:modified xsi:type="dcterms:W3CDTF">2007-08-02T17:38:16Z</dcterms:modified>
  <cp:revision>25</cp:revision>
  <dc:subject/>
  <dc:title>What Do I Say?</dc:title>
</cp:coreProperties>
</file>