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A14-7F21-44CE-A7C1-0CBBBDC9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555-5E3D-4D2C-A034-3C82912C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26D-FF24-420B-9353-FEFB8C2E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17F-EB29-4F6C-A340-CF9F280B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AAC-57DB-4CB2-AF10-9BD6FC44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778-7D87-49A7-967A-0B69C5A9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303-B601-4C59-9C62-CBFA09BE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E5D-32D4-4A3F-9418-F676F27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717-FD3A-4032-9FE4-8B0DEB87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39B-7350-4937-9FDC-1373B9B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E00-F84B-4338-892F-64500E6E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189-D9D4-4272-9625-CDC7234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734-9BDF-4F95-9F61-0FDA276950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3:39Z</dcterms:modified>
  <cp:revision>51</cp:revision>
  <dc:subject/>
  <dc:title>Hazards</dc:title>
</cp:coreProperties>
</file>