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5.jpeg" ContentType="image/jpeg"/>
  <Override PartName="/ppt/media/image7.gif" ContentType="image/gif"/>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5932-EBC9-4BEB-B404-FAC012266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e Eastern United States and principal cities of the 1830s appear on the screen in on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ix major cities of the 1830s are listed, and their locations are pointed out but not identified by name.  On a click-by-click basis, each city name is highlighted to prompt students to match each city with its location on the map.  After the last city is highlighted, the next click takes you to the next slide, which identifies the correct pai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ies are in order of population, from highest to low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City: 202,589; Baltimore: 80,620; Philadelphia: 80,462; Boston: 61,392; New Orleans: 46,082; Charleston: 30,2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en.wikipedia.org/wiki/Largest_Cities_in_the_United_States_by_Population_by_Decade#18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is slide identifies the correct location of the six major cities in the U.S. in 18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ies are in order of population, from highest to lo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City: 202,589; Baltimore: 80,620; Philadelphia: 80,462; Boston: 61,392; New Orleans: 46,082; Charleston: 30,2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On the next mouse click, the question is answered: An ocean appears and ships sail int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ll six cities are port cities, an essential lifeline for early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8 (B) Analyze the impact of transportation systems on growth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xplain the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from outlines, reports, databases, and visuals including graphs, charts, timelines, and map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ies grew during this time period because of the industrial revolution and immi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ensus.gov/population/www/documentation/twps0027.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62C3-11A7-49DE-8C29-697CA53A8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87E6-26B6-4C6D-9265-EECA6D683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2C4EA-53A6-4622-B343-ED1EA2AF8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5C284-6CA3-4ACB-AEE0-13C50D284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CFB32-3ECC-4454-AC37-5D6E21A20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47AEC-CAAE-4CC5-8FC0-52259EC2B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49BE-1BDF-48F9-938F-CCC653D94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84B92-D3DE-42EC-AE4A-AB4434D42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97ACE-0761-496E-A6A7-2B3A46E7B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2F1FE-49A3-45A1-B563-469902F3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3ED21-604D-42BB-9D98-C0F0084EC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714E-2798-4EB8-BB7C-E511E2E1A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5CE43-40E2-4337-8A21-C9C6A7032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DA0F-4D9D-4F4B-9153-72C5EB1D2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9.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816120" y="1444680"/>
            <a:ext cx="7603920" cy="452592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U.S population trends in the 1800s.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e important U.S cities of the 1800s.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how urbanization affected the populations of U.S cities. </a:t>
            </a:r>
            <a:endParaRPr b="0" lang="en-US" sz="3200" spc="-1" strike="noStrike">
              <a:solidFill>
                <a:srgbClr val="ffffff"/>
              </a:solidFill>
              <a:latin typeface="Times New Roman"/>
            </a:endParaRPr>
          </a:p>
          <a:p>
            <a:pPr marL="4636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216720" y="631512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152280" y="152280"/>
            <a:ext cx="8839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rge U.S. Cities in 1830</a:t>
            </a:r>
            <a:endParaRPr b="0" lang="en-US" sz="4400" spc="-1" strike="noStrike">
              <a:solidFill>
                <a:srgbClr val="ffffff"/>
              </a:solidFill>
              <a:latin typeface="Times New Roman"/>
            </a:endParaRPr>
          </a:p>
        </p:txBody>
      </p:sp>
      <p:sp>
        <p:nvSpPr>
          <p:cNvPr id="55" name="PlaceHolder 2"/>
          <p:cNvSpPr>
            <a:spLocks noGrp="1"/>
          </p:cNvSpPr>
          <p:nvPr>
            <p:ph/>
          </p:nvPr>
        </p:nvSpPr>
        <p:spPr>
          <a:xfrm>
            <a:off x="5722920" y="1358640"/>
            <a:ext cx="2997360" cy="470196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beginning of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the U.S. had few large citi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century progressed, however, the United States became more urbanized as people moved to the cities.</a:t>
            </a:r>
            <a:endParaRPr b="0" lang="en-US" sz="2800" spc="-1" strike="noStrike">
              <a:solidFill>
                <a:srgbClr val="ffffff"/>
              </a:solidFill>
              <a:latin typeface="Times New Roman"/>
            </a:endParaRPr>
          </a:p>
        </p:txBody>
      </p:sp>
      <p:sp>
        <p:nvSpPr>
          <p:cNvPr id="56" name=""/>
          <p:cNvSpPr/>
          <p:nvPr/>
        </p:nvSpPr>
        <p:spPr>
          <a:xfrm flipV="1">
            <a:off x="9524880" y="1218960"/>
            <a:ext cx="0" cy="5105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
          <p:cNvGrpSpPr/>
          <p:nvPr/>
        </p:nvGrpSpPr>
        <p:grpSpPr>
          <a:xfrm>
            <a:off x="563760" y="2357280"/>
            <a:ext cx="4317840" cy="3405240"/>
            <a:chOff x="563760" y="2357280"/>
            <a:chExt cx="4317840" cy="3405240"/>
          </a:xfrm>
        </p:grpSpPr>
        <p:sp>
          <p:nvSpPr>
            <p:cNvPr id="58" name=""/>
            <p:cNvSpPr/>
            <p:nvPr/>
          </p:nvSpPr>
          <p:spPr>
            <a:xfrm>
              <a:off x="1646280" y="37512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9" name=""/>
            <p:cNvSpPr/>
            <p:nvPr/>
          </p:nvSpPr>
          <p:spPr>
            <a:xfrm>
              <a:off x="1752120" y="367200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LOUIS</a:t>
              </a:r>
              <a:endParaRPr b="0" lang="en-US" sz="1200" spc="-1" strike="noStrike">
                <a:solidFill>
                  <a:srgbClr val="000000"/>
                </a:solidFill>
                <a:latin typeface="Arial"/>
              </a:endParaRPr>
            </a:p>
          </p:txBody>
        </p:sp>
        <p:sp>
          <p:nvSpPr>
            <p:cNvPr id="60" name=""/>
            <p:cNvSpPr/>
            <p:nvPr/>
          </p:nvSpPr>
          <p:spPr>
            <a:xfrm>
              <a:off x="2732040" y="342756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1" name=""/>
            <p:cNvSpPr/>
            <p:nvPr/>
          </p:nvSpPr>
          <p:spPr>
            <a:xfrm>
              <a:off x="1650960" y="3359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NCINNATI</a:t>
              </a:r>
              <a:endParaRPr b="0" lang="en-US" sz="1200" spc="-1" strike="noStrike">
                <a:solidFill>
                  <a:srgbClr val="000000"/>
                </a:solidFill>
                <a:latin typeface="Arial"/>
              </a:endParaRPr>
            </a:p>
          </p:txBody>
        </p:sp>
        <p:sp>
          <p:nvSpPr>
            <p:cNvPr id="62"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63"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4"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65"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67" name=""/>
            <p:cNvSpPr/>
            <p:nvPr/>
          </p:nvSpPr>
          <p:spPr>
            <a:xfrm>
              <a:off x="4173480" y="31273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8"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69"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0"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71"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2"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sp>
          <p:nvSpPr>
            <p:cNvPr id="73"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sp>
        <p:nvSpPr>
          <p:cNvPr id="74" name=""/>
          <p:cNvSpPr/>
          <p:nvPr/>
        </p:nvSpPr>
        <p:spPr>
          <a:xfrm>
            <a:off x="7205760" y="63864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0</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0-#ppt_w/2"/>
                                          </p:val>
                                        </p:tav>
                                        <p:tav tm="100000">
                                          <p:val>
                                            <p:strVal val="#ppt_x"/>
                                          </p:val>
                                        </p:tav>
                                      </p:tavLst>
                                    </p:anim>
                                    <p:anim calcmode="lin" valueType="num">
                                      <p:cBhvr additive="base">
                                        <p:cTn id="8" dur="1000" fill="hold"/>
                                        <p:tgtEl>
                                          <p:spTgt spid="53"/>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57"/>
                                        </p:tgtEl>
                                        <p:attrNameLst>
                                          <p:attrName>style.visibility</p:attrName>
                                        </p:attrNameLst>
                                      </p:cBhvr>
                                      <p:to>
                                        <p:strVal val="visible"/>
                                      </p:to>
                                    </p:set>
                                    <p:animEffect filter="fade" transition="in">
                                      <p:cBhvr additive="repl">
                                        <p:cTn id="12"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1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ban Growth</a:t>
            </a:r>
            <a:endParaRPr b="0" lang="en-US" sz="4400" spc="-1" strike="noStrike">
              <a:solidFill>
                <a:srgbClr val="ffffff"/>
              </a:solidFill>
              <a:latin typeface="Times New Roman"/>
            </a:endParaRPr>
          </a:p>
        </p:txBody>
      </p:sp>
      <p:sp>
        <p:nvSpPr>
          <p:cNvPr id="76" name="PlaceHolder 2"/>
          <p:cNvSpPr>
            <a:spLocks noGrp="1"/>
          </p:cNvSpPr>
          <p:nvPr>
            <p:ph/>
          </p:nvPr>
        </p:nvSpPr>
        <p:spPr>
          <a:xfrm>
            <a:off x="453960" y="1523880"/>
            <a:ext cx="8259840" cy="4221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30, cities were growing rapidly, but most Americans still lived in rural area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rgest cities in the U.S. included New York, Philadelphia, Boston, Baltimore, Charleston, and New Orlea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ere cities growing?</a:t>
            </a:r>
            <a:endParaRPr b="0" lang="en-US" sz="2800" spc="-1" strike="noStrike">
              <a:solidFill>
                <a:srgbClr val="ffffff"/>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0</a:t>
            </a:r>
            <a:endParaRPr b="0" lang="en-US" sz="1000" spc="-1" strike="noStrike">
              <a:solidFill>
                <a:srgbClr val="000000"/>
              </a:solidFill>
              <a:latin typeface="Arial"/>
            </a:endParaRPr>
          </a:p>
        </p:txBody>
      </p:sp>
      <p:pic>
        <p:nvPicPr>
          <p:cNvPr id="78" name="" descr=""/>
          <p:cNvPicPr/>
          <p:nvPr/>
        </p:nvPicPr>
        <p:blipFill>
          <a:blip r:embed="rId2"/>
          <a:stretch/>
        </p:blipFill>
        <p:spPr>
          <a:xfrm>
            <a:off x="4842000" y="4338720"/>
            <a:ext cx="2371680" cy="1787400"/>
          </a:xfrm>
          <a:prstGeom prst="rect">
            <a:avLst/>
          </a:prstGeom>
          <a:ln w="0">
            <a:noFill/>
          </a:ln>
        </p:spPr>
      </p:pic>
      <p:pic>
        <p:nvPicPr>
          <p:cNvPr id="79" name="" descr=""/>
          <p:cNvPicPr/>
          <p:nvPr/>
        </p:nvPicPr>
        <p:blipFill>
          <a:blip r:embed="rId3"/>
          <a:stretch/>
        </p:blipFill>
        <p:spPr>
          <a:xfrm>
            <a:off x="1886040" y="4361040"/>
            <a:ext cx="2438280" cy="17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major U.S. cities in 1830?</a:t>
            </a:r>
            <a:endParaRPr b="0" lang="en-US" sz="4000" spc="-1" strike="noStrike">
              <a:solidFill>
                <a:srgbClr val="ffffff"/>
              </a:solidFill>
              <a:latin typeface="Times New Roman"/>
            </a:endParaRPr>
          </a:p>
        </p:txBody>
      </p:sp>
      <p:sp>
        <p:nvSpPr>
          <p:cNvPr id="82" name=""/>
          <p:cNvSpPr/>
          <p:nvPr/>
        </p:nvSpPr>
        <p:spPr>
          <a:xfrm>
            <a:off x="5486400" y="5160960"/>
            <a:ext cx="365760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point out where each of these cities is locat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5472000" y="1463760"/>
            <a:ext cx="3672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largest cities in the U.S. were:</a:t>
            </a:r>
            <a:endParaRPr b="0" lang="en-US" sz="2800" spc="-1" strike="noStrike">
              <a:solidFill>
                <a:srgbClr val="000000"/>
              </a:solidFill>
              <a:latin typeface="Arial"/>
            </a:endParaRPr>
          </a:p>
        </p:txBody>
      </p:sp>
      <p:sp>
        <p:nvSpPr>
          <p:cNvPr id="84" name=""/>
          <p:cNvSpPr/>
          <p:nvPr/>
        </p:nvSpPr>
        <p:spPr>
          <a:xfrm>
            <a:off x="5952960" y="3211560"/>
            <a:ext cx="289584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iladelphia</a:t>
            </a:r>
            <a:endParaRPr b="0" lang="en-US" sz="2800" spc="-1" strike="noStrike">
              <a:solidFill>
                <a:srgbClr val="000000"/>
              </a:solidFill>
              <a:latin typeface="Arial"/>
            </a:endParaRPr>
          </a:p>
        </p:txBody>
      </p:sp>
      <p:sp>
        <p:nvSpPr>
          <p:cNvPr id="85" name=""/>
          <p:cNvSpPr/>
          <p:nvPr/>
        </p:nvSpPr>
        <p:spPr>
          <a:xfrm>
            <a:off x="5952960" y="36831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ston</a:t>
            </a:r>
            <a:endParaRPr b="0" lang="en-US" sz="2800" spc="-1" strike="noStrike">
              <a:solidFill>
                <a:srgbClr val="000000"/>
              </a:solidFill>
              <a:latin typeface="Arial"/>
            </a:endParaRPr>
          </a:p>
        </p:txBody>
      </p:sp>
      <p:sp>
        <p:nvSpPr>
          <p:cNvPr id="86" name=""/>
          <p:cNvSpPr/>
          <p:nvPr/>
        </p:nvSpPr>
        <p:spPr>
          <a:xfrm>
            <a:off x="5952960" y="23115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a:t>
            </a:r>
            <a:endParaRPr b="0" lang="en-US" sz="2800" spc="-1" strike="noStrike">
              <a:solidFill>
                <a:srgbClr val="000000"/>
              </a:solidFill>
              <a:latin typeface="Arial"/>
            </a:endParaRPr>
          </a:p>
        </p:txBody>
      </p:sp>
      <p:sp>
        <p:nvSpPr>
          <p:cNvPr id="87" name=""/>
          <p:cNvSpPr/>
          <p:nvPr/>
        </p:nvSpPr>
        <p:spPr>
          <a:xfrm>
            <a:off x="5970600" y="4140360"/>
            <a:ext cx="289548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Orleans</a:t>
            </a:r>
            <a:endParaRPr b="0" lang="en-US" sz="2800" spc="-1" strike="noStrike">
              <a:solidFill>
                <a:srgbClr val="000000"/>
              </a:solidFill>
              <a:latin typeface="Arial"/>
            </a:endParaRPr>
          </a:p>
        </p:txBody>
      </p:sp>
      <p:sp>
        <p:nvSpPr>
          <p:cNvPr id="88" name=""/>
          <p:cNvSpPr/>
          <p:nvPr/>
        </p:nvSpPr>
        <p:spPr>
          <a:xfrm>
            <a:off x="5938920" y="4629240"/>
            <a:ext cx="2895480" cy="379440"/>
          </a:xfrm>
          <a:prstGeom prst="rect">
            <a:avLst/>
          </a:prstGeom>
          <a:noFill/>
          <a:ln w="0">
            <a:noFill/>
          </a:ln>
        </p:spPr>
        <p:style>
          <a:lnRef idx="0"/>
          <a:fillRef idx="0"/>
          <a:effectRef idx="0"/>
          <a:fontRef idx="minor"/>
        </p:style>
        <p:txBody>
          <a:bodyPr lIns="90000" rIns="90000" tIns="46800" bIns="46800" anchor="t">
            <a:normAutofit fontScale="7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leston</a:t>
            </a:r>
            <a:endParaRPr b="0" lang="en-US" sz="2800" spc="-1" strike="noStrike">
              <a:solidFill>
                <a:srgbClr val="000000"/>
              </a:solidFill>
              <a:latin typeface="Arial"/>
            </a:endParaRPr>
          </a:p>
        </p:txBody>
      </p:sp>
      <p:sp>
        <p:nvSpPr>
          <p:cNvPr id="89" name=""/>
          <p:cNvSpPr/>
          <p:nvPr/>
        </p:nvSpPr>
        <p:spPr>
          <a:xfrm>
            <a:off x="5940360" y="27687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timore</a:t>
            </a:r>
            <a:endParaRPr b="0" lang="en-US" sz="2800" spc="-1" strike="noStrike">
              <a:solidFill>
                <a:srgbClr val="000000"/>
              </a:solidFill>
              <a:latin typeface="Arial"/>
            </a:endParaRPr>
          </a:p>
        </p:txBody>
      </p:sp>
      <p:sp>
        <p:nvSpPr>
          <p:cNvPr id="90" name=""/>
          <p:cNvSpPr/>
          <p:nvPr/>
        </p:nvSpPr>
        <p:spPr>
          <a:xfrm>
            <a:off x="-228600" y="0"/>
            <a:ext cx="9372600" cy="800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2"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3"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4"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6"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7" name=""/>
          <p:cNvSpPr/>
          <p:nvPr/>
        </p:nvSpPr>
        <p:spPr>
          <a:xfrm>
            <a:off x="7278840" y="64184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86"/>
                                        </p:tgtEl>
                                        <p:attrNameLst>
                                          <p:attrName>style.color</p:attrName>
                                        </p:attrNameLst>
                                      </p:cBhvr>
                                      <p:to>
                                        <a:srgbClr val="ff0000"/>
                                      </p:to>
                                    </p:animClr>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 presetSubtype="2">
                                  <p:stCondLst>
                                    <p:cond delay="0"/>
                                  </p:stCondLst>
                                  <p:childTnLst>
                                    <p:animClr clrSpc="rgb">
                                      <p:cBhvr>
                                        <p:cTn id="22" dur="500" fill="hold"/>
                                        <p:tgtEl>
                                          <p:spTgt spid="89"/>
                                        </p:tgtEl>
                                        <p:attrNameLst>
                                          <p:attrName>style.color</p:attrName>
                                        </p:attrNameLst>
                                      </p:cBhvr>
                                      <p:to>
                                        <a:srgbClr val="ff0000"/>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 presetSubtype="2">
                                  <p:stCondLst>
                                    <p:cond delay="0"/>
                                  </p:stCondLst>
                                  <p:childTnLst>
                                    <p:animClr clrSpc="rgb">
                                      <p:cBhvr>
                                        <p:cTn id="26" dur="500" fill="hold"/>
                                        <p:tgtEl>
                                          <p:spTgt spid="84"/>
                                        </p:tgtEl>
                                        <p:attrNameLst>
                                          <p:attrName>style.color</p:attrName>
                                        </p:attrNameLst>
                                      </p:cBhvr>
                                      <p:to>
                                        <a:srgbClr val="ff0000"/>
                                      </p:to>
                                    </p:animClr>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 presetSubtype="2">
                                  <p:stCondLst>
                                    <p:cond delay="0"/>
                                  </p:stCondLst>
                                  <p:childTnLst>
                                    <p:animClr clrSpc="rgb">
                                      <p:cBhvr>
                                        <p:cTn id="30" dur="500" fill="hold"/>
                                        <p:tgtEl>
                                          <p:spTgt spid="85"/>
                                        </p:tgtEl>
                                        <p:attrNameLst>
                                          <p:attrName>style.color</p:attrName>
                                        </p:attrNameLst>
                                      </p:cBhvr>
                                      <p:to>
                                        <a:srgbClr val="ff0000"/>
                                      </p:to>
                                    </p:animClr>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 presetSubtype="2">
                                  <p:stCondLst>
                                    <p:cond delay="0"/>
                                  </p:stCondLst>
                                  <p:childTnLst>
                                    <p:animClr clrSpc="rgb">
                                      <p:cBhvr>
                                        <p:cTn id="34" dur="500" fill="hold"/>
                                        <p:tgtEl>
                                          <p:spTgt spid="87"/>
                                        </p:tgtEl>
                                        <p:attrNameLst>
                                          <p:attrName>style.color</p:attrName>
                                        </p:attrNameLst>
                                      </p:cBhvr>
                                      <p:to>
                                        <a:srgbClr val="ff0000"/>
                                      </p:to>
                                    </p:animClr>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 presetSubtype="2">
                                  <p:stCondLst>
                                    <p:cond delay="0"/>
                                  </p:stCondLst>
                                  <p:childTnLst>
                                    <p:animClr clrSpc="rgb">
                                      <p:cBhvr>
                                        <p:cTn id="38" dur="500" fill="hold"/>
                                        <p:tgtEl>
                                          <p:spTgt spid="88"/>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major U.S. cities in 1830?</a:t>
            </a:r>
            <a:endParaRPr b="0" lang="en-US" sz="4000" spc="-1" strike="noStrike">
              <a:solidFill>
                <a:srgbClr val="ffffff"/>
              </a:solidFill>
              <a:latin typeface="Times New Roman"/>
            </a:endParaRPr>
          </a:p>
        </p:txBody>
      </p:sp>
      <p:sp>
        <p:nvSpPr>
          <p:cNvPr id="100" name=""/>
          <p:cNvSpPr/>
          <p:nvPr/>
        </p:nvSpPr>
        <p:spPr>
          <a:xfrm>
            <a:off x="5486400" y="5160960"/>
            <a:ext cx="321624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point out where each of these cities is locat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5472000" y="1463760"/>
            <a:ext cx="3672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largest cities in the U.S. were:</a:t>
            </a:r>
            <a:endParaRPr b="0" lang="en-US" sz="2800" spc="-1" strike="noStrike">
              <a:solidFill>
                <a:srgbClr val="000000"/>
              </a:solidFill>
              <a:latin typeface="Arial"/>
            </a:endParaRPr>
          </a:p>
        </p:txBody>
      </p:sp>
      <p:sp>
        <p:nvSpPr>
          <p:cNvPr id="102" name=""/>
          <p:cNvSpPr/>
          <p:nvPr/>
        </p:nvSpPr>
        <p:spPr>
          <a:xfrm>
            <a:off x="5952960" y="3211560"/>
            <a:ext cx="289584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iladelphia</a:t>
            </a:r>
            <a:endParaRPr b="0" lang="en-US" sz="2800" spc="-1" strike="noStrike">
              <a:solidFill>
                <a:srgbClr val="000000"/>
              </a:solidFill>
              <a:latin typeface="Arial"/>
            </a:endParaRPr>
          </a:p>
        </p:txBody>
      </p:sp>
      <p:sp>
        <p:nvSpPr>
          <p:cNvPr id="103" name=""/>
          <p:cNvSpPr/>
          <p:nvPr/>
        </p:nvSpPr>
        <p:spPr>
          <a:xfrm>
            <a:off x="5952960" y="36831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ston</a:t>
            </a:r>
            <a:endParaRPr b="0" lang="en-US" sz="2800" spc="-1" strike="noStrike">
              <a:solidFill>
                <a:srgbClr val="000000"/>
              </a:solidFill>
              <a:latin typeface="Arial"/>
            </a:endParaRPr>
          </a:p>
        </p:txBody>
      </p:sp>
      <p:sp>
        <p:nvSpPr>
          <p:cNvPr id="104" name=""/>
          <p:cNvSpPr/>
          <p:nvPr/>
        </p:nvSpPr>
        <p:spPr>
          <a:xfrm>
            <a:off x="5952960" y="23115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a:t>
            </a:r>
            <a:endParaRPr b="0" lang="en-US" sz="2800" spc="-1" strike="noStrike">
              <a:solidFill>
                <a:srgbClr val="000000"/>
              </a:solidFill>
              <a:latin typeface="Arial"/>
            </a:endParaRPr>
          </a:p>
        </p:txBody>
      </p:sp>
      <p:sp>
        <p:nvSpPr>
          <p:cNvPr id="105" name=""/>
          <p:cNvSpPr/>
          <p:nvPr/>
        </p:nvSpPr>
        <p:spPr>
          <a:xfrm>
            <a:off x="5970600" y="4140360"/>
            <a:ext cx="289548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Orleans</a:t>
            </a:r>
            <a:endParaRPr b="0" lang="en-US" sz="2800" spc="-1" strike="noStrike">
              <a:solidFill>
                <a:srgbClr val="000000"/>
              </a:solidFill>
              <a:latin typeface="Arial"/>
            </a:endParaRPr>
          </a:p>
        </p:txBody>
      </p:sp>
      <p:sp>
        <p:nvSpPr>
          <p:cNvPr id="106" name=""/>
          <p:cNvSpPr/>
          <p:nvPr/>
        </p:nvSpPr>
        <p:spPr>
          <a:xfrm>
            <a:off x="5938920" y="4629240"/>
            <a:ext cx="2895480" cy="379440"/>
          </a:xfrm>
          <a:prstGeom prst="rect">
            <a:avLst/>
          </a:prstGeom>
          <a:noFill/>
          <a:ln w="0">
            <a:noFill/>
          </a:ln>
        </p:spPr>
        <p:style>
          <a:lnRef idx="0"/>
          <a:fillRef idx="0"/>
          <a:effectRef idx="0"/>
          <a:fontRef idx="minor"/>
        </p:style>
        <p:txBody>
          <a:bodyPr lIns="90000" rIns="90000" tIns="46800" bIns="46800" anchor="t">
            <a:normAutofit fontScale="7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leston</a:t>
            </a:r>
            <a:endParaRPr b="0" lang="en-US" sz="2800" spc="-1" strike="noStrike">
              <a:solidFill>
                <a:srgbClr val="000000"/>
              </a:solidFill>
              <a:latin typeface="Arial"/>
            </a:endParaRPr>
          </a:p>
        </p:txBody>
      </p:sp>
      <p:sp>
        <p:nvSpPr>
          <p:cNvPr id="107" name=""/>
          <p:cNvSpPr/>
          <p:nvPr/>
        </p:nvSpPr>
        <p:spPr>
          <a:xfrm>
            <a:off x="5940360" y="27687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timore</a:t>
            </a:r>
            <a:endParaRPr b="0" lang="en-US" sz="2800" spc="-1" strike="noStrike">
              <a:solidFill>
                <a:srgbClr val="000000"/>
              </a:solidFill>
              <a:latin typeface="Arial"/>
            </a:endParaRPr>
          </a:p>
        </p:txBody>
      </p:sp>
      <p:sp>
        <p:nvSpPr>
          <p:cNvPr id="108" name=""/>
          <p:cNvSpPr/>
          <p:nvPr/>
        </p:nvSpPr>
        <p:spPr>
          <a:xfrm>
            <a:off x="-228600" y="0"/>
            <a:ext cx="9372600" cy="800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0"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1"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2"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3"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4"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5" name=""/>
          <p:cNvSpPr/>
          <p:nvPr/>
        </p:nvSpPr>
        <p:spPr>
          <a:xfrm>
            <a:off x="7278840" y="64184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a:t>
            </a:r>
            <a:endParaRPr b="0" lang="en-US" sz="1000" spc="-1" strike="noStrike">
              <a:solidFill>
                <a:srgbClr val="000000"/>
              </a:solidFill>
              <a:latin typeface="Arial"/>
            </a:endParaRPr>
          </a:p>
        </p:txBody>
      </p:sp>
      <p:grpSp>
        <p:nvGrpSpPr>
          <p:cNvPr id="116" name=""/>
          <p:cNvGrpSpPr/>
          <p:nvPr/>
        </p:nvGrpSpPr>
        <p:grpSpPr>
          <a:xfrm>
            <a:off x="563760" y="2357280"/>
            <a:ext cx="4185720" cy="3272400"/>
            <a:chOff x="563760" y="2357280"/>
            <a:chExt cx="4185720" cy="3272400"/>
          </a:xfrm>
        </p:grpSpPr>
        <p:sp>
          <p:nvSpPr>
            <p:cNvPr id="117"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118"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119"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120"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121"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122"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16"/>
                                        </p:tgtEl>
                                        <p:attrNameLst>
                                          <p:attrName>style.visibility</p:attrName>
                                        </p:attrNameLst>
                                      </p:cBhvr>
                                      <p:to>
                                        <p:strVal val="visible"/>
                                      </p:to>
                                    </p:set>
                                    <p:animEffect filter="fade" transition="in">
                                      <p:cBhvr additive="repl">
                                        <p:cTn id="45"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3" name=""/>
          <p:cNvGrpSpPr/>
          <p:nvPr/>
        </p:nvGrpSpPr>
        <p:grpSpPr>
          <a:xfrm>
            <a:off x="-1025280" y="-1080"/>
            <a:ext cx="12531600" cy="11681640"/>
            <a:chOff x="-1025280" y="-1080"/>
            <a:chExt cx="12531600" cy="11681640"/>
          </a:xfrm>
        </p:grpSpPr>
        <p:sp>
          <p:nvSpPr>
            <p:cNvPr id="124" name=""/>
            <p:cNvSpPr/>
            <p:nvPr/>
          </p:nvSpPr>
          <p:spPr>
            <a:xfrm rot="19594200">
              <a:off x="122400" y="2219400"/>
              <a:ext cx="10235880" cy="72406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52600">
              <a:off x="4317840" y="401400"/>
              <a:ext cx="5598720" cy="3235320"/>
            </a:xfrm>
            <a:custGeom>
              <a:avLst/>
              <a:gdLst/>
              <a:ahLst/>
              <a:rect l="l" t="t" r="r" b="b"/>
              <a:pathLst>
                <a:path w="3527" h="2038">
                  <a:moveTo>
                    <a:pt x="406" y="1214"/>
                  </a:moveTo>
                  <a:cubicBezTo>
                    <a:pt x="0" y="1063"/>
                    <a:pt x="215" y="1133"/>
                    <a:pt x="655" y="956"/>
                  </a:cubicBezTo>
                  <a:cubicBezTo>
                    <a:pt x="1095" y="779"/>
                    <a:pt x="2642" y="0"/>
                    <a:pt x="3048" y="151"/>
                  </a:cubicBezTo>
                  <a:cubicBezTo>
                    <a:pt x="3454" y="302"/>
                    <a:pt x="3527" y="1680"/>
                    <a:pt x="3088" y="1859"/>
                  </a:cubicBezTo>
                  <a:cubicBezTo>
                    <a:pt x="2649" y="2038"/>
                    <a:pt x="812" y="1365"/>
                    <a:pt x="406" y="1214"/>
                  </a:cubicBez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76320" y="43920"/>
            <a:ext cx="908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major U.S. cities</a:t>
            </a:r>
            <a:endParaRPr b="0" lang="en-US" sz="4000" spc="-1" strike="noStrike">
              <a:solidFill>
                <a:srgbClr val="ffffff"/>
              </a:solidFill>
              <a:latin typeface="Times New Roman"/>
            </a:endParaRPr>
          </a:p>
        </p:txBody>
      </p:sp>
      <p:pic>
        <p:nvPicPr>
          <p:cNvPr id="128" name="" descr=""/>
          <p:cNvPicPr/>
          <p:nvPr/>
        </p:nvPicPr>
        <p:blipFill>
          <a:blip r:embed="rId2"/>
          <a:stretch/>
        </p:blipFill>
        <p:spPr>
          <a:xfrm flipH="1">
            <a:off x="3200400" y="7391520"/>
            <a:ext cx="628560" cy="622080"/>
          </a:xfrm>
          <a:prstGeom prst="rect">
            <a:avLst/>
          </a:prstGeom>
          <a:ln w="0">
            <a:noFill/>
          </a:ln>
        </p:spPr>
      </p:pic>
      <p:pic>
        <p:nvPicPr>
          <p:cNvPr id="129" name="" descr=""/>
          <p:cNvPicPr/>
          <p:nvPr/>
        </p:nvPicPr>
        <p:blipFill>
          <a:blip r:embed="rId3"/>
          <a:stretch/>
        </p:blipFill>
        <p:spPr>
          <a:xfrm flipH="1">
            <a:off x="10134720" y="3886200"/>
            <a:ext cx="628560" cy="622440"/>
          </a:xfrm>
          <a:prstGeom prst="rect">
            <a:avLst/>
          </a:prstGeom>
          <a:ln w="0">
            <a:noFill/>
          </a:ln>
        </p:spPr>
      </p:pic>
      <p:pic>
        <p:nvPicPr>
          <p:cNvPr id="130" name="" descr=""/>
          <p:cNvPicPr/>
          <p:nvPr/>
        </p:nvPicPr>
        <p:blipFill>
          <a:blip r:embed="rId4"/>
          <a:stretch/>
        </p:blipFill>
        <p:spPr>
          <a:xfrm flipH="1">
            <a:off x="9372600" y="4572000"/>
            <a:ext cx="628560" cy="622440"/>
          </a:xfrm>
          <a:prstGeom prst="rect">
            <a:avLst/>
          </a:prstGeom>
          <a:ln w="0">
            <a:noFill/>
          </a:ln>
        </p:spPr>
      </p:pic>
      <p:pic>
        <p:nvPicPr>
          <p:cNvPr id="131" name="" descr=""/>
          <p:cNvPicPr/>
          <p:nvPr/>
        </p:nvPicPr>
        <p:blipFill>
          <a:blip r:embed="rId5"/>
          <a:stretch/>
        </p:blipFill>
        <p:spPr>
          <a:xfrm flipH="1">
            <a:off x="9372600" y="5257800"/>
            <a:ext cx="628560" cy="622440"/>
          </a:xfrm>
          <a:prstGeom prst="rect">
            <a:avLst/>
          </a:prstGeom>
          <a:ln w="0">
            <a:noFill/>
          </a:ln>
        </p:spPr>
      </p:pic>
      <p:pic>
        <p:nvPicPr>
          <p:cNvPr id="132" name="" descr=""/>
          <p:cNvPicPr/>
          <p:nvPr/>
        </p:nvPicPr>
        <p:blipFill>
          <a:blip r:embed="rId6"/>
          <a:stretch/>
        </p:blipFill>
        <p:spPr>
          <a:xfrm flipH="1">
            <a:off x="9372600" y="5867280"/>
            <a:ext cx="628560" cy="622440"/>
          </a:xfrm>
          <a:prstGeom prst="rect">
            <a:avLst/>
          </a:prstGeom>
          <a:ln w="0">
            <a:noFill/>
          </a:ln>
        </p:spPr>
      </p:pic>
      <p:sp>
        <p:nvSpPr>
          <p:cNvPr id="133" name="PlaceHolder 2"/>
          <p:cNvSpPr>
            <a:spLocks noGrp="1"/>
          </p:cNvSpPr>
          <p:nvPr>
            <p:ph/>
          </p:nvPr>
        </p:nvSpPr>
        <p:spPr>
          <a:xfrm>
            <a:off x="5638680" y="1990800"/>
            <a:ext cx="3353040" cy="2187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do all of </a:t>
            </a:r>
            <a:br>
              <a:rPr sz="2800"/>
            </a:br>
            <a:r>
              <a:rPr b="0" lang="en-US" sz="2800" spc="-1" strike="noStrike">
                <a:solidFill>
                  <a:srgbClr val="ffffff"/>
                </a:solidFill>
                <a:latin typeface="Times New Roman"/>
              </a:rPr>
              <a:t>these cities have </a:t>
            </a:r>
            <a:br>
              <a:rPr sz="2800"/>
            </a:br>
            <a:r>
              <a:rPr b="0" lang="en-US" sz="2800" spc="-1" strike="noStrike">
                <a:solidFill>
                  <a:srgbClr val="ffffff"/>
                </a:solidFill>
                <a:latin typeface="Times New Roman"/>
              </a:rPr>
              <a:t>in common?</a:t>
            </a:r>
            <a:endParaRPr b="0" lang="en-US" sz="2800" spc="-1" strike="noStrike">
              <a:solidFill>
                <a:srgbClr val="ffffff"/>
              </a:solidFill>
              <a:latin typeface="Times New Roman"/>
            </a:endParaRPr>
          </a:p>
        </p:txBody>
      </p:sp>
      <p:sp>
        <p:nvSpPr>
          <p:cNvPr id="134"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5"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6"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7"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8"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9"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pic>
        <p:nvPicPr>
          <p:cNvPr id="140" name="" descr=""/>
          <p:cNvPicPr/>
          <p:nvPr/>
        </p:nvPicPr>
        <p:blipFill>
          <a:blip r:embed="rId7"/>
          <a:stretch/>
        </p:blipFill>
        <p:spPr>
          <a:xfrm flipH="1">
            <a:off x="9570960" y="6546960"/>
            <a:ext cx="628560" cy="622080"/>
          </a:xfrm>
          <a:prstGeom prst="rect">
            <a:avLst/>
          </a:prstGeom>
          <a:ln w="0">
            <a:noFill/>
          </a:ln>
        </p:spPr>
      </p:pic>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0</a:t>
            </a:r>
            <a:endParaRPr b="0" lang="en-US" sz="1000" spc="-1" strike="noStrike">
              <a:solidFill>
                <a:srgbClr val="000000"/>
              </a:solidFill>
              <a:latin typeface="Arial"/>
            </a:endParaRPr>
          </a:p>
        </p:txBody>
      </p:sp>
      <p:sp>
        <p:nvSpPr>
          <p:cNvPr id="142"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143"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144"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145"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146"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147"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23"/>
                                        </p:tgtEl>
                                        <p:attrNameLst>
                                          <p:attrName>style.visibility</p:attrName>
                                        </p:attrNameLst>
                                      </p:cBhvr>
                                      <p:to>
                                        <p:strVal val="visible"/>
                                      </p:to>
                                    </p:set>
                                    <p:animEffect filter="fade" transition="in">
                                      <p:cBhvr additive="repl">
                                        <p:cTn id="52" dur="2000"/>
                                        <p:tgtEl>
                                          <p:spTgt spid="123"/>
                                        </p:tgtEl>
                                      </p:cBhvr>
                                    </p:animEffect>
                                  </p:childTnLst>
                                </p:cTn>
                              </p:par>
                            </p:childTnLst>
                          </p:cTn>
                        </p:par>
                        <p:par>
                          <p:cTn id="53" fill="hold">
                            <p:stCondLst>
                              <p:cond delay="2000"/>
                            </p:stCondLst>
                            <p:childTnLst>
                              <p:par>
                                <p:cTn id="54" nodeType="afterEffect" fill="hold" presetClass="path" presetID="0">
                                  <p:stCondLst>
                                    <p:cond delay="0"/>
                                  </p:stCondLst>
                                  <p:childTnLst>
                                    <p:animMotion origin="layout" path="M 5E-006 -4.39306E-006 C -0.01892 -0.00508 -0.03768 -0.00578 -0.05678 -0.00924 C -0.06545 -0.01086 -0.08282 -0.0141 -0.08282 -0.01387 C -0.09513 -0.01965 -0.10799 -0.02312 -0.12049 -0.02797 C -0.12882 -0.03121 -0.13612 -0.03699 -0.1448 -0.03976 C -0.15035 -0.04485 -0.15625 -0.04739 -0.16198 -0.05133 C -0.17518 -0.06034 -0.16007 -0.05133 -0.17049 -0.0608 C -0.17657 -0.06635 -0.18386 -0.07028 -0.18959 -0.07699 C -0.19775 -0.0867 -0.20261 -0.09919 -0.21181 -0.10751 C -0.21494 -0.12023 -0.22101 -0.12832 -0.22917 -0.13549 C -0.23212 -0.14196 -0.23438 -0.14728 -0.23941 -0.1519 C -0.24462 -0.15653 -0.2507 -0.15976 -0.25504 -0.16578 C -0.25678 -0.16809 -0.25816 -0.17086 -0.26007 -0.17294 C -0.26164 -0.17479 -0.26372 -0.17572 -0.26528 -0.17757 C -0.27257 -0.18635 -0.27778 -0.19606 -0.28577 -0.20323 C -0.28959 -0.21063 -0.29237 -0.21456 -0.29792 -0.21965 C -0.30799 -0.24 -0.29428 -0.21549 -0.3066 -0.2289 C -0.30834 -0.23075 -0.30851 -0.23422 -0.31007 -0.23606 C -0.31303 -0.23976 -0.32049 -0.24531 -0.32049 -0.24508 C -0.32691 -0.25826 -0.32865 -0.25618 -0.33768 -0.26404 C -0.33889 -0.26635 -0.33941 -0.26959 -0.34098 -0.27098 C -0.3441 -0.27352 -0.35122 -0.2756 -0.35122 -0.27537 C -0.35625 -0.28231 -0.36112 -0.28462 -0.36685 -0.28971 C -0.37657 -0.29849 -0.38612 -0.30867 -0.39601 -0.31768 C -0.40122 -0.32231 -0.40643 -0.32716 -0.41164 -0.33179 C -0.41459 -0.33456 -0.42205 -0.33641 -0.42205 -0.33618 C -0.43299 -0.34635 -0.44549 -0.35167 -0.45816 -0.35745 C -0.4599 -0.35838 -0.46129 -0.36092 -0.4632 -0.36208 C -0.46667 -0.36416 -0.47362 -0.3667 -0.47362 -0.36647 C -0.47483 -0.36832 -0.47553 -0.37063 -0.47709 -0.37156 C -0.48021 -0.37387 -0.48733 -0.37618 -0.48733 -0.37595 C -0.48907 -0.3778 -0.49063 -0.37988 -0.49254 -0.3808 C -0.49688 -0.38289 -0.50625 -0.38543 -0.50625 -0.3852 C -0.54532 -0.38289 -0.53039 -0.38312 -0.55105 -0.38312 E">
                                      <p:cBhvr>
                                        <p:cTn id="55" dur="3000" fill="hold"/>
                                        <p:tgtEl>
                                          <p:spTgt spid="132"/>
                                        </p:tgtEl>
                                      </p:cBhvr>
                                    </p:animMotion>
                                  </p:childTnLst>
                                </p:cTn>
                              </p:par>
                              <p:par>
                                <p:cTn id="56" nodeType="withEffect" fill="hold" presetClass="path" presetID="0">
                                  <p:stCondLst>
                                    <p:cond delay="0"/>
                                  </p:stCondLst>
                                  <p:childTnLst>
                                    <p:animMotion origin="layout" path="M 0.00833 5.20231E-007 C -0.0191 -0.00486 -0.04531 -0.01457 -0.0724 -0.0178 C -0.1092 -0.0326 -0.07031 -0.0178 -0.17379 -0.0178 C -0.22222 -0.0178 -0.27031 -0.01942 -0.31875 -0.02035 C -0.33299 -0.02451 -0.34636 -0.02705 -0.36007 -0.0326 C -0.36424 -0.03445 -0.36893 -0.03491 -0.37257 -0.03792 C -0.38386 -0.04717 -0.39792 -0.05064 -0.4099 -0.05804 C -0.41667 -0.0622 -0.41927 -0.06751 -0.42656 -0.07052 C -0.43264 -0.07792 -0.43698 -0.08231 -0.44514 -0.08555 C -0.4467 -0.08809 -0.4474 -0.0911 -0.44913 -0.09295 C -0.45087 -0.0948 -0.45347 -0.09434 -0.45538 -0.09549 C -0.46233 -0.09965 -0.46458 -0.1052 -0.47205 -0.10821 C -0.4816 -0.11954 -0.49202 -0.13688 -0.50295 -0.14567 C -0.51354 -0.16555 -0.5 -0.1422 -0.51337 -0.15838 C -0.51493 -0.16023 -0.5158 -0.16347 -0.51736 -0.16578 C -0.51858 -0.16763 -0.52031 -0.16902 -0.5217 -0.17087 C -0.52622 -0.18798 -0.53056 -0.18428 -0.53837 -0.19584 C -0.5467 -0.20832 -0.5375 -0.19954 -0.54861 -0.20856 C -0.55156 -0.21988 -0.55903 -0.22358 -0.56719 -0.22867 C -0.57604 -0.23399 -0.57031 -0.23353 -0.57535 -0.23353 E">
                                      <p:cBhvr>
                                        <p:cTn id="57" dur="2000" fill="hold"/>
                                        <p:tgtEl>
                                          <p:spTgt spid="129"/>
                                        </p:tgtEl>
                                      </p:cBhvr>
                                    </p:animMotion>
                                  </p:childTnLst>
                                </p:cTn>
                              </p:par>
                              <p:par>
                                <p:cTn id="58" nodeType="withEffect" fill="hold" presetClass="path" presetID="0">
                                  <p:stCondLst>
                                    <p:cond delay="0"/>
                                  </p:stCondLst>
                                  <p:childTnLst>
                                    <p:animMotion origin="layout" path="M 5E-006 -3.87283E-006 C -0.09479 -0.04 -0.19289 -0.02705 -0.29289 -0.02844 C -0.31042 -0.03283 -0.32796 -0.0356 -0.34601 -0.03768 C -0.35834 -0.043 -0.34306 -0.03699 -0.3625 -0.04231 C -0.37657 -0.04624 -0.39063 -0.05294 -0.40452 -0.05872 C -0.4158 -0.06358 -0.42587 -0.07213 -0.43733 -0.07514 C -0.44289 -0.07976 -0.44914 -0.083 -0.45382 -0.08901 C -0.46268 -0.10034 -0.47066 -0.11306 -0.47952 -0.12416 C -0.4816 -0.13202 -0.48421 -0.13687 -0.48872 -0.14289 C -0.49132 -0.15352 -0.49185 -0.16115 -0.49792 -0.16855 C -0.50018 -0.18312 -0.50591 -0.19722 -0.5106 -0.21063 C -0.51528 -0.22381 -0.51546 -0.23976 -0.52344 -0.2504 C -0.52483 -0.25572 -0.52535 -0.2615 -0.52709 -0.26659 C -0.52796 -0.26913 -0.52917 -0.27144 -0.53073 -0.27375 C -0.53178 -0.2756 -0.53438 -0.27838 -0.53438 -0.27815 E">
                                      <p:cBhvr>
                                        <p:cTn id="59" dur="2000" fill="hold"/>
                                        <p:tgtEl>
                                          <p:spTgt spid="130"/>
                                        </p:tgtEl>
                                      </p:cBhvr>
                                    </p:animMotion>
                                  </p:childTnLst>
                                </p:cTn>
                              </p:par>
                              <p:par>
                                <p:cTn id="60" nodeType="withEffect" fill="hold" presetClass="path" presetID="0">
                                  <p:stCondLst>
                                    <p:cond delay="0"/>
                                  </p:stCondLst>
                                  <p:childTnLst>
                                    <p:animMotion origin="layout" path="M 5E-006 2.89017E-007 C -0.00434 -0.00231 -0.00885 -0.00416 -0.01233 -0.00856 C -0.01476 -0.01225 -0.0191 -0.01896 -0.0191 -0.01873 C -0.021 -0.02798 -0.02639 -0.0326 -0.03125 -0.03954 C -0.03871 -0.0511 -0.04619 -0.06312 -0.05399 -0.07445 C -0.05607 -0.07746 -0.05973 -0.07769 -0.06197 -0.08069 C -0.06667 -0.08647 -0.07152 -0.09179 -0.07674 -0.09734 C -0.07899 -0.09988 -0.08489 -0.10104 -0.08489 -0.10081 C -0.08802 -0.10613 -0.09549 -0.11399 -0.09549 -0.11376 C -0.10053 -0.12439 -0.10747 -0.13803 -0.11563 -0.14289 C -0.12205 -0.15191 -0.12726 -0.16393 -0.13455 -0.17179 C -0.13837 -0.18844 -0.13316 -0.1674 -0.13855 -0.18173 C -0.13924 -0.18382 -0.13924 -0.18636 -0.13994 -0.18798 C -0.14063 -0.18983 -0.14185 -0.19052 -0.14271 -0.19214 C -0.14671 -0.19908 -0.15053 -0.20647 -0.15487 -0.21272 C -0.15695 -0.21572 -0.15799 -0.21965 -0.16007 -0.22289 C -0.1625 -0.23422 -0.16389 -0.24925 -0.16962 -0.2578 C -0.17119 -0.2659 -0.17605 -0.27145 -0.17605 -0.27838 E">
                                      <p:cBhvr>
                                        <p:cTn id="61" dur="3000" fill="hold"/>
                                        <p:tgtEl>
                                          <p:spTgt spid="128"/>
                                        </p:tgtEl>
                                      </p:cBhvr>
                                    </p:animMotion>
                                  </p:childTnLst>
                                </p:cTn>
                              </p:par>
                              <p:par>
                                <p:cTn id="62" nodeType="withEffect" fill="hold" presetClass="path" presetID="0">
                                  <p:stCondLst>
                                    <p:cond delay="0"/>
                                  </p:stCondLst>
                                  <p:childTnLst>
                                    <p:animMotion origin="layout" path="M 5E-006 -3.93064E-006 C -0.01598 -0.00462 -0.02188 -0.00531 -0.04167 -0.00693 C -0.06146 -0.01479 -0.08264 -0.01549 -0.10244 -0.02335 C -0.10903 -0.02589 -0.11546 -0.02797 -0.12205 -0.03029 C -0.12622 -0.03167 -0.13403 -0.03491 -0.13403 -0.03468 C -0.1474 -0.04578 -0.14115 -0.04254 -0.15139 -0.0467 C -0.15608 -0.05225 -0.16719 -0.06289 -0.17136 -0.07005 C -0.17275 -0.07237 -0.17362 -0.07514 -0.17518 -0.07699 C -0.18577 -0.08971 -0.17674 -0.07398 -0.1849 -0.08647 C -0.19185 -0.09711 -0.19775 -0.10797 -0.20869 -0.11213 C -0.21962 -0.13156 -0.20487 -0.10728 -0.21841 -0.1237 C -0.22014 -0.12578 -0.22084 -0.12878 -0.2224 -0.13086 C -0.22587 -0.13572 -0.22952 -0.14081 -0.23403 -0.14474 C -0.23664 -0.14705 -0.23941 -0.14913 -0.24185 -0.1519 C -0.24931 -0.16069 -0.25469 -0.17063 -0.26355 -0.17757 C -0.26997 -0.18844 -0.28056 -0.19468 -0.28907 -0.20323 C -0.29879 -0.21294 -0.29046 -0.20832 -0.30087 -0.21248 C -0.30869 -0.21872 -0.3191 -0.22404 -0.32639 -0.23121 C -0.33282 -0.23768 -0.33594 -0.24208 -0.3441 -0.24531 C -0.35764 -0.25595 -0.35139 -0.25294 -0.36181 -0.25687 C -0.36806 -0.2645 -0.37587 -0.26404 -0.38334 -0.26867 C -0.39237 -0.27398 -0.39931 -0.27861 -0.40886 -0.28254 C -0.42605 -0.28948 -0.44237 -0.29872 -0.4599 -0.30358 C -0.47622 -0.30797 -0.49271 -0.30867 -0.50921 -0.31075 C -0.52639 -0.31306 -0.54063 -0.3163 -0.55816 -0.31768 C -0.60504 -0.3267 -0.56598 -0.32 -0.67605 -0.32 E">
                                      <p:cBhvr>
                                        <p:cTn id="63" dur="2000" fill="hold"/>
                                        <p:tgtEl>
                                          <p:spTgt spid="140"/>
                                        </p:tgtEl>
                                      </p:cBhvr>
                                    </p:animMotion>
                                  </p:childTnLst>
                                </p:cTn>
                              </p:par>
                              <p:par>
                                <p:cTn id="64" nodeType="withEffect" fill="hold" presetClass="path" presetID="0">
                                  <p:stCondLst>
                                    <p:cond delay="0"/>
                                  </p:stCondLst>
                                  <p:childTnLst>
                                    <p:animMotion origin="layout" path="M -8.33333E-007 2.65896E-006 C -0.02639 -0.0007 -0.0526 -0.00093 -0.07899 -0.00232 C -0.08907 -0.00278 -0.09775 -0.00509 -0.10712 -0.00925 C -0.11059 -0.01087 -0.11407 -0.01249 -0.11754 -0.01411 C -0.11927 -0.01503 -0.12292 -0.01642 -0.12292 -0.01642 C -0.13108 -0.02359 -0.12622 -0.02035 -0.13855 -0.02567 C -0.14028 -0.02636 -0.14393 -0.02798 -0.14393 -0.02798 C -0.14566 -0.0296 -0.14723 -0.03145 -0.14914 -0.03284 C -0.1507 -0.03399 -0.15278 -0.03399 -0.15434 -0.03515 C -0.15573 -0.0363 -0.1566 -0.03862 -0.15799 -0.03977 C -0.16355 -0.04417 -0.17032 -0.04532 -0.17552 -0.05133 C -0.17917 -0.05573 -0.18247 -0.06081 -0.18594 -0.06544 C -0.1875 -0.06752 -0.19427 -0.07561 -0.1948 -0.07723 C -0.19983 -0.09087 -0.20382 -0.09619 -0.21233 -0.10752 C -0.23247 -0.13434 -0.20973 -0.1133 -0.22466 -0.12625 C -0.22691 -0.13087 -0.22813 -0.13688 -0.2316 -0.14012 C -0.23681 -0.14498 -0.24202 -0.14937 -0.24566 -0.15654 C -0.25052 -0.16625 -0.25608 -0.17365 -0.2632 -0.17989 C -0.27275 -0.19908 -0.26025 -0.17688 -0.27188 -0.18937 C -0.27362 -0.19122 -0.27396 -0.19422 -0.27552 -0.1963 C -0.279 -0.20093 -0.2816 -0.20139 -0.28594 -0.20324 C -0.2941 -0.21365 -0.28455 -0.20255 -0.2948 -0.21041 C -0.30226 -0.21596 -0.30834 -0.22174 -0.3158 -0.22659 C -0.32362 -0.23168 -0.33021 -0.23931 -0.33855 -0.24301 C -0.34896 -0.25619 -0.33473 -0.23954 -0.3474 -0.24995 C -0.34879 -0.2511 -0.34931 -0.25388 -0.35087 -0.2548 C -0.35417 -0.25711 -0.35799 -0.25781 -0.36146 -0.25943 C -0.3632 -0.26012 -0.36493 -0.26104 -0.36667 -0.26174 C -0.36841 -0.26243 -0.37188 -0.26405 -0.37188 -0.26405 C -0.37778 -0.27145 -0.38542 -0.27307 -0.39306 -0.27561 C -0.40504 -0.28648 -0.39948 -0.28347 -0.40886 -0.2874 C -0.41546 -0.29341 -0.42292 -0.29434 -0.42987 -0.2992 C -0.44497 -0.3096 -0.42118 -0.29758 -0.44566 -0.30844 C -0.46372 -0.3163 -0.43664 -0.30382 -0.45625 -0.31538 C -0.45955 -0.31723 -0.46667 -0.32 -0.46667 -0.32 C -0.47552 -0.32833 -0.48629 -0.32995 -0.49653 -0.33411 C -0.51285 -0.34058 -0.53039 -0.34498 -0.54566 -0.35515 E">
                                      <p:cBhvr>
                                        <p:cTn id="65" dur="2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 York City Grows</a:t>
            </a:r>
            <a:endParaRPr b="0" lang="en-US" sz="4400" spc="-1" strike="noStrike">
              <a:solidFill>
                <a:srgbClr val="ffffff"/>
              </a:solidFill>
              <a:latin typeface="Times New Roman"/>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00, New York City had a population of 61,000.</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850, New York’s population had grown to 515,000.</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used New York’s rapid growth?</a:t>
            </a:r>
            <a:endParaRPr b="0" lang="en-US" sz="2800" spc="-1" strike="noStrike">
              <a:solidFill>
                <a:srgbClr val="ffffff"/>
              </a:solidFill>
              <a:latin typeface="Times New Roman"/>
            </a:endParaRPr>
          </a:p>
        </p:txBody>
      </p:sp>
      <p:pic>
        <p:nvPicPr>
          <p:cNvPr id="150" name="" descr=""/>
          <p:cNvPicPr/>
          <p:nvPr/>
        </p:nvPicPr>
        <p:blipFill>
          <a:blip r:embed="rId2"/>
          <a:stretch/>
        </p:blipFill>
        <p:spPr>
          <a:xfrm>
            <a:off x="5041800" y="1752480"/>
            <a:ext cx="3492720" cy="4368960"/>
          </a:xfrm>
          <a:prstGeom prst="rect">
            <a:avLst/>
          </a:prstGeom>
          <a:ln w="38160">
            <a:solidFill>
              <a:srgbClr val="cc9900"/>
            </a:solidFill>
            <a:miter/>
          </a:ln>
        </p:spPr>
      </p:pic>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380880" y="1909800"/>
            <a:ext cx="1371600" cy="1371600"/>
          </a:xfrm>
          <a:prstGeom prst="rect">
            <a:avLst/>
          </a:prstGeom>
          <a:ln w="0">
            <a:noFill/>
          </a:ln>
        </p:spPr>
      </p:pic>
      <p:pic>
        <p:nvPicPr>
          <p:cNvPr id="153" name="" descr=""/>
          <p:cNvPicPr/>
          <p:nvPr/>
        </p:nvPicPr>
        <p:blipFill>
          <a:blip r:embed="rId3"/>
          <a:stretch/>
        </p:blipFill>
        <p:spPr>
          <a:xfrm>
            <a:off x="380880" y="3433680"/>
            <a:ext cx="1371600" cy="1382760"/>
          </a:xfrm>
          <a:prstGeom prst="rect">
            <a:avLst/>
          </a:prstGeom>
          <a:ln w="0">
            <a:noFill/>
          </a:ln>
        </p:spPr>
      </p:pic>
      <p:pic>
        <p:nvPicPr>
          <p:cNvPr id="154" name="" descr=""/>
          <p:cNvPicPr/>
          <p:nvPr/>
        </p:nvPicPr>
        <p:blipFill>
          <a:blip r:embed="rId4"/>
          <a:stretch/>
        </p:blipFill>
        <p:spPr>
          <a:xfrm>
            <a:off x="380880" y="4957920"/>
            <a:ext cx="1359000" cy="1371600"/>
          </a:xfrm>
          <a:prstGeom prst="rect">
            <a:avLst/>
          </a:prstGeom>
          <a:ln w="0">
            <a:noFill/>
          </a:ln>
        </p:spPr>
      </p:pic>
      <p:sp>
        <p:nvSpPr>
          <p:cNvPr id="15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5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157" name="" descr=""/>
          <p:cNvPicPr/>
          <p:nvPr/>
        </p:nvPicPr>
        <p:blipFill>
          <a:blip r:embed="rId5"/>
          <a:stretch/>
        </p:blipFill>
        <p:spPr>
          <a:xfrm>
            <a:off x="4724280" y="3451320"/>
            <a:ext cx="1371600" cy="1382760"/>
          </a:xfrm>
          <a:prstGeom prst="rect">
            <a:avLst/>
          </a:prstGeom>
          <a:ln w="0">
            <a:noFill/>
          </a:ln>
        </p:spPr>
      </p:pic>
      <p:pic>
        <p:nvPicPr>
          <p:cNvPr id="158" name="" descr=""/>
          <p:cNvPicPr/>
          <p:nvPr/>
        </p:nvPicPr>
        <p:blipFill>
          <a:blip r:embed="rId6"/>
          <a:stretch/>
        </p:blipFill>
        <p:spPr>
          <a:xfrm>
            <a:off x="4724280" y="4970520"/>
            <a:ext cx="1371600" cy="1371600"/>
          </a:xfrm>
          <a:prstGeom prst="rect">
            <a:avLst/>
          </a:prstGeom>
          <a:ln w="0">
            <a:noFill/>
          </a:ln>
        </p:spPr>
      </p:pic>
      <p:sp>
        <p:nvSpPr>
          <p:cNvPr id="15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0" name=""/>
          <p:cNvGrpSpPr/>
          <p:nvPr/>
        </p:nvGrpSpPr>
        <p:grpSpPr>
          <a:xfrm>
            <a:off x="4643280" y="1928880"/>
            <a:ext cx="1546560" cy="1371600"/>
            <a:chOff x="4643280" y="1928880"/>
            <a:chExt cx="1546560" cy="1371600"/>
          </a:xfrm>
        </p:grpSpPr>
        <p:sp>
          <p:nvSpPr>
            <p:cNvPr id="16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2" name=""/>
            <p:cNvGraphicFramePr/>
            <p:nvPr/>
          </p:nvGraphicFramePr>
          <p:xfrm>
            <a:off x="4643280" y="2117880"/>
            <a:ext cx="1546560" cy="1012680"/>
          </p:xfrm>
          <a:graphic>
            <a:graphicData uri="http://schemas.openxmlformats.org/presentationml/2006/ole">
              <p:oleObj r:id="rId7" spid="">
                <p:embed/>
                <p:pic>
                  <p:nvPicPr>
                    <p:cNvPr id="16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6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22:08:04Z</dcterms:modified>
  <cp:revision>128</cp:revision>
  <dc:subject/>
  <dc:title>Dark Poison</dc:title>
</cp:coreProperties>
</file>