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E80B-072D-4BBE-B4B0-C3EB284DF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D23C-28FC-4C7F-A605-06E00F770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1D27-473A-4739-ABA4-A7D3077C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D0F1-D573-4875-968A-727DDC13F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FA1B-C00B-4908-AACF-8CDCA51B7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C6B2-6475-4AB7-BC16-8D908E82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4281-D8D8-4BEE-A6DB-1E618282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89FB-4008-4CA1-8E29-1BE1D923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7A03-CD1A-4D3E-BE7A-F0CA7781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B1E1-3057-4068-93F1-5C3B2706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CB7B-B7AA-4F4F-87B7-FEAAA139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23B1-3170-44E2-AA49-0E3FF637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58DC-D60A-4A4E-ADF6-139FB669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22B5-1DF7-4B98-8DF0-820D74F1BA7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45721" r="0" b="0"/>
          <a:stretch/>
        </p:blipFill>
        <p:spPr>
          <a:xfrm>
            <a:off x="2362320" y="4343400"/>
            <a:ext cx="41148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1141" t="0" r="0" b="0"/>
          <a:stretch/>
        </p:blipFill>
        <p:spPr>
          <a:xfrm>
            <a:off x="5029200" y="1981080"/>
            <a:ext cx="36115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7-08-02T19:09:28Z</dcterms:modified>
  <cp:revision>30</cp:revision>
  <dc:subject/>
  <dc:title>Descriptive Writing</dc:title>
</cp:coreProperties>
</file>