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E365-8950-48FC-90AE-AE2E7E4DC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-8.22 (B) Interpret important events and ideas gathered from visual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2 (G) Recognize and analyze story plot, setting, and problem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0 (D) Describe mental images the text evo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944-BBA0-4647-AB75-68A78B26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A94-5943-4F20-942B-902271C2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D53-B3FA-4168-8AE8-3004CC81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E92-218D-4AA5-A003-B7E6D4B6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0A7E-FE5C-4331-9223-21200625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7A9-BAF3-4220-82A0-2DA235D9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09B-F18B-4509-82F2-EEC5EA12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319-0183-491C-BD9E-D619C7CD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37D-9D7D-432A-98B7-510F0082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AFD-FB5D-46CB-8DB3-A1540607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7240-2507-4CF4-952E-387B7370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5CC-193D-479A-8600-E2967F70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B484-7492-45FB-AC9A-73F6562F0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ljlab</cp:lastModifiedBy>
  <dcterms:modified xsi:type="dcterms:W3CDTF">2007-08-02T18:23:59Z</dcterms:modified>
  <cp:revision>18</cp:revision>
  <dc:subject/>
  <dc:title>Context Clues</dc:title>
</cp:coreProperties>
</file>