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7B8-5591-40DB-A10D-FE543EE0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2DA-75E4-4D13-AE68-6673200C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62C-1776-4666-8C7F-314092E1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4DF-238C-4D87-8BEF-49B7C38C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8BB-8DFD-45AB-9C86-AA7F84EF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AEB-62E5-4538-9687-4A7CA8C1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2D9-786E-49F8-968C-E5F4AD13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D5A-43CD-4450-A82F-01835510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B3C-5602-4E09-9AC6-8989D8F8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783-644D-4057-8852-78B04E03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346-2D80-4112-A6B9-C4FF300E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B26-236B-4647-833F-27C7D9BA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797-2AC5-4060-B677-6A9D643A59E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ljlab</cp:lastModifiedBy>
  <dcterms:modified xsi:type="dcterms:W3CDTF">2007-08-02T18:51:10Z</dcterms:modified>
  <cp:revision>62</cp:revision>
  <dc:subject/>
  <dc:title>Locating Places</dc:title>
</cp:coreProperties>
</file>