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DA92-B2F1-49E0-B5B2-E0BA8F462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BB594-19B9-45FC-95A4-375B08B68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9F53B-7508-48E1-8A23-F35220FBE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2F9A0-484F-4AD4-A25A-2C54545F5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E5B6B-AD9A-42D0-8312-1E11E3FCA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1B985-1CFA-4D33-9FD7-9F15FA8E1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405A6-E54B-4314-AECF-B4337CC09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4A256-43C2-4D37-95CB-566185914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13D18-E6D5-495D-AC42-D2325257A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2821F-5153-48C6-8392-CFA5B6D51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025D2-CA6A-4140-87FB-D3362F551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82933-F6BC-4783-9E6D-CC364B2ED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AA0CA-F5E1-4E0E-9065-BAD4A863F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690840" indent="-26568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06272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48788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191304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AC86-46AB-43FA-86DD-C97D2C2A369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480"/>
            <a:ext cx="6553080" cy="381024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ive specific examples to support your argument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velop your thoughts and elaborate in your paragraphs.  Ask yourself, “Would I be convinced?”</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late to the reader by putting yourself in his or her shoe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e persuasive words…….</a:t>
            </a:r>
            <a:endParaRPr b="0" lang="en-US" sz="28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7-08-02T17:16:24Z</dcterms:modified>
  <cp:revision>27</cp:revision>
  <dc:subject/>
  <dc:title>Persuasive Writing</dc:title>
</cp:coreProperties>
</file>