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3752-6F9B-4BDC-94AE-199DF61588B8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6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ize and punctuate correctly to clarify and enhance mea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D34-C2B4-4D6F-9695-2B4BEF80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95B5-72A4-4476-8226-6D7DAF02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ADC-78B7-4881-9B47-A338AB7F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EA9B-009E-491F-8DC4-282149E5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A6A0-E6D1-4CC4-8F26-1A0DD33F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7B61-A934-4BE3-8BC1-2E978B44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FC81-307D-4286-AF80-2D37C4F4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70FD-82AC-4DF1-B1EF-06F73E6A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7737-12BC-457F-9ED3-4C4A2C74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9E38-2257-4D6B-9E19-8B310EDD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947-58E8-471E-A2B7-6D3E280F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234D-731E-4568-B2D3-1DDC7E3D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1B8A-B466-4AFD-A7D8-990666EAFBA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752480" y="685800"/>
            <a:ext cx="5562360" cy="5486400"/>
            <a:chOff x="1752480" y="685800"/>
            <a:chExt cx="5562360" cy="5486400"/>
          </a:xfrm>
        </p:grpSpPr>
        <p:sp>
          <p:nvSpPr>
            <p:cNvPr id="52" name=""/>
            <p:cNvSpPr/>
            <p:nvPr/>
          </p:nvSpPr>
          <p:spPr>
            <a:xfrm>
              <a:off x="1752480" y="685800"/>
              <a:ext cx="55623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6560" y="930240"/>
              <a:ext cx="5253480" cy="50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bebeb"/>
                  </a:solidFill>
                  <a:latin typeface="Monotype Corsiva"/>
                </a:rPr>
                <a:t>	</a:t>
              </a:r>
              <a:r>
                <a:rPr b="0" lang="en-US" sz="2400" spc="-1" strike="noStrike">
                  <a:solidFill>
                    <a:srgbClr val="ebebeb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123 Sunset Lan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Bryan, TX 78572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July 20, 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3000 University D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College Station, TX 785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Dear Sir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This is an example of a business lett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Sincerely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Joh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172200" y="411480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362320"/>
            <a:ext cx="2286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3429000"/>
            <a:ext cx="1447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1066680"/>
            <a:ext cx="26668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360" y="1141200"/>
            <a:ext cx="289548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</a:t>
            </a:r>
            <a:br>
              <a:rPr sz="2400"/>
            </a:b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4952880"/>
            <a:ext cx="152388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4875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523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343400" y="2666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97144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486400" y="43434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5257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33512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9610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22845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ljlab</cp:lastModifiedBy>
  <dcterms:modified xsi:type="dcterms:W3CDTF">2007-08-02T18:49:10Z</dcterms:modified>
  <cp:revision>17</cp:revision>
  <dc:subject/>
  <dc:title>Writing a Business Letter</dc:title>
</cp:coreProperties>
</file>