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2DB8C-220A-403C-B00A-1A9CECD288E2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625E-5E8B-4CF1-8582-8A3F02F59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3F97-7B77-4DC5-9C6E-3233647D9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8ED3-7EEC-4439-82BB-87033B679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0852-4F03-4C44-8253-BB0EBABB8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5621-F13C-48D9-A867-4AEE43A2B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3639-BA0B-4CE4-9C3B-94D102D6A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355E-C4CB-4471-978A-6D03A6987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8399-E948-40A9-B64C-7B014D67C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0A9B-6685-49CF-A291-EF95C12CC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ADC6-5625-4A85-BF7B-68A69524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39AC-84F0-457A-BA3C-76D52875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09BF-36D8-4E82-B431-D01DF8C0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C28EE-5E5C-49FF-8A94-C13BE36C7D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486400" y="2057400"/>
            <a:ext cx="26798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6560" indent="-466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6560" indent="-466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6560" indent="-466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ljlab</cp:lastModifiedBy>
  <dcterms:modified xsi:type="dcterms:W3CDTF">2007-08-02T17:42:57Z</dcterms:modified>
  <cp:revision>16</cp:revision>
  <dc:subject/>
  <dc:title>Informative Essay</dc:title>
</cp:coreProperties>
</file>