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87F8-E15A-4E4A-A7AF-A3DDCBAC3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B41-630F-4163-A409-C22BB0BF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942-2446-4E4E-9AC4-649F37ED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77D-ACED-45E3-AD75-0FA7D7F3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960-51D2-4FFA-B58E-A8AED839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BF5-D5A6-40AB-8CE5-F201D4DD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13E-8875-4668-9E0B-93BB3A14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FC8-59B5-42E0-8565-63B13C2B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940-F555-40AE-A785-01FC11F7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45A-136F-404A-8425-87230E1A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365-EEF6-4078-93B4-8F40E490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3C1-E164-4888-89DB-5DFDF625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CFE-7A05-4F03-B118-3A4C5C7D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C7E5-4E8A-4D83-941C-73F2D1B18BE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 story map lists  important details to be included in the summary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7-08-02T17:12:53Z</dcterms:modified>
  <cp:revision>25</cp:revision>
  <dc:subject/>
  <dc:title>To Sum It All Up…</dc:title>
</cp:coreProperties>
</file>