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AD5F2-95E4-4D87-8E25-4ADBD0027A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, explain to the class what “audience” is or ask them to tell you. Who are some different audiences? How will the interview or conversation differ with different audienc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5(E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effective volume, rate, tone, and pit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o the class what “yes” and “no” questions are. Ask them how to ask open-ended questions that require time and thought. You may want to have them think of a few questions to start.  Examples: What do you think about……. or, If you had this to do over again…  Show the class how to ask questions that will make the interview interes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1054-0C1B-48EC-A827-DD3CFDA34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C281-59EE-461E-9304-5AD55AF8D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7ECE-99A6-416F-9DF0-6DFA4AB45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2C59-6F01-477E-AD2F-1A00AE901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8473-5055-4500-8125-3D3646993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6FEB-DAC2-479F-8AB2-5D48AF23B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0B97-3614-4F60-8FEC-0A4245E67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CF80-D0FA-4AD0-86A4-48D54B84F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1181-5FA0-43B1-A46D-454C8C35F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1F61-27B7-4F7B-AEB0-85D06F9B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EAD7-4C09-4554-AB33-4E5D95375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2B20-6639-4530-A4E2-AFCF91802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7EA1F-27AE-4DE7-BA03-CD5BF269CB91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 Is An Interview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530000"/>
            <a:ext cx="4968720" cy="42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is an encounter between a person collecting information (the interviewer) and a person from whom information is needed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allows you to collect specific information as you research a top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get the most from the interview, be prepared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946840" y="1614600"/>
            <a:ext cx="2722320" cy="283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Before You Go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now your audience so you can dress and speak appropriately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swer some pre-interview question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 will you interview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does this person like or dislike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w will you speak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are your expectation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09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lan Your Interview Using the 5W’s and 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2461680"/>
            <a:ext cx="38098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at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ppen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re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n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y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o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How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724280" y="2233440"/>
            <a:ext cx="3864240" cy="3864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 Closed Questions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8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osed questions” are questions that can be answered with one word – usually “yes” or ”no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Leave your “yes” and “no” questions at home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g deep and ask “opinion questions” to give detail to your report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’re Ready to Go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81200" y="171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w that you are on your way, don’t forget…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n, pencil, notepa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written list of prepared question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nners, courteous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cebreakers (conversation starters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28:21Z</dcterms:created>
  <dc:creator>Gina Balducci</dc:creator>
  <dc:description/>
  <dc:language>en-US</dc:language>
  <cp:lastModifiedBy>ljlab</cp:lastModifiedBy>
  <dcterms:modified xsi:type="dcterms:W3CDTF">2007-08-02T17:38:16Z</dcterms:modified>
  <cp:revision>25</cp:revision>
  <dc:subject/>
  <dc:title>What Do I Say?</dc:title>
</cp:coreProperties>
</file>