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34EB-8577-410C-BD41-7AC370753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415BD-DDD2-482B-8630-C6411A56D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AF01C-2B57-4136-BB9D-AFBD4E5ED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64C8C-3507-47FE-B628-77B95FDF6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0669C-EC60-40B6-8111-78AE444BB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CFBAE-D5DE-48C3-B701-636DB997D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507BF-1304-46BD-B89C-50640FA55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80E03-1963-48BF-BF53-E08D394FF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47E9D-40F3-4CD2-BFCB-8211FE8E8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764D6-8952-4F5F-81DB-0C387AB85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6F539-E45B-47CC-8508-5BEB1BCC7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6AE49-BC94-4548-8F6D-F0B3E92AA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67FF6-6AD3-4346-982D-69BC0986D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690840" indent="-26568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06272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48788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191304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CD384-95B5-4962-A393-3B0FB239488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480"/>
            <a:ext cx="6553080" cy="3810240"/>
          </a:xfrm>
          <a:prstGeom prst="rect">
            <a:avLst/>
          </a:prstGeom>
          <a:noFill/>
          <a:ln w="0">
            <a:noFill/>
          </a:ln>
        </p:spPr>
        <p:txBody>
          <a:bodyPr lIns="90000" rIns="90000" tIns="46800" bIns="46800" anchor="t">
            <a:no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ive specific examples to support your arguments.</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velop your thoughts and elaborate in your paragraphs.  Ask yourself, “Would I be convinced?”</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late to the reader by putting yourself in his or her shoes.</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e persuasive words…….</a:t>
            </a:r>
            <a:endParaRPr b="0" lang="en-US" sz="28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3000"/>
          </a:bodyPr>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7-08-02T17:16:24Z</dcterms:modified>
  <cp:revision>27</cp:revision>
  <dc:subject/>
  <dc:title>Persuasive Writing</dc:title>
</cp:coreProperties>
</file>