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80FC-8641-4DCD-A9C3-2EC218262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0D4E-7E84-45D5-B02E-9DD2B1F1D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DB07-2207-4A61-8399-B671CE44F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D8CD-0873-41C5-A7CC-E352C32AC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5403-A3CE-412B-ABE5-3EBE1CED6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8366-5379-4474-8B4A-B9BB1D338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3E83-9708-49E4-86BD-4C2C32629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F5B1-7437-45AF-BD2D-D85E8170F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C694-C1E5-4B31-8D44-ABDA94FE6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C325-7868-44B6-8914-AB0903C9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240E-F9BB-40C6-B98A-9AA39D32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62A3-266F-4171-A229-8EB83F56A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DA40A-B8B0-4185-B4EA-D923D372FFC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tatistic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, Mean, Median, and Mode are all words that we use to describe numerical da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 is the lowest and the highe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 is the average of all the numbers in a data set, or all of the data added up and then divided by the number of data point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an is the middlemo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 If there is an even number of data points, the average of the middle two give the medi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 is the number that is repeated the most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ample Data Se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e is a sample data se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4, 6, 2, 8, 5, 2, 4, 6, 9, 2, 1, 2, 2,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ange:  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2, 2, 2, 2, 2, 4, 4, 5, 5, 6, 6, 8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:  59/15 = 3.93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Median 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2, 2, 2, 2, 2,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Mod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2, 2, 2, 2, 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8T17:44:00Z</dcterms:created>
  <dc:creator>vtpp</dc:creator>
  <dc:description/>
  <dc:language>en-US</dc:language>
  <cp:lastModifiedBy>vhardy</cp:lastModifiedBy>
  <dcterms:modified xsi:type="dcterms:W3CDTF">2003-05-23T21:31:31Z</dcterms:modified>
  <cp:revision>6</cp:revision>
  <dc:subject/>
  <dc:title>Statistics</dc:title>
</cp:coreProperties>
</file>