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6155-00B7-4C24-9377-3A1A0A2DB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-8.22 (B) Interpret important events and ideas gathered from visual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2 (G) Recognize and analyze story plot, setting, and problem 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0 (D) Describe mental images the text evo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A934-8EFC-44B3-909E-D8980BBE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85BA-F36D-4D90-9654-1CB3DD52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E4B9-3C8A-49AA-BCA0-18D6AD23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3216-A734-4ABD-BFBC-AFB74015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3BE0-CBF2-42DE-9664-C64CDC94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0C18-1BF4-4E91-B30D-1A6958AD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986F-4DDA-479F-A0BA-4AEE1324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B762-5601-4F02-953F-22A4DBE9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8DE2-2C11-447C-88CB-EFDDAF8A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A563-CFD1-4EAF-91B6-C8715448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25E-04E8-4017-8794-0B1CEC38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4F28-199C-4242-912F-B4B1D465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3F4D-A4B2-46DB-9AF7-CBB289521A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ljlab</cp:lastModifiedBy>
  <dcterms:modified xsi:type="dcterms:W3CDTF">2007-08-02T18:23:59Z</dcterms:modified>
  <cp:revision>18</cp:revision>
  <dc:subject/>
  <dc:title>Context Clues</dc:title>
</cp:coreProperties>
</file>