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16C2-7995-4631-97C2-7D1279C50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B: The student is expected to: draw on experiences to bring meanings to words such as interpreting idioms, multiple-meaning words, and analogies (6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C: The student is expected to: use multiple reference aids, including a thesaurus, a synonym finder, a dictionary, and software, to clarify meanings and usage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D: The student is expected to: determine the meanings of derivatives by applying knowledge of the meanings of root words such as like, pay or happy and affixes such as dis-, pre-, or un-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 Source: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ebster’s American English Dictiona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Meriam-Webster, inc., Springfield, 199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Less offal means less trou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Sinewy is wi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n interloper is a meddler or intrud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supernumerary is an additional pers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tenement runner delivered messages from person to pers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Pragmatic means practic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he word deft means skillfu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Percheron is a breed of hor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o divulge is to rev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miasma is a toxin in the a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A19-700B-448E-A1CA-0124A36A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82C6-DCCA-4F70-AD63-F9CFAF55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BD5-2E37-4ACE-BDBD-C143C9FD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9F6-7818-4146-ACC7-0A72B37B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A02-3244-4125-A625-FAC1ABD6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24F-9652-4904-85D0-6BCAA98A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279-86B8-45F6-976F-BD862C0B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3051-A5C3-4E39-88B0-A19850BC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4759-7E31-49E7-8EC5-F0BAF6FE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0FC-10AA-492C-9770-9ECBA092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7E20-5C5C-4A04-8A8F-C88189A0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39D-9B57-4319-A188-BE4219F8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CDEE-9733-40FE-8638-CA233BB78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Be sure to watch for potholes and keep to the middle of the street.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ess offa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her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the phrase 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ess off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” Sully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gry peop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bad-smelling th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ro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offensiv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rushed to the door and let in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new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boy about nine years old with the brightest shock of red hair Sully had ever seen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inew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2320" y="3568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232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2320" y="4778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34484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needed a plan to get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loper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ut of the alley and hidden where he could question them without interrup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lop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tio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d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l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ng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232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2320" y="4178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2320" y="4780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t ten, while working as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pernumerar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t the fire stations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upernumer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r h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oe sh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ire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a person for odd jo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8828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. . . he had been recruited by the Dead Rabbits 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gang to be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nement runne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 . . for the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landlord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is passage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nement run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have been a sort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e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as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uff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872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872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872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872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 ‘. . . no never mind, enough time for questions when you’re well hidden.’ Sully’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agmati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nature took ov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agm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b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e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232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232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2320" y="4168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2320" y="47689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6080" y="1600200"/>
            <a:ext cx="7954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wound the remnant around his hand and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ft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ied it into a bandag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you can tell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ft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ll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n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89080" y="5353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89080" y="3568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89080" y="4165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89080" y="47656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33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whistled to the team and the massiv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heron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cantered down the cobblestone pavemen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f Pearl Street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infer from the description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rcher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kind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untain 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890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890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90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90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knew that Liberius was leading the intruders int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vulg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nforma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vulg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c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u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al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0520" y="49766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0520" y="320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0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0520" y="438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Last week in Boston there was rumor of a new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iasm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I’d hate for my best friend to succumb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 poisons in the ai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e description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ias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l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xic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sonous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mical wa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exc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2320" y="5745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5840" y="39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92320" y="4564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92320" y="5151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51:18Z</dcterms:modified>
  <cp:revision>61</cp:revision>
  <dc:subject/>
  <dc:title>PowerPoint Presentation</dc:title>
</cp:coreProperties>
</file>