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C23FE-9CEB-4054-8E83-CF1B55BACD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9F2F7-4F27-4422-ADD4-DF7F899FD8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4055F-28DD-4459-80E1-9BB943F468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22B78-440C-41E3-AF44-A511256188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63D77-D240-4061-A3FB-5DB8A8CCF7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834AA-5110-4B02-A885-ABB1DC8CCD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0823A-B2CD-458B-AF65-43284D46EE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35ED8-DDCA-42E4-A02E-7BEAECCC28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8E529-C80D-4C6B-99A6-C7FBBA4AE6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D9CD8-A918-41B3-8D1B-BB5D58AE7B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C50CC-B522-437C-B21F-FA6655001E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B79E4-9C10-47B0-930F-56CB7950FF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995DA-09A6-4C20-88F6-7D8B00A5A592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our (h) = 60 minutes (min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minute = 60 seconds (s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Example: Add the following times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 30 min 59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+ 1 h 29 min   1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 h 59 min 60 s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3 hour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5105520"/>
            <a:ext cx="15238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717AF-7112-41B6-9B21-2E3E17686A1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Subtract the following time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7 min   8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6 min 68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 min 16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Since you cannot subtract 52 s from 8 s, you must restate 37 min 8 s as 36 min 68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2819520"/>
            <a:ext cx="12952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CD56A-8261-46CD-8433-8235F7475977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29Z</dcterms:modified>
  <cp:revision>208</cp:revision>
  <dc:subject/>
  <dc:title>VTPP 423 - PHYSIOLOGY</dc:title>
</cp:coreProperties>
</file>