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2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A21-D087-41BA-8476-E2F697E4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199-D99C-4F5F-A6D2-945F589A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268-50B7-44D8-9DF9-FEBEFF46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5AE-B569-4F76-A0FF-09D7CF55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805-08EA-4A68-87FA-181F0655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3A5-B06E-45E5-9C4A-7D42DE65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C9B-92AA-44C5-93C6-7A613AEB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B3F-5163-4030-ABB0-12B8E78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B39-EC13-4D4C-B8FA-93716D1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488-0242-48F7-85B4-55EFD70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D82-B8A2-4562-9196-CE82F4E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17D-891C-4711-871C-EA0FCDC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B6D-D7D5-46D9-9468-4AF68AB2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9E1-1844-4976-B09F-B501CDC70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8:44Z</dcterms:modified>
  <cp:revision>68</cp:revision>
  <dc:subject/>
  <dc:title>Slide 1</dc:title>
</cp:coreProperties>
</file>