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B9D64-73EE-4CA6-ABDE-3D0BCB7679F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luen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, B, E, 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Forming and revising questions for investig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Using text organ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Using multiple sources to locate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ummarizing and organizing information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) Drawing conclusions from information gathered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, B, E, 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Forming and revising questions for investig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Using text organ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Using multiple sources to locate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ummarizing and organizing information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) Drawing conclusions from information gathered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6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ing original texts, applying the conventions of written language to communicate clear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ying standard grammar and usage to communicate clearly and effectively in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, C, D, 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Developing drafts by categorizing ideas and organizing th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Revising selected drafts by adding, elaborating, deleting, combining, and rearranging 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) Revising drafts for coherence, progression, and logical support of id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Editing drafts for specific purpo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3DEA-4B7E-4F15-8A23-C18F50FAD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B3CD-19D5-415F-82C5-E6851D160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823B-77E4-4644-9261-168771F42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A724-E2CB-4D13-846A-3A320989A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BD9A-3162-48C5-B19F-468EF5B99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910D-28E5-4793-83DB-EFF986F9A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E33C-CDDF-4A5C-A3C6-632BE2447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6A34-3C48-4A51-B04E-EA69CEF5F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CC03-5D50-4745-A35A-66277456B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12A4-7F7D-4575-9A9D-82015044C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AFB5-76E5-48D6-9994-5E3F59D43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B709-ED91-4AE4-BE2D-0AAC6DDDF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D9BB5-E0EA-4576-A247-E3A531E66B7E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ing and Contrasting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 essay that compares and contrasts explains how two or more things are alike and how they are different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061720" y="1766880"/>
            <a:ext cx="1440" cy="1440"/>
          </a:xfrm>
          <a:prstGeom prst="rect">
            <a:avLst/>
          </a:prstGeom>
          <a:solidFill>
            <a:srgbClr val="5b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518840" y="1628640"/>
            <a:ext cx="1440" cy="1800"/>
          </a:xfrm>
          <a:prstGeom prst="rect">
            <a:avLst/>
          </a:prstGeom>
          <a:solidFill>
            <a:srgbClr val="51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518840" y="1628640"/>
            <a:ext cx="1440" cy="1800"/>
          </a:xfrm>
          <a:prstGeom prst="rect">
            <a:avLst/>
          </a:prstGeom>
          <a:solidFill>
            <a:srgbClr val="51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296800" y="1174680"/>
            <a:ext cx="2880" cy="180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3" y="0"/>
                </a:ln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35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115640" y="1217520"/>
            <a:ext cx="1440" cy="18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514600" y="3809880"/>
            <a:ext cx="4103640" cy="23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Now You Try I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ist two things that you can compare and contrast.  For example, compare and contrast your preferences in music to those of your parent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ld a sheet of paper in half lengthwise.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ist all the ways the music you like is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different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from the music your parents like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 the other side, list all the ways that the music you like is the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same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s the music your parents prefe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ossible Points to Compar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ypes of Music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ock and roll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ap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echno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lassical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ypes of instrument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Electric guita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Violin or other symphonic instrument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4280" y="190512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rtists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pecific bands or singe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Vintage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en was the music recorded.  For example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Golden Oldie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ontemporary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oudnes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etting it on Paper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velop your lists into sentences, then into paragraph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laborate on the detail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hoose how you will organize your comparison and use that plan throughout your essay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Ways to Organize a Compare/Contrast Essay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ne Approach…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escribe all the similarities in one paragraph, and all the differences in another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, describe the music you like in one paragraph and the music your parents like in the next paragraph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r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ore Organization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other Way to Go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hoose a specific aspect of the subject to compare and contrast in each paragraph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, in the first paragraph you might explain that you like rap and your parents prefer classical (contrast/difference), but you both like rock and roll (comparison/similarity). In the second paragraph, you might explain that you like contemporary artists while your parents prefer artists of the 70’s and 80’s (contrast/ difference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mple Ways to Compare Objects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80720"/>
            <a:ext cx="38102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lo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ap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z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ast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xtur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Use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191120" y="1905120"/>
            <a:ext cx="3736800" cy="29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1T15:04:10Z</dcterms:created>
  <dc:creator>Gina Balducci</dc:creator>
  <dc:description/>
  <dc:language>en-US</dc:language>
  <cp:lastModifiedBy>ljlab</cp:lastModifiedBy>
  <dcterms:modified xsi:type="dcterms:W3CDTF">2003-09-11T17:15:11Z</dcterms:modified>
  <cp:revision>33</cp:revision>
  <dc:subject/>
  <dc:title>Comparing Apples to Oranges</dc:title>
</cp:coreProperties>
</file>