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53B5-49C3-4D62-88A5-6A1811A89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EDF2E-0F1B-4A2B-A3E1-5BDC6EAD6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70E75-4E70-4162-8FD7-6483533ED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2EBD9-AA6F-4F6C-BF4E-C92D97E81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C53CC-B5C0-40E4-8E88-4104F0D87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D5BE1-758D-48B7-A09A-EDF1C5597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B8EE0-DDCE-4D71-9621-72C40F935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5EEDD-9524-4312-B6D1-5FB3A0FA1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6B479-CE1E-482E-89D7-1F67B2EA3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B63DE-0EEB-4B08-BBFD-3C0F1ADEC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627B-1602-4E2B-8990-CA9654F3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5813E-F624-494A-828C-E2B06C2B8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93B2A-13D1-4284-A4C9-57E2F624D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5F08-484A-4121-8793-E020FA147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22200" indent="-322200"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22200" indent="-322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0000"/>
          </a:bodyPr>
          <a:p>
            <a:pPr marL="511560" indent="-511560">
              <a:lnSpc>
                <a:spcPct val="90000"/>
              </a:lnSpc>
              <a:spcBef>
                <a:spcPts val="751"/>
              </a:spcBef>
              <a:spcAft>
                <a:spcPts val="751"/>
              </a:spcAft>
              <a:buClr>
                <a:srgbClr val="ffffff"/>
              </a:buClr>
              <a:buFont typeface="Times New Roman"/>
              <a:buAutoNum type="arabicPeriod"/>
              <a:tabLst>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1156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1156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1156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1156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1156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Vince Hardy</cp:lastModifiedBy>
  <dcterms:modified xsi:type="dcterms:W3CDTF">2007-05-08T19:08:29Z</dcterms:modified>
  <cp:revision>58</cp:revision>
  <dc:subject/>
  <dc:title>PowerPoint Presentation</dc:title>
</cp:coreProperties>
</file>