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30D2-5414-4D35-93DC-D8A84C42301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456A-7798-4CEF-A7B6-50E10FAD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D758-7144-4F06-9295-AD9F5E03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7ABB-A44F-457F-89EC-49F61D7C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4221-0482-4C23-A836-99A4311D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DD78-C5C6-432F-90AA-8939780C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AE38-0D2B-44AA-B11A-5DA99EBF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1547-EA89-4E0D-989E-DC0A2364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AF2F-5452-4FDA-9303-7B36DA7C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3447-4502-46A2-A0F9-EB4CC4B6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0D2C-1349-4D6D-8EC3-32C66AA0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E5D0-A64E-465F-A8C3-6E588C64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EA14-A7DB-45F7-882C-37798C8B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9FAD-D3FA-417C-AA7D-CA5CA1471E1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3920" y="20574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2035080"/>
            <a:ext cx="37368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7-08-02T18:13:14Z</dcterms:modified>
  <cp:revision>34</cp:revision>
  <dc:subject/>
  <dc:title>Comparing Apples to Oranges</dc:title>
</cp:coreProperties>
</file>