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wmf" ContentType="image/x-wmf"/>
  <Override PartName="/ppt/media/image6.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25.jpeg" ContentType="image/jpeg"/>
  <Override PartName="/ppt/media/image3.jpeg" ContentType="image/jpeg"/>
  <Override PartName="/ppt/media/image27.png" ContentType="image/png"/>
  <Override PartName="/ppt/media/image26.png" ContentType="image/png"/>
  <Override PartName="/ppt/media/image24.png" ContentType="image/png"/>
  <Override PartName="/ppt/media/image21.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png" ContentType="image/png"/>
  <Override PartName="/ppt/media/image22.jpeg" ContentType="image/jpeg"/>
  <Override PartName="/ppt/media/image1.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D66A-ECC9-44BF-99F4-191B60844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immigrants from England settled along the coast of what would later become Virginia and Massachuset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France claimed Canada, but really only settled southern and easter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ave trade was officially ended in 1808.  Article I, Section IX, paragraph 1 of the Constitution stipulated that the slave trade be allowed to continue until at least the end of 1807.  As soon as this requirement expired, Congress moved to ban the slave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immigrants first settled in Pennsylvania.  From there, they spread to the Midwestern states surrounding the Great Lakes and the Great Plains states.  Many Germans also settled in California and the Pacific northwest.  A significant number also made their way to Texas, primarily populating the central hill country and southeast regions of the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many Irish came to America seeking work, food, and freedom from religious and economic pers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Early Scandinavian immigrants primarily settled in rural areas.  By the end of the 19</a:t>
            </a:r>
            <a:r>
              <a:rPr b="0" lang="en-US" sz="1200" spc="-1" strike="noStrike" baseline="30000">
                <a:solidFill>
                  <a:srgbClr val="000000"/>
                </a:solidFill>
                <a:latin typeface="Arial"/>
              </a:rPr>
              <a:t>th</a:t>
            </a:r>
            <a:r>
              <a:rPr b="0" lang="en-US" sz="1200" spc="-1" strike="noStrike">
                <a:solidFill>
                  <a:srgbClr val="000000"/>
                </a:solidFill>
                <a:latin typeface="Arial"/>
              </a:rPr>
              <a:t> century, however, many were settling in c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nti-Chinese sentiments were fueled by unskilled workers (many of whom were European immigrants) who resented the competition with Chinese immigrants in California.  These “Kearneyites” (the label is derived from the name of their leader, Denis Kearney) became vocal and violent in their anti-Chinese campaign but were eventually mollified by the Chinese Exclusion Act of 18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C) Identify how conflicts between various groups were res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U.S. National Archives Records Administration. For more, visit: http://www.archives.gov/education/lessons/chinese-boyco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 questions: a boycott is when people refuse to deal with or buy things from certain busi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or unions blamed the Chinese and Japanese for the economic depression that was going on at the time of the boyco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C) Identify how conflicts between various groups were res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F) Identify bias in written, oral, and visu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G) Evaluate a source based on language, corroboration, a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ships the immigrants endured included being separated from their families, sickness, prejudice, poverty, and they often took the hard or dangerous jobs that nobody else wa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that they gained included the chance of finding a better job or starting a business in America, and being able to send money home to their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B) Describe characteristics and benefits of the US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Describe how immigrant groups interacted with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Most Jewish immigrants settled in cities along the eastern seaboard, especially in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the question: some reasons include looking for a better job/better living, trying to escape persecution or war in their countr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B) Describe characteristics and benefits of the US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C) Analyze the impact of religious freedom on the American wa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is easiest to exclude the non-European categories to derive the answer.  These are Asia and Canada and Other Americas (3% and 10%), for a total of 13%; the remainder, 87%, is the percentage of immigrants from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appropriate math skills to interpret social studies informa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No, immigrants from Central and South America and the Caribbean make up more than 50% of current immigrants, and immigrants from Asia another 25%.  Europeans represent only 14% of contemporary immigrants to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appropriate math skills to interpret social studies information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might includ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sing standards of living in Europe, the decline of racial and ethnic conflicts, the rise of democratic systems of government, and U.S.-imposed restrictions on the number of immigrants from these developed countri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atures of immigrants’ home countries include lack of economic opportunity and generalized poverty, political turmoil and corruption, civil wars, and persecution of political and social minorities. Like Italian immigrants did in the 19</a:t>
            </a:r>
            <a:r>
              <a:rPr b="0" lang="en-US" sz="1200" spc="-1" strike="noStrike" baseline="30000">
                <a:solidFill>
                  <a:srgbClr val="000000"/>
                </a:solidFill>
                <a:latin typeface="Arial"/>
              </a:rPr>
              <a:t>th</a:t>
            </a:r>
            <a:r>
              <a:rPr b="0" lang="en-US" sz="1200" spc="-1" strike="noStrike">
                <a:solidFill>
                  <a:srgbClr val="000000"/>
                </a:solidFill>
                <a:latin typeface="Arial"/>
              </a:rPr>
              <a:t> century, many immigrants from Central America are men who leave their families on a seasonal basis to earn money to send hom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migration is limited to set numbers by factors including country of origin, refugee status, and/or occupational ski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7 (A) Describe developments in cultural activities in the history of the 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 is of songwriter Irving Berlin.  From Los Alamos National Labs’ “Weaving Our Worlds” website (https://lanldb1.lanl.gov/lanl/lanlevents.nsf/diversity_all_display/JITO-5J7NRA): Berlin wrote the lyrics and music to some 1,500 songs, including the scores for many stage and screen musical comedies.  Among the Berlin songs that have become classics of American popular music are his first hit, "Alexander's Ragtime Band" (1911), "White Christmas," "Easter Parade," and "God Bless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CAA9-1E55-4AE6-9543-4C0EF5DCB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mage fades and talking points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Locate important places in the U.S.  Analyze why immigrant groups came to Texas and where they sett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Males immigrate before their wives and children because it was very uncertain that the men would be able to find jobs and provide their families with food, water, and a safe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dentifies Ellis Island and the Statue of Liberty in two mous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more about Ellis Island on the web at http://www.nps.gov/elis/ and at http://www.ellisisland.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out the chart: Information from Martin W. Sandler, </a:t>
            </a:r>
            <a:r>
              <a:rPr b="0" i="1" lang="en-US" sz="1200" spc="-1" strike="noStrike">
                <a:solidFill>
                  <a:srgbClr val="ffffff"/>
                </a:solidFill>
                <a:latin typeface="Arial"/>
              </a:rPr>
              <a:t>Immigrants,</a:t>
            </a:r>
            <a:r>
              <a:rPr b="0" lang="en-US" sz="1200" spc="-1" strike="noStrike">
                <a:solidFill>
                  <a:srgbClr val="ffffff"/>
                </a:solidFill>
                <a:latin typeface="Arial"/>
              </a:rPr>
              <a:t> (New York: HarperCollins, 1995) p.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largest contributors: Germany, Italy and Southern Europe, and Poland and Eastern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out the chart: Information from Martin W. Sandler, </a:t>
            </a:r>
            <a:r>
              <a:rPr b="0" i="1" lang="en-US" sz="1200" spc="-1" strike="noStrike">
                <a:solidFill>
                  <a:srgbClr val="ffffff"/>
                </a:solidFill>
                <a:latin typeface="Arial"/>
              </a:rPr>
              <a:t>Immigrants,</a:t>
            </a:r>
            <a:r>
              <a:rPr b="0" lang="en-US" sz="1200" spc="-1" strike="noStrike">
                <a:solidFill>
                  <a:srgbClr val="ffffff"/>
                </a:solidFill>
                <a:latin typeface="Arial"/>
              </a:rPr>
              <a:t> (New York: HarperCollins, 1995) p.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least significant contributors: Asia, Other NW Europe, and Scandinavia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anish colonies were located in the South East United States and included Florida, Mississippi, Texas, and Alab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from the 1912 "Cambridge Modern History Atlas,” digitally archived in the Perry-Castaneda Library Map Collection at the Universit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E) Identify areas that were acquired to form the United Stat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B185E-570B-41ED-A414-FAC798C47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11371-B3B6-49F4-969B-B13ADC215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E1F82-8907-45BF-B917-3AC570518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6611A-F212-4F78-9D04-5C9AEFE10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0791D-2034-4B3A-B255-6E836D31A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8CBFF-387E-47BD-B515-4B47139E5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36601-A153-4B4B-BD3A-2F62F4BE9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7A285-D4FF-4B09-B90B-BE28F4D0B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12A54-B17E-4672-A9F8-1625DAE12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99FBA-EAF4-4900-973D-51C9DFBDC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709E-F058-42A1-BFDC-555C3F08A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223CD-3875-4E43-A78C-0889ECA6B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AD27-34CB-48F3-841A-0790C34FA4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DP%20SS%203%20Map.doc"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8.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oleObject" Target="../embeddings/oleObject1.bin"/><Relationship Id="rId8" Type="http://schemas.openxmlformats.org/officeDocument/2006/relationships/image" Target="../media/image2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England</a:t>
            </a:r>
            <a:endParaRPr b="0" lang="en-US" sz="4400" spc="-1" strike="noStrike">
              <a:solidFill>
                <a:srgbClr val="ffffff"/>
              </a:solidFill>
              <a:latin typeface="Times New Roman"/>
            </a:endParaRPr>
          </a:p>
        </p:txBody>
      </p:sp>
      <p:sp>
        <p:nvSpPr>
          <p:cNvPr id="93" name="PlaceHolder 2"/>
          <p:cNvSpPr>
            <a:spLocks noGrp="1"/>
          </p:cNvSpPr>
          <p:nvPr>
            <p:ph/>
          </p:nvPr>
        </p:nvSpPr>
        <p:spPr>
          <a:xfrm>
            <a:off x="4190760" y="1600200"/>
            <a:ext cx="373356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migration from England began in the 1600s and has remained steady since then.</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did the earliest immigrants from England settle?</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94" name=""/>
          <p:cNvGrpSpPr/>
          <p:nvPr/>
        </p:nvGrpSpPr>
        <p:grpSpPr>
          <a:xfrm>
            <a:off x="1523880" y="1447920"/>
            <a:ext cx="2325600" cy="4265640"/>
            <a:chOff x="1523880" y="1447920"/>
            <a:chExt cx="2325600" cy="4265640"/>
          </a:xfrm>
        </p:grpSpPr>
        <p:grpSp>
          <p:nvGrpSpPr>
            <p:cNvPr id="95" name=""/>
            <p:cNvGrpSpPr/>
            <p:nvPr/>
          </p:nvGrpSpPr>
          <p:grpSpPr>
            <a:xfrm>
              <a:off x="1795320" y="4097520"/>
              <a:ext cx="909360" cy="977760"/>
              <a:chOff x="1795320" y="4097520"/>
              <a:chExt cx="909360" cy="977760"/>
            </a:xfrm>
          </p:grpSpPr>
          <p:sp>
            <p:nvSpPr>
              <p:cNvPr id="96" name=""/>
              <p:cNvSpPr/>
              <p:nvPr/>
            </p:nvSpPr>
            <p:spPr>
              <a:xfrm>
                <a:off x="1795320" y="4151520"/>
                <a:ext cx="909360" cy="923760"/>
              </a:xfrm>
              <a:custGeom>
                <a:avLst/>
                <a:gdLst/>
                <a:ahLst/>
                <a:rect l="l" t="t" r="r" b="b"/>
                <a:pathLst>
                  <a:path w="573" h="582">
                    <a:moveTo>
                      <a:pt x="457" y="24"/>
                    </a:moveTo>
                    <a:cubicBezTo>
                      <a:pt x="431" y="15"/>
                      <a:pt x="406" y="7"/>
                      <a:pt x="379" y="0"/>
                    </a:cubicBezTo>
                    <a:cubicBezTo>
                      <a:pt x="326" y="5"/>
                      <a:pt x="282" y="13"/>
                      <a:pt x="229" y="18"/>
                    </a:cubicBezTo>
                    <a:cubicBezTo>
                      <a:pt x="202" y="36"/>
                      <a:pt x="200" y="61"/>
                      <a:pt x="175" y="78"/>
                    </a:cubicBezTo>
                    <a:cubicBezTo>
                      <a:pt x="167" y="91"/>
                      <a:pt x="167" y="108"/>
                      <a:pt x="157" y="120"/>
                    </a:cubicBezTo>
                    <a:cubicBezTo>
                      <a:pt x="147" y="133"/>
                      <a:pt x="125" y="129"/>
                      <a:pt x="109" y="132"/>
                    </a:cubicBezTo>
                    <a:cubicBezTo>
                      <a:pt x="147" y="134"/>
                      <a:pt x="187" y="126"/>
                      <a:pt x="223" y="138"/>
                    </a:cubicBezTo>
                    <a:cubicBezTo>
                      <a:pt x="235" y="142"/>
                      <a:pt x="235" y="174"/>
                      <a:pt x="235" y="174"/>
                    </a:cubicBezTo>
                    <a:cubicBezTo>
                      <a:pt x="224" y="220"/>
                      <a:pt x="241" y="272"/>
                      <a:pt x="199" y="300"/>
                    </a:cubicBezTo>
                    <a:cubicBezTo>
                      <a:pt x="195" y="306"/>
                      <a:pt x="193" y="313"/>
                      <a:pt x="187" y="318"/>
                    </a:cubicBezTo>
                    <a:cubicBezTo>
                      <a:pt x="182" y="322"/>
                      <a:pt x="173" y="319"/>
                      <a:pt x="169" y="324"/>
                    </a:cubicBezTo>
                    <a:cubicBezTo>
                      <a:pt x="162" y="334"/>
                      <a:pt x="169" y="356"/>
                      <a:pt x="157" y="360"/>
                    </a:cubicBezTo>
                    <a:cubicBezTo>
                      <a:pt x="135" y="367"/>
                      <a:pt x="91" y="378"/>
                      <a:pt x="91" y="378"/>
                    </a:cubicBezTo>
                    <a:cubicBezTo>
                      <a:pt x="63" y="420"/>
                      <a:pt x="35" y="378"/>
                      <a:pt x="7" y="420"/>
                    </a:cubicBezTo>
                    <a:cubicBezTo>
                      <a:pt x="24" y="445"/>
                      <a:pt x="17" y="456"/>
                      <a:pt x="1" y="480"/>
                    </a:cubicBezTo>
                    <a:cubicBezTo>
                      <a:pt x="11" y="482"/>
                      <a:pt x="24" y="479"/>
                      <a:pt x="31" y="486"/>
                    </a:cubicBezTo>
                    <a:cubicBezTo>
                      <a:pt x="82" y="537"/>
                      <a:pt x="0" y="504"/>
                      <a:pt x="55" y="522"/>
                    </a:cubicBezTo>
                    <a:cubicBezTo>
                      <a:pt x="100" y="511"/>
                      <a:pt x="68" y="503"/>
                      <a:pt x="103" y="480"/>
                    </a:cubicBezTo>
                    <a:cubicBezTo>
                      <a:pt x="108" y="477"/>
                      <a:pt x="142" y="469"/>
                      <a:pt x="145" y="468"/>
                    </a:cubicBezTo>
                    <a:cubicBezTo>
                      <a:pt x="167" y="475"/>
                      <a:pt x="189" y="479"/>
                      <a:pt x="211" y="486"/>
                    </a:cubicBezTo>
                    <a:cubicBezTo>
                      <a:pt x="200" y="529"/>
                      <a:pt x="219" y="521"/>
                      <a:pt x="259" y="528"/>
                    </a:cubicBezTo>
                    <a:cubicBezTo>
                      <a:pt x="273" y="549"/>
                      <a:pt x="283" y="562"/>
                      <a:pt x="307" y="570"/>
                    </a:cubicBezTo>
                    <a:cubicBezTo>
                      <a:pt x="368" y="560"/>
                      <a:pt x="325" y="562"/>
                      <a:pt x="367" y="534"/>
                    </a:cubicBezTo>
                    <a:cubicBezTo>
                      <a:pt x="373" y="538"/>
                      <a:pt x="381" y="540"/>
                      <a:pt x="385" y="546"/>
                    </a:cubicBezTo>
                    <a:cubicBezTo>
                      <a:pt x="392" y="557"/>
                      <a:pt x="397" y="582"/>
                      <a:pt x="397" y="582"/>
                    </a:cubicBezTo>
                    <a:cubicBezTo>
                      <a:pt x="414" y="531"/>
                      <a:pt x="421" y="546"/>
                      <a:pt x="487" y="540"/>
                    </a:cubicBezTo>
                    <a:cubicBezTo>
                      <a:pt x="526" y="527"/>
                      <a:pt x="488" y="545"/>
                      <a:pt x="511" y="516"/>
                    </a:cubicBezTo>
                    <a:cubicBezTo>
                      <a:pt x="517" y="509"/>
                      <a:pt x="547" y="495"/>
                      <a:pt x="553" y="492"/>
                    </a:cubicBezTo>
                    <a:cubicBezTo>
                      <a:pt x="557" y="479"/>
                      <a:pt x="569" y="469"/>
                      <a:pt x="571" y="456"/>
                    </a:cubicBezTo>
                    <a:cubicBezTo>
                      <a:pt x="573" y="442"/>
                      <a:pt x="563" y="428"/>
                      <a:pt x="559" y="414"/>
                    </a:cubicBezTo>
                    <a:cubicBezTo>
                      <a:pt x="555" y="402"/>
                      <a:pt x="547" y="378"/>
                      <a:pt x="547" y="378"/>
                    </a:cubicBezTo>
                    <a:cubicBezTo>
                      <a:pt x="543" y="344"/>
                      <a:pt x="541" y="303"/>
                      <a:pt x="529" y="270"/>
                    </a:cubicBezTo>
                    <a:cubicBezTo>
                      <a:pt x="520" y="247"/>
                      <a:pt x="511" y="229"/>
                      <a:pt x="505" y="204"/>
                    </a:cubicBezTo>
                    <a:cubicBezTo>
                      <a:pt x="507" y="189"/>
                      <a:pt x="523" y="124"/>
                      <a:pt x="511" y="102"/>
                    </a:cubicBezTo>
                    <a:cubicBezTo>
                      <a:pt x="503" y="88"/>
                      <a:pt x="493" y="76"/>
                      <a:pt x="481" y="66"/>
                    </a:cubicBezTo>
                    <a:cubicBezTo>
                      <a:pt x="470" y="57"/>
                      <a:pt x="445" y="42"/>
                      <a:pt x="445" y="42"/>
                    </a:cubicBezTo>
                    <a:cubicBezTo>
                      <a:pt x="437" y="18"/>
                      <a:pt x="433" y="24"/>
                      <a:pt x="457" y="24"/>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028600" y="4097520"/>
                <a:ext cx="117360" cy="110880"/>
              </a:xfrm>
              <a:custGeom>
                <a:avLst/>
                <a:gdLst/>
                <a:ahLst/>
                <a:rect l="l" t="t" r="r" b="b"/>
                <a:pathLst>
                  <a:path w="74" h="70">
                    <a:moveTo>
                      <a:pt x="60" y="4"/>
                    </a:moveTo>
                    <a:cubicBezTo>
                      <a:pt x="74" y="45"/>
                      <a:pt x="65" y="0"/>
                      <a:pt x="48" y="34"/>
                    </a:cubicBezTo>
                    <a:cubicBezTo>
                      <a:pt x="43" y="45"/>
                      <a:pt x="44" y="58"/>
                      <a:pt x="42" y="70"/>
                    </a:cubicBezTo>
                    <a:cubicBezTo>
                      <a:pt x="6" y="61"/>
                      <a:pt x="20" y="57"/>
                      <a:pt x="0" y="28"/>
                    </a:cubicBezTo>
                    <a:cubicBezTo>
                      <a:pt x="18" y="1"/>
                      <a:pt x="27" y="4"/>
                      <a:pt x="60" y="4"/>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
            <p:cNvGrpSpPr/>
            <p:nvPr/>
          </p:nvGrpSpPr>
          <p:grpSpPr>
            <a:xfrm>
              <a:off x="1638000" y="2913480"/>
              <a:ext cx="2211480" cy="2800080"/>
              <a:chOff x="1638000" y="2913480"/>
              <a:chExt cx="2211480" cy="2800080"/>
            </a:xfrm>
          </p:grpSpPr>
          <p:sp>
            <p:nvSpPr>
              <p:cNvPr id="99" name=""/>
              <p:cNvSpPr/>
              <p:nvPr/>
            </p:nvSpPr>
            <p:spPr>
              <a:xfrm>
                <a:off x="1985760" y="3598920"/>
                <a:ext cx="109440" cy="134640"/>
              </a:xfrm>
              <a:custGeom>
                <a:avLst/>
                <a:gdLst/>
                <a:ahLst/>
                <a:rect l="l" t="t" r="r" b="b"/>
                <a:pathLst>
                  <a:path w="69" h="85">
                    <a:moveTo>
                      <a:pt x="68" y="0"/>
                    </a:moveTo>
                    <a:cubicBezTo>
                      <a:pt x="66" y="20"/>
                      <a:pt x="69" y="41"/>
                      <a:pt x="62" y="60"/>
                    </a:cubicBezTo>
                    <a:cubicBezTo>
                      <a:pt x="60" y="66"/>
                      <a:pt x="48" y="62"/>
                      <a:pt x="44" y="66"/>
                    </a:cubicBezTo>
                    <a:cubicBezTo>
                      <a:pt x="40" y="70"/>
                      <a:pt x="40" y="78"/>
                      <a:pt x="38" y="84"/>
                    </a:cubicBezTo>
                    <a:cubicBezTo>
                      <a:pt x="30" y="82"/>
                      <a:pt x="18" y="85"/>
                      <a:pt x="14" y="78"/>
                    </a:cubicBezTo>
                    <a:cubicBezTo>
                      <a:pt x="0" y="55"/>
                      <a:pt x="29" y="51"/>
                      <a:pt x="38" y="48"/>
                    </a:cubicBezTo>
                    <a:cubicBezTo>
                      <a:pt x="52" y="5"/>
                      <a:pt x="39" y="19"/>
                      <a:pt x="68" y="0"/>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933280" y="5432400"/>
                <a:ext cx="119160" cy="71280"/>
              </a:xfrm>
              <a:custGeom>
                <a:avLst/>
                <a:gdLst/>
                <a:ahLst/>
                <a:rect l="l" t="t" r="r" b="b"/>
                <a:pathLst>
                  <a:path w="75" h="45">
                    <a:moveTo>
                      <a:pt x="42" y="3"/>
                    </a:moveTo>
                    <a:cubicBezTo>
                      <a:pt x="57" y="26"/>
                      <a:pt x="75" y="34"/>
                      <a:pt x="42" y="45"/>
                    </a:cubicBezTo>
                    <a:cubicBezTo>
                      <a:pt x="18" y="37"/>
                      <a:pt x="8" y="33"/>
                      <a:pt x="0" y="9"/>
                    </a:cubicBezTo>
                    <a:cubicBezTo>
                      <a:pt x="26" y="0"/>
                      <a:pt x="12" y="3"/>
                      <a:pt x="42" y="3"/>
                    </a:cubicBezTo>
                    <a:close/>
                  </a:path>
                </a:pathLst>
              </a:custGeom>
              <a:solidFill>
                <a:srgbClr val="3399ff"/>
              </a:solidFill>
              <a:ln w="93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 name=""/>
              <p:cNvSpPr/>
              <p:nvPr/>
            </p:nvSpPr>
            <p:spPr>
              <a:xfrm>
                <a:off x="1638000" y="2913480"/>
                <a:ext cx="2211480" cy="2800080"/>
              </a:xfrm>
              <a:custGeom>
                <a:avLst/>
                <a:gdLst/>
                <a:ahLst/>
                <a:rect l="l" t="t" r="r" b="b"/>
                <a:pathLst>
                  <a:path w="1393" h="1764">
                    <a:moveTo>
                      <a:pt x="0" y="1746"/>
                    </a:moveTo>
                    <a:cubicBezTo>
                      <a:pt x="28" y="1748"/>
                      <a:pt x="56" y="1747"/>
                      <a:pt x="84" y="1752"/>
                    </a:cubicBezTo>
                    <a:cubicBezTo>
                      <a:pt x="91" y="1753"/>
                      <a:pt x="95" y="1764"/>
                      <a:pt x="102" y="1764"/>
                    </a:cubicBezTo>
                    <a:cubicBezTo>
                      <a:pt x="131" y="1764"/>
                      <a:pt x="170" y="1737"/>
                      <a:pt x="198" y="1728"/>
                    </a:cubicBezTo>
                    <a:cubicBezTo>
                      <a:pt x="233" y="1657"/>
                      <a:pt x="316" y="1709"/>
                      <a:pt x="372" y="1728"/>
                    </a:cubicBezTo>
                    <a:cubicBezTo>
                      <a:pt x="382" y="1726"/>
                      <a:pt x="393" y="1727"/>
                      <a:pt x="402" y="1722"/>
                    </a:cubicBezTo>
                    <a:cubicBezTo>
                      <a:pt x="442" y="1702"/>
                      <a:pt x="383" y="1666"/>
                      <a:pt x="372" y="1632"/>
                    </a:cubicBezTo>
                    <a:cubicBezTo>
                      <a:pt x="429" y="1613"/>
                      <a:pt x="395" y="1621"/>
                      <a:pt x="474" y="1614"/>
                    </a:cubicBezTo>
                    <a:cubicBezTo>
                      <a:pt x="503" y="1585"/>
                      <a:pt x="514" y="1563"/>
                      <a:pt x="552" y="1554"/>
                    </a:cubicBezTo>
                    <a:cubicBezTo>
                      <a:pt x="552" y="1554"/>
                      <a:pt x="598" y="1560"/>
                      <a:pt x="606" y="1566"/>
                    </a:cubicBezTo>
                    <a:cubicBezTo>
                      <a:pt x="612" y="1571"/>
                      <a:pt x="613" y="1579"/>
                      <a:pt x="618" y="1584"/>
                    </a:cubicBezTo>
                    <a:cubicBezTo>
                      <a:pt x="623" y="1589"/>
                      <a:pt x="630" y="1592"/>
                      <a:pt x="636" y="1596"/>
                    </a:cubicBezTo>
                    <a:cubicBezTo>
                      <a:pt x="688" y="1587"/>
                      <a:pt x="740" y="1581"/>
                      <a:pt x="792" y="1572"/>
                    </a:cubicBezTo>
                    <a:cubicBezTo>
                      <a:pt x="819" y="1554"/>
                      <a:pt x="812" y="1544"/>
                      <a:pt x="846" y="1536"/>
                    </a:cubicBezTo>
                    <a:cubicBezTo>
                      <a:pt x="884" y="1541"/>
                      <a:pt x="900" y="1549"/>
                      <a:pt x="936" y="1542"/>
                    </a:cubicBezTo>
                    <a:cubicBezTo>
                      <a:pt x="977" y="1569"/>
                      <a:pt x="1091" y="1549"/>
                      <a:pt x="1152" y="1554"/>
                    </a:cubicBezTo>
                    <a:cubicBezTo>
                      <a:pt x="1158" y="1556"/>
                      <a:pt x="1164" y="1560"/>
                      <a:pt x="1170" y="1560"/>
                    </a:cubicBezTo>
                    <a:cubicBezTo>
                      <a:pt x="1186" y="1560"/>
                      <a:pt x="1203" y="1560"/>
                      <a:pt x="1218" y="1554"/>
                    </a:cubicBezTo>
                    <a:cubicBezTo>
                      <a:pt x="1240" y="1545"/>
                      <a:pt x="1227" y="1516"/>
                      <a:pt x="1254" y="1506"/>
                    </a:cubicBezTo>
                    <a:cubicBezTo>
                      <a:pt x="1265" y="1502"/>
                      <a:pt x="1320" y="1495"/>
                      <a:pt x="1326" y="1494"/>
                    </a:cubicBezTo>
                    <a:cubicBezTo>
                      <a:pt x="1336" y="1383"/>
                      <a:pt x="1377" y="1401"/>
                      <a:pt x="1236" y="1392"/>
                    </a:cubicBezTo>
                    <a:cubicBezTo>
                      <a:pt x="1213" y="1384"/>
                      <a:pt x="1211" y="1370"/>
                      <a:pt x="1188" y="1362"/>
                    </a:cubicBezTo>
                    <a:cubicBezTo>
                      <a:pt x="1197" y="1319"/>
                      <a:pt x="1211" y="1314"/>
                      <a:pt x="1248" y="1302"/>
                    </a:cubicBezTo>
                    <a:cubicBezTo>
                      <a:pt x="1251" y="1288"/>
                      <a:pt x="1257" y="1247"/>
                      <a:pt x="1266" y="1236"/>
                    </a:cubicBezTo>
                    <a:cubicBezTo>
                      <a:pt x="1276" y="1223"/>
                      <a:pt x="1298" y="1227"/>
                      <a:pt x="1314" y="1224"/>
                    </a:cubicBezTo>
                    <a:cubicBezTo>
                      <a:pt x="1322" y="1176"/>
                      <a:pt x="1316" y="1200"/>
                      <a:pt x="1332" y="1152"/>
                    </a:cubicBezTo>
                    <a:cubicBezTo>
                      <a:pt x="1336" y="1140"/>
                      <a:pt x="1368" y="1140"/>
                      <a:pt x="1368" y="1140"/>
                    </a:cubicBezTo>
                    <a:cubicBezTo>
                      <a:pt x="1388" y="1110"/>
                      <a:pt x="1381" y="1077"/>
                      <a:pt x="1392" y="1044"/>
                    </a:cubicBezTo>
                    <a:cubicBezTo>
                      <a:pt x="1387" y="1005"/>
                      <a:pt x="1393" y="987"/>
                      <a:pt x="1362" y="966"/>
                    </a:cubicBezTo>
                    <a:cubicBezTo>
                      <a:pt x="1360" y="960"/>
                      <a:pt x="1361" y="952"/>
                      <a:pt x="1356" y="948"/>
                    </a:cubicBezTo>
                    <a:cubicBezTo>
                      <a:pt x="1346" y="941"/>
                      <a:pt x="1332" y="940"/>
                      <a:pt x="1320" y="936"/>
                    </a:cubicBezTo>
                    <a:cubicBezTo>
                      <a:pt x="1293" y="927"/>
                      <a:pt x="1269" y="913"/>
                      <a:pt x="1242" y="906"/>
                    </a:cubicBezTo>
                    <a:cubicBezTo>
                      <a:pt x="1228" y="908"/>
                      <a:pt x="1214" y="912"/>
                      <a:pt x="1200" y="912"/>
                    </a:cubicBezTo>
                    <a:cubicBezTo>
                      <a:pt x="1194" y="912"/>
                      <a:pt x="1188" y="904"/>
                      <a:pt x="1182" y="906"/>
                    </a:cubicBezTo>
                    <a:cubicBezTo>
                      <a:pt x="1175" y="909"/>
                      <a:pt x="1174" y="918"/>
                      <a:pt x="1170" y="924"/>
                    </a:cubicBezTo>
                    <a:cubicBezTo>
                      <a:pt x="1160" y="976"/>
                      <a:pt x="1153" y="956"/>
                      <a:pt x="1110" y="942"/>
                    </a:cubicBezTo>
                    <a:cubicBezTo>
                      <a:pt x="1103" y="920"/>
                      <a:pt x="1098" y="916"/>
                      <a:pt x="1110" y="888"/>
                    </a:cubicBezTo>
                    <a:cubicBezTo>
                      <a:pt x="1116" y="875"/>
                      <a:pt x="1134" y="852"/>
                      <a:pt x="1134" y="852"/>
                    </a:cubicBezTo>
                    <a:cubicBezTo>
                      <a:pt x="1128" y="794"/>
                      <a:pt x="1138" y="789"/>
                      <a:pt x="1092" y="774"/>
                    </a:cubicBezTo>
                    <a:cubicBezTo>
                      <a:pt x="1078" y="732"/>
                      <a:pt x="1085" y="683"/>
                      <a:pt x="1062" y="648"/>
                    </a:cubicBezTo>
                    <a:cubicBezTo>
                      <a:pt x="1057" y="605"/>
                      <a:pt x="1050" y="599"/>
                      <a:pt x="1038" y="564"/>
                    </a:cubicBezTo>
                    <a:cubicBezTo>
                      <a:pt x="1044" y="532"/>
                      <a:pt x="1048" y="514"/>
                      <a:pt x="1020" y="492"/>
                    </a:cubicBezTo>
                    <a:cubicBezTo>
                      <a:pt x="1009" y="483"/>
                      <a:pt x="984" y="468"/>
                      <a:pt x="984" y="468"/>
                    </a:cubicBezTo>
                    <a:cubicBezTo>
                      <a:pt x="956" y="425"/>
                      <a:pt x="968" y="427"/>
                      <a:pt x="912" y="408"/>
                    </a:cubicBezTo>
                    <a:cubicBezTo>
                      <a:pt x="900" y="404"/>
                      <a:pt x="888" y="400"/>
                      <a:pt x="876" y="396"/>
                    </a:cubicBezTo>
                    <a:cubicBezTo>
                      <a:pt x="870" y="394"/>
                      <a:pt x="858" y="390"/>
                      <a:pt x="858" y="390"/>
                    </a:cubicBezTo>
                    <a:cubicBezTo>
                      <a:pt x="854" y="325"/>
                      <a:pt x="862" y="287"/>
                      <a:pt x="810" y="252"/>
                    </a:cubicBezTo>
                    <a:cubicBezTo>
                      <a:pt x="787" y="183"/>
                      <a:pt x="833" y="70"/>
                      <a:pt x="750" y="42"/>
                    </a:cubicBezTo>
                    <a:cubicBezTo>
                      <a:pt x="735" y="20"/>
                      <a:pt x="710" y="9"/>
                      <a:pt x="684" y="0"/>
                    </a:cubicBezTo>
                    <a:cubicBezTo>
                      <a:pt x="674" y="2"/>
                      <a:pt x="664" y="2"/>
                      <a:pt x="654" y="6"/>
                    </a:cubicBezTo>
                    <a:cubicBezTo>
                      <a:pt x="620" y="19"/>
                      <a:pt x="640" y="42"/>
                      <a:pt x="624" y="66"/>
                    </a:cubicBezTo>
                    <a:cubicBezTo>
                      <a:pt x="615" y="80"/>
                      <a:pt x="575" y="121"/>
                      <a:pt x="558" y="132"/>
                    </a:cubicBezTo>
                    <a:cubicBezTo>
                      <a:pt x="549" y="159"/>
                      <a:pt x="540" y="164"/>
                      <a:pt x="552" y="186"/>
                    </a:cubicBezTo>
                    <a:cubicBezTo>
                      <a:pt x="559" y="199"/>
                      <a:pt x="576" y="222"/>
                      <a:pt x="576" y="222"/>
                    </a:cubicBezTo>
                    <a:cubicBezTo>
                      <a:pt x="568" y="267"/>
                      <a:pt x="566" y="267"/>
                      <a:pt x="522" y="276"/>
                    </a:cubicBezTo>
                    <a:cubicBezTo>
                      <a:pt x="484" y="301"/>
                      <a:pt x="484" y="337"/>
                      <a:pt x="474" y="378"/>
                    </a:cubicBezTo>
                    <a:cubicBezTo>
                      <a:pt x="483" y="471"/>
                      <a:pt x="474" y="413"/>
                      <a:pt x="510" y="468"/>
                    </a:cubicBezTo>
                    <a:cubicBezTo>
                      <a:pt x="515" y="514"/>
                      <a:pt x="507" y="537"/>
                      <a:pt x="552" y="522"/>
                    </a:cubicBezTo>
                    <a:cubicBezTo>
                      <a:pt x="572" y="492"/>
                      <a:pt x="576" y="502"/>
                      <a:pt x="594" y="528"/>
                    </a:cubicBezTo>
                    <a:cubicBezTo>
                      <a:pt x="584" y="578"/>
                      <a:pt x="574" y="562"/>
                      <a:pt x="582" y="618"/>
                    </a:cubicBezTo>
                    <a:cubicBezTo>
                      <a:pt x="559" y="633"/>
                      <a:pt x="555" y="640"/>
                      <a:pt x="564" y="666"/>
                    </a:cubicBezTo>
                    <a:cubicBezTo>
                      <a:pt x="555" y="693"/>
                      <a:pt x="552" y="716"/>
                      <a:pt x="582" y="726"/>
                    </a:cubicBezTo>
                    <a:cubicBezTo>
                      <a:pt x="602" y="755"/>
                      <a:pt x="600" y="761"/>
                      <a:pt x="594" y="798"/>
                    </a:cubicBezTo>
                    <a:cubicBezTo>
                      <a:pt x="576" y="796"/>
                      <a:pt x="557" y="798"/>
                      <a:pt x="540" y="792"/>
                    </a:cubicBezTo>
                    <a:cubicBezTo>
                      <a:pt x="532" y="789"/>
                      <a:pt x="530" y="774"/>
                      <a:pt x="522" y="774"/>
                    </a:cubicBezTo>
                    <a:cubicBezTo>
                      <a:pt x="516" y="774"/>
                      <a:pt x="524" y="788"/>
                      <a:pt x="528" y="792"/>
                    </a:cubicBezTo>
                    <a:cubicBezTo>
                      <a:pt x="532" y="796"/>
                      <a:pt x="540" y="796"/>
                      <a:pt x="546" y="798"/>
                    </a:cubicBezTo>
                    <a:cubicBezTo>
                      <a:pt x="557" y="831"/>
                      <a:pt x="573" y="869"/>
                      <a:pt x="534" y="882"/>
                    </a:cubicBezTo>
                    <a:cubicBezTo>
                      <a:pt x="524" y="921"/>
                      <a:pt x="514" y="912"/>
                      <a:pt x="522" y="954"/>
                    </a:cubicBezTo>
                    <a:cubicBezTo>
                      <a:pt x="518" y="968"/>
                      <a:pt x="512" y="982"/>
                      <a:pt x="510" y="996"/>
                    </a:cubicBezTo>
                    <a:cubicBezTo>
                      <a:pt x="499" y="1071"/>
                      <a:pt x="527" y="1056"/>
                      <a:pt x="480" y="1068"/>
                    </a:cubicBezTo>
                    <a:cubicBezTo>
                      <a:pt x="482" y="1076"/>
                      <a:pt x="482" y="1085"/>
                      <a:pt x="486" y="1092"/>
                    </a:cubicBezTo>
                    <a:cubicBezTo>
                      <a:pt x="492" y="1105"/>
                      <a:pt x="510" y="1128"/>
                      <a:pt x="510" y="1128"/>
                    </a:cubicBezTo>
                    <a:cubicBezTo>
                      <a:pt x="512" y="1142"/>
                      <a:pt x="508" y="1159"/>
                      <a:pt x="516" y="1170"/>
                    </a:cubicBezTo>
                    <a:cubicBezTo>
                      <a:pt x="522" y="1178"/>
                      <a:pt x="537" y="1171"/>
                      <a:pt x="546" y="1176"/>
                    </a:cubicBezTo>
                    <a:cubicBezTo>
                      <a:pt x="554" y="1181"/>
                      <a:pt x="558" y="1192"/>
                      <a:pt x="564" y="1200"/>
                    </a:cubicBezTo>
                    <a:cubicBezTo>
                      <a:pt x="588" y="1271"/>
                      <a:pt x="526" y="1312"/>
                      <a:pt x="612" y="1326"/>
                    </a:cubicBezTo>
                    <a:cubicBezTo>
                      <a:pt x="615" y="1336"/>
                      <a:pt x="625" y="1352"/>
                      <a:pt x="612" y="1362"/>
                    </a:cubicBezTo>
                    <a:cubicBezTo>
                      <a:pt x="606" y="1367"/>
                      <a:pt x="596" y="1366"/>
                      <a:pt x="588" y="1368"/>
                    </a:cubicBezTo>
                    <a:cubicBezTo>
                      <a:pt x="576" y="1372"/>
                      <a:pt x="552" y="1380"/>
                      <a:pt x="552" y="1380"/>
                    </a:cubicBezTo>
                    <a:cubicBezTo>
                      <a:pt x="509" y="1444"/>
                      <a:pt x="578" y="1445"/>
                      <a:pt x="480" y="1434"/>
                    </a:cubicBezTo>
                    <a:cubicBezTo>
                      <a:pt x="434" y="1419"/>
                      <a:pt x="378" y="1440"/>
                      <a:pt x="330" y="1446"/>
                    </a:cubicBezTo>
                    <a:cubicBezTo>
                      <a:pt x="314" y="1457"/>
                      <a:pt x="301" y="1483"/>
                      <a:pt x="282" y="1488"/>
                    </a:cubicBezTo>
                    <a:cubicBezTo>
                      <a:pt x="264" y="1492"/>
                      <a:pt x="246" y="1492"/>
                      <a:pt x="228" y="1494"/>
                    </a:cubicBezTo>
                    <a:cubicBezTo>
                      <a:pt x="216" y="1544"/>
                      <a:pt x="231" y="1612"/>
                      <a:pt x="168" y="1626"/>
                    </a:cubicBezTo>
                    <a:cubicBezTo>
                      <a:pt x="156" y="1629"/>
                      <a:pt x="144" y="1630"/>
                      <a:pt x="132" y="1632"/>
                    </a:cubicBezTo>
                    <a:cubicBezTo>
                      <a:pt x="121" y="1664"/>
                      <a:pt x="111" y="1711"/>
                      <a:pt x="72" y="1722"/>
                    </a:cubicBezTo>
                    <a:cubicBezTo>
                      <a:pt x="56" y="1726"/>
                      <a:pt x="40" y="1726"/>
                      <a:pt x="24" y="1728"/>
                    </a:cubicBezTo>
                    <a:cubicBezTo>
                      <a:pt x="16" y="1752"/>
                      <a:pt x="24" y="1746"/>
                      <a:pt x="0" y="1746"/>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1523880" y="1447920"/>
              <a:ext cx="1311120" cy="1989000"/>
              <a:chOff x="1523880" y="1447920"/>
              <a:chExt cx="1311120" cy="1989000"/>
            </a:xfrm>
          </p:grpSpPr>
          <p:sp>
            <p:nvSpPr>
              <p:cNvPr id="103" name=""/>
              <p:cNvSpPr/>
              <p:nvPr/>
            </p:nvSpPr>
            <p:spPr>
              <a:xfrm>
                <a:off x="1523880" y="1963800"/>
                <a:ext cx="228600" cy="225360"/>
              </a:xfrm>
              <a:custGeom>
                <a:avLst/>
                <a:gdLst/>
                <a:ahLst/>
                <a:rect l="l" t="t" r="r" b="b"/>
                <a:pathLst>
                  <a:path w="144" h="142">
                    <a:moveTo>
                      <a:pt x="138" y="142"/>
                    </a:moveTo>
                    <a:cubicBezTo>
                      <a:pt x="138" y="142"/>
                      <a:pt x="92" y="136"/>
                      <a:pt x="84" y="130"/>
                    </a:cubicBezTo>
                    <a:cubicBezTo>
                      <a:pt x="64" y="114"/>
                      <a:pt x="63" y="97"/>
                      <a:pt x="36" y="88"/>
                    </a:cubicBezTo>
                    <a:cubicBezTo>
                      <a:pt x="34" y="78"/>
                      <a:pt x="38" y="64"/>
                      <a:pt x="30" y="58"/>
                    </a:cubicBezTo>
                    <a:cubicBezTo>
                      <a:pt x="24" y="54"/>
                      <a:pt x="19" y="71"/>
                      <a:pt x="12" y="70"/>
                    </a:cubicBezTo>
                    <a:cubicBezTo>
                      <a:pt x="5" y="69"/>
                      <a:pt x="4" y="58"/>
                      <a:pt x="0" y="52"/>
                    </a:cubicBezTo>
                    <a:cubicBezTo>
                      <a:pt x="6" y="48"/>
                      <a:pt x="11" y="42"/>
                      <a:pt x="18" y="40"/>
                    </a:cubicBezTo>
                    <a:cubicBezTo>
                      <a:pt x="36" y="36"/>
                      <a:pt x="55" y="41"/>
                      <a:pt x="72" y="34"/>
                    </a:cubicBezTo>
                    <a:cubicBezTo>
                      <a:pt x="78" y="32"/>
                      <a:pt x="74" y="21"/>
                      <a:pt x="78" y="16"/>
                    </a:cubicBezTo>
                    <a:cubicBezTo>
                      <a:pt x="83" y="10"/>
                      <a:pt x="90" y="8"/>
                      <a:pt x="96" y="4"/>
                    </a:cubicBezTo>
                    <a:cubicBezTo>
                      <a:pt x="138" y="18"/>
                      <a:pt x="100" y="0"/>
                      <a:pt x="96" y="22"/>
                    </a:cubicBezTo>
                    <a:cubicBezTo>
                      <a:pt x="93" y="40"/>
                      <a:pt x="96" y="59"/>
                      <a:pt x="102" y="76"/>
                    </a:cubicBezTo>
                    <a:cubicBezTo>
                      <a:pt x="107" y="91"/>
                      <a:pt x="127" y="95"/>
                      <a:pt x="138" y="106"/>
                    </a:cubicBezTo>
                    <a:cubicBezTo>
                      <a:pt x="140" y="112"/>
                      <a:pt x="144" y="118"/>
                      <a:pt x="144" y="124"/>
                    </a:cubicBezTo>
                    <a:cubicBezTo>
                      <a:pt x="144" y="130"/>
                      <a:pt x="138" y="142"/>
                      <a:pt x="138" y="142"/>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530000" y="1508040"/>
                <a:ext cx="231840" cy="338400"/>
              </a:xfrm>
              <a:custGeom>
                <a:avLst/>
                <a:gdLst/>
                <a:ahLst/>
                <a:rect l="l" t="t" r="r" b="b"/>
                <a:pathLst>
                  <a:path w="146" h="213">
                    <a:moveTo>
                      <a:pt x="14" y="213"/>
                    </a:moveTo>
                    <a:cubicBezTo>
                      <a:pt x="10" y="207"/>
                      <a:pt x="0" y="202"/>
                      <a:pt x="2" y="195"/>
                    </a:cubicBezTo>
                    <a:cubicBezTo>
                      <a:pt x="4" y="189"/>
                      <a:pt x="19" y="195"/>
                      <a:pt x="20" y="189"/>
                    </a:cubicBezTo>
                    <a:cubicBezTo>
                      <a:pt x="22" y="176"/>
                      <a:pt x="8" y="153"/>
                      <a:pt x="8" y="153"/>
                    </a:cubicBezTo>
                    <a:cubicBezTo>
                      <a:pt x="10" y="139"/>
                      <a:pt x="5" y="122"/>
                      <a:pt x="14" y="111"/>
                    </a:cubicBezTo>
                    <a:cubicBezTo>
                      <a:pt x="22" y="101"/>
                      <a:pt x="50" y="99"/>
                      <a:pt x="50" y="99"/>
                    </a:cubicBezTo>
                    <a:cubicBezTo>
                      <a:pt x="59" y="52"/>
                      <a:pt x="66" y="66"/>
                      <a:pt x="110" y="57"/>
                    </a:cubicBezTo>
                    <a:cubicBezTo>
                      <a:pt x="116" y="26"/>
                      <a:pt x="120" y="0"/>
                      <a:pt x="146" y="39"/>
                    </a:cubicBezTo>
                    <a:cubicBezTo>
                      <a:pt x="131" y="83"/>
                      <a:pt x="146" y="72"/>
                      <a:pt x="110" y="81"/>
                    </a:cubicBezTo>
                    <a:cubicBezTo>
                      <a:pt x="108" y="91"/>
                      <a:pt x="109" y="102"/>
                      <a:pt x="104" y="111"/>
                    </a:cubicBezTo>
                    <a:cubicBezTo>
                      <a:pt x="100" y="117"/>
                      <a:pt x="89" y="116"/>
                      <a:pt x="86" y="123"/>
                    </a:cubicBezTo>
                    <a:cubicBezTo>
                      <a:pt x="61" y="180"/>
                      <a:pt x="109" y="160"/>
                      <a:pt x="44" y="171"/>
                    </a:cubicBezTo>
                    <a:cubicBezTo>
                      <a:pt x="37" y="193"/>
                      <a:pt x="24" y="194"/>
                      <a:pt x="14" y="213"/>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580760" y="2779920"/>
                <a:ext cx="174600" cy="158760"/>
              </a:xfrm>
              <a:custGeom>
                <a:avLst/>
                <a:gdLst/>
                <a:ahLst/>
                <a:rect l="l" t="t" r="r" b="b"/>
                <a:pathLst>
                  <a:path w="110" h="100">
                    <a:moveTo>
                      <a:pt x="108" y="0"/>
                    </a:moveTo>
                    <a:cubicBezTo>
                      <a:pt x="106" y="16"/>
                      <a:pt x="110" y="34"/>
                      <a:pt x="102" y="48"/>
                    </a:cubicBezTo>
                    <a:cubicBezTo>
                      <a:pt x="98" y="55"/>
                      <a:pt x="83" y="48"/>
                      <a:pt x="78" y="54"/>
                    </a:cubicBezTo>
                    <a:cubicBezTo>
                      <a:pt x="40" y="100"/>
                      <a:pt x="107" y="75"/>
                      <a:pt x="48" y="90"/>
                    </a:cubicBezTo>
                    <a:cubicBezTo>
                      <a:pt x="24" y="82"/>
                      <a:pt x="14" y="75"/>
                      <a:pt x="0" y="54"/>
                    </a:cubicBezTo>
                    <a:cubicBezTo>
                      <a:pt x="12" y="19"/>
                      <a:pt x="42" y="28"/>
                      <a:pt x="78" y="24"/>
                    </a:cubicBezTo>
                    <a:cubicBezTo>
                      <a:pt x="84" y="5"/>
                      <a:pt x="86" y="0"/>
                      <a:pt x="108" y="0"/>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72920" y="1447920"/>
                <a:ext cx="1162080" cy="1989000"/>
              </a:xfrm>
              <a:custGeom>
                <a:avLst/>
                <a:gdLst/>
                <a:ahLst/>
                <a:rect l="l" t="t" r="r" b="b"/>
                <a:pathLst>
                  <a:path w="732" h="1253">
                    <a:moveTo>
                      <a:pt x="164" y="1205"/>
                    </a:moveTo>
                    <a:cubicBezTo>
                      <a:pt x="178" y="1226"/>
                      <a:pt x="178" y="1239"/>
                      <a:pt x="200" y="1253"/>
                    </a:cubicBezTo>
                    <a:cubicBezTo>
                      <a:pt x="205" y="1239"/>
                      <a:pt x="200" y="1218"/>
                      <a:pt x="212" y="1211"/>
                    </a:cubicBezTo>
                    <a:cubicBezTo>
                      <a:pt x="221" y="1205"/>
                      <a:pt x="278" y="1237"/>
                      <a:pt x="290" y="1241"/>
                    </a:cubicBezTo>
                    <a:cubicBezTo>
                      <a:pt x="295" y="1198"/>
                      <a:pt x="290" y="1179"/>
                      <a:pt x="332" y="1193"/>
                    </a:cubicBezTo>
                    <a:cubicBezTo>
                      <a:pt x="345" y="1233"/>
                      <a:pt x="370" y="1222"/>
                      <a:pt x="404" y="1211"/>
                    </a:cubicBezTo>
                    <a:cubicBezTo>
                      <a:pt x="412" y="1188"/>
                      <a:pt x="427" y="1183"/>
                      <a:pt x="440" y="1163"/>
                    </a:cubicBezTo>
                    <a:cubicBezTo>
                      <a:pt x="422" y="1110"/>
                      <a:pt x="559" y="1134"/>
                      <a:pt x="572" y="1133"/>
                    </a:cubicBezTo>
                    <a:cubicBezTo>
                      <a:pt x="608" y="1097"/>
                      <a:pt x="581" y="1095"/>
                      <a:pt x="602" y="1043"/>
                    </a:cubicBezTo>
                    <a:cubicBezTo>
                      <a:pt x="604" y="1037"/>
                      <a:pt x="614" y="1038"/>
                      <a:pt x="620" y="1037"/>
                    </a:cubicBezTo>
                    <a:cubicBezTo>
                      <a:pt x="638" y="1034"/>
                      <a:pt x="656" y="1033"/>
                      <a:pt x="674" y="1031"/>
                    </a:cubicBezTo>
                    <a:cubicBezTo>
                      <a:pt x="672" y="1015"/>
                      <a:pt x="671" y="999"/>
                      <a:pt x="668" y="983"/>
                    </a:cubicBezTo>
                    <a:cubicBezTo>
                      <a:pt x="667" y="977"/>
                      <a:pt x="660" y="971"/>
                      <a:pt x="662" y="965"/>
                    </a:cubicBezTo>
                    <a:cubicBezTo>
                      <a:pt x="665" y="958"/>
                      <a:pt x="674" y="957"/>
                      <a:pt x="680" y="953"/>
                    </a:cubicBezTo>
                    <a:cubicBezTo>
                      <a:pt x="697" y="903"/>
                      <a:pt x="654" y="889"/>
                      <a:pt x="614" y="881"/>
                    </a:cubicBezTo>
                    <a:cubicBezTo>
                      <a:pt x="610" y="875"/>
                      <a:pt x="607" y="868"/>
                      <a:pt x="602" y="863"/>
                    </a:cubicBezTo>
                    <a:cubicBezTo>
                      <a:pt x="571" y="832"/>
                      <a:pt x="575" y="875"/>
                      <a:pt x="554" y="887"/>
                    </a:cubicBezTo>
                    <a:cubicBezTo>
                      <a:pt x="545" y="892"/>
                      <a:pt x="534" y="891"/>
                      <a:pt x="524" y="893"/>
                    </a:cubicBezTo>
                    <a:cubicBezTo>
                      <a:pt x="538" y="934"/>
                      <a:pt x="529" y="896"/>
                      <a:pt x="512" y="899"/>
                    </a:cubicBezTo>
                    <a:cubicBezTo>
                      <a:pt x="505" y="900"/>
                      <a:pt x="506" y="912"/>
                      <a:pt x="500" y="917"/>
                    </a:cubicBezTo>
                    <a:cubicBezTo>
                      <a:pt x="495" y="921"/>
                      <a:pt x="488" y="921"/>
                      <a:pt x="482" y="923"/>
                    </a:cubicBezTo>
                    <a:cubicBezTo>
                      <a:pt x="472" y="921"/>
                      <a:pt x="457" y="926"/>
                      <a:pt x="452" y="917"/>
                    </a:cubicBezTo>
                    <a:cubicBezTo>
                      <a:pt x="408" y="844"/>
                      <a:pt x="476" y="873"/>
                      <a:pt x="428" y="857"/>
                    </a:cubicBezTo>
                    <a:cubicBezTo>
                      <a:pt x="399" y="814"/>
                      <a:pt x="462" y="824"/>
                      <a:pt x="494" y="821"/>
                    </a:cubicBezTo>
                    <a:cubicBezTo>
                      <a:pt x="527" y="810"/>
                      <a:pt x="505" y="799"/>
                      <a:pt x="536" y="785"/>
                    </a:cubicBezTo>
                    <a:cubicBezTo>
                      <a:pt x="548" y="780"/>
                      <a:pt x="572" y="773"/>
                      <a:pt x="572" y="773"/>
                    </a:cubicBezTo>
                    <a:cubicBezTo>
                      <a:pt x="593" y="742"/>
                      <a:pt x="578" y="741"/>
                      <a:pt x="548" y="731"/>
                    </a:cubicBezTo>
                    <a:cubicBezTo>
                      <a:pt x="537" y="697"/>
                      <a:pt x="540" y="723"/>
                      <a:pt x="566" y="719"/>
                    </a:cubicBezTo>
                    <a:cubicBezTo>
                      <a:pt x="573" y="718"/>
                      <a:pt x="578" y="711"/>
                      <a:pt x="584" y="707"/>
                    </a:cubicBezTo>
                    <a:cubicBezTo>
                      <a:pt x="599" y="663"/>
                      <a:pt x="584" y="674"/>
                      <a:pt x="620" y="665"/>
                    </a:cubicBezTo>
                    <a:cubicBezTo>
                      <a:pt x="622" y="645"/>
                      <a:pt x="617" y="623"/>
                      <a:pt x="626" y="605"/>
                    </a:cubicBezTo>
                    <a:cubicBezTo>
                      <a:pt x="632" y="592"/>
                      <a:pt x="662" y="581"/>
                      <a:pt x="662" y="581"/>
                    </a:cubicBezTo>
                    <a:cubicBezTo>
                      <a:pt x="671" y="555"/>
                      <a:pt x="689" y="535"/>
                      <a:pt x="698" y="509"/>
                    </a:cubicBezTo>
                    <a:cubicBezTo>
                      <a:pt x="690" y="497"/>
                      <a:pt x="677" y="488"/>
                      <a:pt x="692" y="473"/>
                    </a:cubicBezTo>
                    <a:cubicBezTo>
                      <a:pt x="702" y="463"/>
                      <a:pt x="728" y="449"/>
                      <a:pt x="728" y="449"/>
                    </a:cubicBezTo>
                    <a:cubicBezTo>
                      <a:pt x="726" y="421"/>
                      <a:pt x="732" y="391"/>
                      <a:pt x="722" y="365"/>
                    </a:cubicBezTo>
                    <a:cubicBezTo>
                      <a:pt x="720" y="359"/>
                      <a:pt x="683" y="336"/>
                      <a:pt x="668" y="335"/>
                    </a:cubicBezTo>
                    <a:cubicBezTo>
                      <a:pt x="620" y="331"/>
                      <a:pt x="572" y="331"/>
                      <a:pt x="524" y="329"/>
                    </a:cubicBezTo>
                    <a:cubicBezTo>
                      <a:pt x="518" y="325"/>
                      <a:pt x="513" y="318"/>
                      <a:pt x="506" y="317"/>
                    </a:cubicBezTo>
                    <a:cubicBezTo>
                      <a:pt x="478" y="312"/>
                      <a:pt x="494" y="342"/>
                      <a:pt x="482" y="305"/>
                    </a:cubicBezTo>
                    <a:cubicBezTo>
                      <a:pt x="468" y="307"/>
                      <a:pt x="453" y="305"/>
                      <a:pt x="440" y="311"/>
                    </a:cubicBezTo>
                    <a:cubicBezTo>
                      <a:pt x="416" y="322"/>
                      <a:pt x="440" y="341"/>
                      <a:pt x="404" y="353"/>
                    </a:cubicBezTo>
                    <a:cubicBezTo>
                      <a:pt x="388" y="351"/>
                      <a:pt x="369" y="356"/>
                      <a:pt x="356" y="347"/>
                    </a:cubicBezTo>
                    <a:cubicBezTo>
                      <a:pt x="331" y="329"/>
                      <a:pt x="370" y="320"/>
                      <a:pt x="380" y="317"/>
                    </a:cubicBezTo>
                    <a:cubicBezTo>
                      <a:pt x="378" y="309"/>
                      <a:pt x="377" y="301"/>
                      <a:pt x="374" y="293"/>
                    </a:cubicBezTo>
                    <a:cubicBezTo>
                      <a:pt x="371" y="286"/>
                      <a:pt x="360" y="282"/>
                      <a:pt x="362" y="275"/>
                    </a:cubicBezTo>
                    <a:cubicBezTo>
                      <a:pt x="370" y="240"/>
                      <a:pt x="381" y="241"/>
                      <a:pt x="404" y="233"/>
                    </a:cubicBezTo>
                    <a:cubicBezTo>
                      <a:pt x="415" y="201"/>
                      <a:pt x="405" y="219"/>
                      <a:pt x="446" y="191"/>
                    </a:cubicBezTo>
                    <a:cubicBezTo>
                      <a:pt x="452" y="187"/>
                      <a:pt x="464" y="179"/>
                      <a:pt x="464" y="179"/>
                    </a:cubicBezTo>
                    <a:cubicBezTo>
                      <a:pt x="468" y="173"/>
                      <a:pt x="473" y="168"/>
                      <a:pt x="476" y="161"/>
                    </a:cubicBezTo>
                    <a:cubicBezTo>
                      <a:pt x="480" y="151"/>
                      <a:pt x="476" y="139"/>
                      <a:pt x="482" y="131"/>
                    </a:cubicBezTo>
                    <a:cubicBezTo>
                      <a:pt x="491" y="120"/>
                      <a:pt x="518" y="107"/>
                      <a:pt x="518" y="107"/>
                    </a:cubicBezTo>
                    <a:cubicBezTo>
                      <a:pt x="535" y="81"/>
                      <a:pt x="540" y="52"/>
                      <a:pt x="506" y="41"/>
                    </a:cubicBezTo>
                    <a:cubicBezTo>
                      <a:pt x="496" y="43"/>
                      <a:pt x="486" y="43"/>
                      <a:pt x="476" y="47"/>
                    </a:cubicBezTo>
                    <a:cubicBezTo>
                      <a:pt x="469" y="50"/>
                      <a:pt x="465" y="57"/>
                      <a:pt x="458" y="59"/>
                    </a:cubicBezTo>
                    <a:cubicBezTo>
                      <a:pt x="428" y="67"/>
                      <a:pt x="398" y="67"/>
                      <a:pt x="368" y="77"/>
                    </a:cubicBezTo>
                    <a:cubicBezTo>
                      <a:pt x="335" y="69"/>
                      <a:pt x="305" y="59"/>
                      <a:pt x="272" y="53"/>
                    </a:cubicBezTo>
                    <a:cubicBezTo>
                      <a:pt x="270" y="50"/>
                      <a:pt x="245" y="0"/>
                      <a:pt x="230" y="41"/>
                    </a:cubicBezTo>
                    <a:cubicBezTo>
                      <a:pt x="190" y="154"/>
                      <a:pt x="266" y="129"/>
                      <a:pt x="194" y="143"/>
                    </a:cubicBezTo>
                    <a:cubicBezTo>
                      <a:pt x="192" y="151"/>
                      <a:pt x="190" y="159"/>
                      <a:pt x="188" y="167"/>
                    </a:cubicBezTo>
                    <a:cubicBezTo>
                      <a:pt x="184" y="179"/>
                      <a:pt x="176" y="203"/>
                      <a:pt x="176" y="203"/>
                    </a:cubicBezTo>
                    <a:cubicBezTo>
                      <a:pt x="206" y="223"/>
                      <a:pt x="200" y="232"/>
                      <a:pt x="194" y="269"/>
                    </a:cubicBezTo>
                    <a:cubicBezTo>
                      <a:pt x="149" y="260"/>
                      <a:pt x="144" y="257"/>
                      <a:pt x="92" y="263"/>
                    </a:cubicBezTo>
                    <a:cubicBezTo>
                      <a:pt x="102" y="302"/>
                      <a:pt x="107" y="280"/>
                      <a:pt x="128" y="311"/>
                    </a:cubicBezTo>
                    <a:cubicBezTo>
                      <a:pt x="123" y="366"/>
                      <a:pt x="127" y="412"/>
                      <a:pt x="92" y="359"/>
                    </a:cubicBezTo>
                    <a:cubicBezTo>
                      <a:pt x="90" y="365"/>
                      <a:pt x="82" y="372"/>
                      <a:pt x="86" y="377"/>
                    </a:cubicBezTo>
                    <a:cubicBezTo>
                      <a:pt x="94" y="389"/>
                      <a:pt x="122" y="401"/>
                      <a:pt x="122" y="401"/>
                    </a:cubicBezTo>
                    <a:cubicBezTo>
                      <a:pt x="139" y="453"/>
                      <a:pt x="140" y="537"/>
                      <a:pt x="80" y="557"/>
                    </a:cubicBezTo>
                    <a:cubicBezTo>
                      <a:pt x="78" y="573"/>
                      <a:pt x="80" y="590"/>
                      <a:pt x="74" y="605"/>
                    </a:cubicBezTo>
                    <a:cubicBezTo>
                      <a:pt x="71" y="612"/>
                      <a:pt x="60" y="611"/>
                      <a:pt x="56" y="617"/>
                    </a:cubicBezTo>
                    <a:cubicBezTo>
                      <a:pt x="49" y="628"/>
                      <a:pt x="44" y="653"/>
                      <a:pt x="44" y="653"/>
                    </a:cubicBezTo>
                    <a:cubicBezTo>
                      <a:pt x="0" y="624"/>
                      <a:pt x="23" y="692"/>
                      <a:pt x="26" y="719"/>
                    </a:cubicBezTo>
                    <a:cubicBezTo>
                      <a:pt x="38" y="717"/>
                      <a:pt x="53" y="721"/>
                      <a:pt x="62" y="713"/>
                    </a:cubicBezTo>
                    <a:cubicBezTo>
                      <a:pt x="127" y="658"/>
                      <a:pt x="23" y="698"/>
                      <a:pt x="86" y="677"/>
                    </a:cubicBezTo>
                    <a:cubicBezTo>
                      <a:pt x="107" y="646"/>
                      <a:pt x="101" y="636"/>
                      <a:pt x="140" y="623"/>
                    </a:cubicBezTo>
                    <a:cubicBezTo>
                      <a:pt x="142" y="613"/>
                      <a:pt x="140" y="601"/>
                      <a:pt x="146" y="593"/>
                    </a:cubicBezTo>
                    <a:cubicBezTo>
                      <a:pt x="150" y="588"/>
                      <a:pt x="164" y="587"/>
                      <a:pt x="164" y="587"/>
                    </a:cubicBezTo>
                    <a:cubicBezTo>
                      <a:pt x="162" y="593"/>
                      <a:pt x="159" y="599"/>
                      <a:pt x="158" y="605"/>
                    </a:cubicBezTo>
                    <a:cubicBezTo>
                      <a:pt x="155" y="627"/>
                      <a:pt x="157" y="649"/>
                      <a:pt x="152" y="671"/>
                    </a:cubicBezTo>
                    <a:cubicBezTo>
                      <a:pt x="150" y="678"/>
                      <a:pt x="143" y="682"/>
                      <a:pt x="140" y="689"/>
                    </a:cubicBezTo>
                    <a:cubicBezTo>
                      <a:pt x="135" y="701"/>
                      <a:pt x="132" y="713"/>
                      <a:pt x="128" y="725"/>
                    </a:cubicBezTo>
                    <a:cubicBezTo>
                      <a:pt x="126" y="731"/>
                      <a:pt x="122" y="743"/>
                      <a:pt x="122" y="743"/>
                    </a:cubicBezTo>
                    <a:cubicBezTo>
                      <a:pt x="120" y="767"/>
                      <a:pt x="120" y="791"/>
                      <a:pt x="116" y="815"/>
                    </a:cubicBezTo>
                    <a:cubicBezTo>
                      <a:pt x="114" y="827"/>
                      <a:pt x="104" y="851"/>
                      <a:pt x="104" y="851"/>
                    </a:cubicBezTo>
                    <a:cubicBezTo>
                      <a:pt x="98" y="892"/>
                      <a:pt x="109" y="918"/>
                      <a:pt x="86" y="953"/>
                    </a:cubicBezTo>
                    <a:cubicBezTo>
                      <a:pt x="90" y="992"/>
                      <a:pt x="86" y="1049"/>
                      <a:pt x="98" y="1001"/>
                    </a:cubicBezTo>
                    <a:cubicBezTo>
                      <a:pt x="100" y="991"/>
                      <a:pt x="99" y="980"/>
                      <a:pt x="104" y="971"/>
                    </a:cubicBezTo>
                    <a:cubicBezTo>
                      <a:pt x="108" y="965"/>
                      <a:pt x="116" y="963"/>
                      <a:pt x="122" y="959"/>
                    </a:cubicBezTo>
                    <a:cubicBezTo>
                      <a:pt x="137" y="1003"/>
                      <a:pt x="122" y="998"/>
                      <a:pt x="158" y="989"/>
                    </a:cubicBezTo>
                    <a:cubicBezTo>
                      <a:pt x="155" y="971"/>
                      <a:pt x="151" y="936"/>
                      <a:pt x="146" y="917"/>
                    </a:cubicBezTo>
                    <a:cubicBezTo>
                      <a:pt x="143" y="905"/>
                      <a:pt x="134" y="881"/>
                      <a:pt x="134" y="881"/>
                    </a:cubicBezTo>
                    <a:cubicBezTo>
                      <a:pt x="139" y="810"/>
                      <a:pt x="123" y="803"/>
                      <a:pt x="176" y="785"/>
                    </a:cubicBezTo>
                    <a:cubicBezTo>
                      <a:pt x="178" y="779"/>
                      <a:pt x="176" y="767"/>
                      <a:pt x="182" y="767"/>
                    </a:cubicBezTo>
                    <a:cubicBezTo>
                      <a:pt x="188" y="767"/>
                      <a:pt x="190" y="779"/>
                      <a:pt x="188" y="785"/>
                    </a:cubicBezTo>
                    <a:cubicBezTo>
                      <a:pt x="185" y="792"/>
                      <a:pt x="176" y="793"/>
                      <a:pt x="170" y="797"/>
                    </a:cubicBezTo>
                    <a:cubicBezTo>
                      <a:pt x="157" y="817"/>
                      <a:pt x="138" y="835"/>
                      <a:pt x="170" y="863"/>
                    </a:cubicBezTo>
                    <a:cubicBezTo>
                      <a:pt x="179" y="871"/>
                      <a:pt x="194" y="859"/>
                      <a:pt x="206" y="857"/>
                    </a:cubicBezTo>
                    <a:cubicBezTo>
                      <a:pt x="208" y="845"/>
                      <a:pt x="201" y="827"/>
                      <a:pt x="212" y="821"/>
                    </a:cubicBezTo>
                    <a:cubicBezTo>
                      <a:pt x="223" y="815"/>
                      <a:pt x="248" y="833"/>
                      <a:pt x="248" y="833"/>
                    </a:cubicBezTo>
                    <a:cubicBezTo>
                      <a:pt x="246" y="849"/>
                      <a:pt x="248" y="866"/>
                      <a:pt x="242" y="881"/>
                    </a:cubicBezTo>
                    <a:cubicBezTo>
                      <a:pt x="239" y="888"/>
                      <a:pt x="227" y="886"/>
                      <a:pt x="224" y="893"/>
                    </a:cubicBezTo>
                    <a:cubicBezTo>
                      <a:pt x="221" y="901"/>
                      <a:pt x="243" y="945"/>
                      <a:pt x="248" y="953"/>
                    </a:cubicBezTo>
                    <a:cubicBezTo>
                      <a:pt x="244" y="988"/>
                      <a:pt x="251" y="1014"/>
                      <a:pt x="218" y="1025"/>
                    </a:cubicBezTo>
                    <a:cubicBezTo>
                      <a:pt x="216" y="1031"/>
                      <a:pt x="216" y="1038"/>
                      <a:pt x="212" y="1043"/>
                    </a:cubicBezTo>
                    <a:cubicBezTo>
                      <a:pt x="207" y="1049"/>
                      <a:pt x="196" y="1048"/>
                      <a:pt x="194" y="1055"/>
                    </a:cubicBezTo>
                    <a:cubicBezTo>
                      <a:pt x="191" y="1067"/>
                      <a:pt x="201" y="1095"/>
                      <a:pt x="206" y="1109"/>
                    </a:cubicBezTo>
                    <a:cubicBezTo>
                      <a:pt x="201" y="1140"/>
                      <a:pt x="191" y="1153"/>
                      <a:pt x="182" y="1181"/>
                    </a:cubicBezTo>
                    <a:cubicBezTo>
                      <a:pt x="184" y="1165"/>
                      <a:pt x="188" y="1149"/>
                      <a:pt x="188" y="1133"/>
                    </a:cubicBezTo>
                    <a:cubicBezTo>
                      <a:pt x="188" y="1125"/>
                      <a:pt x="190" y="1109"/>
                      <a:pt x="182" y="1109"/>
                    </a:cubicBezTo>
                    <a:cubicBezTo>
                      <a:pt x="174" y="1109"/>
                      <a:pt x="178" y="1125"/>
                      <a:pt x="176" y="1133"/>
                    </a:cubicBezTo>
                    <a:cubicBezTo>
                      <a:pt x="170" y="1229"/>
                      <a:pt x="180" y="1252"/>
                      <a:pt x="164" y="1205"/>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304920" y="228600"/>
            <a:ext cx="8610480" cy="636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France</a:t>
            </a:r>
            <a:endParaRPr b="0" lang="en-US" sz="4400" spc="-1" strike="noStrike">
              <a:solidFill>
                <a:srgbClr val="ffffff"/>
              </a:solidFill>
              <a:latin typeface="Times New Roman"/>
            </a:endParaRPr>
          </a:p>
        </p:txBody>
      </p:sp>
      <p:sp>
        <p:nvSpPr>
          <p:cNvPr id="110" name=""/>
          <p:cNvSpPr/>
          <p:nvPr/>
        </p:nvSpPr>
        <p:spPr>
          <a:xfrm>
            <a:off x="873000" y="1260360"/>
            <a:ext cx="8020080" cy="5038920"/>
          </a:xfrm>
          <a:custGeom>
            <a:avLst/>
            <a:gdLst/>
            <a:ahLst/>
            <a:rect l="l" t="t" r="r" b="b"/>
            <a:pathLst>
              <a:path w="5754" h="3615">
                <a:moveTo>
                  <a:pt x="248" y="78"/>
                </a:moveTo>
                <a:cubicBezTo>
                  <a:pt x="244" y="165"/>
                  <a:pt x="246" y="254"/>
                  <a:pt x="235" y="340"/>
                </a:cubicBezTo>
                <a:cubicBezTo>
                  <a:pt x="233" y="355"/>
                  <a:pt x="216" y="365"/>
                  <a:pt x="209" y="379"/>
                </a:cubicBezTo>
                <a:cubicBezTo>
                  <a:pt x="198" y="404"/>
                  <a:pt x="183" y="457"/>
                  <a:pt x="183" y="457"/>
                </a:cubicBezTo>
                <a:cubicBezTo>
                  <a:pt x="173" y="538"/>
                  <a:pt x="193" y="589"/>
                  <a:pt x="118" y="614"/>
                </a:cubicBezTo>
                <a:cubicBezTo>
                  <a:pt x="59" y="673"/>
                  <a:pt x="84" y="636"/>
                  <a:pt x="52" y="731"/>
                </a:cubicBezTo>
                <a:cubicBezTo>
                  <a:pt x="48" y="745"/>
                  <a:pt x="39" y="771"/>
                  <a:pt x="39" y="771"/>
                </a:cubicBezTo>
                <a:cubicBezTo>
                  <a:pt x="17" y="962"/>
                  <a:pt x="9" y="1153"/>
                  <a:pt x="0" y="1345"/>
                </a:cubicBezTo>
                <a:cubicBezTo>
                  <a:pt x="4" y="1372"/>
                  <a:pt x="4" y="1399"/>
                  <a:pt x="13" y="1424"/>
                </a:cubicBezTo>
                <a:cubicBezTo>
                  <a:pt x="19" y="1439"/>
                  <a:pt x="35" y="1448"/>
                  <a:pt x="39" y="1463"/>
                </a:cubicBezTo>
                <a:cubicBezTo>
                  <a:pt x="48" y="1497"/>
                  <a:pt x="48" y="1533"/>
                  <a:pt x="52" y="1567"/>
                </a:cubicBezTo>
                <a:cubicBezTo>
                  <a:pt x="39" y="1634"/>
                  <a:pt x="45" y="1662"/>
                  <a:pt x="65" y="1724"/>
                </a:cubicBezTo>
                <a:cubicBezTo>
                  <a:pt x="87" y="1877"/>
                  <a:pt x="155" y="1994"/>
                  <a:pt x="222" y="2129"/>
                </a:cubicBezTo>
                <a:cubicBezTo>
                  <a:pt x="238" y="2162"/>
                  <a:pt x="254" y="2179"/>
                  <a:pt x="287" y="2194"/>
                </a:cubicBezTo>
                <a:cubicBezTo>
                  <a:pt x="312" y="2205"/>
                  <a:pt x="366" y="2221"/>
                  <a:pt x="366" y="2221"/>
                </a:cubicBezTo>
                <a:cubicBezTo>
                  <a:pt x="392" y="2300"/>
                  <a:pt x="491" y="2454"/>
                  <a:pt x="575" y="2482"/>
                </a:cubicBezTo>
                <a:cubicBezTo>
                  <a:pt x="592" y="2477"/>
                  <a:pt x="611" y="2475"/>
                  <a:pt x="627" y="2469"/>
                </a:cubicBezTo>
                <a:cubicBezTo>
                  <a:pt x="641" y="2462"/>
                  <a:pt x="651" y="2445"/>
                  <a:pt x="666" y="2443"/>
                </a:cubicBezTo>
                <a:cubicBezTo>
                  <a:pt x="730" y="2434"/>
                  <a:pt x="786" y="2505"/>
                  <a:pt x="836" y="2521"/>
                </a:cubicBezTo>
                <a:cubicBezTo>
                  <a:pt x="901" y="2543"/>
                  <a:pt x="961" y="2594"/>
                  <a:pt x="1032" y="2599"/>
                </a:cubicBezTo>
                <a:cubicBezTo>
                  <a:pt x="1084" y="2604"/>
                  <a:pt x="1136" y="2608"/>
                  <a:pt x="1189" y="2612"/>
                </a:cubicBezTo>
                <a:cubicBezTo>
                  <a:pt x="1319" y="2700"/>
                  <a:pt x="1415" y="2657"/>
                  <a:pt x="1607" y="2665"/>
                </a:cubicBezTo>
                <a:cubicBezTo>
                  <a:pt x="1655" y="2681"/>
                  <a:pt x="1693" y="2707"/>
                  <a:pt x="1737" y="2730"/>
                </a:cubicBezTo>
                <a:cubicBezTo>
                  <a:pt x="1759" y="2817"/>
                  <a:pt x="1772" y="2832"/>
                  <a:pt x="1829" y="2900"/>
                </a:cubicBezTo>
                <a:cubicBezTo>
                  <a:pt x="1839" y="2912"/>
                  <a:pt x="1843" y="2929"/>
                  <a:pt x="1855" y="2939"/>
                </a:cubicBezTo>
                <a:cubicBezTo>
                  <a:pt x="1881" y="2960"/>
                  <a:pt x="1917" y="2963"/>
                  <a:pt x="1946" y="2978"/>
                </a:cubicBezTo>
                <a:cubicBezTo>
                  <a:pt x="1963" y="3002"/>
                  <a:pt x="1985" y="3041"/>
                  <a:pt x="2012" y="3057"/>
                </a:cubicBezTo>
                <a:cubicBezTo>
                  <a:pt x="2036" y="3070"/>
                  <a:pt x="2090" y="3083"/>
                  <a:pt x="2090" y="3083"/>
                </a:cubicBezTo>
                <a:cubicBezTo>
                  <a:pt x="2146" y="2999"/>
                  <a:pt x="2162" y="3018"/>
                  <a:pt x="2273" y="3030"/>
                </a:cubicBezTo>
                <a:cubicBezTo>
                  <a:pt x="2336" y="3094"/>
                  <a:pt x="2336" y="3168"/>
                  <a:pt x="2390" y="3239"/>
                </a:cubicBezTo>
                <a:cubicBezTo>
                  <a:pt x="2415" y="3366"/>
                  <a:pt x="2385" y="3255"/>
                  <a:pt x="2430" y="3344"/>
                </a:cubicBezTo>
                <a:cubicBezTo>
                  <a:pt x="2436" y="3356"/>
                  <a:pt x="2433" y="3373"/>
                  <a:pt x="2443" y="3383"/>
                </a:cubicBezTo>
                <a:cubicBezTo>
                  <a:pt x="2464" y="3405"/>
                  <a:pt x="2495" y="3418"/>
                  <a:pt x="2521" y="3435"/>
                </a:cubicBezTo>
                <a:cubicBezTo>
                  <a:pt x="2542" y="3450"/>
                  <a:pt x="2556" y="3470"/>
                  <a:pt x="2573" y="3488"/>
                </a:cubicBezTo>
                <a:cubicBezTo>
                  <a:pt x="2616" y="3615"/>
                  <a:pt x="2633" y="3565"/>
                  <a:pt x="2808" y="3553"/>
                </a:cubicBezTo>
                <a:cubicBezTo>
                  <a:pt x="2795" y="3540"/>
                  <a:pt x="2771" y="3532"/>
                  <a:pt x="2769" y="3514"/>
                </a:cubicBezTo>
                <a:cubicBezTo>
                  <a:pt x="2762" y="3448"/>
                  <a:pt x="2768" y="3382"/>
                  <a:pt x="2782" y="3318"/>
                </a:cubicBezTo>
                <a:cubicBezTo>
                  <a:pt x="2792" y="3276"/>
                  <a:pt x="2833" y="3279"/>
                  <a:pt x="2861" y="3266"/>
                </a:cubicBezTo>
                <a:cubicBezTo>
                  <a:pt x="2913" y="3239"/>
                  <a:pt x="2961" y="3206"/>
                  <a:pt x="3017" y="3187"/>
                </a:cubicBezTo>
                <a:cubicBezTo>
                  <a:pt x="3061" y="3144"/>
                  <a:pt x="3094" y="3136"/>
                  <a:pt x="3148" y="3109"/>
                </a:cubicBezTo>
                <a:cubicBezTo>
                  <a:pt x="3163" y="3047"/>
                  <a:pt x="3150" y="3025"/>
                  <a:pt x="3213" y="3004"/>
                </a:cubicBezTo>
                <a:cubicBezTo>
                  <a:pt x="3366" y="3009"/>
                  <a:pt x="3518" y="3017"/>
                  <a:pt x="3671" y="3017"/>
                </a:cubicBezTo>
                <a:cubicBezTo>
                  <a:pt x="3705" y="3017"/>
                  <a:pt x="3749" y="3027"/>
                  <a:pt x="3775" y="3004"/>
                </a:cubicBezTo>
                <a:cubicBezTo>
                  <a:pt x="3811" y="2974"/>
                  <a:pt x="3734" y="2911"/>
                  <a:pt x="3723" y="2900"/>
                </a:cubicBezTo>
                <a:cubicBezTo>
                  <a:pt x="3836" y="2862"/>
                  <a:pt x="3664" y="2916"/>
                  <a:pt x="3932" y="2874"/>
                </a:cubicBezTo>
                <a:cubicBezTo>
                  <a:pt x="3959" y="2869"/>
                  <a:pt x="3984" y="2856"/>
                  <a:pt x="4010" y="2848"/>
                </a:cubicBezTo>
                <a:cubicBezTo>
                  <a:pt x="4023" y="2843"/>
                  <a:pt x="4049" y="2835"/>
                  <a:pt x="4049" y="2835"/>
                </a:cubicBezTo>
                <a:cubicBezTo>
                  <a:pt x="4215" y="2890"/>
                  <a:pt x="3918" y="2795"/>
                  <a:pt x="4428" y="2861"/>
                </a:cubicBezTo>
                <a:cubicBezTo>
                  <a:pt x="4473" y="2866"/>
                  <a:pt x="4540" y="2934"/>
                  <a:pt x="4572" y="2965"/>
                </a:cubicBezTo>
                <a:cubicBezTo>
                  <a:pt x="4609" y="3076"/>
                  <a:pt x="4524" y="3152"/>
                  <a:pt x="4624" y="3253"/>
                </a:cubicBezTo>
                <a:cubicBezTo>
                  <a:pt x="4662" y="3367"/>
                  <a:pt x="4720" y="3343"/>
                  <a:pt x="4833" y="3357"/>
                </a:cubicBezTo>
                <a:cubicBezTo>
                  <a:pt x="4846" y="3370"/>
                  <a:pt x="4855" y="3391"/>
                  <a:pt x="4872" y="3396"/>
                </a:cubicBezTo>
                <a:cubicBezTo>
                  <a:pt x="4985" y="3429"/>
                  <a:pt x="4929" y="3213"/>
                  <a:pt x="4885" y="3148"/>
                </a:cubicBezTo>
                <a:cubicBezTo>
                  <a:pt x="4866" y="3072"/>
                  <a:pt x="4872" y="3035"/>
                  <a:pt x="4807" y="2991"/>
                </a:cubicBezTo>
                <a:cubicBezTo>
                  <a:pt x="4779" y="2934"/>
                  <a:pt x="4765" y="2875"/>
                  <a:pt x="4729" y="2821"/>
                </a:cubicBezTo>
                <a:cubicBezTo>
                  <a:pt x="4724" y="2795"/>
                  <a:pt x="4721" y="2769"/>
                  <a:pt x="4716" y="2743"/>
                </a:cubicBezTo>
                <a:cubicBezTo>
                  <a:pt x="4712" y="2730"/>
                  <a:pt x="4702" y="2718"/>
                  <a:pt x="4702" y="2704"/>
                </a:cubicBezTo>
                <a:cubicBezTo>
                  <a:pt x="4702" y="2690"/>
                  <a:pt x="4712" y="2678"/>
                  <a:pt x="4716" y="2665"/>
                </a:cubicBezTo>
                <a:cubicBezTo>
                  <a:pt x="4738" y="2562"/>
                  <a:pt x="4745" y="2429"/>
                  <a:pt x="4859" y="2390"/>
                </a:cubicBezTo>
                <a:cubicBezTo>
                  <a:pt x="4880" y="2329"/>
                  <a:pt x="4867" y="2311"/>
                  <a:pt x="4925" y="2273"/>
                </a:cubicBezTo>
                <a:cubicBezTo>
                  <a:pt x="4954" y="2185"/>
                  <a:pt x="5032" y="2150"/>
                  <a:pt x="5081" y="2077"/>
                </a:cubicBezTo>
                <a:cubicBezTo>
                  <a:pt x="5073" y="2064"/>
                  <a:pt x="5055" y="2053"/>
                  <a:pt x="5055" y="2038"/>
                </a:cubicBezTo>
                <a:cubicBezTo>
                  <a:pt x="5055" y="2014"/>
                  <a:pt x="5078" y="1995"/>
                  <a:pt x="5081" y="1972"/>
                </a:cubicBezTo>
                <a:cubicBezTo>
                  <a:pt x="5091" y="1908"/>
                  <a:pt x="5090" y="1842"/>
                  <a:pt x="5094" y="1776"/>
                </a:cubicBezTo>
                <a:cubicBezTo>
                  <a:pt x="5085" y="1636"/>
                  <a:pt x="5115" y="1595"/>
                  <a:pt x="5016" y="1528"/>
                </a:cubicBezTo>
                <a:cubicBezTo>
                  <a:pt x="4984" y="1433"/>
                  <a:pt x="4983" y="1477"/>
                  <a:pt x="5003" y="1398"/>
                </a:cubicBezTo>
                <a:cubicBezTo>
                  <a:pt x="5012" y="1411"/>
                  <a:pt x="5027" y="1422"/>
                  <a:pt x="5029" y="1437"/>
                </a:cubicBezTo>
                <a:cubicBezTo>
                  <a:pt x="5040" y="1525"/>
                  <a:pt x="4978" y="1489"/>
                  <a:pt x="5055" y="1515"/>
                </a:cubicBezTo>
                <a:cubicBezTo>
                  <a:pt x="5140" y="1487"/>
                  <a:pt x="5104" y="1434"/>
                  <a:pt x="5094" y="1345"/>
                </a:cubicBezTo>
                <a:cubicBezTo>
                  <a:pt x="5099" y="1324"/>
                  <a:pt x="5097" y="1300"/>
                  <a:pt x="5107" y="1280"/>
                </a:cubicBezTo>
                <a:cubicBezTo>
                  <a:pt x="5115" y="1266"/>
                  <a:pt x="5138" y="1267"/>
                  <a:pt x="5147" y="1254"/>
                </a:cubicBezTo>
                <a:cubicBezTo>
                  <a:pt x="5161" y="1231"/>
                  <a:pt x="5164" y="1202"/>
                  <a:pt x="5173" y="1176"/>
                </a:cubicBezTo>
                <a:cubicBezTo>
                  <a:pt x="5177" y="1163"/>
                  <a:pt x="5200" y="1169"/>
                  <a:pt x="5212" y="1163"/>
                </a:cubicBezTo>
                <a:cubicBezTo>
                  <a:pt x="5226" y="1156"/>
                  <a:pt x="5236" y="1142"/>
                  <a:pt x="5251" y="1136"/>
                </a:cubicBezTo>
                <a:cubicBezTo>
                  <a:pt x="5289" y="1122"/>
                  <a:pt x="5329" y="1120"/>
                  <a:pt x="5369" y="1110"/>
                </a:cubicBezTo>
                <a:cubicBezTo>
                  <a:pt x="5414" y="1080"/>
                  <a:pt x="5438" y="1071"/>
                  <a:pt x="5460" y="1006"/>
                </a:cubicBezTo>
                <a:cubicBezTo>
                  <a:pt x="5469" y="980"/>
                  <a:pt x="5486" y="927"/>
                  <a:pt x="5486" y="927"/>
                </a:cubicBezTo>
                <a:cubicBezTo>
                  <a:pt x="5482" y="906"/>
                  <a:pt x="5485" y="881"/>
                  <a:pt x="5473" y="862"/>
                </a:cubicBezTo>
                <a:cubicBezTo>
                  <a:pt x="5454" y="831"/>
                  <a:pt x="5395" y="784"/>
                  <a:pt x="5395" y="784"/>
                </a:cubicBezTo>
                <a:cubicBezTo>
                  <a:pt x="5372" y="716"/>
                  <a:pt x="5374" y="693"/>
                  <a:pt x="5434" y="653"/>
                </a:cubicBezTo>
                <a:cubicBezTo>
                  <a:pt x="5438" y="640"/>
                  <a:pt x="5437" y="624"/>
                  <a:pt x="5447" y="614"/>
                </a:cubicBezTo>
                <a:cubicBezTo>
                  <a:pt x="5498" y="563"/>
                  <a:pt x="5594" y="476"/>
                  <a:pt x="5662" y="458"/>
                </a:cubicBezTo>
                <a:cubicBezTo>
                  <a:pt x="5703" y="395"/>
                  <a:pt x="5754" y="388"/>
                  <a:pt x="5682" y="287"/>
                </a:cubicBezTo>
                <a:cubicBezTo>
                  <a:pt x="5659" y="256"/>
                  <a:pt x="5689" y="223"/>
                  <a:pt x="5650" y="218"/>
                </a:cubicBezTo>
                <a:cubicBezTo>
                  <a:pt x="5637" y="180"/>
                  <a:pt x="5622" y="109"/>
                  <a:pt x="5602" y="74"/>
                </a:cubicBezTo>
                <a:cubicBezTo>
                  <a:pt x="5596" y="62"/>
                  <a:pt x="5519" y="90"/>
                  <a:pt x="5506" y="86"/>
                </a:cubicBezTo>
                <a:cubicBezTo>
                  <a:pt x="5419" y="98"/>
                  <a:pt x="5432" y="268"/>
                  <a:pt x="5386" y="338"/>
                </a:cubicBezTo>
                <a:cubicBezTo>
                  <a:pt x="5386" y="345"/>
                  <a:pt x="5359" y="469"/>
                  <a:pt x="5277" y="496"/>
                </a:cubicBezTo>
                <a:cubicBezTo>
                  <a:pt x="5135" y="544"/>
                  <a:pt x="5351" y="468"/>
                  <a:pt x="5199" y="536"/>
                </a:cubicBezTo>
                <a:cubicBezTo>
                  <a:pt x="5174" y="546"/>
                  <a:pt x="5120" y="562"/>
                  <a:pt x="5120" y="562"/>
                </a:cubicBezTo>
                <a:cubicBezTo>
                  <a:pt x="5074" y="632"/>
                  <a:pt x="5123" y="579"/>
                  <a:pt x="5029" y="614"/>
                </a:cubicBezTo>
                <a:cubicBezTo>
                  <a:pt x="4991" y="628"/>
                  <a:pt x="4982" y="654"/>
                  <a:pt x="4951" y="679"/>
                </a:cubicBezTo>
                <a:cubicBezTo>
                  <a:pt x="4926" y="699"/>
                  <a:pt x="4872" y="731"/>
                  <a:pt x="4872" y="731"/>
                </a:cubicBezTo>
                <a:cubicBezTo>
                  <a:pt x="4864" y="745"/>
                  <a:pt x="4851" y="755"/>
                  <a:pt x="4846" y="771"/>
                </a:cubicBezTo>
                <a:cubicBezTo>
                  <a:pt x="4837" y="800"/>
                  <a:pt x="4847" y="835"/>
                  <a:pt x="4833" y="862"/>
                </a:cubicBezTo>
                <a:cubicBezTo>
                  <a:pt x="4831" y="865"/>
                  <a:pt x="4757" y="886"/>
                  <a:pt x="4742" y="888"/>
                </a:cubicBezTo>
                <a:cubicBezTo>
                  <a:pt x="4702" y="895"/>
                  <a:pt x="4663" y="897"/>
                  <a:pt x="4624" y="901"/>
                </a:cubicBezTo>
                <a:cubicBezTo>
                  <a:pt x="4611" y="910"/>
                  <a:pt x="4595" y="915"/>
                  <a:pt x="4585" y="927"/>
                </a:cubicBezTo>
                <a:cubicBezTo>
                  <a:pt x="4534" y="991"/>
                  <a:pt x="4619" y="951"/>
                  <a:pt x="4533" y="980"/>
                </a:cubicBezTo>
                <a:cubicBezTo>
                  <a:pt x="4491" y="1042"/>
                  <a:pt x="4522" y="1013"/>
                  <a:pt x="4428" y="1045"/>
                </a:cubicBezTo>
                <a:cubicBezTo>
                  <a:pt x="4415" y="1049"/>
                  <a:pt x="4389" y="1058"/>
                  <a:pt x="4389" y="1058"/>
                </a:cubicBezTo>
                <a:cubicBezTo>
                  <a:pt x="4360" y="1145"/>
                  <a:pt x="4394" y="1183"/>
                  <a:pt x="4324" y="1254"/>
                </a:cubicBezTo>
                <a:cubicBezTo>
                  <a:pt x="4289" y="1250"/>
                  <a:pt x="4249" y="1261"/>
                  <a:pt x="4219" y="1241"/>
                </a:cubicBezTo>
                <a:cubicBezTo>
                  <a:pt x="4206" y="1232"/>
                  <a:pt x="4239" y="1216"/>
                  <a:pt x="4245" y="1202"/>
                </a:cubicBezTo>
                <a:cubicBezTo>
                  <a:pt x="4279" y="1123"/>
                  <a:pt x="4229" y="1169"/>
                  <a:pt x="4298" y="1123"/>
                </a:cubicBezTo>
                <a:cubicBezTo>
                  <a:pt x="4289" y="1097"/>
                  <a:pt x="4280" y="1071"/>
                  <a:pt x="4271" y="1045"/>
                </a:cubicBezTo>
                <a:cubicBezTo>
                  <a:pt x="4254" y="993"/>
                  <a:pt x="4271" y="1010"/>
                  <a:pt x="4219" y="993"/>
                </a:cubicBezTo>
                <a:cubicBezTo>
                  <a:pt x="4215" y="975"/>
                  <a:pt x="4213" y="957"/>
                  <a:pt x="4206" y="940"/>
                </a:cubicBezTo>
                <a:cubicBezTo>
                  <a:pt x="4200" y="926"/>
                  <a:pt x="4180" y="917"/>
                  <a:pt x="4180" y="901"/>
                </a:cubicBezTo>
                <a:cubicBezTo>
                  <a:pt x="4180" y="831"/>
                  <a:pt x="4261" y="807"/>
                  <a:pt x="4311" y="797"/>
                </a:cubicBezTo>
                <a:cubicBezTo>
                  <a:pt x="4202" y="688"/>
                  <a:pt x="4256" y="748"/>
                  <a:pt x="4154" y="679"/>
                </a:cubicBezTo>
                <a:cubicBezTo>
                  <a:pt x="4130" y="643"/>
                  <a:pt x="4130" y="632"/>
                  <a:pt x="4089" y="614"/>
                </a:cubicBezTo>
                <a:cubicBezTo>
                  <a:pt x="4064" y="603"/>
                  <a:pt x="4010" y="588"/>
                  <a:pt x="4010" y="588"/>
                </a:cubicBezTo>
                <a:cubicBezTo>
                  <a:pt x="4000" y="558"/>
                  <a:pt x="3995" y="521"/>
                  <a:pt x="3958" y="509"/>
                </a:cubicBezTo>
                <a:cubicBezTo>
                  <a:pt x="3945" y="505"/>
                  <a:pt x="3932" y="518"/>
                  <a:pt x="3919" y="522"/>
                </a:cubicBezTo>
                <a:cubicBezTo>
                  <a:pt x="3884" y="518"/>
                  <a:pt x="3849" y="516"/>
                  <a:pt x="3814" y="509"/>
                </a:cubicBezTo>
                <a:cubicBezTo>
                  <a:pt x="3801" y="507"/>
                  <a:pt x="3778" y="509"/>
                  <a:pt x="3775" y="496"/>
                </a:cubicBezTo>
                <a:cubicBezTo>
                  <a:pt x="3772" y="481"/>
                  <a:pt x="3792" y="470"/>
                  <a:pt x="3801" y="457"/>
                </a:cubicBezTo>
                <a:cubicBezTo>
                  <a:pt x="3771" y="453"/>
                  <a:pt x="3738" y="455"/>
                  <a:pt x="3710" y="444"/>
                </a:cubicBezTo>
                <a:cubicBezTo>
                  <a:pt x="3680" y="433"/>
                  <a:pt x="3657" y="409"/>
                  <a:pt x="3631" y="392"/>
                </a:cubicBezTo>
                <a:cubicBezTo>
                  <a:pt x="3605" y="374"/>
                  <a:pt x="3570" y="376"/>
                  <a:pt x="3540" y="366"/>
                </a:cubicBezTo>
                <a:cubicBezTo>
                  <a:pt x="3475" y="388"/>
                  <a:pt x="3488" y="416"/>
                  <a:pt x="3475" y="483"/>
                </a:cubicBezTo>
                <a:cubicBezTo>
                  <a:pt x="3415" y="464"/>
                  <a:pt x="3346" y="475"/>
                  <a:pt x="3292" y="444"/>
                </a:cubicBezTo>
                <a:cubicBezTo>
                  <a:pt x="3265" y="429"/>
                  <a:pt x="3243" y="402"/>
                  <a:pt x="3213" y="392"/>
                </a:cubicBezTo>
                <a:cubicBezTo>
                  <a:pt x="3147" y="370"/>
                  <a:pt x="3088" y="361"/>
                  <a:pt x="3017" y="353"/>
                </a:cubicBezTo>
                <a:cubicBezTo>
                  <a:pt x="2952" y="331"/>
                  <a:pt x="2978" y="309"/>
                  <a:pt x="2913" y="287"/>
                </a:cubicBezTo>
                <a:cubicBezTo>
                  <a:pt x="2328" y="317"/>
                  <a:pt x="2562" y="310"/>
                  <a:pt x="1554" y="287"/>
                </a:cubicBezTo>
                <a:cubicBezTo>
                  <a:pt x="1492" y="286"/>
                  <a:pt x="1372" y="248"/>
                  <a:pt x="1372" y="248"/>
                </a:cubicBezTo>
                <a:cubicBezTo>
                  <a:pt x="1295" y="198"/>
                  <a:pt x="1369" y="238"/>
                  <a:pt x="1241" y="209"/>
                </a:cubicBezTo>
                <a:cubicBezTo>
                  <a:pt x="1171" y="193"/>
                  <a:pt x="1101" y="163"/>
                  <a:pt x="1032" y="144"/>
                </a:cubicBezTo>
                <a:cubicBezTo>
                  <a:pt x="1000" y="135"/>
                  <a:pt x="924" y="120"/>
                  <a:pt x="901" y="104"/>
                </a:cubicBezTo>
                <a:cubicBezTo>
                  <a:pt x="800" y="37"/>
                  <a:pt x="852" y="62"/>
                  <a:pt x="745" y="26"/>
                </a:cubicBezTo>
                <a:cubicBezTo>
                  <a:pt x="731" y="22"/>
                  <a:pt x="718" y="17"/>
                  <a:pt x="705" y="13"/>
                </a:cubicBezTo>
                <a:cubicBezTo>
                  <a:pt x="692" y="9"/>
                  <a:pt x="666" y="0"/>
                  <a:pt x="666" y="0"/>
                </a:cubicBezTo>
                <a:cubicBezTo>
                  <a:pt x="588" y="4"/>
                  <a:pt x="509" y="5"/>
                  <a:pt x="431" y="13"/>
                </a:cubicBezTo>
                <a:cubicBezTo>
                  <a:pt x="414" y="14"/>
                  <a:pt x="392" y="13"/>
                  <a:pt x="379" y="26"/>
                </a:cubicBezTo>
                <a:cubicBezTo>
                  <a:pt x="288" y="116"/>
                  <a:pt x="440" y="53"/>
                  <a:pt x="327" y="91"/>
                </a:cubicBezTo>
                <a:cubicBezTo>
                  <a:pt x="266" y="76"/>
                  <a:pt x="292" y="78"/>
                  <a:pt x="248" y="78"/>
                </a:cubicBez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911320" y="1341360"/>
            <a:ext cx="5999400" cy="4354560"/>
          </a:xfrm>
          <a:custGeom>
            <a:avLst/>
            <a:gdLst/>
            <a:ahLst/>
            <a:rect l="l" t="t" r="r" b="b"/>
            <a:pathLst>
              <a:path w="3525" h="2559">
                <a:moveTo>
                  <a:pt x="21" y="414"/>
                </a:moveTo>
                <a:cubicBezTo>
                  <a:pt x="19" y="426"/>
                  <a:pt x="15" y="678"/>
                  <a:pt x="9" y="690"/>
                </a:cubicBezTo>
                <a:cubicBezTo>
                  <a:pt x="0" y="710"/>
                  <a:pt x="117" y="798"/>
                  <a:pt x="117" y="798"/>
                </a:cubicBezTo>
                <a:cubicBezTo>
                  <a:pt x="109" y="865"/>
                  <a:pt x="118" y="898"/>
                  <a:pt x="57" y="918"/>
                </a:cubicBezTo>
                <a:cubicBezTo>
                  <a:pt x="8" y="966"/>
                  <a:pt x="119" y="1200"/>
                  <a:pt x="93" y="1278"/>
                </a:cubicBezTo>
                <a:cubicBezTo>
                  <a:pt x="89" y="1289"/>
                  <a:pt x="261" y="1566"/>
                  <a:pt x="261" y="1566"/>
                </a:cubicBezTo>
                <a:cubicBezTo>
                  <a:pt x="491" y="1839"/>
                  <a:pt x="341" y="1864"/>
                  <a:pt x="465" y="2058"/>
                </a:cubicBezTo>
                <a:cubicBezTo>
                  <a:pt x="548" y="2197"/>
                  <a:pt x="680" y="2125"/>
                  <a:pt x="753" y="2166"/>
                </a:cubicBezTo>
                <a:cubicBezTo>
                  <a:pt x="799" y="2097"/>
                  <a:pt x="914" y="2264"/>
                  <a:pt x="1005" y="2274"/>
                </a:cubicBezTo>
                <a:cubicBezTo>
                  <a:pt x="1119" y="2338"/>
                  <a:pt x="1185" y="2524"/>
                  <a:pt x="1269" y="2559"/>
                </a:cubicBezTo>
                <a:cubicBezTo>
                  <a:pt x="1305" y="2524"/>
                  <a:pt x="1332" y="2518"/>
                  <a:pt x="1376" y="2495"/>
                </a:cubicBezTo>
                <a:cubicBezTo>
                  <a:pt x="1388" y="2445"/>
                  <a:pt x="1378" y="2427"/>
                  <a:pt x="1429" y="2409"/>
                </a:cubicBezTo>
                <a:cubicBezTo>
                  <a:pt x="1555" y="2413"/>
                  <a:pt x="1679" y="2420"/>
                  <a:pt x="1804" y="2420"/>
                </a:cubicBezTo>
                <a:cubicBezTo>
                  <a:pt x="1832" y="2420"/>
                  <a:pt x="1868" y="2428"/>
                  <a:pt x="1890" y="2409"/>
                </a:cubicBezTo>
                <a:cubicBezTo>
                  <a:pt x="1919" y="2385"/>
                  <a:pt x="1856" y="2333"/>
                  <a:pt x="1847" y="2324"/>
                </a:cubicBezTo>
                <a:cubicBezTo>
                  <a:pt x="1940" y="2293"/>
                  <a:pt x="1734" y="2200"/>
                  <a:pt x="1953" y="2166"/>
                </a:cubicBezTo>
                <a:cubicBezTo>
                  <a:pt x="2029" y="2138"/>
                  <a:pt x="2105" y="2104"/>
                  <a:pt x="2169" y="2070"/>
                </a:cubicBezTo>
                <a:cubicBezTo>
                  <a:pt x="2251" y="2068"/>
                  <a:pt x="2221" y="1895"/>
                  <a:pt x="2301" y="1854"/>
                </a:cubicBezTo>
                <a:cubicBezTo>
                  <a:pt x="2319" y="1769"/>
                  <a:pt x="2255" y="1682"/>
                  <a:pt x="2349" y="1650"/>
                </a:cubicBezTo>
                <a:cubicBezTo>
                  <a:pt x="2366" y="1600"/>
                  <a:pt x="2361" y="1334"/>
                  <a:pt x="2409" y="1302"/>
                </a:cubicBezTo>
                <a:cubicBezTo>
                  <a:pt x="2433" y="1230"/>
                  <a:pt x="2440" y="1254"/>
                  <a:pt x="2481" y="1194"/>
                </a:cubicBezTo>
                <a:cubicBezTo>
                  <a:pt x="2474" y="1183"/>
                  <a:pt x="2541" y="1122"/>
                  <a:pt x="2541" y="1110"/>
                </a:cubicBezTo>
                <a:cubicBezTo>
                  <a:pt x="2541" y="1090"/>
                  <a:pt x="2694" y="949"/>
                  <a:pt x="2697" y="930"/>
                </a:cubicBezTo>
                <a:cubicBezTo>
                  <a:pt x="2819" y="874"/>
                  <a:pt x="2766" y="871"/>
                  <a:pt x="2865" y="834"/>
                </a:cubicBezTo>
                <a:cubicBezTo>
                  <a:pt x="2873" y="813"/>
                  <a:pt x="2997" y="678"/>
                  <a:pt x="2997" y="678"/>
                </a:cubicBezTo>
                <a:cubicBezTo>
                  <a:pt x="2994" y="660"/>
                  <a:pt x="3091" y="526"/>
                  <a:pt x="3081" y="510"/>
                </a:cubicBezTo>
                <a:cubicBezTo>
                  <a:pt x="3154" y="451"/>
                  <a:pt x="3271" y="433"/>
                  <a:pt x="3333" y="378"/>
                </a:cubicBezTo>
                <a:cubicBezTo>
                  <a:pt x="3525" y="270"/>
                  <a:pt x="3463" y="290"/>
                  <a:pt x="3477" y="234"/>
                </a:cubicBezTo>
                <a:cubicBezTo>
                  <a:pt x="3513" y="234"/>
                  <a:pt x="3391" y="10"/>
                  <a:pt x="3381" y="6"/>
                </a:cubicBezTo>
                <a:cubicBezTo>
                  <a:pt x="3365" y="0"/>
                  <a:pt x="3289" y="6"/>
                  <a:pt x="3261" y="42"/>
                </a:cubicBezTo>
                <a:cubicBezTo>
                  <a:pt x="3233" y="78"/>
                  <a:pt x="3233" y="173"/>
                  <a:pt x="3210" y="225"/>
                </a:cubicBezTo>
                <a:cubicBezTo>
                  <a:pt x="3210" y="231"/>
                  <a:pt x="3187" y="332"/>
                  <a:pt x="3120" y="354"/>
                </a:cubicBezTo>
                <a:cubicBezTo>
                  <a:pt x="3004" y="394"/>
                  <a:pt x="3181" y="331"/>
                  <a:pt x="3056" y="387"/>
                </a:cubicBezTo>
                <a:cubicBezTo>
                  <a:pt x="3036" y="395"/>
                  <a:pt x="2992" y="408"/>
                  <a:pt x="2992" y="408"/>
                </a:cubicBezTo>
                <a:cubicBezTo>
                  <a:pt x="2954" y="466"/>
                  <a:pt x="2994" y="422"/>
                  <a:pt x="2917" y="451"/>
                </a:cubicBezTo>
                <a:cubicBezTo>
                  <a:pt x="2886" y="463"/>
                  <a:pt x="2879" y="484"/>
                  <a:pt x="2853" y="504"/>
                </a:cubicBezTo>
                <a:cubicBezTo>
                  <a:pt x="2833" y="521"/>
                  <a:pt x="2788" y="547"/>
                  <a:pt x="2788" y="547"/>
                </a:cubicBezTo>
                <a:cubicBezTo>
                  <a:pt x="2782" y="558"/>
                  <a:pt x="2771" y="567"/>
                  <a:pt x="2767" y="580"/>
                </a:cubicBezTo>
                <a:cubicBezTo>
                  <a:pt x="2760" y="603"/>
                  <a:pt x="2768" y="632"/>
                  <a:pt x="2756" y="654"/>
                </a:cubicBezTo>
                <a:cubicBezTo>
                  <a:pt x="2755" y="657"/>
                  <a:pt x="2694" y="674"/>
                  <a:pt x="2682" y="676"/>
                </a:cubicBezTo>
                <a:cubicBezTo>
                  <a:pt x="2649" y="681"/>
                  <a:pt x="2617" y="683"/>
                  <a:pt x="2585" y="686"/>
                </a:cubicBezTo>
                <a:cubicBezTo>
                  <a:pt x="2575" y="694"/>
                  <a:pt x="2561" y="698"/>
                  <a:pt x="2553" y="708"/>
                </a:cubicBezTo>
                <a:cubicBezTo>
                  <a:pt x="2512" y="760"/>
                  <a:pt x="2581" y="727"/>
                  <a:pt x="2511" y="751"/>
                </a:cubicBezTo>
                <a:cubicBezTo>
                  <a:pt x="2476" y="802"/>
                  <a:pt x="2502" y="778"/>
                  <a:pt x="2425" y="804"/>
                </a:cubicBezTo>
                <a:cubicBezTo>
                  <a:pt x="2414" y="808"/>
                  <a:pt x="2393" y="815"/>
                  <a:pt x="2393" y="815"/>
                </a:cubicBezTo>
                <a:cubicBezTo>
                  <a:pt x="2369" y="886"/>
                  <a:pt x="2397" y="917"/>
                  <a:pt x="2339" y="975"/>
                </a:cubicBezTo>
                <a:cubicBezTo>
                  <a:pt x="2311" y="972"/>
                  <a:pt x="2278" y="981"/>
                  <a:pt x="2253" y="965"/>
                </a:cubicBezTo>
                <a:cubicBezTo>
                  <a:pt x="2243" y="957"/>
                  <a:pt x="2270" y="944"/>
                  <a:pt x="2275" y="933"/>
                </a:cubicBezTo>
                <a:cubicBezTo>
                  <a:pt x="2303" y="868"/>
                  <a:pt x="2262" y="906"/>
                  <a:pt x="2318" y="868"/>
                </a:cubicBezTo>
                <a:cubicBezTo>
                  <a:pt x="2311" y="847"/>
                  <a:pt x="2303" y="826"/>
                  <a:pt x="2296" y="804"/>
                </a:cubicBezTo>
                <a:cubicBezTo>
                  <a:pt x="2282" y="762"/>
                  <a:pt x="2296" y="776"/>
                  <a:pt x="2253" y="762"/>
                </a:cubicBezTo>
                <a:cubicBezTo>
                  <a:pt x="2250" y="747"/>
                  <a:pt x="2249" y="732"/>
                  <a:pt x="2243" y="718"/>
                </a:cubicBezTo>
                <a:cubicBezTo>
                  <a:pt x="2238" y="707"/>
                  <a:pt x="2221" y="699"/>
                  <a:pt x="2221" y="686"/>
                </a:cubicBezTo>
                <a:cubicBezTo>
                  <a:pt x="2221" y="629"/>
                  <a:pt x="2288" y="609"/>
                  <a:pt x="2329" y="601"/>
                </a:cubicBezTo>
                <a:cubicBezTo>
                  <a:pt x="2240" y="512"/>
                  <a:pt x="2284" y="561"/>
                  <a:pt x="2200" y="504"/>
                </a:cubicBezTo>
                <a:cubicBezTo>
                  <a:pt x="2181" y="475"/>
                  <a:pt x="2181" y="466"/>
                  <a:pt x="2147" y="451"/>
                </a:cubicBezTo>
                <a:cubicBezTo>
                  <a:pt x="2126" y="442"/>
                  <a:pt x="2082" y="430"/>
                  <a:pt x="2082" y="430"/>
                </a:cubicBezTo>
                <a:cubicBezTo>
                  <a:pt x="2074" y="405"/>
                  <a:pt x="2070" y="375"/>
                  <a:pt x="2040" y="365"/>
                </a:cubicBezTo>
                <a:cubicBezTo>
                  <a:pt x="2029" y="362"/>
                  <a:pt x="2018" y="372"/>
                  <a:pt x="2008" y="376"/>
                </a:cubicBezTo>
                <a:cubicBezTo>
                  <a:pt x="1979" y="372"/>
                  <a:pt x="1950" y="371"/>
                  <a:pt x="1922" y="365"/>
                </a:cubicBezTo>
                <a:cubicBezTo>
                  <a:pt x="1911" y="363"/>
                  <a:pt x="1892" y="365"/>
                  <a:pt x="1890" y="354"/>
                </a:cubicBezTo>
                <a:cubicBezTo>
                  <a:pt x="1887" y="342"/>
                  <a:pt x="1904" y="333"/>
                  <a:pt x="1911" y="322"/>
                </a:cubicBezTo>
                <a:cubicBezTo>
                  <a:pt x="1886" y="319"/>
                  <a:pt x="1859" y="321"/>
                  <a:pt x="1836" y="312"/>
                </a:cubicBezTo>
                <a:cubicBezTo>
                  <a:pt x="1812" y="303"/>
                  <a:pt x="1793" y="283"/>
                  <a:pt x="1772" y="269"/>
                </a:cubicBezTo>
                <a:cubicBezTo>
                  <a:pt x="1750" y="254"/>
                  <a:pt x="1722" y="256"/>
                  <a:pt x="1697" y="248"/>
                </a:cubicBezTo>
                <a:cubicBezTo>
                  <a:pt x="1644" y="266"/>
                  <a:pt x="1655" y="289"/>
                  <a:pt x="1644" y="344"/>
                </a:cubicBezTo>
                <a:cubicBezTo>
                  <a:pt x="1595" y="328"/>
                  <a:pt x="1538" y="337"/>
                  <a:pt x="1494" y="312"/>
                </a:cubicBezTo>
                <a:cubicBezTo>
                  <a:pt x="1472" y="300"/>
                  <a:pt x="1454" y="277"/>
                  <a:pt x="1429" y="269"/>
                </a:cubicBezTo>
                <a:cubicBezTo>
                  <a:pt x="1375" y="251"/>
                  <a:pt x="1327" y="244"/>
                  <a:pt x="1269" y="237"/>
                </a:cubicBezTo>
                <a:cubicBezTo>
                  <a:pt x="1215" y="219"/>
                  <a:pt x="1237" y="201"/>
                  <a:pt x="1183" y="183"/>
                </a:cubicBezTo>
                <a:cubicBezTo>
                  <a:pt x="1103" y="186"/>
                  <a:pt x="865" y="296"/>
                  <a:pt x="717" y="306"/>
                </a:cubicBezTo>
                <a:cubicBezTo>
                  <a:pt x="569" y="316"/>
                  <a:pt x="397" y="254"/>
                  <a:pt x="297" y="246"/>
                </a:cubicBezTo>
                <a:cubicBezTo>
                  <a:pt x="246" y="245"/>
                  <a:pt x="117" y="258"/>
                  <a:pt x="117" y="258"/>
                </a:cubicBezTo>
                <a:cubicBezTo>
                  <a:pt x="109" y="296"/>
                  <a:pt x="6" y="324"/>
                  <a:pt x="21" y="414"/>
                </a:cubicBez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2903040" y="1649520"/>
            <a:ext cx="5076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416640" y="4970520"/>
            <a:ext cx="10065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 name=""/>
          <p:cNvSpPr/>
          <p:nvPr/>
        </p:nvSpPr>
        <p:spPr>
          <a:xfrm>
            <a:off x="1334880" y="169560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SPAIN</a:t>
            </a:r>
            <a:endParaRPr b="0" lang="en-US" sz="1200" spc="-1" strike="noStrike">
              <a:solidFill>
                <a:srgbClr val="000000"/>
              </a:solidFill>
              <a:latin typeface="Arial"/>
            </a:endParaRPr>
          </a:p>
        </p:txBody>
      </p:sp>
      <p:sp>
        <p:nvSpPr>
          <p:cNvPr id="115" name=""/>
          <p:cNvSpPr/>
          <p:nvPr/>
        </p:nvSpPr>
        <p:spPr>
          <a:xfrm>
            <a:off x="3088440" y="1353960"/>
            <a:ext cx="138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GLISH CLAIM</a:t>
            </a:r>
            <a:endParaRPr b="0" lang="en-US" sz="1200" spc="-1" strike="noStrike">
              <a:solidFill>
                <a:srgbClr val="000000"/>
              </a:solidFill>
              <a:latin typeface="Arial"/>
            </a:endParaRPr>
          </a:p>
        </p:txBody>
      </p:sp>
      <p:sp>
        <p:nvSpPr>
          <p:cNvPr id="116" name=""/>
          <p:cNvSpPr/>
          <p:nvPr/>
        </p:nvSpPr>
        <p:spPr>
          <a:xfrm>
            <a:off x="6972480" y="3695760"/>
            <a:ext cx="1295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GLISH COLONIES</a:t>
            </a:r>
            <a:endParaRPr b="0" lang="en-US" sz="1200" spc="-1" strike="noStrike">
              <a:solidFill>
                <a:srgbClr val="000000"/>
              </a:solidFill>
              <a:latin typeface="Arial"/>
            </a:endParaRPr>
          </a:p>
        </p:txBody>
      </p:sp>
      <p:sp>
        <p:nvSpPr>
          <p:cNvPr id="117" name=""/>
          <p:cNvSpPr/>
          <p:nvPr/>
        </p:nvSpPr>
        <p:spPr>
          <a:xfrm>
            <a:off x="7503840" y="510696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SPAIN</a:t>
            </a:r>
            <a:endParaRPr b="0" lang="en-US" sz="1200" spc="-1" strike="noStrike">
              <a:solidFill>
                <a:srgbClr val="000000"/>
              </a:solidFill>
              <a:latin typeface="Arial"/>
            </a:endParaRPr>
          </a:p>
        </p:txBody>
      </p:sp>
      <p:sp>
        <p:nvSpPr>
          <p:cNvPr id="118" name=""/>
          <p:cNvSpPr/>
          <p:nvPr/>
        </p:nvSpPr>
        <p:spPr>
          <a:xfrm>
            <a:off x="4195080" y="3154320"/>
            <a:ext cx="190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FRANCE</a:t>
            </a:r>
            <a:endParaRPr b="0" lang="en-US" sz="2000" spc="-1" strike="noStrike">
              <a:solidFill>
                <a:srgbClr val="000000"/>
              </a:solidFill>
              <a:latin typeface="Arial"/>
            </a:endParaRPr>
          </a:p>
        </p:txBody>
      </p:sp>
      <p:sp>
        <p:nvSpPr>
          <p:cNvPr id="119" name="PlaceHolder 2"/>
          <p:cNvSpPr>
            <a:spLocks noGrp="1"/>
          </p:cNvSpPr>
          <p:nvPr>
            <p:ph/>
          </p:nvPr>
        </p:nvSpPr>
        <p:spPr>
          <a:xfrm>
            <a:off x="247680" y="4743000"/>
            <a:ext cx="3409920" cy="1668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rench explored and claimed a large area of the future United States.</a:t>
            </a:r>
            <a:endParaRPr b="0" lang="en-US" sz="2800" spc="-1" strike="noStrike">
              <a:solidFill>
                <a:srgbClr val="ffffff"/>
              </a:solidFill>
              <a:latin typeface="Times New Roman"/>
            </a:endParaRPr>
          </a:p>
        </p:txBody>
      </p:sp>
      <p:sp>
        <p:nvSpPr>
          <p:cNvPr id="120" name=""/>
          <p:cNvSpPr/>
          <p:nvPr/>
        </p:nvSpPr>
        <p:spPr>
          <a:xfrm>
            <a:off x="1333440" y="2637000"/>
            <a:ext cx="3467160" cy="126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nd groups from France also immigrated to the U.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xit" presetID="10">
                                  <p:stCondLst>
                                    <p:cond delay="0"/>
                                  </p:stCondLst>
                                  <p:childTnLst>
                                    <p:animEffect filter="fade" transition="out">
                                      <p:cBhvr additive="repl">
                                        <p:cTn id="44" dur="500"/>
                                        <p:tgtEl>
                                          <p:spTgt spid="120"/>
                                        </p:tgtEl>
                                      </p:cBhvr>
                                    </p:animEffect>
                                    <p:set>
                                      <p:cBhvr>
                                        <p:cTn id="45" dur="1" fill="hold">
                                          <p:stCondLst>
                                            <p:cond delay="499"/>
                                          </p:stCondLst>
                                        </p:cTn>
                                        <p:tgtEl>
                                          <p:spTgt spid="120"/>
                                        </p:tgtEl>
                                        <p:attrNameLst>
                                          <p:attrName>style.visibility</p:attrName>
                                        </p:attrNameLst>
                                      </p:cBhvr>
                                      <p:to>
                                        <p:strVal val="hidden"/>
                                      </p:to>
                                    </p:set>
                                  </p:childTnLst>
                                </p:cTn>
                              </p:par>
                            </p:childTnLst>
                          </p:cTn>
                        </p:par>
                        <p:par>
                          <p:cTn id="46" fill="hold">
                            <p:stCondLst>
                              <p:cond delay="500"/>
                            </p:stCondLst>
                            <p:childTnLst>
                              <p:par>
                                <p:cTn id="47" nodeType="afterEffect" fill="hold" presetClass="entr" presetID="10">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9" dur="500"/>
                                        <p:tgtEl>
                                          <p:spTgt spid="119">
                                            <p:txEl>
                                              <p:pRg st="0" end="0"/>
                                            </p:txEl>
                                          </p:spTgt>
                                        </p:tgtEl>
                                      </p:cBhvr>
                                    </p:animEffect>
                                  </p:childTnLst>
                                </p:cTn>
                              </p:par>
                            </p:childTnLst>
                          </p:cTn>
                        </p:par>
                        <p:par>
                          <p:cTn id="50" fill="hold">
                            <p:stCondLst>
                              <p:cond delay="1000"/>
                            </p:stCondLst>
                            <p:childTnLst>
                              <p:par>
                                <p:cTn id="51" nodeType="afterEffect" fill="hold" presetClass="entr" presetID="10">
                                  <p:stCondLst>
                                    <p:cond delay="0"/>
                                  </p:stCondLst>
                                  <p:childTnLst>
                                    <p:set>
                                      <p:cBhvr>
                                        <p:cTn id="52" dur="1" fill="hold">
                                          <p:stCondLst>
                                            <p:cond delay="0"/>
                                          </p:stCondLst>
                                        </p:cTn>
                                        <p:tgtEl>
                                          <p:spTgt spid="111"/>
                                        </p:tgtEl>
                                        <p:attrNameLst>
                                          <p:attrName>style.visibility</p:attrName>
                                        </p:attrNameLst>
                                      </p:cBhvr>
                                      <p:to>
                                        <p:strVal val="visible"/>
                                      </p:to>
                                    </p:set>
                                    <p:animEffect filter="fade" transition="in">
                                      <p:cBhvr additive="repl">
                                        <p:cTn id="53" dur="1000"/>
                                        <p:tgtEl>
                                          <p:spTgt spid="111"/>
                                        </p:tgtEl>
                                      </p:cBhvr>
                                    </p:animEffect>
                                  </p:childTnLst>
                                </p:cTn>
                              </p:par>
                            </p:childTnLst>
                          </p:cTn>
                        </p:par>
                        <p:par>
                          <p:cTn id="54" fill="hold">
                            <p:stCondLst>
                              <p:cond delay="2000"/>
                            </p:stCondLst>
                            <p:childTnLst>
                              <p:par>
                                <p:cTn id="55" nodeType="afterEffect" fill="hold" presetClass="entr" presetID="10">
                                  <p:stCondLst>
                                    <p:cond delay="0"/>
                                  </p:stCondLst>
                                  <p:childTnLst>
                                    <p:set>
                                      <p:cBhvr>
                                        <p:cTn id="56" dur="1" fill="hold">
                                          <p:stCondLst>
                                            <p:cond delay="0"/>
                                          </p:stCondLst>
                                        </p:cTn>
                                        <p:tgtEl>
                                          <p:spTgt spid="118"/>
                                        </p:tgtEl>
                                        <p:attrNameLst>
                                          <p:attrName>style.visibility</p:attrName>
                                        </p:attrNameLst>
                                      </p:cBhvr>
                                      <p:to>
                                        <p:strVal val="visible"/>
                                      </p:to>
                                    </p:set>
                                    <p:animEffect filter="fade" transition="in">
                                      <p:cBhvr additive="repl">
                                        <p:cTn id="57" dur="1000"/>
                                        <p:tgtEl>
                                          <p:spTgt spid="118"/>
                                        </p:tgtEl>
                                      </p:cBhvr>
                                    </p:animEffect>
                                  </p:childTnLst>
                                </p:cTn>
                              </p:par>
                            </p:childTnLst>
                          </p:cTn>
                        </p:par>
                        <p:par>
                          <p:cTn id="58" fill="hold">
                            <p:stCondLst>
                              <p:cond delay="3000"/>
                            </p:stCondLst>
                            <p:childTnLst>
                              <p:par>
                                <p:cTn id="59" nodeType="afterEffect" fill="hold" presetClass="entr" presetID="10">
                                  <p:stCondLst>
                                    <p:cond delay="1000"/>
                                  </p:stCondLst>
                                  <p:childTnLst>
                                    <p:set>
                                      <p:cBhvr>
                                        <p:cTn id="60" dur="1" fill="hold">
                                          <p:stCondLst>
                                            <p:cond delay="0"/>
                                          </p:stCondLst>
                                        </p:cTn>
                                        <p:tgtEl>
                                          <p:spTgt spid="112"/>
                                        </p:tgtEl>
                                        <p:attrNameLst>
                                          <p:attrName>style.visibility</p:attrName>
                                        </p:attrNameLst>
                                      </p:cBhvr>
                                      <p:to>
                                        <p:strVal val="visible"/>
                                      </p:to>
                                    </p:set>
                                    <p:animEffect filter="fade" transition="in">
                                      <p:cBhvr additive="repl">
                                        <p:cTn id="61" dur="1000"/>
                                        <p:tgtEl>
                                          <p:spTgt spid="112"/>
                                        </p:tgtEl>
                                      </p:cBhvr>
                                    </p:animEffect>
                                  </p:childTnLst>
                                </p:cTn>
                              </p:par>
                              <p:par>
                                <p:cTn id="62" nodeType="withEffect" fill="hold" presetClass="entr" presetID="10">
                                  <p:stCondLst>
                                    <p:cond delay="1000"/>
                                  </p:stCondLst>
                                  <p:childTnLst>
                                    <p:set>
                                      <p:cBhvr>
                                        <p:cTn id="63" dur="1" fill="hold">
                                          <p:stCondLst>
                                            <p:cond delay="0"/>
                                          </p:stCondLst>
                                        </p:cTn>
                                        <p:tgtEl>
                                          <p:spTgt spid="113"/>
                                        </p:tgtEl>
                                        <p:attrNameLst>
                                          <p:attrName>style.visibility</p:attrName>
                                        </p:attrNameLst>
                                      </p:cBhvr>
                                      <p:to>
                                        <p:strVal val="visible"/>
                                      </p:to>
                                    </p:set>
                                    <p:animEffect filter="fade" transition="in">
                                      <p:cBhvr additive="repl">
                                        <p:cTn id="64" dur="1000"/>
                                        <p:tgtEl>
                                          <p:spTgt spid="113"/>
                                        </p:tgtEl>
                                      </p:cBhvr>
                                    </p:animEffect>
                                  </p:childTnLst>
                                </p:cTn>
                              </p:par>
                              <p:par>
                                <p:cTn id="65" nodeType="withEffect" fill="hold" presetClass="entr" presetID="10">
                                  <p:stCondLst>
                                    <p:cond delay="1000"/>
                                  </p:stCondLst>
                                  <p:childTnLst>
                                    <p:set>
                                      <p:cBhvr>
                                        <p:cTn id="66" dur="1" fill="hold">
                                          <p:stCondLst>
                                            <p:cond delay="0"/>
                                          </p:stCondLst>
                                        </p:cTn>
                                        <p:tgtEl>
                                          <p:spTgt spid="114"/>
                                        </p:tgtEl>
                                        <p:attrNameLst>
                                          <p:attrName>style.visibility</p:attrName>
                                        </p:attrNameLst>
                                      </p:cBhvr>
                                      <p:to>
                                        <p:strVal val="visible"/>
                                      </p:to>
                                    </p:set>
                                    <p:animEffect filter="fade" transition="in">
                                      <p:cBhvr additive="repl">
                                        <p:cTn id="67" dur="1000"/>
                                        <p:tgtEl>
                                          <p:spTgt spid="114"/>
                                        </p:tgtEl>
                                      </p:cBhvr>
                                    </p:animEffect>
                                  </p:childTnLst>
                                </p:cTn>
                              </p:par>
                              <p:par>
                                <p:cTn id="68" nodeType="withEffect" fill="hold" presetClass="entr" presetID="10">
                                  <p:stCondLst>
                                    <p:cond delay="1000"/>
                                  </p:stCondLst>
                                  <p:childTnLst>
                                    <p:set>
                                      <p:cBhvr>
                                        <p:cTn id="69" dur="1" fill="hold">
                                          <p:stCondLst>
                                            <p:cond delay="0"/>
                                          </p:stCondLst>
                                        </p:cTn>
                                        <p:tgtEl>
                                          <p:spTgt spid="115"/>
                                        </p:tgtEl>
                                        <p:attrNameLst>
                                          <p:attrName>style.visibility</p:attrName>
                                        </p:attrNameLst>
                                      </p:cBhvr>
                                      <p:to>
                                        <p:strVal val="visible"/>
                                      </p:to>
                                    </p:set>
                                    <p:animEffect filter="fade" transition="in">
                                      <p:cBhvr additive="repl">
                                        <p:cTn id="70" dur="1000"/>
                                        <p:tgtEl>
                                          <p:spTgt spid="115"/>
                                        </p:tgtEl>
                                      </p:cBhvr>
                                    </p:animEffect>
                                  </p:childTnLst>
                                </p:cTn>
                              </p:par>
                              <p:par>
                                <p:cTn id="71" nodeType="withEffect" fill="hold" presetClass="entr" presetID="10">
                                  <p:stCondLst>
                                    <p:cond delay="1000"/>
                                  </p:stCondLst>
                                  <p:childTnLst>
                                    <p:set>
                                      <p:cBhvr>
                                        <p:cTn id="72" dur="1" fill="hold">
                                          <p:stCondLst>
                                            <p:cond delay="0"/>
                                          </p:stCondLst>
                                        </p:cTn>
                                        <p:tgtEl>
                                          <p:spTgt spid="116"/>
                                        </p:tgtEl>
                                        <p:attrNameLst>
                                          <p:attrName>style.visibility</p:attrName>
                                        </p:attrNameLst>
                                      </p:cBhvr>
                                      <p:to>
                                        <p:strVal val="visible"/>
                                      </p:to>
                                    </p:set>
                                    <p:animEffect filter="fade" transition="in">
                                      <p:cBhvr additive="repl">
                                        <p:cTn id="73" dur="1000"/>
                                        <p:tgtEl>
                                          <p:spTgt spid="116"/>
                                        </p:tgtEl>
                                      </p:cBhvr>
                                    </p:animEffect>
                                  </p:childTnLst>
                                </p:cTn>
                              </p:par>
                              <p:par>
                                <p:cTn id="74" nodeType="withEffect" fill="hold" presetClass="entr" presetID="10">
                                  <p:stCondLst>
                                    <p:cond delay="1000"/>
                                  </p:stCondLst>
                                  <p:childTnLst>
                                    <p:set>
                                      <p:cBhvr>
                                        <p:cTn id="75" dur="1" fill="hold">
                                          <p:stCondLst>
                                            <p:cond delay="0"/>
                                          </p:stCondLst>
                                        </p:cTn>
                                        <p:tgtEl>
                                          <p:spTgt spid="117"/>
                                        </p:tgtEl>
                                        <p:attrNameLst>
                                          <p:attrName>style.visibility</p:attrName>
                                        </p:attrNameLst>
                                      </p:cBhvr>
                                      <p:to>
                                        <p:strVal val="visible"/>
                                      </p:to>
                                    </p:set>
                                    <p:animEffect filter="fade" transition="in">
                                      <p:cBhvr additive="repl">
                                        <p:cTn id="76" dur="1000"/>
                                        <p:tgtEl>
                                          <p:spTgt spid="11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0">
                                  <p:stCondLst>
                                    <p:cond delay="0"/>
                                  </p:stCondLst>
                                  <p:childTnLst>
                                    <p:animEffect filter="fade" transition="out">
                                      <p:cBhvr additive="repl">
                                        <p:cTn id="80" dur="500"/>
                                        <p:tgtEl>
                                          <p:spTgt spid="119">
                                            <p:txEl>
                                              <p:pRg st="0" end="0"/>
                                            </p:txEl>
                                          </p:spTgt>
                                        </p:tgtEl>
                                      </p:cBhvr>
                                    </p:animEffect>
                                    <p:set>
                                      <p:cBhvr>
                                        <p:cTn id="81" dur="1" fill="hold">
                                          <p:stCondLst>
                                            <p:cond delay="499"/>
                                          </p:stCondLst>
                                        </p:cTn>
                                        <p:tgtEl>
                                          <p:spTgt spid="1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04920" y="228600"/>
            <a:ext cx="8610480" cy="636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France</a:t>
            </a:r>
            <a:endParaRPr b="0" lang="en-US" sz="4400" spc="-1" strike="noStrike">
              <a:solidFill>
                <a:srgbClr val="ffffff"/>
              </a:solidFill>
              <a:latin typeface="Times New Roman"/>
            </a:endParaRPr>
          </a:p>
        </p:txBody>
      </p:sp>
      <p:sp>
        <p:nvSpPr>
          <p:cNvPr id="124" name=""/>
          <p:cNvSpPr/>
          <p:nvPr/>
        </p:nvSpPr>
        <p:spPr>
          <a:xfrm>
            <a:off x="873000" y="1260360"/>
            <a:ext cx="8020080" cy="5038920"/>
          </a:xfrm>
          <a:custGeom>
            <a:avLst/>
            <a:gdLst/>
            <a:ahLst/>
            <a:rect l="l" t="t" r="r" b="b"/>
            <a:pathLst>
              <a:path w="5754" h="3615">
                <a:moveTo>
                  <a:pt x="248" y="78"/>
                </a:moveTo>
                <a:cubicBezTo>
                  <a:pt x="244" y="165"/>
                  <a:pt x="246" y="254"/>
                  <a:pt x="235" y="340"/>
                </a:cubicBezTo>
                <a:cubicBezTo>
                  <a:pt x="233" y="355"/>
                  <a:pt x="216" y="365"/>
                  <a:pt x="209" y="379"/>
                </a:cubicBezTo>
                <a:cubicBezTo>
                  <a:pt x="198" y="404"/>
                  <a:pt x="183" y="457"/>
                  <a:pt x="183" y="457"/>
                </a:cubicBezTo>
                <a:cubicBezTo>
                  <a:pt x="173" y="538"/>
                  <a:pt x="193" y="589"/>
                  <a:pt x="118" y="614"/>
                </a:cubicBezTo>
                <a:cubicBezTo>
                  <a:pt x="59" y="673"/>
                  <a:pt x="84" y="636"/>
                  <a:pt x="52" y="731"/>
                </a:cubicBezTo>
                <a:cubicBezTo>
                  <a:pt x="48" y="745"/>
                  <a:pt x="39" y="771"/>
                  <a:pt x="39" y="771"/>
                </a:cubicBezTo>
                <a:cubicBezTo>
                  <a:pt x="17" y="962"/>
                  <a:pt x="9" y="1153"/>
                  <a:pt x="0" y="1345"/>
                </a:cubicBezTo>
                <a:cubicBezTo>
                  <a:pt x="4" y="1372"/>
                  <a:pt x="4" y="1399"/>
                  <a:pt x="13" y="1424"/>
                </a:cubicBezTo>
                <a:cubicBezTo>
                  <a:pt x="19" y="1439"/>
                  <a:pt x="35" y="1448"/>
                  <a:pt x="39" y="1463"/>
                </a:cubicBezTo>
                <a:cubicBezTo>
                  <a:pt x="48" y="1497"/>
                  <a:pt x="48" y="1533"/>
                  <a:pt x="52" y="1567"/>
                </a:cubicBezTo>
                <a:cubicBezTo>
                  <a:pt x="39" y="1634"/>
                  <a:pt x="45" y="1662"/>
                  <a:pt x="65" y="1724"/>
                </a:cubicBezTo>
                <a:cubicBezTo>
                  <a:pt x="87" y="1877"/>
                  <a:pt x="155" y="1994"/>
                  <a:pt x="222" y="2129"/>
                </a:cubicBezTo>
                <a:cubicBezTo>
                  <a:pt x="238" y="2162"/>
                  <a:pt x="254" y="2179"/>
                  <a:pt x="287" y="2194"/>
                </a:cubicBezTo>
                <a:cubicBezTo>
                  <a:pt x="312" y="2205"/>
                  <a:pt x="366" y="2221"/>
                  <a:pt x="366" y="2221"/>
                </a:cubicBezTo>
                <a:cubicBezTo>
                  <a:pt x="392" y="2300"/>
                  <a:pt x="491" y="2454"/>
                  <a:pt x="575" y="2482"/>
                </a:cubicBezTo>
                <a:cubicBezTo>
                  <a:pt x="592" y="2477"/>
                  <a:pt x="611" y="2475"/>
                  <a:pt x="627" y="2469"/>
                </a:cubicBezTo>
                <a:cubicBezTo>
                  <a:pt x="641" y="2462"/>
                  <a:pt x="651" y="2445"/>
                  <a:pt x="666" y="2443"/>
                </a:cubicBezTo>
                <a:cubicBezTo>
                  <a:pt x="730" y="2434"/>
                  <a:pt x="786" y="2505"/>
                  <a:pt x="836" y="2521"/>
                </a:cubicBezTo>
                <a:cubicBezTo>
                  <a:pt x="901" y="2543"/>
                  <a:pt x="961" y="2594"/>
                  <a:pt x="1032" y="2599"/>
                </a:cubicBezTo>
                <a:cubicBezTo>
                  <a:pt x="1084" y="2604"/>
                  <a:pt x="1136" y="2608"/>
                  <a:pt x="1189" y="2612"/>
                </a:cubicBezTo>
                <a:cubicBezTo>
                  <a:pt x="1319" y="2700"/>
                  <a:pt x="1415" y="2657"/>
                  <a:pt x="1607" y="2665"/>
                </a:cubicBezTo>
                <a:cubicBezTo>
                  <a:pt x="1655" y="2681"/>
                  <a:pt x="1693" y="2707"/>
                  <a:pt x="1737" y="2730"/>
                </a:cubicBezTo>
                <a:cubicBezTo>
                  <a:pt x="1759" y="2817"/>
                  <a:pt x="1772" y="2832"/>
                  <a:pt x="1829" y="2900"/>
                </a:cubicBezTo>
                <a:cubicBezTo>
                  <a:pt x="1839" y="2912"/>
                  <a:pt x="1843" y="2929"/>
                  <a:pt x="1855" y="2939"/>
                </a:cubicBezTo>
                <a:cubicBezTo>
                  <a:pt x="1881" y="2960"/>
                  <a:pt x="1917" y="2963"/>
                  <a:pt x="1946" y="2978"/>
                </a:cubicBezTo>
                <a:cubicBezTo>
                  <a:pt x="1963" y="3002"/>
                  <a:pt x="1985" y="3041"/>
                  <a:pt x="2012" y="3057"/>
                </a:cubicBezTo>
                <a:cubicBezTo>
                  <a:pt x="2036" y="3070"/>
                  <a:pt x="2090" y="3083"/>
                  <a:pt x="2090" y="3083"/>
                </a:cubicBezTo>
                <a:cubicBezTo>
                  <a:pt x="2146" y="2999"/>
                  <a:pt x="2162" y="3018"/>
                  <a:pt x="2273" y="3030"/>
                </a:cubicBezTo>
                <a:cubicBezTo>
                  <a:pt x="2336" y="3094"/>
                  <a:pt x="2336" y="3168"/>
                  <a:pt x="2390" y="3239"/>
                </a:cubicBezTo>
                <a:cubicBezTo>
                  <a:pt x="2415" y="3366"/>
                  <a:pt x="2385" y="3255"/>
                  <a:pt x="2430" y="3344"/>
                </a:cubicBezTo>
                <a:cubicBezTo>
                  <a:pt x="2436" y="3356"/>
                  <a:pt x="2433" y="3373"/>
                  <a:pt x="2443" y="3383"/>
                </a:cubicBezTo>
                <a:cubicBezTo>
                  <a:pt x="2464" y="3405"/>
                  <a:pt x="2495" y="3418"/>
                  <a:pt x="2521" y="3435"/>
                </a:cubicBezTo>
                <a:cubicBezTo>
                  <a:pt x="2542" y="3450"/>
                  <a:pt x="2556" y="3470"/>
                  <a:pt x="2573" y="3488"/>
                </a:cubicBezTo>
                <a:cubicBezTo>
                  <a:pt x="2616" y="3615"/>
                  <a:pt x="2633" y="3565"/>
                  <a:pt x="2808" y="3553"/>
                </a:cubicBezTo>
                <a:cubicBezTo>
                  <a:pt x="2795" y="3540"/>
                  <a:pt x="2771" y="3532"/>
                  <a:pt x="2769" y="3514"/>
                </a:cubicBezTo>
                <a:cubicBezTo>
                  <a:pt x="2762" y="3448"/>
                  <a:pt x="2768" y="3382"/>
                  <a:pt x="2782" y="3318"/>
                </a:cubicBezTo>
                <a:cubicBezTo>
                  <a:pt x="2792" y="3276"/>
                  <a:pt x="2833" y="3279"/>
                  <a:pt x="2861" y="3266"/>
                </a:cubicBezTo>
                <a:cubicBezTo>
                  <a:pt x="2913" y="3239"/>
                  <a:pt x="2961" y="3206"/>
                  <a:pt x="3017" y="3187"/>
                </a:cubicBezTo>
                <a:cubicBezTo>
                  <a:pt x="3061" y="3144"/>
                  <a:pt x="3094" y="3136"/>
                  <a:pt x="3148" y="3109"/>
                </a:cubicBezTo>
                <a:cubicBezTo>
                  <a:pt x="3163" y="3047"/>
                  <a:pt x="3150" y="3025"/>
                  <a:pt x="3213" y="3004"/>
                </a:cubicBezTo>
                <a:cubicBezTo>
                  <a:pt x="3366" y="3009"/>
                  <a:pt x="3518" y="3017"/>
                  <a:pt x="3671" y="3017"/>
                </a:cubicBezTo>
                <a:cubicBezTo>
                  <a:pt x="3705" y="3017"/>
                  <a:pt x="3749" y="3027"/>
                  <a:pt x="3775" y="3004"/>
                </a:cubicBezTo>
                <a:cubicBezTo>
                  <a:pt x="3811" y="2974"/>
                  <a:pt x="3734" y="2911"/>
                  <a:pt x="3723" y="2900"/>
                </a:cubicBezTo>
                <a:cubicBezTo>
                  <a:pt x="3836" y="2862"/>
                  <a:pt x="3664" y="2916"/>
                  <a:pt x="3932" y="2874"/>
                </a:cubicBezTo>
                <a:cubicBezTo>
                  <a:pt x="3959" y="2869"/>
                  <a:pt x="3984" y="2856"/>
                  <a:pt x="4010" y="2848"/>
                </a:cubicBezTo>
                <a:cubicBezTo>
                  <a:pt x="4023" y="2843"/>
                  <a:pt x="4049" y="2835"/>
                  <a:pt x="4049" y="2835"/>
                </a:cubicBezTo>
                <a:cubicBezTo>
                  <a:pt x="4215" y="2890"/>
                  <a:pt x="3918" y="2795"/>
                  <a:pt x="4428" y="2861"/>
                </a:cubicBezTo>
                <a:cubicBezTo>
                  <a:pt x="4473" y="2866"/>
                  <a:pt x="4540" y="2934"/>
                  <a:pt x="4572" y="2965"/>
                </a:cubicBezTo>
                <a:cubicBezTo>
                  <a:pt x="4609" y="3076"/>
                  <a:pt x="4524" y="3152"/>
                  <a:pt x="4624" y="3253"/>
                </a:cubicBezTo>
                <a:cubicBezTo>
                  <a:pt x="4662" y="3367"/>
                  <a:pt x="4720" y="3343"/>
                  <a:pt x="4833" y="3357"/>
                </a:cubicBezTo>
                <a:cubicBezTo>
                  <a:pt x="4846" y="3370"/>
                  <a:pt x="4855" y="3391"/>
                  <a:pt x="4872" y="3396"/>
                </a:cubicBezTo>
                <a:cubicBezTo>
                  <a:pt x="4985" y="3429"/>
                  <a:pt x="4929" y="3213"/>
                  <a:pt x="4885" y="3148"/>
                </a:cubicBezTo>
                <a:cubicBezTo>
                  <a:pt x="4866" y="3072"/>
                  <a:pt x="4872" y="3035"/>
                  <a:pt x="4807" y="2991"/>
                </a:cubicBezTo>
                <a:cubicBezTo>
                  <a:pt x="4779" y="2934"/>
                  <a:pt x="4765" y="2875"/>
                  <a:pt x="4729" y="2821"/>
                </a:cubicBezTo>
                <a:cubicBezTo>
                  <a:pt x="4724" y="2795"/>
                  <a:pt x="4721" y="2769"/>
                  <a:pt x="4716" y="2743"/>
                </a:cubicBezTo>
                <a:cubicBezTo>
                  <a:pt x="4712" y="2730"/>
                  <a:pt x="4702" y="2718"/>
                  <a:pt x="4702" y="2704"/>
                </a:cubicBezTo>
                <a:cubicBezTo>
                  <a:pt x="4702" y="2690"/>
                  <a:pt x="4712" y="2678"/>
                  <a:pt x="4716" y="2665"/>
                </a:cubicBezTo>
                <a:cubicBezTo>
                  <a:pt x="4738" y="2562"/>
                  <a:pt x="4745" y="2429"/>
                  <a:pt x="4859" y="2390"/>
                </a:cubicBezTo>
                <a:cubicBezTo>
                  <a:pt x="4880" y="2329"/>
                  <a:pt x="4867" y="2311"/>
                  <a:pt x="4925" y="2273"/>
                </a:cubicBezTo>
                <a:cubicBezTo>
                  <a:pt x="4954" y="2185"/>
                  <a:pt x="5032" y="2150"/>
                  <a:pt x="5081" y="2077"/>
                </a:cubicBezTo>
                <a:cubicBezTo>
                  <a:pt x="5073" y="2064"/>
                  <a:pt x="5055" y="2053"/>
                  <a:pt x="5055" y="2038"/>
                </a:cubicBezTo>
                <a:cubicBezTo>
                  <a:pt x="5055" y="2014"/>
                  <a:pt x="5078" y="1995"/>
                  <a:pt x="5081" y="1972"/>
                </a:cubicBezTo>
                <a:cubicBezTo>
                  <a:pt x="5091" y="1908"/>
                  <a:pt x="5090" y="1842"/>
                  <a:pt x="5094" y="1776"/>
                </a:cubicBezTo>
                <a:cubicBezTo>
                  <a:pt x="5085" y="1636"/>
                  <a:pt x="5115" y="1595"/>
                  <a:pt x="5016" y="1528"/>
                </a:cubicBezTo>
                <a:cubicBezTo>
                  <a:pt x="4984" y="1433"/>
                  <a:pt x="4983" y="1477"/>
                  <a:pt x="5003" y="1398"/>
                </a:cubicBezTo>
                <a:cubicBezTo>
                  <a:pt x="5012" y="1411"/>
                  <a:pt x="5027" y="1422"/>
                  <a:pt x="5029" y="1437"/>
                </a:cubicBezTo>
                <a:cubicBezTo>
                  <a:pt x="5040" y="1525"/>
                  <a:pt x="4978" y="1489"/>
                  <a:pt x="5055" y="1515"/>
                </a:cubicBezTo>
                <a:cubicBezTo>
                  <a:pt x="5140" y="1487"/>
                  <a:pt x="5104" y="1434"/>
                  <a:pt x="5094" y="1345"/>
                </a:cubicBezTo>
                <a:cubicBezTo>
                  <a:pt x="5099" y="1324"/>
                  <a:pt x="5097" y="1300"/>
                  <a:pt x="5107" y="1280"/>
                </a:cubicBezTo>
                <a:cubicBezTo>
                  <a:pt x="5115" y="1266"/>
                  <a:pt x="5138" y="1267"/>
                  <a:pt x="5147" y="1254"/>
                </a:cubicBezTo>
                <a:cubicBezTo>
                  <a:pt x="5161" y="1231"/>
                  <a:pt x="5164" y="1202"/>
                  <a:pt x="5173" y="1176"/>
                </a:cubicBezTo>
                <a:cubicBezTo>
                  <a:pt x="5177" y="1163"/>
                  <a:pt x="5200" y="1169"/>
                  <a:pt x="5212" y="1163"/>
                </a:cubicBezTo>
                <a:cubicBezTo>
                  <a:pt x="5226" y="1156"/>
                  <a:pt x="5236" y="1142"/>
                  <a:pt x="5251" y="1136"/>
                </a:cubicBezTo>
                <a:cubicBezTo>
                  <a:pt x="5289" y="1122"/>
                  <a:pt x="5329" y="1120"/>
                  <a:pt x="5369" y="1110"/>
                </a:cubicBezTo>
                <a:cubicBezTo>
                  <a:pt x="5414" y="1080"/>
                  <a:pt x="5438" y="1071"/>
                  <a:pt x="5460" y="1006"/>
                </a:cubicBezTo>
                <a:cubicBezTo>
                  <a:pt x="5469" y="980"/>
                  <a:pt x="5486" y="927"/>
                  <a:pt x="5486" y="927"/>
                </a:cubicBezTo>
                <a:cubicBezTo>
                  <a:pt x="5482" y="906"/>
                  <a:pt x="5485" y="881"/>
                  <a:pt x="5473" y="862"/>
                </a:cubicBezTo>
                <a:cubicBezTo>
                  <a:pt x="5454" y="831"/>
                  <a:pt x="5395" y="784"/>
                  <a:pt x="5395" y="784"/>
                </a:cubicBezTo>
                <a:cubicBezTo>
                  <a:pt x="5372" y="716"/>
                  <a:pt x="5374" y="693"/>
                  <a:pt x="5434" y="653"/>
                </a:cubicBezTo>
                <a:cubicBezTo>
                  <a:pt x="5438" y="640"/>
                  <a:pt x="5437" y="624"/>
                  <a:pt x="5447" y="614"/>
                </a:cubicBezTo>
                <a:cubicBezTo>
                  <a:pt x="5498" y="563"/>
                  <a:pt x="5594" y="476"/>
                  <a:pt x="5662" y="458"/>
                </a:cubicBezTo>
                <a:cubicBezTo>
                  <a:pt x="5703" y="395"/>
                  <a:pt x="5754" y="388"/>
                  <a:pt x="5682" y="287"/>
                </a:cubicBezTo>
                <a:cubicBezTo>
                  <a:pt x="5659" y="256"/>
                  <a:pt x="5689" y="223"/>
                  <a:pt x="5650" y="218"/>
                </a:cubicBezTo>
                <a:cubicBezTo>
                  <a:pt x="5637" y="180"/>
                  <a:pt x="5622" y="109"/>
                  <a:pt x="5602" y="74"/>
                </a:cubicBezTo>
                <a:cubicBezTo>
                  <a:pt x="5596" y="62"/>
                  <a:pt x="5519" y="90"/>
                  <a:pt x="5506" y="86"/>
                </a:cubicBezTo>
                <a:cubicBezTo>
                  <a:pt x="5419" y="98"/>
                  <a:pt x="5432" y="268"/>
                  <a:pt x="5386" y="338"/>
                </a:cubicBezTo>
                <a:cubicBezTo>
                  <a:pt x="5386" y="345"/>
                  <a:pt x="5359" y="469"/>
                  <a:pt x="5277" y="496"/>
                </a:cubicBezTo>
                <a:cubicBezTo>
                  <a:pt x="5135" y="544"/>
                  <a:pt x="5351" y="468"/>
                  <a:pt x="5199" y="536"/>
                </a:cubicBezTo>
                <a:cubicBezTo>
                  <a:pt x="5174" y="546"/>
                  <a:pt x="5120" y="562"/>
                  <a:pt x="5120" y="562"/>
                </a:cubicBezTo>
                <a:cubicBezTo>
                  <a:pt x="5074" y="632"/>
                  <a:pt x="5123" y="579"/>
                  <a:pt x="5029" y="614"/>
                </a:cubicBezTo>
                <a:cubicBezTo>
                  <a:pt x="4991" y="628"/>
                  <a:pt x="4982" y="654"/>
                  <a:pt x="4951" y="679"/>
                </a:cubicBezTo>
                <a:cubicBezTo>
                  <a:pt x="4926" y="699"/>
                  <a:pt x="4872" y="731"/>
                  <a:pt x="4872" y="731"/>
                </a:cubicBezTo>
                <a:cubicBezTo>
                  <a:pt x="4864" y="745"/>
                  <a:pt x="4851" y="755"/>
                  <a:pt x="4846" y="771"/>
                </a:cubicBezTo>
                <a:cubicBezTo>
                  <a:pt x="4837" y="800"/>
                  <a:pt x="4847" y="835"/>
                  <a:pt x="4833" y="862"/>
                </a:cubicBezTo>
                <a:cubicBezTo>
                  <a:pt x="4831" y="865"/>
                  <a:pt x="4757" y="886"/>
                  <a:pt x="4742" y="888"/>
                </a:cubicBezTo>
                <a:cubicBezTo>
                  <a:pt x="4702" y="895"/>
                  <a:pt x="4663" y="897"/>
                  <a:pt x="4624" y="901"/>
                </a:cubicBezTo>
                <a:cubicBezTo>
                  <a:pt x="4611" y="910"/>
                  <a:pt x="4595" y="915"/>
                  <a:pt x="4585" y="927"/>
                </a:cubicBezTo>
                <a:cubicBezTo>
                  <a:pt x="4534" y="991"/>
                  <a:pt x="4619" y="951"/>
                  <a:pt x="4533" y="980"/>
                </a:cubicBezTo>
                <a:cubicBezTo>
                  <a:pt x="4491" y="1042"/>
                  <a:pt x="4522" y="1013"/>
                  <a:pt x="4428" y="1045"/>
                </a:cubicBezTo>
                <a:cubicBezTo>
                  <a:pt x="4415" y="1049"/>
                  <a:pt x="4389" y="1058"/>
                  <a:pt x="4389" y="1058"/>
                </a:cubicBezTo>
                <a:cubicBezTo>
                  <a:pt x="4360" y="1145"/>
                  <a:pt x="4394" y="1183"/>
                  <a:pt x="4324" y="1254"/>
                </a:cubicBezTo>
                <a:cubicBezTo>
                  <a:pt x="4289" y="1250"/>
                  <a:pt x="4249" y="1261"/>
                  <a:pt x="4219" y="1241"/>
                </a:cubicBezTo>
                <a:cubicBezTo>
                  <a:pt x="4206" y="1232"/>
                  <a:pt x="4239" y="1216"/>
                  <a:pt x="4245" y="1202"/>
                </a:cubicBezTo>
                <a:cubicBezTo>
                  <a:pt x="4279" y="1123"/>
                  <a:pt x="4229" y="1169"/>
                  <a:pt x="4298" y="1123"/>
                </a:cubicBezTo>
                <a:cubicBezTo>
                  <a:pt x="4289" y="1097"/>
                  <a:pt x="4280" y="1071"/>
                  <a:pt x="4271" y="1045"/>
                </a:cubicBezTo>
                <a:cubicBezTo>
                  <a:pt x="4254" y="993"/>
                  <a:pt x="4271" y="1010"/>
                  <a:pt x="4219" y="993"/>
                </a:cubicBezTo>
                <a:cubicBezTo>
                  <a:pt x="4215" y="975"/>
                  <a:pt x="4213" y="957"/>
                  <a:pt x="4206" y="940"/>
                </a:cubicBezTo>
                <a:cubicBezTo>
                  <a:pt x="4200" y="926"/>
                  <a:pt x="4180" y="917"/>
                  <a:pt x="4180" y="901"/>
                </a:cubicBezTo>
                <a:cubicBezTo>
                  <a:pt x="4180" y="831"/>
                  <a:pt x="4261" y="807"/>
                  <a:pt x="4311" y="797"/>
                </a:cubicBezTo>
                <a:cubicBezTo>
                  <a:pt x="4202" y="688"/>
                  <a:pt x="4256" y="748"/>
                  <a:pt x="4154" y="679"/>
                </a:cubicBezTo>
                <a:cubicBezTo>
                  <a:pt x="4130" y="643"/>
                  <a:pt x="4130" y="632"/>
                  <a:pt x="4089" y="614"/>
                </a:cubicBezTo>
                <a:cubicBezTo>
                  <a:pt x="4064" y="603"/>
                  <a:pt x="4010" y="588"/>
                  <a:pt x="4010" y="588"/>
                </a:cubicBezTo>
                <a:cubicBezTo>
                  <a:pt x="4000" y="558"/>
                  <a:pt x="3995" y="521"/>
                  <a:pt x="3958" y="509"/>
                </a:cubicBezTo>
                <a:cubicBezTo>
                  <a:pt x="3945" y="505"/>
                  <a:pt x="3932" y="518"/>
                  <a:pt x="3919" y="522"/>
                </a:cubicBezTo>
                <a:cubicBezTo>
                  <a:pt x="3884" y="518"/>
                  <a:pt x="3849" y="516"/>
                  <a:pt x="3814" y="509"/>
                </a:cubicBezTo>
                <a:cubicBezTo>
                  <a:pt x="3801" y="507"/>
                  <a:pt x="3778" y="509"/>
                  <a:pt x="3775" y="496"/>
                </a:cubicBezTo>
                <a:cubicBezTo>
                  <a:pt x="3772" y="481"/>
                  <a:pt x="3792" y="470"/>
                  <a:pt x="3801" y="457"/>
                </a:cubicBezTo>
                <a:cubicBezTo>
                  <a:pt x="3771" y="453"/>
                  <a:pt x="3738" y="455"/>
                  <a:pt x="3710" y="444"/>
                </a:cubicBezTo>
                <a:cubicBezTo>
                  <a:pt x="3680" y="433"/>
                  <a:pt x="3657" y="409"/>
                  <a:pt x="3631" y="392"/>
                </a:cubicBezTo>
                <a:cubicBezTo>
                  <a:pt x="3605" y="374"/>
                  <a:pt x="3570" y="376"/>
                  <a:pt x="3540" y="366"/>
                </a:cubicBezTo>
                <a:cubicBezTo>
                  <a:pt x="3475" y="388"/>
                  <a:pt x="3488" y="416"/>
                  <a:pt x="3475" y="483"/>
                </a:cubicBezTo>
                <a:cubicBezTo>
                  <a:pt x="3415" y="464"/>
                  <a:pt x="3346" y="475"/>
                  <a:pt x="3292" y="444"/>
                </a:cubicBezTo>
                <a:cubicBezTo>
                  <a:pt x="3265" y="429"/>
                  <a:pt x="3243" y="402"/>
                  <a:pt x="3213" y="392"/>
                </a:cubicBezTo>
                <a:cubicBezTo>
                  <a:pt x="3147" y="370"/>
                  <a:pt x="3088" y="361"/>
                  <a:pt x="3017" y="353"/>
                </a:cubicBezTo>
                <a:cubicBezTo>
                  <a:pt x="2952" y="331"/>
                  <a:pt x="2978" y="309"/>
                  <a:pt x="2913" y="287"/>
                </a:cubicBezTo>
                <a:cubicBezTo>
                  <a:pt x="2328" y="317"/>
                  <a:pt x="2562" y="310"/>
                  <a:pt x="1554" y="287"/>
                </a:cubicBezTo>
                <a:cubicBezTo>
                  <a:pt x="1492" y="286"/>
                  <a:pt x="1372" y="248"/>
                  <a:pt x="1372" y="248"/>
                </a:cubicBezTo>
                <a:cubicBezTo>
                  <a:pt x="1295" y="198"/>
                  <a:pt x="1369" y="238"/>
                  <a:pt x="1241" y="209"/>
                </a:cubicBezTo>
                <a:cubicBezTo>
                  <a:pt x="1171" y="193"/>
                  <a:pt x="1101" y="163"/>
                  <a:pt x="1032" y="144"/>
                </a:cubicBezTo>
                <a:cubicBezTo>
                  <a:pt x="1000" y="135"/>
                  <a:pt x="924" y="120"/>
                  <a:pt x="901" y="104"/>
                </a:cubicBezTo>
                <a:cubicBezTo>
                  <a:pt x="800" y="37"/>
                  <a:pt x="852" y="62"/>
                  <a:pt x="745" y="26"/>
                </a:cubicBezTo>
                <a:cubicBezTo>
                  <a:pt x="731" y="22"/>
                  <a:pt x="718" y="17"/>
                  <a:pt x="705" y="13"/>
                </a:cubicBezTo>
                <a:cubicBezTo>
                  <a:pt x="692" y="9"/>
                  <a:pt x="666" y="0"/>
                  <a:pt x="666" y="0"/>
                </a:cubicBezTo>
                <a:cubicBezTo>
                  <a:pt x="588" y="4"/>
                  <a:pt x="509" y="5"/>
                  <a:pt x="431" y="13"/>
                </a:cubicBezTo>
                <a:cubicBezTo>
                  <a:pt x="414" y="14"/>
                  <a:pt x="392" y="13"/>
                  <a:pt x="379" y="26"/>
                </a:cubicBezTo>
                <a:cubicBezTo>
                  <a:pt x="288" y="116"/>
                  <a:pt x="440" y="53"/>
                  <a:pt x="327" y="91"/>
                </a:cubicBezTo>
                <a:cubicBezTo>
                  <a:pt x="266" y="76"/>
                  <a:pt x="292" y="78"/>
                  <a:pt x="248" y="78"/>
                </a:cubicBez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911320" y="1341360"/>
            <a:ext cx="5999400" cy="4354560"/>
          </a:xfrm>
          <a:custGeom>
            <a:avLst/>
            <a:gdLst/>
            <a:ahLst/>
            <a:rect l="l" t="t" r="r" b="b"/>
            <a:pathLst>
              <a:path w="3525" h="2559">
                <a:moveTo>
                  <a:pt x="21" y="414"/>
                </a:moveTo>
                <a:cubicBezTo>
                  <a:pt x="19" y="426"/>
                  <a:pt x="15" y="678"/>
                  <a:pt x="9" y="690"/>
                </a:cubicBezTo>
                <a:cubicBezTo>
                  <a:pt x="0" y="710"/>
                  <a:pt x="117" y="798"/>
                  <a:pt x="117" y="798"/>
                </a:cubicBezTo>
                <a:cubicBezTo>
                  <a:pt x="109" y="865"/>
                  <a:pt x="118" y="898"/>
                  <a:pt x="57" y="918"/>
                </a:cubicBezTo>
                <a:cubicBezTo>
                  <a:pt x="8" y="966"/>
                  <a:pt x="119" y="1200"/>
                  <a:pt x="93" y="1278"/>
                </a:cubicBezTo>
                <a:cubicBezTo>
                  <a:pt x="89" y="1289"/>
                  <a:pt x="261" y="1566"/>
                  <a:pt x="261" y="1566"/>
                </a:cubicBezTo>
                <a:cubicBezTo>
                  <a:pt x="491" y="1839"/>
                  <a:pt x="341" y="1864"/>
                  <a:pt x="465" y="2058"/>
                </a:cubicBezTo>
                <a:cubicBezTo>
                  <a:pt x="548" y="2197"/>
                  <a:pt x="680" y="2125"/>
                  <a:pt x="753" y="2166"/>
                </a:cubicBezTo>
                <a:cubicBezTo>
                  <a:pt x="799" y="2097"/>
                  <a:pt x="914" y="2264"/>
                  <a:pt x="1005" y="2274"/>
                </a:cubicBezTo>
                <a:cubicBezTo>
                  <a:pt x="1119" y="2338"/>
                  <a:pt x="1185" y="2524"/>
                  <a:pt x="1269" y="2559"/>
                </a:cubicBezTo>
                <a:cubicBezTo>
                  <a:pt x="1305" y="2524"/>
                  <a:pt x="1332" y="2518"/>
                  <a:pt x="1376" y="2495"/>
                </a:cubicBezTo>
                <a:cubicBezTo>
                  <a:pt x="1388" y="2445"/>
                  <a:pt x="1378" y="2427"/>
                  <a:pt x="1429" y="2409"/>
                </a:cubicBezTo>
                <a:cubicBezTo>
                  <a:pt x="1555" y="2413"/>
                  <a:pt x="1679" y="2420"/>
                  <a:pt x="1804" y="2420"/>
                </a:cubicBezTo>
                <a:cubicBezTo>
                  <a:pt x="1832" y="2420"/>
                  <a:pt x="1868" y="2428"/>
                  <a:pt x="1890" y="2409"/>
                </a:cubicBezTo>
                <a:cubicBezTo>
                  <a:pt x="1919" y="2385"/>
                  <a:pt x="1856" y="2333"/>
                  <a:pt x="1847" y="2324"/>
                </a:cubicBezTo>
                <a:cubicBezTo>
                  <a:pt x="1940" y="2293"/>
                  <a:pt x="1734" y="2200"/>
                  <a:pt x="1953" y="2166"/>
                </a:cubicBezTo>
                <a:cubicBezTo>
                  <a:pt x="2029" y="2138"/>
                  <a:pt x="2105" y="2104"/>
                  <a:pt x="2169" y="2070"/>
                </a:cubicBezTo>
                <a:cubicBezTo>
                  <a:pt x="2251" y="2068"/>
                  <a:pt x="2221" y="1895"/>
                  <a:pt x="2301" y="1854"/>
                </a:cubicBezTo>
                <a:cubicBezTo>
                  <a:pt x="2319" y="1769"/>
                  <a:pt x="2255" y="1682"/>
                  <a:pt x="2349" y="1650"/>
                </a:cubicBezTo>
                <a:cubicBezTo>
                  <a:pt x="2366" y="1600"/>
                  <a:pt x="2361" y="1334"/>
                  <a:pt x="2409" y="1302"/>
                </a:cubicBezTo>
                <a:cubicBezTo>
                  <a:pt x="2433" y="1230"/>
                  <a:pt x="2440" y="1254"/>
                  <a:pt x="2481" y="1194"/>
                </a:cubicBezTo>
                <a:cubicBezTo>
                  <a:pt x="2474" y="1183"/>
                  <a:pt x="2541" y="1122"/>
                  <a:pt x="2541" y="1110"/>
                </a:cubicBezTo>
                <a:cubicBezTo>
                  <a:pt x="2541" y="1090"/>
                  <a:pt x="2694" y="949"/>
                  <a:pt x="2697" y="930"/>
                </a:cubicBezTo>
                <a:cubicBezTo>
                  <a:pt x="2819" y="874"/>
                  <a:pt x="2766" y="871"/>
                  <a:pt x="2865" y="834"/>
                </a:cubicBezTo>
                <a:cubicBezTo>
                  <a:pt x="2873" y="813"/>
                  <a:pt x="2997" y="678"/>
                  <a:pt x="2997" y="678"/>
                </a:cubicBezTo>
                <a:cubicBezTo>
                  <a:pt x="2994" y="660"/>
                  <a:pt x="3091" y="526"/>
                  <a:pt x="3081" y="510"/>
                </a:cubicBezTo>
                <a:cubicBezTo>
                  <a:pt x="3154" y="451"/>
                  <a:pt x="3271" y="433"/>
                  <a:pt x="3333" y="378"/>
                </a:cubicBezTo>
                <a:cubicBezTo>
                  <a:pt x="3525" y="270"/>
                  <a:pt x="3463" y="290"/>
                  <a:pt x="3477" y="234"/>
                </a:cubicBezTo>
                <a:cubicBezTo>
                  <a:pt x="3513" y="234"/>
                  <a:pt x="3391" y="10"/>
                  <a:pt x="3381" y="6"/>
                </a:cubicBezTo>
                <a:cubicBezTo>
                  <a:pt x="3365" y="0"/>
                  <a:pt x="3289" y="6"/>
                  <a:pt x="3261" y="42"/>
                </a:cubicBezTo>
                <a:cubicBezTo>
                  <a:pt x="3233" y="78"/>
                  <a:pt x="3233" y="173"/>
                  <a:pt x="3210" y="225"/>
                </a:cubicBezTo>
                <a:cubicBezTo>
                  <a:pt x="3210" y="231"/>
                  <a:pt x="3187" y="332"/>
                  <a:pt x="3120" y="354"/>
                </a:cubicBezTo>
                <a:cubicBezTo>
                  <a:pt x="3004" y="394"/>
                  <a:pt x="3181" y="331"/>
                  <a:pt x="3056" y="387"/>
                </a:cubicBezTo>
                <a:cubicBezTo>
                  <a:pt x="3036" y="395"/>
                  <a:pt x="2992" y="408"/>
                  <a:pt x="2992" y="408"/>
                </a:cubicBezTo>
                <a:cubicBezTo>
                  <a:pt x="2954" y="466"/>
                  <a:pt x="2994" y="422"/>
                  <a:pt x="2917" y="451"/>
                </a:cubicBezTo>
                <a:cubicBezTo>
                  <a:pt x="2886" y="463"/>
                  <a:pt x="2879" y="484"/>
                  <a:pt x="2853" y="504"/>
                </a:cubicBezTo>
                <a:cubicBezTo>
                  <a:pt x="2833" y="521"/>
                  <a:pt x="2788" y="547"/>
                  <a:pt x="2788" y="547"/>
                </a:cubicBezTo>
                <a:cubicBezTo>
                  <a:pt x="2782" y="558"/>
                  <a:pt x="2771" y="567"/>
                  <a:pt x="2767" y="580"/>
                </a:cubicBezTo>
                <a:cubicBezTo>
                  <a:pt x="2760" y="603"/>
                  <a:pt x="2768" y="632"/>
                  <a:pt x="2756" y="654"/>
                </a:cubicBezTo>
                <a:cubicBezTo>
                  <a:pt x="2755" y="657"/>
                  <a:pt x="2694" y="674"/>
                  <a:pt x="2682" y="676"/>
                </a:cubicBezTo>
                <a:cubicBezTo>
                  <a:pt x="2649" y="681"/>
                  <a:pt x="2617" y="683"/>
                  <a:pt x="2585" y="686"/>
                </a:cubicBezTo>
                <a:cubicBezTo>
                  <a:pt x="2575" y="694"/>
                  <a:pt x="2561" y="698"/>
                  <a:pt x="2553" y="708"/>
                </a:cubicBezTo>
                <a:cubicBezTo>
                  <a:pt x="2512" y="760"/>
                  <a:pt x="2581" y="727"/>
                  <a:pt x="2511" y="751"/>
                </a:cubicBezTo>
                <a:cubicBezTo>
                  <a:pt x="2476" y="802"/>
                  <a:pt x="2502" y="778"/>
                  <a:pt x="2425" y="804"/>
                </a:cubicBezTo>
                <a:cubicBezTo>
                  <a:pt x="2414" y="808"/>
                  <a:pt x="2393" y="815"/>
                  <a:pt x="2393" y="815"/>
                </a:cubicBezTo>
                <a:cubicBezTo>
                  <a:pt x="2369" y="886"/>
                  <a:pt x="2397" y="917"/>
                  <a:pt x="2339" y="975"/>
                </a:cubicBezTo>
                <a:cubicBezTo>
                  <a:pt x="2311" y="972"/>
                  <a:pt x="2278" y="981"/>
                  <a:pt x="2253" y="965"/>
                </a:cubicBezTo>
                <a:cubicBezTo>
                  <a:pt x="2243" y="957"/>
                  <a:pt x="2270" y="944"/>
                  <a:pt x="2275" y="933"/>
                </a:cubicBezTo>
                <a:cubicBezTo>
                  <a:pt x="2303" y="868"/>
                  <a:pt x="2262" y="906"/>
                  <a:pt x="2318" y="868"/>
                </a:cubicBezTo>
                <a:cubicBezTo>
                  <a:pt x="2311" y="847"/>
                  <a:pt x="2303" y="826"/>
                  <a:pt x="2296" y="804"/>
                </a:cubicBezTo>
                <a:cubicBezTo>
                  <a:pt x="2282" y="762"/>
                  <a:pt x="2296" y="776"/>
                  <a:pt x="2253" y="762"/>
                </a:cubicBezTo>
                <a:cubicBezTo>
                  <a:pt x="2250" y="747"/>
                  <a:pt x="2249" y="732"/>
                  <a:pt x="2243" y="718"/>
                </a:cubicBezTo>
                <a:cubicBezTo>
                  <a:pt x="2238" y="707"/>
                  <a:pt x="2221" y="699"/>
                  <a:pt x="2221" y="686"/>
                </a:cubicBezTo>
                <a:cubicBezTo>
                  <a:pt x="2221" y="629"/>
                  <a:pt x="2288" y="609"/>
                  <a:pt x="2329" y="601"/>
                </a:cubicBezTo>
                <a:cubicBezTo>
                  <a:pt x="2240" y="512"/>
                  <a:pt x="2284" y="561"/>
                  <a:pt x="2200" y="504"/>
                </a:cubicBezTo>
                <a:cubicBezTo>
                  <a:pt x="2181" y="475"/>
                  <a:pt x="2181" y="466"/>
                  <a:pt x="2147" y="451"/>
                </a:cubicBezTo>
                <a:cubicBezTo>
                  <a:pt x="2126" y="442"/>
                  <a:pt x="2082" y="430"/>
                  <a:pt x="2082" y="430"/>
                </a:cubicBezTo>
                <a:cubicBezTo>
                  <a:pt x="2074" y="405"/>
                  <a:pt x="2070" y="375"/>
                  <a:pt x="2040" y="365"/>
                </a:cubicBezTo>
                <a:cubicBezTo>
                  <a:pt x="2029" y="362"/>
                  <a:pt x="2018" y="372"/>
                  <a:pt x="2008" y="376"/>
                </a:cubicBezTo>
                <a:cubicBezTo>
                  <a:pt x="1979" y="372"/>
                  <a:pt x="1950" y="371"/>
                  <a:pt x="1922" y="365"/>
                </a:cubicBezTo>
                <a:cubicBezTo>
                  <a:pt x="1911" y="363"/>
                  <a:pt x="1892" y="365"/>
                  <a:pt x="1890" y="354"/>
                </a:cubicBezTo>
                <a:cubicBezTo>
                  <a:pt x="1887" y="342"/>
                  <a:pt x="1904" y="333"/>
                  <a:pt x="1911" y="322"/>
                </a:cubicBezTo>
                <a:cubicBezTo>
                  <a:pt x="1886" y="319"/>
                  <a:pt x="1859" y="321"/>
                  <a:pt x="1836" y="312"/>
                </a:cubicBezTo>
                <a:cubicBezTo>
                  <a:pt x="1812" y="303"/>
                  <a:pt x="1793" y="283"/>
                  <a:pt x="1772" y="269"/>
                </a:cubicBezTo>
                <a:cubicBezTo>
                  <a:pt x="1750" y="254"/>
                  <a:pt x="1722" y="256"/>
                  <a:pt x="1697" y="248"/>
                </a:cubicBezTo>
                <a:cubicBezTo>
                  <a:pt x="1644" y="266"/>
                  <a:pt x="1655" y="289"/>
                  <a:pt x="1644" y="344"/>
                </a:cubicBezTo>
                <a:cubicBezTo>
                  <a:pt x="1595" y="328"/>
                  <a:pt x="1538" y="337"/>
                  <a:pt x="1494" y="312"/>
                </a:cubicBezTo>
                <a:cubicBezTo>
                  <a:pt x="1472" y="300"/>
                  <a:pt x="1454" y="277"/>
                  <a:pt x="1429" y="269"/>
                </a:cubicBezTo>
                <a:cubicBezTo>
                  <a:pt x="1375" y="251"/>
                  <a:pt x="1327" y="244"/>
                  <a:pt x="1269" y="237"/>
                </a:cubicBezTo>
                <a:cubicBezTo>
                  <a:pt x="1215" y="219"/>
                  <a:pt x="1237" y="201"/>
                  <a:pt x="1183" y="183"/>
                </a:cubicBezTo>
                <a:cubicBezTo>
                  <a:pt x="1103" y="186"/>
                  <a:pt x="865" y="296"/>
                  <a:pt x="717" y="306"/>
                </a:cubicBezTo>
                <a:cubicBezTo>
                  <a:pt x="569" y="316"/>
                  <a:pt x="397" y="254"/>
                  <a:pt x="297" y="246"/>
                </a:cubicBezTo>
                <a:cubicBezTo>
                  <a:pt x="246" y="245"/>
                  <a:pt x="117" y="258"/>
                  <a:pt x="117" y="258"/>
                </a:cubicBezTo>
                <a:cubicBezTo>
                  <a:pt x="109" y="296"/>
                  <a:pt x="6" y="324"/>
                  <a:pt x="21" y="414"/>
                </a:cubicBez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2903040" y="1649520"/>
            <a:ext cx="5076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416640" y="4970520"/>
            <a:ext cx="10065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1334880" y="169560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SPAIN</a:t>
            </a:r>
            <a:endParaRPr b="0" lang="en-US" sz="1200" spc="-1" strike="noStrike">
              <a:solidFill>
                <a:srgbClr val="000000"/>
              </a:solidFill>
              <a:latin typeface="Arial"/>
            </a:endParaRPr>
          </a:p>
        </p:txBody>
      </p:sp>
      <p:sp>
        <p:nvSpPr>
          <p:cNvPr id="129" name=""/>
          <p:cNvSpPr/>
          <p:nvPr/>
        </p:nvSpPr>
        <p:spPr>
          <a:xfrm>
            <a:off x="3088440" y="1353960"/>
            <a:ext cx="138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GLISH CLAIM</a:t>
            </a:r>
            <a:endParaRPr b="0" lang="en-US" sz="1200" spc="-1" strike="noStrike">
              <a:solidFill>
                <a:srgbClr val="000000"/>
              </a:solidFill>
              <a:latin typeface="Arial"/>
            </a:endParaRPr>
          </a:p>
        </p:txBody>
      </p:sp>
      <p:sp>
        <p:nvSpPr>
          <p:cNvPr id="130" name=""/>
          <p:cNvSpPr/>
          <p:nvPr/>
        </p:nvSpPr>
        <p:spPr>
          <a:xfrm>
            <a:off x="6972480" y="3695760"/>
            <a:ext cx="1295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GLISH COLONIES</a:t>
            </a:r>
            <a:endParaRPr b="0" lang="en-US" sz="1200" spc="-1" strike="noStrike">
              <a:solidFill>
                <a:srgbClr val="000000"/>
              </a:solidFill>
              <a:latin typeface="Arial"/>
            </a:endParaRPr>
          </a:p>
        </p:txBody>
      </p:sp>
      <p:sp>
        <p:nvSpPr>
          <p:cNvPr id="131" name=""/>
          <p:cNvSpPr/>
          <p:nvPr/>
        </p:nvSpPr>
        <p:spPr>
          <a:xfrm>
            <a:off x="7503840" y="510696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SPAIN</a:t>
            </a:r>
            <a:endParaRPr b="0" lang="en-US" sz="1200" spc="-1" strike="noStrike">
              <a:solidFill>
                <a:srgbClr val="000000"/>
              </a:solidFill>
              <a:latin typeface="Arial"/>
            </a:endParaRPr>
          </a:p>
        </p:txBody>
      </p:sp>
      <p:sp>
        <p:nvSpPr>
          <p:cNvPr id="132" name=""/>
          <p:cNvSpPr/>
          <p:nvPr/>
        </p:nvSpPr>
        <p:spPr>
          <a:xfrm>
            <a:off x="247680" y="4751280"/>
            <a:ext cx="3029040" cy="1630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other parts of North America did the French claim?</a:t>
            </a:r>
            <a:endParaRPr b="0" lang="en-US" sz="2800" spc="-1" strike="noStrike">
              <a:solidFill>
                <a:srgbClr val="000000"/>
              </a:solidFill>
              <a:latin typeface="Arial"/>
            </a:endParaRPr>
          </a:p>
        </p:txBody>
      </p:sp>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132"/>
                                        </p:tgtEl>
                                        <p:attrNameLst>
                                          <p:attrName>style.visibility</p:attrName>
                                        </p:attrNameLst>
                                      </p:cBhvr>
                                      <p:to>
                                        <p:strVal val="visible"/>
                                      </p:to>
                                    </p:set>
                                    <p:animEffect filter="fade" transition="in">
                                      <p:cBhvr additive="repl">
                                        <p:cTn id="8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Africa</a:t>
            </a:r>
            <a:endParaRPr b="0" lang="en-US" sz="4400" spc="-1" strike="noStrike">
              <a:solidFill>
                <a:srgbClr val="ffffff"/>
              </a:solidFill>
              <a:latin typeface="Times New Roman"/>
            </a:endParaRPr>
          </a:p>
        </p:txBody>
      </p:sp>
      <p:sp>
        <p:nvSpPr>
          <p:cNvPr id="135" name="PlaceHolder 2"/>
          <p:cNvSpPr>
            <a:spLocks noGrp="1"/>
          </p:cNvSpPr>
          <p:nvPr>
            <p:ph/>
          </p:nvPr>
        </p:nvSpPr>
        <p:spPr>
          <a:xfrm>
            <a:off x="456840" y="1646280"/>
            <a:ext cx="44197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Africans did not move to North America willingly, but were kidnapped and sold as slav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immigrants of African descent came willingly from the Caribbean.</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was the African slave trade officially banned in the U.S.?</a:t>
            </a:r>
            <a:endParaRPr b="0" lang="en-US" sz="2800" spc="-1" strike="noStrike">
              <a:solidFill>
                <a:srgbClr val="ffffff"/>
              </a:solidFill>
              <a:latin typeface="Times New Roman"/>
            </a:endParaRPr>
          </a:p>
        </p:txBody>
      </p:sp>
      <p:pic>
        <p:nvPicPr>
          <p:cNvPr id="136" name="" descr=""/>
          <p:cNvPicPr/>
          <p:nvPr/>
        </p:nvPicPr>
        <p:blipFill>
          <a:blip r:embed="rId2"/>
          <a:stretch/>
        </p:blipFill>
        <p:spPr>
          <a:xfrm>
            <a:off x="5105520" y="1600200"/>
            <a:ext cx="3657600" cy="4572000"/>
          </a:xfrm>
          <a:prstGeom prst="rect">
            <a:avLst/>
          </a:prstGeom>
          <a:ln w="0">
            <a:solidFill>
              <a:srgbClr val="000000"/>
            </a:solidFill>
          </a:ln>
        </p:spPr>
      </p:pic>
      <p:sp>
        <p:nvSpPr>
          <p:cNvPr id="137" name=""/>
          <p:cNvSpPr/>
          <p:nvPr/>
        </p:nvSpPr>
        <p:spPr>
          <a:xfrm>
            <a:off x="5105520" y="6110280"/>
            <a:ext cx="3124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ational Library of Congress</a:t>
            </a:r>
            <a:endParaRPr b="0" lang="en-US" sz="800" spc="-1" strike="noStrike">
              <a:solidFill>
                <a:srgbClr val="000000"/>
              </a:solidFill>
              <a:latin typeface="Arial"/>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Germany</a:t>
            </a:r>
            <a:endParaRPr b="0" lang="en-US" sz="4400" spc="-1" strike="noStrike">
              <a:solidFill>
                <a:srgbClr val="ffffff"/>
              </a:solidFill>
              <a:latin typeface="Times New Roman"/>
            </a:endParaRPr>
          </a:p>
        </p:txBody>
      </p:sp>
      <p:sp>
        <p:nvSpPr>
          <p:cNvPr id="140" name="PlaceHolder 2"/>
          <p:cNvSpPr>
            <a:spLocks noGrp="1"/>
          </p:cNvSpPr>
          <p:nvPr>
            <p:ph/>
          </p:nvPr>
        </p:nvSpPr>
        <p:spPr>
          <a:xfrm>
            <a:off x="533520" y="3200400"/>
            <a:ext cx="8610480" cy="312408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from Germany began moving to America before the American Revolution.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one of the largest immigrant groups to come to the U.S. in th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came after the failed Democratic Revolution of 1848, hoping to find a better life in the United State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did German immigrants settle in the U.S.?</a:t>
            </a:r>
            <a:endParaRPr b="0" lang="en-US" sz="2800" spc="-1" strike="noStrike">
              <a:solidFill>
                <a:srgbClr val="ffffff"/>
              </a:solidFill>
              <a:latin typeface="Times New Roman"/>
            </a:endParaRPr>
          </a:p>
        </p:txBody>
      </p:sp>
      <p:pic>
        <p:nvPicPr>
          <p:cNvPr id="141" name="" descr="Turn-of-the-Century North Dakota"/>
          <p:cNvPicPr/>
          <p:nvPr/>
        </p:nvPicPr>
        <p:blipFill>
          <a:blip r:embed="rId2"/>
          <a:stretch/>
        </p:blipFill>
        <p:spPr>
          <a:xfrm>
            <a:off x="2743200" y="914400"/>
            <a:ext cx="3657600" cy="2021040"/>
          </a:xfrm>
          <a:prstGeom prst="rect">
            <a:avLst/>
          </a:prstGeom>
          <a:ln w="0">
            <a:noFill/>
          </a:ln>
        </p:spPr>
      </p:pic>
      <p:sp>
        <p:nvSpPr>
          <p:cNvPr id="142" name=""/>
          <p:cNvSpPr/>
          <p:nvPr/>
        </p:nvSpPr>
        <p:spPr>
          <a:xfrm>
            <a:off x="4267080" y="2971800"/>
            <a:ext cx="2971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orth Dakota State Historical Society </a:t>
            </a:r>
            <a:endParaRPr b="0" lang="en-US" sz="800" spc="-1" strike="noStrike">
              <a:solidFill>
                <a:srgbClr val="000000"/>
              </a:solidFill>
              <a:latin typeface="Arial"/>
            </a:endParaRPr>
          </a:p>
        </p:txBody>
      </p:sp>
      <p:sp>
        <p:nvSpPr>
          <p:cNvPr id="1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Ireland</a:t>
            </a:r>
            <a:endParaRPr b="0" lang="en-US" sz="4400" spc="-1" strike="noStrike">
              <a:solidFill>
                <a:srgbClr val="ffffff"/>
              </a:solidFill>
              <a:latin typeface="Times New Roman"/>
            </a:endParaRPr>
          </a:p>
        </p:txBody>
      </p:sp>
      <p:sp>
        <p:nvSpPr>
          <p:cNvPr id="145" name="PlaceHolder 2"/>
          <p:cNvSpPr>
            <a:spLocks noGrp="1"/>
          </p:cNvSpPr>
          <p:nvPr>
            <p:ph/>
          </p:nvPr>
        </p:nvSpPr>
        <p:spPr>
          <a:xfrm>
            <a:off x="456840" y="837720"/>
            <a:ext cx="5181480" cy="521172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Irish immigrants came to America seeking work, food, and freedom from religious and economic persecution by English landlord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y adapted to their new home, many chose to serve the country as police officers, firemen, or soldier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ter the Irish entered politics and many other professio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id so many Irish come to the U.S.?</a:t>
            </a:r>
            <a:endParaRPr b="0" lang="en-US" sz="2800" spc="-1" strike="noStrike">
              <a:solidFill>
                <a:srgbClr val="ffffff"/>
              </a:solidFill>
              <a:latin typeface="Times New Roman"/>
            </a:endParaRPr>
          </a:p>
        </p:txBody>
      </p:sp>
      <p:pic>
        <p:nvPicPr>
          <p:cNvPr id="146" name="" descr=""/>
          <p:cNvPicPr/>
          <p:nvPr/>
        </p:nvPicPr>
        <p:blipFill>
          <a:blip r:embed="rId2"/>
          <a:stretch/>
        </p:blipFill>
        <p:spPr>
          <a:xfrm>
            <a:off x="5638680" y="1684440"/>
            <a:ext cx="2895840" cy="2354040"/>
          </a:xfrm>
          <a:prstGeom prst="rect">
            <a:avLst/>
          </a:prstGeom>
          <a:ln w="0">
            <a:noFill/>
          </a:ln>
        </p:spPr>
      </p:pic>
      <p:sp>
        <p:nvSpPr>
          <p:cNvPr id="147" name=""/>
          <p:cNvSpPr/>
          <p:nvPr/>
        </p:nvSpPr>
        <p:spPr>
          <a:xfrm>
            <a:off x="5638680" y="4114800"/>
            <a:ext cx="2971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Library of Congress</a:t>
            </a:r>
            <a:endParaRPr b="0" lang="en-US" sz="800" spc="-1" strike="noStrike">
              <a:solidFill>
                <a:srgbClr val="000000"/>
              </a:solidFill>
              <a:latin typeface="Arial"/>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Scandinavia</a:t>
            </a:r>
            <a:endParaRPr b="0" lang="en-US" sz="4400" spc="-1" strike="noStrike">
              <a:solidFill>
                <a:srgbClr val="ffffff"/>
              </a:solidFill>
              <a:latin typeface="Times New Roman"/>
            </a:endParaRPr>
          </a:p>
        </p:txBody>
      </p:sp>
      <p:sp>
        <p:nvSpPr>
          <p:cNvPr id="150" name="PlaceHolder 2"/>
          <p:cNvSpPr>
            <a:spLocks noGrp="1"/>
          </p:cNvSpPr>
          <p:nvPr>
            <p:ph/>
          </p:nvPr>
        </p:nvSpPr>
        <p:spPr>
          <a:xfrm>
            <a:off x="4343400" y="1294920"/>
            <a:ext cx="4572000" cy="475452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migrants from Sweden, Norway and Denmark began coming to the U.S. in 1825.</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came for economic reasons.  Sweden and Norway were experiencing a population boom and were running out of agricultural lan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the Scandinavians settled in the cities or in rural areas?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51" name=""/>
          <p:cNvGrpSpPr/>
          <p:nvPr/>
        </p:nvGrpSpPr>
        <p:grpSpPr>
          <a:xfrm>
            <a:off x="380880" y="1219320"/>
            <a:ext cx="4006440" cy="5181120"/>
            <a:chOff x="380880" y="1219320"/>
            <a:chExt cx="4006440" cy="5181120"/>
          </a:xfrm>
        </p:grpSpPr>
        <p:sp>
          <p:nvSpPr>
            <p:cNvPr id="152" name=""/>
            <p:cNvSpPr/>
            <p:nvPr/>
          </p:nvSpPr>
          <p:spPr>
            <a:xfrm>
              <a:off x="380880" y="1219320"/>
              <a:ext cx="3695040" cy="4026240"/>
            </a:xfrm>
            <a:custGeom>
              <a:avLst/>
              <a:gdLst/>
              <a:ahLst/>
              <a:rect l="l" t="t" r="r" b="b"/>
              <a:pathLst>
                <a:path w="1897" h="2067">
                  <a:moveTo>
                    <a:pt x="1690" y="327"/>
                  </a:moveTo>
                  <a:cubicBezTo>
                    <a:pt x="1714" y="325"/>
                    <a:pt x="1738" y="326"/>
                    <a:pt x="1762" y="321"/>
                  </a:cubicBezTo>
                  <a:cubicBezTo>
                    <a:pt x="1793" y="315"/>
                    <a:pt x="1772" y="300"/>
                    <a:pt x="1786" y="279"/>
                  </a:cubicBezTo>
                  <a:cubicBezTo>
                    <a:pt x="1794" y="267"/>
                    <a:pt x="1814" y="271"/>
                    <a:pt x="1828" y="267"/>
                  </a:cubicBezTo>
                  <a:cubicBezTo>
                    <a:pt x="1830" y="259"/>
                    <a:pt x="1827" y="248"/>
                    <a:pt x="1834" y="243"/>
                  </a:cubicBezTo>
                  <a:cubicBezTo>
                    <a:pt x="1844" y="236"/>
                    <a:pt x="1863" y="247"/>
                    <a:pt x="1870" y="237"/>
                  </a:cubicBezTo>
                  <a:cubicBezTo>
                    <a:pt x="1877" y="227"/>
                    <a:pt x="1866" y="213"/>
                    <a:pt x="1864" y="201"/>
                  </a:cubicBezTo>
                  <a:cubicBezTo>
                    <a:pt x="1850" y="203"/>
                    <a:pt x="1835" y="202"/>
                    <a:pt x="1822" y="207"/>
                  </a:cubicBezTo>
                  <a:cubicBezTo>
                    <a:pt x="1809" y="212"/>
                    <a:pt x="1786" y="231"/>
                    <a:pt x="1786" y="231"/>
                  </a:cubicBezTo>
                  <a:cubicBezTo>
                    <a:pt x="1769" y="205"/>
                    <a:pt x="1770" y="183"/>
                    <a:pt x="1744" y="165"/>
                  </a:cubicBezTo>
                  <a:cubicBezTo>
                    <a:pt x="1716" y="124"/>
                    <a:pt x="1754" y="136"/>
                    <a:pt x="1780" y="141"/>
                  </a:cubicBezTo>
                  <a:cubicBezTo>
                    <a:pt x="1804" y="157"/>
                    <a:pt x="1794" y="156"/>
                    <a:pt x="1828" y="147"/>
                  </a:cubicBezTo>
                  <a:cubicBezTo>
                    <a:pt x="1840" y="144"/>
                    <a:pt x="1864" y="135"/>
                    <a:pt x="1864" y="135"/>
                  </a:cubicBezTo>
                  <a:cubicBezTo>
                    <a:pt x="1897" y="86"/>
                    <a:pt x="1849" y="80"/>
                    <a:pt x="1810" y="75"/>
                  </a:cubicBezTo>
                  <a:cubicBezTo>
                    <a:pt x="1784" y="58"/>
                    <a:pt x="1787" y="31"/>
                    <a:pt x="1756" y="21"/>
                  </a:cubicBezTo>
                  <a:cubicBezTo>
                    <a:pt x="1712" y="32"/>
                    <a:pt x="1725" y="58"/>
                    <a:pt x="1720" y="105"/>
                  </a:cubicBezTo>
                  <a:cubicBezTo>
                    <a:pt x="1657" y="95"/>
                    <a:pt x="1699" y="109"/>
                    <a:pt x="1684" y="63"/>
                  </a:cubicBezTo>
                  <a:cubicBezTo>
                    <a:pt x="1705" y="0"/>
                    <a:pt x="1685" y="15"/>
                    <a:pt x="1630" y="21"/>
                  </a:cubicBezTo>
                  <a:cubicBezTo>
                    <a:pt x="1584" y="32"/>
                    <a:pt x="1614" y="17"/>
                    <a:pt x="1618" y="45"/>
                  </a:cubicBezTo>
                  <a:cubicBezTo>
                    <a:pt x="1619" y="55"/>
                    <a:pt x="1615" y="65"/>
                    <a:pt x="1612" y="75"/>
                  </a:cubicBezTo>
                  <a:cubicBezTo>
                    <a:pt x="1609" y="87"/>
                    <a:pt x="1600" y="111"/>
                    <a:pt x="1600" y="111"/>
                  </a:cubicBezTo>
                  <a:cubicBezTo>
                    <a:pt x="1592" y="109"/>
                    <a:pt x="1578" y="113"/>
                    <a:pt x="1576" y="105"/>
                  </a:cubicBezTo>
                  <a:cubicBezTo>
                    <a:pt x="1556" y="24"/>
                    <a:pt x="1611" y="49"/>
                    <a:pt x="1564" y="33"/>
                  </a:cubicBezTo>
                  <a:cubicBezTo>
                    <a:pt x="1543" y="65"/>
                    <a:pt x="1540" y="115"/>
                    <a:pt x="1534" y="153"/>
                  </a:cubicBezTo>
                  <a:cubicBezTo>
                    <a:pt x="1492" y="139"/>
                    <a:pt x="1513" y="98"/>
                    <a:pt x="1516" y="57"/>
                  </a:cubicBezTo>
                  <a:cubicBezTo>
                    <a:pt x="1494" y="50"/>
                    <a:pt x="1484" y="34"/>
                    <a:pt x="1462" y="27"/>
                  </a:cubicBezTo>
                  <a:cubicBezTo>
                    <a:pt x="1442" y="57"/>
                    <a:pt x="1463" y="93"/>
                    <a:pt x="1426" y="105"/>
                  </a:cubicBezTo>
                  <a:cubicBezTo>
                    <a:pt x="1424" y="115"/>
                    <a:pt x="1420" y="125"/>
                    <a:pt x="1420" y="135"/>
                  </a:cubicBezTo>
                  <a:cubicBezTo>
                    <a:pt x="1420" y="163"/>
                    <a:pt x="1444" y="181"/>
                    <a:pt x="1402" y="195"/>
                  </a:cubicBezTo>
                  <a:cubicBezTo>
                    <a:pt x="1393" y="182"/>
                    <a:pt x="1389" y="170"/>
                    <a:pt x="1372" y="165"/>
                  </a:cubicBezTo>
                  <a:cubicBezTo>
                    <a:pt x="1353" y="159"/>
                    <a:pt x="1312" y="153"/>
                    <a:pt x="1312" y="153"/>
                  </a:cubicBezTo>
                  <a:cubicBezTo>
                    <a:pt x="1230" y="165"/>
                    <a:pt x="1290" y="154"/>
                    <a:pt x="1324" y="177"/>
                  </a:cubicBezTo>
                  <a:cubicBezTo>
                    <a:pt x="1341" y="202"/>
                    <a:pt x="1337" y="209"/>
                    <a:pt x="1312" y="225"/>
                  </a:cubicBezTo>
                  <a:cubicBezTo>
                    <a:pt x="1306" y="221"/>
                    <a:pt x="1301" y="213"/>
                    <a:pt x="1294" y="213"/>
                  </a:cubicBezTo>
                  <a:cubicBezTo>
                    <a:pt x="1281" y="213"/>
                    <a:pt x="1258" y="225"/>
                    <a:pt x="1258" y="225"/>
                  </a:cubicBezTo>
                  <a:cubicBezTo>
                    <a:pt x="1256" y="237"/>
                    <a:pt x="1260" y="252"/>
                    <a:pt x="1252" y="261"/>
                  </a:cubicBezTo>
                  <a:cubicBezTo>
                    <a:pt x="1248" y="266"/>
                    <a:pt x="1236" y="261"/>
                    <a:pt x="1234" y="255"/>
                  </a:cubicBezTo>
                  <a:cubicBezTo>
                    <a:pt x="1227" y="236"/>
                    <a:pt x="1230" y="215"/>
                    <a:pt x="1228" y="195"/>
                  </a:cubicBezTo>
                  <a:cubicBezTo>
                    <a:pt x="1181" y="207"/>
                    <a:pt x="1210" y="225"/>
                    <a:pt x="1186" y="261"/>
                  </a:cubicBezTo>
                  <a:cubicBezTo>
                    <a:pt x="1183" y="278"/>
                    <a:pt x="1187" y="300"/>
                    <a:pt x="1162" y="297"/>
                  </a:cubicBezTo>
                  <a:cubicBezTo>
                    <a:pt x="1149" y="296"/>
                    <a:pt x="1138" y="289"/>
                    <a:pt x="1126" y="285"/>
                  </a:cubicBezTo>
                  <a:cubicBezTo>
                    <a:pt x="1120" y="283"/>
                    <a:pt x="1108" y="279"/>
                    <a:pt x="1108" y="279"/>
                  </a:cubicBezTo>
                  <a:cubicBezTo>
                    <a:pt x="1080" y="286"/>
                    <a:pt x="1073" y="295"/>
                    <a:pt x="1048" y="279"/>
                  </a:cubicBezTo>
                  <a:cubicBezTo>
                    <a:pt x="1050" y="301"/>
                    <a:pt x="1051" y="323"/>
                    <a:pt x="1054" y="345"/>
                  </a:cubicBezTo>
                  <a:cubicBezTo>
                    <a:pt x="1056" y="359"/>
                    <a:pt x="1073" y="379"/>
                    <a:pt x="1054" y="393"/>
                  </a:cubicBezTo>
                  <a:cubicBezTo>
                    <a:pt x="1043" y="401"/>
                    <a:pt x="1026" y="397"/>
                    <a:pt x="1012" y="399"/>
                  </a:cubicBezTo>
                  <a:cubicBezTo>
                    <a:pt x="998" y="441"/>
                    <a:pt x="996" y="423"/>
                    <a:pt x="1006" y="453"/>
                  </a:cubicBezTo>
                  <a:cubicBezTo>
                    <a:pt x="997" y="499"/>
                    <a:pt x="993" y="487"/>
                    <a:pt x="946" y="495"/>
                  </a:cubicBezTo>
                  <a:cubicBezTo>
                    <a:pt x="944" y="501"/>
                    <a:pt x="944" y="509"/>
                    <a:pt x="940" y="513"/>
                  </a:cubicBezTo>
                  <a:cubicBezTo>
                    <a:pt x="936" y="517"/>
                    <a:pt x="924" y="513"/>
                    <a:pt x="922" y="519"/>
                  </a:cubicBezTo>
                  <a:cubicBezTo>
                    <a:pt x="918" y="535"/>
                    <a:pt x="928" y="562"/>
                    <a:pt x="934" y="579"/>
                  </a:cubicBezTo>
                  <a:cubicBezTo>
                    <a:pt x="909" y="604"/>
                    <a:pt x="898" y="603"/>
                    <a:pt x="862" y="609"/>
                  </a:cubicBezTo>
                  <a:cubicBezTo>
                    <a:pt x="860" y="615"/>
                    <a:pt x="856" y="621"/>
                    <a:pt x="856" y="627"/>
                  </a:cubicBezTo>
                  <a:cubicBezTo>
                    <a:pt x="856" y="633"/>
                    <a:pt x="864" y="639"/>
                    <a:pt x="862" y="645"/>
                  </a:cubicBezTo>
                  <a:cubicBezTo>
                    <a:pt x="854" y="665"/>
                    <a:pt x="794" y="668"/>
                    <a:pt x="784" y="669"/>
                  </a:cubicBezTo>
                  <a:cubicBezTo>
                    <a:pt x="779" y="700"/>
                    <a:pt x="784" y="719"/>
                    <a:pt x="754" y="729"/>
                  </a:cubicBezTo>
                  <a:cubicBezTo>
                    <a:pt x="751" y="733"/>
                    <a:pt x="733" y="757"/>
                    <a:pt x="736" y="765"/>
                  </a:cubicBezTo>
                  <a:cubicBezTo>
                    <a:pt x="741" y="779"/>
                    <a:pt x="760" y="801"/>
                    <a:pt x="760" y="801"/>
                  </a:cubicBezTo>
                  <a:cubicBezTo>
                    <a:pt x="717" y="815"/>
                    <a:pt x="731" y="802"/>
                    <a:pt x="712" y="831"/>
                  </a:cubicBezTo>
                  <a:cubicBezTo>
                    <a:pt x="733" y="862"/>
                    <a:pt x="716" y="848"/>
                    <a:pt x="688" y="867"/>
                  </a:cubicBezTo>
                  <a:cubicBezTo>
                    <a:pt x="690" y="891"/>
                    <a:pt x="687" y="916"/>
                    <a:pt x="694" y="939"/>
                  </a:cubicBezTo>
                  <a:cubicBezTo>
                    <a:pt x="696" y="945"/>
                    <a:pt x="710" y="939"/>
                    <a:pt x="712" y="945"/>
                  </a:cubicBezTo>
                  <a:cubicBezTo>
                    <a:pt x="729" y="997"/>
                    <a:pt x="627" y="986"/>
                    <a:pt x="616" y="987"/>
                  </a:cubicBezTo>
                  <a:cubicBezTo>
                    <a:pt x="614" y="993"/>
                    <a:pt x="609" y="999"/>
                    <a:pt x="610" y="1005"/>
                  </a:cubicBezTo>
                  <a:cubicBezTo>
                    <a:pt x="611" y="1018"/>
                    <a:pt x="622" y="1041"/>
                    <a:pt x="622" y="1041"/>
                  </a:cubicBezTo>
                  <a:cubicBezTo>
                    <a:pt x="616" y="1045"/>
                    <a:pt x="608" y="1047"/>
                    <a:pt x="604" y="1053"/>
                  </a:cubicBezTo>
                  <a:cubicBezTo>
                    <a:pt x="599" y="1060"/>
                    <a:pt x="606" y="1074"/>
                    <a:pt x="598" y="1077"/>
                  </a:cubicBezTo>
                  <a:cubicBezTo>
                    <a:pt x="591" y="1079"/>
                    <a:pt x="591" y="1064"/>
                    <a:pt x="586" y="1059"/>
                  </a:cubicBezTo>
                  <a:cubicBezTo>
                    <a:pt x="581" y="1054"/>
                    <a:pt x="574" y="1051"/>
                    <a:pt x="568" y="1047"/>
                  </a:cubicBezTo>
                  <a:cubicBezTo>
                    <a:pt x="535" y="1058"/>
                    <a:pt x="519" y="1095"/>
                    <a:pt x="484" y="1107"/>
                  </a:cubicBezTo>
                  <a:cubicBezTo>
                    <a:pt x="475" y="1134"/>
                    <a:pt x="487" y="1168"/>
                    <a:pt x="490" y="1197"/>
                  </a:cubicBezTo>
                  <a:cubicBezTo>
                    <a:pt x="508" y="1195"/>
                    <a:pt x="528" y="1199"/>
                    <a:pt x="544" y="1191"/>
                  </a:cubicBezTo>
                  <a:cubicBezTo>
                    <a:pt x="551" y="1187"/>
                    <a:pt x="545" y="1174"/>
                    <a:pt x="550" y="1167"/>
                  </a:cubicBezTo>
                  <a:cubicBezTo>
                    <a:pt x="554" y="1161"/>
                    <a:pt x="562" y="1159"/>
                    <a:pt x="568" y="1155"/>
                  </a:cubicBezTo>
                  <a:cubicBezTo>
                    <a:pt x="580" y="1157"/>
                    <a:pt x="595" y="1152"/>
                    <a:pt x="604" y="1161"/>
                  </a:cubicBezTo>
                  <a:cubicBezTo>
                    <a:pt x="612" y="1169"/>
                    <a:pt x="585" y="1173"/>
                    <a:pt x="574" y="1173"/>
                  </a:cubicBezTo>
                  <a:cubicBezTo>
                    <a:pt x="473" y="1294"/>
                    <a:pt x="548" y="1242"/>
                    <a:pt x="484" y="1221"/>
                  </a:cubicBezTo>
                  <a:cubicBezTo>
                    <a:pt x="479" y="1216"/>
                    <a:pt x="458" y="1192"/>
                    <a:pt x="448" y="1191"/>
                  </a:cubicBezTo>
                  <a:cubicBezTo>
                    <a:pt x="437" y="1189"/>
                    <a:pt x="417" y="1201"/>
                    <a:pt x="406" y="1203"/>
                  </a:cubicBezTo>
                  <a:cubicBezTo>
                    <a:pt x="384" y="1206"/>
                    <a:pt x="362" y="1207"/>
                    <a:pt x="340" y="1209"/>
                  </a:cubicBezTo>
                  <a:cubicBezTo>
                    <a:pt x="338" y="1243"/>
                    <a:pt x="342" y="1278"/>
                    <a:pt x="334" y="1311"/>
                  </a:cubicBezTo>
                  <a:cubicBezTo>
                    <a:pt x="332" y="1317"/>
                    <a:pt x="319" y="1311"/>
                    <a:pt x="316" y="1305"/>
                  </a:cubicBezTo>
                  <a:cubicBezTo>
                    <a:pt x="310" y="1292"/>
                    <a:pt x="316" y="1276"/>
                    <a:pt x="310" y="1263"/>
                  </a:cubicBezTo>
                  <a:cubicBezTo>
                    <a:pt x="305" y="1251"/>
                    <a:pt x="276" y="1247"/>
                    <a:pt x="268" y="1245"/>
                  </a:cubicBezTo>
                  <a:cubicBezTo>
                    <a:pt x="248" y="1232"/>
                    <a:pt x="243" y="1217"/>
                    <a:pt x="220" y="1209"/>
                  </a:cubicBezTo>
                  <a:cubicBezTo>
                    <a:pt x="204" y="1257"/>
                    <a:pt x="196" y="1259"/>
                    <a:pt x="256" y="1269"/>
                  </a:cubicBezTo>
                  <a:cubicBezTo>
                    <a:pt x="278" y="1302"/>
                    <a:pt x="256" y="1297"/>
                    <a:pt x="226" y="1305"/>
                  </a:cubicBezTo>
                  <a:cubicBezTo>
                    <a:pt x="198" y="1347"/>
                    <a:pt x="224" y="1339"/>
                    <a:pt x="154" y="1347"/>
                  </a:cubicBezTo>
                  <a:cubicBezTo>
                    <a:pt x="142" y="1355"/>
                    <a:pt x="130" y="1363"/>
                    <a:pt x="118" y="1371"/>
                  </a:cubicBezTo>
                  <a:cubicBezTo>
                    <a:pt x="113" y="1375"/>
                    <a:pt x="116" y="1384"/>
                    <a:pt x="112" y="1389"/>
                  </a:cubicBezTo>
                  <a:cubicBezTo>
                    <a:pt x="104" y="1400"/>
                    <a:pt x="88" y="1403"/>
                    <a:pt x="76" y="1407"/>
                  </a:cubicBezTo>
                  <a:cubicBezTo>
                    <a:pt x="59" y="1458"/>
                    <a:pt x="79" y="1495"/>
                    <a:pt x="94" y="1539"/>
                  </a:cubicBezTo>
                  <a:cubicBezTo>
                    <a:pt x="82" y="1541"/>
                    <a:pt x="69" y="1539"/>
                    <a:pt x="58" y="1545"/>
                  </a:cubicBezTo>
                  <a:cubicBezTo>
                    <a:pt x="53" y="1548"/>
                    <a:pt x="53" y="1557"/>
                    <a:pt x="52" y="1563"/>
                  </a:cubicBezTo>
                  <a:cubicBezTo>
                    <a:pt x="44" y="1603"/>
                    <a:pt x="39" y="1607"/>
                    <a:pt x="28" y="1641"/>
                  </a:cubicBezTo>
                  <a:cubicBezTo>
                    <a:pt x="30" y="1657"/>
                    <a:pt x="25" y="1676"/>
                    <a:pt x="34" y="1689"/>
                  </a:cubicBezTo>
                  <a:cubicBezTo>
                    <a:pt x="41" y="1699"/>
                    <a:pt x="70" y="1701"/>
                    <a:pt x="70" y="1701"/>
                  </a:cubicBezTo>
                  <a:cubicBezTo>
                    <a:pt x="84" y="1699"/>
                    <a:pt x="99" y="1701"/>
                    <a:pt x="112" y="1695"/>
                  </a:cubicBezTo>
                  <a:cubicBezTo>
                    <a:pt x="119" y="1692"/>
                    <a:pt x="118" y="1682"/>
                    <a:pt x="124" y="1677"/>
                  </a:cubicBezTo>
                  <a:cubicBezTo>
                    <a:pt x="129" y="1673"/>
                    <a:pt x="136" y="1673"/>
                    <a:pt x="142" y="1671"/>
                  </a:cubicBezTo>
                  <a:cubicBezTo>
                    <a:pt x="130" y="1717"/>
                    <a:pt x="99" y="1699"/>
                    <a:pt x="58" y="1707"/>
                  </a:cubicBezTo>
                  <a:cubicBezTo>
                    <a:pt x="40" y="1762"/>
                    <a:pt x="68" y="1675"/>
                    <a:pt x="46" y="1755"/>
                  </a:cubicBezTo>
                  <a:cubicBezTo>
                    <a:pt x="43" y="1767"/>
                    <a:pt x="34" y="1791"/>
                    <a:pt x="34" y="1791"/>
                  </a:cubicBezTo>
                  <a:cubicBezTo>
                    <a:pt x="43" y="1827"/>
                    <a:pt x="32" y="1812"/>
                    <a:pt x="76" y="1827"/>
                  </a:cubicBezTo>
                  <a:cubicBezTo>
                    <a:pt x="82" y="1829"/>
                    <a:pt x="94" y="1833"/>
                    <a:pt x="94" y="1833"/>
                  </a:cubicBezTo>
                  <a:cubicBezTo>
                    <a:pt x="74" y="1847"/>
                    <a:pt x="58" y="1851"/>
                    <a:pt x="34" y="1857"/>
                  </a:cubicBezTo>
                  <a:cubicBezTo>
                    <a:pt x="26" y="1881"/>
                    <a:pt x="22" y="1905"/>
                    <a:pt x="16" y="1929"/>
                  </a:cubicBezTo>
                  <a:cubicBezTo>
                    <a:pt x="29" y="2035"/>
                    <a:pt x="0" y="1930"/>
                    <a:pt x="76" y="1983"/>
                  </a:cubicBezTo>
                  <a:cubicBezTo>
                    <a:pt x="91" y="1994"/>
                    <a:pt x="78" y="2022"/>
                    <a:pt x="88" y="2037"/>
                  </a:cubicBezTo>
                  <a:cubicBezTo>
                    <a:pt x="106" y="2065"/>
                    <a:pt x="136" y="2063"/>
                    <a:pt x="166" y="2067"/>
                  </a:cubicBezTo>
                  <a:cubicBezTo>
                    <a:pt x="222" y="2060"/>
                    <a:pt x="201" y="2000"/>
                    <a:pt x="262" y="1995"/>
                  </a:cubicBezTo>
                  <a:cubicBezTo>
                    <a:pt x="311" y="1979"/>
                    <a:pt x="311" y="1987"/>
                    <a:pt x="334" y="1959"/>
                  </a:cubicBezTo>
                  <a:cubicBezTo>
                    <a:pt x="347" y="1942"/>
                    <a:pt x="375" y="1941"/>
                    <a:pt x="394" y="1935"/>
                  </a:cubicBezTo>
                  <a:cubicBezTo>
                    <a:pt x="409" y="1912"/>
                    <a:pt x="413" y="1896"/>
                    <a:pt x="418" y="1869"/>
                  </a:cubicBezTo>
                  <a:cubicBezTo>
                    <a:pt x="469" y="1882"/>
                    <a:pt x="421" y="1862"/>
                    <a:pt x="448" y="1929"/>
                  </a:cubicBezTo>
                  <a:cubicBezTo>
                    <a:pt x="453" y="1943"/>
                    <a:pt x="476" y="1937"/>
                    <a:pt x="490" y="1941"/>
                  </a:cubicBezTo>
                  <a:cubicBezTo>
                    <a:pt x="522" y="1989"/>
                    <a:pt x="567" y="1962"/>
                    <a:pt x="628" y="1959"/>
                  </a:cubicBezTo>
                  <a:cubicBezTo>
                    <a:pt x="670" y="1931"/>
                    <a:pt x="669" y="1874"/>
                    <a:pt x="712" y="1845"/>
                  </a:cubicBezTo>
                  <a:cubicBezTo>
                    <a:pt x="726" y="1802"/>
                    <a:pt x="706" y="1854"/>
                    <a:pt x="736" y="1809"/>
                  </a:cubicBezTo>
                  <a:cubicBezTo>
                    <a:pt x="740" y="1804"/>
                    <a:pt x="739" y="1797"/>
                    <a:pt x="742" y="1791"/>
                  </a:cubicBezTo>
                  <a:cubicBezTo>
                    <a:pt x="776" y="1729"/>
                    <a:pt x="758" y="1778"/>
                    <a:pt x="772" y="1737"/>
                  </a:cubicBezTo>
                  <a:cubicBezTo>
                    <a:pt x="774" y="1707"/>
                    <a:pt x="774" y="1677"/>
                    <a:pt x="778" y="1647"/>
                  </a:cubicBezTo>
                  <a:cubicBezTo>
                    <a:pt x="780" y="1636"/>
                    <a:pt x="788" y="1628"/>
                    <a:pt x="790" y="1617"/>
                  </a:cubicBezTo>
                  <a:cubicBezTo>
                    <a:pt x="795" y="1584"/>
                    <a:pt x="790" y="1490"/>
                    <a:pt x="814" y="1455"/>
                  </a:cubicBezTo>
                  <a:cubicBezTo>
                    <a:pt x="825" y="1438"/>
                    <a:pt x="835" y="1419"/>
                    <a:pt x="844" y="1401"/>
                  </a:cubicBezTo>
                  <a:cubicBezTo>
                    <a:pt x="872" y="1344"/>
                    <a:pt x="856" y="1342"/>
                    <a:pt x="916" y="1299"/>
                  </a:cubicBezTo>
                  <a:cubicBezTo>
                    <a:pt x="942" y="1233"/>
                    <a:pt x="1015" y="1186"/>
                    <a:pt x="1054" y="1125"/>
                  </a:cubicBezTo>
                  <a:cubicBezTo>
                    <a:pt x="1064" y="1110"/>
                    <a:pt x="1070" y="1093"/>
                    <a:pt x="1078" y="1077"/>
                  </a:cubicBezTo>
                  <a:cubicBezTo>
                    <a:pt x="1087" y="1059"/>
                    <a:pt x="1114" y="1029"/>
                    <a:pt x="1114" y="1029"/>
                  </a:cubicBezTo>
                  <a:cubicBezTo>
                    <a:pt x="1153" y="911"/>
                    <a:pt x="1114" y="752"/>
                    <a:pt x="1132" y="627"/>
                  </a:cubicBezTo>
                  <a:cubicBezTo>
                    <a:pt x="1134" y="614"/>
                    <a:pt x="1157" y="616"/>
                    <a:pt x="1168" y="609"/>
                  </a:cubicBezTo>
                  <a:cubicBezTo>
                    <a:pt x="1228" y="519"/>
                    <a:pt x="1193" y="544"/>
                    <a:pt x="1348" y="537"/>
                  </a:cubicBezTo>
                  <a:cubicBezTo>
                    <a:pt x="1408" y="522"/>
                    <a:pt x="1322" y="542"/>
                    <a:pt x="1426" y="525"/>
                  </a:cubicBezTo>
                  <a:cubicBezTo>
                    <a:pt x="1445" y="522"/>
                    <a:pt x="1484" y="498"/>
                    <a:pt x="1492" y="495"/>
                  </a:cubicBezTo>
                  <a:cubicBezTo>
                    <a:pt x="1529" y="483"/>
                    <a:pt x="1504" y="490"/>
                    <a:pt x="1570" y="483"/>
                  </a:cubicBezTo>
                  <a:cubicBezTo>
                    <a:pt x="1595" y="475"/>
                    <a:pt x="1604" y="463"/>
                    <a:pt x="1624" y="447"/>
                  </a:cubicBezTo>
                  <a:cubicBezTo>
                    <a:pt x="1635" y="438"/>
                    <a:pt x="1660" y="423"/>
                    <a:pt x="1660" y="423"/>
                  </a:cubicBezTo>
                  <a:cubicBezTo>
                    <a:pt x="1672" y="387"/>
                    <a:pt x="1655" y="350"/>
                    <a:pt x="1690" y="327"/>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356480" y="1873800"/>
              <a:ext cx="2109600" cy="4314600"/>
            </a:xfrm>
            <a:custGeom>
              <a:avLst/>
              <a:gdLst/>
              <a:ahLst/>
              <a:rect l="l" t="t" r="r" b="b"/>
              <a:pathLst>
                <a:path w="1083" h="2215">
                  <a:moveTo>
                    <a:pt x="839" y="36"/>
                  </a:moveTo>
                  <a:cubicBezTo>
                    <a:pt x="815" y="28"/>
                    <a:pt x="805" y="21"/>
                    <a:pt x="791" y="0"/>
                  </a:cubicBezTo>
                  <a:cubicBezTo>
                    <a:pt x="776" y="23"/>
                    <a:pt x="787" y="66"/>
                    <a:pt x="755" y="72"/>
                  </a:cubicBezTo>
                  <a:lnTo>
                    <a:pt x="677" y="78"/>
                  </a:lnTo>
                  <a:cubicBezTo>
                    <a:pt x="677" y="78"/>
                    <a:pt x="659" y="132"/>
                    <a:pt x="659" y="132"/>
                  </a:cubicBezTo>
                  <a:cubicBezTo>
                    <a:pt x="656" y="142"/>
                    <a:pt x="659" y="154"/>
                    <a:pt x="653" y="162"/>
                  </a:cubicBezTo>
                  <a:cubicBezTo>
                    <a:pt x="648" y="169"/>
                    <a:pt x="589" y="174"/>
                    <a:pt x="587" y="174"/>
                  </a:cubicBezTo>
                  <a:cubicBezTo>
                    <a:pt x="545" y="188"/>
                    <a:pt x="578" y="209"/>
                    <a:pt x="557" y="246"/>
                  </a:cubicBezTo>
                  <a:cubicBezTo>
                    <a:pt x="553" y="253"/>
                    <a:pt x="541" y="250"/>
                    <a:pt x="533" y="252"/>
                  </a:cubicBezTo>
                  <a:cubicBezTo>
                    <a:pt x="525" y="353"/>
                    <a:pt x="543" y="314"/>
                    <a:pt x="491" y="348"/>
                  </a:cubicBezTo>
                  <a:cubicBezTo>
                    <a:pt x="481" y="377"/>
                    <a:pt x="496" y="413"/>
                    <a:pt x="479" y="438"/>
                  </a:cubicBezTo>
                  <a:cubicBezTo>
                    <a:pt x="470" y="451"/>
                    <a:pt x="447" y="442"/>
                    <a:pt x="431" y="444"/>
                  </a:cubicBezTo>
                  <a:cubicBezTo>
                    <a:pt x="402" y="463"/>
                    <a:pt x="415" y="449"/>
                    <a:pt x="401" y="492"/>
                  </a:cubicBezTo>
                  <a:cubicBezTo>
                    <a:pt x="397" y="504"/>
                    <a:pt x="389" y="528"/>
                    <a:pt x="389" y="528"/>
                  </a:cubicBezTo>
                  <a:cubicBezTo>
                    <a:pt x="387" y="560"/>
                    <a:pt x="386" y="592"/>
                    <a:pt x="383" y="624"/>
                  </a:cubicBezTo>
                  <a:cubicBezTo>
                    <a:pt x="379" y="657"/>
                    <a:pt x="346" y="682"/>
                    <a:pt x="335" y="714"/>
                  </a:cubicBezTo>
                  <a:cubicBezTo>
                    <a:pt x="327" y="813"/>
                    <a:pt x="353" y="779"/>
                    <a:pt x="263" y="792"/>
                  </a:cubicBezTo>
                  <a:cubicBezTo>
                    <a:pt x="257" y="793"/>
                    <a:pt x="251" y="796"/>
                    <a:pt x="245" y="798"/>
                  </a:cubicBezTo>
                  <a:cubicBezTo>
                    <a:pt x="231" y="819"/>
                    <a:pt x="231" y="832"/>
                    <a:pt x="209" y="846"/>
                  </a:cubicBezTo>
                  <a:cubicBezTo>
                    <a:pt x="207" y="852"/>
                    <a:pt x="204" y="858"/>
                    <a:pt x="203" y="864"/>
                  </a:cubicBezTo>
                  <a:cubicBezTo>
                    <a:pt x="200" y="878"/>
                    <a:pt x="201" y="892"/>
                    <a:pt x="197" y="906"/>
                  </a:cubicBezTo>
                  <a:cubicBezTo>
                    <a:pt x="195" y="913"/>
                    <a:pt x="188" y="917"/>
                    <a:pt x="185" y="924"/>
                  </a:cubicBezTo>
                  <a:cubicBezTo>
                    <a:pt x="180" y="936"/>
                    <a:pt x="173" y="960"/>
                    <a:pt x="173" y="960"/>
                  </a:cubicBezTo>
                  <a:cubicBezTo>
                    <a:pt x="167" y="1022"/>
                    <a:pt x="162" y="1028"/>
                    <a:pt x="131" y="1074"/>
                  </a:cubicBezTo>
                  <a:cubicBezTo>
                    <a:pt x="138" y="1177"/>
                    <a:pt x="120" y="1172"/>
                    <a:pt x="209" y="1182"/>
                  </a:cubicBezTo>
                  <a:cubicBezTo>
                    <a:pt x="238" y="1269"/>
                    <a:pt x="220" y="1259"/>
                    <a:pt x="149" y="1266"/>
                  </a:cubicBezTo>
                  <a:cubicBezTo>
                    <a:pt x="151" y="1295"/>
                    <a:pt x="162" y="1402"/>
                    <a:pt x="149" y="1434"/>
                  </a:cubicBezTo>
                  <a:cubicBezTo>
                    <a:pt x="144" y="1447"/>
                    <a:pt x="125" y="1450"/>
                    <a:pt x="113" y="1458"/>
                  </a:cubicBezTo>
                  <a:cubicBezTo>
                    <a:pt x="107" y="1462"/>
                    <a:pt x="95" y="1470"/>
                    <a:pt x="95" y="1470"/>
                  </a:cubicBezTo>
                  <a:cubicBezTo>
                    <a:pt x="64" y="1516"/>
                    <a:pt x="75" y="1540"/>
                    <a:pt x="71" y="1608"/>
                  </a:cubicBezTo>
                  <a:cubicBezTo>
                    <a:pt x="63" y="1606"/>
                    <a:pt x="53" y="1607"/>
                    <a:pt x="47" y="1602"/>
                  </a:cubicBezTo>
                  <a:cubicBezTo>
                    <a:pt x="23" y="1583"/>
                    <a:pt x="63" y="1577"/>
                    <a:pt x="23" y="1590"/>
                  </a:cubicBezTo>
                  <a:cubicBezTo>
                    <a:pt x="0" y="1660"/>
                    <a:pt x="13" y="1614"/>
                    <a:pt x="23" y="1776"/>
                  </a:cubicBezTo>
                  <a:cubicBezTo>
                    <a:pt x="24" y="1797"/>
                    <a:pt x="53" y="1830"/>
                    <a:pt x="53" y="1830"/>
                  </a:cubicBezTo>
                  <a:cubicBezTo>
                    <a:pt x="58" y="1866"/>
                    <a:pt x="54" y="1884"/>
                    <a:pt x="89" y="1896"/>
                  </a:cubicBezTo>
                  <a:cubicBezTo>
                    <a:pt x="117" y="1937"/>
                    <a:pt x="91" y="1987"/>
                    <a:pt x="119" y="2028"/>
                  </a:cubicBezTo>
                  <a:cubicBezTo>
                    <a:pt x="106" y="2048"/>
                    <a:pt x="102" y="2066"/>
                    <a:pt x="95" y="2088"/>
                  </a:cubicBezTo>
                  <a:cubicBezTo>
                    <a:pt x="99" y="2123"/>
                    <a:pt x="109" y="2146"/>
                    <a:pt x="101" y="2178"/>
                  </a:cubicBezTo>
                  <a:cubicBezTo>
                    <a:pt x="124" y="2194"/>
                    <a:pt x="143" y="2215"/>
                    <a:pt x="155" y="2178"/>
                  </a:cubicBezTo>
                  <a:cubicBezTo>
                    <a:pt x="195" y="2188"/>
                    <a:pt x="199" y="2190"/>
                    <a:pt x="245" y="2184"/>
                  </a:cubicBezTo>
                  <a:cubicBezTo>
                    <a:pt x="272" y="2102"/>
                    <a:pt x="237" y="2115"/>
                    <a:pt x="341" y="2106"/>
                  </a:cubicBezTo>
                  <a:cubicBezTo>
                    <a:pt x="363" y="2091"/>
                    <a:pt x="403" y="2110"/>
                    <a:pt x="419" y="2088"/>
                  </a:cubicBezTo>
                  <a:cubicBezTo>
                    <a:pt x="436" y="2065"/>
                    <a:pt x="418" y="2031"/>
                    <a:pt x="425" y="2004"/>
                  </a:cubicBezTo>
                  <a:cubicBezTo>
                    <a:pt x="427" y="1997"/>
                    <a:pt x="437" y="1996"/>
                    <a:pt x="443" y="1992"/>
                  </a:cubicBezTo>
                  <a:cubicBezTo>
                    <a:pt x="459" y="1944"/>
                    <a:pt x="462" y="1965"/>
                    <a:pt x="455" y="1896"/>
                  </a:cubicBezTo>
                  <a:cubicBezTo>
                    <a:pt x="457" y="1876"/>
                    <a:pt x="461" y="1856"/>
                    <a:pt x="461" y="1836"/>
                  </a:cubicBezTo>
                  <a:cubicBezTo>
                    <a:pt x="461" y="1808"/>
                    <a:pt x="444" y="1769"/>
                    <a:pt x="473" y="1746"/>
                  </a:cubicBezTo>
                  <a:cubicBezTo>
                    <a:pt x="487" y="1735"/>
                    <a:pt x="516" y="1734"/>
                    <a:pt x="533" y="1728"/>
                  </a:cubicBezTo>
                  <a:cubicBezTo>
                    <a:pt x="529" y="1694"/>
                    <a:pt x="506" y="1651"/>
                    <a:pt x="545" y="1638"/>
                  </a:cubicBezTo>
                  <a:cubicBezTo>
                    <a:pt x="570" y="1655"/>
                    <a:pt x="577" y="1651"/>
                    <a:pt x="593" y="1626"/>
                  </a:cubicBezTo>
                  <a:cubicBezTo>
                    <a:pt x="583" y="1554"/>
                    <a:pt x="602" y="1590"/>
                    <a:pt x="569" y="1590"/>
                  </a:cubicBezTo>
                  <a:cubicBezTo>
                    <a:pt x="553" y="1590"/>
                    <a:pt x="537" y="1586"/>
                    <a:pt x="521" y="1584"/>
                  </a:cubicBezTo>
                  <a:cubicBezTo>
                    <a:pt x="517" y="1578"/>
                    <a:pt x="515" y="1571"/>
                    <a:pt x="509" y="1566"/>
                  </a:cubicBezTo>
                  <a:cubicBezTo>
                    <a:pt x="504" y="1562"/>
                    <a:pt x="488" y="1566"/>
                    <a:pt x="491" y="1560"/>
                  </a:cubicBezTo>
                  <a:cubicBezTo>
                    <a:pt x="495" y="1553"/>
                    <a:pt x="507" y="1556"/>
                    <a:pt x="515" y="1554"/>
                  </a:cubicBezTo>
                  <a:cubicBezTo>
                    <a:pt x="527" y="1550"/>
                    <a:pt x="551" y="1542"/>
                    <a:pt x="551" y="1542"/>
                  </a:cubicBezTo>
                  <a:cubicBezTo>
                    <a:pt x="563" y="1546"/>
                    <a:pt x="575" y="1558"/>
                    <a:pt x="587" y="1554"/>
                  </a:cubicBezTo>
                  <a:cubicBezTo>
                    <a:pt x="599" y="1550"/>
                    <a:pt x="623" y="1542"/>
                    <a:pt x="623" y="1542"/>
                  </a:cubicBezTo>
                  <a:cubicBezTo>
                    <a:pt x="658" y="1490"/>
                    <a:pt x="651" y="1517"/>
                    <a:pt x="641" y="1440"/>
                  </a:cubicBezTo>
                  <a:cubicBezTo>
                    <a:pt x="639" y="1425"/>
                    <a:pt x="637" y="1403"/>
                    <a:pt x="623" y="1392"/>
                  </a:cubicBezTo>
                  <a:cubicBezTo>
                    <a:pt x="607" y="1379"/>
                    <a:pt x="583" y="1383"/>
                    <a:pt x="563" y="1380"/>
                  </a:cubicBezTo>
                  <a:cubicBezTo>
                    <a:pt x="530" y="1358"/>
                    <a:pt x="533" y="1319"/>
                    <a:pt x="521" y="1284"/>
                  </a:cubicBezTo>
                  <a:cubicBezTo>
                    <a:pt x="516" y="1247"/>
                    <a:pt x="491" y="1180"/>
                    <a:pt x="539" y="1164"/>
                  </a:cubicBezTo>
                  <a:cubicBezTo>
                    <a:pt x="546" y="1144"/>
                    <a:pt x="556" y="1130"/>
                    <a:pt x="563" y="1110"/>
                  </a:cubicBezTo>
                  <a:cubicBezTo>
                    <a:pt x="557" y="1104"/>
                    <a:pt x="548" y="1100"/>
                    <a:pt x="545" y="1092"/>
                  </a:cubicBezTo>
                  <a:cubicBezTo>
                    <a:pt x="536" y="1064"/>
                    <a:pt x="597" y="1063"/>
                    <a:pt x="605" y="1062"/>
                  </a:cubicBezTo>
                  <a:cubicBezTo>
                    <a:pt x="612" y="1026"/>
                    <a:pt x="628" y="1003"/>
                    <a:pt x="653" y="978"/>
                  </a:cubicBezTo>
                  <a:cubicBezTo>
                    <a:pt x="666" y="913"/>
                    <a:pt x="657" y="922"/>
                    <a:pt x="725" y="912"/>
                  </a:cubicBezTo>
                  <a:cubicBezTo>
                    <a:pt x="738" y="847"/>
                    <a:pt x="715" y="913"/>
                    <a:pt x="779" y="876"/>
                  </a:cubicBezTo>
                  <a:cubicBezTo>
                    <a:pt x="791" y="869"/>
                    <a:pt x="789" y="843"/>
                    <a:pt x="803" y="840"/>
                  </a:cubicBezTo>
                  <a:cubicBezTo>
                    <a:pt x="811" y="838"/>
                    <a:pt x="819" y="836"/>
                    <a:pt x="827" y="834"/>
                  </a:cubicBezTo>
                  <a:cubicBezTo>
                    <a:pt x="859" y="786"/>
                    <a:pt x="861" y="786"/>
                    <a:pt x="839" y="720"/>
                  </a:cubicBezTo>
                  <a:cubicBezTo>
                    <a:pt x="848" y="684"/>
                    <a:pt x="855" y="669"/>
                    <a:pt x="887" y="648"/>
                  </a:cubicBezTo>
                  <a:cubicBezTo>
                    <a:pt x="865" y="626"/>
                    <a:pt x="832" y="598"/>
                    <a:pt x="881" y="582"/>
                  </a:cubicBezTo>
                  <a:cubicBezTo>
                    <a:pt x="891" y="584"/>
                    <a:pt x="901" y="591"/>
                    <a:pt x="911" y="588"/>
                  </a:cubicBezTo>
                  <a:cubicBezTo>
                    <a:pt x="924" y="584"/>
                    <a:pt x="923" y="560"/>
                    <a:pt x="929" y="552"/>
                  </a:cubicBezTo>
                  <a:cubicBezTo>
                    <a:pt x="934" y="546"/>
                    <a:pt x="941" y="544"/>
                    <a:pt x="947" y="540"/>
                  </a:cubicBezTo>
                  <a:cubicBezTo>
                    <a:pt x="967" y="553"/>
                    <a:pt x="972" y="563"/>
                    <a:pt x="1001" y="546"/>
                  </a:cubicBezTo>
                  <a:cubicBezTo>
                    <a:pt x="1006" y="543"/>
                    <a:pt x="1002" y="532"/>
                    <a:pt x="1007" y="528"/>
                  </a:cubicBezTo>
                  <a:cubicBezTo>
                    <a:pt x="1017" y="521"/>
                    <a:pt x="1031" y="520"/>
                    <a:pt x="1043" y="516"/>
                  </a:cubicBezTo>
                  <a:cubicBezTo>
                    <a:pt x="1049" y="514"/>
                    <a:pt x="1061" y="510"/>
                    <a:pt x="1061" y="510"/>
                  </a:cubicBezTo>
                  <a:cubicBezTo>
                    <a:pt x="1083" y="477"/>
                    <a:pt x="1060" y="490"/>
                    <a:pt x="1049" y="456"/>
                  </a:cubicBezTo>
                  <a:cubicBezTo>
                    <a:pt x="1048" y="416"/>
                    <a:pt x="1047" y="272"/>
                    <a:pt x="1037" y="204"/>
                  </a:cubicBezTo>
                  <a:cubicBezTo>
                    <a:pt x="1033" y="175"/>
                    <a:pt x="1004" y="158"/>
                    <a:pt x="995" y="132"/>
                  </a:cubicBezTo>
                  <a:cubicBezTo>
                    <a:pt x="990" y="116"/>
                    <a:pt x="937" y="133"/>
                    <a:pt x="927" y="120"/>
                  </a:cubicBezTo>
                  <a:cubicBezTo>
                    <a:pt x="904" y="91"/>
                    <a:pt x="868" y="106"/>
                    <a:pt x="837" y="96"/>
                  </a:cubicBezTo>
                  <a:cubicBezTo>
                    <a:pt x="780" y="77"/>
                    <a:pt x="822" y="19"/>
                    <a:pt x="839" y="36"/>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813400" y="1564200"/>
              <a:ext cx="1573920" cy="3307320"/>
            </a:xfrm>
            <a:custGeom>
              <a:avLst/>
              <a:gdLst/>
              <a:ahLst/>
              <a:rect l="l" t="t" r="r" b="b"/>
              <a:pathLst>
                <a:path w="808" h="1698">
                  <a:moveTo>
                    <a:pt x="15" y="198"/>
                  </a:moveTo>
                  <a:cubicBezTo>
                    <a:pt x="46" y="229"/>
                    <a:pt x="24" y="245"/>
                    <a:pt x="63" y="258"/>
                  </a:cubicBezTo>
                  <a:cubicBezTo>
                    <a:pt x="112" y="307"/>
                    <a:pt x="158" y="244"/>
                    <a:pt x="183" y="318"/>
                  </a:cubicBezTo>
                  <a:cubicBezTo>
                    <a:pt x="185" y="370"/>
                    <a:pt x="184" y="422"/>
                    <a:pt x="189" y="474"/>
                  </a:cubicBezTo>
                  <a:cubicBezTo>
                    <a:pt x="190" y="487"/>
                    <a:pt x="201" y="510"/>
                    <a:pt x="201" y="510"/>
                  </a:cubicBezTo>
                  <a:cubicBezTo>
                    <a:pt x="192" y="538"/>
                    <a:pt x="194" y="553"/>
                    <a:pt x="219" y="570"/>
                  </a:cubicBezTo>
                  <a:cubicBezTo>
                    <a:pt x="223" y="647"/>
                    <a:pt x="204" y="681"/>
                    <a:pt x="249" y="726"/>
                  </a:cubicBezTo>
                  <a:cubicBezTo>
                    <a:pt x="257" y="750"/>
                    <a:pt x="267" y="754"/>
                    <a:pt x="291" y="762"/>
                  </a:cubicBezTo>
                  <a:cubicBezTo>
                    <a:pt x="293" y="768"/>
                    <a:pt x="293" y="775"/>
                    <a:pt x="297" y="780"/>
                  </a:cubicBezTo>
                  <a:cubicBezTo>
                    <a:pt x="302" y="787"/>
                    <a:pt x="314" y="790"/>
                    <a:pt x="315" y="798"/>
                  </a:cubicBezTo>
                  <a:cubicBezTo>
                    <a:pt x="322" y="854"/>
                    <a:pt x="318" y="880"/>
                    <a:pt x="279" y="906"/>
                  </a:cubicBezTo>
                  <a:cubicBezTo>
                    <a:pt x="281" y="924"/>
                    <a:pt x="298" y="948"/>
                    <a:pt x="285" y="960"/>
                  </a:cubicBezTo>
                  <a:cubicBezTo>
                    <a:pt x="267" y="976"/>
                    <a:pt x="235" y="955"/>
                    <a:pt x="213" y="966"/>
                  </a:cubicBezTo>
                  <a:cubicBezTo>
                    <a:pt x="193" y="976"/>
                    <a:pt x="204" y="1035"/>
                    <a:pt x="189" y="1050"/>
                  </a:cubicBezTo>
                  <a:cubicBezTo>
                    <a:pt x="177" y="1062"/>
                    <a:pt x="157" y="1059"/>
                    <a:pt x="141" y="1062"/>
                  </a:cubicBezTo>
                  <a:cubicBezTo>
                    <a:pt x="135" y="1081"/>
                    <a:pt x="140" y="1105"/>
                    <a:pt x="129" y="1122"/>
                  </a:cubicBezTo>
                  <a:cubicBezTo>
                    <a:pt x="121" y="1134"/>
                    <a:pt x="101" y="1129"/>
                    <a:pt x="87" y="1134"/>
                  </a:cubicBezTo>
                  <a:cubicBezTo>
                    <a:pt x="83" y="1140"/>
                    <a:pt x="77" y="1145"/>
                    <a:pt x="75" y="1152"/>
                  </a:cubicBezTo>
                  <a:cubicBezTo>
                    <a:pt x="71" y="1166"/>
                    <a:pt x="75" y="1181"/>
                    <a:pt x="69" y="1194"/>
                  </a:cubicBezTo>
                  <a:cubicBezTo>
                    <a:pt x="66" y="1200"/>
                    <a:pt x="57" y="1197"/>
                    <a:pt x="51" y="1200"/>
                  </a:cubicBezTo>
                  <a:cubicBezTo>
                    <a:pt x="45" y="1203"/>
                    <a:pt x="39" y="1208"/>
                    <a:pt x="33" y="1212"/>
                  </a:cubicBezTo>
                  <a:cubicBezTo>
                    <a:pt x="19" y="1253"/>
                    <a:pt x="21" y="1296"/>
                    <a:pt x="45" y="1332"/>
                  </a:cubicBezTo>
                  <a:cubicBezTo>
                    <a:pt x="51" y="1354"/>
                    <a:pt x="57" y="1376"/>
                    <a:pt x="63" y="1398"/>
                  </a:cubicBezTo>
                  <a:cubicBezTo>
                    <a:pt x="69" y="1556"/>
                    <a:pt x="22" y="1570"/>
                    <a:pt x="135" y="1584"/>
                  </a:cubicBezTo>
                  <a:cubicBezTo>
                    <a:pt x="148" y="1622"/>
                    <a:pt x="152" y="1658"/>
                    <a:pt x="159" y="1698"/>
                  </a:cubicBezTo>
                  <a:cubicBezTo>
                    <a:pt x="243" y="1692"/>
                    <a:pt x="280" y="1674"/>
                    <a:pt x="369" y="1668"/>
                  </a:cubicBezTo>
                  <a:cubicBezTo>
                    <a:pt x="418" y="1635"/>
                    <a:pt x="358" y="1681"/>
                    <a:pt x="393" y="1632"/>
                  </a:cubicBezTo>
                  <a:cubicBezTo>
                    <a:pt x="399" y="1624"/>
                    <a:pt x="410" y="1621"/>
                    <a:pt x="417" y="1614"/>
                  </a:cubicBezTo>
                  <a:cubicBezTo>
                    <a:pt x="422" y="1609"/>
                    <a:pt x="422" y="1597"/>
                    <a:pt x="429" y="1596"/>
                  </a:cubicBezTo>
                  <a:cubicBezTo>
                    <a:pt x="474" y="1587"/>
                    <a:pt x="567" y="1584"/>
                    <a:pt x="567" y="1584"/>
                  </a:cubicBezTo>
                  <a:cubicBezTo>
                    <a:pt x="574" y="1534"/>
                    <a:pt x="599" y="1487"/>
                    <a:pt x="651" y="1470"/>
                  </a:cubicBezTo>
                  <a:cubicBezTo>
                    <a:pt x="673" y="1448"/>
                    <a:pt x="685" y="1422"/>
                    <a:pt x="711" y="1404"/>
                  </a:cubicBezTo>
                  <a:cubicBezTo>
                    <a:pt x="723" y="1367"/>
                    <a:pt x="732" y="1328"/>
                    <a:pt x="753" y="1296"/>
                  </a:cubicBezTo>
                  <a:cubicBezTo>
                    <a:pt x="762" y="1253"/>
                    <a:pt x="783" y="1212"/>
                    <a:pt x="807" y="1176"/>
                  </a:cubicBezTo>
                  <a:cubicBezTo>
                    <a:pt x="802" y="1137"/>
                    <a:pt x="808" y="1119"/>
                    <a:pt x="777" y="1098"/>
                  </a:cubicBezTo>
                  <a:cubicBezTo>
                    <a:pt x="762" y="1076"/>
                    <a:pt x="739" y="1053"/>
                    <a:pt x="717" y="1038"/>
                  </a:cubicBezTo>
                  <a:cubicBezTo>
                    <a:pt x="703" y="996"/>
                    <a:pt x="723" y="954"/>
                    <a:pt x="711" y="906"/>
                  </a:cubicBezTo>
                  <a:cubicBezTo>
                    <a:pt x="709" y="897"/>
                    <a:pt x="682" y="881"/>
                    <a:pt x="675" y="876"/>
                  </a:cubicBezTo>
                  <a:cubicBezTo>
                    <a:pt x="671" y="870"/>
                    <a:pt x="665" y="865"/>
                    <a:pt x="663" y="858"/>
                  </a:cubicBezTo>
                  <a:cubicBezTo>
                    <a:pt x="659" y="844"/>
                    <a:pt x="664" y="828"/>
                    <a:pt x="657" y="816"/>
                  </a:cubicBezTo>
                  <a:cubicBezTo>
                    <a:pt x="649" y="804"/>
                    <a:pt x="629" y="809"/>
                    <a:pt x="615" y="804"/>
                  </a:cubicBezTo>
                  <a:cubicBezTo>
                    <a:pt x="606" y="776"/>
                    <a:pt x="608" y="761"/>
                    <a:pt x="633" y="744"/>
                  </a:cubicBezTo>
                  <a:cubicBezTo>
                    <a:pt x="635" y="738"/>
                    <a:pt x="640" y="732"/>
                    <a:pt x="639" y="726"/>
                  </a:cubicBezTo>
                  <a:cubicBezTo>
                    <a:pt x="638" y="719"/>
                    <a:pt x="627" y="715"/>
                    <a:pt x="627" y="708"/>
                  </a:cubicBezTo>
                  <a:cubicBezTo>
                    <a:pt x="627" y="695"/>
                    <a:pt x="639" y="672"/>
                    <a:pt x="639" y="672"/>
                  </a:cubicBezTo>
                  <a:cubicBezTo>
                    <a:pt x="632" y="619"/>
                    <a:pt x="612" y="555"/>
                    <a:pt x="573" y="516"/>
                  </a:cubicBezTo>
                  <a:cubicBezTo>
                    <a:pt x="580" y="457"/>
                    <a:pt x="587" y="456"/>
                    <a:pt x="603" y="408"/>
                  </a:cubicBezTo>
                  <a:cubicBezTo>
                    <a:pt x="601" y="394"/>
                    <a:pt x="604" y="378"/>
                    <a:pt x="597" y="366"/>
                  </a:cubicBezTo>
                  <a:cubicBezTo>
                    <a:pt x="593" y="359"/>
                    <a:pt x="580" y="364"/>
                    <a:pt x="573" y="360"/>
                  </a:cubicBezTo>
                  <a:cubicBezTo>
                    <a:pt x="559" y="352"/>
                    <a:pt x="550" y="339"/>
                    <a:pt x="537" y="330"/>
                  </a:cubicBezTo>
                  <a:cubicBezTo>
                    <a:pt x="520" y="304"/>
                    <a:pt x="517" y="280"/>
                    <a:pt x="495" y="258"/>
                  </a:cubicBezTo>
                  <a:cubicBezTo>
                    <a:pt x="499" y="202"/>
                    <a:pt x="507" y="157"/>
                    <a:pt x="513" y="102"/>
                  </a:cubicBezTo>
                  <a:cubicBezTo>
                    <a:pt x="506" y="65"/>
                    <a:pt x="489" y="42"/>
                    <a:pt x="453" y="30"/>
                  </a:cubicBezTo>
                  <a:cubicBezTo>
                    <a:pt x="437" y="6"/>
                    <a:pt x="441" y="0"/>
                    <a:pt x="399" y="18"/>
                  </a:cubicBezTo>
                  <a:cubicBezTo>
                    <a:pt x="383" y="25"/>
                    <a:pt x="389" y="43"/>
                    <a:pt x="381" y="54"/>
                  </a:cubicBezTo>
                  <a:cubicBezTo>
                    <a:pt x="367" y="71"/>
                    <a:pt x="334" y="74"/>
                    <a:pt x="315" y="78"/>
                  </a:cubicBezTo>
                  <a:cubicBezTo>
                    <a:pt x="302" y="117"/>
                    <a:pt x="314" y="157"/>
                    <a:pt x="291" y="192"/>
                  </a:cubicBezTo>
                  <a:cubicBezTo>
                    <a:pt x="289" y="206"/>
                    <a:pt x="296" y="226"/>
                    <a:pt x="285" y="234"/>
                  </a:cubicBezTo>
                  <a:cubicBezTo>
                    <a:pt x="255" y="256"/>
                    <a:pt x="241" y="225"/>
                    <a:pt x="231" y="210"/>
                  </a:cubicBezTo>
                  <a:cubicBezTo>
                    <a:pt x="169" y="219"/>
                    <a:pt x="201" y="218"/>
                    <a:pt x="159" y="246"/>
                  </a:cubicBezTo>
                  <a:cubicBezTo>
                    <a:pt x="141" y="242"/>
                    <a:pt x="119" y="246"/>
                    <a:pt x="105" y="234"/>
                  </a:cubicBezTo>
                  <a:cubicBezTo>
                    <a:pt x="87" y="220"/>
                    <a:pt x="101" y="180"/>
                    <a:pt x="87" y="162"/>
                  </a:cubicBezTo>
                  <a:cubicBezTo>
                    <a:pt x="75" y="147"/>
                    <a:pt x="33" y="138"/>
                    <a:pt x="33" y="138"/>
                  </a:cubicBezTo>
                  <a:cubicBezTo>
                    <a:pt x="31" y="152"/>
                    <a:pt x="33" y="167"/>
                    <a:pt x="27" y="180"/>
                  </a:cubicBezTo>
                  <a:cubicBezTo>
                    <a:pt x="14" y="206"/>
                    <a:pt x="0" y="167"/>
                    <a:pt x="15" y="198"/>
                  </a:cubicBezTo>
                  <a:close/>
                </a:path>
              </a:pathLst>
            </a:custGeom>
            <a:solidFill>
              <a:srgbClr val="0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24640" y="1815480"/>
              <a:ext cx="319680" cy="340560"/>
            </a:xfrm>
            <a:custGeom>
              <a:avLst/>
              <a:gdLst/>
              <a:ahLst/>
              <a:rect l="l" t="t" r="r" b="b"/>
              <a:pathLst>
                <a:path w="164" h="175">
                  <a:moveTo>
                    <a:pt x="116" y="144"/>
                  </a:moveTo>
                  <a:cubicBezTo>
                    <a:pt x="21" y="158"/>
                    <a:pt x="118" y="174"/>
                    <a:pt x="20" y="162"/>
                  </a:cubicBezTo>
                  <a:cubicBezTo>
                    <a:pt x="4" y="113"/>
                    <a:pt x="18" y="175"/>
                    <a:pt x="32" y="132"/>
                  </a:cubicBezTo>
                  <a:cubicBezTo>
                    <a:pt x="59" y="51"/>
                    <a:pt x="0" y="75"/>
                    <a:pt x="92" y="60"/>
                  </a:cubicBezTo>
                  <a:cubicBezTo>
                    <a:pt x="102" y="30"/>
                    <a:pt x="88" y="11"/>
                    <a:pt x="122" y="0"/>
                  </a:cubicBezTo>
                  <a:cubicBezTo>
                    <a:pt x="136" y="5"/>
                    <a:pt x="148" y="3"/>
                    <a:pt x="146" y="24"/>
                  </a:cubicBezTo>
                  <a:cubicBezTo>
                    <a:pt x="145" y="37"/>
                    <a:pt x="134" y="60"/>
                    <a:pt x="134" y="60"/>
                  </a:cubicBezTo>
                  <a:cubicBezTo>
                    <a:pt x="164" y="80"/>
                    <a:pt x="164" y="102"/>
                    <a:pt x="128" y="114"/>
                  </a:cubicBezTo>
                  <a:cubicBezTo>
                    <a:pt x="124" y="120"/>
                    <a:pt x="117" y="125"/>
                    <a:pt x="116" y="132"/>
                  </a:cubicBezTo>
                  <a:cubicBezTo>
                    <a:pt x="115" y="138"/>
                    <a:pt x="128" y="147"/>
                    <a:pt x="122" y="150"/>
                  </a:cubicBezTo>
                  <a:cubicBezTo>
                    <a:pt x="113" y="155"/>
                    <a:pt x="99" y="151"/>
                    <a:pt x="92" y="144"/>
                  </a:cubicBezTo>
                  <a:cubicBezTo>
                    <a:pt x="86" y="138"/>
                    <a:pt x="108" y="144"/>
                    <a:pt x="116" y="144"/>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396880" y="5461920"/>
              <a:ext cx="321120" cy="338760"/>
            </a:xfrm>
            <a:custGeom>
              <a:avLst/>
              <a:gdLst/>
              <a:ahLst/>
              <a:rect l="l" t="t" r="r" b="b"/>
              <a:pathLst>
                <a:path w="165" h="174">
                  <a:moveTo>
                    <a:pt x="142" y="24"/>
                  </a:moveTo>
                  <a:cubicBezTo>
                    <a:pt x="82" y="39"/>
                    <a:pt x="131" y="89"/>
                    <a:pt x="88" y="132"/>
                  </a:cubicBezTo>
                  <a:cubicBezTo>
                    <a:pt x="76" y="168"/>
                    <a:pt x="64" y="138"/>
                    <a:pt x="52" y="174"/>
                  </a:cubicBezTo>
                  <a:cubicBezTo>
                    <a:pt x="0" y="157"/>
                    <a:pt x="45" y="91"/>
                    <a:pt x="52" y="54"/>
                  </a:cubicBezTo>
                  <a:cubicBezTo>
                    <a:pt x="54" y="44"/>
                    <a:pt x="52" y="32"/>
                    <a:pt x="58" y="24"/>
                  </a:cubicBezTo>
                  <a:cubicBezTo>
                    <a:pt x="59" y="23"/>
                    <a:pt x="107" y="2"/>
                    <a:pt x="112" y="0"/>
                  </a:cubicBezTo>
                  <a:cubicBezTo>
                    <a:pt x="120" y="2"/>
                    <a:pt x="129" y="1"/>
                    <a:pt x="136" y="6"/>
                  </a:cubicBezTo>
                  <a:cubicBezTo>
                    <a:pt x="165" y="26"/>
                    <a:pt x="151" y="24"/>
                    <a:pt x="142" y="2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170800" y="5707080"/>
              <a:ext cx="220320" cy="335160"/>
            </a:xfrm>
            <a:custGeom>
              <a:avLst/>
              <a:gdLst/>
              <a:ahLst/>
              <a:rect l="l" t="t" r="r" b="b"/>
              <a:pathLst>
                <a:path w="113" h="172">
                  <a:moveTo>
                    <a:pt x="113" y="4"/>
                  </a:moveTo>
                  <a:cubicBezTo>
                    <a:pt x="100" y="42"/>
                    <a:pt x="102" y="80"/>
                    <a:pt x="89" y="118"/>
                  </a:cubicBezTo>
                  <a:cubicBezTo>
                    <a:pt x="82" y="138"/>
                    <a:pt x="59" y="172"/>
                    <a:pt x="59" y="172"/>
                  </a:cubicBezTo>
                  <a:cubicBezTo>
                    <a:pt x="0" y="157"/>
                    <a:pt x="28" y="108"/>
                    <a:pt x="53" y="70"/>
                  </a:cubicBezTo>
                  <a:cubicBezTo>
                    <a:pt x="60" y="0"/>
                    <a:pt x="51" y="4"/>
                    <a:pt x="113" y="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8880" y="5272920"/>
              <a:ext cx="518040" cy="952200"/>
            </a:xfrm>
            <a:custGeom>
              <a:avLst/>
              <a:gdLst/>
              <a:ahLst/>
              <a:rect l="l" t="t" r="r" b="b"/>
              <a:pathLst>
                <a:path w="266" h="489">
                  <a:moveTo>
                    <a:pt x="266" y="55"/>
                  </a:moveTo>
                  <a:cubicBezTo>
                    <a:pt x="251" y="99"/>
                    <a:pt x="260" y="123"/>
                    <a:pt x="212" y="139"/>
                  </a:cubicBezTo>
                  <a:cubicBezTo>
                    <a:pt x="220" y="194"/>
                    <a:pt x="214" y="168"/>
                    <a:pt x="230" y="217"/>
                  </a:cubicBezTo>
                  <a:cubicBezTo>
                    <a:pt x="234" y="229"/>
                    <a:pt x="242" y="253"/>
                    <a:pt x="242" y="253"/>
                  </a:cubicBezTo>
                  <a:cubicBezTo>
                    <a:pt x="227" y="341"/>
                    <a:pt x="255" y="247"/>
                    <a:pt x="200" y="295"/>
                  </a:cubicBezTo>
                  <a:cubicBezTo>
                    <a:pt x="190" y="303"/>
                    <a:pt x="190" y="319"/>
                    <a:pt x="188" y="331"/>
                  </a:cubicBezTo>
                  <a:cubicBezTo>
                    <a:pt x="186" y="343"/>
                    <a:pt x="191" y="358"/>
                    <a:pt x="182" y="367"/>
                  </a:cubicBezTo>
                  <a:cubicBezTo>
                    <a:pt x="173" y="376"/>
                    <a:pt x="158" y="371"/>
                    <a:pt x="146" y="373"/>
                  </a:cubicBezTo>
                  <a:cubicBezTo>
                    <a:pt x="142" y="386"/>
                    <a:pt x="131" y="396"/>
                    <a:pt x="128" y="409"/>
                  </a:cubicBezTo>
                  <a:cubicBezTo>
                    <a:pt x="110" y="489"/>
                    <a:pt x="141" y="450"/>
                    <a:pt x="104" y="487"/>
                  </a:cubicBezTo>
                  <a:cubicBezTo>
                    <a:pt x="77" y="480"/>
                    <a:pt x="53" y="474"/>
                    <a:pt x="26" y="469"/>
                  </a:cubicBezTo>
                  <a:cubicBezTo>
                    <a:pt x="9" y="444"/>
                    <a:pt x="16" y="433"/>
                    <a:pt x="32" y="409"/>
                  </a:cubicBezTo>
                  <a:cubicBezTo>
                    <a:pt x="25" y="379"/>
                    <a:pt x="10" y="355"/>
                    <a:pt x="2" y="325"/>
                  </a:cubicBezTo>
                  <a:cubicBezTo>
                    <a:pt x="14" y="289"/>
                    <a:pt x="22" y="301"/>
                    <a:pt x="14" y="259"/>
                  </a:cubicBezTo>
                  <a:cubicBezTo>
                    <a:pt x="16" y="249"/>
                    <a:pt x="15" y="238"/>
                    <a:pt x="20" y="229"/>
                  </a:cubicBezTo>
                  <a:cubicBezTo>
                    <a:pt x="24" y="223"/>
                    <a:pt x="33" y="222"/>
                    <a:pt x="38" y="217"/>
                  </a:cubicBezTo>
                  <a:cubicBezTo>
                    <a:pt x="50" y="205"/>
                    <a:pt x="51" y="196"/>
                    <a:pt x="56" y="181"/>
                  </a:cubicBezTo>
                  <a:cubicBezTo>
                    <a:pt x="0" y="98"/>
                    <a:pt x="139" y="124"/>
                    <a:pt x="188" y="91"/>
                  </a:cubicBezTo>
                  <a:cubicBezTo>
                    <a:pt x="190" y="81"/>
                    <a:pt x="188" y="69"/>
                    <a:pt x="194" y="61"/>
                  </a:cubicBezTo>
                  <a:cubicBezTo>
                    <a:pt x="198" y="56"/>
                    <a:pt x="206" y="58"/>
                    <a:pt x="212" y="55"/>
                  </a:cubicBezTo>
                  <a:cubicBezTo>
                    <a:pt x="245" y="38"/>
                    <a:pt x="266" y="0"/>
                    <a:pt x="266" y="55"/>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163520" y="5882400"/>
              <a:ext cx="311760" cy="379800"/>
            </a:xfrm>
            <a:custGeom>
              <a:avLst/>
              <a:gdLst/>
              <a:ahLst/>
              <a:rect l="l" t="t" r="r" b="b"/>
              <a:pathLst>
                <a:path w="160" h="195">
                  <a:moveTo>
                    <a:pt x="108" y="156"/>
                  </a:moveTo>
                  <a:cubicBezTo>
                    <a:pt x="96" y="158"/>
                    <a:pt x="82" y="155"/>
                    <a:pt x="72" y="162"/>
                  </a:cubicBezTo>
                  <a:cubicBezTo>
                    <a:pt x="41" y="184"/>
                    <a:pt x="92" y="195"/>
                    <a:pt x="48" y="180"/>
                  </a:cubicBezTo>
                  <a:cubicBezTo>
                    <a:pt x="29" y="123"/>
                    <a:pt x="45" y="156"/>
                    <a:pt x="0" y="126"/>
                  </a:cubicBezTo>
                  <a:cubicBezTo>
                    <a:pt x="4" y="114"/>
                    <a:pt x="8" y="102"/>
                    <a:pt x="12" y="90"/>
                  </a:cubicBezTo>
                  <a:cubicBezTo>
                    <a:pt x="16" y="77"/>
                    <a:pt x="9" y="59"/>
                    <a:pt x="18" y="48"/>
                  </a:cubicBezTo>
                  <a:cubicBezTo>
                    <a:pt x="26" y="38"/>
                    <a:pt x="54" y="36"/>
                    <a:pt x="54" y="36"/>
                  </a:cubicBezTo>
                  <a:cubicBezTo>
                    <a:pt x="106" y="45"/>
                    <a:pt x="91" y="46"/>
                    <a:pt x="102" y="0"/>
                  </a:cubicBezTo>
                  <a:cubicBezTo>
                    <a:pt x="160" y="19"/>
                    <a:pt x="130" y="3"/>
                    <a:pt x="114" y="138"/>
                  </a:cubicBezTo>
                  <a:cubicBezTo>
                    <a:pt x="112" y="158"/>
                    <a:pt x="92" y="156"/>
                    <a:pt x="108" y="156"/>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65160" y="6032520"/>
              <a:ext cx="194760" cy="129960"/>
            </a:xfrm>
            <a:custGeom>
              <a:avLst/>
              <a:gdLst/>
              <a:ahLst/>
              <a:rect l="l" t="t" r="r" b="b"/>
              <a:pathLst>
                <a:path w="100" h="67">
                  <a:moveTo>
                    <a:pt x="36" y="1"/>
                  </a:moveTo>
                  <a:cubicBezTo>
                    <a:pt x="73" y="10"/>
                    <a:pt x="100" y="50"/>
                    <a:pt x="48" y="67"/>
                  </a:cubicBezTo>
                  <a:cubicBezTo>
                    <a:pt x="38" y="65"/>
                    <a:pt x="27" y="66"/>
                    <a:pt x="18" y="61"/>
                  </a:cubicBezTo>
                  <a:cubicBezTo>
                    <a:pt x="0" y="51"/>
                    <a:pt x="3" y="20"/>
                    <a:pt x="12" y="7"/>
                  </a:cubicBezTo>
                  <a:cubicBezTo>
                    <a:pt x="17" y="0"/>
                    <a:pt x="28" y="3"/>
                    <a:pt x="36" y="1"/>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091520" y="6267960"/>
              <a:ext cx="259200" cy="132480"/>
            </a:xfrm>
            <a:custGeom>
              <a:avLst/>
              <a:gdLst/>
              <a:ahLst/>
              <a:rect l="l" t="t" r="r" b="b"/>
              <a:pathLst>
                <a:path w="133" h="68">
                  <a:moveTo>
                    <a:pt x="127" y="30"/>
                  </a:moveTo>
                  <a:cubicBezTo>
                    <a:pt x="114" y="68"/>
                    <a:pt x="75" y="56"/>
                    <a:pt x="43" y="48"/>
                  </a:cubicBezTo>
                  <a:cubicBezTo>
                    <a:pt x="0" y="19"/>
                    <a:pt x="4" y="38"/>
                    <a:pt x="13" y="0"/>
                  </a:cubicBezTo>
                  <a:cubicBezTo>
                    <a:pt x="68" y="4"/>
                    <a:pt x="87" y="7"/>
                    <a:pt x="133" y="18"/>
                  </a:cubicBezTo>
                  <a:cubicBezTo>
                    <a:pt x="126" y="46"/>
                    <a:pt x="127" y="50"/>
                    <a:pt x="127" y="3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818000" y="6198120"/>
              <a:ext cx="103320" cy="163080"/>
            </a:xfrm>
            <a:custGeom>
              <a:avLst/>
              <a:gdLst/>
              <a:ahLst/>
              <a:rect l="l" t="t" r="r" b="b"/>
              <a:pathLst>
                <a:path w="53" h="84">
                  <a:moveTo>
                    <a:pt x="18" y="0"/>
                  </a:moveTo>
                  <a:cubicBezTo>
                    <a:pt x="53" y="23"/>
                    <a:pt x="41" y="39"/>
                    <a:pt x="36" y="84"/>
                  </a:cubicBezTo>
                  <a:cubicBezTo>
                    <a:pt x="2" y="73"/>
                    <a:pt x="19" y="53"/>
                    <a:pt x="0" y="24"/>
                  </a:cubicBezTo>
                  <a:cubicBezTo>
                    <a:pt x="21" y="10"/>
                    <a:pt x="18" y="19"/>
                    <a:pt x="18"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
          <p:cNvGrpSpPr/>
          <p:nvPr/>
        </p:nvGrpSpPr>
        <p:grpSpPr>
          <a:xfrm>
            <a:off x="387000" y="3124080"/>
            <a:ext cx="3668400" cy="3476880"/>
            <a:chOff x="387000" y="3124080"/>
            <a:chExt cx="3668400" cy="3476880"/>
          </a:xfrm>
        </p:grpSpPr>
        <p:sp>
          <p:nvSpPr>
            <p:cNvPr id="164" name=""/>
            <p:cNvSpPr/>
            <p:nvPr/>
          </p:nvSpPr>
          <p:spPr>
            <a:xfrm>
              <a:off x="3207240" y="3886200"/>
              <a:ext cx="848160" cy="27648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NLAND</a:t>
              </a:r>
              <a:endParaRPr b="0" lang="en-US" sz="1200" spc="-1" strike="noStrike">
                <a:solidFill>
                  <a:srgbClr val="000000"/>
                </a:solidFill>
                <a:latin typeface="Arial"/>
              </a:endParaRPr>
            </a:p>
          </p:txBody>
        </p:sp>
        <p:sp>
          <p:nvSpPr>
            <p:cNvPr id="165" name=""/>
            <p:cNvSpPr/>
            <p:nvPr/>
          </p:nvSpPr>
          <p:spPr>
            <a:xfrm>
              <a:off x="387000" y="6324480"/>
              <a:ext cx="957960" cy="276480"/>
            </a:xfrm>
            <a:prstGeom prst="rect">
              <a:avLst/>
            </a:prstGeom>
            <a:solidFill>
              <a:srgbClr val="9900c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MARK</a:t>
              </a:r>
              <a:endParaRPr b="0" lang="en-US" sz="1200" spc="-1" strike="noStrike">
                <a:solidFill>
                  <a:srgbClr val="000000"/>
                </a:solidFill>
                <a:latin typeface="Arial"/>
              </a:endParaRPr>
            </a:p>
          </p:txBody>
        </p:sp>
        <p:sp>
          <p:nvSpPr>
            <p:cNvPr id="166" name=""/>
            <p:cNvSpPr/>
            <p:nvPr/>
          </p:nvSpPr>
          <p:spPr>
            <a:xfrm>
              <a:off x="2292120" y="3124080"/>
              <a:ext cx="849600" cy="276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EDEN</a:t>
              </a:r>
              <a:endParaRPr b="0" lang="en-US" sz="1200" spc="-1" strike="noStrike">
                <a:solidFill>
                  <a:srgbClr val="000000"/>
                </a:solidFill>
                <a:latin typeface="Arial"/>
              </a:endParaRPr>
            </a:p>
          </p:txBody>
        </p:sp>
        <p:sp>
          <p:nvSpPr>
            <p:cNvPr id="167" name=""/>
            <p:cNvSpPr/>
            <p:nvPr/>
          </p:nvSpPr>
          <p:spPr>
            <a:xfrm>
              <a:off x="387360" y="3962520"/>
              <a:ext cx="874080" cy="276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RWAY</a:t>
              </a:r>
              <a:endParaRPr b="0" lang="en-US" sz="1200" spc="-1" strike="noStrike">
                <a:solidFill>
                  <a:srgbClr val="000000"/>
                </a:solidFill>
                <a:latin typeface="Arial"/>
              </a:endParaRPr>
            </a:p>
          </p:txBody>
        </p:sp>
      </p:grpSp>
      <p:sp>
        <p:nvSpPr>
          <p:cNvPr id="168" name=""/>
          <p:cNvSpPr/>
          <p:nvPr/>
        </p:nvSpPr>
        <p:spPr>
          <a:xfrm>
            <a:off x="723888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Asia</a:t>
            </a:r>
            <a:endParaRPr b="0" lang="en-US" sz="4400" spc="-1" strike="noStrike">
              <a:solidFill>
                <a:srgbClr val="ffffff"/>
              </a:solidFill>
              <a:latin typeface="Times New Roman"/>
            </a:endParaRPr>
          </a:p>
        </p:txBody>
      </p:sp>
      <p:sp>
        <p:nvSpPr>
          <p:cNvPr id="170" name="PlaceHolder 2"/>
          <p:cNvSpPr>
            <a:spLocks noGrp="1"/>
          </p:cNvSpPr>
          <p:nvPr>
            <p:ph/>
          </p:nvPr>
        </p:nvSpPr>
        <p:spPr>
          <a:xfrm>
            <a:off x="3962160" y="990360"/>
            <a:ext cx="5105160" cy="5181480"/>
          </a:xfrm>
          <a:prstGeom prst="rect">
            <a:avLst/>
          </a:prstGeom>
          <a:noFill/>
          <a:ln w="0">
            <a:noFill/>
          </a:ln>
        </p:spPr>
        <p:txBody>
          <a:bodyPr lIns="90000" rIns="90000" tIns="46800" bIns="46800"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Chinese people came to work in the gold fields of California.</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s worked on the construction of the first trans-continental railroa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gel Island was the primary entry for the Chinese.</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882, Congress passed a law barring Chinese immigration.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Chinese immigration was prohibited?</a:t>
            </a:r>
            <a:endParaRPr b="0" lang="en-US" sz="2800" spc="-1" strike="noStrike">
              <a:solidFill>
                <a:srgbClr val="ffffff"/>
              </a:solidFill>
              <a:latin typeface="Times New Roman"/>
            </a:endParaRPr>
          </a:p>
        </p:txBody>
      </p:sp>
      <p:sp>
        <p:nvSpPr>
          <p:cNvPr id="171" name=""/>
          <p:cNvSpPr/>
          <p:nvPr/>
        </p:nvSpPr>
        <p:spPr>
          <a:xfrm>
            <a:off x="457200" y="4572000"/>
            <a:ext cx="342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inese laborers working on the transcontinental railroad. Source: Library of Congress</a:t>
            </a:r>
            <a:endParaRPr b="0" lang="en-US" sz="1000" spc="-1" strike="noStrike">
              <a:solidFill>
                <a:srgbClr val="000000"/>
              </a:solidFill>
              <a:latin typeface="Arial"/>
            </a:endParaRPr>
          </a:p>
        </p:txBody>
      </p:sp>
      <p:pic>
        <p:nvPicPr>
          <p:cNvPr id="172" name="" descr=""/>
          <p:cNvPicPr/>
          <p:nvPr/>
        </p:nvPicPr>
        <p:blipFill>
          <a:blip r:embed="rId2"/>
          <a:stretch/>
        </p:blipFill>
        <p:spPr>
          <a:xfrm>
            <a:off x="457200" y="1689120"/>
            <a:ext cx="3352680" cy="2817720"/>
          </a:xfrm>
          <a:prstGeom prst="rect">
            <a:avLst/>
          </a:prstGeom>
          <a:ln w="0">
            <a:noFill/>
          </a:ln>
        </p:spPr>
      </p:pic>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723920" y="60912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tion and Conflict</a:t>
            </a:r>
            <a:endParaRPr b="0" lang="en-US" sz="4400" spc="-1" strike="noStrike">
              <a:solidFill>
                <a:srgbClr val="ffffff"/>
              </a:solidFill>
              <a:latin typeface="Times New Roman"/>
            </a:endParaRPr>
          </a:p>
        </p:txBody>
      </p:sp>
      <p:sp>
        <p:nvSpPr>
          <p:cNvPr id="175" name="PlaceHolder 2"/>
          <p:cNvSpPr>
            <a:spLocks noGrp="1"/>
          </p:cNvSpPr>
          <p:nvPr>
            <p:ph/>
          </p:nvPr>
        </p:nvSpPr>
        <p:spPr>
          <a:xfrm>
            <a:off x="4800600" y="2209680"/>
            <a:ext cx="4038480" cy="32306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 boycott?</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did the labor unions want a boycott on Chinese and Japanese businesses?</a:t>
            </a:r>
            <a:endParaRPr b="0" lang="en-US" sz="3200" spc="-1" strike="noStrike">
              <a:solidFill>
                <a:srgbClr val="ffffff"/>
              </a:solidFill>
              <a:latin typeface="Times New Roman"/>
            </a:endParaRPr>
          </a:p>
        </p:txBody>
      </p:sp>
      <p:pic>
        <p:nvPicPr>
          <p:cNvPr id="176" name="" descr=""/>
          <p:cNvPicPr/>
          <p:nvPr/>
        </p:nvPicPr>
        <p:blipFill>
          <a:blip r:embed="rId2"/>
          <a:stretch/>
        </p:blipFill>
        <p:spPr>
          <a:xfrm>
            <a:off x="304920" y="228600"/>
            <a:ext cx="4079880" cy="6324480"/>
          </a:xfrm>
          <a:prstGeom prst="rect">
            <a:avLst/>
          </a:prstGeom>
          <a:ln w="0">
            <a:noFill/>
          </a:ln>
        </p:spPr>
      </p:pic>
      <p:sp>
        <p:nvSpPr>
          <p:cNvPr id="177" name=""/>
          <p:cNvSpPr/>
          <p:nvPr/>
        </p:nvSpPr>
        <p:spPr>
          <a:xfrm>
            <a:off x="716292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Italy</a:t>
            </a:r>
            <a:endParaRPr b="0" lang="en-US" sz="4400" spc="-1" strike="noStrike">
              <a:solidFill>
                <a:srgbClr val="ffffff"/>
              </a:solidFill>
              <a:latin typeface="Times New Roman"/>
            </a:endParaRPr>
          </a:p>
        </p:txBody>
      </p:sp>
      <p:sp>
        <p:nvSpPr>
          <p:cNvPr id="179" name="PlaceHolder 2"/>
          <p:cNvSpPr>
            <a:spLocks noGrp="1"/>
          </p:cNvSpPr>
          <p:nvPr>
            <p:ph/>
          </p:nvPr>
        </p:nvSpPr>
        <p:spPr>
          <a:xfrm>
            <a:off x="380880" y="1294920"/>
            <a:ext cx="5105520" cy="4830840"/>
          </a:xfrm>
          <a:prstGeom prst="rect">
            <a:avLst/>
          </a:prstGeom>
          <a:noFill/>
          <a:ln w="0">
            <a:noFill/>
          </a:ln>
        </p:spPr>
        <p:txBody>
          <a:bodyPr lIns="90000" rIns="90000" tIns="46800" bIns="46800" anchor="t">
            <a:normAutofit fontScale="94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1890, the number of Italian immigrants soare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Italian immigrants were young men, and some would sail to America every spring to find work, then sail back home before winter, when jobs in America were more scarce.</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rdships did the immigrants and their families endure as a resul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opportunities did they gain?</a:t>
            </a:r>
            <a:endParaRPr b="0" lang="en-US" sz="2800" spc="-1" strike="noStrike">
              <a:solidFill>
                <a:srgbClr val="ffffff"/>
              </a:solidFill>
              <a:latin typeface="Times New Roman"/>
            </a:endParaRPr>
          </a:p>
        </p:txBody>
      </p:sp>
      <p:pic>
        <p:nvPicPr>
          <p:cNvPr id="180" name="" descr="Image, Source: intermediary roll film"/>
          <p:cNvPicPr/>
          <p:nvPr/>
        </p:nvPicPr>
        <p:blipFill>
          <a:blip r:embed="rId2"/>
          <a:stretch/>
        </p:blipFill>
        <p:spPr>
          <a:xfrm>
            <a:off x="5562720" y="1711440"/>
            <a:ext cx="3200400" cy="2479680"/>
          </a:xfrm>
          <a:prstGeom prst="rect">
            <a:avLst/>
          </a:prstGeom>
          <a:ln w="0">
            <a:noFill/>
          </a:ln>
        </p:spPr>
      </p:pic>
      <p:sp>
        <p:nvSpPr>
          <p:cNvPr id="181" name=""/>
          <p:cNvSpPr/>
          <p:nvPr/>
        </p:nvSpPr>
        <p:spPr>
          <a:xfrm>
            <a:off x="5638680" y="4191120"/>
            <a:ext cx="2133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ational Library of Congress</a:t>
            </a:r>
            <a:endParaRPr b="0" lang="en-US" sz="800" spc="-1" strike="noStrike">
              <a:solidFill>
                <a:srgbClr val="000000"/>
              </a:solidFill>
              <a:latin typeface="Arial"/>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6560" indent="-46656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arn where 18th and 19th century immigrants to the U.S. came from and why.</a:t>
            </a:r>
            <a:endParaRPr b="0" lang="en-US" sz="3600" spc="-1" strike="noStrike">
              <a:solidFill>
                <a:srgbClr val="ffffff"/>
              </a:solidFill>
              <a:latin typeface="Times New Roman"/>
            </a:endParaRPr>
          </a:p>
          <a:p>
            <a:pPr marL="466560" indent="-46656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arn about the various contributions of different immigrant groups to American culture.</a:t>
            </a:r>
            <a:endParaRPr b="0" lang="en-US" sz="3600" spc="-1" strike="noStrike">
              <a:solidFill>
                <a:srgbClr val="ffffff"/>
              </a:solidFill>
              <a:latin typeface="Times New Roman"/>
            </a:endParaRPr>
          </a:p>
        </p:txBody>
      </p:sp>
      <p:sp>
        <p:nvSpPr>
          <p:cNvPr id="52" name=""/>
          <p:cNvSpPr/>
          <p:nvPr/>
        </p:nvSpPr>
        <p:spPr>
          <a:xfrm>
            <a:off x="186480" y="6461280"/>
            <a:ext cx="71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ewish Immigrants</a:t>
            </a:r>
            <a:endParaRPr b="0" lang="en-US" sz="4400" spc="-1" strike="noStrike">
              <a:solidFill>
                <a:srgbClr val="ffffff"/>
              </a:solidFill>
              <a:latin typeface="Times New Roman"/>
            </a:endParaRPr>
          </a:p>
        </p:txBody>
      </p:sp>
      <p:sp>
        <p:nvSpPr>
          <p:cNvPr id="184" name="PlaceHolder 2"/>
          <p:cNvSpPr>
            <a:spLocks noGrp="1"/>
          </p:cNvSpPr>
          <p:nvPr>
            <p:ph/>
          </p:nvPr>
        </p:nvSpPr>
        <p:spPr>
          <a:xfrm>
            <a:off x="4114440" y="1371240"/>
            <a:ext cx="4724280" cy="5334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late 1800s and early 1900s, over 2 million Jews left Eastern Europe.  70% of these came from Russia.</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many countries Jews were restricted from voting and from entering certain professio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ti-Jewish laws were very common, especially in Russia.</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did Jews settle when they immigrated to the U.S.?</a:t>
            </a:r>
            <a:endParaRPr b="0" lang="en-US" sz="2800" spc="-1" strike="noStrike">
              <a:solidFill>
                <a:srgbClr val="ffffff"/>
              </a:solidFill>
              <a:latin typeface="Times New Roman"/>
            </a:endParaRPr>
          </a:p>
        </p:txBody>
      </p:sp>
      <p:pic>
        <p:nvPicPr>
          <p:cNvPr id="185" name="" descr=""/>
          <p:cNvPicPr/>
          <p:nvPr/>
        </p:nvPicPr>
        <p:blipFill>
          <a:blip r:embed="rId2"/>
          <a:stretch/>
        </p:blipFill>
        <p:spPr>
          <a:xfrm>
            <a:off x="380880" y="1447920"/>
            <a:ext cx="3581640" cy="2708280"/>
          </a:xfrm>
          <a:prstGeom prst="rect">
            <a:avLst/>
          </a:prstGeom>
          <a:ln w="0">
            <a:noFill/>
          </a:ln>
        </p:spPr>
      </p:pic>
      <p:sp>
        <p:nvSpPr>
          <p:cNvPr id="186" name=""/>
          <p:cNvSpPr/>
          <p:nvPr/>
        </p:nvSpPr>
        <p:spPr>
          <a:xfrm>
            <a:off x="380880" y="4191120"/>
            <a:ext cx="2133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ational Library of Congress</a:t>
            </a:r>
            <a:endParaRPr b="0" lang="en-US" sz="800" spc="-1" strike="noStrike">
              <a:solidFill>
                <a:srgbClr val="000000"/>
              </a:solidFill>
              <a:latin typeface="Arial"/>
            </a:endParaRPr>
          </a:p>
        </p:txBody>
      </p:sp>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lavic Immigrants</a:t>
            </a:r>
            <a:endParaRPr b="0" lang="en-US" sz="4400" spc="-1" strike="noStrike">
              <a:solidFill>
                <a:srgbClr val="ffffff"/>
              </a:solidFill>
              <a:latin typeface="Times New Roman"/>
            </a:endParaRPr>
          </a:p>
        </p:txBody>
      </p:sp>
      <p:sp>
        <p:nvSpPr>
          <p:cNvPr id="189" name="PlaceHolder 2"/>
          <p:cNvSpPr>
            <a:spLocks noGrp="1"/>
          </p:cNvSpPr>
          <p:nvPr>
            <p:ph/>
          </p:nvPr>
        </p:nvSpPr>
        <p:spPr>
          <a:xfrm>
            <a:off x="457200" y="1294920"/>
            <a:ext cx="8153280" cy="48308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lavic groups immigrated to the U.S. in the lat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These groups included Russians, Ukrainians, Slovaks, Slovenes, Poles, Croatians, Serbs and Bulgarians.  For a map of the region they came from, </a:t>
            </a:r>
            <a:r>
              <a:rPr b="0" lang="en-US" sz="2800" spc="-1" strike="noStrike" u="sng">
                <a:solidFill>
                  <a:srgbClr val="ff9900"/>
                </a:solidFill>
                <a:uFillTx/>
                <a:latin typeface="Times New Roman"/>
                <a:hlinkClick r:id="rId2"/>
              </a:rPr>
              <a:t>click here</a:t>
            </a:r>
            <a:r>
              <a:rPr b="0" lang="en-US" sz="2800" spc="-1" strike="noStrike" u="sng">
                <a:solidFill>
                  <a:srgbClr val="ffffff"/>
                </a:solidFill>
                <a:uFillTx/>
                <a:latin typeface="Times New Roman"/>
              </a:rPr>
              <a: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these groups had different languages and customs, but in America they learned to live and work together despite these differenc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there other examples of groups that experienced problems in their homelands, but resolved them after they immigrated to the U.S.?</a:t>
            </a:r>
            <a:endParaRPr b="0" lang="en-US" sz="2800" spc="-1" strike="noStrike">
              <a:solidFill>
                <a:srgbClr val="ffffff"/>
              </a:solidFill>
              <a:latin typeface="Times New Roman"/>
            </a:endParaRPr>
          </a:p>
        </p:txBody>
      </p:sp>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Today</a:t>
            </a:r>
            <a:endParaRPr b="0" lang="en-US" sz="4400" spc="-1" strike="noStrike">
              <a:solidFill>
                <a:srgbClr val="ffffff"/>
              </a:solidFill>
              <a:latin typeface="Times New Roman"/>
            </a:endParaRPr>
          </a:p>
        </p:txBody>
      </p:sp>
      <p:sp>
        <p:nvSpPr>
          <p:cNvPr id="192" name="PlaceHolder 2"/>
          <p:cNvSpPr>
            <a:spLocks noGrp="1"/>
          </p:cNvSpPr>
          <p:nvPr>
            <p:ph/>
          </p:nvPr>
        </p:nvSpPr>
        <p:spPr>
          <a:xfrm>
            <a:off x="914400" y="4114800"/>
            <a:ext cx="7696080" cy="990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 1970s, new waves of immigration have hit the United States.</a:t>
            </a:r>
            <a:endParaRPr b="0" lang="en-US" sz="2800" spc="-1" strike="noStrike">
              <a:solidFill>
                <a:srgbClr val="ffffff"/>
              </a:solidFill>
              <a:latin typeface="Times New Roman"/>
            </a:endParaRPr>
          </a:p>
        </p:txBody>
      </p:sp>
      <p:pic>
        <p:nvPicPr>
          <p:cNvPr id="193" name="" descr=""/>
          <p:cNvPicPr/>
          <p:nvPr/>
        </p:nvPicPr>
        <p:blipFill>
          <a:blip r:embed="rId2"/>
          <a:stretch/>
        </p:blipFill>
        <p:spPr>
          <a:xfrm>
            <a:off x="1866960" y="1447920"/>
            <a:ext cx="5410080" cy="2317680"/>
          </a:xfrm>
          <a:prstGeom prst="rect">
            <a:avLst/>
          </a:prstGeom>
          <a:ln w="0">
            <a:noFill/>
          </a:ln>
        </p:spPr>
      </p:pic>
      <p:sp>
        <p:nvSpPr>
          <p:cNvPr id="194" name=""/>
          <p:cNvSpPr/>
          <p:nvPr/>
        </p:nvSpPr>
        <p:spPr>
          <a:xfrm flipV="1" rot="1026600">
            <a:off x="5181120" y="1981080"/>
            <a:ext cx="1067040" cy="304560"/>
          </a:xfrm>
          <a:custGeom>
            <a:avLst/>
            <a:gdLst/>
            <a:ahLst/>
            <a:rect l="l" t="t" r="r" b="b"/>
            <a:pathLst>
              <a:path w="672" h="192">
                <a:moveTo>
                  <a:pt x="672" y="192"/>
                </a:moveTo>
                <a:cubicBezTo>
                  <a:pt x="630" y="164"/>
                  <a:pt x="532" y="48"/>
                  <a:pt x="420" y="24"/>
                </a:cubicBezTo>
                <a:cubicBezTo>
                  <a:pt x="308" y="0"/>
                  <a:pt x="88" y="43"/>
                  <a:pt x="0" y="4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286000" y="1714680"/>
            <a:ext cx="2590920" cy="190440"/>
          </a:xfrm>
          <a:custGeom>
            <a:avLst/>
            <a:gdLst/>
            <a:ahLst/>
            <a:rect l="l" t="t" r="r" b="b"/>
            <a:pathLst>
              <a:path w="1440" h="120">
                <a:moveTo>
                  <a:pt x="0" y="120"/>
                </a:moveTo>
                <a:cubicBezTo>
                  <a:pt x="110" y="100"/>
                  <a:pt x="420" y="0"/>
                  <a:pt x="660" y="0"/>
                </a:cubicBezTo>
                <a:cubicBezTo>
                  <a:pt x="900" y="0"/>
                  <a:pt x="1278" y="95"/>
                  <a:pt x="1440" y="12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003640" y="2133720"/>
            <a:ext cx="254160" cy="1143000"/>
          </a:xfrm>
          <a:custGeom>
            <a:avLst/>
            <a:gdLst/>
            <a:ahLst/>
            <a:rect l="l" t="t" r="r" b="b"/>
            <a:pathLst>
              <a:path w="160" h="720">
                <a:moveTo>
                  <a:pt x="0" y="720"/>
                </a:moveTo>
                <a:cubicBezTo>
                  <a:pt x="20" y="686"/>
                  <a:pt x="94" y="590"/>
                  <a:pt x="120" y="516"/>
                </a:cubicBezTo>
                <a:cubicBezTo>
                  <a:pt x="146" y="442"/>
                  <a:pt x="160" y="362"/>
                  <a:pt x="156" y="276"/>
                </a:cubicBezTo>
                <a:cubicBezTo>
                  <a:pt x="152" y="190"/>
                  <a:pt x="108" y="57"/>
                  <a:pt x="96"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4724280" y="2057400"/>
            <a:ext cx="3049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 name=""/>
          <p:cNvSpPr/>
          <p:nvPr/>
        </p:nvSpPr>
        <p:spPr>
          <a:xfrm>
            <a:off x="914400" y="5029200"/>
            <a:ext cx="75438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ay most immigrants tend to come from Asia, Latin America, and Europe.</a:t>
            </a:r>
            <a:endParaRPr b="0" lang="en-US" sz="2800" spc="-1" strike="noStrike">
              <a:solidFill>
                <a:srgbClr val="000000"/>
              </a:solidFill>
              <a:latin typeface="Arial"/>
            </a:endParaRPr>
          </a:p>
        </p:txBody>
      </p:sp>
      <p:sp>
        <p:nvSpPr>
          <p:cNvPr id="199" name=""/>
          <p:cNvSpPr/>
          <p:nvPr/>
        </p:nvSpPr>
        <p:spPr>
          <a:xfrm>
            <a:off x="914400" y="5943600"/>
            <a:ext cx="8077320" cy="685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people still choose to immigrate to the U.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98"/>
                                        </p:tgtEl>
                                        <p:attrNameLst>
                                          <p:attrName>style.visibility</p:attrName>
                                        </p:attrNameLst>
                                      </p:cBhvr>
                                      <p:to>
                                        <p:strVal val="visible"/>
                                      </p:to>
                                    </p:set>
                                    <p:animEffect filter="fade" transition="in">
                                      <p:cBhvr additive="repl">
                                        <p:cTn id="95" dur="500"/>
                                        <p:tgtEl>
                                          <p:spTgt spid="198"/>
                                        </p:tgtEl>
                                      </p:cBhvr>
                                    </p:animEffect>
                                  </p:childTnLst>
                                </p:cTn>
                              </p:par>
                              <p:par>
                                <p:cTn id="96" nodeType="withEffect" fill="hold" presetClass="entr" presetID="10">
                                  <p:stCondLst>
                                    <p:cond delay="500"/>
                                  </p:stCondLst>
                                  <p:childTnLst>
                                    <p:set>
                                      <p:cBhvr>
                                        <p:cTn id="97" dur="1" fill="hold">
                                          <p:stCondLst>
                                            <p:cond delay="0"/>
                                          </p:stCondLst>
                                        </p:cTn>
                                        <p:tgtEl>
                                          <p:spTgt spid="196"/>
                                        </p:tgtEl>
                                        <p:attrNameLst>
                                          <p:attrName>style.visibility</p:attrName>
                                        </p:attrNameLst>
                                      </p:cBhvr>
                                      <p:to>
                                        <p:strVal val="visible"/>
                                      </p:to>
                                    </p:set>
                                    <p:animEffect filter="fade" transition="in">
                                      <p:cBhvr additive="repl">
                                        <p:cTn id="98" dur="500"/>
                                        <p:tgtEl>
                                          <p:spTgt spid="196"/>
                                        </p:tgtEl>
                                      </p:cBhvr>
                                    </p:animEffect>
                                  </p:childTnLst>
                                </p:cTn>
                              </p:par>
                            </p:childTnLst>
                          </p:cTn>
                        </p:par>
                        <p:par>
                          <p:cTn id="99" fill="hold">
                            <p:stCondLst>
                              <p:cond delay="1000"/>
                            </p:stCondLst>
                            <p:childTnLst>
                              <p:par>
                                <p:cTn id="100" nodeType="afterEffect" fill="hold" presetClass="entr" presetID="10">
                                  <p:stCondLst>
                                    <p:cond delay="0"/>
                                  </p:stCondLst>
                                  <p:childTnLst>
                                    <p:set>
                                      <p:cBhvr>
                                        <p:cTn id="101" dur="1" fill="hold">
                                          <p:stCondLst>
                                            <p:cond delay="0"/>
                                          </p:stCondLst>
                                        </p:cTn>
                                        <p:tgtEl>
                                          <p:spTgt spid="194"/>
                                        </p:tgtEl>
                                        <p:attrNameLst>
                                          <p:attrName>style.visibility</p:attrName>
                                        </p:attrNameLst>
                                      </p:cBhvr>
                                      <p:to>
                                        <p:strVal val="visible"/>
                                      </p:to>
                                    </p:set>
                                    <p:animEffect filter="fade" transition="in">
                                      <p:cBhvr additive="repl">
                                        <p:cTn id="102" dur="500"/>
                                        <p:tgtEl>
                                          <p:spTgt spid="194"/>
                                        </p:tgtEl>
                                      </p:cBhvr>
                                    </p:animEffect>
                                  </p:childTnLst>
                                </p:cTn>
                              </p:par>
                            </p:childTnLst>
                          </p:cTn>
                        </p:par>
                        <p:par>
                          <p:cTn id="103" fill="hold">
                            <p:stCondLst>
                              <p:cond delay="1500"/>
                            </p:stCondLst>
                            <p:childTnLst>
                              <p:par>
                                <p:cTn id="104" nodeType="afterEffect" fill="hold" presetClass="entr" presetID="10">
                                  <p:stCondLst>
                                    <p:cond delay="0"/>
                                  </p:stCondLst>
                                  <p:childTnLst>
                                    <p:set>
                                      <p:cBhvr>
                                        <p:cTn id="105" dur="1" fill="hold">
                                          <p:stCondLst>
                                            <p:cond delay="0"/>
                                          </p:stCondLst>
                                        </p:cTn>
                                        <p:tgtEl>
                                          <p:spTgt spid="195"/>
                                        </p:tgtEl>
                                        <p:attrNameLst>
                                          <p:attrName>style.visibility</p:attrName>
                                        </p:attrNameLst>
                                      </p:cBhvr>
                                      <p:to>
                                        <p:strVal val="visible"/>
                                      </p:to>
                                    </p:set>
                                    <p:animEffect filter="fade" transition="in">
                                      <p:cBhvr additive="repl">
                                        <p:cTn id="106" dur="500"/>
                                        <p:tgtEl>
                                          <p:spTgt spid="195"/>
                                        </p:tgtEl>
                                      </p:cBhvr>
                                    </p:animEffect>
                                  </p:childTnLst>
                                </p:cTn>
                              </p:par>
                            </p:childTnLst>
                          </p:cTn>
                        </p:par>
                        <p:par>
                          <p:cTn id="107" fill="hold">
                            <p:stCondLst>
                              <p:cond delay="2000"/>
                            </p:stCondLst>
                            <p:childTnLst>
                              <p:par>
                                <p:cTn id="108" nodeType="afterEffect" fill="hold" presetClass="entr" presetID="10">
                                  <p:stCondLst>
                                    <p:cond delay="0"/>
                                  </p:stCondLst>
                                  <p:childTnLst>
                                    <p:set>
                                      <p:cBhvr>
                                        <p:cTn id="109" dur="1" fill="hold">
                                          <p:stCondLst>
                                            <p:cond delay="0"/>
                                          </p:stCondLst>
                                        </p:cTn>
                                        <p:tgtEl>
                                          <p:spTgt spid="197"/>
                                        </p:tgtEl>
                                        <p:attrNameLst>
                                          <p:attrName>style.visibility</p:attrName>
                                        </p:attrNameLst>
                                      </p:cBhvr>
                                      <p:to>
                                        <p:strVal val="visible"/>
                                      </p:to>
                                    </p:set>
                                    <p:animEffect filter="fade" transition="in">
                                      <p:cBhvr additive="repl">
                                        <p:cTn id="110" dur="500"/>
                                        <p:tgtEl>
                                          <p:spTgt spid="19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99"/>
                                        </p:tgtEl>
                                        <p:attrNameLst>
                                          <p:attrName>style.visibility</p:attrName>
                                        </p:attrNameLst>
                                      </p:cBhvr>
                                      <p:to>
                                        <p:strVal val="visible"/>
                                      </p:to>
                                    </p:set>
                                    <p:animEffect filter="fade" transition="in">
                                      <p:cBhvr additive="repl">
                                        <p:cTn id="11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day’s U.S. Immigrants </a:t>
            </a:r>
            <a:endParaRPr b="0" lang="en-US" sz="4400" spc="-1" strike="noStrike">
              <a:solidFill>
                <a:srgbClr val="ffffff"/>
              </a:solidFill>
              <a:latin typeface="Times New Roman"/>
            </a:endParaRPr>
          </a:p>
        </p:txBody>
      </p:sp>
      <p:sp>
        <p:nvSpPr>
          <p:cNvPr id="202" name="PlaceHolder 2"/>
          <p:cNvSpPr>
            <a:spLocks noGrp="1"/>
          </p:cNvSpPr>
          <p:nvPr>
            <p:ph/>
          </p:nvPr>
        </p:nvSpPr>
        <p:spPr>
          <a:xfrm>
            <a:off x="1447560" y="4800600"/>
            <a:ext cx="3809880" cy="1325520"/>
          </a:xfrm>
          <a:prstGeom prst="rect">
            <a:avLst/>
          </a:prstGeom>
          <a:noFill/>
          <a:ln w="0">
            <a:noFill/>
          </a:ln>
        </p:spPr>
        <p:txBody>
          <a:bodyPr lIns="90000" rIns="90000" tIns="46800" bIns="46800" anchor="t">
            <a:normAutofit fontScale="95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America 36.4%</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ibbean  9.6%</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th America  6.2%</a:t>
            </a:r>
            <a:endParaRPr b="0" lang="en-US" sz="2400" spc="-1" strike="noStrike">
              <a:solidFill>
                <a:srgbClr val="ffffff"/>
              </a:solidFill>
              <a:latin typeface="Times New Roman"/>
            </a:endParaRPr>
          </a:p>
        </p:txBody>
      </p:sp>
      <p:graphicFrame>
        <p:nvGraphicFramePr>
          <p:cNvPr id="203" name=""/>
          <p:cNvGraphicFramePr/>
          <p:nvPr/>
        </p:nvGraphicFramePr>
        <p:xfrm>
          <a:off x="1371600" y="1389240"/>
          <a:ext cx="6410160" cy="3030480"/>
        </p:xfrm>
        <a:graphic>
          <a:graphicData uri="http://schemas.openxmlformats.org/presentationml/2006/ole">
            <p:oleObj r:id="rId2" spid="">
              <p:embed/>
              <p:pic>
                <p:nvPicPr>
                  <p:cNvPr id="204" name="" descr=""/>
                  <p:cNvPicPr/>
                  <p:nvPr/>
                </p:nvPicPr>
                <p:blipFill>
                  <a:blip r:embed="rId3"/>
                  <a:stretch/>
                </p:blipFill>
                <p:spPr>
                  <a:xfrm>
                    <a:off x="1371600" y="1389240"/>
                    <a:ext cx="6410160" cy="3030480"/>
                  </a:xfrm>
                  <a:prstGeom prst="rect">
                    <a:avLst/>
                  </a:prstGeom>
                  <a:ln w="0">
                    <a:noFill/>
                  </a:ln>
                </p:spPr>
              </p:pic>
            </p:oleObj>
          </a:graphicData>
        </a:graphic>
      </p:graphicFrame>
      <p:sp>
        <p:nvSpPr>
          <p:cNvPr id="205" name=""/>
          <p:cNvSpPr/>
          <p:nvPr/>
        </p:nvSpPr>
        <p:spPr>
          <a:xfrm>
            <a:off x="5334120" y="4846680"/>
            <a:ext cx="3429000" cy="132552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ia  25%</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  14%</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regions  8.3%</a:t>
            </a:r>
            <a:endParaRPr b="0" lang="en-US" sz="2400" spc="-1" strike="noStrike">
              <a:solidFill>
                <a:srgbClr val="000000"/>
              </a:solidFill>
              <a:latin typeface="Arial"/>
            </a:endParaRPr>
          </a:p>
        </p:txBody>
      </p:sp>
      <p:sp>
        <p:nvSpPr>
          <p:cNvPr id="2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arisons </a:t>
            </a:r>
            <a:endParaRPr b="0" lang="en-US" sz="4400" spc="-1" strike="noStrike">
              <a:solidFill>
                <a:srgbClr val="ffffff"/>
              </a:solidFill>
              <a:latin typeface="Times New Roman"/>
            </a:endParaRPr>
          </a:p>
        </p:txBody>
      </p:sp>
      <p:sp>
        <p:nvSpPr>
          <p:cNvPr id="208" name=""/>
          <p:cNvSpPr/>
          <p:nvPr/>
        </p:nvSpPr>
        <p:spPr>
          <a:xfrm>
            <a:off x="533520" y="4800600"/>
            <a:ext cx="8153280" cy="1828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our chart tracking immigration from 1820-1925, almost all of the immigrants were from different parts of Europe.  What percentage of immigrants from that period came from Europe?</a:t>
            </a:r>
            <a:endParaRPr b="0" lang="en-US" sz="2800" spc="-1" strike="noStrike">
              <a:solidFill>
                <a:srgbClr val="000000"/>
              </a:solidFill>
              <a:latin typeface="Arial"/>
            </a:endParaRPr>
          </a:p>
        </p:txBody>
      </p:sp>
      <p:graphicFrame>
        <p:nvGraphicFramePr>
          <p:cNvPr id="209" name=""/>
          <p:cNvGraphicFramePr/>
          <p:nvPr/>
        </p:nvGraphicFramePr>
        <p:xfrm>
          <a:off x="152280" y="1060560"/>
          <a:ext cx="8763120" cy="4197240"/>
        </p:xfrm>
        <a:graphic>
          <a:graphicData uri="http://schemas.openxmlformats.org/presentationml/2006/ole">
            <p:oleObj r:id="rId2" spid="">
              <p:embed/>
              <p:pic>
                <p:nvPicPr>
                  <p:cNvPr id="210" name="" descr=""/>
                  <p:cNvPicPr/>
                  <p:nvPr/>
                </p:nvPicPr>
                <p:blipFill>
                  <a:blip r:embed="rId3"/>
                  <a:stretch/>
                </p:blipFill>
                <p:spPr>
                  <a:xfrm>
                    <a:off x="152280" y="1060560"/>
                    <a:ext cx="8763120" cy="4197240"/>
                  </a:xfrm>
                  <a:prstGeom prst="rect">
                    <a:avLst/>
                  </a:prstGeom>
                  <a:ln w="0">
                    <a:noFill/>
                  </a:ln>
                </p:spPr>
              </p:pic>
            </p:oleObj>
          </a:graphicData>
        </a:graphic>
      </p:graphicFrame>
      <p:sp>
        <p:nvSpPr>
          <p:cNvPr id="2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arisons </a:t>
            </a:r>
            <a:endParaRPr b="0" lang="en-US" sz="4400" spc="-1" strike="noStrike">
              <a:solidFill>
                <a:srgbClr val="ffffff"/>
              </a:solidFill>
              <a:latin typeface="Times New Roman"/>
            </a:endParaRPr>
          </a:p>
        </p:txBody>
      </p:sp>
      <p:graphicFrame>
        <p:nvGraphicFramePr>
          <p:cNvPr id="213" name=""/>
          <p:cNvGraphicFramePr/>
          <p:nvPr/>
        </p:nvGraphicFramePr>
        <p:xfrm>
          <a:off x="1152360" y="1523880"/>
          <a:ext cx="6839280" cy="2776680"/>
        </p:xfrm>
        <a:graphic>
          <a:graphicData uri="http://schemas.openxmlformats.org/presentationml/2006/ole">
            <p:oleObj r:id="rId2" spid="">
              <p:embed/>
              <p:pic>
                <p:nvPicPr>
                  <p:cNvPr id="214" name="" descr=""/>
                  <p:cNvPicPr/>
                  <p:nvPr/>
                </p:nvPicPr>
                <p:blipFill>
                  <a:blip r:embed="rId3"/>
                  <a:stretch/>
                </p:blipFill>
                <p:spPr>
                  <a:xfrm>
                    <a:off x="1152360" y="1523880"/>
                    <a:ext cx="6839280" cy="2776680"/>
                  </a:xfrm>
                  <a:prstGeom prst="rect">
                    <a:avLst/>
                  </a:prstGeom>
                  <a:ln w="0">
                    <a:noFill/>
                  </a:ln>
                </p:spPr>
              </p:pic>
            </p:oleObj>
          </a:graphicData>
        </a:graphic>
      </p:graphicFrame>
      <p:sp>
        <p:nvSpPr>
          <p:cNvPr id="215" name=""/>
          <p:cNvSpPr/>
          <p:nvPr/>
        </p:nvSpPr>
        <p:spPr>
          <a:xfrm>
            <a:off x="838080" y="4648320"/>
            <a:ext cx="8001000" cy="1447560"/>
          </a:xfrm>
          <a:prstGeom prst="rect">
            <a:avLst/>
          </a:prstGeom>
          <a:noFill/>
          <a:ln w="0">
            <a:noFill/>
          </a:ln>
        </p:spPr>
        <p:style>
          <a:lnRef idx="0"/>
          <a:fillRef idx="0"/>
          <a:effectRef idx="0"/>
          <a:fontRef idx="minor"/>
        </p:style>
        <p:txBody>
          <a:bodyPr lIns="90000" rIns="90000" tIns="46800" bIns="46800" anchor="t">
            <a:normAutofit fontScale="88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e is a view of our chart of recent immigration to the U.S., with the data table included to show exact percentages. Do Europeans still represent a large percentage of U.S. immigrants today? </a:t>
            </a:r>
            <a:endParaRPr b="0" lang="en-US" sz="2800" spc="-1" strike="noStrike">
              <a:solidFill>
                <a:srgbClr val="000000"/>
              </a:solidFill>
              <a:latin typeface="Arial"/>
            </a:endParaRPr>
          </a:p>
        </p:txBody>
      </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arisons </a:t>
            </a:r>
            <a:endParaRPr b="0" lang="en-US" sz="4400" spc="-1" strike="noStrike">
              <a:solidFill>
                <a:srgbClr val="ffffff"/>
              </a:solidFill>
              <a:latin typeface="Times New Roman"/>
            </a:endParaRPr>
          </a:p>
        </p:txBody>
      </p:sp>
      <p:graphicFrame>
        <p:nvGraphicFramePr>
          <p:cNvPr id="218" name=""/>
          <p:cNvGraphicFramePr/>
          <p:nvPr/>
        </p:nvGraphicFramePr>
        <p:xfrm>
          <a:off x="457200" y="1447920"/>
          <a:ext cx="3124080" cy="5181480"/>
        </p:xfrm>
        <a:graphic>
          <a:graphicData uri="http://schemas.openxmlformats.org/presentationml/2006/ole">
            <p:oleObj r:id="rId2" spid="">
              <p:embed/>
              <p:pic>
                <p:nvPicPr>
                  <p:cNvPr id="219" name="" descr=""/>
                  <p:cNvPicPr/>
                  <p:nvPr/>
                </p:nvPicPr>
                <p:blipFill>
                  <a:blip r:embed="rId3"/>
                  <a:stretch/>
                </p:blipFill>
                <p:spPr>
                  <a:xfrm>
                    <a:off x="457200" y="1447920"/>
                    <a:ext cx="3124080" cy="5181480"/>
                  </a:xfrm>
                  <a:prstGeom prst="rect">
                    <a:avLst/>
                  </a:prstGeom>
                  <a:ln w="0">
                    <a:noFill/>
                  </a:ln>
                </p:spPr>
              </p:pic>
            </p:oleObj>
          </a:graphicData>
        </a:graphic>
      </p:graphicFrame>
      <p:sp>
        <p:nvSpPr>
          <p:cNvPr id="220" name=""/>
          <p:cNvSpPr/>
          <p:nvPr/>
        </p:nvSpPr>
        <p:spPr>
          <a:xfrm>
            <a:off x="3657600" y="1676520"/>
            <a:ext cx="49528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Europeans represent such a small portion of immigrants to the U.S. today?</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immigrants from Central America represent such a large portion of current U.S. immigran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the U.S. government deal with immigration differently than it did in th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a:t>
            </a:r>
            <a:endParaRPr b="0" lang="en-US" sz="2800" spc="-1" strike="noStrike">
              <a:solidFill>
                <a:srgbClr val="000000"/>
              </a:solidFill>
              <a:latin typeface="Arial"/>
            </a:endParaRPr>
          </a:p>
        </p:txBody>
      </p:sp>
      <p:sp>
        <p:nvSpPr>
          <p:cNvPr id="221" name=""/>
          <p:cNvSpPr/>
          <p:nvPr/>
        </p:nvSpPr>
        <p:spPr>
          <a:xfrm>
            <a:off x="716292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id immigrants contribute?</a:t>
            </a:r>
            <a:endParaRPr b="0" lang="en-US" sz="4400" spc="-1" strike="noStrike">
              <a:solidFill>
                <a:srgbClr val="ffffff"/>
              </a:solidFill>
              <a:latin typeface="Times New Roman"/>
            </a:endParaRPr>
          </a:p>
        </p:txBody>
      </p:sp>
      <p:sp>
        <p:nvSpPr>
          <p:cNvPr id="223" name=""/>
          <p:cNvSpPr txBox="1"/>
          <p:nvPr/>
        </p:nvSpPr>
        <p:spPr>
          <a:xfrm>
            <a:off x="457200" y="1981080"/>
            <a:ext cx="4038480" cy="4145040"/>
          </a:xfrm>
          <a:prstGeom prst="rect">
            <a:avLst/>
          </a:prstGeom>
          <a:noFill/>
          <a:ln w="0">
            <a:noFill/>
          </a:ln>
        </p:spPr>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ontributions have immigrants made to the U.S?</a:t>
            </a:r>
            <a:endParaRPr b="0" lang="en-US" sz="2800" spc="-1" strike="noStrike">
              <a:solidFill>
                <a:srgbClr val="ffffff"/>
              </a:solidFill>
              <a:latin typeface="Times New Roman"/>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famous immigrants are remembered for their contributions?</a:t>
            </a:r>
            <a:endParaRPr b="0" lang="en-US" sz="2800" spc="-1" strike="noStrike">
              <a:solidFill>
                <a:srgbClr val="ffffff"/>
              </a:solidFill>
              <a:latin typeface="Times New Roman"/>
            </a:endParaRPr>
          </a:p>
        </p:txBody>
      </p:sp>
      <p:sp>
        <p:nvSpPr>
          <p:cNvPr id="224" name=""/>
          <p:cNvSpPr txBox="1"/>
          <p:nvPr/>
        </p:nvSpPr>
        <p:spPr>
          <a:xfrm>
            <a:off x="4572000" y="4900320"/>
            <a:ext cx="4038480" cy="1423800"/>
          </a:xfrm>
          <a:prstGeom prst="rect">
            <a:avLst/>
          </a:prstGeom>
          <a:noFill/>
          <a:ln w="0">
            <a:noFill/>
          </a:ln>
        </p:spPr>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is this immigrant?</a:t>
            </a:r>
            <a:endParaRPr b="0" lang="en-US" sz="2800" spc="-1" strike="noStrike">
              <a:solidFill>
                <a:srgbClr val="ffffff"/>
              </a:solidFill>
              <a:latin typeface="Times New Roman"/>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at did he contribute to American culture?</a:t>
            </a:r>
            <a:endParaRPr b="0" lang="en-US" sz="2800" spc="-1" strike="noStrike">
              <a:solidFill>
                <a:srgbClr val="ffffff"/>
              </a:solidFill>
              <a:latin typeface="Times New Roman"/>
            </a:endParaRPr>
          </a:p>
        </p:txBody>
      </p:sp>
      <p:pic>
        <p:nvPicPr>
          <p:cNvPr id="225" name="" descr=""/>
          <p:cNvPicPr/>
          <p:nvPr/>
        </p:nvPicPr>
        <p:blipFill>
          <a:blip r:embed="rId2"/>
          <a:stretch/>
        </p:blipFill>
        <p:spPr>
          <a:xfrm>
            <a:off x="5638680" y="2133720"/>
            <a:ext cx="1970280" cy="2187360"/>
          </a:xfrm>
          <a:prstGeom prst="rect">
            <a:avLst/>
          </a:prstGeom>
          <a:ln w="0">
            <a:noFill/>
          </a:ln>
        </p:spPr>
      </p:pic>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225"/>
                                        </p:tgtEl>
                                        <p:attrNameLst>
                                          <p:attrName>style.visibility</p:attrName>
                                        </p:attrNameLst>
                                      </p:cBhvr>
                                      <p:to>
                                        <p:strVal val="visible"/>
                                      </p:to>
                                    </p:set>
                                    <p:animEffect filter="fade" transition="in">
                                      <p:cBhvr additive="repl">
                                        <p:cTn id="122" dur="1000"/>
                                        <p:tgtEl>
                                          <p:spTgt spid="225"/>
                                        </p:tgtEl>
                                      </p:cBhvr>
                                    </p:animEffect>
                                  </p:childTnLst>
                                </p:cTn>
                              </p:par>
                              <p:par>
                                <p:cTn id="123" nodeType="withEffect" fill="hold" presetClass="entr" presetID="10">
                                  <p:stCondLst>
                                    <p:cond delay="0"/>
                                  </p:stCondLst>
                                  <p:childTnLst>
                                    <p:set>
                                      <p:cBhvr>
                                        <p:cTn id="124" dur="1" fill="hold">
                                          <p:stCondLst>
                                            <p:cond delay="0"/>
                                          </p:stCondLst>
                                        </p:cTn>
                                        <p:tgtEl>
                                          <p:spTgt spid="224"/>
                                        </p:tgtEl>
                                        <p:attrNameLst>
                                          <p:attrName>style.visibility</p:attrName>
                                        </p:attrNameLst>
                                      </p:cBhvr>
                                      <p:to>
                                        <p:strVal val="visible"/>
                                      </p:to>
                                    </p:set>
                                    <p:animEffect filter="fade" transition="in">
                                      <p:cBhvr additive="repl">
                                        <p:cTn id="125"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380880" y="1909800"/>
            <a:ext cx="1371600" cy="1371600"/>
          </a:xfrm>
          <a:prstGeom prst="rect">
            <a:avLst/>
          </a:prstGeom>
          <a:ln w="0">
            <a:noFill/>
          </a:ln>
        </p:spPr>
      </p:pic>
      <p:pic>
        <p:nvPicPr>
          <p:cNvPr id="228" name="" descr=""/>
          <p:cNvPicPr/>
          <p:nvPr/>
        </p:nvPicPr>
        <p:blipFill>
          <a:blip r:embed="rId3"/>
          <a:stretch/>
        </p:blipFill>
        <p:spPr>
          <a:xfrm>
            <a:off x="380880" y="3433680"/>
            <a:ext cx="1371600" cy="1382760"/>
          </a:xfrm>
          <a:prstGeom prst="rect">
            <a:avLst/>
          </a:prstGeom>
          <a:ln w="0">
            <a:noFill/>
          </a:ln>
        </p:spPr>
      </p:pic>
      <p:pic>
        <p:nvPicPr>
          <p:cNvPr id="229" name="" descr=""/>
          <p:cNvPicPr/>
          <p:nvPr/>
        </p:nvPicPr>
        <p:blipFill>
          <a:blip r:embed="rId4"/>
          <a:stretch/>
        </p:blipFill>
        <p:spPr>
          <a:xfrm>
            <a:off x="380880" y="4957920"/>
            <a:ext cx="1359000" cy="1371600"/>
          </a:xfrm>
          <a:prstGeom prst="rect">
            <a:avLst/>
          </a:prstGeom>
          <a:ln w="0">
            <a:noFill/>
          </a:ln>
        </p:spPr>
      </p:pic>
      <p:sp>
        <p:nvSpPr>
          <p:cNvPr id="23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31"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232" name="" descr=""/>
          <p:cNvPicPr/>
          <p:nvPr/>
        </p:nvPicPr>
        <p:blipFill>
          <a:blip r:embed="rId5"/>
          <a:stretch/>
        </p:blipFill>
        <p:spPr>
          <a:xfrm>
            <a:off x="4724280" y="3451320"/>
            <a:ext cx="1371600" cy="1382760"/>
          </a:xfrm>
          <a:prstGeom prst="rect">
            <a:avLst/>
          </a:prstGeom>
          <a:ln w="0">
            <a:noFill/>
          </a:ln>
        </p:spPr>
      </p:pic>
      <p:pic>
        <p:nvPicPr>
          <p:cNvPr id="233" name="" descr=""/>
          <p:cNvPicPr/>
          <p:nvPr/>
        </p:nvPicPr>
        <p:blipFill>
          <a:blip r:embed="rId6"/>
          <a:stretch/>
        </p:blipFill>
        <p:spPr>
          <a:xfrm>
            <a:off x="4724280" y="4970520"/>
            <a:ext cx="1371600" cy="1371600"/>
          </a:xfrm>
          <a:prstGeom prst="rect">
            <a:avLst/>
          </a:prstGeom>
          <a:ln w="0">
            <a:noFill/>
          </a:ln>
        </p:spPr>
      </p:pic>
      <p:sp>
        <p:nvSpPr>
          <p:cNvPr id="23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35" name=""/>
          <p:cNvGrpSpPr/>
          <p:nvPr/>
        </p:nvGrpSpPr>
        <p:grpSpPr>
          <a:xfrm>
            <a:off x="4643280" y="1928880"/>
            <a:ext cx="1546560" cy="1371600"/>
            <a:chOff x="4643280" y="1928880"/>
            <a:chExt cx="1546560" cy="1371600"/>
          </a:xfrm>
        </p:grpSpPr>
        <p:sp>
          <p:nvSpPr>
            <p:cNvPr id="236"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7" name=""/>
            <p:cNvGraphicFramePr/>
            <p:nvPr/>
          </p:nvGraphicFramePr>
          <p:xfrm>
            <a:off x="4643280" y="2117880"/>
            <a:ext cx="1546560" cy="1012680"/>
          </p:xfrm>
          <a:graphic>
            <a:graphicData uri="http://schemas.openxmlformats.org/presentationml/2006/ole">
              <p:oleObj r:id="rId7" spid="">
                <p:embed/>
                <p:pic>
                  <p:nvPicPr>
                    <p:cNvPr id="238"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239"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Nation of Immigrants</a:t>
            </a:r>
            <a:endParaRPr b="0" lang="en-US" sz="4400" spc="-1" strike="noStrike">
              <a:solidFill>
                <a:srgbClr val="ffffff"/>
              </a:solidFill>
              <a:latin typeface="Times New Roman"/>
            </a:endParaRPr>
          </a:p>
        </p:txBody>
      </p:sp>
      <p:pic>
        <p:nvPicPr>
          <p:cNvPr id="54" name="" descr=""/>
          <p:cNvPicPr/>
          <p:nvPr/>
        </p:nvPicPr>
        <p:blipFill>
          <a:blip r:embed="rId2"/>
          <a:stretch/>
        </p:blipFill>
        <p:spPr>
          <a:xfrm>
            <a:off x="1219320" y="1523880"/>
            <a:ext cx="6705360" cy="4462560"/>
          </a:xfrm>
          <a:prstGeom prst="rect">
            <a:avLst/>
          </a:prstGeom>
          <a:ln w="3240">
            <a:solidFill>
              <a:srgbClr val="000000"/>
            </a:solidFill>
            <a:miter/>
          </a:ln>
        </p:spPr>
      </p:pic>
      <p:sp>
        <p:nvSpPr>
          <p:cNvPr id="55" name="PlaceHolder 2"/>
          <p:cNvSpPr>
            <a:spLocks noGrp="1"/>
          </p:cNvSpPr>
          <p:nvPr>
            <p:ph/>
          </p:nvPr>
        </p:nvSpPr>
        <p:spPr>
          <a:xfrm>
            <a:off x="1294920" y="1645920"/>
            <a:ext cx="6629400" cy="3306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nited States has often been called a “Nation of Immigra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s because the majority of people living in the U.S. are either immigrants themselves, or descendants of immigra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r family immigrate to the U.S.?  When?  From where?</a:t>
            </a:r>
            <a:endParaRPr b="0" lang="en-US" sz="2800" spc="-1" strike="noStrike">
              <a:solidFill>
                <a:srgbClr val="ffffff"/>
              </a:solidFill>
              <a:latin typeface="Times New Roman"/>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4"/>
                                        </p:tgtEl>
                                        <p:attrNameLst>
                                          <p:attrName>style.visibility</p:attrName>
                                        </p:attrNameLst>
                                      </p:cBhvr>
                                      <p:to>
                                        <p:strVal val="visible"/>
                                      </p:to>
                                    </p:set>
                                    <p:animEffect filter="dissolve"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54"/>
                                        </p:tgtEl>
                                      </p:cBhvr>
                                    </p:animEffect>
                                    <p:set>
                                      <p:cBhvr>
                                        <p:cTn id="12" dur="1" fill="hold">
                                          <p:stCondLst>
                                            <p:cond delay="499"/>
                                          </p:stCondLst>
                                        </p:cTn>
                                        <p:tgtEl>
                                          <p:spTgt spid="54"/>
                                        </p:tgtEl>
                                        <p:attrNameLst>
                                          <p:attrName>style.visibility</p:attrName>
                                        </p:attrNameLst>
                                      </p:cBhvr>
                                      <p:to>
                                        <p:strVal val="hidden"/>
                                      </p:to>
                                    </p:se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6" dur="500"/>
                                        <p:tgtEl>
                                          <p:spTgt spid="55">
                                            <p:txEl>
                                              <p:pRg st="0" end="0"/>
                                            </p:txEl>
                                          </p:spTgt>
                                        </p:tgtEl>
                                      </p:cBhvr>
                                    </p:animEffect>
                                  </p:childTnLst>
                                </p:cTn>
                              </p:par>
                              <p:par>
                                <p:cTn id="17" nodeType="withEffect" fill="hold" presetClass="entr" presetID="9">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9" dur="500"/>
                                        <p:tgtEl>
                                          <p:spTgt spid="55">
                                            <p:txEl>
                                              <p:pRg st="1" end="1"/>
                                            </p:txEl>
                                          </p:spTgt>
                                        </p:tgtEl>
                                      </p:cBhvr>
                                    </p:animEffect>
                                  </p:childTnLst>
                                </p:cTn>
                              </p:par>
                              <p:par>
                                <p:cTn id="20" nodeType="withEffect" fill="hold" presetClass="entr" presetID="9">
                                  <p:stCondLst>
                                    <p:cond delay="0"/>
                                  </p:stCondLst>
                                  <p:childTnLst>
                                    <p:set>
                                      <p:cBhvr>
                                        <p:cTn id="21"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22"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tion in the United States</a:t>
            </a:r>
            <a:endParaRPr b="0" lang="en-US" sz="4400" spc="-1" strike="noStrike">
              <a:solidFill>
                <a:srgbClr val="ffffff"/>
              </a:solidFill>
              <a:latin typeface="Times New Roman"/>
            </a:endParaRPr>
          </a:p>
        </p:txBody>
      </p:sp>
      <p:sp>
        <p:nvSpPr>
          <p:cNvPr id="58" name="PlaceHolder 2"/>
          <p:cNvSpPr>
            <a:spLocks noGrp="1"/>
          </p:cNvSpPr>
          <p:nvPr>
            <p:ph/>
          </p:nvPr>
        </p:nvSpPr>
        <p:spPr>
          <a:xfrm>
            <a:off x="457200" y="1390680"/>
            <a:ext cx="411480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immigrants came to the U.S. seeking religious or political freedom.</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like African slaves, came against their wil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immigrants came seeking greater economic opportunit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your ancestors might have immigrated to the U.S.?</a:t>
            </a:r>
            <a:endParaRPr b="0" lang="en-US" sz="2800" spc="-1" strike="noStrike">
              <a:solidFill>
                <a:srgbClr val="ffffff"/>
              </a:solidFill>
              <a:latin typeface="Times New Roman"/>
            </a:endParaRPr>
          </a:p>
        </p:txBody>
      </p:sp>
      <p:pic>
        <p:nvPicPr>
          <p:cNvPr id="59" name="" descr="Image, Source: intermediary roll film"/>
          <p:cNvPicPr/>
          <p:nvPr/>
        </p:nvPicPr>
        <p:blipFill>
          <a:blip r:embed="rId2"/>
          <a:stretch/>
        </p:blipFill>
        <p:spPr>
          <a:xfrm>
            <a:off x="4876920" y="1676520"/>
            <a:ext cx="3886200" cy="3138480"/>
          </a:xfrm>
          <a:prstGeom prst="rect">
            <a:avLst/>
          </a:prstGeom>
          <a:ln w="0">
            <a:noFill/>
          </a:ln>
        </p:spPr>
      </p:pic>
      <p:sp>
        <p:nvSpPr>
          <p:cNvPr id="60" name=""/>
          <p:cNvSpPr/>
          <p:nvPr/>
        </p:nvSpPr>
        <p:spPr>
          <a:xfrm>
            <a:off x="4952880" y="49528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migrants arriving at Ellis Island. </a:t>
            </a:r>
            <a:endParaRPr b="0" lang="en-US" sz="2400" spc="-1" strike="noStrike">
              <a:solidFill>
                <a:srgbClr val="000000"/>
              </a:solidFill>
              <a:latin typeface="Arial"/>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2.0</a:t>
            </a:r>
            <a:endParaRPr b="0" lang="en-US" sz="1000" spc="-1" strike="noStrike">
              <a:solidFill>
                <a:srgbClr val="000000"/>
              </a:solidFill>
              <a:latin typeface="Arial"/>
            </a:endParaRPr>
          </a:p>
        </p:txBody>
      </p:sp>
      <p:sp>
        <p:nvSpPr>
          <p:cNvPr id="62" name=""/>
          <p:cNvSpPr/>
          <p:nvPr/>
        </p:nvSpPr>
        <p:spPr>
          <a:xfrm>
            <a:off x="6400800" y="4648320"/>
            <a:ext cx="297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Library of Congr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tion in the United States</a:t>
            </a:r>
            <a:endParaRPr b="0" lang="en-US" sz="4400" spc="-1" strike="noStrike">
              <a:solidFill>
                <a:srgbClr val="ffffff"/>
              </a:solidFill>
              <a:latin typeface="Times New Roman"/>
            </a:endParaRPr>
          </a:p>
        </p:txBody>
      </p:sp>
      <p:sp>
        <p:nvSpPr>
          <p:cNvPr id="64" name="PlaceHolder 2"/>
          <p:cNvSpPr>
            <a:spLocks noGrp="1"/>
          </p:cNvSpPr>
          <p:nvPr>
            <p:ph/>
          </p:nvPr>
        </p:nvSpPr>
        <p:spPr>
          <a:xfrm>
            <a:off x="304920" y="167652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immigrants were males who came without families.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ried males would send for their wives and children after they had earned enough mone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the males immigrated before their wives and children?</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5" name="" descr="Image, Source: intermediary roll film"/>
          <p:cNvPicPr/>
          <p:nvPr/>
        </p:nvPicPr>
        <p:blipFill>
          <a:blip r:embed="rId2"/>
          <a:stretch/>
        </p:blipFill>
        <p:spPr>
          <a:xfrm>
            <a:off x="4419720" y="1754280"/>
            <a:ext cx="4419360" cy="3046320"/>
          </a:xfrm>
          <a:prstGeom prst="rect">
            <a:avLst/>
          </a:prstGeom>
          <a:ln w="0">
            <a:noFill/>
          </a:ln>
        </p:spPr>
      </p:pic>
      <p:sp>
        <p:nvSpPr>
          <p:cNvPr id="66" name=""/>
          <p:cNvSpPr/>
          <p:nvPr/>
        </p:nvSpPr>
        <p:spPr>
          <a:xfrm>
            <a:off x="5257800" y="4724280"/>
            <a:ext cx="3505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Library of Congress</a:t>
            </a:r>
            <a:endParaRPr b="0" lang="en-US" sz="1200" spc="-1" strike="noStrike">
              <a:solidFill>
                <a:srgbClr val="000000"/>
              </a:solidFill>
              <a:latin typeface="Arial"/>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tion in the United States</a:t>
            </a:r>
            <a:endParaRPr b="0" lang="en-US" sz="4400" spc="-1" strike="noStrike">
              <a:solidFill>
                <a:srgbClr val="ffffff"/>
              </a:solidFill>
              <a:latin typeface="Times New Roman"/>
            </a:endParaRPr>
          </a:p>
        </p:txBody>
      </p:sp>
      <p:sp>
        <p:nvSpPr>
          <p:cNvPr id="69" name="PlaceHolder 2"/>
          <p:cNvSpPr>
            <a:spLocks noGrp="1"/>
          </p:cNvSpPr>
          <p:nvPr>
            <p:ph/>
          </p:nvPr>
        </p:nvSpPr>
        <p:spPr>
          <a:xfrm>
            <a:off x="304920" y="1371240"/>
            <a:ext cx="4114800" cy="4678200"/>
          </a:xfrm>
          <a:prstGeom prst="rect">
            <a:avLst/>
          </a:prstGeom>
          <a:noFill/>
          <a:ln w="0">
            <a:noFill/>
          </a:ln>
        </p:spPr>
        <p:txBody>
          <a:bodyPr lIns="90000" rIns="90000" tIns="46800" bIns="46800"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immigrants came to the U.S. by ship.</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 was the first landing place for 70% of all immigrants after 1817.</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migration depots were set up to process immigrants, first at Castle Garden (1855-1890) and then at Ellis Island (1892-1954).</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0" name="" descr="Image, Source: intermediary roll film"/>
          <p:cNvPicPr/>
          <p:nvPr/>
        </p:nvPicPr>
        <p:blipFill>
          <a:blip r:embed="rId2"/>
          <a:stretch/>
        </p:blipFill>
        <p:spPr>
          <a:xfrm>
            <a:off x="4495680" y="1600200"/>
            <a:ext cx="4419720" cy="3535200"/>
          </a:xfrm>
          <a:prstGeom prst="rect">
            <a:avLst/>
          </a:prstGeom>
          <a:ln w="0">
            <a:noFill/>
          </a:ln>
        </p:spPr>
      </p:pic>
      <p:grpSp>
        <p:nvGrpSpPr>
          <p:cNvPr id="71" name=""/>
          <p:cNvGrpSpPr/>
          <p:nvPr/>
        </p:nvGrpSpPr>
        <p:grpSpPr>
          <a:xfrm>
            <a:off x="5722200" y="1995480"/>
            <a:ext cx="1821600" cy="976320"/>
            <a:chOff x="5722200" y="1995480"/>
            <a:chExt cx="1821600" cy="976320"/>
          </a:xfrm>
        </p:grpSpPr>
        <p:sp>
          <p:nvSpPr>
            <p:cNvPr id="72" name=""/>
            <p:cNvSpPr/>
            <p:nvPr/>
          </p:nvSpPr>
          <p:spPr>
            <a:xfrm>
              <a:off x="7315200" y="2362320"/>
              <a:ext cx="228600" cy="609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722200" y="1995480"/>
              <a:ext cx="17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LIS ISLAND</a:t>
              </a:r>
              <a:endParaRPr b="0" lang="en-US" sz="1800" spc="-1" strike="noStrike">
                <a:solidFill>
                  <a:srgbClr val="000000"/>
                </a:solidFill>
                <a:latin typeface="Arial"/>
              </a:endParaRPr>
            </a:p>
          </p:txBody>
        </p:sp>
      </p:grpSp>
      <p:grpSp>
        <p:nvGrpSpPr>
          <p:cNvPr id="74" name=""/>
          <p:cNvGrpSpPr/>
          <p:nvPr/>
        </p:nvGrpSpPr>
        <p:grpSpPr>
          <a:xfrm>
            <a:off x="5023080" y="3123720"/>
            <a:ext cx="2520000" cy="1283040"/>
            <a:chOff x="5023080" y="3123720"/>
            <a:chExt cx="2520000" cy="1283040"/>
          </a:xfrm>
        </p:grpSpPr>
        <p:sp>
          <p:nvSpPr>
            <p:cNvPr id="75" name=""/>
            <p:cNvSpPr/>
            <p:nvPr/>
          </p:nvSpPr>
          <p:spPr>
            <a:xfrm>
              <a:off x="5023080" y="4038480"/>
              <a:ext cx="252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E OF LIBERTY</a:t>
              </a:r>
              <a:endParaRPr b="0" lang="en-US" sz="1800" spc="-1" strike="noStrike">
                <a:solidFill>
                  <a:srgbClr val="000000"/>
                </a:solidFill>
                <a:latin typeface="Arial"/>
              </a:endParaRPr>
            </a:p>
          </p:txBody>
        </p:sp>
        <p:sp>
          <p:nvSpPr>
            <p:cNvPr id="76" name=""/>
            <p:cNvSpPr/>
            <p:nvPr/>
          </p:nvSpPr>
          <p:spPr>
            <a:xfrm flipH="1" flipV="1">
              <a:off x="5257440" y="3123720"/>
              <a:ext cx="1522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71"/>
                                        </p:tgtEl>
                                        <p:attrNameLst>
                                          <p:attrName>style.visibility</p:attrName>
                                        </p:attrNameLst>
                                      </p:cBhvr>
                                      <p:to>
                                        <p:strVal val="visible"/>
                                      </p:to>
                                    </p:set>
                                    <p:anim calcmode="lin" valueType="num">
                                      <p:cBhvr additive="repl">
                                        <p:cTn id="29" dur="500" fill="hold"/>
                                        <p:tgtEl>
                                          <p:spTgt spid="71"/>
                                        </p:tgtEl>
                                        <p:attrNameLst>
                                          <p:attrName>ppt_w</p:attrName>
                                        </p:attrNameLst>
                                      </p:cBhvr>
                                      <p:tavLst>
                                        <p:tav tm="0">
                                          <p:val>
                                            <p:fltVal val="0"/>
                                          </p:val>
                                        </p:tav>
                                        <p:tav tm="100000">
                                          <p:val>
                                            <p:strVal val="#ppt_w"/>
                                          </p:val>
                                        </p:tav>
                                      </p:tavLst>
                                    </p:anim>
                                    <p:anim calcmode="lin" valueType="num">
                                      <p:cBhvr additive="repl">
                                        <p:cTn id="30" dur="500" fill="hold"/>
                                        <p:tgtEl>
                                          <p:spTgt spid="71"/>
                                        </p:tgtEl>
                                        <p:attrNameLst>
                                          <p:attrName>ppt_h</p:attrName>
                                        </p:attrNameLst>
                                      </p:cBhvr>
                                      <p:tavLst>
                                        <p:tav tm="0">
                                          <p:val>
                                            <p:fltVal val="0"/>
                                          </p:val>
                                        </p:tav>
                                        <p:tav tm="100000">
                                          <p:val>
                                            <p:strVal val="#ppt_h"/>
                                          </p:val>
                                        </p:tav>
                                      </p:tavLst>
                                    </p:anim>
                                    <p:animEffect filter="fade" transition="in">
                                      <p:cBhvr additive="repl">
                                        <p:cTn id="31" dur="500"/>
                                        <p:tgtEl>
                                          <p:spTgt spid="7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74"/>
                                        </p:tgtEl>
                                        <p:attrNameLst>
                                          <p:attrName>style.visibility</p:attrName>
                                        </p:attrNameLst>
                                      </p:cBhvr>
                                      <p:to>
                                        <p:strVal val="visible"/>
                                      </p:to>
                                    </p:set>
                                    <p:anim calcmode="lin" valueType="num">
                                      <p:cBhvr additive="repl">
                                        <p:cTn id="36" dur="500" fill="hold"/>
                                        <p:tgtEl>
                                          <p:spTgt spid="74"/>
                                        </p:tgtEl>
                                        <p:attrNameLst>
                                          <p:attrName>ppt_w</p:attrName>
                                        </p:attrNameLst>
                                      </p:cBhvr>
                                      <p:tavLst>
                                        <p:tav tm="0">
                                          <p:val>
                                            <p:fltVal val="0"/>
                                          </p:val>
                                        </p:tav>
                                        <p:tav tm="100000">
                                          <p:val>
                                            <p:strVal val="#ppt_w"/>
                                          </p:val>
                                        </p:tav>
                                      </p:tavLst>
                                    </p:anim>
                                    <p:anim calcmode="lin" valueType="num">
                                      <p:cBhvr additive="repl">
                                        <p:cTn id="37" dur="500" fill="hold"/>
                                        <p:tgtEl>
                                          <p:spTgt spid="74"/>
                                        </p:tgtEl>
                                        <p:attrNameLst>
                                          <p:attrName>ppt_h</p:attrName>
                                        </p:attrNameLst>
                                      </p:cBhvr>
                                      <p:tavLst>
                                        <p:tav tm="0">
                                          <p:val>
                                            <p:fltVal val="0"/>
                                          </p:val>
                                        </p:tav>
                                        <p:tav tm="100000">
                                          <p:val>
                                            <p:strVal val="#ppt_h"/>
                                          </p:val>
                                        </p:tav>
                                      </p:tavLst>
                                    </p:anim>
                                    <p:animEffect filter="fade" transition="in">
                                      <p:cBhvr additive="repl">
                                        <p:cTn id="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gins of U.S. Immigrants, </a:t>
            </a:r>
            <a:br>
              <a:rPr sz="4400"/>
            </a:br>
            <a:r>
              <a:rPr b="0" lang="en-US" sz="4400" spc="-1" strike="noStrike">
                <a:solidFill>
                  <a:srgbClr val="ffffff"/>
                </a:solidFill>
                <a:latin typeface="Times New Roman"/>
              </a:rPr>
              <a:t>1820-1925</a:t>
            </a:r>
            <a:endParaRPr b="0" lang="en-US" sz="4400" spc="-1" strike="noStrike">
              <a:solidFill>
                <a:srgbClr val="ffffff"/>
              </a:solidFill>
              <a:latin typeface="Times New Roman"/>
            </a:endParaRPr>
          </a:p>
        </p:txBody>
      </p:sp>
      <p:sp>
        <p:nvSpPr>
          <p:cNvPr id="79" name=""/>
          <p:cNvSpPr/>
          <p:nvPr/>
        </p:nvSpPr>
        <p:spPr>
          <a:xfrm>
            <a:off x="304920" y="5486400"/>
            <a:ext cx="88390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countries or regions contributed the </a:t>
            </a:r>
            <a:r>
              <a:rPr b="1" lang="en-US" sz="2800" spc="-1" strike="noStrike">
                <a:solidFill>
                  <a:srgbClr val="ffffff"/>
                </a:solidFill>
                <a:latin typeface="Times New Roman"/>
              </a:rPr>
              <a:t>largest</a:t>
            </a:r>
            <a:r>
              <a:rPr b="0" lang="en-US" sz="2800" spc="-1" strike="noStrike">
                <a:solidFill>
                  <a:srgbClr val="ffffff"/>
                </a:solidFill>
                <a:latin typeface="Times New Roman"/>
              </a:rPr>
              <a:t> numbers of immigrants to the U.S. between 1820 and 1925?</a:t>
            </a:r>
            <a:endParaRPr b="0" lang="en-US" sz="2800" spc="-1" strike="noStrike">
              <a:solidFill>
                <a:srgbClr val="000000"/>
              </a:solidFill>
              <a:latin typeface="Arial"/>
            </a:endParaRPr>
          </a:p>
        </p:txBody>
      </p:sp>
      <p:graphicFrame>
        <p:nvGraphicFramePr>
          <p:cNvPr id="80" name=""/>
          <p:cNvGraphicFramePr/>
          <p:nvPr/>
        </p:nvGraphicFramePr>
        <p:xfrm>
          <a:off x="-228600" y="1301760"/>
          <a:ext cx="9677520" cy="4619520"/>
        </p:xfrm>
        <a:graphic>
          <a:graphicData uri="http://schemas.openxmlformats.org/presentationml/2006/ole">
            <p:oleObj r:id="rId2" spid="">
              <p:embed/>
              <p:pic>
                <p:nvPicPr>
                  <p:cNvPr id="81" name="" descr=""/>
                  <p:cNvPicPr/>
                  <p:nvPr/>
                </p:nvPicPr>
                <p:blipFill>
                  <a:blip r:embed="rId3"/>
                  <a:stretch/>
                </p:blipFill>
                <p:spPr>
                  <a:xfrm>
                    <a:off x="-228600" y="1301760"/>
                    <a:ext cx="9677520" cy="4619520"/>
                  </a:xfrm>
                  <a:prstGeom prst="rect">
                    <a:avLst/>
                  </a:prstGeom>
                  <a:ln w="0">
                    <a:noFill/>
                  </a:ln>
                </p:spPr>
              </p:pic>
            </p:oleObj>
          </a:graphicData>
        </a:graphic>
      </p:graphicFrame>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3" name=""/>
          <p:cNvGraphicFramePr/>
          <p:nvPr/>
        </p:nvGraphicFramePr>
        <p:xfrm>
          <a:off x="-228600" y="1295280"/>
          <a:ext cx="9677520" cy="4632480"/>
        </p:xfrm>
        <a:graphic>
          <a:graphicData uri="http://schemas.openxmlformats.org/presentationml/2006/ole">
            <p:oleObj r:id="rId2" spid="">
              <p:embed/>
              <p:pic>
                <p:nvPicPr>
                  <p:cNvPr id="84" name="" descr=""/>
                  <p:cNvPicPr/>
                  <p:nvPr/>
                </p:nvPicPr>
                <p:blipFill>
                  <a:blip r:embed="rId3"/>
                  <a:stretch/>
                </p:blipFill>
                <p:spPr>
                  <a:xfrm>
                    <a:off x="-228600" y="1295280"/>
                    <a:ext cx="9677520" cy="4632480"/>
                  </a:xfrm>
                  <a:prstGeom prst="rect">
                    <a:avLst/>
                  </a:prstGeom>
                  <a:ln w="0">
                    <a:noFill/>
                  </a:ln>
                </p:spPr>
              </p:pic>
            </p:oleObj>
          </a:graphicData>
        </a:graphic>
      </p:graphicFrame>
      <p:sp>
        <p:nvSpPr>
          <p:cNvPr id="8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gins of U.S. Immigrants, </a:t>
            </a:r>
            <a:br>
              <a:rPr sz="4400"/>
            </a:br>
            <a:r>
              <a:rPr b="0" lang="en-US" sz="4400" spc="-1" strike="noStrike">
                <a:solidFill>
                  <a:srgbClr val="ffffff"/>
                </a:solidFill>
                <a:latin typeface="Times New Roman"/>
              </a:rPr>
              <a:t>1820-1925</a:t>
            </a:r>
            <a:endParaRPr b="0" lang="en-US" sz="4400" spc="-1" strike="noStrike">
              <a:solidFill>
                <a:srgbClr val="ffffff"/>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6.0</a:t>
            </a:r>
            <a:endParaRPr b="0" lang="en-US" sz="1000" spc="-1" strike="noStrike">
              <a:solidFill>
                <a:srgbClr val="000000"/>
              </a:solidFill>
              <a:latin typeface="Arial"/>
            </a:endParaRPr>
          </a:p>
        </p:txBody>
      </p:sp>
      <p:sp>
        <p:nvSpPr>
          <p:cNvPr id="87" name=""/>
          <p:cNvSpPr/>
          <p:nvPr/>
        </p:nvSpPr>
        <p:spPr>
          <a:xfrm>
            <a:off x="304920" y="5486400"/>
            <a:ext cx="88390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countries or regions contributed the </a:t>
            </a:r>
            <a:r>
              <a:rPr b="1" lang="en-US" sz="2800" spc="-1" strike="noStrike">
                <a:solidFill>
                  <a:srgbClr val="ffffff"/>
                </a:solidFill>
                <a:latin typeface="Times New Roman"/>
              </a:rPr>
              <a:t>smallest</a:t>
            </a:r>
            <a:r>
              <a:rPr b="0" lang="en-US" sz="2800" spc="-1" strike="noStrike">
                <a:solidFill>
                  <a:srgbClr val="ffffff"/>
                </a:solidFill>
                <a:latin typeface="Times New Roman"/>
              </a:rPr>
              <a:t> numbers of immigrants to the U.S. between 1820 and 19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Spain</a:t>
            </a:r>
            <a:endParaRPr b="0" lang="en-US" sz="4400" spc="-1" strike="noStrike">
              <a:solidFill>
                <a:srgbClr val="ffffff"/>
              </a:solidFill>
              <a:latin typeface="Times New Roman"/>
            </a:endParaRPr>
          </a:p>
        </p:txBody>
      </p:sp>
      <p:sp>
        <p:nvSpPr>
          <p:cNvPr id="89" name="PlaceHolder 2"/>
          <p:cNvSpPr>
            <a:spLocks noGrp="1"/>
          </p:cNvSpPr>
          <p:nvPr>
            <p:ph/>
          </p:nvPr>
        </p:nvSpPr>
        <p:spPr>
          <a:xfrm>
            <a:off x="1371600" y="5105160"/>
            <a:ext cx="7238880" cy="1096920"/>
          </a:xfrm>
          <a:prstGeom prst="rect">
            <a:avLst/>
          </a:prstGeom>
          <a:noFill/>
          <a:ln w="0">
            <a:noFill/>
          </a:ln>
        </p:spPr>
        <p:txBody>
          <a:bodyPr lIns="90000" rIns="90000" tIns="46800" bIns="46800" anchor="t">
            <a:normAutofit fontScale="7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country to actively colonize North America was Spain.</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were the Spanish colonies?</a:t>
            </a:r>
            <a:endParaRPr b="0" lang="en-US" sz="2800" spc="-1" strike="noStrike">
              <a:solidFill>
                <a:srgbClr val="ffffff"/>
              </a:solidFill>
              <a:latin typeface="Times New Roman"/>
            </a:endParaRPr>
          </a:p>
        </p:txBody>
      </p:sp>
      <p:pic>
        <p:nvPicPr>
          <p:cNvPr id="90" name="" descr=""/>
          <p:cNvPicPr/>
          <p:nvPr/>
        </p:nvPicPr>
        <p:blipFill>
          <a:blip r:embed="rId2"/>
          <a:stretch/>
        </p:blipFill>
        <p:spPr>
          <a:xfrm>
            <a:off x="1917720" y="1452600"/>
            <a:ext cx="5245200" cy="350028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15:35:21Z</dcterms:created>
  <dc:creator>ejm4725</dc:creator>
  <dc:description/>
  <dc:language>en-US</dc:language>
  <cp:lastModifiedBy>Texas A&amp;M Veterinary Medicine</cp:lastModifiedBy>
  <dcterms:modified xsi:type="dcterms:W3CDTF">2007-11-26T22:49:17Z</dcterms:modified>
  <cp:revision>78</cp:revision>
  <dc:subject/>
  <dc:title>Immigration to the United States</dc:title>
</cp:coreProperties>
</file>