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C1E4-38F6-45C6-AEA2-534922048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A835-0580-4042-9766-F02A6296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7B3C-E1CE-4BAC-A560-90FD8B95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1608-F698-42B3-8942-981F2708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65D5-86EB-46B1-A1A7-477BC228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C18B-5AC7-4944-8E3E-A8DDE048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B692-B0C2-4EB7-AD35-2723CF7D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9019-A6D5-4F28-AED8-479E79D5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D097-E6B9-42B3-9A7F-FF7E4B6B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5642-C5A2-4399-9B45-27F19574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0681-B4FC-47C4-8380-D1AB5F9F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355D-3E7C-4DF3-8E39-D6E7168F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28C0-BB12-4D34-8A70-13A96A1FD6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r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ofte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ljlab</cp:lastModifiedBy>
  <dcterms:modified xsi:type="dcterms:W3CDTF">2007-08-02T18:50:35Z</dcterms:modified>
  <cp:revision>10</cp:revision>
  <dc:subject/>
  <dc:title>Adverbs Adverbs modify verbs, adjectives, or other adverbs.</dc:title>
</cp:coreProperties>
</file>