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C489-AEAA-4293-AAE2-A96D2CA681B5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8AB2-A486-4340-87F3-288372EF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D4AA-02F4-478E-8526-DDD184E2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CAD-0A21-4A47-A37D-A03021B2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2C85-4FA9-48EC-A549-F1AE3B5A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AAE1-27F0-4B12-817B-EF3DA854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5106-E51C-434A-850F-089B10C2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42D7-5804-4592-AF6B-0D93BCAF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7D67-DEAF-4E58-8522-A9ACBB98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D884-EEBC-4AA8-875F-B8DDB1E9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FCFD-767A-4F31-87F3-90E71549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8430-B762-4C92-B27C-EA1E5361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98A1-A609-407A-A745-0876EC4C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9869-3068-4A20-8141-D6A8A34464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486400" y="2057400"/>
            <a:ext cx="2679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ljlab</cp:lastModifiedBy>
  <dcterms:modified xsi:type="dcterms:W3CDTF">2007-08-02T17:42:57Z</dcterms:modified>
  <cp:revision>16</cp:revision>
  <dc:subject/>
  <dc:title>Informative Essay</dc:title>
</cp:coreProperties>
</file>