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2EC7B-6F27-489E-B840-503F60BBE2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C6AB4-C173-49F7-AE07-02D41E22B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43144-DE66-49C0-973E-134961C21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7ABB5-C88E-4C42-ACE0-887C1A393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28D03-7F88-4E8E-8447-3B8EF488E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DA665-B85A-4ECD-8535-27C83B953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C7271-F758-46CE-8954-C2E07D81C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679FE-0915-4645-B435-D5C679453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4C224-FB48-4567-8BC4-4174E3FC1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89FBF-0AE3-459C-AB68-7D47AD2A7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67BE3-1BCC-4A15-AB33-844445CA2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2B905-DAC1-4644-A592-75BBDBE2D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2A411-D161-46D0-85BE-03BB4A656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690840" indent="-26568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06272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48788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191304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8B144-06AC-41CD-AFE3-5E1773966EB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480"/>
            <a:ext cx="6553080" cy="3810240"/>
          </a:xfrm>
          <a:prstGeom prst="rect">
            <a:avLst/>
          </a:prstGeom>
          <a:noFill/>
          <a:ln w="0">
            <a:noFill/>
          </a:ln>
        </p:spPr>
        <p:txBody>
          <a:bodyPr lIns="90000" rIns="90000" tIns="46800" bIns="46800" anchor="t">
            <a:no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ive specific examples to support your arguments.</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velop your thoughts and elaborate in your paragraphs.  Ask yourself, “Would I be convinced?”</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late to the reader by putting yourself in his or her shoes.</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e persuasive words…….</a:t>
            </a:r>
            <a:endParaRPr b="0" lang="en-US" sz="28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3000"/>
          </a:bodyPr>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7-08-02T17:16:24Z</dcterms:modified>
  <cp:revision>27</cp:revision>
  <dc:subject/>
  <dc:title>Persuasive Writing</dc:title>
</cp:coreProperties>
</file>