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21E85-DBEF-49A7-933A-26BE5905F8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 for entire Vocabulary Challenge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9B: The student is expected to: draw on experiences to bring meanings to words such as interpreting idioms, multiple-meaning words, and analogies (6-8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9C: The student is expected to: use multiple reference aids, including a thesaurus, a synonym finder, a dictionary, and software, to clarify meanings and usage (4-8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9D: The student is expected to: determine the meanings of derivatives by applying knowledge of the meanings of root words such as like, pay or happy and affixes such as dis-, pre-, or un- (4-8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ition Source: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Webster’s American English Dictionary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 Meriam-Webster, inc., Springfield, 1999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correct answer is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 Less offal means less troubl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correct answer is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 Sinewy is wir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correct answer is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 An interloper is a meddler or intruder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correct answer is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 A supernumerary is an additional person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correct answer is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 A tenement runner delivered messages from person to perso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correct answer is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 Pragmatic means practica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correct answer is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 The word deft means skillfu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correct answer is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 A Percheron is a breed of hors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correct answer is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 To divulge is to revea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correct answer is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 A miasma is a toxin in the air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F95D0-5A6F-4F2C-A186-DF4921BE3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F90B8-5A14-457A-BB6B-0C3000614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2B685-5711-4F13-A920-4F5C1FBE8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DC317-4F9F-4D9E-ABE2-4CB6E3DF0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B53D2-0E9A-4A2A-AD48-195E15456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37C43-73B6-41F0-9A6E-916E3D523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B6A49-0763-42C7-9107-EE1AA85D2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7D0F3-9F1D-4DDE-8C1A-CA46F0941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E6DF0-67F6-4BBF-98C7-D8C97564D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E756D-B229-465B-B3A5-0A575F9B6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FB941-2EBD-4DA5-A23C-BA4E37599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84F66-C750-434B-98AA-C504FA842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994320" indent="-19872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92120" indent="-19872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789920" indent="-19872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789920" indent="-19872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789920" indent="-19872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086E0-E6C6-4A96-8721-815CD5FEB9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imes New Roman"/>
              </a:rPr>
              <a:t>Vocabulary Challenge Quiz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99880" y="3962520"/>
            <a:ext cx="861084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Times New Roman"/>
              </a:rPr>
              <a:t>Read each passage carefully and then indicate the meaning of each underlined word by clicking A, B, C or D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Verdana"/>
              </a:rPr>
              <a:t>DP-9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02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84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9.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“Be sure to watch for potholes and keep to the middle of the street.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Less offal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there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84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y the phrase “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less offal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” Sully mean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84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ewer angry peopl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84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ewer bad-smelling thing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84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ess trou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84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ess offensive behavi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1192320" y="497376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1192320" y="320184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4"/>
          <a:stretch/>
        </p:blipFill>
        <p:spPr>
          <a:xfrm>
            <a:off x="1192320" y="3798720"/>
            <a:ext cx="374400" cy="4654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5"/>
          <a:stretch/>
        </p:blipFill>
        <p:spPr>
          <a:xfrm>
            <a:off x="1192320" y="438300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Verdana"/>
              </a:rPr>
              <a:t>DP-9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202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84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0.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“Sully rushed to the door and let in a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sinewy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boy about nine years old with the brightest shock of red hair Sully had ever seen. . 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84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 this sentence, a synonym for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sinewy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84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ran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84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i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84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verweigh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84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oyfu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1192320" y="536904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1192320" y="356868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4"/>
          <a:stretch/>
        </p:blipFill>
        <p:spPr>
          <a:xfrm>
            <a:off x="1192320" y="417528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5"/>
          <a:stretch/>
        </p:blipFill>
        <p:spPr>
          <a:xfrm>
            <a:off x="1192320" y="477828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3176640" y="2800440"/>
            <a:ext cx="2790720" cy="12571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4091040" y="4344840"/>
            <a:ext cx="961920" cy="5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Verdana"/>
              </a:rPr>
              <a:t>DP-8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02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454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“Sully needed a plan to get the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interlopers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out of the alley and hidden where he could question them without interruption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54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 this selection, a synonym for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interloper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54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actition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54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ddl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54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thlet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54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angst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1192320" y="536904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1192320" y="357336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1192320" y="417816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5"/>
          <a:stretch/>
        </p:blipFill>
        <p:spPr>
          <a:xfrm>
            <a:off x="1192320" y="478008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Verdana"/>
              </a:rPr>
              <a:t>DP-9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84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“At ten, while working as a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supernumerary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at the fire stations. . 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84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 this selection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supernumerary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mean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84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car ho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84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hoe shin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84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firema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84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 extra person for odd job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1192320" y="497376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192320" y="320184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1192320" y="3798720"/>
            <a:ext cx="374400" cy="4654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5"/>
          <a:stretch/>
        </p:blipFill>
        <p:spPr>
          <a:xfrm>
            <a:off x="1192320" y="4383000"/>
            <a:ext cx="374400" cy="46512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685800" y="202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195120" y="648828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Verdana"/>
              </a:rPr>
              <a:t>DP-9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02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56844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.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“. . . he had been recruited by the Dead Rabbits  </a:t>
            </a:r>
            <a:br>
              <a:rPr sz="2800"/>
            </a:b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      gang to be a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enement runner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. . . for the </a:t>
            </a:r>
            <a:br>
              <a:rPr sz="2800"/>
            </a:b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      landlords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56844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ou can tell from this passage that a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tenement runner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must have been a sort of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56844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sseng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56844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ssass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56844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utl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56844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auffeu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1187280" y="57387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1187280" y="39607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4"/>
          <a:stretch/>
        </p:blipFill>
        <p:spPr>
          <a:xfrm>
            <a:off x="1187280" y="45640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5"/>
          <a:stretch/>
        </p:blipFill>
        <p:spPr>
          <a:xfrm>
            <a:off x="1187280" y="515160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Verdana"/>
              </a:rPr>
              <a:t>DP-9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02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620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84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4.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“ ‘. . . no never mind, enough time for questions when you’re well hidden.’ Sully’s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pragmatic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nature took over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84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 this selection, a synonym for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pragmatic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84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verbear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84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sourcefu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84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actic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84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ergeti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1192320" y="53532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1192320" y="357516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1192320" y="41688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5"/>
          <a:stretch/>
        </p:blipFill>
        <p:spPr>
          <a:xfrm>
            <a:off x="1192320" y="476892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Verdana"/>
              </a:rPr>
              <a:t>DP-9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02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76080" y="1600200"/>
            <a:ext cx="79549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56844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5.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“He wound the remnant around his hand and </a:t>
            </a:r>
            <a:br>
              <a:rPr sz="2800"/>
            </a:b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deftly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tied it into a bandage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56844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 this sentence, you can tell that the word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deftly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mean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56844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killful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56844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low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56844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nful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56844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pi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1189080" y="53532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1189080" y="35686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4"/>
          <a:stretch/>
        </p:blipFill>
        <p:spPr>
          <a:xfrm>
            <a:off x="1189080" y="41655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5"/>
          <a:stretch/>
        </p:blipFill>
        <p:spPr>
          <a:xfrm>
            <a:off x="1189080" y="476568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Verdana"/>
              </a:rPr>
              <a:t>DP-9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02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4000" y="1600200"/>
            <a:ext cx="8334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56844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6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“Sully whistled to the team and the massive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Percherons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cantered down the cobblestone pavement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of Pearl Street. . 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56844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ou can infer from the description that a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Percheron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s a kind of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56844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56844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og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56844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or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56844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untain l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56844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189080" y="57387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1189080" y="39607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>
            <a:off x="1189080" y="45640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5"/>
          <a:stretch/>
        </p:blipFill>
        <p:spPr>
          <a:xfrm>
            <a:off x="1189080" y="515160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Verdana"/>
              </a:rPr>
              <a:t>DP-9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02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84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7.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“He knew that Liberius was leading the intruders into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divulging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information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84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 this sentence, a synonym for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divulging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84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tract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84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mpoun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84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uar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84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vealing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84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1190520" y="4976640"/>
            <a:ext cx="374760" cy="4654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1190520" y="32050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4"/>
          <a:stretch/>
        </p:blipFill>
        <p:spPr>
          <a:xfrm>
            <a:off x="1190520" y="37926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5"/>
          <a:stretch/>
        </p:blipFill>
        <p:spPr>
          <a:xfrm>
            <a:off x="1190520" y="438624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Verdana"/>
              </a:rPr>
              <a:t>DP-9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02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56844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8.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“Last week in Boston there was rumor of a new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miasma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and I’d hate for my best friend to succumb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to poisons in the air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56844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ou can tell from the description that the word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miasma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mplie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56844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xic vap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56844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isonous wa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56844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emical was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56844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uman excre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1192320" y="574524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1185840" y="39672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4"/>
          <a:stretch/>
        </p:blipFill>
        <p:spPr>
          <a:xfrm>
            <a:off x="1192320" y="456408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5"/>
          <a:stretch/>
        </p:blipFill>
        <p:spPr>
          <a:xfrm>
            <a:off x="1192320" y="515160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7T19:50:03Z</dcterms:created>
  <dc:creator>David Marcovitz</dc:creator>
  <dc:description/>
  <dc:language>en-US</dc:language>
  <cp:lastModifiedBy>Vince Hardy</cp:lastModifiedBy>
  <dcterms:modified xsi:type="dcterms:W3CDTF">2007-05-08T00:51:18Z</dcterms:modified>
  <cp:revision>61</cp:revision>
  <dc:subject/>
  <dc:title>PowerPoint Presentation</dc:title>
</cp:coreProperties>
</file>