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E2E-32A9-40A7-B5B2-66AC9B1B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B42-5FD9-4F29-914B-4B88CD4C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4E6-12AF-40F5-8599-E0CC0B31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BB0-57DA-41DF-B9A3-8FD8600A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8D2-F697-4191-8866-9066C183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3CFE-C064-4EC8-BCF7-E9D350A0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A3B0-10C4-49AC-9AE2-E1842E33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C117-4AF3-434B-B540-080A3F91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B4C4-6BE1-4619-BDD3-965C3D24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B8E-656C-4E5A-A6FD-28BBD522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70E-BB51-4C40-9423-7D0E80C5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99FB-00B6-46A9-A9A9-D9EE1836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02A5-D5DD-48BB-AF0A-8217481C3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oft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7-08-02T18:50:35Z</dcterms:modified>
  <cp:revision>10</cp:revision>
  <dc:subject/>
  <dc:title>Adverbs Adverbs modify verbs, adjectives, or other adverbs.</dc:title>
</cp:coreProperties>
</file>