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D366-45BF-4890-A6ED-62CDDC6AA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B: The student is expected to: draw on experiences to bring meanings to words such as interpreting idioms, multiple-meaning words, and analogies (6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C: The student is expected to: use multiple reference aids, including a thesaurus, a synonym finder, a dictionary, and software, to clarify meanings and usage (4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D: The student is expected to: determine the meanings of derivatives by applying knowledge of the meanings of root words such as like, pay or happy and affixes such as dis-, pre-, or un- (4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ition Source: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ebster’s American English Dictiona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Meriam-Webster, inc., Springfield, 199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Less offal means less trou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Sinewy is wi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n interloper is a meddler or intrud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supernumerary is an additional pers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tenement runner delivered messages from person to pers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Pragmatic means practic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The word deft means skillfu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Percheron is a breed of hor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To divulge is to rev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miasma is a toxin in the ai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D525-DC4B-4322-8539-E39E30BB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E4B8-6BB9-4C55-8EF0-41A759C3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2BEC-8BD9-4427-831D-086BC824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C449-D69A-49D8-AF78-1D8C1CF0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B01A-ECFA-46BB-8FF5-AE424A4D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C25C-5EAE-46E2-9B29-80D109A9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E842-5FA1-4991-8874-BF727FE4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3CAA-92EA-4C11-B984-85EEA7D6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096B-1F1E-412D-A784-19E56917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29C7-B464-48BC-8391-800FECB5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1935-57A7-43D8-A1B9-C7DA2656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ACF1-E4B5-4A09-A390-26182EDF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A1EE-DAF2-4BEB-A19B-97FF9B8E8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Be sure to watch for potholes and keep to the middle of the street.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ess offal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her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the phrase 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ess off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” Sully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angry peop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bad-smelling th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trou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offensive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92320" y="4973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92320" y="3201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92320" y="37987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192320" y="43830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rushed to the door and let in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new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boy about nine years old with the brightest shock of red hair Sully had ever seen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inew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y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92320" y="536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92320" y="35686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192320" y="4175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192320" y="4778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091040" y="434484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needed a plan to get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loper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ut of the alley and hidden where he could question them without interruption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lop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tio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d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hle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ng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92320" y="536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92320" y="3573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92320" y="4178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92320" y="4780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t ten, while working as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upernumerar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t the fire stations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upernumera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ar h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oe sh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ire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tra person for odd jo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92320" y="4973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92320" y="3201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92320" y="37987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92320" y="4383000"/>
            <a:ext cx="374400" cy="465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5120" y="648828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. . . he had been recruited by the Dead Rabbits 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gang to be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nement runner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 . . for the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landlord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tell from this passage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nement runn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ust have been a sort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e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ass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uff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87280" y="57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87280" y="396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87280" y="45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87280" y="515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 ‘. . . no never mind, enough time for questions when you’re well hidden.’ Sully’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agmatic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nature took ov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ragm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bea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ur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e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92320" y="535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92320" y="3575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92320" y="4168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92320" y="47689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6080" y="1600200"/>
            <a:ext cx="7954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wound the remnant around his hand and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ft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ied it into a bandag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you can tell that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ft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illf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nf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89080" y="5353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89080" y="3568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89080" y="4165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189080" y="47656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334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whistled to the team and the massiv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heron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cantered down the cobblestone pavemen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f Pearl Street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infer from the description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ercher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kind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untain l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89080" y="57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189080" y="396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9080" y="45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89080" y="515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knew that Liberius was leading the intruders int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vulg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nformation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vulg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ac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u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eal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90520" y="49766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90520" y="320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90520" y="37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90520" y="438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Last week in Boston there was rumor of a new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iasm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nd I’d hate for my best friend to succumb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o poisons in the ai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tell from the description that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iasm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mpl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xic vap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sonous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mical wa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 excr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92320" y="5745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85840" y="39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192320" y="45640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192320" y="51516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0:51:18Z</dcterms:modified>
  <cp:revision>61</cp:revision>
  <dc:subject/>
  <dc:title>PowerPoint Presentation</dc:title>
</cp:coreProperties>
</file>