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8EB9-67E2-4490-83FE-291759C7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ge 15-18: ($0.75/hr) x (8 hr/day) x (7 days/ wk) x (52 wks/ yr) x 3 yrs = $6,5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 18-20: ($20/ day) x (365 days/ yr) x (2 yr) = $14,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 20-24: ($44/ day) x (365 days/ yr) x (5 yrs) = $80,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: 6,552 + 14,600 + 64,240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94,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  Select and use appropriate units, tools, or formulas to measure and to solve problems involving length, area, time, temperature, volume, and weig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Add, subtract, multiply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 and divide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50 x 0.62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3 l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  Measure and solve problems involving length, area, time, temperature, volume, and weig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Add, subtract, multiply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–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– Add, subtract, multiply and divide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– Find solutions to problems involving perc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–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8– 9 = 9 years passed since the concert; 1832 – 9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  Measure and solve problems involving length, area, time, temperature, volume, and weig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 and subtract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nnie: 3.5*12+15= 57in t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T: 57+1= 58 in ta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e:58+3= 61 in t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ly: (61+ 8)/12= 5.75 f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5*12=9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feet, 9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 and subtract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6 = 6 x a x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 = 6 x a^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/6 = a^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qrt(16) = a = 4 f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imeter = 4 x 4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f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  Measure and solve problems involving length, area, time, temperature, volume, and weig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8 (C) Use geometric concepts and propertie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–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– Add and subtract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B) – Use geometric concept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8 (A) – Find surface area and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8 (B) – Use formulas to solve problems with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–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C598-C0F6-4074-95C6-990F1D6AA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09D-6038-4F55-AD83-E4804424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791-15A2-47D7-A80E-B86185EC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944-5130-462B-9E3E-BD922156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853-4FE7-4298-B9A6-BEA33B8C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1B8-A008-4499-B6F2-678E1746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321-0AB7-448B-9A4E-8D980ECF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D9D-955A-4805-ADA4-A3512112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276-82C9-439A-9276-EE3ECB29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7A5-76CE-4148-9CB9-61148797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C68-7FDC-4F79-81DE-0B3953D5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2EB-75CD-4870-9CDF-D2E0341C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6AA-99B8-4728-9F43-093F7935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6EFF-6F96-4E48-9C6E-EB044FF78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Appendices/Per%20Problem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DecToPer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file:///Appendices/Geometry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96252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ntegrated Middle School Curriculu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nership for Environmental Education and Rural Heal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as A&amp;M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peer.ta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0080" y="1776240"/>
            <a:ext cx="6631200" cy="21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ark Poison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correct operations when given a word probl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with rates and percentag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the relationships between perimeter and volu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1680" y="64911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m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0840" y="1330200"/>
            <a:ext cx="52052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iberius turned 15, he worked as a deckhand for $0.75/hr, 8 hours a day, and 7 days a week.  When he became 18, he was captain of a barge and made an average of $20/day, working 7 days a week.  At 20, he formed his own shipping company and makes $44/day, also working 7 days a week.  If Liberius just turned 25, how much has he earned over the past 10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5480" y="1463760"/>
            <a:ext cx="2830680" cy="42782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28520" y="401760"/>
            <a:ext cx="8813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llars and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65520" y="616896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help with using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86400" y="1519200"/>
            <a:ext cx="4136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ly weighs 150 lbs.  If K.T. weighs 62% of Sully’s weight, how much does she wei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8520" y="401760"/>
            <a:ext cx="8813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Weighty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8880" y="1635120"/>
            <a:ext cx="3665520" cy="369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87680" y="6238800"/>
            <a:ext cx="47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help with percen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57360" y="1432080"/>
            <a:ext cx="79246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ory is set in the summer of 1832.  Sully remembers seeing a summer Castle Garden concert when he was 9 years old.  If Sully is currently 18 years old and his birthday is in April, in what year did he see the conc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09600" y="3879720"/>
            <a:ext cx="3886200" cy="22082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873760" y="3876840"/>
            <a:ext cx="1862280" cy="22636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93760" y="401760"/>
            <a:ext cx="8648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astle Garden Conc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-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31800" y="1558800"/>
            <a:ext cx="441792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is taller than all of the BP gang, but only 8 inches taller than Jace.  KT is only 0.25 feet shorter than Jace, but 1 inch taller than Connie.  Summer is 15 inches shorter than Connie, and she is 3.5 feet tall in her wheelchair.  How tall is Sully in feet and inch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3760" y="401760"/>
            <a:ext cx="8648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’s the tallest of them 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m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64080" y="1625760"/>
            <a:ext cx="3214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0440" y="1558800"/>
            <a:ext cx="45799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fe house that hid the young mother and Little Josiah has a square perimeter.  The height of the room is 6 feet tall and has a volume 96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What is the perimeter of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3760" y="401760"/>
            <a:ext cx="8648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ght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m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72000" y="1635120"/>
            <a:ext cx="319428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1640" y="5497560"/>
            <a:ext cx="54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help with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6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23:03:35Z</dcterms:created>
  <dc:creator>ljlab</dc:creator>
  <dc:description/>
  <dc:language>en-US</dc:language>
  <cp:lastModifiedBy>College of Veterinary Medicine</cp:lastModifiedBy>
  <dcterms:modified xsi:type="dcterms:W3CDTF">2007-11-19T20:04:35Z</dcterms:modified>
  <cp:revision>132</cp:revision>
  <dc:subject/>
  <dc:title>Dark Poison</dc:title>
</cp:coreProperties>
</file>