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477C-DFF1-4D59-A5C0-7CC5FE13B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,414,000 / 180,000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Use multiplication and division of whole numbers to solve problems including situations involving equivalent ratio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 and divide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droom = 11 ft x 8 ft = 88 f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bathroom = 4ft x 8 ft = 32 f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; total = 120 f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fore, the secret room is 132 f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120 f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 ft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would be fairly tight quarters to stand/sit in for an extended period of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floor plan for the apartment would be an 11 ft x 12 ft layo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 Measure/solve problems of length, area, time, temperature, capacity, and 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, and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 and divide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B) Use geometric concept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8 (C) Use formulas to solve problems with surface area and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40(0.65) + 140(0.80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3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 and divide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Find solutions to problems involving perc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B) Use problem-solvi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ory volume = 13 x 12 x 36= 5616 f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ory volume = 9 x 12 x 24=2592 f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ory volume= 9 x 12 x 24=2592 f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volume = (5616+2592+2592)/ (3.281*3.281*3.281)= 305.78 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 Measure/solve problems of length, area, time, temperature, capacity, and w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, and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–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– Add, subtract, multiply and divide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B) – Use geometric concept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8 (A) – Find surface area and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8 (B) – Use formulas to solve problems with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–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BDA2-9649-41DC-8519-930271ABC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C48-448F-4681-BE51-3E6BE925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C12-FC08-48AC-820B-004B762A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F06-C850-4E4F-A65A-3BDFE2C0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D93-28CD-4679-B570-ADFB5698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21B-D272-43BA-99E6-17577F5C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730-937D-4EF3-8FAC-F0AC117C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F65-548B-41E4-9F8B-7DB1DA15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B46-0C14-4144-9402-A713DB93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EC0-9E68-4EFC-B1EC-851FC491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292-CD16-4268-9A0E-4BC7E98A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DC5-4621-4903-B0C6-39C059F7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7CE-96CE-49E8-B9DB-D5CF75F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7517-347B-4AEB-AAA9-0185D5998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Appendices/AreaCalc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hyperlink" Target="file:///Appendices/DecToPer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file:///Appendices/Geometry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96252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ntegrated Middle School Curriculu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nership for Environmental Education and Rural Healt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as A&amp;M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9900"/>
                </a:solidFill>
                <a:uFillTx/>
                <a:latin typeface="Arial"/>
                <a:hlinkClick r:id="rId3"/>
              </a:rPr>
              <a:t>peer.ta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0080" y="1776240"/>
            <a:ext cx="6631200" cy="21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ark Poison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area and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ract and add ratios and volu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and compare rat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920" y="64310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Pm-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55560" y="4930920"/>
            <a:ext cx="8229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832, there were 180,000 people in New York City.  Today, there are 9,414,000 people.  How many times greater is the population today than in 183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8520" y="401760"/>
            <a:ext cx="8813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pulation B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P-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25520" y="1542960"/>
            <a:ext cx="843264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apartment has a total floor space of 132 f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His apartment has one bedroom which is 11 ft x 8 ft, another room that is 4 ft x 8 ft, and a secret c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area in f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the secret cell                            in which the young mother was hiding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uld it be like for a person in there?                 Tight or spaciou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apartment is a rectangular prism with 8 ft ceilings, what is one floor plan that could b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01760"/>
            <a:ext cx="8813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 Much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799320" y="3151080"/>
            <a:ext cx="2066760" cy="701640"/>
            <a:chOff x="6799320" y="3151080"/>
            <a:chExt cx="2066760" cy="701640"/>
          </a:xfrm>
        </p:grpSpPr>
        <p:sp>
          <p:nvSpPr>
            <p:cNvPr id="60" name=""/>
            <p:cNvSpPr/>
            <p:nvPr/>
          </p:nvSpPr>
          <p:spPr>
            <a:xfrm>
              <a:off x="6799320" y="3151080"/>
              <a:ext cx="2066760" cy="7016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83800" y="3255840"/>
              <a:ext cx="261360" cy="501480"/>
            </a:xfrm>
            <a:custGeom>
              <a:avLst/>
              <a:gdLst/>
              <a:ahLst/>
              <a:rect l="l" t="t" r="r" b="b"/>
              <a:pathLst>
                <a:path w="264" h="516">
                  <a:moveTo>
                    <a:pt x="0" y="516"/>
                  </a:moveTo>
                  <a:lnTo>
                    <a:pt x="0" y="50"/>
                  </a:lnTo>
                  <a:lnTo>
                    <a:pt x="264" y="0"/>
                  </a:lnTo>
                  <a:lnTo>
                    <a:pt x="261" y="459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79120" y="3535920"/>
              <a:ext cx="41040" cy="49320"/>
            </a:xfrm>
            <a:prstGeom prst="ellipse">
              <a:avLst/>
            </a:prstGeom>
            <a:solidFill>
              <a:srgbClr val="cc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7000" y="6329520"/>
            <a:ext cx="51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Click 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 help with calculating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74840" y="1590840"/>
            <a:ext cx="549432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full, a tenement house can cram in 140 people. One house was 65% full, whereas another was 80% full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total people were living in those 2 hou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8520" y="401760"/>
            <a:ext cx="6302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many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73880" y="384120"/>
            <a:ext cx="2367000" cy="609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-4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8960" y="469584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3"/>
              </a:rPr>
              <a:t>Click 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 help using perc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78360" y="1298520"/>
            <a:ext cx="4992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rchant’s House Museum in New York city was a famous 3-story building in the 1830’s.  The first story was approximately 13 feet high, 12 feet wide, and 36 feet long.  The second and third story were both 9 feet tall, 12 feet wide, and 24 feet lo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as the total volume of the building in meters? (Hint: There are 3.281 feet per meter.)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8520" y="401760"/>
            <a:ext cx="8813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erchant’s House Mu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m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71400" y="1762200"/>
            <a:ext cx="2894040" cy="3825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59240" y="6235560"/>
            <a:ext cx="56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3"/>
              </a:rPr>
              <a:t>Click 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 help with calculating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4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23:03:35Z</dcterms:created>
  <dc:creator>ljlab</dc:creator>
  <dc:description/>
  <dc:language>en-US</dc:language>
  <cp:lastModifiedBy>College of Veterinary Medicine</cp:lastModifiedBy>
  <dcterms:modified xsi:type="dcterms:W3CDTF">2007-11-19T20:33:33Z</dcterms:modified>
  <cp:revision>128</cp:revision>
  <dc:subject/>
  <dc:title>Dark Poison</dc:title>
</cp:coreProperties>
</file>