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6E0D-F132-4EAA-9D98-6D1FCC1E1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9FE6-8FFE-4B9E-B898-C874C8BEE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E579-8045-4DB4-AFB6-508CD278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253A-3079-4949-A5EC-634A0B558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F0AD-F961-4D00-BC45-C3394D021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C93B-B926-4E8B-AD21-013C1A1C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DBC8-08F5-41A5-958F-0D2FAB84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D982-C7ED-4B45-B342-E31ECC82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170E-1206-4BC6-AF73-3A8FB576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7E75-FECC-4C6F-93F4-F814756A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9DE5-E2A6-4B59-B54E-51B319E7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6013-72AF-4A03-874E-1912092D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8376-EA9D-47A6-9A16-3CF4BC2E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00F3-B441-4D37-9708-180DD28A1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9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berius sent word to Sully that he must leave the city becaus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lice were after hi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s worried that Sully would fall 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gang war was brew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lly’s parents were ill and needed hi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190520" y="4775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185840" y="2963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184400" y="35733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187280" y="4178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10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ne of the following words might best be used in Summer’s report to describe New York Cit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ger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iend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190520" y="5143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85840" y="3368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84400" y="3954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187280" y="45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159000" y="2792520"/>
            <a:ext cx="2791080" cy="1257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075200" y="483228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ain character in the story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beri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l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via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87280" y="4383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192320" y="2583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190520" y="3184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1184400" y="37828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2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ne of the following characters suffered a tragic loss in the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via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y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87280" y="4773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192320" y="2965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1187280" y="3575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1184400" y="4176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3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and her friends told Sully and Liberius that the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nted to build a sub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ed information for a re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re required to visit the Statue of Liber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ed for the health depart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190520" y="4775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185840" y="2962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1184400" y="357012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1187280" y="4178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4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lly used to be a gang member but went to work for Liberius becaus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were broth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owed Liberius mone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did not like cheating peop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s scared of Liberi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190520" y="4775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185840" y="2965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184400" y="35672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187280" y="418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5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is NOT a useful context clue for determining the time period described in this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rse-drawn fire eng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mberpo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ence of the Statue of Liber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e English tea in china c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184400" y="51386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185840" y="3362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184400" y="3952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187280" y="4552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6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and her friends chose to travel back in time to learn more abou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er pur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Underground Railr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Quaker relig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st Coast shipping rou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190520" y="4778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185840" y="2965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184400" y="35672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187280" y="4175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7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berius lived i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hatt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York 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omfortable townho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190520" y="4383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185840" y="257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1184400" y="31845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1187280" y="3782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8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viah and Josiah traveled to New York Cit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gain freedom by crossing into Cana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ee a Broadway sh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work for Liberi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live with her m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190520" y="437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185840" y="2583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184400" y="3191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1187280" y="3789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8T00:06:45Z</dcterms:modified>
  <cp:revision>52</cp:revision>
  <dc:subject/>
  <dc:title>PowerPoint Presentation</dc:title>
</cp:coreProperties>
</file>