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77598-7381-4AA3-8226-F0CEE3C13C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0D53-8CE0-47F1-9045-59F304058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E8D2-0D69-43A9-B109-C53F9B7E3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F720-2B5F-42A9-8598-848948EBB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A220-4FD2-4993-8701-1A55203EF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F193-9008-4C98-8CE8-E71E550FA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EDB0-FE33-4AD4-B330-9D74AFED3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46DA-2A53-4043-A0D9-D86F9CC16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608C-9266-474B-89D8-764BC90CB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8867-3220-4B03-A9F3-00B79F006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6BC8-CF2C-4438-AF61-52C43E63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1603-A2B9-47B9-B656-FFA47561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9B5E-A10F-42C7-BEE8-3297157B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5501B-A523-4F9C-8B71-4E1B818FCF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or example, over the past 40 years, New Jersey has had an average temperature of 32 º Fahrenheit and an average precipitation of 2.8 inches during the month of February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Weather is the state of the atmosphere at a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given place and time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or example, the temperature right now in New Jersey is 56º F and it is snowing. 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09Z</dcterms:modified>
  <cp:revision>19</cp:revision>
  <dc:subject/>
  <dc:title>What’s the difference between weather and climate?</dc:title>
</cp:coreProperties>
</file>