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3A13-9DC4-4504-9CBE-1C10E3E2B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748F-FC46-42A1-841D-53AC37F95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4083-9A3E-49F4-B9D4-C05947F5E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E3DA-6161-4A3E-86C9-9A1DA5FC1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C6CB-1571-4242-9F24-C936A9E7D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74C6-A965-4613-926E-8B78D1D41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AB3E-E7CE-4163-9A8C-8C4A38376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E9E7-AF39-4AAF-A469-DE37FEFA7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3C2F-C8A2-478E-987A-AEC911B9E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2011-66F3-4EA0-BC12-33603002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56A1-F0F0-4106-A28A-711840A7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64BF-5A53-4251-A37C-36C90C1B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23EDC-C4DD-4214-9626-B507FA55D0C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jectives modify nouns or pronou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Using adjectives gives an accurate description of the object at hand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?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at kind?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 many?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 much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21:31:57Z</dcterms:created>
  <dc:creator>ITMD</dc:creator>
  <dc:description/>
  <dc:language>en-US</dc:language>
  <cp:lastModifiedBy>ljlab</cp:lastModifiedBy>
  <dcterms:modified xsi:type="dcterms:W3CDTF">2007-08-02T18:51:10Z</dcterms:modified>
  <cp:revision>62</cp:revision>
  <dc:subject/>
  <dc:title>Locating Places</dc:title>
</cp:coreProperties>
</file>