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CC0A-C802-4189-97EF-DB0055F9A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(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03E-CE2A-49F1-A8C9-D8826102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C7D7-F064-4219-8F7F-62D089A1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3CBD-3DC7-45CB-B7A9-7119C493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A530-14F4-4857-993B-8569F16E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99C-4966-4913-BD57-0B8BC221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79E-C449-4BD3-B9CC-F62D5E9A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864-2E99-4EA8-A59D-FCE3133E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5F0-7FF4-4EFE-A269-652559C7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71B-358D-4983-AEF6-44466EDC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3B23-8AE7-488F-9F68-33C3E009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FA8-E428-4324-8AAC-BC9ADA56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BEF-8E7E-42B4-A041-7412F6E8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F7CF-CEBB-426C-B155-4AC9B9CD8F7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530000"/>
            <a:ext cx="49687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46840" y="1614600"/>
            <a:ext cx="2722320" cy="28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ljlab</cp:lastModifiedBy>
  <dcterms:modified xsi:type="dcterms:W3CDTF">2007-08-02T17:38:16Z</dcterms:modified>
  <cp:revision>25</cp:revision>
  <dc:subject/>
  <dc:title>What Do I Say?</dc:title>
</cp:coreProperties>
</file>