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5267-7743-4880-938E-40767AB15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-8.22 (B) Interpret important events and ideas gathered from visual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2 (G) Recognize and analyze story plot, setting, and problem 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0 (D) Describe mental images the text evo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DCDB-15CD-4D51-875D-D3FC95E1F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CBE9-D067-41E6-A993-8C230607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AB51-AFAB-4987-BF45-C631FE30A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D5BB-9386-407A-8FFD-4CB348A9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F6EE-F008-4CB0-A211-8B69E44E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C044-2B38-43CA-989B-E0B636EA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6B33-ED81-4D38-B498-7C4CF4D1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00A8-BB03-4824-9BD9-DA872E92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12E6-DFB9-42E8-ADC7-01A6E526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1A88-CB1E-4DD6-8E1F-33857694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0FFE-456E-4729-844F-64EC44C6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1C10-43BD-45E1-B360-A3FD4002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A003-F372-469C-9FB5-F9A48C5839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ljlab</cp:lastModifiedBy>
  <dcterms:modified xsi:type="dcterms:W3CDTF">2007-08-02T18:23:59Z</dcterms:modified>
  <cp:revision>18</cp:revision>
  <dc:subject/>
  <dc:title>Context Clues</dc:title>
</cp:coreProperties>
</file>