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E8F6-010F-4C17-8F42-693C7850E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B7A-3719-47EC-AEBD-60BBDCDC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C478-FAD9-474F-A4E0-FCC8A338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12CE-264D-42F1-B246-4FF1A16C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D88-0F99-4757-9ADA-BE011D40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713C-AC54-4E7F-99EE-8C0E1DB6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FB06-AB5D-439C-8C0C-21C43FAC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2F06-0292-4E7C-BDF2-3A5447FB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53C3-8856-42B1-89D4-7CE16D1C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97E9-BD15-4385-989F-0293F6E6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606-032B-41D9-8CEF-DA002964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B22-8783-43AE-B7AE-3AC0DC4D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7FE-734E-4A99-8418-A437AED3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AF80-8FD5-459D-AED9-7806CC259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39:57Z</dcterms:modified>
  <cp:revision>11</cp:revision>
  <dc:subject/>
  <dc:title>Volume &amp; Weight Conversions</dc:title>
</cp:coreProperties>
</file>