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506F-E270-43A1-ADA9-FF12351BB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3B6-7E92-47AD-A119-6E3AED71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48B-2337-46EE-92EB-2738F773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CB3-9BA6-4EE0-8910-0D83C0E3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942-DB03-4799-BFBA-A10B7B96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9C6-6375-45CD-9186-031F5DA6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664-385F-49ED-9CE7-306E7FA9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53F-562E-408C-87B0-7B4811C8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802-7D44-4A22-ADEF-8B77CC3F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2AC-1C26-4C8A-B587-B1F97094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3D57-4324-4C7D-8006-13E9EB83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EE6-407C-4BB9-8913-9EE765BB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131-B021-4638-8EBF-D3C2564C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00AB-6275-49C5-B4E0-5432AD589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sent word to Sully that he must leave the city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lice were after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that Sully would fall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ang war was brew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’s parents were ill and needed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85840" y="29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8440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words might best be used in Summer’s report to describe New York C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90520" y="5143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85840" y="336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4400" y="395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7280" y="45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252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5200" y="48322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haracter in the story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92320" y="25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90520" y="3184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3782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characters suffered a tragic los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y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87280" y="47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92320" y="2965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18728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184400" y="417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told Sully and Liberius that the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ed to build a sub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information for a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to visit the Statue of Lib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for the health depar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85840" y="2962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84400" y="35701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 used to be a gang member but went to work for Liberius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r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owed Liberius mon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 not like cheating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scared of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187280" y="418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useful context clue for determining the time period described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-drawn fire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mber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ence of the Statue of Lib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e English tea in china c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4400" y="5138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185840" y="3362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184400" y="395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872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chose to travel back in time to learn more abo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u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derground Railr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aker reli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t Coast shipping ro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90520" y="47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187280" y="4175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lived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hat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fortable town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9052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85840" y="25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84400" y="3184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187280" y="3782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 and Josiah traveled to New York 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in freedom by crossing in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a Broadway sh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ork for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live with her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9052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85840" y="25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184400" y="3191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87280" y="378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06:45Z</dcterms:modified>
  <cp:revision>52</cp:revision>
  <dc:subject/>
  <dc:title>PowerPoint Presentation</dc:title>
</cp:coreProperties>
</file>