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7E1B2-C8DA-4D48-A1D5-05654072E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F367-23B1-4B51-A0ED-529AD471A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7E64-70AD-446E-A167-8E7D076F6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AC07-833B-4587-AF3E-A34042478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5C93-7527-483A-9429-408745C48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2190-717C-446C-940F-945F6DFF9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8BE0-E3F6-4398-A9E2-24E945C5A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3D89-50A7-4440-8625-DFA831E38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5BF7-3BE8-4950-9DF7-FA4A45BF1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72D6-92A3-4213-9281-60E39F29F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A339-CEAF-45D3-83B9-3AAD4D4F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52CD-0A4C-493C-B48E-D947147C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937B-9C82-4A7C-9D2F-DD7C438F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5D62D-A4BB-4E6A-A4C9-8AB41C11804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rcRect l="0" t="45721" r="0" b="0"/>
          <a:stretch/>
        </p:blipFill>
        <p:spPr>
          <a:xfrm>
            <a:off x="2362320" y="4343400"/>
            <a:ext cx="411480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rcRect l="11141" t="0" r="0" b="0"/>
          <a:stretch/>
        </p:blipFill>
        <p:spPr>
          <a:xfrm>
            <a:off x="5029200" y="1981080"/>
            <a:ext cx="3611520" cy="24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ljlab</cp:lastModifiedBy>
  <dcterms:modified xsi:type="dcterms:W3CDTF">2007-08-02T19:09:28Z</dcterms:modified>
  <cp:revision>30</cp:revision>
  <dc:subject/>
  <dc:title>Descriptive Writing</dc:title>
</cp:coreProperties>
</file>