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88C40-FBDB-492D-8CE0-8087C1F523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B8D51-4E58-472D-96DC-1966ED460D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C2966-88EB-429F-B809-496E78B538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C9D69-D68F-4FD5-AFE8-61A3545F73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9930E-26B3-4992-B6D3-FCD4579C3E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670A8-D06A-4D76-AE2E-00109685A1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ACA62-9BBB-43B0-9F51-5DB5C30996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F4724-1E7F-4C1F-9BEE-85EC59BE96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1497A-E4E6-4175-BFE8-58E96B0032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D8F8C-2703-4EE0-8156-0FE5B5CDE5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3C32D-6646-4181-A71C-3D84C1B308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5B668-5777-4E69-90B0-AAD2F7108D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392AB-30C3-4671-9DDF-3E3F4C53AFF0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imeter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07732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The perimeter (P) of any closed figure is the distance around the figure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To find the perimeter of a rectangle, add the measures of its four sides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= length, </a:t>
            </a:r>
            <a:r>
              <a:rPr b="0" i="1" lang="en-US" sz="29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= width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             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P =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P = 2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2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3300" spc="-1" strike="noStrike">
                <a:solidFill>
                  <a:srgbClr val="ff9966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9966"/>
                </a:solidFill>
                <a:latin typeface="Times New Roman"/>
              </a:rPr>
              <a:t>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w                                         w                                                           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    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l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486400" y="4343400"/>
            <a:ext cx="2720880" cy="1508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73FF2-1AFB-48A3-B411-7298777F1CBB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29Z</dcterms:modified>
  <cp:revision>206</cp:revision>
  <dc:subject/>
  <dc:title>VTPP 423 - PHYSIOLOGY</dc:title>
</cp:coreProperties>
</file>