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6FD0-ED8F-47DA-A99F-88E681909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880FB-39A2-410E-A904-994CCD1FE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F2F1D-DB8B-4B82-B740-E2E52E875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DBD27-5F8C-4468-9279-EABC9B62C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C5BB2-A4AB-4988-B3E8-123F119E3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C2E1C-B2DA-492A-82DB-A59940F87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38355-088D-4569-A102-F18CC4E21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924B8-6F84-4BC2-A7A7-D21EBB1E8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8E049-90FF-4958-BFA2-A103FEDD9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1B206-2E1D-4C63-AB63-06D4E7318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ED37A-DFC3-40F9-AF71-F5EE838A8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A25C8-9012-4E1E-896D-33A5AAB55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52E17-F6BE-4BBA-8D46-D83B3EBB6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690840" indent="-26568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06272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48788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191304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AE96-BFD7-4CD1-BFC4-B9EA994FF50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480"/>
            <a:ext cx="6553080" cy="381024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ive specific examples to support your argument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velop your thoughts and elaborate in your paragraphs.  Ask yourself, “Would I be convinced?”</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late to the reader by putting yourself in his or her shoe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e persuasive words…….</a:t>
            </a:r>
            <a:endParaRPr b="0" lang="en-US" sz="28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7-08-02T17:16:24Z</dcterms:modified>
  <cp:revision>27</cp:revision>
  <dc:subject/>
  <dc:title>Persuasive Writing</dc:title>
</cp:coreProperties>
</file>