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E915B-053F-4BA5-B4B7-CB782015B4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CD70F-F691-43AC-A579-66F90F0D8B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B38AF-CE47-41A9-AEAC-69AA93034D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1E351-936B-4F72-AF9C-4F6ED310E2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AF907-842E-40F1-A1C4-0924184EE2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BA632-A6AF-495E-B0F5-9FF89F19FB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E86A0-93EF-4EE6-93F9-0C63B384EC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ADFCC-31FA-4C79-9506-89ECD5CA84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D2703-6C66-4DE1-A2F8-72FF24BDA3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018E0-58FA-429F-9140-6F5658C7E3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9F1B0-50A0-48D0-83BB-D7296A5FB4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F3E99-2321-4D68-9976-B90E8693B3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9AF20-E91F-4B84-92E0-E33FDD2F06BB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67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emember that a decimal is a fractional number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en it is written as a PERCENT, the decimal number is the part and 100 is always the whole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o the following steps to convert a decimal to a percent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8675B-0F7A-40A5-9E95-60C6E4115815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456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r example: Convert 0.83 to a percen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) Multiply the decimal by 100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e.g. 0.83 x 100 = 83)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) Add a percent sign after the answer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e.g. 83%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00 or 100%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.83 or 83%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 whole in blue)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(part in green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797200" y="4724280"/>
            <a:ext cx="3451320" cy="1463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24D1C-2417-4F84-A949-042E57C80576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09Z</dcterms:modified>
  <cp:revision>211</cp:revision>
  <dc:subject/>
  <dc:title>VTPP 423 - PHYSIOLOGY</dc:title>
</cp:coreProperties>
</file>