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30C-23BB-4F3D-8964-94C3C56A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330-692F-4EA6-B081-FCC74FE5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1E1-F338-4A46-8F61-2BBC8123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504-ED4E-4E27-B5BF-B1A0F6BF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15F-390C-4315-BECC-7AE05896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DA5-E665-4BC5-A06B-3E50B899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FB8-8C41-49D8-8F39-4339F76F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E89-5638-4816-A694-938F3B68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DDC-B6B8-461C-B438-12EF04F7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EA1-97C0-4B5F-B7E9-80AFAD36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9C0-702F-45A6-898C-109BED1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8AB-B58D-4CC8-AD30-14AEB7D7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506D-DCF6-416F-8E38-B96515032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oft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7-08-02T18:50:35Z</dcterms:modified>
  <cp:revision>10</cp:revision>
  <dc:subject/>
  <dc:title>Adverbs Adverbs modify verbs, adjectives, or other adverbs.</dc:title>
</cp:coreProperties>
</file>