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047E-D696-49AE-B829-768C4FE7C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(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B6AD-B2F7-4F21-A51D-78351BCA7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F29D-8C67-4DE9-9795-E0F8CC38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9E04-97B7-4BA9-9428-20A1DDBD6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16F6-B631-4AB8-B89E-650A836CD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35F1-B5CB-40DF-B718-F3683EA3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C99B-3CA0-444C-8FE5-CE270450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3BA9-A7C5-48CD-8B8B-C1D34428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F31D-77CF-4ED1-AA11-EDDEEA6A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7A36-C8DF-4E1A-A428-CA4D69B6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88B3-8D93-460B-91CF-1FF806C1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1586-589F-4674-BAE4-E58B3D49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8DBB-0DD1-4D80-B8FE-8EBEC006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E305-14AA-41F9-9171-28834CB410F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530000"/>
            <a:ext cx="496872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946840" y="1614600"/>
            <a:ext cx="2722320" cy="28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ljlab</cp:lastModifiedBy>
  <dcterms:modified xsi:type="dcterms:W3CDTF">2007-08-02T17:38:16Z</dcterms:modified>
  <cp:revision>25</cp:revision>
  <dc:subject/>
  <dc:title>What Do I Say?</dc:title>
</cp:coreProperties>
</file>