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3D62-2543-4A91-A603-73519D7DCDCD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6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ize and punctuate correctly to clarify and enhance mea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7C9-4D36-45DC-BC40-3CFFDE01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9B2-37E4-4C52-B8AA-052FBDE7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D12-1743-4CA9-9EB6-340699D1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5A3-2425-4E58-890E-85995A81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A8D-A330-4298-B224-287D4613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56B-28AB-4942-BB4E-568C9D9C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357-7FA1-4741-9422-A64ABEB2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9A8-2B4B-45F2-8DE9-C4A41516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D10-1679-4C99-A59D-437E18EA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0CD-1F3C-4352-B70B-F9D53E80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D5C-104A-49D9-A1A4-562A4597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625-71A9-486C-B08A-1AF9A120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5F8E-91CF-486D-B60E-37E0DA64A50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752480" y="685800"/>
            <a:ext cx="5562360" cy="5486400"/>
            <a:chOff x="1752480" y="685800"/>
            <a:chExt cx="5562360" cy="5486400"/>
          </a:xfrm>
        </p:grpSpPr>
        <p:sp>
          <p:nvSpPr>
            <p:cNvPr id="52" name=""/>
            <p:cNvSpPr/>
            <p:nvPr/>
          </p:nvSpPr>
          <p:spPr>
            <a:xfrm>
              <a:off x="1752480" y="685800"/>
              <a:ext cx="55623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6560" y="930240"/>
              <a:ext cx="5253480" cy="50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123 Sunset Lan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Bryan, TX 78572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uly 20,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3000 University 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College Station, TX 785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ear Si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his is an example of a business lett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Sincere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72200" y="41148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2320"/>
            <a:ext cx="2286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42900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066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141200"/>
            <a:ext cx="28954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</a:t>
            </a:r>
            <a:br>
              <a:rPr sz="2400"/>
            </a:b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952880"/>
            <a:ext cx="15238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87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40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86400" y="4343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3512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961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2845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ljlab</cp:lastModifiedBy>
  <dcterms:modified xsi:type="dcterms:W3CDTF">2007-08-02T18:49:10Z</dcterms:modified>
  <cp:revision>17</cp:revision>
  <dc:subject/>
  <dc:title>Writing a Business Letter</dc:title>
</cp:coreProperties>
</file>