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924F-9630-4C5B-98F2-7C2527D1BE3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.13 (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.13 (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.13 (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8.13 (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3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9F14-DACA-4BBF-B30F-48823AF67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DF4B-E30A-4CCD-BC32-A33A93A9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75C0-9FDD-475E-BC6F-E688304EC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CF2A-3E97-4F67-ACF7-C785470B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05D5-A008-4B94-AAE1-638069D7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7DF0-80EB-4B66-BCC1-8CF603AF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6539-9E0A-4BBC-8B91-62B30C9C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EB2A-09DF-4365-B993-897D80B7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CA81-1280-48BD-87B4-4142F210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C41D-C5F1-4AA4-9946-DDBA6E5B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299C-AE61-40E7-91F8-B1B56996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2E31-4033-4778-818A-A09266E7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C69C-25E5-44A2-B5CF-A507C4EBE0A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3920" y="20574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2035080"/>
            <a:ext cx="373680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7-08-02T18:13:14Z</dcterms:modified>
  <cp:revision>34</cp:revision>
  <dc:subject/>
  <dc:title>Comparing Apples to Oranges</dc:title>
</cp:coreProperties>
</file>