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FF46E-283A-4084-BB1C-B8D018DBE9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D15B4-C431-4B9A-9539-AFFFF839C2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33F69-6C2B-433A-9F0B-E135F600FA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3AB33-A116-403B-98D5-1780051E93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9704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5FBB6-B628-4FA4-98B4-CB63331260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A)(B)(D), 7.13 (A), 8.1 (A)(B), 8.2 (A), 8.14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B08C-F1FA-45E1-B383-06E2E69A7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2E43-EB65-4D7E-8A8F-CC90BD77A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2DAD-8183-45C4-82E2-EF1B1CA1D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E601-06B8-473C-80B8-C70585E4B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1FA3-1D3C-42BC-999C-262416C1D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E505-9988-4EEF-8DFF-5AE630054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D28B-32E0-4664-BACC-7D0FD1D9B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3007-E486-48CC-8B29-C20784B45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36F2-A57C-41BB-A81F-CCDFB9737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CD11-B0C7-4260-9E31-28960A888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CC02-02F7-4F08-A589-65D4C5645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E75C-FD8B-42EE-B9AE-399C53455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D9979-8517-419A-8620-89C30B197291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Remember that a decimal is a fractional number: it is a part of something whol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=0.44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      1000th place. (e.g. .4, .44, .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4444 (part in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DecToPer2" descr=""/>
          <p:cNvPicPr/>
          <p:nvPr/>
        </p:nvPicPr>
        <p:blipFill>
          <a:blip r:embed="rId2"/>
          <a:stretch/>
        </p:blipFill>
        <p:spPr>
          <a:xfrm>
            <a:off x="3124080" y="5315040"/>
            <a:ext cx="29829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523520"/>
            <a:ext cx="8151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  When it is written as a percent, the decimal number is the part and 100 is always the whol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) Multiply the decimal by 100 (e.g.,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) Add a percent sign after the answer (e.g.,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or 100%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.83 or 83% (part in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DecToPer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45132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14068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  Decimal 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Percen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6/8 =         6 ÷ 8 =         .75 =      .75 * 100=     75%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2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7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76440" y="26542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29480" y="26542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49160" y="4254480"/>
            <a:ext cx="7238880" cy="2133720"/>
            <a:chOff x="749160" y="4254480"/>
            <a:chExt cx="7238880" cy="2133720"/>
          </a:xfrm>
        </p:grpSpPr>
        <p:sp>
          <p:nvSpPr>
            <p:cNvPr id="59" name=""/>
            <p:cNvSpPr/>
            <p:nvPr/>
          </p:nvSpPr>
          <p:spPr>
            <a:xfrm>
              <a:off x="1892160" y="516888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6360" y="4483080"/>
              <a:ext cx="106668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97120" y="4559400"/>
              <a:ext cx="106704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6960" y="509292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25320" y="4254480"/>
              <a:ext cx="121932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25320" y="4864320"/>
              <a:ext cx="121932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30040" y="6007320"/>
              <a:ext cx="15238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4840" y="6007320"/>
              <a:ext cx="182880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16440" y="4254480"/>
              <a:ext cx="13716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6440" y="4864320"/>
              <a:ext cx="137160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Cutout25%25" descr=""/>
            <p:cNvPicPr/>
            <p:nvPr/>
          </p:nvPicPr>
          <p:blipFill>
            <a:blip r:embed="rId2"/>
            <a:stretch/>
          </p:blipFill>
          <p:spPr>
            <a:xfrm>
              <a:off x="749160" y="4399200"/>
              <a:ext cx="12110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Cutout25%25" descr=""/>
            <p:cNvPicPr/>
            <p:nvPr/>
          </p:nvPicPr>
          <p:blipFill>
            <a:blip r:embed="rId3"/>
            <a:stretch/>
          </p:blipFill>
          <p:spPr>
            <a:xfrm>
              <a:off x="4863960" y="4483080"/>
              <a:ext cx="121104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5/100  = .25  = a quarter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percentage of one dollar is a dim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n cents = .10 = .10 x 100 = 10%  of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e dollar!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coins would you use to represent 17% of a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7/100 = .17 = .10 + .05 + .02   (a dime, nickel and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nnies!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e how you can always cash in on percentages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MoneyGraph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422440" cy="183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7:01:10Z</dcterms:created>
  <dc:creator>Charles C. Farnsworth, Ph.D. - Instructional Design</dc:creator>
  <dc:description/>
  <dc:language>en-US</dc:language>
  <cp:lastModifiedBy>ljlab</cp:lastModifiedBy>
  <dcterms:modified xsi:type="dcterms:W3CDTF">2003-09-11T17:19:20Z</dcterms:modified>
  <cp:revision>32</cp:revision>
  <dc:subject/>
  <dc:title>Fractions to Decimals</dc:title>
</cp:coreProperties>
</file>