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5D523-B01C-4D76-9B32-2E29F2EB8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A 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8.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1B528-C39E-442B-B7A5-0C6D0D7D7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FCEEF-C91E-4ED3-89B6-F7BE19719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3D105-159C-4F7F-98A3-374B41B37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FACA9-3FF8-4D29-B194-7DC5AE002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72775-39A5-4DD9-9937-899299C65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58799-AD90-445A-98B2-20A112EDD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B7491-1A24-4D5B-A88F-577D5B332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6257A-25C4-411D-8517-3FE116AF8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B8C54-D736-47AE-97F4-806730020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F4609-92F9-4187-909D-A5E515378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24D10-057F-4269-90A8-B9B5D23C9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6BBDF-2AE9-4944-BEC3-2C0CA3E62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690840" indent="-26568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06272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48788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1913040" indent="-212400">
              <a:lnSpc>
                <a:spcPct val="90000"/>
              </a:lnSpc>
              <a:spcBef>
                <a:spcPts val="799"/>
              </a:spcBef>
              <a:spcAft>
                <a:spcPts val="799"/>
              </a:spcAft>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DEE8-AC16-479D-90DE-409306187D0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480"/>
            <a:ext cx="6553080" cy="3810240"/>
          </a:xfrm>
          <a:prstGeom prst="rect">
            <a:avLst/>
          </a:prstGeom>
          <a:noFill/>
          <a:ln w="0">
            <a:noFill/>
          </a:ln>
        </p:spPr>
        <p:txBody>
          <a:bodyPr lIns="90000" rIns="90000" tIns="46800" bIns="46800" anchor="t">
            <a:no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ive specific examples to support your arguments.</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velop your thoughts and elaborate in your paragraphs.  Ask yourself, “Would I be convinced?”</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late to the reader by putting yourself in his or her shoes.</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e persuasive words…….</a:t>
            </a:r>
            <a:endParaRPr b="0" lang="en-US" sz="28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3000"/>
          </a:bodyPr>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216720" indent="-216720">
              <a:lnSpc>
                <a:spcPct val="9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7-08-02T17:16:24Z</dcterms:modified>
  <cp:revision>27</cp:revision>
  <dc:subject/>
  <dc:title>Persuasive Writing</dc:title>
</cp:coreProperties>
</file>