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139D-2A77-4060-B8E0-59824909835F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6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ize and punctuate correctly to clarify and enhance mea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7F4-080B-489C-A8B6-C0426114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55B-E17F-407B-B586-569460C7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39C-5BEE-4A07-B10B-2A6FE668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87C-E81D-44D2-A148-4BC2C7DB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DAA6-5B12-44F2-8320-FE5B16D8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B85-4EEA-4AEB-BA5B-5D919D8E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77F-4B9D-4E0C-A925-74F28FC3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E06-00E8-41B1-989E-372CE212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71F-6D1E-4B54-A663-7C6BE062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BC9-CC43-4487-A7DF-0385ABE3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CBE4-CA87-4850-A820-9BA23D16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F83F-B86A-4082-B937-A3AAF47B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9D38-47CF-439C-9124-5819F5F9BF1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752480" y="685800"/>
            <a:ext cx="5562360" cy="5486400"/>
            <a:chOff x="1752480" y="685800"/>
            <a:chExt cx="5562360" cy="5486400"/>
          </a:xfrm>
        </p:grpSpPr>
        <p:sp>
          <p:nvSpPr>
            <p:cNvPr id="52" name=""/>
            <p:cNvSpPr/>
            <p:nvPr/>
          </p:nvSpPr>
          <p:spPr>
            <a:xfrm>
              <a:off x="1752480" y="685800"/>
              <a:ext cx="5562360" cy="5486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6560" y="930240"/>
              <a:ext cx="5253480" cy="50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400" spc="-1" strike="noStrike">
                  <a:solidFill>
                    <a:srgbClr val="ebebeb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123 Sunset Lan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Bryan, TX 78572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uly 20, 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3000 University D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College Station, TX 785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Dear Sir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This is an example of a business lett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Sincerely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Monotype Corsiva"/>
                </a:rPr>
                <a:t>Joh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172200" y="4114800"/>
            <a:ext cx="9144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2320"/>
            <a:ext cx="22860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3429000"/>
            <a:ext cx="144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1066680"/>
            <a:ext cx="26668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1141200"/>
            <a:ext cx="2895480" cy="75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</a:t>
            </a:r>
            <a:br>
              <a:rPr sz="2400"/>
            </a:b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4952880"/>
            <a:ext cx="152388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4875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523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43400" y="2666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97144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486400" y="43434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257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33512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9610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228456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ljlab</cp:lastModifiedBy>
  <dcterms:modified xsi:type="dcterms:W3CDTF">2007-08-02T18:49:10Z</dcterms:modified>
  <cp:revision>17</cp:revision>
  <dc:subject/>
  <dc:title>Writing a Business Letter</dc:title>
</cp:coreProperties>
</file>