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157A-856D-49B7-A999-FEDE169F6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31B-5514-40B9-8941-AEF67086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8C9-B076-4347-A90B-4DA0006A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92B-0E11-4ABB-9732-64808C4D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40B-7C23-4703-B539-E91AB1CC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038-8759-44DB-B9CA-284A26FC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C0C-5594-4079-9C80-E61B3AB3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F1E-80B0-4FEE-A236-E8CFDAFB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587-D904-4975-A4E2-74B81350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58C-C95D-44E5-B4B2-195AFCA1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7A2-C7AF-4DF2-B5B6-7D9E1E97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6C9-2DF8-4F04-B5E6-7F7544A3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FA4B-463F-487D-8DAD-F81E61F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AFAE-5844-41C5-8FC4-C23D5B4F7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Dk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9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sent word to Sully that he must leave the city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lice were after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that Sully would fall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gang war was brew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’s parents were ill and needed hi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85840" y="29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84400" y="35733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10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words might best be used in Summer’s report to describe New York Cit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90520" y="5143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85840" y="336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84400" y="3954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87280" y="45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252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5200" y="48322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in character in the story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92320" y="2583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90520" y="3184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3782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2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ne of the following characters suffered a tragic los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y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87280" y="47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92320" y="2965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18728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184400" y="417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3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told Sully and Liberius that the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ed to build a sub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information for a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to visit the Statue of Liber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for the health depar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5840" y="2962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184400" y="357012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417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4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lly used to be a gang member but went to work for Liberius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br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owed Liberius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 not like cheating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scared of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90520" y="47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187280" y="418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5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useful context clue for determining the time period described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-drawn fire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mber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the Statue of Lib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e English tea in china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4400" y="5138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85840" y="3362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184400" y="395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1872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nd her friends chose to travel back in time to learn more abou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derground Railr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aker relig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 Coast shipping ro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90520" y="47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18584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184400" y="3567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187280" y="4175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7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erius liv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hat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fortable town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90520" y="43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85840" y="25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184400" y="3184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187280" y="3782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 startAt="8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viah and Josiah traveled to New York 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in freedom by crossing into Can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a Broadway s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ork for Liberi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live with her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9052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5840" y="2583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84400" y="3191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0:06:45Z</dcterms:modified>
  <cp:revision>52</cp:revision>
  <dc:subject/>
  <dc:title>PowerPoint Presentation</dc:title>
</cp:coreProperties>
</file>