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B2178-8008-41AB-918A-110350307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9932-7EC3-457E-9345-0F29B8F31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EEA0-4A70-41DA-B545-D3D2791D4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6E8C-4011-4207-8088-64D6F4197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BCF0-6C50-4B7E-8614-00F589476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4C93-F1FC-48F8-BB09-AE544975A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AEFB-E718-4FA0-90C8-596161EBC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0E22-A1E5-469F-BCFB-6FD727A79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7D83-2F54-424F-8C04-BEDEFA55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4FEB-EF27-40C0-9911-FC687C9AC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8614-E256-4A3B-8003-7E7BE085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7E72-45F7-4F0C-8037-8CE79655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A4A1-DA61-4867-A63D-40BABE33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AA300-B6F1-4089-8A72-B8999992A60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A story map lists  important details to be included in the summary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lvl="1" marL="683280" indent="-262800">
              <a:spcBef>
                <a:spcPts val="64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lvl="1" marL="683280" indent="-262800">
              <a:spcBef>
                <a:spcPts val="64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lvl="1" marL="683280" indent="-262800">
              <a:spcBef>
                <a:spcPts val="64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lvl="1" marL="683280" indent="-262800">
              <a:spcBef>
                <a:spcPts val="64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lvl="1" marL="683280" indent="-262800">
              <a:spcBef>
                <a:spcPts val="64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7-08-02T17:12:53Z</dcterms:modified>
  <cp:revision>25</cp:revision>
  <dc:subject/>
  <dc:title>To Sum It All Up…</dc:title>
</cp:coreProperties>
</file>