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056F-9172-412A-96B8-18268BBB2A8C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B599-B3F3-40F7-AD7B-6520BC72F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F0C7-0520-42F3-9CB7-CF750BED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D23C-C7A8-4587-9446-2198E519A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372F-1A2A-43AB-912C-C5A2C1E12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05D3-0F97-47C6-9E93-5215E19C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D440-3034-465E-91EC-C25C1C9D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6426-691B-4582-9D28-583CAE9F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12E8-3655-4C37-B3F6-5D20A2A7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CA67-BF8B-489E-A48C-D60F9FD5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549B-5082-46CC-9A81-265AF5F0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1496-C3E0-4428-A1D3-E233094C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BA8C-B7D6-4866-86D1-D566B514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EC8D-EA39-499F-B9B5-CABED803D8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486400" y="2057400"/>
            <a:ext cx="2679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6560" indent="-466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ljlab</cp:lastModifiedBy>
  <dcterms:modified xsi:type="dcterms:W3CDTF">2007-08-02T17:42:57Z</dcterms:modified>
  <cp:revision>16</cp:revision>
  <dc:subject/>
  <dc:title>Informative Essay</dc:title>
</cp:coreProperties>
</file>