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0BC-1B7F-4401-9BB0-968C5DDE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A81-C0D3-41D9-B312-694AFD92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E47-C714-4161-857F-3B3F9D7D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0C6-399D-4588-AD65-6E90B5AA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461-66C5-4E1A-9BF5-0A7D7496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70D-03EC-4CBC-803A-92487E97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00A-0E45-4185-8589-93F30E94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4DB-2A7D-4A7F-B7E4-1AC8C2BB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4D6-C82D-4726-AA23-D99499ED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018-D1AE-4564-B5AB-2D249DFA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553-4E36-4CD8-B0E6-98F11FE8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863-0BAB-4606-8B23-E25C8987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032C-B0BB-4B81-9F0C-1087638F38A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ljlab</cp:lastModifiedBy>
  <dcterms:modified xsi:type="dcterms:W3CDTF">2007-08-02T18:51:10Z</dcterms:modified>
  <cp:revision>62</cp:revision>
  <dc:subject/>
  <dc:title>Locating Places</dc:title>
</cp:coreProperties>
</file>