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86D7-16D0-4B90-9922-6775AB532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(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971-6C0D-491C-8CB8-C70ECC73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1AD-1D51-4036-97BF-D375B858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333-36D7-476A-A5BB-03F1847D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71B-039D-4807-ADD8-85F10BF0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A8F-E4E3-4894-B343-D19BBC8A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6A6-10EF-436F-87E5-A9A4A6F1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9D1-7BBC-4A29-A316-6F2363DD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0B9-5A8F-4B07-B56D-10E2988A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BA5-B581-4083-BFFA-911481E9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385-BCF6-4D69-B469-8A9E44C5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130-1475-44C9-A45C-32DE4D90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37C-1971-4390-B54E-5E2C50B5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F22B-C607-4EBE-8104-0421D1867B0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530000"/>
            <a:ext cx="49687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6840" y="1614600"/>
            <a:ext cx="272232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ljlab</cp:lastModifiedBy>
  <dcterms:modified xsi:type="dcterms:W3CDTF">2007-08-02T17:38:16Z</dcterms:modified>
  <cp:revision>25</cp:revision>
  <dc:subject/>
  <dc:title>What Do I Say?</dc:title>
</cp:coreProperties>
</file>