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511-7475-486D-B9A1-9BA0D642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B: The student is expected to: draw on experiences to bring meanings to words such as interpreting idioms, multiple-meaning words, and analogies (6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C: The student is expected to: use multiple reference aids, including a thesaurus, a synonym finder, a dictionary, and software, to clarify meanings and usage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9D: The student is expected to: determine the meanings of derivatives by applying knowledge of the meanings of root words such as like, pay or happy and affixes such as dis-, pre-, or un- (4-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 Source: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ebster’s American English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Meriam-Webster, inc., Springfield, 199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Less offal means less trou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Sinewy is wi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n interloper is a meddler or intru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supernumerary is an additional pers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tenement runner delivered messages from person to pers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agmatic means practic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he word deft means skill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Percheron is a breed of hor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To divulge is to rev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 answer is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A miasma is a toxin in the ai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572-8AF8-4DA3-9D87-C157DBE7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DEA-53EC-4D98-9790-60AB3071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2FA-036A-4FBB-8FD3-CAF4A19D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701-C9AB-4AA8-8196-7D3DB797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C90-B7E1-48AF-909A-1E3B38A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FC7-12C2-4697-9FBC-286D491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17B-DDC3-4187-BCE3-A904C58F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0E9-5D59-4AED-BD4D-5D995571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C1B-3C96-4793-BE0E-D6E6FE84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B29-F343-4D34-B40A-6A9B9D91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D74-07B3-4BF4-967B-C2E45B61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CDA-8114-4011-967F-98DD937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FC33-2013-40B6-AED3-26B737AE8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Be sure to watch for potholes and keep to the middle of the street.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ess off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her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the phras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 off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” Sully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gry peo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bad-smell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ro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offen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rushed to the door and let in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new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boy about nine years old with the brightest shock of red hair Sully had ever seen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new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2320" y="3568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232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2320" y="4778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091040" y="434484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needed a plan to get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loper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ut of the alley and hidden where he could question them without interrup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lop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tio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5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ng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2320" y="536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232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2320" y="4178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2320" y="4780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t ten, while working a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pernumerar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t the fire stations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numer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r h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oe sh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re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a person for odd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92320" y="4973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92320" y="3201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92320" y="37987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92320" y="4383000"/>
            <a:ext cx="37440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8828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. . . he had been recruited by the Dead Rabbits 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gang to be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nement runne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. . for th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landlord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is passage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nement runn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ust have been a sor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e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ss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uff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872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872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872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872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 ‘. . . no never mind, enough time for questions when you’re well hidden.’ Sully’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agm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ture took ov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lection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agmat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b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e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232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232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2320" y="4168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2320" y="47689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6080" y="1600200"/>
            <a:ext cx="7954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wound the remnant around his hand and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ft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ied it into a bandag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you can tell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t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nf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89080" y="5353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89080" y="3568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89080" y="4165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89080" y="47656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33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Sully whistled to the team and the massiv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heron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cantered down the cobblestone pavemen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f Pearl Street. . 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infer from the description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rcher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kind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 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89080" y="573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89080" y="3960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89080" y="45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89080" y="515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knew that Liberius was leading the intruders int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ulging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informatio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is sentence, a synonym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vulg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al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44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0520" y="49766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0520" y="320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0520" y="37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0520" y="438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Verdana"/>
              </a:rPr>
              <a:t>DP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Last week in Boston there was rumor of a ne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asm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I’d hate for my best friend to succumb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 poisons in the ai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tell from the description that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iasm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l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xic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sonous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56844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exc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2320" y="5745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5840" y="39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92320" y="456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92320" y="5151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51:18Z</dcterms:modified>
  <cp:revision>61</cp:revision>
  <dc:subject/>
  <dc:title>PowerPoint Presentation</dc:title>
</cp:coreProperties>
</file>