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45CE1-AA54-455E-849E-47CCB222F6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rder text: Append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-8.22 (B) Interpret important events and ideas gathered from visual med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2 (G) Recognize and analyze story plot, setting, and problem re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0 (D) Describe mental images the text evok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A84D-7429-4E77-8341-0780EA29D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DF3B-4524-4654-A21E-9CAF94694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5859-895E-40DD-9103-160342735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67A0-26C5-4B5F-8903-A97828C09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7645-9892-4F22-B795-49E3CDAE9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09B8-0A57-4AAF-BFC5-D770F4590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D8B0-A778-4699-AC46-7D00B28C4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5F48-C29E-4983-9A9E-9930F50E7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26B3-2C0E-4D79-8E9E-B265D415A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7C44-C450-4E8A-AA37-F285DF82A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E515-4273-4280-BF73-B6AAA1478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F8E1-B862-4EAE-BAAD-B74AF02BA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66ccff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66ccff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66ccff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4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66ccff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5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6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67F97-50DD-43A7-8D1D-695DFBA86B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8002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time of day is it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is the landscap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kind of animals are thes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re do these animals naturally liv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you guess where this picture was taken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1143000"/>
            <a:ext cx="7696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observations can you make from looking at this picture?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" name="" descr="Africa"/>
          <p:cNvPicPr/>
          <p:nvPr/>
        </p:nvPicPr>
        <p:blipFill>
          <a:blip r:embed="rId2"/>
          <a:stretch/>
        </p:blipFill>
        <p:spPr>
          <a:xfrm>
            <a:off x="469800" y="2438280"/>
            <a:ext cx="3962520" cy="26384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ext is the information that surrounds a particular word or passage that helps determine the meaning of the word or passage.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examining the context of the previous picture, you were able to guess that the picture was probably taken in Africa.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questions might you ask yourself when assessing the context of a passage of text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47960" y="1727280"/>
            <a:ext cx="388620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3680" indent="-4636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is the author or speaker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463680" indent="-4636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is the reader or audience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463680" indent="-4636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the passage about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463680" indent="-4636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re does the action take place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463680" indent="-4636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n you identify emotions that are expressed in the text? 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762120" y="2044800"/>
            <a:ext cx="3325680" cy="32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04:03:32Z</dcterms:created>
  <dc:creator>Gina Balducci</dc:creator>
  <dc:description/>
  <dc:language>en-US</dc:language>
  <cp:lastModifiedBy>ljlab</cp:lastModifiedBy>
  <dcterms:modified xsi:type="dcterms:W3CDTF">2007-08-02T18:23:59Z</dcterms:modified>
  <cp:revision>18</cp:revision>
  <dc:subject/>
  <dc:title>Context Clues</dc:title>
</cp:coreProperties>
</file>