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5355-31AF-42FD-8183-92420B281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E7E-C0C0-440E-A1F8-D9B78A86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964-E713-4B70-A21B-4AAAED22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621-24D4-4729-B710-63813584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3F3-225C-4669-9A81-6DA1B524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7E7-89D7-4E3F-A31D-74C2943E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0F6-F9DD-42A6-A5CE-4319B47B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AC8-F16A-49DC-AD43-A865A996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E7B-B62B-439B-9A9F-2F2EE611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A4A-2A64-453E-A7E2-2A315DE1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DED-1795-4133-8CFC-578D499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812-A6B7-4110-86D2-A65BA28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A46-5D59-4B29-8764-E836CB10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ED3-C1B8-4518-909F-5C7D8A9BA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39:57Z</dcterms:modified>
  <cp:revision>11</cp:revision>
  <dc:subject/>
  <dc:title>Volume &amp; Weight Conversions</dc:title>
</cp:coreProperties>
</file>