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517-9D50-4E66-8930-CF0F4293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CA0-BAAE-41C7-88EA-2E226E35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FB1-F8C0-4347-9D33-0D8ADA5E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845-7780-4FD6-A546-C8EEE98E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718-FB31-4F05-870E-F41CCE9D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CD9-B21D-42B3-A429-8E8C51D5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715-6FF4-4E8D-97D7-E631E76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C01-E274-43FD-90EA-5FBB859D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491-6027-49AF-84FC-E443FD08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4DE-A5AE-40DA-9F59-5E3C89C5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98B-88A8-40F8-95D4-A2A66FF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99C-AE4A-44AC-A8D8-62F8B9DA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89D0-3142-42B8-BBEF-4ACE5DEED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ofte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7-08-02T18:50:35Z</dcterms:modified>
  <cp:revision>10</cp:revision>
  <dc:subject/>
  <dc:title>Adverbs Adverbs modify verbs, adjectives, or other adverbs.</dc:title>
</cp:coreProperties>
</file>